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4D6-8018-49A0-91C8-4448A17A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D0A-444E-4F0F-930A-2B56961C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BDA-6343-473C-A3C9-06DFD17B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F9B-6215-4614-8433-BC4632E2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0B5-BCAF-458E-A681-B51F357F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0F0-4139-493E-89BC-D2A2729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CA9-2DD2-48AF-81A2-0F6929CA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966-6CA0-4B91-A953-FF12DEEA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7FD-F9BE-46CB-A55B-77EE60A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841-8950-4983-B859-800EBE1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A07-4AE1-4C7F-BAB5-F77B5EA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730-5163-4E42-8B35-3F52B79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BA1C-602F-4F5D-83AC-0B5C0F5F4A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anta1" descr=""/>
          <p:cNvPicPr/>
          <p:nvPr/>
        </p:nvPicPr>
        <p:blipFill>
          <a:blip r:embed="rId1"/>
          <a:stretch/>
        </p:blipFill>
        <p:spPr>
          <a:xfrm>
            <a:off x="169920" y="31680"/>
            <a:ext cx="9566280" cy="679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8600"/>
            <a:ext cx="144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6320" y="5216400"/>
            <a:ext cx="3514680" cy="140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25480" y="5302080"/>
            <a:ext cx="2565000" cy="588960"/>
            <a:chOff x="825480" y="5302080"/>
            <a:chExt cx="2565000" cy="588960"/>
          </a:xfrm>
        </p:grpSpPr>
        <p:pic>
          <p:nvPicPr>
            <p:cNvPr id="45" name="ruberti%20scritta" descr=""/>
            <p:cNvPicPr/>
            <p:nvPr/>
          </p:nvPicPr>
          <p:blipFill>
            <a:blip r:embed="rId2"/>
            <a:stretch/>
          </p:blipFill>
          <p:spPr>
            <a:xfrm>
              <a:off x="1357560" y="5547600"/>
              <a:ext cx="203292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uberti" descr=""/>
            <p:cNvPicPr/>
            <p:nvPr/>
          </p:nvPicPr>
          <p:blipFill>
            <a:blip r:embed="rId3"/>
            <a:stretch/>
          </p:blipFill>
          <p:spPr>
            <a:xfrm>
              <a:off x="825480" y="5302080"/>
              <a:ext cx="51624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757080" y="6024600"/>
            <a:ext cx="200052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a Roma,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026 Quistello (M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4000" y="6056280"/>
            <a:ext cx="15732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0376 627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 0376 627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9560" y="3301920"/>
            <a:ext cx="1996920" cy="2166840"/>
          </a:xfrm>
          <a:custGeom>
            <a:avLst/>
            <a:gdLst/>
            <a:ahLst/>
            <a:rect l="l" t="t" r="r" b="b"/>
            <a:pathLst>
              <a:path w="1165" h="1841">
                <a:moveTo>
                  <a:pt x="0" y="1841"/>
                </a:moveTo>
                <a:cubicBezTo>
                  <a:pt x="441" y="1586"/>
                  <a:pt x="883" y="1331"/>
                  <a:pt x="1024" y="1024"/>
                </a:cubicBezTo>
                <a:cubicBezTo>
                  <a:pt x="1165" y="717"/>
                  <a:pt x="1006" y="358"/>
                  <a:pt x="84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360" y="5108400"/>
            <a:ext cx="2565720" cy="588960"/>
            <a:chOff x="36360" y="5108400"/>
            <a:chExt cx="2565720" cy="588960"/>
          </a:xfrm>
        </p:grpSpPr>
        <p:pic>
          <p:nvPicPr>
            <p:cNvPr id="51" name="ruberti%20scritta" descr=""/>
            <p:cNvPicPr/>
            <p:nvPr/>
          </p:nvPicPr>
          <p:blipFill>
            <a:blip r:embed="rId1"/>
            <a:stretch/>
          </p:blipFill>
          <p:spPr>
            <a:xfrm>
              <a:off x="568800" y="5353920"/>
              <a:ext cx="203328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Ruberti" descr=""/>
            <p:cNvPicPr/>
            <p:nvPr/>
          </p:nvPicPr>
          <p:blipFill>
            <a:blip r:embed="rId2"/>
            <a:stretch/>
          </p:blipFill>
          <p:spPr>
            <a:xfrm>
              <a:off x="36360" y="5108400"/>
              <a:ext cx="51624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74600" y="5765760"/>
            <a:ext cx="200016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a Roma,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026 Quistello (M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840" y="6323040"/>
            <a:ext cx="15732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0376 627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 0376 627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144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7080" y="928800"/>
            <a:ext cx="2435040" cy="130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cita autostradale consigli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OGN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anta4" descr=""/>
          <p:cNvPicPr/>
          <p:nvPr/>
        </p:nvPicPr>
        <p:blipFill>
          <a:blip r:embed="rId3"/>
          <a:stretch/>
        </p:blipFill>
        <p:spPr>
          <a:xfrm>
            <a:off x="2709720" y="84240"/>
            <a:ext cx="7162920" cy="66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200" y="2481480"/>
            <a:ext cx="240372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’ possibile raggiungere Quistello uscendo dall’autos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NA-BRENNERO all’uscita PEGOGNAGA che si trova tra Mantova e Mode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30120" y="6257880"/>
            <a:ext cx="2565000" cy="588960"/>
            <a:chOff x="330120" y="6257880"/>
            <a:chExt cx="2565000" cy="588960"/>
          </a:xfrm>
        </p:grpSpPr>
        <p:pic>
          <p:nvPicPr>
            <p:cNvPr id="60" name="ruberti%20scritta" descr=""/>
            <p:cNvPicPr/>
            <p:nvPr/>
          </p:nvPicPr>
          <p:blipFill>
            <a:blip r:embed="rId1"/>
            <a:stretch/>
          </p:blipFill>
          <p:spPr>
            <a:xfrm>
              <a:off x="862200" y="6503400"/>
              <a:ext cx="203292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uberti" descr=""/>
            <p:cNvPicPr/>
            <p:nvPr/>
          </p:nvPicPr>
          <p:blipFill>
            <a:blip r:embed="rId2"/>
            <a:stretch/>
          </p:blipFill>
          <p:spPr>
            <a:xfrm>
              <a:off x="330120" y="6257880"/>
              <a:ext cx="51624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6405480"/>
            <a:ext cx="2641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a Roma,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026 Quistello (M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6405480"/>
            <a:ext cx="2641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0376 627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 0376 627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28600"/>
            <a:ext cx="144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76320"/>
            <a:ext cx="3124080" cy="116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 PEGOGN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IST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stanza 10 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66680" y="-1293840"/>
            <a:ext cx="8047080" cy="7539120"/>
            <a:chOff x="1066680" y="-1293840"/>
            <a:chExt cx="8047080" cy="7539120"/>
          </a:xfrm>
        </p:grpSpPr>
        <p:sp>
          <p:nvSpPr>
            <p:cNvPr id="67" name=""/>
            <p:cNvSpPr/>
            <p:nvPr/>
          </p:nvSpPr>
          <p:spPr>
            <a:xfrm rot="16200000">
              <a:off x="8121240" y="1964520"/>
              <a:ext cx="553320" cy="1431720"/>
            </a:xfrm>
            <a:custGeom>
              <a:avLst/>
              <a:gdLst/>
              <a:ahLst/>
              <a:rect l="l" t="t" r="r" b="b"/>
              <a:pathLst>
                <a:path w="1002" h="2595">
                  <a:moveTo>
                    <a:pt x="308" y="2595"/>
                  </a:moveTo>
                  <a:lnTo>
                    <a:pt x="308" y="2583"/>
                  </a:lnTo>
                  <a:lnTo>
                    <a:pt x="285" y="2583"/>
                  </a:lnTo>
                  <a:lnTo>
                    <a:pt x="285" y="2578"/>
                  </a:lnTo>
                  <a:lnTo>
                    <a:pt x="273" y="2578"/>
                  </a:lnTo>
                  <a:lnTo>
                    <a:pt x="273" y="2566"/>
                  </a:lnTo>
                  <a:lnTo>
                    <a:pt x="268" y="2566"/>
                  </a:lnTo>
                  <a:lnTo>
                    <a:pt x="268" y="2561"/>
                  </a:lnTo>
                  <a:lnTo>
                    <a:pt x="251" y="2561"/>
                  </a:lnTo>
                  <a:lnTo>
                    <a:pt x="251" y="2555"/>
                  </a:lnTo>
                  <a:lnTo>
                    <a:pt x="240" y="2555"/>
                  </a:lnTo>
                  <a:lnTo>
                    <a:pt x="240" y="2550"/>
                  </a:lnTo>
                  <a:lnTo>
                    <a:pt x="228" y="2550"/>
                  </a:lnTo>
                  <a:lnTo>
                    <a:pt x="228" y="2543"/>
                  </a:lnTo>
                  <a:lnTo>
                    <a:pt x="223" y="2543"/>
                  </a:lnTo>
                  <a:lnTo>
                    <a:pt x="223" y="2538"/>
                  </a:lnTo>
                  <a:lnTo>
                    <a:pt x="211" y="2538"/>
                  </a:lnTo>
                  <a:lnTo>
                    <a:pt x="211" y="2476"/>
                  </a:lnTo>
                  <a:lnTo>
                    <a:pt x="206" y="2476"/>
                  </a:lnTo>
                  <a:lnTo>
                    <a:pt x="206" y="2447"/>
                  </a:lnTo>
                  <a:lnTo>
                    <a:pt x="199" y="2447"/>
                  </a:lnTo>
                  <a:lnTo>
                    <a:pt x="199" y="2419"/>
                  </a:lnTo>
                  <a:lnTo>
                    <a:pt x="194" y="2419"/>
                  </a:lnTo>
                  <a:lnTo>
                    <a:pt x="194" y="2395"/>
                  </a:lnTo>
                  <a:lnTo>
                    <a:pt x="189" y="2395"/>
                  </a:lnTo>
                  <a:lnTo>
                    <a:pt x="189" y="2379"/>
                  </a:lnTo>
                  <a:lnTo>
                    <a:pt x="183" y="2379"/>
                  </a:lnTo>
                  <a:lnTo>
                    <a:pt x="183" y="2367"/>
                  </a:lnTo>
                  <a:lnTo>
                    <a:pt x="177" y="2367"/>
                  </a:lnTo>
                  <a:lnTo>
                    <a:pt x="177" y="2362"/>
                  </a:lnTo>
                  <a:lnTo>
                    <a:pt x="171" y="2362"/>
                  </a:lnTo>
                  <a:lnTo>
                    <a:pt x="171" y="2355"/>
                  </a:lnTo>
                  <a:lnTo>
                    <a:pt x="166" y="2355"/>
                  </a:lnTo>
                  <a:lnTo>
                    <a:pt x="166" y="2350"/>
                  </a:lnTo>
                  <a:lnTo>
                    <a:pt x="160" y="2350"/>
                  </a:lnTo>
                  <a:lnTo>
                    <a:pt x="160" y="2338"/>
                  </a:lnTo>
                  <a:lnTo>
                    <a:pt x="154" y="2338"/>
                  </a:lnTo>
                  <a:lnTo>
                    <a:pt x="154" y="2327"/>
                  </a:lnTo>
                  <a:lnTo>
                    <a:pt x="149" y="2327"/>
                  </a:lnTo>
                  <a:lnTo>
                    <a:pt x="149" y="2321"/>
                  </a:lnTo>
                  <a:lnTo>
                    <a:pt x="142" y="2321"/>
                  </a:lnTo>
                  <a:lnTo>
                    <a:pt x="142" y="2316"/>
                  </a:lnTo>
                  <a:lnTo>
                    <a:pt x="137" y="2316"/>
                  </a:lnTo>
                  <a:lnTo>
                    <a:pt x="137" y="2310"/>
                  </a:lnTo>
                  <a:lnTo>
                    <a:pt x="132" y="2310"/>
                  </a:lnTo>
                  <a:lnTo>
                    <a:pt x="132" y="2298"/>
                  </a:lnTo>
                  <a:lnTo>
                    <a:pt x="126" y="2298"/>
                  </a:lnTo>
                  <a:lnTo>
                    <a:pt x="126" y="2288"/>
                  </a:lnTo>
                  <a:lnTo>
                    <a:pt x="121" y="2288"/>
                  </a:lnTo>
                  <a:lnTo>
                    <a:pt x="121" y="2276"/>
                  </a:lnTo>
                  <a:lnTo>
                    <a:pt x="114" y="2276"/>
                  </a:lnTo>
                  <a:lnTo>
                    <a:pt x="114" y="2259"/>
                  </a:lnTo>
                  <a:lnTo>
                    <a:pt x="109" y="2259"/>
                  </a:lnTo>
                  <a:lnTo>
                    <a:pt x="109" y="2253"/>
                  </a:lnTo>
                  <a:lnTo>
                    <a:pt x="104" y="2253"/>
                  </a:lnTo>
                  <a:lnTo>
                    <a:pt x="104" y="2242"/>
                  </a:lnTo>
                  <a:lnTo>
                    <a:pt x="97" y="2242"/>
                  </a:lnTo>
                  <a:lnTo>
                    <a:pt x="97" y="2231"/>
                  </a:lnTo>
                  <a:lnTo>
                    <a:pt x="92" y="2231"/>
                  </a:lnTo>
                  <a:lnTo>
                    <a:pt x="92" y="2224"/>
                  </a:lnTo>
                  <a:lnTo>
                    <a:pt x="86" y="2224"/>
                  </a:lnTo>
                  <a:lnTo>
                    <a:pt x="86" y="2214"/>
                  </a:lnTo>
                  <a:lnTo>
                    <a:pt x="80" y="2214"/>
                  </a:lnTo>
                  <a:lnTo>
                    <a:pt x="80" y="2208"/>
                  </a:lnTo>
                  <a:lnTo>
                    <a:pt x="69" y="2208"/>
                  </a:lnTo>
                  <a:lnTo>
                    <a:pt x="69" y="2196"/>
                  </a:lnTo>
                  <a:lnTo>
                    <a:pt x="64" y="2196"/>
                  </a:lnTo>
                  <a:lnTo>
                    <a:pt x="64" y="2174"/>
                  </a:lnTo>
                  <a:lnTo>
                    <a:pt x="57" y="2174"/>
                  </a:lnTo>
                  <a:lnTo>
                    <a:pt x="57" y="2168"/>
                  </a:lnTo>
                  <a:lnTo>
                    <a:pt x="52" y="2168"/>
                  </a:lnTo>
                  <a:lnTo>
                    <a:pt x="52" y="2157"/>
                  </a:lnTo>
                  <a:lnTo>
                    <a:pt x="47" y="2157"/>
                  </a:lnTo>
                  <a:lnTo>
                    <a:pt x="47" y="2146"/>
                  </a:lnTo>
                  <a:lnTo>
                    <a:pt x="40" y="2146"/>
                  </a:lnTo>
                  <a:lnTo>
                    <a:pt x="40" y="2134"/>
                  </a:lnTo>
                  <a:lnTo>
                    <a:pt x="35" y="2134"/>
                  </a:lnTo>
                  <a:lnTo>
                    <a:pt x="35" y="2122"/>
                  </a:lnTo>
                  <a:lnTo>
                    <a:pt x="30" y="2122"/>
                  </a:lnTo>
                  <a:lnTo>
                    <a:pt x="30" y="2117"/>
                  </a:lnTo>
                  <a:lnTo>
                    <a:pt x="23" y="2117"/>
                  </a:lnTo>
                  <a:lnTo>
                    <a:pt x="23" y="2105"/>
                  </a:lnTo>
                  <a:lnTo>
                    <a:pt x="18" y="2105"/>
                  </a:lnTo>
                  <a:lnTo>
                    <a:pt x="18" y="2094"/>
                  </a:lnTo>
                  <a:lnTo>
                    <a:pt x="12" y="2094"/>
                  </a:lnTo>
                  <a:lnTo>
                    <a:pt x="12" y="2082"/>
                  </a:lnTo>
                  <a:lnTo>
                    <a:pt x="7" y="2082"/>
                  </a:lnTo>
                  <a:lnTo>
                    <a:pt x="7" y="2048"/>
                  </a:lnTo>
                  <a:lnTo>
                    <a:pt x="0" y="2048"/>
                  </a:lnTo>
                  <a:lnTo>
                    <a:pt x="0" y="1998"/>
                  </a:lnTo>
                  <a:lnTo>
                    <a:pt x="7" y="1998"/>
                  </a:lnTo>
                  <a:lnTo>
                    <a:pt x="7" y="1986"/>
                  </a:lnTo>
                  <a:lnTo>
                    <a:pt x="12" y="1986"/>
                  </a:lnTo>
                  <a:lnTo>
                    <a:pt x="12" y="1974"/>
                  </a:lnTo>
                  <a:lnTo>
                    <a:pt x="18" y="1974"/>
                  </a:lnTo>
                  <a:lnTo>
                    <a:pt x="18" y="1951"/>
                  </a:lnTo>
                  <a:lnTo>
                    <a:pt x="23" y="1951"/>
                  </a:lnTo>
                  <a:lnTo>
                    <a:pt x="23" y="1923"/>
                  </a:lnTo>
                  <a:lnTo>
                    <a:pt x="30" y="1923"/>
                  </a:lnTo>
                  <a:lnTo>
                    <a:pt x="30" y="1912"/>
                  </a:lnTo>
                  <a:lnTo>
                    <a:pt x="35" y="1912"/>
                  </a:lnTo>
                  <a:lnTo>
                    <a:pt x="35" y="1906"/>
                  </a:lnTo>
                  <a:lnTo>
                    <a:pt x="40" y="1906"/>
                  </a:lnTo>
                  <a:lnTo>
                    <a:pt x="40" y="1901"/>
                  </a:lnTo>
                  <a:lnTo>
                    <a:pt x="47" y="1901"/>
                  </a:lnTo>
                  <a:lnTo>
                    <a:pt x="47" y="1894"/>
                  </a:lnTo>
                  <a:lnTo>
                    <a:pt x="52" y="1894"/>
                  </a:lnTo>
                  <a:lnTo>
                    <a:pt x="52" y="1889"/>
                  </a:lnTo>
                  <a:lnTo>
                    <a:pt x="57" y="1889"/>
                  </a:lnTo>
                  <a:lnTo>
                    <a:pt x="57" y="1884"/>
                  </a:lnTo>
                  <a:lnTo>
                    <a:pt x="64" y="1884"/>
                  </a:lnTo>
                  <a:lnTo>
                    <a:pt x="64" y="1877"/>
                  </a:lnTo>
                  <a:lnTo>
                    <a:pt x="69" y="1877"/>
                  </a:lnTo>
                  <a:lnTo>
                    <a:pt x="69" y="1872"/>
                  </a:lnTo>
                  <a:lnTo>
                    <a:pt x="75" y="1872"/>
                  </a:lnTo>
                  <a:lnTo>
                    <a:pt x="75" y="1867"/>
                  </a:lnTo>
                  <a:lnTo>
                    <a:pt x="80" y="1867"/>
                  </a:lnTo>
                  <a:lnTo>
                    <a:pt x="80" y="1860"/>
                  </a:lnTo>
                  <a:lnTo>
                    <a:pt x="92" y="1860"/>
                  </a:lnTo>
                  <a:lnTo>
                    <a:pt x="92" y="1855"/>
                  </a:lnTo>
                  <a:lnTo>
                    <a:pt x="97" y="1855"/>
                  </a:lnTo>
                  <a:lnTo>
                    <a:pt x="97" y="1849"/>
                  </a:lnTo>
                  <a:lnTo>
                    <a:pt x="104" y="1849"/>
                  </a:lnTo>
                  <a:lnTo>
                    <a:pt x="104" y="1844"/>
                  </a:lnTo>
                  <a:lnTo>
                    <a:pt x="114" y="1844"/>
                  </a:lnTo>
                  <a:lnTo>
                    <a:pt x="114" y="1837"/>
                  </a:lnTo>
                  <a:lnTo>
                    <a:pt x="121" y="1837"/>
                  </a:lnTo>
                  <a:lnTo>
                    <a:pt x="121" y="1832"/>
                  </a:lnTo>
                  <a:lnTo>
                    <a:pt x="126" y="1832"/>
                  </a:lnTo>
                  <a:lnTo>
                    <a:pt x="126" y="1827"/>
                  </a:lnTo>
                  <a:lnTo>
                    <a:pt x="132" y="1827"/>
                  </a:lnTo>
                  <a:lnTo>
                    <a:pt x="132" y="1820"/>
                  </a:lnTo>
                  <a:lnTo>
                    <a:pt x="142" y="1820"/>
                  </a:lnTo>
                  <a:lnTo>
                    <a:pt x="142" y="1815"/>
                  </a:lnTo>
                  <a:lnTo>
                    <a:pt x="149" y="1815"/>
                  </a:lnTo>
                  <a:lnTo>
                    <a:pt x="149" y="1810"/>
                  </a:lnTo>
                  <a:lnTo>
                    <a:pt x="160" y="1810"/>
                  </a:lnTo>
                  <a:lnTo>
                    <a:pt x="160" y="1804"/>
                  </a:lnTo>
                  <a:lnTo>
                    <a:pt x="166" y="1804"/>
                  </a:lnTo>
                  <a:lnTo>
                    <a:pt x="166" y="1799"/>
                  </a:lnTo>
                  <a:lnTo>
                    <a:pt x="177" y="1799"/>
                  </a:lnTo>
                  <a:lnTo>
                    <a:pt x="177" y="1792"/>
                  </a:lnTo>
                  <a:lnTo>
                    <a:pt x="183" y="1792"/>
                  </a:lnTo>
                  <a:lnTo>
                    <a:pt x="183" y="1787"/>
                  </a:lnTo>
                  <a:lnTo>
                    <a:pt x="194" y="1787"/>
                  </a:lnTo>
                  <a:lnTo>
                    <a:pt x="194" y="1782"/>
                  </a:lnTo>
                  <a:lnTo>
                    <a:pt x="199" y="1782"/>
                  </a:lnTo>
                  <a:lnTo>
                    <a:pt x="199" y="1775"/>
                  </a:lnTo>
                  <a:lnTo>
                    <a:pt x="206" y="1775"/>
                  </a:lnTo>
                  <a:lnTo>
                    <a:pt x="206" y="1770"/>
                  </a:lnTo>
                  <a:lnTo>
                    <a:pt x="217" y="1770"/>
                  </a:lnTo>
                  <a:lnTo>
                    <a:pt x="217" y="1764"/>
                  </a:lnTo>
                  <a:lnTo>
                    <a:pt x="223" y="1764"/>
                  </a:lnTo>
                  <a:lnTo>
                    <a:pt x="223" y="1758"/>
                  </a:lnTo>
                  <a:lnTo>
                    <a:pt x="228" y="1758"/>
                  </a:lnTo>
                  <a:lnTo>
                    <a:pt x="228" y="1753"/>
                  </a:lnTo>
                  <a:lnTo>
                    <a:pt x="234" y="1753"/>
                  </a:lnTo>
                  <a:lnTo>
                    <a:pt x="234" y="1747"/>
                  </a:lnTo>
                  <a:lnTo>
                    <a:pt x="240" y="1747"/>
                  </a:lnTo>
                  <a:lnTo>
                    <a:pt x="240" y="1742"/>
                  </a:lnTo>
                  <a:lnTo>
                    <a:pt x="246" y="1742"/>
                  </a:lnTo>
                  <a:lnTo>
                    <a:pt x="246" y="1735"/>
                  </a:lnTo>
                  <a:lnTo>
                    <a:pt x="251" y="1735"/>
                  </a:lnTo>
                  <a:lnTo>
                    <a:pt x="251" y="1730"/>
                  </a:lnTo>
                  <a:lnTo>
                    <a:pt x="256" y="1730"/>
                  </a:lnTo>
                  <a:lnTo>
                    <a:pt x="256" y="1725"/>
                  </a:lnTo>
                  <a:lnTo>
                    <a:pt x="263" y="1725"/>
                  </a:lnTo>
                  <a:lnTo>
                    <a:pt x="263" y="1718"/>
                  </a:lnTo>
                  <a:lnTo>
                    <a:pt x="268" y="1718"/>
                  </a:lnTo>
                  <a:lnTo>
                    <a:pt x="268" y="1713"/>
                  </a:lnTo>
                  <a:lnTo>
                    <a:pt x="273" y="1713"/>
                  </a:lnTo>
                  <a:lnTo>
                    <a:pt x="273" y="1707"/>
                  </a:lnTo>
                  <a:lnTo>
                    <a:pt x="280" y="1707"/>
                  </a:lnTo>
                  <a:lnTo>
                    <a:pt x="280" y="1701"/>
                  </a:lnTo>
                  <a:lnTo>
                    <a:pt x="291" y="1701"/>
                  </a:lnTo>
                  <a:lnTo>
                    <a:pt x="291" y="1696"/>
                  </a:lnTo>
                  <a:lnTo>
                    <a:pt x="297" y="1696"/>
                  </a:lnTo>
                  <a:lnTo>
                    <a:pt x="297" y="1690"/>
                  </a:lnTo>
                  <a:lnTo>
                    <a:pt x="303" y="1690"/>
                  </a:lnTo>
                  <a:lnTo>
                    <a:pt x="303" y="1684"/>
                  </a:lnTo>
                  <a:lnTo>
                    <a:pt x="308" y="1684"/>
                  </a:lnTo>
                  <a:lnTo>
                    <a:pt x="308" y="1678"/>
                  </a:lnTo>
                  <a:lnTo>
                    <a:pt x="313" y="1678"/>
                  </a:lnTo>
                  <a:lnTo>
                    <a:pt x="313" y="1673"/>
                  </a:lnTo>
                  <a:lnTo>
                    <a:pt x="320" y="1673"/>
                  </a:lnTo>
                  <a:lnTo>
                    <a:pt x="320" y="1668"/>
                  </a:lnTo>
                  <a:lnTo>
                    <a:pt x="325" y="1668"/>
                  </a:lnTo>
                  <a:lnTo>
                    <a:pt x="325" y="1661"/>
                  </a:lnTo>
                  <a:lnTo>
                    <a:pt x="330" y="1661"/>
                  </a:lnTo>
                  <a:lnTo>
                    <a:pt x="330" y="1656"/>
                  </a:lnTo>
                  <a:lnTo>
                    <a:pt x="337" y="1656"/>
                  </a:lnTo>
                  <a:lnTo>
                    <a:pt x="337" y="1651"/>
                  </a:lnTo>
                  <a:lnTo>
                    <a:pt x="348" y="1651"/>
                  </a:lnTo>
                  <a:lnTo>
                    <a:pt x="348" y="1644"/>
                  </a:lnTo>
                  <a:lnTo>
                    <a:pt x="354" y="1644"/>
                  </a:lnTo>
                  <a:lnTo>
                    <a:pt x="354" y="1639"/>
                  </a:lnTo>
                  <a:lnTo>
                    <a:pt x="365" y="1639"/>
                  </a:lnTo>
                  <a:lnTo>
                    <a:pt x="365" y="1633"/>
                  </a:lnTo>
                  <a:lnTo>
                    <a:pt x="370" y="1633"/>
                  </a:lnTo>
                  <a:lnTo>
                    <a:pt x="370" y="1627"/>
                  </a:lnTo>
                  <a:lnTo>
                    <a:pt x="377" y="1627"/>
                  </a:lnTo>
                  <a:lnTo>
                    <a:pt x="377" y="1622"/>
                  </a:lnTo>
                  <a:lnTo>
                    <a:pt x="387" y="1622"/>
                  </a:lnTo>
                  <a:lnTo>
                    <a:pt x="387" y="1616"/>
                  </a:lnTo>
                  <a:lnTo>
                    <a:pt x="394" y="1616"/>
                  </a:lnTo>
                  <a:lnTo>
                    <a:pt x="394" y="1611"/>
                  </a:lnTo>
                  <a:lnTo>
                    <a:pt x="399" y="1611"/>
                  </a:lnTo>
                  <a:lnTo>
                    <a:pt x="399" y="1604"/>
                  </a:lnTo>
                  <a:lnTo>
                    <a:pt x="411" y="1604"/>
                  </a:lnTo>
                  <a:lnTo>
                    <a:pt x="411" y="1599"/>
                  </a:lnTo>
                  <a:lnTo>
                    <a:pt x="416" y="1599"/>
                  </a:lnTo>
                  <a:lnTo>
                    <a:pt x="416" y="1594"/>
                  </a:lnTo>
                  <a:lnTo>
                    <a:pt x="422" y="1594"/>
                  </a:lnTo>
                  <a:lnTo>
                    <a:pt x="422" y="1587"/>
                  </a:lnTo>
                  <a:lnTo>
                    <a:pt x="427" y="1587"/>
                  </a:lnTo>
                  <a:lnTo>
                    <a:pt x="427" y="1582"/>
                  </a:lnTo>
                  <a:lnTo>
                    <a:pt x="434" y="1582"/>
                  </a:lnTo>
                  <a:lnTo>
                    <a:pt x="434" y="1576"/>
                  </a:lnTo>
                  <a:lnTo>
                    <a:pt x="439" y="1576"/>
                  </a:lnTo>
                  <a:lnTo>
                    <a:pt x="439" y="1570"/>
                  </a:lnTo>
                  <a:lnTo>
                    <a:pt x="444" y="1570"/>
                  </a:lnTo>
                  <a:lnTo>
                    <a:pt x="444" y="1565"/>
                  </a:lnTo>
                  <a:lnTo>
                    <a:pt x="451" y="1565"/>
                  </a:lnTo>
                  <a:lnTo>
                    <a:pt x="451" y="1559"/>
                  </a:lnTo>
                  <a:lnTo>
                    <a:pt x="456" y="1559"/>
                  </a:lnTo>
                  <a:lnTo>
                    <a:pt x="456" y="1554"/>
                  </a:lnTo>
                  <a:lnTo>
                    <a:pt x="462" y="1554"/>
                  </a:lnTo>
                  <a:lnTo>
                    <a:pt x="462" y="1547"/>
                  </a:lnTo>
                  <a:lnTo>
                    <a:pt x="468" y="1547"/>
                  </a:lnTo>
                  <a:lnTo>
                    <a:pt x="468" y="1542"/>
                  </a:lnTo>
                  <a:lnTo>
                    <a:pt x="473" y="1542"/>
                  </a:lnTo>
                  <a:lnTo>
                    <a:pt x="473" y="1537"/>
                  </a:lnTo>
                  <a:lnTo>
                    <a:pt x="479" y="1537"/>
                  </a:lnTo>
                  <a:lnTo>
                    <a:pt x="479" y="1525"/>
                  </a:lnTo>
                  <a:lnTo>
                    <a:pt x="484" y="1525"/>
                  </a:lnTo>
                  <a:lnTo>
                    <a:pt x="484" y="1513"/>
                  </a:lnTo>
                  <a:lnTo>
                    <a:pt x="491" y="1513"/>
                  </a:lnTo>
                  <a:lnTo>
                    <a:pt x="491" y="1508"/>
                  </a:lnTo>
                  <a:lnTo>
                    <a:pt x="496" y="1508"/>
                  </a:lnTo>
                  <a:lnTo>
                    <a:pt x="496" y="1502"/>
                  </a:lnTo>
                  <a:lnTo>
                    <a:pt x="501" y="1502"/>
                  </a:lnTo>
                  <a:lnTo>
                    <a:pt x="501" y="1497"/>
                  </a:lnTo>
                  <a:lnTo>
                    <a:pt x="508" y="1497"/>
                  </a:lnTo>
                  <a:lnTo>
                    <a:pt x="508" y="1485"/>
                  </a:lnTo>
                  <a:lnTo>
                    <a:pt x="519" y="1485"/>
                  </a:lnTo>
                  <a:lnTo>
                    <a:pt x="519" y="1480"/>
                  </a:lnTo>
                  <a:lnTo>
                    <a:pt x="525" y="1480"/>
                  </a:lnTo>
                  <a:lnTo>
                    <a:pt x="525" y="1473"/>
                  </a:lnTo>
                  <a:lnTo>
                    <a:pt x="530" y="1473"/>
                  </a:lnTo>
                  <a:lnTo>
                    <a:pt x="530" y="1462"/>
                  </a:lnTo>
                  <a:lnTo>
                    <a:pt x="536" y="1462"/>
                  </a:lnTo>
                  <a:lnTo>
                    <a:pt x="536" y="1456"/>
                  </a:lnTo>
                  <a:lnTo>
                    <a:pt x="541" y="1456"/>
                  </a:lnTo>
                  <a:lnTo>
                    <a:pt x="541" y="1451"/>
                  </a:lnTo>
                  <a:lnTo>
                    <a:pt x="546" y="1451"/>
                  </a:lnTo>
                  <a:lnTo>
                    <a:pt x="546" y="1440"/>
                  </a:lnTo>
                  <a:lnTo>
                    <a:pt x="553" y="1440"/>
                  </a:lnTo>
                  <a:lnTo>
                    <a:pt x="553" y="1433"/>
                  </a:lnTo>
                  <a:lnTo>
                    <a:pt x="558" y="1433"/>
                  </a:lnTo>
                  <a:lnTo>
                    <a:pt x="558" y="1423"/>
                  </a:lnTo>
                  <a:lnTo>
                    <a:pt x="564" y="1423"/>
                  </a:lnTo>
                  <a:lnTo>
                    <a:pt x="564" y="1416"/>
                  </a:lnTo>
                  <a:lnTo>
                    <a:pt x="570" y="1416"/>
                  </a:lnTo>
                  <a:lnTo>
                    <a:pt x="570" y="1406"/>
                  </a:lnTo>
                  <a:lnTo>
                    <a:pt x="581" y="1406"/>
                  </a:lnTo>
                  <a:lnTo>
                    <a:pt x="581" y="1400"/>
                  </a:lnTo>
                  <a:lnTo>
                    <a:pt x="587" y="1400"/>
                  </a:lnTo>
                  <a:lnTo>
                    <a:pt x="587" y="1388"/>
                  </a:lnTo>
                  <a:lnTo>
                    <a:pt x="593" y="1388"/>
                  </a:lnTo>
                  <a:lnTo>
                    <a:pt x="593" y="1383"/>
                  </a:lnTo>
                  <a:lnTo>
                    <a:pt x="598" y="1383"/>
                  </a:lnTo>
                  <a:lnTo>
                    <a:pt x="598" y="1378"/>
                  </a:lnTo>
                  <a:lnTo>
                    <a:pt x="603" y="1378"/>
                  </a:lnTo>
                  <a:lnTo>
                    <a:pt x="603" y="1366"/>
                  </a:lnTo>
                  <a:lnTo>
                    <a:pt x="610" y="1366"/>
                  </a:lnTo>
                  <a:lnTo>
                    <a:pt x="610" y="1360"/>
                  </a:lnTo>
                  <a:lnTo>
                    <a:pt x="615" y="1360"/>
                  </a:lnTo>
                  <a:lnTo>
                    <a:pt x="615" y="1354"/>
                  </a:lnTo>
                  <a:lnTo>
                    <a:pt x="621" y="1354"/>
                  </a:lnTo>
                  <a:lnTo>
                    <a:pt x="621" y="1349"/>
                  </a:lnTo>
                  <a:lnTo>
                    <a:pt x="627" y="1349"/>
                  </a:lnTo>
                  <a:lnTo>
                    <a:pt x="627" y="1343"/>
                  </a:lnTo>
                  <a:lnTo>
                    <a:pt x="632" y="1343"/>
                  </a:lnTo>
                  <a:lnTo>
                    <a:pt x="632" y="1331"/>
                  </a:lnTo>
                  <a:lnTo>
                    <a:pt x="638" y="1331"/>
                  </a:lnTo>
                  <a:lnTo>
                    <a:pt x="638" y="1326"/>
                  </a:lnTo>
                  <a:lnTo>
                    <a:pt x="644" y="1326"/>
                  </a:lnTo>
                  <a:lnTo>
                    <a:pt x="644" y="1321"/>
                  </a:lnTo>
                  <a:lnTo>
                    <a:pt x="650" y="1321"/>
                  </a:lnTo>
                  <a:lnTo>
                    <a:pt x="650" y="1314"/>
                  </a:lnTo>
                  <a:lnTo>
                    <a:pt x="655" y="1314"/>
                  </a:lnTo>
                  <a:lnTo>
                    <a:pt x="655" y="1309"/>
                  </a:lnTo>
                  <a:lnTo>
                    <a:pt x="660" y="1309"/>
                  </a:lnTo>
                  <a:lnTo>
                    <a:pt x="660" y="1303"/>
                  </a:lnTo>
                  <a:lnTo>
                    <a:pt x="667" y="1303"/>
                  </a:lnTo>
                  <a:lnTo>
                    <a:pt x="667" y="1292"/>
                  </a:lnTo>
                  <a:lnTo>
                    <a:pt x="672" y="1292"/>
                  </a:lnTo>
                  <a:lnTo>
                    <a:pt x="672" y="1286"/>
                  </a:lnTo>
                  <a:lnTo>
                    <a:pt x="678" y="1286"/>
                  </a:lnTo>
                  <a:lnTo>
                    <a:pt x="678" y="1280"/>
                  </a:lnTo>
                  <a:lnTo>
                    <a:pt x="684" y="1280"/>
                  </a:lnTo>
                  <a:lnTo>
                    <a:pt x="684" y="1274"/>
                  </a:lnTo>
                  <a:lnTo>
                    <a:pt x="689" y="1274"/>
                  </a:lnTo>
                  <a:lnTo>
                    <a:pt x="689" y="1269"/>
                  </a:lnTo>
                  <a:lnTo>
                    <a:pt x="695" y="1269"/>
                  </a:lnTo>
                  <a:lnTo>
                    <a:pt x="695" y="1264"/>
                  </a:lnTo>
                  <a:lnTo>
                    <a:pt x="701" y="1264"/>
                  </a:lnTo>
                  <a:lnTo>
                    <a:pt x="701" y="1257"/>
                  </a:lnTo>
                  <a:lnTo>
                    <a:pt x="707" y="1257"/>
                  </a:lnTo>
                  <a:lnTo>
                    <a:pt x="707" y="1252"/>
                  </a:lnTo>
                  <a:lnTo>
                    <a:pt x="712" y="1252"/>
                  </a:lnTo>
                  <a:lnTo>
                    <a:pt x="712" y="1247"/>
                  </a:lnTo>
                  <a:lnTo>
                    <a:pt x="717" y="1247"/>
                  </a:lnTo>
                  <a:lnTo>
                    <a:pt x="717" y="1240"/>
                  </a:lnTo>
                  <a:lnTo>
                    <a:pt x="724" y="1240"/>
                  </a:lnTo>
                  <a:lnTo>
                    <a:pt x="724" y="1235"/>
                  </a:lnTo>
                  <a:lnTo>
                    <a:pt x="729" y="1235"/>
                  </a:lnTo>
                  <a:lnTo>
                    <a:pt x="729" y="1229"/>
                  </a:lnTo>
                  <a:lnTo>
                    <a:pt x="735" y="1229"/>
                  </a:lnTo>
                  <a:lnTo>
                    <a:pt x="735" y="1218"/>
                  </a:lnTo>
                  <a:lnTo>
                    <a:pt x="741" y="1218"/>
                  </a:lnTo>
                  <a:lnTo>
                    <a:pt x="741" y="1212"/>
                  </a:lnTo>
                  <a:lnTo>
                    <a:pt x="746" y="1212"/>
                  </a:lnTo>
                  <a:lnTo>
                    <a:pt x="746" y="1207"/>
                  </a:lnTo>
                  <a:lnTo>
                    <a:pt x="752" y="1207"/>
                  </a:lnTo>
                  <a:lnTo>
                    <a:pt x="752" y="1200"/>
                  </a:lnTo>
                  <a:lnTo>
                    <a:pt x="758" y="1200"/>
                  </a:lnTo>
                  <a:lnTo>
                    <a:pt x="758" y="1195"/>
                  </a:lnTo>
                  <a:lnTo>
                    <a:pt x="764" y="1195"/>
                  </a:lnTo>
                  <a:lnTo>
                    <a:pt x="764" y="1190"/>
                  </a:lnTo>
                  <a:lnTo>
                    <a:pt x="769" y="1190"/>
                  </a:lnTo>
                  <a:lnTo>
                    <a:pt x="769" y="1183"/>
                  </a:lnTo>
                  <a:lnTo>
                    <a:pt x="774" y="1183"/>
                  </a:lnTo>
                  <a:lnTo>
                    <a:pt x="774" y="1172"/>
                  </a:lnTo>
                  <a:lnTo>
                    <a:pt x="781" y="1172"/>
                  </a:lnTo>
                  <a:lnTo>
                    <a:pt x="781" y="1166"/>
                  </a:lnTo>
                  <a:lnTo>
                    <a:pt x="786" y="1166"/>
                  </a:lnTo>
                  <a:lnTo>
                    <a:pt x="786" y="1155"/>
                  </a:lnTo>
                  <a:lnTo>
                    <a:pt x="792" y="1155"/>
                  </a:lnTo>
                  <a:lnTo>
                    <a:pt x="792" y="1143"/>
                  </a:lnTo>
                  <a:lnTo>
                    <a:pt x="798" y="1143"/>
                  </a:lnTo>
                  <a:lnTo>
                    <a:pt x="798" y="1138"/>
                  </a:lnTo>
                  <a:lnTo>
                    <a:pt x="803" y="1138"/>
                  </a:lnTo>
                  <a:lnTo>
                    <a:pt x="803" y="1126"/>
                  </a:lnTo>
                  <a:lnTo>
                    <a:pt x="809" y="1126"/>
                  </a:lnTo>
                  <a:lnTo>
                    <a:pt x="809" y="1115"/>
                  </a:lnTo>
                  <a:lnTo>
                    <a:pt x="815" y="1115"/>
                  </a:lnTo>
                  <a:lnTo>
                    <a:pt x="815" y="1109"/>
                  </a:lnTo>
                  <a:lnTo>
                    <a:pt x="821" y="1109"/>
                  </a:lnTo>
                  <a:lnTo>
                    <a:pt x="821" y="1098"/>
                  </a:lnTo>
                  <a:lnTo>
                    <a:pt x="826" y="1098"/>
                  </a:lnTo>
                  <a:lnTo>
                    <a:pt x="826" y="1093"/>
                  </a:lnTo>
                  <a:lnTo>
                    <a:pt x="832" y="1093"/>
                  </a:lnTo>
                  <a:lnTo>
                    <a:pt x="832" y="1086"/>
                  </a:lnTo>
                  <a:lnTo>
                    <a:pt x="838" y="1086"/>
                  </a:lnTo>
                  <a:lnTo>
                    <a:pt x="838" y="1081"/>
                  </a:lnTo>
                  <a:lnTo>
                    <a:pt x="843" y="1081"/>
                  </a:lnTo>
                  <a:lnTo>
                    <a:pt x="843" y="1069"/>
                  </a:lnTo>
                  <a:lnTo>
                    <a:pt x="849" y="1069"/>
                  </a:lnTo>
                  <a:lnTo>
                    <a:pt x="849" y="1064"/>
                  </a:lnTo>
                  <a:lnTo>
                    <a:pt x="855" y="1064"/>
                  </a:lnTo>
                  <a:lnTo>
                    <a:pt x="855" y="1052"/>
                  </a:lnTo>
                  <a:lnTo>
                    <a:pt x="860" y="1052"/>
                  </a:lnTo>
                  <a:lnTo>
                    <a:pt x="860" y="1041"/>
                  </a:lnTo>
                  <a:lnTo>
                    <a:pt x="866" y="1041"/>
                  </a:lnTo>
                  <a:lnTo>
                    <a:pt x="866" y="1036"/>
                  </a:lnTo>
                  <a:lnTo>
                    <a:pt x="872" y="1036"/>
                  </a:lnTo>
                  <a:lnTo>
                    <a:pt x="872" y="1029"/>
                  </a:lnTo>
                  <a:lnTo>
                    <a:pt x="878" y="1029"/>
                  </a:lnTo>
                  <a:lnTo>
                    <a:pt x="878" y="1024"/>
                  </a:lnTo>
                  <a:lnTo>
                    <a:pt x="883" y="1024"/>
                  </a:lnTo>
                  <a:lnTo>
                    <a:pt x="883" y="1007"/>
                  </a:lnTo>
                  <a:lnTo>
                    <a:pt x="889" y="1007"/>
                  </a:lnTo>
                  <a:lnTo>
                    <a:pt x="889" y="995"/>
                  </a:lnTo>
                  <a:lnTo>
                    <a:pt x="895" y="995"/>
                  </a:lnTo>
                  <a:lnTo>
                    <a:pt x="895" y="990"/>
                  </a:lnTo>
                  <a:lnTo>
                    <a:pt x="900" y="990"/>
                  </a:lnTo>
                  <a:lnTo>
                    <a:pt x="900" y="984"/>
                  </a:lnTo>
                  <a:lnTo>
                    <a:pt x="905" y="984"/>
                  </a:lnTo>
                  <a:lnTo>
                    <a:pt x="905" y="974"/>
                  </a:lnTo>
                  <a:lnTo>
                    <a:pt x="912" y="974"/>
                  </a:lnTo>
                  <a:lnTo>
                    <a:pt x="912" y="962"/>
                  </a:lnTo>
                  <a:lnTo>
                    <a:pt x="917" y="962"/>
                  </a:lnTo>
                  <a:lnTo>
                    <a:pt x="917" y="945"/>
                  </a:lnTo>
                  <a:lnTo>
                    <a:pt x="923" y="945"/>
                  </a:lnTo>
                  <a:lnTo>
                    <a:pt x="923" y="933"/>
                  </a:lnTo>
                  <a:lnTo>
                    <a:pt x="929" y="933"/>
                  </a:lnTo>
                  <a:lnTo>
                    <a:pt x="929" y="922"/>
                  </a:lnTo>
                  <a:lnTo>
                    <a:pt x="935" y="922"/>
                  </a:lnTo>
                  <a:lnTo>
                    <a:pt x="935" y="910"/>
                  </a:lnTo>
                  <a:lnTo>
                    <a:pt x="940" y="910"/>
                  </a:lnTo>
                  <a:lnTo>
                    <a:pt x="940" y="893"/>
                  </a:lnTo>
                  <a:lnTo>
                    <a:pt x="945" y="893"/>
                  </a:lnTo>
                  <a:lnTo>
                    <a:pt x="945" y="876"/>
                  </a:lnTo>
                  <a:lnTo>
                    <a:pt x="951" y="876"/>
                  </a:lnTo>
                  <a:lnTo>
                    <a:pt x="951" y="860"/>
                  </a:lnTo>
                  <a:lnTo>
                    <a:pt x="957" y="860"/>
                  </a:lnTo>
                  <a:lnTo>
                    <a:pt x="957" y="813"/>
                  </a:lnTo>
                  <a:lnTo>
                    <a:pt x="962" y="813"/>
                  </a:lnTo>
                  <a:lnTo>
                    <a:pt x="962" y="751"/>
                  </a:lnTo>
                  <a:lnTo>
                    <a:pt x="968" y="751"/>
                  </a:lnTo>
                  <a:lnTo>
                    <a:pt x="968" y="552"/>
                  </a:lnTo>
                  <a:lnTo>
                    <a:pt x="962" y="552"/>
                  </a:lnTo>
                  <a:lnTo>
                    <a:pt x="962" y="535"/>
                  </a:lnTo>
                  <a:lnTo>
                    <a:pt x="957" y="535"/>
                  </a:lnTo>
                  <a:lnTo>
                    <a:pt x="957" y="513"/>
                  </a:lnTo>
                  <a:lnTo>
                    <a:pt x="951" y="513"/>
                  </a:lnTo>
                  <a:lnTo>
                    <a:pt x="951" y="484"/>
                  </a:lnTo>
                  <a:lnTo>
                    <a:pt x="945" y="484"/>
                  </a:lnTo>
                  <a:lnTo>
                    <a:pt x="945" y="404"/>
                  </a:lnTo>
                  <a:lnTo>
                    <a:pt x="940" y="404"/>
                  </a:lnTo>
                  <a:lnTo>
                    <a:pt x="940" y="353"/>
                  </a:lnTo>
                  <a:lnTo>
                    <a:pt x="935" y="353"/>
                  </a:lnTo>
                  <a:lnTo>
                    <a:pt x="935" y="284"/>
                  </a:lnTo>
                  <a:lnTo>
                    <a:pt x="929" y="284"/>
                  </a:lnTo>
                  <a:lnTo>
                    <a:pt x="929" y="268"/>
                  </a:lnTo>
                  <a:lnTo>
                    <a:pt x="923" y="268"/>
                  </a:lnTo>
                  <a:lnTo>
                    <a:pt x="923" y="250"/>
                  </a:lnTo>
                  <a:lnTo>
                    <a:pt x="917" y="250"/>
                  </a:lnTo>
                  <a:lnTo>
                    <a:pt x="917" y="204"/>
                  </a:lnTo>
                  <a:lnTo>
                    <a:pt x="912" y="204"/>
                  </a:lnTo>
                  <a:lnTo>
                    <a:pt x="912" y="142"/>
                  </a:lnTo>
                  <a:lnTo>
                    <a:pt x="905" y="142"/>
                  </a:lnTo>
                  <a:lnTo>
                    <a:pt x="905" y="114"/>
                  </a:lnTo>
                  <a:lnTo>
                    <a:pt x="900" y="114"/>
                  </a:lnTo>
                  <a:lnTo>
                    <a:pt x="900" y="102"/>
                  </a:lnTo>
                  <a:lnTo>
                    <a:pt x="895" y="102"/>
                  </a:lnTo>
                  <a:lnTo>
                    <a:pt x="895" y="91"/>
                  </a:lnTo>
                  <a:lnTo>
                    <a:pt x="889" y="91"/>
                  </a:lnTo>
                  <a:lnTo>
                    <a:pt x="889" y="74"/>
                  </a:lnTo>
                  <a:lnTo>
                    <a:pt x="883" y="74"/>
                  </a:lnTo>
                  <a:lnTo>
                    <a:pt x="883" y="57"/>
                  </a:lnTo>
                  <a:lnTo>
                    <a:pt x="878" y="57"/>
                  </a:lnTo>
                  <a:lnTo>
                    <a:pt x="878" y="52"/>
                  </a:lnTo>
                  <a:lnTo>
                    <a:pt x="855" y="52"/>
                  </a:lnTo>
                  <a:lnTo>
                    <a:pt x="855" y="57"/>
                  </a:lnTo>
                  <a:lnTo>
                    <a:pt x="843" y="57"/>
                  </a:lnTo>
                  <a:lnTo>
                    <a:pt x="843" y="62"/>
                  </a:lnTo>
                  <a:lnTo>
                    <a:pt x="826" y="62"/>
                  </a:lnTo>
                  <a:lnTo>
                    <a:pt x="826" y="68"/>
                  </a:lnTo>
                  <a:lnTo>
                    <a:pt x="809" y="68"/>
                  </a:lnTo>
                  <a:lnTo>
                    <a:pt x="809" y="74"/>
                  </a:lnTo>
                  <a:lnTo>
                    <a:pt x="792" y="74"/>
                  </a:lnTo>
                  <a:lnTo>
                    <a:pt x="792" y="80"/>
                  </a:lnTo>
                  <a:lnTo>
                    <a:pt x="781" y="80"/>
                  </a:lnTo>
                  <a:lnTo>
                    <a:pt x="781" y="85"/>
                  </a:lnTo>
                  <a:lnTo>
                    <a:pt x="764" y="85"/>
                  </a:lnTo>
                  <a:lnTo>
                    <a:pt x="764" y="91"/>
                  </a:lnTo>
                  <a:lnTo>
                    <a:pt x="741" y="91"/>
                  </a:lnTo>
                  <a:lnTo>
                    <a:pt x="741" y="97"/>
                  </a:lnTo>
                  <a:lnTo>
                    <a:pt x="724" y="97"/>
                  </a:lnTo>
                  <a:lnTo>
                    <a:pt x="724" y="102"/>
                  </a:lnTo>
                  <a:lnTo>
                    <a:pt x="707" y="102"/>
                  </a:lnTo>
                  <a:lnTo>
                    <a:pt x="707" y="109"/>
                  </a:lnTo>
                  <a:lnTo>
                    <a:pt x="684" y="109"/>
                  </a:lnTo>
                  <a:lnTo>
                    <a:pt x="684" y="114"/>
                  </a:lnTo>
                  <a:lnTo>
                    <a:pt x="655" y="114"/>
                  </a:lnTo>
                  <a:lnTo>
                    <a:pt x="655" y="119"/>
                  </a:lnTo>
                  <a:lnTo>
                    <a:pt x="627" y="119"/>
                  </a:lnTo>
                  <a:lnTo>
                    <a:pt x="627" y="125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598" y="131"/>
                  </a:lnTo>
                  <a:lnTo>
                    <a:pt x="598" y="137"/>
                  </a:lnTo>
                  <a:lnTo>
                    <a:pt x="587" y="137"/>
                  </a:lnTo>
                  <a:lnTo>
                    <a:pt x="587" y="142"/>
                  </a:lnTo>
                  <a:lnTo>
                    <a:pt x="576" y="142"/>
                  </a:lnTo>
                  <a:lnTo>
                    <a:pt x="576" y="148"/>
                  </a:lnTo>
                  <a:lnTo>
                    <a:pt x="564" y="148"/>
                  </a:lnTo>
                  <a:lnTo>
                    <a:pt x="564" y="154"/>
                  </a:lnTo>
                  <a:lnTo>
                    <a:pt x="553" y="154"/>
                  </a:lnTo>
                  <a:lnTo>
                    <a:pt x="553" y="159"/>
                  </a:lnTo>
                  <a:lnTo>
                    <a:pt x="546" y="159"/>
                  </a:lnTo>
                  <a:lnTo>
                    <a:pt x="546" y="166"/>
                  </a:lnTo>
                  <a:lnTo>
                    <a:pt x="541" y="166"/>
                  </a:lnTo>
                  <a:lnTo>
                    <a:pt x="541" y="171"/>
                  </a:lnTo>
                  <a:lnTo>
                    <a:pt x="519" y="171"/>
                  </a:lnTo>
                  <a:lnTo>
                    <a:pt x="519" y="159"/>
                  </a:lnTo>
                  <a:lnTo>
                    <a:pt x="484" y="159"/>
                  </a:lnTo>
                  <a:lnTo>
                    <a:pt x="484" y="166"/>
                  </a:lnTo>
                  <a:lnTo>
                    <a:pt x="473" y="166"/>
                  </a:lnTo>
                  <a:lnTo>
                    <a:pt x="473" y="148"/>
                  </a:lnTo>
                  <a:lnTo>
                    <a:pt x="484" y="148"/>
                  </a:lnTo>
                  <a:lnTo>
                    <a:pt x="484" y="137"/>
                  </a:lnTo>
                  <a:lnTo>
                    <a:pt x="519" y="137"/>
                  </a:lnTo>
                  <a:lnTo>
                    <a:pt x="519" y="131"/>
                  </a:lnTo>
                  <a:lnTo>
                    <a:pt x="536" y="131"/>
                  </a:lnTo>
                  <a:lnTo>
                    <a:pt x="536" y="125"/>
                  </a:lnTo>
                  <a:lnTo>
                    <a:pt x="553" y="125"/>
                  </a:lnTo>
                  <a:lnTo>
                    <a:pt x="553" y="119"/>
                  </a:lnTo>
                  <a:lnTo>
                    <a:pt x="558" y="119"/>
                  </a:lnTo>
                  <a:lnTo>
                    <a:pt x="558" y="114"/>
                  </a:lnTo>
                  <a:lnTo>
                    <a:pt x="564" y="114"/>
                  </a:lnTo>
                  <a:lnTo>
                    <a:pt x="564" y="109"/>
                  </a:lnTo>
                  <a:lnTo>
                    <a:pt x="570" y="109"/>
                  </a:lnTo>
                  <a:lnTo>
                    <a:pt x="570" y="102"/>
                  </a:lnTo>
                  <a:lnTo>
                    <a:pt x="576" y="102"/>
                  </a:lnTo>
                  <a:lnTo>
                    <a:pt x="576" y="97"/>
                  </a:lnTo>
                  <a:lnTo>
                    <a:pt x="593" y="97"/>
                  </a:lnTo>
                  <a:lnTo>
                    <a:pt x="593" y="91"/>
                  </a:lnTo>
                  <a:lnTo>
                    <a:pt x="603" y="91"/>
                  </a:lnTo>
                  <a:lnTo>
                    <a:pt x="603" y="85"/>
                  </a:lnTo>
                  <a:lnTo>
                    <a:pt x="644" y="85"/>
                  </a:lnTo>
                  <a:lnTo>
                    <a:pt x="644" y="80"/>
                  </a:lnTo>
                  <a:lnTo>
                    <a:pt x="660" y="80"/>
                  </a:lnTo>
                  <a:lnTo>
                    <a:pt x="660" y="74"/>
                  </a:lnTo>
                  <a:lnTo>
                    <a:pt x="689" y="74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701" y="62"/>
                  </a:lnTo>
                  <a:lnTo>
                    <a:pt x="712" y="62"/>
                  </a:lnTo>
                  <a:lnTo>
                    <a:pt x="712" y="57"/>
                  </a:lnTo>
                  <a:lnTo>
                    <a:pt x="735" y="57"/>
                  </a:lnTo>
                  <a:lnTo>
                    <a:pt x="735" y="52"/>
                  </a:lnTo>
                  <a:lnTo>
                    <a:pt x="741" y="52"/>
                  </a:lnTo>
                  <a:lnTo>
                    <a:pt x="741" y="45"/>
                  </a:lnTo>
                  <a:lnTo>
                    <a:pt x="758" y="45"/>
                  </a:lnTo>
                  <a:lnTo>
                    <a:pt x="758" y="40"/>
                  </a:lnTo>
                  <a:lnTo>
                    <a:pt x="786" y="40"/>
                  </a:lnTo>
                  <a:lnTo>
                    <a:pt x="786" y="34"/>
                  </a:lnTo>
                  <a:lnTo>
                    <a:pt x="798" y="34"/>
                  </a:lnTo>
                  <a:lnTo>
                    <a:pt x="798" y="28"/>
                  </a:lnTo>
                  <a:lnTo>
                    <a:pt x="815" y="28"/>
                  </a:lnTo>
                  <a:lnTo>
                    <a:pt x="815" y="23"/>
                  </a:lnTo>
                  <a:lnTo>
                    <a:pt x="860" y="23"/>
                  </a:lnTo>
                  <a:lnTo>
                    <a:pt x="860" y="17"/>
                  </a:lnTo>
                  <a:lnTo>
                    <a:pt x="866" y="17"/>
                  </a:lnTo>
                  <a:lnTo>
                    <a:pt x="866" y="5"/>
                  </a:lnTo>
                  <a:lnTo>
                    <a:pt x="872" y="5"/>
                  </a:lnTo>
                  <a:lnTo>
                    <a:pt x="872" y="0"/>
                  </a:lnTo>
                  <a:lnTo>
                    <a:pt x="895" y="0"/>
                  </a:lnTo>
                  <a:lnTo>
                    <a:pt x="895" y="5"/>
                  </a:lnTo>
                  <a:lnTo>
                    <a:pt x="900" y="5"/>
                  </a:lnTo>
                  <a:lnTo>
                    <a:pt x="900" y="11"/>
                  </a:lnTo>
                  <a:lnTo>
                    <a:pt x="912" y="11"/>
                  </a:lnTo>
                  <a:lnTo>
                    <a:pt x="912" y="28"/>
                  </a:lnTo>
                  <a:lnTo>
                    <a:pt x="917" y="28"/>
                  </a:lnTo>
                  <a:lnTo>
                    <a:pt x="917" y="40"/>
                  </a:lnTo>
                  <a:lnTo>
                    <a:pt x="923" y="40"/>
                  </a:lnTo>
                  <a:lnTo>
                    <a:pt x="923" y="57"/>
                  </a:lnTo>
                  <a:lnTo>
                    <a:pt x="929" y="57"/>
                  </a:lnTo>
                  <a:lnTo>
                    <a:pt x="929" y="74"/>
                  </a:lnTo>
                  <a:lnTo>
                    <a:pt x="935" y="74"/>
                  </a:lnTo>
                  <a:lnTo>
                    <a:pt x="935" y="131"/>
                  </a:lnTo>
                  <a:lnTo>
                    <a:pt x="940" y="131"/>
                  </a:lnTo>
                  <a:lnTo>
                    <a:pt x="940" y="171"/>
                  </a:lnTo>
                  <a:lnTo>
                    <a:pt x="945" y="171"/>
                  </a:lnTo>
                  <a:lnTo>
                    <a:pt x="945" y="187"/>
                  </a:lnTo>
                  <a:lnTo>
                    <a:pt x="951" y="187"/>
                  </a:lnTo>
                  <a:lnTo>
                    <a:pt x="951" y="233"/>
                  </a:lnTo>
                  <a:lnTo>
                    <a:pt x="957" y="233"/>
                  </a:lnTo>
                  <a:lnTo>
                    <a:pt x="957" y="290"/>
                  </a:lnTo>
                  <a:lnTo>
                    <a:pt x="962" y="290"/>
                  </a:lnTo>
                  <a:lnTo>
                    <a:pt x="962" y="330"/>
                  </a:lnTo>
                  <a:lnTo>
                    <a:pt x="968" y="330"/>
                  </a:lnTo>
                  <a:lnTo>
                    <a:pt x="968" y="392"/>
                  </a:lnTo>
                  <a:lnTo>
                    <a:pt x="974" y="392"/>
                  </a:lnTo>
                  <a:lnTo>
                    <a:pt x="974" y="478"/>
                  </a:lnTo>
                  <a:lnTo>
                    <a:pt x="980" y="478"/>
                  </a:lnTo>
                  <a:lnTo>
                    <a:pt x="980" y="518"/>
                  </a:lnTo>
                  <a:lnTo>
                    <a:pt x="985" y="518"/>
                  </a:lnTo>
                  <a:lnTo>
                    <a:pt x="985" y="535"/>
                  </a:lnTo>
                  <a:lnTo>
                    <a:pt x="991" y="535"/>
                  </a:lnTo>
                  <a:lnTo>
                    <a:pt x="991" y="570"/>
                  </a:lnTo>
                  <a:lnTo>
                    <a:pt x="997" y="570"/>
                  </a:lnTo>
                  <a:lnTo>
                    <a:pt x="997" y="665"/>
                  </a:lnTo>
                  <a:lnTo>
                    <a:pt x="1002" y="665"/>
                  </a:lnTo>
                  <a:lnTo>
                    <a:pt x="1002" y="734"/>
                  </a:lnTo>
                  <a:lnTo>
                    <a:pt x="997" y="734"/>
                  </a:lnTo>
                  <a:lnTo>
                    <a:pt x="997" y="751"/>
                  </a:lnTo>
                  <a:lnTo>
                    <a:pt x="1002" y="751"/>
                  </a:lnTo>
                  <a:lnTo>
                    <a:pt x="1002" y="774"/>
                  </a:lnTo>
                  <a:lnTo>
                    <a:pt x="997" y="774"/>
                  </a:lnTo>
                  <a:lnTo>
                    <a:pt x="997" y="831"/>
                  </a:lnTo>
                  <a:lnTo>
                    <a:pt x="991" y="831"/>
                  </a:lnTo>
                  <a:lnTo>
                    <a:pt x="991" y="853"/>
                  </a:lnTo>
                  <a:lnTo>
                    <a:pt x="985" y="853"/>
                  </a:lnTo>
                  <a:lnTo>
                    <a:pt x="985" y="876"/>
                  </a:lnTo>
                  <a:lnTo>
                    <a:pt x="980" y="876"/>
                  </a:lnTo>
                  <a:lnTo>
                    <a:pt x="980" y="893"/>
                  </a:lnTo>
                  <a:lnTo>
                    <a:pt x="974" y="893"/>
                  </a:lnTo>
                  <a:lnTo>
                    <a:pt x="974" y="905"/>
                  </a:lnTo>
                  <a:lnTo>
                    <a:pt x="968" y="905"/>
                  </a:lnTo>
                  <a:lnTo>
                    <a:pt x="968" y="917"/>
                  </a:lnTo>
                  <a:lnTo>
                    <a:pt x="962" y="917"/>
                  </a:lnTo>
                  <a:lnTo>
                    <a:pt x="962" y="927"/>
                  </a:lnTo>
                  <a:lnTo>
                    <a:pt x="957" y="927"/>
                  </a:lnTo>
                  <a:lnTo>
                    <a:pt x="957" y="939"/>
                  </a:lnTo>
                  <a:lnTo>
                    <a:pt x="951" y="939"/>
                  </a:lnTo>
                  <a:lnTo>
                    <a:pt x="951" y="950"/>
                  </a:lnTo>
                  <a:lnTo>
                    <a:pt x="945" y="950"/>
                  </a:lnTo>
                  <a:lnTo>
                    <a:pt x="945" y="962"/>
                  </a:lnTo>
                  <a:lnTo>
                    <a:pt x="940" y="962"/>
                  </a:lnTo>
                  <a:lnTo>
                    <a:pt x="940" y="979"/>
                  </a:lnTo>
                  <a:lnTo>
                    <a:pt x="935" y="979"/>
                  </a:lnTo>
                  <a:lnTo>
                    <a:pt x="935" y="990"/>
                  </a:lnTo>
                  <a:lnTo>
                    <a:pt x="929" y="990"/>
                  </a:lnTo>
                  <a:lnTo>
                    <a:pt x="929" y="1002"/>
                  </a:lnTo>
                  <a:lnTo>
                    <a:pt x="923" y="1002"/>
                  </a:lnTo>
                  <a:lnTo>
                    <a:pt x="923" y="1007"/>
                  </a:lnTo>
                  <a:lnTo>
                    <a:pt x="917" y="1007"/>
                  </a:lnTo>
                  <a:lnTo>
                    <a:pt x="917" y="1012"/>
                  </a:lnTo>
                  <a:lnTo>
                    <a:pt x="912" y="1012"/>
                  </a:lnTo>
                  <a:lnTo>
                    <a:pt x="912" y="1024"/>
                  </a:lnTo>
                  <a:lnTo>
                    <a:pt x="905" y="1024"/>
                  </a:lnTo>
                  <a:lnTo>
                    <a:pt x="905" y="1036"/>
                  </a:lnTo>
                  <a:lnTo>
                    <a:pt x="900" y="1036"/>
                  </a:lnTo>
                  <a:lnTo>
                    <a:pt x="900" y="1047"/>
                  </a:lnTo>
                  <a:lnTo>
                    <a:pt x="895" y="1047"/>
                  </a:lnTo>
                  <a:lnTo>
                    <a:pt x="895" y="1052"/>
                  </a:lnTo>
                  <a:lnTo>
                    <a:pt x="889" y="1052"/>
                  </a:lnTo>
                  <a:lnTo>
                    <a:pt x="889" y="1064"/>
                  </a:lnTo>
                  <a:lnTo>
                    <a:pt x="883" y="1064"/>
                  </a:lnTo>
                  <a:lnTo>
                    <a:pt x="883" y="1069"/>
                  </a:lnTo>
                  <a:lnTo>
                    <a:pt x="878" y="1069"/>
                  </a:lnTo>
                  <a:lnTo>
                    <a:pt x="878" y="1081"/>
                  </a:lnTo>
                  <a:lnTo>
                    <a:pt x="872" y="1081"/>
                  </a:lnTo>
                  <a:lnTo>
                    <a:pt x="872" y="1086"/>
                  </a:lnTo>
                  <a:lnTo>
                    <a:pt x="866" y="1086"/>
                  </a:lnTo>
                  <a:lnTo>
                    <a:pt x="866" y="1093"/>
                  </a:lnTo>
                  <a:lnTo>
                    <a:pt x="860" y="1093"/>
                  </a:lnTo>
                  <a:lnTo>
                    <a:pt x="860" y="1104"/>
                  </a:lnTo>
                  <a:lnTo>
                    <a:pt x="855" y="1104"/>
                  </a:lnTo>
                  <a:lnTo>
                    <a:pt x="855" y="1115"/>
                  </a:lnTo>
                  <a:lnTo>
                    <a:pt x="849" y="1115"/>
                  </a:lnTo>
                  <a:lnTo>
                    <a:pt x="849" y="1121"/>
                  </a:lnTo>
                  <a:lnTo>
                    <a:pt x="843" y="1121"/>
                  </a:lnTo>
                  <a:lnTo>
                    <a:pt x="843" y="1133"/>
                  </a:lnTo>
                  <a:lnTo>
                    <a:pt x="838" y="1133"/>
                  </a:lnTo>
                  <a:lnTo>
                    <a:pt x="838" y="1138"/>
                  </a:lnTo>
                  <a:lnTo>
                    <a:pt x="832" y="1138"/>
                  </a:lnTo>
                  <a:lnTo>
                    <a:pt x="832" y="1143"/>
                  </a:lnTo>
                  <a:lnTo>
                    <a:pt x="826" y="1143"/>
                  </a:lnTo>
                  <a:lnTo>
                    <a:pt x="826" y="1155"/>
                  </a:lnTo>
                  <a:lnTo>
                    <a:pt x="821" y="1155"/>
                  </a:lnTo>
                  <a:lnTo>
                    <a:pt x="821" y="1166"/>
                  </a:lnTo>
                  <a:lnTo>
                    <a:pt x="815" y="1166"/>
                  </a:lnTo>
                  <a:lnTo>
                    <a:pt x="815" y="1172"/>
                  </a:lnTo>
                  <a:lnTo>
                    <a:pt x="809" y="1172"/>
                  </a:lnTo>
                  <a:lnTo>
                    <a:pt x="809" y="1183"/>
                  </a:lnTo>
                  <a:lnTo>
                    <a:pt x="803" y="1183"/>
                  </a:lnTo>
                  <a:lnTo>
                    <a:pt x="803" y="1190"/>
                  </a:lnTo>
                  <a:lnTo>
                    <a:pt x="798" y="1190"/>
                  </a:lnTo>
                  <a:lnTo>
                    <a:pt x="798" y="1200"/>
                  </a:lnTo>
                  <a:lnTo>
                    <a:pt x="792" y="1200"/>
                  </a:lnTo>
                  <a:lnTo>
                    <a:pt x="792" y="1207"/>
                  </a:lnTo>
                  <a:lnTo>
                    <a:pt x="786" y="1207"/>
                  </a:lnTo>
                  <a:lnTo>
                    <a:pt x="786" y="1212"/>
                  </a:lnTo>
                  <a:lnTo>
                    <a:pt x="781" y="1212"/>
                  </a:lnTo>
                  <a:lnTo>
                    <a:pt x="781" y="1218"/>
                  </a:lnTo>
                  <a:lnTo>
                    <a:pt x="774" y="1218"/>
                  </a:lnTo>
                  <a:lnTo>
                    <a:pt x="774" y="1223"/>
                  </a:lnTo>
                  <a:lnTo>
                    <a:pt x="769" y="1223"/>
                  </a:lnTo>
                  <a:lnTo>
                    <a:pt x="769" y="1229"/>
                  </a:lnTo>
                  <a:lnTo>
                    <a:pt x="764" y="1229"/>
                  </a:lnTo>
                  <a:lnTo>
                    <a:pt x="764" y="1235"/>
                  </a:lnTo>
                  <a:lnTo>
                    <a:pt x="758" y="1235"/>
                  </a:lnTo>
                  <a:lnTo>
                    <a:pt x="758" y="1240"/>
                  </a:lnTo>
                  <a:lnTo>
                    <a:pt x="746" y="1240"/>
                  </a:lnTo>
                  <a:lnTo>
                    <a:pt x="746" y="1252"/>
                  </a:lnTo>
                  <a:lnTo>
                    <a:pt x="741" y="1252"/>
                  </a:lnTo>
                  <a:lnTo>
                    <a:pt x="741" y="1257"/>
                  </a:lnTo>
                  <a:lnTo>
                    <a:pt x="735" y="1257"/>
                  </a:lnTo>
                  <a:lnTo>
                    <a:pt x="735" y="1264"/>
                  </a:lnTo>
                  <a:lnTo>
                    <a:pt x="729" y="1264"/>
                  </a:lnTo>
                  <a:lnTo>
                    <a:pt x="729" y="1269"/>
                  </a:lnTo>
                  <a:lnTo>
                    <a:pt x="724" y="1269"/>
                  </a:lnTo>
                  <a:lnTo>
                    <a:pt x="724" y="1274"/>
                  </a:lnTo>
                  <a:lnTo>
                    <a:pt x="717" y="1274"/>
                  </a:lnTo>
                  <a:lnTo>
                    <a:pt x="717" y="1280"/>
                  </a:lnTo>
                  <a:lnTo>
                    <a:pt x="712" y="1280"/>
                  </a:lnTo>
                  <a:lnTo>
                    <a:pt x="712" y="1292"/>
                  </a:lnTo>
                  <a:lnTo>
                    <a:pt x="707" y="1292"/>
                  </a:lnTo>
                  <a:lnTo>
                    <a:pt x="707" y="1297"/>
                  </a:lnTo>
                  <a:lnTo>
                    <a:pt x="701" y="1297"/>
                  </a:lnTo>
                  <a:lnTo>
                    <a:pt x="701" y="1303"/>
                  </a:lnTo>
                  <a:lnTo>
                    <a:pt x="695" y="1303"/>
                  </a:lnTo>
                  <a:lnTo>
                    <a:pt x="695" y="1309"/>
                  </a:lnTo>
                  <a:lnTo>
                    <a:pt x="689" y="1309"/>
                  </a:lnTo>
                  <a:lnTo>
                    <a:pt x="689" y="1314"/>
                  </a:lnTo>
                  <a:lnTo>
                    <a:pt x="684" y="1314"/>
                  </a:lnTo>
                  <a:lnTo>
                    <a:pt x="684" y="1321"/>
                  </a:lnTo>
                  <a:lnTo>
                    <a:pt x="672" y="1321"/>
                  </a:lnTo>
                  <a:lnTo>
                    <a:pt x="672" y="1326"/>
                  </a:lnTo>
                  <a:lnTo>
                    <a:pt x="667" y="1326"/>
                  </a:lnTo>
                  <a:lnTo>
                    <a:pt x="667" y="1331"/>
                  </a:lnTo>
                  <a:lnTo>
                    <a:pt x="660" y="1331"/>
                  </a:lnTo>
                  <a:lnTo>
                    <a:pt x="660" y="1337"/>
                  </a:lnTo>
                  <a:lnTo>
                    <a:pt x="655" y="1337"/>
                  </a:lnTo>
                  <a:lnTo>
                    <a:pt x="655" y="1343"/>
                  </a:lnTo>
                  <a:lnTo>
                    <a:pt x="650" y="1343"/>
                  </a:lnTo>
                  <a:lnTo>
                    <a:pt x="650" y="1354"/>
                  </a:lnTo>
                  <a:lnTo>
                    <a:pt x="644" y="1354"/>
                  </a:lnTo>
                  <a:lnTo>
                    <a:pt x="644" y="1366"/>
                  </a:lnTo>
                  <a:lnTo>
                    <a:pt x="638" y="1366"/>
                  </a:lnTo>
                  <a:lnTo>
                    <a:pt x="638" y="1371"/>
                  </a:lnTo>
                  <a:lnTo>
                    <a:pt x="632" y="1371"/>
                  </a:lnTo>
                  <a:lnTo>
                    <a:pt x="632" y="1383"/>
                  </a:lnTo>
                  <a:lnTo>
                    <a:pt x="627" y="1383"/>
                  </a:lnTo>
                  <a:lnTo>
                    <a:pt x="627" y="1395"/>
                  </a:lnTo>
                  <a:lnTo>
                    <a:pt x="621" y="1395"/>
                  </a:lnTo>
                  <a:lnTo>
                    <a:pt x="621" y="1400"/>
                  </a:lnTo>
                  <a:lnTo>
                    <a:pt x="615" y="1400"/>
                  </a:lnTo>
                  <a:lnTo>
                    <a:pt x="615" y="1406"/>
                  </a:lnTo>
                  <a:lnTo>
                    <a:pt x="610" y="1406"/>
                  </a:lnTo>
                  <a:lnTo>
                    <a:pt x="610" y="1411"/>
                  </a:lnTo>
                  <a:lnTo>
                    <a:pt x="603" y="1411"/>
                  </a:lnTo>
                  <a:lnTo>
                    <a:pt x="603" y="1423"/>
                  </a:lnTo>
                  <a:lnTo>
                    <a:pt x="598" y="1423"/>
                  </a:lnTo>
                  <a:lnTo>
                    <a:pt x="598" y="1428"/>
                  </a:lnTo>
                  <a:lnTo>
                    <a:pt x="593" y="1428"/>
                  </a:lnTo>
                  <a:lnTo>
                    <a:pt x="593" y="1440"/>
                  </a:lnTo>
                  <a:lnTo>
                    <a:pt x="587" y="1440"/>
                  </a:lnTo>
                  <a:lnTo>
                    <a:pt x="587" y="1445"/>
                  </a:lnTo>
                  <a:lnTo>
                    <a:pt x="581" y="1445"/>
                  </a:lnTo>
                  <a:lnTo>
                    <a:pt x="581" y="1456"/>
                  </a:lnTo>
                  <a:lnTo>
                    <a:pt x="576" y="1456"/>
                  </a:lnTo>
                  <a:lnTo>
                    <a:pt x="576" y="1462"/>
                  </a:lnTo>
                  <a:lnTo>
                    <a:pt x="570" y="1462"/>
                  </a:lnTo>
                  <a:lnTo>
                    <a:pt x="570" y="1468"/>
                  </a:lnTo>
                  <a:lnTo>
                    <a:pt x="564" y="1468"/>
                  </a:lnTo>
                  <a:lnTo>
                    <a:pt x="564" y="1473"/>
                  </a:lnTo>
                  <a:lnTo>
                    <a:pt x="558" y="1473"/>
                  </a:lnTo>
                  <a:lnTo>
                    <a:pt x="558" y="1480"/>
                  </a:lnTo>
                  <a:lnTo>
                    <a:pt x="553" y="1480"/>
                  </a:lnTo>
                  <a:lnTo>
                    <a:pt x="553" y="1485"/>
                  </a:lnTo>
                  <a:lnTo>
                    <a:pt x="546" y="1485"/>
                  </a:lnTo>
                  <a:lnTo>
                    <a:pt x="546" y="1490"/>
                  </a:lnTo>
                  <a:lnTo>
                    <a:pt x="541" y="1490"/>
                  </a:lnTo>
                  <a:lnTo>
                    <a:pt x="541" y="1497"/>
                  </a:lnTo>
                  <a:lnTo>
                    <a:pt x="536" y="1497"/>
                  </a:lnTo>
                  <a:lnTo>
                    <a:pt x="536" y="1502"/>
                  </a:lnTo>
                  <a:lnTo>
                    <a:pt x="530" y="1502"/>
                  </a:lnTo>
                  <a:lnTo>
                    <a:pt x="530" y="1513"/>
                  </a:lnTo>
                  <a:lnTo>
                    <a:pt x="525" y="1513"/>
                  </a:lnTo>
                  <a:lnTo>
                    <a:pt x="525" y="1525"/>
                  </a:lnTo>
                  <a:lnTo>
                    <a:pt x="519" y="1525"/>
                  </a:lnTo>
                  <a:lnTo>
                    <a:pt x="519" y="1530"/>
                  </a:lnTo>
                  <a:lnTo>
                    <a:pt x="513" y="1530"/>
                  </a:lnTo>
                  <a:lnTo>
                    <a:pt x="513" y="1537"/>
                  </a:lnTo>
                  <a:lnTo>
                    <a:pt x="508" y="1537"/>
                  </a:lnTo>
                  <a:lnTo>
                    <a:pt x="508" y="1542"/>
                  </a:lnTo>
                  <a:lnTo>
                    <a:pt x="501" y="1542"/>
                  </a:lnTo>
                  <a:lnTo>
                    <a:pt x="501" y="1547"/>
                  </a:lnTo>
                  <a:lnTo>
                    <a:pt x="496" y="1547"/>
                  </a:lnTo>
                  <a:lnTo>
                    <a:pt x="496" y="1554"/>
                  </a:lnTo>
                  <a:lnTo>
                    <a:pt x="491" y="1554"/>
                  </a:lnTo>
                  <a:lnTo>
                    <a:pt x="491" y="1559"/>
                  </a:lnTo>
                  <a:lnTo>
                    <a:pt x="484" y="1559"/>
                  </a:lnTo>
                  <a:lnTo>
                    <a:pt x="484" y="1565"/>
                  </a:lnTo>
                  <a:lnTo>
                    <a:pt x="479" y="1565"/>
                  </a:lnTo>
                  <a:lnTo>
                    <a:pt x="479" y="1576"/>
                  </a:lnTo>
                  <a:lnTo>
                    <a:pt x="473" y="1576"/>
                  </a:lnTo>
                  <a:lnTo>
                    <a:pt x="473" y="1582"/>
                  </a:lnTo>
                  <a:lnTo>
                    <a:pt x="468" y="1582"/>
                  </a:lnTo>
                  <a:lnTo>
                    <a:pt x="468" y="1587"/>
                  </a:lnTo>
                  <a:lnTo>
                    <a:pt x="462" y="1587"/>
                  </a:lnTo>
                  <a:lnTo>
                    <a:pt x="462" y="1594"/>
                  </a:lnTo>
                  <a:lnTo>
                    <a:pt x="456" y="1594"/>
                  </a:lnTo>
                  <a:lnTo>
                    <a:pt x="456" y="1599"/>
                  </a:lnTo>
                  <a:lnTo>
                    <a:pt x="444" y="1599"/>
                  </a:lnTo>
                  <a:lnTo>
                    <a:pt x="444" y="1604"/>
                  </a:lnTo>
                  <a:lnTo>
                    <a:pt x="439" y="1604"/>
                  </a:lnTo>
                  <a:lnTo>
                    <a:pt x="439" y="1611"/>
                  </a:lnTo>
                  <a:lnTo>
                    <a:pt x="434" y="1611"/>
                  </a:lnTo>
                  <a:lnTo>
                    <a:pt x="434" y="1616"/>
                  </a:lnTo>
                  <a:lnTo>
                    <a:pt x="422" y="1616"/>
                  </a:lnTo>
                  <a:lnTo>
                    <a:pt x="422" y="1622"/>
                  </a:lnTo>
                  <a:lnTo>
                    <a:pt x="416" y="1622"/>
                  </a:lnTo>
                  <a:lnTo>
                    <a:pt x="416" y="1627"/>
                  </a:lnTo>
                  <a:lnTo>
                    <a:pt x="405" y="1627"/>
                  </a:lnTo>
                  <a:lnTo>
                    <a:pt x="405" y="1633"/>
                  </a:lnTo>
                  <a:lnTo>
                    <a:pt x="399" y="1633"/>
                  </a:lnTo>
                  <a:lnTo>
                    <a:pt x="399" y="1639"/>
                  </a:lnTo>
                  <a:lnTo>
                    <a:pt x="394" y="1639"/>
                  </a:lnTo>
                  <a:lnTo>
                    <a:pt x="394" y="1644"/>
                  </a:lnTo>
                  <a:lnTo>
                    <a:pt x="387" y="1644"/>
                  </a:lnTo>
                  <a:lnTo>
                    <a:pt x="387" y="1651"/>
                  </a:lnTo>
                  <a:lnTo>
                    <a:pt x="382" y="1651"/>
                  </a:lnTo>
                  <a:lnTo>
                    <a:pt x="382" y="1656"/>
                  </a:lnTo>
                  <a:lnTo>
                    <a:pt x="377" y="1656"/>
                  </a:lnTo>
                  <a:lnTo>
                    <a:pt x="377" y="1661"/>
                  </a:lnTo>
                  <a:lnTo>
                    <a:pt x="365" y="1661"/>
                  </a:lnTo>
                  <a:lnTo>
                    <a:pt x="365" y="1668"/>
                  </a:lnTo>
                  <a:lnTo>
                    <a:pt x="359" y="1668"/>
                  </a:lnTo>
                  <a:lnTo>
                    <a:pt x="359" y="1673"/>
                  </a:lnTo>
                  <a:lnTo>
                    <a:pt x="354" y="1673"/>
                  </a:lnTo>
                  <a:lnTo>
                    <a:pt x="354" y="1678"/>
                  </a:lnTo>
                  <a:lnTo>
                    <a:pt x="348" y="1678"/>
                  </a:lnTo>
                  <a:lnTo>
                    <a:pt x="348" y="1684"/>
                  </a:lnTo>
                  <a:lnTo>
                    <a:pt x="337" y="1684"/>
                  </a:lnTo>
                  <a:lnTo>
                    <a:pt x="337" y="1690"/>
                  </a:lnTo>
                  <a:lnTo>
                    <a:pt x="330" y="1690"/>
                  </a:lnTo>
                  <a:lnTo>
                    <a:pt x="330" y="1696"/>
                  </a:lnTo>
                  <a:lnTo>
                    <a:pt x="325" y="1696"/>
                  </a:lnTo>
                  <a:lnTo>
                    <a:pt x="325" y="1701"/>
                  </a:lnTo>
                  <a:lnTo>
                    <a:pt x="320" y="1701"/>
                  </a:lnTo>
                  <a:lnTo>
                    <a:pt x="320" y="1707"/>
                  </a:lnTo>
                  <a:lnTo>
                    <a:pt x="313" y="1707"/>
                  </a:lnTo>
                  <a:lnTo>
                    <a:pt x="313" y="1713"/>
                  </a:lnTo>
                  <a:lnTo>
                    <a:pt x="308" y="1713"/>
                  </a:lnTo>
                  <a:lnTo>
                    <a:pt x="308" y="1718"/>
                  </a:lnTo>
                  <a:lnTo>
                    <a:pt x="303" y="1718"/>
                  </a:lnTo>
                  <a:lnTo>
                    <a:pt x="303" y="1725"/>
                  </a:lnTo>
                  <a:lnTo>
                    <a:pt x="297" y="1725"/>
                  </a:lnTo>
                  <a:lnTo>
                    <a:pt x="297" y="1730"/>
                  </a:lnTo>
                  <a:lnTo>
                    <a:pt x="291" y="1730"/>
                  </a:lnTo>
                  <a:lnTo>
                    <a:pt x="291" y="1735"/>
                  </a:lnTo>
                  <a:lnTo>
                    <a:pt x="285" y="1735"/>
                  </a:lnTo>
                  <a:lnTo>
                    <a:pt x="285" y="1742"/>
                  </a:lnTo>
                  <a:lnTo>
                    <a:pt x="273" y="1742"/>
                  </a:lnTo>
                  <a:lnTo>
                    <a:pt x="273" y="1753"/>
                  </a:lnTo>
                  <a:lnTo>
                    <a:pt x="268" y="1753"/>
                  </a:lnTo>
                  <a:lnTo>
                    <a:pt x="268" y="1758"/>
                  </a:lnTo>
                  <a:lnTo>
                    <a:pt x="263" y="1758"/>
                  </a:lnTo>
                  <a:lnTo>
                    <a:pt x="263" y="1764"/>
                  </a:lnTo>
                  <a:lnTo>
                    <a:pt x="251" y="1764"/>
                  </a:lnTo>
                  <a:lnTo>
                    <a:pt x="251" y="1770"/>
                  </a:lnTo>
                  <a:lnTo>
                    <a:pt x="246" y="1770"/>
                  </a:lnTo>
                  <a:lnTo>
                    <a:pt x="246" y="1775"/>
                  </a:lnTo>
                  <a:lnTo>
                    <a:pt x="240" y="1775"/>
                  </a:lnTo>
                  <a:lnTo>
                    <a:pt x="240" y="1782"/>
                  </a:lnTo>
                  <a:lnTo>
                    <a:pt x="234" y="1782"/>
                  </a:lnTo>
                  <a:lnTo>
                    <a:pt x="234" y="1787"/>
                  </a:lnTo>
                  <a:lnTo>
                    <a:pt x="228" y="1787"/>
                  </a:lnTo>
                  <a:lnTo>
                    <a:pt x="228" y="1792"/>
                  </a:lnTo>
                  <a:lnTo>
                    <a:pt x="217" y="1792"/>
                  </a:lnTo>
                  <a:lnTo>
                    <a:pt x="217" y="1799"/>
                  </a:lnTo>
                  <a:lnTo>
                    <a:pt x="211" y="1799"/>
                  </a:lnTo>
                  <a:lnTo>
                    <a:pt x="211" y="1804"/>
                  </a:lnTo>
                  <a:lnTo>
                    <a:pt x="206" y="1804"/>
                  </a:lnTo>
                  <a:lnTo>
                    <a:pt x="206" y="1810"/>
                  </a:lnTo>
                  <a:lnTo>
                    <a:pt x="199" y="1810"/>
                  </a:lnTo>
                  <a:lnTo>
                    <a:pt x="199" y="1815"/>
                  </a:lnTo>
                  <a:lnTo>
                    <a:pt x="189" y="1815"/>
                  </a:lnTo>
                  <a:lnTo>
                    <a:pt x="189" y="1820"/>
                  </a:lnTo>
                  <a:lnTo>
                    <a:pt x="183" y="1820"/>
                  </a:lnTo>
                  <a:lnTo>
                    <a:pt x="183" y="1827"/>
                  </a:lnTo>
                  <a:lnTo>
                    <a:pt x="177" y="1827"/>
                  </a:lnTo>
                  <a:lnTo>
                    <a:pt x="177" y="1837"/>
                  </a:lnTo>
                  <a:lnTo>
                    <a:pt x="171" y="1837"/>
                  </a:lnTo>
                  <a:lnTo>
                    <a:pt x="171" y="1844"/>
                  </a:lnTo>
                  <a:lnTo>
                    <a:pt x="160" y="1844"/>
                  </a:lnTo>
                  <a:lnTo>
                    <a:pt x="160" y="1849"/>
                  </a:lnTo>
                  <a:lnTo>
                    <a:pt x="149" y="1849"/>
                  </a:lnTo>
                  <a:lnTo>
                    <a:pt x="149" y="1855"/>
                  </a:lnTo>
                  <a:lnTo>
                    <a:pt x="142" y="1855"/>
                  </a:lnTo>
                  <a:lnTo>
                    <a:pt x="142" y="1860"/>
                  </a:lnTo>
                  <a:lnTo>
                    <a:pt x="132" y="1860"/>
                  </a:lnTo>
                  <a:lnTo>
                    <a:pt x="132" y="1867"/>
                  </a:lnTo>
                  <a:lnTo>
                    <a:pt x="126" y="1867"/>
                  </a:lnTo>
                  <a:lnTo>
                    <a:pt x="126" y="1872"/>
                  </a:lnTo>
                  <a:lnTo>
                    <a:pt x="114" y="1872"/>
                  </a:lnTo>
                  <a:lnTo>
                    <a:pt x="114" y="1877"/>
                  </a:lnTo>
                  <a:lnTo>
                    <a:pt x="109" y="1877"/>
                  </a:lnTo>
                  <a:lnTo>
                    <a:pt x="109" y="1884"/>
                  </a:lnTo>
                  <a:lnTo>
                    <a:pt x="104" y="1884"/>
                  </a:lnTo>
                  <a:lnTo>
                    <a:pt x="104" y="1889"/>
                  </a:lnTo>
                  <a:lnTo>
                    <a:pt x="86" y="1889"/>
                  </a:lnTo>
                  <a:lnTo>
                    <a:pt x="86" y="1894"/>
                  </a:lnTo>
                  <a:lnTo>
                    <a:pt x="80" y="1894"/>
                  </a:lnTo>
                  <a:lnTo>
                    <a:pt x="80" y="1901"/>
                  </a:lnTo>
                  <a:lnTo>
                    <a:pt x="75" y="1901"/>
                  </a:lnTo>
                  <a:lnTo>
                    <a:pt x="75" y="1912"/>
                  </a:lnTo>
                  <a:lnTo>
                    <a:pt x="69" y="1912"/>
                  </a:lnTo>
                  <a:lnTo>
                    <a:pt x="69" y="1923"/>
                  </a:lnTo>
                  <a:lnTo>
                    <a:pt x="64" y="1923"/>
                  </a:lnTo>
                  <a:lnTo>
                    <a:pt x="64" y="1941"/>
                  </a:lnTo>
                  <a:lnTo>
                    <a:pt x="57" y="1941"/>
                  </a:lnTo>
                  <a:lnTo>
                    <a:pt x="57" y="1951"/>
                  </a:lnTo>
                  <a:lnTo>
                    <a:pt x="52" y="1951"/>
                  </a:lnTo>
                  <a:lnTo>
                    <a:pt x="52" y="1963"/>
                  </a:lnTo>
                  <a:lnTo>
                    <a:pt x="47" y="1963"/>
                  </a:lnTo>
                  <a:lnTo>
                    <a:pt x="47" y="2020"/>
                  </a:lnTo>
                  <a:lnTo>
                    <a:pt x="52" y="2020"/>
                  </a:lnTo>
                  <a:lnTo>
                    <a:pt x="52" y="2055"/>
                  </a:lnTo>
                  <a:lnTo>
                    <a:pt x="57" y="2055"/>
                  </a:lnTo>
                  <a:lnTo>
                    <a:pt x="57" y="2065"/>
                  </a:lnTo>
                  <a:lnTo>
                    <a:pt x="64" y="2065"/>
                  </a:lnTo>
                  <a:lnTo>
                    <a:pt x="64" y="2077"/>
                  </a:lnTo>
                  <a:lnTo>
                    <a:pt x="69" y="2077"/>
                  </a:lnTo>
                  <a:lnTo>
                    <a:pt x="69" y="2082"/>
                  </a:lnTo>
                  <a:lnTo>
                    <a:pt x="92" y="2082"/>
                  </a:lnTo>
                  <a:lnTo>
                    <a:pt x="92" y="2094"/>
                  </a:lnTo>
                  <a:lnTo>
                    <a:pt x="80" y="2094"/>
                  </a:lnTo>
                  <a:lnTo>
                    <a:pt x="80" y="2134"/>
                  </a:lnTo>
                  <a:lnTo>
                    <a:pt x="86" y="2134"/>
                  </a:lnTo>
                  <a:lnTo>
                    <a:pt x="86" y="2146"/>
                  </a:lnTo>
                  <a:lnTo>
                    <a:pt x="92" y="2146"/>
                  </a:lnTo>
                  <a:lnTo>
                    <a:pt x="92" y="2151"/>
                  </a:lnTo>
                  <a:lnTo>
                    <a:pt x="109" y="2151"/>
                  </a:lnTo>
                  <a:lnTo>
                    <a:pt x="109" y="2168"/>
                  </a:lnTo>
                  <a:lnTo>
                    <a:pt x="114" y="2168"/>
                  </a:lnTo>
                  <a:lnTo>
                    <a:pt x="114" y="2191"/>
                  </a:lnTo>
                  <a:lnTo>
                    <a:pt x="121" y="2191"/>
                  </a:lnTo>
                  <a:lnTo>
                    <a:pt x="121" y="2208"/>
                  </a:lnTo>
                  <a:lnTo>
                    <a:pt x="126" y="2208"/>
                  </a:lnTo>
                  <a:lnTo>
                    <a:pt x="126" y="2214"/>
                  </a:lnTo>
                  <a:lnTo>
                    <a:pt x="132" y="2214"/>
                  </a:lnTo>
                  <a:lnTo>
                    <a:pt x="132" y="2224"/>
                  </a:lnTo>
                  <a:lnTo>
                    <a:pt x="137" y="2224"/>
                  </a:lnTo>
                  <a:lnTo>
                    <a:pt x="137" y="2236"/>
                  </a:lnTo>
                  <a:lnTo>
                    <a:pt x="142" y="2236"/>
                  </a:lnTo>
                  <a:lnTo>
                    <a:pt x="142" y="2242"/>
                  </a:lnTo>
                  <a:lnTo>
                    <a:pt x="149" y="2242"/>
                  </a:lnTo>
                  <a:lnTo>
                    <a:pt x="149" y="2248"/>
                  </a:lnTo>
                  <a:lnTo>
                    <a:pt x="154" y="2248"/>
                  </a:lnTo>
                  <a:lnTo>
                    <a:pt x="154" y="2259"/>
                  </a:lnTo>
                  <a:lnTo>
                    <a:pt x="160" y="2259"/>
                  </a:lnTo>
                  <a:lnTo>
                    <a:pt x="160" y="2271"/>
                  </a:lnTo>
                  <a:lnTo>
                    <a:pt x="166" y="2271"/>
                  </a:lnTo>
                  <a:lnTo>
                    <a:pt x="166" y="2281"/>
                  </a:lnTo>
                  <a:lnTo>
                    <a:pt x="171" y="2281"/>
                  </a:lnTo>
                  <a:lnTo>
                    <a:pt x="171" y="2298"/>
                  </a:lnTo>
                  <a:lnTo>
                    <a:pt x="177" y="2298"/>
                  </a:lnTo>
                  <a:lnTo>
                    <a:pt x="177" y="2305"/>
                  </a:lnTo>
                  <a:lnTo>
                    <a:pt x="183" y="2305"/>
                  </a:lnTo>
                  <a:lnTo>
                    <a:pt x="183" y="2316"/>
                  </a:lnTo>
                  <a:lnTo>
                    <a:pt x="189" y="2316"/>
                  </a:lnTo>
                  <a:lnTo>
                    <a:pt x="189" y="2321"/>
                  </a:lnTo>
                  <a:lnTo>
                    <a:pt x="194" y="2321"/>
                  </a:lnTo>
                  <a:lnTo>
                    <a:pt x="194" y="2327"/>
                  </a:lnTo>
                  <a:lnTo>
                    <a:pt x="199" y="2327"/>
                  </a:lnTo>
                  <a:lnTo>
                    <a:pt x="199" y="2338"/>
                  </a:lnTo>
                  <a:lnTo>
                    <a:pt x="206" y="2338"/>
                  </a:lnTo>
                  <a:lnTo>
                    <a:pt x="206" y="2350"/>
                  </a:lnTo>
                  <a:lnTo>
                    <a:pt x="211" y="2350"/>
                  </a:lnTo>
                  <a:lnTo>
                    <a:pt x="211" y="2355"/>
                  </a:lnTo>
                  <a:lnTo>
                    <a:pt x="217" y="2355"/>
                  </a:lnTo>
                  <a:lnTo>
                    <a:pt x="217" y="2362"/>
                  </a:lnTo>
                  <a:lnTo>
                    <a:pt x="223" y="2362"/>
                  </a:lnTo>
                  <a:lnTo>
                    <a:pt x="223" y="2367"/>
                  </a:lnTo>
                  <a:lnTo>
                    <a:pt x="246" y="2367"/>
                  </a:lnTo>
                  <a:lnTo>
                    <a:pt x="246" y="2379"/>
                  </a:lnTo>
                  <a:lnTo>
                    <a:pt x="251" y="2379"/>
                  </a:lnTo>
                  <a:lnTo>
                    <a:pt x="251" y="2390"/>
                  </a:lnTo>
                  <a:lnTo>
                    <a:pt x="256" y="2390"/>
                  </a:lnTo>
                  <a:lnTo>
                    <a:pt x="256" y="2402"/>
                  </a:lnTo>
                  <a:lnTo>
                    <a:pt x="263" y="2402"/>
                  </a:lnTo>
                  <a:lnTo>
                    <a:pt x="263" y="2412"/>
                  </a:lnTo>
                  <a:lnTo>
                    <a:pt x="268" y="2412"/>
                  </a:lnTo>
                  <a:lnTo>
                    <a:pt x="268" y="2419"/>
                  </a:lnTo>
                  <a:lnTo>
                    <a:pt x="273" y="2419"/>
                  </a:lnTo>
                  <a:lnTo>
                    <a:pt x="273" y="2486"/>
                  </a:lnTo>
                  <a:lnTo>
                    <a:pt x="268" y="2486"/>
                  </a:lnTo>
                  <a:lnTo>
                    <a:pt x="268" y="2498"/>
                  </a:lnTo>
                  <a:lnTo>
                    <a:pt x="263" y="2498"/>
                  </a:lnTo>
                  <a:lnTo>
                    <a:pt x="263" y="2504"/>
                  </a:lnTo>
                  <a:lnTo>
                    <a:pt x="256" y="2504"/>
                  </a:lnTo>
                  <a:lnTo>
                    <a:pt x="256" y="2533"/>
                  </a:lnTo>
                  <a:lnTo>
                    <a:pt x="251" y="2533"/>
                  </a:lnTo>
                  <a:lnTo>
                    <a:pt x="251" y="2543"/>
                  </a:lnTo>
                  <a:lnTo>
                    <a:pt x="256" y="2543"/>
                  </a:lnTo>
                  <a:lnTo>
                    <a:pt x="256" y="2550"/>
                  </a:lnTo>
                  <a:lnTo>
                    <a:pt x="285" y="2550"/>
                  </a:lnTo>
                  <a:lnTo>
                    <a:pt x="285" y="2521"/>
                  </a:lnTo>
                  <a:lnTo>
                    <a:pt x="291" y="2521"/>
                  </a:lnTo>
                  <a:lnTo>
                    <a:pt x="291" y="2504"/>
                  </a:lnTo>
                  <a:lnTo>
                    <a:pt x="297" y="2504"/>
                  </a:lnTo>
                  <a:lnTo>
                    <a:pt x="297" y="2486"/>
                  </a:lnTo>
                  <a:lnTo>
                    <a:pt x="303" y="2486"/>
                  </a:lnTo>
                  <a:lnTo>
                    <a:pt x="303" y="2459"/>
                  </a:lnTo>
                  <a:lnTo>
                    <a:pt x="325" y="2459"/>
                  </a:lnTo>
                  <a:lnTo>
                    <a:pt x="325" y="2498"/>
                  </a:lnTo>
                  <a:lnTo>
                    <a:pt x="320" y="2498"/>
                  </a:lnTo>
                  <a:lnTo>
                    <a:pt x="320" y="2516"/>
                  </a:lnTo>
                  <a:lnTo>
                    <a:pt x="313" y="2516"/>
                  </a:lnTo>
                  <a:lnTo>
                    <a:pt x="313" y="2538"/>
                  </a:lnTo>
                  <a:lnTo>
                    <a:pt x="308" y="2538"/>
                  </a:lnTo>
                  <a:lnTo>
                    <a:pt x="308" y="2543"/>
                  </a:lnTo>
                  <a:lnTo>
                    <a:pt x="303" y="2543"/>
                  </a:lnTo>
                  <a:lnTo>
                    <a:pt x="303" y="2572"/>
                  </a:lnTo>
                  <a:lnTo>
                    <a:pt x="320" y="2572"/>
                  </a:lnTo>
                  <a:lnTo>
                    <a:pt x="320" y="2566"/>
                  </a:lnTo>
                  <a:lnTo>
                    <a:pt x="325" y="2566"/>
                  </a:lnTo>
                  <a:lnTo>
                    <a:pt x="325" y="2555"/>
                  </a:lnTo>
                  <a:lnTo>
                    <a:pt x="330" y="2555"/>
                  </a:lnTo>
                  <a:lnTo>
                    <a:pt x="330" y="2543"/>
                  </a:lnTo>
                  <a:lnTo>
                    <a:pt x="337" y="2543"/>
                  </a:lnTo>
                  <a:lnTo>
                    <a:pt x="337" y="2526"/>
                  </a:lnTo>
                  <a:lnTo>
                    <a:pt x="342" y="2526"/>
                  </a:lnTo>
                  <a:lnTo>
                    <a:pt x="342" y="2516"/>
                  </a:lnTo>
                  <a:lnTo>
                    <a:pt x="348" y="2516"/>
                  </a:lnTo>
                  <a:lnTo>
                    <a:pt x="348" y="2504"/>
                  </a:lnTo>
                  <a:lnTo>
                    <a:pt x="354" y="2504"/>
                  </a:lnTo>
                  <a:lnTo>
                    <a:pt x="354" y="2493"/>
                  </a:lnTo>
                  <a:lnTo>
                    <a:pt x="359" y="2493"/>
                  </a:lnTo>
                  <a:lnTo>
                    <a:pt x="359" y="2481"/>
                  </a:lnTo>
                  <a:lnTo>
                    <a:pt x="365" y="2481"/>
                  </a:lnTo>
                  <a:lnTo>
                    <a:pt x="365" y="2469"/>
                  </a:lnTo>
                  <a:lnTo>
                    <a:pt x="382" y="2469"/>
                  </a:lnTo>
                  <a:lnTo>
                    <a:pt x="382" y="2481"/>
                  </a:lnTo>
                  <a:lnTo>
                    <a:pt x="377" y="2481"/>
                  </a:lnTo>
                  <a:lnTo>
                    <a:pt x="377" y="2493"/>
                  </a:lnTo>
                  <a:lnTo>
                    <a:pt x="370" y="2493"/>
                  </a:lnTo>
                  <a:lnTo>
                    <a:pt x="370" y="2504"/>
                  </a:lnTo>
                  <a:lnTo>
                    <a:pt x="365" y="2504"/>
                  </a:lnTo>
                  <a:lnTo>
                    <a:pt x="365" y="2509"/>
                  </a:lnTo>
                  <a:lnTo>
                    <a:pt x="359" y="2509"/>
                  </a:lnTo>
                  <a:lnTo>
                    <a:pt x="359" y="2526"/>
                  </a:lnTo>
                  <a:lnTo>
                    <a:pt x="354" y="2526"/>
                  </a:lnTo>
                  <a:lnTo>
                    <a:pt x="354" y="2538"/>
                  </a:lnTo>
                  <a:lnTo>
                    <a:pt x="348" y="2538"/>
                  </a:lnTo>
                  <a:lnTo>
                    <a:pt x="348" y="2550"/>
                  </a:lnTo>
                  <a:lnTo>
                    <a:pt x="342" y="2550"/>
                  </a:lnTo>
                  <a:lnTo>
                    <a:pt x="342" y="2566"/>
                  </a:lnTo>
                  <a:lnTo>
                    <a:pt x="337" y="2566"/>
                  </a:lnTo>
                  <a:lnTo>
                    <a:pt x="337" y="2572"/>
                  </a:lnTo>
                  <a:lnTo>
                    <a:pt x="330" y="2572"/>
                  </a:lnTo>
                  <a:lnTo>
                    <a:pt x="330" y="2595"/>
                  </a:lnTo>
                  <a:lnTo>
                    <a:pt x="308" y="2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9024840" y="2668680"/>
              <a:ext cx="69840" cy="31320"/>
            </a:xfrm>
            <a:custGeom>
              <a:avLst/>
              <a:gdLst/>
              <a:ahLst/>
              <a:rect l="l" t="t" r="r" b="b"/>
              <a:pathLst>
                <a:path w="131" h="64">
                  <a:moveTo>
                    <a:pt x="92" y="64"/>
                  </a:moveTo>
                  <a:lnTo>
                    <a:pt x="92" y="57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69" y="52"/>
                  </a:lnTo>
                  <a:lnTo>
                    <a:pt x="69" y="47"/>
                  </a:lnTo>
                  <a:lnTo>
                    <a:pt x="46" y="47"/>
                  </a:lnTo>
                  <a:lnTo>
                    <a:pt x="46" y="40"/>
                  </a:lnTo>
                  <a:lnTo>
                    <a:pt x="41" y="40"/>
                  </a:lnTo>
                  <a:lnTo>
                    <a:pt x="41" y="35"/>
                  </a:lnTo>
                  <a:lnTo>
                    <a:pt x="29" y="35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24" y="7"/>
                  </a:lnTo>
                  <a:lnTo>
                    <a:pt x="24" y="12"/>
                  </a:lnTo>
                  <a:lnTo>
                    <a:pt x="29" y="12"/>
                  </a:lnTo>
                  <a:lnTo>
                    <a:pt x="29" y="17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52" y="24"/>
                  </a:lnTo>
                  <a:lnTo>
                    <a:pt x="52" y="35"/>
                  </a:lnTo>
                  <a:lnTo>
                    <a:pt x="74" y="35"/>
                  </a:lnTo>
                  <a:lnTo>
                    <a:pt x="74" y="40"/>
                  </a:lnTo>
                  <a:lnTo>
                    <a:pt x="86" y="40"/>
                  </a:lnTo>
                  <a:lnTo>
                    <a:pt x="86" y="47"/>
                  </a:lnTo>
                  <a:lnTo>
                    <a:pt x="103" y="47"/>
                  </a:lnTo>
                  <a:lnTo>
                    <a:pt x="103" y="52"/>
                  </a:lnTo>
                  <a:lnTo>
                    <a:pt x="131" y="52"/>
                  </a:lnTo>
                  <a:lnTo>
                    <a:pt x="131" y="64"/>
                  </a:lnTo>
                  <a:lnTo>
                    <a:pt x="9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9021960" y="2788560"/>
              <a:ext cx="13680" cy="60840"/>
            </a:xfrm>
            <a:custGeom>
              <a:avLst/>
              <a:gdLst/>
              <a:ahLst/>
              <a:rect l="l" t="t" r="r" b="b"/>
              <a:pathLst>
                <a:path w="28" h="103">
                  <a:moveTo>
                    <a:pt x="12" y="103"/>
                  </a:moveTo>
                  <a:lnTo>
                    <a:pt x="12" y="69"/>
                  </a:lnTo>
                  <a:lnTo>
                    <a:pt x="6" y="69"/>
                  </a:lnTo>
                  <a:lnTo>
                    <a:pt x="6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2"/>
                  </a:lnTo>
                  <a:lnTo>
                    <a:pt x="23" y="12"/>
                  </a:lnTo>
                  <a:lnTo>
                    <a:pt x="23" y="29"/>
                  </a:lnTo>
                  <a:lnTo>
                    <a:pt x="28" y="29"/>
                  </a:lnTo>
                  <a:lnTo>
                    <a:pt x="28" y="98"/>
                  </a:lnTo>
                  <a:lnTo>
                    <a:pt x="23" y="98"/>
                  </a:lnTo>
                  <a:lnTo>
                    <a:pt x="23" y="103"/>
                  </a:lnTo>
                  <a:lnTo>
                    <a:pt x="1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9048600" y="2961000"/>
              <a:ext cx="864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8986320" y="2669040"/>
              <a:ext cx="76680" cy="381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120" y="69"/>
                  </a:moveTo>
                  <a:lnTo>
                    <a:pt x="120" y="62"/>
                  </a:lnTo>
                  <a:lnTo>
                    <a:pt x="103" y="62"/>
                  </a:lnTo>
                  <a:lnTo>
                    <a:pt x="103" y="57"/>
                  </a:lnTo>
                  <a:lnTo>
                    <a:pt x="75" y="57"/>
                  </a:lnTo>
                  <a:lnTo>
                    <a:pt x="75" y="52"/>
                  </a:lnTo>
                  <a:lnTo>
                    <a:pt x="63" y="52"/>
                  </a:lnTo>
                  <a:lnTo>
                    <a:pt x="63" y="45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2" y="40"/>
                  </a:lnTo>
                  <a:lnTo>
                    <a:pt x="52" y="34"/>
                  </a:lnTo>
                  <a:lnTo>
                    <a:pt x="40" y="34"/>
                  </a:lnTo>
                  <a:lnTo>
                    <a:pt x="40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18" y="23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3" y="12"/>
                  </a:lnTo>
                  <a:lnTo>
                    <a:pt x="35" y="12"/>
                  </a:lnTo>
                  <a:lnTo>
                    <a:pt x="35" y="17"/>
                  </a:lnTo>
                  <a:lnTo>
                    <a:pt x="52" y="17"/>
                  </a:lnTo>
                  <a:lnTo>
                    <a:pt x="52" y="23"/>
                  </a:lnTo>
                  <a:lnTo>
                    <a:pt x="63" y="23"/>
                  </a:lnTo>
                  <a:lnTo>
                    <a:pt x="63" y="29"/>
                  </a:lnTo>
                  <a:lnTo>
                    <a:pt x="68" y="29"/>
                  </a:lnTo>
                  <a:lnTo>
                    <a:pt x="68" y="34"/>
                  </a:lnTo>
                  <a:lnTo>
                    <a:pt x="75" y="34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0" y="45"/>
                  </a:lnTo>
                  <a:lnTo>
                    <a:pt x="109" y="45"/>
                  </a:lnTo>
                  <a:lnTo>
                    <a:pt x="109" y="52"/>
                  </a:lnTo>
                  <a:lnTo>
                    <a:pt x="130" y="52"/>
                  </a:lnTo>
                  <a:lnTo>
                    <a:pt x="130" y="57"/>
                  </a:lnTo>
                  <a:lnTo>
                    <a:pt x="137" y="57"/>
                  </a:lnTo>
                  <a:lnTo>
                    <a:pt x="137" y="69"/>
                  </a:lnTo>
                  <a:lnTo>
                    <a:pt x="12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6689160" y="516600"/>
              <a:ext cx="2270160" cy="2348640"/>
            </a:xfrm>
            <a:custGeom>
              <a:avLst/>
              <a:gdLst/>
              <a:ahLst/>
              <a:rect l="l" t="t" r="r" b="b"/>
              <a:pathLst>
                <a:path w="4127" h="4267">
                  <a:moveTo>
                    <a:pt x="125" y="4267"/>
                  </a:moveTo>
                  <a:lnTo>
                    <a:pt x="125" y="4256"/>
                  </a:lnTo>
                  <a:lnTo>
                    <a:pt x="120" y="4256"/>
                  </a:lnTo>
                  <a:lnTo>
                    <a:pt x="120" y="4250"/>
                  </a:lnTo>
                  <a:lnTo>
                    <a:pt x="114" y="4250"/>
                  </a:lnTo>
                  <a:lnTo>
                    <a:pt x="114" y="4245"/>
                  </a:lnTo>
                  <a:lnTo>
                    <a:pt x="108" y="4245"/>
                  </a:lnTo>
                  <a:lnTo>
                    <a:pt x="108" y="4233"/>
                  </a:lnTo>
                  <a:lnTo>
                    <a:pt x="103" y="4233"/>
                  </a:lnTo>
                  <a:lnTo>
                    <a:pt x="103" y="4210"/>
                  </a:lnTo>
                  <a:lnTo>
                    <a:pt x="96" y="4210"/>
                  </a:lnTo>
                  <a:lnTo>
                    <a:pt x="96" y="4199"/>
                  </a:lnTo>
                  <a:lnTo>
                    <a:pt x="91" y="4199"/>
                  </a:lnTo>
                  <a:lnTo>
                    <a:pt x="91" y="4181"/>
                  </a:lnTo>
                  <a:lnTo>
                    <a:pt x="86" y="4181"/>
                  </a:lnTo>
                  <a:lnTo>
                    <a:pt x="86" y="4171"/>
                  </a:lnTo>
                  <a:lnTo>
                    <a:pt x="79" y="4171"/>
                  </a:lnTo>
                  <a:lnTo>
                    <a:pt x="79" y="4159"/>
                  </a:lnTo>
                  <a:lnTo>
                    <a:pt x="74" y="4159"/>
                  </a:lnTo>
                  <a:lnTo>
                    <a:pt x="74" y="4154"/>
                  </a:lnTo>
                  <a:lnTo>
                    <a:pt x="69" y="4154"/>
                  </a:lnTo>
                  <a:lnTo>
                    <a:pt x="69" y="4147"/>
                  </a:lnTo>
                  <a:lnTo>
                    <a:pt x="63" y="4147"/>
                  </a:lnTo>
                  <a:lnTo>
                    <a:pt x="63" y="4136"/>
                  </a:lnTo>
                  <a:lnTo>
                    <a:pt x="57" y="4136"/>
                  </a:lnTo>
                  <a:lnTo>
                    <a:pt x="57" y="4125"/>
                  </a:lnTo>
                  <a:lnTo>
                    <a:pt x="51" y="4125"/>
                  </a:lnTo>
                  <a:lnTo>
                    <a:pt x="51" y="4119"/>
                  </a:lnTo>
                  <a:lnTo>
                    <a:pt x="46" y="4119"/>
                  </a:lnTo>
                  <a:lnTo>
                    <a:pt x="46" y="4107"/>
                  </a:lnTo>
                  <a:lnTo>
                    <a:pt x="39" y="4107"/>
                  </a:lnTo>
                  <a:lnTo>
                    <a:pt x="39" y="4102"/>
                  </a:lnTo>
                  <a:lnTo>
                    <a:pt x="34" y="4102"/>
                  </a:lnTo>
                  <a:lnTo>
                    <a:pt x="34" y="4097"/>
                  </a:lnTo>
                  <a:lnTo>
                    <a:pt x="29" y="4097"/>
                  </a:lnTo>
                  <a:lnTo>
                    <a:pt x="29" y="4091"/>
                  </a:lnTo>
                  <a:lnTo>
                    <a:pt x="22" y="4091"/>
                  </a:lnTo>
                  <a:lnTo>
                    <a:pt x="22" y="4086"/>
                  </a:lnTo>
                  <a:lnTo>
                    <a:pt x="17" y="4086"/>
                  </a:lnTo>
                  <a:lnTo>
                    <a:pt x="17" y="4069"/>
                  </a:lnTo>
                  <a:lnTo>
                    <a:pt x="12" y="4069"/>
                  </a:lnTo>
                  <a:lnTo>
                    <a:pt x="12" y="4051"/>
                  </a:lnTo>
                  <a:lnTo>
                    <a:pt x="6" y="4051"/>
                  </a:lnTo>
                  <a:lnTo>
                    <a:pt x="6" y="4034"/>
                  </a:lnTo>
                  <a:lnTo>
                    <a:pt x="0" y="4034"/>
                  </a:lnTo>
                  <a:lnTo>
                    <a:pt x="0" y="4005"/>
                  </a:lnTo>
                  <a:lnTo>
                    <a:pt x="6" y="4005"/>
                  </a:lnTo>
                  <a:lnTo>
                    <a:pt x="6" y="3994"/>
                  </a:lnTo>
                  <a:lnTo>
                    <a:pt x="12" y="3994"/>
                  </a:lnTo>
                  <a:lnTo>
                    <a:pt x="12" y="3988"/>
                  </a:lnTo>
                  <a:lnTo>
                    <a:pt x="17" y="3988"/>
                  </a:lnTo>
                  <a:lnTo>
                    <a:pt x="17" y="3983"/>
                  </a:lnTo>
                  <a:lnTo>
                    <a:pt x="22" y="3983"/>
                  </a:lnTo>
                  <a:lnTo>
                    <a:pt x="22" y="3977"/>
                  </a:lnTo>
                  <a:lnTo>
                    <a:pt x="29" y="3977"/>
                  </a:lnTo>
                  <a:lnTo>
                    <a:pt x="29" y="3972"/>
                  </a:lnTo>
                  <a:lnTo>
                    <a:pt x="34" y="3972"/>
                  </a:lnTo>
                  <a:lnTo>
                    <a:pt x="34" y="3965"/>
                  </a:lnTo>
                  <a:lnTo>
                    <a:pt x="39" y="3965"/>
                  </a:lnTo>
                  <a:lnTo>
                    <a:pt x="39" y="3960"/>
                  </a:lnTo>
                  <a:lnTo>
                    <a:pt x="46" y="3960"/>
                  </a:lnTo>
                  <a:lnTo>
                    <a:pt x="46" y="3948"/>
                  </a:lnTo>
                  <a:lnTo>
                    <a:pt x="57" y="3948"/>
                  </a:lnTo>
                  <a:lnTo>
                    <a:pt x="57" y="3943"/>
                  </a:lnTo>
                  <a:lnTo>
                    <a:pt x="63" y="3943"/>
                  </a:lnTo>
                  <a:lnTo>
                    <a:pt x="63" y="3938"/>
                  </a:lnTo>
                  <a:lnTo>
                    <a:pt x="69" y="3938"/>
                  </a:lnTo>
                  <a:lnTo>
                    <a:pt x="69" y="3926"/>
                  </a:lnTo>
                  <a:lnTo>
                    <a:pt x="74" y="3926"/>
                  </a:lnTo>
                  <a:lnTo>
                    <a:pt x="74" y="3920"/>
                  </a:lnTo>
                  <a:lnTo>
                    <a:pt x="79" y="3920"/>
                  </a:lnTo>
                  <a:lnTo>
                    <a:pt x="79" y="3915"/>
                  </a:lnTo>
                  <a:lnTo>
                    <a:pt x="86" y="3915"/>
                  </a:lnTo>
                  <a:lnTo>
                    <a:pt x="86" y="3909"/>
                  </a:lnTo>
                  <a:lnTo>
                    <a:pt x="91" y="3909"/>
                  </a:lnTo>
                  <a:lnTo>
                    <a:pt x="91" y="3891"/>
                  </a:lnTo>
                  <a:lnTo>
                    <a:pt x="96" y="3891"/>
                  </a:lnTo>
                  <a:lnTo>
                    <a:pt x="96" y="3881"/>
                  </a:lnTo>
                  <a:lnTo>
                    <a:pt x="103" y="3881"/>
                  </a:lnTo>
                  <a:lnTo>
                    <a:pt x="103" y="3863"/>
                  </a:lnTo>
                  <a:lnTo>
                    <a:pt x="108" y="3863"/>
                  </a:lnTo>
                  <a:lnTo>
                    <a:pt x="108" y="3852"/>
                  </a:lnTo>
                  <a:lnTo>
                    <a:pt x="114" y="3852"/>
                  </a:lnTo>
                  <a:lnTo>
                    <a:pt x="114" y="3841"/>
                  </a:lnTo>
                  <a:lnTo>
                    <a:pt x="120" y="3841"/>
                  </a:lnTo>
                  <a:lnTo>
                    <a:pt x="120" y="3834"/>
                  </a:lnTo>
                  <a:lnTo>
                    <a:pt x="125" y="3834"/>
                  </a:lnTo>
                  <a:lnTo>
                    <a:pt x="125" y="3829"/>
                  </a:lnTo>
                  <a:lnTo>
                    <a:pt x="131" y="3829"/>
                  </a:lnTo>
                  <a:lnTo>
                    <a:pt x="131" y="3824"/>
                  </a:lnTo>
                  <a:lnTo>
                    <a:pt x="136" y="3824"/>
                  </a:lnTo>
                  <a:lnTo>
                    <a:pt x="136" y="3812"/>
                  </a:lnTo>
                  <a:lnTo>
                    <a:pt x="143" y="3812"/>
                  </a:lnTo>
                  <a:lnTo>
                    <a:pt x="143" y="3800"/>
                  </a:lnTo>
                  <a:lnTo>
                    <a:pt x="148" y="3800"/>
                  </a:lnTo>
                  <a:lnTo>
                    <a:pt x="148" y="3789"/>
                  </a:lnTo>
                  <a:lnTo>
                    <a:pt x="153" y="3789"/>
                  </a:lnTo>
                  <a:lnTo>
                    <a:pt x="153" y="3784"/>
                  </a:lnTo>
                  <a:lnTo>
                    <a:pt x="160" y="3784"/>
                  </a:lnTo>
                  <a:lnTo>
                    <a:pt x="160" y="3777"/>
                  </a:lnTo>
                  <a:lnTo>
                    <a:pt x="165" y="3777"/>
                  </a:lnTo>
                  <a:lnTo>
                    <a:pt x="165" y="3767"/>
                  </a:lnTo>
                  <a:lnTo>
                    <a:pt x="171" y="3767"/>
                  </a:lnTo>
                  <a:lnTo>
                    <a:pt x="171" y="3755"/>
                  </a:lnTo>
                  <a:lnTo>
                    <a:pt x="177" y="3755"/>
                  </a:lnTo>
                  <a:lnTo>
                    <a:pt x="177" y="3743"/>
                  </a:lnTo>
                  <a:lnTo>
                    <a:pt x="182" y="3743"/>
                  </a:lnTo>
                  <a:lnTo>
                    <a:pt x="182" y="3738"/>
                  </a:lnTo>
                  <a:lnTo>
                    <a:pt x="188" y="3738"/>
                  </a:lnTo>
                  <a:lnTo>
                    <a:pt x="188" y="3732"/>
                  </a:lnTo>
                  <a:lnTo>
                    <a:pt x="193" y="3732"/>
                  </a:lnTo>
                  <a:lnTo>
                    <a:pt x="193" y="3727"/>
                  </a:lnTo>
                  <a:lnTo>
                    <a:pt x="200" y="3727"/>
                  </a:lnTo>
                  <a:lnTo>
                    <a:pt x="200" y="3720"/>
                  </a:lnTo>
                  <a:lnTo>
                    <a:pt x="210" y="3720"/>
                  </a:lnTo>
                  <a:lnTo>
                    <a:pt x="210" y="3715"/>
                  </a:lnTo>
                  <a:lnTo>
                    <a:pt x="217" y="3715"/>
                  </a:lnTo>
                  <a:lnTo>
                    <a:pt x="217" y="3710"/>
                  </a:lnTo>
                  <a:lnTo>
                    <a:pt x="222" y="3710"/>
                  </a:lnTo>
                  <a:lnTo>
                    <a:pt x="222" y="3703"/>
                  </a:lnTo>
                  <a:lnTo>
                    <a:pt x="228" y="3703"/>
                  </a:lnTo>
                  <a:lnTo>
                    <a:pt x="228" y="3698"/>
                  </a:lnTo>
                  <a:lnTo>
                    <a:pt x="234" y="3698"/>
                  </a:lnTo>
                  <a:lnTo>
                    <a:pt x="234" y="3693"/>
                  </a:lnTo>
                  <a:lnTo>
                    <a:pt x="239" y="3693"/>
                  </a:lnTo>
                  <a:lnTo>
                    <a:pt x="239" y="3687"/>
                  </a:lnTo>
                  <a:lnTo>
                    <a:pt x="250" y="3687"/>
                  </a:lnTo>
                  <a:lnTo>
                    <a:pt x="250" y="3682"/>
                  </a:lnTo>
                  <a:lnTo>
                    <a:pt x="257" y="3682"/>
                  </a:lnTo>
                  <a:lnTo>
                    <a:pt x="257" y="3675"/>
                  </a:lnTo>
                  <a:lnTo>
                    <a:pt x="267" y="3675"/>
                  </a:lnTo>
                  <a:lnTo>
                    <a:pt x="267" y="3670"/>
                  </a:lnTo>
                  <a:lnTo>
                    <a:pt x="274" y="3670"/>
                  </a:lnTo>
                  <a:lnTo>
                    <a:pt x="274" y="3665"/>
                  </a:lnTo>
                  <a:lnTo>
                    <a:pt x="296" y="3665"/>
                  </a:lnTo>
                  <a:lnTo>
                    <a:pt x="296" y="3658"/>
                  </a:lnTo>
                  <a:lnTo>
                    <a:pt x="312" y="3658"/>
                  </a:lnTo>
                  <a:lnTo>
                    <a:pt x="312" y="3653"/>
                  </a:lnTo>
                  <a:lnTo>
                    <a:pt x="324" y="3653"/>
                  </a:lnTo>
                  <a:lnTo>
                    <a:pt x="324" y="3647"/>
                  </a:lnTo>
                  <a:lnTo>
                    <a:pt x="330" y="3647"/>
                  </a:lnTo>
                  <a:lnTo>
                    <a:pt x="330" y="3641"/>
                  </a:lnTo>
                  <a:lnTo>
                    <a:pt x="336" y="3641"/>
                  </a:lnTo>
                  <a:lnTo>
                    <a:pt x="336" y="3636"/>
                  </a:lnTo>
                  <a:lnTo>
                    <a:pt x="342" y="3636"/>
                  </a:lnTo>
                  <a:lnTo>
                    <a:pt x="342" y="3630"/>
                  </a:lnTo>
                  <a:lnTo>
                    <a:pt x="347" y="3630"/>
                  </a:lnTo>
                  <a:lnTo>
                    <a:pt x="347" y="3625"/>
                  </a:lnTo>
                  <a:lnTo>
                    <a:pt x="353" y="3625"/>
                  </a:lnTo>
                  <a:lnTo>
                    <a:pt x="353" y="3613"/>
                  </a:lnTo>
                  <a:lnTo>
                    <a:pt x="359" y="3613"/>
                  </a:lnTo>
                  <a:lnTo>
                    <a:pt x="359" y="3608"/>
                  </a:lnTo>
                  <a:lnTo>
                    <a:pt x="364" y="3608"/>
                  </a:lnTo>
                  <a:lnTo>
                    <a:pt x="364" y="3601"/>
                  </a:lnTo>
                  <a:lnTo>
                    <a:pt x="369" y="3601"/>
                  </a:lnTo>
                  <a:lnTo>
                    <a:pt x="369" y="3596"/>
                  </a:lnTo>
                  <a:lnTo>
                    <a:pt x="376" y="3596"/>
                  </a:lnTo>
                  <a:lnTo>
                    <a:pt x="376" y="3590"/>
                  </a:lnTo>
                  <a:lnTo>
                    <a:pt x="381" y="3590"/>
                  </a:lnTo>
                  <a:lnTo>
                    <a:pt x="381" y="3584"/>
                  </a:lnTo>
                  <a:lnTo>
                    <a:pt x="387" y="3584"/>
                  </a:lnTo>
                  <a:lnTo>
                    <a:pt x="387" y="3579"/>
                  </a:lnTo>
                  <a:lnTo>
                    <a:pt x="393" y="3579"/>
                  </a:lnTo>
                  <a:lnTo>
                    <a:pt x="393" y="3573"/>
                  </a:lnTo>
                  <a:lnTo>
                    <a:pt x="404" y="3573"/>
                  </a:lnTo>
                  <a:lnTo>
                    <a:pt x="404" y="3567"/>
                  </a:lnTo>
                  <a:lnTo>
                    <a:pt x="410" y="3567"/>
                  </a:lnTo>
                  <a:lnTo>
                    <a:pt x="410" y="3561"/>
                  </a:lnTo>
                  <a:lnTo>
                    <a:pt x="416" y="3561"/>
                  </a:lnTo>
                  <a:lnTo>
                    <a:pt x="416" y="3556"/>
                  </a:lnTo>
                  <a:lnTo>
                    <a:pt x="421" y="3556"/>
                  </a:lnTo>
                  <a:lnTo>
                    <a:pt x="421" y="3551"/>
                  </a:lnTo>
                  <a:lnTo>
                    <a:pt x="426" y="3551"/>
                  </a:lnTo>
                  <a:lnTo>
                    <a:pt x="426" y="3544"/>
                  </a:lnTo>
                  <a:lnTo>
                    <a:pt x="433" y="3544"/>
                  </a:lnTo>
                  <a:lnTo>
                    <a:pt x="433" y="3539"/>
                  </a:lnTo>
                  <a:lnTo>
                    <a:pt x="438" y="3539"/>
                  </a:lnTo>
                  <a:lnTo>
                    <a:pt x="438" y="3534"/>
                  </a:lnTo>
                  <a:lnTo>
                    <a:pt x="444" y="3534"/>
                  </a:lnTo>
                  <a:lnTo>
                    <a:pt x="444" y="3527"/>
                  </a:lnTo>
                  <a:lnTo>
                    <a:pt x="450" y="3527"/>
                  </a:lnTo>
                  <a:lnTo>
                    <a:pt x="450" y="3522"/>
                  </a:lnTo>
                  <a:lnTo>
                    <a:pt x="455" y="3522"/>
                  </a:lnTo>
                  <a:lnTo>
                    <a:pt x="455" y="3516"/>
                  </a:lnTo>
                  <a:lnTo>
                    <a:pt x="467" y="3516"/>
                  </a:lnTo>
                  <a:lnTo>
                    <a:pt x="467" y="3510"/>
                  </a:lnTo>
                  <a:lnTo>
                    <a:pt x="473" y="3510"/>
                  </a:lnTo>
                  <a:lnTo>
                    <a:pt x="473" y="3505"/>
                  </a:lnTo>
                  <a:lnTo>
                    <a:pt x="483" y="3505"/>
                  </a:lnTo>
                  <a:lnTo>
                    <a:pt x="483" y="3499"/>
                  </a:lnTo>
                  <a:lnTo>
                    <a:pt x="490" y="3499"/>
                  </a:lnTo>
                  <a:lnTo>
                    <a:pt x="490" y="3494"/>
                  </a:lnTo>
                  <a:lnTo>
                    <a:pt x="501" y="3494"/>
                  </a:lnTo>
                  <a:lnTo>
                    <a:pt x="501" y="3487"/>
                  </a:lnTo>
                  <a:lnTo>
                    <a:pt x="507" y="3487"/>
                  </a:lnTo>
                  <a:lnTo>
                    <a:pt x="507" y="3482"/>
                  </a:lnTo>
                  <a:lnTo>
                    <a:pt x="512" y="3482"/>
                  </a:lnTo>
                  <a:lnTo>
                    <a:pt x="512" y="3477"/>
                  </a:lnTo>
                  <a:lnTo>
                    <a:pt x="518" y="3477"/>
                  </a:lnTo>
                  <a:lnTo>
                    <a:pt x="518" y="3470"/>
                  </a:lnTo>
                  <a:lnTo>
                    <a:pt x="524" y="3470"/>
                  </a:lnTo>
                  <a:lnTo>
                    <a:pt x="524" y="3465"/>
                  </a:lnTo>
                  <a:lnTo>
                    <a:pt x="530" y="3465"/>
                  </a:lnTo>
                  <a:lnTo>
                    <a:pt x="530" y="3459"/>
                  </a:lnTo>
                  <a:lnTo>
                    <a:pt x="535" y="3459"/>
                  </a:lnTo>
                  <a:lnTo>
                    <a:pt x="535" y="3453"/>
                  </a:lnTo>
                  <a:lnTo>
                    <a:pt x="540" y="3453"/>
                  </a:lnTo>
                  <a:lnTo>
                    <a:pt x="540" y="3448"/>
                  </a:lnTo>
                  <a:lnTo>
                    <a:pt x="547" y="3448"/>
                  </a:lnTo>
                  <a:lnTo>
                    <a:pt x="547" y="3442"/>
                  </a:lnTo>
                  <a:lnTo>
                    <a:pt x="552" y="3442"/>
                  </a:lnTo>
                  <a:lnTo>
                    <a:pt x="552" y="3437"/>
                  </a:lnTo>
                  <a:lnTo>
                    <a:pt x="558" y="3437"/>
                  </a:lnTo>
                  <a:lnTo>
                    <a:pt x="558" y="3425"/>
                  </a:lnTo>
                  <a:lnTo>
                    <a:pt x="564" y="3425"/>
                  </a:lnTo>
                  <a:lnTo>
                    <a:pt x="564" y="3420"/>
                  </a:lnTo>
                  <a:lnTo>
                    <a:pt x="569" y="3420"/>
                  </a:lnTo>
                  <a:lnTo>
                    <a:pt x="569" y="3413"/>
                  </a:lnTo>
                  <a:lnTo>
                    <a:pt x="575" y="3413"/>
                  </a:lnTo>
                  <a:lnTo>
                    <a:pt x="575" y="3408"/>
                  </a:lnTo>
                  <a:lnTo>
                    <a:pt x="581" y="3408"/>
                  </a:lnTo>
                  <a:lnTo>
                    <a:pt x="581" y="3402"/>
                  </a:lnTo>
                  <a:lnTo>
                    <a:pt x="587" y="3402"/>
                  </a:lnTo>
                  <a:lnTo>
                    <a:pt x="587" y="3396"/>
                  </a:lnTo>
                  <a:lnTo>
                    <a:pt x="592" y="3396"/>
                  </a:lnTo>
                  <a:lnTo>
                    <a:pt x="592" y="3391"/>
                  </a:lnTo>
                  <a:lnTo>
                    <a:pt x="598" y="3391"/>
                  </a:lnTo>
                  <a:lnTo>
                    <a:pt x="598" y="3385"/>
                  </a:lnTo>
                  <a:lnTo>
                    <a:pt x="604" y="3385"/>
                  </a:lnTo>
                  <a:lnTo>
                    <a:pt x="604" y="3380"/>
                  </a:lnTo>
                  <a:lnTo>
                    <a:pt x="615" y="3380"/>
                  </a:lnTo>
                  <a:lnTo>
                    <a:pt x="615" y="3373"/>
                  </a:lnTo>
                  <a:lnTo>
                    <a:pt x="621" y="3373"/>
                  </a:lnTo>
                  <a:lnTo>
                    <a:pt x="621" y="3368"/>
                  </a:lnTo>
                  <a:lnTo>
                    <a:pt x="626" y="3368"/>
                  </a:lnTo>
                  <a:lnTo>
                    <a:pt x="626" y="3363"/>
                  </a:lnTo>
                  <a:lnTo>
                    <a:pt x="638" y="3363"/>
                  </a:lnTo>
                  <a:lnTo>
                    <a:pt x="638" y="3356"/>
                  </a:lnTo>
                  <a:lnTo>
                    <a:pt x="644" y="3356"/>
                  </a:lnTo>
                  <a:lnTo>
                    <a:pt x="644" y="3351"/>
                  </a:lnTo>
                  <a:lnTo>
                    <a:pt x="649" y="3351"/>
                  </a:lnTo>
                  <a:lnTo>
                    <a:pt x="649" y="3345"/>
                  </a:lnTo>
                  <a:lnTo>
                    <a:pt x="661" y="3345"/>
                  </a:lnTo>
                  <a:lnTo>
                    <a:pt x="661" y="3339"/>
                  </a:lnTo>
                  <a:lnTo>
                    <a:pt x="666" y="3339"/>
                  </a:lnTo>
                  <a:lnTo>
                    <a:pt x="666" y="3334"/>
                  </a:lnTo>
                  <a:lnTo>
                    <a:pt x="678" y="3334"/>
                  </a:lnTo>
                  <a:lnTo>
                    <a:pt x="678" y="3328"/>
                  </a:lnTo>
                  <a:lnTo>
                    <a:pt x="683" y="3328"/>
                  </a:lnTo>
                  <a:lnTo>
                    <a:pt x="683" y="3323"/>
                  </a:lnTo>
                  <a:lnTo>
                    <a:pt x="689" y="3323"/>
                  </a:lnTo>
                  <a:lnTo>
                    <a:pt x="689" y="3316"/>
                  </a:lnTo>
                  <a:lnTo>
                    <a:pt x="695" y="3316"/>
                  </a:lnTo>
                  <a:lnTo>
                    <a:pt x="695" y="3311"/>
                  </a:lnTo>
                  <a:lnTo>
                    <a:pt x="701" y="3311"/>
                  </a:lnTo>
                  <a:lnTo>
                    <a:pt x="701" y="3306"/>
                  </a:lnTo>
                  <a:lnTo>
                    <a:pt x="706" y="3306"/>
                  </a:lnTo>
                  <a:lnTo>
                    <a:pt x="706" y="3299"/>
                  </a:lnTo>
                  <a:lnTo>
                    <a:pt x="711" y="3299"/>
                  </a:lnTo>
                  <a:lnTo>
                    <a:pt x="711" y="3294"/>
                  </a:lnTo>
                  <a:lnTo>
                    <a:pt x="723" y="3294"/>
                  </a:lnTo>
                  <a:lnTo>
                    <a:pt x="723" y="3289"/>
                  </a:lnTo>
                  <a:lnTo>
                    <a:pt x="728" y="3289"/>
                  </a:lnTo>
                  <a:lnTo>
                    <a:pt x="728" y="3283"/>
                  </a:lnTo>
                  <a:lnTo>
                    <a:pt x="740" y="3283"/>
                  </a:lnTo>
                  <a:lnTo>
                    <a:pt x="740" y="3278"/>
                  </a:lnTo>
                  <a:lnTo>
                    <a:pt x="746" y="3278"/>
                  </a:lnTo>
                  <a:lnTo>
                    <a:pt x="746" y="3271"/>
                  </a:lnTo>
                  <a:lnTo>
                    <a:pt x="751" y="3271"/>
                  </a:lnTo>
                  <a:lnTo>
                    <a:pt x="751" y="3266"/>
                  </a:lnTo>
                  <a:lnTo>
                    <a:pt x="763" y="3266"/>
                  </a:lnTo>
                  <a:lnTo>
                    <a:pt x="763" y="3261"/>
                  </a:lnTo>
                  <a:lnTo>
                    <a:pt x="768" y="3261"/>
                  </a:lnTo>
                  <a:lnTo>
                    <a:pt x="768" y="3254"/>
                  </a:lnTo>
                  <a:lnTo>
                    <a:pt x="780" y="3254"/>
                  </a:lnTo>
                  <a:lnTo>
                    <a:pt x="780" y="3249"/>
                  </a:lnTo>
                  <a:lnTo>
                    <a:pt x="785" y="3249"/>
                  </a:lnTo>
                  <a:lnTo>
                    <a:pt x="785" y="3243"/>
                  </a:lnTo>
                  <a:lnTo>
                    <a:pt x="791" y="3243"/>
                  </a:lnTo>
                  <a:lnTo>
                    <a:pt x="791" y="3237"/>
                  </a:lnTo>
                  <a:lnTo>
                    <a:pt x="797" y="3237"/>
                  </a:lnTo>
                  <a:lnTo>
                    <a:pt x="797" y="3232"/>
                  </a:lnTo>
                  <a:lnTo>
                    <a:pt x="803" y="3232"/>
                  </a:lnTo>
                  <a:lnTo>
                    <a:pt x="803" y="3226"/>
                  </a:lnTo>
                  <a:lnTo>
                    <a:pt x="808" y="3226"/>
                  </a:lnTo>
                  <a:lnTo>
                    <a:pt x="808" y="3220"/>
                  </a:lnTo>
                  <a:lnTo>
                    <a:pt x="814" y="3220"/>
                  </a:lnTo>
                  <a:lnTo>
                    <a:pt x="814" y="3214"/>
                  </a:lnTo>
                  <a:lnTo>
                    <a:pt x="820" y="3214"/>
                  </a:lnTo>
                  <a:lnTo>
                    <a:pt x="820" y="3209"/>
                  </a:lnTo>
                  <a:lnTo>
                    <a:pt x="825" y="3209"/>
                  </a:lnTo>
                  <a:lnTo>
                    <a:pt x="825" y="3204"/>
                  </a:lnTo>
                  <a:lnTo>
                    <a:pt x="832" y="3204"/>
                  </a:lnTo>
                  <a:lnTo>
                    <a:pt x="832" y="3197"/>
                  </a:lnTo>
                  <a:lnTo>
                    <a:pt x="837" y="3197"/>
                  </a:lnTo>
                  <a:lnTo>
                    <a:pt x="837" y="3192"/>
                  </a:lnTo>
                  <a:lnTo>
                    <a:pt x="842" y="3192"/>
                  </a:lnTo>
                  <a:lnTo>
                    <a:pt x="842" y="3186"/>
                  </a:lnTo>
                  <a:lnTo>
                    <a:pt x="848" y="3186"/>
                  </a:lnTo>
                  <a:lnTo>
                    <a:pt x="848" y="3180"/>
                  </a:lnTo>
                  <a:lnTo>
                    <a:pt x="854" y="3180"/>
                  </a:lnTo>
                  <a:lnTo>
                    <a:pt x="854" y="3175"/>
                  </a:lnTo>
                  <a:lnTo>
                    <a:pt x="860" y="3175"/>
                  </a:lnTo>
                  <a:lnTo>
                    <a:pt x="860" y="3169"/>
                  </a:lnTo>
                  <a:lnTo>
                    <a:pt x="865" y="3169"/>
                  </a:lnTo>
                  <a:lnTo>
                    <a:pt x="865" y="3157"/>
                  </a:lnTo>
                  <a:lnTo>
                    <a:pt x="871" y="3157"/>
                  </a:lnTo>
                  <a:lnTo>
                    <a:pt x="871" y="3152"/>
                  </a:lnTo>
                  <a:lnTo>
                    <a:pt x="877" y="3152"/>
                  </a:lnTo>
                  <a:lnTo>
                    <a:pt x="877" y="3147"/>
                  </a:lnTo>
                  <a:lnTo>
                    <a:pt x="882" y="3147"/>
                  </a:lnTo>
                  <a:lnTo>
                    <a:pt x="882" y="3140"/>
                  </a:lnTo>
                  <a:lnTo>
                    <a:pt x="889" y="3140"/>
                  </a:lnTo>
                  <a:lnTo>
                    <a:pt x="889" y="3130"/>
                  </a:lnTo>
                  <a:lnTo>
                    <a:pt x="894" y="3130"/>
                  </a:lnTo>
                  <a:lnTo>
                    <a:pt x="894" y="3123"/>
                  </a:lnTo>
                  <a:lnTo>
                    <a:pt x="899" y="3123"/>
                  </a:lnTo>
                  <a:lnTo>
                    <a:pt x="899" y="3118"/>
                  </a:lnTo>
                  <a:lnTo>
                    <a:pt x="905" y="3118"/>
                  </a:lnTo>
                  <a:lnTo>
                    <a:pt x="905" y="3112"/>
                  </a:lnTo>
                  <a:lnTo>
                    <a:pt x="917" y="3112"/>
                  </a:lnTo>
                  <a:lnTo>
                    <a:pt x="917" y="3106"/>
                  </a:lnTo>
                  <a:lnTo>
                    <a:pt x="922" y="3106"/>
                  </a:lnTo>
                  <a:lnTo>
                    <a:pt x="922" y="3095"/>
                  </a:lnTo>
                  <a:lnTo>
                    <a:pt x="928" y="3095"/>
                  </a:lnTo>
                  <a:lnTo>
                    <a:pt x="928" y="3090"/>
                  </a:lnTo>
                  <a:lnTo>
                    <a:pt x="934" y="3090"/>
                  </a:lnTo>
                  <a:lnTo>
                    <a:pt x="934" y="3083"/>
                  </a:lnTo>
                  <a:lnTo>
                    <a:pt x="939" y="3083"/>
                  </a:lnTo>
                  <a:lnTo>
                    <a:pt x="939" y="3073"/>
                  </a:lnTo>
                  <a:lnTo>
                    <a:pt x="946" y="3073"/>
                  </a:lnTo>
                  <a:lnTo>
                    <a:pt x="946" y="3066"/>
                  </a:lnTo>
                  <a:lnTo>
                    <a:pt x="951" y="3066"/>
                  </a:lnTo>
                  <a:lnTo>
                    <a:pt x="951" y="3055"/>
                  </a:lnTo>
                  <a:lnTo>
                    <a:pt x="956" y="3055"/>
                  </a:lnTo>
                  <a:lnTo>
                    <a:pt x="956" y="3049"/>
                  </a:lnTo>
                  <a:lnTo>
                    <a:pt x="962" y="3049"/>
                  </a:lnTo>
                  <a:lnTo>
                    <a:pt x="962" y="3038"/>
                  </a:lnTo>
                  <a:lnTo>
                    <a:pt x="968" y="3038"/>
                  </a:lnTo>
                  <a:lnTo>
                    <a:pt x="968" y="3033"/>
                  </a:lnTo>
                  <a:lnTo>
                    <a:pt x="974" y="3033"/>
                  </a:lnTo>
                  <a:lnTo>
                    <a:pt x="974" y="3021"/>
                  </a:lnTo>
                  <a:lnTo>
                    <a:pt x="979" y="3021"/>
                  </a:lnTo>
                  <a:lnTo>
                    <a:pt x="979" y="3009"/>
                  </a:lnTo>
                  <a:lnTo>
                    <a:pt x="985" y="3009"/>
                  </a:lnTo>
                  <a:lnTo>
                    <a:pt x="985" y="2987"/>
                  </a:lnTo>
                  <a:lnTo>
                    <a:pt x="991" y="2987"/>
                  </a:lnTo>
                  <a:lnTo>
                    <a:pt x="991" y="2964"/>
                  </a:lnTo>
                  <a:lnTo>
                    <a:pt x="996" y="2964"/>
                  </a:lnTo>
                  <a:lnTo>
                    <a:pt x="996" y="2935"/>
                  </a:lnTo>
                  <a:lnTo>
                    <a:pt x="1003" y="2935"/>
                  </a:lnTo>
                  <a:lnTo>
                    <a:pt x="1003" y="2919"/>
                  </a:lnTo>
                  <a:lnTo>
                    <a:pt x="996" y="2919"/>
                  </a:lnTo>
                  <a:lnTo>
                    <a:pt x="996" y="2895"/>
                  </a:lnTo>
                  <a:lnTo>
                    <a:pt x="1003" y="2895"/>
                  </a:lnTo>
                  <a:lnTo>
                    <a:pt x="1003" y="2726"/>
                  </a:lnTo>
                  <a:lnTo>
                    <a:pt x="996" y="2726"/>
                  </a:lnTo>
                  <a:lnTo>
                    <a:pt x="996" y="2674"/>
                  </a:lnTo>
                  <a:lnTo>
                    <a:pt x="991" y="2674"/>
                  </a:lnTo>
                  <a:lnTo>
                    <a:pt x="991" y="2622"/>
                  </a:lnTo>
                  <a:lnTo>
                    <a:pt x="985" y="2622"/>
                  </a:lnTo>
                  <a:lnTo>
                    <a:pt x="985" y="2555"/>
                  </a:lnTo>
                  <a:lnTo>
                    <a:pt x="979" y="2555"/>
                  </a:lnTo>
                  <a:lnTo>
                    <a:pt x="979" y="2514"/>
                  </a:lnTo>
                  <a:lnTo>
                    <a:pt x="974" y="2514"/>
                  </a:lnTo>
                  <a:lnTo>
                    <a:pt x="974" y="2474"/>
                  </a:lnTo>
                  <a:lnTo>
                    <a:pt x="979" y="2474"/>
                  </a:lnTo>
                  <a:lnTo>
                    <a:pt x="979" y="2446"/>
                  </a:lnTo>
                  <a:lnTo>
                    <a:pt x="974" y="2446"/>
                  </a:lnTo>
                  <a:lnTo>
                    <a:pt x="974" y="2435"/>
                  </a:lnTo>
                  <a:lnTo>
                    <a:pt x="979" y="2435"/>
                  </a:lnTo>
                  <a:lnTo>
                    <a:pt x="979" y="2396"/>
                  </a:lnTo>
                  <a:lnTo>
                    <a:pt x="974" y="2396"/>
                  </a:lnTo>
                  <a:lnTo>
                    <a:pt x="974" y="2349"/>
                  </a:lnTo>
                  <a:lnTo>
                    <a:pt x="979" y="2349"/>
                  </a:lnTo>
                  <a:lnTo>
                    <a:pt x="979" y="2321"/>
                  </a:lnTo>
                  <a:lnTo>
                    <a:pt x="974" y="2321"/>
                  </a:lnTo>
                  <a:lnTo>
                    <a:pt x="974" y="2304"/>
                  </a:lnTo>
                  <a:lnTo>
                    <a:pt x="968" y="2304"/>
                  </a:lnTo>
                  <a:lnTo>
                    <a:pt x="968" y="2270"/>
                  </a:lnTo>
                  <a:lnTo>
                    <a:pt x="974" y="2270"/>
                  </a:lnTo>
                  <a:lnTo>
                    <a:pt x="974" y="2258"/>
                  </a:lnTo>
                  <a:lnTo>
                    <a:pt x="979" y="2258"/>
                  </a:lnTo>
                  <a:lnTo>
                    <a:pt x="979" y="2247"/>
                  </a:lnTo>
                  <a:lnTo>
                    <a:pt x="985" y="2247"/>
                  </a:lnTo>
                  <a:lnTo>
                    <a:pt x="985" y="2236"/>
                  </a:lnTo>
                  <a:lnTo>
                    <a:pt x="991" y="2236"/>
                  </a:lnTo>
                  <a:lnTo>
                    <a:pt x="991" y="2225"/>
                  </a:lnTo>
                  <a:lnTo>
                    <a:pt x="996" y="2225"/>
                  </a:lnTo>
                  <a:lnTo>
                    <a:pt x="996" y="2213"/>
                  </a:lnTo>
                  <a:lnTo>
                    <a:pt x="1003" y="2213"/>
                  </a:lnTo>
                  <a:lnTo>
                    <a:pt x="1003" y="2208"/>
                  </a:lnTo>
                  <a:lnTo>
                    <a:pt x="1008" y="2208"/>
                  </a:lnTo>
                  <a:lnTo>
                    <a:pt x="1008" y="2201"/>
                  </a:lnTo>
                  <a:lnTo>
                    <a:pt x="1013" y="2201"/>
                  </a:lnTo>
                  <a:lnTo>
                    <a:pt x="1013" y="2196"/>
                  </a:lnTo>
                  <a:lnTo>
                    <a:pt x="1019" y="2196"/>
                  </a:lnTo>
                  <a:lnTo>
                    <a:pt x="1019" y="2190"/>
                  </a:lnTo>
                  <a:lnTo>
                    <a:pt x="1025" y="2190"/>
                  </a:lnTo>
                  <a:lnTo>
                    <a:pt x="1025" y="2184"/>
                  </a:lnTo>
                  <a:lnTo>
                    <a:pt x="1030" y="2184"/>
                  </a:lnTo>
                  <a:lnTo>
                    <a:pt x="1030" y="2179"/>
                  </a:lnTo>
                  <a:lnTo>
                    <a:pt x="1036" y="2179"/>
                  </a:lnTo>
                  <a:lnTo>
                    <a:pt x="1036" y="2173"/>
                  </a:lnTo>
                  <a:lnTo>
                    <a:pt x="1042" y="2173"/>
                  </a:lnTo>
                  <a:lnTo>
                    <a:pt x="1042" y="2167"/>
                  </a:lnTo>
                  <a:lnTo>
                    <a:pt x="1048" y="2167"/>
                  </a:lnTo>
                  <a:lnTo>
                    <a:pt x="1048" y="2156"/>
                  </a:lnTo>
                  <a:lnTo>
                    <a:pt x="1053" y="2156"/>
                  </a:lnTo>
                  <a:lnTo>
                    <a:pt x="1053" y="2151"/>
                  </a:lnTo>
                  <a:lnTo>
                    <a:pt x="1060" y="2151"/>
                  </a:lnTo>
                  <a:lnTo>
                    <a:pt x="1060" y="2139"/>
                  </a:lnTo>
                  <a:lnTo>
                    <a:pt x="1065" y="2139"/>
                  </a:lnTo>
                  <a:lnTo>
                    <a:pt x="1065" y="2133"/>
                  </a:lnTo>
                  <a:lnTo>
                    <a:pt x="1070" y="2133"/>
                  </a:lnTo>
                  <a:lnTo>
                    <a:pt x="1070" y="2127"/>
                  </a:lnTo>
                  <a:lnTo>
                    <a:pt x="1076" y="2127"/>
                  </a:lnTo>
                  <a:lnTo>
                    <a:pt x="1076" y="2122"/>
                  </a:lnTo>
                  <a:lnTo>
                    <a:pt x="1082" y="2122"/>
                  </a:lnTo>
                  <a:lnTo>
                    <a:pt x="1082" y="2116"/>
                  </a:lnTo>
                  <a:lnTo>
                    <a:pt x="1087" y="2116"/>
                  </a:lnTo>
                  <a:lnTo>
                    <a:pt x="1087" y="2110"/>
                  </a:lnTo>
                  <a:lnTo>
                    <a:pt x="1093" y="2110"/>
                  </a:lnTo>
                  <a:lnTo>
                    <a:pt x="1093" y="2099"/>
                  </a:lnTo>
                  <a:lnTo>
                    <a:pt x="1099" y="2099"/>
                  </a:lnTo>
                  <a:lnTo>
                    <a:pt x="1099" y="2094"/>
                  </a:lnTo>
                  <a:lnTo>
                    <a:pt x="1105" y="2094"/>
                  </a:lnTo>
                  <a:lnTo>
                    <a:pt x="1105" y="2082"/>
                  </a:lnTo>
                  <a:lnTo>
                    <a:pt x="1110" y="2082"/>
                  </a:lnTo>
                  <a:lnTo>
                    <a:pt x="1110" y="2077"/>
                  </a:lnTo>
                  <a:lnTo>
                    <a:pt x="1115" y="2077"/>
                  </a:lnTo>
                  <a:lnTo>
                    <a:pt x="1115" y="2070"/>
                  </a:lnTo>
                  <a:lnTo>
                    <a:pt x="1122" y="2070"/>
                  </a:lnTo>
                  <a:lnTo>
                    <a:pt x="1122" y="2059"/>
                  </a:lnTo>
                  <a:lnTo>
                    <a:pt x="1127" y="2059"/>
                  </a:lnTo>
                  <a:lnTo>
                    <a:pt x="1127" y="2054"/>
                  </a:lnTo>
                  <a:lnTo>
                    <a:pt x="1133" y="2054"/>
                  </a:lnTo>
                  <a:lnTo>
                    <a:pt x="1133" y="2049"/>
                  </a:lnTo>
                  <a:lnTo>
                    <a:pt x="1138" y="2049"/>
                  </a:lnTo>
                  <a:lnTo>
                    <a:pt x="1138" y="2042"/>
                  </a:lnTo>
                  <a:lnTo>
                    <a:pt x="1144" y="2042"/>
                  </a:lnTo>
                  <a:lnTo>
                    <a:pt x="1144" y="2037"/>
                  </a:lnTo>
                  <a:lnTo>
                    <a:pt x="1150" y="2037"/>
                  </a:lnTo>
                  <a:lnTo>
                    <a:pt x="1150" y="2031"/>
                  </a:lnTo>
                  <a:lnTo>
                    <a:pt x="1155" y="2031"/>
                  </a:lnTo>
                  <a:lnTo>
                    <a:pt x="1155" y="2025"/>
                  </a:lnTo>
                  <a:lnTo>
                    <a:pt x="1162" y="2025"/>
                  </a:lnTo>
                  <a:lnTo>
                    <a:pt x="1162" y="2020"/>
                  </a:lnTo>
                  <a:lnTo>
                    <a:pt x="1167" y="2020"/>
                  </a:lnTo>
                  <a:lnTo>
                    <a:pt x="1167" y="2014"/>
                  </a:lnTo>
                  <a:lnTo>
                    <a:pt x="1172" y="2014"/>
                  </a:lnTo>
                  <a:lnTo>
                    <a:pt x="1172" y="2008"/>
                  </a:lnTo>
                  <a:lnTo>
                    <a:pt x="1184" y="2008"/>
                  </a:lnTo>
                  <a:lnTo>
                    <a:pt x="1184" y="2002"/>
                  </a:lnTo>
                  <a:lnTo>
                    <a:pt x="1190" y="2002"/>
                  </a:lnTo>
                  <a:lnTo>
                    <a:pt x="1190" y="1997"/>
                  </a:lnTo>
                  <a:lnTo>
                    <a:pt x="1195" y="1997"/>
                  </a:lnTo>
                  <a:lnTo>
                    <a:pt x="1195" y="1992"/>
                  </a:lnTo>
                  <a:lnTo>
                    <a:pt x="1201" y="1992"/>
                  </a:lnTo>
                  <a:lnTo>
                    <a:pt x="1201" y="1985"/>
                  </a:lnTo>
                  <a:lnTo>
                    <a:pt x="1207" y="1985"/>
                  </a:lnTo>
                  <a:lnTo>
                    <a:pt x="1207" y="1974"/>
                  </a:lnTo>
                  <a:lnTo>
                    <a:pt x="1212" y="1974"/>
                  </a:lnTo>
                  <a:lnTo>
                    <a:pt x="1212" y="1968"/>
                  </a:lnTo>
                  <a:lnTo>
                    <a:pt x="1219" y="1968"/>
                  </a:lnTo>
                  <a:lnTo>
                    <a:pt x="1219" y="1957"/>
                  </a:lnTo>
                  <a:lnTo>
                    <a:pt x="1224" y="1957"/>
                  </a:lnTo>
                  <a:lnTo>
                    <a:pt x="1224" y="1951"/>
                  </a:lnTo>
                  <a:lnTo>
                    <a:pt x="1236" y="1951"/>
                  </a:lnTo>
                  <a:lnTo>
                    <a:pt x="1236" y="1945"/>
                  </a:lnTo>
                  <a:lnTo>
                    <a:pt x="1241" y="1945"/>
                  </a:lnTo>
                  <a:lnTo>
                    <a:pt x="1241" y="1940"/>
                  </a:lnTo>
                  <a:lnTo>
                    <a:pt x="1258" y="1940"/>
                  </a:lnTo>
                  <a:lnTo>
                    <a:pt x="1258" y="1935"/>
                  </a:lnTo>
                  <a:lnTo>
                    <a:pt x="1269" y="1935"/>
                  </a:lnTo>
                  <a:lnTo>
                    <a:pt x="1269" y="1928"/>
                  </a:lnTo>
                  <a:lnTo>
                    <a:pt x="1281" y="1928"/>
                  </a:lnTo>
                  <a:lnTo>
                    <a:pt x="1281" y="1923"/>
                  </a:lnTo>
                  <a:lnTo>
                    <a:pt x="1298" y="1923"/>
                  </a:lnTo>
                  <a:lnTo>
                    <a:pt x="1298" y="1917"/>
                  </a:lnTo>
                  <a:lnTo>
                    <a:pt x="1315" y="1917"/>
                  </a:lnTo>
                  <a:lnTo>
                    <a:pt x="1315" y="1911"/>
                  </a:lnTo>
                  <a:lnTo>
                    <a:pt x="1326" y="1911"/>
                  </a:lnTo>
                  <a:lnTo>
                    <a:pt x="1326" y="1906"/>
                  </a:lnTo>
                  <a:lnTo>
                    <a:pt x="1333" y="1906"/>
                  </a:lnTo>
                  <a:lnTo>
                    <a:pt x="1333" y="1900"/>
                  </a:lnTo>
                  <a:lnTo>
                    <a:pt x="1343" y="1900"/>
                  </a:lnTo>
                  <a:lnTo>
                    <a:pt x="1343" y="1894"/>
                  </a:lnTo>
                  <a:lnTo>
                    <a:pt x="1355" y="1894"/>
                  </a:lnTo>
                  <a:lnTo>
                    <a:pt x="1355" y="1888"/>
                  </a:lnTo>
                  <a:lnTo>
                    <a:pt x="1366" y="1888"/>
                  </a:lnTo>
                  <a:lnTo>
                    <a:pt x="1366" y="1883"/>
                  </a:lnTo>
                  <a:lnTo>
                    <a:pt x="1378" y="1883"/>
                  </a:lnTo>
                  <a:lnTo>
                    <a:pt x="1378" y="1877"/>
                  </a:lnTo>
                  <a:lnTo>
                    <a:pt x="1389" y="1877"/>
                  </a:lnTo>
                  <a:lnTo>
                    <a:pt x="1389" y="1871"/>
                  </a:lnTo>
                  <a:lnTo>
                    <a:pt x="1400" y="1871"/>
                  </a:lnTo>
                  <a:lnTo>
                    <a:pt x="1400" y="1866"/>
                  </a:lnTo>
                  <a:lnTo>
                    <a:pt x="1412" y="1866"/>
                  </a:lnTo>
                  <a:lnTo>
                    <a:pt x="1412" y="1861"/>
                  </a:lnTo>
                  <a:lnTo>
                    <a:pt x="1423" y="1861"/>
                  </a:lnTo>
                  <a:lnTo>
                    <a:pt x="1423" y="1854"/>
                  </a:lnTo>
                  <a:lnTo>
                    <a:pt x="1429" y="1854"/>
                  </a:lnTo>
                  <a:lnTo>
                    <a:pt x="1429" y="1849"/>
                  </a:lnTo>
                  <a:lnTo>
                    <a:pt x="1440" y="1849"/>
                  </a:lnTo>
                  <a:lnTo>
                    <a:pt x="1440" y="1843"/>
                  </a:lnTo>
                  <a:lnTo>
                    <a:pt x="1446" y="1843"/>
                  </a:lnTo>
                  <a:lnTo>
                    <a:pt x="1446" y="1837"/>
                  </a:lnTo>
                  <a:lnTo>
                    <a:pt x="1457" y="1837"/>
                  </a:lnTo>
                  <a:lnTo>
                    <a:pt x="1457" y="1832"/>
                  </a:lnTo>
                  <a:lnTo>
                    <a:pt x="1464" y="1832"/>
                  </a:lnTo>
                  <a:lnTo>
                    <a:pt x="1464" y="1826"/>
                  </a:lnTo>
                  <a:lnTo>
                    <a:pt x="1469" y="1826"/>
                  </a:lnTo>
                  <a:lnTo>
                    <a:pt x="1469" y="1820"/>
                  </a:lnTo>
                  <a:lnTo>
                    <a:pt x="1474" y="1820"/>
                  </a:lnTo>
                  <a:lnTo>
                    <a:pt x="1474" y="1814"/>
                  </a:lnTo>
                  <a:lnTo>
                    <a:pt x="1480" y="1814"/>
                  </a:lnTo>
                  <a:lnTo>
                    <a:pt x="1480" y="1809"/>
                  </a:lnTo>
                  <a:lnTo>
                    <a:pt x="1492" y="1809"/>
                  </a:lnTo>
                  <a:lnTo>
                    <a:pt x="1492" y="1804"/>
                  </a:lnTo>
                  <a:lnTo>
                    <a:pt x="1497" y="1804"/>
                  </a:lnTo>
                  <a:lnTo>
                    <a:pt x="1497" y="1797"/>
                  </a:lnTo>
                  <a:lnTo>
                    <a:pt x="1503" y="1797"/>
                  </a:lnTo>
                  <a:lnTo>
                    <a:pt x="1503" y="1792"/>
                  </a:lnTo>
                  <a:lnTo>
                    <a:pt x="1509" y="1792"/>
                  </a:lnTo>
                  <a:lnTo>
                    <a:pt x="1509" y="1786"/>
                  </a:lnTo>
                  <a:lnTo>
                    <a:pt x="1526" y="1786"/>
                  </a:lnTo>
                  <a:lnTo>
                    <a:pt x="1526" y="1780"/>
                  </a:lnTo>
                  <a:lnTo>
                    <a:pt x="1537" y="1780"/>
                  </a:lnTo>
                  <a:lnTo>
                    <a:pt x="1537" y="1775"/>
                  </a:lnTo>
                  <a:lnTo>
                    <a:pt x="1542" y="1775"/>
                  </a:lnTo>
                  <a:lnTo>
                    <a:pt x="1542" y="1769"/>
                  </a:lnTo>
                  <a:lnTo>
                    <a:pt x="1554" y="1769"/>
                  </a:lnTo>
                  <a:lnTo>
                    <a:pt x="1554" y="1763"/>
                  </a:lnTo>
                  <a:lnTo>
                    <a:pt x="1594" y="1763"/>
                  </a:lnTo>
                  <a:lnTo>
                    <a:pt x="1594" y="1757"/>
                  </a:lnTo>
                  <a:lnTo>
                    <a:pt x="1611" y="1757"/>
                  </a:lnTo>
                  <a:lnTo>
                    <a:pt x="1611" y="1752"/>
                  </a:lnTo>
                  <a:lnTo>
                    <a:pt x="1623" y="1752"/>
                  </a:lnTo>
                  <a:lnTo>
                    <a:pt x="1623" y="1747"/>
                  </a:lnTo>
                  <a:lnTo>
                    <a:pt x="1640" y="1747"/>
                  </a:lnTo>
                  <a:lnTo>
                    <a:pt x="1640" y="1740"/>
                  </a:lnTo>
                  <a:lnTo>
                    <a:pt x="1662" y="1740"/>
                  </a:lnTo>
                  <a:lnTo>
                    <a:pt x="1662" y="1735"/>
                  </a:lnTo>
                  <a:lnTo>
                    <a:pt x="1668" y="1735"/>
                  </a:lnTo>
                  <a:lnTo>
                    <a:pt x="1668" y="1729"/>
                  </a:lnTo>
                  <a:lnTo>
                    <a:pt x="1680" y="1729"/>
                  </a:lnTo>
                  <a:lnTo>
                    <a:pt x="1680" y="1723"/>
                  </a:lnTo>
                  <a:lnTo>
                    <a:pt x="1690" y="1723"/>
                  </a:lnTo>
                  <a:lnTo>
                    <a:pt x="1690" y="1718"/>
                  </a:lnTo>
                  <a:lnTo>
                    <a:pt x="1702" y="1718"/>
                  </a:lnTo>
                  <a:lnTo>
                    <a:pt x="1702" y="1712"/>
                  </a:lnTo>
                  <a:lnTo>
                    <a:pt x="1719" y="1712"/>
                  </a:lnTo>
                  <a:lnTo>
                    <a:pt x="1719" y="1706"/>
                  </a:lnTo>
                  <a:lnTo>
                    <a:pt x="1730" y="1706"/>
                  </a:lnTo>
                  <a:lnTo>
                    <a:pt x="1730" y="1700"/>
                  </a:lnTo>
                  <a:lnTo>
                    <a:pt x="1742" y="1700"/>
                  </a:lnTo>
                  <a:lnTo>
                    <a:pt x="1742" y="1695"/>
                  </a:lnTo>
                  <a:lnTo>
                    <a:pt x="1765" y="1695"/>
                  </a:lnTo>
                  <a:lnTo>
                    <a:pt x="1765" y="1690"/>
                  </a:lnTo>
                  <a:lnTo>
                    <a:pt x="1782" y="1690"/>
                  </a:lnTo>
                  <a:lnTo>
                    <a:pt x="1782" y="1683"/>
                  </a:lnTo>
                  <a:lnTo>
                    <a:pt x="1799" y="1683"/>
                  </a:lnTo>
                  <a:lnTo>
                    <a:pt x="1799" y="1678"/>
                  </a:lnTo>
                  <a:lnTo>
                    <a:pt x="1816" y="1678"/>
                  </a:lnTo>
                  <a:lnTo>
                    <a:pt x="1816" y="1673"/>
                  </a:lnTo>
                  <a:lnTo>
                    <a:pt x="1851" y="1673"/>
                  </a:lnTo>
                  <a:lnTo>
                    <a:pt x="1851" y="1666"/>
                  </a:lnTo>
                  <a:lnTo>
                    <a:pt x="1901" y="1666"/>
                  </a:lnTo>
                  <a:lnTo>
                    <a:pt x="1901" y="1661"/>
                  </a:lnTo>
                  <a:lnTo>
                    <a:pt x="1913" y="1661"/>
                  </a:lnTo>
                  <a:lnTo>
                    <a:pt x="1913" y="1655"/>
                  </a:lnTo>
                  <a:lnTo>
                    <a:pt x="1925" y="1655"/>
                  </a:lnTo>
                  <a:lnTo>
                    <a:pt x="1925" y="1650"/>
                  </a:lnTo>
                  <a:lnTo>
                    <a:pt x="1941" y="1650"/>
                  </a:lnTo>
                  <a:lnTo>
                    <a:pt x="1941" y="1645"/>
                  </a:lnTo>
                  <a:lnTo>
                    <a:pt x="1953" y="1645"/>
                  </a:lnTo>
                  <a:lnTo>
                    <a:pt x="1953" y="1638"/>
                  </a:lnTo>
                  <a:lnTo>
                    <a:pt x="1963" y="1638"/>
                  </a:lnTo>
                  <a:lnTo>
                    <a:pt x="1963" y="1633"/>
                  </a:lnTo>
                  <a:lnTo>
                    <a:pt x="1981" y="1633"/>
                  </a:lnTo>
                  <a:lnTo>
                    <a:pt x="1981" y="1627"/>
                  </a:lnTo>
                  <a:lnTo>
                    <a:pt x="1992" y="1627"/>
                  </a:lnTo>
                  <a:lnTo>
                    <a:pt x="1992" y="1621"/>
                  </a:lnTo>
                  <a:lnTo>
                    <a:pt x="2003" y="1621"/>
                  </a:lnTo>
                  <a:lnTo>
                    <a:pt x="2003" y="1616"/>
                  </a:lnTo>
                  <a:lnTo>
                    <a:pt x="2020" y="1616"/>
                  </a:lnTo>
                  <a:lnTo>
                    <a:pt x="2020" y="1610"/>
                  </a:lnTo>
                  <a:lnTo>
                    <a:pt x="2038" y="1610"/>
                  </a:lnTo>
                  <a:lnTo>
                    <a:pt x="2038" y="1604"/>
                  </a:lnTo>
                  <a:lnTo>
                    <a:pt x="2049" y="1604"/>
                  </a:lnTo>
                  <a:lnTo>
                    <a:pt x="2049" y="1598"/>
                  </a:lnTo>
                  <a:lnTo>
                    <a:pt x="2067" y="1598"/>
                  </a:lnTo>
                  <a:lnTo>
                    <a:pt x="2067" y="1593"/>
                  </a:lnTo>
                  <a:lnTo>
                    <a:pt x="2084" y="1593"/>
                  </a:lnTo>
                  <a:lnTo>
                    <a:pt x="2084" y="1588"/>
                  </a:lnTo>
                  <a:lnTo>
                    <a:pt x="2118" y="1588"/>
                  </a:lnTo>
                  <a:lnTo>
                    <a:pt x="2118" y="1581"/>
                  </a:lnTo>
                  <a:lnTo>
                    <a:pt x="2134" y="1581"/>
                  </a:lnTo>
                  <a:lnTo>
                    <a:pt x="2134" y="1576"/>
                  </a:lnTo>
                  <a:lnTo>
                    <a:pt x="2158" y="1576"/>
                  </a:lnTo>
                  <a:lnTo>
                    <a:pt x="2158" y="1570"/>
                  </a:lnTo>
                  <a:lnTo>
                    <a:pt x="2175" y="1570"/>
                  </a:lnTo>
                  <a:lnTo>
                    <a:pt x="2175" y="1564"/>
                  </a:lnTo>
                  <a:lnTo>
                    <a:pt x="2186" y="1564"/>
                  </a:lnTo>
                  <a:lnTo>
                    <a:pt x="2186" y="1559"/>
                  </a:lnTo>
                  <a:lnTo>
                    <a:pt x="2198" y="1559"/>
                  </a:lnTo>
                  <a:lnTo>
                    <a:pt x="2198" y="1553"/>
                  </a:lnTo>
                  <a:lnTo>
                    <a:pt x="2208" y="1553"/>
                  </a:lnTo>
                  <a:lnTo>
                    <a:pt x="2208" y="1547"/>
                  </a:lnTo>
                  <a:lnTo>
                    <a:pt x="2226" y="1547"/>
                  </a:lnTo>
                  <a:lnTo>
                    <a:pt x="2226" y="1541"/>
                  </a:lnTo>
                  <a:lnTo>
                    <a:pt x="2243" y="1541"/>
                  </a:lnTo>
                  <a:lnTo>
                    <a:pt x="2243" y="1536"/>
                  </a:lnTo>
                  <a:lnTo>
                    <a:pt x="2260" y="1536"/>
                  </a:lnTo>
                  <a:lnTo>
                    <a:pt x="2260" y="1530"/>
                  </a:lnTo>
                  <a:lnTo>
                    <a:pt x="2272" y="1530"/>
                  </a:lnTo>
                  <a:lnTo>
                    <a:pt x="2272" y="1524"/>
                  </a:lnTo>
                  <a:lnTo>
                    <a:pt x="2283" y="1524"/>
                  </a:lnTo>
                  <a:lnTo>
                    <a:pt x="2283" y="1519"/>
                  </a:lnTo>
                  <a:lnTo>
                    <a:pt x="2300" y="1519"/>
                  </a:lnTo>
                  <a:lnTo>
                    <a:pt x="2300" y="1513"/>
                  </a:lnTo>
                  <a:lnTo>
                    <a:pt x="2322" y="1513"/>
                  </a:lnTo>
                  <a:lnTo>
                    <a:pt x="2322" y="1507"/>
                  </a:lnTo>
                  <a:lnTo>
                    <a:pt x="2340" y="1507"/>
                  </a:lnTo>
                  <a:lnTo>
                    <a:pt x="2340" y="1502"/>
                  </a:lnTo>
                  <a:lnTo>
                    <a:pt x="2350" y="1502"/>
                  </a:lnTo>
                  <a:lnTo>
                    <a:pt x="2350" y="1496"/>
                  </a:lnTo>
                  <a:lnTo>
                    <a:pt x="2362" y="1496"/>
                  </a:lnTo>
                  <a:lnTo>
                    <a:pt x="2362" y="1490"/>
                  </a:lnTo>
                  <a:lnTo>
                    <a:pt x="2374" y="1490"/>
                  </a:lnTo>
                  <a:lnTo>
                    <a:pt x="2374" y="1484"/>
                  </a:lnTo>
                  <a:lnTo>
                    <a:pt x="2385" y="1484"/>
                  </a:lnTo>
                  <a:lnTo>
                    <a:pt x="2385" y="1479"/>
                  </a:lnTo>
                  <a:lnTo>
                    <a:pt x="2397" y="1479"/>
                  </a:lnTo>
                  <a:lnTo>
                    <a:pt x="2397" y="1473"/>
                  </a:lnTo>
                  <a:lnTo>
                    <a:pt x="2408" y="1473"/>
                  </a:lnTo>
                  <a:lnTo>
                    <a:pt x="2408" y="1467"/>
                  </a:lnTo>
                  <a:lnTo>
                    <a:pt x="2419" y="1467"/>
                  </a:lnTo>
                  <a:lnTo>
                    <a:pt x="2419" y="1462"/>
                  </a:lnTo>
                  <a:lnTo>
                    <a:pt x="2436" y="1462"/>
                  </a:lnTo>
                  <a:lnTo>
                    <a:pt x="2436" y="1457"/>
                  </a:lnTo>
                  <a:lnTo>
                    <a:pt x="2448" y="1457"/>
                  </a:lnTo>
                  <a:lnTo>
                    <a:pt x="2448" y="1450"/>
                  </a:lnTo>
                  <a:lnTo>
                    <a:pt x="2454" y="1450"/>
                  </a:lnTo>
                  <a:lnTo>
                    <a:pt x="2454" y="1445"/>
                  </a:lnTo>
                  <a:lnTo>
                    <a:pt x="2465" y="1445"/>
                  </a:lnTo>
                  <a:lnTo>
                    <a:pt x="2465" y="1439"/>
                  </a:lnTo>
                  <a:lnTo>
                    <a:pt x="2471" y="1439"/>
                  </a:lnTo>
                  <a:lnTo>
                    <a:pt x="2471" y="1433"/>
                  </a:lnTo>
                  <a:lnTo>
                    <a:pt x="2476" y="1433"/>
                  </a:lnTo>
                  <a:lnTo>
                    <a:pt x="2476" y="1428"/>
                  </a:lnTo>
                  <a:lnTo>
                    <a:pt x="2488" y="1428"/>
                  </a:lnTo>
                  <a:lnTo>
                    <a:pt x="2488" y="1422"/>
                  </a:lnTo>
                  <a:lnTo>
                    <a:pt x="2499" y="1422"/>
                  </a:lnTo>
                  <a:lnTo>
                    <a:pt x="2499" y="1416"/>
                  </a:lnTo>
                  <a:lnTo>
                    <a:pt x="2505" y="1416"/>
                  </a:lnTo>
                  <a:lnTo>
                    <a:pt x="2505" y="1410"/>
                  </a:lnTo>
                  <a:lnTo>
                    <a:pt x="2511" y="1410"/>
                  </a:lnTo>
                  <a:lnTo>
                    <a:pt x="2511" y="1405"/>
                  </a:lnTo>
                  <a:lnTo>
                    <a:pt x="2516" y="1405"/>
                  </a:lnTo>
                  <a:lnTo>
                    <a:pt x="2516" y="1400"/>
                  </a:lnTo>
                  <a:lnTo>
                    <a:pt x="2522" y="1400"/>
                  </a:lnTo>
                  <a:lnTo>
                    <a:pt x="2522" y="1393"/>
                  </a:lnTo>
                  <a:lnTo>
                    <a:pt x="2533" y="1393"/>
                  </a:lnTo>
                  <a:lnTo>
                    <a:pt x="2533" y="1388"/>
                  </a:lnTo>
                  <a:lnTo>
                    <a:pt x="2538" y="1388"/>
                  </a:lnTo>
                  <a:lnTo>
                    <a:pt x="2538" y="1382"/>
                  </a:lnTo>
                  <a:lnTo>
                    <a:pt x="2550" y="1382"/>
                  </a:lnTo>
                  <a:lnTo>
                    <a:pt x="2550" y="1376"/>
                  </a:lnTo>
                  <a:lnTo>
                    <a:pt x="2556" y="1376"/>
                  </a:lnTo>
                  <a:lnTo>
                    <a:pt x="2556" y="1371"/>
                  </a:lnTo>
                  <a:lnTo>
                    <a:pt x="2562" y="1371"/>
                  </a:lnTo>
                  <a:lnTo>
                    <a:pt x="2562" y="1365"/>
                  </a:lnTo>
                  <a:lnTo>
                    <a:pt x="2573" y="1365"/>
                  </a:lnTo>
                  <a:lnTo>
                    <a:pt x="2573" y="1359"/>
                  </a:lnTo>
                  <a:lnTo>
                    <a:pt x="2579" y="1359"/>
                  </a:lnTo>
                  <a:lnTo>
                    <a:pt x="2579" y="1353"/>
                  </a:lnTo>
                  <a:lnTo>
                    <a:pt x="2585" y="1353"/>
                  </a:lnTo>
                  <a:lnTo>
                    <a:pt x="2585" y="1348"/>
                  </a:lnTo>
                  <a:lnTo>
                    <a:pt x="2595" y="1348"/>
                  </a:lnTo>
                  <a:lnTo>
                    <a:pt x="2595" y="1343"/>
                  </a:lnTo>
                  <a:lnTo>
                    <a:pt x="2602" y="1343"/>
                  </a:lnTo>
                  <a:lnTo>
                    <a:pt x="2602" y="1336"/>
                  </a:lnTo>
                  <a:lnTo>
                    <a:pt x="2613" y="1336"/>
                  </a:lnTo>
                  <a:lnTo>
                    <a:pt x="2613" y="1331"/>
                  </a:lnTo>
                  <a:lnTo>
                    <a:pt x="2619" y="1331"/>
                  </a:lnTo>
                  <a:lnTo>
                    <a:pt x="2619" y="1325"/>
                  </a:lnTo>
                  <a:lnTo>
                    <a:pt x="2630" y="1325"/>
                  </a:lnTo>
                  <a:lnTo>
                    <a:pt x="2630" y="1319"/>
                  </a:lnTo>
                  <a:lnTo>
                    <a:pt x="2642" y="1319"/>
                  </a:lnTo>
                  <a:lnTo>
                    <a:pt x="2642" y="1314"/>
                  </a:lnTo>
                  <a:lnTo>
                    <a:pt x="2652" y="1314"/>
                  </a:lnTo>
                  <a:lnTo>
                    <a:pt x="2652" y="1308"/>
                  </a:lnTo>
                  <a:lnTo>
                    <a:pt x="2664" y="1308"/>
                  </a:lnTo>
                  <a:lnTo>
                    <a:pt x="2664" y="1302"/>
                  </a:lnTo>
                  <a:lnTo>
                    <a:pt x="2676" y="1302"/>
                  </a:lnTo>
                  <a:lnTo>
                    <a:pt x="2676" y="1296"/>
                  </a:lnTo>
                  <a:lnTo>
                    <a:pt x="2687" y="1296"/>
                  </a:lnTo>
                  <a:lnTo>
                    <a:pt x="2687" y="1291"/>
                  </a:lnTo>
                  <a:lnTo>
                    <a:pt x="2693" y="1291"/>
                  </a:lnTo>
                  <a:lnTo>
                    <a:pt x="2693" y="1286"/>
                  </a:lnTo>
                  <a:lnTo>
                    <a:pt x="2699" y="1286"/>
                  </a:lnTo>
                  <a:lnTo>
                    <a:pt x="2699" y="1279"/>
                  </a:lnTo>
                  <a:lnTo>
                    <a:pt x="2704" y="1279"/>
                  </a:lnTo>
                  <a:lnTo>
                    <a:pt x="2704" y="1274"/>
                  </a:lnTo>
                  <a:lnTo>
                    <a:pt x="2709" y="1274"/>
                  </a:lnTo>
                  <a:lnTo>
                    <a:pt x="2709" y="1268"/>
                  </a:lnTo>
                  <a:lnTo>
                    <a:pt x="2716" y="1268"/>
                  </a:lnTo>
                  <a:lnTo>
                    <a:pt x="2716" y="1262"/>
                  </a:lnTo>
                  <a:lnTo>
                    <a:pt x="2721" y="1262"/>
                  </a:lnTo>
                  <a:lnTo>
                    <a:pt x="2721" y="1257"/>
                  </a:lnTo>
                  <a:lnTo>
                    <a:pt x="2727" y="1257"/>
                  </a:lnTo>
                  <a:lnTo>
                    <a:pt x="2727" y="1251"/>
                  </a:lnTo>
                  <a:lnTo>
                    <a:pt x="2733" y="1251"/>
                  </a:lnTo>
                  <a:lnTo>
                    <a:pt x="2733" y="1246"/>
                  </a:lnTo>
                  <a:lnTo>
                    <a:pt x="2738" y="1246"/>
                  </a:lnTo>
                  <a:lnTo>
                    <a:pt x="2738" y="1239"/>
                  </a:lnTo>
                  <a:lnTo>
                    <a:pt x="2749" y="1239"/>
                  </a:lnTo>
                  <a:lnTo>
                    <a:pt x="2749" y="1234"/>
                  </a:lnTo>
                  <a:lnTo>
                    <a:pt x="2761" y="1234"/>
                  </a:lnTo>
                  <a:lnTo>
                    <a:pt x="2761" y="1229"/>
                  </a:lnTo>
                  <a:lnTo>
                    <a:pt x="2772" y="1229"/>
                  </a:lnTo>
                  <a:lnTo>
                    <a:pt x="2772" y="1223"/>
                  </a:lnTo>
                  <a:lnTo>
                    <a:pt x="2778" y="1223"/>
                  </a:lnTo>
                  <a:lnTo>
                    <a:pt x="2778" y="1217"/>
                  </a:lnTo>
                  <a:lnTo>
                    <a:pt x="2784" y="1217"/>
                  </a:lnTo>
                  <a:lnTo>
                    <a:pt x="2784" y="1212"/>
                  </a:lnTo>
                  <a:lnTo>
                    <a:pt x="2795" y="1212"/>
                  </a:lnTo>
                  <a:lnTo>
                    <a:pt x="2795" y="1206"/>
                  </a:lnTo>
                  <a:lnTo>
                    <a:pt x="2806" y="1206"/>
                  </a:lnTo>
                  <a:lnTo>
                    <a:pt x="2806" y="1200"/>
                  </a:lnTo>
                  <a:lnTo>
                    <a:pt x="2813" y="1200"/>
                  </a:lnTo>
                  <a:lnTo>
                    <a:pt x="2813" y="1194"/>
                  </a:lnTo>
                  <a:lnTo>
                    <a:pt x="2823" y="1194"/>
                  </a:lnTo>
                  <a:lnTo>
                    <a:pt x="2823" y="1189"/>
                  </a:lnTo>
                  <a:lnTo>
                    <a:pt x="2835" y="1189"/>
                  </a:lnTo>
                  <a:lnTo>
                    <a:pt x="2835" y="1183"/>
                  </a:lnTo>
                  <a:lnTo>
                    <a:pt x="2846" y="1183"/>
                  </a:lnTo>
                  <a:lnTo>
                    <a:pt x="2846" y="1177"/>
                  </a:lnTo>
                  <a:lnTo>
                    <a:pt x="2852" y="1177"/>
                  </a:lnTo>
                  <a:lnTo>
                    <a:pt x="2852" y="1172"/>
                  </a:lnTo>
                  <a:lnTo>
                    <a:pt x="2863" y="1172"/>
                  </a:lnTo>
                  <a:lnTo>
                    <a:pt x="2863" y="1166"/>
                  </a:lnTo>
                  <a:lnTo>
                    <a:pt x="2875" y="1166"/>
                  </a:lnTo>
                  <a:lnTo>
                    <a:pt x="2875" y="1160"/>
                  </a:lnTo>
                  <a:lnTo>
                    <a:pt x="2886" y="1160"/>
                  </a:lnTo>
                  <a:lnTo>
                    <a:pt x="2886" y="1155"/>
                  </a:lnTo>
                  <a:lnTo>
                    <a:pt x="2892" y="1155"/>
                  </a:lnTo>
                  <a:lnTo>
                    <a:pt x="2892" y="1149"/>
                  </a:lnTo>
                  <a:lnTo>
                    <a:pt x="2909" y="1149"/>
                  </a:lnTo>
                  <a:lnTo>
                    <a:pt x="2909" y="1143"/>
                  </a:lnTo>
                  <a:lnTo>
                    <a:pt x="2915" y="1143"/>
                  </a:lnTo>
                  <a:lnTo>
                    <a:pt x="2915" y="1137"/>
                  </a:lnTo>
                  <a:lnTo>
                    <a:pt x="2926" y="1137"/>
                  </a:lnTo>
                  <a:lnTo>
                    <a:pt x="2926" y="1132"/>
                  </a:lnTo>
                  <a:lnTo>
                    <a:pt x="2932" y="1132"/>
                  </a:lnTo>
                  <a:lnTo>
                    <a:pt x="2932" y="1126"/>
                  </a:lnTo>
                  <a:lnTo>
                    <a:pt x="2943" y="1126"/>
                  </a:lnTo>
                  <a:lnTo>
                    <a:pt x="2943" y="1120"/>
                  </a:lnTo>
                  <a:lnTo>
                    <a:pt x="2949" y="1120"/>
                  </a:lnTo>
                  <a:lnTo>
                    <a:pt x="2949" y="1115"/>
                  </a:lnTo>
                  <a:lnTo>
                    <a:pt x="2960" y="1115"/>
                  </a:lnTo>
                  <a:lnTo>
                    <a:pt x="2960" y="1109"/>
                  </a:lnTo>
                  <a:lnTo>
                    <a:pt x="2972" y="1109"/>
                  </a:lnTo>
                  <a:lnTo>
                    <a:pt x="2972" y="1103"/>
                  </a:lnTo>
                  <a:lnTo>
                    <a:pt x="2977" y="1103"/>
                  </a:lnTo>
                  <a:lnTo>
                    <a:pt x="2977" y="1098"/>
                  </a:lnTo>
                  <a:lnTo>
                    <a:pt x="2983" y="1098"/>
                  </a:lnTo>
                  <a:lnTo>
                    <a:pt x="2983" y="1092"/>
                  </a:lnTo>
                  <a:lnTo>
                    <a:pt x="2994" y="1092"/>
                  </a:lnTo>
                  <a:lnTo>
                    <a:pt x="2994" y="1086"/>
                  </a:lnTo>
                  <a:lnTo>
                    <a:pt x="3006" y="1086"/>
                  </a:lnTo>
                  <a:lnTo>
                    <a:pt x="3006" y="1080"/>
                  </a:lnTo>
                  <a:lnTo>
                    <a:pt x="3011" y="1080"/>
                  </a:lnTo>
                  <a:lnTo>
                    <a:pt x="3011" y="1075"/>
                  </a:lnTo>
                  <a:lnTo>
                    <a:pt x="3017" y="1075"/>
                  </a:lnTo>
                  <a:lnTo>
                    <a:pt x="3017" y="1069"/>
                  </a:lnTo>
                  <a:lnTo>
                    <a:pt x="3029" y="1069"/>
                  </a:lnTo>
                  <a:lnTo>
                    <a:pt x="3029" y="1063"/>
                  </a:lnTo>
                  <a:lnTo>
                    <a:pt x="3034" y="1063"/>
                  </a:lnTo>
                  <a:lnTo>
                    <a:pt x="3034" y="1058"/>
                  </a:lnTo>
                  <a:lnTo>
                    <a:pt x="3040" y="1058"/>
                  </a:lnTo>
                  <a:lnTo>
                    <a:pt x="3040" y="1053"/>
                  </a:lnTo>
                  <a:lnTo>
                    <a:pt x="3051" y="1053"/>
                  </a:lnTo>
                  <a:lnTo>
                    <a:pt x="3051" y="1046"/>
                  </a:lnTo>
                  <a:lnTo>
                    <a:pt x="3058" y="1046"/>
                  </a:lnTo>
                  <a:lnTo>
                    <a:pt x="3058" y="1041"/>
                  </a:lnTo>
                  <a:lnTo>
                    <a:pt x="3068" y="1041"/>
                  </a:lnTo>
                  <a:lnTo>
                    <a:pt x="3068" y="1035"/>
                  </a:lnTo>
                  <a:lnTo>
                    <a:pt x="3074" y="1035"/>
                  </a:lnTo>
                  <a:lnTo>
                    <a:pt x="3074" y="1029"/>
                  </a:lnTo>
                  <a:lnTo>
                    <a:pt x="3086" y="1029"/>
                  </a:lnTo>
                  <a:lnTo>
                    <a:pt x="3086" y="1024"/>
                  </a:lnTo>
                  <a:lnTo>
                    <a:pt x="3091" y="1024"/>
                  </a:lnTo>
                  <a:lnTo>
                    <a:pt x="3091" y="1018"/>
                  </a:lnTo>
                  <a:lnTo>
                    <a:pt x="3097" y="1018"/>
                  </a:lnTo>
                  <a:lnTo>
                    <a:pt x="3097" y="1012"/>
                  </a:lnTo>
                  <a:lnTo>
                    <a:pt x="3108" y="1012"/>
                  </a:lnTo>
                  <a:lnTo>
                    <a:pt x="3108" y="1006"/>
                  </a:lnTo>
                  <a:lnTo>
                    <a:pt x="3115" y="1006"/>
                  </a:lnTo>
                  <a:lnTo>
                    <a:pt x="3115" y="1001"/>
                  </a:lnTo>
                  <a:lnTo>
                    <a:pt x="3120" y="1001"/>
                  </a:lnTo>
                  <a:lnTo>
                    <a:pt x="3120" y="996"/>
                  </a:lnTo>
                  <a:lnTo>
                    <a:pt x="3125" y="996"/>
                  </a:lnTo>
                  <a:lnTo>
                    <a:pt x="3125" y="989"/>
                  </a:lnTo>
                  <a:lnTo>
                    <a:pt x="3131" y="989"/>
                  </a:lnTo>
                  <a:lnTo>
                    <a:pt x="3131" y="984"/>
                  </a:lnTo>
                  <a:lnTo>
                    <a:pt x="3143" y="984"/>
                  </a:lnTo>
                  <a:lnTo>
                    <a:pt x="3143" y="978"/>
                  </a:lnTo>
                  <a:lnTo>
                    <a:pt x="3148" y="978"/>
                  </a:lnTo>
                  <a:lnTo>
                    <a:pt x="3148" y="972"/>
                  </a:lnTo>
                  <a:lnTo>
                    <a:pt x="3160" y="972"/>
                  </a:lnTo>
                  <a:lnTo>
                    <a:pt x="3160" y="967"/>
                  </a:lnTo>
                  <a:lnTo>
                    <a:pt x="3170" y="967"/>
                  </a:lnTo>
                  <a:lnTo>
                    <a:pt x="3170" y="961"/>
                  </a:lnTo>
                  <a:lnTo>
                    <a:pt x="3176" y="961"/>
                  </a:lnTo>
                  <a:lnTo>
                    <a:pt x="3176" y="955"/>
                  </a:lnTo>
                  <a:lnTo>
                    <a:pt x="3182" y="955"/>
                  </a:lnTo>
                  <a:lnTo>
                    <a:pt x="3182" y="949"/>
                  </a:lnTo>
                  <a:lnTo>
                    <a:pt x="3188" y="949"/>
                  </a:lnTo>
                  <a:lnTo>
                    <a:pt x="3188" y="944"/>
                  </a:lnTo>
                  <a:lnTo>
                    <a:pt x="3193" y="944"/>
                  </a:lnTo>
                  <a:lnTo>
                    <a:pt x="3193" y="939"/>
                  </a:lnTo>
                  <a:lnTo>
                    <a:pt x="3199" y="939"/>
                  </a:lnTo>
                  <a:lnTo>
                    <a:pt x="3199" y="932"/>
                  </a:lnTo>
                  <a:lnTo>
                    <a:pt x="3210" y="932"/>
                  </a:lnTo>
                  <a:lnTo>
                    <a:pt x="3210" y="927"/>
                  </a:lnTo>
                  <a:lnTo>
                    <a:pt x="3217" y="927"/>
                  </a:lnTo>
                  <a:lnTo>
                    <a:pt x="3217" y="921"/>
                  </a:lnTo>
                  <a:lnTo>
                    <a:pt x="3222" y="921"/>
                  </a:lnTo>
                  <a:lnTo>
                    <a:pt x="3222" y="915"/>
                  </a:lnTo>
                  <a:lnTo>
                    <a:pt x="3227" y="915"/>
                  </a:lnTo>
                  <a:lnTo>
                    <a:pt x="3227" y="910"/>
                  </a:lnTo>
                  <a:lnTo>
                    <a:pt x="3233" y="910"/>
                  </a:lnTo>
                  <a:lnTo>
                    <a:pt x="3233" y="904"/>
                  </a:lnTo>
                  <a:lnTo>
                    <a:pt x="3239" y="904"/>
                  </a:lnTo>
                  <a:lnTo>
                    <a:pt x="3239" y="898"/>
                  </a:lnTo>
                  <a:lnTo>
                    <a:pt x="3245" y="898"/>
                  </a:lnTo>
                  <a:lnTo>
                    <a:pt x="3245" y="892"/>
                  </a:lnTo>
                  <a:lnTo>
                    <a:pt x="3250" y="892"/>
                  </a:lnTo>
                  <a:lnTo>
                    <a:pt x="3250" y="882"/>
                  </a:lnTo>
                  <a:lnTo>
                    <a:pt x="3262" y="882"/>
                  </a:lnTo>
                  <a:lnTo>
                    <a:pt x="3262" y="875"/>
                  </a:lnTo>
                  <a:lnTo>
                    <a:pt x="3267" y="875"/>
                  </a:lnTo>
                  <a:lnTo>
                    <a:pt x="3267" y="870"/>
                  </a:lnTo>
                  <a:lnTo>
                    <a:pt x="3274" y="870"/>
                  </a:lnTo>
                  <a:lnTo>
                    <a:pt x="3274" y="858"/>
                  </a:lnTo>
                  <a:lnTo>
                    <a:pt x="3279" y="858"/>
                  </a:lnTo>
                  <a:lnTo>
                    <a:pt x="3279" y="853"/>
                  </a:lnTo>
                  <a:lnTo>
                    <a:pt x="3284" y="853"/>
                  </a:lnTo>
                  <a:lnTo>
                    <a:pt x="3284" y="847"/>
                  </a:lnTo>
                  <a:lnTo>
                    <a:pt x="3290" y="847"/>
                  </a:lnTo>
                  <a:lnTo>
                    <a:pt x="3290" y="841"/>
                  </a:lnTo>
                  <a:lnTo>
                    <a:pt x="3296" y="841"/>
                  </a:lnTo>
                  <a:lnTo>
                    <a:pt x="3296" y="835"/>
                  </a:lnTo>
                  <a:lnTo>
                    <a:pt x="3302" y="835"/>
                  </a:lnTo>
                  <a:lnTo>
                    <a:pt x="3302" y="830"/>
                  </a:lnTo>
                  <a:lnTo>
                    <a:pt x="3307" y="830"/>
                  </a:lnTo>
                  <a:lnTo>
                    <a:pt x="3307" y="825"/>
                  </a:lnTo>
                  <a:lnTo>
                    <a:pt x="3313" y="825"/>
                  </a:lnTo>
                  <a:lnTo>
                    <a:pt x="3313" y="813"/>
                  </a:lnTo>
                  <a:lnTo>
                    <a:pt x="3319" y="813"/>
                  </a:lnTo>
                  <a:lnTo>
                    <a:pt x="3319" y="808"/>
                  </a:lnTo>
                  <a:lnTo>
                    <a:pt x="3324" y="808"/>
                  </a:lnTo>
                  <a:lnTo>
                    <a:pt x="3324" y="796"/>
                  </a:lnTo>
                  <a:lnTo>
                    <a:pt x="3331" y="796"/>
                  </a:lnTo>
                  <a:lnTo>
                    <a:pt x="3331" y="790"/>
                  </a:lnTo>
                  <a:lnTo>
                    <a:pt x="3336" y="790"/>
                  </a:lnTo>
                  <a:lnTo>
                    <a:pt x="3336" y="785"/>
                  </a:lnTo>
                  <a:lnTo>
                    <a:pt x="3341" y="785"/>
                  </a:lnTo>
                  <a:lnTo>
                    <a:pt x="3341" y="779"/>
                  </a:lnTo>
                  <a:lnTo>
                    <a:pt x="3348" y="779"/>
                  </a:lnTo>
                  <a:lnTo>
                    <a:pt x="3348" y="773"/>
                  </a:lnTo>
                  <a:lnTo>
                    <a:pt x="3353" y="773"/>
                  </a:lnTo>
                  <a:lnTo>
                    <a:pt x="3353" y="768"/>
                  </a:lnTo>
                  <a:lnTo>
                    <a:pt x="3359" y="768"/>
                  </a:lnTo>
                  <a:lnTo>
                    <a:pt x="3359" y="762"/>
                  </a:lnTo>
                  <a:lnTo>
                    <a:pt x="3370" y="762"/>
                  </a:lnTo>
                  <a:lnTo>
                    <a:pt x="3370" y="756"/>
                  </a:lnTo>
                  <a:lnTo>
                    <a:pt x="3376" y="756"/>
                  </a:lnTo>
                  <a:lnTo>
                    <a:pt x="3376" y="751"/>
                  </a:lnTo>
                  <a:lnTo>
                    <a:pt x="3381" y="751"/>
                  </a:lnTo>
                  <a:lnTo>
                    <a:pt x="3381" y="745"/>
                  </a:lnTo>
                  <a:lnTo>
                    <a:pt x="3388" y="745"/>
                  </a:lnTo>
                  <a:lnTo>
                    <a:pt x="3388" y="739"/>
                  </a:lnTo>
                  <a:lnTo>
                    <a:pt x="3393" y="739"/>
                  </a:lnTo>
                  <a:lnTo>
                    <a:pt x="3393" y="733"/>
                  </a:lnTo>
                  <a:lnTo>
                    <a:pt x="3398" y="733"/>
                  </a:lnTo>
                  <a:lnTo>
                    <a:pt x="3398" y="722"/>
                  </a:lnTo>
                  <a:lnTo>
                    <a:pt x="3405" y="722"/>
                  </a:lnTo>
                  <a:lnTo>
                    <a:pt x="3405" y="716"/>
                  </a:lnTo>
                  <a:lnTo>
                    <a:pt x="3410" y="716"/>
                  </a:lnTo>
                  <a:lnTo>
                    <a:pt x="3410" y="711"/>
                  </a:lnTo>
                  <a:lnTo>
                    <a:pt x="3416" y="711"/>
                  </a:lnTo>
                  <a:lnTo>
                    <a:pt x="3416" y="694"/>
                  </a:lnTo>
                  <a:lnTo>
                    <a:pt x="3421" y="694"/>
                  </a:lnTo>
                  <a:lnTo>
                    <a:pt x="3421" y="682"/>
                  </a:lnTo>
                  <a:lnTo>
                    <a:pt x="3427" y="682"/>
                  </a:lnTo>
                  <a:lnTo>
                    <a:pt x="3427" y="676"/>
                  </a:lnTo>
                  <a:lnTo>
                    <a:pt x="3433" y="676"/>
                  </a:lnTo>
                  <a:lnTo>
                    <a:pt x="3433" y="671"/>
                  </a:lnTo>
                  <a:lnTo>
                    <a:pt x="3438" y="671"/>
                  </a:lnTo>
                  <a:lnTo>
                    <a:pt x="3438" y="659"/>
                  </a:lnTo>
                  <a:lnTo>
                    <a:pt x="3445" y="659"/>
                  </a:lnTo>
                  <a:lnTo>
                    <a:pt x="3445" y="654"/>
                  </a:lnTo>
                  <a:lnTo>
                    <a:pt x="3450" y="654"/>
                  </a:lnTo>
                  <a:lnTo>
                    <a:pt x="3450" y="649"/>
                  </a:lnTo>
                  <a:lnTo>
                    <a:pt x="3455" y="649"/>
                  </a:lnTo>
                  <a:lnTo>
                    <a:pt x="3455" y="642"/>
                  </a:lnTo>
                  <a:lnTo>
                    <a:pt x="3462" y="642"/>
                  </a:lnTo>
                  <a:lnTo>
                    <a:pt x="3462" y="631"/>
                  </a:lnTo>
                  <a:lnTo>
                    <a:pt x="3467" y="631"/>
                  </a:lnTo>
                  <a:lnTo>
                    <a:pt x="3467" y="625"/>
                  </a:lnTo>
                  <a:lnTo>
                    <a:pt x="3472" y="625"/>
                  </a:lnTo>
                  <a:lnTo>
                    <a:pt x="3472" y="614"/>
                  </a:lnTo>
                  <a:lnTo>
                    <a:pt x="3478" y="614"/>
                  </a:lnTo>
                  <a:lnTo>
                    <a:pt x="3478" y="608"/>
                  </a:lnTo>
                  <a:lnTo>
                    <a:pt x="3484" y="608"/>
                  </a:lnTo>
                  <a:lnTo>
                    <a:pt x="3484" y="597"/>
                  </a:lnTo>
                  <a:lnTo>
                    <a:pt x="3490" y="597"/>
                  </a:lnTo>
                  <a:lnTo>
                    <a:pt x="3490" y="585"/>
                  </a:lnTo>
                  <a:lnTo>
                    <a:pt x="3495" y="585"/>
                  </a:lnTo>
                  <a:lnTo>
                    <a:pt x="3495" y="568"/>
                  </a:lnTo>
                  <a:lnTo>
                    <a:pt x="3502" y="568"/>
                  </a:lnTo>
                  <a:lnTo>
                    <a:pt x="3502" y="563"/>
                  </a:lnTo>
                  <a:lnTo>
                    <a:pt x="3507" y="563"/>
                  </a:lnTo>
                  <a:lnTo>
                    <a:pt x="3507" y="557"/>
                  </a:lnTo>
                  <a:lnTo>
                    <a:pt x="3512" y="557"/>
                  </a:lnTo>
                  <a:lnTo>
                    <a:pt x="3512" y="551"/>
                  </a:lnTo>
                  <a:lnTo>
                    <a:pt x="3519" y="551"/>
                  </a:lnTo>
                  <a:lnTo>
                    <a:pt x="3519" y="545"/>
                  </a:lnTo>
                  <a:lnTo>
                    <a:pt x="3524" y="545"/>
                  </a:lnTo>
                  <a:lnTo>
                    <a:pt x="3524" y="540"/>
                  </a:lnTo>
                  <a:lnTo>
                    <a:pt x="3529" y="540"/>
                  </a:lnTo>
                  <a:lnTo>
                    <a:pt x="3529" y="535"/>
                  </a:lnTo>
                  <a:lnTo>
                    <a:pt x="3535" y="535"/>
                  </a:lnTo>
                  <a:lnTo>
                    <a:pt x="3535" y="528"/>
                  </a:lnTo>
                  <a:lnTo>
                    <a:pt x="3541" y="528"/>
                  </a:lnTo>
                  <a:lnTo>
                    <a:pt x="3541" y="523"/>
                  </a:lnTo>
                  <a:lnTo>
                    <a:pt x="3547" y="523"/>
                  </a:lnTo>
                  <a:lnTo>
                    <a:pt x="3547" y="511"/>
                  </a:lnTo>
                  <a:lnTo>
                    <a:pt x="3552" y="511"/>
                  </a:lnTo>
                  <a:lnTo>
                    <a:pt x="3552" y="506"/>
                  </a:lnTo>
                  <a:lnTo>
                    <a:pt x="3557" y="506"/>
                  </a:lnTo>
                  <a:lnTo>
                    <a:pt x="3557" y="500"/>
                  </a:lnTo>
                  <a:lnTo>
                    <a:pt x="3564" y="500"/>
                  </a:lnTo>
                  <a:lnTo>
                    <a:pt x="3564" y="494"/>
                  </a:lnTo>
                  <a:lnTo>
                    <a:pt x="3569" y="494"/>
                  </a:lnTo>
                  <a:lnTo>
                    <a:pt x="3569" y="488"/>
                  </a:lnTo>
                  <a:lnTo>
                    <a:pt x="3575" y="488"/>
                  </a:lnTo>
                  <a:lnTo>
                    <a:pt x="3575" y="477"/>
                  </a:lnTo>
                  <a:lnTo>
                    <a:pt x="3586" y="477"/>
                  </a:lnTo>
                  <a:lnTo>
                    <a:pt x="3586" y="471"/>
                  </a:lnTo>
                  <a:lnTo>
                    <a:pt x="3592" y="471"/>
                  </a:lnTo>
                  <a:lnTo>
                    <a:pt x="3592" y="466"/>
                  </a:lnTo>
                  <a:lnTo>
                    <a:pt x="3597" y="466"/>
                  </a:lnTo>
                  <a:lnTo>
                    <a:pt x="3597" y="460"/>
                  </a:lnTo>
                  <a:lnTo>
                    <a:pt x="3604" y="460"/>
                  </a:lnTo>
                  <a:lnTo>
                    <a:pt x="3604" y="454"/>
                  </a:lnTo>
                  <a:lnTo>
                    <a:pt x="3609" y="454"/>
                  </a:lnTo>
                  <a:lnTo>
                    <a:pt x="3609" y="449"/>
                  </a:lnTo>
                  <a:lnTo>
                    <a:pt x="3614" y="449"/>
                  </a:lnTo>
                  <a:lnTo>
                    <a:pt x="3614" y="443"/>
                  </a:lnTo>
                  <a:lnTo>
                    <a:pt x="3621" y="443"/>
                  </a:lnTo>
                  <a:lnTo>
                    <a:pt x="3621" y="431"/>
                  </a:lnTo>
                  <a:lnTo>
                    <a:pt x="3626" y="431"/>
                  </a:lnTo>
                  <a:lnTo>
                    <a:pt x="3626" y="426"/>
                  </a:lnTo>
                  <a:lnTo>
                    <a:pt x="3632" y="426"/>
                  </a:lnTo>
                  <a:lnTo>
                    <a:pt x="3632" y="421"/>
                  </a:lnTo>
                  <a:lnTo>
                    <a:pt x="3638" y="421"/>
                  </a:lnTo>
                  <a:lnTo>
                    <a:pt x="3638" y="415"/>
                  </a:lnTo>
                  <a:lnTo>
                    <a:pt x="3643" y="415"/>
                  </a:lnTo>
                  <a:lnTo>
                    <a:pt x="3643" y="409"/>
                  </a:lnTo>
                  <a:lnTo>
                    <a:pt x="3649" y="409"/>
                  </a:lnTo>
                  <a:lnTo>
                    <a:pt x="3649" y="404"/>
                  </a:lnTo>
                  <a:lnTo>
                    <a:pt x="3654" y="404"/>
                  </a:lnTo>
                  <a:lnTo>
                    <a:pt x="3654" y="392"/>
                  </a:lnTo>
                  <a:lnTo>
                    <a:pt x="3661" y="392"/>
                  </a:lnTo>
                  <a:lnTo>
                    <a:pt x="3661" y="386"/>
                  </a:lnTo>
                  <a:lnTo>
                    <a:pt x="3666" y="386"/>
                  </a:lnTo>
                  <a:lnTo>
                    <a:pt x="3666" y="375"/>
                  </a:lnTo>
                  <a:lnTo>
                    <a:pt x="3678" y="375"/>
                  </a:lnTo>
                  <a:lnTo>
                    <a:pt x="3678" y="369"/>
                  </a:lnTo>
                  <a:lnTo>
                    <a:pt x="3683" y="369"/>
                  </a:lnTo>
                  <a:lnTo>
                    <a:pt x="3683" y="358"/>
                  </a:lnTo>
                  <a:lnTo>
                    <a:pt x="3689" y="358"/>
                  </a:lnTo>
                  <a:lnTo>
                    <a:pt x="3689" y="352"/>
                  </a:lnTo>
                  <a:lnTo>
                    <a:pt x="3695" y="352"/>
                  </a:lnTo>
                  <a:lnTo>
                    <a:pt x="3695" y="347"/>
                  </a:lnTo>
                  <a:lnTo>
                    <a:pt x="3700" y="347"/>
                  </a:lnTo>
                  <a:lnTo>
                    <a:pt x="3700" y="341"/>
                  </a:lnTo>
                  <a:lnTo>
                    <a:pt x="3706" y="341"/>
                  </a:lnTo>
                  <a:lnTo>
                    <a:pt x="3706" y="335"/>
                  </a:lnTo>
                  <a:lnTo>
                    <a:pt x="3711" y="335"/>
                  </a:lnTo>
                  <a:lnTo>
                    <a:pt x="3711" y="324"/>
                  </a:lnTo>
                  <a:lnTo>
                    <a:pt x="3718" y="324"/>
                  </a:lnTo>
                  <a:lnTo>
                    <a:pt x="3718" y="318"/>
                  </a:lnTo>
                  <a:lnTo>
                    <a:pt x="3723" y="318"/>
                  </a:lnTo>
                  <a:lnTo>
                    <a:pt x="3723" y="312"/>
                  </a:lnTo>
                  <a:lnTo>
                    <a:pt x="3735" y="312"/>
                  </a:lnTo>
                  <a:lnTo>
                    <a:pt x="3735" y="307"/>
                  </a:lnTo>
                  <a:lnTo>
                    <a:pt x="3740" y="307"/>
                  </a:lnTo>
                  <a:lnTo>
                    <a:pt x="3740" y="301"/>
                  </a:lnTo>
                  <a:lnTo>
                    <a:pt x="3745" y="301"/>
                  </a:lnTo>
                  <a:lnTo>
                    <a:pt x="3745" y="295"/>
                  </a:lnTo>
                  <a:lnTo>
                    <a:pt x="3757" y="295"/>
                  </a:lnTo>
                  <a:lnTo>
                    <a:pt x="3757" y="290"/>
                  </a:lnTo>
                  <a:lnTo>
                    <a:pt x="3763" y="290"/>
                  </a:lnTo>
                  <a:lnTo>
                    <a:pt x="3763" y="284"/>
                  </a:lnTo>
                  <a:lnTo>
                    <a:pt x="3775" y="284"/>
                  </a:lnTo>
                  <a:lnTo>
                    <a:pt x="3775" y="278"/>
                  </a:lnTo>
                  <a:lnTo>
                    <a:pt x="3785" y="278"/>
                  </a:lnTo>
                  <a:lnTo>
                    <a:pt x="3785" y="272"/>
                  </a:lnTo>
                  <a:lnTo>
                    <a:pt x="3792" y="272"/>
                  </a:lnTo>
                  <a:lnTo>
                    <a:pt x="3792" y="267"/>
                  </a:lnTo>
                  <a:lnTo>
                    <a:pt x="3797" y="267"/>
                  </a:lnTo>
                  <a:lnTo>
                    <a:pt x="3797" y="261"/>
                  </a:lnTo>
                  <a:lnTo>
                    <a:pt x="3802" y="261"/>
                  </a:lnTo>
                  <a:lnTo>
                    <a:pt x="3802" y="255"/>
                  </a:lnTo>
                  <a:lnTo>
                    <a:pt x="3809" y="255"/>
                  </a:lnTo>
                  <a:lnTo>
                    <a:pt x="3809" y="250"/>
                  </a:lnTo>
                  <a:lnTo>
                    <a:pt x="3820" y="250"/>
                  </a:lnTo>
                  <a:lnTo>
                    <a:pt x="3820" y="244"/>
                  </a:lnTo>
                  <a:lnTo>
                    <a:pt x="3825" y="244"/>
                  </a:lnTo>
                  <a:lnTo>
                    <a:pt x="3825" y="238"/>
                  </a:lnTo>
                  <a:lnTo>
                    <a:pt x="3831" y="238"/>
                  </a:lnTo>
                  <a:lnTo>
                    <a:pt x="3831" y="233"/>
                  </a:lnTo>
                  <a:lnTo>
                    <a:pt x="3842" y="233"/>
                  </a:lnTo>
                  <a:lnTo>
                    <a:pt x="3842" y="227"/>
                  </a:lnTo>
                  <a:lnTo>
                    <a:pt x="3849" y="227"/>
                  </a:lnTo>
                  <a:lnTo>
                    <a:pt x="3849" y="221"/>
                  </a:lnTo>
                  <a:lnTo>
                    <a:pt x="3854" y="221"/>
                  </a:lnTo>
                  <a:lnTo>
                    <a:pt x="3854" y="215"/>
                  </a:lnTo>
                  <a:lnTo>
                    <a:pt x="3859" y="215"/>
                  </a:lnTo>
                  <a:lnTo>
                    <a:pt x="3859" y="210"/>
                  </a:lnTo>
                  <a:lnTo>
                    <a:pt x="3866" y="210"/>
                  </a:lnTo>
                  <a:lnTo>
                    <a:pt x="3866" y="204"/>
                  </a:lnTo>
                  <a:lnTo>
                    <a:pt x="3877" y="204"/>
                  </a:lnTo>
                  <a:lnTo>
                    <a:pt x="3877" y="198"/>
                  </a:lnTo>
                  <a:lnTo>
                    <a:pt x="3882" y="198"/>
                  </a:lnTo>
                  <a:lnTo>
                    <a:pt x="3882" y="193"/>
                  </a:lnTo>
                  <a:lnTo>
                    <a:pt x="3888" y="193"/>
                  </a:lnTo>
                  <a:lnTo>
                    <a:pt x="3888" y="186"/>
                  </a:lnTo>
                  <a:lnTo>
                    <a:pt x="3894" y="186"/>
                  </a:lnTo>
                  <a:lnTo>
                    <a:pt x="3894" y="181"/>
                  </a:lnTo>
                  <a:lnTo>
                    <a:pt x="3899" y="181"/>
                  </a:lnTo>
                  <a:lnTo>
                    <a:pt x="3899" y="176"/>
                  </a:lnTo>
                  <a:lnTo>
                    <a:pt x="3906" y="176"/>
                  </a:lnTo>
                  <a:lnTo>
                    <a:pt x="3906" y="170"/>
                  </a:lnTo>
                  <a:lnTo>
                    <a:pt x="3911" y="170"/>
                  </a:lnTo>
                  <a:lnTo>
                    <a:pt x="3911" y="164"/>
                  </a:lnTo>
                  <a:lnTo>
                    <a:pt x="3916" y="164"/>
                  </a:lnTo>
                  <a:lnTo>
                    <a:pt x="3916" y="159"/>
                  </a:lnTo>
                  <a:lnTo>
                    <a:pt x="3923" y="159"/>
                  </a:lnTo>
                  <a:lnTo>
                    <a:pt x="3923" y="153"/>
                  </a:lnTo>
                  <a:lnTo>
                    <a:pt x="3928" y="153"/>
                  </a:lnTo>
                  <a:lnTo>
                    <a:pt x="3928" y="147"/>
                  </a:lnTo>
                  <a:lnTo>
                    <a:pt x="3934" y="147"/>
                  </a:lnTo>
                  <a:lnTo>
                    <a:pt x="3934" y="141"/>
                  </a:lnTo>
                  <a:lnTo>
                    <a:pt x="3939" y="141"/>
                  </a:lnTo>
                  <a:lnTo>
                    <a:pt x="3939" y="136"/>
                  </a:lnTo>
                  <a:lnTo>
                    <a:pt x="3951" y="136"/>
                  </a:lnTo>
                  <a:lnTo>
                    <a:pt x="3951" y="130"/>
                  </a:lnTo>
                  <a:lnTo>
                    <a:pt x="3956" y="130"/>
                  </a:lnTo>
                  <a:lnTo>
                    <a:pt x="3956" y="124"/>
                  </a:lnTo>
                  <a:lnTo>
                    <a:pt x="3962" y="124"/>
                  </a:lnTo>
                  <a:lnTo>
                    <a:pt x="3962" y="119"/>
                  </a:lnTo>
                  <a:lnTo>
                    <a:pt x="3979" y="119"/>
                  </a:lnTo>
                  <a:lnTo>
                    <a:pt x="3979" y="113"/>
                  </a:lnTo>
                  <a:lnTo>
                    <a:pt x="3985" y="113"/>
                  </a:lnTo>
                  <a:lnTo>
                    <a:pt x="3985" y="107"/>
                  </a:lnTo>
                  <a:lnTo>
                    <a:pt x="3991" y="107"/>
                  </a:lnTo>
                  <a:lnTo>
                    <a:pt x="3991" y="102"/>
                  </a:lnTo>
                  <a:lnTo>
                    <a:pt x="3996" y="102"/>
                  </a:lnTo>
                  <a:lnTo>
                    <a:pt x="3996" y="96"/>
                  </a:lnTo>
                  <a:lnTo>
                    <a:pt x="4001" y="96"/>
                  </a:lnTo>
                  <a:lnTo>
                    <a:pt x="4001" y="90"/>
                  </a:lnTo>
                  <a:lnTo>
                    <a:pt x="4008" y="90"/>
                  </a:lnTo>
                  <a:lnTo>
                    <a:pt x="4008" y="84"/>
                  </a:lnTo>
                  <a:lnTo>
                    <a:pt x="4019" y="84"/>
                  </a:lnTo>
                  <a:lnTo>
                    <a:pt x="4019" y="79"/>
                  </a:lnTo>
                  <a:lnTo>
                    <a:pt x="4025" y="79"/>
                  </a:lnTo>
                  <a:lnTo>
                    <a:pt x="4025" y="73"/>
                  </a:lnTo>
                  <a:lnTo>
                    <a:pt x="4030" y="73"/>
                  </a:lnTo>
                  <a:lnTo>
                    <a:pt x="4030" y="67"/>
                  </a:lnTo>
                  <a:lnTo>
                    <a:pt x="4042" y="67"/>
                  </a:lnTo>
                  <a:lnTo>
                    <a:pt x="4042" y="62"/>
                  </a:lnTo>
                  <a:lnTo>
                    <a:pt x="4048" y="62"/>
                  </a:lnTo>
                  <a:lnTo>
                    <a:pt x="4048" y="56"/>
                  </a:lnTo>
                  <a:lnTo>
                    <a:pt x="4053" y="56"/>
                  </a:lnTo>
                  <a:lnTo>
                    <a:pt x="4053" y="50"/>
                  </a:lnTo>
                  <a:lnTo>
                    <a:pt x="4058" y="50"/>
                  </a:lnTo>
                  <a:lnTo>
                    <a:pt x="4058" y="45"/>
                  </a:lnTo>
                  <a:lnTo>
                    <a:pt x="4065" y="45"/>
                  </a:lnTo>
                  <a:lnTo>
                    <a:pt x="4065" y="39"/>
                  </a:lnTo>
                  <a:lnTo>
                    <a:pt x="4070" y="39"/>
                  </a:lnTo>
                  <a:lnTo>
                    <a:pt x="4070" y="33"/>
                  </a:lnTo>
                  <a:lnTo>
                    <a:pt x="4075" y="33"/>
                  </a:lnTo>
                  <a:lnTo>
                    <a:pt x="4075" y="27"/>
                  </a:lnTo>
                  <a:lnTo>
                    <a:pt x="4087" y="27"/>
                  </a:lnTo>
                  <a:lnTo>
                    <a:pt x="4087" y="22"/>
                  </a:lnTo>
                  <a:lnTo>
                    <a:pt x="4099" y="22"/>
                  </a:lnTo>
                  <a:lnTo>
                    <a:pt x="4099" y="17"/>
                  </a:lnTo>
                  <a:lnTo>
                    <a:pt x="4110" y="17"/>
                  </a:lnTo>
                  <a:lnTo>
                    <a:pt x="4110" y="11"/>
                  </a:lnTo>
                  <a:lnTo>
                    <a:pt x="4115" y="11"/>
                  </a:lnTo>
                  <a:lnTo>
                    <a:pt x="4115" y="0"/>
                  </a:lnTo>
                  <a:lnTo>
                    <a:pt x="4127" y="0"/>
                  </a:lnTo>
                  <a:lnTo>
                    <a:pt x="4127" y="39"/>
                  </a:lnTo>
                  <a:lnTo>
                    <a:pt x="4122" y="39"/>
                  </a:lnTo>
                  <a:lnTo>
                    <a:pt x="4122" y="45"/>
                  </a:lnTo>
                  <a:lnTo>
                    <a:pt x="4115" y="45"/>
                  </a:lnTo>
                  <a:lnTo>
                    <a:pt x="4115" y="50"/>
                  </a:lnTo>
                  <a:lnTo>
                    <a:pt x="4104" y="50"/>
                  </a:lnTo>
                  <a:lnTo>
                    <a:pt x="4104" y="56"/>
                  </a:lnTo>
                  <a:lnTo>
                    <a:pt x="4093" y="56"/>
                  </a:lnTo>
                  <a:lnTo>
                    <a:pt x="4093" y="62"/>
                  </a:lnTo>
                  <a:lnTo>
                    <a:pt x="4082" y="62"/>
                  </a:lnTo>
                  <a:lnTo>
                    <a:pt x="4082" y="67"/>
                  </a:lnTo>
                  <a:lnTo>
                    <a:pt x="4070" y="67"/>
                  </a:lnTo>
                  <a:lnTo>
                    <a:pt x="4070" y="73"/>
                  </a:lnTo>
                  <a:lnTo>
                    <a:pt x="4065" y="73"/>
                  </a:lnTo>
                  <a:lnTo>
                    <a:pt x="4065" y="79"/>
                  </a:lnTo>
                  <a:lnTo>
                    <a:pt x="4058" y="79"/>
                  </a:lnTo>
                  <a:lnTo>
                    <a:pt x="4058" y="84"/>
                  </a:lnTo>
                  <a:lnTo>
                    <a:pt x="4053" y="84"/>
                  </a:lnTo>
                  <a:lnTo>
                    <a:pt x="4053" y="90"/>
                  </a:lnTo>
                  <a:lnTo>
                    <a:pt x="4048" y="90"/>
                  </a:lnTo>
                  <a:lnTo>
                    <a:pt x="4048" y="96"/>
                  </a:lnTo>
                  <a:lnTo>
                    <a:pt x="4042" y="96"/>
                  </a:lnTo>
                  <a:lnTo>
                    <a:pt x="4042" y="102"/>
                  </a:lnTo>
                  <a:lnTo>
                    <a:pt x="4036" y="102"/>
                  </a:lnTo>
                  <a:lnTo>
                    <a:pt x="4036" y="107"/>
                  </a:lnTo>
                  <a:lnTo>
                    <a:pt x="4030" y="107"/>
                  </a:lnTo>
                  <a:lnTo>
                    <a:pt x="4030" y="113"/>
                  </a:lnTo>
                  <a:lnTo>
                    <a:pt x="4019" y="113"/>
                  </a:lnTo>
                  <a:lnTo>
                    <a:pt x="4019" y="119"/>
                  </a:lnTo>
                  <a:lnTo>
                    <a:pt x="4013" y="119"/>
                  </a:lnTo>
                  <a:lnTo>
                    <a:pt x="4013" y="124"/>
                  </a:lnTo>
                  <a:lnTo>
                    <a:pt x="4001" y="124"/>
                  </a:lnTo>
                  <a:lnTo>
                    <a:pt x="4001" y="130"/>
                  </a:lnTo>
                  <a:lnTo>
                    <a:pt x="3996" y="130"/>
                  </a:lnTo>
                  <a:lnTo>
                    <a:pt x="3996" y="136"/>
                  </a:lnTo>
                  <a:lnTo>
                    <a:pt x="3991" y="136"/>
                  </a:lnTo>
                  <a:lnTo>
                    <a:pt x="3991" y="141"/>
                  </a:lnTo>
                  <a:lnTo>
                    <a:pt x="3979" y="141"/>
                  </a:lnTo>
                  <a:lnTo>
                    <a:pt x="3979" y="147"/>
                  </a:lnTo>
                  <a:lnTo>
                    <a:pt x="3973" y="147"/>
                  </a:lnTo>
                  <a:lnTo>
                    <a:pt x="3973" y="159"/>
                  </a:lnTo>
                  <a:lnTo>
                    <a:pt x="3968" y="159"/>
                  </a:lnTo>
                  <a:lnTo>
                    <a:pt x="3968" y="164"/>
                  </a:lnTo>
                  <a:lnTo>
                    <a:pt x="3962" y="164"/>
                  </a:lnTo>
                  <a:lnTo>
                    <a:pt x="3962" y="170"/>
                  </a:lnTo>
                  <a:lnTo>
                    <a:pt x="3956" y="170"/>
                  </a:lnTo>
                  <a:lnTo>
                    <a:pt x="3956" y="176"/>
                  </a:lnTo>
                  <a:lnTo>
                    <a:pt x="3951" y="176"/>
                  </a:lnTo>
                  <a:lnTo>
                    <a:pt x="3951" y="181"/>
                  </a:lnTo>
                  <a:lnTo>
                    <a:pt x="3934" y="181"/>
                  </a:lnTo>
                  <a:lnTo>
                    <a:pt x="3934" y="186"/>
                  </a:lnTo>
                  <a:lnTo>
                    <a:pt x="3928" y="186"/>
                  </a:lnTo>
                  <a:lnTo>
                    <a:pt x="3928" y="198"/>
                  </a:lnTo>
                  <a:lnTo>
                    <a:pt x="3923" y="198"/>
                  </a:lnTo>
                  <a:lnTo>
                    <a:pt x="3923" y="204"/>
                  </a:lnTo>
                  <a:lnTo>
                    <a:pt x="3916" y="204"/>
                  </a:lnTo>
                  <a:lnTo>
                    <a:pt x="3916" y="210"/>
                  </a:lnTo>
                  <a:lnTo>
                    <a:pt x="3911" y="210"/>
                  </a:lnTo>
                  <a:lnTo>
                    <a:pt x="3911" y="215"/>
                  </a:lnTo>
                  <a:lnTo>
                    <a:pt x="3899" y="215"/>
                  </a:lnTo>
                  <a:lnTo>
                    <a:pt x="3899" y="221"/>
                  </a:lnTo>
                  <a:lnTo>
                    <a:pt x="3894" y="221"/>
                  </a:lnTo>
                  <a:lnTo>
                    <a:pt x="3894" y="227"/>
                  </a:lnTo>
                  <a:lnTo>
                    <a:pt x="3882" y="227"/>
                  </a:lnTo>
                  <a:lnTo>
                    <a:pt x="3882" y="233"/>
                  </a:lnTo>
                  <a:lnTo>
                    <a:pt x="3871" y="233"/>
                  </a:lnTo>
                  <a:lnTo>
                    <a:pt x="3871" y="238"/>
                  </a:lnTo>
                  <a:lnTo>
                    <a:pt x="3866" y="238"/>
                  </a:lnTo>
                  <a:lnTo>
                    <a:pt x="3866" y="244"/>
                  </a:lnTo>
                  <a:lnTo>
                    <a:pt x="3859" y="244"/>
                  </a:lnTo>
                  <a:lnTo>
                    <a:pt x="3859" y="250"/>
                  </a:lnTo>
                  <a:lnTo>
                    <a:pt x="3849" y="250"/>
                  </a:lnTo>
                  <a:lnTo>
                    <a:pt x="3849" y="255"/>
                  </a:lnTo>
                  <a:lnTo>
                    <a:pt x="3842" y="255"/>
                  </a:lnTo>
                  <a:lnTo>
                    <a:pt x="3842" y="261"/>
                  </a:lnTo>
                  <a:lnTo>
                    <a:pt x="3837" y="261"/>
                  </a:lnTo>
                  <a:lnTo>
                    <a:pt x="3837" y="267"/>
                  </a:lnTo>
                  <a:lnTo>
                    <a:pt x="3831" y="267"/>
                  </a:lnTo>
                  <a:lnTo>
                    <a:pt x="3831" y="272"/>
                  </a:lnTo>
                  <a:lnTo>
                    <a:pt x="3825" y="272"/>
                  </a:lnTo>
                  <a:lnTo>
                    <a:pt x="3825" y="278"/>
                  </a:lnTo>
                  <a:lnTo>
                    <a:pt x="3820" y="278"/>
                  </a:lnTo>
                  <a:lnTo>
                    <a:pt x="3820" y="284"/>
                  </a:lnTo>
                  <a:lnTo>
                    <a:pt x="3814" y="284"/>
                  </a:lnTo>
                  <a:lnTo>
                    <a:pt x="3814" y="290"/>
                  </a:lnTo>
                  <a:lnTo>
                    <a:pt x="3802" y="290"/>
                  </a:lnTo>
                  <a:lnTo>
                    <a:pt x="3802" y="295"/>
                  </a:lnTo>
                  <a:lnTo>
                    <a:pt x="3797" y="295"/>
                  </a:lnTo>
                  <a:lnTo>
                    <a:pt x="3797" y="301"/>
                  </a:lnTo>
                  <a:lnTo>
                    <a:pt x="3792" y="301"/>
                  </a:lnTo>
                  <a:lnTo>
                    <a:pt x="3792" y="307"/>
                  </a:lnTo>
                  <a:lnTo>
                    <a:pt x="3785" y="307"/>
                  </a:lnTo>
                  <a:lnTo>
                    <a:pt x="3785" y="312"/>
                  </a:lnTo>
                  <a:lnTo>
                    <a:pt x="3780" y="312"/>
                  </a:lnTo>
                  <a:lnTo>
                    <a:pt x="3780" y="318"/>
                  </a:lnTo>
                  <a:lnTo>
                    <a:pt x="3768" y="318"/>
                  </a:lnTo>
                  <a:lnTo>
                    <a:pt x="3768" y="324"/>
                  </a:lnTo>
                  <a:lnTo>
                    <a:pt x="3763" y="324"/>
                  </a:lnTo>
                  <a:lnTo>
                    <a:pt x="3763" y="329"/>
                  </a:lnTo>
                  <a:lnTo>
                    <a:pt x="3757" y="329"/>
                  </a:lnTo>
                  <a:lnTo>
                    <a:pt x="3757" y="335"/>
                  </a:lnTo>
                  <a:lnTo>
                    <a:pt x="3752" y="335"/>
                  </a:lnTo>
                  <a:lnTo>
                    <a:pt x="3752" y="341"/>
                  </a:lnTo>
                  <a:lnTo>
                    <a:pt x="3745" y="341"/>
                  </a:lnTo>
                  <a:lnTo>
                    <a:pt x="3745" y="347"/>
                  </a:lnTo>
                  <a:lnTo>
                    <a:pt x="3735" y="347"/>
                  </a:lnTo>
                  <a:lnTo>
                    <a:pt x="3735" y="352"/>
                  </a:lnTo>
                  <a:lnTo>
                    <a:pt x="3728" y="352"/>
                  </a:lnTo>
                  <a:lnTo>
                    <a:pt x="3728" y="358"/>
                  </a:lnTo>
                  <a:lnTo>
                    <a:pt x="3723" y="358"/>
                  </a:lnTo>
                  <a:lnTo>
                    <a:pt x="3723" y="369"/>
                  </a:lnTo>
                  <a:lnTo>
                    <a:pt x="3718" y="369"/>
                  </a:lnTo>
                  <a:lnTo>
                    <a:pt x="3718" y="375"/>
                  </a:lnTo>
                  <a:lnTo>
                    <a:pt x="3711" y="375"/>
                  </a:lnTo>
                  <a:lnTo>
                    <a:pt x="3711" y="381"/>
                  </a:lnTo>
                  <a:lnTo>
                    <a:pt x="3706" y="381"/>
                  </a:lnTo>
                  <a:lnTo>
                    <a:pt x="3706" y="386"/>
                  </a:lnTo>
                  <a:lnTo>
                    <a:pt x="3700" y="386"/>
                  </a:lnTo>
                  <a:lnTo>
                    <a:pt x="3700" y="392"/>
                  </a:lnTo>
                  <a:lnTo>
                    <a:pt x="3695" y="392"/>
                  </a:lnTo>
                  <a:lnTo>
                    <a:pt x="3695" y="409"/>
                  </a:lnTo>
                  <a:lnTo>
                    <a:pt x="3689" y="409"/>
                  </a:lnTo>
                  <a:lnTo>
                    <a:pt x="3689" y="415"/>
                  </a:lnTo>
                  <a:lnTo>
                    <a:pt x="3678" y="415"/>
                  </a:lnTo>
                  <a:lnTo>
                    <a:pt x="3678" y="421"/>
                  </a:lnTo>
                  <a:lnTo>
                    <a:pt x="3671" y="421"/>
                  </a:lnTo>
                  <a:lnTo>
                    <a:pt x="3671" y="426"/>
                  </a:lnTo>
                  <a:lnTo>
                    <a:pt x="3666" y="426"/>
                  </a:lnTo>
                  <a:lnTo>
                    <a:pt x="3666" y="431"/>
                  </a:lnTo>
                  <a:lnTo>
                    <a:pt x="3654" y="431"/>
                  </a:lnTo>
                  <a:lnTo>
                    <a:pt x="3654" y="437"/>
                  </a:lnTo>
                  <a:lnTo>
                    <a:pt x="3649" y="437"/>
                  </a:lnTo>
                  <a:lnTo>
                    <a:pt x="3649" y="443"/>
                  </a:lnTo>
                  <a:lnTo>
                    <a:pt x="3643" y="443"/>
                  </a:lnTo>
                  <a:lnTo>
                    <a:pt x="3643" y="449"/>
                  </a:lnTo>
                  <a:lnTo>
                    <a:pt x="3638" y="449"/>
                  </a:lnTo>
                  <a:lnTo>
                    <a:pt x="3638" y="454"/>
                  </a:lnTo>
                  <a:lnTo>
                    <a:pt x="3632" y="454"/>
                  </a:lnTo>
                  <a:lnTo>
                    <a:pt x="3632" y="466"/>
                  </a:lnTo>
                  <a:lnTo>
                    <a:pt x="3626" y="466"/>
                  </a:lnTo>
                  <a:lnTo>
                    <a:pt x="3626" y="471"/>
                  </a:lnTo>
                  <a:lnTo>
                    <a:pt x="3621" y="471"/>
                  </a:lnTo>
                  <a:lnTo>
                    <a:pt x="3621" y="477"/>
                  </a:lnTo>
                  <a:lnTo>
                    <a:pt x="3614" y="477"/>
                  </a:lnTo>
                  <a:lnTo>
                    <a:pt x="3614" y="483"/>
                  </a:lnTo>
                  <a:lnTo>
                    <a:pt x="3609" y="483"/>
                  </a:lnTo>
                  <a:lnTo>
                    <a:pt x="3609" y="488"/>
                  </a:lnTo>
                  <a:lnTo>
                    <a:pt x="3604" y="488"/>
                  </a:lnTo>
                  <a:lnTo>
                    <a:pt x="3604" y="494"/>
                  </a:lnTo>
                  <a:lnTo>
                    <a:pt x="3597" y="494"/>
                  </a:lnTo>
                  <a:lnTo>
                    <a:pt x="3597" y="500"/>
                  </a:lnTo>
                  <a:lnTo>
                    <a:pt x="3592" y="500"/>
                  </a:lnTo>
                  <a:lnTo>
                    <a:pt x="3592" y="506"/>
                  </a:lnTo>
                  <a:lnTo>
                    <a:pt x="3580" y="506"/>
                  </a:lnTo>
                  <a:lnTo>
                    <a:pt x="3580" y="517"/>
                  </a:lnTo>
                  <a:lnTo>
                    <a:pt x="3575" y="517"/>
                  </a:lnTo>
                  <a:lnTo>
                    <a:pt x="3575" y="523"/>
                  </a:lnTo>
                  <a:lnTo>
                    <a:pt x="3569" y="523"/>
                  </a:lnTo>
                  <a:lnTo>
                    <a:pt x="3569" y="535"/>
                  </a:lnTo>
                  <a:lnTo>
                    <a:pt x="3564" y="535"/>
                  </a:lnTo>
                  <a:lnTo>
                    <a:pt x="3564" y="540"/>
                  </a:lnTo>
                  <a:lnTo>
                    <a:pt x="3557" y="540"/>
                  </a:lnTo>
                  <a:lnTo>
                    <a:pt x="3557" y="545"/>
                  </a:lnTo>
                  <a:lnTo>
                    <a:pt x="3552" y="545"/>
                  </a:lnTo>
                  <a:lnTo>
                    <a:pt x="3552" y="551"/>
                  </a:lnTo>
                  <a:lnTo>
                    <a:pt x="3547" y="551"/>
                  </a:lnTo>
                  <a:lnTo>
                    <a:pt x="3547" y="557"/>
                  </a:lnTo>
                  <a:lnTo>
                    <a:pt x="3541" y="557"/>
                  </a:lnTo>
                  <a:lnTo>
                    <a:pt x="3541" y="563"/>
                  </a:lnTo>
                  <a:lnTo>
                    <a:pt x="3535" y="563"/>
                  </a:lnTo>
                  <a:lnTo>
                    <a:pt x="3535" y="568"/>
                  </a:lnTo>
                  <a:lnTo>
                    <a:pt x="3524" y="568"/>
                  </a:lnTo>
                  <a:lnTo>
                    <a:pt x="3524" y="592"/>
                  </a:lnTo>
                  <a:lnTo>
                    <a:pt x="3519" y="592"/>
                  </a:lnTo>
                  <a:lnTo>
                    <a:pt x="3519" y="597"/>
                  </a:lnTo>
                  <a:lnTo>
                    <a:pt x="3512" y="597"/>
                  </a:lnTo>
                  <a:lnTo>
                    <a:pt x="3512" y="608"/>
                  </a:lnTo>
                  <a:lnTo>
                    <a:pt x="3507" y="608"/>
                  </a:lnTo>
                  <a:lnTo>
                    <a:pt x="3507" y="614"/>
                  </a:lnTo>
                  <a:lnTo>
                    <a:pt x="3502" y="614"/>
                  </a:lnTo>
                  <a:lnTo>
                    <a:pt x="3502" y="619"/>
                  </a:lnTo>
                  <a:lnTo>
                    <a:pt x="3495" y="619"/>
                  </a:lnTo>
                  <a:lnTo>
                    <a:pt x="3495" y="625"/>
                  </a:lnTo>
                  <a:lnTo>
                    <a:pt x="3490" y="625"/>
                  </a:lnTo>
                  <a:lnTo>
                    <a:pt x="3490" y="631"/>
                  </a:lnTo>
                  <a:lnTo>
                    <a:pt x="3484" y="631"/>
                  </a:lnTo>
                  <a:lnTo>
                    <a:pt x="3484" y="642"/>
                  </a:lnTo>
                  <a:lnTo>
                    <a:pt x="3478" y="642"/>
                  </a:lnTo>
                  <a:lnTo>
                    <a:pt x="3478" y="654"/>
                  </a:lnTo>
                  <a:lnTo>
                    <a:pt x="3472" y="654"/>
                  </a:lnTo>
                  <a:lnTo>
                    <a:pt x="3472" y="665"/>
                  </a:lnTo>
                  <a:lnTo>
                    <a:pt x="3467" y="665"/>
                  </a:lnTo>
                  <a:lnTo>
                    <a:pt x="3467" y="671"/>
                  </a:lnTo>
                  <a:lnTo>
                    <a:pt x="3462" y="671"/>
                  </a:lnTo>
                  <a:lnTo>
                    <a:pt x="3462" y="676"/>
                  </a:lnTo>
                  <a:lnTo>
                    <a:pt x="3455" y="676"/>
                  </a:lnTo>
                  <a:lnTo>
                    <a:pt x="3455" y="688"/>
                  </a:lnTo>
                  <a:lnTo>
                    <a:pt x="3450" y="688"/>
                  </a:lnTo>
                  <a:lnTo>
                    <a:pt x="3450" y="699"/>
                  </a:lnTo>
                  <a:lnTo>
                    <a:pt x="3445" y="699"/>
                  </a:lnTo>
                  <a:lnTo>
                    <a:pt x="3445" y="705"/>
                  </a:lnTo>
                  <a:lnTo>
                    <a:pt x="3438" y="705"/>
                  </a:lnTo>
                  <a:lnTo>
                    <a:pt x="3438" y="722"/>
                  </a:lnTo>
                  <a:lnTo>
                    <a:pt x="3433" y="722"/>
                  </a:lnTo>
                  <a:lnTo>
                    <a:pt x="3433" y="728"/>
                  </a:lnTo>
                  <a:lnTo>
                    <a:pt x="3427" y="728"/>
                  </a:lnTo>
                  <a:lnTo>
                    <a:pt x="3427" y="733"/>
                  </a:lnTo>
                  <a:lnTo>
                    <a:pt x="3421" y="733"/>
                  </a:lnTo>
                  <a:lnTo>
                    <a:pt x="3421" y="739"/>
                  </a:lnTo>
                  <a:lnTo>
                    <a:pt x="3416" y="739"/>
                  </a:lnTo>
                  <a:lnTo>
                    <a:pt x="3416" y="745"/>
                  </a:lnTo>
                  <a:lnTo>
                    <a:pt x="3410" y="745"/>
                  </a:lnTo>
                  <a:lnTo>
                    <a:pt x="3410" y="751"/>
                  </a:lnTo>
                  <a:lnTo>
                    <a:pt x="3405" y="751"/>
                  </a:lnTo>
                  <a:lnTo>
                    <a:pt x="3405" y="756"/>
                  </a:lnTo>
                  <a:lnTo>
                    <a:pt x="3398" y="756"/>
                  </a:lnTo>
                  <a:lnTo>
                    <a:pt x="3398" y="762"/>
                  </a:lnTo>
                  <a:lnTo>
                    <a:pt x="3393" y="762"/>
                  </a:lnTo>
                  <a:lnTo>
                    <a:pt x="3393" y="773"/>
                  </a:lnTo>
                  <a:lnTo>
                    <a:pt x="3388" y="773"/>
                  </a:lnTo>
                  <a:lnTo>
                    <a:pt x="3388" y="779"/>
                  </a:lnTo>
                  <a:lnTo>
                    <a:pt x="3376" y="779"/>
                  </a:lnTo>
                  <a:lnTo>
                    <a:pt x="3376" y="785"/>
                  </a:lnTo>
                  <a:lnTo>
                    <a:pt x="3370" y="785"/>
                  </a:lnTo>
                  <a:lnTo>
                    <a:pt x="3370" y="796"/>
                  </a:lnTo>
                  <a:lnTo>
                    <a:pt x="3364" y="796"/>
                  </a:lnTo>
                  <a:lnTo>
                    <a:pt x="3364" y="802"/>
                  </a:lnTo>
                  <a:lnTo>
                    <a:pt x="3359" y="802"/>
                  </a:lnTo>
                  <a:lnTo>
                    <a:pt x="3359" y="808"/>
                  </a:lnTo>
                  <a:lnTo>
                    <a:pt x="3353" y="808"/>
                  </a:lnTo>
                  <a:lnTo>
                    <a:pt x="3353" y="813"/>
                  </a:lnTo>
                  <a:lnTo>
                    <a:pt x="3348" y="813"/>
                  </a:lnTo>
                  <a:lnTo>
                    <a:pt x="3348" y="825"/>
                  </a:lnTo>
                  <a:lnTo>
                    <a:pt x="3341" y="825"/>
                  </a:lnTo>
                  <a:lnTo>
                    <a:pt x="3341" y="830"/>
                  </a:lnTo>
                  <a:lnTo>
                    <a:pt x="3336" y="830"/>
                  </a:lnTo>
                  <a:lnTo>
                    <a:pt x="3336" y="835"/>
                  </a:lnTo>
                  <a:lnTo>
                    <a:pt x="3331" y="835"/>
                  </a:lnTo>
                  <a:lnTo>
                    <a:pt x="3331" y="841"/>
                  </a:lnTo>
                  <a:lnTo>
                    <a:pt x="3324" y="841"/>
                  </a:lnTo>
                  <a:lnTo>
                    <a:pt x="3324" y="847"/>
                  </a:lnTo>
                  <a:lnTo>
                    <a:pt x="3319" y="847"/>
                  </a:lnTo>
                  <a:lnTo>
                    <a:pt x="3319" y="853"/>
                  </a:lnTo>
                  <a:lnTo>
                    <a:pt x="3313" y="853"/>
                  </a:lnTo>
                  <a:lnTo>
                    <a:pt x="3313" y="858"/>
                  </a:lnTo>
                  <a:lnTo>
                    <a:pt x="3307" y="858"/>
                  </a:lnTo>
                  <a:lnTo>
                    <a:pt x="3307" y="870"/>
                  </a:lnTo>
                  <a:lnTo>
                    <a:pt x="3302" y="870"/>
                  </a:lnTo>
                  <a:lnTo>
                    <a:pt x="3302" y="875"/>
                  </a:lnTo>
                  <a:lnTo>
                    <a:pt x="3296" y="875"/>
                  </a:lnTo>
                  <a:lnTo>
                    <a:pt x="3296" y="882"/>
                  </a:lnTo>
                  <a:lnTo>
                    <a:pt x="3290" y="882"/>
                  </a:lnTo>
                  <a:lnTo>
                    <a:pt x="3290" y="887"/>
                  </a:lnTo>
                  <a:lnTo>
                    <a:pt x="3284" y="887"/>
                  </a:lnTo>
                  <a:lnTo>
                    <a:pt x="3284" y="892"/>
                  </a:lnTo>
                  <a:lnTo>
                    <a:pt x="3279" y="892"/>
                  </a:lnTo>
                  <a:lnTo>
                    <a:pt x="3279" y="898"/>
                  </a:lnTo>
                  <a:lnTo>
                    <a:pt x="3274" y="898"/>
                  </a:lnTo>
                  <a:lnTo>
                    <a:pt x="3274" y="910"/>
                  </a:lnTo>
                  <a:lnTo>
                    <a:pt x="3267" y="910"/>
                  </a:lnTo>
                  <a:lnTo>
                    <a:pt x="3267" y="915"/>
                  </a:lnTo>
                  <a:lnTo>
                    <a:pt x="3262" y="915"/>
                  </a:lnTo>
                  <a:lnTo>
                    <a:pt x="3262" y="921"/>
                  </a:lnTo>
                  <a:lnTo>
                    <a:pt x="3250" y="921"/>
                  </a:lnTo>
                  <a:lnTo>
                    <a:pt x="3250" y="927"/>
                  </a:lnTo>
                  <a:lnTo>
                    <a:pt x="3245" y="927"/>
                  </a:lnTo>
                  <a:lnTo>
                    <a:pt x="3245" y="932"/>
                  </a:lnTo>
                  <a:lnTo>
                    <a:pt x="3239" y="932"/>
                  </a:lnTo>
                  <a:lnTo>
                    <a:pt x="3239" y="939"/>
                  </a:lnTo>
                  <a:lnTo>
                    <a:pt x="3233" y="939"/>
                  </a:lnTo>
                  <a:lnTo>
                    <a:pt x="3233" y="944"/>
                  </a:lnTo>
                  <a:lnTo>
                    <a:pt x="3222" y="944"/>
                  </a:lnTo>
                  <a:lnTo>
                    <a:pt x="3222" y="949"/>
                  </a:lnTo>
                  <a:lnTo>
                    <a:pt x="3217" y="949"/>
                  </a:lnTo>
                  <a:lnTo>
                    <a:pt x="3217" y="955"/>
                  </a:lnTo>
                  <a:lnTo>
                    <a:pt x="3210" y="955"/>
                  </a:lnTo>
                  <a:lnTo>
                    <a:pt x="3210" y="961"/>
                  </a:lnTo>
                  <a:lnTo>
                    <a:pt x="3205" y="961"/>
                  </a:lnTo>
                  <a:lnTo>
                    <a:pt x="3205" y="967"/>
                  </a:lnTo>
                  <a:lnTo>
                    <a:pt x="3193" y="967"/>
                  </a:lnTo>
                  <a:lnTo>
                    <a:pt x="3193" y="972"/>
                  </a:lnTo>
                  <a:lnTo>
                    <a:pt x="3188" y="972"/>
                  </a:lnTo>
                  <a:lnTo>
                    <a:pt x="3188" y="978"/>
                  </a:lnTo>
                  <a:lnTo>
                    <a:pt x="3182" y="978"/>
                  </a:lnTo>
                  <a:lnTo>
                    <a:pt x="3182" y="984"/>
                  </a:lnTo>
                  <a:lnTo>
                    <a:pt x="3176" y="984"/>
                  </a:lnTo>
                  <a:lnTo>
                    <a:pt x="3176" y="989"/>
                  </a:lnTo>
                  <a:lnTo>
                    <a:pt x="3165" y="989"/>
                  </a:lnTo>
                  <a:lnTo>
                    <a:pt x="3165" y="996"/>
                  </a:lnTo>
                  <a:lnTo>
                    <a:pt x="3160" y="996"/>
                  </a:lnTo>
                  <a:lnTo>
                    <a:pt x="3160" y="1001"/>
                  </a:lnTo>
                  <a:lnTo>
                    <a:pt x="3153" y="1001"/>
                  </a:lnTo>
                  <a:lnTo>
                    <a:pt x="3153" y="1006"/>
                  </a:lnTo>
                  <a:lnTo>
                    <a:pt x="3143" y="1006"/>
                  </a:lnTo>
                  <a:lnTo>
                    <a:pt x="3143" y="1012"/>
                  </a:lnTo>
                  <a:lnTo>
                    <a:pt x="3137" y="1012"/>
                  </a:lnTo>
                  <a:lnTo>
                    <a:pt x="3137" y="1018"/>
                  </a:lnTo>
                  <a:lnTo>
                    <a:pt x="3125" y="1018"/>
                  </a:lnTo>
                  <a:lnTo>
                    <a:pt x="3125" y="1024"/>
                  </a:lnTo>
                  <a:lnTo>
                    <a:pt x="3120" y="1024"/>
                  </a:lnTo>
                  <a:lnTo>
                    <a:pt x="3120" y="1029"/>
                  </a:lnTo>
                  <a:lnTo>
                    <a:pt x="3115" y="1029"/>
                  </a:lnTo>
                  <a:lnTo>
                    <a:pt x="3115" y="1035"/>
                  </a:lnTo>
                  <a:lnTo>
                    <a:pt x="3103" y="1035"/>
                  </a:lnTo>
                  <a:lnTo>
                    <a:pt x="3103" y="1041"/>
                  </a:lnTo>
                  <a:lnTo>
                    <a:pt x="3097" y="1041"/>
                  </a:lnTo>
                  <a:lnTo>
                    <a:pt x="3097" y="1046"/>
                  </a:lnTo>
                  <a:lnTo>
                    <a:pt x="3091" y="1046"/>
                  </a:lnTo>
                  <a:lnTo>
                    <a:pt x="3091" y="1053"/>
                  </a:lnTo>
                  <a:lnTo>
                    <a:pt x="3080" y="1053"/>
                  </a:lnTo>
                  <a:lnTo>
                    <a:pt x="3080" y="1058"/>
                  </a:lnTo>
                  <a:lnTo>
                    <a:pt x="3074" y="1058"/>
                  </a:lnTo>
                  <a:lnTo>
                    <a:pt x="3074" y="1063"/>
                  </a:lnTo>
                  <a:lnTo>
                    <a:pt x="3068" y="1063"/>
                  </a:lnTo>
                  <a:lnTo>
                    <a:pt x="3068" y="1069"/>
                  </a:lnTo>
                  <a:lnTo>
                    <a:pt x="3063" y="1069"/>
                  </a:lnTo>
                  <a:lnTo>
                    <a:pt x="3063" y="1075"/>
                  </a:lnTo>
                  <a:lnTo>
                    <a:pt x="3058" y="1075"/>
                  </a:lnTo>
                  <a:lnTo>
                    <a:pt x="3058" y="1080"/>
                  </a:lnTo>
                  <a:lnTo>
                    <a:pt x="3040" y="1080"/>
                  </a:lnTo>
                  <a:lnTo>
                    <a:pt x="3040" y="1086"/>
                  </a:lnTo>
                  <a:lnTo>
                    <a:pt x="3034" y="1086"/>
                  </a:lnTo>
                  <a:lnTo>
                    <a:pt x="3034" y="1092"/>
                  </a:lnTo>
                  <a:lnTo>
                    <a:pt x="3029" y="1092"/>
                  </a:lnTo>
                  <a:lnTo>
                    <a:pt x="3029" y="1098"/>
                  </a:lnTo>
                  <a:lnTo>
                    <a:pt x="3023" y="1098"/>
                  </a:lnTo>
                  <a:lnTo>
                    <a:pt x="3023" y="1103"/>
                  </a:lnTo>
                  <a:lnTo>
                    <a:pt x="3011" y="1103"/>
                  </a:lnTo>
                  <a:lnTo>
                    <a:pt x="3011" y="1109"/>
                  </a:lnTo>
                  <a:lnTo>
                    <a:pt x="3006" y="1109"/>
                  </a:lnTo>
                  <a:lnTo>
                    <a:pt x="3006" y="1115"/>
                  </a:lnTo>
                  <a:lnTo>
                    <a:pt x="2994" y="1115"/>
                  </a:lnTo>
                  <a:lnTo>
                    <a:pt x="2994" y="1120"/>
                  </a:lnTo>
                  <a:lnTo>
                    <a:pt x="2989" y="1120"/>
                  </a:lnTo>
                  <a:lnTo>
                    <a:pt x="2989" y="1126"/>
                  </a:lnTo>
                  <a:lnTo>
                    <a:pt x="2977" y="1126"/>
                  </a:lnTo>
                  <a:lnTo>
                    <a:pt x="2977" y="1132"/>
                  </a:lnTo>
                  <a:lnTo>
                    <a:pt x="2972" y="1132"/>
                  </a:lnTo>
                  <a:lnTo>
                    <a:pt x="2972" y="1137"/>
                  </a:lnTo>
                  <a:lnTo>
                    <a:pt x="2966" y="1137"/>
                  </a:lnTo>
                  <a:lnTo>
                    <a:pt x="2966" y="1143"/>
                  </a:lnTo>
                  <a:lnTo>
                    <a:pt x="2954" y="1143"/>
                  </a:lnTo>
                  <a:lnTo>
                    <a:pt x="2954" y="1149"/>
                  </a:lnTo>
                  <a:lnTo>
                    <a:pt x="2943" y="1149"/>
                  </a:lnTo>
                  <a:lnTo>
                    <a:pt x="2943" y="1155"/>
                  </a:lnTo>
                  <a:lnTo>
                    <a:pt x="2932" y="1155"/>
                  </a:lnTo>
                  <a:lnTo>
                    <a:pt x="2932" y="1160"/>
                  </a:lnTo>
                  <a:lnTo>
                    <a:pt x="2920" y="1160"/>
                  </a:lnTo>
                  <a:lnTo>
                    <a:pt x="2920" y="1166"/>
                  </a:lnTo>
                  <a:lnTo>
                    <a:pt x="2909" y="1166"/>
                  </a:lnTo>
                  <a:lnTo>
                    <a:pt x="2909" y="1172"/>
                  </a:lnTo>
                  <a:lnTo>
                    <a:pt x="2897" y="1172"/>
                  </a:lnTo>
                  <a:lnTo>
                    <a:pt x="2897" y="1177"/>
                  </a:lnTo>
                  <a:lnTo>
                    <a:pt x="2886" y="1177"/>
                  </a:lnTo>
                  <a:lnTo>
                    <a:pt x="2886" y="1183"/>
                  </a:lnTo>
                  <a:lnTo>
                    <a:pt x="2880" y="1183"/>
                  </a:lnTo>
                  <a:lnTo>
                    <a:pt x="2880" y="1189"/>
                  </a:lnTo>
                  <a:lnTo>
                    <a:pt x="2870" y="1189"/>
                  </a:lnTo>
                  <a:lnTo>
                    <a:pt x="2870" y="1194"/>
                  </a:lnTo>
                  <a:lnTo>
                    <a:pt x="2858" y="1194"/>
                  </a:lnTo>
                  <a:lnTo>
                    <a:pt x="2858" y="1200"/>
                  </a:lnTo>
                  <a:lnTo>
                    <a:pt x="2852" y="1200"/>
                  </a:lnTo>
                  <a:lnTo>
                    <a:pt x="2852" y="1206"/>
                  </a:lnTo>
                  <a:lnTo>
                    <a:pt x="2840" y="1206"/>
                  </a:lnTo>
                  <a:lnTo>
                    <a:pt x="2840" y="1212"/>
                  </a:lnTo>
                  <a:lnTo>
                    <a:pt x="2835" y="1212"/>
                  </a:lnTo>
                  <a:lnTo>
                    <a:pt x="2835" y="1217"/>
                  </a:lnTo>
                  <a:lnTo>
                    <a:pt x="2829" y="1217"/>
                  </a:lnTo>
                  <a:lnTo>
                    <a:pt x="2829" y="1223"/>
                  </a:lnTo>
                  <a:lnTo>
                    <a:pt x="2818" y="1223"/>
                  </a:lnTo>
                  <a:lnTo>
                    <a:pt x="2818" y="1229"/>
                  </a:lnTo>
                  <a:lnTo>
                    <a:pt x="2806" y="1229"/>
                  </a:lnTo>
                  <a:lnTo>
                    <a:pt x="2806" y="1234"/>
                  </a:lnTo>
                  <a:lnTo>
                    <a:pt x="2795" y="1234"/>
                  </a:lnTo>
                  <a:lnTo>
                    <a:pt x="2795" y="1239"/>
                  </a:lnTo>
                  <a:lnTo>
                    <a:pt x="2784" y="1239"/>
                  </a:lnTo>
                  <a:lnTo>
                    <a:pt x="2784" y="1246"/>
                  </a:lnTo>
                  <a:lnTo>
                    <a:pt x="2778" y="1246"/>
                  </a:lnTo>
                  <a:lnTo>
                    <a:pt x="2778" y="1251"/>
                  </a:lnTo>
                  <a:lnTo>
                    <a:pt x="2772" y="1251"/>
                  </a:lnTo>
                  <a:lnTo>
                    <a:pt x="2772" y="1257"/>
                  </a:lnTo>
                  <a:lnTo>
                    <a:pt x="2766" y="1257"/>
                  </a:lnTo>
                  <a:lnTo>
                    <a:pt x="2766" y="1262"/>
                  </a:lnTo>
                  <a:lnTo>
                    <a:pt x="2761" y="1262"/>
                  </a:lnTo>
                  <a:lnTo>
                    <a:pt x="2761" y="1268"/>
                  </a:lnTo>
                  <a:lnTo>
                    <a:pt x="2756" y="1268"/>
                  </a:lnTo>
                  <a:lnTo>
                    <a:pt x="2756" y="1274"/>
                  </a:lnTo>
                  <a:lnTo>
                    <a:pt x="2749" y="1274"/>
                  </a:lnTo>
                  <a:lnTo>
                    <a:pt x="2749" y="1279"/>
                  </a:lnTo>
                  <a:lnTo>
                    <a:pt x="2738" y="1279"/>
                  </a:lnTo>
                  <a:lnTo>
                    <a:pt x="2738" y="1286"/>
                  </a:lnTo>
                  <a:lnTo>
                    <a:pt x="2733" y="1286"/>
                  </a:lnTo>
                  <a:lnTo>
                    <a:pt x="2733" y="1291"/>
                  </a:lnTo>
                  <a:lnTo>
                    <a:pt x="2721" y="1291"/>
                  </a:lnTo>
                  <a:lnTo>
                    <a:pt x="2721" y="1296"/>
                  </a:lnTo>
                  <a:lnTo>
                    <a:pt x="2709" y="1296"/>
                  </a:lnTo>
                  <a:lnTo>
                    <a:pt x="2709" y="1302"/>
                  </a:lnTo>
                  <a:lnTo>
                    <a:pt x="2704" y="1302"/>
                  </a:lnTo>
                  <a:lnTo>
                    <a:pt x="2704" y="1308"/>
                  </a:lnTo>
                  <a:lnTo>
                    <a:pt x="2693" y="1308"/>
                  </a:lnTo>
                  <a:lnTo>
                    <a:pt x="2693" y="1314"/>
                  </a:lnTo>
                  <a:lnTo>
                    <a:pt x="2681" y="1314"/>
                  </a:lnTo>
                  <a:lnTo>
                    <a:pt x="2681" y="1319"/>
                  </a:lnTo>
                  <a:lnTo>
                    <a:pt x="2670" y="1319"/>
                  </a:lnTo>
                  <a:lnTo>
                    <a:pt x="2670" y="1325"/>
                  </a:lnTo>
                  <a:lnTo>
                    <a:pt x="2664" y="1325"/>
                  </a:lnTo>
                  <a:lnTo>
                    <a:pt x="2664" y="1331"/>
                  </a:lnTo>
                  <a:lnTo>
                    <a:pt x="2652" y="1331"/>
                  </a:lnTo>
                  <a:lnTo>
                    <a:pt x="2652" y="1336"/>
                  </a:lnTo>
                  <a:lnTo>
                    <a:pt x="2647" y="1336"/>
                  </a:lnTo>
                  <a:lnTo>
                    <a:pt x="2647" y="1343"/>
                  </a:lnTo>
                  <a:lnTo>
                    <a:pt x="2636" y="1343"/>
                  </a:lnTo>
                  <a:lnTo>
                    <a:pt x="2636" y="1348"/>
                  </a:lnTo>
                  <a:lnTo>
                    <a:pt x="2630" y="1348"/>
                  </a:lnTo>
                  <a:lnTo>
                    <a:pt x="2630" y="1353"/>
                  </a:lnTo>
                  <a:lnTo>
                    <a:pt x="2624" y="1353"/>
                  </a:lnTo>
                  <a:lnTo>
                    <a:pt x="2624" y="1359"/>
                  </a:lnTo>
                  <a:lnTo>
                    <a:pt x="2619" y="1359"/>
                  </a:lnTo>
                  <a:lnTo>
                    <a:pt x="2619" y="1365"/>
                  </a:lnTo>
                  <a:lnTo>
                    <a:pt x="2607" y="1365"/>
                  </a:lnTo>
                  <a:lnTo>
                    <a:pt x="2607" y="1371"/>
                  </a:lnTo>
                  <a:lnTo>
                    <a:pt x="2602" y="1371"/>
                  </a:lnTo>
                  <a:lnTo>
                    <a:pt x="2602" y="1376"/>
                  </a:lnTo>
                  <a:lnTo>
                    <a:pt x="2595" y="1376"/>
                  </a:lnTo>
                  <a:lnTo>
                    <a:pt x="2595" y="1382"/>
                  </a:lnTo>
                  <a:lnTo>
                    <a:pt x="2590" y="1382"/>
                  </a:lnTo>
                  <a:lnTo>
                    <a:pt x="2590" y="1388"/>
                  </a:lnTo>
                  <a:lnTo>
                    <a:pt x="2579" y="1388"/>
                  </a:lnTo>
                  <a:lnTo>
                    <a:pt x="2579" y="1393"/>
                  </a:lnTo>
                  <a:lnTo>
                    <a:pt x="2573" y="1393"/>
                  </a:lnTo>
                  <a:lnTo>
                    <a:pt x="2573" y="1400"/>
                  </a:lnTo>
                  <a:lnTo>
                    <a:pt x="2567" y="1400"/>
                  </a:lnTo>
                  <a:lnTo>
                    <a:pt x="2567" y="1405"/>
                  </a:lnTo>
                  <a:lnTo>
                    <a:pt x="2556" y="1405"/>
                  </a:lnTo>
                  <a:lnTo>
                    <a:pt x="2556" y="1410"/>
                  </a:lnTo>
                  <a:lnTo>
                    <a:pt x="2550" y="1410"/>
                  </a:lnTo>
                  <a:lnTo>
                    <a:pt x="2550" y="1416"/>
                  </a:lnTo>
                  <a:lnTo>
                    <a:pt x="2545" y="1416"/>
                  </a:lnTo>
                  <a:lnTo>
                    <a:pt x="2545" y="1422"/>
                  </a:lnTo>
                  <a:lnTo>
                    <a:pt x="2538" y="1422"/>
                  </a:lnTo>
                  <a:lnTo>
                    <a:pt x="2538" y="1428"/>
                  </a:lnTo>
                  <a:lnTo>
                    <a:pt x="2533" y="1428"/>
                  </a:lnTo>
                  <a:lnTo>
                    <a:pt x="2533" y="1433"/>
                  </a:lnTo>
                  <a:lnTo>
                    <a:pt x="2522" y="1433"/>
                  </a:lnTo>
                  <a:lnTo>
                    <a:pt x="2522" y="1439"/>
                  </a:lnTo>
                  <a:lnTo>
                    <a:pt x="2516" y="1439"/>
                  </a:lnTo>
                  <a:lnTo>
                    <a:pt x="2516" y="1445"/>
                  </a:lnTo>
                  <a:lnTo>
                    <a:pt x="2511" y="1445"/>
                  </a:lnTo>
                  <a:lnTo>
                    <a:pt x="2511" y="1450"/>
                  </a:lnTo>
                  <a:lnTo>
                    <a:pt x="2499" y="1450"/>
                  </a:lnTo>
                  <a:lnTo>
                    <a:pt x="2499" y="1457"/>
                  </a:lnTo>
                  <a:lnTo>
                    <a:pt x="2488" y="1457"/>
                  </a:lnTo>
                  <a:lnTo>
                    <a:pt x="2488" y="1462"/>
                  </a:lnTo>
                  <a:lnTo>
                    <a:pt x="2476" y="1462"/>
                  </a:lnTo>
                  <a:lnTo>
                    <a:pt x="2476" y="1467"/>
                  </a:lnTo>
                  <a:lnTo>
                    <a:pt x="2459" y="1467"/>
                  </a:lnTo>
                  <a:lnTo>
                    <a:pt x="2459" y="1473"/>
                  </a:lnTo>
                  <a:lnTo>
                    <a:pt x="2454" y="1473"/>
                  </a:lnTo>
                  <a:lnTo>
                    <a:pt x="2454" y="1479"/>
                  </a:lnTo>
                  <a:lnTo>
                    <a:pt x="2442" y="1479"/>
                  </a:lnTo>
                  <a:lnTo>
                    <a:pt x="2442" y="1484"/>
                  </a:lnTo>
                  <a:lnTo>
                    <a:pt x="2436" y="1484"/>
                  </a:lnTo>
                  <a:lnTo>
                    <a:pt x="2436" y="1490"/>
                  </a:lnTo>
                  <a:lnTo>
                    <a:pt x="2425" y="1490"/>
                  </a:lnTo>
                  <a:lnTo>
                    <a:pt x="2425" y="1496"/>
                  </a:lnTo>
                  <a:lnTo>
                    <a:pt x="2408" y="1496"/>
                  </a:lnTo>
                  <a:lnTo>
                    <a:pt x="2408" y="1502"/>
                  </a:lnTo>
                  <a:lnTo>
                    <a:pt x="2391" y="1502"/>
                  </a:lnTo>
                  <a:lnTo>
                    <a:pt x="2391" y="1507"/>
                  </a:lnTo>
                  <a:lnTo>
                    <a:pt x="2379" y="1507"/>
                  </a:lnTo>
                  <a:lnTo>
                    <a:pt x="2379" y="1513"/>
                  </a:lnTo>
                  <a:lnTo>
                    <a:pt x="2362" y="1513"/>
                  </a:lnTo>
                  <a:lnTo>
                    <a:pt x="2362" y="1519"/>
                  </a:lnTo>
                  <a:lnTo>
                    <a:pt x="2345" y="1519"/>
                  </a:lnTo>
                  <a:lnTo>
                    <a:pt x="2345" y="1524"/>
                  </a:lnTo>
                  <a:lnTo>
                    <a:pt x="2334" y="1524"/>
                  </a:lnTo>
                  <a:lnTo>
                    <a:pt x="2334" y="1530"/>
                  </a:lnTo>
                  <a:lnTo>
                    <a:pt x="2317" y="1530"/>
                  </a:lnTo>
                  <a:lnTo>
                    <a:pt x="2317" y="1536"/>
                  </a:lnTo>
                  <a:lnTo>
                    <a:pt x="2305" y="1536"/>
                  </a:lnTo>
                  <a:lnTo>
                    <a:pt x="2305" y="1541"/>
                  </a:lnTo>
                  <a:lnTo>
                    <a:pt x="2300" y="1541"/>
                  </a:lnTo>
                  <a:lnTo>
                    <a:pt x="2300" y="1547"/>
                  </a:lnTo>
                  <a:lnTo>
                    <a:pt x="2289" y="1547"/>
                  </a:lnTo>
                  <a:lnTo>
                    <a:pt x="2289" y="1553"/>
                  </a:lnTo>
                  <a:lnTo>
                    <a:pt x="2283" y="1553"/>
                  </a:lnTo>
                  <a:lnTo>
                    <a:pt x="2283" y="1559"/>
                  </a:lnTo>
                  <a:lnTo>
                    <a:pt x="2265" y="1559"/>
                  </a:lnTo>
                  <a:lnTo>
                    <a:pt x="2265" y="1564"/>
                  </a:lnTo>
                  <a:lnTo>
                    <a:pt x="2260" y="1564"/>
                  </a:lnTo>
                  <a:lnTo>
                    <a:pt x="2260" y="1570"/>
                  </a:lnTo>
                  <a:lnTo>
                    <a:pt x="2243" y="1570"/>
                  </a:lnTo>
                  <a:lnTo>
                    <a:pt x="2243" y="1576"/>
                  </a:lnTo>
                  <a:lnTo>
                    <a:pt x="2226" y="1576"/>
                  </a:lnTo>
                  <a:lnTo>
                    <a:pt x="2226" y="1581"/>
                  </a:lnTo>
                  <a:lnTo>
                    <a:pt x="2215" y="1581"/>
                  </a:lnTo>
                  <a:lnTo>
                    <a:pt x="2215" y="1588"/>
                  </a:lnTo>
                  <a:lnTo>
                    <a:pt x="2186" y="1588"/>
                  </a:lnTo>
                  <a:lnTo>
                    <a:pt x="2186" y="1593"/>
                  </a:lnTo>
                  <a:lnTo>
                    <a:pt x="2175" y="1593"/>
                  </a:lnTo>
                  <a:lnTo>
                    <a:pt x="2175" y="1598"/>
                  </a:lnTo>
                  <a:lnTo>
                    <a:pt x="2163" y="1598"/>
                  </a:lnTo>
                  <a:lnTo>
                    <a:pt x="2163" y="1604"/>
                  </a:lnTo>
                  <a:lnTo>
                    <a:pt x="2158" y="1604"/>
                  </a:lnTo>
                  <a:lnTo>
                    <a:pt x="2158" y="1610"/>
                  </a:lnTo>
                  <a:lnTo>
                    <a:pt x="2146" y="1610"/>
                  </a:lnTo>
                  <a:lnTo>
                    <a:pt x="2146" y="1616"/>
                  </a:lnTo>
                  <a:lnTo>
                    <a:pt x="2129" y="1616"/>
                  </a:lnTo>
                  <a:lnTo>
                    <a:pt x="2129" y="1621"/>
                  </a:lnTo>
                  <a:lnTo>
                    <a:pt x="2118" y="1621"/>
                  </a:lnTo>
                  <a:lnTo>
                    <a:pt x="2118" y="1627"/>
                  </a:lnTo>
                  <a:lnTo>
                    <a:pt x="2095" y="1627"/>
                  </a:lnTo>
                  <a:lnTo>
                    <a:pt x="2095" y="1633"/>
                  </a:lnTo>
                  <a:lnTo>
                    <a:pt x="2067" y="1633"/>
                  </a:lnTo>
                  <a:lnTo>
                    <a:pt x="2067" y="1638"/>
                  </a:lnTo>
                  <a:lnTo>
                    <a:pt x="2038" y="1638"/>
                  </a:lnTo>
                  <a:lnTo>
                    <a:pt x="2038" y="1645"/>
                  </a:lnTo>
                  <a:lnTo>
                    <a:pt x="2032" y="1645"/>
                  </a:lnTo>
                  <a:lnTo>
                    <a:pt x="2032" y="1650"/>
                  </a:lnTo>
                  <a:lnTo>
                    <a:pt x="2015" y="1650"/>
                  </a:lnTo>
                  <a:lnTo>
                    <a:pt x="2015" y="1655"/>
                  </a:lnTo>
                  <a:lnTo>
                    <a:pt x="1992" y="1655"/>
                  </a:lnTo>
                  <a:lnTo>
                    <a:pt x="1992" y="1661"/>
                  </a:lnTo>
                  <a:lnTo>
                    <a:pt x="1975" y="1661"/>
                  </a:lnTo>
                  <a:lnTo>
                    <a:pt x="1975" y="1666"/>
                  </a:lnTo>
                  <a:lnTo>
                    <a:pt x="1946" y="1666"/>
                  </a:lnTo>
                  <a:lnTo>
                    <a:pt x="1946" y="1673"/>
                  </a:lnTo>
                  <a:lnTo>
                    <a:pt x="1935" y="1673"/>
                  </a:lnTo>
                  <a:lnTo>
                    <a:pt x="1935" y="1678"/>
                  </a:lnTo>
                  <a:lnTo>
                    <a:pt x="1918" y="1678"/>
                  </a:lnTo>
                  <a:lnTo>
                    <a:pt x="1918" y="1683"/>
                  </a:lnTo>
                  <a:lnTo>
                    <a:pt x="1901" y="1683"/>
                  </a:lnTo>
                  <a:lnTo>
                    <a:pt x="1901" y="1690"/>
                  </a:lnTo>
                  <a:lnTo>
                    <a:pt x="1896" y="1690"/>
                  </a:lnTo>
                  <a:lnTo>
                    <a:pt x="1896" y="1695"/>
                  </a:lnTo>
                  <a:lnTo>
                    <a:pt x="1879" y="1695"/>
                  </a:lnTo>
                  <a:lnTo>
                    <a:pt x="1879" y="1700"/>
                  </a:lnTo>
                  <a:lnTo>
                    <a:pt x="1833" y="1700"/>
                  </a:lnTo>
                  <a:lnTo>
                    <a:pt x="1833" y="1706"/>
                  </a:lnTo>
                  <a:lnTo>
                    <a:pt x="1816" y="1706"/>
                  </a:lnTo>
                  <a:lnTo>
                    <a:pt x="1816" y="1712"/>
                  </a:lnTo>
                  <a:lnTo>
                    <a:pt x="1794" y="1712"/>
                  </a:lnTo>
                  <a:lnTo>
                    <a:pt x="1794" y="1718"/>
                  </a:lnTo>
                  <a:lnTo>
                    <a:pt x="1776" y="1718"/>
                  </a:lnTo>
                  <a:lnTo>
                    <a:pt x="1776" y="1723"/>
                  </a:lnTo>
                  <a:lnTo>
                    <a:pt x="1759" y="1723"/>
                  </a:lnTo>
                  <a:lnTo>
                    <a:pt x="1759" y="1729"/>
                  </a:lnTo>
                  <a:lnTo>
                    <a:pt x="1754" y="1729"/>
                  </a:lnTo>
                  <a:lnTo>
                    <a:pt x="1754" y="1735"/>
                  </a:lnTo>
                  <a:lnTo>
                    <a:pt x="1708" y="1735"/>
                  </a:lnTo>
                  <a:lnTo>
                    <a:pt x="1708" y="1740"/>
                  </a:lnTo>
                  <a:lnTo>
                    <a:pt x="1697" y="1740"/>
                  </a:lnTo>
                  <a:lnTo>
                    <a:pt x="1697" y="1747"/>
                  </a:lnTo>
                  <a:lnTo>
                    <a:pt x="1680" y="1747"/>
                  </a:lnTo>
                  <a:lnTo>
                    <a:pt x="1680" y="1752"/>
                  </a:lnTo>
                  <a:lnTo>
                    <a:pt x="1668" y="1752"/>
                  </a:lnTo>
                  <a:lnTo>
                    <a:pt x="1668" y="1757"/>
                  </a:lnTo>
                  <a:lnTo>
                    <a:pt x="1651" y="1757"/>
                  </a:lnTo>
                  <a:lnTo>
                    <a:pt x="1651" y="1763"/>
                  </a:lnTo>
                  <a:lnTo>
                    <a:pt x="1640" y="1763"/>
                  </a:lnTo>
                  <a:lnTo>
                    <a:pt x="1640" y="1769"/>
                  </a:lnTo>
                  <a:lnTo>
                    <a:pt x="1623" y="1769"/>
                  </a:lnTo>
                  <a:lnTo>
                    <a:pt x="1623" y="1775"/>
                  </a:lnTo>
                  <a:lnTo>
                    <a:pt x="1611" y="1775"/>
                  </a:lnTo>
                  <a:lnTo>
                    <a:pt x="1611" y="1780"/>
                  </a:lnTo>
                  <a:lnTo>
                    <a:pt x="1599" y="1780"/>
                  </a:lnTo>
                  <a:lnTo>
                    <a:pt x="1599" y="1786"/>
                  </a:lnTo>
                  <a:lnTo>
                    <a:pt x="1594" y="1786"/>
                  </a:lnTo>
                  <a:lnTo>
                    <a:pt x="1594" y="1792"/>
                  </a:lnTo>
                  <a:lnTo>
                    <a:pt x="1583" y="1792"/>
                  </a:lnTo>
                  <a:lnTo>
                    <a:pt x="1583" y="1797"/>
                  </a:lnTo>
                  <a:lnTo>
                    <a:pt x="1571" y="1797"/>
                  </a:lnTo>
                  <a:lnTo>
                    <a:pt x="1571" y="1804"/>
                  </a:lnTo>
                  <a:lnTo>
                    <a:pt x="1559" y="1804"/>
                  </a:lnTo>
                  <a:lnTo>
                    <a:pt x="1559" y="1809"/>
                  </a:lnTo>
                  <a:lnTo>
                    <a:pt x="1549" y="1809"/>
                  </a:lnTo>
                  <a:lnTo>
                    <a:pt x="1549" y="1814"/>
                  </a:lnTo>
                  <a:lnTo>
                    <a:pt x="1542" y="1814"/>
                  </a:lnTo>
                  <a:lnTo>
                    <a:pt x="1542" y="1820"/>
                  </a:lnTo>
                  <a:lnTo>
                    <a:pt x="1531" y="1820"/>
                  </a:lnTo>
                  <a:lnTo>
                    <a:pt x="1531" y="1826"/>
                  </a:lnTo>
                  <a:lnTo>
                    <a:pt x="1526" y="1826"/>
                  </a:lnTo>
                  <a:lnTo>
                    <a:pt x="1526" y="1832"/>
                  </a:lnTo>
                  <a:lnTo>
                    <a:pt x="1514" y="1832"/>
                  </a:lnTo>
                  <a:lnTo>
                    <a:pt x="1514" y="1837"/>
                  </a:lnTo>
                  <a:lnTo>
                    <a:pt x="1509" y="1837"/>
                  </a:lnTo>
                  <a:lnTo>
                    <a:pt x="1509" y="1843"/>
                  </a:lnTo>
                  <a:lnTo>
                    <a:pt x="1497" y="1843"/>
                  </a:lnTo>
                  <a:lnTo>
                    <a:pt x="1497" y="1849"/>
                  </a:lnTo>
                  <a:lnTo>
                    <a:pt x="1486" y="1849"/>
                  </a:lnTo>
                  <a:lnTo>
                    <a:pt x="1486" y="1854"/>
                  </a:lnTo>
                  <a:lnTo>
                    <a:pt x="1474" y="1854"/>
                  </a:lnTo>
                  <a:lnTo>
                    <a:pt x="1474" y="1861"/>
                  </a:lnTo>
                  <a:lnTo>
                    <a:pt x="1457" y="1861"/>
                  </a:lnTo>
                  <a:lnTo>
                    <a:pt x="1457" y="1866"/>
                  </a:lnTo>
                  <a:lnTo>
                    <a:pt x="1446" y="1866"/>
                  </a:lnTo>
                  <a:lnTo>
                    <a:pt x="1446" y="1871"/>
                  </a:lnTo>
                  <a:lnTo>
                    <a:pt x="1440" y="1871"/>
                  </a:lnTo>
                  <a:lnTo>
                    <a:pt x="1440" y="1877"/>
                  </a:lnTo>
                  <a:lnTo>
                    <a:pt x="1429" y="1877"/>
                  </a:lnTo>
                  <a:lnTo>
                    <a:pt x="1429" y="1883"/>
                  </a:lnTo>
                  <a:lnTo>
                    <a:pt x="1417" y="1883"/>
                  </a:lnTo>
                  <a:lnTo>
                    <a:pt x="1417" y="1888"/>
                  </a:lnTo>
                  <a:lnTo>
                    <a:pt x="1412" y="1888"/>
                  </a:lnTo>
                  <a:lnTo>
                    <a:pt x="1412" y="1894"/>
                  </a:lnTo>
                  <a:lnTo>
                    <a:pt x="1400" y="1894"/>
                  </a:lnTo>
                  <a:lnTo>
                    <a:pt x="1400" y="1900"/>
                  </a:lnTo>
                  <a:lnTo>
                    <a:pt x="1389" y="1900"/>
                  </a:lnTo>
                  <a:lnTo>
                    <a:pt x="1389" y="1906"/>
                  </a:lnTo>
                  <a:lnTo>
                    <a:pt x="1383" y="1906"/>
                  </a:lnTo>
                  <a:lnTo>
                    <a:pt x="1383" y="1911"/>
                  </a:lnTo>
                  <a:lnTo>
                    <a:pt x="1378" y="1911"/>
                  </a:lnTo>
                  <a:lnTo>
                    <a:pt x="1378" y="1917"/>
                  </a:lnTo>
                  <a:lnTo>
                    <a:pt x="1366" y="1917"/>
                  </a:lnTo>
                  <a:lnTo>
                    <a:pt x="1366" y="1923"/>
                  </a:lnTo>
                  <a:lnTo>
                    <a:pt x="1355" y="1923"/>
                  </a:lnTo>
                  <a:lnTo>
                    <a:pt x="1355" y="1928"/>
                  </a:lnTo>
                  <a:lnTo>
                    <a:pt x="1343" y="1928"/>
                  </a:lnTo>
                  <a:lnTo>
                    <a:pt x="1343" y="1935"/>
                  </a:lnTo>
                  <a:lnTo>
                    <a:pt x="1338" y="1935"/>
                  </a:lnTo>
                  <a:lnTo>
                    <a:pt x="1338" y="1940"/>
                  </a:lnTo>
                  <a:lnTo>
                    <a:pt x="1326" y="1940"/>
                  </a:lnTo>
                  <a:lnTo>
                    <a:pt x="1326" y="1945"/>
                  </a:lnTo>
                  <a:lnTo>
                    <a:pt x="1321" y="1945"/>
                  </a:lnTo>
                  <a:lnTo>
                    <a:pt x="1321" y="1951"/>
                  </a:lnTo>
                  <a:lnTo>
                    <a:pt x="1309" y="1951"/>
                  </a:lnTo>
                  <a:lnTo>
                    <a:pt x="1309" y="1957"/>
                  </a:lnTo>
                  <a:lnTo>
                    <a:pt x="1303" y="1957"/>
                  </a:lnTo>
                  <a:lnTo>
                    <a:pt x="1303" y="1963"/>
                  </a:lnTo>
                  <a:lnTo>
                    <a:pt x="1298" y="1963"/>
                  </a:lnTo>
                  <a:lnTo>
                    <a:pt x="1298" y="1968"/>
                  </a:lnTo>
                  <a:lnTo>
                    <a:pt x="1281" y="1968"/>
                  </a:lnTo>
                  <a:lnTo>
                    <a:pt x="1281" y="1974"/>
                  </a:lnTo>
                  <a:lnTo>
                    <a:pt x="1276" y="1974"/>
                  </a:lnTo>
                  <a:lnTo>
                    <a:pt x="1276" y="1980"/>
                  </a:lnTo>
                  <a:lnTo>
                    <a:pt x="1269" y="1980"/>
                  </a:lnTo>
                  <a:lnTo>
                    <a:pt x="1269" y="1985"/>
                  </a:lnTo>
                  <a:lnTo>
                    <a:pt x="1264" y="1985"/>
                  </a:lnTo>
                  <a:lnTo>
                    <a:pt x="1264" y="1992"/>
                  </a:lnTo>
                  <a:lnTo>
                    <a:pt x="1258" y="1992"/>
                  </a:lnTo>
                  <a:lnTo>
                    <a:pt x="1258" y="1997"/>
                  </a:lnTo>
                  <a:lnTo>
                    <a:pt x="1247" y="1997"/>
                  </a:lnTo>
                  <a:lnTo>
                    <a:pt x="1247" y="2002"/>
                  </a:lnTo>
                  <a:lnTo>
                    <a:pt x="1241" y="2002"/>
                  </a:lnTo>
                  <a:lnTo>
                    <a:pt x="1241" y="2008"/>
                  </a:lnTo>
                  <a:lnTo>
                    <a:pt x="1236" y="2008"/>
                  </a:lnTo>
                  <a:lnTo>
                    <a:pt x="1236" y="2014"/>
                  </a:lnTo>
                  <a:lnTo>
                    <a:pt x="1229" y="2014"/>
                  </a:lnTo>
                  <a:lnTo>
                    <a:pt x="1229" y="2020"/>
                  </a:lnTo>
                  <a:lnTo>
                    <a:pt x="1219" y="2020"/>
                  </a:lnTo>
                  <a:lnTo>
                    <a:pt x="1219" y="2025"/>
                  </a:lnTo>
                  <a:lnTo>
                    <a:pt x="1212" y="2025"/>
                  </a:lnTo>
                  <a:lnTo>
                    <a:pt x="1212" y="2031"/>
                  </a:lnTo>
                  <a:lnTo>
                    <a:pt x="1201" y="2031"/>
                  </a:lnTo>
                  <a:lnTo>
                    <a:pt x="1201" y="2037"/>
                  </a:lnTo>
                  <a:lnTo>
                    <a:pt x="1195" y="2037"/>
                  </a:lnTo>
                  <a:lnTo>
                    <a:pt x="1195" y="2042"/>
                  </a:lnTo>
                  <a:lnTo>
                    <a:pt x="1190" y="2042"/>
                  </a:lnTo>
                  <a:lnTo>
                    <a:pt x="1190" y="2049"/>
                  </a:lnTo>
                  <a:lnTo>
                    <a:pt x="1184" y="2049"/>
                  </a:lnTo>
                  <a:lnTo>
                    <a:pt x="1184" y="2059"/>
                  </a:lnTo>
                  <a:lnTo>
                    <a:pt x="1179" y="2059"/>
                  </a:lnTo>
                  <a:lnTo>
                    <a:pt x="1179" y="2065"/>
                  </a:lnTo>
                  <a:lnTo>
                    <a:pt x="1172" y="2065"/>
                  </a:lnTo>
                  <a:lnTo>
                    <a:pt x="1172" y="2070"/>
                  </a:lnTo>
                  <a:lnTo>
                    <a:pt x="1167" y="2070"/>
                  </a:lnTo>
                  <a:lnTo>
                    <a:pt x="1167" y="2082"/>
                  </a:lnTo>
                  <a:lnTo>
                    <a:pt x="1162" y="2082"/>
                  </a:lnTo>
                  <a:lnTo>
                    <a:pt x="1162" y="2087"/>
                  </a:lnTo>
                  <a:lnTo>
                    <a:pt x="1155" y="2087"/>
                  </a:lnTo>
                  <a:lnTo>
                    <a:pt x="1155" y="2094"/>
                  </a:lnTo>
                  <a:lnTo>
                    <a:pt x="1150" y="2094"/>
                  </a:lnTo>
                  <a:lnTo>
                    <a:pt x="1150" y="2099"/>
                  </a:lnTo>
                  <a:lnTo>
                    <a:pt x="1144" y="2099"/>
                  </a:lnTo>
                  <a:lnTo>
                    <a:pt x="1144" y="2104"/>
                  </a:lnTo>
                  <a:lnTo>
                    <a:pt x="1138" y="2104"/>
                  </a:lnTo>
                  <a:lnTo>
                    <a:pt x="1138" y="2110"/>
                  </a:lnTo>
                  <a:lnTo>
                    <a:pt x="1127" y="2110"/>
                  </a:lnTo>
                  <a:lnTo>
                    <a:pt x="1127" y="2122"/>
                  </a:lnTo>
                  <a:lnTo>
                    <a:pt x="1122" y="2122"/>
                  </a:lnTo>
                  <a:lnTo>
                    <a:pt x="1122" y="2127"/>
                  </a:lnTo>
                  <a:lnTo>
                    <a:pt x="1115" y="2127"/>
                  </a:lnTo>
                  <a:lnTo>
                    <a:pt x="1115" y="2133"/>
                  </a:lnTo>
                  <a:lnTo>
                    <a:pt x="1110" y="2133"/>
                  </a:lnTo>
                  <a:lnTo>
                    <a:pt x="1110" y="2139"/>
                  </a:lnTo>
                  <a:lnTo>
                    <a:pt x="1105" y="2139"/>
                  </a:lnTo>
                  <a:lnTo>
                    <a:pt x="1105" y="2144"/>
                  </a:lnTo>
                  <a:lnTo>
                    <a:pt x="1099" y="2144"/>
                  </a:lnTo>
                  <a:lnTo>
                    <a:pt x="1099" y="2156"/>
                  </a:lnTo>
                  <a:lnTo>
                    <a:pt x="1093" y="2156"/>
                  </a:lnTo>
                  <a:lnTo>
                    <a:pt x="1093" y="2167"/>
                  </a:lnTo>
                  <a:lnTo>
                    <a:pt x="1087" y="2167"/>
                  </a:lnTo>
                  <a:lnTo>
                    <a:pt x="1087" y="2173"/>
                  </a:lnTo>
                  <a:lnTo>
                    <a:pt x="1082" y="2173"/>
                  </a:lnTo>
                  <a:lnTo>
                    <a:pt x="1082" y="2179"/>
                  </a:lnTo>
                  <a:lnTo>
                    <a:pt x="1076" y="2179"/>
                  </a:lnTo>
                  <a:lnTo>
                    <a:pt x="1076" y="2184"/>
                  </a:lnTo>
                  <a:lnTo>
                    <a:pt x="1070" y="2184"/>
                  </a:lnTo>
                  <a:lnTo>
                    <a:pt x="1070" y="2196"/>
                  </a:lnTo>
                  <a:lnTo>
                    <a:pt x="1065" y="2196"/>
                  </a:lnTo>
                  <a:lnTo>
                    <a:pt x="1065" y="2201"/>
                  </a:lnTo>
                  <a:lnTo>
                    <a:pt x="1060" y="2201"/>
                  </a:lnTo>
                  <a:lnTo>
                    <a:pt x="1060" y="2213"/>
                  </a:lnTo>
                  <a:lnTo>
                    <a:pt x="1053" y="2213"/>
                  </a:lnTo>
                  <a:lnTo>
                    <a:pt x="1053" y="2253"/>
                  </a:lnTo>
                  <a:lnTo>
                    <a:pt x="1048" y="2253"/>
                  </a:lnTo>
                  <a:lnTo>
                    <a:pt x="1048" y="2258"/>
                  </a:lnTo>
                  <a:lnTo>
                    <a:pt x="1042" y="2258"/>
                  </a:lnTo>
                  <a:lnTo>
                    <a:pt x="1042" y="2287"/>
                  </a:lnTo>
                  <a:lnTo>
                    <a:pt x="1036" y="2287"/>
                  </a:lnTo>
                  <a:lnTo>
                    <a:pt x="1036" y="2327"/>
                  </a:lnTo>
                  <a:lnTo>
                    <a:pt x="1030" y="2327"/>
                  </a:lnTo>
                  <a:lnTo>
                    <a:pt x="1030" y="2344"/>
                  </a:lnTo>
                  <a:lnTo>
                    <a:pt x="1025" y="2344"/>
                  </a:lnTo>
                  <a:lnTo>
                    <a:pt x="1025" y="2355"/>
                  </a:lnTo>
                  <a:lnTo>
                    <a:pt x="1019" y="2355"/>
                  </a:lnTo>
                  <a:lnTo>
                    <a:pt x="1019" y="2378"/>
                  </a:lnTo>
                  <a:lnTo>
                    <a:pt x="1013" y="2378"/>
                  </a:lnTo>
                  <a:lnTo>
                    <a:pt x="1013" y="2412"/>
                  </a:lnTo>
                  <a:lnTo>
                    <a:pt x="1008" y="2412"/>
                  </a:lnTo>
                  <a:lnTo>
                    <a:pt x="1008" y="2503"/>
                  </a:lnTo>
                  <a:lnTo>
                    <a:pt x="1013" y="2503"/>
                  </a:lnTo>
                  <a:lnTo>
                    <a:pt x="1013" y="2600"/>
                  </a:lnTo>
                  <a:lnTo>
                    <a:pt x="1019" y="2600"/>
                  </a:lnTo>
                  <a:lnTo>
                    <a:pt x="1019" y="2645"/>
                  </a:lnTo>
                  <a:lnTo>
                    <a:pt x="1025" y="2645"/>
                  </a:lnTo>
                  <a:lnTo>
                    <a:pt x="1025" y="2702"/>
                  </a:lnTo>
                  <a:lnTo>
                    <a:pt x="1030" y="2702"/>
                  </a:lnTo>
                  <a:lnTo>
                    <a:pt x="1030" y="2726"/>
                  </a:lnTo>
                  <a:lnTo>
                    <a:pt x="1036" y="2726"/>
                  </a:lnTo>
                  <a:lnTo>
                    <a:pt x="1036" y="2839"/>
                  </a:lnTo>
                  <a:lnTo>
                    <a:pt x="1030" y="2839"/>
                  </a:lnTo>
                  <a:lnTo>
                    <a:pt x="1030" y="2964"/>
                  </a:lnTo>
                  <a:lnTo>
                    <a:pt x="1025" y="2964"/>
                  </a:lnTo>
                  <a:lnTo>
                    <a:pt x="1025" y="2981"/>
                  </a:lnTo>
                  <a:lnTo>
                    <a:pt x="1019" y="2981"/>
                  </a:lnTo>
                  <a:lnTo>
                    <a:pt x="1019" y="3009"/>
                  </a:lnTo>
                  <a:lnTo>
                    <a:pt x="1013" y="3009"/>
                  </a:lnTo>
                  <a:lnTo>
                    <a:pt x="1013" y="3026"/>
                  </a:lnTo>
                  <a:lnTo>
                    <a:pt x="1008" y="3026"/>
                  </a:lnTo>
                  <a:lnTo>
                    <a:pt x="1008" y="3044"/>
                  </a:lnTo>
                  <a:lnTo>
                    <a:pt x="1003" y="3044"/>
                  </a:lnTo>
                  <a:lnTo>
                    <a:pt x="1003" y="3055"/>
                  </a:lnTo>
                  <a:lnTo>
                    <a:pt x="996" y="3055"/>
                  </a:lnTo>
                  <a:lnTo>
                    <a:pt x="996" y="3066"/>
                  </a:lnTo>
                  <a:lnTo>
                    <a:pt x="991" y="3066"/>
                  </a:lnTo>
                  <a:lnTo>
                    <a:pt x="991" y="3073"/>
                  </a:lnTo>
                  <a:lnTo>
                    <a:pt x="985" y="3073"/>
                  </a:lnTo>
                  <a:lnTo>
                    <a:pt x="985" y="3083"/>
                  </a:lnTo>
                  <a:lnTo>
                    <a:pt x="979" y="3083"/>
                  </a:lnTo>
                  <a:lnTo>
                    <a:pt x="979" y="3090"/>
                  </a:lnTo>
                  <a:lnTo>
                    <a:pt x="974" y="3090"/>
                  </a:lnTo>
                  <a:lnTo>
                    <a:pt x="974" y="3101"/>
                  </a:lnTo>
                  <a:lnTo>
                    <a:pt x="968" y="3101"/>
                  </a:lnTo>
                  <a:lnTo>
                    <a:pt x="968" y="3112"/>
                  </a:lnTo>
                  <a:lnTo>
                    <a:pt x="962" y="3112"/>
                  </a:lnTo>
                  <a:lnTo>
                    <a:pt x="962" y="3118"/>
                  </a:lnTo>
                  <a:lnTo>
                    <a:pt x="951" y="3118"/>
                  </a:lnTo>
                  <a:lnTo>
                    <a:pt x="951" y="3123"/>
                  </a:lnTo>
                  <a:lnTo>
                    <a:pt x="946" y="3123"/>
                  </a:lnTo>
                  <a:lnTo>
                    <a:pt x="946" y="3130"/>
                  </a:lnTo>
                  <a:lnTo>
                    <a:pt x="934" y="3130"/>
                  </a:lnTo>
                  <a:lnTo>
                    <a:pt x="934" y="3135"/>
                  </a:lnTo>
                  <a:lnTo>
                    <a:pt x="928" y="3135"/>
                  </a:lnTo>
                  <a:lnTo>
                    <a:pt x="928" y="3140"/>
                  </a:lnTo>
                  <a:lnTo>
                    <a:pt x="922" y="3140"/>
                  </a:lnTo>
                  <a:lnTo>
                    <a:pt x="922" y="3147"/>
                  </a:lnTo>
                  <a:lnTo>
                    <a:pt x="917" y="3147"/>
                  </a:lnTo>
                  <a:lnTo>
                    <a:pt x="917" y="3163"/>
                  </a:lnTo>
                  <a:lnTo>
                    <a:pt x="911" y="3163"/>
                  </a:lnTo>
                  <a:lnTo>
                    <a:pt x="911" y="3169"/>
                  </a:lnTo>
                  <a:lnTo>
                    <a:pt x="905" y="3169"/>
                  </a:lnTo>
                  <a:lnTo>
                    <a:pt x="905" y="3175"/>
                  </a:lnTo>
                  <a:lnTo>
                    <a:pt x="899" y="3175"/>
                  </a:lnTo>
                  <a:lnTo>
                    <a:pt x="899" y="3180"/>
                  </a:lnTo>
                  <a:lnTo>
                    <a:pt x="894" y="3180"/>
                  </a:lnTo>
                  <a:lnTo>
                    <a:pt x="894" y="3186"/>
                  </a:lnTo>
                  <a:lnTo>
                    <a:pt x="889" y="3186"/>
                  </a:lnTo>
                  <a:lnTo>
                    <a:pt x="889" y="3197"/>
                  </a:lnTo>
                  <a:lnTo>
                    <a:pt x="882" y="3197"/>
                  </a:lnTo>
                  <a:lnTo>
                    <a:pt x="882" y="3204"/>
                  </a:lnTo>
                  <a:lnTo>
                    <a:pt x="877" y="3204"/>
                  </a:lnTo>
                  <a:lnTo>
                    <a:pt x="877" y="3209"/>
                  </a:lnTo>
                  <a:lnTo>
                    <a:pt x="871" y="3209"/>
                  </a:lnTo>
                  <a:lnTo>
                    <a:pt x="871" y="3214"/>
                  </a:lnTo>
                  <a:lnTo>
                    <a:pt x="860" y="3214"/>
                  </a:lnTo>
                  <a:lnTo>
                    <a:pt x="860" y="3220"/>
                  </a:lnTo>
                  <a:lnTo>
                    <a:pt x="848" y="3220"/>
                  </a:lnTo>
                  <a:lnTo>
                    <a:pt x="848" y="3226"/>
                  </a:lnTo>
                  <a:lnTo>
                    <a:pt x="842" y="3226"/>
                  </a:lnTo>
                  <a:lnTo>
                    <a:pt x="842" y="3232"/>
                  </a:lnTo>
                  <a:lnTo>
                    <a:pt x="837" y="3232"/>
                  </a:lnTo>
                  <a:lnTo>
                    <a:pt x="837" y="3237"/>
                  </a:lnTo>
                  <a:lnTo>
                    <a:pt x="832" y="3237"/>
                  </a:lnTo>
                  <a:lnTo>
                    <a:pt x="832" y="3243"/>
                  </a:lnTo>
                  <a:lnTo>
                    <a:pt x="825" y="3243"/>
                  </a:lnTo>
                  <a:lnTo>
                    <a:pt x="825" y="3254"/>
                  </a:lnTo>
                  <a:lnTo>
                    <a:pt x="820" y="3254"/>
                  </a:lnTo>
                  <a:lnTo>
                    <a:pt x="820" y="3261"/>
                  </a:lnTo>
                  <a:lnTo>
                    <a:pt x="808" y="3261"/>
                  </a:lnTo>
                  <a:lnTo>
                    <a:pt x="808" y="3266"/>
                  </a:lnTo>
                  <a:lnTo>
                    <a:pt x="803" y="3266"/>
                  </a:lnTo>
                  <a:lnTo>
                    <a:pt x="803" y="3271"/>
                  </a:lnTo>
                  <a:lnTo>
                    <a:pt x="797" y="3271"/>
                  </a:lnTo>
                  <a:lnTo>
                    <a:pt x="797" y="3278"/>
                  </a:lnTo>
                  <a:lnTo>
                    <a:pt x="791" y="3278"/>
                  </a:lnTo>
                  <a:lnTo>
                    <a:pt x="791" y="3283"/>
                  </a:lnTo>
                  <a:lnTo>
                    <a:pt x="780" y="3283"/>
                  </a:lnTo>
                  <a:lnTo>
                    <a:pt x="780" y="3289"/>
                  </a:lnTo>
                  <a:lnTo>
                    <a:pt x="774" y="3289"/>
                  </a:lnTo>
                  <a:lnTo>
                    <a:pt x="774" y="3294"/>
                  </a:lnTo>
                  <a:lnTo>
                    <a:pt x="768" y="3294"/>
                  </a:lnTo>
                  <a:lnTo>
                    <a:pt x="768" y="3299"/>
                  </a:lnTo>
                  <a:lnTo>
                    <a:pt x="757" y="3299"/>
                  </a:lnTo>
                  <a:lnTo>
                    <a:pt x="757" y="3306"/>
                  </a:lnTo>
                  <a:lnTo>
                    <a:pt x="751" y="3306"/>
                  </a:lnTo>
                  <a:lnTo>
                    <a:pt x="751" y="3311"/>
                  </a:lnTo>
                  <a:lnTo>
                    <a:pt x="746" y="3311"/>
                  </a:lnTo>
                  <a:lnTo>
                    <a:pt x="746" y="3316"/>
                  </a:lnTo>
                  <a:lnTo>
                    <a:pt x="740" y="3316"/>
                  </a:lnTo>
                  <a:lnTo>
                    <a:pt x="740" y="3323"/>
                  </a:lnTo>
                  <a:lnTo>
                    <a:pt x="734" y="3323"/>
                  </a:lnTo>
                  <a:lnTo>
                    <a:pt x="734" y="3328"/>
                  </a:lnTo>
                  <a:lnTo>
                    <a:pt x="728" y="3328"/>
                  </a:lnTo>
                  <a:lnTo>
                    <a:pt x="728" y="3334"/>
                  </a:lnTo>
                  <a:lnTo>
                    <a:pt x="723" y="3334"/>
                  </a:lnTo>
                  <a:lnTo>
                    <a:pt x="723" y="3339"/>
                  </a:lnTo>
                  <a:lnTo>
                    <a:pt x="711" y="3339"/>
                  </a:lnTo>
                  <a:lnTo>
                    <a:pt x="711" y="3345"/>
                  </a:lnTo>
                  <a:lnTo>
                    <a:pt x="701" y="3345"/>
                  </a:lnTo>
                  <a:lnTo>
                    <a:pt x="701" y="3351"/>
                  </a:lnTo>
                  <a:lnTo>
                    <a:pt x="695" y="3351"/>
                  </a:lnTo>
                  <a:lnTo>
                    <a:pt x="695" y="3356"/>
                  </a:lnTo>
                  <a:lnTo>
                    <a:pt x="689" y="3356"/>
                  </a:lnTo>
                  <a:lnTo>
                    <a:pt x="689" y="3363"/>
                  </a:lnTo>
                  <a:lnTo>
                    <a:pt x="683" y="3363"/>
                  </a:lnTo>
                  <a:lnTo>
                    <a:pt x="683" y="3368"/>
                  </a:lnTo>
                  <a:lnTo>
                    <a:pt x="666" y="3368"/>
                  </a:lnTo>
                  <a:lnTo>
                    <a:pt x="666" y="3373"/>
                  </a:lnTo>
                  <a:lnTo>
                    <a:pt x="661" y="3373"/>
                  </a:lnTo>
                  <a:lnTo>
                    <a:pt x="661" y="3380"/>
                  </a:lnTo>
                  <a:lnTo>
                    <a:pt x="655" y="3380"/>
                  </a:lnTo>
                  <a:lnTo>
                    <a:pt x="655" y="3385"/>
                  </a:lnTo>
                  <a:lnTo>
                    <a:pt x="638" y="3385"/>
                  </a:lnTo>
                  <a:lnTo>
                    <a:pt x="638" y="3391"/>
                  </a:lnTo>
                  <a:lnTo>
                    <a:pt x="632" y="3391"/>
                  </a:lnTo>
                  <a:lnTo>
                    <a:pt x="632" y="3396"/>
                  </a:lnTo>
                  <a:lnTo>
                    <a:pt x="626" y="3396"/>
                  </a:lnTo>
                  <a:lnTo>
                    <a:pt x="626" y="3402"/>
                  </a:lnTo>
                  <a:lnTo>
                    <a:pt x="621" y="3402"/>
                  </a:lnTo>
                  <a:lnTo>
                    <a:pt x="621" y="3408"/>
                  </a:lnTo>
                  <a:lnTo>
                    <a:pt x="615" y="3408"/>
                  </a:lnTo>
                  <a:lnTo>
                    <a:pt x="615" y="3413"/>
                  </a:lnTo>
                  <a:lnTo>
                    <a:pt x="609" y="3413"/>
                  </a:lnTo>
                  <a:lnTo>
                    <a:pt x="609" y="3420"/>
                  </a:lnTo>
                  <a:lnTo>
                    <a:pt x="604" y="3420"/>
                  </a:lnTo>
                  <a:lnTo>
                    <a:pt x="604" y="3425"/>
                  </a:lnTo>
                  <a:lnTo>
                    <a:pt x="598" y="3425"/>
                  </a:lnTo>
                  <a:lnTo>
                    <a:pt x="598" y="3430"/>
                  </a:lnTo>
                  <a:lnTo>
                    <a:pt x="587" y="3430"/>
                  </a:lnTo>
                  <a:lnTo>
                    <a:pt x="587" y="3437"/>
                  </a:lnTo>
                  <a:lnTo>
                    <a:pt x="581" y="3437"/>
                  </a:lnTo>
                  <a:lnTo>
                    <a:pt x="581" y="3442"/>
                  </a:lnTo>
                  <a:lnTo>
                    <a:pt x="575" y="3442"/>
                  </a:lnTo>
                  <a:lnTo>
                    <a:pt x="575" y="3453"/>
                  </a:lnTo>
                  <a:lnTo>
                    <a:pt x="569" y="3453"/>
                  </a:lnTo>
                  <a:lnTo>
                    <a:pt x="569" y="3459"/>
                  </a:lnTo>
                  <a:lnTo>
                    <a:pt x="564" y="3459"/>
                  </a:lnTo>
                  <a:lnTo>
                    <a:pt x="564" y="3465"/>
                  </a:lnTo>
                  <a:lnTo>
                    <a:pt x="558" y="3465"/>
                  </a:lnTo>
                  <a:lnTo>
                    <a:pt x="558" y="3470"/>
                  </a:lnTo>
                  <a:lnTo>
                    <a:pt x="552" y="3470"/>
                  </a:lnTo>
                  <a:lnTo>
                    <a:pt x="552" y="3477"/>
                  </a:lnTo>
                  <a:lnTo>
                    <a:pt x="547" y="3477"/>
                  </a:lnTo>
                  <a:lnTo>
                    <a:pt x="547" y="3482"/>
                  </a:lnTo>
                  <a:lnTo>
                    <a:pt x="540" y="3482"/>
                  </a:lnTo>
                  <a:lnTo>
                    <a:pt x="540" y="3487"/>
                  </a:lnTo>
                  <a:lnTo>
                    <a:pt x="530" y="3487"/>
                  </a:lnTo>
                  <a:lnTo>
                    <a:pt x="530" y="3494"/>
                  </a:lnTo>
                  <a:lnTo>
                    <a:pt x="524" y="3494"/>
                  </a:lnTo>
                  <a:lnTo>
                    <a:pt x="524" y="3499"/>
                  </a:lnTo>
                  <a:lnTo>
                    <a:pt x="518" y="3499"/>
                  </a:lnTo>
                  <a:lnTo>
                    <a:pt x="518" y="3505"/>
                  </a:lnTo>
                  <a:lnTo>
                    <a:pt x="507" y="3505"/>
                  </a:lnTo>
                  <a:lnTo>
                    <a:pt x="507" y="3510"/>
                  </a:lnTo>
                  <a:lnTo>
                    <a:pt x="501" y="3510"/>
                  </a:lnTo>
                  <a:lnTo>
                    <a:pt x="501" y="3516"/>
                  </a:lnTo>
                  <a:lnTo>
                    <a:pt x="495" y="3516"/>
                  </a:lnTo>
                  <a:lnTo>
                    <a:pt x="495" y="3522"/>
                  </a:lnTo>
                  <a:lnTo>
                    <a:pt x="490" y="3522"/>
                  </a:lnTo>
                  <a:lnTo>
                    <a:pt x="490" y="3527"/>
                  </a:lnTo>
                  <a:lnTo>
                    <a:pt x="483" y="3527"/>
                  </a:lnTo>
                  <a:lnTo>
                    <a:pt x="483" y="3534"/>
                  </a:lnTo>
                  <a:lnTo>
                    <a:pt x="478" y="3534"/>
                  </a:lnTo>
                  <a:lnTo>
                    <a:pt x="478" y="3539"/>
                  </a:lnTo>
                  <a:lnTo>
                    <a:pt x="467" y="3539"/>
                  </a:lnTo>
                  <a:lnTo>
                    <a:pt x="467" y="3544"/>
                  </a:lnTo>
                  <a:lnTo>
                    <a:pt x="461" y="3544"/>
                  </a:lnTo>
                  <a:lnTo>
                    <a:pt x="461" y="3551"/>
                  </a:lnTo>
                  <a:lnTo>
                    <a:pt x="455" y="3551"/>
                  </a:lnTo>
                  <a:lnTo>
                    <a:pt x="455" y="3556"/>
                  </a:lnTo>
                  <a:lnTo>
                    <a:pt x="450" y="3556"/>
                  </a:lnTo>
                  <a:lnTo>
                    <a:pt x="450" y="3561"/>
                  </a:lnTo>
                  <a:lnTo>
                    <a:pt x="438" y="3561"/>
                  </a:lnTo>
                  <a:lnTo>
                    <a:pt x="438" y="3567"/>
                  </a:lnTo>
                  <a:lnTo>
                    <a:pt x="433" y="3567"/>
                  </a:lnTo>
                  <a:lnTo>
                    <a:pt x="433" y="3573"/>
                  </a:lnTo>
                  <a:lnTo>
                    <a:pt x="426" y="3573"/>
                  </a:lnTo>
                  <a:lnTo>
                    <a:pt x="426" y="3579"/>
                  </a:lnTo>
                  <a:lnTo>
                    <a:pt x="421" y="3579"/>
                  </a:lnTo>
                  <a:lnTo>
                    <a:pt x="421" y="3584"/>
                  </a:lnTo>
                  <a:lnTo>
                    <a:pt x="416" y="3584"/>
                  </a:lnTo>
                  <a:lnTo>
                    <a:pt x="416" y="3590"/>
                  </a:lnTo>
                  <a:lnTo>
                    <a:pt x="410" y="3590"/>
                  </a:lnTo>
                  <a:lnTo>
                    <a:pt x="410" y="3601"/>
                  </a:lnTo>
                  <a:lnTo>
                    <a:pt x="404" y="3601"/>
                  </a:lnTo>
                  <a:lnTo>
                    <a:pt x="404" y="3608"/>
                  </a:lnTo>
                  <a:lnTo>
                    <a:pt x="398" y="3608"/>
                  </a:lnTo>
                  <a:lnTo>
                    <a:pt x="398" y="3613"/>
                  </a:lnTo>
                  <a:lnTo>
                    <a:pt x="393" y="3613"/>
                  </a:lnTo>
                  <a:lnTo>
                    <a:pt x="393" y="3618"/>
                  </a:lnTo>
                  <a:lnTo>
                    <a:pt x="387" y="3618"/>
                  </a:lnTo>
                  <a:lnTo>
                    <a:pt x="387" y="3625"/>
                  </a:lnTo>
                  <a:lnTo>
                    <a:pt x="381" y="3625"/>
                  </a:lnTo>
                  <a:lnTo>
                    <a:pt x="381" y="3630"/>
                  </a:lnTo>
                  <a:lnTo>
                    <a:pt x="376" y="3630"/>
                  </a:lnTo>
                  <a:lnTo>
                    <a:pt x="376" y="3636"/>
                  </a:lnTo>
                  <a:lnTo>
                    <a:pt x="369" y="3636"/>
                  </a:lnTo>
                  <a:lnTo>
                    <a:pt x="369" y="3641"/>
                  </a:lnTo>
                  <a:lnTo>
                    <a:pt x="364" y="3641"/>
                  </a:lnTo>
                  <a:lnTo>
                    <a:pt x="364" y="3647"/>
                  </a:lnTo>
                  <a:lnTo>
                    <a:pt x="359" y="3647"/>
                  </a:lnTo>
                  <a:lnTo>
                    <a:pt x="359" y="3653"/>
                  </a:lnTo>
                  <a:lnTo>
                    <a:pt x="353" y="3653"/>
                  </a:lnTo>
                  <a:lnTo>
                    <a:pt x="353" y="3658"/>
                  </a:lnTo>
                  <a:lnTo>
                    <a:pt x="347" y="3658"/>
                  </a:lnTo>
                  <a:lnTo>
                    <a:pt x="347" y="3665"/>
                  </a:lnTo>
                  <a:lnTo>
                    <a:pt x="342" y="3665"/>
                  </a:lnTo>
                  <a:lnTo>
                    <a:pt x="342" y="3670"/>
                  </a:lnTo>
                  <a:lnTo>
                    <a:pt x="336" y="3670"/>
                  </a:lnTo>
                  <a:lnTo>
                    <a:pt x="336" y="3675"/>
                  </a:lnTo>
                  <a:lnTo>
                    <a:pt x="324" y="3675"/>
                  </a:lnTo>
                  <a:lnTo>
                    <a:pt x="324" y="3682"/>
                  </a:lnTo>
                  <a:lnTo>
                    <a:pt x="319" y="3682"/>
                  </a:lnTo>
                  <a:lnTo>
                    <a:pt x="319" y="3687"/>
                  </a:lnTo>
                  <a:lnTo>
                    <a:pt x="312" y="3687"/>
                  </a:lnTo>
                  <a:lnTo>
                    <a:pt x="312" y="3693"/>
                  </a:lnTo>
                  <a:lnTo>
                    <a:pt x="302" y="3693"/>
                  </a:lnTo>
                  <a:lnTo>
                    <a:pt x="302" y="3698"/>
                  </a:lnTo>
                  <a:lnTo>
                    <a:pt x="296" y="3698"/>
                  </a:lnTo>
                  <a:lnTo>
                    <a:pt x="296" y="3703"/>
                  </a:lnTo>
                  <a:lnTo>
                    <a:pt x="291" y="3703"/>
                  </a:lnTo>
                  <a:lnTo>
                    <a:pt x="291" y="3710"/>
                  </a:lnTo>
                  <a:lnTo>
                    <a:pt x="285" y="3710"/>
                  </a:lnTo>
                  <a:lnTo>
                    <a:pt x="285" y="3715"/>
                  </a:lnTo>
                  <a:lnTo>
                    <a:pt x="279" y="3715"/>
                  </a:lnTo>
                  <a:lnTo>
                    <a:pt x="279" y="3720"/>
                  </a:lnTo>
                  <a:lnTo>
                    <a:pt x="274" y="3720"/>
                  </a:lnTo>
                  <a:lnTo>
                    <a:pt x="274" y="3727"/>
                  </a:lnTo>
                  <a:lnTo>
                    <a:pt x="267" y="3727"/>
                  </a:lnTo>
                  <a:lnTo>
                    <a:pt x="267" y="3732"/>
                  </a:lnTo>
                  <a:lnTo>
                    <a:pt x="262" y="3732"/>
                  </a:lnTo>
                  <a:lnTo>
                    <a:pt x="262" y="3743"/>
                  </a:lnTo>
                  <a:lnTo>
                    <a:pt x="257" y="3743"/>
                  </a:lnTo>
                  <a:lnTo>
                    <a:pt x="257" y="3750"/>
                  </a:lnTo>
                  <a:lnTo>
                    <a:pt x="250" y="3750"/>
                  </a:lnTo>
                  <a:lnTo>
                    <a:pt x="250" y="3755"/>
                  </a:lnTo>
                  <a:lnTo>
                    <a:pt x="245" y="3755"/>
                  </a:lnTo>
                  <a:lnTo>
                    <a:pt x="245" y="3760"/>
                  </a:lnTo>
                  <a:lnTo>
                    <a:pt x="239" y="3760"/>
                  </a:lnTo>
                  <a:lnTo>
                    <a:pt x="239" y="3767"/>
                  </a:lnTo>
                  <a:lnTo>
                    <a:pt x="234" y="3767"/>
                  </a:lnTo>
                  <a:lnTo>
                    <a:pt x="234" y="3772"/>
                  </a:lnTo>
                  <a:lnTo>
                    <a:pt x="228" y="3772"/>
                  </a:lnTo>
                  <a:lnTo>
                    <a:pt x="228" y="3777"/>
                  </a:lnTo>
                  <a:lnTo>
                    <a:pt x="217" y="3777"/>
                  </a:lnTo>
                  <a:lnTo>
                    <a:pt x="217" y="3784"/>
                  </a:lnTo>
                  <a:lnTo>
                    <a:pt x="210" y="3784"/>
                  </a:lnTo>
                  <a:lnTo>
                    <a:pt x="210" y="3789"/>
                  </a:lnTo>
                  <a:lnTo>
                    <a:pt x="205" y="3789"/>
                  </a:lnTo>
                  <a:lnTo>
                    <a:pt x="205" y="3795"/>
                  </a:lnTo>
                  <a:lnTo>
                    <a:pt x="200" y="3795"/>
                  </a:lnTo>
                  <a:lnTo>
                    <a:pt x="200" y="3800"/>
                  </a:lnTo>
                  <a:lnTo>
                    <a:pt x="193" y="3800"/>
                  </a:lnTo>
                  <a:lnTo>
                    <a:pt x="193" y="3812"/>
                  </a:lnTo>
                  <a:lnTo>
                    <a:pt x="188" y="3812"/>
                  </a:lnTo>
                  <a:lnTo>
                    <a:pt x="188" y="3824"/>
                  </a:lnTo>
                  <a:lnTo>
                    <a:pt x="182" y="3824"/>
                  </a:lnTo>
                  <a:lnTo>
                    <a:pt x="182" y="3829"/>
                  </a:lnTo>
                  <a:lnTo>
                    <a:pt x="177" y="3829"/>
                  </a:lnTo>
                  <a:lnTo>
                    <a:pt x="177" y="3834"/>
                  </a:lnTo>
                  <a:lnTo>
                    <a:pt x="171" y="3834"/>
                  </a:lnTo>
                  <a:lnTo>
                    <a:pt x="171" y="3841"/>
                  </a:lnTo>
                  <a:lnTo>
                    <a:pt x="165" y="3841"/>
                  </a:lnTo>
                  <a:lnTo>
                    <a:pt x="165" y="3846"/>
                  </a:lnTo>
                  <a:lnTo>
                    <a:pt x="160" y="3846"/>
                  </a:lnTo>
                  <a:lnTo>
                    <a:pt x="160" y="3852"/>
                  </a:lnTo>
                  <a:lnTo>
                    <a:pt x="153" y="3852"/>
                  </a:lnTo>
                  <a:lnTo>
                    <a:pt x="153" y="3863"/>
                  </a:lnTo>
                  <a:lnTo>
                    <a:pt x="148" y="3863"/>
                  </a:lnTo>
                  <a:lnTo>
                    <a:pt x="148" y="3869"/>
                  </a:lnTo>
                  <a:lnTo>
                    <a:pt x="143" y="3869"/>
                  </a:lnTo>
                  <a:lnTo>
                    <a:pt x="143" y="3874"/>
                  </a:lnTo>
                  <a:lnTo>
                    <a:pt x="136" y="3874"/>
                  </a:lnTo>
                  <a:lnTo>
                    <a:pt x="136" y="3886"/>
                  </a:lnTo>
                  <a:lnTo>
                    <a:pt x="131" y="3886"/>
                  </a:lnTo>
                  <a:lnTo>
                    <a:pt x="131" y="3891"/>
                  </a:lnTo>
                  <a:lnTo>
                    <a:pt x="125" y="3891"/>
                  </a:lnTo>
                  <a:lnTo>
                    <a:pt x="125" y="3909"/>
                  </a:lnTo>
                  <a:lnTo>
                    <a:pt x="120" y="3909"/>
                  </a:lnTo>
                  <a:lnTo>
                    <a:pt x="120" y="3915"/>
                  </a:lnTo>
                  <a:lnTo>
                    <a:pt x="114" y="3915"/>
                  </a:lnTo>
                  <a:lnTo>
                    <a:pt x="114" y="3926"/>
                  </a:lnTo>
                  <a:lnTo>
                    <a:pt x="108" y="3926"/>
                  </a:lnTo>
                  <a:lnTo>
                    <a:pt x="108" y="3931"/>
                  </a:lnTo>
                  <a:lnTo>
                    <a:pt x="103" y="3931"/>
                  </a:lnTo>
                  <a:lnTo>
                    <a:pt x="103" y="3972"/>
                  </a:lnTo>
                  <a:lnTo>
                    <a:pt x="96" y="3972"/>
                  </a:lnTo>
                  <a:lnTo>
                    <a:pt x="96" y="4017"/>
                  </a:lnTo>
                  <a:lnTo>
                    <a:pt x="91" y="4017"/>
                  </a:lnTo>
                  <a:lnTo>
                    <a:pt x="91" y="4057"/>
                  </a:lnTo>
                  <a:lnTo>
                    <a:pt x="96" y="4057"/>
                  </a:lnTo>
                  <a:lnTo>
                    <a:pt x="96" y="4107"/>
                  </a:lnTo>
                  <a:lnTo>
                    <a:pt x="103" y="4107"/>
                  </a:lnTo>
                  <a:lnTo>
                    <a:pt x="103" y="4142"/>
                  </a:lnTo>
                  <a:lnTo>
                    <a:pt x="108" y="4142"/>
                  </a:lnTo>
                  <a:lnTo>
                    <a:pt x="108" y="4164"/>
                  </a:lnTo>
                  <a:lnTo>
                    <a:pt x="114" y="4164"/>
                  </a:lnTo>
                  <a:lnTo>
                    <a:pt x="114" y="4176"/>
                  </a:lnTo>
                  <a:lnTo>
                    <a:pt x="120" y="4176"/>
                  </a:lnTo>
                  <a:lnTo>
                    <a:pt x="120" y="4199"/>
                  </a:lnTo>
                  <a:lnTo>
                    <a:pt x="125" y="4199"/>
                  </a:lnTo>
                  <a:lnTo>
                    <a:pt x="125" y="4204"/>
                  </a:lnTo>
                  <a:lnTo>
                    <a:pt x="131" y="4204"/>
                  </a:lnTo>
                  <a:lnTo>
                    <a:pt x="131" y="4216"/>
                  </a:lnTo>
                  <a:lnTo>
                    <a:pt x="136" y="4216"/>
                  </a:lnTo>
                  <a:lnTo>
                    <a:pt x="136" y="4228"/>
                  </a:lnTo>
                  <a:lnTo>
                    <a:pt x="143" y="4228"/>
                  </a:lnTo>
                  <a:lnTo>
                    <a:pt x="143" y="4245"/>
                  </a:lnTo>
                  <a:lnTo>
                    <a:pt x="148" y="4245"/>
                  </a:lnTo>
                  <a:lnTo>
                    <a:pt x="148" y="4267"/>
                  </a:lnTo>
                  <a:lnTo>
                    <a:pt x="125" y="4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8863200" y="2776320"/>
              <a:ext cx="24120" cy="46800"/>
            </a:xfrm>
            <a:custGeom>
              <a:avLst/>
              <a:gdLst/>
              <a:ahLst/>
              <a:rect l="l" t="t" r="r" b="b"/>
              <a:pathLst>
                <a:path w="40" h="85">
                  <a:moveTo>
                    <a:pt x="28" y="85"/>
                  </a:moveTo>
                  <a:lnTo>
                    <a:pt x="28" y="79"/>
                  </a:lnTo>
                  <a:lnTo>
                    <a:pt x="22" y="79"/>
                  </a:lnTo>
                  <a:lnTo>
                    <a:pt x="22" y="74"/>
                  </a:lnTo>
                  <a:lnTo>
                    <a:pt x="17" y="74"/>
                  </a:lnTo>
                  <a:lnTo>
                    <a:pt x="17" y="57"/>
                  </a:lnTo>
                  <a:lnTo>
                    <a:pt x="10" y="57"/>
                  </a:lnTo>
                  <a:lnTo>
                    <a:pt x="10" y="45"/>
                  </a:lnTo>
                  <a:lnTo>
                    <a:pt x="5" y="45"/>
                  </a:lnTo>
                  <a:lnTo>
                    <a:pt x="5" y="33"/>
                  </a:lnTo>
                  <a:lnTo>
                    <a:pt x="0" y="33"/>
                  </a:lnTo>
                  <a:lnTo>
                    <a:pt x="0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40" y="17"/>
                  </a:lnTo>
                  <a:lnTo>
                    <a:pt x="40" y="79"/>
                  </a:lnTo>
                  <a:lnTo>
                    <a:pt x="34" y="79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7590240" y="2194920"/>
              <a:ext cx="199080" cy="200520"/>
            </a:xfrm>
            <a:custGeom>
              <a:avLst/>
              <a:gdLst/>
              <a:ahLst/>
              <a:rect l="l" t="t" r="r" b="b"/>
              <a:pathLst>
                <a:path w="353" h="365">
                  <a:moveTo>
                    <a:pt x="69" y="365"/>
                  </a:moveTo>
                  <a:lnTo>
                    <a:pt x="69" y="358"/>
                  </a:lnTo>
                  <a:lnTo>
                    <a:pt x="51" y="358"/>
                  </a:lnTo>
                  <a:lnTo>
                    <a:pt x="51" y="353"/>
                  </a:lnTo>
                  <a:lnTo>
                    <a:pt x="46" y="353"/>
                  </a:lnTo>
                  <a:lnTo>
                    <a:pt x="46" y="347"/>
                  </a:lnTo>
                  <a:lnTo>
                    <a:pt x="41" y="347"/>
                  </a:lnTo>
                  <a:lnTo>
                    <a:pt x="41" y="296"/>
                  </a:lnTo>
                  <a:lnTo>
                    <a:pt x="34" y="296"/>
                  </a:lnTo>
                  <a:lnTo>
                    <a:pt x="34" y="199"/>
                  </a:lnTo>
                  <a:lnTo>
                    <a:pt x="29" y="199"/>
                  </a:lnTo>
                  <a:lnTo>
                    <a:pt x="29" y="171"/>
                  </a:lnTo>
                  <a:lnTo>
                    <a:pt x="23" y="171"/>
                  </a:lnTo>
                  <a:lnTo>
                    <a:pt x="23" y="142"/>
                  </a:lnTo>
                  <a:lnTo>
                    <a:pt x="17" y="142"/>
                  </a:lnTo>
                  <a:lnTo>
                    <a:pt x="17" y="137"/>
                  </a:lnTo>
                  <a:lnTo>
                    <a:pt x="6" y="137"/>
                  </a:lnTo>
                  <a:lnTo>
                    <a:pt x="6" y="131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17" y="108"/>
                  </a:lnTo>
                  <a:lnTo>
                    <a:pt x="17" y="102"/>
                  </a:lnTo>
                  <a:lnTo>
                    <a:pt x="41" y="102"/>
                  </a:lnTo>
                  <a:lnTo>
                    <a:pt x="41" y="97"/>
                  </a:lnTo>
                  <a:lnTo>
                    <a:pt x="57" y="97"/>
                  </a:lnTo>
                  <a:lnTo>
                    <a:pt x="57" y="92"/>
                  </a:lnTo>
                  <a:lnTo>
                    <a:pt x="69" y="92"/>
                  </a:lnTo>
                  <a:lnTo>
                    <a:pt x="69" y="85"/>
                  </a:lnTo>
                  <a:lnTo>
                    <a:pt x="86" y="85"/>
                  </a:lnTo>
                  <a:lnTo>
                    <a:pt x="86" y="80"/>
                  </a:lnTo>
                  <a:lnTo>
                    <a:pt x="103" y="80"/>
                  </a:lnTo>
                  <a:lnTo>
                    <a:pt x="103" y="74"/>
                  </a:lnTo>
                  <a:lnTo>
                    <a:pt x="114" y="74"/>
                  </a:lnTo>
                  <a:lnTo>
                    <a:pt x="114" y="68"/>
                  </a:lnTo>
                  <a:lnTo>
                    <a:pt x="126" y="68"/>
                  </a:lnTo>
                  <a:lnTo>
                    <a:pt x="126" y="63"/>
                  </a:lnTo>
                  <a:lnTo>
                    <a:pt x="143" y="63"/>
                  </a:lnTo>
                  <a:lnTo>
                    <a:pt x="143" y="57"/>
                  </a:lnTo>
                  <a:lnTo>
                    <a:pt x="155" y="57"/>
                  </a:lnTo>
                  <a:lnTo>
                    <a:pt x="155" y="51"/>
                  </a:lnTo>
                  <a:lnTo>
                    <a:pt x="165" y="51"/>
                  </a:lnTo>
                  <a:lnTo>
                    <a:pt x="165" y="45"/>
                  </a:lnTo>
                  <a:lnTo>
                    <a:pt x="183" y="45"/>
                  </a:lnTo>
                  <a:lnTo>
                    <a:pt x="183" y="40"/>
                  </a:lnTo>
                  <a:lnTo>
                    <a:pt x="200" y="40"/>
                  </a:lnTo>
                  <a:lnTo>
                    <a:pt x="200" y="35"/>
                  </a:lnTo>
                  <a:lnTo>
                    <a:pt x="217" y="35"/>
                  </a:lnTo>
                  <a:lnTo>
                    <a:pt x="217" y="28"/>
                  </a:lnTo>
                  <a:lnTo>
                    <a:pt x="234" y="28"/>
                  </a:lnTo>
                  <a:lnTo>
                    <a:pt x="234" y="23"/>
                  </a:lnTo>
                  <a:lnTo>
                    <a:pt x="251" y="23"/>
                  </a:lnTo>
                  <a:lnTo>
                    <a:pt x="251" y="17"/>
                  </a:lnTo>
                  <a:lnTo>
                    <a:pt x="262" y="17"/>
                  </a:lnTo>
                  <a:lnTo>
                    <a:pt x="262" y="11"/>
                  </a:lnTo>
                  <a:lnTo>
                    <a:pt x="274" y="11"/>
                  </a:lnTo>
                  <a:lnTo>
                    <a:pt x="274" y="6"/>
                  </a:lnTo>
                  <a:lnTo>
                    <a:pt x="279" y="6"/>
                  </a:lnTo>
                  <a:lnTo>
                    <a:pt x="279" y="0"/>
                  </a:lnTo>
                  <a:lnTo>
                    <a:pt x="302" y="0"/>
                  </a:lnTo>
                  <a:lnTo>
                    <a:pt x="302" y="6"/>
                  </a:lnTo>
                  <a:lnTo>
                    <a:pt x="331" y="6"/>
                  </a:lnTo>
                  <a:lnTo>
                    <a:pt x="331" y="11"/>
                  </a:lnTo>
                  <a:lnTo>
                    <a:pt x="342" y="11"/>
                  </a:lnTo>
                  <a:lnTo>
                    <a:pt x="342" y="17"/>
                  </a:lnTo>
                  <a:lnTo>
                    <a:pt x="347" y="17"/>
                  </a:lnTo>
                  <a:lnTo>
                    <a:pt x="347" y="23"/>
                  </a:lnTo>
                  <a:lnTo>
                    <a:pt x="353" y="23"/>
                  </a:lnTo>
                  <a:lnTo>
                    <a:pt x="353" y="45"/>
                  </a:lnTo>
                  <a:lnTo>
                    <a:pt x="347" y="45"/>
                  </a:lnTo>
                  <a:lnTo>
                    <a:pt x="347" y="57"/>
                  </a:lnTo>
                  <a:lnTo>
                    <a:pt x="342" y="57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6" y="68"/>
                  </a:lnTo>
                  <a:lnTo>
                    <a:pt x="331" y="68"/>
                  </a:lnTo>
                  <a:lnTo>
                    <a:pt x="331" y="74"/>
                  </a:lnTo>
                  <a:lnTo>
                    <a:pt x="319" y="74"/>
                  </a:lnTo>
                  <a:lnTo>
                    <a:pt x="319" y="80"/>
                  </a:lnTo>
                  <a:lnTo>
                    <a:pt x="314" y="80"/>
                  </a:lnTo>
                  <a:lnTo>
                    <a:pt x="314" y="85"/>
                  </a:lnTo>
                  <a:lnTo>
                    <a:pt x="308" y="85"/>
                  </a:lnTo>
                  <a:lnTo>
                    <a:pt x="308" y="92"/>
                  </a:lnTo>
                  <a:lnTo>
                    <a:pt x="302" y="92"/>
                  </a:lnTo>
                  <a:lnTo>
                    <a:pt x="302" y="97"/>
                  </a:lnTo>
                  <a:lnTo>
                    <a:pt x="296" y="97"/>
                  </a:lnTo>
                  <a:lnTo>
                    <a:pt x="296" y="102"/>
                  </a:lnTo>
                  <a:lnTo>
                    <a:pt x="291" y="102"/>
                  </a:lnTo>
                  <a:lnTo>
                    <a:pt x="291" y="108"/>
                  </a:lnTo>
                  <a:lnTo>
                    <a:pt x="285" y="108"/>
                  </a:lnTo>
                  <a:lnTo>
                    <a:pt x="285" y="114"/>
                  </a:lnTo>
                  <a:lnTo>
                    <a:pt x="279" y="114"/>
                  </a:lnTo>
                  <a:lnTo>
                    <a:pt x="279" y="120"/>
                  </a:lnTo>
                  <a:lnTo>
                    <a:pt x="274" y="120"/>
                  </a:lnTo>
                  <a:lnTo>
                    <a:pt x="274" y="125"/>
                  </a:lnTo>
                  <a:lnTo>
                    <a:pt x="262" y="125"/>
                  </a:lnTo>
                  <a:lnTo>
                    <a:pt x="262" y="131"/>
                  </a:lnTo>
                  <a:lnTo>
                    <a:pt x="257" y="131"/>
                  </a:lnTo>
                  <a:lnTo>
                    <a:pt x="257" y="137"/>
                  </a:lnTo>
                  <a:lnTo>
                    <a:pt x="245" y="137"/>
                  </a:lnTo>
                  <a:lnTo>
                    <a:pt x="245" y="142"/>
                  </a:lnTo>
                  <a:lnTo>
                    <a:pt x="234" y="142"/>
                  </a:lnTo>
                  <a:lnTo>
                    <a:pt x="234" y="149"/>
                  </a:lnTo>
                  <a:lnTo>
                    <a:pt x="228" y="149"/>
                  </a:lnTo>
                  <a:lnTo>
                    <a:pt x="228" y="154"/>
                  </a:lnTo>
                  <a:lnTo>
                    <a:pt x="217" y="154"/>
                  </a:lnTo>
                  <a:lnTo>
                    <a:pt x="217" y="165"/>
                  </a:lnTo>
                  <a:lnTo>
                    <a:pt x="212" y="165"/>
                  </a:lnTo>
                  <a:lnTo>
                    <a:pt x="212" y="171"/>
                  </a:lnTo>
                  <a:lnTo>
                    <a:pt x="205" y="171"/>
                  </a:lnTo>
                  <a:lnTo>
                    <a:pt x="205" y="176"/>
                  </a:lnTo>
                  <a:lnTo>
                    <a:pt x="200" y="176"/>
                  </a:lnTo>
                  <a:lnTo>
                    <a:pt x="200" y="188"/>
                  </a:lnTo>
                  <a:lnTo>
                    <a:pt x="194" y="188"/>
                  </a:lnTo>
                  <a:lnTo>
                    <a:pt x="194" y="194"/>
                  </a:lnTo>
                  <a:lnTo>
                    <a:pt x="188" y="194"/>
                  </a:lnTo>
                  <a:lnTo>
                    <a:pt x="188" y="199"/>
                  </a:lnTo>
                  <a:lnTo>
                    <a:pt x="183" y="199"/>
                  </a:lnTo>
                  <a:lnTo>
                    <a:pt x="183" y="205"/>
                  </a:lnTo>
                  <a:lnTo>
                    <a:pt x="177" y="205"/>
                  </a:lnTo>
                  <a:lnTo>
                    <a:pt x="177" y="216"/>
                  </a:lnTo>
                  <a:lnTo>
                    <a:pt x="171" y="216"/>
                  </a:lnTo>
                  <a:lnTo>
                    <a:pt x="171" y="223"/>
                  </a:lnTo>
                  <a:lnTo>
                    <a:pt x="165" y="223"/>
                  </a:lnTo>
                  <a:lnTo>
                    <a:pt x="165" y="233"/>
                  </a:lnTo>
                  <a:lnTo>
                    <a:pt x="160" y="233"/>
                  </a:lnTo>
                  <a:lnTo>
                    <a:pt x="160" y="239"/>
                  </a:lnTo>
                  <a:lnTo>
                    <a:pt x="155" y="239"/>
                  </a:lnTo>
                  <a:lnTo>
                    <a:pt x="155" y="256"/>
                  </a:lnTo>
                  <a:lnTo>
                    <a:pt x="148" y="256"/>
                  </a:lnTo>
                  <a:lnTo>
                    <a:pt x="148" y="262"/>
                  </a:lnTo>
                  <a:lnTo>
                    <a:pt x="143" y="262"/>
                  </a:lnTo>
                  <a:lnTo>
                    <a:pt x="143" y="280"/>
                  </a:lnTo>
                  <a:lnTo>
                    <a:pt x="137" y="280"/>
                  </a:lnTo>
                  <a:lnTo>
                    <a:pt x="137" y="285"/>
                  </a:lnTo>
                  <a:lnTo>
                    <a:pt x="131" y="285"/>
                  </a:lnTo>
                  <a:lnTo>
                    <a:pt x="131" y="290"/>
                  </a:lnTo>
                  <a:lnTo>
                    <a:pt x="126" y="290"/>
                  </a:lnTo>
                  <a:lnTo>
                    <a:pt x="126" y="302"/>
                  </a:lnTo>
                  <a:lnTo>
                    <a:pt x="120" y="302"/>
                  </a:lnTo>
                  <a:lnTo>
                    <a:pt x="120" y="313"/>
                  </a:lnTo>
                  <a:lnTo>
                    <a:pt x="114" y="313"/>
                  </a:lnTo>
                  <a:lnTo>
                    <a:pt x="114" y="330"/>
                  </a:lnTo>
                  <a:lnTo>
                    <a:pt x="108" y="330"/>
                  </a:lnTo>
                  <a:lnTo>
                    <a:pt x="108" y="342"/>
                  </a:lnTo>
                  <a:lnTo>
                    <a:pt x="103" y="342"/>
                  </a:lnTo>
                  <a:lnTo>
                    <a:pt x="103" y="347"/>
                  </a:lnTo>
                  <a:lnTo>
                    <a:pt x="98" y="347"/>
                  </a:lnTo>
                  <a:lnTo>
                    <a:pt x="98" y="358"/>
                  </a:lnTo>
                  <a:lnTo>
                    <a:pt x="91" y="358"/>
                  </a:lnTo>
                  <a:lnTo>
                    <a:pt x="91" y="365"/>
                  </a:lnTo>
                  <a:lnTo>
                    <a:pt x="69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7620840" y="2225160"/>
              <a:ext cx="122040" cy="139680"/>
            </a:xfrm>
            <a:custGeom>
              <a:avLst/>
              <a:gdLst/>
              <a:ahLst/>
              <a:rect l="l" t="t" r="r" b="b"/>
              <a:pathLst>
                <a:path w="234" h="256">
                  <a:moveTo>
                    <a:pt x="17" y="256"/>
                  </a:moveTo>
                  <a:lnTo>
                    <a:pt x="17" y="228"/>
                  </a:lnTo>
                  <a:lnTo>
                    <a:pt x="12" y="228"/>
                  </a:lnTo>
                  <a:lnTo>
                    <a:pt x="12" y="165"/>
                  </a:lnTo>
                  <a:lnTo>
                    <a:pt x="6" y="165"/>
                  </a:lnTo>
                  <a:lnTo>
                    <a:pt x="6" y="136"/>
                  </a:lnTo>
                  <a:lnTo>
                    <a:pt x="0" y="136"/>
                  </a:lnTo>
                  <a:lnTo>
                    <a:pt x="0" y="97"/>
                  </a:lnTo>
                  <a:lnTo>
                    <a:pt x="6" y="97"/>
                  </a:lnTo>
                  <a:lnTo>
                    <a:pt x="6" y="85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51" y="74"/>
                  </a:lnTo>
                  <a:lnTo>
                    <a:pt x="51" y="68"/>
                  </a:lnTo>
                  <a:lnTo>
                    <a:pt x="57" y="68"/>
                  </a:lnTo>
                  <a:lnTo>
                    <a:pt x="57" y="62"/>
                  </a:lnTo>
                  <a:lnTo>
                    <a:pt x="74" y="62"/>
                  </a:lnTo>
                  <a:lnTo>
                    <a:pt x="74" y="57"/>
                  </a:lnTo>
                  <a:lnTo>
                    <a:pt x="80" y="57"/>
                  </a:lnTo>
                  <a:lnTo>
                    <a:pt x="80" y="52"/>
                  </a:lnTo>
                  <a:lnTo>
                    <a:pt x="91" y="52"/>
                  </a:lnTo>
                  <a:lnTo>
                    <a:pt x="91" y="45"/>
                  </a:lnTo>
                  <a:lnTo>
                    <a:pt x="103" y="45"/>
                  </a:lnTo>
                  <a:lnTo>
                    <a:pt x="103" y="40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26" y="34"/>
                  </a:lnTo>
                  <a:lnTo>
                    <a:pt x="126" y="28"/>
                  </a:lnTo>
                  <a:lnTo>
                    <a:pt x="143" y="28"/>
                  </a:lnTo>
                  <a:lnTo>
                    <a:pt x="143" y="23"/>
                  </a:lnTo>
                  <a:lnTo>
                    <a:pt x="155" y="23"/>
                  </a:lnTo>
                  <a:lnTo>
                    <a:pt x="155" y="17"/>
                  </a:lnTo>
                  <a:lnTo>
                    <a:pt x="171" y="17"/>
                  </a:lnTo>
                  <a:lnTo>
                    <a:pt x="171" y="11"/>
                  </a:lnTo>
                  <a:lnTo>
                    <a:pt x="182" y="11"/>
                  </a:lnTo>
                  <a:lnTo>
                    <a:pt x="182" y="5"/>
                  </a:lnTo>
                  <a:lnTo>
                    <a:pt x="205" y="5"/>
                  </a:lnTo>
                  <a:lnTo>
                    <a:pt x="205" y="0"/>
                  </a:lnTo>
                  <a:lnTo>
                    <a:pt x="234" y="0"/>
                  </a:lnTo>
                  <a:lnTo>
                    <a:pt x="234" y="11"/>
                  </a:lnTo>
                  <a:lnTo>
                    <a:pt x="228" y="11"/>
                  </a:lnTo>
                  <a:lnTo>
                    <a:pt x="228" y="17"/>
                  </a:lnTo>
                  <a:lnTo>
                    <a:pt x="222" y="17"/>
                  </a:lnTo>
                  <a:lnTo>
                    <a:pt x="222" y="23"/>
                  </a:lnTo>
                  <a:lnTo>
                    <a:pt x="212" y="23"/>
                  </a:lnTo>
                  <a:lnTo>
                    <a:pt x="212" y="28"/>
                  </a:lnTo>
                  <a:lnTo>
                    <a:pt x="205" y="28"/>
                  </a:lnTo>
                  <a:lnTo>
                    <a:pt x="205" y="34"/>
                  </a:lnTo>
                  <a:lnTo>
                    <a:pt x="200" y="34"/>
                  </a:lnTo>
                  <a:lnTo>
                    <a:pt x="200" y="40"/>
                  </a:lnTo>
                  <a:lnTo>
                    <a:pt x="194" y="40"/>
                  </a:lnTo>
                  <a:lnTo>
                    <a:pt x="194" y="45"/>
                  </a:lnTo>
                  <a:lnTo>
                    <a:pt x="188" y="45"/>
                  </a:lnTo>
                  <a:lnTo>
                    <a:pt x="188" y="52"/>
                  </a:lnTo>
                  <a:lnTo>
                    <a:pt x="182" y="52"/>
                  </a:lnTo>
                  <a:lnTo>
                    <a:pt x="182" y="57"/>
                  </a:lnTo>
                  <a:lnTo>
                    <a:pt x="177" y="57"/>
                  </a:lnTo>
                  <a:lnTo>
                    <a:pt x="177" y="62"/>
                  </a:lnTo>
                  <a:lnTo>
                    <a:pt x="171" y="62"/>
                  </a:lnTo>
                  <a:lnTo>
                    <a:pt x="171" y="68"/>
                  </a:lnTo>
                  <a:lnTo>
                    <a:pt x="165" y="68"/>
                  </a:lnTo>
                  <a:lnTo>
                    <a:pt x="165" y="7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55" y="80"/>
                  </a:lnTo>
                  <a:lnTo>
                    <a:pt x="155" y="85"/>
                  </a:lnTo>
                  <a:lnTo>
                    <a:pt x="148" y="85"/>
                  </a:lnTo>
                  <a:lnTo>
                    <a:pt x="148" y="91"/>
                  </a:lnTo>
                  <a:lnTo>
                    <a:pt x="143" y="91"/>
                  </a:lnTo>
                  <a:lnTo>
                    <a:pt x="143" y="97"/>
                  </a:lnTo>
                  <a:lnTo>
                    <a:pt x="137" y="97"/>
                  </a:lnTo>
                  <a:lnTo>
                    <a:pt x="137" y="102"/>
                  </a:lnTo>
                  <a:lnTo>
                    <a:pt x="131" y="102"/>
                  </a:lnTo>
                  <a:lnTo>
                    <a:pt x="131" y="109"/>
                  </a:lnTo>
                  <a:lnTo>
                    <a:pt x="126" y="109"/>
                  </a:lnTo>
                  <a:lnTo>
                    <a:pt x="126" y="119"/>
                  </a:lnTo>
                  <a:lnTo>
                    <a:pt x="120" y="119"/>
                  </a:lnTo>
                  <a:lnTo>
                    <a:pt x="120" y="125"/>
                  </a:lnTo>
                  <a:lnTo>
                    <a:pt x="114" y="125"/>
                  </a:lnTo>
                  <a:lnTo>
                    <a:pt x="114" y="131"/>
                  </a:lnTo>
                  <a:lnTo>
                    <a:pt x="108" y="131"/>
                  </a:lnTo>
                  <a:lnTo>
                    <a:pt x="108" y="142"/>
                  </a:lnTo>
                  <a:lnTo>
                    <a:pt x="103" y="142"/>
                  </a:lnTo>
                  <a:lnTo>
                    <a:pt x="103" y="148"/>
                  </a:lnTo>
                  <a:lnTo>
                    <a:pt x="98" y="148"/>
                  </a:lnTo>
                  <a:lnTo>
                    <a:pt x="98" y="159"/>
                  </a:lnTo>
                  <a:lnTo>
                    <a:pt x="91" y="159"/>
                  </a:lnTo>
                  <a:lnTo>
                    <a:pt x="91" y="165"/>
                  </a:lnTo>
                  <a:lnTo>
                    <a:pt x="86" y="165"/>
                  </a:lnTo>
                  <a:lnTo>
                    <a:pt x="86" y="171"/>
                  </a:lnTo>
                  <a:lnTo>
                    <a:pt x="80" y="171"/>
                  </a:lnTo>
                  <a:lnTo>
                    <a:pt x="80" y="176"/>
                  </a:lnTo>
                  <a:lnTo>
                    <a:pt x="74" y="176"/>
                  </a:lnTo>
                  <a:lnTo>
                    <a:pt x="74" y="188"/>
                  </a:lnTo>
                  <a:lnTo>
                    <a:pt x="69" y="188"/>
                  </a:lnTo>
                  <a:lnTo>
                    <a:pt x="69" y="193"/>
                  </a:lnTo>
                  <a:lnTo>
                    <a:pt x="63" y="193"/>
                  </a:lnTo>
                  <a:lnTo>
                    <a:pt x="63" y="205"/>
                  </a:lnTo>
                  <a:lnTo>
                    <a:pt x="57" y="205"/>
                  </a:lnTo>
                  <a:lnTo>
                    <a:pt x="57" y="216"/>
                  </a:lnTo>
                  <a:lnTo>
                    <a:pt x="51" y="216"/>
                  </a:lnTo>
                  <a:lnTo>
                    <a:pt x="51" y="233"/>
                  </a:lnTo>
                  <a:lnTo>
                    <a:pt x="46" y="233"/>
                  </a:lnTo>
                  <a:lnTo>
                    <a:pt x="46" y="240"/>
                  </a:lnTo>
                  <a:lnTo>
                    <a:pt x="41" y="240"/>
                  </a:lnTo>
                  <a:lnTo>
                    <a:pt x="41" y="250"/>
                  </a:lnTo>
                  <a:lnTo>
                    <a:pt x="34" y="250"/>
                  </a:lnTo>
                  <a:lnTo>
                    <a:pt x="34" y="256"/>
                  </a:lnTo>
                  <a:lnTo>
                    <a:pt x="17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6765840" y="2341440"/>
              <a:ext cx="862560" cy="1032120"/>
            </a:xfrm>
            <a:custGeom>
              <a:avLst/>
              <a:gdLst/>
              <a:ahLst/>
              <a:rect l="l" t="t" r="r" b="b"/>
              <a:pathLst>
                <a:path w="1564" h="1872">
                  <a:moveTo>
                    <a:pt x="1098" y="1872"/>
                  </a:moveTo>
                  <a:lnTo>
                    <a:pt x="1098" y="1861"/>
                  </a:lnTo>
                  <a:lnTo>
                    <a:pt x="1110" y="1861"/>
                  </a:lnTo>
                  <a:lnTo>
                    <a:pt x="1110" y="1855"/>
                  </a:lnTo>
                  <a:lnTo>
                    <a:pt x="1115" y="1855"/>
                  </a:lnTo>
                  <a:lnTo>
                    <a:pt x="1115" y="1844"/>
                  </a:lnTo>
                  <a:lnTo>
                    <a:pt x="1121" y="1844"/>
                  </a:lnTo>
                  <a:lnTo>
                    <a:pt x="1121" y="1832"/>
                  </a:lnTo>
                  <a:lnTo>
                    <a:pt x="1132" y="1832"/>
                  </a:lnTo>
                  <a:lnTo>
                    <a:pt x="1132" y="1838"/>
                  </a:lnTo>
                  <a:lnTo>
                    <a:pt x="1155" y="1838"/>
                  </a:lnTo>
                  <a:lnTo>
                    <a:pt x="1155" y="1832"/>
                  </a:lnTo>
                  <a:lnTo>
                    <a:pt x="1183" y="1832"/>
                  </a:lnTo>
                  <a:lnTo>
                    <a:pt x="1183" y="1827"/>
                  </a:lnTo>
                  <a:lnTo>
                    <a:pt x="1200" y="1827"/>
                  </a:lnTo>
                  <a:lnTo>
                    <a:pt x="1200" y="1821"/>
                  </a:lnTo>
                  <a:lnTo>
                    <a:pt x="1223" y="1821"/>
                  </a:lnTo>
                  <a:lnTo>
                    <a:pt x="1223" y="1815"/>
                  </a:lnTo>
                  <a:lnTo>
                    <a:pt x="1257" y="1815"/>
                  </a:lnTo>
                  <a:lnTo>
                    <a:pt x="1257" y="1810"/>
                  </a:lnTo>
                  <a:lnTo>
                    <a:pt x="1280" y="1810"/>
                  </a:lnTo>
                  <a:lnTo>
                    <a:pt x="1280" y="1805"/>
                  </a:lnTo>
                  <a:lnTo>
                    <a:pt x="1309" y="1805"/>
                  </a:lnTo>
                  <a:lnTo>
                    <a:pt x="1309" y="1798"/>
                  </a:lnTo>
                  <a:lnTo>
                    <a:pt x="1319" y="1798"/>
                  </a:lnTo>
                  <a:lnTo>
                    <a:pt x="1319" y="1793"/>
                  </a:lnTo>
                  <a:lnTo>
                    <a:pt x="1337" y="1793"/>
                  </a:lnTo>
                  <a:lnTo>
                    <a:pt x="1337" y="1787"/>
                  </a:lnTo>
                  <a:lnTo>
                    <a:pt x="1348" y="1787"/>
                  </a:lnTo>
                  <a:lnTo>
                    <a:pt x="1348" y="1781"/>
                  </a:lnTo>
                  <a:lnTo>
                    <a:pt x="1354" y="1781"/>
                  </a:lnTo>
                  <a:lnTo>
                    <a:pt x="1354" y="1776"/>
                  </a:lnTo>
                  <a:lnTo>
                    <a:pt x="1366" y="1776"/>
                  </a:lnTo>
                  <a:lnTo>
                    <a:pt x="1366" y="1770"/>
                  </a:lnTo>
                  <a:lnTo>
                    <a:pt x="1371" y="1770"/>
                  </a:lnTo>
                  <a:lnTo>
                    <a:pt x="1371" y="1764"/>
                  </a:lnTo>
                  <a:lnTo>
                    <a:pt x="1383" y="1764"/>
                  </a:lnTo>
                  <a:lnTo>
                    <a:pt x="1383" y="1758"/>
                  </a:lnTo>
                  <a:lnTo>
                    <a:pt x="1394" y="1758"/>
                  </a:lnTo>
                  <a:lnTo>
                    <a:pt x="1394" y="1753"/>
                  </a:lnTo>
                  <a:lnTo>
                    <a:pt x="1405" y="1753"/>
                  </a:lnTo>
                  <a:lnTo>
                    <a:pt x="1405" y="1748"/>
                  </a:lnTo>
                  <a:lnTo>
                    <a:pt x="1417" y="1748"/>
                  </a:lnTo>
                  <a:lnTo>
                    <a:pt x="1417" y="1741"/>
                  </a:lnTo>
                  <a:lnTo>
                    <a:pt x="1428" y="1741"/>
                  </a:lnTo>
                  <a:lnTo>
                    <a:pt x="1428" y="1736"/>
                  </a:lnTo>
                  <a:lnTo>
                    <a:pt x="1434" y="1736"/>
                  </a:lnTo>
                  <a:lnTo>
                    <a:pt x="1434" y="1730"/>
                  </a:lnTo>
                  <a:lnTo>
                    <a:pt x="1440" y="1730"/>
                  </a:lnTo>
                  <a:lnTo>
                    <a:pt x="1440" y="1724"/>
                  </a:lnTo>
                  <a:lnTo>
                    <a:pt x="1451" y="1724"/>
                  </a:lnTo>
                  <a:lnTo>
                    <a:pt x="1451" y="1719"/>
                  </a:lnTo>
                  <a:lnTo>
                    <a:pt x="1462" y="1719"/>
                  </a:lnTo>
                  <a:lnTo>
                    <a:pt x="1462" y="1713"/>
                  </a:lnTo>
                  <a:lnTo>
                    <a:pt x="1474" y="1713"/>
                  </a:lnTo>
                  <a:lnTo>
                    <a:pt x="1474" y="1707"/>
                  </a:lnTo>
                  <a:lnTo>
                    <a:pt x="1480" y="1707"/>
                  </a:lnTo>
                  <a:lnTo>
                    <a:pt x="1480" y="1684"/>
                  </a:lnTo>
                  <a:lnTo>
                    <a:pt x="1485" y="1684"/>
                  </a:lnTo>
                  <a:lnTo>
                    <a:pt x="1485" y="1667"/>
                  </a:lnTo>
                  <a:lnTo>
                    <a:pt x="1491" y="1667"/>
                  </a:lnTo>
                  <a:lnTo>
                    <a:pt x="1491" y="1644"/>
                  </a:lnTo>
                  <a:lnTo>
                    <a:pt x="1497" y="1644"/>
                  </a:lnTo>
                  <a:lnTo>
                    <a:pt x="1497" y="1560"/>
                  </a:lnTo>
                  <a:lnTo>
                    <a:pt x="1491" y="1560"/>
                  </a:lnTo>
                  <a:lnTo>
                    <a:pt x="1491" y="1520"/>
                  </a:lnTo>
                  <a:lnTo>
                    <a:pt x="1485" y="1520"/>
                  </a:lnTo>
                  <a:lnTo>
                    <a:pt x="1485" y="1480"/>
                  </a:lnTo>
                  <a:lnTo>
                    <a:pt x="1480" y="1480"/>
                  </a:lnTo>
                  <a:lnTo>
                    <a:pt x="1480" y="1440"/>
                  </a:lnTo>
                  <a:lnTo>
                    <a:pt x="1474" y="1440"/>
                  </a:lnTo>
                  <a:lnTo>
                    <a:pt x="1474" y="1377"/>
                  </a:lnTo>
                  <a:lnTo>
                    <a:pt x="1468" y="1377"/>
                  </a:lnTo>
                  <a:lnTo>
                    <a:pt x="1468" y="1360"/>
                  </a:lnTo>
                  <a:lnTo>
                    <a:pt x="1462" y="1360"/>
                  </a:lnTo>
                  <a:lnTo>
                    <a:pt x="1462" y="1349"/>
                  </a:lnTo>
                  <a:lnTo>
                    <a:pt x="1457" y="1349"/>
                  </a:lnTo>
                  <a:lnTo>
                    <a:pt x="1457" y="1332"/>
                  </a:lnTo>
                  <a:lnTo>
                    <a:pt x="1451" y="1332"/>
                  </a:lnTo>
                  <a:lnTo>
                    <a:pt x="1451" y="1326"/>
                  </a:lnTo>
                  <a:lnTo>
                    <a:pt x="1445" y="1326"/>
                  </a:lnTo>
                  <a:lnTo>
                    <a:pt x="1445" y="1309"/>
                  </a:lnTo>
                  <a:lnTo>
                    <a:pt x="1440" y="1309"/>
                  </a:lnTo>
                  <a:lnTo>
                    <a:pt x="1440" y="1297"/>
                  </a:lnTo>
                  <a:lnTo>
                    <a:pt x="1434" y="1297"/>
                  </a:lnTo>
                  <a:lnTo>
                    <a:pt x="1434" y="1292"/>
                  </a:lnTo>
                  <a:lnTo>
                    <a:pt x="1428" y="1292"/>
                  </a:lnTo>
                  <a:lnTo>
                    <a:pt x="1428" y="1287"/>
                  </a:lnTo>
                  <a:lnTo>
                    <a:pt x="1423" y="1287"/>
                  </a:lnTo>
                  <a:lnTo>
                    <a:pt x="1423" y="1280"/>
                  </a:lnTo>
                  <a:lnTo>
                    <a:pt x="1417" y="1280"/>
                  </a:lnTo>
                  <a:lnTo>
                    <a:pt x="1417" y="1269"/>
                  </a:lnTo>
                  <a:lnTo>
                    <a:pt x="1411" y="1269"/>
                  </a:lnTo>
                  <a:lnTo>
                    <a:pt x="1411" y="1263"/>
                  </a:lnTo>
                  <a:lnTo>
                    <a:pt x="1405" y="1263"/>
                  </a:lnTo>
                  <a:lnTo>
                    <a:pt x="1405" y="1258"/>
                  </a:lnTo>
                  <a:lnTo>
                    <a:pt x="1400" y="1258"/>
                  </a:lnTo>
                  <a:lnTo>
                    <a:pt x="1400" y="1252"/>
                  </a:lnTo>
                  <a:lnTo>
                    <a:pt x="1394" y="1252"/>
                  </a:lnTo>
                  <a:lnTo>
                    <a:pt x="1394" y="1246"/>
                  </a:lnTo>
                  <a:lnTo>
                    <a:pt x="1388" y="1246"/>
                  </a:lnTo>
                  <a:lnTo>
                    <a:pt x="1388" y="1240"/>
                  </a:lnTo>
                  <a:lnTo>
                    <a:pt x="1383" y="1240"/>
                  </a:lnTo>
                  <a:lnTo>
                    <a:pt x="1383" y="1235"/>
                  </a:lnTo>
                  <a:lnTo>
                    <a:pt x="1376" y="1235"/>
                  </a:lnTo>
                  <a:lnTo>
                    <a:pt x="1376" y="1230"/>
                  </a:lnTo>
                  <a:lnTo>
                    <a:pt x="1371" y="1230"/>
                  </a:lnTo>
                  <a:lnTo>
                    <a:pt x="1371" y="1218"/>
                  </a:lnTo>
                  <a:lnTo>
                    <a:pt x="1366" y="1218"/>
                  </a:lnTo>
                  <a:lnTo>
                    <a:pt x="1366" y="1201"/>
                  </a:lnTo>
                  <a:lnTo>
                    <a:pt x="1360" y="1201"/>
                  </a:lnTo>
                  <a:lnTo>
                    <a:pt x="1360" y="1195"/>
                  </a:lnTo>
                  <a:lnTo>
                    <a:pt x="1354" y="1195"/>
                  </a:lnTo>
                  <a:lnTo>
                    <a:pt x="1354" y="1190"/>
                  </a:lnTo>
                  <a:lnTo>
                    <a:pt x="1348" y="1190"/>
                  </a:lnTo>
                  <a:lnTo>
                    <a:pt x="1348" y="1178"/>
                  </a:lnTo>
                  <a:lnTo>
                    <a:pt x="1343" y="1178"/>
                  </a:lnTo>
                  <a:lnTo>
                    <a:pt x="1343" y="1167"/>
                  </a:lnTo>
                  <a:lnTo>
                    <a:pt x="1331" y="1167"/>
                  </a:lnTo>
                  <a:lnTo>
                    <a:pt x="1331" y="1156"/>
                  </a:lnTo>
                  <a:lnTo>
                    <a:pt x="1326" y="1156"/>
                  </a:lnTo>
                  <a:lnTo>
                    <a:pt x="1326" y="1150"/>
                  </a:lnTo>
                  <a:lnTo>
                    <a:pt x="1319" y="1150"/>
                  </a:lnTo>
                  <a:lnTo>
                    <a:pt x="1319" y="1144"/>
                  </a:lnTo>
                  <a:lnTo>
                    <a:pt x="1314" y="1144"/>
                  </a:lnTo>
                  <a:lnTo>
                    <a:pt x="1314" y="1133"/>
                  </a:lnTo>
                  <a:lnTo>
                    <a:pt x="1309" y="1133"/>
                  </a:lnTo>
                  <a:lnTo>
                    <a:pt x="1309" y="1127"/>
                  </a:lnTo>
                  <a:lnTo>
                    <a:pt x="1303" y="1127"/>
                  </a:lnTo>
                  <a:lnTo>
                    <a:pt x="1303" y="1121"/>
                  </a:lnTo>
                  <a:lnTo>
                    <a:pt x="1291" y="1121"/>
                  </a:lnTo>
                  <a:lnTo>
                    <a:pt x="1291" y="1116"/>
                  </a:lnTo>
                  <a:lnTo>
                    <a:pt x="1286" y="1116"/>
                  </a:lnTo>
                  <a:lnTo>
                    <a:pt x="1286" y="1110"/>
                  </a:lnTo>
                  <a:lnTo>
                    <a:pt x="1280" y="1110"/>
                  </a:lnTo>
                  <a:lnTo>
                    <a:pt x="1280" y="1104"/>
                  </a:lnTo>
                  <a:lnTo>
                    <a:pt x="1274" y="1104"/>
                  </a:lnTo>
                  <a:lnTo>
                    <a:pt x="1274" y="1099"/>
                  </a:lnTo>
                  <a:lnTo>
                    <a:pt x="1269" y="1099"/>
                  </a:lnTo>
                  <a:lnTo>
                    <a:pt x="1269" y="1087"/>
                  </a:lnTo>
                  <a:lnTo>
                    <a:pt x="1262" y="1087"/>
                  </a:lnTo>
                  <a:lnTo>
                    <a:pt x="1262" y="1081"/>
                  </a:lnTo>
                  <a:lnTo>
                    <a:pt x="1257" y="1081"/>
                  </a:lnTo>
                  <a:lnTo>
                    <a:pt x="1257" y="1076"/>
                  </a:lnTo>
                  <a:lnTo>
                    <a:pt x="1252" y="1076"/>
                  </a:lnTo>
                  <a:lnTo>
                    <a:pt x="1252" y="1070"/>
                  </a:lnTo>
                  <a:lnTo>
                    <a:pt x="1246" y="1070"/>
                  </a:lnTo>
                  <a:lnTo>
                    <a:pt x="1246" y="1059"/>
                  </a:lnTo>
                  <a:lnTo>
                    <a:pt x="1240" y="1059"/>
                  </a:lnTo>
                  <a:lnTo>
                    <a:pt x="1240" y="1053"/>
                  </a:lnTo>
                  <a:lnTo>
                    <a:pt x="1234" y="1053"/>
                  </a:lnTo>
                  <a:lnTo>
                    <a:pt x="1234" y="1047"/>
                  </a:lnTo>
                  <a:lnTo>
                    <a:pt x="1229" y="1047"/>
                  </a:lnTo>
                  <a:lnTo>
                    <a:pt x="1229" y="1036"/>
                  </a:lnTo>
                  <a:lnTo>
                    <a:pt x="1223" y="1036"/>
                  </a:lnTo>
                  <a:lnTo>
                    <a:pt x="1223" y="1030"/>
                  </a:lnTo>
                  <a:lnTo>
                    <a:pt x="1217" y="1030"/>
                  </a:lnTo>
                  <a:lnTo>
                    <a:pt x="1217" y="1019"/>
                  </a:lnTo>
                  <a:lnTo>
                    <a:pt x="1212" y="1019"/>
                  </a:lnTo>
                  <a:lnTo>
                    <a:pt x="1212" y="1007"/>
                  </a:lnTo>
                  <a:lnTo>
                    <a:pt x="1205" y="1007"/>
                  </a:lnTo>
                  <a:lnTo>
                    <a:pt x="1205" y="997"/>
                  </a:lnTo>
                  <a:lnTo>
                    <a:pt x="1200" y="997"/>
                  </a:lnTo>
                  <a:lnTo>
                    <a:pt x="1200" y="990"/>
                  </a:lnTo>
                  <a:lnTo>
                    <a:pt x="1195" y="990"/>
                  </a:lnTo>
                  <a:lnTo>
                    <a:pt x="1195" y="985"/>
                  </a:lnTo>
                  <a:lnTo>
                    <a:pt x="1189" y="985"/>
                  </a:lnTo>
                  <a:lnTo>
                    <a:pt x="1189" y="979"/>
                  </a:lnTo>
                  <a:lnTo>
                    <a:pt x="1183" y="979"/>
                  </a:lnTo>
                  <a:lnTo>
                    <a:pt x="1183" y="962"/>
                  </a:lnTo>
                  <a:lnTo>
                    <a:pt x="1178" y="962"/>
                  </a:lnTo>
                  <a:lnTo>
                    <a:pt x="1178" y="956"/>
                  </a:lnTo>
                  <a:lnTo>
                    <a:pt x="1172" y="956"/>
                  </a:lnTo>
                  <a:lnTo>
                    <a:pt x="1172" y="945"/>
                  </a:lnTo>
                  <a:lnTo>
                    <a:pt x="1166" y="945"/>
                  </a:lnTo>
                  <a:lnTo>
                    <a:pt x="1166" y="933"/>
                  </a:lnTo>
                  <a:lnTo>
                    <a:pt x="1160" y="933"/>
                  </a:lnTo>
                  <a:lnTo>
                    <a:pt x="1160" y="916"/>
                  </a:lnTo>
                  <a:lnTo>
                    <a:pt x="1155" y="916"/>
                  </a:lnTo>
                  <a:lnTo>
                    <a:pt x="1155" y="888"/>
                  </a:lnTo>
                  <a:lnTo>
                    <a:pt x="1148" y="888"/>
                  </a:lnTo>
                  <a:lnTo>
                    <a:pt x="1148" y="876"/>
                  </a:lnTo>
                  <a:lnTo>
                    <a:pt x="1143" y="876"/>
                  </a:lnTo>
                  <a:lnTo>
                    <a:pt x="1143" y="854"/>
                  </a:lnTo>
                  <a:lnTo>
                    <a:pt x="1138" y="854"/>
                  </a:lnTo>
                  <a:lnTo>
                    <a:pt x="1138" y="819"/>
                  </a:lnTo>
                  <a:lnTo>
                    <a:pt x="1132" y="819"/>
                  </a:lnTo>
                  <a:lnTo>
                    <a:pt x="1132" y="797"/>
                  </a:lnTo>
                  <a:lnTo>
                    <a:pt x="1127" y="797"/>
                  </a:lnTo>
                  <a:lnTo>
                    <a:pt x="1127" y="785"/>
                  </a:lnTo>
                  <a:lnTo>
                    <a:pt x="1121" y="785"/>
                  </a:lnTo>
                  <a:lnTo>
                    <a:pt x="1121" y="769"/>
                  </a:lnTo>
                  <a:lnTo>
                    <a:pt x="1115" y="769"/>
                  </a:lnTo>
                  <a:lnTo>
                    <a:pt x="1115" y="746"/>
                  </a:lnTo>
                  <a:lnTo>
                    <a:pt x="1110" y="746"/>
                  </a:lnTo>
                  <a:lnTo>
                    <a:pt x="1110" y="734"/>
                  </a:lnTo>
                  <a:lnTo>
                    <a:pt x="1103" y="734"/>
                  </a:lnTo>
                  <a:lnTo>
                    <a:pt x="1103" y="723"/>
                  </a:lnTo>
                  <a:lnTo>
                    <a:pt x="1098" y="723"/>
                  </a:lnTo>
                  <a:lnTo>
                    <a:pt x="1098" y="717"/>
                  </a:lnTo>
                  <a:lnTo>
                    <a:pt x="1093" y="717"/>
                  </a:lnTo>
                  <a:lnTo>
                    <a:pt x="1093" y="689"/>
                  </a:lnTo>
                  <a:lnTo>
                    <a:pt x="1086" y="689"/>
                  </a:lnTo>
                  <a:lnTo>
                    <a:pt x="1086" y="672"/>
                  </a:lnTo>
                  <a:lnTo>
                    <a:pt x="1081" y="672"/>
                  </a:lnTo>
                  <a:lnTo>
                    <a:pt x="1081" y="655"/>
                  </a:lnTo>
                  <a:lnTo>
                    <a:pt x="1075" y="655"/>
                  </a:lnTo>
                  <a:lnTo>
                    <a:pt x="1075" y="632"/>
                  </a:lnTo>
                  <a:lnTo>
                    <a:pt x="1070" y="632"/>
                  </a:lnTo>
                  <a:lnTo>
                    <a:pt x="1070" y="603"/>
                  </a:lnTo>
                  <a:lnTo>
                    <a:pt x="1064" y="603"/>
                  </a:lnTo>
                  <a:lnTo>
                    <a:pt x="1064" y="575"/>
                  </a:lnTo>
                  <a:lnTo>
                    <a:pt x="1058" y="575"/>
                  </a:lnTo>
                  <a:lnTo>
                    <a:pt x="1058" y="552"/>
                  </a:lnTo>
                  <a:lnTo>
                    <a:pt x="1053" y="552"/>
                  </a:lnTo>
                  <a:lnTo>
                    <a:pt x="1053" y="404"/>
                  </a:lnTo>
                  <a:lnTo>
                    <a:pt x="1046" y="404"/>
                  </a:lnTo>
                  <a:lnTo>
                    <a:pt x="1046" y="348"/>
                  </a:lnTo>
                  <a:lnTo>
                    <a:pt x="1053" y="348"/>
                  </a:lnTo>
                  <a:lnTo>
                    <a:pt x="1053" y="330"/>
                  </a:lnTo>
                  <a:lnTo>
                    <a:pt x="1058" y="330"/>
                  </a:lnTo>
                  <a:lnTo>
                    <a:pt x="1058" y="308"/>
                  </a:lnTo>
                  <a:lnTo>
                    <a:pt x="1064" y="308"/>
                  </a:lnTo>
                  <a:lnTo>
                    <a:pt x="1064" y="245"/>
                  </a:lnTo>
                  <a:lnTo>
                    <a:pt x="1070" y="245"/>
                  </a:lnTo>
                  <a:lnTo>
                    <a:pt x="1070" y="216"/>
                  </a:lnTo>
                  <a:lnTo>
                    <a:pt x="1075" y="216"/>
                  </a:lnTo>
                  <a:lnTo>
                    <a:pt x="1075" y="194"/>
                  </a:lnTo>
                  <a:lnTo>
                    <a:pt x="1081" y="194"/>
                  </a:lnTo>
                  <a:lnTo>
                    <a:pt x="1081" y="171"/>
                  </a:lnTo>
                  <a:lnTo>
                    <a:pt x="1086" y="171"/>
                  </a:lnTo>
                  <a:lnTo>
                    <a:pt x="1086" y="108"/>
                  </a:lnTo>
                  <a:lnTo>
                    <a:pt x="1081" y="108"/>
                  </a:lnTo>
                  <a:lnTo>
                    <a:pt x="1081" y="103"/>
                  </a:lnTo>
                  <a:lnTo>
                    <a:pt x="1058" y="103"/>
                  </a:lnTo>
                  <a:lnTo>
                    <a:pt x="1058" y="97"/>
                  </a:lnTo>
                  <a:lnTo>
                    <a:pt x="1041" y="97"/>
                  </a:lnTo>
                  <a:lnTo>
                    <a:pt x="1041" y="91"/>
                  </a:lnTo>
                  <a:lnTo>
                    <a:pt x="1029" y="91"/>
                  </a:lnTo>
                  <a:lnTo>
                    <a:pt x="1029" y="85"/>
                  </a:lnTo>
                  <a:lnTo>
                    <a:pt x="1024" y="85"/>
                  </a:lnTo>
                  <a:lnTo>
                    <a:pt x="1024" y="80"/>
                  </a:lnTo>
                  <a:lnTo>
                    <a:pt x="996" y="80"/>
                  </a:lnTo>
                  <a:lnTo>
                    <a:pt x="996" y="74"/>
                  </a:lnTo>
                  <a:lnTo>
                    <a:pt x="932" y="74"/>
                  </a:lnTo>
                  <a:lnTo>
                    <a:pt x="932" y="68"/>
                  </a:lnTo>
                  <a:lnTo>
                    <a:pt x="882" y="68"/>
                  </a:lnTo>
                  <a:lnTo>
                    <a:pt x="882" y="63"/>
                  </a:lnTo>
                  <a:lnTo>
                    <a:pt x="825" y="63"/>
                  </a:lnTo>
                  <a:lnTo>
                    <a:pt x="825" y="57"/>
                  </a:lnTo>
                  <a:lnTo>
                    <a:pt x="773" y="57"/>
                  </a:lnTo>
                  <a:lnTo>
                    <a:pt x="773" y="51"/>
                  </a:lnTo>
                  <a:lnTo>
                    <a:pt x="706" y="51"/>
                  </a:lnTo>
                  <a:lnTo>
                    <a:pt x="706" y="46"/>
                  </a:lnTo>
                  <a:lnTo>
                    <a:pt x="677" y="46"/>
                  </a:lnTo>
                  <a:lnTo>
                    <a:pt x="677" y="40"/>
                  </a:lnTo>
                  <a:lnTo>
                    <a:pt x="620" y="40"/>
                  </a:lnTo>
                  <a:lnTo>
                    <a:pt x="620" y="34"/>
                  </a:lnTo>
                  <a:lnTo>
                    <a:pt x="523" y="34"/>
                  </a:lnTo>
                  <a:lnTo>
                    <a:pt x="523" y="57"/>
                  </a:lnTo>
                  <a:lnTo>
                    <a:pt x="518" y="57"/>
                  </a:lnTo>
                  <a:lnTo>
                    <a:pt x="518" y="74"/>
                  </a:lnTo>
                  <a:lnTo>
                    <a:pt x="511" y="74"/>
                  </a:lnTo>
                  <a:lnTo>
                    <a:pt x="511" y="125"/>
                  </a:lnTo>
                  <a:lnTo>
                    <a:pt x="506" y="125"/>
                  </a:lnTo>
                  <a:lnTo>
                    <a:pt x="506" y="148"/>
                  </a:lnTo>
                  <a:lnTo>
                    <a:pt x="500" y="148"/>
                  </a:lnTo>
                  <a:lnTo>
                    <a:pt x="500" y="165"/>
                  </a:lnTo>
                  <a:lnTo>
                    <a:pt x="495" y="165"/>
                  </a:lnTo>
                  <a:lnTo>
                    <a:pt x="495" y="177"/>
                  </a:lnTo>
                  <a:lnTo>
                    <a:pt x="489" y="177"/>
                  </a:lnTo>
                  <a:lnTo>
                    <a:pt x="489" y="194"/>
                  </a:lnTo>
                  <a:lnTo>
                    <a:pt x="483" y="194"/>
                  </a:lnTo>
                  <a:lnTo>
                    <a:pt x="483" y="199"/>
                  </a:lnTo>
                  <a:lnTo>
                    <a:pt x="478" y="199"/>
                  </a:lnTo>
                  <a:lnTo>
                    <a:pt x="478" y="216"/>
                  </a:lnTo>
                  <a:lnTo>
                    <a:pt x="471" y="216"/>
                  </a:lnTo>
                  <a:lnTo>
                    <a:pt x="471" y="222"/>
                  </a:lnTo>
                  <a:lnTo>
                    <a:pt x="466" y="222"/>
                  </a:lnTo>
                  <a:lnTo>
                    <a:pt x="466" y="234"/>
                  </a:lnTo>
                  <a:lnTo>
                    <a:pt x="461" y="234"/>
                  </a:lnTo>
                  <a:lnTo>
                    <a:pt x="461" y="245"/>
                  </a:lnTo>
                  <a:lnTo>
                    <a:pt x="454" y="245"/>
                  </a:lnTo>
                  <a:lnTo>
                    <a:pt x="454" y="256"/>
                  </a:lnTo>
                  <a:lnTo>
                    <a:pt x="449" y="256"/>
                  </a:lnTo>
                  <a:lnTo>
                    <a:pt x="449" y="268"/>
                  </a:lnTo>
                  <a:lnTo>
                    <a:pt x="443" y="268"/>
                  </a:lnTo>
                  <a:lnTo>
                    <a:pt x="443" y="279"/>
                  </a:lnTo>
                  <a:lnTo>
                    <a:pt x="438" y="279"/>
                  </a:lnTo>
                  <a:lnTo>
                    <a:pt x="438" y="291"/>
                  </a:lnTo>
                  <a:lnTo>
                    <a:pt x="432" y="291"/>
                  </a:lnTo>
                  <a:lnTo>
                    <a:pt x="432" y="302"/>
                  </a:lnTo>
                  <a:lnTo>
                    <a:pt x="426" y="302"/>
                  </a:lnTo>
                  <a:lnTo>
                    <a:pt x="426" y="313"/>
                  </a:lnTo>
                  <a:lnTo>
                    <a:pt x="421" y="313"/>
                  </a:lnTo>
                  <a:lnTo>
                    <a:pt x="421" y="319"/>
                  </a:lnTo>
                  <a:lnTo>
                    <a:pt x="414" y="319"/>
                  </a:lnTo>
                  <a:lnTo>
                    <a:pt x="414" y="325"/>
                  </a:lnTo>
                  <a:lnTo>
                    <a:pt x="409" y="325"/>
                  </a:lnTo>
                  <a:lnTo>
                    <a:pt x="409" y="330"/>
                  </a:lnTo>
                  <a:lnTo>
                    <a:pt x="404" y="330"/>
                  </a:lnTo>
                  <a:lnTo>
                    <a:pt x="404" y="342"/>
                  </a:lnTo>
                  <a:lnTo>
                    <a:pt x="397" y="342"/>
                  </a:lnTo>
                  <a:lnTo>
                    <a:pt x="397" y="348"/>
                  </a:lnTo>
                  <a:lnTo>
                    <a:pt x="392" y="348"/>
                  </a:lnTo>
                  <a:lnTo>
                    <a:pt x="392" y="353"/>
                  </a:lnTo>
                  <a:lnTo>
                    <a:pt x="386" y="353"/>
                  </a:lnTo>
                  <a:lnTo>
                    <a:pt x="386" y="365"/>
                  </a:lnTo>
                  <a:lnTo>
                    <a:pt x="380" y="365"/>
                  </a:lnTo>
                  <a:lnTo>
                    <a:pt x="380" y="375"/>
                  </a:lnTo>
                  <a:lnTo>
                    <a:pt x="375" y="375"/>
                  </a:lnTo>
                  <a:lnTo>
                    <a:pt x="375" y="387"/>
                  </a:lnTo>
                  <a:lnTo>
                    <a:pt x="369" y="387"/>
                  </a:lnTo>
                  <a:lnTo>
                    <a:pt x="369" y="393"/>
                  </a:lnTo>
                  <a:lnTo>
                    <a:pt x="364" y="393"/>
                  </a:lnTo>
                  <a:lnTo>
                    <a:pt x="364" y="404"/>
                  </a:lnTo>
                  <a:lnTo>
                    <a:pt x="357" y="404"/>
                  </a:lnTo>
                  <a:lnTo>
                    <a:pt x="357" y="415"/>
                  </a:lnTo>
                  <a:lnTo>
                    <a:pt x="352" y="415"/>
                  </a:lnTo>
                  <a:lnTo>
                    <a:pt x="352" y="421"/>
                  </a:lnTo>
                  <a:lnTo>
                    <a:pt x="347" y="421"/>
                  </a:lnTo>
                  <a:lnTo>
                    <a:pt x="347" y="432"/>
                  </a:lnTo>
                  <a:lnTo>
                    <a:pt x="340" y="432"/>
                  </a:lnTo>
                  <a:lnTo>
                    <a:pt x="340" y="438"/>
                  </a:lnTo>
                  <a:lnTo>
                    <a:pt x="335" y="438"/>
                  </a:lnTo>
                  <a:lnTo>
                    <a:pt x="335" y="450"/>
                  </a:lnTo>
                  <a:lnTo>
                    <a:pt x="329" y="450"/>
                  </a:lnTo>
                  <a:lnTo>
                    <a:pt x="329" y="461"/>
                  </a:lnTo>
                  <a:lnTo>
                    <a:pt x="323" y="461"/>
                  </a:lnTo>
                  <a:lnTo>
                    <a:pt x="323" y="472"/>
                  </a:lnTo>
                  <a:lnTo>
                    <a:pt x="319" y="472"/>
                  </a:lnTo>
                  <a:lnTo>
                    <a:pt x="319" y="479"/>
                  </a:lnTo>
                  <a:lnTo>
                    <a:pt x="312" y="479"/>
                  </a:lnTo>
                  <a:lnTo>
                    <a:pt x="312" y="489"/>
                  </a:lnTo>
                  <a:lnTo>
                    <a:pt x="307" y="489"/>
                  </a:lnTo>
                  <a:lnTo>
                    <a:pt x="307" y="495"/>
                  </a:lnTo>
                  <a:lnTo>
                    <a:pt x="302" y="495"/>
                  </a:lnTo>
                  <a:lnTo>
                    <a:pt x="302" y="501"/>
                  </a:lnTo>
                  <a:lnTo>
                    <a:pt x="295" y="501"/>
                  </a:lnTo>
                  <a:lnTo>
                    <a:pt x="295" y="507"/>
                  </a:lnTo>
                  <a:lnTo>
                    <a:pt x="290" y="507"/>
                  </a:lnTo>
                  <a:lnTo>
                    <a:pt x="290" y="512"/>
                  </a:lnTo>
                  <a:lnTo>
                    <a:pt x="284" y="512"/>
                  </a:lnTo>
                  <a:lnTo>
                    <a:pt x="284" y="524"/>
                  </a:lnTo>
                  <a:lnTo>
                    <a:pt x="278" y="524"/>
                  </a:lnTo>
                  <a:lnTo>
                    <a:pt x="278" y="529"/>
                  </a:lnTo>
                  <a:lnTo>
                    <a:pt x="273" y="529"/>
                  </a:lnTo>
                  <a:lnTo>
                    <a:pt x="273" y="536"/>
                  </a:lnTo>
                  <a:lnTo>
                    <a:pt x="267" y="536"/>
                  </a:lnTo>
                  <a:lnTo>
                    <a:pt x="267" y="541"/>
                  </a:lnTo>
                  <a:lnTo>
                    <a:pt x="262" y="541"/>
                  </a:lnTo>
                  <a:lnTo>
                    <a:pt x="262" y="546"/>
                  </a:lnTo>
                  <a:lnTo>
                    <a:pt x="255" y="546"/>
                  </a:lnTo>
                  <a:lnTo>
                    <a:pt x="255" y="552"/>
                  </a:lnTo>
                  <a:lnTo>
                    <a:pt x="250" y="552"/>
                  </a:lnTo>
                  <a:lnTo>
                    <a:pt x="250" y="558"/>
                  </a:lnTo>
                  <a:lnTo>
                    <a:pt x="238" y="558"/>
                  </a:lnTo>
                  <a:lnTo>
                    <a:pt x="238" y="563"/>
                  </a:lnTo>
                  <a:lnTo>
                    <a:pt x="233" y="563"/>
                  </a:lnTo>
                  <a:lnTo>
                    <a:pt x="233" y="569"/>
                  </a:lnTo>
                  <a:lnTo>
                    <a:pt x="227" y="569"/>
                  </a:lnTo>
                  <a:lnTo>
                    <a:pt x="227" y="575"/>
                  </a:lnTo>
                  <a:lnTo>
                    <a:pt x="221" y="575"/>
                  </a:lnTo>
                  <a:lnTo>
                    <a:pt x="221" y="581"/>
                  </a:lnTo>
                  <a:lnTo>
                    <a:pt x="216" y="581"/>
                  </a:lnTo>
                  <a:lnTo>
                    <a:pt x="216" y="586"/>
                  </a:lnTo>
                  <a:lnTo>
                    <a:pt x="210" y="586"/>
                  </a:lnTo>
                  <a:lnTo>
                    <a:pt x="210" y="593"/>
                  </a:lnTo>
                  <a:lnTo>
                    <a:pt x="198" y="593"/>
                  </a:lnTo>
                  <a:lnTo>
                    <a:pt x="198" y="598"/>
                  </a:lnTo>
                  <a:lnTo>
                    <a:pt x="193" y="598"/>
                  </a:lnTo>
                  <a:lnTo>
                    <a:pt x="193" y="603"/>
                  </a:lnTo>
                  <a:lnTo>
                    <a:pt x="188" y="603"/>
                  </a:lnTo>
                  <a:lnTo>
                    <a:pt x="188" y="609"/>
                  </a:lnTo>
                  <a:lnTo>
                    <a:pt x="176" y="609"/>
                  </a:lnTo>
                  <a:lnTo>
                    <a:pt x="176" y="615"/>
                  </a:lnTo>
                  <a:lnTo>
                    <a:pt x="170" y="615"/>
                  </a:lnTo>
                  <a:lnTo>
                    <a:pt x="170" y="620"/>
                  </a:lnTo>
                  <a:lnTo>
                    <a:pt x="164" y="620"/>
                  </a:lnTo>
                  <a:lnTo>
                    <a:pt x="164" y="626"/>
                  </a:lnTo>
                  <a:lnTo>
                    <a:pt x="159" y="626"/>
                  </a:lnTo>
                  <a:lnTo>
                    <a:pt x="159" y="632"/>
                  </a:lnTo>
                  <a:lnTo>
                    <a:pt x="153" y="632"/>
                  </a:lnTo>
                  <a:lnTo>
                    <a:pt x="153" y="638"/>
                  </a:lnTo>
                  <a:lnTo>
                    <a:pt x="148" y="638"/>
                  </a:lnTo>
                  <a:lnTo>
                    <a:pt x="148" y="643"/>
                  </a:lnTo>
                  <a:lnTo>
                    <a:pt x="141" y="643"/>
                  </a:lnTo>
                  <a:lnTo>
                    <a:pt x="141" y="649"/>
                  </a:lnTo>
                  <a:lnTo>
                    <a:pt x="136" y="649"/>
                  </a:lnTo>
                  <a:lnTo>
                    <a:pt x="136" y="655"/>
                  </a:lnTo>
                  <a:lnTo>
                    <a:pt x="131" y="655"/>
                  </a:lnTo>
                  <a:lnTo>
                    <a:pt x="131" y="660"/>
                  </a:lnTo>
                  <a:lnTo>
                    <a:pt x="124" y="660"/>
                  </a:lnTo>
                  <a:lnTo>
                    <a:pt x="124" y="666"/>
                  </a:lnTo>
                  <a:lnTo>
                    <a:pt x="119" y="666"/>
                  </a:lnTo>
                  <a:lnTo>
                    <a:pt x="119" y="672"/>
                  </a:lnTo>
                  <a:lnTo>
                    <a:pt x="113" y="672"/>
                  </a:lnTo>
                  <a:lnTo>
                    <a:pt x="113" y="677"/>
                  </a:lnTo>
                  <a:lnTo>
                    <a:pt x="102" y="677"/>
                  </a:lnTo>
                  <a:lnTo>
                    <a:pt x="102" y="683"/>
                  </a:lnTo>
                  <a:lnTo>
                    <a:pt x="96" y="683"/>
                  </a:lnTo>
                  <a:lnTo>
                    <a:pt x="96" y="689"/>
                  </a:lnTo>
                  <a:lnTo>
                    <a:pt x="90" y="689"/>
                  </a:lnTo>
                  <a:lnTo>
                    <a:pt x="90" y="695"/>
                  </a:lnTo>
                  <a:lnTo>
                    <a:pt x="79" y="695"/>
                  </a:lnTo>
                  <a:lnTo>
                    <a:pt x="79" y="700"/>
                  </a:lnTo>
                  <a:lnTo>
                    <a:pt x="74" y="700"/>
                  </a:lnTo>
                  <a:lnTo>
                    <a:pt x="74" y="706"/>
                  </a:lnTo>
                  <a:lnTo>
                    <a:pt x="62" y="706"/>
                  </a:lnTo>
                  <a:lnTo>
                    <a:pt x="62" y="712"/>
                  </a:lnTo>
                  <a:lnTo>
                    <a:pt x="56" y="712"/>
                  </a:lnTo>
                  <a:lnTo>
                    <a:pt x="56" y="717"/>
                  </a:lnTo>
                  <a:lnTo>
                    <a:pt x="50" y="717"/>
                  </a:lnTo>
                  <a:lnTo>
                    <a:pt x="50" y="723"/>
                  </a:lnTo>
                  <a:lnTo>
                    <a:pt x="45" y="723"/>
                  </a:lnTo>
                  <a:lnTo>
                    <a:pt x="45" y="729"/>
                  </a:lnTo>
                  <a:lnTo>
                    <a:pt x="39" y="729"/>
                  </a:lnTo>
                  <a:lnTo>
                    <a:pt x="39" y="734"/>
                  </a:lnTo>
                  <a:lnTo>
                    <a:pt x="27" y="734"/>
                  </a:lnTo>
                  <a:lnTo>
                    <a:pt x="27" y="740"/>
                  </a:lnTo>
                  <a:lnTo>
                    <a:pt x="22" y="740"/>
                  </a:lnTo>
                  <a:lnTo>
                    <a:pt x="22" y="746"/>
                  </a:lnTo>
                  <a:lnTo>
                    <a:pt x="5" y="746"/>
                  </a:lnTo>
                  <a:lnTo>
                    <a:pt x="5" y="740"/>
                  </a:lnTo>
                  <a:lnTo>
                    <a:pt x="0" y="740"/>
                  </a:lnTo>
                  <a:lnTo>
                    <a:pt x="0" y="723"/>
                  </a:lnTo>
                  <a:lnTo>
                    <a:pt x="5" y="723"/>
                  </a:lnTo>
                  <a:lnTo>
                    <a:pt x="5" y="717"/>
                  </a:lnTo>
                  <a:lnTo>
                    <a:pt x="17" y="717"/>
                  </a:lnTo>
                  <a:lnTo>
                    <a:pt x="17" y="712"/>
                  </a:lnTo>
                  <a:lnTo>
                    <a:pt x="22" y="712"/>
                  </a:lnTo>
                  <a:lnTo>
                    <a:pt x="22" y="706"/>
                  </a:lnTo>
                  <a:lnTo>
                    <a:pt x="27" y="706"/>
                  </a:lnTo>
                  <a:lnTo>
                    <a:pt x="27" y="700"/>
                  </a:lnTo>
                  <a:lnTo>
                    <a:pt x="33" y="700"/>
                  </a:lnTo>
                  <a:lnTo>
                    <a:pt x="33" y="695"/>
                  </a:lnTo>
                  <a:lnTo>
                    <a:pt x="39" y="695"/>
                  </a:lnTo>
                  <a:lnTo>
                    <a:pt x="39" y="689"/>
                  </a:lnTo>
                  <a:lnTo>
                    <a:pt x="50" y="689"/>
                  </a:lnTo>
                  <a:lnTo>
                    <a:pt x="50" y="683"/>
                  </a:lnTo>
                  <a:lnTo>
                    <a:pt x="62" y="683"/>
                  </a:lnTo>
                  <a:lnTo>
                    <a:pt x="62" y="677"/>
                  </a:lnTo>
                  <a:lnTo>
                    <a:pt x="67" y="677"/>
                  </a:lnTo>
                  <a:lnTo>
                    <a:pt x="67" y="672"/>
                  </a:lnTo>
                  <a:lnTo>
                    <a:pt x="74" y="672"/>
                  </a:lnTo>
                  <a:lnTo>
                    <a:pt x="74" y="666"/>
                  </a:lnTo>
                  <a:lnTo>
                    <a:pt x="79" y="666"/>
                  </a:lnTo>
                  <a:lnTo>
                    <a:pt x="79" y="660"/>
                  </a:lnTo>
                  <a:lnTo>
                    <a:pt x="90" y="660"/>
                  </a:lnTo>
                  <a:lnTo>
                    <a:pt x="90" y="655"/>
                  </a:lnTo>
                  <a:lnTo>
                    <a:pt x="96" y="655"/>
                  </a:lnTo>
                  <a:lnTo>
                    <a:pt x="96" y="649"/>
                  </a:lnTo>
                  <a:lnTo>
                    <a:pt x="102" y="649"/>
                  </a:lnTo>
                  <a:lnTo>
                    <a:pt x="102" y="643"/>
                  </a:lnTo>
                  <a:lnTo>
                    <a:pt x="107" y="643"/>
                  </a:lnTo>
                  <a:lnTo>
                    <a:pt x="107" y="638"/>
                  </a:lnTo>
                  <a:lnTo>
                    <a:pt x="113" y="638"/>
                  </a:lnTo>
                  <a:lnTo>
                    <a:pt x="113" y="632"/>
                  </a:lnTo>
                  <a:lnTo>
                    <a:pt x="119" y="632"/>
                  </a:lnTo>
                  <a:lnTo>
                    <a:pt x="119" y="626"/>
                  </a:lnTo>
                  <a:lnTo>
                    <a:pt x="124" y="626"/>
                  </a:lnTo>
                  <a:lnTo>
                    <a:pt x="124" y="620"/>
                  </a:lnTo>
                  <a:lnTo>
                    <a:pt x="131" y="620"/>
                  </a:lnTo>
                  <a:lnTo>
                    <a:pt x="131" y="615"/>
                  </a:lnTo>
                  <a:lnTo>
                    <a:pt x="136" y="615"/>
                  </a:lnTo>
                  <a:lnTo>
                    <a:pt x="136" y="609"/>
                  </a:lnTo>
                  <a:lnTo>
                    <a:pt x="141" y="609"/>
                  </a:lnTo>
                  <a:lnTo>
                    <a:pt x="141" y="603"/>
                  </a:lnTo>
                  <a:lnTo>
                    <a:pt x="153" y="603"/>
                  </a:lnTo>
                  <a:lnTo>
                    <a:pt x="153" y="598"/>
                  </a:lnTo>
                  <a:lnTo>
                    <a:pt x="159" y="598"/>
                  </a:lnTo>
                  <a:lnTo>
                    <a:pt x="159" y="593"/>
                  </a:lnTo>
                  <a:lnTo>
                    <a:pt x="164" y="593"/>
                  </a:lnTo>
                  <a:lnTo>
                    <a:pt x="164" y="586"/>
                  </a:lnTo>
                  <a:lnTo>
                    <a:pt x="170" y="586"/>
                  </a:lnTo>
                  <a:lnTo>
                    <a:pt x="170" y="581"/>
                  </a:lnTo>
                  <a:lnTo>
                    <a:pt x="176" y="581"/>
                  </a:lnTo>
                  <a:lnTo>
                    <a:pt x="176" y="575"/>
                  </a:lnTo>
                  <a:lnTo>
                    <a:pt x="188" y="575"/>
                  </a:lnTo>
                  <a:lnTo>
                    <a:pt x="188" y="569"/>
                  </a:lnTo>
                  <a:lnTo>
                    <a:pt x="193" y="569"/>
                  </a:lnTo>
                  <a:lnTo>
                    <a:pt x="193" y="563"/>
                  </a:lnTo>
                  <a:lnTo>
                    <a:pt x="198" y="563"/>
                  </a:lnTo>
                  <a:lnTo>
                    <a:pt x="198" y="558"/>
                  </a:lnTo>
                  <a:lnTo>
                    <a:pt x="210" y="558"/>
                  </a:lnTo>
                  <a:lnTo>
                    <a:pt x="210" y="552"/>
                  </a:lnTo>
                  <a:lnTo>
                    <a:pt x="216" y="552"/>
                  </a:lnTo>
                  <a:lnTo>
                    <a:pt x="216" y="546"/>
                  </a:lnTo>
                  <a:lnTo>
                    <a:pt x="221" y="546"/>
                  </a:lnTo>
                  <a:lnTo>
                    <a:pt x="221" y="541"/>
                  </a:lnTo>
                  <a:lnTo>
                    <a:pt x="227" y="541"/>
                  </a:lnTo>
                  <a:lnTo>
                    <a:pt x="227" y="536"/>
                  </a:lnTo>
                  <a:lnTo>
                    <a:pt x="233" y="536"/>
                  </a:lnTo>
                  <a:lnTo>
                    <a:pt x="233" y="529"/>
                  </a:lnTo>
                  <a:lnTo>
                    <a:pt x="238" y="529"/>
                  </a:lnTo>
                  <a:lnTo>
                    <a:pt x="238" y="518"/>
                  </a:lnTo>
                  <a:lnTo>
                    <a:pt x="245" y="518"/>
                  </a:lnTo>
                  <a:lnTo>
                    <a:pt x="245" y="512"/>
                  </a:lnTo>
                  <a:lnTo>
                    <a:pt x="250" y="512"/>
                  </a:lnTo>
                  <a:lnTo>
                    <a:pt x="250" y="507"/>
                  </a:lnTo>
                  <a:lnTo>
                    <a:pt x="255" y="507"/>
                  </a:lnTo>
                  <a:lnTo>
                    <a:pt x="255" y="501"/>
                  </a:lnTo>
                  <a:lnTo>
                    <a:pt x="262" y="501"/>
                  </a:lnTo>
                  <a:lnTo>
                    <a:pt x="262" y="495"/>
                  </a:lnTo>
                  <a:lnTo>
                    <a:pt x="267" y="495"/>
                  </a:lnTo>
                  <a:lnTo>
                    <a:pt x="267" y="489"/>
                  </a:lnTo>
                  <a:lnTo>
                    <a:pt x="273" y="489"/>
                  </a:lnTo>
                  <a:lnTo>
                    <a:pt x="273" y="479"/>
                  </a:lnTo>
                  <a:lnTo>
                    <a:pt x="278" y="479"/>
                  </a:lnTo>
                  <a:lnTo>
                    <a:pt x="278" y="472"/>
                  </a:lnTo>
                  <a:lnTo>
                    <a:pt x="284" y="472"/>
                  </a:lnTo>
                  <a:lnTo>
                    <a:pt x="284" y="467"/>
                  </a:lnTo>
                  <a:lnTo>
                    <a:pt x="290" y="467"/>
                  </a:lnTo>
                  <a:lnTo>
                    <a:pt x="290" y="461"/>
                  </a:lnTo>
                  <a:lnTo>
                    <a:pt x="295" y="461"/>
                  </a:lnTo>
                  <a:lnTo>
                    <a:pt x="295" y="450"/>
                  </a:lnTo>
                  <a:lnTo>
                    <a:pt x="302" y="450"/>
                  </a:lnTo>
                  <a:lnTo>
                    <a:pt x="302" y="438"/>
                  </a:lnTo>
                  <a:lnTo>
                    <a:pt x="307" y="438"/>
                  </a:lnTo>
                  <a:lnTo>
                    <a:pt x="307" y="432"/>
                  </a:lnTo>
                  <a:lnTo>
                    <a:pt x="312" y="432"/>
                  </a:lnTo>
                  <a:lnTo>
                    <a:pt x="312" y="421"/>
                  </a:lnTo>
                  <a:lnTo>
                    <a:pt x="319" y="421"/>
                  </a:lnTo>
                  <a:lnTo>
                    <a:pt x="319" y="415"/>
                  </a:lnTo>
                  <a:lnTo>
                    <a:pt x="323" y="415"/>
                  </a:lnTo>
                  <a:lnTo>
                    <a:pt x="323" y="410"/>
                  </a:lnTo>
                  <a:lnTo>
                    <a:pt x="329" y="410"/>
                  </a:lnTo>
                  <a:lnTo>
                    <a:pt x="329" y="404"/>
                  </a:lnTo>
                  <a:lnTo>
                    <a:pt x="335" y="404"/>
                  </a:lnTo>
                  <a:lnTo>
                    <a:pt x="335" y="393"/>
                  </a:lnTo>
                  <a:lnTo>
                    <a:pt x="340" y="393"/>
                  </a:lnTo>
                  <a:lnTo>
                    <a:pt x="340" y="381"/>
                  </a:lnTo>
                  <a:lnTo>
                    <a:pt x="347" y="381"/>
                  </a:lnTo>
                  <a:lnTo>
                    <a:pt x="347" y="370"/>
                  </a:lnTo>
                  <a:lnTo>
                    <a:pt x="352" y="370"/>
                  </a:lnTo>
                  <a:lnTo>
                    <a:pt x="352" y="359"/>
                  </a:lnTo>
                  <a:lnTo>
                    <a:pt x="357" y="359"/>
                  </a:lnTo>
                  <a:lnTo>
                    <a:pt x="357" y="348"/>
                  </a:lnTo>
                  <a:lnTo>
                    <a:pt x="364" y="348"/>
                  </a:lnTo>
                  <a:lnTo>
                    <a:pt x="364" y="342"/>
                  </a:lnTo>
                  <a:lnTo>
                    <a:pt x="369" y="342"/>
                  </a:lnTo>
                  <a:lnTo>
                    <a:pt x="369" y="336"/>
                  </a:lnTo>
                  <a:lnTo>
                    <a:pt x="375" y="336"/>
                  </a:lnTo>
                  <a:lnTo>
                    <a:pt x="375" y="325"/>
                  </a:lnTo>
                  <a:lnTo>
                    <a:pt x="380" y="325"/>
                  </a:lnTo>
                  <a:lnTo>
                    <a:pt x="380" y="319"/>
                  </a:lnTo>
                  <a:lnTo>
                    <a:pt x="386" y="319"/>
                  </a:lnTo>
                  <a:lnTo>
                    <a:pt x="386" y="308"/>
                  </a:lnTo>
                  <a:lnTo>
                    <a:pt x="392" y="308"/>
                  </a:lnTo>
                  <a:lnTo>
                    <a:pt x="392" y="296"/>
                  </a:lnTo>
                  <a:lnTo>
                    <a:pt x="397" y="296"/>
                  </a:lnTo>
                  <a:lnTo>
                    <a:pt x="397" y="285"/>
                  </a:lnTo>
                  <a:lnTo>
                    <a:pt x="404" y="285"/>
                  </a:lnTo>
                  <a:lnTo>
                    <a:pt x="404" y="273"/>
                  </a:lnTo>
                  <a:lnTo>
                    <a:pt x="409" y="273"/>
                  </a:lnTo>
                  <a:lnTo>
                    <a:pt x="409" y="268"/>
                  </a:lnTo>
                  <a:lnTo>
                    <a:pt x="414" y="268"/>
                  </a:lnTo>
                  <a:lnTo>
                    <a:pt x="414" y="256"/>
                  </a:lnTo>
                  <a:lnTo>
                    <a:pt x="421" y="256"/>
                  </a:lnTo>
                  <a:lnTo>
                    <a:pt x="421" y="251"/>
                  </a:lnTo>
                  <a:lnTo>
                    <a:pt x="426" y="251"/>
                  </a:lnTo>
                  <a:lnTo>
                    <a:pt x="426" y="239"/>
                  </a:lnTo>
                  <a:lnTo>
                    <a:pt x="432" y="239"/>
                  </a:lnTo>
                  <a:lnTo>
                    <a:pt x="432" y="228"/>
                  </a:lnTo>
                  <a:lnTo>
                    <a:pt x="438" y="228"/>
                  </a:lnTo>
                  <a:lnTo>
                    <a:pt x="438" y="216"/>
                  </a:lnTo>
                  <a:lnTo>
                    <a:pt x="443" y="216"/>
                  </a:lnTo>
                  <a:lnTo>
                    <a:pt x="443" y="199"/>
                  </a:lnTo>
                  <a:lnTo>
                    <a:pt x="449" y="199"/>
                  </a:lnTo>
                  <a:lnTo>
                    <a:pt x="449" y="194"/>
                  </a:lnTo>
                  <a:lnTo>
                    <a:pt x="454" y="194"/>
                  </a:lnTo>
                  <a:lnTo>
                    <a:pt x="454" y="182"/>
                  </a:lnTo>
                  <a:lnTo>
                    <a:pt x="461" y="182"/>
                  </a:lnTo>
                  <a:lnTo>
                    <a:pt x="461" y="165"/>
                  </a:lnTo>
                  <a:lnTo>
                    <a:pt x="466" y="165"/>
                  </a:lnTo>
                  <a:lnTo>
                    <a:pt x="466" y="148"/>
                  </a:lnTo>
                  <a:lnTo>
                    <a:pt x="471" y="148"/>
                  </a:lnTo>
                  <a:lnTo>
                    <a:pt x="471" y="130"/>
                  </a:lnTo>
                  <a:lnTo>
                    <a:pt x="478" y="130"/>
                  </a:lnTo>
                  <a:lnTo>
                    <a:pt x="478" y="80"/>
                  </a:lnTo>
                  <a:lnTo>
                    <a:pt x="483" y="80"/>
                  </a:lnTo>
                  <a:lnTo>
                    <a:pt x="483" y="34"/>
                  </a:lnTo>
                  <a:lnTo>
                    <a:pt x="489" y="34"/>
                  </a:lnTo>
                  <a:lnTo>
                    <a:pt x="489" y="0"/>
                  </a:lnTo>
                  <a:lnTo>
                    <a:pt x="518" y="0"/>
                  </a:lnTo>
                  <a:lnTo>
                    <a:pt x="518" y="6"/>
                  </a:lnTo>
                  <a:lnTo>
                    <a:pt x="523" y="6"/>
                  </a:lnTo>
                  <a:lnTo>
                    <a:pt x="523" y="11"/>
                  </a:lnTo>
                  <a:lnTo>
                    <a:pt x="546" y="11"/>
                  </a:lnTo>
                  <a:lnTo>
                    <a:pt x="546" y="6"/>
                  </a:lnTo>
                  <a:lnTo>
                    <a:pt x="609" y="6"/>
                  </a:lnTo>
                  <a:lnTo>
                    <a:pt x="609" y="11"/>
                  </a:lnTo>
                  <a:lnTo>
                    <a:pt x="632" y="11"/>
                  </a:lnTo>
                  <a:lnTo>
                    <a:pt x="632" y="6"/>
                  </a:lnTo>
                  <a:lnTo>
                    <a:pt x="671" y="6"/>
                  </a:lnTo>
                  <a:lnTo>
                    <a:pt x="671" y="11"/>
                  </a:lnTo>
                  <a:lnTo>
                    <a:pt x="716" y="11"/>
                  </a:lnTo>
                  <a:lnTo>
                    <a:pt x="716" y="17"/>
                  </a:lnTo>
                  <a:lnTo>
                    <a:pt x="768" y="17"/>
                  </a:lnTo>
                  <a:lnTo>
                    <a:pt x="768" y="23"/>
                  </a:lnTo>
                  <a:lnTo>
                    <a:pt x="791" y="23"/>
                  </a:lnTo>
                  <a:lnTo>
                    <a:pt x="791" y="28"/>
                  </a:lnTo>
                  <a:lnTo>
                    <a:pt x="819" y="28"/>
                  </a:lnTo>
                  <a:lnTo>
                    <a:pt x="819" y="34"/>
                  </a:lnTo>
                  <a:lnTo>
                    <a:pt x="905" y="34"/>
                  </a:lnTo>
                  <a:lnTo>
                    <a:pt x="905" y="40"/>
                  </a:lnTo>
                  <a:lnTo>
                    <a:pt x="956" y="40"/>
                  </a:lnTo>
                  <a:lnTo>
                    <a:pt x="956" y="46"/>
                  </a:lnTo>
                  <a:lnTo>
                    <a:pt x="979" y="46"/>
                  </a:lnTo>
                  <a:lnTo>
                    <a:pt x="979" y="51"/>
                  </a:lnTo>
                  <a:lnTo>
                    <a:pt x="1024" y="51"/>
                  </a:lnTo>
                  <a:lnTo>
                    <a:pt x="1024" y="57"/>
                  </a:lnTo>
                  <a:lnTo>
                    <a:pt x="1115" y="57"/>
                  </a:lnTo>
                  <a:lnTo>
                    <a:pt x="1115" y="63"/>
                  </a:lnTo>
                  <a:lnTo>
                    <a:pt x="1166" y="63"/>
                  </a:lnTo>
                  <a:lnTo>
                    <a:pt x="1166" y="80"/>
                  </a:lnTo>
                  <a:lnTo>
                    <a:pt x="1160" y="80"/>
                  </a:lnTo>
                  <a:lnTo>
                    <a:pt x="1160" y="97"/>
                  </a:lnTo>
                  <a:lnTo>
                    <a:pt x="1155" y="97"/>
                  </a:lnTo>
                  <a:lnTo>
                    <a:pt x="1155" y="114"/>
                  </a:lnTo>
                  <a:lnTo>
                    <a:pt x="1148" y="114"/>
                  </a:lnTo>
                  <a:lnTo>
                    <a:pt x="1148" y="137"/>
                  </a:lnTo>
                  <a:lnTo>
                    <a:pt x="1143" y="137"/>
                  </a:lnTo>
                  <a:lnTo>
                    <a:pt x="1143" y="148"/>
                  </a:lnTo>
                  <a:lnTo>
                    <a:pt x="1138" y="148"/>
                  </a:lnTo>
                  <a:lnTo>
                    <a:pt x="1138" y="165"/>
                  </a:lnTo>
                  <a:lnTo>
                    <a:pt x="1132" y="165"/>
                  </a:lnTo>
                  <a:lnTo>
                    <a:pt x="1132" y="182"/>
                  </a:lnTo>
                  <a:lnTo>
                    <a:pt x="1127" y="182"/>
                  </a:lnTo>
                  <a:lnTo>
                    <a:pt x="1127" y="205"/>
                  </a:lnTo>
                  <a:lnTo>
                    <a:pt x="1121" y="205"/>
                  </a:lnTo>
                  <a:lnTo>
                    <a:pt x="1121" y="222"/>
                  </a:lnTo>
                  <a:lnTo>
                    <a:pt x="1115" y="222"/>
                  </a:lnTo>
                  <a:lnTo>
                    <a:pt x="1115" y="239"/>
                  </a:lnTo>
                  <a:lnTo>
                    <a:pt x="1110" y="239"/>
                  </a:lnTo>
                  <a:lnTo>
                    <a:pt x="1110" y="296"/>
                  </a:lnTo>
                  <a:lnTo>
                    <a:pt x="1103" y="296"/>
                  </a:lnTo>
                  <a:lnTo>
                    <a:pt x="1103" y="325"/>
                  </a:lnTo>
                  <a:lnTo>
                    <a:pt x="1110" y="325"/>
                  </a:lnTo>
                  <a:lnTo>
                    <a:pt x="1110" y="455"/>
                  </a:lnTo>
                  <a:lnTo>
                    <a:pt x="1103" y="455"/>
                  </a:lnTo>
                  <a:lnTo>
                    <a:pt x="1103" y="558"/>
                  </a:lnTo>
                  <a:lnTo>
                    <a:pt x="1110" y="558"/>
                  </a:lnTo>
                  <a:lnTo>
                    <a:pt x="1110" y="593"/>
                  </a:lnTo>
                  <a:lnTo>
                    <a:pt x="1115" y="593"/>
                  </a:lnTo>
                  <a:lnTo>
                    <a:pt x="1115" y="632"/>
                  </a:lnTo>
                  <a:lnTo>
                    <a:pt x="1121" y="632"/>
                  </a:lnTo>
                  <a:lnTo>
                    <a:pt x="1121" y="677"/>
                  </a:lnTo>
                  <a:lnTo>
                    <a:pt x="1127" y="677"/>
                  </a:lnTo>
                  <a:lnTo>
                    <a:pt x="1127" y="695"/>
                  </a:lnTo>
                  <a:lnTo>
                    <a:pt x="1132" y="695"/>
                  </a:lnTo>
                  <a:lnTo>
                    <a:pt x="1132" y="717"/>
                  </a:lnTo>
                  <a:lnTo>
                    <a:pt x="1138" y="717"/>
                  </a:lnTo>
                  <a:lnTo>
                    <a:pt x="1138" y="740"/>
                  </a:lnTo>
                  <a:lnTo>
                    <a:pt x="1143" y="740"/>
                  </a:lnTo>
                  <a:lnTo>
                    <a:pt x="1143" y="757"/>
                  </a:lnTo>
                  <a:lnTo>
                    <a:pt x="1148" y="757"/>
                  </a:lnTo>
                  <a:lnTo>
                    <a:pt x="1148" y="774"/>
                  </a:lnTo>
                  <a:lnTo>
                    <a:pt x="1155" y="774"/>
                  </a:lnTo>
                  <a:lnTo>
                    <a:pt x="1155" y="785"/>
                  </a:lnTo>
                  <a:lnTo>
                    <a:pt x="1160" y="785"/>
                  </a:lnTo>
                  <a:lnTo>
                    <a:pt x="1160" y="802"/>
                  </a:lnTo>
                  <a:lnTo>
                    <a:pt x="1166" y="802"/>
                  </a:lnTo>
                  <a:lnTo>
                    <a:pt x="1166" y="814"/>
                  </a:lnTo>
                  <a:lnTo>
                    <a:pt x="1172" y="814"/>
                  </a:lnTo>
                  <a:lnTo>
                    <a:pt x="1172" y="826"/>
                  </a:lnTo>
                  <a:lnTo>
                    <a:pt x="1178" y="826"/>
                  </a:lnTo>
                  <a:lnTo>
                    <a:pt x="1178" y="842"/>
                  </a:lnTo>
                  <a:lnTo>
                    <a:pt x="1183" y="842"/>
                  </a:lnTo>
                  <a:lnTo>
                    <a:pt x="1183" y="865"/>
                  </a:lnTo>
                  <a:lnTo>
                    <a:pt x="1189" y="865"/>
                  </a:lnTo>
                  <a:lnTo>
                    <a:pt x="1189" y="871"/>
                  </a:lnTo>
                  <a:lnTo>
                    <a:pt x="1195" y="871"/>
                  </a:lnTo>
                  <a:lnTo>
                    <a:pt x="1195" y="888"/>
                  </a:lnTo>
                  <a:lnTo>
                    <a:pt x="1200" y="888"/>
                  </a:lnTo>
                  <a:lnTo>
                    <a:pt x="1200" y="905"/>
                  </a:lnTo>
                  <a:lnTo>
                    <a:pt x="1205" y="905"/>
                  </a:lnTo>
                  <a:lnTo>
                    <a:pt x="1205" y="922"/>
                  </a:lnTo>
                  <a:lnTo>
                    <a:pt x="1212" y="922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17" y="956"/>
                  </a:lnTo>
                  <a:lnTo>
                    <a:pt x="1223" y="956"/>
                  </a:lnTo>
                  <a:lnTo>
                    <a:pt x="1223" y="962"/>
                  </a:lnTo>
                  <a:lnTo>
                    <a:pt x="1229" y="962"/>
                  </a:lnTo>
                  <a:lnTo>
                    <a:pt x="1229" y="979"/>
                  </a:lnTo>
                  <a:lnTo>
                    <a:pt x="1234" y="979"/>
                  </a:lnTo>
                  <a:lnTo>
                    <a:pt x="1234" y="990"/>
                  </a:lnTo>
                  <a:lnTo>
                    <a:pt x="1240" y="990"/>
                  </a:lnTo>
                  <a:lnTo>
                    <a:pt x="1240" y="997"/>
                  </a:lnTo>
                  <a:lnTo>
                    <a:pt x="1246" y="997"/>
                  </a:lnTo>
                  <a:lnTo>
                    <a:pt x="1246" y="1007"/>
                  </a:lnTo>
                  <a:lnTo>
                    <a:pt x="1252" y="1007"/>
                  </a:lnTo>
                  <a:lnTo>
                    <a:pt x="1252" y="1019"/>
                  </a:lnTo>
                  <a:lnTo>
                    <a:pt x="1257" y="1019"/>
                  </a:lnTo>
                  <a:lnTo>
                    <a:pt x="1257" y="1030"/>
                  </a:lnTo>
                  <a:lnTo>
                    <a:pt x="1262" y="1030"/>
                  </a:lnTo>
                  <a:lnTo>
                    <a:pt x="1262" y="1036"/>
                  </a:lnTo>
                  <a:lnTo>
                    <a:pt x="1269" y="1036"/>
                  </a:lnTo>
                  <a:lnTo>
                    <a:pt x="1269" y="1047"/>
                  </a:lnTo>
                  <a:lnTo>
                    <a:pt x="1274" y="1047"/>
                  </a:lnTo>
                  <a:lnTo>
                    <a:pt x="1274" y="1053"/>
                  </a:lnTo>
                  <a:lnTo>
                    <a:pt x="1280" y="1053"/>
                  </a:lnTo>
                  <a:lnTo>
                    <a:pt x="1280" y="1059"/>
                  </a:lnTo>
                  <a:lnTo>
                    <a:pt x="1286" y="1059"/>
                  </a:lnTo>
                  <a:lnTo>
                    <a:pt x="1286" y="1064"/>
                  </a:lnTo>
                  <a:lnTo>
                    <a:pt x="1291" y="1064"/>
                  </a:lnTo>
                  <a:lnTo>
                    <a:pt x="1291" y="1070"/>
                  </a:lnTo>
                  <a:lnTo>
                    <a:pt x="1297" y="1070"/>
                  </a:lnTo>
                  <a:lnTo>
                    <a:pt x="1297" y="1076"/>
                  </a:lnTo>
                  <a:lnTo>
                    <a:pt x="1303" y="1076"/>
                  </a:lnTo>
                  <a:lnTo>
                    <a:pt x="1303" y="1087"/>
                  </a:lnTo>
                  <a:lnTo>
                    <a:pt x="1314" y="1087"/>
                  </a:lnTo>
                  <a:lnTo>
                    <a:pt x="1314" y="1093"/>
                  </a:lnTo>
                  <a:lnTo>
                    <a:pt x="1319" y="1093"/>
                  </a:lnTo>
                  <a:lnTo>
                    <a:pt x="1319" y="1104"/>
                  </a:lnTo>
                  <a:lnTo>
                    <a:pt x="1326" y="1104"/>
                  </a:lnTo>
                  <a:lnTo>
                    <a:pt x="1326" y="1110"/>
                  </a:lnTo>
                  <a:lnTo>
                    <a:pt x="1331" y="1110"/>
                  </a:lnTo>
                  <a:lnTo>
                    <a:pt x="1331" y="1121"/>
                  </a:lnTo>
                  <a:lnTo>
                    <a:pt x="1343" y="1121"/>
                  </a:lnTo>
                  <a:lnTo>
                    <a:pt x="1343" y="1133"/>
                  </a:lnTo>
                  <a:lnTo>
                    <a:pt x="1354" y="1133"/>
                  </a:lnTo>
                  <a:lnTo>
                    <a:pt x="1354" y="1138"/>
                  </a:lnTo>
                  <a:lnTo>
                    <a:pt x="1360" y="1138"/>
                  </a:lnTo>
                  <a:lnTo>
                    <a:pt x="1360" y="1144"/>
                  </a:lnTo>
                  <a:lnTo>
                    <a:pt x="1366" y="1144"/>
                  </a:lnTo>
                  <a:lnTo>
                    <a:pt x="1366" y="1150"/>
                  </a:lnTo>
                  <a:lnTo>
                    <a:pt x="1371" y="1150"/>
                  </a:lnTo>
                  <a:lnTo>
                    <a:pt x="1371" y="1161"/>
                  </a:lnTo>
                  <a:lnTo>
                    <a:pt x="1376" y="1161"/>
                  </a:lnTo>
                  <a:lnTo>
                    <a:pt x="1376" y="1167"/>
                  </a:lnTo>
                  <a:lnTo>
                    <a:pt x="1383" y="1167"/>
                  </a:lnTo>
                  <a:lnTo>
                    <a:pt x="1383" y="1173"/>
                  </a:lnTo>
                  <a:lnTo>
                    <a:pt x="1388" y="1173"/>
                  </a:lnTo>
                  <a:lnTo>
                    <a:pt x="1388" y="1183"/>
                  </a:lnTo>
                  <a:lnTo>
                    <a:pt x="1394" y="1183"/>
                  </a:lnTo>
                  <a:lnTo>
                    <a:pt x="1394" y="1195"/>
                  </a:lnTo>
                  <a:lnTo>
                    <a:pt x="1400" y="1195"/>
                  </a:lnTo>
                  <a:lnTo>
                    <a:pt x="1400" y="1201"/>
                  </a:lnTo>
                  <a:lnTo>
                    <a:pt x="1405" y="1201"/>
                  </a:lnTo>
                  <a:lnTo>
                    <a:pt x="1405" y="1212"/>
                  </a:lnTo>
                  <a:lnTo>
                    <a:pt x="1411" y="1212"/>
                  </a:lnTo>
                  <a:lnTo>
                    <a:pt x="1411" y="1223"/>
                  </a:lnTo>
                  <a:lnTo>
                    <a:pt x="1417" y="1223"/>
                  </a:lnTo>
                  <a:lnTo>
                    <a:pt x="1417" y="1235"/>
                  </a:lnTo>
                  <a:lnTo>
                    <a:pt x="1423" y="1235"/>
                  </a:lnTo>
                  <a:lnTo>
                    <a:pt x="1423" y="1246"/>
                  </a:lnTo>
                  <a:lnTo>
                    <a:pt x="1428" y="1246"/>
                  </a:lnTo>
                  <a:lnTo>
                    <a:pt x="1428" y="1252"/>
                  </a:lnTo>
                  <a:lnTo>
                    <a:pt x="1434" y="1252"/>
                  </a:lnTo>
                  <a:lnTo>
                    <a:pt x="1434" y="1258"/>
                  </a:lnTo>
                  <a:lnTo>
                    <a:pt x="1440" y="1258"/>
                  </a:lnTo>
                  <a:lnTo>
                    <a:pt x="1440" y="1263"/>
                  </a:lnTo>
                  <a:lnTo>
                    <a:pt x="1445" y="1263"/>
                  </a:lnTo>
                  <a:lnTo>
                    <a:pt x="1445" y="1269"/>
                  </a:lnTo>
                  <a:lnTo>
                    <a:pt x="1451" y="1269"/>
                  </a:lnTo>
                  <a:lnTo>
                    <a:pt x="1451" y="1275"/>
                  </a:lnTo>
                  <a:lnTo>
                    <a:pt x="1457" y="1275"/>
                  </a:lnTo>
                  <a:lnTo>
                    <a:pt x="1457" y="1280"/>
                  </a:lnTo>
                  <a:lnTo>
                    <a:pt x="1462" y="1280"/>
                  </a:lnTo>
                  <a:lnTo>
                    <a:pt x="1462" y="1292"/>
                  </a:lnTo>
                  <a:lnTo>
                    <a:pt x="1468" y="1292"/>
                  </a:lnTo>
                  <a:lnTo>
                    <a:pt x="1468" y="1297"/>
                  </a:lnTo>
                  <a:lnTo>
                    <a:pt x="1474" y="1297"/>
                  </a:lnTo>
                  <a:lnTo>
                    <a:pt x="1474" y="1309"/>
                  </a:lnTo>
                  <a:lnTo>
                    <a:pt x="1480" y="1309"/>
                  </a:lnTo>
                  <a:lnTo>
                    <a:pt x="1480" y="1315"/>
                  </a:lnTo>
                  <a:lnTo>
                    <a:pt x="1485" y="1315"/>
                  </a:lnTo>
                  <a:lnTo>
                    <a:pt x="1485" y="1326"/>
                  </a:lnTo>
                  <a:lnTo>
                    <a:pt x="1491" y="1326"/>
                  </a:lnTo>
                  <a:lnTo>
                    <a:pt x="1491" y="1332"/>
                  </a:lnTo>
                  <a:lnTo>
                    <a:pt x="1497" y="1332"/>
                  </a:lnTo>
                  <a:lnTo>
                    <a:pt x="1497" y="1349"/>
                  </a:lnTo>
                  <a:lnTo>
                    <a:pt x="1502" y="1349"/>
                  </a:lnTo>
                  <a:lnTo>
                    <a:pt x="1502" y="1360"/>
                  </a:lnTo>
                  <a:lnTo>
                    <a:pt x="1507" y="1360"/>
                  </a:lnTo>
                  <a:lnTo>
                    <a:pt x="1507" y="1372"/>
                  </a:lnTo>
                  <a:lnTo>
                    <a:pt x="1514" y="1372"/>
                  </a:lnTo>
                  <a:lnTo>
                    <a:pt x="1514" y="1377"/>
                  </a:lnTo>
                  <a:lnTo>
                    <a:pt x="1519" y="1377"/>
                  </a:lnTo>
                  <a:lnTo>
                    <a:pt x="1519" y="1389"/>
                  </a:lnTo>
                  <a:lnTo>
                    <a:pt x="1525" y="1389"/>
                  </a:lnTo>
                  <a:lnTo>
                    <a:pt x="1525" y="1394"/>
                  </a:lnTo>
                  <a:lnTo>
                    <a:pt x="1531" y="1394"/>
                  </a:lnTo>
                  <a:lnTo>
                    <a:pt x="1531" y="1406"/>
                  </a:lnTo>
                  <a:lnTo>
                    <a:pt x="1537" y="1406"/>
                  </a:lnTo>
                  <a:lnTo>
                    <a:pt x="1537" y="1423"/>
                  </a:lnTo>
                  <a:lnTo>
                    <a:pt x="1542" y="1423"/>
                  </a:lnTo>
                  <a:lnTo>
                    <a:pt x="1542" y="1446"/>
                  </a:lnTo>
                  <a:lnTo>
                    <a:pt x="1547" y="1446"/>
                  </a:lnTo>
                  <a:lnTo>
                    <a:pt x="1547" y="1491"/>
                  </a:lnTo>
                  <a:lnTo>
                    <a:pt x="1542" y="1491"/>
                  </a:lnTo>
                  <a:lnTo>
                    <a:pt x="1542" y="1508"/>
                  </a:lnTo>
                  <a:lnTo>
                    <a:pt x="1547" y="1508"/>
                  </a:lnTo>
                  <a:lnTo>
                    <a:pt x="1547" y="1605"/>
                  </a:lnTo>
                  <a:lnTo>
                    <a:pt x="1553" y="1605"/>
                  </a:lnTo>
                  <a:lnTo>
                    <a:pt x="1553" y="1627"/>
                  </a:lnTo>
                  <a:lnTo>
                    <a:pt x="1559" y="1627"/>
                  </a:lnTo>
                  <a:lnTo>
                    <a:pt x="1559" y="1639"/>
                  </a:lnTo>
                  <a:lnTo>
                    <a:pt x="1553" y="1639"/>
                  </a:lnTo>
                  <a:lnTo>
                    <a:pt x="1553" y="1650"/>
                  </a:lnTo>
                  <a:lnTo>
                    <a:pt x="1564" y="1650"/>
                  </a:lnTo>
                  <a:lnTo>
                    <a:pt x="1564" y="1673"/>
                  </a:lnTo>
                  <a:lnTo>
                    <a:pt x="1542" y="1673"/>
                  </a:lnTo>
                  <a:lnTo>
                    <a:pt x="1542" y="1650"/>
                  </a:lnTo>
                  <a:lnTo>
                    <a:pt x="1537" y="1650"/>
                  </a:lnTo>
                  <a:lnTo>
                    <a:pt x="1537" y="1644"/>
                  </a:lnTo>
                  <a:lnTo>
                    <a:pt x="1519" y="1644"/>
                  </a:lnTo>
                  <a:lnTo>
                    <a:pt x="1519" y="1684"/>
                  </a:lnTo>
                  <a:lnTo>
                    <a:pt x="1525" y="1684"/>
                  </a:lnTo>
                  <a:lnTo>
                    <a:pt x="1525" y="1696"/>
                  </a:lnTo>
                  <a:lnTo>
                    <a:pt x="1531" y="1696"/>
                  </a:lnTo>
                  <a:lnTo>
                    <a:pt x="1531" y="1707"/>
                  </a:lnTo>
                  <a:lnTo>
                    <a:pt x="1525" y="1707"/>
                  </a:lnTo>
                  <a:lnTo>
                    <a:pt x="1525" y="1713"/>
                  </a:lnTo>
                  <a:lnTo>
                    <a:pt x="1519" y="1713"/>
                  </a:lnTo>
                  <a:lnTo>
                    <a:pt x="1519" y="1719"/>
                  </a:lnTo>
                  <a:lnTo>
                    <a:pt x="1507" y="1719"/>
                  </a:lnTo>
                  <a:lnTo>
                    <a:pt x="1507" y="1724"/>
                  </a:lnTo>
                  <a:lnTo>
                    <a:pt x="1502" y="1724"/>
                  </a:lnTo>
                  <a:lnTo>
                    <a:pt x="1502" y="1730"/>
                  </a:lnTo>
                  <a:lnTo>
                    <a:pt x="1497" y="1730"/>
                  </a:lnTo>
                  <a:lnTo>
                    <a:pt x="1497" y="1736"/>
                  </a:lnTo>
                  <a:lnTo>
                    <a:pt x="1485" y="1736"/>
                  </a:lnTo>
                  <a:lnTo>
                    <a:pt x="1485" y="1741"/>
                  </a:lnTo>
                  <a:lnTo>
                    <a:pt x="1480" y="1741"/>
                  </a:lnTo>
                  <a:lnTo>
                    <a:pt x="1480" y="1748"/>
                  </a:lnTo>
                  <a:lnTo>
                    <a:pt x="1468" y="1748"/>
                  </a:lnTo>
                  <a:lnTo>
                    <a:pt x="1468" y="1753"/>
                  </a:lnTo>
                  <a:lnTo>
                    <a:pt x="1462" y="1753"/>
                  </a:lnTo>
                  <a:lnTo>
                    <a:pt x="1462" y="1758"/>
                  </a:lnTo>
                  <a:lnTo>
                    <a:pt x="1451" y="1758"/>
                  </a:lnTo>
                  <a:lnTo>
                    <a:pt x="1451" y="1764"/>
                  </a:lnTo>
                  <a:lnTo>
                    <a:pt x="1445" y="1764"/>
                  </a:lnTo>
                  <a:lnTo>
                    <a:pt x="1445" y="1770"/>
                  </a:lnTo>
                  <a:lnTo>
                    <a:pt x="1434" y="1770"/>
                  </a:lnTo>
                  <a:lnTo>
                    <a:pt x="1434" y="1776"/>
                  </a:lnTo>
                  <a:lnTo>
                    <a:pt x="1423" y="1776"/>
                  </a:lnTo>
                  <a:lnTo>
                    <a:pt x="1423" y="1781"/>
                  </a:lnTo>
                  <a:lnTo>
                    <a:pt x="1417" y="1781"/>
                  </a:lnTo>
                  <a:lnTo>
                    <a:pt x="1417" y="1787"/>
                  </a:lnTo>
                  <a:lnTo>
                    <a:pt x="1400" y="1787"/>
                  </a:lnTo>
                  <a:lnTo>
                    <a:pt x="1400" y="1793"/>
                  </a:lnTo>
                  <a:lnTo>
                    <a:pt x="1394" y="1793"/>
                  </a:lnTo>
                  <a:lnTo>
                    <a:pt x="1394" y="1798"/>
                  </a:lnTo>
                  <a:lnTo>
                    <a:pt x="1371" y="1798"/>
                  </a:lnTo>
                  <a:lnTo>
                    <a:pt x="1371" y="1805"/>
                  </a:lnTo>
                  <a:lnTo>
                    <a:pt x="1366" y="1805"/>
                  </a:lnTo>
                  <a:lnTo>
                    <a:pt x="1366" y="1810"/>
                  </a:lnTo>
                  <a:lnTo>
                    <a:pt x="1326" y="1810"/>
                  </a:lnTo>
                  <a:lnTo>
                    <a:pt x="1326" y="1815"/>
                  </a:lnTo>
                  <a:lnTo>
                    <a:pt x="1309" y="1815"/>
                  </a:lnTo>
                  <a:lnTo>
                    <a:pt x="1309" y="1821"/>
                  </a:lnTo>
                  <a:lnTo>
                    <a:pt x="1297" y="1821"/>
                  </a:lnTo>
                  <a:lnTo>
                    <a:pt x="1297" y="1827"/>
                  </a:lnTo>
                  <a:lnTo>
                    <a:pt x="1286" y="1827"/>
                  </a:lnTo>
                  <a:lnTo>
                    <a:pt x="1286" y="1832"/>
                  </a:lnTo>
                  <a:lnTo>
                    <a:pt x="1274" y="1832"/>
                  </a:lnTo>
                  <a:lnTo>
                    <a:pt x="1274" y="1838"/>
                  </a:lnTo>
                  <a:lnTo>
                    <a:pt x="1257" y="1838"/>
                  </a:lnTo>
                  <a:lnTo>
                    <a:pt x="1257" y="1844"/>
                  </a:lnTo>
                  <a:lnTo>
                    <a:pt x="1205" y="1844"/>
                  </a:lnTo>
                  <a:lnTo>
                    <a:pt x="1205" y="1850"/>
                  </a:lnTo>
                  <a:lnTo>
                    <a:pt x="1189" y="1850"/>
                  </a:lnTo>
                  <a:lnTo>
                    <a:pt x="1189" y="1855"/>
                  </a:lnTo>
                  <a:lnTo>
                    <a:pt x="1166" y="1855"/>
                  </a:lnTo>
                  <a:lnTo>
                    <a:pt x="1166" y="1861"/>
                  </a:lnTo>
                  <a:lnTo>
                    <a:pt x="1138" y="1861"/>
                  </a:lnTo>
                  <a:lnTo>
                    <a:pt x="1138" y="1867"/>
                  </a:lnTo>
                  <a:lnTo>
                    <a:pt x="1121" y="1867"/>
                  </a:lnTo>
                  <a:lnTo>
                    <a:pt x="1121" y="1872"/>
                  </a:lnTo>
                  <a:lnTo>
                    <a:pt x="1098" y="18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6368400" y="1329480"/>
              <a:ext cx="1555920" cy="930600"/>
            </a:xfrm>
            <a:custGeom>
              <a:avLst/>
              <a:gdLst/>
              <a:ahLst/>
              <a:rect l="l" t="t" r="r" b="b"/>
              <a:pathLst>
                <a:path w="2835" h="1701">
                  <a:moveTo>
                    <a:pt x="416" y="1701"/>
                  </a:moveTo>
                  <a:lnTo>
                    <a:pt x="416" y="1691"/>
                  </a:lnTo>
                  <a:lnTo>
                    <a:pt x="410" y="1691"/>
                  </a:lnTo>
                  <a:lnTo>
                    <a:pt x="410" y="1610"/>
                  </a:lnTo>
                  <a:lnTo>
                    <a:pt x="405" y="1610"/>
                  </a:lnTo>
                  <a:lnTo>
                    <a:pt x="405" y="1599"/>
                  </a:lnTo>
                  <a:lnTo>
                    <a:pt x="399" y="1599"/>
                  </a:lnTo>
                  <a:lnTo>
                    <a:pt x="399" y="1571"/>
                  </a:lnTo>
                  <a:lnTo>
                    <a:pt x="393" y="1571"/>
                  </a:lnTo>
                  <a:lnTo>
                    <a:pt x="393" y="1542"/>
                  </a:lnTo>
                  <a:lnTo>
                    <a:pt x="387" y="1542"/>
                  </a:lnTo>
                  <a:lnTo>
                    <a:pt x="387" y="1532"/>
                  </a:lnTo>
                  <a:lnTo>
                    <a:pt x="382" y="1532"/>
                  </a:lnTo>
                  <a:lnTo>
                    <a:pt x="382" y="1514"/>
                  </a:lnTo>
                  <a:lnTo>
                    <a:pt x="377" y="1514"/>
                  </a:lnTo>
                  <a:lnTo>
                    <a:pt x="377" y="1497"/>
                  </a:lnTo>
                  <a:lnTo>
                    <a:pt x="370" y="1497"/>
                  </a:lnTo>
                  <a:lnTo>
                    <a:pt x="370" y="1474"/>
                  </a:lnTo>
                  <a:lnTo>
                    <a:pt x="365" y="1474"/>
                  </a:lnTo>
                  <a:lnTo>
                    <a:pt x="365" y="1457"/>
                  </a:lnTo>
                  <a:lnTo>
                    <a:pt x="359" y="1457"/>
                  </a:lnTo>
                  <a:lnTo>
                    <a:pt x="359" y="1440"/>
                  </a:lnTo>
                  <a:lnTo>
                    <a:pt x="353" y="1440"/>
                  </a:lnTo>
                  <a:lnTo>
                    <a:pt x="353" y="1417"/>
                  </a:lnTo>
                  <a:lnTo>
                    <a:pt x="348" y="1417"/>
                  </a:lnTo>
                  <a:lnTo>
                    <a:pt x="348" y="1401"/>
                  </a:lnTo>
                  <a:lnTo>
                    <a:pt x="342" y="1401"/>
                  </a:lnTo>
                  <a:lnTo>
                    <a:pt x="342" y="1372"/>
                  </a:lnTo>
                  <a:lnTo>
                    <a:pt x="336" y="1372"/>
                  </a:lnTo>
                  <a:lnTo>
                    <a:pt x="336" y="1354"/>
                  </a:lnTo>
                  <a:lnTo>
                    <a:pt x="330" y="1354"/>
                  </a:lnTo>
                  <a:lnTo>
                    <a:pt x="330" y="1326"/>
                  </a:lnTo>
                  <a:lnTo>
                    <a:pt x="325" y="1326"/>
                  </a:lnTo>
                  <a:lnTo>
                    <a:pt x="325" y="1303"/>
                  </a:lnTo>
                  <a:lnTo>
                    <a:pt x="319" y="1303"/>
                  </a:lnTo>
                  <a:lnTo>
                    <a:pt x="319" y="1292"/>
                  </a:lnTo>
                  <a:lnTo>
                    <a:pt x="313" y="1292"/>
                  </a:lnTo>
                  <a:lnTo>
                    <a:pt x="313" y="1287"/>
                  </a:lnTo>
                  <a:lnTo>
                    <a:pt x="308" y="1287"/>
                  </a:lnTo>
                  <a:lnTo>
                    <a:pt x="308" y="1280"/>
                  </a:lnTo>
                  <a:lnTo>
                    <a:pt x="302" y="1280"/>
                  </a:lnTo>
                  <a:lnTo>
                    <a:pt x="302" y="1269"/>
                  </a:lnTo>
                  <a:lnTo>
                    <a:pt x="296" y="1269"/>
                  </a:lnTo>
                  <a:lnTo>
                    <a:pt x="296" y="1258"/>
                  </a:lnTo>
                  <a:lnTo>
                    <a:pt x="291" y="1258"/>
                  </a:lnTo>
                  <a:lnTo>
                    <a:pt x="291" y="1252"/>
                  </a:lnTo>
                  <a:lnTo>
                    <a:pt x="285" y="1252"/>
                  </a:lnTo>
                  <a:lnTo>
                    <a:pt x="285" y="1246"/>
                  </a:lnTo>
                  <a:lnTo>
                    <a:pt x="279" y="1246"/>
                  </a:lnTo>
                  <a:lnTo>
                    <a:pt x="279" y="1240"/>
                  </a:lnTo>
                  <a:lnTo>
                    <a:pt x="273" y="1240"/>
                  </a:lnTo>
                  <a:lnTo>
                    <a:pt x="273" y="1230"/>
                  </a:lnTo>
                  <a:lnTo>
                    <a:pt x="268" y="1230"/>
                  </a:lnTo>
                  <a:lnTo>
                    <a:pt x="268" y="1218"/>
                  </a:lnTo>
                  <a:lnTo>
                    <a:pt x="262" y="1218"/>
                  </a:lnTo>
                  <a:lnTo>
                    <a:pt x="262" y="1212"/>
                  </a:lnTo>
                  <a:lnTo>
                    <a:pt x="256" y="1212"/>
                  </a:lnTo>
                  <a:lnTo>
                    <a:pt x="256" y="1195"/>
                  </a:lnTo>
                  <a:lnTo>
                    <a:pt x="251" y="1195"/>
                  </a:lnTo>
                  <a:lnTo>
                    <a:pt x="251" y="1183"/>
                  </a:lnTo>
                  <a:lnTo>
                    <a:pt x="246" y="1183"/>
                  </a:lnTo>
                  <a:lnTo>
                    <a:pt x="246" y="1173"/>
                  </a:lnTo>
                  <a:lnTo>
                    <a:pt x="240" y="1173"/>
                  </a:lnTo>
                  <a:lnTo>
                    <a:pt x="240" y="1161"/>
                  </a:lnTo>
                  <a:lnTo>
                    <a:pt x="234" y="1161"/>
                  </a:lnTo>
                  <a:lnTo>
                    <a:pt x="234" y="1150"/>
                  </a:lnTo>
                  <a:lnTo>
                    <a:pt x="228" y="1150"/>
                  </a:lnTo>
                  <a:lnTo>
                    <a:pt x="228" y="1144"/>
                  </a:lnTo>
                  <a:lnTo>
                    <a:pt x="223" y="1144"/>
                  </a:lnTo>
                  <a:lnTo>
                    <a:pt x="223" y="1127"/>
                  </a:lnTo>
                  <a:lnTo>
                    <a:pt x="216" y="1127"/>
                  </a:lnTo>
                  <a:lnTo>
                    <a:pt x="216" y="1121"/>
                  </a:lnTo>
                  <a:lnTo>
                    <a:pt x="211" y="1121"/>
                  </a:lnTo>
                  <a:lnTo>
                    <a:pt x="211" y="1104"/>
                  </a:lnTo>
                  <a:lnTo>
                    <a:pt x="206" y="1104"/>
                  </a:lnTo>
                  <a:lnTo>
                    <a:pt x="206" y="1076"/>
                  </a:lnTo>
                  <a:lnTo>
                    <a:pt x="200" y="1076"/>
                  </a:lnTo>
                  <a:lnTo>
                    <a:pt x="200" y="1064"/>
                  </a:lnTo>
                  <a:lnTo>
                    <a:pt x="194" y="1064"/>
                  </a:lnTo>
                  <a:lnTo>
                    <a:pt x="194" y="1053"/>
                  </a:lnTo>
                  <a:lnTo>
                    <a:pt x="189" y="1053"/>
                  </a:lnTo>
                  <a:lnTo>
                    <a:pt x="189" y="1036"/>
                  </a:lnTo>
                  <a:lnTo>
                    <a:pt x="183" y="1036"/>
                  </a:lnTo>
                  <a:lnTo>
                    <a:pt x="183" y="1013"/>
                  </a:lnTo>
                  <a:lnTo>
                    <a:pt x="177" y="1013"/>
                  </a:lnTo>
                  <a:lnTo>
                    <a:pt x="177" y="997"/>
                  </a:lnTo>
                  <a:lnTo>
                    <a:pt x="171" y="997"/>
                  </a:lnTo>
                  <a:lnTo>
                    <a:pt x="171" y="979"/>
                  </a:lnTo>
                  <a:lnTo>
                    <a:pt x="166" y="979"/>
                  </a:lnTo>
                  <a:lnTo>
                    <a:pt x="166" y="962"/>
                  </a:lnTo>
                  <a:lnTo>
                    <a:pt x="160" y="962"/>
                  </a:lnTo>
                  <a:lnTo>
                    <a:pt x="160" y="950"/>
                  </a:lnTo>
                  <a:lnTo>
                    <a:pt x="154" y="950"/>
                  </a:lnTo>
                  <a:lnTo>
                    <a:pt x="154" y="940"/>
                  </a:lnTo>
                  <a:lnTo>
                    <a:pt x="149" y="940"/>
                  </a:lnTo>
                  <a:lnTo>
                    <a:pt x="149" y="933"/>
                  </a:lnTo>
                  <a:lnTo>
                    <a:pt x="143" y="933"/>
                  </a:lnTo>
                  <a:lnTo>
                    <a:pt x="143" y="922"/>
                  </a:lnTo>
                  <a:lnTo>
                    <a:pt x="137" y="922"/>
                  </a:lnTo>
                  <a:lnTo>
                    <a:pt x="137" y="899"/>
                  </a:lnTo>
                  <a:lnTo>
                    <a:pt x="132" y="899"/>
                  </a:lnTo>
                  <a:lnTo>
                    <a:pt x="132" y="883"/>
                  </a:lnTo>
                  <a:lnTo>
                    <a:pt x="126" y="883"/>
                  </a:lnTo>
                  <a:lnTo>
                    <a:pt x="126" y="865"/>
                  </a:lnTo>
                  <a:lnTo>
                    <a:pt x="120" y="865"/>
                  </a:lnTo>
                  <a:lnTo>
                    <a:pt x="120" y="848"/>
                  </a:lnTo>
                  <a:lnTo>
                    <a:pt x="114" y="848"/>
                  </a:lnTo>
                  <a:lnTo>
                    <a:pt x="114" y="831"/>
                  </a:lnTo>
                  <a:lnTo>
                    <a:pt x="109" y="831"/>
                  </a:lnTo>
                  <a:lnTo>
                    <a:pt x="109" y="814"/>
                  </a:lnTo>
                  <a:lnTo>
                    <a:pt x="103" y="814"/>
                  </a:lnTo>
                  <a:lnTo>
                    <a:pt x="103" y="797"/>
                  </a:lnTo>
                  <a:lnTo>
                    <a:pt x="97" y="797"/>
                  </a:lnTo>
                  <a:lnTo>
                    <a:pt x="97" y="785"/>
                  </a:lnTo>
                  <a:lnTo>
                    <a:pt x="92" y="785"/>
                  </a:lnTo>
                  <a:lnTo>
                    <a:pt x="92" y="774"/>
                  </a:lnTo>
                  <a:lnTo>
                    <a:pt x="85" y="774"/>
                  </a:lnTo>
                  <a:lnTo>
                    <a:pt x="85" y="763"/>
                  </a:lnTo>
                  <a:lnTo>
                    <a:pt x="80" y="763"/>
                  </a:lnTo>
                  <a:lnTo>
                    <a:pt x="80" y="752"/>
                  </a:lnTo>
                  <a:lnTo>
                    <a:pt x="75" y="752"/>
                  </a:lnTo>
                  <a:lnTo>
                    <a:pt x="75" y="734"/>
                  </a:lnTo>
                  <a:lnTo>
                    <a:pt x="69" y="734"/>
                  </a:lnTo>
                  <a:lnTo>
                    <a:pt x="69" y="729"/>
                  </a:lnTo>
                  <a:lnTo>
                    <a:pt x="63" y="729"/>
                  </a:lnTo>
                  <a:lnTo>
                    <a:pt x="63" y="717"/>
                  </a:lnTo>
                  <a:lnTo>
                    <a:pt x="57" y="717"/>
                  </a:lnTo>
                  <a:lnTo>
                    <a:pt x="57" y="700"/>
                  </a:lnTo>
                  <a:lnTo>
                    <a:pt x="52" y="700"/>
                  </a:lnTo>
                  <a:lnTo>
                    <a:pt x="52" y="683"/>
                  </a:lnTo>
                  <a:lnTo>
                    <a:pt x="46" y="683"/>
                  </a:lnTo>
                  <a:lnTo>
                    <a:pt x="46" y="672"/>
                  </a:lnTo>
                  <a:lnTo>
                    <a:pt x="40" y="672"/>
                  </a:lnTo>
                  <a:lnTo>
                    <a:pt x="40" y="660"/>
                  </a:lnTo>
                  <a:lnTo>
                    <a:pt x="35" y="660"/>
                  </a:lnTo>
                  <a:lnTo>
                    <a:pt x="35" y="632"/>
                  </a:lnTo>
                  <a:lnTo>
                    <a:pt x="28" y="632"/>
                  </a:lnTo>
                  <a:lnTo>
                    <a:pt x="28" y="603"/>
                  </a:lnTo>
                  <a:lnTo>
                    <a:pt x="23" y="603"/>
                  </a:lnTo>
                  <a:lnTo>
                    <a:pt x="23" y="586"/>
                  </a:lnTo>
                  <a:lnTo>
                    <a:pt x="18" y="586"/>
                  </a:lnTo>
                  <a:lnTo>
                    <a:pt x="18" y="541"/>
                  </a:lnTo>
                  <a:lnTo>
                    <a:pt x="12" y="541"/>
                  </a:lnTo>
                  <a:lnTo>
                    <a:pt x="12" y="501"/>
                  </a:lnTo>
                  <a:lnTo>
                    <a:pt x="6" y="501"/>
                  </a:lnTo>
                  <a:lnTo>
                    <a:pt x="6" y="479"/>
                  </a:lnTo>
                  <a:lnTo>
                    <a:pt x="0" y="479"/>
                  </a:lnTo>
                  <a:lnTo>
                    <a:pt x="0" y="438"/>
                  </a:lnTo>
                  <a:lnTo>
                    <a:pt x="6" y="438"/>
                  </a:lnTo>
                  <a:lnTo>
                    <a:pt x="6" y="404"/>
                  </a:lnTo>
                  <a:lnTo>
                    <a:pt x="12" y="404"/>
                  </a:lnTo>
                  <a:lnTo>
                    <a:pt x="12" y="381"/>
                  </a:lnTo>
                  <a:lnTo>
                    <a:pt x="18" y="381"/>
                  </a:lnTo>
                  <a:lnTo>
                    <a:pt x="18" y="330"/>
                  </a:lnTo>
                  <a:lnTo>
                    <a:pt x="23" y="330"/>
                  </a:lnTo>
                  <a:lnTo>
                    <a:pt x="23" y="308"/>
                  </a:lnTo>
                  <a:lnTo>
                    <a:pt x="28" y="308"/>
                  </a:lnTo>
                  <a:lnTo>
                    <a:pt x="28" y="273"/>
                  </a:lnTo>
                  <a:lnTo>
                    <a:pt x="35" y="273"/>
                  </a:lnTo>
                  <a:lnTo>
                    <a:pt x="35" y="262"/>
                  </a:lnTo>
                  <a:lnTo>
                    <a:pt x="40" y="262"/>
                  </a:lnTo>
                  <a:lnTo>
                    <a:pt x="40" y="245"/>
                  </a:lnTo>
                  <a:lnTo>
                    <a:pt x="46" y="245"/>
                  </a:lnTo>
                  <a:lnTo>
                    <a:pt x="46" y="234"/>
                  </a:lnTo>
                  <a:lnTo>
                    <a:pt x="52" y="234"/>
                  </a:lnTo>
                  <a:lnTo>
                    <a:pt x="52" y="216"/>
                  </a:lnTo>
                  <a:lnTo>
                    <a:pt x="57" y="216"/>
                  </a:lnTo>
                  <a:lnTo>
                    <a:pt x="57" y="199"/>
                  </a:lnTo>
                  <a:lnTo>
                    <a:pt x="63" y="199"/>
                  </a:lnTo>
                  <a:lnTo>
                    <a:pt x="63" y="171"/>
                  </a:lnTo>
                  <a:lnTo>
                    <a:pt x="69" y="171"/>
                  </a:lnTo>
                  <a:lnTo>
                    <a:pt x="69" y="142"/>
                  </a:lnTo>
                  <a:lnTo>
                    <a:pt x="75" y="142"/>
                  </a:lnTo>
                  <a:lnTo>
                    <a:pt x="75" y="125"/>
                  </a:lnTo>
                  <a:lnTo>
                    <a:pt x="80" y="125"/>
                  </a:lnTo>
                  <a:lnTo>
                    <a:pt x="80" y="103"/>
                  </a:lnTo>
                  <a:lnTo>
                    <a:pt x="85" y="103"/>
                  </a:lnTo>
                  <a:lnTo>
                    <a:pt x="85" y="74"/>
                  </a:lnTo>
                  <a:lnTo>
                    <a:pt x="92" y="74"/>
                  </a:lnTo>
                  <a:lnTo>
                    <a:pt x="92" y="68"/>
                  </a:lnTo>
                  <a:lnTo>
                    <a:pt x="189" y="68"/>
                  </a:lnTo>
                  <a:lnTo>
                    <a:pt x="189" y="63"/>
                  </a:lnTo>
                  <a:lnTo>
                    <a:pt x="246" y="63"/>
                  </a:lnTo>
                  <a:lnTo>
                    <a:pt x="246" y="68"/>
                  </a:lnTo>
                  <a:lnTo>
                    <a:pt x="325" y="68"/>
                  </a:lnTo>
                  <a:lnTo>
                    <a:pt x="325" y="63"/>
                  </a:lnTo>
                  <a:lnTo>
                    <a:pt x="348" y="63"/>
                  </a:lnTo>
                  <a:lnTo>
                    <a:pt x="348" y="68"/>
                  </a:lnTo>
                  <a:lnTo>
                    <a:pt x="467" y="68"/>
                  </a:lnTo>
                  <a:lnTo>
                    <a:pt x="467" y="74"/>
                  </a:lnTo>
                  <a:lnTo>
                    <a:pt x="496" y="74"/>
                  </a:lnTo>
                  <a:lnTo>
                    <a:pt x="496" y="68"/>
                  </a:lnTo>
                  <a:lnTo>
                    <a:pt x="513" y="68"/>
                  </a:lnTo>
                  <a:lnTo>
                    <a:pt x="513" y="74"/>
                  </a:lnTo>
                  <a:lnTo>
                    <a:pt x="660" y="74"/>
                  </a:lnTo>
                  <a:lnTo>
                    <a:pt x="660" y="68"/>
                  </a:lnTo>
                  <a:lnTo>
                    <a:pt x="757" y="68"/>
                  </a:lnTo>
                  <a:lnTo>
                    <a:pt x="757" y="63"/>
                  </a:lnTo>
                  <a:lnTo>
                    <a:pt x="786" y="63"/>
                  </a:lnTo>
                  <a:lnTo>
                    <a:pt x="786" y="57"/>
                  </a:lnTo>
                  <a:lnTo>
                    <a:pt x="843" y="57"/>
                  </a:lnTo>
                  <a:lnTo>
                    <a:pt x="843" y="51"/>
                  </a:lnTo>
                  <a:lnTo>
                    <a:pt x="923" y="51"/>
                  </a:lnTo>
                  <a:lnTo>
                    <a:pt x="923" y="57"/>
                  </a:lnTo>
                  <a:lnTo>
                    <a:pt x="974" y="57"/>
                  </a:lnTo>
                  <a:lnTo>
                    <a:pt x="974" y="51"/>
                  </a:lnTo>
                  <a:lnTo>
                    <a:pt x="1042" y="51"/>
                  </a:lnTo>
                  <a:lnTo>
                    <a:pt x="1042" y="57"/>
                  </a:lnTo>
                  <a:lnTo>
                    <a:pt x="1099" y="57"/>
                  </a:lnTo>
                  <a:lnTo>
                    <a:pt x="1099" y="51"/>
                  </a:lnTo>
                  <a:lnTo>
                    <a:pt x="1173" y="51"/>
                  </a:lnTo>
                  <a:lnTo>
                    <a:pt x="1173" y="57"/>
                  </a:lnTo>
                  <a:lnTo>
                    <a:pt x="1190" y="57"/>
                  </a:lnTo>
                  <a:lnTo>
                    <a:pt x="1190" y="51"/>
                  </a:lnTo>
                  <a:lnTo>
                    <a:pt x="1235" y="51"/>
                  </a:lnTo>
                  <a:lnTo>
                    <a:pt x="1235" y="46"/>
                  </a:lnTo>
                  <a:lnTo>
                    <a:pt x="1258" y="46"/>
                  </a:lnTo>
                  <a:lnTo>
                    <a:pt x="1258" y="40"/>
                  </a:lnTo>
                  <a:lnTo>
                    <a:pt x="1287" y="40"/>
                  </a:lnTo>
                  <a:lnTo>
                    <a:pt x="1287" y="34"/>
                  </a:lnTo>
                  <a:lnTo>
                    <a:pt x="1310" y="34"/>
                  </a:lnTo>
                  <a:lnTo>
                    <a:pt x="1310" y="28"/>
                  </a:lnTo>
                  <a:lnTo>
                    <a:pt x="1413" y="28"/>
                  </a:lnTo>
                  <a:lnTo>
                    <a:pt x="1413" y="34"/>
                  </a:lnTo>
                  <a:lnTo>
                    <a:pt x="1605" y="34"/>
                  </a:lnTo>
                  <a:lnTo>
                    <a:pt x="1605" y="28"/>
                  </a:lnTo>
                  <a:lnTo>
                    <a:pt x="1646" y="28"/>
                  </a:lnTo>
                  <a:lnTo>
                    <a:pt x="1646" y="23"/>
                  </a:lnTo>
                  <a:lnTo>
                    <a:pt x="1691" y="23"/>
                  </a:lnTo>
                  <a:lnTo>
                    <a:pt x="1691" y="17"/>
                  </a:lnTo>
                  <a:lnTo>
                    <a:pt x="1822" y="17"/>
                  </a:lnTo>
                  <a:lnTo>
                    <a:pt x="1822" y="11"/>
                  </a:lnTo>
                  <a:lnTo>
                    <a:pt x="1895" y="11"/>
                  </a:lnTo>
                  <a:lnTo>
                    <a:pt x="1895" y="6"/>
                  </a:lnTo>
                  <a:lnTo>
                    <a:pt x="2016" y="6"/>
                  </a:lnTo>
                  <a:lnTo>
                    <a:pt x="2016" y="0"/>
                  </a:lnTo>
                  <a:lnTo>
                    <a:pt x="2026" y="0"/>
                  </a:lnTo>
                  <a:lnTo>
                    <a:pt x="2026" y="6"/>
                  </a:lnTo>
                  <a:lnTo>
                    <a:pt x="2147" y="6"/>
                  </a:lnTo>
                  <a:lnTo>
                    <a:pt x="2147" y="11"/>
                  </a:lnTo>
                  <a:lnTo>
                    <a:pt x="2197" y="11"/>
                  </a:lnTo>
                  <a:lnTo>
                    <a:pt x="2197" y="6"/>
                  </a:lnTo>
                  <a:lnTo>
                    <a:pt x="2221" y="6"/>
                  </a:lnTo>
                  <a:lnTo>
                    <a:pt x="2221" y="11"/>
                  </a:lnTo>
                  <a:lnTo>
                    <a:pt x="2244" y="11"/>
                  </a:lnTo>
                  <a:lnTo>
                    <a:pt x="2244" y="17"/>
                  </a:lnTo>
                  <a:lnTo>
                    <a:pt x="2301" y="17"/>
                  </a:lnTo>
                  <a:lnTo>
                    <a:pt x="2301" y="23"/>
                  </a:lnTo>
                  <a:lnTo>
                    <a:pt x="2311" y="23"/>
                  </a:lnTo>
                  <a:lnTo>
                    <a:pt x="2311" y="28"/>
                  </a:lnTo>
                  <a:lnTo>
                    <a:pt x="2323" y="28"/>
                  </a:lnTo>
                  <a:lnTo>
                    <a:pt x="2323" y="34"/>
                  </a:lnTo>
                  <a:lnTo>
                    <a:pt x="2340" y="34"/>
                  </a:lnTo>
                  <a:lnTo>
                    <a:pt x="2340" y="40"/>
                  </a:lnTo>
                  <a:lnTo>
                    <a:pt x="2346" y="40"/>
                  </a:lnTo>
                  <a:lnTo>
                    <a:pt x="2346" y="46"/>
                  </a:lnTo>
                  <a:lnTo>
                    <a:pt x="2358" y="46"/>
                  </a:lnTo>
                  <a:lnTo>
                    <a:pt x="2358" y="51"/>
                  </a:lnTo>
                  <a:lnTo>
                    <a:pt x="2363" y="51"/>
                  </a:lnTo>
                  <a:lnTo>
                    <a:pt x="2363" y="57"/>
                  </a:lnTo>
                  <a:lnTo>
                    <a:pt x="2368" y="57"/>
                  </a:lnTo>
                  <a:lnTo>
                    <a:pt x="2368" y="63"/>
                  </a:lnTo>
                  <a:lnTo>
                    <a:pt x="2374" y="63"/>
                  </a:lnTo>
                  <a:lnTo>
                    <a:pt x="2374" y="68"/>
                  </a:lnTo>
                  <a:lnTo>
                    <a:pt x="2380" y="68"/>
                  </a:lnTo>
                  <a:lnTo>
                    <a:pt x="2380" y="74"/>
                  </a:lnTo>
                  <a:lnTo>
                    <a:pt x="2391" y="74"/>
                  </a:lnTo>
                  <a:lnTo>
                    <a:pt x="2391" y="80"/>
                  </a:lnTo>
                  <a:lnTo>
                    <a:pt x="2397" y="80"/>
                  </a:lnTo>
                  <a:lnTo>
                    <a:pt x="2397" y="85"/>
                  </a:lnTo>
                  <a:lnTo>
                    <a:pt x="2403" y="85"/>
                  </a:lnTo>
                  <a:lnTo>
                    <a:pt x="2403" y="91"/>
                  </a:lnTo>
                  <a:lnTo>
                    <a:pt x="2408" y="91"/>
                  </a:lnTo>
                  <a:lnTo>
                    <a:pt x="2408" y="97"/>
                  </a:lnTo>
                  <a:lnTo>
                    <a:pt x="2420" y="97"/>
                  </a:lnTo>
                  <a:lnTo>
                    <a:pt x="2420" y="103"/>
                  </a:lnTo>
                  <a:lnTo>
                    <a:pt x="2425" y="103"/>
                  </a:lnTo>
                  <a:lnTo>
                    <a:pt x="2425" y="108"/>
                  </a:lnTo>
                  <a:lnTo>
                    <a:pt x="2437" y="108"/>
                  </a:lnTo>
                  <a:lnTo>
                    <a:pt x="2437" y="114"/>
                  </a:lnTo>
                  <a:lnTo>
                    <a:pt x="2442" y="114"/>
                  </a:lnTo>
                  <a:lnTo>
                    <a:pt x="2442" y="120"/>
                  </a:lnTo>
                  <a:lnTo>
                    <a:pt x="2448" y="120"/>
                  </a:lnTo>
                  <a:lnTo>
                    <a:pt x="2448" y="130"/>
                  </a:lnTo>
                  <a:lnTo>
                    <a:pt x="2454" y="130"/>
                  </a:lnTo>
                  <a:lnTo>
                    <a:pt x="2454" y="137"/>
                  </a:lnTo>
                  <a:lnTo>
                    <a:pt x="2460" y="137"/>
                  </a:lnTo>
                  <a:lnTo>
                    <a:pt x="2460" y="142"/>
                  </a:lnTo>
                  <a:lnTo>
                    <a:pt x="2471" y="142"/>
                  </a:lnTo>
                  <a:lnTo>
                    <a:pt x="2471" y="148"/>
                  </a:lnTo>
                  <a:lnTo>
                    <a:pt x="2477" y="148"/>
                  </a:lnTo>
                  <a:lnTo>
                    <a:pt x="2477" y="154"/>
                  </a:lnTo>
                  <a:lnTo>
                    <a:pt x="2482" y="154"/>
                  </a:lnTo>
                  <a:lnTo>
                    <a:pt x="2482" y="159"/>
                  </a:lnTo>
                  <a:lnTo>
                    <a:pt x="2488" y="159"/>
                  </a:lnTo>
                  <a:lnTo>
                    <a:pt x="2488" y="171"/>
                  </a:lnTo>
                  <a:lnTo>
                    <a:pt x="2499" y="171"/>
                  </a:lnTo>
                  <a:lnTo>
                    <a:pt x="2499" y="177"/>
                  </a:lnTo>
                  <a:lnTo>
                    <a:pt x="2505" y="177"/>
                  </a:lnTo>
                  <a:lnTo>
                    <a:pt x="2505" y="182"/>
                  </a:lnTo>
                  <a:lnTo>
                    <a:pt x="2517" y="182"/>
                  </a:lnTo>
                  <a:lnTo>
                    <a:pt x="2517" y="188"/>
                  </a:lnTo>
                  <a:lnTo>
                    <a:pt x="2522" y="188"/>
                  </a:lnTo>
                  <a:lnTo>
                    <a:pt x="2522" y="194"/>
                  </a:lnTo>
                  <a:lnTo>
                    <a:pt x="2528" y="194"/>
                  </a:lnTo>
                  <a:lnTo>
                    <a:pt x="2528" y="199"/>
                  </a:lnTo>
                  <a:lnTo>
                    <a:pt x="2534" y="199"/>
                  </a:lnTo>
                  <a:lnTo>
                    <a:pt x="2534" y="205"/>
                  </a:lnTo>
                  <a:lnTo>
                    <a:pt x="2539" y="205"/>
                  </a:lnTo>
                  <a:lnTo>
                    <a:pt x="2539" y="211"/>
                  </a:lnTo>
                  <a:lnTo>
                    <a:pt x="2545" y="211"/>
                  </a:lnTo>
                  <a:lnTo>
                    <a:pt x="2545" y="216"/>
                  </a:lnTo>
                  <a:lnTo>
                    <a:pt x="2551" y="216"/>
                  </a:lnTo>
                  <a:lnTo>
                    <a:pt x="2551" y="222"/>
                  </a:lnTo>
                  <a:lnTo>
                    <a:pt x="2556" y="222"/>
                  </a:lnTo>
                  <a:lnTo>
                    <a:pt x="2556" y="228"/>
                  </a:lnTo>
                  <a:lnTo>
                    <a:pt x="2562" y="228"/>
                  </a:lnTo>
                  <a:lnTo>
                    <a:pt x="2562" y="234"/>
                  </a:lnTo>
                  <a:lnTo>
                    <a:pt x="2574" y="234"/>
                  </a:lnTo>
                  <a:lnTo>
                    <a:pt x="2574" y="245"/>
                  </a:lnTo>
                  <a:lnTo>
                    <a:pt x="2579" y="245"/>
                  </a:lnTo>
                  <a:lnTo>
                    <a:pt x="2579" y="251"/>
                  </a:lnTo>
                  <a:lnTo>
                    <a:pt x="2585" y="251"/>
                  </a:lnTo>
                  <a:lnTo>
                    <a:pt x="2585" y="256"/>
                  </a:lnTo>
                  <a:lnTo>
                    <a:pt x="2591" y="256"/>
                  </a:lnTo>
                  <a:lnTo>
                    <a:pt x="2591" y="262"/>
                  </a:lnTo>
                  <a:lnTo>
                    <a:pt x="2596" y="262"/>
                  </a:lnTo>
                  <a:lnTo>
                    <a:pt x="2596" y="268"/>
                  </a:lnTo>
                  <a:lnTo>
                    <a:pt x="2603" y="268"/>
                  </a:lnTo>
                  <a:lnTo>
                    <a:pt x="2603" y="273"/>
                  </a:lnTo>
                  <a:lnTo>
                    <a:pt x="2608" y="273"/>
                  </a:lnTo>
                  <a:lnTo>
                    <a:pt x="2608" y="279"/>
                  </a:lnTo>
                  <a:lnTo>
                    <a:pt x="2613" y="279"/>
                  </a:lnTo>
                  <a:lnTo>
                    <a:pt x="2613" y="285"/>
                  </a:lnTo>
                  <a:lnTo>
                    <a:pt x="2619" y="285"/>
                  </a:lnTo>
                  <a:lnTo>
                    <a:pt x="2619" y="291"/>
                  </a:lnTo>
                  <a:lnTo>
                    <a:pt x="2625" y="291"/>
                  </a:lnTo>
                  <a:lnTo>
                    <a:pt x="2625" y="296"/>
                  </a:lnTo>
                  <a:lnTo>
                    <a:pt x="2631" y="296"/>
                  </a:lnTo>
                  <a:lnTo>
                    <a:pt x="2631" y="302"/>
                  </a:lnTo>
                  <a:lnTo>
                    <a:pt x="2636" y="302"/>
                  </a:lnTo>
                  <a:lnTo>
                    <a:pt x="2636" y="308"/>
                  </a:lnTo>
                  <a:lnTo>
                    <a:pt x="2642" y="308"/>
                  </a:lnTo>
                  <a:lnTo>
                    <a:pt x="2642" y="313"/>
                  </a:lnTo>
                  <a:lnTo>
                    <a:pt x="2648" y="313"/>
                  </a:lnTo>
                  <a:lnTo>
                    <a:pt x="2648" y="319"/>
                  </a:lnTo>
                  <a:lnTo>
                    <a:pt x="2653" y="319"/>
                  </a:lnTo>
                  <a:lnTo>
                    <a:pt x="2653" y="325"/>
                  </a:lnTo>
                  <a:lnTo>
                    <a:pt x="2660" y="325"/>
                  </a:lnTo>
                  <a:lnTo>
                    <a:pt x="2660" y="330"/>
                  </a:lnTo>
                  <a:lnTo>
                    <a:pt x="2670" y="330"/>
                  </a:lnTo>
                  <a:lnTo>
                    <a:pt x="2670" y="336"/>
                  </a:lnTo>
                  <a:lnTo>
                    <a:pt x="2676" y="336"/>
                  </a:lnTo>
                  <a:lnTo>
                    <a:pt x="2676" y="342"/>
                  </a:lnTo>
                  <a:lnTo>
                    <a:pt x="2682" y="342"/>
                  </a:lnTo>
                  <a:lnTo>
                    <a:pt x="2682" y="348"/>
                  </a:lnTo>
                  <a:lnTo>
                    <a:pt x="2693" y="348"/>
                  </a:lnTo>
                  <a:lnTo>
                    <a:pt x="2693" y="353"/>
                  </a:lnTo>
                  <a:lnTo>
                    <a:pt x="2698" y="353"/>
                  </a:lnTo>
                  <a:lnTo>
                    <a:pt x="2698" y="359"/>
                  </a:lnTo>
                  <a:lnTo>
                    <a:pt x="2705" y="359"/>
                  </a:lnTo>
                  <a:lnTo>
                    <a:pt x="2705" y="365"/>
                  </a:lnTo>
                  <a:lnTo>
                    <a:pt x="2710" y="365"/>
                  </a:lnTo>
                  <a:lnTo>
                    <a:pt x="2710" y="370"/>
                  </a:lnTo>
                  <a:lnTo>
                    <a:pt x="2715" y="370"/>
                  </a:lnTo>
                  <a:lnTo>
                    <a:pt x="2715" y="375"/>
                  </a:lnTo>
                  <a:lnTo>
                    <a:pt x="2721" y="375"/>
                  </a:lnTo>
                  <a:lnTo>
                    <a:pt x="2721" y="381"/>
                  </a:lnTo>
                  <a:lnTo>
                    <a:pt x="2727" y="381"/>
                  </a:lnTo>
                  <a:lnTo>
                    <a:pt x="2727" y="387"/>
                  </a:lnTo>
                  <a:lnTo>
                    <a:pt x="2738" y="387"/>
                  </a:lnTo>
                  <a:lnTo>
                    <a:pt x="2738" y="393"/>
                  </a:lnTo>
                  <a:lnTo>
                    <a:pt x="2744" y="393"/>
                  </a:lnTo>
                  <a:lnTo>
                    <a:pt x="2744" y="398"/>
                  </a:lnTo>
                  <a:lnTo>
                    <a:pt x="2755" y="398"/>
                  </a:lnTo>
                  <a:lnTo>
                    <a:pt x="2755" y="404"/>
                  </a:lnTo>
                  <a:lnTo>
                    <a:pt x="2772" y="404"/>
                  </a:lnTo>
                  <a:lnTo>
                    <a:pt x="2772" y="410"/>
                  </a:lnTo>
                  <a:lnTo>
                    <a:pt x="2790" y="410"/>
                  </a:lnTo>
                  <a:lnTo>
                    <a:pt x="2790" y="404"/>
                  </a:lnTo>
                  <a:lnTo>
                    <a:pt x="2807" y="404"/>
                  </a:lnTo>
                  <a:lnTo>
                    <a:pt x="2807" y="410"/>
                  </a:lnTo>
                  <a:lnTo>
                    <a:pt x="2812" y="410"/>
                  </a:lnTo>
                  <a:lnTo>
                    <a:pt x="2812" y="432"/>
                  </a:lnTo>
                  <a:lnTo>
                    <a:pt x="2819" y="432"/>
                  </a:lnTo>
                  <a:lnTo>
                    <a:pt x="2819" y="438"/>
                  </a:lnTo>
                  <a:lnTo>
                    <a:pt x="2835" y="438"/>
                  </a:lnTo>
                  <a:lnTo>
                    <a:pt x="2835" y="450"/>
                  </a:lnTo>
                  <a:lnTo>
                    <a:pt x="2801" y="450"/>
                  </a:lnTo>
                  <a:lnTo>
                    <a:pt x="2801" y="455"/>
                  </a:lnTo>
                  <a:lnTo>
                    <a:pt x="2795" y="455"/>
                  </a:lnTo>
                  <a:lnTo>
                    <a:pt x="2795" y="467"/>
                  </a:lnTo>
                  <a:lnTo>
                    <a:pt x="2790" y="467"/>
                  </a:lnTo>
                  <a:lnTo>
                    <a:pt x="2790" y="484"/>
                  </a:lnTo>
                  <a:lnTo>
                    <a:pt x="2784" y="484"/>
                  </a:lnTo>
                  <a:lnTo>
                    <a:pt x="2784" y="489"/>
                  </a:lnTo>
                  <a:lnTo>
                    <a:pt x="2772" y="489"/>
                  </a:lnTo>
                  <a:lnTo>
                    <a:pt x="2772" y="484"/>
                  </a:lnTo>
                  <a:lnTo>
                    <a:pt x="2750" y="484"/>
                  </a:lnTo>
                  <a:lnTo>
                    <a:pt x="2750" y="489"/>
                  </a:lnTo>
                  <a:lnTo>
                    <a:pt x="2733" y="489"/>
                  </a:lnTo>
                  <a:lnTo>
                    <a:pt x="2733" y="507"/>
                  </a:lnTo>
                  <a:lnTo>
                    <a:pt x="2721" y="507"/>
                  </a:lnTo>
                  <a:lnTo>
                    <a:pt x="2721" y="501"/>
                  </a:lnTo>
                  <a:lnTo>
                    <a:pt x="2710" y="501"/>
                  </a:lnTo>
                  <a:lnTo>
                    <a:pt x="2710" y="507"/>
                  </a:lnTo>
                  <a:lnTo>
                    <a:pt x="2705" y="507"/>
                  </a:lnTo>
                  <a:lnTo>
                    <a:pt x="2705" y="512"/>
                  </a:lnTo>
                  <a:lnTo>
                    <a:pt x="2698" y="512"/>
                  </a:lnTo>
                  <a:lnTo>
                    <a:pt x="2698" y="518"/>
                  </a:lnTo>
                  <a:lnTo>
                    <a:pt x="2693" y="518"/>
                  </a:lnTo>
                  <a:lnTo>
                    <a:pt x="2693" y="524"/>
                  </a:lnTo>
                  <a:lnTo>
                    <a:pt x="2682" y="524"/>
                  </a:lnTo>
                  <a:lnTo>
                    <a:pt x="2682" y="529"/>
                  </a:lnTo>
                  <a:lnTo>
                    <a:pt x="2676" y="529"/>
                  </a:lnTo>
                  <a:lnTo>
                    <a:pt x="2676" y="536"/>
                  </a:lnTo>
                  <a:lnTo>
                    <a:pt x="2670" y="536"/>
                  </a:lnTo>
                  <a:lnTo>
                    <a:pt x="2670" y="541"/>
                  </a:lnTo>
                  <a:lnTo>
                    <a:pt x="2660" y="541"/>
                  </a:lnTo>
                  <a:lnTo>
                    <a:pt x="2660" y="546"/>
                  </a:lnTo>
                  <a:lnTo>
                    <a:pt x="2648" y="546"/>
                  </a:lnTo>
                  <a:lnTo>
                    <a:pt x="2648" y="552"/>
                  </a:lnTo>
                  <a:lnTo>
                    <a:pt x="2636" y="552"/>
                  </a:lnTo>
                  <a:lnTo>
                    <a:pt x="2636" y="558"/>
                  </a:lnTo>
                  <a:lnTo>
                    <a:pt x="2625" y="558"/>
                  </a:lnTo>
                  <a:lnTo>
                    <a:pt x="2625" y="563"/>
                  </a:lnTo>
                  <a:lnTo>
                    <a:pt x="2613" y="563"/>
                  </a:lnTo>
                  <a:lnTo>
                    <a:pt x="2613" y="569"/>
                  </a:lnTo>
                  <a:lnTo>
                    <a:pt x="2608" y="569"/>
                  </a:lnTo>
                  <a:lnTo>
                    <a:pt x="2608" y="575"/>
                  </a:lnTo>
                  <a:lnTo>
                    <a:pt x="2603" y="575"/>
                  </a:lnTo>
                  <a:lnTo>
                    <a:pt x="2603" y="581"/>
                  </a:lnTo>
                  <a:lnTo>
                    <a:pt x="2596" y="581"/>
                  </a:lnTo>
                  <a:lnTo>
                    <a:pt x="2596" y="586"/>
                  </a:lnTo>
                  <a:lnTo>
                    <a:pt x="2591" y="586"/>
                  </a:lnTo>
                  <a:lnTo>
                    <a:pt x="2591" y="593"/>
                  </a:lnTo>
                  <a:lnTo>
                    <a:pt x="2585" y="593"/>
                  </a:lnTo>
                  <a:lnTo>
                    <a:pt x="2585" y="598"/>
                  </a:lnTo>
                  <a:lnTo>
                    <a:pt x="2574" y="598"/>
                  </a:lnTo>
                  <a:lnTo>
                    <a:pt x="2574" y="603"/>
                  </a:lnTo>
                  <a:lnTo>
                    <a:pt x="2568" y="603"/>
                  </a:lnTo>
                  <a:lnTo>
                    <a:pt x="2568" y="609"/>
                  </a:lnTo>
                  <a:lnTo>
                    <a:pt x="2562" y="609"/>
                  </a:lnTo>
                  <a:lnTo>
                    <a:pt x="2562" y="615"/>
                  </a:lnTo>
                  <a:lnTo>
                    <a:pt x="2556" y="615"/>
                  </a:lnTo>
                  <a:lnTo>
                    <a:pt x="2556" y="620"/>
                  </a:lnTo>
                  <a:lnTo>
                    <a:pt x="2545" y="620"/>
                  </a:lnTo>
                  <a:lnTo>
                    <a:pt x="2545" y="626"/>
                  </a:lnTo>
                  <a:lnTo>
                    <a:pt x="2539" y="626"/>
                  </a:lnTo>
                  <a:lnTo>
                    <a:pt x="2539" y="632"/>
                  </a:lnTo>
                  <a:lnTo>
                    <a:pt x="2534" y="632"/>
                  </a:lnTo>
                  <a:lnTo>
                    <a:pt x="2534" y="638"/>
                  </a:lnTo>
                  <a:lnTo>
                    <a:pt x="2528" y="638"/>
                  </a:lnTo>
                  <a:lnTo>
                    <a:pt x="2528" y="643"/>
                  </a:lnTo>
                  <a:lnTo>
                    <a:pt x="2522" y="643"/>
                  </a:lnTo>
                  <a:lnTo>
                    <a:pt x="2522" y="649"/>
                  </a:lnTo>
                  <a:lnTo>
                    <a:pt x="2517" y="649"/>
                  </a:lnTo>
                  <a:lnTo>
                    <a:pt x="2517" y="655"/>
                  </a:lnTo>
                  <a:lnTo>
                    <a:pt x="2511" y="655"/>
                  </a:lnTo>
                  <a:lnTo>
                    <a:pt x="2511" y="660"/>
                  </a:lnTo>
                  <a:lnTo>
                    <a:pt x="2505" y="660"/>
                  </a:lnTo>
                  <a:lnTo>
                    <a:pt x="2505" y="666"/>
                  </a:lnTo>
                  <a:lnTo>
                    <a:pt x="2499" y="666"/>
                  </a:lnTo>
                  <a:lnTo>
                    <a:pt x="2499" y="672"/>
                  </a:lnTo>
                  <a:lnTo>
                    <a:pt x="2494" y="672"/>
                  </a:lnTo>
                  <a:lnTo>
                    <a:pt x="2494" y="677"/>
                  </a:lnTo>
                  <a:lnTo>
                    <a:pt x="2482" y="677"/>
                  </a:lnTo>
                  <a:lnTo>
                    <a:pt x="2482" y="683"/>
                  </a:lnTo>
                  <a:lnTo>
                    <a:pt x="2477" y="683"/>
                  </a:lnTo>
                  <a:lnTo>
                    <a:pt x="2477" y="689"/>
                  </a:lnTo>
                  <a:lnTo>
                    <a:pt x="2465" y="689"/>
                  </a:lnTo>
                  <a:lnTo>
                    <a:pt x="2465" y="695"/>
                  </a:lnTo>
                  <a:lnTo>
                    <a:pt x="2460" y="695"/>
                  </a:lnTo>
                  <a:lnTo>
                    <a:pt x="2460" y="700"/>
                  </a:lnTo>
                  <a:lnTo>
                    <a:pt x="2454" y="700"/>
                  </a:lnTo>
                  <a:lnTo>
                    <a:pt x="2454" y="706"/>
                  </a:lnTo>
                  <a:lnTo>
                    <a:pt x="2442" y="706"/>
                  </a:lnTo>
                  <a:lnTo>
                    <a:pt x="2442" y="712"/>
                  </a:lnTo>
                  <a:lnTo>
                    <a:pt x="2431" y="712"/>
                  </a:lnTo>
                  <a:lnTo>
                    <a:pt x="2431" y="717"/>
                  </a:lnTo>
                  <a:lnTo>
                    <a:pt x="2420" y="717"/>
                  </a:lnTo>
                  <a:lnTo>
                    <a:pt x="2420" y="723"/>
                  </a:lnTo>
                  <a:lnTo>
                    <a:pt x="2403" y="723"/>
                  </a:lnTo>
                  <a:lnTo>
                    <a:pt x="2403" y="729"/>
                  </a:lnTo>
                  <a:lnTo>
                    <a:pt x="2391" y="729"/>
                  </a:lnTo>
                  <a:lnTo>
                    <a:pt x="2391" y="734"/>
                  </a:lnTo>
                  <a:lnTo>
                    <a:pt x="2385" y="734"/>
                  </a:lnTo>
                  <a:lnTo>
                    <a:pt x="2385" y="740"/>
                  </a:lnTo>
                  <a:lnTo>
                    <a:pt x="2374" y="740"/>
                  </a:lnTo>
                  <a:lnTo>
                    <a:pt x="2374" y="746"/>
                  </a:lnTo>
                  <a:lnTo>
                    <a:pt x="2368" y="746"/>
                  </a:lnTo>
                  <a:lnTo>
                    <a:pt x="2368" y="752"/>
                  </a:lnTo>
                  <a:lnTo>
                    <a:pt x="2363" y="752"/>
                  </a:lnTo>
                  <a:lnTo>
                    <a:pt x="2363" y="757"/>
                  </a:lnTo>
                  <a:lnTo>
                    <a:pt x="2358" y="757"/>
                  </a:lnTo>
                  <a:lnTo>
                    <a:pt x="2358" y="763"/>
                  </a:lnTo>
                  <a:lnTo>
                    <a:pt x="2351" y="763"/>
                  </a:lnTo>
                  <a:lnTo>
                    <a:pt x="2351" y="769"/>
                  </a:lnTo>
                  <a:lnTo>
                    <a:pt x="2340" y="769"/>
                  </a:lnTo>
                  <a:lnTo>
                    <a:pt x="2340" y="774"/>
                  </a:lnTo>
                  <a:lnTo>
                    <a:pt x="2334" y="774"/>
                  </a:lnTo>
                  <a:lnTo>
                    <a:pt x="2334" y="779"/>
                  </a:lnTo>
                  <a:lnTo>
                    <a:pt x="2323" y="779"/>
                  </a:lnTo>
                  <a:lnTo>
                    <a:pt x="2323" y="785"/>
                  </a:lnTo>
                  <a:lnTo>
                    <a:pt x="2317" y="785"/>
                  </a:lnTo>
                  <a:lnTo>
                    <a:pt x="2317" y="791"/>
                  </a:lnTo>
                  <a:lnTo>
                    <a:pt x="2311" y="791"/>
                  </a:lnTo>
                  <a:lnTo>
                    <a:pt x="2311" y="797"/>
                  </a:lnTo>
                  <a:lnTo>
                    <a:pt x="2306" y="797"/>
                  </a:lnTo>
                  <a:lnTo>
                    <a:pt x="2306" y="802"/>
                  </a:lnTo>
                  <a:lnTo>
                    <a:pt x="2301" y="802"/>
                  </a:lnTo>
                  <a:lnTo>
                    <a:pt x="2301" y="808"/>
                  </a:lnTo>
                  <a:lnTo>
                    <a:pt x="2289" y="808"/>
                  </a:lnTo>
                  <a:lnTo>
                    <a:pt x="2289" y="814"/>
                  </a:lnTo>
                  <a:lnTo>
                    <a:pt x="2283" y="814"/>
                  </a:lnTo>
                  <a:lnTo>
                    <a:pt x="2283" y="819"/>
                  </a:lnTo>
                  <a:lnTo>
                    <a:pt x="2272" y="819"/>
                  </a:lnTo>
                  <a:lnTo>
                    <a:pt x="2272" y="826"/>
                  </a:lnTo>
                  <a:lnTo>
                    <a:pt x="2266" y="826"/>
                  </a:lnTo>
                  <a:lnTo>
                    <a:pt x="2266" y="831"/>
                  </a:lnTo>
                  <a:lnTo>
                    <a:pt x="2261" y="831"/>
                  </a:lnTo>
                  <a:lnTo>
                    <a:pt x="2261" y="836"/>
                  </a:lnTo>
                  <a:lnTo>
                    <a:pt x="2254" y="836"/>
                  </a:lnTo>
                  <a:lnTo>
                    <a:pt x="2254" y="842"/>
                  </a:lnTo>
                  <a:lnTo>
                    <a:pt x="2249" y="842"/>
                  </a:lnTo>
                  <a:lnTo>
                    <a:pt x="2249" y="848"/>
                  </a:lnTo>
                  <a:lnTo>
                    <a:pt x="2244" y="848"/>
                  </a:lnTo>
                  <a:lnTo>
                    <a:pt x="2244" y="854"/>
                  </a:lnTo>
                  <a:lnTo>
                    <a:pt x="2238" y="854"/>
                  </a:lnTo>
                  <a:lnTo>
                    <a:pt x="2238" y="859"/>
                  </a:lnTo>
                  <a:lnTo>
                    <a:pt x="2226" y="859"/>
                  </a:lnTo>
                  <a:lnTo>
                    <a:pt x="2226" y="865"/>
                  </a:lnTo>
                  <a:lnTo>
                    <a:pt x="2221" y="865"/>
                  </a:lnTo>
                  <a:lnTo>
                    <a:pt x="2221" y="876"/>
                  </a:lnTo>
                  <a:lnTo>
                    <a:pt x="2215" y="876"/>
                  </a:lnTo>
                  <a:lnTo>
                    <a:pt x="2215" y="883"/>
                  </a:lnTo>
                  <a:lnTo>
                    <a:pt x="2209" y="883"/>
                  </a:lnTo>
                  <a:lnTo>
                    <a:pt x="2209" y="888"/>
                  </a:lnTo>
                  <a:lnTo>
                    <a:pt x="2204" y="888"/>
                  </a:lnTo>
                  <a:lnTo>
                    <a:pt x="2204" y="893"/>
                  </a:lnTo>
                  <a:lnTo>
                    <a:pt x="2197" y="893"/>
                  </a:lnTo>
                  <a:lnTo>
                    <a:pt x="2197" y="899"/>
                  </a:lnTo>
                  <a:lnTo>
                    <a:pt x="2192" y="899"/>
                  </a:lnTo>
                  <a:lnTo>
                    <a:pt x="2192" y="905"/>
                  </a:lnTo>
                  <a:lnTo>
                    <a:pt x="2187" y="905"/>
                  </a:lnTo>
                  <a:lnTo>
                    <a:pt x="2187" y="911"/>
                  </a:lnTo>
                  <a:lnTo>
                    <a:pt x="2169" y="911"/>
                  </a:lnTo>
                  <a:lnTo>
                    <a:pt x="2169" y="922"/>
                  </a:lnTo>
                  <a:lnTo>
                    <a:pt x="2164" y="922"/>
                  </a:lnTo>
                  <a:lnTo>
                    <a:pt x="2164" y="940"/>
                  </a:lnTo>
                  <a:lnTo>
                    <a:pt x="2158" y="940"/>
                  </a:lnTo>
                  <a:lnTo>
                    <a:pt x="2158" y="945"/>
                  </a:lnTo>
                  <a:lnTo>
                    <a:pt x="2152" y="945"/>
                  </a:lnTo>
                  <a:lnTo>
                    <a:pt x="2152" y="950"/>
                  </a:lnTo>
                  <a:lnTo>
                    <a:pt x="2147" y="950"/>
                  </a:lnTo>
                  <a:lnTo>
                    <a:pt x="2147" y="962"/>
                  </a:lnTo>
                  <a:lnTo>
                    <a:pt x="2140" y="962"/>
                  </a:lnTo>
                  <a:lnTo>
                    <a:pt x="2140" y="968"/>
                  </a:lnTo>
                  <a:lnTo>
                    <a:pt x="2130" y="968"/>
                  </a:lnTo>
                  <a:lnTo>
                    <a:pt x="2130" y="973"/>
                  </a:lnTo>
                  <a:lnTo>
                    <a:pt x="2118" y="973"/>
                  </a:lnTo>
                  <a:lnTo>
                    <a:pt x="2118" y="985"/>
                  </a:lnTo>
                  <a:lnTo>
                    <a:pt x="2112" y="985"/>
                  </a:lnTo>
                  <a:lnTo>
                    <a:pt x="2112" y="990"/>
                  </a:lnTo>
                  <a:lnTo>
                    <a:pt x="2101" y="990"/>
                  </a:lnTo>
                  <a:lnTo>
                    <a:pt x="2101" y="997"/>
                  </a:lnTo>
                  <a:lnTo>
                    <a:pt x="2095" y="997"/>
                  </a:lnTo>
                  <a:lnTo>
                    <a:pt x="2095" y="1002"/>
                  </a:lnTo>
                  <a:lnTo>
                    <a:pt x="2090" y="1002"/>
                  </a:lnTo>
                  <a:lnTo>
                    <a:pt x="2090" y="1007"/>
                  </a:lnTo>
                  <a:lnTo>
                    <a:pt x="2083" y="1007"/>
                  </a:lnTo>
                  <a:lnTo>
                    <a:pt x="2083" y="1013"/>
                  </a:lnTo>
                  <a:lnTo>
                    <a:pt x="2078" y="1013"/>
                  </a:lnTo>
                  <a:lnTo>
                    <a:pt x="2078" y="1019"/>
                  </a:lnTo>
                  <a:lnTo>
                    <a:pt x="2067" y="1019"/>
                  </a:lnTo>
                  <a:lnTo>
                    <a:pt x="2067" y="1024"/>
                  </a:lnTo>
                  <a:lnTo>
                    <a:pt x="2061" y="1024"/>
                  </a:lnTo>
                  <a:lnTo>
                    <a:pt x="2061" y="1030"/>
                  </a:lnTo>
                  <a:lnTo>
                    <a:pt x="2056" y="1030"/>
                  </a:lnTo>
                  <a:lnTo>
                    <a:pt x="2056" y="1036"/>
                  </a:lnTo>
                  <a:lnTo>
                    <a:pt x="2044" y="1036"/>
                  </a:lnTo>
                  <a:lnTo>
                    <a:pt x="2044" y="1042"/>
                  </a:lnTo>
                  <a:lnTo>
                    <a:pt x="2038" y="1042"/>
                  </a:lnTo>
                  <a:lnTo>
                    <a:pt x="2038" y="1047"/>
                  </a:lnTo>
                  <a:lnTo>
                    <a:pt x="2033" y="1047"/>
                  </a:lnTo>
                  <a:lnTo>
                    <a:pt x="2033" y="1053"/>
                  </a:lnTo>
                  <a:lnTo>
                    <a:pt x="2021" y="1053"/>
                  </a:lnTo>
                  <a:lnTo>
                    <a:pt x="2021" y="1059"/>
                  </a:lnTo>
                  <a:lnTo>
                    <a:pt x="2004" y="1059"/>
                  </a:lnTo>
                  <a:lnTo>
                    <a:pt x="2004" y="1064"/>
                  </a:lnTo>
                  <a:lnTo>
                    <a:pt x="1981" y="1064"/>
                  </a:lnTo>
                  <a:lnTo>
                    <a:pt x="1981" y="1070"/>
                  </a:lnTo>
                  <a:lnTo>
                    <a:pt x="1959" y="1070"/>
                  </a:lnTo>
                  <a:lnTo>
                    <a:pt x="1959" y="1076"/>
                  </a:lnTo>
                  <a:lnTo>
                    <a:pt x="1953" y="1076"/>
                  </a:lnTo>
                  <a:lnTo>
                    <a:pt x="1953" y="1081"/>
                  </a:lnTo>
                  <a:lnTo>
                    <a:pt x="1947" y="1081"/>
                  </a:lnTo>
                  <a:lnTo>
                    <a:pt x="1947" y="1087"/>
                  </a:lnTo>
                  <a:lnTo>
                    <a:pt x="1924" y="1087"/>
                  </a:lnTo>
                  <a:lnTo>
                    <a:pt x="1924" y="1093"/>
                  </a:lnTo>
                  <a:lnTo>
                    <a:pt x="1919" y="1093"/>
                  </a:lnTo>
                  <a:lnTo>
                    <a:pt x="1919" y="1099"/>
                  </a:lnTo>
                  <a:lnTo>
                    <a:pt x="1895" y="1099"/>
                  </a:lnTo>
                  <a:lnTo>
                    <a:pt x="1895" y="1104"/>
                  </a:lnTo>
                  <a:lnTo>
                    <a:pt x="1879" y="1104"/>
                  </a:lnTo>
                  <a:lnTo>
                    <a:pt x="1879" y="1110"/>
                  </a:lnTo>
                  <a:lnTo>
                    <a:pt x="1874" y="1110"/>
                  </a:lnTo>
                  <a:lnTo>
                    <a:pt x="1874" y="1116"/>
                  </a:lnTo>
                  <a:lnTo>
                    <a:pt x="1862" y="1116"/>
                  </a:lnTo>
                  <a:lnTo>
                    <a:pt x="1862" y="1121"/>
                  </a:lnTo>
                  <a:lnTo>
                    <a:pt x="1857" y="1121"/>
                  </a:lnTo>
                  <a:lnTo>
                    <a:pt x="1857" y="1127"/>
                  </a:lnTo>
                  <a:lnTo>
                    <a:pt x="1834" y="1127"/>
                  </a:lnTo>
                  <a:lnTo>
                    <a:pt x="1834" y="1133"/>
                  </a:lnTo>
                  <a:lnTo>
                    <a:pt x="1828" y="1133"/>
                  </a:lnTo>
                  <a:lnTo>
                    <a:pt x="1828" y="1138"/>
                  </a:lnTo>
                  <a:lnTo>
                    <a:pt x="1817" y="1138"/>
                  </a:lnTo>
                  <a:lnTo>
                    <a:pt x="1817" y="1144"/>
                  </a:lnTo>
                  <a:lnTo>
                    <a:pt x="1800" y="1144"/>
                  </a:lnTo>
                  <a:lnTo>
                    <a:pt x="1800" y="1150"/>
                  </a:lnTo>
                  <a:lnTo>
                    <a:pt x="1793" y="1150"/>
                  </a:lnTo>
                  <a:lnTo>
                    <a:pt x="1793" y="1156"/>
                  </a:lnTo>
                  <a:lnTo>
                    <a:pt x="1777" y="1156"/>
                  </a:lnTo>
                  <a:lnTo>
                    <a:pt x="1777" y="1161"/>
                  </a:lnTo>
                  <a:lnTo>
                    <a:pt x="1760" y="1161"/>
                  </a:lnTo>
                  <a:lnTo>
                    <a:pt x="1760" y="1167"/>
                  </a:lnTo>
                  <a:lnTo>
                    <a:pt x="1748" y="1167"/>
                  </a:lnTo>
                  <a:lnTo>
                    <a:pt x="1748" y="1173"/>
                  </a:lnTo>
                  <a:lnTo>
                    <a:pt x="1743" y="1173"/>
                  </a:lnTo>
                  <a:lnTo>
                    <a:pt x="1743" y="1178"/>
                  </a:lnTo>
                  <a:lnTo>
                    <a:pt x="1731" y="1178"/>
                  </a:lnTo>
                  <a:lnTo>
                    <a:pt x="1731" y="1183"/>
                  </a:lnTo>
                  <a:lnTo>
                    <a:pt x="1726" y="1183"/>
                  </a:lnTo>
                  <a:lnTo>
                    <a:pt x="1726" y="1190"/>
                  </a:lnTo>
                  <a:lnTo>
                    <a:pt x="1714" y="1190"/>
                  </a:lnTo>
                  <a:lnTo>
                    <a:pt x="1714" y="1195"/>
                  </a:lnTo>
                  <a:lnTo>
                    <a:pt x="1703" y="1195"/>
                  </a:lnTo>
                  <a:lnTo>
                    <a:pt x="1703" y="1201"/>
                  </a:lnTo>
                  <a:lnTo>
                    <a:pt x="1697" y="1201"/>
                  </a:lnTo>
                  <a:lnTo>
                    <a:pt x="1697" y="1206"/>
                  </a:lnTo>
                  <a:lnTo>
                    <a:pt x="1679" y="1206"/>
                  </a:lnTo>
                  <a:lnTo>
                    <a:pt x="1679" y="1212"/>
                  </a:lnTo>
                  <a:lnTo>
                    <a:pt x="1674" y="1212"/>
                  </a:lnTo>
                  <a:lnTo>
                    <a:pt x="1674" y="1218"/>
                  </a:lnTo>
                  <a:lnTo>
                    <a:pt x="1669" y="1218"/>
                  </a:lnTo>
                  <a:lnTo>
                    <a:pt x="1669" y="1223"/>
                  </a:lnTo>
                  <a:lnTo>
                    <a:pt x="1657" y="1223"/>
                  </a:lnTo>
                  <a:lnTo>
                    <a:pt x="1657" y="1230"/>
                  </a:lnTo>
                  <a:lnTo>
                    <a:pt x="1646" y="1230"/>
                  </a:lnTo>
                  <a:lnTo>
                    <a:pt x="1646" y="1235"/>
                  </a:lnTo>
                  <a:lnTo>
                    <a:pt x="1629" y="1235"/>
                  </a:lnTo>
                  <a:lnTo>
                    <a:pt x="1629" y="1240"/>
                  </a:lnTo>
                  <a:lnTo>
                    <a:pt x="1622" y="1240"/>
                  </a:lnTo>
                  <a:lnTo>
                    <a:pt x="1622" y="1246"/>
                  </a:lnTo>
                  <a:lnTo>
                    <a:pt x="1594" y="1246"/>
                  </a:lnTo>
                  <a:lnTo>
                    <a:pt x="1594" y="1252"/>
                  </a:lnTo>
                  <a:lnTo>
                    <a:pt x="1583" y="1252"/>
                  </a:lnTo>
                  <a:lnTo>
                    <a:pt x="1583" y="1258"/>
                  </a:lnTo>
                  <a:lnTo>
                    <a:pt x="1572" y="1258"/>
                  </a:lnTo>
                  <a:lnTo>
                    <a:pt x="1572" y="1263"/>
                  </a:lnTo>
                  <a:lnTo>
                    <a:pt x="1560" y="1263"/>
                  </a:lnTo>
                  <a:lnTo>
                    <a:pt x="1560" y="1269"/>
                  </a:lnTo>
                  <a:lnTo>
                    <a:pt x="1543" y="1269"/>
                  </a:lnTo>
                  <a:lnTo>
                    <a:pt x="1543" y="1275"/>
                  </a:lnTo>
                  <a:lnTo>
                    <a:pt x="1526" y="1275"/>
                  </a:lnTo>
                  <a:lnTo>
                    <a:pt x="1526" y="1280"/>
                  </a:lnTo>
                  <a:lnTo>
                    <a:pt x="1515" y="1280"/>
                  </a:lnTo>
                  <a:lnTo>
                    <a:pt x="1515" y="1287"/>
                  </a:lnTo>
                  <a:lnTo>
                    <a:pt x="1503" y="1287"/>
                  </a:lnTo>
                  <a:lnTo>
                    <a:pt x="1503" y="1292"/>
                  </a:lnTo>
                  <a:lnTo>
                    <a:pt x="1491" y="1292"/>
                  </a:lnTo>
                  <a:lnTo>
                    <a:pt x="1491" y="1297"/>
                  </a:lnTo>
                  <a:lnTo>
                    <a:pt x="1480" y="1297"/>
                  </a:lnTo>
                  <a:lnTo>
                    <a:pt x="1480" y="1303"/>
                  </a:lnTo>
                  <a:lnTo>
                    <a:pt x="1470" y="1303"/>
                  </a:lnTo>
                  <a:lnTo>
                    <a:pt x="1470" y="1309"/>
                  </a:lnTo>
                  <a:lnTo>
                    <a:pt x="1458" y="1309"/>
                  </a:lnTo>
                  <a:lnTo>
                    <a:pt x="1458" y="1315"/>
                  </a:lnTo>
                  <a:lnTo>
                    <a:pt x="1446" y="1315"/>
                  </a:lnTo>
                  <a:lnTo>
                    <a:pt x="1446" y="1320"/>
                  </a:lnTo>
                  <a:lnTo>
                    <a:pt x="1435" y="1320"/>
                  </a:lnTo>
                  <a:lnTo>
                    <a:pt x="1435" y="1326"/>
                  </a:lnTo>
                  <a:lnTo>
                    <a:pt x="1430" y="1326"/>
                  </a:lnTo>
                  <a:lnTo>
                    <a:pt x="1430" y="1332"/>
                  </a:lnTo>
                  <a:lnTo>
                    <a:pt x="1418" y="1332"/>
                  </a:lnTo>
                  <a:lnTo>
                    <a:pt x="1418" y="1337"/>
                  </a:lnTo>
                  <a:lnTo>
                    <a:pt x="1406" y="1337"/>
                  </a:lnTo>
                  <a:lnTo>
                    <a:pt x="1406" y="1344"/>
                  </a:lnTo>
                  <a:lnTo>
                    <a:pt x="1396" y="1344"/>
                  </a:lnTo>
                  <a:lnTo>
                    <a:pt x="1396" y="1349"/>
                  </a:lnTo>
                  <a:lnTo>
                    <a:pt x="1389" y="1349"/>
                  </a:lnTo>
                  <a:lnTo>
                    <a:pt x="1389" y="1354"/>
                  </a:lnTo>
                  <a:lnTo>
                    <a:pt x="1378" y="1354"/>
                  </a:lnTo>
                  <a:lnTo>
                    <a:pt x="1378" y="1360"/>
                  </a:lnTo>
                  <a:lnTo>
                    <a:pt x="1373" y="1360"/>
                  </a:lnTo>
                  <a:lnTo>
                    <a:pt x="1373" y="1366"/>
                  </a:lnTo>
                  <a:lnTo>
                    <a:pt x="1361" y="1366"/>
                  </a:lnTo>
                  <a:lnTo>
                    <a:pt x="1361" y="1372"/>
                  </a:lnTo>
                  <a:lnTo>
                    <a:pt x="1349" y="1372"/>
                  </a:lnTo>
                  <a:lnTo>
                    <a:pt x="1349" y="1377"/>
                  </a:lnTo>
                  <a:lnTo>
                    <a:pt x="1332" y="1377"/>
                  </a:lnTo>
                  <a:lnTo>
                    <a:pt x="1332" y="1383"/>
                  </a:lnTo>
                  <a:lnTo>
                    <a:pt x="1321" y="1383"/>
                  </a:lnTo>
                  <a:lnTo>
                    <a:pt x="1321" y="1389"/>
                  </a:lnTo>
                  <a:lnTo>
                    <a:pt x="1310" y="1389"/>
                  </a:lnTo>
                  <a:lnTo>
                    <a:pt x="1310" y="1394"/>
                  </a:lnTo>
                  <a:lnTo>
                    <a:pt x="1299" y="1394"/>
                  </a:lnTo>
                  <a:lnTo>
                    <a:pt x="1299" y="1401"/>
                  </a:lnTo>
                  <a:lnTo>
                    <a:pt x="1282" y="1401"/>
                  </a:lnTo>
                  <a:lnTo>
                    <a:pt x="1282" y="1406"/>
                  </a:lnTo>
                  <a:lnTo>
                    <a:pt x="1264" y="1406"/>
                  </a:lnTo>
                  <a:lnTo>
                    <a:pt x="1264" y="1411"/>
                  </a:lnTo>
                  <a:lnTo>
                    <a:pt x="1247" y="1411"/>
                  </a:lnTo>
                  <a:lnTo>
                    <a:pt x="1247" y="1417"/>
                  </a:lnTo>
                  <a:lnTo>
                    <a:pt x="1235" y="1417"/>
                  </a:lnTo>
                  <a:lnTo>
                    <a:pt x="1235" y="1423"/>
                  </a:lnTo>
                  <a:lnTo>
                    <a:pt x="1201" y="1423"/>
                  </a:lnTo>
                  <a:lnTo>
                    <a:pt x="1201" y="1428"/>
                  </a:lnTo>
                  <a:lnTo>
                    <a:pt x="1190" y="1428"/>
                  </a:lnTo>
                  <a:lnTo>
                    <a:pt x="1190" y="1434"/>
                  </a:lnTo>
                  <a:lnTo>
                    <a:pt x="1185" y="1434"/>
                  </a:lnTo>
                  <a:lnTo>
                    <a:pt x="1185" y="1440"/>
                  </a:lnTo>
                  <a:lnTo>
                    <a:pt x="1168" y="1440"/>
                  </a:lnTo>
                  <a:lnTo>
                    <a:pt x="1168" y="1446"/>
                  </a:lnTo>
                  <a:lnTo>
                    <a:pt x="1151" y="1446"/>
                  </a:lnTo>
                  <a:lnTo>
                    <a:pt x="1151" y="1451"/>
                  </a:lnTo>
                  <a:lnTo>
                    <a:pt x="1133" y="1451"/>
                  </a:lnTo>
                  <a:lnTo>
                    <a:pt x="1133" y="1457"/>
                  </a:lnTo>
                  <a:lnTo>
                    <a:pt x="1121" y="1457"/>
                  </a:lnTo>
                  <a:lnTo>
                    <a:pt x="1121" y="1463"/>
                  </a:lnTo>
                  <a:lnTo>
                    <a:pt x="1111" y="1463"/>
                  </a:lnTo>
                  <a:lnTo>
                    <a:pt x="1111" y="1468"/>
                  </a:lnTo>
                  <a:lnTo>
                    <a:pt x="1099" y="1468"/>
                  </a:lnTo>
                  <a:lnTo>
                    <a:pt x="1099" y="1474"/>
                  </a:lnTo>
                  <a:lnTo>
                    <a:pt x="1082" y="1474"/>
                  </a:lnTo>
                  <a:lnTo>
                    <a:pt x="1082" y="1480"/>
                  </a:lnTo>
                  <a:lnTo>
                    <a:pt x="1071" y="1480"/>
                  </a:lnTo>
                  <a:lnTo>
                    <a:pt x="1071" y="1485"/>
                  </a:lnTo>
                  <a:lnTo>
                    <a:pt x="1065" y="1485"/>
                  </a:lnTo>
                  <a:lnTo>
                    <a:pt x="1065" y="1491"/>
                  </a:lnTo>
                  <a:lnTo>
                    <a:pt x="1048" y="1491"/>
                  </a:lnTo>
                  <a:lnTo>
                    <a:pt x="1048" y="1497"/>
                  </a:lnTo>
                  <a:lnTo>
                    <a:pt x="1025" y="1497"/>
                  </a:lnTo>
                  <a:lnTo>
                    <a:pt x="1025" y="1503"/>
                  </a:lnTo>
                  <a:lnTo>
                    <a:pt x="1009" y="1503"/>
                  </a:lnTo>
                  <a:lnTo>
                    <a:pt x="1009" y="1508"/>
                  </a:lnTo>
                  <a:lnTo>
                    <a:pt x="991" y="1508"/>
                  </a:lnTo>
                  <a:lnTo>
                    <a:pt x="991" y="1514"/>
                  </a:lnTo>
                  <a:lnTo>
                    <a:pt x="974" y="1514"/>
                  </a:lnTo>
                  <a:lnTo>
                    <a:pt x="974" y="1520"/>
                  </a:lnTo>
                  <a:lnTo>
                    <a:pt x="957" y="1520"/>
                  </a:lnTo>
                  <a:lnTo>
                    <a:pt x="957" y="1525"/>
                  </a:lnTo>
                  <a:lnTo>
                    <a:pt x="934" y="1525"/>
                  </a:lnTo>
                  <a:lnTo>
                    <a:pt x="934" y="1532"/>
                  </a:lnTo>
                  <a:lnTo>
                    <a:pt x="895" y="1532"/>
                  </a:lnTo>
                  <a:lnTo>
                    <a:pt x="895" y="1537"/>
                  </a:lnTo>
                  <a:lnTo>
                    <a:pt x="871" y="1537"/>
                  </a:lnTo>
                  <a:lnTo>
                    <a:pt x="871" y="1542"/>
                  </a:lnTo>
                  <a:lnTo>
                    <a:pt x="848" y="1542"/>
                  </a:lnTo>
                  <a:lnTo>
                    <a:pt x="848" y="1548"/>
                  </a:lnTo>
                  <a:lnTo>
                    <a:pt x="814" y="1548"/>
                  </a:lnTo>
                  <a:lnTo>
                    <a:pt x="814" y="1554"/>
                  </a:lnTo>
                  <a:lnTo>
                    <a:pt x="786" y="1554"/>
                  </a:lnTo>
                  <a:lnTo>
                    <a:pt x="786" y="1560"/>
                  </a:lnTo>
                  <a:lnTo>
                    <a:pt x="764" y="1560"/>
                  </a:lnTo>
                  <a:lnTo>
                    <a:pt x="764" y="1565"/>
                  </a:lnTo>
                  <a:lnTo>
                    <a:pt x="735" y="1565"/>
                  </a:lnTo>
                  <a:lnTo>
                    <a:pt x="735" y="1571"/>
                  </a:lnTo>
                  <a:lnTo>
                    <a:pt x="717" y="1571"/>
                  </a:lnTo>
                  <a:lnTo>
                    <a:pt x="717" y="1577"/>
                  </a:lnTo>
                  <a:lnTo>
                    <a:pt x="707" y="1577"/>
                  </a:lnTo>
                  <a:lnTo>
                    <a:pt x="707" y="1582"/>
                  </a:lnTo>
                  <a:lnTo>
                    <a:pt x="683" y="1582"/>
                  </a:lnTo>
                  <a:lnTo>
                    <a:pt x="683" y="1589"/>
                  </a:lnTo>
                  <a:lnTo>
                    <a:pt x="655" y="1589"/>
                  </a:lnTo>
                  <a:lnTo>
                    <a:pt x="655" y="1594"/>
                  </a:lnTo>
                  <a:lnTo>
                    <a:pt x="627" y="1594"/>
                  </a:lnTo>
                  <a:lnTo>
                    <a:pt x="627" y="1599"/>
                  </a:lnTo>
                  <a:lnTo>
                    <a:pt x="610" y="1599"/>
                  </a:lnTo>
                  <a:lnTo>
                    <a:pt x="610" y="1605"/>
                  </a:lnTo>
                  <a:lnTo>
                    <a:pt x="581" y="1605"/>
                  </a:lnTo>
                  <a:lnTo>
                    <a:pt x="581" y="1610"/>
                  </a:lnTo>
                  <a:lnTo>
                    <a:pt x="553" y="1610"/>
                  </a:lnTo>
                  <a:lnTo>
                    <a:pt x="553" y="1617"/>
                  </a:lnTo>
                  <a:lnTo>
                    <a:pt x="524" y="1617"/>
                  </a:lnTo>
                  <a:lnTo>
                    <a:pt x="524" y="1622"/>
                  </a:lnTo>
                  <a:lnTo>
                    <a:pt x="484" y="1622"/>
                  </a:lnTo>
                  <a:lnTo>
                    <a:pt x="484" y="1627"/>
                  </a:lnTo>
                  <a:lnTo>
                    <a:pt x="467" y="1627"/>
                  </a:lnTo>
                  <a:lnTo>
                    <a:pt x="467" y="1634"/>
                  </a:lnTo>
                  <a:lnTo>
                    <a:pt x="439" y="1634"/>
                  </a:lnTo>
                  <a:lnTo>
                    <a:pt x="439" y="1639"/>
                  </a:lnTo>
                  <a:lnTo>
                    <a:pt x="434" y="1639"/>
                  </a:lnTo>
                  <a:lnTo>
                    <a:pt x="434" y="1701"/>
                  </a:lnTo>
                  <a:lnTo>
                    <a:pt x="416" y="1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6393240" y="1390680"/>
              <a:ext cx="1454400" cy="846720"/>
            </a:xfrm>
            <a:custGeom>
              <a:avLst/>
              <a:gdLst/>
              <a:ahLst/>
              <a:rect l="l" t="t" r="r" b="b"/>
              <a:pathLst>
                <a:path w="2641" h="1549">
                  <a:moveTo>
                    <a:pt x="375" y="1549"/>
                  </a:moveTo>
                  <a:lnTo>
                    <a:pt x="375" y="1543"/>
                  </a:lnTo>
                  <a:lnTo>
                    <a:pt x="370" y="1543"/>
                  </a:lnTo>
                  <a:lnTo>
                    <a:pt x="370" y="1532"/>
                  </a:lnTo>
                  <a:lnTo>
                    <a:pt x="365" y="1532"/>
                  </a:lnTo>
                  <a:lnTo>
                    <a:pt x="365" y="1526"/>
                  </a:lnTo>
                  <a:lnTo>
                    <a:pt x="358" y="1526"/>
                  </a:lnTo>
                  <a:lnTo>
                    <a:pt x="358" y="1509"/>
                  </a:lnTo>
                  <a:lnTo>
                    <a:pt x="353" y="1509"/>
                  </a:lnTo>
                  <a:lnTo>
                    <a:pt x="353" y="1504"/>
                  </a:lnTo>
                  <a:lnTo>
                    <a:pt x="347" y="1504"/>
                  </a:lnTo>
                  <a:lnTo>
                    <a:pt x="347" y="1492"/>
                  </a:lnTo>
                  <a:lnTo>
                    <a:pt x="341" y="1492"/>
                  </a:lnTo>
                  <a:lnTo>
                    <a:pt x="341" y="1480"/>
                  </a:lnTo>
                  <a:lnTo>
                    <a:pt x="336" y="1480"/>
                  </a:lnTo>
                  <a:lnTo>
                    <a:pt x="336" y="1463"/>
                  </a:lnTo>
                  <a:lnTo>
                    <a:pt x="330" y="1463"/>
                  </a:lnTo>
                  <a:lnTo>
                    <a:pt x="330" y="1440"/>
                  </a:lnTo>
                  <a:lnTo>
                    <a:pt x="324" y="1440"/>
                  </a:lnTo>
                  <a:lnTo>
                    <a:pt x="324" y="1423"/>
                  </a:lnTo>
                  <a:lnTo>
                    <a:pt x="318" y="1423"/>
                  </a:lnTo>
                  <a:lnTo>
                    <a:pt x="318" y="1406"/>
                  </a:lnTo>
                  <a:lnTo>
                    <a:pt x="313" y="1406"/>
                  </a:lnTo>
                  <a:lnTo>
                    <a:pt x="313" y="1373"/>
                  </a:lnTo>
                  <a:lnTo>
                    <a:pt x="308" y="1373"/>
                  </a:lnTo>
                  <a:lnTo>
                    <a:pt x="308" y="1344"/>
                  </a:lnTo>
                  <a:lnTo>
                    <a:pt x="301" y="1344"/>
                  </a:lnTo>
                  <a:lnTo>
                    <a:pt x="301" y="1332"/>
                  </a:lnTo>
                  <a:lnTo>
                    <a:pt x="296" y="1332"/>
                  </a:lnTo>
                  <a:lnTo>
                    <a:pt x="296" y="1309"/>
                  </a:lnTo>
                  <a:lnTo>
                    <a:pt x="290" y="1309"/>
                  </a:lnTo>
                  <a:lnTo>
                    <a:pt x="290" y="1292"/>
                  </a:lnTo>
                  <a:lnTo>
                    <a:pt x="284" y="1292"/>
                  </a:lnTo>
                  <a:lnTo>
                    <a:pt x="284" y="1275"/>
                  </a:lnTo>
                  <a:lnTo>
                    <a:pt x="279" y="1275"/>
                  </a:lnTo>
                  <a:lnTo>
                    <a:pt x="279" y="1259"/>
                  </a:lnTo>
                  <a:lnTo>
                    <a:pt x="273" y="1259"/>
                  </a:lnTo>
                  <a:lnTo>
                    <a:pt x="273" y="1241"/>
                  </a:lnTo>
                  <a:lnTo>
                    <a:pt x="267" y="1241"/>
                  </a:lnTo>
                  <a:lnTo>
                    <a:pt x="267" y="1230"/>
                  </a:lnTo>
                  <a:lnTo>
                    <a:pt x="261" y="1230"/>
                  </a:lnTo>
                  <a:lnTo>
                    <a:pt x="261" y="1218"/>
                  </a:lnTo>
                  <a:lnTo>
                    <a:pt x="256" y="1218"/>
                  </a:lnTo>
                  <a:lnTo>
                    <a:pt x="256" y="1207"/>
                  </a:lnTo>
                  <a:lnTo>
                    <a:pt x="250" y="1207"/>
                  </a:lnTo>
                  <a:lnTo>
                    <a:pt x="250" y="1167"/>
                  </a:lnTo>
                  <a:lnTo>
                    <a:pt x="244" y="1167"/>
                  </a:lnTo>
                  <a:lnTo>
                    <a:pt x="244" y="1145"/>
                  </a:lnTo>
                  <a:lnTo>
                    <a:pt x="239" y="1145"/>
                  </a:lnTo>
                  <a:lnTo>
                    <a:pt x="239" y="1122"/>
                  </a:lnTo>
                  <a:lnTo>
                    <a:pt x="233" y="1122"/>
                  </a:lnTo>
                  <a:lnTo>
                    <a:pt x="233" y="1105"/>
                  </a:lnTo>
                  <a:lnTo>
                    <a:pt x="227" y="1105"/>
                  </a:lnTo>
                  <a:lnTo>
                    <a:pt x="227" y="1093"/>
                  </a:lnTo>
                  <a:lnTo>
                    <a:pt x="222" y="1093"/>
                  </a:lnTo>
                  <a:lnTo>
                    <a:pt x="222" y="1082"/>
                  </a:lnTo>
                  <a:lnTo>
                    <a:pt x="216" y="1082"/>
                  </a:lnTo>
                  <a:lnTo>
                    <a:pt x="216" y="1076"/>
                  </a:lnTo>
                  <a:lnTo>
                    <a:pt x="210" y="1076"/>
                  </a:lnTo>
                  <a:lnTo>
                    <a:pt x="210" y="1065"/>
                  </a:lnTo>
                  <a:lnTo>
                    <a:pt x="204" y="1065"/>
                  </a:lnTo>
                  <a:lnTo>
                    <a:pt x="204" y="1053"/>
                  </a:lnTo>
                  <a:lnTo>
                    <a:pt x="199" y="1053"/>
                  </a:lnTo>
                  <a:lnTo>
                    <a:pt x="199" y="1042"/>
                  </a:lnTo>
                  <a:lnTo>
                    <a:pt x="193" y="1042"/>
                  </a:lnTo>
                  <a:lnTo>
                    <a:pt x="193" y="1036"/>
                  </a:lnTo>
                  <a:lnTo>
                    <a:pt x="187" y="1036"/>
                  </a:lnTo>
                  <a:lnTo>
                    <a:pt x="187" y="1019"/>
                  </a:lnTo>
                  <a:lnTo>
                    <a:pt x="182" y="1019"/>
                  </a:lnTo>
                  <a:lnTo>
                    <a:pt x="182" y="1002"/>
                  </a:lnTo>
                  <a:lnTo>
                    <a:pt x="177" y="1002"/>
                  </a:lnTo>
                  <a:lnTo>
                    <a:pt x="177" y="985"/>
                  </a:lnTo>
                  <a:lnTo>
                    <a:pt x="171" y="985"/>
                  </a:lnTo>
                  <a:lnTo>
                    <a:pt x="171" y="974"/>
                  </a:lnTo>
                  <a:lnTo>
                    <a:pt x="165" y="974"/>
                  </a:lnTo>
                  <a:lnTo>
                    <a:pt x="165" y="962"/>
                  </a:lnTo>
                  <a:lnTo>
                    <a:pt x="159" y="962"/>
                  </a:lnTo>
                  <a:lnTo>
                    <a:pt x="159" y="951"/>
                  </a:lnTo>
                  <a:lnTo>
                    <a:pt x="154" y="951"/>
                  </a:lnTo>
                  <a:lnTo>
                    <a:pt x="154" y="945"/>
                  </a:lnTo>
                  <a:lnTo>
                    <a:pt x="147" y="945"/>
                  </a:lnTo>
                  <a:lnTo>
                    <a:pt x="147" y="940"/>
                  </a:lnTo>
                  <a:lnTo>
                    <a:pt x="142" y="940"/>
                  </a:lnTo>
                  <a:lnTo>
                    <a:pt x="142" y="922"/>
                  </a:lnTo>
                  <a:lnTo>
                    <a:pt x="137" y="922"/>
                  </a:lnTo>
                  <a:lnTo>
                    <a:pt x="137" y="912"/>
                  </a:lnTo>
                  <a:lnTo>
                    <a:pt x="131" y="912"/>
                  </a:lnTo>
                  <a:lnTo>
                    <a:pt x="131" y="900"/>
                  </a:lnTo>
                  <a:lnTo>
                    <a:pt x="125" y="900"/>
                  </a:lnTo>
                  <a:lnTo>
                    <a:pt x="125" y="894"/>
                  </a:lnTo>
                  <a:lnTo>
                    <a:pt x="120" y="894"/>
                  </a:lnTo>
                  <a:lnTo>
                    <a:pt x="120" y="883"/>
                  </a:lnTo>
                  <a:lnTo>
                    <a:pt x="114" y="883"/>
                  </a:lnTo>
                  <a:lnTo>
                    <a:pt x="114" y="877"/>
                  </a:lnTo>
                  <a:lnTo>
                    <a:pt x="108" y="877"/>
                  </a:lnTo>
                  <a:lnTo>
                    <a:pt x="108" y="865"/>
                  </a:lnTo>
                  <a:lnTo>
                    <a:pt x="102" y="865"/>
                  </a:lnTo>
                  <a:lnTo>
                    <a:pt x="102" y="855"/>
                  </a:lnTo>
                  <a:lnTo>
                    <a:pt x="97" y="855"/>
                  </a:lnTo>
                  <a:lnTo>
                    <a:pt x="97" y="843"/>
                  </a:lnTo>
                  <a:lnTo>
                    <a:pt x="91" y="843"/>
                  </a:lnTo>
                  <a:lnTo>
                    <a:pt x="91" y="826"/>
                  </a:lnTo>
                  <a:lnTo>
                    <a:pt x="85" y="826"/>
                  </a:lnTo>
                  <a:lnTo>
                    <a:pt x="85" y="814"/>
                  </a:lnTo>
                  <a:lnTo>
                    <a:pt x="80" y="814"/>
                  </a:lnTo>
                  <a:lnTo>
                    <a:pt x="80" y="803"/>
                  </a:lnTo>
                  <a:lnTo>
                    <a:pt x="74" y="803"/>
                  </a:lnTo>
                  <a:lnTo>
                    <a:pt x="74" y="786"/>
                  </a:lnTo>
                  <a:lnTo>
                    <a:pt x="68" y="786"/>
                  </a:lnTo>
                  <a:lnTo>
                    <a:pt x="68" y="769"/>
                  </a:lnTo>
                  <a:lnTo>
                    <a:pt x="63" y="769"/>
                  </a:lnTo>
                  <a:lnTo>
                    <a:pt x="63" y="751"/>
                  </a:lnTo>
                  <a:lnTo>
                    <a:pt x="57" y="751"/>
                  </a:lnTo>
                  <a:lnTo>
                    <a:pt x="57" y="746"/>
                  </a:lnTo>
                  <a:lnTo>
                    <a:pt x="51" y="746"/>
                  </a:lnTo>
                  <a:lnTo>
                    <a:pt x="51" y="729"/>
                  </a:lnTo>
                  <a:lnTo>
                    <a:pt x="45" y="729"/>
                  </a:lnTo>
                  <a:lnTo>
                    <a:pt x="45" y="724"/>
                  </a:lnTo>
                  <a:lnTo>
                    <a:pt x="40" y="724"/>
                  </a:lnTo>
                  <a:lnTo>
                    <a:pt x="40" y="712"/>
                  </a:lnTo>
                  <a:lnTo>
                    <a:pt x="34" y="712"/>
                  </a:lnTo>
                  <a:lnTo>
                    <a:pt x="34" y="706"/>
                  </a:lnTo>
                  <a:lnTo>
                    <a:pt x="28" y="706"/>
                  </a:lnTo>
                  <a:lnTo>
                    <a:pt x="28" y="695"/>
                  </a:lnTo>
                  <a:lnTo>
                    <a:pt x="23" y="695"/>
                  </a:lnTo>
                  <a:lnTo>
                    <a:pt x="23" y="672"/>
                  </a:lnTo>
                  <a:lnTo>
                    <a:pt x="16" y="672"/>
                  </a:lnTo>
                  <a:lnTo>
                    <a:pt x="16" y="649"/>
                  </a:lnTo>
                  <a:lnTo>
                    <a:pt x="11" y="649"/>
                  </a:lnTo>
                  <a:lnTo>
                    <a:pt x="11" y="632"/>
                  </a:lnTo>
                  <a:lnTo>
                    <a:pt x="16" y="632"/>
                  </a:lnTo>
                  <a:lnTo>
                    <a:pt x="16" y="581"/>
                  </a:lnTo>
                  <a:lnTo>
                    <a:pt x="11" y="581"/>
                  </a:lnTo>
                  <a:lnTo>
                    <a:pt x="11" y="541"/>
                  </a:lnTo>
                  <a:lnTo>
                    <a:pt x="6" y="541"/>
                  </a:lnTo>
                  <a:lnTo>
                    <a:pt x="6" y="518"/>
                  </a:lnTo>
                  <a:lnTo>
                    <a:pt x="0" y="518"/>
                  </a:lnTo>
                  <a:lnTo>
                    <a:pt x="0" y="479"/>
                  </a:lnTo>
                  <a:lnTo>
                    <a:pt x="6" y="479"/>
                  </a:lnTo>
                  <a:lnTo>
                    <a:pt x="6" y="433"/>
                  </a:lnTo>
                  <a:lnTo>
                    <a:pt x="11" y="433"/>
                  </a:lnTo>
                  <a:lnTo>
                    <a:pt x="11" y="325"/>
                  </a:lnTo>
                  <a:lnTo>
                    <a:pt x="16" y="325"/>
                  </a:lnTo>
                  <a:lnTo>
                    <a:pt x="16" y="228"/>
                  </a:lnTo>
                  <a:lnTo>
                    <a:pt x="23" y="228"/>
                  </a:lnTo>
                  <a:lnTo>
                    <a:pt x="23" y="211"/>
                  </a:lnTo>
                  <a:lnTo>
                    <a:pt x="16" y="211"/>
                  </a:lnTo>
                  <a:lnTo>
                    <a:pt x="16" y="194"/>
                  </a:lnTo>
                  <a:lnTo>
                    <a:pt x="23" y="194"/>
                  </a:lnTo>
                  <a:lnTo>
                    <a:pt x="23" y="177"/>
                  </a:lnTo>
                  <a:lnTo>
                    <a:pt x="28" y="177"/>
                  </a:lnTo>
                  <a:lnTo>
                    <a:pt x="28" y="160"/>
                  </a:lnTo>
                  <a:lnTo>
                    <a:pt x="34" y="160"/>
                  </a:lnTo>
                  <a:lnTo>
                    <a:pt x="34" y="137"/>
                  </a:lnTo>
                  <a:lnTo>
                    <a:pt x="40" y="137"/>
                  </a:lnTo>
                  <a:lnTo>
                    <a:pt x="40" y="120"/>
                  </a:lnTo>
                  <a:lnTo>
                    <a:pt x="45" y="120"/>
                  </a:lnTo>
                  <a:lnTo>
                    <a:pt x="45" y="109"/>
                  </a:lnTo>
                  <a:lnTo>
                    <a:pt x="51" y="109"/>
                  </a:lnTo>
                  <a:lnTo>
                    <a:pt x="51" y="97"/>
                  </a:lnTo>
                  <a:lnTo>
                    <a:pt x="57" y="97"/>
                  </a:lnTo>
                  <a:lnTo>
                    <a:pt x="57" y="92"/>
                  </a:lnTo>
                  <a:lnTo>
                    <a:pt x="63" y="92"/>
                  </a:lnTo>
                  <a:lnTo>
                    <a:pt x="63" y="86"/>
                  </a:lnTo>
                  <a:lnTo>
                    <a:pt x="68" y="86"/>
                  </a:lnTo>
                  <a:lnTo>
                    <a:pt x="68" y="80"/>
                  </a:lnTo>
                  <a:lnTo>
                    <a:pt x="74" y="80"/>
                  </a:lnTo>
                  <a:lnTo>
                    <a:pt x="74" y="75"/>
                  </a:lnTo>
                  <a:lnTo>
                    <a:pt x="85" y="75"/>
                  </a:lnTo>
                  <a:lnTo>
                    <a:pt x="85" y="69"/>
                  </a:lnTo>
                  <a:lnTo>
                    <a:pt x="137" y="69"/>
                  </a:lnTo>
                  <a:lnTo>
                    <a:pt x="137" y="75"/>
                  </a:lnTo>
                  <a:lnTo>
                    <a:pt x="177" y="75"/>
                  </a:lnTo>
                  <a:lnTo>
                    <a:pt x="177" y="80"/>
                  </a:lnTo>
                  <a:lnTo>
                    <a:pt x="261" y="80"/>
                  </a:lnTo>
                  <a:lnTo>
                    <a:pt x="261" y="75"/>
                  </a:lnTo>
                  <a:lnTo>
                    <a:pt x="296" y="75"/>
                  </a:lnTo>
                  <a:lnTo>
                    <a:pt x="296" y="69"/>
                  </a:lnTo>
                  <a:lnTo>
                    <a:pt x="313" y="69"/>
                  </a:lnTo>
                  <a:lnTo>
                    <a:pt x="313" y="75"/>
                  </a:lnTo>
                  <a:lnTo>
                    <a:pt x="422" y="75"/>
                  </a:lnTo>
                  <a:lnTo>
                    <a:pt x="422" y="69"/>
                  </a:lnTo>
                  <a:lnTo>
                    <a:pt x="438" y="69"/>
                  </a:lnTo>
                  <a:lnTo>
                    <a:pt x="438" y="75"/>
                  </a:lnTo>
                  <a:lnTo>
                    <a:pt x="591" y="75"/>
                  </a:lnTo>
                  <a:lnTo>
                    <a:pt x="591" y="80"/>
                  </a:lnTo>
                  <a:lnTo>
                    <a:pt x="638" y="80"/>
                  </a:lnTo>
                  <a:lnTo>
                    <a:pt x="638" y="86"/>
                  </a:lnTo>
                  <a:lnTo>
                    <a:pt x="717" y="86"/>
                  </a:lnTo>
                  <a:lnTo>
                    <a:pt x="717" y="80"/>
                  </a:lnTo>
                  <a:lnTo>
                    <a:pt x="734" y="80"/>
                  </a:lnTo>
                  <a:lnTo>
                    <a:pt x="734" y="86"/>
                  </a:lnTo>
                  <a:lnTo>
                    <a:pt x="752" y="86"/>
                  </a:lnTo>
                  <a:lnTo>
                    <a:pt x="752" y="92"/>
                  </a:lnTo>
                  <a:lnTo>
                    <a:pt x="779" y="92"/>
                  </a:lnTo>
                  <a:lnTo>
                    <a:pt x="779" y="86"/>
                  </a:lnTo>
                  <a:lnTo>
                    <a:pt x="819" y="86"/>
                  </a:lnTo>
                  <a:lnTo>
                    <a:pt x="819" y="92"/>
                  </a:lnTo>
                  <a:lnTo>
                    <a:pt x="836" y="92"/>
                  </a:lnTo>
                  <a:lnTo>
                    <a:pt x="836" y="86"/>
                  </a:lnTo>
                  <a:lnTo>
                    <a:pt x="911" y="86"/>
                  </a:lnTo>
                  <a:lnTo>
                    <a:pt x="911" y="80"/>
                  </a:lnTo>
                  <a:lnTo>
                    <a:pt x="985" y="80"/>
                  </a:lnTo>
                  <a:lnTo>
                    <a:pt x="985" y="75"/>
                  </a:lnTo>
                  <a:lnTo>
                    <a:pt x="1070" y="75"/>
                  </a:lnTo>
                  <a:lnTo>
                    <a:pt x="1070" y="69"/>
                  </a:lnTo>
                  <a:lnTo>
                    <a:pt x="1092" y="69"/>
                  </a:lnTo>
                  <a:lnTo>
                    <a:pt x="1092" y="63"/>
                  </a:lnTo>
                  <a:lnTo>
                    <a:pt x="1132" y="63"/>
                  </a:lnTo>
                  <a:lnTo>
                    <a:pt x="1132" y="57"/>
                  </a:lnTo>
                  <a:lnTo>
                    <a:pt x="1178" y="57"/>
                  </a:lnTo>
                  <a:lnTo>
                    <a:pt x="1178" y="52"/>
                  </a:lnTo>
                  <a:lnTo>
                    <a:pt x="1263" y="52"/>
                  </a:lnTo>
                  <a:lnTo>
                    <a:pt x="1263" y="46"/>
                  </a:lnTo>
                  <a:lnTo>
                    <a:pt x="1411" y="46"/>
                  </a:lnTo>
                  <a:lnTo>
                    <a:pt x="1411" y="40"/>
                  </a:lnTo>
                  <a:lnTo>
                    <a:pt x="1446" y="40"/>
                  </a:lnTo>
                  <a:lnTo>
                    <a:pt x="1446" y="35"/>
                  </a:lnTo>
                  <a:lnTo>
                    <a:pt x="1491" y="35"/>
                  </a:lnTo>
                  <a:lnTo>
                    <a:pt x="1491" y="29"/>
                  </a:lnTo>
                  <a:lnTo>
                    <a:pt x="1548" y="29"/>
                  </a:lnTo>
                  <a:lnTo>
                    <a:pt x="1548" y="23"/>
                  </a:lnTo>
                  <a:lnTo>
                    <a:pt x="1588" y="23"/>
                  </a:lnTo>
                  <a:lnTo>
                    <a:pt x="1588" y="18"/>
                  </a:lnTo>
                  <a:lnTo>
                    <a:pt x="1634" y="18"/>
                  </a:lnTo>
                  <a:lnTo>
                    <a:pt x="1634" y="12"/>
                  </a:lnTo>
                  <a:lnTo>
                    <a:pt x="1702" y="12"/>
                  </a:lnTo>
                  <a:lnTo>
                    <a:pt x="1702" y="6"/>
                  </a:lnTo>
                  <a:lnTo>
                    <a:pt x="1736" y="6"/>
                  </a:lnTo>
                  <a:lnTo>
                    <a:pt x="1736" y="12"/>
                  </a:lnTo>
                  <a:lnTo>
                    <a:pt x="1821" y="12"/>
                  </a:lnTo>
                  <a:lnTo>
                    <a:pt x="1821" y="6"/>
                  </a:lnTo>
                  <a:lnTo>
                    <a:pt x="1912" y="6"/>
                  </a:lnTo>
                  <a:lnTo>
                    <a:pt x="1912" y="0"/>
                  </a:lnTo>
                  <a:lnTo>
                    <a:pt x="1992" y="0"/>
                  </a:lnTo>
                  <a:lnTo>
                    <a:pt x="1992" y="6"/>
                  </a:lnTo>
                  <a:lnTo>
                    <a:pt x="2089" y="6"/>
                  </a:lnTo>
                  <a:lnTo>
                    <a:pt x="2089" y="12"/>
                  </a:lnTo>
                  <a:lnTo>
                    <a:pt x="2140" y="12"/>
                  </a:lnTo>
                  <a:lnTo>
                    <a:pt x="2140" y="18"/>
                  </a:lnTo>
                  <a:lnTo>
                    <a:pt x="2169" y="18"/>
                  </a:lnTo>
                  <a:lnTo>
                    <a:pt x="2169" y="23"/>
                  </a:lnTo>
                  <a:lnTo>
                    <a:pt x="2203" y="23"/>
                  </a:lnTo>
                  <a:lnTo>
                    <a:pt x="2203" y="29"/>
                  </a:lnTo>
                  <a:lnTo>
                    <a:pt x="2214" y="29"/>
                  </a:lnTo>
                  <a:lnTo>
                    <a:pt x="2214" y="35"/>
                  </a:lnTo>
                  <a:lnTo>
                    <a:pt x="2225" y="35"/>
                  </a:lnTo>
                  <a:lnTo>
                    <a:pt x="2225" y="40"/>
                  </a:lnTo>
                  <a:lnTo>
                    <a:pt x="2232" y="40"/>
                  </a:lnTo>
                  <a:lnTo>
                    <a:pt x="2232" y="46"/>
                  </a:lnTo>
                  <a:lnTo>
                    <a:pt x="2237" y="46"/>
                  </a:lnTo>
                  <a:lnTo>
                    <a:pt x="2237" y="52"/>
                  </a:lnTo>
                  <a:lnTo>
                    <a:pt x="2242" y="52"/>
                  </a:lnTo>
                  <a:lnTo>
                    <a:pt x="2242" y="57"/>
                  </a:lnTo>
                  <a:lnTo>
                    <a:pt x="2248" y="57"/>
                  </a:lnTo>
                  <a:lnTo>
                    <a:pt x="2248" y="63"/>
                  </a:lnTo>
                  <a:lnTo>
                    <a:pt x="2254" y="63"/>
                  </a:lnTo>
                  <a:lnTo>
                    <a:pt x="2254" y="69"/>
                  </a:lnTo>
                  <a:lnTo>
                    <a:pt x="2260" y="69"/>
                  </a:lnTo>
                  <a:lnTo>
                    <a:pt x="2260" y="75"/>
                  </a:lnTo>
                  <a:lnTo>
                    <a:pt x="2265" y="75"/>
                  </a:lnTo>
                  <a:lnTo>
                    <a:pt x="2265" y="80"/>
                  </a:lnTo>
                  <a:lnTo>
                    <a:pt x="2271" y="80"/>
                  </a:lnTo>
                  <a:lnTo>
                    <a:pt x="2271" y="86"/>
                  </a:lnTo>
                  <a:lnTo>
                    <a:pt x="2277" y="86"/>
                  </a:lnTo>
                  <a:lnTo>
                    <a:pt x="2277" y="92"/>
                  </a:lnTo>
                  <a:lnTo>
                    <a:pt x="2282" y="92"/>
                  </a:lnTo>
                  <a:lnTo>
                    <a:pt x="2282" y="97"/>
                  </a:lnTo>
                  <a:lnTo>
                    <a:pt x="2294" y="97"/>
                  </a:lnTo>
                  <a:lnTo>
                    <a:pt x="2294" y="102"/>
                  </a:lnTo>
                  <a:lnTo>
                    <a:pt x="2305" y="102"/>
                  </a:lnTo>
                  <a:lnTo>
                    <a:pt x="2305" y="109"/>
                  </a:lnTo>
                  <a:lnTo>
                    <a:pt x="2311" y="109"/>
                  </a:lnTo>
                  <a:lnTo>
                    <a:pt x="2311" y="114"/>
                  </a:lnTo>
                  <a:lnTo>
                    <a:pt x="2334" y="114"/>
                  </a:lnTo>
                  <a:lnTo>
                    <a:pt x="2334" y="131"/>
                  </a:lnTo>
                  <a:lnTo>
                    <a:pt x="2339" y="131"/>
                  </a:lnTo>
                  <a:lnTo>
                    <a:pt x="2339" y="137"/>
                  </a:lnTo>
                  <a:lnTo>
                    <a:pt x="2351" y="137"/>
                  </a:lnTo>
                  <a:lnTo>
                    <a:pt x="2351" y="143"/>
                  </a:lnTo>
                  <a:lnTo>
                    <a:pt x="2356" y="143"/>
                  </a:lnTo>
                  <a:lnTo>
                    <a:pt x="2356" y="149"/>
                  </a:lnTo>
                  <a:lnTo>
                    <a:pt x="2362" y="149"/>
                  </a:lnTo>
                  <a:lnTo>
                    <a:pt x="2362" y="154"/>
                  </a:lnTo>
                  <a:lnTo>
                    <a:pt x="2373" y="154"/>
                  </a:lnTo>
                  <a:lnTo>
                    <a:pt x="2373" y="160"/>
                  </a:lnTo>
                  <a:lnTo>
                    <a:pt x="2385" y="160"/>
                  </a:lnTo>
                  <a:lnTo>
                    <a:pt x="2385" y="166"/>
                  </a:lnTo>
                  <a:lnTo>
                    <a:pt x="2391" y="166"/>
                  </a:lnTo>
                  <a:lnTo>
                    <a:pt x="2391" y="171"/>
                  </a:lnTo>
                  <a:lnTo>
                    <a:pt x="2402" y="171"/>
                  </a:lnTo>
                  <a:lnTo>
                    <a:pt x="2402" y="177"/>
                  </a:lnTo>
                  <a:lnTo>
                    <a:pt x="2408" y="177"/>
                  </a:lnTo>
                  <a:lnTo>
                    <a:pt x="2408" y="183"/>
                  </a:lnTo>
                  <a:lnTo>
                    <a:pt x="2413" y="183"/>
                  </a:lnTo>
                  <a:lnTo>
                    <a:pt x="2413" y="188"/>
                  </a:lnTo>
                  <a:lnTo>
                    <a:pt x="2425" y="188"/>
                  </a:lnTo>
                  <a:lnTo>
                    <a:pt x="2425" y="194"/>
                  </a:lnTo>
                  <a:lnTo>
                    <a:pt x="2430" y="194"/>
                  </a:lnTo>
                  <a:lnTo>
                    <a:pt x="2430" y="200"/>
                  </a:lnTo>
                  <a:lnTo>
                    <a:pt x="2442" y="200"/>
                  </a:lnTo>
                  <a:lnTo>
                    <a:pt x="2442" y="206"/>
                  </a:lnTo>
                  <a:lnTo>
                    <a:pt x="2448" y="206"/>
                  </a:lnTo>
                  <a:lnTo>
                    <a:pt x="2448" y="211"/>
                  </a:lnTo>
                  <a:lnTo>
                    <a:pt x="2453" y="211"/>
                  </a:lnTo>
                  <a:lnTo>
                    <a:pt x="2453" y="217"/>
                  </a:lnTo>
                  <a:lnTo>
                    <a:pt x="2459" y="217"/>
                  </a:lnTo>
                  <a:lnTo>
                    <a:pt x="2459" y="223"/>
                  </a:lnTo>
                  <a:lnTo>
                    <a:pt x="2465" y="223"/>
                  </a:lnTo>
                  <a:lnTo>
                    <a:pt x="2465" y="228"/>
                  </a:lnTo>
                  <a:lnTo>
                    <a:pt x="2470" y="228"/>
                  </a:lnTo>
                  <a:lnTo>
                    <a:pt x="2470" y="234"/>
                  </a:lnTo>
                  <a:lnTo>
                    <a:pt x="2476" y="234"/>
                  </a:lnTo>
                  <a:lnTo>
                    <a:pt x="2476" y="240"/>
                  </a:lnTo>
                  <a:lnTo>
                    <a:pt x="2482" y="240"/>
                  </a:lnTo>
                  <a:lnTo>
                    <a:pt x="2482" y="245"/>
                  </a:lnTo>
                  <a:lnTo>
                    <a:pt x="2487" y="245"/>
                  </a:lnTo>
                  <a:lnTo>
                    <a:pt x="2487" y="251"/>
                  </a:lnTo>
                  <a:lnTo>
                    <a:pt x="2493" y="251"/>
                  </a:lnTo>
                  <a:lnTo>
                    <a:pt x="2493" y="257"/>
                  </a:lnTo>
                  <a:lnTo>
                    <a:pt x="2499" y="257"/>
                  </a:lnTo>
                  <a:lnTo>
                    <a:pt x="2499" y="263"/>
                  </a:lnTo>
                  <a:lnTo>
                    <a:pt x="2505" y="263"/>
                  </a:lnTo>
                  <a:lnTo>
                    <a:pt x="2505" y="268"/>
                  </a:lnTo>
                  <a:lnTo>
                    <a:pt x="2510" y="268"/>
                  </a:lnTo>
                  <a:lnTo>
                    <a:pt x="2510" y="274"/>
                  </a:lnTo>
                  <a:lnTo>
                    <a:pt x="2516" y="274"/>
                  </a:lnTo>
                  <a:lnTo>
                    <a:pt x="2516" y="280"/>
                  </a:lnTo>
                  <a:lnTo>
                    <a:pt x="2522" y="280"/>
                  </a:lnTo>
                  <a:lnTo>
                    <a:pt x="2522" y="285"/>
                  </a:lnTo>
                  <a:lnTo>
                    <a:pt x="2527" y="285"/>
                  </a:lnTo>
                  <a:lnTo>
                    <a:pt x="2527" y="291"/>
                  </a:lnTo>
                  <a:lnTo>
                    <a:pt x="2534" y="291"/>
                  </a:lnTo>
                  <a:lnTo>
                    <a:pt x="2534" y="297"/>
                  </a:lnTo>
                  <a:lnTo>
                    <a:pt x="2539" y="297"/>
                  </a:lnTo>
                  <a:lnTo>
                    <a:pt x="2539" y="302"/>
                  </a:lnTo>
                  <a:lnTo>
                    <a:pt x="2550" y="302"/>
                  </a:lnTo>
                  <a:lnTo>
                    <a:pt x="2550" y="308"/>
                  </a:lnTo>
                  <a:lnTo>
                    <a:pt x="2556" y="308"/>
                  </a:lnTo>
                  <a:lnTo>
                    <a:pt x="2556" y="314"/>
                  </a:lnTo>
                  <a:lnTo>
                    <a:pt x="2562" y="314"/>
                  </a:lnTo>
                  <a:lnTo>
                    <a:pt x="2562" y="320"/>
                  </a:lnTo>
                  <a:lnTo>
                    <a:pt x="2573" y="320"/>
                  </a:lnTo>
                  <a:lnTo>
                    <a:pt x="2573" y="325"/>
                  </a:lnTo>
                  <a:lnTo>
                    <a:pt x="2579" y="325"/>
                  </a:lnTo>
                  <a:lnTo>
                    <a:pt x="2579" y="331"/>
                  </a:lnTo>
                  <a:lnTo>
                    <a:pt x="2584" y="331"/>
                  </a:lnTo>
                  <a:lnTo>
                    <a:pt x="2584" y="337"/>
                  </a:lnTo>
                  <a:lnTo>
                    <a:pt x="2596" y="337"/>
                  </a:lnTo>
                  <a:lnTo>
                    <a:pt x="2596" y="342"/>
                  </a:lnTo>
                  <a:lnTo>
                    <a:pt x="2601" y="342"/>
                  </a:lnTo>
                  <a:lnTo>
                    <a:pt x="2601" y="347"/>
                  </a:lnTo>
                  <a:lnTo>
                    <a:pt x="2607" y="347"/>
                  </a:lnTo>
                  <a:lnTo>
                    <a:pt x="2607" y="353"/>
                  </a:lnTo>
                  <a:lnTo>
                    <a:pt x="2613" y="353"/>
                  </a:lnTo>
                  <a:lnTo>
                    <a:pt x="2613" y="359"/>
                  </a:lnTo>
                  <a:lnTo>
                    <a:pt x="2624" y="359"/>
                  </a:lnTo>
                  <a:lnTo>
                    <a:pt x="2624" y="365"/>
                  </a:lnTo>
                  <a:lnTo>
                    <a:pt x="2629" y="365"/>
                  </a:lnTo>
                  <a:lnTo>
                    <a:pt x="2629" y="370"/>
                  </a:lnTo>
                  <a:lnTo>
                    <a:pt x="2636" y="370"/>
                  </a:lnTo>
                  <a:lnTo>
                    <a:pt x="2636" y="376"/>
                  </a:lnTo>
                  <a:lnTo>
                    <a:pt x="2641" y="376"/>
                  </a:lnTo>
                  <a:lnTo>
                    <a:pt x="2641" y="393"/>
                  </a:lnTo>
                  <a:lnTo>
                    <a:pt x="2636" y="393"/>
                  </a:lnTo>
                  <a:lnTo>
                    <a:pt x="2636" y="399"/>
                  </a:lnTo>
                  <a:lnTo>
                    <a:pt x="2629" y="399"/>
                  </a:lnTo>
                  <a:lnTo>
                    <a:pt x="2629" y="404"/>
                  </a:lnTo>
                  <a:lnTo>
                    <a:pt x="2624" y="404"/>
                  </a:lnTo>
                  <a:lnTo>
                    <a:pt x="2624" y="410"/>
                  </a:lnTo>
                  <a:lnTo>
                    <a:pt x="2619" y="410"/>
                  </a:lnTo>
                  <a:lnTo>
                    <a:pt x="2619" y="416"/>
                  </a:lnTo>
                  <a:lnTo>
                    <a:pt x="2613" y="416"/>
                  </a:lnTo>
                  <a:lnTo>
                    <a:pt x="2613" y="422"/>
                  </a:lnTo>
                  <a:lnTo>
                    <a:pt x="2607" y="422"/>
                  </a:lnTo>
                  <a:lnTo>
                    <a:pt x="2607" y="427"/>
                  </a:lnTo>
                  <a:lnTo>
                    <a:pt x="2596" y="427"/>
                  </a:lnTo>
                  <a:lnTo>
                    <a:pt x="2596" y="433"/>
                  </a:lnTo>
                  <a:lnTo>
                    <a:pt x="2591" y="433"/>
                  </a:lnTo>
                  <a:lnTo>
                    <a:pt x="2591" y="439"/>
                  </a:lnTo>
                  <a:lnTo>
                    <a:pt x="2584" y="439"/>
                  </a:lnTo>
                  <a:lnTo>
                    <a:pt x="2584" y="444"/>
                  </a:lnTo>
                  <a:lnTo>
                    <a:pt x="2579" y="444"/>
                  </a:lnTo>
                  <a:lnTo>
                    <a:pt x="2579" y="451"/>
                  </a:lnTo>
                  <a:lnTo>
                    <a:pt x="2573" y="451"/>
                  </a:lnTo>
                  <a:lnTo>
                    <a:pt x="2573" y="456"/>
                  </a:lnTo>
                  <a:lnTo>
                    <a:pt x="2567" y="456"/>
                  </a:lnTo>
                  <a:lnTo>
                    <a:pt x="2567" y="461"/>
                  </a:lnTo>
                  <a:lnTo>
                    <a:pt x="2562" y="461"/>
                  </a:lnTo>
                  <a:lnTo>
                    <a:pt x="2562" y="467"/>
                  </a:lnTo>
                  <a:lnTo>
                    <a:pt x="2556" y="467"/>
                  </a:lnTo>
                  <a:lnTo>
                    <a:pt x="2556" y="473"/>
                  </a:lnTo>
                  <a:lnTo>
                    <a:pt x="2550" y="473"/>
                  </a:lnTo>
                  <a:lnTo>
                    <a:pt x="2550" y="479"/>
                  </a:lnTo>
                  <a:lnTo>
                    <a:pt x="2539" y="479"/>
                  </a:lnTo>
                  <a:lnTo>
                    <a:pt x="2539" y="484"/>
                  </a:lnTo>
                  <a:lnTo>
                    <a:pt x="2534" y="484"/>
                  </a:lnTo>
                  <a:lnTo>
                    <a:pt x="2534" y="490"/>
                  </a:lnTo>
                  <a:lnTo>
                    <a:pt x="2527" y="490"/>
                  </a:lnTo>
                  <a:lnTo>
                    <a:pt x="2527" y="496"/>
                  </a:lnTo>
                  <a:lnTo>
                    <a:pt x="2522" y="496"/>
                  </a:lnTo>
                  <a:lnTo>
                    <a:pt x="2522" y="501"/>
                  </a:lnTo>
                  <a:lnTo>
                    <a:pt x="2516" y="501"/>
                  </a:lnTo>
                  <a:lnTo>
                    <a:pt x="2516" y="508"/>
                  </a:lnTo>
                  <a:lnTo>
                    <a:pt x="2510" y="508"/>
                  </a:lnTo>
                  <a:lnTo>
                    <a:pt x="2510" y="513"/>
                  </a:lnTo>
                  <a:lnTo>
                    <a:pt x="2499" y="513"/>
                  </a:lnTo>
                  <a:lnTo>
                    <a:pt x="2499" y="518"/>
                  </a:lnTo>
                  <a:lnTo>
                    <a:pt x="2493" y="518"/>
                  </a:lnTo>
                  <a:lnTo>
                    <a:pt x="2493" y="524"/>
                  </a:lnTo>
                  <a:lnTo>
                    <a:pt x="2487" y="524"/>
                  </a:lnTo>
                  <a:lnTo>
                    <a:pt x="2487" y="530"/>
                  </a:lnTo>
                  <a:lnTo>
                    <a:pt x="2476" y="530"/>
                  </a:lnTo>
                  <a:lnTo>
                    <a:pt x="2476" y="535"/>
                  </a:lnTo>
                  <a:lnTo>
                    <a:pt x="2470" y="535"/>
                  </a:lnTo>
                  <a:lnTo>
                    <a:pt x="2470" y="541"/>
                  </a:lnTo>
                  <a:lnTo>
                    <a:pt x="2453" y="541"/>
                  </a:lnTo>
                  <a:lnTo>
                    <a:pt x="2453" y="547"/>
                  </a:lnTo>
                  <a:lnTo>
                    <a:pt x="2448" y="547"/>
                  </a:lnTo>
                  <a:lnTo>
                    <a:pt x="2448" y="553"/>
                  </a:lnTo>
                  <a:lnTo>
                    <a:pt x="2436" y="553"/>
                  </a:lnTo>
                  <a:lnTo>
                    <a:pt x="2436" y="558"/>
                  </a:lnTo>
                  <a:lnTo>
                    <a:pt x="2430" y="558"/>
                  </a:lnTo>
                  <a:lnTo>
                    <a:pt x="2430" y="565"/>
                  </a:lnTo>
                  <a:lnTo>
                    <a:pt x="2425" y="565"/>
                  </a:lnTo>
                  <a:lnTo>
                    <a:pt x="2425" y="570"/>
                  </a:lnTo>
                  <a:lnTo>
                    <a:pt x="2413" y="570"/>
                  </a:lnTo>
                  <a:lnTo>
                    <a:pt x="2413" y="575"/>
                  </a:lnTo>
                  <a:lnTo>
                    <a:pt x="2408" y="575"/>
                  </a:lnTo>
                  <a:lnTo>
                    <a:pt x="2408" y="581"/>
                  </a:lnTo>
                  <a:lnTo>
                    <a:pt x="2402" y="581"/>
                  </a:lnTo>
                  <a:lnTo>
                    <a:pt x="2402" y="587"/>
                  </a:lnTo>
                  <a:lnTo>
                    <a:pt x="2391" y="587"/>
                  </a:lnTo>
                  <a:lnTo>
                    <a:pt x="2391" y="592"/>
                  </a:lnTo>
                  <a:lnTo>
                    <a:pt x="2385" y="592"/>
                  </a:lnTo>
                  <a:lnTo>
                    <a:pt x="2385" y="598"/>
                  </a:lnTo>
                  <a:lnTo>
                    <a:pt x="2379" y="598"/>
                  </a:lnTo>
                  <a:lnTo>
                    <a:pt x="2379" y="604"/>
                  </a:lnTo>
                  <a:lnTo>
                    <a:pt x="2373" y="604"/>
                  </a:lnTo>
                  <a:lnTo>
                    <a:pt x="2373" y="610"/>
                  </a:lnTo>
                  <a:lnTo>
                    <a:pt x="2368" y="610"/>
                  </a:lnTo>
                  <a:lnTo>
                    <a:pt x="2368" y="615"/>
                  </a:lnTo>
                  <a:lnTo>
                    <a:pt x="2362" y="615"/>
                  </a:lnTo>
                  <a:lnTo>
                    <a:pt x="2362" y="621"/>
                  </a:lnTo>
                  <a:lnTo>
                    <a:pt x="2356" y="621"/>
                  </a:lnTo>
                  <a:lnTo>
                    <a:pt x="2356" y="627"/>
                  </a:lnTo>
                  <a:lnTo>
                    <a:pt x="2351" y="627"/>
                  </a:lnTo>
                  <a:lnTo>
                    <a:pt x="2351" y="632"/>
                  </a:lnTo>
                  <a:lnTo>
                    <a:pt x="2346" y="632"/>
                  </a:lnTo>
                  <a:lnTo>
                    <a:pt x="2346" y="638"/>
                  </a:lnTo>
                  <a:lnTo>
                    <a:pt x="2339" y="638"/>
                  </a:lnTo>
                  <a:lnTo>
                    <a:pt x="2339" y="644"/>
                  </a:lnTo>
                  <a:lnTo>
                    <a:pt x="2334" y="644"/>
                  </a:lnTo>
                  <a:lnTo>
                    <a:pt x="2334" y="649"/>
                  </a:lnTo>
                  <a:lnTo>
                    <a:pt x="2328" y="649"/>
                  </a:lnTo>
                  <a:lnTo>
                    <a:pt x="2328" y="655"/>
                  </a:lnTo>
                  <a:lnTo>
                    <a:pt x="2322" y="655"/>
                  </a:lnTo>
                  <a:lnTo>
                    <a:pt x="2322" y="661"/>
                  </a:lnTo>
                  <a:lnTo>
                    <a:pt x="2316" y="661"/>
                  </a:lnTo>
                  <a:lnTo>
                    <a:pt x="2316" y="667"/>
                  </a:lnTo>
                  <a:lnTo>
                    <a:pt x="2305" y="667"/>
                  </a:lnTo>
                  <a:lnTo>
                    <a:pt x="2305" y="672"/>
                  </a:lnTo>
                  <a:lnTo>
                    <a:pt x="2299" y="672"/>
                  </a:lnTo>
                  <a:lnTo>
                    <a:pt x="2299" y="678"/>
                  </a:lnTo>
                  <a:lnTo>
                    <a:pt x="2294" y="678"/>
                  </a:lnTo>
                  <a:lnTo>
                    <a:pt x="2294" y="684"/>
                  </a:lnTo>
                  <a:lnTo>
                    <a:pt x="2289" y="684"/>
                  </a:lnTo>
                  <a:lnTo>
                    <a:pt x="2289" y="689"/>
                  </a:lnTo>
                  <a:lnTo>
                    <a:pt x="2282" y="689"/>
                  </a:lnTo>
                  <a:lnTo>
                    <a:pt x="2282" y="695"/>
                  </a:lnTo>
                  <a:lnTo>
                    <a:pt x="2277" y="695"/>
                  </a:lnTo>
                  <a:lnTo>
                    <a:pt x="2277" y="701"/>
                  </a:lnTo>
                  <a:lnTo>
                    <a:pt x="2271" y="701"/>
                  </a:lnTo>
                  <a:lnTo>
                    <a:pt x="2271" y="706"/>
                  </a:lnTo>
                  <a:lnTo>
                    <a:pt x="2265" y="706"/>
                  </a:lnTo>
                  <a:lnTo>
                    <a:pt x="2265" y="712"/>
                  </a:lnTo>
                  <a:lnTo>
                    <a:pt x="2254" y="712"/>
                  </a:lnTo>
                  <a:lnTo>
                    <a:pt x="2254" y="718"/>
                  </a:lnTo>
                  <a:lnTo>
                    <a:pt x="2248" y="718"/>
                  </a:lnTo>
                  <a:lnTo>
                    <a:pt x="2248" y="724"/>
                  </a:lnTo>
                  <a:lnTo>
                    <a:pt x="2242" y="724"/>
                  </a:lnTo>
                  <a:lnTo>
                    <a:pt x="2242" y="729"/>
                  </a:lnTo>
                  <a:lnTo>
                    <a:pt x="2237" y="729"/>
                  </a:lnTo>
                  <a:lnTo>
                    <a:pt x="2237" y="735"/>
                  </a:lnTo>
                  <a:lnTo>
                    <a:pt x="2225" y="735"/>
                  </a:lnTo>
                  <a:lnTo>
                    <a:pt x="2225" y="741"/>
                  </a:lnTo>
                  <a:lnTo>
                    <a:pt x="2220" y="741"/>
                  </a:lnTo>
                  <a:lnTo>
                    <a:pt x="2220" y="746"/>
                  </a:lnTo>
                  <a:lnTo>
                    <a:pt x="2214" y="746"/>
                  </a:lnTo>
                  <a:lnTo>
                    <a:pt x="2214" y="751"/>
                  </a:lnTo>
                  <a:lnTo>
                    <a:pt x="2203" y="751"/>
                  </a:lnTo>
                  <a:lnTo>
                    <a:pt x="2203" y="757"/>
                  </a:lnTo>
                  <a:lnTo>
                    <a:pt x="2197" y="757"/>
                  </a:lnTo>
                  <a:lnTo>
                    <a:pt x="2197" y="763"/>
                  </a:lnTo>
                  <a:lnTo>
                    <a:pt x="2185" y="763"/>
                  </a:lnTo>
                  <a:lnTo>
                    <a:pt x="2185" y="769"/>
                  </a:lnTo>
                  <a:lnTo>
                    <a:pt x="2180" y="769"/>
                  </a:lnTo>
                  <a:lnTo>
                    <a:pt x="2180" y="774"/>
                  </a:lnTo>
                  <a:lnTo>
                    <a:pt x="2175" y="774"/>
                  </a:lnTo>
                  <a:lnTo>
                    <a:pt x="2175" y="780"/>
                  </a:lnTo>
                  <a:lnTo>
                    <a:pt x="2163" y="780"/>
                  </a:lnTo>
                  <a:lnTo>
                    <a:pt x="2163" y="786"/>
                  </a:lnTo>
                  <a:lnTo>
                    <a:pt x="2157" y="786"/>
                  </a:lnTo>
                  <a:lnTo>
                    <a:pt x="2157" y="791"/>
                  </a:lnTo>
                  <a:lnTo>
                    <a:pt x="2146" y="791"/>
                  </a:lnTo>
                  <a:lnTo>
                    <a:pt x="2146" y="798"/>
                  </a:lnTo>
                  <a:lnTo>
                    <a:pt x="2135" y="798"/>
                  </a:lnTo>
                  <a:lnTo>
                    <a:pt x="2135" y="803"/>
                  </a:lnTo>
                  <a:lnTo>
                    <a:pt x="2128" y="803"/>
                  </a:lnTo>
                  <a:lnTo>
                    <a:pt x="2128" y="808"/>
                  </a:lnTo>
                  <a:lnTo>
                    <a:pt x="2123" y="808"/>
                  </a:lnTo>
                  <a:lnTo>
                    <a:pt x="2123" y="814"/>
                  </a:lnTo>
                  <a:lnTo>
                    <a:pt x="2112" y="814"/>
                  </a:lnTo>
                  <a:lnTo>
                    <a:pt x="2112" y="820"/>
                  </a:lnTo>
                  <a:lnTo>
                    <a:pt x="2106" y="820"/>
                  </a:lnTo>
                  <a:lnTo>
                    <a:pt x="2106" y="826"/>
                  </a:lnTo>
                  <a:lnTo>
                    <a:pt x="2095" y="826"/>
                  </a:lnTo>
                  <a:lnTo>
                    <a:pt x="2095" y="831"/>
                  </a:lnTo>
                  <a:lnTo>
                    <a:pt x="2083" y="831"/>
                  </a:lnTo>
                  <a:lnTo>
                    <a:pt x="2083" y="837"/>
                  </a:lnTo>
                  <a:lnTo>
                    <a:pt x="2078" y="837"/>
                  </a:lnTo>
                  <a:lnTo>
                    <a:pt x="2078" y="843"/>
                  </a:lnTo>
                  <a:lnTo>
                    <a:pt x="2066" y="843"/>
                  </a:lnTo>
                  <a:lnTo>
                    <a:pt x="2066" y="848"/>
                  </a:lnTo>
                  <a:lnTo>
                    <a:pt x="2055" y="848"/>
                  </a:lnTo>
                  <a:lnTo>
                    <a:pt x="2055" y="855"/>
                  </a:lnTo>
                  <a:lnTo>
                    <a:pt x="2049" y="855"/>
                  </a:lnTo>
                  <a:lnTo>
                    <a:pt x="2049" y="860"/>
                  </a:lnTo>
                  <a:lnTo>
                    <a:pt x="2038" y="860"/>
                  </a:lnTo>
                  <a:lnTo>
                    <a:pt x="2038" y="865"/>
                  </a:lnTo>
                  <a:lnTo>
                    <a:pt x="2032" y="865"/>
                  </a:lnTo>
                  <a:lnTo>
                    <a:pt x="2032" y="871"/>
                  </a:lnTo>
                  <a:lnTo>
                    <a:pt x="2026" y="871"/>
                  </a:lnTo>
                  <a:lnTo>
                    <a:pt x="2026" y="877"/>
                  </a:lnTo>
                  <a:lnTo>
                    <a:pt x="2021" y="877"/>
                  </a:lnTo>
                  <a:lnTo>
                    <a:pt x="2021" y="883"/>
                  </a:lnTo>
                  <a:lnTo>
                    <a:pt x="2009" y="883"/>
                  </a:lnTo>
                  <a:lnTo>
                    <a:pt x="2009" y="888"/>
                  </a:lnTo>
                  <a:lnTo>
                    <a:pt x="1998" y="888"/>
                  </a:lnTo>
                  <a:lnTo>
                    <a:pt x="1998" y="894"/>
                  </a:lnTo>
                  <a:lnTo>
                    <a:pt x="1992" y="894"/>
                  </a:lnTo>
                  <a:lnTo>
                    <a:pt x="1992" y="900"/>
                  </a:lnTo>
                  <a:lnTo>
                    <a:pt x="1981" y="900"/>
                  </a:lnTo>
                  <a:lnTo>
                    <a:pt x="1981" y="905"/>
                  </a:lnTo>
                  <a:lnTo>
                    <a:pt x="1969" y="905"/>
                  </a:lnTo>
                  <a:lnTo>
                    <a:pt x="1969" y="912"/>
                  </a:lnTo>
                  <a:lnTo>
                    <a:pt x="1964" y="912"/>
                  </a:lnTo>
                  <a:lnTo>
                    <a:pt x="1964" y="917"/>
                  </a:lnTo>
                  <a:lnTo>
                    <a:pt x="1952" y="917"/>
                  </a:lnTo>
                  <a:lnTo>
                    <a:pt x="1952" y="922"/>
                  </a:lnTo>
                  <a:lnTo>
                    <a:pt x="1947" y="922"/>
                  </a:lnTo>
                  <a:lnTo>
                    <a:pt x="1947" y="928"/>
                  </a:lnTo>
                  <a:lnTo>
                    <a:pt x="1941" y="928"/>
                  </a:lnTo>
                  <a:lnTo>
                    <a:pt x="1941" y="934"/>
                  </a:lnTo>
                  <a:lnTo>
                    <a:pt x="1930" y="934"/>
                  </a:lnTo>
                  <a:lnTo>
                    <a:pt x="1930" y="940"/>
                  </a:lnTo>
                  <a:lnTo>
                    <a:pt x="1918" y="940"/>
                  </a:lnTo>
                  <a:lnTo>
                    <a:pt x="1918" y="945"/>
                  </a:lnTo>
                  <a:lnTo>
                    <a:pt x="1907" y="945"/>
                  </a:lnTo>
                  <a:lnTo>
                    <a:pt x="1907" y="951"/>
                  </a:lnTo>
                  <a:lnTo>
                    <a:pt x="1895" y="951"/>
                  </a:lnTo>
                  <a:lnTo>
                    <a:pt x="1895" y="957"/>
                  </a:lnTo>
                  <a:lnTo>
                    <a:pt x="1884" y="957"/>
                  </a:lnTo>
                  <a:lnTo>
                    <a:pt x="1884" y="962"/>
                  </a:lnTo>
                  <a:lnTo>
                    <a:pt x="1867" y="962"/>
                  </a:lnTo>
                  <a:lnTo>
                    <a:pt x="1867" y="969"/>
                  </a:lnTo>
                  <a:lnTo>
                    <a:pt x="1861" y="969"/>
                  </a:lnTo>
                  <a:lnTo>
                    <a:pt x="1861" y="974"/>
                  </a:lnTo>
                  <a:lnTo>
                    <a:pt x="1855" y="974"/>
                  </a:lnTo>
                  <a:lnTo>
                    <a:pt x="1855" y="979"/>
                  </a:lnTo>
                  <a:lnTo>
                    <a:pt x="1850" y="979"/>
                  </a:lnTo>
                  <a:lnTo>
                    <a:pt x="1850" y="985"/>
                  </a:lnTo>
                  <a:lnTo>
                    <a:pt x="1838" y="985"/>
                  </a:lnTo>
                  <a:lnTo>
                    <a:pt x="1838" y="991"/>
                  </a:lnTo>
                  <a:lnTo>
                    <a:pt x="1833" y="991"/>
                  </a:lnTo>
                  <a:lnTo>
                    <a:pt x="1833" y="996"/>
                  </a:lnTo>
                  <a:lnTo>
                    <a:pt x="1821" y="996"/>
                  </a:lnTo>
                  <a:lnTo>
                    <a:pt x="1821" y="1002"/>
                  </a:lnTo>
                  <a:lnTo>
                    <a:pt x="1816" y="1002"/>
                  </a:lnTo>
                  <a:lnTo>
                    <a:pt x="1816" y="1008"/>
                  </a:lnTo>
                  <a:lnTo>
                    <a:pt x="1805" y="1008"/>
                  </a:lnTo>
                  <a:lnTo>
                    <a:pt x="1805" y="1014"/>
                  </a:lnTo>
                  <a:lnTo>
                    <a:pt x="1798" y="1014"/>
                  </a:lnTo>
                  <a:lnTo>
                    <a:pt x="1798" y="1019"/>
                  </a:lnTo>
                  <a:lnTo>
                    <a:pt x="1781" y="1019"/>
                  </a:lnTo>
                  <a:lnTo>
                    <a:pt x="1781" y="1025"/>
                  </a:lnTo>
                  <a:lnTo>
                    <a:pt x="1776" y="1025"/>
                  </a:lnTo>
                  <a:lnTo>
                    <a:pt x="1776" y="1031"/>
                  </a:lnTo>
                  <a:lnTo>
                    <a:pt x="1765" y="1031"/>
                  </a:lnTo>
                  <a:lnTo>
                    <a:pt x="1765" y="1036"/>
                  </a:lnTo>
                  <a:lnTo>
                    <a:pt x="1759" y="1036"/>
                  </a:lnTo>
                  <a:lnTo>
                    <a:pt x="1759" y="1042"/>
                  </a:lnTo>
                  <a:lnTo>
                    <a:pt x="1748" y="1042"/>
                  </a:lnTo>
                  <a:lnTo>
                    <a:pt x="1748" y="1048"/>
                  </a:lnTo>
                  <a:lnTo>
                    <a:pt x="1741" y="1048"/>
                  </a:lnTo>
                  <a:lnTo>
                    <a:pt x="1741" y="1053"/>
                  </a:lnTo>
                  <a:lnTo>
                    <a:pt x="1731" y="1053"/>
                  </a:lnTo>
                  <a:lnTo>
                    <a:pt x="1731" y="1059"/>
                  </a:lnTo>
                  <a:lnTo>
                    <a:pt x="1724" y="1059"/>
                  </a:lnTo>
                  <a:lnTo>
                    <a:pt x="1724" y="1065"/>
                  </a:lnTo>
                  <a:lnTo>
                    <a:pt x="1714" y="1065"/>
                  </a:lnTo>
                  <a:lnTo>
                    <a:pt x="1714" y="1071"/>
                  </a:lnTo>
                  <a:lnTo>
                    <a:pt x="1708" y="1071"/>
                  </a:lnTo>
                  <a:lnTo>
                    <a:pt x="1708" y="1076"/>
                  </a:lnTo>
                  <a:lnTo>
                    <a:pt x="1696" y="1076"/>
                  </a:lnTo>
                  <a:lnTo>
                    <a:pt x="1696" y="1082"/>
                  </a:lnTo>
                  <a:lnTo>
                    <a:pt x="1684" y="1082"/>
                  </a:lnTo>
                  <a:lnTo>
                    <a:pt x="1684" y="1088"/>
                  </a:lnTo>
                  <a:lnTo>
                    <a:pt x="1674" y="1088"/>
                  </a:lnTo>
                  <a:lnTo>
                    <a:pt x="1674" y="1093"/>
                  </a:lnTo>
                  <a:lnTo>
                    <a:pt x="1662" y="1093"/>
                  </a:lnTo>
                  <a:lnTo>
                    <a:pt x="1662" y="1099"/>
                  </a:lnTo>
                  <a:lnTo>
                    <a:pt x="1657" y="1099"/>
                  </a:lnTo>
                  <a:lnTo>
                    <a:pt x="1657" y="1105"/>
                  </a:lnTo>
                  <a:lnTo>
                    <a:pt x="1645" y="1105"/>
                  </a:lnTo>
                  <a:lnTo>
                    <a:pt x="1645" y="1110"/>
                  </a:lnTo>
                  <a:lnTo>
                    <a:pt x="1639" y="1110"/>
                  </a:lnTo>
                  <a:lnTo>
                    <a:pt x="1639" y="1116"/>
                  </a:lnTo>
                  <a:lnTo>
                    <a:pt x="1628" y="1116"/>
                  </a:lnTo>
                  <a:lnTo>
                    <a:pt x="1628" y="1122"/>
                  </a:lnTo>
                  <a:lnTo>
                    <a:pt x="1622" y="1122"/>
                  </a:lnTo>
                  <a:lnTo>
                    <a:pt x="1622" y="1128"/>
                  </a:lnTo>
                  <a:lnTo>
                    <a:pt x="1610" y="1128"/>
                  </a:lnTo>
                  <a:lnTo>
                    <a:pt x="1610" y="1133"/>
                  </a:lnTo>
                  <a:lnTo>
                    <a:pt x="1605" y="1133"/>
                  </a:lnTo>
                  <a:lnTo>
                    <a:pt x="1605" y="1139"/>
                  </a:lnTo>
                  <a:lnTo>
                    <a:pt x="1594" y="1139"/>
                  </a:lnTo>
                  <a:lnTo>
                    <a:pt x="1594" y="1145"/>
                  </a:lnTo>
                  <a:lnTo>
                    <a:pt x="1588" y="1145"/>
                  </a:lnTo>
                  <a:lnTo>
                    <a:pt x="1588" y="1150"/>
                  </a:lnTo>
                  <a:lnTo>
                    <a:pt x="1577" y="1150"/>
                  </a:lnTo>
                  <a:lnTo>
                    <a:pt x="1577" y="1155"/>
                  </a:lnTo>
                  <a:lnTo>
                    <a:pt x="1565" y="1155"/>
                  </a:lnTo>
                  <a:lnTo>
                    <a:pt x="1565" y="1162"/>
                  </a:lnTo>
                  <a:lnTo>
                    <a:pt x="1560" y="1162"/>
                  </a:lnTo>
                  <a:lnTo>
                    <a:pt x="1560" y="1167"/>
                  </a:lnTo>
                  <a:lnTo>
                    <a:pt x="1548" y="1167"/>
                  </a:lnTo>
                  <a:lnTo>
                    <a:pt x="1548" y="1173"/>
                  </a:lnTo>
                  <a:lnTo>
                    <a:pt x="1543" y="1173"/>
                  </a:lnTo>
                  <a:lnTo>
                    <a:pt x="1543" y="1178"/>
                  </a:lnTo>
                  <a:lnTo>
                    <a:pt x="1536" y="1178"/>
                  </a:lnTo>
                  <a:lnTo>
                    <a:pt x="1536" y="1184"/>
                  </a:lnTo>
                  <a:lnTo>
                    <a:pt x="1531" y="1184"/>
                  </a:lnTo>
                  <a:lnTo>
                    <a:pt x="1531" y="1190"/>
                  </a:lnTo>
                  <a:lnTo>
                    <a:pt x="1525" y="1190"/>
                  </a:lnTo>
                  <a:lnTo>
                    <a:pt x="1525" y="1195"/>
                  </a:lnTo>
                  <a:lnTo>
                    <a:pt x="1514" y="1195"/>
                  </a:lnTo>
                  <a:lnTo>
                    <a:pt x="1514" y="1202"/>
                  </a:lnTo>
                  <a:lnTo>
                    <a:pt x="1508" y="1202"/>
                  </a:lnTo>
                  <a:lnTo>
                    <a:pt x="1508" y="1207"/>
                  </a:lnTo>
                  <a:lnTo>
                    <a:pt x="1503" y="1207"/>
                  </a:lnTo>
                  <a:lnTo>
                    <a:pt x="1503" y="1212"/>
                  </a:lnTo>
                  <a:lnTo>
                    <a:pt x="1491" y="1212"/>
                  </a:lnTo>
                  <a:lnTo>
                    <a:pt x="1491" y="1218"/>
                  </a:lnTo>
                  <a:lnTo>
                    <a:pt x="1479" y="1218"/>
                  </a:lnTo>
                  <a:lnTo>
                    <a:pt x="1479" y="1224"/>
                  </a:lnTo>
                  <a:lnTo>
                    <a:pt x="1468" y="1224"/>
                  </a:lnTo>
                  <a:lnTo>
                    <a:pt x="1468" y="1230"/>
                  </a:lnTo>
                  <a:lnTo>
                    <a:pt x="1451" y="1230"/>
                  </a:lnTo>
                  <a:lnTo>
                    <a:pt x="1451" y="1235"/>
                  </a:lnTo>
                  <a:lnTo>
                    <a:pt x="1434" y="1235"/>
                  </a:lnTo>
                  <a:lnTo>
                    <a:pt x="1434" y="1241"/>
                  </a:lnTo>
                  <a:lnTo>
                    <a:pt x="1422" y="1241"/>
                  </a:lnTo>
                  <a:lnTo>
                    <a:pt x="1422" y="1247"/>
                  </a:lnTo>
                  <a:lnTo>
                    <a:pt x="1411" y="1247"/>
                  </a:lnTo>
                  <a:lnTo>
                    <a:pt x="1411" y="1252"/>
                  </a:lnTo>
                  <a:lnTo>
                    <a:pt x="1401" y="1252"/>
                  </a:lnTo>
                  <a:lnTo>
                    <a:pt x="1401" y="1259"/>
                  </a:lnTo>
                  <a:lnTo>
                    <a:pt x="1389" y="1259"/>
                  </a:lnTo>
                  <a:lnTo>
                    <a:pt x="1389" y="1264"/>
                  </a:lnTo>
                  <a:lnTo>
                    <a:pt x="1377" y="1264"/>
                  </a:lnTo>
                  <a:lnTo>
                    <a:pt x="1377" y="1269"/>
                  </a:lnTo>
                  <a:lnTo>
                    <a:pt x="1366" y="1269"/>
                  </a:lnTo>
                  <a:lnTo>
                    <a:pt x="1366" y="1275"/>
                  </a:lnTo>
                  <a:lnTo>
                    <a:pt x="1355" y="1275"/>
                  </a:lnTo>
                  <a:lnTo>
                    <a:pt x="1355" y="1281"/>
                  </a:lnTo>
                  <a:lnTo>
                    <a:pt x="1344" y="1281"/>
                  </a:lnTo>
                  <a:lnTo>
                    <a:pt x="1344" y="1287"/>
                  </a:lnTo>
                  <a:lnTo>
                    <a:pt x="1332" y="1287"/>
                  </a:lnTo>
                  <a:lnTo>
                    <a:pt x="1332" y="1292"/>
                  </a:lnTo>
                  <a:lnTo>
                    <a:pt x="1309" y="1292"/>
                  </a:lnTo>
                  <a:lnTo>
                    <a:pt x="1309" y="1298"/>
                  </a:lnTo>
                  <a:lnTo>
                    <a:pt x="1298" y="1298"/>
                  </a:lnTo>
                  <a:lnTo>
                    <a:pt x="1298" y="1304"/>
                  </a:lnTo>
                  <a:lnTo>
                    <a:pt x="1287" y="1304"/>
                  </a:lnTo>
                  <a:lnTo>
                    <a:pt x="1287" y="1309"/>
                  </a:lnTo>
                  <a:lnTo>
                    <a:pt x="1275" y="1309"/>
                  </a:lnTo>
                  <a:lnTo>
                    <a:pt x="1275" y="1316"/>
                  </a:lnTo>
                  <a:lnTo>
                    <a:pt x="1263" y="1316"/>
                  </a:lnTo>
                  <a:lnTo>
                    <a:pt x="1263" y="1321"/>
                  </a:lnTo>
                  <a:lnTo>
                    <a:pt x="1252" y="1321"/>
                  </a:lnTo>
                  <a:lnTo>
                    <a:pt x="1252" y="1326"/>
                  </a:lnTo>
                  <a:lnTo>
                    <a:pt x="1246" y="1326"/>
                  </a:lnTo>
                  <a:lnTo>
                    <a:pt x="1246" y="1332"/>
                  </a:lnTo>
                  <a:lnTo>
                    <a:pt x="1241" y="1332"/>
                  </a:lnTo>
                  <a:lnTo>
                    <a:pt x="1241" y="1338"/>
                  </a:lnTo>
                  <a:lnTo>
                    <a:pt x="1230" y="1338"/>
                  </a:lnTo>
                  <a:lnTo>
                    <a:pt x="1230" y="1344"/>
                  </a:lnTo>
                  <a:lnTo>
                    <a:pt x="1218" y="1344"/>
                  </a:lnTo>
                  <a:lnTo>
                    <a:pt x="1218" y="1349"/>
                  </a:lnTo>
                  <a:lnTo>
                    <a:pt x="1206" y="1349"/>
                  </a:lnTo>
                  <a:lnTo>
                    <a:pt x="1206" y="1355"/>
                  </a:lnTo>
                  <a:lnTo>
                    <a:pt x="1195" y="1355"/>
                  </a:lnTo>
                  <a:lnTo>
                    <a:pt x="1195" y="1361"/>
                  </a:lnTo>
                  <a:lnTo>
                    <a:pt x="1184" y="1361"/>
                  </a:lnTo>
                  <a:lnTo>
                    <a:pt x="1184" y="1355"/>
                  </a:lnTo>
                  <a:lnTo>
                    <a:pt x="1156" y="1355"/>
                  </a:lnTo>
                  <a:lnTo>
                    <a:pt x="1156" y="1361"/>
                  </a:lnTo>
                  <a:lnTo>
                    <a:pt x="1144" y="1361"/>
                  </a:lnTo>
                  <a:lnTo>
                    <a:pt x="1144" y="1366"/>
                  </a:lnTo>
                  <a:lnTo>
                    <a:pt x="1132" y="1366"/>
                  </a:lnTo>
                  <a:lnTo>
                    <a:pt x="1132" y="1373"/>
                  </a:lnTo>
                  <a:lnTo>
                    <a:pt x="1121" y="1373"/>
                  </a:lnTo>
                  <a:lnTo>
                    <a:pt x="1121" y="1378"/>
                  </a:lnTo>
                  <a:lnTo>
                    <a:pt x="1109" y="1378"/>
                  </a:lnTo>
                  <a:lnTo>
                    <a:pt x="1109" y="1383"/>
                  </a:lnTo>
                  <a:lnTo>
                    <a:pt x="1104" y="1383"/>
                  </a:lnTo>
                  <a:lnTo>
                    <a:pt x="1104" y="1389"/>
                  </a:lnTo>
                  <a:lnTo>
                    <a:pt x="1087" y="1389"/>
                  </a:lnTo>
                  <a:lnTo>
                    <a:pt x="1087" y="1395"/>
                  </a:lnTo>
                  <a:lnTo>
                    <a:pt x="1075" y="1395"/>
                  </a:lnTo>
                  <a:lnTo>
                    <a:pt x="1075" y="1400"/>
                  </a:lnTo>
                  <a:lnTo>
                    <a:pt x="1059" y="1400"/>
                  </a:lnTo>
                  <a:lnTo>
                    <a:pt x="1059" y="1406"/>
                  </a:lnTo>
                  <a:lnTo>
                    <a:pt x="1047" y="1406"/>
                  </a:lnTo>
                  <a:lnTo>
                    <a:pt x="1047" y="1412"/>
                  </a:lnTo>
                  <a:lnTo>
                    <a:pt x="1035" y="1412"/>
                  </a:lnTo>
                  <a:lnTo>
                    <a:pt x="1035" y="1418"/>
                  </a:lnTo>
                  <a:lnTo>
                    <a:pt x="1025" y="1418"/>
                  </a:lnTo>
                  <a:lnTo>
                    <a:pt x="1025" y="1423"/>
                  </a:lnTo>
                  <a:lnTo>
                    <a:pt x="1007" y="1423"/>
                  </a:lnTo>
                  <a:lnTo>
                    <a:pt x="1007" y="1429"/>
                  </a:lnTo>
                  <a:lnTo>
                    <a:pt x="985" y="1429"/>
                  </a:lnTo>
                  <a:lnTo>
                    <a:pt x="985" y="1435"/>
                  </a:lnTo>
                  <a:lnTo>
                    <a:pt x="968" y="1435"/>
                  </a:lnTo>
                  <a:lnTo>
                    <a:pt x="968" y="1440"/>
                  </a:lnTo>
                  <a:lnTo>
                    <a:pt x="950" y="1440"/>
                  </a:lnTo>
                  <a:lnTo>
                    <a:pt x="950" y="1446"/>
                  </a:lnTo>
                  <a:lnTo>
                    <a:pt x="933" y="1446"/>
                  </a:lnTo>
                  <a:lnTo>
                    <a:pt x="933" y="1452"/>
                  </a:lnTo>
                  <a:lnTo>
                    <a:pt x="905" y="1452"/>
                  </a:lnTo>
                  <a:lnTo>
                    <a:pt x="905" y="1457"/>
                  </a:lnTo>
                  <a:lnTo>
                    <a:pt x="871" y="1457"/>
                  </a:lnTo>
                  <a:lnTo>
                    <a:pt x="871" y="1463"/>
                  </a:lnTo>
                  <a:lnTo>
                    <a:pt x="859" y="1463"/>
                  </a:lnTo>
                  <a:lnTo>
                    <a:pt x="859" y="1469"/>
                  </a:lnTo>
                  <a:lnTo>
                    <a:pt x="836" y="1469"/>
                  </a:lnTo>
                  <a:lnTo>
                    <a:pt x="836" y="1475"/>
                  </a:lnTo>
                  <a:lnTo>
                    <a:pt x="819" y="1475"/>
                  </a:lnTo>
                  <a:lnTo>
                    <a:pt x="819" y="1480"/>
                  </a:lnTo>
                  <a:lnTo>
                    <a:pt x="802" y="1480"/>
                  </a:lnTo>
                  <a:lnTo>
                    <a:pt x="802" y="1486"/>
                  </a:lnTo>
                  <a:lnTo>
                    <a:pt x="762" y="1486"/>
                  </a:lnTo>
                  <a:lnTo>
                    <a:pt x="762" y="1492"/>
                  </a:lnTo>
                  <a:lnTo>
                    <a:pt x="723" y="1492"/>
                  </a:lnTo>
                  <a:lnTo>
                    <a:pt x="723" y="1497"/>
                  </a:lnTo>
                  <a:lnTo>
                    <a:pt x="712" y="1497"/>
                  </a:lnTo>
                  <a:lnTo>
                    <a:pt x="712" y="1504"/>
                  </a:lnTo>
                  <a:lnTo>
                    <a:pt x="688" y="1504"/>
                  </a:lnTo>
                  <a:lnTo>
                    <a:pt x="688" y="1509"/>
                  </a:lnTo>
                  <a:lnTo>
                    <a:pt x="655" y="1509"/>
                  </a:lnTo>
                  <a:lnTo>
                    <a:pt x="655" y="1514"/>
                  </a:lnTo>
                  <a:lnTo>
                    <a:pt x="638" y="1514"/>
                  </a:lnTo>
                  <a:lnTo>
                    <a:pt x="638" y="1520"/>
                  </a:lnTo>
                  <a:lnTo>
                    <a:pt x="603" y="1520"/>
                  </a:lnTo>
                  <a:lnTo>
                    <a:pt x="603" y="1526"/>
                  </a:lnTo>
                  <a:lnTo>
                    <a:pt x="581" y="1526"/>
                  </a:lnTo>
                  <a:lnTo>
                    <a:pt x="581" y="1532"/>
                  </a:lnTo>
                  <a:lnTo>
                    <a:pt x="563" y="1532"/>
                  </a:lnTo>
                  <a:lnTo>
                    <a:pt x="563" y="1537"/>
                  </a:lnTo>
                  <a:lnTo>
                    <a:pt x="541" y="1537"/>
                  </a:lnTo>
                  <a:lnTo>
                    <a:pt x="541" y="1543"/>
                  </a:lnTo>
                  <a:lnTo>
                    <a:pt x="455" y="1543"/>
                  </a:lnTo>
                  <a:lnTo>
                    <a:pt x="455" y="1549"/>
                  </a:lnTo>
                  <a:lnTo>
                    <a:pt x="375" y="15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7294320" y="2406960"/>
              <a:ext cx="29520" cy="5400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39" y="97"/>
                  </a:moveTo>
                  <a:lnTo>
                    <a:pt x="39" y="85"/>
                  </a:lnTo>
                  <a:lnTo>
                    <a:pt x="34" y="85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8" y="63"/>
                  </a:lnTo>
                  <a:lnTo>
                    <a:pt x="22" y="63"/>
                  </a:lnTo>
                  <a:lnTo>
                    <a:pt x="22" y="51"/>
                  </a:lnTo>
                  <a:lnTo>
                    <a:pt x="17" y="51"/>
                  </a:lnTo>
                  <a:lnTo>
                    <a:pt x="17" y="40"/>
                  </a:lnTo>
                  <a:lnTo>
                    <a:pt x="12" y="40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2" y="17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39" y="34"/>
                  </a:lnTo>
                  <a:lnTo>
                    <a:pt x="39" y="51"/>
                  </a:lnTo>
                  <a:lnTo>
                    <a:pt x="45" y="51"/>
                  </a:lnTo>
                  <a:lnTo>
                    <a:pt x="45" y="68"/>
                  </a:lnTo>
                  <a:lnTo>
                    <a:pt x="51" y="68"/>
                  </a:lnTo>
                  <a:lnTo>
                    <a:pt x="51" y="90"/>
                  </a:lnTo>
                  <a:lnTo>
                    <a:pt x="45" y="90"/>
                  </a:lnTo>
                  <a:lnTo>
                    <a:pt x="39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7304760" y="1610640"/>
              <a:ext cx="6840" cy="68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10" y="6"/>
                  </a:lnTo>
                  <a:lnTo>
                    <a:pt x="5" y="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7143120" y="1449000"/>
              <a:ext cx="207720" cy="115200"/>
            </a:xfrm>
            <a:custGeom>
              <a:avLst/>
              <a:gdLst/>
              <a:ahLst/>
              <a:rect l="l" t="t" r="r" b="b"/>
              <a:pathLst>
                <a:path w="380" h="216">
                  <a:moveTo>
                    <a:pt x="0" y="216"/>
                  </a:moveTo>
                  <a:lnTo>
                    <a:pt x="0" y="199"/>
                  </a:lnTo>
                  <a:lnTo>
                    <a:pt x="5" y="199"/>
                  </a:lnTo>
                  <a:lnTo>
                    <a:pt x="5" y="193"/>
                  </a:lnTo>
                  <a:lnTo>
                    <a:pt x="17" y="193"/>
                  </a:lnTo>
                  <a:lnTo>
                    <a:pt x="17" y="188"/>
                  </a:lnTo>
                  <a:lnTo>
                    <a:pt x="33" y="188"/>
                  </a:lnTo>
                  <a:lnTo>
                    <a:pt x="33" y="182"/>
                  </a:lnTo>
                  <a:lnTo>
                    <a:pt x="40" y="182"/>
                  </a:lnTo>
                  <a:lnTo>
                    <a:pt x="40" y="176"/>
                  </a:lnTo>
                  <a:lnTo>
                    <a:pt x="57" y="176"/>
                  </a:lnTo>
                  <a:lnTo>
                    <a:pt x="57" y="171"/>
                  </a:lnTo>
                  <a:lnTo>
                    <a:pt x="62" y="171"/>
                  </a:lnTo>
                  <a:lnTo>
                    <a:pt x="62" y="165"/>
                  </a:lnTo>
                  <a:lnTo>
                    <a:pt x="68" y="165"/>
                  </a:lnTo>
                  <a:lnTo>
                    <a:pt x="68" y="159"/>
                  </a:lnTo>
                  <a:lnTo>
                    <a:pt x="74" y="159"/>
                  </a:lnTo>
                  <a:lnTo>
                    <a:pt x="74" y="153"/>
                  </a:lnTo>
                  <a:lnTo>
                    <a:pt x="85" y="153"/>
                  </a:lnTo>
                  <a:lnTo>
                    <a:pt x="85" y="148"/>
                  </a:lnTo>
                  <a:lnTo>
                    <a:pt x="102" y="148"/>
                  </a:lnTo>
                  <a:lnTo>
                    <a:pt x="102" y="142"/>
                  </a:lnTo>
                  <a:lnTo>
                    <a:pt x="107" y="142"/>
                  </a:lnTo>
                  <a:lnTo>
                    <a:pt x="107" y="136"/>
                  </a:lnTo>
                  <a:lnTo>
                    <a:pt x="114" y="136"/>
                  </a:lnTo>
                  <a:lnTo>
                    <a:pt x="114" y="131"/>
                  </a:lnTo>
                  <a:lnTo>
                    <a:pt x="119" y="131"/>
                  </a:lnTo>
                  <a:lnTo>
                    <a:pt x="119" y="125"/>
                  </a:lnTo>
                  <a:lnTo>
                    <a:pt x="125" y="125"/>
                  </a:lnTo>
                  <a:lnTo>
                    <a:pt x="125" y="119"/>
                  </a:lnTo>
                  <a:lnTo>
                    <a:pt x="142" y="119"/>
                  </a:lnTo>
                  <a:lnTo>
                    <a:pt x="142" y="114"/>
                  </a:lnTo>
                  <a:lnTo>
                    <a:pt x="153" y="114"/>
                  </a:lnTo>
                  <a:lnTo>
                    <a:pt x="153" y="108"/>
                  </a:lnTo>
                  <a:lnTo>
                    <a:pt x="159" y="108"/>
                  </a:lnTo>
                  <a:lnTo>
                    <a:pt x="159" y="102"/>
                  </a:lnTo>
                  <a:lnTo>
                    <a:pt x="182" y="102"/>
                  </a:lnTo>
                  <a:lnTo>
                    <a:pt x="182" y="108"/>
                  </a:lnTo>
                  <a:lnTo>
                    <a:pt x="199" y="108"/>
                  </a:lnTo>
                  <a:lnTo>
                    <a:pt x="199" y="102"/>
                  </a:lnTo>
                  <a:lnTo>
                    <a:pt x="210" y="102"/>
                  </a:lnTo>
                  <a:lnTo>
                    <a:pt x="210" y="96"/>
                  </a:lnTo>
                  <a:lnTo>
                    <a:pt x="216" y="96"/>
                  </a:lnTo>
                  <a:lnTo>
                    <a:pt x="216" y="91"/>
                  </a:lnTo>
                  <a:lnTo>
                    <a:pt x="221" y="91"/>
                  </a:lnTo>
                  <a:lnTo>
                    <a:pt x="221" y="85"/>
                  </a:lnTo>
                  <a:lnTo>
                    <a:pt x="233" y="85"/>
                  </a:lnTo>
                  <a:lnTo>
                    <a:pt x="233" y="79"/>
                  </a:lnTo>
                  <a:lnTo>
                    <a:pt x="239" y="79"/>
                  </a:lnTo>
                  <a:lnTo>
                    <a:pt x="239" y="74"/>
                  </a:lnTo>
                  <a:lnTo>
                    <a:pt x="244" y="74"/>
                  </a:lnTo>
                  <a:lnTo>
                    <a:pt x="244" y="69"/>
                  </a:lnTo>
                  <a:lnTo>
                    <a:pt x="250" y="69"/>
                  </a:lnTo>
                  <a:lnTo>
                    <a:pt x="250" y="62"/>
                  </a:lnTo>
                  <a:lnTo>
                    <a:pt x="266" y="62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73" y="51"/>
                  </a:lnTo>
                  <a:lnTo>
                    <a:pt x="284" y="51"/>
                  </a:lnTo>
                  <a:lnTo>
                    <a:pt x="284" y="45"/>
                  </a:lnTo>
                  <a:lnTo>
                    <a:pt x="296" y="45"/>
                  </a:lnTo>
                  <a:lnTo>
                    <a:pt x="296" y="40"/>
                  </a:lnTo>
                  <a:lnTo>
                    <a:pt x="307" y="40"/>
                  </a:lnTo>
                  <a:lnTo>
                    <a:pt x="307" y="34"/>
                  </a:lnTo>
                  <a:lnTo>
                    <a:pt x="318" y="34"/>
                  </a:lnTo>
                  <a:lnTo>
                    <a:pt x="318" y="28"/>
                  </a:lnTo>
                  <a:lnTo>
                    <a:pt x="323" y="28"/>
                  </a:lnTo>
                  <a:lnTo>
                    <a:pt x="323" y="22"/>
                  </a:lnTo>
                  <a:lnTo>
                    <a:pt x="335" y="22"/>
                  </a:lnTo>
                  <a:lnTo>
                    <a:pt x="335" y="17"/>
                  </a:lnTo>
                  <a:lnTo>
                    <a:pt x="347" y="17"/>
                  </a:lnTo>
                  <a:lnTo>
                    <a:pt x="347" y="12"/>
                  </a:lnTo>
                  <a:lnTo>
                    <a:pt x="352" y="12"/>
                  </a:lnTo>
                  <a:lnTo>
                    <a:pt x="352" y="5"/>
                  </a:lnTo>
                  <a:lnTo>
                    <a:pt x="364" y="5"/>
                  </a:lnTo>
                  <a:lnTo>
                    <a:pt x="364" y="0"/>
                  </a:lnTo>
                  <a:lnTo>
                    <a:pt x="380" y="0"/>
                  </a:lnTo>
                  <a:lnTo>
                    <a:pt x="380" y="17"/>
                  </a:lnTo>
                  <a:lnTo>
                    <a:pt x="375" y="17"/>
                  </a:lnTo>
                  <a:lnTo>
                    <a:pt x="375" y="22"/>
                  </a:lnTo>
                  <a:lnTo>
                    <a:pt x="370" y="22"/>
                  </a:lnTo>
                  <a:lnTo>
                    <a:pt x="370" y="28"/>
                  </a:lnTo>
                  <a:lnTo>
                    <a:pt x="364" y="28"/>
                  </a:lnTo>
                  <a:lnTo>
                    <a:pt x="364" y="34"/>
                  </a:lnTo>
                  <a:lnTo>
                    <a:pt x="352" y="34"/>
                  </a:lnTo>
                  <a:lnTo>
                    <a:pt x="352" y="40"/>
                  </a:lnTo>
                  <a:lnTo>
                    <a:pt x="347" y="40"/>
                  </a:lnTo>
                  <a:lnTo>
                    <a:pt x="347" y="45"/>
                  </a:lnTo>
                  <a:lnTo>
                    <a:pt x="341" y="45"/>
                  </a:lnTo>
                  <a:lnTo>
                    <a:pt x="341" y="51"/>
                  </a:lnTo>
                  <a:lnTo>
                    <a:pt x="335" y="51"/>
                  </a:lnTo>
                  <a:lnTo>
                    <a:pt x="335" y="57"/>
                  </a:lnTo>
                  <a:lnTo>
                    <a:pt x="323" y="57"/>
                  </a:lnTo>
                  <a:lnTo>
                    <a:pt x="323" y="62"/>
                  </a:lnTo>
                  <a:lnTo>
                    <a:pt x="318" y="62"/>
                  </a:lnTo>
                  <a:lnTo>
                    <a:pt x="318" y="69"/>
                  </a:lnTo>
                  <a:lnTo>
                    <a:pt x="313" y="69"/>
                  </a:lnTo>
                  <a:lnTo>
                    <a:pt x="313" y="74"/>
                  </a:lnTo>
                  <a:lnTo>
                    <a:pt x="301" y="74"/>
                  </a:lnTo>
                  <a:lnTo>
                    <a:pt x="301" y="79"/>
                  </a:lnTo>
                  <a:lnTo>
                    <a:pt x="296" y="79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90" y="91"/>
                  </a:lnTo>
                  <a:lnTo>
                    <a:pt x="278" y="91"/>
                  </a:lnTo>
                  <a:lnTo>
                    <a:pt x="278" y="96"/>
                  </a:lnTo>
                  <a:lnTo>
                    <a:pt x="266" y="96"/>
                  </a:lnTo>
                  <a:lnTo>
                    <a:pt x="266" y="102"/>
                  </a:lnTo>
                  <a:lnTo>
                    <a:pt x="261" y="102"/>
                  </a:lnTo>
                  <a:lnTo>
                    <a:pt x="261" y="108"/>
                  </a:lnTo>
                  <a:lnTo>
                    <a:pt x="250" y="108"/>
                  </a:lnTo>
                  <a:lnTo>
                    <a:pt x="250" y="114"/>
                  </a:lnTo>
                  <a:lnTo>
                    <a:pt x="239" y="114"/>
                  </a:lnTo>
                  <a:lnTo>
                    <a:pt x="239" y="119"/>
                  </a:lnTo>
                  <a:lnTo>
                    <a:pt x="227" y="119"/>
                  </a:lnTo>
                  <a:lnTo>
                    <a:pt x="227" y="125"/>
                  </a:lnTo>
                  <a:lnTo>
                    <a:pt x="210" y="125"/>
                  </a:lnTo>
                  <a:lnTo>
                    <a:pt x="210" y="131"/>
                  </a:lnTo>
                  <a:lnTo>
                    <a:pt x="193" y="131"/>
                  </a:lnTo>
                  <a:lnTo>
                    <a:pt x="193" y="136"/>
                  </a:lnTo>
                  <a:lnTo>
                    <a:pt x="182" y="136"/>
                  </a:lnTo>
                  <a:lnTo>
                    <a:pt x="182" y="142"/>
                  </a:lnTo>
                  <a:lnTo>
                    <a:pt x="164" y="142"/>
                  </a:lnTo>
                  <a:lnTo>
                    <a:pt x="164" y="148"/>
                  </a:lnTo>
                  <a:lnTo>
                    <a:pt x="147" y="148"/>
                  </a:lnTo>
                  <a:lnTo>
                    <a:pt x="147" y="153"/>
                  </a:lnTo>
                  <a:lnTo>
                    <a:pt x="142" y="153"/>
                  </a:lnTo>
                  <a:lnTo>
                    <a:pt x="142" y="159"/>
                  </a:lnTo>
                  <a:lnTo>
                    <a:pt x="130" y="159"/>
                  </a:lnTo>
                  <a:lnTo>
                    <a:pt x="130" y="165"/>
                  </a:lnTo>
                  <a:lnTo>
                    <a:pt x="114" y="165"/>
                  </a:lnTo>
                  <a:lnTo>
                    <a:pt x="114" y="171"/>
                  </a:lnTo>
                  <a:lnTo>
                    <a:pt x="107" y="171"/>
                  </a:lnTo>
                  <a:lnTo>
                    <a:pt x="107" y="176"/>
                  </a:lnTo>
                  <a:lnTo>
                    <a:pt x="97" y="176"/>
                  </a:lnTo>
                  <a:lnTo>
                    <a:pt x="97" y="182"/>
                  </a:lnTo>
                  <a:lnTo>
                    <a:pt x="85" y="182"/>
                  </a:lnTo>
                  <a:lnTo>
                    <a:pt x="85" y="188"/>
                  </a:lnTo>
                  <a:lnTo>
                    <a:pt x="68" y="188"/>
                  </a:lnTo>
                  <a:lnTo>
                    <a:pt x="68" y="193"/>
                  </a:lnTo>
                  <a:lnTo>
                    <a:pt x="57" y="193"/>
                  </a:lnTo>
                  <a:lnTo>
                    <a:pt x="57" y="199"/>
                  </a:lnTo>
                  <a:lnTo>
                    <a:pt x="45" y="199"/>
                  </a:lnTo>
                  <a:lnTo>
                    <a:pt x="45" y="205"/>
                  </a:lnTo>
                  <a:lnTo>
                    <a:pt x="28" y="205"/>
                  </a:lnTo>
                  <a:lnTo>
                    <a:pt x="28" y="210"/>
                  </a:lnTo>
                  <a:lnTo>
                    <a:pt x="23" y="210"/>
                  </a:lnTo>
                  <a:lnTo>
                    <a:pt x="23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6267960" y="3431160"/>
              <a:ext cx="1024920" cy="415440"/>
            </a:xfrm>
            <a:custGeom>
              <a:avLst/>
              <a:gdLst/>
              <a:ahLst/>
              <a:rect l="l" t="t" r="r" b="b"/>
              <a:pathLst>
                <a:path w="1862" h="751">
                  <a:moveTo>
                    <a:pt x="1418" y="751"/>
                  </a:moveTo>
                  <a:lnTo>
                    <a:pt x="1418" y="729"/>
                  </a:lnTo>
                  <a:lnTo>
                    <a:pt x="1423" y="729"/>
                  </a:lnTo>
                  <a:lnTo>
                    <a:pt x="1423" y="717"/>
                  </a:lnTo>
                  <a:lnTo>
                    <a:pt x="1430" y="717"/>
                  </a:lnTo>
                  <a:lnTo>
                    <a:pt x="1430" y="711"/>
                  </a:lnTo>
                  <a:lnTo>
                    <a:pt x="1435" y="711"/>
                  </a:lnTo>
                  <a:lnTo>
                    <a:pt x="1435" y="705"/>
                  </a:lnTo>
                  <a:lnTo>
                    <a:pt x="1440" y="705"/>
                  </a:lnTo>
                  <a:lnTo>
                    <a:pt x="1440" y="700"/>
                  </a:lnTo>
                  <a:lnTo>
                    <a:pt x="1458" y="700"/>
                  </a:lnTo>
                  <a:lnTo>
                    <a:pt x="1458" y="694"/>
                  </a:lnTo>
                  <a:lnTo>
                    <a:pt x="1463" y="694"/>
                  </a:lnTo>
                  <a:lnTo>
                    <a:pt x="1463" y="688"/>
                  </a:lnTo>
                  <a:lnTo>
                    <a:pt x="1469" y="688"/>
                  </a:lnTo>
                  <a:lnTo>
                    <a:pt x="1469" y="682"/>
                  </a:lnTo>
                  <a:lnTo>
                    <a:pt x="1475" y="682"/>
                  </a:lnTo>
                  <a:lnTo>
                    <a:pt x="1475" y="677"/>
                  </a:lnTo>
                  <a:lnTo>
                    <a:pt x="1480" y="677"/>
                  </a:lnTo>
                  <a:lnTo>
                    <a:pt x="1480" y="672"/>
                  </a:lnTo>
                  <a:lnTo>
                    <a:pt x="1486" y="672"/>
                  </a:lnTo>
                  <a:lnTo>
                    <a:pt x="1486" y="665"/>
                  </a:lnTo>
                  <a:lnTo>
                    <a:pt x="1491" y="665"/>
                  </a:lnTo>
                  <a:lnTo>
                    <a:pt x="1491" y="660"/>
                  </a:lnTo>
                  <a:lnTo>
                    <a:pt x="1497" y="660"/>
                  </a:lnTo>
                  <a:lnTo>
                    <a:pt x="1497" y="654"/>
                  </a:lnTo>
                  <a:lnTo>
                    <a:pt x="1503" y="654"/>
                  </a:lnTo>
                  <a:lnTo>
                    <a:pt x="1503" y="648"/>
                  </a:lnTo>
                  <a:lnTo>
                    <a:pt x="1508" y="648"/>
                  </a:lnTo>
                  <a:lnTo>
                    <a:pt x="1508" y="643"/>
                  </a:lnTo>
                  <a:lnTo>
                    <a:pt x="1515" y="643"/>
                  </a:lnTo>
                  <a:lnTo>
                    <a:pt x="1515" y="637"/>
                  </a:lnTo>
                  <a:lnTo>
                    <a:pt x="1520" y="637"/>
                  </a:lnTo>
                  <a:lnTo>
                    <a:pt x="1520" y="631"/>
                  </a:lnTo>
                  <a:lnTo>
                    <a:pt x="1525" y="631"/>
                  </a:lnTo>
                  <a:lnTo>
                    <a:pt x="1525" y="625"/>
                  </a:lnTo>
                  <a:lnTo>
                    <a:pt x="1532" y="625"/>
                  </a:lnTo>
                  <a:lnTo>
                    <a:pt x="1532" y="620"/>
                  </a:lnTo>
                  <a:lnTo>
                    <a:pt x="1537" y="620"/>
                  </a:lnTo>
                  <a:lnTo>
                    <a:pt x="1537" y="614"/>
                  </a:lnTo>
                  <a:lnTo>
                    <a:pt x="1542" y="614"/>
                  </a:lnTo>
                  <a:lnTo>
                    <a:pt x="1542" y="608"/>
                  </a:lnTo>
                  <a:lnTo>
                    <a:pt x="1548" y="608"/>
                  </a:lnTo>
                  <a:lnTo>
                    <a:pt x="1548" y="603"/>
                  </a:lnTo>
                  <a:lnTo>
                    <a:pt x="1554" y="603"/>
                  </a:lnTo>
                  <a:lnTo>
                    <a:pt x="1554" y="597"/>
                  </a:lnTo>
                  <a:lnTo>
                    <a:pt x="1565" y="597"/>
                  </a:lnTo>
                  <a:lnTo>
                    <a:pt x="1565" y="591"/>
                  </a:lnTo>
                  <a:lnTo>
                    <a:pt x="1572" y="591"/>
                  </a:lnTo>
                  <a:lnTo>
                    <a:pt x="1572" y="586"/>
                  </a:lnTo>
                  <a:lnTo>
                    <a:pt x="1577" y="586"/>
                  </a:lnTo>
                  <a:lnTo>
                    <a:pt x="1577" y="580"/>
                  </a:lnTo>
                  <a:lnTo>
                    <a:pt x="1582" y="580"/>
                  </a:lnTo>
                  <a:lnTo>
                    <a:pt x="1582" y="568"/>
                  </a:lnTo>
                  <a:lnTo>
                    <a:pt x="1589" y="568"/>
                  </a:lnTo>
                  <a:lnTo>
                    <a:pt x="1589" y="563"/>
                  </a:lnTo>
                  <a:lnTo>
                    <a:pt x="1594" y="563"/>
                  </a:lnTo>
                  <a:lnTo>
                    <a:pt x="1594" y="552"/>
                  </a:lnTo>
                  <a:lnTo>
                    <a:pt x="1599" y="552"/>
                  </a:lnTo>
                  <a:lnTo>
                    <a:pt x="1599" y="546"/>
                  </a:lnTo>
                  <a:lnTo>
                    <a:pt x="1605" y="546"/>
                  </a:lnTo>
                  <a:lnTo>
                    <a:pt x="1605" y="541"/>
                  </a:lnTo>
                  <a:lnTo>
                    <a:pt x="1611" y="541"/>
                  </a:lnTo>
                  <a:lnTo>
                    <a:pt x="1611" y="535"/>
                  </a:lnTo>
                  <a:lnTo>
                    <a:pt x="1617" y="535"/>
                  </a:lnTo>
                  <a:lnTo>
                    <a:pt x="1617" y="529"/>
                  </a:lnTo>
                  <a:lnTo>
                    <a:pt x="1622" y="529"/>
                  </a:lnTo>
                  <a:lnTo>
                    <a:pt x="1622" y="523"/>
                  </a:lnTo>
                  <a:lnTo>
                    <a:pt x="1628" y="523"/>
                  </a:lnTo>
                  <a:lnTo>
                    <a:pt x="1628" y="518"/>
                  </a:lnTo>
                  <a:lnTo>
                    <a:pt x="1634" y="518"/>
                  </a:lnTo>
                  <a:lnTo>
                    <a:pt x="1634" y="512"/>
                  </a:lnTo>
                  <a:lnTo>
                    <a:pt x="1639" y="512"/>
                  </a:lnTo>
                  <a:lnTo>
                    <a:pt x="1639" y="506"/>
                  </a:lnTo>
                  <a:lnTo>
                    <a:pt x="1646" y="506"/>
                  </a:lnTo>
                  <a:lnTo>
                    <a:pt x="1646" y="495"/>
                  </a:lnTo>
                  <a:lnTo>
                    <a:pt x="1651" y="495"/>
                  </a:lnTo>
                  <a:lnTo>
                    <a:pt x="1651" y="484"/>
                  </a:lnTo>
                  <a:lnTo>
                    <a:pt x="1656" y="484"/>
                  </a:lnTo>
                  <a:lnTo>
                    <a:pt x="1656" y="478"/>
                  </a:lnTo>
                  <a:lnTo>
                    <a:pt x="1662" y="478"/>
                  </a:lnTo>
                  <a:lnTo>
                    <a:pt x="1662" y="472"/>
                  </a:lnTo>
                  <a:lnTo>
                    <a:pt x="1668" y="472"/>
                  </a:lnTo>
                  <a:lnTo>
                    <a:pt x="1668" y="461"/>
                  </a:lnTo>
                  <a:lnTo>
                    <a:pt x="1674" y="461"/>
                  </a:lnTo>
                  <a:lnTo>
                    <a:pt x="1674" y="455"/>
                  </a:lnTo>
                  <a:lnTo>
                    <a:pt x="1679" y="455"/>
                  </a:lnTo>
                  <a:lnTo>
                    <a:pt x="1679" y="449"/>
                  </a:lnTo>
                  <a:lnTo>
                    <a:pt x="1685" y="449"/>
                  </a:lnTo>
                  <a:lnTo>
                    <a:pt x="1685" y="444"/>
                  </a:lnTo>
                  <a:lnTo>
                    <a:pt x="1691" y="444"/>
                  </a:lnTo>
                  <a:lnTo>
                    <a:pt x="1691" y="438"/>
                  </a:lnTo>
                  <a:lnTo>
                    <a:pt x="1696" y="438"/>
                  </a:lnTo>
                  <a:lnTo>
                    <a:pt x="1696" y="432"/>
                  </a:lnTo>
                  <a:lnTo>
                    <a:pt x="1703" y="432"/>
                  </a:lnTo>
                  <a:lnTo>
                    <a:pt x="1703" y="427"/>
                  </a:lnTo>
                  <a:lnTo>
                    <a:pt x="1708" y="427"/>
                  </a:lnTo>
                  <a:lnTo>
                    <a:pt x="1708" y="421"/>
                  </a:lnTo>
                  <a:lnTo>
                    <a:pt x="1713" y="421"/>
                  </a:lnTo>
                  <a:lnTo>
                    <a:pt x="1713" y="415"/>
                  </a:lnTo>
                  <a:lnTo>
                    <a:pt x="1720" y="415"/>
                  </a:lnTo>
                  <a:lnTo>
                    <a:pt x="1720" y="409"/>
                  </a:lnTo>
                  <a:lnTo>
                    <a:pt x="1725" y="409"/>
                  </a:lnTo>
                  <a:lnTo>
                    <a:pt x="1725" y="404"/>
                  </a:lnTo>
                  <a:lnTo>
                    <a:pt x="1731" y="404"/>
                  </a:lnTo>
                  <a:lnTo>
                    <a:pt x="1731" y="398"/>
                  </a:lnTo>
                  <a:lnTo>
                    <a:pt x="1736" y="398"/>
                  </a:lnTo>
                  <a:lnTo>
                    <a:pt x="1736" y="387"/>
                  </a:lnTo>
                  <a:lnTo>
                    <a:pt x="1742" y="387"/>
                  </a:lnTo>
                  <a:lnTo>
                    <a:pt x="1742" y="381"/>
                  </a:lnTo>
                  <a:lnTo>
                    <a:pt x="1748" y="381"/>
                  </a:lnTo>
                  <a:lnTo>
                    <a:pt x="1748" y="375"/>
                  </a:lnTo>
                  <a:lnTo>
                    <a:pt x="1753" y="375"/>
                  </a:lnTo>
                  <a:lnTo>
                    <a:pt x="1753" y="370"/>
                  </a:lnTo>
                  <a:lnTo>
                    <a:pt x="1760" y="370"/>
                  </a:lnTo>
                  <a:lnTo>
                    <a:pt x="1760" y="364"/>
                  </a:lnTo>
                  <a:lnTo>
                    <a:pt x="1765" y="364"/>
                  </a:lnTo>
                  <a:lnTo>
                    <a:pt x="1765" y="352"/>
                  </a:lnTo>
                  <a:lnTo>
                    <a:pt x="1770" y="352"/>
                  </a:lnTo>
                  <a:lnTo>
                    <a:pt x="1770" y="341"/>
                  </a:lnTo>
                  <a:lnTo>
                    <a:pt x="1777" y="341"/>
                  </a:lnTo>
                  <a:lnTo>
                    <a:pt x="1777" y="330"/>
                  </a:lnTo>
                  <a:lnTo>
                    <a:pt x="1782" y="330"/>
                  </a:lnTo>
                  <a:lnTo>
                    <a:pt x="1782" y="313"/>
                  </a:lnTo>
                  <a:lnTo>
                    <a:pt x="1788" y="313"/>
                  </a:lnTo>
                  <a:lnTo>
                    <a:pt x="1788" y="301"/>
                  </a:lnTo>
                  <a:lnTo>
                    <a:pt x="1793" y="301"/>
                  </a:lnTo>
                  <a:lnTo>
                    <a:pt x="1793" y="284"/>
                  </a:lnTo>
                  <a:lnTo>
                    <a:pt x="1799" y="284"/>
                  </a:lnTo>
                  <a:lnTo>
                    <a:pt x="1799" y="261"/>
                  </a:lnTo>
                  <a:lnTo>
                    <a:pt x="1805" y="261"/>
                  </a:lnTo>
                  <a:lnTo>
                    <a:pt x="1805" y="244"/>
                  </a:lnTo>
                  <a:lnTo>
                    <a:pt x="1810" y="244"/>
                  </a:lnTo>
                  <a:lnTo>
                    <a:pt x="1810" y="233"/>
                  </a:lnTo>
                  <a:lnTo>
                    <a:pt x="1817" y="233"/>
                  </a:lnTo>
                  <a:lnTo>
                    <a:pt x="1817" y="210"/>
                  </a:lnTo>
                  <a:lnTo>
                    <a:pt x="1810" y="210"/>
                  </a:lnTo>
                  <a:lnTo>
                    <a:pt x="1810" y="199"/>
                  </a:lnTo>
                  <a:lnTo>
                    <a:pt x="1805" y="199"/>
                  </a:lnTo>
                  <a:lnTo>
                    <a:pt x="1805" y="193"/>
                  </a:lnTo>
                  <a:lnTo>
                    <a:pt x="1748" y="193"/>
                  </a:lnTo>
                  <a:lnTo>
                    <a:pt x="1748" y="187"/>
                  </a:lnTo>
                  <a:lnTo>
                    <a:pt x="1679" y="187"/>
                  </a:lnTo>
                  <a:lnTo>
                    <a:pt x="1679" y="182"/>
                  </a:lnTo>
                  <a:lnTo>
                    <a:pt x="1662" y="182"/>
                  </a:lnTo>
                  <a:lnTo>
                    <a:pt x="1662" y="187"/>
                  </a:lnTo>
                  <a:lnTo>
                    <a:pt x="1646" y="187"/>
                  </a:lnTo>
                  <a:lnTo>
                    <a:pt x="1646" y="182"/>
                  </a:lnTo>
                  <a:lnTo>
                    <a:pt x="1515" y="182"/>
                  </a:lnTo>
                  <a:lnTo>
                    <a:pt x="1515" y="176"/>
                  </a:lnTo>
                  <a:lnTo>
                    <a:pt x="1435" y="176"/>
                  </a:lnTo>
                  <a:lnTo>
                    <a:pt x="1435" y="170"/>
                  </a:lnTo>
                  <a:lnTo>
                    <a:pt x="1344" y="170"/>
                  </a:lnTo>
                  <a:lnTo>
                    <a:pt x="1344" y="164"/>
                  </a:lnTo>
                  <a:lnTo>
                    <a:pt x="1304" y="164"/>
                  </a:lnTo>
                  <a:lnTo>
                    <a:pt x="1304" y="159"/>
                  </a:lnTo>
                  <a:lnTo>
                    <a:pt x="1269" y="159"/>
                  </a:lnTo>
                  <a:lnTo>
                    <a:pt x="1269" y="154"/>
                  </a:lnTo>
                  <a:lnTo>
                    <a:pt x="1235" y="154"/>
                  </a:lnTo>
                  <a:lnTo>
                    <a:pt x="1235" y="148"/>
                  </a:lnTo>
                  <a:lnTo>
                    <a:pt x="1173" y="148"/>
                  </a:lnTo>
                  <a:lnTo>
                    <a:pt x="1173" y="142"/>
                  </a:lnTo>
                  <a:lnTo>
                    <a:pt x="1099" y="142"/>
                  </a:lnTo>
                  <a:lnTo>
                    <a:pt x="1099" y="137"/>
                  </a:lnTo>
                  <a:lnTo>
                    <a:pt x="1071" y="137"/>
                  </a:lnTo>
                  <a:lnTo>
                    <a:pt x="1071" y="131"/>
                  </a:lnTo>
                  <a:lnTo>
                    <a:pt x="1036" y="131"/>
                  </a:lnTo>
                  <a:lnTo>
                    <a:pt x="1036" y="125"/>
                  </a:lnTo>
                  <a:lnTo>
                    <a:pt x="985" y="125"/>
                  </a:lnTo>
                  <a:lnTo>
                    <a:pt x="985" y="119"/>
                  </a:lnTo>
                  <a:lnTo>
                    <a:pt x="934" y="119"/>
                  </a:lnTo>
                  <a:lnTo>
                    <a:pt x="934" y="114"/>
                  </a:lnTo>
                  <a:lnTo>
                    <a:pt x="910" y="114"/>
                  </a:lnTo>
                  <a:lnTo>
                    <a:pt x="910" y="107"/>
                  </a:lnTo>
                  <a:lnTo>
                    <a:pt x="894" y="107"/>
                  </a:lnTo>
                  <a:lnTo>
                    <a:pt x="894" y="102"/>
                  </a:lnTo>
                  <a:lnTo>
                    <a:pt x="865" y="102"/>
                  </a:lnTo>
                  <a:lnTo>
                    <a:pt x="865" y="97"/>
                  </a:lnTo>
                  <a:lnTo>
                    <a:pt x="831" y="97"/>
                  </a:lnTo>
                  <a:lnTo>
                    <a:pt x="831" y="91"/>
                  </a:lnTo>
                  <a:lnTo>
                    <a:pt x="808" y="91"/>
                  </a:lnTo>
                  <a:lnTo>
                    <a:pt x="808" y="85"/>
                  </a:lnTo>
                  <a:lnTo>
                    <a:pt x="769" y="85"/>
                  </a:lnTo>
                  <a:lnTo>
                    <a:pt x="769" y="80"/>
                  </a:lnTo>
                  <a:lnTo>
                    <a:pt x="722" y="80"/>
                  </a:lnTo>
                  <a:lnTo>
                    <a:pt x="722" y="74"/>
                  </a:lnTo>
                  <a:lnTo>
                    <a:pt x="694" y="74"/>
                  </a:lnTo>
                  <a:lnTo>
                    <a:pt x="694" y="68"/>
                  </a:lnTo>
                  <a:lnTo>
                    <a:pt x="655" y="68"/>
                  </a:lnTo>
                  <a:lnTo>
                    <a:pt x="655" y="62"/>
                  </a:lnTo>
                  <a:lnTo>
                    <a:pt x="615" y="62"/>
                  </a:lnTo>
                  <a:lnTo>
                    <a:pt x="615" y="57"/>
                  </a:lnTo>
                  <a:lnTo>
                    <a:pt x="478" y="57"/>
                  </a:lnTo>
                  <a:lnTo>
                    <a:pt x="478" y="51"/>
                  </a:lnTo>
                  <a:lnTo>
                    <a:pt x="410" y="51"/>
                  </a:lnTo>
                  <a:lnTo>
                    <a:pt x="410" y="45"/>
                  </a:lnTo>
                  <a:lnTo>
                    <a:pt x="364" y="45"/>
                  </a:lnTo>
                  <a:lnTo>
                    <a:pt x="364" y="51"/>
                  </a:lnTo>
                  <a:lnTo>
                    <a:pt x="359" y="51"/>
                  </a:lnTo>
                  <a:lnTo>
                    <a:pt x="359" y="57"/>
                  </a:lnTo>
                  <a:lnTo>
                    <a:pt x="353" y="57"/>
                  </a:lnTo>
                  <a:lnTo>
                    <a:pt x="353" y="68"/>
                  </a:lnTo>
                  <a:lnTo>
                    <a:pt x="347" y="68"/>
                  </a:lnTo>
                  <a:lnTo>
                    <a:pt x="347" y="74"/>
                  </a:lnTo>
                  <a:lnTo>
                    <a:pt x="342" y="74"/>
                  </a:lnTo>
                  <a:lnTo>
                    <a:pt x="342" y="85"/>
                  </a:lnTo>
                  <a:lnTo>
                    <a:pt x="335" y="85"/>
                  </a:lnTo>
                  <a:lnTo>
                    <a:pt x="335" y="97"/>
                  </a:lnTo>
                  <a:lnTo>
                    <a:pt x="330" y="97"/>
                  </a:lnTo>
                  <a:lnTo>
                    <a:pt x="330" y="102"/>
                  </a:lnTo>
                  <a:lnTo>
                    <a:pt x="325" y="102"/>
                  </a:lnTo>
                  <a:lnTo>
                    <a:pt x="325" y="114"/>
                  </a:lnTo>
                  <a:lnTo>
                    <a:pt x="318" y="114"/>
                  </a:lnTo>
                  <a:lnTo>
                    <a:pt x="318" y="119"/>
                  </a:lnTo>
                  <a:lnTo>
                    <a:pt x="313" y="119"/>
                  </a:lnTo>
                  <a:lnTo>
                    <a:pt x="313" y="131"/>
                  </a:lnTo>
                  <a:lnTo>
                    <a:pt x="308" y="131"/>
                  </a:lnTo>
                  <a:lnTo>
                    <a:pt x="308" y="137"/>
                  </a:lnTo>
                  <a:lnTo>
                    <a:pt x="302" y="137"/>
                  </a:lnTo>
                  <a:lnTo>
                    <a:pt x="302" y="142"/>
                  </a:lnTo>
                  <a:lnTo>
                    <a:pt x="296" y="142"/>
                  </a:lnTo>
                  <a:lnTo>
                    <a:pt x="296" y="148"/>
                  </a:lnTo>
                  <a:lnTo>
                    <a:pt x="290" y="148"/>
                  </a:lnTo>
                  <a:lnTo>
                    <a:pt x="290" y="159"/>
                  </a:lnTo>
                  <a:lnTo>
                    <a:pt x="285" y="159"/>
                  </a:lnTo>
                  <a:lnTo>
                    <a:pt x="285" y="164"/>
                  </a:lnTo>
                  <a:lnTo>
                    <a:pt x="278" y="164"/>
                  </a:lnTo>
                  <a:lnTo>
                    <a:pt x="278" y="170"/>
                  </a:lnTo>
                  <a:lnTo>
                    <a:pt x="273" y="170"/>
                  </a:lnTo>
                  <a:lnTo>
                    <a:pt x="273" y="176"/>
                  </a:lnTo>
                  <a:lnTo>
                    <a:pt x="268" y="176"/>
                  </a:lnTo>
                  <a:lnTo>
                    <a:pt x="268" y="182"/>
                  </a:lnTo>
                  <a:lnTo>
                    <a:pt x="262" y="182"/>
                  </a:lnTo>
                  <a:lnTo>
                    <a:pt x="262" y="187"/>
                  </a:lnTo>
                  <a:lnTo>
                    <a:pt x="257" y="187"/>
                  </a:lnTo>
                  <a:lnTo>
                    <a:pt x="257" y="193"/>
                  </a:lnTo>
                  <a:lnTo>
                    <a:pt x="251" y="193"/>
                  </a:lnTo>
                  <a:lnTo>
                    <a:pt x="251" y="199"/>
                  </a:lnTo>
                  <a:lnTo>
                    <a:pt x="245" y="199"/>
                  </a:lnTo>
                  <a:lnTo>
                    <a:pt x="245" y="204"/>
                  </a:lnTo>
                  <a:lnTo>
                    <a:pt x="240" y="204"/>
                  </a:lnTo>
                  <a:lnTo>
                    <a:pt x="240" y="210"/>
                  </a:lnTo>
                  <a:lnTo>
                    <a:pt x="233" y="210"/>
                  </a:lnTo>
                  <a:lnTo>
                    <a:pt x="233" y="216"/>
                  </a:lnTo>
                  <a:lnTo>
                    <a:pt x="228" y="216"/>
                  </a:lnTo>
                  <a:lnTo>
                    <a:pt x="228" y="227"/>
                  </a:lnTo>
                  <a:lnTo>
                    <a:pt x="223" y="227"/>
                  </a:lnTo>
                  <a:lnTo>
                    <a:pt x="223" y="233"/>
                  </a:lnTo>
                  <a:lnTo>
                    <a:pt x="216" y="233"/>
                  </a:lnTo>
                  <a:lnTo>
                    <a:pt x="216" y="244"/>
                  </a:lnTo>
                  <a:lnTo>
                    <a:pt x="211" y="244"/>
                  </a:lnTo>
                  <a:lnTo>
                    <a:pt x="211" y="250"/>
                  </a:lnTo>
                  <a:lnTo>
                    <a:pt x="205" y="250"/>
                  </a:lnTo>
                  <a:lnTo>
                    <a:pt x="205" y="267"/>
                  </a:lnTo>
                  <a:lnTo>
                    <a:pt x="200" y="267"/>
                  </a:lnTo>
                  <a:lnTo>
                    <a:pt x="200" y="273"/>
                  </a:lnTo>
                  <a:lnTo>
                    <a:pt x="194" y="273"/>
                  </a:lnTo>
                  <a:lnTo>
                    <a:pt x="194" y="278"/>
                  </a:lnTo>
                  <a:lnTo>
                    <a:pt x="188" y="278"/>
                  </a:lnTo>
                  <a:lnTo>
                    <a:pt x="188" y="284"/>
                  </a:lnTo>
                  <a:lnTo>
                    <a:pt x="183" y="284"/>
                  </a:lnTo>
                  <a:lnTo>
                    <a:pt x="183" y="301"/>
                  </a:lnTo>
                  <a:lnTo>
                    <a:pt x="176" y="301"/>
                  </a:lnTo>
                  <a:lnTo>
                    <a:pt x="176" y="307"/>
                  </a:lnTo>
                  <a:lnTo>
                    <a:pt x="171" y="307"/>
                  </a:lnTo>
                  <a:lnTo>
                    <a:pt x="171" y="318"/>
                  </a:lnTo>
                  <a:lnTo>
                    <a:pt x="166" y="318"/>
                  </a:lnTo>
                  <a:lnTo>
                    <a:pt x="166" y="330"/>
                  </a:lnTo>
                  <a:lnTo>
                    <a:pt x="159" y="330"/>
                  </a:lnTo>
                  <a:lnTo>
                    <a:pt x="159" y="347"/>
                  </a:lnTo>
                  <a:lnTo>
                    <a:pt x="154" y="347"/>
                  </a:lnTo>
                  <a:lnTo>
                    <a:pt x="154" y="358"/>
                  </a:lnTo>
                  <a:lnTo>
                    <a:pt x="148" y="358"/>
                  </a:lnTo>
                  <a:lnTo>
                    <a:pt x="148" y="364"/>
                  </a:lnTo>
                  <a:lnTo>
                    <a:pt x="142" y="364"/>
                  </a:lnTo>
                  <a:lnTo>
                    <a:pt x="142" y="370"/>
                  </a:lnTo>
                  <a:lnTo>
                    <a:pt x="137" y="370"/>
                  </a:lnTo>
                  <a:lnTo>
                    <a:pt x="137" y="375"/>
                  </a:lnTo>
                  <a:lnTo>
                    <a:pt x="131" y="375"/>
                  </a:lnTo>
                  <a:lnTo>
                    <a:pt x="131" y="381"/>
                  </a:lnTo>
                  <a:lnTo>
                    <a:pt x="126" y="381"/>
                  </a:lnTo>
                  <a:lnTo>
                    <a:pt x="126" y="387"/>
                  </a:lnTo>
                  <a:lnTo>
                    <a:pt x="119" y="387"/>
                  </a:lnTo>
                  <a:lnTo>
                    <a:pt x="119" y="392"/>
                  </a:lnTo>
                  <a:lnTo>
                    <a:pt x="114" y="392"/>
                  </a:lnTo>
                  <a:lnTo>
                    <a:pt x="114" y="404"/>
                  </a:lnTo>
                  <a:lnTo>
                    <a:pt x="109" y="404"/>
                  </a:lnTo>
                  <a:lnTo>
                    <a:pt x="109" y="409"/>
                  </a:lnTo>
                  <a:lnTo>
                    <a:pt x="102" y="409"/>
                  </a:lnTo>
                  <a:lnTo>
                    <a:pt x="102" y="415"/>
                  </a:lnTo>
                  <a:lnTo>
                    <a:pt x="97" y="415"/>
                  </a:lnTo>
                  <a:lnTo>
                    <a:pt x="97" y="427"/>
                  </a:lnTo>
                  <a:lnTo>
                    <a:pt x="91" y="427"/>
                  </a:lnTo>
                  <a:lnTo>
                    <a:pt x="91" y="432"/>
                  </a:lnTo>
                  <a:lnTo>
                    <a:pt x="85" y="432"/>
                  </a:lnTo>
                  <a:lnTo>
                    <a:pt x="85" y="444"/>
                  </a:lnTo>
                  <a:lnTo>
                    <a:pt x="80" y="444"/>
                  </a:lnTo>
                  <a:lnTo>
                    <a:pt x="80" y="449"/>
                  </a:lnTo>
                  <a:lnTo>
                    <a:pt x="74" y="449"/>
                  </a:lnTo>
                  <a:lnTo>
                    <a:pt x="74" y="455"/>
                  </a:lnTo>
                  <a:lnTo>
                    <a:pt x="69" y="455"/>
                  </a:lnTo>
                  <a:lnTo>
                    <a:pt x="69" y="466"/>
                  </a:lnTo>
                  <a:lnTo>
                    <a:pt x="62" y="466"/>
                  </a:lnTo>
                  <a:lnTo>
                    <a:pt x="62" y="478"/>
                  </a:lnTo>
                  <a:lnTo>
                    <a:pt x="57" y="478"/>
                  </a:lnTo>
                  <a:lnTo>
                    <a:pt x="57" y="484"/>
                  </a:lnTo>
                  <a:lnTo>
                    <a:pt x="52" y="484"/>
                  </a:lnTo>
                  <a:lnTo>
                    <a:pt x="52" y="501"/>
                  </a:lnTo>
                  <a:lnTo>
                    <a:pt x="45" y="501"/>
                  </a:lnTo>
                  <a:lnTo>
                    <a:pt x="45" y="506"/>
                  </a:lnTo>
                  <a:lnTo>
                    <a:pt x="40" y="506"/>
                  </a:lnTo>
                  <a:lnTo>
                    <a:pt x="40" y="512"/>
                  </a:lnTo>
                  <a:lnTo>
                    <a:pt x="35" y="512"/>
                  </a:lnTo>
                  <a:lnTo>
                    <a:pt x="35" y="523"/>
                  </a:lnTo>
                  <a:lnTo>
                    <a:pt x="28" y="523"/>
                  </a:lnTo>
                  <a:lnTo>
                    <a:pt x="28" y="535"/>
                  </a:lnTo>
                  <a:lnTo>
                    <a:pt x="12" y="535"/>
                  </a:lnTo>
                  <a:lnTo>
                    <a:pt x="12" y="529"/>
                  </a:lnTo>
                  <a:lnTo>
                    <a:pt x="5" y="529"/>
                  </a:lnTo>
                  <a:lnTo>
                    <a:pt x="5" y="518"/>
                  </a:lnTo>
                  <a:lnTo>
                    <a:pt x="0" y="518"/>
                  </a:lnTo>
                  <a:lnTo>
                    <a:pt x="0" y="501"/>
                  </a:lnTo>
                  <a:lnTo>
                    <a:pt x="5" y="501"/>
                  </a:lnTo>
                  <a:lnTo>
                    <a:pt x="5" y="495"/>
                  </a:lnTo>
                  <a:lnTo>
                    <a:pt x="17" y="495"/>
                  </a:lnTo>
                  <a:lnTo>
                    <a:pt x="17" y="489"/>
                  </a:lnTo>
                  <a:lnTo>
                    <a:pt x="23" y="489"/>
                  </a:lnTo>
                  <a:lnTo>
                    <a:pt x="23" y="478"/>
                  </a:lnTo>
                  <a:lnTo>
                    <a:pt x="28" y="478"/>
                  </a:lnTo>
                  <a:lnTo>
                    <a:pt x="28" y="466"/>
                  </a:lnTo>
                  <a:lnTo>
                    <a:pt x="35" y="466"/>
                  </a:lnTo>
                  <a:lnTo>
                    <a:pt x="35" y="461"/>
                  </a:lnTo>
                  <a:lnTo>
                    <a:pt x="40" y="461"/>
                  </a:lnTo>
                  <a:lnTo>
                    <a:pt x="40" y="449"/>
                  </a:lnTo>
                  <a:lnTo>
                    <a:pt x="45" y="449"/>
                  </a:lnTo>
                  <a:lnTo>
                    <a:pt x="45" y="444"/>
                  </a:lnTo>
                  <a:lnTo>
                    <a:pt x="52" y="444"/>
                  </a:lnTo>
                  <a:lnTo>
                    <a:pt x="52" y="432"/>
                  </a:lnTo>
                  <a:lnTo>
                    <a:pt x="57" y="432"/>
                  </a:lnTo>
                  <a:lnTo>
                    <a:pt x="57" y="421"/>
                  </a:lnTo>
                  <a:lnTo>
                    <a:pt x="62" y="421"/>
                  </a:lnTo>
                  <a:lnTo>
                    <a:pt x="62" y="415"/>
                  </a:lnTo>
                  <a:lnTo>
                    <a:pt x="69" y="415"/>
                  </a:lnTo>
                  <a:lnTo>
                    <a:pt x="69" y="409"/>
                  </a:lnTo>
                  <a:lnTo>
                    <a:pt x="74" y="409"/>
                  </a:lnTo>
                  <a:lnTo>
                    <a:pt x="74" y="404"/>
                  </a:lnTo>
                  <a:lnTo>
                    <a:pt x="80" y="404"/>
                  </a:lnTo>
                  <a:lnTo>
                    <a:pt x="80" y="392"/>
                  </a:lnTo>
                  <a:lnTo>
                    <a:pt x="85" y="392"/>
                  </a:lnTo>
                  <a:lnTo>
                    <a:pt x="85" y="387"/>
                  </a:lnTo>
                  <a:lnTo>
                    <a:pt x="91" y="387"/>
                  </a:lnTo>
                  <a:lnTo>
                    <a:pt x="91" y="381"/>
                  </a:lnTo>
                  <a:lnTo>
                    <a:pt x="97" y="381"/>
                  </a:lnTo>
                  <a:lnTo>
                    <a:pt x="97" y="370"/>
                  </a:lnTo>
                  <a:lnTo>
                    <a:pt x="102" y="370"/>
                  </a:lnTo>
                  <a:lnTo>
                    <a:pt x="102" y="364"/>
                  </a:lnTo>
                  <a:lnTo>
                    <a:pt x="109" y="364"/>
                  </a:lnTo>
                  <a:lnTo>
                    <a:pt x="109" y="358"/>
                  </a:lnTo>
                  <a:lnTo>
                    <a:pt x="114" y="358"/>
                  </a:lnTo>
                  <a:lnTo>
                    <a:pt x="114" y="347"/>
                  </a:lnTo>
                  <a:lnTo>
                    <a:pt x="119" y="347"/>
                  </a:lnTo>
                  <a:lnTo>
                    <a:pt x="119" y="341"/>
                  </a:lnTo>
                  <a:lnTo>
                    <a:pt x="126" y="341"/>
                  </a:lnTo>
                  <a:lnTo>
                    <a:pt x="126" y="335"/>
                  </a:lnTo>
                  <a:lnTo>
                    <a:pt x="131" y="335"/>
                  </a:lnTo>
                  <a:lnTo>
                    <a:pt x="131" y="323"/>
                  </a:lnTo>
                  <a:lnTo>
                    <a:pt x="137" y="323"/>
                  </a:lnTo>
                  <a:lnTo>
                    <a:pt x="137" y="313"/>
                  </a:lnTo>
                  <a:lnTo>
                    <a:pt x="142" y="313"/>
                  </a:lnTo>
                  <a:lnTo>
                    <a:pt x="142" y="301"/>
                  </a:lnTo>
                  <a:lnTo>
                    <a:pt x="148" y="301"/>
                  </a:lnTo>
                  <a:lnTo>
                    <a:pt x="148" y="296"/>
                  </a:lnTo>
                  <a:lnTo>
                    <a:pt x="154" y="296"/>
                  </a:lnTo>
                  <a:lnTo>
                    <a:pt x="154" y="284"/>
                  </a:lnTo>
                  <a:lnTo>
                    <a:pt x="159" y="284"/>
                  </a:lnTo>
                  <a:lnTo>
                    <a:pt x="159" y="278"/>
                  </a:lnTo>
                  <a:lnTo>
                    <a:pt x="166" y="278"/>
                  </a:lnTo>
                  <a:lnTo>
                    <a:pt x="166" y="267"/>
                  </a:lnTo>
                  <a:lnTo>
                    <a:pt x="171" y="267"/>
                  </a:lnTo>
                  <a:lnTo>
                    <a:pt x="171" y="261"/>
                  </a:lnTo>
                  <a:lnTo>
                    <a:pt x="176" y="261"/>
                  </a:lnTo>
                  <a:lnTo>
                    <a:pt x="176" y="250"/>
                  </a:lnTo>
                  <a:lnTo>
                    <a:pt x="183" y="250"/>
                  </a:lnTo>
                  <a:lnTo>
                    <a:pt x="183" y="244"/>
                  </a:lnTo>
                  <a:lnTo>
                    <a:pt x="188" y="244"/>
                  </a:lnTo>
                  <a:lnTo>
                    <a:pt x="188" y="233"/>
                  </a:lnTo>
                  <a:lnTo>
                    <a:pt x="194" y="233"/>
                  </a:lnTo>
                  <a:lnTo>
                    <a:pt x="194" y="221"/>
                  </a:lnTo>
                  <a:lnTo>
                    <a:pt x="200" y="221"/>
                  </a:lnTo>
                  <a:lnTo>
                    <a:pt x="200" y="216"/>
                  </a:lnTo>
                  <a:lnTo>
                    <a:pt x="205" y="216"/>
                  </a:lnTo>
                  <a:lnTo>
                    <a:pt x="205" y="210"/>
                  </a:lnTo>
                  <a:lnTo>
                    <a:pt x="211" y="210"/>
                  </a:lnTo>
                  <a:lnTo>
                    <a:pt x="211" y="204"/>
                  </a:lnTo>
                  <a:lnTo>
                    <a:pt x="216" y="204"/>
                  </a:lnTo>
                  <a:lnTo>
                    <a:pt x="216" y="199"/>
                  </a:lnTo>
                  <a:lnTo>
                    <a:pt x="223" y="199"/>
                  </a:lnTo>
                  <a:lnTo>
                    <a:pt x="223" y="193"/>
                  </a:lnTo>
                  <a:lnTo>
                    <a:pt x="228" y="193"/>
                  </a:lnTo>
                  <a:lnTo>
                    <a:pt x="228" y="182"/>
                  </a:lnTo>
                  <a:lnTo>
                    <a:pt x="233" y="182"/>
                  </a:lnTo>
                  <a:lnTo>
                    <a:pt x="233" y="176"/>
                  </a:lnTo>
                  <a:lnTo>
                    <a:pt x="240" y="176"/>
                  </a:lnTo>
                  <a:lnTo>
                    <a:pt x="240" y="164"/>
                  </a:lnTo>
                  <a:lnTo>
                    <a:pt x="245" y="164"/>
                  </a:lnTo>
                  <a:lnTo>
                    <a:pt x="245" y="159"/>
                  </a:lnTo>
                  <a:lnTo>
                    <a:pt x="251" y="159"/>
                  </a:lnTo>
                  <a:lnTo>
                    <a:pt x="251" y="154"/>
                  </a:lnTo>
                  <a:lnTo>
                    <a:pt x="257" y="154"/>
                  </a:lnTo>
                  <a:lnTo>
                    <a:pt x="257" y="148"/>
                  </a:lnTo>
                  <a:lnTo>
                    <a:pt x="262" y="148"/>
                  </a:lnTo>
                  <a:lnTo>
                    <a:pt x="262" y="142"/>
                  </a:lnTo>
                  <a:lnTo>
                    <a:pt x="268" y="142"/>
                  </a:lnTo>
                  <a:lnTo>
                    <a:pt x="268" y="137"/>
                  </a:lnTo>
                  <a:lnTo>
                    <a:pt x="273" y="137"/>
                  </a:lnTo>
                  <a:lnTo>
                    <a:pt x="273" y="125"/>
                  </a:lnTo>
                  <a:lnTo>
                    <a:pt x="278" y="125"/>
                  </a:lnTo>
                  <a:lnTo>
                    <a:pt x="278" y="119"/>
                  </a:lnTo>
                  <a:lnTo>
                    <a:pt x="285" y="119"/>
                  </a:lnTo>
                  <a:lnTo>
                    <a:pt x="285" y="107"/>
                  </a:lnTo>
                  <a:lnTo>
                    <a:pt x="290" y="107"/>
                  </a:lnTo>
                  <a:lnTo>
                    <a:pt x="290" y="102"/>
                  </a:lnTo>
                  <a:lnTo>
                    <a:pt x="296" y="102"/>
                  </a:lnTo>
                  <a:lnTo>
                    <a:pt x="296" y="97"/>
                  </a:lnTo>
                  <a:lnTo>
                    <a:pt x="302" y="97"/>
                  </a:lnTo>
                  <a:lnTo>
                    <a:pt x="302" y="91"/>
                  </a:lnTo>
                  <a:lnTo>
                    <a:pt x="308" y="91"/>
                  </a:lnTo>
                  <a:lnTo>
                    <a:pt x="308" y="80"/>
                  </a:lnTo>
                  <a:lnTo>
                    <a:pt x="313" y="80"/>
                  </a:lnTo>
                  <a:lnTo>
                    <a:pt x="313" y="68"/>
                  </a:lnTo>
                  <a:lnTo>
                    <a:pt x="318" y="68"/>
                  </a:lnTo>
                  <a:lnTo>
                    <a:pt x="318" y="51"/>
                  </a:lnTo>
                  <a:lnTo>
                    <a:pt x="325" y="51"/>
                  </a:lnTo>
                  <a:lnTo>
                    <a:pt x="325" y="40"/>
                  </a:lnTo>
                  <a:lnTo>
                    <a:pt x="330" y="40"/>
                  </a:lnTo>
                  <a:lnTo>
                    <a:pt x="330" y="34"/>
                  </a:lnTo>
                  <a:lnTo>
                    <a:pt x="335" y="34"/>
                  </a:lnTo>
                  <a:lnTo>
                    <a:pt x="335" y="23"/>
                  </a:lnTo>
                  <a:lnTo>
                    <a:pt x="342" y="23"/>
                  </a:lnTo>
                  <a:lnTo>
                    <a:pt x="342" y="17"/>
                  </a:lnTo>
                  <a:lnTo>
                    <a:pt x="347" y="17"/>
                  </a:lnTo>
                  <a:lnTo>
                    <a:pt x="347" y="11"/>
                  </a:lnTo>
                  <a:lnTo>
                    <a:pt x="353" y="11"/>
                  </a:lnTo>
                  <a:lnTo>
                    <a:pt x="353" y="0"/>
                  </a:lnTo>
                  <a:lnTo>
                    <a:pt x="382" y="0"/>
                  </a:lnTo>
                  <a:lnTo>
                    <a:pt x="382" y="5"/>
                  </a:lnTo>
                  <a:lnTo>
                    <a:pt x="421" y="5"/>
                  </a:lnTo>
                  <a:lnTo>
                    <a:pt x="421" y="11"/>
                  </a:lnTo>
                  <a:lnTo>
                    <a:pt x="467" y="11"/>
                  </a:lnTo>
                  <a:lnTo>
                    <a:pt x="467" y="17"/>
                  </a:lnTo>
                  <a:lnTo>
                    <a:pt x="547" y="17"/>
                  </a:lnTo>
                  <a:lnTo>
                    <a:pt x="547" y="23"/>
                  </a:lnTo>
                  <a:lnTo>
                    <a:pt x="575" y="23"/>
                  </a:lnTo>
                  <a:lnTo>
                    <a:pt x="575" y="28"/>
                  </a:lnTo>
                  <a:lnTo>
                    <a:pt x="620" y="28"/>
                  </a:lnTo>
                  <a:lnTo>
                    <a:pt x="620" y="34"/>
                  </a:lnTo>
                  <a:lnTo>
                    <a:pt x="637" y="34"/>
                  </a:lnTo>
                  <a:lnTo>
                    <a:pt x="637" y="40"/>
                  </a:lnTo>
                  <a:lnTo>
                    <a:pt x="672" y="40"/>
                  </a:lnTo>
                  <a:lnTo>
                    <a:pt x="672" y="45"/>
                  </a:lnTo>
                  <a:lnTo>
                    <a:pt x="694" y="45"/>
                  </a:lnTo>
                  <a:lnTo>
                    <a:pt x="694" y="51"/>
                  </a:lnTo>
                  <a:lnTo>
                    <a:pt x="746" y="51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91" y="62"/>
                  </a:lnTo>
                  <a:lnTo>
                    <a:pt x="814" y="62"/>
                  </a:lnTo>
                  <a:lnTo>
                    <a:pt x="814" y="68"/>
                  </a:lnTo>
                  <a:lnTo>
                    <a:pt x="848" y="68"/>
                  </a:lnTo>
                  <a:lnTo>
                    <a:pt x="848" y="74"/>
                  </a:lnTo>
                  <a:lnTo>
                    <a:pt x="883" y="74"/>
                  </a:lnTo>
                  <a:lnTo>
                    <a:pt x="883" y="80"/>
                  </a:lnTo>
                  <a:lnTo>
                    <a:pt x="917" y="80"/>
                  </a:lnTo>
                  <a:lnTo>
                    <a:pt x="917" y="85"/>
                  </a:lnTo>
                  <a:lnTo>
                    <a:pt x="945" y="85"/>
                  </a:lnTo>
                  <a:lnTo>
                    <a:pt x="945" y="91"/>
                  </a:lnTo>
                  <a:lnTo>
                    <a:pt x="962" y="91"/>
                  </a:lnTo>
                  <a:lnTo>
                    <a:pt x="962" y="85"/>
                  </a:lnTo>
                  <a:lnTo>
                    <a:pt x="974" y="85"/>
                  </a:lnTo>
                  <a:lnTo>
                    <a:pt x="974" y="91"/>
                  </a:lnTo>
                  <a:lnTo>
                    <a:pt x="1048" y="91"/>
                  </a:lnTo>
                  <a:lnTo>
                    <a:pt x="1048" y="97"/>
                  </a:lnTo>
                  <a:lnTo>
                    <a:pt x="1099" y="97"/>
                  </a:lnTo>
                  <a:lnTo>
                    <a:pt x="1099" y="102"/>
                  </a:lnTo>
                  <a:lnTo>
                    <a:pt x="1150" y="102"/>
                  </a:lnTo>
                  <a:lnTo>
                    <a:pt x="1150" y="107"/>
                  </a:lnTo>
                  <a:lnTo>
                    <a:pt x="1190" y="107"/>
                  </a:lnTo>
                  <a:lnTo>
                    <a:pt x="1190" y="114"/>
                  </a:lnTo>
                  <a:lnTo>
                    <a:pt x="1218" y="114"/>
                  </a:lnTo>
                  <a:lnTo>
                    <a:pt x="1218" y="119"/>
                  </a:lnTo>
                  <a:lnTo>
                    <a:pt x="1252" y="119"/>
                  </a:lnTo>
                  <a:lnTo>
                    <a:pt x="1252" y="125"/>
                  </a:lnTo>
                  <a:lnTo>
                    <a:pt x="1287" y="125"/>
                  </a:lnTo>
                  <a:lnTo>
                    <a:pt x="1287" y="131"/>
                  </a:lnTo>
                  <a:lnTo>
                    <a:pt x="1349" y="131"/>
                  </a:lnTo>
                  <a:lnTo>
                    <a:pt x="1349" y="137"/>
                  </a:lnTo>
                  <a:lnTo>
                    <a:pt x="1372" y="137"/>
                  </a:lnTo>
                  <a:lnTo>
                    <a:pt x="1372" y="142"/>
                  </a:lnTo>
                  <a:lnTo>
                    <a:pt x="1406" y="142"/>
                  </a:lnTo>
                  <a:lnTo>
                    <a:pt x="1406" y="148"/>
                  </a:lnTo>
                  <a:lnTo>
                    <a:pt x="1469" y="148"/>
                  </a:lnTo>
                  <a:lnTo>
                    <a:pt x="1469" y="154"/>
                  </a:lnTo>
                  <a:lnTo>
                    <a:pt x="1497" y="154"/>
                  </a:lnTo>
                  <a:lnTo>
                    <a:pt x="1497" y="148"/>
                  </a:lnTo>
                  <a:lnTo>
                    <a:pt x="1532" y="148"/>
                  </a:lnTo>
                  <a:lnTo>
                    <a:pt x="1532" y="154"/>
                  </a:lnTo>
                  <a:lnTo>
                    <a:pt x="1542" y="154"/>
                  </a:lnTo>
                  <a:lnTo>
                    <a:pt x="1542" y="148"/>
                  </a:lnTo>
                  <a:lnTo>
                    <a:pt x="1565" y="148"/>
                  </a:lnTo>
                  <a:lnTo>
                    <a:pt x="1565" y="142"/>
                  </a:lnTo>
                  <a:lnTo>
                    <a:pt x="1577" y="142"/>
                  </a:lnTo>
                  <a:lnTo>
                    <a:pt x="1577" y="148"/>
                  </a:lnTo>
                  <a:lnTo>
                    <a:pt x="1589" y="148"/>
                  </a:lnTo>
                  <a:lnTo>
                    <a:pt x="1589" y="142"/>
                  </a:lnTo>
                  <a:lnTo>
                    <a:pt x="1611" y="142"/>
                  </a:lnTo>
                  <a:lnTo>
                    <a:pt x="1611" y="148"/>
                  </a:lnTo>
                  <a:lnTo>
                    <a:pt x="1651" y="148"/>
                  </a:lnTo>
                  <a:lnTo>
                    <a:pt x="1651" y="154"/>
                  </a:lnTo>
                  <a:lnTo>
                    <a:pt x="1788" y="154"/>
                  </a:lnTo>
                  <a:lnTo>
                    <a:pt x="1788" y="159"/>
                  </a:lnTo>
                  <a:lnTo>
                    <a:pt x="1810" y="159"/>
                  </a:lnTo>
                  <a:lnTo>
                    <a:pt x="1810" y="164"/>
                  </a:lnTo>
                  <a:lnTo>
                    <a:pt x="1856" y="164"/>
                  </a:lnTo>
                  <a:lnTo>
                    <a:pt x="1856" y="170"/>
                  </a:lnTo>
                  <a:lnTo>
                    <a:pt x="1862" y="170"/>
                  </a:lnTo>
                  <a:lnTo>
                    <a:pt x="1862" y="199"/>
                  </a:lnTo>
                  <a:lnTo>
                    <a:pt x="1856" y="199"/>
                  </a:lnTo>
                  <a:lnTo>
                    <a:pt x="1856" y="221"/>
                  </a:lnTo>
                  <a:lnTo>
                    <a:pt x="1850" y="221"/>
                  </a:lnTo>
                  <a:lnTo>
                    <a:pt x="1850" y="244"/>
                  </a:lnTo>
                  <a:lnTo>
                    <a:pt x="1845" y="244"/>
                  </a:lnTo>
                  <a:lnTo>
                    <a:pt x="1845" y="261"/>
                  </a:lnTo>
                  <a:lnTo>
                    <a:pt x="1839" y="261"/>
                  </a:lnTo>
                  <a:lnTo>
                    <a:pt x="1839" y="273"/>
                  </a:lnTo>
                  <a:lnTo>
                    <a:pt x="1834" y="273"/>
                  </a:lnTo>
                  <a:lnTo>
                    <a:pt x="1834" y="278"/>
                  </a:lnTo>
                  <a:lnTo>
                    <a:pt x="1827" y="278"/>
                  </a:lnTo>
                  <a:lnTo>
                    <a:pt x="1827" y="301"/>
                  </a:lnTo>
                  <a:lnTo>
                    <a:pt x="1822" y="301"/>
                  </a:lnTo>
                  <a:lnTo>
                    <a:pt x="1822" y="318"/>
                  </a:lnTo>
                  <a:lnTo>
                    <a:pt x="1817" y="318"/>
                  </a:lnTo>
                  <a:lnTo>
                    <a:pt x="1817" y="330"/>
                  </a:lnTo>
                  <a:lnTo>
                    <a:pt x="1810" y="330"/>
                  </a:lnTo>
                  <a:lnTo>
                    <a:pt x="1810" y="335"/>
                  </a:lnTo>
                  <a:lnTo>
                    <a:pt x="1805" y="335"/>
                  </a:lnTo>
                  <a:lnTo>
                    <a:pt x="1805" y="347"/>
                  </a:lnTo>
                  <a:lnTo>
                    <a:pt x="1799" y="347"/>
                  </a:lnTo>
                  <a:lnTo>
                    <a:pt x="1799" y="358"/>
                  </a:lnTo>
                  <a:lnTo>
                    <a:pt x="1793" y="358"/>
                  </a:lnTo>
                  <a:lnTo>
                    <a:pt x="1793" y="364"/>
                  </a:lnTo>
                  <a:lnTo>
                    <a:pt x="1788" y="364"/>
                  </a:lnTo>
                  <a:lnTo>
                    <a:pt x="1788" y="375"/>
                  </a:lnTo>
                  <a:lnTo>
                    <a:pt x="1782" y="375"/>
                  </a:lnTo>
                  <a:lnTo>
                    <a:pt x="1782" y="381"/>
                  </a:lnTo>
                  <a:lnTo>
                    <a:pt x="1777" y="381"/>
                  </a:lnTo>
                  <a:lnTo>
                    <a:pt x="1777" y="387"/>
                  </a:lnTo>
                  <a:lnTo>
                    <a:pt x="1770" y="387"/>
                  </a:lnTo>
                  <a:lnTo>
                    <a:pt x="1770" y="398"/>
                  </a:lnTo>
                  <a:lnTo>
                    <a:pt x="1765" y="398"/>
                  </a:lnTo>
                  <a:lnTo>
                    <a:pt x="1765" y="404"/>
                  </a:lnTo>
                  <a:lnTo>
                    <a:pt x="1760" y="404"/>
                  </a:lnTo>
                  <a:lnTo>
                    <a:pt x="1760" y="409"/>
                  </a:lnTo>
                  <a:lnTo>
                    <a:pt x="1753" y="409"/>
                  </a:lnTo>
                  <a:lnTo>
                    <a:pt x="1753" y="415"/>
                  </a:lnTo>
                  <a:lnTo>
                    <a:pt x="1748" y="415"/>
                  </a:lnTo>
                  <a:lnTo>
                    <a:pt x="1748" y="421"/>
                  </a:lnTo>
                  <a:lnTo>
                    <a:pt x="1742" y="421"/>
                  </a:lnTo>
                  <a:lnTo>
                    <a:pt x="1742" y="427"/>
                  </a:lnTo>
                  <a:lnTo>
                    <a:pt x="1736" y="427"/>
                  </a:lnTo>
                  <a:lnTo>
                    <a:pt x="1736" y="438"/>
                  </a:lnTo>
                  <a:lnTo>
                    <a:pt x="1731" y="438"/>
                  </a:lnTo>
                  <a:lnTo>
                    <a:pt x="1731" y="444"/>
                  </a:lnTo>
                  <a:lnTo>
                    <a:pt x="1725" y="444"/>
                  </a:lnTo>
                  <a:lnTo>
                    <a:pt x="1725" y="449"/>
                  </a:lnTo>
                  <a:lnTo>
                    <a:pt x="1720" y="449"/>
                  </a:lnTo>
                  <a:lnTo>
                    <a:pt x="1720" y="455"/>
                  </a:lnTo>
                  <a:lnTo>
                    <a:pt x="1713" y="455"/>
                  </a:lnTo>
                  <a:lnTo>
                    <a:pt x="1713" y="461"/>
                  </a:lnTo>
                  <a:lnTo>
                    <a:pt x="1708" y="461"/>
                  </a:lnTo>
                  <a:lnTo>
                    <a:pt x="1708" y="472"/>
                  </a:lnTo>
                  <a:lnTo>
                    <a:pt x="1703" y="472"/>
                  </a:lnTo>
                  <a:lnTo>
                    <a:pt x="1703" y="478"/>
                  </a:lnTo>
                  <a:lnTo>
                    <a:pt x="1696" y="478"/>
                  </a:lnTo>
                  <a:lnTo>
                    <a:pt x="1696" y="484"/>
                  </a:lnTo>
                  <a:lnTo>
                    <a:pt x="1691" y="484"/>
                  </a:lnTo>
                  <a:lnTo>
                    <a:pt x="1691" y="489"/>
                  </a:lnTo>
                  <a:lnTo>
                    <a:pt x="1685" y="489"/>
                  </a:lnTo>
                  <a:lnTo>
                    <a:pt x="1685" y="501"/>
                  </a:lnTo>
                  <a:lnTo>
                    <a:pt x="1679" y="501"/>
                  </a:lnTo>
                  <a:lnTo>
                    <a:pt x="1679" y="506"/>
                  </a:lnTo>
                  <a:lnTo>
                    <a:pt x="1674" y="506"/>
                  </a:lnTo>
                  <a:lnTo>
                    <a:pt x="1674" y="512"/>
                  </a:lnTo>
                  <a:lnTo>
                    <a:pt x="1668" y="512"/>
                  </a:lnTo>
                  <a:lnTo>
                    <a:pt x="1668" y="518"/>
                  </a:lnTo>
                  <a:lnTo>
                    <a:pt x="1662" y="518"/>
                  </a:lnTo>
                  <a:lnTo>
                    <a:pt x="1662" y="529"/>
                  </a:lnTo>
                  <a:lnTo>
                    <a:pt x="1656" y="529"/>
                  </a:lnTo>
                  <a:lnTo>
                    <a:pt x="1656" y="535"/>
                  </a:lnTo>
                  <a:lnTo>
                    <a:pt x="1651" y="535"/>
                  </a:lnTo>
                  <a:lnTo>
                    <a:pt x="1651" y="541"/>
                  </a:lnTo>
                  <a:lnTo>
                    <a:pt x="1646" y="541"/>
                  </a:lnTo>
                  <a:lnTo>
                    <a:pt x="1646" y="546"/>
                  </a:lnTo>
                  <a:lnTo>
                    <a:pt x="1639" y="546"/>
                  </a:lnTo>
                  <a:lnTo>
                    <a:pt x="1639" y="552"/>
                  </a:lnTo>
                  <a:lnTo>
                    <a:pt x="1634" y="552"/>
                  </a:lnTo>
                  <a:lnTo>
                    <a:pt x="1634" y="558"/>
                  </a:lnTo>
                  <a:lnTo>
                    <a:pt x="1628" y="558"/>
                  </a:lnTo>
                  <a:lnTo>
                    <a:pt x="1628" y="563"/>
                  </a:lnTo>
                  <a:lnTo>
                    <a:pt x="1622" y="563"/>
                  </a:lnTo>
                  <a:lnTo>
                    <a:pt x="1622" y="574"/>
                  </a:lnTo>
                  <a:lnTo>
                    <a:pt x="1617" y="574"/>
                  </a:lnTo>
                  <a:lnTo>
                    <a:pt x="1617" y="580"/>
                  </a:lnTo>
                  <a:lnTo>
                    <a:pt x="1611" y="580"/>
                  </a:lnTo>
                  <a:lnTo>
                    <a:pt x="1611" y="586"/>
                  </a:lnTo>
                  <a:lnTo>
                    <a:pt x="1605" y="586"/>
                  </a:lnTo>
                  <a:lnTo>
                    <a:pt x="1605" y="591"/>
                  </a:lnTo>
                  <a:lnTo>
                    <a:pt x="1599" y="591"/>
                  </a:lnTo>
                  <a:lnTo>
                    <a:pt x="1599" y="603"/>
                  </a:lnTo>
                  <a:lnTo>
                    <a:pt x="1594" y="603"/>
                  </a:lnTo>
                  <a:lnTo>
                    <a:pt x="1594" y="608"/>
                  </a:lnTo>
                  <a:lnTo>
                    <a:pt x="1589" y="608"/>
                  </a:lnTo>
                  <a:lnTo>
                    <a:pt x="1589" y="614"/>
                  </a:lnTo>
                  <a:lnTo>
                    <a:pt x="1582" y="614"/>
                  </a:lnTo>
                  <a:lnTo>
                    <a:pt x="1582" y="620"/>
                  </a:lnTo>
                  <a:lnTo>
                    <a:pt x="1577" y="620"/>
                  </a:lnTo>
                  <a:lnTo>
                    <a:pt x="1577" y="625"/>
                  </a:lnTo>
                  <a:lnTo>
                    <a:pt x="1572" y="625"/>
                  </a:lnTo>
                  <a:lnTo>
                    <a:pt x="1572" y="631"/>
                  </a:lnTo>
                  <a:lnTo>
                    <a:pt x="1565" y="631"/>
                  </a:lnTo>
                  <a:lnTo>
                    <a:pt x="1565" y="637"/>
                  </a:lnTo>
                  <a:lnTo>
                    <a:pt x="1560" y="637"/>
                  </a:lnTo>
                  <a:lnTo>
                    <a:pt x="1560" y="643"/>
                  </a:lnTo>
                  <a:lnTo>
                    <a:pt x="1554" y="643"/>
                  </a:lnTo>
                  <a:lnTo>
                    <a:pt x="1554" y="648"/>
                  </a:lnTo>
                  <a:lnTo>
                    <a:pt x="1548" y="648"/>
                  </a:lnTo>
                  <a:lnTo>
                    <a:pt x="1548" y="654"/>
                  </a:lnTo>
                  <a:lnTo>
                    <a:pt x="1542" y="654"/>
                  </a:lnTo>
                  <a:lnTo>
                    <a:pt x="1542" y="660"/>
                  </a:lnTo>
                  <a:lnTo>
                    <a:pt x="1537" y="660"/>
                  </a:lnTo>
                  <a:lnTo>
                    <a:pt x="1537" y="665"/>
                  </a:lnTo>
                  <a:lnTo>
                    <a:pt x="1532" y="665"/>
                  </a:lnTo>
                  <a:lnTo>
                    <a:pt x="1532" y="672"/>
                  </a:lnTo>
                  <a:lnTo>
                    <a:pt x="1525" y="672"/>
                  </a:lnTo>
                  <a:lnTo>
                    <a:pt x="1525" y="677"/>
                  </a:lnTo>
                  <a:lnTo>
                    <a:pt x="1520" y="677"/>
                  </a:lnTo>
                  <a:lnTo>
                    <a:pt x="1520" y="682"/>
                  </a:lnTo>
                  <a:lnTo>
                    <a:pt x="1508" y="682"/>
                  </a:lnTo>
                  <a:lnTo>
                    <a:pt x="1508" y="688"/>
                  </a:lnTo>
                  <a:lnTo>
                    <a:pt x="1503" y="688"/>
                  </a:lnTo>
                  <a:lnTo>
                    <a:pt x="1503" y="694"/>
                  </a:lnTo>
                  <a:lnTo>
                    <a:pt x="1497" y="694"/>
                  </a:lnTo>
                  <a:lnTo>
                    <a:pt x="1497" y="700"/>
                  </a:lnTo>
                  <a:lnTo>
                    <a:pt x="1491" y="700"/>
                  </a:lnTo>
                  <a:lnTo>
                    <a:pt x="1491" y="705"/>
                  </a:lnTo>
                  <a:lnTo>
                    <a:pt x="1486" y="705"/>
                  </a:lnTo>
                  <a:lnTo>
                    <a:pt x="1486" y="711"/>
                  </a:lnTo>
                  <a:lnTo>
                    <a:pt x="1480" y="711"/>
                  </a:lnTo>
                  <a:lnTo>
                    <a:pt x="1480" y="717"/>
                  </a:lnTo>
                  <a:lnTo>
                    <a:pt x="1475" y="717"/>
                  </a:lnTo>
                  <a:lnTo>
                    <a:pt x="1475" y="722"/>
                  </a:lnTo>
                  <a:lnTo>
                    <a:pt x="1469" y="722"/>
                  </a:lnTo>
                  <a:lnTo>
                    <a:pt x="1469" y="729"/>
                  </a:lnTo>
                  <a:lnTo>
                    <a:pt x="1458" y="729"/>
                  </a:lnTo>
                  <a:lnTo>
                    <a:pt x="1458" y="734"/>
                  </a:lnTo>
                  <a:lnTo>
                    <a:pt x="1452" y="734"/>
                  </a:lnTo>
                  <a:lnTo>
                    <a:pt x="1452" y="739"/>
                  </a:lnTo>
                  <a:lnTo>
                    <a:pt x="1440" y="739"/>
                  </a:lnTo>
                  <a:lnTo>
                    <a:pt x="1440" y="745"/>
                  </a:lnTo>
                  <a:lnTo>
                    <a:pt x="1435" y="745"/>
                  </a:lnTo>
                  <a:lnTo>
                    <a:pt x="1435" y="751"/>
                  </a:lnTo>
                  <a:lnTo>
                    <a:pt x="1418" y="7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6903720" y="2495160"/>
              <a:ext cx="15480" cy="108000"/>
            </a:xfrm>
            <a:custGeom>
              <a:avLst/>
              <a:gdLst/>
              <a:ahLst/>
              <a:rect l="l" t="t" r="r" b="b"/>
              <a:pathLst>
                <a:path w="35" h="193">
                  <a:moveTo>
                    <a:pt x="12" y="193"/>
                  </a:moveTo>
                  <a:lnTo>
                    <a:pt x="12" y="170"/>
                  </a:lnTo>
                  <a:lnTo>
                    <a:pt x="7" y="170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36"/>
                  </a:lnTo>
                  <a:lnTo>
                    <a:pt x="7" y="136"/>
                  </a:lnTo>
                  <a:lnTo>
                    <a:pt x="7" y="102"/>
                  </a:lnTo>
                  <a:lnTo>
                    <a:pt x="12" y="102"/>
                  </a:lnTo>
                  <a:lnTo>
                    <a:pt x="12" y="73"/>
                  </a:lnTo>
                  <a:lnTo>
                    <a:pt x="18" y="7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35" y="56"/>
                  </a:lnTo>
                  <a:lnTo>
                    <a:pt x="29" y="56"/>
                  </a:lnTo>
                  <a:lnTo>
                    <a:pt x="29" y="170"/>
                  </a:lnTo>
                  <a:lnTo>
                    <a:pt x="24" y="170"/>
                  </a:lnTo>
                  <a:lnTo>
                    <a:pt x="24" y="187"/>
                  </a:lnTo>
                  <a:lnTo>
                    <a:pt x="18" y="187"/>
                  </a:lnTo>
                  <a:lnTo>
                    <a:pt x="12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6926400" y="986040"/>
              <a:ext cx="864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6003000" y="4466880"/>
              <a:ext cx="1232640" cy="385920"/>
            </a:xfrm>
            <a:custGeom>
              <a:avLst/>
              <a:gdLst/>
              <a:ahLst/>
              <a:rect l="l" t="t" r="r" b="b"/>
              <a:pathLst>
                <a:path w="2243" h="694">
                  <a:moveTo>
                    <a:pt x="1900" y="694"/>
                  </a:moveTo>
                  <a:lnTo>
                    <a:pt x="1900" y="689"/>
                  </a:lnTo>
                  <a:lnTo>
                    <a:pt x="1895" y="689"/>
                  </a:lnTo>
                  <a:lnTo>
                    <a:pt x="1895" y="666"/>
                  </a:lnTo>
                  <a:lnTo>
                    <a:pt x="1900" y="666"/>
                  </a:lnTo>
                  <a:lnTo>
                    <a:pt x="1900" y="660"/>
                  </a:lnTo>
                  <a:lnTo>
                    <a:pt x="1907" y="660"/>
                  </a:lnTo>
                  <a:lnTo>
                    <a:pt x="1907" y="654"/>
                  </a:lnTo>
                  <a:lnTo>
                    <a:pt x="1924" y="654"/>
                  </a:lnTo>
                  <a:lnTo>
                    <a:pt x="1924" y="649"/>
                  </a:lnTo>
                  <a:lnTo>
                    <a:pt x="1929" y="649"/>
                  </a:lnTo>
                  <a:lnTo>
                    <a:pt x="1929" y="643"/>
                  </a:lnTo>
                  <a:lnTo>
                    <a:pt x="1935" y="643"/>
                  </a:lnTo>
                  <a:lnTo>
                    <a:pt x="1935" y="637"/>
                  </a:lnTo>
                  <a:lnTo>
                    <a:pt x="1941" y="637"/>
                  </a:lnTo>
                  <a:lnTo>
                    <a:pt x="1941" y="632"/>
                  </a:lnTo>
                  <a:lnTo>
                    <a:pt x="1946" y="632"/>
                  </a:lnTo>
                  <a:lnTo>
                    <a:pt x="1946" y="620"/>
                  </a:lnTo>
                  <a:lnTo>
                    <a:pt x="1952" y="620"/>
                  </a:lnTo>
                  <a:lnTo>
                    <a:pt x="1952" y="609"/>
                  </a:lnTo>
                  <a:lnTo>
                    <a:pt x="1957" y="609"/>
                  </a:lnTo>
                  <a:lnTo>
                    <a:pt x="1957" y="592"/>
                  </a:lnTo>
                  <a:lnTo>
                    <a:pt x="1964" y="592"/>
                  </a:lnTo>
                  <a:lnTo>
                    <a:pt x="1964" y="580"/>
                  </a:lnTo>
                  <a:lnTo>
                    <a:pt x="1969" y="580"/>
                  </a:lnTo>
                  <a:lnTo>
                    <a:pt x="1969" y="575"/>
                  </a:lnTo>
                  <a:lnTo>
                    <a:pt x="1974" y="575"/>
                  </a:lnTo>
                  <a:lnTo>
                    <a:pt x="1974" y="558"/>
                  </a:lnTo>
                  <a:lnTo>
                    <a:pt x="1981" y="558"/>
                  </a:lnTo>
                  <a:lnTo>
                    <a:pt x="1981" y="546"/>
                  </a:lnTo>
                  <a:lnTo>
                    <a:pt x="1986" y="546"/>
                  </a:lnTo>
                  <a:lnTo>
                    <a:pt x="1986" y="540"/>
                  </a:lnTo>
                  <a:lnTo>
                    <a:pt x="1992" y="540"/>
                  </a:lnTo>
                  <a:lnTo>
                    <a:pt x="1992" y="535"/>
                  </a:lnTo>
                  <a:lnTo>
                    <a:pt x="1998" y="535"/>
                  </a:lnTo>
                  <a:lnTo>
                    <a:pt x="1998" y="529"/>
                  </a:lnTo>
                  <a:lnTo>
                    <a:pt x="2003" y="529"/>
                  </a:lnTo>
                  <a:lnTo>
                    <a:pt x="2003" y="518"/>
                  </a:lnTo>
                  <a:lnTo>
                    <a:pt x="2009" y="518"/>
                  </a:lnTo>
                  <a:lnTo>
                    <a:pt x="2009" y="512"/>
                  </a:lnTo>
                  <a:lnTo>
                    <a:pt x="2014" y="512"/>
                  </a:lnTo>
                  <a:lnTo>
                    <a:pt x="2014" y="501"/>
                  </a:lnTo>
                  <a:lnTo>
                    <a:pt x="2021" y="501"/>
                  </a:lnTo>
                  <a:lnTo>
                    <a:pt x="2021" y="495"/>
                  </a:lnTo>
                  <a:lnTo>
                    <a:pt x="2026" y="495"/>
                  </a:lnTo>
                  <a:lnTo>
                    <a:pt x="2026" y="483"/>
                  </a:lnTo>
                  <a:lnTo>
                    <a:pt x="2031" y="483"/>
                  </a:lnTo>
                  <a:lnTo>
                    <a:pt x="2031" y="478"/>
                  </a:lnTo>
                  <a:lnTo>
                    <a:pt x="2038" y="478"/>
                  </a:lnTo>
                  <a:lnTo>
                    <a:pt x="2038" y="472"/>
                  </a:lnTo>
                  <a:lnTo>
                    <a:pt x="2043" y="472"/>
                  </a:lnTo>
                  <a:lnTo>
                    <a:pt x="2043" y="461"/>
                  </a:lnTo>
                  <a:lnTo>
                    <a:pt x="2048" y="461"/>
                  </a:lnTo>
                  <a:lnTo>
                    <a:pt x="2048" y="455"/>
                  </a:lnTo>
                  <a:lnTo>
                    <a:pt x="2055" y="455"/>
                  </a:lnTo>
                  <a:lnTo>
                    <a:pt x="2055" y="449"/>
                  </a:lnTo>
                  <a:lnTo>
                    <a:pt x="2060" y="449"/>
                  </a:lnTo>
                  <a:lnTo>
                    <a:pt x="2060" y="438"/>
                  </a:lnTo>
                  <a:lnTo>
                    <a:pt x="2066" y="438"/>
                  </a:lnTo>
                  <a:lnTo>
                    <a:pt x="2066" y="432"/>
                  </a:lnTo>
                  <a:lnTo>
                    <a:pt x="2071" y="432"/>
                  </a:lnTo>
                  <a:lnTo>
                    <a:pt x="2071" y="421"/>
                  </a:lnTo>
                  <a:lnTo>
                    <a:pt x="2078" y="421"/>
                  </a:lnTo>
                  <a:lnTo>
                    <a:pt x="2078" y="416"/>
                  </a:lnTo>
                  <a:lnTo>
                    <a:pt x="2083" y="416"/>
                  </a:lnTo>
                  <a:lnTo>
                    <a:pt x="2083" y="404"/>
                  </a:lnTo>
                  <a:lnTo>
                    <a:pt x="2088" y="404"/>
                  </a:lnTo>
                  <a:lnTo>
                    <a:pt x="2088" y="399"/>
                  </a:lnTo>
                  <a:lnTo>
                    <a:pt x="2095" y="399"/>
                  </a:lnTo>
                  <a:lnTo>
                    <a:pt x="2095" y="387"/>
                  </a:lnTo>
                  <a:lnTo>
                    <a:pt x="2100" y="387"/>
                  </a:lnTo>
                  <a:lnTo>
                    <a:pt x="2100" y="376"/>
                  </a:lnTo>
                  <a:lnTo>
                    <a:pt x="2105" y="376"/>
                  </a:lnTo>
                  <a:lnTo>
                    <a:pt x="2105" y="364"/>
                  </a:lnTo>
                  <a:lnTo>
                    <a:pt x="2112" y="364"/>
                  </a:lnTo>
                  <a:lnTo>
                    <a:pt x="2112" y="359"/>
                  </a:lnTo>
                  <a:lnTo>
                    <a:pt x="2117" y="359"/>
                  </a:lnTo>
                  <a:lnTo>
                    <a:pt x="2117" y="347"/>
                  </a:lnTo>
                  <a:lnTo>
                    <a:pt x="2123" y="347"/>
                  </a:lnTo>
                  <a:lnTo>
                    <a:pt x="2123" y="342"/>
                  </a:lnTo>
                  <a:lnTo>
                    <a:pt x="2128" y="342"/>
                  </a:lnTo>
                  <a:lnTo>
                    <a:pt x="2128" y="330"/>
                  </a:lnTo>
                  <a:lnTo>
                    <a:pt x="2134" y="330"/>
                  </a:lnTo>
                  <a:lnTo>
                    <a:pt x="2134" y="319"/>
                  </a:lnTo>
                  <a:lnTo>
                    <a:pt x="2140" y="319"/>
                  </a:lnTo>
                  <a:lnTo>
                    <a:pt x="2140" y="313"/>
                  </a:lnTo>
                  <a:lnTo>
                    <a:pt x="2145" y="313"/>
                  </a:lnTo>
                  <a:lnTo>
                    <a:pt x="2145" y="307"/>
                  </a:lnTo>
                  <a:lnTo>
                    <a:pt x="2152" y="307"/>
                  </a:lnTo>
                  <a:lnTo>
                    <a:pt x="2152" y="302"/>
                  </a:lnTo>
                  <a:lnTo>
                    <a:pt x="2157" y="302"/>
                  </a:lnTo>
                  <a:lnTo>
                    <a:pt x="2157" y="296"/>
                  </a:lnTo>
                  <a:lnTo>
                    <a:pt x="2162" y="296"/>
                  </a:lnTo>
                  <a:lnTo>
                    <a:pt x="2162" y="285"/>
                  </a:lnTo>
                  <a:lnTo>
                    <a:pt x="2169" y="285"/>
                  </a:lnTo>
                  <a:lnTo>
                    <a:pt x="2169" y="279"/>
                  </a:lnTo>
                  <a:lnTo>
                    <a:pt x="2174" y="279"/>
                  </a:lnTo>
                  <a:lnTo>
                    <a:pt x="2174" y="273"/>
                  </a:lnTo>
                  <a:lnTo>
                    <a:pt x="2180" y="273"/>
                  </a:lnTo>
                  <a:lnTo>
                    <a:pt x="2180" y="267"/>
                  </a:lnTo>
                  <a:lnTo>
                    <a:pt x="2185" y="267"/>
                  </a:lnTo>
                  <a:lnTo>
                    <a:pt x="2185" y="256"/>
                  </a:lnTo>
                  <a:lnTo>
                    <a:pt x="2197" y="256"/>
                  </a:lnTo>
                  <a:lnTo>
                    <a:pt x="2197" y="250"/>
                  </a:lnTo>
                  <a:lnTo>
                    <a:pt x="2202" y="250"/>
                  </a:lnTo>
                  <a:lnTo>
                    <a:pt x="2202" y="245"/>
                  </a:lnTo>
                  <a:lnTo>
                    <a:pt x="2209" y="245"/>
                  </a:lnTo>
                  <a:lnTo>
                    <a:pt x="2209" y="216"/>
                  </a:lnTo>
                  <a:lnTo>
                    <a:pt x="2191" y="216"/>
                  </a:lnTo>
                  <a:lnTo>
                    <a:pt x="2191" y="222"/>
                  </a:lnTo>
                  <a:lnTo>
                    <a:pt x="2180" y="222"/>
                  </a:lnTo>
                  <a:lnTo>
                    <a:pt x="2180" y="228"/>
                  </a:lnTo>
                  <a:lnTo>
                    <a:pt x="2140" y="228"/>
                  </a:lnTo>
                  <a:lnTo>
                    <a:pt x="2140" y="233"/>
                  </a:lnTo>
                  <a:lnTo>
                    <a:pt x="2048" y="233"/>
                  </a:lnTo>
                  <a:lnTo>
                    <a:pt x="2048" y="228"/>
                  </a:lnTo>
                  <a:lnTo>
                    <a:pt x="1957" y="228"/>
                  </a:lnTo>
                  <a:lnTo>
                    <a:pt x="1957" y="222"/>
                  </a:lnTo>
                  <a:lnTo>
                    <a:pt x="1804" y="222"/>
                  </a:lnTo>
                  <a:lnTo>
                    <a:pt x="1804" y="216"/>
                  </a:lnTo>
                  <a:lnTo>
                    <a:pt x="1741" y="216"/>
                  </a:lnTo>
                  <a:lnTo>
                    <a:pt x="1741" y="210"/>
                  </a:lnTo>
                  <a:lnTo>
                    <a:pt x="1679" y="210"/>
                  </a:lnTo>
                  <a:lnTo>
                    <a:pt x="1679" y="205"/>
                  </a:lnTo>
                  <a:lnTo>
                    <a:pt x="1627" y="205"/>
                  </a:lnTo>
                  <a:lnTo>
                    <a:pt x="1627" y="199"/>
                  </a:lnTo>
                  <a:lnTo>
                    <a:pt x="1520" y="199"/>
                  </a:lnTo>
                  <a:lnTo>
                    <a:pt x="1520" y="193"/>
                  </a:lnTo>
                  <a:lnTo>
                    <a:pt x="1434" y="193"/>
                  </a:lnTo>
                  <a:lnTo>
                    <a:pt x="1434" y="188"/>
                  </a:lnTo>
                  <a:lnTo>
                    <a:pt x="1418" y="188"/>
                  </a:lnTo>
                  <a:lnTo>
                    <a:pt x="1418" y="193"/>
                  </a:lnTo>
                  <a:lnTo>
                    <a:pt x="1343" y="193"/>
                  </a:lnTo>
                  <a:lnTo>
                    <a:pt x="1343" y="188"/>
                  </a:lnTo>
                  <a:lnTo>
                    <a:pt x="1286" y="188"/>
                  </a:lnTo>
                  <a:lnTo>
                    <a:pt x="1286" y="181"/>
                  </a:lnTo>
                  <a:lnTo>
                    <a:pt x="1240" y="181"/>
                  </a:lnTo>
                  <a:lnTo>
                    <a:pt x="1240" y="176"/>
                  </a:lnTo>
                  <a:lnTo>
                    <a:pt x="1212" y="176"/>
                  </a:lnTo>
                  <a:lnTo>
                    <a:pt x="1212" y="171"/>
                  </a:lnTo>
                  <a:lnTo>
                    <a:pt x="1183" y="171"/>
                  </a:lnTo>
                  <a:lnTo>
                    <a:pt x="1183" y="165"/>
                  </a:lnTo>
                  <a:lnTo>
                    <a:pt x="1161" y="165"/>
                  </a:lnTo>
                  <a:lnTo>
                    <a:pt x="1161" y="159"/>
                  </a:lnTo>
                  <a:lnTo>
                    <a:pt x="1116" y="159"/>
                  </a:lnTo>
                  <a:lnTo>
                    <a:pt x="1116" y="154"/>
                  </a:lnTo>
                  <a:lnTo>
                    <a:pt x="1070" y="154"/>
                  </a:lnTo>
                  <a:lnTo>
                    <a:pt x="1070" y="148"/>
                  </a:lnTo>
                  <a:lnTo>
                    <a:pt x="1047" y="148"/>
                  </a:lnTo>
                  <a:lnTo>
                    <a:pt x="1047" y="142"/>
                  </a:lnTo>
                  <a:lnTo>
                    <a:pt x="1007" y="142"/>
                  </a:lnTo>
                  <a:lnTo>
                    <a:pt x="1007" y="136"/>
                  </a:lnTo>
                  <a:lnTo>
                    <a:pt x="984" y="136"/>
                  </a:lnTo>
                  <a:lnTo>
                    <a:pt x="984" y="125"/>
                  </a:lnTo>
                  <a:lnTo>
                    <a:pt x="979" y="125"/>
                  </a:lnTo>
                  <a:lnTo>
                    <a:pt x="979" y="119"/>
                  </a:lnTo>
                  <a:lnTo>
                    <a:pt x="973" y="119"/>
                  </a:lnTo>
                  <a:lnTo>
                    <a:pt x="973" y="114"/>
                  </a:lnTo>
                  <a:lnTo>
                    <a:pt x="945" y="114"/>
                  </a:lnTo>
                  <a:lnTo>
                    <a:pt x="945" y="108"/>
                  </a:lnTo>
                  <a:lnTo>
                    <a:pt x="905" y="108"/>
                  </a:lnTo>
                  <a:lnTo>
                    <a:pt x="905" y="102"/>
                  </a:lnTo>
                  <a:lnTo>
                    <a:pt x="848" y="102"/>
                  </a:lnTo>
                  <a:lnTo>
                    <a:pt x="848" y="97"/>
                  </a:lnTo>
                  <a:lnTo>
                    <a:pt x="802" y="97"/>
                  </a:lnTo>
                  <a:lnTo>
                    <a:pt x="802" y="91"/>
                  </a:lnTo>
                  <a:lnTo>
                    <a:pt x="751" y="91"/>
                  </a:lnTo>
                  <a:lnTo>
                    <a:pt x="751" y="85"/>
                  </a:lnTo>
                  <a:lnTo>
                    <a:pt x="682" y="85"/>
                  </a:lnTo>
                  <a:lnTo>
                    <a:pt x="682" y="79"/>
                  </a:lnTo>
                  <a:lnTo>
                    <a:pt x="649" y="79"/>
                  </a:lnTo>
                  <a:lnTo>
                    <a:pt x="649" y="74"/>
                  </a:lnTo>
                  <a:lnTo>
                    <a:pt x="580" y="74"/>
                  </a:lnTo>
                  <a:lnTo>
                    <a:pt x="580" y="68"/>
                  </a:lnTo>
                  <a:lnTo>
                    <a:pt x="535" y="68"/>
                  </a:lnTo>
                  <a:lnTo>
                    <a:pt x="535" y="62"/>
                  </a:lnTo>
                  <a:lnTo>
                    <a:pt x="444" y="62"/>
                  </a:lnTo>
                  <a:lnTo>
                    <a:pt x="444" y="57"/>
                  </a:lnTo>
                  <a:lnTo>
                    <a:pt x="421" y="57"/>
                  </a:lnTo>
                  <a:lnTo>
                    <a:pt x="421" y="51"/>
                  </a:lnTo>
                  <a:lnTo>
                    <a:pt x="387" y="51"/>
                  </a:lnTo>
                  <a:lnTo>
                    <a:pt x="387" y="45"/>
                  </a:lnTo>
                  <a:lnTo>
                    <a:pt x="261" y="45"/>
                  </a:lnTo>
                  <a:lnTo>
                    <a:pt x="261" y="40"/>
                  </a:lnTo>
                  <a:lnTo>
                    <a:pt x="125" y="40"/>
                  </a:lnTo>
                  <a:lnTo>
                    <a:pt x="125" y="34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33" y="45"/>
                  </a:lnTo>
                  <a:lnTo>
                    <a:pt x="33" y="40"/>
                  </a:lnTo>
                  <a:lnTo>
                    <a:pt x="22" y="40"/>
                  </a:lnTo>
                  <a:lnTo>
                    <a:pt x="22" y="34"/>
                  </a:lnTo>
                  <a:lnTo>
                    <a:pt x="16" y="34"/>
                  </a:lnTo>
                  <a:lnTo>
                    <a:pt x="16" y="22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79" y="0"/>
                  </a:lnTo>
                  <a:lnTo>
                    <a:pt x="79" y="6"/>
                  </a:lnTo>
                  <a:lnTo>
                    <a:pt x="211" y="6"/>
                  </a:lnTo>
                  <a:lnTo>
                    <a:pt x="211" y="12"/>
                  </a:lnTo>
                  <a:lnTo>
                    <a:pt x="256" y="12"/>
                  </a:lnTo>
                  <a:lnTo>
                    <a:pt x="256" y="17"/>
                  </a:lnTo>
                  <a:lnTo>
                    <a:pt x="330" y="17"/>
                  </a:lnTo>
                  <a:lnTo>
                    <a:pt x="330" y="22"/>
                  </a:lnTo>
                  <a:lnTo>
                    <a:pt x="364" y="22"/>
                  </a:lnTo>
                  <a:lnTo>
                    <a:pt x="364" y="28"/>
                  </a:lnTo>
                  <a:lnTo>
                    <a:pt x="415" y="28"/>
                  </a:lnTo>
                  <a:lnTo>
                    <a:pt x="415" y="34"/>
                  </a:lnTo>
                  <a:lnTo>
                    <a:pt x="484" y="34"/>
                  </a:lnTo>
                  <a:lnTo>
                    <a:pt x="484" y="40"/>
                  </a:lnTo>
                  <a:lnTo>
                    <a:pt x="546" y="40"/>
                  </a:lnTo>
                  <a:lnTo>
                    <a:pt x="546" y="45"/>
                  </a:lnTo>
                  <a:lnTo>
                    <a:pt x="603" y="45"/>
                  </a:lnTo>
                  <a:lnTo>
                    <a:pt x="603" y="51"/>
                  </a:lnTo>
                  <a:lnTo>
                    <a:pt x="643" y="51"/>
                  </a:lnTo>
                  <a:lnTo>
                    <a:pt x="643" y="57"/>
                  </a:lnTo>
                  <a:lnTo>
                    <a:pt x="722" y="57"/>
                  </a:lnTo>
                  <a:lnTo>
                    <a:pt x="722" y="62"/>
                  </a:lnTo>
                  <a:lnTo>
                    <a:pt x="751" y="62"/>
                  </a:lnTo>
                  <a:lnTo>
                    <a:pt x="751" y="68"/>
                  </a:lnTo>
                  <a:lnTo>
                    <a:pt x="791" y="68"/>
                  </a:lnTo>
                  <a:lnTo>
                    <a:pt x="791" y="74"/>
                  </a:lnTo>
                  <a:lnTo>
                    <a:pt x="893" y="74"/>
                  </a:lnTo>
                  <a:lnTo>
                    <a:pt x="893" y="79"/>
                  </a:lnTo>
                  <a:lnTo>
                    <a:pt x="927" y="79"/>
                  </a:lnTo>
                  <a:lnTo>
                    <a:pt x="927" y="85"/>
                  </a:lnTo>
                  <a:lnTo>
                    <a:pt x="967" y="85"/>
                  </a:lnTo>
                  <a:lnTo>
                    <a:pt x="967" y="91"/>
                  </a:lnTo>
                  <a:lnTo>
                    <a:pt x="1013" y="91"/>
                  </a:lnTo>
                  <a:lnTo>
                    <a:pt x="1013" y="97"/>
                  </a:lnTo>
                  <a:lnTo>
                    <a:pt x="1070" y="97"/>
                  </a:lnTo>
                  <a:lnTo>
                    <a:pt x="1070" y="114"/>
                  </a:lnTo>
                  <a:lnTo>
                    <a:pt x="1081" y="114"/>
                  </a:lnTo>
                  <a:lnTo>
                    <a:pt x="1081" y="119"/>
                  </a:lnTo>
                  <a:lnTo>
                    <a:pt x="1109" y="119"/>
                  </a:lnTo>
                  <a:lnTo>
                    <a:pt x="1109" y="125"/>
                  </a:lnTo>
                  <a:lnTo>
                    <a:pt x="1143" y="125"/>
                  </a:lnTo>
                  <a:lnTo>
                    <a:pt x="1143" y="131"/>
                  </a:lnTo>
                  <a:lnTo>
                    <a:pt x="1178" y="131"/>
                  </a:lnTo>
                  <a:lnTo>
                    <a:pt x="1178" y="136"/>
                  </a:lnTo>
                  <a:lnTo>
                    <a:pt x="1229" y="136"/>
                  </a:lnTo>
                  <a:lnTo>
                    <a:pt x="1229" y="142"/>
                  </a:lnTo>
                  <a:lnTo>
                    <a:pt x="1275" y="142"/>
                  </a:lnTo>
                  <a:lnTo>
                    <a:pt x="1275" y="148"/>
                  </a:lnTo>
                  <a:lnTo>
                    <a:pt x="1389" y="148"/>
                  </a:lnTo>
                  <a:lnTo>
                    <a:pt x="1389" y="154"/>
                  </a:lnTo>
                  <a:lnTo>
                    <a:pt x="1605" y="154"/>
                  </a:lnTo>
                  <a:lnTo>
                    <a:pt x="1605" y="148"/>
                  </a:lnTo>
                  <a:lnTo>
                    <a:pt x="1651" y="148"/>
                  </a:lnTo>
                  <a:lnTo>
                    <a:pt x="1651" y="154"/>
                  </a:lnTo>
                  <a:lnTo>
                    <a:pt x="1708" y="154"/>
                  </a:lnTo>
                  <a:lnTo>
                    <a:pt x="1708" y="148"/>
                  </a:lnTo>
                  <a:lnTo>
                    <a:pt x="1741" y="148"/>
                  </a:lnTo>
                  <a:lnTo>
                    <a:pt x="1741" y="154"/>
                  </a:lnTo>
                  <a:lnTo>
                    <a:pt x="1753" y="154"/>
                  </a:lnTo>
                  <a:lnTo>
                    <a:pt x="1753" y="148"/>
                  </a:lnTo>
                  <a:lnTo>
                    <a:pt x="1798" y="148"/>
                  </a:lnTo>
                  <a:lnTo>
                    <a:pt x="1798" y="154"/>
                  </a:lnTo>
                  <a:lnTo>
                    <a:pt x="1867" y="154"/>
                  </a:lnTo>
                  <a:lnTo>
                    <a:pt x="1867" y="159"/>
                  </a:lnTo>
                  <a:lnTo>
                    <a:pt x="1935" y="159"/>
                  </a:lnTo>
                  <a:lnTo>
                    <a:pt x="1935" y="165"/>
                  </a:lnTo>
                  <a:lnTo>
                    <a:pt x="1981" y="165"/>
                  </a:lnTo>
                  <a:lnTo>
                    <a:pt x="1981" y="159"/>
                  </a:lnTo>
                  <a:lnTo>
                    <a:pt x="2043" y="159"/>
                  </a:lnTo>
                  <a:lnTo>
                    <a:pt x="2043" y="154"/>
                  </a:lnTo>
                  <a:lnTo>
                    <a:pt x="2134" y="154"/>
                  </a:lnTo>
                  <a:lnTo>
                    <a:pt x="2134" y="159"/>
                  </a:lnTo>
                  <a:lnTo>
                    <a:pt x="2145" y="159"/>
                  </a:lnTo>
                  <a:lnTo>
                    <a:pt x="2145" y="165"/>
                  </a:lnTo>
                  <a:lnTo>
                    <a:pt x="2174" y="165"/>
                  </a:lnTo>
                  <a:lnTo>
                    <a:pt x="2174" y="171"/>
                  </a:lnTo>
                  <a:lnTo>
                    <a:pt x="2185" y="171"/>
                  </a:lnTo>
                  <a:lnTo>
                    <a:pt x="2185" y="176"/>
                  </a:lnTo>
                  <a:lnTo>
                    <a:pt x="2219" y="176"/>
                  </a:lnTo>
                  <a:lnTo>
                    <a:pt x="2219" y="181"/>
                  </a:lnTo>
                  <a:lnTo>
                    <a:pt x="2237" y="181"/>
                  </a:lnTo>
                  <a:lnTo>
                    <a:pt x="2237" y="193"/>
                  </a:lnTo>
                  <a:lnTo>
                    <a:pt x="2243" y="193"/>
                  </a:lnTo>
                  <a:lnTo>
                    <a:pt x="2243" y="245"/>
                  </a:lnTo>
                  <a:lnTo>
                    <a:pt x="2237" y="245"/>
                  </a:lnTo>
                  <a:lnTo>
                    <a:pt x="2237" y="262"/>
                  </a:lnTo>
                  <a:lnTo>
                    <a:pt x="2231" y="262"/>
                  </a:lnTo>
                  <a:lnTo>
                    <a:pt x="2231" y="267"/>
                  </a:lnTo>
                  <a:lnTo>
                    <a:pt x="2226" y="267"/>
                  </a:lnTo>
                  <a:lnTo>
                    <a:pt x="2226" y="273"/>
                  </a:lnTo>
                  <a:lnTo>
                    <a:pt x="2219" y="273"/>
                  </a:lnTo>
                  <a:lnTo>
                    <a:pt x="2219" y="279"/>
                  </a:lnTo>
                  <a:lnTo>
                    <a:pt x="2197" y="279"/>
                  </a:lnTo>
                  <a:lnTo>
                    <a:pt x="2197" y="285"/>
                  </a:lnTo>
                  <a:lnTo>
                    <a:pt x="2191" y="285"/>
                  </a:lnTo>
                  <a:lnTo>
                    <a:pt x="2191" y="296"/>
                  </a:lnTo>
                  <a:lnTo>
                    <a:pt x="2185" y="296"/>
                  </a:lnTo>
                  <a:lnTo>
                    <a:pt x="2185" y="307"/>
                  </a:lnTo>
                  <a:lnTo>
                    <a:pt x="2180" y="307"/>
                  </a:lnTo>
                  <a:lnTo>
                    <a:pt x="2180" y="313"/>
                  </a:lnTo>
                  <a:lnTo>
                    <a:pt x="2174" y="313"/>
                  </a:lnTo>
                  <a:lnTo>
                    <a:pt x="2174" y="324"/>
                  </a:lnTo>
                  <a:lnTo>
                    <a:pt x="2169" y="324"/>
                  </a:lnTo>
                  <a:lnTo>
                    <a:pt x="2169" y="330"/>
                  </a:lnTo>
                  <a:lnTo>
                    <a:pt x="2162" y="330"/>
                  </a:lnTo>
                  <a:lnTo>
                    <a:pt x="2162" y="336"/>
                  </a:lnTo>
                  <a:lnTo>
                    <a:pt x="2157" y="336"/>
                  </a:lnTo>
                  <a:lnTo>
                    <a:pt x="2157" y="342"/>
                  </a:lnTo>
                  <a:lnTo>
                    <a:pt x="2152" y="342"/>
                  </a:lnTo>
                  <a:lnTo>
                    <a:pt x="2152" y="353"/>
                  </a:lnTo>
                  <a:lnTo>
                    <a:pt x="2145" y="353"/>
                  </a:lnTo>
                  <a:lnTo>
                    <a:pt x="2145" y="359"/>
                  </a:lnTo>
                  <a:lnTo>
                    <a:pt x="2140" y="359"/>
                  </a:lnTo>
                  <a:lnTo>
                    <a:pt x="2140" y="369"/>
                  </a:lnTo>
                  <a:lnTo>
                    <a:pt x="2134" y="369"/>
                  </a:lnTo>
                  <a:lnTo>
                    <a:pt x="2134" y="376"/>
                  </a:lnTo>
                  <a:lnTo>
                    <a:pt x="2128" y="376"/>
                  </a:lnTo>
                  <a:lnTo>
                    <a:pt x="2128" y="387"/>
                  </a:lnTo>
                  <a:lnTo>
                    <a:pt x="2123" y="387"/>
                  </a:lnTo>
                  <a:lnTo>
                    <a:pt x="2123" y="399"/>
                  </a:lnTo>
                  <a:lnTo>
                    <a:pt x="2117" y="399"/>
                  </a:lnTo>
                  <a:lnTo>
                    <a:pt x="2117" y="410"/>
                  </a:lnTo>
                  <a:lnTo>
                    <a:pt x="2112" y="410"/>
                  </a:lnTo>
                  <a:lnTo>
                    <a:pt x="2112" y="416"/>
                  </a:lnTo>
                  <a:lnTo>
                    <a:pt x="2105" y="416"/>
                  </a:lnTo>
                  <a:lnTo>
                    <a:pt x="2105" y="426"/>
                  </a:lnTo>
                  <a:lnTo>
                    <a:pt x="2100" y="426"/>
                  </a:lnTo>
                  <a:lnTo>
                    <a:pt x="2100" y="432"/>
                  </a:lnTo>
                  <a:lnTo>
                    <a:pt x="2095" y="432"/>
                  </a:lnTo>
                  <a:lnTo>
                    <a:pt x="2095" y="438"/>
                  </a:lnTo>
                  <a:lnTo>
                    <a:pt x="2088" y="438"/>
                  </a:lnTo>
                  <a:lnTo>
                    <a:pt x="2088" y="449"/>
                  </a:lnTo>
                  <a:lnTo>
                    <a:pt x="2083" y="449"/>
                  </a:lnTo>
                  <a:lnTo>
                    <a:pt x="2083" y="455"/>
                  </a:lnTo>
                  <a:lnTo>
                    <a:pt x="2078" y="455"/>
                  </a:lnTo>
                  <a:lnTo>
                    <a:pt x="2078" y="461"/>
                  </a:lnTo>
                  <a:lnTo>
                    <a:pt x="2071" y="461"/>
                  </a:lnTo>
                  <a:lnTo>
                    <a:pt x="2071" y="466"/>
                  </a:lnTo>
                  <a:lnTo>
                    <a:pt x="2066" y="466"/>
                  </a:lnTo>
                  <a:lnTo>
                    <a:pt x="2066" y="472"/>
                  </a:lnTo>
                  <a:lnTo>
                    <a:pt x="2060" y="472"/>
                  </a:lnTo>
                  <a:lnTo>
                    <a:pt x="2060" y="483"/>
                  </a:lnTo>
                  <a:lnTo>
                    <a:pt x="2055" y="483"/>
                  </a:lnTo>
                  <a:lnTo>
                    <a:pt x="2055" y="495"/>
                  </a:lnTo>
                  <a:lnTo>
                    <a:pt x="2048" y="495"/>
                  </a:lnTo>
                  <a:lnTo>
                    <a:pt x="2048" y="501"/>
                  </a:lnTo>
                  <a:lnTo>
                    <a:pt x="2043" y="501"/>
                  </a:lnTo>
                  <a:lnTo>
                    <a:pt x="2043" y="512"/>
                  </a:lnTo>
                  <a:lnTo>
                    <a:pt x="2038" y="512"/>
                  </a:lnTo>
                  <a:lnTo>
                    <a:pt x="2038" y="523"/>
                  </a:lnTo>
                  <a:lnTo>
                    <a:pt x="2031" y="523"/>
                  </a:lnTo>
                  <a:lnTo>
                    <a:pt x="2031" y="535"/>
                  </a:lnTo>
                  <a:lnTo>
                    <a:pt x="2026" y="535"/>
                  </a:lnTo>
                  <a:lnTo>
                    <a:pt x="2026" y="540"/>
                  </a:lnTo>
                  <a:lnTo>
                    <a:pt x="2021" y="540"/>
                  </a:lnTo>
                  <a:lnTo>
                    <a:pt x="2021" y="558"/>
                  </a:lnTo>
                  <a:lnTo>
                    <a:pt x="2014" y="558"/>
                  </a:lnTo>
                  <a:lnTo>
                    <a:pt x="2014" y="569"/>
                  </a:lnTo>
                  <a:lnTo>
                    <a:pt x="2009" y="569"/>
                  </a:lnTo>
                  <a:lnTo>
                    <a:pt x="2009" y="575"/>
                  </a:lnTo>
                  <a:lnTo>
                    <a:pt x="2003" y="575"/>
                  </a:lnTo>
                  <a:lnTo>
                    <a:pt x="2003" y="585"/>
                  </a:lnTo>
                  <a:lnTo>
                    <a:pt x="1998" y="585"/>
                  </a:lnTo>
                  <a:lnTo>
                    <a:pt x="1998" y="597"/>
                  </a:lnTo>
                  <a:lnTo>
                    <a:pt x="1992" y="597"/>
                  </a:lnTo>
                  <a:lnTo>
                    <a:pt x="1992" y="603"/>
                  </a:lnTo>
                  <a:lnTo>
                    <a:pt x="1986" y="603"/>
                  </a:lnTo>
                  <a:lnTo>
                    <a:pt x="1986" y="614"/>
                  </a:lnTo>
                  <a:lnTo>
                    <a:pt x="1981" y="614"/>
                  </a:lnTo>
                  <a:lnTo>
                    <a:pt x="1981" y="620"/>
                  </a:lnTo>
                  <a:lnTo>
                    <a:pt x="1974" y="620"/>
                  </a:lnTo>
                  <a:lnTo>
                    <a:pt x="1974" y="632"/>
                  </a:lnTo>
                  <a:lnTo>
                    <a:pt x="1969" y="632"/>
                  </a:lnTo>
                  <a:lnTo>
                    <a:pt x="1969" y="643"/>
                  </a:lnTo>
                  <a:lnTo>
                    <a:pt x="1964" y="643"/>
                  </a:lnTo>
                  <a:lnTo>
                    <a:pt x="1964" y="649"/>
                  </a:lnTo>
                  <a:lnTo>
                    <a:pt x="1957" y="649"/>
                  </a:lnTo>
                  <a:lnTo>
                    <a:pt x="1957" y="660"/>
                  </a:lnTo>
                  <a:lnTo>
                    <a:pt x="1952" y="660"/>
                  </a:lnTo>
                  <a:lnTo>
                    <a:pt x="1952" y="666"/>
                  </a:lnTo>
                  <a:lnTo>
                    <a:pt x="1946" y="666"/>
                  </a:lnTo>
                  <a:lnTo>
                    <a:pt x="1946" y="671"/>
                  </a:lnTo>
                  <a:lnTo>
                    <a:pt x="1941" y="671"/>
                  </a:lnTo>
                  <a:lnTo>
                    <a:pt x="1941" y="683"/>
                  </a:lnTo>
                  <a:lnTo>
                    <a:pt x="1935" y="683"/>
                  </a:lnTo>
                  <a:lnTo>
                    <a:pt x="1935" y="689"/>
                  </a:lnTo>
                  <a:lnTo>
                    <a:pt x="1924" y="689"/>
                  </a:lnTo>
                  <a:lnTo>
                    <a:pt x="1924" y="694"/>
                  </a:lnTo>
                  <a:lnTo>
                    <a:pt x="1900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6146640" y="674640"/>
              <a:ext cx="784080" cy="546480"/>
            </a:xfrm>
            <a:custGeom>
              <a:avLst/>
              <a:gdLst/>
              <a:ahLst/>
              <a:rect l="l" t="t" r="r" b="b"/>
              <a:pathLst>
                <a:path w="1428" h="990">
                  <a:moveTo>
                    <a:pt x="773" y="990"/>
                  </a:moveTo>
                  <a:lnTo>
                    <a:pt x="773" y="985"/>
                  </a:lnTo>
                  <a:lnTo>
                    <a:pt x="756" y="985"/>
                  </a:lnTo>
                  <a:lnTo>
                    <a:pt x="756" y="979"/>
                  </a:lnTo>
                  <a:lnTo>
                    <a:pt x="717" y="979"/>
                  </a:lnTo>
                  <a:lnTo>
                    <a:pt x="717" y="973"/>
                  </a:lnTo>
                  <a:lnTo>
                    <a:pt x="699" y="973"/>
                  </a:lnTo>
                  <a:lnTo>
                    <a:pt x="699" y="967"/>
                  </a:lnTo>
                  <a:lnTo>
                    <a:pt x="689" y="967"/>
                  </a:lnTo>
                  <a:lnTo>
                    <a:pt x="689" y="962"/>
                  </a:lnTo>
                  <a:lnTo>
                    <a:pt x="665" y="962"/>
                  </a:lnTo>
                  <a:lnTo>
                    <a:pt x="665" y="956"/>
                  </a:lnTo>
                  <a:lnTo>
                    <a:pt x="654" y="956"/>
                  </a:lnTo>
                  <a:lnTo>
                    <a:pt x="654" y="950"/>
                  </a:lnTo>
                  <a:lnTo>
                    <a:pt x="642" y="950"/>
                  </a:lnTo>
                  <a:lnTo>
                    <a:pt x="642" y="945"/>
                  </a:lnTo>
                  <a:lnTo>
                    <a:pt x="632" y="945"/>
                  </a:lnTo>
                  <a:lnTo>
                    <a:pt x="632" y="939"/>
                  </a:lnTo>
                  <a:lnTo>
                    <a:pt x="625" y="939"/>
                  </a:lnTo>
                  <a:lnTo>
                    <a:pt x="625" y="933"/>
                  </a:lnTo>
                  <a:lnTo>
                    <a:pt x="620" y="933"/>
                  </a:lnTo>
                  <a:lnTo>
                    <a:pt x="620" y="928"/>
                  </a:lnTo>
                  <a:lnTo>
                    <a:pt x="603" y="928"/>
                  </a:lnTo>
                  <a:lnTo>
                    <a:pt x="603" y="922"/>
                  </a:lnTo>
                  <a:lnTo>
                    <a:pt x="597" y="922"/>
                  </a:lnTo>
                  <a:lnTo>
                    <a:pt x="597" y="916"/>
                  </a:lnTo>
                  <a:lnTo>
                    <a:pt x="585" y="916"/>
                  </a:lnTo>
                  <a:lnTo>
                    <a:pt x="585" y="910"/>
                  </a:lnTo>
                  <a:lnTo>
                    <a:pt x="580" y="910"/>
                  </a:lnTo>
                  <a:lnTo>
                    <a:pt x="580" y="905"/>
                  </a:lnTo>
                  <a:lnTo>
                    <a:pt x="575" y="905"/>
                  </a:lnTo>
                  <a:lnTo>
                    <a:pt x="575" y="899"/>
                  </a:lnTo>
                  <a:lnTo>
                    <a:pt x="568" y="899"/>
                  </a:lnTo>
                  <a:lnTo>
                    <a:pt x="568" y="893"/>
                  </a:lnTo>
                  <a:lnTo>
                    <a:pt x="557" y="893"/>
                  </a:lnTo>
                  <a:lnTo>
                    <a:pt x="557" y="888"/>
                  </a:lnTo>
                  <a:lnTo>
                    <a:pt x="540" y="888"/>
                  </a:lnTo>
                  <a:lnTo>
                    <a:pt x="540" y="881"/>
                  </a:lnTo>
                  <a:lnTo>
                    <a:pt x="528" y="881"/>
                  </a:lnTo>
                  <a:lnTo>
                    <a:pt x="528" y="876"/>
                  </a:lnTo>
                  <a:lnTo>
                    <a:pt x="518" y="876"/>
                  </a:lnTo>
                  <a:lnTo>
                    <a:pt x="518" y="871"/>
                  </a:lnTo>
                  <a:lnTo>
                    <a:pt x="511" y="871"/>
                  </a:lnTo>
                  <a:lnTo>
                    <a:pt x="511" y="865"/>
                  </a:lnTo>
                  <a:lnTo>
                    <a:pt x="506" y="865"/>
                  </a:lnTo>
                  <a:lnTo>
                    <a:pt x="506" y="859"/>
                  </a:lnTo>
                  <a:lnTo>
                    <a:pt x="500" y="859"/>
                  </a:lnTo>
                  <a:lnTo>
                    <a:pt x="500" y="854"/>
                  </a:lnTo>
                  <a:lnTo>
                    <a:pt x="494" y="854"/>
                  </a:lnTo>
                  <a:lnTo>
                    <a:pt x="494" y="848"/>
                  </a:lnTo>
                  <a:lnTo>
                    <a:pt x="489" y="848"/>
                  </a:lnTo>
                  <a:lnTo>
                    <a:pt x="489" y="842"/>
                  </a:lnTo>
                  <a:lnTo>
                    <a:pt x="477" y="842"/>
                  </a:lnTo>
                  <a:lnTo>
                    <a:pt x="477" y="836"/>
                  </a:lnTo>
                  <a:lnTo>
                    <a:pt x="471" y="836"/>
                  </a:lnTo>
                  <a:lnTo>
                    <a:pt x="471" y="831"/>
                  </a:lnTo>
                  <a:lnTo>
                    <a:pt x="461" y="831"/>
                  </a:lnTo>
                  <a:lnTo>
                    <a:pt x="461" y="819"/>
                  </a:lnTo>
                  <a:lnTo>
                    <a:pt x="449" y="819"/>
                  </a:lnTo>
                  <a:lnTo>
                    <a:pt x="449" y="814"/>
                  </a:lnTo>
                  <a:lnTo>
                    <a:pt x="444" y="814"/>
                  </a:lnTo>
                  <a:lnTo>
                    <a:pt x="444" y="808"/>
                  </a:lnTo>
                  <a:lnTo>
                    <a:pt x="438" y="808"/>
                  </a:lnTo>
                  <a:lnTo>
                    <a:pt x="438" y="802"/>
                  </a:lnTo>
                  <a:lnTo>
                    <a:pt x="426" y="802"/>
                  </a:lnTo>
                  <a:lnTo>
                    <a:pt x="426" y="797"/>
                  </a:lnTo>
                  <a:lnTo>
                    <a:pt x="416" y="797"/>
                  </a:lnTo>
                  <a:lnTo>
                    <a:pt x="416" y="791"/>
                  </a:lnTo>
                  <a:lnTo>
                    <a:pt x="409" y="791"/>
                  </a:lnTo>
                  <a:lnTo>
                    <a:pt x="409" y="785"/>
                  </a:lnTo>
                  <a:lnTo>
                    <a:pt x="398" y="785"/>
                  </a:lnTo>
                  <a:lnTo>
                    <a:pt x="398" y="779"/>
                  </a:lnTo>
                  <a:lnTo>
                    <a:pt x="392" y="779"/>
                  </a:lnTo>
                  <a:lnTo>
                    <a:pt x="392" y="774"/>
                  </a:lnTo>
                  <a:lnTo>
                    <a:pt x="381" y="774"/>
                  </a:lnTo>
                  <a:lnTo>
                    <a:pt x="381" y="768"/>
                  </a:lnTo>
                  <a:lnTo>
                    <a:pt x="369" y="768"/>
                  </a:lnTo>
                  <a:lnTo>
                    <a:pt x="369" y="762"/>
                  </a:lnTo>
                  <a:lnTo>
                    <a:pt x="359" y="762"/>
                  </a:lnTo>
                  <a:lnTo>
                    <a:pt x="359" y="757"/>
                  </a:lnTo>
                  <a:lnTo>
                    <a:pt x="352" y="757"/>
                  </a:lnTo>
                  <a:lnTo>
                    <a:pt x="352" y="751"/>
                  </a:lnTo>
                  <a:lnTo>
                    <a:pt x="335" y="751"/>
                  </a:lnTo>
                  <a:lnTo>
                    <a:pt x="335" y="745"/>
                  </a:lnTo>
                  <a:lnTo>
                    <a:pt x="330" y="745"/>
                  </a:lnTo>
                  <a:lnTo>
                    <a:pt x="330" y="740"/>
                  </a:lnTo>
                  <a:lnTo>
                    <a:pt x="318" y="740"/>
                  </a:lnTo>
                  <a:lnTo>
                    <a:pt x="318" y="734"/>
                  </a:lnTo>
                  <a:lnTo>
                    <a:pt x="312" y="734"/>
                  </a:lnTo>
                  <a:lnTo>
                    <a:pt x="312" y="728"/>
                  </a:lnTo>
                  <a:lnTo>
                    <a:pt x="307" y="728"/>
                  </a:lnTo>
                  <a:lnTo>
                    <a:pt x="307" y="722"/>
                  </a:lnTo>
                  <a:lnTo>
                    <a:pt x="295" y="722"/>
                  </a:lnTo>
                  <a:lnTo>
                    <a:pt x="295" y="717"/>
                  </a:lnTo>
                  <a:lnTo>
                    <a:pt x="284" y="717"/>
                  </a:lnTo>
                  <a:lnTo>
                    <a:pt x="284" y="712"/>
                  </a:lnTo>
                  <a:lnTo>
                    <a:pt x="273" y="712"/>
                  </a:lnTo>
                  <a:lnTo>
                    <a:pt x="273" y="706"/>
                  </a:lnTo>
                  <a:lnTo>
                    <a:pt x="267" y="706"/>
                  </a:lnTo>
                  <a:lnTo>
                    <a:pt x="267" y="700"/>
                  </a:lnTo>
                  <a:lnTo>
                    <a:pt x="250" y="700"/>
                  </a:lnTo>
                  <a:lnTo>
                    <a:pt x="250" y="695"/>
                  </a:lnTo>
                  <a:lnTo>
                    <a:pt x="244" y="695"/>
                  </a:lnTo>
                  <a:lnTo>
                    <a:pt x="244" y="689"/>
                  </a:lnTo>
                  <a:lnTo>
                    <a:pt x="238" y="689"/>
                  </a:lnTo>
                  <a:lnTo>
                    <a:pt x="238" y="683"/>
                  </a:lnTo>
                  <a:lnTo>
                    <a:pt x="221" y="683"/>
                  </a:lnTo>
                  <a:lnTo>
                    <a:pt x="221" y="677"/>
                  </a:lnTo>
                  <a:lnTo>
                    <a:pt x="216" y="677"/>
                  </a:lnTo>
                  <a:lnTo>
                    <a:pt x="216" y="672"/>
                  </a:lnTo>
                  <a:lnTo>
                    <a:pt x="210" y="672"/>
                  </a:lnTo>
                  <a:lnTo>
                    <a:pt x="210" y="665"/>
                  </a:lnTo>
                  <a:lnTo>
                    <a:pt x="204" y="665"/>
                  </a:lnTo>
                  <a:lnTo>
                    <a:pt x="204" y="660"/>
                  </a:lnTo>
                  <a:lnTo>
                    <a:pt x="198" y="660"/>
                  </a:lnTo>
                  <a:lnTo>
                    <a:pt x="198" y="655"/>
                  </a:lnTo>
                  <a:lnTo>
                    <a:pt x="193" y="655"/>
                  </a:lnTo>
                  <a:lnTo>
                    <a:pt x="193" y="649"/>
                  </a:lnTo>
                  <a:lnTo>
                    <a:pt x="187" y="649"/>
                  </a:lnTo>
                  <a:lnTo>
                    <a:pt x="187" y="643"/>
                  </a:lnTo>
                  <a:lnTo>
                    <a:pt x="181" y="643"/>
                  </a:lnTo>
                  <a:lnTo>
                    <a:pt x="181" y="638"/>
                  </a:lnTo>
                  <a:lnTo>
                    <a:pt x="176" y="638"/>
                  </a:lnTo>
                  <a:lnTo>
                    <a:pt x="176" y="626"/>
                  </a:lnTo>
                  <a:lnTo>
                    <a:pt x="164" y="626"/>
                  </a:lnTo>
                  <a:lnTo>
                    <a:pt x="164" y="620"/>
                  </a:lnTo>
                  <a:lnTo>
                    <a:pt x="153" y="620"/>
                  </a:lnTo>
                  <a:lnTo>
                    <a:pt x="153" y="615"/>
                  </a:lnTo>
                  <a:lnTo>
                    <a:pt x="141" y="615"/>
                  </a:lnTo>
                  <a:lnTo>
                    <a:pt x="141" y="609"/>
                  </a:lnTo>
                  <a:lnTo>
                    <a:pt x="136" y="609"/>
                  </a:lnTo>
                  <a:lnTo>
                    <a:pt x="136" y="603"/>
                  </a:lnTo>
                  <a:lnTo>
                    <a:pt x="130" y="603"/>
                  </a:lnTo>
                  <a:lnTo>
                    <a:pt x="130" y="598"/>
                  </a:lnTo>
                  <a:lnTo>
                    <a:pt x="124" y="598"/>
                  </a:lnTo>
                  <a:lnTo>
                    <a:pt x="124" y="586"/>
                  </a:lnTo>
                  <a:lnTo>
                    <a:pt x="119" y="586"/>
                  </a:lnTo>
                  <a:lnTo>
                    <a:pt x="119" y="581"/>
                  </a:lnTo>
                  <a:lnTo>
                    <a:pt x="114" y="581"/>
                  </a:lnTo>
                  <a:lnTo>
                    <a:pt x="114" y="575"/>
                  </a:lnTo>
                  <a:lnTo>
                    <a:pt x="107" y="575"/>
                  </a:lnTo>
                  <a:lnTo>
                    <a:pt x="107" y="563"/>
                  </a:lnTo>
                  <a:lnTo>
                    <a:pt x="102" y="563"/>
                  </a:lnTo>
                  <a:lnTo>
                    <a:pt x="102" y="558"/>
                  </a:lnTo>
                  <a:lnTo>
                    <a:pt x="96" y="558"/>
                  </a:lnTo>
                  <a:lnTo>
                    <a:pt x="96" y="552"/>
                  </a:lnTo>
                  <a:lnTo>
                    <a:pt x="90" y="552"/>
                  </a:lnTo>
                  <a:lnTo>
                    <a:pt x="90" y="546"/>
                  </a:lnTo>
                  <a:lnTo>
                    <a:pt x="85" y="546"/>
                  </a:lnTo>
                  <a:lnTo>
                    <a:pt x="85" y="541"/>
                  </a:lnTo>
                  <a:lnTo>
                    <a:pt x="79" y="541"/>
                  </a:lnTo>
                  <a:lnTo>
                    <a:pt x="79" y="534"/>
                  </a:lnTo>
                  <a:lnTo>
                    <a:pt x="73" y="534"/>
                  </a:lnTo>
                  <a:lnTo>
                    <a:pt x="73" y="529"/>
                  </a:lnTo>
                  <a:lnTo>
                    <a:pt x="67" y="529"/>
                  </a:lnTo>
                  <a:lnTo>
                    <a:pt x="67" y="524"/>
                  </a:lnTo>
                  <a:lnTo>
                    <a:pt x="62" y="524"/>
                  </a:lnTo>
                  <a:lnTo>
                    <a:pt x="62" y="518"/>
                  </a:lnTo>
                  <a:lnTo>
                    <a:pt x="57" y="518"/>
                  </a:lnTo>
                  <a:lnTo>
                    <a:pt x="57" y="512"/>
                  </a:lnTo>
                  <a:lnTo>
                    <a:pt x="50" y="512"/>
                  </a:lnTo>
                  <a:lnTo>
                    <a:pt x="50" y="501"/>
                  </a:lnTo>
                  <a:lnTo>
                    <a:pt x="45" y="501"/>
                  </a:lnTo>
                  <a:lnTo>
                    <a:pt x="45" y="495"/>
                  </a:lnTo>
                  <a:lnTo>
                    <a:pt x="39" y="495"/>
                  </a:lnTo>
                  <a:lnTo>
                    <a:pt x="39" y="489"/>
                  </a:lnTo>
                  <a:lnTo>
                    <a:pt x="28" y="489"/>
                  </a:lnTo>
                  <a:lnTo>
                    <a:pt x="28" y="484"/>
                  </a:lnTo>
                  <a:lnTo>
                    <a:pt x="17" y="484"/>
                  </a:lnTo>
                  <a:lnTo>
                    <a:pt x="17" y="444"/>
                  </a:lnTo>
                  <a:lnTo>
                    <a:pt x="10" y="444"/>
                  </a:lnTo>
                  <a:lnTo>
                    <a:pt x="10" y="432"/>
                  </a:lnTo>
                  <a:lnTo>
                    <a:pt x="17" y="432"/>
                  </a:lnTo>
                  <a:lnTo>
                    <a:pt x="17" y="421"/>
                  </a:lnTo>
                  <a:lnTo>
                    <a:pt x="10" y="421"/>
                  </a:lnTo>
                  <a:lnTo>
                    <a:pt x="10" y="347"/>
                  </a:lnTo>
                  <a:lnTo>
                    <a:pt x="5" y="347"/>
                  </a:lnTo>
                  <a:lnTo>
                    <a:pt x="5" y="256"/>
                  </a:lnTo>
                  <a:lnTo>
                    <a:pt x="0" y="256"/>
                  </a:lnTo>
                  <a:lnTo>
                    <a:pt x="0" y="244"/>
                  </a:lnTo>
                  <a:lnTo>
                    <a:pt x="5" y="244"/>
                  </a:lnTo>
                  <a:lnTo>
                    <a:pt x="5" y="182"/>
                  </a:lnTo>
                  <a:lnTo>
                    <a:pt x="10" y="182"/>
                  </a:lnTo>
                  <a:lnTo>
                    <a:pt x="10" y="85"/>
                  </a:lnTo>
                  <a:lnTo>
                    <a:pt x="17" y="85"/>
                  </a:lnTo>
                  <a:lnTo>
                    <a:pt x="17" y="73"/>
                  </a:lnTo>
                  <a:lnTo>
                    <a:pt x="10" y="73"/>
                  </a:lnTo>
                  <a:lnTo>
                    <a:pt x="10" y="40"/>
                  </a:lnTo>
                  <a:lnTo>
                    <a:pt x="17" y="40"/>
                  </a:lnTo>
                  <a:lnTo>
                    <a:pt x="17" y="16"/>
                  </a:lnTo>
                  <a:lnTo>
                    <a:pt x="22" y="16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6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73" y="0"/>
                  </a:lnTo>
                  <a:lnTo>
                    <a:pt x="73" y="57"/>
                  </a:lnTo>
                  <a:lnTo>
                    <a:pt x="67" y="57"/>
                  </a:lnTo>
                  <a:lnTo>
                    <a:pt x="67" y="68"/>
                  </a:lnTo>
                  <a:lnTo>
                    <a:pt x="62" y="68"/>
                  </a:lnTo>
                  <a:lnTo>
                    <a:pt x="62" y="85"/>
                  </a:lnTo>
                  <a:lnTo>
                    <a:pt x="57" y="85"/>
                  </a:lnTo>
                  <a:lnTo>
                    <a:pt x="57" y="171"/>
                  </a:lnTo>
                  <a:lnTo>
                    <a:pt x="62" y="171"/>
                  </a:lnTo>
                  <a:lnTo>
                    <a:pt x="62" y="194"/>
                  </a:lnTo>
                  <a:lnTo>
                    <a:pt x="67" y="194"/>
                  </a:lnTo>
                  <a:lnTo>
                    <a:pt x="67" y="234"/>
                  </a:lnTo>
                  <a:lnTo>
                    <a:pt x="73" y="234"/>
                  </a:lnTo>
                  <a:lnTo>
                    <a:pt x="73" y="251"/>
                  </a:lnTo>
                  <a:lnTo>
                    <a:pt x="67" y="251"/>
                  </a:lnTo>
                  <a:lnTo>
                    <a:pt x="67" y="273"/>
                  </a:lnTo>
                  <a:lnTo>
                    <a:pt x="73" y="273"/>
                  </a:lnTo>
                  <a:lnTo>
                    <a:pt x="73" y="308"/>
                  </a:lnTo>
                  <a:lnTo>
                    <a:pt x="67" y="308"/>
                  </a:lnTo>
                  <a:lnTo>
                    <a:pt x="67" y="330"/>
                  </a:lnTo>
                  <a:lnTo>
                    <a:pt x="73" y="330"/>
                  </a:lnTo>
                  <a:lnTo>
                    <a:pt x="73" y="364"/>
                  </a:lnTo>
                  <a:lnTo>
                    <a:pt x="79" y="364"/>
                  </a:lnTo>
                  <a:lnTo>
                    <a:pt x="79" y="375"/>
                  </a:lnTo>
                  <a:lnTo>
                    <a:pt x="85" y="375"/>
                  </a:lnTo>
                  <a:lnTo>
                    <a:pt x="85" y="404"/>
                  </a:lnTo>
                  <a:lnTo>
                    <a:pt x="90" y="404"/>
                  </a:lnTo>
                  <a:lnTo>
                    <a:pt x="90" y="421"/>
                  </a:lnTo>
                  <a:lnTo>
                    <a:pt x="96" y="421"/>
                  </a:lnTo>
                  <a:lnTo>
                    <a:pt x="96" y="438"/>
                  </a:lnTo>
                  <a:lnTo>
                    <a:pt x="102" y="438"/>
                  </a:lnTo>
                  <a:lnTo>
                    <a:pt x="102" y="455"/>
                  </a:lnTo>
                  <a:lnTo>
                    <a:pt x="107" y="455"/>
                  </a:lnTo>
                  <a:lnTo>
                    <a:pt x="107" y="461"/>
                  </a:lnTo>
                  <a:lnTo>
                    <a:pt x="114" y="461"/>
                  </a:lnTo>
                  <a:lnTo>
                    <a:pt x="114" y="472"/>
                  </a:lnTo>
                  <a:lnTo>
                    <a:pt x="119" y="472"/>
                  </a:lnTo>
                  <a:lnTo>
                    <a:pt x="119" y="484"/>
                  </a:lnTo>
                  <a:lnTo>
                    <a:pt x="124" y="484"/>
                  </a:lnTo>
                  <a:lnTo>
                    <a:pt x="124" y="495"/>
                  </a:lnTo>
                  <a:lnTo>
                    <a:pt x="130" y="495"/>
                  </a:lnTo>
                  <a:lnTo>
                    <a:pt x="130" y="501"/>
                  </a:lnTo>
                  <a:lnTo>
                    <a:pt x="136" y="501"/>
                  </a:lnTo>
                  <a:lnTo>
                    <a:pt x="136" y="506"/>
                  </a:lnTo>
                  <a:lnTo>
                    <a:pt x="141" y="506"/>
                  </a:lnTo>
                  <a:lnTo>
                    <a:pt x="141" y="512"/>
                  </a:lnTo>
                  <a:lnTo>
                    <a:pt x="147" y="512"/>
                  </a:lnTo>
                  <a:lnTo>
                    <a:pt x="147" y="524"/>
                  </a:lnTo>
                  <a:lnTo>
                    <a:pt x="153" y="524"/>
                  </a:lnTo>
                  <a:lnTo>
                    <a:pt x="153" y="529"/>
                  </a:lnTo>
                  <a:lnTo>
                    <a:pt x="159" y="529"/>
                  </a:lnTo>
                  <a:lnTo>
                    <a:pt x="159" y="534"/>
                  </a:lnTo>
                  <a:lnTo>
                    <a:pt x="164" y="534"/>
                  </a:lnTo>
                  <a:lnTo>
                    <a:pt x="164" y="546"/>
                  </a:lnTo>
                  <a:lnTo>
                    <a:pt x="171" y="546"/>
                  </a:lnTo>
                  <a:lnTo>
                    <a:pt x="171" y="552"/>
                  </a:lnTo>
                  <a:lnTo>
                    <a:pt x="176" y="552"/>
                  </a:lnTo>
                  <a:lnTo>
                    <a:pt x="176" y="558"/>
                  </a:lnTo>
                  <a:lnTo>
                    <a:pt x="181" y="558"/>
                  </a:lnTo>
                  <a:lnTo>
                    <a:pt x="181" y="563"/>
                  </a:lnTo>
                  <a:lnTo>
                    <a:pt x="187" y="563"/>
                  </a:lnTo>
                  <a:lnTo>
                    <a:pt x="187" y="575"/>
                  </a:lnTo>
                  <a:lnTo>
                    <a:pt x="193" y="575"/>
                  </a:lnTo>
                  <a:lnTo>
                    <a:pt x="193" y="581"/>
                  </a:lnTo>
                  <a:lnTo>
                    <a:pt x="198" y="581"/>
                  </a:lnTo>
                  <a:lnTo>
                    <a:pt x="198" y="586"/>
                  </a:lnTo>
                  <a:lnTo>
                    <a:pt x="204" y="586"/>
                  </a:lnTo>
                  <a:lnTo>
                    <a:pt x="204" y="598"/>
                  </a:lnTo>
                  <a:lnTo>
                    <a:pt x="210" y="598"/>
                  </a:lnTo>
                  <a:lnTo>
                    <a:pt x="210" y="603"/>
                  </a:lnTo>
                  <a:lnTo>
                    <a:pt x="216" y="603"/>
                  </a:lnTo>
                  <a:lnTo>
                    <a:pt x="216" y="609"/>
                  </a:lnTo>
                  <a:lnTo>
                    <a:pt x="221" y="609"/>
                  </a:lnTo>
                  <a:lnTo>
                    <a:pt x="221" y="615"/>
                  </a:lnTo>
                  <a:lnTo>
                    <a:pt x="227" y="615"/>
                  </a:lnTo>
                  <a:lnTo>
                    <a:pt x="227" y="620"/>
                  </a:lnTo>
                  <a:lnTo>
                    <a:pt x="238" y="620"/>
                  </a:lnTo>
                  <a:lnTo>
                    <a:pt x="238" y="626"/>
                  </a:lnTo>
                  <a:lnTo>
                    <a:pt x="250" y="626"/>
                  </a:lnTo>
                  <a:lnTo>
                    <a:pt x="250" y="632"/>
                  </a:lnTo>
                  <a:lnTo>
                    <a:pt x="255" y="632"/>
                  </a:lnTo>
                  <a:lnTo>
                    <a:pt x="255" y="638"/>
                  </a:lnTo>
                  <a:lnTo>
                    <a:pt x="267" y="638"/>
                  </a:lnTo>
                  <a:lnTo>
                    <a:pt x="267" y="643"/>
                  </a:lnTo>
                  <a:lnTo>
                    <a:pt x="278" y="643"/>
                  </a:lnTo>
                  <a:lnTo>
                    <a:pt x="278" y="649"/>
                  </a:lnTo>
                  <a:lnTo>
                    <a:pt x="284" y="649"/>
                  </a:lnTo>
                  <a:lnTo>
                    <a:pt x="284" y="655"/>
                  </a:lnTo>
                  <a:lnTo>
                    <a:pt x="295" y="655"/>
                  </a:lnTo>
                  <a:lnTo>
                    <a:pt x="295" y="660"/>
                  </a:lnTo>
                  <a:lnTo>
                    <a:pt x="301" y="660"/>
                  </a:lnTo>
                  <a:lnTo>
                    <a:pt x="301" y="665"/>
                  </a:lnTo>
                  <a:lnTo>
                    <a:pt x="307" y="665"/>
                  </a:lnTo>
                  <a:lnTo>
                    <a:pt x="307" y="672"/>
                  </a:lnTo>
                  <a:lnTo>
                    <a:pt x="312" y="672"/>
                  </a:lnTo>
                  <a:lnTo>
                    <a:pt x="312" y="677"/>
                  </a:lnTo>
                  <a:lnTo>
                    <a:pt x="324" y="677"/>
                  </a:lnTo>
                  <a:lnTo>
                    <a:pt x="324" y="683"/>
                  </a:lnTo>
                  <a:lnTo>
                    <a:pt x="330" y="683"/>
                  </a:lnTo>
                  <a:lnTo>
                    <a:pt x="330" y="689"/>
                  </a:lnTo>
                  <a:lnTo>
                    <a:pt x="335" y="689"/>
                  </a:lnTo>
                  <a:lnTo>
                    <a:pt x="335" y="695"/>
                  </a:lnTo>
                  <a:lnTo>
                    <a:pt x="347" y="695"/>
                  </a:lnTo>
                  <a:lnTo>
                    <a:pt x="347" y="700"/>
                  </a:lnTo>
                  <a:lnTo>
                    <a:pt x="359" y="700"/>
                  </a:lnTo>
                  <a:lnTo>
                    <a:pt x="359" y="706"/>
                  </a:lnTo>
                  <a:lnTo>
                    <a:pt x="364" y="706"/>
                  </a:lnTo>
                  <a:lnTo>
                    <a:pt x="364" y="712"/>
                  </a:lnTo>
                  <a:lnTo>
                    <a:pt x="375" y="712"/>
                  </a:lnTo>
                  <a:lnTo>
                    <a:pt x="375" y="717"/>
                  </a:lnTo>
                  <a:lnTo>
                    <a:pt x="387" y="717"/>
                  </a:lnTo>
                  <a:lnTo>
                    <a:pt x="387" y="722"/>
                  </a:lnTo>
                  <a:lnTo>
                    <a:pt x="392" y="722"/>
                  </a:lnTo>
                  <a:lnTo>
                    <a:pt x="392" y="728"/>
                  </a:lnTo>
                  <a:lnTo>
                    <a:pt x="398" y="728"/>
                  </a:lnTo>
                  <a:lnTo>
                    <a:pt x="398" y="734"/>
                  </a:lnTo>
                  <a:lnTo>
                    <a:pt x="409" y="734"/>
                  </a:lnTo>
                  <a:lnTo>
                    <a:pt x="409" y="740"/>
                  </a:lnTo>
                  <a:lnTo>
                    <a:pt x="416" y="740"/>
                  </a:lnTo>
                  <a:lnTo>
                    <a:pt x="416" y="745"/>
                  </a:lnTo>
                  <a:lnTo>
                    <a:pt x="426" y="745"/>
                  </a:lnTo>
                  <a:lnTo>
                    <a:pt x="426" y="751"/>
                  </a:lnTo>
                  <a:lnTo>
                    <a:pt x="438" y="751"/>
                  </a:lnTo>
                  <a:lnTo>
                    <a:pt x="438" y="757"/>
                  </a:lnTo>
                  <a:lnTo>
                    <a:pt x="444" y="757"/>
                  </a:lnTo>
                  <a:lnTo>
                    <a:pt x="444" y="762"/>
                  </a:lnTo>
                  <a:lnTo>
                    <a:pt x="454" y="762"/>
                  </a:lnTo>
                  <a:lnTo>
                    <a:pt x="454" y="768"/>
                  </a:lnTo>
                  <a:lnTo>
                    <a:pt x="466" y="768"/>
                  </a:lnTo>
                  <a:lnTo>
                    <a:pt x="466" y="774"/>
                  </a:lnTo>
                  <a:lnTo>
                    <a:pt x="477" y="774"/>
                  </a:lnTo>
                  <a:lnTo>
                    <a:pt x="477" y="779"/>
                  </a:lnTo>
                  <a:lnTo>
                    <a:pt x="483" y="779"/>
                  </a:lnTo>
                  <a:lnTo>
                    <a:pt x="483" y="785"/>
                  </a:lnTo>
                  <a:lnTo>
                    <a:pt x="494" y="785"/>
                  </a:lnTo>
                  <a:lnTo>
                    <a:pt x="494" y="791"/>
                  </a:lnTo>
                  <a:lnTo>
                    <a:pt x="506" y="791"/>
                  </a:lnTo>
                  <a:lnTo>
                    <a:pt x="506" y="797"/>
                  </a:lnTo>
                  <a:lnTo>
                    <a:pt x="511" y="797"/>
                  </a:lnTo>
                  <a:lnTo>
                    <a:pt x="511" y="802"/>
                  </a:lnTo>
                  <a:lnTo>
                    <a:pt x="518" y="802"/>
                  </a:lnTo>
                  <a:lnTo>
                    <a:pt x="518" y="808"/>
                  </a:lnTo>
                  <a:lnTo>
                    <a:pt x="528" y="808"/>
                  </a:lnTo>
                  <a:lnTo>
                    <a:pt x="528" y="814"/>
                  </a:lnTo>
                  <a:lnTo>
                    <a:pt x="540" y="814"/>
                  </a:lnTo>
                  <a:lnTo>
                    <a:pt x="540" y="819"/>
                  </a:lnTo>
                  <a:lnTo>
                    <a:pt x="546" y="819"/>
                  </a:lnTo>
                  <a:lnTo>
                    <a:pt x="546" y="825"/>
                  </a:lnTo>
                  <a:lnTo>
                    <a:pt x="557" y="825"/>
                  </a:lnTo>
                  <a:lnTo>
                    <a:pt x="557" y="831"/>
                  </a:lnTo>
                  <a:lnTo>
                    <a:pt x="580" y="831"/>
                  </a:lnTo>
                  <a:lnTo>
                    <a:pt x="580" y="842"/>
                  </a:lnTo>
                  <a:lnTo>
                    <a:pt x="597" y="842"/>
                  </a:lnTo>
                  <a:lnTo>
                    <a:pt x="597" y="836"/>
                  </a:lnTo>
                  <a:lnTo>
                    <a:pt x="608" y="836"/>
                  </a:lnTo>
                  <a:lnTo>
                    <a:pt x="608" y="848"/>
                  </a:lnTo>
                  <a:lnTo>
                    <a:pt x="603" y="848"/>
                  </a:lnTo>
                  <a:lnTo>
                    <a:pt x="603" y="865"/>
                  </a:lnTo>
                  <a:lnTo>
                    <a:pt x="614" y="865"/>
                  </a:lnTo>
                  <a:lnTo>
                    <a:pt x="614" y="871"/>
                  </a:lnTo>
                  <a:lnTo>
                    <a:pt x="620" y="871"/>
                  </a:lnTo>
                  <a:lnTo>
                    <a:pt x="620" y="876"/>
                  </a:lnTo>
                  <a:lnTo>
                    <a:pt x="632" y="876"/>
                  </a:lnTo>
                  <a:lnTo>
                    <a:pt x="632" y="881"/>
                  </a:lnTo>
                  <a:lnTo>
                    <a:pt x="642" y="881"/>
                  </a:lnTo>
                  <a:lnTo>
                    <a:pt x="642" y="888"/>
                  </a:lnTo>
                  <a:lnTo>
                    <a:pt x="660" y="888"/>
                  </a:lnTo>
                  <a:lnTo>
                    <a:pt x="660" y="893"/>
                  </a:lnTo>
                  <a:lnTo>
                    <a:pt x="665" y="893"/>
                  </a:lnTo>
                  <a:lnTo>
                    <a:pt x="665" y="899"/>
                  </a:lnTo>
                  <a:lnTo>
                    <a:pt x="677" y="899"/>
                  </a:lnTo>
                  <a:lnTo>
                    <a:pt x="677" y="893"/>
                  </a:lnTo>
                  <a:lnTo>
                    <a:pt x="706" y="893"/>
                  </a:lnTo>
                  <a:lnTo>
                    <a:pt x="706" y="888"/>
                  </a:lnTo>
                  <a:lnTo>
                    <a:pt x="722" y="888"/>
                  </a:lnTo>
                  <a:lnTo>
                    <a:pt x="722" y="881"/>
                  </a:lnTo>
                  <a:lnTo>
                    <a:pt x="734" y="881"/>
                  </a:lnTo>
                  <a:lnTo>
                    <a:pt x="734" y="876"/>
                  </a:lnTo>
                  <a:lnTo>
                    <a:pt x="768" y="876"/>
                  </a:lnTo>
                  <a:lnTo>
                    <a:pt x="768" y="871"/>
                  </a:lnTo>
                  <a:lnTo>
                    <a:pt x="773" y="871"/>
                  </a:lnTo>
                  <a:lnTo>
                    <a:pt x="773" y="865"/>
                  </a:lnTo>
                  <a:lnTo>
                    <a:pt x="785" y="865"/>
                  </a:lnTo>
                  <a:lnTo>
                    <a:pt x="785" y="859"/>
                  </a:lnTo>
                  <a:lnTo>
                    <a:pt x="791" y="859"/>
                  </a:lnTo>
                  <a:lnTo>
                    <a:pt x="791" y="854"/>
                  </a:lnTo>
                  <a:lnTo>
                    <a:pt x="803" y="854"/>
                  </a:lnTo>
                  <a:lnTo>
                    <a:pt x="803" y="848"/>
                  </a:lnTo>
                  <a:lnTo>
                    <a:pt x="808" y="848"/>
                  </a:lnTo>
                  <a:lnTo>
                    <a:pt x="808" y="842"/>
                  </a:lnTo>
                  <a:lnTo>
                    <a:pt x="813" y="842"/>
                  </a:lnTo>
                  <a:lnTo>
                    <a:pt x="813" y="836"/>
                  </a:lnTo>
                  <a:lnTo>
                    <a:pt x="830" y="836"/>
                  </a:lnTo>
                  <a:lnTo>
                    <a:pt x="830" y="831"/>
                  </a:lnTo>
                  <a:lnTo>
                    <a:pt x="848" y="831"/>
                  </a:lnTo>
                  <a:lnTo>
                    <a:pt x="848" y="825"/>
                  </a:lnTo>
                  <a:lnTo>
                    <a:pt x="865" y="825"/>
                  </a:lnTo>
                  <a:lnTo>
                    <a:pt x="865" y="819"/>
                  </a:lnTo>
                  <a:lnTo>
                    <a:pt x="876" y="819"/>
                  </a:lnTo>
                  <a:lnTo>
                    <a:pt x="876" y="814"/>
                  </a:lnTo>
                  <a:lnTo>
                    <a:pt x="893" y="814"/>
                  </a:lnTo>
                  <a:lnTo>
                    <a:pt x="893" y="808"/>
                  </a:lnTo>
                  <a:lnTo>
                    <a:pt x="898" y="808"/>
                  </a:lnTo>
                  <a:lnTo>
                    <a:pt x="898" y="802"/>
                  </a:lnTo>
                  <a:lnTo>
                    <a:pt x="910" y="802"/>
                  </a:lnTo>
                  <a:lnTo>
                    <a:pt x="910" y="797"/>
                  </a:lnTo>
                  <a:lnTo>
                    <a:pt x="922" y="797"/>
                  </a:lnTo>
                  <a:lnTo>
                    <a:pt x="922" y="791"/>
                  </a:lnTo>
                  <a:lnTo>
                    <a:pt x="933" y="791"/>
                  </a:lnTo>
                  <a:lnTo>
                    <a:pt x="933" y="785"/>
                  </a:lnTo>
                  <a:lnTo>
                    <a:pt x="939" y="785"/>
                  </a:lnTo>
                  <a:lnTo>
                    <a:pt x="939" y="779"/>
                  </a:lnTo>
                  <a:lnTo>
                    <a:pt x="950" y="779"/>
                  </a:lnTo>
                  <a:lnTo>
                    <a:pt x="950" y="774"/>
                  </a:lnTo>
                  <a:lnTo>
                    <a:pt x="955" y="774"/>
                  </a:lnTo>
                  <a:lnTo>
                    <a:pt x="955" y="768"/>
                  </a:lnTo>
                  <a:lnTo>
                    <a:pt x="967" y="768"/>
                  </a:lnTo>
                  <a:lnTo>
                    <a:pt x="967" y="762"/>
                  </a:lnTo>
                  <a:lnTo>
                    <a:pt x="972" y="762"/>
                  </a:lnTo>
                  <a:lnTo>
                    <a:pt x="972" y="757"/>
                  </a:lnTo>
                  <a:lnTo>
                    <a:pt x="979" y="757"/>
                  </a:lnTo>
                  <a:lnTo>
                    <a:pt x="979" y="751"/>
                  </a:lnTo>
                  <a:lnTo>
                    <a:pt x="990" y="751"/>
                  </a:lnTo>
                  <a:lnTo>
                    <a:pt x="990" y="745"/>
                  </a:lnTo>
                  <a:lnTo>
                    <a:pt x="1001" y="745"/>
                  </a:lnTo>
                  <a:lnTo>
                    <a:pt x="1001" y="740"/>
                  </a:lnTo>
                  <a:lnTo>
                    <a:pt x="1007" y="740"/>
                  </a:lnTo>
                  <a:lnTo>
                    <a:pt x="1007" y="734"/>
                  </a:lnTo>
                  <a:lnTo>
                    <a:pt x="1012" y="734"/>
                  </a:lnTo>
                  <a:lnTo>
                    <a:pt x="1012" y="728"/>
                  </a:lnTo>
                  <a:lnTo>
                    <a:pt x="1024" y="728"/>
                  </a:lnTo>
                  <a:lnTo>
                    <a:pt x="1024" y="722"/>
                  </a:lnTo>
                  <a:lnTo>
                    <a:pt x="1036" y="722"/>
                  </a:lnTo>
                  <a:lnTo>
                    <a:pt x="1036" y="717"/>
                  </a:lnTo>
                  <a:lnTo>
                    <a:pt x="1046" y="717"/>
                  </a:lnTo>
                  <a:lnTo>
                    <a:pt x="1046" y="712"/>
                  </a:lnTo>
                  <a:lnTo>
                    <a:pt x="1058" y="712"/>
                  </a:lnTo>
                  <a:lnTo>
                    <a:pt x="1058" y="706"/>
                  </a:lnTo>
                  <a:lnTo>
                    <a:pt x="1069" y="706"/>
                  </a:lnTo>
                  <a:lnTo>
                    <a:pt x="1069" y="700"/>
                  </a:lnTo>
                  <a:lnTo>
                    <a:pt x="1076" y="700"/>
                  </a:lnTo>
                  <a:lnTo>
                    <a:pt x="1076" y="695"/>
                  </a:lnTo>
                  <a:lnTo>
                    <a:pt x="1086" y="695"/>
                  </a:lnTo>
                  <a:lnTo>
                    <a:pt x="1086" y="689"/>
                  </a:lnTo>
                  <a:lnTo>
                    <a:pt x="1093" y="689"/>
                  </a:lnTo>
                  <a:lnTo>
                    <a:pt x="1093" y="683"/>
                  </a:lnTo>
                  <a:lnTo>
                    <a:pt x="1098" y="683"/>
                  </a:lnTo>
                  <a:lnTo>
                    <a:pt x="1098" y="677"/>
                  </a:lnTo>
                  <a:lnTo>
                    <a:pt x="1103" y="677"/>
                  </a:lnTo>
                  <a:lnTo>
                    <a:pt x="1103" y="672"/>
                  </a:lnTo>
                  <a:lnTo>
                    <a:pt x="1110" y="672"/>
                  </a:lnTo>
                  <a:lnTo>
                    <a:pt x="1110" y="665"/>
                  </a:lnTo>
                  <a:lnTo>
                    <a:pt x="1121" y="665"/>
                  </a:lnTo>
                  <a:lnTo>
                    <a:pt x="1121" y="660"/>
                  </a:lnTo>
                  <a:lnTo>
                    <a:pt x="1126" y="660"/>
                  </a:lnTo>
                  <a:lnTo>
                    <a:pt x="1126" y="655"/>
                  </a:lnTo>
                  <a:lnTo>
                    <a:pt x="1138" y="655"/>
                  </a:lnTo>
                  <a:lnTo>
                    <a:pt x="1138" y="649"/>
                  </a:lnTo>
                  <a:lnTo>
                    <a:pt x="1143" y="649"/>
                  </a:lnTo>
                  <a:lnTo>
                    <a:pt x="1143" y="643"/>
                  </a:lnTo>
                  <a:lnTo>
                    <a:pt x="1150" y="643"/>
                  </a:lnTo>
                  <a:lnTo>
                    <a:pt x="1150" y="638"/>
                  </a:lnTo>
                  <a:lnTo>
                    <a:pt x="1155" y="638"/>
                  </a:lnTo>
                  <a:lnTo>
                    <a:pt x="1155" y="632"/>
                  </a:lnTo>
                  <a:lnTo>
                    <a:pt x="1167" y="632"/>
                  </a:lnTo>
                  <a:lnTo>
                    <a:pt x="1167" y="626"/>
                  </a:lnTo>
                  <a:lnTo>
                    <a:pt x="1172" y="626"/>
                  </a:lnTo>
                  <a:lnTo>
                    <a:pt x="1172" y="620"/>
                  </a:lnTo>
                  <a:lnTo>
                    <a:pt x="1183" y="620"/>
                  </a:lnTo>
                  <a:lnTo>
                    <a:pt x="1183" y="615"/>
                  </a:lnTo>
                  <a:lnTo>
                    <a:pt x="1189" y="615"/>
                  </a:lnTo>
                  <a:lnTo>
                    <a:pt x="1189" y="609"/>
                  </a:lnTo>
                  <a:lnTo>
                    <a:pt x="1200" y="609"/>
                  </a:lnTo>
                  <a:lnTo>
                    <a:pt x="1200" y="603"/>
                  </a:lnTo>
                  <a:lnTo>
                    <a:pt x="1207" y="603"/>
                  </a:lnTo>
                  <a:lnTo>
                    <a:pt x="1207" y="598"/>
                  </a:lnTo>
                  <a:lnTo>
                    <a:pt x="1217" y="598"/>
                  </a:lnTo>
                  <a:lnTo>
                    <a:pt x="1217" y="592"/>
                  </a:lnTo>
                  <a:lnTo>
                    <a:pt x="1224" y="592"/>
                  </a:lnTo>
                  <a:lnTo>
                    <a:pt x="1224" y="586"/>
                  </a:lnTo>
                  <a:lnTo>
                    <a:pt x="1229" y="586"/>
                  </a:lnTo>
                  <a:lnTo>
                    <a:pt x="1229" y="581"/>
                  </a:lnTo>
                  <a:lnTo>
                    <a:pt x="1240" y="581"/>
                  </a:lnTo>
                  <a:lnTo>
                    <a:pt x="1240" y="575"/>
                  </a:lnTo>
                  <a:lnTo>
                    <a:pt x="1246" y="575"/>
                  </a:lnTo>
                  <a:lnTo>
                    <a:pt x="1246" y="569"/>
                  </a:lnTo>
                  <a:lnTo>
                    <a:pt x="1252" y="569"/>
                  </a:lnTo>
                  <a:lnTo>
                    <a:pt x="1252" y="563"/>
                  </a:lnTo>
                  <a:lnTo>
                    <a:pt x="1257" y="563"/>
                  </a:lnTo>
                  <a:lnTo>
                    <a:pt x="1257" y="558"/>
                  </a:lnTo>
                  <a:lnTo>
                    <a:pt x="1269" y="558"/>
                  </a:lnTo>
                  <a:lnTo>
                    <a:pt x="1269" y="552"/>
                  </a:lnTo>
                  <a:lnTo>
                    <a:pt x="1280" y="552"/>
                  </a:lnTo>
                  <a:lnTo>
                    <a:pt x="1280" y="546"/>
                  </a:lnTo>
                  <a:lnTo>
                    <a:pt x="1286" y="546"/>
                  </a:lnTo>
                  <a:lnTo>
                    <a:pt x="1286" y="541"/>
                  </a:lnTo>
                  <a:lnTo>
                    <a:pt x="1292" y="541"/>
                  </a:lnTo>
                  <a:lnTo>
                    <a:pt x="1292" y="534"/>
                  </a:lnTo>
                  <a:lnTo>
                    <a:pt x="1302" y="534"/>
                  </a:lnTo>
                  <a:lnTo>
                    <a:pt x="1302" y="529"/>
                  </a:lnTo>
                  <a:lnTo>
                    <a:pt x="1309" y="529"/>
                  </a:lnTo>
                  <a:lnTo>
                    <a:pt x="1309" y="524"/>
                  </a:lnTo>
                  <a:lnTo>
                    <a:pt x="1314" y="524"/>
                  </a:lnTo>
                  <a:lnTo>
                    <a:pt x="1314" y="518"/>
                  </a:lnTo>
                  <a:lnTo>
                    <a:pt x="1320" y="518"/>
                  </a:lnTo>
                  <a:lnTo>
                    <a:pt x="1320" y="512"/>
                  </a:lnTo>
                  <a:lnTo>
                    <a:pt x="1331" y="512"/>
                  </a:lnTo>
                  <a:lnTo>
                    <a:pt x="1331" y="506"/>
                  </a:lnTo>
                  <a:lnTo>
                    <a:pt x="1337" y="506"/>
                  </a:lnTo>
                  <a:lnTo>
                    <a:pt x="1337" y="501"/>
                  </a:lnTo>
                  <a:lnTo>
                    <a:pt x="1343" y="501"/>
                  </a:lnTo>
                  <a:lnTo>
                    <a:pt x="1343" y="495"/>
                  </a:lnTo>
                  <a:lnTo>
                    <a:pt x="1349" y="495"/>
                  </a:lnTo>
                  <a:lnTo>
                    <a:pt x="1349" y="489"/>
                  </a:lnTo>
                  <a:lnTo>
                    <a:pt x="1354" y="489"/>
                  </a:lnTo>
                  <a:lnTo>
                    <a:pt x="1354" y="484"/>
                  </a:lnTo>
                  <a:lnTo>
                    <a:pt x="1359" y="484"/>
                  </a:lnTo>
                  <a:lnTo>
                    <a:pt x="1359" y="477"/>
                  </a:lnTo>
                  <a:lnTo>
                    <a:pt x="1366" y="477"/>
                  </a:lnTo>
                  <a:lnTo>
                    <a:pt x="1366" y="472"/>
                  </a:lnTo>
                  <a:lnTo>
                    <a:pt x="1376" y="472"/>
                  </a:lnTo>
                  <a:lnTo>
                    <a:pt x="1376" y="467"/>
                  </a:lnTo>
                  <a:lnTo>
                    <a:pt x="1383" y="467"/>
                  </a:lnTo>
                  <a:lnTo>
                    <a:pt x="1383" y="461"/>
                  </a:lnTo>
                  <a:lnTo>
                    <a:pt x="1388" y="461"/>
                  </a:lnTo>
                  <a:lnTo>
                    <a:pt x="1388" y="455"/>
                  </a:lnTo>
                  <a:lnTo>
                    <a:pt x="1394" y="455"/>
                  </a:lnTo>
                  <a:lnTo>
                    <a:pt x="1394" y="450"/>
                  </a:lnTo>
                  <a:lnTo>
                    <a:pt x="1405" y="450"/>
                  </a:lnTo>
                  <a:lnTo>
                    <a:pt x="1405" y="444"/>
                  </a:lnTo>
                  <a:lnTo>
                    <a:pt x="1416" y="444"/>
                  </a:lnTo>
                  <a:lnTo>
                    <a:pt x="1416" y="438"/>
                  </a:lnTo>
                  <a:lnTo>
                    <a:pt x="1428" y="438"/>
                  </a:lnTo>
                  <a:lnTo>
                    <a:pt x="1428" y="484"/>
                  </a:lnTo>
                  <a:lnTo>
                    <a:pt x="1423" y="484"/>
                  </a:lnTo>
                  <a:lnTo>
                    <a:pt x="1423" y="489"/>
                  </a:lnTo>
                  <a:lnTo>
                    <a:pt x="1411" y="489"/>
                  </a:lnTo>
                  <a:lnTo>
                    <a:pt x="1411" y="495"/>
                  </a:lnTo>
                  <a:lnTo>
                    <a:pt x="1405" y="495"/>
                  </a:lnTo>
                  <a:lnTo>
                    <a:pt x="1405" y="501"/>
                  </a:lnTo>
                  <a:lnTo>
                    <a:pt x="1400" y="501"/>
                  </a:lnTo>
                  <a:lnTo>
                    <a:pt x="1400" y="506"/>
                  </a:lnTo>
                  <a:lnTo>
                    <a:pt x="1394" y="506"/>
                  </a:lnTo>
                  <a:lnTo>
                    <a:pt x="1394" y="512"/>
                  </a:lnTo>
                  <a:lnTo>
                    <a:pt x="1388" y="512"/>
                  </a:lnTo>
                  <a:lnTo>
                    <a:pt x="1388" y="518"/>
                  </a:lnTo>
                  <a:lnTo>
                    <a:pt x="1383" y="518"/>
                  </a:lnTo>
                  <a:lnTo>
                    <a:pt x="1383" y="524"/>
                  </a:lnTo>
                  <a:lnTo>
                    <a:pt x="1376" y="524"/>
                  </a:lnTo>
                  <a:lnTo>
                    <a:pt x="1376" y="529"/>
                  </a:lnTo>
                  <a:lnTo>
                    <a:pt x="1371" y="529"/>
                  </a:lnTo>
                  <a:lnTo>
                    <a:pt x="1371" y="534"/>
                  </a:lnTo>
                  <a:lnTo>
                    <a:pt x="1359" y="534"/>
                  </a:lnTo>
                  <a:lnTo>
                    <a:pt x="1359" y="541"/>
                  </a:lnTo>
                  <a:lnTo>
                    <a:pt x="1354" y="541"/>
                  </a:lnTo>
                  <a:lnTo>
                    <a:pt x="1354" y="546"/>
                  </a:lnTo>
                  <a:lnTo>
                    <a:pt x="1349" y="546"/>
                  </a:lnTo>
                  <a:lnTo>
                    <a:pt x="1349" y="552"/>
                  </a:lnTo>
                  <a:lnTo>
                    <a:pt x="1343" y="552"/>
                  </a:lnTo>
                  <a:lnTo>
                    <a:pt x="1343" y="558"/>
                  </a:lnTo>
                  <a:lnTo>
                    <a:pt x="1337" y="558"/>
                  </a:lnTo>
                  <a:lnTo>
                    <a:pt x="1337" y="563"/>
                  </a:lnTo>
                  <a:lnTo>
                    <a:pt x="1331" y="563"/>
                  </a:lnTo>
                  <a:lnTo>
                    <a:pt x="1331" y="569"/>
                  </a:lnTo>
                  <a:lnTo>
                    <a:pt x="1320" y="569"/>
                  </a:lnTo>
                  <a:lnTo>
                    <a:pt x="1320" y="575"/>
                  </a:lnTo>
                  <a:lnTo>
                    <a:pt x="1314" y="575"/>
                  </a:lnTo>
                  <a:lnTo>
                    <a:pt x="1314" y="581"/>
                  </a:lnTo>
                  <a:lnTo>
                    <a:pt x="1309" y="581"/>
                  </a:lnTo>
                  <a:lnTo>
                    <a:pt x="1309" y="586"/>
                  </a:lnTo>
                  <a:lnTo>
                    <a:pt x="1302" y="586"/>
                  </a:lnTo>
                  <a:lnTo>
                    <a:pt x="1302" y="592"/>
                  </a:lnTo>
                  <a:lnTo>
                    <a:pt x="1297" y="592"/>
                  </a:lnTo>
                  <a:lnTo>
                    <a:pt x="1297" y="598"/>
                  </a:lnTo>
                  <a:lnTo>
                    <a:pt x="1292" y="598"/>
                  </a:lnTo>
                  <a:lnTo>
                    <a:pt x="1292" y="603"/>
                  </a:lnTo>
                  <a:lnTo>
                    <a:pt x="1280" y="603"/>
                  </a:lnTo>
                  <a:lnTo>
                    <a:pt x="1280" y="609"/>
                  </a:lnTo>
                  <a:lnTo>
                    <a:pt x="1269" y="609"/>
                  </a:lnTo>
                  <a:lnTo>
                    <a:pt x="1269" y="615"/>
                  </a:lnTo>
                  <a:lnTo>
                    <a:pt x="1252" y="615"/>
                  </a:lnTo>
                  <a:lnTo>
                    <a:pt x="1252" y="620"/>
                  </a:lnTo>
                  <a:lnTo>
                    <a:pt x="1246" y="620"/>
                  </a:lnTo>
                  <a:lnTo>
                    <a:pt x="1246" y="626"/>
                  </a:lnTo>
                  <a:lnTo>
                    <a:pt x="1235" y="626"/>
                  </a:lnTo>
                  <a:lnTo>
                    <a:pt x="1235" y="632"/>
                  </a:lnTo>
                  <a:lnTo>
                    <a:pt x="1229" y="632"/>
                  </a:lnTo>
                  <a:lnTo>
                    <a:pt x="1229" y="638"/>
                  </a:lnTo>
                  <a:lnTo>
                    <a:pt x="1224" y="638"/>
                  </a:lnTo>
                  <a:lnTo>
                    <a:pt x="1224" y="643"/>
                  </a:lnTo>
                  <a:lnTo>
                    <a:pt x="1212" y="643"/>
                  </a:lnTo>
                  <a:lnTo>
                    <a:pt x="1212" y="649"/>
                  </a:lnTo>
                  <a:lnTo>
                    <a:pt x="1207" y="649"/>
                  </a:lnTo>
                  <a:lnTo>
                    <a:pt x="1207" y="655"/>
                  </a:lnTo>
                  <a:lnTo>
                    <a:pt x="1200" y="655"/>
                  </a:lnTo>
                  <a:lnTo>
                    <a:pt x="1200" y="660"/>
                  </a:lnTo>
                  <a:lnTo>
                    <a:pt x="1189" y="660"/>
                  </a:lnTo>
                  <a:lnTo>
                    <a:pt x="1189" y="665"/>
                  </a:lnTo>
                  <a:lnTo>
                    <a:pt x="1183" y="665"/>
                  </a:lnTo>
                  <a:lnTo>
                    <a:pt x="1183" y="672"/>
                  </a:lnTo>
                  <a:lnTo>
                    <a:pt x="1178" y="672"/>
                  </a:lnTo>
                  <a:lnTo>
                    <a:pt x="1178" y="677"/>
                  </a:lnTo>
                  <a:lnTo>
                    <a:pt x="1172" y="677"/>
                  </a:lnTo>
                  <a:lnTo>
                    <a:pt x="1172" y="683"/>
                  </a:lnTo>
                  <a:lnTo>
                    <a:pt x="1160" y="683"/>
                  </a:lnTo>
                  <a:lnTo>
                    <a:pt x="1160" y="689"/>
                  </a:lnTo>
                  <a:lnTo>
                    <a:pt x="1150" y="689"/>
                  </a:lnTo>
                  <a:lnTo>
                    <a:pt x="1150" y="695"/>
                  </a:lnTo>
                  <a:lnTo>
                    <a:pt x="1143" y="695"/>
                  </a:lnTo>
                  <a:lnTo>
                    <a:pt x="1143" y="700"/>
                  </a:lnTo>
                  <a:lnTo>
                    <a:pt x="1138" y="700"/>
                  </a:lnTo>
                  <a:lnTo>
                    <a:pt x="1138" y="706"/>
                  </a:lnTo>
                  <a:lnTo>
                    <a:pt x="1126" y="706"/>
                  </a:lnTo>
                  <a:lnTo>
                    <a:pt x="1126" y="712"/>
                  </a:lnTo>
                  <a:lnTo>
                    <a:pt x="1115" y="712"/>
                  </a:lnTo>
                  <a:lnTo>
                    <a:pt x="1115" y="717"/>
                  </a:lnTo>
                  <a:lnTo>
                    <a:pt x="1110" y="717"/>
                  </a:lnTo>
                  <a:lnTo>
                    <a:pt x="1110" y="722"/>
                  </a:lnTo>
                  <a:lnTo>
                    <a:pt x="1103" y="722"/>
                  </a:lnTo>
                  <a:lnTo>
                    <a:pt x="1103" y="728"/>
                  </a:lnTo>
                  <a:lnTo>
                    <a:pt x="1098" y="728"/>
                  </a:lnTo>
                  <a:lnTo>
                    <a:pt x="1098" y="734"/>
                  </a:lnTo>
                  <a:lnTo>
                    <a:pt x="1093" y="734"/>
                  </a:lnTo>
                  <a:lnTo>
                    <a:pt x="1093" y="740"/>
                  </a:lnTo>
                  <a:lnTo>
                    <a:pt x="1081" y="740"/>
                  </a:lnTo>
                  <a:lnTo>
                    <a:pt x="1081" y="745"/>
                  </a:lnTo>
                  <a:lnTo>
                    <a:pt x="1076" y="745"/>
                  </a:lnTo>
                  <a:lnTo>
                    <a:pt x="1076" y="751"/>
                  </a:lnTo>
                  <a:lnTo>
                    <a:pt x="1064" y="751"/>
                  </a:lnTo>
                  <a:lnTo>
                    <a:pt x="1064" y="757"/>
                  </a:lnTo>
                  <a:lnTo>
                    <a:pt x="1053" y="757"/>
                  </a:lnTo>
                  <a:lnTo>
                    <a:pt x="1053" y="762"/>
                  </a:lnTo>
                  <a:lnTo>
                    <a:pt x="1046" y="762"/>
                  </a:lnTo>
                  <a:lnTo>
                    <a:pt x="1046" y="768"/>
                  </a:lnTo>
                  <a:lnTo>
                    <a:pt x="1036" y="768"/>
                  </a:lnTo>
                  <a:lnTo>
                    <a:pt x="1036" y="774"/>
                  </a:lnTo>
                  <a:lnTo>
                    <a:pt x="1029" y="774"/>
                  </a:lnTo>
                  <a:lnTo>
                    <a:pt x="1029" y="779"/>
                  </a:lnTo>
                  <a:lnTo>
                    <a:pt x="1024" y="779"/>
                  </a:lnTo>
                  <a:lnTo>
                    <a:pt x="1024" y="785"/>
                  </a:lnTo>
                  <a:lnTo>
                    <a:pt x="1012" y="785"/>
                  </a:lnTo>
                  <a:lnTo>
                    <a:pt x="1012" y="791"/>
                  </a:lnTo>
                  <a:lnTo>
                    <a:pt x="1007" y="791"/>
                  </a:lnTo>
                  <a:lnTo>
                    <a:pt x="1007" y="797"/>
                  </a:lnTo>
                  <a:lnTo>
                    <a:pt x="1001" y="797"/>
                  </a:lnTo>
                  <a:lnTo>
                    <a:pt x="1001" y="802"/>
                  </a:lnTo>
                  <a:lnTo>
                    <a:pt x="990" y="802"/>
                  </a:lnTo>
                  <a:lnTo>
                    <a:pt x="990" y="808"/>
                  </a:lnTo>
                  <a:lnTo>
                    <a:pt x="984" y="808"/>
                  </a:lnTo>
                  <a:lnTo>
                    <a:pt x="984" y="814"/>
                  </a:lnTo>
                  <a:lnTo>
                    <a:pt x="979" y="814"/>
                  </a:lnTo>
                  <a:lnTo>
                    <a:pt x="979" y="819"/>
                  </a:lnTo>
                  <a:lnTo>
                    <a:pt x="972" y="819"/>
                  </a:lnTo>
                  <a:lnTo>
                    <a:pt x="972" y="825"/>
                  </a:lnTo>
                  <a:lnTo>
                    <a:pt x="967" y="825"/>
                  </a:lnTo>
                  <a:lnTo>
                    <a:pt x="967" y="831"/>
                  </a:lnTo>
                  <a:lnTo>
                    <a:pt x="962" y="831"/>
                  </a:lnTo>
                  <a:lnTo>
                    <a:pt x="962" y="842"/>
                  </a:lnTo>
                  <a:lnTo>
                    <a:pt x="955" y="842"/>
                  </a:lnTo>
                  <a:lnTo>
                    <a:pt x="955" y="848"/>
                  </a:lnTo>
                  <a:lnTo>
                    <a:pt x="950" y="848"/>
                  </a:lnTo>
                  <a:lnTo>
                    <a:pt x="950" y="854"/>
                  </a:lnTo>
                  <a:lnTo>
                    <a:pt x="944" y="854"/>
                  </a:lnTo>
                  <a:lnTo>
                    <a:pt x="944" y="865"/>
                  </a:lnTo>
                  <a:lnTo>
                    <a:pt x="939" y="865"/>
                  </a:lnTo>
                  <a:lnTo>
                    <a:pt x="939" y="871"/>
                  </a:lnTo>
                  <a:lnTo>
                    <a:pt x="933" y="871"/>
                  </a:lnTo>
                  <a:lnTo>
                    <a:pt x="933" y="876"/>
                  </a:lnTo>
                  <a:lnTo>
                    <a:pt x="927" y="876"/>
                  </a:lnTo>
                  <a:lnTo>
                    <a:pt x="927" y="881"/>
                  </a:lnTo>
                  <a:lnTo>
                    <a:pt x="922" y="881"/>
                  </a:lnTo>
                  <a:lnTo>
                    <a:pt x="922" y="888"/>
                  </a:lnTo>
                  <a:lnTo>
                    <a:pt x="915" y="888"/>
                  </a:lnTo>
                  <a:lnTo>
                    <a:pt x="915" y="893"/>
                  </a:lnTo>
                  <a:lnTo>
                    <a:pt x="910" y="893"/>
                  </a:lnTo>
                  <a:lnTo>
                    <a:pt x="910" y="899"/>
                  </a:lnTo>
                  <a:lnTo>
                    <a:pt x="905" y="899"/>
                  </a:lnTo>
                  <a:lnTo>
                    <a:pt x="905" y="910"/>
                  </a:lnTo>
                  <a:lnTo>
                    <a:pt x="898" y="910"/>
                  </a:lnTo>
                  <a:lnTo>
                    <a:pt x="898" y="916"/>
                  </a:lnTo>
                  <a:lnTo>
                    <a:pt x="876" y="916"/>
                  </a:lnTo>
                  <a:lnTo>
                    <a:pt x="876" y="922"/>
                  </a:lnTo>
                  <a:lnTo>
                    <a:pt x="870" y="922"/>
                  </a:lnTo>
                  <a:lnTo>
                    <a:pt x="870" y="928"/>
                  </a:lnTo>
                  <a:lnTo>
                    <a:pt x="865" y="928"/>
                  </a:lnTo>
                  <a:lnTo>
                    <a:pt x="865" y="933"/>
                  </a:lnTo>
                  <a:lnTo>
                    <a:pt x="848" y="933"/>
                  </a:lnTo>
                  <a:lnTo>
                    <a:pt x="848" y="939"/>
                  </a:lnTo>
                  <a:lnTo>
                    <a:pt x="836" y="939"/>
                  </a:lnTo>
                  <a:lnTo>
                    <a:pt x="836" y="945"/>
                  </a:lnTo>
                  <a:lnTo>
                    <a:pt x="820" y="945"/>
                  </a:lnTo>
                  <a:lnTo>
                    <a:pt x="820" y="950"/>
                  </a:lnTo>
                  <a:lnTo>
                    <a:pt x="813" y="950"/>
                  </a:lnTo>
                  <a:lnTo>
                    <a:pt x="813" y="956"/>
                  </a:lnTo>
                  <a:lnTo>
                    <a:pt x="803" y="956"/>
                  </a:lnTo>
                  <a:lnTo>
                    <a:pt x="803" y="967"/>
                  </a:lnTo>
                  <a:lnTo>
                    <a:pt x="796" y="967"/>
                  </a:lnTo>
                  <a:lnTo>
                    <a:pt x="796" y="979"/>
                  </a:lnTo>
                  <a:lnTo>
                    <a:pt x="791" y="979"/>
                  </a:lnTo>
                  <a:lnTo>
                    <a:pt x="791" y="985"/>
                  </a:lnTo>
                  <a:lnTo>
                    <a:pt x="785" y="985"/>
                  </a:lnTo>
                  <a:lnTo>
                    <a:pt x="785" y="990"/>
                  </a:lnTo>
                  <a:lnTo>
                    <a:pt x="773" y="9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6757920" y="2496240"/>
              <a:ext cx="684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6757920" y="2665440"/>
              <a:ext cx="6840" cy="68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6742440" y="2665440"/>
              <a:ext cx="6840" cy="68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6700320" y="2083680"/>
              <a:ext cx="45360" cy="6840"/>
            </a:xfrm>
            <a:custGeom>
              <a:avLst/>
              <a:gdLst/>
              <a:ahLst/>
              <a:rect l="l" t="t" r="r" b="b"/>
              <a:pathLst>
                <a:path w="74" h="17">
                  <a:moveTo>
                    <a:pt x="0" y="17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11"/>
                  </a:lnTo>
                  <a:lnTo>
                    <a:pt x="69" y="11"/>
                  </a:lnTo>
                  <a:lnTo>
                    <a:pt x="69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6718680" y="1995480"/>
              <a:ext cx="8640" cy="68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6037560" y="1497960"/>
              <a:ext cx="616320" cy="439920"/>
            </a:xfrm>
            <a:custGeom>
              <a:avLst/>
              <a:gdLst/>
              <a:ahLst/>
              <a:rect l="l" t="t" r="r" b="b"/>
              <a:pathLst>
                <a:path w="1127" h="802">
                  <a:moveTo>
                    <a:pt x="945" y="802"/>
                  </a:moveTo>
                  <a:lnTo>
                    <a:pt x="945" y="797"/>
                  </a:lnTo>
                  <a:lnTo>
                    <a:pt x="877" y="797"/>
                  </a:lnTo>
                  <a:lnTo>
                    <a:pt x="877" y="790"/>
                  </a:lnTo>
                  <a:lnTo>
                    <a:pt x="820" y="790"/>
                  </a:lnTo>
                  <a:lnTo>
                    <a:pt x="820" y="785"/>
                  </a:lnTo>
                  <a:lnTo>
                    <a:pt x="774" y="785"/>
                  </a:lnTo>
                  <a:lnTo>
                    <a:pt x="774" y="780"/>
                  </a:lnTo>
                  <a:lnTo>
                    <a:pt x="751" y="780"/>
                  </a:lnTo>
                  <a:lnTo>
                    <a:pt x="751" y="774"/>
                  </a:lnTo>
                  <a:lnTo>
                    <a:pt x="637" y="774"/>
                  </a:lnTo>
                  <a:lnTo>
                    <a:pt x="637" y="780"/>
                  </a:lnTo>
                  <a:lnTo>
                    <a:pt x="586" y="780"/>
                  </a:lnTo>
                  <a:lnTo>
                    <a:pt x="586" y="774"/>
                  </a:lnTo>
                  <a:lnTo>
                    <a:pt x="563" y="774"/>
                  </a:lnTo>
                  <a:lnTo>
                    <a:pt x="563" y="768"/>
                  </a:lnTo>
                  <a:lnTo>
                    <a:pt x="433" y="768"/>
                  </a:lnTo>
                  <a:lnTo>
                    <a:pt x="433" y="762"/>
                  </a:lnTo>
                  <a:lnTo>
                    <a:pt x="278" y="762"/>
                  </a:lnTo>
                  <a:lnTo>
                    <a:pt x="278" y="757"/>
                  </a:lnTo>
                  <a:lnTo>
                    <a:pt x="221" y="757"/>
                  </a:lnTo>
                  <a:lnTo>
                    <a:pt x="221" y="751"/>
                  </a:lnTo>
                  <a:lnTo>
                    <a:pt x="188" y="751"/>
                  </a:lnTo>
                  <a:lnTo>
                    <a:pt x="188" y="745"/>
                  </a:lnTo>
                  <a:lnTo>
                    <a:pt x="164" y="745"/>
                  </a:lnTo>
                  <a:lnTo>
                    <a:pt x="164" y="740"/>
                  </a:lnTo>
                  <a:lnTo>
                    <a:pt x="142" y="740"/>
                  </a:lnTo>
                  <a:lnTo>
                    <a:pt x="142" y="733"/>
                  </a:lnTo>
                  <a:lnTo>
                    <a:pt x="131" y="733"/>
                  </a:lnTo>
                  <a:lnTo>
                    <a:pt x="131" y="728"/>
                  </a:lnTo>
                  <a:lnTo>
                    <a:pt x="102" y="728"/>
                  </a:lnTo>
                  <a:lnTo>
                    <a:pt x="102" y="723"/>
                  </a:lnTo>
                  <a:lnTo>
                    <a:pt x="74" y="723"/>
                  </a:lnTo>
                  <a:lnTo>
                    <a:pt x="74" y="711"/>
                  </a:lnTo>
                  <a:lnTo>
                    <a:pt x="68" y="711"/>
                  </a:lnTo>
                  <a:lnTo>
                    <a:pt x="68" y="706"/>
                  </a:lnTo>
                  <a:lnTo>
                    <a:pt x="0" y="706"/>
                  </a:lnTo>
                  <a:lnTo>
                    <a:pt x="0" y="597"/>
                  </a:lnTo>
                  <a:lnTo>
                    <a:pt x="5" y="597"/>
                  </a:lnTo>
                  <a:lnTo>
                    <a:pt x="5" y="455"/>
                  </a:lnTo>
                  <a:lnTo>
                    <a:pt x="12" y="455"/>
                  </a:lnTo>
                  <a:lnTo>
                    <a:pt x="12" y="427"/>
                  </a:lnTo>
                  <a:lnTo>
                    <a:pt x="17" y="427"/>
                  </a:lnTo>
                  <a:lnTo>
                    <a:pt x="17" y="353"/>
                  </a:lnTo>
                  <a:lnTo>
                    <a:pt x="22" y="353"/>
                  </a:lnTo>
                  <a:lnTo>
                    <a:pt x="22" y="256"/>
                  </a:lnTo>
                  <a:lnTo>
                    <a:pt x="28" y="256"/>
                  </a:lnTo>
                  <a:lnTo>
                    <a:pt x="28" y="222"/>
                  </a:lnTo>
                  <a:lnTo>
                    <a:pt x="34" y="222"/>
                  </a:lnTo>
                  <a:lnTo>
                    <a:pt x="34" y="188"/>
                  </a:lnTo>
                  <a:lnTo>
                    <a:pt x="40" y="188"/>
                  </a:lnTo>
                  <a:lnTo>
                    <a:pt x="40" y="170"/>
                  </a:lnTo>
                  <a:lnTo>
                    <a:pt x="45" y="170"/>
                  </a:lnTo>
                  <a:lnTo>
                    <a:pt x="45" y="142"/>
                  </a:lnTo>
                  <a:lnTo>
                    <a:pt x="51" y="142"/>
                  </a:lnTo>
                  <a:lnTo>
                    <a:pt x="51" y="120"/>
                  </a:lnTo>
                  <a:lnTo>
                    <a:pt x="57" y="120"/>
                  </a:lnTo>
                  <a:lnTo>
                    <a:pt x="57" y="91"/>
                  </a:lnTo>
                  <a:lnTo>
                    <a:pt x="62" y="91"/>
                  </a:lnTo>
                  <a:lnTo>
                    <a:pt x="62" y="68"/>
                  </a:lnTo>
                  <a:lnTo>
                    <a:pt x="68" y="68"/>
                  </a:lnTo>
                  <a:lnTo>
                    <a:pt x="68" y="17"/>
                  </a:lnTo>
                  <a:lnTo>
                    <a:pt x="74" y="17"/>
                  </a:lnTo>
                  <a:lnTo>
                    <a:pt x="74" y="11"/>
                  </a:lnTo>
                  <a:lnTo>
                    <a:pt x="85" y="11"/>
                  </a:lnTo>
                  <a:lnTo>
                    <a:pt x="85" y="0"/>
                  </a:lnTo>
                  <a:lnTo>
                    <a:pt x="97" y="0"/>
                  </a:lnTo>
                  <a:lnTo>
                    <a:pt x="97" y="29"/>
                  </a:lnTo>
                  <a:lnTo>
                    <a:pt x="102" y="29"/>
                  </a:lnTo>
                  <a:lnTo>
                    <a:pt x="102" y="34"/>
                  </a:lnTo>
                  <a:lnTo>
                    <a:pt x="107" y="34"/>
                  </a:lnTo>
                  <a:lnTo>
                    <a:pt x="107" y="39"/>
                  </a:lnTo>
                  <a:lnTo>
                    <a:pt x="114" y="39"/>
                  </a:lnTo>
                  <a:lnTo>
                    <a:pt x="114" y="74"/>
                  </a:lnTo>
                  <a:lnTo>
                    <a:pt x="107" y="74"/>
                  </a:lnTo>
                  <a:lnTo>
                    <a:pt x="107" y="91"/>
                  </a:lnTo>
                  <a:lnTo>
                    <a:pt x="102" y="91"/>
                  </a:lnTo>
                  <a:lnTo>
                    <a:pt x="102" y="125"/>
                  </a:lnTo>
                  <a:lnTo>
                    <a:pt x="97" y="125"/>
                  </a:lnTo>
                  <a:lnTo>
                    <a:pt x="97" y="210"/>
                  </a:lnTo>
                  <a:lnTo>
                    <a:pt x="90" y="210"/>
                  </a:lnTo>
                  <a:lnTo>
                    <a:pt x="90" y="239"/>
                  </a:lnTo>
                  <a:lnTo>
                    <a:pt x="85" y="239"/>
                  </a:lnTo>
                  <a:lnTo>
                    <a:pt x="85" y="256"/>
                  </a:lnTo>
                  <a:lnTo>
                    <a:pt x="79" y="256"/>
                  </a:lnTo>
                  <a:lnTo>
                    <a:pt x="79" y="347"/>
                  </a:lnTo>
                  <a:lnTo>
                    <a:pt x="74" y="347"/>
                  </a:lnTo>
                  <a:lnTo>
                    <a:pt x="74" y="381"/>
                  </a:lnTo>
                  <a:lnTo>
                    <a:pt x="68" y="381"/>
                  </a:lnTo>
                  <a:lnTo>
                    <a:pt x="68" y="427"/>
                  </a:lnTo>
                  <a:lnTo>
                    <a:pt x="62" y="427"/>
                  </a:lnTo>
                  <a:lnTo>
                    <a:pt x="62" y="455"/>
                  </a:lnTo>
                  <a:lnTo>
                    <a:pt x="57" y="455"/>
                  </a:lnTo>
                  <a:lnTo>
                    <a:pt x="57" y="614"/>
                  </a:lnTo>
                  <a:lnTo>
                    <a:pt x="51" y="614"/>
                  </a:lnTo>
                  <a:lnTo>
                    <a:pt x="51" y="649"/>
                  </a:lnTo>
                  <a:lnTo>
                    <a:pt x="62" y="649"/>
                  </a:lnTo>
                  <a:lnTo>
                    <a:pt x="62" y="654"/>
                  </a:lnTo>
                  <a:lnTo>
                    <a:pt x="74" y="654"/>
                  </a:lnTo>
                  <a:lnTo>
                    <a:pt x="74" y="660"/>
                  </a:lnTo>
                  <a:lnTo>
                    <a:pt x="79" y="660"/>
                  </a:lnTo>
                  <a:lnTo>
                    <a:pt x="79" y="666"/>
                  </a:lnTo>
                  <a:lnTo>
                    <a:pt x="85" y="666"/>
                  </a:lnTo>
                  <a:lnTo>
                    <a:pt x="85" y="671"/>
                  </a:lnTo>
                  <a:lnTo>
                    <a:pt x="97" y="671"/>
                  </a:lnTo>
                  <a:lnTo>
                    <a:pt x="97" y="677"/>
                  </a:lnTo>
                  <a:lnTo>
                    <a:pt x="107" y="677"/>
                  </a:lnTo>
                  <a:lnTo>
                    <a:pt x="107" y="683"/>
                  </a:lnTo>
                  <a:lnTo>
                    <a:pt x="124" y="683"/>
                  </a:lnTo>
                  <a:lnTo>
                    <a:pt x="124" y="688"/>
                  </a:lnTo>
                  <a:lnTo>
                    <a:pt x="142" y="688"/>
                  </a:lnTo>
                  <a:lnTo>
                    <a:pt x="142" y="694"/>
                  </a:lnTo>
                  <a:lnTo>
                    <a:pt x="159" y="694"/>
                  </a:lnTo>
                  <a:lnTo>
                    <a:pt x="159" y="700"/>
                  </a:lnTo>
                  <a:lnTo>
                    <a:pt x="188" y="700"/>
                  </a:lnTo>
                  <a:lnTo>
                    <a:pt x="188" y="706"/>
                  </a:lnTo>
                  <a:lnTo>
                    <a:pt x="278" y="706"/>
                  </a:lnTo>
                  <a:lnTo>
                    <a:pt x="278" y="711"/>
                  </a:lnTo>
                  <a:lnTo>
                    <a:pt x="347" y="711"/>
                  </a:lnTo>
                  <a:lnTo>
                    <a:pt x="347" y="717"/>
                  </a:lnTo>
                  <a:lnTo>
                    <a:pt x="387" y="717"/>
                  </a:lnTo>
                  <a:lnTo>
                    <a:pt x="387" y="723"/>
                  </a:lnTo>
                  <a:lnTo>
                    <a:pt x="399" y="723"/>
                  </a:lnTo>
                  <a:lnTo>
                    <a:pt x="399" y="728"/>
                  </a:lnTo>
                  <a:lnTo>
                    <a:pt x="438" y="728"/>
                  </a:lnTo>
                  <a:lnTo>
                    <a:pt x="438" y="733"/>
                  </a:lnTo>
                  <a:lnTo>
                    <a:pt x="449" y="733"/>
                  </a:lnTo>
                  <a:lnTo>
                    <a:pt x="449" y="728"/>
                  </a:lnTo>
                  <a:lnTo>
                    <a:pt x="461" y="728"/>
                  </a:lnTo>
                  <a:lnTo>
                    <a:pt x="461" y="733"/>
                  </a:lnTo>
                  <a:lnTo>
                    <a:pt x="489" y="733"/>
                  </a:lnTo>
                  <a:lnTo>
                    <a:pt x="489" y="740"/>
                  </a:lnTo>
                  <a:lnTo>
                    <a:pt x="523" y="740"/>
                  </a:lnTo>
                  <a:lnTo>
                    <a:pt x="523" y="733"/>
                  </a:lnTo>
                  <a:lnTo>
                    <a:pt x="535" y="733"/>
                  </a:lnTo>
                  <a:lnTo>
                    <a:pt x="535" y="740"/>
                  </a:lnTo>
                  <a:lnTo>
                    <a:pt x="563" y="740"/>
                  </a:lnTo>
                  <a:lnTo>
                    <a:pt x="563" y="745"/>
                  </a:lnTo>
                  <a:lnTo>
                    <a:pt x="625" y="745"/>
                  </a:lnTo>
                  <a:lnTo>
                    <a:pt x="625" y="751"/>
                  </a:lnTo>
                  <a:lnTo>
                    <a:pt x="643" y="751"/>
                  </a:lnTo>
                  <a:lnTo>
                    <a:pt x="643" y="745"/>
                  </a:lnTo>
                  <a:lnTo>
                    <a:pt x="682" y="745"/>
                  </a:lnTo>
                  <a:lnTo>
                    <a:pt x="682" y="751"/>
                  </a:lnTo>
                  <a:lnTo>
                    <a:pt x="700" y="751"/>
                  </a:lnTo>
                  <a:lnTo>
                    <a:pt x="700" y="745"/>
                  </a:lnTo>
                  <a:lnTo>
                    <a:pt x="729" y="745"/>
                  </a:lnTo>
                  <a:lnTo>
                    <a:pt x="729" y="740"/>
                  </a:lnTo>
                  <a:lnTo>
                    <a:pt x="746" y="740"/>
                  </a:lnTo>
                  <a:lnTo>
                    <a:pt x="746" y="733"/>
                  </a:lnTo>
                  <a:lnTo>
                    <a:pt x="768" y="733"/>
                  </a:lnTo>
                  <a:lnTo>
                    <a:pt x="768" y="740"/>
                  </a:lnTo>
                  <a:lnTo>
                    <a:pt x="786" y="740"/>
                  </a:lnTo>
                  <a:lnTo>
                    <a:pt x="786" y="733"/>
                  </a:lnTo>
                  <a:lnTo>
                    <a:pt x="796" y="733"/>
                  </a:lnTo>
                  <a:lnTo>
                    <a:pt x="796" y="740"/>
                  </a:lnTo>
                  <a:lnTo>
                    <a:pt x="865" y="740"/>
                  </a:lnTo>
                  <a:lnTo>
                    <a:pt x="865" y="745"/>
                  </a:lnTo>
                  <a:lnTo>
                    <a:pt x="877" y="745"/>
                  </a:lnTo>
                  <a:lnTo>
                    <a:pt x="877" y="751"/>
                  </a:lnTo>
                  <a:lnTo>
                    <a:pt x="888" y="751"/>
                  </a:lnTo>
                  <a:lnTo>
                    <a:pt x="888" y="757"/>
                  </a:lnTo>
                  <a:lnTo>
                    <a:pt x="905" y="757"/>
                  </a:lnTo>
                  <a:lnTo>
                    <a:pt x="905" y="762"/>
                  </a:lnTo>
                  <a:lnTo>
                    <a:pt x="916" y="762"/>
                  </a:lnTo>
                  <a:lnTo>
                    <a:pt x="916" y="768"/>
                  </a:lnTo>
                  <a:lnTo>
                    <a:pt x="973" y="768"/>
                  </a:lnTo>
                  <a:lnTo>
                    <a:pt x="973" y="762"/>
                  </a:lnTo>
                  <a:lnTo>
                    <a:pt x="1007" y="762"/>
                  </a:lnTo>
                  <a:lnTo>
                    <a:pt x="1007" y="757"/>
                  </a:lnTo>
                  <a:lnTo>
                    <a:pt x="1019" y="757"/>
                  </a:lnTo>
                  <a:lnTo>
                    <a:pt x="1019" y="751"/>
                  </a:lnTo>
                  <a:lnTo>
                    <a:pt x="1029" y="751"/>
                  </a:lnTo>
                  <a:lnTo>
                    <a:pt x="1029" y="745"/>
                  </a:lnTo>
                  <a:lnTo>
                    <a:pt x="1036" y="745"/>
                  </a:lnTo>
                  <a:lnTo>
                    <a:pt x="1036" y="733"/>
                  </a:lnTo>
                  <a:lnTo>
                    <a:pt x="1041" y="733"/>
                  </a:lnTo>
                  <a:lnTo>
                    <a:pt x="1041" y="706"/>
                  </a:lnTo>
                  <a:lnTo>
                    <a:pt x="1047" y="706"/>
                  </a:lnTo>
                  <a:lnTo>
                    <a:pt x="1047" y="688"/>
                  </a:lnTo>
                  <a:lnTo>
                    <a:pt x="1041" y="688"/>
                  </a:lnTo>
                  <a:lnTo>
                    <a:pt x="1041" y="529"/>
                  </a:lnTo>
                  <a:lnTo>
                    <a:pt x="1036" y="529"/>
                  </a:lnTo>
                  <a:lnTo>
                    <a:pt x="1036" y="517"/>
                  </a:lnTo>
                  <a:lnTo>
                    <a:pt x="1041" y="517"/>
                  </a:lnTo>
                  <a:lnTo>
                    <a:pt x="1041" y="495"/>
                  </a:lnTo>
                  <a:lnTo>
                    <a:pt x="1036" y="495"/>
                  </a:lnTo>
                  <a:lnTo>
                    <a:pt x="1036" y="296"/>
                  </a:lnTo>
                  <a:lnTo>
                    <a:pt x="1041" y="296"/>
                  </a:lnTo>
                  <a:lnTo>
                    <a:pt x="1041" y="279"/>
                  </a:lnTo>
                  <a:lnTo>
                    <a:pt x="1047" y="279"/>
                  </a:lnTo>
                  <a:lnTo>
                    <a:pt x="1047" y="262"/>
                  </a:lnTo>
                  <a:lnTo>
                    <a:pt x="1053" y="262"/>
                  </a:lnTo>
                  <a:lnTo>
                    <a:pt x="1053" y="239"/>
                  </a:lnTo>
                  <a:lnTo>
                    <a:pt x="1059" y="239"/>
                  </a:lnTo>
                  <a:lnTo>
                    <a:pt x="1059" y="227"/>
                  </a:lnTo>
                  <a:lnTo>
                    <a:pt x="1064" y="227"/>
                  </a:lnTo>
                  <a:lnTo>
                    <a:pt x="1064" y="205"/>
                  </a:lnTo>
                  <a:lnTo>
                    <a:pt x="1070" y="205"/>
                  </a:lnTo>
                  <a:lnTo>
                    <a:pt x="1070" y="188"/>
                  </a:lnTo>
                  <a:lnTo>
                    <a:pt x="1076" y="188"/>
                  </a:lnTo>
                  <a:lnTo>
                    <a:pt x="1076" y="176"/>
                  </a:lnTo>
                  <a:lnTo>
                    <a:pt x="1081" y="176"/>
                  </a:lnTo>
                  <a:lnTo>
                    <a:pt x="1081" y="170"/>
                  </a:lnTo>
                  <a:lnTo>
                    <a:pt x="1086" y="170"/>
                  </a:lnTo>
                  <a:lnTo>
                    <a:pt x="1086" y="153"/>
                  </a:lnTo>
                  <a:lnTo>
                    <a:pt x="1093" y="153"/>
                  </a:lnTo>
                  <a:lnTo>
                    <a:pt x="1093" y="142"/>
                  </a:lnTo>
                  <a:lnTo>
                    <a:pt x="1121" y="142"/>
                  </a:lnTo>
                  <a:lnTo>
                    <a:pt x="1121" y="148"/>
                  </a:lnTo>
                  <a:lnTo>
                    <a:pt x="1127" y="148"/>
                  </a:lnTo>
                  <a:lnTo>
                    <a:pt x="1127" y="199"/>
                  </a:lnTo>
                  <a:lnTo>
                    <a:pt x="1121" y="199"/>
                  </a:lnTo>
                  <a:lnTo>
                    <a:pt x="1121" y="216"/>
                  </a:lnTo>
                  <a:lnTo>
                    <a:pt x="1115" y="216"/>
                  </a:lnTo>
                  <a:lnTo>
                    <a:pt x="1115" y="245"/>
                  </a:lnTo>
                  <a:lnTo>
                    <a:pt x="1110" y="245"/>
                  </a:lnTo>
                  <a:lnTo>
                    <a:pt x="1110" y="272"/>
                  </a:lnTo>
                  <a:lnTo>
                    <a:pt x="1104" y="272"/>
                  </a:lnTo>
                  <a:lnTo>
                    <a:pt x="1104" y="307"/>
                  </a:lnTo>
                  <a:lnTo>
                    <a:pt x="1098" y="307"/>
                  </a:lnTo>
                  <a:lnTo>
                    <a:pt x="1098" y="353"/>
                  </a:lnTo>
                  <a:lnTo>
                    <a:pt x="1093" y="353"/>
                  </a:lnTo>
                  <a:lnTo>
                    <a:pt x="1093" y="410"/>
                  </a:lnTo>
                  <a:lnTo>
                    <a:pt x="1086" y="410"/>
                  </a:lnTo>
                  <a:lnTo>
                    <a:pt x="1086" y="443"/>
                  </a:lnTo>
                  <a:lnTo>
                    <a:pt x="1081" y="443"/>
                  </a:lnTo>
                  <a:lnTo>
                    <a:pt x="1081" y="500"/>
                  </a:lnTo>
                  <a:lnTo>
                    <a:pt x="1076" y="500"/>
                  </a:lnTo>
                  <a:lnTo>
                    <a:pt x="1076" y="677"/>
                  </a:lnTo>
                  <a:lnTo>
                    <a:pt x="1081" y="677"/>
                  </a:lnTo>
                  <a:lnTo>
                    <a:pt x="1081" y="733"/>
                  </a:lnTo>
                  <a:lnTo>
                    <a:pt x="1086" y="733"/>
                  </a:lnTo>
                  <a:lnTo>
                    <a:pt x="1086" y="768"/>
                  </a:lnTo>
                  <a:lnTo>
                    <a:pt x="1081" y="768"/>
                  </a:lnTo>
                  <a:lnTo>
                    <a:pt x="1081" y="785"/>
                  </a:lnTo>
                  <a:lnTo>
                    <a:pt x="1093" y="785"/>
                  </a:lnTo>
                  <a:lnTo>
                    <a:pt x="1093" y="780"/>
                  </a:lnTo>
                  <a:lnTo>
                    <a:pt x="1104" y="780"/>
                  </a:lnTo>
                  <a:lnTo>
                    <a:pt x="1104" y="790"/>
                  </a:lnTo>
                  <a:lnTo>
                    <a:pt x="1098" y="790"/>
                  </a:lnTo>
                  <a:lnTo>
                    <a:pt x="1098" y="797"/>
                  </a:lnTo>
                  <a:lnTo>
                    <a:pt x="1076" y="797"/>
                  </a:lnTo>
                  <a:lnTo>
                    <a:pt x="1076" y="802"/>
                  </a:lnTo>
                  <a:lnTo>
                    <a:pt x="1064" y="802"/>
                  </a:lnTo>
                  <a:lnTo>
                    <a:pt x="1064" y="797"/>
                  </a:lnTo>
                  <a:lnTo>
                    <a:pt x="962" y="797"/>
                  </a:lnTo>
                  <a:lnTo>
                    <a:pt x="962" y="802"/>
                  </a:lnTo>
                  <a:lnTo>
                    <a:pt x="945" y="8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6503040" y="4267080"/>
              <a:ext cx="54000" cy="8640"/>
            </a:xfrm>
            <a:custGeom>
              <a:avLst/>
              <a:gdLst/>
              <a:ahLst/>
              <a:rect l="l" t="t" r="r" b="b"/>
              <a:pathLst>
                <a:path w="104" h="23">
                  <a:moveTo>
                    <a:pt x="52" y="23"/>
                  </a:moveTo>
                  <a:lnTo>
                    <a:pt x="52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5"/>
                  </a:lnTo>
                  <a:lnTo>
                    <a:pt x="97" y="5"/>
                  </a:lnTo>
                  <a:lnTo>
                    <a:pt x="97" y="12"/>
                  </a:lnTo>
                  <a:lnTo>
                    <a:pt x="104" y="12"/>
                  </a:lnTo>
                  <a:lnTo>
                    <a:pt x="104" y="17"/>
                  </a:lnTo>
                  <a:lnTo>
                    <a:pt x="97" y="17"/>
                  </a:lnTo>
                  <a:lnTo>
                    <a:pt x="97" y="23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5458680" y="1875960"/>
              <a:ext cx="871200" cy="1262520"/>
            </a:xfrm>
            <a:custGeom>
              <a:avLst/>
              <a:gdLst/>
              <a:ahLst/>
              <a:rect l="l" t="t" r="r" b="b"/>
              <a:pathLst>
                <a:path w="1576" h="2298">
                  <a:moveTo>
                    <a:pt x="1337" y="2298"/>
                  </a:moveTo>
                  <a:lnTo>
                    <a:pt x="1337" y="2293"/>
                  </a:lnTo>
                  <a:lnTo>
                    <a:pt x="1246" y="2293"/>
                  </a:lnTo>
                  <a:lnTo>
                    <a:pt x="1246" y="2288"/>
                  </a:lnTo>
                  <a:lnTo>
                    <a:pt x="1217" y="2288"/>
                  </a:lnTo>
                  <a:lnTo>
                    <a:pt x="1217" y="2293"/>
                  </a:lnTo>
                  <a:lnTo>
                    <a:pt x="1189" y="2293"/>
                  </a:lnTo>
                  <a:lnTo>
                    <a:pt x="1189" y="2288"/>
                  </a:lnTo>
                  <a:lnTo>
                    <a:pt x="1138" y="2288"/>
                  </a:lnTo>
                  <a:lnTo>
                    <a:pt x="1138" y="2282"/>
                  </a:lnTo>
                  <a:lnTo>
                    <a:pt x="1086" y="2282"/>
                  </a:lnTo>
                  <a:lnTo>
                    <a:pt x="1086" y="2276"/>
                  </a:lnTo>
                  <a:lnTo>
                    <a:pt x="1018" y="2276"/>
                  </a:lnTo>
                  <a:lnTo>
                    <a:pt x="1018" y="2271"/>
                  </a:lnTo>
                  <a:lnTo>
                    <a:pt x="984" y="2271"/>
                  </a:lnTo>
                  <a:lnTo>
                    <a:pt x="984" y="2265"/>
                  </a:lnTo>
                  <a:lnTo>
                    <a:pt x="932" y="2265"/>
                  </a:lnTo>
                  <a:lnTo>
                    <a:pt x="932" y="2259"/>
                  </a:lnTo>
                  <a:lnTo>
                    <a:pt x="819" y="2259"/>
                  </a:lnTo>
                  <a:lnTo>
                    <a:pt x="819" y="2253"/>
                  </a:lnTo>
                  <a:lnTo>
                    <a:pt x="768" y="2253"/>
                  </a:lnTo>
                  <a:lnTo>
                    <a:pt x="768" y="2248"/>
                  </a:lnTo>
                  <a:lnTo>
                    <a:pt x="620" y="2248"/>
                  </a:lnTo>
                  <a:lnTo>
                    <a:pt x="620" y="2242"/>
                  </a:lnTo>
                  <a:lnTo>
                    <a:pt x="585" y="2242"/>
                  </a:lnTo>
                  <a:lnTo>
                    <a:pt x="585" y="2248"/>
                  </a:lnTo>
                  <a:lnTo>
                    <a:pt x="414" y="2248"/>
                  </a:lnTo>
                  <a:lnTo>
                    <a:pt x="414" y="2242"/>
                  </a:lnTo>
                  <a:lnTo>
                    <a:pt x="300" y="2242"/>
                  </a:lnTo>
                  <a:lnTo>
                    <a:pt x="300" y="2236"/>
                  </a:lnTo>
                  <a:lnTo>
                    <a:pt x="204" y="2236"/>
                  </a:lnTo>
                  <a:lnTo>
                    <a:pt x="204" y="2231"/>
                  </a:lnTo>
                  <a:lnTo>
                    <a:pt x="147" y="2231"/>
                  </a:lnTo>
                  <a:lnTo>
                    <a:pt x="147" y="2236"/>
                  </a:lnTo>
                  <a:lnTo>
                    <a:pt x="45" y="2236"/>
                  </a:lnTo>
                  <a:lnTo>
                    <a:pt x="45" y="2231"/>
                  </a:lnTo>
                  <a:lnTo>
                    <a:pt x="39" y="2231"/>
                  </a:lnTo>
                  <a:lnTo>
                    <a:pt x="39" y="2225"/>
                  </a:lnTo>
                  <a:lnTo>
                    <a:pt x="22" y="2225"/>
                  </a:lnTo>
                  <a:lnTo>
                    <a:pt x="22" y="2219"/>
                  </a:lnTo>
                  <a:lnTo>
                    <a:pt x="0" y="2219"/>
                  </a:lnTo>
                  <a:lnTo>
                    <a:pt x="0" y="2208"/>
                  </a:lnTo>
                  <a:lnTo>
                    <a:pt x="22" y="2208"/>
                  </a:lnTo>
                  <a:lnTo>
                    <a:pt x="22" y="2174"/>
                  </a:lnTo>
                  <a:lnTo>
                    <a:pt x="27" y="2174"/>
                  </a:lnTo>
                  <a:lnTo>
                    <a:pt x="27" y="2162"/>
                  </a:lnTo>
                  <a:lnTo>
                    <a:pt x="22" y="2162"/>
                  </a:lnTo>
                  <a:lnTo>
                    <a:pt x="22" y="2117"/>
                  </a:lnTo>
                  <a:lnTo>
                    <a:pt x="27" y="2117"/>
                  </a:lnTo>
                  <a:lnTo>
                    <a:pt x="27" y="2111"/>
                  </a:lnTo>
                  <a:lnTo>
                    <a:pt x="34" y="2111"/>
                  </a:lnTo>
                  <a:lnTo>
                    <a:pt x="34" y="2106"/>
                  </a:lnTo>
                  <a:lnTo>
                    <a:pt x="50" y="2106"/>
                  </a:lnTo>
                  <a:lnTo>
                    <a:pt x="50" y="2100"/>
                  </a:lnTo>
                  <a:lnTo>
                    <a:pt x="56" y="2100"/>
                  </a:lnTo>
                  <a:lnTo>
                    <a:pt x="56" y="2094"/>
                  </a:lnTo>
                  <a:lnTo>
                    <a:pt x="67" y="2094"/>
                  </a:lnTo>
                  <a:lnTo>
                    <a:pt x="67" y="2089"/>
                  </a:lnTo>
                  <a:lnTo>
                    <a:pt x="74" y="2089"/>
                  </a:lnTo>
                  <a:lnTo>
                    <a:pt x="74" y="2082"/>
                  </a:lnTo>
                  <a:lnTo>
                    <a:pt x="79" y="2082"/>
                  </a:lnTo>
                  <a:lnTo>
                    <a:pt x="79" y="2077"/>
                  </a:lnTo>
                  <a:lnTo>
                    <a:pt x="84" y="2077"/>
                  </a:lnTo>
                  <a:lnTo>
                    <a:pt x="84" y="2072"/>
                  </a:lnTo>
                  <a:lnTo>
                    <a:pt x="91" y="2072"/>
                  </a:lnTo>
                  <a:lnTo>
                    <a:pt x="91" y="2060"/>
                  </a:lnTo>
                  <a:lnTo>
                    <a:pt x="96" y="2060"/>
                  </a:lnTo>
                  <a:lnTo>
                    <a:pt x="96" y="2043"/>
                  </a:lnTo>
                  <a:lnTo>
                    <a:pt x="102" y="2043"/>
                  </a:lnTo>
                  <a:lnTo>
                    <a:pt x="102" y="2037"/>
                  </a:lnTo>
                  <a:lnTo>
                    <a:pt x="107" y="2037"/>
                  </a:lnTo>
                  <a:lnTo>
                    <a:pt x="107" y="2026"/>
                  </a:lnTo>
                  <a:lnTo>
                    <a:pt x="112" y="2026"/>
                  </a:lnTo>
                  <a:lnTo>
                    <a:pt x="112" y="2020"/>
                  </a:lnTo>
                  <a:lnTo>
                    <a:pt x="124" y="2020"/>
                  </a:lnTo>
                  <a:lnTo>
                    <a:pt x="124" y="2015"/>
                  </a:lnTo>
                  <a:lnTo>
                    <a:pt x="130" y="2015"/>
                  </a:lnTo>
                  <a:lnTo>
                    <a:pt x="130" y="2008"/>
                  </a:lnTo>
                  <a:lnTo>
                    <a:pt x="136" y="2008"/>
                  </a:lnTo>
                  <a:lnTo>
                    <a:pt x="136" y="2003"/>
                  </a:lnTo>
                  <a:lnTo>
                    <a:pt x="147" y="2003"/>
                  </a:lnTo>
                  <a:lnTo>
                    <a:pt x="147" y="1998"/>
                  </a:lnTo>
                  <a:lnTo>
                    <a:pt x="153" y="1998"/>
                  </a:lnTo>
                  <a:lnTo>
                    <a:pt x="153" y="1992"/>
                  </a:lnTo>
                  <a:lnTo>
                    <a:pt x="159" y="1992"/>
                  </a:lnTo>
                  <a:lnTo>
                    <a:pt x="159" y="1975"/>
                  </a:lnTo>
                  <a:lnTo>
                    <a:pt x="164" y="1975"/>
                  </a:lnTo>
                  <a:lnTo>
                    <a:pt x="164" y="1963"/>
                  </a:lnTo>
                  <a:lnTo>
                    <a:pt x="169" y="1963"/>
                  </a:lnTo>
                  <a:lnTo>
                    <a:pt x="169" y="1946"/>
                  </a:lnTo>
                  <a:lnTo>
                    <a:pt x="176" y="1946"/>
                  </a:lnTo>
                  <a:lnTo>
                    <a:pt x="176" y="1935"/>
                  </a:lnTo>
                  <a:lnTo>
                    <a:pt x="181" y="1935"/>
                  </a:lnTo>
                  <a:lnTo>
                    <a:pt x="181" y="1929"/>
                  </a:lnTo>
                  <a:lnTo>
                    <a:pt x="187" y="1929"/>
                  </a:lnTo>
                  <a:lnTo>
                    <a:pt x="187" y="1918"/>
                  </a:lnTo>
                  <a:lnTo>
                    <a:pt x="193" y="1918"/>
                  </a:lnTo>
                  <a:lnTo>
                    <a:pt x="193" y="1912"/>
                  </a:lnTo>
                  <a:lnTo>
                    <a:pt x="198" y="1912"/>
                  </a:lnTo>
                  <a:lnTo>
                    <a:pt x="198" y="1906"/>
                  </a:lnTo>
                  <a:lnTo>
                    <a:pt x="204" y="1906"/>
                  </a:lnTo>
                  <a:lnTo>
                    <a:pt x="204" y="1894"/>
                  </a:lnTo>
                  <a:lnTo>
                    <a:pt x="210" y="1894"/>
                  </a:lnTo>
                  <a:lnTo>
                    <a:pt x="210" y="1889"/>
                  </a:lnTo>
                  <a:lnTo>
                    <a:pt x="216" y="1889"/>
                  </a:lnTo>
                  <a:lnTo>
                    <a:pt x="216" y="1884"/>
                  </a:lnTo>
                  <a:lnTo>
                    <a:pt x="221" y="1884"/>
                  </a:lnTo>
                  <a:lnTo>
                    <a:pt x="221" y="1872"/>
                  </a:lnTo>
                  <a:lnTo>
                    <a:pt x="226" y="1872"/>
                  </a:lnTo>
                  <a:lnTo>
                    <a:pt x="226" y="1861"/>
                  </a:lnTo>
                  <a:lnTo>
                    <a:pt x="233" y="1861"/>
                  </a:lnTo>
                  <a:lnTo>
                    <a:pt x="233" y="1855"/>
                  </a:lnTo>
                  <a:lnTo>
                    <a:pt x="238" y="1855"/>
                  </a:lnTo>
                  <a:lnTo>
                    <a:pt x="238" y="1849"/>
                  </a:lnTo>
                  <a:lnTo>
                    <a:pt x="243" y="1849"/>
                  </a:lnTo>
                  <a:lnTo>
                    <a:pt x="243" y="1832"/>
                  </a:lnTo>
                  <a:lnTo>
                    <a:pt x="250" y="1832"/>
                  </a:lnTo>
                  <a:lnTo>
                    <a:pt x="250" y="1827"/>
                  </a:lnTo>
                  <a:lnTo>
                    <a:pt x="255" y="1827"/>
                  </a:lnTo>
                  <a:lnTo>
                    <a:pt x="255" y="1815"/>
                  </a:lnTo>
                  <a:lnTo>
                    <a:pt x="261" y="1815"/>
                  </a:lnTo>
                  <a:lnTo>
                    <a:pt x="261" y="1804"/>
                  </a:lnTo>
                  <a:lnTo>
                    <a:pt x="267" y="1804"/>
                  </a:lnTo>
                  <a:lnTo>
                    <a:pt x="267" y="1787"/>
                  </a:lnTo>
                  <a:lnTo>
                    <a:pt x="273" y="1787"/>
                  </a:lnTo>
                  <a:lnTo>
                    <a:pt x="273" y="1775"/>
                  </a:lnTo>
                  <a:lnTo>
                    <a:pt x="278" y="1775"/>
                  </a:lnTo>
                  <a:lnTo>
                    <a:pt x="278" y="1770"/>
                  </a:lnTo>
                  <a:lnTo>
                    <a:pt x="283" y="1770"/>
                  </a:lnTo>
                  <a:lnTo>
                    <a:pt x="283" y="1758"/>
                  </a:lnTo>
                  <a:lnTo>
                    <a:pt x="290" y="1758"/>
                  </a:lnTo>
                  <a:lnTo>
                    <a:pt x="290" y="1741"/>
                  </a:lnTo>
                  <a:lnTo>
                    <a:pt x="295" y="1741"/>
                  </a:lnTo>
                  <a:lnTo>
                    <a:pt x="295" y="1725"/>
                  </a:lnTo>
                  <a:lnTo>
                    <a:pt x="300" y="1725"/>
                  </a:lnTo>
                  <a:lnTo>
                    <a:pt x="300" y="1702"/>
                  </a:lnTo>
                  <a:lnTo>
                    <a:pt x="307" y="1702"/>
                  </a:lnTo>
                  <a:lnTo>
                    <a:pt x="307" y="1685"/>
                  </a:lnTo>
                  <a:lnTo>
                    <a:pt x="312" y="1685"/>
                  </a:lnTo>
                  <a:lnTo>
                    <a:pt x="312" y="1661"/>
                  </a:lnTo>
                  <a:lnTo>
                    <a:pt x="318" y="1661"/>
                  </a:lnTo>
                  <a:lnTo>
                    <a:pt x="318" y="1651"/>
                  </a:lnTo>
                  <a:lnTo>
                    <a:pt x="324" y="1651"/>
                  </a:lnTo>
                  <a:lnTo>
                    <a:pt x="324" y="1645"/>
                  </a:lnTo>
                  <a:lnTo>
                    <a:pt x="329" y="1645"/>
                  </a:lnTo>
                  <a:lnTo>
                    <a:pt x="329" y="1633"/>
                  </a:lnTo>
                  <a:lnTo>
                    <a:pt x="335" y="1633"/>
                  </a:lnTo>
                  <a:lnTo>
                    <a:pt x="335" y="1628"/>
                  </a:lnTo>
                  <a:lnTo>
                    <a:pt x="340" y="1628"/>
                  </a:lnTo>
                  <a:lnTo>
                    <a:pt x="340" y="1611"/>
                  </a:lnTo>
                  <a:lnTo>
                    <a:pt x="347" y="1611"/>
                  </a:lnTo>
                  <a:lnTo>
                    <a:pt x="347" y="1594"/>
                  </a:lnTo>
                  <a:lnTo>
                    <a:pt x="352" y="1594"/>
                  </a:lnTo>
                  <a:lnTo>
                    <a:pt x="352" y="1565"/>
                  </a:lnTo>
                  <a:lnTo>
                    <a:pt x="357" y="1565"/>
                  </a:lnTo>
                  <a:lnTo>
                    <a:pt x="357" y="1547"/>
                  </a:lnTo>
                  <a:lnTo>
                    <a:pt x="364" y="1547"/>
                  </a:lnTo>
                  <a:lnTo>
                    <a:pt x="364" y="1525"/>
                  </a:lnTo>
                  <a:lnTo>
                    <a:pt x="369" y="1525"/>
                  </a:lnTo>
                  <a:lnTo>
                    <a:pt x="369" y="1514"/>
                  </a:lnTo>
                  <a:lnTo>
                    <a:pt x="364" y="1514"/>
                  </a:lnTo>
                  <a:lnTo>
                    <a:pt x="364" y="1490"/>
                  </a:lnTo>
                  <a:lnTo>
                    <a:pt x="369" y="1490"/>
                  </a:lnTo>
                  <a:lnTo>
                    <a:pt x="369" y="1480"/>
                  </a:lnTo>
                  <a:lnTo>
                    <a:pt x="364" y="1480"/>
                  </a:lnTo>
                  <a:lnTo>
                    <a:pt x="364" y="1451"/>
                  </a:lnTo>
                  <a:lnTo>
                    <a:pt x="357" y="1451"/>
                  </a:lnTo>
                  <a:lnTo>
                    <a:pt x="357" y="1383"/>
                  </a:lnTo>
                  <a:lnTo>
                    <a:pt x="364" y="1383"/>
                  </a:lnTo>
                  <a:lnTo>
                    <a:pt x="364" y="1371"/>
                  </a:lnTo>
                  <a:lnTo>
                    <a:pt x="369" y="1371"/>
                  </a:lnTo>
                  <a:lnTo>
                    <a:pt x="369" y="1331"/>
                  </a:lnTo>
                  <a:lnTo>
                    <a:pt x="364" y="1331"/>
                  </a:lnTo>
                  <a:lnTo>
                    <a:pt x="364" y="1309"/>
                  </a:lnTo>
                  <a:lnTo>
                    <a:pt x="357" y="1309"/>
                  </a:lnTo>
                  <a:lnTo>
                    <a:pt x="357" y="1281"/>
                  </a:lnTo>
                  <a:lnTo>
                    <a:pt x="352" y="1281"/>
                  </a:lnTo>
                  <a:lnTo>
                    <a:pt x="352" y="1252"/>
                  </a:lnTo>
                  <a:lnTo>
                    <a:pt x="347" y="1252"/>
                  </a:lnTo>
                  <a:lnTo>
                    <a:pt x="347" y="1224"/>
                  </a:lnTo>
                  <a:lnTo>
                    <a:pt x="340" y="1224"/>
                  </a:lnTo>
                  <a:lnTo>
                    <a:pt x="340" y="1200"/>
                  </a:lnTo>
                  <a:lnTo>
                    <a:pt x="335" y="1200"/>
                  </a:lnTo>
                  <a:lnTo>
                    <a:pt x="335" y="1178"/>
                  </a:lnTo>
                  <a:lnTo>
                    <a:pt x="329" y="1178"/>
                  </a:lnTo>
                  <a:lnTo>
                    <a:pt x="329" y="1161"/>
                  </a:lnTo>
                  <a:lnTo>
                    <a:pt x="324" y="1161"/>
                  </a:lnTo>
                  <a:lnTo>
                    <a:pt x="324" y="1138"/>
                  </a:lnTo>
                  <a:lnTo>
                    <a:pt x="318" y="1138"/>
                  </a:lnTo>
                  <a:lnTo>
                    <a:pt x="318" y="1121"/>
                  </a:lnTo>
                  <a:lnTo>
                    <a:pt x="312" y="1121"/>
                  </a:lnTo>
                  <a:lnTo>
                    <a:pt x="312" y="1110"/>
                  </a:lnTo>
                  <a:lnTo>
                    <a:pt x="307" y="1110"/>
                  </a:lnTo>
                  <a:lnTo>
                    <a:pt x="307" y="1093"/>
                  </a:lnTo>
                  <a:lnTo>
                    <a:pt x="300" y="1093"/>
                  </a:lnTo>
                  <a:lnTo>
                    <a:pt x="300" y="1086"/>
                  </a:lnTo>
                  <a:lnTo>
                    <a:pt x="295" y="1086"/>
                  </a:lnTo>
                  <a:lnTo>
                    <a:pt x="295" y="1070"/>
                  </a:lnTo>
                  <a:lnTo>
                    <a:pt x="290" y="1070"/>
                  </a:lnTo>
                  <a:lnTo>
                    <a:pt x="290" y="1047"/>
                  </a:lnTo>
                  <a:lnTo>
                    <a:pt x="283" y="1047"/>
                  </a:lnTo>
                  <a:lnTo>
                    <a:pt x="283" y="1029"/>
                  </a:lnTo>
                  <a:lnTo>
                    <a:pt x="278" y="1029"/>
                  </a:lnTo>
                  <a:lnTo>
                    <a:pt x="278" y="1012"/>
                  </a:lnTo>
                  <a:lnTo>
                    <a:pt x="273" y="1012"/>
                  </a:lnTo>
                  <a:lnTo>
                    <a:pt x="273" y="984"/>
                  </a:lnTo>
                  <a:lnTo>
                    <a:pt x="267" y="984"/>
                  </a:lnTo>
                  <a:lnTo>
                    <a:pt x="267" y="962"/>
                  </a:lnTo>
                  <a:lnTo>
                    <a:pt x="261" y="962"/>
                  </a:lnTo>
                  <a:lnTo>
                    <a:pt x="261" y="945"/>
                  </a:lnTo>
                  <a:lnTo>
                    <a:pt x="255" y="945"/>
                  </a:lnTo>
                  <a:lnTo>
                    <a:pt x="255" y="922"/>
                  </a:lnTo>
                  <a:lnTo>
                    <a:pt x="250" y="922"/>
                  </a:lnTo>
                  <a:lnTo>
                    <a:pt x="250" y="905"/>
                  </a:lnTo>
                  <a:lnTo>
                    <a:pt x="243" y="905"/>
                  </a:lnTo>
                  <a:lnTo>
                    <a:pt x="243" y="888"/>
                  </a:lnTo>
                  <a:lnTo>
                    <a:pt x="238" y="888"/>
                  </a:lnTo>
                  <a:lnTo>
                    <a:pt x="238" y="877"/>
                  </a:lnTo>
                  <a:lnTo>
                    <a:pt x="233" y="877"/>
                  </a:lnTo>
                  <a:lnTo>
                    <a:pt x="233" y="865"/>
                  </a:lnTo>
                  <a:lnTo>
                    <a:pt x="226" y="865"/>
                  </a:lnTo>
                  <a:lnTo>
                    <a:pt x="226" y="831"/>
                  </a:lnTo>
                  <a:lnTo>
                    <a:pt x="221" y="831"/>
                  </a:lnTo>
                  <a:lnTo>
                    <a:pt x="221" y="808"/>
                  </a:lnTo>
                  <a:lnTo>
                    <a:pt x="216" y="808"/>
                  </a:lnTo>
                  <a:lnTo>
                    <a:pt x="216" y="791"/>
                  </a:lnTo>
                  <a:lnTo>
                    <a:pt x="210" y="791"/>
                  </a:lnTo>
                  <a:lnTo>
                    <a:pt x="210" y="780"/>
                  </a:lnTo>
                  <a:lnTo>
                    <a:pt x="204" y="780"/>
                  </a:lnTo>
                  <a:lnTo>
                    <a:pt x="204" y="763"/>
                  </a:lnTo>
                  <a:lnTo>
                    <a:pt x="198" y="763"/>
                  </a:lnTo>
                  <a:lnTo>
                    <a:pt x="198" y="751"/>
                  </a:lnTo>
                  <a:lnTo>
                    <a:pt x="193" y="751"/>
                  </a:lnTo>
                  <a:lnTo>
                    <a:pt x="193" y="734"/>
                  </a:lnTo>
                  <a:lnTo>
                    <a:pt x="187" y="734"/>
                  </a:lnTo>
                  <a:lnTo>
                    <a:pt x="187" y="711"/>
                  </a:lnTo>
                  <a:lnTo>
                    <a:pt x="181" y="711"/>
                  </a:lnTo>
                  <a:lnTo>
                    <a:pt x="181" y="694"/>
                  </a:lnTo>
                  <a:lnTo>
                    <a:pt x="176" y="694"/>
                  </a:lnTo>
                  <a:lnTo>
                    <a:pt x="176" y="672"/>
                  </a:lnTo>
                  <a:lnTo>
                    <a:pt x="169" y="672"/>
                  </a:lnTo>
                  <a:lnTo>
                    <a:pt x="169" y="654"/>
                  </a:lnTo>
                  <a:lnTo>
                    <a:pt x="164" y="654"/>
                  </a:lnTo>
                  <a:lnTo>
                    <a:pt x="164" y="632"/>
                  </a:lnTo>
                  <a:lnTo>
                    <a:pt x="159" y="632"/>
                  </a:lnTo>
                  <a:lnTo>
                    <a:pt x="159" y="615"/>
                  </a:lnTo>
                  <a:lnTo>
                    <a:pt x="153" y="615"/>
                  </a:lnTo>
                  <a:lnTo>
                    <a:pt x="153" y="592"/>
                  </a:lnTo>
                  <a:lnTo>
                    <a:pt x="147" y="592"/>
                  </a:lnTo>
                  <a:lnTo>
                    <a:pt x="147" y="575"/>
                  </a:lnTo>
                  <a:lnTo>
                    <a:pt x="141" y="575"/>
                  </a:lnTo>
                  <a:lnTo>
                    <a:pt x="141" y="558"/>
                  </a:lnTo>
                  <a:lnTo>
                    <a:pt x="136" y="558"/>
                  </a:lnTo>
                  <a:lnTo>
                    <a:pt x="136" y="541"/>
                  </a:lnTo>
                  <a:lnTo>
                    <a:pt x="130" y="541"/>
                  </a:lnTo>
                  <a:lnTo>
                    <a:pt x="130" y="523"/>
                  </a:lnTo>
                  <a:lnTo>
                    <a:pt x="124" y="523"/>
                  </a:lnTo>
                  <a:lnTo>
                    <a:pt x="124" y="495"/>
                  </a:lnTo>
                  <a:lnTo>
                    <a:pt x="119" y="495"/>
                  </a:lnTo>
                  <a:lnTo>
                    <a:pt x="119" y="478"/>
                  </a:lnTo>
                  <a:lnTo>
                    <a:pt x="112" y="478"/>
                  </a:lnTo>
                  <a:lnTo>
                    <a:pt x="112" y="449"/>
                  </a:lnTo>
                  <a:lnTo>
                    <a:pt x="107" y="449"/>
                  </a:lnTo>
                  <a:lnTo>
                    <a:pt x="107" y="427"/>
                  </a:lnTo>
                  <a:lnTo>
                    <a:pt x="102" y="427"/>
                  </a:lnTo>
                  <a:lnTo>
                    <a:pt x="102" y="416"/>
                  </a:lnTo>
                  <a:lnTo>
                    <a:pt x="96" y="416"/>
                  </a:lnTo>
                  <a:lnTo>
                    <a:pt x="96" y="399"/>
                  </a:lnTo>
                  <a:lnTo>
                    <a:pt x="91" y="399"/>
                  </a:lnTo>
                  <a:lnTo>
                    <a:pt x="91" y="382"/>
                  </a:lnTo>
                  <a:lnTo>
                    <a:pt x="84" y="382"/>
                  </a:lnTo>
                  <a:lnTo>
                    <a:pt x="84" y="364"/>
                  </a:lnTo>
                  <a:lnTo>
                    <a:pt x="79" y="364"/>
                  </a:lnTo>
                  <a:lnTo>
                    <a:pt x="79" y="342"/>
                  </a:lnTo>
                  <a:lnTo>
                    <a:pt x="74" y="342"/>
                  </a:lnTo>
                  <a:lnTo>
                    <a:pt x="74" y="313"/>
                  </a:lnTo>
                  <a:lnTo>
                    <a:pt x="67" y="313"/>
                  </a:lnTo>
                  <a:lnTo>
                    <a:pt x="67" y="296"/>
                  </a:lnTo>
                  <a:lnTo>
                    <a:pt x="62" y="296"/>
                  </a:lnTo>
                  <a:lnTo>
                    <a:pt x="62" y="268"/>
                  </a:lnTo>
                  <a:lnTo>
                    <a:pt x="56" y="268"/>
                  </a:lnTo>
                  <a:lnTo>
                    <a:pt x="56" y="250"/>
                  </a:lnTo>
                  <a:lnTo>
                    <a:pt x="50" y="250"/>
                  </a:lnTo>
                  <a:lnTo>
                    <a:pt x="50" y="228"/>
                  </a:lnTo>
                  <a:lnTo>
                    <a:pt x="45" y="228"/>
                  </a:lnTo>
                  <a:lnTo>
                    <a:pt x="45" y="204"/>
                  </a:lnTo>
                  <a:lnTo>
                    <a:pt x="39" y="204"/>
                  </a:lnTo>
                  <a:lnTo>
                    <a:pt x="39" y="171"/>
                  </a:lnTo>
                  <a:lnTo>
                    <a:pt x="34" y="171"/>
                  </a:lnTo>
                  <a:lnTo>
                    <a:pt x="34" y="147"/>
                  </a:lnTo>
                  <a:lnTo>
                    <a:pt x="27" y="147"/>
                  </a:lnTo>
                  <a:lnTo>
                    <a:pt x="27" y="114"/>
                  </a:lnTo>
                  <a:lnTo>
                    <a:pt x="22" y="114"/>
                  </a:lnTo>
                  <a:lnTo>
                    <a:pt x="22" y="69"/>
                  </a:lnTo>
                  <a:lnTo>
                    <a:pt x="34" y="69"/>
                  </a:lnTo>
                  <a:lnTo>
                    <a:pt x="34" y="62"/>
                  </a:lnTo>
                  <a:lnTo>
                    <a:pt x="39" y="62"/>
                  </a:lnTo>
                  <a:lnTo>
                    <a:pt x="39" y="57"/>
                  </a:lnTo>
                  <a:lnTo>
                    <a:pt x="45" y="57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50" y="45"/>
                  </a:lnTo>
                  <a:lnTo>
                    <a:pt x="62" y="45"/>
                  </a:lnTo>
                  <a:lnTo>
                    <a:pt x="62" y="40"/>
                  </a:lnTo>
                  <a:lnTo>
                    <a:pt x="67" y="40"/>
                  </a:lnTo>
                  <a:lnTo>
                    <a:pt x="67" y="34"/>
                  </a:lnTo>
                  <a:lnTo>
                    <a:pt x="74" y="34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79" y="23"/>
                  </a:lnTo>
                  <a:lnTo>
                    <a:pt x="96" y="23"/>
                  </a:lnTo>
                  <a:lnTo>
                    <a:pt x="96" y="17"/>
                  </a:lnTo>
                  <a:lnTo>
                    <a:pt x="119" y="17"/>
                  </a:lnTo>
                  <a:lnTo>
                    <a:pt x="119" y="12"/>
                  </a:lnTo>
                  <a:lnTo>
                    <a:pt x="198" y="12"/>
                  </a:lnTo>
                  <a:lnTo>
                    <a:pt x="198" y="17"/>
                  </a:lnTo>
                  <a:lnTo>
                    <a:pt x="210" y="17"/>
                  </a:lnTo>
                  <a:lnTo>
                    <a:pt x="210" y="12"/>
                  </a:lnTo>
                  <a:lnTo>
                    <a:pt x="267" y="12"/>
                  </a:lnTo>
                  <a:lnTo>
                    <a:pt x="267" y="17"/>
                  </a:lnTo>
                  <a:lnTo>
                    <a:pt x="300" y="17"/>
                  </a:lnTo>
                  <a:lnTo>
                    <a:pt x="300" y="12"/>
                  </a:lnTo>
                  <a:lnTo>
                    <a:pt x="324" y="12"/>
                  </a:lnTo>
                  <a:lnTo>
                    <a:pt x="324" y="5"/>
                  </a:lnTo>
                  <a:lnTo>
                    <a:pt x="352" y="5"/>
                  </a:lnTo>
                  <a:lnTo>
                    <a:pt x="352" y="0"/>
                  </a:lnTo>
                  <a:lnTo>
                    <a:pt x="426" y="0"/>
                  </a:lnTo>
                  <a:lnTo>
                    <a:pt x="426" y="5"/>
                  </a:lnTo>
                  <a:lnTo>
                    <a:pt x="495" y="5"/>
                  </a:lnTo>
                  <a:lnTo>
                    <a:pt x="495" y="12"/>
                  </a:lnTo>
                  <a:lnTo>
                    <a:pt x="585" y="12"/>
                  </a:lnTo>
                  <a:lnTo>
                    <a:pt x="585" y="17"/>
                  </a:lnTo>
                  <a:lnTo>
                    <a:pt x="608" y="17"/>
                  </a:lnTo>
                  <a:lnTo>
                    <a:pt x="608" y="12"/>
                  </a:lnTo>
                  <a:lnTo>
                    <a:pt x="637" y="12"/>
                  </a:lnTo>
                  <a:lnTo>
                    <a:pt x="637" y="17"/>
                  </a:lnTo>
                  <a:lnTo>
                    <a:pt x="665" y="17"/>
                  </a:lnTo>
                  <a:lnTo>
                    <a:pt x="665" y="23"/>
                  </a:lnTo>
                  <a:lnTo>
                    <a:pt x="699" y="23"/>
                  </a:lnTo>
                  <a:lnTo>
                    <a:pt x="699" y="28"/>
                  </a:lnTo>
                  <a:lnTo>
                    <a:pt x="722" y="28"/>
                  </a:lnTo>
                  <a:lnTo>
                    <a:pt x="722" y="34"/>
                  </a:lnTo>
                  <a:lnTo>
                    <a:pt x="762" y="34"/>
                  </a:lnTo>
                  <a:lnTo>
                    <a:pt x="762" y="40"/>
                  </a:lnTo>
                  <a:lnTo>
                    <a:pt x="944" y="40"/>
                  </a:lnTo>
                  <a:lnTo>
                    <a:pt x="944" y="34"/>
                  </a:lnTo>
                  <a:lnTo>
                    <a:pt x="1041" y="34"/>
                  </a:lnTo>
                  <a:lnTo>
                    <a:pt x="1041" y="28"/>
                  </a:lnTo>
                  <a:lnTo>
                    <a:pt x="1046" y="28"/>
                  </a:lnTo>
                  <a:lnTo>
                    <a:pt x="1046" y="23"/>
                  </a:lnTo>
                  <a:lnTo>
                    <a:pt x="1064" y="23"/>
                  </a:lnTo>
                  <a:lnTo>
                    <a:pt x="1064" y="28"/>
                  </a:lnTo>
                  <a:lnTo>
                    <a:pt x="1069" y="28"/>
                  </a:lnTo>
                  <a:lnTo>
                    <a:pt x="1069" y="40"/>
                  </a:lnTo>
                  <a:lnTo>
                    <a:pt x="1075" y="40"/>
                  </a:lnTo>
                  <a:lnTo>
                    <a:pt x="1075" y="57"/>
                  </a:lnTo>
                  <a:lnTo>
                    <a:pt x="1046" y="57"/>
                  </a:lnTo>
                  <a:lnTo>
                    <a:pt x="1046" y="62"/>
                  </a:lnTo>
                  <a:lnTo>
                    <a:pt x="1001" y="62"/>
                  </a:lnTo>
                  <a:lnTo>
                    <a:pt x="1001" y="57"/>
                  </a:lnTo>
                  <a:lnTo>
                    <a:pt x="972" y="57"/>
                  </a:lnTo>
                  <a:lnTo>
                    <a:pt x="972" y="62"/>
                  </a:lnTo>
                  <a:lnTo>
                    <a:pt x="910" y="62"/>
                  </a:lnTo>
                  <a:lnTo>
                    <a:pt x="910" y="69"/>
                  </a:lnTo>
                  <a:lnTo>
                    <a:pt x="870" y="69"/>
                  </a:lnTo>
                  <a:lnTo>
                    <a:pt x="870" y="74"/>
                  </a:lnTo>
                  <a:lnTo>
                    <a:pt x="836" y="74"/>
                  </a:lnTo>
                  <a:lnTo>
                    <a:pt x="836" y="69"/>
                  </a:lnTo>
                  <a:lnTo>
                    <a:pt x="819" y="69"/>
                  </a:lnTo>
                  <a:lnTo>
                    <a:pt x="819" y="62"/>
                  </a:lnTo>
                  <a:lnTo>
                    <a:pt x="791" y="62"/>
                  </a:lnTo>
                  <a:lnTo>
                    <a:pt x="791" y="69"/>
                  </a:lnTo>
                  <a:lnTo>
                    <a:pt x="762" y="69"/>
                  </a:lnTo>
                  <a:lnTo>
                    <a:pt x="762" y="62"/>
                  </a:lnTo>
                  <a:lnTo>
                    <a:pt x="734" y="62"/>
                  </a:lnTo>
                  <a:lnTo>
                    <a:pt x="734" y="57"/>
                  </a:lnTo>
                  <a:lnTo>
                    <a:pt x="705" y="57"/>
                  </a:lnTo>
                  <a:lnTo>
                    <a:pt x="705" y="52"/>
                  </a:lnTo>
                  <a:lnTo>
                    <a:pt x="659" y="52"/>
                  </a:lnTo>
                  <a:lnTo>
                    <a:pt x="659" y="45"/>
                  </a:lnTo>
                  <a:lnTo>
                    <a:pt x="540" y="45"/>
                  </a:lnTo>
                  <a:lnTo>
                    <a:pt x="540" y="40"/>
                  </a:lnTo>
                  <a:lnTo>
                    <a:pt x="506" y="40"/>
                  </a:lnTo>
                  <a:lnTo>
                    <a:pt x="506" y="34"/>
                  </a:lnTo>
                  <a:lnTo>
                    <a:pt x="483" y="34"/>
                  </a:lnTo>
                  <a:lnTo>
                    <a:pt x="483" y="28"/>
                  </a:lnTo>
                  <a:lnTo>
                    <a:pt x="421" y="28"/>
                  </a:lnTo>
                  <a:lnTo>
                    <a:pt x="421" y="23"/>
                  </a:lnTo>
                  <a:lnTo>
                    <a:pt x="357" y="23"/>
                  </a:lnTo>
                  <a:lnTo>
                    <a:pt x="357" y="28"/>
                  </a:lnTo>
                  <a:lnTo>
                    <a:pt x="340" y="28"/>
                  </a:lnTo>
                  <a:lnTo>
                    <a:pt x="340" y="34"/>
                  </a:lnTo>
                  <a:lnTo>
                    <a:pt x="329" y="34"/>
                  </a:lnTo>
                  <a:lnTo>
                    <a:pt x="329" y="40"/>
                  </a:lnTo>
                  <a:lnTo>
                    <a:pt x="295" y="40"/>
                  </a:lnTo>
                  <a:lnTo>
                    <a:pt x="295" y="45"/>
                  </a:lnTo>
                  <a:lnTo>
                    <a:pt x="273" y="45"/>
                  </a:lnTo>
                  <a:lnTo>
                    <a:pt x="273" y="40"/>
                  </a:lnTo>
                  <a:lnTo>
                    <a:pt x="250" y="40"/>
                  </a:lnTo>
                  <a:lnTo>
                    <a:pt x="250" y="45"/>
                  </a:lnTo>
                  <a:lnTo>
                    <a:pt x="233" y="45"/>
                  </a:lnTo>
                  <a:lnTo>
                    <a:pt x="233" y="40"/>
                  </a:lnTo>
                  <a:lnTo>
                    <a:pt x="181" y="40"/>
                  </a:lnTo>
                  <a:lnTo>
                    <a:pt x="181" y="45"/>
                  </a:lnTo>
                  <a:lnTo>
                    <a:pt x="136" y="45"/>
                  </a:lnTo>
                  <a:lnTo>
                    <a:pt x="136" y="52"/>
                  </a:lnTo>
                  <a:lnTo>
                    <a:pt x="96" y="52"/>
                  </a:lnTo>
                  <a:lnTo>
                    <a:pt x="96" y="57"/>
                  </a:lnTo>
                  <a:lnTo>
                    <a:pt x="84" y="57"/>
                  </a:lnTo>
                  <a:lnTo>
                    <a:pt x="84" y="62"/>
                  </a:lnTo>
                  <a:lnTo>
                    <a:pt x="79" y="62"/>
                  </a:lnTo>
                  <a:lnTo>
                    <a:pt x="79" y="86"/>
                  </a:lnTo>
                  <a:lnTo>
                    <a:pt x="74" y="86"/>
                  </a:lnTo>
                  <a:lnTo>
                    <a:pt x="74" y="91"/>
                  </a:lnTo>
                  <a:lnTo>
                    <a:pt x="67" y="91"/>
                  </a:lnTo>
                  <a:lnTo>
                    <a:pt x="67" y="182"/>
                  </a:lnTo>
                  <a:lnTo>
                    <a:pt x="74" y="182"/>
                  </a:lnTo>
                  <a:lnTo>
                    <a:pt x="74" y="211"/>
                  </a:lnTo>
                  <a:lnTo>
                    <a:pt x="79" y="211"/>
                  </a:lnTo>
                  <a:lnTo>
                    <a:pt x="79" y="250"/>
                  </a:lnTo>
                  <a:lnTo>
                    <a:pt x="84" y="250"/>
                  </a:lnTo>
                  <a:lnTo>
                    <a:pt x="84" y="268"/>
                  </a:lnTo>
                  <a:lnTo>
                    <a:pt x="91" y="268"/>
                  </a:lnTo>
                  <a:lnTo>
                    <a:pt x="91" y="302"/>
                  </a:lnTo>
                  <a:lnTo>
                    <a:pt x="96" y="302"/>
                  </a:lnTo>
                  <a:lnTo>
                    <a:pt x="96" y="313"/>
                  </a:lnTo>
                  <a:lnTo>
                    <a:pt x="102" y="313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07" y="364"/>
                  </a:lnTo>
                  <a:lnTo>
                    <a:pt x="112" y="364"/>
                  </a:lnTo>
                  <a:lnTo>
                    <a:pt x="112" y="382"/>
                  </a:lnTo>
                  <a:lnTo>
                    <a:pt x="119" y="382"/>
                  </a:lnTo>
                  <a:lnTo>
                    <a:pt x="119" y="392"/>
                  </a:lnTo>
                  <a:lnTo>
                    <a:pt x="124" y="392"/>
                  </a:lnTo>
                  <a:lnTo>
                    <a:pt x="124" y="409"/>
                  </a:lnTo>
                  <a:lnTo>
                    <a:pt x="130" y="409"/>
                  </a:lnTo>
                  <a:lnTo>
                    <a:pt x="130" y="421"/>
                  </a:lnTo>
                  <a:lnTo>
                    <a:pt x="136" y="421"/>
                  </a:lnTo>
                  <a:lnTo>
                    <a:pt x="136" y="438"/>
                  </a:lnTo>
                  <a:lnTo>
                    <a:pt x="141" y="438"/>
                  </a:lnTo>
                  <a:lnTo>
                    <a:pt x="141" y="461"/>
                  </a:lnTo>
                  <a:lnTo>
                    <a:pt x="147" y="461"/>
                  </a:lnTo>
                  <a:lnTo>
                    <a:pt x="147" y="478"/>
                  </a:lnTo>
                  <a:lnTo>
                    <a:pt x="153" y="478"/>
                  </a:lnTo>
                  <a:lnTo>
                    <a:pt x="153" y="501"/>
                  </a:lnTo>
                  <a:lnTo>
                    <a:pt x="159" y="501"/>
                  </a:lnTo>
                  <a:lnTo>
                    <a:pt x="159" y="535"/>
                  </a:lnTo>
                  <a:lnTo>
                    <a:pt x="164" y="535"/>
                  </a:lnTo>
                  <a:lnTo>
                    <a:pt x="164" y="551"/>
                  </a:lnTo>
                  <a:lnTo>
                    <a:pt x="169" y="551"/>
                  </a:lnTo>
                  <a:lnTo>
                    <a:pt x="169" y="569"/>
                  </a:lnTo>
                  <a:lnTo>
                    <a:pt x="176" y="569"/>
                  </a:lnTo>
                  <a:lnTo>
                    <a:pt x="176" y="592"/>
                  </a:lnTo>
                  <a:lnTo>
                    <a:pt x="181" y="592"/>
                  </a:lnTo>
                  <a:lnTo>
                    <a:pt x="181" y="603"/>
                  </a:lnTo>
                  <a:lnTo>
                    <a:pt x="187" y="603"/>
                  </a:lnTo>
                  <a:lnTo>
                    <a:pt x="187" y="620"/>
                  </a:lnTo>
                  <a:lnTo>
                    <a:pt x="193" y="620"/>
                  </a:lnTo>
                  <a:lnTo>
                    <a:pt x="193" y="637"/>
                  </a:lnTo>
                  <a:lnTo>
                    <a:pt x="198" y="637"/>
                  </a:lnTo>
                  <a:lnTo>
                    <a:pt x="198" y="665"/>
                  </a:lnTo>
                  <a:lnTo>
                    <a:pt x="204" y="665"/>
                  </a:lnTo>
                  <a:lnTo>
                    <a:pt x="204" y="682"/>
                  </a:lnTo>
                  <a:lnTo>
                    <a:pt x="210" y="682"/>
                  </a:lnTo>
                  <a:lnTo>
                    <a:pt x="210" y="700"/>
                  </a:lnTo>
                  <a:lnTo>
                    <a:pt x="216" y="700"/>
                  </a:lnTo>
                  <a:lnTo>
                    <a:pt x="216" y="729"/>
                  </a:lnTo>
                  <a:lnTo>
                    <a:pt x="221" y="729"/>
                  </a:lnTo>
                  <a:lnTo>
                    <a:pt x="221" y="746"/>
                  </a:lnTo>
                  <a:lnTo>
                    <a:pt x="226" y="746"/>
                  </a:lnTo>
                  <a:lnTo>
                    <a:pt x="226" y="757"/>
                  </a:lnTo>
                  <a:lnTo>
                    <a:pt x="233" y="757"/>
                  </a:lnTo>
                  <a:lnTo>
                    <a:pt x="233" y="780"/>
                  </a:lnTo>
                  <a:lnTo>
                    <a:pt x="238" y="780"/>
                  </a:lnTo>
                  <a:lnTo>
                    <a:pt x="238" y="791"/>
                  </a:lnTo>
                  <a:lnTo>
                    <a:pt x="243" y="791"/>
                  </a:lnTo>
                  <a:lnTo>
                    <a:pt x="243" y="808"/>
                  </a:lnTo>
                  <a:lnTo>
                    <a:pt x="250" y="808"/>
                  </a:lnTo>
                  <a:lnTo>
                    <a:pt x="250" y="825"/>
                  </a:lnTo>
                  <a:lnTo>
                    <a:pt x="255" y="825"/>
                  </a:lnTo>
                  <a:lnTo>
                    <a:pt x="255" y="843"/>
                  </a:lnTo>
                  <a:lnTo>
                    <a:pt x="261" y="843"/>
                  </a:lnTo>
                  <a:lnTo>
                    <a:pt x="261" y="865"/>
                  </a:lnTo>
                  <a:lnTo>
                    <a:pt x="267" y="865"/>
                  </a:lnTo>
                  <a:lnTo>
                    <a:pt x="267" y="882"/>
                  </a:lnTo>
                  <a:lnTo>
                    <a:pt x="273" y="882"/>
                  </a:lnTo>
                  <a:lnTo>
                    <a:pt x="273" y="899"/>
                  </a:lnTo>
                  <a:lnTo>
                    <a:pt x="278" y="899"/>
                  </a:lnTo>
                  <a:lnTo>
                    <a:pt x="278" y="922"/>
                  </a:lnTo>
                  <a:lnTo>
                    <a:pt x="283" y="922"/>
                  </a:lnTo>
                  <a:lnTo>
                    <a:pt x="283" y="933"/>
                  </a:lnTo>
                  <a:lnTo>
                    <a:pt x="290" y="933"/>
                  </a:lnTo>
                  <a:lnTo>
                    <a:pt x="290" y="950"/>
                  </a:lnTo>
                  <a:lnTo>
                    <a:pt x="295" y="950"/>
                  </a:lnTo>
                  <a:lnTo>
                    <a:pt x="295" y="967"/>
                  </a:lnTo>
                  <a:lnTo>
                    <a:pt x="300" y="967"/>
                  </a:lnTo>
                  <a:lnTo>
                    <a:pt x="300" y="984"/>
                  </a:lnTo>
                  <a:lnTo>
                    <a:pt x="307" y="984"/>
                  </a:lnTo>
                  <a:lnTo>
                    <a:pt x="307" y="1007"/>
                  </a:lnTo>
                  <a:lnTo>
                    <a:pt x="312" y="1007"/>
                  </a:lnTo>
                  <a:lnTo>
                    <a:pt x="312" y="1024"/>
                  </a:lnTo>
                  <a:lnTo>
                    <a:pt x="318" y="1024"/>
                  </a:lnTo>
                  <a:lnTo>
                    <a:pt x="318" y="1047"/>
                  </a:lnTo>
                  <a:lnTo>
                    <a:pt x="324" y="1047"/>
                  </a:lnTo>
                  <a:lnTo>
                    <a:pt x="324" y="1058"/>
                  </a:lnTo>
                  <a:lnTo>
                    <a:pt x="329" y="1058"/>
                  </a:lnTo>
                  <a:lnTo>
                    <a:pt x="329" y="1081"/>
                  </a:lnTo>
                  <a:lnTo>
                    <a:pt x="335" y="1081"/>
                  </a:lnTo>
                  <a:lnTo>
                    <a:pt x="335" y="1098"/>
                  </a:lnTo>
                  <a:lnTo>
                    <a:pt x="340" y="1098"/>
                  </a:lnTo>
                  <a:lnTo>
                    <a:pt x="340" y="1115"/>
                  </a:lnTo>
                  <a:lnTo>
                    <a:pt x="347" y="1115"/>
                  </a:lnTo>
                  <a:lnTo>
                    <a:pt x="347" y="1127"/>
                  </a:lnTo>
                  <a:lnTo>
                    <a:pt x="352" y="1127"/>
                  </a:lnTo>
                  <a:lnTo>
                    <a:pt x="352" y="1150"/>
                  </a:lnTo>
                  <a:lnTo>
                    <a:pt x="357" y="1150"/>
                  </a:lnTo>
                  <a:lnTo>
                    <a:pt x="357" y="1161"/>
                  </a:lnTo>
                  <a:lnTo>
                    <a:pt x="364" y="1161"/>
                  </a:lnTo>
                  <a:lnTo>
                    <a:pt x="364" y="1184"/>
                  </a:lnTo>
                  <a:lnTo>
                    <a:pt x="369" y="1184"/>
                  </a:lnTo>
                  <a:lnTo>
                    <a:pt x="369" y="1200"/>
                  </a:lnTo>
                  <a:lnTo>
                    <a:pt x="375" y="1200"/>
                  </a:lnTo>
                  <a:lnTo>
                    <a:pt x="375" y="1229"/>
                  </a:lnTo>
                  <a:lnTo>
                    <a:pt x="381" y="1229"/>
                  </a:lnTo>
                  <a:lnTo>
                    <a:pt x="381" y="1257"/>
                  </a:lnTo>
                  <a:lnTo>
                    <a:pt x="386" y="1257"/>
                  </a:lnTo>
                  <a:lnTo>
                    <a:pt x="386" y="1303"/>
                  </a:lnTo>
                  <a:lnTo>
                    <a:pt x="392" y="1303"/>
                  </a:lnTo>
                  <a:lnTo>
                    <a:pt x="392" y="1331"/>
                  </a:lnTo>
                  <a:lnTo>
                    <a:pt x="397" y="1331"/>
                  </a:lnTo>
                  <a:lnTo>
                    <a:pt x="397" y="1360"/>
                  </a:lnTo>
                  <a:lnTo>
                    <a:pt x="404" y="1360"/>
                  </a:lnTo>
                  <a:lnTo>
                    <a:pt x="404" y="1377"/>
                  </a:lnTo>
                  <a:lnTo>
                    <a:pt x="397" y="1377"/>
                  </a:lnTo>
                  <a:lnTo>
                    <a:pt x="397" y="1531"/>
                  </a:lnTo>
                  <a:lnTo>
                    <a:pt x="392" y="1531"/>
                  </a:lnTo>
                  <a:lnTo>
                    <a:pt x="392" y="1565"/>
                  </a:lnTo>
                  <a:lnTo>
                    <a:pt x="386" y="1565"/>
                  </a:lnTo>
                  <a:lnTo>
                    <a:pt x="386" y="1594"/>
                  </a:lnTo>
                  <a:lnTo>
                    <a:pt x="381" y="1594"/>
                  </a:lnTo>
                  <a:lnTo>
                    <a:pt x="381" y="1611"/>
                  </a:lnTo>
                  <a:lnTo>
                    <a:pt x="375" y="1611"/>
                  </a:lnTo>
                  <a:lnTo>
                    <a:pt x="375" y="1628"/>
                  </a:lnTo>
                  <a:lnTo>
                    <a:pt x="369" y="1628"/>
                  </a:lnTo>
                  <a:lnTo>
                    <a:pt x="369" y="1639"/>
                  </a:lnTo>
                  <a:lnTo>
                    <a:pt x="364" y="1639"/>
                  </a:lnTo>
                  <a:lnTo>
                    <a:pt x="364" y="1656"/>
                  </a:lnTo>
                  <a:lnTo>
                    <a:pt x="357" y="1656"/>
                  </a:lnTo>
                  <a:lnTo>
                    <a:pt x="357" y="1673"/>
                  </a:lnTo>
                  <a:lnTo>
                    <a:pt x="352" y="1673"/>
                  </a:lnTo>
                  <a:lnTo>
                    <a:pt x="352" y="1685"/>
                  </a:lnTo>
                  <a:lnTo>
                    <a:pt x="347" y="1685"/>
                  </a:lnTo>
                  <a:lnTo>
                    <a:pt x="347" y="1696"/>
                  </a:lnTo>
                  <a:lnTo>
                    <a:pt x="340" y="1696"/>
                  </a:lnTo>
                  <a:lnTo>
                    <a:pt x="340" y="1713"/>
                  </a:lnTo>
                  <a:lnTo>
                    <a:pt x="335" y="1713"/>
                  </a:lnTo>
                  <a:lnTo>
                    <a:pt x="335" y="1725"/>
                  </a:lnTo>
                  <a:lnTo>
                    <a:pt x="329" y="1725"/>
                  </a:lnTo>
                  <a:lnTo>
                    <a:pt x="329" y="1741"/>
                  </a:lnTo>
                  <a:lnTo>
                    <a:pt x="324" y="1741"/>
                  </a:lnTo>
                  <a:lnTo>
                    <a:pt x="324" y="1753"/>
                  </a:lnTo>
                  <a:lnTo>
                    <a:pt x="318" y="1753"/>
                  </a:lnTo>
                  <a:lnTo>
                    <a:pt x="318" y="1770"/>
                  </a:lnTo>
                  <a:lnTo>
                    <a:pt x="312" y="1770"/>
                  </a:lnTo>
                  <a:lnTo>
                    <a:pt x="312" y="1781"/>
                  </a:lnTo>
                  <a:lnTo>
                    <a:pt x="307" y="1781"/>
                  </a:lnTo>
                  <a:lnTo>
                    <a:pt x="307" y="1792"/>
                  </a:lnTo>
                  <a:lnTo>
                    <a:pt x="300" y="1792"/>
                  </a:lnTo>
                  <a:lnTo>
                    <a:pt x="300" y="1804"/>
                  </a:lnTo>
                  <a:lnTo>
                    <a:pt x="295" y="1804"/>
                  </a:lnTo>
                  <a:lnTo>
                    <a:pt x="295" y="1815"/>
                  </a:lnTo>
                  <a:lnTo>
                    <a:pt x="290" y="1815"/>
                  </a:lnTo>
                  <a:lnTo>
                    <a:pt x="290" y="1827"/>
                  </a:lnTo>
                  <a:lnTo>
                    <a:pt x="283" y="1827"/>
                  </a:lnTo>
                  <a:lnTo>
                    <a:pt x="283" y="1837"/>
                  </a:lnTo>
                  <a:lnTo>
                    <a:pt x="278" y="1837"/>
                  </a:lnTo>
                  <a:lnTo>
                    <a:pt x="278" y="1855"/>
                  </a:lnTo>
                  <a:lnTo>
                    <a:pt x="273" y="1855"/>
                  </a:lnTo>
                  <a:lnTo>
                    <a:pt x="273" y="1872"/>
                  </a:lnTo>
                  <a:lnTo>
                    <a:pt x="267" y="1872"/>
                  </a:lnTo>
                  <a:lnTo>
                    <a:pt x="267" y="1889"/>
                  </a:lnTo>
                  <a:lnTo>
                    <a:pt x="261" y="1889"/>
                  </a:lnTo>
                  <a:lnTo>
                    <a:pt x="261" y="1901"/>
                  </a:lnTo>
                  <a:lnTo>
                    <a:pt x="255" y="1901"/>
                  </a:lnTo>
                  <a:lnTo>
                    <a:pt x="255" y="1906"/>
                  </a:lnTo>
                  <a:lnTo>
                    <a:pt x="250" y="1906"/>
                  </a:lnTo>
                  <a:lnTo>
                    <a:pt x="250" y="1918"/>
                  </a:lnTo>
                  <a:lnTo>
                    <a:pt x="243" y="1918"/>
                  </a:lnTo>
                  <a:lnTo>
                    <a:pt x="243" y="1929"/>
                  </a:lnTo>
                  <a:lnTo>
                    <a:pt x="238" y="1929"/>
                  </a:lnTo>
                  <a:lnTo>
                    <a:pt x="238" y="1941"/>
                  </a:lnTo>
                  <a:lnTo>
                    <a:pt x="233" y="1941"/>
                  </a:lnTo>
                  <a:lnTo>
                    <a:pt x="233" y="1946"/>
                  </a:lnTo>
                  <a:lnTo>
                    <a:pt x="226" y="1946"/>
                  </a:lnTo>
                  <a:lnTo>
                    <a:pt x="226" y="1963"/>
                  </a:lnTo>
                  <a:lnTo>
                    <a:pt x="221" y="1963"/>
                  </a:lnTo>
                  <a:lnTo>
                    <a:pt x="221" y="1975"/>
                  </a:lnTo>
                  <a:lnTo>
                    <a:pt x="216" y="1975"/>
                  </a:lnTo>
                  <a:lnTo>
                    <a:pt x="216" y="1980"/>
                  </a:lnTo>
                  <a:lnTo>
                    <a:pt x="210" y="1980"/>
                  </a:lnTo>
                  <a:lnTo>
                    <a:pt x="210" y="1998"/>
                  </a:lnTo>
                  <a:lnTo>
                    <a:pt x="204" y="1998"/>
                  </a:lnTo>
                  <a:lnTo>
                    <a:pt x="204" y="2003"/>
                  </a:lnTo>
                  <a:lnTo>
                    <a:pt x="193" y="2003"/>
                  </a:lnTo>
                  <a:lnTo>
                    <a:pt x="193" y="2015"/>
                  </a:lnTo>
                  <a:lnTo>
                    <a:pt x="187" y="2015"/>
                  </a:lnTo>
                  <a:lnTo>
                    <a:pt x="187" y="2026"/>
                  </a:lnTo>
                  <a:lnTo>
                    <a:pt x="181" y="2026"/>
                  </a:lnTo>
                  <a:lnTo>
                    <a:pt x="181" y="2032"/>
                  </a:lnTo>
                  <a:lnTo>
                    <a:pt x="176" y="2032"/>
                  </a:lnTo>
                  <a:lnTo>
                    <a:pt x="176" y="2043"/>
                  </a:lnTo>
                  <a:lnTo>
                    <a:pt x="169" y="2043"/>
                  </a:lnTo>
                  <a:lnTo>
                    <a:pt x="169" y="2055"/>
                  </a:lnTo>
                  <a:lnTo>
                    <a:pt x="164" y="2055"/>
                  </a:lnTo>
                  <a:lnTo>
                    <a:pt x="164" y="2060"/>
                  </a:lnTo>
                  <a:lnTo>
                    <a:pt x="159" y="2060"/>
                  </a:lnTo>
                  <a:lnTo>
                    <a:pt x="159" y="2065"/>
                  </a:lnTo>
                  <a:lnTo>
                    <a:pt x="153" y="2065"/>
                  </a:lnTo>
                  <a:lnTo>
                    <a:pt x="153" y="2072"/>
                  </a:lnTo>
                  <a:lnTo>
                    <a:pt x="147" y="2072"/>
                  </a:lnTo>
                  <a:lnTo>
                    <a:pt x="147" y="2077"/>
                  </a:lnTo>
                  <a:lnTo>
                    <a:pt x="141" y="2077"/>
                  </a:lnTo>
                  <a:lnTo>
                    <a:pt x="141" y="2082"/>
                  </a:lnTo>
                  <a:lnTo>
                    <a:pt x="136" y="2082"/>
                  </a:lnTo>
                  <a:lnTo>
                    <a:pt x="136" y="2089"/>
                  </a:lnTo>
                  <a:lnTo>
                    <a:pt x="130" y="2089"/>
                  </a:lnTo>
                  <a:lnTo>
                    <a:pt x="130" y="2094"/>
                  </a:lnTo>
                  <a:lnTo>
                    <a:pt x="124" y="2094"/>
                  </a:lnTo>
                  <a:lnTo>
                    <a:pt x="124" y="2106"/>
                  </a:lnTo>
                  <a:lnTo>
                    <a:pt x="119" y="2106"/>
                  </a:lnTo>
                  <a:lnTo>
                    <a:pt x="119" y="2117"/>
                  </a:lnTo>
                  <a:lnTo>
                    <a:pt x="112" y="2117"/>
                  </a:lnTo>
                  <a:lnTo>
                    <a:pt x="112" y="2134"/>
                  </a:lnTo>
                  <a:lnTo>
                    <a:pt x="107" y="2134"/>
                  </a:lnTo>
                  <a:lnTo>
                    <a:pt x="107" y="2139"/>
                  </a:lnTo>
                  <a:lnTo>
                    <a:pt x="102" y="2139"/>
                  </a:lnTo>
                  <a:lnTo>
                    <a:pt x="102" y="2151"/>
                  </a:lnTo>
                  <a:lnTo>
                    <a:pt x="96" y="2151"/>
                  </a:lnTo>
                  <a:lnTo>
                    <a:pt x="96" y="2157"/>
                  </a:lnTo>
                  <a:lnTo>
                    <a:pt x="91" y="2157"/>
                  </a:lnTo>
                  <a:lnTo>
                    <a:pt x="91" y="2162"/>
                  </a:lnTo>
                  <a:lnTo>
                    <a:pt x="84" y="2162"/>
                  </a:lnTo>
                  <a:lnTo>
                    <a:pt x="84" y="2174"/>
                  </a:lnTo>
                  <a:lnTo>
                    <a:pt x="79" y="2174"/>
                  </a:lnTo>
                  <a:lnTo>
                    <a:pt x="79" y="2179"/>
                  </a:lnTo>
                  <a:lnTo>
                    <a:pt x="74" y="2179"/>
                  </a:lnTo>
                  <a:lnTo>
                    <a:pt x="74" y="2196"/>
                  </a:lnTo>
                  <a:lnTo>
                    <a:pt x="91" y="2196"/>
                  </a:lnTo>
                  <a:lnTo>
                    <a:pt x="91" y="2202"/>
                  </a:lnTo>
                  <a:lnTo>
                    <a:pt x="102" y="2202"/>
                  </a:lnTo>
                  <a:lnTo>
                    <a:pt x="102" y="2196"/>
                  </a:lnTo>
                  <a:lnTo>
                    <a:pt x="221" y="2196"/>
                  </a:lnTo>
                  <a:lnTo>
                    <a:pt x="221" y="2202"/>
                  </a:lnTo>
                  <a:lnTo>
                    <a:pt x="250" y="2202"/>
                  </a:lnTo>
                  <a:lnTo>
                    <a:pt x="250" y="2208"/>
                  </a:lnTo>
                  <a:lnTo>
                    <a:pt x="409" y="2208"/>
                  </a:lnTo>
                  <a:lnTo>
                    <a:pt x="409" y="2202"/>
                  </a:lnTo>
                  <a:lnTo>
                    <a:pt x="471" y="2202"/>
                  </a:lnTo>
                  <a:lnTo>
                    <a:pt x="471" y="2196"/>
                  </a:lnTo>
                  <a:lnTo>
                    <a:pt x="511" y="2196"/>
                  </a:lnTo>
                  <a:lnTo>
                    <a:pt x="511" y="2202"/>
                  </a:lnTo>
                  <a:lnTo>
                    <a:pt x="563" y="2202"/>
                  </a:lnTo>
                  <a:lnTo>
                    <a:pt x="563" y="2208"/>
                  </a:lnTo>
                  <a:lnTo>
                    <a:pt x="654" y="2208"/>
                  </a:lnTo>
                  <a:lnTo>
                    <a:pt x="654" y="2214"/>
                  </a:lnTo>
                  <a:lnTo>
                    <a:pt x="694" y="2214"/>
                  </a:lnTo>
                  <a:lnTo>
                    <a:pt x="694" y="2219"/>
                  </a:lnTo>
                  <a:lnTo>
                    <a:pt x="768" y="2219"/>
                  </a:lnTo>
                  <a:lnTo>
                    <a:pt x="768" y="2225"/>
                  </a:lnTo>
                  <a:lnTo>
                    <a:pt x="1001" y="2225"/>
                  </a:lnTo>
                  <a:lnTo>
                    <a:pt x="1001" y="2231"/>
                  </a:lnTo>
                  <a:lnTo>
                    <a:pt x="1046" y="2231"/>
                  </a:lnTo>
                  <a:lnTo>
                    <a:pt x="1046" y="2236"/>
                  </a:lnTo>
                  <a:lnTo>
                    <a:pt x="1115" y="2236"/>
                  </a:lnTo>
                  <a:lnTo>
                    <a:pt x="1115" y="2242"/>
                  </a:lnTo>
                  <a:lnTo>
                    <a:pt x="1138" y="2242"/>
                  </a:lnTo>
                  <a:lnTo>
                    <a:pt x="1138" y="2248"/>
                  </a:lnTo>
                  <a:lnTo>
                    <a:pt x="1286" y="2248"/>
                  </a:lnTo>
                  <a:lnTo>
                    <a:pt x="1286" y="2242"/>
                  </a:lnTo>
                  <a:lnTo>
                    <a:pt x="1303" y="2242"/>
                  </a:lnTo>
                  <a:lnTo>
                    <a:pt x="1303" y="2248"/>
                  </a:lnTo>
                  <a:lnTo>
                    <a:pt x="1314" y="2248"/>
                  </a:lnTo>
                  <a:lnTo>
                    <a:pt x="1314" y="2242"/>
                  </a:lnTo>
                  <a:lnTo>
                    <a:pt x="1319" y="2242"/>
                  </a:lnTo>
                  <a:lnTo>
                    <a:pt x="1319" y="2236"/>
                  </a:lnTo>
                  <a:lnTo>
                    <a:pt x="1326" y="2236"/>
                  </a:lnTo>
                  <a:lnTo>
                    <a:pt x="1326" y="2231"/>
                  </a:lnTo>
                  <a:lnTo>
                    <a:pt x="1348" y="2231"/>
                  </a:lnTo>
                  <a:lnTo>
                    <a:pt x="1348" y="2236"/>
                  </a:lnTo>
                  <a:lnTo>
                    <a:pt x="1376" y="2236"/>
                  </a:lnTo>
                  <a:lnTo>
                    <a:pt x="1376" y="2242"/>
                  </a:lnTo>
                  <a:lnTo>
                    <a:pt x="1405" y="2242"/>
                  </a:lnTo>
                  <a:lnTo>
                    <a:pt x="1405" y="2236"/>
                  </a:lnTo>
                  <a:lnTo>
                    <a:pt x="1411" y="2236"/>
                  </a:lnTo>
                  <a:lnTo>
                    <a:pt x="1411" y="2214"/>
                  </a:lnTo>
                  <a:lnTo>
                    <a:pt x="1416" y="2214"/>
                  </a:lnTo>
                  <a:lnTo>
                    <a:pt x="1416" y="2185"/>
                  </a:lnTo>
                  <a:lnTo>
                    <a:pt x="1423" y="2185"/>
                  </a:lnTo>
                  <a:lnTo>
                    <a:pt x="1423" y="2174"/>
                  </a:lnTo>
                  <a:lnTo>
                    <a:pt x="1428" y="2174"/>
                  </a:lnTo>
                  <a:lnTo>
                    <a:pt x="1428" y="2100"/>
                  </a:lnTo>
                  <a:lnTo>
                    <a:pt x="1433" y="2100"/>
                  </a:lnTo>
                  <a:lnTo>
                    <a:pt x="1433" y="2060"/>
                  </a:lnTo>
                  <a:lnTo>
                    <a:pt x="1440" y="2060"/>
                  </a:lnTo>
                  <a:lnTo>
                    <a:pt x="1440" y="2049"/>
                  </a:lnTo>
                  <a:lnTo>
                    <a:pt x="1433" y="2049"/>
                  </a:lnTo>
                  <a:lnTo>
                    <a:pt x="1433" y="2026"/>
                  </a:lnTo>
                  <a:lnTo>
                    <a:pt x="1440" y="2026"/>
                  </a:lnTo>
                  <a:lnTo>
                    <a:pt x="1440" y="1998"/>
                  </a:lnTo>
                  <a:lnTo>
                    <a:pt x="1445" y="1998"/>
                  </a:lnTo>
                  <a:lnTo>
                    <a:pt x="1445" y="1963"/>
                  </a:lnTo>
                  <a:lnTo>
                    <a:pt x="1451" y="1963"/>
                  </a:lnTo>
                  <a:lnTo>
                    <a:pt x="1451" y="1918"/>
                  </a:lnTo>
                  <a:lnTo>
                    <a:pt x="1456" y="1918"/>
                  </a:lnTo>
                  <a:lnTo>
                    <a:pt x="1456" y="1878"/>
                  </a:lnTo>
                  <a:lnTo>
                    <a:pt x="1462" y="1878"/>
                  </a:lnTo>
                  <a:lnTo>
                    <a:pt x="1462" y="1849"/>
                  </a:lnTo>
                  <a:lnTo>
                    <a:pt x="1468" y="1849"/>
                  </a:lnTo>
                  <a:lnTo>
                    <a:pt x="1468" y="1810"/>
                  </a:lnTo>
                  <a:lnTo>
                    <a:pt x="1473" y="1810"/>
                  </a:lnTo>
                  <a:lnTo>
                    <a:pt x="1473" y="1775"/>
                  </a:lnTo>
                  <a:lnTo>
                    <a:pt x="1480" y="1775"/>
                  </a:lnTo>
                  <a:lnTo>
                    <a:pt x="1480" y="1730"/>
                  </a:lnTo>
                  <a:lnTo>
                    <a:pt x="1485" y="1730"/>
                  </a:lnTo>
                  <a:lnTo>
                    <a:pt x="1485" y="1651"/>
                  </a:lnTo>
                  <a:lnTo>
                    <a:pt x="1490" y="1651"/>
                  </a:lnTo>
                  <a:lnTo>
                    <a:pt x="1490" y="1622"/>
                  </a:lnTo>
                  <a:lnTo>
                    <a:pt x="1497" y="1622"/>
                  </a:lnTo>
                  <a:lnTo>
                    <a:pt x="1497" y="1599"/>
                  </a:lnTo>
                  <a:lnTo>
                    <a:pt x="1502" y="1599"/>
                  </a:lnTo>
                  <a:lnTo>
                    <a:pt x="1502" y="1559"/>
                  </a:lnTo>
                  <a:lnTo>
                    <a:pt x="1507" y="1559"/>
                  </a:lnTo>
                  <a:lnTo>
                    <a:pt x="1507" y="1537"/>
                  </a:lnTo>
                  <a:lnTo>
                    <a:pt x="1513" y="1537"/>
                  </a:lnTo>
                  <a:lnTo>
                    <a:pt x="1513" y="1519"/>
                  </a:lnTo>
                  <a:lnTo>
                    <a:pt x="1519" y="1519"/>
                  </a:lnTo>
                  <a:lnTo>
                    <a:pt x="1519" y="1502"/>
                  </a:lnTo>
                  <a:lnTo>
                    <a:pt x="1525" y="1502"/>
                  </a:lnTo>
                  <a:lnTo>
                    <a:pt x="1525" y="1497"/>
                  </a:lnTo>
                  <a:lnTo>
                    <a:pt x="1530" y="1497"/>
                  </a:lnTo>
                  <a:lnTo>
                    <a:pt x="1530" y="1485"/>
                  </a:lnTo>
                  <a:lnTo>
                    <a:pt x="1537" y="1485"/>
                  </a:lnTo>
                  <a:lnTo>
                    <a:pt x="1537" y="1480"/>
                  </a:lnTo>
                  <a:lnTo>
                    <a:pt x="1542" y="1480"/>
                  </a:lnTo>
                  <a:lnTo>
                    <a:pt x="1542" y="1474"/>
                  </a:lnTo>
                  <a:lnTo>
                    <a:pt x="1559" y="1474"/>
                  </a:lnTo>
                  <a:lnTo>
                    <a:pt x="1559" y="1480"/>
                  </a:lnTo>
                  <a:lnTo>
                    <a:pt x="1564" y="1480"/>
                  </a:lnTo>
                  <a:lnTo>
                    <a:pt x="1564" y="1485"/>
                  </a:lnTo>
                  <a:lnTo>
                    <a:pt x="1570" y="1485"/>
                  </a:lnTo>
                  <a:lnTo>
                    <a:pt x="1570" y="1490"/>
                  </a:lnTo>
                  <a:lnTo>
                    <a:pt x="1576" y="1490"/>
                  </a:lnTo>
                  <a:lnTo>
                    <a:pt x="1576" y="1514"/>
                  </a:lnTo>
                  <a:lnTo>
                    <a:pt x="1570" y="1514"/>
                  </a:lnTo>
                  <a:lnTo>
                    <a:pt x="1570" y="1519"/>
                  </a:lnTo>
                  <a:lnTo>
                    <a:pt x="1564" y="1519"/>
                  </a:lnTo>
                  <a:lnTo>
                    <a:pt x="1564" y="1525"/>
                  </a:lnTo>
                  <a:lnTo>
                    <a:pt x="1559" y="1525"/>
                  </a:lnTo>
                  <a:lnTo>
                    <a:pt x="1559" y="1531"/>
                  </a:lnTo>
                  <a:lnTo>
                    <a:pt x="1554" y="1531"/>
                  </a:lnTo>
                  <a:lnTo>
                    <a:pt x="1554" y="1559"/>
                  </a:lnTo>
                  <a:lnTo>
                    <a:pt x="1547" y="1559"/>
                  </a:lnTo>
                  <a:lnTo>
                    <a:pt x="1547" y="1628"/>
                  </a:lnTo>
                  <a:lnTo>
                    <a:pt x="1542" y="1628"/>
                  </a:lnTo>
                  <a:lnTo>
                    <a:pt x="1542" y="1661"/>
                  </a:lnTo>
                  <a:lnTo>
                    <a:pt x="1547" y="1661"/>
                  </a:lnTo>
                  <a:lnTo>
                    <a:pt x="1547" y="1678"/>
                  </a:lnTo>
                  <a:lnTo>
                    <a:pt x="1542" y="1678"/>
                  </a:lnTo>
                  <a:lnTo>
                    <a:pt x="1542" y="1690"/>
                  </a:lnTo>
                  <a:lnTo>
                    <a:pt x="1537" y="1690"/>
                  </a:lnTo>
                  <a:lnTo>
                    <a:pt x="1537" y="1735"/>
                  </a:lnTo>
                  <a:lnTo>
                    <a:pt x="1530" y="1735"/>
                  </a:lnTo>
                  <a:lnTo>
                    <a:pt x="1530" y="1764"/>
                  </a:lnTo>
                  <a:lnTo>
                    <a:pt x="1525" y="1764"/>
                  </a:lnTo>
                  <a:lnTo>
                    <a:pt x="1525" y="1775"/>
                  </a:lnTo>
                  <a:lnTo>
                    <a:pt x="1519" y="1775"/>
                  </a:lnTo>
                  <a:lnTo>
                    <a:pt x="1519" y="1798"/>
                  </a:lnTo>
                  <a:lnTo>
                    <a:pt x="1513" y="1798"/>
                  </a:lnTo>
                  <a:lnTo>
                    <a:pt x="1513" y="1832"/>
                  </a:lnTo>
                  <a:lnTo>
                    <a:pt x="1507" y="1832"/>
                  </a:lnTo>
                  <a:lnTo>
                    <a:pt x="1507" y="1855"/>
                  </a:lnTo>
                  <a:lnTo>
                    <a:pt x="1502" y="1855"/>
                  </a:lnTo>
                  <a:lnTo>
                    <a:pt x="1502" y="1878"/>
                  </a:lnTo>
                  <a:lnTo>
                    <a:pt x="1497" y="1878"/>
                  </a:lnTo>
                  <a:lnTo>
                    <a:pt x="1497" y="1901"/>
                  </a:lnTo>
                  <a:lnTo>
                    <a:pt x="1490" y="1901"/>
                  </a:lnTo>
                  <a:lnTo>
                    <a:pt x="1490" y="1923"/>
                  </a:lnTo>
                  <a:lnTo>
                    <a:pt x="1485" y="1923"/>
                  </a:lnTo>
                  <a:lnTo>
                    <a:pt x="1485" y="1969"/>
                  </a:lnTo>
                  <a:lnTo>
                    <a:pt x="1480" y="1969"/>
                  </a:lnTo>
                  <a:lnTo>
                    <a:pt x="1480" y="1998"/>
                  </a:lnTo>
                  <a:lnTo>
                    <a:pt x="1473" y="1998"/>
                  </a:lnTo>
                  <a:lnTo>
                    <a:pt x="1473" y="2037"/>
                  </a:lnTo>
                  <a:lnTo>
                    <a:pt x="1468" y="2037"/>
                  </a:lnTo>
                  <a:lnTo>
                    <a:pt x="1468" y="2077"/>
                  </a:lnTo>
                  <a:lnTo>
                    <a:pt x="1462" y="2077"/>
                  </a:lnTo>
                  <a:lnTo>
                    <a:pt x="1462" y="2106"/>
                  </a:lnTo>
                  <a:lnTo>
                    <a:pt x="1468" y="2106"/>
                  </a:lnTo>
                  <a:lnTo>
                    <a:pt x="1468" y="2139"/>
                  </a:lnTo>
                  <a:lnTo>
                    <a:pt x="1473" y="2139"/>
                  </a:lnTo>
                  <a:lnTo>
                    <a:pt x="1473" y="2168"/>
                  </a:lnTo>
                  <a:lnTo>
                    <a:pt x="1468" y="2168"/>
                  </a:lnTo>
                  <a:lnTo>
                    <a:pt x="1468" y="2231"/>
                  </a:lnTo>
                  <a:lnTo>
                    <a:pt x="1462" y="2231"/>
                  </a:lnTo>
                  <a:lnTo>
                    <a:pt x="1462" y="2242"/>
                  </a:lnTo>
                  <a:lnTo>
                    <a:pt x="1456" y="2242"/>
                  </a:lnTo>
                  <a:lnTo>
                    <a:pt x="1456" y="2259"/>
                  </a:lnTo>
                  <a:lnTo>
                    <a:pt x="1445" y="2259"/>
                  </a:lnTo>
                  <a:lnTo>
                    <a:pt x="1445" y="2265"/>
                  </a:lnTo>
                  <a:lnTo>
                    <a:pt x="1440" y="2265"/>
                  </a:lnTo>
                  <a:lnTo>
                    <a:pt x="1440" y="2276"/>
                  </a:lnTo>
                  <a:lnTo>
                    <a:pt x="1433" y="2276"/>
                  </a:lnTo>
                  <a:lnTo>
                    <a:pt x="1433" y="2282"/>
                  </a:lnTo>
                  <a:lnTo>
                    <a:pt x="1423" y="2282"/>
                  </a:lnTo>
                  <a:lnTo>
                    <a:pt x="1423" y="2288"/>
                  </a:lnTo>
                  <a:lnTo>
                    <a:pt x="1416" y="2288"/>
                  </a:lnTo>
                  <a:lnTo>
                    <a:pt x="1416" y="2293"/>
                  </a:lnTo>
                  <a:lnTo>
                    <a:pt x="1411" y="2293"/>
                  </a:lnTo>
                  <a:lnTo>
                    <a:pt x="1411" y="2298"/>
                  </a:lnTo>
                  <a:lnTo>
                    <a:pt x="1337" y="2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6491880" y="1306080"/>
              <a:ext cx="6840" cy="1548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34"/>
                  </a:lnTo>
                  <a:lnTo>
                    <a:pt x="5" y="3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6491880" y="2137320"/>
              <a:ext cx="6840" cy="154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7" y="1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4724280" y="3474720"/>
              <a:ext cx="2364480" cy="1161360"/>
            </a:xfrm>
            <a:custGeom>
              <a:avLst/>
              <a:gdLst/>
              <a:ahLst/>
              <a:rect l="l" t="t" r="r" b="b"/>
              <a:pathLst>
                <a:path w="4292" h="2105">
                  <a:moveTo>
                    <a:pt x="3927" y="2105"/>
                  </a:moveTo>
                  <a:lnTo>
                    <a:pt x="3927" y="2088"/>
                  </a:lnTo>
                  <a:lnTo>
                    <a:pt x="3933" y="2088"/>
                  </a:lnTo>
                  <a:lnTo>
                    <a:pt x="3933" y="2077"/>
                  </a:lnTo>
                  <a:lnTo>
                    <a:pt x="3927" y="2077"/>
                  </a:lnTo>
                  <a:lnTo>
                    <a:pt x="3927" y="2071"/>
                  </a:lnTo>
                  <a:lnTo>
                    <a:pt x="3893" y="2071"/>
                  </a:lnTo>
                  <a:lnTo>
                    <a:pt x="3893" y="2065"/>
                  </a:lnTo>
                  <a:lnTo>
                    <a:pt x="3774" y="2065"/>
                  </a:lnTo>
                  <a:lnTo>
                    <a:pt x="3774" y="2060"/>
                  </a:lnTo>
                  <a:lnTo>
                    <a:pt x="3729" y="2060"/>
                  </a:lnTo>
                  <a:lnTo>
                    <a:pt x="3729" y="2054"/>
                  </a:lnTo>
                  <a:lnTo>
                    <a:pt x="3672" y="2054"/>
                  </a:lnTo>
                  <a:lnTo>
                    <a:pt x="3672" y="2048"/>
                  </a:lnTo>
                  <a:lnTo>
                    <a:pt x="3523" y="2048"/>
                  </a:lnTo>
                  <a:lnTo>
                    <a:pt x="3523" y="2043"/>
                  </a:lnTo>
                  <a:lnTo>
                    <a:pt x="3506" y="2043"/>
                  </a:lnTo>
                  <a:lnTo>
                    <a:pt x="3506" y="2037"/>
                  </a:lnTo>
                  <a:lnTo>
                    <a:pt x="3477" y="2037"/>
                  </a:lnTo>
                  <a:lnTo>
                    <a:pt x="3477" y="2043"/>
                  </a:lnTo>
                  <a:lnTo>
                    <a:pt x="3444" y="2043"/>
                  </a:lnTo>
                  <a:lnTo>
                    <a:pt x="3444" y="2037"/>
                  </a:lnTo>
                  <a:lnTo>
                    <a:pt x="3399" y="2037"/>
                  </a:lnTo>
                  <a:lnTo>
                    <a:pt x="3399" y="2031"/>
                  </a:lnTo>
                  <a:lnTo>
                    <a:pt x="3375" y="2031"/>
                  </a:lnTo>
                  <a:lnTo>
                    <a:pt x="3375" y="2025"/>
                  </a:lnTo>
                  <a:lnTo>
                    <a:pt x="3352" y="2025"/>
                  </a:lnTo>
                  <a:lnTo>
                    <a:pt x="3352" y="2020"/>
                  </a:lnTo>
                  <a:lnTo>
                    <a:pt x="3335" y="2020"/>
                  </a:lnTo>
                  <a:lnTo>
                    <a:pt x="3335" y="2015"/>
                  </a:lnTo>
                  <a:lnTo>
                    <a:pt x="3318" y="2015"/>
                  </a:lnTo>
                  <a:lnTo>
                    <a:pt x="3318" y="2009"/>
                  </a:lnTo>
                  <a:lnTo>
                    <a:pt x="3295" y="2009"/>
                  </a:lnTo>
                  <a:lnTo>
                    <a:pt x="3295" y="2003"/>
                  </a:lnTo>
                  <a:lnTo>
                    <a:pt x="3278" y="2003"/>
                  </a:lnTo>
                  <a:lnTo>
                    <a:pt x="3278" y="1997"/>
                  </a:lnTo>
                  <a:lnTo>
                    <a:pt x="3261" y="1997"/>
                  </a:lnTo>
                  <a:lnTo>
                    <a:pt x="3261" y="1992"/>
                  </a:lnTo>
                  <a:lnTo>
                    <a:pt x="3244" y="1992"/>
                  </a:lnTo>
                  <a:lnTo>
                    <a:pt x="3244" y="1986"/>
                  </a:lnTo>
                  <a:lnTo>
                    <a:pt x="3204" y="1986"/>
                  </a:lnTo>
                  <a:lnTo>
                    <a:pt x="3204" y="1980"/>
                  </a:lnTo>
                  <a:lnTo>
                    <a:pt x="3125" y="1980"/>
                  </a:lnTo>
                  <a:lnTo>
                    <a:pt x="3125" y="1975"/>
                  </a:lnTo>
                  <a:lnTo>
                    <a:pt x="3068" y="1975"/>
                  </a:lnTo>
                  <a:lnTo>
                    <a:pt x="3068" y="1980"/>
                  </a:lnTo>
                  <a:lnTo>
                    <a:pt x="3040" y="1980"/>
                  </a:lnTo>
                  <a:lnTo>
                    <a:pt x="3040" y="1975"/>
                  </a:lnTo>
                  <a:lnTo>
                    <a:pt x="2965" y="1975"/>
                  </a:lnTo>
                  <a:lnTo>
                    <a:pt x="2965" y="1968"/>
                  </a:lnTo>
                  <a:lnTo>
                    <a:pt x="2948" y="1968"/>
                  </a:lnTo>
                  <a:lnTo>
                    <a:pt x="2948" y="1975"/>
                  </a:lnTo>
                  <a:lnTo>
                    <a:pt x="2920" y="1975"/>
                  </a:lnTo>
                  <a:lnTo>
                    <a:pt x="2920" y="1968"/>
                  </a:lnTo>
                  <a:lnTo>
                    <a:pt x="2852" y="1968"/>
                  </a:lnTo>
                  <a:lnTo>
                    <a:pt x="2852" y="1963"/>
                  </a:lnTo>
                  <a:lnTo>
                    <a:pt x="2823" y="1963"/>
                  </a:lnTo>
                  <a:lnTo>
                    <a:pt x="2823" y="1958"/>
                  </a:lnTo>
                  <a:lnTo>
                    <a:pt x="2772" y="1958"/>
                  </a:lnTo>
                  <a:lnTo>
                    <a:pt x="2772" y="1951"/>
                  </a:lnTo>
                  <a:lnTo>
                    <a:pt x="2755" y="1951"/>
                  </a:lnTo>
                  <a:lnTo>
                    <a:pt x="2755" y="1958"/>
                  </a:lnTo>
                  <a:lnTo>
                    <a:pt x="2573" y="1958"/>
                  </a:lnTo>
                  <a:lnTo>
                    <a:pt x="2573" y="1951"/>
                  </a:lnTo>
                  <a:lnTo>
                    <a:pt x="2475" y="1951"/>
                  </a:lnTo>
                  <a:lnTo>
                    <a:pt x="2475" y="1946"/>
                  </a:lnTo>
                  <a:lnTo>
                    <a:pt x="2339" y="1946"/>
                  </a:lnTo>
                  <a:lnTo>
                    <a:pt x="2339" y="1941"/>
                  </a:lnTo>
                  <a:lnTo>
                    <a:pt x="2254" y="1941"/>
                  </a:lnTo>
                  <a:lnTo>
                    <a:pt x="2254" y="1935"/>
                  </a:lnTo>
                  <a:lnTo>
                    <a:pt x="2209" y="1935"/>
                  </a:lnTo>
                  <a:lnTo>
                    <a:pt x="2209" y="1929"/>
                  </a:lnTo>
                  <a:lnTo>
                    <a:pt x="2152" y="1929"/>
                  </a:lnTo>
                  <a:lnTo>
                    <a:pt x="2152" y="1923"/>
                  </a:lnTo>
                  <a:lnTo>
                    <a:pt x="2111" y="1923"/>
                  </a:lnTo>
                  <a:lnTo>
                    <a:pt x="2111" y="1918"/>
                  </a:lnTo>
                  <a:lnTo>
                    <a:pt x="2054" y="1918"/>
                  </a:lnTo>
                  <a:lnTo>
                    <a:pt x="2054" y="1912"/>
                  </a:lnTo>
                  <a:lnTo>
                    <a:pt x="2021" y="1912"/>
                  </a:lnTo>
                  <a:lnTo>
                    <a:pt x="2021" y="1906"/>
                  </a:lnTo>
                  <a:lnTo>
                    <a:pt x="1872" y="1906"/>
                  </a:lnTo>
                  <a:lnTo>
                    <a:pt x="1872" y="1901"/>
                  </a:lnTo>
                  <a:lnTo>
                    <a:pt x="1798" y="1901"/>
                  </a:lnTo>
                  <a:lnTo>
                    <a:pt x="1798" y="1894"/>
                  </a:lnTo>
                  <a:lnTo>
                    <a:pt x="1696" y="1894"/>
                  </a:lnTo>
                  <a:lnTo>
                    <a:pt x="1696" y="1889"/>
                  </a:lnTo>
                  <a:lnTo>
                    <a:pt x="1662" y="1889"/>
                  </a:lnTo>
                  <a:lnTo>
                    <a:pt x="1662" y="1884"/>
                  </a:lnTo>
                  <a:lnTo>
                    <a:pt x="1627" y="1884"/>
                  </a:lnTo>
                  <a:lnTo>
                    <a:pt x="1627" y="1878"/>
                  </a:lnTo>
                  <a:lnTo>
                    <a:pt x="1570" y="1878"/>
                  </a:lnTo>
                  <a:lnTo>
                    <a:pt x="1570" y="1872"/>
                  </a:lnTo>
                  <a:lnTo>
                    <a:pt x="1560" y="1872"/>
                  </a:lnTo>
                  <a:lnTo>
                    <a:pt x="1560" y="1866"/>
                  </a:lnTo>
                  <a:lnTo>
                    <a:pt x="1536" y="1866"/>
                  </a:lnTo>
                  <a:lnTo>
                    <a:pt x="1536" y="1861"/>
                  </a:lnTo>
                  <a:lnTo>
                    <a:pt x="1520" y="1861"/>
                  </a:lnTo>
                  <a:lnTo>
                    <a:pt x="1520" y="1855"/>
                  </a:lnTo>
                  <a:lnTo>
                    <a:pt x="1503" y="1855"/>
                  </a:lnTo>
                  <a:lnTo>
                    <a:pt x="1503" y="1849"/>
                  </a:lnTo>
                  <a:lnTo>
                    <a:pt x="1468" y="1849"/>
                  </a:lnTo>
                  <a:lnTo>
                    <a:pt x="1468" y="1844"/>
                  </a:lnTo>
                  <a:lnTo>
                    <a:pt x="1422" y="1844"/>
                  </a:lnTo>
                  <a:lnTo>
                    <a:pt x="1422" y="1837"/>
                  </a:lnTo>
                  <a:lnTo>
                    <a:pt x="1394" y="1837"/>
                  </a:lnTo>
                  <a:lnTo>
                    <a:pt x="1394" y="1832"/>
                  </a:lnTo>
                  <a:lnTo>
                    <a:pt x="1337" y="1832"/>
                  </a:lnTo>
                  <a:lnTo>
                    <a:pt x="1337" y="1827"/>
                  </a:lnTo>
                  <a:lnTo>
                    <a:pt x="1280" y="1827"/>
                  </a:lnTo>
                  <a:lnTo>
                    <a:pt x="1280" y="1821"/>
                  </a:lnTo>
                  <a:lnTo>
                    <a:pt x="1212" y="1821"/>
                  </a:lnTo>
                  <a:lnTo>
                    <a:pt x="1212" y="1815"/>
                  </a:lnTo>
                  <a:lnTo>
                    <a:pt x="1172" y="1815"/>
                  </a:lnTo>
                  <a:lnTo>
                    <a:pt x="1172" y="1809"/>
                  </a:lnTo>
                  <a:lnTo>
                    <a:pt x="1138" y="1809"/>
                  </a:lnTo>
                  <a:lnTo>
                    <a:pt x="1138" y="1804"/>
                  </a:lnTo>
                  <a:lnTo>
                    <a:pt x="1081" y="1804"/>
                  </a:lnTo>
                  <a:lnTo>
                    <a:pt x="1081" y="1798"/>
                  </a:lnTo>
                  <a:lnTo>
                    <a:pt x="1042" y="1798"/>
                  </a:lnTo>
                  <a:lnTo>
                    <a:pt x="1042" y="1792"/>
                  </a:lnTo>
                  <a:lnTo>
                    <a:pt x="956" y="1792"/>
                  </a:lnTo>
                  <a:lnTo>
                    <a:pt x="956" y="1787"/>
                  </a:lnTo>
                  <a:lnTo>
                    <a:pt x="853" y="1787"/>
                  </a:lnTo>
                  <a:lnTo>
                    <a:pt x="853" y="1780"/>
                  </a:lnTo>
                  <a:lnTo>
                    <a:pt x="710" y="1780"/>
                  </a:lnTo>
                  <a:lnTo>
                    <a:pt x="710" y="1775"/>
                  </a:lnTo>
                  <a:lnTo>
                    <a:pt x="654" y="1775"/>
                  </a:lnTo>
                  <a:lnTo>
                    <a:pt x="654" y="1770"/>
                  </a:lnTo>
                  <a:lnTo>
                    <a:pt x="626" y="1770"/>
                  </a:lnTo>
                  <a:lnTo>
                    <a:pt x="626" y="1764"/>
                  </a:lnTo>
                  <a:lnTo>
                    <a:pt x="598" y="1764"/>
                  </a:lnTo>
                  <a:lnTo>
                    <a:pt x="598" y="1758"/>
                  </a:lnTo>
                  <a:lnTo>
                    <a:pt x="580" y="1758"/>
                  </a:lnTo>
                  <a:lnTo>
                    <a:pt x="580" y="1753"/>
                  </a:lnTo>
                  <a:lnTo>
                    <a:pt x="489" y="1753"/>
                  </a:lnTo>
                  <a:lnTo>
                    <a:pt x="489" y="1747"/>
                  </a:lnTo>
                  <a:lnTo>
                    <a:pt x="472" y="1747"/>
                  </a:lnTo>
                  <a:lnTo>
                    <a:pt x="472" y="1753"/>
                  </a:lnTo>
                  <a:lnTo>
                    <a:pt x="449" y="1753"/>
                  </a:lnTo>
                  <a:lnTo>
                    <a:pt x="449" y="1747"/>
                  </a:lnTo>
                  <a:lnTo>
                    <a:pt x="381" y="1747"/>
                  </a:lnTo>
                  <a:lnTo>
                    <a:pt x="381" y="1741"/>
                  </a:lnTo>
                  <a:lnTo>
                    <a:pt x="318" y="1741"/>
                  </a:lnTo>
                  <a:lnTo>
                    <a:pt x="318" y="1735"/>
                  </a:lnTo>
                  <a:lnTo>
                    <a:pt x="256" y="1735"/>
                  </a:lnTo>
                  <a:lnTo>
                    <a:pt x="256" y="1730"/>
                  </a:lnTo>
                  <a:lnTo>
                    <a:pt x="210" y="1730"/>
                  </a:lnTo>
                  <a:lnTo>
                    <a:pt x="210" y="1723"/>
                  </a:lnTo>
                  <a:lnTo>
                    <a:pt x="159" y="1723"/>
                  </a:lnTo>
                  <a:lnTo>
                    <a:pt x="159" y="1718"/>
                  </a:lnTo>
                  <a:lnTo>
                    <a:pt x="147" y="1718"/>
                  </a:lnTo>
                  <a:lnTo>
                    <a:pt x="147" y="1713"/>
                  </a:lnTo>
                  <a:lnTo>
                    <a:pt x="125" y="1713"/>
                  </a:lnTo>
                  <a:lnTo>
                    <a:pt x="125" y="1707"/>
                  </a:lnTo>
                  <a:lnTo>
                    <a:pt x="80" y="1707"/>
                  </a:lnTo>
                  <a:lnTo>
                    <a:pt x="80" y="1701"/>
                  </a:lnTo>
                  <a:lnTo>
                    <a:pt x="16" y="1701"/>
                  </a:lnTo>
                  <a:lnTo>
                    <a:pt x="16" y="1696"/>
                  </a:lnTo>
                  <a:lnTo>
                    <a:pt x="0" y="1696"/>
                  </a:lnTo>
                  <a:lnTo>
                    <a:pt x="0" y="1673"/>
                  </a:lnTo>
                  <a:lnTo>
                    <a:pt x="40" y="1673"/>
                  </a:lnTo>
                  <a:lnTo>
                    <a:pt x="40" y="1667"/>
                  </a:lnTo>
                  <a:lnTo>
                    <a:pt x="45" y="1667"/>
                  </a:lnTo>
                  <a:lnTo>
                    <a:pt x="45" y="1650"/>
                  </a:lnTo>
                  <a:lnTo>
                    <a:pt x="62" y="1650"/>
                  </a:lnTo>
                  <a:lnTo>
                    <a:pt x="62" y="1656"/>
                  </a:lnTo>
                  <a:lnTo>
                    <a:pt x="80" y="1656"/>
                  </a:lnTo>
                  <a:lnTo>
                    <a:pt x="80" y="1661"/>
                  </a:lnTo>
                  <a:lnTo>
                    <a:pt x="97" y="1661"/>
                  </a:lnTo>
                  <a:lnTo>
                    <a:pt x="97" y="1667"/>
                  </a:lnTo>
                  <a:lnTo>
                    <a:pt x="119" y="1667"/>
                  </a:lnTo>
                  <a:lnTo>
                    <a:pt x="119" y="1673"/>
                  </a:lnTo>
                  <a:lnTo>
                    <a:pt x="154" y="1673"/>
                  </a:lnTo>
                  <a:lnTo>
                    <a:pt x="154" y="1678"/>
                  </a:lnTo>
                  <a:lnTo>
                    <a:pt x="171" y="1678"/>
                  </a:lnTo>
                  <a:lnTo>
                    <a:pt x="171" y="1684"/>
                  </a:lnTo>
                  <a:lnTo>
                    <a:pt x="232" y="1684"/>
                  </a:lnTo>
                  <a:lnTo>
                    <a:pt x="232" y="1690"/>
                  </a:lnTo>
                  <a:lnTo>
                    <a:pt x="256" y="1690"/>
                  </a:lnTo>
                  <a:lnTo>
                    <a:pt x="256" y="1696"/>
                  </a:lnTo>
                  <a:lnTo>
                    <a:pt x="290" y="1696"/>
                  </a:lnTo>
                  <a:lnTo>
                    <a:pt x="290" y="1701"/>
                  </a:lnTo>
                  <a:lnTo>
                    <a:pt x="306" y="1701"/>
                  </a:lnTo>
                  <a:lnTo>
                    <a:pt x="306" y="1707"/>
                  </a:lnTo>
                  <a:lnTo>
                    <a:pt x="330" y="1707"/>
                  </a:lnTo>
                  <a:lnTo>
                    <a:pt x="330" y="1713"/>
                  </a:lnTo>
                  <a:lnTo>
                    <a:pt x="358" y="1713"/>
                  </a:lnTo>
                  <a:lnTo>
                    <a:pt x="358" y="1718"/>
                  </a:lnTo>
                  <a:lnTo>
                    <a:pt x="404" y="1718"/>
                  </a:lnTo>
                  <a:lnTo>
                    <a:pt x="404" y="1723"/>
                  </a:lnTo>
                  <a:lnTo>
                    <a:pt x="444" y="1723"/>
                  </a:lnTo>
                  <a:lnTo>
                    <a:pt x="444" y="1730"/>
                  </a:lnTo>
                  <a:lnTo>
                    <a:pt x="541" y="1730"/>
                  </a:lnTo>
                  <a:lnTo>
                    <a:pt x="541" y="1723"/>
                  </a:lnTo>
                  <a:lnTo>
                    <a:pt x="563" y="1723"/>
                  </a:lnTo>
                  <a:lnTo>
                    <a:pt x="563" y="1730"/>
                  </a:lnTo>
                  <a:lnTo>
                    <a:pt x="779" y="1730"/>
                  </a:lnTo>
                  <a:lnTo>
                    <a:pt x="779" y="1735"/>
                  </a:lnTo>
                  <a:lnTo>
                    <a:pt x="824" y="1735"/>
                  </a:lnTo>
                  <a:lnTo>
                    <a:pt x="824" y="1741"/>
                  </a:lnTo>
                  <a:lnTo>
                    <a:pt x="848" y="1741"/>
                  </a:lnTo>
                  <a:lnTo>
                    <a:pt x="848" y="1747"/>
                  </a:lnTo>
                  <a:lnTo>
                    <a:pt x="893" y="1747"/>
                  </a:lnTo>
                  <a:lnTo>
                    <a:pt x="893" y="1753"/>
                  </a:lnTo>
                  <a:lnTo>
                    <a:pt x="939" y="1753"/>
                  </a:lnTo>
                  <a:lnTo>
                    <a:pt x="939" y="1758"/>
                  </a:lnTo>
                  <a:lnTo>
                    <a:pt x="962" y="1758"/>
                  </a:lnTo>
                  <a:lnTo>
                    <a:pt x="962" y="1764"/>
                  </a:lnTo>
                  <a:lnTo>
                    <a:pt x="967" y="1764"/>
                  </a:lnTo>
                  <a:lnTo>
                    <a:pt x="967" y="1770"/>
                  </a:lnTo>
                  <a:lnTo>
                    <a:pt x="1058" y="1770"/>
                  </a:lnTo>
                  <a:lnTo>
                    <a:pt x="1058" y="1775"/>
                  </a:lnTo>
                  <a:lnTo>
                    <a:pt x="1087" y="1775"/>
                  </a:lnTo>
                  <a:lnTo>
                    <a:pt x="1087" y="1780"/>
                  </a:lnTo>
                  <a:lnTo>
                    <a:pt x="1132" y="1780"/>
                  </a:lnTo>
                  <a:lnTo>
                    <a:pt x="1132" y="1787"/>
                  </a:lnTo>
                  <a:lnTo>
                    <a:pt x="1155" y="1787"/>
                  </a:lnTo>
                  <a:lnTo>
                    <a:pt x="1155" y="1792"/>
                  </a:lnTo>
                  <a:lnTo>
                    <a:pt x="1183" y="1792"/>
                  </a:lnTo>
                  <a:lnTo>
                    <a:pt x="1183" y="1798"/>
                  </a:lnTo>
                  <a:lnTo>
                    <a:pt x="1258" y="1798"/>
                  </a:lnTo>
                  <a:lnTo>
                    <a:pt x="1258" y="1804"/>
                  </a:lnTo>
                  <a:lnTo>
                    <a:pt x="1320" y="1804"/>
                  </a:lnTo>
                  <a:lnTo>
                    <a:pt x="1320" y="1809"/>
                  </a:lnTo>
                  <a:lnTo>
                    <a:pt x="1389" y="1809"/>
                  </a:lnTo>
                  <a:lnTo>
                    <a:pt x="1389" y="1815"/>
                  </a:lnTo>
                  <a:lnTo>
                    <a:pt x="1422" y="1815"/>
                  </a:lnTo>
                  <a:lnTo>
                    <a:pt x="1422" y="1821"/>
                  </a:lnTo>
                  <a:lnTo>
                    <a:pt x="1503" y="1821"/>
                  </a:lnTo>
                  <a:lnTo>
                    <a:pt x="1503" y="1827"/>
                  </a:lnTo>
                  <a:lnTo>
                    <a:pt x="1520" y="1827"/>
                  </a:lnTo>
                  <a:lnTo>
                    <a:pt x="1520" y="1832"/>
                  </a:lnTo>
                  <a:lnTo>
                    <a:pt x="1560" y="1832"/>
                  </a:lnTo>
                  <a:lnTo>
                    <a:pt x="1560" y="1837"/>
                  </a:lnTo>
                  <a:lnTo>
                    <a:pt x="1588" y="1837"/>
                  </a:lnTo>
                  <a:lnTo>
                    <a:pt x="1588" y="1844"/>
                  </a:lnTo>
                  <a:lnTo>
                    <a:pt x="1622" y="1844"/>
                  </a:lnTo>
                  <a:lnTo>
                    <a:pt x="1622" y="1849"/>
                  </a:lnTo>
                  <a:lnTo>
                    <a:pt x="1662" y="1849"/>
                  </a:lnTo>
                  <a:lnTo>
                    <a:pt x="1662" y="1855"/>
                  </a:lnTo>
                  <a:lnTo>
                    <a:pt x="1679" y="1855"/>
                  </a:lnTo>
                  <a:lnTo>
                    <a:pt x="1679" y="1861"/>
                  </a:lnTo>
                  <a:lnTo>
                    <a:pt x="1707" y="1861"/>
                  </a:lnTo>
                  <a:lnTo>
                    <a:pt x="1707" y="1866"/>
                  </a:lnTo>
                  <a:lnTo>
                    <a:pt x="1736" y="1866"/>
                  </a:lnTo>
                  <a:lnTo>
                    <a:pt x="1736" y="1872"/>
                  </a:lnTo>
                  <a:lnTo>
                    <a:pt x="1776" y="1872"/>
                  </a:lnTo>
                  <a:lnTo>
                    <a:pt x="1776" y="1878"/>
                  </a:lnTo>
                  <a:lnTo>
                    <a:pt x="1826" y="1878"/>
                  </a:lnTo>
                  <a:lnTo>
                    <a:pt x="1826" y="1884"/>
                  </a:lnTo>
                  <a:lnTo>
                    <a:pt x="1890" y="1884"/>
                  </a:lnTo>
                  <a:lnTo>
                    <a:pt x="1890" y="1889"/>
                  </a:lnTo>
                  <a:lnTo>
                    <a:pt x="1912" y="1889"/>
                  </a:lnTo>
                  <a:lnTo>
                    <a:pt x="1912" y="1884"/>
                  </a:lnTo>
                  <a:lnTo>
                    <a:pt x="2004" y="1884"/>
                  </a:lnTo>
                  <a:lnTo>
                    <a:pt x="2004" y="1878"/>
                  </a:lnTo>
                  <a:lnTo>
                    <a:pt x="2066" y="1878"/>
                  </a:lnTo>
                  <a:lnTo>
                    <a:pt x="2066" y="1884"/>
                  </a:lnTo>
                  <a:lnTo>
                    <a:pt x="2214" y="1884"/>
                  </a:lnTo>
                  <a:lnTo>
                    <a:pt x="2214" y="1878"/>
                  </a:lnTo>
                  <a:lnTo>
                    <a:pt x="2259" y="1878"/>
                  </a:lnTo>
                  <a:lnTo>
                    <a:pt x="2259" y="1884"/>
                  </a:lnTo>
                  <a:lnTo>
                    <a:pt x="2316" y="1884"/>
                  </a:lnTo>
                  <a:lnTo>
                    <a:pt x="2316" y="1889"/>
                  </a:lnTo>
                  <a:lnTo>
                    <a:pt x="2361" y="1889"/>
                  </a:lnTo>
                  <a:lnTo>
                    <a:pt x="2361" y="1894"/>
                  </a:lnTo>
                  <a:lnTo>
                    <a:pt x="2425" y="1894"/>
                  </a:lnTo>
                  <a:lnTo>
                    <a:pt x="2425" y="1901"/>
                  </a:lnTo>
                  <a:lnTo>
                    <a:pt x="2465" y="1901"/>
                  </a:lnTo>
                  <a:lnTo>
                    <a:pt x="2465" y="1906"/>
                  </a:lnTo>
                  <a:lnTo>
                    <a:pt x="2499" y="1906"/>
                  </a:lnTo>
                  <a:lnTo>
                    <a:pt x="2499" y="1912"/>
                  </a:lnTo>
                  <a:lnTo>
                    <a:pt x="2550" y="1912"/>
                  </a:lnTo>
                  <a:lnTo>
                    <a:pt x="2550" y="1918"/>
                  </a:lnTo>
                  <a:lnTo>
                    <a:pt x="2584" y="1918"/>
                  </a:lnTo>
                  <a:lnTo>
                    <a:pt x="2584" y="1923"/>
                  </a:lnTo>
                  <a:lnTo>
                    <a:pt x="2630" y="1923"/>
                  </a:lnTo>
                  <a:lnTo>
                    <a:pt x="2630" y="1929"/>
                  </a:lnTo>
                  <a:lnTo>
                    <a:pt x="2652" y="1929"/>
                  </a:lnTo>
                  <a:lnTo>
                    <a:pt x="2652" y="1935"/>
                  </a:lnTo>
                  <a:lnTo>
                    <a:pt x="2760" y="1935"/>
                  </a:lnTo>
                  <a:lnTo>
                    <a:pt x="2760" y="1941"/>
                  </a:lnTo>
                  <a:lnTo>
                    <a:pt x="2852" y="1941"/>
                  </a:lnTo>
                  <a:lnTo>
                    <a:pt x="2852" y="1946"/>
                  </a:lnTo>
                  <a:lnTo>
                    <a:pt x="2891" y="1946"/>
                  </a:lnTo>
                  <a:lnTo>
                    <a:pt x="2891" y="1951"/>
                  </a:lnTo>
                  <a:lnTo>
                    <a:pt x="2936" y="1951"/>
                  </a:lnTo>
                  <a:lnTo>
                    <a:pt x="2936" y="1958"/>
                  </a:lnTo>
                  <a:lnTo>
                    <a:pt x="3050" y="1958"/>
                  </a:lnTo>
                  <a:lnTo>
                    <a:pt x="3050" y="1941"/>
                  </a:lnTo>
                  <a:lnTo>
                    <a:pt x="3062" y="1941"/>
                  </a:lnTo>
                  <a:lnTo>
                    <a:pt x="3062" y="1951"/>
                  </a:lnTo>
                  <a:lnTo>
                    <a:pt x="3085" y="1951"/>
                  </a:lnTo>
                  <a:lnTo>
                    <a:pt x="3085" y="1958"/>
                  </a:lnTo>
                  <a:lnTo>
                    <a:pt x="3142" y="1958"/>
                  </a:lnTo>
                  <a:lnTo>
                    <a:pt x="3142" y="1963"/>
                  </a:lnTo>
                  <a:lnTo>
                    <a:pt x="3221" y="1963"/>
                  </a:lnTo>
                  <a:lnTo>
                    <a:pt x="3221" y="1968"/>
                  </a:lnTo>
                  <a:lnTo>
                    <a:pt x="3273" y="1968"/>
                  </a:lnTo>
                  <a:lnTo>
                    <a:pt x="3273" y="1975"/>
                  </a:lnTo>
                  <a:lnTo>
                    <a:pt x="3335" y="1975"/>
                  </a:lnTo>
                  <a:lnTo>
                    <a:pt x="3335" y="1980"/>
                  </a:lnTo>
                  <a:lnTo>
                    <a:pt x="3375" y="1980"/>
                  </a:lnTo>
                  <a:lnTo>
                    <a:pt x="3375" y="1986"/>
                  </a:lnTo>
                  <a:lnTo>
                    <a:pt x="3421" y="1986"/>
                  </a:lnTo>
                  <a:lnTo>
                    <a:pt x="3421" y="1992"/>
                  </a:lnTo>
                  <a:lnTo>
                    <a:pt x="3494" y="1992"/>
                  </a:lnTo>
                  <a:lnTo>
                    <a:pt x="3494" y="1997"/>
                  </a:lnTo>
                  <a:lnTo>
                    <a:pt x="3523" y="1997"/>
                  </a:lnTo>
                  <a:lnTo>
                    <a:pt x="3523" y="2003"/>
                  </a:lnTo>
                  <a:lnTo>
                    <a:pt x="3574" y="2003"/>
                  </a:lnTo>
                  <a:lnTo>
                    <a:pt x="3574" y="2009"/>
                  </a:lnTo>
                  <a:lnTo>
                    <a:pt x="3603" y="2009"/>
                  </a:lnTo>
                  <a:lnTo>
                    <a:pt x="3603" y="2015"/>
                  </a:lnTo>
                  <a:lnTo>
                    <a:pt x="3625" y="2015"/>
                  </a:lnTo>
                  <a:lnTo>
                    <a:pt x="3625" y="2020"/>
                  </a:lnTo>
                  <a:lnTo>
                    <a:pt x="3677" y="2020"/>
                  </a:lnTo>
                  <a:lnTo>
                    <a:pt x="3677" y="2025"/>
                  </a:lnTo>
                  <a:lnTo>
                    <a:pt x="3729" y="2025"/>
                  </a:lnTo>
                  <a:lnTo>
                    <a:pt x="3729" y="2031"/>
                  </a:lnTo>
                  <a:lnTo>
                    <a:pt x="3779" y="2031"/>
                  </a:lnTo>
                  <a:lnTo>
                    <a:pt x="3779" y="2037"/>
                  </a:lnTo>
                  <a:lnTo>
                    <a:pt x="3791" y="2037"/>
                  </a:lnTo>
                  <a:lnTo>
                    <a:pt x="3791" y="2031"/>
                  </a:lnTo>
                  <a:lnTo>
                    <a:pt x="3870" y="2031"/>
                  </a:lnTo>
                  <a:lnTo>
                    <a:pt x="3870" y="2025"/>
                  </a:lnTo>
                  <a:lnTo>
                    <a:pt x="3888" y="2025"/>
                  </a:lnTo>
                  <a:lnTo>
                    <a:pt x="3888" y="2031"/>
                  </a:lnTo>
                  <a:lnTo>
                    <a:pt x="3921" y="2031"/>
                  </a:lnTo>
                  <a:lnTo>
                    <a:pt x="3921" y="2025"/>
                  </a:lnTo>
                  <a:lnTo>
                    <a:pt x="3927" y="2025"/>
                  </a:lnTo>
                  <a:lnTo>
                    <a:pt x="3927" y="2020"/>
                  </a:lnTo>
                  <a:lnTo>
                    <a:pt x="3933" y="2020"/>
                  </a:lnTo>
                  <a:lnTo>
                    <a:pt x="3933" y="2015"/>
                  </a:lnTo>
                  <a:lnTo>
                    <a:pt x="3938" y="2015"/>
                  </a:lnTo>
                  <a:lnTo>
                    <a:pt x="3938" y="2009"/>
                  </a:lnTo>
                  <a:lnTo>
                    <a:pt x="3945" y="2009"/>
                  </a:lnTo>
                  <a:lnTo>
                    <a:pt x="3945" y="1975"/>
                  </a:lnTo>
                  <a:lnTo>
                    <a:pt x="3950" y="1975"/>
                  </a:lnTo>
                  <a:lnTo>
                    <a:pt x="3950" y="1968"/>
                  </a:lnTo>
                  <a:lnTo>
                    <a:pt x="3967" y="1968"/>
                  </a:lnTo>
                  <a:lnTo>
                    <a:pt x="3967" y="1963"/>
                  </a:lnTo>
                  <a:lnTo>
                    <a:pt x="3973" y="1963"/>
                  </a:lnTo>
                  <a:lnTo>
                    <a:pt x="3973" y="1958"/>
                  </a:lnTo>
                  <a:lnTo>
                    <a:pt x="3979" y="1958"/>
                  </a:lnTo>
                  <a:lnTo>
                    <a:pt x="3979" y="1951"/>
                  </a:lnTo>
                  <a:lnTo>
                    <a:pt x="3984" y="1951"/>
                  </a:lnTo>
                  <a:lnTo>
                    <a:pt x="3984" y="1946"/>
                  </a:lnTo>
                  <a:lnTo>
                    <a:pt x="3990" y="1946"/>
                  </a:lnTo>
                  <a:lnTo>
                    <a:pt x="3990" y="1941"/>
                  </a:lnTo>
                  <a:lnTo>
                    <a:pt x="3995" y="1941"/>
                  </a:lnTo>
                  <a:lnTo>
                    <a:pt x="3995" y="1935"/>
                  </a:lnTo>
                  <a:lnTo>
                    <a:pt x="4002" y="1935"/>
                  </a:lnTo>
                  <a:lnTo>
                    <a:pt x="4002" y="1929"/>
                  </a:lnTo>
                  <a:lnTo>
                    <a:pt x="4007" y="1929"/>
                  </a:lnTo>
                  <a:lnTo>
                    <a:pt x="4007" y="1918"/>
                  </a:lnTo>
                  <a:lnTo>
                    <a:pt x="4012" y="1918"/>
                  </a:lnTo>
                  <a:lnTo>
                    <a:pt x="4012" y="1912"/>
                  </a:lnTo>
                  <a:lnTo>
                    <a:pt x="4019" y="1912"/>
                  </a:lnTo>
                  <a:lnTo>
                    <a:pt x="4019" y="1901"/>
                  </a:lnTo>
                  <a:lnTo>
                    <a:pt x="4024" y="1901"/>
                  </a:lnTo>
                  <a:lnTo>
                    <a:pt x="4024" y="1894"/>
                  </a:lnTo>
                  <a:lnTo>
                    <a:pt x="4036" y="1894"/>
                  </a:lnTo>
                  <a:lnTo>
                    <a:pt x="4036" y="1889"/>
                  </a:lnTo>
                  <a:lnTo>
                    <a:pt x="4041" y="1889"/>
                  </a:lnTo>
                  <a:lnTo>
                    <a:pt x="4041" y="1878"/>
                  </a:lnTo>
                  <a:lnTo>
                    <a:pt x="4052" y="1878"/>
                  </a:lnTo>
                  <a:lnTo>
                    <a:pt x="4052" y="1872"/>
                  </a:lnTo>
                  <a:lnTo>
                    <a:pt x="4059" y="1872"/>
                  </a:lnTo>
                  <a:lnTo>
                    <a:pt x="4059" y="1866"/>
                  </a:lnTo>
                  <a:lnTo>
                    <a:pt x="4064" y="1866"/>
                  </a:lnTo>
                  <a:lnTo>
                    <a:pt x="4064" y="1855"/>
                  </a:lnTo>
                  <a:lnTo>
                    <a:pt x="4069" y="1855"/>
                  </a:lnTo>
                  <a:lnTo>
                    <a:pt x="4069" y="1849"/>
                  </a:lnTo>
                  <a:lnTo>
                    <a:pt x="4076" y="1849"/>
                  </a:lnTo>
                  <a:lnTo>
                    <a:pt x="4076" y="1837"/>
                  </a:lnTo>
                  <a:lnTo>
                    <a:pt x="4081" y="1837"/>
                  </a:lnTo>
                  <a:lnTo>
                    <a:pt x="4081" y="1832"/>
                  </a:lnTo>
                  <a:lnTo>
                    <a:pt x="4087" y="1832"/>
                  </a:lnTo>
                  <a:lnTo>
                    <a:pt x="4087" y="1827"/>
                  </a:lnTo>
                  <a:lnTo>
                    <a:pt x="4093" y="1827"/>
                  </a:lnTo>
                  <a:lnTo>
                    <a:pt x="4093" y="1809"/>
                  </a:lnTo>
                  <a:lnTo>
                    <a:pt x="4098" y="1809"/>
                  </a:lnTo>
                  <a:lnTo>
                    <a:pt x="4098" y="1804"/>
                  </a:lnTo>
                  <a:lnTo>
                    <a:pt x="4104" y="1804"/>
                  </a:lnTo>
                  <a:lnTo>
                    <a:pt x="4104" y="1792"/>
                  </a:lnTo>
                  <a:lnTo>
                    <a:pt x="4109" y="1792"/>
                  </a:lnTo>
                  <a:lnTo>
                    <a:pt x="4109" y="1780"/>
                  </a:lnTo>
                  <a:lnTo>
                    <a:pt x="4116" y="1780"/>
                  </a:lnTo>
                  <a:lnTo>
                    <a:pt x="4116" y="1770"/>
                  </a:lnTo>
                  <a:lnTo>
                    <a:pt x="4121" y="1770"/>
                  </a:lnTo>
                  <a:lnTo>
                    <a:pt x="4121" y="1747"/>
                  </a:lnTo>
                  <a:lnTo>
                    <a:pt x="4126" y="1747"/>
                  </a:lnTo>
                  <a:lnTo>
                    <a:pt x="4126" y="1741"/>
                  </a:lnTo>
                  <a:lnTo>
                    <a:pt x="4133" y="1741"/>
                  </a:lnTo>
                  <a:lnTo>
                    <a:pt x="4133" y="1735"/>
                  </a:lnTo>
                  <a:lnTo>
                    <a:pt x="4138" y="1735"/>
                  </a:lnTo>
                  <a:lnTo>
                    <a:pt x="4138" y="1723"/>
                  </a:lnTo>
                  <a:lnTo>
                    <a:pt x="4143" y="1723"/>
                  </a:lnTo>
                  <a:lnTo>
                    <a:pt x="4143" y="1713"/>
                  </a:lnTo>
                  <a:lnTo>
                    <a:pt x="4150" y="1713"/>
                  </a:lnTo>
                  <a:lnTo>
                    <a:pt x="4150" y="1701"/>
                  </a:lnTo>
                  <a:lnTo>
                    <a:pt x="4155" y="1701"/>
                  </a:lnTo>
                  <a:lnTo>
                    <a:pt x="4155" y="1690"/>
                  </a:lnTo>
                  <a:lnTo>
                    <a:pt x="4161" y="1690"/>
                  </a:lnTo>
                  <a:lnTo>
                    <a:pt x="4161" y="1678"/>
                  </a:lnTo>
                  <a:lnTo>
                    <a:pt x="4166" y="1678"/>
                  </a:lnTo>
                  <a:lnTo>
                    <a:pt x="4166" y="1661"/>
                  </a:lnTo>
                  <a:lnTo>
                    <a:pt x="4173" y="1661"/>
                  </a:lnTo>
                  <a:lnTo>
                    <a:pt x="4173" y="1650"/>
                  </a:lnTo>
                  <a:lnTo>
                    <a:pt x="4178" y="1650"/>
                  </a:lnTo>
                  <a:lnTo>
                    <a:pt x="4178" y="1639"/>
                  </a:lnTo>
                  <a:lnTo>
                    <a:pt x="4183" y="1639"/>
                  </a:lnTo>
                  <a:lnTo>
                    <a:pt x="4183" y="1627"/>
                  </a:lnTo>
                  <a:lnTo>
                    <a:pt x="4190" y="1627"/>
                  </a:lnTo>
                  <a:lnTo>
                    <a:pt x="4190" y="1611"/>
                  </a:lnTo>
                  <a:lnTo>
                    <a:pt x="4195" y="1611"/>
                  </a:lnTo>
                  <a:lnTo>
                    <a:pt x="4195" y="1604"/>
                  </a:lnTo>
                  <a:lnTo>
                    <a:pt x="4200" y="1604"/>
                  </a:lnTo>
                  <a:lnTo>
                    <a:pt x="4200" y="1593"/>
                  </a:lnTo>
                  <a:lnTo>
                    <a:pt x="4207" y="1593"/>
                  </a:lnTo>
                  <a:lnTo>
                    <a:pt x="4207" y="1571"/>
                  </a:lnTo>
                  <a:lnTo>
                    <a:pt x="4212" y="1571"/>
                  </a:lnTo>
                  <a:lnTo>
                    <a:pt x="4212" y="1559"/>
                  </a:lnTo>
                  <a:lnTo>
                    <a:pt x="4218" y="1559"/>
                  </a:lnTo>
                  <a:lnTo>
                    <a:pt x="4218" y="1547"/>
                  </a:lnTo>
                  <a:lnTo>
                    <a:pt x="4223" y="1547"/>
                  </a:lnTo>
                  <a:lnTo>
                    <a:pt x="4223" y="1531"/>
                  </a:lnTo>
                  <a:lnTo>
                    <a:pt x="4229" y="1531"/>
                  </a:lnTo>
                  <a:lnTo>
                    <a:pt x="4229" y="1519"/>
                  </a:lnTo>
                  <a:lnTo>
                    <a:pt x="4235" y="1519"/>
                  </a:lnTo>
                  <a:lnTo>
                    <a:pt x="4235" y="1502"/>
                  </a:lnTo>
                  <a:lnTo>
                    <a:pt x="4240" y="1502"/>
                  </a:lnTo>
                  <a:lnTo>
                    <a:pt x="4240" y="1490"/>
                  </a:lnTo>
                  <a:lnTo>
                    <a:pt x="4247" y="1490"/>
                  </a:lnTo>
                  <a:lnTo>
                    <a:pt x="4247" y="1468"/>
                  </a:lnTo>
                  <a:lnTo>
                    <a:pt x="4252" y="1468"/>
                  </a:lnTo>
                  <a:lnTo>
                    <a:pt x="4252" y="1343"/>
                  </a:lnTo>
                  <a:lnTo>
                    <a:pt x="4247" y="1343"/>
                  </a:lnTo>
                  <a:lnTo>
                    <a:pt x="4247" y="1319"/>
                  </a:lnTo>
                  <a:lnTo>
                    <a:pt x="4252" y="1319"/>
                  </a:lnTo>
                  <a:lnTo>
                    <a:pt x="4252" y="1223"/>
                  </a:lnTo>
                  <a:lnTo>
                    <a:pt x="4247" y="1223"/>
                  </a:lnTo>
                  <a:lnTo>
                    <a:pt x="4247" y="1200"/>
                  </a:lnTo>
                  <a:lnTo>
                    <a:pt x="4240" y="1200"/>
                  </a:lnTo>
                  <a:lnTo>
                    <a:pt x="4240" y="1155"/>
                  </a:lnTo>
                  <a:lnTo>
                    <a:pt x="4235" y="1155"/>
                  </a:lnTo>
                  <a:lnTo>
                    <a:pt x="4235" y="1138"/>
                  </a:lnTo>
                  <a:lnTo>
                    <a:pt x="4229" y="1138"/>
                  </a:lnTo>
                  <a:lnTo>
                    <a:pt x="4229" y="1127"/>
                  </a:lnTo>
                  <a:lnTo>
                    <a:pt x="4223" y="1127"/>
                  </a:lnTo>
                  <a:lnTo>
                    <a:pt x="4223" y="1110"/>
                  </a:lnTo>
                  <a:lnTo>
                    <a:pt x="4218" y="1110"/>
                  </a:lnTo>
                  <a:lnTo>
                    <a:pt x="4218" y="1058"/>
                  </a:lnTo>
                  <a:lnTo>
                    <a:pt x="4212" y="1058"/>
                  </a:lnTo>
                  <a:lnTo>
                    <a:pt x="4212" y="1041"/>
                  </a:lnTo>
                  <a:lnTo>
                    <a:pt x="4207" y="1041"/>
                  </a:lnTo>
                  <a:lnTo>
                    <a:pt x="4207" y="1024"/>
                  </a:lnTo>
                  <a:lnTo>
                    <a:pt x="4200" y="1024"/>
                  </a:lnTo>
                  <a:lnTo>
                    <a:pt x="4200" y="1001"/>
                  </a:lnTo>
                  <a:lnTo>
                    <a:pt x="4195" y="1001"/>
                  </a:lnTo>
                  <a:lnTo>
                    <a:pt x="4195" y="967"/>
                  </a:lnTo>
                  <a:lnTo>
                    <a:pt x="4190" y="967"/>
                  </a:lnTo>
                  <a:lnTo>
                    <a:pt x="4190" y="944"/>
                  </a:lnTo>
                  <a:lnTo>
                    <a:pt x="4183" y="944"/>
                  </a:lnTo>
                  <a:lnTo>
                    <a:pt x="4183" y="905"/>
                  </a:lnTo>
                  <a:lnTo>
                    <a:pt x="4178" y="905"/>
                  </a:lnTo>
                  <a:lnTo>
                    <a:pt x="4178" y="888"/>
                  </a:lnTo>
                  <a:lnTo>
                    <a:pt x="4173" y="888"/>
                  </a:lnTo>
                  <a:lnTo>
                    <a:pt x="4173" y="853"/>
                  </a:lnTo>
                  <a:lnTo>
                    <a:pt x="4166" y="853"/>
                  </a:lnTo>
                  <a:lnTo>
                    <a:pt x="4166" y="831"/>
                  </a:lnTo>
                  <a:lnTo>
                    <a:pt x="4161" y="831"/>
                  </a:lnTo>
                  <a:lnTo>
                    <a:pt x="4161" y="802"/>
                  </a:lnTo>
                  <a:lnTo>
                    <a:pt x="4155" y="802"/>
                  </a:lnTo>
                  <a:lnTo>
                    <a:pt x="4155" y="768"/>
                  </a:lnTo>
                  <a:lnTo>
                    <a:pt x="4150" y="768"/>
                  </a:lnTo>
                  <a:lnTo>
                    <a:pt x="4150" y="751"/>
                  </a:lnTo>
                  <a:lnTo>
                    <a:pt x="4143" y="751"/>
                  </a:lnTo>
                  <a:lnTo>
                    <a:pt x="4143" y="717"/>
                  </a:lnTo>
                  <a:lnTo>
                    <a:pt x="4138" y="717"/>
                  </a:lnTo>
                  <a:lnTo>
                    <a:pt x="4138" y="699"/>
                  </a:lnTo>
                  <a:lnTo>
                    <a:pt x="4133" y="699"/>
                  </a:lnTo>
                  <a:lnTo>
                    <a:pt x="4133" y="682"/>
                  </a:lnTo>
                  <a:lnTo>
                    <a:pt x="4126" y="682"/>
                  </a:lnTo>
                  <a:lnTo>
                    <a:pt x="4126" y="660"/>
                  </a:lnTo>
                  <a:lnTo>
                    <a:pt x="4121" y="660"/>
                  </a:lnTo>
                  <a:lnTo>
                    <a:pt x="4121" y="637"/>
                  </a:lnTo>
                  <a:lnTo>
                    <a:pt x="4116" y="637"/>
                  </a:lnTo>
                  <a:lnTo>
                    <a:pt x="4116" y="625"/>
                  </a:lnTo>
                  <a:lnTo>
                    <a:pt x="4109" y="625"/>
                  </a:lnTo>
                  <a:lnTo>
                    <a:pt x="4109" y="597"/>
                  </a:lnTo>
                  <a:lnTo>
                    <a:pt x="4104" y="597"/>
                  </a:lnTo>
                  <a:lnTo>
                    <a:pt x="4104" y="575"/>
                  </a:lnTo>
                  <a:lnTo>
                    <a:pt x="4098" y="575"/>
                  </a:lnTo>
                  <a:lnTo>
                    <a:pt x="4098" y="563"/>
                  </a:lnTo>
                  <a:lnTo>
                    <a:pt x="4093" y="563"/>
                  </a:lnTo>
                  <a:lnTo>
                    <a:pt x="4093" y="540"/>
                  </a:lnTo>
                  <a:lnTo>
                    <a:pt x="4087" y="540"/>
                  </a:lnTo>
                  <a:lnTo>
                    <a:pt x="4087" y="518"/>
                  </a:lnTo>
                  <a:lnTo>
                    <a:pt x="4081" y="518"/>
                  </a:lnTo>
                  <a:lnTo>
                    <a:pt x="4081" y="494"/>
                  </a:lnTo>
                  <a:lnTo>
                    <a:pt x="4076" y="494"/>
                  </a:lnTo>
                  <a:lnTo>
                    <a:pt x="4076" y="472"/>
                  </a:lnTo>
                  <a:lnTo>
                    <a:pt x="4069" y="472"/>
                  </a:lnTo>
                  <a:lnTo>
                    <a:pt x="4069" y="455"/>
                  </a:lnTo>
                  <a:lnTo>
                    <a:pt x="4064" y="455"/>
                  </a:lnTo>
                  <a:lnTo>
                    <a:pt x="4064" y="432"/>
                  </a:lnTo>
                  <a:lnTo>
                    <a:pt x="4059" y="432"/>
                  </a:lnTo>
                  <a:lnTo>
                    <a:pt x="4059" y="415"/>
                  </a:lnTo>
                  <a:lnTo>
                    <a:pt x="4052" y="415"/>
                  </a:lnTo>
                  <a:lnTo>
                    <a:pt x="4052" y="404"/>
                  </a:lnTo>
                  <a:lnTo>
                    <a:pt x="4047" y="404"/>
                  </a:lnTo>
                  <a:lnTo>
                    <a:pt x="4047" y="376"/>
                  </a:lnTo>
                  <a:lnTo>
                    <a:pt x="4041" y="376"/>
                  </a:lnTo>
                  <a:lnTo>
                    <a:pt x="4041" y="359"/>
                  </a:lnTo>
                  <a:lnTo>
                    <a:pt x="4036" y="359"/>
                  </a:lnTo>
                  <a:lnTo>
                    <a:pt x="4036" y="342"/>
                  </a:lnTo>
                  <a:lnTo>
                    <a:pt x="4030" y="342"/>
                  </a:lnTo>
                  <a:lnTo>
                    <a:pt x="4030" y="307"/>
                  </a:lnTo>
                  <a:lnTo>
                    <a:pt x="4024" y="307"/>
                  </a:lnTo>
                  <a:lnTo>
                    <a:pt x="4024" y="295"/>
                  </a:lnTo>
                  <a:lnTo>
                    <a:pt x="4019" y="295"/>
                  </a:lnTo>
                  <a:lnTo>
                    <a:pt x="4019" y="285"/>
                  </a:lnTo>
                  <a:lnTo>
                    <a:pt x="4012" y="285"/>
                  </a:lnTo>
                  <a:lnTo>
                    <a:pt x="4012" y="261"/>
                  </a:lnTo>
                  <a:lnTo>
                    <a:pt x="4007" y="261"/>
                  </a:lnTo>
                  <a:lnTo>
                    <a:pt x="4007" y="256"/>
                  </a:lnTo>
                  <a:lnTo>
                    <a:pt x="4002" y="256"/>
                  </a:lnTo>
                  <a:lnTo>
                    <a:pt x="4002" y="228"/>
                  </a:lnTo>
                  <a:lnTo>
                    <a:pt x="3995" y="228"/>
                  </a:lnTo>
                  <a:lnTo>
                    <a:pt x="3995" y="204"/>
                  </a:lnTo>
                  <a:lnTo>
                    <a:pt x="3990" y="204"/>
                  </a:lnTo>
                  <a:lnTo>
                    <a:pt x="3990" y="188"/>
                  </a:lnTo>
                  <a:lnTo>
                    <a:pt x="3984" y="188"/>
                  </a:lnTo>
                  <a:lnTo>
                    <a:pt x="3984" y="171"/>
                  </a:lnTo>
                  <a:lnTo>
                    <a:pt x="3979" y="171"/>
                  </a:lnTo>
                  <a:lnTo>
                    <a:pt x="3979" y="159"/>
                  </a:lnTo>
                  <a:lnTo>
                    <a:pt x="3973" y="159"/>
                  </a:lnTo>
                  <a:lnTo>
                    <a:pt x="3973" y="136"/>
                  </a:lnTo>
                  <a:lnTo>
                    <a:pt x="3967" y="136"/>
                  </a:lnTo>
                  <a:lnTo>
                    <a:pt x="3967" y="119"/>
                  </a:lnTo>
                  <a:lnTo>
                    <a:pt x="3973" y="119"/>
                  </a:lnTo>
                  <a:lnTo>
                    <a:pt x="3973" y="107"/>
                  </a:lnTo>
                  <a:lnTo>
                    <a:pt x="3967" y="107"/>
                  </a:lnTo>
                  <a:lnTo>
                    <a:pt x="3967" y="97"/>
                  </a:lnTo>
                  <a:lnTo>
                    <a:pt x="3955" y="97"/>
                  </a:lnTo>
                  <a:lnTo>
                    <a:pt x="3955" y="90"/>
                  </a:lnTo>
                  <a:lnTo>
                    <a:pt x="3933" y="90"/>
                  </a:lnTo>
                  <a:lnTo>
                    <a:pt x="3933" y="85"/>
                  </a:lnTo>
                  <a:lnTo>
                    <a:pt x="3927" y="85"/>
                  </a:lnTo>
                  <a:lnTo>
                    <a:pt x="3927" y="80"/>
                  </a:lnTo>
                  <a:lnTo>
                    <a:pt x="3921" y="80"/>
                  </a:lnTo>
                  <a:lnTo>
                    <a:pt x="3921" y="68"/>
                  </a:lnTo>
                  <a:lnTo>
                    <a:pt x="3910" y="68"/>
                  </a:lnTo>
                  <a:lnTo>
                    <a:pt x="3910" y="62"/>
                  </a:lnTo>
                  <a:lnTo>
                    <a:pt x="3888" y="62"/>
                  </a:lnTo>
                  <a:lnTo>
                    <a:pt x="3888" y="57"/>
                  </a:lnTo>
                  <a:lnTo>
                    <a:pt x="3853" y="57"/>
                  </a:lnTo>
                  <a:lnTo>
                    <a:pt x="3853" y="50"/>
                  </a:lnTo>
                  <a:lnTo>
                    <a:pt x="3825" y="50"/>
                  </a:lnTo>
                  <a:lnTo>
                    <a:pt x="3825" y="45"/>
                  </a:lnTo>
                  <a:lnTo>
                    <a:pt x="3705" y="45"/>
                  </a:lnTo>
                  <a:lnTo>
                    <a:pt x="3705" y="40"/>
                  </a:lnTo>
                  <a:lnTo>
                    <a:pt x="3700" y="40"/>
                  </a:lnTo>
                  <a:lnTo>
                    <a:pt x="3700" y="33"/>
                  </a:lnTo>
                  <a:lnTo>
                    <a:pt x="3677" y="33"/>
                  </a:lnTo>
                  <a:lnTo>
                    <a:pt x="3677" y="28"/>
                  </a:lnTo>
                  <a:lnTo>
                    <a:pt x="3608" y="28"/>
                  </a:lnTo>
                  <a:lnTo>
                    <a:pt x="3608" y="33"/>
                  </a:lnTo>
                  <a:lnTo>
                    <a:pt x="3574" y="33"/>
                  </a:lnTo>
                  <a:lnTo>
                    <a:pt x="3574" y="28"/>
                  </a:lnTo>
                  <a:lnTo>
                    <a:pt x="3558" y="28"/>
                  </a:lnTo>
                  <a:lnTo>
                    <a:pt x="3558" y="33"/>
                  </a:lnTo>
                  <a:lnTo>
                    <a:pt x="3494" y="33"/>
                  </a:lnTo>
                  <a:lnTo>
                    <a:pt x="3494" y="40"/>
                  </a:lnTo>
                  <a:lnTo>
                    <a:pt x="3466" y="40"/>
                  </a:lnTo>
                  <a:lnTo>
                    <a:pt x="3466" y="45"/>
                  </a:lnTo>
                  <a:lnTo>
                    <a:pt x="3415" y="45"/>
                  </a:lnTo>
                  <a:lnTo>
                    <a:pt x="3415" y="50"/>
                  </a:lnTo>
                  <a:lnTo>
                    <a:pt x="3381" y="50"/>
                  </a:lnTo>
                  <a:lnTo>
                    <a:pt x="3381" y="57"/>
                  </a:lnTo>
                  <a:lnTo>
                    <a:pt x="3358" y="57"/>
                  </a:lnTo>
                  <a:lnTo>
                    <a:pt x="3358" y="62"/>
                  </a:lnTo>
                  <a:lnTo>
                    <a:pt x="3341" y="62"/>
                  </a:lnTo>
                  <a:lnTo>
                    <a:pt x="3341" y="68"/>
                  </a:lnTo>
                  <a:lnTo>
                    <a:pt x="3318" y="68"/>
                  </a:lnTo>
                  <a:lnTo>
                    <a:pt x="3318" y="74"/>
                  </a:lnTo>
                  <a:lnTo>
                    <a:pt x="3284" y="74"/>
                  </a:lnTo>
                  <a:lnTo>
                    <a:pt x="3284" y="80"/>
                  </a:lnTo>
                  <a:lnTo>
                    <a:pt x="3273" y="80"/>
                  </a:lnTo>
                  <a:lnTo>
                    <a:pt x="3273" y="85"/>
                  </a:lnTo>
                  <a:lnTo>
                    <a:pt x="3238" y="85"/>
                  </a:lnTo>
                  <a:lnTo>
                    <a:pt x="3238" y="62"/>
                  </a:lnTo>
                  <a:lnTo>
                    <a:pt x="3250" y="62"/>
                  </a:lnTo>
                  <a:lnTo>
                    <a:pt x="3250" y="57"/>
                  </a:lnTo>
                  <a:lnTo>
                    <a:pt x="3295" y="57"/>
                  </a:lnTo>
                  <a:lnTo>
                    <a:pt x="3295" y="50"/>
                  </a:lnTo>
                  <a:lnTo>
                    <a:pt x="3307" y="50"/>
                  </a:lnTo>
                  <a:lnTo>
                    <a:pt x="3307" y="45"/>
                  </a:lnTo>
                  <a:lnTo>
                    <a:pt x="3335" y="45"/>
                  </a:lnTo>
                  <a:lnTo>
                    <a:pt x="3335" y="40"/>
                  </a:lnTo>
                  <a:lnTo>
                    <a:pt x="3341" y="40"/>
                  </a:lnTo>
                  <a:lnTo>
                    <a:pt x="3341" y="33"/>
                  </a:lnTo>
                  <a:lnTo>
                    <a:pt x="3358" y="33"/>
                  </a:lnTo>
                  <a:lnTo>
                    <a:pt x="3358" y="28"/>
                  </a:lnTo>
                  <a:lnTo>
                    <a:pt x="3409" y="28"/>
                  </a:lnTo>
                  <a:lnTo>
                    <a:pt x="3409" y="23"/>
                  </a:lnTo>
                  <a:lnTo>
                    <a:pt x="3466" y="23"/>
                  </a:lnTo>
                  <a:lnTo>
                    <a:pt x="3466" y="17"/>
                  </a:lnTo>
                  <a:lnTo>
                    <a:pt x="3494" y="17"/>
                  </a:lnTo>
                  <a:lnTo>
                    <a:pt x="3494" y="11"/>
                  </a:lnTo>
                  <a:lnTo>
                    <a:pt x="3517" y="11"/>
                  </a:lnTo>
                  <a:lnTo>
                    <a:pt x="3517" y="5"/>
                  </a:lnTo>
                  <a:lnTo>
                    <a:pt x="3558" y="5"/>
                  </a:lnTo>
                  <a:lnTo>
                    <a:pt x="3558" y="11"/>
                  </a:lnTo>
                  <a:lnTo>
                    <a:pt x="3574" y="11"/>
                  </a:lnTo>
                  <a:lnTo>
                    <a:pt x="3574" y="5"/>
                  </a:lnTo>
                  <a:lnTo>
                    <a:pt x="3615" y="5"/>
                  </a:lnTo>
                  <a:lnTo>
                    <a:pt x="3615" y="0"/>
                  </a:lnTo>
                  <a:lnTo>
                    <a:pt x="3637" y="0"/>
                  </a:lnTo>
                  <a:lnTo>
                    <a:pt x="3637" y="5"/>
                  </a:lnTo>
                  <a:lnTo>
                    <a:pt x="3672" y="5"/>
                  </a:lnTo>
                  <a:lnTo>
                    <a:pt x="3672" y="11"/>
                  </a:lnTo>
                  <a:lnTo>
                    <a:pt x="3689" y="11"/>
                  </a:lnTo>
                  <a:lnTo>
                    <a:pt x="3689" y="5"/>
                  </a:lnTo>
                  <a:lnTo>
                    <a:pt x="3711" y="5"/>
                  </a:lnTo>
                  <a:lnTo>
                    <a:pt x="3711" y="0"/>
                  </a:lnTo>
                  <a:lnTo>
                    <a:pt x="3729" y="0"/>
                  </a:lnTo>
                  <a:lnTo>
                    <a:pt x="3729" y="5"/>
                  </a:lnTo>
                  <a:lnTo>
                    <a:pt x="3786" y="5"/>
                  </a:lnTo>
                  <a:lnTo>
                    <a:pt x="3786" y="11"/>
                  </a:lnTo>
                  <a:lnTo>
                    <a:pt x="3819" y="11"/>
                  </a:lnTo>
                  <a:lnTo>
                    <a:pt x="3819" y="17"/>
                  </a:lnTo>
                  <a:lnTo>
                    <a:pt x="3848" y="17"/>
                  </a:lnTo>
                  <a:lnTo>
                    <a:pt x="3848" y="23"/>
                  </a:lnTo>
                  <a:lnTo>
                    <a:pt x="3860" y="23"/>
                  </a:lnTo>
                  <a:lnTo>
                    <a:pt x="3860" y="17"/>
                  </a:lnTo>
                  <a:lnTo>
                    <a:pt x="3888" y="17"/>
                  </a:lnTo>
                  <a:lnTo>
                    <a:pt x="3888" y="23"/>
                  </a:lnTo>
                  <a:lnTo>
                    <a:pt x="3898" y="23"/>
                  </a:lnTo>
                  <a:lnTo>
                    <a:pt x="3898" y="28"/>
                  </a:lnTo>
                  <a:lnTo>
                    <a:pt x="3910" y="28"/>
                  </a:lnTo>
                  <a:lnTo>
                    <a:pt x="3910" y="33"/>
                  </a:lnTo>
                  <a:lnTo>
                    <a:pt x="3921" y="33"/>
                  </a:lnTo>
                  <a:lnTo>
                    <a:pt x="3921" y="40"/>
                  </a:lnTo>
                  <a:lnTo>
                    <a:pt x="3938" y="40"/>
                  </a:lnTo>
                  <a:lnTo>
                    <a:pt x="3938" y="45"/>
                  </a:lnTo>
                  <a:lnTo>
                    <a:pt x="3950" y="45"/>
                  </a:lnTo>
                  <a:lnTo>
                    <a:pt x="3950" y="50"/>
                  </a:lnTo>
                  <a:lnTo>
                    <a:pt x="3955" y="50"/>
                  </a:lnTo>
                  <a:lnTo>
                    <a:pt x="3955" y="57"/>
                  </a:lnTo>
                  <a:lnTo>
                    <a:pt x="3973" y="57"/>
                  </a:lnTo>
                  <a:lnTo>
                    <a:pt x="3973" y="62"/>
                  </a:lnTo>
                  <a:lnTo>
                    <a:pt x="3979" y="62"/>
                  </a:lnTo>
                  <a:lnTo>
                    <a:pt x="3979" y="68"/>
                  </a:lnTo>
                  <a:lnTo>
                    <a:pt x="3990" y="68"/>
                  </a:lnTo>
                  <a:lnTo>
                    <a:pt x="3990" y="80"/>
                  </a:lnTo>
                  <a:lnTo>
                    <a:pt x="3995" y="80"/>
                  </a:lnTo>
                  <a:lnTo>
                    <a:pt x="3995" y="102"/>
                  </a:lnTo>
                  <a:lnTo>
                    <a:pt x="4002" y="102"/>
                  </a:lnTo>
                  <a:lnTo>
                    <a:pt x="4002" y="147"/>
                  </a:lnTo>
                  <a:lnTo>
                    <a:pt x="4007" y="147"/>
                  </a:lnTo>
                  <a:lnTo>
                    <a:pt x="4007" y="164"/>
                  </a:lnTo>
                  <a:lnTo>
                    <a:pt x="4012" y="164"/>
                  </a:lnTo>
                  <a:lnTo>
                    <a:pt x="4012" y="176"/>
                  </a:lnTo>
                  <a:lnTo>
                    <a:pt x="4019" y="176"/>
                  </a:lnTo>
                  <a:lnTo>
                    <a:pt x="4019" y="199"/>
                  </a:lnTo>
                  <a:lnTo>
                    <a:pt x="4024" y="199"/>
                  </a:lnTo>
                  <a:lnTo>
                    <a:pt x="4024" y="221"/>
                  </a:lnTo>
                  <a:lnTo>
                    <a:pt x="4030" y="221"/>
                  </a:lnTo>
                  <a:lnTo>
                    <a:pt x="4030" y="250"/>
                  </a:lnTo>
                  <a:lnTo>
                    <a:pt x="4036" y="250"/>
                  </a:lnTo>
                  <a:lnTo>
                    <a:pt x="4036" y="268"/>
                  </a:lnTo>
                  <a:lnTo>
                    <a:pt x="4041" y="268"/>
                  </a:lnTo>
                  <a:lnTo>
                    <a:pt x="4041" y="290"/>
                  </a:lnTo>
                  <a:lnTo>
                    <a:pt x="4047" y="290"/>
                  </a:lnTo>
                  <a:lnTo>
                    <a:pt x="4047" y="302"/>
                  </a:lnTo>
                  <a:lnTo>
                    <a:pt x="4052" y="302"/>
                  </a:lnTo>
                  <a:lnTo>
                    <a:pt x="4052" y="319"/>
                  </a:lnTo>
                  <a:lnTo>
                    <a:pt x="4059" y="319"/>
                  </a:lnTo>
                  <a:lnTo>
                    <a:pt x="4059" y="335"/>
                  </a:lnTo>
                  <a:lnTo>
                    <a:pt x="4064" y="335"/>
                  </a:lnTo>
                  <a:lnTo>
                    <a:pt x="4064" y="359"/>
                  </a:lnTo>
                  <a:lnTo>
                    <a:pt x="4069" y="359"/>
                  </a:lnTo>
                  <a:lnTo>
                    <a:pt x="4069" y="370"/>
                  </a:lnTo>
                  <a:lnTo>
                    <a:pt x="4076" y="370"/>
                  </a:lnTo>
                  <a:lnTo>
                    <a:pt x="4076" y="387"/>
                  </a:lnTo>
                  <a:lnTo>
                    <a:pt x="4081" y="387"/>
                  </a:lnTo>
                  <a:lnTo>
                    <a:pt x="4081" y="404"/>
                  </a:lnTo>
                  <a:lnTo>
                    <a:pt x="4087" y="404"/>
                  </a:lnTo>
                  <a:lnTo>
                    <a:pt x="4087" y="421"/>
                  </a:lnTo>
                  <a:lnTo>
                    <a:pt x="4093" y="421"/>
                  </a:lnTo>
                  <a:lnTo>
                    <a:pt x="4093" y="432"/>
                  </a:lnTo>
                  <a:lnTo>
                    <a:pt x="4098" y="432"/>
                  </a:lnTo>
                  <a:lnTo>
                    <a:pt x="4098" y="461"/>
                  </a:lnTo>
                  <a:lnTo>
                    <a:pt x="4104" y="461"/>
                  </a:lnTo>
                  <a:lnTo>
                    <a:pt x="4104" y="484"/>
                  </a:lnTo>
                  <a:lnTo>
                    <a:pt x="4109" y="484"/>
                  </a:lnTo>
                  <a:lnTo>
                    <a:pt x="4109" y="501"/>
                  </a:lnTo>
                  <a:lnTo>
                    <a:pt x="4116" y="501"/>
                  </a:lnTo>
                  <a:lnTo>
                    <a:pt x="4116" y="529"/>
                  </a:lnTo>
                  <a:lnTo>
                    <a:pt x="4121" y="529"/>
                  </a:lnTo>
                  <a:lnTo>
                    <a:pt x="4121" y="551"/>
                  </a:lnTo>
                  <a:lnTo>
                    <a:pt x="4126" y="551"/>
                  </a:lnTo>
                  <a:lnTo>
                    <a:pt x="4126" y="575"/>
                  </a:lnTo>
                  <a:lnTo>
                    <a:pt x="4133" y="575"/>
                  </a:lnTo>
                  <a:lnTo>
                    <a:pt x="4133" y="597"/>
                  </a:lnTo>
                  <a:lnTo>
                    <a:pt x="4138" y="597"/>
                  </a:lnTo>
                  <a:lnTo>
                    <a:pt x="4138" y="625"/>
                  </a:lnTo>
                  <a:lnTo>
                    <a:pt x="4143" y="625"/>
                  </a:lnTo>
                  <a:lnTo>
                    <a:pt x="4143" y="643"/>
                  </a:lnTo>
                  <a:lnTo>
                    <a:pt x="4150" y="643"/>
                  </a:lnTo>
                  <a:lnTo>
                    <a:pt x="4150" y="666"/>
                  </a:lnTo>
                  <a:lnTo>
                    <a:pt x="4155" y="666"/>
                  </a:lnTo>
                  <a:lnTo>
                    <a:pt x="4155" y="677"/>
                  </a:lnTo>
                  <a:lnTo>
                    <a:pt x="4161" y="677"/>
                  </a:lnTo>
                  <a:lnTo>
                    <a:pt x="4161" y="694"/>
                  </a:lnTo>
                  <a:lnTo>
                    <a:pt x="4166" y="694"/>
                  </a:lnTo>
                  <a:lnTo>
                    <a:pt x="4166" y="711"/>
                  </a:lnTo>
                  <a:lnTo>
                    <a:pt x="4173" y="711"/>
                  </a:lnTo>
                  <a:lnTo>
                    <a:pt x="4173" y="729"/>
                  </a:lnTo>
                  <a:lnTo>
                    <a:pt x="4178" y="729"/>
                  </a:lnTo>
                  <a:lnTo>
                    <a:pt x="4178" y="751"/>
                  </a:lnTo>
                  <a:lnTo>
                    <a:pt x="4183" y="751"/>
                  </a:lnTo>
                  <a:lnTo>
                    <a:pt x="4183" y="785"/>
                  </a:lnTo>
                  <a:lnTo>
                    <a:pt x="4190" y="785"/>
                  </a:lnTo>
                  <a:lnTo>
                    <a:pt x="4190" y="813"/>
                  </a:lnTo>
                  <a:lnTo>
                    <a:pt x="4195" y="813"/>
                  </a:lnTo>
                  <a:lnTo>
                    <a:pt x="4195" y="841"/>
                  </a:lnTo>
                  <a:lnTo>
                    <a:pt x="4200" y="841"/>
                  </a:lnTo>
                  <a:lnTo>
                    <a:pt x="4200" y="865"/>
                  </a:lnTo>
                  <a:lnTo>
                    <a:pt x="4207" y="865"/>
                  </a:lnTo>
                  <a:lnTo>
                    <a:pt x="4207" y="882"/>
                  </a:lnTo>
                  <a:lnTo>
                    <a:pt x="4212" y="882"/>
                  </a:lnTo>
                  <a:lnTo>
                    <a:pt x="4212" y="893"/>
                  </a:lnTo>
                  <a:lnTo>
                    <a:pt x="4218" y="893"/>
                  </a:lnTo>
                  <a:lnTo>
                    <a:pt x="4218" y="905"/>
                  </a:lnTo>
                  <a:lnTo>
                    <a:pt x="4223" y="905"/>
                  </a:lnTo>
                  <a:lnTo>
                    <a:pt x="4223" y="927"/>
                  </a:lnTo>
                  <a:lnTo>
                    <a:pt x="4229" y="927"/>
                  </a:lnTo>
                  <a:lnTo>
                    <a:pt x="4229" y="950"/>
                  </a:lnTo>
                  <a:lnTo>
                    <a:pt x="4235" y="950"/>
                  </a:lnTo>
                  <a:lnTo>
                    <a:pt x="4235" y="967"/>
                  </a:lnTo>
                  <a:lnTo>
                    <a:pt x="4240" y="967"/>
                  </a:lnTo>
                  <a:lnTo>
                    <a:pt x="4240" y="990"/>
                  </a:lnTo>
                  <a:lnTo>
                    <a:pt x="4247" y="990"/>
                  </a:lnTo>
                  <a:lnTo>
                    <a:pt x="4247" y="1013"/>
                  </a:lnTo>
                  <a:lnTo>
                    <a:pt x="4252" y="1013"/>
                  </a:lnTo>
                  <a:lnTo>
                    <a:pt x="4252" y="1036"/>
                  </a:lnTo>
                  <a:lnTo>
                    <a:pt x="4257" y="1036"/>
                  </a:lnTo>
                  <a:lnTo>
                    <a:pt x="4257" y="1053"/>
                  </a:lnTo>
                  <a:lnTo>
                    <a:pt x="4264" y="1053"/>
                  </a:lnTo>
                  <a:lnTo>
                    <a:pt x="4264" y="1086"/>
                  </a:lnTo>
                  <a:lnTo>
                    <a:pt x="4269" y="1086"/>
                  </a:lnTo>
                  <a:lnTo>
                    <a:pt x="4269" y="1127"/>
                  </a:lnTo>
                  <a:lnTo>
                    <a:pt x="4275" y="1127"/>
                  </a:lnTo>
                  <a:lnTo>
                    <a:pt x="4275" y="1143"/>
                  </a:lnTo>
                  <a:lnTo>
                    <a:pt x="4280" y="1143"/>
                  </a:lnTo>
                  <a:lnTo>
                    <a:pt x="4280" y="1184"/>
                  </a:lnTo>
                  <a:lnTo>
                    <a:pt x="4285" y="1184"/>
                  </a:lnTo>
                  <a:lnTo>
                    <a:pt x="4285" y="1229"/>
                  </a:lnTo>
                  <a:lnTo>
                    <a:pt x="4292" y="1229"/>
                  </a:lnTo>
                  <a:lnTo>
                    <a:pt x="4292" y="1405"/>
                  </a:lnTo>
                  <a:lnTo>
                    <a:pt x="4285" y="1405"/>
                  </a:lnTo>
                  <a:lnTo>
                    <a:pt x="4285" y="1451"/>
                  </a:lnTo>
                  <a:lnTo>
                    <a:pt x="4280" y="1451"/>
                  </a:lnTo>
                  <a:lnTo>
                    <a:pt x="4280" y="1480"/>
                  </a:lnTo>
                  <a:lnTo>
                    <a:pt x="4275" y="1480"/>
                  </a:lnTo>
                  <a:lnTo>
                    <a:pt x="4275" y="1502"/>
                  </a:lnTo>
                  <a:lnTo>
                    <a:pt x="4269" y="1502"/>
                  </a:lnTo>
                  <a:lnTo>
                    <a:pt x="4269" y="1514"/>
                  </a:lnTo>
                  <a:lnTo>
                    <a:pt x="4264" y="1514"/>
                  </a:lnTo>
                  <a:lnTo>
                    <a:pt x="4264" y="1531"/>
                  </a:lnTo>
                  <a:lnTo>
                    <a:pt x="4257" y="1531"/>
                  </a:lnTo>
                  <a:lnTo>
                    <a:pt x="4257" y="1542"/>
                  </a:lnTo>
                  <a:lnTo>
                    <a:pt x="4252" y="1542"/>
                  </a:lnTo>
                  <a:lnTo>
                    <a:pt x="4252" y="1554"/>
                  </a:lnTo>
                  <a:lnTo>
                    <a:pt x="4247" y="1554"/>
                  </a:lnTo>
                  <a:lnTo>
                    <a:pt x="4247" y="1576"/>
                  </a:lnTo>
                  <a:lnTo>
                    <a:pt x="4240" y="1576"/>
                  </a:lnTo>
                  <a:lnTo>
                    <a:pt x="4240" y="1588"/>
                  </a:lnTo>
                  <a:lnTo>
                    <a:pt x="4235" y="1588"/>
                  </a:lnTo>
                  <a:lnTo>
                    <a:pt x="4235" y="1599"/>
                  </a:lnTo>
                  <a:lnTo>
                    <a:pt x="4229" y="1599"/>
                  </a:lnTo>
                  <a:lnTo>
                    <a:pt x="4229" y="1616"/>
                  </a:lnTo>
                  <a:lnTo>
                    <a:pt x="4223" y="1616"/>
                  </a:lnTo>
                  <a:lnTo>
                    <a:pt x="4223" y="1627"/>
                  </a:lnTo>
                  <a:lnTo>
                    <a:pt x="4218" y="1627"/>
                  </a:lnTo>
                  <a:lnTo>
                    <a:pt x="4218" y="1633"/>
                  </a:lnTo>
                  <a:lnTo>
                    <a:pt x="4212" y="1633"/>
                  </a:lnTo>
                  <a:lnTo>
                    <a:pt x="4212" y="1644"/>
                  </a:lnTo>
                  <a:lnTo>
                    <a:pt x="4207" y="1644"/>
                  </a:lnTo>
                  <a:lnTo>
                    <a:pt x="4207" y="1656"/>
                  </a:lnTo>
                  <a:lnTo>
                    <a:pt x="4200" y="1656"/>
                  </a:lnTo>
                  <a:lnTo>
                    <a:pt x="4200" y="1667"/>
                  </a:lnTo>
                  <a:lnTo>
                    <a:pt x="4195" y="1667"/>
                  </a:lnTo>
                  <a:lnTo>
                    <a:pt x="4195" y="1678"/>
                  </a:lnTo>
                  <a:lnTo>
                    <a:pt x="4190" y="1678"/>
                  </a:lnTo>
                  <a:lnTo>
                    <a:pt x="4190" y="1696"/>
                  </a:lnTo>
                  <a:lnTo>
                    <a:pt x="4183" y="1696"/>
                  </a:lnTo>
                  <a:lnTo>
                    <a:pt x="4183" y="1701"/>
                  </a:lnTo>
                  <a:lnTo>
                    <a:pt x="4178" y="1701"/>
                  </a:lnTo>
                  <a:lnTo>
                    <a:pt x="4178" y="1718"/>
                  </a:lnTo>
                  <a:lnTo>
                    <a:pt x="4173" y="1718"/>
                  </a:lnTo>
                  <a:lnTo>
                    <a:pt x="4173" y="1723"/>
                  </a:lnTo>
                  <a:lnTo>
                    <a:pt x="4166" y="1723"/>
                  </a:lnTo>
                  <a:lnTo>
                    <a:pt x="4166" y="1735"/>
                  </a:lnTo>
                  <a:lnTo>
                    <a:pt x="4161" y="1735"/>
                  </a:lnTo>
                  <a:lnTo>
                    <a:pt x="4161" y="1753"/>
                  </a:lnTo>
                  <a:lnTo>
                    <a:pt x="4155" y="1753"/>
                  </a:lnTo>
                  <a:lnTo>
                    <a:pt x="4155" y="1764"/>
                  </a:lnTo>
                  <a:lnTo>
                    <a:pt x="4150" y="1764"/>
                  </a:lnTo>
                  <a:lnTo>
                    <a:pt x="4150" y="1775"/>
                  </a:lnTo>
                  <a:lnTo>
                    <a:pt x="4143" y="1775"/>
                  </a:lnTo>
                  <a:lnTo>
                    <a:pt x="4143" y="1787"/>
                  </a:lnTo>
                  <a:lnTo>
                    <a:pt x="4138" y="1787"/>
                  </a:lnTo>
                  <a:lnTo>
                    <a:pt x="4138" y="1798"/>
                  </a:lnTo>
                  <a:lnTo>
                    <a:pt x="4133" y="1798"/>
                  </a:lnTo>
                  <a:lnTo>
                    <a:pt x="4133" y="1809"/>
                  </a:lnTo>
                  <a:lnTo>
                    <a:pt x="4126" y="1809"/>
                  </a:lnTo>
                  <a:lnTo>
                    <a:pt x="4126" y="1827"/>
                  </a:lnTo>
                  <a:lnTo>
                    <a:pt x="4121" y="1827"/>
                  </a:lnTo>
                  <a:lnTo>
                    <a:pt x="4121" y="1837"/>
                  </a:lnTo>
                  <a:lnTo>
                    <a:pt x="4116" y="1837"/>
                  </a:lnTo>
                  <a:lnTo>
                    <a:pt x="4116" y="1849"/>
                  </a:lnTo>
                  <a:lnTo>
                    <a:pt x="4109" y="1849"/>
                  </a:lnTo>
                  <a:lnTo>
                    <a:pt x="4109" y="1861"/>
                  </a:lnTo>
                  <a:lnTo>
                    <a:pt x="4104" y="1861"/>
                  </a:lnTo>
                  <a:lnTo>
                    <a:pt x="4104" y="1866"/>
                  </a:lnTo>
                  <a:lnTo>
                    <a:pt x="4098" y="1866"/>
                  </a:lnTo>
                  <a:lnTo>
                    <a:pt x="4098" y="1872"/>
                  </a:lnTo>
                  <a:lnTo>
                    <a:pt x="4093" y="1872"/>
                  </a:lnTo>
                  <a:lnTo>
                    <a:pt x="4093" y="1878"/>
                  </a:lnTo>
                  <a:lnTo>
                    <a:pt x="4087" y="1878"/>
                  </a:lnTo>
                  <a:lnTo>
                    <a:pt x="4087" y="1884"/>
                  </a:lnTo>
                  <a:lnTo>
                    <a:pt x="4081" y="1884"/>
                  </a:lnTo>
                  <a:lnTo>
                    <a:pt x="4081" y="1894"/>
                  </a:lnTo>
                  <a:lnTo>
                    <a:pt x="4076" y="1894"/>
                  </a:lnTo>
                  <a:lnTo>
                    <a:pt x="4076" y="1901"/>
                  </a:lnTo>
                  <a:lnTo>
                    <a:pt x="4069" y="1901"/>
                  </a:lnTo>
                  <a:lnTo>
                    <a:pt x="4069" y="1912"/>
                  </a:lnTo>
                  <a:lnTo>
                    <a:pt x="4064" y="1912"/>
                  </a:lnTo>
                  <a:lnTo>
                    <a:pt x="4064" y="1923"/>
                  </a:lnTo>
                  <a:lnTo>
                    <a:pt x="4059" y="1923"/>
                  </a:lnTo>
                  <a:lnTo>
                    <a:pt x="4059" y="1929"/>
                  </a:lnTo>
                  <a:lnTo>
                    <a:pt x="4052" y="1929"/>
                  </a:lnTo>
                  <a:lnTo>
                    <a:pt x="4052" y="1941"/>
                  </a:lnTo>
                  <a:lnTo>
                    <a:pt x="4047" y="1941"/>
                  </a:lnTo>
                  <a:lnTo>
                    <a:pt x="4047" y="1946"/>
                  </a:lnTo>
                  <a:lnTo>
                    <a:pt x="4041" y="1946"/>
                  </a:lnTo>
                  <a:lnTo>
                    <a:pt x="4041" y="1958"/>
                  </a:lnTo>
                  <a:lnTo>
                    <a:pt x="4036" y="1958"/>
                  </a:lnTo>
                  <a:lnTo>
                    <a:pt x="4036" y="1963"/>
                  </a:lnTo>
                  <a:lnTo>
                    <a:pt x="4030" y="1963"/>
                  </a:lnTo>
                  <a:lnTo>
                    <a:pt x="4030" y="1968"/>
                  </a:lnTo>
                  <a:lnTo>
                    <a:pt x="4024" y="1968"/>
                  </a:lnTo>
                  <a:lnTo>
                    <a:pt x="4024" y="1975"/>
                  </a:lnTo>
                  <a:lnTo>
                    <a:pt x="4019" y="1975"/>
                  </a:lnTo>
                  <a:lnTo>
                    <a:pt x="4019" y="1986"/>
                  </a:lnTo>
                  <a:lnTo>
                    <a:pt x="4012" y="1986"/>
                  </a:lnTo>
                  <a:lnTo>
                    <a:pt x="4012" y="1992"/>
                  </a:lnTo>
                  <a:lnTo>
                    <a:pt x="4007" y="1992"/>
                  </a:lnTo>
                  <a:lnTo>
                    <a:pt x="4007" y="2003"/>
                  </a:lnTo>
                  <a:lnTo>
                    <a:pt x="4002" y="2003"/>
                  </a:lnTo>
                  <a:lnTo>
                    <a:pt x="4002" y="2009"/>
                  </a:lnTo>
                  <a:lnTo>
                    <a:pt x="3995" y="2009"/>
                  </a:lnTo>
                  <a:lnTo>
                    <a:pt x="3995" y="2020"/>
                  </a:lnTo>
                  <a:lnTo>
                    <a:pt x="3990" y="2020"/>
                  </a:lnTo>
                  <a:lnTo>
                    <a:pt x="3990" y="2043"/>
                  </a:lnTo>
                  <a:lnTo>
                    <a:pt x="3984" y="2043"/>
                  </a:lnTo>
                  <a:lnTo>
                    <a:pt x="3984" y="2048"/>
                  </a:lnTo>
                  <a:lnTo>
                    <a:pt x="3979" y="2048"/>
                  </a:lnTo>
                  <a:lnTo>
                    <a:pt x="3979" y="2060"/>
                  </a:lnTo>
                  <a:lnTo>
                    <a:pt x="3973" y="2060"/>
                  </a:lnTo>
                  <a:lnTo>
                    <a:pt x="3973" y="2065"/>
                  </a:lnTo>
                  <a:lnTo>
                    <a:pt x="3967" y="2065"/>
                  </a:lnTo>
                  <a:lnTo>
                    <a:pt x="3967" y="2077"/>
                  </a:lnTo>
                  <a:lnTo>
                    <a:pt x="3962" y="2077"/>
                  </a:lnTo>
                  <a:lnTo>
                    <a:pt x="3962" y="2082"/>
                  </a:lnTo>
                  <a:lnTo>
                    <a:pt x="3955" y="2082"/>
                  </a:lnTo>
                  <a:lnTo>
                    <a:pt x="3955" y="2088"/>
                  </a:lnTo>
                  <a:lnTo>
                    <a:pt x="3950" y="2088"/>
                  </a:lnTo>
                  <a:lnTo>
                    <a:pt x="3950" y="2094"/>
                  </a:lnTo>
                  <a:lnTo>
                    <a:pt x="3945" y="2094"/>
                  </a:lnTo>
                  <a:lnTo>
                    <a:pt x="3945" y="2100"/>
                  </a:lnTo>
                  <a:lnTo>
                    <a:pt x="3938" y="2100"/>
                  </a:lnTo>
                  <a:lnTo>
                    <a:pt x="3938" y="2105"/>
                  </a:lnTo>
                  <a:lnTo>
                    <a:pt x="3927" y="2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6473520" y="2943000"/>
              <a:ext cx="684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6364080" y="3981240"/>
              <a:ext cx="24120" cy="86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11" y="17"/>
                  </a:move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40" y="5"/>
                  </a:lnTo>
                  <a:lnTo>
                    <a:pt x="40" y="11"/>
                  </a:lnTo>
                  <a:lnTo>
                    <a:pt x="33" y="11"/>
                  </a:lnTo>
                  <a:lnTo>
                    <a:pt x="33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369680" y="3328200"/>
              <a:ext cx="932400" cy="930600"/>
            </a:xfrm>
            <a:custGeom>
              <a:avLst/>
              <a:gdLst/>
              <a:ahLst/>
              <a:rect l="l" t="t" r="r" b="b"/>
              <a:pathLst>
                <a:path w="1702" h="1697">
                  <a:moveTo>
                    <a:pt x="1366" y="1697"/>
                  </a:moveTo>
                  <a:lnTo>
                    <a:pt x="1366" y="1690"/>
                  </a:lnTo>
                  <a:lnTo>
                    <a:pt x="1360" y="1690"/>
                  </a:lnTo>
                  <a:lnTo>
                    <a:pt x="1360" y="1685"/>
                  </a:lnTo>
                  <a:lnTo>
                    <a:pt x="1349" y="1685"/>
                  </a:lnTo>
                  <a:lnTo>
                    <a:pt x="1349" y="1680"/>
                  </a:lnTo>
                  <a:lnTo>
                    <a:pt x="1343" y="1680"/>
                  </a:lnTo>
                  <a:lnTo>
                    <a:pt x="1343" y="1668"/>
                  </a:lnTo>
                  <a:lnTo>
                    <a:pt x="1337" y="1668"/>
                  </a:lnTo>
                  <a:lnTo>
                    <a:pt x="1337" y="1651"/>
                  </a:lnTo>
                  <a:lnTo>
                    <a:pt x="1343" y="1651"/>
                  </a:lnTo>
                  <a:lnTo>
                    <a:pt x="1343" y="1645"/>
                  </a:lnTo>
                  <a:lnTo>
                    <a:pt x="1355" y="1645"/>
                  </a:lnTo>
                  <a:lnTo>
                    <a:pt x="1355" y="1651"/>
                  </a:lnTo>
                  <a:lnTo>
                    <a:pt x="1417" y="1651"/>
                  </a:lnTo>
                  <a:lnTo>
                    <a:pt x="1417" y="1645"/>
                  </a:lnTo>
                  <a:lnTo>
                    <a:pt x="1441" y="1645"/>
                  </a:lnTo>
                  <a:lnTo>
                    <a:pt x="1441" y="1640"/>
                  </a:lnTo>
                  <a:lnTo>
                    <a:pt x="1468" y="1640"/>
                  </a:lnTo>
                  <a:lnTo>
                    <a:pt x="1468" y="1633"/>
                  </a:lnTo>
                  <a:lnTo>
                    <a:pt x="1498" y="1633"/>
                  </a:lnTo>
                  <a:lnTo>
                    <a:pt x="1498" y="1628"/>
                  </a:lnTo>
                  <a:lnTo>
                    <a:pt x="1525" y="1628"/>
                  </a:lnTo>
                  <a:lnTo>
                    <a:pt x="1525" y="1623"/>
                  </a:lnTo>
                  <a:lnTo>
                    <a:pt x="1543" y="1623"/>
                  </a:lnTo>
                  <a:lnTo>
                    <a:pt x="1543" y="1616"/>
                  </a:lnTo>
                  <a:lnTo>
                    <a:pt x="1554" y="1616"/>
                  </a:lnTo>
                  <a:lnTo>
                    <a:pt x="1554" y="1611"/>
                  </a:lnTo>
                  <a:lnTo>
                    <a:pt x="1582" y="1611"/>
                  </a:lnTo>
                  <a:lnTo>
                    <a:pt x="1582" y="1606"/>
                  </a:lnTo>
                  <a:lnTo>
                    <a:pt x="1605" y="1606"/>
                  </a:lnTo>
                  <a:lnTo>
                    <a:pt x="1605" y="1599"/>
                  </a:lnTo>
                  <a:lnTo>
                    <a:pt x="1622" y="1599"/>
                  </a:lnTo>
                  <a:lnTo>
                    <a:pt x="1622" y="1594"/>
                  </a:lnTo>
                  <a:lnTo>
                    <a:pt x="1639" y="1594"/>
                  </a:lnTo>
                  <a:lnTo>
                    <a:pt x="1639" y="1588"/>
                  </a:lnTo>
                  <a:lnTo>
                    <a:pt x="1645" y="1588"/>
                  </a:lnTo>
                  <a:lnTo>
                    <a:pt x="1645" y="1559"/>
                  </a:lnTo>
                  <a:lnTo>
                    <a:pt x="1639" y="1559"/>
                  </a:lnTo>
                  <a:lnTo>
                    <a:pt x="1639" y="1531"/>
                  </a:lnTo>
                  <a:lnTo>
                    <a:pt x="1634" y="1531"/>
                  </a:lnTo>
                  <a:lnTo>
                    <a:pt x="1634" y="1514"/>
                  </a:lnTo>
                  <a:lnTo>
                    <a:pt x="1639" y="1514"/>
                  </a:lnTo>
                  <a:lnTo>
                    <a:pt x="1639" y="1452"/>
                  </a:lnTo>
                  <a:lnTo>
                    <a:pt x="1634" y="1452"/>
                  </a:lnTo>
                  <a:lnTo>
                    <a:pt x="1634" y="1423"/>
                  </a:lnTo>
                  <a:lnTo>
                    <a:pt x="1629" y="1423"/>
                  </a:lnTo>
                  <a:lnTo>
                    <a:pt x="1629" y="1406"/>
                  </a:lnTo>
                  <a:lnTo>
                    <a:pt x="1622" y="1406"/>
                  </a:lnTo>
                  <a:lnTo>
                    <a:pt x="1622" y="1371"/>
                  </a:lnTo>
                  <a:lnTo>
                    <a:pt x="1617" y="1371"/>
                  </a:lnTo>
                  <a:lnTo>
                    <a:pt x="1617" y="1361"/>
                  </a:lnTo>
                  <a:lnTo>
                    <a:pt x="1611" y="1361"/>
                  </a:lnTo>
                  <a:lnTo>
                    <a:pt x="1611" y="1315"/>
                  </a:lnTo>
                  <a:lnTo>
                    <a:pt x="1605" y="1315"/>
                  </a:lnTo>
                  <a:lnTo>
                    <a:pt x="1605" y="1286"/>
                  </a:lnTo>
                  <a:lnTo>
                    <a:pt x="1600" y="1286"/>
                  </a:lnTo>
                  <a:lnTo>
                    <a:pt x="1600" y="1258"/>
                  </a:lnTo>
                  <a:lnTo>
                    <a:pt x="1594" y="1258"/>
                  </a:lnTo>
                  <a:lnTo>
                    <a:pt x="1594" y="1229"/>
                  </a:lnTo>
                  <a:lnTo>
                    <a:pt x="1588" y="1229"/>
                  </a:lnTo>
                  <a:lnTo>
                    <a:pt x="1588" y="1212"/>
                  </a:lnTo>
                  <a:lnTo>
                    <a:pt x="1582" y="1212"/>
                  </a:lnTo>
                  <a:lnTo>
                    <a:pt x="1582" y="1190"/>
                  </a:lnTo>
                  <a:lnTo>
                    <a:pt x="1577" y="1190"/>
                  </a:lnTo>
                  <a:lnTo>
                    <a:pt x="1577" y="1162"/>
                  </a:lnTo>
                  <a:lnTo>
                    <a:pt x="1571" y="1162"/>
                  </a:lnTo>
                  <a:lnTo>
                    <a:pt x="1571" y="1145"/>
                  </a:lnTo>
                  <a:lnTo>
                    <a:pt x="1565" y="1145"/>
                  </a:lnTo>
                  <a:lnTo>
                    <a:pt x="1565" y="1127"/>
                  </a:lnTo>
                  <a:lnTo>
                    <a:pt x="1560" y="1127"/>
                  </a:lnTo>
                  <a:lnTo>
                    <a:pt x="1560" y="1098"/>
                  </a:lnTo>
                  <a:lnTo>
                    <a:pt x="1554" y="1098"/>
                  </a:lnTo>
                  <a:lnTo>
                    <a:pt x="1554" y="1081"/>
                  </a:lnTo>
                  <a:lnTo>
                    <a:pt x="1548" y="1081"/>
                  </a:lnTo>
                  <a:lnTo>
                    <a:pt x="1548" y="1070"/>
                  </a:lnTo>
                  <a:lnTo>
                    <a:pt x="1543" y="1070"/>
                  </a:lnTo>
                  <a:lnTo>
                    <a:pt x="1543" y="1053"/>
                  </a:lnTo>
                  <a:lnTo>
                    <a:pt x="1537" y="1053"/>
                  </a:lnTo>
                  <a:lnTo>
                    <a:pt x="1537" y="1036"/>
                  </a:lnTo>
                  <a:lnTo>
                    <a:pt x="1531" y="1036"/>
                  </a:lnTo>
                  <a:lnTo>
                    <a:pt x="1531" y="1024"/>
                  </a:lnTo>
                  <a:lnTo>
                    <a:pt x="1525" y="1024"/>
                  </a:lnTo>
                  <a:lnTo>
                    <a:pt x="1525" y="1008"/>
                  </a:lnTo>
                  <a:lnTo>
                    <a:pt x="1520" y="1008"/>
                  </a:lnTo>
                  <a:lnTo>
                    <a:pt x="1520" y="984"/>
                  </a:lnTo>
                  <a:lnTo>
                    <a:pt x="1514" y="984"/>
                  </a:lnTo>
                  <a:lnTo>
                    <a:pt x="1514" y="967"/>
                  </a:lnTo>
                  <a:lnTo>
                    <a:pt x="1508" y="967"/>
                  </a:lnTo>
                  <a:lnTo>
                    <a:pt x="1508" y="957"/>
                  </a:lnTo>
                  <a:lnTo>
                    <a:pt x="1503" y="957"/>
                  </a:lnTo>
                  <a:lnTo>
                    <a:pt x="1503" y="939"/>
                  </a:lnTo>
                  <a:lnTo>
                    <a:pt x="1498" y="939"/>
                  </a:lnTo>
                  <a:lnTo>
                    <a:pt x="1498" y="922"/>
                  </a:lnTo>
                  <a:lnTo>
                    <a:pt x="1491" y="922"/>
                  </a:lnTo>
                  <a:lnTo>
                    <a:pt x="1491" y="911"/>
                  </a:lnTo>
                  <a:lnTo>
                    <a:pt x="1486" y="911"/>
                  </a:lnTo>
                  <a:lnTo>
                    <a:pt x="1486" y="894"/>
                  </a:lnTo>
                  <a:lnTo>
                    <a:pt x="1480" y="894"/>
                  </a:lnTo>
                  <a:lnTo>
                    <a:pt x="1480" y="860"/>
                  </a:lnTo>
                  <a:lnTo>
                    <a:pt x="1474" y="860"/>
                  </a:lnTo>
                  <a:lnTo>
                    <a:pt x="1474" y="848"/>
                  </a:lnTo>
                  <a:lnTo>
                    <a:pt x="1468" y="848"/>
                  </a:lnTo>
                  <a:lnTo>
                    <a:pt x="1468" y="837"/>
                  </a:lnTo>
                  <a:lnTo>
                    <a:pt x="1463" y="837"/>
                  </a:lnTo>
                  <a:lnTo>
                    <a:pt x="1463" y="820"/>
                  </a:lnTo>
                  <a:lnTo>
                    <a:pt x="1457" y="820"/>
                  </a:lnTo>
                  <a:lnTo>
                    <a:pt x="1457" y="803"/>
                  </a:lnTo>
                  <a:lnTo>
                    <a:pt x="1451" y="803"/>
                  </a:lnTo>
                  <a:lnTo>
                    <a:pt x="1451" y="791"/>
                  </a:lnTo>
                  <a:lnTo>
                    <a:pt x="1446" y="791"/>
                  </a:lnTo>
                  <a:lnTo>
                    <a:pt x="1446" y="780"/>
                  </a:lnTo>
                  <a:lnTo>
                    <a:pt x="1441" y="780"/>
                  </a:lnTo>
                  <a:lnTo>
                    <a:pt x="1441" y="768"/>
                  </a:lnTo>
                  <a:lnTo>
                    <a:pt x="1434" y="768"/>
                  </a:lnTo>
                  <a:lnTo>
                    <a:pt x="1434" y="758"/>
                  </a:lnTo>
                  <a:lnTo>
                    <a:pt x="1429" y="758"/>
                  </a:lnTo>
                  <a:lnTo>
                    <a:pt x="1429" y="741"/>
                  </a:lnTo>
                  <a:lnTo>
                    <a:pt x="1423" y="741"/>
                  </a:lnTo>
                  <a:lnTo>
                    <a:pt x="1423" y="723"/>
                  </a:lnTo>
                  <a:lnTo>
                    <a:pt x="1417" y="723"/>
                  </a:lnTo>
                  <a:lnTo>
                    <a:pt x="1417" y="706"/>
                  </a:lnTo>
                  <a:lnTo>
                    <a:pt x="1412" y="706"/>
                  </a:lnTo>
                  <a:lnTo>
                    <a:pt x="1412" y="701"/>
                  </a:lnTo>
                  <a:lnTo>
                    <a:pt x="1406" y="701"/>
                  </a:lnTo>
                  <a:lnTo>
                    <a:pt x="1406" y="689"/>
                  </a:lnTo>
                  <a:lnTo>
                    <a:pt x="1400" y="689"/>
                  </a:lnTo>
                  <a:lnTo>
                    <a:pt x="1400" y="684"/>
                  </a:lnTo>
                  <a:lnTo>
                    <a:pt x="1394" y="684"/>
                  </a:lnTo>
                  <a:lnTo>
                    <a:pt x="1394" y="677"/>
                  </a:lnTo>
                  <a:lnTo>
                    <a:pt x="1389" y="677"/>
                  </a:lnTo>
                  <a:lnTo>
                    <a:pt x="1389" y="672"/>
                  </a:lnTo>
                  <a:lnTo>
                    <a:pt x="1384" y="672"/>
                  </a:lnTo>
                  <a:lnTo>
                    <a:pt x="1384" y="666"/>
                  </a:lnTo>
                  <a:lnTo>
                    <a:pt x="1377" y="666"/>
                  </a:lnTo>
                  <a:lnTo>
                    <a:pt x="1377" y="661"/>
                  </a:lnTo>
                  <a:lnTo>
                    <a:pt x="1372" y="661"/>
                  </a:lnTo>
                  <a:lnTo>
                    <a:pt x="1372" y="649"/>
                  </a:lnTo>
                  <a:lnTo>
                    <a:pt x="1366" y="649"/>
                  </a:lnTo>
                  <a:lnTo>
                    <a:pt x="1366" y="637"/>
                  </a:lnTo>
                  <a:lnTo>
                    <a:pt x="1360" y="637"/>
                  </a:lnTo>
                  <a:lnTo>
                    <a:pt x="1360" y="632"/>
                  </a:lnTo>
                  <a:lnTo>
                    <a:pt x="1349" y="632"/>
                  </a:lnTo>
                  <a:lnTo>
                    <a:pt x="1349" y="627"/>
                  </a:lnTo>
                  <a:lnTo>
                    <a:pt x="1337" y="627"/>
                  </a:lnTo>
                  <a:lnTo>
                    <a:pt x="1337" y="620"/>
                  </a:lnTo>
                  <a:lnTo>
                    <a:pt x="1320" y="620"/>
                  </a:lnTo>
                  <a:lnTo>
                    <a:pt x="1320" y="615"/>
                  </a:lnTo>
                  <a:lnTo>
                    <a:pt x="1298" y="615"/>
                  </a:lnTo>
                  <a:lnTo>
                    <a:pt x="1298" y="609"/>
                  </a:lnTo>
                  <a:lnTo>
                    <a:pt x="1286" y="609"/>
                  </a:lnTo>
                  <a:lnTo>
                    <a:pt x="1286" y="603"/>
                  </a:lnTo>
                  <a:lnTo>
                    <a:pt x="1270" y="603"/>
                  </a:lnTo>
                  <a:lnTo>
                    <a:pt x="1270" y="598"/>
                  </a:lnTo>
                  <a:lnTo>
                    <a:pt x="1252" y="598"/>
                  </a:lnTo>
                  <a:lnTo>
                    <a:pt x="1252" y="592"/>
                  </a:lnTo>
                  <a:lnTo>
                    <a:pt x="1223" y="592"/>
                  </a:lnTo>
                  <a:lnTo>
                    <a:pt x="1223" y="587"/>
                  </a:lnTo>
                  <a:lnTo>
                    <a:pt x="1207" y="587"/>
                  </a:lnTo>
                  <a:lnTo>
                    <a:pt x="1207" y="580"/>
                  </a:lnTo>
                  <a:lnTo>
                    <a:pt x="1190" y="580"/>
                  </a:lnTo>
                  <a:lnTo>
                    <a:pt x="1190" y="575"/>
                  </a:lnTo>
                  <a:lnTo>
                    <a:pt x="1166" y="575"/>
                  </a:lnTo>
                  <a:lnTo>
                    <a:pt x="1166" y="570"/>
                  </a:lnTo>
                  <a:lnTo>
                    <a:pt x="1156" y="570"/>
                  </a:lnTo>
                  <a:lnTo>
                    <a:pt x="1156" y="563"/>
                  </a:lnTo>
                  <a:lnTo>
                    <a:pt x="1139" y="563"/>
                  </a:lnTo>
                  <a:lnTo>
                    <a:pt x="1139" y="558"/>
                  </a:lnTo>
                  <a:lnTo>
                    <a:pt x="1127" y="558"/>
                  </a:lnTo>
                  <a:lnTo>
                    <a:pt x="1127" y="553"/>
                  </a:lnTo>
                  <a:lnTo>
                    <a:pt x="1104" y="553"/>
                  </a:lnTo>
                  <a:lnTo>
                    <a:pt x="1104" y="546"/>
                  </a:lnTo>
                  <a:lnTo>
                    <a:pt x="1059" y="546"/>
                  </a:lnTo>
                  <a:lnTo>
                    <a:pt x="1059" y="541"/>
                  </a:lnTo>
                  <a:lnTo>
                    <a:pt x="1036" y="541"/>
                  </a:lnTo>
                  <a:lnTo>
                    <a:pt x="1036" y="535"/>
                  </a:lnTo>
                  <a:lnTo>
                    <a:pt x="1030" y="535"/>
                  </a:lnTo>
                  <a:lnTo>
                    <a:pt x="1030" y="530"/>
                  </a:lnTo>
                  <a:lnTo>
                    <a:pt x="1007" y="530"/>
                  </a:lnTo>
                  <a:lnTo>
                    <a:pt x="1007" y="524"/>
                  </a:lnTo>
                  <a:lnTo>
                    <a:pt x="996" y="524"/>
                  </a:lnTo>
                  <a:lnTo>
                    <a:pt x="996" y="518"/>
                  </a:lnTo>
                  <a:lnTo>
                    <a:pt x="990" y="518"/>
                  </a:lnTo>
                  <a:lnTo>
                    <a:pt x="990" y="513"/>
                  </a:lnTo>
                  <a:lnTo>
                    <a:pt x="979" y="513"/>
                  </a:lnTo>
                  <a:lnTo>
                    <a:pt x="979" y="507"/>
                  </a:lnTo>
                  <a:lnTo>
                    <a:pt x="968" y="507"/>
                  </a:lnTo>
                  <a:lnTo>
                    <a:pt x="968" y="501"/>
                  </a:lnTo>
                  <a:lnTo>
                    <a:pt x="956" y="501"/>
                  </a:lnTo>
                  <a:lnTo>
                    <a:pt x="956" y="496"/>
                  </a:lnTo>
                  <a:lnTo>
                    <a:pt x="950" y="496"/>
                  </a:lnTo>
                  <a:lnTo>
                    <a:pt x="950" y="490"/>
                  </a:lnTo>
                  <a:lnTo>
                    <a:pt x="945" y="490"/>
                  </a:lnTo>
                  <a:lnTo>
                    <a:pt x="945" y="485"/>
                  </a:lnTo>
                  <a:lnTo>
                    <a:pt x="939" y="485"/>
                  </a:lnTo>
                  <a:lnTo>
                    <a:pt x="939" y="478"/>
                  </a:lnTo>
                  <a:lnTo>
                    <a:pt x="928" y="478"/>
                  </a:lnTo>
                  <a:lnTo>
                    <a:pt x="928" y="473"/>
                  </a:lnTo>
                  <a:lnTo>
                    <a:pt x="921" y="473"/>
                  </a:lnTo>
                  <a:lnTo>
                    <a:pt x="921" y="468"/>
                  </a:lnTo>
                  <a:lnTo>
                    <a:pt x="911" y="468"/>
                  </a:lnTo>
                  <a:lnTo>
                    <a:pt x="911" y="461"/>
                  </a:lnTo>
                  <a:lnTo>
                    <a:pt x="899" y="461"/>
                  </a:lnTo>
                  <a:lnTo>
                    <a:pt x="899" y="456"/>
                  </a:lnTo>
                  <a:lnTo>
                    <a:pt x="888" y="456"/>
                  </a:lnTo>
                  <a:lnTo>
                    <a:pt x="888" y="450"/>
                  </a:lnTo>
                  <a:lnTo>
                    <a:pt x="876" y="450"/>
                  </a:lnTo>
                  <a:lnTo>
                    <a:pt x="876" y="444"/>
                  </a:lnTo>
                  <a:lnTo>
                    <a:pt x="866" y="444"/>
                  </a:lnTo>
                  <a:lnTo>
                    <a:pt x="866" y="439"/>
                  </a:lnTo>
                  <a:lnTo>
                    <a:pt x="860" y="439"/>
                  </a:lnTo>
                  <a:lnTo>
                    <a:pt x="860" y="433"/>
                  </a:lnTo>
                  <a:lnTo>
                    <a:pt x="848" y="433"/>
                  </a:lnTo>
                  <a:lnTo>
                    <a:pt x="848" y="428"/>
                  </a:lnTo>
                  <a:lnTo>
                    <a:pt x="836" y="428"/>
                  </a:lnTo>
                  <a:lnTo>
                    <a:pt x="836" y="421"/>
                  </a:lnTo>
                  <a:lnTo>
                    <a:pt x="826" y="421"/>
                  </a:lnTo>
                  <a:lnTo>
                    <a:pt x="826" y="416"/>
                  </a:lnTo>
                  <a:lnTo>
                    <a:pt x="809" y="416"/>
                  </a:lnTo>
                  <a:lnTo>
                    <a:pt x="809" y="411"/>
                  </a:lnTo>
                  <a:lnTo>
                    <a:pt x="797" y="411"/>
                  </a:lnTo>
                  <a:lnTo>
                    <a:pt x="797" y="404"/>
                  </a:lnTo>
                  <a:lnTo>
                    <a:pt x="780" y="404"/>
                  </a:lnTo>
                  <a:lnTo>
                    <a:pt x="780" y="399"/>
                  </a:lnTo>
                  <a:lnTo>
                    <a:pt x="769" y="399"/>
                  </a:lnTo>
                  <a:lnTo>
                    <a:pt x="769" y="393"/>
                  </a:lnTo>
                  <a:lnTo>
                    <a:pt x="757" y="393"/>
                  </a:lnTo>
                  <a:lnTo>
                    <a:pt x="757" y="387"/>
                  </a:lnTo>
                  <a:lnTo>
                    <a:pt x="746" y="387"/>
                  </a:lnTo>
                  <a:lnTo>
                    <a:pt x="746" y="382"/>
                  </a:lnTo>
                  <a:lnTo>
                    <a:pt x="740" y="382"/>
                  </a:lnTo>
                  <a:lnTo>
                    <a:pt x="740" y="376"/>
                  </a:lnTo>
                  <a:lnTo>
                    <a:pt x="729" y="376"/>
                  </a:lnTo>
                  <a:lnTo>
                    <a:pt x="729" y="371"/>
                  </a:lnTo>
                  <a:lnTo>
                    <a:pt x="717" y="371"/>
                  </a:lnTo>
                  <a:lnTo>
                    <a:pt x="717" y="364"/>
                  </a:lnTo>
                  <a:lnTo>
                    <a:pt x="705" y="364"/>
                  </a:lnTo>
                  <a:lnTo>
                    <a:pt x="705" y="359"/>
                  </a:lnTo>
                  <a:lnTo>
                    <a:pt x="695" y="359"/>
                  </a:lnTo>
                  <a:lnTo>
                    <a:pt x="695" y="354"/>
                  </a:lnTo>
                  <a:lnTo>
                    <a:pt x="683" y="354"/>
                  </a:lnTo>
                  <a:lnTo>
                    <a:pt x="683" y="347"/>
                  </a:lnTo>
                  <a:lnTo>
                    <a:pt x="677" y="347"/>
                  </a:lnTo>
                  <a:lnTo>
                    <a:pt x="677" y="342"/>
                  </a:lnTo>
                  <a:lnTo>
                    <a:pt x="666" y="342"/>
                  </a:lnTo>
                  <a:lnTo>
                    <a:pt x="666" y="337"/>
                  </a:lnTo>
                  <a:lnTo>
                    <a:pt x="655" y="337"/>
                  </a:lnTo>
                  <a:lnTo>
                    <a:pt x="655" y="330"/>
                  </a:lnTo>
                  <a:lnTo>
                    <a:pt x="643" y="330"/>
                  </a:lnTo>
                  <a:lnTo>
                    <a:pt x="643" y="325"/>
                  </a:lnTo>
                  <a:lnTo>
                    <a:pt x="631" y="325"/>
                  </a:lnTo>
                  <a:lnTo>
                    <a:pt x="631" y="319"/>
                  </a:lnTo>
                  <a:lnTo>
                    <a:pt x="626" y="319"/>
                  </a:lnTo>
                  <a:lnTo>
                    <a:pt x="626" y="313"/>
                  </a:lnTo>
                  <a:lnTo>
                    <a:pt x="615" y="313"/>
                  </a:lnTo>
                  <a:lnTo>
                    <a:pt x="615" y="308"/>
                  </a:lnTo>
                  <a:lnTo>
                    <a:pt x="609" y="308"/>
                  </a:lnTo>
                  <a:lnTo>
                    <a:pt x="609" y="302"/>
                  </a:lnTo>
                  <a:lnTo>
                    <a:pt x="598" y="302"/>
                  </a:lnTo>
                  <a:lnTo>
                    <a:pt x="598" y="297"/>
                  </a:lnTo>
                  <a:lnTo>
                    <a:pt x="586" y="297"/>
                  </a:lnTo>
                  <a:lnTo>
                    <a:pt x="586" y="290"/>
                  </a:lnTo>
                  <a:lnTo>
                    <a:pt x="581" y="290"/>
                  </a:lnTo>
                  <a:lnTo>
                    <a:pt x="581" y="285"/>
                  </a:lnTo>
                  <a:lnTo>
                    <a:pt x="569" y="285"/>
                  </a:lnTo>
                  <a:lnTo>
                    <a:pt x="569" y="280"/>
                  </a:lnTo>
                  <a:lnTo>
                    <a:pt x="558" y="280"/>
                  </a:lnTo>
                  <a:lnTo>
                    <a:pt x="558" y="273"/>
                  </a:lnTo>
                  <a:lnTo>
                    <a:pt x="546" y="273"/>
                  </a:lnTo>
                  <a:lnTo>
                    <a:pt x="546" y="268"/>
                  </a:lnTo>
                  <a:lnTo>
                    <a:pt x="541" y="268"/>
                  </a:lnTo>
                  <a:lnTo>
                    <a:pt x="541" y="262"/>
                  </a:lnTo>
                  <a:lnTo>
                    <a:pt x="529" y="262"/>
                  </a:lnTo>
                  <a:lnTo>
                    <a:pt x="529" y="256"/>
                  </a:lnTo>
                  <a:lnTo>
                    <a:pt x="517" y="256"/>
                  </a:lnTo>
                  <a:lnTo>
                    <a:pt x="517" y="251"/>
                  </a:lnTo>
                  <a:lnTo>
                    <a:pt x="507" y="251"/>
                  </a:lnTo>
                  <a:lnTo>
                    <a:pt x="507" y="245"/>
                  </a:lnTo>
                  <a:lnTo>
                    <a:pt x="495" y="245"/>
                  </a:lnTo>
                  <a:lnTo>
                    <a:pt x="495" y="240"/>
                  </a:lnTo>
                  <a:lnTo>
                    <a:pt x="477" y="240"/>
                  </a:lnTo>
                  <a:lnTo>
                    <a:pt x="477" y="233"/>
                  </a:lnTo>
                  <a:lnTo>
                    <a:pt x="467" y="233"/>
                  </a:lnTo>
                  <a:lnTo>
                    <a:pt x="467" y="228"/>
                  </a:lnTo>
                  <a:lnTo>
                    <a:pt x="450" y="228"/>
                  </a:lnTo>
                  <a:lnTo>
                    <a:pt x="450" y="223"/>
                  </a:lnTo>
                  <a:lnTo>
                    <a:pt x="439" y="223"/>
                  </a:lnTo>
                  <a:lnTo>
                    <a:pt x="439" y="216"/>
                  </a:lnTo>
                  <a:lnTo>
                    <a:pt x="432" y="216"/>
                  </a:lnTo>
                  <a:lnTo>
                    <a:pt x="432" y="211"/>
                  </a:lnTo>
                  <a:lnTo>
                    <a:pt x="422" y="211"/>
                  </a:lnTo>
                  <a:lnTo>
                    <a:pt x="422" y="205"/>
                  </a:lnTo>
                  <a:lnTo>
                    <a:pt x="404" y="205"/>
                  </a:lnTo>
                  <a:lnTo>
                    <a:pt x="404" y="199"/>
                  </a:lnTo>
                  <a:lnTo>
                    <a:pt x="393" y="199"/>
                  </a:lnTo>
                  <a:lnTo>
                    <a:pt x="393" y="194"/>
                  </a:lnTo>
                  <a:lnTo>
                    <a:pt x="387" y="194"/>
                  </a:lnTo>
                  <a:lnTo>
                    <a:pt x="387" y="188"/>
                  </a:lnTo>
                  <a:lnTo>
                    <a:pt x="375" y="188"/>
                  </a:lnTo>
                  <a:lnTo>
                    <a:pt x="375" y="183"/>
                  </a:lnTo>
                  <a:lnTo>
                    <a:pt x="365" y="183"/>
                  </a:lnTo>
                  <a:lnTo>
                    <a:pt x="365" y="176"/>
                  </a:lnTo>
                  <a:lnTo>
                    <a:pt x="353" y="176"/>
                  </a:lnTo>
                  <a:lnTo>
                    <a:pt x="353" y="171"/>
                  </a:lnTo>
                  <a:lnTo>
                    <a:pt x="336" y="171"/>
                  </a:lnTo>
                  <a:lnTo>
                    <a:pt x="336" y="166"/>
                  </a:lnTo>
                  <a:lnTo>
                    <a:pt x="318" y="166"/>
                  </a:lnTo>
                  <a:lnTo>
                    <a:pt x="318" y="159"/>
                  </a:lnTo>
                  <a:lnTo>
                    <a:pt x="313" y="159"/>
                  </a:lnTo>
                  <a:lnTo>
                    <a:pt x="313" y="154"/>
                  </a:lnTo>
                  <a:lnTo>
                    <a:pt x="296" y="154"/>
                  </a:lnTo>
                  <a:lnTo>
                    <a:pt x="296" y="149"/>
                  </a:lnTo>
                  <a:lnTo>
                    <a:pt x="284" y="149"/>
                  </a:lnTo>
                  <a:lnTo>
                    <a:pt x="284" y="142"/>
                  </a:lnTo>
                  <a:lnTo>
                    <a:pt x="268" y="142"/>
                  </a:lnTo>
                  <a:lnTo>
                    <a:pt x="268" y="137"/>
                  </a:lnTo>
                  <a:lnTo>
                    <a:pt x="251" y="137"/>
                  </a:lnTo>
                  <a:lnTo>
                    <a:pt x="251" y="131"/>
                  </a:lnTo>
                  <a:lnTo>
                    <a:pt x="244" y="131"/>
                  </a:lnTo>
                  <a:lnTo>
                    <a:pt x="244" y="126"/>
                  </a:lnTo>
                  <a:lnTo>
                    <a:pt x="227" y="126"/>
                  </a:lnTo>
                  <a:lnTo>
                    <a:pt x="227" y="120"/>
                  </a:lnTo>
                  <a:lnTo>
                    <a:pt x="216" y="120"/>
                  </a:lnTo>
                  <a:lnTo>
                    <a:pt x="216" y="114"/>
                  </a:lnTo>
                  <a:lnTo>
                    <a:pt x="211" y="114"/>
                  </a:lnTo>
                  <a:lnTo>
                    <a:pt x="211" y="109"/>
                  </a:lnTo>
                  <a:lnTo>
                    <a:pt x="199" y="109"/>
                  </a:lnTo>
                  <a:lnTo>
                    <a:pt x="199" y="102"/>
                  </a:lnTo>
                  <a:lnTo>
                    <a:pt x="187" y="102"/>
                  </a:lnTo>
                  <a:lnTo>
                    <a:pt x="187" y="97"/>
                  </a:lnTo>
                  <a:lnTo>
                    <a:pt x="177" y="97"/>
                  </a:lnTo>
                  <a:lnTo>
                    <a:pt x="177" y="92"/>
                  </a:lnTo>
                  <a:lnTo>
                    <a:pt x="165" y="92"/>
                  </a:lnTo>
                  <a:lnTo>
                    <a:pt x="165" y="86"/>
                  </a:lnTo>
                  <a:lnTo>
                    <a:pt x="148" y="86"/>
                  </a:lnTo>
                  <a:lnTo>
                    <a:pt x="148" y="81"/>
                  </a:lnTo>
                  <a:lnTo>
                    <a:pt x="142" y="81"/>
                  </a:lnTo>
                  <a:lnTo>
                    <a:pt x="142" y="74"/>
                  </a:lnTo>
                  <a:lnTo>
                    <a:pt x="130" y="74"/>
                  </a:lnTo>
                  <a:lnTo>
                    <a:pt x="130" y="69"/>
                  </a:lnTo>
                  <a:lnTo>
                    <a:pt x="113" y="69"/>
                  </a:lnTo>
                  <a:lnTo>
                    <a:pt x="113" y="64"/>
                  </a:lnTo>
                  <a:lnTo>
                    <a:pt x="102" y="64"/>
                  </a:lnTo>
                  <a:lnTo>
                    <a:pt x="102" y="57"/>
                  </a:lnTo>
                  <a:lnTo>
                    <a:pt x="85" y="57"/>
                  </a:lnTo>
                  <a:lnTo>
                    <a:pt x="85" y="52"/>
                  </a:lnTo>
                  <a:lnTo>
                    <a:pt x="73" y="52"/>
                  </a:lnTo>
                  <a:lnTo>
                    <a:pt x="73" y="46"/>
                  </a:lnTo>
                  <a:lnTo>
                    <a:pt x="56" y="46"/>
                  </a:lnTo>
                  <a:lnTo>
                    <a:pt x="56" y="40"/>
                  </a:lnTo>
                  <a:lnTo>
                    <a:pt x="45" y="40"/>
                  </a:lnTo>
                  <a:lnTo>
                    <a:pt x="45" y="35"/>
                  </a:lnTo>
                  <a:lnTo>
                    <a:pt x="28" y="35"/>
                  </a:lnTo>
                  <a:lnTo>
                    <a:pt x="28" y="29"/>
                  </a:lnTo>
                  <a:lnTo>
                    <a:pt x="11" y="29"/>
                  </a:lnTo>
                  <a:lnTo>
                    <a:pt x="11" y="24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40" y="7"/>
                  </a:lnTo>
                  <a:lnTo>
                    <a:pt x="40" y="12"/>
                  </a:lnTo>
                  <a:lnTo>
                    <a:pt x="51" y="12"/>
                  </a:lnTo>
                  <a:lnTo>
                    <a:pt x="51" y="17"/>
                  </a:lnTo>
                  <a:lnTo>
                    <a:pt x="68" y="17"/>
                  </a:lnTo>
                  <a:lnTo>
                    <a:pt x="68" y="24"/>
                  </a:lnTo>
                  <a:lnTo>
                    <a:pt x="80" y="24"/>
                  </a:lnTo>
                  <a:lnTo>
                    <a:pt x="80" y="29"/>
                  </a:lnTo>
                  <a:lnTo>
                    <a:pt x="102" y="29"/>
                  </a:lnTo>
                  <a:lnTo>
                    <a:pt x="102" y="35"/>
                  </a:lnTo>
                  <a:lnTo>
                    <a:pt x="108" y="35"/>
                  </a:lnTo>
                  <a:lnTo>
                    <a:pt x="108" y="40"/>
                  </a:lnTo>
                  <a:lnTo>
                    <a:pt x="120" y="40"/>
                  </a:lnTo>
                  <a:lnTo>
                    <a:pt x="120" y="46"/>
                  </a:lnTo>
                  <a:lnTo>
                    <a:pt x="130" y="46"/>
                  </a:lnTo>
                  <a:lnTo>
                    <a:pt x="130" y="52"/>
                  </a:lnTo>
                  <a:lnTo>
                    <a:pt x="148" y="52"/>
                  </a:lnTo>
                  <a:lnTo>
                    <a:pt x="148" y="57"/>
                  </a:lnTo>
                  <a:lnTo>
                    <a:pt x="159" y="57"/>
                  </a:lnTo>
                  <a:lnTo>
                    <a:pt x="159" y="64"/>
                  </a:lnTo>
                  <a:lnTo>
                    <a:pt x="170" y="64"/>
                  </a:lnTo>
                  <a:lnTo>
                    <a:pt x="170" y="69"/>
                  </a:lnTo>
                  <a:lnTo>
                    <a:pt x="187" y="69"/>
                  </a:lnTo>
                  <a:lnTo>
                    <a:pt x="187" y="74"/>
                  </a:lnTo>
                  <a:lnTo>
                    <a:pt x="194" y="74"/>
                  </a:lnTo>
                  <a:lnTo>
                    <a:pt x="194" y="81"/>
                  </a:lnTo>
                  <a:lnTo>
                    <a:pt x="211" y="81"/>
                  </a:lnTo>
                  <a:lnTo>
                    <a:pt x="211" y="86"/>
                  </a:lnTo>
                  <a:lnTo>
                    <a:pt x="227" y="86"/>
                  </a:lnTo>
                  <a:lnTo>
                    <a:pt x="227" y="92"/>
                  </a:lnTo>
                  <a:lnTo>
                    <a:pt x="244" y="92"/>
                  </a:lnTo>
                  <a:lnTo>
                    <a:pt x="244" y="97"/>
                  </a:lnTo>
                  <a:lnTo>
                    <a:pt x="251" y="97"/>
                  </a:lnTo>
                  <a:lnTo>
                    <a:pt x="251" y="102"/>
                  </a:lnTo>
                  <a:lnTo>
                    <a:pt x="261" y="102"/>
                  </a:lnTo>
                  <a:lnTo>
                    <a:pt x="261" y="109"/>
                  </a:lnTo>
                  <a:lnTo>
                    <a:pt x="279" y="109"/>
                  </a:lnTo>
                  <a:lnTo>
                    <a:pt x="279" y="114"/>
                  </a:lnTo>
                  <a:lnTo>
                    <a:pt x="284" y="114"/>
                  </a:lnTo>
                  <a:lnTo>
                    <a:pt x="284" y="120"/>
                  </a:lnTo>
                  <a:lnTo>
                    <a:pt x="296" y="120"/>
                  </a:lnTo>
                  <a:lnTo>
                    <a:pt x="296" y="126"/>
                  </a:lnTo>
                  <a:lnTo>
                    <a:pt x="308" y="126"/>
                  </a:lnTo>
                  <a:lnTo>
                    <a:pt x="308" y="131"/>
                  </a:lnTo>
                  <a:lnTo>
                    <a:pt x="313" y="131"/>
                  </a:lnTo>
                  <a:lnTo>
                    <a:pt x="313" y="137"/>
                  </a:lnTo>
                  <a:lnTo>
                    <a:pt x="325" y="137"/>
                  </a:lnTo>
                  <a:lnTo>
                    <a:pt x="325" y="142"/>
                  </a:lnTo>
                  <a:lnTo>
                    <a:pt x="336" y="142"/>
                  </a:lnTo>
                  <a:lnTo>
                    <a:pt x="336" y="149"/>
                  </a:lnTo>
                  <a:lnTo>
                    <a:pt x="347" y="149"/>
                  </a:lnTo>
                  <a:lnTo>
                    <a:pt x="347" y="154"/>
                  </a:lnTo>
                  <a:lnTo>
                    <a:pt x="365" y="154"/>
                  </a:lnTo>
                  <a:lnTo>
                    <a:pt x="365" y="159"/>
                  </a:lnTo>
                  <a:lnTo>
                    <a:pt x="375" y="159"/>
                  </a:lnTo>
                  <a:lnTo>
                    <a:pt x="375" y="166"/>
                  </a:lnTo>
                  <a:lnTo>
                    <a:pt x="387" y="166"/>
                  </a:lnTo>
                  <a:lnTo>
                    <a:pt x="387" y="171"/>
                  </a:lnTo>
                  <a:lnTo>
                    <a:pt x="399" y="171"/>
                  </a:lnTo>
                  <a:lnTo>
                    <a:pt x="399" y="176"/>
                  </a:lnTo>
                  <a:lnTo>
                    <a:pt x="410" y="176"/>
                  </a:lnTo>
                  <a:lnTo>
                    <a:pt x="410" y="183"/>
                  </a:lnTo>
                  <a:lnTo>
                    <a:pt x="422" y="183"/>
                  </a:lnTo>
                  <a:lnTo>
                    <a:pt x="422" y="188"/>
                  </a:lnTo>
                  <a:lnTo>
                    <a:pt x="439" y="188"/>
                  </a:lnTo>
                  <a:lnTo>
                    <a:pt x="439" y="194"/>
                  </a:lnTo>
                  <a:lnTo>
                    <a:pt x="456" y="194"/>
                  </a:lnTo>
                  <a:lnTo>
                    <a:pt x="456" y="199"/>
                  </a:lnTo>
                  <a:lnTo>
                    <a:pt x="467" y="199"/>
                  </a:lnTo>
                  <a:lnTo>
                    <a:pt x="467" y="205"/>
                  </a:lnTo>
                  <a:lnTo>
                    <a:pt x="477" y="205"/>
                  </a:lnTo>
                  <a:lnTo>
                    <a:pt x="477" y="211"/>
                  </a:lnTo>
                  <a:lnTo>
                    <a:pt x="495" y="211"/>
                  </a:lnTo>
                  <a:lnTo>
                    <a:pt x="495" y="216"/>
                  </a:lnTo>
                  <a:lnTo>
                    <a:pt x="507" y="216"/>
                  </a:lnTo>
                  <a:lnTo>
                    <a:pt x="507" y="223"/>
                  </a:lnTo>
                  <a:lnTo>
                    <a:pt x="517" y="223"/>
                  </a:lnTo>
                  <a:lnTo>
                    <a:pt x="517" y="228"/>
                  </a:lnTo>
                  <a:lnTo>
                    <a:pt x="529" y="228"/>
                  </a:lnTo>
                  <a:lnTo>
                    <a:pt x="529" y="233"/>
                  </a:lnTo>
                  <a:lnTo>
                    <a:pt x="541" y="233"/>
                  </a:lnTo>
                  <a:lnTo>
                    <a:pt x="541" y="240"/>
                  </a:lnTo>
                  <a:lnTo>
                    <a:pt x="552" y="240"/>
                  </a:lnTo>
                  <a:lnTo>
                    <a:pt x="552" y="245"/>
                  </a:lnTo>
                  <a:lnTo>
                    <a:pt x="563" y="245"/>
                  </a:lnTo>
                  <a:lnTo>
                    <a:pt x="563" y="251"/>
                  </a:lnTo>
                  <a:lnTo>
                    <a:pt x="574" y="251"/>
                  </a:lnTo>
                  <a:lnTo>
                    <a:pt x="574" y="256"/>
                  </a:lnTo>
                  <a:lnTo>
                    <a:pt x="586" y="256"/>
                  </a:lnTo>
                  <a:lnTo>
                    <a:pt x="586" y="262"/>
                  </a:lnTo>
                  <a:lnTo>
                    <a:pt x="598" y="262"/>
                  </a:lnTo>
                  <a:lnTo>
                    <a:pt x="598" y="268"/>
                  </a:lnTo>
                  <a:lnTo>
                    <a:pt x="603" y="268"/>
                  </a:lnTo>
                  <a:lnTo>
                    <a:pt x="603" y="273"/>
                  </a:lnTo>
                  <a:lnTo>
                    <a:pt x="609" y="273"/>
                  </a:lnTo>
                  <a:lnTo>
                    <a:pt x="609" y="280"/>
                  </a:lnTo>
                  <a:lnTo>
                    <a:pt x="620" y="280"/>
                  </a:lnTo>
                  <a:lnTo>
                    <a:pt x="620" y="285"/>
                  </a:lnTo>
                  <a:lnTo>
                    <a:pt x="626" y="285"/>
                  </a:lnTo>
                  <a:lnTo>
                    <a:pt x="626" y="290"/>
                  </a:lnTo>
                  <a:lnTo>
                    <a:pt x="638" y="290"/>
                  </a:lnTo>
                  <a:lnTo>
                    <a:pt x="638" y="297"/>
                  </a:lnTo>
                  <a:lnTo>
                    <a:pt x="648" y="297"/>
                  </a:lnTo>
                  <a:lnTo>
                    <a:pt x="648" y="302"/>
                  </a:lnTo>
                  <a:lnTo>
                    <a:pt x="655" y="302"/>
                  </a:lnTo>
                  <a:lnTo>
                    <a:pt x="655" y="308"/>
                  </a:lnTo>
                  <a:lnTo>
                    <a:pt x="666" y="308"/>
                  </a:lnTo>
                  <a:lnTo>
                    <a:pt x="666" y="313"/>
                  </a:lnTo>
                  <a:lnTo>
                    <a:pt x="672" y="313"/>
                  </a:lnTo>
                  <a:lnTo>
                    <a:pt x="672" y="319"/>
                  </a:lnTo>
                  <a:lnTo>
                    <a:pt x="683" y="319"/>
                  </a:lnTo>
                  <a:lnTo>
                    <a:pt x="683" y="325"/>
                  </a:lnTo>
                  <a:lnTo>
                    <a:pt x="689" y="325"/>
                  </a:lnTo>
                  <a:lnTo>
                    <a:pt x="689" y="330"/>
                  </a:lnTo>
                  <a:lnTo>
                    <a:pt x="700" y="330"/>
                  </a:lnTo>
                  <a:lnTo>
                    <a:pt x="700" y="337"/>
                  </a:lnTo>
                  <a:lnTo>
                    <a:pt x="705" y="337"/>
                  </a:lnTo>
                  <a:lnTo>
                    <a:pt x="705" y="342"/>
                  </a:lnTo>
                  <a:lnTo>
                    <a:pt x="717" y="342"/>
                  </a:lnTo>
                  <a:lnTo>
                    <a:pt x="717" y="347"/>
                  </a:lnTo>
                  <a:lnTo>
                    <a:pt x="729" y="347"/>
                  </a:lnTo>
                  <a:lnTo>
                    <a:pt x="729" y="354"/>
                  </a:lnTo>
                  <a:lnTo>
                    <a:pt x="740" y="354"/>
                  </a:lnTo>
                  <a:lnTo>
                    <a:pt x="740" y="359"/>
                  </a:lnTo>
                  <a:lnTo>
                    <a:pt x="752" y="359"/>
                  </a:lnTo>
                  <a:lnTo>
                    <a:pt x="752" y="364"/>
                  </a:lnTo>
                  <a:lnTo>
                    <a:pt x="762" y="364"/>
                  </a:lnTo>
                  <a:lnTo>
                    <a:pt x="762" y="371"/>
                  </a:lnTo>
                  <a:lnTo>
                    <a:pt x="780" y="371"/>
                  </a:lnTo>
                  <a:lnTo>
                    <a:pt x="780" y="376"/>
                  </a:lnTo>
                  <a:lnTo>
                    <a:pt x="797" y="376"/>
                  </a:lnTo>
                  <a:lnTo>
                    <a:pt x="797" y="382"/>
                  </a:lnTo>
                  <a:lnTo>
                    <a:pt x="803" y="382"/>
                  </a:lnTo>
                  <a:lnTo>
                    <a:pt x="803" y="387"/>
                  </a:lnTo>
                  <a:lnTo>
                    <a:pt x="819" y="387"/>
                  </a:lnTo>
                  <a:lnTo>
                    <a:pt x="819" y="393"/>
                  </a:lnTo>
                  <a:lnTo>
                    <a:pt x="836" y="393"/>
                  </a:lnTo>
                  <a:lnTo>
                    <a:pt x="836" y="399"/>
                  </a:lnTo>
                  <a:lnTo>
                    <a:pt x="848" y="399"/>
                  </a:lnTo>
                  <a:lnTo>
                    <a:pt x="848" y="404"/>
                  </a:lnTo>
                  <a:lnTo>
                    <a:pt x="854" y="404"/>
                  </a:lnTo>
                  <a:lnTo>
                    <a:pt x="854" y="411"/>
                  </a:lnTo>
                  <a:lnTo>
                    <a:pt x="866" y="411"/>
                  </a:lnTo>
                  <a:lnTo>
                    <a:pt x="866" y="416"/>
                  </a:lnTo>
                  <a:lnTo>
                    <a:pt x="882" y="416"/>
                  </a:lnTo>
                  <a:lnTo>
                    <a:pt x="882" y="421"/>
                  </a:lnTo>
                  <a:lnTo>
                    <a:pt x="893" y="421"/>
                  </a:lnTo>
                  <a:lnTo>
                    <a:pt x="893" y="428"/>
                  </a:lnTo>
                  <a:lnTo>
                    <a:pt x="911" y="428"/>
                  </a:lnTo>
                  <a:lnTo>
                    <a:pt x="911" y="433"/>
                  </a:lnTo>
                  <a:lnTo>
                    <a:pt x="921" y="433"/>
                  </a:lnTo>
                  <a:lnTo>
                    <a:pt x="921" y="439"/>
                  </a:lnTo>
                  <a:lnTo>
                    <a:pt x="928" y="439"/>
                  </a:lnTo>
                  <a:lnTo>
                    <a:pt x="928" y="444"/>
                  </a:lnTo>
                  <a:lnTo>
                    <a:pt x="939" y="444"/>
                  </a:lnTo>
                  <a:lnTo>
                    <a:pt x="939" y="450"/>
                  </a:lnTo>
                  <a:lnTo>
                    <a:pt x="950" y="450"/>
                  </a:lnTo>
                  <a:lnTo>
                    <a:pt x="950" y="456"/>
                  </a:lnTo>
                  <a:lnTo>
                    <a:pt x="956" y="456"/>
                  </a:lnTo>
                  <a:lnTo>
                    <a:pt x="956" y="461"/>
                  </a:lnTo>
                  <a:lnTo>
                    <a:pt x="962" y="461"/>
                  </a:lnTo>
                  <a:lnTo>
                    <a:pt x="962" y="468"/>
                  </a:lnTo>
                  <a:lnTo>
                    <a:pt x="979" y="468"/>
                  </a:lnTo>
                  <a:lnTo>
                    <a:pt x="979" y="473"/>
                  </a:lnTo>
                  <a:lnTo>
                    <a:pt x="990" y="473"/>
                  </a:lnTo>
                  <a:lnTo>
                    <a:pt x="990" y="478"/>
                  </a:lnTo>
                  <a:lnTo>
                    <a:pt x="996" y="478"/>
                  </a:lnTo>
                  <a:lnTo>
                    <a:pt x="996" y="485"/>
                  </a:lnTo>
                  <a:lnTo>
                    <a:pt x="1007" y="485"/>
                  </a:lnTo>
                  <a:lnTo>
                    <a:pt x="1007" y="490"/>
                  </a:lnTo>
                  <a:lnTo>
                    <a:pt x="1019" y="490"/>
                  </a:lnTo>
                  <a:lnTo>
                    <a:pt x="1019" y="496"/>
                  </a:lnTo>
                  <a:lnTo>
                    <a:pt x="1025" y="496"/>
                  </a:lnTo>
                  <a:lnTo>
                    <a:pt x="1025" y="501"/>
                  </a:lnTo>
                  <a:lnTo>
                    <a:pt x="1047" y="501"/>
                  </a:lnTo>
                  <a:lnTo>
                    <a:pt x="1047" y="507"/>
                  </a:lnTo>
                  <a:lnTo>
                    <a:pt x="1053" y="507"/>
                  </a:lnTo>
                  <a:lnTo>
                    <a:pt x="1053" y="513"/>
                  </a:lnTo>
                  <a:lnTo>
                    <a:pt x="1070" y="513"/>
                  </a:lnTo>
                  <a:lnTo>
                    <a:pt x="1070" y="518"/>
                  </a:lnTo>
                  <a:lnTo>
                    <a:pt x="1104" y="518"/>
                  </a:lnTo>
                  <a:lnTo>
                    <a:pt x="1104" y="524"/>
                  </a:lnTo>
                  <a:lnTo>
                    <a:pt x="1109" y="524"/>
                  </a:lnTo>
                  <a:lnTo>
                    <a:pt x="1109" y="530"/>
                  </a:lnTo>
                  <a:lnTo>
                    <a:pt x="1121" y="530"/>
                  </a:lnTo>
                  <a:lnTo>
                    <a:pt x="1121" y="535"/>
                  </a:lnTo>
                  <a:lnTo>
                    <a:pt x="1133" y="535"/>
                  </a:lnTo>
                  <a:lnTo>
                    <a:pt x="1133" y="541"/>
                  </a:lnTo>
                  <a:lnTo>
                    <a:pt x="1150" y="541"/>
                  </a:lnTo>
                  <a:lnTo>
                    <a:pt x="1150" y="546"/>
                  </a:lnTo>
                  <a:lnTo>
                    <a:pt x="1184" y="546"/>
                  </a:lnTo>
                  <a:lnTo>
                    <a:pt x="1184" y="553"/>
                  </a:lnTo>
                  <a:lnTo>
                    <a:pt x="1195" y="553"/>
                  </a:lnTo>
                  <a:lnTo>
                    <a:pt x="1195" y="558"/>
                  </a:lnTo>
                  <a:lnTo>
                    <a:pt x="1213" y="558"/>
                  </a:lnTo>
                  <a:lnTo>
                    <a:pt x="1213" y="563"/>
                  </a:lnTo>
                  <a:lnTo>
                    <a:pt x="1223" y="563"/>
                  </a:lnTo>
                  <a:lnTo>
                    <a:pt x="1223" y="570"/>
                  </a:lnTo>
                  <a:lnTo>
                    <a:pt x="1241" y="570"/>
                  </a:lnTo>
                  <a:lnTo>
                    <a:pt x="1241" y="575"/>
                  </a:lnTo>
                  <a:lnTo>
                    <a:pt x="1264" y="575"/>
                  </a:lnTo>
                  <a:lnTo>
                    <a:pt x="1264" y="580"/>
                  </a:lnTo>
                  <a:lnTo>
                    <a:pt x="1280" y="580"/>
                  </a:lnTo>
                  <a:lnTo>
                    <a:pt x="1280" y="587"/>
                  </a:lnTo>
                  <a:lnTo>
                    <a:pt x="1303" y="587"/>
                  </a:lnTo>
                  <a:lnTo>
                    <a:pt x="1303" y="592"/>
                  </a:lnTo>
                  <a:lnTo>
                    <a:pt x="1320" y="592"/>
                  </a:lnTo>
                  <a:lnTo>
                    <a:pt x="1320" y="598"/>
                  </a:lnTo>
                  <a:lnTo>
                    <a:pt x="1343" y="598"/>
                  </a:lnTo>
                  <a:lnTo>
                    <a:pt x="1343" y="603"/>
                  </a:lnTo>
                  <a:lnTo>
                    <a:pt x="1355" y="603"/>
                  </a:lnTo>
                  <a:lnTo>
                    <a:pt x="1355" y="609"/>
                  </a:lnTo>
                  <a:lnTo>
                    <a:pt x="1366" y="609"/>
                  </a:lnTo>
                  <a:lnTo>
                    <a:pt x="1366" y="615"/>
                  </a:lnTo>
                  <a:lnTo>
                    <a:pt x="1377" y="615"/>
                  </a:lnTo>
                  <a:lnTo>
                    <a:pt x="1377" y="620"/>
                  </a:lnTo>
                  <a:lnTo>
                    <a:pt x="1384" y="620"/>
                  </a:lnTo>
                  <a:lnTo>
                    <a:pt x="1384" y="627"/>
                  </a:lnTo>
                  <a:lnTo>
                    <a:pt x="1394" y="627"/>
                  </a:lnTo>
                  <a:lnTo>
                    <a:pt x="1394" y="632"/>
                  </a:lnTo>
                  <a:lnTo>
                    <a:pt x="1406" y="632"/>
                  </a:lnTo>
                  <a:lnTo>
                    <a:pt x="1406" y="637"/>
                  </a:lnTo>
                  <a:lnTo>
                    <a:pt x="1417" y="637"/>
                  </a:lnTo>
                  <a:lnTo>
                    <a:pt x="1417" y="672"/>
                  </a:lnTo>
                  <a:lnTo>
                    <a:pt x="1423" y="672"/>
                  </a:lnTo>
                  <a:lnTo>
                    <a:pt x="1423" y="684"/>
                  </a:lnTo>
                  <a:lnTo>
                    <a:pt x="1429" y="684"/>
                  </a:lnTo>
                  <a:lnTo>
                    <a:pt x="1429" y="689"/>
                  </a:lnTo>
                  <a:lnTo>
                    <a:pt x="1434" y="689"/>
                  </a:lnTo>
                  <a:lnTo>
                    <a:pt x="1434" y="701"/>
                  </a:lnTo>
                  <a:lnTo>
                    <a:pt x="1441" y="701"/>
                  </a:lnTo>
                  <a:lnTo>
                    <a:pt x="1441" y="706"/>
                  </a:lnTo>
                  <a:lnTo>
                    <a:pt x="1446" y="706"/>
                  </a:lnTo>
                  <a:lnTo>
                    <a:pt x="1446" y="723"/>
                  </a:lnTo>
                  <a:lnTo>
                    <a:pt x="1451" y="723"/>
                  </a:lnTo>
                  <a:lnTo>
                    <a:pt x="1451" y="741"/>
                  </a:lnTo>
                  <a:lnTo>
                    <a:pt x="1457" y="741"/>
                  </a:lnTo>
                  <a:lnTo>
                    <a:pt x="1457" y="746"/>
                  </a:lnTo>
                  <a:lnTo>
                    <a:pt x="1463" y="746"/>
                  </a:lnTo>
                  <a:lnTo>
                    <a:pt x="1463" y="763"/>
                  </a:lnTo>
                  <a:lnTo>
                    <a:pt x="1468" y="763"/>
                  </a:lnTo>
                  <a:lnTo>
                    <a:pt x="1468" y="775"/>
                  </a:lnTo>
                  <a:lnTo>
                    <a:pt x="1474" y="775"/>
                  </a:lnTo>
                  <a:lnTo>
                    <a:pt x="1474" y="786"/>
                  </a:lnTo>
                  <a:lnTo>
                    <a:pt x="1491" y="786"/>
                  </a:lnTo>
                  <a:lnTo>
                    <a:pt x="1491" y="798"/>
                  </a:lnTo>
                  <a:lnTo>
                    <a:pt x="1498" y="798"/>
                  </a:lnTo>
                  <a:lnTo>
                    <a:pt x="1498" y="825"/>
                  </a:lnTo>
                  <a:lnTo>
                    <a:pt x="1503" y="825"/>
                  </a:lnTo>
                  <a:lnTo>
                    <a:pt x="1503" y="854"/>
                  </a:lnTo>
                  <a:lnTo>
                    <a:pt x="1508" y="854"/>
                  </a:lnTo>
                  <a:lnTo>
                    <a:pt x="1508" y="877"/>
                  </a:lnTo>
                  <a:lnTo>
                    <a:pt x="1514" y="877"/>
                  </a:lnTo>
                  <a:lnTo>
                    <a:pt x="1514" y="900"/>
                  </a:lnTo>
                  <a:lnTo>
                    <a:pt x="1520" y="900"/>
                  </a:lnTo>
                  <a:lnTo>
                    <a:pt x="1520" y="922"/>
                  </a:lnTo>
                  <a:lnTo>
                    <a:pt x="1525" y="922"/>
                  </a:lnTo>
                  <a:lnTo>
                    <a:pt x="1525" y="934"/>
                  </a:lnTo>
                  <a:lnTo>
                    <a:pt x="1531" y="934"/>
                  </a:lnTo>
                  <a:lnTo>
                    <a:pt x="1531" y="945"/>
                  </a:lnTo>
                  <a:lnTo>
                    <a:pt x="1537" y="945"/>
                  </a:lnTo>
                  <a:lnTo>
                    <a:pt x="1537" y="967"/>
                  </a:lnTo>
                  <a:lnTo>
                    <a:pt x="1543" y="967"/>
                  </a:lnTo>
                  <a:lnTo>
                    <a:pt x="1543" y="984"/>
                  </a:lnTo>
                  <a:lnTo>
                    <a:pt x="1548" y="984"/>
                  </a:lnTo>
                  <a:lnTo>
                    <a:pt x="1548" y="1002"/>
                  </a:lnTo>
                  <a:lnTo>
                    <a:pt x="1554" y="1002"/>
                  </a:lnTo>
                  <a:lnTo>
                    <a:pt x="1554" y="1019"/>
                  </a:lnTo>
                  <a:lnTo>
                    <a:pt x="1560" y="1019"/>
                  </a:lnTo>
                  <a:lnTo>
                    <a:pt x="1560" y="1041"/>
                  </a:lnTo>
                  <a:lnTo>
                    <a:pt x="1565" y="1041"/>
                  </a:lnTo>
                  <a:lnTo>
                    <a:pt x="1565" y="1059"/>
                  </a:lnTo>
                  <a:lnTo>
                    <a:pt x="1571" y="1059"/>
                  </a:lnTo>
                  <a:lnTo>
                    <a:pt x="1571" y="1065"/>
                  </a:lnTo>
                  <a:lnTo>
                    <a:pt x="1577" y="1065"/>
                  </a:lnTo>
                  <a:lnTo>
                    <a:pt x="1577" y="1081"/>
                  </a:lnTo>
                  <a:lnTo>
                    <a:pt x="1582" y="1081"/>
                  </a:lnTo>
                  <a:lnTo>
                    <a:pt x="1582" y="1105"/>
                  </a:lnTo>
                  <a:lnTo>
                    <a:pt x="1588" y="1105"/>
                  </a:lnTo>
                  <a:lnTo>
                    <a:pt x="1588" y="1116"/>
                  </a:lnTo>
                  <a:lnTo>
                    <a:pt x="1594" y="1116"/>
                  </a:lnTo>
                  <a:lnTo>
                    <a:pt x="1594" y="1145"/>
                  </a:lnTo>
                  <a:lnTo>
                    <a:pt x="1600" y="1145"/>
                  </a:lnTo>
                  <a:lnTo>
                    <a:pt x="1600" y="1173"/>
                  </a:lnTo>
                  <a:lnTo>
                    <a:pt x="1605" y="1173"/>
                  </a:lnTo>
                  <a:lnTo>
                    <a:pt x="1605" y="1195"/>
                  </a:lnTo>
                  <a:lnTo>
                    <a:pt x="1611" y="1195"/>
                  </a:lnTo>
                  <a:lnTo>
                    <a:pt x="1611" y="1212"/>
                  </a:lnTo>
                  <a:lnTo>
                    <a:pt x="1617" y="1212"/>
                  </a:lnTo>
                  <a:lnTo>
                    <a:pt x="1617" y="1236"/>
                  </a:lnTo>
                  <a:lnTo>
                    <a:pt x="1622" y="1236"/>
                  </a:lnTo>
                  <a:lnTo>
                    <a:pt x="1622" y="1276"/>
                  </a:lnTo>
                  <a:lnTo>
                    <a:pt x="1629" y="1276"/>
                  </a:lnTo>
                  <a:lnTo>
                    <a:pt x="1629" y="1309"/>
                  </a:lnTo>
                  <a:lnTo>
                    <a:pt x="1634" y="1309"/>
                  </a:lnTo>
                  <a:lnTo>
                    <a:pt x="1634" y="1343"/>
                  </a:lnTo>
                  <a:lnTo>
                    <a:pt x="1639" y="1343"/>
                  </a:lnTo>
                  <a:lnTo>
                    <a:pt x="1639" y="1366"/>
                  </a:lnTo>
                  <a:lnTo>
                    <a:pt x="1645" y="1366"/>
                  </a:lnTo>
                  <a:lnTo>
                    <a:pt x="1645" y="1388"/>
                  </a:lnTo>
                  <a:lnTo>
                    <a:pt x="1651" y="1388"/>
                  </a:lnTo>
                  <a:lnTo>
                    <a:pt x="1651" y="1417"/>
                  </a:lnTo>
                  <a:lnTo>
                    <a:pt x="1657" y="1417"/>
                  </a:lnTo>
                  <a:lnTo>
                    <a:pt x="1657" y="1440"/>
                  </a:lnTo>
                  <a:lnTo>
                    <a:pt x="1662" y="1440"/>
                  </a:lnTo>
                  <a:lnTo>
                    <a:pt x="1662" y="1452"/>
                  </a:lnTo>
                  <a:lnTo>
                    <a:pt x="1668" y="1452"/>
                  </a:lnTo>
                  <a:lnTo>
                    <a:pt x="1668" y="1497"/>
                  </a:lnTo>
                  <a:lnTo>
                    <a:pt x="1674" y="1497"/>
                  </a:lnTo>
                  <a:lnTo>
                    <a:pt x="1674" y="1520"/>
                  </a:lnTo>
                  <a:lnTo>
                    <a:pt x="1679" y="1520"/>
                  </a:lnTo>
                  <a:lnTo>
                    <a:pt x="1679" y="1537"/>
                  </a:lnTo>
                  <a:lnTo>
                    <a:pt x="1685" y="1537"/>
                  </a:lnTo>
                  <a:lnTo>
                    <a:pt x="1685" y="1559"/>
                  </a:lnTo>
                  <a:lnTo>
                    <a:pt x="1690" y="1559"/>
                  </a:lnTo>
                  <a:lnTo>
                    <a:pt x="1690" y="1571"/>
                  </a:lnTo>
                  <a:lnTo>
                    <a:pt x="1696" y="1571"/>
                  </a:lnTo>
                  <a:lnTo>
                    <a:pt x="1696" y="1583"/>
                  </a:lnTo>
                  <a:lnTo>
                    <a:pt x="1702" y="1583"/>
                  </a:lnTo>
                  <a:lnTo>
                    <a:pt x="1702" y="1594"/>
                  </a:lnTo>
                  <a:lnTo>
                    <a:pt x="1696" y="1594"/>
                  </a:lnTo>
                  <a:lnTo>
                    <a:pt x="1696" y="1599"/>
                  </a:lnTo>
                  <a:lnTo>
                    <a:pt x="1690" y="1599"/>
                  </a:lnTo>
                  <a:lnTo>
                    <a:pt x="1690" y="1606"/>
                  </a:lnTo>
                  <a:lnTo>
                    <a:pt x="1685" y="1606"/>
                  </a:lnTo>
                  <a:lnTo>
                    <a:pt x="1685" y="1611"/>
                  </a:lnTo>
                  <a:lnTo>
                    <a:pt x="1679" y="1611"/>
                  </a:lnTo>
                  <a:lnTo>
                    <a:pt x="1679" y="1616"/>
                  </a:lnTo>
                  <a:lnTo>
                    <a:pt x="1674" y="1616"/>
                  </a:lnTo>
                  <a:lnTo>
                    <a:pt x="1674" y="1623"/>
                  </a:lnTo>
                  <a:lnTo>
                    <a:pt x="1634" y="1623"/>
                  </a:lnTo>
                  <a:lnTo>
                    <a:pt x="1634" y="1628"/>
                  </a:lnTo>
                  <a:lnTo>
                    <a:pt x="1605" y="1628"/>
                  </a:lnTo>
                  <a:lnTo>
                    <a:pt x="1605" y="1633"/>
                  </a:lnTo>
                  <a:lnTo>
                    <a:pt x="1577" y="1633"/>
                  </a:lnTo>
                  <a:lnTo>
                    <a:pt x="1577" y="1640"/>
                  </a:lnTo>
                  <a:lnTo>
                    <a:pt x="1554" y="1640"/>
                  </a:lnTo>
                  <a:lnTo>
                    <a:pt x="1554" y="1645"/>
                  </a:lnTo>
                  <a:lnTo>
                    <a:pt x="1543" y="1645"/>
                  </a:lnTo>
                  <a:lnTo>
                    <a:pt x="1543" y="1651"/>
                  </a:lnTo>
                  <a:lnTo>
                    <a:pt x="1531" y="1651"/>
                  </a:lnTo>
                  <a:lnTo>
                    <a:pt x="1531" y="1656"/>
                  </a:lnTo>
                  <a:lnTo>
                    <a:pt x="1514" y="1656"/>
                  </a:lnTo>
                  <a:lnTo>
                    <a:pt x="1514" y="1662"/>
                  </a:lnTo>
                  <a:lnTo>
                    <a:pt x="1486" y="1662"/>
                  </a:lnTo>
                  <a:lnTo>
                    <a:pt x="1486" y="1668"/>
                  </a:lnTo>
                  <a:lnTo>
                    <a:pt x="1468" y="1668"/>
                  </a:lnTo>
                  <a:lnTo>
                    <a:pt x="1468" y="1673"/>
                  </a:lnTo>
                  <a:lnTo>
                    <a:pt x="1446" y="1673"/>
                  </a:lnTo>
                  <a:lnTo>
                    <a:pt x="1446" y="1680"/>
                  </a:lnTo>
                  <a:lnTo>
                    <a:pt x="1429" y="1680"/>
                  </a:lnTo>
                  <a:lnTo>
                    <a:pt x="1429" y="1685"/>
                  </a:lnTo>
                  <a:lnTo>
                    <a:pt x="1400" y="1685"/>
                  </a:lnTo>
                  <a:lnTo>
                    <a:pt x="1400" y="1690"/>
                  </a:lnTo>
                  <a:lnTo>
                    <a:pt x="1389" y="1690"/>
                  </a:lnTo>
                  <a:lnTo>
                    <a:pt x="1389" y="1697"/>
                  </a:lnTo>
                  <a:lnTo>
                    <a:pt x="1366" y="16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5006160" y="3030480"/>
              <a:ext cx="253080" cy="308880"/>
            </a:xfrm>
            <a:custGeom>
              <a:avLst/>
              <a:gdLst/>
              <a:ahLst/>
              <a:rect l="l" t="t" r="r" b="b"/>
              <a:pathLst>
                <a:path w="454" h="563">
                  <a:moveTo>
                    <a:pt x="387" y="563"/>
                  </a:moveTo>
                  <a:lnTo>
                    <a:pt x="387" y="557"/>
                  </a:lnTo>
                  <a:lnTo>
                    <a:pt x="380" y="557"/>
                  </a:lnTo>
                  <a:lnTo>
                    <a:pt x="380" y="551"/>
                  </a:lnTo>
                  <a:lnTo>
                    <a:pt x="375" y="551"/>
                  </a:lnTo>
                  <a:lnTo>
                    <a:pt x="375" y="546"/>
                  </a:lnTo>
                  <a:lnTo>
                    <a:pt x="335" y="546"/>
                  </a:lnTo>
                  <a:lnTo>
                    <a:pt x="335" y="540"/>
                  </a:lnTo>
                  <a:lnTo>
                    <a:pt x="318" y="540"/>
                  </a:lnTo>
                  <a:lnTo>
                    <a:pt x="318" y="535"/>
                  </a:lnTo>
                  <a:lnTo>
                    <a:pt x="295" y="535"/>
                  </a:lnTo>
                  <a:lnTo>
                    <a:pt x="295" y="540"/>
                  </a:lnTo>
                  <a:lnTo>
                    <a:pt x="285" y="540"/>
                  </a:lnTo>
                  <a:lnTo>
                    <a:pt x="285" y="535"/>
                  </a:lnTo>
                  <a:lnTo>
                    <a:pt x="256" y="535"/>
                  </a:lnTo>
                  <a:lnTo>
                    <a:pt x="256" y="528"/>
                  </a:lnTo>
                  <a:lnTo>
                    <a:pt x="221" y="528"/>
                  </a:lnTo>
                  <a:lnTo>
                    <a:pt x="221" y="523"/>
                  </a:lnTo>
                  <a:lnTo>
                    <a:pt x="171" y="523"/>
                  </a:lnTo>
                  <a:lnTo>
                    <a:pt x="171" y="511"/>
                  </a:lnTo>
                  <a:lnTo>
                    <a:pt x="193" y="511"/>
                  </a:lnTo>
                  <a:lnTo>
                    <a:pt x="193" y="501"/>
                  </a:lnTo>
                  <a:lnTo>
                    <a:pt x="176" y="501"/>
                  </a:lnTo>
                  <a:lnTo>
                    <a:pt x="176" y="494"/>
                  </a:lnTo>
                  <a:lnTo>
                    <a:pt x="171" y="494"/>
                  </a:lnTo>
                  <a:lnTo>
                    <a:pt x="171" y="489"/>
                  </a:lnTo>
                  <a:lnTo>
                    <a:pt x="159" y="489"/>
                  </a:lnTo>
                  <a:lnTo>
                    <a:pt x="159" y="483"/>
                  </a:lnTo>
                  <a:lnTo>
                    <a:pt x="147" y="483"/>
                  </a:lnTo>
                  <a:lnTo>
                    <a:pt x="147" y="478"/>
                  </a:lnTo>
                  <a:lnTo>
                    <a:pt x="142" y="478"/>
                  </a:lnTo>
                  <a:lnTo>
                    <a:pt x="142" y="472"/>
                  </a:lnTo>
                  <a:lnTo>
                    <a:pt x="136" y="472"/>
                  </a:lnTo>
                  <a:lnTo>
                    <a:pt x="136" y="466"/>
                  </a:lnTo>
                  <a:lnTo>
                    <a:pt x="130" y="466"/>
                  </a:lnTo>
                  <a:lnTo>
                    <a:pt x="130" y="461"/>
                  </a:lnTo>
                  <a:lnTo>
                    <a:pt x="124" y="461"/>
                  </a:lnTo>
                  <a:lnTo>
                    <a:pt x="124" y="454"/>
                  </a:lnTo>
                  <a:lnTo>
                    <a:pt x="119" y="454"/>
                  </a:lnTo>
                  <a:lnTo>
                    <a:pt x="119" y="449"/>
                  </a:lnTo>
                  <a:lnTo>
                    <a:pt x="114" y="449"/>
                  </a:lnTo>
                  <a:lnTo>
                    <a:pt x="114" y="444"/>
                  </a:lnTo>
                  <a:lnTo>
                    <a:pt x="107" y="444"/>
                  </a:lnTo>
                  <a:lnTo>
                    <a:pt x="107" y="432"/>
                  </a:lnTo>
                  <a:lnTo>
                    <a:pt x="102" y="432"/>
                  </a:lnTo>
                  <a:lnTo>
                    <a:pt x="102" y="426"/>
                  </a:lnTo>
                  <a:lnTo>
                    <a:pt x="96" y="426"/>
                  </a:lnTo>
                  <a:lnTo>
                    <a:pt x="96" y="409"/>
                  </a:lnTo>
                  <a:lnTo>
                    <a:pt x="90" y="409"/>
                  </a:lnTo>
                  <a:lnTo>
                    <a:pt x="90" y="404"/>
                  </a:lnTo>
                  <a:lnTo>
                    <a:pt x="85" y="404"/>
                  </a:lnTo>
                  <a:lnTo>
                    <a:pt x="85" y="387"/>
                  </a:lnTo>
                  <a:lnTo>
                    <a:pt x="79" y="387"/>
                  </a:lnTo>
                  <a:lnTo>
                    <a:pt x="79" y="375"/>
                  </a:lnTo>
                  <a:lnTo>
                    <a:pt x="73" y="375"/>
                  </a:lnTo>
                  <a:lnTo>
                    <a:pt x="73" y="358"/>
                  </a:lnTo>
                  <a:lnTo>
                    <a:pt x="67" y="358"/>
                  </a:lnTo>
                  <a:lnTo>
                    <a:pt x="67" y="347"/>
                  </a:lnTo>
                  <a:lnTo>
                    <a:pt x="62" y="347"/>
                  </a:lnTo>
                  <a:lnTo>
                    <a:pt x="62" y="335"/>
                  </a:lnTo>
                  <a:lnTo>
                    <a:pt x="57" y="335"/>
                  </a:lnTo>
                  <a:lnTo>
                    <a:pt x="57" y="318"/>
                  </a:lnTo>
                  <a:lnTo>
                    <a:pt x="50" y="318"/>
                  </a:lnTo>
                  <a:lnTo>
                    <a:pt x="50" y="307"/>
                  </a:lnTo>
                  <a:lnTo>
                    <a:pt x="45" y="307"/>
                  </a:lnTo>
                  <a:lnTo>
                    <a:pt x="45" y="283"/>
                  </a:lnTo>
                  <a:lnTo>
                    <a:pt x="40" y="283"/>
                  </a:lnTo>
                  <a:lnTo>
                    <a:pt x="40" y="273"/>
                  </a:lnTo>
                  <a:lnTo>
                    <a:pt x="33" y="273"/>
                  </a:lnTo>
                  <a:lnTo>
                    <a:pt x="33" y="261"/>
                  </a:lnTo>
                  <a:lnTo>
                    <a:pt x="28" y="261"/>
                  </a:lnTo>
                  <a:lnTo>
                    <a:pt x="28" y="250"/>
                  </a:lnTo>
                  <a:lnTo>
                    <a:pt x="22" y="250"/>
                  </a:lnTo>
                  <a:lnTo>
                    <a:pt x="22" y="238"/>
                  </a:lnTo>
                  <a:lnTo>
                    <a:pt x="16" y="238"/>
                  </a:lnTo>
                  <a:lnTo>
                    <a:pt x="16" y="221"/>
                  </a:lnTo>
                  <a:lnTo>
                    <a:pt x="10" y="221"/>
                  </a:lnTo>
                  <a:lnTo>
                    <a:pt x="10" y="204"/>
                  </a:lnTo>
                  <a:lnTo>
                    <a:pt x="5" y="204"/>
                  </a:lnTo>
                  <a:lnTo>
                    <a:pt x="5" y="181"/>
                  </a:lnTo>
                  <a:lnTo>
                    <a:pt x="0" y="181"/>
                  </a:lnTo>
                  <a:lnTo>
                    <a:pt x="0" y="164"/>
                  </a:lnTo>
                  <a:lnTo>
                    <a:pt x="5" y="164"/>
                  </a:lnTo>
                  <a:lnTo>
                    <a:pt x="5" y="147"/>
                  </a:lnTo>
                  <a:lnTo>
                    <a:pt x="10" y="147"/>
                  </a:lnTo>
                  <a:lnTo>
                    <a:pt x="10" y="136"/>
                  </a:lnTo>
                  <a:lnTo>
                    <a:pt x="22" y="136"/>
                  </a:lnTo>
                  <a:lnTo>
                    <a:pt x="22" y="131"/>
                  </a:lnTo>
                  <a:lnTo>
                    <a:pt x="57" y="131"/>
                  </a:lnTo>
                  <a:lnTo>
                    <a:pt x="57" y="124"/>
                  </a:lnTo>
                  <a:lnTo>
                    <a:pt x="67" y="124"/>
                  </a:lnTo>
                  <a:lnTo>
                    <a:pt x="67" y="119"/>
                  </a:lnTo>
                  <a:lnTo>
                    <a:pt x="79" y="119"/>
                  </a:lnTo>
                  <a:lnTo>
                    <a:pt x="79" y="114"/>
                  </a:lnTo>
                  <a:lnTo>
                    <a:pt x="90" y="114"/>
                  </a:lnTo>
                  <a:lnTo>
                    <a:pt x="90" y="107"/>
                  </a:lnTo>
                  <a:lnTo>
                    <a:pt x="107" y="107"/>
                  </a:lnTo>
                  <a:lnTo>
                    <a:pt x="107" y="102"/>
                  </a:lnTo>
                  <a:lnTo>
                    <a:pt x="114" y="102"/>
                  </a:lnTo>
                  <a:lnTo>
                    <a:pt x="114" y="97"/>
                  </a:lnTo>
                  <a:lnTo>
                    <a:pt x="119" y="97"/>
                  </a:lnTo>
                  <a:lnTo>
                    <a:pt x="119" y="90"/>
                  </a:lnTo>
                  <a:lnTo>
                    <a:pt x="124" y="90"/>
                  </a:lnTo>
                  <a:lnTo>
                    <a:pt x="124" y="85"/>
                  </a:lnTo>
                  <a:lnTo>
                    <a:pt x="130" y="85"/>
                  </a:lnTo>
                  <a:lnTo>
                    <a:pt x="130" y="79"/>
                  </a:lnTo>
                  <a:lnTo>
                    <a:pt x="142" y="79"/>
                  </a:lnTo>
                  <a:lnTo>
                    <a:pt x="142" y="74"/>
                  </a:lnTo>
                  <a:lnTo>
                    <a:pt x="153" y="74"/>
                  </a:lnTo>
                  <a:lnTo>
                    <a:pt x="153" y="68"/>
                  </a:lnTo>
                  <a:lnTo>
                    <a:pt x="159" y="68"/>
                  </a:lnTo>
                  <a:lnTo>
                    <a:pt x="159" y="62"/>
                  </a:lnTo>
                  <a:lnTo>
                    <a:pt x="171" y="62"/>
                  </a:lnTo>
                  <a:lnTo>
                    <a:pt x="171" y="57"/>
                  </a:lnTo>
                  <a:lnTo>
                    <a:pt x="176" y="57"/>
                  </a:lnTo>
                  <a:lnTo>
                    <a:pt x="176" y="50"/>
                  </a:lnTo>
                  <a:lnTo>
                    <a:pt x="193" y="50"/>
                  </a:lnTo>
                  <a:lnTo>
                    <a:pt x="193" y="45"/>
                  </a:lnTo>
                  <a:lnTo>
                    <a:pt x="204" y="45"/>
                  </a:lnTo>
                  <a:lnTo>
                    <a:pt x="204" y="40"/>
                  </a:lnTo>
                  <a:lnTo>
                    <a:pt x="221" y="40"/>
                  </a:lnTo>
                  <a:lnTo>
                    <a:pt x="221" y="33"/>
                  </a:lnTo>
                  <a:lnTo>
                    <a:pt x="245" y="33"/>
                  </a:lnTo>
                  <a:lnTo>
                    <a:pt x="245" y="28"/>
                  </a:lnTo>
                  <a:lnTo>
                    <a:pt x="256" y="28"/>
                  </a:lnTo>
                  <a:lnTo>
                    <a:pt x="256" y="22"/>
                  </a:lnTo>
                  <a:lnTo>
                    <a:pt x="285" y="22"/>
                  </a:lnTo>
                  <a:lnTo>
                    <a:pt x="285" y="17"/>
                  </a:lnTo>
                  <a:lnTo>
                    <a:pt x="295" y="17"/>
                  </a:lnTo>
                  <a:lnTo>
                    <a:pt x="295" y="11"/>
                  </a:lnTo>
                  <a:lnTo>
                    <a:pt x="302" y="11"/>
                  </a:lnTo>
                  <a:lnTo>
                    <a:pt x="302" y="5"/>
                  </a:lnTo>
                  <a:lnTo>
                    <a:pt x="313" y="5"/>
                  </a:lnTo>
                  <a:lnTo>
                    <a:pt x="313" y="0"/>
                  </a:lnTo>
                  <a:lnTo>
                    <a:pt x="330" y="0"/>
                  </a:lnTo>
                  <a:lnTo>
                    <a:pt x="330" y="50"/>
                  </a:lnTo>
                  <a:lnTo>
                    <a:pt x="335" y="50"/>
                  </a:lnTo>
                  <a:lnTo>
                    <a:pt x="335" y="107"/>
                  </a:lnTo>
                  <a:lnTo>
                    <a:pt x="330" y="107"/>
                  </a:lnTo>
                  <a:lnTo>
                    <a:pt x="330" y="147"/>
                  </a:lnTo>
                  <a:lnTo>
                    <a:pt x="335" y="147"/>
                  </a:lnTo>
                  <a:lnTo>
                    <a:pt x="335" y="164"/>
                  </a:lnTo>
                  <a:lnTo>
                    <a:pt x="342" y="164"/>
                  </a:lnTo>
                  <a:lnTo>
                    <a:pt x="342" y="176"/>
                  </a:lnTo>
                  <a:lnTo>
                    <a:pt x="347" y="176"/>
                  </a:lnTo>
                  <a:lnTo>
                    <a:pt x="347" y="199"/>
                  </a:lnTo>
                  <a:lnTo>
                    <a:pt x="352" y="199"/>
                  </a:lnTo>
                  <a:lnTo>
                    <a:pt x="352" y="227"/>
                  </a:lnTo>
                  <a:lnTo>
                    <a:pt x="359" y="227"/>
                  </a:lnTo>
                  <a:lnTo>
                    <a:pt x="359" y="250"/>
                  </a:lnTo>
                  <a:lnTo>
                    <a:pt x="363" y="250"/>
                  </a:lnTo>
                  <a:lnTo>
                    <a:pt x="363" y="266"/>
                  </a:lnTo>
                  <a:lnTo>
                    <a:pt x="369" y="266"/>
                  </a:lnTo>
                  <a:lnTo>
                    <a:pt x="369" y="283"/>
                  </a:lnTo>
                  <a:lnTo>
                    <a:pt x="375" y="283"/>
                  </a:lnTo>
                  <a:lnTo>
                    <a:pt x="375" y="307"/>
                  </a:lnTo>
                  <a:lnTo>
                    <a:pt x="380" y="307"/>
                  </a:lnTo>
                  <a:lnTo>
                    <a:pt x="380" y="323"/>
                  </a:lnTo>
                  <a:lnTo>
                    <a:pt x="387" y="323"/>
                  </a:lnTo>
                  <a:lnTo>
                    <a:pt x="387" y="335"/>
                  </a:lnTo>
                  <a:lnTo>
                    <a:pt x="392" y="335"/>
                  </a:lnTo>
                  <a:lnTo>
                    <a:pt x="392" y="352"/>
                  </a:lnTo>
                  <a:lnTo>
                    <a:pt x="397" y="352"/>
                  </a:lnTo>
                  <a:lnTo>
                    <a:pt x="397" y="369"/>
                  </a:lnTo>
                  <a:lnTo>
                    <a:pt x="404" y="369"/>
                  </a:lnTo>
                  <a:lnTo>
                    <a:pt x="404" y="387"/>
                  </a:lnTo>
                  <a:lnTo>
                    <a:pt x="409" y="387"/>
                  </a:lnTo>
                  <a:lnTo>
                    <a:pt x="409" y="404"/>
                  </a:lnTo>
                  <a:lnTo>
                    <a:pt x="415" y="404"/>
                  </a:lnTo>
                  <a:lnTo>
                    <a:pt x="415" y="421"/>
                  </a:lnTo>
                  <a:lnTo>
                    <a:pt x="420" y="421"/>
                  </a:lnTo>
                  <a:lnTo>
                    <a:pt x="420" y="444"/>
                  </a:lnTo>
                  <a:lnTo>
                    <a:pt x="426" y="444"/>
                  </a:lnTo>
                  <a:lnTo>
                    <a:pt x="426" y="461"/>
                  </a:lnTo>
                  <a:lnTo>
                    <a:pt x="432" y="461"/>
                  </a:lnTo>
                  <a:lnTo>
                    <a:pt x="432" y="489"/>
                  </a:lnTo>
                  <a:lnTo>
                    <a:pt x="437" y="489"/>
                  </a:lnTo>
                  <a:lnTo>
                    <a:pt x="437" y="506"/>
                  </a:lnTo>
                  <a:lnTo>
                    <a:pt x="444" y="506"/>
                  </a:lnTo>
                  <a:lnTo>
                    <a:pt x="444" y="523"/>
                  </a:lnTo>
                  <a:lnTo>
                    <a:pt x="449" y="523"/>
                  </a:lnTo>
                  <a:lnTo>
                    <a:pt x="449" y="535"/>
                  </a:lnTo>
                  <a:lnTo>
                    <a:pt x="454" y="535"/>
                  </a:lnTo>
                  <a:lnTo>
                    <a:pt x="454" y="557"/>
                  </a:lnTo>
                  <a:lnTo>
                    <a:pt x="449" y="557"/>
                  </a:lnTo>
                  <a:lnTo>
                    <a:pt x="449" y="563"/>
                  </a:lnTo>
                  <a:lnTo>
                    <a:pt x="387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5043960" y="3070080"/>
              <a:ext cx="200520" cy="237240"/>
            </a:xfrm>
            <a:custGeom>
              <a:avLst/>
              <a:gdLst/>
              <a:ahLst/>
              <a:rect l="l" t="t" r="r" b="b"/>
              <a:pathLst>
                <a:path w="357" h="438">
                  <a:moveTo>
                    <a:pt x="335" y="438"/>
                  </a:moveTo>
                  <a:lnTo>
                    <a:pt x="335" y="433"/>
                  </a:lnTo>
                  <a:lnTo>
                    <a:pt x="312" y="433"/>
                  </a:lnTo>
                  <a:lnTo>
                    <a:pt x="312" y="426"/>
                  </a:lnTo>
                  <a:lnTo>
                    <a:pt x="284" y="426"/>
                  </a:lnTo>
                  <a:lnTo>
                    <a:pt x="284" y="421"/>
                  </a:lnTo>
                  <a:lnTo>
                    <a:pt x="273" y="421"/>
                  </a:lnTo>
                  <a:lnTo>
                    <a:pt x="273" y="416"/>
                  </a:lnTo>
                  <a:lnTo>
                    <a:pt x="250" y="416"/>
                  </a:lnTo>
                  <a:lnTo>
                    <a:pt x="250" y="409"/>
                  </a:lnTo>
                  <a:lnTo>
                    <a:pt x="233" y="409"/>
                  </a:lnTo>
                  <a:lnTo>
                    <a:pt x="233" y="404"/>
                  </a:lnTo>
                  <a:lnTo>
                    <a:pt x="216" y="404"/>
                  </a:lnTo>
                  <a:lnTo>
                    <a:pt x="216" y="398"/>
                  </a:lnTo>
                  <a:lnTo>
                    <a:pt x="198" y="398"/>
                  </a:lnTo>
                  <a:lnTo>
                    <a:pt x="198" y="393"/>
                  </a:lnTo>
                  <a:lnTo>
                    <a:pt x="188" y="393"/>
                  </a:lnTo>
                  <a:lnTo>
                    <a:pt x="188" y="387"/>
                  </a:lnTo>
                  <a:lnTo>
                    <a:pt x="176" y="387"/>
                  </a:lnTo>
                  <a:lnTo>
                    <a:pt x="176" y="381"/>
                  </a:lnTo>
                  <a:lnTo>
                    <a:pt x="164" y="381"/>
                  </a:lnTo>
                  <a:lnTo>
                    <a:pt x="164" y="376"/>
                  </a:lnTo>
                  <a:lnTo>
                    <a:pt x="136" y="376"/>
                  </a:lnTo>
                  <a:lnTo>
                    <a:pt x="136" y="369"/>
                  </a:lnTo>
                  <a:lnTo>
                    <a:pt x="131" y="369"/>
                  </a:lnTo>
                  <a:lnTo>
                    <a:pt x="131" y="364"/>
                  </a:lnTo>
                  <a:lnTo>
                    <a:pt x="119" y="364"/>
                  </a:lnTo>
                  <a:lnTo>
                    <a:pt x="119" y="359"/>
                  </a:lnTo>
                  <a:lnTo>
                    <a:pt x="113" y="359"/>
                  </a:lnTo>
                  <a:lnTo>
                    <a:pt x="113" y="352"/>
                  </a:lnTo>
                  <a:lnTo>
                    <a:pt x="107" y="352"/>
                  </a:lnTo>
                  <a:lnTo>
                    <a:pt x="107" y="347"/>
                  </a:lnTo>
                  <a:lnTo>
                    <a:pt x="102" y="347"/>
                  </a:lnTo>
                  <a:lnTo>
                    <a:pt x="102" y="341"/>
                  </a:lnTo>
                  <a:lnTo>
                    <a:pt x="96" y="341"/>
                  </a:lnTo>
                  <a:lnTo>
                    <a:pt x="96" y="336"/>
                  </a:lnTo>
                  <a:lnTo>
                    <a:pt x="90" y="336"/>
                  </a:lnTo>
                  <a:lnTo>
                    <a:pt x="90" y="324"/>
                  </a:lnTo>
                  <a:lnTo>
                    <a:pt x="84" y="324"/>
                  </a:lnTo>
                  <a:lnTo>
                    <a:pt x="84" y="312"/>
                  </a:lnTo>
                  <a:lnTo>
                    <a:pt x="79" y="312"/>
                  </a:lnTo>
                  <a:lnTo>
                    <a:pt x="79" y="307"/>
                  </a:lnTo>
                  <a:lnTo>
                    <a:pt x="74" y="307"/>
                  </a:lnTo>
                  <a:lnTo>
                    <a:pt x="74" y="295"/>
                  </a:lnTo>
                  <a:lnTo>
                    <a:pt x="67" y="295"/>
                  </a:lnTo>
                  <a:lnTo>
                    <a:pt x="67" y="279"/>
                  </a:lnTo>
                  <a:lnTo>
                    <a:pt x="62" y="279"/>
                  </a:lnTo>
                  <a:lnTo>
                    <a:pt x="62" y="267"/>
                  </a:lnTo>
                  <a:lnTo>
                    <a:pt x="56" y="267"/>
                  </a:lnTo>
                  <a:lnTo>
                    <a:pt x="56" y="255"/>
                  </a:lnTo>
                  <a:lnTo>
                    <a:pt x="50" y="255"/>
                  </a:lnTo>
                  <a:lnTo>
                    <a:pt x="50" y="245"/>
                  </a:lnTo>
                  <a:lnTo>
                    <a:pt x="45" y="245"/>
                  </a:lnTo>
                  <a:lnTo>
                    <a:pt x="45" y="222"/>
                  </a:lnTo>
                  <a:lnTo>
                    <a:pt x="39" y="222"/>
                  </a:lnTo>
                  <a:lnTo>
                    <a:pt x="39" y="205"/>
                  </a:lnTo>
                  <a:lnTo>
                    <a:pt x="33" y="205"/>
                  </a:lnTo>
                  <a:lnTo>
                    <a:pt x="33" y="188"/>
                  </a:lnTo>
                  <a:lnTo>
                    <a:pt x="27" y="188"/>
                  </a:lnTo>
                  <a:lnTo>
                    <a:pt x="27" y="176"/>
                  </a:lnTo>
                  <a:lnTo>
                    <a:pt x="22" y="176"/>
                  </a:lnTo>
                  <a:lnTo>
                    <a:pt x="22" y="165"/>
                  </a:lnTo>
                  <a:lnTo>
                    <a:pt x="17" y="165"/>
                  </a:lnTo>
                  <a:lnTo>
                    <a:pt x="17" y="153"/>
                  </a:lnTo>
                  <a:lnTo>
                    <a:pt x="10" y="153"/>
                  </a:lnTo>
                  <a:lnTo>
                    <a:pt x="10" y="142"/>
                  </a:lnTo>
                  <a:lnTo>
                    <a:pt x="5" y="142"/>
                  </a:lnTo>
                  <a:lnTo>
                    <a:pt x="5" y="131"/>
                  </a:lnTo>
                  <a:lnTo>
                    <a:pt x="0" y="131"/>
                  </a:lnTo>
                  <a:lnTo>
                    <a:pt x="0" y="79"/>
                  </a:lnTo>
                  <a:lnTo>
                    <a:pt x="17" y="79"/>
                  </a:lnTo>
                  <a:lnTo>
                    <a:pt x="17" y="74"/>
                  </a:lnTo>
                  <a:lnTo>
                    <a:pt x="22" y="74"/>
                  </a:lnTo>
                  <a:lnTo>
                    <a:pt x="22" y="68"/>
                  </a:lnTo>
                  <a:lnTo>
                    <a:pt x="33" y="68"/>
                  </a:lnTo>
                  <a:lnTo>
                    <a:pt x="33" y="62"/>
                  </a:lnTo>
                  <a:lnTo>
                    <a:pt x="50" y="62"/>
                  </a:lnTo>
                  <a:lnTo>
                    <a:pt x="50" y="57"/>
                  </a:lnTo>
                  <a:lnTo>
                    <a:pt x="62" y="57"/>
                  </a:lnTo>
                  <a:lnTo>
                    <a:pt x="62" y="51"/>
                  </a:lnTo>
                  <a:lnTo>
                    <a:pt x="74" y="51"/>
                  </a:lnTo>
                  <a:lnTo>
                    <a:pt x="74" y="46"/>
                  </a:lnTo>
                  <a:lnTo>
                    <a:pt x="79" y="46"/>
                  </a:lnTo>
                  <a:lnTo>
                    <a:pt x="79" y="39"/>
                  </a:lnTo>
                  <a:lnTo>
                    <a:pt x="96" y="39"/>
                  </a:lnTo>
                  <a:lnTo>
                    <a:pt x="96" y="34"/>
                  </a:lnTo>
                  <a:lnTo>
                    <a:pt x="107" y="34"/>
                  </a:lnTo>
                  <a:lnTo>
                    <a:pt x="107" y="29"/>
                  </a:lnTo>
                  <a:lnTo>
                    <a:pt x="119" y="29"/>
                  </a:lnTo>
                  <a:lnTo>
                    <a:pt x="119" y="22"/>
                  </a:lnTo>
                  <a:lnTo>
                    <a:pt x="124" y="22"/>
                  </a:lnTo>
                  <a:lnTo>
                    <a:pt x="124" y="17"/>
                  </a:lnTo>
                  <a:lnTo>
                    <a:pt x="148" y="17"/>
                  </a:lnTo>
                  <a:lnTo>
                    <a:pt x="148" y="12"/>
                  </a:lnTo>
                  <a:lnTo>
                    <a:pt x="181" y="12"/>
                  </a:lnTo>
                  <a:lnTo>
                    <a:pt x="181" y="5"/>
                  </a:lnTo>
                  <a:lnTo>
                    <a:pt x="193" y="5"/>
                  </a:lnTo>
                  <a:lnTo>
                    <a:pt x="193" y="0"/>
                  </a:lnTo>
                  <a:lnTo>
                    <a:pt x="255" y="0"/>
                  </a:lnTo>
                  <a:lnTo>
                    <a:pt x="255" y="17"/>
                  </a:lnTo>
                  <a:lnTo>
                    <a:pt x="262" y="17"/>
                  </a:lnTo>
                  <a:lnTo>
                    <a:pt x="262" y="46"/>
                  </a:lnTo>
                  <a:lnTo>
                    <a:pt x="267" y="46"/>
                  </a:lnTo>
                  <a:lnTo>
                    <a:pt x="267" y="74"/>
                  </a:lnTo>
                  <a:lnTo>
                    <a:pt x="273" y="74"/>
                  </a:lnTo>
                  <a:lnTo>
                    <a:pt x="273" y="91"/>
                  </a:lnTo>
                  <a:lnTo>
                    <a:pt x="278" y="91"/>
                  </a:lnTo>
                  <a:lnTo>
                    <a:pt x="278" y="108"/>
                  </a:lnTo>
                  <a:lnTo>
                    <a:pt x="284" y="108"/>
                  </a:lnTo>
                  <a:lnTo>
                    <a:pt x="284" y="142"/>
                  </a:lnTo>
                  <a:lnTo>
                    <a:pt x="290" y="142"/>
                  </a:lnTo>
                  <a:lnTo>
                    <a:pt x="290" y="165"/>
                  </a:lnTo>
                  <a:lnTo>
                    <a:pt x="295" y="165"/>
                  </a:lnTo>
                  <a:lnTo>
                    <a:pt x="295" y="181"/>
                  </a:lnTo>
                  <a:lnTo>
                    <a:pt x="302" y="181"/>
                  </a:lnTo>
                  <a:lnTo>
                    <a:pt x="302" y="198"/>
                  </a:lnTo>
                  <a:lnTo>
                    <a:pt x="307" y="198"/>
                  </a:lnTo>
                  <a:lnTo>
                    <a:pt x="307" y="216"/>
                  </a:lnTo>
                  <a:lnTo>
                    <a:pt x="312" y="216"/>
                  </a:lnTo>
                  <a:lnTo>
                    <a:pt x="312" y="233"/>
                  </a:lnTo>
                  <a:lnTo>
                    <a:pt x="319" y="233"/>
                  </a:lnTo>
                  <a:lnTo>
                    <a:pt x="319" y="245"/>
                  </a:lnTo>
                  <a:lnTo>
                    <a:pt x="323" y="245"/>
                  </a:lnTo>
                  <a:lnTo>
                    <a:pt x="323" y="267"/>
                  </a:lnTo>
                  <a:lnTo>
                    <a:pt x="329" y="267"/>
                  </a:lnTo>
                  <a:lnTo>
                    <a:pt x="329" y="284"/>
                  </a:lnTo>
                  <a:lnTo>
                    <a:pt x="335" y="284"/>
                  </a:lnTo>
                  <a:lnTo>
                    <a:pt x="335" y="312"/>
                  </a:lnTo>
                  <a:lnTo>
                    <a:pt x="340" y="312"/>
                  </a:lnTo>
                  <a:lnTo>
                    <a:pt x="340" y="324"/>
                  </a:lnTo>
                  <a:lnTo>
                    <a:pt x="347" y="324"/>
                  </a:lnTo>
                  <a:lnTo>
                    <a:pt x="347" y="341"/>
                  </a:lnTo>
                  <a:lnTo>
                    <a:pt x="352" y="341"/>
                  </a:lnTo>
                  <a:lnTo>
                    <a:pt x="352" y="376"/>
                  </a:lnTo>
                  <a:lnTo>
                    <a:pt x="357" y="376"/>
                  </a:lnTo>
                  <a:lnTo>
                    <a:pt x="357" y="433"/>
                  </a:lnTo>
                  <a:lnTo>
                    <a:pt x="352" y="433"/>
                  </a:lnTo>
                  <a:lnTo>
                    <a:pt x="352" y="438"/>
                  </a:lnTo>
                  <a:lnTo>
                    <a:pt x="335" y="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561560" y="2357280"/>
              <a:ext cx="948240" cy="376920"/>
            </a:xfrm>
            <a:custGeom>
              <a:avLst/>
              <a:gdLst/>
              <a:ahLst/>
              <a:rect l="l" t="t" r="r" b="b"/>
              <a:pathLst>
                <a:path w="1731" h="677">
                  <a:moveTo>
                    <a:pt x="154" y="677"/>
                  </a:moveTo>
                  <a:lnTo>
                    <a:pt x="154" y="672"/>
                  </a:lnTo>
                  <a:lnTo>
                    <a:pt x="131" y="672"/>
                  </a:lnTo>
                  <a:lnTo>
                    <a:pt x="131" y="665"/>
                  </a:lnTo>
                  <a:lnTo>
                    <a:pt x="114" y="665"/>
                  </a:lnTo>
                  <a:lnTo>
                    <a:pt x="114" y="660"/>
                  </a:lnTo>
                  <a:lnTo>
                    <a:pt x="102" y="660"/>
                  </a:lnTo>
                  <a:lnTo>
                    <a:pt x="102" y="654"/>
                  </a:lnTo>
                  <a:lnTo>
                    <a:pt x="92" y="654"/>
                  </a:lnTo>
                  <a:lnTo>
                    <a:pt x="92" y="649"/>
                  </a:lnTo>
                  <a:lnTo>
                    <a:pt x="85" y="649"/>
                  </a:lnTo>
                  <a:lnTo>
                    <a:pt x="85" y="643"/>
                  </a:lnTo>
                  <a:lnTo>
                    <a:pt x="80" y="643"/>
                  </a:lnTo>
                  <a:lnTo>
                    <a:pt x="80" y="592"/>
                  </a:lnTo>
                  <a:lnTo>
                    <a:pt x="74" y="592"/>
                  </a:lnTo>
                  <a:lnTo>
                    <a:pt x="74" y="558"/>
                  </a:lnTo>
                  <a:lnTo>
                    <a:pt x="69" y="558"/>
                  </a:lnTo>
                  <a:lnTo>
                    <a:pt x="69" y="546"/>
                  </a:lnTo>
                  <a:lnTo>
                    <a:pt x="63" y="546"/>
                  </a:lnTo>
                  <a:lnTo>
                    <a:pt x="63" y="523"/>
                  </a:lnTo>
                  <a:lnTo>
                    <a:pt x="57" y="523"/>
                  </a:lnTo>
                  <a:lnTo>
                    <a:pt x="57" y="501"/>
                  </a:lnTo>
                  <a:lnTo>
                    <a:pt x="52" y="501"/>
                  </a:lnTo>
                  <a:lnTo>
                    <a:pt x="52" y="472"/>
                  </a:lnTo>
                  <a:lnTo>
                    <a:pt x="45" y="472"/>
                  </a:lnTo>
                  <a:lnTo>
                    <a:pt x="45" y="455"/>
                  </a:lnTo>
                  <a:lnTo>
                    <a:pt x="40" y="455"/>
                  </a:lnTo>
                  <a:lnTo>
                    <a:pt x="40" y="438"/>
                  </a:lnTo>
                  <a:lnTo>
                    <a:pt x="35" y="438"/>
                  </a:lnTo>
                  <a:lnTo>
                    <a:pt x="35" y="421"/>
                  </a:lnTo>
                  <a:lnTo>
                    <a:pt x="28" y="421"/>
                  </a:lnTo>
                  <a:lnTo>
                    <a:pt x="28" y="404"/>
                  </a:lnTo>
                  <a:lnTo>
                    <a:pt x="23" y="404"/>
                  </a:lnTo>
                  <a:lnTo>
                    <a:pt x="23" y="387"/>
                  </a:lnTo>
                  <a:lnTo>
                    <a:pt x="17" y="387"/>
                  </a:lnTo>
                  <a:lnTo>
                    <a:pt x="17" y="364"/>
                  </a:lnTo>
                  <a:lnTo>
                    <a:pt x="12" y="364"/>
                  </a:lnTo>
                  <a:lnTo>
                    <a:pt x="12" y="347"/>
                  </a:lnTo>
                  <a:lnTo>
                    <a:pt x="6" y="347"/>
                  </a:lnTo>
                  <a:lnTo>
                    <a:pt x="6" y="307"/>
                  </a:lnTo>
                  <a:lnTo>
                    <a:pt x="0" y="307"/>
                  </a:lnTo>
                  <a:lnTo>
                    <a:pt x="0" y="268"/>
                  </a:lnTo>
                  <a:lnTo>
                    <a:pt x="6" y="268"/>
                  </a:lnTo>
                  <a:lnTo>
                    <a:pt x="6" y="261"/>
                  </a:lnTo>
                  <a:lnTo>
                    <a:pt x="12" y="261"/>
                  </a:lnTo>
                  <a:lnTo>
                    <a:pt x="12" y="256"/>
                  </a:lnTo>
                  <a:lnTo>
                    <a:pt x="17" y="256"/>
                  </a:lnTo>
                  <a:lnTo>
                    <a:pt x="17" y="216"/>
                  </a:lnTo>
                  <a:lnTo>
                    <a:pt x="12" y="216"/>
                  </a:lnTo>
                  <a:lnTo>
                    <a:pt x="12" y="193"/>
                  </a:lnTo>
                  <a:lnTo>
                    <a:pt x="23" y="193"/>
                  </a:lnTo>
                  <a:lnTo>
                    <a:pt x="23" y="188"/>
                  </a:lnTo>
                  <a:lnTo>
                    <a:pt x="80" y="188"/>
                  </a:lnTo>
                  <a:lnTo>
                    <a:pt x="80" y="182"/>
                  </a:lnTo>
                  <a:lnTo>
                    <a:pt x="102" y="182"/>
                  </a:lnTo>
                  <a:lnTo>
                    <a:pt x="102" y="176"/>
                  </a:lnTo>
                  <a:lnTo>
                    <a:pt x="149" y="176"/>
                  </a:lnTo>
                  <a:lnTo>
                    <a:pt x="149" y="171"/>
                  </a:lnTo>
                  <a:lnTo>
                    <a:pt x="159" y="171"/>
                  </a:lnTo>
                  <a:lnTo>
                    <a:pt x="159" y="164"/>
                  </a:lnTo>
                  <a:lnTo>
                    <a:pt x="188" y="164"/>
                  </a:lnTo>
                  <a:lnTo>
                    <a:pt x="188" y="159"/>
                  </a:lnTo>
                  <a:lnTo>
                    <a:pt x="233" y="159"/>
                  </a:lnTo>
                  <a:lnTo>
                    <a:pt x="233" y="154"/>
                  </a:lnTo>
                  <a:lnTo>
                    <a:pt x="251" y="154"/>
                  </a:lnTo>
                  <a:lnTo>
                    <a:pt x="251" y="159"/>
                  </a:lnTo>
                  <a:lnTo>
                    <a:pt x="261" y="159"/>
                  </a:lnTo>
                  <a:lnTo>
                    <a:pt x="261" y="154"/>
                  </a:lnTo>
                  <a:lnTo>
                    <a:pt x="353" y="154"/>
                  </a:lnTo>
                  <a:lnTo>
                    <a:pt x="353" y="147"/>
                  </a:lnTo>
                  <a:lnTo>
                    <a:pt x="387" y="147"/>
                  </a:lnTo>
                  <a:lnTo>
                    <a:pt x="387" y="142"/>
                  </a:lnTo>
                  <a:lnTo>
                    <a:pt x="410" y="142"/>
                  </a:lnTo>
                  <a:lnTo>
                    <a:pt x="410" y="147"/>
                  </a:lnTo>
                  <a:lnTo>
                    <a:pt x="506" y="147"/>
                  </a:lnTo>
                  <a:lnTo>
                    <a:pt x="506" y="142"/>
                  </a:lnTo>
                  <a:lnTo>
                    <a:pt x="677" y="142"/>
                  </a:lnTo>
                  <a:lnTo>
                    <a:pt x="677" y="136"/>
                  </a:lnTo>
                  <a:lnTo>
                    <a:pt x="928" y="136"/>
                  </a:lnTo>
                  <a:lnTo>
                    <a:pt x="928" y="131"/>
                  </a:lnTo>
                  <a:lnTo>
                    <a:pt x="968" y="131"/>
                  </a:lnTo>
                  <a:lnTo>
                    <a:pt x="968" y="125"/>
                  </a:lnTo>
                  <a:lnTo>
                    <a:pt x="991" y="125"/>
                  </a:lnTo>
                  <a:lnTo>
                    <a:pt x="991" y="119"/>
                  </a:lnTo>
                  <a:lnTo>
                    <a:pt x="1024" y="119"/>
                  </a:lnTo>
                  <a:lnTo>
                    <a:pt x="1024" y="114"/>
                  </a:lnTo>
                  <a:lnTo>
                    <a:pt x="1064" y="114"/>
                  </a:lnTo>
                  <a:lnTo>
                    <a:pt x="1064" y="107"/>
                  </a:lnTo>
                  <a:lnTo>
                    <a:pt x="1104" y="107"/>
                  </a:lnTo>
                  <a:lnTo>
                    <a:pt x="1104" y="102"/>
                  </a:lnTo>
                  <a:lnTo>
                    <a:pt x="1127" y="102"/>
                  </a:lnTo>
                  <a:lnTo>
                    <a:pt x="1127" y="97"/>
                  </a:lnTo>
                  <a:lnTo>
                    <a:pt x="1167" y="97"/>
                  </a:lnTo>
                  <a:lnTo>
                    <a:pt x="1167" y="90"/>
                  </a:lnTo>
                  <a:lnTo>
                    <a:pt x="1185" y="90"/>
                  </a:lnTo>
                  <a:lnTo>
                    <a:pt x="1185" y="85"/>
                  </a:lnTo>
                  <a:lnTo>
                    <a:pt x="1201" y="85"/>
                  </a:lnTo>
                  <a:lnTo>
                    <a:pt x="1201" y="80"/>
                  </a:lnTo>
                  <a:lnTo>
                    <a:pt x="1235" y="80"/>
                  </a:lnTo>
                  <a:lnTo>
                    <a:pt x="1235" y="73"/>
                  </a:lnTo>
                  <a:lnTo>
                    <a:pt x="1270" y="73"/>
                  </a:lnTo>
                  <a:lnTo>
                    <a:pt x="1270" y="68"/>
                  </a:lnTo>
                  <a:lnTo>
                    <a:pt x="1309" y="68"/>
                  </a:lnTo>
                  <a:lnTo>
                    <a:pt x="1309" y="62"/>
                  </a:lnTo>
                  <a:lnTo>
                    <a:pt x="1344" y="62"/>
                  </a:lnTo>
                  <a:lnTo>
                    <a:pt x="1344" y="57"/>
                  </a:lnTo>
                  <a:lnTo>
                    <a:pt x="1372" y="57"/>
                  </a:lnTo>
                  <a:lnTo>
                    <a:pt x="1372" y="51"/>
                  </a:lnTo>
                  <a:lnTo>
                    <a:pt x="1463" y="51"/>
                  </a:lnTo>
                  <a:lnTo>
                    <a:pt x="1463" y="45"/>
                  </a:lnTo>
                  <a:lnTo>
                    <a:pt x="1515" y="45"/>
                  </a:lnTo>
                  <a:lnTo>
                    <a:pt x="1515" y="40"/>
                  </a:lnTo>
                  <a:lnTo>
                    <a:pt x="1554" y="40"/>
                  </a:lnTo>
                  <a:lnTo>
                    <a:pt x="1554" y="34"/>
                  </a:lnTo>
                  <a:lnTo>
                    <a:pt x="1594" y="34"/>
                  </a:lnTo>
                  <a:lnTo>
                    <a:pt x="1594" y="28"/>
                  </a:lnTo>
                  <a:lnTo>
                    <a:pt x="1617" y="28"/>
                  </a:lnTo>
                  <a:lnTo>
                    <a:pt x="1617" y="23"/>
                  </a:lnTo>
                  <a:lnTo>
                    <a:pt x="1646" y="23"/>
                  </a:lnTo>
                  <a:lnTo>
                    <a:pt x="1646" y="17"/>
                  </a:lnTo>
                  <a:lnTo>
                    <a:pt x="1662" y="17"/>
                  </a:lnTo>
                  <a:lnTo>
                    <a:pt x="1662" y="12"/>
                  </a:lnTo>
                  <a:lnTo>
                    <a:pt x="1679" y="12"/>
                  </a:lnTo>
                  <a:lnTo>
                    <a:pt x="1679" y="5"/>
                  </a:lnTo>
                  <a:lnTo>
                    <a:pt x="1696" y="5"/>
                  </a:lnTo>
                  <a:lnTo>
                    <a:pt x="1696" y="0"/>
                  </a:lnTo>
                  <a:lnTo>
                    <a:pt x="1731" y="0"/>
                  </a:lnTo>
                  <a:lnTo>
                    <a:pt x="1731" y="17"/>
                  </a:lnTo>
                  <a:lnTo>
                    <a:pt x="1725" y="17"/>
                  </a:lnTo>
                  <a:lnTo>
                    <a:pt x="1725" y="23"/>
                  </a:lnTo>
                  <a:lnTo>
                    <a:pt x="1713" y="23"/>
                  </a:lnTo>
                  <a:lnTo>
                    <a:pt x="1713" y="28"/>
                  </a:lnTo>
                  <a:lnTo>
                    <a:pt x="1696" y="28"/>
                  </a:lnTo>
                  <a:lnTo>
                    <a:pt x="1696" y="34"/>
                  </a:lnTo>
                  <a:lnTo>
                    <a:pt x="1686" y="34"/>
                  </a:lnTo>
                  <a:lnTo>
                    <a:pt x="1686" y="40"/>
                  </a:lnTo>
                  <a:lnTo>
                    <a:pt x="1651" y="40"/>
                  </a:lnTo>
                  <a:lnTo>
                    <a:pt x="1651" y="45"/>
                  </a:lnTo>
                  <a:lnTo>
                    <a:pt x="1617" y="45"/>
                  </a:lnTo>
                  <a:lnTo>
                    <a:pt x="1617" y="51"/>
                  </a:lnTo>
                  <a:lnTo>
                    <a:pt x="1594" y="51"/>
                  </a:lnTo>
                  <a:lnTo>
                    <a:pt x="1594" y="57"/>
                  </a:lnTo>
                  <a:lnTo>
                    <a:pt x="1572" y="57"/>
                  </a:lnTo>
                  <a:lnTo>
                    <a:pt x="1572" y="62"/>
                  </a:lnTo>
                  <a:lnTo>
                    <a:pt x="1543" y="62"/>
                  </a:lnTo>
                  <a:lnTo>
                    <a:pt x="1543" y="68"/>
                  </a:lnTo>
                  <a:lnTo>
                    <a:pt x="1532" y="68"/>
                  </a:lnTo>
                  <a:lnTo>
                    <a:pt x="1532" y="73"/>
                  </a:lnTo>
                  <a:lnTo>
                    <a:pt x="1497" y="73"/>
                  </a:lnTo>
                  <a:lnTo>
                    <a:pt x="1497" y="80"/>
                  </a:lnTo>
                  <a:lnTo>
                    <a:pt x="1463" y="80"/>
                  </a:lnTo>
                  <a:lnTo>
                    <a:pt x="1463" y="85"/>
                  </a:lnTo>
                  <a:lnTo>
                    <a:pt x="1423" y="85"/>
                  </a:lnTo>
                  <a:lnTo>
                    <a:pt x="1423" y="90"/>
                  </a:lnTo>
                  <a:lnTo>
                    <a:pt x="1383" y="90"/>
                  </a:lnTo>
                  <a:lnTo>
                    <a:pt x="1383" y="97"/>
                  </a:lnTo>
                  <a:lnTo>
                    <a:pt x="1327" y="97"/>
                  </a:lnTo>
                  <a:lnTo>
                    <a:pt x="1327" y="102"/>
                  </a:lnTo>
                  <a:lnTo>
                    <a:pt x="1264" y="102"/>
                  </a:lnTo>
                  <a:lnTo>
                    <a:pt x="1264" y="107"/>
                  </a:lnTo>
                  <a:lnTo>
                    <a:pt x="1230" y="107"/>
                  </a:lnTo>
                  <a:lnTo>
                    <a:pt x="1230" y="114"/>
                  </a:lnTo>
                  <a:lnTo>
                    <a:pt x="1167" y="114"/>
                  </a:lnTo>
                  <a:lnTo>
                    <a:pt x="1167" y="119"/>
                  </a:lnTo>
                  <a:lnTo>
                    <a:pt x="1138" y="119"/>
                  </a:lnTo>
                  <a:lnTo>
                    <a:pt x="1138" y="125"/>
                  </a:lnTo>
                  <a:lnTo>
                    <a:pt x="1110" y="125"/>
                  </a:lnTo>
                  <a:lnTo>
                    <a:pt x="1110" y="131"/>
                  </a:lnTo>
                  <a:lnTo>
                    <a:pt x="1087" y="131"/>
                  </a:lnTo>
                  <a:lnTo>
                    <a:pt x="1087" y="136"/>
                  </a:lnTo>
                  <a:lnTo>
                    <a:pt x="1059" y="136"/>
                  </a:lnTo>
                  <a:lnTo>
                    <a:pt x="1059" y="142"/>
                  </a:lnTo>
                  <a:lnTo>
                    <a:pt x="1031" y="142"/>
                  </a:lnTo>
                  <a:lnTo>
                    <a:pt x="1031" y="147"/>
                  </a:lnTo>
                  <a:lnTo>
                    <a:pt x="997" y="147"/>
                  </a:lnTo>
                  <a:lnTo>
                    <a:pt x="997" y="154"/>
                  </a:lnTo>
                  <a:lnTo>
                    <a:pt x="979" y="154"/>
                  </a:lnTo>
                  <a:lnTo>
                    <a:pt x="979" y="159"/>
                  </a:lnTo>
                  <a:lnTo>
                    <a:pt x="934" y="159"/>
                  </a:lnTo>
                  <a:lnTo>
                    <a:pt x="934" y="164"/>
                  </a:lnTo>
                  <a:lnTo>
                    <a:pt x="900" y="164"/>
                  </a:lnTo>
                  <a:lnTo>
                    <a:pt x="900" y="171"/>
                  </a:lnTo>
                  <a:lnTo>
                    <a:pt x="843" y="171"/>
                  </a:lnTo>
                  <a:lnTo>
                    <a:pt x="843" y="176"/>
                  </a:lnTo>
                  <a:lnTo>
                    <a:pt x="779" y="176"/>
                  </a:lnTo>
                  <a:lnTo>
                    <a:pt x="779" y="171"/>
                  </a:lnTo>
                  <a:lnTo>
                    <a:pt x="546" y="171"/>
                  </a:lnTo>
                  <a:lnTo>
                    <a:pt x="546" y="176"/>
                  </a:lnTo>
                  <a:lnTo>
                    <a:pt x="416" y="176"/>
                  </a:lnTo>
                  <a:lnTo>
                    <a:pt x="416" y="182"/>
                  </a:lnTo>
                  <a:lnTo>
                    <a:pt x="375" y="182"/>
                  </a:lnTo>
                  <a:lnTo>
                    <a:pt x="375" y="188"/>
                  </a:lnTo>
                  <a:lnTo>
                    <a:pt x="336" y="188"/>
                  </a:lnTo>
                  <a:lnTo>
                    <a:pt x="336" y="193"/>
                  </a:lnTo>
                  <a:lnTo>
                    <a:pt x="261" y="193"/>
                  </a:lnTo>
                  <a:lnTo>
                    <a:pt x="261" y="199"/>
                  </a:lnTo>
                  <a:lnTo>
                    <a:pt x="176" y="199"/>
                  </a:lnTo>
                  <a:lnTo>
                    <a:pt x="176" y="204"/>
                  </a:lnTo>
                  <a:lnTo>
                    <a:pt x="92" y="204"/>
                  </a:lnTo>
                  <a:lnTo>
                    <a:pt x="92" y="211"/>
                  </a:lnTo>
                  <a:lnTo>
                    <a:pt x="52" y="211"/>
                  </a:lnTo>
                  <a:lnTo>
                    <a:pt x="52" y="256"/>
                  </a:lnTo>
                  <a:lnTo>
                    <a:pt x="45" y="256"/>
                  </a:lnTo>
                  <a:lnTo>
                    <a:pt x="45" y="296"/>
                  </a:lnTo>
                  <a:lnTo>
                    <a:pt x="52" y="296"/>
                  </a:lnTo>
                  <a:lnTo>
                    <a:pt x="52" y="352"/>
                  </a:lnTo>
                  <a:lnTo>
                    <a:pt x="57" y="352"/>
                  </a:lnTo>
                  <a:lnTo>
                    <a:pt x="57" y="387"/>
                  </a:lnTo>
                  <a:lnTo>
                    <a:pt x="63" y="387"/>
                  </a:lnTo>
                  <a:lnTo>
                    <a:pt x="63" y="404"/>
                  </a:lnTo>
                  <a:lnTo>
                    <a:pt x="69" y="404"/>
                  </a:lnTo>
                  <a:lnTo>
                    <a:pt x="69" y="444"/>
                  </a:lnTo>
                  <a:lnTo>
                    <a:pt x="74" y="444"/>
                  </a:lnTo>
                  <a:lnTo>
                    <a:pt x="74" y="472"/>
                  </a:lnTo>
                  <a:lnTo>
                    <a:pt x="80" y="472"/>
                  </a:lnTo>
                  <a:lnTo>
                    <a:pt x="80" y="484"/>
                  </a:lnTo>
                  <a:lnTo>
                    <a:pt x="85" y="484"/>
                  </a:lnTo>
                  <a:lnTo>
                    <a:pt x="85" y="518"/>
                  </a:lnTo>
                  <a:lnTo>
                    <a:pt x="92" y="518"/>
                  </a:lnTo>
                  <a:lnTo>
                    <a:pt x="92" y="535"/>
                  </a:lnTo>
                  <a:lnTo>
                    <a:pt x="97" y="535"/>
                  </a:lnTo>
                  <a:lnTo>
                    <a:pt x="97" y="551"/>
                  </a:lnTo>
                  <a:lnTo>
                    <a:pt x="102" y="551"/>
                  </a:lnTo>
                  <a:lnTo>
                    <a:pt x="102" y="563"/>
                  </a:lnTo>
                  <a:lnTo>
                    <a:pt x="109" y="563"/>
                  </a:lnTo>
                  <a:lnTo>
                    <a:pt x="109" y="575"/>
                  </a:lnTo>
                  <a:lnTo>
                    <a:pt x="114" y="575"/>
                  </a:lnTo>
                  <a:lnTo>
                    <a:pt x="114" y="592"/>
                  </a:lnTo>
                  <a:lnTo>
                    <a:pt x="119" y="592"/>
                  </a:lnTo>
                  <a:lnTo>
                    <a:pt x="119" y="597"/>
                  </a:lnTo>
                  <a:lnTo>
                    <a:pt x="126" y="597"/>
                  </a:lnTo>
                  <a:lnTo>
                    <a:pt x="126" y="603"/>
                  </a:lnTo>
                  <a:lnTo>
                    <a:pt x="131" y="603"/>
                  </a:lnTo>
                  <a:lnTo>
                    <a:pt x="131" y="608"/>
                  </a:lnTo>
                  <a:lnTo>
                    <a:pt x="142" y="608"/>
                  </a:lnTo>
                  <a:lnTo>
                    <a:pt x="142" y="603"/>
                  </a:lnTo>
                  <a:lnTo>
                    <a:pt x="159" y="603"/>
                  </a:lnTo>
                  <a:lnTo>
                    <a:pt x="159" y="597"/>
                  </a:lnTo>
                  <a:lnTo>
                    <a:pt x="183" y="597"/>
                  </a:lnTo>
                  <a:lnTo>
                    <a:pt x="183" y="603"/>
                  </a:lnTo>
                  <a:lnTo>
                    <a:pt x="199" y="603"/>
                  </a:lnTo>
                  <a:lnTo>
                    <a:pt x="199" y="608"/>
                  </a:lnTo>
                  <a:lnTo>
                    <a:pt x="216" y="608"/>
                  </a:lnTo>
                  <a:lnTo>
                    <a:pt x="216" y="603"/>
                  </a:lnTo>
                  <a:lnTo>
                    <a:pt x="228" y="603"/>
                  </a:lnTo>
                  <a:lnTo>
                    <a:pt x="228" y="608"/>
                  </a:lnTo>
                  <a:lnTo>
                    <a:pt x="268" y="608"/>
                  </a:lnTo>
                  <a:lnTo>
                    <a:pt x="268" y="603"/>
                  </a:lnTo>
                  <a:lnTo>
                    <a:pt x="325" y="603"/>
                  </a:lnTo>
                  <a:lnTo>
                    <a:pt x="325" y="608"/>
                  </a:lnTo>
                  <a:lnTo>
                    <a:pt x="359" y="608"/>
                  </a:lnTo>
                  <a:lnTo>
                    <a:pt x="359" y="615"/>
                  </a:lnTo>
                  <a:lnTo>
                    <a:pt x="404" y="615"/>
                  </a:lnTo>
                  <a:lnTo>
                    <a:pt x="404" y="608"/>
                  </a:lnTo>
                  <a:lnTo>
                    <a:pt x="427" y="608"/>
                  </a:lnTo>
                  <a:lnTo>
                    <a:pt x="427" y="603"/>
                  </a:lnTo>
                  <a:lnTo>
                    <a:pt x="484" y="603"/>
                  </a:lnTo>
                  <a:lnTo>
                    <a:pt x="484" y="597"/>
                  </a:lnTo>
                  <a:lnTo>
                    <a:pt x="558" y="597"/>
                  </a:lnTo>
                  <a:lnTo>
                    <a:pt x="558" y="603"/>
                  </a:lnTo>
                  <a:lnTo>
                    <a:pt x="587" y="603"/>
                  </a:lnTo>
                  <a:lnTo>
                    <a:pt x="587" y="608"/>
                  </a:lnTo>
                  <a:lnTo>
                    <a:pt x="627" y="608"/>
                  </a:lnTo>
                  <a:lnTo>
                    <a:pt x="627" y="615"/>
                  </a:lnTo>
                  <a:lnTo>
                    <a:pt x="644" y="615"/>
                  </a:lnTo>
                  <a:lnTo>
                    <a:pt x="644" y="620"/>
                  </a:lnTo>
                  <a:lnTo>
                    <a:pt x="672" y="620"/>
                  </a:lnTo>
                  <a:lnTo>
                    <a:pt x="672" y="625"/>
                  </a:lnTo>
                  <a:lnTo>
                    <a:pt x="700" y="625"/>
                  </a:lnTo>
                  <a:lnTo>
                    <a:pt x="700" y="632"/>
                  </a:lnTo>
                  <a:lnTo>
                    <a:pt x="722" y="632"/>
                  </a:lnTo>
                  <a:lnTo>
                    <a:pt x="722" y="625"/>
                  </a:lnTo>
                  <a:lnTo>
                    <a:pt x="746" y="625"/>
                  </a:lnTo>
                  <a:lnTo>
                    <a:pt x="746" y="620"/>
                  </a:lnTo>
                  <a:lnTo>
                    <a:pt x="820" y="620"/>
                  </a:lnTo>
                  <a:lnTo>
                    <a:pt x="820" y="615"/>
                  </a:lnTo>
                  <a:lnTo>
                    <a:pt x="836" y="615"/>
                  </a:lnTo>
                  <a:lnTo>
                    <a:pt x="836" y="608"/>
                  </a:lnTo>
                  <a:lnTo>
                    <a:pt x="871" y="608"/>
                  </a:lnTo>
                  <a:lnTo>
                    <a:pt x="871" y="615"/>
                  </a:lnTo>
                  <a:lnTo>
                    <a:pt x="940" y="615"/>
                  </a:lnTo>
                  <a:lnTo>
                    <a:pt x="940" y="608"/>
                  </a:lnTo>
                  <a:lnTo>
                    <a:pt x="968" y="608"/>
                  </a:lnTo>
                  <a:lnTo>
                    <a:pt x="968" y="603"/>
                  </a:lnTo>
                  <a:lnTo>
                    <a:pt x="997" y="603"/>
                  </a:lnTo>
                  <a:lnTo>
                    <a:pt x="997" y="597"/>
                  </a:lnTo>
                  <a:lnTo>
                    <a:pt x="1031" y="597"/>
                  </a:lnTo>
                  <a:lnTo>
                    <a:pt x="1031" y="603"/>
                  </a:lnTo>
                  <a:lnTo>
                    <a:pt x="1070" y="603"/>
                  </a:lnTo>
                  <a:lnTo>
                    <a:pt x="1070" y="608"/>
                  </a:lnTo>
                  <a:lnTo>
                    <a:pt x="1144" y="608"/>
                  </a:lnTo>
                  <a:lnTo>
                    <a:pt x="1144" y="603"/>
                  </a:lnTo>
                  <a:lnTo>
                    <a:pt x="1161" y="603"/>
                  </a:lnTo>
                  <a:lnTo>
                    <a:pt x="1161" y="615"/>
                  </a:lnTo>
                  <a:lnTo>
                    <a:pt x="1167" y="615"/>
                  </a:lnTo>
                  <a:lnTo>
                    <a:pt x="1167" y="643"/>
                  </a:lnTo>
                  <a:lnTo>
                    <a:pt x="1150" y="643"/>
                  </a:lnTo>
                  <a:lnTo>
                    <a:pt x="1150" y="649"/>
                  </a:lnTo>
                  <a:lnTo>
                    <a:pt x="1024" y="649"/>
                  </a:lnTo>
                  <a:lnTo>
                    <a:pt x="1024" y="643"/>
                  </a:lnTo>
                  <a:lnTo>
                    <a:pt x="968" y="643"/>
                  </a:lnTo>
                  <a:lnTo>
                    <a:pt x="968" y="637"/>
                  </a:lnTo>
                  <a:lnTo>
                    <a:pt x="836" y="637"/>
                  </a:lnTo>
                  <a:lnTo>
                    <a:pt x="836" y="643"/>
                  </a:lnTo>
                  <a:lnTo>
                    <a:pt x="779" y="643"/>
                  </a:lnTo>
                  <a:lnTo>
                    <a:pt x="779" y="649"/>
                  </a:lnTo>
                  <a:lnTo>
                    <a:pt x="746" y="649"/>
                  </a:lnTo>
                  <a:lnTo>
                    <a:pt x="746" y="654"/>
                  </a:lnTo>
                  <a:lnTo>
                    <a:pt x="734" y="654"/>
                  </a:lnTo>
                  <a:lnTo>
                    <a:pt x="734" y="660"/>
                  </a:lnTo>
                  <a:lnTo>
                    <a:pt x="706" y="660"/>
                  </a:lnTo>
                  <a:lnTo>
                    <a:pt x="706" y="654"/>
                  </a:lnTo>
                  <a:lnTo>
                    <a:pt x="695" y="654"/>
                  </a:lnTo>
                  <a:lnTo>
                    <a:pt x="695" y="649"/>
                  </a:lnTo>
                  <a:lnTo>
                    <a:pt x="655" y="649"/>
                  </a:lnTo>
                  <a:lnTo>
                    <a:pt x="655" y="643"/>
                  </a:lnTo>
                  <a:lnTo>
                    <a:pt x="638" y="643"/>
                  </a:lnTo>
                  <a:lnTo>
                    <a:pt x="638" y="637"/>
                  </a:lnTo>
                  <a:lnTo>
                    <a:pt x="615" y="637"/>
                  </a:lnTo>
                  <a:lnTo>
                    <a:pt x="615" y="632"/>
                  </a:lnTo>
                  <a:lnTo>
                    <a:pt x="513" y="632"/>
                  </a:lnTo>
                  <a:lnTo>
                    <a:pt x="513" y="625"/>
                  </a:lnTo>
                  <a:lnTo>
                    <a:pt x="489" y="625"/>
                  </a:lnTo>
                  <a:lnTo>
                    <a:pt x="489" y="632"/>
                  </a:lnTo>
                  <a:lnTo>
                    <a:pt x="449" y="632"/>
                  </a:lnTo>
                  <a:lnTo>
                    <a:pt x="449" y="637"/>
                  </a:lnTo>
                  <a:lnTo>
                    <a:pt x="432" y="637"/>
                  </a:lnTo>
                  <a:lnTo>
                    <a:pt x="432" y="643"/>
                  </a:lnTo>
                  <a:lnTo>
                    <a:pt x="347" y="643"/>
                  </a:lnTo>
                  <a:lnTo>
                    <a:pt x="347" y="649"/>
                  </a:lnTo>
                  <a:lnTo>
                    <a:pt x="308" y="649"/>
                  </a:lnTo>
                  <a:lnTo>
                    <a:pt x="308" y="654"/>
                  </a:lnTo>
                  <a:lnTo>
                    <a:pt x="245" y="654"/>
                  </a:lnTo>
                  <a:lnTo>
                    <a:pt x="245" y="660"/>
                  </a:lnTo>
                  <a:lnTo>
                    <a:pt x="205" y="660"/>
                  </a:lnTo>
                  <a:lnTo>
                    <a:pt x="205" y="665"/>
                  </a:lnTo>
                  <a:lnTo>
                    <a:pt x="188" y="665"/>
                  </a:lnTo>
                  <a:lnTo>
                    <a:pt x="188" y="672"/>
                  </a:lnTo>
                  <a:lnTo>
                    <a:pt x="171" y="672"/>
                  </a:lnTo>
                  <a:lnTo>
                    <a:pt x="171" y="677"/>
                  </a:lnTo>
                  <a:lnTo>
                    <a:pt x="154" y="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194080" y="2926440"/>
              <a:ext cx="31320" cy="154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18" y="23"/>
                  </a:moveTo>
                  <a:lnTo>
                    <a:pt x="18" y="17"/>
                  </a:lnTo>
                  <a:lnTo>
                    <a:pt x="0" y="17"/>
                  </a:lnTo>
                  <a:lnTo>
                    <a:pt x="0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52" y="0"/>
                  </a:lnTo>
                  <a:lnTo>
                    <a:pt x="52" y="17"/>
                  </a:lnTo>
                  <a:lnTo>
                    <a:pt x="45" y="17"/>
                  </a:lnTo>
                  <a:lnTo>
                    <a:pt x="45" y="23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5198760" y="2984760"/>
              <a:ext cx="684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01600" y="3165840"/>
              <a:ext cx="268920" cy="253080"/>
            </a:xfrm>
            <a:custGeom>
              <a:avLst/>
              <a:gdLst/>
              <a:ahLst/>
              <a:rect l="l" t="t" r="r" b="b"/>
              <a:pathLst>
                <a:path w="489" h="473">
                  <a:moveTo>
                    <a:pt x="170" y="473"/>
                  </a:moveTo>
                  <a:lnTo>
                    <a:pt x="170" y="466"/>
                  </a:lnTo>
                  <a:lnTo>
                    <a:pt x="165" y="466"/>
                  </a:lnTo>
                  <a:lnTo>
                    <a:pt x="165" y="461"/>
                  </a:lnTo>
                  <a:lnTo>
                    <a:pt x="159" y="461"/>
                  </a:lnTo>
                  <a:lnTo>
                    <a:pt x="159" y="455"/>
                  </a:lnTo>
                  <a:lnTo>
                    <a:pt x="154" y="455"/>
                  </a:lnTo>
                  <a:lnTo>
                    <a:pt x="154" y="444"/>
                  </a:lnTo>
                  <a:lnTo>
                    <a:pt x="148" y="444"/>
                  </a:lnTo>
                  <a:lnTo>
                    <a:pt x="148" y="433"/>
                  </a:lnTo>
                  <a:lnTo>
                    <a:pt x="142" y="433"/>
                  </a:lnTo>
                  <a:lnTo>
                    <a:pt x="142" y="421"/>
                  </a:lnTo>
                  <a:lnTo>
                    <a:pt x="137" y="421"/>
                  </a:lnTo>
                  <a:lnTo>
                    <a:pt x="137" y="393"/>
                  </a:lnTo>
                  <a:lnTo>
                    <a:pt x="131" y="393"/>
                  </a:lnTo>
                  <a:lnTo>
                    <a:pt x="131" y="381"/>
                  </a:lnTo>
                  <a:lnTo>
                    <a:pt x="125" y="381"/>
                  </a:lnTo>
                  <a:lnTo>
                    <a:pt x="125" y="369"/>
                  </a:lnTo>
                  <a:lnTo>
                    <a:pt x="119" y="369"/>
                  </a:lnTo>
                  <a:lnTo>
                    <a:pt x="119" y="352"/>
                  </a:lnTo>
                  <a:lnTo>
                    <a:pt x="114" y="352"/>
                  </a:lnTo>
                  <a:lnTo>
                    <a:pt x="114" y="342"/>
                  </a:lnTo>
                  <a:lnTo>
                    <a:pt x="109" y="342"/>
                  </a:lnTo>
                  <a:lnTo>
                    <a:pt x="109" y="330"/>
                  </a:lnTo>
                  <a:lnTo>
                    <a:pt x="102" y="330"/>
                  </a:lnTo>
                  <a:lnTo>
                    <a:pt x="102" y="319"/>
                  </a:lnTo>
                  <a:lnTo>
                    <a:pt x="97" y="319"/>
                  </a:lnTo>
                  <a:lnTo>
                    <a:pt x="97" y="307"/>
                  </a:lnTo>
                  <a:lnTo>
                    <a:pt x="91" y="307"/>
                  </a:lnTo>
                  <a:lnTo>
                    <a:pt x="91" y="296"/>
                  </a:lnTo>
                  <a:lnTo>
                    <a:pt x="85" y="296"/>
                  </a:lnTo>
                  <a:lnTo>
                    <a:pt x="85" y="279"/>
                  </a:lnTo>
                  <a:lnTo>
                    <a:pt x="80" y="279"/>
                  </a:lnTo>
                  <a:lnTo>
                    <a:pt x="80" y="262"/>
                  </a:lnTo>
                  <a:lnTo>
                    <a:pt x="74" y="262"/>
                  </a:lnTo>
                  <a:lnTo>
                    <a:pt x="74" y="250"/>
                  </a:lnTo>
                  <a:lnTo>
                    <a:pt x="68" y="250"/>
                  </a:lnTo>
                  <a:lnTo>
                    <a:pt x="68" y="239"/>
                  </a:lnTo>
                  <a:lnTo>
                    <a:pt x="62" y="239"/>
                  </a:lnTo>
                  <a:lnTo>
                    <a:pt x="62" y="233"/>
                  </a:lnTo>
                  <a:lnTo>
                    <a:pt x="57" y="233"/>
                  </a:lnTo>
                  <a:lnTo>
                    <a:pt x="57" y="228"/>
                  </a:lnTo>
                  <a:lnTo>
                    <a:pt x="51" y="228"/>
                  </a:lnTo>
                  <a:lnTo>
                    <a:pt x="51" y="210"/>
                  </a:lnTo>
                  <a:lnTo>
                    <a:pt x="45" y="210"/>
                  </a:lnTo>
                  <a:lnTo>
                    <a:pt x="45" y="205"/>
                  </a:lnTo>
                  <a:lnTo>
                    <a:pt x="40" y="205"/>
                  </a:lnTo>
                  <a:lnTo>
                    <a:pt x="40" y="171"/>
                  </a:lnTo>
                  <a:lnTo>
                    <a:pt x="34" y="171"/>
                  </a:lnTo>
                  <a:lnTo>
                    <a:pt x="34" y="148"/>
                  </a:lnTo>
                  <a:lnTo>
                    <a:pt x="28" y="148"/>
                  </a:lnTo>
                  <a:lnTo>
                    <a:pt x="28" y="126"/>
                  </a:lnTo>
                  <a:lnTo>
                    <a:pt x="23" y="126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7" y="51"/>
                  </a:lnTo>
                  <a:lnTo>
                    <a:pt x="11" y="51"/>
                  </a:lnTo>
                  <a:lnTo>
                    <a:pt x="11" y="17"/>
                  </a:lnTo>
                  <a:lnTo>
                    <a:pt x="0" y="17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80" y="12"/>
                  </a:lnTo>
                  <a:lnTo>
                    <a:pt x="102" y="12"/>
                  </a:lnTo>
                  <a:lnTo>
                    <a:pt x="102" y="17"/>
                  </a:lnTo>
                  <a:lnTo>
                    <a:pt x="125" y="17"/>
                  </a:lnTo>
                  <a:lnTo>
                    <a:pt x="125" y="22"/>
                  </a:lnTo>
                  <a:lnTo>
                    <a:pt x="159" y="22"/>
                  </a:lnTo>
                  <a:lnTo>
                    <a:pt x="159" y="29"/>
                  </a:lnTo>
                  <a:lnTo>
                    <a:pt x="194" y="29"/>
                  </a:lnTo>
                  <a:lnTo>
                    <a:pt x="194" y="34"/>
                  </a:lnTo>
                  <a:lnTo>
                    <a:pt x="211" y="34"/>
                  </a:lnTo>
                  <a:lnTo>
                    <a:pt x="211" y="40"/>
                  </a:lnTo>
                  <a:lnTo>
                    <a:pt x="244" y="40"/>
                  </a:lnTo>
                  <a:lnTo>
                    <a:pt x="244" y="46"/>
                  </a:lnTo>
                  <a:lnTo>
                    <a:pt x="256" y="46"/>
                  </a:lnTo>
                  <a:lnTo>
                    <a:pt x="256" y="51"/>
                  </a:lnTo>
                  <a:lnTo>
                    <a:pt x="318" y="51"/>
                  </a:lnTo>
                  <a:lnTo>
                    <a:pt x="318" y="46"/>
                  </a:lnTo>
                  <a:lnTo>
                    <a:pt x="347" y="46"/>
                  </a:lnTo>
                  <a:lnTo>
                    <a:pt x="347" y="51"/>
                  </a:lnTo>
                  <a:lnTo>
                    <a:pt x="370" y="51"/>
                  </a:lnTo>
                  <a:lnTo>
                    <a:pt x="370" y="57"/>
                  </a:lnTo>
                  <a:lnTo>
                    <a:pt x="399" y="57"/>
                  </a:lnTo>
                  <a:lnTo>
                    <a:pt x="399" y="62"/>
                  </a:lnTo>
                  <a:lnTo>
                    <a:pt x="421" y="62"/>
                  </a:lnTo>
                  <a:lnTo>
                    <a:pt x="421" y="69"/>
                  </a:lnTo>
                  <a:lnTo>
                    <a:pt x="427" y="69"/>
                  </a:lnTo>
                  <a:lnTo>
                    <a:pt x="427" y="86"/>
                  </a:lnTo>
                  <a:lnTo>
                    <a:pt x="421" y="86"/>
                  </a:lnTo>
                  <a:lnTo>
                    <a:pt x="421" y="91"/>
                  </a:lnTo>
                  <a:lnTo>
                    <a:pt x="415" y="91"/>
                  </a:lnTo>
                  <a:lnTo>
                    <a:pt x="415" y="114"/>
                  </a:lnTo>
                  <a:lnTo>
                    <a:pt x="421" y="114"/>
                  </a:lnTo>
                  <a:lnTo>
                    <a:pt x="421" y="119"/>
                  </a:lnTo>
                  <a:lnTo>
                    <a:pt x="427" y="119"/>
                  </a:lnTo>
                  <a:lnTo>
                    <a:pt x="427" y="126"/>
                  </a:lnTo>
                  <a:lnTo>
                    <a:pt x="432" y="126"/>
                  </a:lnTo>
                  <a:lnTo>
                    <a:pt x="432" y="131"/>
                  </a:lnTo>
                  <a:lnTo>
                    <a:pt x="439" y="131"/>
                  </a:lnTo>
                  <a:lnTo>
                    <a:pt x="439" y="153"/>
                  </a:lnTo>
                  <a:lnTo>
                    <a:pt x="444" y="153"/>
                  </a:lnTo>
                  <a:lnTo>
                    <a:pt x="444" y="176"/>
                  </a:lnTo>
                  <a:lnTo>
                    <a:pt x="449" y="176"/>
                  </a:lnTo>
                  <a:lnTo>
                    <a:pt x="449" y="193"/>
                  </a:lnTo>
                  <a:lnTo>
                    <a:pt x="456" y="193"/>
                  </a:lnTo>
                  <a:lnTo>
                    <a:pt x="456" y="217"/>
                  </a:lnTo>
                  <a:lnTo>
                    <a:pt x="461" y="217"/>
                  </a:lnTo>
                  <a:lnTo>
                    <a:pt x="461" y="233"/>
                  </a:lnTo>
                  <a:lnTo>
                    <a:pt x="467" y="233"/>
                  </a:lnTo>
                  <a:lnTo>
                    <a:pt x="467" y="257"/>
                  </a:lnTo>
                  <a:lnTo>
                    <a:pt x="472" y="257"/>
                  </a:lnTo>
                  <a:lnTo>
                    <a:pt x="472" y="279"/>
                  </a:lnTo>
                  <a:lnTo>
                    <a:pt x="478" y="279"/>
                  </a:lnTo>
                  <a:lnTo>
                    <a:pt x="478" y="290"/>
                  </a:lnTo>
                  <a:lnTo>
                    <a:pt x="484" y="290"/>
                  </a:lnTo>
                  <a:lnTo>
                    <a:pt x="484" y="319"/>
                  </a:lnTo>
                  <a:lnTo>
                    <a:pt x="489" y="319"/>
                  </a:lnTo>
                  <a:lnTo>
                    <a:pt x="489" y="359"/>
                  </a:lnTo>
                  <a:lnTo>
                    <a:pt x="484" y="359"/>
                  </a:lnTo>
                  <a:lnTo>
                    <a:pt x="484" y="364"/>
                  </a:lnTo>
                  <a:lnTo>
                    <a:pt x="449" y="364"/>
                  </a:lnTo>
                  <a:lnTo>
                    <a:pt x="449" y="369"/>
                  </a:lnTo>
                  <a:lnTo>
                    <a:pt x="427" y="369"/>
                  </a:lnTo>
                  <a:lnTo>
                    <a:pt x="427" y="376"/>
                  </a:lnTo>
                  <a:lnTo>
                    <a:pt x="410" y="376"/>
                  </a:lnTo>
                  <a:lnTo>
                    <a:pt x="410" y="381"/>
                  </a:lnTo>
                  <a:lnTo>
                    <a:pt x="392" y="381"/>
                  </a:lnTo>
                  <a:lnTo>
                    <a:pt x="392" y="387"/>
                  </a:lnTo>
                  <a:lnTo>
                    <a:pt x="382" y="387"/>
                  </a:lnTo>
                  <a:lnTo>
                    <a:pt x="382" y="393"/>
                  </a:lnTo>
                  <a:lnTo>
                    <a:pt x="370" y="393"/>
                  </a:lnTo>
                  <a:lnTo>
                    <a:pt x="370" y="398"/>
                  </a:lnTo>
                  <a:lnTo>
                    <a:pt x="353" y="398"/>
                  </a:lnTo>
                  <a:lnTo>
                    <a:pt x="353" y="404"/>
                  </a:lnTo>
                  <a:lnTo>
                    <a:pt x="347" y="404"/>
                  </a:lnTo>
                  <a:lnTo>
                    <a:pt x="347" y="409"/>
                  </a:lnTo>
                  <a:lnTo>
                    <a:pt x="335" y="409"/>
                  </a:lnTo>
                  <a:lnTo>
                    <a:pt x="335" y="416"/>
                  </a:lnTo>
                  <a:lnTo>
                    <a:pt x="318" y="416"/>
                  </a:lnTo>
                  <a:lnTo>
                    <a:pt x="318" y="421"/>
                  </a:lnTo>
                  <a:lnTo>
                    <a:pt x="307" y="421"/>
                  </a:lnTo>
                  <a:lnTo>
                    <a:pt x="307" y="426"/>
                  </a:lnTo>
                  <a:lnTo>
                    <a:pt x="290" y="426"/>
                  </a:lnTo>
                  <a:lnTo>
                    <a:pt x="290" y="433"/>
                  </a:lnTo>
                  <a:lnTo>
                    <a:pt x="284" y="433"/>
                  </a:lnTo>
                  <a:lnTo>
                    <a:pt x="284" y="438"/>
                  </a:lnTo>
                  <a:lnTo>
                    <a:pt x="273" y="438"/>
                  </a:lnTo>
                  <a:lnTo>
                    <a:pt x="273" y="444"/>
                  </a:lnTo>
                  <a:lnTo>
                    <a:pt x="268" y="444"/>
                  </a:lnTo>
                  <a:lnTo>
                    <a:pt x="268" y="450"/>
                  </a:lnTo>
                  <a:lnTo>
                    <a:pt x="251" y="450"/>
                  </a:lnTo>
                  <a:lnTo>
                    <a:pt x="251" y="455"/>
                  </a:lnTo>
                  <a:lnTo>
                    <a:pt x="233" y="455"/>
                  </a:lnTo>
                  <a:lnTo>
                    <a:pt x="233" y="461"/>
                  </a:lnTo>
                  <a:lnTo>
                    <a:pt x="221" y="461"/>
                  </a:lnTo>
                  <a:lnTo>
                    <a:pt x="221" y="466"/>
                  </a:lnTo>
                  <a:lnTo>
                    <a:pt x="204" y="466"/>
                  </a:lnTo>
                  <a:lnTo>
                    <a:pt x="204" y="473"/>
                  </a:lnTo>
                  <a:lnTo>
                    <a:pt x="170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4725360" y="3173760"/>
              <a:ext cx="223200" cy="223200"/>
            </a:xfrm>
            <a:custGeom>
              <a:avLst/>
              <a:gdLst/>
              <a:ahLst/>
              <a:rect l="l" t="t" r="r" b="b"/>
              <a:pathLst>
                <a:path w="411" h="404">
                  <a:moveTo>
                    <a:pt x="137" y="404"/>
                  </a:moveTo>
                  <a:lnTo>
                    <a:pt x="137" y="399"/>
                  </a:lnTo>
                  <a:lnTo>
                    <a:pt x="131" y="399"/>
                  </a:lnTo>
                  <a:lnTo>
                    <a:pt x="131" y="387"/>
                  </a:lnTo>
                  <a:lnTo>
                    <a:pt x="125" y="387"/>
                  </a:lnTo>
                  <a:lnTo>
                    <a:pt x="125" y="370"/>
                  </a:lnTo>
                  <a:lnTo>
                    <a:pt x="120" y="370"/>
                  </a:lnTo>
                  <a:lnTo>
                    <a:pt x="120" y="359"/>
                  </a:lnTo>
                  <a:lnTo>
                    <a:pt x="114" y="359"/>
                  </a:lnTo>
                  <a:lnTo>
                    <a:pt x="114" y="347"/>
                  </a:lnTo>
                  <a:lnTo>
                    <a:pt x="109" y="347"/>
                  </a:lnTo>
                  <a:lnTo>
                    <a:pt x="109" y="325"/>
                  </a:lnTo>
                  <a:lnTo>
                    <a:pt x="103" y="325"/>
                  </a:lnTo>
                  <a:lnTo>
                    <a:pt x="103" y="313"/>
                  </a:lnTo>
                  <a:lnTo>
                    <a:pt x="97" y="313"/>
                  </a:lnTo>
                  <a:lnTo>
                    <a:pt x="97" y="301"/>
                  </a:lnTo>
                  <a:lnTo>
                    <a:pt x="92" y="301"/>
                  </a:lnTo>
                  <a:lnTo>
                    <a:pt x="92" y="290"/>
                  </a:lnTo>
                  <a:lnTo>
                    <a:pt x="86" y="290"/>
                  </a:lnTo>
                  <a:lnTo>
                    <a:pt x="86" y="285"/>
                  </a:lnTo>
                  <a:lnTo>
                    <a:pt x="80" y="285"/>
                  </a:lnTo>
                  <a:lnTo>
                    <a:pt x="80" y="273"/>
                  </a:lnTo>
                  <a:lnTo>
                    <a:pt x="74" y="273"/>
                  </a:lnTo>
                  <a:lnTo>
                    <a:pt x="74" y="262"/>
                  </a:lnTo>
                  <a:lnTo>
                    <a:pt x="69" y="262"/>
                  </a:lnTo>
                  <a:lnTo>
                    <a:pt x="69" y="245"/>
                  </a:lnTo>
                  <a:lnTo>
                    <a:pt x="64" y="245"/>
                  </a:lnTo>
                  <a:lnTo>
                    <a:pt x="64" y="233"/>
                  </a:lnTo>
                  <a:lnTo>
                    <a:pt x="57" y="233"/>
                  </a:lnTo>
                  <a:lnTo>
                    <a:pt x="57" y="21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46" y="205"/>
                  </a:lnTo>
                  <a:lnTo>
                    <a:pt x="46" y="183"/>
                  </a:lnTo>
                  <a:lnTo>
                    <a:pt x="40" y="183"/>
                  </a:lnTo>
                  <a:lnTo>
                    <a:pt x="40" y="171"/>
                  </a:lnTo>
                  <a:lnTo>
                    <a:pt x="35" y="171"/>
                  </a:lnTo>
                  <a:lnTo>
                    <a:pt x="35" y="154"/>
                  </a:lnTo>
                  <a:lnTo>
                    <a:pt x="29" y="154"/>
                  </a:lnTo>
                  <a:lnTo>
                    <a:pt x="29" y="142"/>
                  </a:lnTo>
                  <a:lnTo>
                    <a:pt x="23" y="142"/>
                  </a:lnTo>
                  <a:lnTo>
                    <a:pt x="23" y="109"/>
                  </a:lnTo>
                  <a:lnTo>
                    <a:pt x="17" y="109"/>
                  </a:lnTo>
                  <a:lnTo>
                    <a:pt x="17" y="92"/>
                  </a:lnTo>
                  <a:lnTo>
                    <a:pt x="12" y="92"/>
                  </a:lnTo>
                  <a:lnTo>
                    <a:pt x="12" y="74"/>
                  </a:lnTo>
                  <a:lnTo>
                    <a:pt x="6" y="74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64" y="6"/>
                  </a:lnTo>
                  <a:lnTo>
                    <a:pt x="64" y="12"/>
                  </a:lnTo>
                  <a:lnTo>
                    <a:pt x="92" y="12"/>
                  </a:lnTo>
                  <a:lnTo>
                    <a:pt x="92" y="17"/>
                  </a:lnTo>
                  <a:lnTo>
                    <a:pt x="120" y="17"/>
                  </a:lnTo>
                  <a:lnTo>
                    <a:pt x="120" y="23"/>
                  </a:lnTo>
                  <a:lnTo>
                    <a:pt x="142" y="23"/>
                  </a:lnTo>
                  <a:lnTo>
                    <a:pt x="142" y="28"/>
                  </a:lnTo>
                  <a:lnTo>
                    <a:pt x="154" y="28"/>
                  </a:lnTo>
                  <a:lnTo>
                    <a:pt x="154" y="35"/>
                  </a:lnTo>
                  <a:lnTo>
                    <a:pt x="194" y="35"/>
                  </a:lnTo>
                  <a:lnTo>
                    <a:pt x="194" y="40"/>
                  </a:lnTo>
                  <a:lnTo>
                    <a:pt x="245" y="40"/>
                  </a:lnTo>
                  <a:lnTo>
                    <a:pt x="245" y="45"/>
                  </a:lnTo>
                  <a:lnTo>
                    <a:pt x="313" y="45"/>
                  </a:lnTo>
                  <a:lnTo>
                    <a:pt x="313" y="52"/>
                  </a:lnTo>
                  <a:lnTo>
                    <a:pt x="330" y="52"/>
                  </a:lnTo>
                  <a:lnTo>
                    <a:pt x="330" y="57"/>
                  </a:lnTo>
                  <a:lnTo>
                    <a:pt x="337" y="57"/>
                  </a:lnTo>
                  <a:lnTo>
                    <a:pt x="337" y="63"/>
                  </a:lnTo>
                  <a:lnTo>
                    <a:pt x="342" y="63"/>
                  </a:lnTo>
                  <a:lnTo>
                    <a:pt x="342" y="74"/>
                  </a:lnTo>
                  <a:lnTo>
                    <a:pt x="347" y="74"/>
                  </a:lnTo>
                  <a:lnTo>
                    <a:pt x="347" y="85"/>
                  </a:lnTo>
                  <a:lnTo>
                    <a:pt x="354" y="85"/>
                  </a:lnTo>
                  <a:lnTo>
                    <a:pt x="354" y="102"/>
                  </a:lnTo>
                  <a:lnTo>
                    <a:pt x="359" y="102"/>
                  </a:lnTo>
                  <a:lnTo>
                    <a:pt x="359" y="114"/>
                  </a:lnTo>
                  <a:lnTo>
                    <a:pt x="365" y="114"/>
                  </a:lnTo>
                  <a:lnTo>
                    <a:pt x="365" y="126"/>
                  </a:lnTo>
                  <a:lnTo>
                    <a:pt x="370" y="126"/>
                  </a:lnTo>
                  <a:lnTo>
                    <a:pt x="370" y="137"/>
                  </a:lnTo>
                  <a:lnTo>
                    <a:pt x="376" y="137"/>
                  </a:lnTo>
                  <a:lnTo>
                    <a:pt x="376" y="183"/>
                  </a:lnTo>
                  <a:lnTo>
                    <a:pt x="382" y="183"/>
                  </a:lnTo>
                  <a:lnTo>
                    <a:pt x="382" y="194"/>
                  </a:lnTo>
                  <a:lnTo>
                    <a:pt x="387" y="194"/>
                  </a:lnTo>
                  <a:lnTo>
                    <a:pt x="387" y="211"/>
                  </a:lnTo>
                  <a:lnTo>
                    <a:pt x="394" y="211"/>
                  </a:lnTo>
                  <a:lnTo>
                    <a:pt x="394" y="233"/>
                  </a:lnTo>
                  <a:lnTo>
                    <a:pt x="399" y="233"/>
                  </a:lnTo>
                  <a:lnTo>
                    <a:pt x="399" y="268"/>
                  </a:lnTo>
                  <a:lnTo>
                    <a:pt x="404" y="268"/>
                  </a:lnTo>
                  <a:lnTo>
                    <a:pt x="404" y="285"/>
                  </a:lnTo>
                  <a:lnTo>
                    <a:pt x="411" y="285"/>
                  </a:lnTo>
                  <a:lnTo>
                    <a:pt x="411" y="296"/>
                  </a:lnTo>
                  <a:lnTo>
                    <a:pt x="404" y="296"/>
                  </a:lnTo>
                  <a:lnTo>
                    <a:pt x="404" y="301"/>
                  </a:lnTo>
                  <a:lnTo>
                    <a:pt x="394" y="301"/>
                  </a:lnTo>
                  <a:lnTo>
                    <a:pt x="394" y="308"/>
                  </a:lnTo>
                  <a:lnTo>
                    <a:pt x="382" y="308"/>
                  </a:lnTo>
                  <a:lnTo>
                    <a:pt x="382" y="313"/>
                  </a:lnTo>
                  <a:lnTo>
                    <a:pt x="365" y="313"/>
                  </a:lnTo>
                  <a:lnTo>
                    <a:pt x="365" y="318"/>
                  </a:lnTo>
                  <a:lnTo>
                    <a:pt x="347" y="318"/>
                  </a:lnTo>
                  <a:lnTo>
                    <a:pt x="347" y="325"/>
                  </a:lnTo>
                  <a:lnTo>
                    <a:pt x="330" y="325"/>
                  </a:lnTo>
                  <a:lnTo>
                    <a:pt x="330" y="330"/>
                  </a:lnTo>
                  <a:lnTo>
                    <a:pt x="308" y="330"/>
                  </a:lnTo>
                  <a:lnTo>
                    <a:pt x="308" y="335"/>
                  </a:lnTo>
                  <a:lnTo>
                    <a:pt x="296" y="335"/>
                  </a:lnTo>
                  <a:lnTo>
                    <a:pt x="296" y="342"/>
                  </a:lnTo>
                  <a:lnTo>
                    <a:pt x="280" y="342"/>
                  </a:lnTo>
                  <a:lnTo>
                    <a:pt x="280" y="347"/>
                  </a:lnTo>
                  <a:lnTo>
                    <a:pt x="256" y="347"/>
                  </a:lnTo>
                  <a:lnTo>
                    <a:pt x="256" y="353"/>
                  </a:lnTo>
                  <a:lnTo>
                    <a:pt x="245" y="353"/>
                  </a:lnTo>
                  <a:lnTo>
                    <a:pt x="245" y="359"/>
                  </a:lnTo>
                  <a:lnTo>
                    <a:pt x="233" y="359"/>
                  </a:lnTo>
                  <a:lnTo>
                    <a:pt x="233" y="364"/>
                  </a:lnTo>
                  <a:lnTo>
                    <a:pt x="223" y="364"/>
                  </a:lnTo>
                  <a:lnTo>
                    <a:pt x="223" y="370"/>
                  </a:lnTo>
                  <a:lnTo>
                    <a:pt x="211" y="370"/>
                  </a:lnTo>
                  <a:lnTo>
                    <a:pt x="211" y="375"/>
                  </a:lnTo>
                  <a:lnTo>
                    <a:pt x="206" y="375"/>
                  </a:lnTo>
                  <a:lnTo>
                    <a:pt x="206" y="382"/>
                  </a:lnTo>
                  <a:lnTo>
                    <a:pt x="199" y="382"/>
                  </a:lnTo>
                  <a:lnTo>
                    <a:pt x="199" y="387"/>
                  </a:lnTo>
                  <a:lnTo>
                    <a:pt x="188" y="387"/>
                  </a:lnTo>
                  <a:lnTo>
                    <a:pt x="188" y="392"/>
                  </a:lnTo>
                  <a:lnTo>
                    <a:pt x="171" y="392"/>
                  </a:lnTo>
                  <a:lnTo>
                    <a:pt x="171" y="399"/>
                  </a:lnTo>
                  <a:lnTo>
                    <a:pt x="154" y="399"/>
                  </a:lnTo>
                  <a:lnTo>
                    <a:pt x="154" y="404"/>
                  </a:lnTo>
                  <a:lnTo>
                    <a:pt x="137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3407760" y="2187720"/>
              <a:ext cx="1562760" cy="1393560"/>
            </a:xfrm>
            <a:custGeom>
              <a:avLst/>
              <a:gdLst/>
              <a:ahLst/>
              <a:rect l="l" t="t" r="r" b="b"/>
              <a:pathLst>
                <a:path w="2852" h="2526">
                  <a:moveTo>
                    <a:pt x="1144" y="2526"/>
                  </a:moveTo>
                  <a:lnTo>
                    <a:pt x="1144" y="2515"/>
                  </a:lnTo>
                  <a:lnTo>
                    <a:pt x="1138" y="2515"/>
                  </a:lnTo>
                  <a:lnTo>
                    <a:pt x="1138" y="2509"/>
                  </a:lnTo>
                  <a:lnTo>
                    <a:pt x="1133" y="2509"/>
                  </a:lnTo>
                  <a:lnTo>
                    <a:pt x="1133" y="2498"/>
                  </a:lnTo>
                  <a:lnTo>
                    <a:pt x="1127" y="2498"/>
                  </a:lnTo>
                  <a:lnTo>
                    <a:pt x="1127" y="2492"/>
                  </a:lnTo>
                  <a:lnTo>
                    <a:pt x="1121" y="2492"/>
                  </a:lnTo>
                  <a:lnTo>
                    <a:pt x="1121" y="2469"/>
                  </a:lnTo>
                  <a:lnTo>
                    <a:pt x="1116" y="2469"/>
                  </a:lnTo>
                  <a:lnTo>
                    <a:pt x="1116" y="2452"/>
                  </a:lnTo>
                  <a:lnTo>
                    <a:pt x="1109" y="2452"/>
                  </a:lnTo>
                  <a:lnTo>
                    <a:pt x="1109" y="2430"/>
                  </a:lnTo>
                  <a:lnTo>
                    <a:pt x="1104" y="2430"/>
                  </a:lnTo>
                  <a:lnTo>
                    <a:pt x="1104" y="2412"/>
                  </a:lnTo>
                  <a:lnTo>
                    <a:pt x="1099" y="2412"/>
                  </a:lnTo>
                  <a:lnTo>
                    <a:pt x="1099" y="2395"/>
                  </a:lnTo>
                  <a:lnTo>
                    <a:pt x="1092" y="2395"/>
                  </a:lnTo>
                  <a:lnTo>
                    <a:pt x="1092" y="2378"/>
                  </a:lnTo>
                  <a:lnTo>
                    <a:pt x="1087" y="2378"/>
                  </a:lnTo>
                  <a:lnTo>
                    <a:pt x="1087" y="2362"/>
                  </a:lnTo>
                  <a:lnTo>
                    <a:pt x="1081" y="2362"/>
                  </a:lnTo>
                  <a:lnTo>
                    <a:pt x="1081" y="2345"/>
                  </a:lnTo>
                  <a:lnTo>
                    <a:pt x="1075" y="2345"/>
                  </a:lnTo>
                  <a:lnTo>
                    <a:pt x="1075" y="2316"/>
                  </a:lnTo>
                  <a:lnTo>
                    <a:pt x="1070" y="2316"/>
                  </a:lnTo>
                  <a:lnTo>
                    <a:pt x="1070" y="2310"/>
                  </a:lnTo>
                  <a:lnTo>
                    <a:pt x="1064" y="2310"/>
                  </a:lnTo>
                  <a:lnTo>
                    <a:pt x="1064" y="2299"/>
                  </a:lnTo>
                  <a:lnTo>
                    <a:pt x="1059" y="2299"/>
                  </a:lnTo>
                  <a:lnTo>
                    <a:pt x="1059" y="2264"/>
                  </a:lnTo>
                  <a:lnTo>
                    <a:pt x="1052" y="2264"/>
                  </a:lnTo>
                  <a:lnTo>
                    <a:pt x="1052" y="2242"/>
                  </a:lnTo>
                  <a:lnTo>
                    <a:pt x="1047" y="2242"/>
                  </a:lnTo>
                  <a:lnTo>
                    <a:pt x="1047" y="2214"/>
                  </a:lnTo>
                  <a:lnTo>
                    <a:pt x="1042" y="2214"/>
                  </a:lnTo>
                  <a:lnTo>
                    <a:pt x="1042" y="2202"/>
                  </a:lnTo>
                  <a:lnTo>
                    <a:pt x="1035" y="2202"/>
                  </a:lnTo>
                  <a:lnTo>
                    <a:pt x="1035" y="2174"/>
                  </a:lnTo>
                  <a:lnTo>
                    <a:pt x="1030" y="2174"/>
                  </a:lnTo>
                  <a:lnTo>
                    <a:pt x="1030" y="2162"/>
                  </a:lnTo>
                  <a:lnTo>
                    <a:pt x="1024" y="2162"/>
                  </a:lnTo>
                  <a:lnTo>
                    <a:pt x="1024" y="2140"/>
                  </a:lnTo>
                  <a:lnTo>
                    <a:pt x="1018" y="2140"/>
                  </a:lnTo>
                  <a:lnTo>
                    <a:pt x="1018" y="2122"/>
                  </a:lnTo>
                  <a:lnTo>
                    <a:pt x="1014" y="2122"/>
                  </a:lnTo>
                  <a:lnTo>
                    <a:pt x="1014" y="2094"/>
                  </a:lnTo>
                  <a:lnTo>
                    <a:pt x="1007" y="2094"/>
                  </a:lnTo>
                  <a:lnTo>
                    <a:pt x="1007" y="2077"/>
                  </a:lnTo>
                  <a:lnTo>
                    <a:pt x="1002" y="2077"/>
                  </a:lnTo>
                  <a:lnTo>
                    <a:pt x="1002" y="2065"/>
                  </a:lnTo>
                  <a:lnTo>
                    <a:pt x="997" y="2065"/>
                  </a:lnTo>
                  <a:lnTo>
                    <a:pt x="997" y="2037"/>
                  </a:lnTo>
                  <a:lnTo>
                    <a:pt x="990" y="2037"/>
                  </a:lnTo>
                  <a:lnTo>
                    <a:pt x="990" y="2015"/>
                  </a:lnTo>
                  <a:lnTo>
                    <a:pt x="985" y="2015"/>
                  </a:lnTo>
                  <a:lnTo>
                    <a:pt x="985" y="2003"/>
                  </a:lnTo>
                  <a:lnTo>
                    <a:pt x="979" y="2003"/>
                  </a:lnTo>
                  <a:lnTo>
                    <a:pt x="979" y="1991"/>
                  </a:lnTo>
                  <a:lnTo>
                    <a:pt x="973" y="1991"/>
                  </a:lnTo>
                  <a:lnTo>
                    <a:pt x="973" y="1969"/>
                  </a:lnTo>
                  <a:lnTo>
                    <a:pt x="968" y="1969"/>
                  </a:lnTo>
                  <a:lnTo>
                    <a:pt x="968" y="1941"/>
                  </a:lnTo>
                  <a:lnTo>
                    <a:pt x="962" y="1941"/>
                  </a:lnTo>
                  <a:lnTo>
                    <a:pt x="962" y="1929"/>
                  </a:lnTo>
                  <a:lnTo>
                    <a:pt x="957" y="1929"/>
                  </a:lnTo>
                  <a:lnTo>
                    <a:pt x="957" y="1912"/>
                  </a:lnTo>
                  <a:lnTo>
                    <a:pt x="950" y="1912"/>
                  </a:lnTo>
                  <a:lnTo>
                    <a:pt x="950" y="1895"/>
                  </a:lnTo>
                  <a:lnTo>
                    <a:pt x="945" y="1895"/>
                  </a:lnTo>
                  <a:lnTo>
                    <a:pt x="945" y="1855"/>
                  </a:lnTo>
                  <a:lnTo>
                    <a:pt x="940" y="1855"/>
                  </a:lnTo>
                  <a:lnTo>
                    <a:pt x="940" y="1849"/>
                  </a:lnTo>
                  <a:lnTo>
                    <a:pt x="933" y="1849"/>
                  </a:lnTo>
                  <a:lnTo>
                    <a:pt x="933" y="1827"/>
                  </a:lnTo>
                  <a:lnTo>
                    <a:pt x="928" y="1827"/>
                  </a:lnTo>
                  <a:lnTo>
                    <a:pt x="928" y="1810"/>
                  </a:lnTo>
                  <a:lnTo>
                    <a:pt x="922" y="1810"/>
                  </a:lnTo>
                  <a:lnTo>
                    <a:pt x="922" y="1792"/>
                  </a:lnTo>
                  <a:lnTo>
                    <a:pt x="916" y="1792"/>
                  </a:lnTo>
                  <a:lnTo>
                    <a:pt x="916" y="1775"/>
                  </a:lnTo>
                  <a:lnTo>
                    <a:pt x="911" y="1775"/>
                  </a:lnTo>
                  <a:lnTo>
                    <a:pt x="911" y="1736"/>
                  </a:lnTo>
                  <a:lnTo>
                    <a:pt x="905" y="1736"/>
                  </a:lnTo>
                  <a:lnTo>
                    <a:pt x="905" y="1729"/>
                  </a:lnTo>
                  <a:lnTo>
                    <a:pt x="900" y="1729"/>
                  </a:lnTo>
                  <a:lnTo>
                    <a:pt x="900" y="1718"/>
                  </a:lnTo>
                  <a:lnTo>
                    <a:pt x="893" y="1718"/>
                  </a:lnTo>
                  <a:lnTo>
                    <a:pt x="893" y="1701"/>
                  </a:lnTo>
                  <a:lnTo>
                    <a:pt x="888" y="1701"/>
                  </a:lnTo>
                  <a:lnTo>
                    <a:pt x="888" y="1673"/>
                  </a:lnTo>
                  <a:lnTo>
                    <a:pt x="883" y="1673"/>
                  </a:lnTo>
                  <a:lnTo>
                    <a:pt x="883" y="1656"/>
                  </a:lnTo>
                  <a:lnTo>
                    <a:pt x="876" y="1656"/>
                  </a:lnTo>
                  <a:lnTo>
                    <a:pt x="876" y="1644"/>
                  </a:lnTo>
                  <a:lnTo>
                    <a:pt x="871" y="1644"/>
                  </a:lnTo>
                  <a:lnTo>
                    <a:pt x="871" y="1622"/>
                  </a:lnTo>
                  <a:lnTo>
                    <a:pt x="865" y="1622"/>
                  </a:lnTo>
                  <a:lnTo>
                    <a:pt x="865" y="1611"/>
                  </a:lnTo>
                  <a:lnTo>
                    <a:pt x="859" y="1611"/>
                  </a:lnTo>
                  <a:lnTo>
                    <a:pt x="859" y="1599"/>
                  </a:lnTo>
                  <a:lnTo>
                    <a:pt x="854" y="1599"/>
                  </a:lnTo>
                  <a:lnTo>
                    <a:pt x="854" y="1587"/>
                  </a:lnTo>
                  <a:lnTo>
                    <a:pt x="848" y="1587"/>
                  </a:lnTo>
                  <a:lnTo>
                    <a:pt x="848" y="1570"/>
                  </a:lnTo>
                  <a:lnTo>
                    <a:pt x="843" y="1570"/>
                  </a:lnTo>
                  <a:lnTo>
                    <a:pt x="843" y="1559"/>
                  </a:lnTo>
                  <a:lnTo>
                    <a:pt x="836" y="1559"/>
                  </a:lnTo>
                  <a:lnTo>
                    <a:pt x="836" y="1547"/>
                  </a:lnTo>
                  <a:lnTo>
                    <a:pt x="831" y="1547"/>
                  </a:lnTo>
                  <a:lnTo>
                    <a:pt x="831" y="1537"/>
                  </a:lnTo>
                  <a:lnTo>
                    <a:pt x="826" y="1537"/>
                  </a:lnTo>
                  <a:lnTo>
                    <a:pt x="826" y="1520"/>
                  </a:lnTo>
                  <a:lnTo>
                    <a:pt x="819" y="1520"/>
                  </a:lnTo>
                  <a:lnTo>
                    <a:pt x="819" y="1508"/>
                  </a:lnTo>
                  <a:lnTo>
                    <a:pt x="814" y="1508"/>
                  </a:lnTo>
                  <a:lnTo>
                    <a:pt x="814" y="1496"/>
                  </a:lnTo>
                  <a:lnTo>
                    <a:pt x="808" y="1496"/>
                  </a:lnTo>
                  <a:lnTo>
                    <a:pt x="808" y="1473"/>
                  </a:lnTo>
                  <a:lnTo>
                    <a:pt x="802" y="1473"/>
                  </a:lnTo>
                  <a:lnTo>
                    <a:pt x="802" y="1456"/>
                  </a:lnTo>
                  <a:lnTo>
                    <a:pt x="797" y="1456"/>
                  </a:lnTo>
                  <a:lnTo>
                    <a:pt x="797" y="1451"/>
                  </a:lnTo>
                  <a:lnTo>
                    <a:pt x="791" y="1451"/>
                  </a:lnTo>
                  <a:lnTo>
                    <a:pt x="791" y="1439"/>
                  </a:lnTo>
                  <a:lnTo>
                    <a:pt x="785" y="1439"/>
                  </a:lnTo>
                  <a:lnTo>
                    <a:pt x="785" y="1428"/>
                  </a:lnTo>
                  <a:lnTo>
                    <a:pt x="779" y="1428"/>
                  </a:lnTo>
                  <a:lnTo>
                    <a:pt x="779" y="1423"/>
                  </a:lnTo>
                  <a:lnTo>
                    <a:pt x="774" y="1423"/>
                  </a:lnTo>
                  <a:lnTo>
                    <a:pt x="774" y="1406"/>
                  </a:lnTo>
                  <a:lnTo>
                    <a:pt x="769" y="1406"/>
                  </a:lnTo>
                  <a:lnTo>
                    <a:pt x="769" y="1399"/>
                  </a:lnTo>
                  <a:lnTo>
                    <a:pt x="762" y="1399"/>
                  </a:lnTo>
                  <a:lnTo>
                    <a:pt x="762" y="1394"/>
                  </a:lnTo>
                  <a:lnTo>
                    <a:pt x="757" y="1394"/>
                  </a:lnTo>
                  <a:lnTo>
                    <a:pt x="757" y="1382"/>
                  </a:lnTo>
                  <a:lnTo>
                    <a:pt x="751" y="1382"/>
                  </a:lnTo>
                  <a:lnTo>
                    <a:pt x="751" y="1377"/>
                  </a:lnTo>
                  <a:lnTo>
                    <a:pt x="745" y="1377"/>
                  </a:lnTo>
                  <a:lnTo>
                    <a:pt x="745" y="1366"/>
                  </a:lnTo>
                  <a:lnTo>
                    <a:pt x="740" y="1366"/>
                  </a:lnTo>
                  <a:lnTo>
                    <a:pt x="740" y="1359"/>
                  </a:lnTo>
                  <a:lnTo>
                    <a:pt x="734" y="1359"/>
                  </a:lnTo>
                  <a:lnTo>
                    <a:pt x="734" y="1342"/>
                  </a:lnTo>
                  <a:lnTo>
                    <a:pt x="728" y="1342"/>
                  </a:lnTo>
                  <a:lnTo>
                    <a:pt x="728" y="1332"/>
                  </a:lnTo>
                  <a:lnTo>
                    <a:pt x="722" y="1332"/>
                  </a:lnTo>
                  <a:lnTo>
                    <a:pt x="722" y="1309"/>
                  </a:lnTo>
                  <a:lnTo>
                    <a:pt x="717" y="1309"/>
                  </a:lnTo>
                  <a:lnTo>
                    <a:pt x="717" y="1302"/>
                  </a:lnTo>
                  <a:lnTo>
                    <a:pt x="712" y="1302"/>
                  </a:lnTo>
                  <a:lnTo>
                    <a:pt x="712" y="1297"/>
                  </a:lnTo>
                  <a:lnTo>
                    <a:pt x="705" y="1297"/>
                  </a:lnTo>
                  <a:lnTo>
                    <a:pt x="705" y="1292"/>
                  </a:lnTo>
                  <a:lnTo>
                    <a:pt x="700" y="1292"/>
                  </a:lnTo>
                  <a:lnTo>
                    <a:pt x="700" y="1280"/>
                  </a:lnTo>
                  <a:lnTo>
                    <a:pt x="695" y="1280"/>
                  </a:lnTo>
                  <a:lnTo>
                    <a:pt x="695" y="1269"/>
                  </a:lnTo>
                  <a:lnTo>
                    <a:pt x="688" y="1269"/>
                  </a:lnTo>
                  <a:lnTo>
                    <a:pt x="688" y="1263"/>
                  </a:lnTo>
                  <a:lnTo>
                    <a:pt x="683" y="1263"/>
                  </a:lnTo>
                  <a:lnTo>
                    <a:pt x="683" y="1252"/>
                  </a:lnTo>
                  <a:lnTo>
                    <a:pt x="677" y="1252"/>
                  </a:lnTo>
                  <a:lnTo>
                    <a:pt x="677" y="1240"/>
                  </a:lnTo>
                  <a:lnTo>
                    <a:pt x="671" y="1240"/>
                  </a:lnTo>
                  <a:lnTo>
                    <a:pt x="671" y="1229"/>
                  </a:lnTo>
                  <a:lnTo>
                    <a:pt x="665" y="1229"/>
                  </a:lnTo>
                  <a:lnTo>
                    <a:pt x="665" y="1218"/>
                  </a:lnTo>
                  <a:lnTo>
                    <a:pt x="660" y="1218"/>
                  </a:lnTo>
                  <a:lnTo>
                    <a:pt x="660" y="1212"/>
                  </a:lnTo>
                  <a:lnTo>
                    <a:pt x="655" y="1212"/>
                  </a:lnTo>
                  <a:lnTo>
                    <a:pt x="655" y="1200"/>
                  </a:lnTo>
                  <a:lnTo>
                    <a:pt x="648" y="1200"/>
                  </a:lnTo>
                  <a:lnTo>
                    <a:pt x="648" y="1195"/>
                  </a:lnTo>
                  <a:lnTo>
                    <a:pt x="643" y="1195"/>
                  </a:lnTo>
                  <a:lnTo>
                    <a:pt x="643" y="1183"/>
                  </a:lnTo>
                  <a:lnTo>
                    <a:pt x="638" y="1183"/>
                  </a:lnTo>
                  <a:lnTo>
                    <a:pt x="638" y="1178"/>
                  </a:lnTo>
                  <a:lnTo>
                    <a:pt x="631" y="1178"/>
                  </a:lnTo>
                  <a:lnTo>
                    <a:pt x="631" y="1166"/>
                  </a:lnTo>
                  <a:lnTo>
                    <a:pt x="626" y="1166"/>
                  </a:lnTo>
                  <a:lnTo>
                    <a:pt x="626" y="1155"/>
                  </a:lnTo>
                  <a:lnTo>
                    <a:pt x="620" y="1155"/>
                  </a:lnTo>
                  <a:lnTo>
                    <a:pt x="620" y="1138"/>
                  </a:lnTo>
                  <a:lnTo>
                    <a:pt x="614" y="1138"/>
                  </a:lnTo>
                  <a:lnTo>
                    <a:pt x="614" y="1126"/>
                  </a:lnTo>
                  <a:lnTo>
                    <a:pt x="609" y="1126"/>
                  </a:lnTo>
                  <a:lnTo>
                    <a:pt x="609" y="1121"/>
                  </a:lnTo>
                  <a:lnTo>
                    <a:pt x="603" y="1121"/>
                  </a:lnTo>
                  <a:lnTo>
                    <a:pt x="603" y="1109"/>
                  </a:lnTo>
                  <a:lnTo>
                    <a:pt x="598" y="1109"/>
                  </a:lnTo>
                  <a:lnTo>
                    <a:pt x="598" y="1098"/>
                  </a:lnTo>
                  <a:lnTo>
                    <a:pt x="592" y="1098"/>
                  </a:lnTo>
                  <a:lnTo>
                    <a:pt x="592" y="1087"/>
                  </a:lnTo>
                  <a:lnTo>
                    <a:pt x="586" y="1087"/>
                  </a:lnTo>
                  <a:lnTo>
                    <a:pt x="586" y="1076"/>
                  </a:lnTo>
                  <a:lnTo>
                    <a:pt x="581" y="1076"/>
                  </a:lnTo>
                  <a:lnTo>
                    <a:pt x="581" y="1069"/>
                  </a:lnTo>
                  <a:lnTo>
                    <a:pt x="575" y="1069"/>
                  </a:lnTo>
                  <a:lnTo>
                    <a:pt x="575" y="1059"/>
                  </a:lnTo>
                  <a:lnTo>
                    <a:pt x="569" y="1059"/>
                  </a:lnTo>
                  <a:lnTo>
                    <a:pt x="569" y="1052"/>
                  </a:lnTo>
                  <a:lnTo>
                    <a:pt x="563" y="1052"/>
                  </a:lnTo>
                  <a:lnTo>
                    <a:pt x="563" y="1041"/>
                  </a:lnTo>
                  <a:lnTo>
                    <a:pt x="558" y="1041"/>
                  </a:lnTo>
                  <a:lnTo>
                    <a:pt x="558" y="1030"/>
                  </a:lnTo>
                  <a:lnTo>
                    <a:pt x="553" y="1030"/>
                  </a:lnTo>
                  <a:lnTo>
                    <a:pt x="553" y="1024"/>
                  </a:lnTo>
                  <a:lnTo>
                    <a:pt x="546" y="1024"/>
                  </a:lnTo>
                  <a:lnTo>
                    <a:pt x="546" y="1019"/>
                  </a:lnTo>
                  <a:lnTo>
                    <a:pt x="541" y="1019"/>
                  </a:lnTo>
                  <a:lnTo>
                    <a:pt x="541" y="1007"/>
                  </a:lnTo>
                  <a:lnTo>
                    <a:pt x="535" y="1007"/>
                  </a:lnTo>
                  <a:lnTo>
                    <a:pt x="535" y="995"/>
                  </a:lnTo>
                  <a:lnTo>
                    <a:pt x="529" y="995"/>
                  </a:lnTo>
                  <a:lnTo>
                    <a:pt x="529" y="978"/>
                  </a:lnTo>
                  <a:lnTo>
                    <a:pt x="524" y="978"/>
                  </a:lnTo>
                  <a:lnTo>
                    <a:pt x="524" y="973"/>
                  </a:lnTo>
                  <a:lnTo>
                    <a:pt x="518" y="973"/>
                  </a:lnTo>
                  <a:lnTo>
                    <a:pt x="518" y="962"/>
                  </a:lnTo>
                  <a:lnTo>
                    <a:pt x="512" y="962"/>
                  </a:lnTo>
                  <a:lnTo>
                    <a:pt x="512" y="955"/>
                  </a:lnTo>
                  <a:lnTo>
                    <a:pt x="506" y="955"/>
                  </a:lnTo>
                  <a:lnTo>
                    <a:pt x="506" y="945"/>
                  </a:lnTo>
                  <a:lnTo>
                    <a:pt x="501" y="945"/>
                  </a:lnTo>
                  <a:lnTo>
                    <a:pt x="501" y="933"/>
                  </a:lnTo>
                  <a:lnTo>
                    <a:pt x="495" y="933"/>
                  </a:lnTo>
                  <a:lnTo>
                    <a:pt x="495" y="921"/>
                  </a:lnTo>
                  <a:lnTo>
                    <a:pt x="489" y="921"/>
                  </a:lnTo>
                  <a:lnTo>
                    <a:pt x="489" y="910"/>
                  </a:lnTo>
                  <a:lnTo>
                    <a:pt x="484" y="910"/>
                  </a:lnTo>
                  <a:lnTo>
                    <a:pt x="484" y="905"/>
                  </a:lnTo>
                  <a:lnTo>
                    <a:pt x="478" y="905"/>
                  </a:lnTo>
                  <a:lnTo>
                    <a:pt x="478" y="898"/>
                  </a:lnTo>
                  <a:lnTo>
                    <a:pt x="472" y="898"/>
                  </a:lnTo>
                  <a:lnTo>
                    <a:pt x="472" y="893"/>
                  </a:lnTo>
                  <a:lnTo>
                    <a:pt x="467" y="893"/>
                  </a:lnTo>
                  <a:lnTo>
                    <a:pt x="467" y="888"/>
                  </a:lnTo>
                  <a:lnTo>
                    <a:pt x="461" y="888"/>
                  </a:lnTo>
                  <a:lnTo>
                    <a:pt x="461" y="876"/>
                  </a:lnTo>
                  <a:lnTo>
                    <a:pt x="455" y="876"/>
                  </a:lnTo>
                  <a:lnTo>
                    <a:pt x="455" y="865"/>
                  </a:lnTo>
                  <a:lnTo>
                    <a:pt x="449" y="865"/>
                  </a:lnTo>
                  <a:lnTo>
                    <a:pt x="449" y="859"/>
                  </a:lnTo>
                  <a:lnTo>
                    <a:pt x="444" y="859"/>
                  </a:lnTo>
                  <a:lnTo>
                    <a:pt x="444" y="848"/>
                  </a:lnTo>
                  <a:lnTo>
                    <a:pt x="438" y="848"/>
                  </a:lnTo>
                  <a:lnTo>
                    <a:pt x="438" y="843"/>
                  </a:lnTo>
                  <a:lnTo>
                    <a:pt x="432" y="843"/>
                  </a:lnTo>
                  <a:lnTo>
                    <a:pt x="432" y="831"/>
                  </a:lnTo>
                  <a:lnTo>
                    <a:pt x="427" y="831"/>
                  </a:lnTo>
                  <a:lnTo>
                    <a:pt x="427" y="819"/>
                  </a:lnTo>
                  <a:lnTo>
                    <a:pt x="422" y="819"/>
                  </a:lnTo>
                  <a:lnTo>
                    <a:pt x="422" y="808"/>
                  </a:lnTo>
                  <a:lnTo>
                    <a:pt x="415" y="808"/>
                  </a:lnTo>
                  <a:lnTo>
                    <a:pt x="415" y="796"/>
                  </a:lnTo>
                  <a:lnTo>
                    <a:pt x="410" y="796"/>
                  </a:lnTo>
                  <a:lnTo>
                    <a:pt x="410" y="786"/>
                  </a:lnTo>
                  <a:lnTo>
                    <a:pt x="404" y="786"/>
                  </a:lnTo>
                  <a:lnTo>
                    <a:pt x="404" y="774"/>
                  </a:lnTo>
                  <a:lnTo>
                    <a:pt x="398" y="774"/>
                  </a:lnTo>
                  <a:lnTo>
                    <a:pt x="398" y="762"/>
                  </a:lnTo>
                  <a:lnTo>
                    <a:pt x="392" y="762"/>
                  </a:lnTo>
                  <a:lnTo>
                    <a:pt x="392" y="751"/>
                  </a:lnTo>
                  <a:lnTo>
                    <a:pt x="387" y="751"/>
                  </a:lnTo>
                  <a:lnTo>
                    <a:pt x="387" y="734"/>
                  </a:lnTo>
                  <a:lnTo>
                    <a:pt x="381" y="734"/>
                  </a:lnTo>
                  <a:lnTo>
                    <a:pt x="381" y="729"/>
                  </a:lnTo>
                  <a:lnTo>
                    <a:pt x="375" y="729"/>
                  </a:lnTo>
                  <a:lnTo>
                    <a:pt x="375" y="712"/>
                  </a:lnTo>
                  <a:lnTo>
                    <a:pt x="370" y="712"/>
                  </a:lnTo>
                  <a:lnTo>
                    <a:pt x="370" y="705"/>
                  </a:lnTo>
                  <a:lnTo>
                    <a:pt x="365" y="705"/>
                  </a:lnTo>
                  <a:lnTo>
                    <a:pt x="365" y="688"/>
                  </a:lnTo>
                  <a:lnTo>
                    <a:pt x="358" y="688"/>
                  </a:lnTo>
                  <a:lnTo>
                    <a:pt x="358" y="683"/>
                  </a:lnTo>
                  <a:lnTo>
                    <a:pt x="353" y="683"/>
                  </a:lnTo>
                  <a:lnTo>
                    <a:pt x="353" y="677"/>
                  </a:lnTo>
                  <a:lnTo>
                    <a:pt x="347" y="677"/>
                  </a:lnTo>
                  <a:lnTo>
                    <a:pt x="347" y="665"/>
                  </a:lnTo>
                  <a:lnTo>
                    <a:pt x="341" y="665"/>
                  </a:lnTo>
                  <a:lnTo>
                    <a:pt x="341" y="660"/>
                  </a:lnTo>
                  <a:lnTo>
                    <a:pt x="336" y="660"/>
                  </a:lnTo>
                  <a:lnTo>
                    <a:pt x="336" y="643"/>
                  </a:lnTo>
                  <a:lnTo>
                    <a:pt x="330" y="643"/>
                  </a:lnTo>
                  <a:lnTo>
                    <a:pt x="330" y="631"/>
                  </a:lnTo>
                  <a:lnTo>
                    <a:pt x="324" y="631"/>
                  </a:lnTo>
                  <a:lnTo>
                    <a:pt x="324" y="620"/>
                  </a:lnTo>
                  <a:lnTo>
                    <a:pt x="318" y="620"/>
                  </a:lnTo>
                  <a:lnTo>
                    <a:pt x="318" y="615"/>
                  </a:lnTo>
                  <a:lnTo>
                    <a:pt x="313" y="615"/>
                  </a:lnTo>
                  <a:lnTo>
                    <a:pt x="313" y="603"/>
                  </a:lnTo>
                  <a:lnTo>
                    <a:pt x="308" y="603"/>
                  </a:lnTo>
                  <a:lnTo>
                    <a:pt x="308" y="591"/>
                  </a:lnTo>
                  <a:lnTo>
                    <a:pt x="301" y="591"/>
                  </a:lnTo>
                  <a:lnTo>
                    <a:pt x="301" y="580"/>
                  </a:lnTo>
                  <a:lnTo>
                    <a:pt x="296" y="580"/>
                  </a:lnTo>
                  <a:lnTo>
                    <a:pt x="296" y="574"/>
                  </a:lnTo>
                  <a:lnTo>
                    <a:pt x="290" y="574"/>
                  </a:lnTo>
                  <a:lnTo>
                    <a:pt x="290" y="563"/>
                  </a:lnTo>
                  <a:lnTo>
                    <a:pt x="284" y="563"/>
                  </a:lnTo>
                  <a:lnTo>
                    <a:pt x="284" y="551"/>
                  </a:lnTo>
                  <a:lnTo>
                    <a:pt x="279" y="551"/>
                  </a:lnTo>
                  <a:lnTo>
                    <a:pt x="279" y="541"/>
                  </a:lnTo>
                  <a:lnTo>
                    <a:pt x="273" y="541"/>
                  </a:lnTo>
                  <a:lnTo>
                    <a:pt x="273" y="523"/>
                  </a:lnTo>
                  <a:lnTo>
                    <a:pt x="267" y="523"/>
                  </a:lnTo>
                  <a:lnTo>
                    <a:pt x="267" y="512"/>
                  </a:lnTo>
                  <a:lnTo>
                    <a:pt x="261" y="512"/>
                  </a:lnTo>
                  <a:lnTo>
                    <a:pt x="261" y="500"/>
                  </a:lnTo>
                  <a:lnTo>
                    <a:pt x="256" y="500"/>
                  </a:lnTo>
                  <a:lnTo>
                    <a:pt x="256" y="489"/>
                  </a:lnTo>
                  <a:lnTo>
                    <a:pt x="251" y="489"/>
                  </a:lnTo>
                  <a:lnTo>
                    <a:pt x="251" y="472"/>
                  </a:lnTo>
                  <a:lnTo>
                    <a:pt x="244" y="472"/>
                  </a:lnTo>
                  <a:lnTo>
                    <a:pt x="244" y="461"/>
                  </a:lnTo>
                  <a:lnTo>
                    <a:pt x="239" y="461"/>
                  </a:lnTo>
                  <a:lnTo>
                    <a:pt x="239" y="455"/>
                  </a:lnTo>
                  <a:lnTo>
                    <a:pt x="233" y="455"/>
                  </a:lnTo>
                  <a:lnTo>
                    <a:pt x="233" y="444"/>
                  </a:lnTo>
                  <a:lnTo>
                    <a:pt x="227" y="444"/>
                  </a:lnTo>
                  <a:lnTo>
                    <a:pt x="227" y="432"/>
                  </a:lnTo>
                  <a:lnTo>
                    <a:pt x="222" y="432"/>
                  </a:lnTo>
                  <a:lnTo>
                    <a:pt x="222" y="415"/>
                  </a:lnTo>
                  <a:lnTo>
                    <a:pt x="216" y="415"/>
                  </a:lnTo>
                  <a:lnTo>
                    <a:pt x="216" y="410"/>
                  </a:lnTo>
                  <a:lnTo>
                    <a:pt x="210" y="410"/>
                  </a:lnTo>
                  <a:lnTo>
                    <a:pt x="210" y="404"/>
                  </a:lnTo>
                  <a:lnTo>
                    <a:pt x="204" y="404"/>
                  </a:lnTo>
                  <a:lnTo>
                    <a:pt x="204" y="392"/>
                  </a:lnTo>
                  <a:lnTo>
                    <a:pt x="199" y="392"/>
                  </a:lnTo>
                  <a:lnTo>
                    <a:pt x="199" y="387"/>
                  </a:lnTo>
                  <a:lnTo>
                    <a:pt x="194" y="387"/>
                  </a:lnTo>
                  <a:lnTo>
                    <a:pt x="194" y="375"/>
                  </a:lnTo>
                  <a:lnTo>
                    <a:pt x="188" y="375"/>
                  </a:lnTo>
                  <a:lnTo>
                    <a:pt x="188" y="370"/>
                  </a:lnTo>
                  <a:lnTo>
                    <a:pt x="182" y="370"/>
                  </a:lnTo>
                  <a:lnTo>
                    <a:pt x="182" y="364"/>
                  </a:lnTo>
                  <a:lnTo>
                    <a:pt x="176" y="364"/>
                  </a:lnTo>
                  <a:lnTo>
                    <a:pt x="176" y="353"/>
                  </a:lnTo>
                  <a:lnTo>
                    <a:pt x="171" y="353"/>
                  </a:lnTo>
                  <a:lnTo>
                    <a:pt x="171" y="347"/>
                  </a:lnTo>
                  <a:lnTo>
                    <a:pt x="165" y="347"/>
                  </a:lnTo>
                  <a:lnTo>
                    <a:pt x="165" y="335"/>
                  </a:lnTo>
                  <a:lnTo>
                    <a:pt x="159" y="335"/>
                  </a:lnTo>
                  <a:lnTo>
                    <a:pt x="159" y="325"/>
                  </a:lnTo>
                  <a:lnTo>
                    <a:pt x="154" y="325"/>
                  </a:lnTo>
                  <a:lnTo>
                    <a:pt x="154" y="318"/>
                  </a:lnTo>
                  <a:lnTo>
                    <a:pt x="147" y="318"/>
                  </a:lnTo>
                  <a:lnTo>
                    <a:pt x="147" y="313"/>
                  </a:lnTo>
                  <a:lnTo>
                    <a:pt x="142" y="313"/>
                  </a:lnTo>
                  <a:lnTo>
                    <a:pt x="142" y="301"/>
                  </a:lnTo>
                  <a:lnTo>
                    <a:pt x="137" y="301"/>
                  </a:lnTo>
                  <a:lnTo>
                    <a:pt x="137" y="290"/>
                  </a:lnTo>
                  <a:lnTo>
                    <a:pt x="131" y="290"/>
                  </a:lnTo>
                  <a:lnTo>
                    <a:pt x="131" y="278"/>
                  </a:lnTo>
                  <a:lnTo>
                    <a:pt x="125" y="278"/>
                  </a:lnTo>
                  <a:lnTo>
                    <a:pt x="125" y="268"/>
                  </a:lnTo>
                  <a:lnTo>
                    <a:pt x="119" y="268"/>
                  </a:lnTo>
                  <a:lnTo>
                    <a:pt x="119" y="256"/>
                  </a:lnTo>
                  <a:lnTo>
                    <a:pt x="114" y="256"/>
                  </a:lnTo>
                  <a:lnTo>
                    <a:pt x="114" y="244"/>
                  </a:lnTo>
                  <a:lnTo>
                    <a:pt x="108" y="244"/>
                  </a:lnTo>
                  <a:lnTo>
                    <a:pt x="108" y="233"/>
                  </a:lnTo>
                  <a:lnTo>
                    <a:pt x="102" y="233"/>
                  </a:lnTo>
                  <a:lnTo>
                    <a:pt x="102" y="222"/>
                  </a:lnTo>
                  <a:lnTo>
                    <a:pt x="97" y="222"/>
                  </a:lnTo>
                  <a:lnTo>
                    <a:pt x="97" y="210"/>
                  </a:lnTo>
                  <a:lnTo>
                    <a:pt x="90" y="210"/>
                  </a:lnTo>
                  <a:lnTo>
                    <a:pt x="90" y="199"/>
                  </a:lnTo>
                  <a:lnTo>
                    <a:pt x="85" y="199"/>
                  </a:lnTo>
                  <a:lnTo>
                    <a:pt x="85" y="194"/>
                  </a:lnTo>
                  <a:lnTo>
                    <a:pt x="80" y="194"/>
                  </a:lnTo>
                  <a:lnTo>
                    <a:pt x="80" y="176"/>
                  </a:lnTo>
                  <a:lnTo>
                    <a:pt x="74" y="176"/>
                  </a:lnTo>
                  <a:lnTo>
                    <a:pt x="74" y="165"/>
                  </a:lnTo>
                  <a:lnTo>
                    <a:pt x="68" y="165"/>
                  </a:lnTo>
                  <a:lnTo>
                    <a:pt x="68" y="153"/>
                  </a:lnTo>
                  <a:lnTo>
                    <a:pt x="63" y="153"/>
                  </a:lnTo>
                  <a:lnTo>
                    <a:pt x="63" y="142"/>
                  </a:lnTo>
                  <a:lnTo>
                    <a:pt x="57" y="142"/>
                  </a:lnTo>
                  <a:lnTo>
                    <a:pt x="57" y="137"/>
                  </a:lnTo>
                  <a:lnTo>
                    <a:pt x="51" y="137"/>
                  </a:lnTo>
                  <a:lnTo>
                    <a:pt x="51" y="125"/>
                  </a:lnTo>
                  <a:lnTo>
                    <a:pt x="45" y="125"/>
                  </a:lnTo>
                  <a:lnTo>
                    <a:pt x="45" y="108"/>
                  </a:lnTo>
                  <a:lnTo>
                    <a:pt x="40" y="108"/>
                  </a:lnTo>
                  <a:lnTo>
                    <a:pt x="40" y="102"/>
                  </a:lnTo>
                  <a:lnTo>
                    <a:pt x="33" y="102"/>
                  </a:lnTo>
                  <a:lnTo>
                    <a:pt x="33" y="90"/>
                  </a:lnTo>
                  <a:lnTo>
                    <a:pt x="28" y="90"/>
                  </a:lnTo>
                  <a:lnTo>
                    <a:pt x="28" y="80"/>
                  </a:lnTo>
                  <a:lnTo>
                    <a:pt x="23" y="80"/>
                  </a:lnTo>
                  <a:lnTo>
                    <a:pt x="23" y="68"/>
                  </a:lnTo>
                  <a:lnTo>
                    <a:pt x="17" y="68"/>
                  </a:lnTo>
                  <a:lnTo>
                    <a:pt x="17" y="63"/>
                  </a:lnTo>
                  <a:lnTo>
                    <a:pt x="11" y="63"/>
                  </a:lnTo>
                  <a:lnTo>
                    <a:pt x="11" y="45"/>
                  </a:lnTo>
                  <a:lnTo>
                    <a:pt x="6" y="45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57" y="6"/>
                  </a:lnTo>
                  <a:lnTo>
                    <a:pt x="57" y="11"/>
                  </a:lnTo>
                  <a:lnTo>
                    <a:pt x="90" y="11"/>
                  </a:lnTo>
                  <a:lnTo>
                    <a:pt x="90" y="17"/>
                  </a:lnTo>
                  <a:lnTo>
                    <a:pt x="114" y="17"/>
                  </a:lnTo>
                  <a:lnTo>
                    <a:pt x="114" y="23"/>
                  </a:lnTo>
                  <a:lnTo>
                    <a:pt x="137" y="23"/>
                  </a:lnTo>
                  <a:lnTo>
                    <a:pt x="137" y="28"/>
                  </a:lnTo>
                  <a:lnTo>
                    <a:pt x="159" y="28"/>
                  </a:lnTo>
                  <a:lnTo>
                    <a:pt x="159" y="35"/>
                  </a:lnTo>
                  <a:lnTo>
                    <a:pt x="222" y="35"/>
                  </a:lnTo>
                  <a:lnTo>
                    <a:pt x="222" y="40"/>
                  </a:lnTo>
                  <a:lnTo>
                    <a:pt x="279" y="40"/>
                  </a:lnTo>
                  <a:lnTo>
                    <a:pt x="279" y="45"/>
                  </a:lnTo>
                  <a:lnTo>
                    <a:pt x="296" y="45"/>
                  </a:lnTo>
                  <a:lnTo>
                    <a:pt x="296" y="51"/>
                  </a:lnTo>
                  <a:lnTo>
                    <a:pt x="318" y="51"/>
                  </a:lnTo>
                  <a:lnTo>
                    <a:pt x="318" y="57"/>
                  </a:lnTo>
                  <a:lnTo>
                    <a:pt x="341" y="57"/>
                  </a:lnTo>
                  <a:lnTo>
                    <a:pt x="341" y="63"/>
                  </a:lnTo>
                  <a:lnTo>
                    <a:pt x="347" y="63"/>
                  </a:lnTo>
                  <a:lnTo>
                    <a:pt x="347" y="68"/>
                  </a:lnTo>
                  <a:lnTo>
                    <a:pt x="358" y="68"/>
                  </a:lnTo>
                  <a:lnTo>
                    <a:pt x="358" y="73"/>
                  </a:lnTo>
                  <a:lnTo>
                    <a:pt x="370" y="73"/>
                  </a:lnTo>
                  <a:lnTo>
                    <a:pt x="370" y="80"/>
                  </a:lnTo>
                  <a:lnTo>
                    <a:pt x="387" y="80"/>
                  </a:lnTo>
                  <a:lnTo>
                    <a:pt x="387" y="85"/>
                  </a:lnTo>
                  <a:lnTo>
                    <a:pt x="398" y="85"/>
                  </a:lnTo>
                  <a:lnTo>
                    <a:pt x="398" y="90"/>
                  </a:lnTo>
                  <a:lnTo>
                    <a:pt x="422" y="90"/>
                  </a:lnTo>
                  <a:lnTo>
                    <a:pt x="422" y="96"/>
                  </a:lnTo>
                  <a:lnTo>
                    <a:pt x="432" y="96"/>
                  </a:lnTo>
                  <a:lnTo>
                    <a:pt x="432" y="102"/>
                  </a:lnTo>
                  <a:lnTo>
                    <a:pt x="438" y="102"/>
                  </a:lnTo>
                  <a:lnTo>
                    <a:pt x="438" y="108"/>
                  </a:lnTo>
                  <a:lnTo>
                    <a:pt x="455" y="108"/>
                  </a:lnTo>
                  <a:lnTo>
                    <a:pt x="455" y="113"/>
                  </a:lnTo>
                  <a:lnTo>
                    <a:pt x="467" y="113"/>
                  </a:lnTo>
                  <a:lnTo>
                    <a:pt x="467" y="119"/>
                  </a:lnTo>
                  <a:lnTo>
                    <a:pt x="472" y="119"/>
                  </a:lnTo>
                  <a:lnTo>
                    <a:pt x="472" y="125"/>
                  </a:lnTo>
                  <a:lnTo>
                    <a:pt x="484" y="125"/>
                  </a:lnTo>
                  <a:lnTo>
                    <a:pt x="484" y="130"/>
                  </a:lnTo>
                  <a:lnTo>
                    <a:pt x="489" y="130"/>
                  </a:lnTo>
                  <a:lnTo>
                    <a:pt x="489" y="137"/>
                  </a:lnTo>
                  <a:lnTo>
                    <a:pt x="501" y="137"/>
                  </a:lnTo>
                  <a:lnTo>
                    <a:pt x="501" y="142"/>
                  </a:lnTo>
                  <a:lnTo>
                    <a:pt x="506" y="142"/>
                  </a:lnTo>
                  <a:lnTo>
                    <a:pt x="506" y="147"/>
                  </a:lnTo>
                  <a:lnTo>
                    <a:pt x="518" y="147"/>
                  </a:lnTo>
                  <a:lnTo>
                    <a:pt x="518" y="159"/>
                  </a:lnTo>
                  <a:lnTo>
                    <a:pt x="524" y="159"/>
                  </a:lnTo>
                  <a:lnTo>
                    <a:pt x="524" y="165"/>
                  </a:lnTo>
                  <a:lnTo>
                    <a:pt x="529" y="165"/>
                  </a:lnTo>
                  <a:lnTo>
                    <a:pt x="529" y="170"/>
                  </a:lnTo>
                  <a:lnTo>
                    <a:pt x="535" y="170"/>
                  </a:lnTo>
                  <a:lnTo>
                    <a:pt x="535" y="194"/>
                  </a:lnTo>
                  <a:lnTo>
                    <a:pt x="524" y="194"/>
                  </a:lnTo>
                  <a:lnTo>
                    <a:pt x="524" y="199"/>
                  </a:lnTo>
                  <a:lnTo>
                    <a:pt x="512" y="199"/>
                  </a:lnTo>
                  <a:lnTo>
                    <a:pt x="512" y="187"/>
                  </a:lnTo>
                  <a:lnTo>
                    <a:pt x="501" y="187"/>
                  </a:lnTo>
                  <a:lnTo>
                    <a:pt x="501" y="182"/>
                  </a:lnTo>
                  <a:lnTo>
                    <a:pt x="495" y="182"/>
                  </a:lnTo>
                  <a:lnTo>
                    <a:pt x="495" y="176"/>
                  </a:lnTo>
                  <a:lnTo>
                    <a:pt x="472" y="176"/>
                  </a:lnTo>
                  <a:lnTo>
                    <a:pt x="472" y="170"/>
                  </a:lnTo>
                  <a:lnTo>
                    <a:pt x="467" y="170"/>
                  </a:lnTo>
                  <a:lnTo>
                    <a:pt x="467" y="165"/>
                  </a:lnTo>
                  <a:lnTo>
                    <a:pt x="461" y="165"/>
                  </a:lnTo>
                  <a:lnTo>
                    <a:pt x="461" y="137"/>
                  </a:lnTo>
                  <a:lnTo>
                    <a:pt x="449" y="137"/>
                  </a:lnTo>
                  <a:lnTo>
                    <a:pt x="449" y="130"/>
                  </a:lnTo>
                  <a:lnTo>
                    <a:pt x="432" y="130"/>
                  </a:lnTo>
                  <a:lnTo>
                    <a:pt x="432" y="125"/>
                  </a:lnTo>
                  <a:lnTo>
                    <a:pt x="422" y="125"/>
                  </a:lnTo>
                  <a:lnTo>
                    <a:pt x="422" y="119"/>
                  </a:lnTo>
                  <a:lnTo>
                    <a:pt x="410" y="119"/>
                  </a:lnTo>
                  <a:lnTo>
                    <a:pt x="410" y="113"/>
                  </a:lnTo>
                  <a:lnTo>
                    <a:pt x="392" y="113"/>
                  </a:lnTo>
                  <a:lnTo>
                    <a:pt x="392" y="108"/>
                  </a:lnTo>
                  <a:lnTo>
                    <a:pt x="375" y="108"/>
                  </a:lnTo>
                  <a:lnTo>
                    <a:pt x="375" y="102"/>
                  </a:lnTo>
                  <a:lnTo>
                    <a:pt x="358" y="102"/>
                  </a:lnTo>
                  <a:lnTo>
                    <a:pt x="358" y="96"/>
                  </a:lnTo>
                  <a:lnTo>
                    <a:pt x="347" y="96"/>
                  </a:lnTo>
                  <a:lnTo>
                    <a:pt x="347" y="90"/>
                  </a:lnTo>
                  <a:lnTo>
                    <a:pt x="336" y="90"/>
                  </a:lnTo>
                  <a:lnTo>
                    <a:pt x="336" y="85"/>
                  </a:lnTo>
                  <a:lnTo>
                    <a:pt x="313" y="85"/>
                  </a:lnTo>
                  <a:lnTo>
                    <a:pt x="313" y="80"/>
                  </a:lnTo>
                  <a:lnTo>
                    <a:pt x="301" y="80"/>
                  </a:lnTo>
                  <a:lnTo>
                    <a:pt x="301" y="73"/>
                  </a:lnTo>
                  <a:lnTo>
                    <a:pt x="290" y="73"/>
                  </a:lnTo>
                  <a:lnTo>
                    <a:pt x="290" y="68"/>
                  </a:lnTo>
                  <a:lnTo>
                    <a:pt x="222" y="68"/>
                  </a:lnTo>
                  <a:lnTo>
                    <a:pt x="222" y="63"/>
                  </a:lnTo>
                  <a:lnTo>
                    <a:pt x="154" y="63"/>
                  </a:lnTo>
                  <a:lnTo>
                    <a:pt x="154" y="57"/>
                  </a:lnTo>
                  <a:lnTo>
                    <a:pt x="137" y="57"/>
                  </a:lnTo>
                  <a:lnTo>
                    <a:pt x="137" y="51"/>
                  </a:lnTo>
                  <a:lnTo>
                    <a:pt x="125" y="51"/>
                  </a:lnTo>
                  <a:lnTo>
                    <a:pt x="125" y="45"/>
                  </a:lnTo>
                  <a:lnTo>
                    <a:pt x="102" y="45"/>
                  </a:lnTo>
                  <a:lnTo>
                    <a:pt x="102" y="40"/>
                  </a:lnTo>
                  <a:lnTo>
                    <a:pt x="63" y="40"/>
                  </a:lnTo>
                  <a:lnTo>
                    <a:pt x="63" y="68"/>
                  </a:lnTo>
                  <a:lnTo>
                    <a:pt x="68" y="68"/>
                  </a:lnTo>
                  <a:lnTo>
                    <a:pt x="68" y="85"/>
                  </a:lnTo>
                  <a:lnTo>
                    <a:pt x="74" y="85"/>
                  </a:lnTo>
                  <a:lnTo>
                    <a:pt x="74" y="96"/>
                  </a:lnTo>
                  <a:lnTo>
                    <a:pt x="80" y="96"/>
                  </a:lnTo>
                  <a:lnTo>
                    <a:pt x="80" y="113"/>
                  </a:lnTo>
                  <a:lnTo>
                    <a:pt x="85" y="113"/>
                  </a:lnTo>
                  <a:lnTo>
                    <a:pt x="85" y="119"/>
                  </a:lnTo>
                  <a:lnTo>
                    <a:pt x="90" y="119"/>
                  </a:lnTo>
                  <a:lnTo>
                    <a:pt x="90" y="130"/>
                  </a:lnTo>
                  <a:lnTo>
                    <a:pt x="97" y="130"/>
                  </a:lnTo>
                  <a:lnTo>
                    <a:pt x="97" y="142"/>
                  </a:lnTo>
                  <a:lnTo>
                    <a:pt x="102" y="142"/>
                  </a:lnTo>
                  <a:lnTo>
                    <a:pt x="102" y="153"/>
                  </a:lnTo>
                  <a:lnTo>
                    <a:pt x="108" y="153"/>
                  </a:lnTo>
                  <a:lnTo>
                    <a:pt x="108" y="159"/>
                  </a:lnTo>
                  <a:lnTo>
                    <a:pt x="114" y="159"/>
                  </a:lnTo>
                  <a:lnTo>
                    <a:pt x="114" y="176"/>
                  </a:lnTo>
                  <a:lnTo>
                    <a:pt x="119" y="176"/>
                  </a:lnTo>
                  <a:lnTo>
                    <a:pt x="119" y="182"/>
                  </a:lnTo>
                  <a:lnTo>
                    <a:pt x="125" y="182"/>
                  </a:lnTo>
                  <a:lnTo>
                    <a:pt x="125" y="194"/>
                  </a:lnTo>
                  <a:lnTo>
                    <a:pt x="131" y="194"/>
                  </a:lnTo>
                  <a:lnTo>
                    <a:pt x="131" y="204"/>
                  </a:lnTo>
                  <a:lnTo>
                    <a:pt x="137" y="204"/>
                  </a:lnTo>
                  <a:lnTo>
                    <a:pt x="137" y="216"/>
                  </a:lnTo>
                  <a:lnTo>
                    <a:pt x="142" y="216"/>
                  </a:lnTo>
                  <a:lnTo>
                    <a:pt x="142" y="227"/>
                  </a:lnTo>
                  <a:lnTo>
                    <a:pt x="147" y="227"/>
                  </a:lnTo>
                  <a:lnTo>
                    <a:pt x="147" y="233"/>
                  </a:lnTo>
                  <a:lnTo>
                    <a:pt x="154" y="233"/>
                  </a:lnTo>
                  <a:lnTo>
                    <a:pt x="154" y="239"/>
                  </a:lnTo>
                  <a:lnTo>
                    <a:pt x="159" y="239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65" y="261"/>
                  </a:lnTo>
                  <a:lnTo>
                    <a:pt x="171" y="261"/>
                  </a:lnTo>
                  <a:lnTo>
                    <a:pt x="171" y="273"/>
                  </a:lnTo>
                  <a:lnTo>
                    <a:pt x="176" y="273"/>
                  </a:lnTo>
                  <a:lnTo>
                    <a:pt x="176" y="284"/>
                  </a:lnTo>
                  <a:lnTo>
                    <a:pt x="182" y="284"/>
                  </a:lnTo>
                  <a:lnTo>
                    <a:pt x="182" y="290"/>
                  </a:lnTo>
                  <a:lnTo>
                    <a:pt x="188" y="290"/>
                  </a:lnTo>
                  <a:lnTo>
                    <a:pt x="188" y="301"/>
                  </a:lnTo>
                  <a:lnTo>
                    <a:pt x="194" y="301"/>
                  </a:lnTo>
                  <a:lnTo>
                    <a:pt x="194" y="308"/>
                  </a:lnTo>
                  <a:lnTo>
                    <a:pt x="199" y="308"/>
                  </a:lnTo>
                  <a:lnTo>
                    <a:pt x="199" y="313"/>
                  </a:lnTo>
                  <a:lnTo>
                    <a:pt x="204" y="313"/>
                  </a:lnTo>
                  <a:lnTo>
                    <a:pt x="204" y="325"/>
                  </a:lnTo>
                  <a:lnTo>
                    <a:pt x="210" y="325"/>
                  </a:lnTo>
                  <a:lnTo>
                    <a:pt x="210" y="341"/>
                  </a:lnTo>
                  <a:lnTo>
                    <a:pt x="216" y="341"/>
                  </a:lnTo>
                  <a:lnTo>
                    <a:pt x="216" y="353"/>
                  </a:lnTo>
                  <a:lnTo>
                    <a:pt x="222" y="353"/>
                  </a:lnTo>
                  <a:lnTo>
                    <a:pt x="222" y="370"/>
                  </a:lnTo>
                  <a:lnTo>
                    <a:pt x="227" y="370"/>
                  </a:lnTo>
                  <a:lnTo>
                    <a:pt x="227" y="382"/>
                  </a:lnTo>
                  <a:lnTo>
                    <a:pt x="233" y="382"/>
                  </a:lnTo>
                  <a:lnTo>
                    <a:pt x="233" y="392"/>
                  </a:lnTo>
                  <a:lnTo>
                    <a:pt x="239" y="392"/>
                  </a:lnTo>
                  <a:lnTo>
                    <a:pt x="239" y="398"/>
                  </a:lnTo>
                  <a:lnTo>
                    <a:pt x="244" y="398"/>
                  </a:lnTo>
                  <a:lnTo>
                    <a:pt x="244" y="410"/>
                  </a:lnTo>
                  <a:lnTo>
                    <a:pt x="251" y="410"/>
                  </a:lnTo>
                  <a:lnTo>
                    <a:pt x="251" y="421"/>
                  </a:lnTo>
                  <a:lnTo>
                    <a:pt x="256" y="421"/>
                  </a:lnTo>
                  <a:lnTo>
                    <a:pt x="256" y="449"/>
                  </a:lnTo>
                  <a:lnTo>
                    <a:pt x="261" y="449"/>
                  </a:lnTo>
                  <a:lnTo>
                    <a:pt x="261" y="455"/>
                  </a:lnTo>
                  <a:lnTo>
                    <a:pt x="267" y="455"/>
                  </a:lnTo>
                  <a:lnTo>
                    <a:pt x="267" y="467"/>
                  </a:lnTo>
                  <a:lnTo>
                    <a:pt x="273" y="467"/>
                  </a:lnTo>
                  <a:lnTo>
                    <a:pt x="273" y="477"/>
                  </a:lnTo>
                  <a:lnTo>
                    <a:pt x="279" y="477"/>
                  </a:lnTo>
                  <a:lnTo>
                    <a:pt x="279" y="489"/>
                  </a:lnTo>
                  <a:lnTo>
                    <a:pt x="284" y="489"/>
                  </a:lnTo>
                  <a:lnTo>
                    <a:pt x="284" y="506"/>
                  </a:lnTo>
                  <a:lnTo>
                    <a:pt x="290" y="506"/>
                  </a:lnTo>
                  <a:lnTo>
                    <a:pt x="290" y="517"/>
                  </a:lnTo>
                  <a:lnTo>
                    <a:pt x="296" y="517"/>
                  </a:lnTo>
                  <a:lnTo>
                    <a:pt x="296" y="529"/>
                  </a:lnTo>
                  <a:lnTo>
                    <a:pt x="301" y="529"/>
                  </a:lnTo>
                  <a:lnTo>
                    <a:pt x="301" y="541"/>
                  </a:lnTo>
                  <a:lnTo>
                    <a:pt x="308" y="541"/>
                  </a:lnTo>
                  <a:lnTo>
                    <a:pt x="308" y="546"/>
                  </a:lnTo>
                  <a:lnTo>
                    <a:pt x="313" y="546"/>
                  </a:lnTo>
                  <a:lnTo>
                    <a:pt x="313" y="563"/>
                  </a:lnTo>
                  <a:lnTo>
                    <a:pt x="318" y="563"/>
                  </a:lnTo>
                  <a:lnTo>
                    <a:pt x="318" y="574"/>
                  </a:lnTo>
                  <a:lnTo>
                    <a:pt x="324" y="574"/>
                  </a:lnTo>
                  <a:lnTo>
                    <a:pt x="324" y="580"/>
                  </a:lnTo>
                  <a:lnTo>
                    <a:pt x="330" y="580"/>
                  </a:lnTo>
                  <a:lnTo>
                    <a:pt x="330" y="591"/>
                  </a:lnTo>
                  <a:lnTo>
                    <a:pt x="336" y="591"/>
                  </a:lnTo>
                  <a:lnTo>
                    <a:pt x="336" y="603"/>
                  </a:lnTo>
                  <a:lnTo>
                    <a:pt x="341" y="603"/>
                  </a:lnTo>
                  <a:lnTo>
                    <a:pt x="341" y="615"/>
                  </a:lnTo>
                  <a:lnTo>
                    <a:pt x="347" y="615"/>
                  </a:lnTo>
                  <a:lnTo>
                    <a:pt x="347" y="626"/>
                  </a:lnTo>
                  <a:lnTo>
                    <a:pt x="353" y="626"/>
                  </a:lnTo>
                  <a:lnTo>
                    <a:pt x="353" y="637"/>
                  </a:lnTo>
                  <a:lnTo>
                    <a:pt x="358" y="637"/>
                  </a:lnTo>
                  <a:lnTo>
                    <a:pt x="358" y="648"/>
                  </a:lnTo>
                  <a:lnTo>
                    <a:pt x="365" y="648"/>
                  </a:lnTo>
                  <a:lnTo>
                    <a:pt x="365" y="660"/>
                  </a:lnTo>
                  <a:lnTo>
                    <a:pt x="370" y="660"/>
                  </a:lnTo>
                  <a:lnTo>
                    <a:pt x="370" y="672"/>
                  </a:lnTo>
                  <a:lnTo>
                    <a:pt x="375" y="672"/>
                  </a:lnTo>
                  <a:lnTo>
                    <a:pt x="375" y="677"/>
                  </a:lnTo>
                  <a:lnTo>
                    <a:pt x="381" y="677"/>
                  </a:lnTo>
                  <a:lnTo>
                    <a:pt x="381" y="688"/>
                  </a:lnTo>
                  <a:lnTo>
                    <a:pt x="387" y="688"/>
                  </a:lnTo>
                  <a:lnTo>
                    <a:pt x="387" y="694"/>
                  </a:lnTo>
                  <a:lnTo>
                    <a:pt x="392" y="694"/>
                  </a:lnTo>
                  <a:lnTo>
                    <a:pt x="392" y="705"/>
                  </a:lnTo>
                  <a:lnTo>
                    <a:pt x="398" y="705"/>
                  </a:lnTo>
                  <a:lnTo>
                    <a:pt x="398" y="717"/>
                  </a:lnTo>
                  <a:lnTo>
                    <a:pt x="404" y="717"/>
                  </a:lnTo>
                  <a:lnTo>
                    <a:pt x="404" y="722"/>
                  </a:lnTo>
                  <a:lnTo>
                    <a:pt x="410" y="722"/>
                  </a:lnTo>
                  <a:lnTo>
                    <a:pt x="410" y="734"/>
                  </a:lnTo>
                  <a:lnTo>
                    <a:pt x="415" y="734"/>
                  </a:lnTo>
                  <a:lnTo>
                    <a:pt x="415" y="739"/>
                  </a:lnTo>
                  <a:lnTo>
                    <a:pt x="422" y="739"/>
                  </a:lnTo>
                  <a:lnTo>
                    <a:pt x="422" y="751"/>
                  </a:lnTo>
                  <a:lnTo>
                    <a:pt x="427" y="751"/>
                  </a:lnTo>
                  <a:lnTo>
                    <a:pt x="427" y="757"/>
                  </a:lnTo>
                  <a:lnTo>
                    <a:pt x="432" y="757"/>
                  </a:lnTo>
                  <a:lnTo>
                    <a:pt x="432" y="774"/>
                  </a:lnTo>
                  <a:lnTo>
                    <a:pt x="438" y="774"/>
                  </a:lnTo>
                  <a:lnTo>
                    <a:pt x="438" y="779"/>
                  </a:lnTo>
                  <a:lnTo>
                    <a:pt x="444" y="779"/>
                  </a:lnTo>
                  <a:lnTo>
                    <a:pt x="444" y="786"/>
                  </a:lnTo>
                  <a:lnTo>
                    <a:pt x="449" y="786"/>
                  </a:lnTo>
                  <a:lnTo>
                    <a:pt x="449" y="796"/>
                  </a:lnTo>
                  <a:lnTo>
                    <a:pt x="455" y="796"/>
                  </a:lnTo>
                  <a:lnTo>
                    <a:pt x="455" y="808"/>
                  </a:lnTo>
                  <a:lnTo>
                    <a:pt x="461" y="808"/>
                  </a:lnTo>
                  <a:lnTo>
                    <a:pt x="461" y="814"/>
                  </a:lnTo>
                  <a:lnTo>
                    <a:pt x="467" y="814"/>
                  </a:lnTo>
                  <a:lnTo>
                    <a:pt x="467" y="819"/>
                  </a:lnTo>
                  <a:lnTo>
                    <a:pt x="472" y="819"/>
                  </a:lnTo>
                  <a:lnTo>
                    <a:pt x="472" y="831"/>
                  </a:lnTo>
                  <a:lnTo>
                    <a:pt x="478" y="831"/>
                  </a:lnTo>
                  <a:lnTo>
                    <a:pt x="478" y="843"/>
                  </a:lnTo>
                  <a:lnTo>
                    <a:pt x="484" y="843"/>
                  </a:lnTo>
                  <a:lnTo>
                    <a:pt x="484" y="848"/>
                  </a:lnTo>
                  <a:lnTo>
                    <a:pt x="489" y="848"/>
                  </a:lnTo>
                  <a:lnTo>
                    <a:pt x="489" y="853"/>
                  </a:lnTo>
                  <a:lnTo>
                    <a:pt x="495" y="853"/>
                  </a:lnTo>
                  <a:lnTo>
                    <a:pt x="495" y="865"/>
                  </a:lnTo>
                  <a:lnTo>
                    <a:pt x="501" y="865"/>
                  </a:lnTo>
                  <a:lnTo>
                    <a:pt x="501" y="871"/>
                  </a:lnTo>
                  <a:lnTo>
                    <a:pt x="506" y="871"/>
                  </a:lnTo>
                  <a:lnTo>
                    <a:pt x="506" y="876"/>
                  </a:lnTo>
                  <a:lnTo>
                    <a:pt x="512" y="876"/>
                  </a:lnTo>
                  <a:lnTo>
                    <a:pt x="512" y="888"/>
                  </a:lnTo>
                  <a:lnTo>
                    <a:pt x="518" y="888"/>
                  </a:lnTo>
                  <a:lnTo>
                    <a:pt x="518" y="898"/>
                  </a:lnTo>
                  <a:lnTo>
                    <a:pt x="524" y="898"/>
                  </a:lnTo>
                  <a:lnTo>
                    <a:pt x="524" y="910"/>
                  </a:lnTo>
                  <a:lnTo>
                    <a:pt x="529" y="910"/>
                  </a:lnTo>
                  <a:lnTo>
                    <a:pt x="529" y="916"/>
                  </a:lnTo>
                  <a:lnTo>
                    <a:pt x="535" y="916"/>
                  </a:lnTo>
                  <a:lnTo>
                    <a:pt x="535" y="933"/>
                  </a:lnTo>
                  <a:lnTo>
                    <a:pt x="541" y="933"/>
                  </a:lnTo>
                  <a:lnTo>
                    <a:pt x="541" y="938"/>
                  </a:lnTo>
                  <a:lnTo>
                    <a:pt x="546" y="938"/>
                  </a:lnTo>
                  <a:lnTo>
                    <a:pt x="546" y="945"/>
                  </a:lnTo>
                  <a:lnTo>
                    <a:pt x="553" y="945"/>
                  </a:lnTo>
                  <a:lnTo>
                    <a:pt x="553" y="955"/>
                  </a:lnTo>
                  <a:lnTo>
                    <a:pt x="558" y="955"/>
                  </a:lnTo>
                  <a:lnTo>
                    <a:pt x="558" y="962"/>
                  </a:lnTo>
                  <a:lnTo>
                    <a:pt x="563" y="962"/>
                  </a:lnTo>
                  <a:lnTo>
                    <a:pt x="563" y="973"/>
                  </a:lnTo>
                  <a:lnTo>
                    <a:pt x="569" y="973"/>
                  </a:lnTo>
                  <a:lnTo>
                    <a:pt x="569" y="978"/>
                  </a:lnTo>
                  <a:lnTo>
                    <a:pt x="575" y="978"/>
                  </a:lnTo>
                  <a:lnTo>
                    <a:pt x="575" y="984"/>
                  </a:lnTo>
                  <a:lnTo>
                    <a:pt x="581" y="984"/>
                  </a:lnTo>
                  <a:lnTo>
                    <a:pt x="581" y="995"/>
                  </a:lnTo>
                  <a:lnTo>
                    <a:pt x="586" y="995"/>
                  </a:lnTo>
                  <a:lnTo>
                    <a:pt x="586" y="1007"/>
                  </a:lnTo>
                  <a:lnTo>
                    <a:pt x="592" y="1007"/>
                  </a:lnTo>
                  <a:lnTo>
                    <a:pt x="592" y="1019"/>
                  </a:lnTo>
                  <a:lnTo>
                    <a:pt x="598" y="1019"/>
                  </a:lnTo>
                  <a:lnTo>
                    <a:pt x="598" y="1024"/>
                  </a:lnTo>
                  <a:lnTo>
                    <a:pt x="603" y="1024"/>
                  </a:lnTo>
                  <a:lnTo>
                    <a:pt x="603" y="1030"/>
                  </a:lnTo>
                  <a:lnTo>
                    <a:pt x="609" y="1030"/>
                  </a:lnTo>
                  <a:lnTo>
                    <a:pt x="609" y="1041"/>
                  </a:lnTo>
                  <a:lnTo>
                    <a:pt x="614" y="1041"/>
                  </a:lnTo>
                  <a:lnTo>
                    <a:pt x="614" y="1052"/>
                  </a:lnTo>
                  <a:lnTo>
                    <a:pt x="620" y="1052"/>
                  </a:lnTo>
                  <a:lnTo>
                    <a:pt x="620" y="1064"/>
                  </a:lnTo>
                  <a:lnTo>
                    <a:pt x="626" y="1064"/>
                  </a:lnTo>
                  <a:lnTo>
                    <a:pt x="626" y="1076"/>
                  </a:lnTo>
                  <a:lnTo>
                    <a:pt x="631" y="1076"/>
                  </a:lnTo>
                  <a:lnTo>
                    <a:pt x="631" y="1087"/>
                  </a:lnTo>
                  <a:lnTo>
                    <a:pt x="638" y="1087"/>
                  </a:lnTo>
                  <a:lnTo>
                    <a:pt x="638" y="1092"/>
                  </a:lnTo>
                  <a:lnTo>
                    <a:pt x="643" y="1092"/>
                  </a:lnTo>
                  <a:lnTo>
                    <a:pt x="643" y="1098"/>
                  </a:lnTo>
                  <a:lnTo>
                    <a:pt x="648" y="1098"/>
                  </a:lnTo>
                  <a:lnTo>
                    <a:pt x="648" y="1109"/>
                  </a:lnTo>
                  <a:lnTo>
                    <a:pt x="655" y="1109"/>
                  </a:lnTo>
                  <a:lnTo>
                    <a:pt x="655" y="1121"/>
                  </a:lnTo>
                  <a:lnTo>
                    <a:pt x="660" y="1121"/>
                  </a:lnTo>
                  <a:lnTo>
                    <a:pt x="660" y="1126"/>
                  </a:lnTo>
                  <a:lnTo>
                    <a:pt x="665" y="1126"/>
                  </a:lnTo>
                  <a:lnTo>
                    <a:pt x="665" y="1138"/>
                  </a:lnTo>
                  <a:lnTo>
                    <a:pt x="671" y="1138"/>
                  </a:lnTo>
                  <a:lnTo>
                    <a:pt x="671" y="1149"/>
                  </a:lnTo>
                  <a:lnTo>
                    <a:pt x="677" y="1149"/>
                  </a:lnTo>
                  <a:lnTo>
                    <a:pt x="677" y="1161"/>
                  </a:lnTo>
                  <a:lnTo>
                    <a:pt x="683" y="1161"/>
                  </a:lnTo>
                  <a:lnTo>
                    <a:pt x="683" y="1166"/>
                  </a:lnTo>
                  <a:lnTo>
                    <a:pt x="688" y="1166"/>
                  </a:lnTo>
                  <a:lnTo>
                    <a:pt x="688" y="1178"/>
                  </a:lnTo>
                  <a:lnTo>
                    <a:pt x="695" y="1178"/>
                  </a:lnTo>
                  <a:lnTo>
                    <a:pt x="695" y="1190"/>
                  </a:lnTo>
                  <a:lnTo>
                    <a:pt x="700" y="1190"/>
                  </a:lnTo>
                  <a:lnTo>
                    <a:pt x="700" y="1200"/>
                  </a:lnTo>
                  <a:lnTo>
                    <a:pt x="705" y="1200"/>
                  </a:lnTo>
                  <a:lnTo>
                    <a:pt x="705" y="1206"/>
                  </a:lnTo>
                  <a:lnTo>
                    <a:pt x="712" y="1206"/>
                  </a:lnTo>
                  <a:lnTo>
                    <a:pt x="712" y="1212"/>
                  </a:lnTo>
                  <a:lnTo>
                    <a:pt x="717" y="1212"/>
                  </a:lnTo>
                  <a:lnTo>
                    <a:pt x="717" y="1218"/>
                  </a:lnTo>
                  <a:lnTo>
                    <a:pt x="722" y="1218"/>
                  </a:lnTo>
                  <a:lnTo>
                    <a:pt x="722" y="1229"/>
                  </a:lnTo>
                  <a:lnTo>
                    <a:pt x="728" y="1229"/>
                  </a:lnTo>
                  <a:lnTo>
                    <a:pt x="728" y="1240"/>
                  </a:lnTo>
                  <a:lnTo>
                    <a:pt x="734" y="1240"/>
                  </a:lnTo>
                  <a:lnTo>
                    <a:pt x="734" y="1247"/>
                  </a:lnTo>
                  <a:lnTo>
                    <a:pt x="740" y="1247"/>
                  </a:lnTo>
                  <a:lnTo>
                    <a:pt x="740" y="1257"/>
                  </a:lnTo>
                  <a:lnTo>
                    <a:pt x="745" y="1257"/>
                  </a:lnTo>
                  <a:lnTo>
                    <a:pt x="745" y="1269"/>
                  </a:lnTo>
                  <a:lnTo>
                    <a:pt x="751" y="1269"/>
                  </a:lnTo>
                  <a:lnTo>
                    <a:pt x="751" y="1280"/>
                  </a:lnTo>
                  <a:lnTo>
                    <a:pt x="757" y="1280"/>
                  </a:lnTo>
                  <a:lnTo>
                    <a:pt x="757" y="1292"/>
                  </a:lnTo>
                  <a:lnTo>
                    <a:pt x="762" y="1292"/>
                  </a:lnTo>
                  <a:lnTo>
                    <a:pt x="762" y="1302"/>
                  </a:lnTo>
                  <a:lnTo>
                    <a:pt x="769" y="1302"/>
                  </a:lnTo>
                  <a:lnTo>
                    <a:pt x="769" y="1314"/>
                  </a:lnTo>
                  <a:lnTo>
                    <a:pt x="774" y="1314"/>
                  </a:lnTo>
                  <a:lnTo>
                    <a:pt x="774" y="1325"/>
                  </a:lnTo>
                  <a:lnTo>
                    <a:pt x="779" y="1325"/>
                  </a:lnTo>
                  <a:lnTo>
                    <a:pt x="779" y="1337"/>
                  </a:lnTo>
                  <a:lnTo>
                    <a:pt x="785" y="1337"/>
                  </a:lnTo>
                  <a:lnTo>
                    <a:pt x="785" y="1354"/>
                  </a:lnTo>
                  <a:lnTo>
                    <a:pt x="791" y="1354"/>
                  </a:lnTo>
                  <a:lnTo>
                    <a:pt x="791" y="1371"/>
                  </a:lnTo>
                  <a:lnTo>
                    <a:pt x="797" y="1371"/>
                  </a:lnTo>
                  <a:lnTo>
                    <a:pt x="797" y="1388"/>
                  </a:lnTo>
                  <a:lnTo>
                    <a:pt x="802" y="1388"/>
                  </a:lnTo>
                  <a:lnTo>
                    <a:pt x="802" y="1399"/>
                  </a:lnTo>
                  <a:lnTo>
                    <a:pt x="808" y="1399"/>
                  </a:lnTo>
                  <a:lnTo>
                    <a:pt x="808" y="1411"/>
                  </a:lnTo>
                  <a:lnTo>
                    <a:pt x="814" y="1411"/>
                  </a:lnTo>
                  <a:lnTo>
                    <a:pt x="814" y="1416"/>
                  </a:lnTo>
                  <a:lnTo>
                    <a:pt x="819" y="1416"/>
                  </a:lnTo>
                  <a:lnTo>
                    <a:pt x="819" y="1428"/>
                  </a:lnTo>
                  <a:lnTo>
                    <a:pt x="826" y="1428"/>
                  </a:lnTo>
                  <a:lnTo>
                    <a:pt x="826" y="1445"/>
                  </a:lnTo>
                  <a:lnTo>
                    <a:pt x="831" y="1445"/>
                  </a:lnTo>
                  <a:lnTo>
                    <a:pt x="831" y="1456"/>
                  </a:lnTo>
                  <a:lnTo>
                    <a:pt x="836" y="1456"/>
                  </a:lnTo>
                  <a:lnTo>
                    <a:pt x="836" y="1468"/>
                  </a:lnTo>
                  <a:lnTo>
                    <a:pt x="843" y="1468"/>
                  </a:lnTo>
                  <a:lnTo>
                    <a:pt x="843" y="1485"/>
                  </a:lnTo>
                  <a:lnTo>
                    <a:pt x="848" y="1485"/>
                  </a:lnTo>
                  <a:lnTo>
                    <a:pt x="848" y="1502"/>
                  </a:lnTo>
                  <a:lnTo>
                    <a:pt x="854" y="1502"/>
                  </a:lnTo>
                  <a:lnTo>
                    <a:pt x="854" y="1520"/>
                  </a:lnTo>
                  <a:lnTo>
                    <a:pt x="859" y="1520"/>
                  </a:lnTo>
                  <a:lnTo>
                    <a:pt x="859" y="1542"/>
                  </a:lnTo>
                  <a:lnTo>
                    <a:pt x="865" y="1542"/>
                  </a:lnTo>
                  <a:lnTo>
                    <a:pt x="865" y="1553"/>
                  </a:lnTo>
                  <a:lnTo>
                    <a:pt x="871" y="1553"/>
                  </a:lnTo>
                  <a:lnTo>
                    <a:pt x="871" y="1565"/>
                  </a:lnTo>
                  <a:lnTo>
                    <a:pt x="876" y="1565"/>
                  </a:lnTo>
                  <a:lnTo>
                    <a:pt x="876" y="1576"/>
                  </a:lnTo>
                  <a:lnTo>
                    <a:pt x="883" y="1576"/>
                  </a:lnTo>
                  <a:lnTo>
                    <a:pt x="883" y="1587"/>
                  </a:lnTo>
                  <a:lnTo>
                    <a:pt x="888" y="1587"/>
                  </a:lnTo>
                  <a:lnTo>
                    <a:pt x="888" y="1599"/>
                  </a:lnTo>
                  <a:lnTo>
                    <a:pt x="893" y="1599"/>
                  </a:lnTo>
                  <a:lnTo>
                    <a:pt x="893" y="1616"/>
                  </a:lnTo>
                  <a:lnTo>
                    <a:pt x="900" y="1616"/>
                  </a:lnTo>
                  <a:lnTo>
                    <a:pt x="900" y="1622"/>
                  </a:lnTo>
                  <a:lnTo>
                    <a:pt x="905" y="1622"/>
                  </a:lnTo>
                  <a:lnTo>
                    <a:pt x="905" y="1644"/>
                  </a:lnTo>
                  <a:lnTo>
                    <a:pt x="911" y="1644"/>
                  </a:lnTo>
                  <a:lnTo>
                    <a:pt x="911" y="1656"/>
                  </a:lnTo>
                  <a:lnTo>
                    <a:pt x="916" y="1656"/>
                  </a:lnTo>
                  <a:lnTo>
                    <a:pt x="916" y="1673"/>
                  </a:lnTo>
                  <a:lnTo>
                    <a:pt x="922" y="1673"/>
                  </a:lnTo>
                  <a:lnTo>
                    <a:pt x="922" y="1684"/>
                  </a:lnTo>
                  <a:lnTo>
                    <a:pt x="928" y="1684"/>
                  </a:lnTo>
                  <a:lnTo>
                    <a:pt x="928" y="1696"/>
                  </a:lnTo>
                  <a:lnTo>
                    <a:pt x="933" y="1696"/>
                  </a:lnTo>
                  <a:lnTo>
                    <a:pt x="933" y="1718"/>
                  </a:lnTo>
                  <a:lnTo>
                    <a:pt x="940" y="1718"/>
                  </a:lnTo>
                  <a:lnTo>
                    <a:pt x="940" y="1729"/>
                  </a:lnTo>
                  <a:lnTo>
                    <a:pt x="945" y="1729"/>
                  </a:lnTo>
                  <a:lnTo>
                    <a:pt x="945" y="1741"/>
                  </a:lnTo>
                  <a:lnTo>
                    <a:pt x="950" y="1741"/>
                  </a:lnTo>
                  <a:lnTo>
                    <a:pt x="950" y="1753"/>
                  </a:lnTo>
                  <a:lnTo>
                    <a:pt x="957" y="1753"/>
                  </a:lnTo>
                  <a:lnTo>
                    <a:pt x="957" y="1775"/>
                  </a:lnTo>
                  <a:lnTo>
                    <a:pt x="962" y="1775"/>
                  </a:lnTo>
                  <a:lnTo>
                    <a:pt x="962" y="1786"/>
                  </a:lnTo>
                  <a:lnTo>
                    <a:pt x="968" y="1786"/>
                  </a:lnTo>
                  <a:lnTo>
                    <a:pt x="968" y="1803"/>
                  </a:lnTo>
                  <a:lnTo>
                    <a:pt x="973" y="1803"/>
                  </a:lnTo>
                  <a:lnTo>
                    <a:pt x="973" y="1820"/>
                  </a:lnTo>
                  <a:lnTo>
                    <a:pt x="979" y="1820"/>
                  </a:lnTo>
                  <a:lnTo>
                    <a:pt x="979" y="1832"/>
                  </a:lnTo>
                  <a:lnTo>
                    <a:pt x="985" y="1832"/>
                  </a:lnTo>
                  <a:lnTo>
                    <a:pt x="985" y="1843"/>
                  </a:lnTo>
                  <a:lnTo>
                    <a:pt x="990" y="1843"/>
                  </a:lnTo>
                  <a:lnTo>
                    <a:pt x="990" y="1855"/>
                  </a:lnTo>
                  <a:lnTo>
                    <a:pt x="997" y="1855"/>
                  </a:lnTo>
                  <a:lnTo>
                    <a:pt x="997" y="1872"/>
                  </a:lnTo>
                  <a:lnTo>
                    <a:pt x="1002" y="1872"/>
                  </a:lnTo>
                  <a:lnTo>
                    <a:pt x="1002" y="1895"/>
                  </a:lnTo>
                  <a:lnTo>
                    <a:pt x="1007" y="1895"/>
                  </a:lnTo>
                  <a:lnTo>
                    <a:pt x="1007" y="1917"/>
                  </a:lnTo>
                  <a:lnTo>
                    <a:pt x="1014" y="1917"/>
                  </a:lnTo>
                  <a:lnTo>
                    <a:pt x="1014" y="1929"/>
                  </a:lnTo>
                  <a:lnTo>
                    <a:pt x="1018" y="1929"/>
                  </a:lnTo>
                  <a:lnTo>
                    <a:pt x="1018" y="1941"/>
                  </a:lnTo>
                  <a:lnTo>
                    <a:pt x="1024" y="1941"/>
                  </a:lnTo>
                  <a:lnTo>
                    <a:pt x="1024" y="1958"/>
                  </a:lnTo>
                  <a:lnTo>
                    <a:pt x="1030" y="1958"/>
                  </a:lnTo>
                  <a:lnTo>
                    <a:pt x="1030" y="1969"/>
                  </a:lnTo>
                  <a:lnTo>
                    <a:pt x="1035" y="1969"/>
                  </a:lnTo>
                  <a:lnTo>
                    <a:pt x="1035" y="1986"/>
                  </a:lnTo>
                  <a:lnTo>
                    <a:pt x="1042" y="1986"/>
                  </a:lnTo>
                  <a:lnTo>
                    <a:pt x="1042" y="2003"/>
                  </a:lnTo>
                  <a:lnTo>
                    <a:pt x="1047" y="2003"/>
                  </a:lnTo>
                  <a:lnTo>
                    <a:pt x="1047" y="2026"/>
                  </a:lnTo>
                  <a:lnTo>
                    <a:pt x="1052" y="2026"/>
                  </a:lnTo>
                  <a:lnTo>
                    <a:pt x="1052" y="2043"/>
                  </a:lnTo>
                  <a:lnTo>
                    <a:pt x="1059" y="2043"/>
                  </a:lnTo>
                  <a:lnTo>
                    <a:pt x="1059" y="2065"/>
                  </a:lnTo>
                  <a:lnTo>
                    <a:pt x="1064" y="2065"/>
                  </a:lnTo>
                  <a:lnTo>
                    <a:pt x="1064" y="2094"/>
                  </a:lnTo>
                  <a:lnTo>
                    <a:pt x="1070" y="2094"/>
                  </a:lnTo>
                  <a:lnTo>
                    <a:pt x="1070" y="2105"/>
                  </a:lnTo>
                  <a:lnTo>
                    <a:pt x="1075" y="2105"/>
                  </a:lnTo>
                  <a:lnTo>
                    <a:pt x="1075" y="2128"/>
                  </a:lnTo>
                  <a:lnTo>
                    <a:pt x="1081" y="2128"/>
                  </a:lnTo>
                  <a:lnTo>
                    <a:pt x="1081" y="2145"/>
                  </a:lnTo>
                  <a:lnTo>
                    <a:pt x="1087" y="2145"/>
                  </a:lnTo>
                  <a:lnTo>
                    <a:pt x="1087" y="2167"/>
                  </a:lnTo>
                  <a:lnTo>
                    <a:pt x="1092" y="2167"/>
                  </a:lnTo>
                  <a:lnTo>
                    <a:pt x="1092" y="2190"/>
                  </a:lnTo>
                  <a:lnTo>
                    <a:pt x="1099" y="2190"/>
                  </a:lnTo>
                  <a:lnTo>
                    <a:pt x="1099" y="2236"/>
                  </a:lnTo>
                  <a:lnTo>
                    <a:pt x="1104" y="2236"/>
                  </a:lnTo>
                  <a:lnTo>
                    <a:pt x="1104" y="2276"/>
                  </a:lnTo>
                  <a:lnTo>
                    <a:pt x="1109" y="2276"/>
                  </a:lnTo>
                  <a:lnTo>
                    <a:pt x="1109" y="2299"/>
                  </a:lnTo>
                  <a:lnTo>
                    <a:pt x="1116" y="2299"/>
                  </a:lnTo>
                  <a:lnTo>
                    <a:pt x="1116" y="2305"/>
                  </a:lnTo>
                  <a:lnTo>
                    <a:pt x="1121" y="2305"/>
                  </a:lnTo>
                  <a:lnTo>
                    <a:pt x="1121" y="2321"/>
                  </a:lnTo>
                  <a:lnTo>
                    <a:pt x="1127" y="2321"/>
                  </a:lnTo>
                  <a:lnTo>
                    <a:pt x="1127" y="2355"/>
                  </a:lnTo>
                  <a:lnTo>
                    <a:pt x="1133" y="2355"/>
                  </a:lnTo>
                  <a:lnTo>
                    <a:pt x="1133" y="2373"/>
                  </a:lnTo>
                  <a:lnTo>
                    <a:pt x="1138" y="2373"/>
                  </a:lnTo>
                  <a:lnTo>
                    <a:pt x="1138" y="2402"/>
                  </a:lnTo>
                  <a:lnTo>
                    <a:pt x="1144" y="2402"/>
                  </a:lnTo>
                  <a:lnTo>
                    <a:pt x="1144" y="2430"/>
                  </a:lnTo>
                  <a:lnTo>
                    <a:pt x="1149" y="2430"/>
                  </a:lnTo>
                  <a:lnTo>
                    <a:pt x="1149" y="2447"/>
                  </a:lnTo>
                  <a:lnTo>
                    <a:pt x="1156" y="2447"/>
                  </a:lnTo>
                  <a:lnTo>
                    <a:pt x="1156" y="2464"/>
                  </a:lnTo>
                  <a:lnTo>
                    <a:pt x="1161" y="2464"/>
                  </a:lnTo>
                  <a:lnTo>
                    <a:pt x="1161" y="2469"/>
                  </a:lnTo>
                  <a:lnTo>
                    <a:pt x="1166" y="2469"/>
                  </a:lnTo>
                  <a:lnTo>
                    <a:pt x="1166" y="2476"/>
                  </a:lnTo>
                  <a:lnTo>
                    <a:pt x="1178" y="2476"/>
                  </a:lnTo>
                  <a:lnTo>
                    <a:pt x="1178" y="2469"/>
                  </a:lnTo>
                  <a:lnTo>
                    <a:pt x="1280" y="2469"/>
                  </a:lnTo>
                  <a:lnTo>
                    <a:pt x="1280" y="2464"/>
                  </a:lnTo>
                  <a:lnTo>
                    <a:pt x="1320" y="2464"/>
                  </a:lnTo>
                  <a:lnTo>
                    <a:pt x="1320" y="2459"/>
                  </a:lnTo>
                  <a:lnTo>
                    <a:pt x="1372" y="2459"/>
                  </a:lnTo>
                  <a:lnTo>
                    <a:pt x="1372" y="2452"/>
                  </a:lnTo>
                  <a:lnTo>
                    <a:pt x="1406" y="2452"/>
                  </a:lnTo>
                  <a:lnTo>
                    <a:pt x="1406" y="2447"/>
                  </a:lnTo>
                  <a:lnTo>
                    <a:pt x="1480" y="2447"/>
                  </a:lnTo>
                  <a:lnTo>
                    <a:pt x="1480" y="2441"/>
                  </a:lnTo>
                  <a:lnTo>
                    <a:pt x="1496" y="2441"/>
                  </a:lnTo>
                  <a:lnTo>
                    <a:pt x="1496" y="2447"/>
                  </a:lnTo>
                  <a:lnTo>
                    <a:pt x="1508" y="2447"/>
                  </a:lnTo>
                  <a:lnTo>
                    <a:pt x="1508" y="2441"/>
                  </a:lnTo>
                  <a:lnTo>
                    <a:pt x="1565" y="2441"/>
                  </a:lnTo>
                  <a:lnTo>
                    <a:pt x="1565" y="2447"/>
                  </a:lnTo>
                  <a:lnTo>
                    <a:pt x="1662" y="2447"/>
                  </a:lnTo>
                  <a:lnTo>
                    <a:pt x="1662" y="2452"/>
                  </a:lnTo>
                  <a:lnTo>
                    <a:pt x="1696" y="2452"/>
                  </a:lnTo>
                  <a:lnTo>
                    <a:pt x="1696" y="2447"/>
                  </a:lnTo>
                  <a:lnTo>
                    <a:pt x="1793" y="2447"/>
                  </a:lnTo>
                  <a:lnTo>
                    <a:pt x="1793" y="2441"/>
                  </a:lnTo>
                  <a:lnTo>
                    <a:pt x="1918" y="2441"/>
                  </a:lnTo>
                  <a:lnTo>
                    <a:pt x="1918" y="2435"/>
                  </a:lnTo>
                  <a:lnTo>
                    <a:pt x="1969" y="2435"/>
                  </a:lnTo>
                  <a:lnTo>
                    <a:pt x="1969" y="2430"/>
                  </a:lnTo>
                  <a:lnTo>
                    <a:pt x="1986" y="2430"/>
                  </a:lnTo>
                  <a:lnTo>
                    <a:pt x="1986" y="2424"/>
                  </a:lnTo>
                  <a:lnTo>
                    <a:pt x="2014" y="2424"/>
                  </a:lnTo>
                  <a:lnTo>
                    <a:pt x="2014" y="2419"/>
                  </a:lnTo>
                  <a:lnTo>
                    <a:pt x="2066" y="2419"/>
                  </a:lnTo>
                  <a:lnTo>
                    <a:pt x="2066" y="2412"/>
                  </a:lnTo>
                  <a:lnTo>
                    <a:pt x="2089" y="2412"/>
                  </a:lnTo>
                  <a:lnTo>
                    <a:pt x="2089" y="2407"/>
                  </a:lnTo>
                  <a:lnTo>
                    <a:pt x="2129" y="2407"/>
                  </a:lnTo>
                  <a:lnTo>
                    <a:pt x="2129" y="2402"/>
                  </a:lnTo>
                  <a:lnTo>
                    <a:pt x="2157" y="2402"/>
                  </a:lnTo>
                  <a:lnTo>
                    <a:pt x="2157" y="2395"/>
                  </a:lnTo>
                  <a:lnTo>
                    <a:pt x="2186" y="2395"/>
                  </a:lnTo>
                  <a:lnTo>
                    <a:pt x="2186" y="2390"/>
                  </a:lnTo>
                  <a:lnTo>
                    <a:pt x="2209" y="2390"/>
                  </a:lnTo>
                  <a:lnTo>
                    <a:pt x="2209" y="2385"/>
                  </a:lnTo>
                  <a:lnTo>
                    <a:pt x="2242" y="2385"/>
                  </a:lnTo>
                  <a:lnTo>
                    <a:pt x="2242" y="2378"/>
                  </a:lnTo>
                  <a:lnTo>
                    <a:pt x="2294" y="2378"/>
                  </a:lnTo>
                  <a:lnTo>
                    <a:pt x="2294" y="2373"/>
                  </a:lnTo>
                  <a:lnTo>
                    <a:pt x="2305" y="2373"/>
                  </a:lnTo>
                  <a:lnTo>
                    <a:pt x="2305" y="2378"/>
                  </a:lnTo>
                  <a:lnTo>
                    <a:pt x="2316" y="2378"/>
                  </a:lnTo>
                  <a:lnTo>
                    <a:pt x="2316" y="2373"/>
                  </a:lnTo>
                  <a:lnTo>
                    <a:pt x="2339" y="2373"/>
                  </a:lnTo>
                  <a:lnTo>
                    <a:pt x="2339" y="2367"/>
                  </a:lnTo>
                  <a:lnTo>
                    <a:pt x="2373" y="2367"/>
                  </a:lnTo>
                  <a:lnTo>
                    <a:pt x="2373" y="2362"/>
                  </a:lnTo>
                  <a:lnTo>
                    <a:pt x="2408" y="2362"/>
                  </a:lnTo>
                  <a:lnTo>
                    <a:pt x="2408" y="2355"/>
                  </a:lnTo>
                  <a:lnTo>
                    <a:pt x="2453" y="2355"/>
                  </a:lnTo>
                  <a:lnTo>
                    <a:pt x="2453" y="2350"/>
                  </a:lnTo>
                  <a:lnTo>
                    <a:pt x="2482" y="2350"/>
                  </a:lnTo>
                  <a:lnTo>
                    <a:pt x="2482" y="2345"/>
                  </a:lnTo>
                  <a:lnTo>
                    <a:pt x="2516" y="2345"/>
                  </a:lnTo>
                  <a:lnTo>
                    <a:pt x="2516" y="2338"/>
                  </a:lnTo>
                  <a:lnTo>
                    <a:pt x="2527" y="2338"/>
                  </a:lnTo>
                  <a:lnTo>
                    <a:pt x="2527" y="2333"/>
                  </a:lnTo>
                  <a:lnTo>
                    <a:pt x="2550" y="2333"/>
                  </a:lnTo>
                  <a:lnTo>
                    <a:pt x="2550" y="2338"/>
                  </a:lnTo>
                  <a:lnTo>
                    <a:pt x="2561" y="2338"/>
                  </a:lnTo>
                  <a:lnTo>
                    <a:pt x="2561" y="2333"/>
                  </a:lnTo>
                  <a:lnTo>
                    <a:pt x="2607" y="2333"/>
                  </a:lnTo>
                  <a:lnTo>
                    <a:pt x="2607" y="2328"/>
                  </a:lnTo>
                  <a:lnTo>
                    <a:pt x="2613" y="2328"/>
                  </a:lnTo>
                  <a:lnTo>
                    <a:pt x="2613" y="2321"/>
                  </a:lnTo>
                  <a:lnTo>
                    <a:pt x="2636" y="2321"/>
                  </a:lnTo>
                  <a:lnTo>
                    <a:pt x="2636" y="2316"/>
                  </a:lnTo>
                  <a:lnTo>
                    <a:pt x="2703" y="2316"/>
                  </a:lnTo>
                  <a:lnTo>
                    <a:pt x="2703" y="2310"/>
                  </a:lnTo>
                  <a:lnTo>
                    <a:pt x="2721" y="2310"/>
                  </a:lnTo>
                  <a:lnTo>
                    <a:pt x="2721" y="2305"/>
                  </a:lnTo>
                  <a:lnTo>
                    <a:pt x="2743" y="2305"/>
                  </a:lnTo>
                  <a:lnTo>
                    <a:pt x="2743" y="2299"/>
                  </a:lnTo>
                  <a:lnTo>
                    <a:pt x="2772" y="2299"/>
                  </a:lnTo>
                  <a:lnTo>
                    <a:pt x="2772" y="2293"/>
                  </a:lnTo>
                  <a:lnTo>
                    <a:pt x="2807" y="2293"/>
                  </a:lnTo>
                  <a:lnTo>
                    <a:pt x="2807" y="2288"/>
                  </a:lnTo>
                  <a:lnTo>
                    <a:pt x="2817" y="2288"/>
                  </a:lnTo>
                  <a:lnTo>
                    <a:pt x="2817" y="2281"/>
                  </a:lnTo>
                  <a:lnTo>
                    <a:pt x="2834" y="2281"/>
                  </a:lnTo>
                  <a:lnTo>
                    <a:pt x="2834" y="2288"/>
                  </a:lnTo>
                  <a:lnTo>
                    <a:pt x="2840" y="2288"/>
                  </a:lnTo>
                  <a:lnTo>
                    <a:pt x="2840" y="2299"/>
                  </a:lnTo>
                  <a:lnTo>
                    <a:pt x="2834" y="2299"/>
                  </a:lnTo>
                  <a:lnTo>
                    <a:pt x="2834" y="2305"/>
                  </a:lnTo>
                  <a:lnTo>
                    <a:pt x="2829" y="2305"/>
                  </a:lnTo>
                  <a:lnTo>
                    <a:pt x="2829" y="2321"/>
                  </a:lnTo>
                  <a:lnTo>
                    <a:pt x="2852" y="2321"/>
                  </a:lnTo>
                  <a:lnTo>
                    <a:pt x="2852" y="2333"/>
                  </a:lnTo>
                  <a:lnTo>
                    <a:pt x="2846" y="2333"/>
                  </a:lnTo>
                  <a:lnTo>
                    <a:pt x="2846" y="2338"/>
                  </a:lnTo>
                  <a:lnTo>
                    <a:pt x="2789" y="2338"/>
                  </a:lnTo>
                  <a:lnTo>
                    <a:pt x="2789" y="2345"/>
                  </a:lnTo>
                  <a:lnTo>
                    <a:pt x="2710" y="2345"/>
                  </a:lnTo>
                  <a:lnTo>
                    <a:pt x="2710" y="2350"/>
                  </a:lnTo>
                  <a:lnTo>
                    <a:pt x="2686" y="2350"/>
                  </a:lnTo>
                  <a:lnTo>
                    <a:pt x="2686" y="2355"/>
                  </a:lnTo>
                  <a:lnTo>
                    <a:pt x="2653" y="2355"/>
                  </a:lnTo>
                  <a:lnTo>
                    <a:pt x="2653" y="2362"/>
                  </a:lnTo>
                  <a:lnTo>
                    <a:pt x="2591" y="2362"/>
                  </a:lnTo>
                  <a:lnTo>
                    <a:pt x="2591" y="2367"/>
                  </a:lnTo>
                  <a:lnTo>
                    <a:pt x="2534" y="2367"/>
                  </a:lnTo>
                  <a:lnTo>
                    <a:pt x="2534" y="2373"/>
                  </a:lnTo>
                  <a:lnTo>
                    <a:pt x="2487" y="2373"/>
                  </a:lnTo>
                  <a:lnTo>
                    <a:pt x="2487" y="2378"/>
                  </a:lnTo>
                  <a:lnTo>
                    <a:pt x="2436" y="2378"/>
                  </a:lnTo>
                  <a:lnTo>
                    <a:pt x="2436" y="2385"/>
                  </a:lnTo>
                  <a:lnTo>
                    <a:pt x="2396" y="2385"/>
                  </a:lnTo>
                  <a:lnTo>
                    <a:pt x="2396" y="2390"/>
                  </a:lnTo>
                  <a:lnTo>
                    <a:pt x="2368" y="2390"/>
                  </a:lnTo>
                  <a:lnTo>
                    <a:pt x="2368" y="2395"/>
                  </a:lnTo>
                  <a:lnTo>
                    <a:pt x="2322" y="2395"/>
                  </a:lnTo>
                  <a:lnTo>
                    <a:pt x="2322" y="2402"/>
                  </a:lnTo>
                  <a:lnTo>
                    <a:pt x="2305" y="2402"/>
                  </a:lnTo>
                  <a:lnTo>
                    <a:pt x="2305" y="2407"/>
                  </a:lnTo>
                  <a:lnTo>
                    <a:pt x="2288" y="2407"/>
                  </a:lnTo>
                  <a:lnTo>
                    <a:pt x="2288" y="2412"/>
                  </a:lnTo>
                  <a:lnTo>
                    <a:pt x="2271" y="2412"/>
                  </a:lnTo>
                  <a:lnTo>
                    <a:pt x="2271" y="2419"/>
                  </a:lnTo>
                  <a:lnTo>
                    <a:pt x="2242" y="2419"/>
                  </a:lnTo>
                  <a:lnTo>
                    <a:pt x="2242" y="2424"/>
                  </a:lnTo>
                  <a:lnTo>
                    <a:pt x="2214" y="2424"/>
                  </a:lnTo>
                  <a:lnTo>
                    <a:pt x="2214" y="2430"/>
                  </a:lnTo>
                  <a:lnTo>
                    <a:pt x="2180" y="2430"/>
                  </a:lnTo>
                  <a:lnTo>
                    <a:pt x="2180" y="2435"/>
                  </a:lnTo>
                  <a:lnTo>
                    <a:pt x="2129" y="2435"/>
                  </a:lnTo>
                  <a:lnTo>
                    <a:pt x="2129" y="2441"/>
                  </a:lnTo>
                  <a:lnTo>
                    <a:pt x="2095" y="2441"/>
                  </a:lnTo>
                  <a:lnTo>
                    <a:pt x="2095" y="2447"/>
                  </a:lnTo>
                  <a:lnTo>
                    <a:pt x="2055" y="2447"/>
                  </a:lnTo>
                  <a:lnTo>
                    <a:pt x="2055" y="2452"/>
                  </a:lnTo>
                  <a:lnTo>
                    <a:pt x="2009" y="2452"/>
                  </a:lnTo>
                  <a:lnTo>
                    <a:pt x="2009" y="2459"/>
                  </a:lnTo>
                  <a:lnTo>
                    <a:pt x="1964" y="2459"/>
                  </a:lnTo>
                  <a:lnTo>
                    <a:pt x="1964" y="2464"/>
                  </a:lnTo>
                  <a:lnTo>
                    <a:pt x="1918" y="2464"/>
                  </a:lnTo>
                  <a:lnTo>
                    <a:pt x="1918" y="2469"/>
                  </a:lnTo>
                  <a:lnTo>
                    <a:pt x="1843" y="2469"/>
                  </a:lnTo>
                  <a:lnTo>
                    <a:pt x="1843" y="2476"/>
                  </a:lnTo>
                  <a:lnTo>
                    <a:pt x="1781" y="2476"/>
                  </a:lnTo>
                  <a:lnTo>
                    <a:pt x="1781" y="2481"/>
                  </a:lnTo>
                  <a:lnTo>
                    <a:pt x="1724" y="2481"/>
                  </a:lnTo>
                  <a:lnTo>
                    <a:pt x="1724" y="2487"/>
                  </a:lnTo>
                  <a:lnTo>
                    <a:pt x="1656" y="2487"/>
                  </a:lnTo>
                  <a:lnTo>
                    <a:pt x="1656" y="2492"/>
                  </a:lnTo>
                  <a:lnTo>
                    <a:pt x="1577" y="2492"/>
                  </a:lnTo>
                  <a:lnTo>
                    <a:pt x="1577" y="2498"/>
                  </a:lnTo>
                  <a:lnTo>
                    <a:pt x="1468" y="2498"/>
                  </a:lnTo>
                  <a:lnTo>
                    <a:pt x="1468" y="2504"/>
                  </a:lnTo>
                  <a:lnTo>
                    <a:pt x="1230" y="2504"/>
                  </a:lnTo>
                  <a:lnTo>
                    <a:pt x="1230" y="2509"/>
                  </a:lnTo>
                  <a:lnTo>
                    <a:pt x="1161" y="2509"/>
                  </a:lnTo>
                  <a:lnTo>
                    <a:pt x="1161" y="2521"/>
                  </a:lnTo>
                  <a:lnTo>
                    <a:pt x="1156" y="2521"/>
                  </a:lnTo>
                  <a:lnTo>
                    <a:pt x="1156" y="2526"/>
                  </a:lnTo>
                  <a:lnTo>
                    <a:pt x="1144" y="2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4852080" y="2830680"/>
              <a:ext cx="15480" cy="684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0" y="12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35" y="7"/>
                  </a:lnTo>
                  <a:lnTo>
                    <a:pt x="3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3669480" y="3227040"/>
              <a:ext cx="1016280" cy="1000440"/>
            </a:xfrm>
            <a:custGeom>
              <a:avLst/>
              <a:gdLst/>
              <a:ahLst/>
              <a:rect l="l" t="t" r="r" b="b"/>
              <a:pathLst>
                <a:path w="1855" h="1815">
                  <a:moveTo>
                    <a:pt x="1827" y="1815"/>
                  </a:moveTo>
                  <a:lnTo>
                    <a:pt x="1827" y="1810"/>
                  </a:lnTo>
                  <a:lnTo>
                    <a:pt x="1821" y="1810"/>
                  </a:lnTo>
                  <a:lnTo>
                    <a:pt x="1821" y="1798"/>
                  </a:lnTo>
                  <a:lnTo>
                    <a:pt x="1810" y="1798"/>
                  </a:lnTo>
                  <a:lnTo>
                    <a:pt x="1810" y="1792"/>
                  </a:lnTo>
                  <a:lnTo>
                    <a:pt x="1776" y="1792"/>
                  </a:lnTo>
                  <a:lnTo>
                    <a:pt x="1776" y="1787"/>
                  </a:lnTo>
                  <a:lnTo>
                    <a:pt x="1748" y="1787"/>
                  </a:lnTo>
                  <a:lnTo>
                    <a:pt x="1748" y="1781"/>
                  </a:lnTo>
                  <a:lnTo>
                    <a:pt x="1724" y="1781"/>
                  </a:lnTo>
                  <a:lnTo>
                    <a:pt x="1724" y="1787"/>
                  </a:lnTo>
                  <a:lnTo>
                    <a:pt x="1589" y="1787"/>
                  </a:lnTo>
                  <a:lnTo>
                    <a:pt x="1589" y="1781"/>
                  </a:lnTo>
                  <a:lnTo>
                    <a:pt x="1571" y="1781"/>
                  </a:lnTo>
                  <a:lnTo>
                    <a:pt x="1571" y="1775"/>
                  </a:lnTo>
                  <a:lnTo>
                    <a:pt x="1560" y="1775"/>
                  </a:lnTo>
                  <a:lnTo>
                    <a:pt x="1560" y="1770"/>
                  </a:lnTo>
                  <a:lnTo>
                    <a:pt x="1542" y="1770"/>
                  </a:lnTo>
                  <a:lnTo>
                    <a:pt x="1542" y="1764"/>
                  </a:lnTo>
                  <a:lnTo>
                    <a:pt x="1525" y="1764"/>
                  </a:lnTo>
                  <a:lnTo>
                    <a:pt x="1525" y="1758"/>
                  </a:lnTo>
                  <a:lnTo>
                    <a:pt x="1508" y="1758"/>
                  </a:lnTo>
                  <a:lnTo>
                    <a:pt x="1508" y="1753"/>
                  </a:lnTo>
                  <a:lnTo>
                    <a:pt x="1497" y="1753"/>
                  </a:lnTo>
                  <a:lnTo>
                    <a:pt x="1497" y="1747"/>
                  </a:lnTo>
                  <a:lnTo>
                    <a:pt x="1480" y="1747"/>
                  </a:lnTo>
                  <a:lnTo>
                    <a:pt x="1480" y="1742"/>
                  </a:lnTo>
                  <a:lnTo>
                    <a:pt x="1468" y="1742"/>
                  </a:lnTo>
                  <a:lnTo>
                    <a:pt x="1468" y="1735"/>
                  </a:lnTo>
                  <a:lnTo>
                    <a:pt x="1458" y="1735"/>
                  </a:lnTo>
                  <a:lnTo>
                    <a:pt x="1458" y="1730"/>
                  </a:lnTo>
                  <a:lnTo>
                    <a:pt x="1446" y="1730"/>
                  </a:lnTo>
                  <a:lnTo>
                    <a:pt x="1446" y="1725"/>
                  </a:lnTo>
                  <a:lnTo>
                    <a:pt x="1434" y="1725"/>
                  </a:lnTo>
                  <a:lnTo>
                    <a:pt x="1434" y="1718"/>
                  </a:lnTo>
                  <a:lnTo>
                    <a:pt x="1423" y="1718"/>
                  </a:lnTo>
                  <a:lnTo>
                    <a:pt x="1423" y="1713"/>
                  </a:lnTo>
                  <a:lnTo>
                    <a:pt x="1406" y="1713"/>
                  </a:lnTo>
                  <a:lnTo>
                    <a:pt x="1406" y="1707"/>
                  </a:lnTo>
                  <a:lnTo>
                    <a:pt x="1389" y="1707"/>
                  </a:lnTo>
                  <a:lnTo>
                    <a:pt x="1389" y="1701"/>
                  </a:lnTo>
                  <a:lnTo>
                    <a:pt x="1360" y="1701"/>
                  </a:lnTo>
                  <a:lnTo>
                    <a:pt x="1360" y="1696"/>
                  </a:lnTo>
                  <a:lnTo>
                    <a:pt x="1337" y="1696"/>
                  </a:lnTo>
                  <a:lnTo>
                    <a:pt x="1337" y="1690"/>
                  </a:lnTo>
                  <a:lnTo>
                    <a:pt x="1275" y="1690"/>
                  </a:lnTo>
                  <a:lnTo>
                    <a:pt x="1275" y="1685"/>
                  </a:lnTo>
                  <a:lnTo>
                    <a:pt x="1235" y="1685"/>
                  </a:lnTo>
                  <a:lnTo>
                    <a:pt x="1235" y="1678"/>
                  </a:lnTo>
                  <a:lnTo>
                    <a:pt x="1224" y="1678"/>
                  </a:lnTo>
                  <a:lnTo>
                    <a:pt x="1224" y="1673"/>
                  </a:lnTo>
                  <a:lnTo>
                    <a:pt x="1201" y="1673"/>
                  </a:lnTo>
                  <a:lnTo>
                    <a:pt x="1201" y="1668"/>
                  </a:lnTo>
                  <a:lnTo>
                    <a:pt x="1167" y="1668"/>
                  </a:lnTo>
                  <a:lnTo>
                    <a:pt x="1167" y="1661"/>
                  </a:lnTo>
                  <a:lnTo>
                    <a:pt x="1138" y="1661"/>
                  </a:lnTo>
                  <a:lnTo>
                    <a:pt x="1138" y="1656"/>
                  </a:lnTo>
                  <a:lnTo>
                    <a:pt x="1104" y="1656"/>
                  </a:lnTo>
                  <a:lnTo>
                    <a:pt x="1104" y="1650"/>
                  </a:lnTo>
                  <a:lnTo>
                    <a:pt x="1069" y="1650"/>
                  </a:lnTo>
                  <a:lnTo>
                    <a:pt x="1069" y="1644"/>
                  </a:lnTo>
                  <a:lnTo>
                    <a:pt x="1059" y="1644"/>
                  </a:lnTo>
                  <a:lnTo>
                    <a:pt x="1059" y="1639"/>
                  </a:lnTo>
                  <a:lnTo>
                    <a:pt x="1030" y="1639"/>
                  </a:lnTo>
                  <a:lnTo>
                    <a:pt x="1030" y="1633"/>
                  </a:lnTo>
                  <a:lnTo>
                    <a:pt x="1019" y="1633"/>
                  </a:lnTo>
                  <a:lnTo>
                    <a:pt x="1019" y="1628"/>
                  </a:lnTo>
                  <a:lnTo>
                    <a:pt x="1002" y="1628"/>
                  </a:lnTo>
                  <a:lnTo>
                    <a:pt x="1002" y="1621"/>
                  </a:lnTo>
                  <a:lnTo>
                    <a:pt x="973" y="1621"/>
                  </a:lnTo>
                  <a:lnTo>
                    <a:pt x="973" y="1616"/>
                  </a:lnTo>
                  <a:lnTo>
                    <a:pt x="950" y="1616"/>
                  </a:lnTo>
                  <a:lnTo>
                    <a:pt x="950" y="1611"/>
                  </a:lnTo>
                  <a:lnTo>
                    <a:pt x="933" y="1611"/>
                  </a:lnTo>
                  <a:lnTo>
                    <a:pt x="933" y="1604"/>
                  </a:lnTo>
                  <a:lnTo>
                    <a:pt x="922" y="1604"/>
                  </a:lnTo>
                  <a:lnTo>
                    <a:pt x="922" y="1599"/>
                  </a:lnTo>
                  <a:lnTo>
                    <a:pt x="905" y="1599"/>
                  </a:lnTo>
                  <a:lnTo>
                    <a:pt x="905" y="1594"/>
                  </a:lnTo>
                  <a:lnTo>
                    <a:pt x="893" y="1594"/>
                  </a:lnTo>
                  <a:lnTo>
                    <a:pt x="893" y="1587"/>
                  </a:lnTo>
                  <a:lnTo>
                    <a:pt x="881" y="1587"/>
                  </a:lnTo>
                  <a:lnTo>
                    <a:pt x="881" y="1582"/>
                  </a:lnTo>
                  <a:lnTo>
                    <a:pt x="876" y="1582"/>
                  </a:lnTo>
                  <a:lnTo>
                    <a:pt x="876" y="1576"/>
                  </a:lnTo>
                  <a:lnTo>
                    <a:pt x="871" y="1576"/>
                  </a:lnTo>
                  <a:lnTo>
                    <a:pt x="871" y="1570"/>
                  </a:lnTo>
                  <a:lnTo>
                    <a:pt x="853" y="1570"/>
                  </a:lnTo>
                  <a:lnTo>
                    <a:pt x="853" y="1565"/>
                  </a:lnTo>
                  <a:lnTo>
                    <a:pt x="848" y="1565"/>
                  </a:lnTo>
                  <a:lnTo>
                    <a:pt x="848" y="1559"/>
                  </a:lnTo>
                  <a:lnTo>
                    <a:pt x="836" y="1559"/>
                  </a:lnTo>
                  <a:lnTo>
                    <a:pt x="836" y="1554"/>
                  </a:lnTo>
                  <a:lnTo>
                    <a:pt x="820" y="1554"/>
                  </a:lnTo>
                  <a:lnTo>
                    <a:pt x="820" y="1547"/>
                  </a:lnTo>
                  <a:lnTo>
                    <a:pt x="808" y="1547"/>
                  </a:lnTo>
                  <a:lnTo>
                    <a:pt x="808" y="1542"/>
                  </a:lnTo>
                  <a:lnTo>
                    <a:pt x="803" y="1542"/>
                  </a:lnTo>
                  <a:lnTo>
                    <a:pt x="803" y="1537"/>
                  </a:lnTo>
                  <a:lnTo>
                    <a:pt x="791" y="1537"/>
                  </a:lnTo>
                  <a:lnTo>
                    <a:pt x="791" y="1530"/>
                  </a:lnTo>
                  <a:lnTo>
                    <a:pt x="779" y="1530"/>
                  </a:lnTo>
                  <a:lnTo>
                    <a:pt x="779" y="1525"/>
                  </a:lnTo>
                  <a:lnTo>
                    <a:pt x="769" y="1525"/>
                  </a:lnTo>
                  <a:lnTo>
                    <a:pt x="769" y="1519"/>
                  </a:lnTo>
                  <a:lnTo>
                    <a:pt x="757" y="1519"/>
                  </a:lnTo>
                  <a:lnTo>
                    <a:pt x="757" y="1513"/>
                  </a:lnTo>
                  <a:lnTo>
                    <a:pt x="746" y="1513"/>
                  </a:lnTo>
                  <a:lnTo>
                    <a:pt x="746" y="1508"/>
                  </a:lnTo>
                  <a:lnTo>
                    <a:pt x="729" y="1508"/>
                  </a:lnTo>
                  <a:lnTo>
                    <a:pt x="729" y="1502"/>
                  </a:lnTo>
                  <a:lnTo>
                    <a:pt x="717" y="1502"/>
                  </a:lnTo>
                  <a:lnTo>
                    <a:pt x="717" y="1497"/>
                  </a:lnTo>
                  <a:lnTo>
                    <a:pt x="706" y="1497"/>
                  </a:lnTo>
                  <a:lnTo>
                    <a:pt x="706" y="1490"/>
                  </a:lnTo>
                  <a:lnTo>
                    <a:pt x="694" y="1490"/>
                  </a:lnTo>
                  <a:lnTo>
                    <a:pt x="694" y="1485"/>
                  </a:lnTo>
                  <a:lnTo>
                    <a:pt x="683" y="1485"/>
                  </a:lnTo>
                  <a:lnTo>
                    <a:pt x="683" y="1480"/>
                  </a:lnTo>
                  <a:lnTo>
                    <a:pt x="677" y="1480"/>
                  </a:lnTo>
                  <a:lnTo>
                    <a:pt x="677" y="1473"/>
                  </a:lnTo>
                  <a:lnTo>
                    <a:pt x="665" y="1473"/>
                  </a:lnTo>
                  <a:lnTo>
                    <a:pt x="665" y="1468"/>
                  </a:lnTo>
                  <a:lnTo>
                    <a:pt x="649" y="1468"/>
                  </a:lnTo>
                  <a:lnTo>
                    <a:pt x="649" y="1462"/>
                  </a:lnTo>
                  <a:lnTo>
                    <a:pt x="643" y="1462"/>
                  </a:lnTo>
                  <a:lnTo>
                    <a:pt x="643" y="1456"/>
                  </a:lnTo>
                  <a:lnTo>
                    <a:pt x="632" y="1456"/>
                  </a:lnTo>
                  <a:lnTo>
                    <a:pt x="632" y="1451"/>
                  </a:lnTo>
                  <a:lnTo>
                    <a:pt x="615" y="1451"/>
                  </a:lnTo>
                  <a:lnTo>
                    <a:pt x="615" y="1445"/>
                  </a:lnTo>
                  <a:lnTo>
                    <a:pt x="603" y="1445"/>
                  </a:lnTo>
                  <a:lnTo>
                    <a:pt x="603" y="1440"/>
                  </a:lnTo>
                  <a:lnTo>
                    <a:pt x="591" y="1440"/>
                  </a:lnTo>
                  <a:lnTo>
                    <a:pt x="591" y="1433"/>
                  </a:lnTo>
                  <a:lnTo>
                    <a:pt x="580" y="1433"/>
                  </a:lnTo>
                  <a:lnTo>
                    <a:pt x="580" y="1428"/>
                  </a:lnTo>
                  <a:lnTo>
                    <a:pt x="563" y="1428"/>
                  </a:lnTo>
                  <a:lnTo>
                    <a:pt x="563" y="1423"/>
                  </a:lnTo>
                  <a:lnTo>
                    <a:pt x="551" y="1423"/>
                  </a:lnTo>
                  <a:lnTo>
                    <a:pt x="551" y="1416"/>
                  </a:lnTo>
                  <a:lnTo>
                    <a:pt x="541" y="1416"/>
                  </a:lnTo>
                  <a:lnTo>
                    <a:pt x="541" y="1411"/>
                  </a:lnTo>
                  <a:lnTo>
                    <a:pt x="529" y="1411"/>
                  </a:lnTo>
                  <a:lnTo>
                    <a:pt x="529" y="1406"/>
                  </a:lnTo>
                  <a:lnTo>
                    <a:pt x="518" y="1406"/>
                  </a:lnTo>
                  <a:lnTo>
                    <a:pt x="518" y="1399"/>
                  </a:lnTo>
                  <a:lnTo>
                    <a:pt x="501" y="1399"/>
                  </a:lnTo>
                  <a:lnTo>
                    <a:pt x="501" y="1394"/>
                  </a:lnTo>
                  <a:lnTo>
                    <a:pt x="484" y="1394"/>
                  </a:lnTo>
                  <a:lnTo>
                    <a:pt x="484" y="1388"/>
                  </a:lnTo>
                  <a:lnTo>
                    <a:pt x="477" y="1388"/>
                  </a:lnTo>
                  <a:lnTo>
                    <a:pt x="477" y="1383"/>
                  </a:lnTo>
                  <a:lnTo>
                    <a:pt x="467" y="1383"/>
                  </a:lnTo>
                  <a:lnTo>
                    <a:pt x="467" y="1377"/>
                  </a:lnTo>
                  <a:lnTo>
                    <a:pt x="455" y="1377"/>
                  </a:lnTo>
                  <a:lnTo>
                    <a:pt x="455" y="1371"/>
                  </a:lnTo>
                  <a:lnTo>
                    <a:pt x="449" y="1371"/>
                  </a:lnTo>
                  <a:lnTo>
                    <a:pt x="449" y="1366"/>
                  </a:lnTo>
                  <a:lnTo>
                    <a:pt x="444" y="1366"/>
                  </a:lnTo>
                  <a:lnTo>
                    <a:pt x="444" y="1359"/>
                  </a:lnTo>
                  <a:lnTo>
                    <a:pt x="432" y="1359"/>
                  </a:lnTo>
                  <a:lnTo>
                    <a:pt x="432" y="1354"/>
                  </a:lnTo>
                  <a:lnTo>
                    <a:pt x="427" y="1354"/>
                  </a:lnTo>
                  <a:lnTo>
                    <a:pt x="427" y="1349"/>
                  </a:lnTo>
                  <a:lnTo>
                    <a:pt x="416" y="1349"/>
                  </a:lnTo>
                  <a:lnTo>
                    <a:pt x="416" y="1343"/>
                  </a:lnTo>
                  <a:lnTo>
                    <a:pt x="404" y="1343"/>
                  </a:lnTo>
                  <a:lnTo>
                    <a:pt x="404" y="1338"/>
                  </a:lnTo>
                  <a:lnTo>
                    <a:pt x="392" y="1338"/>
                  </a:lnTo>
                  <a:lnTo>
                    <a:pt x="392" y="1331"/>
                  </a:lnTo>
                  <a:lnTo>
                    <a:pt x="387" y="1331"/>
                  </a:lnTo>
                  <a:lnTo>
                    <a:pt x="387" y="1326"/>
                  </a:lnTo>
                  <a:lnTo>
                    <a:pt x="375" y="1326"/>
                  </a:lnTo>
                  <a:lnTo>
                    <a:pt x="375" y="1321"/>
                  </a:lnTo>
                  <a:lnTo>
                    <a:pt x="364" y="1321"/>
                  </a:lnTo>
                  <a:lnTo>
                    <a:pt x="364" y="1314"/>
                  </a:lnTo>
                  <a:lnTo>
                    <a:pt x="359" y="1314"/>
                  </a:lnTo>
                  <a:lnTo>
                    <a:pt x="359" y="1309"/>
                  </a:lnTo>
                  <a:lnTo>
                    <a:pt x="347" y="1309"/>
                  </a:lnTo>
                  <a:lnTo>
                    <a:pt x="347" y="1303"/>
                  </a:lnTo>
                  <a:lnTo>
                    <a:pt x="330" y="1303"/>
                  </a:lnTo>
                  <a:lnTo>
                    <a:pt x="330" y="1297"/>
                  </a:lnTo>
                  <a:lnTo>
                    <a:pt x="325" y="1297"/>
                  </a:lnTo>
                  <a:lnTo>
                    <a:pt x="325" y="1292"/>
                  </a:lnTo>
                  <a:lnTo>
                    <a:pt x="313" y="1292"/>
                  </a:lnTo>
                  <a:lnTo>
                    <a:pt x="313" y="1281"/>
                  </a:lnTo>
                  <a:lnTo>
                    <a:pt x="301" y="1281"/>
                  </a:lnTo>
                  <a:lnTo>
                    <a:pt x="301" y="1274"/>
                  </a:lnTo>
                  <a:lnTo>
                    <a:pt x="290" y="1274"/>
                  </a:lnTo>
                  <a:lnTo>
                    <a:pt x="290" y="1269"/>
                  </a:lnTo>
                  <a:lnTo>
                    <a:pt x="285" y="1269"/>
                  </a:lnTo>
                  <a:lnTo>
                    <a:pt x="285" y="1264"/>
                  </a:lnTo>
                  <a:lnTo>
                    <a:pt x="273" y="1264"/>
                  </a:lnTo>
                  <a:lnTo>
                    <a:pt x="273" y="1257"/>
                  </a:lnTo>
                  <a:lnTo>
                    <a:pt x="261" y="1257"/>
                  </a:lnTo>
                  <a:lnTo>
                    <a:pt x="261" y="1252"/>
                  </a:lnTo>
                  <a:lnTo>
                    <a:pt x="250" y="1252"/>
                  </a:lnTo>
                  <a:lnTo>
                    <a:pt x="250" y="1246"/>
                  </a:lnTo>
                  <a:lnTo>
                    <a:pt x="244" y="1246"/>
                  </a:lnTo>
                  <a:lnTo>
                    <a:pt x="244" y="1240"/>
                  </a:lnTo>
                  <a:lnTo>
                    <a:pt x="233" y="1240"/>
                  </a:lnTo>
                  <a:lnTo>
                    <a:pt x="233" y="1235"/>
                  </a:lnTo>
                  <a:lnTo>
                    <a:pt x="216" y="1235"/>
                  </a:lnTo>
                  <a:lnTo>
                    <a:pt x="216" y="1229"/>
                  </a:lnTo>
                  <a:lnTo>
                    <a:pt x="211" y="1229"/>
                  </a:lnTo>
                  <a:lnTo>
                    <a:pt x="211" y="1223"/>
                  </a:lnTo>
                  <a:lnTo>
                    <a:pt x="199" y="1223"/>
                  </a:lnTo>
                  <a:lnTo>
                    <a:pt x="199" y="1217"/>
                  </a:lnTo>
                  <a:lnTo>
                    <a:pt x="187" y="1217"/>
                  </a:lnTo>
                  <a:lnTo>
                    <a:pt x="187" y="1212"/>
                  </a:lnTo>
                  <a:lnTo>
                    <a:pt x="176" y="1212"/>
                  </a:lnTo>
                  <a:lnTo>
                    <a:pt x="176" y="1207"/>
                  </a:lnTo>
                  <a:lnTo>
                    <a:pt x="171" y="1207"/>
                  </a:lnTo>
                  <a:lnTo>
                    <a:pt x="171" y="1200"/>
                  </a:lnTo>
                  <a:lnTo>
                    <a:pt x="159" y="1200"/>
                  </a:lnTo>
                  <a:lnTo>
                    <a:pt x="159" y="1195"/>
                  </a:lnTo>
                  <a:lnTo>
                    <a:pt x="147" y="1195"/>
                  </a:lnTo>
                  <a:lnTo>
                    <a:pt x="147" y="1190"/>
                  </a:lnTo>
                  <a:lnTo>
                    <a:pt x="142" y="1190"/>
                  </a:lnTo>
                  <a:lnTo>
                    <a:pt x="142" y="1183"/>
                  </a:lnTo>
                  <a:lnTo>
                    <a:pt x="137" y="1183"/>
                  </a:lnTo>
                  <a:lnTo>
                    <a:pt x="137" y="1178"/>
                  </a:lnTo>
                  <a:lnTo>
                    <a:pt x="125" y="1178"/>
                  </a:lnTo>
                  <a:lnTo>
                    <a:pt x="125" y="1172"/>
                  </a:lnTo>
                  <a:lnTo>
                    <a:pt x="119" y="1172"/>
                  </a:lnTo>
                  <a:lnTo>
                    <a:pt x="119" y="1166"/>
                  </a:lnTo>
                  <a:lnTo>
                    <a:pt x="108" y="1166"/>
                  </a:lnTo>
                  <a:lnTo>
                    <a:pt x="108" y="1161"/>
                  </a:lnTo>
                  <a:lnTo>
                    <a:pt x="97" y="1161"/>
                  </a:lnTo>
                  <a:lnTo>
                    <a:pt x="97" y="1155"/>
                  </a:lnTo>
                  <a:lnTo>
                    <a:pt x="85" y="1155"/>
                  </a:lnTo>
                  <a:lnTo>
                    <a:pt x="85" y="1150"/>
                  </a:lnTo>
                  <a:lnTo>
                    <a:pt x="80" y="1150"/>
                  </a:lnTo>
                  <a:lnTo>
                    <a:pt x="80" y="1143"/>
                  </a:lnTo>
                  <a:lnTo>
                    <a:pt x="73" y="1143"/>
                  </a:lnTo>
                  <a:lnTo>
                    <a:pt x="73" y="1138"/>
                  </a:lnTo>
                  <a:lnTo>
                    <a:pt x="62" y="1138"/>
                  </a:lnTo>
                  <a:lnTo>
                    <a:pt x="62" y="1133"/>
                  </a:lnTo>
                  <a:lnTo>
                    <a:pt x="57" y="1133"/>
                  </a:lnTo>
                  <a:lnTo>
                    <a:pt x="57" y="1126"/>
                  </a:lnTo>
                  <a:lnTo>
                    <a:pt x="51" y="1126"/>
                  </a:lnTo>
                  <a:lnTo>
                    <a:pt x="51" y="1121"/>
                  </a:lnTo>
                  <a:lnTo>
                    <a:pt x="45" y="1121"/>
                  </a:lnTo>
                  <a:lnTo>
                    <a:pt x="45" y="1115"/>
                  </a:lnTo>
                  <a:lnTo>
                    <a:pt x="40" y="1115"/>
                  </a:lnTo>
                  <a:lnTo>
                    <a:pt x="40" y="1104"/>
                  </a:lnTo>
                  <a:lnTo>
                    <a:pt x="33" y="1104"/>
                  </a:lnTo>
                  <a:lnTo>
                    <a:pt x="33" y="1098"/>
                  </a:lnTo>
                  <a:lnTo>
                    <a:pt x="28" y="1098"/>
                  </a:lnTo>
                  <a:lnTo>
                    <a:pt x="28" y="1093"/>
                  </a:lnTo>
                  <a:lnTo>
                    <a:pt x="11" y="1093"/>
                  </a:lnTo>
                  <a:lnTo>
                    <a:pt x="11" y="1086"/>
                  </a:lnTo>
                  <a:lnTo>
                    <a:pt x="5" y="1086"/>
                  </a:lnTo>
                  <a:lnTo>
                    <a:pt x="5" y="1076"/>
                  </a:lnTo>
                  <a:lnTo>
                    <a:pt x="0" y="1076"/>
                  </a:lnTo>
                  <a:lnTo>
                    <a:pt x="0" y="1064"/>
                  </a:lnTo>
                  <a:lnTo>
                    <a:pt x="5" y="1064"/>
                  </a:lnTo>
                  <a:lnTo>
                    <a:pt x="5" y="1058"/>
                  </a:lnTo>
                  <a:lnTo>
                    <a:pt x="16" y="1058"/>
                  </a:lnTo>
                  <a:lnTo>
                    <a:pt x="16" y="1064"/>
                  </a:lnTo>
                  <a:lnTo>
                    <a:pt x="23" y="1064"/>
                  </a:lnTo>
                  <a:lnTo>
                    <a:pt x="23" y="1069"/>
                  </a:lnTo>
                  <a:lnTo>
                    <a:pt x="28" y="1069"/>
                  </a:lnTo>
                  <a:lnTo>
                    <a:pt x="28" y="1076"/>
                  </a:lnTo>
                  <a:lnTo>
                    <a:pt x="40" y="1076"/>
                  </a:lnTo>
                  <a:lnTo>
                    <a:pt x="40" y="1081"/>
                  </a:lnTo>
                  <a:lnTo>
                    <a:pt x="51" y="1081"/>
                  </a:lnTo>
                  <a:lnTo>
                    <a:pt x="51" y="1076"/>
                  </a:lnTo>
                  <a:lnTo>
                    <a:pt x="57" y="1076"/>
                  </a:lnTo>
                  <a:lnTo>
                    <a:pt x="57" y="1058"/>
                  </a:lnTo>
                  <a:lnTo>
                    <a:pt x="62" y="1058"/>
                  </a:lnTo>
                  <a:lnTo>
                    <a:pt x="62" y="1047"/>
                  </a:lnTo>
                  <a:lnTo>
                    <a:pt x="68" y="1047"/>
                  </a:lnTo>
                  <a:lnTo>
                    <a:pt x="68" y="1036"/>
                  </a:lnTo>
                  <a:lnTo>
                    <a:pt x="73" y="1036"/>
                  </a:lnTo>
                  <a:lnTo>
                    <a:pt x="73" y="1024"/>
                  </a:lnTo>
                  <a:lnTo>
                    <a:pt x="80" y="1024"/>
                  </a:lnTo>
                  <a:lnTo>
                    <a:pt x="80" y="1012"/>
                  </a:lnTo>
                  <a:lnTo>
                    <a:pt x="85" y="1012"/>
                  </a:lnTo>
                  <a:lnTo>
                    <a:pt x="85" y="1002"/>
                  </a:lnTo>
                  <a:lnTo>
                    <a:pt x="90" y="1002"/>
                  </a:lnTo>
                  <a:lnTo>
                    <a:pt x="90" y="990"/>
                  </a:lnTo>
                  <a:lnTo>
                    <a:pt x="97" y="990"/>
                  </a:lnTo>
                  <a:lnTo>
                    <a:pt x="97" y="979"/>
                  </a:lnTo>
                  <a:lnTo>
                    <a:pt x="102" y="979"/>
                  </a:lnTo>
                  <a:lnTo>
                    <a:pt x="102" y="972"/>
                  </a:lnTo>
                  <a:lnTo>
                    <a:pt x="108" y="972"/>
                  </a:lnTo>
                  <a:lnTo>
                    <a:pt x="108" y="967"/>
                  </a:lnTo>
                  <a:lnTo>
                    <a:pt x="114" y="967"/>
                  </a:lnTo>
                  <a:lnTo>
                    <a:pt x="114" y="955"/>
                  </a:lnTo>
                  <a:lnTo>
                    <a:pt x="119" y="955"/>
                  </a:lnTo>
                  <a:lnTo>
                    <a:pt x="119" y="950"/>
                  </a:lnTo>
                  <a:lnTo>
                    <a:pt x="125" y="950"/>
                  </a:lnTo>
                  <a:lnTo>
                    <a:pt x="125" y="945"/>
                  </a:lnTo>
                  <a:lnTo>
                    <a:pt x="130" y="945"/>
                  </a:lnTo>
                  <a:lnTo>
                    <a:pt x="130" y="933"/>
                  </a:lnTo>
                  <a:lnTo>
                    <a:pt x="137" y="933"/>
                  </a:lnTo>
                  <a:lnTo>
                    <a:pt x="137" y="922"/>
                  </a:lnTo>
                  <a:lnTo>
                    <a:pt x="142" y="922"/>
                  </a:lnTo>
                  <a:lnTo>
                    <a:pt x="142" y="910"/>
                  </a:lnTo>
                  <a:lnTo>
                    <a:pt x="147" y="910"/>
                  </a:lnTo>
                  <a:lnTo>
                    <a:pt x="147" y="899"/>
                  </a:lnTo>
                  <a:lnTo>
                    <a:pt x="154" y="899"/>
                  </a:lnTo>
                  <a:lnTo>
                    <a:pt x="154" y="893"/>
                  </a:lnTo>
                  <a:lnTo>
                    <a:pt x="159" y="893"/>
                  </a:lnTo>
                  <a:lnTo>
                    <a:pt x="159" y="888"/>
                  </a:lnTo>
                  <a:lnTo>
                    <a:pt x="164" y="888"/>
                  </a:lnTo>
                  <a:lnTo>
                    <a:pt x="164" y="876"/>
                  </a:lnTo>
                  <a:lnTo>
                    <a:pt x="171" y="876"/>
                  </a:lnTo>
                  <a:lnTo>
                    <a:pt x="171" y="865"/>
                  </a:lnTo>
                  <a:lnTo>
                    <a:pt x="176" y="865"/>
                  </a:lnTo>
                  <a:lnTo>
                    <a:pt x="176" y="848"/>
                  </a:lnTo>
                  <a:lnTo>
                    <a:pt x="182" y="848"/>
                  </a:lnTo>
                  <a:lnTo>
                    <a:pt x="182" y="842"/>
                  </a:lnTo>
                  <a:lnTo>
                    <a:pt x="187" y="842"/>
                  </a:lnTo>
                  <a:lnTo>
                    <a:pt x="187" y="825"/>
                  </a:lnTo>
                  <a:lnTo>
                    <a:pt x="194" y="825"/>
                  </a:lnTo>
                  <a:lnTo>
                    <a:pt x="194" y="813"/>
                  </a:lnTo>
                  <a:lnTo>
                    <a:pt x="199" y="813"/>
                  </a:lnTo>
                  <a:lnTo>
                    <a:pt x="199" y="803"/>
                  </a:lnTo>
                  <a:lnTo>
                    <a:pt x="204" y="803"/>
                  </a:lnTo>
                  <a:lnTo>
                    <a:pt x="204" y="796"/>
                  </a:lnTo>
                  <a:lnTo>
                    <a:pt x="211" y="796"/>
                  </a:lnTo>
                  <a:lnTo>
                    <a:pt x="211" y="791"/>
                  </a:lnTo>
                  <a:lnTo>
                    <a:pt x="216" y="791"/>
                  </a:lnTo>
                  <a:lnTo>
                    <a:pt x="216" y="779"/>
                  </a:lnTo>
                  <a:lnTo>
                    <a:pt x="221" y="779"/>
                  </a:lnTo>
                  <a:lnTo>
                    <a:pt x="221" y="774"/>
                  </a:lnTo>
                  <a:lnTo>
                    <a:pt x="228" y="774"/>
                  </a:lnTo>
                  <a:lnTo>
                    <a:pt x="228" y="768"/>
                  </a:lnTo>
                  <a:lnTo>
                    <a:pt x="233" y="768"/>
                  </a:lnTo>
                  <a:lnTo>
                    <a:pt x="233" y="762"/>
                  </a:lnTo>
                  <a:lnTo>
                    <a:pt x="239" y="762"/>
                  </a:lnTo>
                  <a:lnTo>
                    <a:pt x="239" y="757"/>
                  </a:lnTo>
                  <a:lnTo>
                    <a:pt x="244" y="757"/>
                  </a:lnTo>
                  <a:lnTo>
                    <a:pt x="244" y="746"/>
                  </a:lnTo>
                  <a:lnTo>
                    <a:pt x="250" y="746"/>
                  </a:lnTo>
                  <a:lnTo>
                    <a:pt x="250" y="739"/>
                  </a:lnTo>
                  <a:lnTo>
                    <a:pt x="256" y="739"/>
                  </a:lnTo>
                  <a:lnTo>
                    <a:pt x="256" y="734"/>
                  </a:lnTo>
                  <a:lnTo>
                    <a:pt x="261" y="734"/>
                  </a:lnTo>
                  <a:lnTo>
                    <a:pt x="261" y="722"/>
                  </a:lnTo>
                  <a:lnTo>
                    <a:pt x="268" y="722"/>
                  </a:lnTo>
                  <a:lnTo>
                    <a:pt x="268" y="711"/>
                  </a:lnTo>
                  <a:lnTo>
                    <a:pt x="278" y="711"/>
                  </a:lnTo>
                  <a:lnTo>
                    <a:pt x="278" y="705"/>
                  </a:lnTo>
                  <a:lnTo>
                    <a:pt x="285" y="705"/>
                  </a:lnTo>
                  <a:lnTo>
                    <a:pt x="285" y="700"/>
                  </a:lnTo>
                  <a:lnTo>
                    <a:pt x="290" y="700"/>
                  </a:lnTo>
                  <a:lnTo>
                    <a:pt x="290" y="694"/>
                  </a:lnTo>
                  <a:lnTo>
                    <a:pt x="296" y="694"/>
                  </a:lnTo>
                  <a:lnTo>
                    <a:pt x="296" y="689"/>
                  </a:lnTo>
                  <a:lnTo>
                    <a:pt x="301" y="689"/>
                  </a:lnTo>
                  <a:lnTo>
                    <a:pt x="301" y="682"/>
                  </a:lnTo>
                  <a:lnTo>
                    <a:pt x="307" y="682"/>
                  </a:lnTo>
                  <a:lnTo>
                    <a:pt x="307" y="677"/>
                  </a:lnTo>
                  <a:lnTo>
                    <a:pt x="313" y="677"/>
                  </a:lnTo>
                  <a:lnTo>
                    <a:pt x="313" y="672"/>
                  </a:lnTo>
                  <a:lnTo>
                    <a:pt x="318" y="672"/>
                  </a:lnTo>
                  <a:lnTo>
                    <a:pt x="318" y="665"/>
                  </a:lnTo>
                  <a:lnTo>
                    <a:pt x="325" y="665"/>
                  </a:lnTo>
                  <a:lnTo>
                    <a:pt x="325" y="654"/>
                  </a:lnTo>
                  <a:lnTo>
                    <a:pt x="330" y="654"/>
                  </a:lnTo>
                  <a:lnTo>
                    <a:pt x="330" y="643"/>
                  </a:lnTo>
                  <a:lnTo>
                    <a:pt x="335" y="643"/>
                  </a:lnTo>
                  <a:lnTo>
                    <a:pt x="335" y="637"/>
                  </a:lnTo>
                  <a:lnTo>
                    <a:pt x="342" y="637"/>
                  </a:lnTo>
                  <a:lnTo>
                    <a:pt x="342" y="632"/>
                  </a:lnTo>
                  <a:lnTo>
                    <a:pt x="347" y="632"/>
                  </a:lnTo>
                  <a:lnTo>
                    <a:pt x="347" y="625"/>
                  </a:lnTo>
                  <a:lnTo>
                    <a:pt x="359" y="625"/>
                  </a:lnTo>
                  <a:lnTo>
                    <a:pt x="359" y="620"/>
                  </a:lnTo>
                  <a:lnTo>
                    <a:pt x="364" y="620"/>
                  </a:lnTo>
                  <a:lnTo>
                    <a:pt x="364" y="615"/>
                  </a:lnTo>
                  <a:lnTo>
                    <a:pt x="370" y="615"/>
                  </a:lnTo>
                  <a:lnTo>
                    <a:pt x="370" y="603"/>
                  </a:lnTo>
                  <a:lnTo>
                    <a:pt x="375" y="603"/>
                  </a:lnTo>
                  <a:lnTo>
                    <a:pt x="375" y="597"/>
                  </a:lnTo>
                  <a:lnTo>
                    <a:pt x="382" y="597"/>
                  </a:lnTo>
                  <a:lnTo>
                    <a:pt x="382" y="586"/>
                  </a:lnTo>
                  <a:lnTo>
                    <a:pt x="387" y="586"/>
                  </a:lnTo>
                  <a:lnTo>
                    <a:pt x="387" y="575"/>
                  </a:lnTo>
                  <a:lnTo>
                    <a:pt x="392" y="575"/>
                  </a:lnTo>
                  <a:lnTo>
                    <a:pt x="392" y="568"/>
                  </a:lnTo>
                  <a:lnTo>
                    <a:pt x="399" y="568"/>
                  </a:lnTo>
                  <a:lnTo>
                    <a:pt x="399" y="563"/>
                  </a:lnTo>
                  <a:lnTo>
                    <a:pt x="410" y="563"/>
                  </a:lnTo>
                  <a:lnTo>
                    <a:pt x="410" y="558"/>
                  </a:lnTo>
                  <a:lnTo>
                    <a:pt x="416" y="558"/>
                  </a:lnTo>
                  <a:lnTo>
                    <a:pt x="416" y="551"/>
                  </a:lnTo>
                  <a:lnTo>
                    <a:pt x="421" y="551"/>
                  </a:lnTo>
                  <a:lnTo>
                    <a:pt x="421" y="541"/>
                  </a:lnTo>
                  <a:lnTo>
                    <a:pt x="427" y="541"/>
                  </a:lnTo>
                  <a:lnTo>
                    <a:pt x="427" y="535"/>
                  </a:lnTo>
                  <a:lnTo>
                    <a:pt x="432" y="535"/>
                  </a:lnTo>
                  <a:lnTo>
                    <a:pt x="432" y="523"/>
                  </a:lnTo>
                  <a:lnTo>
                    <a:pt x="437" y="523"/>
                  </a:lnTo>
                  <a:lnTo>
                    <a:pt x="437" y="518"/>
                  </a:lnTo>
                  <a:lnTo>
                    <a:pt x="444" y="518"/>
                  </a:lnTo>
                  <a:lnTo>
                    <a:pt x="444" y="506"/>
                  </a:lnTo>
                  <a:lnTo>
                    <a:pt x="449" y="506"/>
                  </a:lnTo>
                  <a:lnTo>
                    <a:pt x="449" y="495"/>
                  </a:lnTo>
                  <a:lnTo>
                    <a:pt x="455" y="495"/>
                  </a:lnTo>
                  <a:lnTo>
                    <a:pt x="455" y="489"/>
                  </a:lnTo>
                  <a:lnTo>
                    <a:pt x="461" y="489"/>
                  </a:lnTo>
                  <a:lnTo>
                    <a:pt x="461" y="478"/>
                  </a:lnTo>
                  <a:lnTo>
                    <a:pt x="467" y="478"/>
                  </a:lnTo>
                  <a:lnTo>
                    <a:pt x="467" y="472"/>
                  </a:lnTo>
                  <a:lnTo>
                    <a:pt x="472" y="472"/>
                  </a:lnTo>
                  <a:lnTo>
                    <a:pt x="472" y="466"/>
                  </a:lnTo>
                  <a:lnTo>
                    <a:pt x="477" y="466"/>
                  </a:lnTo>
                  <a:lnTo>
                    <a:pt x="477" y="461"/>
                  </a:lnTo>
                  <a:lnTo>
                    <a:pt x="484" y="461"/>
                  </a:lnTo>
                  <a:lnTo>
                    <a:pt x="484" y="456"/>
                  </a:lnTo>
                  <a:lnTo>
                    <a:pt x="489" y="456"/>
                  </a:lnTo>
                  <a:lnTo>
                    <a:pt x="489" y="449"/>
                  </a:lnTo>
                  <a:lnTo>
                    <a:pt x="494" y="449"/>
                  </a:lnTo>
                  <a:lnTo>
                    <a:pt x="494" y="444"/>
                  </a:lnTo>
                  <a:lnTo>
                    <a:pt x="501" y="444"/>
                  </a:lnTo>
                  <a:lnTo>
                    <a:pt x="501" y="438"/>
                  </a:lnTo>
                  <a:lnTo>
                    <a:pt x="506" y="438"/>
                  </a:lnTo>
                  <a:lnTo>
                    <a:pt x="506" y="432"/>
                  </a:lnTo>
                  <a:lnTo>
                    <a:pt x="512" y="432"/>
                  </a:lnTo>
                  <a:lnTo>
                    <a:pt x="512" y="427"/>
                  </a:lnTo>
                  <a:lnTo>
                    <a:pt x="518" y="427"/>
                  </a:lnTo>
                  <a:lnTo>
                    <a:pt x="518" y="421"/>
                  </a:lnTo>
                  <a:lnTo>
                    <a:pt x="523" y="421"/>
                  </a:lnTo>
                  <a:lnTo>
                    <a:pt x="523" y="415"/>
                  </a:lnTo>
                  <a:lnTo>
                    <a:pt x="529" y="415"/>
                  </a:lnTo>
                  <a:lnTo>
                    <a:pt x="529" y="404"/>
                  </a:lnTo>
                  <a:lnTo>
                    <a:pt x="534" y="404"/>
                  </a:lnTo>
                  <a:lnTo>
                    <a:pt x="534" y="399"/>
                  </a:lnTo>
                  <a:lnTo>
                    <a:pt x="541" y="399"/>
                  </a:lnTo>
                  <a:lnTo>
                    <a:pt x="541" y="392"/>
                  </a:lnTo>
                  <a:lnTo>
                    <a:pt x="546" y="392"/>
                  </a:lnTo>
                  <a:lnTo>
                    <a:pt x="546" y="387"/>
                  </a:lnTo>
                  <a:lnTo>
                    <a:pt x="551" y="387"/>
                  </a:lnTo>
                  <a:lnTo>
                    <a:pt x="551" y="382"/>
                  </a:lnTo>
                  <a:lnTo>
                    <a:pt x="558" y="382"/>
                  </a:lnTo>
                  <a:lnTo>
                    <a:pt x="558" y="375"/>
                  </a:lnTo>
                  <a:lnTo>
                    <a:pt x="563" y="375"/>
                  </a:lnTo>
                  <a:lnTo>
                    <a:pt x="563" y="364"/>
                  </a:lnTo>
                  <a:lnTo>
                    <a:pt x="569" y="364"/>
                  </a:lnTo>
                  <a:lnTo>
                    <a:pt x="569" y="358"/>
                  </a:lnTo>
                  <a:lnTo>
                    <a:pt x="575" y="358"/>
                  </a:lnTo>
                  <a:lnTo>
                    <a:pt x="575" y="353"/>
                  </a:lnTo>
                  <a:lnTo>
                    <a:pt x="580" y="353"/>
                  </a:lnTo>
                  <a:lnTo>
                    <a:pt x="580" y="347"/>
                  </a:lnTo>
                  <a:lnTo>
                    <a:pt x="586" y="347"/>
                  </a:lnTo>
                  <a:lnTo>
                    <a:pt x="586" y="342"/>
                  </a:lnTo>
                  <a:lnTo>
                    <a:pt x="591" y="342"/>
                  </a:lnTo>
                  <a:lnTo>
                    <a:pt x="591" y="335"/>
                  </a:lnTo>
                  <a:lnTo>
                    <a:pt x="598" y="335"/>
                  </a:lnTo>
                  <a:lnTo>
                    <a:pt x="598" y="330"/>
                  </a:lnTo>
                  <a:lnTo>
                    <a:pt x="603" y="330"/>
                  </a:lnTo>
                  <a:lnTo>
                    <a:pt x="603" y="318"/>
                  </a:lnTo>
                  <a:lnTo>
                    <a:pt x="608" y="318"/>
                  </a:lnTo>
                  <a:lnTo>
                    <a:pt x="608" y="313"/>
                  </a:lnTo>
                  <a:lnTo>
                    <a:pt x="615" y="313"/>
                  </a:lnTo>
                  <a:lnTo>
                    <a:pt x="615" y="301"/>
                  </a:lnTo>
                  <a:lnTo>
                    <a:pt x="620" y="301"/>
                  </a:lnTo>
                  <a:lnTo>
                    <a:pt x="620" y="296"/>
                  </a:lnTo>
                  <a:lnTo>
                    <a:pt x="626" y="296"/>
                  </a:lnTo>
                  <a:lnTo>
                    <a:pt x="626" y="290"/>
                  </a:lnTo>
                  <a:lnTo>
                    <a:pt x="632" y="290"/>
                  </a:lnTo>
                  <a:lnTo>
                    <a:pt x="632" y="285"/>
                  </a:lnTo>
                  <a:lnTo>
                    <a:pt x="637" y="285"/>
                  </a:lnTo>
                  <a:lnTo>
                    <a:pt x="637" y="278"/>
                  </a:lnTo>
                  <a:lnTo>
                    <a:pt x="643" y="278"/>
                  </a:lnTo>
                  <a:lnTo>
                    <a:pt x="643" y="273"/>
                  </a:lnTo>
                  <a:lnTo>
                    <a:pt x="649" y="273"/>
                  </a:lnTo>
                  <a:lnTo>
                    <a:pt x="649" y="268"/>
                  </a:lnTo>
                  <a:lnTo>
                    <a:pt x="655" y="268"/>
                  </a:lnTo>
                  <a:lnTo>
                    <a:pt x="655" y="256"/>
                  </a:lnTo>
                  <a:lnTo>
                    <a:pt x="660" y="256"/>
                  </a:lnTo>
                  <a:lnTo>
                    <a:pt x="660" y="250"/>
                  </a:lnTo>
                  <a:lnTo>
                    <a:pt x="665" y="250"/>
                  </a:lnTo>
                  <a:lnTo>
                    <a:pt x="665" y="239"/>
                  </a:lnTo>
                  <a:lnTo>
                    <a:pt x="672" y="239"/>
                  </a:lnTo>
                  <a:lnTo>
                    <a:pt x="672" y="233"/>
                  </a:lnTo>
                  <a:lnTo>
                    <a:pt x="677" y="233"/>
                  </a:lnTo>
                  <a:lnTo>
                    <a:pt x="677" y="221"/>
                  </a:lnTo>
                  <a:lnTo>
                    <a:pt x="689" y="221"/>
                  </a:lnTo>
                  <a:lnTo>
                    <a:pt x="689" y="216"/>
                  </a:lnTo>
                  <a:lnTo>
                    <a:pt x="694" y="216"/>
                  </a:lnTo>
                  <a:lnTo>
                    <a:pt x="694" y="211"/>
                  </a:lnTo>
                  <a:lnTo>
                    <a:pt x="700" y="211"/>
                  </a:lnTo>
                  <a:lnTo>
                    <a:pt x="700" y="204"/>
                  </a:lnTo>
                  <a:lnTo>
                    <a:pt x="706" y="204"/>
                  </a:lnTo>
                  <a:lnTo>
                    <a:pt x="706" y="199"/>
                  </a:lnTo>
                  <a:lnTo>
                    <a:pt x="717" y="199"/>
                  </a:lnTo>
                  <a:lnTo>
                    <a:pt x="717" y="193"/>
                  </a:lnTo>
                  <a:lnTo>
                    <a:pt x="722" y="193"/>
                  </a:lnTo>
                  <a:lnTo>
                    <a:pt x="722" y="187"/>
                  </a:lnTo>
                  <a:lnTo>
                    <a:pt x="729" y="187"/>
                  </a:lnTo>
                  <a:lnTo>
                    <a:pt x="729" y="182"/>
                  </a:lnTo>
                  <a:lnTo>
                    <a:pt x="734" y="182"/>
                  </a:lnTo>
                  <a:lnTo>
                    <a:pt x="734" y="176"/>
                  </a:lnTo>
                  <a:lnTo>
                    <a:pt x="740" y="176"/>
                  </a:lnTo>
                  <a:lnTo>
                    <a:pt x="740" y="164"/>
                  </a:lnTo>
                  <a:lnTo>
                    <a:pt x="746" y="164"/>
                  </a:lnTo>
                  <a:lnTo>
                    <a:pt x="746" y="159"/>
                  </a:lnTo>
                  <a:lnTo>
                    <a:pt x="751" y="159"/>
                  </a:lnTo>
                  <a:lnTo>
                    <a:pt x="751" y="154"/>
                  </a:lnTo>
                  <a:lnTo>
                    <a:pt x="757" y="154"/>
                  </a:lnTo>
                  <a:lnTo>
                    <a:pt x="757" y="147"/>
                  </a:lnTo>
                  <a:lnTo>
                    <a:pt x="763" y="147"/>
                  </a:lnTo>
                  <a:lnTo>
                    <a:pt x="763" y="137"/>
                  </a:lnTo>
                  <a:lnTo>
                    <a:pt x="769" y="137"/>
                  </a:lnTo>
                  <a:lnTo>
                    <a:pt x="769" y="131"/>
                  </a:lnTo>
                  <a:lnTo>
                    <a:pt x="774" y="131"/>
                  </a:lnTo>
                  <a:lnTo>
                    <a:pt x="774" y="125"/>
                  </a:lnTo>
                  <a:lnTo>
                    <a:pt x="779" y="125"/>
                  </a:lnTo>
                  <a:lnTo>
                    <a:pt x="779" y="114"/>
                  </a:lnTo>
                  <a:lnTo>
                    <a:pt x="786" y="114"/>
                  </a:lnTo>
                  <a:lnTo>
                    <a:pt x="786" y="97"/>
                  </a:lnTo>
                  <a:lnTo>
                    <a:pt x="791" y="97"/>
                  </a:lnTo>
                  <a:lnTo>
                    <a:pt x="791" y="85"/>
                  </a:lnTo>
                  <a:lnTo>
                    <a:pt x="796" y="85"/>
                  </a:lnTo>
                  <a:lnTo>
                    <a:pt x="796" y="68"/>
                  </a:lnTo>
                  <a:lnTo>
                    <a:pt x="803" y="68"/>
                  </a:lnTo>
                  <a:lnTo>
                    <a:pt x="803" y="62"/>
                  </a:lnTo>
                  <a:lnTo>
                    <a:pt x="808" y="62"/>
                  </a:lnTo>
                  <a:lnTo>
                    <a:pt x="808" y="57"/>
                  </a:lnTo>
                  <a:lnTo>
                    <a:pt x="814" y="57"/>
                  </a:lnTo>
                  <a:lnTo>
                    <a:pt x="814" y="52"/>
                  </a:lnTo>
                  <a:lnTo>
                    <a:pt x="820" y="52"/>
                  </a:lnTo>
                  <a:lnTo>
                    <a:pt x="820" y="40"/>
                  </a:lnTo>
                  <a:lnTo>
                    <a:pt x="826" y="40"/>
                  </a:lnTo>
                  <a:lnTo>
                    <a:pt x="826" y="34"/>
                  </a:lnTo>
                  <a:lnTo>
                    <a:pt x="831" y="34"/>
                  </a:lnTo>
                  <a:lnTo>
                    <a:pt x="831" y="23"/>
                  </a:lnTo>
                  <a:lnTo>
                    <a:pt x="842" y="23"/>
                  </a:lnTo>
                  <a:lnTo>
                    <a:pt x="842" y="17"/>
                  </a:lnTo>
                  <a:lnTo>
                    <a:pt x="853" y="17"/>
                  </a:lnTo>
                  <a:lnTo>
                    <a:pt x="853" y="11"/>
                  </a:lnTo>
                  <a:lnTo>
                    <a:pt x="865" y="11"/>
                  </a:lnTo>
                  <a:lnTo>
                    <a:pt x="865" y="5"/>
                  </a:lnTo>
                  <a:lnTo>
                    <a:pt x="871" y="5"/>
                  </a:lnTo>
                  <a:lnTo>
                    <a:pt x="871" y="0"/>
                  </a:lnTo>
                  <a:lnTo>
                    <a:pt x="916" y="0"/>
                  </a:lnTo>
                  <a:lnTo>
                    <a:pt x="916" y="5"/>
                  </a:lnTo>
                  <a:lnTo>
                    <a:pt x="922" y="5"/>
                  </a:lnTo>
                  <a:lnTo>
                    <a:pt x="922" y="11"/>
                  </a:lnTo>
                  <a:lnTo>
                    <a:pt x="933" y="11"/>
                  </a:lnTo>
                  <a:lnTo>
                    <a:pt x="933" y="17"/>
                  </a:lnTo>
                  <a:lnTo>
                    <a:pt x="945" y="17"/>
                  </a:lnTo>
                  <a:lnTo>
                    <a:pt x="945" y="23"/>
                  </a:lnTo>
                  <a:lnTo>
                    <a:pt x="950" y="23"/>
                  </a:lnTo>
                  <a:lnTo>
                    <a:pt x="950" y="28"/>
                  </a:lnTo>
                  <a:lnTo>
                    <a:pt x="956" y="28"/>
                  </a:lnTo>
                  <a:lnTo>
                    <a:pt x="956" y="40"/>
                  </a:lnTo>
                  <a:lnTo>
                    <a:pt x="962" y="40"/>
                  </a:lnTo>
                  <a:lnTo>
                    <a:pt x="962" y="52"/>
                  </a:lnTo>
                  <a:lnTo>
                    <a:pt x="967" y="52"/>
                  </a:lnTo>
                  <a:lnTo>
                    <a:pt x="967" y="68"/>
                  </a:lnTo>
                  <a:lnTo>
                    <a:pt x="973" y="68"/>
                  </a:lnTo>
                  <a:lnTo>
                    <a:pt x="973" y="74"/>
                  </a:lnTo>
                  <a:lnTo>
                    <a:pt x="979" y="74"/>
                  </a:lnTo>
                  <a:lnTo>
                    <a:pt x="979" y="80"/>
                  </a:lnTo>
                  <a:lnTo>
                    <a:pt x="985" y="80"/>
                  </a:lnTo>
                  <a:lnTo>
                    <a:pt x="985" y="85"/>
                  </a:lnTo>
                  <a:lnTo>
                    <a:pt x="990" y="85"/>
                  </a:lnTo>
                  <a:lnTo>
                    <a:pt x="990" y="97"/>
                  </a:lnTo>
                  <a:lnTo>
                    <a:pt x="996" y="97"/>
                  </a:lnTo>
                  <a:lnTo>
                    <a:pt x="996" y="102"/>
                  </a:lnTo>
                  <a:lnTo>
                    <a:pt x="1002" y="102"/>
                  </a:lnTo>
                  <a:lnTo>
                    <a:pt x="1002" y="114"/>
                  </a:lnTo>
                  <a:lnTo>
                    <a:pt x="1007" y="114"/>
                  </a:lnTo>
                  <a:lnTo>
                    <a:pt x="1007" y="125"/>
                  </a:lnTo>
                  <a:lnTo>
                    <a:pt x="1013" y="125"/>
                  </a:lnTo>
                  <a:lnTo>
                    <a:pt x="1013" y="131"/>
                  </a:lnTo>
                  <a:lnTo>
                    <a:pt x="1019" y="131"/>
                  </a:lnTo>
                  <a:lnTo>
                    <a:pt x="1019" y="142"/>
                  </a:lnTo>
                  <a:lnTo>
                    <a:pt x="1024" y="142"/>
                  </a:lnTo>
                  <a:lnTo>
                    <a:pt x="1024" y="147"/>
                  </a:lnTo>
                  <a:lnTo>
                    <a:pt x="1030" y="147"/>
                  </a:lnTo>
                  <a:lnTo>
                    <a:pt x="1030" y="159"/>
                  </a:lnTo>
                  <a:lnTo>
                    <a:pt x="1036" y="159"/>
                  </a:lnTo>
                  <a:lnTo>
                    <a:pt x="1036" y="164"/>
                  </a:lnTo>
                  <a:lnTo>
                    <a:pt x="1042" y="164"/>
                  </a:lnTo>
                  <a:lnTo>
                    <a:pt x="1042" y="182"/>
                  </a:lnTo>
                  <a:lnTo>
                    <a:pt x="1047" y="182"/>
                  </a:lnTo>
                  <a:lnTo>
                    <a:pt x="1047" y="187"/>
                  </a:lnTo>
                  <a:lnTo>
                    <a:pt x="1053" y="187"/>
                  </a:lnTo>
                  <a:lnTo>
                    <a:pt x="1053" y="193"/>
                  </a:lnTo>
                  <a:lnTo>
                    <a:pt x="1059" y="193"/>
                  </a:lnTo>
                  <a:lnTo>
                    <a:pt x="1059" y="204"/>
                  </a:lnTo>
                  <a:lnTo>
                    <a:pt x="1064" y="204"/>
                  </a:lnTo>
                  <a:lnTo>
                    <a:pt x="1064" y="211"/>
                  </a:lnTo>
                  <a:lnTo>
                    <a:pt x="1069" y="211"/>
                  </a:lnTo>
                  <a:lnTo>
                    <a:pt x="1069" y="216"/>
                  </a:lnTo>
                  <a:lnTo>
                    <a:pt x="1076" y="216"/>
                  </a:lnTo>
                  <a:lnTo>
                    <a:pt x="1076" y="227"/>
                  </a:lnTo>
                  <a:lnTo>
                    <a:pt x="1081" y="227"/>
                  </a:lnTo>
                  <a:lnTo>
                    <a:pt x="1081" y="244"/>
                  </a:lnTo>
                  <a:lnTo>
                    <a:pt x="1087" y="244"/>
                  </a:lnTo>
                  <a:lnTo>
                    <a:pt x="1087" y="256"/>
                  </a:lnTo>
                  <a:lnTo>
                    <a:pt x="1093" y="256"/>
                  </a:lnTo>
                  <a:lnTo>
                    <a:pt x="1093" y="268"/>
                  </a:lnTo>
                  <a:lnTo>
                    <a:pt x="1099" y="268"/>
                  </a:lnTo>
                  <a:lnTo>
                    <a:pt x="1099" y="278"/>
                  </a:lnTo>
                  <a:lnTo>
                    <a:pt x="1104" y="278"/>
                  </a:lnTo>
                  <a:lnTo>
                    <a:pt x="1104" y="285"/>
                  </a:lnTo>
                  <a:lnTo>
                    <a:pt x="1110" y="285"/>
                  </a:lnTo>
                  <a:lnTo>
                    <a:pt x="1110" y="301"/>
                  </a:lnTo>
                  <a:lnTo>
                    <a:pt x="1116" y="301"/>
                  </a:lnTo>
                  <a:lnTo>
                    <a:pt x="1116" y="307"/>
                  </a:lnTo>
                  <a:lnTo>
                    <a:pt x="1121" y="307"/>
                  </a:lnTo>
                  <a:lnTo>
                    <a:pt x="1121" y="325"/>
                  </a:lnTo>
                  <a:lnTo>
                    <a:pt x="1126" y="325"/>
                  </a:lnTo>
                  <a:lnTo>
                    <a:pt x="1126" y="330"/>
                  </a:lnTo>
                  <a:lnTo>
                    <a:pt x="1133" y="330"/>
                  </a:lnTo>
                  <a:lnTo>
                    <a:pt x="1133" y="342"/>
                  </a:lnTo>
                  <a:lnTo>
                    <a:pt x="1138" y="342"/>
                  </a:lnTo>
                  <a:lnTo>
                    <a:pt x="1138" y="347"/>
                  </a:lnTo>
                  <a:lnTo>
                    <a:pt x="1144" y="347"/>
                  </a:lnTo>
                  <a:lnTo>
                    <a:pt x="1144" y="358"/>
                  </a:lnTo>
                  <a:lnTo>
                    <a:pt x="1150" y="358"/>
                  </a:lnTo>
                  <a:lnTo>
                    <a:pt x="1150" y="370"/>
                  </a:lnTo>
                  <a:lnTo>
                    <a:pt x="1155" y="370"/>
                  </a:lnTo>
                  <a:lnTo>
                    <a:pt x="1155" y="382"/>
                  </a:lnTo>
                  <a:lnTo>
                    <a:pt x="1161" y="382"/>
                  </a:lnTo>
                  <a:lnTo>
                    <a:pt x="1161" y="392"/>
                  </a:lnTo>
                  <a:lnTo>
                    <a:pt x="1167" y="392"/>
                  </a:lnTo>
                  <a:lnTo>
                    <a:pt x="1167" y="399"/>
                  </a:lnTo>
                  <a:lnTo>
                    <a:pt x="1173" y="399"/>
                  </a:lnTo>
                  <a:lnTo>
                    <a:pt x="1173" y="409"/>
                  </a:lnTo>
                  <a:lnTo>
                    <a:pt x="1178" y="409"/>
                  </a:lnTo>
                  <a:lnTo>
                    <a:pt x="1178" y="415"/>
                  </a:lnTo>
                  <a:lnTo>
                    <a:pt x="1183" y="415"/>
                  </a:lnTo>
                  <a:lnTo>
                    <a:pt x="1183" y="427"/>
                  </a:lnTo>
                  <a:lnTo>
                    <a:pt x="1190" y="427"/>
                  </a:lnTo>
                  <a:lnTo>
                    <a:pt x="1190" y="438"/>
                  </a:lnTo>
                  <a:lnTo>
                    <a:pt x="1195" y="438"/>
                  </a:lnTo>
                  <a:lnTo>
                    <a:pt x="1195" y="444"/>
                  </a:lnTo>
                  <a:lnTo>
                    <a:pt x="1201" y="444"/>
                  </a:lnTo>
                  <a:lnTo>
                    <a:pt x="1201" y="449"/>
                  </a:lnTo>
                  <a:lnTo>
                    <a:pt x="1207" y="449"/>
                  </a:lnTo>
                  <a:lnTo>
                    <a:pt x="1207" y="461"/>
                  </a:lnTo>
                  <a:lnTo>
                    <a:pt x="1212" y="461"/>
                  </a:lnTo>
                  <a:lnTo>
                    <a:pt x="1212" y="472"/>
                  </a:lnTo>
                  <a:lnTo>
                    <a:pt x="1218" y="472"/>
                  </a:lnTo>
                  <a:lnTo>
                    <a:pt x="1218" y="484"/>
                  </a:lnTo>
                  <a:lnTo>
                    <a:pt x="1224" y="484"/>
                  </a:lnTo>
                  <a:lnTo>
                    <a:pt x="1224" y="489"/>
                  </a:lnTo>
                  <a:lnTo>
                    <a:pt x="1230" y="489"/>
                  </a:lnTo>
                  <a:lnTo>
                    <a:pt x="1230" y="501"/>
                  </a:lnTo>
                  <a:lnTo>
                    <a:pt x="1235" y="501"/>
                  </a:lnTo>
                  <a:lnTo>
                    <a:pt x="1235" y="506"/>
                  </a:lnTo>
                  <a:lnTo>
                    <a:pt x="1240" y="506"/>
                  </a:lnTo>
                  <a:lnTo>
                    <a:pt x="1240" y="513"/>
                  </a:lnTo>
                  <a:lnTo>
                    <a:pt x="1246" y="513"/>
                  </a:lnTo>
                  <a:lnTo>
                    <a:pt x="1246" y="523"/>
                  </a:lnTo>
                  <a:lnTo>
                    <a:pt x="1252" y="523"/>
                  </a:lnTo>
                  <a:lnTo>
                    <a:pt x="1252" y="535"/>
                  </a:lnTo>
                  <a:lnTo>
                    <a:pt x="1258" y="535"/>
                  </a:lnTo>
                  <a:lnTo>
                    <a:pt x="1258" y="546"/>
                  </a:lnTo>
                  <a:lnTo>
                    <a:pt x="1263" y="546"/>
                  </a:lnTo>
                  <a:lnTo>
                    <a:pt x="1263" y="558"/>
                  </a:lnTo>
                  <a:lnTo>
                    <a:pt x="1269" y="558"/>
                  </a:lnTo>
                  <a:lnTo>
                    <a:pt x="1269" y="563"/>
                  </a:lnTo>
                  <a:lnTo>
                    <a:pt x="1275" y="563"/>
                  </a:lnTo>
                  <a:lnTo>
                    <a:pt x="1275" y="568"/>
                  </a:lnTo>
                  <a:lnTo>
                    <a:pt x="1280" y="568"/>
                  </a:lnTo>
                  <a:lnTo>
                    <a:pt x="1280" y="580"/>
                  </a:lnTo>
                  <a:lnTo>
                    <a:pt x="1287" y="580"/>
                  </a:lnTo>
                  <a:lnTo>
                    <a:pt x="1287" y="586"/>
                  </a:lnTo>
                  <a:lnTo>
                    <a:pt x="1292" y="586"/>
                  </a:lnTo>
                  <a:lnTo>
                    <a:pt x="1292" y="597"/>
                  </a:lnTo>
                  <a:lnTo>
                    <a:pt x="1297" y="597"/>
                  </a:lnTo>
                  <a:lnTo>
                    <a:pt x="1297" y="608"/>
                  </a:lnTo>
                  <a:lnTo>
                    <a:pt x="1303" y="608"/>
                  </a:lnTo>
                  <a:lnTo>
                    <a:pt x="1303" y="620"/>
                  </a:lnTo>
                  <a:lnTo>
                    <a:pt x="1309" y="620"/>
                  </a:lnTo>
                  <a:lnTo>
                    <a:pt x="1309" y="632"/>
                  </a:lnTo>
                  <a:lnTo>
                    <a:pt x="1315" y="632"/>
                  </a:lnTo>
                  <a:lnTo>
                    <a:pt x="1315" y="648"/>
                  </a:lnTo>
                  <a:lnTo>
                    <a:pt x="1320" y="648"/>
                  </a:lnTo>
                  <a:lnTo>
                    <a:pt x="1320" y="665"/>
                  </a:lnTo>
                  <a:lnTo>
                    <a:pt x="1326" y="665"/>
                  </a:lnTo>
                  <a:lnTo>
                    <a:pt x="1326" y="677"/>
                  </a:lnTo>
                  <a:lnTo>
                    <a:pt x="1332" y="677"/>
                  </a:lnTo>
                  <a:lnTo>
                    <a:pt x="1332" y="689"/>
                  </a:lnTo>
                  <a:lnTo>
                    <a:pt x="1337" y="689"/>
                  </a:lnTo>
                  <a:lnTo>
                    <a:pt x="1337" y="694"/>
                  </a:lnTo>
                  <a:lnTo>
                    <a:pt x="1344" y="694"/>
                  </a:lnTo>
                  <a:lnTo>
                    <a:pt x="1344" y="705"/>
                  </a:lnTo>
                  <a:lnTo>
                    <a:pt x="1349" y="705"/>
                  </a:lnTo>
                  <a:lnTo>
                    <a:pt x="1349" y="717"/>
                  </a:lnTo>
                  <a:lnTo>
                    <a:pt x="1354" y="717"/>
                  </a:lnTo>
                  <a:lnTo>
                    <a:pt x="1354" y="729"/>
                  </a:lnTo>
                  <a:lnTo>
                    <a:pt x="1360" y="729"/>
                  </a:lnTo>
                  <a:lnTo>
                    <a:pt x="1360" y="746"/>
                  </a:lnTo>
                  <a:lnTo>
                    <a:pt x="1366" y="746"/>
                  </a:lnTo>
                  <a:lnTo>
                    <a:pt x="1366" y="757"/>
                  </a:lnTo>
                  <a:lnTo>
                    <a:pt x="1372" y="757"/>
                  </a:lnTo>
                  <a:lnTo>
                    <a:pt x="1372" y="768"/>
                  </a:lnTo>
                  <a:lnTo>
                    <a:pt x="1377" y="768"/>
                  </a:lnTo>
                  <a:lnTo>
                    <a:pt x="1377" y="779"/>
                  </a:lnTo>
                  <a:lnTo>
                    <a:pt x="1383" y="779"/>
                  </a:lnTo>
                  <a:lnTo>
                    <a:pt x="1383" y="796"/>
                  </a:lnTo>
                  <a:lnTo>
                    <a:pt x="1389" y="796"/>
                  </a:lnTo>
                  <a:lnTo>
                    <a:pt x="1389" y="808"/>
                  </a:lnTo>
                  <a:lnTo>
                    <a:pt x="1394" y="808"/>
                  </a:lnTo>
                  <a:lnTo>
                    <a:pt x="1394" y="819"/>
                  </a:lnTo>
                  <a:lnTo>
                    <a:pt x="1401" y="819"/>
                  </a:lnTo>
                  <a:lnTo>
                    <a:pt x="1401" y="825"/>
                  </a:lnTo>
                  <a:lnTo>
                    <a:pt x="1406" y="825"/>
                  </a:lnTo>
                  <a:lnTo>
                    <a:pt x="1406" y="836"/>
                  </a:lnTo>
                  <a:lnTo>
                    <a:pt x="1411" y="836"/>
                  </a:lnTo>
                  <a:lnTo>
                    <a:pt x="1411" y="853"/>
                  </a:lnTo>
                  <a:lnTo>
                    <a:pt x="1417" y="853"/>
                  </a:lnTo>
                  <a:lnTo>
                    <a:pt x="1417" y="865"/>
                  </a:lnTo>
                  <a:lnTo>
                    <a:pt x="1423" y="865"/>
                  </a:lnTo>
                  <a:lnTo>
                    <a:pt x="1423" y="870"/>
                  </a:lnTo>
                  <a:lnTo>
                    <a:pt x="1428" y="870"/>
                  </a:lnTo>
                  <a:lnTo>
                    <a:pt x="1428" y="888"/>
                  </a:lnTo>
                  <a:lnTo>
                    <a:pt x="1434" y="888"/>
                  </a:lnTo>
                  <a:lnTo>
                    <a:pt x="1434" y="899"/>
                  </a:lnTo>
                  <a:lnTo>
                    <a:pt x="1440" y="899"/>
                  </a:lnTo>
                  <a:lnTo>
                    <a:pt x="1440" y="905"/>
                  </a:lnTo>
                  <a:lnTo>
                    <a:pt x="1446" y="905"/>
                  </a:lnTo>
                  <a:lnTo>
                    <a:pt x="1446" y="922"/>
                  </a:lnTo>
                  <a:lnTo>
                    <a:pt x="1451" y="922"/>
                  </a:lnTo>
                  <a:lnTo>
                    <a:pt x="1451" y="927"/>
                  </a:lnTo>
                  <a:lnTo>
                    <a:pt x="1458" y="927"/>
                  </a:lnTo>
                  <a:lnTo>
                    <a:pt x="1458" y="939"/>
                  </a:lnTo>
                  <a:lnTo>
                    <a:pt x="1463" y="939"/>
                  </a:lnTo>
                  <a:lnTo>
                    <a:pt x="1463" y="950"/>
                  </a:lnTo>
                  <a:lnTo>
                    <a:pt x="1468" y="950"/>
                  </a:lnTo>
                  <a:lnTo>
                    <a:pt x="1468" y="962"/>
                  </a:lnTo>
                  <a:lnTo>
                    <a:pt x="1474" y="962"/>
                  </a:lnTo>
                  <a:lnTo>
                    <a:pt x="1474" y="967"/>
                  </a:lnTo>
                  <a:lnTo>
                    <a:pt x="1480" y="967"/>
                  </a:lnTo>
                  <a:lnTo>
                    <a:pt x="1480" y="984"/>
                  </a:lnTo>
                  <a:lnTo>
                    <a:pt x="1485" y="984"/>
                  </a:lnTo>
                  <a:lnTo>
                    <a:pt x="1485" y="995"/>
                  </a:lnTo>
                  <a:lnTo>
                    <a:pt x="1491" y="995"/>
                  </a:lnTo>
                  <a:lnTo>
                    <a:pt x="1491" y="1007"/>
                  </a:lnTo>
                  <a:lnTo>
                    <a:pt x="1497" y="1007"/>
                  </a:lnTo>
                  <a:lnTo>
                    <a:pt x="1497" y="1019"/>
                  </a:lnTo>
                  <a:lnTo>
                    <a:pt x="1503" y="1019"/>
                  </a:lnTo>
                  <a:lnTo>
                    <a:pt x="1503" y="1036"/>
                  </a:lnTo>
                  <a:lnTo>
                    <a:pt x="1508" y="1036"/>
                  </a:lnTo>
                  <a:lnTo>
                    <a:pt x="1508" y="1041"/>
                  </a:lnTo>
                  <a:lnTo>
                    <a:pt x="1514" y="1041"/>
                  </a:lnTo>
                  <a:lnTo>
                    <a:pt x="1514" y="1058"/>
                  </a:lnTo>
                  <a:lnTo>
                    <a:pt x="1520" y="1058"/>
                  </a:lnTo>
                  <a:lnTo>
                    <a:pt x="1520" y="1069"/>
                  </a:lnTo>
                  <a:lnTo>
                    <a:pt x="1525" y="1069"/>
                  </a:lnTo>
                  <a:lnTo>
                    <a:pt x="1525" y="1076"/>
                  </a:lnTo>
                  <a:lnTo>
                    <a:pt x="1531" y="1076"/>
                  </a:lnTo>
                  <a:lnTo>
                    <a:pt x="1531" y="1086"/>
                  </a:lnTo>
                  <a:lnTo>
                    <a:pt x="1537" y="1086"/>
                  </a:lnTo>
                  <a:lnTo>
                    <a:pt x="1537" y="1093"/>
                  </a:lnTo>
                  <a:lnTo>
                    <a:pt x="1542" y="1093"/>
                  </a:lnTo>
                  <a:lnTo>
                    <a:pt x="1542" y="1104"/>
                  </a:lnTo>
                  <a:lnTo>
                    <a:pt x="1548" y="1104"/>
                  </a:lnTo>
                  <a:lnTo>
                    <a:pt x="1548" y="1115"/>
                  </a:lnTo>
                  <a:lnTo>
                    <a:pt x="1554" y="1115"/>
                  </a:lnTo>
                  <a:lnTo>
                    <a:pt x="1554" y="1126"/>
                  </a:lnTo>
                  <a:lnTo>
                    <a:pt x="1560" y="1126"/>
                  </a:lnTo>
                  <a:lnTo>
                    <a:pt x="1560" y="1138"/>
                  </a:lnTo>
                  <a:lnTo>
                    <a:pt x="1565" y="1138"/>
                  </a:lnTo>
                  <a:lnTo>
                    <a:pt x="1565" y="1143"/>
                  </a:lnTo>
                  <a:lnTo>
                    <a:pt x="1571" y="1143"/>
                  </a:lnTo>
                  <a:lnTo>
                    <a:pt x="1571" y="1155"/>
                  </a:lnTo>
                  <a:lnTo>
                    <a:pt x="1577" y="1155"/>
                  </a:lnTo>
                  <a:lnTo>
                    <a:pt x="1577" y="1161"/>
                  </a:lnTo>
                  <a:lnTo>
                    <a:pt x="1582" y="1161"/>
                  </a:lnTo>
                  <a:lnTo>
                    <a:pt x="1582" y="1172"/>
                  </a:lnTo>
                  <a:lnTo>
                    <a:pt x="1589" y="1172"/>
                  </a:lnTo>
                  <a:lnTo>
                    <a:pt x="1589" y="1183"/>
                  </a:lnTo>
                  <a:lnTo>
                    <a:pt x="1594" y="1183"/>
                  </a:lnTo>
                  <a:lnTo>
                    <a:pt x="1594" y="1195"/>
                  </a:lnTo>
                  <a:lnTo>
                    <a:pt x="1599" y="1195"/>
                  </a:lnTo>
                  <a:lnTo>
                    <a:pt x="1599" y="1207"/>
                  </a:lnTo>
                  <a:lnTo>
                    <a:pt x="1605" y="1207"/>
                  </a:lnTo>
                  <a:lnTo>
                    <a:pt x="1605" y="1217"/>
                  </a:lnTo>
                  <a:lnTo>
                    <a:pt x="1611" y="1217"/>
                  </a:lnTo>
                  <a:lnTo>
                    <a:pt x="1611" y="1229"/>
                  </a:lnTo>
                  <a:lnTo>
                    <a:pt x="1617" y="1229"/>
                  </a:lnTo>
                  <a:lnTo>
                    <a:pt x="1617" y="1235"/>
                  </a:lnTo>
                  <a:lnTo>
                    <a:pt x="1622" y="1235"/>
                  </a:lnTo>
                  <a:lnTo>
                    <a:pt x="1622" y="1240"/>
                  </a:lnTo>
                  <a:lnTo>
                    <a:pt x="1628" y="1240"/>
                  </a:lnTo>
                  <a:lnTo>
                    <a:pt x="1628" y="1246"/>
                  </a:lnTo>
                  <a:lnTo>
                    <a:pt x="1634" y="1246"/>
                  </a:lnTo>
                  <a:lnTo>
                    <a:pt x="1634" y="1257"/>
                  </a:lnTo>
                  <a:lnTo>
                    <a:pt x="1639" y="1257"/>
                  </a:lnTo>
                  <a:lnTo>
                    <a:pt x="1639" y="1264"/>
                  </a:lnTo>
                  <a:lnTo>
                    <a:pt x="1645" y="1264"/>
                  </a:lnTo>
                  <a:lnTo>
                    <a:pt x="1645" y="1269"/>
                  </a:lnTo>
                  <a:lnTo>
                    <a:pt x="1650" y="1269"/>
                  </a:lnTo>
                  <a:lnTo>
                    <a:pt x="1650" y="1281"/>
                  </a:lnTo>
                  <a:lnTo>
                    <a:pt x="1656" y="1281"/>
                  </a:lnTo>
                  <a:lnTo>
                    <a:pt x="1656" y="1292"/>
                  </a:lnTo>
                  <a:lnTo>
                    <a:pt x="1662" y="1292"/>
                  </a:lnTo>
                  <a:lnTo>
                    <a:pt x="1662" y="1297"/>
                  </a:lnTo>
                  <a:lnTo>
                    <a:pt x="1667" y="1297"/>
                  </a:lnTo>
                  <a:lnTo>
                    <a:pt x="1667" y="1309"/>
                  </a:lnTo>
                  <a:lnTo>
                    <a:pt x="1674" y="1309"/>
                  </a:lnTo>
                  <a:lnTo>
                    <a:pt x="1674" y="1321"/>
                  </a:lnTo>
                  <a:lnTo>
                    <a:pt x="1679" y="1321"/>
                  </a:lnTo>
                  <a:lnTo>
                    <a:pt x="1679" y="1326"/>
                  </a:lnTo>
                  <a:lnTo>
                    <a:pt x="1684" y="1326"/>
                  </a:lnTo>
                  <a:lnTo>
                    <a:pt x="1684" y="1338"/>
                  </a:lnTo>
                  <a:lnTo>
                    <a:pt x="1691" y="1338"/>
                  </a:lnTo>
                  <a:lnTo>
                    <a:pt x="1691" y="1354"/>
                  </a:lnTo>
                  <a:lnTo>
                    <a:pt x="1696" y="1354"/>
                  </a:lnTo>
                  <a:lnTo>
                    <a:pt x="1696" y="1359"/>
                  </a:lnTo>
                  <a:lnTo>
                    <a:pt x="1701" y="1359"/>
                  </a:lnTo>
                  <a:lnTo>
                    <a:pt x="1701" y="1383"/>
                  </a:lnTo>
                  <a:lnTo>
                    <a:pt x="1707" y="1383"/>
                  </a:lnTo>
                  <a:lnTo>
                    <a:pt x="1707" y="1388"/>
                  </a:lnTo>
                  <a:lnTo>
                    <a:pt x="1713" y="1388"/>
                  </a:lnTo>
                  <a:lnTo>
                    <a:pt x="1713" y="1394"/>
                  </a:lnTo>
                  <a:lnTo>
                    <a:pt x="1719" y="1394"/>
                  </a:lnTo>
                  <a:lnTo>
                    <a:pt x="1719" y="1416"/>
                  </a:lnTo>
                  <a:lnTo>
                    <a:pt x="1724" y="1416"/>
                  </a:lnTo>
                  <a:lnTo>
                    <a:pt x="1724" y="1433"/>
                  </a:lnTo>
                  <a:lnTo>
                    <a:pt x="1731" y="1433"/>
                  </a:lnTo>
                  <a:lnTo>
                    <a:pt x="1731" y="1456"/>
                  </a:lnTo>
                  <a:lnTo>
                    <a:pt x="1736" y="1456"/>
                  </a:lnTo>
                  <a:lnTo>
                    <a:pt x="1736" y="1473"/>
                  </a:lnTo>
                  <a:lnTo>
                    <a:pt x="1741" y="1473"/>
                  </a:lnTo>
                  <a:lnTo>
                    <a:pt x="1741" y="1480"/>
                  </a:lnTo>
                  <a:lnTo>
                    <a:pt x="1748" y="1480"/>
                  </a:lnTo>
                  <a:lnTo>
                    <a:pt x="1748" y="1490"/>
                  </a:lnTo>
                  <a:lnTo>
                    <a:pt x="1753" y="1490"/>
                  </a:lnTo>
                  <a:lnTo>
                    <a:pt x="1753" y="1519"/>
                  </a:lnTo>
                  <a:lnTo>
                    <a:pt x="1758" y="1519"/>
                  </a:lnTo>
                  <a:lnTo>
                    <a:pt x="1758" y="1542"/>
                  </a:lnTo>
                  <a:lnTo>
                    <a:pt x="1764" y="1542"/>
                  </a:lnTo>
                  <a:lnTo>
                    <a:pt x="1764" y="1554"/>
                  </a:lnTo>
                  <a:lnTo>
                    <a:pt x="1770" y="1554"/>
                  </a:lnTo>
                  <a:lnTo>
                    <a:pt x="1770" y="1570"/>
                  </a:lnTo>
                  <a:lnTo>
                    <a:pt x="1776" y="1570"/>
                  </a:lnTo>
                  <a:lnTo>
                    <a:pt x="1776" y="1594"/>
                  </a:lnTo>
                  <a:lnTo>
                    <a:pt x="1781" y="1594"/>
                  </a:lnTo>
                  <a:lnTo>
                    <a:pt x="1781" y="1611"/>
                  </a:lnTo>
                  <a:lnTo>
                    <a:pt x="1787" y="1611"/>
                  </a:lnTo>
                  <a:lnTo>
                    <a:pt x="1787" y="1628"/>
                  </a:lnTo>
                  <a:lnTo>
                    <a:pt x="1793" y="1628"/>
                  </a:lnTo>
                  <a:lnTo>
                    <a:pt x="1793" y="1639"/>
                  </a:lnTo>
                  <a:lnTo>
                    <a:pt x="1798" y="1639"/>
                  </a:lnTo>
                  <a:lnTo>
                    <a:pt x="1798" y="1650"/>
                  </a:lnTo>
                  <a:lnTo>
                    <a:pt x="1805" y="1650"/>
                  </a:lnTo>
                  <a:lnTo>
                    <a:pt x="1805" y="1668"/>
                  </a:lnTo>
                  <a:lnTo>
                    <a:pt x="1810" y="1668"/>
                  </a:lnTo>
                  <a:lnTo>
                    <a:pt x="1810" y="1673"/>
                  </a:lnTo>
                  <a:lnTo>
                    <a:pt x="1815" y="1673"/>
                  </a:lnTo>
                  <a:lnTo>
                    <a:pt x="1815" y="1690"/>
                  </a:lnTo>
                  <a:lnTo>
                    <a:pt x="1821" y="1690"/>
                  </a:lnTo>
                  <a:lnTo>
                    <a:pt x="1821" y="1701"/>
                  </a:lnTo>
                  <a:lnTo>
                    <a:pt x="1827" y="1701"/>
                  </a:lnTo>
                  <a:lnTo>
                    <a:pt x="1827" y="1707"/>
                  </a:lnTo>
                  <a:lnTo>
                    <a:pt x="1833" y="1707"/>
                  </a:lnTo>
                  <a:lnTo>
                    <a:pt x="1833" y="1725"/>
                  </a:lnTo>
                  <a:lnTo>
                    <a:pt x="1838" y="1725"/>
                  </a:lnTo>
                  <a:lnTo>
                    <a:pt x="1838" y="1753"/>
                  </a:lnTo>
                  <a:lnTo>
                    <a:pt x="1844" y="1753"/>
                  </a:lnTo>
                  <a:lnTo>
                    <a:pt x="1844" y="1758"/>
                  </a:lnTo>
                  <a:lnTo>
                    <a:pt x="1850" y="1758"/>
                  </a:lnTo>
                  <a:lnTo>
                    <a:pt x="1850" y="1764"/>
                  </a:lnTo>
                  <a:lnTo>
                    <a:pt x="1855" y="1764"/>
                  </a:lnTo>
                  <a:lnTo>
                    <a:pt x="1855" y="1775"/>
                  </a:lnTo>
                  <a:lnTo>
                    <a:pt x="1850" y="1775"/>
                  </a:lnTo>
                  <a:lnTo>
                    <a:pt x="1850" y="1787"/>
                  </a:lnTo>
                  <a:lnTo>
                    <a:pt x="1844" y="1787"/>
                  </a:lnTo>
                  <a:lnTo>
                    <a:pt x="1844" y="1792"/>
                  </a:lnTo>
                  <a:lnTo>
                    <a:pt x="1838" y="1792"/>
                  </a:lnTo>
                  <a:lnTo>
                    <a:pt x="1838" y="1815"/>
                  </a:lnTo>
                  <a:lnTo>
                    <a:pt x="1827" y="1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4623840" y="3081240"/>
              <a:ext cx="15480" cy="4680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17" y="91"/>
                  </a:moveTo>
                  <a:lnTo>
                    <a:pt x="17" y="68"/>
                  </a:lnTo>
                  <a:lnTo>
                    <a:pt x="11" y="68"/>
                  </a:lnTo>
                  <a:lnTo>
                    <a:pt x="11" y="45"/>
                  </a:lnTo>
                  <a:lnTo>
                    <a:pt x="7" y="4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17" y="35"/>
                  </a:lnTo>
                  <a:lnTo>
                    <a:pt x="23" y="35"/>
                  </a:lnTo>
                  <a:lnTo>
                    <a:pt x="23" y="52"/>
                  </a:lnTo>
                  <a:lnTo>
                    <a:pt x="28" y="52"/>
                  </a:lnTo>
                  <a:lnTo>
                    <a:pt x="28" y="85"/>
                  </a:lnTo>
                  <a:lnTo>
                    <a:pt x="17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3704400" y="3246120"/>
              <a:ext cx="939240" cy="948240"/>
            </a:xfrm>
            <a:custGeom>
              <a:avLst/>
              <a:gdLst/>
              <a:ahLst/>
              <a:rect l="l" t="t" r="r" b="b"/>
              <a:pathLst>
                <a:path w="1713" h="1718">
                  <a:moveTo>
                    <a:pt x="1594" y="1718"/>
                  </a:moveTo>
                  <a:lnTo>
                    <a:pt x="1594" y="1713"/>
                  </a:lnTo>
                  <a:lnTo>
                    <a:pt x="1560" y="1713"/>
                  </a:lnTo>
                  <a:lnTo>
                    <a:pt x="1560" y="1707"/>
                  </a:lnTo>
                  <a:lnTo>
                    <a:pt x="1532" y="1707"/>
                  </a:lnTo>
                  <a:lnTo>
                    <a:pt x="1532" y="1702"/>
                  </a:lnTo>
                  <a:lnTo>
                    <a:pt x="1509" y="1702"/>
                  </a:lnTo>
                  <a:lnTo>
                    <a:pt x="1509" y="1695"/>
                  </a:lnTo>
                  <a:lnTo>
                    <a:pt x="1475" y="1695"/>
                  </a:lnTo>
                  <a:lnTo>
                    <a:pt x="1475" y="1690"/>
                  </a:lnTo>
                  <a:lnTo>
                    <a:pt x="1446" y="1690"/>
                  </a:lnTo>
                  <a:lnTo>
                    <a:pt x="1446" y="1685"/>
                  </a:lnTo>
                  <a:lnTo>
                    <a:pt x="1423" y="1685"/>
                  </a:lnTo>
                  <a:lnTo>
                    <a:pt x="1423" y="1678"/>
                  </a:lnTo>
                  <a:lnTo>
                    <a:pt x="1412" y="1678"/>
                  </a:lnTo>
                  <a:lnTo>
                    <a:pt x="1412" y="1673"/>
                  </a:lnTo>
                  <a:lnTo>
                    <a:pt x="1389" y="1673"/>
                  </a:lnTo>
                  <a:lnTo>
                    <a:pt x="1389" y="1667"/>
                  </a:lnTo>
                  <a:lnTo>
                    <a:pt x="1373" y="1667"/>
                  </a:lnTo>
                  <a:lnTo>
                    <a:pt x="1373" y="1661"/>
                  </a:lnTo>
                  <a:lnTo>
                    <a:pt x="1361" y="1661"/>
                  </a:lnTo>
                  <a:lnTo>
                    <a:pt x="1361" y="1656"/>
                  </a:lnTo>
                  <a:lnTo>
                    <a:pt x="1355" y="1656"/>
                  </a:lnTo>
                  <a:lnTo>
                    <a:pt x="1355" y="1650"/>
                  </a:lnTo>
                  <a:lnTo>
                    <a:pt x="1326" y="1650"/>
                  </a:lnTo>
                  <a:lnTo>
                    <a:pt x="1326" y="1645"/>
                  </a:lnTo>
                  <a:lnTo>
                    <a:pt x="1304" y="1645"/>
                  </a:lnTo>
                  <a:lnTo>
                    <a:pt x="1304" y="1638"/>
                  </a:lnTo>
                  <a:lnTo>
                    <a:pt x="1292" y="1638"/>
                  </a:lnTo>
                  <a:lnTo>
                    <a:pt x="1292" y="1633"/>
                  </a:lnTo>
                  <a:lnTo>
                    <a:pt x="1275" y="1633"/>
                  </a:lnTo>
                  <a:lnTo>
                    <a:pt x="1275" y="1628"/>
                  </a:lnTo>
                  <a:lnTo>
                    <a:pt x="1241" y="1628"/>
                  </a:lnTo>
                  <a:lnTo>
                    <a:pt x="1241" y="1621"/>
                  </a:lnTo>
                  <a:lnTo>
                    <a:pt x="1202" y="1621"/>
                  </a:lnTo>
                  <a:lnTo>
                    <a:pt x="1202" y="1616"/>
                  </a:lnTo>
                  <a:lnTo>
                    <a:pt x="1178" y="1616"/>
                  </a:lnTo>
                  <a:lnTo>
                    <a:pt x="1178" y="1610"/>
                  </a:lnTo>
                  <a:lnTo>
                    <a:pt x="1145" y="1610"/>
                  </a:lnTo>
                  <a:lnTo>
                    <a:pt x="1145" y="1604"/>
                  </a:lnTo>
                  <a:lnTo>
                    <a:pt x="1127" y="1604"/>
                  </a:lnTo>
                  <a:lnTo>
                    <a:pt x="1127" y="1599"/>
                  </a:lnTo>
                  <a:lnTo>
                    <a:pt x="1105" y="1599"/>
                  </a:lnTo>
                  <a:lnTo>
                    <a:pt x="1105" y="1593"/>
                  </a:lnTo>
                  <a:lnTo>
                    <a:pt x="1082" y="1593"/>
                  </a:lnTo>
                  <a:lnTo>
                    <a:pt x="1082" y="1588"/>
                  </a:lnTo>
                  <a:lnTo>
                    <a:pt x="1070" y="1588"/>
                  </a:lnTo>
                  <a:lnTo>
                    <a:pt x="1070" y="1581"/>
                  </a:lnTo>
                  <a:lnTo>
                    <a:pt x="1031" y="1581"/>
                  </a:lnTo>
                  <a:lnTo>
                    <a:pt x="1031" y="1576"/>
                  </a:lnTo>
                  <a:lnTo>
                    <a:pt x="1002" y="1576"/>
                  </a:lnTo>
                  <a:lnTo>
                    <a:pt x="1002" y="1571"/>
                  </a:lnTo>
                  <a:lnTo>
                    <a:pt x="984" y="1571"/>
                  </a:lnTo>
                  <a:lnTo>
                    <a:pt x="984" y="1564"/>
                  </a:lnTo>
                  <a:lnTo>
                    <a:pt x="974" y="1564"/>
                  </a:lnTo>
                  <a:lnTo>
                    <a:pt x="974" y="1559"/>
                  </a:lnTo>
                  <a:lnTo>
                    <a:pt x="934" y="1559"/>
                  </a:lnTo>
                  <a:lnTo>
                    <a:pt x="934" y="1554"/>
                  </a:lnTo>
                  <a:lnTo>
                    <a:pt x="917" y="1554"/>
                  </a:lnTo>
                  <a:lnTo>
                    <a:pt x="917" y="1547"/>
                  </a:lnTo>
                  <a:lnTo>
                    <a:pt x="905" y="1547"/>
                  </a:lnTo>
                  <a:lnTo>
                    <a:pt x="905" y="1542"/>
                  </a:lnTo>
                  <a:lnTo>
                    <a:pt x="894" y="1542"/>
                  </a:lnTo>
                  <a:lnTo>
                    <a:pt x="894" y="1536"/>
                  </a:lnTo>
                  <a:lnTo>
                    <a:pt x="877" y="1536"/>
                  </a:lnTo>
                  <a:lnTo>
                    <a:pt x="877" y="1530"/>
                  </a:lnTo>
                  <a:lnTo>
                    <a:pt x="865" y="1530"/>
                  </a:lnTo>
                  <a:lnTo>
                    <a:pt x="865" y="1525"/>
                  </a:lnTo>
                  <a:lnTo>
                    <a:pt x="848" y="1525"/>
                  </a:lnTo>
                  <a:lnTo>
                    <a:pt x="848" y="1519"/>
                  </a:lnTo>
                  <a:lnTo>
                    <a:pt x="837" y="1519"/>
                  </a:lnTo>
                  <a:lnTo>
                    <a:pt x="837" y="1514"/>
                  </a:lnTo>
                  <a:lnTo>
                    <a:pt x="825" y="1514"/>
                  </a:lnTo>
                  <a:lnTo>
                    <a:pt x="825" y="1507"/>
                  </a:lnTo>
                  <a:lnTo>
                    <a:pt x="814" y="1507"/>
                  </a:lnTo>
                  <a:lnTo>
                    <a:pt x="814" y="1502"/>
                  </a:lnTo>
                  <a:lnTo>
                    <a:pt x="803" y="1502"/>
                  </a:lnTo>
                  <a:lnTo>
                    <a:pt x="803" y="1497"/>
                  </a:lnTo>
                  <a:lnTo>
                    <a:pt x="791" y="1497"/>
                  </a:lnTo>
                  <a:lnTo>
                    <a:pt x="791" y="1490"/>
                  </a:lnTo>
                  <a:lnTo>
                    <a:pt x="786" y="1490"/>
                  </a:lnTo>
                  <a:lnTo>
                    <a:pt x="786" y="1485"/>
                  </a:lnTo>
                  <a:lnTo>
                    <a:pt x="780" y="1485"/>
                  </a:lnTo>
                  <a:lnTo>
                    <a:pt x="780" y="1479"/>
                  </a:lnTo>
                  <a:lnTo>
                    <a:pt x="768" y="1479"/>
                  </a:lnTo>
                  <a:lnTo>
                    <a:pt x="768" y="1473"/>
                  </a:lnTo>
                  <a:lnTo>
                    <a:pt x="751" y="1473"/>
                  </a:lnTo>
                  <a:lnTo>
                    <a:pt x="751" y="1468"/>
                  </a:lnTo>
                  <a:lnTo>
                    <a:pt x="741" y="1468"/>
                  </a:lnTo>
                  <a:lnTo>
                    <a:pt x="741" y="1462"/>
                  </a:lnTo>
                  <a:lnTo>
                    <a:pt x="729" y="1462"/>
                  </a:lnTo>
                  <a:lnTo>
                    <a:pt x="729" y="1457"/>
                  </a:lnTo>
                  <a:lnTo>
                    <a:pt x="711" y="1457"/>
                  </a:lnTo>
                  <a:lnTo>
                    <a:pt x="711" y="1450"/>
                  </a:lnTo>
                  <a:lnTo>
                    <a:pt x="706" y="1450"/>
                  </a:lnTo>
                  <a:lnTo>
                    <a:pt x="706" y="1445"/>
                  </a:lnTo>
                  <a:lnTo>
                    <a:pt x="694" y="1445"/>
                  </a:lnTo>
                  <a:lnTo>
                    <a:pt x="694" y="1440"/>
                  </a:lnTo>
                  <a:lnTo>
                    <a:pt x="678" y="1440"/>
                  </a:lnTo>
                  <a:lnTo>
                    <a:pt x="678" y="1433"/>
                  </a:lnTo>
                  <a:lnTo>
                    <a:pt x="666" y="1433"/>
                  </a:lnTo>
                  <a:lnTo>
                    <a:pt x="666" y="1428"/>
                  </a:lnTo>
                  <a:lnTo>
                    <a:pt x="655" y="1428"/>
                  </a:lnTo>
                  <a:lnTo>
                    <a:pt x="655" y="1422"/>
                  </a:lnTo>
                  <a:lnTo>
                    <a:pt x="637" y="1422"/>
                  </a:lnTo>
                  <a:lnTo>
                    <a:pt x="637" y="1416"/>
                  </a:lnTo>
                  <a:lnTo>
                    <a:pt x="632" y="1416"/>
                  </a:lnTo>
                  <a:lnTo>
                    <a:pt x="632" y="1411"/>
                  </a:lnTo>
                  <a:lnTo>
                    <a:pt x="609" y="1411"/>
                  </a:lnTo>
                  <a:lnTo>
                    <a:pt x="609" y="1405"/>
                  </a:lnTo>
                  <a:lnTo>
                    <a:pt x="604" y="1405"/>
                  </a:lnTo>
                  <a:lnTo>
                    <a:pt x="604" y="1400"/>
                  </a:lnTo>
                  <a:lnTo>
                    <a:pt x="592" y="1400"/>
                  </a:lnTo>
                  <a:lnTo>
                    <a:pt x="592" y="1393"/>
                  </a:lnTo>
                  <a:lnTo>
                    <a:pt x="575" y="1393"/>
                  </a:lnTo>
                  <a:lnTo>
                    <a:pt x="575" y="1388"/>
                  </a:lnTo>
                  <a:lnTo>
                    <a:pt x="564" y="1388"/>
                  </a:lnTo>
                  <a:lnTo>
                    <a:pt x="564" y="1383"/>
                  </a:lnTo>
                  <a:lnTo>
                    <a:pt x="552" y="1383"/>
                  </a:lnTo>
                  <a:lnTo>
                    <a:pt x="552" y="1376"/>
                  </a:lnTo>
                  <a:lnTo>
                    <a:pt x="535" y="1376"/>
                  </a:lnTo>
                  <a:lnTo>
                    <a:pt x="535" y="1371"/>
                  </a:lnTo>
                  <a:lnTo>
                    <a:pt x="523" y="1371"/>
                  </a:lnTo>
                  <a:lnTo>
                    <a:pt x="523" y="1366"/>
                  </a:lnTo>
                  <a:lnTo>
                    <a:pt x="518" y="1366"/>
                  </a:lnTo>
                  <a:lnTo>
                    <a:pt x="518" y="1359"/>
                  </a:lnTo>
                  <a:lnTo>
                    <a:pt x="484" y="1359"/>
                  </a:lnTo>
                  <a:lnTo>
                    <a:pt x="484" y="1354"/>
                  </a:lnTo>
                  <a:lnTo>
                    <a:pt x="478" y="1354"/>
                  </a:lnTo>
                  <a:lnTo>
                    <a:pt x="478" y="1348"/>
                  </a:lnTo>
                  <a:lnTo>
                    <a:pt x="466" y="1348"/>
                  </a:lnTo>
                  <a:lnTo>
                    <a:pt x="466" y="1343"/>
                  </a:lnTo>
                  <a:lnTo>
                    <a:pt x="456" y="1343"/>
                  </a:lnTo>
                  <a:lnTo>
                    <a:pt x="456" y="1337"/>
                  </a:lnTo>
                  <a:lnTo>
                    <a:pt x="444" y="1337"/>
                  </a:lnTo>
                  <a:lnTo>
                    <a:pt x="444" y="1331"/>
                  </a:lnTo>
                  <a:lnTo>
                    <a:pt x="427" y="1331"/>
                  </a:lnTo>
                  <a:lnTo>
                    <a:pt x="427" y="1326"/>
                  </a:lnTo>
                  <a:lnTo>
                    <a:pt x="416" y="1326"/>
                  </a:lnTo>
                  <a:lnTo>
                    <a:pt x="416" y="1319"/>
                  </a:lnTo>
                  <a:lnTo>
                    <a:pt x="399" y="1319"/>
                  </a:lnTo>
                  <a:lnTo>
                    <a:pt x="399" y="1314"/>
                  </a:lnTo>
                  <a:lnTo>
                    <a:pt x="392" y="1314"/>
                  </a:lnTo>
                  <a:lnTo>
                    <a:pt x="392" y="1309"/>
                  </a:lnTo>
                  <a:lnTo>
                    <a:pt x="382" y="1309"/>
                  </a:lnTo>
                  <a:lnTo>
                    <a:pt x="382" y="1303"/>
                  </a:lnTo>
                  <a:lnTo>
                    <a:pt x="370" y="1303"/>
                  </a:lnTo>
                  <a:lnTo>
                    <a:pt x="370" y="1298"/>
                  </a:lnTo>
                  <a:lnTo>
                    <a:pt x="364" y="1298"/>
                  </a:lnTo>
                  <a:lnTo>
                    <a:pt x="364" y="1291"/>
                  </a:lnTo>
                  <a:lnTo>
                    <a:pt x="352" y="1291"/>
                  </a:lnTo>
                  <a:lnTo>
                    <a:pt x="352" y="1286"/>
                  </a:lnTo>
                  <a:lnTo>
                    <a:pt x="342" y="1286"/>
                  </a:lnTo>
                  <a:lnTo>
                    <a:pt x="342" y="1281"/>
                  </a:lnTo>
                  <a:lnTo>
                    <a:pt x="331" y="1281"/>
                  </a:lnTo>
                  <a:lnTo>
                    <a:pt x="331" y="1274"/>
                  </a:lnTo>
                  <a:lnTo>
                    <a:pt x="319" y="1274"/>
                  </a:lnTo>
                  <a:lnTo>
                    <a:pt x="319" y="1269"/>
                  </a:lnTo>
                  <a:lnTo>
                    <a:pt x="302" y="1269"/>
                  </a:lnTo>
                  <a:lnTo>
                    <a:pt x="302" y="1263"/>
                  </a:lnTo>
                  <a:lnTo>
                    <a:pt x="297" y="1263"/>
                  </a:lnTo>
                  <a:lnTo>
                    <a:pt x="297" y="1257"/>
                  </a:lnTo>
                  <a:lnTo>
                    <a:pt x="285" y="1257"/>
                  </a:lnTo>
                  <a:lnTo>
                    <a:pt x="285" y="1252"/>
                  </a:lnTo>
                  <a:lnTo>
                    <a:pt x="274" y="1252"/>
                  </a:lnTo>
                  <a:lnTo>
                    <a:pt x="274" y="1246"/>
                  </a:lnTo>
                  <a:lnTo>
                    <a:pt x="268" y="1246"/>
                  </a:lnTo>
                  <a:lnTo>
                    <a:pt x="268" y="1241"/>
                  </a:lnTo>
                  <a:lnTo>
                    <a:pt x="257" y="1241"/>
                  </a:lnTo>
                  <a:lnTo>
                    <a:pt x="257" y="1234"/>
                  </a:lnTo>
                  <a:lnTo>
                    <a:pt x="245" y="1234"/>
                  </a:lnTo>
                  <a:lnTo>
                    <a:pt x="245" y="1229"/>
                  </a:lnTo>
                  <a:lnTo>
                    <a:pt x="233" y="1229"/>
                  </a:lnTo>
                  <a:lnTo>
                    <a:pt x="233" y="1224"/>
                  </a:lnTo>
                  <a:lnTo>
                    <a:pt x="222" y="1224"/>
                  </a:lnTo>
                  <a:lnTo>
                    <a:pt x="222" y="1217"/>
                  </a:lnTo>
                  <a:lnTo>
                    <a:pt x="216" y="1217"/>
                  </a:lnTo>
                  <a:lnTo>
                    <a:pt x="216" y="1212"/>
                  </a:lnTo>
                  <a:lnTo>
                    <a:pt x="205" y="1212"/>
                  </a:lnTo>
                  <a:lnTo>
                    <a:pt x="205" y="1206"/>
                  </a:lnTo>
                  <a:lnTo>
                    <a:pt x="193" y="1206"/>
                  </a:lnTo>
                  <a:lnTo>
                    <a:pt x="193" y="1200"/>
                  </a:lnTo>
                  <a:lnTo>
                    <a:pt x="183" y="1200"/>
                  </a:lnTo>
                  <a:lnTo>
                    <a:pt x="183" y="1195"/>
                  </a:lnTo>
                  <a:lnTo>
                    <a:pt x="171" y="1195"/>
                  </a:lnTo>
                  <a:lnTo>
                    <a:pt x="171" y="1189"/>
                  </a:lnTo>
                  <a:lnTo>
                    <a:pt x="165" y="1189"/>
                  </a:lnTo>
                  <a:lnTo>
                    <a:pt x="165" y="1183"/>
                  </a:lnTo>
                  <a:lnTo>
                    <a:pt x="159" y="1183"/>
                  </a:lnTo>
                  <a:lnTo>
                    <a:pt x="159" y="1177"/>
                  </a:lnTo>
                  <a:lnTo>
                    <a:pt x="154" y="1177"/>
                  </a:lnTo>
                  <a:lnTo>
                    <a:pt x="154" y="1172"/>
                  </a:lnTo>
                  <a:lnTo>
                    <a:pt x="143" y="1172"/>
                  </a:lnTo>
                  <a:lnTo>
                    <a:pt x="143" y="1167"/>
                  </a:lnTo>
                  <a:lnTo>
                    <a:pt x="136" y="1167"/>
                  </a:lnTo>
                  <a:lnTo>
                    <a:pt x="136" y="1160"/>
                  </a:lnTo>
                  <a:lnTo>
                    <a:pt x="126" y="1160"/>
                  </a:lnTo>
                  <a:lnTo>
                    <a:pt x="126" y="1155"/>
                  </a:lnTo>
                  <a:lnTo>
                    <a:pt x="119" y="1155"/>
                  </a:lnTo>
                  <a:lnTo>
                    <a:pt x="119" y="1150"/>
                  </a:lnTo>
                  <a:lnTo>
                    <a:pt x="109" y="1150"/>
                  </a:lnTo>
                  <a:lnTo>
                    <a:pt x="109" y="1143"/>
                  </a:lnTo>
                  <a:lnTo>
                    <a:pt x="97" y="1143"/>
                  </a:lnTo>
                  <a:lnTo>
                    <a:pt x="97" y="1138"/>
                  </a:lnTo>
                  <a:lnTo>
                    <a:pt x="91" y="1138"/>
                  </a:lnTo>
                  <a:lnTo>
                    <a:pt x="91" y="1132"/>
                  </a:lnTo>
                  <a:lnTo>
                    <a:pt x="86" y="1132"/>
                  </a:lnTo>
                  <a:lnTo>
                    <a:pt x="86" y="1126"/>
                  </a:lnTo>
                  <a:lnTo>
                    <a:pt x="79" y="1126"/>
                  </a:lnTo>
                  <a:lnTo>
                    <a:pt x="79" y="1121"/>
                  </a:lnTo>
                  <a:lnTo>
                    <a:pt x="62" y="1121"/>
                  </a:lnTo>
                  <a:lnTo>
                    <a:pt x="62" y="1115"/>
                  </a:lnTo>
                  <a:lnTo>
                    <a:pt x="57" y="1115"/>
                  </a:lnTo>
                  <a:lnTo>
                    <a:pt x="57" y="1110"/>
                  </a:lnTo>
                  <a:lnTo>
                    <a:pt x="52" y="1110"/>
                  </a:lnTo>
                  <a:lnTo>
                    <a:pt x="52" y="1103"/>
                  </a:lnTo>
                  <a:lnTo>
                    <a:pt x="40" y="1103"/>
                  </a:lnTo>
                  <a:lnTo>
                    <a:pt x="40" y="1098"/>
                  </a:lnTo>
                  <a:lnTo>
                    <a:pt x="34" y="1098"/>
                  </a:lnTo>
                  <a:lnTo>
                    <a:pt x="34" y="1093"/>
                  </a:lnTo>
                  <a:lnTo>
                    <a:pt x="23" y="1093"/>
                  </a:lnTo>
                  <a:lnTo>
                    <a:pt x="23" y="1086"/>
                  </a:lnTo>
                  <a:lnTo>
                    <a:pt x="17" y="1086"/>
                  </a:lnTo>
                  <a:lnTo>
                    <a:pt x="17" y="1081"/>
                  </a:lnTo>
                  <a:lnTo>
                    <a:pt x="12" y="1081"/>
                  </a:lnTo>
                  <a:lnTo>
                    <a:pt x="12" y="1075"/>
                  </a:lnTo>
                  <a:lnTo>
                    <a:pt x="5" y="1075"/>
                  </a:lnTo>
                  <a:lnTo>
                    <a:pt x="5" y="1069"/>
                  </a:lnTo>
                  <a:lnTo>
                    <a:pt x="0" y="1069"/>
                  </a:lnTo>
                  <a:lnTo>
                    <a:pt x="0" y="1046"/>
                  </a:lnTo>
                  <a:lnTo>
                    <a:pt x="5" y="1046"/>
                  </a:lnTo>
                  <a:lnTo>
                    <a:pt x="5" y="1041"/>
                  </a:lnTo>
                  <a:lnTo>
                    <a:pt x="12" y="1041"/>
                  </a:lnTo>
                  <a:lnTo>
                    <a:pt x="12" y="1036"/>
                  </a:lnTo>
                  <a:lnTo>
                    <a:pt x="17" y="1036"/>
                  </a:lnTo>
                  <a:lnTo>
                    <a:pt x="17" y="1029"/>
                  </a:lnTo>
                  <a:lnTo>
                    <a:pt x="23" y="1029"/>
                  </a:lnTo>
                  <a:lnTo>
                    <a:pt x="23" y="1024"/>
                  </a:lnTo>
                  <a:lnTo>
                    <a:pt x="29" y="1024"/>
                  </a:lnTo>
                  <a:lnTo>
                    <a:pt x="29" y="1018"/>
                  </a:lnTo>
                  <a:lnTo>
                    <a:pt x="34" y="1018"/>
                  </a:lnTo>
                  <a:lnTo>
                    <a:pt x="34" y="1001"/>
                  </a:lnTo>
                  <a:lnTo>
                    <a:pt x="40" y="1001"/>
                  </a:lnTo>
                  <a:lnTo>
                    <a:pt x="40" y="996"/>
                  </a:lnTo>
                  <a:lnTo>
                    <a:pt x="45" y="996"/>
                  </a:lnTo>
                  <a:lnTo>
                    <a:pt x="45" y="989"/>
                  </a:lnTo>
                  <a:lnTo>
                    <a:pt x="52" y="989"/>
                  </a:lnTo>
                  <a:lnTo>
                    <a:pt x="52" y="979"/>
                  </a:lnTo>
                  <a:lnTo>
                    <a:pt x="57" y="979"/>
                  </a:lnTo>
                  <a:lnTo>
                    <a:pt x="57" y="972"/>
                  </a:lnTo>
                  <a:lnTo>
                    <a:pt x="69" y="972"/>
                  </a:lnTo>
                  <a:lnTo>
                    <a:pt x="69" y="967"/>
                  </a:lnTo>
                  <a:lnTo>
                    <a:pt x="74" y="967"/>
                  </a:lnTo>
                  <a:lnTo>
                    <a:pt x="74" y="950"/>
                  </a:lnTo>
                  <a:lnTo>
                    <a:pt x="79" y="950"/>
                  </a:lnTo>
                  <a:lnTo>
                    <a:pt x="79" y="939"/>
                  </a:lnTo>
                  <a:lnTo>
                    <a:pt x="86" y="939"/>
                  </a:lnTo>
                  <a:lnTo>
                    <a:pt x="86" y="927"/>
                  </a:lnTo>
                  <a:lnTo>
                    <a:pt x="91" y="927"/>
                  </a:lnTo>
                  <a:lnTo>
                    <a:pt x="91" y="910"/>
                  </a:lnTo>
                  <a:lnTo>
                    <a:pt x="97" y="910"/>
                  </a:lnTo>
                  <a:lnTo>
                    <a:pt x="97" y="905"/>
                  </a:lnTo>
                  <a:lnTo>
                    <a:pt x="102" y="905"/>
                  </a:lnTo>
                  <a:lnTo>
                    <a:pt x="102" y="893"/>
                  </a:lnTo>
                  <a:lnTo>
                    <a:pt x="109" y="893"/>
                  </a:lnTo>
                  <a:lnTo>
                    <a:pt x="109" y="887"/>
                  </a:lnTo>
                  <a:lnTo>
                    <a:pt x="114" y="887"/>
                  </a:lnTo>
                  <a:lnTo>
                    <a:pt x="114" y="882"/>
                  </a:lnTo>
                  <a:lnTo>
                    <a:pt x="119" y="882"/>
                  </a:lnTo>
                  <a:lnTo>
                    <a:pt x="119" y="870"/>
                  </a:lnTo>
                  <a:lnTo>
                    <a:pt x="126" y="870"/>
                  </a:lnTo>
                  <a:lnTo>
                    <a:pt x="126" y="859"/>
                  </a:lnTo>
                  <a:lnTo>
                    <a:pt x="131" y="859"/>
                  </a:lnTo>
                  <a:lnTo>
                    <a:pt x="131" y="853"/>
                  </a:lnTo>
                  <a:lnTo>
                    <a:pt x="136" y="853"/>
                  </a:lnTo>
                  <a:lnTo>
                    <a:pt x="136" y="848"/>
                  </a:lnTo>
                  <a:lnTo>
                    <a:pt x="143" y="848"/>
                  </a:lnTo>
                  <a:lnTo>
                    <a:pt x="143" y="842"/>
                  </a:lnTo>
                  <a:lnTo>
                    <a:pt x="148" y="842"/>
                  </a:lnTo>
                  <a:lnTo>
                    <a:pt x="148" y="836"/>
                  </a:lnTo>
                  <a:lnTo>
                    <a:pt x="154" y="836"/>
                  </a:lnTo>
                  <a:lnTo>
                    <a:pt x="154" y="830"/>
                  </a:lnTo>
                  <a:lnTo>
                    <a:pt x="159" y="830"/>
                  </a:lnTo>
                  <a:lnTo>
                    <a:pt x="159" y="820"/>
                  </a:lnTo>
                  <a:lnTo>
                    <a:pt x="165" y="820"/>
                  </a:lnTo>
                  <a:lnTo>
                    <a:pt x="165" y="813"/>
                  </a:lnTo>
                  <a:lnTo>
                    <a:pt x="171" y="813"/>
                  </a:lnTo>
                  <a:lnTo>
                    <a:pt x="171" y="802"/>
                  </a:lnTo>
                  <a:lnTo>
                    <a:pt x="176" y="802"/>
                  </a:lnTo>
                  <a:lnTo>
                    <a:pt x="176" y="796"/>
                  </a:lnTo>
                  <a:lnTo>
                    <a:pt x="183" y="796"/>
                  </a:lnTo>
                  <a:lnTo>
                    <a:pt x="183" y="785"/>
                  </a:lnTo>
                  <a:lnTo>
                    <a:pt x="188" y="785"/>
                  </a:lnTo>
                  <a:lnTo>
                    <a:pt x="188" y="779"/>
                  </a:lnTo>
                  <a:lnTo>
                    <a:pt x="193" y="779"/>
                  </a:lnTo>
                  <a:lnTo>
                    <a:pt x="193" y="768"/>
                  </a:lnTo>
                  <a:lnTo>
                    <a:pt x="200" y="768"/>
                  </a:lnTo>
                  <a:lnTo>
                    <a:pt x="200" y="756"/>
                  </a:lnTo>
                  <a:lnTo>
                    <a:pt x="205" y="756"/>
                  </a:lnTo>
                  <a:lnTo>
                    <a:pt x="205" y="751"/>
                  </a:lnTo>
                  <a:lnTo>
                    <a:pt x="211" y="751"/>
                  </a:lnTo>
                  <a:lnTo>
                    <a:pt x="211" y="739"/>
                  </a:lnTo>
                  <a:lnTo>
                    <a:pt x="216" y="739"/>
                  </a:lnTo>
                  <a:lnTo>
                    <a:pt x="216" y="728"/>
                  </a:lnTo>
                  <a:lnTo>
                    <a:pt x="222" y="728"/>
                  </a:lnTo>
                  <a:lnTo>
                    <a:pt x="222" y="717"/>
                  </a:lnTo>
                  <a:lnTo>
                    <a:pt x="228" y="717"/>
                  </a:lnTo>
                  <a:lnTo>
                    <a:pt x="228" y="706"/>
                  </a:lnTo>
                  <a:lnTo>
                    <a:pt x="233" y="706"/>
                  </a:lnTo>
                  <a:lnTo>
                    <a:pt x="233" y="699"/>
                  </a:lnTo>
                  <a:lnTo>
                    <a:pt x="240" y="699"/>
                  </a:lnTo>
                  <a:lnTo>
                    <a:pt x="240" y="694"/>
                  </a:lnTo>
                  <a:lnTo>
                    <a:pt x="245" y="694"/>
                  </a:lnTo>
                  <a:lnTo>
                    <a:pt x="245" y="682"/>
                  </a:lnTo>
                  <a:lnTo>
                    <a:pt x="250" y="682"/>
                  </a:lnTo>
                  <a:lnTo>
                    <a:pt x="250" y="671"/>
                  </a:lnTo>
                  <a:lnTo>
                    <a:pt x="257" y="671"/>
                  </a:lnTo>
                  <a:lnTo>
                    <a:pt x="257" y="665"/>
                  </a:lnTo>
                  <a:lnTo>
                    <a:pt x="262" y="665"/>
                  </a:lnTo>
                  <a:lnTo>
                    <a:pt x="262" y="660"/>
                  </a:lnTo>
                  <a:lnTo>
                    <a:pt x="268" y="660"/>
                  </a:lnTo>
                  <a:lnTo>
                    <a:pt x="268" y="649"/>
                  </a:lnTo>
                  <a:lnTo>
                    <a:pt x="274" y="649"/>
                  </a:lnTo>
                  <a:lnTo>
                    <a:pt x="274" y="642"/>
                  </a:lnTo>
                  <a:lnTo>
                    <a:pt x="279" y="642"/>
                  </a:lnTo>
                  <a:lnTo>
                    <a:pt x="279" y="632"/>
                  </a:lnTo>
                  <a:lnTo>
                    <a:pt x="285" y="632"/>
                  </a:lnTo>
                  <a:lnTo>
                    <a:pt x="285" y="625"/>
                  </a:lnTo>
                  <a:lnTo>
                    <a:pt x="290" y="625"/>
                  </a:lnTo>
                  <a:lnTo>
                    <a:pt x="290" y="608"/>
                  </a:lnTo>
                  <a:lnTo>
                    <a:pt x="297" y="608"/>
                  </a:lnTo>
                  <a:lnTo>
                    <a:pt x="297" y="603"/>
                  </a:lnTo>
                  <a:lnTo>
                    <a:pt x="302" y="603"/>
                  </a:lnTo>
                  <a:lnTo>
                    <a:pt x="302" y="592"/>
                  </a:lnTo>
                  <a:lnTo>
                    <a:pt x="307" y="592"/>
                  </a:lnTo>
                  <a:lnTo>
                    <a:pt x="307" y="585"/>
                  </a:lnTo>
                  <a:lnTo>
                    <a:pt x="314" y="585"/>
                  </a:lnTo>
                  <a:lnTo>
                    <a:pt x="314" y="575"/>
                  </a:lnTo>
                  <a:lnTo>
                    <a:pt x="319" y="575"/>
                  </a:lnTo>
                  <a:lnTo>
                    <a:pt x="319" y="568"/>
                  </a:lnTo>
                  <a:lnTo>
                    <a:pt x="325" y="568"/>
                  </a:lnTo>
                  <a:lnTo>
                    <a:pt x="325" y="563"/>
                  </a:lnTo>
                  <a:lnTo>
                    <a:pt x="331" y="563"/>
                  </a:lnTo>
                  <a:lnTo>
                    <a:pt x="331" y="557"/>
                  </a:lnTo>
                  <a:lnTo>
                    <a:pt x="336" y="557"/>
                  </a:lnTo>
                  <a:lnTo>
                    <a:pt x="336" y="546"/>
                  </a:lnTo>
                  <a:lnTo>
                    <a:pt x="342" y="546"/>
                  </a:lnTo>
                  <a:lnTo>
                    <a:pt x="342" y="540"/>
                  </a:lnTo>
                  <a:lnTo>
                    <a:pt x="347" y="540"/>
                  </a:lnTo>
                  <a:lnTo>
                    <a:pt x="347" y="528"/>
                  </a:lnTo>
                  <a:lnTo>
                    <a:pt x="352" y="528"/>
                  </a:lnTo>
                  <a:lnTo>
                    <a:pt x="352" y="523"/>
                  </a:lnTo>
                  <a:lnTo>
                    <a:pt x="359" y="523"/>
                  </a:lnTo>
                  <a:lnTo>
                    <a:pt x="359" y="518"/>
                  </a:lnTo>
                  <a:lnTo>
                    <a:pt x="364" y="518"/>
                  </a:lnTo>
                  <a:lnTo>
                    <a:pt x="364" y="511"/>
                  </a:lnTo>
                  <a:lnTo>
                    <a:pt x="370" y="511"/>
                  </a:lnTo>
                  <a:lnTo>
                    <a:pt x="370" y="501"/>
                  </a:lnTo>
                  <a:lnTo>
                    <a:pt x="376" y="501"/>
                  </a:lnTo>
                  <a:lnTo>
                    <a:pt x="376" y="489"/>
                  </a:lnTo>
                  <a:lnTo>
                    <a:pt x="382" y="489"/>
                  </a:lnTo>
                  <a:lnTo>
                    <a:pt x="382" y="483"/>
                  </a:lnTo>
                  <a:lnTo>
                    <a:pt x="387" y="483"/>
                  </a:lnTo>
                  <a:lnTo>
                    <a:pt x="387" y="473"/>
                  </a:lnTo>
                  <a:lnTo>
                    <a:pt x="392" y="473"/>
                  </a:lnTo>
                  <a:lnTo>
                    <a:pt x="392" y="466"/>
                  </a:lnTo>
                  <a:lnTo>
                    <a:pt x="399" y="466"/>
                  </a:lnTo>
                  <a:lnTo>
                    <a:pt x="399" y="461"/>
                  </a:lnTo>
                  <a:lnTo>
                    <a:pt x="404" y="461"/>
                  </a:lnTo>
                  <a:lnTo>
                    <a:pt x="404" y="449"/>
                  </a:lnTo>
                  <a:lnTo>
                    <a:pt x="409" y="449"/>
                  </a:lnTo>
                  <a:lnTo>
                    <a:pt x="409" y="444"/>
                  </a:lnTo>
                  <a:lnTo>
                    <a:pt x="416" y="444"/>
                  </a:lnTo>
                  <a:lnTo>
                    <a:pt x="416" y="438"/>
                  </a:lnTo>
                  <a:lnTo>
                    <a:pt x="421" y="438"/>
                  </a:lnTo>
                  <a:lnTo>
                    <a:pt x="421" y="432"/>
                  </a:lnTo>
                  <a:lnTo>
                    <a:pt x="427" y="432"/>
                  </a:lnTo>
                  <a:lnTo>
                    <a:pt x="427" y="426"/>
                  </a:lnTo>
                  <a:lnTo>
                    <a:pt x="433" y="426"/>
                  </a:lnTo>
                  <a:lnTo>
                    <a:pt x="433" y="421"/>
                  </a:lnTo>
                  <a:lnTo>
                    <a:pt x="438" y="421"/>
                  </a:lnTo>
                  <a:lnTo>
                    <a:pt x="438" y="416"/>
                  </a:lnTo>
                  <a:lnTo>
                    <a:pt x="444" y="416"/>
                  </a:lnTo>
                  <a:lnTo>
                    <a:pt x="444" y="409"/>
                  </a:lnTo>
                  <a:lnTo>
                    <a:pt x="449" y="409"/>
                  </a:lnTo>
                  <a:lnTo>
                    <a:pt x="449" y="404"/>
                  </a:lnTo>
                  <a:lnTo>
                    <a:pt x="456" y="404"/>
                  </a:lnTo>
                  <a:lnTo>
                    <a:pt x="456" y="398"/>
                  </a:lnTo>
                  <a:lnTo>
                    <a:pt x="461" y="398"/>
                  </a:lnTo>
                  <a:lnTo>
                    <a:pt x="461" y="392"/>
                  </a:lnTo>
                  <a:lnTo>
                    <a:pt x="466" y="392"/>
                  </a:lnTo>
                  <a:lnTo>
                    <a:pt x="466" y="381"/>
                  </a:lnTo>
                  <a:lnTo>
                    <a:pt x="478" y="381"/>
                  </a:lnTo>
                  <a:lnTo>
                    <a:pt x="478" y="375"/>
                  </a:lnTo>
                  <a:lnTo>
                    <a:pt x="484" y="375"/>
                  </a:lnTo>
                  <a:lnTo>
                    <a:pt x="484" y="369"/>
                  </a:lnTo>
                  <a:lnTo>
                    <a:pt x="490" y="369"/>
                  </a:lnTo>
                  <a:lnTo>
                    <a:pt x="490" y="364"/>
                  </a:lnTo>
                  <a:lnTo>
                    <a:pt x="495" y="364"/>
                  </a:lnTo>
                  <a:lnTo>
                    <a:pt x="495" y="359"/>
                  </a:lnTo>
                  <a:lnTo>
                    <a:pt x="501" y="359"/>
                  </a:lnTo>
                  <a:lnTo>
                    <a:pt x="501" y="347"/>
                  </a:lnTo>
                  <a:lnTo>
                    <a:pt x="506" y="347"/>
                  </a:lnTo>
                  <a:lnTo>
                    <a:pt x="506" y="335"/>
                  </a:lnTo>
                  <a:lnTo>
                    <a:pt x="518" y="335"/>
                  </a:lnTo>
                  <a:lnTo>
                    <a:pt x="518" y="330"/>
                  </a:lnTo>
                  <a:lnTo>
                    <a:pt x="523" y="330"/>
                  </a:lnTo>
                  <a:lnTo>
                    <a:pt x="523" y="318"/>
                  </a:lnTo>
                  <a:lnTo>
                    <a:pt x="530" y="318"/>
                  </a:lnTo>
                  <a:lnTo>
                    <a:pt x="530" y="313"/>
                  </a:lnTo>
                  <a:lnTo>
                    <a:pt x="535" y="313"/>
                  </a:lnTo>
                  <a:lnTo>
                    <a:pt x="535" y="307"/>
                  </a:lnTo>
                  <a:lnTo>
                    <a:pt x="541" y="307"/>
                  </a:lnTo>
                  <a:lnTo>
                    <a:pt x="541" y="295"/>
                  </a:lnTo>
                  <a:lnTo>
                    <a:pt x="547" y="295"/>
                  </a:lnTo>
                  <a:lnTo>
                    <a:pt x="547" y="290"/>
                  </a:lnTo>
                  <a:lnTo>
                    <a:pt x="552" y="290"/>
                  </a:lnTo>
                  <a:lnTo>
                    <a:pt x="552" y="285"/>
                  </a:lnTo>
                  <a:lnTo>
                    <a:pt x="558" y="285"/>
                  </a:lnTo>
                  <a:lnTo>
                    <a:pt x="558" y="278"/>
                  </a:lnTo>
                  <a:lnTo>
                    <a:pt x="564" y="278"/>
                  </a:lnTo>
                  <a:lnTo>
                    <a:pt x="564" y="273"/>
                  </a:lnTo>
                  <a:lnTo>
                    <a:pt x="570" y="273"/>
                  </a:lnTo>
                  <a:lnTo>
                    <a:pt x="570" y="267"/>
                  </a:lnTo>
                  <a:lnTo>
                    <a:pt x="575" y="267"/>
                  </a:lnTo>
                  <a:lnTo>
                    <a:pt x="575" y="256"/>
                  </a:lnTo>
                  <a:lnTo>
                    <a:pt x="580" y="256"/>
                  </a:lnTo>
                  <a:lnTo>
                    <a:pt x="580" y="250"/>
                  </a:lnTo>
                  <a:lnTo>
                    <a:pt x="587" y="250"/>
                  </a:lnTo>
                  <a:lnTo>
                    <a:pt x="587" y="245"/>
                  </a:lnTo>
                  <a:lnTo>
                    <a:pt x="592" y="245"/>
                  </a:lnTo>
                  <a:lnTo>
                    <a:pt x="592" y="238"/>
                  </a:lnTo>
                  <a:lnTo>
                    <a:pt x="598" y="238"/>
                  </a:lnTo>
                  <a:lnTo>
                    <a:pt x="598" y="228"/>
                  </a:lnTo>
                  <a:lnTo>
                    <a:pt x="604" y="228"/>
                  </a:lnTo>
                  <a:lnTo>
                    <a:pt x="604" y="221"/>
                  </a:lnTo>
                  <a:lnTo>
                    <a:pt x="609" y="221"/>
                  </a:lnTo>
                  <a:lnTo>
                    <a:pt x="609" y="210"/>
                  </a:lnTo>
                  <a:lnTo>
                    <a:pt x="615" y="210"/>
                  </a:lnTo>
                  <a:lnTo>
                    <a:pt x="615" y="204"/>
                  </a:lnTo>
                  <a:lnTo>
                    <a:pt x="621" y="204"/>
                  </a:lnTo>
                  <a:lnTo>
                    <a:pt x="621" y="199"/>
                  </a:lnTo>
                  <a:lnTo>
                    <a:pt x="627" y="199"/>
                  </a:lnTo>
                  <a:lnTo>
                    <a:pt x="627" y="193"/>
                  </a:lnTo>
                  <a:lnTo>
                    <a:pt x="632" y="193"/>
                  </a:lnTo>
                  <a:lnTo>
                    <a:pt x="632" y="187"/>
                  </a:lnTo>
                  <a:lnTo>
                    <a:pt x="637" y="187"/>
                  </a:lnTo>
                  <a:lnTo>
                    <a:pt x="637" y="181"/>
                  </a:lnTo>
                  <a:lnTo>
                    <a:pt x="644" y="181"/>
                  </a:lnTo>
                  <a:lnTo>
                    <a:pt x="644" y="176"/>
                  </a:lnTo>
                  <a:lnTo>
                    <a:pt x="649" y="176"/>
                  </a:lnTo>
                  <a:lnTo>
                    <a:pt x="649" y="171"/>
                  </a:lnTo>
                  <a:lnTo>
                    <a:pt x="661" y="171"/>
                  </a:lnTo>
                  <a:lnTo>
                    <a:pt x="661" y="164"/>
                  </a:lnTo>
                  <a:lnTo>
                    <a:pt x="666" y="164"/>
                  </a:lnTo>
                  <a:lnTo>
                    <a:pt x="666" y="159"/>
                  </a:lnTo>
                  <a:lnTo>
                    <a:pt x="672" y="159"/>
                  </a:lnTo>
                  <a:lnTo>
                    <a:pt x="672" y="153"/>
                  </a:lnTo>
                  <a:lnTo>
                    <a:pt x="678" y="153"/>
                  </a:lnTo>
                  <a:lnTo>
                    <a:pt x="678" y="147"/>
                  </a:lnTo>
                  <a:lnTo>
                    <a:pt x="684" y="147"/>
                  </a:lnTo>
                  <a:lnTo>
                    <a:pt x="684" y="136"/>
                  </a:lnTo>
                  <a:lnTo>
                    <a:pt x="689" y="136"/>
                  </a:lnTo>
                  <a:lnTo>
                    <a:pt x="689" y="130"/>
                  </a:lnTo>
                  <a:lnTo>
                    <a:pt x="694" y="130"/>
                  </a:lnTo>
                  <a:lnTo>
                    <a:pt x="694" y="119"/>
                  </a:lnTo>
                  <a:lnTo>
                    <a:pt x="701" y="119"/>
                  </a:lnTo>
                  <a:lnTo>
                    <a:pt x="701" y="107"/>
                  </a:lnTo>
                  <a:lnTo>
                    <a:pt x="706" y="107"/>
                  </a:lnTo>
                  <a:lnTo>
                    <a:pt x="706" y="102"/>
                  </a:lnTo>
                  <a:lnTo>
                    <a:pt x="711" y="102"/>
                  </a:lnTo>
                  <a:lnTo>
                    <a:pt x="711" y="97"/>
                  </a:lnTo>
                  <a:lnTo>
                    <a:pt x="718" y="97"/>
                  </a:lnTo>
                  <a:lnTo>
                    <a:pt x="718" y="85"/>
                  </a:lnTo>
                  <a:lnTo>
                    <a:pt x="723" y="85"/>
                  </a:lnTo>
                  <a:lnTo>
                    <a:pt x="723" y="79"/>
                  </a:lnTo>
                  <a:lnTo>
                    <a:pt x="729" y="79"/>
                  </a:lnTo>
                  <a:lnTo>
                    <a:pt x="729" y="74"/>
                  </a:lnTo>
                  <a:lnTo>
                    <a:pt x="735" y="74"/>
                  </a:lnTo>
                  <a:lnTo>
                    <a:pt x="735" y="57"/>
                  </a:lnTo>
                  <a:lnTo>
                    <a:pt x="741" y="57"/>
                  </a:lnTo>
                  <a:lnTo>
                    <a:pt x="741" y="45"/>
                  </a:lnTo>
                  <a:lnTo>
                    <a:pt x="746" y="45"/>
                  </a:lnTo>
                  <a:lnTo>
                    <a:pt x="746" y="40"/>
                  </a:lnTo>
                  <a:lnTo>
                    <a:pt x="751" y="40"/>
                  </a:lnTo>
                  <a:lnTo>
                    <a:pt x="751" y="28"/>
                  </a:lnTo>
                  <a:lnTo>
                    <a:pt x="757" y="28"/>
                  </a:lnTo>
                  <a:lnTo>
                    <a:pt x="757" y="22"/>
                  </a:lnTo>
                  <a:lnTo>
                    <a:pt x="768" y="22"/>
                  </a:lnTo>
                  <a:lnTo>
                    <a:pt x="768" y="17"/>
                  </a:lnTo>
                  <a:lnTo>
                    <a:pt x="774" y="17"/>
                  </a:lnTo>
                  <a:lnTo>
                    <a:pt x="774" y="12"/>
                  </a:lnTo>
                  <a:lnTo>
                    <a:pt x="786" y="12"/>
                  </a:lnTo>
                  <a:lnTo>
                    <a:pt x="786" y="5"/>
                  </a:lnTo>
                  <a:lnTo>
                    <a:pt x="791" y="5"/>
                  </a:lnTo>
                  <a:lnTo>
                    <a:pt x="791" y="0"/>
                  </a:lnTo>
                  <a:lnTo>
                    <a:pt x="808" y="0"/>
                  </a:lnTo>
                  <a:lnTo>
                    <a:pt x="808" y="5"/>
                  </a:lnTo>
                  <a:lnTo>
                    <a:pt x="814" y="5"/>
                  </a:lnTo>
                  <a:lnTo>
                    <a:pt x="814" y="12"/>
                  </a:lnTo>
                  <a:lnTo>
                    <a:pt x="820" y="12"/>
                  </a:lnTo>
                  <a:lnTo>
                    <a:pt x="820" y="22"/>
                  </a:lnTo>
                  <a:lnTo>
                    <a:pt x="848" y="22"/>
                  </a:lnTo>
                  <a:lnTo>
                    <a:pt x="848" y="28"/>
                  </a:lnTo>
                  <a:lnTo>
                    <a:pt x="854" y="28"/>
                  </a:lnTo>
                  <a:lnTo>
                    <a:pt x="854" y="34"/>
                  </a:lnTo>
                  <a:lnTo>
                    <a:pt x="860" y="34"/>
                  </a:lnTo>
                  <a:lnTo>
                    <a:pt x="860" y="40"/>
                  </a:lnTo>
                  <a:lnTo>
                    <a:pt x="865" y="40"/>
                  </a:lnTo>
                  <a:lnTo>
                    <a:pt x="865" y="51"/>
                  </a:lnTo>
                  <a:lnTo>
                    <a:pt x="871" y="51"/>
                  </a:lnTo>
                  <a:lnTo>
                    <a:pt x="871" y="57"/>
                  </a:lnTo>
                  <a:lnTo>
                    <a:pt x="877" y="57"/>
                  </a:lnTo>
                  <a:lnTo>
                    <a:pt x="877" y="69"/>
                  </a:lnTo>
                  <a:lnTo>
                    <a:pt x="882" y="69"/>
                  </a:lnTo>
                  <a:lnTo>
                    <a:pt x="882" y="79"/>
                  </a:lnTo>
                  <a:lnTo>
                    <a:pt x="888" y="79"/>
                  </a:lnTo>
                  <a:lnTo>
                    <a:pt x="888" y="85"/>
                  </a:lnTo>
                  <a:lnTo>
                    <a:pt x="894" y="85"/>
                  </a:lnTo>
                  <a:lnTo>
                    <a:pt x="894" y="91"/>
                  </a:lnTo>
                  <a:lnTo>
                    <a:pt x="900" y="91"/>
                  </a:lnTo>
                  <a:lnTo>
                    <a:pt x="900" y="97"/>
                  </a:lnTo>
                  <a:lnTo>
                    <a:pt x="905" y="97"/>
                  </a:lnTo>
                  <a:lnTo>
                    <a:pt x="905" y="102"/>
                  </a:lnTo>
                  <a:lnTo>
                    <a:pt x="911" y="102"/>
                  </a:lnTo>
                  <a:lnTo>
                    <a:pt x="911" y="114"/>
                  </a:lnTo>
                  <a:lnTo>
                    <a:pt x="917" y="114"/>
                  </a:lnTo>
                  <a:lnTo>
                    <a:pt x="917" y="124"/>
                  </a:lnTo>
                  <a:lnTo>
                    <a:pt x="922" y="124"/>
                  </a:lnTo>
                  <a:lnTo>
                    <a:pt x="922" y="130"/>
                  </a:lnTo>
                  <a:lnTo>
                    <a:pt x="928" y="130"/>
                  </a:lnTo>
                  <a:lnTo>
                    <a:pt x="928" y="142"/>
                  </a:lnTo>
                  <a:lnTo>
                    <a:pt x="934" y="142"/>
                  </a:lnTo>
                  <a:lnTo>
                    <a:pt x="934" y="147"/>
                  </a:lnTo>
                  <a:lnTo>
                    <a:pt x="939" y="147"/>
                  </a:lnTo>
                  <a:lnTo>
                    <a:pt x="939" y="159"/>
                  </a:lnTo>
                  <a:lnTo>
                    <a:pt x="945" y="159"/>
                  </a:lnTo>
                  <a:lnTo>
                    <a:pt x="945" y="164"/>
                  </a:lnTo>
                  <a:lnTo>
                    <a:pt x="951" y="164"/>
                  </a:lnTo>
                  <a:lnTo>
                    <a:pt x="951" y="171"/>
                  </a:lnTo>
                  <a:lnTo>
                    <a:pt x="957" y="171"/>
                  </a:lnTo>
                  <a:lnTo>
                    <a:pt x="957" y="181"/>
                  </a:lnTo>
                  <a:lnTo>
                    <a:pt x="962" y="181"/>
                  </a:lnTo>
                  <a:lnTo>
                    <a:pt x="962" y="193"/>
                  </a:lnTo>
                  <a:lnTo>
                    <a:pt x="968" y="193"/>
                  </a:lnTo>
                  <a:lnTo>
                    <a:pt x="968" y="199"/>
                  </a:lnTo>
                  <a:lnTo>
                    <a:pt x="974" y="199"/>
                  </a:lnTo>
                  <a:lnTo>
                    <a:pt x="974" y="216"/>
                  </a:lnTo>
                  <a:lnTo>
                    <a:pt x="979" y="216"/>
                  </a:lnTo>
                  <a:lnTo>
                    <a:pt x="979" y="228"/>
                  </a:lnTo>
                  <a:lnTo>
                    <a:pt x="984" y="228"/>
                  </a:lnTo>
                  <a:lnTo>
                    <a:pt x="984" y="238"/>
                  </a:lnTo>
                  <a:lnTo>
                    <a:pt x="991" y="238"/>
                  </a:lnTo>
                  <a:lnTo>
                    <a:pt x="991" y="250"/>
                  </a:lnTo>
                  <a:lnTo>
                    <a:pt x="996" y="250"/>
                  </a:lnTo>
                  <a:lnTo>
                    <a:pt x="996" y="261"/>
                  </a:lnTo>
                  <a:lnTo>
                    <a:pt x="1002" y="261"/>
                  </a:lnTo>
                  <a:lnTo>
                    <a:pt x="1002" y="273"/>
                  </a:lnTo>
                  <a:lnTo>
                    <a:pt x="1008" y="273"/>
                  </a:lnTo>
                  <a:lnTo>
                    <a:pt x="1008" y="278"/>
                  </a:lnTo>
                  <a:lnTo>
                    <a:pt x="1014" y="278"/>
                  </a:lnTo>
                  <a:lnTo>
                    <a:pt x="1014" y="290"/>
                  </a:lnTo>
                  <a:lnTo>
                    <a:pt x="1019" y="290"/>
                  </a:lnTo>
                  <a:lnTo>
                    <a:pt x="1019" y="295"/>
                  </a:lnTo>
                  <a:lnTo>
                    <a:pt x="1025" y="295"/>
                  </a:lnTo>
                  <a:lnTo>
                    <a:pt x="1025" y="307"/>
                  </a:lnTo>
                  <a:lnTo>
                    <a:pt x="1031" y="307"/>
                  </a:lnTo>
                  <a:lnTo>
                    <a:pt x="1031" y="313"/>
                  </a:lnTo>
                  <a:lnTo>
                    <a:pt x="1036" y="313"/>
                  </a:lnTo>
                  <a:lnTo>
                    <a:pt x="1036" y="324"/>
                  </a:lnTo>
                  <a:lnTo>
                    <a:pt x="1041" y="324"/>
                  </a:lnTo>
                  <a:lnTo>
                    <a:pt x="1041" y="330"/>
                  </a:lnTo>
                  <a:lnTo>
                    <a:pt x="1048" y="330"/>
                  </a:lnTo>
                  <a:lnTo>
                    <a:pt x="1048" y="347"/>
                  </a:lnTo>
                  <a:lnTo>
                    <a:pt x="1053" y="347"/>
                  </a:lnTo>
                  <a:lnTo>
                    <a:pt x="1053" y="352"/>
                  </a:lnTo>
                  <a:lnTo>
                    <a:pt x="1059" y="352"/>
                  </a:lnTo>
                  <a:lnTo>
                    <a:pt x="1059" y="364"/>
                  </a:lnTo>
                  <a:lnTo>
                    <a:pt x="1065" y="364"/>
                  </a:lnTo>
                  <a:lnTo>
                    <a:pt x="1065" y="375"/>
                  </a:lnTo>
                  <a:lnTo>
                    <a:pt x="1070" y="375"/>
                  </a:lnTo>
                  <a:lnTo>
                    <a:pt x="1070" y="392"/>
                  </a:lnTo>
                  <a:lnTo>
                    <a:pt x="1076" y="392"/>
                  </a:lnTo>
                  <a:lnTo>
                    <a:pt x="1076" y="398"/>
                  </a:lnTo>
                  <a:lnTo>
                    <a:pt x="1082" y="398"/>
                  </a:lnTo>
                  <a:lnTo>
                    <a:pt x="1082" y="404"/>
                  </a:lnTo>
                  <a:lnTo>
                    <a:pt x="1088" y="404"/>
                  </a:lnTo>
                  <a:lnTo>
                    <a:pt x="1088" y="409"/>
                  </a:lnTo>
                  <a:lnTo>
                    <a:pt x="1093" y="409"/>
                  </a:lnTo>
                  <a:lnTo>
                    <a:pt x="1093" y="421"/>
                  </a:lnTo>
                  <a:lnTo>
                    <a:pt x="1098" y="421"/>
                  </a:lnTo>
                  <a:lnTo>
                    <a:pt x="1098" y="426"/>
                  </a:lnTo>
                  <a:lnTo>
                    <a:pt x="1105" y="426"/>
                  </a:lnTo>
                  <a:lnTo>
                    <a:pt x="1105" y="438"/>
                  </a:lnTo>
                  <a:lnTo>
                    <a:pt x="1110" y="438"/>
                  </a:lnTo>
                  <a:lnTo>
                    <a:pt x="1110" y="449"/>
                  </a:lnTo>
                  <a:lnTo>
                    <a:pt x="1116" y="449"/>
                  </a:lnTo>
                  <a:lnTo>
                    <a:pt x="1116" y="455"/>
                  </a:lnTo>
                  <a:lnTo>
                    <a:pt x="1122" y="455"/>
                  </a:lnTo>
                  <a:lnTo>
                    <a:pt x="1122" y="461"/>
                  </a:lnTo>
                  <a:lnTo>
                    <a:pt x="1127" y="461"/>
                  </a:lnTo>
                  <a:lnTo>
                    <a:pt x="1127" y="473"/>
                  </a:lnTo>
                  <a:lnTo>
                    <a:pt x="1133" y="473"/>
                  </a:lnTo>
                  <a:lnTo>
                    <a:pt x="1133" y="489"/>
                  </a:lnTo>
                  <a:lnTo>
                    <a:pt x="1139" y="489"/>
                  </a:lnTo>
                  <a:lnTo>
                    <a:pt x="1139" y="495"/>
                  </a:lnTo>
                  <a:lnTo>
                    <a:pt x="1145" y="495"/>
                  </a:lnTo>
                  <a:lnTo>
                    <a:pt x="1145" y="506"/>
                  </a:lnTo>
                  <a:lnTo>
                    <a:pt x="1150" y="506"/>
                  </a:lnTo>
                  <a:lnTo>
                    <a:pt x="1150" y="518"/>
                  </a:lnTo>
                  <a:lnTo>
                    <a:pt x="1155" y="518"/>
                  </a:lnTo>
                  <a:lnTo>
                    <a:pt x="1155" y="528"/>
                  </a:lnTo>
                  <a:lnTo>
                    <a:pt x="1161" y="528"/>
                  </a:lnTo>
                  <a:lnTo>
                    <a:pt x="1161" y="540"/>
                  </a:lnTo>
                  <a:lnTo>
                    <a:pt x="1167" y="540"/>
                  </a:lnTo>
                  <a:lnTo>
                    <a:pt x="1167" y="551"/>
                  </a:lnTo>
                  <a:lnTo>
                    <a:pt x="1173" y="551"/>
                  </a:lnTo>
                  <a:lnTo>
                    <a:pt x="1173" y="557"/>
                  </a:lnTo>
                  <a:lnTo>
                    <a:pt x="1178" y="557"/>
                  </a:lnTo>
                  <a:lnTo>
                    <a:pt x="1178" y="563"/>
                  </a:lnTo>
                  <a:lnTo>
                    <a:pt x="1184" y="563"/>
                  </a:lnTo>
                  <a:lnTo>
                    <a:pt x="1184" y="575"/>
                  </a:lnTo>
                  <a:lnTo>
                    <a:pt x="1190" y="575"/>
                  </a:lnTo>
                  <a:lnTo>
                    <a:pt x="1190" y="585"/>
                  </a:lnTo>
                  <a:lnTo>
                    <a:pt x="1195" y="585"/>
                  </a:lnTo>
                  <a:lnTo>
                    <a:pt x="1195" y="597"/>
                  </a:lnTo>
                  <a:lnTo>
                    <a:pt x="1202" y="597"/>
                  </a:lnTo>
                  <a:lnTo>
                    <a:pt x="1202" y="608"/>
                  </a:lnTo>
                  <a:lnTo>
                    <a:pt x="1207" y="608"/>
                  </a:lnTo>
                  <a:lnTo>
                    <a:pt x="1207" y="625"/>
                  </a:lnTo>
                  <a:lnTo>
                    <a:pt x="1212" y="625"/>
                  </a:lnTo>
                  <a:lnTo>
                    <a:pt x="1212" y="637"/>
                  </a:lnTo>
                  <a:lnTo>
                    <a:pt x="1218" y="637"/>
                  </a:lnTo>
                  <a:lnTo>
                    <a:pt x="1218" y="649"/>
                  </a:lnTo>
                  <a:lnTo>
                    <a:pt x="1224" y="649"/>
                  </a:lnTo>
                  <a:lnTo>
                    <a:pt x="1224" y="660"/>
                  </a:lnTo>
                  <a:lnTo>
                    <a:pt x="1230" y="660"/>
                  </a:lnTo>
                  <a:lnTo>
                    <a:pt x="1230" y="665"/>
                  </a:lnTo>
                  <a:lnTo>
                    <a:pt x="1235" y="665"/>
                  </a:lnTo>
                  <a:lnTo>
                    <a:pt x="1235" y="677"/>
                  </a:lnTo>
                  <a:lnTo>
                    <a:pt x="1241" y="677"/>
                  </a:lnTo>
                  <a:lnTo>
                    <a:pt x="1241" y="689"/>
                  </a:lnTo>
                  <a:lnTo>
                    <a:pt x="1247" y="689"/>
                  </a:lnTo>
                  <a:lnTo>
                    <a:pt x="1247" y="699"/>
                  </a:lnTo>
                  <a:lnTo>
                    <a:pt x="1252" y="699"/>
                  </a:lnTo>
                  <a:lnTo>
                    <a:pt x="1252" y="711"/>
                  </a:lnTo>
                  <a:lnTo>
                    <a:pt x="1259" y="711"/>
                  </a:lnTo>
                  <a:lnTo>
                    <a:pt x="1259" y="717"/>
                  </a:lnTo>
                  <a:lnTo>
                    <a:pt x="1264" y="717"/>
                  </a:lnTo>
                  <a:lnTo>
                    <a:pt x="1264" y="728"/>
                  </a:lnTo>
                  <a:lnTo>
                    <a:pt x="1269" y="728"/>
                  </a:lnTo>
                  <a:lnTo>
                    <a:pt x="1269" y="746"/>
                  </a:lnTo>
                  <a:lnTo>
                    <a:pt x="1275" y="746"/>
                  </a:lnTo>
                  <a:lnTo>
                    <a:pt x="1275" y="763"/>
                  </a:lnTo>
                  <a:lnTo>
                    <a:pt x="1281" y="763"/>
                  </a:lnTo>
                  <a:lnTo>
                    <a:pt x="1281" y="773"/>
                  </a:lnTo>
                  <a:lnTo>
                    <a:pt x="1287" y="773"/>
                  </a:lnTo>
                  <a:lnTo>
                    <a:pt x="1287" y="785"/>
                  </a:lnTo>
                  <a:lnTo>
                    <a:pt x="1292" y="785"/>
                  </a:lnTo>
                  <a:lnTo>
                    <a:pt x="1292" y="796"/>
                  </a:lnTo>
                  <a:lnTo>
                    <a:pt x="1298" y="796"/>
                  </a:lnTo>
                  <a:lnTo>
                    <a:pt x="1298" y="808"/>
                  </a:lnTo>
                  <a:lnTo>
                    <a:pt x="1304" y="808"/>
                  </a:lnTo>
                  <a:lnTo>
                    <a:pt x="1304" y="820"/>
                  </a:lnTo>
                  <a:lnTo>
                    <a:pt x="1309" y="820"/>
                  </a:lnTo>
                  <a:lnTo>
                    <a:pt x="1309" y="836"/>
                  </a:lnTo>
                  <a:lnTo>
                    <a:pt x="1316" y="836"/>
                  </a:lnTo>
                  <a:lnTo>
                    <a:pt x="1316" y="848"/>
                  </a:lnTo>
                  <a:lnTo>
                    <a:pt x="1321" y="848"/>
                  </a:lnTo>
                  <a:lnTo>
                    <a:pt x="1321" y="853"/>
                  </a:lnTo>
                  <a:lnTo>
                    <a:pt x="1326" y="853"/>
                  </a:lnTo>
                  <a:lnTo>
                    <a:pt x="1326" y="865"/>
                  </a:lnTo>
                  <a:lnTo>
                    <a:pt x="1332" y="865"/>
                  </a:lnTo>
                  <a:lnTo>
                    <a:pt x="1332" y="870"/>
                  </a:lnTo>
                  <a:lnTo>
                    <a:pt x="1338" y="870"/>
                  </a:lnTo>
                  <a:lnTo>
                    <a:pt x="1338" y="882"/>
                  </a:lnTo>
                  <a:lnTo>
                    <a:pt x="1343" y="882"/>
                  </a:lnTo>
                  <a:lnTo>
                    <a:pt x="1343" y="893"/>
                  </a:lnTo>
                  <a:lnTo>
                    <a:pt x="1349" y="893"/>
                  </a:lnTo>
                  <a:lnTo>
                    <a:pt x="1349" y="905"/>
                  </a:lnTo>
                  <a:lnTo>
                    <a:pt x="1355" y="905"/>
                  </a:lnTo>
                  <a:lnTo>
                    <a:pt x="1355" y="910"/>
                  </a:lnTo>
                  <a:lnTo>
                    <a:pt x="1361" y="910"/>
                  </a:lnTo>
                  <a:lnTo>
                    <a:pt x="1361" y="922"/>
                  </a:lnTo>
                  <a:lnTo>
                    <a:pt x="1366" y="922"/>
                  </a:lnTo>
                  <a:lnTo>
                    <a:pt x="1366" y="939"/>
                  </a:lnTo>
                  <a:lnTo>
                    <a:pt x="1373" y="939"/>
                  </a:lnTo>
                  <a:lnTo>
                    <a:pt x="1373" y="962"/>
                  </a:lnTo>
                  <a:lnTo>
                    <a:pt x="1378" y="962"/>
                  </a:lnTo>
                  <a:lnTo>
                    <a:pt x="1378" y="972"/>
                  </a:lnTo>
                  <a:lnTo>
                    <a:pt x="1383" y="972"/>
                  </a:lnTo>
                  <a:lnTo>
                    <a:pt x="1383" y="984"/>
                  </a:lnTo>
                  <a:lnTo>
                    <a:pt x="1389" y="984"/>
                  </a:lnTo>
                  <a:lnTo>
                    <a:pt x="1389" y="989"/>
                  </a:lnTo>
                  <a:lnTo>
                    <a:pt x="1395" y="989"/>
                  </a:lnTo>
                  <a:lnTo>
                    <a:pt x="1395" y="1001"/>
                  </a:lnTo>
                  <a:lnTo>
                    <a:pt x="1400" y="1001"/>
                  </a:lnTo>
                  <a:lnTo>
                    <a:pt x="1400" y="1012"/>
                  </a:lnTo>
                  <a:lnTo>
                    <a:pt x="1406" y="1012"/>
                  </a:lnTo>
                  <a:lnTo>
                    <a:pt x="1406" y="1024"/>
                  </a:lnTo>
                  <a:lnTo>
                    <a:pt x="1412" y="1024"/>
                  </a:lnTo>
                  <a:lnTo>
                    <a:pt x="1412" y="1029"/>
                  </a:lnTo>
                  <a:lnTo>
                    <a:pt x="1418" y="1029"/>
                  </a:lnTo>
                  <a:lnTo>
                    <a:pt x="1418" y="1041"/>
                  </a:lnTo>
                  <a:lnTo>
                    <a:pt x="1423" y="1041"/>
                  </a:lnTo>
                  <a:lnTo>
                    <a:pt x="1423" y="1053"/>
                  </a:lnTo>
                  <a:lnTo>
                    <a:pt x="1429" y="1053"/>
                  </a:lnTo>
                  <a:lnTo>
                    <a:pt x="1429" y="1064"/>
                  </a:lnTo>
                  <a:lnTo>
                    <a:pt x="1435" y="1064"/>
                  </a:lnTo>
                  <a:lnTo>
                    <a:pt x="1435" y="1075"/>
                  </a:lnTo>
                  <a:lnTo>
                    <a:pt x="1440" y="1075"/>
                  </a:lnTo>
                  <a:lnTo>
                    <a:pt x="1440" y="1086"/>
                  </a:lnTo>
                  <a:lnTo>
                    <a:pt x="1446" y="1086"/>
                  </a:lnTo>
                  <a:lnTo>
                    <a:pt x="1446" y="1103"/>
                  </a:lnTo>
                  <a:lnTo>
                    <a:pt x="1452" y="1103"/>
                  </a:lnTo>
                  <a:lnTo>
                    <a:pt x="1452" y="1115"/>
                  </a:lnTo>
                  <a:lnTo>
                    <a:pt x="1457" y="1115"/>
                  </a:lnTo>
                  <a:lnTo>
                    <a:pt x="1457" y="1126"/>
                  </a:lnTo>
                  <a:lnTo>
                    <a:pt x="1463" y="1126"/>
                  </a:lnTo>
                  <a:lnTo>
                    <a:pt x="1463" y="1138"/>
                  </a:lnTo>
                  <a:lnTo>
                    <a:pt x="1469" y="1138"/>
                  </a:lnTo>
                  <a:lnTo>
                    <a:pt x="1469" y="1155"/>
                  </a:lnTo>
                  <a:lnTo>
                    <a:pt x="1475" y="1155"/>
                  </a:lnTo>
                  <a:lnTo>
                    <a:pt x="1475" y="1167"/>
                  </a:lnTo>
                  <a:lnTo>
                    <a:pt x="1480" y="1167"/>
                  </a:lnTo>
                  <a:lnTo>
                    <a:pt x="1480" y="1177"/>
                  </a:lnTo>
                  <a:lnTo>
                    <a:pt x="1486" y="1177"/>
                  </a:lnTo>
                  <a:lnTo>
                    <a:pt x="1486" y="1189"/>
                  </a:lnTo>
                  <a:lnTo>
                    <a:pt x="1492" y="1189"/>
                  </a:lnTo>
                  <a:lnTo>
                    <a:pt x="1492" y="1195"/>
                  </a:lnTo>
                  <a:lnTo>
                    <a:pt x="1497" y="1195"/>
                  </a:lnTo>
                  <a:lnTo>
                    <a:pt x="1497" y="1206"/>
                  </a:lnTo>
                  <a:lnTo>
                    <a:pt x="1504" y="1206"/>
                  </a:lnTo>
                  <a:lnTo>
                    <a:pt x="1504" y="1217"/>
                  </a:lnTo>
                  <a:lnTo>
                    <a:pt x="1509" y="1217"/>
                  </a:lnTo>
                  <a:lnTo>
                    <a:pt x="1509" y="1224"/>
                  </a:lnTo>
                  <a:lnTo>
                    <a:pt x="1514" y="1224"/>
                  </a:lnTo>
                  <a:lnTo>
                    <a:pt x="1514" y="1234"/>
                  </a:lnTo>
                  <a:lnTo>
                    <a:pt x="1520" y="1234"/>
                  </a:lnTo>
                  <a:lnTo>
                    <a:pt x="1520" y="1246"/>
                  </a:lnTo>
                  <a:lnTo>
                    <a:pt x="1526" y="1246"/>
                  </a:lnTo>
                  <a:lnTo>
                    <a:pt x="1526" y="1257"/>
                  </a:lnTo>
                  <a:lnTo>
                    <a:pt x="1532" y="1257"/>
                  </a:lnTo>
                  <a:lnTo>
                    <a:pt x="1532" y="1269"/>
                  </a:lnTo>
                  <a:lnTo>
                    <a:pt x="1537" y="1269"/>
                  </a:lnTo>
                  <a:lnTo>
                    <a:pt x="1537" y="1286"/>
                  </a:lnTo>
                  <a:lnTo>
                    <a:pt x="1543" y="1286"/>
                  </a:lnTo>
                  <a:lnTo>
                    <a:pt x="1543" y="1298"/>
                  </a:lnTo>
                  <a:lnTo>
                    <a:pt x="1549" y="1298"/>
                  </a:lnTo>
                  <a:lnTo>
                    <a:pt x="1549" y="1309"/>
                  </a:lnTo>
                  <a:lnTo>
                    <a:pt x="1554" y="1309"/>
                  </a:lnTo>
                  <a:lnTo>
                    <a:pt x="1554" y="1319"/>
                  </a:lnTo>
                  <a:lnTo>
                    <a:pt x="1560" y="1319"/>
                  </a:lnTo>
                  <a:lnTo>
                    <a:pt x="1560" y="1343"/>
                  </a:lnTo>
                  <a:lnTo>
                    <a:pt x="1565" y="1343"/>
                  </a:lnTo>
                  <a:lnTo>
                    <a:pt x="1565" y="1354"/>
                  </a:lnTo>
                  <a:lnTo>
                    <a:pt x="1571" y="1354"/>
                  </a:lnTo>
                  <a:lnTo>
                    <a:pt x="1571" y="1366"/>
                  </a:lnTo>
                  <a:lnTo>
                    <a:pt x="1577" y="1366"/>
                  </a:lnTo>
                  <a:lnTo>
                    <a:pt x="1577" y="1376"/>
                  </a:lnTo>
                  <a:lnTo>
                    <a:pt x="1582" y="1376"/>
                  </a:lnTo>
                  <a:lnTo>
                    <a:pt x="1582" y="1393"/>
                  </a:lnTo>
                  <a:lnTo>
                    <a:pt x="1589" y="1393"/>
                  </a:lnTo>
                  <a:lnTo>
                    <a:pt x="1589" y="1405"/>
                  </a:lnTo>
                  <a:lnTo>
                    <a:pt x="1594" y="1405"/>
                  </a:lnTo>
                  <a:lnTo>
                    <a:pt x="1594" y="1416"/>
                  </a:lnTo>
                  <a:lnTo>
                    <a:pt x="1599" y="1416"/>
                  </a:lnTo>
                  <a:lnTo>
                    <a:pt x="1599" y="1428"/>
                  </a:lnTo>
                  <a:lnTo>
                    <a:pt x="1606" y="1428"/>
                  </a:lnTo>
                  <a:lnTo>
                    <a:pt x="1606" y="1440"/>
                  </a:lnTo>
                  <a:lnTo>
                    <a:pt x="1611" y="1440"/>
                  </a:lnTo>
                  <a:lnTo>
                    <a:pt x="1611" y="1450"/>
                  </a:lnTo>
                  <a:lnTo>
                    <a:pt x="1616" y="1450"/>
                  </a:lnTo>
                  <a:lnTo>
                    <a:pt x="1616" y="1457"/>
                  </a:lnTo>
                  <a:lnTo>
                    <a:pt x="1622" y="1457"/>
                  </a:lnTo>
                  <a:lnTo>
                    <a:pt x="1622" y="1468"/>
                  </a:lnTo>
                  <a:lnTo>
                    <a:pt x="1628" y="1468"/>
                  </a:lnTo>
                  <a:lnTo>
                    <a:pt x="1628" y="1479"/>
                  </a:lnTo>
                  <a:lnTo>
                    <a:pt x="1634" y="1479"/>
                  </a:lnTo>
                  <a:lnTo>
                    <a:pt x="1634" y="1490"/>
                  </a:lnTo>
                  <a:lnTo>
                    <a:pt x="1639" y="1490"/>
                  </a:lnTo>
                  <a:lnTo>
                    <a:pt x="1639" y="1497"/>
                  </a:lnTo>
                  <a:lnTo>
                    <a:pt x="1646" y="1497"/>
                  </a:lnTo>
                  <a:lnTo>
                    <a:pt x="1646" y="1514"/>
                  </a:lnTo>
                  <a:lnTo>
                    <a:pt x="1651" y="1514"/>
                  </a:lnTo>
                  <a:lnTo>
                    <a:pt x="1651" y="1530"/>
                  </a:lnTo>
                  <a:lnTo>
                    <a:pt x="1656" y="1530"/>
                  </a:lnTo>
                  <a:lnTo>
                    <a:pt x="1656" y="1542"/>
                  </a:lnTo>
                  <a:lnTo>
                    <a:pt x="1663" y="1542"/>
                  </a:lnTo>
                  <a:lnTo>
                    <a:pt x="1663" y="1559"/>
                  </a:lnTo>
                  <a:lnTo>
                    <a:pt x="1668" y="1559"/>
                  </a:lnTo>
                  <a:lnTo>
                    <a:pt x="1668" y="1576"/>
                  </a:lnTo>
                  <a:lnTo>
                    <a:pt x="1673" y="1576"/>
                  </a:lnTo>
                  <a:lnTo>
                    <a:pt x="1673" y="1588"/>
                  </a:lnTo>
                  <a:lnTo>
                    <a:pt x="1679" y="1588"/>
                  </a:lnTo>
                  <a:lnTo>
                    <a:pt x="1679" y="1599"/>
                  </a:lnTo>
                  <a:lnTo>
                    <a:pt x="1685" y="1599"/>
                  </a:lnTo>
                  <a:lnTo>
                    <a:pt x="1685" y="1616"/>
                  </a:lnTo>
                  <a:lnTo>
                    <a:pt x="1691" y="1616"/>
                  </a:lnTo>
                  <a:lnTo>
                    <a:pt x="1691" y="1638"/>
                  </a:lnTo>
                  <a:lnTo>
                    <a:pt x="1696" y="1638"/>
                  </a:lnTo>
                  <a:lnTo>
                    <a:pt x="1696" y="1650"/>
                  </a:lnTo>
                  <a:lnTo>
                    <a:pt x="1702" y="1650"/>
                  </a:lnTo>
                  <a:lnTo>
                    <a:pt x="1702" y="1667"/>
                  </a:lnTo>
                  <a:lnTo>
                    <a:pt x="1708" y="1667"/>
                  </a:lnTo>
                  <a:lnTo>
                    <a:pt x="1708" y="1678"/>
                  </a:lnTo>
                  <a:lnTo>
                    <a:pt x="1713" y="1678"/>
                  </a:lnTo>
                  <a:lnTo>
                    <a:pt x="1713" y="1702"/>
                  </a:lnTo>
                  <a:lnTo>
                    <a:pt x="1708" y="1702"/>
                  </a:lnTo>
                  <a:lnTo>
                    <a:pt x="1708" y="1707"/>
                  </a:lnTo>
                  <a:lnTo>
                    <a:pt x="1663" y="1707"/>
                  </a:lnTo>
                  <a:lnTo>
                    <a:pt x="1663" y="1713"/>
                  </a:lnTo>
                  <a:lnTo>
                    <a:pt x="1646" y="1713"/>
                  </a:lnTo>
                  <a:lnTo>
                    <a:pt x="1646" y="1718"/>
                  </a:lnTo>
                  <a:lnTo>
                    <a:pt x="1594" y="1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4601160" y="3112560"/>
              <a:ext cx="6840" cy="6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5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574880" y="3107160"/>
              <a:ext cx="13680" cy="241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12" y="40"/>
                  </a:moveTo>
                  <a:lnTo>
                    <a:pt x="12" y="35"/>
                  </a:lnTo>
                  <a:lnTo>
                    <a:pt x="5" y="35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17" y="7"/>
                  </a:lnTo>
                  <a:lnTo>
                    <a:pt x="17" y="23"/>
                  </a:lnTo>
                  <a:lnTo>
                    <a:pt x="22" y="23"/>
                  </a:lnTo>
                  <a:lnTo>
                    <a:pt x="22" y="40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4563000" y="3119400"/>
              <a:ext cx="6840" cy="6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547160" y="3126600"/>
              <a:ext cx="864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4538880" y="3127320"/>
              <a:ext cx="864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4532040" y="3134160"/>
              <a:ext cx="6840" cy="86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6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3138840" y="3404880"/>
              <a:ext cx="661680" cy="1477440"/>
            </a:xfrm>
            <a:custGeom>
              <a:avLst/>
              <a:gdLst/>
              <a:ahLst/>
              <a:rect l="l" t="t" r="r" b="b"/>
              <a:pathLst>
                <a:path w="1202" h="2691">
                  <a:moveTo>
                    <a:pt x="342" y="2691"/>
                  </a:moveTo>
                  <a:lnTo>
                    <a:pt x="342" y="2669"/>
                  </a:lnTo>
                  <a:lnTo>
                    <a:pt x="347" y="2669"/>
                  </a:lnTo>
                  <a:lnTo>
                    <a:pt x="347" y="2658"/>
                  </a:lnTo>
                  <a:lnTo>
                    <a:pt x="353" y="2658"/>
                  </a:lnTo>
                  <a:lnTo>
                    <a:pt x="353" y="2652"/>
                  </a:lnTo>
                  <a:lnTo>
                    <a:pt x="359" y="2652"/>
                  </a:lnTo>
                  <a:lnTo>
                    <a:pt x="359" y="2624"/>
                  </a:lnTo>
                  <a:lnTo>
                    <a:pt x="342" y="2624"/>
                  </a:lnTo>
                  <a:lnTo>
                    <a:pt x="342" y="2629"/>
                  </a:lnTo>
                  <a:lnTo>
                    <a:pt x="330" y="2629"/>
                  </a:lnTo>
                  <a:lnTo>
                    <a:pt x="330" y="2636"/>
                  </a:lnTo>
                  <a:lnTo>
                    <a:pt x="297" y="2636"/>
                  </a:lnTo>
                  <a:lnTo>
                    <a:pt x="297" y="2624"/>
                  </a:lnTo>
                  <a:lnTo>
                    <a:pt x="302" y="2624"/>
                  </a:lnTo>
                  <a:lnTo>
                    <a:pt x="302" y="2618"/>
                  </a:lnTo>
                  <a:lnTo>
                    <a:pt x="307" y="2618"/>
                  </a:lnTo>
                  <a:lnTo>
                    <a:pt x="307" y="2607"/>
                  </a:lnTo>
                  <a:lnTo>
                    <a:pt x="314" y="2607"/>
                  </a:lnTo>
                  <a:lnTo>
                    <a:pt x="314" y="2601"/>
                  </a:lnTo>
                  <a:lnTo>
                    <a:pt x="319" y="2601"/>
                  </a:lnTo>
                  <a:lnTo>
                    <a:pt x="319" y="2595"/>
                  </a:lnTo>
                  <a:lnTo>
                    <a:pt x="324" y="2595"/>
                  </a:lnTo>
                  <a:lnTo>
                    <a:pt x="324" y="2589"/>
                  </a:lnTo>
                  <a:lnTo>
                    <a:pt x="330" y="2589"/>
                  </a:lnTo>
                  <a:lnTo>
                    <a:pt x="330" y="2584"/>
                  </a:lnTo>
                  <a:lnTo>
                    <a:pt x="336" y="2584"/>
                  </a:lnTo>
                  <a:lnTo>
                    <a:pt x="336" y="2579"/>
                  </a:lnTo>
                  <a:lnTo>
                    <a:pt x="347" y="2579"/>
                  </a:lnTo>
                  <a:lnTo>
                    <a:pt x="347" y="2572"/>
                  </a:lnTo>
                  <a:lnTo>
                    <a:pt x="353" y="2572"/>
                  </a:lnTo>
                  <a:lnTo>
                    <a:pt x="353" y="2561"/>
                  </a:lnTo>
                  <a:lnTo>
                    <a:pt x="359" y="2561"/>
                  </a:lnTo>
                  <a:lnTo>
                    <a:pt x="359" y="2555"/>
                  </a:lnTo>
                  <a:lnTo>
                    <a:pt x="364" y="2555"/>
                  </a:lnTo>
                  <a:lnTo>
                    <a:pt x="364" y="2544"/>
                  </a:lnTo>
                  <a:lnTo>
                    <a:pt x="371" y="2544"/>
                  </a:lnTo>
                  <a:lnTo>
                    <a:pt x="371" y="2532"/>
                  </a:lnTo>
                  <a:lnTo>
                    <a:pt x="376" y="2532"/>
                  </a:lnTo>
                  <a:lnTo>
                    <a:pt x="376" y="2522"/>
                  </a:lnTo>
                  <a:lnTo>
                    <a:pt x="381" y="2522"/>
                  </a:lnTo>
                  <a:lnTo>
                    <a:pt x="381" y="2515"/>
                  </a:lnTo>
                  <a:lnTo>
                    <a:pt x="387" y="2515"/>
                  </a:lnTo>
                  <a:lnTo>
                    <a:pt x="387" y="2510"/>
                  </a:lnTo>
                  <a:lnTo>
                    <a:pt x="393" y="2510"/>
                  </a:lnTo>
                  <a:lnTo>
                    <a:pt x="393" y="2498"/>
                  </a:lnTo>
                  <a:lnTo>
                    <a:pt x="399" y="2498"/>
                  </a:lnTo>
                  <a:lnTo>
                    <a:pt x="399" y="2493"/>
                  </a:lnTo>
                  <a:lnTo>
                    <a:pt x="404" y="2493"/>
                  </a:lnTo>
                  <a:lnTo>
                    <a:pt x="404" y="2481"/>
                  </a:lnTo>
                  <a:lnTo>
                    <a:pt x="410" y="2481"/>
                  </a:lnTo>
                  <a:lnTo>
                    <a:pt x="410" y="2470"/>
                  </a:lnTo>
                  <a:lnTo>
                    <a:pt x="416" y="2470"/>
                  </a:lnTo>
                  <a:lnTo>
                    <a:pt x="416" y="2465"/>
                  </a:lnTo>
                  <a:lnTo>
                    <a:pt x="421" y="2465"/>
                  </a:lnTo>
                  <a:lnTo>
                    <a:pt x="421" y="2458"/>
                  </a:lnTo>
                  <a:lnTo>
                    <a:pt x="428" y="2458"/>
                  </a:lnTo>
                  <a:lnTo>
                    <a:pt x="428" y="2448"/>
                  </a:lnTo>
                  <a:lnTo>
                    <a:pt x="433" y="2448"/>
                  </a:lnTo>
                  <a:lnTo>
                    <a:pt x="433" y="2441"/>
                  </a:lnTo>
                  <a:lnTo>
                    <a:pt x="438" y="2441"/>
                  </a:lnTo>
                  <a:lnTo>
                    <a:pt x="438" y="2436"/>
                  </a:lnTo>
                  <a:lnTo>
                    <a:pt x="444" y="2436"/>
                  </a:lnTo>
                  <a:lnTo>
                    <a:pt x="444" y="2424"/>
                  </a:lnTo>
                  <a:lnTo>
                    <a:pt x="449" y="2424"/>
                  </a:lnTo>
                  <a:lnTo>
                    <a:pt x="449" y="2419"/>
                  </a:lnTo>
                  <a:lnTo>
                    <a:pt x="456" y="2419"/>
                  </a:lnTo>
                  <a:lnTo>
                    <a:pt x="456" y="2408"/>
                  </a:lnTo>
                  <a:lnTo>
                    <a:pt x="461" y="2408"/>
                  </a:lnTo>
                  <a:lnTo>
                    <a:pt x="461" y="2396"/>
                  </a:lnTo>
                  <a:lnTo>
                    <a:pt x="466" y="2396"/>
                  </a:lnTo>
                  <a:lnTo>
                    <a:pt x="466" y="2379"/>
                  </a:lnTo>
                  <a:lnTo>
                    <a:pt x="473" y="2379"/>
                  </a:lnTo>
                  <a:lnTo>
                    <a:pt x="473" y="2367"/>
                  </a:lnTo>
                  <a:lnTo>
                    <a:pt x="478" y="2367"/>
                  </a:lnTo>
                  <a:lnTo>
                    <a:pt x="478" y="2362"/>
                  </a:lnTo>
                  <a:lnTo>
                    <a:pt x="484" y="2362"/>
                  </a:lnTo>
                  <a:lnTo>
                    <a:pt x="484" y="2356"/>
                  </a:lnTo>
                  <a:lnTo>
                    <a:pt x="490" y="2356"/>
                  </a:lnTo>
                  <a:lnTo>
                    <a:pt x="490" y="2344"/>
                  </a:lnTo>
                  <a:lnTo>
                    <a:pt x="495" y="2344"/>
                  </a:lnTo>
                  <a:lnTo>
                    <a:pt x="495" y="2339"/>
                  </a:lnTo>
                  <a:lnTo>
                    <a:pt x="501" y="2339"/>
                  </a:lnTo>
                  <a:lnTo>
                    <a:pt x="501" y="2334"/>
                  </a:lnTo>
                  <a:lnTo>
                    <a:pt x="506" y="2334"/>
                  </a:lnTo>
                  <a:lnTo>
                    <a:pt x="506" y="2322"/>
                  </a:lnTo>
                  <a:lnTo>
                    <a:pt x="513" y="2322"/>
                  </a:lnTo>
                  <a:lnTo>
                    <a:pt x="513" y="2316"/>
                  </a:lnTo>
                  <a:lnTo>
                    <a:pt x="518" y="2316"/>
                  </a:lnTo>
                  <a:lnTo>
                    <a:pt x="518" y="2305"/>
                  </a:lnTo>
                  <a:lnTo>
                    <a:pt x="523" y="2305"/>
                  </a:lnTo>
                  <a:lnTo>
                    <a:pt x="523" y="2299"/>
                  </a:lnTo>
                  <a:lnTo>
                    <a:pt x="530" y="2299"/>
                  </a:lnTo>
                  <a:lnTo>
                    <a:pt x="530" y="2294"/>
                  </a:lnTo>
                  <a:lnTo>
                    <a:pt x="535" y="2294"/>
                  </a:lnTo>
                  <a:lnTo>
                    <a:pt x="535" y="2287"/>
                  </a:lnTo>
                  <a:lnTo>
                    <a:pt x="547" y="2287"/>
                  </a:lnTo>
                  <a:lnTo>
                    <a:pt x="547" y="2282"/>
                  </a:lnTo>
                  <a:lnTo>
                    <a:pt x="552" y="2282"/>
                  </a:lnTo>
                  <a:lnTo>
                    <a:pt x="552" y="2265"/>
                  </a:lnTo>
                  <a:lnTo>
                    <a:pt x="558" y="2265"/>
                  </a:lnTo>
                  <a:lnTo>
                    <a:pt x="558" y="2254"/>
                  </a:lnTo>
                  <a:lnTo>
                    <a:pt x="563" y="2254"/>
                  </a:lnTo>
                  <a:lnTo>
                    <a:pt x="563" y="2242"/>
                  </a:lnTo>
                  <a:lnTo>
                    <a:pt x="570" y="2242"/>
                  </a:lnTo>
                  <a:lnTo>
                    <a:pt x="570" y="2237"/>
                  </a:lnTo>
                  <a:lnTo>
                    <a:pt x="575" y="2237"/>
                  </a:lnTo>
                  <a:lnTo>
                    <a:pt x="575" y="2220"/>
                  </a:lnTo>
                  <a:lnTo>
                    <a:pt x="587" y="2220"/>
                  </a:lnTo>
                  <a:lnTo>
                    <a:pt x="587" y="2214"/>
                  </a:lnTo>
                  <a:lnTo>
                    <a:pt x="592" y="2214"/>
                  </a:lnTo>
                  <a:lnTo>
                    <a:pt x="592" y="2208"/>
                  </a:lnTo>
                  <a:lnTo>
                    <a:pt x="597" y="2208"/>
                  </a:lnTo>
                  <a:lnTo>
                    <a:pt x="597" y="2203"/>
                  </a:lnTo>
                  <a:lnTo>
                    <a:pt x="604" y="2203"/>
                  </a:lnTo>
                  <a:lnTo>
                    <a:pt x="604" y="2191"/>
                  </a:lnTo>
                  <a:lnTo>
                    <a:pt x="609" y="2191"/>
                  </a:lnTo>
                  <a:lnTo>
                    <a:pt x="609" y="2185"/>
                  </a:lnTo>
                  <a:lnTo>
                    <a:pt x="615" y="2185"/>
                  </a:lnTo>
                  <a:lnTo>
                    <a:pt x="615" y="2175"/>
                  </a:lnTo>
                  <a:lnTo>
                    <a:pt x="620" y="2175"/>
                  </a:lnTo>
                  <a:lnTo>
                    <a:pt x="620" y="2157"/>
                  </a:lnTo>
                  <a:lnTo>
                    <a:pt x="627" y="2157"/>
                  </a:lnTo>
                  <a:lnTo>
                    <a:pt x="627" y="2151"/>
                  </a:lnTo>
                  <a:lnTo>
                    <a:pt x="632" y="2151"/>
                  </a:lnTo>
                  <a:lnTo>
                    <a:pt x="632" y="2140"/>
                  </a:lnTo>
                  <a:lnTo>
                    <a:pt x="637" y="2140"/>
                  </a:lnTo>
                  <a:lnTo>
                    <a:pt x="637" y="2134"/>
                  </a:lnTo>
                  <a:lnTo>
                    <a:pt x="644" y="2134"/>
                  </a:lnTo>
                  <a:lnTo>
                    <a:pt x="644" y="2128"/>
                  </a:lnTo>
                  <a:lnTo>
                    <a:pt x="649" y="2128"/>
                  </a:lnTo>
                  <a:lnTo>
                    <a:pt x="649" y="2123"/>
                  </a:lnTo>
                  <a:lnTo>
                    <a:pt x="654" y="2123"/>
                  </a:lnTo>
                  <a:lnTo>
                    <a:pt x="654" y="2111"/>
                  </a:lnTo>
                  <a:lnTo>
                    <a:pt x="661" y="2111"/>
                  </a:lnTo>
                  <a:lnTo>
                    <a:pt x="661" y="2101"/>
                  </a:lnTo>
                  <a:lnTo>
                    <a:pt x="666" y="2101"/>
                  </a:lnTo>
                  <a:lnTo>
                    <a:pt x="666" y="2094"/>
                  </a:lnTo>
                  <a:lnTo>
                    <a:pt x="672" y="2094"/>
                  </a:lnTo>
                  <a:lnTo>
                    <a:pt x="672" y="2083"/>
                  </a:lnTo>
                  <a:lnTo>
                    <a:pt x="677" y="2083"/>
                  </a:lnTo>
                  <a:lnTo>
                    <a:pt x="677" y="2077"/>
                  </a:lnTo>
                  <a:lnTo>
                    <a:pt x="683" y="2077"/>
                  </a:lnTo>
                  <a:lnTo>
                    <a:pt x="683" y="2066"/>
                  </a:lnTo>
                  <a:lnTo>
                    <a:pt x="689" y="2066"/>
                  </a:lnTo>
                  <a:lnTo>
                    <a:pt x="689" y="2061"/>
                  </a:lnTo>
                  <a:lnTo>
                    <a:pt x="694" y="2061"/>
                  </a:lnTo>
                  <a:lnTo>
                    <a:pt x="694" y="2054"/>
                  </a:lnTo>
                  <a:lnTo>
                    <a:pt x="701" y="2054"/>
                  </a:lnTo>
                  <a:lnTo>
                    <a:pt x="701" y="2049"/>
                  </a:lnTo>
                  <a:lnTo>
                    <a:pt x="706" y="2049"/>
                  </a:lnTo>
                  <a:lnTo>
                    <a:pt x="706" y="2044"/>
                  </a:lnTo>
                  <a:lnTo>
                    <a:pt x="711" y="2044"/>
                  </a:lnTo>
                  <a:lnTo>
                    <a:pt x="711" y="2026"/>
                  </a:lnTo>
                  <a:lnTo>
                    <a:pt x="718" y="2026"/>
                  </a:lnTo>
                  <a:lnTo>
                    <a:pt x="718" y="2020"/>
                  </a:lnTo>
                  <a:lnTo>
                    <a:pt x="723" y="2020"/>
                  </a:lnTo>
                  <a:lnTo>
                    <a:pt x="723" y="2009"/>
                  </a:lnTo>
                  <a:lnTo>
                    <a:pt x="729" y="2009"/>
                  </a:lnTo>
                  <a:lnTo>
                    <a:pt x="729" y="2004"/>
                  </a:lnTo>
                  <a:lnTo>
                    <a:pt x="734" y="2004"/>
                  </a:lnTo>
                  <a:lnTo>
                    <a:pt x="734" y="1997"/>
                  </a:lnTo>
                  <a:lnTo>
                    <a:pt x="740" y="1997"/>
                  </a:lnTo>
                  <a:lnTo>
                    <a:pt x="740" y="1987"/>
                  </a:lnTo>
                  <a:lnTo>
                    <a:pt x="746" y="1987"/>
                  </a:lnTo>
                  <a:lnTo>
                    <a:pt x="746" y="1980"/>
                  </a:lnTo>
                  <a:lnTo>
                    <a:pt x="751" y="1980"/>
                  </a:lnTo>
                  <a:lnTo>
                    <a:pt x="751" y="1975"/>
                  </a:lnTo>
                  <a:lnTo>
                    <a:pt x="758" y="1975"/>
                  </a:lnTo>
                  <a:lnTo>
                    <a:pt x="758" y="1969"/>
                  </a:lnTo>
                  <a:lnTo>
                    <a:pt x="763" y="1969"/>
                  </a:lnTo>
                  <a:lnTo>
                    <a:pt x="763" y="1958"/>
                  </a:lnTo>
                  <a:lnTo>
                    <a:pt x="768" y="1958"/>
                  </a:lnTo>
                  <a:lnTo>
                    <a:pt x="768" y="1946"/>
                  </a:lnTo>
                  <a:lnTo>
                    <a:pt x="775" y="1946"/>
                  </a:lnTo>
                  <a:lnTo>
                    <a:pt x="775" y="1935"/>
                  </a:lnTo>
                  <a:lnTo>
                    <a:pt x="780" y="1935"/>
                  </a:lnTo>
                  <a:lnTo>
                    <a:pt x="780" y="1930"/>
                  </a:lnTo>
                  <a:lnTo>
                    <a:pt x="786" y="1930"/>
                  </a:lnTo>
                  <a:lnTo>
                    <a:pt x="786" y="1923"/>
                  </a:lnTo>
                  <a:lnTo>
                    <a:pt x="792" y="1923"/>
                  </a:lnTo>
                  <a:lnTo>
                    <a:pt x="792" y="1912"/>
                  </a:lnTo>
                  <a:lnTo>
                    <a:pt x="797" y="1912"/>
                  </a:lnTo>
                  <a:lnTo>
                    <a:pt x="797" y="1906"/>
                  </a:lnTo>
                  <a:lnTo>
                    <a:pt x="803" y="1906"/>
                  </a:lnTo>
                  <a:lnTo>
                    <a:pt x="803" y="1901"/>
                  </a:lnTo>
                  <a:lnTo>
                    <a:pt x="808" y="1901"/>
                  </a:lnTo>
                  <a:lnTo>
                    <a:pt x="808" y="1883"/>
                  </a:lnTo>
                  <a:lnTo>
                    <a:pt x="815" y="1883"/>
                  </a:lnTo>
                  <a:lnTo>
                    <a:pt x="815" y="1873"/>
                  </a:lnTo>
                  <a:lnTo>
                    <a:pt x="820" y="1873"/>
                  </a:lnTo>
                  <a:lnTo>
                    <a:pt x="820" y="1861"/>
                  </a:lnTo>
                  <a:lnTo>
                    <a:pt x="825" y="1861"/>
                  </a:lnTo>
                  <a:lnTo>
                    <a:pt x="825" y="1856"/>
                  </a:lnTo>
                  <a:lnTo>
                    <a:pt x="837" y="1856"/>
                  </a:lnTo>
                  <a:lnTo>
                    <a:pt x="837" y="1850"/>
                  </a:lnTo>
                  <a:lnTo>
                    <a:pt x="843" y="1850"/>
                  </a:lnTo>
                  <a:lnTo>
                    <a:pt x="843" y="1838"/>
                  </a:lnTo>
                  <a:lnTo>
                    <a:pt x="860" y="1838"/>
                  </a:lnTo>
                  <a:lnTo>
                    <a:pt x="860" y="1833"/>
                  </a:lnTo>
                  <a:lnTo>
                    <a:pt x="865" y="1833"/>
                  </a:lnTo>
                  <a:lnTo>
                    <a:pt x="865" y="1828"/>
                  </a:lnTo>
                  <a:lnTo>
                    <a:pt x="870" y="1828"/>
                  </a:lnTo>
                  <a:lnTo>
                    <a:pt x="870" y="1810"/>
                  </a:lnTo>
                  <a:lnTo>
                    <a:pt x="877" y="1810"/>
                  </a:lnTo>
                  <a:lnTo>
                    <a:pt x="877" y="1804"/>
                  </a:lnTo>
                  <a:lnTo>
                    <a:pt x="882" y="1804"/>
                  </a:lnTo>
                  <a:lnTo>
                    <a:pt x="882" y="1793"/>
                  </a:lnTo>
                  <a:lnTo>
                    <a:pt x="888" y="1793"/>
                  </a:lnTo>
                  <a:lnTo>
                    <a:pt x="888" y="1787"/>
                  </a:lnTo>
                  <a:lnTo>
                    <a:pt x="894" y="1787"/>
                  </a:lnTo>
                  <a:lnTo>
                    <a:pt x="894" y="1781"/>
                  </a:lnTo>
                  <a:lnTo>
                    <a:pt x="900" y="1781"/>
                  </a:lnTo>
                  <a:lnTo>
                    <a:pt x="900" y="1771"/>
                  </a:lnTo>
                  <a:lnTo>
                    <a:pt x="905" y="1771"/>
                  </a:lnTo>
                  <a:lnTo>
                    <a:pt x="905" y="1753"/>
                  </a:lnTo>
                  <a:lnTo>
                    <a:pt x="910" y="1753"/>
                  </a:lnTo>
                  <a:lnTo>
                    <a:pt x="910" y="1742"/>
                  </a:lnTo>
                  <a:lnTo>
                    <a:pt x="917" y="1742"/>
                  </a:lnTo>
                  <a:lnTo>
                    <a:pt x="917" y="1730"/>
                  </a:lnTo>
                  <a:lnTo>
                    <a:pt x="922" y="1730"/>
                  </a:lnTo>
                  <a:lnTo>
                    <a:pt x="922" y="1724"/>
                  </a:lnTo>
                  <a:lnTo>
                    <a:pt x="927" y="1724"/>
                  </a:lnTo>
                  <a:lnTo>
                    <a:pt x="927" y="1714"/>
                  </a:lnTo>
                  <a:lnTo>
                    <a:pt x="934" y="1714"/>
                  </a:lnTo>
                  <a:lnTo>
                    <a:pt x="934" y="1707"/>
                  </a:lnTo>
                  <a:lnTo>
                    <a:pt x="939" y="1707"/>
                  </a:lnTo>
                  <a:lnTo>
                    <a:pt x="939" y="1702"/>
                  </a:lnTo>
                  <a:lnTo>
                    <a:pt x="945" y="1702"/>
                  </a:lnTo>
                  <a:lnTo>
                    <a:pt x="945" y="1690"/>
                  </a:lnTo>
                  <a:lnTo>
                    <a:pt x="951" y="1690"/>
                  </a:lnTo>
                  <a:lnTo>
                    <a:pt x="951" y="1685"/>
                  </a:lnTo>
                  <a:lnTo>
                    <a:pt x="956" y="1685"/>
                  </a:lnTo>
                  <a:lnTo>
                    <a:pt x="956" y="1679"/>
                  </a:lnTo>
                  <a:lnTo>
                    <a:pt x="962" y="1679"/>
                  </a:lnTo>
                  <a:lnTo>
                    <a:pt x="962" y="1673"/>
                  </a:lnTo>
                  <a:lnTo>
                    <a:pt x="967" y="1673"/>
                  </a:lnTo>
                  <a:lnTo>
                    <a:pt x="967" y="1662"/>
                  </a:lnTo>
                  <a:lnTo>
                    <a:pt x="974" y="1662"/>
                  </a:lnTo>
                  <a:lnTo>
                    <a:pt x="974" y="1657"/>
                  </a:lnTo>
                  <a:lnTo>
                    <a:pt x="979" y="1657"/>
                  </a:lnTo>
                  <a:lnTo>
                    <a:pt x="979" y="1650"/>
                  </a:lnTo>
                  <a:lnTo>
                    <a:pt x="984" y="1650"/>
                  </a:lnTo>
                  <a:lnTo>
                    <a:pt x="984" y="1645"/>
                  </a:lnTo>
                  <a:lnTo>
                    <a:pt x="991" y="1645"/>
                  </a:lnTo>
                  <a:lnTo>
                    <a:pt x="991" y="1633"/>
                  </a:lnTo>
                  <a:lnTo>
                    <a:pt x="996" y="1633"/>
                  </a:lnTo>
                  <a:lnTo>
                    <a:pt x="996" y="1628"/>
                  </a:lnTo>
                  <a:lnTo>
                    <a:pt x="1002" y="1628"/>
                  </a:lnTo>
                  <a:lnTo>
                    <a:pt x="1002" y="1616"/>
                  </a:lnTo>
                  <a:lnTo>
                    <a:pt x="1008" y="1616"/>
                  </a:lnTo>
                  <a:lnTo>
                    <a:pt x="1008" y="1611"/>
                  </a:lnTo>
                  <a:lnTo>
                    <a:pt x="1013" y="1611"/>
                  </a:lnTo>
                  <a:lnTo>
                    <a:pt x="1013" y="1605"/>
                  </a:lnTo>
                  <a:lnTo>
                    <a:pt x="1019" y="1605"/>
                  </a:lnTo>
                  <a:lnTo>
                    <a:pt x="1019" y="1599"/>
                  </a:lnTo>
                  <a:lnTo>
                    <a:pt x="1024" y="1599"/>
                  </a:lnTo>
                  <a:lnTo>
                    <a:pt x="1024" y="1593"/>
                  </a:lnTo>
                  <a:lnTo>
                    <a:pt x="1031" y="1593"/>
                  </a:lnTo>
                  <a:lnTo>
                    <a:pt x="1031" y="1588"/>
                  </a:lnTo>
                  <a:lnTo>
                    <a:pt x="1036" y="1588"/>
                  </a:lnTo>
                  <a:lnTo>
                    <a:pt x="1036" y="1583"/>
                  </a:lnTo>
                  <a:lnTo>
                    <a:pt x="1041" y="1583"/>
                  </a:lnTo>
                  <a:lnTo>
                    <a:pt x="1041" y="1576"/>
                  </a:lnTo>
                  <a:lnTo>
                    <a:pt x="1048" y="1576"/>
                  </a:lnTo>
                  <a:lnTo>
                    <a:pt x="1048" y="1565"/>
                  </a:lnTo>
                  <a:lnTo>
                    <a:pt x="1053" y="1565"/>
                  </a:lnTo>
                  <a:lnTo>
                    <a:pt x="1053" y="1554"/>
                  </a:lnTo>
                  <a:lnTo>
                    <a:pt x="1059" y="1554"/>
                  </a:lnTo>
                  <a:lnTo>
                    <a:pt x="1059" y="1548"/>
                  </a:lnTo>
                  <a:lnTo>
                    <a:pt x="1065" y="1548"/>
                  </a:lnTo>
                  <a:lnTo>
                    <a:pt x="1065" y="1536"/>
                  </a:lnTo>
                  <a:lnTo>
                    <a:pt x="1070" y="1536"/>
                  </a:lnTo>
                  <a:lnTo>
                    <a:pt x="1070" y="1531"/>
                  </a:lnTo>
                  <a:lnTo>
                    <a:pt x="1076" y="1531"/>
                  </a:lnTo>
                  <a:lnTo>
                    <a:pt x="1076" y="1526"/>
                  </a:lnTo>
                  <a:lnTo>
                    <a:pt x="1082" y="1526"/>
                  </a:lnTo>
                  <a:lnTo>
                    <a:pt x="1082" y="1514"/>
                  </a:lnTo>
                  <a:lnTo>
                    <a:pt x="1088" y="1514"/>
                  </a:lnTo>
                  <a:lnTo>
                    <a:pt x="1088" y="1508"/>
                  </a:lnTo>
                  <a:lnTo>
                    <a:pt x="1093" y="1508"/>
                  </a:lnTo>
                  <a:lnTo>
                    <a:pt x="1093" y="1502"/>
                  </a:lnTo>
                  <a:lnTo>
                    <a:pt x="1098" y="1502"/>
                  </a:lnTo>
                  <a:lnTo>
                    <a:pt x="1098" y="1491"/>
                  </a:lnTo>
                  <a:lnTo>
                    <a:pt x="1105" y="1491"/>
                  </a:lnTo>
                  <a:lnTo>
                    <a:pt x="1105" y="1479"/>
                  </a:lnTo>
                  <a:lnTo>
                    <a:pt x="1110" y="1479"/>
                  </a:lnTo>
                  <a:lnTo>
                    <a:pt x="1110" y="1474"/>
                  </a:lnTo>
                  <a:lnTo>
                    <a:pt x="1116" y="1474"/>
                  </a:lnTo>
                  <a:lnTo>
                    <a:pt x="1116" y="1469"/>
                  </a:lnTo>
                  <a:lnTo>
                    <a:pt x="1122" y="1469"/>
                  </a:lnTo>
                  <a:lnTo>
                    <a:pt x="1122" y="1457"/>
                  </a:lnTo>
                  <a:lnTo>
                    <a:pt x="1127" y="1457"/>
                  </a:lnTo>
                  <a:lnTo>
                    <a:pt x="1127" y="1440"/>
                  </a:lnTo>
                  <a:lnTo>
                    <a:pt x="1133" y="1440"/>
                  </a:lnTo>
                  <a:lnTo>
                    <a:pt x="1133" y="1429"/>
                  </a:lnTo>
                  <a:lnTo>
                    <a:pt x="1139" y="1429"/>
                  </a:lnTo>
                  <a:lnTo>
                    <a:pt x="1139" y="1417"/>
                  </a:lnTo>
                  <a:lnTo>
                    <a:pt x="1145" y="1417"/>
                  </a:lnTo>
                  <a:lnTo>
                    <a:pt x="1145" y="1395"/>
                  </a:lnTo>
                  <a:lnTo>
                    <a:pt x="1139" y="1395"/>
                  </a:lnTo>
                  <a:lnTo>
                    <a:pt x="1139" y="1383"/>
                  </a:lnTo>
                  <a:lnTo>
                    <a:pt x="1133" y="1383"/>
                  </a:lnTo>
                  <a:lnTo>
                    <a:pt x="1133" y="1372"/>
                  </a:lnTo>
                  <a:lnTo>
                    <a:pt x="1127" y="1372"/>
                  </a:lnTo>
                  <a:lnTo>
                    <a:pt x="1127" y="1367"/>
                  </a:lnTo>
                  <a:lnTo>
                    <a:pt x="1122" y="1367"/>
                  </a:lnTo>
                  <a:lnTo>
                    <a:pt x="1122" y="1360"/>
                  </a:lnTo>
                  <a:lnTo>
                    <a:pt x="1116" y="1360"/>
                  </a:lnTo>
                  <a:lnTo>
                    <a:pt x="1116" y="1355"/>
                  </a:lnTo>
                  <a:lnTo>
                    <a:pt x="1110" y="1355"/>
                  </a:lnTo>
                  <a:lnTo>
                    <a:pt x="1110" y="1338"/>
                  </a:lnTo>
                  <a:lnTo>
                    <a:pt x="1105" y="1338"/>
                  </a:lnTo>
                  <a:lnTo>
                    <a:pt x="1105" y="1332"/>
                  </a:lnTo>
                  <a:lnTo>
                    <a:pt x="1098" y="1332"/>
                  </a:lnTo>
                  <a:lnTo>
                    <a:pt x="1098" y="1320"/>
                  </a:lnTo>
                  <a:lnTo>
                    <a:pt x="1093" y="1320"/>
                  </a:lnTo>
                  <a:lnTo>
                    <a:pt x="1093" y="1315"/>
                  </a:lnTo>
                  <a:lnTo>
                    <a:pt x="1088" y="1315"/>
                  </a:lnTo>
                  <a:lnTo>
                    <a:pt x="1088" y="1303"/>
                  </a:lnTo>
                  <a:lnTo>
                    <a:pt x="1082" y="1303"/>
                  </a:lnTo>
                  <a:lnTo>
                    <a:pt x="1082" y="1292"/>
                  </a:lnTo>
                  <a:lnTo>
                    <a:pt x="1076" y="1292"/>
                  </a:lnTo>
                  <a:lnTo>
                    <a:pt x="1076" y="1286"/>
                  </a:lnTo>
                  <a:lnTo>
                    <a:pt x="1070" y="1286"/>
                  </a:lnTo>
                  <a:lnTo>
                    <a:pt x="1070" y="1281"/>
                  </a:lnTo>
                  <a:lnTo>
                    <a:pt x="1065" y="1281"/>
                  </a:lnTo>
                  <a:lnTo>
                    <a:pt x="1065" y="1275"/>
                  </a:lnTo>
                  <a:lnTo>
                    <a:pt x="1059" y="1275"/>
                  </a:lnTo>
                  <a:lnTo>
                    <a:pt x="1059" y="1263"/>
                  </a:lnTo>
                  <a:lnTo>
                    <a:pt x="1053" y="1263"/>
                  </a:lnTo>
                  <a:lnTo>
                    <a:pt x="1053" y="1258"/>
                  </a:lnTo>
                  <a:lnTo>
                    <a:pt x="1048" y="1258"/>
                  </a:lnTo>
                  <a:lnTo>
                    <a:pt x="1048" y="1252"/>
                  </a:lnTo>
                  <a:lnTo>
                    <a:pt x="1041" y="1252"/>
                  </a:lnTo>
                  <a:lnTo>
                    <a:pt x="1041" y="1241"/>
                  </a:lnTo>
                  <a:lnTo>
                    <a:pt x="1036" y="1241"/>
                  </a:lnTo>
                  <a:lnTo>
                    <a:pt x="1036" y="1236"/>
                  </a:lnTo>
                  <a:lnTo>
                    <a:pt x="1031" y="1236"/>
                  </a:lnTo>
                  <a:lnTo>
                    <a:pt x="1031" y="1229"/>
                  </a:lnTo>
                  <a:lnTo>
                    <a:pt x="1024" y="1229"/>
                  </a:lnTo>
                  <a:lnTo>
                    <a:pt x="1024" y="1224"/>
                  </a:lnTo>
                  <a:lnTo>
                    <a:pt x="1013" y="1224"/>
                  </a:lnTo>
                  <a:lnTo>
                    <a:pt x="1013" y="1207"/>
                  </a:lnTo>
                  <a:lnTo>
                    <a:pt x="1008" y="1207"/>
                  </a:lnTo>
                  <a:lnTo>
                    <a:pt x="1008" y="1195"/>
                  </a:lnTo>
                  <a:lnTo>
                    <a:pt x="1002" y="1195"/>
                  </a:lnTo>
                  <a:lnTo>
                    <a:pt x="1002" y="1189"/>
                  </a:lnTo>
                  <a:lnTo>
                    <a:pt x="996" y="1189"/>
                  </a:lnTo>
                  <a:lnTo>
                    <a:pt x="996" y="1179"/>
                  </a:lnTo>
                  <a:lnTo>
                    <a:pt x="991" y="1179"/>
                  </a:lnTo>
                  <a:lnTo>
                    <a:pt x="991" y="1172"/>
                  </a:lnTo>
                  <a:lnTo>
                    <a:pt x="984" y="1172"/>
                  </a:lnTo>
                  <a:lnTo>
                    <a:pt x="984" y="1167"/>
                  </a:lnTo>
                  <a:lnTo>
                    <a:pt x="979" y="1167"/>
                  </a:lnTo>
                  <a:lnTo>
                    <a:pt x="979" y="1155"/>
                  </a:lnTo>
                  <a:lnTo>
                    <a:pt x="974" y="1155"/>
                  </a:lnTo>
                  <a:lnTo>
                    <a:pt x="974" y="1150"/>
                  </a:lnTo>
                  <a:lnTo>
                    <a:pt x="967" y="1150"/>
                  </a:lnTo>
                  <a:lnTo>
                    <a:pt x="967" y="1138"/>
                  </a:lnTo>
                  <a:lnTo>
                    <a:pt x="962" y="1138"/>
                  </a:lnTo>
                  <a:lnTo>
                    <a:pt x="962" y="1132"/>
                  </a:lnTo>
                  <a:lnTo>
                    <a:pt x="956" y="1132"/>
                  </a:lnTo>
                  <a:lnTo>
                    <a:pt x="956" y="1127"/>
                  </a:lnTo>
                  <a:lnTo>
                    <a:pt x="951" y="1127"/>
                  </a:lnTo>
                  <a:lnTo>
                    <a:pt x="951" y="1122"/>
                  </a:lnTo>
                  <a:lnTo>
                    <a:pt x="945" y="1122"/>
                  </a:lnTo>
                  <a:lnTo>
                    <a:pt x="945" y="1093"/>
                  </a:lnTo>
                  <a:lnTo>
                    <a:pt x="939" y="1093"/>
                  </a:lnTo>
                  <a:lnTo>
                    <a:pt x="939" y="1075"/>
                  </a:lnTo>
                  <a:lnTo>
                    <a:pt x="927" y="1075"/>
                  </a:lnTo>
                  <a:lnTo>
                    <a:pt x="927" y="1065"/>
                  </a:lnTo>
                  <a:lnTo>
                    <a:pt x="922" y="1065"/>
                  </a:lnTo>
                  <a:lnTo>
                    <a:pt x="922" y="1058"/>
                  </a:lnTo>
                  <a:lnTo>
                    <a:pt x="917" y="1058"/>
                  </a:lnTo>
                  <a:lnTo>
                    <a:pt x="917" y="1048"/>
                  </a:lnTo>
                  <a:lnTo>
                    <a:pt x="910" y="1048"/>
                  </a:lnTo>
                  <a:lnTo>
                    <a:pt x="910" y="1036"/>
                  </a:lnTo>
                  <a:lnTo>
                    <a:pt x="905" y="1036"/>
                  </a:lnTo>
                  <a:lnTo>
                    <a:pt x="905" y="1030"/>
                  </a:lnTo>
                  <a:lnTo>
                    <a:pt x="900" y="1030"/>
                  </a:lnTo>
                  <a:lnTo>
                    <a:pt x="900" y="1020"/>
                  </a:lnTo>
                  <a:lnTo>
                    <a:pt x="894" y="1020"/>
                  </a:lnTo>
                  <a:lnTo>
                    <a:pt x="894" y="1013"/>
                  </a:lnTo>
                  <a:lnTo>
                    <a:pt x="888" y="1013"/>
                  </a:lnTo>
                  <a:lnTo>
                    <a:pt x="888" y="1008"/>
                  </a:lnTo>
                  <a:lnTo>
                    <a:pt x="882" y="1008"/>
                  </a:lnTo>
                  <a:lnTo>
                    <a:pt x="882" y="996"/>
                  </a:lnTo>
                  <a:lnTo>
                    <a:pt x="877" y="996"/>
                  </a:lnTo>
                  <a:lnTo>
                    <a:pt x="877" y="968"/>
                  </a:lnTo>
                  <a:lnTo>
                    <a:pt x="870" y="968"/>
                  </a:lnTo>
                  <a:lnTo>
                    <a:pt x="870" y="956"/>
                  </a:lnTo>
                  <a:lnTo>
                    <a:pt x="865" y="956"/>
                  </a:lnTo>
                  <a:lnTo>
                    <a:pt x="865" y="945"/>
                  </a:lnTo>
                  <a:lnTo>
                    <a:pt x="860" y="945"/>
                  </a:lnTo>
                  <a:lnTo>
                    <a:pt x="860" y="939"/>
                  </a:lnTo>
                  <a:lnTo>
                    <a:pt x="854" y="939"/>
                  </a:lnTo>
                  <a:lnTo>
                    <a:pt x="854" y="928"/>
                  </a:lnTo>
                  <a:lnTo>
                    <a:pt x="849" y="928"/>
                  </a:lnTo>
                  <a:lnTo>
                    <a:pt x="849" y="922"/>
                  </a:lnTo>
                  <a:lnTo>
                    <a:pt x="843" y="922"/>
                  </a:lnTo>
                  <a:lnTo>
                    <a:pt x="843" y="916"/>
                  </a:lnTo>
                  <a:lnTo>
                    <a:pt x="837" y="916"/>
                  </a:lnTo>
                  <a:lnTo>
                    <a:pt x="837" y="899"/>
                  </a:lnTo>
                  <a:lnTo>
                    <a:pt x="832" y="899"/>
                  </a:lnTo>
                  <a:lnTo>
                    <a:pt x="832" y="888"/>
                  </a:lnTo>
                  <a:lnTo>
                    <a:pt x="825" y="888"/>
                  </a:lnTo>
                  <a:lnTo>
                    <a:pt x="825" y="882"/>
                  </a:lnTo>
                  <a:lnTo>
                    <a:pt x="820" y="882"/>
                  </a:lnTo>
                  <a:lnTo>
                    <a:pt x="820" y="877"/>
                  </a:lnTo>
                  <a:lnTo>
                    <a:pt x="815" y="877"/>
                  </a:lnTo>
                  <a:lnTo>
                    <a:pt x="815" y="848"/>
                  </a:lnTo>
                  <a:lnTo>
                    <a:pt x="808" y="848"/>
                  </a:lnTo>
                  <a:lnTo>
                    <a:pt x="808" y="837"/>
                  </a:lnTo>
                  <a:lnTo>
                    <a:pt x="803" y="837"/>
                  </a:lnTo>
                  <a:lnTo>
                    <a:pt x="803" y="825"/>
                  </a:lnTo>
                  <a:lnTo>
                    <a:pt x="797" y="825"/>
                  </a:lnTo>
                  <a:lnTo>
                    <a:pt x="797" y="820"/>
                  </a:lnTo>
                  <a:lnTo>
                    <a:pt x="792" y="820"/>
                  </a:lnTo>
                  <a:lnTo>
                    <a:pt x="792" y="808"/>
                  </a:lnTo>
                  <a:lnTo>
                    <a:pt x="786" y="808"/>
                  </a:lnTo>
                  <a:lnTo>
                    <a:pt x="786" y="803"/>
                  </a:lnTo>
                  <a:lnTo>
                    <a:pt x="780" y="803"/>
                  </a:lnTo>
                  <a:lnTo>
                    <a:pt x="780" y="791"/>
                  </a:lnTo>
                  <a:lnTo>
                    <a:pt x="775" y="791"/>
                  </a:lnTo>
                  <a:lnTo>
                    <a:pt x="775" y="780"/>
                  </a:lnTo>
                  <a:lnTo>
                    <a:pt x="768" y="780"/>
                  </a:lnTo>
                  <a:lnTo>
                    <a:pt x="768" y="768"/>
                  </a:lnTo>
                  <a:lnTo>
                    <a:pt x="763" y="768"/>
                  </a:lnTo>
                  <a:lnTo>
                    <a:pt x="763" y="763"/>
                  </a:lnTo>
                  <a:lnTo>
                    <a:pt x="758" y="763"/>
                  </a:lnTo>
                  <a:lnTo>
                    <a:pt x="758" y="734"/>
                  </a:lnTo>
                  <a:lnTo>
                    <a:pt x="751" y="734"/>
                  </a:lnTo>
                  <a:lnTo>
                    <a:pt x="751" y="723"/>
                  </a:lnTo>
                  <a:lnTo>
                    <a:pt x="746" y="723"/>
                  </a:lnTo>
                  <a:lnTo>
                    <a:pt x="746" y="706"/>
                  </a:lnTo>
                  <a:lnTo>
                    <a:pt x="740" y="706"/>
                  </a:lnTo>
                  <a:lnTo>
                    <a:pt x="740" y="700"/>
                  </a:lnTo>
                  <a:lnTo>
                    <a:pt x="734" y="700"/>
                  </a:lnTo>
                  <a:lnTo>
                    <a:pt x="734" y="683"/>
                  </a:lnTo>
                  <a:lnTo>
                    <a:pt x="729" y="683"/>
                  </a:lnTo>
                  <a:lnTo>
                    <a:pt x="729" y="677"/>
                  </a:lnTo>
                  <a:lnTo>
                    <a:pt x="723" y="677"/>
                  </a:lnTo>
                  <a:lnTo>
                    <a:pt x="723" y="666"/>
                  </a:lnTo>
                  <a:lnTo>
                    <a:pt x="718" y="666"/>
                  </a:lnTo>
                  <a:lnTo>
                    <a:pt x="718" y="649"/>
                  </a:lnTo>
                  <a:lnTo>
                    <a:pt x="711" y="649"/>
                  </a:lnTo>
                  <a:lnTo>
                    <a:pt x="711" y="643"/>
                  </a:lnTo>
                  <a:lnTo>
                    <a:pt x="706" y="643"/>
                  </a:lnTo>
                  <a:lnTo>
                    <a:pt x="706" y="632"/>
                  </a:lnTo>
                  <a:lnTo>
                    <a:pt x="701" y="632"/>
                  </a:lnTo>
                  <a:lnTo>
                    <a:pt x="701" y="626"/>
                  </a:lnTo>
                  <a:lnTo>
                    <a:pt x="694" y="626"/>
                  </a:lnTo>
                  <a:lnTo>
                    <a:pt x="694" y="609"/>
                  </a:lnTo>
                  <a:lnTo>
                    <a:pt x="689" y="609"/>
                  </a:lnTo>
                  <a:lnTo>
                    <a:pt x="689" y="598"/>
                  </a:lnTo>
                  <a:lnTo>
                    <a:pt x="683" y="598"/>
                  </a:lnTo>
                  <a:lnTo>
                    <a:pt x="683" y="564"/>
                  </a:lnTo>
                  <a:lnTo>
                    <a:pt x="677" y="564"/>
                  </a:lnTo>
                  <a:lnTo>
                    <a:pt x="677" y="552"/>
                  </a:lnTo>
                  <a:lnTo>
                    <a:pt x="672" y="552"/>
                  </a:lnTo>
                  <a:lnTo>
                    <a:pt x="672" y="535"/>
                  </a:lnTo>
                  <a:lnTo>
                    <a:pt x="666" y="535"/>
                  </a:lnTo>
                  <a:lnTo>
                    <a:pt x="666" y="512"/>
                  </a:lnTo>
                  <a:lnTo>
                    <a:pt x="661" y="512"/>
                  </a:lnTo>
                  <a:lnTo>
                    <a:pt x="661" y="501"/>
                  </a:lnTo>
                  <a:lnTo>
                    <a:pt x="654" y="501"/>
                  </a:lnTo>
                  <a:lnTo>
                    <a:pt x="654" y="478"/>
                  </a:lnTo>
                  <a:lnTo>
                    <a:pt x="649" y="478"/>
                  </a:lnTo>
                  <a:lnTo>
                    <a:pt x="649" y="467"/>
                  </a:lnTo>
                  <a:lnTo>
                    <a:pt x="644" y="467"/>
                  </a:lnTo>
                  <a:lnTo>
                    <a:pt x="644" y="438"/>
                  </a:lnTo>
                  <a:lnTo>
                    <a:pt x="637" y="438"/>
                  </a:lnTo>
                  <a:lnTo>
                    <a:pt x="637" y="428"/>
                  </a:lnTo>
                  <a:lnTo>
                    <a:pt x="632" y="428"/>
                  </a:lnTo>
                  <a:lnTo>
                    <a:pt x="632" y="399"/>
                  </a:lnTo>
                  <a:lnTo>
                    <a:pt x="627" y="399"/>
                  </a:lnTo>
                  <a:lnTo>
                    <a:pt x="627" y="376"/>
                  </a:lnTo>
                  <a:lnTo>
                    <a:pt x="620" y="376"/>
                  </a:lnTo>
                  <a:lnTo>
                    <a:pt x="620" y="359"/>
                  </a:lnTo>
                  <a:lnTo>
                    <a:pt x="615" y="359"/>
                  </a:lnTo>
                  <a:lnTo>
                    <a:pt x="615" y="336"/>
                  </a:lnTo>
                  <a:lnTo>
                    <a:pt x="609" y="336"/>
                  </a:lnTo>
                  <a:lnTo>
                    <a:pt x="609" y="314"/>
                  </a:lnTo>
                  <a:lnTo>
                    <a:pt x="604" y="314"/>
                  </a:lnTo>
                  <a:lnTo>
                    <a:pt x="604" y="302"/>
                  </a:lnTo>
                  <a:lnTo>
                    <a:pt x="597" y="302"/>
                  </a:lnTo>
                  <a:lnTo>
                    <a:pt x="597" y="279"/>
                  </a:lnTo>
                  <a:lnTo>
                    <a:pt x="592" y="279"/>
                  </a:lnTo>
                  <a:lnTo>
                    <a:pt x="592" y="250"/>
                  </a:lnTo>
                  <a:lnTo>
                    <a:pt x="587" y="250"/>
                  </a:lnTo>
                  <a:lnTo>
                    <a:pt x="587" y="222"/>
                  </a:lnTo>
                  <a:lnTo>
                    <a:pt x="580" y="222"/>
                  </a:lnTo>
                  <a:lnTo>
                    <a:pt x="580" y="210"/>
                  </a:lnTo>
                  <a:lnTo>
                    <a:pt x="575" y="210"/>
                  </a:lnTo>
                  <a:lnTo>
                    <a:pt x="575" y="200"/>
                  </a:lnTo>
                  <a:lnTo>
                    <a:pt x="570" y="200"/>
                  </a:lnTo>
                  <a:lnTo>
                    <a:pt x="570" y="160"/>
                  </a:lnTo>
                  <a:lnTo>
                    <a:pt x="563" y="160"/>
                  </a:lnTo>
                  <a:lnTo>
                    <a:pt x="563" y="126"/>
                  </a:lnTo>
                  <a:lnTo>
                    <a:pt x="558" y="126"/>
                  </a:lnTo>
                  <a:lnTo>
                    <a:pt x="558" y="97"/>
                  </a:lnTo>
                  <a:lnTo>
                    <a:pt x="552" y="97"/>
                  </a:lnTo>
                  <a:lnTo>
                    <a:pt x="552" y="80"/>
                  </a:lnTo>
                  <a:lnTo>
                    <a:pt x="547" y="80"/>
                  </a:lnTo>
                  <a:lnTo>
                    <a:pt x="547" y="51"/>
                  </a:lnTo>
                  <a:lnTo>
                    <a:pt x="535" y="51"/>
                  </a:lnTo>
                  <a:lnTo>
                    <a:pt x="535" y="46"/>
                  </a:lnTo>
                  <a:lnTo>
                    <a:pt x="506" y="46"/>
                  </a:lnTo>
                  <a:lnTo>
                    <a:pt x="506" y="51"/>
                  </a:lnTo>
                  <a:lnTo>
                    <a:pt x="501" y="51"/>
                  </a:lnTo>
                  <a:lnTo>
                    <a:pt x="501" y="57"/>
                  </a:lnTo>
                  <a:lnTo>
                    <a:pt x="495" y="57"/>
                  </a:lnTo>
                  <a:lnTo>
                    <a:pt x="495" y="63"/>
                  </a:lnTo>
                  <a:lnTo>
                    <a:pt x="490" y="63"/>
                  </a:lnTo>
                  <a:lnTo>
                    <a:pt x="490" y="69"/>
                  </a:lnTo>
                  <a:lnTo>
                    <a:pt x="484" y="69"/>
                  </a:lnTo>
                  <a:lnTo>
                    <a:pt x="484" y="74"/>
                  </a:lnTo>
                  <a:lnTo>
                    <a:pt x="478" y="74"/>
                  </a:lnTo>
                  <a:lnTo>
                    <a:pt x="478" y="86"/>
                  </a:lnTo>
                  <a:lnTo>
                    <a:pt x="473" y="86"/>
                  </a:lnTo>
                  <a:lnTo>
                    <a:pt x="473" y="91"/>
                  </a:lnTo>
                  <a:lnTo>
                    <a:pt x="466" y="91"/>
                  </a:lnTo>
                  <a:lnTo>
                    <a:pt x="466" y="97"/>
                  </a:lnTo>
                  <a:lnTo>
                    <a:pt x="461" y="97"/>
                  </a:lnTo>
                  <a:lnTo>
                    <a:pt x="461" y="103"/>
                  </a:lnTo>
                  <a:lnTo>
                    <a:pt x="456" y="103"/>
                  </a:lnTo>
                  <a:lnTo>
                    <a:pt x="456" y="108"/>
                  </a:lnTo>
                  <a:lnTo>
                    <a:pt x="449" y="108"/>
                  </a:lnTo>
                  <a:lnTo>
                    <a:pt x="449" y="114"/>
                  </a:lnTo>
                  <a:lnTo>
                    <a:pt x="444" y="114"/>
                  </a:lnTo>
                  <a:lnTo>
                    <a:pt x="444" y="120"/>
                  </a:lnTo>
                  <a:lnTo>
                    <a:pt x="438" y="120"/>
                  </a:lnTo>
                  <a:lnTo>
                    <a:pt x="438" y="126"/>
                  </a:lnTo>
                  <a:lnTo>
                    <a:pt x="428" y="126"/>
                  </a:lnTo>
                  <a:lnTo>
                    <a:pt x="428" y="131"/>
                  </a:lnTo>
                  <a:lnTo>
                    <a:pt x="421" y="131"/>
                  </a:lnTo>
                  <a:lnTo>
                    <a:pt x="421" y="137"/>
                  </a:lnTo>
                  <a:lnTo>
                    <a:pt x="416" y="137"/>
                  </a:lnTo>
                  <a:lnTo>
                    <a:pt x="416" y="143"/>
                  </a:lnTo>
                  <a:lnTo>
                    <a:pt x="410" y="143"/>
                  </a:lnTo>
                  <a:lnTo>
                    <a:pt x="410" y="148"/>
                  </a:lnTo>
                  <a:lnTo>
                    <a:pt x="399" y="148"/>
                  </a:lnTo>
                  <a:lnTo>
                    <a:pt x="399" y="154"/>
                  </a:lnTo>
                  <a:lnTo>
                    <a:pt x="393" y="154"/>
                  </a:lnTo>
                  <a:lnTo>
                    <a:pt x="393" y="160"/>
                  </a:lnTo>
                  <a:lnTo>
                    <a:pt x="381" y="160"/>
                  </a:lnTo>
                  <a:lnTo>
                    <a:pt x="381" y="165"/>
                  </a:lnTo>
                  <a:lnTo>
                    <a:pt x="376" y="165"/>
                  </a:lnTo>
                  <a:lnTo>
                    <a:pt x="376" y="171"/>
                  </a:lnTo>
                  <a:lnTo>
                    <a:pt x="364" y="171"/>
                  </a:lnTo>
                  <a:lnTo>
                    <a:pt x="364" y="177"/>
                  </a:lnTo>
                  <a:lnTo>
                    <a:pt x="353" y="177"/>
                  </a:lnTo>
                  <a:lnTo>
                    <a:pt x="353" y="183"/>
                  </a:lnTo>
                  <a:lnTo>
                    <a:pt x="347" y="183"/>
                  </a:lnTo>
                  <a:lnTo>
                    <a:pt x="347" y="188"/>
                  </a:lnTo>
                  <a:lnTo>
                    <a:pt x="336" y="188"/>
                  </a:lnTo>
                  <a:lnTo>
                    <a:pt x="336" y="194"/>
                  </a:lnTo>
                  <a:lnTo>
                    <a:pt x="330" y="194"/>
                  </a:lnTo>
                  <a:lnTo>
                    <a:pt x="330" y="200"/>
                  </a:lnTo>
                  <a:lnTo>
                    <a:pt x="319" y="200"/>
                  </a:lnTo>
                  <a:lnTo>
                    <a:pt x="319" y="205"/>
                  </a:lnTo>
                  <a:lnTo>
                    <a:pt x="307" y="205"/>
                  </a:lnTo>
                  <a:lnTo>
                    <a:pt x="307" y="210"/>
                  </a:lnTo>
                  <a:lnTo>
                    <a:pt x="302" y="210"/>
                  </a:lnTo>
                  <a:lnTo>
                    <a:pt x="302" y="217"/>
                  </a:lnTo>
                  <a:lnTo>
                    <a:pt x="290" y="217"/>
                  </a:lnTo>
                  <a:lnTo>
                    <a:pt x="290" y="222"/>
                  </a:lnTo>
                  <a:lnTo>
                    <a:pt x="285" y="222"/>
                  </a:lnTo>
                  <a:lnTo>
                    <a:pt x="285" y="228"/>
                  </a:lnTo>
                  <a:lnTo>
                    <a:pt x="279" y="228"/>
                  </a:lnTo>
                  <a:lnTo>
                    <a:pt x="279" y="233"/>
                  </a:lnTo>
                  <a:lnTo>
                    <a:pt x="273" y="233"/>
                  </a:lnTo>
                  <a:lnTo>
                    <a:pt x="273" y="239"/>
                  </a:lnTo>
                  <a:lnTo>
                    <a:pt x="268" y="239"/>
                  </a:lnTo>
                  <a:lnTo>
                    <a:pt x="268" y="245"/>
                  </a:lnTo>
                  <a:lnTo>
                    <a:pt x="262" y="245"/>
                  </a:lnTo>
                  <a:lnTo>
                    <a:pt x="262" y="250"/>
                  </a:lnTo>
                  <a:lnTo>
                    <a:pt x="257" y="250"/>
                  </a:lnTo>
                  <a:lnTo>
                    <a:pt x="257" y="256"/>
                  </a:lnTo>
                  <a:lnTo>
                    <a:pt x="250" y="256"/>
                  </a:lnTo>
                  <a:lnTo>
                    <a:pt x="250" y="262"/>
                  </a:lnTo>
                  <a:lnTo>
                    <a:pt x="245" y="262"/>
                  </a:lnTo>
                  <a:lnTo>
                    <a:pt x="245" y="267"/>
                  </a:lnTo>
                  <a:lnTo>
                    <a:pt x="240" y="267"/>
                  </a:lnTo>
                  <a:lnTo>
                    <a:pt x="240" y="273"/>
                  </a:lnTo>
                  <a:lnTo>
                    <a:pt x="233" y="273"/>
                  </a:lnTo>
                  <a:lnTo>
                    <a:pt x="233" y="279"/>
                  </a:lnTo>
                  <a:lnTo>
                    <a:pt x="222" y="279"/>
                  </a:lnTo>
                  <a:lnTo>
                    <a:pt x="222" y="285"/>
                  </a:lnTo>
                  <a:lnTo>
                    <a:pt x="216" y="285"/>
                  </a:lnTo>
                  <a:lnTo>
                    <a:pt x="216" y="290"/>
                  </a:lnTo>
                  <a:lnTo>
                    <a:pt x="211" y="290"/>
                  </a:lnTo>
                  <a:lnTo>
                    <a:pt x="211" y="296"/>
                  </a:lnTo>
                  <a:lnTo>
                    <a:pt x="205" y="296"/>
                  </a:lnTo>
                  <a:lnTo>
                    <a:pt x="205" y="302"/>
                  </a:lnTo>
                  <a:lnTo>
                    <a:pt x="200" y="302"/>
                  </a:lnTo>
                  <a:lnTo>
                    <a:pt x="200" y="307"/>
                  </a:lnTo>
                  <a:lnTo>
                    <a:pt x="193" y="307"/>
                  </a:lnTo>
                  <a:lnTo>
                    <a:pt x="193" y="314"/>
                  </a:lnTo>
                  <a:lnTo>
                    <a:pt x="183" y="314"/>
                  </a:lnTo>
                  <a:lnTo>
                    <a:pt x="183" y="319"/>
                  </a:lnTo>
                  <a:lnTo>
                    <a:pt x="176" y="319"/>
                  </a:lnTo>
                  <a:lnTo>
                    <a:pt x="176" y="324"/>
                  </a:lnTo>
                  <a:lnTo>
                    <a:pt x="171" y="324"/>
                  </a:lnTo>
                  <a:lnTo>
                    <a:pt x="171" y="336"/>
                  </a:lnTo>
                  <a:lnTo>
                    <a:pt x="165" y="336"/>
                  </a:lnTo>
                  <a:lnTo>
                    <a:pt x="165" y="342"/>
                  </a:lnTo>
                  <a:lnTo>
                    <a:pt x="159" y="342"/>
                  </a:lnTo>
                  <a:lnTo>
                    <a:pt x="159" y="347"/>
                  </a:lnTo>
                  <a:lnTo>
                    <a:pt x="154" y="347"/>
                  </a:lnTo>
                  <a:lnTo>
                    <a:pt x="154" y="353"/>
                  </a:lnTo>
                  <a:lnTo>
                    <a:pt x="148" y="353"/>
                  </a:lnTo>
                  <a:lnTo>
                    <a:pt x="148" y="359"/>
                  </a:lnTo>
                  <a:lnTo>
                    <a:pt x="143" y="359"/>
                  </a:lnTo>
                  <a:lnTo>
                    <a:pt x="143" y="364"/>
                  </a:lnTo>
                  <a:lnTo>
                    <a:pt x="136" y="364"/>
                  </a:lnTo>
                  <a:lnTo>
                    <a:pt x="136" y="371"/>
                  </a:lnTo>
                  <a:lnTo>
                    <a:pt x="131" y="371"/>
                  </a:lnTo>
                  <a:lnTo>
                    <a:pt x="131" y="376"/>
                  </a:lnTo>
                  <a:lnTo>
                    <a:pt x="126" y="376"/>
                  </a:lnTo>
                  <a:lnTo>
                    <a:pt x="126" y="381"/>
                  </a:lnTo>
                  <a:lnTo>
                    <a:pt x="119" y="381"/>
                  </a:lnTo>
                  <a:lnTo>
                    <a:pt x="119" y="387"/>
                  </a:lnTo>
                  <a:lnTo>
                    <a:pt x="114" y="387"/>
                  </a:lnTo>
                  <a:lnTo>
                    <a:pt x="114" y="393"/>
                  </a:lnTo>
                  <a:lnTo>
                    <a:pt x="108" y="393"/>
                  </a:lnTo>
                  <a:lnTo>
                    <a:pt x="108" y="399"/>
                  </a:lnTo>
                  <a:lnTo>
                    <a:pt x="102" y="399"/>
                  </a:lnTo>
                  <a:lnTo>
                    <a:pt x="102" y="404"/>
                  </a:lnTo>
                  <a:lnTo>
                    <a:pt x="97" y="404"/>
                  </a:lnTo>
                  <a:lnTo>
                    <a:pt x="97" y="410"/>
                  </a:lnTo>
                  <a:lnTo>
                    <a:pt x="91" y="410"/>
                  </a:lnTo>
                  <a:lnTo>
                    <a:pt x="91" y="416"/>
                  </a:lnTo>
                  <a:lnTo>
                    <a:pt x="79" y="416"/>
                  </a:lnTo>
                  <a:lnTo>
                    <a:pt x="79" y="428"/>
                  </a:lnTo>
                  <a:lnTo>
                    <a:pt x="74" y="428"/>
                  </a:lnTo>
                  <a:lnTo>
                    <a:pt x="74" y="433"/>
                  </a:lnTo>
                  <a:lnTo>
                    <a:pt x="69" y="433"/>
                  </a:lnTo>
                  <a:lnTo>
                    <a:pt x="69" y="438"/>
                  </a:lnTo>
                  <a:lnTo>
                    <a:pt x="62" y="438"/>
                  </a:lnTo>
                  <a:lnTo>
                    <a:pt x="62" y="444"/>
                  </a:lnTo>
                  <a:lnTo>
                    <a:pt x="57" y="444"/>
                  </a:lnTo>
                  <a:lnTo>
                    <a:pt x="57" y="450"/>
                  </a:lnTo>
                  <a:lnTo>
                    <a:pt x="51" y="450"/>
                  </a:lnTo>
                  <a:lnTo>
                    <a:pt x="51" y="455"/>
                  </a:lnTo>
                  <a:lnTo>
                    <a:pt x="45" y="455"/>
                  </a:lnTo>
                  <a:lnTo>
                    <a:pt x="45" y="461"/>
                  </a:lnTo>
                  <a:lnTo>
                    <a:pt x="34" y="461"/>
                  </a:lnTo>
                  <a:lnTo>
                    <a:pt x="34" y="450"/>
                  </a:lnTo>
                  <a:lnTo>
                    <a:pt x="12" y="450"/>
                  </a:lnTo>
                  <a:lnTo>
                    <a:pt x="12" y="444"/>
                  </a:lnTo>
                  <a:lnTo>
                    <a:pt x="6" y="444"/>
                  </a:lnTo>
                  <a:lnTo>
                    <a:pt x="6" y="438"/>
                  </a:lnTo>
                  <a:lnTo>
                    <a:pt x="0" y="438"/>
                  </a:lnTo>
                  <a:lnTo>
                    <a:pt x="0" y="421"/>
                  </a:lnTo>
                  <a:lnTo>
                    <a:pt x="6" y="421"/>
                  </a:lnTo>
                  <a:lnTo>
                    <a:pt x="6" y="416"/>
                  </a:lnTo>
                  <a:lnTo>
                    <a:pt x="12" y="416"/>
                  </a:lnTo>
                  <a:lnTo>
                    <a:pt x="12" y="410"/>
                  </a:lnTo>
                  <a:lnTo>
                    <a:pt x="29" y="410"/>
                  </a:lnTo>
                  <a:lnTo>
                    <a:pt x="29" y="404"/>
                  </a:lnTo>
                  <a:lnTo>
                    <a:pt x="34" y="404"/>
                  </a:lnTo>
                  <a:lnTo>
                    <a:pt x="34" y="399"/>
                  </a:lnTo>
                  <a:lnTo>
                    <a:pt x="40" y="399"/>
                  </a:lnTo>
                  <a:lnTo>
                    <a:pt x="40" y="393"/>
                  </a:lnTo>
                  <a:lnTo>
                    <a:pt x="51" y="393"/>
                  </a:lnTo>
                  <a:lnTo>
                    <a:pt x="51" y="387"/>
                  </a:lnTo>
                  <a:lnTo>
                    <a:pt x="57" y="387"/>
                  </a:lnTo>
                  <a:lnTo>
                    <a:pt x="57" y="381"/>
                  </a:lnTo>
                  <a:lnTo>
                    <a:pt x="62" y="381"/>
                  </a:lnTo>
                  <a:lnTo>
                    <a:pt x="62" y="376"/>
                  </a:lnTo>
                  <a:lnTo>
                    <a:pt x="69" y="376"/>
                  </a:lnTo>
                  <a:lnTo>
                    <a:pt x="69" y="371"/>
                  </a:lnTo>
                  <a:lnTo>
                    <a:pt x="79" y="371"/>
                  </a:lnTo>
                  <a:lnTo>
                    <a:pt x="79" y="364"/>
                  </a:lnTo>
                  <a:lnTo>
                    <a:pt x="91" y="364"/>
                  </a:lnTo>
                  <a:lnTo>
                    <a:pt x="91" y="359"/>
                  </a:lnTo>
                  <a:lnTo>
                    <a:pt x="97" y="359"/>
                  </a:lnTo>
                  <a:lnTo>
                    <a:pt x="97" y="347"/>
                  </a:lnTo>
                  <a:lnTo>
                    <a:pt x="108" y="347"/>
                  </a:lnTo>
                  <a:lnTo>
                    <a:pt x="108" y="342"/>
                  </a:lnTo>
                  <a:lnTo>
                    <a:pt x="114" y="342"/>
                  </a:lnTo>
                  <a:lnTo>
                    <a:pt x="114" y="336"/>
                  </a:lnTo>
                  <a:lnTo>
                    <a:pt x="119" y="336"/>
                  </a:lnTo>
                  <a:lnTo>
                    <a:pt x="119" y="330"/>
                  </a:lnTo>
                  <a:lnTo>
                    <a:pt x="126" y="330"/>
                  </a:lnTo>
                  <a:lnTo>
                    <a:pt x="126" y="324"/>
                  </a:lnTo>
                  <a:lnTo>
                    <a:pt x="136" y="324"/>
                  </a:lnTo>
                  <a:lnTo>
                    <a:pt x="136" y="319"/>
                  </a:lnTo>
                  <a:lnTo>
                    <a:pt x="143" y="319"/>
                  </a:lnTo>
                  <a:lnTo>
                    <a:pt x="143" y="314"/>
                  </a:lnTo>
                  <a:lnTo>
                    <a:pt x="154" y="314"/>
                  </a:lnTo>
                  <a:lnTo>
                    <a:pt x="154" y="307"/>
                  </a:lnTo>
                  <a:lnTo>
                    <a:pt x="159" y="307"/>
                  </a:lnTo>
                  <a:lnTo>
                    <a:pt x="159" y="302"/>
                  </a:lnTo>
                  <a:lnTo>
                    <a:pt x="165" y="302"/>
                  </a:lnTo>
                  <a:lnTo>
                    <a:pt x="165" y="296"/>
                  </a:lnTo>
                  <a:lnTo>
                    <a:pt x="176" y="296"/>
                  </a:lnTo>
                  <a:lnTo>
                    <a:pt x="176" y="290"/>
                  </a:lnTo>
                  <a:lnTo>
                    <a:pt x="188" y="290"/>
                  </a:lnTo>
                  <a:lnTo>
                    <a:pt x="188" y="285"/>
                  </a:lnTo>
                  <a:lnTo>
                    <a:pt x="193" y="285"/>
                  </a:lnTo>
                  <a:lnTo>
                    <a:pt x="193" y="279"/>
                  </a:lnTo>
                  <a:lnTo>
                    <a:pt x="200" y="279"/>
                  </a:lnTo>
                  <a:lnTo>
                    <a:pt x="200" y="273"/>
                  </a:lnTo>
                  <a:lnTo>
                    <a:pt x="205" y="273"/>
                  </a:lnTo>
                  <a:lnTo>
                    <a:pt x="205" y="267"/>
                  </a:lnTo>
                  <a:lnTo>
                    <a:pt x="211" y="267"/>
                  </a:lnTo>
                  <a:lnTo>
                    <a:pt x="211" y="262"/>
                  </a:lnTo>
                  <a:lnTo>
                    <a:pt x="216" y="262"/>
                  </a:lnTo>
                  <a:lnTo>
                    <a:pt x="216" y="256"/>
                  </a:lnTo>
                  <a:lnTo>
                    <a:pt x="222" y="256"/>
                  </a:lnTo>
                  <a:lnTo>
                    <a:pt x="222" y="250"/>
                  </a:lnTo>
                  <a:lnTo>
                    <a:pt x="233" y="250"/>
                  </a:lnTo>
                  <a:lnTo>
                    <a:pt x="233" y="245"/>
                  </a:lnTo>
                  <a:lnTo>
                    <a:pt x="245" y="245"/>
                  </a:lnTo>
                  <a:lnTo>
                    <a:pt x="245" y="239"/>
                  </a:lnTo>
                  <a:lnTo>
                    <a:pt x="250" y="239"/>
                  </a:lnTo>
                  <a:lnTo>
                    <a:pt x="250" y="233"/>
                  </a:lnTo>
                  <a:lnTo>
                    <a:pt x="257" y="233"/>
                  </a:lnTo>
                  <a:lnTo>
                    <a:pt x="257" y="228"/>
                  </a:lnTo>
                  <a:lnTo>
                    <a:pt x="262" y="228"/>
                  </a:lnTo>
                  <a:lnTo>
                    <a:pt x="262" y="222"/>
                  </a:lnTo>
                  <a:lnTo>
                    <a:pt x="268" y="222"/>
                  </a:lnTo>
                  <a:lnTo>
                    <a:pt x="268" y="217"/>
                  </a:lnTo>
                  <a:lnTo>
                    <a:pt x="273" y="217"/>
                  </a:lnTo>
                  <a:lnTo>
                    <a:pt x="273" y="210"/>
                  </a:lnTo>
                  <a:lnTo>
                    <a:pt x="279" y="210"/>
                  </a:lnTo>
                  <a:lnTo>
                    <a:pt x="279" y="200"/>
                  </a:lnTo>
                  <a:lnTo>
                    <a:pt x="285" y="200"/>
                  </a:lnTo>
                  <a:lnTo>
                    <a:pt x="285" y="194"/>
                  </a:lnTo>
                  <a:lnTo>
                    <a:pt x="290" y="194"/>
                  </a:lnTo>
                  <a:lnTo>
                    <a:pt x="290" y="183"/>
                  </a:lnTo>
                  <a:lnTo>
                    <a:pt x="297" y="183"/>
                  </a:lnTo>
                  <a:lnTo>
                    <a:pt x="297" y="177"/>
                  </a:lnTo>
                  <a:lnTo>
                    <a:pt x="302" y="177"/>
                  </a:lnTo>
                  <a:lnTo>
                    <a:pt x="302" y="171"/>
                  </a:lnTo>
                  <a:lnTo>
                    <a:pt x="307" y="171"/>
                  </a:lnTo>
                  <a:lnTo>
                    <a:pt x="307" y="165"/>
                  </a:lnTo>
                  <a:lnTo>
                    <a:pt x="314" y="165"/>
                  </a:lnTo>
                  <a:lnTo>
                    <a:pt x="314" y="160"/>
                  </a:lnTo>
                  <a:lnTo>
                    <a:pt x="319" y="160"/>
                  </a:lnTo>
                  <a:lnTo>
                    <a:pt x="319" y="154"/>
                  </a:lnTo>
                  <a:lnTo>
                    <a:pt x="324" y="154"/>
                  </a:lnTo>
                  <a:lnTo>
                    <a:pt x="324" y="148"/>
                  </a:lnTo>
                  <a:lnTo>
                    <a:pt x="336" y="148"/>
                  </a:lnTo>
                  <a:lnTo>
                    <a:pt x="336" y="143"/>
                  </a:lnTo>
                  <a:lnTo>
                    <a:pt x="342" y="143"/>
                  </a:lnTo>
                  <a:lnTo>
                    <a:pt x="342" y="137"/>
                  </a:lnTo>
                  <a:lnTo>
                    <a:pt x="347" y="137"/>
                  </a:lnTo>
                  <a:lnTo>
                    <a:pt x="347" y="131"/>
                  </a:lnTo>
                  <a:lnTo>
                    <a:pt x="359" y="131"/>
                  </a:lnTo>
                  <a:lnTo>
                    <a:pt x="359" y="126"/>
                  </a:lnTo>
                  <a:lnTo>
                    <a:pt x="364" y="126"/>
                  </a:lnTo>
                  <a:lnTo>
                    <a:pt x="364" y="120"/>
                  </a:lnTo>
                  <a:lnTo>
                    <a:pt x="376" y="120"/>
                  </a:lnTo>
                  <a:lnTo>
                    <a:pt x="376" y="114"/>
                  </a:lnTo>
                  <a:lnTo>
                    <a:pt x="381" y="114"/>
                  </a:lnTo>
                  <a:lnTo>
                    <a:pt x="381" y="108"/>
                  </a:lnTo>
                  <a:lnTo>
                    <a:pt x="387" y="108"/>
                  </a:lnTo>
                  <a:lnTo>
                    <a:pt x="387" y="103"/>
                  </a:lnTo>
                  <a:lnTo>
                    <a:pt x="393" y="103"/>
                  </a:lnTo>
                  <a:lnTo>
                    <a:pt x="393" y="97"/>
                  </a:lnTo>
                  <a:lnTo>
                    <a:pt x="399" y="97"/>
                  </a:lnTo>
                  <a:lnTo>
                    <a:pt x="399" y="91"/>
                  </a:lnTo>
                  <a:lnTo>
                    <a:pt x="416" y="91"/>
                  </a:lnTo>
                  <a:lnTo>
                    <a:pt x="416" y="86"/>
                  </a:lnTo>
                  <a:lnTo>
                    <a:pt x="421" y="86"/>
                  </a:lnTo>
                  <a:lnTo>
                    <a:pt x="421" y="80"/>
                  </a:lnTo>
                  <a:lnTo>
                    <a:pt x="433" y="80"/>
                  </a:lnTo>
                  <a:lnTo>
                    <a:pt x="433" y="74"/>
                  </a:lnTo>
                  <a:lnTo>
                    <a:pt x="438" y="74"/>
                  </a:lnTo>
                  <a:lnTo>
                    <a:pt x="438" y="63"/>
                  </a:lnTo>
                  <a:lnTo>
                    <a:pt x="449" y="63"/>
                  </a:lnTo>
                  <a:lnTo>
                    <a:pt x="449" y="57"/>
                  </a:lnTo>
                  <a:lnTo>
                    <a:pt x="461" y="57"/>
                  </a:lnTo>
                  <a:lnTo>
                    <a:pt x="461" y="51"/>
                  </a:lnTo>
                  <a:lnTo>
                    <a:pt x="466" y="51"/>
                  </a:lnTo>
                  <a:lnTo>
                    <a:pt x="466" y="46"/>
                  </a:lnTo>
                  <a:lnTo>
                    <a:pt x="473" y="46"/>
                  </a:lnTo>
                  <a:lnTo>
                    <a:pt x="473" y="40"/>
                  </a:lnTo>
                  <a:lnTo>
                    <a:pt x="478" y="40"/>
                  </a:lnTo>
                  <a:lnTo>
                    <a:pt x="478" y="34"/>
                  </a:lnTo>
                  <a:lnTo>
                    <a:pt x="490" y="34"/>
                  </a:lnTo>
                  <a:lnTo>
                    <a:pt x="490" y="29"/>
                  </a:lnTo>
                  <a:lnTo>
                    <a:pt x="495" y="29"/>
                  </a:lnTo>
                  <a:lnTo>
                    <a:pt x="495" y="24"/>
                  </a:lnTo>
                  <a:lnTo>
                    <a:pt x="506" y="24"/>
                  </a:lnTo>
                  <a:lnTo>
                    <a:pt x="506" y="17"/>
                  </a:lnTo>
                  <a:lnTo>
                    <a:pt x="513" y="17"/>
                  </a:lnTo>
                  <a:lnTo>
                    <a:pt x="513" y="12"/>
                  </a:lnTo>
                  <a:lnTo>
                    <a:pt x="530" y="12"/>
                  </a:lnTo>
                  <a:lnTo>
                    <a:pt x="530" y="6"/>
                  </a:lnTo>
                  <a:lnTo>
                    <a:pt x="535" y="6"/>
                  </a:lnTo>
                  <a:lnTo>
                    <a:pt x="535" y="0"/>
                  </a:lnTo>
                  <a:lnTo>
                    <a:pt x="563" y="0"/>
                  </a:lnTo>
                  <a:lnTo>
                    <a:pt x="563" y="17"/>
                  </a:lnTo>
                  <a:lnTo>
                    <a:pt x="570" y="17"/>
                  </a:lnTo>
                  <a:lnTo>
                    <a:pt x="570" y="40"/>
                  </a:lnTo>
                  <a:lnTo>
                    <a:pt x="575" y="40"/>
                  </a:lnTo>
                  <a:lnTo>
                    <a:pt x="575" y="86"/>
                  </a:lnTo>
                  <a:lnTo>
                    <a:pt x="580" y="86"/>
                  </a:lnTo>
                  <a:lnTo>
                    <a:pt x="580" y="108"/>
                  </a:lnTo>
                  <a:lnTo>
                    <a:pt x="587" y="108"/>
                  </a:lnTo>
                  <a:lnTo>
                    <a:pt x="587" y="143"/>
                  </a:lnTo>
                  <a:lnTo>
                    <a:pt x="592" y="143"/>
                  </a:lnTo>
                  <a:lnTo>
                    <a:pt x="592" y="171"/>
                  </a:lnTo>
                  <a:lnTo>
                    <a:pt x="597" y="171"/>
                  </a:lnTo>
                  <a:lnTo>
                    <a:pt x="597" y="205"/>
                  </a:lnTo>
                  <a:lnTo>
                    <a:pt x="604" y="205"/>
                  </a:lnTo>
                  <a:lnTo>
                    <a:pt x="604" y="217"/>
                  </a:lnTo>
                  <a:lnTo>
                    <a:pt x="609" y="217"/>
                  </a:lnTo>
                  <a:lnTo>
                    <a:pt x="609" y="233"/>
                  </a:lnTo>
                  <a:lnTo>
                    <a:pt x="615" y="233"/>
                  </a:lnTo>
                  <a:lnTo>
                    <a:pt x="615" y="262"/>
                  </a:lnTo>
                  <a:lnTo>
                    <a:pt x="620" y="262"/>
                  </a:lnTo>
                  <a:lnTo>
                    <a:pt x="620" y="290"/>
                  </a:lnTo>
                  <a:lnTo>
                    <a:pt x="627" y="290"/>
                  </a:lnTo>
                  <a:lnTo>
                    <a:pt x="627" y="307"/>
                  </a:lnTo>
                  <a:lnTo>
                    <a:pt x="632" y="307"/>
                  </a:lnTo>
                  <a:lnTo>
                    <a:pt x="632" y="324"/>
                  </a:lnTo>
                  <a:lnTo>
                    <a:pt x="637" y="324"/>
                  </a:lnTo>
                  <a:lnTo>
                    <a:pt x="637" y="342"/>
                  </a:lnTo>
                  <a:lnTo>
                    <a:pt x="644" y="342"/>
                  </a:lnTo>
                  <a:lnTo>
                    <a:pt x="644" y="359"/>
                  </a:lnTo>
                  <a:lnTo>
                    <a:pt x="649" y="359"/>
                  </a:lnTo>
                  <a:lnTo>
                    <a:pt x="649" y="376"/>
                  </a:lnTo>
                  <a:lnTo>
                    <a:pt x="654" y="376"/>
                  </a:lnTo>
                  <a:lnTo>
                    <a:pt x="654" y="393"/>
                  </a:lnTo>
                  <a:lnTo>
                    <a:pt x="661" y="393"/>
                  </a:lnTo>
                  <a:lnTo>
                    <a:pt x="661" y="410"/>
                  </a:lnTo>
                  <a:lnTo>
                    <a:pt x="666" y="410"/>
                  </a:lnTo>
                  <a:lnTo>
                    <a:pt x="666" y="428"/>
                  </a:lnTo>
                  <a:lnTo>
                    <a:pt x="672" y="428"/>
                  </a:lnTo>
                  <a:lnTo>
                    <a:pt x="672" y="444"/>
                  </a:lnTo>
                  <a:lnTo>
                    <a:pt x="677" y="444"/>
                  </a:lnTo>
                  <a:lnTo>
                    <a:pt x="677" y="461"/>
                  </a:lnTo>
                  <a:lnTo>
                    <a:pt x="683" y="461"/>
                  </a:lnTo>
                  <a:lnTo>
                    <a:pt x="683" y="490"/>
                  </a:lnTo>
                  <a:lnTo>
                    <a:pt x="689" y="490"/>
                  </a:lnTo>
                  <a:lnTo>
                    <a:pt x="689" y="507"/>
                  </a:lnTo>
                  <a:lnTo>
                    <a:pt x="694" y="507"/>
                  </a:lnTo>
                  <a:lnTo>
                    <a:pt x="694" y="530"/>
                  </a:lnTo>
                  <a:lnTo>
                    <a:pt x="701" y="530"/>
                  </a:lnTo>
                  <a:lnTo>
                    <a:pt x="701" y="547"/>
                  </a:lnTo>
                  <a:lnTo>
                    <a:pt x="706" y="547"/>
                  </a:lnTo>
                  <a:lnTo>
                    <a:pt x="706" y="564"/>
                  </a:lnTo>
                  <a:lnTo>
                    <a:pt x="711" y="564"/>
                  </a:lnTo>
                  <a:lnTo>
                    <a:pt x="711" y="587"/>
                  </a:lnTo>
                  <a:lnTo>
                    <a:pt x="718" y="587"/>
                  </a:lnTo>
                  <a:lnTo>
                    <a:pt x="718" y="609"/>
                  </a:lnTo>
                  <a:lnTo>
                    <a:pt x="723" y="609"/>
                  </a:lnTo>
                  <a:lnTo>
                    <a:pt x="723" y="626"/>
                  </a:lnTo>
                  <a:lnTo>
                    <a:pt x="729" y="626"/>
                  </a:lnTo>
                  <a:lnTo>
                    <a:pt x="729" y="637"/>
                  </a:lnTo>
                  <a:lnTo>
                    <a:pt x="734" y="637"/>
                  </a:lnTo>
                  <a:lnTo>
                    <a:pt x="734" y="649"/>
                  </a:lnTo>
                  <a:lnTo>
                    <a:pt x="740" y="649"/>
                  </a:lnTo>
                  <a:lnTo>
                    <a:pt x="740" y="661"/>
                  </a:lnTo>
                  <a:lnTo>
                    <a:pt x="746" y="661"/>
                  </a:lnTo>
                  <a:lnTo>
                    <a:pt x="746" y="677"/>
                  </a:lnTo>
                  <a:lnTo>
                    <a:pt x="751" y="677"/>
                  </a:lnTo>
                  <a:lnTo>
                    <a:pt x="751" y="689"/>
                  </a:lnTo>
                  <a:lnTo>
                    <a:pt x="758" y="689"/>
                  </a:lnTo>
                  <a:lnTo>
                    <a:pt x="758" y="694"/>
                  </a:lnTo>
                  <a:lnTo>
                    <a:pt x="763" y="694"/>
                  </a:lnTo>
                  <a:lnTo>
                    <a:pt x="763" y="706"/>
                  </a:lnTo>
                  <a:lnTo>
                    <a:pt x="768" y="706"/>
                  </a:lnTo>
                  <a:lnTo>
                    <a:pt x="768" y="718"/>
                  </a:lnTo>
                  <a:lnTo>
                    <a:pt x="775" y="718"/>
                  </a:lnTo>
                  <a:lnTo>
                    <a:pt x="775" y="734"/>
                  </a:lnTo>
                  <a:lnTo>
                    <a:pt x="780" y="734"/>
                  </a:lnTo>
                  <a:lnTo>
                    <a:pt x="780" y="751"/>
                  </a:lnTo>
                  <a:lnTo>
                    <a:pt x="786" y="751"/>
                  </a:lnTo>
                  <a:lnTo>
                    <a:pt x="786" y="757"/>
                  </a:lnTo>
                  <a:lnTo>
                    <a:pt x="792" y="757"/>
                  </a:lnTo>
                  <a:lnTo>
                    <a:pt x="792" y="768"/>
                  </a:lnTo>
                  <a:lnTo>
                    <a:pt x="797" y="768"/>
                  </a:lnTo>
                  <a:lnTo>
                    <a:pt x="797" y="780"/>
                  </a:lnTo>
                  <a:lnTo>
                    <a:pt x="803" y="780"/>
                  </a:lnTo>
                  <a:lnTo>
                    <a:pt x="803" y="791"/>
                  </a:lnTo>
                  <a:lnTo>
                    <a:pt x="808" y="791"/>
                  </a:lnTo>
                  <a:lnTo>
                    <a:pt x="808" y="803"/>
                  </a:lnTo>
                  <a:lnTo>
                    <a:pt x="815" y="803"/>
                  </a:lnTo>
                  <a:lnTo>
                    <a:pt x="815" y="814"/>
                  </a:lnTo>
                  <a:lnTo>
                    <a:pt x="820" y="814"/>
                  </a:lnTo>
                  <a:lnTo>
                    <a:pt x="820" y="825"/>
                  </a:lnTo>
                  <a:lnTo>
                    <a:pt x="825" y="825"/>
                  </a:lnTo>
                  <a:lnTo>
                    <a:pt x="825" y="832"/>
                  </a:lnTo>
                  <a:lnTo>
                    <a:pt x="832" y="832"/>
                  </a:lnTo>
                  <a:lnTo>
                    <a:pt x="832" y="842"/>
                  </a:lnTo>
                  <a:lnTo>
                    <a:pt x="837" y="842"/>
                  </a:lnTo>
                  <a:lnTo>
                    <a:pt x="837" y="854"/>
                  </a:lnTo>
                  <a:lnTo>
                    <a:pt x="843" y="854"/>
                  </a:lnTo>
                  <a:lnTo>
                    <a:pt x="843" y="865"/>
                  </a:lnTo>
                  <a:lnTo>
                    <a:pt x="849" y="865"/>
                  </a:lnTo>
                  <a:lnTo>
                    <a:pt x="849" y="877"/>
                  </a:lnTo>
                  <a:lnTo>
                    <a:pt x="854" y="877"/>
                  </a:lnTo>
                  <a:lnTo>
                    <a:pt x="854" y="888"/>
                  </a:lnTo>
                  <a:lnTo>
                    <a:pt x="860" y="888"/>
                  </a:lnTo>
                  <a:lnTo>
                    <a:pt x="860" y="899"/>
                  </a:lnTo>
                  <a:lnTo>
                    <a:pt x="865" y="899"/>
                  </a:lnTo>
                  <a:lnTo>
                    <a:pt x="865" y="916"/>
                  </a:lnTo>
                  <a:lnTo>
                    <a:pt x="870" y="916"/>
                  </a:lnTo>
                  <a:lnTo>
                    <a:pt x="870" y="922"/>
                  </a:lnTo>
                  <a:lnTo>
                    <a:pt x="877" y="922"/>
                  </a:lnTo>
                  <a:lnTo>
                    <a:pt x="877" y="939"/>
                  </a:lnTo>
                  <a:lnTo>
                    <a:pt x="882" y="939"/>
                  </a:lnTo>
                  <a:lnTo>
                    <a:pt x="882" y="945"/>
                  </a:lnTo>
                  <a:lnTo>
                    <a:pt x="888" y="945"/>
                  </a:lnTo>
                  <a:lnTo>
                    <a:pt x="888" y="956"/>
                  </a:lnTo>
                  <a:lnTo>
                    <a:pt x="894" y="956"/>
                  </a:lnTo>
                  <a:lnTo>
                    <a:pt x="894" y="968"/>
                  </a:lnTo>
                  <a:lnTo>
                    <a:pt x="900" y="968"/>
                  </a:lnTo>
                  <a:lnTo>
                    <a:pt x="900" y="979"/>
                  </a:lnTo>
                  <a:lnTo>
                    <a:pt x="905" y="979"/>
                  </a:lnTo>
                  <a:lnTo>
                    <a:pt x="905" y="991"/>
                  </a:lnTo>
                  <a:lnTo>
                    <a:pt x="910" y="991"/>
                  </a:lnTo>
                  <a:lnTo>
                    <a:pt x="910" y="996"/>
                  </a:lnTo>
                  <a:lnTo>
                    <a:pt x="917" y="996"/>
                  </a:lnTo>
                  <a:lnTo>
                    <a:pt x="917" y="1008"/>
                  </a:lnTo>
                  <a:lnTo>
                    <a:pt x="922" y="1008"/>
                  </a:lnTo>
                  <a:lnTo>
                    <a:pt x="922" y="1020"/>
                  </a:lnTo>
                  <a:lnTo>
                    <a:pt x="927" y="1020"/>
                  </a:lnTo>
                  <a:lnTo>
                    <a:pt x="927" y="1025"/>
                  </a:lnTo>
                  <a:lnTo>
                    <a:pt x="934" y="1025"/>
                  </a:lnTo>
                  <a:lnTo>
                    <a:pt x="934" y="1036"/>
                  </a:lnTo>
                  <a:lnTo>
                    <a:pt x="939" y="1036"/>
                  </a:lnTo>
                  <a:lnTo>
                    <a:pt x="939" y="1048"/>
                  </a:lnTo>
                  <a:lnTo>
                    <a:pt x="945" y="1048"/>
                  </a:lnTo>
                  <a:lnTo>
                    <a:pt x="945" y="1053"/>
                  </a:lnTo>
                  <a:lnTo>
                    <a:pt x="951" y="1053"/>
                  </a:lnTo>
                  <a:lnTo>
                    <a:pt x="951" y="1065"/>
                  </a:lnTo>
                  <a:lnTo>
                    <a:pt x="956" y="1065"/>
                  </a:lnTo>
                  <a:lnTo>
                    <a:pt x="956" y="1075"/>
                  </a:lnTo>
                  <a:lnTo>
                    <a:pt x="962" y="1075"/>
                  </a:lnTo>
                  <a:lnTo>
                    <a:pt x="962" y="1087"/>
                  </a:lnTo>
                  <a:lnTo>
                    <a:pt x="967" y="1087"/>
                  </a:lnTo>
                  <a:lnTo>
                    <a:pt x="967" y="1093"/>
                  </a:lnTo>
                  <a:lnTo>
                    <a:pt x="974" y="1093"/>
                  </a:lnTo>
                  <a:lnTo>
                    <a:pt x="974" y="1104"/>
                  </a:lnTo>
                  <a:lnTo>
                    <a:pt x="979" y="1104"/>
                  </a:lnTo>
                  <a:lnTo>
                    <a:pt x="979" y="1115"/>
                  </a:lnTo>
                  <a:lnTo>
                    <a:pt x="984" y="1115"/>
                  </a:lnTo>
                  <a:lnTo>
                    <a:pt x="984" y="1122"/>
                  </a:lnTo>
                  <a:lnTo>
                    <a:pt x="991" y="1122"/>
                  </a:lnTo>
                  <a:lnTo>
                    <a:pt x="991" y="1127"/>
                  </a:lnTo>
                  <a:lnTo>
                    <a:pt x="996" y="1127"/>
                  </a:lnTo>
                  <a:lnTo>
                    <a:pt x="996" y="1138"/>
                  </a:lnTo>
                  <a:lnTo>
                    <a:pt x="1002" y="1138"/>
                  </a:lnTo>
                  <a:lnTo>
                    <a:pt x="1002" y="1144"/>
                  </a:lnTo>
                  <a:lnTo>
                    <a:pt x="1008" y="1144"/>
                  </a:lnTo>
                  <a:lnTo>
                    <a:pt x="1008" y="1155"/>
                  </a:lnTo>
                  <a:lnTo>
                    <a:pt x="1013" y="1155"/>
                  </a:lnTo>
                  <a:lnTo>
                    <a:pt x="1013" y="1161"/>
                  </a:lnTo>
                  <a:lnTo>
                    <a:pt x="1019" y="1161"/>
                  </a:lnTo>
                  <a:lnTo>
                    <a:pt x="1019" y="1167"/>
                  </a:lnTo>
                  <a:lnTo>
                    <a:pt x="1024" y="1167"/>
                  </a:lnTo>
                  <a:lnTo>
                    <a:pt x="1024" y="1179"/>
                  </a:lnTo>
                  <a:lnTo>
                    <a:pt x="1031" y="1179"/>
                  </a:lnTo>
                  <a:lnTo>
                    <a:pt x="1031" y="1184"/>
                  </a:lnTo>
                  <a:lnTo>
                    <a:pt x="1036" y="1184"/>
                  </a:lnTo>
                  <a:lnTo>
                    <a:pt x="1036" y="1195"/>
                  </a:lnTo>
                  <a:lnTo>
                    <a:pt x="1041" y="1195"/>
                  </a:lnTo>
                  <a:lnTo>
                    <a:pt x="1041" y="1201"/>
                  </a:lnTo>
                  <a:lnTo>
                    <a:pt x="1048" y="1201"/>
                  </a:lnTo>
                  <a:lnTo>
                    <a:pt x="1048" y="1212"/>
                  </a:lnTo>
                  <a:lnTo>
                    <a:pt x="1053" y="1212"/>
                  </a:lnTo>
                  <a:lnTo>
                    <a:pt x="1053" y="1218"/>
                  </a:lnTo>
                  <a:lnTo>
                    <a:pt x="1059" y="1218"/>
                  </a:lnTo>
                  <a:lnTo>
                    <a:pt x="1059" y="1224"/>
                  </a:lnTo>
                  <a:lnTo>
                    <a:pt x="1065" y="1224"/>
                  </a:lnTo>
                  <a:lnTo>
                    <a:pt x="1065" y="1229"/>
                  </a:lnTo>
                  <a:lnTo>
                    <a:pt x="1070" y="1229"/>
                  </a:lnTo>
                  <a:lnTo>
                    <a:pt x="1070" y="1236"/>
                  </a:lnTo>
                  <a:lnTo>
                    <a:pt x="1076" y="1236"/>
                  </a:lnTo>
                  <a:lnTo>
                    <a:pt x="1076" y="1246"/>
                  </a:lnTo>
                  <a:lnTo>
                    <a:pt x="1082" y="1246"/>
                  </a:lnTo>
                  <a:lnTo>
                    <a:pt x="1082" y="1258"/>
                  </a:lnTo>
                  <a:lnTo>
                    <a:pt x="1088" y="1258"/>
                  </a:lnTo>
                  <a:lnTo>
                    <a:pt x="1088" y="1263"/>
                  </a:lnTo>
                  <a:lnTo>
                    <a:pt x="1093" y="1263"/>
                  </a:lnTo>
                  <a:lnTo>
                    <a:pt x="1093" y="1275"/>
                  </a:lnTo>
                  <a:lnTo>
                    <a:pt x="1098" y="1275"/>
                  </a:lnTo>
                  <a:lnTo>
                    <a:pt x="1098" y="1286"/>
                  </a:lnTo>
                  <a:lnTo>
                    <a:pt x="1105" y="1286"/>
                  </a:lnTo>
                  <a:lnTo>
                    <a:pt x="1105" y="1298"/>
                  </a:lnTo>
                  <a:lnTo>
                    <a:pt x="1110" y="1298"/>
                  </a:lnTo>
                  <a:lnTo>
                    <a:pt x="1110" y="1303"/>
                  </a:lnTo>
                  <a:lnTo>
                    <a:pt x="1116" y="1303"/>
                  </a:lnTo>
                  <a:lnTo>
                    <a:pt x="1116" y="1310"/>
                  </a:lnTo>
                  <a:lnTo>
                    <a:pt x="1122" y="1310"/>
                  </a:lnTo>
                  <a:lnTo>
                    <a:pt x="1122" y="1320"/>
                  </a:lnTo>
                  <a:lnTo>
                    <a:pt x="1127" y="1320"/>
                  </a:lnTo>
                  <a:lnTo>
                    <a:pt x="1127" y="1326"/>
                  </a:lnTo>
                  <a:lnTo>
                    <a:pt x="1133" y="1326"/>
                  </a:lnTo>
                  <a:lnTo>
                    <a:pt x="1133" y="1332"/>
                  </a:lnTo>
                  <a:lnTo>
                    <a:pt x="1139" y="1332"/>
                  </a:lnTo>
                  <a:lnTo>
                    <a:pt x="1139" y="1338"/>
                  </a:lnTo>
                  <a:lnTo>
                    <a:pt x="1145" y="1338"/>
                  </a:lnTo>
                  <a:lnTo>
                    <a:pt x="1145" y="1343"/>
                  </a:lnTo>
                  <a:lnTo>
                    <a:pt x="1150" y="1343"/>
                  </a:lnTo>
                  <a:lnTo>
                    <a:pt x="1150" y="1349"/>
                  </a:lnTo>
                  <a:lnTo>
                    <a:pt x="1155" y="1349"/>
                  </a:lnTo>
                  <a:lnTo>
                    <a:pt x="1155" y="1360"/>
                  </a:lnTo>
                  <a:lnTo>
                    <a:pt x="1167" y="1360"/>
                  </a:lnTo>
                  <a:lnTo>
                    <a:pt x="1167" y="1367"/>
                  </a:lnTo>
                  <a:lnTo>
                    <a:pt x="1173" y="1367"/>
                  </a:lnTo>
                  <a:lnTo>
                    <a:pt x="1173" y="1372"/>
                  </a:lnTo>
                  <a:lnTo>
                    <a:pt x="1184" y="1372"/>
                  </a:lnTo>
                  <a:lnTo>
                    <a:pt x="1184" y="1400"/>
                  </a:lnTo>
                  <a:lnTo>
                    <a:pt x="1190" y="1400"/>
                  </a:lnTo>
                  <a:lnTo>
                    <a:pt x="1190" y="1429"/>
                  </a:lnTo>
                  <a:lnTo>
                    <a:pt x="1196" y="1429"/>
                  </a:lnTo>
                  <a:lnTo>
                    <a:pt x="1196" y="1440"/>
                  </a:lnTo>
                  <a:lnTo>
                    <a:pt x="1202" y="1440"/>
                  </a:lnTo>
                  <a:lnTo>
                    <a:pt x="1202" y="1462"/>
                  </a:lnTo>
                  <a:lnTo>
                    <a:pt x="1190" y="1462"/>
                  </a:lnTo>
                  <a:lnTo>
                    <a:pt x="1190" y="1452"/>
                  </a:lnTo>
                  <a:lnTo>
                    <a:pt x="1184" y="1452"/>
                  </a:lnTo>
                  <a:lnTo>
                    <a:pt x="1184" y="1440"/>
                  </a:lnTo>
                  <a:lnTo>
                    <a:pt x="1167" y="1440"/>
                  </a:lnTo>
                  <a:lnTo>
                    <a:pt x="1167" y="1446"/>
                  </a:lnTo>
                  <a:lnTo>
                    <a:pt x="1162" y="1446"/>
                  </a:lnTo>
                  <a:lnTo>
                    <a:pt x="1162" y="1452"/>
                  </a:lnTo>
                  <a:lnTo>
                    <a:pt x="1155" y="1452"/>
                  </a:lnTo>
                  <a:lnTo>
                    <a:pt x="1155" y="1462"/>
                  </a:lnTo>
                  <a:lnTo>
                    <a:pt x="1150" y="1462"/>
                  </a:lnTo>
                  <a:lnTo>
                    <a:pt x="1150" y="1479"/>
                  </a:lnTo>
                  <a:lnTo>
                    <a:pt x="1145" y="1479"/>
                  </a:lnTo>
                  <a:lnTo>
                    <a:pt x="1145" y="1485"/>
                  </a:lnTo>
                  <a:lnTo>
                    <a:pt x="1139" y="1485"/>
                  </a:lnTo>
                  <a:lnTo>
                    <a:pt x="1139" y="1497"/>
                  </a:lnTo>
                  <a:lnTo>
                    <a:pt x="1133" y="1497"/>
                  </a:lnTo>
                  <a:lnTo>
                    <a:pt x="1133" y="1502"/>
                  </a:lnTo>
                  <a:lnTo>
                    <a:pt x="1127" y="1502"/>
                  </a:lnTo>
                  <a:lnTo>
                    <a:pt x="1127" y="1508"/>
                  </a:lnTo>
                  <a:lnTo>
                    <a:pt x="1122" y="1508"/>
                  </a:lnTo>
                  <a:lnTo>
                    <a:pt x="1122" y="1514"/>
                  </a:lnTo>
                  <a:lnTo>
                    <a:pt x="1116" y="1514"/>
                  </a:lnTo>
                  <a:lnTo>
                    <a:pt x="1116" y="1526"/>
                  </a:lnTo>
                  <a:lnTo>
                    <a:pt x="1110" y="1526"/>
                  </a:lnTo>
                  <a:lnTo>
                    <a:pt x="1110" y="1536"/>
                  </a:lnTo>
                  <a:lnTo>
                    <a:pt x="1105" y="1536"/>
                  </a:lnTo>
                  <a:lnTo>
                    <a:pt x="1105" y="1542"/>
                  </a:lnTo>
                  <a:lnTo>
                    <a:pt x="1098" y="1542"/>
                  </a:lnTo>
                  <a:lnTo>
                    <a:pt x="1098" y="1554"/>
                  </a:lnTo>
                  <a:lnTo>
                    <a:pt x="1093" y="1554"/>
                  </a:lnTo>
                  <a:lnTo>
                    <a:pt x="1093" y="1565"/>
                  </a:lnTo>
                  <a:lnTo>
                    <a:pt x="1088" y="1565"/>
                  </a:lnTo>
                  <a:lnTo>
                    <a:pt x="1088" y="1571"/>
                  </a:lnTo>
                  <a:lnTo>
                    <a:pt x="1082" y="1571"/>
                  </a:lnTo>
                  <a:lnTo>
                    <a:pt x="1082" y="1576"/>
                  </a:lnTo>
                  <a:lnTo>
                    <a:pt x="1076" y="1576"/>
                  </a:lnTo>
                  <a:lnTo>
                    <a:pt x="1076" y="1583"/>
                  </a:lnTo>
                  <a:lnTo>
                    <a:pt x="1070" y="1583"/>
                  </a:lnTo>
                  <a:lnTo>
                    <a:pt x="1070" y="1588"/>
                  </a:lnTo>
                  <a:lnTo>
                    <a:pt x="1065" y="1588"/>
                  </a:lnTo>
                  <a:lnTo>
                    <a:pt x="1065" y="1593"/>
                  </a:lnTo>
                  <a:lnTo>
                    <a:pt x="1059" y="1593"/>
                  </a:lnTo>
                  <a:lnTo>
                    <a:pt x="1059" y="1605"/>
                  </a:lnTo>
                  <a:lnTo>
                    <a:pt x="1053" y="1605"/>
                  </a:lnTo>
                  <a:lnTo>
                    <a:pt x="1053" y="1611"/>
                  </a:lnTo>
                  <a:lnTo>
                    <a:pt x="1048" y="1611"/>
                  </a:lnTo>
                  <a:lnTo>
                    <a:pt x="1048" y="1622"/>
                  </a:lnTo>
                  <a:lnTo>
                    <a:pt x="1041" y="1622"/>
                  </a:lnTo>
                  <a:lnTo>
                    <a:pt x="1041" y="1628"/>
                  </a:lnTo>
                  <a:lnTo>
                    <a:pt x="1036" y="1628"/>
                  </a:lnTo>
                  <a:lnTo>
                    <a:pt x="1036" y="1633"/>
                  </a:lnTo>
                  <a:lnTo>
                    <a:pt x="1031" y="1633"/>
                  </a:lnTo>
                  <a:lnTo>
                    <a:pt x="1031" y="1640"/>
                  </a:lnTo>
                  <a:lnTo>
                    <a:pt x="1024" y="1640"/>
                  </a:lnTo>
                  <a:lnTo>
                    <a:pt x="1024" y="1650"/>
                  </a:lnTo>
                  <a:lnTo>
                    <a:pt x="1019" y="1650"/>
                  </a:lnTo>
                  <a:lnTo>
                    <a:pt x="1019" y="1662"/>
                  </a:lnTo>
                  <a:lnTo>
                    <a:pt x="1013" y="1662"/>
                  </a:lnTo>
                  <a:lnTo>
                    <a:pt x="1013" y="1667"/>
                  </a:lnTo>
                  <a:lnTo>
                    <a:pt x="1008" y="1667"/>
                  </a:lnTo>
                  <a:lnTo>
                    <a:pt x="1008" y="1673"/>
                  </a:lnTo>
                  <a:lnTo>
                    <a:pt x="1002" y="1673"/>
                  </a:lnTo>
                  <a:lnTo>
                    <a:pt x="1002" y="1679"/>
                  </a:lnTo>
                  <a:lnTo>
                    <a:pt x="996" y="1679"/>
                  </a:lnTo>
                  <a:lnTo>
                    <a:pt x="996" y="1685"/>
                  </a:lnTo>
                  <a:lnTo>
                    <a:pt x="991" y="1685"/>
                  </a:lnTo>
                  <a:lnTo>
                    <a:pt x="991" y="1690"/>
                  </a:lnTo>
                  <a:lnTo>
                    <a:pt x="984" y="1690"/>
                  </a:lnTo>
                  <a:lnTo>
                    <a:pt x="984" y="1702"/>
                  </a:lnTo>
                  <a:lnTo>
                    <a:pt x="979" y="1702"/>
                  </a:lnTo>
                  <a:lnTo>
                    <a:pt x="979" y="1707"/>
                  </a:lnTo>
                  <a:lnTo>
                    <a:pt x="974" y="1707"/>
                  </a:lnTo>
                  <a:lnTo>
                    <a:pt x="974" y="1714"/>
                  </a:lnTo>
                  <a:lnTo>
                    <a:pt x="967" y="1714"/>
                  </a:lnTo>
                  <a:lnTo>
                    <a:pt x="967" y="1724"/>
                  </a:lnTo>
                  <a:lnTo>
                    <a:pt x="962" y="1724"/>
                  </a:lnTo>
                  <a:lnTo>
                    <a:pt x="962" y="1730"/>
                  </a:lnTo>
                  <a:lnTo>
                    <a:pt x="956" y="1730"/>
                  </a:lnTo>
                  <a:lnTo>
                    <a:pt x="956" y="1736"/>
                  </a:lnTo>
                  <a:lnTo>
                    <a:pt x="951" y="1736"/>
                  </a:lnTo>
                  <a:lnTo>
                    <a:pt x="951" y="1747"/>
                  </a:lnTo>
                  <a:lnTo>
                    <a:pt x="945" y="1747"/>
                  </a:lnTo>
                  <a:lnTo>
                    <a:pt x="945" y="1753"/>
                  </a:lnTo>
                  <a:lnTo>
                    <a:pt x="939" y="1753"/>
                  </a:lnTo>
                  <a:lnTo>
                    <a:pt x="939" y="1764"/>
                  </a:lnTo>
                  <a:lnTo>
                    <a:pt x="934" y="1764"/>
                  </a:lnTo>
                  <a:lnTo>
                    <a:pt x="934" y="1776"/>
                  </a:lnTo>
                  <a:lnTo>
                    <a:pt x="927" y="1776"/>
                  </a:lnTo>
                  <a:lnTo>
                    <a:pt x="927" y="1787"/>
                  </a:lnTo>
                  <a:lnTo>
                    <a:pt x="922" y="1787"/>
                  </a:lnTo>
                  <a:lnTo>
                    <a:pt x="922" y="1793"/>
                  </a:lnTo>
                  <a:lnTo>
                    <a:pt x="917" y="1793"/>
                  </a:lnTo>
                  <a:lnTo>
                    <a:pt x="917" y="1804"/>
                  </a:lnTo>
                  <a:lnTo>
                    <a:pt x="910" y="1804"/>
                  </a:lnTo>
                  <a:lnTo>
                    <a:pt x="910" y="1810"/>
                  </a:lnTo>
                  <a:lnTo>
                    <a:pt x="905" y="1810"/>
                  </a:lnTo>
                  <a:lnTo>
                    <a:pt x="905" y="1828"/>
                  </a:lnTo>
                  <a:lnTo>
                    <a:pt x="900" y="1828"/>
                  </a:lnTo>
                  <a:lnTo>
                    <a:pt x="900" y="1838"/>
                  </a:lnTo>
                  <a:lnTo>
                    <a:pt x="894" y="1838"/>
                  </a:lnTo>
                  <a:lnTo>
                    <a:pt x="894" y="1844"/>
                  </a:lnTo>
                  <a:lnTo>
                    <a:pt x="888" y="1844"/>
                  </a:lnTo>
                  <a:lnTo>
                    <a:pt x="888" y="1850"/>
                  </a:lnTo>
                  <a:lnTo>
                    <a:pt x="882" y="1850"/>
                  </a:lnTo>
                  <a:lnTo>
                    <a:pt x="882" y="1856"/>
                  </a:lnTo>
                  <a:lnTo>
                    <a:pt x="877" y="1856"/>
                  </a:lnTo>
                  <a:lnTo>
                    <a:pt x="877" y="1861"/>
                  </a:lnTo>
                  <a:lnTo>
                    <a:pt x="870" y="1861"/>
                  </a:lnTo>
                  <a:lnTo>
                    <a:pt x="870" y="1873"/>
                  </a:lnTo>
                  <a:lnTo>
                    <a:pt x="865" y="1873"/>
                  </a:lnTo>
                  <a:lnTo>
                    <a:pt x="865" y="1878"/>
                  </a:lnTo>
                  <a:lnTo>
                    <a:pt x="860" y="1878"/>
                  </a:lnTo>
                  <a:lnTo>
                    <a:pt x="860" y="1889"/>
                  </a:lnTo>
                  <a:lnTo>
                    <a:pt x="854" y="1889"/>
                  </a:lnTo>
                  <a:lnTo>
                    <a:pt x="854" y="1895"/>
                  </a:lnTo>
                  <a:lnTo>
                    <a:pt x="849" y="1895"/>
                  </a:lnTo>
                  <a:lnTo>
                    <a:pt x="849" y="1901"/>
                  </a:lnTo>
                  <a:lnTo>
                    <a:pt x="843" y="1901"/>
                  </a:lnTo>
                  <a:lnTo>
                    <a:pt x="843" y="1912"/>
                  </a:lnTo>
                  <a:lnTo>
                    <a:pt x="837" y="1912"/>
                  </a:lnTo>
                  <a:lnTo>
                    <a:pt x="837" y="1918"/>
                  </a:lnTo>
                  <a:lnTo>
                    <a:pt x="832" y="1918"/>
                  </a:lnTo>
                  <a:lnTo>
                    <a:pt x="832" y="1923"/>
                  </a:lnTo>
                  <a:lnTo>
                    <a:pt x="825" y="1923"/>
                  </a:lnTo>
                  <a:lnTo>
                    <a:pt x="825" y="1930"/>
                  </a:lnTo>
                  <a:lnTo>
                    <a:pt x="820" y="1930"/>
                  </a:lnTo>
                  <a:lnTo>
                    <a:pt x="820" y="1935"/>
                  </a:lnTo>
                  <a:lnTo>
                    <a:pt x="815" y="1935"/>
                  </a:lnTo>
                  <a:lnTo>
                    <a:pt x="815" y="1940"/>
                  </a:lnTo>
                  <a:lnTo>
                    <a:pt x="808" y="1940"/>
                  </a:lnTo>
                  <a:lnTo>
                    <a:pt x="808" y="1952"/>
                  </a:lnTo>
                  <a:lnTo>
                    <a:pt x="803" y="1952"/>
                  </a:lnTo>
                  <a:lnTo>
                    <a:pt x="803" y="1963"/>
                  </a:lnTo>
                  <a:lnTo>
                    <a:pt x="797" y="1963"/>
                  </a:lnTo>
                  <a:lnTo>
                    <a:pt x="797" y="1975"/>
                  </a:lnTo>
                  <a:lnTo>
                    <a:pt x="792" y="1975"/>
                  </a:lnTo>
                  <a:lnTo>
                    <a:pt x="792" y="1980"/>
                  </a:lnTo>
                  <a:lnTo>
                    <a:pt x="786" y="1980"/>
                  </a:lnTo>
                  <a:lnTo>
                    <a:pt x="786" y="1987"/>
                  </a:lnTo>
                  <a:lnTo>
                    <a:pt x="780" y="1987"/>
                  </a:lnTo>
                  <a:lnTo>
                    <a:pt x="780" y="1992"/>
                  </a:lnTo>
                  <a:lnTo>
                    <a:pt x="775" y="1992"/>
                  </a:lnTo>
                  <a:lnTo>
                    <a:pt x="775" y="2004"/>
                  </a:lnTo>
                  <a:lnTo>
                    <a:pt x="768" y="2004"/>
                  </a:lnTo>
                  <a:lnTo>
                    <a:pt x="768" y="2009"/>
                  </a:lnTo>
                  <a:lnTo>
                    <a:pt x="763" y="2009"/>
                  </a:lnTo>
                  <a:lnTo>
                    <a:pt x="763" y="2020"/>
                  </a:lnTo>
                  <a:lnTo>
                    <a:pt x="758" y="2020"/>
                  </a:lnTo>
                  <a:lnTo>
                    <a:pt x="758" y="2026"/>
                  </a:lnTo>
                  <a:lnTo>
                    <a:pt x="751" y="2026"/>
                  </a:lnTo>
                  <a:lnTo>
                    <a:pt x="751" y="2037"/>
                  </a:lnTo>
                  <a:lnTo>
                    <a:pt x="746" y="2037"/>
                  </a:lnTo>
                  <a:lnTo>
                    <a:pt x="746" y="2044"/>
                  </a:lnTo>
                  <a:lnTo>
                    <a:pt x="740" y="2044"/>
                  </a:lnTo>
                  <a:lnTo>
                    <a:pt x="740" y="2049"/>
                  </a:lnTo>
                  <a:lnTo>
                    <a:pt x="734" y="2049"/>
                  </a:lnTo>
                  <a:lnTo>
                    <a:pt x="734" y="2054"/>
                  </a:lnTo>
                  <a:lnTo>
                    <a:pt x="729" y="2054"/>
                  </a:lnTo>
                  <a:lnTo>
                    <a:pt x="729" y="2061"/>
                  </a:lnTo>
                  <a:lnTo>
                    <a:pt x="723" y="2061"/>
                  </a:lnTo>
                  <a:lnTo>
                    <a:pt x="723" y="2066"/>
                  </a:lnTo>
                  <a:lnTo>
                    <a:pt x="718" y="2066"/>
                  </a:lnTo>
                  <a:lnTo>
                    <a:pt x="718" y="2077"/>
                  </a:lnTo>
                  <a:lnTo>
                    <a:pt x="711" y="2077"/>
                  </a:lnTo>
                  <a:lnTo>
                    <a:pt x="711" y="2083"/>
                  </a:lnTo>
                  <a:lnTo>
                    <a:pt x="706" y="2083"/>
                  </a:lnTo>
                  <a:lnTo>
                    <a:pt x="706" y="2089"/>
                  </a:lnTo>
                  <a:lnTo>
                    <a:pt x="701" y="2089"/>
                  </a:lnTo>
                  <a:lnTo>
                    <a:pt x="701" y="2101"/>
                  </a:lnTo>
                  <a:lnTo>
                    <a:pt x="694" y="2101"/>
                  </a:lnTo>
                  <a:lnTo>
                    <a:pt x="694" y="2111"/>
                  </a:lnTo>
                  <a:lnTo>
                    <a:pt x="689" y="2111"/>
                  </a:lnTo>
                  <a:lnTo>
                    <a:pt x="689" y="2123"/>
                  </a:lnTo>
                  <a:lnTo>
                    <a:pt x="683" y="2123"/>
                  </a:lnTo>
                  <a:lnTo>
                    <a:pt x="683" y="2128"/>
                  </a:lnTo>
                  <a:lnTo>
                    <a:pt x="677" y="2128"/>
                  </a:lnTo>
                  <a:lnTo>
                    <a:pt x="677" y="2140"/>
                  </a:lnTo>
                  <a:lnTo>
                    <a:pt x="672" y="2140"/>
                  </a:lnTo>
                  <a:lnTo>
                    <a:pt x="672" y="2146"/>
                  </a:lnTo>
                  <a:lnTo>
                    <a:pt x="666" y="2146"/>
                  </a:lnTo>
                  <a:lnTo>
                    <a:pt x="666" y="2151"/>
                  </a:lnTo>
                  <a:lnTo>
                    <a:pt x="661" y="2151"/>
                  </a:lnTo>
                  <a:lnTo>
                    <a:pt x="661" y="2157"/>
                  </a:lnTo>
                  <a:lnTo>
                    <a:pt x="654" y="2157"/>
                  </a:lnTo>
                  <a:lnTo>
                    <a:pt x="654" y="2168"/>
                  </a:lnTo>
                  <a:lnTo>
                    <a:pt x="649" y="2168"/>
                  </a:lnTo>
                  <a:lnTo>
                    <a:pt x="649" y="2180"/>
                  </a:lnTo>
                  <a:lnTo>
                    <a:pt x="644" y="2180"/>
                  </a:lnTo>
                  <a:lnTo>
                    <a:pt x="644" y="2191"/>
                  </a:lnTo>
                  <a:lnTo>
                    <a:pt x="637" y="2191"/>
                  </a:lnTo>
                  <a:lnTo>
                    <a:pt x="637" y="2203"/>
                  </a:lnTo>
                  <a:lnTo>
                    <a:pt x="632" y="2203"/>
                  </a:lnTo>
                  <a:lnTo>
                    <a:pt x="632" y="2214"/>
                  </a:lnTo>
                  <a:lnTo>
                    <a:pt x="627" y="2214"/>
                  </a:lnTo>
                  <a:lnTo>
                    <a:pt x="627" y="2220"/>
                  </a:lnTo>
                  <a:lnTo>
                    <a:pt x="620" y="2220"/>
                  </a:lnTo>
                  <a:lnTo>
                    <a:pt x="620" y="2225"/>
                  </a:lnTo>
                  <a:lnTo>
                    <a:pt x="615" y="2225"/>
                  </a:lnTo>
                  <a:lnTo>
                    <a:pt x="615" y="2232"/>
                  </a:lnTo>
                  <a:lnTo>
                    <a:pt x="609" y="2232"/>
                  </a:lnTo>
                  <a:lnTo>
                    <a:pt x="609" y="2237"/>
                  </a:lnTo>
                  <a:lnTo>
                    <a:pt x="604" y="2237"/>
                  </a:lnTo>
                  <a:lnTo>
                    <a:pt x="604" y="2248"/>
                  </a:lnTo>
                  <a:lnTo>
                    <a:pt x="597" y="2248"/>
                  </a:lnTo>
                  <a:lnTo>
                    <a:pt x="597" y="2254"/>
                  </a:lnTo>
                  <a:lnTo>
                    <a:pt x="592" y="2254"/>
                  </a:lnTo>
                  <a:lnTo>
                    <a:pt x="592" y="2265"/>
                  </a:lnTo>
                  <a:lnTo>
                    <a:pt x="587" y="2265"/>
                  </a:lnTo>
                  <a:lnTo>
                    <a:pt x="587" y="2277"/>
                  </a:lnTo>
                  <a:lnTo>
                    <a:pt x="580" y="2277"/>
                  </a:lnTo>
                  <a:lnTo>
                    <a:pt x="580" y="2282"/>
                  </a:lnTo>
                  <a:lnTo>
                    <a:pt x="575" y="2282"/>
                  </a:lnTo>
                  <a:lnTo>
                    <a:pt x="575" y="2294"/>
                  </a:lnTo>
                  <a:lnTo>
                    <a:pt x="570" y="2294"/>
                  </a:lnTo>
                  <a:lnTo>
                    <a:pt x="570" y="2305"/>
                  </a:lnTo>
                  <a:lnTo>
                    <a:pt x="563" y="2305"/>
                  </a:lnTo>
                  <a:lnTo>
                    <a:pt x="563" y="2310"/>
                  </a:lnTo>
                  <a:lnTo>
                    <a:pt x="558" y="2310"/>
                  </a:lnTo>
                  <a:lnTo>
                    <a:pt x="558" y="2316"/>
                  </a:lnTo>
                  <a:lnTo>
                    <a:pt x="552" y="2316"/>
                  </a:lnTo>
                  <a:lnTo>
                    <a:pt x="552" y="2322"/>
                  </a:lnTo>
                  <a:lnTo>
                    <a:pt x="547" y="2322"/>
                  </a:lnTo>
                  <a:lnTo>
                    <a:pt x="547" y="2334"/>
                  </a:lnTo>
                  <a:lnTo>
                    <a:pt x="541" y="2334"/>
                  </a:lnTo>
                  <a:lnTo>
                    <a:pt x="541" y="2351"/>
                  </a:lnTo>
                  <a:lnTo>
                    <a:pt x="535" y="2351"/>
                  </a:lnTo>
                  <a:lnTo>
                    <a:pt x="535" y="2362"/>
                  </a:lnTo>
                  <a:lnTo>
                    <a:pt x="530" y="2362"/>
                  </a:lnTo>
                  <a:lnTo>
                    <a:pt x="530" y="2367"/>
                  </a:lnTo>
                  <a:lnTo>
                    <a:pt x="523" y="2367"/>
                  </a:lnTo>
                  <a:lnTo>
                    <a:pt x="523" y="2384"/>
                  </a:lnTo>
                  <a:lnTo>
                    <a:pt x="518" y="2384"/>
                  </a:lnTo>
                  <a:lnTo>
                    <a:pt x="518" y="2396"/>
                  </a:lnTo>
                  <a:lnTo>
                    <a:pt x="513" y="2396"/>
                  </a:lnTo>
                  <a:lnTo>
                    <a:pt x="513" y="2408"/>
                  </a:lnTo>
                  <a:lnTo>
                    <a:pt x="506" y="2408"/>
                  </a:lnTo>
                  <a:lnTo>
                    <a:pt x="506" y="2413"/>
                  </a:lnTo>
                  <a:lnTo>
                    <a:pt x="501" y="2413"/>
                  </a:lnTo>
                  <a:lnTo>
                    <a:pt x="501" y="2419"/>
                  </a:lnTo>
                  <a:lnTo>
                    <a:pt x="495" y="2419"/>
                  </a:lnTo>
                  <a:lnTo>
                    <a:pt x="495" y="2424"/>
                  </a:lnTo>
                  <a:lnTo>
                    <a:pt x="490" y="2424"/>
                  </a:lnTo>
                  <a:lnTo>
                    <a:pt x="490" y="2441"/>
                  </a:lnTo>
                  <a:lnTo>
                    <a:pt x="484" y="2441"/>
                  </a:lnTo>
                  <a:lnTo>
                    <a:pt x="484" y="2448"/>
                  </a:lnTo>
                  <a:lnTo>
                    <a:pt x="478" y="2448"/>
                  </a:lnTo>
                  <a:lnTo>
                    <a:pt x="478" y="2458"/>
                  </a:lnTo>
                  <a:lnTo>
                    <a:pt x="473" y="2458"/>
                  </a:lnTo>
                  <a:lnTo>
                    <a:pt x="473" y="2465"/>
                  </a:lnTo>
                  <a:lnTo>
                    <a:pt x="466" y="2465"/>
                  </a:lnTo>
                  <a:lnTo>
                    <a:pt x="466" y="2476"/>
                  </a:lnTo>
                  <a:lnTo>
                    <a:pt x="461" y="2476"/>
                  </a:lnTo>
                  <a:lnTo>
                    <a:pt x="461" y="2493"/>
                  </a:lnTo>
                  <a:lnTo>
                    <a:pt x="456" y="2493"/>
                  </a:lnTo>
                  <a:lnTo>
                    <a:pt x="456" y="2498"/>
                  </a:lnTo>
                  <a:lnTo>
                    <a:pt x="449" y="2498"/>
                  </a:lnTo>
                  <a:lnTo>
                    <a:pt x="449" y="2510"/>
                  </a:lnTo>
                  <a:lnTo>
                    <a:pt x="444" y="2510"/>
                  </a:lnTo>
                  <a:lnTo>
                    <a:pt x="444" y="2515"/>
                  </a:lnTo>
                  <a:lnTo>
                    <a:pt x="438" y="2515"/>
                  </a:lnTo>
                  <a:lnTo>
                    <a:pt x="438" y="2527"/>
                  </a:lnTo>
                  <a:lnTo>
                    <a:pt x="433" y="2527"/>
                  </a:lnTo>
                  <a:lnTo>
                    <a:pt x="433" y="2544"/>
                  </a:lnTo>
                  <a:lnTo>
                    <a:pt x="428" y="2544"/>
                  </a:lnTo>
                  <a:lnTo>
                    <a:pt x="428" y="2550"/>
                  </a:lnTo>
                  <a:lnTo>
                    <a:pt x="421" y="2550"/>
                  </a:lnTo>
                  <a:lnTo>
                    <a:pt x="421" y="2561"/>
                  </a:lnTo>
                  <a:lnTo>
                    <a:pt x="416" y="2561"/>
                  </a:lnTo>
                  <a:lnTo>
                    <a:pt x="416" y="2567"/>
                  </a:lnTo>
                  <a:lnTo>
                    <a:pt x="410" y="2567"/>
                  </a:lnTo>
                  <a:lnTo>
                    <a:pt x="410" y="2579"/>
                  </a:lnTo>
                  <a:lnTo>
                    <a:pt x="404" y="2579"/>
                  </a:lnTo>
                  <a:lnTo>
                    <a:pt x="404" y="2595"/>
                  </a:lnTo>
                  <a:lnTo>
                    <a:pt x="399" y="2595"/>
                  </a:lnTo>
                  <a:lnTo>
                    <a:pt x="399" y="2607"/>
                  </a:lnTo>
                  <a:lnTo>
                    <a:pt x="393" y="2607"/>
                  </a:lnTo>
                  <a:lnTo>
                    <a:pt x="393" y="2618"/>
                  </a:lnTo>
                  <a:lnTo>
                    <a:pt x="387" y="2618"/>
                  </a:lnTo>
                  <a:lnTo>
                    <a:pt x="387" y="2629"/>
                  </a:lnTo>
                  <a:lnTo>
                    <a:pt x="381" y="2629"/>
                  </a:lnTo>
                  <a:lnTo>
                    <a:pt x="381" y="2641"/>
                  </a:lnTo>
                  <a:lnTo>
                    <a:pt x="376" y="2641"/>
                  </a:lnTo>
                  <a:lnTo>
                    <a:pt x="376" y="2652"/>
                  </a:lnTo>
                  <a:lnTo>
                    <a:pt x="371" y="2652"/>
                  </a:lnTo>
                  <a:lnTo>
                    <a:pt x="371" y="2658"/>
                  </a:lnTo>
                  <a:lnTo>
                    <a:pt x="364" y="2658"/>
                  </a:lnTo>
                  <a:lnTo>
                    <a:pt x="364" y="2669"/>
                  </a:lnTo>
                  <a:lnTo>
                    <a:pt x="359" y="2669"/>
                  </a:lnTo>
                  <a:lnTo>
                    <a:pt x="359" y="2674"/>
                  </a:lnTo>
                  <a:lnTo>
                    <a:pt x="353" y="2674"/>
                  </a:lnTo>
                  <a:lnTo>
                    <a:pt x="353" y="2691"/>
                  </a:lnTo>
                  <a:lnTo>
                    <a:pt x="342" y="2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134960" y="4101120"/>
              <a:ext cx="15480" cy="226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2" y="34"/>
                  </a:moveTo>
                  <a:lnTo>
                    <a:pt x="12" y="29"/>
                  </a:lnTo>
                  <a:lnTo>
                    <a:pt x="5" y="29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28" y="11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17" y="17"/>
                  </a:lnTo>
                  <a:lnTo>
                    <a:pt x="17" y="29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120200" y="4093200"/>
              <a:ext cx="6840" cy="154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28"/>
                  </a:moveTo>
                  <a:lnTo>
                    <a:pt x="11" y="22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22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2603520" y="3177000"/>
              <a:ext cx="707040" cy="1101960"/>
            </a:xfrm>
            <a:custGeom>
              <a:avLst/>
              <a:gdLst/>
              <a:ahLst/>
              <a:rect l="l" t="t" r="r" b="b"/>
              <a:pathLst>
                <a:path w="1286" h="1997">
                  <a:moveTo>
                    <a:pt x="1252" y="1997"/>
                  </a:moveTo>
                  <a:lnTo>
                    <a:pt x="1252" y="1986"/>
                  </a:lnTo>
                  <a:lnTo>
                    <a:pt x="1246" y="1986"/>
                  </a:lnTo>
                  <a:lnTo>
                    <a:pt x="1246" y="1968"/>
                  </a:lnTo>
                  <a:lnTo>
                    <a:pt x="1235" y="1968"/>
                  </a:lnTo>
                  <a:lnTo>
                    <a:pt x="1235" y="1963"/>
                  </a:lnTo>
                  <a:lnTo>
                    <a:pt x="1229" y="1963"/>
                  </a:lnTo>
                  <a:lnTo>
                    <a:pt x="1229" y="1958"/>
                  </a:lnTo>
                  <a:lnTo>
                    <a:pt x="1218" y="1958"/>
                  </a:lnTo>
                  <a:lnTo>
                    <a:pt x="1218" y="1951"/>
                  </a:lnTo>
                  <a:lnTo>
                    <a:pt x="1206" y="1951"/>
                  </a:lnTo>
                  <a:lnTo>
                    <a:pt x="1206" y="1946"/>
                  </a:lnTo>
                  <a:lnTo>
                    <a:pt x="1195" y="1946"/>
                  </a:lnTo>
                  <a:lnTo>
                    <a:pt x="1195" y="1940"/>
                  </a:lnTo>
                  <a:lnTo>
                    <a:pt x="1183" y="1940"/>
                  </a:lnTo>
                  <a:lnTo>
                    <a:pt x="1183" y="1934"/>
                  </a:lnTo>
                  <a:lnTo>
                    <a:pt x="1173" y="1934"/>
                  </a:lnTo>
                  <a:lnTo>
                    <a:pt x="1173" y="1929"/>
                  </a:lnTo>
                  <a:lnTo>
                    <a:pt x="1161" y="1929"/>
                  </a:lnTo>
                  <a:lnTo>
                    <a:pt x="1161" y="1923"/>
                  </a:lnTo>
                  <a:lnTo>
                    <a:pt x="1149" y="1923"/>
                  </a:lnTo>
                  <a:lnTo>
                    <a:pt x="1149" y="1917"/>
                  </a:lnTo>
                  <a:lnTo>
                    <a:pt x="1126" y="1917"/>
                  </a:lnTo>
                  <a:lnTo>
                    <a:pt x="1126" y="1911"/>
                  </a:lnTo>
                  <a:lnTo>
                    <a:pt x="1116" y="1911"/>
                  </a:lnTo>
                  <a:lnTo>
                    <a:pt x="1116" y="1906"/>
                  </a:lnTo>
                  <a:lnTo>
                    <a:pt x="1109" y="1906"/>
                  </a:lnTo>
                  <a:lnTo>
                    <a:pt x="1109" y="1901"/>
                  </a:lnTo>
                  <a:lnTo>
                    <a:pt x="1098" y="1901"/>
                  </a:lnTo>
                  <a:lnTo>
                    <a:pt x="1098" y="1894"/>
                  </a:lnTo>
                  <a:lnTo>
                    <a:pt x="1087" y="1894"/>
                  </a:lnTo>
                  <a:lnTo>
                    <a:pt x="1087" y="1889"/>
                  </a:lnTo>
                  <a:lnTo>
                    <a:pt x="1018" y="1889"/>
                  </a:lnTo>
                  <a:lnTo>
                    <a:pt x="1018" y="1883"/>
                  </a:lnTo>
                  <a:lnTo>
                    <a:pt x="967" y="1883"/>
                  </a:lnTo>
                  <a:lnTo>
                    <a:pt x="967" y="1877"/>
                  </a:lnTo>
                  <a:lnTo>
                    <a:pt x="922" y="1877"/>
                  </a:lnTo>
                  <a:lnTo>
                    <a:pt x="922" y="1872"/>
                  </a:lnTo>
                  <a:lnTo>
                    <a:pt x="865" y="1872"/>
                  </a:lnTo>
                  <a:lnTo>
                    <a:pt x="865" y="1866"/>
                  </a:lnTo>
                  <a:lnTo>
                    <a:pt x="819" y="1866"/>
                  </a:lnTo>
                  <a:lnTo>
                    <a:pt x="819" y="1860"/>
                  </a:lnTo>
                  <a:lnTo>
                    <a:pt x="802" y="1860"/>
                  </a:lnTo>
                  <a:lnTo>
                    <a:pt x="802" y="1854"/>
                  </a:lnTo>
                  <a:lnTo>
                    <a:pt x="739" y="1854"/>
                  </a:lnTo>
                  <a:lnTo>
                    <a:pt x="739" y="1849"/>
                  </a:lnTo>
                  <a:lnTo>
                    <a:pt x="711" y="1849"/>
                  </a:lnTo>
                  <a:lnTo>
                    <a:pt x="711" y="1854"/>
                  </a:lnTo>
                  <a:lnTo>
                    <a:pt x="671" y="1854"/>
                  </a:lnTo>
                  <a:lnTo>
                    <a:pt x="671" y="1849"/>
                  </a:lnTo>
                  <a:lnTo>
                    <a:pt x="665" y="1849"/>
                  </a:lnTo>
                  <a:lnTo>
                    <a:pt x="665" y="1843"/>
                  </a:lnTo>
                  <a:lnTo>
                    <a:pt x="660" y="1843"/>
                  </a:lnTo>
                  <a:lnTo>
                    <a:pt x="660" y="1837"/>
                  </a:lnTo>
                  <a:lnTo>
                    <a:pt x="654" y="1837"/>
                  </a:lnTo>
                  <a:lnTo>
                    <a:pt x="654" y="1832"/>
                  </a:lnTo>
                  <a:lnTo>
                    <a:pt x="643" y="1832"/>
                  </a:lnTo>
                  <a:lnTo>
                    <a:pt x="643" y="1827"/>
                  </a:lnTo>
                  <a:lnTo>
                    <a:pt x="637" y="1827"/>
                  </a:lnTo>
                  <a:lnTo>
                    <a:pt x="637" y="1815"/>
                  </a:lnTo>
                  <a:lnTo>
                    <a:pt x="631" y="1815"/>
                  </a:lnTo>
                  <a:lnTo>
                    <a:pt x="631" y="1809"/>
                  </a:lnTo>
                  <a:lnTo>
                    <a:pt x="625" y="1809"/>
                  </a:lnTo>
                  <a:lnTo>
                    <a:pt x="625" y="1803"/>
                  </a:lnTo>
                  <a:lnTo>
                    <a:pt x="620" y="1803"/>
                  </a:lnTo>
                  <a:lnTo>
                    <a:pt x="620" y="1798"/>
                  </a:lnTo>
                  <a:lnTo>
                    <a:pt x="614" y="1798"/>
                  </a:lnTo>
                  <a:lnTo>
                    <a:pt x="614" y="1792"/>
                  </a:lnTo>
                  <a:lnTo>
                    <a:pt x="603" y="1792"/>
                  </a:lnTo>
                  <a:lnTo>
                    <a:pt x="603" y="1786"/>
                  </a:lnTo>
                  <a:lnTo>
                    <a:pt x="586" y="1786"/>
                  </a:lnTo>
                  <a:lnTo>
                    <a:pt x="586" y="1780"/>
                  </a:lnTo>
                  <a:lnTo>
                    <a:pt x="580" y="1780"/>
                  </a:lnTo>
                  <a:lnTo>
                    <a:pt x="580" y="1775"/>
                  </a:lnTo>
                  <a:lnTo>
                    <a:pt x="574" y="1775"/>
                  </a:lnTo>
                  <a:lnTo>
                    <a:pt x="574" y="1763"/>
                  </a:lnTo>
                  <a:lnTo>
                    <a:pt x="568" y="1763"/>
                  </a:lnTo>
                  <a:lnTo>
                    <a:pt x="568" y="1752"/>
                  </a:lnTo>
                  <a:lnTo>
                    <a:pt x="563" y="1752"/>
                  </a:lnTo>
                  <a:lnTo>
                    <a:pt x="563" y="1746"/>
                  </a:lnTo>
                  <a:lnTo>
                    <a:pt x="557" y="1746"/>
                  </a:lnTo>
                  <a:lnTo>
                    <a:pt x="557" y="1735"/>
                  </a:lnTo>
                  <a:lnTo>
                    <a:pt x="551" y="1735"/>
                  </a:lnTo>
                  <a:lnTo>
                    <a:pt x="551" y="1729"/>
                  </a:lnTo>
                  <a:lnTo>
                    <a:pt x="546" y="1729"/>
                  </a:lnTo>
                  <a:lnTo>
                    <a:pt x="546" y="1718"/>
                  </a:lnTo>
                  <a:lnTo>
                    <a:pt x="541" y="1718"/>
                  </a:lnTo>
                  <a:lnTo>
                    <a:pt x="541" y="1706"/>
                  </a:lnTo>
                  <a:lnTo>
                    <a:pt x="535" y="1706"/>
                  </a:lnTo>
                  <a:lnTo>
                    <a:pt x="535" y="1695"/>
                  </a:lnTo>
                  <a:lnTo>
                    <a:pt x="529" y="1695"/>
                  </a:lnTo>
                  <a:lnTo>
                    <a:pt x="529" y="1684"/>
                  </a:lnTo>
                  <a:lnTo>
                    <a:pt x="523" y="1684"/>
                  </a:lnTo>
                  <a:lnTo>
                    <a:pt x="523" y="1672"/>
                  </a:lnTo>
                  <a:lnTo>
                    <a:pt x="518" y="1672"/>
                  </a:lnTo>
                  <a:lnTo>
                    <a:pt x="518" y="1661"/>
                  </a:lnTo>
                  <a:lnTo>
                    <a:pt x="511" y="1661"/>
                  </a:lnTo>
                  <a:lnTo>
                    <a:pt x="511" y="1644"/>
                  </a:lnTo>
                  <a:lnTo>
                    <a:pt x="506" y="1644"/>
                  </a:lnTo>
                  <a:lnTo>
                    <a:pt x="506" y="1639"/>
                  </a:lnTo>
                  <a:lnTo>
                    <a:pt x="501" y="1639"/>
                  </a:lnTo>
                  <a:lnTo>
                    <a:pt x="501" y="1633"/>
                  </a:lnTo>
                  <a:lnTo>
                    <a:pt x="494" y="1633"/>
                  </a:lnTo>
                  <a:lnTo>
                    <a:pt x="494" y="1621"/>
                  </a:lnTo>
                  <a:lnTo>
                    <a:pt x="489" y="1621"/>
                  </a:lnTo>
                  <a:lnTo>
                    <a:pt x="489" y="1616"/>
                  </a:lnTo>
                  <a:lnTo>
                    <a:pt x="484" y="1616"/>
                  </a:lnTo>
                  <a:lnTo>
                    <a:pt x="484" y="1604"/>
                  </a:lnTo>
                  <a:lnTo>
                    <a:pt x="478" y="1604"/>
                  </a:lnTo>
                  <a:lnTo>
                    <a:pt x="478" y="1593"/>
                  </a:lnTo>
                  <a:lnTo>
                    <a:pt x="472" y="1593"/>
                  </a:lnTo>
                  <a:lnTo>
                    <a:pt x="472" y="1582"/>
                  </a:lnTo>
                  <a:lnTo>
                    <a:pt x="466" y="1582"/>
                  </a:lnTo>
                  <a:lnTo>
                    <a:pt x="466" y="1570"/>
                  </a:lnTo>
                  <a:lnTo>
                    <a:pt x="461" y="1570"/>
                  </a:lnTo>
                  <a:lnTo>
                    <a:pt x="461" y="1559"/>
                  </a:lnTo>
                  <a:lnTo>
                    <a:pt x="455" y="1559"/>
                  </a:lnTo>
                  <a:lnTo>
                    <a:pt x="455" y="1542"/>
                  </a:lnTo>
                  <a:lnTo>
                    <a:pt x="449" y="1542"/>
                  </a:lnTo>
                  <a:lnTo>
                    <a:pt x="449" y="1536"/>
                  </a:lnTo>
                  <a:lnTo>
                    <a:pt x="444" y="1536"/>
                  </a:lnTo>
                  <a:lnTo>
                    <a:pt x="444" y="1525"/>
                  </a:lnTo>
                  <a:lnTo>
                    <a:pt x="437" y="1525"/>
                  </a:lnTo>
                  <a:lnTo>
                    <a:pt x="437" y="1519"/>
                  </a:lnTo>
                  <a:lnTo>
                    <a:pt x="432" y="1519"/>
                  </a:lnTo>
                  <a:lnTo>
                    <a:pt x="432" y="1507"/>
                  </a:lnTo>
                  <a:lnTo>
                    <a:pt x="427" y="1507"/>
                  </a:lnTo>
                  <a:lnTo>
                    <a:pt x="427" y="1485"/>
                  </a:lnTo>
                  <a:lnTo>
                    <a:pt x="421" y="1485"/>
                  </a:lnTo>
                  <a:lnTo>
                    <a:pt x="421" y="1473"/>
                  </a:lnTo>
                  <a:lnTo>
                    <a:pt x="415" y="1473"/>
                  </a:lnTo>
                  <a:lnTo>
                    <a:pt x="415" y="1462"/>
                  </a:lnTo>
                  <a:lnTo>
                    <a:pt x="409" y="1462"/>
                  </a:lnTo>
                  <a:lnTo>
                    <a:pt x="409" y="1445"/>
                  </a:lnTo>
                  <a:lnTo>
                    <a:pt x="404" y="1445"/>
                  </a:lnTo>
                  <a:lnTo>
                    <a:pt x="404" y="1433"/>
                  </a:lnTo>
                  <a:lnTo>
                    <a:pt x="398" y="1433"/>
                  </a:lnTo>
                  <a:lnTo>
                    <a:pt x="398" y="1428"/>
                  </a:lnTo>
                  <a:lnTo>
                    <a:pt x="392" y="1428"/>
                  </a:lnTo>
                  <a:lnTo>
                    <a:pt x="392" y="1423"/>
                  </a:lnTo>
                  <a:lnTo>
                    <a:pt x="387" y="1423"/>
                  </a:lnTo>
                  <a:lnTo>
                    <a:pt x="387" y="1416"/>
                  </a:lnTo>
                  <a:lnTo>
                    <a:pt x="380" y="1416"/>
                  </a:lnTo>
                  <a:lnTo>
                    <a:pt x="380" y="1399"/>
                  </a:lnTo>
                  <a:lnTo>
                    <a:pt x="375" y="1399"/>
                  </a:lnTo>
                  <a:lnTo>
                    <a:pt x="375" y="1394"/>
                  </a:lnTo>
                  <a:lnTo>
                    <a:pt x="370" y="1394"/>
                  </a:lnTo>
                  <a:lnTo>
                    <a:pt x="370" y="1388"/>
                  </a:lnTo>
                  <a:lnTo>
                    <a:pt x="364" y="1388"/>
                  </a:lnTo>
                  <a:lnTo>
                    <a:pt x="364" y="1376"/>
                  </a:lnTo>
                  <a:lnTo>
                    <a:pt x="358" y="1376"/>
                  </a:lnTo>
                  <a:lnTo>
                    <a:pt x="358" y="1359"/>
                  </a:lnTo>
                  <a:lnTo>
                    <a:pt x="352" y="1359"/>
                  </a:lnTo>
                  <a:lnTo>
                    <a:pt x="352" y="1348"/>
                  </a:lnTo>
                  <a:lnTo>
                    <a:pt x="347" y="1348"/>
                  </a:lnTo>
                  <a:lnTo>
                    <a:pt x="347" y="1337"/>
                  </a:lnTo>
                  <a:lnTo>
                    <a:pt x="341" y="1337"/>
                  </a:lnTo>
                  <a:lnTo>
                    <a:pt x="341" y="1314"/>
                  </a:lnTo>
                  <a:lnTo>
                    <a:pt x="335" y="1314"/>
                  </a:lnTo>
                  <a:lnTo>
                    <a:pt x="335" y="1297"/>
                  </a:lnTo>
                  <a:lnTo>
                    <a:pt x="330" y="1297"/>
                  </a:lnTo>
                  <a:lnTo>
                    <a:pt x="330" y="1280"/>
                  </a:lnTo>
                  <a:lnTo>
                    <a:pt x="318" y="1280"/>
                  </a:lnTo>
                  <a:lnTo>
                    <a:pt x="318" y="1274"/>
                  </a:lnTo>
                  <a:lnTo>
                    <a:pt x="313" y="1274"/>
                  </a:lnTo>
                  <a:lnTo>
                    <a:pt x="313" y="1252"/>
                  </a:lnTo>
                  <a:lnTo>
                    <a:pt x="306" y="1252"/>
                  </a:lnTo>
                  <a:lnTo>
                    <a:pt x="306" y="1234"/>
                  </a:lnTo>
                  <a:lnTo>
                    <a:pt x="301" y="1234"/>
                  </a:lnTo>
                  <a:lnTo>
                    <a:pt x="301" y="1223"/>
                  </a:lnTo>
                  <a:lnTo>
                    <a:pt x="295" y="1223"/>
                  </a:lnTo>
                  <a:lnTo>
                    <a:pt x="295" y="1217"/>
                  </a:lnTo>
                  <a:lnTo>
                    <a:pt x="290" y="1217"/>
                  </a:lnTo>
                  <a:lnTo>
                    <a:pt x="290" y="1205"/>
                  </a:lnTo>
                  <a:lnTo>
                    <a:pt x="284" y="1205"/>
                  </a:lnTo>
                  <a:lnTo>
                    <a:pt x="284" y="1195"/>
                  </a:lnTo>
                  <a:lnTo>
                    <a:pt x="278" y="1195"/>
                  </a:lnTo>
                  <a:lnTo>
                    <a:pt x="278" y="1178"/>
                  </a:lnTo>
                  <a:lnTo>
                    <a:pt x="273" y="1178"/>
                  </a:lnTo>
                  <a:lnTo>
                    <a:pt x="273" y="1160"/>
                  </a:lnTo>
                  <a:lnTo>
                    <a:pt x="266" y="1160"/>
                  </a:lnTo>
                  <a:lnTo>
                    <a:pt x="266" y="1149"/>
                  </a:lnTo>
                  <a:lnTo>
                    <a:pt x="261" y="1149"/>
                  </a:lnTo>
                  <a:lnTo>
                    <a:pt x="261" y="1132"/>
                  </a:lnTo>
                  <a:lnTo>
                    <a:pt x="256" y="1132"/>
                  </a:lnTo>
                  <a:lnTo>
                    <a:pt x="256" y="1115"/>
                  </a:lnTo>
                  <a:lnTo>
                    <a:pt x="249" y="1115"/>
                  </a:lnTo>
                  <a:lnTo>
                    <a:pt x="249" y="1092"/>
                  </a:lnTo>
                  <a:lnTo>
                    <a:pt x="244" y="1092"/>
                  </a:lnTo>
                  <a:lnTo>
                    <a:pt x="244" y="1086"/>
                  </a:lnTo>
                  <a:lnTo>
                    <a:pt x="238" y="1086"/>
                  </a:lnTo>
                  <a:lnTo>
                    <a:pt x="238" y="1069"/>
                  </a:lnTo>
                  <a:lnTo>
                    <a:pt x="233" y="1069"/>
                  </a:lnTo>
                  <a:lnTo>
                    <a:pt x="233" y="1058"/>
                  </a:lnTo>
                  <a:lnTo>
                    <a:pt x="227" y="1058"/>
                  </a:lnTo>
                  <a:lnTo>
                    <a:pt x="227" y="1052"/>
                  </a:lnTo>
                  <a:lnTo>
                    <a:pt x="221" y="1052"/>
                  </a:lnTo>
                  <a:lnTo>
                    <a:pt x="221" y="1035"/>
                  </a:lnTo>
                  <a:lnTo>
                    <a:pt x="216" y="1035"/>
                  </a:lnTo>
                  <a:lnTo>
                    <a:pt x="216" y="1019"/>
                  </a:lnTo>
                  <a:lnTo>
                    <a:pt x="209" y="1019"/>
                  </a:lnTo>
                  <a:lnTo>
                    <a:pt x="209" y="1001"/>
                  </a:lnTo>
                  <a:lnTo>
                    <a:pt x="204" y="1001"/>
                  </a:lnTo>
                  <a:lnTo>
                    <a:pt x="204" y="990"/>
                  </a:lnTo>
                  <a:lnTo>
                    <a:pt x="199" y="990"/>
                  </a:lnTo>
                  <a:lnTo>
                    <a:pt x="199" y="978"/>
                  </a:lnTo>
                  <a:lnTo>
                    <a:pt x="192" y="978"/>
                  </a:lnTo>
                  <a:lnTo>
                    <a:pt x="192" y="967"/>
                  </a:lnTo>
                  <a:lnTo>
                    <a:pt x="187" y="967"/>
                  </a:lnTo>
                  <a:lnTo>
                    <a:pt x="187" y="950"/>
                  </a:lnTo>
                  <a:lnTo>
                    <a:pt x="182" y="950"/>
                  </a:lnTo>
                  <a:lnTo>
                    <a:pt x="182" y="938"/>
                  </a:lnTo>
                  <a:lnTo>
                    <a:pt x="176" y="938"/>
                  </a:lnTo>
                  <a:lnTo>
                    <a:pt x="176" y="927"/>
                  </a:lnTo>
                  <a:lnTo>
                    <a:pt x="170" y="927"/>
                  </a:lnTo>
                  <a:lnTo>
                    <a:pt x="170" y="915"/>
                  </a:lnTo>
                  <a:lnTo>
                    <a:pt x="164" y="915"/>
                  </a:lnTo>
                  <a:lnTo>
                    <a:pt x="164" y="905"/>
                  </a:lnTo>
                  <a:lnTo>
                    <a:pt x="159" y="905"/>
                  </a:lnTo>
                  <a:lnTo>
                    <a:pt x="159" y="893"/>
                  </a:lnTo>
                  <a:lnTo>
                    <a:pt x="152" y="893"/>
                  </a:lnTo>
                  <a:lnTo>
                    <a:pt x="152" y="870"/>
                  </a:lnTo>
                  <a:lnTo>
                    <a:pt x="147" y="870"/>
                  </a:lnTo>
                  <a:lnTo>
                    <a:pt x="147" y="853"/>
                  </a:lnTo>
                  <a:lnTo>
                    <a:pt x="142" y="853"/>
                  </a:lnTo>
                  <a:lnTo>
                    <a:pt x="142" y="836"/>
                  </a:lnTo>
                  <a:lnTo>
                    <a:pt x="136" y="836"/>
                  </a:lnTo>
                  <a:lnTo>
                    <a:pt x="136" y="824"/>
                  </a:lnTo>
                  <a:lnTo>
                    <a:pt x="131" y="824"/>
                  </a:lnTo>
                  <a:lnTo>
                    <a:pt x="131" y="813"/>
                  </a:lnTo>
                  <a:lnTo>
                    <a:pt x="125" y="813"/>
                  </a:lnTo>
                  <a:lnTo>
                    <a:pt x="125" y="808"/>
                  </a:lnTo>
                  <a:lnTo>
                    <a:pt x="119" y="808"/>
                  </a:lnTo>
                  <a:lnTo>
                    <a:pt x="119" y="791"/>
                  </a:lnTo>
                  <a:lnTo>
                    <a:pt x="114" y="791"/>
                  </a:lnTo>
                  <a:lnTo>
                    <a:pt x="114" y="762"/>
                  </a:lnTo>
                  <a:lnTo>
                    <a:pt x="107" y="762"/>
                  </a:lnTo>
                  <a:lnTo>
                    <a:pt x="107" y="739"/>
                  </a:lnTo>
                  <a:lnTo>
                    <a:pt x="102" y="739"/>
                  </a:lnTo>
                  <a:lnTo>
                    <a:pt x="102" y="722"/>
                  </a:lnTo>
                  <a:lnTo>
                    <a:pt x="97" y="722"/>
                  </a:lnTo>
                  <a:lnTo>
                    <a:pt x="97" y="711"/>
                  </a:lnTo>
                  <a:lnTo>
                    <a:pt x="90" y="711"/>
                  </a:lnTo>
                  <a:lnTo>
                    <a:pt x="90" y="694"/>
                  </a:lnTo>
                  <a:lnTo>
                    <a:pt x="85" y="694"/>
                  </a:lnTo>
                  <a:lnTo>
                    <a:pt x="85" y="677"/>
                  </a:lnTo>
                  <a:lnTo>
                    <a:pt x="79" y="677"/>
                  </a:lnTo>
                  <a:lnTo>
                    <a:pt x="79" y="654"/>
                  </a:lnTo>
                  <a:lnTo>
                    <a:pt x="74" y="654"/>
                  </a:lnTo>
                  <a:lnTo>
                    <a:pt x="74" y="637"/>
                  </a:lnTo>
                  <a:lnTo>
                    <a:pt x="68" y="637"/>
                  </a:lnTo>
                  <a:lnTo>
                    <a:pt x="68" y="625"/>
                  </a:lnTo>
                  <a:lnTo>
                    <a:pt x="62" y="625"/>
                  </a:lnTo>
                  <a:lnTo>
                    <a:pt x="62" y="615"/>
                  </a:lnTo>
                  <a:lnTo>
                    <a:pt x="57" y="615"/>
                  </a:lnTo>
                  <a:lnTo>
                    <a:pt x="57" y="574"/>
                  </a:lnTo>
                  <a:lnTo>
                    <a:pt x="50" y="574"/>
                  </a:lnTo>
                  <a:lnTo>
                    <a:pt x="50" y="551"/>
                  </a:lnTo>
                  <a:lnTo>
                    <a:pt x="45" y="551"/>
                  </a:lnTo>
                  <a:lnTo>
                    <a:pt x="45" y="523"/>
                  </a:lnTo>
                  <a:lnTo>
                    <a:pt x="40" y="523"/>
                  </a:lnTo>
                  <a:lnTo>
                    <a:pt x="40" y="506"/>
                  </a:lnTo>
                  <a:lnTo>
                    <a:pt x="33" y="506"/>
                  </a:lnTo>
                  <a:lnTo>
                    <a:pt x="33" y="466"/>
                  </a:lnTo>
                  <a:lnTo>
                    <a:pt x="28" y="466"/>
                  </a:lnTo>
                  <a:lnTo>
                    <a:pt x="28" y="420"/>
                  </a:lnTo>
                  <a:lnTo>
                    <a:pt x="22" y="420"/>
                  </a:lnTo>
                  <a:lnTo>
                    <a:pt x="22" y="370"/>
                  </a:lnTo>
                  <a:lnTo>
                    <a:pt x="0" y="370"/>
                  </a:lnTo>
                  <a:lnTo>
                    <a:pt x="0" y="341"/>
                  </a:lnTo>
                  <a:lnTo>
                    <a:pt x="5" y="341"/>
                  </a:lnTo>
                  <a:lnTo>
                    <a:pt x="5" y="335"/>
                  </a:lnTo>
                  <a:lnTo>
                    <a:pt x="11" y="335"/>
                  </a:lnTo>
                  <a:lnTo>
                    <a:pt x="11" y="324"/>
                  </a:lnTo>
                  <a:lnTo>
                    <a:pt x="16" y="324"/>
                  </a:lnTo>
                  <a:lnTo>
                    <a:pt x="16" y="313"/>
                  </a:lnTo>
                  <a:lnTo>
                    <a:pt x="22" y="313"/>
                  </a:lnTo>
                  <a:lnTo>
                    <a:pt x="22" y="295"/>
                  </a:lnTo>
                  <a:lnTo>
                    <a:pt x="28" y="295"/>
                  </a:lnTo>
                  <a:lnTo>
                    <a:pt x="28" y="284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40" y="273"/>
                  </a:lnTo>
                  <a:lnTo>
                    <a:pt x="40" y="267"/>
                  </a:lnTo>
                  <a:lnTo>
                    <a:pt x="45" y="267"/>
                  </a:lnTo>
                  <a:lnTo>
                    <a:pt x="45" y="261"/>
                  </a:lnTo>
                  <a:lnTo>
                    <a:pt x="50" y="261"/>
                  </a:lnTo>
                  <a:lnTo>
                    <a:pt x="50" y="250"/>
                  </a:lnTo>
                  <a:lnTo>
                    <a:pt x="57" y="250"/>
                  </a:lnTo>
                  <a:lnTo>
                    <a:pt x="57" y="244"/>
                  </a:lnTo>
                  <a:lnTo>
                    <a:pt x="62" y="244"/>
                  </a:lnTo>
                  <a:lnTo>
                    <a:pt x="62" y="233"/>
                  </a:lnTo>
                  <a:lnTo>
                    <a:pt x="68" y="233"/>
                  </a:lnTo>
                  <a:lnTo>
                    <a:pt x="68" y="227"/>
                  </a:lnTo>
                  <a:lnTo>
                    <a:pt x="74" y="227"/>
                  </a:lnTo>
                  <a:lnTo>
                    <a:pt x="74" y="216"/>
                  </a:lnTo>
                  <a:lnTo>
                    <a:pt x="79" y="216"/>
                  </a:lnTo>
                  <a:lnTo>
                    <a:pt x="79" y="209"/>
                  </a:lnTo>
                  <a:lnTo>
                    <a:pt x="85" y="209"/>
                  </a:lnTo>
                  <a:lnTo>
                    <a:pt x="85" y="199"/>
                  </a:lnTo>
                  <a:lnTo>
                    <a:pt x="90" y="199"/>
                  </a:lnTo>
                  <a:lnTo>
                    <a:pt x="90" y="193"/>
                  </a:lnTo>
                  <a:lnTo>
                    <a:pt x="97" y="193"/>
                  </a:lnTo>
                  <a:lnTo>
                    <a:pt x="97" y="187"/>
                  </a:lnTo>
                  <a:lnTo>
                    <a:pt x="107" y="187"/>
                  </a:lnTo>
                  <a:lnTo>
                    <a:pt x="107" y="181"/>
                  </a:lnTo>
                  <a:lnTo>
                    <a:pt x="114" y="181"/>
                  </a:lnTo>
                  <a:lnTo>
                    <a:pt x="114" y="176"/>
                  </a:lnTo>
                  <a:lnTo>
                    <a:pt x="119" y="176"/>
                  </a:lnTo>
                  <a:lnTo>
                    <a:pt x="119" y="170"/>
                  </a:lnTo>
                  <a:lnTo>
                    <a:pt x="125" y="170"/>
                  </a:lnTo>
                  <a:lnTo>
                    <a:pt x="125" y="164"/>
                  </a:lnTo>
                  <a:lnTo>
                    <a:pt x="131" y="164"/>
                  </a:lnTo>
                  <a:lnTo>
                    <a:pt x="131" y="159"/>
                  </a:lnTo>
                  <a:lnTo>
                    <a:pt x="136" y="159"/>
                  </a:lnTo>
                  <a:lnTo>
                    <a:pt x="136" y="152"/>
                  </a:lnTo>
                  <a:lnTo>
                    <a:pt x="142" y="152"/>
                  </a:lnTo>
                  <a:lnTo>
                    <a:pt x="142" y="147"/>
                  </a:lnTo>
                  <a:lnTo>
                    <a:pt x="147" y="147"/>
                  </a:lnTo>
                  <a:lnTo>
                    <a:pt x="147" y="142"/>
                  </a:lnTo>
                  <a:lnTo>
                    <a:pt x="152" y="142"/>
                  </a:lnTo>
                  <a:lnTo>
                    <a:pt x="152" y="136"/>
                  </a:lnTo>
                  <a:lnTo>
                    <a:pt x="159" y="136"/>
                  </a:lnTo>
                  <a:lnTo>
                    <a:pt x="159" y="130"/>
                  </a:lnTo>
                  <a:lnTo>
                    <a:pt x="170" y="130"/>
                  </a:lnTo>
                  <a:lnTo>
                    <a:pt x="170" y="125"/>
                  </a:lnTo>
                  <a:lnTo>
                    <a:pt x="182" y="125"/>
                  </a:lnTo>
                  <a:lnTo>
                    <a:pt x="182" y="119"/>
                  </a:lnTo>
                  <a:lnTo>
                    <a:pt x="192" y="119"/>
                  </a:lnTo>
                  <a:lnTo>
                    <a:pt x="192" y="113"/>
                  </a:lnTo>
                  <a:lnTo>
                    <a:pt x="199" y="113"/>
                  </a:lnTo>
                  <a:lnTo>
                    <a:pt x="199" y="107"/>
                  </a:lnTo>
                  <a:lnTo>
                    <a:pt x="204" y="107"/>
                  </a:lnTo>
                  <a:lnTo>
                    <a:pt x="204" y="102"/>
                  </a:lnTo>
                  <a:lnTo>
                    <a:pt x="216" y="102"/>
                  </a:lnTo>
                  <a:lnTo>
                    <a:pt x="216" y="96"/>
                  </a:lnTo>
                  <a:lnTo>
                    <a:pt x="221" y="96"/>
                  </a:lnTo>
                  <a:lnTo>
                    <a:pt x="221" y="90"/>
                  </a:lnTo>
                  <a:lnTo>
                    <a:pt x="233" y="90"/>
                  </a:lnTo>
                  <a:lnTo>
                    <a:pt x="233" y="85"/>
                  </a:lnTo>
                  <a:lnTo>
                    <a:pt x="238" y="85"/>
                  </a:lnTo>
                  <a:lnTo>
                    <a:pt x="238" y="79"/>
                  </a:lnTo>
                  <a:lnTo>
                    <a:pt x="249" y="79"/>
                  </a:lnTo>
                  <a:lnTo>
                    <a:pt x="249" y="73"/>
                  </a:lnTo>
                  <a:lnTo>
                    <a:pt x="256" y="73"/>
                  </a:lnTo>
                  <a:lnTo>
                    <a:pt x="256" y="68"/>
                  </a:lnTo>
                  <a:lnTo>
                    <a:pt x="266" y="68"/>
                  </a:lnTo>
                  <a:lnTo>
                    <a:pt x="266" y="62"/>
                  </a:lnTo>
                  <a:lnTo>
                    <a:pt x="273" y="62"/>
                  </a:lnTo>
                  <a:lnTo>
                    <a:pt x="273" y="56"/>
                  </a:lnTo>
                  <a:lnTo>
                    <a:pt x="284" y="56"/>
                  </a:lnTo>
                  <a:lnTo>
                    <a:pt x="284" y="50"/>
                  </a:lnTo>
                  <a:lnTo>
                    <a:pt x="295" y="50"/>
                  </a:lnTo>
                  <a:lnTo>
                    <a:pt x="295" y="45"/>
                  </a:lnTo>
                  <a:lnTo>
                    <a:pt x="306" y="45"/>
                  </a:lnTo>
                  <a:lnTo>
                    <a:pt x="306" y="39"/>
                  </a:lnTo>
                  <a:lnTo>
                    <a:pt x="313" y="39"/>
                  </a:lnTo>
                  <a:lnTo>
                    <a:pt x="313" y="33"/>
                  </a:lnTo>
                  <a:lnTo>
                    <a:pt x="318" y="33"/>
                  </a:lnTo>
                  <a:lnTo>
                    <a:pt x="318" y="28"/>
                  </a:lnTo>
                  <a:lnTo>
                    <a:pt x="330" y="28"/>
                  </a:lnTo>
                  <a:lnTo>
                    <a:pt x="330" y="22"/>
                  </a:lnTo>
                  <a:lnTo>
                    <a:pt x="335" y="22"/>
                  </a:lnTo>
                  <a:lnTo>
                    <a:pt x="335" y="16"/>
                  </a:lnTo>
                  <a:lnTo>
                    <a:pt x="341" y="16"/>
                  </a:lnTo>
                  <a:lnTo>
                    <a:pt x="341" y="11"/>
                  </a:lnTo>
                  <a:lnTo>
                    <a:pt x="347" y="11"/>
                  </a:lnTo>
                  <a:lnTo>
                    <a:pt x="347" y="5"/>
                  </a:lnTo>
                  <a:lnTo>
                    <a:pt x="370" y="5"/>
                  </a:lnTo>
                  <a:lnTo>
                    <a:pt x="370" y="0"/>
                  </a:lnTo>
                  <a:lnTo>
                    <a:pt x="392" y="0"/>
                  </a:lnTo>
                  <a:lnTo>
                    <a:pt x="392" y="5"/>
                  </a:lnTo>
                  <a:lnTo>
                    <a:pt x="398" y="5"/>
                  </a:lnTo>
                  <a:lnTo>
                    <a:pt x="398" y="16"/>
                  </a:lnTo>
                  <a:lnTo>
                    <a:pt x="392" y="16"/>
                  </a:lnTo>
                  <a:lnTo>
                    <a:pt x="392" y="28"/>
                  </a:lnTo>
                  <a:lnTo>
                    <a:pt x="387" y="28"/>
                  </a:lnTo>
                  <a:lnTo>
                    <a:pt x="387" y="33"/>
                  </a:lnTo>
                  <a:lnTo>
                    <a:pt x="380" y="33"/>
                  </a:lnTo>
                  <a:lnTo>
                    <a:pt x="380" y="39"/>
                  </a:lnTo>
                  <a:lnTo>
                    <a:pt x="375" y="39"/>
                  </a:lnTo>
                  <a:lnTo>
                    <a:pt x="375" y="45"/>
                  </a:lnTo>
                  <a:lnTo>
                    <a:pt x="370" y="45"/>
                  </a:lnTo>
                  <a:lnTo>
                    <a:pt x="370" y="50"/>
                  </a:lnTo>
                  <a:lnTo>
                    <a:pt x="358" y="50"/>
                  </a:lnTo>
                  <a:lnTo>
                    <a:pt x="358" y="56"/>
                  </a:lnTo>
                  <a:lnTo>
                    <a:pt x="352" y="56"/>
                  </a:lnTo>
                  <a:lnTo>
                    <a:pt x="352" y="62"/>
                  </a:lnTo>
                  <a:lnTo>
                    <a:pt x="347" y="62"/>
                  </a:lnTo>
                  <a:lnTo>
                    <a:pt x="347" y="68"/>
                  </a:lnTo>
                  <a:lnTo>
                    <a:pt x="341" y="68"/>
                  </a:lnTo>
                  <a:lnTo>
                    <a:pt x="341" y="73"/>
                  </a:lnTo>
                  <a:lnTo>
                    <a:pt x="330" y="73"/>
                  </a:lnTo>
                  <a:lnTo>
                    <a:pt x="330" y="79"/>
                  </a:lnTo>
                  <a:lnTo>
                    <a:pt x="323" y="79"/>
                  </a:lnTo>
                  <a:lnTo>
                    <a:pt x="323" y="85"/>
                  </a:lnTo>
                  <a:lnTo>
                    <a:pt x="318" y="85"/>
                  </a:lnTo>
                  <a:lnTo>
                    <a:pt x="318" y="90"/>
                  </a:lnTo>
                  <a:lnTo>
                    <a:pt x="306" y="90"/>
                  </a:lnTo>
                  <a:lnTo>
                    <a:pt x="306" y="96"/>
                  </a:lnTo>
                  <a:lnTo>
                    <a:pt x="301" y="96"/>
                  </a:lnTo>
                  <a:lnTo>
                    <a:pt x="301" y="102"/>
                  </a:lnTo>
                  <a:lnTo>
                    <a:pt x="295" y="102"/>
                  </a:lnTo>
                  <a:lnTo>
                    <a:pt x="295" y="107"/>
                  </a:lnTo>
                  <a:lnTo>
                    <a:pt x="290" y="107"/>
                  </a:lnTo>
                  <a:lnTo>
                    <a:pt x="290" y="113"/>
                  </a:lnTo>
                  <a:lnTo>
                    <a:pt x="261" y="113"/>
                  </a:lnTo>
                  <a:lnTo>
                    <a:pt x="261" y="119"/>
                  </a:lnTo>
                  <a:lnTo>
                    <a:pt x="256" y="119"/>
                  </a:lnTo>
                  <a:lnTo>
                    <a:pt x="256" y="125"/>
                  </a:lnTo>
                  <a:lnTo>
                    <a:pt x="249" y="125"/>
                  </a:lnTo>
                  <a:lnTo>
                    <a:pt x="249" y="130"/>
                  </a:lnTo>
                  <a:lnTo>
                    <a:pt x="238" y="130"/>
                  </a:lnTo>
                  <a:lnTo>
                    <a:pt x="238" y="142"/>
                  </a:lnTo>
                  <a:lnTo>
                    <a:pt x="233" y="142"/>
                  </a:lnTo>
                  <a:lnTo>
                    <a:pt x="233" y="147"/>
                  </a:lnTo>
                  <a:lnTo>
                    <a:pt x="221" y="147"/>
                  </a:lnTo>
                  <a:lnTo>
                    <a:pt x="221" y="152"/>
                  </a:lnTo>
                  <a:lnTo>
                    <a:pt x="216" y="152"/>
                  </a:lnTo>
                  <a:lnTo>
                    <a:pt x="216" y="159"/>
                  </a:lnTo>
                  <a:lnTo>
                    <a:pt x="209" y="159"/>
                  </a:lnTo>
                  <a:lnTo>
                    <a:pt x="209" y="164"/>
                  </a:lnTo>
                  <a:lnTo>
                    <a:pt x="204" y="164"/>
                  </a:lnTo>
                  <a:lnTo>
                    <a:pt x="204" y="170"/>
                  </a:lnTo>
                  <a:lnTo>
                    <a:pt x="199" y="170"/>
                  </a:lnTo>
                  <a:lnTo>
                    <a:pt x="199" y="176"/>
                  </a:lnTo>
                  <a:lnTo>
                    <a:pt x="187" y="176"/>
                  </a:lnTo>
                  <a:lnTo>
                    <a:pt x="187" y="181"/>
                  </a:lnTo>
                  <a:lnTo>
                    <a:pt x="182" y="181"/>
                  </a:lnTo>
                  <a:lnTo>
                    <a:pt x="182" y="187"/>
                  </a:lnTo>
                  <a:lnTo>
                    <a:pt x="176" y="187"/>
                  </a:lnTo>
                  <a:lnTo>
                    <a:pt x="176" y="193"/>
                  </a:lnTo>
                  <a:lnTo>
                    <a:pt x="164" y="193"/>
                  </a:lnTo>
                  <a:lnTo>
                    <a:pt x="164" y="199"/>
                  </a:lnTo>
                  <a:lnTo>
                    <a:pt x="159" y="199"/>
                  </a:lnTo>
                  <a:lnTo>
                    <a:pt x="159" y="204"/>
                  </a:lnTo>
                  <a:lnTo>
                    <a:pt x="152" y="204"/>
                  </a:lnTo>
                  <a:lnTo>
                    <a:pt x="152" y="209"/>
                  </a:lnTo>
                  <a:lnTo>
                    <a:pt x="147" y="209"/>
                  </a:lnTo>
                  <a:lnTo>
                    <a:pt x="147" y="216"/>
                  </a:lnTo>
                  <a:lnTo>
                    <a:pt x="142" y="216"/>
                  </a:lnTo>
                  <a:lnTo>
                    <a:pt x="142" y="227"/>
                  </a:lnTo>
                  <a:lnTo>
                    <a:pt x="136" y="227"/>
                  </a:lnTo>
                  <a:lnTo>
                    <a:pt x="136" y="238"/>
                  </a:lnTo>
                  <a:lnTo>
                    <a:pt x="131" y="238"/>
                  </a:lnTo>
                  <a:lnTo>
                    <a:pt x="131" y="244"/>
                  </a:lnTo>
                  <a:lnTo>
                    <a:pt x="125" y="244"/>
                  </a:lnTo>
                  <a:lnTo>
                    <a:pt x="125" y="250"/>
                  </a:lnTo>
                  <a:lnTo>
                    <a:pt x="119" y="250"/>
                  </a:lnTo>
                  <a:lnTo>
                    <a:pt x="119" y="256"/>
                  </a:lnTo>
                  <a:lnTo>
                    <a:pt x="107" y="256"/>
                  </a:lnTo>
                  <a:lnTo>
                    <a:pt x="107" y="261"/>
                  </a:lnTo>
                  <a:lnTo>
                    <a:pt x="102" y="261"/>
                  </a:lnTo>
                  <a:lnTo>
                    <a:pt x="102" y="267"/>
                  </a:lnTo>
                  <a:lnTo>
                    <a:pt x="97" y="267"/>
                  </a:lnTo>
                  <a:lnTo>
                    <a:pt x="97" y="273"/>
                  </a:lnTo>
                  <a:lnTo>
                    <a:pt x="74" y="273"/>
                  </a:lnTo>
                  <a:lnTo>
                    <a:pt x="74" y="278"/>
                  </a:lnTo>
                  <a:lnTo>
                    <a:pt x="68" y="278"/>
                  </a:lnTo>
                  <a:lnTo>
                    <a:pt x="68" y="284"/>
                  </a:lnTo>
                  <a:lnTo>
                    <a:pt x="62" y="284"/>
                  </a:lnTo>
                  <a:lnTo>
                    <a:pt x="62" y="290"/>
                  </a:lnTo>
                  <a:lnTo>
                    <a:pt x="57" y="290"/>
                  </a:lnTo>
                  <a:lnTo>
                    <a:pt x="57" y="301"/>
                  </a:lnTo>
                  <a:lnTo>
                    <a:pt x="50" y="301"/>
                  </a:lnTo>
                  <a:lnTo>
                    <a:pt x="50" y="324"/>
                  </a:lnTo>
                  <a:lnTo>
                    <a:pt x="45" y="324"/>
                  </a:lnTo>
                  <a:lnTo>
                    <a:pt x="45" y="347"/>
                  </a:lnTo>
                  <a:lnTo>
                    <a:pt x="50" y="347"/>
                  </a:lnTo>
                  <a:lnTo>
                    <a:pt x="50" y="415"/>
                  </a:lnTo>
                  <a:lnTo>
                    <a:pt x="57" y="415"/>
                  </a:lnTo>
                  <a:lnTo>
                    <a:pt x="57" y="472"/>
                  </a:lnTo>
                  <a:lnTo>
                    <a:pt x="62" y="472"/>
                  </a:lnTo>
                  <a:lnTo>
                    <a:pt x="62" y="494"/>
                  </a:lnTo>
                  <a:lnTo>
                    <a:pt x="68" y="494"/>
                  </a:lnTo>
                  <a:lnTo>
                    <a:pt x="68" y="523"/>
                  </a:lnTo>
                  <a:lnTo>
                    <a:pt x="74" y="523"/>
                  </a:lnTo>
                  <a:lnTo>
                    <a:pt x="74" y="563"/>
                  </a:lnTo>
                  <a:lnTo>
                    <a:pt x="79" y="563"/>
                  </a:lnTo>
                  <a:lnTo>
                    <a:pt x="79" y="591"/>
                  </a:lnTo>
                  <a:lnTo>
                    <a:pt x="85" y="591"/>
                  </a:lnTo>
                  <a:lnTo>
                    <a:pt x="85" y="615"/>
                  </a:lnTo>
                  <a:lnTo>
                    <a:pt x="90" y="615"/>
                  </a:lnTo>
                  <a:lnTo>
                    <a:pt x="90" y="631"/>
                  </a:lnTo>
                  <a:lnTo>
                    <a:pt x="97" y="631"/>
                  </a:lnTo>
                  <a:lnTo>
                    <a:pt x="97" y="642"/>
                  </a:lnTo>
                  <a:lnTo>
                    <a:pt x="102" y="642"/>
                  </a:lnTo>
                  <a:lnTo>
                    <a:pt x="102" y="660"/>
                  </a:lnTo>
                  <a:lnTo>
                    <a:pt x="107" y="660"/>
                  </a:lnTo>
                  <a:lnTo>
                    <a:pt x="107" y="671"/>
                  </a:lnTo>
                  <a:lnTo>
                    <a:pt x="114" y="671"/>
                  </a:lnTo>
                  <a:lnTo>
                    <a:pt x="114" y="688"/>
                  </a:lnTo>
                  <a:lnTo>
                    <a:pt x="119" y="688"/>
                  </a:lnTo>
                  <a:lnTo>
                    <a:pt x="119" y="711"/>
                  </a:lnTo>
                  <a:lnTo>
                    <a:pt x="125" y="711"/>
                  </a:lnTo>
                  <a:lnTo>
                    <a:pt x="125" y="722"/>
                  </a:lnTo>
                  <a:lnTo>
                    <a:pt x="131" y="722"/>
                  </a:lnTo>
                  <a:lnTo>
                    <a:pt x="131" y="734"/>
                  </a:lnTo>
                  <a:lnTo>
                    <a:pt x="136" y="734"/>
                  </a:lnTo>
                  <a:lnTo>
                    <a:pt x="136" y="756"/>
                  </a:lnTo>
                  <a:lnTo>
                    <a:pt x="142" y="756"/>
                  </a:lnTo>
                  <a:lnTo>
                    <a:pt x="142" y="768"/>
                  </a:lnTo>
                  <a:lnTo>
                    <a:pt x="147" y="768"/>
                  </a:lnTo>
                  <a:lnTo>
                    <a:pt x="147" y="796"/>
                  </a:lnTo>
                  <a:lnTo>
                    <a:pt x="152" y="796"/>
                  </a:lnTo>
                  <a:lnTo>
                    <a:pt x="152" y="813"/>
                  </a:lnTo>
                  <a:lnTo>
                    <a:pt x="159" y="813"/>
                  </a:lnTo>
                  <a:lnTo>
                    <a:pt x="159" y="824"/>
                  </a:lnTo>
                  <a:lnTo>
                    <a:pt x="164" y="824"/>
                  </a:lnTo>
                  <a:lnTo>
                    <a:pt x="164" y="836"/>
                  </a:lnTo>
                  <a:lnTo>
                    <a:pt x="170" y="836"/>
                  </a:lnTo>
                  <a:lnTo>
                    <a:pt x="170" y="847"/>
                  </a:lnTo>
                  <a:lnTo>
                    <a:pt x="176" y="847"/>
                  </a:lnTo>
                  <a:lnTo>
                    <a:pt x="176" y="858"/>
                  </a:lnTo>
                  <a:lnTo>
                    <a:pt x="182" y="858"/>
                  </a:lnTo>
                  <a:lnTo>
                    <a:pt x="182" y="887"/>
                  </a:lnTo>
                  <a:lnTo>
                    <a:pt x="187" y="887"/>
                  </a:lnTo>
                  <a:lnTo>
                    <a:pt x="187" y="905"/>
                  </a:lnTo>
                  <a:lnTo>
                    <a:pt x="192" y="905"/>
                  </a:lnTo>
                  <a:lnTo>
                    <a:pt x="192" y="915"/>
                  </a:lnTo>
                  <a:lnTo>
                    <a:pt x="199" y="915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04" y="950"/>
                  </a:lnTo>
                  <a:lnTo>
                    <a:pt x="209" y="950"/>
                  </a:lnTo>
                  <a:lnTo>
                    <a:pt x="209" y="967"/>
                  </a:lnTo>
                  <a:lnTo>
                    <a:pt x="216" y="967"/>
                  </a:lnTo>
                  <a:lnTo>
                    <a:pt x="216" y="978"/>
                  </a:lnTo>
                  <a:lnTo>
                    <a:pt x="221" y="978"/>
                  </a:lnTo>
                  <a:lnTo>
                    <a:pt x="221" y="990"/>
                  </a:lnTo>
                  <a:lnTo>
                    <a:pt x="227" y="990"/>
                  </a:lnTo>
                  <a:lnTo>
                    <a:pt x="227" y="1001"/>
                  </a:lnTo>
                  <a:lnTo>
                    <a:pt x="233" y="1001"/>
                  </a:lnTo>
                  <a:lnTo>
                    <a:pt x="233" y="1012"/>
                  </a:lnTo>
                  <a:lnTo>
                    <a:pt x="238" y="1012"/>
                  </a:lnTo>
                  <a:lnTo>
                    <a:pt x="238" y="1024"/>
                  </a:lnTo>
                  <a:lnTo>
                    <a:pt x="244" y="1024"/>
                  </a:lnTo>
                  <a:lnTo>
                    <a:pt x="244" y="1035"/>
                  </a:lnTo>
                  <a:lnTo>
                    <a:pt x="249" y="1035"/>
                  </a:lnTo>
                  <a:lnTo>
                    <a:pt x="249" y="1046"/>
                  </a:lnTo>
                  <a:lnTo>
                    <a:pt x="256" y="1046"/>
                  </a:lnTo>
                  <a:lnTo>
                    <a:pt x="256" y="1064"/>
                  </a:lnTo>
                  <a:lnTo>
                    <a:pt x="261" y="1064"/>
                  </a:lnTo>
                  <a:lnTo>
                    <a:pt x="261" y="1075"/>
                  </a:lnTo>
                  <a:lnTo>
                    <a:pt x="266" y="1075"/>
                  </a:lnTo>
                  <a:lnTo>
                    <a:pt x="266" y="1086"/>
                  </a:lnTo>
                  <a:lnTo>
                    <a:pt x="273" y="1086"/>
                  </a:lnTo>
                  <a:lnTo>
                    <a:pt x="273" y="1098"/>
                  </a:lnTo>
                  <a:lnTo>
                    <a:pt x="278" y="1098"/>
                  </a:lnTo>
                  <a:lnTo>
                    <a:pt x="278" y="1121"/>
                  </a:lnTo>
                  <a:lnTo>
                    <a:pt x="284" y="1121"/>
                  </a:lnTo>
                  <a:lnTo>
                    <a:pt x="284" y="1138"/>
                  </a:lnTo>
                  <a:lnTo>
                    <a:pt x="290" y="1138"/>
                  </a:lnTo>
                  <a:lnTo>
                    <a:pt x="290" y="1155"/>
                  </a:lnTo>
                  <a:lnTo>
                    <a:pt x="295" y="1155"/>
                  </a:lnTo>
                  <a:lnTo>
                    <a:pt x="295" y="1166"/>
                  </a:lnTo>
                  <a:lnTo>
                    <a:pt x="301" y="1166"/>
                  </a:lnTo>
                  <a:lnTo>
                    <a:pt x="301" y="1178"/>
                  </a:lnTo>
                  <a:lnTo>
                    <a:pt x="306" y="1178"/>
                  </a:lnTo>
                  <a:lnTo>
                    <a:pt x="306" y="1189"/>
                  </a:lnTo>
                  <a:lnTo>
                    <a:pt x="313" y="1189"/>
                  </a:lnTo>
                  <a:lnTo>
                    <a:pt x="313" y="1205"/>
                  </a:lnTo>
                  <a:lnTo>
                    <a:pt x="318" y="1205"/>
                  </a:lnTo>
                  <a:lnTo>
                    <a:pt x="318" y="1217"/>
                  </a:lnTo>
                  <a:lnTo>
                    <a:pt x="323" y="1217"/>
                  </a:lnTo>
                  <a:lnTo>
                    <a:pt x="323" y="1228"/>
                  </a:lnTo>
                  <a:lnTo>
                    <a:pt x="330" y="1228"/>
                  </a:lnTo>
                  <a:lnTo>
                    <a:pt x="330" y="1240"/>
                  </a:lnTo>
                  <a:lnTo>
                    <a:pt x="335" y="1240"/>
                  </a:lnTo>
                  <a:lnTo>
                    <a:pt x="335" y="1262"/>
                  </a:lnTo>
                  <a:lnTo>
                    <a:pt x="341" y="1262"/>
                  </a:lnTo>
                  <a:lnTo>
                    <a:pt x="341" y="1268"/>
                  </a:lnTo>
                  <a:lnTo>
                    <a:pt x="347" y="1268"/>
                  </a:lnTo>
                  <a:lnTo>
                    <a:pt x="347" y="1285"/>
                  </a:lnTo>
                  <a:lnTo>
                    <a:pt x="352" y="1285"/>
                  </a:lnTo>
                  <a:lnTo>
                    <a:pt x="352" y="1297"/>
                  </a:lnTo>
                  <a:lnTo>
                    <a:pt x="358" y="1297"/>
                  </a:lnTo>
                  <a:lnTo>
                    <a:pt x="358" y="1314"/>
                  </a:lnTo>
                  <a:lnTo>
                    <a:pt x="364" y="1314"/>
                  </a:lnTo>
                  <a:lnTo>
                    <a:pt x="364" y="1325"/>
                  </a:lnTo>
                  <a:lnTo>
                    <a:pt x="370" y="1325"/>
                  </a:lnTo>
                  <a:lnTo>
                    <a:pt x="370" y="1337"/>
                  </a:lnTo>
                  <a:lnTo>
                    <a:pt x="375" y="1337"/>
                  </a:lnTo>
                  <a:lnTo>
                    <a:pt x="375" y="1348"/>
                  </a:lnTo>
                  <a:lnTo>
                    <a:pt x="380" y="1348"/>
                  </a:lnTo>
                  <a:lnTo>
                    <a:pt x="380" y="1359"/>
                  </a:lnTo>
                  <a:lnTo>
                    <a:pt x="387" y="1359"/>
                  </a:lnTo>
                  <a:lnTo>
                    <a:pt x="387" y="1371"/>
                  </a:lnTo>
                  <a:lnTo>
                    <a:pt x="392" y="1371"/>
                  </a:lnTo>
                  <a:lnTo>
                    <a:pt x="392" y="1376"/>
                  </a:lnTo>
                  <a:lnTo>
                    <a:pt x="398" y="1376"/>
                  </a:lnTo>
                  <a:lnTo>
                    <a:pt x="398" y="1388"/>
                  </a:lnTo>
                  <a:lnTo>
                    <a:pt x="404" y="1388"/>
                  </a:lnTo>
                  <a:lnTo>
                    <a:pt x="404" y="1399"/>
                  </a:lnTo>
                  <a:lnTo>
                    <a:pt x="409" y="1399"/>
                  </a:lnTo>
                  <a:lnTo>
                    <a:pt x="409" y="1411"/>
                  </a:lnTo>
                  <a:lnTo>
                    <a:pt x="415" y="1411"/>
                  </a:lnTo>
                  <a:lnTo>
                    <a:pt x="415" y="1423"/>
                  </a:lnTo>
                  <a:lnTo>
                    <a:pt x="421" y="1423"/>
                  </a:lnTo>
                  <a:lnTo>
                    <a:pt x="421" y="1433"/>
                  </a:lnTo>
                  <a:lnTo>
                    <a:pt x="427" y="1433"/>
                  </a:lnTo>
                  <a:lnTo>
                    <a:pt x="427" y="1439"/>
                  </a:lnTo>
                  <a:lnTo>
                    <a:pt x="432" y="1439"/>
                  </a:lnTo>
                  <a:lnTo>
                    <a:pt x="432" y="1445"/>
                  </a:lnTo>
                  <a:lnTo>
                    <a:pt x="437" y="1445"/>
                  </a:lnTo>
                  <a:lnTo>
                    <a:pt x="437" y="1462"/>
                  </a:lnTo>
                  <a:lnTo>
                    <a:pt x="444" y="1462"/>
                  </a:lnTo>
                  <a:lnTo>
                    <a:pt x="444" y="1473"/>
                  </a:lnTo>
                  <a:lnTo>
                    <a:pt x="449" y="1473"/>
                  </a:lnTo>
                  <a:lnTo>
                    <a:pt x="449" y="1479"/>
                  </a:lnTo>
                  <a:lnTo>
                    <a:pt x="455" y="1479"/>
                  </a:lnTo>
                  <a:lnTo>
                    <a:pt x="455" y="1485"/>
                  </a:lnTo>
                  <a:lnTo>
                    <a:pt x="461" y="1485"/>
                  </a:lnTo>
                  <a:lnTo>
                    <a:pt x="461" y="1502"/>
                  </a:lnTo>
                  <a:lnTo>
                    <a:pt x="466" y="1502"/>
                  </a:lnTo>
                  <a:lnTo>
                    <a:pt x="466" y="1513"/>
                  </a:lnTo>
                  <a:lnTo>
                    <a:pt x="472" y="1513"/>
                  </a:lnTo>
                  <a:lnTo>
                    <a:pt x="472" y="1525"/>
                  </a:lnTo>
                  <a:lnTo>
                    <a:pt x="478" y="1525"/>
                  </a:lnTo>
                  <a:lnTo>
                    <a:pt x="478" y="1536"/>
                  </a:lnTo>
                  <a:lnTo>
                    <a:pt x="484" y="1536"/>
                  </a:lnTo>
                  <a:lnTo>
                    <a:pt x="484" y="1542"/>
                  </a:lnTo>
                  <a:lnTo>
                    <a:pt x="489" y="1542"/>
                  </a:lnTo>
                  <a:lnTo>
                    <a:pt x="489" y="1559"/>
                  </a:lnTo>
                  <a:lnTo>
                    <a:pt x="494" y="1559"/>
                  </a:lnTo>
                  <a:lnTo>
                    <a:pt x="494" y="1564"/>
                  </a:lnTo>
                  <a:lnTo>
                    <a:pt x="501" y="1564"/>
                  </a:lnTo>
                  <a:lnTo>
                    <a:pt x="501" y="1582"/>
                  </a:lnTo>
                  <a:lnTo>
                    <a:pt x="506" y="1582"/>
                  </a:lnTo>
                  <a:lnTo>
                    <a:pt x="506" y="1587"/>
                  </a:lnTo>
                  <a:lnTo>
                    <a:pt x="511" y="1587"/>
                  </a:lnTo>
                  <a:lnTo>
                    <a:pt x="511" y="1593"/>
                  </a:lnTo>
                  <a:lnTo>
                    <a:pt x="518" y="1593"/>
                  </a:lnTo>
                  <a:lnTo>
                    <a:pt x="518" y="1611"/>
                  </a:lnTo>
                  <a:lnTo>
                    <a:pt x="523" y="1611"/>
                  </a:lnTo>
                  <a:lnTo>
                    <a:pt x="523" y="1621"/>
                  </a:lnTo>
                  <a:lnTo>
                    <a:pt x="529" y="1621"/>
                  </a:lnTo>
                  <a:lnTo>
                    <a:pt x="529" y="1633"/>
                  </a:lnTo>
                  <a:lnTo>
                    <a:pt x="535" y="1633"/>
                  </a:lnTo>
                  <a:lnTo>
                    <a:pt x="535" y="1644"/>
                  </a:lnTo>
                  <a:lnTo>
                    <a:pt x="541" y="1644"/>
                  </a:lnTo>
                  <a:lnTo>
                    <a:pt x="541" y="1656"/>
                  </a:lnTo>
                  <a:lnTo>
                    <a:pt x="546" y="1656"/>
                  </a:lnTo>
                  <a:lnTo>
                    <a:pt x="546" y="1661"/>
                  </a:lnTo>
                  <a:lnTo>
                    <a:pt x="551" y="1661"/>
                  </a:lnTo>
                  <a:lnTo>
                    <a:pt x="551" y="1672"/>
                  </a:lnTo>
                  <a:lnTo>
                    <a:pt x="557" y="1672"/>
                  </a:lnTo>
                  <a:lnTo>
                    <a:pt x="557" y="1684"/>
                  </a:lnTo>
                  <a:lnTo>
                    <a:pt x="563" y="1684"/>
                  </a:lnTo>
                  <a:lnTo>
                    <a:pt x="563" y="1695"/>
                  </a:lnTo>
                  <a:lnTo>
                    <a:pt x="568" y="1695"/>
                  </a:lnTo>
                  <a:lnTo>
                    <a:pt x="568" y="1706"/>
                  </a:lnTo>
                  <a:lnTo>
                    <a:pt x="574" y="1706"/>
                  </a:lnTo>
                  <a:lnTo>
                    <a:pt x="574" y="1718"/>
                  </a:lnTo>
                  <a:lnTo>
                    <a:pt x="580" y="1718"/>
                  </a:lnTo>
                  <a:lnTo>
                    <a:pt x="580" y="1723"/>
                  </a:lnTo>
                  <a:lnTo>
                    <a:pt x="586" y="1723"/>
                  </a:lnTo>
                  <a:lnTo>
                    <a:pt x="586" y="1735"/>
                  </a:lnTo>
                  <a:lnTo>
                    <a:pt x="591" y="1735"/>
                  </a:lnTo>
                  <a:lnTo>
                    <a:pt x="591" y="1741"/>
                  </a:lnTo>
                  <a:lnTo>
                    <a:pt x="596" y="1741"/>
                  </a:lnTo>
                  <a:lnTo>
                    <a:pt x="596" y="1746"/>
                  </a:lnTo>
                  <a:lnTo>
                    <a:pt x="608" y="1746"/>
                  </a:lnTo>
                  <a:lnTo>
                    <a:pt x="608" y="1752"/>
                  </a:lnTo>
                  <a:lnTo>
                    <a:pt x="614" y="1752"/>
                  </a:lnTo>
                  <a:lnTo>
                    <a:pt x="614" y="1763"/>
                  </a:lnTo>
                  <a:lnTo>
                    <a:pt x="620" y="1763"/>
                  </a:lnTo>
                  <a:lnTo>
                    <a:pt x="620" y="1770"/>
                  </a:lnTo>
                  <a:lnTo>
                    <a:pt x="625" y="1770"/>
                  </a:lnTo>
                  <a:lnTo>
                    <a:pt x="625" y="1775"/>
                  </a:lnTo>
                  <a:lnTo>
                    <a:pt x="637" y="1775"/>
                  </a:lnTo>
                  <a:lnTo>
                    <a:pt x="637" y="1780"/>
                  </a:lnTo>
                  <a:lnTo>
                    <a:pt x="643" y="1780"/>
                  </a:lnTo>
                  <a:lnTo>
                    <a:pt x="643" y="1786"/>
                  </a:lnTo>
                  <a:lnTo>
                    <a:pt x="648" y="1786"/>
                  </a:lnTo>
                  <a:lnTo>
                    <a:pt x="648" y="1792"/>
                  </a:lnTo>
                  <a:lnTo>
                    <a:pt x="654" y="1792"/>
                  </a:lnTo>
                  <a:lnTo>
                    <a:pt x="654" y="1798"/>
                  </a:lnTo>
                  <a:lnTo>
                    <a:pt x="660" y="1798"/>
                  </a:lnTo>
                  <a:lnTo>
                    <a:pt x="660" y="1803"/>
                  </a:lnTo>
                  <a:lnTo>
                    <a:pt x="665" y="1803"/>
                  </a:lnTo>
                  <a:lnTo>
                    <a:pt x="665" y="1809"/>
                  </a:lnTo>
                  <a:lnTo>
                    <a:pt x="677" y="1809"/>
                  </a:lnTo>
                  <a:lnTo>
                    <a:pt x="677" y="1815"/>
                  </a:lnTo>
                  <a:lnTo>
                    <a:pt x="694" y="1815"/>
                  </a:lnTo>
                  <a:lnTo>
                    <a:pt x="694" y="1820"/>
                  </a:lnTo>
                  <a:lnTo>
                    <a:pt x="711" y="1820"/>
                  </a:lnTo>
                  <a:lnTo>
                    <a:pt x="711" y="1815"/>
                  </a:lnTo>
                  <a:lnTo>
                    <a:pt x="722" y="1815"/>
                  </a:lnTo>
                  <a:lnTo>
                    <a:pt x="722" y="1820"/>
                  </a:lnTo>
                  <a:lnTo>
                    <a:pt x="784" y="1820"/>
                  </a:lnTo>
                  <a:lnTo>
                    <a:pt x="784" y="1827"/>
                  </a:lnTo>
                  <a:lnTo>
                    <a:pt x="814" y="1827"/>
                  </a:lnTo>
                  <a:lnTo>
                    <a:pt x="814" y="1832"/>
                  </a:lnTo>
                  <a:lnTo>
                    <a:pt x="848" y="1832"/>
                  </a:lnTo>
                  <a:lnTo>
                    <a:pt x="848" y="1837"/>
                  </a:lnTo>
                  <a:lnTo>
                    <a:pt x="945" y="1837"/>
                  </a:lnTo>
                  <a:lnTo>
                    <a:pt x="945" y="1843"/>
                  </a:lnTo>
                  <a:lnTo>
                    <a:pt x="973" y="1843"/>
                  </a:lnTo>
                  <a:lnTo>
                    <a:pt x="973" y="1849"/>
                  </a:lnTo>
                  <a:lnTo>
                    <a:pt x="995" y="1849"/>
                  </a:lnTo>
                  <a:lnTo>
                    <a:pt x="995" y="1854"/>
                  </a:lnTo>
                  <a:lnTo>
                    <a:pt x="1018" y="1854"/>
                  </a:lnTo>
                  <a:lnTo>
                    <a:pt x="1018" y="1860"/>
                  </a:lnTo>
                  <a:lnTo>
                    <a:pt x="1059" y="1860"/>
                  </a:lnTo>
                  <a:lnTo>
                    <a:pt x="1059" y="1866"/>
                  </a:lnTo>
                  <a:lnTo>
                    <a:pt x="1092" y="1866"/>
                  </a:lnTo>
                  <a:lnTo>
                    <a:pt x="1092" y="1872"/>
                  </a:lnTo>
                  <a:lnTo>
                    <a:pt x="1104" y="1872"/>
                  </a:lnTo>
                  <a:lnTo>
                    <a:pt x="1104" y="1877"/>
                  </a:lnTo>
                  <a:lnTo>
                    <a:pt x="1126" y="1877"/>
                  </a:lnTo>
                  <a:lnTo>
                    <a:pt x="1126" y="1883"/>
                  </a:lnTo>
                  <a:lnTo>
                    <a:pt x="1143" y="1883"/>
                  </a:lnTo>
                  <a:lnTo>
                    <a:pt x="1143" y="1889"/>
                  </a:lnTo>
                  <a:lnTo>
                    <a:pt x="1155" y="1889"/>
                  </a:lnTo>
                  <a:lnTo>
                    <a:pt x="1155" y="1894"/>
                  </a:lnTo>
                  <a:lnTo>
                    <a:pt x="1166" y="1894"/>
                  </a:lnTo>
                  <a:lnTo>
                    <a:pt x="1166" y="1901"/>
                  </a:lnTo>
                  <a:lnTo>
                    <a:pt x="1178" y="1901"/>
                  </a:lnTo>
                  <a:lnTo>
                    <a:pt x="1178" y="1906"/>
                  </a:lnTo>
                  <a:lnTo>
                    <a:pt x="1183" y="1906"/>
                  </a:lnTo>
                  <a:lnTo>
                    <a:pt x="1183" y="1911"/>
                  </a:lnTo>
                  <a:lnTo>
                    <a:pt x="1195" y="1911"/>
                  </a:lnTo>
                  <a:lnTo>
                    <a:pt x="1195" y="1917"/>
                  </a:lnTo>
                  <a:lnTo>
                    <a:pt x="1206" y="1917"/>
                  </a:lnTo>
                  <a:lnTo>
                    <a:pt x="1206" y="1923"/>
                  </a:lnTo>
                  <a:lnTo>
                    <a:pt x="1223" y="1923"/>
                  </a:lnTo>
                  <a:lnTo>
                    <a:pt x="1223" y="1929"/>
                  </a:lnTo>
                  <a:lnTo>
                    <a:pt x="1235" y="1929"/>
                  </a:lnTo>
                  <a:lnTo>
                    <a:pt x="1235" y="1934"/>
                  </a:lnTo>
                  <a:lnTo>
                    <a:pt x="1240" y="1934"/>
                  </a:lnTo>
                  <a:lnTo>
                    <a:pt x="1240" y="1940"/>
                  </a:lnTo>
                  <a:lnTo>
                    <a:pt x="1252" y="1940"/>
                  </a:lnTo>
                  <a:lnTo>
                    <a:pt x="1252" y="1946"/>
                  </a:lnTo>
                  <a:lnTo>
                    <a:pt x="1257" y="1946"/>
                  </a:lnTo>
                  <a:lnTo>
                    <a:pt x="1257" y="1951"/>
                  </a:lnTo>
                  <a:lnTo>
                    <a:pt x="1263" y="1951"/>
                  </a:lnTo>
                  <a:lnTo>
                    <a:pt x="1263" y="1958"/>
                  </a:lnTo>
                  <a:lnTo>
                    <a:pt x="1269" y="1958"/>
                  </a:lnTo>
                  <a:lnTo>
                    <a:pt x="1269" y="1963"/>
                  </a:lnTo>
                  <a:lnTo>
                    <a:pt x="1275" y="1963"/>
                  </a:lnTo>
                  <a:lnTo>
                    <a:pt x="1275" y="1968"/>
                  </a:lnTo>
                  <a:lnTo>
                    <a:pt x="1280" y="1968"/>
                  </a:lnTo>
                  <a:lnTo>
                    <a:pt x="1280" y="1974"/>
                  </a:lnTo>
                  <a:lnTo>
                    <a:pt x="1286" y="1974"/>
                  </a:lnTo>
                  <a:lnTo>
                    <a:pt x="1286" y="1991"/>
                  </a:lnTo>
                  <a:lnTo>
                    <a:pt x="1280" y="1991"/>
                  </a:lnTo>
                  <a:lnTo>
                    <a:pt x="1280" y="1997"/>
                  </a:lnTo>
                  <a:lnTo>
                    <a:pt x="1252" y="1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2337120" y="4105080"/>
              <a:ext cx="431280" cy="663480"/>
            </a:xfrm>
            <a:custGeom>
              <a:avLst/>
              <a:gdLst/>
              <a:ahLst/>
              <a:rect l="l" t="t" r="r" b="b"/>
              <a:pathLst>
                <a:path w="792" h="1206">
                  <a:moveTo>
                    <a:pt x="268" y="1206"/>
                  </a:moveTo>
                  <a:lnTo>
                    <a:pt x="268" y="1200"/>
                  </a:lnTo>
                  <a:lnTo>
                    <a:pt x="262" y="1200"/>
                  </a:lnTo>
                  <a:lnTo>
                    <a:pt x="262" y="1178"/>
                  </a:lnTo>
                  <a:lnTo>
                    <a:pt x="268" y="1178"/>
                  </a:lnTo>
                  <a:lnTo>
                    <a:pt x="268" y="1172"/>
                  </a:lnTo>
                  <a:lnTo>
                    <a:pt x="296" y="1172"/>
                  </a:lnTo>
                  <a:lnTo>
                    <a:pt x="296" y="1166"/>
                  </a:lnTo>
                  <a:lnTo>
                    <a:pt x="308" y="1166"/>
                  </a:lnTo>
                  <a:lnTo>
                    <a:pt x="308" y="1161"/>
                  </a:lnTo>
                  <a:lnTo>
                    <a:pt x="314" y="1161"/>
                  </a:lnTo>
                  <a:lnTo>
                    <a:pt x="314" y="1155"/>
                  </a:lnTo>
                  <a:lnTo>
                    <a:pt x="325" y="1155"/>
                  </a:lnTo>
                  <a:lnTo>
                    <a:pt x="325" y="1150"/>
                  </a:lnTo>
                  <a:lnTo>
                    <a:pt x="331" y="1150"/>
                  </a:lnTo>
                  <a:lnTo>
                    <a:pt x="331" y="1143"/>
                  </a:lnTo>
                  <a:lnTo>
                    <a:pt x="336" y="1143"/>
                  </a:lnTo>
                  <a:lnTo>
                    <a:pt x="336" y="1138"/>
                  </a:lnTo>
                  <a:lnTo>
                    <a:pt x="343" y="1138"/>
                  </a:lnTo>
                  <a:lnTo>
                    <a:pt x="343" y="1133"/>
                  </a:lnTo>
                  <a:lnTo>
                    <a:pt x="348" y="1133"/>
                  </a:lnTo>
                  <a:lnTo>
                    <a:pt x="348" y="1127"/>
                  </a:lnTo>
                  <a:lnTo>
                    <a:pt x="353" y="1127"/>
                  </a:lnTo>
                  <a:lnTo>
                    <a:pt x="353" y="1121"/>
                  </a:lnTo>
                  <a:lnTo>
                    <a:pt x="359" y="1121"/>
                  </a:lnTo>
                  <a:lnTo>
                    <a:pt x="359" y="1116"/>
                  </a:lnTo>
                  <a:lnTo>
                    <a:pt x="364" y="1116"/>
                  </a:lnTo>
                  <a:lnTo>
                    <a:pt x="364" y="1110"/>
                  </a:lnTo>
                  <a:lnTo>
                    <a:pt x="376" y="1110"/>
                  </a:lnTo>
                  <a:lnTo>
                    <a:pt x="376" y="1104"/>
                  </a:lnTo>
                  <a:lnTo>
                    <a:pt x="381" y="1104"/>
                  </a:lnTo>
                  <a:lnTo>
                    <a:pt x="381" y="1098"/>
                  </a:lnTo>
                  <a:lnTo>
                    <a:pt x="393" y="1098"/>
                  </a:lnTo>
                  <a:lnTo>
                    <a:pt x="393" y="1093"/>
                  </a:lnTo>
                  <a:lnTo>
                    <a:pt x="398" y="1093"/>
                  </a:lnTo>
                  <a:lnTo>
                    <a:pt x="398" y="1087"/>
                  </a:lnTo>
                  <a:lnTo>
                    <a:pt x="404" y="1087"/>
                  </a:lnTo>
                  <a:lnTo>
                    <a:pt x="404" y="1081"/>
                  </a:lnTo>
                  <a:lnTo>
                    <a:pt x="410" y="1081"/>
                  </a:lnTo>
                  <a:lnTo>
                    <a:pt x="410" y="1076"/>
                  </a:lnTo>
                  <a:lnTo>
                    <a:pt x="416" y="1076"/>
                  </a:lnTo>
                  <a:lnTo>
                    <a:pt x="416" y="1070"/>
                  </a:lnTo>
                  <a:lnTo>
                    <a:pt x="421" y="1070"/>
                  </a:lnTo>
                  <a:lnTo>
                    <a:pt x="421" y="1064"/>
                  </a:lnTo>
                  <a:lnTo>
                    <a:pt x="427" y="1064"/>
                  </a:lnTo>
                  <a:lnTo>
                    <a:pt x="427" y="1059"/>
                  </a:lnTo>
                  <a:lnTo>
                    <a:pt x="433" y="1059"/>
                  </a:lnTo>
                  <a:lnTo>
                    <a:pt x="433" y="1053"/>
                  </a:lnTo>
                  <a:lnTo>
                    <a:pt x="438" y="1053"/>
                  </a:lnTo>
                  <a:lnTo>
                    <a:pt x="438" y="1047"/>
                  </a:lnTo>
                  <a:lnTo>
                    <a:pt x="445" y="1047"/>
                  </a:lnTo>
                  <a:lnTo>
                    <a:pt x="445" y="1036"/>
                  </a:lnTo>
                  <a:lnTo>
                    <a:pt x="455" y="1036"/>
                  </a:lnTo>
                  <a:lnTo>
                    <a:pt x="455" y="1030"/>
                  </a:lnTo>
                  <a:lnTo>
                    <a:pt x="462" y="1030"/>
                  </a:lnTo>
                  <a:lnTo>
                    <a:pt x="462" y="1024"/>
                  </a:lnTo>
                  <a:lnTo>
                    <a:pt x="467" y="1024"/>
                  </a:lnTo>
                  <a:lnTo>
                    <a:pt x="467" y="1019"/>
                  </a:lnTo>
                  <a:lnTo>
                    <a:pt x="473" y="1019"/>
                  </a:lnTo>
                  <a:lnTo>
                    <a:pt x="473" y="1013"/>
                  </a:lnTo>
                  <a:lnTo>
                    <a:pt x="478" y="1013"/>
                  </a:lnTo>
                  <a:lnTo>
                    <a:pt x="478" y="1007"/>
                  </a:lnTo>
                  <a:lnTo>
                    <a:pt x="484" y="1007"/>
                  </a:lnTo>
                  <a:lnTo>
                    <a:pt x="484" y="1002"/>
                  </a:lnTo>
                  <a:lnTo>
                    <a:pt x="495" y="1002"/>
                  </a:lnTo>
                  <a:lnTo>
                    <a:pt x="495" y="996"/>
                  </a:lnTo>
                  <a:lnTo>
                    <a:pt x="502" y="996"/>
                  </a:lnTo>
                  <a:lnTo>
                    <a:pt x="502" y="990"/>
                  </a:lnTo>
                  <a:lnTo>
                    <a:pt x="507" y="990"/>
                  </a:lnTo>
                  <a:lnTo>
                    <a:pt x="507" y="984"/>
                  </a:lnTo>
                  <a:lnTo>
                    <a:pt x="519" y="984"/>
                  </a:lnTo>
                  <a:lnTo>
                    <a:pt x="519" y="979"/>
                  </a:lnTo>
                  <a:lnTo>
                    <a:pt x="524" y="979"/>
                  </a:lnTo>
                  <a:lnTo>
                    <a:pt x="524" y="973"/>
                  </a:lnTo>
                  <a:lnTo>
                    <a:pt x="535" y="973"/>
                  </a:lnTo>
                  <a:lnTo>
                    <a:pt x="535" y="967"/>
                  </a:lnTo>
                  <a:lnTo>
                    <a:pt x="541" y="967"/>
                  </a:lnTo>
                  <a:lnTo>
                    <a:pt x="541" y="962"/>
                  </a:lnTo>
                  <a:lnTo>
                    <a:pt x="552" y="962"/>
                  </a:lnTo>
                  <a:lnTo>
                    <a:pt x="552" y="957"/>
                  </a:lnTo>
                  <a:lnTo>
                    <a:pt x="559" y="957"/>
                  </a:lnTo>
                  <a:lnTo>
                    <a:pt x="559" y="945"/>
                  </a:lnTo>
                  <a:lnTo>
                    <a:pt x="569" y="945"/>
                  </a:lnTo>
                  <a:lnTo>
                    <a:pt x="569" y="939"/>
                  </a:lnTo>
                  <a:lnTo>
                    <a:pt x="576" y="939"/>
                  </a:lnTo>
                  <a:lnTo>
                    <a:pt x="576" y="933"/>
                  </a:lnTo>
                  <a:lnTo>
                    <a:pt x="581" y="933"/>
                  </a:lnTo>
                  <a:lnTo>
                    <a:pt x="581" y="927"/>
                  </a:lnTo>
                  <a:lnTo>
                    <a:pt x="587" y="927"/>
                  </a:lnTo>
                  <a:lnTo>
                    <a:pt x="587" y="922"/>
                  </a:lnTo>
                  <a:lnTo>
                    <a:pt x="592" y="922"/>
                  </a:lnTo>
                  <a:lnTo>
                    <a:pt x="592" y="916"/>
                  </a:lnTo>
                  <a:lnTo>
                    <a:pt x="598" y="916"/>
                  </a:lnTo>
                  <a:lnTo>
                    <a:pt x="598" y="910"/>
                  </a:lnTo>
                  <a:lnTo>
                    <a:pt x="604" y="910"/>
                  </a:lnTo>
                  <a:lnTo>
                    <a:pt x="604" y="905"/>
                  </a:lnTo>
                  <a:lnTo>
                    <a:pt x="609" y="905"/>
                  </a:lnTo>
                  <a:lnTo>
                    <a:pt x="609" y="900"/>
                  </a:lnTo>
                  <a:lnTo>
                    <a:pt x="616" y="900"/>
                  </a:lnTo>
                  <a:lnTo>
                    <a:pt x="616" y="893"/>
                  </a:lnTo>
                  <a:lnTo>
                    <a:pt x="626" y="893"/>
                  </a:lnTo>
                  <a:lnTo>
                    <a:pt x="626" y="888"/>
                  </a:lnTo>
                  <a:lnTo>
                    <a:pt x="633" y="888"/>
                  </a:lnTo>
                  <a:lnTo>
                    <a:pt x="633" y="882"/>
                  </a:lnTo>
                  <a:lnTo>
                    <a:pt x="638" y="882"/>
                  </a:lnTo>
                  <a:lnTo>
                    <a:pt x="638" y="876"/>
                  </a:lnTo>
                  <a:lnTo>
                    <a:pt x="643" y="876"/>
                  </a:lnTo>
                  <a:lnTo>
                    <a:pt x="643" y="865"/>
                  </a:lnTo>
                  <a:lnTo>
                    <a:pt x="655" y="865"/>
                  </a:lnTo>
                  <a:lnTo>
                    <a:pt x="655" y="859"/>
                  </a:lnTo>
                  <a:lnTo>
                    <a:pt x="661" y="859"/>
                  </a:lnTo>
                  <a:lnTo>
                    <a:pt x="661" y="848"/>
                  </a:lnTo>
                  <a:lnTo>
                    <a:pt x="666" y="848"/>
                  </a:lnTo>
                  <a:lnTo>
                    <a:pt x="666" y="842"/>
                  </a:lnTo>
                  <a:lnTo>
                    <a:pt x="672" y="842"/>
                  </a:lnTo>
                  <a:lnTo>
                    <a:pt x="672" y="836"/>
                  </a:lnTo>
                  <a:lnTo>
                    <a:pt x="678" y="836"/>
                  </a:lnTo>
                  <a:lnTo>
                    <a:pt x="678" y="825"/>
                  </a:lnTo>
                  <a:lnTo>
                    <a:pt x="683" y="825"/>
                  </a:lnTo>
                  <a:lnTo>
                    <a:pt x="683" y="819"/>
                  </a:lnTo>
                  <a:lnTo>
                    <a:pt x="690" y="819"/>
                  </a:lnTo>
                  <a:lnTo>
                    <a:pt x="690" y="814"/>
                  </a:lnTo>
                  <a:lnTo>
                    <a:pt x="695" y="814"/>
                  </a:lnTo>
                  <a:lnTo>
                    <a:pt x="695" y="802"/>
                  </a:lnTo>
                  <a:lnTo>
                    <a:pt x="700" y="802"/>
                  </a:lnTo>
                  <a:lnTo>
                    <a:pt x="700" y="796"/>
                  </a:lnTo>
                  <a:lnTo>
                    <a:pt x="706" y="796"/>
                  </a:lnTo>
                  <a:lnTo>
                    <a:pt x="706" y="791"/>
                  </a:lnTo>
                  <a:lnTo>
                    <a:pt x="712" y="791"/>
                  </a:lnTo>
                  <a:lnTo>
                    <a:pt x="712" y="774"/>
                  </a:lnTo>
                  <a:lnTo>
                    <a:pt x="718" y="774"/>
                  </a:lnTo>
                  <a:lnTo>
                    <a:pt x="718" y="757"/>
                  </a:lnTo>
                  <a:lnTo>
                    <a:pt x="723" y="757"/>
                  </a:lnTo>
                  <a:lnTo>
                    <a:pt x="723" y="746"/>
                  </a:lnTo>
                  <a:lnTo>
                    <a:pt x="729" y="746"/>
                  </a:lnTo>
                  <a:lnTo>
                    <a:pt x="729" y="723"/>
                  </a:lnTo>
                  <a:lnTo>
                    <a:pt x="735" y="723"/>
                  </a:lnTo>
                  <a:lnTo>
                    <a:pt x="735" y="689"/>
                  </a:lnTo>
                  <a:lnTo>
                    <a:pt x="740" y="689"/>
                  </a:lnTo>
                  <a:lnTo>
                    <a:pt x="740" y="672"/>
                  </a:lnTo>
                  <a:lnTo>
                    <a:pt x="729" y="672"/>
                  </a:lnTo>
                  <a:lnTo>
                    <a:pt x="729" y="666"/>
                  </a:lnTo>
                  <a:lnTo>
                    <a:pt x="723" y="666"/>
                  </a:lnTo>
                  <a:lnTo>
                    <a:pt x="723" y="660"/>
                  </a:lnTo>
                  <a:lnTo>
                    <a:pt x="712" y="660"/>
                  </a:lnTo>
                  <a:lnTo>
                    <a:pt x="712" y="655"/>
                  </a:lnTo>
                  <a:lnTo>
                    <a:pt x="706" y="655"/>
                  </a:lnTo>
                  <a:lnTo>
                    <a:pt x="706" y="643"/>
                  </a:lnTo>
                  <a:lnTo>
                    <a:pt x="700" y="643"/>
                  </a:lnTo>
                  <a:lnTo>
                    <a:pt x="700" y="637"/>
                  </a:lnTo>
                  <a:lnTo>
                    <a:pt x="690" y="637"/>
                  </a:lnTo>
                  <a:lnTo>
                    <a:pt x="690" y="632"/>
                  </a:lnTo>
                  <a:lnTo>
                    <a:pt x="683" y="632"/>
                  </a:lnTo>
                  <a:lnTo>
                    <a:pt x="683" y="626"/>
                  </a:lnTo>
                  <a:lnTo>
                    <a:pt x="672" y="626"/>
                  </a:lnTo>
                  <a:lnTo>
                    <a:pt x="672" y="620"/>
                  </a:lnTo>
                  <a:lnTo>
                    <a:pt x="661" y="620"/>
                  </a:lnTo>
                  <a:lnTo>
                    <a:pt x="661" y="615"/>
                  </a:lnTo>
                  <a:lnTo>
                    <a:pt x="655" y="615"/>
                  </a:lnTo>
                  <a:lnTo>
                    <a:pt x="655" y="609"/>
                  </a:lnTo>
                  <a:lnTo>
                    <a:pt x="643" y="609"/>
                  </a:lnTo>
                  <a:lnTo>
                    <a:pt x="643" y="603"/>
                  </a:lnTo>
                  <a:lnTo>
                    <a:pt x="638" y="603"/>
                  </a:lnTo>
                  <a:lnTo>
                    <a:pt x="638" y="598"/>
                  </a:lnTo>
                  <a:lnTo>
                    <a:pt x="633" y="598"/>
                  </a:lnTo>
                  <a:lnTo>
                    <a:pt x="633" y="592"/>
                  </a:lnTo>
                  <a:lnTo>
                    <a:pt x="621" y="592"/>
                  </a:lnTo>
                  <a:lnTo>
                    <a:pt x="621" y="586"/>
                  </a:lnTo>
                  <a:lnTo>
                    <a:pt x="616" y="586"/>
                  </a:lnTo>
                  <a:lnTo>
                    <a:pt x="616" y="580"/>
                  </a:lnTo>
                  <a:lnTo>
                    <a:pt x="609" y="580"/>
                  </a:lnTo>
                  <a:lnTo>
                    <a:pt x="609" y="575"/>
                  </a:lnTo>
                  <a:lnTo>
                    <a:pt x="604" y="575"/>
                  </a:lnTo>
                  <a:lnTo>
                    <a:pt x="604" y="563"/>
                  </a:lnTo>
                  <a:lnTo>
                    <a:pt x="598" y="563"/>
                  </a:lnTo>
                  <a:lnTo>
                    <a:pt x="598" y="558"/>
                  </a:lnTo>
                  <a:lnTo>
                    <a:pt x="587" y="558"/>
                  </a:lnTo>
                  <a:lnTo>
                    <a:pt x="587" y="546"/>
                  </a:lnTo>
                  <a:lnTo>
                    <a:pt x="581" y="546"/>
                  </a:lnTo>
                  <a:lnTo>
                    <a:pt x="581" y="541"/>
                  </a:lnTo>
                  <a:lnTo>
                    <a:pt x="576" y="541"/>
                  </a:lnTo>
                  <a:lnTo>
                    <a:pt x="576" y="535"/>
                  </a:lnTo>
                  <a:lnTo>
                    <a:pt x="559" y="535"/>
                  </a:lnTo>
                  <a:lnTo>
                    <a:pt x="559" y="529"/>
                  </a:lnTo>
                  <a:lnTo>
                    <a:pt x="547" y="529"/>
                  </a:lnTo>
                  <a:lnTo>
                    <a:pt x="547" y="523"/>
                  </a:lnTo>
                  <a:lnTo>
                    <a:pt x="535" y="523"/>
                  </a:lnTo>
                  <a:lnTo>
                    <a:pt x="535" y="518"/>
                  </a:lnTo>
                  <a:lnTo>
                    <a:pt x="530" y="518"/>
                  </a:lnTo>
                  <a:lnTo>
                    <a:pt x="530" y="512"/>
                  </a:lnTo>
                  <a:lnTo>
                    <a:pt x="524" y="512"/>
                  </a:lnTo>
                  <a:lnTo>
                    <a:pt x="524" y="501"/>
                  </a:lnTo>
                  <a:lnTo>
                    <a:pt x="512" y="501"/>
                  </a:lnTo>
                  <a:lnTo>
                    <a:pt x="512" y="494"/>
                  </a:lnTo>
                  <a:lnTo>
                    <a:pt x="507" y="494"/>
                  </a:lnTo>
                  <a:lnTo>
                    <a:pt x="507" y="489"/>
                  </a:lnTo>
                  <a:lnTo>
                    <a:pt x="502" y="489"/>
                  </a:lnTo>
                  <a:lnTo>
                    <a:pt x="502" y="484"/>
                  </a:lnTo>
                  <a:lnTo>
                    <a:pt x="495" y="484"/>
                  </a:lnTo>
                  <a:lnTo>
                    <a:pt x="495" y="478"/>
                  </a:lnTo>
                  <a:lnTo>
                    <a:pt x="490" y="478"/>
                  </a:lnTo>
                  <a:lnTo>
                    <a:pt x="490" y="472"/>
                  </a:lnTo>
                  <a:lnTo>
                    <a:pt x="484" y="472"/>
                  </a:lnTo>
                  <a:lnTo>
                    <a:pt x="484" y="467"/>
                  </a:lnTo>
                  <a:lnTo>
                    <a:pt x="478" y="467"/>
                  </a:lnTo>
                  <a:lnTo>
                    <a:pt x="478" y="461"/>
                  </a:lnTo>
                  <a:lnTo>
                    <a:pt x="473" y="461"/>
                  </a:lnTo>
                  <a:lnTo>
                    <a:pt x="473" y="455"/>
                  </a:lnTo>
                  <a:lnTo>
                    <a:pt x="462" y="455"/>
                  </a:lnTo>
                  <a:lnTo>
                    <a:pt x="462" y="449"/>
                  </a:lnTo>
                  <a:lnTo>
                    <a:pt x="455" y="449"/>
                  </a:lnTo>
                  <a:lnTo>
                    <a:pt x="455" y="444"/>
                  </a:lnTo>
                  <a:lnTo>
                    <a:pt x="450" y="444"/>
                  </a:lnTo>
                  <a:lnTo>
                    <a:pt x="450" y="438"/>
                  </a:lnTo>
                  <a:lnTo>
                    <a:pt x="445" y="438"/>
                  </a:lnTo>
                  <a:lnTo>
                    <a:pt x="445" y="432"/>
                  </a:lnTo>
                  <a:lnTo>
                    <a:pt x="438" y="432"/>
                  </a:lnTo>
                  <a:lnTo>
                    <a:pt x="438" y="427"/>
                  </a:lnTo>
                  <a:lnTo>
                    <a:pt x="433" y="427"/>
                  </a:lnTo>
                  <a:lnTo>
                    <a:pt x="433" y="421"/>
                  </a:lnTo>
                  <a:lnTo>
                    <a:pt x="427" y="421"/>
                  </a:lnTo>
                  <a:lnTo>
                    <a:pt x="427" y="415"/>
                  </a:lnTo>
                  <a:lnTo>
                    <a:pt x="421" y="415"/>
                  </a:lnTo>
                  <a:lnTo>
                    <a:pt x="421" y="410"/>
                  </a:lnTo>
                  <a:lnTo>
                    <a:pt x="416" y="410"/>
                  </a:lnTo>
                  <a:lnTo>
                    <a:pt x="416" y="404"/>
                  </a:lnTo>
                  <a:lnTo>
                    <a:pt x="410" y="404"/>
                  </a:lnTo>
                  <a:lnTo>
                    <a:pt x="410" y="398"/>
                  </a:lnTo>
                  <a:lnTo>
                    <a:pt x="404" y="398"/>
                  </a:lnTo>
                  <a:lnTo>
                    <a:pt x="404" y="392"/>
                  </a:lnTo>
                  <a:lnTo>
                    <a:pt x="398" y="392"/>
                  </a:lnTo>
                  <a:lnTo>
                    <a:pt x="398" y="387"/>
                  </a:lnTo>
                  <a:lnTo>
                    <a:pt x="393" y="387"/>
                  </a:lnTo>
                  <a:lnTo>
                    <a:pt x="393" y="381"/>
                  </a:lnTo>
                  <a:lnTo>
                    <a:pt x="388" y="381"/>
                  </a:lnTo>
                  <a:lnTo>
                    <a:pt x="388" y="370"/>
                  </a:lnTo>
                  <a:lnTo>
                    <a:pt x="376" y="370"/>
                  </a:lnTo>
                  <a:lnTo>
                    <a:pt x="376" y="364"/>
                  </a:lnTo>
                  <a:lnTo>
                    <a:pt x="370" y="364"/>
                  </a:lnTo>
                  <a:lnTo>
                    <a:pt x="370" y="358"/>
                  </a:lnTo>
                  <a:lnTo>
                    <a:pt x="364" y="358"/>
                  </a:lnTo>
                  <a:lnTo>
                    <a:pt x="364" y="347"/>
                  </a:lnTo>
                  <a:lnTo>
                    <a:pt x="359" y="347"/>
                  </a:lnTo>
                  <a:lnTo>
                    <a:pt x="359" y="342"/>
                  </a:lnTo>
                  <a:lnTo>
                    <a:pt x="353" y="342"/>
                  </a:lnTo>
                  <a:lnTo>
                    <a:pt x="353" y="335"/>
                  </a:lnTo>
                  <a:lnTo>
                    <a:pt x="343" y="335"/>
                  </a:lnTo>
                  <a:lnTo>
                    <a:pt x="343" y="325"/>
                  </a:lnTo>
                  <a:lnTo>
                    <a:pt x="331" y="325"/>
                  </a:lnTo>
                  <a:lnTo>
                    <a:pt x="331" y="319"/>
                  </a:lnTo>
                  <a:lnTo>
                    <a:pt x="325" y="319"/>
                  </a:lnTo>
                  <a:lnTo>
                    <a:pt x="325" y="313"/>
                  </a:lnTo>
                  <a:lnTo>
                    <a:pt x="319" y="313"/>
                  </a:lnTo>
                  <a:lnTo>
                    <a:pt x="319" y="308"/>
                  </a:lnTo>
                  <a:lnTo>
                    <a:pt x="308" y="308"/>
                  </a:lnTo>
                  <a:lnTo>
                    <a:pt x="308" y="296"/>
                  </a:lnTo>
                  <a:lnTo>
                    <a:pt x="302" y="296"/>
                  </a:lnTo>
                  <a:lnTo>
                    <a:pt x="302" y="290"/>
                  </a:lnTo>
                  <a:lnTo>
                    <a:pt x="296" y="290"/>
                  </a:lnTo>
                  <a:lnTo>
                    <a:pt x="296" y="285"/>
                  </a:lnTo>
                  <a:lnTo>
                    <a:pt x="291" y="285"/>
                  </a:lnTo>
                  <a:lnTo>
                    <a:pt x="291" y="278"/>
                  </a:lnTo>
                  <a:lnTo>
                    <a:pt x="286" y="278"/>
                  </a:lnTo>
                  <a:lnTo>
                    <a:pt x="286" y="273"/>
                  </a:lnTo>
                  <a:lnTo>
                    <a:pt x="274" y="273"/>
                  </a:lnTo>
                  <a:lnTo>
                    <a:pt x="274" y="268"/>
                  </a:lnTo>
                  <a:lnTo>
                    <a:pt x="268" y="268"/>
                  </a:lnTo>
                  <a:lnTo>
                    <a:pt x="268" y="256"/>
                  </a:lnTo>
                  <a:lnTo>
                    <a:pt x="257" y="256"/>
                  </a:lnTo>
                  <a:lnTo>
                    <a:pt x="257" y="251"/>
                  </a:lnTo>
                  <a:lnTo>
                    <a:pt x="251" y="251"/>
                  </a:lnTo>
                  <a:lnTo>
                    <a:pt x="251" y="245"/>
                  </a:lnTo>
                  <a:lnTo>
                    <a:pt x="245" y="245"/>
                  </a:lnTo>
                  <a:lnTo>
                    <a:pt x="245" y="239"/>
                  </a:lnTo>
                  <a:lnTo>
                    <a:pt x="239" y="239"/>
                  </a:lnTo>
                  <a:lnTo>
                    <a:pt x="239" y="233"/>
                  </a:lnTo>
                  <a:lnTo>
                    <a:pt x="229" y="233"/>
                  </a:lnTo>
                  <a:lnTo>
                    <a:pt x="229" y="228"/>
                  </a:lnTo>
                  <a:lnTo>
                    <a:pt x="222" y="228"/>
                  </a:lnTo>
                  <a:lnTo>
                    <a:pt x="222" y="222"/>
                  </a:lnTo>
                  <a:lnTo>
                    <a:pt x="217" y="222"/>
                  </a:lnTo>
                  <a:lnTo>
                    <a:pt x="217" y="216"/>
                  </a:lnTo>
                  <a:lnTo>
                    <a:pt x="211" y="216"/>
                  </a:lnTo>
                  <a:lnTo>
                    <a:pt x="211" y="211"/>
                  </a:lnTo>
                  <a:lnTo>
                    <a:pt x="205" y="211"/>
                  </a:lnTo>
                  <a:lnTo>
                    <a:pt x="205" y="204"/>
                  </a:lnTo>
                  <a:lnTo>
                    <a:pt x="200" y="204"/>
                  </a:lnTo>
                  <a:lnTo>
                    <a:pt x="200" y="199"/>
                  </a:lnTo>
                  <a:lnTo>
                    <a:pt x="194" y="199"/>
                  </a:lnTo>
                  <a:lnTo>
                    <a:pt x="194" y="188"/>
                  </a:lnTo>
                  <a:lnTo>
                    <a:pt x="188" y="188"/>
                  </a:lnTo>
                  <a:lnTo>
                    <a:pt x="188" y="182"/>
                  </a:lnTo>
                  <a:lnTo>
                    <a:pt x="182" y="182"/>
                  </a:lnTo>
                  <a:lnTo>
                    <a:pt x="182" y="176"/>
                  </a:lnTo>
                  <a:lnTo>
                    <a:pt x="177" y="176"/>
                  </a:lnTo>
                  <a:lnTo>
                    <a:pt x="177" y="171"/>
                  </a:lnTo>
                  <a:lnTo>
                    <a:pt x="165" y="171"/>
                  </a:lnTo>
                  <a:lnTo>
                    <a:pt x="165" y="165"/>
                  </a:lnTo>
                  <a:lnTo>
                    <a:pt x="160" y="165"/>
                  </a:lnTo>
                  <a:lnTo>
                    <a:pt x="160" y="159"/>
                  </a:lnTo>
                  <a:lnTo>
                    <a:pt x="154" y="159"/>
                  </a:lnTo>
                  <a:lnTo>
                    <a:pt x="154" y="154"/>
                  </a:lnTo>
                  <a:lnTo>
                    <a:pt x="148" y="154"/>
                  </a:lnTo>
                  <a:lnTo>
                    <a:pt x="148" y="147"/>
                  </a:lnTo>
                  <a:lnTo>
                    <a:pt x="143" y="147"/>
                  </a:lnTo>
                  <a:lnTo>
                    <a:pt x="143" y="137"/>
                  </a:lnTo>
                  <a:lnTo>
                    <a:pt x="137" y="137"/>
                  </a:lnTo>
                  <a:lnTo>
                    <a:pt x="137" y="131"/>
                  </a:lnTo>
                  <a:lnTo>
                    <a:pt x="131" y="131"/>
                  </a:lnTo>
                  <a:lnTo>
                    <a:pt x="131" y="125"/>
                  </a:lnTo>
                  <a:lnTo>
                    <a:pt x="125" y="125"/>
                  </a:lnTo>
                  <a:lnTo>
                    <a:pt x="125" y="119"/>
                  </a:lnTo>
                  <a:lnTo>
                    <a:pt x="114" y="119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8" y="108"/>
                  </a:lnTo>
                  <a:lnTo>
                    <a:pt x="103" y="108"/>
                  </a:lnTo>
                  <a:lnTo>
                    <a:pt x="103" y="102"/>
                  </a:lnTo>
                  <a:lnTo>
                    <a:pt x="97" y="102"/>
                  </a:lnTo>
                  <a:lnTo>
                    <a:pt x="97" y="97"/>
                  </a:lnTo>
                  <a:lnTo>
                    <a:pt x="91" y="97"/>
                  </a:lnTo>
                  <a:lnTo>
                    <a:pt x="91" y="90"/>
                  </a:lnTo>
                  <a:lnTo>
                    <a:pt x="80" y="90"/>
                  </a:lnTo>
                  <a:lnTo>
                    <a:pt x="80" y="85"/>
                  </a:lnTo>
                  <a:lnTo>
                    <a:pt x="74" y="85"/>
                  </a:lnTo>
                  <a:lnTo>
                    <a:pt x="74" y="80"/>
                  </a:lnTo>
                  <a:lnTo>
                    <a:pt x="68" y="80"/>
                  </a:lnTo>
                  <a:lnTo>
                    <a:pt x="68" y="74"/>
                  </a:lnTo>
                  <a:lnTo>
                    <a:pt x="51" y="74"/>
                  </a:lnTo>
                  <a:lnTo>
                    <a:pt x="51" y="80"/>
                  </a:lnTo>
                  <a:lnTo>
                    <a:pt x="46" y="80"/>
                  </a:lnTo>
                  <a:lnTo>
                    <a:pt x="46" y="90"/>
                  </a:lnTo>
                  <a:lnTo>
                    <a:pt x="34" y="90"/>
                  </a:lnTo>
                  <a:lnTo>
                    <a:pt x="34" y="85"/>
                  </a:lnTo>
                  <a:lnTo>
                    <a:pt x="29" y="85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23" y="63"/>
                  </a:lnTo>
                  <a:lnTo>
                    <a:pt x="17" y="63"/>
                  </a:lnTo>
                  <a:lnTo>
                    <a:pt x="17" y="57"/>
                  </a:lnTo>
                  <a:lnTo>
                    <a:pt x="11" y="57"/>
                  </a:lnTo>
                  <a:lnTo>
                    <a:pt x="11" y="45"/>
                  </a:lnTo>
                  <a:lnTo>
                    <a:pt x="6" y="45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51" y="0"/>
                  </a:lnTo>
                  <a:lnTo>
                    <a:pt x="51" y="6"/>
                  </a:lnTo>
                  <a:lnTo>
                    <a:pt x="57" y="6"/>
                  </a:lnTo>
                  <a:lnTo>
                    <a:pt x="57" y="11"/>
                  </a:lnTo>
                  <a:lnTo>
                    <a:pt x="63" y="11"/>
                  </a:lnTo>
                  <a:lnTo>
                    <a:pt x="63" y="17"/>
                  </a:lnTo>
                  <a:lnTo>
                    <a:pt x="68" y="17"/>
                  </a:lnTo>
                  <a:lnTo>
                    <a:pt x="68" y="28"/>
                  </a:lnTo>
                  <a:lnTo>
                    <a:pt x="74" y="28"/>
                  </a:lnTo>
                  <a:lnTo>
                    <a:pt x="74" y="34"/>
                  </a:lnTo>
                  <a:lnTo>
                    <a:pt x="80" y="34"/>
                  </a:lnTo>
                  <a:lnTo>
                    <a:pt x="80" y="45"/>
                  </a:lnTo>
                  <a:lnTo>
                    <a:pt x="91" y="45"/>
                  </a:lnTo>
                  <a:lnTo>
                    <a:pt x="91" y="51"/>
                  </a:lnTo>
                  <a:lnTo>
                    <a:pt x="97" y="51"/>
                  </a:lnTo>
                  <a:lnTo>
                    <a:pt x="97" y="57"/>
                  </a:lnTo>
                  <a:lnTo>
                    <a:pt x="103" y="57"/>
                  </a:lnTo>
                  <a:lnTo>
                    <a:pt x="103" y="63"/>
                  </a:lnTo>
                  <a:lnTo>
                    <a:pt x="108" y="63"/>
                  </a:lnTo>
                  <a:lnTo>
                    <a:pt x="108" y="74"/>
                  </a:lnTo>
                  <a:lnTo>
                    <a:pt x="120" y="74"/>
                  </a:lnTo>
                  <a:lnTo>
                    <a:pt x="120" y="80"/>
                  </a:lnTo>
                  <a:lnTo>
                    <a:pt x="125" y="80"/>
                  </a:lnTo>
                  <a:lnTo>
                    <a:pt x="125" y="90"/>
                  </a:lnTo>
                  <a:lnTo>
                    <a:pt x="131" y="90"/>
                  </a:lnTo>
                  <a:lnTo>
                    <a:pt x="131" y="97"/>
                  </a:lnTo>
                  <a:lnTo>
                    <a:pt x="143" y="97"/>
                  </a:lnTo>
                  <a:lnTo>
                    <a:pt x="143" y="108"/>
                  </a:lnTo>
                  <a:lnTo>
                    <a:pt x="148" y="108"/>
                  </a:lnTo>
                  <a:lnTo>
                    <a:pt x="148" y="114"/>
                  </a:lnTo>
                  <a:lnTo>
                    <a:pt x="160" y="114"/>
                  </a:lnTo>
                  <a:lnTo>
                    <a:pt x="160" y="119"/>
                  </a:lnTo>
                  <a:lnTo>
                    <a:pt x="165" y="119"/>
                  </a:lnTo>
                  <a:lnTo>
                    <a:pt x="165" y="125"/>
                  </a:lnTo>
                  <a:lnTo>
                    <a:pt x="172" y="125"/>
                  </a:lnTo>
                  <a:lnTo>
                    <a:pt x="172" y="131"/>
                  </a:lnTo>
                  <a:lnTo>
                    <a:pt x="177" y="131"/>
                  </a:lnTo>
                  <a:lnTo>
                    <a:pt x="177" y="137"/>
                  </a:lnTo>
                  <a:lnTo>
                    <a:pt x="182" y="137"/>
                  </a:lnTo>
                  <a:lnTo>
                    <a:pt x="182" y="142"/>
                  </a:lnTo>
                  <a:lnTo>
                    <a:pt x="188" y="142"/>
                  </a:lnTo>
                  <a:lnTo>
                    <a:pt x="188" y="147"/>
                  </a:lnTo>
                  <a:lnTo>
                    <a:pt x="194" y="147"/>
                  </a:lnTo>
                  <a:lnTo>
                    <a:pt x="194" y="154"/>
                  </a:lnTo>
                  <a:lnTo>
                    <a:pt x="200" y="154"/>
                  </a:lnTo>
                  <a:lnTo>
                    <a:pt x="200" y="165"/>
                  </a:lnTo>
                  <a:lnTo>
                    <a:pt x="205" y="165"/>
                  </a:lnTo>
                  <a:lnTo>
                    <a:pt x="205" y="171"/>
                  </a:lnTo>
                  <a:lnTo>
                    <a:pt x="211" y="171"/>
                  </a:lnTo>
                  <a:lnTo>
                    <a:pt x="211" y="176"/>
                  </a:lnTo>
                  <a:lnTo>
                    <a:pt x="217" y="176"/>
                  </a:lnTo>
                  <a:lnTo>
                    <a:pt x="217" y="182"/>
                  </a:lnTo>
                  <a:lnTo>
                    <a:pt x="222" y="182"/>
                  </a:lnTo>
                  <a:lnTo>
                    <a:pt x="222" y="188"/>
                  </a:lnTo>
                  <a:lnTo>
                    <a:pt x="229" y="188"/>
                  </a:lnTo>
                  <a:lnTo>
                    <a:pt x="229" y="194"/>
                  </a:lnTo>
                  <a:lnTo>
                    <a:pt x="234" y="194"/>
                  </a:lnTo>
                  <a:lnTo>
                    <a:pt x="234" y="199"/>
                  </a:lnTo>
                  <a:lnTo>
                    <a:pt x="239" y="199"/>
                  </a:lnTo>
                  <a:lnTo>
                    <a:pt x="239" y="204"/>
                  </a:lnTo>
                  <a:lnTo>
                    <a:pt x="245" y="204"/>
                  </a:lnTo>
                  <a:lnTo>
                    <a:pt x="245" y="211"/>
                  </a:lnTo>
                  <a:lnTo>
                    <a:pt x="251" y="211"/>
                  </a:lnTo>
                  <a:lnTo>
                    <a:pt x="251" y="216"/>
                  </a:lnTo>
                  <a:lnTo>
                    <a:pt x="257" y="216"/>
                  </a:lnTo>
                  <a:lnTo>
                    <a:pt x="257" y="222"/>
                  </a:lnTo>
                  <a:lnTo>
                    <a:pt x="262" y="222"/>
                  </a:lnTo>
                  <a:lnTo>
                    <a:pt x="262" y="228"/>
                  </a:lnTo>
                  <a:lnTo>
                    <a:pt x="268" y="228"/>
                  </a:lnTo>
                  <a:lnTo>
                    <a:pt x="268" y="233"/>
                  </a:lnTo>
                  <a:lnTo>
                    <a:pt x="274" y="233"/>
                  </a:lnTo>
                  <a:lnTo>
                    <a:pt x="274" y="239"/>
                  </a:lnTo>
                  <a:lnTo>
                    <a:pt x="279" y="239"/>
                  </a:lnTo>
                  <a:lnTo>
                    <a:pt x="279" y="245"/>
                  </a:lnTo>
                  <a:lnTo>
                    <a:pt x="286" y="245"/>
                  </a:lnTo>
                  <a:lnTo>
                    <a:pt x="286" y="251"/>
                  </a:lnTo>
                  <a:lnTo>
                    <a:pt x="291" y="251"/>
                  </a:lnTo>
                  <a:lnTo>
                    <a:pt x="291" y="256"/>
                  </a:lnTo>
                  <a:lnTo>
                    <a:pt x="296" y="256"/>
                  </a:lnTo>
                  <a:lnTo>
                    <a:pt x="296" y="262"/>
                  </a:lnTo>
                  <a:lnTo>
                    <a:pt x="302" y="262"/>
                  </a:lnTo>
                  <a:lnTo>
                    <a:pt x="302" y="268"/>
                  </a:lnTo>
                  <a:lnTo>
                    <a:pt x="308" y="268"/>
                  </a:lnTo>
                  <a:lnTo>
                    <a:pt x="308" y="273"/>
                  </a:lnTo>
                  <a:lnTo>
                    <a:pt x="314" y="273"/>
                  </a:lnTo>
                  <a:lnTo>
                    <a:pt x="314" y="278"/>
                  </a:lnTo>
                  <a:lnTo>
                    <a:pt x="325" y="278"/>
                  </a:lnTo>
                  <a:lnTo>
                    <a:pt x="325" y="290"/>
                  </a:lnTo>
                  <a:lnTo>
                    <a:pt x="331" y="290"/>
                  </a:lnTo>
                  <a:lnTo>
                    <a:pt x="331" y="296"/>
                  </a:lnTo>
                  <a:lnTo>
                    <a:pt x="336" y="296"/>
                  </a:lnTo>
                  <a:lnTo>
                    <a:pt x="336" y="302"/>
                  </a:lnTo>
                  <a:lnTo>
                    <a:pt x="343" y="302"/>
                  </a:lnTo>
                  <a:lnTo>
                    <a:pt x="343" y="308"/>
                  </a:lnTo>
                  <a:lnTo>
                    <a:pt x="353" y="308"/>
                  </a:lnTo>
                  <a:lnTo>
                    <a:pt x="353" y="313"/>
                  </a:lnTo>
                  <a:lnTo>
                    <a:pt x="359" y="313"/>
                  </a:lnTo>
                  <a:lnTo>
                    <a:pt x="359" y="319"/>
                  </a:lnTo>
                  <a:lnTo>
                    <a:pt x="370" y="319"/>
                  </a:lnTo>
                  <a:lnTo>
                    <a:pt x="370" y="325"/>
                  </a:lnTo>
                  <a:lnTo>
                    <a:pt x="376" y="325"/>
                  </a:lnTo>
                  <a:lnTo>
                    <a:pt x="376" y="330"/>
                  </a:lnTo>
                  <a:lnTo>
                    <a:pt x="381" y="330"/>
                  </a:lnTo>
                  <a:lnTo>
                    <a:pt x="381" y="335"/>
                  </a:lnTo>
                  <a:lnTo>
                    <a:pt x="388" y="335"/>
                  </a:lnTo>
                  <a:lnTo>
                    <a:pt x="388" y="342"/>
                  </a:lnTo>
                  <a:lnTo>
                    <a:pt x="393" y="342"/>
                  </a:lnTo>
                  <a:lnTo>
                    <a:pt x="393" y="347"/>
                  </a:lnTo>
                  <a:lnTo>
                    <a:pt x="398" y="347"/>
                  </a:lnTo>
                  <a:lnTo>
                    <a:pt x="398" y="353"/>
                  </a:lnTo>
                  <a:lnTo>
                    <a:pt x="410" y="353"/>
                  </a:lnTo>
                  <a:lnTo>
                    <a:pt x="410" y="358"/>
                  </a:lnTo>
                  <a:lnTo>
                    <a:pt x="416" y="358"/>
                  </a:lnTo>
                  <a:lnTo>
                    <a:pt x="416" y="364"/>
                  </a:lnTo>
                  <a:lnTo>
                    <a:pt x="421" y="364"/>
                  </a:lnTo>
                  <a:lnTo>
                    <a:pt x="421" y="370"/>
                  </a:lnTo>
                  <a:lnTo>
                    <a:pt x="427" y="370"/>
                  </a:lnTo>
                  <a:lnTo>
                    <a:pt x="427" y="375"/>
                  </a:lnTo>
                  <a:lnTo>
                    <a:pt x="433" y="375"/>
                  </a:lnTo>
                  <a:lnTo>
                    <a:pt x="433" y="381"/>
                  </a:lnTo>
                  <a:lnTo>
                    <a:pt x="445" y="381"/>
                  </a:lnTo>
                  <a:lnTo>
                    <a:pt x="445" y="387"/>
                  </a:lnTo>
                  <a:lnTo>
                    <a:pt x="450" y="387"/>
                  </a:lnTo>
                  <a:lnTo>
                    <a:pt x="450" y="392"/>
                  </a:lnTo>
                  <a:lnTo>
                    <a:pt x="455" y="392"/>
                  </a:lnTo>
                  <a:lnTo>
                    <a:pt x="455" y="398"/>
                  </a:lnTo>
                  <a:lnTo>
                    <a:pt x="462" y="398"/>
                  </a:lnTo>
                  <a:lnTo>
                    <a:pt x="462" y="404"/>
                  </a:lnTo>
                  <a:lnTo>
                    <a:pt x="467" y="404"/>
                  </a:lnTo>
                  <a:lnTo>
                    <a:pt x="467" y="410"/>
                  </a:lnTo>
                  <a:lnTo>
                    <a:pt x="473" y="410"/>
                  </a:lnTo>
                  <a:lnTo>
                    <a:pt x="473" y="415"/>
                  </a:lnTo>
                  <a:lnTo>
                    <a:pt x="478" y="415"/>
                  </a:lnTo>
                  <a:lnTo>
                    <a:pt x="478" y="421"/>
                  </a:lnTo>
                  <a:lnTo>
                    <a:pt x="490" y="421"/>
                  </a:lnTo>
                  <a:lnTo>
                    <a:pt x="490" y="427"/>
                  </a:lnTo>
                  <a:lnTo>
                    <a:pt x="495" y="427"/>
                  </a:lnTo>
                  <a:lnTo>
                    <a:pt x="495" y="432"/>
                  </a:lnTo>
                  <a:lnTo>
                    <a:pt x="502" y="432"/>
                  </a:lnTo>
                  <a:lnTo>
                    <a:pt x="502" y="438"/>
                  </a:lnTo>
                  <a:lnTo>
                    <a:pt x="507" y="438"/>
                  </a:lnTo>
                  <a:lnTo>
                    <a:pt x="507" y="444"/>
                  </a:lnTo>
                  <a:lnTo>
                    <a:pt x="512" y="444"/>
                  </a:lnTo>
                  <a:lnTo>
                    <a:pt x="512" y="449"/>
                  </a:lnTo>
                  <a:lnTo>
                    <a:pt x="519" y="449"/>
                  </a:lnTo>
                  <a:lnTo>
                    <a:pt x="519" y="455"/>
                  </a:lnTo>
                  <a:lnTo>
                    <a:pt x="524" y="455"/>
                  </a:lnTo>
                  <a:lnTo>
                    <a:pt x="524" y="461"/>
                  </a:lnTo>
                  <a:lnTo>
                    <a:pt x="535" y="461"/>
                  </a:lnTo>
                  <a:lnTo>
                    <a:pt x="535" y="467"/>
                  </a:lnTo>
                  <a:lnTo>
                    <a:pt x="541" y="467"/>
                  </a:lnTo>
                  <a:lnTo>
                    <a:pt x="541" y="472"/>
                  </a:lnTo>
                  <a:lnTo>
                    <a:pt x="547" y="472"/>
                  </a:lnTo>
                  <a:lnTo>
                    <a:pt x="547" y="478"/>
                  </a:lnTo>
                  <a:lnTo>
                    <a:pt x="559" y="478"/>
                  </a:lnTo>
                  <a:lnTo>
                    <a:pt x="559" y="484"/>
                  </a:lnTo>
                  <a:lnTo>
                    <a:pt x="564" y="484"/>
                  </a:lnTo>
                  <a:lnTo>
                    <a:pt x="564" y="489"/>
                  </a:lnTo>
                  <a:lnTo>
                    <a:pt x="569" y="489"/>
                  </a:lnTo>
                  <a:lnTo>
                    <a:pt x="569" y="494"/>
                  </a:lnTo>
                  <a:lnTo>
                    <a:pt x="576" y="494"/>
                  </a:lnTo>
                  <a:lnTo>
                    <a:pt x="576" y="501"/>
                  </a:lnTo>
                  <a:lnTo>
                    <a:pt x="581" y="501"/>
                  </a:lnTo>
                  <a:lnTo>
                    <a:pt x="581" y="512"/>
                  </a:lnTo>
                  <a:lnTo>
                    <a:pt x="587" y="512"/>
                  </a:lnTo>
                  <a:lnTo>
                    <a:pt x="587" y="518"/>
                  </a:lnTo>
                  <a:lnTo>
                    <a:pt x="598" y="518"/>
                  </a:lnTo>
                  <a:lnTo>
                    <a:pt x="598" y="523"/>
                  </a:lnTo>
                  <a:lnTo>
                    <a:pt x="609" y="523"/>
                  </a:lnTo>
                  <a:lnTo>
                    <a:pt x="609" y="529"/>
                  </a:lnTo>
                  <a:lnTo>
                    <a:pt x="616" y="529"/>
                  </a:lnTo>
                  <a:lnTo>
                    <a:pt x="616" y="535"/>
                  </a:lnTo>
                  <a:lnTo>
                    <a:pt x="621" y="535"/>
                  </a:lnTo>
                  <a:lnTo>
                    <a:pt x="621" y="541"/>
                  </a:lnTo>
                  <a:lnTo>
                    <a:pt x="626" y="541"/>
                  </a:lnTo>
                  <a:lnTo>
                    <a:pt x="626" y="546"/>
                  </a:lnTo>
                  <a:lnTo>
                    <a:pt x="633" y="546"/>
                  </a:lnTo>
                  <a:lnTo>
                    <a:pt x="633" y="551"/>
                  </a:lnTo>
                  <a:lnTo>
                    <a:pt x="638" y="551"/>
                  </a:lnTo>
                  <a:lnTo>
                    <a:pt x="638" y="558"/>
                  </a:lnTo>
                  <a:lnTo>
                    <a:pt x="649" y="558"/>
                  </a:lnTo>
                  <a:lnTo>
                    <a:pt x="649" y="569"/>
                  </a:lnTo>
                  <a:lnTo>
                    <a:pt x="655" y="569"/>
                  </a:lnTo>
                  <a:lnTo>
                    <a:pt x="655" y="575"/>
                  </a:lnTo>
                  <a:lnTo>
                    <a:pt x="661" y="575"/>
                  </a:lnTo>
                  <a:lnTo>
                    <a:pt x="661" y="580"/>
                  </a:lnTo>
                  <a:lnTo>
                    <a:pt x="666" y="580"/>
                  </a:lnTo>
                  <a:lnTo>
                    <a:pt x="666" y="592"/>
                  </a:lnTo>
                  <a:lnTo>
                    <a:pt x="672" y="592"/>
                  </a:lnTo>
                  <a:lnTo>
                    <a:pt x="672" y="598"/>
                  </a:lnTo>
                  <a:lnTo>
                    <a:pt x="683" y="598"/>
                  </a:lnTo>
                  <a:lnTo>
                    <a:pt x="683" y="603"/>
                  </a:lnTo>
                  <a:lnTo>
                    <a:pt x="695" y="603"/>
                  </a:lnTo>
                  <a:lnTo>
                    <a:pt x="695" y="609"/>
                  </a:lnTo>
                  <a:lnTo>
                    <a:pt x="706" y="609"/>
                  </a:lnTo>
                  <a:lnTo>
                    <a:pt x="706" y="615"/>
                  </a:lnTo>
                  <a:lnTo>
                    <a:pt x="718" y="615"/>
                  </a:lnTo>
                  <a:lnTo>
                    <a:pt x="718" y="620"/>
                  </a:lnTo>
                  <a:lnTo>
                    <a:pt x="723" y="620"/>
                  </a:lnTo>
                  <a:lnTo>
                    <a:pt x="723" y="626"/>
                  </a:lnTo>
                  <a:lnTo>
                    <a:pt x="735" y="626"/>
                  </a:lnTo>
                  <a:lnTo>
                    <a:pt x="735" y="632"/>
                  </a:lnTo>
                  <a:lnTo>
                    <a:pt x="747" y="632"/>
                  </a:lnTo>
                  <a:lnTo>
                    <a:pt x="747" y="637"/>
                  </a:lnTo>
                  <a:lnTo>
                    <a:pt x="752" y="637"/>
                  </a:lnTo>
                  <a:lnTo>
                    <a:pt x="752" y="643"/>
                  </a:lnTo>
                  <a:lnTo>
                    <a:pt x="757" y="643"/>
                  </a:lnTo>
                  <a:lnTo>
                    <a:pt x="757" y="649"/>
                  </a:lnTo>
                  <a:lnTo>
                    <a:pt x="763" y="649"/>
                  </a:lnTo>
                  <a:lnTo>
                    <a:pt x="763" y="655"/>
                  </a:lnTo>
                  <a:lnTo>
                    <a:pt x="768" y="655"/>
                  </a:lnTo>
                  <a:lnTo>
                    <a:pt x="768" y="660"/>
                  </a:lnTo>
                  <a:lnTo>
                    <a:pt x="775" y="660"/>
                  </a:lnTo>
                  <a:lnTo>
                    <a:pt x="775" y="666"/>
                  </a:lnTo>
                  <a:lnTo>
                    <a:pt x="780" y="666"/>
                  </a:lnTo>
                  <a:lnTo>
                    <a:pt x="780" y="672"/>
                  </a:lnTo>
                  <a:lnTo>
                    <a:pt x="785" y="672"/>
                  </a:lnTo>
                  <a:lnTo>
                    <a:pt x="785" y="677"/>
                  </a:lnTo>
                  <a:lnTo>
                    <a:pt x="792" y="677"/>
                  </a:lnTo>
                  <a:lnTo>
                    <a:pt x="792" y="706"/>
                  </a:lnTo>
                  <a:lnTo>
                    <a:pt x="785" y="706"/>
                  </a:lnTo>
                  <a:lnTo>
                    <a:pt x="785" y="717"/>
                  </a:lnTo>
                  <a:lnTo>
                    <a:pt x="780" y="717"/>
                  </a:lnTo>
                  <a:lnTo>
                    <a:pt x="780" y="729"/>
                  </a:lnTo>
                  <a:lnTo>
                    <a:pt x="775" y="729"/>
                  </a:lnTo>
                  <a:lnTo>
                    <a:pt x="775" y="739"/>
                  </a:lnTo>
                  <a:lnTo>
                    <a:pt x="768" y="739"/>
                  </a:lnTo>
                  <a:lnTo>
                    <a:pt x="768" y="746"/>
                  </a:lnTo>
                  <a:lnTo>
                    <a:pt x="763" y="746"/>
                  </a:lnTo>
                  <a:lnTo>
                    <a:pt x="763" y="751"/>
                  </a:lnTo>
                  <a:lnTo>
                    <a:pt x="757" y="751"/>
                  </a:lnTo>
                  <a:lnTo>
                    <a:pt x="757" y="762"/>
                  </a:lnTo>
                  <a:lnTo>
                    <a:pt x="752" y="762"/>
                  </a:lnTo>
                  <a:lnTo>
                    <a:pt x="752" y="768"/>
                  </a:lnTo>
                  <a:lnTo>
                    <a:pt x="747" y="768"/>
                  </a:lnTo>
                  <a:lnTo>
                    <a:pt x="747" y="779"/>
                  </a:lnTo>
                  <a:lnTo>
                    <a:pt x="740" y="779"/>
                  </a:lnTo>
                  <a:lnTo>
                    <a:pt x="740" y="796"/>
                  </a:lnTo>
                  <a:lnTo>
                    <a:pt x="735" y="796"/>
                  </a:lnTo>
                  <a:lnTo>
                    <a:pt x="735" y="802"/>
                  </a:lnTo>
                  <a:lnTo>
                    <a:pt x="729" y="802"/>
                  </a:lnTo>
                  <a:lnTo>
                    <a:pt x="729" y="808"/>
                  </a:lnTo>
                  <a:lnTo>
                    <a:pt x="723" y="808"/>
                  </a:lnTo>
                  <a:lnTo>
                    <a:pt x="723" y="814"/>
                  </a:lnTo>
                  <a:lnTo>
                    <a:pt x="718" y="814"/>
                  </a:lnTo>
                  <a:lnTo>
                    <a:pt x="718" y="819"/>
                  </a:lnTo>
                  <a:lnTo>
                    <a:pt x="712" y="819"/>
                  </a:lnTo>
                  <a:lnTo>
                    <a:pt x="712" y="831"/>
                  </a:lnTo>
                  <a:lnTo>
                    <a:pt x="706" y="831"/>
                  </a:lnTo>
                  <a:lnTo>
                    <a:pt x="706" y="836"/>
                  </a:lnTo>
                  <a:lnTo>
                    <a:pt x="700" y="836"/>
                  </a:lnTo>
                  <a:lnTo>
                    <a:pt x="700" y="848"/>
                  </a:lnTo>
                  <a:lnTo>
                    <a:pt x="695" y="848"/>
                  </a:lnTo>
                  <a:lnTo>
                    <a:pt x="695" y="853"/>
                  </a:lnTo>
                  <a:lnTo>
                    <a:pt x="690" y="853"/>
                  </a:lnTo>
                  <a:lnTo>
                    <a:pt x="690" y="859"/>
                  </a:lnTo>
                  <a:lnTo>
                    <a:pt x="683" y="859"/>
                  </a:lnTo>
                  <a:lnTo>
                    <a:pt x="683" y="871"/>
                  </a:lnTo>
                  <a:lnTo>
                    <a:pt x="678" y="871"/>
                  </a:lnTo>
                  <a:lnTo>
                    <a:pt x="678" y="876"/>
                  </a:lnTo>
                  <a:lnTo>
                    <a:pt x="672" y="876"/>
                  </a:lnTo>
                  <a:lnTo>
                    <a:pt x="672" y="882"/>
                  </a:lnTo>
                  <a:lnTo>
                    <a:pt x="666" y="882"/>
                  </a:lnTo>
                  <a:lnTo>
                    <a:pt x="666" y="888"/>
                  </a:lnTo>
                  <a:lnTo>
                    <a:pt x="661" y="888"/>
                  </a:lnTo>
                  <a:lnTo>
                    <a:pt x="661" y="893"/>
                  </a:lnTo>
                  <a:lnTo>
                    <a:pt x="655" y="893"/>
                  </a:lnTo>
                  <a:lnTo>
                    <a:pt x="655" y="900"/>
                  </a:lnTo>
                  <a:lnTo>
                    <a:pt x="649" y="900"/>
                  </a:lnTo>
                  <a:lnTo>
                    <a:pt x="649" y="905"/>
                  </a:lnTo>
                  <a:lnTo>
                    <a:pt x="643" y="905"/>
                  </a:lnTo>
                  <a:lnTo>
                    <a:pt x="643" y="910"/>
                  </a:lnTo>
                  <a:lnTo>
                    <a:pt x="638" y="910"/>
                  </a:lnTo>
                  <a:lnTo>
                    <a:pt x="638" y="916"/>
                  </a:lnTo>
                  <a:lnTo>
                    <a:pt x="626" y="916"/>
                  </a:lnTo>
                  <a:lnTo>
                    <a:pt x="626" y="927"/>
                  </a:lnTo>
                  <a:lnTo>
                    <a:pt x="621" y="927"/>
                  </a:lnTo>
                  <a:lnTo>
                    <a:pt x="621" y="933"/>
                  </a:lnTo>
                  <a:lnTo>
                    <a:pt x="616" y="933"/>
                  </a:lnTo>
                  <a:lnTo>
                    <a:pt x="616" y="939"/>
                  </a:lnTo>
                  <a:lnTo>
                    <a:pt x="609" y="939"/>
                  </a:lnTo>
                  <a:lnTo>
                    <a:pt x="609" y="945"/>
                  </a:lnTo>
                  <a:lnTo>
                    <a:pt x="604" y="945"/>
                  </a:lnTo>
                  <a:lnTo>
                    <a:pt x="604" y="950"/>
                  </a:lnTo>
                  <a:lnTo>
                    <a:pt x="598" y="950"/>
                  </a:lnTo>
                  <a:lnTo>
                    <a:pt x="598" y="957"/>
                  </a:lnTo>
                  <a:lnTo>
                    <a:pt x="592" y="957"/>
                  </a:lnTo>
                  <a:lnTo>
                    <a:pt x="592" y="962"/>
                  </a:lnTo>
                  <a:lnTo>
                    <a:pt x="581" y="962"/>
                  </a:lnTo>
                  <a:lnTo>
                    <a:pt x="581" y="967"/>
                  </a:lnTo>
                  <a:lnTo>
                    <a:pt x="576" y="967"/>
                  </a:lnTo>
                  <a:lnTo>
                    <a:pt x="576" y="973"/>
                  </a:lnTo>
                  <a:lnTo>
                    <a:pt x="569" y="973"/>
                  </a:lnTo>
                  <a:lnTo>
                    <a:pt x="569" y="979"/>
                  </a:lnTo>
                  <a:lnTo>
                    <a:pt x="564" y="979"/>
                  </a:lnTo>
                  <a:lnTo>
                    <a:pt x="564" y="984"/>
                  </a:lnTo>
                  <a:lnTo>
                    <a:pt x="552" y="984"/>
                  </a:lnTo>
                  <a:lnTo>
                    <a:pt x="552" y="990"/>
                  </a:lnTo>
                  <a:lnTo>
                    <a:pt x="541" y="990"/>
                  </a:lnTo>
                  <a:lnTo>
                    <a:pt x="541" y="996"/>
                  </a:lnTo>
                  <a:lnTo>
                    <a:pt x="535" y="996"/>
                  </a:lnTo>
                  <a:lnTo>
                    <a:pt x="535" y="1002"/>
                  </a:lnTo>
                  <a:lnTo>
                    <a:pt x="524" y="1002"/>
                  </a:lnTo>
                  <a:lnTo>
                    <a:pt x="524" y="1007"/>
                  </a:lnTo>
                  <a:lnTo>
                    <a:pt x="519" y="1007"/>
                  </a:lnTo>
                  <a:lnTo>
                    <a:pt x="519" y="1013"/>
                  </a:lnTo>
                  <a:lnTo>
                    <a:pt x="512" y="1013"/>
                  </a:lnTo>
                  <a:lnTo>
                    <a:pt x="512" y="1019"/>
                  </a:lnTo>
                  <a:lnTo>
                    <a:pt x="502" y="1019"/>
                  </a:lnTo>
                  <a:lnTo>
                    <a:pt x="502" y="1024"/>
                  </a:lnTo>
                  <a:lnTo>
                    <a:pt x="495" y="1024"/>
                  </a:lnTo>
                  <a:lnTo>
                    <a:pt x="495" y="1030"/>
                  </a:lnTo>
                  <a:lnTo>
                    <a:pt x="490" y="1030"/>
                  </a:lnTo>
                  <a:lnTo>
                    <a:pt x="490" y="1036"/>
                  </a:lnTo>
                  <a:lnTo>
                    <a:pt x="484" y="1036"/>
                  </a:lnTo>
                  <a:lnTo>
                    <a:pt x="484" y="1041"/>
                  </a:lnTo>
                  <a:lnTo>
                    <a:pt x="473" y="1041"/>
                  </a:lnTo>
                  <a:lnTo>
                    <a:pt x="473" y="1047"/>
                  </a:lnTo>
                  <a:lnTo>
                    <a:pt x="467" y="1047"/>
                  </a:lnTo>
                  <a:lnTo>
                    <a:pt x="467" y="1053"/>
                  </a:lnTo>
                  <a:lnTo>
                    <a:pt x="462" y="1053"/>
                  </a:lnTo>
                  <a:lnTo>
                    <a:pt x="462" y="1059"/>
                  </a:lnTo>
                  <a:lnTo>
                    <a:pt x="455" y="1059"/>
                  </a:lnTo>
                  <a:lnTo>
                    <a:pt x="455" y="1070"/>
                  </a:lnTo>
                  <a:lnTo>
                    <a:pt x="450" y="1070"/>
                  </a:lnTo>
                  <a:lnTo>
                    <a:pt x="450" y="1076"/>
                  </a:lnTo>
                  <a:lnTo>
                    <a:pt x="445" y="1076"/>
                  </a:lnTo>
                  <a:lnTo>
                    <a:pt x="445" y="1081"/>
                  </a:lnTo>
                  <a:lnTo>
                    <a:pt x="438" y="1081"/>
                  </a:lnTo>
                  <a:lnTo>
                    <a:pt x="438" y="1087"/>
                  </a:lnTo>
                  <a:lnTo>
                    <a:pt x="433" y="1087"/>
                  </a:lnTo>
                  <a:lnTo>
                    <a:pt x="433" y="1093"/>
                  </a:lnTo>
                  <a:lnTo>
                    <a:pt x="427" y="1093"/>
                  </a:lnTo>
                  <a:lnTo>
                    <a:pt x="427" y="1098"/>
                  </a:lnTo>
                  <a:lnTo>
                    <a:pt x="421" y="1098"/>
                  </a:lnTo>
                  <a:lnTo>
                    <a:pt x="421" y="1104"/>
                  </a:lnTo>
                  <a:lnTo>
                    <a:pt x="416" y="1104"/>
                  </a:lnTo>
                  <a:lnTo>
                    <a:pt x="416" y="1110"/>
                  </a:lnTo>
                  <a:lnTo>
                    <a:pt x="410" y="1110"/>
                  </a:lnTo>
                  <a:lnTo>
                    <a:pt x="410" y="1116"/>
                  </a:lnTo>
                  <a:lnTo>
                    <a:pt x="404" y="1116"/>
                  </a:lnTo>
                  <a:lnTo>
                    <a:pt x="404" y="1121"/>
                  </a:lnTo>
                  <a:lnTo>
                    <a:pt x="398" y="1121"/>
                  </a:lnTo>
                  <a:lnTo>
                    <a:pt x="398" y="1127"/>
                  </a:lnTo>
                  <a:lnTo>
                    <a:pt x="393" y="1127"/>
                  </a:lnTo>
                  <a:lnTo>
                    <a:pt x="393" y="1133"/>
                  </a:lnTo>
                  <a:lnTo>
                    <a:pt x="388" y="1133"/>
                  </a:lnTo>
                  <a:lnTo>
                    <a:pt x="388" y="1138"/>
                  </a:lnTo>
                  <a:lnTo>
                    <a:pt x="381" y="1138"/>
                  </a:lnTo>
                  <a:lnTo>
                    <a:pt x="381" y="1143"/>
                  </a:lnTo>
                  <a:lnTo>
                    <a:pt x="376" y="1143"/>
                  </a:lnTo>
                  <a:lnTo>
                    <a:pt x="376" y="1150"/>
                  </a:lnTo>
                  <a:lnTo>
                    <a:pt x="370" y="1150"/>
                  </a:lnTo>
                  <a:lnTo>
                    <a:pt x="370" y="1155"/>
                  </a:lnTo>
                  <a:lnTo>
                    <a:pt x="364" y="1155"/>
                  </a:lnTo>
                  <a:lnTo>
                    <a:pt x="364" y="1161"/>
                  </a:lnTo>
                  <a:lnTo>
                    <a:pt x="353" y="1161"/>
                  </a:lnTo>
                  <a:lnTo>
                    <a:pt x="353" y="1166"/>
                  </a:lnTo>
                  <a:lnTo>
                    <a:pt x="343" y="1166"/>
                  </a:lnTo>
                  <a:lnTo>
                    <a:pt x="343" y="1172"/>
                  </a:lnTo>
                  <a:lnTo>
                    <a:pt x="336" y="1172"/>
                  </a:lnTo>
                  <a:lnTo>
                    <a:pt x="336" y="1178"/>
                  </a:lnTo>
                  <a:lnTo>
                    <a:pt x="325" y="1178"/>
                  </a:lnTo>
                  <a:lnTo>
                    <a:pt x="325" y="1183"/>
                  </a:lnTo>
                  <a:lnTo>
                    <a:pt x="319" y="1183"/>
                  </a:lnTo>
                  <a:lnTo>
                    <a:pt x="319" y="1189"/>
                  </a:lnTo>
                  <a:lnTo>
                    <a:pt x="314" y="1189"/>
                  </a:lnTo>
                  <a:lnTo>
                    <a:pt x="314" y="1195"/>
                  </a:lnTo>
                  <a:lnTo>
                    <a:pt x="308" y="1195"/>
                  </a:lnTo>
                  <a:lnTo>
                    <a:pt x="308" y="1200"/>
                  </a:lnTo>
                  <a:lnTo>
                    <a:pt x="296" y="1200"/>
                  </a:lnTo>
                  <a:lnTo>
                    <a:pt x="296" y="1206"/>
                  </a:lnTo>
                  <a:lnTo>
                    <a:pt x="268" y="1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2795400" y="4254840"/>
              <a:ext cx="22680" cy="1548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4"/>
                  </a:moveTo>
                  <a:lnTo>
                    <a:pt x="0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33" y="6"/>
                  </a:lnTo>
                  <a:lnTo>
                    <a:pt x="33" y="11"/>
                  </a:lnTo>
                  <a:lnTo>
                    <a:pt x="28" y="11"/>
                  </a:lnTo>
                  <a:lnTo>
                    <a:pt x="28" y="17"/>
                  </a:lnTo>
                  <a:lnTo>
                    <a:pt x="22" y="17"/>
                  </a:lnTo>
                  <a:lnTo>
                    <a:pt x="22" y="23"/>
                  </a:lnTo>
                  <a:lnTo>
                    <a:pt x="10" y="23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2791800" y="4244400"/>
              <a:ext cx="6840" cy="68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813600" y="4551120"/>
              <a:ext cx="2062440" cy="1325520"/>
            </a:xfrm>
            <a:custGeom>
              <a:avLst/>
              <a:gdLst/>
              <a:ahLst/>
              <a:rect l="l" t="t" r="r" b="b"/>
              <a:pathLst>
                <a:path w="3756" h="2419">
                  <a:moveTo>
                    <a:pt x="3711" y="2419"/>
                  </a:moveTo>
                  <a:lnTo>
                    <a:pt x="3711" y="2413"/>
                  </a:lnTo>
                  <a:lnTo>
                    <a:pt x="3699" y="2413"/>
                  </a:lnTo>
                  <a:lnTo>
                    <a:pt x="3699" y="2408"/>
                  </a:lnTo>
                  <a:lnTo>
                    <a:pt x="3694" y="2408"/>
                  </a:lnTo>
                  <a:lnTo>
                    <a:pt x="3694" y="2402"/>
                  </a:lnTo>
                  <a:lnTo>
                    <a:pt x="3682" y="2402"/>
                  </a:lnTo>
                  <a:lnTo>
                    <a:pt x="3682" y="2396"/>
                  </a:lnTo>
                  <a:lnTo>
                    <a:pt x="3677" y="2396"/>
                  </a:lnTo>
                  <a:lnTo>
                    <a:pt x="3677" y="2391"/>
                  </a:lnTo>
                  <a:lnTo>
                    <a:pt x="3670" y="2391"/>
                  </a:lnTo>
                  <a:lnTo>
                    <a:pt x="3670" y="2384"/>
                  </a:lnTo>
                  <a:lnTo>
                    <a:pt x="3665" y="2384"/>
                  </a:lnTo>
                  <a:lnTo>
                    <a:pt x="3665" y="2379"/>
                  </a:lnTo>
                  <a:lnTo>
                    <a:pt x="3659" y="2379"/>
                  </a:lnTo>
                  <a:lnTo>
                    <a:pt x="3659" y="2374"/>
                  </a:lnTo>
                  <a:lnTo>
                    <a:pt x="3654" y="2374"/>
                  </a:lnTo>
                  <a:lnTo>
                    <a:pt x="3654" y="2368"/>
                  </a:lnTo>
                  <a:lnTo>
                    <a:pt x="3649" y="2368"/>
                  </a:lnTo>
                  <a:lnTo>
                    <a:pt x="3649" y="2362"/>
                  </a:lnTo>
                  <a:lnTo>
                    <a:pt x="3642" y="2362"/>
                  </a:lnTo>
                  <a:lnTo>
                    <a:pt x="3642" y="2357"/>
                  </a:lnTo>
                  <a:lnTo>
                    <a:pt x="3631" y="2357"/>
                  </a:lnTo>
                  <a:lnTo>
                    <a:pt x="3631" y="2351"/>
                  </a:lnTo>
                  <a:lnTo>
                    <a:pt x="3625" y="2351"/>
                  </a:lnTo>
                  <a:lnTo>
                    <a:pt x="3625" y="2345"/>
                  </a:lnTo>
                  <a:lnTo>
                    <a:pt x="3620" y="2345"/>
                  </a:lnTo>
                  <a:lnTo>
                    <a:pt x="3620" y="2339"/>
                  </a:lnTo>
                  <a:lnTo>
                    <a:pt x="3608" y="2339"/>
                  </a:lnTo>
                  <a:lnTo>
                    <a:pt x="3608" y="2334"/>
                  </a:lnTo>
                  <a:lnTo>
                    <a:pt x="3602" y="2334"/>
                  </a:lnTo>
                  <a:lnTo>
                    <a:pt x="3602" y="2322"/>
                  </a:lnTo>
                  <a:lnTo>
                    <a:pt x="3597" y="2322"/>
                  </a:lnTo>
                  <a:lnTo>
                    <a:pt x="3597" y="2317"/>
                  </a:lnTo>
                  <a:lnTo>
                    <a:pt x="3592" y="2317"/>
                  </a:lnTo>
                  <a:lnTo>
                    <a:pt x="3592" y="2311"/>
                  </a:lnTo>
                  <a:lnTo>
                    <a:pt x="3585" y="2311"/>
                  </a:lnTo>
                  <a:lnTo>
                    <a:pt x="3585" y="2305"/>
                  </a:lnTo>
                  <a:lnTo>
                    <a:pt x="3580" y="2305"/>
                  </a:lnTo>
                  <a:lnTo>
                    <a:pt x="3580" y="2300"/>
                  </a:lnTo>
                  <a:lnTo>
                    <a:pt x="3574" y="2300"/>
                  </a:lnTo>
                  <a:lnTo>
                    <a:pt x="3574" y="2294"/>
                  </a:lnTo>
                  <a:lnTo>
                    <a:pt x="3568" y="2294"/>
                  </a:lnTo>
                  <a:lnTo>
                    <a:pt x="3568" y="2288"/>
                  </a:lnTo>
                  <a:lnTo>
                    <a:pt x="3563" y="2288"/>
                  </a:lnTo>
                  <a:lnTo>
                    <a:pt x="3563" y="2282"/>
                  </a:lnTo>
                  <a:lnTo>
                    <a:pt x="3557" y="2282"/>
                  </a:lnTo>
                  <a:lnTo>
                    <a:pt x="3557" y="2271"/>
                  </a:lnTo>
                  <a:lnTo>
                    <a:pt x="3545" y="2271"/>
                  </a:lnTo>
                  <a:lnTo>
                    <a:pt x="3545" y="2265"/>
                  </a:lnTo>
                  <a:lnTo>
                    <a:pt x="3540" y="2265"/>
                  </a:lnTo>
                  <a:lnTo>
                    <a:pt x="3540" y="2260"/>
                  </a:lnTo>
                  <a:lnTo>
                    <a:pt x="3535" y="2260"/>
                  </a:lnTo>
                  <a:lnTo>
                    <a:pt x="3535" y="2248"/>
                  </a:lnTo>
                  <a:lnTo>
                    <a:pt x="3528" y="2248"/>
                  </a:lnTo>
                  <a:lnTo>
                    <a:pt x="3528" y="2243"/>
                  </a:lnTo>
                  <a:lnTo>
                    <a:pt x="3523" y="2243"/>
                  </a:lnTo>
                  <a:lnTo>
                    <a:pt x="3523" y="2237"/>
                  </a:lnTo>
                  <a:lnTo>
                    <a:pt x="3518" y="2237"/>
                  </a:lnTo>
                  <a:lnTo>
                    <a:pt x="3518" y="2232"/>
                  </a:lnTo>
                  <a:lnTo>
                    <a:pt x="3511" y="2232"/>
                  </a:lnTo>
                  <a:lnTo>
                    <a:pt x="3511" y="2225"/>
                  </a:lnTo>
                  <a:lnTo>
                    <a:pt x="3506" y="2225"/>
                  </a:lnTo>
                  <a:lnTo>
                    <a:pt x="3506" y="2215"/>
                  </a:lnTo>
                  <a:lnTo>
                    <a:pt x="3494" y="2215"/>
                  </a:lnTo>
                  <a:lnTo>
                    <a:pt x="3494" y="2203"/>
                  </a:lnTo>
                  <a:lnTo>
                    <a:pt x="3483" y="2203"/>
                  </a:lnTo>
                  <a:lnTo>
                    <a:pt x="3483" y="2198"/>
                  </a:lnTo>
                  <a:lnTo>
                    <a:pt x="3478" y="2198"/>
                  </a:lnTo>
                  <a:lnTo>
                    <a:pt x="3478" y="2192"/>
                  </a:lnTo>
                  <a:lnTo>
                    <a:pt x="3471" y="2192"/>
                  </a:lnTo>
                  <a:lnTo>
                    <a:pt x="3471" y="2186"/>
                  </a:lnTo>
                  <a:lnTo>
                    <a:pt x="3461" y="2186"/>
                  </a:lnTo>
                  <a:lnTo>
                    <a:pt x="3461" y="2180"/>
                  </a:lnTo>
                  <a:lnTo>
                    <a:pt x="3454" y="2180"/>
                  </a:lnTo>
                  <a:lnTo>
                    <a:pt x="3454" y="2175"/>
                  </a:lnTo>
                  <a:lnTo>
                    <a:pt x="3449" y="2175"/>
                  </a:lnTo>
                  <a:lnTo>
                    <a:pt x="3449" y="2168"/>
                  </a:lnTo>
                  <a:lnTo>
                    <a:pt x="3437" y="2168"/>
                  </a:lnTo>
                  <a:lnTo>
                    <a:pt x="3437" y="2163"/>
                  </a:lnTo>
                  <a:lnTo>
                    <a:pt x="3426" y="2163"/>
                  </a:lnTo>
                  <a:lnTo>
                    <a:pt x="3426" y="2158"/>
                  </a:lnTo>
                  <a:lnTo>
                    <a:pt x="3421" y="2158"/>
                  </a:lnTo>
                  <a:lnTo>
                    <a:pt x="3421" y="2152"/>
                  </a:lnTo>
                  <a:lnTo>
                    <a:pt x="3409" y="2152"/>
                  </a:lnTo>
                  <a:lnTo>
                    <a:pt x="3409" y="2146"/>
                  </a:lnTo>
                  <a:lnTo>
                    <a:pt x="3397" y="2146"/>
                  </a:lnTo>
                  <a:lnTo>
                    <a:pt x="3397" y="2141"/>
                  </a:lnTo>
                  <a:lnTo>
                    <a:pt x="3392" y="2141"/>
                  </a:lnTo>
                  <a:lnTo>
                    <a:pt x="3392" y="2135"/>
                  </a:lnTo>
                  <a:lnTo>
                    <a:pt x="3386" y="2135"/>
                  </a:lnTo>
                  <a:lnTo>
                    <a:pt x="3386" y="2129"/>
                  </a:lnTo>
                  <a:lnTo>
                    <a:pt x="3380" y="2129"/>
                  </a:lnTo>
                  <a:lnTo>
                    <a:pt x="3380" y="2123"/>
                  </a:lnTo>
                  <a:lnTo>
                    <a:pt x="3369" y="2123"/>
                  </a:lnTo>
                  <a:lnTo>
                    <a:pt x="3369" y="2118"/>
                  </a:lnTo>
                  <a:lnTo>
                    <a:pt x="3364" y="2118"/>
                  </a:lnTo>
                  <a:lnTo>
                    <a:pt x="3364" y="2112"/>
                  </a:lnTo>
                  <a:lnTo>
                    <a:pt x="3357" y="2112"/>
                  </a:lnTo>
                  <a:lnTo>
                    <a:pt x="3357" y="2101"/>
                  </a:lnTo>
                  <a:lnTo>
                    <a:pt x="3352" y="2101"/>
                  </a:lnTo>
                  <a:lnTo>
                    <a:pt x="3352" y="2094"/>
                  </a:lnTo>
                  <a:lnTo>
                    <a:pt x="3347" y="2094"/>
                  </a:lnTo>
                  <a:lnTo>
                    <a:pt x="3347" y="2089"/>
                  </a:lnTo>
                  <a:lnTo>
                    <a:pt x="3340" y="2089"/>
                  </a:lnTo>
                  <a:lnTo>
                    <a:pt x="3340" y="2084"/>
                  </a:lnTo>
                  <a:lnTo>
                    <a:pt x="3335" y="2084"/>
                  </a:lnTo>
                  <a:lnTo>
                    <a:pt x="3335" y="2078"/>
                  </a:lnTo>
                  <a:lnTo>
                    <a:pt x="3329" y="2078"/>
                  </a:lnTo>
                  <a:lnTo>
                    <a:pt x="3329" y="2072"/>
                  </a:lnTo>
                  <a:lnTo>
                    <a:pt x="3323" y="2072"/>
                  </a:lnTo>
                  <a:lnTo>
                    <a:pt x="3323" y="2061"/>
                  </a:lnTo>
                  <a:lnTo>
                    <a:pt x="3318" y="2061"/>
                  </a:lnTo>
                  <a:lnTo>
                    <a:pt x="3318" y="2055"/>
                  </a:lnTo>
                  <a:lnTo>
                    <a:pt x="3312" y="2055"/>
                  </a:lnTo>
                  <a:lnTo>
                    <a:pt x="3312" y="2049"/>
                  </a:lnTo>
                  <a:lnTo>
                    <a:pt x="3306" y="2049"/>
                  </a:lnTo>
                  <a:lnTo>
                    <a:pt x="3306" y="2044"/>
                  </a:lnTo>
                  <a:lnTo>
                    <a:pt x="3300" y="2044"/>
                  </a:lnTo>
                  <a:lnTo>
                    <a:pt x="3300" y="2032"/>
                  </a:lnTo>
                  <a:lnTo>
                    <a:pt x="3295" y="2032"/>
                  </a:lnTo>
                  <a:lnTo>
                    <a:pt x="3295" y="2027"/>
                  </a:lnTo>
                  <a:lnTo>
                    <a:pt x="3290" y="2027"/>
                  </a:lnTo>
                  <a:lnTo>
                    <a:pt x="3290" y="2021"/>
                  </a:lnTo>
                  <a:lnTo>
                    <a:pt x="3283" y="2021"/>
                  </a:lnTo>
                  <a:lnTo>
                    <a:pt x="3283" y="2009"/>
                  </a:lnTo>
                  <a:lnTo>
                    <a:pt x="3278" y="2009"/>
                  </a:lnTo>
                  <a:lnTo>
                    <a:pt x="3278" y="2004"/>
                  </a:lnTo>
                  <a:lnTo>
                    <a:pt x="3272" y="2004"/>
                  </a:lnTo>
                  <a:lnTo>
                    <a:pt x="3272" y="1998"/>
                  </a:lnTo>
                  <a:lnTo>
                    <a:pt x="3266" y="1998"/>
                  </a:lnTo>
                  <a:lnTo>
                    <a:pt x="3266" y="1992"/>
                  </a:lnTo>
                  <a:lnTo>
                    <a:pt x="3261" y="1992"/>
                  </a:lnTo>
                  <a:lnTo>
                    <a:pt x="3261" y="1987"/>
                  </a:lnTo>
                  <a:lnTo>
                    <a:pt x="3255" y="1987"/>
                  </a:lnTo>
                  <a:lnTo>
                    <a:pt x="3255" y="1980"/>
                  </a:lnTo>
                  <a:lnTo>
                    <a:pt x="3250" y="1980"/>
                  </a:lnTo>
                  <a:lnTo>
                    <a:pt x="3250" y="1975"/>
                  </a:lnTo>
                  <a:lnTo>
                    <a:pt x="3245" y="1975"/>
                  </a:lnTo>
                  <a:lnTo>
                    <a:pt x="3245" y="1970"/>
                  </a:lnTo>
                  <a:lnTo>
                    <a:pt x="3238" y="1970"/>
                  </a:lnTo>
                  <a:lnTo>
                    <a:pt x="3238" y="1964"/>
                  </a:lnTo>
                  <a:lnTo>
                    <a:pt x="3233" y="1964"/>
                  </a:lnTo>
                  <a:lnTo>
                    <a:pt x="3233" y="1953"/>
                  </a:lnTo>
                  <a:lnTo>
                    <a:pt x="3227" y="1953"/>
                  </a:lnTo>
                  <a:lnTo>
                    <a:pt x="3227" y="1947"/>
                  </a:lnTo>
                  <a:lnTo>
                    <a:pt x="3221" y="1947"/>
                  </a:lnTo>
                  <a:lnTo>
                    <a:pt x="3221" y="1941"/>
                  </a:lnTo>
                  <a:lnTo>
                    <a:pt x="3216" y="1941"/>
                  </a:lnTo>
                  <a:lnTo>
                    <a:pt x="3216" y="1935"/>
                  </a:lnTo>
                  <a:lnTo>
                    <a:pt x="3210" y="1935"/>
                  </a:lnTo>
                  <a:lnTo>
                    <a:pt x="3210" y="1930"/>
                  </a:lnTo>
                  <a:lnTo>
                    <a:pt x="3204" y="1930"/>
                  </a:lnTo>
                  <a:lnTo>
                    <a:pt x="3204" y="1924"/>
                  </a:lnTo>
                  <a:lnTo>
                    <a:pt x="3198" y="1924"/>
                  </a:lnTo>
                  <a:lnTo>
                    <a:pt x="3198" y="1918"/>
                  </a:lnTo>
                  <a:lnTo>
                    <a:pt x="3193" y="1918"/>
                  </a:lnTo>
                  <a:lnTo>
                    <a:pt x="3193" y="1907"/>
                  </a:lnTo>
                  <a:lnTo>
                    <a:pt x="3188" y="1907"/>
                  </a:lnTo>
                  <a:lnTo>
                    <a:pt x="3188" y="1896"/>
                  </a:lnTo>
                  <a:lnTo>
                    <a:pt x="3181" y="1896"/>
                  </a:lnTo>
                  <a:lnTo>
                    <a:pt x="3181" y="1890"/>
                  </a:lnTo>
                  <a:lnTo>
                    <a:pt x="3176" y="1890"/>
                  </a:lnTo>
                  <a:lnTo>
                    <a:pt x="3176" y="1884"/>
                  </a:lnTo>
                  <a:lnTo>
                    <a:pt x="3170" y="1884"/>
                  </a:lnTo>
                  <a:lnTo>
                    <a:pt x="3170" y="1878"/>
                  </a:lnTo>
                  <a:lnTo>
                    <a:pt x="3164" y="1878"/>
                  </a:lnTo>
                  <a:lnTo>
                    <a:pt x="3164" y="1873"/>
                  </a:lnTo>
                  <a:lnTo>
                    <a:pt x="3159" y="1873"/>
                  </a:lnTo>
                  <a:lnTo>
                    <a:pt x="3159" y="1861"/>
                  </a:lnTo>
                  <a:lnTo>
                    <a:pt x="3153" y="1861"/>
                  </a:lnTo>
                  <a:lnTo>
                    <a:pt x="3153" y="1856"/>
                  </a:lnTo>
                  <a:lnTo>
                    <a:pt x="3147" y="1856"/>
                  </a:lnTo>
                  <a:lnTo>
                    <a:pt x="3147" y="1850"/>
                  </a:lnTo>
                  <a:lnTo>
                    <a:pt x="3141" y="1850"/>
                  </a:lnTo>
                  <a:lnTo>
                    <a:pt x="3141" y="1844"/>
                  </a:lnTo>
                  <a:lnTo>
                    <a:pt x="3136" y="1844"/>
                  </a:lnTo>
                  <a:lnTo>
                    <a:pt x="3136" y="1839"/>
                  </a:lnTo>
                  <a:lnTo>
                    <a:pt x="3131" y="1839"/>
                  </a:lnTo>
                  <a:lnTo>
                    <a:pt x="3131" y="1833"/>
                  </a:lnTo>
                  <a:lnTo>
                    <a:pt x="3124" y="1833"/>
                  </a:lnTo>
                  <a:lnTo>
                    <a:pt x="3124" y="1828"/>
                  </a:lnTo>
                  <a:lnTo>
                    <a:pt x="3119" y="1828"/>
                  </a:lnTo>
                  <a:lnTo>
                    <a:pt x="3119" y="1821"/>
                  </a:lnTo>
                  <a:lnTo>
                    <a:pt x="3113" y="1821"/>
                  </a:lnTo>
                  <a:lnTo>
                    <a:pt x="3113" y="1816"/>
                  </a:lnTo>
                  <a:lnTo>
                    <a:pt x="3107" y="1816"/>
                  </a:lnTo>
                  <a:lnTo>
                    <a:pt x="3107" y="1811"/>
                  </a:lnTo>
                  <a:lnTo>
                    <a:pt x="3102" y="1811"/>
                  </a:lnTo>
                  <a:lnTo>
                    <a:pt x="3102" y="1805"/>
                  </a:lnTo>
                  <a:lnTo>
                    <a:pt x="3096" y="1805"/>
                  </a:lnTo>
                  <a:lnTo>
                    <a:pt x="3096" y="1799"/>
                  </a:lnTo>
                  <a:lnTo>
                    <a:pt x="3090" y="1799"/>
                  </a:lnTo>
                  <a:lnTo>
                    <a:pt x="3090" y="1793"/>
                  </a:lnTo>
                  <a:lnTo>
                    <a:pt x="3079" y="1793"/>
                  </a:lnTo>
                  <a:lnTo>
                    <a:pt x="3079" y="1788"/>
                  </a:lnTo>
                  <a:lnTo>
                    <a:pt x="3074" y="1788"/>
                  </a:lnTo>
                  <a:lnTo>
                    <a:pt x="3074" y="1782"/>
                  </a:lnTo>
                  <a:lnTo>
                    <a:pt x="3067" y="1782"/>
                  </a:lnTo>
                  <a:lnTo>
                    <a:pt x="3067" y="1776"/>
                  </a:lnTo>
                  <a:lnTo>
                    <a:pt x="3062" y="1776"/>
                  </a:lnTo>
                  <a:lnTo>
                    <a:pt x="3062" y="1771"/>
                  </a:lnTo>
                  <a:lnTo>
                    <a:pt x="3056" y="1771"/>
                  </a:lnTo>
                  <a:lnTo>
                    <a:pt x="3056" y="1764"/>
                  </a:lnTo>
                  <a:lnTo>
                    <a:pt x="3050" y="1764"/>
                  </a:lnTo>
                  <a:lnTo>
                    <a:pt x="3050" y="1759"/>
                  </a:lnTo>
                  <a:lnTo>
                    <a:pt x="3045" y="1759"/>
                  </a:lnTo>
                  <a:lnTo>
                    <a:pt x="3045" y="1754"/>
                  </a:lnTo>
                  <a:lnTo>
                    <a:pt x="3027" y="1754"/>
                  </a:lnTo>
                  <a:lnTo>
                    <a:pt x="3027" y="1747"/>
                  </a:lnTo>
                  <a:lnTo>
                    <a:pt x="3022" y="1747"/>
                  </a:lnTo>
                  <a:lnTo>
                    <a:pt x="3022" y="1742"/>
                  </a:lnTo>
                  <a:lnTo>
                    <a:pt x="3016" y="1742"/>
                  </a:lnTo>
                  <a:lnTo>
                    <a:pt x="3016" y="1737"/>
                  </a:lnTo>
                  <a:lnTo>
                    <a:pt x="3010" y="1737"/>
                  </a:lnTo>
                  <a:lnTo>
                    <a:pt x="3010" y="1725"/>
                  </a:lnTo>
                  <a:lnTo>
                    <a:pt x="2999" y="1725"/>
                  </a:lnTo>
                  <a:lnTo>
                    <a:pt x="2999" y="1702"/>
                  </a:lnTo>
                  <a:lnTo>
                    <a:pt x="3005" y="1702"/>
                  </a:lnTo>
                  <a:lnTo>
                    <a:pt x="3005" y="1680"/>
                  </a:lnTo>
                  <a:lnTo>
                    <a:pt x="2999" y="1680"/>
                  </a:lnTo>
                  <a:lnTo>
                    <a:pt x="2999" y="1674"/>
                  </a:lnTo>
                  <a:lnTo>
                    <a:pt x="2993" y="1674"/>
                  </a:lnTo>
                  <a:lnTo>
                    <a:pt x="2993" y="1668"/>
                  </a:lnTo>
                  <a:lnTo>
                    <a:pt x="2988" y="1668"/>
                  </a:lnTo>
                  <a:lnTo>
                    <a:pt x="2988" y="1657"/>
                  </a:lnTo>
                  <a:lnTo>
                    <a:pt x="3005" y="1657"/>
                  </a:lnTo>
                  <a:lnTo>
                    <a:pt x="3005" y="1668"/>
                  </a:lnTo>
                  <a:lnTo>
                    <a:pt x="3010" y="1668"/>
                  </a:lnTo>
                  <a:lnTo>
                    <a:pt x="3010" y="1674"/>
                  </a:lnTo>
                  <a:lnTo>
                    <a:pt x="3016" y="1674"/>
                  </a:lnTo>
                  <a:lnTo>
                    <a:pt x="3016" y="1685"/>
                  </a:lnTo>
                  <a:lnTo>
                    <a:pt x="3022" y="1685"/>
                  </a:lnTo>
                  <a:lnTo>
                    <a:pt x="3022" y="1690"/>
                  </a:lnTo>
                  <a:lnTo>
                    <a:pt x="3027" y="1690"/>
                  </a:lnTo>
                  <a:lnTo>
                    <a:pt x="3027" y="1697"/>
                  </a:lnTo>
                  <a:lnTo>
                    <a:pt x="3033" y="1697"/>
                  </a:lnTo>
                  <a:lnTo>
                    <a:pt x="3033" y="1702"/>
                  </a:lnTo>
                  <a:lnTo>
                    <a:pt x="3039" y="1702"/>
                  </a:lnTo>
                  <a:lnTo>
                    <a:pt x="3039" y="1708"/>
                  </a:lnTo>
                  <a:lnTo>
                    <a:pt x="3045" y="1708"/>
                  </a:lnTo>
                  <a:lnTo>
                    <a:pt x="3045" y="1714"/>
                  </a:lnTo>
                  <a:lnTo>
                    <a:pt x="3050" y="1714"/>
                  </a:lnTo>
                  <a:lnTo>
                    <a:pt x="3050" y="1719"/>
                  </a:lnTo>
                  <a:lnTo>
                    <a:pt x="3056" y="1719"/>
                  </a:lnTo>
                  <a:lnTo>
                    <a:pt x="3056" y="1725"/>
                  </a:lnTo>
                  <a:lnTo>
                    <a:pt x="3062" y="1725"/>
                  </a:lnTo>
                  <a:lnTo>
                    <a:pt x="3062" y="1731"/>
                  </a:lnTo>
                  <a:lnTo>
                    <a:pt x="3067" y="1731"/>
                  </a:lnTo>
                  <a:lnTo>
                    <a:pt x="3067" y="1737"/>
                  </a:lnTo>
                  <a:lnTo>
                    <a:pt x="3074" y="1737"/>
                  </a:lnTo>
                  <a:lnTo>
                    <a:pt x="3074" y="1742"/>
                  </a:lnTo>
                  <a:lnTo>
                    <a:pt x="3079" y="1742"/>
                  </a:lnTo>
                  <a:lnTo>
                    <a:pt x="3079" y="1754"/>
                  </a:lnTo>
                  <a:lnTo>
                    <a:pt x="3084" y="1754"/>
                  </a:lnTo>
                  <a:lnTo>
                    <a:pt x="3084" y="1759"/>
                  </a:lnTo>
                  <a:lnTo>
                    <a:pt x="3090" y="1759"/>
                  </a:lnTo>
                  <a:lnTo>
                    <a:pt x="3090" y="1764"/>
                  </a:lnTo>
                  <a:lnTo>
                    <a:pt x="3096" y="1764"/>
                  </a:lnTo>
                  <a:lnTo>
                    <a:pt x="3096" y="1771"/>
                  </a:lnTo>
                  <a:lnTo>
                    <a:pt x="3102" y="1771"/>
                  </a:lnTo>
                  <a:lnTo>
                    <a:pt x="3102" y="1776"/>
                  </a:lnTo>
                  <a:lnTo>
                    <a:pt x="3107" y="1776"/>
                  </a:lnTo>
                  <a:lnTo>
                    <a:pt x="3107" y="1782"/>
                  </a:lnTo>
                  <a:lnTo>
                    <a:pt x="3113" y="1782"/>
                  </a:lnTo>
                  <a:lnTo>
                    <a:pt x="3113" y="1788"/>
                  </a:lnTo>
                  <a:lnTo>
                    <a:pt x="3119" y="1788"/>
                  </a:lnTo>
                  <a:lnTo>
                    <a:pt x="3119" y="1793"/>
                  </a:lnTo>
                  <a:lnTo>
                    <a:pt x="3124" y="1793"/>
                  </a:lnTo>
                  <a:lnTo>
                    <a:pt x="3124" y="1799"/>
                  </a:lnTo>
                  <a:lnTo>
                    <a:pt x="3131" y="1799"/>
                  </a:lnTo>
                  <a:lnTo>
                    <a:pt x="3131" y="1805"/>
                  </a:lnTo>
                  <a:lnTo>
                    <a:pt x="3136" y="1805"/>
                  </a:lnTo>
                  <a:lnTo>
                    <a:pt x="3136" y="1811"/>
                  </a:lnTo>
                  <a:lnTo>
                    <a:pt x="3141" y="1811"/>
                  </a:lnTo>
                  <a:lnTo>
                    <a:pt x="3141" y="1816"/>
                  </a:lnTo>
                  <a:lnTo>
                    <a:pt x="3153" y="1816"/>
                  </a:lnTo>
                  <a:lnTo>
                    <a:pt x="3153" y="1821"/>
                  </a:lnTo>
                  <a:lnTo>
                    <a:pt x="3159" y="1821"/>
                  </a:lnTo>
                  <a:lnTo>
                    <a:pt x="3159" y="1828"/>
                  </a:lnTo>
                  <a:lnTo>
                    <a:pt x="3164" y="1828"/>
                  </a:lnTo>
                  <a:lnTo>
                    <a:pt x="3164" y="1833"/>
                  </a:lnTo>
                  <a:lnTo>
                    <a:pt x="3170" y="1833"/>
                  </a:lnTo>
                  <a:lnTo>
                    <a:pt x="3170" y="1839"/>
                  </a:lnTo>
                  <a:lnTo>
                    <a:pt x="3176" y="1839"/>
                  </a:lnTo>
                  <a:lnTo>
                    <a:pt x="3176" y="1844"/>
                  </a:lnTo>
                  <a:lnTo>
                    <a:pt x="3188" y="1844"/>
                  </a:lnTo>
                  <a:lnTo>
                    <a:pt x="3188" y="1856"/>
                  </a:lnTo>
                  <a:lnTo>
                    <a:pt x="3193" y="1856"/>
                  </a:lnTo>
                  <a:lnTo>
                    <a:pt x="3193" y="1861"/>
                  </a:lnTo>
                  <a:lnTo>
                    <a:pt x="3198" y="1861"/>
                  </a:lnTo>
                  <a:lnTo>
                    <a:pt x="3198" y="1867"/>
                  </a:lnTo>
                  <a:lnTo>
                    <a:pt x="3204" y="1867"/>
                  </a:lnTo>
                  <a:lnTo>
                    <a:pt x="3204" y="1873"/>
                  </a:lnTo>
                  <a:lnTo>
                    <a:pt x="3210" y="1873"/>
                  </a:lnTo>
                  <a:lnTo>
                    <a:pt x="3210" y="1878"/>
                  </a:lnTo>
                  <a:lnTo>
                    <a:pt x="3216" y="1878"/>
                  </a:lnTo>
                  <a:lnTo>
                    <a:pt x="3216" y="1884"/>
                  </a:lnTo>
                  <a:lnTo>
                    <a:pt x="3221" y="1884"/>
                  </a:lnTo>
                  <a:lnTo>
                    <a:pt x="3221" y="1896"/>
                  </a:lnTo>
                  <a:lnTo>
                    <a:pt x="3227" y="1896"/>
                  </a:lnTo>
                  <a:lnTo>
                    <a:pt x="3227" y="1901"/>
                  </a:lnTo>
                  <a:lnTo>
                    <a:pt x="3233" y="1901"/>
                  </a:lnTo>
                  <a:lnTo>
                    <a:pt x="3233" y="1907"/>
                  </a:lnTo>
                  <a:lnTo>
                    <a:pt x="3245" y="1907"/>
                  </a:lnTo>
                  <a:lnTo>
                    <a:pt x="3245" y="1884"/>
                  </a:lnTo>
                  <a:lnTo>
                    <a:pt x="3238" y="1884"/>
                  </a:lnTo>
                  <a:lnTo>
                    <a:pt x="3238" y="1867"/>
                  </a:lnTo>
                  <a:lnTo>
                    <a:pt x="3233" y="1867"/>
                  </a:lnTo>
                  <a:lnTo>
                    <a:pt x="3233" y="1856"/>
                  </a:lnTo>
                  <a:lnTo>
                    <a:pt x="3227" y="1856"/>
                  </a:lnTo>
                  <a:lnTo>
                    <a:pt x="3227" y="1850"/>
                  </a:lnTo>
                  <a:lnTo>
                    <a:pt x="3221" y="1850"/>
                  </a:lnTo>
                  <a:lnTo>
                    <a:pt x="3221" y="1833"/>
                  </a:lnTo>
                  <a:lnTo>
                    <a:pt x="3216" y="1833"/>
                  </a:lnTo>
                  <a:lnTo>
                    <a:pt x="3216" y="1828"/>
                  </a:lnTo>
                  <a:lnTo>
                    <a:pt x="3210" y="1828"/>
                  </a:lnTo>
                  <a:lnTo>
                    <a:pt x="3210" y="1816"/>
                  </a:lnTo>
                  <a:lnTo>
                    <a:pt x="3204" y="1816"/>
                  </a:lnTo>
                  <a:lnTo>
                    <a:pt x="3204" y="1805"/>
                  </a:lnTo>
                  <a:lnTo>
                    <a:pt x="3198" y="1805"/>
                  </a:lnTo>
                  <a:lnTo>
                    <a:pt x="3198" y="1799"/>
                  </a:lnTo>
                  <a:lnTo>
                    <a:pt x="3193" y="1799"/>
                  </a:lnTo>
                  <a:lnTo>
                    <a:pt x="3193" y="1788"/>
                  </a:lnTo>
                  <a:lnTo>
                    <a:pt x="3188" y="1788"/>
                  </a:lnTo>
                  <a:lnTo>
                    <a:pt x="3188" y="1776"/>
                  </a:lnTo>
                  <a:lnTo>
                    <a:pt x="3181" y="1776"/>
                  </a:lnTo>
                  <a:lnTo>
                    <a:pt x="3181" y="1764"/>
                  </a:lnTo>
                  <a:lnTo>
                    <a:pt x="3176" y="1764"/>
                  </a:lnTo>
                  <a:lnTo>
                    <a:pt x="3176" y="1754"/>
                  </a:lnTo>
                  <a:lnTo>
                    <a:pt x="3170" y="1754"/>
                  </a:lnTo>
                  <a:lnTo>
                    <a:pt x="3170" y="1747"/>
                  </a:lnTo>
                  <a:lnTo>
                    <a:pt x="3164" y="1747"/>
                  </a:lnTo>
                  <a:lnTo>
                    <a:pt x="3164" y="1731"/>
                  </a:lnTo>
                  <a:lnTo>
                    <a:pt x="3159" y="1731"/>
                  </a:lnTo>
                  <a:lnTo>
                    <a:pt x="3159" y="1719"/>
                  </a:lnTo>
                  <a:lnTo>
                    <a:pt x="3153" y="1719"/>
                  </a:lnTo>
                  <a:lnTo>
                    <a:pt x="3153" y="1702"/>
                  </a:lnTo>
                  <a:lnTo>
                    <a:pt x="3147" y="1702"/>
                  </a:lnTo>
                  <a:lnTo>
                    <a:pt x="3147" y="1690"/>
                  </a:lnTo>
                  <a:lnTo>
                    <a:pt x="3141" y="1690"/>
                  </a:lnTo>
                  <a:lnTo>
                    <a:pt x="3141" y="1680"/>
                  </a:lnTo>
                  <a:lnTo>
                    <a:pt x="3136" y="1680"/>
                  </a:lnTo>
                  <a:lnTo>
                    <a:pt x="3136" y="1668"/>
                  </a:lnTo>
                  <a:lnTo>
                    <a:pt x="3131" y="1668"/>
                  </a:lnTo>
                  <a:lnTo>
                    <a:pt x="3131" y="1651"/>
                  </a:lnTo>
                  <a:lnTo>
                    <a:pt x="3124" y="1651"/>
                  </a:lnTo>
                  <a:lnTo>
                    <a:pt x="3124" y="1645"/>
                  </a:lnTo>
                  <a:lnTo>
                    <a:pt x="3119" y="1645"/>
                  </a:lnTo>
                  <a:lnTo>
                    <a:pt x="3119" y="1633"/>
                  </a:lnTo>
                  <a:lnTo>
                    <a:pt x="3113" y="1633"/>
                  </a:lnTo>
                  <a:lnTo>
                    <a:pt x="3113" y="1617"/>
                  </a:lnTo>
                  <a:lnTo>
                    <a:pt x="3102" y="1617"/>
                  </a:lnTo>
                  <a:lnTo>
                    <a:pt x="3102" y="1611"/>
                  </a:lnTo>
                  <a:lnTo>
                    <a:pt x="2999" y="1611"/>
                  </a:lnTo>
                  <a:lnTo>
                    <a:pt x="2999" y="1617"/>
                  </a:lnTo>
                  <a:lnTo>
                    <a:pt x="2925" y="1617"/>
                  </a:lnTo>
                  <a:lnTo>
                    <a:pt x="2925" y="1611"/>
                  </a:lnTo>
                  <a:lnTo>
                    <a:pt x="2817" y="1611"/>
                  </a:lnTo>
                  <a:lnTo>
                    <a:pt x="2817" y="1617"/>
                  </a:lnTo>
                  <a:lnTo>
                    <a:pt x="2806" y="1617"/>
                  </a:lnTo>
                  <a:lnTo>
                    <a:pt x="2806" y="1611"/>
                  </a:lnTo>
                  <a:lnTo>
                    <a:pt x="2789" y="1611"/>
                  </a:lnTo>
                  <a:lnTo>
                    <a:pt x="2789" y="1617"/>
                  </a:lnTo>
                  <a:lnTo>
                    <a:pt x="2697" y="1617"/>
                  </a:lnTo>
                  <a:lnTo>
                    <a:pt x="2697" y="1623"/>
                  </a:lnTo>
                  <a:lnTo>
                    <a:pt x="2663" y="1623"/>
                  </a:lnTo>
                  <a:lnTo>
                    <a:pt x="2663" y="1628"/>
                  </a:lnTo>
                  <a:lnTo>
                    <a:pt x="2652" y="1628"/>
                  </a:lnTo>
                  <a:lnTo>
                    <a:pt x="2652" y="1633"/>
                  </a:lnTo>
                  <a:lnTo>
                    <a:pt x="2601" y="1633"/>
                  </a:lnTo>
                  <a:lnTo>
                    <a:pt x="2601" y="1640"/>
                  </a:lnTo>
                  <a:lnTo>
                    <a:pt x="2554" y="1640"/>
                  </a:lnTo>
                  <a:lnTo>
                    <a:pt x="2554" y="1645"/>
                  </a:lnTo>
                  <a:lnTo>
                    <a:pt x="2509" y="1645"/>
                  </a:lnTo>
                  <a:lnTo>
                    <a:pt x="2509" y="1651"/>
                  </a:lnTo>
                  <a:lnTo>
                    <a:pt x="2470" y="1651"/>
                  </a:lnTo>
                  <a:lnTo>
                    <a:pt x="2470" y="1657"/>
                  </a:lnTo>
                  <a:lnTo>
                    <a:pt x="2447" y="1657"/>
                  </a:lnTo>
                  <a:lnTo>
                    <a:pt x="2447" y="1662"/>
                  </a:lnTo>
                  <a:lnTo>
                    <a:pt x="2407" y="1662"/>
                  </a:lnTo>
                  <a:lnTo>
                    <a:pt x="2407" y="1668"/>
                  </a:lnTo>
                  <a:lnTo>
                    <a:pt x="2356" y="1668"/>
                  </a:lnTo>
                  <a:lnTo>
                    <a:pt x="2356" y="1674"/>
                  </a:lnTo>
                  <a:lnTo>
                    <a:pt x="2328" y="1674"/>
                  </a:lnTo>
                  <a:lnTo>
                    <a:pt x="2328" y="1680"/>
                  </a:lnTo>
                  <a:lnTo>
                    <a:pt x="2145" y="1680"/>
                  </a:lnTo>
                  <a:lnTo>
                    <a:pt x="2145" y="1685"/>
                  </a:lnTo>
                  <a:lnTo>
                    <a:pt x="2076" y="1685"/>
                  </a:lnTo>
                  <a:lnTo>
                    <a:pt x="2076" y="1690"/>
                  </a:lnTo>
                  <a:lnTo>
                    <a:pt x="1991" y="1690"/>
                  </a:lnTo>
                  <a:lnTo>
                    <a:pt x="1991" y="1697"/>
                  </a:lnTo>
                  <a:lnTo>
                    <a:pt x="1946" y="1697"/>
                  </a:lnTo>
                  <a:lnTo>
                    <a:pt x="1946" y="1702"/>
                  </a:lnTo>
                  <a:lnTo>
                    <a:pt x="1770" y="1702"/>
                  </a:lnTo>
                  <a:lnTo>
                    <a:pt x="1770" y="1708"/>
                  </a:lnTo>
                  <a:lnTo>
                    <a:pt x="1616" y="1708"/>
                  </a:lnTo>
                  <a:lnTo>
                    <a:pt x="1616" y="1714"/>
                  </a:lnTo>
                  <a:lnTo>
                    <a:pt x="1547" y="1714"/>
                  </a:lnTo>
                  <a:lnTo>
                    <a:pt x="1547" y="1719"/>
                  </a:lnTo>
                  <a:lnTo>
                    <a:pt x="1519" y="1719"/>
                  </a:lnTo>
                  <a:lnTo>
                    <a:pt x="1519" y="1725"/>
                  </a:lnTo>
                  <a:lnTo>
                    <a:pt x="1496" y="1725"/>
                  </a:lnTo>
                  <a:lnTo>
                    <a:pt x="1496" y="1731"/>
                  </a:lnTo>
                  <a:lnTo>
                    <a:pt x="1480" y="1731"/>
                  </a:lnTo>
                  <a:lnTo>
                    <a:pt x="1480" y="1737"/>
                  </a:lnTo>
                  <a:lnTo>
                    <a:pt x="1451" y="1737"/>
                  </a:lnTo>
                  <a:lnTo>
                    <a:pt x="1451" y="1742"/>
                  </a:lnTo>
                  <a:lnTo>
                    <a:pt x="1416" y="1742"/>
                  </a:lnTo>
                  <a:lnTo>
                    <a:pt x="1416" y="1747"/>
                  </a:lnTo>
                  <a:lnTo>
                    <a:pt x="1382" y="1747"/>
                  </a:lnTo>
                  <a:lnTo>
                    <a:pt x="1382" y="1754"/>
                  </a:lnTo>
                  <a:lnTo>
                    <a:pt x="1349" y="1754"/>
                  </a:lnTo>
                  <a:lnTo>
                    <a:pt x="1349" y="1759"/>
                  </a:lnTo>
                  <a:lnTo>
                    <a:pt x="1285" y="1759"/>
                  </a:lnTo>
                  <a:lnTo>
                    <a:pt x="1285" y="1764"/>
                  </a:lnTo>
                  <a:lnTo>
                    <a:pt x="1263" y="1764"/>
                  </a:lnTo>
                  <a:lnTo>
                    <a:pt x="1263" y="1759"/>
                  </a:lnTo>
                  <a:lnTo>
                    <a:pt x="1228" y="1759"/>
                  </a:lnTo>
                  <a:lnTo>
                    <a:pt x="1228" y="1764"/>
                  </a:lnTo>
                  <a:lnTo>
                    <a:pt x="1189" y="1764"/>
                  </a:lnTo>
                  <a:lnTo>
                    <a:pt x="1189" y="1771"/>
                  </a:lnTo>
                  <a:lnTo>
                    <a:pt x="978" y="1771"/>
                  </a:lnTo>
                  <a:lnTo>
                    <a:pt x="978" y="1776"/>
                  </a:lnTo>
                  <a:lnTo>
                    <a:pt x="876" y="1776"/>
                  </a:lnTo>
                  <a:lnTo>
                    <a:pt x="876" y="1782"/>
                  </a:lnTo>
                  <a:lnTo>
                    <a:pt x="779" y="1782"/>
                  </a:lnTo>
                  <a:lnTo>
                    <a:pt x="779" y="1788"/>
                  </a:lnTo>
                  <a:lnTo>
                    <a:pt x="642" y="1788"/>
                  </a:lnTo>
                  <a:lnTo>
                    <a:pt x="642" y="1793"/>
                  </a:lnTo>
                  <a:lnTo>
                    <a:pt x="614" y="1793"/>
                  </a:lnTo>
                  <a:lnTo>
                    <a:pt x="614" y="1788"/>
                  </a:lnTo>
                  <a:lnTo>
                    <a:pt x="506" y="1788"/>
                  </a:lnTo>
                  <a:lnTo>
                    <a:pt x="506" y="1793"/>
                  </a:lnTo>
                  <a:lnTo>
                    <a:pt x="477" y="1793"/>
                  </a:lnTo>
                  <a:lnTo>
                    <a:pt x="477" y="1799"/>
                  </a:lnTo>
                  <a:lnTo>
                    <a:pt x="442" y="1799"/>
                  </a:lnTo>
                  <a:lnTo>
                    <a:pt x="442" y="1805"/>
                  </a:lnTo>
                  <a:lnTo>
                    <a:pt x="392" y="1805"/>
                  </a:lnTo>
                  <a:lnTo>
                    <a:pt x="392" y="1811"/>
                  </a:lnTo>
                  <a:lnTo>
                    <a:pt x="364" y="1811"/>
                  </a:lnTo>
                  <a:lnTo>
                    <a:pt x="364" y="1816"/>
                  </a:lnTo>
                  <a:lnTo>
                    <a:pt x="335" y="1816"/>
                  </a:lnTo>
                  <a:lnTo>
                    <a:pt x="335" y="1821"/>
                  </a:lnTo>
                  <a:lnTo>
                    <a:pt x="301" y="1821"/>
                  </a:lnTo>
                  <a:lnTo>
                    <a:pt x="301" y="1828"/>
                  </a:lnTo>
                  <a:lnTo>
                    <a:pt x="266" y="1828"/>
                  </a:lnTo>
                  <a:lnTo>
                    <a:pt x="266" y="1833"/>
                  </a:lnTo>
                  <a:lnTo>
                    <a:pt x="226" y="1833"/>
                  </a:lnTo>
                  <a:lnTo>
                    <a:pt x="226" y="1839"/>
                  </a:lnTo>
                  <a:lnTo>
                    <a:pt x="193" y="1839"/>
                  </a:lnTo>
                  <a:lnTo>
                    <a:pt x="193" y="1844"/>
                  </a:lnTo>
                  <a:lnTo>
                    <a:pt x="164" y="1844"/>
                  </a:lnTo>
                  <a:lnTo>
                    <a:pt x="164" y="1850"/>
                  </a:lnTo>
                  <a:lnTo>
                    <a:pt x="124" y="1850"/>
                  </a:lnTo>
                  <a:lnTo>
                    <a:pt x="124" y="1856"/>
                  </a:lnTo>
                  <a:lnTo>
                    <a:pt x="107" y="1856"/>
                  </a:lnTo>
                  <a:lnTo>
                    <a:pt x="107" y="1861"/>
                  </a:lnTo>
                  <a:lnTo>
                    <a:pt x="90" y="1861"/>
                  </a:lnTo>
                  <a:lnTo>
                    <a:pt x="90" y="1867"/>
                  </a:lnTo>
                  <a:lnTo>
                    <a:pt x="0" y="1867"/>
                  </a:lnTo>
                  <a:lnTo>
                    <a:pt x="0" y="1856"/>
                  </a:lnTo>
                  <a:lnTo>
                    <a:pt x="5" y="1856"/>
                  </a:lnTo>
                  <a:lnTo>
                    <a:pt x="5" y="1839"/>
                  </a:lnTo>
                  <a:lnTo>
                    <a:pt x="16" y="1839"/>
                  </a:lnTo>
                  <a:lnTo>
                    <a:pt x="16" y="1833"/>
                  </a:lnTo>
                  <a:lnTo>
                    <a:pt x="50" y="1833"/>
                  </a:lnTo>
                  <a:lnTo>
                    <a:pt x="50" y="1839"/>
                  </a:lnTo>
                  <a:lnTo>
                    <a:pt x="62" y="1839"/>
                  </a:lnTo>
                  <a:lnTo>
                    <a:pt x="62" y="1833"/>
                  </a:lnTo>
                  <a:lnTo>
                    <a:pt x="90" y="1833"/>
                  </a:lnTo>
                  <a:lnTo>
                    <a:pt x="90" y="1828"/>
                  </a:lnTo>
                  <a:lnTo>
                    <a:pt x="142" y="1828"/>
                  </a:lnTo>
                  <a:lnTo>
                    <a:pt x="142" y="1821"/>
                  </a:lnTo>
                  <a:lnTo>
                    <a:pt x="176" y="1821"/>
                  </a:lnTo>
                  <a:lnTo>
                    <a:pt x="176" y="1816"/>
                  </a:lnTo>
                  <a:lnTo>
                    <a:pt x="204" y="1816"/>
                  </a:lnTo>
                  <a:lnTo>
                    <a:pt x="204" y="1811"/>
                  </a:lnTo>
                  <a:lnTo>
                    <a:pt x="273" y="1811"/>
                  </a:lnTo>
                  <a:lnTo>
                    <a:pt x="273" y="1805"/>
                  </a:lnTo>
                  <a:lnTo>
                    <a:pt x="307" y="1805"/>
                  </a:lnTo>
                  <a:lnTo>
                    <a:pt x="307" y="1799"/>
                  </a:lnTo>
                  <a:lnTo>
                    <a:pt x="324" y="1799"/>
                  </a:lnTo>
                  <a:lnTo>
                    <a:pt x="324" y="1793"/>
                  </a:lnTo>
                  <a:lnTo>
                    <a:pt x="364" y="1793"/>
                  </a:lnTo>
                  <a:lnTo>
                    <a:pt x="364" y="1788"/>
                  </a:lnTo>
                  <a:lnTo>
                    <a:pt x="392" y="1788"/>
                  </a:lnTo>
                  <a:lnTo>
                    <a:pt x="392" y="1782"/>
                  </a:lnTo>
                  <a:lnTo>
                    <a:pt x="426" y="1782"/>
                  </a:lnTo>
                  <a:lnTo>
                    <a:pt x="426" y="1776"/>
                  </a:lnTo>
                  <a:lnTo>
                    <a:pt x="449" y="1776"/>
                  </a:lnTo>
                  <a:lnTo>
                    <a:pt x="449" y="1771"/>
                  </a:lnTo>
                  <a:lnTo>
                    <a:pt x="506" y="1771"/>
                  </a:lnTo>
                  <a:lnTo>
                    <a:pt x="506" y="1764"/>
                  </a:lnTo>
                  <a:lnTo>
                    <a:pt x="585" y="1764"/>
                  </a:lnTo>
                  <a:lnTo>
                    <a:pt x="585" y="1759"/>
                  </a:lnTo>
                  <a:lnTo>
                    <a:pt x="642" y="1759"/>
                  </a:lnTo>
                  <a:lnTo>
                    <a:pt x="642" y="1754"/>
                  </a:lnTo>
                  <a:lnTo>
                    <a:pt x="677" y="1754"/>
                  </a:lnTo>
                  <a:lnTo>
                    <a:pt x="677" y="1747"/>
                  </a:lnTo>
                  <a:lnTo>
                    <a:pt x="728" y="1747"/>
                  </a:lnTo>
                  <a:lnTo>
                    <a:pt x="728" y="1742"/>
                  </a:lnTo>
                  <a:lnTo>
                    <a:pt x="876" y="1742"/>
                  </a:lnTo>
                  <a:lnTo>
                    <a:pt x="876" y="1747"/>
                  </a:lnTo>
                  <a:lnTo>
                    <a:pt x="1103" y="1747"/>
                  </a:lnTo>
                  <a:lnTo>
                    <a:pt x="1103" y="1742"/>
                  </a:lnTo>
                  <a:lnTo>
                    <a:pt x="1149" y="1742"/>
                  </a:lnTo>
                  <a:lnTo>
                    <a:pt x="1149" y="1747"/>
                  </a:lnTo>
                  <a:lnTo>
                    <a:pt x="1166" y="1747"/>
                  </a:lnTo>
                  <a:lnTo>
                    <a:pt x="1166" y="1742"/>
                  </a:lnTo>
                  <a:lnTo>
                    <a:pt x="1189" y="1742"/>
                  </a:lnTo>
                  <a:lnTo>
                    <a:pt x="1189" y="1737"/>
                  </a:lnTo>
                  <a:lnTo>
                    <a:pt x="1280" y="1737"/>
                  </a:lnTo>
                  <a:lnTo>
                    <a:pt x="1280" y="1731"/>
                  </a:lnTo>
                  <a:lnTo>
                    <a:pt x="1314" y="1731"/>
                  </a:lnTo>
                  <a:lnTo>
                    <a:pt x="1314" y="1725"/>
                  </a:lnTo>
                  <a:lnTo>
                    <a:pt x="1337" y="1725"/>
                  </a:lnTo>
                  <a:lnTo>
                    <a:pt x="1337" y="1719"/>
                  </a:lnTo>
                  <a:lnTo>
                    <a:pt x="1376" y="1719"/>
                  </a:lnTo>
                  <a:lnTo>
                    <a:pt x="1376" y="1714"/>
                  </a:lnTo>
                  <a:lnTo>
                    <a:pt x="1416" y="1714"/>
                  </a:lnTo>
                  <a:lnTo>
                    <a:pt x="1416" y="1708"/>
                  </a:lnTo>
                  <a:lnTo>
                    <a:pt x="1445" y="1708"/>
                  </a:lnTo>
                  <a:lnTo>
                    <a:pt x="1445" y="1702"/>
                  </a:lnTo>
                  <a:lnTo>
                    <a:pt x="1485" y="1702"/>
                  </a:lnTo>
                  <a:lnTo>
                    <a:pt x="1485" y="1697"/>
                  </a:lnTo>
                  <a:lnTo>
                    <a:pt x="1537" y="1697"/>
                  </a:lnTo>
                  <a:lnTo>
                    <a:pt x="1537" y="1690"/>
                  </a:lnTo>
                  <a:lnTo>
                    <a:pt x="1599" y="1690"/>
                  </a:lnTo>
                  <a:lnTo>
                    <a:pt x="1599" y="1685"/>
                  </a:lnTo>
                  <a:lnTo>
                    <a:pt x="1649" y="1685"/>
                  </a:lnTo>
                  <a:lnTo>
                    <a:pt x="1649" y="1680"/>
                  </a:lnTo>
                  <a:lnTo>
                    <a:pt x="1689" y="1680"/>
                  </a:lnTo>
                  <a:lnTo>
                    <a:pt x="1689" y="1674"/>
                  </a:lnTo>
                  <a:lnTo>
                    <a:pt x="1718" y="1674"/>
                  </a:lnTo>
                  <a:lnTo>
                    <a:pt x="1718" y="1668"/>
                  </a:lnTo>
                  <a:lnTo>
                    <a:pt x="1729" y="1668"/>
                  </a:lnTo>
                  <a:lnTo>
                    <a:pt x="1729" y="1662"/>
                  </a:lnTo>
                  <a:lnTo>
                    <a:pt x="1746" y="1662"/>
                  </a:lnTo>
                  <a:lnTo>
                    <a:pt x="1746" y="1657"/>
                  </a:lnTo>
                  <a:lnTo>
                    <a:pt x="1770" y="1657"/>
                  </a:lnTo>
                  <a:lnTo>
                    <a:pt x="1770" y="1662"/>
                  </a:lnTo>
                  <a:lnTo>
                    <a:pt x="1781" y="1662"/>
                  </a:lnTo>
                  <a:lnTo>
                    <a:pt x="1781" y="1657"/>
                  </a:lnTo>
                  <a:lnTo>
                    <a:pt x="1832" y="1657"/>
                  </a:lnTo>
                  <a:lnTo>
                    <a:pt x="1832" y="1651"/>
                  </a:lnTo>
                  <a:lnTo>
                    <a:pt x="1895" y="1651"/>
                  </a:lnTo>
                  <a:lnTo>
                    <a:pt x="1895" y="1645"/>
                  </a:lnTo>
                  <a:lnTo>
                    <a:pt x="1929" y="1645"/>
                  </a:lnTo>
                  <a:lnTo>
                    <a:pt x="1929" y="1640"/>
                  </a:lnTo>
                  <a:lnTo>
                    <a:pt x="1958" y="1640"/>
                  </a:lnTo>
                  <a:lnTo>
                    <a:pt x="1958" y="1633"/>
                  </a:lnTo>
                  <a:lnTo>
                    <a:pt x="2015" y="1633"/>
                  </a:lnTo>
                  <a:lnTo>
                    <a:pt x="2015" y="1628"/>
                  </a:lnTo>
                  <a:lnTo>
                    <a:pt x="2043" y="1628"/>
                  </a:lnTo>
                  <a:lnTo>
                    <a:pt x="2043" y="1623"/>
                  </a:lnTo>
                  <a:lnTo>
                    <a:pt x="2060" y="1623"/>
                  </a:lnTo>
                  <a:lnTo>
                    <a:pt x="2060" y="1628"/>
                  </a:lnTo>
                  <a:lnTo>
                    <a:pt x="2076" y="1628"/>
                  </a:lnTo>
                  <a:lnTo>
                    <a:pt x="2076" y="1623"/>
                  </a:lnTo>
                  <a:lnTo>
                    <a:pt x="2111" y="1623"/>
                  </a:lnTo>
                  <a:lnTo>
                    <a:pt x="2111" y="1617"/>
                  </a:lnTo>
                  <a:lnTo>
                    <a:pt x="2207" y="1617"/>
                  </a:lnTo>
                  <a:lnTo>
                    <a:pt x="2207" y="1611"/>
                  </a:lnTo>
                  <a:lnTo>
                    <a:pt x="2281" y="1611"/>
                  </a:lnTo>
                  <a:lnTo>
                    <a:pt x="2281" y="1605"/>
                  </a:lnTo>
                  <a:lnTo>
                    <a:pt x="2316" y="1605"/>
                  </a:lnTo>
                  <a:lnTo>
                    <a:pt x="2316" y="1600"/>
                  </a:lnTo>
                  <a:lnTo>
                    <a:pt x="2395" y="1600"/>
                  </a:lnTo>
                  <a:lnTo>
                    <a:pt x="2395" y="1594"/>
                  </a:lnTo>
                  <a:lnTo>
                    <a:pt x="2430" y="1594"/>
                  </a:lnTo>
                  <a:lnTo>
                    <a:pt x="2430" y="1588"/>
                  </a:lnTo>
                  <a:lnTo>
                    <a:pt x="2447" y="1588"/>
                  </a:lnTo>
                  <a:lnTo>
                    <a:pt x="2447" y="1583"/>
                  </a:lnTo>
                  <a:lnTo>
                    <a:pt x="2475" y="1583"/>
                  </a:lnTo>
                  <a:lnTo>
                    <a:pt x="2475" y="1576"/>
                  </a:lnTo>
                  <a:lnTo>
                    <a:pt x="2652" y="1576"/>
                  </a:lnTo>
                  <a:lnTo>
                    <a:pt x="2652" y="1583"/>
                  </a:lnTo>
                  <a:lnTo>
                    <a:pt x="2675" y="1583"/>
                  </a:lnTo>
                  <a:lnTo>
                    <a:pt x="2675" y="1576"/>
                  </a:lnTo>
                  <a:lnTo>
                    <a:pt x="2692" y="1576"/>
                  </a:lnTo>
                  <a:lnTo>
                    <a:pt x="2692" y="1583"/>
                  </a:lnTo>
                  <a:lnTo>
                    <a:pt x="2789" y="1583"/>
                  </a:lnTo>
                  <a:lnTo>
                    <a:pt x="2789" y="1588"/>
                  </a:lnTo>
                  <a:lnTo>
                    <a:pt x="2879" y="1588"/>
                  </a:lnTo>
                  <a:lnTo>
                    <a:pt x="2879" y="1583"/>
                  </a:lnTo>
                  <a:lnTo>
                    <a:pt x="2902" y="1583"/>
                  </a:lnTo>
                  <a:lnTo>
                    <a:pt x="2902" y="1588"/>
                  </a:lnTo>
                  <a:lnTo>
                    <a:pt x="2953" y="1588"/>
                  </a:lnTo>
                  <a:lnTo>
                    <a:pt x="2953" y="1594"/>
                  </a:lnTo>
                  <a:lnTo>
                    <a:pt x="2976" y="1594"/>
                  </a:lnTo>
                  <a:lnTo>
                    <a:pt x="2976" y="1588"/>
                  </a:lnTo>
                  <a:lnTo>
                    <a:pt x="3033" y="1588"/>
                  </a:lnTo>
                  <a:lnTo>
                    <a:pt x="3033" y="1583"/>
                  </a:lnTo>
                  <a:lnTo>
                    <a:pt x="3039" y="1583"/>
                  </a:lnTo>
                  <a:lnTo>
                    <a:pt x="3039" y="1571"/>
                  </a:lnTo>
                  <a:lnTo>
                    <a:pt x="3079" y="1571"/>
                  </a:lnTo>
                  <a:lnTo>
                    <a:pt x="3079" y="1566"/>
                  </a:lnTo>
                  <a:lnTo>
                    <a:pt x="3084" y="1566"/>
                  </a:lnTo>
                  <a:lnTo>
                    <a:pt x="3084" y="1537"/>
                  </a:lnTo>
                  <a:lnTo>
                    <a:pt x="3079" y="1537"/>
                  </a:lnTo>
                  <a:lnTo>
                    <a:pt x="3079" y="1497"/>
                  </a:lnTo>
                  <a:lnTo>
                    <a:pt x="3074" y="1497"/>
                  </a:lnTo>
                  <a:lnTo>
                    <a:pt x="3074" y="1480"/>
                  </a:lnTo>
                  <a:lnTo>
                    <a:pt x="3067" y="1480"/>
                  </a:lnTo>
                  <a:lnTo>
                    <a:pt x="3067" y="1457"/>
                  </a:lnTo>
                  <a:lnTo>
                    <a:pt x="3062" y="1457"/>
                  </a:lnTo>
                  <a:lnTo>
                    <a:pt x="3062" y="1452"/>
                  </a:lnTo>
                  <a:lnTo>
                    <a:pt x="3056" y="1452"/>
                  </a:lnTo>
                  <a:lnTo>
                    <a:pt x="3056" y="1435"/>
                  </a:lnTo>
                  <a:lnTo>
                    <a:pt x="3050" y="1435"/>
                  </a:lnTo>
                  <a:lnTo>
                    <a:pt x="3050" y="1429"/>
                  </a:lnTo>
                  <a:lnTo>
                    <a:pt x="3027" y="1429"/>
                  </a:lnTo>
                  <a:lnTo>
                    <a:pt x="3027" y="1435"/>
                  </a:lnTo>
                  <a:lnTo>
                    <a:pt x="3010" y="1435"/>
                  </a:lnTo>
                  <a:lnTo>
                    <a:pt x="3010" y="1440"/>
                  </a:lnTo>
                  <a:lnTo>
                    <a:pt x="2999" y="1440"/>
                  </a:lnTo>
                  <a:lnTo>
                    <a:pt x="2999" y="1435"/>
                  </a:lnTo>
                  <a:lnTo>
                    <a:pt x="2993" y="1435"/>
                  </a:lnTo>
                  <a:lnTo>
                    <a:pt x="2993" y="1429"/>
                  </a:lnTo>
                  <a:lnTo>
                    <a:pt x="2970" y="1429"/>
                  </a:lnTo>
                  <a:lnTo>
                    <a:pt x="2970" y="1435"/>
                  </a:lnTo>
                  <a:lnTo>
                    <a:pt x="2896" y="1435"/>
                  </a:lnTo>
                  <a:lnTo>
                    <a:pt x="2896" y="1440"/>
                  </a:lnTo>
                  <a:lnTo>
                    <a:pt x="2840" y="1440"/>
                  </a:lnTo>
                  <a:lnTo>
                    <a:pt x="2840" y="1446"/>
                  </a:lnTo>
                  <a:lnTo>
                    <a:pt x="2652" y="1446"/>
                  </a:lnTo>
                  <a:lnTo>
                    <a:pt x="2652" y="1452"/>
                  </a:lnTo>
                  <a:lnTo>
                    <a:pt x="2521" y="1452"/>
                  </a:lnTo>
                  <a:lnTo>
                    <a:pt x="2521" y="1457"/>
                  </a:lnTo>
                  <a:lnTo>
                    <a:pt x="2447" y="1457"/>
                  </a:lnTo>
                  <a:lnTo>
                    <a:pt x="2447" y="1463"/>
                  </a:lnTo>
                  <a:lnTo>
                    <a:pt x="2402" y="1463"/>
                  </a:lnTo>
                  <a:lnTo>
                    <a:pt x="2402" y="1469"/>
                  </a:lnTo>
                  <a:lnTo>
                    <a:pt x="2362" y="1469"/>
                  </a:lnTo>
                  <a:lnTo>
                    <a:pt x="2362" y="1474"/>
                  </a:lnTo>
                  <a:lnTo>
                    <a:pt x="2299" y="1474"/>
                  </a:lnTo>
                  <a:lnTo>
                    <a:pt x="2299" y="1480"/>
                  </a:lnTo>
                  <a:lnTo>
                    <a:pt x="2271" y="1480"/>
                  </a:lnTo>
                  <a:lnTo>
                    <a:pt x="2271" y="1486"/>
                  </a:lnTo>
                  <a:lnTo>
                    <a:pt x="2254" y="1486"/>
                  </a:lnTo>
                  <a:lnTo>
                    <a:pt x="2254" y="1492"/>
                  </a:lnTo>
                  <a:lnTo>
                    <a:pt x="2242" y="1492"/>
                  </a:lnTo>
                  <a:lnTo>
                    <a:pt x="2242" y="1497"/>
                  </a:lnTo>
                  <a:lnTo>
                    <a:pt x="2197" y="1497"/>
                  </a:lnTo>
                  <a:lnTo>
                    <a:pt x="2197" y="1503"/>
                  </a:lnTo>
                  <a:lnTo>
                    <a:pt x="2122" y="1503"/>
                  </a:lnTo>
                  <a:lnTo>
                    <a:pt x="2122" y="1509"/>
                  </a:lnTo>
                  <a:lnTo>
                    <a:pt x="2076" y="1509"/>
                  </a:lnTo>
                  <a:lnTo>
                    <a:pt x="2076" y="1514"/>
                  </a:lnTo>
                  <a:lnTo>
                    <a:pt x="2015" y="1514"/>
                  </a:lnTo>
                  <a:lnTo>
                    <a:pt x="2015" y="1519"/>
                  </a:lnTo>
                  <a:lnTo>
                    <a:pt x="1941" y="1519"/>
                  </a:lnTo>
                  <a:lnTo>
                    <a:pt x="1941" y="1526"/>
                  </a:lnTo>
                  <a:lnTo>
                    <a:pt x="1855" y="1526"/>
                  </a:lnTo>
                  <a:lnTo>
                    <a:pt x="1855" y="1531"/>
                  </a:lnTo>
                  <a:lnTo>
                    <a:pt x="1803" y="1531"/>
                  </a:lnTo>
                  <a:lnTo>
                    <a:pt x="1803" y="1537"/>
                  </a:lnTo>
                  <a:lnTo>
                    <a:pt x="1622" y="1537"/>
                  </a:lnTo>
                  <a:lnTo>
                    <a:pt x="1622" y="1543"/>
                  </a:lnTo>
                  <a:lnTo>
                    <a:pt x="1582" y="1543"/>
                  </a:lnTo>
                  <a:lnTo>
                    <a:pt x="1582" y="1549"/>
                  </a:lnTo>
                  <a:lnTo>
                    <a:pt x="1525" y="1549"/>
                  </a:lnTo>
                  <a:lnTo>
                    <a:pt x="1525" y="1554"/>
                  </a:lnTo>
                  <a:lnTo>
                    <a:pt x="1485" y="1554"/>
                  </a:lnTo>
                  <a:lnTo>
                    <a:pt x="1485" y="1560"/>
                  </a:lnTo>
                  <a:lnTo>
                    <a:pt x="1411" y="1560"/>
                  </a:lnTo>
                  <a:lnTo>
                    <a:pt x="1411" y="1566"/>
                  </a:lnTo>
                  <a:lnTo>
                    <a:pt x="1228" y="1566"/>
                  </a:lnTo>
                  <a:lnTo>
                    <a:pt x="1228" y="1571"/>
                  </a:lnTo>
                  <a:lnTo>
                    <a:pt x="1121" y="1571"/>
                  </a:lnTo>
                  <a:lnTo>
                    <a:pt x="1121" y="1566"/>
                  </a:lnTo>
                  <a:lnTo>
                    <a:pt x="950" y="1566"/>
                  </a:lnTo>
                  <a:lnTo>
                    <a:pt x="950" y="1571"/>
                  </a:lnTo>
                  <a:lnTo>
                    <a:pt x="881" y="1571"/>
                  </a:lnTo>
                  <a:lnTo>
                    <a:pt x="881" y="1576"/>
                  </a:lnTo>
                  <a:lnTo>
                    <a:pt x="808" y="1576"/>
                  </a:lnTo>
                  <a:lnTo>
                    <a:pt x="808" y="1583"/>
                  </a:lnTo>
                  <a:lnTo>
                    <a:pt x="705" y="1583"/>
                  </a:lnTo>
                  <a:lnTo>
                    <a:pt x="705" y="1588"/>
                  </a:lnTo>
                  <a:lnTo>
                    <a:pt x="694" y="1588"/>
                  </a:lnTo>
                  <a:lnTo>
                    <a:pt x="694" y="1583"/>
                  </a:lnTo>
                  <a:lnTo>
                    <a:pt x="671" y="1583"/>
                  </a:lnTo>
                  <a:lnTo>
                    <a:pt x="671" y="1588"/>
                  </a:lnTo>
                  <a:lnTo>
                    <a:pt x="654" y="1588"/>
                  </a:lnTo>
                  <a:lnTo>
                    <a:pt x="654" y="1583"/>
                  </a:lnTo>
                  <a:lnTo>
                    <a:pt x="631" y="1583"/>
                  </a:lnTo>
                  <a:lnTo>
                    <a:pt x="631" y="1588"/>
                  </a:lnTo>
                  <a:lnTo>
                    <a:pt x="591" y="1588"/>
                  </a:lnTo>
                  <a:lnTo>
                    <a:pt x="591" y="1594"/>
                  </a:lnTo>
                  <a:lnTo>
                    <a:pt x="483" y="1594"/>
                  </a:lnTo>
                  <a:lnTo>
                    <a:pt x="483" y="1588"/>
                  </a:lnTo>
                  <a:lnTo>
                    <a:pt x="437" y="1588"/>
                  </a:lnTo>
                  <a:lnTo>
                    <a:pt x="437" y="1594"/>
                  </a:lnTo>
                  <a:lnTo>
                    <a:pt x="415" y="1594"/>
                  </a:lnTo>
                  <a:lnTo>
                    <a:pt x="415" y="1600"/>
                  </a:lnTo>
                  <a:lnTo>
                    <a:pt x="387" y="1600"/>
                  </a:lnTo>
                  <a:lnTo>
                    <a:pt x="387" y="1605"/>
                  </a:lnTo>
                  <a:lnTo>
                    <a:pt x="364" y="1605"/>
                  </a:lnTo>
                  <a:lnTo>
                    <a:pt x="364" y="1611"/>
                  </a:lnTo>
                  <a:lnTo>
                    <a:pt x="324" y="1611"/>
                  </a:lnTo>
                  <a:lnTo>
                    <a:pt x="324" y="1617"/>
                  </a:lnTo>
                  <a:lnTo>
                    <a:pt x="290" y="1617"/>
                  </a:lnTo>
                  <a:lnTo>
                    <a:pt x="290" y="1623"/>
                  </a:lnTo>
                  <a:lnTo>
                    <a:pt x="233" y="1623"/>
                  </a:lnTo>
                  <a:lnTo>
                    <a:pt x="233" y="1628"/>
                  </a:lnTo>
                  <a:lnTo>
                    <a:pt x="198" y="1628"/>
                  </a:lnTo>
                  <a:lnTo>
                    <a:pt x="198" y="1633"/>
                  </a:lnTo>
                  <a:lnTo>
                    <a:pt x="169" y="1633"/>
                  </a:lnTo>
                  <a:lnTo>
                    <a:pt x="169" y="1640"/>
                  </a:lnTo>
                  <a:lnTo>
                    <a:pt x="112" y="1640"/>
                  </a:lnTo>
                  <a:lnTo>
                    <a:pt x="112" y="1645"/>
                  </a:lnTo>
                  <a:lnTo>
                    <a:pt x="90" y="1645"/>
                  </a:lnTo>
                  <a:lnTo>
                    <a:pt x="90" y="1651"/>
                  </a:lnTo>
                  <a:lnTo>
                    <a:pt x="0" y="1651"/>
                  </a:lnTo>
                  <a:lnTo>
                    <a:pt x="0" y="1640"/>
                  </a:lnTo>
                  <a:lnTo>
                    <a:pt x="5" y="1640"/>
                  </a:lnTo>
                  <a:lnTo>
                    <a:pt x="5" y="1628"/>
                  </a:lnTo>
                  <a:lnTo>
                    <a:pt x="16" y="1628"/>
                  </a:lnTo>
                  <a:lnTo>
                    <a:pt x="16" y="1623"/>
                  </a:lnTo>
                  <a:lnTo>
                    <a:pt x="33" y="1623"/>
                  </a:lnTo>
                  <a:lnTo>
                    <a:pt x="33" y="1617"/>
                  </a:lnTo>
                  <a:lnTo>
                    <a:pt x="45" y="1617"/>
                  </a:lnTo>
                  <a:lnTo>
                    <a:pt x="45" y="1628"/>
                  </a:lnTo>
                  <a:lnTo>
                    <a:pt x="62" y="1628"/>
                  </a:lnTo>
                  <a:lnTo>
                    <a:pt x="62" y="1623"/>
                  </a:lnTo>
                  <a:lnTo>
                    <a:pt x="79" y="1623"/>
                  </a:lnTo>
                  <a:lnTo>
                    <a:pt x="79" y="1617"/>
                  </a:lnTo>
                  <a:lnTo>
                    <a:pt x="119" y="1617"/>
                  </a:lnTo>
                  <a:lnTo>
                    <a:pt x="119" y="1611"/>
                  </a:lnTo>
                  <a:lnTo>
                    <a:pt x="152" y="1611"/>
                  </a:lnTo>
                  <a:lnTo>
                    <a:pt x="152" y="1605"/>
                  </a:lnTo>
                  <a:lnTo>
                    <a:pt x="176" y="1605"/>
                  </a:lnTo>
                  <a:lnTo>
                    <a:pt x="176" y="1600"/>
                  </a:lnTo>
                  <a:lnTo>
                    <a:pt x="216" y="1600"/>
                  </a:lnTo>
                  <a:lnTo>
                    <a:pt x="216" y="1594"/>
                  </a:lnTo>
                  <a:lnTo>
                    <a:pt x="307" y="1594"/>
                  </a:lnTo>
                  <a:lnTo>
                    <a:pt x="307" y="1588"/>
                  </a:lnTo>
                  <a:lnTo>
                    <a:pt x="335" y="1588"/>
                  </a:lnTo>
                  <a:lnTo>
                    <a:pt x="335" y="1583"/>
                  </a:lnTo>
                  <a:lnTo>
                    <a:pt x="369" y="1583"/>
                  </a:lnTo>
                  <a:lnTo>
                    <a:pt x="369" y="1576"/>
                  </a:lnTo>
                  <a:lnTo>
                    <a:pt x="432" y="1576"/>
                  </a:lnTo>
                  <a:lnTo>
                    <a:pt x="432" y="1571"/>
                  </a:lnTo>
                  <a:lnTo>
                    <a:pt x="466" y="1571"/>
                  </a:lnTo>
                  <a:lnTo>
                    <a:pt x="466" y="1566"/>
                  </a:lnTo>
                  <a:lnTo>
                    <a:pt x="489" y="1566"/>
                  </a:lnTo>
                  <a:lnTo>
                    <a:pt x="489" y="1560"/>
                  </a:lnTo>
                  <a:lnTo>
                    <a:pt x="511" y="1560"/>
                  </a:lnTo>
                  <a:lnTo>
                    <a:pt x="511" y="1554"/>
                  </a:lnTo>
                  <a:lnTo>
                    <a:pt x="556" y="1554"/>
                  </a:lnTo>
                  <a:lnTo>
                    <a:pt x="556" y="1549"/>
                  </a:lnTo>
                  <a:lnTo>
                    <a:pt x="591" y="1549"/>
                  </a:lnTo>
                  <a:lnTo>
                    <a:pt x="591" y="1543"/>
                  </a:lnTo>
                  <a:lnTo>
                    <a:pt x="677" y="1543"/>
                  </a:lnTo>
                  <a:lnTo>
                    <a:pt x="677" y="1549"/>
                  </a:lnTo>
                  <a:lnTo>
                    <a:pt x="728" y="1549"/>
                  </a:lnTo>
                  <a:lnTo>
                    <a:pt x="728" y="1554"/>
                  </a:lnTo>
                  <a:lnTo>
                    <a:pt x="881" y="1554"/>
                  </a:lnTo>
                  <a:lnTo>
                    <a:pt x="881" y="1549"/>
                  </a:lnTo>
                  <a:lnTo>
                    <a:pt x="927" y="1549"/>
                  </a:lnTo>
                  <a:lnTo>
                    <a:pt x="927" y="1543"/>
                  </a:lnTo>
                  <a:lnTo>
                    <a:pt x="950" y="1543"/>
                  </a:lnTo>
                  <a:lnTo>
                    <a:pt x="950" y="1549"/>
                  </a:lnTo>
                  <a:lnTo>
                    <a:pt x="962" y="1549"/>
                  </a:lnTo>
                  <a:lnTo>
                    <a:pt x="962" y="1543"/>
                  </a:lnTo>
                  <a:lnTo>
                    <a:pt x="1086" y="1543"/>
                  </a:lnTo>
                  <a:lnTo>
                    <a:pt x="1086" y="1537"/>
                  </a:lnTo>
                  <a:lnTo>
                    <a:pt x="1103" y="1537"/>
                  </a:lnTo>
                  <a:lnTo>
                    <a:pt x="1103" y="1543"/>
                  </a:lnTo>
                  <a:lnTo>
                    <a:pt x="1121" y="1543"/>
                  </a:lnTo>
                  <a:lnTo>
                    <a:pt x="1121" y="1537"/>
                  </a:lnTo>
                  <a:lnTo>
                    <a:pt x="1132" y="1537"/>
                  </a:lnTo>
                  <a:lnTo>
                    <a:pt x="1132" y="1543"/>
                  </a:lnTo>
                  <a:lnTo>
                    <a:pt x="1160" y="1543"/>
                  </a:lnTo>
                  <a:lnTo>
                    <a:pt x="1160" y="1537"/>
                  </a:lnTo>
                  <a:lnTo>
                    <a:pt x="1223" y="1537"/>
                  </a:lnTo>
                  <a:lnTo>
                    <a:pt x="1223" y="1531"/>
                  </a:lnTo>
                  <a:lnTo>
                    <a:pt x="1268" y="1531"/>
                  </a:lnTo>
                  <a:lnTo>
                    <a:pt x="1268" y="1526"/>
                  </a:lnTo>
                  <a:lnTo>
                    <a:pt x="1405" y="1526"/>
                  </a:lnTo>
                  <a:lnTo>
                    <a:pt x="1405" y="1519"/>
                  </a:lnTo>
                  <a:lnTo>
                    <a:pt x="1485" y="1519"/>
                  </a:lnTo>
                  <a:lnTo>
                    <a:pt x="1485" y="1514"/>
                  </a:lnTo>
                  <a:lnTo>
                    <a:pt x="1542" y="1514"/>
                  </a:lnTo>
                  <a:lnTo>
                    <a:pt x="1542" y="1509"/>
                  </a:lnTo>
                  <a:lnTo>
                    <a:pt x="1713" y="1509"/>
                  </a:lnTo>
                  <a:lnTo>
                    <a:pt x="1713" y="1503"/>
                  </a:lnTo>
                  <a:lnTo>
                    <a:pt x="1735" y="1503"/>
                  </a:lnTo>
                  <a:lnTo>
                    <a:pt x="1735" y="1509"/>
                  </a:lnTo>
                  <a:lnTo>
                    <a:pt x="1838" y="1509"/>
                  </a:lnTo>
                  <a:lnTo>
                    <a:pt x="1838" y="1503"/>
                  </a:lnTo>
                  <a:lnTo>
                    <a:pt x="1906" y="1503"/>
                  </a:lnTo>
                  <a:lnTo>
                    <a:pt x="1906" y="1497"/>
                  </a:lnTo>
                  <a:lnTo>
                    <a:pt x="1929" y="1497"/>
                  </a:lnTo>
                  <a:lnTo>
                    <a:pt x="1929" y="1492"/>
                  </a:lnTo>
                  <a:lnTo>
                    <a:pt x="1946" y="1492"/>
                  </a:lnTo>
                  <a:lnTo>
                    <a:pt x="1946" y="1486"/>
                  </a:lnTo>
                  <a:lnTo>
                    <a:pt x="1998" y="1486"/>
                  </a:lnTo>
                  <a:lnTo>
                    <a:pt x="1998" y="1480"/>
                  </a:lnTo>
                  <a:lnTo>
                    <a:pt x="2020" y="1480"/>
                  </a:lnTo>
                  <a:lnTo>
                    <a:pt x="2020" y="1474"/>
                  </a:lnTo>
                  <a:lnTo>
                    <a:pt x="2076" y="1474"/>
                  </a:lnTo>
                  <a:lnTo>
                    <a:pt x="2076" y="1469"/>
                  </a:lnTo>
                  <a:lnTo>
                    <a:pt x="2122" y="1469"/>
                  </a:lnTo>
                  <a:lnTo>
                    <a:pt x="2122" y="1463"/>
                  </a:lnTo>
                  <a:lnTo>
                    <a:pt x="2214" y="1463"/>
                  </a:lnTo>
                  <a:lnTo>
                    <a:pt x="2214" y="1457"/>
                  </a:lnTo>
                  <a:lnTo>
                    <a:pt x="2288" y="1457"/>
                  </a:lnTo>
                  <a:lnTo>
                    <a:pt x="2288" y="1452"/>
                  </a:lnTo>
                  <a:lnTo>
                    <a:pt x="2299" y="1452"/>
                  </a:lnTo>
                  <a:lnTo>
                    <a:pt x="2299" y="1457"/>
                  </a:lnTo>
                  <a:lnTo>
                    <a:pt x="2328" y="1457"/>
                  </a:lnTo>
                  <a:lnTo>
                    <a:pt x="2328" y="1452"/>
                  </a:lnTo>
                  <a:lnTo>
                    <a:pt x="2390" y="1452"/>
                  </a:lnTo>
                  <a:lnTo>
                    <a:pt x="2390" y="1446"/>
                  </a:lnTo>
                  <a:lnTo>
                    <a:pt x="2452" y="1446"/>
                  </a:lnTo>
                  <a:lnTo>
                    <a:pt x="2452" y="1440"/>
                  </a:lnTo>
                  <a:lnTo>
                    <a:pt x="2498" y="1440"/>
                  </a:lnTo>
                  <a:lnTo>
                    <a:pt x="2498" y="1435"/>
                  </a:lnTo>
                  <a:lnTo>
                    <a:pt x="2521" y="1435"/>
                  </a:lnTo>
                  <a:lnTo>
                    <a:pt x="2521" y="1429"/>
                  </a:lnTo>
                  <a:lnTo>
                    <a:pt x="2554" y="1429"/>
                  </a:lnTo>
                  <a:lnTo>
                    <a:pt x="2554" y="1424"/>
                  </a:lnTo>
                  <a:lnTo>
                    <a:pt x="2572" y="1424"/>
                  </a:lnTo>
                  <a:lnTo>
                    <a:pt x="2572" y="1429"/>
                  </a:lnTo>
                  <a:lnTo>
                    <a:pt x="2595" y="1429"/>
                  </a:lnTo>
                  <a:lnTo>
                    <a:pt x="2595" y="1424"/>
                  </a:lnTo>
                  <a:lnTo>
                    <a:pt x="2646" y="1424"/>
                  </a:lnTo>
                  <a:lnTo>
                    <a:pt x="2646" y="1417"/>
                  </a:lnTo>
                  <a:lnTo>
                    <a:pt x="2725" y="1417"/>
                  </a:lnTo>
                  <a:lnTo>
                    <a:pt x="2725" y="1412"/>
                  </a:lnTo>
                  <a:lnTo>
                    <a:pt x="2823" y="1412"/>
                  </a:lnTo>
                  <a:lnTo>
                    <a:pt x="2823" y="1407"/>
                  </a:lnTo>
                  <a:lnTo>
                    <a:pt x="2925" y="1407"/>
                  </a:lnTo>
                  <a:lnTo>
                    <a:pt x="2925" y="1400"/>
                  </a:lnTo>
                  <a:lnTo>
                    <a:pt x="3027" y="1400"/>
                  </a:lnTo>
                  <a:lnTo>
                    <a:pt x="3027" y="1378"/>
                  </a:lnTo>
                  <a:lnTo>
                    <a:pt x="3045" y="1378"/>
                  </a:lnTo>
                  <a:lnTo>
                    <a:pt x="3045" y="1343"/>
                  </a:lnTo>
                  <a:lnTo>
                    <a:pt x="3039" y="1343"/>
                  </a:lnTo>
                  <a:lnTo>
                    <a:pt x="3039" y="1327"/>
                  </a:lnTo>
                  <a:lnTo>
                    <a:pt x="3033" y="1327"/>
                  </a:lnTo>
                  <a:lnTo>
                    <a:pt x="3033" y="1304"/>
                  </a:lnTo>
                  <a:lnTo>
                    <a:pt x="3027" y="1304"/>
                  </a:lnTo>
                  <a:lnTo>
                    <a:pt x="3027" y="1286"/>
                  </a:lnTo>
                  <a:lnTo>
                    <a:pt x="3022" y="1286"/>
                  </a:lnTo>
                  <a:lnTo>
                    <a:pt x="3022" y="1253"/>
                  </a:lnTo>
                  <a:lnTo>
                    <a:pt x="3016" y="1253"/>
                  </a:lnTo>
                  <a:lnTo>
                    <a:pt x="3016" y="1213"/>
                  </a:lnTo>
                  <a:lnTo>
                    <a:pt x="3010" y="1213"/>
                  </a:lnTo>
                  <a:lnTo>
                    <a:pt x="3010" y="1207"/>
                  </a:lnTo>
                  <a:lnTo>
                    <a:pt x="2993" y="1207"/>
                  </a:lnTo>
                  <a:lnTo>
                    <a:pt x="2993" y="1213"/>
                  </a:lnTo>
                  <a:lnTo>
                    <a:pt x="2988" y="1213"/>
                  </a:lnTo>
                  <a:lnTo>
                    <a:pt x="2988" y="1224"/>
                  </a:lnTo>
                  <a:lnTo>
                    <a:pt x="2982" y="1224"/>
                  </a:lnTo>
                  <a:lnTo>
                    <a:pt x="2982" y="1229"/>
                  </a:lnTo>
                  <a:lnTo>
                    <a:pt x="2970" y="1229"/>
                  </a:lnTo>
                  <a:lnTo>
                    <a:pt x="2970" y="1236"/>
                  </a:lnTo>
                  <a:lnTo>
                    <a:pt x="2965" y="1236"/>
                  </a:lnTo>
                  <a:lnTo>
                    <a:pt x="2965" y="1241"/>
                  </a:lnTo>
                  <a:lnTo>
                    <a:pt x="2948" y="1241"/>
                  </a:lnTo>
                  <a:lnTo>
                    <a:pt x="2948" y="1247"/>
                  </a:lnTo>
                  <a:lnTo>
                    <a:pt x="2913" y="1247"/>
                  </a:lnTo>
                  <a:lnTo>
                    <a:pt x="2913" y="1253"/>
                  </a:lnTo>
                  <a:lnTo>
                    <a:pt x="2896" y="1253"/>
                  </a:lnTo>
                  <a:lnTo>
                    <a:pt x="2896" y="1258"/>
                  </a:lnTo>
                  <a:lnTo>
                    <a:pt x="2868" y="1258"/>
                  </a:lnTo>
                  <a:lnTo>
                    <a:pt x="2868" y="1264"/>
                  </a:lnTo>
                  <a:lnTo>
                    <a:pt x="2646" y="1264"/>
                  </a:lnTo>
                  <a:lnTo>
                    <a:pt x="2646" y="1270"/>
                  </a:lnTo>
                  <a:lnTo>
                    <a:pt x="2578" y="1270"/>
                  </a:lnTo>
                  <a:lnTo>
                    <a:pt x="2578" y="1276"/>
                  </a:lnTo>
                  <a:lnTo>
                    <a:pt x="2470" y="1276"/>
                  </a:lnTo>
                  <a:lnTo>
                    <a:pt x="2470" y="1281"/>
                  </a:lnTo>
                  <a:lnTo>
                    <a:pt x="2402" y="1281"/>
                  </a:lnTo>
                  <a:lnTo>
                    <a:pt x="2402" y="1286"/>
                  </a:lnTo>
                  <a:lnTo>
                    <a:pt x="2288" y="1286"/>
                  </a:lnTo>
                  <a:lnTo>
                    <a:pt x="2288" y="1281"/>
                  </a:lnTo>
                  <a:lnTo>
                    <a:pt x="2122" y="1281"/>
                  </a:lnTo>
                  <a:lnTo>
                    <a:pt x="2122" y="1286"/>
                  </a:lnTo>
                  <a:lnTo>
                    <a:pt x="2088" y="1286"/>
                  </a:lnTo>
                  <a:lnTo>
                    <a:pt x="2088" y="1293"/>
                  </a:lnTo>
                  <a:lnTo>
                    <a:pt x="2065" y="1293"/>
                  </a:lnTo>
                  <a:lnTo>
                    <a:pt x="2065" y="1298"/>
                  </a:lnTo>
                  <a:lnTo>
                    <a:pt x="2031" y="1298"/>
                  </a:lnTo>
                  <a:lnTo>
                    <a:pt x="2031" y="1304"/>
                  </a:lnTo>
                  <a:lnTo>
                    <a:pt x="1998" y="1304"/>
                  </a:lnTo>
                  <a:lnTo>
                    <a:pt x="1998" y="1310"/>
                  </a:lnTo>
                  <a:lnTo>
                    <a:pt x="1963" y="1310"/>
                  </a:lnTo>
                  <a:lnTo>
                    <a:pt x="1963" y="1315"/>
                  </a:lnTo>
                  <a:lnTo>
                    <a:pt x="1952" y="1315"/>
                  </a:lnTo>
                  <a:lnTo>
                    <a:pt x="1952" y="1321"/>
                  </a:lnTo>
                  <a:lnTo>
                    <a:pt x="1912" y="1321"/>
                  </a:lnTo>
                  <a:lnTo>
                    <a:pt x="1912" y="1327"/>
                  </a:lnTo>
                  <a:lnTo>
                    <a:pt x="1889" y="1327"/>
                  </a:lnTo>
                  <a:lnTo>
                    <a:pt x="1889" y="1333"/>
                  </a:lnTo>
                  <a:lnTo>
                    <a:pt x="1849" y="1333"/>
                  </a:lnTo>
                  <a:lnTo>
                    <a:pt x="1849" y="1338"/>
                  </a:lnTo>
                  <a:lnTo>
                    <a:pt x="1792" y="1338"/>
                  </a:lnTo>
                  <a:lnTo>
                    <a:pt x="1792" y="1343"/>
                  </a:lnTo>
                  <a:lnTo>
                    <a:pt x="1735" y="1343"/>
                  </a:lnTo>
                  <a:lnTo>
                    <a:pt x="1735" y="1350"/>
                  </a:lnTo>
                  <a:lnTo>
                    <a:pt x="1689" y="1350"/>
                  </a:lnTo>
                  <a:lnTo>
                    <a:pt x="1689" y="1355"/>
                  </a:lnTo>
                  <a:lnTo>
                    <a:pt x="1661" y="1355"/>
                  </a:lnTo>
                  <a:lnTo>
                    <a:pt x="1661" y="1360"/>
                  </a:lnTo>
                  <a:lnTo>
                    <a:pt x="1644" y="1360"/>
                  </a:lnTo>
                  <a:lnTo>
                    <a:pt x="1644" y="1367"/>
                  </a:lnTo>
                  <a:lnTo>
                    <a:pt x="1604" y="1367"/>
                  </a:lnTo>
                  <a:lnTo>
                    <a:pt x="1604" y="1372"/>
                  </a:lnTo>
                  <a:lnTo>
                    <a:pt x="1570" y="1372"/>
                  </a:lnTo>
                  <a:lnTo>
                    <a:pt x="1570" y="1378"/>
                  </a:lnTo>
                  <a:lnTo>
                    <a:pt x="1473" y="1378"/>
                  </a:lnTo>
                  <a:lnTo>
                    <a:pt x="1473" y="1372"/>
                  </a:lnTo>
                  <a:lnTo>
                    <a:pt x="1445" y="1372"/>
                  </a:lnTo>
                  <a:lnTo>
                    <a:pt x="1445" y="1367"/>
                  </a:lnTo>
                  <a:lnTo>
                    <a:pt x="1394" y="1367"/>
                  </a:lnTo>
                  <a:lnTo>
                    <a:pt x="1394" y="1372"/>
                  </a:lnTo>
                  <a:lnTo>
                    <a:pt x="1376" y="1372"/>
                  </a:lnTo>
                  <a:lnTo>
                    <a:pt x="1376" y="1378"/>
                  </a:lnTo>
                  <a:lnTo>
                    <a:pt x="1320" y="1378"/>
                  </a:lnTo>
                  <a:lnTo>
                    <a:pt x="1320" y="1384"/>
                  </a:lnTo>
                  <a:lnTo>
                    <a:pt x="1297" y="1384"/>
                  </a:lnTo>
                  <a:lnTo>
                    <a:pt x="1297" y="1378"/>
                  </a:lnTo>
                  <a:lnTo>
                    <a:pt x="1178" y="1378"/>
                  </a:lnTo>
                  <a:lnTo>
                    <a:pt x="1178" y="1384"/>
                  </a:lnTo>
                  <a:lnTo>
                    <a:pt x="1058" y="1384"/>
                  </a:lnTo>
                  <a:lnTo>
                    <a:pt x="1058" y="1378"/>
                  </a:lnTo>
                  <a:lnTo>
                    <a:pt x="1001" y="1378"/>
                  </a:lnTo>
                  <a:lnTo>
                    <a:pt x="1001" y="1384"/>
                  </a:lnTo>
                  <a:lnTo>
                    <a:pt x="785" y="1384"/>
                  </a:lnTo>
                  <a:lnTo>
                    <a:pt x="785" y="1389"/>
                  </a:lnTo>
                  <a:lnTo>
                    <a:pt x="762" y="1389"/>
                  </a:lnTo>
                  <a:lnTo>
                    <a:pt x="762" y="1384"/>
                  </a:lnTo>
                  <a:lnTo>
                    <a:pt x="739" y="1384"/>
                  </a:lnTo>
                  <a:lnTo>
                    <a:pt x="739" y="1389"/>
                  </a:lnTo>
                  <a:lnTo>
                    <a:pt x="694" y="1389"/>
                  </a:lnTo>
                  <a:lnTo>
                    <a:pt x="694" y="1384"/>
                  </a:lnTo>
                  <a:lnTo>
                    <a:pt x="631" y="1384"/>
                  </a:lnTo>
                  <a:lnTo>
                    <a:pt x="631" y="1389"/>
                  </a:lnTo>
                  <a:lnTo>
                    <a:pt x="551" y="1389"/>
                  </a:lnTo>
                  <a:lnTo>
                    <a:pt x="551" y="1395"/>
                  </a:lnTo>
                  <a:lnTo>
                    <a:pt x="369" y="1395"/>
                  </a:lnTo>
                  <a:lnTo>
                    <a:pt x="369" y="1400"/>
                  </a:lnTo>
                  <a:lnTo>
                    <a:pt x="340" y="1400"/>
                  </a:lnTo>
                  <a:lnTo>
                    <a:pt x="340" y="1395"/>
                  </a:lnTo>
                  <a:lnTo>
                    <a:pt x="324" y="1395"/>
                  </a:lnTo>
                  <a:lnTo>
                    <a:pt x="324" y="1400"/>
                  </a:lnTo>
                  <a:lnTo>
                    <a:pt x="244" y="1400"/>
                  </a:lnTo>
                  <a:lnTo>
                    <a:pt x="244" y="1407"/>
                  </a:lnTo>
                  <a:lnTo>
                    <a:pt x="176" y="1407"/>
                  </a:lnTo>
                  <a:lnTo>
                    <a:pt x="176" y="1412"/>
                  </a:lnTo>
                  <a:lnTo>
                    <a:pt x="130" y="1412"/>
                  </a:lnTo>
                  <a:lnTo>
                    <a:pt x="130" y="1417"/>
                  </a:lnTo>
                  <a:lnTo>
                    <a:pt x="102" y="1417"/>
                  </a:lnTo>
                  <a:lnTo>
                    <a:pt x="102" y="1424"/>
                  </a:lnTo>
                  <a:lnTo>
                    <a:pt x="90" y="1424"/>
                  </a:lnTo>
                  <a:lnTo>
                    <a:pt x="90" y="1429"/>
                  </a:lnTo>
                  <a:lnTo>
                    <a:pt x="79" y="1429"/>
                  </a:lnTo>
                  <a:lnTo>
                    <a:pt x="79" y="1435"/>
                  </a:lnTo>
                  <a:lnTo>
                    <a:pt x="45" y="1435"/>
                  </a:lnTo>
                  <a:lnTo>
                    <a:pt x="45" y="1429"/>
                  </a:lnTo>
                  <a:lnTo>
                    <a:pt x="33" y="1429"/>
                  </a:lnTo>
                  <a:lnTo>
                    <a:pt x="33" y="1435"/>
                  </a:lnTo>
                  <a:lnTo>
                    <a:pt x="0" y="1435"/>
                  </a:lnTo>
                  <a:lnTo>
                    <a:pt x="0" y="1424"/>
                  </a:lnTo>
                  <a:lnTo>
                    <a:pt x="5" y="1424"/>
                  </a:lnTo>
                  <a:lnTo>
                    <a:pt x="5" y="1407"/>
                  </a:lnTo>
                  <a:lnTo>
                    <a:pt x="28" y="1407"/>
                  </a:lnTo>
                  <a:lnTo>
                    <a:pt x="28" y="1400"/>
                  </a:lnTo>
                  <a:lnTo>
                    <a:pt x="45" y="1400"/>
                  </a:lnTo>
                  <a:lnTo>
                    <a:pt x="45" y="1407"/>
                  </a:lnTo>
                  <a:lnTo>
                    <a:pt x="73" y="1407"/>
                  </a:lnTo>
                  <a:lnTo>
                    <a:pt x="73" y="1400"/>
                  </a:lnTo>
                  <a:lnTo>
                    <a:pt x="130" y="1400"/>
                  </a:lnTo>
                  <a:lnTo>
                    <a:pt x="130" y="1395"/>
                  </a:lnTo>
                  <a:lnTo>
                    <a:pt x="169" y="1395"/>
                  </a:lnTo>
                  <a:lnTo>
                    <a:pt x="169" y="1389"/>
                  </a:lnTo>
                  <a:lnTo>
                    <a:pt x="181" y="1389"/>
                  </a:lnTo>
                  <a:lnTo>
                    <a:pt x="181" y="1395"/>
                  </a:lnTo>
                  <a:lnTo>
                    <a:pt x="193" y="1395"/>
                  </a:lnTo>
                  <a:lnTo>
                    <a:pt x="193" y="1389"/>
                  </a:lnTo>
                  <a:lnTo>
                    <a:pt x="244" y="1389"/>
                  </a:lnTo>
                  <a:lnTo>
                    <a:pt x="244" y="1384"/>
                  </a:lnTo>
                  <a:lnTo>
                    <a:pt x="318" y="1384"/>
                  </a:lnTo>
                  <a:lnTo>
                    <a:pt x="318" y="1378"/>
                  </a:lnTo>
                  <a:lnTo>
                    <a:pt x="340" y="1378"/>
                  </a:lnTo>
                  <a:lnTo>
                    <a:pt x="340" y="1372"/>
                  </a:lnTo>
                  <a:lnTo>
                    <a:pt x="352" y="1372"/>
                  </a:lnTo>
                  <a:lnTo>
                    <a:pt x="352" y="1378"/>
                  </a:lnTo>
                  <a:lnTo>
                    <a:pt x="369" y="1378"/>
                  </a:lnTo>
                  <a:lnTo>
                    <a:pt x="369" y="1384"/>
                  </a:lnTo>
                  <a:lnTo>
                    <a:pt x="404" y="1384"/>
                  </a:lnTo>
                  <a:lnTo>
                    <a:pt x="404" y="1378"/>
                  </a:lnTo>
                  <a:lnTo>
                    <a:pt x="442" y="1378"/>
                  </a:lnTo>
                  <a:lnTo>
                    <a:pt x="442" y="1372"/>
                  </a:lnTo>
                  <a:lnTo>
                    <a:pt x="460" y="1372"/>
                  </a:lnTo>
                  <a:lnTo>
                    <a:pt x="460" y="1367"/>
                  </a:lnTo>
                  <a:lnTo>
                    <a:pt x="471" y="1367"/>
                  </a:lnTo>
                  <a:lnTo>
                    <a:pt x="471" y="1360"/>
                  </a:lnTo>
                  <a:lnTo>
                    <a:pt x="483" y="1360"/>
                  </a:lnTo>
                  <a:lnTo>
                    <a:pt x="483" y="1367"/>
                  </a:lnTo>
                  <a:lnTo>
                    <a:pt x="556" y="1367"/>
                  </a:lnTo>
                  <a:lnTo>
                    <a:pt x="556" y="1360"/>
                  </a:lnTo>
                  <a:lnTo>
                    <a:pt x="574" y="1360"/>
                  </a:lnTo>
                  <a:lnTo>
                    <a:pt x="574" y="1355"/>
                  </a:lnTo>
                  <a:lnTo>
                    <a:pt x="637" y="1355"/>
                  </a:lnTo>
                  <a:lnTo>
                    <a:pt x="637" y="1350"/>
                  </a:lnTo>
                  <a:lnTo>
                    <a:pt x="853" y="1350"/>
                  </a:lnTo>
                  <a:lnTo>
                    <a:pt x="853" y="1343"/>
                  </a:lnTo>
                  <a:lnTo>
                    <a:pt x="893" y="1343"/>
                  </a:lnTo>
                  <a:lnTo>
                    <a:pt x="893" y="1350"/>
                  </a:lnTo>
                  <a:lnTo>
                    <a:pt x="905" y="1350"/>
                  </a:lnTo>
                  <a:lnTo>
                    <a:pt x="905" y="1343"/>
                  </a:lnTo>
                  <a:lnTo>
                    <a:pt x="972" y="1343"/>
                  </a:lnTo>
                  <a:lnTo>
                    <a:pt x="972" y="1338"/>
                  </a:lnTo>
                  <a:lnTo>
                    <a:pt x="1052" y="1338"/>
                  </a:lnTo>
                  <a:lnTo>
                    <a:pt x="1052" y="1333"/>
                  </a:lnTo>
                  <a:lnTo>
                    <a:pt x="1126" y="1333"/>
                  </a:lnTo>
                  <a:lnTo>
                    <a:pt x="1126" y="1327"/>
                  </a:lnTo>
                  <a:lnTo>
                    <a:pt x="1172" y="1327"/>
                  </a:lnTo>
                  <a:lnTo>
                    <a:pt x="1172" y="1321"/>
                  </a:lnTo>
                  <a:lnTo>
                    <a:pt x="1280" y="1321"/>
                  </a:lnTo>
                  <a:lnTo>
                    <a:pt x="1280" y="1315"/>
                  </a:lnTo>
                  <a:lnTo>
                    <a:pt x="1320" y="1315"/>
                  </a:lnTo>
                  <a:lnTo>
                    <a:pt x="1320" y="1321"/>
                  </a:lnTo>
                  <a:lnTo>
                    <a:pt x="1342" y="1321"/>
                  </a:lnTo>
                  <a:lnTo>
                    <a:pt x="1342" y="1315"/>
                  </a:lnTo>
                  <a:lnTo>
                    <a:pt x="1376" y="1315"/>
                  </a:lnTo>
                  <a:lnTo>
                    <a:pt x="1376" y="1321"/>
                  </a:lnTo>
                  <a:lnTo>
                    <a:pt x="1451" y="1321"/>
                  </a:lnTo>
                  <a:lnTo>
                    <a:pt x="1451" y="1315"/>
                  </a:lnTo>
                  <a:lnTo>
                    <a:pt x="1485" y="1315"/>
                  </a:lnTo>
                  <a:lnTo>
                    <a:pt x="1485" y="1310"/>
                  </a:lnTo>
                  <a:lnTo>
                    <a:pt x="1537" y="1310"/>
                  </a:lnTo>
                  <a:lnTo>
                    <a:pt x="1537" y="1304"/>
                  </a:lnTo>
                  <a:lnTo>
                    <a:pt x="1559" y="1304"/>
                  </a:lnTo>
                  <a:lnTo>
                    <a:pt x="1559" y="1298"/>
                  </a:lnTo>
                  <a:lnTo>
                    <a:pt x="1616" y="1298"/>
                  </a:lnTo>
                  <a:lnTo>
                    <a:pt x="1616" y="1293"/>
                  </a:lnTo>
                  <a:lnTo>
                    <a:pt x="1639" y="1293"/>
                  </a:lnTo>
                  <a:lnTo>
                    <a:pt x="1639" y="1286"/>
                  </a:lnTo>
                  <a:lnTo>
                    <a:pt x="1689" y="1286"/>
                  </a:lnTo>
                  <a:lnTo>
                    <a:pt x="1689" y="1281"/>
                  </a:lnTo>
                  <a:lnTo>
                    <a:pt x="1775" y="1281"/>
                  </a:lnTo>
                  <a:lnTo>
                    <a:pt x="1775" y="1276"/>
                  </a:lnTo>
                  <a:lnTo>
                    <a:pt x="1946" y="1276"/>
                  </a:lnTo>
                  <a:lnTo>
                    <a:pt x="1946" y="1270"/>
                  </a:lnTo>
                  <a:lnTo>
                    <a:pt x="2043" y="1270"/>
                  </a:lnTo>
                  <a:lnTo>
                    <a:pt x="2043" y="1264"/>
                  </a:lnTo>
                  <a:lnTo>
                    <a:pt x="2122" y="1264"/>
                  </a:lnTo>
                  <a:lnTo>
                    <a:pt x="2122" y="1258"/>
                  </a:lnTo>
                  <a:lnTo>
                    <a:pt x="2362" y="1258"/>
                  </a:lnTo>
                  <a:lnTo>
                    <a:pt x="2362" y="1264"/>
                  </a:lnTo>
                  <a:lnTo>
                    <a:pt x="2395" y="1264"/>
                  </a:lnTo>
                  <a:lnTo>
                    <a:pt x="2395" y="1258"/>
                  </a:lnTo>
                  <a:lnTo>
                    <a:pt x="2452" y="1258"/>
                  </a:lnTo>
                  <a:lnTo>
                    <a:pt x="2452" y="1264"/>
                  </a:lnTo>
                  <a:lnTo>
                    <a:pt x="2481" y="1264"/>
                  </a:lnTo>
                  <a:lnTo>
                    <a:pt x="2481" y="1258"/>
                  </a:lnTo>
                  <a:lnTo>
                    <a:pt x="2554" y="1258"/>
                  </a:lnTo>
                  <a:lnTo>
                    <a:pt x="2554" y="1253"/>
                  </a:lnTo>
                  <a:lnTo>
                    <a:pt x="2611" y="1253"/>
                  </a:lnTo>
                  <a:lnTo>
                    <a:pt x="2611" y="1247"/>
                  </a:lnTo>
                  <a:lnTo>
                    <a:pt x="2658" y="1247"/>
                  </a:lnTo>
                  <a:lnTo>
                    <a:pt x="2658" y="1241"/>
                  </a:lnTo>
                  <a:lnTo>
                    <a:pt x="2680" y="1241"/>
                  </a:lnTo>
                  <a:lnTo>
                    <a:pt x="2680" y="1236"/>
                  </a:lnTo>
                  <a:lnTo>
                    <a:pt x="2715" y="1236"/>
                  </a:lnTo>
                  <a:lnTo>
                    <a:pt x="2715" y="1229"/>
                  </a:lnTo>
                  <a:lnTo>
                    <a:pt x="2732" y="1229"/>
                  </a:lnTo>
                  <a:lnTo>
                    <a:pt x="2732" y="1236"/>
                  </a:lnTo>
                  <a:lnTo>
                    <a:pt x="2743" y="1236"/>
                  </a:lnTo>
                  <a:lnTo>
                    <a:pt x="2743" y="1229"/>
                  </a:lnTo>
                  <a:lnTo>
                    <a:pt x="2754" y="1229"/>
                  </a:lnTo>
                  <a:lnTo>
                    <a:pt x="2754" y="1236"/>
                  </a:lnTo>
                  <a:lnTo>
                    <a:pt x="2789" y="1236"/>
                  </a:lnTo>
                  <a:lnTo>
                    <a:pt x="2789" y="1229"/>
                  </a:lnTo>
                  <a:lnTo>
                    <a:pt x="2800" y="1229"/>
                  </a:lnTo>
                  <a:lnTo>
                    <a:pt x="2800" y="1224"/>
                  </a:lnTo>
                  <a:lnTo>
                    <a:pt x="2840" y="1224"/>
                  </a:lnTo>
                  <a:lnTo>
                    <a:pt x="2840" y="1219"/>
                  </a:lnTo>
                  <a:lnTo>
                    <a:pt x="2879" y="1219"/>
                  </a:lnTo>
                  <a:lnTo>
                    <a:pt x="2879" y="1213"/>
                  </a:lnTo>
                  <a:lnTo>
                    <a:pt x="2896" y="1213"/>
                  </a:lnTo>
                  <a:lnTo>
                    <a:pt x="2896" y="1207"/>
                  </a:lnTo>
                  <a:lnTo>
                    <a:pt x="2913" y="1207"/>
                  </a:lnTo>
                  <a:lnTo>
                    <a:pt x="2913" y="1201"/>
                  </a:lnTo>
                  <a:lnTo>
                    <a:pt x="2931" y="1201"/>
                  </a:lnTo>
                  <a:lnTo>
                    <a:pt x="2931" y="1196"/>
                  </a:lnTo>
                  <a:lnTo>
                    <a:pt x="2943" y="1196"/>
                  </a:lnTo>
                  <a:lnTo>
                    <a:pt x="2943" y="1190"/>
                  </a:lnTo>
                  <a:lnTo>
                    <a:pt x="2948" y="1190"/>
                  </a:lnTo>
                  <a:lnTo>
                    <a:pt x="2948" y="1184"/>
                  </a:lnTo>
                  <a:lnTo>
                    <a:pt x="2959" y="1184"/>
                  </a:lnTo>
                  <a:lnTo>
                    <a:pt x="2959" y="1179"/>
                  </a:lnTo>
                  <a:lnTo>
                    <a:pt x="2965" y="1179"/>
                  </a:lnTo>
                  <a:lnTo>
                    <a:pt x="2965" y="1172"/>
                  </a:lnTo>
                  <a:lnTo>
                    <a:pt x="2970" y="1172"/>
                  </a:lnTo>
                  <a:lnTo>
                    <a:pt x="2970" y="1167"/>
                  </a:lnTo>
                  <a:lnTo>
                    <a:pt x="2976" y="1167"/>
                  </a:lnTo>
                  <a:lnTo>
                    <a:pt x="2976" y="1162"/>
                  </a:lnTo>
                  <a:lnTo>
                    <a:pt x="2988" y="1162"/>
                  </a:lnTo>
                  <a:lnTo>
                    <a:pt x="2988" y="1156"/>
                  </a:lnTo>
                  <a:lnTo>
                    <a:pt x="2993" y="1156"/>
                  </a:lnTo>
                  <a:lnTo>
                    <a:pt x="2993" y="1088"/>
                  </a:lnTo>
                  <a:lnTo>
                    <a:pt x="2988" y="1088"/>
                  </a:lnTo>
                  <a:lnTo>
                    <a:pt x="2988" y="1065"/>
                  </a:lnTo>
                  <a:lnTo>
                    <a:pt x="2982" y="1065"/>
                  </a:lnTo>
                  <a:lnTo>
                    <a:pt x="2982" y="974"/>
                  </a:lnTo>
                  <a:lnTo>
                    <a:pt x="2988" y="974"/>
                  </a:lnTo>
                  <a:lnTo>
                    <a:pt x="2988" y="939"/>
                  </a:lnTo>
                  <a:lnTo>
                    <a:pt x="2982" y="939"/>
                  </a:lnTo>
                  <a:lnTo>
                    <a:pt x="2982" y="882"/>
                  </a:lnTo>
                  <a:lnTo>
                    <a:pt x="2976" y="882"/>
                  </a:lnTo>
                  <a:lnTo>
                    <a:pt x="2976" y="872"/>
                  </a:lnTo>
                  <a:lnTo>
                    <a:pt x="2982" y="872"/>
                  </a:lnTo>
                  <a:lnTo>
                    <a:pt x="2982" y="854"/>
                  </a:lnTo>
                  <a:lnTo>
                    <a:pt x="2988" y="854"/>
                  </a:lnTo>
                  <a:lnTo>
                    <a:pt x="2988" y="746"/>
                  </a:lnTo>
                  <a:lnTo>
                    <a:pt x="2982" y="746"/>
                  </a:lnTo>
                  <a:lnTo>
                    <a:pt x="2982" y="678"/>
                  </a:lnTo>
                  <a:lnTo>
                    <a:pt x="2976" y="678"/>
                  </a:lnTo>
                  <a:lnTo>
                    <a:pt x="2976" y="627"/>
                  </a:lnTo>
                  <a:lnTo>
                    <a:pt x="2970" y="627"/>
                  </a:lnTo>
                  <a:lnTo>
                    <a:pt x="2970" y="604"/>
                  </a:lnTo>
                  <a:lnTo>
                    <a:pt x="2976" y="604"/>
                  </a:lnTo>
                  <a:lnTo>
                    <a:pt x="2976" y="587"/>
                  </a:lnTo>
                  <a:lnTo>
                    <a:pt x="2970" y="587"/>
                  </a:lnTo>
                  <a:lnTo>
                    <a:pt x="2970" y="421"/>
                  </a:lnTo>
                  <a:lnTo>
                    <a:pt x="2965" y="421"/>
                  </a:lnTo>
                  <a:lnTo>
                    <a:pt x="2965" y="411"/>
                  </a:lnTo>
                  <a:lnTo>
                    <a:pt x="2953" y="411"/>
                  </a:lnTo>
                  <a:lnTo>
                    <a:pt x="2953" y="404"/>
                  </a:lnTo>
                  <a:lnTo>
                    <a:pt x="2931" y="404"/>
                  </a:lnTo>
                  <a:lnTo>
                    <a:pt x="2931" y="399"/>
                  </a:lnTo>
                  <a:lnTo>
                    <a:pt x="2902" y="399"/>
                  </a:lnTo>
                  <a:lnTo>
                    <a:pt x="2902" y="393"/>
                  </a:lnTo>
                  <a:lnTo>
                    <a:pt x="2886" y="393"/>
                  </a:lnTo>
                  <a:lnTo>
                    <a:pt x="2886" y="388"/>
                  </a:lnTo>
                  <a:lnTo>
                    <a:pt x="2874" y="388"/>
                  </a:lnTo>
                  <a:lnTo>
                    <a:pt x="2874" y="382"/>
                  </a:lnTo>
                  <a:lnTo>
                    <a:pt x="2857" y="382"/>
                  </a:lnTo>
                  <a:lnTo>
                    <a:pt x="2857" y="376"/>
                  </a:lnTo>
                  <a:lnTo>
                    <a:pt x="2840" y="376"/>
                  </a:lnTo>
                  <a:lnTo>
                    <a:pt x="2840" y="371"/>
                  </a:lnTo>
                  <a:lnTo>
                    <a:pt x="2823" y="371"/>
                  </a:lnTo>
                  <a:lnTo>
                    <a:pt x="2823" y="364"/>
                  </a:lnTo>
                  <a:lnTo>
                    <a:pt x="2794" y="364"/>
                  </a:lnTo>
                  <a:lnTo>
                    <a:pt x="2794" y="359"/>
                  </a:lnTo>
                  <a:lnTo>
                    <a:pt x="2772" y="359"/>
                  </a:lnTo>
                  <a:lnTo>
                    <a:pt x="2772" y="354"/>
                  </a:lnTo>
                  <a:lnTo>
                    <a:pt x="2749" y="354"/>
                  </a:lnTo>
                  <a:lnTo>
                    <a:pt x="2749" y="347"/>
                  </a:lnTo>
                  <a:lnTo>
                    <a:pt x="2732" y="347"/>
                  </a:lnTo>
                  <a:lnTo>
                    <a:pt x="2732" y="342"/>
                  </a:lnTo>
                  <a:lnTo>
                    <a:pt x="2709" y="342"/>
                  </a:lnTo>
                  <a:lnTo>
                    <a:pt x="2709" y="336"/>
                  </a:lnTo>
                  <a:lnTo>
                    <a:pt x="2675" y="336"/>
                  </a:lnTo>
                  <a:lnTo>
                    <a:pt x="2675" y="331"/>
                  </a:lnTo>
                  <a:lnTo>
                    <a:pt x="2658" y="331"/>
                  </a:lnTo>
                  <a:lnTo>
                    <a:pt x="2658" y="325"/>
                  </a:lnTo>
                  <a:lnTo>
                    <a:pt x="2635" y="325"/>
                  </a:lnTo>
                  <a:lnTo>
                    <a:pt x="2635" y="319"/>
                  </a:lnTo>
                  <a:lnTo>
                    <a:pt x="2618" y="319"/>
                  </a:lnTo>
                  <a:lnTo>
                    <a:pt x="2618" y="314"/>
                  </a:lnTo>
                  <a:lnTo>
                    <a:pt x="2606" y="314"/>
                  </a:lnTo>
                  <a:lnTo>
                    <a:pt x="2606" y="307"/>
                  </a:lnTo>
                  <a:lnTo>
                    <a:pt x="2595" y="307"/>
                  </a:lnTo>
                  <a:lnTo>
                    <a:pt x="2595" y="302"/>
                  </a:lnTo>
                  <a:lnTo>
                    <a:pt x="2578" y="302"/>
                  </a:lnTo>
                  <a:lnTo>
                    <a:pt x="2578" y="297"/>
                  </a:lnTo>
                  <a:lnTo>
                    <a:pt x="2566" y="297"/>
                  </a:lnTo>
                  <a:lnTo>
                    <a:pt x="2566" y="290"/>
                  </a:lnTo>
                  <a:lnTo>
                    <a:pt x="2554" y="290"/>
                  </a:lnTo>
                  <a:lnTo>
                    <a:pt x="2554" y="285"/>
                  </a:lnTo>
                  <a:lnTo>
                    <a:pt x="2538" y="285"/>
                  </a:lnTo>
                  <a:lnTo>
                    <a:pt x="2538" y="280"/>
                  </a:lnTo>
                  <a:lnTo>
                    <a:pt x="2532" y="280"/>
                  </a:lnTo>
                  <a:lnTo>
                    <a:pt x="2532" y="274"/>
                  </a:lnTo>
                  <a:lnTo>
                    <a:pt x="2521" y="274"/>
                  </a:lnTo>
                  <a:lnTo>
                    <a:pt x="2521" y="268"/>
                  </a:lnTo>
                  <a:lnTo>
                    <a:pt x="2509" y="268"/>
                  </a:lnTo>
                  <a:lnTo>
                    <a:pt x="2509" y="262"/>
                  </a:lnTo>
                  <a:lnTo>
                    <a:pt x="2504" y="262"/>
                  </a:lnTo>
                  <a:lnTo>
                    <a:pt x="2504" y="257"/>
                  </a:lnTo>
                  <a:lnTo>
                    <a:pt x="2492" y="257"/>
                  </a:lnTo>
                  <a:lnTo>
                    <a:pt x="2492" y="251"/>
                  </a:lnTo>
                  <a:lnTo>
                    <a:pt x="2481" y="251"/>
                  </a:lnTo>
                  <a:lnTo>
                    <a:pt x="2481" y="245"/>
                  </a:lnTo>
                  <a:lnTo>
                    <a:pt x="2470" y="245"/>
                  </a:lnTo>
                  <a:lnTo>
                    <a:pt x="2470" y="240"/>
                  </a:lnTo>
                  <a:lnTo>
                    <a:pt x="2458" y="240"/>
                  </a:lnTo>
                  <a:lnTo>
                    <a:pt x="2458" y="233"/>
                  </a:lnTo>
                  <a:lnTo>
                    <a:pt x="2447" y="233"/>
                  </a:lnTo>
                  <a:lnTo>
                    <a:pt x="2447" y="228"/>
                  </a:lnTo>
                  <a:lnTo>
                    <a:pt x="2435" y="228"/>
                  </a:lnTo>
                  <a:lnTo>
                    <a:pt x="2435" y="223"/>
                  </a:lnTo>
                  <a:lnTo>
                    <a:pt x="2424" y="223"/>
                  </a:lnTo>
                  <a:lnTo>
                    <a:pt x="2424" y="217"/>
                  </a:lnTo>
                  <a:lnTo>
                    <a:pt x="2413" y="217"/>
                  </a:lnTo>
                  <a:lnTo>
                    <a:pt x="2413" y="211"/>
                  </a:lnTo>
                  <a:lnTo>
                    <a:pt x="2402" y="211"/>
                  </a:lnTo>
                  <a:lnTo>
                    <a:pt x="2402" y="205"/>
                  </a:lnTo>
                  <a:lnTo>
                    <a:pt x="2385" y="205"/>
                  </a:lnTo>
                  <a:lnTo>
                    <a:pt x="2385" y="200"/>
                  </a:lnTo>
                  <a:lnTo>
                    <a:pt x="2373" y="200"/>
                  </a:lnTo>
                  <a:lnTo>
                    <a:pt x="2373" y="195"/>
                  </a:lnTo>
                  <a:lnTo>
                    <a:pt x="2356" y="195"/>
                  </a:lnTo>
                  <a:lnTo>
                    <a:pt x="2356" y="188"/>
                  </a:lnTo>
                  <a:lnTo>
                    <a:pt x="2345" y="188"/>
                  </a:lnTo>
                  <a:lnTo>
                    <a:pt x="2345" y="183"/>
                  </a:lnTo>
                  <a:lnTo>
                    <a:pt x="2333" y="183"/>
                  </a:lnTo>
                  <a:lnTo>
                    <a:pt x="2333" y="177"/>
                  </a:lnTo>
                  <a:lnTo>
                    <a:pt x="2321" y="177"/>
                  </a:lnTo>
                  <a:lnTo>
                    <a:pt x="2321" y="172"/>
                  </a:lnTo>
                  <a:lnTo>
                    <a:pt x="2305" y="172"/>
                  </a:lnTo>
                  <a:lnTo>
                    <a:pt x="2305" y="166"/>
                  </a:lnTo>
                  <a:lnTo>
                    <a:pt x="2293" y="166"/>
                  </a:lnTo>
                  <a:lnTo>
                    <a:pt x="2293" y="160"/>
                  </a:lnTo>
                  <a:lnTo>
                    <a:pt x="2271" y="160"/>
                  </a:lnTo>
                  <a:lnTo>
                    <a:pt x="2271" y="155"/>
                  </a:lnTo>
                  <a:lnTo>
                    <a:pt x="2248" y="155"/>
                  </a:lnTo>
                  <a:lnTo>
                    <a:pt x="2248" y="148"/>
                  </a:lnTo>
                  <a:lnTo>
                    <a:pt x="2231" y="148"/>
                  </a:lnTo>
                  <a:lnTo>
                    <a:pt x="2231" y="143"/>
                  </a:lnTo>
                  <a:lnTo>
                    <a:pt x="2214" y="143"/>
                  </a:lnTo>
                  <a:lnTo>
                    <a:pt x="2214" y="138"/>
                  </a:lnTo>
                  <a:lnTo>
                    <a:pt x="2202" y="138"/>
                  </a:lnTo>
                  <a:lnTo>
                    <a:pt x="2202" y="131"/>
                  </a:lnTo>
                  <a:lnTo>
                    <a:pt x="2191" y="131"/>
                  </a:lnTo>
                  <a:lnTo>
                    <a:pt x="2191" y="126"/>
                  </a:lnTo>
                  <a:lnTo>
                    <a:pt x="2168" y="126"/>
                  </a:lnTo>
                  <a:lnTo>
                    <a:pt x="2168" y="120"/>
                  </a:lnTo>
                  <a:lnTo>
                    <a:pt x="2162" y="120"/>
                  </a:lnTo>
                  <a:lnTo>
                    <a:pt x="2162" y="114"/>
                  </a:lnTo>
                  <a:lnTo>
                    <a:pt x="2150" y="114"/>
                  </a:lnTo>
                  <a:lnTo>
                    <a:pt x="2150" y="109"/>
                  </a:lnTo>
                  <a:lnTo>
                    <a:pt x="2140" y="109"/>
                  </a:lnTo>
                  <a:lnTo>
                    <a:pt x="2140" y="103"/>
                  </a:lnTo>
                  <a:lnTo>
                    <a:pt x="2134" y="103"/>
                  </a:lnTo>
                  <a:lnTo>
                    <a:pt x="2134" y="98"/>
                  </a:lnTo>
                  <a:lnTo>
                    <a:pt x="2122" y="98"/>
                  </a:lnTo>
                  <a:lnTo>
                    <a:pt x="2122" y="91"/>
                  </a:lnTo>
                  <a:lnTo>
                    <a:pt x="2111" y="91"/>
                  </a:lnTo>
                  <a:lnTo>
                    <a:pt x="2111" y="86"/>
                  </a:lnTo>
                  <a:lnTo>
                    <a:pt x="2100" y="86"/>
                  </a:lnTo>
                  <a:lnTo>
                    <a:pt x="2100" y="81"/>
                  </a:lnTo>
                  <a:lnTo>
                    <a:pt x="2088" y="81"/>
                  </a:lnTo>
                  <a:lnTo>
                    <a:pt x="2088" y="74"/>
                  </a:lnTo>
                  <a:lnTo>
                    <a:pt x="2083" y="74"/>
                  </a:lnTo>
                  <a:lnTo>
                    <a:pt x="2083" y="69"/>
                  </a:lnTo>
                  <a:lnTo>
                    <a:pt x="2071" y="69"/>
                  </a:lnTo>
                  <a:lnTo>
                    <a:pt x="2071" y="64"/>
                  </a:lnTo>
                  <a:lnTo>
                    <a:pt x="2054" y="64"/>
                  </a:lnTo>
                  <a:lnTo>
                    <a:pt x="2054" y="57"/>
                  </a:lnTo>
                  <a:lnTo>
                    <a:pt x="2043" y="57"/>
                  </a:lnTo>
                  <a:lnTo>
                    <a:pt x="2043" y="52"/>
                  </a:lnTo>
                  <a:lnTo>
                    <a:pt x="2026" y="52"/>
                  </a:lnTo>
                  <a:lnTo>
                    <a:pt x="2026" y="46"/>
                  </a:lnTo>
                  <a:lnTo>
                    <a:pt x="2015" y="46"/>
                  </a:lnTo>
                  <a:lnTo>
                    <a:pt x="2015" y="41"/>
                  </a:lnTo>
                  <a:lnTo>
                    <a:pt x="2008" y="41"/>
                  </a:lnTo>
                  <a:lnTo>
                    <a:pt x="2008" y="35"/>
                  </a:lnTo>
                  <a:lnTo>
                    <a:pt x="1998" y="35"/>
                  </a:lnTo>
                  <a:lnTo>
                    <a:pt x="1998" y="29"/>
                  </a:lnTo>
                  <a:lnTo>
                    <a:pt x="1986" y="29"/>
                  </a:lnTo>
                  <a:lnTo>
                    <a:pt x="1986" y="24"/>
                  </a:lnTo>
                  <a:lnTo>
                    <a:pt x="1974" y="24"/>
                  </a:lnTo>
                  <a:lnTo>
                    <a:pt x="1974" y="17"/>
                  </a:lnTo>
                  <a:lnTo>
                    <a:pt x="1963" y="17"/>
                  </a:lnTo>
                  <a:lnTo>
                    <a:pt x="1963" y="12"/>
                  </a:lnTo>
                  <a:lnTo>
                    <a:pt x="1946" y="12"/>
                  </a:lnTo>
                  <a:lnTo>
                    <a:pt x="1946" y="0"/>
                  </a:lnTo>
                  <a:lnTo>
                    <a:pt x="1974" y="0"/>
                  </a:lnTo>
                  <a:lnTo>
                    <a:pt x="1974" y="7"/>
                  </a:lnTo>
                  <a:lnTo>
                    <a:pt x="1986" y="7"/>
                  </a:lnTo>
                  <a:lnTo>
                    <a:pt x="1986" y="12"/>
                  </a:lnTo>
                  <a:lnTo>
                    <a:pt x="1998" y="12"/>
                  </a:lnTo>
                  <a:lnTo>
                    <a:pt x="1998" y="17"/>
                  </a:lnTo>
                  <a:lnTo>
                    <a:pt x="2003" y="17"/>
                  </a:lnTo>
                  <a:lnTo>
                    <a:pt x="2003" y="24"/>
                  </a:lnTo>
                  <a:lnTo>
                    <a:pt x="2048" y="24"/>
                  </a:lnTo>
                  <a:lnTo>
                    <a:pt x="2048" y="29"/>
                  </a:lnTo>
                  <a:lnTo>
                    <a:pt x="2054" y="29"/>
                  </a:lnTo>
                  <a:lnTo>
                    <a:pt x="2054" y="35"/>
                  </a:lnTo>
                  <a:lnTo>
                    <a:pt x="2071" y="35"/>
                  </a:lnTo>
                  <a:lnTo>
                    <a:pt x="2071" y="41"/>
                  </a:lnTo>
                  <a:lnTo>
                    <a:pt x="2083" y="41"/>
                  </a:lnTo>
                  <a:lnTo>
                    <a:pt x="2083" y="46"/>
                  </a:lnTo>
                  <a:lnTo>
                    <a:pt x="2093" y="46"/>
                  </a:lnTo>
                  <a:lnTo>
                    <a:pt x="2093" y="52"/>
                  </a:lnTo>
                  <a:lnTo>
                    <a:pt x="2105" y="52"/>
                  </a:lnTo>
                  <a:lnTo>
                    <a:pt x="2105" y="57"/>
                  </a:lnTo>
                  <a:lnTo>
                    <a:pt x="2122" y="57"/>
                  </a:lnTo>
                  <a:lnTo>
                    <a:pt x="2122" y="64"/>
                  </a:lnTo>
                  <a:lnTo>
                    <a:pt x="2134" y="64"/>
                  </a:lnTo>
                  <a:lnTo>
                    <a:pt x="2134" y="69"/>
                  </a:lnTo>
                  <a:lnTo>
                    <a:pt x="2150" y="69"/>
                  </a:lnTo>
                  <a:lnTo>
                    <a:pt x="2150" y="74"/>
                  </a:lnTo>
                  <a:lnTo>
                    <a:pt x="2168" y="74"/>
                  </a:lnTo>
                  <a:lnTo>
                    <a:pt x="2168" y="81"/>
                  </a:lnTo>
                  <a:lnTo>
                    <a:pt x="2179" y="81"/>
                  </a:lnTo>
                  <a:lnTo>
                    <a:pt x="2179" y="86"/>
                  </a:lnTo>
                  <a:lnTo>
                    <a:pt x="2202" y="86"/>
                  </a:lnTo>
                  <a:lnTo>
                    <a:pt x="2202" y="91"/>
                  </a:lnTo>
                  <a:lnTo>
                    <a:pt x="2225" y="91"/>
                  </a:lnTo>
                  <a:lnTo>
                    <a:pt x="2225" y="98"/>
                  </a:lnTo>
                  <a:lnTo>
                    <a:pt x="2236" y="98"/>
                  </a:lnTo>
                  <a:lnTo>
                    <a:pt x="2236" y="103"/>
                  </a:lnTo>
                  <a:lnTo>
                    <a:pt x="2248" y="103"/>
                  </a:lnTo>
                  <a:lnTo>
                    <a:pt x="2248" y="109"/>
                  </a:lnTo>
                  <a:lnTo>
                    <a:pt x="2276" y="109"/>
                  </a:lnTo>
                  <a:lnTo>
                    <a:pt x="2276" y="114"/>
                  </a:lnTo>
                  <a:lnTo>
                    <a:pt x="2288" y="114"/>
                  </a:lnTo>
                  <a:lnTo>
                    <a:pt x="2288" y="120"/>
                  </a:lnTo>
                  <a:lnTo>
                    <a:pt x="2299" y="120"/>
                  </a:lnTo>
                  <a:lnTo>
                    <a:pt x="2299" y="126"/>
                  </a:lnTo>
                  <a:lnTo>
                    <a:pt x="2321" y="126"/>
                  </a:lnTo>
                  <a:lnTo>
                    <a:pt x="2321" y="131"/>
                  </a:lnTo>
                  <a:lnTo>
                    <a:pt x="2333" y="131"/>
                  </a:lnTo>
                  <a:lnTo>
                    <a:pt x="2333" y="138"/>
                  </a:lnTo>
                  <a:lnTo>
                    <a:pt x="2350" y="138"/>
                  </a:lnTo>
                  <a:lnTo>
                    <a:pt x="2350" y="143"/>
                  </a:lnTo>
                  <a:lnTo>
                    <a:pt x="2362" y="143"/>
                  </a:lnTo>
                  <a:lnTo>
                    <a:pt x="2362" y="148"/>
                  </a:lnTo>
                  <a:lnTo>
                    <a:pt x="2378" y="148"/>
                  </a:lnTo>
                  <a:lnTo>
                    <a:pt x="2378" y="155"/>
                  </a:lnTo>
                  <a:lnTo>
                    <a:pt x="2385" y="155"/>
                  </a:lnTo>
                  <a:lnTo>
                    <a:pt x="2385" y="160"/>
                  </a:lnTo>
                  <a:lnTo>
                    <a:pt x="2395" y="160"/>
                  </a:lnTo>
                  <a:lnTo>
                    <a:pt x="2395" y="166"/>
                  </a:lnTo>
                  <a:lnTo>
                    <a:pt x="2419" y="166"/>
                  </a:lnTo>
                  <a:lnTo>
                    <a:pt x="2419" y="172"/>
                  </a:lnTo>
                  <a:lnTo>
                    <a:pt x="2435" y="172"/>
                  </a:lnTo>
                  <a:lnTo>
                    <a:pt x="2435" y="177"/>
                  </a:lnTo>
                  <a:lnTo>
                    <a:pt x="2458" y="177"/>
                  </a:lnTo>
                  <a:lnTo>
                    <a:pt x="2458" y="183"/>
                  </a:lnTo>
                  <a:lnTo>
                    <a:pt x="2475" y="183"/>
                  </a:lnTo>
                  <a:lnTo>
                    <a:pt x="2475" y="188"/>
                  </a:lnTo>
                  <a:lnTo>
                    <a:pt x="2487" y="188"/>
                  </a:lnTo>
                  <a:lnTo>
                    <a:pt x="2487" y="195"/>
                  </a:lnTo>
                  <a:lnTo>
                    <a:pt x="2509" y="195"/>
                  </a:lnTo>
                  <a:lnTo>
                    <a:pt x="2509" y="200"/>
                  </a:lnTo>
                  <a:lnTo>
                    <a:pt x="2527" y="200"/>
                  </a:lnTo>
                  <a:lnTo>
                    <a:pt x="2527" y="205"/>
                  </a:lnTo>
                  <a:lnTo>
                    <a:pt x="2538" y="205"/>
                  </a:lnTo>
                  <a:lnTo>
                    <a:pt x="2538" y="211"/>
                  </a:lnTo>
                  <a:lnTo>
                    <a:pt x="2561" y="211"/>
                  </a:lnTo>
                  <a:lnTo>
                    <a:pt x="2561" y="217"/>
                  </a:lnTo>
                  <a:lnTo>
                    <a:pt x="2578" y="217"/>
                  </a:lnTo>
                  <a:lnTo>
                    <a:pt x="2578" y="223"/>
                  </a:lnTo>
                  <a:lnTo>
                    <a:pt x="2589" y="223"/>
                  </a:lnTo>
                  <a:lnTo>
                    <a:pt x="2589" y="228"/>
                  </a:lnTo>
                  <a:lnTo>
                    <a:pt x="2606" y="228"/>
                  </a:lnTo>
                  <a:lnTo>
                    <a:pt x="2606" y="233"/>
                  </a:lnTo>
                  <a:lnTo>
                    <a:pt x="2618" y="233"/>
                  </a:lnTo>
                  <a:lnTo>
                    <a:pt x="2618" y="240"/>
                  </a:lnTo>
                  <a:lnTo>
                    <a:pt x="2635" y="240"/>
                  </a:lnTo>
                  <a:lnTo>
                    <a:pt x="2635" y="245"/>
                  </a:lnTo>
                  <a:lnTo>
                    <a:pt x="2652" y="245"/>
                  </a:lnTo>
                  <a:lnTo>
                    <a:pt x="2652" y="251"/>
                  </a:lnTo>
                  <a:lnTo>
                    <a:pt x="2658" y="251"/>
                  </a:lnTo>
                  <a:lnTo>
                    <a:pt x="2658" y="257"/>
                  </a:lnTo>
                  <a:lnTo>
                    <a:pt x="2668" y="257"/>
                  </a:lnTo>
                  <a:lnTo>
                    <a:pt x="2668" y="262"/>
                  </a:lnTo>
                  <a:lnTo>
                    <a:pt x="2680" y="262"/>
                  </a:lnTo>
                  <a:lnTo>
                    <a:pt x="2680" y="268"/>
                  </a:lnTo>
                  <a:lnTo>
                    <a:pt x="2692" y="268"/>
                  </a:lnTo>
                  <a:lnTo>
                    <a:pt x="2692" y="274"/>
                  </a:lnTo>
                  <a:lnTo>
                    <a:pt x="2709" y="274"/>
                  </a:lnTo>
                  <a:lnTo>
                    <a:pt x="2709" y="280"/>
                  </a:lnTo>
                  <a:lnTo>
                    <a:pt x="2715" y="280"/>
                  </a:lnTo>
                  <a:lnTo>
                    <a:pt x="2715" y="285"/>
                  </a:lnTo>
                  <a:lnTo>
                    <a:pt x="2732" y="285"/>
                  </a:lnTo>
                  <a:lnTo>
                    <a:pt x="2732" y="290"/>
                  </a:lnTo>
                  <a:lnTo>
                    <a:pt x="2743" y="290"/>
                  </a:lnTo>
                  <a:lnTo>
                    <a:pt x="2743" y="297"/>
                  </a:lnTo>
                  <a:lnTo>
                    <a:pt x="2754" y="297"/>
                  </a:lnTo>
                  <a:lnTo>
                    <a:pt x="2754" y="302"/>
                  </a:lnTo>
                  <a:lnTo>
                    <a:pt x="2772" y="302"/>
                  </a:lnTo>
                  <a:lnTo>
                    <a:pt x="2772" y="307"/>
                  </a:lnTo>
                  <a:lnTo>
                    <a:pt x="2789" y="307"/>
                  </a:lnTo>
                  <a:lnTo>
                    <a:pt x="2789" y="314"/>
                  </a:lnTo>
                  <a:lnTo>
                    <a:pt x="2817" y="314"/>
                  </a:lnTo>
                  <a:lnTo>
                    <a:pt x="2817" y="319"/>
                  </a:lnTo>
                  <a:lnTo>
                    <a:pt x="2829" y="319"/>
                  </a:lnTo>
                  <a:lnTo>
                    <a:pt x="2829" y="325"/>
                  </a:lnTo>
                  <a:lnTo>
                    <a:pt x="2851" y="325"/>
                  </a:lnTo>
                  <a:lnTo>
                    <a:pt x="2851" y="331"/>
                  </a:lnTo>
                  <a:lnTo>
                    <a:pt x="2862" y="331"/>
                  </a:lnTo>
                  <a:lnTo>
                    <a:pt x="2862" y="336"/>
                  </a:lnTo>
                  <a:lnTo>
                    <a:pt x="2874" y="336"/>
                  </a:lnTo>
                  <a:lnTo>
                    <a:pt x="2874" y="342"/>
                  </a:lnTo>
                  <a:lnTo>
                    <a:pt x="2886" y="342"/>
                  </a:lnTo>
                  <a:lnTo>
                    <a:pt x="2886" y="347"/>
                  </a:lnTo>
                  <a:lnTo>
                    <a:pt x="2896" y="347"/>
                  </a:lnTo>
                  <a:lnTo>
                    <a:pt x="2896" y="354"/>
                  </a:lnTo>
                  <a:lnTo>
                    <a:pt x="2908" y="354"/>
                  </a:lnTo>
                  <a:lnTo>
                    <a:pt x="2908" y="359"/>
                  </a:lnTo>
                  <a:lnTo>
                    <a:pt x="2919" y="359"/>
                  </a:lnTo>
                  <a:lnTo>
                    <a:pt x="2919" y="364"/>
                  </a:lnTo>
                  <a:lnTo>
                    <a:pt x="2931" y="364"/>
                  </a:lnTo>
                  <a:lnTo>
                    <a:pt x="2931" y="371"/>
                  </a:lnTo>
                  <a:lnTo>
                    <a:pt x="2943" y="371"/>
                  </a:lnTo>
                  <a:lnTo>
                    <a:pt x="2943" y="376"/>
                  </a:lnTo>
                  <a:lnTo>
                    <a:pt x="2953" y="376"/>
                  </a:lnTo>
                  <a:lnTo>
                    <a:pt x="2953" y="382"/>
                  </a:lnTo>
                  <a:lnTo>
                    <a:pt x="2970" y="382"/>
                  </a:lnTo>
                  <a:lnTo>
                    <a:pt x="2970" y="376"/>
                  </a:lnTo>
                  <a:lnTo>
                    <a:pt x="2988" y="376"/>
                  </a:lnTo>
                  <a:lnTo>
                    <a:pt x="2988" y="382"/>
                  </a:lnTo>
                  <a:lnTo>
                    <a:pt x="2999" y="382"/>
                  </a:lnTo>
                  <a:lnTo>
                    <a:pt x="2999" y="445"/>
                  </a:lnTo>
                  <a:lnTo>
                    <a:pt x="3005" y="445"/>
                  </a:lnTo>
                  <a:lnTo>
                    <a:pt x="3005" y="473"/>
                  </a:lnTo>
                  <a:lnTo>
                    <a:pt x="2999" y="473"/>
                  </a:lnTo>
                  <a:lnTo>
                    <a:pt x="2999" y="599"/>
                  </a:lnTo>
                  <a:lnTo>
                    <a:pt x="3005" y="599"/>
                  </a:lnTo>
                  <a:lnTo>
                    <a:pt x="3005" y="666"/>
                  </a:lnTo>
                  <a:lnTo>
                    <a:pt x="3010" y="666"/>
                  </a:lnTo>
                  <a:lnTo>
                    <a:pt x="3010" y="718"/>
                  </a:lnTo>
                  <a:lnTo>
                    <a:pt x="3016" y="718"/>
                  </a:lnTo>
                  <a:lnTo>
                    <a:pt x="3016" y="735"/>
                  </a:lnTo>
                  <a:lnTo>
                    <a:pt x="3022" y="735"/>
                  </a:lnTo>
                  <a:lnTo>
                    <a:pt x="3022" y="797"/>
                  </a:lnTo>
                  <a:lnTo>
                    <a:pt x="3027" y="797"/>
                  </a:lnTo>
                  <a:lnTo>
                    <a:pt x="3027" y="832"/>
                  </a:lnTo>
                  <a:lnTo>
                    <a:pt x="3033" y="832"/>
                  </a:lnTo>
                  <a:lnTo>
                    <a:pt x="3033" y="849"/>
                  </a:lnTo>
                  <a:lnTo>
                    <a:pt x="3027" y="849"/>
                  </a:lnTo>
                  <a:lnTo>
                    <a:pt x="3027" y="860"/>
                  </a:lnTo>
                  <a:lnTo>
                    <a:pt x="3022" y="860"/>
                  </a:lnTo>
                  <a:lnTo>
                    <a:pt x="3022" y="866"/>
                  </a:lnTo>
                  <a:lnTo>
                    <a:pt x="3016" y="866"/>
                  </a:lnTo>
                  <a:lnTo>
                    <a:pt x="3016" y="889"/>
                  </a:lnTo>
                  <a:lnTo>
                    <a:pt x="3010" y="889"/>
                  </a:lnTo>
                  <a:lnTo>
                    <a:pt x="3010" y="906"/>
                  </a:lnTo>
                  <a:lnTo>
                    <a:pt x="3016" y="906"/>
                  </a:lnTo>
                  <a:lnTo>
                    <a:pt x="3016" y="939"/>
                  </a:lnTo>
                  <a:lnTo>
                    <a:pt x="3022" y="939"/>
                  </a:lnTo>
                  <a:lnTo>
                    <a:pt x="3022" y="956"/>
                  </a:lnTo>
                  <a:lnTo>
                    <a:pt x="3027" y="956"/>
                  </a:lnTo>
                  <a:lnTo>
                    <a:pt x="3027" y="980"/>
                  </a:lnTo>
                  <a:lnTo>
                    <a:pt x="3033" y="980"/>
                  </a:lnTo>
                  <a:lnTo>
                    <a:pt x="3033" y="1008"/>
                  </a:lnTo>
                  <a:lnTo>
                    <a:pt x="3039" y="1008"/>
                  </a:lnTo>
                  <a:lnTo>
                    <a:pt x="3039" y="1031"/>
                  </a:lnTo>
                  <a:lnTo>
                    <a:pt x="3045" y="1031"/>
                  </a:lnTo>
                  <a:lnTo>
                    <a:pt x="3045" y="1065"/>
                  </a:lnTo>
                  <a:lnTo>
                    <a:pt x="3050" y="1065"/>
                  </a:lnTo>
                  <a:lnTo>
                    <a:pt x="3050" y="1093"/>
                  </a:lnTo>
                  <a:lnTo>
                    <a:pt x="3056" y="1093"/>
                  </a:lnTo>
                  <a:lnTo>
                    <a:pt x="3056" y="1144"/>
                  </a:lnTo>
                  <a:lnTo>
                    <a:pt x="3062" y="1144"/>
                  </a:lnTo>
                  <a:lnTo>
                    <a:pt x="3062" y="1219"/>
                  </a:lnTo>
                  <a:lnTo>
                    <a:pt x="3067" y="1219"/>
                  </a:lnTo>
                  <a:lnTo>
                    <a:pt x="3067" y="1258"/>
                  </a:lnTo>
                  <a:lnTo>
                    <a:pt x="3074" y="1258"/>
                  </a:lnTo>
                  <a:lnTo>
                    <a:pt x="3074" y="1270"/>
                  </a:lnTo>
                  <a:lnTo>
                    <a:pt x="3079" y="1270"/>
                  </a:lnTo>
                  <a:lnTo>
                    <a:pt x="3079" y="1321"/>
                  </a:lnTo>
                  <a:lnTo>
                    <a:pt x="3084" y="1321"/>
                  </a:lnTo>
                  <a:lnTo>
                    <a:pt x="3084" y="1338"/>
                  </a:lnTo>
                  <a:lnTo>
                    <a:pt x="3090" y="1338"/>
                  </a:lnTo>
                  <a:lnTo>
                    <a:pt x="3090" y="1372"/>
                  </a:lnTo>
                  <a:lnTo>
                    <a:pt x="3096" y="1372"/>
                  </a:lnTo>
                  <a:lnTo>
                    <a:pt x="3096" y="1395"/>
                  </a:lnTo>
                  <a:lnTo>
                    <a:pt x="3102" y="1395"/>
                  </a:lnTo>
                  <a:lnTo>
                    <a:pt x="3102" y="1412"/>
                  </a:lnTo>
                  <a:lnTo>
                    <a:pt x="3107" y="1412"/>
                  </a:lnTo>
                  <a:lnTo>
                    <a:pt x="3107" y="1440"/>
                  </a:lnTo>
                  <a:lnTo>
                    <a:pt x="3113" y="1440"/>
                  </a:lnTo>
                  <a:lnTo>
                    <a:pt x="3113" y="1452"/>
                  </a:lnTo>
                  <a:lnTo>
                    <a:pt x="3119" y="1452"/>
                  </a:lnTo>
                  <a:lnTo>
                    <a:pt x="3119" y="1463"/>
                  </a:lnTo>
                  <a:lnTo>
                    <a:pt x="3124" y="1463"/>
                  </a:lnTo>
                  <a:lnTo>
                    <a:pt x="3124" y="1469"/>
                  </a:lnTo>
                  <a:lnTo>
                    <a:pt x="3131" y="1469"/>
                  </a:lnTo>
                  <a:lnTo>
                    <a:pt x="3131" y="1480"/>
                  </a:lnTo>
                  <a:lnTo>
                    <a:pt x="3136" y="1480"/>
                  </a:lnTo>
                  <a:lnTo>
                    <a:pt x="3136" y="1503"/>
                  </a:lnTo>
                  <a:lnTo>
                    <a:pt x="3141" y="1503"/>
                  </a:lnTo>
                  <a:lnTo>
                    <a:pt x="3141" y="1526"/>
                  </a:lnTo>
                  <a:lnTo>
                    <a:pt x="3147" y="1526"/>
                  </a:lnTo>
                  <a:lnTo>
                    <a:pt x="3147" y="1537"/>
                  </a:lnTo>
                  <a:lnTo>
                    <a:pt x="3153" y="1537"/>
                  </a:lnTo>
                  <a:lnTo>
                    <a:pt x="3153" y="1554"/>
                  </a:lnTo>
                  <a:lnTo>
                    <a:pt x="3159" y="1554"/>
                  </a:lnTo>
                  <a:lnTo>
                    <a:pt x="3159" y="1560"/>
                  </a:lnTo>
                  <a:lnTo>
                    <a:pt x="3164" y="1560"/>
                  </a:lnTo>
                  <a:lnTo>
                    <a:pt x="3164" y="1571"/>
                  </a:lnTo>
                  <a:lnTo>
                    <a:pt x="3170" y="1571"/>
                  </a:lnTo>
                  <a:lnTo>
                    <a:pt x="3170" y="1588"/>
                  </a:lnTo>
                  <a:lnTo>
                    <a:pt x="3176" y="1588"/>
                  </a:lnTo>
                  <a:lnTo>
                    <a:pt x="3176" y="1600"/>
                  </a:lnTo>
                  <a:lnTo>
                    <a:pt x="3181" y="1600"/>
                  </a:lnTo>
                  <a:lnTo>
                    <a:pt x="3181" y="1611"/>
                  </a:lnTo>
                  <a:lnTo>
                    <a:pt x="3188" y="1611"/>
                  </a:lnTo>
                  <a:lnTo>
                    <a:pt x="3188" y="1633"/>
                  </a:lnTo>
                  <a:lnTo>
                    <a:pt x="3193" y="1633"/>
                  </a:lnTo>
                  <a:lnTo>
                    <a:pt x="3193" y="1645"/>
                  </a:lnTo>
                  <a:lnTo>
                    <a:pt x="3198" y="1645"/>
                  </a:lnTo>
                  <a:lnTo>
                    <a:pt x="3198" y="1657"/>
                  </a:lnTo>
                  <a:lnTo>
                    <a:pt x="3204" y="1657"/>
                  </a:lnTo>
                  <a:lnTo>
                    <a:pt x="3204" y="1680"/>
                  </a:lnTo>
                  <a:lnTo>
                    <a:pt x="3198" y="1680"/>
                  </a:lnTo>
                  <a:lnTo>
                    <a:pt x="3198" y="1685"/>
                  </a:lnTo>
                  <a:lnTo>
                    <a:pt x="3193" y="1685"/>
                  </a:lnTo>
                  <a:lnTo>
                    <a:pt x="3193" y="1719"/>
                  </a:lnTo>
                  <a:lnTo>
                    <a:pt x="3198" y="1719"/>
                  </a:lnTo>
                  <a:lnTo>
                    <a:pt x="3198" y="1737"/>
                  </a:lnTo>
                  <a:lnTo>
                    <a:pt x="3204" y="1737"/>
                  </a:lnTo>
                  <a:lnTo>
                    <a:pt x="3204" y="1747"/>
                  </a:lnTo>
                  <a:lnTo>
                    <a:pt x="3210" y="1747"/>
                  </a:lnTo>
                  <a:lnTo>
                    <a:pt x="3210" y="1759"/>
                  </a:lnTo>
                  <a:lnTo>
                    <a:pt x="3216" y="1759"/>
                  </a:lnTo>
                  <a:lnTo>
                    <a:pt x="3216" y="1764"/>
                  </a:lnTo>
                  <a:lnTo>
                    <a:pt x="3221" y="1764"/>
                  </a:lnTo>
                  <a:lnTo>
                    <a:pt x="3221" y="1776"/>
                  </a:lnTo>
                  <a:lnTo>
                    <a:pt x="3227" y="1776"/>
                  </a:lnTo>
                  <a:lnTo>
                    <a:pt x="3227" y="1788"/>
                  </a:lnTo>
                  <a:lnTo>
                    <a:pt x="3233" y="1788"/>
                  </a:lnTo>
                  <a:lnTo>
                    <a:pt x="3233" y="1799"/>
                  </a:lnTo>
                  <a:lnTo>
                    <a:pt x="3238" y="1799"/>
                  </a:lnTo>
                  <a:lnTo>
                    <a:pt x="3238" y="1805"/>
                  </a:lnTo>
                  <a:lnTo>
                    <a:pt x="3245" y="1805"/>
                  </a:lnTo>
                  <a:lnTo>
                    <a:pt x="3245" y="1816"/>
                  </a:lnTo>
                  <a:lnTo>
                    <a:pt x="3250" y="1816"/>
                  </a:lnTo>
                  <a:lnTo>
                    <a:pt x="3250" y="1828"/>
                  </a:lnTo>
                  <a:lnTo>
                    <a:pt x="3255" y="1828"/>
                  </a:lnTo>
                  <a:lnTo>
                    <a:pt x="3255" y="1833"/>
                  </a:lnTo>
                  <a:lnTo>
                    <a:pt x="3261" y="1833"/>
                  </a:lnTo>
                  <a:lnTo>
                    <a:pt x="3261" y="1844"/>
                  </a:lnTo>
                  <a:lnTo>
                    <a:pt x="3266" y="1844"/>
                  </a:lnTo>
                  <a:lnTo>
                    <a:pt x="3266" y="1850"/>
                  </a:lnTo>
                  <a:lnTo>
                    <a:pt x="3272" y="1850"/>
                  </a:lnTo>
                  <a:lnTo>
                    <a:pt x="3272" y="1861"/>
                  </a:lnTo>
                  <a:lnTo>
                    <a:pt x="3278" y="1861"/>
                  </a:lnTo>
                  <a:lnTo>
                    <a:pt x="3278" y="1867"/>
                  </a:lnTo>
                  <a:lnTo>
                    <a:pt x="3283" y="1867"/>
                  </a:lnTo>
                  <a:lnTo>
                    <a:pt x="3283" y="1878"/>
                  </a:lnTo>
                  <a:lnTo>
                    <a:pt x="3290" y="1878"/>
                  </a:lnTo>
                  <a:lnTo>
                    <a:pt x="3290" y="1884"/>
                  </a:lnTo>
                  <a:lnTo>
                    <a:pt x="3295" y="1884"/>
                  </a:lnTo>
                  <a:lnTo>
                    <a:pt x="3295" y="1890"/>
                  </a:lnTo>
                  <a:lnTo>
                    <a:pt x="3300" y="1890"/>
                  </a:lnTo>
                  <a:lnTo>
                    <a:pt x="3300" y="1901"/>
                  </a:lnTo>
                  <a:lnTo>
                    <a:pt x="3306" y="1901"/>
                  </a:lnTo>
                  <a:lnTo>
                    <a:pt x="3306" y="1913"/>
                  </a:lnTo>
                  <a:lnTo>
                    <a:pt x="3312" y="1913"/>
                  </a:lnTo>
                  <a:lnTo>
                    <a:pt x="3312" y="1924"/>
                  </a:lnTo>
                  <a:lnTo>
                    <a:pt x="3318" y="1924"/>
                  </a:lnTo>
                  <a:lnTo>
                    <a:pt x="3318" y="1935"/>
                  </a:lnTo>
                  <a:lnTo>
                    <a:pt x="3323" y="1935"/>
                  </a:lnTo>
                  <a:lnTo>
                    <a:pt x="3323" y="1941"/>
                  </a:lnTo>
                  <a:lnTo>
                    <a:pt x="3329" y="1941"/>
                  </a:lnTo>
                  <a:lnTo>
                    <a:pt x="3329" y="1953"/>
                  </a:lnTo>
                  <a:lnTo>
                    <a:pt x="3335" y="1953"/>
                  </a:lnTo>
                  <a:lnTo>
                    <a:pt x="3335" y="1958"/>
                  </a:lnTo>
                  <a:lnTo>
                    <a:pt x="3340" y="1958"/>
                  </a:lnTo>
                  <a:lnTo>
                    <a:pt x="3340" y="1964"/>
                  </a:lnTo>
                  <a:lnTo>
                    <a:pt x="3347" y="1964"/>
                  </a:lnTo>
                  <a:lnTo>
                    <a:pt x="3347" y="1975"/>
                  </a:lnTo>
                  <a:lnTo>
                    <a:pt x="3352" y="1975"/>
                  </a:lnTo>
                  <a:lnTo>
                    <a:pt x="3352" y="1980"/>
                  </a:lnTo>
                  <a:lnTo>
                    <a:pt x="3357" y="1980"/>
                  </a:lnTo>
                  <a:lnTo>
                    <a:pt x="3357" y="1987"/>
                  </a:lnTo>
                  <a:lnTo>
                    <a:pt x="3364" y="1987"/>
                  </a:lnTo>
                  <a:lnTo>
                    <a:pt x="3364" y="1992"/>
                  </a:lnTo>
                  <a:lnTo>
                    <a:pt x="3369" y="1992"/>
                  </a:lnTo>
                  <a:lnTo>
                    <a:pt x="3369" y="1998"/>
                  </a:lnTo>
                  <a:lnTo>
                    <a:pt x="3375" y="1998"/>
                  </a:lnTo>
                  <a:lnTo>
                    <a:pt x="3375" y="2004"/>
                  </a:lnTo>
                  <a:lnTo>
                    <a:pt x="3380" y="2004"/>
                  </a:lnTo>
                  <a:lnTo>
                    <a:pt x="3380" y="2015"/>
                  </a:lnTo>
                  <a:lnTo>
                    <a:pt x="3386" y="2015"/>
                  </a:lnTo>
                  <a:lnTo>
                    <a:pt x="3386" y="2021"/>
                  </a:lnTo>
                  <a:lnTo>
                    <a:pt x="3392" y="2021"/>
                  </a:lnTo>
                  <a:lnTo>
                    <a:pt x="3392" y="2027"/>
                  </a:lnTo>
                  <a:lnTo>
                    <a:pt x="3397" y="2027"/>
                  </a:lnTo>
                  <a:lnTo>
                    <a:pt x="3397" y="2032"/>
                  </a:lnTo>
                  <a:lnTo>
                    <a:pt x="3404" y="2032"/>
                  </a:lnTo>
                  <a:lnTo>
                    <a:pt x="3404" y="2049"/>
                  </a:lnTo>
                  <a:lnTo>
                    <a:pt x="3409" y="2049"/>
                  </a:lnTo>
                  <a:lnTo>
                    <a:pt x="3409" y="2055"/>
                  </a:lnTo>
                  <a:lnTo>
                    <a:pt x="3414" y="2055"/>
                  </a:lnTo>
                  <a:lnTo>
                    <a:pt x="3414" y="2066"/>
                  </a:lnTo>
                  <a:lnTo>
                    <a:pt x="3421" y="2066"/>
                  </a:lnTo>
                  <a:lnTo>
                    <a:pt x="3421" y="2072"/>
                  </a:lnTo>
                  <a:lnTo>
                    <a:pt x="3426" y="2072"/>
                  </a:lnTo>
                  <a:lnTo>
                    <a:pt x="3426" y="2084"/>
                  </a:lnTo>
                  <a:lnTo>
                    <a:pt x="3432" y="2084"/>
                  </a:lnTo>
                  <a:lnTo>
                    <a:pt x="3432" y="2089"/>
                  </a:lnTo>
                  <a:lnTo>
                    <a:pt x="3437" y="2089"/>
                  </a:lnTo>
                  <a:lnTo>
                    <a:pt x="3437" y="2101"/>
                  </a:lnTo>
                  <a:lnTo>
                    <a:pt x="3443" y="2101"/>
                  </a:lnTo>
                  <a:lnTo>
                    <a:pt x="3443" y="2106"/>
                  </a:lnTo>
                  <a:lnTo>
                    <a:pt x="3449" y="2106"/>
                  </a:lnTo>
                  <a:lnTo>
                    <a:pt x="3449" y="2112"/>
                  </a:lnTo>
                  <a:lnTo>
                    <a:pt x="3454" y="2112"/>
                  </a:lnTo>
                  <a:lnTo>
                    <a:pt x="3454" y="2123"/>
                  </a:lnTo>
                  <a:lnTo>
                    <a:pt x="3466" y="2123"/>
                  </a:lnTo>
                  <a:lnTo>
                    <a:pt x="3466" y="2129"/>
                  </a:lnTo>
                  <a:lnTo>
                    <a:pt x="3471" y="2129"/>
                  </a:lnTo>
                  <a:lnTo>
                    <a:pt x="3471" y="2135"/>
                  </a:lnTo>
                  <a:lnTo>
                    <a:pt x="3478" y="2135"/>
                  </a:lnTo>
                  <a:lnTo>
                    <a:pt x="3478" y="2141"/>
                  </a:lnTo>
                  <a:lnTo>
                    <a:pt x="3483" y="2141"/>
                  </a:lnTo>
                  <a:lnTo>
                    <a:pt x="3483" y="2146"/>
                  </a:lnTo>
                  <a:lnTo>
                    <a:pt x="3494" y="2146"/>
                  </a:lnTo>
                  <a:lnTo>
                    <a:pt x="3494" y="2152"/>
                  </a:lnTo>
                  <a:lnTo>
                    <a:pt x="3500" y="2152"/>
                  </a:lnTo>
                  <a:lnTo>
                    <a:pt x="3500" y="2158"/>
                  </a:lnTo>
                  <a:lnTo>
                    <a:pt x="3506" y="2158"/>
                  </a:lnTo>
                  <a:lnTo>
                    <a:pt x="3506" y="2163"/>
                  </a:lnTo>
                  <a:lnTo>
                    <a:pt x="3511" y="2163"/>
                  </a:lnTo>
                  <a:lnTo>
                    <a:pt x="3511" y="2168"/>
                  </a:lnTo>
                  <a:lnTo>
                    <a:pt x="3518" y="2168"/>
                  </a:lnTo>
                  <a:lnTo>
                    <a:pt x="3518" y="2175"/>
                  </a:lnTo>
                  <a:lnTo>
                    <a:pt x="3523" y="2175"/>
                  </a:lnTo>
                  <a:lnTo>
                    <a:pt x="3523" y="2180"/>
                  </a:lnTo>
                  <a:lnTo>
                    <a:pt x="3535" y="2180"/>
                  </a:lnTo>
                  <a:lnTo>
                    <a:pt x="3535" y="2186"/>
                  </a:lnTo>
                  <a:lnTo>
                    <a:pt x="3540" y="2186"/>
                  </a:lnTo>
                  <a:lnTo>
                    <a:pt x="3540" y="2192"/>
                  </a:lnTo>
                  <a:lnTo>
                    <a:pt x="3545" y="2192"/>
                  </a:lnTo>
                  <a:lnTo>
                    <a:pt x="3545" y="2198"/>
                  </a:lnTo>
                  <a:lnTo>
                    <a:pt x="3551" y="2198"/>
                  </a:lnTo>
                  <a:lnTo>
                    <a:pt x="3551" y="2203"/>
                  </a:lnTo>
                  <a:lnTo>
                    <a:pt x="3563" y="2203"/>
                  </a:lnTo>
                  <a:lnTo>
                    <a:pt x="3563" y="2215"/>
                  </a:lnTo>
                  <a:lnTo>
                    <a:pt x="3574" y="2215"/>
                  </a:lnTo>
                  <a:lnTo>
                    <a:pt x="3574" y="2220"/>
                  </a:lnTo>
                  <a:lnTo>
                    <a:pt x="3580" y="2220"/>
                  </a:lnTo>
                  <a:lnTo>
                    <a:pt x="3580" y="2225"/>
                  </a:lnTo>
                  <a:lnTo>
                    <a:pt x="3585" y="2225"/>
                  </a:lnTo>
                  <a:lnTo>
                    <a:pt x="3585" y="2232"/>
                  </a:lnTo>
                  <a:lnTo>
                    <a:pt x="3592" y="2232"/>
                  </a:lnTo>
                  <a:lnTo>
                    <a:pt x="3592" y="2237"/>
                  </a:lnTo>
                  <a:lnTo>
                    <a:pt x="3597" y="2237"/>
                  </a:lnTo>
                  <a:lnTo>
                    <a:pt x="3597" y="2243"/>
                  </a:lnTo>
                  <a:lnTo>
                    <a:pt x="3602" y="2243"/>
                  </a:lnTo>
                  <a:lnTo>
                    <a:pt x="3602" y="2248"/>
                  </a:lnTo>
                  <a:lnTo>
                    <a:pt x="3608" y="2248"/>
                  </a:lnTo>
                  <a:lnTo>
                    <a:pt x="3608" y="2254"/>
                  </a:lnTo>
                  <a:lnTo>
                    <a:pt x="3614" y="2254"/>
                  </a:lnTo>
                  <a:lnTo>
                    <a:pt x="3614" y="2260"/>
                  </a:lnTo>
                  <a:lnTo>
                    <a:pt x="3620" y="2260"/>
                  </a:lnTo>
                  <a:lnTo>
                    <a:pt x="3620" y="2265"/>
                  </a:lnTo>
                  <a:lnTo>
                    <a:pt x="3625" y="2265"/>
                  </a:lnTo>
                  <a:lnTo>
                    <a:pt x="3625" y="2271"/>
                  </a:lnTo>
                  <a:lnTo>
                    <a:pt x="3637" y="2271"/>
                  </a:lnTo>
                  <a:lnTo>
                    <a:pt x="3637" y="2277"/>
                  </a:lnTo>
                  <a:lnTo>
                    <a:pt x="3642" y="2277"/>
                  </a:lnTo>
                  <a:lnTo>
                    <a:pt x="3642" y="2282"/>
                  </a:lnTo>
                  <a:lnTo>
                    <a:pt x="3649" y="2282"/>
                  </a:lnTo>
                  <a:lnTo>
                    <a:pt x="3649" y="2288"/>
                  </a:lnTo>
                  <a:lnTo>
                    <a:pt x="3654" y="2288"/>
                  </a:lnTo>
                  <a:lnTo>
                    <a:pt x="3654" y="2294"/>
                  </a:lnTo>
                  <a:lnTo>
                    <a:pt x="3659" y="2294"/>
                  </a:lnTo>
                  <a:lnTo>
                    <a:pt x="3659" y="2300"/>
                  </a:lnTo>
                  <a:lnTo>
                    <a:pt x="3665" y="2300"/>
                  </a:lnTo>
                  <a:lnTo>
                    <a:pt x="3665" y="2305"/>
                  </a:lnTo>
                  <a:lnTo>
                    <a:pt x="3670" y="2305"/>
                  </a:lnTo>
                  <a:lnTo>
                    <a:pt x="3670" y="2311"/>
                  </a:lnTo>
                  <a:lnTo>
                    <a:pt x="3677" y="2311"/>
                  </a:lnTo>
                  <a:lnTo>
                    <a:pt x="3677" y="2317"/>
                  </a:lnTo>
                  <a:lnTo>
                    <a:pt x="3682" y="2317"/>
                  </a:lnTo>
                  <a:lnTo>
                    <a:pt x="3682" y="2322"/>
                  </a:lnTo>
                  <a:lnTo>
                    <a:pt x="3694" y="2322"/>
                  </a:lnTo>
                  <a:lnTo>
                    <a:pt x="3694" y="2328"/>
                  </a:lnTo>
                  <a:lnTo>
                    <a:pt x="3699" y="2328"/>
                  </a:lnTo>
                  <a:lnTo>
                    <a:pt x="3699" y="2334"/>
                  </a:lnTo>
                  <a:lnTo>
                    <a:pt x="3705" y="2334"/>
                  </a:lnTo>
                  <a:lnTo>
                    <a:pt x="3705" y="2339"/>
                  </a:lnTo>
                  <a:lnTo>
                    <a:pt x="3711" y="2339"/>
                  </a:lnTo>
                  <a:lnTo>
                    <a:pt x="3711" y="2345"/>
                  </a:lnTo>
                  <a:lnTo>
                    <a:pt x="3716" y="2345"/>
                  </a:lnTo>
                  <a:lnTo>
                    <a:pt x="3716" y="2351"/>
                  </a:lnTo>
                  <a:lnTo>
                    <a:pt x="3722" y="2351"/>
                  </a:lnTo>
                  <a:lnTo>
                    <a:pt x="3722" y="2357"/>
                  </a:lnTo>
                  <a:lnTo>
                    <a:pt x="3727" y="2357"/>
                  </a:lnTo>
                  <a:lnTo>
                    <a:pt x="3727" y="2362"/>
                  </a:lnTo>
                  <a:lnTo>
                    <a:pt x="3739" y="2362"/>
                  </a:lnTo>
                  <a:lnTo>
                    <a:pt x="3739" y="2368"/>
                  </a:lnTo>
                  <a:lnTo>
                    <a:pt x="3744" y="2368"/>
                  </a:lnTo>
                  <a:lnTo>
                    <a:pt x="3744" y="2374"/>
                  </a:lnTo>
                  <a:lnTo>
                    <a:pt x="3751" y="2374"/>
                  </a:lnTo>
                  <a:lnTo>
                    <a:pt x="3751" y="2384"/>
                  </a:lnTo>
                  <a:lnTo>
                    <a:pt x="3756" y="2384"/>
                  </a:lnTo>
                  <a:lnTo>
                    <a:pt x="3756" y="2408"/>
                  </a:lnTo>
                  <a:lnTo>
                    <a:pt x="3751" y="2408"/>
                  </a:lnTo>
                  <a:lnTo>
                    <a:pt x="3751" y="2413"/>
                  </a:lnTo>
                  <a:lnTo>
                    <a:pt x="3739" y="2413"/>
                  </a:lnTo>
                  <a:lnTo>
                    <a:pt x="3739" y="2419"/>
                  </a:lnTo>
                  <a:lnTo>
                    <a:pt x="3711" y="2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2483280" y="3973320"/>
              <a:ext cx="8640" cy="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0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-893160" y="1082160"/>
              <a:ext cx="5745600" cy="993600"/>
            </a:xfrm>
            <a:custGeom>
              <a:avLst/>
              <a:gdLst/>
              <a:ahLst/>
              <a:rect l="l" t="t" r="r" b="b"/>
              <a:pathLst>
                <a:path w="10435" h="1805">
                  <a:moveTo>
                    <a:pt x="615" y="1805"/>
                  </a:moveTo>
                  <a:lnTo>
                    <a:pt x="615" y="1793"/>
                  </a:lnTo>
                  <a:lnTo>
                    <a:pt x="610" y="1793"/>
                  </a:lnTo>
                  <a:lnTo>
                    <a:pt x="610" y="1776"/>
                  </a:lnTo>
                  <a:lnTo>
                    <a:pt x="598" y="1776"/>
                  </a:lnTo>
                  <a:lnTo>
                    <a:pt x="598" y="1770"/>
                  </a:lnTo>
                  <a:lnTo>
                    <a:pt x="593" y="1770"/>
                  </a:lnTo>
                  <a:lnTo>
                    <a:pt x="593" y="1759"/>
                  </a:lnTo>
                  <a:lnTo>
                    <a:pt x="581" y="1759"/>
                  </a:lnTo>
                  <a:lnTo>
                    <a:pt x="581" y="1748"/>
                  </a:lnTo>
                  <a:lnTo>
                    <a:pt x="576" y="1748"/>
                  </a:lnTo>
                  <a:lnTo>
                    <a:pt x="576" y="1730"/>
                  </a:lnTo>
                  <a:lnTo>
                    <a:pt x="569" y="1730"/>
                  </a:lnTo>
                  <a:lnTo>
                    <a:pt x="569" y="1725"/>
                  </a:lnTo>
                  <a:lnTo>
                    <a:pt x="564" y="1725"/>
                  </a:lnTo>
                  <a:lnTo>
                    <a:pt x="564" y="1713"/>
                  </a:lnTo>
                  <a:lnTo>
                    <a:pt x="558" y="1713"/>
                  </a:lnTo>
                  <a:lnTo>
                    <a:pt x="558" y="1702"/>
                  </a:lnTo>
                  <a:lnTo>
                    <a:pt x="546" y="1702"/>
                  </a:lnTo>
                  <a:lnTo>
                    <a:pt x="546" y="1685"/>
                  </a:lnTo>
                  <a:lnTo>
                    <a:pt x="541" y="1685"/>
                  </a:lnTo>
                  <a:lnTo>
                    <a:pt x="541" y="1680"/>
                  </a:lnTo>
                  <a:lnTo>
                    <a:pt x="536" y="1680"/>
                  </a:lnTo>
                  <a:lnTo>
                    <a:pt x="536" y="1663"/>
                  </a:lnTo>
                  <a:lnTo>
                    <a:pt x="524" y="1663"/>
                  </a:lnTo>
                  <a:lnTo>
                    <a:pt x="524" y="1657"/>
                  </a:lnTo>
                  <a:lnTo>
                    <a:pt x="519" y="1657"/>
                  </a:lnTo>
                  <a:lnTo>
                    <a:pt x="519" y="1646"/>
                  </a:lnTo>
                  <a:lnTo>
                    <a:pt x="512" y="1646"/>
                  </a:lnTo>
                  <a:lnTo>
                    <a:pt x="512" y="1640"/>
                  </a:lnTo>
                  <a:lnTo>
                    <a:pt x="507" y="1640"/>
                  </a:lnTo>
                  <a:lnTo>
                    <a:pt x="507" y="1634"/>
                  </a:lnTo>
                  <a:lnTo>
                    <a:pt x="501" y="1634"/>
                  </a:lnTo>
                  <a:lnTo>
                    <a:pt x="501" y="1623"/>
                  </a:lnTo>
                  <a:lnTo>
                    <a:pt x="496" y="1623"/>
                  </a:lnTo>
                  <a:lnTo>
                    <a:pt x="496" y="1616"/>
                  </a:lnTo>
                  <a:lnTo>
                    <a:pt x="490" y="1616"/>
                  </a:lnTo>
                  <a:lnTo>
                    <a:pt x="490" y="1611"/>
                  </a:lnTo>
                  <a:lnTo>
                    <a:pt x="484" y="1611"/>
                  </a:lnTo>
                  <a:lnTo>
                    <a:pt x="484" y="1606"/>
                  </a:lnTo>
                  <a:lnTo>
                    <a:pt x="479" y="1606"/>
                  </a:lnTo>
                  <a:lnTo>
                    <a:pt x="479" y="1594"/>
                  </a:lnTo>
                  <a:lnTo>
                    <a:pt x="467" y="1594"/>
                  </a:lnTo>
                  <a:lnTo>
                    <a:pt x="467" y="1589"/>
                  </a:lnTo>
                  <a:lnTo>
                    <a:pt x="462" y="1589"/>
                  </a:lnTo>
                  <a:lnTo>
                    <a:pt x="462" y="1583"/>
                  </a:lnTo>
                  <a:lnTo>
                    <a:pt x="455" y="1583"/>
                  </a:lnTo>
                  <a:lnTo>
                    <a:pt x="455" y="1577"/>
                  </a:lnTo>
                  <a:lnTo>
                    <a:pt x="450" y="1577"/>
                  </a:lnTo>
                  <a:lnTo>
                    <a:pt x="450" y="1571"/>
                  </a:lnTo>
                  <a:lnTo>
                    <a:pt x="444" y="1571"/>
                  </a:lnTo>
                  <a:lnTo>
                    <a:pt x="444" y="1560"/>
                  </a:lnTo>
                  <a:lnTo>
                    <a:pt x="439" y="1560"/>
                  </a:lnTo>
                  <a:lnTo>
                    <a:pt x="439" y="1554"/>
                  </a:lnTo>
                  <a:lnTo>
                    <a:pt x="433" y="1554"/>
                  </a:lnTo>
                  <a:lnTo>
                    <a:pt x="433" y="1549"/>
                  </a:lnTo>
                  <a:lnTo>
                    <a:pt x="427" y="1549"/>
                  </a:lnTo>
                  <a:lnTo>
                    <a:pt x="427" y="1537"/>
                  </a:lnTo>
                  <a:lnTo>
                    <a:pt x="422" y="1537"/>
                  </a:lnTo>
                  <a:lnTo>
                    <a:pt x="422" y="1532"/>
                  </a:lnTo>
                  <a:lnTo>
                    <a:pt x="415" y="1532"/>
                  </a:lnTo>
                  <a:lnTo>
                    <a:pt x="415" y="1526"/>
                  </a:lnTo>
                  <a:lnTo>
                    <a:pt x="410" y="1526"/>
                  </a:lnTo>
                  <a:lnTo>
                    <a:pt x="410" y="1520"/>
                  </a:lnTo>
                  <a:lnTo>
                    <a:pt x="405" y="1520"/>
                  </a:lnTo>
                  <a:lnTo>
                    <a:pt x="405" y="1509"/>
                  </a:lnTo>
                  <a:lnTo>
                    <a:pt x="398" y="1509"/>
                  </a:lnTo>
                  <a:lnTo>
                    <a:pt x="398" y="1503"/>
                  </a:lnTo>
                  <a:lnTo>
                    <a:pt x="393" y="1503"/>
                  </a:lnTo>
                  <a:lnTo>
                    <a:pt x="393" y="1497"/>
                  </a:lnTo>
                  <a:lnTo>
                    <a:pt x="382" y="1497"/>
                  </a:lnTo>
                  <a:lnTo>
                    <a:pt x="382" y="1485"/>
                  </a:lnTo>
                  <a:lnTo>
                    <a:pt x="377" y="1485"/>
                  </a:lnTo>
                  <a:lnTo>
                    <a:pt x="377" y="1480"/>
                  </a:lnTo>
                  <a:lnTo>
                    <a:pt x="370" y="1480"/>
                  </a:lnTo>
                  <a:lnTo>
                    <a:pt x="370" y="1475"/>
                  </a:lnTo>
                  <a:lnTo>
                    <a:pt x="365" y="1475"/>
                  </a:lnTo>
                  <a:lnTo>
                    <a:pt x="365" y="1469"/>
                  </a:lnTo>
                  <a:lnTo>
                    <a:pt x="353" y="1469"/>
                  </a:lnTo>
                  <a:lnTo>
                    <a:pt x="353" y="1463"/>
                  </a:lnTo>
                  <a:lnTo>
                    <a:pt x="348" y="1463"/>
                  </a:lnTo>
                  <a:lnTo>
                    <a:pt x="348" y="1457"/>
                  </a:lnTo>
                  <a:lnTo>
                    <a:pt x="342" y="1457"/>
                  </a:lnTo>
                  <a:lnTo>
                    <a:pt x="342" y="1452"/>
                  </a:lnTo>
                  <a:lnTo>
                    <a:pt x="330" y="1452"/>
                  </a:lnTo>
                  <a:lnTo>
                    <a:pt x="330" y="1446"/>
                  </a:lnTo>
                  <a:lnTo>
                    <a:pt x="325" y="1446"/>
                  </a:lnTo>
                  <a:lnTo>
                    <a:pt x="325" y="1440"/>
                  </a:lnTo>
                  <a:lnTo>
                    <a:pt x="320" y="1440"/>
                  </a:lnTo>
                  <a:lnTo>
                    <a:pt x="320" y="1435"/>
                  </a:lnTo>
                  <a:lnTo>
                    <a:pt x="313" y="1435"/>
                  </a:lnTo>
                  <a:lnTo>
                    <a:pt x="313" y="1428"/>
                  </a:lnTo>
                  <a:lnTo>
                    <a:pt x="308" y="1428"/>
                  </a:lnTo>
                  <a:lnTo>
                    <a:pt x="308" y="1423"/>
                  </a:lnTo>
                  <a:lnTo>
                    <a:pt x="302" y="1423"/>
                  </a:lnTo>
                  <a:lnTo>
                    <a:pt x="302" y="1418"/>
                  </a:lnTo>
                  <a:lnTo>
                    <a:pt x="296" y="1418"/>
                  </a:lnTo>
                  <a:lnTo>
                    <a:pt x="296" y="1412"/>
                  </a:lnTo>
                  <a:lnTo>
                    <a:pt x="291" y="1412"/>
                  </a:lnTo>
                  <a:lnTo>
                    <a:pt x="291" y="1406"/>
                  </a:lnTo>
                  <a:lnTo>
                    <a:pt x="279" y="1406"/>
                  </a:lnTo>
                  <a:lnTo>
                    <a:pt x="279" y="1401"/>
                  </a:lnTo>
                  <a:lnTo>
                    <a:pt x="273" y="1401"/>
                  </a:lnTo>
                  <a:lnTo>
                    <a:pt x="273" y="1395"/>
                  </a:lnTo>
                  <a:lnTo>
                    <a:pt x="268" y="1395"/>
                  </a:lnTo>
                  <a:lnTo>
                    <a:pt x="268" y="1389"/>
                  </a:lnTo>
                  <a:lnTo>
                    <a:pt x="263" y="1389"/>
                  </a:lnTo>
                  <a:lnTo>
                    <a:pt x="263" y="1383"/>
                  </a:lnTo>
                  <a:lnTo>
                    <a:pt x="251" y="1383"/>
                  </a:lnTo>
                  <a:lnTo>
                    <a:pt x="251" y="1372"/>
                  </a:lnTo>
                  <a:lnTo>
                    <a:pt x="246" y="1372"/>
                  </a:lnTo>
                  <a:lnTo>
                    <a:pt x="246" y="1366"/>
                  </a:lnTo>
                  <a:lnTo>
                    <a:pt x="239" y="1366"/>
                  </a:lnTo>
                  <a:lnTo>
                    <a:pt x="239" y="1361"/>
                  </a:lnTo>
                  <a:lnTo>
                    <a:pt x="234" y="1361"/>
                  </a:lnTo>
                  <a:lnTo>
                    <a:pt x="234" y="1355"/>
                  </a:lnTo>
                  <a:lnTo>
                    <a:pt x="228" y="1355"/>
                  </a:lnTo>
                  <a:lnTo>
                    <a:pt x="228" y="1338"/>
                  </a:lnTo>
                  <a:lnTo>
                    <a:pt x="222" y="1338"/>
                  </a:lnTo>
                  <a:lnTo>
                    <a:pt x="222" y="1332"/>
                  </a:lnTo>
                  <a:lnTo>
                    <a:pt x="217" y="1332"/>
                  </a:lnTo>
                  <a:lnTo>
                    <a:pt x="217" y="1321"/>
                  </a:lnTo>
                  <a:lnTo>
                    <a:pt x="211" y="1321"/>
                  </a:lnTo>
                  <a:lnTo>
                    <a:pt x="211" y="1315"/>
                  </a:lnTo>
                  <a:lnTo>
                    <a:pt x="206" y="1315"/>
                  </a:lnTo>
                  <a:lnTo>
                    <a:pt x="206" y="1304"/>
                  </a:lnTo>
                  <a:lnTo>
                    <a:pt x="199" y="1304"/>
                  </a:lnTo>
                  <a:lnTo>
                    <a:pt x="199" y="1292"/>
                  </a:lnTo>
                  <a:lnTo>
                    <a:pt x="194" y="1292"/>
                  </a:lnTo>
                  <a:lnTo>
                    <a:pt x="194" y="1287"/>
                  </a:lnTo>
                  <a:lnTo>
                    <a:pt x="189" y="1287"/>
                  </a:lnTo>
                  <a:lnTo>
                    <a:pt x="189" y="1276"/>
                  </a:lnTo>
                  <a:lnTo>
                    <a:pt x="182" y="1276"/>
                  </a:lnTo>
                  <a:lnTo>
                    <a:pt x="182" y="1264"/>
                  </a:lnTo>
                  <a:lnTo>
                    <a:pt x="177" y="1264"/>
                  </a:lnTo>
                  <a:lnTo>
                    <a:pt x="177" y="1259"/>
                  </a:lnTo>
                  <a:lnTo>
                    <a:pt x="171" y="1259"/>
                  </a:lnTo>
                  <a:lnTo>
                    <a:pt x="171" y="1247"/>
                  </a:lnTo>
                  <a:lnTo>
                    <a:pt x="165" y="1247"/>
                  </a:lnTo>
                  <a:lnTo>
                    <a:pt x="165" y="1241"/>
                  </a:lnTo>
                  <a:lnTo>
                    <a:pt x="160" y="1241"/>
                  </a:lnTo>
                  <a:lnTo>
                    <a:pt x="160" y="1236"/>
                  </a:lnTo>
                  <a:lnTo>
                    <a:pt x="154" y="1236"/>
                  </a:lnTo>
                  <a:lnTo>
                    <a:pt x="154" y="1224"/>
                  </a:lnTo>
                  <a:lnTo>
                    <a:pt x="149" y="1224"/>
                  </a:lnTo>
                  <a:lnTo>
                    <a:pt x="149" y="1212"/>
                  </a:lnTo>
                  <a:lnTo>
                    <a:pt x="142" y="1212"/>
                  </a:lnTo>
                  <a:lnTo>
                    <a:pt x="142" y="1202"/>
                  </a:lnTo>
                  <a:lnTo>
                    <a:pt x="137" y="1202"/>
                  </a:lnTo>
                  <a:lnTo>
                    <a:pt x="137" y="1190"/>
                  </a:lnTo>
                  <a:lnTo>
                    <a:pt x="132" y="1190"/>
                  </a:lnTo>
                  <a:lnTo>
                    <a:pt x="132" y="1185"/>
                  </a:lnTo>
                  <a:lnTo>
                    <a:pt x="125" y="1185"/>
                  </a:lnTo>
                  <a:lnTo>
                    <a:pt x="125" y="1167"/>
                  </a:lnTo>
                  <a:lnTo>
                    <a:pt x="120" y="1167"/>
                  </a:lnTo>
                  <a:lnTo>
                    <a:pt x="120" y="1156"/>
                  </a:lnTo>
                  <a:lnTo>
                    <a:pt x="114" y="1156"/>
                  </a:lnTo>
                  <a:lnTo>
                    <a:pt x="114" y="1145"/>
                  </a:lnTo>
                  <a:lnTo>
                    <a:pt x="108" y="1145"/>
                  </a:lnTo>
                  <a:lnTo>
                    <a:pt x="108" y="1138"/>
                  </a:lnTo>
                  <a:lnTo>
                    <a:pt x="103" y="1138"/>
                  </a:lnTo>
                  <a:lnTo>
                    <a:pt x="103" y="1128"/>
                  </a:lnTo>
                  <a:lnTo>
                    <a:pt x="97" y="1128"/>
                  </a:lnTo>
                  <a:lnTo>
                    <a:pt x="97" y="1105"/>
                  </a:lnTo>
                  <a:lnTo>
                    <a:pt x="92" y="1105"/>
                  </a:lnTo>
                  <a:lnTo>
                    <a:pt x="92" y="1093"/>
                  </a:lnTo>
                  <a:lnTo>
                    <a:pt x="85" y="1093"/>
                  </a:lnTo>
                  <a:lnTo>
                    <a:pt x="85" y="1081"/>
                  </a:lnTo>
                  <a:lnTo>
                    <a:pt x="80" y="1081"/>
                  </a:lnTo>
                  <a:lnTo>
                    <a:pt x="80" y="1065"/>
                  </a:lnTo>
                  <a:lnTo>
                    <a:pt x="75" y="1065"/>
                  </a:lnTo>
                  <a:lnTo>
                    <a:pt x="75" y="1042"/>
                  </a:lnTo>
                  <a:lnTo>
                    <a:pt x="68" y="1042"/>
                  </a:lnTo>
                  <a:lnTo>
                    <a:pt x="68" y="1031"/>
                  </a:lnTo>
                  <a:lnTo>
                    <a:pt x="63" y="1031"/>
                  </a:lnTo>
                  <a:lnTo>
                    <a:pt x="63" y="1014"/>
                  </a:lnTo>
                  <a:lnTo>
                    <a:pt x="57" y="1014"/>
                  </a:lnTo>
                  <a:lnTo>
                    <a:pt x="57" y="974"/>
                  </a:lnTo>
                  <a:lnTo>
                    <a:pt x="28" y="974"/>
                  </a:lnTo>
                  <a:lnTo>
                    <a:pt x="28" y="962"/>
                  </a:lnTo>
                  <a:lnTo>
                    <a:pt x="46" y="962"/>
                  </a:lnTo>
                  <a:lnTo>
                    <a:pt x="46" y="957"/>
                  </a:lnTo>
                  <a:lnTo>
                    <a:pt x="51" y="957"/>
                  </a:lnTo>
                  <a:lnTo>
                    <a:pt x="51" y="922"/>
                  </a:lnTo>
                  <a:lnTo>
                    <a:pt x="46" y="922"/>
                  </a:lnTo>
                  <a:lnTo>
                    <a:pt x="46" y="872"/>
                  </a:lnTo>
                  <a:lnTo>
                    <a:pt x="40" y="872"/>
                  </a:lnTo>
                  <a:lnTo>
                    <a:pt x="40" y="848"/>
                  </a:lnTo>
                  <a:lnTo>
                    <a:pt x="34" y="848"/>
                  </a:lnTo>
                  <a:lnTo>
                    <a:pt x="34" y="815"/>
                  </a:lnTo>
                  <a:lnTo>
                    <a:pt x="28" y="815"/>
                  </a:lnTo>
                  <a:lnTo>
                    <a:pt x="28" y="786"/>
                  </a:lnTo>
                  <a:lnTo>
                    <a:pt x="34" y="786"/>
                  </a:lnTo>
                  <a:lnTo>
                    <a:pt x="34" y="769"/>
                  </a:lnTo>
                  <a:lnTo>
                    <a:pt x="28" y="769"/>
                  </a:lnTo>
                  <a:lnTo>
                    <a:pt x="28" y="741"/>
                  </a:lnTo>
                  <a:lnTo>
                    <a:pt x="23" y="741"/>
                  </a:lnTo>
                  <a:lnTo>
                    <a:pt x="23" y="684"/>
                  </a:lnTo>
                  <a:lnTo>
                    <a:pt x="18" y="684"/>
                  </a:lnTo>
                  <a:lnTo>
                    <a:pt x="18" y="667"/>
                  </a:lnTo>
                  <a:lnTo>
                    <a:pt x="23" y="667"/>
                  </a:lnTo>
                  <a:lnTo>
                    <a:pt x="23" y="649"/>
                  </a:lnTo>
                  <a:lnTo>
                    <a:pt x="18" y="649"/>
                  </a:lnTo>
                  <a:lnTo>
                    <a:pt x="18" y="598"/>
                  </a:lnTo>
                  <a:lnTo>
                    <a:pt x="11" y="598"/>
                  </a:lnTo>
                  <a:lnTo>
                    <a:pt x="11" y="536"/>
                  </a:lnTo>
                  <a:lnTo>
                    <a:pt x="6" y="536"/>
                  </a:lnTo>
                  <a:lnTo>
                    <a:pt x="6" y="484"/>
                  </a:lnTo>
                  <a:lnTo>
                    <a:pt x="0" y="484"/>
                  </a:lnTo>
                  <a:lnTo>
                    <a:pt x="0" y="473"/>
                  </a:lnTo>
                  <a:lnTo>
                    <a:pt x="6" y="473"/>
                  </a:lnTo>
                  <a:lnTo>
                    <a:pt x="6" y="433"/>
                  </a:lnTo>
                  <a:lnTo>
                    <a:pt x="0" y="433"/>
                  </a:lnTo>
                  <a:lnTo>
                    <a:pt x="0" y="394"/>
                  </a:lnTo>
                  <a:lnTo>
                    <a:pt x="6" y="394"/>
                  </a:lnTo>
                  <a:lnTo>
                    <a:pt x="6" y="382"/>
                  </a:lnTo>
                  <a:lnTo>
                    <a:pt x="0" y="382"/>
                  </a:lnTo>
                  <a:lnTo>
                    <a:pt x="0" y="251"/>
                  </a:lnTo>
                  <a:lnTo>
                    <a:pt x="6" y="251"/>
                  </a:lnTo>
                  <a:lnTo>
                    <a:pt x="6" y="228"/>
                  </a:lnTo>
                  <a:lnTo>
                    <a:pt x="11" y="228"/>
                  </a:lnTo>
                  <a:lnTo>
                    <a:pt x="11" y="206"/>
                  </a:lnTo>
                  <a:lnTo>
                    <a:pt x="18" y="206"/>
                  </a:lnTo>
                  <a:lnTo>
                    <a:pt x="18" y="199"/>
                  </a:lnTo>
                  <a:lnTo>
                    <a:pt x="40" y="199"/>
                  </a:lnTo>
                  <a:lnTo>
                    <a:pt x="40" y="211"/>
                  </a:lnTo>
                  <a:lnTo>
                    <a:pt x="51" y="211"/>
                  </a:lnTo>
                  <a:lnTo>
                    <a:pt x="51" y="216"/>
                  </a:lnTo>
                  <a:lnTo>
                    <a:pt x="57" y="216"/>
                  </a:lnTo>
                  <a:lnTo>
                    <a:pt x="57" y="228"/>
                  </a:lnTo>
                  <a:lnTo>
                    <a:pt x="68" y="228"/>
                  </a:lnTo>
                  <a:lnTo>
                    <a:pt x="68" y="234"/>
                  </a:lnTo>
                  <a:lnTo>
                    <a:pt x="85" y="234"/>
                  </a:lnTo>
                  <a:lnTo>
                    <a:pt x="85" y="240"/>
                  </a:lnTo>
                  <a:lnTo>
                    <a:pt x="92" y="240"/>
                  </a:lnTo>
                  <a:lnTo>
                    <a:pt x="92" y="245"/>
                  </a:lnTo>
                  <a:lnTo>
                    <a:pt x="97" y="245"/>
                  </a:lnTo>
                  <a:lnTo>
                    <a:pt x="97" y="251"/>
                  </a:lnTo>
                  <a:lnTo>
                    <a:pt x="103" y="251"/>
                  </a:lnTo>
                  <a:lnTo>
                    <a:pt x="103" y="257"/>
                  </a:lnTo>
                  <a:lnTo>
                    <a:pt x="114" y="257"/>
                  </a:lnTo>
                  <a:lnTo>
                    <a:pt x="114" y="263"/>
                  </a:lnTo>
                  <a:lnTo>
                    <a:pt x="125" y="263"/>
                  </a:lnTo>
                  <a:lnTo>
                    <a:pt x="125" y="268"/>
                  </a:lnTo>
                  <a:lnTo>
                    <a:pt x="132" y="268"/>
                  </a:lnTo>
                  <a:lnTo>
                    <a:pt x="132" y="273"/>
                  </a:lnTo>
                  <a:lnTo>
                    <a:pt x="137" y="273"/>
                  </a:lnTo>
                  <a:lnTo>
                    <a:pt x="137" y="280"/>
                  </a:lnTo>
                  <a:lnTo>
                    <a:pt x="142" y="280"/>
                  </a:lnTo>
                  <a:lnTo>
                    <a:pt x="142" y="285"/>
                  </a:lnTo>
                  <a:lnTo>
                    <a:pt x="149" y="285"/>
                  </a:lnTo>
                  <a:lnTo>
                    <a:pt x="149" y="291"/>
                  </a:lnTo>
                  <a:lnTo>
                    <a:pt x="160" y="291"/>
                  </a:lnTo>
                  <a:lnTo>
                    <a:pt x="160" y="297"/>
                  </a:lnTo>
                  <a:lnTo>
                    <a:pt x="171" y="297"/>
                  </a:lnTo>
                  <a:lnTo>
                    <a:pt x="171" y="302"/>
                  </a:lnTo>
                  <a:lnTo>
                    <a:pt x="182" y="302"/>
                  </a:lnTo>
                  <a:lnTo>
                    <a:pt x="182" y="308"/>
                  </a:lnTo>
                  <a:lnTo>
                    <a:pt x="189" y="308"/>
                  </a:lnTo>
                  <a:lnTo>
                    <a:pt x="189" y="314"/>
                  </a:lnTo>
                  <a:lnTo>
                    <a:pt x="199" y="314"/>
                  </a:lnTo>
                  <a:lnTo>
                    <a:pt x="199" y="320"/>
                  </a:lnTo>
                  <a:lnTo>
                    <a:pt x="211" y="320"/>
                  </a:lnTo>
                  <a:lnTo>
                    <a:pt x="211" y="325"/>
                  </a:lnTo>
                  <a:lnTo>
                    <a:pt x="222" y="325"/>
                  </a:lnTo>
                  <a:lnTo>
                    <a:pt x="222" y="330"/>
                  </a:lnTo>
                  <a:lnTo>
                    <a:pt x="228" y="330"/>
                  </a:lnTo>
                  <a:lnTo>
                    <a:pt x="228" y="342"/>
                  </a:lnTo>
                  <a:lnTo>
                    <a:pt x="239" y="342"/>
                  </a:lnTo>
                  <a:lnTo>
                    <a:pt x="239" y="348"/>
                  </a:lnTo>
                  <a:lnTo>
                    <a:pt x="246" y="348"/>
                  </a:lnTo>
                  <a:lnTo>
                    <a:pt x="246" y="354"/>
                  </a:lnTo>
                  <a:lnTo>
                    <a:pt x="256" y="354"/>
                  </a:lnTo>
                  <a:lnTo>
                    <a:pt x="256" y="359"/>
                  </a:lnTo>
                  <a:lnTo>
                    <a:pt x="263" y="359"/>
                  </a:lnTo>
                  <a:lnTo>
                    <a:pt x="263" y="365"/>
                  </a:lnTo>
                  <a:lnTo>
                    <a:pt x="273" y="365"/>
                  </a:lnTo>
                  <a:lnTo>
                    <a:pt x="273" y="371"/>
                  </a:lnTo>
                  <a:lnTo>
                    <a:pt x="285" y="371"/>
                  </a:lnTo>
                  <a:lnTo>
                    <a:pt x="285" y="377"/>
                  </a:lnTo>
                  <a:lnTo>
                    <a:pt x="296" y="377"/>
                  </a:lnTo>
                  <a:lnTo>
                    <a:pt x="296" y="382"/>
                  </a:lnTo>
                  <a:lnTo>
                    <a:pt x="302" y="382"/>
                  </a:lnTo>
                  <a:lnTo>
                    <a:pt x="302" y="387"/>
                  </a:lnTo>
                  <a:lnTo>
                    <a:pt x="308" y="387"/>
                  </a:lnTo>
                  <a:lnTo>
                    <a:pt x="308" y="394"/>
                  </a:lnTo>
                  <a:lnTo>
                    <a:pt x="313" y="394"/>
                  </a:lnTo>
                  <a:lnTo>
                    <a:pt x="313" y="399"/>
                  </a:lnTo>
                  <a:lnTo>
                    <a:pt x="325" y="399"/>
                  </a:lnTo>
                  <a:lnTo>
                    <a:pt x="325" y="404"/>
                  </a:lnTo>
                  <a:lnTo>
                    <a:pt x="330" y="404"/>
                  </a:lnTo>
                  <a:lnTo>
                    <a:pt x="330" y="411"/>
                  </a:lnTo>
                  <a:lnTo>
                    <a:pt x="336" y="411"/>
                  </a:lnTo>
                  <a:lnTo>
                    <a:pt x="336" y="416"/>
                  </a:lnTo>
                  <a:lnTo>
                    <a:pt x="342" y="416"/>
                  </a:lnTo>
                  <a:lnTo>
                    <a:pt x="342" y="422"/>
                  </a:lnTo>
                  <a:lnTo>
                    <a:pt x="348" y="422"/>
                  </a:lnTo>
                  <a:lnTo>
                    <a:pt x="348" y="428"/>
                  </a:lnTo>
                  <a:lnTo>
                    <a:pt x="353" y="428"/>
                  </a:lnTo>
                  <a:lnTo>
                    <a:pt x="353" y="433"/>
                  </a:lnTo>
                  <a:lnTo>
                    <a:pt x="365" y="433"/>
                  </a:lnTo>
                  <a:lnTo>
                    <a:pt x="365" y="439"/>
                  </a:lnTo>
                  <a:lnTo>
                    <a:pt x="370" y="439"/>
                  </a:lnTo>
                  <a:lnTo>
                    <a:pt x="370" y="444"/>
                  </a:lnTo>
                  <a:lnTo>
                    <a:pt x="377" y="444"/>
                  </a:lnTo>
                  <a:lnTo>
                    <a:pt x="377" y="451"/>
                  </a:lnTo>
                  <a:lnTo>
                    <a:pt x="382" y="451"/>
                  </a:lnTo>
                  <a:lnTo>
                    <a:pt x="382" y="456"/>
                  </a:lnTo>
                  <a:lnTo>
                    <a:pt x="393" y="456"/>
                  </a:lnTo>
                  <a:lnTo>
                    <a:pt x="393" y="461"/>
                  </a:lnTo>
                  <a:lnTo>
                    <a:pt x="398" y="461"/>
                  </a:lnTo>
                  <a:lnTo>
                    <a:pt x="398" y="467"/>
                  </a:lnTo>
                  <a:lnTo>
                    <a:pt x="410" y="467"/>
                  </a:lnTo>
                  <a:lnTo>
                    <a:pt x="410" y="473"/>
                  </a:lnTo>
                  <a:lnTo>
                    <a:pt x="415" y="473"/>
                  </a:lnTo>
                  <a:lnTo>
                    <a:pt x="415" y="479"/>
                  </a:lnTo>
                  <a:lnTo>
                    <a:pt x="422" y="479"/>
                  </a:lnTo>
                  <a:lnTo>
                    <a:pt x="422" y="484"/>
                  </a:lnTo>
                  <a:lnTo>
                    <a:pt x="427" y="484"/>
                  </a:lnTo>
                  <a:lnTo>
                    <a:pt x="427" y="489"/>
                  </a:lnTo>
                  <a:lnTo>
                    <a:pt x="433" y="489"/>
                  </a:lnTo>
                  <a:lnTo>
                    <a:pt x="433" y="496"/>
                  </a:lnTo>
                  <a:lnTo>
                    <a:pt x="439" y="496"/>
                  </a:lnTo>
                  <a:lnTo>
                    <a:pt x="439" y="501"/>
                  </a:lnTo>
                  <a:lnTo>
                    <a:pt x="450" y="501"/>
                  </a:lnTo>
                  <a:lnTo>
                    <a:pt x="450" y="507"/>
                  </a:lnTo>
                  <a:lnTo>
                    <a:pt x="462" y="507"/>
                  </a:lnTo>
                  <a:lnTo>
                    <a:pt x="462" y="513"/>
                  </a:lnTo>
                  <a:lnTo>
                    <a:pt x="472" y="513"/>
                  </a:lnTo>
                  <a:lnTo>
                    <a:pt x="472" y="518"/>
                  </a:lnTo>
                  <a:lnTo>
                    <a:pt x="484" y="518"/>
                  </a:lnTo>
                  <a:lnTo>
                    <a:pt x="484" y="524"/>
                  </a:lnTo>
                  <a:lnTo>
                    <a:pt x="490" y="524"/>
                  </a:lnTo>
                  <a:lnTo>
                    <a:pt x="490" y="541"/>
                  </a:lnTo>
                  <a:lnTo>
                    <a:pt x="484" y="541"/>
                  </a:lnTo>
                  <a:lnTo>
                    <a:pt x="484" y="553"/>
                  </a:lnTo>
                  <a:lnTo>
                    <a:pt x="462" y="553"/>
                  </a:lnTo>
                  <a:lnTo>
                    <a:pt x="462" y="547"/>
                  </a:lnTo>
                  <a:lnTo>
                    <a:pt x="455" y="547"/>
                  </a:lnTo>
                  <a:lnTo>
                    <a:pt x="455" y="541"/>
                  </a:lnTo>
                  <a:lnTo>
                    <a:pt x="450" y="541"/>
                  </a:lnTo>
                  <a:lnTo>
                    <a:pt x="450" y="536"/>
                  </a:lnTo>
                  <a:lnTo>
                    <a:pt x="444" y="536"/>
                  </a:lnTo>
                  <a:lnTo>
                    <a:pt x="444" y="530"/>
                  </a:lnTo>
                  <a:lnTo>
                    <a:pt x="439" y="530"/>
                  </a:lnTo>
                  <a:lnTo>
                    <a:pt x="439" y="524"/>
                  </a:lnTo>
                  <a:lnTo>
                    <a:pt x="427" y="524"/>
                  </a:lnTo>
                  <a:lnTo>
                    <a:pt x="427" y="518"/>
                  </a:lnTo>
                  <a:lnTo>
                    <a:pt x="415" y="518"/>
                  </a:lnTo>
                  <a:lnTo>
                    <a:pt x="415" y="513"/>
                  </a:lnTo>
                  <a:lnTo>
                    <a:pt x="410" y="513"/>
                  </a:lnTo>
                  <a:lnTo>
                    <a:pt x="410" y="507"/>
                  </a:lnTo>
                  <a:lnTo>
                    <a:pt x="398" y="507"/>
                  </a:lnTo>
                  <a:lnTo>
                    <a:pt x="398" y="501"/>
                  </a:lnTo>
                  <a:lnTo>
                    <a:pt x="382" y="501"/>
                  </a:lnTo>
                  <a:lnTo>
                    <a:pt x="382" y="496"/>
                  </a:lnTo>
                  <a:lnTo>
                    <a:pt x="377" y="496"/>
                  </a:lnTo>
                  <a:lnTo>
                    <a:pt x="377" y="489"/>
                  </a:lnTo>
                  <a:lnTo>
                    <a:pt x="365" y="489"/>
                  </a:lnTo>
                  <a:lnTo>
                    <a:pt x="365" y="484"/>
                  </a:lnTo>
                  <a:lnTo>
                    <a:pt x="359" y="484"/>
                  </a:lnTo>
                  <a:lnTo>
                    <a:pt x="359" y="479"/>
                  </a:lnTo>
                  <a:lnTo>
                    <a:pt x="353" y="479"/>
                  </a:lnTo>
                  <a:lnTo>
                    <a:pt x="353" y="473"/>
                  </a:lnTo>
                  <a:lnTo>
                    <a:pt x="348" y="473"/>
                  </a:lnTo>
                  <a:lnTo>
                    <a:pt x="348" y="461"/>
                  </a:lnTo>
                  <a:lnTo>
                    <a:pt x="342" y="461"/>
                  </a:lnTo>
                  <a:lnTo>
                    <a:pt x="342" y="456"/>
                  </a:lnTo>
                  <a:lnTo>
                    <a:pt x="336" y="456"/>
                  </a:lnTo>
                  <a:lnTo>
                    <a:pt x="336" y="451"/>
                  </a:lnTo>
                  <a:lnTo>
                    <a:pt x="330" y="451"/>
                  </a:lnTo>
                  <a:lnTo>
                    <a:pt x="330" y="444"/>
                  </a:lnTo>
                  <a:lnTo>
                    <a:pt x="325" y="444"/>
                  </a:lnTo>
                  <a:lnTo>
                    <a:pt x="325" y="439"/>
                  </a:lnTo>
                  <a:lnTo>
                    <a:pt x="320" y="439"/>
                  </a:lnTo>
                  <a:lnTo>
                    <a:pt x="320" y="433"/>
                  </a:lnTo>
                  <a:lnTo>
                    <a:pt x="308" y="433"/>
                  </a:lnTo>
                  <a:lnTo>
                    <a:pt x="308" y="428"/>
                  </a:lnTo>
                  <a:lnTo>
                    <a:pt x="302" y="428"/>
                  </a:lnTo>
                  <a:lnTo>
                    <a:pt x="302" y="422"/>
                  </a:lnTo>
                  <a:lnTo>
                    <a:pt x="291" y="422"/>
                  </a:lnTo>
                  <a:lnTo>
                    <a:pt x="291" y="416"/>
                  </a:lnTo>
                  <a:lnTo>
                    <a:pt x="279" y="416"/>
                  </a:lnTo>
                  <a:lnTo>
                    <a:pt x="279" y="404"/>
                  </a:lnTo>
                  <a:lnTo>
                    <a:pt x="268" y="404"/>
                  </a:lnTo>
                  <a:lnTo>
                    <a:pt x="268" y="399"/>
                  </a:lnTo>
                  <a:lnTo>
                    <a:pt x="263" y="399"/>
                  </a:lnTo>
                  <a:lnTo>
                    <a:pt x="263" y="394"/>
                  </a:lnTo>
                  <a:lnTo>
                    <a:pt x="251" y="394"/>
                  </a:lnTo>
                  <a:lnTo>
                    <a:pt x="251" y="387"/>
                  </a:lnTo>
                  <a:lnTo>
                    <a:pt x="246" y="387"/>
                  </a:lnTo>
                  <a:lnTo>
                    <a:pt x="246" y="377"/>
                  </a:lnTo>
                  <a:lnTo>
                    <a:pt x="228" y="377"/>
                  </a:lnTo>
                  <a:lnTo>
                    <a:pt x="228" y="371"/>
                  </a:lnTo>
                  <a:lnTo>
                    <a:pt x="217" y="371"/>
                  </a:lnTo>
                  <a:lnTo>
                    <a:pt x="217" y="365"/>
                  </a:lnTo>
                  <a:lnTo>
                    <a:pt x="206" y="365"/>
                  </a:lnTo>
                  <a:lnTo>
                    <a:pt x="206" y="359"/>
                  </a:lnTo>
                  <a:lnTo>
                    <a:pt x="194" y="359"/>
                  </a:lnTo>
                  <a:lnTo>
                    <a:pt x="194" y="354"/>
                  </a:lnTo>
                  <a:lnTo>
                    <a:pt x="189" y="354"/>
                  </a:lnTo>
                  <a:lnTo>
                    <a:pt x="189" y="348"/>
                  </a:lnTo>
                  <a:lnTo>
                    <a:pt x="171" y="348"/>
                  </a:lnTo>
                  <a:lnTo>
                    <a:pt x="171" y="342"/>
                  </a:lnTo>
                  <a:lnTo>
                    <a:pt x="160" y="342"/>
                  </a:lnTo>
                  <a:lnTo>
                    <a:pt x="160" y="330"/>
                  </a:lnTo>
                  <a:lnTo>
                    <a:pt x="154" y="330"/>
                  </a:lnTo>
                  <a:lnTo>
                    <a:pt x="154" y="325"/>
                  </a:lnTo>
                  <a:lnTo>
                    <a:pt x="149" y="325"/>
                  </a:lnTo>
                  <a:lnTo>
                    <a:pt x="149" y="320"/>
                  </a:lnTo>
                  <a:lnTo>
                    <a:pt x="137" y="320"/>
                  </a:lnTo>
                  <a:lnTo>
                    <a:pt x="137" y="314"/>
                  </a:lnTo>
                  <a:lnTo>
                    <a:pt x="125" y="314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20" y="302"/>
                  </a:lnTo>
                  <a:lnTo>
                    <a:pt x="108" y="302"/>
                  </a:lnTo>
                  <a:lnTo>
                    <a:pt x="108" y="297"/>
                  </a:lnTo>
                  <a:lnTo>
                    <a:pt x="97" y="297"/>
                  </a:lnTo>
                  <a:lnTo>
                    <a:pt x="97" y="291"/>
                  </a:lnTo>
                  <a:lnTo>
                    <a:pt x="92" y="291"/>
                  </a:lnTo>
                  <a:lnTo>
                    <a:pt x="92" y="285"/>
                  </a:lnTo>
                  <a:lnTo>
                    <a:pt x="85" y="285"/>
                  </a:lnTo>
                  <a:lnTo>
                    <a:pt x="85" y="280"/>
                  </a:lnTo>
                  <a:lnTo>
                    <a:pt x="75" y="280"/>
                  </a:lnTo>
                  <a:lnTo>
                    <a:pt x="75" y="268"/>
                  </a:lnTo>
                  <a:lnTo>
                    <a:pt x="68" y="268"/>
                  </a:lnTo>
                  <a:lnTo>
                    <a:pt x="68" y="263"/>
                  </a:lnTo>
                  <a:lnTo>
                    <a:pt x="63" y="263"/>
                  </a:lnTo>
                  <a:lnTo>
                    <a:pt x="63" y="257"/>
                  </a:lnTo>
                  <a:lnTo>
                    <a:pt x="40" y="257"/>
                  </a:lnTo>
                  <a:lnTo>
                    <a:pt x="40" y="273"/>
                  </a:lnTo>
                  <a:lnTo>
                    <a:pt x="46" y="273"/>
                  </a:lnTo>
                  <a:lnTo>
                    <a:pt x="46" y="285"/>
                  </a:lnTo>
                  <a:lnTo>
                    <a:pt x="40" y="285"/>
                  </a:lnTo>
                  <a:lnTo>
                    <a:pt x="40" y="320"/>
                  </a:lnTo>
                  <a:lnTo>
                    <a:pt x="34" y="320"/>
                  </a:lnTo>
                  <a:lnTo>
                    <a:pt x="34" y="439"/>
                  </a:lnTo>
                  <a:lnTo>
                    <a:pt x="40" y="439"/>
                  </a:lnTo>
                  <a:lnTo>
                    <a:pt x="40" y="530"/>
                  </a:lnTo>
                  <a:lnTo>
                    <a:pt x="51" y="530"/>
                  </a:lnTo>
                  <a:lnTo>
                    <a:pt x="51" y="524"/>
                  </a:lnTo>
                  <a:lnTo>
                    <a:pt x="57" y="524"/>
                  </a:lnTo>
                  <a:lnTo>
                    <a:pt x="57" y="518"/>
                  </a:lnTo>
                  <a:lnTo>
                    <a:pt x="63" y="518"/>
                  </a:lnTo>
                  <a:lnTo>
                    <a:pt x="63" y="513"/>
                  </a:lnTo>
                  <a:lnTo>
                    <a:pt x="68" y="513"/>
                  </a:lnTo>
                  <a:lnTo>
                    <a:pt x="68" y="507"/>
                  </a:lnTo>
                  <a:lnTo>
                    <a:pt x="75" y="507"/>
                  </a:lnTo>
                  <a:lnTo>
                    <a:pt x="75" y="501"/>
                  </a:lnTo>
                  <a:lnTo>
                    <a:pt x="85" y="501"/>
                  </a:lnTo>
                  <a:lnTo>
                    <a:pt x="85" y="496"/>
                  </a:lnTo>
                  <a:lnTo>
                    <a:pt x="92" y="496"/>
                  </a:lnTo>
                  <a:lnTo>
                    <a:pt x="92" y="489"/>
                  </a:lnTo>
                  <a:lnTo>
                    <a:pt x="108" y="489"/>
                  </a:lnTo>
                  <a:lnTo>
                    <a:pt x="108" y="484"/>
                  </a:lnTo>
                  <a:lnTo>
                    <a:pt x="120" y="484"/>
                  </a:lnTo>
                  <a:lnTo>
                    <a:pt x="120" y="479"/>
                  </a:lnTo>
                  <a:lnTo>
                    <a:pt x="125" y="479"/>
                  </a:lnTo>
                  <a:lnTo>
                    <a:pt x="125" y="473"/>
                  </a:lnTo>
                  <a:lnTo>
                    <a:pt x="142" y="473"/>
                  </a:lnTo>
                  <a:lnTo>
                    <a:pt x="142" y="467"/>
                  </a:lnTo>
                  <a:lnTo>
                    <a:pt x="165" y="467"/>
                  </a:lnTo>
                  <a:lnTo>
                    <a:pt x="165" y="461"/>
                  </a:lnTo>
                  <a:lnTo>
                    <a:pt x="177" y="461"/>
                  </a:lnTo>
                  <a:lnTo>
                    <a:pt x="177" y="456"/>
                  </a:lnTo>
                  <a:lnTo>
                    <a:pt x="217" y="456"/>
                  </a:lnTo>
                  <a:lnTo>
                    <a:pt x="217" y="461"/>
                  </a:lnTo>
                  <a:lnTo>
                    <a:pt x="251" y="461"/>
                  </a:lnTo>
                  <a:lnTo>
                    <a:pt x="251" y="467"/>
                  </a:lnTo>
                  <a:lnTo>
                    <a:pt x="268" y="467"/>
                  </a:lnTo>
                  <a:lnTo>
                    <a:pt x="268" y="473"/>
                  </a:lnTo>
                  <a:lnTo>
                    <a:pt x="279" y="473"/>
                  </a:lnTo>
                  <a:lnTo>
                    <a:pt x="279" y="479"/>
                  </a:lnTo>
                  <a:lnTo>
                    <a:pt x="285" y="479"/>
                  </a:lnTo>
                  <a:lnTo>
                    <a:pt x="285" y="484"/>
                  </a:lnTo>
                  <a:lnTo>
                    <a:pt x="296" y="484"/>
                  </a:lnTo>
                  <a:lnTo>
                    <a:pt x="296" y="489"/>
                  </a:lnTo>
                  <a:lnTo>
                    <a:pt x="302" y="489"/>
                  </a:lnTo>
                  <a:lnTo>
                    <a:pt x="302" y="496"/>
                  </a:lnTo>
                  <a:lnTo>
                    <a:pt x="308" y="496"/>
                  </a:lnTo>
                  <a:lnTo>
                    <a:pt x="308" y="501"/>
                  </a:lnTo>
                  <a:lnTo>
                    <a:pt x="320" y="501"/>
                  </a:lnTo>
                  <a:lnTo>
                    <a:pt x="320" y="513"/>
                  </a:lnTo>
                  <a:lnTo>
                    <a:pt x="325" y="513"/>
                  </a:lnTo>
                  <a:lnTo>
                    <a:pt x="325" y="518"/>
                  </a:lnTo>
                  <a:lnTo>
                    <a:pt x="336" y="518"/>
                  </a:lnTo>
                  <a:lnTo>
                    <a:pt x="336" y="524"/>
                  </a:lnTo>
                  <a:lnTo>
                    <a:pt x="342" y="524"/>
                  </a:lnTo>
                  <a:lnTo>
                    <a:pt x="342" y="530"/>
                  </a:lnTo>
                  <a:lnTo>
                    <a:pt x="348" y="530"/>
                  </a:lnTo>
                  <a:lnTo>
                    <a:pt x="348" y="541"/>
                  </a:lnTo>
                  <a:lnTo>
                    <a:pt x="353" y="541"/>
                  </a:lnTo>
                  <a:lnTo>
                    <a:pt x="353" y="553"/>
                  </a:lnTo>
                  <a:lnTo>
                    <a:pt x="359" y="553"/>
                  </a:lnTo>
                  <a:lnTo>
                    <a:pt x="359" y="563"/>
                  </a:lnTo>
                  <a:lnTo>
                    <a:pt x="365" y="563"/>
                  </a:lnTo>
                  <a:lnTo>
                    <a:pt x="365" y="570"/>
                  </a:lnTo>
                  <a:lnTo>
                    <a:pt x="370" y="570"/>
                  </a:lnTo>
                  <a:lnTo>
                    <a:pt x="370" y="581"/>
                  </a:lnTo>
                  <a:lnTo>
                    <a:pt x="377" y="581"/>
                  </a:lnTo>
                  <a:lnTo>
                    <a:pt x="377" y="592"/>
                  </a:lnTo>
                  <a:lnTo>
                    <a:pt x="382" y="592"/>
                  </a:lnTo>
                  <a:lnTo>
                    <a:pt x="382" y="627"/>
                  </a:lnTo>
                  <a:lnTo>
                    <a:pt x="387" y="627"/>
                  </a:lnTo>
                  <a:lnTo>
                    <a:pt x="387" y="638"/>
                  </a:lnTo>
                  <a:lnTo>
                    <a:pt x="393" y="638"/>
                  </a:lnTo>
                  <a:lnTo>
                    <a:pt x="393" y="649"/>
                  </a:lnTo>
                  <a:lnTo>
                    <a:pt x="398" y="649"/>
                  </a:lnTo>
                  <a:lnTo>
                    <a:pt x="398" y="661"/>
                  </a:lnTo>
                  <a:lnTo>
                    <a:pt x="405" y="661"/>
                  </a:lnTo>
                  <a:lnTo>
                    <a:pt x="405" y="672"/>
                  </a:lnTo>
                  <a:lnTo>
                    <a:pt x="410" y="672"/>
                  </a:lnTo>
                  <a:lnTo>
                    <a:pt x="410" y="689"/>
                  </a:lnTo>
                  <a:lnTo>
                    <a:pt x="415" y="689"/>
                  </a:lnTo>
                  <a:lnTo>
                    <a:pt x="415" y="701"/>
                  </a:lnTo>
                  <a:lnTo>
                    <a:pt x="422" y="701"/>
                  </a:lnTo>
                  <a:lnTo>
                    <a:pt x="422" y="706"/>
                  </a:lnTo>
                  <a:lnTo>
                    <a:pt x="427" y="706"/>
                  </a:lnTo>
                  <a:lnTo>
                    <a:pt x="427" y="712"/>
                  </a:lnTo>
                  <a:lnTo>
                    <a:pt x="439" y="712"/>
                  </a:lnTo>
                  <a:lnTo>
                    <a:pt x="439" y="706"/>
                  </a:lnTo>
                  <a:lnTo>
                    <a:pt x="462" y="706"/>
                  </a:lnTo>
                  <a:lnTo>
                    <a:pt x="462" y="701"/>
                  </a:lnTo>
                  <a:lnTo>
                    <a:pt x="467" y="701"/>
                  </a:lnTo>
                  <a:lnTo>
                    <a:pt x="467" y="695"/>
                  </a:lnTo>
                  <a:lnTo>
                    <a:pt x="472" y="695"/>
                  </a:lnTo>
                  <a:lnTo>
                    <a:pt x="472" y="689"/>
                  </a:lnTo>
                  <a:lnTo>
                    <a:pt x="479" y="689"/>
                  </a:lnTo>
                  <a:lnTo>
                    <a:pt x="479" y="684"/>
                  </a:lnTo>
                  <a:lnTo>
                    <a:pt x="507" y="684"/>
                  </a:lnTo>
                  <a:lnTo>
                    <a:pt x="507" y="677"/>
                  </a:lnTo>
                  <a:lnTo>
                    <a:pt x="524" y="677"/>
                  </a:lnTo>
                  <a:lnTo>
                    <a:pt x="524" y="672"/>
                  </a:lnTo>
                  <a:lnTo>
                    <a:pt x="541" y="672"/>
                  </a:lnTo>
                  <a:lnTo>
                    <a:pt x="541" y="667"/>
                  </a:lnTo>
                  <a:lnTo>
                    <a:pt x="558" y="667"/>
                  </a:lnTo>
                  <a:lnTo>
                    <a:pt x="558" y="661"/>
                  </a:lnTo>
                  <a:lnTo>
                    <a:pt x="581" y="661"/>
                  </a:lnTo>
                  <a:lnTo>
                    <a:pt x="581" y="655"/>
                  </a:lnTo>
                  <a:lnTo>
                    <a:pt x="610" y="655"/>
                  </a:lnTo>
                  <a:lnTo>
                    <a:pt x="610" y="649"/>
                  </a:lnTo>
                  <a:lnTo>
                    <a:pt x="650" y="649"/>
                  </a:lnTo>
                  <a:lnTo>
                    <a:pt x="650" y="644"/>
                  </a:lnTo>
                  <a:lnTo>
                    <a:pt x="660" y="644"/>
                  </a:lnTo>
                  <a:lnTo>
                    <a:pt x="660" y="638"/>
                  </a:lnTo>
                  <a:lnTo>
                    <a:pt x="683" y="638"/>
                  </a:lnTo>
                  <a:lnTo>
                    <a:pt x="683" y="632"/>
                  </a:lnTo>
                  <a:lnTo>
                    <a:pt x="695" y="632"/>
                  </a:lnTo>
                  <a:lnTo>
                    <a:pt x="695" y="627"/>
                  </a:lnTo>
                  <a:lnTo>
                    <a:pt x="717" y="627"/>
                  </a:lnTo>
                  <a:lnTo>
                    <a:pt x="717" y="620"/>
                  </a:lnTo>
                  <a:lnTo>
                    <a:pt x="735" y="620"/>
                  </a:lnTo>
                  <a:lnTo>
                    <a:pt x="735" y="615"/>
                  </a:lnTo>
                  <a:lnTo>
                    <a:pt x="741" y="615"/>
                  </a:lnTo>
                  <a:lnTo>
                    <a:pt x="741" y="610"/>
                  </a:lnTo>
                  <a:lnTo>
                    <a:pt x="764" y="610"/>
                  </a:lnTo>
                  <a:lnTo>
                    <a:pt x="764" y="604"/>
                  </a:lnTo>
                  <a:lnTo>
                    <a:pt x="781" y="604"/>
                  </a:lnTo>
                  <a:lnTo>
                    <a:pt x="781" y="598"/>
                  </a:lnTo>
                  <a:lnTo>
                    <a:pt x="803" y="598"/>
                  </a:lnTo>
                  <a:lnTo>
                    <a:pt x="803" y="592"/>
                  </a:lnTo>
                  <a:lnTo>
                    <a:pt x="831" y="592"/>
                  </a:lnTo>
                  <a:lnTo>
                    <a:pt x="831" y="587"/>
                  </a:lnTo>
                  <a:lnTo>
                    <a:pt x="843" y="587"/>
                  </a:lnTo>
                  <a:lnTo>
                    <a:pt x="843" y="581"/>
                  </a:lnTo>
                  <a:lnTo>
                    <a:pt x="859" y="581"/>
                  </a:lnTo>
                  <a:lnTo>
                    <a:pt x="859" y="575"/>
                  </a:lnTo>
                  <a:lnTo>
                    <a:pt x="876" y="575"/>
                  </a:lnTo>
                  <a:lnTo>
                    <a:pt x="876" y="570"/>
                  </a:lnTo>
                  <a:lnTo>
                    <a:pt x="894" y="570"/>
                  </a:lnTo>
                  <a:lnTo>
                    <a:pt x="894" y="563"/>
                  </a:lnTo>
                  <a:lnTo>
                    <a:pt x="905" y="563"/>
                  </a:lnTo>
                  <a:lnTo>
                    <a:pt x="905" y="558"/>
                  </a:lnTo>
                  <a:lnTo>
                    <a:pt x="911" y="558"/>
                  </a:lnTo>
                  <a:lnTo>
                    <a:pt x="911" y="553"/>
                  </a:lnTo>
                  <a:lnTo>
                    <a:pt x="951" y="553"/>
                  </a:lnTo>
                  <a:lnTo>
                    <a:pt x="951" y="547"/>
                  </a:lnTo>
                  <a:lnTo>
                    <a:pt x="968" y="547"/>
                  </a:lnTo>
                  <a:lnTo>
                    <a:pt x="968" y="541"/>
                  </a:lnTo>
                  <a:lnTo>
                    <a:pt x="997" y="541"/>
                  </a:lnTo>
                  <a:lnTo>
                    <a:pt x="997" y="536"/>
                  </a:lnTo>
                  <a:lnTo>
                    <a:pt x="1047" y="536"/>
                  </a:lnTo>
                  <a:lnTo>
                    <a:pt x="1047" y="530"/>
                  </a:lnTo>
                  <a:lnTo>
                    <a:pt x="1076" y="530"/>
                  </a:lnTo>
                  <a:lnTo>
                    <a:pt x="1076" y="524"/>
                  </a:lnTo>
                  <a:lnTo>
                    <a:pt x="1104" y="524"/>
                  </a:lnTo>
                  <a:lnTo>
                    <a:pt x="1104" y="530"/>
                  </a:lnTo>
                  <a:lnTo>
                    <a:pt x="1156" y="530"/>
                  </a:lnTo>
                  <a:lnTo>
                    <a:pt x="1156" y="524"/>
                  </a:lnTo>
                  <a:lnTo>
                    <a:pt x="1208" y="524"/>
                  </a:lnTo>
                  <a:lnTo>
                    <a:pt x="1208" y="518"/>
                  </a:lnTo>
                  <a:lnTo>
                    <a:pt x="1270" y="518"/>
                  </a:lnTo>
                  <a:lnTo>
                    <a:pt x="1270" y="513"/>
                  </a:lnTo>
                  <a:lnTo>
                    <a:pt x="1338" y="513"/>
                  </a:lnTo>
                  <a:lnTo>
                    <a:pt x="1338" y="507"/>
                  </a:lnTo>
                  <a:lnTo>
                    <a:pt x="1367" y="507"/>
                  </a:lnTo>
                  <a:lnTo>
                    <a:pt x="1367" y="501"/>
                  </a:lnTo>
                  <a:lnTo>
                    <a:pt x="1401" y="501"/>
                  </a:lnTo>
                  <a:lnTo>
                    <a:pt x="1401" y="496"/>
                  </a:lnTo>
                  <a:lnTo>
                    <a:pt x="1441" y="496"/>
                  </a:lnTo>
                  <a:lnTo>
                    <a:pt x="1441" y="489"/>
                  </a:lnTo>
                  <a:lnTo>
                    <a:pt x="1458" y="489"/>
                  </a:lnTo>
                  <a:lnTo>
                    <a:pt x="1458" y="484"/>
                  </a:lnTo>
                  <a:lnTo>
                    <a:pt x="1481" y="484"/>
                  </a:lnTo>
                  <a:lnTo>
                    <a:pt x="1481" y="479"/>
                  </a:lnTo>
                  <a:lnTo>
                    <a:pt x="1508" y="479"/>
                  </a:lnTo>
                  <a:lnTo>
                    <a:pt x="1508" y="473"/>
                  </a:lnTo>
                  <a:lnTo>
                    <a:pt x="1526" y="473"/>
                  </a:lnTo>
                  <a:lnTo>
                    <a:pt x="1526" y="467"/>
                  </a:lnTo>
                  <a:lnTo>
                    <a:pt x="1549" y="467"/>
                  </a:lnTo>
                  <a:lnTo>
                    <a:pt x="1549" y="461"/>
                  </a:lnTo>
                  <a:lnTo>
                    <a:pt x="1572" y="461"/>
                  </a:lnTo>
                  <a:lnTo>
                    <a:pt x="1572" y="456"/>
                  </a:lnTo>
                  <a:lnTo>
                    <a:pt x="1617" y="456"/>
                  </a:lnTo>
                  <a:lnTo>
                    <a:pt x="1617" y="451"/>
                  </a:lnTo>
                  <a:lnTo>
                    <a:pt x="1634" y="451"/>
                  </a:lnTo>
                  <a:lnTo>
                    <a:pt x="1634" y="444"/>
                  </a:lnTo>
                  <a:lnTo>
                    <a:pt x="1651" y="444"/>
                  </a:lnTo>
                  <a:lnTo>
                    <a:pt x="1651" y="439"/>
                  </a:lnTo>
                  <a:lnTo>
                    <a:pt x="1674" y="439"/>
                  </a:lnTo>
                  <a:lnTo>
                    <a:pt x="1674" y="433"/>
                  </a:lnTo>
                  <a:lnTo>
                    <a:pt x="1691" y="433"/>
                  </a:lnTo>
                  <a:lnTo>
                    <a:pt x="1691" y="439"/>
                  </a:lnTo>
                  <a:lnTo>
                    <a:pt x="1708" y="439"/>
                  </a:lnTo>
                  <a:lnTo>
                    <a:pt x="1708" y="433"/>
                  </a:lnTo>
                  <a:lnTo>
                    <a:pt x="1759" y="433"/>
                  </a:lnTo>
                  <a:lnTo>
                    <a:pt x="1759" y="428"/>
                  </a:lnTo>
                  <a:lnTo>
                    <a:pt x="1783" y="428"/>
                  </a:lnTo>
                  <a:lnTo>
                    <a:pt x="1783" y="422"/>
                  </a:lnTo>
                  <a:lnTo>
                    <a:pt x="1799" y="422"/>
                  </a:lnTo>
                  <a:lnTo>
                    <a:pt x="1799" y="416"/>
                  </a:lnTo>
                  <a:lnTo>
                    <a:pt x="1816" y="416"/>
                  </a:lnTo>
                  <a:lnTo>
                    <a:pt x="1816" y="411"/>
                  </a:lnTo>
                  <a:lnTo>
                    <a:pt x="1833" y="411"/>
                  </a:lnTo>
                  <a:lnTo>
                    <a:pt x="1833" y="404"/>
                  </a:lnTo>
                  <a:lnTo>
                    <a:pt x="1845" y="404"/>
                  </a:lnTo>
                  <a:lnTo>
                    <a:pt x="1845" y="399"/>
                  </a:lnTo>
                  <a:lnTo>
                    <a:pt x="1873" y="399"/>
                  </a:lnTo>
                  <a:lnTo>
                    <a:pt x="1873" y="394"/>
                  </a:lnTo>
                  <a:lnTo>
                    <a:pt x="1890" y="394"/>
                  </a:lnTo>
                  <a:lnTo>
                    <a:pt x="1890" y="387"/>
                  </a:lnTo>
                  <a:lnTo>
                    <a:pt x="1976" y="387"/>
                  </a:lnTo>
                  <a:lnTo>
                    <a:pt x="1976" y="382"/>
                  </a:lnTo>
                  <a:lnTo>
                    <a:pt x="1993" y="382"/>
                  </a:lnTo>
                  <a:lnTo>
                    <a:pt x="1993" y="377"/>
                  </a:lnTo>
                  <a:lnTo>
                    <a:pt x="2010" y="377"/>
                  </a:lnTo>
                  <a:lnTo>
                    <a:pt x="2010" y="371"/>
                  </a:lnTo>
                  <a:lnTo>
                    <a:pt x="2061" y="371"/>
                  </a:lnTo>
                  <a:lnTo>
                    <a:pt x="2061" y="365"/>
                  </a:lnTo>
                  <a:lnTo>
                    <a:pt x="2158" y="365"/>
                  </a:lnTo>
                  <a:lnTo>
                    <a:pt x="2158" y="359"/>
                  </a:lnTo>
                  <a:lnTo>
                    <a:pt x="2209" y="359"/>
                  </a:lnTo>
                  <a:lnTo>
                    <a:pt x="2209" y="354"/>
                  </a:lnTo>
                  <a:lnTo>
                    <a:pt x="2254" y="354"/>
                  </a:lnTo>
                  <a:lnTo>
                    <a:pt x="2254" y="348"/>
                  </a:lnTo>
                  <a:lnTo>
                    <a:pt x="2363" y="348"/>
                  </a:lnTo>
                  <a:lnTo>
                    <a:pt x="2363" y="342"/>
                  </a:lnTo>
                  <a:lnTo>
                    <a:pt x="2397" y="342"/>
                  </a:lnTo>
                  <a:lnTo>
                    <a:pt x="2397" y="348"/>
                  </a:lnTo>
                  <a:lnTo>
                    <a:pt x="2425" y="348"/>
                  </a:lnTo>
                  <a:lnTo>
                    <a:pt x="2425" y="354"/>
                  </a:lnTo>
                  <a:lnTo>
                    <a:pt x="2545" y="354"/>
                  </a:lnTo>
                  <a:lnTo>
                    <a:pt x="2545" y="359"/>
                  </a:lnTo>
                  <a:lnTo>
                    <a:pt x="2613" y="359"/>
                  </a:lnTo>
                  <a:lnTo>
                    <a:pt x="2613" y="365"/>
                  </a:lnTo>
                  <a:lnTo>
                    <a:pt x="2653" y="365"/>
                  </a:lnTo>
                  <a:lnTo>
                    <a:pt x="2653" y="371"/>
                  </a:lnTo>
                  <a:lnTo>
                    <a:pt x="2745" y="371"/>
                  </a:lnTo>
                  <a:lnTo>
                    <a:pt x="2745" y="377"/>
                  </a:lnTo>
                  <a:lnTo>
                    <a:pt x="2819" y="377"/>
                  </a:lnTo>
                  <a:lnTo>
                    <a:pt x="2819" y="382"/>
                  </a:lnTo>
                  <a:lnTo>
                    <a:pt x="2875" y="382"/>
                  </a:lnTo>
                  <a:lnTo>
                    <a:pt x="2875" y="387"/>
                  </a:lnTo>
                  <a:lnTo>
                    <a:pt x="2914" y="387"/>
                  </a:lnTo>
                  <a:lnTo>
                    <a:pt x="2914" y="394"/>
                  </a:lnTo>
                  <a:lnTo>
                    <a:pt x="2955" y="394"/>
                  </a:lnTo>
                  <a:lnTo>
                    <a:pt x="2955" y="399"/>
                  </a:lnTo>
                  <a:lnTo>
                    <a:pt x="2978" y="399"/>
                  </a:lnTo>
                  <a:lnTo>
                    <a:pt x="2978" y="394"/>
                  </a:lnTo>
                  <a:lnTo>
                    <a:pt x="2995" y="394"/>
                  </a:lnTo>
                  <a:lnTo>
                    <a:pt x="2995" y="399"/>
                  </a:lnTo>
                  <a:lnTo>
                    <a:pt x="3028" y="399"/>
                  </a:lnTo>
                  <a:lnTo>
                    <a:pt x="3028" y="404"/>
                  </a:lnTo>
                  <a:lnTo>
                    <a:pt x="3057" y="404"/>
                  </a:lnTo>
                  <a:lnTo>
                    <a:pt x="3057" y="411"/>
                  </a:lnTo>
                  <a:lnTo>
                    <a:pt x="3074" y="411"/>
                  </a:lnTo>
                  <a:lnTo>
                    <a:pt x="3074" y="416"/>
                  </a:lnTo>
                  <a:lnTo>
                    <a:pt x="3126" y="416"/>
                  </a:lnTo>
                  <a:lnTo>
                    <a:pt x="3126" y="422"/>
                  </a:lnTo>
                  <a:lnTo>
                    <a:pt x="3142" y="422"/>
                  </a:lnTo>
                  <a:lnTo>
                    <a:pt x="3142" y="428"/>
                  </a:lnTo>
                  <a:lnTo>
                    <a:pt x="3159" y="428"/>
                  </a:lnTo>
                  <a:lnTo>
                    <a:pt x="3159" y="433"/>
                  </a:lnTo>
                  <a:lnTo>
                    <a:pt x="3188" y="433"/>
                  </a:lnTo>
                  <a:lnTo>
                    <a:pt x="3188" y="439"/>
                  </a:lnTo>
                  <a:lnTo>
                    <a:pt x="3211" y="439"/>
                  </a:lnTo>
                  <a:lnTo>
                    <a:pt x="3211" y="444"/>
                  </a:lnTo>
                  <a:lnTo>
                    <a:pt x="3240" y="444"/>
                  </a:lnTo>
                  <a:lnTo>
                    <a:pt x="3240" y="451"/>
                  </a:lnTo>
                  <a:lnTo>
                    <a:pt x="3261" y="451"/>
                  </a:lnTo>
                  <a:lnTo>
                    <a:pt x="3261" y="456"/>
                  </a:lnTo>
                  <a:lnTo>
                    <a:pt x="3285" y="456"/>
                  </a:lnTo>
                  <a:lnTo>
                    <a:pt x="3285" y="461"/>
                  </a:lnTo>
                  <a:lnTo>
                    <a:pt x="3308" y="461"/>
                  </a:lnTo>
                  <a:lnTo>
                    <a:pt x="3308" y="467"/>
                  </a:lnTo>
                  <a:lnTo>
                    <a:pt x="3353" y="467"/>
                  </a:lnTo>
                  <a:lnTo>
                    <a:pt x="3353" y="473"/>
                  </a:lnTo>
                  <a:lnTo>
                    <a:pt x="3375" y="473"/>
                  </a:lnTo>
                  <a:lnTo>
                    <a:pt x="3375" y="479"/>
                  </a:lnTo>
                  <a:lnTo>
                    <a:pt x="3399" y="479"/>
                  </a:lnTo>
                  <a:lnTo>
                    <a:pt x="3399" y="484"/>
                  </a:lnTo>
                  <a:lnTo>
                    <a:pt x="3422" y="484"/>
                  </a:lnTo>
                  <a:lnTo>
                    <a:pt x="3422" y="489"/>
                  </a:lnTo>
                  <a:lnTo>
                    <a:pt x="3456" y="489"/>
                  </a:lnTo>
                  <a:lnTo>
                    <a:pt x="3456" y="496"/>
                  </a:lnTo>
                  <a:lnTo>
                    <a:pt x="3484" y="496"/>
                  </a:lnTo>
                  <a:lnTo>
                    <a:pt x="3484" y="501"/>
                  </a:lnTo>
                  <a:lnTo>
                    <a:pt x="3501" y="501"/>
                  </a:lnTo>
                  <a:lnTo>
                    <a:pt x="3501" y="507"/>
                  </a:lnTo>
                  <a:lnTo>
                    <a:pt x="3530" y="507"/>
                  </a:lnTo>
                  <a:lnTo>
                    <a:pt x="3530" y="513"/>
                  </a:lnTo>
                  <a:lnTo>
                    <a:pt x="3587" y="513"/>
                  </a:lnTo>
                  <a:lnTo>
                    <a:pt x="3587" y="518"/>
                  </a:lnTo>
                  <a:lnTo>
                    <a:pt x="3632" y="518"/>
                  </a:lnTo>
                  <a:lnTo>
                    <a:pt x="3632" y="524"/>
                  </a:lnTo>
                  <a:lnTo>
                    <a:pt x="3660" y="524"/>
                  </a:lnTo>
                  <a:lnTo>
                    <a:pt x="3660" y="530"/>
                  </a:lnTo>
                  <a:lnTo>
                    <a:pt x="3700" y="530"/>
                  </a:lnTo>
                  <a:lnTo>
                    <a:pt x="3700" y="536"/>
                  </a:lnTo>
                  <a:lnTo>
                    <a:pt x="3723" y="536"/>
                  </a:lnTo>
                  <a:lnTo>
                    <a:pt x="3723" y="541"/>
                  </a:lnTo>
                  <a:lnTo>
                    <a:pt x="3734" y="541"/>
                  </a:lnTo>
                  <a:lnTo>
                    <a:pt x="3734" y="547"/>
                  </a:lnTo>
                  <a:lnTo>
                    <a:pt x="3740" y="547"/>
                  </a:lnTo>
                  <a:lnTo>
                    <a:pt x="3740" y="553"/>
                  </a:lnTo>
                  <a:lnTo>
                    <a:pt x="3757" y="553"/>
                  </a:lnTo>
                  <a:lnTo>
                    <a:pt x="3757" y="558"/>
                  </a:lnTo>
                  <a:lnTo>
                    <a:pt x="3769" y="558"/>
                  </a:lnTo>
                  <a:lnTo>
                    <a:pt x="3769" y="563"/>
                  </a:lnTo>
                  <a:lnTo>
                    <a:pt x="3786" y="563"/>
                  </a:lnTo>
                  <a:lnTo>
                    <a:pt x="3786" y="570"/>
                  </a:lnTo>
                  <a:lnTo>
                    <a:pt x="3820" y="570"/>
                  </a:lnTo>
                  <a:lnTo>
                    <a:pt x="3820" y="575"/>
                  </a:lnTo>
                  <a:lnTo>
                    <a:pt x="3854" y="575"/>
                  </a:lnTo>
                  <a:lnTo>
                    <a:pt x="3854" y="581"/>
                  </a:lnTo>
                  <a:lnTo>
                    <a:pt x="3888" y="581"/>
                  </a:lnTo>
                  <a:lnTo>
                    <a:pt x="3888" y="587"/>
                  </a:lnTo>
                  <a:lnTo>
                    <a:pt x="3911" y="587"/>
                  </a:lnTo>
                  <a:lnTo>
                    <a:pt x="3911" y="592"/>
                  </a:lnTo>
                  <a:lnTo>
                    <a:pt x="3928" y="592"/>
                  </a:lnTo>
                  <a:lnTo>
                    <a:pt x="3928" y="598"/>
                  </a:lnTo>
                  <a:lnTo>
                    <a:pt x="3968" y="598"/>
                  </a:lnTo>
                  <a:lnTo>
                    <a:pt x="3968" y="604"/>
                  </a:lnTo>
                  <a:lnTo>
                    <a:pt x="3974" y="604"/>
                  </a:lnTo>
                  <a:lnTo>
                    <a:pt x="3974" y="610"/>
                  </a:lnTo>
                  <a:lnTo>
                    <a:pt x="3997" y="610"/>
                  </a:lnTo>
                  <a:lnTo>
                    <a:pt x="3997" y="615"/>
                  </a:lnTo>
                  <a:lnTo>
                    <a:pt x="4036" y="615"/>
                  </a:lnTo>
                  <a:lnTo>
                    <a:pt x="4036" y="620"/>
                  </a:lnTo>
                  <a:lnTo>
                    <a:pt x="4071" y="620"/>
                  </a:lnTo>
                  <a:lnTo>
                    <a:pt x="4071" y="627"/>
                  </a:lnTo>
                  <a:lnTo>
                    <a:pt x="4082" y="627"/>
                  </a:lnTo>
                  <a:lnTo>
                    <a:pt x="4082" y="632"/>
                  </a:lnTo>
                  <a:lnTo>
                    <a:pt x="4104" y="632"/>
                  </a:lnTo>
                  <a:lnTo>
                    <a:pt x="4104" y="638"/>
                  </a:lnTo>
                  <a:lnTo>
                    <a:pt x="4150" y="638"/>
                  </a:lnTo>
                  <a:lnTo>
                    <a:pt x="4150" y="644"/>
                  </a:lnTo>
                  <a:lnTo>
                    <a:pt x="4185" y="644"/>
                  </a:lnTo>
                  <a:lnTo>
                    <a:pt x="4185" y="649"/>
                  </a:lnTo>
                  <a:lnTo>
                    <a:pt x="4235" y="649"/>
                  </a:lnTo>
                  <a:lnTo>
                    <a:pt x="4235" y="655"/>
                  </a:lnTo>
                  <a:lnTo>
                    <a:pt x="4264" y="655"/>
                  </a:lnTo>
                  <a:lnTo>
                    <a:pt x="4264" y="661"/>
                  </a:lnTo>
                  <a:lnTo>
                    <a:pt x="4292" y="661"/>
                  </a:lnTo>
                  <a:lnTo>
                    <a:pt x="4292" y="667"/>
                  </a:lnTo>
                  <a:lnTo>
                    <a:pt x="4332" y="667"/>
                  </a:lnTo>
                  <a:lnTo>
                    <a:pt x="4332" y="672"/>
                  </a:lnTo>
                  <a:lnTo>
                    <a:pt x="4356" y="672"/>
                  </a:lnTo>
                  <a:lnTo>
                    <a:pt x="4356" y="677"/>
                  </a:lnTo>
                  <a:lnTo>
                    <a:pt x="4378" y="677"/>
                  </a:lnTo>
                  <a:lnTo>
                    <a:pt x="4378" y="684"/>
                  </a:lnTo>
                  <a:lnTo>
                    <a:pt x="4395" y="684"/>
                  </a:lnTo>
                  <a:lnTo>
                    <a:pt x="4395" y="689"/>
                  </a:lnTo>
                  <a:lnTo>
                    <a:pt x="4423" y="689"/>
                  </a:lnTo>
                  <a:lnTo>
                    <a:pt x="4423" y="695"/>
                  </a:lnTo>
                  <a:lnTo>
                    <a:pt x="4475" y="695"/>
                  </a:lnTo>
                  <a:lnTo>
                    <a:pt x="4475" y="701"/>
                  </a:lnTo>
                  <a:lnTo>
                    <a:pt x="4520" y="701"/>
                  </a:lnTo>
                  <a:lnTo>
                    <a:pt x="4520" y="706"/>
                  </a:lnTo>
                  <a:lnTo>
                    <a:pt x="4560" y="706"/>
                  </a:lnTo>
                  <a:lnTo>
                    <a:pt x="4560" y="712"/>
                  </a:lnTo>
                  <a:lnTo>
                    <a:pt x="4611" y="712"/>
                  </a:lnTo>
                  <a:lnTo>
                    <a:pt x="4611" y="718"/>
                  </a:lnTo>
                  <a:lnTo>
                    <a:pt x="4634" y="718"/>
                  </a:lnTo>
                  <a:lnTo>
                    <a:pt x="4634" y="724"/>
                  </a:lnTo>
                  <a:lnTo>
                    <a:pt x="4691" y="724"/>
                  </a:lnTo>
                  <a:lnTo>
                    <a:pt x="4691" y="729"/>
                  </a:lnTo>
                  <a:lnTo>
                    <a:pt x="4708" y="729"/>
                  </a:lnTo>
                  <a:lnTo>
                    <a:pt x="4708" y="734"/>
                  </a:lnTo>
                  <a:lnTo>
                    <a:pt x="4736" y="734"/>
                  </a:lnTo>
                  <a:lnTo>
                    <a:pt x="4736" y="741"/>
                  </a:lnTo>
                  <a:lnTo>
                    <a:pt x="4760" y="741"/>
                  </a:lnTo>
                  <a:lnTo>
                    <a:pt x="4760" y="746"/>
                  </a:lnTo>
                  <a:lnTo>
                    <a:pt x="4777" y="746"/>
                  </a:lnTo>
                  <a:lnTo>
                    <a:pt x="4777" y="752"/>
                  </a:lnTo>
                  <a:lnTo>
                    <a:pt x="4800" y="752"/>
                  </a:lnTo>
                  <a:lnTo>
                    <a:pt x="4800" y="758"/>
                  </a:lnTo>
                  <a:lnTo>
                    <a:pt x="4822" y="758"/>
                  </a:lnTo>
                  <a:lnTo>
                    <a:pt x="4822" y="763"/>
                  </a:lnTo>
                  <a:lnTo>
                    <a:pt x="4857" y="763"/>
                  </a:lnTo>
                  <a:lnTo>
                    <a:pt x="4857" y="769"/>
                  </a:lnTo>
                  <a:lnTo>
                    <a:pt x="4884" y="769"/>
                  </a:lnTo>
                  <a:lnTo>
                    <a:pt x="4884" y="775"/>
                  </a:lnTo>
                  <a:lnTo>
                    <a:pt x="4919" y="775"/>
                  </a:lnTo>
                  <a:lnTo>
                    <a:pt x="4919" y="781"/>
                  </a:lnTo>
                  <a:lnTo>
                    <a:pt x="4947" y="781"/>
                  </a:lnTo>
                  <a:lnTo>
                    <a:pt x="4947" y="786"/>
                  </a:lnTo>
                  <a:lnTo>
                    <a:pt x="4964" y="786"/>
                  </a:lnTo>
                  <a:lnTo>
                    <a:pt x="4964" y="791"/>
                  </a:lnTo>
                  <a:lnTo>
                    <a:pt x="4998" y="791"/>
                  </a:lnTo>
                  <a:lnTo>
                    <a:pt x="4998" y="798"/>
                  </a:lnTo>
                  <a:lnTo>
                    <a:pt x="5026" y="798"/>
                  </a:lnTo>
                  <a:lnTo>
                    <a:pt x="5026" y="803"/>
                  </a:lnTo>
                  <a:lnTo>
                    <a:pt x="5050" y="803"/>
                  </a:lnTo>
                  <a:lnTo>
                    <a:pt x="5050" y="808"/>
                  </a:lnTo>
                  <a:lnTo>
                    <a:pt x="5073" y="808"/>
                  </a:lnTo>
                  <a:lnTo>
                    <a:pt x="5073" y="815"/>
                  </a:lnTo>
                  <a:lnTo>
                    <a:pt x="5090" y="815"/>
                  </a:lnTo>
                  <a:lnTo>
                    <a:pt x="5090" y="820"/>
                  </a:lnTo>
                  <a:lnTo>
                    <a:pt x="5107" y="820"/>
                  </a:lnTo>
                  <a:lnTo>
                    <a:pt x="5107" y="826"/>
                  </a:lnTo>
                  <a:lnTo>
                    <a:pt x="5118" y="826"/>
                  </a:lnTo>
                  <a:lnTo>
                    <a:pt x="5118" y="832"/>
                  </a:lnTo>
                  <a:lnTo>
                    <a:pt x="5157" y="832"/>
                  </a:lnTo>
                  <a:lnTo>
                    <a:pt x="5157" y="837"/>
                  </a:lnTo>
                  <a:lnTo>
                    <a:pt x="5181" y="837"/>
                  </a:lnTo>
                  <a:lnTo>
                    <a:pt x="5181" y="843"/>
                  </a:lnTo>
                  <a:lnTo>
                    <a:pt x="5204" y="843"/>
                  </a:lnTo>
                  <a:lnTo>
                    <a:pt x="5204" y="837"/>
                  </a:lnTo>
                  <a:lnTo>
                    <a:pt x="5243" y="837"/>
                  </a:lnTo>
                  <a:lnTo>
                    <a:pt x="5243" y="843"/>
                  </a:lnTo>
                  <a:lnTo>
                    <a:pt x="5271" y="843"/>
                  </a:lnTo>
                  <a:lnTo>
                    <a:pt x="5271" y="848"/>
                  </a:lnTo>
                  <a:lnTo>
                    <a:pt x="5311" y="848"/>
                  </a:lnTo>
                  <a:lnTo>
                    <a:pt x="5311" y="855"/>
                  </a:lnTo>
                  <a:lnTo>
                    <a:pt x="5363" y="855"/>
                  </a:lnTo>
                  <a:lnTo>
                    <a:pt x="5363" y="860"/>
                  </a:lnTo>
                  <a:lnTo>
                    <a:pt x="5403" y="860"/>
                  </a:lnTo>
                  <a:lnTo>
                    <a:pt x="5403" y="865"/>
                  </a:lnTo>
                  <a:lnTo>
                    <a:pt x="5425" y="865"/>
                  </a:lnTo>
                  <a:lnTo>
                    <a:pt x="5425" y="872"/>
                  </a:lnTo>
                  <a:lnTo>
                    <a:pt x="5448" y="872"/>
                  </a:lnTo>
                  <a:lnTo>
                    <a:pt x="5448" y="877"/>
                  </a:lnTo>
                  <a:lnTo>
                    <a:pt x="5494" y="877"/>
                  </a:lnTo>
                  <a:lnTo>
                    <a:pt x="5494" y="883"/>
                  </a:lnTo>
                  <a:lnTo>
                    <a:pt x="5505" y="883"/>
                  </a:lnTo>
                  <a:lnTo>
                    <a:pt x="5505" y="888"/>
                  </a:lnTo>
                  <a:lnTo>
                    <a:pt x="5585" y="888"/>
                  </a:lnTo>
                  <a:lnTo>
                    <a:pt x="5585" y="894"/>
                  </a:lnTo>
                  <a:lnTo>
                    <a:pt x="5892" y="894"/>
                  </a:lnTo>
                  <a:lnTo>
                    <a:pt x="5892" y="900"/>
                  </a:lnTo>
                  <a:lnTo>
                    <a:pt x="5995" y="900"/>
                  </a:lnTo>
                  <a:lnTo>
                    <a:pt x="5995" y="905"/>
                  </a:lnTo>
                  <a:lnTo>
                    <a:pt x="6069" y="905"/>
                  </a:lnTo>
                  <a:lnTo>
                    <a:pt x="6069" y="911"/>
                  </a:lnTo>
                  <a:lnTo>
                    <a:pt x="6148" y="911"/>
                  </a:lnTo>
                  <a:lnTo>
                    <a:pt x="6148" y="917"/>
                  </a:lnTo>
                  <a:lnTo>
                    <a:pt x="6171" y="917"/>
                  </a:lnTo>
                  <a:lnTo>
                    <a:pt x="6171" y="922"/>
                  </a:lnTo>
                  <a:lnTo>
                    <a:pt x="6251" y="922"/>
                  </a:lnTo>
                  <a:lnTo>
                    <a:pt x="6251" y="928"/>
                  </a:lnTo>
                  <a:lnTo>
                    <a:pt x="6342" y="928"/>
                  </a:lnTo>
                  <a:lnTo>
                    <a:pt x="6342" y="934"/>
                  </a:lnTo>
                  <a:lnTo>
                    <a:pt x="6370" y="934"/>
                  </a:lnTo>
                  <a:lnTo>
                    <a:pt x="6370" y="940"/>
                  </a:lnTo>
                  <a:lnTo>
                    <a:pt x="6387" y="940"/>
                  </a:lnTo>
                  <a:lnTo>
                    <a:pt x="6387" y="934"/>
                  </a:lnTo>
                  <a:lnTo>
                    <a:pt x="6399" y="934"/>
                  </a:lnTo>
                  <a:lnTo>
                    <a:pt x="6399" y="940"/>
                  </a:lnTo>
                  <a:lnTo>
                    <a:pt x="6468" y="940"/>
                  </a:lnTo>
                  <a:lnTo>
                    <a:pt x="6468" y="945"/>
                  </a:lnTo>
                  <a:lnTo>
                    <a:pt x="6513" y="945"/>
                  </a:lnTo>
                  <a:lnTo>
                    <a:pt x="6513" y="951"/>
                  </a:lnTo>
                  <a:lnTo>
                    <a:pt x="6592" y="951"/>
                  </a:lnTo>
                  <a:lnTo>
                    <a:pt x="6592" y="957"/>
                  </a:lnTo>
                  <a:lnTo>
                    <a:pt x="6712" y="957"/>
                  </a:lnTo>
                  <a:lnTo>
                    <a:pt x="6712" y="962"/>
                  </a:lnTo>
                  <a:lnTo>
                    <a:pt x="7105" y="962"/>
                  </a:lnTo>
                  <a:lnTo>
                    <a:pt x="7105" y="957"/>
                  </a:lnTo>
                  <a:lnTo>
                    <a:pt x="7372" y="957"/>
                  </a:lnTo>
                  <a:lnTo>
                    <a:pt x="7372" y="962"/>
                  </a:lnTo>
                  <a:lnTo>
                    <a:pt x="7446" y="962"/>
                  </a:lnTo>
                  <a:lnTo>
                    <a:pt x="7446" y="957"/>
                  </a:lnTo>
                  <a:lnTo>
                    <a:pt x="7674" y="957"/>
                  </a:lnTo>
                  <a:lnTo>
                    <a:pt x="7674" y="951"/>
                  </a:lnTo>
                  <a:lnTo>
                    <a:pt x="7845" y="951"/>
                  </a:lnTo>
                  <a:lnTo>
                    <a:pt x="7845" y="957"/>
                  </a:lnTo>
                  <a:lnTo>
                    <a:pt x="7913" y="957"/>
                  </a:lnTo>
                  <a:lnTo>
                    <a:pt x="7913" y="962"/>
                  </a:lnTo>
                  <a:lnTo>
                    <a:pt x="7988" y="962"/>
                  </a:lnTo>
                  <a:lnTo>
                    <a:pt x="7988" y="957"/>
                  </a:lnTo>
                  <a:lnTo>
                    <a:pt x="8033" y="957"/>
                  </a:lnTo>
                  <a:lnTo>
                    <a:pt x="8033" y="951"/>
                  </a:lnTo>
                  <a:lnTo>
                    <a:pt x="8101" y="951"/>
                  </a:lnTo>
                  <a:lnTo>
                    <a:pt x="8101" y="945"/>
                  </a:lnTo>
                  <a:lnTo>
                    <a:pt x="8157" y="945"/>
                  </a:lnTo>
                  <a:lnTo>
                    <a:pt x="8157" y="951"/>
                  </a:lnTo>
                  <a:lnTo>
                    <a:pt x="8231" y="951"/>
                  </a:lnTo>
                  <a:lnTo>
                    <a:pt x="8231" y="957"/>
                  </a:lnTo>
                  <a:lnTo>
                    <a:pt x="8243" y="957"/>
                  </a:lnTo>
                  <a:lnTo>
                    <a:pt x="8243" y="951"/>
                  </a:lnTo>
                  <a:lnTo>
                    <a:pt x="8261" y="951"/>
                  </a:lnTo>
                  <a:lnTo>
                    <a:pt x="8261" y="957"/>
                  </a:lnTo>
                  <a:lnTo>
                    <a:pt x="8278" y="957"/>
                  </a:lnTo>
                  <a:lnTo>
                    <a:pt x="8278" y="951"/>
                  </a:lnTo>
                  <a:lnTo>
                    <a:pt x="8300" y="951"/>
                  </a:lnTo>
                  <a:lnTo>
                    <a:pt x="8300" y="945"/>
                  </a:lnTo>
                  <a:lnTo>
                    <a:pt x="8323" y="945"/>
                  </a:lnTo>
                  <a:lnTo>
                    <a:pt x="8323" y="940"/>
                  </a:lnTo>
                  <a:lnTo>
                    <a:pt x="8340" y="940"/>
                  </a:lnTo>
                  <a:lnTo>
                    <a:pt x="8340" y="934"/>
                  </a:lnTo>
                  <a:lnTo>
                    <a:pt x="8351" y="934"/>
                  </a:lnTo>
                  <a:lnTo>
                    <a:pt x="8351" y="928"/>
                  </a:lnTo>
                  <a:lnTo>
                    <a:pt x="8357" y="928"/>
                  </a:lnTo>
                  <a:lnTo>
                    <a:pt x="8357" y="922"/>
                  </a:lnTo>
                  <a:lnTo>
                    <a:pt x="8374" y="922"/>
                  </a:lnTo>
                  <a:lnTo>
                    <a:pt x="8374" y="917"/>
                  </a:lnTo>
                  <a:lnTo>
                    <a:pt x="8408" y="917"/>
                  </a:lnTo>
                  <a:lnTo>
                    <a:pt x="8408" y="911"/>
                  </a:lnTo>
                  <a:lnTo>
                    <a:pt x="8449" y="911"/>
                  </a:lnTo>
                  <a:lnTo>
                    <a:pt x="8449" y="905"/>
                  </a:lnTo>
                  <a:lnTo>
                    <a:pt x="8494" y="905"/>
                  </a:lnTo>
                  <a:lnTo>
                    <a:pt x="8494" y="900"/>
                  </a:lnTo>
                  <a:lnTo>
                    <a:pt x="8579" y="900"/>
                  </a:lnTo>
                  <a:lnTo>
                    <a:pt x="8579" y="894"/>
                  </a:lnTo>
                  <a:lnTo>
                    <a:pt x="8618" y="894"/>
                  </a:lnTo>
                  <a:lnTo>
                    <a:pt x="8618" y="888"/>
                  </a:lnTo>
                  <a:lnTo>
                    <a:pt x="8636" y="888"/>
                  </a:lnTo>
                  <a:lnTo>
                    <a:pt x="8636" y="883"/>
                  </a:lnTo>
                  <a:lnTo>
                    <a:pt x="8647" y="883"/>
                  </a:lnTo>
                  <a:lnTo>
                    <a:pt x="8647" y="877"/>
                  </a:lnTo>
                  <a:lnTo>
                    <a:pt x="8653" y="877"/>
                  </a:lnTo>
                  <a:lnTo>
                    <a:pt x="8653" y="872"/>
                  </a:lnTo>
                  <a:lnTo>
                    <a:pt x="8665" y="872"/>
                  </a:lnTo>
                  <a:lnTo>
                    <a:pt x="8665" y="865"/>
                  </a:lnTo>
                  <a:lnTo>
                    <a:pt x="8687" y="865"/>
                  </a:lnTo>
                  <a:lnTo>
                    <a:pt x="8687" y="860"/>
                  </a:lnTo>
                  <a:lnTo>
                    <a:pt x="8710" y="860"/>
                  </a:lnTo>
                  <a:lnTo>
                    <a:pt x="8710" y="855"/>
                  </a:lnTo>
                  <a:lnTo>
                    <a:pt x="8732" y="855"/>
                  </a:lnTo>
                  <a:lnTo>
                    <a:pt x="8732" y="848"/>
                  </a:lnTo>
                  <a:lnTo>
                    <a:pt x="8761" y="848"/>
                  </a:lnTo>
                  <a:lnTo>
                    <a:pt x="8761" y="843"/>
                  </a:lnTo>
                  <a:lnTo>
                    <a:pt x="8789" y="843"/>
                  </a:lnTo>
                  <a:lnTo>
                    <a:pt x="8789" y="837"/>
                  </a:lnTo>
                  <a:lnTo>
                    <a:pt x="8813" y="837"/>
                  </a:lnTo>
                  <a:lnTo>
                    <a:pt x="8813" y="832"/>
                  </a:lnTo>
                  <a:lnTo>
                    <a:pt x="8836" y="832"/>
                  </a:lnTo>
                  <a:lnTo>
                    <a:pt x="8836" y="826"/>
                  </a:lnTo>
                  <a:lnTo>
                    <a:pt x="8841" y="826"/>
                  </a:lnTo>
                  <a:lnTo>
                    <a:pt x="8841" y="820"/>
                  </a:lnTo>
                  <a:lnTo>
                    <a:pt x="8853" y="820"/>
                  </a:lnTo>
                  <a:lnTo>
                    <a:pt x="8853" y="815"/>
                  </a:lnTo>
                  <a:lnTo>
                    <a:pt x="8858" y="815"/>
                  </a:lnTo>
                  <a:lnTo>
                    <a:pt x="8858" y="808"/>
                  </a:lnTo>
                  <a:lnTo>
                    <a:pt x="8870" y="808"/>
                  </a:lnTo>
                  <a:lnTo>
                    <a:pt x="8870" y="803"/>
                  </a:lnTo>
                  <a:lnTo>
                    <a:pt x="8881" y="803"/>
                  </a:lnTo>
                  <a:lnTo>
                    <a:pt x="8881" y="798"/>
                  </a:lnTo>
                  <a:lnTo>
                    <a:pt x="8898" y="798"/>
                  </a:lnTo>
                  <a:lnTo>
                    <a:pt x="8898" y="791"/>
                  </a:lnTo>
                  <a:lnTo>
                    <a:pt x="8920" y="791"/>
                  </a:lnTo>
                  <a:lnTo>
                    <a:pt x="8920" y="786"/>
                  </a:lnTo>
                  <a:lnTo>
                    <a:pt x="8932" y="786"/>
                  </a:lnTo>
                  <a:lnTo>
                    <a:pt x="8932" y="781"/>
                  </a:lnTo>
                  <a:lnTo>
                    <a:pt x="8943" y="781"/>
                  </a:lnTo>
                  <a:lnTo>
                    <a:pt x="8943" y="775"/>
                  </a:lnTo>
                  <a:lnTo>
                    <a:pt x="8960" y="775"/>
                  </a:lnTo>
                  <a:lnTo>
                    <a:pt x="8960" y="769"/>
                  </a:lnTo>
                  <a:lnTo>
                    <a:pt x="8972" y="769"/>
                  </a:lnTo>
                  <a:lnTo>
                    <a:pt x="8972" y="763"/>
                  </a:lnTo>
                  <a:lnTo>
                    <a:pt x="8983" y="763"/>
                  </a:lnTo>
                  <a:lnTo>
                    <a:pt x="8983" y="758"/>
                  </a:lnTo>
                  <a:lnTo>
                    <a:pt x="8988" y="758"/>
                  </a:lnTo>
                  <a:lnTo>
                    <a:pt x="8988" y="752"/>
                  </a:lnTo>
                  <a:lnTo>
                    <a:pt x="9000" y="752"/>
                  </a:lnTo>
                  <a:lnTo>
                    <a:pt x="9000" y="746"/>
                  </a:lnTo>
                  <a:lnTo>
                    <a:pt x="9017" y="746"/>
                  </a:lnTo>
                  <a:lnTo>
                    <a:pt x="9017" y="741"/>
                  </a:lnTo>
                  <a:lnTo>
                    <a:pt x="9029" y="741"/>
                  </a:lnTo>
                  <a:lnTo>
                    <a:pt x="9029" y="734"/>
                  </a:lnTo>
                  <a:lnTo>
                    <a:pt x="9034" y="734"/>
                  </a:lnTo>
                  <a:lnTo>
                    <a:pt x="9034" y="729"/>
                  </a:lnTo>
                  <a:lnTo>
                    <a:pt x="9052" y="729"/>
                  </a:lnTo>
                  <a:lnTo>
                    <a:pt x="9052" y="724"/>
                  </a:lnTo>
                  <a:lnTo>
                    <a:pt x="9062" y="724"/>
                  </a:lnTo>
                  <a:lnTo>
                    <a:pt x="9062" y="718"/>
                  </a:lnTo>
                  <a:lnTo>
                    <a:pt x="9091" y="718"/>
                  </a:lnTo>
                  <a:lnTo>
                    <a:pt x="9091" y="712"/>
                  </a:lnTo>
                  <a:lnTo>
                    <a:pt x="9109" y="712"/>
                  </a:lnTo>
                  <a:lnTo>
                    <a:pt x="9109" y="706"/>
                  </a:lnTo>
                  <a:lnTo>
                    <a:pt x="9137" y="706"/>
                  </a:lnTo>
                  <a:lnTo>
                    <a:pt x="9137" y="701"/>
                  </a:lnTo>
                  <a:lnTo>
                    <a:pt x="9148" y="701"/>
                  </a:lnTo>
                  <a:lnTo>
                    <a:pt x="9148" y="695"/>
                  </a:lnTo>
                  <a:lnTo>
                    <a:pt x="9166" y="695"/>
                  </a:lnTo>
                  <a:lnTo>
                    <a:pt x="9166" y="689"/>
                  </a:lnTo>
                  <a:lnTo>
                    <a:pt x="9176" y="689"/>
                  </a:lnTo>
                  <a:lnTo>
                    <a:pt x="9176" y="684"/>
                  </a:lnTo>
                  <a:lnTo>
                    <a:pt x="9188" y="684"/>
                  </a:lnTo>
                  <a:lnTo>
                    <a:pt x="9188" y="677"/>
                  </a:lnTo>
                  <a:lnTo>
                    <a:pt x="9200" y="677"/>
                  </a:lnTo>
                  <a:lnTo>
                    <a:pt x="9200" y="672"/>
                  </a:lnTo>
                  <a:lnTo>
                    <a:pt x="9211" y="672"/>
                  </a:lnTo>
                  <a:lnTo>
                    <a:pt x="9211" y="667"/>
                  </a:lnTo>
                  <a:lnTo>
                    <a:pt x="9217" y="667"/>
                  </a:lnTo>
                  <a:lnTo>
                    <a:pt x="9217" y="661"/>
                  </a:lnTo>
                  <a:lnTo>
                    <a:pt x="9233" y="661"/>
                  </a:lnTo>
                  <a:lnTo>
                    <a:pt x="9233" y="655"/>
                  </a:lnTo>
                  <a:lnTo>
                    <a:pt x="9245" y="655"/>
                  </a:lnTo>
                  <a:lnTo>
                    <a:pt x="9245" y="649"/>
                  </a:lnTo>
                  <a:lnTo>
                    <a:pt x="9268" y="649"/>
                  </a:lnTo>
                  <a:lnTo>
                    <a:pt x="9268" y="644"/>
                  </a:lnTo>
                  <a:lnTo>
                    <a:pt x="9279" y="644"/>
                  </a:lnTo>
                  <a:lnTo>
                    <a:pt x="9279" y="638"/>
                  </a:lnTo>
                  <a:lnTo>
                    <a:pt x="9290" y="638"/>
                  </a:lnTo>
                  <a:lnTo>
                    <a:pt x="9290" y="632"/>
                  </a:lnTo>
                  <a:lnTo>
                    <a:pt x="9302" y="632"/>
                  </a:lnTo>
                  <a:lnTo>
                    <a:pt x="9302" y="627"/>
                  </a:lnTo>
                  <a:lnTo>
                    <a:pt x="9319" y="627"/>
                  </a:lnTo>
                  <a:lnTo>
                    <a:pt x="9319" y="620"/>
                  </a:lnTo>
                  <a:lnTo>
                    <a:pt x="9325" y="620"/>
                  </a:lnTo>
                  <a:lnTo>
                    <a:pt x="9325" y="615"/>
                  </a:lnTo>
                  <a:lnTo>
                    <a:pt x="9331" y="615"/>
                  </a:lnTo>
                  <a:lnTo>
                    <a:pt x="9331" y="610"/>
                  </a:lnTo>
                  <a:lnTo>
                    <a:pt x="9342" y="610"/>
                  </a:lnTo>
                  <a:lnTo>
                    <a:pt x="9342" y="604"/>
                  </a:lnTo>
                  <a:lnTo>
                    <a:pt x="9347" y="604"/>
                  </a:lnTo>
                  <a:lnTo>
                    <a:pt x="9347" y="598"/>
                  </a:lnTo>
                  <a:lnTo>
                    <a:pt x="9354" y="598"/>
                  </a:lnTo>
                  <a:lnTo>
                    <a:pt x="9354" y="592"/>
                  </a:lnTo>
                  <a:lnTo>
                    <a:pt x="9376" y="592"/>
                  </a:lnTo>
                  <a:lnTo>
                    <a:pt x="9376" y="587"/>
                  </a:lnTo>
                  <a:lnTo>
                    <a:pt x="9387" y="587"/>
                  </a:lnTo>
                  <a:lnTo>
                    <a:pt x="9387" y="581"/>
                  </a:lnTo>
                  <a:lnTo>
                    <a:pt x="9404" y="581"/>
                  </a:lnTo>
                  <a:lnTo>
                    <a:pt x="9404" y="575"/>
                  </a:lnTo>
                  <a:lnTo>
                    <a:pt x="9416" y="575"/>
                  </a:lnTo>
                  <a:lnTo>
                    <a:pt x="9416" y="570"/>
                  </a:lnTo>
                  <a:lnTo>
                    <a:pt x="9427" y="570"/>
                  </a:lnTo>
                  <a:lnTo>
                    <a:pt x="9427" y="563"/>
                  </a:lnTo>
                  <a:lnTo>
                    <a:pt x="9439" y="563"/>
                  </a:lnTo>
                  <a:lnTo>
                    <a:pt x="9439" y="558"/>
                  </a:lnTo>
                  <a:lnTo>
                    <a:pt x="9450" y="558"/>
                  </a:lnTo>
                  <a:lnTo>
                    <a:pt x="9450" y="553"/>
                  </a:lnTo>
                  <a:lnTo>
                    <a:pt x="9456" y="553"/>
                  </a:lnTo>
                  <a:lnTo>
                    <a:pt x="9456" y="547"/>
                  </a:lnTo>
                  <a:lnTo>
                    <a:pt x="9461" y="547"/>
                  </a:lnTo>
                  <a:lnTo>
                    <a:pt x="9461" y="541"/>
                  </a:lnTo>
                  <a:lnTo>
                    <a:pt x="9466" y="541"/>
                  </a:lnTo>
                  <a:lnTo>
                    <a:pt x="9466" y="536"/>
                  </a:lnTo>
                  <a:lnTo>
                    <a:pt x="9473" y="536"/>
                  </a:lnTo>
                  <a:lnTo>
                    <a:pt x="9473" y="530"/>
                  </a:lnTo>
                  <a:lnTo>
                    <a:pt x="9501" y="530"/>
                  </a:lnTo>
                  <a:lnTo>
                    <a:pt x="9501" y="524"/>
                  </a:lnTo>
                  <a:lnTo>
                    <a:pt x="9518" y="524"/>
                  </a:lnTo>
                  <a:lnTo>
                    <a:pt x="9518" y="518"/>
                  </a:lnTo>
                  <a:lnTo>
                    <a:pt x="9547" y="518"/>
                  </a:lnTo>
                  <a:lnTo>
                    <a:pt x="9547" y="513"/>
                  </a:lnTo>
                  <a:lnTo>
                    <a:pt x="9564" y="513"/>
                  </a:lnTo>
                  <a:lnTo>
                    <a:pt x="9564" y="507"/>
                  </a:lnTo>
                  <a:lnTo>
                    <a:pt x="9575" y="507"/>
                  </a:lnTo>
                  <a:lnTo>
                    <a:pt x="9575" y="501"/>
                  </a:lnTo>
                  <a:lnTo>
                    <a:pt x="9592" y="501"/>
                  </a:lnTo>
                  <a:lnTo>
                    <a:pt x="9592" y="496"/>
                  </a:lnTo>
                  <a:lnTo>
                    <a:pt x="9598" y="496"/>
                  </a:lnTo>
                  <a:lnTo>
                    <a:pt x="9598" y="489"/>
                  </a:lnTo>
                  <a:lnTo>
                    <a:pt x="9604" y="489"/>
                  </a:lnTo>
                  <a:lnTo>
                    <a:pt x="9604" y="484"/>
                  </a:lnTo>
                  <a:lnTo>
                    <a:pt x="9609" y="484"/>
                  </a:lnTo>
                  <a:lnTo>
                    <a:pt x="9609" y="479"/>
                  </a:lnTo>
                  <a:lnTo>
                    <a:pt x="9615" y="479"/>
                  </a:lnTo>
                  <a:lnTo>
                    <a:pt x="9615" y="473"/>
                  </a:lnTo>
                  <a:lnTo>
                    <a:pt x="9621" y="473"/>
                  </a:lnTo>
                  <a:lnTo>
                    <a:pt x="9621" y="461"/>
                  </a:lnTo>
                  <a:lnTo>
                    <a:pt x="9632" y="461"/>
                  </a:lnTo>
                  <a:lnTo>
                    <a:pt x="9632" y="456"/>
                  </a:lnTo>
                  <a:lnTo>
                    <a:pt x="9644" y="456"/>
                  </a:lnTo>
                  <a:lnTo>
                    <a:pt x="9644" y="451"/>
                  </a:lnTo>
                  <a:lnTo>
                    <a:pt x="9649" y="451"/>
                  </a:lnTo>
                  <a:lnTo>
                    <a:pt x="9649" y="444"/>
                  </a:lnTo>
                  <a:lnTo>
                    <a:pt x="9661" y="444"/>
                  </a:lnTo>
                  <a:lnTo>
                    <a:pt x="9661" y="439"/>
                  </a:lnTo>
                  <a:lnTo>
                    <a:pt x="9666" y="439"/>
                  </a:lnTo>
                  <a:lnTo>
                    <a:pt x="9666" y="433"/>
                  </a:lnTo>
                  <a:lnTo>
                    <a:pt x="9678" y="433"/>
                  </a:lnTo>
                  <a:lnTo>
                    <a:pt x="9678" y="428"/>
                  </a:lnTo>
                  <a:lnTo>
                    <a:pt x="9689" y="428"/>
                  </a:lnTo>
                  <a:lnTo>
                    <a:pt x="9689" y="422"/>
                  </a:lnTo>
                  <a:lnTo>
                    <a:pt x="9695" y="422"/>
                  </a:lnTo>
                  <a:lnTo>
                    <a:pt x="9695" y="416"/>
                  </a:lnTo>
                  <a:lnTo>
                    <a:pt x="9701" y="416"/>
                  </a:lnTo>
                  <a:lnTo>
                    <a:pt x="9701" y="411"/>
                  </a:lnTo>
                  <a:lnTo>
                    <a:pt x="9712" y="411"/>
                  </a:lnTo>
                  <a:lnTo>
                    <a:pt x="9712" y="404"/>
                  </a:lnTo>
                  <a:lnTo>
                    <a:pt x="9718" y="404"/>
                  </a:lnTo>
                  <a:lnTo>
                    <a:pt x="9718" y="399"/>
                  </a:lnTo>
                  <a:lnTo>
                    <a:pt x="9729" y="399"/>
                  </a:lnTo>
                  <a:lnTo>
                    <a:pt x="9729" y="394"/>
                  </a:lnTo>
                  <a:lnTo>
                    <a:pt x="9735" y="394"/>
                  </a:lnTo>
                  <a:lnTo>
                    <a:pt x="9735" y="387"/>
                  </a:lnTo>
                  <a:lnTo>
                    <a:pt x="9746" y="387"/>
                  </a:lnTo>
                  <a:lnTo>
                    <a:pt x="9746" y="382"/>
                  </a:lnTo>
                  <a:lnTo>
                    <a:pt x="9752" y="382"/>
                  </a:lnTo>
                  <a:lnTo>
                    <a:pt x="9752" y="377"/>
                  </a:lnTo>
                  <a:lnTo>
                    <a:pt x="9763" y="377"/>
                  </a:lnTo>
                  <a:lnTo>
                    <a:pt x="9763" y="371"/>
                  </a:lnTo>
                  <a:lnTo>
                    <a:pt x="9780" y="371"/>
                  </a:lnTo>
                  <a:lnTo>
                    <a:pt x="9780" y="365"/>
                  </a:lnTo>
                  <a:lnTo>
                    <a:pt x="9791" y="365"/>
                  </a:lnTo>
                  <a:lnTo>
                    <a:pt x="9791" y="359"/>
                  </a:lnTo>
                  <a:lnTo>
                    <a:pt x="9803" y="359"/>
                  </a:lnTo>
                  <a:lnTo>
                    <a:pt x="9803" y="354"/>
                  </a:lnTo>
                  <a:lnTo>
                    <a:pt x="9820" y="354"/>
                  </a:lnTo>
                  <a:lnTo>
                    <a:pt x="9820" y="348"/>
                  </a:lnTo>
                  <a:lnTo>
                    <a:pt x="9825" y="348"/>
                  </a:lnTo>
                  <a:lnTo>
                    <a:pt x="9825" y="342"/>
                  </a:lnTo>
                  <a:lnTo>
                    <a:pt x="9831" y="342"/>
                  </a:lnTo>
                  <a:lnTo>
                    <a:pt x="9831" y="337"/>
                  </a:lnTo>
                  <a:lnTo>
                    <a:pt x="9843" y="337"/>
                  </a:lnTo>
                  <a:lnTo>
                    <a:pt x="9843" y="330"/>
                  </a:lnTo>
                  <a:lnTo>
                    <a:pt x="9854" y="330"/>
                  </a:lnTo>
                  <a:lnTo>
                    <a:pt x="9854" y="325"/>
                  </a:lnTo>
                  <a:lnTo>
                    <a:pt x="9860" y="325"/>
                  </a:lnTo>
                  <a:lnTo>
                    <a:pt x="9860" y="320"/>
                  </a:lnTo>
                  <a:lnTo>
                    <a:pt x="9871" y="320"/>
                  </a:lnTo>
                  <a:lnTo>
                    <a:pt x="9871" y="314"/>
                  </a:lnTo>
                  <a:lnTo>
                    <a:pt x="9882" y="314"/>
                  </a:lnTo>
                  <a:lnTo>
                    <a:pt x="9882" y="308"/>
                  </a:lnTo>
                  <a:lnTo>
                    <a:pt x="9911" y="308"/>
                  </a:lnTo>
                  <a:lnTo>
                    <a:pt x="9911" y="302"/>
                  </a:lnTo>
                  <a:lnTo>
                    <a:pt x="9922" y="302"/>
                  </a:lnTo>
                  <a:lnTo>
                    <a:pt x="9922" y="297"/>
                  </a:lnTo>
                  <a:lnTo>
                    <a:pt x="9939" y="297"/>
                  </a:lnTo>
                  <a:lnTo>
                    <a:pt x="9939" y="291"/>
                  </a:lnTo>
                  <a:lnTo>
                    <a:pt x="9951" y="291"/>
                  </a:lnTo>
                  <a:lnTo>
                    <a:pt x="9951" y="285"/>
                  </a:lnTo>
                  <a:lnTo>
                    <a:pt x="9968" y="285"/>
                  </a:lnTo>
                  <a:lnTo>
                    <a:pt x="9968" y="280"/>
                  </a:lnTo>
                  <a:lnTo>
                    <a:pt x="9974" y="280"/>
                  </a:lnTo>
                  <a:lnTo>
                    <a:pt x="9974" y="273"/>
                  </a:lnTo>
                  <a:lnTo>
                    <a:pt x="9986" y="273"/>
                  </a:lnTo>
                  <a:lnTo>
                    <a:pt x="9986" y="268"/>
                  </a:lnTo>
                  <a:lnTo>
                    <a:pt x="9996" y="268"/>
                  </a:lnTo>
                  <a:lnTo>
                    <a:pt x="9996" y="263"/>
                  </a:lnTo>
                  <a:lnTo>
                    <a:pt x="10002" y="263"/>
                  </a:lnTo>
                  <a:lnTo>
                    <a:pt x="10002" y="257"/>
                  </a:lnTo>
                  <a:lnTo>
                    <a:pt x="10014" y="257"/>
                  </a:lnTo>
                  <a:lnTo>
                    <a:pt x="10014" y="251"/>
                  </a:lnTo>
                  <a:lnTo>
                    <a:pt x="10019" y="251"/>
                  </a:lnTo>
                  <a:lnTo>
                    <a:pt x="10019" y="245"/>
                  </a:lnTo>
                  <a:lnTo>
                    <a:pt x="10031" y="245"/>
                  </a:lnTo>
                  <a:lnTo>
                    <a:pt x="10031" y="240"/>
                  </a:lnTo>
                  <a:lnTo>
                    <a:pt x="10036" y="240"/>
                  </a:lnTo>
                  <a:lnTo>
                    <a:pt x="10036" y="234"/>
                  </a:lnTo>
                  <a:lnTo>
                    <a:pt x="10048" y="234"/>
                  </a:lnTo>
                  <a:lnTo>
                    <a:pt x="10048" y="228"/>
                  </a:lnTo>
                  <a:lnTo>
                    <a:pt x="10059" y="228"/>
                  </a:lnTo>
                  <a:lnTo>
                    <a:pt x="10059" y="223"/>
                  </a:lnTo>
                  <a:lnTo>
                    <a:pt x="10065" y="223"/>
                  </a:lnTo>
                  <a:lnTo>
                    <a:pt x="10065" y="216"/>
                  </a:lnTo>
                  <a:lnTo>
                    <a:pt x="10071" y="216"/>
                  </a:lnTo>
                  <a:lnTo>
                    <a:pt x="10071" y="211"/>
                  </a:lnTo>
                  <a:lnTo>
                    <a:pt x="10082" y="211"/>
                  </a:lnTo>
                  <a:lnTo>
                    <a:pt x="10082" y="206"/>
                  </a:lnTo>
                  <a:lnTo>
                    <a:pt x="10088" y="206"/>
                  </a:lnTo>
                  <a:lnTo>
                    <a:pt x="10088" y="199"/>
                  </a:lnTo>
                  <a:lnTo>
                    <a:pt x="10093" y="199"/>
                  </a:lnTo>
                  <a:lnTo>
                    <a:pt x="10093" y="194"/>
                  </a:lnTo>
                  <a:lnTo>
                    <a:pt x="10100" y="194"/>
                  </a:lnTo>
                  <a:lnTo>
                    <a:pt x="10100" y="188"/>
                  </a:lnTo>
                  <a:lnTo>
                    <a:pt x="10110" y="188"/>
                  </a:lnTo>
                  <a:lnTo>
                    <a:pt x="10110" y="183"/>
                  </a:lnTo>
                  <a:lnTo>
                    <a:pt x="10116" y="183"/>
                  </a:lnTo>
                  <a:lnTo>
                    <a:pt x="10116" y="177"/>
                  </a:lnTo>
                  <a:lnTo>
                    <a:pt x="10127" y="177"/>
                  </a:lnTo>
                  <a:lnTo>
                    <a:pt x="10127" y="171"/>
                  </a:lnTo>
                  <a:lnTo>
                    <a:pt x="10139" y="171"/>
                  </a:lnTo>
                  <a:lnTo>
                    <a:pt x="10139" y="166"/>
                  </a:lnTo>
                  <a:lnTo>
                    <a:pt x="10145" y="166"/>
                  </a:lnTo>
                  <a:lnTo>
                    <a:pt x="10145" y="159"/>
                  </a:lnTo>
                  <a:lnTo>
                    <a:pt x="10157" y="159"/>
                  </a:lnTo>
                  <a:lnTo>
                    <a:pt x="10157" y="154"/>
                  </a:lnTo>
                  <a:lnTo>
                    <a:pt x="10167" y="154"/>
                  </a:lnTo>
                  <a:lnTo>
                    <a:pt x="10167" y="149"/>
                  </a:lnTo>
                  <a:lnTo>
                    <a:pt x="10173" y="149"/>
                  </a:lnTo>
                  <a:lnTo>
                    <a:pt x="10173" y="142"/>
                  </a:lnTo>
                  <a:lnTo>
                    <a:pt x="10184" y="142"/>
                  </a:lnTo>
                  <a:lnTo>
                    <a:pt x="10184" y="137"/>
                  </a:lnTo>
                  <a:lnTo>
                    <a:pt x="10195" y="137"/>
                  </a:lnTo>
                  <a:lnTo>
                    <a:pt x="10195" y="132"/>
                  </a:lnTo>
                  <a:lnTo>
                    <a:pt x="10202" y="132"/>
                  </a:lnTo>
                  <a:lnTo>
                    <a:pt x="10202" y="126"/>
                  </a:lnTo>
                  <a:lnTo>
                    <a:pt x="10212" y="126"/>
                  </a:lnTo>
                  <a:lnTo>
                    <a:pt x="10212" y="120"/>
                  </a:lnTo>
                  <a:lnTo>
                    <a:pt x="10218" y="120"/>
                  </a:lnTo>
                  <a:lnTo>
                    <a:pt x="10218" y="114"/>
                  </a:lnTo>
                  <a:lnTo>
                    <a:pt x="10230" y="114"/>
                  </a:lnTo>
                  <a:lnTo>
                    <a:pt x="10230" y="109"/>
                  </a:lnTo>
                  <a:lnTo>
                    <a:pt x="10241" y="109"/>
                  </a:lnTo>
                  <a:lnTo>
                    <a:pt x="10241" y="103"/>
                  </a:lnTo>
                  <a:lnTo>
                    <a:pt x="10259" y="103"/>
                  </a:lnTo>
                  <a:lnTo>
                    <a:pt x="10259" y="97"/>
                  </a:lnTo>
                  <a:lnTo>
                    <a:pt x="10269" y="97"/>
                  </a:lnTo>
                  <a:lnTo>
                    <a:pt x="10269" y="92"/>
                  </a:lnTo>
                  <a:lnTo>
                    <a:pt x="10276" y="92"/>
                  </a:lnTo>
                  <a:lnTo>
                    <a:pt x="10276" y="85"/>
                  </a:lnTo>
                  <a:lnTo>
                    <a:pt x="10287" y="85"/>
                  </a:lnTo>
                  <a:lnTo>
                    <a:pt x="10287" y="80"/>
                  </a:lnTo>
                  <a:lnTo>
                    <a:pt x="10292" y="80"/>
                  </a:lnTo>
                  <a:lnTo>
                    <a:pt x="10292" y="75"/>
                  </a:lnTo>
                  <a:lnTo>
                    <a:pt x="10304" y="75"/>
                  </a:lnTo>
                  <a:lnTo>
                    <a:pt x="10304" y="69"/>
                  </a:lnTo>
                  <a:lnTo>
                    <a:pt x="10309" y="69"/>
                  </a:lnTo>
                  <a:lnTo>
                    <a:pt x="10309" y="63"/>
                  </a:lnTo>
                  <a:lnTo>
                    <a:pt x="10316" y="63"/>
                  </a:lnTo>
                  <a:lnTo>
                    <a:pt x="10316" y="57"/>
                  </a:lnTo>
                  <a:lnTo>
                    <a:pt x="10326" y="57"/>
                  </a:lnTo>
                  <a:lnTo>
                    <a:pt x="10326" y="52"/>
                  </a:lnTo>
                  <a:lnTo>
                    <a:pt x="10333" y="52"/>
                  </a:lnTo>
                  <a:lnTo>
                    <a:pt x="10333" y="47"/>
                  </a:lnTo>
                  <a:lnTo>
                    <a:pt x="10338" y="47"/>
                  </a:lnTo>
                  <a:lnTo>
                    <a:pt x="10338" y="40"/>
                  </a:lnTo>
                  <a:lnTo>
                    <a:pt x="10349" y="40"/>
                  </a:lnTo>
                  <a:lnTo>
                    <a:pt x="10349" y="35"/>
                  </a:lnTo>
                  <a:lnTo>
                    <a:pt x="10355" y="35"/>
                  </a:lnTo>
                  <a:lnTo>
                    <a:pt x="10355" y="29"/>
                  </a:lnTo>
                  <a:lnTo>
                    <a:pt x="10366" y="29"/>
                  </a:lnTo>
                  <a:lnTo>
                    <a:pt x="10366" y="24"/>
                  </a:lnTo>
                  <a:lnTo>
                    <a:pt x="10373" y="24"/>
                  </a:lnTo>
                  <a:lnTo>
                    <a:pt x="10373" y="18"/>
                  </a:lnTo>
                  <a:lnTo>
                    <a:pt x="10383" y="18"/>
                  </a:lnTo>
                  <a:lnTo>
                    <a:pt x="10383" y="12"/>
                  </a:lnTo>
                  <a:lnTo>
                    <a:pt x="10390" y="12"/>
                  </a:lnTo>
                  <a:lnTo>
                    <a:pt x="10390" y="7"/>
                  </a:lnTo>
                  <a:lnTo>
                    <a:pt x="10395" y="7"/>
                  </a:lnTo>
                  <a:lnTo>
                    <a:pt x="10395" y="0"/>
                  </a:lnTo>
                  <a:lnTo>
                    <a:pt x="10406" y="0"/>
                  </a:lnTo>
                  <a:lnTo>
                    <a:pt x="10406" y="35"/>
                  </a:lnTo>
                  <a:lnTo>
                    <a:pt x="10400" y="35"/>
                  </a:lnTo>
                  <a:lnTo>
                    <a:pt x="10400" y="40"/>
                  </a:lnTo>
                  <a:lnTo>
                    <a:pt x="10395" y="40"/>
                  </a:lnTo>
                  <a:lnTo>
                    <a:pt x="10395" y="47"/>
                  </a:lnTo>
                  <a:lnTo>
                    <a:pt x="10383" y="47"/>
                  </a:lnTo>
                  <a:lnTo>
                    <a:pt x="10383" y="52"/>
                  </a:lnTo>
                  <a:lnTo>
                    <a:pt x="10373" y="52"/>
                  </a:lnTo>
                  <a:lnTo>
                    <a:pt x="10373" y="57"/>
                  </a:lnTo>
                  <a:lnTo>
                    <a:pt x="10361" y="57"/>
                  </a:lnTo>
                  <a:lnTo>
                    <a:pt x="10361" y="63"/>
                  </a:lnTo>
                  <a:lnTo>
                    <a:pt x="10355" y="63"/>
                  </a:lnTo>
                  <a:lnTo>
                    <a:pt x="10355" y="69"/>
                  </a:lnTo>
                  <a:lnTo>
                    <a:pt x="10349" y="69"/>
                  </a:lnTo>
                  <a:lnTo>
                    <a:pt x="10349" y="75"/>
                  </a:lnTo>
                  <a:lnTo>
                    <a:pt x="10344" y="75"/>
                  </a:lnTo>
                  <a:lnTo>
                    <a:pt x="10344" y="80"/>
                  </a:lnTo>
                  <a:lnTo>
                    <a:pt x="10338" y="80"/>
                  </a:lnTo>
                  <a:lnTo>
                    <a:pt x="10338" y="85"/>
                  </a:lnTo>
                  <a:lnTo>
                    <a:pt x="10326" y="85"/>
                  </a:lnTo>
                  <a:lnTo>
                    <a:pt x="10326" y="92"/>
                  </a:lnTo>
                  <a:lnTo>
                    <a:pt x="10321" y="92"/>
                  </a:lnTo>
                  <a:lnTo>
                    <a:pt x="10321" y="97"/>
                  </a:lnTo>
                  <a:lnTo>
                    <a:pt x="10309" y="97"/>
                  </a:lnTo>
                  <a:lnTo>
                    <a:pt x="10309" y="103"/>
                  </a:lnTo>
                  <a:lnTo>
                    <a:pt x="10298" y="103"/>
                  </a:lnTo>
                  <a:lnTo>
                    <a:pt x="10298" y="109"/>
                  </a:lnTo>
                  <a:lnTo>
                    <a:pt x="10292" y="109"/>
                  </a:lnTo>
                  <a:lnTo>
                    <a:pt x="10292" y="114"/>
                  </a:lnTo>
                  <a:lnTo>
                    <a:pt x="10276" y="114"/>
                  </a:lnTo>
                  <a:lnTo>
                    <a:pt x="10276" y="120"/>
                  </a:lnTo>
                  <a:lnTo>
                    <a:pt x="10264" y="120"/>
                  </a:lnTo>
                  <a:lnTo>
                    <a:pt x="10264" y="126"/>
                  </a:lnTo>
                  <a:lnTo>
                    <a:pt x="10252" y="126"/>
                  </a:lnTo>
                  <a:lnTo>
                    <a:pt x="10252" y="132"/>
                  </a:lnTo>
                  <a:lnTo>
                    <a:pt x="10241" y="132"/>
                  </a:lnTo>
                  <a:lnTo>
                    <a:pt x="10241" y="137"/>
                  </a:lnTo>
                  <a:lnTo>
                    <a:pt x="10230" y="137"/>
                  </a:lnTo>
                  <a:lnTo>
                    <a:pt x="10230" y="142"/>
                  </a:lnTo>
                  <a:lnTo>
                    <a:pt x="10224" y="142"/>
                  </a:lnTo>
                  <a:lnTo>
                    <a:pt x="10224" y="149"/>
                  </a:lnTo>
                  <a:lnTo>
                    <a:pt x="10212" y="149"/>
                  </a:lnTo>
                  <a:lnTo>
                    <a:pt x="10212" y="154"/>
                  </a:lnTo>
                  <a:lnTo>
                    <a:pt x="10207" y="154"/>
                  </a:lnTo>
                  <a:lnTo>
                    <a:pt x="10207" y="159"/>
                  </a:lnTo>
                  <a:lnTo>
                    <a:pt x="10195" y="159"/>
                  </a:lnTo>
                  <a:lnTo>
                    <a:pt x="10195" y="166"/>
                  </a:lnTo>
                  <a:lnTo>
                    <a:pt x="10184" y="166"/>
                  </a:lnTo>
                  <a:lnTo>
                    <a:pt x="10184" y="171"/>
                  </a:lnTo>
                  <a:lnTo>
                    <a:pt x="10178" y="171"/>
                  </a:lnTo>
                  <a:lnTo>
                    <a:pt x="10178" y="177"/>
                  </a:lnTo>
                  <a:lnTo>
                    <a:pt x="10173" y="177"/>
                  </a:lnTo>
                  <a:lnTo>
                    <a:pt x="10173" y="183"/>
                  </a:lnTo>
                  <a:lnTo>
                    <a:pt x="10162" y="183"/>
                  </a:lnTo>
                  <a:lnTo>
                    <a:pt x="10162" y="188"/>
                  </a:lnTo>
                  <a:lnTo>
                    <a:pt x="10157" y="188"/>
                  </a:lnTo>
                  <a:lnTo>
                    <a:pt x="10157" y="194"/>
                  </a:lnTo>
                  <a:lnTo>
                    <a:pt x="10150" y="194"/>
                  </a:lnTo>
                  <a:lnTo>
                    <a:pt x="10150" y="199"/>
                  </a:lnTo>
                  <a:lnTo>
                    <a:pt x="10145" y="199"/>
                  </a:lnTo>
                  <a:lnTo>
                    <a:pt x="10145" y="206"/>
                  </a:lnTo>
                  <a:lnTo>
                    <a:pt x="10133" y="206"/>
                  </a:lnTo>
                  <a:lnTo>
                    <a:pt x="10133" y="211"/>
                  </a:lnTo>
                  <a:lnTo>
                    <a:pt x="10122" y="211"/>
                  </a:lnTo>
                  <a:lnTo>
                    <a:pt x="10122" y="216"/>
                  </a:lnTo>
                  <a:lnTo>
                    <a:pt x="10116" y="216"/>
                  </a:lnTo>
                  <a:lnTo>
                    <a:pt x="10116" y="223"/>
                  </a:lnTo>
                  <a:lnTo>
                    <a:pt x="10110" y="223"/>
                  </a:lnTo>
                  <a:lnTo>
                    <a:pt x="10110" y="228"/>
                  </a:lnTo>
                  <a:lnTo>
                    <a:pt x="10100" y="228"/>
                  </a:lnTo>
                  <a:lnTo>
                    <a:pt x="10100" y="234"/>
                  </a:lnTo>
                  <a:lnTo>
                    <a:pt x="10082" y="234"/>
                  </a:lnTo>
                  <a:lnTo>
                    <a:pt x="10082" y="240"/>
                  </a:lnTo>
                  <a:lnTo>
                    <a:pt x="10076" y="240"/>
                  </a:lnTo>
                  <a:lnTo>
                    <a:pt x="10076" y="245"/>
                  </a:lnTo>
                  <a:lnTo>
                    <a:pt x="10065" y="245"/>
                  </a:lnTo>
                  <a:lnTo>
                    <a:pt x="10065" y="251"/>
                  </a:lnTo>
                  <a:lnTo>
                    <a:pt x="10053" y="251"/>
                  </a:lnTo>
                  <a:lnTo>
                    <a:pt x="10053" y="257"/>
                  </a:lnTo>
                  <a:lnTo>
                    <a:pt x="10048" y="257"/>
                  </a:lnTo>
                  <a:lnTo>
                    <a:pt x="10048" y="263"/>
                  </a:lnTo>
                  <a:lnTo>
                    <a:pt x="10043" y="263"/>
                  </a:lnTo>
                  <a:lnTo>
                    <a:pt x="10043" y="268"/>
                  </a:lnTo>
                  <a:lnTo>
                    <a:pt x="10036" y="268"/>
                  </a:lnTo>
                  <a:lnTo>
                    <a:pt x="10036" y="273"/>
                  </a:lnTo>
                  <a:lnTo>
                    <a:pt x="10031" y="273"/>
                  </a:lnTo>
                  <a:lnTo>
                    <a:pt x="10031" y="280"/>
                  </a:lnTo>
                  <a:lnTo>
                    <a:pt x="10025" y="280"/>
                  </a:lnTo>
                  <a:lnTo>
                    <a:pt x="10025" y="285"/>
                  </a:lnTo>
                  <a:lnTo>
                    <a:pt x="10019" y="285"/>
                  </a:lnTo>
                  <a:lnTo>
                    <a:pt x="10019" y="291"/>
                  </a:lnTo>
                  <a:lnTo>
                    <a:pt x="10002" y="291"/>
                  </a:lnTo>
                  <a:lnTo>
                    <a:pt x="10002" y="297"/>
                  </a:lnTo>
                  <a:lnTo>
                    <a:pt x="9991" y="297"/>
                  </a:lnTo>
                  <a:lnTo>
                    <a:pt x="9991" y="302"/>
                  </a:lnTo>
                  <a:lnTo>
                    <a:pt x="9974" y="302"/>
                  </a:lnTo>
                  <a:lnTo>
                    <a:pt x="9974" y="308"/>
                  </a:lnTo>
                  <a:lnTo>
                    <a:pt x="9957" y="308"/>
                  </a:lnTo>
                  <a:lnTo>
                    <a:pt x="9957" y="314"/>
                  </a:lnTo>
                  <a:lnTo>
                    <a:pt x="9939" y="314"/>
                  </a:lnTo>
                  <a:lnTo>
                    <a:pt x="9939" y="320"/>
                  </a:lnTo>
                  <a:lnTo>
                    <a:pt x="9928" y="320"/>
                  </a:lnTo>
                  <a:lnTo>
                    <a:pt x="9928" y="325"/>
                  </a:lnTo>
                  <a:lnTo>
                    <a:pt x="9917" y="325"/>
                  </a:lnTo>
                  <a:lnTo>
                    <a:pt x="9917" y="330"/>
                  </a:lnTo>
                  <a:lnTo>
                    <a:pt x="9905" y="330"/>
                  </a:lnTo>
                  <a:lnTo>
                    <a:pt x="9905" y="337"/>
                  </a:lnTo>
                  <a:lnTo>
                    <a:pt x="9900" y="337"/>
                  </a:lnTo>
                  <a:lnTo>
                    <a:pt x="9900" y="342"/>
                  </a:lnTo>
                  <a:lnTo>
                    <a:pt x="9888" y="342"/>
                  </a:lnTo>
                  <a:lnTo>
                    <a:pt x="9888" y="348"/>
                  </a:lnTo>
                  <a:lnTo>
                    <a:pt x="9882" y="348"/>
                  </a:lnTo>
                  <a:lnTo>
                    <a:pt x="9882" y="354"/>
                  </a:lnTo>
                  <a:lnTo>
                    <a:pt x="9865" y="354"/>
                  </a:lnTo>
                  <a:lnTo>
                    <a:pt x="9865" y="359"/>
                  </a:lnTo>
                  <a:lnTo>
                    <a:pt x="9854" y="359"/>
                  </a:lnTo>
                  <a:lnTo>
                    <a:pt x="9854" y="365"/>
                  </a:lnTo>
                  <a:lnTo>
                    <a:pt x="9837" y="365"/>
                  </a:lnTo>
                  <a:lnTo>
                    <a:pt x="9837" y="371"/>
                  </a:lnTo>
                  <a:lnTo>
                    <a:pt x="9831" y="371"/>
                  </a:lnTo>
                  <a:lnTo>
                    <a:pt x="9831" y="377"/>
                  </a:lnTo>
                  <a:lnTo>
                    <a:pt x="9820" y="377"/>
                  </a:lnTo>
                  <a:lnTo>
                    <a:pt x="9820" y="382"/>
                  </a:lnTo>
                  <a:lnTo>
                    <a:pt x="9814" y="382"/>
                  </a:lnTo>
                  <a:lnTo>
                    <a:pt x="9814" y="387"/>
                  </a:lnTo>
                  <a:lnTo>
                    <a:pt x="9798" y="387"/>
                  </a:lnTo>
                  <a:lnTo>
                    <a:pt x="9798" y="394"/>
                  </a:lnTo>
                  <a:lnTo>
                    <a:pt x="9791" y="394"/>
                  </a:lnTo>
                  <a:lnTo>
                    <a:pt x="9791" y="399"/>
                  </a:lnTo>
                  <a:lnTo>
                    <a:pt x="9786" y="399"/>
                  </a:lnTo>
                  <a:lnTo>
                    <a:pt x="9786" y="404"/>
                  </a:lnTo>
                  <a:lnTo>
                    <a:pt x="9768" y="404"/>
                  </a:lnTo>
                  <a:lnTo>
                    <a:pt x="9768" y="411"/>
                  </a:lnTo>
                  <a:lnTo>
                    <a:pt x="9758" y="411"/>
                  </a:lnTo>
                  <a:lnTo>
                    <a:pt x="9758" y="416"/>
                  </a:lnTo>
                  <a:lnTo>
                    <a:pt x="9746" y="416"/>
                  </a:lnTo>
                  <a:lnTo>
                    <a:pt x="9746" y="422"/>
                  </a:lnTo>
                  <a:lnTo>
                    <a:pt x="9741" y="422"/>
                  </a:lnTo>
                  <a:lnTo>
                    <a:pt x="9741" y="428"/>
                  </a:lnTo>
                  <a:lnTo>
                    <a:pt x="9729" y="428"/>
                  </a:lnTo>
                  <a:lnTo>
                    <a:pt x="9729" y="433"/>
                  </a:lnTo>
                  <a:lnTo>
                    <a:pt x="9712" y="433"/>
                  </a:lnTo>
                  <a:lnTo>
                    <a:pt x="9712" y="439"/>
                  </a:lnTo>
                  <a:lnTo>
                    <a:pt x="9701" y="439"/>
                  </a:lnTo>
                  <a:lnTo>
                    <a:pt x="9701" y="444"/>
                  </a:lnTo>
                  <a:lnTo>
                    <a:pt x="9689" y="444"/>
                  </a:lnTo>
                  <a:lnTo>
                    <a:pt x="9689" y="451"/>
                  </a:lnTo>
                  <a:lnTo>
                    <a:pt x="9678" y="451"/>
                  </a:lnTo>
                  <a:lnTo>
                    <a:pt x="9678" y="456"/>
                  </a:lnTo>
                  <a:lnTo>
                    <a:pt x="9672" y="456"/>
                  </a:lnTo>
                  <a:lnTo>
                    <a:pt x="9672" y="461"/>
                  </a:lnTo>
                  <a:lnTo>
                    <a:pt x="9666" y="461"/>
                  </a:lnTo>
                  <a:lnTo>
                    <a:pt x="9666" y="467"/>
                  </a:lnTo>
                  <a:lnTo>
                    <a:pt x="9661" y="467"/>
                  </a:lnTo>
                  <a:lnTo>
                    <a:pt x="9661" y="473"/>
                  </a:lnTo>
                  <a:lnTo>
                    <a:pt x="9649" y="473"/>
                  </a:lnTo>
                  <a:lnTo>
                    <a:pt x="9649" y="479"/>
                  </a:lnTo>
                  <a:lnTo>
                    <a:pt x="9644" y="479"/>
                  </a:lnTo>
                  <a:lnTo>
                    <a:pt x="9644" y="484"/>
                  </a:lnTo>
                  <a:lnTo>
                    <a:pt x="9637" y="484"/>
                  </a:lnTo>
                  <a:lnTo>
                    <a:pt x="9637" y="489"/>
                  </a:lnTo>
                  <a:lnTo>
                    <a:pt x="9632" y="489"/>
                  </a:lnTo>
                  <a:lnTo>
                    <a:pt x="9632" y="496"/>
                  </a:lnTo>
                  <a:lnTo>
                    <a:pt x="9627" y="496"/>
                  </a:lnTo>
                  <a:lnTo>
                    <a:pt x="9627" y="501"/>
                  </a:lnTo>
                  <a:lnTo>
                    <a:pt x="9621" y="501"/>
                  </a:lnTo>
                  <a:lnTo>
                    <a:pt x="9621" y="507"/>
                  </a:lnTo>
                  <a:lnTo>
                    <a:pt x="9609" y="507"/>
                  </a:lnTo>
                  <a:lnTo>
                    <a:pt x="9609" y="513"/>
                  </a:lnTo>
                  <a:lnTo>
                    <a:pt x="9598" y="513"/>
                  </a:lnTo>
                  <a:lnTo>
                    <a:pt x="9598" y="518"/>
                  </a:lnTo>
                  <a:lnTo>
                    <a:pt x="9592" y="518"/>
                  </a:lnTo>
                  <a:lnTo>
                    <a:pt x="9592" y="524"/>
                  </a:lnTo>
                  <a:lnTo>
                    <a:pt x="9587" y="524"/>
                  </a:lnTo>
                  <a:lnTo>
                    <a:pt x="9587" y="530"/>
                  </a:lnTo>
                  <a:lnTo>
                    <a:pt x="9580" y="530"/>
                  </a:lnTo>
                  <a:lnTo>
                    <a:pt x="9580" y="536"/>
                  </a:lnTo>
                  <a:lnTo>
                    <a:pt x="9570" y="536"/>
                  </a:lnTo>
                  <a:lnTo>
                    <a:pt x="9570" y="541"/>
                  </a:lnTo>
                  <a:lnTo>
                    <a:pt x="9564" y="541"/>
                  </a:lnTo>
                  <a:lnTo>
                    <a:pt x="9564" y="547"/>
                  </a:lnTo>
                  <a:lnTo>
                    <a:pt x="9558" y="547"/>
                  </a:lnTo>
                  <a:lnTo>
                    <a:pt x="9558" y="553"/>
                  </a:lnTo>
                  <a:lnTo>
                    <a:pt x="9552" y="553"/>
                  </a:lnTo>
                  <a:lnTo>
                    <a:pt x="9552" y="558"/>
                  </a:lnTo>
                  <a:lnTo>
                    <a:pt x="9541" y="558"/>
                  </a:lnTo>
                  <a:lnTo>
                    <a:pt x="9541" y="563"/>
                  </a:lnTo>
                  <a:lnTo>
                    <a:pt x="9523" y="563"/>
                  </a:lnTo>
                  <a:lnTo>
                    <a:pt x="9523" y="570"/>
                  </a:lnTo>
                  <a:lnTo>
                    <a:pt x="9501" y="570"/>
                  </a:lnTo>
                  <a:lnTo>
                    <a:pt x="9501" y="575"/>
                  </a:lnTo>
                  <a:lnTo>
                    <a:pt x="9478" y="575"/>
                  </a:lnTo>
                  <a:lnTo>
                    <a:pt x="9478" y="581"/>
                  </a:lnTo>
                  <a:lnTo>
                    <a:pt x="9461" y="581"/>
                  </a:lnTo>
                  <a:lnTo>
                    <a:pt x="9461" y="587"/>
                  </a:lnTo>
                  <a:lnTo>
                    <a:pt x="9450" y="587"/>
                  </a:lnTo>
                  <a:lnTo>
                    <a:pt x="9450" y="592"/>
                  </a:lnTo>
                  <a:lnTo>
                    <a:pt x="9433" y="592"/>
                  </a:lnTo>
                  <a:lnTo>
                    <a:pt x="9433" y="598"/>
                  </a:lnTo>
                  <a:lnTo>
                    <a:pt x="9421" y="598"/>
                  </a:lnTo>
                  <a:lnTo>
                    <a:pt x="9421" y="604"/>
                  </a:lnTo>
                  <a:lnTo>
                    <a:pt x="9410" y="604"/>
                  </a:lnTo>
                  <a:lnTo>
                    <a:pt x="9410" y="610"/>
                  </a:lnTo>
                  <a:lnTo>
                    <a:pt x="9399" y="610"/>
                  </a:lnTo>
                  <a:lnTo>
                    <a:pt x="9399" y="615"/>
                  </a:lnTo>
                  <a:lnTo>
                    <a:pt x="9387" y="615"/>
                  </a:lnTo>
                  <a:lnTo>
                    <a:pt x="9387" y="620"/>
                  </a:lnTo>
                  <a:lnTo>
                    <a:pt x="9382" y="620"/>
                  </a:lnTo>
                  <a:lnTo>
                    <a:pt x="9382" y="627"/>
                  </a:lnTo>
                  <a:lnTo>
                    <a:pt x="9370" y="627"/>
                  </a:lnTo>
                  <a:lnTo>
                    <a:pt x="9370" y="632"/>
                  </a:lnTo>
                  <a:lnTo>
                    <a:pt x="9354" y="632"/>
                  </a:lnTo>
                  <a:lnTo>
                    <a:pt x="9354" y="638"/>
                  </a:lnTo>
                  <a:lnTo>
                    <a:pt x="9342" y="638"/>
                  </a:lnTo>
                  <a:lnTo>
                    <a:pt x="9342" y="644"/>
                  </a:lnTo>
                  <a:lnTo>
                    <a:pt x="9325" y="644"/>
                  </a:lnTo>
                  <a:lnTo>
                    <a:pt x="9325" y="649"/>
                  </a:lnTo>
                  <a:lnTo>
                    <a:pt x="9307" y="649"/>
                  </a:lnTo>
                  <a:lnTo>
                    <a:pt x="9307" y="655"/>
                  </a:lnTo>
                  <a:lnTo>
                    <a:pt x="9290" y="655"/>
                  </a:lnTo>
                  <a:lnTo>
                    <a:pt x="9290" y="661"/>
                  </a:lnTo>
                  <a:lnTo>
                    <a:pt x="9279" y="661"/>
                  </a:lnTo>
                  <a:lnTo>
                    <a:pt x="9279" y="667"/>
                  </a:lnTo>
                  <a:lnTo>
                    <a:pt x="9274" y="667"/>
                  </a:lnTo>
                  <a:lnTo>
                    <a:pt x="9274" y="672"/>
                  </a:lnTo>
                  <a:lnTo>
                    <a:pt x="9262" y="672"/>
                  </a:lnTo>
                  <a:lnTo>
                    <a:pt x="9262" y="677"/>
                  </a:lnTo>
                  <a:lnTo>
                    <a:pt x="9257" y="677"/>
                  </a:lnTo>
                  <a:lnTo>
                    <a:pt x="9257" y="684"/>
                  </a:lnTo>
                  <a:lnTo>
                    <a:pt x="9245" y="684"/>
                  </a:lnTo>
                  <a:lnTo>
                    <a:pt x="9245" y="689"/>
                  </a:lnTo>
                  <a:lnTo>
                    <a:pt x="9240" y="689"/>
                  </a:lnTo>
                  <a:lnTo>
                    <a:pt x="9240" y="695"/>
                  </a:lnTo>
                  <a:lnTo>
                    <a:pt x="9228" y="695"/>
                  </a:lnTo>
                  <a:lnTo>
                    <a:pt x="9228" y="701"/>
                  </a:lnTo>
                  <a:lnTo>
                    <a:pt x="9217" y="701"/>
                  </a:lnTo>
                  <a:lnTo>
                    <a:pt x="9217" y="706"/>
                  </a:lnTo>
                  <a:lnTo>
                    <a:pt x="9205" y="706"/>
                  </a:lnTo>
                  <a:lnTo>
                    <a:pt x="9205" y="712"/>
                  </a:lnTo>
                  <a:lnTo>
                    <a:pt x="9183" y="712"/>
                  </a:lnTo>
                  <a:lnTo>
                    <a:pt x="9183" y="718"/>
                  </a:lnTo>
                  <a:lnTo>
                    <a:pt x="9166" y="718"/>
                  </a:lnTo>
                  <a:lnTo>
                    <a:pt x="9166" y="724"/>
                  </a:lnTo>
                  <a:lnTo>
                    <a:pt x="9154" y="724"/>
                  </a:lnTo>
                  <a:lnTo>
                    <a:pt x="9154" y="729"/>
                  </a:lnTo>
                  <a:lnTo>
                    <a:pt x="9143" y="729"/>
                  </a:lnTo>
                  <a:lnTo>
                    <a:pt x="9143" y="734"/>
                  </a:lnTo>
                  <a:lnTo>
                    <a:pt x="9137" y="734"/>
                  </a:lnTo>
                  <a:lnTo>
                    <a:pt x="9137" y="741"/>
                  </a:lnTo>
                  <a:lnTo>
                    <a:pt x="9126" y="741"/>
                  </a:lnTo>
                  <a:lnTo>
                    <a:pt x="9126" y="746"/>
                  </a:lnTo>
                  <a:lnTo>
                    <a:pt x="9119" y="746"/>
                  </a:lnTo>
                  <a:lnTo>
                    <a:pt x="9119" y="752"/>
                  </a:lnTo>
                  <a:lnTo>
                    <a:pt x="9109" y="752"/>
                  </a:lnTo>
                  <a:lnTo>
                    <a:pt x="9109" y="758"/>
                  </a:lnTo>
                  <a:lnTo>
                    <a:pt x="9097" y="758"/>
                  </a:lnTo>
                  <a:lnTo>
                    <a:pt x="9097" y="763"/>
                  </a:lnTo>
                  <a:lnTo>
                    <a:pt x="9086" y="763"/>
                  </a:lnTo>
                  <a:lnTo>
                    <a:pt x="9086" y="769"/>
                  </a:lnTo>
                  <a:lnTo>
                    <a:pt x="9062" y="769"/>
                  </a:lnTo>
                  <a:lnTo>
                    <a:pt x="9062" y="775"/>
                  </a:lnTo>
                  <a:lnTo>
                    <a:pt x="9040" y="775"/>
                  </a:lnTo>
                  <a:lnTo>
                    <a:pt x="9040" y="781"/>
                  </a:lnTo>
                  <a:lnTo>
                    <a:pt x="9023" y="781"/>
                  </a:lnTo>
                  <a:lnTo>
                    <a:pt x="9023" y="786"/>
                  </a:lnTo>
                  <a:lnTo>
                    <a:pt x="9017" y="786"/>
                  </a:lnTo>
                  <a:lnTo>
                    <a:pt x="9017" y="791"/>
                  </a:lnTo>
                  <a:lnTo>
                    <a:pt x="9005" y="791"/>
                  </a:lnTo>
                  <a:lnTo>
                    <a:pt x="9005" y="798"/>
                  </a:lnTo>
                  <a:lnTo>
                    <a:pt x="8995" y="798"/>
                  </a:lnTo>
                  <a:lnTo>
                    <a:pt x="8995" y="803"/>
                  </a:lnTo>
                  <a:lnTo>
                    <a:pt x="8983" y="803"/>
                  </a:lnTo>
                  <a:lnTo>
                    <a:pt x="8983" y="808"/>
                  </a:lnTo>
                  <a:lnTo>
                    <a:pt x="8966" y="808"/>
                  </a:lnTo>
                  <a:lnTo>
                    <a:pt x="8966" y="815"/>
                  </a:lnTo>
                  <a:lnTo>
                    <a:pt x="8955" y="815"/>
                  </a:lnTo>
                  <a:lnTo>
                    <a:pt x="8955" y="820"/>
                  </a:lnTo>
                  <a:lnTo>
                    <a:pt x="8948" y="820"/>
                  </a:lnTo>
                  <a:lnTo>
                    <a:pt x="8948" y="826"/>
                  </a:lnTo>
                  <a:lnTo>
                    <a:pt x="8932" y="826"/>
                  </a:lnTo>
                  <a:lnTo>
                    <a:pt x="8932" y="832"/>
                  </a:lnTo>
                  <a:lnTo>
                    <a:pt x="8915" y="832"/>
                  </a:lnTo>
                  <a:lnTo>
                    <a:pt x="8915" y="837"/>
                  </a:lnTo>
                  <a:lnTo>
                    <a:pt x="8903" y="837"/>
                  </a:lnTo>
                  <a:lnTo>
                    <a:pt x="8903" y="843"/>
                  </a:lnTo>
                  <a:lnTo>
                    <a:pt x="8881" y="843"/>
                  </a:lnTo>
                  <a:lnTo>
                    <a:pt x="8881" y="848"/>
                  </a:lnTo>
                  <a:lnTo>
                    <a:pt x="8858" y="848"/>
                  </a:lnTo>
                  <a:lnTo>
                    <a:pt x="8858" y="855"/>
                  </a:lnTo>
                  <a:lnTo>
                    <a:pt x="8841" y="855"/>
                  </a:lnTo>
                  <a:lnTo>
                    <a:pt x="8841" y="860"/>
                  </a:lnTo>
                  <a:lnTo>
                    <a:pt x="8824" y="860"/>
                  </a:lnTo>
                  <a:lnTo>
                    <a:pt x="8824" y="865"/>
                  </a:lnTo>
                  <a:lnTo>
                    <a:pt x="8813" y="865"/>
                  </a:lnTo>
                  <a:lnTo>
                    <a:pt x="8813" y="872"/>
                  </a:lnTo>
                  <a:lnTo>
                    <a:pt x="8801" y="872"/>
                  </a:lnTo>
                  <a:lnTo>
                    <a:pt x="8801" y="877"/>
                  </a:lnTo>
                  <a:lnTo>
                    <a:pt x="8789" y="877"/>
                  </a:lnTo>
                  <a:lnTo>
                    <a:pt x="8789" y="883"/>
                  </a:lnTo>
                  <a:lnTo>
                    <a:pt x="8772" y="883"/>
                  </a:lnTo>
                  <a:lnTo>
                    <a:pt x="8772" y="888"/>
                  </a:lnTo>
                  <a:lnTo>
                    <a:pt x="8750" y="888"/>
                  </a:lnTo>
                  <a:lnTo>
                    <a:pt x="8750" y="894"/>
                  </a:lnTo>
                  <a:lnTo>
                    <a:pt x="8727" y="894"/>
                  </a:lnTo>
                  <a:lnTo>
                    <a:pt x="8727" y="900"/>
                  </a:lnTo>
                  <a:lnTo>
                    <a:pt x="8693" y="900"/>
                  </a:lnTo>
                  <a:lnTo>
                    <a:pt x="8693" y="905"/>
                  </a:lnTo>
                  <a:lnTo>
                    <a:pt x="8670" y="905"/>
                  </a:lnTo>
                  <a:lnTo>
                    <a:pt x="8670" y="911"/>
                  </a:lnTo>
                  <a:lnTo>
                    <a:pt x="8641" y="911"/>
                  </a:lnTo>
                  <a:lnTo>
                    <a:pt x="8641" y="917"/>
                  </a:lnTo>
                  <a:lnTo>
                    <a:pt x="8613" y="917"/>
                  </a:lnTo>
                  <a:lnTo>
                    <a:pt x="8613" y="922"/>
                  </a:lnTo>
                  <a:lnTo>
                    <a:pt x="8596" y="922"/>
                  </a:lnTo>
                  <a:lnTo>
                    <a:pt x="8596" y="928"/>
                  </a:lnTo>
                  <a:lnTo>
                    <a:pt x="8573" y="928"/>
                  </a:lnTo>
                  <a:lnTo>
                    <a:pt x="8573" y="934"/>
                  </a:lnTo>
                  <a:lnTo>
                    <a:pt x="8568" y="934"/>
                  </a:lnTo>
                  <a:lnTo>
                    <a:pt x="8568" y="940"/>
                  </a:lnTo>
                  <a:lnTo>
                    <a:pt x="8556" y="940"/>
                  </a:lnTo>
                  <a:lnTo>
                    <a:pt x="8556" y="945"/>
                  </a:lnTo>
                  <a:lnTo>
                    <a:pt x="8534" y="945"/>
                  </a:lnTo>
                  <a:lnTo>
                    <a:pt x="8534" y="951"/>
                  </a:lnTo>
                  <a:lnTo>
                    <a:pt x="8494" y="951"/>
                  </a:lnTo>
                  <a:lnTo>
                    <a:pt x="8494" y="957"/>
                  </a:lnTo>
                  <a:lnTo>
                    <a:pt x="8459" y="957"/>
                  </a:lnTo>
                  <a:lnTo>
                    <a:pt x="8459" y="962"/>
                  </a:lnTo>
                  <a:lnTo>
                    <a:pt x="8425" y="962"/>
                  </a:lnTo>
                  <a:lnTo>
                    <a:pt x="8425" y="967"/>
                  </a:lnTo>
                  <a:lnTo>
                    <a:pt x="8408" y="967"/>
                  </a:lnTo>
                  <a:lnTo>
                    <a:pt x="8408" y="974"/>
                  </a:lnTo>
                  <a:lnTo>
                    <a:pt x="8363" y="974"/>
                  </a:lnTo>
                  <a:lnTo>
                    <a:pt x="8363" y="979"/>
                  </a:lnTo>
                  <a:lnTo>
                    <a:pt x="8306" y="979"/>
                  </a:lnTo>
                  <a:lnTo>
                    <a:pt x="8306" y="985"/>
                  </a:lnTo>
                  <a:lnTo>
                    <a:pt x="8294" y="985"/>
                  </a:lnTo>
                  <a:lnTo>
                    <a:pt x="8294" y="979"/>
                  </a:lnTo>
                  <a:lnTo>
                    <a:pt x="8278" y="979"/>
                  </a:lnTo>
                  <a:lnTo>
                    <a:pt x="8278" y="985"/>
                  </a:lnTo>
                  <a:lnTo>
                    <a:pt x="8231" y="985"/>
                  </a:lnTo>
                  <a:lnTo>
                    <a:pt x="8231" y="991"/>
                  </a:lnTo>
                  <a:lnTo>
                    <a:pt x="8147" y="991"/>
                  </a:lnTo>
                  <a:lnTo>
                    <a:pt x="8147" y="985"/>
                  </a:lnTo>
                  <a:lnTo>
                    <a:pt x="8140" y="985"/>
                  </a:lnTo>
                  <a:lnTo>
                    <a:pt x="8140" y="974"/>
                  </a:lnTo>
                  <a:lnTo>
                    <a:pt x="8101" y="974"/>
                  </a:lnTo>
                  <a:lnTo>
                    <a:pt x="8101" y="979"/>
                  </a:lnTo>
                  <a:lnTo>
                    <a:pt x="8015" y="979"/>
                  </a:lnTo>
                  <a:lnTo>
                    <a:pt x="8015" y="985"/>
                  </a:lnTo>
                  <a:lnTo>
                    <a:pt x="7976" y="985"/>
                  </a:lnTo>
                  <a:lnTo>
                    <a:pt x="7976" y="991"/>
                  </a:lnTo>
                  <a:lnTo>
                    <a:pt x="7896" y="991"/>
                  </a:lnTo>
                  <a:lnTo>
                    <a:pt x="7896" y="985"/>
                  </a:lnTo>
                  <a:lnTo>
                    <a:pt x="7862" y="985"/>
                  </a:lnTo>
                  <a:lnTo>
                    <a:pt x="7862" y="979"/>
                  </a:lnTo>
                  <a:lnTo>
                    <a:pt x="7833" y="979"/>
                  </a:lnTo>
                  <a:lnTo>
                    <a:pt x="7833" y="974"/>
                  </a:lnTo>
                  <a:lnTo>
                    <a:pt x="7680" y="974"/>
                  </a:lnTo>
                  <a:lnTo>
                    <a:pt x="7680" y="979"/>
                  </a:lnTo>
                  <a:lnTo>
                    <a:pt x="7651" y="979"/>
                  </a:lnTo>
                  <a:lnTo>
                    <a:pt x="7651" y="985"/>
                  </a:lnTo>
                  <a:lnTo>
                    <a:pt x="7623" y="985"/>
                  </a:lnTo>
                  <a:lnTo>
                    <a:pt x="7623" y="979"/>
                  </a:lnTo>
                  <a:lnTo>
                    <a:pt x="7509" y="979"/>
                  </a:lnTo>
                  <a:lnTo>
                    <a:pt x="7509" y="985"/>
                  </a:lnTo>
                  <a:lnTo>
                    <a:pt x="7480" y="985"/>
                  </a:lnTo>
                  <a:lnTo>
                    <a:pt x="7480" y="979"/>
                  </a:lnTo>
                  <a:lnTo>
                    <a:pt x="7458" y="979"/>
                  </a:lnTo>
                  <a:lnTo>
                    <a:pt x="7458" y="985"/>
                  </a:lnTo>
                  <a:lnTo>
                    <a:pt x="7435" y="985"/>
                  </a:lnTo>
                  <a:lnTo>
                    <a:pt x="7435" y="991"/>
                  </a:lnTo>
                  <a:lnTo>
                    <a:pt x="7395" y="991"/>
                  </a:lnTo>
                  <a:lnTo>
                    <a:pt x="7395" y="985"/>
                  </a:lnTo>
                  <a:lnTo>
                    <a:pt x="7344" y="985"/>
                  </a:lnTo>
                  <a:lnTo>
                    <a:pt x="7344" y="979"/>
                  </a:lnTo>
                  <a:lnTo>
                    <a:pt x="7230" y="979"/>
                  </a:lnTo>
                  <a:lnTo>
                    <a:pt x="7230" y="985"/>
                  </a:lnTo>
                  <a:lnTo>
                    <a:pt x="7178" y="985"/>
                  </a:lnTo>
                  <a:lnTo>
                    <a:pt x="7178" y="991"/>
                  </a:lnTo>
                  <a:lnTo>
                    <a:pt x="7105" y="991"/>
                  </a:lnTo>
                  <a:lnTo>
                    <a:pt x="7105" y="997"/>
                  </a:lnTo>
                  <a:lnTo>
                    <a:pt x="6883" y="997"/>
                  </a:lnTo>
                  <a:lnTo>
                    <a:pt x="6883" y="1002"/>
                  </a:lnTo>
                  <a:lnTo>
                    <a:pt x="6815" y="1002"/>
                  </a:lnTo>
                  <a:lnTo>
                    <a:pt x="6815" y="997"/>
                  </a:lnTo>
                  <a:lnTo>
                    <a:pt x="6751" y="997"/>
                  </a:lnTo>
                  <a:lnTo>
                    <a:pt x="6751" y="991"/>
                  </a:lnTo>
                  <a:lnTo>
                    <a:pt x="6706" y="991"/>
                  </a:lnTo>
                  <a:lnTo>
                    <a:pt x="6706" y="985"/>
                  </a:lnTo>
                  <a:lnTo>
                    <a:pt x="6456" y="985"/>
                  </a:lnTo>
                  <a:lnTo>
                    <a:pt x="6456" y="979"/>
                  </a:lnTo>
                  <a:lnTo>
                    <a:pt x="6439" y="979"/>
                  </a:lnTo>
                  <a:lnTo>
                    <a:pt x="6439" y="974"/>
                  </a:lnTo>
                  <a:lnTo>
                    <a:pt x="6365" y="974"/>
                  </a:lnTo>
                  <a:lnTo>
                    <a:pt x="6365" y="967"/>
                  </a:lnTo>
                  <a:lnTo>
                    <a:pt x="6273" y="967"/>
                  </a:lnTo>
                  <a:lnTo>
                    <a:pt x="6273" y="962"/>
                  </a:lnTo>
                  <a:lnTo>
                    <a:pt x="6199" y="962"/>
                  </a:lnTo>
                  <a:lnTo>
                    <a:pt x="6199" y="957"/>
                  </a:lnTo>
                  <a:lnTo>
                    <a:pt x="6137" y="957"/>
                  </a:lnTo>
                  <a:lnTo>
                    <a:pt x="6137" y="951"/>
                  </a:lnTo>
                  <a:lnTo>
                    <a:pt x="6097" y="951"/>
                  </a:lnTo>
                  <a:lnTo>
                    <a:pt x="6097" y="945"/>
                  </a:lnTo>
                  <a:lnTo>
                    <a:pt x="5858" y="945"/>
                  </a:lnTo>
                  <a:lnTo>
                    <a:pt x="5858" y="940"/>
                  </a:lnTo>
                  <a:lnTo>
                    <a:pt x="5767" y="940"/>
                  </a:lnTo>
                  <a:lnTo>
                    <a:pt x="5767" y="934"/>
                  </a:lnTo>
                  <a:lnTo>
                    <a:pt x="5738" y="934"/>
                  </a:lnTo>
                  <a:lnTo>
                    <a:pt x="5738" y="928"/>
                  </a:lnTo>
                  <a:lnTo>
                    <a:pt x="5727" y="928"/>
                  </a:lnTo>
                  <a:lnTo>
                    <a:pt x="5727" y="922"/>
                  </a:lnTo>
                  <a:lnTo>
                    <a:pt x="5710" y="922"/>
                  </a:lnTo>
                  <a:lnTo>
                    <a:pt x="5710" y="928"/>
                  </a:lnTo>
                  <a:lnTo>
                    <a:pt x="5693" y="928"/>
                  </a:lnTo>
                  <a:lnTo>
                    <a:pt x="5693" y="922"/>
                  </a:lnTo>
                  <a:lnTo>
                    <a:pt x="5665" y="922"/>
                  </a:lnTo>
                  <a:lnTo>
                    <a:pt x="5665" y="917"/>
                  </a:lnTo>
                  <a:lnTo>
                    <a:pt x="5613" y="917"/>
                  </a:lnTo>
                  <a:lnTo>
                    <a:pt x="5613" y="911"/>
                  </a:lnTo>
                  <a:lnTo>
                    <a:pt x="5516" y="911"/>
                  </a:lnTo>
                  <a:lnTo>
                    <a:pt x="5516" y="905"/>
                  </a:lnTo>
                  <a:lnTo>
                    <a:pt x="5425" y="905"/>
                  </a:lnTo>
                  <a:lnTo>
                    <a:pt x="5425" y="900"/>
                  </a:lnTo>
                  <a:lnTo>
                    <a:pt x="5385" y="900"/>
                  </a:lnTo>
                  <a:lnTo>
                    <a:pt x="5385" y="894"/>
                  </a:lnTo>
                  <a:lnTo>
                    <a:pt x="5340" y="894"/>
                  </a:lnTo>
                  <a:lnTo>
                    <a:pt x="5340" y="888"/>
                  </a:lnTo>
                  <a:lnTo>
                    <a:pt x="5283" y="888"/>
                  </a:lnTo>
                  <a:lnTo>
                    <a:pt x="5283" y="883"/>
                  </a:lnTo>
                  <a:lnTo>
                    <a:pt x="5238" y="883"/>
                  </a:lnTo>
                  <a:lnTo>
                    <a:pt x="5238" y="877"/>
                  </a:lnTo>
                  <a:lnTo>
                    <a:pt x="5221" y="877"/>
                  </a:lnTo>
                  <a:lnTo>
                    <a:pt x="5221" y="872"/>
                  </a:lnTo>
                  <a:lnTo>
                    <a:pt x="5197" y="872"/>
                  </a:lnTo>
                  <a:lnTo>
                    <a:pt x="5197" y="865"/>
                  </a:lnTo>
                  <a:lnTo>
                    <a:pt x="5164" y="865"/>
                  </a:lnTo>
                  <a:lnTo>
                    <a:pt x="5164" y="860"/>
                  </a:lnTo>
                  <a:lnTo>
                    <a:pt x="5140" y="860"/>
                  </a:lnTo>
                  <a:lnTo>
                    <a:pt x="5140" y="855"/>
                  </a:lnTo>
                  <a:lnTo>
                    <a:pt x="5107" y="855"/>
                  </a:lnTo>
                  <a:lnTo>
                    <a:pt x="5107" y="848"/>
                  </a:lnTo>
                  <a:lnTo>
                    <a:pt x="5061" y="848"/>
                  </a:lnTo>
                  <a:lnTo>
                    <a:pt x="5061" y="843"/>
                  </a:lnTo>
                  <a:lnTo>
                    <a:pt x="5026" y="843"/>
                  </a:lnTo>
                  <a:lnTo>
                    <a:pt x="5026" y="837"/>
                  </a:lnTo>
                  <a:lnTo>
                    <a:pt x="4987" y="837"/>
                  </a:lnTo>
                  <a:lnTo>
                    <a:pt x="4987" y="832"/>
                  </a:lnTo>
                  <a:lnTo>
                    <a:pt x="4959" y="832"/>
                  </a:lnTo>
                  <a:lnTo>
                    <a:pt x="4959" y="826"/>
                  </a:lnTo>
                  <a:lnTo>
                    <a:pt x="4941" y="826"/>
                  </a:lnTo>
                  <a:lnTo>
                    <a:pt x="4941" y="820"/>
                  </a:lnTo>
                  <a:lnTo>
                    <a:pt x="4924" y="820"/>
                  </a:lnTo>
                  <a:lnTo>
                    <a:pt x="4924" y="815"/>
                  </a:lnTo>
                  <a:lnTo>
                    <a:pt x="4907" y="815"/>
                  </a:lnTo>
                  <a:lnTo>
                    <a:pt x="4907" y="808"/>
                  </a:lnTo>
                  <a:lnTo>
                    <a:pt x="4874" y="808"/>
                  </a:lnTo>
                  <a:lnTo>
                    <a:pt x="4874" y="803"/>
                  </a:lnTo>
                  <a:lnTo>
                    <a:pt x="4850" y="803"/>
                  </a:lnTo>
                  <a:lnTo>
                    <a:pt x="4850" y="798"/>
                  </a:lnTo>
                  <a:lnTo>
                    <a:pt x="4817" y="798"/>
                  </a:lnTo>
                  <a:lnTo>
                    <a:pt x="4817" y="791"/>
                  </a:lnTo>
                  <a:lnTo>
                    <a:pt x="4793" y="791"/>
                  </a:lnTo>
                  <a:lnTo>
                    <a:pt x="4793" y="786"/>
                  </a:lnTo>
                  <a:lnTo>
                    <a:pt x="4760" y="786"/>
                  </a:lnTo>
                  <a:lnTo>
                    <a:pt x="4760" y="781"/>
                  </a:lnTo>
                  <a:lnTo>
                    <a:pt x="4736" y="781"/>
                  </a:lnTo>
                  <a:lnTo>
                    <a:pt x="4736" y="775"/>
                  </a:lnTo>
                  <a:lnTo>
                    <a:pt x="4708" y="775"/>
                  </a:lnTo>
                  <a:lnTo>
                    <a:pt x="4708" y="769"/>
                  </a:lnTo>
                  <a:lnTo>
                    <a:pt x="4679" y="769"/>
                  </a:lnTo>
                  <a:lnTo>
                    <a:pt x="4679" y="763"/>
                  </a:lnTo>
                  <a:lnTo>
                    <a:pt x="4662" y="763"/>
                  </a:lnTo>
                  <a:lnTo>
                    <a:pt x="4662" y="758"/>
                  </a:lnTo>
                  <a:lnTo>
                    <a:pt x="4639" y="758"/>
                  </a:lnTo>
                  <a:lnTo>
                    <a:pt x="4639" y="752"/>
                  </a:lnTo>
                  <a:lnTo>
                    <a:pt x="4617" y="752"/>
                  </a:lnTo>
                  <a:lnTo>
                    <a:pt x="4617" y="746"/>
                  </a:lnTo>
                  <a:lnTo>
                    <a:pt x="4594" y="746"/>
                  </a:lnTo>
                  <a:lnTo>
                    <a:pt x="4594" y="741"/>
                  </a:lnTo>
                  <a:lnTo>
                    <a:pt x="4572" y="741"/>
                  </a:lnTo>
                  <a:lnTo>
                    <a:pt x="4572" y="734"/>
                  </a:lnTo>
                  <a:lnTo>
                    <a:pt x="4532" y="734"/>
                  </a:lnTo>
                  <a:lnTo>
                    <a:pt x="4532" y="729"/>
                  </a:lnTo>
                  <a:lnTo>
                    <a:pt x="4491" y="729"/>
                  </a:lnTo>
                  <a:lnTo>
                    <a:pt x="4491" y="724"/>
                  </a:lnTo>
                  <a:lnTo>
                    <a:pt x="4446" y="724"/>
                  </a:lnTo>
                  <a:lnTo>
                    <a:pt x="4446" y="718"/>
                  </a:lnTo>
                  <a:lnTo>
                    <a:pt x="4406" y="718"/>
                  </a:lnTo>
                  <a:lnTo>
                    <a:pt x="4406" y="712"/>
                  </a:lnTo>
                  <a:lnTo>
                    <a:pt x="4361" y="712"/>
                  </a:lnTo>
                  <a:lnTo>
                    <a:pt x="4361" y="706"/>
                  </a:lnTo>
                  <a:lnTo>
                    <a:pt x="4332" y="706"/>
                  </a:lnTo>
                  <a:lnTo>
                    <a:pt x="4332" y="701"/>
                  </a:lnTo>
                  <a:lnTo>
                    <a:pt x="4292" y="701"/>
                  </a:lnTo>
                  <a:lnTo>
                    <a:pt x="4292" y="695"/>
                  </a:lnTo>
                  <a:lnTo>
                    <a:pt x="4264" y="695"/>
                  </a:lnTo>
                  <a:lnTo>
                    <a:pt x="4264" y="689"/>
                  </a:lnTo>
                  <a:lnTo>
                    <a:pt x="4242" y="689"/>
                  </a:lnTo>
                  <a:lnTo>
                    <a:pt x="4242" y="684"/>
                  </a:lnTo>
                  <a:lnTo>
                    <a:pt x="4225" y="684"/>
                  </a:lnTo>
                  <a:lnTo>
                    <a:pt x="4225" y="677"/>
                  </a:lnTo>
                  <a:lnTo>
                    <a:pt x="4201" y="677"/>
                  </a:lnTo>
                  <a:lnTo>
                    <a:pt x="4201" y="672"/>
                  </a:lnTo>
                  <a:lnTo>
                    <a:pt x="4173" y="672"/>
                  </a:lnTo>
                  <a:lnTo>
                    <a:pt x="4173" y="667"/>
                  </a:lnTo>
                  <a:lnTo>
                    <a:pt x="4133" y="667"/>
                  </a:lnTo>
                  <a:lnTo>
                    <a:pt x="4133" y="661"/>
                  </a:lnTo>
                  <a:lnTo>
                    <a:pt x="4099" y="661"/>
                  </a:lnTo>
                  <a:lnTo>
                    <a:pt x="4099" y="655"/>
                  </a:lnTo>
                  <a:lnTo>
                    <a:pt x="4076" y="655"/>
                  </a:lnTo>
                  <a:lnTo>
                    <a:pt x="4076" y="649"/>
                  </a:lnTo>
                  <a:lnTo>
                    <a:pt x="4031" y="649"/>
                  </a:lnTo>
                  <a:lnTo>
                    <a:pt x="4031" y="644"/>
                  </a:lnTo>
                  <a:lnTo>
                    <a:pt x="4002" y="644"/>
                  </a:lnTo>
                  <a:lnTo>
                    <a:pt x="4002" y="638"/>
                  </a:lnTo>
                  <a:lnTo>
                    <a:pt x="3945" y="638"/>
                  </a:lnTo>
                  <a:lnTo>
                    <a:pt x="3945" y="632"/>
                  </a:lnTo>
                  <a:lnTo>
                    <a:pt x="3928" y="632"/>
                  </a:lnTo>
                  <a:lnTo>
                    <a:pt x="3928" y="627"/>
                  </a:lnTo>
                  <a:lnTo>
                    <a:pt x="3917" y="627"/>
                  </a:lnTo>
                  <a:lnTo>
                    <a:pt x="3917" y="620"/>
                  </a:lnTo>
                  <a:lnTo>
                    <a:pt x="3905" y="620"/>
                  </a:lnTo>
                  <a:lnTo>
                    <a:pt x="3905" y="615"/>
                  </a:lnTo>
                  <a:lnTo>
                    <a:pt x="3895" y="615"/>
                  </a:lnTo>
                  <a:lnTo>
                    <a:pt x="3895" y="610"/>
                  </a:lnTo>
                  <a:lnTo>
                    <a:pt x="3877" y="610"/>
                  </a:lnTo>
                  <a:lnTo>
                    <a:pt x="3877" y="604"/>
                  </a:lnTo>
                  <a:lnTo>
                    <a:pt x="3848" y="604"/>
                  </a:lnTo>
                  <a:lnTo>
                    <a:pt x="3848" y="598"/>
                  </a:lnTo>
                  <a:lnTo>
                    <a:pt x="3831" y="598"/>
                  </a:lnTo>
                  <a:lnTo>
                    <a:pt x="3831" y="592"/>
                  </a:lnTo>
                  <a:lnTo>
                    <a:pt x="3814" y="592"/>
                  </a:lnTo>
                  <a:lnTo>
                    <a:pt x="3814" y="587"/>
                  </a:lnTo>
                  <a:lnTo>
                    <a:pt x="3797" y="587"/>
                  </a:lnTo>
                  <a:lnTo>
                    <a:pt x="3797" y="581"/>
                  </a:lnTo>
                  <a:lnTo>
                    <a:pt x="3769" y="581"/>
                  </a:lnTo>
                  <a:lnTo>
                    <a:pt x="3769" y="575"/>
                  </a:lnTo>
                  <a:lnTo>
                    <a:pt x="3723" y="575"/>
                  </a:lnTo>
                  <a:lnTo>
                    <a:pt x="3723" y="570"/>
                  </a:lnTo>
                  <a:lnTo>
                    <a:pt x="3683" y="570"/>
                  </a:lnTo>
                  <a:lnTo>
                    <a:pt x="3683" y="563"/>
                  </a:lnTo>
                  <a:lnTo>
                    <a:pt x="3666" y="563"/>
                  </a:lnTo>
                  <a:lnTo>
                    <a:pt x="3666" y="558"/>
                  </a:lnTo>
                  <a:lnTo>
                    <a:pt x="3644" y="558"/>
                  </a:lnTo>
                  <a:lnTo>
                    <a:pt x="3644" y="553"/>
                  </a:lnTo>
                  <a:lnTo>
                    <a:pt x="3604" y="553"/>
                  </a:lnTo>
                  <a:lnTo>
                    <a:pt x="3604" y="547"/>
                  </a:lnTo>
                  <a:lnTo>
                    <a:pt x="3593" y="547"/>
                  </a:lnTo>
                  <a:lnTo>
                    <a:pt x="3593" y="541"/>
                  </a:lnTo>
                  <a:lnTo>
                    <a:pt x="3581" y="541"/>
                  </a:lnTo>
                  <a:lnTo>
                    <a:pt x="3581" y="536"/>
                  </a:lnTo>
                  <a:lnTo>
                    <a:pt x="3570" y="536"/>
                  </a:lnTo>
                  <a:lnTo>
                    <a:pt x="3570" y="530"/>
                  </a:lnTo>
                  <a:lnTo>
                    <a:pt x="3541" y="530"/>
                  </a:lnTo>
                  <a:lnTo>
                    <a:pt x="3541" y="524"/>
                  </a:lnTo>
                  <a:lnTo>
                    <a:pt x="3513" y="524"/>
                  </a:lnTo>
                  <a:lnTo>
                    <a:pt x="3513" y="518"/>
                  </a:lnTo>
                  <a:lnTo>
                    <a:pt x="3456" y="518"/>
                  </a:lnTo>
                  <a:lnTo>
                    <a:pt x="3456" y="513"/>
                  </a:lnTo>
                  <a:lnTo>
                    <a:pt x="3427" y="513"/>
                  </a:lnTo>
                  <a:lnTo>
                    <a:pt x="3427" y="507"/>
                  </a:lnTo>
                  <a:lnTo>
                    <a:pt x="3404" y="507"/>
                  </a:lnTo>
                  <a:lnTo>
                    <a:pt x="3404" y="501"/>
                  </a:lnTo>
                  <a:lnTo>
                    <a:pt x="3359" y="501"/>
                  </a:lnTo>
                  <a:lnTo>
                    <a:pt x="3359" y="496"/>
                  </a:lnTo>
                  <a:lnTo>
                    <a:pt x="3313" y="496"/>
                  </a:lnTo>
                  <a:lnTo>
                    <a:pt x="3313" y="489"/>
                  </a:lnTo>
                  <a:lnTo>
                    <a:pt x="3291" y="489"/>
                  </a:lnTo>
                  <a:lnTo>
                    <a:pt x="3291" y="484"/>
                  </a:lnTo>
                  <a:lnTo>
                    <a:pt x="3261" y="484"/>
                  </a:lnTo>
                  <a:lnTo>
                    <a:pt x="3261" y="479"/>
                  </a:lnTo>
                  <a:lnTo>
                    <a:pt x="3228" y="479"/>
                  </a:lnTo>
                  <a:lnTo>
                    <a:pt x="3228" y="473"/>
                  </a:lnTo>
                  <a:lnTo>
                    <a:pt x="3216" y="473"/>
                  </a:lnTo>
                  <a:lnTo>
                    <a:pt x="3216" y="467"/>
                  </a:lnTo>
                  <a:lnTo>
                    <a:pt x="3206" y="467"/>
                  </a:lnTo>
                  <a:lnTo>
                    <a:pt x="3206" y="461"/>
                  </a:lnTo>
                  <a:lnTo>
                    <a:pt x="3171" y="461"/>
                  </a:lnTo>
                  <a:lnTo>
                    <a:pt x="3171" y="456"/>
                  </a:lnTo>
                  <a:lnTo>
                    <a:pt x="3142" y="456"/>
                  </a:lnTo>
                  <a:lnTo>
                    <a:pt x="3142" y="451"/>
                  </a:lnTo>
                  <a:lnTo>
                    <a:pt x="3102" y="451"/>
                  </a:lnTo>
                  <a:lnTo>
                    <a:pt x="3102" y="444"/>
                  </a:lnTo>
                  <a:lnTo>
                    <a:pt x="3040" y="444"/>
                  </a:lnTo>
                  <a:lnTo>
                    <a:pt x="3040" y="439"/>
                  </a:lnTo>
                  <a:lnTo>
                    <a:pt x="3018" y="439"/>
                  </a:lnTo>
                  <a:lnTo>
                    <a:pt x="3018" y="433"/>
                  </a:lnTo>
                  <a:lnTo>
                    <a:pt x="2955" y="433"/>
                  </a:lnTo>
                  <a:lnTo>
                    <a:pt x="2955" y="428"/>
                  </a:lnTo>
                  <a:lnTo>
                    <a:pt x="2926" y="428"/>
                  </a:lnTo>
                  <a:lnTo>
                    <a:pt x="2926" y="422"/>
                  </a:lnTo>
                  <a:lnTo>
                    <a:pt x="2886" y="422"/>
                  </a:lnTo>
                  <a:lnTo>
                    <a:pt x="2886" y="416"/>
                  </a:lnTo>
                  <a:lnTo>
                    <a:pt x="2857" y="416"/>
                  </a:lnTo>
                  <a:lnTo>
                    <a:pt x="2857" y="411"/>
                  </a:lnTo>
                  <a:lnTo>
                    <a:pt x="2829" y="411"/>
                  </a:lnTo>
                  <a:lnTo>
                    <a:pt x="2829" y="404"/>
                  </a:lnTo>
                  <a:lnTo>
                    <a:pt x="2779" y="404"/>
                  </a:lnTo>
                  <a:lnTo>
                    <a:pt x="2779" y="399"/>
                  </a:lnTo>
                  <a:lnTo>
                    <a:pt x="2750" y="399"/>
                  </a:lnTo>
                  <a:lnTo>
                    <a:pt x="2750" y="404"/>
                  </a:lnTo>
                  <a:lnTo>
                    <a:pt x="2738" y="404"/>
                  </a:lnTo>
                  <a:lnTo>
                    <a:pt x="2738" y="399"/>
                  </a:lnTo>
                  <a:lnTo>
                    <a:pt x="2698" y="399"/>
                  </a:lnTo>
                  <a:lnTo>
                    <a:pt x="2698" y="394"/>
                  </a:lnTo>
                  <a:lnTo>
                    <a:pt x="2676" y="394"/>
                  </a:lnTo>
                  <a:lnTo>
                    <a:pt x="2676" y="387"/>
                  </a:lnTo>
                  <a:lnTo>
                    <a:pt x="2653" y="387"/>
                  </a:lnTo>
                  <a:lnTo>
                    <a:pt x="2653" y="382"/>
                  </a:lnTo>
                  <a:lnTo>
                    <a:pt x="2619" y="382"/>
                  </a:lnTo>
                  <a:lnTo>
                    <a:pt x="2619" y="377"/>
                  </a:lnTo>
                  <a:lnTo>
                    <a:pt x="2460" y="377"/>
                  </a:lnTo>
                  <a:lnTo>
                    <a:pt x="2460" y="371"/>
                  </a:lnTo>
                  <a:lnTo>
                    <a:pt x="2261" y="371"/>
                  </a:lnTo>
                  <a:lnTo>
                    <a:pt x="2261" y="377"/>
                  </a:lnTo>
                  <a:lnTo>
                    <a:pt x="2220" y="377"/>
                  </a:lnTo>
                  <a:lnTo>
                    <a:pt x="2220" y="382"/>
                  </a:lnTo>
                  <a:lnTo>
                    <a:pt x="2152" y="382"/>
                  </a:lnTo>
                  <a:lnTo>
                    <a:pt x="2152" y="387"/>
                  </a:lnTo>
                  <a:lnTo>
                    <a:pt x="2095" y="387"/>
                  </a:lnTo>
                  <a:lnTo>
                    <a:pt x="2095" y="394"/>
                  </a:lnTo>
                  <a:lnTo>
                    <a:pt x="2066" y="394"/>
                  </a:lnTo>
                  <a:lnTo>
                    <a:pt x="2066" y="399"/>
                  </a:lnTo>
                  <a:lnTo>
                    <a:pt x="2027" y="399"/>
                  </a:lnTo>
                  <a:lnTo>
                    <a:pt x="2027" y="404"/>
                  </a:lnTo>
                  <a:lnTo>
                    <a:pt x="2016" y="404"/>
                  </a:lnTo>
                  <a:lnTo>
                    <a:pt x="2016" y="411"/>
                  </a:lnTo>
                  <a:lnTo>
                    <a:pt x="1999" y="411"/>
                  </a:lnTo>
                  <a:lnTo>
                    <a:pt x="1999" y="416"/>
                  </a:lnTo>
                  <a:lnTo>
                    <a:pt x="1953" y="416"/>
                  </a:lnTo>
                  <a:lnTo>
                    <a:pt x="1953" y="422"/>
                  </a:lnTo>
                  <a:lnTo>
                    <a:pt x="1942" y="422"/>
                  </a:lnTo>
                  <a:lnTo>
                    <a:pt x="1942" y="428"/>
                  </a:lnTo>
                  <a:lnTo>
                    <a:pt x="1885" y="428"/>
                  </a:lnTo>
                  <a:lnTo>
                    <a:pt x="1885" y="433"/>
                  </a:lnTo>
                  <a:lnTo>
                    <a:pt x="1873" y="433"/>
                  </a:lnTo>
                  <a:lnTo>
                    <a:pt x="1873" y="439"/>
                  </a:lnTo>
                  <a:lnTo>
                    <a:pt x="1845" y="439"/>
                  </a:lnTo>
                  <a:lnTo>
                    <a:pt x="1845" y="444"/>
                  </a:lnTo>
                  <a:lnTo>
                    <a:pt x="1810" y="444"/>
                  </a:lnTo>
                  <a:lnTo>
                    <a:pt x="1810" y="451"/>
                  </a:lnTo>
                  <a:lnTo>
                    <a:pt x="1742" y="451"/>
                  </a:lnTo>
                  <a:lnTo>
                    <a:pt x="1742" y="456"/>
                  </a:lnTo>
                  <a:lnTo>
                    <a:pt x="1697" y="456"/>
                  </a:lnTo>
                  <a:lnTo>
                    <a:pt x="1697" y="461"/>
                  </a:lnTo>
                  <a:lnTo>
                    <a:pt x="1679" y="461"/>
                  </a:lnTo>
                  <a:lnTo>
                    <a:pt x="1679" y="467"/>
                  </a:lnTo>
                  <a:lnTo>
                    <a:pt x="1657" y="467"/>
                  </a:lnTo>
                  <a:lnTo>
                    <a:pt x="1657" y="473"/>
                  </a:lnTo>
                  <a:lnTo>
                    <a:pt x="1645" y="473"/>
                  </a:lnTo>
                  <a:lnTo>
                    <a:pt x="1645" y="479"/>
                  </a:lnTo>
                  <a:lnTo>
                    <a:pt x="1628" y="479"/>
                  </a:lnTo>
                  <a:lnTo>
                    <a:pt x="1628" y="484"/>
                  </a:lnTo>
                  <a:lnTo>
                    <a:pt x="1594" y="484"/>
                  </a:lnTo>
                  <a:lnTo>
                    <a:pt x="1594" y="489"/>
                  </a:lnTo>
                  <a:lnTo>
                    <a:pt x="1565" y="489"/>
                  </a:lnTo>
                  <a:lnTo>
                    <a:pt x="1565" y="496"/>
                  </a:lnTo>
                  <a:lnTo>
                    <a:pt x="1526" y="496"/>
                  </a:lnTo>
                  <a:lnTo>
                    <a:pt x="1526" y="501"/>
                  </a:lnTo>
                  <a:lnTo>
                    <a:pt x="1486" y="501"/>
                  </a:lnTo>
                  <a:lnTo>
                    <a:pt x="1486" y="507"/>
                  </a:lnTo>
                  <a:lnTo>
                    <a:pt x="1451" y="507"/>
                  </a:lnTo>
                  <a:lnTo>
                    <a:pt x="1451" y="513"/>
                  </a:lnTo>
                  <a:lnTo>
                    <a:pt x="1406" y="513"/>
                  </a:lnTo>
                  <a:lnTo>
                    <a:pt x="1406" y="518"/>
                  </a:lnTo>
                  <a:lnTo>
                    <a:pt x="1372" y="518"/>
                  </a:lnTo>
                  <a:lnTo>
                    <a:pt x="1372" y="524"/>
                  </a:lnTo>
                  <a:lnTo>
                    <a:pt x="1321" y="524"/>
                  </a:lnTo>
                  <a:lnTo>
                    <a:pt x="1321" y="530"/>
                  </a:lnTo>
                  <a:lnTo>
                    <a:pt x="1304" y="530"/>
                  </a:lnTo>
                  <a:lnTo>
                    <a:pt x="1304" y="536"/>
                  </a:lnTo>
                  <a:lnTo>
                    <a:pt x="1298" y="536"/>
                  </a:lnTo>
                  <a:lnTo>
                    <a:pt x="1298" y="541"/>
                  </a:lnTo>
                  <a:lnTo>
                    <a:pt x="1275" y="541"/>
                  </a:lnTo>
                  <a:lnTo>
                    <a:pt x="1275" y="547"/>
                  </a:lnTo>
                  <a:lnTo>
                    <a:pt x="1230" y="547"/>
                  </a:lnTo>
                  <a:lnTo>
                    <a:pt x="1230" y="553"/>
                  </a:lnTo>
                  <a:lnTo>
                    <a:pt x="1208" y="553"/>
                  </a:lnTo>
                  <a:lnTo>
                    <a:pt x="1208" y="558"/>
                  </a:lnTo>
                  <a:lnTo>
                    <a:pt x="1178" y="558"/>
                  </a:lnTo>
                  <a:lnTo>
                    <a:pt x="1178" y="563"/>
                  </a:lnTo>
                  <a:lnTo>
                    <a:pt x="1104" y="563"/>
                  </a:lnTo>
                  <a:lnTo>
                    <a:pt x="1104" y="570"/>
                  </a:lnTo>
                  <a:lnTo>
                    <a:pt x="1071" y="570"/>
                  </a:lnTo>
                  <a:lnTo>
                    <a:pt x="1071" y="575"/>
                  </a:lnTo>
                  <a:lnTo>
                    <a:pt x="1054" y="575"/>
                  </a:lnTo>
                  <a:lnTo>
                    <a:pt x="1054" y="581"/>
                  </a:lnTo>
                  <a:lnTo>
                    <a:pt x="1037" y="581"/>
                  </a:lnTo>
                  <a:lnTo>
                    <a:pt x="1037" y="587"/>
                  </a:lnTo>
                  <a:lnTo>
                    <a:pt x="997" y="587"/>
                  </a:lnTo>
                  <a:lnTo>
                    <a:pt x="997" y="592"/>
                  </a:lnTo>
                  <a:lnTo>
                    <a:pt x="980" y="592"/>
                  </a:lnTo>
                  <a:lnTo>
                    <a:pt x="980" y="598"/>
                  </a:lnTo>
                  <a:lnTo>
                    <a:pt x="945" y="598"/>
                  </a:lnTo>
                  <a:lnTo>
                    <a:pt x="945" y="604"/>
                  </a:lnTo>
                  <a:lnTo>
                    <a:pt x="933" y="604"/>
                  </a:lnTo>
                  <a:lnTo>
                    <a:pt x="933" y="610"/>
                  </a:lnTo>
                  <a:lnTo>
                    <a:pt x="923" y="610"/>
                  </a:lnTo>
                  <a:lnTo>
                    <a:pt x="923" y="615"/>
                  </a:lnTo>
                  <a:lnTo>
                    <a:pt x="905" y="615"/>
                  </a:lnTo>
                  <a:lnTo>
                    <a:pt x="905" y="620"/>
                  </a:lnTo>
                  <a:lnTo>
                    <a:pt x="888" y="620"/>
                  </a:lnTo>
                  <a:lnTo>
                    <a:pt x="888" y="627"/>
                  </a:lnTo>
                  <a:lnTo>
                    <a:pt x="866" y="627"/>
                  </a:lnTo>
                  <a:lnTo>
                    <a:pt x="866" y="632"/>
                  </a:lnTo>
                  <a:lnTo>
                    <a:pt x="849" y="632"/>
                  </a:lnTo>
                  <a:lnTo>
                    <a:pt x="849" y="638"/>
                  </a:lnTo>
                  <a:lnTo>
                    <a:pt x="837" y="638"/>
                  </a:lnTo>
                  <a:lnTo>
                    <a:pt x="837" y="644"/>
                  </a:lnTo>
                  <a:lnTo>
                    <a:pt x="819" y="644"/>
                  </a:lnTo>
                  <a:lnTo>
                    <a:pt x="819" y="649"/>
                  </a:lnTo>
                  <a:lnTo>
                    <a:pt x="798" y="649"/>
                  </a:lnTo>
                  <a:lnTo>
                    <a:pt x="798" y="655"/>
                  </a:lnTo>
                  <a:lnTo>
                    <a:pt x="774" y="655"/>
                  </a:lnTo>
                  <a:lnTo>
                    <a:pt x="774" y="661"/>
                  </a:lnTo>
                  <a:lnTo>
                    <a:pt x="764" y="661"/>
                  </a:lnTo>
                  <a:lnTo>
                    <a:pt x="764" y="667"/>
                  </a:lnTo>
                  <a:lnTo>
                    <a:pt x="707" y="667"/>
                  </a:lnTo>
                  <a:lnTo>
                    <a:pt x="707" y="672"/>
                  </a:lnTo>
                  <a:lnTo>
                    <a:pt x="667" y="672"/>
                  </a:lnTo>
                  <a:lnTo>
                    <a:pt x="667" y="677"/>
                  </a:lnTo>
                  <a:lnTo>
                    <a:pt x="643" y="677"/>
                  </a:lnTo>
                  <a:lnTo>
                    <a:pt x="643" y="684"/>
                  </a:lnTo>
                  <a:lnTo>
                    <a:pt x="626" y="684"/>
                  </a:lnTo>
                  <a:lnTo>
                    <a:pt x="626" y="689"/>
                  </a:lnTo>
                  <a:lnTo>
                    <a:pt x="610" y="689"/>
                  </a:lnTo>
                  <a:lnTo>
                    <a:pt x="610" y="695"/>
                  </a:lnTo>
                  <a:lnTo>
                    <a:pt x="586" y="695"/>
                  </a:lnTo>
                  <a:lnTo>
                    <a:pt x="586" y="701"/>
                  </a:lnTo>
                  <a:lnTo>
                    <a:pt x="576" y="701"/>
                  </a:lnTo>
                  <a:lnTo>
                    <a:pt x="576" y="706"/>
                  </a:lnTo>
                  <a:lnTo>
                    <a:pt x="536" y="706"/>
                  </a:lnTo>
                  <a:lnTo>
                    <a:pt x="536" y="712"/>
                  </a:lnTo>
                  <a:lnTo>
                    <a:pt x="501" y="712"/>
                  </a:lnTo>
                  <a:lnTo>
                    <a:pt x="501" y="718"/>
                  </a:lnTo>
                  <a:lnTo>
                    <a:pt x="484" y="718"/>
                  </a:lnTo>
                  <a:lnTo>
                    <a:pt x="484" y="724"/>
                  </a:lnTo>
                  <a:lnTo>
                    <a:pt x="479" y="724"/>
                  </a:lnTo>
                  <a:lnTo>
                    <a:pt x="479" y="729"/>
                  </a:lnTo>
                  <a:lnTo>
                    <a:pt x="472" y="729"/>
                  </a:lnTo>
                  <a:lnTo>
                    <a:pt x="472" y="741"/>
                  </a:lnTo>
                  <a:lnTo>
                    <a:pt x="467" y="741"/>
                  </a:lnTo>
                  <a:lnTo>
                    <a:pt x="467" y="746"/>
                  </a:lnTo>
                  <a:lnTo>
                    <a:pt x="444" y="746"/>
                  </a:lnTo>
                  <a:lnTo>
                    <a:pt x="444" y="775"/>
                  </a:lnTo>
                  <a:lnTo>
                    <a:pt x="455" y="775"/>
                  </a:lnTo>
                  <a:lnTo>
                    <a:pt x="455" y="781"/>
                  </a:lnTo>
                  <a:lnTo>
                    <a:pt x="462" y="781"/>
                  </a:lnTo>
                  <a:lnTo>
                    <a:pt x="462" y="791"/>
                  </a:lnTo>
                  <a:lnTo>
                    <a:pt x="467" y="791"/>
                  </a:lnTo>
                  <a:lnTo>
                    <a:pt x="467" y="798"/>
                  </a:lnTo>
                  <a:lnTo>
                    <a:pt x="472" y="798"/>
                  </a:lnTo>
                  <a:lnTo>
                    <a:pt x="472" y="808"/>
                  </a:lnTo>
                  <a:lnTo>
                    <a:pt x="479" y="808"/>
                  </a:lnTo>
                  <a:lnTo>
                    <a:pt x="479" y="820"/>
                  </a:lnTo>
                  <a:lnTo>
                    <a:pt x="484" y="820"/>
                  </a:lnTo>
                  <a:lnTo>
                    <a:pt x="484" y="837"/>
                  </a:lnTo>
                  <a:lnTo>
                    <a:pt x="490" y="837"/>
                  </a:lnTo>
                  <a:lnTo>
                    <a:pt x="490" y="843"/>
                  </a:lnTo>
                  <a:lnTo>
                    <a:pt x="496" y="843"/>
                  </a:lnTo>
                  <a:lnTo>
                    <a:pt x="496" y="848"/>
                  </a:lnTo>
                  <a:lnTo>
                    <a:pt x="501" y="848"/>
                  </a:lnTo>
                  <a:lnTo>
                    <a:pt x="501" y="855"/>
                  </a:lnTo>
                  <a:lnTo>
                    <a:pt x="507" y="855"/>
                  </a:lnTo>
                  <a:lnTo>
                    <a:pt x="507" y="860"/>
                  </a:lnTo>
                  <a:lnTo>
                    <a:pt x="512" y="860"/>
                  </a:lnTo>
                  <a:lnTo>
                    <a:pt x="512" y="872"/>
                  </a:lnTo>
                  <a:lnTo>
                    <a:pt x="519" y="872"/>
                  </a:lnTo>
                  <a:lnTo>
                    <a:pt x="519" y="883"/>
                  </a:lnTo>
                  <a:lnTo>
                    <a:pt x="524" y="883"/>
                  </a:lnTo>
                  <a:lnTo>
                    <a:pt x="524" y="894"/>
                  </a:lnTo>
                  <a:lnTo>
                    <a:pt x="529" y="894"/>
                  </a:lnTo>
                  <a:lnTo>
                    <a:pt x="529" y="900"/>
                  </a:lnTo>
                  <a:lnTo>
                    <a:pt x="546" y="900"/>
                  </a:lnTo>
                  <a:lnTo>
                    <a:pt x="546" y="905"/>
                  </a:lnTo>
                  <a:lnTo>
                    <a:pt x="581" y="905"/>
                  </a:lnTo>
                  <a:lnTo>
                    <a:pt x="581" y="900"/>
                  </a:lnTo>
                  <a:lnTo>
                    <a:pt x="593" y="900"/>
                  </a:lnTo>
                  <a:lnTo>
                    <a:pt x="593" y="894"/>
                  </a:lnTo>
                  <a:lnTo>
                    <a:pt x="598" y="894"/>
                  </a:lnTo>
                  <a:lnTo>
                    <a:pt x="598" y="888"/>
                  </a:lnTo>
                  <a:lnTo>
                    <a:pt x="603" y="888"/>
                  </a:lnTo>
                  <a:lnTo>
                    <a:pt x="603" y="883"/>
                  </a:lnTo>
                  <a:lnTo>
                    <a:pt x="610" y="883"/>
                  </a:lnTo>
                  <a:lnTo>
                    <a:pt x="610" y="865"/>
                  </a:lnTo>
                  <a:lnTo>
                    <a:pt x="615" y="865"/>
                  </a:lnTo>
                  <a:lnTo>
                    <a:pt x="615" y="860"/>
                  </a:lnTo>
                  <a:lnTo>
                    <a:pt x="621" y="860"/>
                  </a:lnTo>
                  <a:lnTo>
                    <a:pt x="621" y="855"/>
                  </a:lnTo>
                  <a:lnTo>
                    <a:pt x="626" y="855"/>
                  </a:lnTo>
                  <a:lnTo>
                    <a:pt x="626" y="848"/>
                  </a:lnTo>
                  <a:lnTo>
                    <a:pt x="638" y="848"/>
                  </a:lnTo>
                  <a:lnTo>
                    <a:pt x="638" y="855"/>
                  </a:lnTo>
                  <a:lnTo>
                    <a:pt x="667" y="855"/>
                  </a:lnTo>
                  <a:lnTo>
                    <a:pt x="667" y="860"/>
                  </a:lnTo>
                  <a:lnTo>
                    <a:pt x="672" y="860"/>
                  </a:lnTo>
                  <a:lnTo>
                    <a:pt x="672" y="872"/>
                  </a:lnTo>
                  <a:lnTo>
                    <a:pt x="667" y="872"/>
                  </a:lnTo>
                  <a:lnTo>
                    <a:pt x="667" y="888"/>
                  </a:lnTo>
                  <a:lnTo>
                    <a:pt x="660" y="888"/>
                  </a:lnTo>
                  <a:lnTo>
                    <a:pt x="660" y="894"/>
                  </a:lnTo>
                  <a:lnTo>
                    <a:pt x="650" y="894"/>
                  </a:lnTo>
                  <a:lnTo>
                    <a:pt x="650" y="900"/>
                  </a:lnTo>
                  <a:lnTo>
                    <a:pt x="643" y="900"/>
                  </a:lnTo>
                  <a:lnTo>
                    <a:pt x="643" y="905"/>
                  </a:lnTo>
                  <a:lnTo>
                    <a:pt x="632" y="905"/>
                  </a:lnTo>
                  <a:lnTo>
                    <a:pt x="632" y="911"/>
                  </a:lnTo>
                  <a:lnTo>
                    <a:pt x="626" y="911"/>
                  </a:lnTo>
                  <a:lnTo>
                    <a:pt x="626" y="917"/>
                  </a:lnTo>
                  <a:lnTo>
                    <a:pt x="621" y="917"/>
                  </a:lnTo>
                  <a:lnTo>
                    <a:pt x="621" y="922"/>
                  </a:lnTo>
                  <a:lnTo>
                    <a:pt x="615" y="922"/>
                  </a:lnTo>
                  <a:lnTo>
                    <a:pt x="615" y="928"/>
                  </a:lnTo>
                  <a:lnTo>
                    <a:pt x="610" y="928"/>
                  </a:lnTo>
                  <a:lnTo>
                    <a:pt x="610" y="934"/>
                  </a:lnTo>
                  <a:lnTo>
                    <a:pt x="603" y="934"/>
                  </a:lnTo>
                  <a:lnTo>
                    <a:pt x="603" y="940"/>
                  </a:lnTo>
                  <a:lnTo>
                    <a:pt x="598" y="940"/>
                  </a:lnTo>
                  <a:lnTo>
                    <a:pt x="598" y="945"/>
                  </a:lnTo>
                  <a:lnTo>
                    <a:pt x="536" y="945"/>
                  </a:lnTo>
                  <a:lnTo>
                    <a:pt x="536" y="940"/>
                  </a:lnTo>
                  <a:lnTo>
                    <a:pt x="524" y="940"/>
                  </a:lnTo>
                  <a:lnTo>
                    <a:pt x="524" y="934"/>
                  </a:lnTo>
                  <a:lnTo>
                    <a:pt x="519" y="934"/>
                  </a:lnTo>
                  <a:lnTo>
                    <a:pt x="519" y="922"/>
                  </a:lnTo>
                  <a:lnTo>
                    <a:pt x="512" y="922"/>
                  </a:lnTo>
                  <a:lnTo>
                    <a:pt x="512" y="917"/>
                  </a:lnTo>
                  <a:lnTo>
                    <a:pt x="507" y="917"/>
                  </a:lnTo>
                  <a:lnTo>
                    <a:pt x="507" y="911"/>
                  </a:lnTo>
                  <a:lnTo>
                    <a:pt x="501" y="911"/>
                  </a:lnTo>
                  <a:lnTo>
                    <a:pt x="501" y="905"/>
                  </a:lnTo>
                  <a:lnTo>
                    <a:pt x="496" y="905"/>
                  </a:lnTo>
                  <a:lnTo>
                    <a:pt x="496" y="900"/>
                  </a:lnTo>
                  <a:lnTo>
                    <a:pt x="490" y="900"/>
                  </a:lnTo>
                  <a:lnTo>
                    <a:pt x="490" y="888"/>
                  </a:lnTo>
                  <a:lnTo>
                    <a:pt x="484" y="888"/>
                  </a:lnTo>
                  <a:lnTo>
                    <a:pt x="484" y="883"/>
                  </a:lnTo>
                  <a:lnTo>
                    <a:pt x="479" y="883"/>
                  </a:lnTo>
                  <a:lnTo>
                    <a:pt x="479" y="865"/>
                  </a:lnTo>
                  <a:lnTo>
                    <a:pt x="472" y="865"/>
                  </a:lnTo>
                  <a:lnTo>
                    <a:pt x="472" y="860"/>
                  </a:lnTo>
                  <a:lnTo>
                    <a:pt x="467" y="860"/>
                  </a:lnTo>
                  <a:lnTo>
                    <a:pt x="467" y="855"/>
                  </a:lnTo>
                  <a:lnTo>
                    <a:pt x="455" y="855"/>
                  </a:lnTo>
                  <a:lnTo>
                    <a:pt x="455" y="848"/>
                  </a:lnTo>
                  <a:lnTo>
                    <a:pt x="450" y="848"/>
                  </a:lnTo>
                  <a:lnTo>
                    <a:pt x="450" y="843"/>
                  </a:lnTo>
                  <a:lnTo>
                    <a:pt x="444" y="843"/>
                  </a:lnTo>
                  <a:lnTo>
                    <a:pt x="444" y="837"/>
                  </a:lnTo>
                  <a:lnTo>
                    <a:pt x="439" y="837"/>
                  </a:lnTo>
                  <a:lnTo>
                    <a:pt x="439" y="832"/>
                  </a:lnTo>
                  <a:lnTo>
                    <a:pt x="433" y="832"/>
                  </a:lnTo>
                  <a:lnTo>
                    <a:pt x="433" y="826"/>
                  </a:lnTo>
                  <a:lnTo>
                    <a:pt x="427" y="826"/>
                  </a:lnTo>
                  <a:lnTo>
                    <a:pt x="427" y="815"/>
                  </a:lnTo>
                  <a:lnTo>
                    <a:pt x="422" y="815"/>
                  </a:lnTo>
                  <a:lnTo>
                    <a:pt x="422" y="803"/>
                  </a:lnTo>
                  <a:lnTo>
                    <a:pt x="415" y="803"/>
                  </a:lnTo>
                  <a:lnTo>
                    <a:pt x="415" y="798"/>
                  </a:lnTo>
                  <a:lnTo>
                    <a:pt x="410" y="798"/>
                  </a:lnTo>
                  <a:lnTo>
                    <a:pt x="410" y="786"/>
                  </a:lnTo>
                  <a:lnTo>
                    <a:pt x="405" y="786"/>
                  </a:lnTo>
                  <a:lnTo>
                    <a:pt x="405" y="775"/>
                  </a:lnTo>
                  <a:lnTo>
                    <a:pt x="398" y="775"/>
                  </a:lnTo>
                  <a:lnTo>
                    <a:pt x="398" y="769"/>
                  </a:lnTo>
                  <a:lnTo>
                    <a:pt x="393" y="769"/>
                  </a:lnTo>
                  <a:lnTo>
                    <a:pt x="393" y="763"/>
                  </a:lnTo>
                  <a:lnTo>
                    <a:pt x="387" y="763"/>
                  </a:lnTo>
                  <a:lnTo>
                    <a:pt x="387" y="752"/>
                  </a:lnTo>
                  <a:lnTo>
                    <a:pt x="382" y="752"/>
                  </a:lnTo>
                  <a:lnTo>
                    <a:pt x="382" y="741"/>
                  </a:lnTo>
                  <a:lnTo>
                    <a:pt x="377" y="741"/>
                  </a:lnTo>
                  <a:lnTo>
                    <a:pt x="377" y="724"/>
                  </a:lnTo>
                  <a:lnTo>
                    <a:pt x="370" y="724"/>
                  </a:lnTo>
                  <a:lnTo>
                    <a:pt x="370" y="712"/>
                  </a:lnTo>
                  <a:lnTo>
                    <a:pt x="365" y="712"/>
                  </a:lnTo>
                  <a:lnTo>
                    <a:pt x="365" y="706"/>
                  </a:lnTo>
                  <a:lnTo>
                    <a:pt x="359" y="706"/>
                  </a:lnTo>
                  <a:lnTo>
                    <a:pt x="359" y="701"/>
                  </a:lnTo>
                  <a:lnTo>
                    <a:pt x="353" y="701"/>
                  </a:lnTo>
                  <a:lnTo>
                    <a:pt x="353" y="677"/>
                  </a:lnTo>
                  <a:lnTo>
                    <a:pt x="348" y="677"/>
                  </a:lnTo>
                  <a:lnTo>
                    <a:pt x="348" y="667"/>
                  </a:lnTo>
                  <a:lnTo>
                    <a:pt x="342" y="667"/>
                  </a:lnTo>
                  <a:lnTo>
                    <a:pt x="342" y="638"/>
                  </a:lnTo>
                  <a:lnTo>
                    <a:pt x="336" y="638"/>
                  </a:lnTo>
                  <a:lnTo>
                    <a:pt x="336" y="620"/>
                  </a:lnTo>
                  <a:lnTo>
                    <a:pt x="330" y="620"/>
                  </a:lnTo>
                  <a:lnTo>
                    <a:pt x="330" y="598"/>
                  </a:lnTo>
                  <a:lnTo>
                    <a:pt x="325" y="598"/>
                  </a:lnTo>
                  <a:lnTo>
                    <a:pt x="325" y="581"/>
                  </a:lnTo>
                  <a:lnTo>
                    <a:pt x="320" y="581"/>
                  </a:lnTo>
                  <a:lnTo>
                    <a:pt x="320" y="575"/>
                  </a:lnTo>
                  <a:lnTo>
                    <a:pt x="313" y="575"/>
                  </a:lnTo>
                  <a:lnTo>
                    <a:pt x="313" y="570"/>
                  </a:lnTo>
                  <a:lnTo>
                    <a:pt x="302" y="570"/>
                  </a:lnTo>
                  <a:lnTo>
                    <a:pt x="302" y="558"/>
                  </a:lnTo>
                  <a:lnTo>
                    <a:pt x="296" y="558"/>
                  </a:lnTo>
                  <a:lnTo>
                    <a:pt x="296" y="541"/>
                  </a:lnTo>
                  <a:lnTo>
                    <a:pt x="291" y="541"/>
                  </a:lnTo>
                  <a:lnTo>
                    <a:pt x="291" y="530"/>
                  </a:lnTo>
                  <a:lnTo>
                    <a:pt x="285" y="530"/>
                  </a:lnTo>
                  <a:lnTo>
                    <a:pt x="285" y="524"/>
                  </a:lnTo>
                  <a:lnTo>
                    <a:pt x="279" y="524"/>
                  </a:lnTo>
                  <a:lnTo>
                    <a:pt x="279" y="518"/>
                  </a:lnTo>
                  <a:lnTo>
                    <a:pt x="268" y="518"/>
                  </a:lnTo>
                  <a:lnTo>
                    <a:pt x="268" y="513"/>
                  </a:lnTo>
                  <a:lnTo>
                    <a:pt x="251" y="513"/>
                  </a:lnTo>
                  <a:lnTo>
                    <a:pt x="251" y="507"/>
                  </a:lnTo>
                  <a:lnTo>
                    <a:pt x="246" y="507"/>
                  </a:lnTo>
                  <a:lnTo>
                    <a:pt x="246" y="501"/>
                  </a:lnTo>
                  <a:lnTo>
                    <a:pt x="222" y="501"/>
                  </a:lnTo>
                  <a:lnTo>
                    <a:pt x="222" y="496"/>
                  </a:lnTo>
                  <a:lnTo>
                    <a:pt x="165" y="496"/>
                  </a:lnTo>
                  <a:lnTo>
                    <a:pt x="165" y="501"/>
                  </a:lnTo>
                  <a:lnTo>
                    <a:pt x="142" y="501"/>
                  </a:lnTo>
                  <a:lnTo>
                    <a:pt x="142" y="507"/>
                  </a:lnTo>
                  <a:lnTo>
                    <a:pt x="120" y="507"/>
                  </a:lnTo>
                  <a:lnTo>
                    <a:pt x="120" y="513"/>
                  </a:lnTo>
                  <a:lnTo>
                    <a:pt x="114" y="513"/>
                  </a:lnTo>
                  <a:lnTo>
                    <a:pt x="114" y="518"/>
                  </a:lnTo>
                  <a:lnTo>
                    <a:pt x="97" y="518"/>
                  </a:lnTo>
                  <a:lnTo>
                    <a:pt x="97" y="524"/>
                  </a:lnTo>
                  <a:lnTo>
                    <a:pt x="92" y="524"/>
                  </a:lnTo>
                  <a:lnTo>
                    <a:pt x="92" y="530"/>
                  </a:lnTo>
                  <a:lnTo>
                    <a:pt x="85" y="530"/>
                  </a:lnTo>
                  <a:lnTo>
                    <a:pt x="85" y="547"/>
                  </a:lnTo>
                  <a:lnTo>
                    <a:pt x="80" y="547"/>
                  </a:lnTo>
                  <a:lnTo>
                    <a:pt x="80" y="553"/>
                  </a:lnTo>
                  <a:lnTo>
                    <a:pt x="75" y="553"/>
                  </a:lnTo>
                  <a:lnTo>
                    <a:pt x="75" y="563"/>
                  </a:lnTo>
                  <a:lnTo>
                    <a:pt x="68" y="563"/>
                  </a:lnTo>
                  <a:lnTo>
                    <a:pt x="68" y="587"/>
                  </a:lnTo>
                  <a:lnTo>
                    <a:pt x="63" y="587"/>
                  </a:lnTo>
                  <a:lnTo>
                    <a:pt x="63" y="627"/>
                  </a:lnTo>
                  <a:lnTo>
                    <a:pt x="68" y="627"/>
                  </a:lnTo>
                  <a:lnTo>
                    <a:pt x="68" y="655"/>
                  </a:lnTo>
                  <a:lnTo>
                    <a:pt x="75" y="655"/>
                  </a:lnTo>
                  <a:lnTo>
                    <a:pt x="75" y="672"/>
                  </a:lnTo>
                  <a:lnTo>
                    <a:pt x="68" y="672"/>
                  </a:lnTo>
                  <a:lnTo>
                    <a:pt x="68" y="695"/>
                  </a:lnTo>
                  <a:lnTo>
                    <a:pt x="92" y="695"/>
                  </a:lnTo>
                  <a:lnTo>
                    <a:pt x="92" y="689"/>
                  </a:lnTo>
                  <a:lnTo>
                    <a:pt x="97" y="689"/>
                  </a:lnTo>
                  <a:lnTo>
                    <a:pt x="97" y="672"/>
                  </a:lnTo>
                  <a:lnTo>
                    <a:pt x="103" y="672"/>
                  </a:lnTo>
                  <a:lnTo>
                    <a:pt x="103" y="661"/>
                  </a:lnTo>
                  <a:lnTo>
                    <a:pt x="108" y="661"/>
                  </a:lnTo>
                  <a:lnTo>
                    <a:pt x="108" y="655"/>
                  </a:lnTo>
                  <a:lnTo>
                    <a:pt x="114" y="655"/>
                  </a:lnTo>
                  <a:lnTo>
                    <a:pt x="114" y="649"/>
                  </a:lnTo>
                  <a:lnTo>
                    <a:pt x="120" y="649"/>
                  </a:lnTo>
                  <a:lnTo>
                    <a:pt x="120" y="644"/>
                  </a:lnTo>
                  <a:lnTo>
                    <a:pt x="125" y="644"/>
                  </a:lnTo>
                  <a:lnTo>
                    <a:pt x="125" y="627"/>
                  </a:lnTo>
                  <a:lnTo>
                    <a:pt x="132" y="627"/>
                  </a:lnTo>
                  <a:lnTo>
                    <a:pt x="132" y="610"/>
                  </a:lnTo>
                  <a:lnTo>
                    <a:pt x="137" y="610"/>
                  </a:lnTo>
                  <a:lnTo>
                    <a:pt x="137" y="592"/>
                  </a:lnTo>
                  <a:lnTo>
                    <a:pt x="142" y="592"/>
                  </a:lnTo>
                  <a:lnTo>
                    <a:pt x="142" y="587"/>
                  </a:lnTo>
                  <a:lnTo>
                    <a:pt x="149" y="587"/>
                  </a:lnTo>
                  <a:lnTo>
                    <a:pt x="149" y="581"/>
                  </a:lnTo>
                  <a:lnTo>
                    <a:pt x="160" y="581"/>
                  </a:lnTo>
                  <a:lnTo>
                    <a:pt x="160" y="575"/>
                  </a:lnTo>
                  <a:lnTo>
                    <a:pt x="165" y="575"/>
                  </a:lnTo>
                  <a:lnTo>
                    <a:pt x="165" y="570"/>
                  </a:lnTo>
                  <a:lnTo>
                    <a:pt x="177" y="570"/>
                  </a:lnTo>
                  <a:lnTo>
                    <a:pt x="177" y="563"/>
                  </a:lnTo>
                  <a:lnTo>
                    <a:pt x="182" y="563"/>
                  </a:lnTo>
                  <a:lnTo>
                    <a:pt x="182" y="558"/>
                  </a:lnTo>
                  <a:lnTo>
                    <a:pt x="189" y="558"/>
                  </a:lnTo>
                  <a:lnTo>
                    <a:pt x="189" y="541"/>
                  </a:lnTo>
                  <a:lnTo>
                    <a:pt x="194" y="541"/>
                  </a:lnTo>
                  <a:lnTo>
                    <a:pt x="194" y="536"/>
                  </a:lnTo>
                  <a:lnTo>
                    <a:pt x="199" y="536"/>
                  </a:lnTo>
                  <a:lnTo>
                    <a:pt x="199" y="530"/>
                  </a:lnTo>
                  <a:lnTo>
                    <a:pt x="222" y="530"/>
                  </a:lnTo>
                  <a:lnTo>
                    <a:pt x="222" y="524"/>
                  </a:lnTo>
                  <a:lnTo>
                    <a:pt x="234" y="524"/>
                  </a:lnTo>
                  <a:lnTo>
                    <a:pt x="234" y="530"/>
                  </a:lnTo>
                  <a:lnTo>
                    <a:pt x="246" y="530"/>
                  </a:lnTo>
                  <a:lnTo>
                    <a:pt x="246" y="536"/>
                  </a:lnTo>
                  <a:lnTo>
                    <a:pt x="251" y="536"/>
                  </a:lnTo>
                  <a:lnTo>
                    <a:pt x="251" y="541"/>
                  </a:lnTo>
                  <a:lnTo>
                    <a:pt x="256" y="541"/>
                  </a:lnTo>
                  <a:lnTo>
                    <a:pt x="256" y="553"/>
                  </a:lnTo>
                  <a:lnTo>
                    <a:pt x="263" y="553"/>
                  </a:lnTo>
                  <a:lnTo>
                    <a:pt x="263" y="563"/>
                  </a:lnTo>
                  <a:lnTo>
                    <a:pt x="268" y="563"/>
                  </a:lnTo>
                  <a:lnTo>
                    <a:pt x="268" y="575"/>
                  </a:lnTo>
                  <a:lnTo>
                    <a:pt x="273" y="575"/>
                  </a:lnTo>
                  <a:lnTo>
                    <a:pt x="273" y="587"/>
                  </a:lnTo>
                  <a:lnTo>
                    <a:pt x="279" y="587"/>
                  </a:lnTo>
                  <a:lnTo>
                    <a:pt x="279" y="592"/>
                  </a:lnTo>
                  <a:lnTo>
                    <a:pt x="285" y="592"/>
                  </a:lnTo>
                  <a:lnTo>
                    <a:pt x="285" y="632"/>
                  </a:lnTo>
                  <a:lnTo>
                    <a:pt x="291" y="632"/>
                  </a:lnTo>
                  <a:lnTo>
                    <a:pt x="291" y="644"/>
                  </a:lnTo>
                  <a:lnTo>
                    <a:pt x="296" y="644"/>
                  </a:lnTo>
                  <a:lnTo>
                    <a:pt x="296" y="661"/>
                  </a:lnTo>
                  <a:lnTo>
                    <a:pt x="302" y="661"/>
                  </a:lnTo>
                  <a:lnTo>
                    <a:pt x="302" y="672"/>
                  </a:lnTo>
                  <a:lnTo>
                    <a:pt x="308" y="672"/>
                  </a:lnTo>
                  <a:lnTo>
                    <a:pt x="308" y="689"/>
                  </a:lnTo>
                  <a:lnTo>
                    <a:pt x="313" y="689"/>
                  </a:lnTo>
                  <a:lnTo>
                    <a:pt x="313" y="706"/>
                  </a:lnTo>
                  <a:lnTo>
                    <a:pt x="320" y="706"/>
                  </a:lnTo>
                  <a:lnTo>
                    <a:pt x="320" y="712"/>
                  </a:lnTo>
                  <a:lnTo>
                    <a:pt x="325" y="712"/>
                  </a:lnTo>
                  <a:lnTo>
                    <a:pt x="325" y="724"/>
                  </a:lnTo>
                  <a:lnTo>
                    <a:pt x="330" y="724"/>
                  </a:lnTo>
                  <a:lnTo>
                    <a:pt x="330" y="741"/>
                  </a:lnTo>
                  <a:lnTo>
                    <a:pt x="336" y="741"/>
                  </a:lnTo>
                  <a:lnTo>
                    <a:pt x="336" y="769"/>
                  </a:lnTo>
                  <a:lnTo>
                    <a:pt x="342" y="769"/>
                  </a:lnTo>
                  <a:lnTo>
                    <a:pt x="342" y="815"/>
                  </a:lnTo>
                  <a:lnTo>
                    <a:pt x="348" y="815"/>
                  </a:lnTo>
                  <a:lnTo>
                    <a:pt x="348" y="837"/>
                  </a:lnTo>
                  <a:lnTo>
                    <a:pt x="353" y="837"/>
                  </a:lnTo>
                  <a:lnTo>
                    <a:pt x="353" y="855"/>
                  </a:lnTo>
                  <a:lnTo>
                    <a:pt x="359" y="855"/>
                  </a:lnTo>
                  <a:lnTo>
                    <a:pt x="359" y="877"/>
                  </a:lnTo>
                  <a:lnTo>
                    <a:pt x="365" y="877"/>
                  </a:lnTo>
                  <a:lnTo>
                    <a:pt x="365" y="900"/>
                  </a:lnTo>
                  <a:lnTo>
                    <a:pt x="370" y="900"/>
                  </a:lnTo>
                  <a:lnTo>
                    <a:pt x="370" y="917"/>
                  </a:lnTo>
                  <a:lnTo>
                    <a:pt x="377" y="917"/>
                  </a:lnTo>
                  <a:lnTo>
                    <a:pt x="377" y="934"/>
                  </a:lnTo>
                  <a:lnTo>
                    <a:pt x="382" y="934"/>
                  </a:lnTo>
                  <a:lnTo>
                    <a:pt x="382" y="945"/>
                  </a:lnTo>
                  <a:lnTo>
                    <a:pt x="387" y="945"/>
                  </a:lnTo>
                  <a:lnTo>
                    <a:pt x="387" y="957"/>
                  </a:lnTo>
                  <a:lnTo>
                    <a:pt x="393" y="957"/>
                  </a:lnTo>
                  <a:lnTo>
                    <a:pt x="393" y="962"/>
                  </a:lnTo>
                  <a:lnTo>
                    <a:pt x="398" y="962"/>
                  </a:lnTo>
                  <a:lnTo>
                    <a:pt x="398" y="967"/>
                  </a:lnTo>
                  <a:lnTo>
                    <a:pt x="405" y="967"/>
                  </a:lnTo>
                  <a:lnTo>
                    <a:pt x="405" y="979"/>
                  </a:lnTo>
                  <a:lnTo>
                    <a:pt x="410" y="979"/>
                  </a:lnTo>
                  <a:lnTo>
                    <a:pt x="410" y="991"/>
                  </a:lnTo>
                  <a:lnTo>
                    <a:pt x="415" y="991"/>
                  </a:lnTo>
                  <a:lnTo>
                    <a:pt x="415" y="1002"/>
                  </a:lnTo>
                  <a:lnTo>
                    <a:pt x="422" y="1002"/>
                  </a:lnTo>
                  <a:lnTo>
                    <a:pt x="422" y="1014"/>
                  </a:lnTo>
                  <a:lnTo>
                    <a:pt x="427" y="1014"/>
                  </a:lnTo>
                  <a:lnTo>
                    <a:pt x="427" y="1024"/>
                  </a:lnTo>
                  <a:lnTo>
                    <a:pt x="433" y="1024"/>
                  </a:lnTo>
                  <a:lnTo>
                    <a:pt x="433" y="1036"/>
                  </a:lnTo>
                  <a:lnTo>
                    <a:pt x="439" y="1036"/>
                  </a:lnTo>
                  <a:lnTo>
                    <a:pt x="439" y="1048"/>
                  </a:lnTo>
                  <a:lnTo>
                    <a:pt x="444" y="1048"/>
                  </a:lnTo>
                  <a:lnTo>
                    <a:pt x="444" y="1053"/>
                  </a:lnTo>
                  <a:lnTo>
                    <a:pt x="450" y="1053"/>
                  </a:lnTo>
                  <a:lnTo>
                    <a:pt x="450" y="1059"/>
                  </a:lnTo>
                  <a:lnTo>
                    <a:pt x="455" y="1059"/>
                  </a:lnTo>
                  <a:lnTo>
                    <a:pt x="455" y="1071"/>
                  </a:lnTo>
                  <a:lnTo>
                    <a:pt x="462" y="1071"/>
                  </a:lnTo>
                  <a:lnTo>
                    <a:pt x="462" y="1081"/>
                  </a:lnTo>
                  <a:lnTo>
                    <a:pt x="467" y="1081"/>
                  </a:lnTo>
                  <a:lnTo>
                    <a:pt x="467" y="1093"/>
                  </a:lnTo>
                  <a:lnTo>
                    <a:pt x="472" y="1093"/>
                  </a:lnTo>
                  <a:lnTo>
                    <a:pt x="472" y="1099"/>
                  </a:lnTo>
                  <a:lnTo>
                    <a:pt x="479" y="1099"/>
                  </a:lnTo>
                  <a:lnTo>
                    <a:pt x="479" y="1105"/>
                  </a:lnTo>
                  <a:lnTo>
                    <a:pt x="484" y="1105"/>
                  </a:lnTo>
                  <a:lnTo>
                    <a:pt x="484" y="1116"/>
                  </a:lnTo>
                  <a:lnTo>
                    <a:pt x="496" y="1116"/>
                  </a:lnTo>
                  <a:lnTo>
                    <a:pt x="496" y="1122"/>
                  </a:lnTo>
                  <a:lnTo>
                    <a:pt x="501" y="1122"/>
                  </a:lnTo>
                  <a:lnTo>
                    <a:pt x="501" y="1128"/>
                  </a:lnTo>
                  <a:lnTo>
                    <a:pt x="512" y="1128"/>
                  </a:lnTo>
                  <a:lnTo>
                    <a:pt x="512" y="1133"/>
                  </a:lnTo>
                  <a:lnTo>
                    <a:pt x="529" y="1133"/>
                  </a:lnTo>
                  <a:lnTo>
                    <a:pt x="529" y="1138"/>
                  </a:lnTo>
                  <a:lnTo>
                    <a:pt x="581" y="1138"/>
                  </a:lnTo>
                  <a:lnTo>
                    <a:pt x="581" y="1133"/>
                  </a:lnTo>
                  <a:lnTo>
                    <a:pt x="593" y="1133"/>
                  </a:lnTo>
                  <a:lnTo>
                    <a:pt x="593" y="1128"/>
                  </a:lnTo>
                  <a:lnTo>
                    <a:pt x="598" y="1128"/>
                  </a:lnTo>
                  <a:lnTo>
                    <a:pt x="598" y="1122"/>
                  </a:lnTo>
                  <a:lnTo>
                    <a:pt x="603" y="1122"/>
                  </a:lnTo>
                  <a:lnTo>
                    <a:pt x="603" y="1116"/>
                  </a:lnTo>
                  <a:lnTo>
                    <a:pt x="610" y="1116"/>
                  </a:lnTo>
                  <a:lnTo>
                    <a:pt x="610" y="1110"/>
                  </a:lnTo>
                  <a:lnTo>
                    <a:pt x="615" y="1110"/>
                  </a:lnTo>
                  <a:lnTo>
                    <a:pt x="615" y="1105"/>
                  </a:lnTo>
                  <a:lnTo>
                    <a:pt x="626" y="1105"/>
                  </a:lnTo>
                  <a:lnTo>
                    <a:pt x="626" y="1099"/>
                  </a:lnTo>
                  <a:lnTo>
                    <a:pt x="632" y="1099"/>
                  </a:lnTo>
                  <a:lnTo>
                    <a:pt x="632" y="1093"/>
                  </a:lnTo>
                  <a:lnTo>
                    <a:pt x="638" y="1093"/>
                  </a:lnTo>
                  <a:lnTo>
                    <a:pt x="638" y="1071"/>
                  </a:lnTo>
                  <a:lnTo>
                    <a:pt x="643" y="1071"/>
                  </a:lnTo>
                  <a:lnTo>
                    <a:pt x="643" y="1065"/>
                  </a:lnTo>
                  <a:lnTo>
                    <a:pt x="650" y="1065"/>
                  </a:lnTo>
                  <a:lnTo>
                    <a:pt x="650" y="1059"/>
                  </a:lnTo>
                  <a:lnTo>
                    <a:pt x="655" y="1059"/>
                  </a:lnTo>
                  <a:lnTo>
                    <a:pt x="655" y="1053"/>
                  </a:lnTo>
                  <a:lnTo>
                    <a:pt x="660" y="1053"/>
                  </a:lnTo>
                  <a:lnTo>
                    <a:pt x="660" y="1048"/>
                  </a:lnTo>
                  <a:lnTo>
                    <a:pt x="667" y="1048"/>
                  </a:lnTo>
                  <a:lnTo>
                    <a:pt x="667" y="1036"/>
                  </a:lnTo>
                  <a:lnTo>
                    <a:pt x="672" y="1036"/>
                  </a:lnTo>
                  <a:lnTo>
                    <a:pt x="672" y="1019"/>
                  </a:lnTo>
                  <a:lnTo>
                    <a:pt x="678" y="1019"/>
                  </a:lnTo>
                  <a:lnTo>
                    <a:pt x="678" y="1008"/>
                  </a:lnTo>
                  <a:lnTo>
                    <a:pt x="683" y="1008"/>
                  </a:lnTo>
                  <a:lnTo>
                    <a:pt x="683" y="997"/>
                  </a:lnTo>
                  <a:lnTo>
                    <a:pt x="689" y="997"/>
                  </a:lnTo>
                  <a:lnTo>
                    <a:pt x="689" y="974"/>
                  </a:lnTo>
                  <a:lnTo>
                    <a:pt x="695" y="974"/>
                  </a:lnTo>
                  <a:lnTo>
                    <a:pt x="695" y="967"/>
                  </a:lnTo>
                  <a:lnTo>
                    <a:pt x="700" y="967"/>
                  </a:lnTo>
                  <a:lnTo>
                    <a:pt x="700" y="957"/>
                  </a:lnTo>
                  <a:lnTo>
                    <a:pt x="707" y="957"/>
                  </a:lnTo>
                  <a:lnTo>
                    <a:pt x="707" y="945"/>
                  </a:lnTo>
                  <a:lnTo>
                    <a:pt x="712" y="945"/>
                  </a:lnTo>
                  <a:lnTo>
                    <a:pt x="712" y="934"/>
                  </a:lnTo>
                  <a:lnTo>
                    <a:pt x="717" y="934"/>
                  </a:lnTo>
                  <a:lnTo>
                    <a:pt x="717" y="922"/>
                  </a:lnTo>
                  <a:lnTo>
                    <a:pt x="724" y="922"/>
                  </a:lnTo>
                  <a:lnTo>
                    <a:pt x="724" y="911"/>
                  </a:lnTo>
                  <a:lnTo>
                    <a:pt x="729" y="911"/>
                  </a:lnTo>
                  <a:lnTo>
                    <a:pt x="729" y="894"/>
                  </a:lnTo>
                  <a:lnTo>
                    <a:pt x="735" y="894"/>
                  </a:lnTo>
                  <a:lnTo>
                    <a:pt x="735" y="888"/>
                  </a:lnTo>
                  <a:lnTo>
                    <a:pt x="741" y="888"/>
                  </a:lnTo>
                  <a:lnTo>
                    <a:pt x="741" y="872"/>
                  </a:lnTo>
                  <a:lnTo>
                    <a:pt x="746" y="872"/>
                  </a:lnTo>
                  <a:lnTo>
                    <a:pt x="746" y="865"/>
                  </a:lnTo>
                  <a:lnTo>
                    <a:pt x="752" y="865"/>
                  </a:lnTo>
                  <a:lnTo>
                    <a:pt x="752" y="860"/>
                  </a:lnTo>
                  <a:lnTo>
                    <a:pt x="757" y="860"/>
                  </a:lnTo>
                  <a:lnTo>
                    <a:pt x="757" y="855"/>
                  </a:lnTo>
                  <a:lnTo>
                    <a:pt x="764" y="855"/>
                  </a:lnTo>
                  <a:lnTo>
                    <a:pt x="764" y="843"/>
                  </a:lnTo>
                  <a:lnTo>
                    <a:pt x="774" y="843"/>
                  </a:lnTo>
                  <a:lnTo>
                    <a:pt x="774" y="837"/>
                  </a:lnTo>
                  <a:lnTo>
                    <a:pt x="781" y="837"/>
                  </a:lnTo>
                  <a:lnTo>
                    <a:pt x="781" y="832"/>
                  </a:lnTo>
                  <a:lnTo>
                    <a:pt x="786" y="832"/>
                  </a:lnTo>
                  <a:lnTo>
                    <a:pt x="786" y="808"/>
                  </a:lnTo>
                  <a:lnTo>
                    <a:pt x="792" y="808"/>
                  </a:lnTo>
                  <a:lnTo>
                    <a:pt x="792" y="798"/>
                  </a:lnTo>
                  <a:lnTo>
                    <a:pt x="798" y="798"/>
                  </a:lnTo>
                  <a:lnTo>
                    <a:pt x="798" y="791"/>
                  </a:lnTo>
                  <a:lnTo>
                    <a:pt x="803" y="791"/>
                  </a:lnTo>
                  <a:lnTo>
                    <a:pt x="803" y="786"/>
                  </a:lnTo>
                  <a:lnTo>
                    <a:pt x="809" y="786"/>
                  </a:lnTo>
                  <a:lnTo>
                    <a:pt x="809" y="781"/>
                  </a:lnTo>
                  <a:lnTo>
                    <a:pt x="819" y="781"/>
                  </a:lnTo>
                  <a:lnTo>
                    <a:pt x="819" y="775"/>
                  </a:lnTo>
                  <a:lnTo>
                    <a:pt x="826" y="775"/>
                  </a:lnTo>
                  <a:lnTo>
                    <a:pt x="826" y="763"/>
                  </a:lnTo>
                  <a:lnTo>
                    <a:pt x="843" y="763"/>
                  </a:lnTo>
                  <a:lnTo>
                    <a:pt x="843" y="758"/>
                  </a:lnTo>
                  <a:lnTo>
                    <a:pt x="866" y="758"/>
                  </a:lnTo>
                  <a:lnTo>
                    <a:pt x="866" y="752"/>
                  </a:lnTo>
                  <a:lnTo>
                    <a:pt x="876" y="752"/>
                  </a:lnTo>
                  <a:lnTo>
                    <a:pt x="876" y="746"/>
                  </a:lnTo>
                  <a:lnTo>
                    <a:pt x="900" y="746"/>
                  </a:lnTo>
                  <a:lnTo>
                    <a:pt x="900" y="741"/>
                  </a:lnTo>
                  <a:lnTo>
                    <a:pt x="933" y="741"/>
                  </a:lnTo>
                  <a:lnTo>
                    <a:pt x="933" y="734"/>
                  </a:lnTo>
                  <a:lnTo>
                    <a:pt x="968" y="734"/>
                  </a:lnTo>
                  <a:lnTo>
                    <a:pt x="968" y="729"/>
                  </a:lnTo>
                  <a:lnTo>
                    <a:pt x="1014" y="729"/>
                  </a:lnTo>
                  <a:lnTo>
                    <a:pt x="1014" y="724"/>
                  </a:lnTo>
                  <a:lnTo>
                    <a:pt x="1054" y="724"/>
                  </a:lnTo>
                  <a:lnTo>
                    <a:pt x="1054" y="718"/>
                  </a:lnTo>
                  <a:lnTo>
                    <a:pt x="1076" y="718"/>
                  </a:lnTo>
                  <a:lnTo>
                    <a:pt x="1076" y="712"/>
                  </a:lnTo>
                  <a:lnTo>
                    <a:pt x="1122" y="712"/>
                  </a:lnTo>
                  <a:lnTo>
                    <a:pt x="1122" y="706"/>
                  </a:lnTo>
                  <a:lnTo>
                    <a:pt x="1139" y="706"/>
                  </a:lnTo>
                  <a:lnTo>
                    <a:pt x="1139" y="701"/>
                  </a:lnTo>
                  <a:lnTo>
                    <a:pt x="1208" y="701"/>
                  </a:lnTo>
                  <a:lnTo>
                    <a:pt x="1208" y="695"/>
                  </a:lnTo>
                  <a:lnTo>
                    <a:pt x="1235" y="695"/>
                  </a:lnTo>
                  <a:lnTo>
                    <a:pt x="1235" y="689"/>
                  </a:lnTo>
                  <a:lnTo>
                    <a:pt x="1258" y="689"/>
                  </a:lnTo>
                  <a:lnTo>
                    <a:pt x="1258" y="684"/>
                  </a:lnTo>
                  <a:lnTo>
                    <a:pt x="1263" y="684"/>
                  </a:lnTo>
                  <a:lnTo>
                    <a:pt x="1263" y="677"/>
                  </a:lnTo>
                  <a:lnTo>
                    <a:pt x="1275" y="677"/>
                  </a:lnTo>
                  <a:lnTo>
                    <a:pt x="1275" y="672"/>
                  </a:lnTo>
                  <a:lnTo>
                    <a:pt x="1287" y="672"/>
                  </a:lnTo>
                  <a:lnTo>
                    <a:pt x="1287" y="667"/>
                  </a:lnTo>
                  <a:lnTo>
                    <a:pt x="1321" y="667"/>
                  </a:lnTo>
                  <a:lnTo>
                    <a:pt x="1321" y="661"/>
                  </a:lnTo>
                  <a:lnTo>
                    <a:pt x="1349" y="661"/>
                  </a:lnTo>
                  <a:lnTo>
                    <a:pt x="1349" y="655"/>
                  </a:lnTo>
                  <a:lnTo>
                    <a:pt x="1401" y="655"/>
                  </a:lnTo>
                  <a:lnTo>
                    <a:pt x="1401" y="649"/>
                  </a:lnTo>
                  <a:lnTo>
                    <a:pt x="1441" y="649"/>
                  </a:lnTo>
                  <a:lnTo>
                    <a:pt x="1441" y="644"/>
                  </a:lnTo>
                  <a:lnTo>
                    <a:pt x="1469" y="644"/>
                  </a:lnTo>
                  <a:lnTo>
                    <a:pt x="1469" y="638"/>
                  </a:lnTo>
                  <a:lnTo>
                    <a:pt x="1526" y="638"/>
                  </a:lnTo>
                  <a:lnTo>
                    <a:pt x="1526" y="632"/>
                  </a:lnTo>
                  <a:lnTo>
                    <a:pt x="1549" y="632"/>
                  </a:lnTo>
                  <a:lnTo>
                    <a:pt x="1549" y="627"/>
                  </a:lnTo>
                  <a:lnTo>
                    <a:pt x="1565" y="627"/>
                  </a:lnTo>
                  <a:lnTo>
                    <a:pt x="1565" y="620"/>
                  </a:lnTo>
                  <a:lnTo>
                    <a:pt x="1577" y="620"/>
                  </a:lnTo>
                  <a:lnTo>
                    <a:pt x="1577" y="615"/>
                  </a:lnTo>
                  <a:lnTo>
                    <a:pt x="1589" y="615"/>
                  </a:lnTo>
                  <a:lnTo>
                    <a:pt x="1589" y="610"/>
                  </a:lnTo>
                  <a:lnTo>
                    <a:pt x="1617" y="610"/>
                  </a:lnTo>
                  <a:lnTo>
                    <a:pt x="1617" y="604"/>
                  </a:lnTo>
                  <a:lnTo>
                    <a:pt x="1628" y="604"/>
                  </a:lnTo>
                  <a:lnTo>
                    <a:pt x="1628" y="598"/>
                  </a:lnTo>
                  <a:lnTo>
                    <a:pt x="1651" y="598"/>
                  </a:lnTo>
                  <a:lnTo>
                    <a:pt x="1651" y="592"/>
                  </a:lnTo>
                  <a:lnTo>
                    <a:pt x="1685" y="592"/>
                  </a:lnTo>
                  <a:lnTo>
                    <a:pt x="1685" y="587"/>
                  </a:lnTo>
                  <a:lnTo>
                    <a:pt x="1719" y="587"/>
                  </a:lnTo>
                  <a:lnTo>
                    <a:pt x="1719" y="581"/>
                  </a:lnTo>
                  <a:lnTo>
                    <a:pt x="1771" y="581"/>
                  </a:lnTo>
                  <a:lnTo>
                    <a:pt x="1771" y="575"/>
                  </a:lnTo>
                  <a:lnTo>
                    <a:pt x="1845" y="575"/>
                  </a:lnTo>
                  <a:lnTo>
                    <a:pt x="1845" y="570"/>
                  </a:lnTo>
                  <a:lnTo>
                    <a:pt x="1856" y="570"/>
                  </a:lnTo>
                  <a:lnTo>
                    <a:pt x="1856" y="575"/>
                  </a:lnTo>
                  <a:lnTo>
                    <a:pt x="1867" y="575"/>
                  </a:lnTo>
                  <a:lnTo>
                    <a:pt x="1867" y="570"/>
                  </a:lnTo>
                  <a:lnTo>
                    <a:pt x="1896" y="570"/>
                  </a:lnTo>
                  <a:lnTo>
                    <a:pt x="1896" y="563"/>
                  </a:lnTo>
                  <a:lnTo>
                    <a:pt x="1930" y="563"/>
                  </a:lnTo>
                  <a:lnTo>
                    <a:pt x="1930" y="558"/>
                  </a:lnTo>
                  <a:lnTo>
                    <a:pt x="1981" y="558"/>
                  </a:lnTo>
                  <a:lnTo>
                    <a:pt x="1981" y="553"/>
                  </a:lnTo>
                  <a:lnTo>
                    <a:pt x="1999" y="553"/>
                  </a:lnTo>
                  <a:lnTo>
                    <a:pt x="1999" y="547"/>
                  </a:lnTo>
                  <a:lnTo>
                    <a:pt x="2010" y="547"/>
                  </a:lnTo>
                  <a:lnTo>
                    <a:pt x="2010" y="541"/>
                  </a:lnTo>
                  <a:lnTo>
                    <a:pt x="2083" y="541"/>
                  </a:lnTo>
                  <a:lnTo>
                    <a:pt x="2083" y="536"/>
                  </a:lnTo>
                  <a:lnTo>
                    <a:pt x="2106" y="536"/>
                  </a:lnTo>
                  <a:lnTo>
                    <a:pt x="2106" y="530"/>
                  </a:lnTo>
                  <a:lnTo>
                    <a:pt x="2187" y="530"/>
                  </a:lnTo>
                  <a:lnTo>
                    <a:pt x="2187" y="536"/>
                  </a:lnTo>
                  <a:lnTo>
                    <a:pt x="2209" y="536"/>
                  </a:lnTo>
                  <a:lnTo>
                    <a:pt x="2209" y="530"/>
                  </a:lnTo>
                  <a:lnTo>
                    <a:pt x="2232" y="530"/>
                  </a:lnTo>
                  <a:lnTo>
                    <a:pt x="2232" y="524"/>
                  </a:lnTo>
                  <a:lnTo>
                    <a:pt x="2329" y="524"/>
                  </a:lnTo>
                  <a:lnTo>
                    <a:pt x="2329" y="518"/>
                  </a:lnTo>
                  <a:lnTo>
                    <a:pt x="2567" y="518"/>
                  </a:lnTo>
                  <a:lnTo>
                    <a:pt x="2567" y="524"/>
                  </a:lnTo>
                  <a:lnTo>
                    <a:pt x="2648" y="524"/>
                  </a:lnTo>
                  <a:lnTo>
                    <a:pt x="2648" y="530"/>
                  </a:lnTo>
                  <a:lnTo>
                    <a:pt x="2670" y="530"/>
                  </a:lnTo>
                  <a:lnTo>
                    <a:pt x="2670" y="536"/>
                  </a:lnTo>
                  <a:lnTo>
                    <a:pt x="2681" y="536"/>
                  </a:lnTo>
                  <a:lnTo>
                    <a:pt x="2681" y="541"/>
                  </a:lnTo>
                  <a:lnTo>
                    <a:pt x="2715" y="541"/>
                  </a:lnTo>
                  <a:lnTo>
                    <a:pt x="2715" y="547"/>
                  </a:lnTo>
                  <a:lnTo>
                    <a:pt x="2738" y="547"/>
                  </a:lnTo>
                  <a:lnTo>
                    <a:pt x="2738" y="553"/>
                  </a:lnTo>
                  <a:lnTo>
                    <a:pt x="2750" y="553"/>
                  </a:lnTo>
                  <a:lnTo>
                    <a:pt x="2750" y="558"/>
                  </a:lnTo>
                  <a:lnTo>
                    <a:pt x="2779" y="558"/>
                  </a:lnTo>
                  <a:lnTo>
                    <a:pt x="2779" y="563"/>
                  </a:lnTo>
                  <a:lnTo>
                    <a:pt x="2784" y="563"/>
                  </a:lnTo>
                  <a:lnTo>
                    <a:pt x="2784" y="570"/>
                  </a:lnTo>
                  <a:lnTo>
                    <a:pt x="2819" y="570"/>
                  </a:lnTo>
                  <a:lnTo>
                    <a:pt x="2819" y="575"/>
                  </a:lnTo>
                  <a:lnTo>
                    <a:pt x="2852" y="575"/>
                  </a:lnTo>
                  <a:lnTo>
                    <a:pt x="2852" y="581"/>
                  </a:lnTo>
                  <a:lnTo>
                    <a:pt x="2898" y="581"/>
                  </a:lnTo>
                  <a:lnTo>
                    <a:pt x="2898" y="587"/>
                  </a:lnTo>
                  <a:lnTo>
                    <a:pt x="2943" y="587"/>
                  </a:lnTo>
                  <a:lnTo>
                    <a:pt x="2943" y="592"/>
                  </a:lnTo>
                  <a:lnTo>
                    <a:pt x="2966" y="592"/>
                  </a:lnTo>
                  <a:lnTo>
                    <a:pt x="2966" y="598"/>
                  </a:lnTo>
                  <a:lnTo>
                    <a:pt x="2983" y="598"/>
                  </a:lnTo>
                  <a:lnTo>
                    <a:pt x="2983" y="604"/>
                  </a:lnTo>
                  <a:lnTo>
                    <a:pt x="3000" y="604"/>
                  </a:lnTo>
                  <a:lnTo>
                    <a:pt x="3000" y="610"/>
                  </a:lnTo>
                  <a:lnTo>
                    <a:pt x="3035" y="610"/>
                  </a:lnTo>
                  <a:lnTo>
                    <a:pt x="3035" y="615"/>
                  </a:lnTo>
                  <a:lnTo>
                    <a:pt x="3040" y="615"/>
                  </a:lnTo>
                  <a:lnTo>
                    <a:pt x="3040" y="620"/>
                  </a:lnTo>
                  <a:lnTo>
                    <a:pt x="3080" y="620"/>
                  </a:lnTo>
                  <a:lnTo>
                    <a:pt x="3080" y="627"/>
                  </a:lnTo>
                  <a:lnTo>
                    <a:pt x="3092" y="627"/>
                  </a:lnTo>
                  <a:lnTo>
                    <a:pt x="3092" y="632"/>
                  </a:lnTo>
                  <a:lnTo>
                    <a:pt x="3120" y="632"/>
                  </a:lnTo>
                  <a:lnTo>
                    <a:pt x="3120" y="638"/>
                  </a:lnTo>
                  <a:lnTo>
                    <a:pt x="3199" y="638"/>
                  </a:lnTo>
                  <a:lnTo>
                    <a:pt x="3199" y="644"/>
                  </a:lnTo>
                  <a:lnTo>
                    <a:pt x="3240" y="644"/>
                  </a:lnTo>
                  <a:lnTo>
                    <a:pt x="3240" y="649"/>
                  </a:lnTo>
                  <a:lnTo>
                    <a:pt x="3268" y="649"/>
                  </a:lnTo>
                  <a:lnTo>
                    <a:pt x="3268" y="655"/>
                  </a:lnTo>
                  <a:lnTo>
                    <a:pt x="3296" y="655"/>
                  </a:lnTo>
                  <a:lnTo>
                    <a:pt x="3296" y="661"/>
                  </a:lnTo>
                  <a:lnTo>
                    <a:pt x="3330" y="661"/>
                  </a:lnTo>
                  <a:lnTo>
                    <a:pt x="3330" y="667"/>
                  </a:lnTo>
                  <a:lnTo>
                    <a:pt x="3375" y="667"/>
                  </a:lnTo>
                  <a:lnTo>
                    <a:pt x="3375" y="672"/>
                  </a:lnTo>
                  <a:lnTo>
                    <a:pt x="3382" y="672"/>
                  </a:lnTo>
                  <a:lnTo>
                    <a:pt x="3382" y="677"/>
                  </a:lnTo>
                  <a:lnTo>
                    <a:pt x="3393" y="677"/>
                  </a:lnTo>
                  <a:lnTo>
                    <a:pt x="3393" y="684"/>
                  </a:lnTo>
                  <a:lnTo>
                    <a:pt x="3404" y="684"/>
                  </a:lnTo>
                  <a:lnTo>
                    <a:pt x="3404" y="689"/>
                  </a:lnTo>
                  <a:lnTo>
                    <a:pt x="3422" y="689"/>
                  </a:lnTo>
                  <a:lnTo>
                    <a:pt x="3422" y="695"/>
                  </a:lnTo>
                  <a:lnTo>
                    <a:pt x="3444" y="695"/>
                  </a:lnTo>
                  <a:lnTo>
                    <a:pt x="3444" y="701"/>
                  </a:lnTo>
                  <a:lnTo>
                    <a:pt x="3518" y="701"/>
                  </a:lnTo>
                  <a:lnTo>
                    <a:pt x="3518" y="706"/>
                  </a:lnTo>
                  <a:lnTo>
                    <a:pt x="3558" y="706"/>
                  </a:lnTo>
                  <a:lnTo>
                    <a:pt x="3558" y="712"/>
                  </a:lnTo>
                  <a:lnTo>
                    <a:pt x="3615" y="712"/>
                  </a:lnTo>
                  <a:lnTo>
                    <a:pt x="3615" y="718"/>
                  </a:lnTo>
                  <a:lnTo>
                    <a:pt x="3660" y="718"/>
                  </a:lnTo>
                  <a:lnTo>
                    <a:pt x="3660" y="724"/>
                  </a:lnTo>
                  <a:lnTo>
                    <a:pt x="3683" y="724"/>
                  </a:lnTo>
                  <a:lnTo>
                    <a:pt x="3683" y="729"/>
                  </a:lnTo>
                  <a:lnTo>
                    <a:pt x="3695" y="729"/>
                  </a:lnTo>
                  <a:lnTo>
                    <a:pt x="3695" y="734"/>
                  </a:lnTo>
                  <a:lnTo>
                    <a:pt x="3706" y="734"/>
                  </a:lnTo>
                  <a:lnTo>
                    <a:pt x="3706" y="741"/>
                  </a:lnTo>
                  <a:lnTo>
                    <a:pt x="3740" y="741"/>
                  </a:lnTo>
                  <a:lnTo>
                    <a:pt x="3740" y="746"/>
                  </a:lnTo>
                  <a:lnTo>
                    <a:pt x="3763" y="746"/>
                  </a:lnTo>
                  <a:lnTo>
                    <a:pt x="3763" y="752"/>
                  </a:lnTo>
                  <a:lnTo>
                    <a:pt x="3791" y="752"/>
                  </a:lnTo>
                  <a:lnTo>
                    <a:pt x="3791" y="758"/>
                  </a:lnTo>
                  <a:lnTo>
                    <a:pt x="3820" y="758"/>
                  </a:lnTo>
                  <a:lnTo>
                    <a:pt x="3820" y="763"/>
                  </a:lnTo>
                  <a:lnTo>
                    <a:pt x="3871" y="763"/>
                  </a:lnTo>
                  <a:lnTo>
                    <a:pt x="3871" y="769"/>
                  </a:lnTo>
                  <a:lnTo>
                    <a:pt x="3895" y="769"/>
                  </a:lnTo>
                  <a:lnTo>
                    <a:pt x="3895" y="775"/>
                  </a:lnTo>
                  <a:lnTo>
                    <a:pt x="3940" y="775"/>
                  </a:lnTo>
                  <a:lnTo>
                    <a:pt x="3940" y="781"/>
                  </a:lnTo>
                  <a:lnTo>
                    <a:pt x="3974" y="781"/>
                  </a:lnTo>
                  <a:lnTo>
                    <a:pt x="3974" y="786"/>
                  </a:lnTo>
                  <a:lnTo>
                    <a:pt x="3997" y="786"/>
                  </a:lnTo>
                  <a:lnTo>
                    <a:pt x="3997" y="791"/>
                  </a:lnTo>
                  <a:lnTo>
                    <a:pt x="4054" y="791"/>
                  </a:lnTo>
                  <a:lnTo>
                    <a:pt x="4054" y="798"/>
                  </a:lnTo>
                  <a:lnTo>
                    <a:pt x="4082" y="798"/>
                  </a:lnTo>
                  <a:lnTo>
                    <a:pt x="4082" y="803"/>
                  </a:lnTo>
                  <a:lnTo>
                    <a:pt x="4116" y="803"/>
                  </a:lnTo>
                  <a:lnTo>
                    <a:pt x="4116" y="808"/>
                  </a:lnTo>
                  <a:lnTo>
                    <a:pt x="4133" y="808"/>
                  </a:lnTo>
                  <a:lnTo>
                    <a:pt x="4133" y="815"/>
                  </a:lnTo>
                  <a:lnTo>
                    <a:pt x="4139" y="815"/>
                  </a:lnTo>
                  <a:lnTo>
                    <a:pt x="4139" y="820"/>
                  </a:lnTo>
                  <a:lnTo>
                    <a:pt x="4150" y="820"/>
                  </a:lnTo>
                  <a:lnTo>
                    <a:pt x="4150" y="826"/>
                  </a:lnTo>
                  <a:lnTo>
                    <a:pt x="4161" y="826"/>
                  </a:lnTo>
                  <a:lnTo>
                    <a:pt x="4161" y="832"/>
                  </a:lnTo>
                  <a:lnTo>
                    <a:pt x="4173" y="832"/>
                  </a:lnTo>
                  <a:lnTo>
                    <a:pt x="4173" y="837"/>
                  </a:lnTo>
                  <a:lnTo>
                    <a:pt x="4190" y="837"/>
                  </a:lnTo>
                  <a:lnTo>
                    <a:pt x="4190" y="843"/>
                  </a:lnTo>
                  <a:lnTo>
                    <a:pt x="4207" y="843"/>
                  </a:lnTo>
                  <a:lnTo>
                    <a:pt x="4207" y="848"/>
                  </a:lnTo>
                  <a:lnTo>
                    <a:pt x="4258" y="848"/>
                  </a:lnTo>
                  <a:lnTo>
                    <a:pt x="4258" y="855"/>
                  </a:lnTo>
                  <a:lnTo>
                    <a:pt x="4292" y="855"/>
                  </a:lnTo>
                  <a:lnTo>
                    <a:pt x="4292" y="860"/>
                  </a:lnTo>
                  <a:lnTo>
                    <a:pt x="4338" y="860"/>
                  </a:lnTo>
                  <a:lnTo>
                    <a:pt x="4338" y="865"/>
                  </a:lnTo>
                  <a:lnTo>
                    <a:pt x="4356" y="865"/>
                  </a:lnTo>
                  <a:lnTo>
                    <a:pt x="4356" y="872"/>
                  </a:lnTo>
                  <a:lnTo>
                    <a:pt x="4372" y="872"/>
                  </a:lnTo>
                  <a:lnTo>
                    <a:pt x="4372" y="877"/>
                  </a:lnTo>
                  <a:lnTo>
                    <a:pt x="4389" y="877"/>
                  </a:lnTo>
                  <a:lnTo>
                    <a:pt x="4389" y="883"/>
                  </a:lnTo>
                  <a:lnTo>
                    <a:pt x="4401" y="883"/>
                  </a:lnTo>
                  <a:lnTo>
                    <a:pt x="4401" y="888"/>
                  </a:lnTo>
                  <a:lnTo>
                    <a:pt x="4423" y="888"/>
                  </a:lnTo>
                  <a:lnTo>
                    <a:pt x="4423" y="894"/>
                  </a:lnTo>
                  <a:lnTo>
                    <a:pt x="4446" y="894"/>
                  </a:lnTo>
                  <a:lnTo>
                    <a:pt x="4446" y="900"/>
                  </a:lnTo>
                  <a:lnTo>
                    <a:pt x="4498" y="900"/>
                  </a:lnTo>
                  <a:lnTo>
                    <a:pt x="4498" y="905"/>
                  </a:lnTo>
                  <a:lnTo>
                    <a:pt x="4537" y="905"/>
                  </a:lnTo>
                  <a:lnTo>
                    <a:pt x="4537" y="911"/>
                  </a:lnTo>
                  <a:lnTo>
                    <a:pt x="4611" y="911"/>
                  </a:lnTo>
                  <a:lnTo>
                    <a:pt x="4611" y="917"/>
                  </a:lnTo>
                  <a:lnTo>
                    <a:pt x="4646" y="917"/>
                  </a:lnTo>
                  <a:lnTo>
                    <a:pt x="4646" y="922"/>
                  </a:lnTo>
                  <a:lnTo>
                    <a:pt x="4668" y="922"/>
                  </a:lnTo>
                  <a:lnTo>
                    <a:pt x="4668" y="928"/>
                  </a:lnTo>
                  <a:lnTo>
                    <a:pt x="4679" y="928"/>
                  </a:lnTo>
                  <a:lnTo>
                    <a:pt x="4679" y="934"/>
                  </a:lnTo>
                  <a:lnTo>
                    <a:pt x="4691" y="934"/>
                  </a:lnTo>
                  <a:lnTo>
                    <a:pt x="4691" y="940"/>
                  </a:lnTo>
                  <a:lnTo>
                    <a:pt x="4703" y="940"/>
                  </a:lnTo>
                  <a:lnTo>
                    <a:pt x="4703" y="945"/>
                  </a:lnTo>
                  <a:lnTo>
                    <a:pt x="4719" y="945"/>
                  </a:lnTo>
                  <a:lnTo>
                    <a:pt x="4719" y="951"/>
                  </a:lnTo>
                  <a:lnTo>
                    <a:pt x="4736" y="951"/>
                  </a:lnTo>
                  <a:lnTo>
                    <a:pt x="4736" y="957"/>
                  </a:lnTo>
                  <a:lnTo>
                    <a:pt x="4765" y="957"/>
                  </a:lnTo>
                  <a:lnTo>
                    <a:pt x="4765" y="962"/>
                  </a:lnTo>
                  <a:lnTo>
                    <a:pt x="4805" y="962"/>
                  </a:lnTo>
                  <a:lnTo>
                    <a:pt x="4805" y="967"/>
                  </a:lnTo>
                  <a:lnTo>
                    <a:pt x="4822" y="967"/>
                  </a:lnTo>
                  <a:lnTo>
                    <a:pt x="4822" y="974"/>
                  </a:lnTo>
                  <a:lnTo>
                    <a:pt x="4862" y="974"/>
                  </a:lnTo>
                  <a:lnTo>
                    <a:pt x="4862" y="979"/>
                  </a:lnTo>
                  <a:lnTo>
                    <a:pt x="4890" y="979"/>
                  </a:lnTo>
                  <a:lnTo>
                    <a:pt x="4890" y="985"/>
                  </a:lnTo>
                  <a:lnTo>
                    <a:pt x="4919" y="985"/>
                  </a:lnTo>
                  <a:lnTo>
                    <a:pt x="4919" y="991"/>
                  </a:lnTo>
                  <a:lnTo>
                    <a:pt x="4947" y="991"/>
                  </a:lnTo>
                  <a:lnTo>
                    <a:pt x="4947" y="997"/>
                  </a:lnTo>
                  <a:lnTo>
                    <a:pt x="4976" y="997"/>
                  </a:lnTo>
                  <a:lnTo>
                    <a:pt x="4976" y="1002"/>
                  </a:lnTo>
                  <a:lnTo>
                    <a:pt x="5009" y="1002"/>
                  </a:lnTo>
                  <a:lnTo>
                    <a:pt x="5009" y="1008"/>
                  </a:lnTo>
                  <a:lnTo>
                    <a:pt x="5033" y="1008"/>
                  </a:lnTo>
                  <a:lnTo>
                    <a:pt x="5033" y="1014"/>
                  </a:lnTo>
                  <a:lnTo>
                    <a:pt x="5055" y="1014"/>
                  </a:lnTo>
                  <a:lnTo>
                    <a:pt x="5055" y="1019"/>
                  </a:lnTo>
                  <a:lnTo>
                    <a:pt x="5083" y="1019"/>
                  </a:lnTo>
                  <a:lnTo>
                    <a:pt x="5083" y="1024"/>
                  </a:lnTo>
                  <a:lnTo>
                    <a:pt x="5101" y="1024"/>
                  </a:lnTo>
                  <a:lnTo>
                    <a:pt x="5101" y="1031"/>
                  </a:lnTo>
                  <a:lnTo>
                    <a:pt x="5147" y="1031"/>
                  </a:lnTo>
                  <a:lnTo>
                    <a:pt x="5147" y="1036"/>
                  </a:lnTo>
                  <a:lnTo>
                    <a:pt x="5169" y="1036"/>
                  </a:lnTo>
                  <a:lnTo>
                    <a:pt x="5169" y="1042"/>
                  </a:lnTo>
                  <a:lnTo>
                    <a:pt x="5204" y="1042"/>
                  </a:lnTo>
                  <a:lnTo>
                    <a:pt x="5204" y="1048"/>
                  </a:lnTo>
                  <a:lnTo>
                    <a:pt x="5232" y="1048"/>
                  </a:lnTo>
                  <a:lnTo>
                    <a:pt x="5232" y="1053"/>
                  </a:lnTo>
                  <a:lnTo>
                    <a:pt x="5254" y="1053"/>
                  </a:lnTo>
                  <a:lnTo>
                    <a:pt x="5254" y="1059"/>
                  </a:lnTo>
                  <a:lnTo>
                    <a:pt x="5340" y="1059"/>
                  </a:lnTo>
                  <a:lnTo>
                    <a:pt x="5340" y="1065"/>
                  </a:lnTo>
                  <a:lnTo>
                    <a:pt x="5351" y="1065"/>
                  </a:lnTo>
                  <a:lnTo>
                    <a:pt x="5351" y="1059"/>
                  </a:lnTo>
                  <a:lnTo>
                    <a:pt x="5385" y="1059"/>
                  </a:lnTo>
                  <a:lnTo>
                    <a:pt x="5385" y="1065"/>
                  </a:lnTo>
                  <a:lnTo>
                    <a:pt x="5505" y="1065"/>
                  </a:lnTo>
                  <a:lnTo>
                    <a:pt x="5505" y="1071"/>
                  </a:lnTo>
                  <a:lnTo>
                    <a:pt x="5544" y="1071"/>
                  </a:lnTo>
                  <a:lnTo>
                    <a:pt x="5544" y="1076"/>
                  </a:lnTo>
                  <a:lnTo>
                    <a:pt x="5573" y="1076"/>
                  </a:lnTo>
                  <a:lnTo>
                    <a:pt x="5573" y="1081"/>
                  </a:lnTo>
                  <a:lnTo>
                    <a:pt x="5596" y="1081"/>
                  </a:lnTo>
                  <a:lnTo>
                    <a:pt x="5596" y="1088"/>
                  </a:lnTo>
                  <a:lnTo>
                    <a:pt x="5630" y="1088"/>
                  </a:lnTo>
                  <a:lnTo>
                    <a:pt x="5630" y="1093"/>
                  </a:lnTo>
                  <a:lnTo>
                    <a:pt x="5670" y="1093"/>
                  </a:lnTo>
                  <a:lnTo>
                    <a:pt x="5670" y="1099"/>
                  </a:lnTo>
                  <a:lnTo>
                    <a:pt x="5687" y="1099"/>
                  </a:lnTo>
                  <a:lnTo>
                    <a:pt x="5687" y="1105"/>
                  </a:lnTo>
                  <a:lnTo>
                    <a:pt x="5750" y="1105"/>
                  </a:lnTo>
                  <a:lnTo>
                    <a:pt x="5750" y="1110"/>
                  </a:lnTo>
                  <a:lnTo>
                    <a:pt x="5795" y="1110"/>
                  </a:lnTo>
                  <a:lnTo>
                    <a:pt x="5795" y="1116"/>
                  </a:lnTo>
                  <a:lnTo>
                    <a:pt x="5926" y="1116"/>
                  </a:lnTo>
                  <a:lnTo>
                    <a:pt x="5926" y="1122"/>
                  </a:lnTo>
                  <a:lnTo>
                    <a:pt x="5995" y="1122"/>
                  </a:lnTo>
                  <a:lnTo>
                    <a:pt x="5995" y="1128"/>
                  </a:lnTo>
                  <a:lnTo>
                    <a:pt x="6040" y="1128"/>
                  </a:lnTo>
                  <a:lnTo>
                    <a:pt x="6040" y="1133"/>
                  </a:lnTo>
                  <a:lnTo>
                    <a:pt x="6057" y="1133"/>
                  </a:lnTo>
                  <a:lnTo>
                    <a:pt x="6057" y="1138"/>
                  </a:lnTo>
                  <a:lnTo>
                    <a:pt x="6097" y="1138"/>
                  </a:lnTo>
                  <a:lnTo>
                    <a:pt x="6097" y="1145"/>
                  </a:lnTo>
                  <a:lnTo>
                    <a:pt x="6297" y="1145"/>
                  </a:lnTo>
                  <a:lnTo>
                    <a:pt x="6297" y="1150"/>
                  </a:lnTo>
                  <a:lnTo>
                    <a:pt x="6433" y="1150"/>
                  </a:lnTo>
                  <a:lnTo>
                    <a:pt x="6433" y="1156"/>
                  </a:lnTo>
                  <a:lnTo>
                    <a:pt x="6444" y="1156"/>
                  </a:lnTo>
                  <a:lnTo>
                    <a:pt x="6444" y="1150"/>
                  </a:lnTo>
                  <a:lnTo>
                    <a:pt x="6461" y="1150"/>
                  </a:lnTo>
                  <a:lnTo>
                    <a:pt x="6461" y="1156"/>
                  </a:lnTo>
                  <a:lnTo>
                    <a:pt x="6570" y="1156"/>
                  </a:lnTo>
                  <a:lnTo>
                    <a:pt x="6570" y="1162"/>
                  </a:lnTo>
                  <a:lnTo>
                    <a:pt x="6592" y="1162"/>
                  </a:lnTo>
                  <a:lnTo>
                    <a:pt x="6592" y="1156"/>
                  </a:lnTo>
                  <a:lnTo>
                    <a:pt x="6689" y="1156"/>
                  </a:lnTo>
                  <a:lnTo>
                    <a:pt x="6689" y="1150"/>
                  </a:lnTo>
                  <a:lnTo>
                    <a:pt x="6729" y="1150"/>
                  </a:lnTo>
                  <a:lnTo>
                    <a:pt x="6729" y="1156"/>
                  </a:lnTo>
                  <a:lnTo>
                    <a:pt x="6820" y="1156"/>
                  </a:lnTo>
                  <a:lnTo>
                    <a:pt x="6820" y="1162"/>
                  </a:lnTo>
                  <a:lnTo>
                    <a:pt x="6831" y="1162"/>
                  </a:lnTo>
                  <a:lnTo>
                    <a:pt x="6831" y="1156"/>
                  </a:lnTo>
                  <a:lnTo>
                    <a:pt x="6865" y="1156"/>
                  </a:lnTo>
                  <a:lnTo>
                    <a:pt x="6865" y="1162"/>
                  </a:lnTo>
                  <a:lnTo>
                    <a:pt x="6945" y="1162"/>
                  </a:lnTo>
                  <a:lnTo>
                    <a:pt x="6945" y="1167"/>
                  </a:lnTo>
                  <a:lnTo>
                    <a:pt x="7002" y="1167"/>
                  </a:lnTo>
                  <a:lnTo>
                    <a:pt x="7002" y="1173"/>
                  </a:lnTo>
                  <a:lnTo>
                    <a:pt x="7081" y="1173"/>
                  </a:lnTo>
                  <a:lnTo>
                    <a:pt x="7081" y="1167"/>
                  </a:lnTo>
                  <a:lnTo>
                    <a:pt x="7093" y="1167"/>
                  </a:lnTo>
                  <a:lnTo>
                    <a:pt x="7093" y="1173"/>
                  </a:lnTo>
                  <a:lnTo>
                    <a:pt x="7219" y="1173"/>
                  </a:lnTo>
                  <a:lnTo>
                    <a:pt x="7219" y="1179"/>
                  </a:lnTo>
                  <a:lnTo>
                    <a:pt x="7230" y="1179"/>
                  </a:lnTo>
                  <a:lnTo>
                    <a:pt x="7230" y="1173"/>
                  </a:lnTo>
                  <a:lnTo>
                    <a:pt x="7247" y="1173"/>
                  </a:lnTo>
                  <a:lnTo>
                    <a:pt x="7247" y="1179"/>
                  </a:lnTo>
                  <a:lnTo>
                    <a:pt x="7270" y="1179"/>
                  </a:lnTo>
                  <a:lnTo>
                    <a:pt x="7270" y="1173"/>
                  </a:lnTo>
                  <a:lnTo>
                    <a:pt x="7281" y="1173"/>
                  </a:lnTo>
                  <a:lnTo>
                    <a:pt x="7281" y="1179"/>
                  </a:lnTo>
                  <a:lnTo>
                    <a:pt x="7361" y="1179"/>
                  </a:lnTo>
                  <a:lnTo>
                    <a:pt x="7361" y="1173"/>
                  </a:lnTo>
                  <a:lnTo>
                    <a:pt x="7429" y="1173"/>
                  </a:lnTo>
                  <a:lnTo>
                    <a:pt x="7429" y="1179"/>
                  </a:lnTo>
                  <a:lnTo>
                    <a:pt x="7468" y="1179"/>
                  </a:lnTo>
                  <a:lnTo>
                    <a:pt x="7468" y="1185"/>
                  </a:lnTo>
                  <a:lnTo>
                    <a:pt x="7549" y="1185"/>
                  </a:lnTo>
                  <a:lnTo>
                    <a:pt x="7549" y="1190"/>
                  </a:lnTo>
                  <a:lnTo>
                    <a:pt x="7583" y="1190"/>
                  </a:lnTo>
                  <a:lnTo>
                    <a:pt x="7583" y="1195"/>
                  </a:lnTo>
                  <a:lnTo>
                    <a:pt x="7640" y="1195"/>
                  </a:lnTo>
                  <a:lnTo>
                    <a:pt x="7640" y="1190"/>
                  </a:lnTo>
                  <a:lnTo>
                    <a:pt x="7663" y="1190"/>
                  </a:lnTo>
                  <a:lnTo>
                    <a:pt x="7663" y="1195"/>
                  </a:lnTo>
                  <a:lnTo>
                    <a:pt x="7805" y="1195"/>
                  </a:lnTo>
                  <a:lnTo>
                    <a:pt x="7805" y="1202"/>
                  </a:lnTo>
                  <a:lnTo>
                    <a:pt x="7850" y="1202"/>
                  </a:lnTo>
                  <a:lnTo>
                    <a:pt x="7850" y="1195"/>
                  </a:lnTo>
                  <a:lnTo>
                    <a:pt x="8027" y="1195"/>
                  </a:lnTo>
                  <a:lnTo>
                    <a:pt x="8027" y="1202"/>
                  </a:lnTo>
                  <a:lnTo>
                    <a:pt x="8090" y="1202"/>
                  </a:lnTo>
                  <a:lnTo>
                    <a:pt x="8090" y="1207"/>
                  </a:lnTo>
                  <a:lnTo>
                    <a:pt x="8157" y="1207"/>
                  </a:lnTo>
                  <a:lnTo>
                    <a:pt x="8157" y="1212"/>
                  </a:lnTo>
                  <a:lnTo>
                    <a:pt x="8214" y="1212"/>
                  </a:lnTo>
                  <a:lnTo>
                    <a:pt x="8214" y="1207"/>
                  </a:lnTo>
                  <a:lnTo>
                    <a:pt x="8266" y="1207"/>
                  </a:lnTo>
                  <a:lnTo>
                    <a:pt x="8266" y="1202"/>
                  </a:lnTo>
                  <a:lnTo>
                    <a:pt x="8300" y="1202"/>
                  </a:lnTo>
                  <a:lnTo>
                    <a:pt x="8300" y="1195"/>
                  </a:lnTo>
                  <a:lnTo>
                    <a:pt x="8323" y="1195"/>
                  </a:lnTo>
                  <a:lnTo>
                    <a:pt x="8323" y="1190"/>
                  </a:lnTo>
                  <a:lnTo>
                    <a:pt x="8368" y="1190"/>
                  </a:lnTo>
                  <a:lnTo>
                    <a:pt x="8368" y="1195"/>
                  </a:lnTo>
                  <a:lnTo>
                    <a:pt x="8374" y="1195"/>
                  </a:lnTo>
                  <a:lnTo>
                    <a:pt x="8374" y="1202"/>
                  </a:lnTo>
                  <a:lnTo>
                    <a:pt x="8385" y="1202"/>
                  </a:lnTo>
                  <a:lnTo>
                    <a:pt x="8385" y="1195"/>
                  </a:lnTo>
                  <a:lnTo>
                    <a:pt x="8414" y="1195"/>
                  </a:lnTo>
                  <a:lnTo>
                    <a:pt x="8414" y="1190"/>
                  </a:lnTo>
                  <a:lnTo>
                    <a:pt x="8442" y="1190"/>
                  </a:lnTo>
                  <a:lnTo>
                    <a:pt x="8442" y="1185"/>
                  </a:lnTo>
                  <a:lnTo>
                    <a:pt x="8454" y="1185"/>
                  </a:lnTo>
                  <a:lnTo>
                    <a:pt x="8454" y="1179"/>
                  </a:lnTo>
                  <a:lnTo>
                    <a:pt x="8482" y="1179"/>
                  </a:lnTo>
                  <a:lnTo>
                    <a:pt x="8482" y="1173"/>
                  </a:lnTo>
                  <a:lnTo>
                    <a:pt x="8494" y="1173"/>
                  </a:lnTo>
                  <a:lnTo>
                    <a:pt x="8494" y="1167"/>
                  </a:lnTo>
                  <a:lnTo>
                    <a:pt x="8516" y="1167"/>
                  </a:lnTo>
                  <a:lnTo>
                    <a:pt x="8516" y="1162"/>
                  </a:lnTo>
                  <a:lnTo>
                    <a:pt x="8539" y="1162"/>
                  </a:lnTo>
                  <a:lnTo>
                    <a:pt x="8539" y="1156"/>
                  </a:lnTo>
                  <a:lnTo>
                    <a:pt x="8568" y="1156"/>
                  </a:lnTo>
                  <a:lnTo>
                    <a:pt x="8568" y="1150"/>
                  </a:lnTo>
                  <a:lnTo>
                    <a:pt x="8584" y="1150"/>
                  </a:lnTo>
                  <a:lnTo>
                    <a:pt x="8584" y="1145"/>
                  </a:lnTo>
                  <a:lnTo>
                    <a:pt x="8608" y="1145"/>
                  </a:lnTo>
                  <a:lnTo>
                    <a:pt x="8608" y="1138"/>
                  </a:lnTo>
                  <a:lnTo>
                    <a:pt x="8618" y="1138"/>
                  </a:lnTo>
                  <a:lnTo>
                    <a:pt x="8618" y="1133"/>
                  </a:lnTo>
                  <a:lnTo>
                    <a:pt x="8641" y="1133"/>
                  </a:lnTo>
                  <a:lnTo>
                    <a:pt x="8641" y="1128"/>
                  </a:lnTo>
                  <a:lnTo>
                    <a:pt x="8658" y="1128"/>
                  </a:lnTo>
                  <a:lnTo>
                    <a:pt x="8658" y="1122"/>
                  </a:lnTo>
                  <a:lnTo>
                    <a:pt x="8675" y="1122"/>
                  </a:lnTo>
                  <a:lnTo>
                    <a:pt x="8675" y="1116"/>
                  </a:lnTo>
                  <a:lnTo>
                    <a:pt x="8693" y="1116"/>
                  </a:lnTo>
                  <a:lnTo>
                    <a:pt x="8693" y="1110"/>
                  </a:lnTo>
                  <a:lnTo>
                    <a:pt x="8715" y="1110"/>
                  </a:lnTo>
                  <a:lnTo>
                    <a:pt x="8715" y="1105"/>
                  </a:lnTo>
                  <a:lnTo>
                    <a:pt x="8744" y="1105"/>
                  </a:lnTo>
                  <a:lnTo>
                    <a:pt x="8744" y="1099"/>
                  </a:lnTo>
                  <a:lnTo>
                    <a:pt x="8761" y="1099"/>
                  </a:lnTo>
                  <a:lnTo>
                    <a:pt x="8761" y="1093"/>
                  </a:lnTo>
                  <a:lnTo>
                    <a:pt x="8789" y="1093"/>
                  </a:lnTo>
                  <a:lnTo>
                    <a:pt x="8789" y="1088"/>
                  </a:lnTo>
                  <a:lnTo>
                    <a:pt x="8807" y="1088"/>
                  </a:lnTo>
                  <a:lnTo>
                    <a:pt x="8807" y="1081"/>
                  </a:lnTo>
                  <a:lnTo>
                    <a:pt x="8841" y="1081"/>
                  </a:lnTo>
                  <a:lnTo>
                    <a:pt x="8841" y="1076"/>
                  </a:lnTo>
                  <a:lnTo>
                    <a:pt x="8858" y="1076"/>
                  </a:lnTo>
                  <a:lnTo>
                    <a:pt x="8858" y="1071"/>
                  </a:lnTo>
                  <a:lnTo>
                    <a:pt x="8870" y="1071"/>
                  </a:lnTo>
                  <a:lnTo>
                    <a:pt x="8870" y="1065"/>
                  </a:lnTo>
                  <a:lnTo>
                    <a:pt x="8881" y="1065"/>
                  </a:lnTo>
                  <a:lnTo>
                    <a:pt x="8881" y="1059"/>
                  </a:lnTo>
                  <a:lnTo>
                    <a:pt x="8903" y="1059"/>
                  </a:lnTo>
                  <a:lnTo>
                    <a:pt x="8903" y="1053"/>
                  </a:lnTo>
                  <a:lnTo>
                    <a:pt x="8927" y="1053"/>
                  </a:lnTo>
                  <a:lnTo>
                    <a:pt x="8927" y="1048"/>
                  </a:lnTo>
                  <a:lnTo>
                    <a:pt x="8943" y="1048"/>
                  </a:lnTo>
                  <a:lnTo>
                    <a:pt x="8943" y="1042"/>
                  </a:lnTo>
                  <a:lnTo>
                    <a:pt x="8960" y="1042"/>
                  </a:lnTo>
                  <a:lnTo>
                    <a:pt x="8960" y="1036"/>
                  </a:lnTo>
                  <a:lnTo>
                    <a:pt x="8983" y="1036"/>
                  </a:lnTo>
                  <a:lnTo>
                    <a:pt x="8983" y="1031"/>
                  </a:lnTo>
                  <a:lnTo>
                    <a:pt x="8995" y="1031"/>
                  </a:lnTo>
                  <a:lnTo>
                    <a:pt x="8995" y="1024"/>
                  </a:lnTo>
                  <a:lnTo>
                    <a:pt x="9005" y="1024"/>
                  </a:lnTo>
                  <a:lnTo>
                    <a:pt x="9005" y="1019"/>
                  </a:lnTo>
                  <a:lnTo>
                    <a:pt x="9023" y="1019"/>
                  </a:lnTo>
                  <a:lnTo>
                    <a:pt x="9023" y="1014"/>
                  </a:lnTo>
                  <a:lnTo>
                    <a:pt x="9040" y="1014"/>
                  </a:lnTo>
                  <a:lnTo>
                    <a:pt x="9040" y="1008"/>
                  </a:lnTo>
                  <a:lnTo>
                    <a:pt x="9052" y="1008"/>
                  </a:lnTo>
                  <a:lnTo>
                    <a:pt x="9052" y="1002"/>
                  </a:lnTo>
                  <a:lnTo>
                    <a:pt x="9062" y="1002"/>
                  </a:lnTo>
                  <a:lnTo>
                    <a:pt x="9062" y="997"/>
                  </a:lnTo>
                  <a:lnTo>
                    <a:pt x="9069" y="997"/>
                  </a:lnTo>
                  <a:lnTo>
                    <a:pt x="9069" y="991"/>
                  </a:lnTo>
                  <a:lnTo>
                    <a:pt x="9086" y="991"/>
                  </a:lnTo>
                  <a:lnTo>
                    <a:pt x="9086" y="985"/>
                  </a:lnTo>
                  <a:lnTo>
                    <a:pt x="9097" y="985"/>
                  </a:lnTo>
                  <a:lnTo>
                    <a:pt x="9097" y="979"/>
                  </a:lnTo>
                  <a:lnTo>
                    <a:pt x="9109" y="979"/>
                  </a:lnTo>
                  <a:lnTo>
                    <a:pt x="9109" y="974"/>
                  </a:lnTo>
                  <a:lnTo>
                    <a:pt x="9131" y="974"/>
                  </a:lnTo>
                  <a:lnTo>
                    <a:pt x="9131" y="967"/>
                  </a:lnTo>
                  <a:lnTo>
                    <a:pt x="9148" y="967"/>
                  </a:lnTo>
                  <a:lnTo>
                    <a:pt x="9148" y="962"/>
                  </a:lnTo>
                  <a:lnTo>
                    <a:pt x="9160" y="962"/>
                  </a:lnTo>
                  <a:lnTo>
                    <a:pt x="9160" y="957"/>
                  </a:lnTo>
                  <a:lnTo>
                    <a:pt x="9176" y="957"/>
                  </a:lnTo>
                  <a:lnTo>
                    <a:pt x="9176" y="951"/>
                  </a:lnTo>
                  <a:lnTo>
                    <a:pt x="9183" y="951"/>
                  </a:lnTo>
                  <a:lnTo>
                    <a:pt x="9183" y="945"/>
                  </a:lnTo>
                  <a:lnTo>
                    <a:pt x="9193" y="945"/>
                  </a:lnTo>
                  <a:lnTo>
                    <a:pt x="9193" y="940"/>
                  </a:lnTo>
                  <a:lnTo>
                    <a:pt x="9205" y="940"/>
                  </a:lnTo>
                  <a:lnTo>
                    <a:pt x="9205" y="934"/>
                  </a:lnTo>
                  <a:lnTo>
                    <a:pt x="9228" y="934"/>
                  </a:lnTo>
                  <a:lnTo>
                    <a:pt x="9228" y="928"/>
                  </a:lnTo>
                  <a:lnTo>
                    <a:pt x="9240" y="928"/>
                  </a:lnTo>
                  <a:lnTo>
                    <a:pt x="9240" y="922"/>
                  </a:lnTo>
                  <a:lnTo>
                    <a:pt x="9257" y="922"/>
                  </a:lnTo>
                  <a:lnTo>
                    <a:pt x="9257" y="917"/>
                  </a:lnTo>
                  <a:lnTo>
                    <a:pt x="9268" y="917"/>
                  </a:lnTo>
                  <a:lnTo>
                    <a:pt x="9268" y="911"/>
                  </a:lnTo>
                  <a:lnTo>
                    <a:pt x="9285" y="911"/>
                  </a:lnTo>
                  <a:lnTo>
                    <a:pt x="9285" y="905"/>
                  </a:lnTo>
                  <a:lnTo>
                    <a:pt x="9302" y="905"/>
                  </a:lnTo>
                  <a:lnTo>
                    <a:pt x="9302" y="900"/>
                  </a:lnTo>
                  <a:lnTo>
                    <a:pt x="9319" y="900"/>
                  </a:lnTo>
                  <a:lnTo>
                    <a:pt x="9319" y="894"/>
                  </a:lnTo>
                  <a:lnTo>
                    <a:pt x="9331" y="894"/>
                  </a:lnTo>
                  <a:lnTo>
                    <a:pt x="9331" y="888"/>
                  </a:lnTo>
                  <a:lnTo>
                    <a:pt x="9342" y="888"/>
                  </a:lnTo>
                  <a:lnTo>
                    <a:pt x="9342" y="883"/>
                  </a:lnTo>
                  <a:lnTo>
                    <a:pt x="9347" y="883"/>
                  </a:lnTo>
                  <a:lnTo>
                    <a:pt x="9347" y="877"/>
                  </a:lnTo>
                  <a:lnTo>
                    <a:pt x="9354" y="877"/>
                  </a:lnTo>
                  <a:lnTo>
                    <a:pt x="9354" y="872"/>
                  </a:lnTo>
                  <a:lnTo>
                    <a:pt x="9359" y="872"/>
                  </a:lnTo>
                  <a:lnTo>
                    <a:pt x="9359" y="865"/>
                  </a:lnTo>
                  <a:lnTo>
                    <a:pt x="9364" y="865"/>
                  </a:lnTo>
                  <a:lnTo>
                    <a:pt x="9364" y="860"/>
                  </a:lnTo>
                  <a:lnTo>
                    <a:pt x="9382" y="860"/>
                  </a:lnTo>
                  <a:lnTo>
                    <a:pt x="9382" y="855"/>
                  </a:lnTo>
                  <a:lnTo>
                    <a:pt x="9399" y="855"/>
                  </a:lnTo>
                  <a:lnTo>
                    <a:pt x="9399" y="848"/>
                  </a:lnTo>
                  <a:lnTo>
                    <a:pt x="9416" y="848"/>
                  </a:lnTo>
                  <a:lnTo>
                    <a:pt x="9416" y="843"/>
                  </a:lnTo>
                  <a:lnTo>
                    <a:pt x="9433" y="843"/>
                  </a:lnTo>
                  <a:lnTo>
                    <a:pt x="9433" y="837"/>
                  </a:lnTo>
                  <a:lnTo>
                    <a:pt x="9444" y="837"/>
                  </a:lnTo>
                  <a:lnTo>
                    <a:pt x="9444" y="832"/>
                  </a:lnTo>
                  <a:lnTo>
                    <a:pt x="9456" y="832"/>
                  </a:lnTo>
                  <a:lnTo>
                    <a:pt x="9456" y="826"/>
                  </a:lnTo>
                  <a:lnTo>
                    <a:pt x="9461" y="826"/>
                  </a:lnTo>
                  <a:lnTo>
                    <a:pt x="9461" y="820"/>
                  </a:lnTo>
                  <a:lnTo>
                    <a:pt x="9466" y="820"/>
                  </a:lnTo>
                  <a:lnTo>
                    <a:pt x="9466" y="815"/>
                  </a:lnTo>
                  <a:lnTo>
                    <a:pt x="9473" y="815"/>
                  </a:lnTo>
                  <a:lnTo>
                    <a:pt x="9473" y="808"/>
                  </a:lnTo>
                  <a:lnTo>
                    <a:pt x="9478" y="808"/>
                  </a:lnTo>
                  <a:lnTo>
                    <a:pt x="9478" y="803"/>
                  </a:lnTo>
                  <a:lnTo>
                    <a:pt x="9484" y="803"/>
                  </a:lnTo>
                  <a:lnTo>
                    <a:pt x="9484" y="798"/>
                  </a:lnTo>
                  <a:lnTo>
                    <a:pt x="9507" y="798"/>
                  </a:lnTo>
                  <a:lnTo>
                    <a:pt x="9507" y="791"/>
                  </a:lnTo>
                  <a:lnTo>
                    <a:pt x="9518" y="791"/>
                  </a:lnTo>
                  <a:lnTo>
                    <a:pt x="9518" y="786"/>
                  </a:lnTo>
                  <a:lnTo>
                    <a:pt x="9530" y="786"/>
                  </a:lnTo>
                  <a:lnTo>
                    <a:pt x="9530" y="781"/>
                  </a:lnTo>
                  <a:lnTo>
                    <a:pt x="9541" y="781"/>
                  </a:lnTo>
                  <a:lnTo>
                    <a:pt x="9541" y="775"/>
                  </a:lnTo>
                  <a:lnTo>
                    <a:pt x="9552" y="775"/>
                  </a:lnTo>
                  <a:lnTo>
                    <a:pt x="9552" y="769"/>
                  </a:lnTo>
                  <a:lnTo>
                    <a:pt x="9558" y="769"/>
                  </a:lnTo>
                  <a:lnTo>
                    <a:pt x="9558" y="763"/>
                  </a:lnTo>
                  <a:lnTo>
                    <a:pt x="9570" y="763"/>
                  </a:lnTo>
                  <a:lnTo>
                    <a:pt x="9570" y="758"/>
                  </a:lnTo>
                  <a:lnTo>
                    <a:pt x="9575" y="758"/>
                  </a:lnTo>
                  <a:lnTo>
                    <a:pt x="9575" y="752"/>
                  </a:lnTo>
                  <a:lnTo>
                    <a:pt x="9587" y="752"/>
                  </a:lnTo>
                  <a:lnTo>
                    <a:pt x="9587" y="746"/>
                  </a:lnTo>
                  <a:lnTo>
                    <a:pt x="9592" y="746"/>
                  </a:lnTo>
                  <a:lnTo>
                    <a:pt x="9592" y="741"/>
                  </a:lnTo>
                  <a:lnTo>
                    <a:pt x="9598" y="741"/>
                  </a:lnTo>
                  <a:lnTo>
                    <a:pt x="9598" y="734"/>
                  </a:lnTo>
                  <a:lnTo>
                    <a:pt x="9615" y="734"/>
                  </a:lnTo>
                  <a:lnTo>
                    <a:pt x="9615" y="729"/>
                  </a:lnTo>
                  <a:lnTo>
                    <a:pt x="9632" y="729"/>
                  </a:lnTo>
                  <a:lnTo>
                    <a:pt x="9632" y="724"/>
                  </a:lnTo>
                  <a:lnTo>
                    <a:pt x="9661" y="724"/>
                  </a:lnTo>
                  <a:lnTo>
                    <a:pt x="9661" y="718"/>
                  </a:lnTo>
                  <a:lnTo>
                    <a:pt x="9678" y="718"/>
                  </a:lnTo>
                  <a:lnTo>
                    <a:pt x="9678" y="712"/>
                  </a:lnTo>
                  <a:lnTo>
                    <a:pt x="9689" y="712"/>
                  </a:lnTo>
                  <a:lnTo>
                    <a:pt x="9689" y="706"/>
                  </a:lnTo>
                  <a:lnTo>
                    <a:pt x="9701" y="706"/>
                  </a:lnTo>
                  <a:lnTo>
                    <a:pt x="9701" y="701"/>
                  </a:lnTo>
                  <a:lnTo>
                    <a:pt x="9712" y="701"/>
                  </a:lnTo>
                  <a:lnTo>
                    <a:pt x="9712" y="695"/>
                  </a:lnTo>
                  <a:lnTo>
                    <a:pt x="9718" y="695"/>
                  </a:lnTo>
                  <a:lnTo>
                    <a:pt x="9718" y="689"/>
                  </a:lnTo>
                  <a:lnTo>
                    <a:pt x="9723" y="689"/>
                  </a:lnTo>
                  <a:lnTo>
                    <a:pt x="9723" y="684"/>
                  </a:lnTo>
                  <a:lnTo>
                    <a:pt x="9729" y="684"/>
                  </a:lnTo>
                  <a:lnTo>
                    <a:pt x="9729" y="677"/>
                  </a:lnTo>
                  <a:lnTo>
                    <a:pt x="9735" y="677"/>
                  </a:lnTo>
                  <a:lnTo>
                    <a:pt x="9735" y="672"/>
                  </a:lnTo>
                  <a:lnTo>
                    <a:pt x="9746" y="672"/>
                  </a:lnTo>
                  <a:lnTo>
                    <a:pt x="9746" y="667"/>
                  </a:lnTo>
                  <a:lnTo>
                    <a:pt x="9758" y="667"/>
                  </a:lnTo>
                  <a:lnTo>
                    <a:pt x="9758" y="661"/>
                  </a:lnTo>
                  <a:lnTo>
                    <a:pt x="9768" y="661"/>
                  </a:lnTo>
                  <a:lnTo>
                    <a:pt x="9768" y="655"/>
                  </a:lnTo>
                  <a:lnTo>
                    <a:pt x="9780" y="655"/>
                  </a:lnTo>
                  <a:lnTo>
                    <a:pt x="9780" y="649"/>
                  </a:lnTo>
                  <a:lnTo>
                    <a:pt x="9791" y="649"/>
                  </a:lnTo>
                  <a:lnTo>
                    <a:pt x="9791" y="644"/>
                  </a:lnTo>
                  <a:lnTo>
                    <a:pt x="9803" y="644"/>
                  </a:lnTo>
                  <a:lnTo>
                    <a:pt x="9803" y="638"/>
                  </a:lnTo>
                  <a:lnTo>
                    <a:pt x="9808" y="638"/>
                  </a:lnTo>
                  <a:lnTo>
                    <a:pt x="9808" y="632"/>
                  </a:lnTo>
                  <a:lnTo>
                    <a:pt x="9814" y="632"/>
                  </a:lnTo>
                  <a:lnTo>
                    <a:pt x="9814" y="627"/>
                  </a:lnTo>
                  <a:lnTo>
                    <a:pt x="9825" y="627"/>
                  </a:lnTo>
                  <a:lnTo>
                    <a:pt x="9825" y="620"/>
                  </a:lnTo>
                  <a:lnTo>
                    <a:pt x="9837" y="620"/>
                  </a:lnTo>
                  <a:lnTo>
                    <a:pt x="9837" y="615"/>
                  </a:lnTo>
                  <a:lnTo>
                    <a:pt x="9843" y="615"/>
                  </a:lnTo>
                  <a:lnTo>
                    <a:pt x="9843" y="610"/>
                  </a:lnTo>
                  <a:lnTo>
                    <a:pt x="9848" y="610"/>
                  </a:lnTo>
                  <a:lnTo>
                    <a:pt x="9848" y="604"/>
                  </a:lnTo>
                  <a:lnTo>
                    <a:pt x="9854" y="604"/>
                  </a:lnTo>
                  <a:lnTo>
                    <a:pt x="9854" y="598"/>
                  </a:lnTo>
                  <a:lnTo>
                    <a:pt x="9860" y="598"/>
                  </a:lnTo>
                  <a:lnTo>
                    <a:pt x="9860" y="592"/>
                  </a:lnTo>
                  <a:lnTo>
                    <a:pt x="9871" y="592"/>
                  </a:lnTo>
                  <a:lnTo>
                    <a:pt x="9871" y="587"/>
                  </a:lnTo>
                  <a:lnTo>
                    <a:pt x="9888" y="587"/>
                  </a:lnTo>
                  <a:lnTo>
                    <a:pt x="9888" y="581"/>
                  </a:lnTo>
                  <a:lnTo>
                    <a:pt x="9894" y="581"/>
                  </a:lnTo>
                  <a:lnTo>
                    <a:pt x="9894" y="575"/>
                  </a:lnTo>
                  <a:lnTo>
                    <a:pt x="9911" y="575"/>
                  </a:lnTo>
                  <a:lnTo>
                    <a:pt x="9911" y="570"/>
                  </a:lnTo>
                  <a:lnTo>
                    <a:pt x="9922" y="570"/>
                  </a:lnTo>
                  <a:lnTo>
                    <a:pt x="9922" y="563"/>
                  </a:lnTo>
                  <a:lnTo>
                    <a:pt x="9928" y="563"/>
                  </a:lnTo>
                  <a:lnTo>
                    <a:pt x="9928" y="553"/>
                  </a:lnTo>
                  <a:lnTo>
                    <a:pt x="9939" y="553"/>
                  </a:lnTo>
                  <a:lnTo>
                    <a:pt x="9939" y="547"/>
                  </a:lnTo>
                  <a:lnTo>
                    <a:pt x="9945" y="547"/>
                  </a:lnTo>
                  <a:lnTo>
                    <a:pt x="9945" y="541"/>
                  </a:lnTo>
                  <a:lnTo>
                    <a:pt x="9957" y="541"/>
                  </a:lnTo>
                  <a:lnTo>
                    <a:pt x="9957" y="536"/>
                  </a:lnTo>
                  <a:lnTo>
                    <a:pt x="9962" y="536"/>
                  </a:lnTo>
                  <a:lnTo>
                    <a:pt x="9962" y="530"/>
                  </a:lnTo>
                  <a:lnTo>
                    <a:pt x="9974" y="530"/>
                  </a:lnTo>
                  <a:lnTo>
                    <a:pt x="9974" y="524"/>
                  </a:lnTo>
                  <a:lnTo>
                    <a:pt x="9986" y="524"/>
                  </a:lnTo>
                  <a:lnTo>
                    <a:pt x="9986" y="518"/>
                  </a:lnTo>
                  <a:lnTo>
                    <a:pt x="10002" y="518"/>
                  </a:lnTo>
                  <a:lnTo>
                    <a:pt x="10002" y="513"/>
                  </a:lnTo>
                  <a:lnTo>
                    <a:pt x="10008" y="513"/>
                  </a:lnTo>
                  <a:lnTo>
                    <a:pt x="10008" y="507"/>
                  </a:lnTo>
                  <a:lnTo>
                    <a:pt x="10025" y="507"/>
                  </a:lnTo>
                  <a:lnTo>
                    <a:pt x="10025" y="501"/>
                  </a:lnTo>
                  <a:lnTo>
                    <a:pt x="10048" y="501"/>
                  </a:lnTo>
                  <a:lnTo>
                    <a:pt x="10048" y="496"/>
                  </a:lnTo>
                  <a:lnTo>
                    <a:pt x="10059" y="496"/>
                  </a:lnTo>
                  <a:lnTo>
                    <a:pt x="10059" y="489"/>
                  </a:lnTo>
                  <a:lnTo>
                    <a:pt x="10065" y="489"/>
                  </a:lnTo>
                  <a:lnTo>
                    <a:pt x="10065" y="484"/>
                  </a:lnTo>
                  <a:lnTo>
                    <a:pt x="10071" y="484"/>
                  </a:lnTo>
                  <a:lnTo>
                    <a:pt x="10071" y="473"/>
                  </a:lnTo>
                  <a:lnTo>
                    <a:pt x="10076" y="473"/>
                  </a:lnTo>
                  <a:lnTo>
                    <a:pt x="10076" y="467"/>
                  </a:lnTo>
                  <a:lnTo>
                    <a:pt x="10082" y="467"/>
                  </a:lnTo>
                  <a:lnTo>
                    <a:pt x="10082" y="461"/>
                  </a:lnTo>
                  <a:lnTo>
                    <a:pt x="10088" y="461"/>
                  </a:lnTo>
                  <a:lnTo>
                    <a:pt x="10088" y="456"/>
                  </a:lnTo>
                  <a:lnTo>
                    <a:pt x="10100" y="456"/>
                  </a:lnTo>
                  <a:lnTo>
                    <a:pt x="10100" y="451"/>
                  </a:lnTo>
                  <a:lnTo>
                    <a:pt x="10105" y="451"/>
                  </a:lnTo>
                  <a:lnTo>
                    <a:pt x="10105" y="444"/>
                  </a:lnTo>
                  <a:lnTo>
                    <a:pt x="10110" y="444"/>
                  </a:lnTo>
                  <a:lnTo>
                    <a:pt x="10110" y="433"/>
                  </a:lnTo>
                  <a:lnTo>
                    <a:pt x="10116" y="433"/>
                  </a:lnTo>
                  <a:lnTo>
                    <a:pt x="10116" y="428"/>
                  </a:lnTo>
                  <a:lnTo>
                    <a:pt x="10133" y="428"/>
                  </a:lnTo>
                  <a:lnTo>
                    <a:pt x="10133" y="416"/>
                  </a:lnTo>
                  <a:lnTo>
                    <a:pt x="10145" y="416"/>
                  </a:lnTo>
                  <a:lnTo>
                    <a:pt x="10145" y="411"/>
                  </a:lnTo>
                  <a:lnTo>
                    <a:pt x="10162" y="411"/>
                  </a:lnTo>
                  <a:lnTo>
                    <a:pt x="10162" y="404"/>
                  </a:lnTo>
                  <a:lnTo>
                    <a:pt x="10167" y="404"/>
                  </a:lnTo>
                  <a:lnTo>
                    <a:pt x="10167" y="399"/>
                  </a:lnTo>
                  <a:lnTo>
                    <a:pt x="10178" y="399"/>
                  </a:lnTo>
                  <a:lnTo>
                    <a:pt x="10178" y="394"/>
                  </a:lnTo>
                  <a:lnTo>
                    <a:pt x="10184" y="394"/>
                  </a:lnTo>
                  <a:lnTo>
                    <a:pt x="10184" y="387"/>
                  </a:lnTo>
                  <a:lnTo>
                    <a:pt x="10195" y="387"/>
                  </a:lnTo>
                  <a:lnTo>
                    <a:pt x="10195" y="382"/>
                  </a:lnTo>
                  <a:lnTo>
                    <a:pt x="10207" y="382"/>
                  </a:lnTo>
                  <a:lnTo>
                    <a:pt x="10207" y="377"/>
                  </a:lnTo>
                  <a:lnTo>
                    <a:pt x="10218" y="377"/>
                  </a:lnTo>
                  <a:lnTo>
                    <a:pt x="10218" y="371"/>
                  </a:lnTo>
                  <a:lnTo>
                    <a:pt x="10230" y="371"/>
                  </a:lnTo>
                  <a:lnTo>
                    <a:pt x="10230" y="365"/>
                  </a:lnTo>
                  <a:lnTo>
                    <a:pt x="10241" y="365"/>
                  </a:lnTo>
                  <a:lnTo>
                    <a:pt x="10241" y="359"/>
                  </a:lnTo>
                  <a:lnTo>
                    <a:pt x="10252" y="359"/>
                  </a:lnTo>
                  <a:lnTo>
                    <a:pt x="10252" y="354"/>
                  </a:lnTo>
                  <a:lnTo>
                    <a:pt x="10264" y="354"/>
                  </a:lnTo>
                  <a:lnTo>
                    <a:pt x="10264" y="348"/>
                  </a:lnTo>
                  <a:lnTo>
                    <a:pt x="10269" y="348"/>
                  </a:lnTo>
                  <a:lnTo>
                    <a:pt x="10269" y="342"/>
                  </a:lnTo>
                  <a:lnTo>
                    <a:pt x="10276" y="342"/>
                  </a:lnTo>
                  <a:lnTo>
                    <a:pt x="10276" y="330"/>
                  </a:lnTo>
                  <a:lnTo>
                    <a:pt x="10287" y="330"/>
                  </a:lnTo>
                  <a:lnTo>
                    <a:pt x="10287" y="325"/>
                  </a:lnTo>
                  <a:lnTo>
                    <a:pt x="10292" y="325"/>
                  </a:lnTo>
                  <a:lnTo>
                    <a:pt x="10292" y="320"/>
                  </a:lnTo>
                  <a:lnTo>
                    <a:pt x="10304" y="320"/>
                  </a:lnTo>
                  <a:lnTo>
                    <a:pt x="10304" y="314"/>
                  </a:lnTo>
                  <a:lnTo>
                    <a:pt x="10316" y="314"/>
                  </a:lnTo>
                  <a:lnTo>
                    <a:pt x="10316" y="308"/>
                  </a:lnTo>
                  <a:lnTo>
                    <a:pt x="10326" y="308"/>
                  </a:lnTo>
                  <a:lnTo>
                    <a:pt x="10326" y="302"/>
                  </a:lnTo>
                  <a:lnTo>
                    <a:pt x="10338" y="302"/>
                  </a:lnTo>
                  <a:lnTo>
                    <a:pt x="10338" y="297"/>
                  </a:lnTo>
                  <a:lnTo>
                    <a:pt x="10349" y="297"/>
                  </a:lnTo>
                  <a:lnTo>
                    <a:pt x="10349" y="291"/>
                  </a:lnTo>
                  <a:lnTo>
                    <a:pt x="10355" y="291"/>
                  </a:lnTo>
                  <a:lnTo>
                    <a:pt x="10355" y="285"/>
                  </a:lnTo>
                  <a:lnTo>
                    <a:pt x="10361" y="285"/>
                  </a:lnTo>
                  <a:lnTo>
                    <a:pt x="10361" y="280"/>
                  </a:lnTo>
                  <a:lnTo>
                    <a:pt x="10366" y="280"/>
                  </a:lnTo>
                  <a:lnTo>
                    <a:pt x="10366" y="273"/>
                  </a:lnTo>
                  <a:lnTo>
                    <a:pt x="10373" y="273"/>
                  </a:lnTo>
                  <a:lnTo>
                    <a:pt x="10373" y="268"/>
                  </a:lnTo>
                  <a:lnTo>
                    <a:pt x="10378" y="268"/>
                  </a:lnTo>
                  <a:lnTo>
                    <a:pt x="10378" y="263"/>
                  </a:lnTo>
                  <a:lnTo>
                    <a:pt x="10390" y="263"/>
                  </a:lnTo>
                  <a:lnTo>
                    <a:pt x="10390" y="257"/>
                  </a:lnTo>
                  <a:lnTo>
                    <a:pt x="10395" y="257"/>
                  </a:lnTo>
                  <a:lnTo>
                    <a:pt x="10395" y="251"/>
                  </a:lnTo>
                  <a:lnTo>
                    <a:pt x="10400" y="251"/>
                  </a:lnTo>
                  <a:lnTo>
                    <a:pt x="10400" y="245"/>
                  </a:lnTo>
                  <a:lnTo>
                    <a:pt x="10418" y="245"/>
                  </a:lnTo>
                  <a:lnTo>
                    <a:pt x="10418" y="240"/>
                  </a:lnTo>
                  <a:lnTo>
                    <a:pt x="10435" y="240"/>
                  </a:lnTo>
                  <a:lnTo>
                    <a:pt x="10435" y="251"/>
                  </a:lnTo>
                  <a:lnTo>
                    <a:pt x="10430" y="251"/>
                  </a:lnTo>
                  <a:lnTo>
                    <a:pt x="10430" y="263"/>
                  </a:lnTo>
                  <a:lnTo>
                    <a:pt x="10423" y="263"/>
                  </a:lnTo>
                  <a:lnTo>
                    <a:pt x="10423" y="273"/>
                  </a:lnTo>
                  <a:lnTo>
                    <a:pt x="10418" y="273"/>
                  </a:lnTo>
                  <a:lnTo>
                    <a:pt x="10418" y="280"/>
                  </a:lnTo>
                  <a:lnTo>
                    <a:pt x="10412" y="280"/>
                  </a:lnTo>
                  <a:lnTo>
                    <a:pt x="10412" y="285"/>
                  </a:lnTo>
                  <a:lnTo>
                    <a:pt x="10395" y="285"/>
                  </a:lnTo>
                  <a:lnTo>
                    <a:pt x="10395" y="291"/>
                  </a:lnTo>
                  <a:lnTo>
                    <a:pt x="10383" y="291"/>
                  </a:lnTo>
                  <a:lnTo>
                    <a:pt x="10383" y="297"/>
                  </a:lnTo>
                  <a:lnTo>
                    <a:pt x="10378" y="297"/>
                  </a:lnTo>
                  <a:lnTo>
                    <a:pt x="10378" y="302"/>
                  </a:lnTo>
                  <a:lnTo>
                    <a:pt x="10361" y="302"/>
                  </a:lnTo>
                  <a:lnTo>
                    <a:pt x="10361" y="308"/>
                  </a:lnTo>
                  <a:lnTo>
                    <a:pt x="10355" y="308"/>
                  </a:lnTo>
                  <a:lnTo>
                    <a:pt x="10355" y="314"/>
                  </a:lnTo>
                  <a:lnTo>
                    <a:pt x="10344" y="314"/>
                  </a:lnTo>
                  <a:lnTo>
                    <a:pt x="10344" y="320"/>
                  </a:lnTo>
                  <a:lnTo>
                    <a:pt x="10338" y="320"/>
                  </a:lnTo>
                  <a:lnTo>
                    <a:pt x="10338" y="325"/>
                  </a:lnTo>
                  <a:lnTo>
                    <a:pt x="10333" y="325"/>
                  </a:lnTo>
                  <a:lnTo>
                    <a:pt x="10333" y="330"/>
                  </a:lnTo>
                  <a:lnTo>
                    <a:pt x="10321" y="330"/>
                  </a:lnTo>
                  <a:lnTo>
                    <a:pt x="10321" y="337"/>
                  </a:lnTo>
                  <a:lnTo>
                    <a:pt x="10316" y="337"/>
                  </a:lnTo>
                  <a:lnTo>
                    <a:pt x="10316" y="342"/>
                  </a:lnTo>
                  <a:lnTo>
                    <a:pt x="10309" y="342"/>
                  </a:lnTo>
                  <a:lnTo>
                    <a:pt x="10309" y="348"/>
                  </a:lnTo>
                  <a:lnTo>
                    <a:pt x="10298" y="348"/>
                  </a:lnTo>
                  <a:lnTo>
                    <a:pt x="10298" y="354"/>
                  </a:lnTo>
                  <a:lnTo>
                    <a:pt x="10292" y="354"/>
                  </a:lnTo>
                  <a:lnTo>
                    <a:pt x="10292" y="359"/>
                  </a:lnTo>
                  <a:lnTo>
                    <a:pt x="10281" y="359"/>
                  </a:lnTo>
                  <a:lnTo>
                    <a:pt x="10281" y="365"/>
                  </a:lnTo>
                  <a:lnTo>
                    <a:pt x="10269" y="365"/>
                  </a:lnTo>
                  <a:lnTo>
                    <a:pt x="10269" y="371"/>
                  </a:lnTo>
                  <a:lnTo>
                    <a:pt x="10264" y="371"/>
                  </a:lnTo>
                  <a:lnTo>
                    <a:pt x="10264" y="377"/>
                  </a:lnTo>
                  <a:lnTo>
                    <a:pt x="10252" y="377"/>
                  </a:lnTo>
                  <a:lnTo>
                    <a:pt x="10252" y="382"/>
                  </a:lnTo>
                  <a:lnTo>
                    <a:pt x="10247" y="382"/>
                  </a:lnTo>
                  <a:lnTo>
                    <a:pt x="10247" y="387"/>
                  </a:lnTo>
                  <a:lnTo>
                    <a:pt x="10241" y="387"/>
                  </a:lnTo>
                  <a:lnTo>
                    <a:pt x="10241" y="394"/>
                  </a:lnTo>
                  <a:lnTo>
                    <a:pt x="10235" y="394"/>
                  </a:lnTo>
                  <a:lnTo>
                    <a:pt x="10235" y="399"/>
                  </a:lnTo>
                  <a:lnTo>
                    <a:pt x="10230" y="399"/>
                  </a:lnTo>
                  <a:lnTo>
                    <a:pt x="10230" y="404"/>
                  </a:lnTo>
                  <a:lnTo>
                    <a:pt x="10224" y="404"/>
                  </a:lnTo>
                  <a:lnTo>
                    <a:pt x="10224" y="411"/>
                  </a:lnTo>
                  <a:lnTo>
                    <a:pt x="10218" y="411"/>
                  </a:lnTo>
                  <a:lnTo>
                    <a:pt x="10218" y="416"/>
                  </a:lnTo>
                  <a:lnTo>
                    <a:pt x="10212" y="416"/>
                  </a:lnTo>
                  <a:lnTo>
                    <a:pt x="10212" y="422"/>
                  </a:lnTo>
                  <a:lnTo>
                    <a:pt x="10207" y="422"/>
                  </a:lnTo>
                  <a:lnTo>
                    <a:pt x="10207" y="428"/>
                  </a:lnTo>
                  <a:lnTo>
                    <a:pt x="10195" y="428"/>
                  </a:lnTo>
                  <a:lnTo>
                    <a:pt x="10195" y="433"/>
                  </a:lnTo>
                  <a:lnTo>
                    <a:pt x="10190" y="433"/>
                  </a:lnTo>
                  <a:lnTo>
                    <a:pt x="10190" y="439"/>
                  </a:lnTo>
                  <a:lnTo>
                    <a:pt x="10178" y="439"/>
                  </a:lnTo>
                  <a:lnTo>
                    <a:pt x="10178" y="444"/>
                  </a:lnTo>
                  <a:lnTo>
                    <a:pt x="10167" y="444"/>
                  </a:lnTo>
                  <a:lnTo>
                    <a:pt x="10167" y="451"/>
                  </a:lnTo>
                  <a:lnTo>
                    <a:pt x="10162" y="451"/>
                  </a:lnTo>
                  <a:lnTo>
                    <a:pt x="10162" y="456"/>
                  </a:lnTo>
                  <a:lnTo>
                    <a:pt x="10157" y="456"/>
                  </a:lnTo>
                  <a:lnTo>
                    <a:pt x="10157" y="461"/>
                  </a:lnTo>
                  <a:lnTo>
                    <a:pt x="10150" y="461"/>
                  </a:lnTo>
                  <a:lnTo>
                    <a:pt x="10150" y="467"/>
                  </a:lnTo>
                  <a:lnTo>
                    <a:pt x="10139" y="467"/>
                  </a:lnTo>
                  <a:lnTo>
                    <a:pt x="10139" y="473"/>
                  </a:lnTo>
                  <a:lnTo>
                    <a:pt x="10127" y="473"/>
                  </a:lnTo>
                  <a:lnTo>
                    <a:pt x="10127" y="479"/>
                  </a:lnTo>
                  <a:lnTo>
                    <a:pt x="10116" y="479"/>
                  </a:lnTo>
                  <a:lnTo>
                    <a:pt x="10116" y="484"/>
                  </a:lnTo>
                  <a:lnTo>
                    <a:pt x="10110" y="484"/>
                  </a:lnTo>
                  <a:lnTo>
                    <a:pt x="10110" y="489"/>
                  </a:lnTo>
                  <a:lnTo>
                    <a:pt x="10105" y="489"/>
                  </a:lnTo>
                  <a:lnTo>
                    <a:pt x="10105" y="496"/>
                  </a:lnTo>
                  <a:lnTo>
                    <a:pt x="10093" y="496"/>
                  </a:lnTo>
                  <a:lnTo>
                    <a:pt x="10093" y="501"/>
                  </a:lnTo>
                  <a:lnTo>
                    <a:pt x="10082" y="501"/>
                  </a:lnTo>
                  <a:lnTo>
                    <a:pt x="10082" y="507"/>
                  </a:lnTo>
                  <a:lnTo>
                    <a:pt x="10071" y="507"/>
                  </a:lnTo>
                  <a:lnTo>
                    <a:pt x="10071" y="513"/>
                  </a:lnTo>
                  <a:lnTo>
                    <a:pt x="10048" y="513"/>
                  </a:lnTo>
                  <a:lnTo>
                    <a:pt x="10048" y="518"/>
                  </a:lnTo>
                  <a:lnTo>
                    <a:pt x="10025" y="518"/>
                  </a:lnTo>
                  <a:lnTo>
                    <a:pt x="10025" y="524"/>
                  </a:lnTo>
                  <a:lnTo>
                    <a:pt x="10019" y="524"/>
                  </a:lnTo>
                  <a:lnTo>
                    <a:pt x="10019" y="530"/>
                  </a:lnTo>
                  <a:lnTo>
                    <a:pt x="10008" y="530"/>
                  </a:lnTo>
                  <a:lnTo>
                    <a:pt x="10008" y="536"/>
                  </a:lnTo>
                  <a:lnTo>
                    <a:pt x="10002" y="536"/>
                  </a:lnTo>
                  <a:lnTo>
                    <a:pt x="10002" y="541"/>
                  </a:lnTo>
                  <a:lnTo>
                    <a:pt x="9996" y="541"/>
                  </a:lnTo>
                  <a:lnTo>
                    <a:pt x="9996" y="547"/>
                  </a:lnTo>
                  <a:lnTo>
                    <a:pt x="9991" y="547"/>
                  </a:lnTo>
                  <a:lnTo>
                    <a:pt x="9991" y="553"/>
                  </a:lnTo>
                  <a:lnTo>
                    <a:pt x="9986" y="553"/>
                  </a:lnTo>
                  <a:lnTo>
                    <a:pt x="9986" y="558"/>
                  </a:lnTo>
                  <a:lnTo>
                    <a:pt x="9974" y="558"/>
                  </a:lnTo>
                  <a:lnTo>
                    <a:pt x="9974" y="563"/>
                  </a:lnTo>
                  <a:lnTo>
                    <a:pt x="9962" y="563"/>
                  </a:lnTo>
                  <a:lnTo>
                    <a:pt x="9962" y="570"/>
                  </a:lnTo>
                  <a:lnTo>
                    <a:pt x="9951" y="570"/>
                  </a:lnTo>
                  <a:lnTo>
                    <a:pt x="9951" y="575"/>
                  </a:lnTo>
                  <a:lnTo>
                    <a:pt x="9939" y="575"/>
                  </a:lnTo>
                  <a:lnTo>
                    <a:pt x="9939" y="581"/>
                  </a:lnTo>
                  <a:lnTo>
                    <a:pt x="9928" y="581"/>
                  </a:lnTo>
                  <a:lnTo>
                    <a:pt x="9928" y="587"/>
                  </a:lnTo>
                  <a:lnTo>
                    <a:pt x="9917" y="587"/>
                  </a:lnTo>
                  <a:lnTo>
                    <a:pt x="9917" y="592"/>
                  </a:lnTo>
                  <a:lnTo>
                    <a:pt x="9911" y="592"/>
                  </a:lnTo>
                  <a:lnTo>
                    <a:pt x="9911" y="598"/>
                  </a:lnTo>
                  <a:lnTo>
                    <a:pt x="9900" y="598"/>
                  </a:lnTo>
                  <a:lnTo>
                    <a:pt x="9900" y="604"/>
                  </a:lnTo>
                  <a:lnTo>
                    <a:pt x="9894" y="604"/>
                  </a:lnTo>
                  <a:lnTo>
                    <a:pt x="9894" y="610"/>
                  </a:lnTo>
                  <a:lnTo>
                    <a:pt x="9888" y="610"/>
                  </a:lnTo>
                  <a:lnTo>
                    <a:pt x="9888" y="615"/>
                  </a:lnTo>
                  <a:lnTo>
                    <a:pt x="9882" y="615"/>
                  </a:lnTo>
                  <a:lnTo>
                    <a:pt x="9882" y="620"/>
                  </a:lnTo>
                  <a:lnTo>
                    <a:pt x="9877" y="620"/>
                  </a:lnTo>
                  <a:lnTo>
                    <a:pt x="9877" y="627"/>
                  </a:lnTo>
                  <a:lnTo>
                    <a:pt x="9871" y="627"/>
                  </a:lnTo>
                  <a:lnTo>
                    <a:pt x="9871" y="632"/>
                  </a:lnTo>
                  <a:lnTo>
                    <a:pt x="9860" y="632"/>
                  </a:lnTo>
                  <a:lnTo>
                    <a:pt x="9860" y="638"/>
                  </a:lnTo>
                  <a:lnTo>
                    <a:pt x="9848" y="638"/>
                  </a:lnTo>
                  <a:lnTo>
                    <a:pt x="9848" y="644"/>
                  </a:lnTo>
                  <a:lnTo>
                    <a:pt x="9831" y="644"/>
                  </a:lnTo>
                  <a:lnTo>
                    <a:pt x="9831" y="649"/>
                  </a:lnTo>
                  <a:lnTo>
                    <a:pt x="9820" y="649"/>
                  </a:lnTo>
                  <a:lnTo>
                    <a:pt x="9820" y="655"/>
                  </a:lnTo>
                  <a:lnTo>
                    <a:pt x="9808" y="655"/>
                  </a:lnTo>
                  <a:lnTo>
                    <a:pt x="9808" y="661"/>
                  </a:lnTo>
                  <a:lnTo>
                    <a:pt x="9798" y="661"/>
                  </a:lnTo>
                  <a:lnTo>
                    <a:pt x="9798" y="667"/>
                  </a:lnTo>
                  <a:lnTo>
                    <a:pt x="9791" y="667"/>
                  </a:lnTo>
                  <a:lnTo>
                    <a:pt x="9791" y="672"/>
                  </a:lnTo>
                  <a:lnTo>
                    <a:pt x="9786" y="672"/>
                  </a:lnTo>
                  <a:lnTo>
                    <a:pt x="9786" y="677"/>
                  </a:lnTo>
                  <a:lnTo>
                    <a:pt x="9780" y="677"/>
                  </a:lnTo>
                  <a:lnTo>
                    <a:pt x="9780" y="684"/>
                  </a:lnTo>
                  <a:lnTo>
                    <a:pt x="9774" y="684"/>
                  </a:lnTo>
                  <a:lnTo>
                    <a:pt x="9774" y="689"/>
                  </a:lnTo>
                  <a:lnTo>
                    <a:pt x="9763" y="689"/>
                  </a:lnTo>
                  <a:lnTo>
                    <a:pt x="9763" y="695"/>
                  </a:lnTo>
                  <a:lnTo>
                    <a:pt x="9758" y="695"/>
                  </a:lnTo>
                  <a:lnTo>
                    <a:pt x="9758" y="701"/>
                  </a:lnTo>
                  <a:lnTo>
                    <a:pt x="9746" y="701"/>
                  </a:lnTo>
                  <a:lnTo>
                    <a:pt x="9746" y="706"/>
                  </a:lnTo>
                  <a:lnTo>
                    <a:pt x="9735" y="706"/>
                  </a:lnTo>
                  <a:lnTo>
                    <a:pt x="9735" y="712"/>
                  </a:lnTo>
                  <a:lnTo>
                    <a:pt x="9718" y="712"/>
                  </a:lnTo>
                  <a:lnTo>
                    <a:pt x="9718" y="718"/>
                  </a:lnTo>
                  <a:lnTo>
                    <a:pt x="9706" y="718"/>
                  </a:lnTo>
                  <a:lnTo>
                    <a:pt x="9706" y="724"/>
                  </a:lnTo>
                  <a:lnTo>
                    <a:pt x="9695" y="724"/>
                  </a:lnTo>
                  <a:lnTo>
                    <a:pt x="9695" y="729"/>
                  </a:lnTo>
                  <a:lnTo>
                    <a:pt x="9684" y="729"/>
                  </a:lnTo>
                  <a:lnTo>
                    <a:pt x="9684" y="734"/>
                  </a:lnTo>
                  <a:lnTo>
                    <a:pt x="9678" y="734"/>
                  </a:lnTo>
                  <a:lnTo>
                    <a:pt x="9678" y="741"/>
                  </a:lnTo>
                  <a:lnTo>
                    <a:pt x="9672" y="741"/>
                  </a:lnTo>
                  <a:lnTo>
                    <a:pt x="9672" y="746"/>
                  </a:lnTo>
                  <a:lnTo>
                    <a:pt x="9666" y="746"/>
                  </a:lnTo>
                  <a:lnTo>
                    <a:pt x="9666" y="752"/>
                  </a:lnTo>
                  <a:lnTo>
                    <a:pt x="9655" y="752"/>
                  </a:lnTo>
                  <a:lnTo>
                    <a:pt x="9655" y="758"/>
                  </a:lnTo>
                  <a:lnTo>
                    <a:pt x="9644" y="758"/>
                  </a:lnTo>
                  <a:lnTo>
                    <a:pt x="9644" y="763"/>
                  </a:lnTo>
                  <a:lnTo>
                    <a:pt x="9632" y="763"/>
                  </a:lnTo>
                  <a:lnTo>
                    <a:pt x="9632" y="769"/>
                  </a:lnTo>
                  <a:lnTo>
                    <a:pt x="9615" y="769"/>
                  </a:lnTo>
                  <a:lnTo>
                    <a:pt x="9615" y="775"/>
                  </a:lnTo>
                  <a:lnTo>
                    <a:pt x="9598" y="775"/>
                  </a:lnTo>
                  <a:lnTo>
                    <a:pt x="9598" y="781"/>
                  </a:lnTo>
                  <a:lnTo>
                    <a:pt x="9587" y="781"/>
                  </a:lnTo>
                  <a:lnTo>
                    <a:pt x="9587" y="786"/>
                  </a:lnTo>
                  <a:lnTo>
                    <a:pt x="9575" y="786"/>
                  </a:lnTo>
                  <a:lnTo>
                    <a:pt x="9575" y="791"/>
                  </a:lnTo>
                  <a:lnTo>
                    <a:pt x="9570" y="791"/>
                  </a:lnTo>
                  <a:lnTo>
                    <a:pt x="9570" y="798"/>
                  </a:lnTo>
                  <a:lnTo>
                    <a:pt x="9558" y="798"/>
                  </a:lnTo>
                  <a:lnTo>
                    <a:pt x="9558" y="803"/>
                  </a:lnTo>
                  <a:lnTo>
                    <a:pt x="9552" y="803"/>
                  </a:lnTo>
                  <a:lnTo>
                    <a:pt x="9552" y="808"/>
                  </a:lnTo>
                  <a:lnTo>
                    <a:pt x="9541" y="808"/>
                  </a:lnTo>
                  <a:lnTo>
                    <a:pt x="9541" y="815"/>
                  </a:lnTo>
                  <a:lnTo>
                    <a:pt x="9530" y="815"/>
                  </a:lnTo>
                  <a:lnTo>
                    <a:pt x="9530" y="820"/>
                  </a:lnTo>
                  <a:lnTo>
                    <a:pt x="9523" y="820"/>
                  </a:lnTo>
                  <a:lnTo>
                    <a:pt x="9523" y="826"/>
                  </a:lnTo>
                  <a:lnTo>
                    <a:pt x="9507" y="826"/>
                  </a:lnTo>
                  <a:lnTo>
                    <a:pt x="9507" y="832"/>
                  </a:lnTo>
                  <a:lnTo>
                    <a:pt x="9490" y="832"/>
                  </a:lnTo>
                  <a:lnTo>
                    <a:pt x="9490" y="837"/>
                  </a:lnTo>
                  <a:lnTo>
                    <a:pt x="9473" y="837"/>
                  </a:lnTo>
                  <a:lnTo>
                    <a:pt x="9473" y="843"/>
                  </a:lnTo>
                  <a:lnTo>
                    <a:pt x="9461" y="843"/>
                  </a:lnTo>
                  <a:lnTo>
                    <a:pt x="9461" y="848"/>
                  </a:lnTo>
                  <a:lnTo>
                    <a:pt x="9450" y="848"/>
                  </a:lnTo>
                  <a:lnTo>
                    <a:pt x="9450" y="855"/>
                  </a:lnTo>
                  <a:lnTo>
                    <a:pt x="9439" y="855"/>
                  </a:lnTo>
                  <a:lnTo>
                    <a:pt x="9439" y="860"/>
                  </a:lnTo>
                  <a:lnTo>
                    <a:pt x="9421" y="860"/>
                  </a:lnTo>
                  <a:lnTo>
                    <a:pt x="9421" y="865"/>
                  </a:lnTo>
                  <a:lnTo>
                    <a:pt x="9416" y="865"/>
                  </a:lnTo>
                  <a:lnTo>
                    <a:pt x="9416" y="872"/>
                  </a:lnTo>
                  <a:lnTo>
                    <a:pt x="9404" y="872"/>
                  </a:lnTo>
                  <a:lnTo>
                    <a:pt x="9404" y="877"/>
                  </a:lnTo>
                  <a:lnTo>
                    <a:pt x="9399" y="877"/>
                  </a:lnTo>
                  <a:lnTo>
                    <a:pt x="9399" y="883"/>
                  </a:lnTo>
                  <a:lnTo>
                    <a:pt x="9393" y="883"/>
                  </a:lnTo>
                  <a:lnTo>
                    <a:pt x="9393" y="888"/>
                  </a:lnTo>
                  <a:lnTo>
                    <a:pt x="9376" y="888"/>
                  </a:lnTo>
                  <a:lnTo>
                    <a:pt x="9376" y="894"/>
                  </a:lnTo>
                  <a:lnTo>
                    <a:pt x="9359" y="894"/>
                  </a:lnTo>
                  <a:lnTo>
                    <a:pt x="9359" y="900"/>
                  </a:lnTo>
                  <a:lnTo>
                    <a:pt x="9342" y="900"/>
                  </a:lnTo>
                  <a:lnTo>
                    <a:pt x="9342" y="905"/>
                  </a:lnTo>
                  <a:lnTo>
                    <a:pt x="9331" y="905"/>
                  </a:lnTo>
                  <a:lnTo>
                    <a:pt x="9331" y="911"/>
                  </a:lnTo>
                  <a:lnTo>
                    <a:pt x="9314" y="911"/>
                  </a:lnTo>
                  <a:lnTo>
                    <a:pt x="9314" y="917"/>
                  </a:lnTo>
                  <a:lnTo>
                    <a:pt x="9307" y="917"/>
                  </a:lnTo>
                  <a:lnTo>
                    <a:pt x="9307" y="922"/>
                  </a:lnTo>
                  <a:lnTo>
                    <a:pt x="9297" y="922"/>
                  </a:lnTo>
                  <a:lnTo>
                    <a:pt x="9297" y="928"/>
                  </a:lnTo>
                  <a:lnTo>
                    <a:pt x="9290" y="928"/>
                  </a:lnTo>
                  <a:lnTo>
                    <a:pt x="9290" y="934"/>
                  </a:lnTo>
                  <a:lnTo>
                    <a:pt x="9285" y="934"/>
                  </a:lnTo>
                  <a:lnTo>
                    <a:pt x="9285" y="940"/>
                  </a:lnTo>
                  <a:lnTo>
                    <a:pt x="9279" y="940"/>
                  </a:lnTo>
                  <a:lnTo>
                    <a:pt x="9279" y="945"/>
                  </a:lnTo>
                  <a:lnTo>
                    <a:pt x="9268" y="945"/>
                  </a:lnTo>
                  <a:lnTo>
                    <a:pt x="9268" y="951"/>
                  </a:lnTo>
                  <a:lnTo>
                    <a:pt x="9250" y="951"/>
                  </a:lnTo>
                  <a:lnTo>
                    <a:pt x="9250" y="957"/>
                  </a:lnTo>
                  <a:lnTo>
                    <a:pt x="9228" y="957"/>
                  </a:lnTo>
                  <a:lnTo>
                    <a:pt x="9228" y="962"/>
                  </a:lnTo>
                  <a:lnTo>
                    <a:pt x="9205" y="962"/>
                  </a:lnTo>
                  <a:lnTo>
                    <a:pt x="9205" y="967"/>
                  </a:lnTo>
                  <a:lnTo>
                    <a:pt x="9193" y="967"/>
                  </a:lnTo>
                  <a:lnTo>
                    <a:pt x="9193" y="974"/>
                  </a:lnTo>
                  <a:lnTo>
                    <a:pt x="9176" y="974"/>
                  </a:lnTo>
                  <a:lnTo>
                    <a:pt x="9176" y="979"/>
                  </a:lnTo>
                  <a:lnTo>
                    <a:pt x="9166" y="979"/>
                  </a:lnTo>
                  <a:lnTo>
                    <a:pt x="9166" y="985"/>
                  </a:lnTo>
                  <a:lnTo>
                    <a:pt x="9154" y="985"/>
                  </a:lnTo>
                  <a:lnTo>
                    <a:pt x="9154" y="991"/>
                  </a:lnTo>
                  <a:lnTo>
                    <a:pt x="9137" y="991"/>
                  </a:lnTo>
                  <a:lnTo>
                    <a:pt x="9137" y="997"/>
                  </a:lnTo>
                  <a:lnTo>
                    <a:pt x="9126" y="997"/>
                  </a:lnTo>
                  <a:lnTo>
                    <a:pt x="9126" y="1002"/>
                  </a:lnTo>
                  <a:lnTo>
                    <a:pt x="9114" y="1002"/>
                  </a:lnTo>
                  <a:lnTo>
                    <a:pt x="9114" y="1008"/>
                  </a:lnTo>
                  <a:lnTo>
                    <a:pt x="9109" y="1008"/>
                  </a:lnTo>
                  <a:lnTo>
                    <a:pt x="9109" y="1014"/>
                  </a:lnTo>
                  <a:lnTo>
                    <a:pt x="9086" y="1014"/>
                  </a:lnTo>
                  <a:lnTo>
                    <a:pt x="9086" y="1019"/>
                  </a:lnTo>
                  <a:lnTo>
                    <a:pt x="9080" y="1019"/>
                  </a:lnTo>
                  <a:lnTo>
                    <a:pt x="9080" y="1024"/>
                  </a:lnTo>
                  <a:lnTo>
                    <a:pt x="9057" y="1024"/>
                  </a:lnTo>
                  <a:lnTo>
                    <a:pt x="9057" y="1031"/>
                  </a:lnTo>
                  <a:lnTo>
                    <a:pt x="9046" y="1031"/>
                  </a:lnTo>
                  <a:lnTo>
                    <a:pt x="9046" y="1036"/>
                  </a:lnTo>
                  <a:lnTo>
                    <a:pt x="9029" y="1036"/>
                  </a:lnTo>
                  <a:lnTo>
                    <a:pt x="9029" y="1042"/>
                  </a:lnTo>
                  <a:lnTo>
                    <a:pt x="9012" y="1042"/>
                  </a:lnTo>
                  <a:lnTo>
                    <a:pt x="9012" y="1048"/>
                  </a:lnTo>
                  <a:lnTo>
                    <a:pt x="9000" y="1048"/>
                  </a:lnTo>
                  <a:lnTo>
                    <a:pt x="9000" y="1053"/>
                  </a:lnTo>
                  <a:lnTo>
                    <a:pt x="8988" y="1053"/>
                  </a:lnTo>
                  <a:lnTo>
                    <a:pt x="8988" y="1059"/>
                  </a:lnTo>
                  <a:lnTo>
                    <a:pt x="8966" y="1059"/>
                  </a:lnTo>
                  <a:lnTo>
                    <a:pt x="8966" y="1065"/>
                  </a:lnTo>
                  <a:lnTo>
                    <a:pt x="8955" y="1065"/>
                  </a:lnTo>
                  <a:lnTo>
                    <a:pt x="8955" y="1071"/>
                  </a:lnTo>
                  <a:lnTo>
                    <a:pt x="8943" y="1071"/>
                  </a:lnTo>
                  <a:lnTo>
                    <a:pt x="8943" y="1076"/>
                  </a:lnTo>
                  <a:lnTo>
                    <a:pt x="8927" y="1076"/>
                  </a:lnTo>
                  <a:lnTo>
                    <a:pt x="8927" y="1081"/>
                  </a:lnTo>
                  <a:lnTo>
                    <a:pt x="8915" y="1081"/>
                  </a:lnTo>
                  <a:lnTo>
                    <a:pt x="8915" y="1088"/>
                  </a:lnTo>
                  <a:lnTo>
                    <a:pt x="8898" y="1088"/>
                  </a:lnTo>
                  <a:lnTo>
                    <a:pt x="8898" y="1093"/>
                  </a:lnTo>
                  <a:lnTo>
                    <a:pt x="8881" y="1093"/>
                  </a:lnTo>
                  <a:lnTo>
                    <a:pt x="8881" y="1099"/>
                  </a:lnTo>
                  <a:lnTo>
                    <a:pt x="8863" y="1099"/>
                  </a:lnTo>
                  <a:lnTo>
                    <a:pt x="8863" y="1105"/>
                  </a:lnTo>
                  <a:lnTo>
                    <a:pt x="8853" y="1105"/>
                  </a:lnTo>
                  <a:lnTo>
                    <a:pt x="8853" y="1110"/>
                  </a:lnTo>
                  <a:lnTo>
                    <a:pt x="8836" y="1110"/>
                  </a:lnTo>
                  <a:lnTo>
                    <a:pt x="8836" y="1116"/>
                  </a:lnTo>
                  <a:lnTo>
                    <a:pt x="8818" y="1116"/>
                  </a:lnTo>
                  <a:lnTo>
                    <a:pt x="8818" y="1122"/>
                  </a:lnTo>
                  <a:lnTo>
                    <a:pt x="8796" y="1122"/>
                  </a:lnTo>
                  <a:lnTo>
                    <a:pt x="8796" y="1128"/>
                  </a:lnTo>
                  <a:lnTo>
                    <a:pt x="8789" y="1128"/>
                  </a:lnTo>
                  <a:lnTo>
                    <a:pt x="8789" y="1133"/>
                  </a:lnTo>
                  <a:lnTo>
                    <a:pt x="8779" y="1133"/>
                  </a:lnTo>
                  <a:lnTo>
                    <a:pt x="8779" y="1138"/>
                  </a:lnTo>
                  <a:lnTo>
                    <a:pt x="8761" y="1138"/>
                  </a:lnTo>
                  <a:lnTo>
                    <a:pt x="8761" y="1145"/>
                  </a:lnTo>
                  <a:lnTo>
                    <a:pt x="8727" y="1145"/>
                  </a:lnTo>
                  <a:lnTo>
                    <a:pt x="8727" y="1150"/>
                  </a:lnTo>
                  <a:lnTo>
                    <a:pt x="8693" y="1150"/>
                  </a:lnTo>
                  <a:lnTo>
                    <a:pt x="8693" y="1156"/>
                  </a:lnTo>
                  <a:lnTo>
                    <a:pt x="8675" y="1156"/>
                  </a:lnTo>
                  <a:lnTo>
                    <a:pt x="8675" y="1162"/>
                  </a:lnTo>
                  <a:lnTo>
                    <a:pt x="8647" y="1162"/>
                  </a:lnTo>
                  <a:lnTo>
                    <a:pt x="8647" y="1167"/>
                  </a:lnTo>
                  <a:lnTo>
                    <a:pt x="8625" y="1167"/>
                  </a:lnTo>
                  <a:lnTo>
                    <a:pt x="8625" y="1173"/>
                  </a:lnTo>
                  <a:lnTo>
                    <a:pt x="8613" y="1173"/>
                  </a:lnTo>
                  <a:lnTo>
                    <a:pt x="8613" y="1179"/>
                  </a:lnTo>
                  <a:lnTo>
                    <a:pt x="8590" y="1179"/>
                  </a:lnTo>
                  <a:lnTo>
                    <a:pt x="8590" y="1185"/>
                  </a:lnTo>
                  <a:lnTo>
                    <a:pt x="8579" y="1185"/>
                  </a:lnTo>
                  <a:lnTo>
                    <a:pt x="8579" y="1190"/>
                  </a:lnTo>
                  <a:lnTo>
                    <a:pt x="8561" y="1190"/>
                  </a:lnTo>
                  <a:lnTo>
                    <a:pt x="8561" y="1195"/>
                  </a:lnTo>
                  <a:lnTo>
                    <a:pt x="8539" y="1195"/>
                  </a:lnTo>
                  <a:lnTo>
                    <a:pt x="8539" y="1202"/>
                  </a:lnTo>
                  <a:lnTo>
                    <a:pt x="8523" y="1202"/>
                  </a:lnTo>
                  <a:lnTo>
                    <a:pt x="8523" y="1207"/>
                  </a:lnTo>
                  <a:lnTo>
                    <a:pt x="8499" y="1207"/>
                  </a:lnTo>
                  <a:lnTo>
                    <a:pt x="8499" y="1212"/>
                  </a:lnTo>
                  <a:lnTo>
                    <a:pt x="8471" y="1212"/>
                  </a:lnTo>
                  <a:lnTo>
                    <a:pt x="8471" y="1219"/>
                  </a:lnTo>
                  <a:lnTo>
                    <a:pt x="8442" y="1219"/>
                  </a:lnTo>
                  <a:lnTo>
                    <a:pt x="8442" y="1224"/>
                  </a:lnTo>
                  <a:lnTo>
                    <a:pt x="8414" y="1224"/>
                  </a:lnTo>
                  <a:lnTo>
                    <a:pt x="8414" y="1230"/>
                  </a:lnTo>
                  <a:lnTo>
                    <a:pt x="8363" y="1230"/>
                  </a:lnTo>
                  <a:lnTo>
                    <a:pt x="8363" y="1236"/>
                  </a:lnTo>
                  <a:lnTo>
                    <a:pt x="8112" y="1236"/>
                  </a:lnTo>
                  <a:lnTo>
                    <a:pt x="8112" y="1241"/>
                  </a:lnTo>
                  <a:lnTo>
                    <a:pt x="7970" y="1241"/>
                  </a:lnTo>
                  <a:lnTo>
                    <a:pt x="7970" y="1247"/>
                  </a:lnTo>
                  <a:lnTo>
                    <a:pt x="7839" y="1247"/>
                  </a:lnTo>
                  <a:lnTo>
                    <a:pt x="7839" y="1241"/>
                  </a:lnTo>
                  <a:lnTo>
                    <a:pt x="7680" y="1241"/>
                  </a:lnTo>
                  <a:lnTo>
                    <a:pt x="7680" y="1236"/>
                  </a:lnTo>
                  <a:lnTo>
                    <a:pt x="7651" y="1236"/>
                  </a:lnTo>
                  <a:lnTo>
                    <a:pt x="7651" y="1230"/>
                  </a:lnTo>
                  <a:lnTo>
                    <a:pt x="7617" y="1230"/>
                  </a:lnTo>
                  <a:lnTo>
                    <a:pt x="7617" y="1224"/>
                  </a:lnTo>
                  <a:lnTo>
                    <a:pt x="7599" y="1224"/>
                  </a:lnTo>
                  <a:lnTo>
                    <a:pt x="7599" y="1219"/>
                  </a:lnTo>
                  <a:lnTo>
                    <a:pt x="7589" y="1219"/>
                  </a:lnTo>
                  <a:lnTo>
                    <a:pt x="7589" y="1212"/>
                  </a:lnTo>
                  <a:lnTo>
                    <a:pt x="7549" y="1212"/>
                  </a:lnTo>
                  <a:lnTo>
                    <a:pt x="7549" y="1207"/>
                  </a:lnTo>
                  <a:lnTo>
                    <a:pt x="7418" y="1207"/>
                  </a:lnTo>
                  <a:lnTo>
                    <a:pt x="7418" y="1202"/>
                  </a:lnTo>
                  <a:lnTo>
                    <a:pt x="7389" y="1202"/>
                  </a:lnTo>
                  <a:lnTo>
                    <a:pt x="7389" y="1207"/>
                  </a:lnTo>
                  <a:lnTo>
                    <a:pt x="7276" y="1207"/>
                  </a:lnTo>
                  <a:lnTo>
                    <a:pt x="7276" y="1202"/>
                  </a:lnTo>
                  <a:lnTo>
                    <a:pt x="7252" y="1202"/>
                  </a:lnTo>
                  <a:lnTo>
                    <a:pt x="7252" y="1207"/>
                  </a:lnTo>
                  <a:lnTo>
                    <a:pt x="7230" y="1207"/>
                  </a:lnTo>
                  <a:lnTo>
                    <a:pt x="7230" y="1202"/>
                  </a:lnTo>
                  <a:lnTo>
                    <a:pt x="7002" y="1202"/>
                  </a:lnTo>
                  <a:lnTo>
                    <a:pt x="7002" y="1195"/>
                  </a:lnTo>
                  <a:lnTo>
                    <a:pt x="6968" y="1195"/>
                  </a:lnTo>
                  <a:lnTo>
                    <a:pt x="6968" y="1190"/>
                  </a:lnTo>
                  <a:lnTo>
                    <a:pt x="6848" y="1190"/>
                  </a:lnTo>
                  <a:lnTo>
                    <a:pt x="6848" y="1195"/>
                  </a:lnTo>
                  <a:lnTo>
                    <a:pt x="6791" y="1195"/>
                  </a:lnTo>
                  <a:lnTo>
                    <a:pt x="6791" y="1202"/>
                  </a:lnTo>
                  <a:lnTo>
                    <a:pt x="6689" y="1202"/>
                  </a:lnTo>
                  <a:lnTo>
                    <a:pt x="6689" y="1195"/>
                  </a:lnTo>
                  <a:lnTo>
                    <a:pt x="6649" y="1195"/>
                  </a:lnTo>
                  <a:lnTo>
                    <a:pt x="6649" y="1190"/>
                  </a:lnTo>
                  <a:lnTo>
                    <a:pt x="6615" y="1190"/>
                  </a:lnTo>
                  <a:lnTo>
                    <a:pt x="6615" y="1185"/>
                  </a:lnTo>
                  <a:lnTo>
                    <a:pt x="6575" y="1185"/>
                  </a:lnTo>
                  <a:lnTo>
                    <a:pt x="6575" y="1179"/>
                  </a:lnTo>
                  <a:lnTo>
                    <a:pt x="6506" y="1179"/>
                  </a:lnTo>
                  <a:lnTo>
                    <a:pt x="6506" y="1173"/>
                  </a:lnTo>
                  <a:lnTo>
                    <a:pt x="6394" y="1173"/>
                  </a:lnTo>
                  <a:lnTo>
                    <a:pt x="6394" y="1179"/>
                  </a:lnTo>
                  <a:lnTo>
                    <a:pt x="6370" y="1179"/>
                  </a:lnTo>
                  <a:lnTo>
                    <a:pt x="6370" y="1173"/>
                  </a:lnTo>
                  <a:lnTo>
                    <a:pt x="6308" y="1173"/>
                  </a:lnTo>
                  <a:lnTo>
                    <a:pt x="6308" y="1167"/>
                  </a:lnTo>
                  <a:lnTo>
                    <a:pt x="6245" y="1167"/>
                  </a:lnTo>
                  <a:lnTo>
                    <a:pt x="6245" y="1173"/>
                  </a:lnTo>
                  <a:lnTo>
                    <a:pt x="6154" y="1173"/>
                  </a:lnTo>
                  <a:lnTo>
                    <a:pt x="6154" y="1167"/>
                  </a:lnTo>
                  <a:lnTo>
                    <a:pt x="6114" y="1167"/>
                  </a:lnTo>
                  <a:lnTo>
                    <a:pt x="6114" y="1162"/>
                  </a:lnTo>
                  <a:lnTo>
                    <a:pt x="6007" y="1162"/>
                  </a:lnTo>
                  <a:lnTo>
                    <a:pt x="6007" y="1156"/>
                  </a:lnTo>
                  <a:lnTo>
                    <a:pt x="5972" y="1156"/>
                  </a:lnTo>
                  <a:lnTo>
                    <a:pt x="5972" y="1150"/>
                  </a:lnTo>
                  <a:lnTo>
                    <a:pt x="5921" y="1150"/>
                  </a:lnTo>
                  <a:lnTo>
                    <a:pt x="5921" y="1145"/>
                  </a:lnTo>
                  <a:lnTo>
                    <a:pt x="5835" y="1145"/>
                  </a:lnTo>
                  <a:lnTo>
                    <a:pt x="5835" y="1138"/>
                  </a:lnTo>
                  <a:lnTo>
                    <a:pt x="5812" y="1138"/>
                  </a:lnTo>
                  <a:lnTo>
                    <a:pt x="5812" y="1133"/>
                  </a:lnTo>
                  <a:lnTo>
                    <a:pt x="5721" y="1133"/>
                  </a:lnTo>
                  <a:lnTo>
                    <a:pt x="5721" y="1128"/>
                  </a:lnTo>
                  <a:lnTo>
                    <a:pt x="5676" y="1128"/>
                  </a:lnTo>
                  <a:lnTo>
                    <a:pt x="5676" y="1122"/>
                  </a:lnTo>
                  <a:lnTo>
                    <a:pt x="5648" y="1122"/>
                  </a:lnTo>
                  <a:lnTo>
                    <a:pt x="5648" y="1116"/>
                  </a:lnTo>
                  <a:lnTo>
                    <a:pt x="5425" y="1116"/>
                  </a:lnTo>
                  <a:lnTo>
                    <a:pt x="5425" y="1110"/>
                  </a:lnTo>
                  <a:lnTo>
                    <a:pt x="5403" y="1110"/>
                  </a:lnTo>
                  <a:lnTo>
                    <a:pt x="5403" y="1105"/>
                  </a:lnTo>
                  <a:lnTo>
                    <a:pt x="5363" y="1105"/>
                  </a:lnTo>
                  <a:lnTo>
                    <a:pt x="5363" y="1099"/>
                  </a:lnTo>
                  <a:lnTo>
                    <a:pt x="5328" y="1099"/>
                  </a:lnTo>
                  <a:lnTo>
                    <a:pt x="5328" y="1093"/>
                  </a:lnTo>
                  <a:lnTo>
                    <a:pt x="5294" y="1093"/>
                  </a:lnTo>
                  <a:lnTo>
                    <a:pt x="5294" y="1088"/>
                  </a:lnTo>
                  <a:lnTo>
                    <a:pt x="5271" y="1088"/>
                  </a:lnTo>
                  <a:lnTo>
                    <a:pt x="5271" y="1081"/>
                  </a:lnTo>
                  <a:lnTo>
                    <a:pt x="5249" y="1081"/>
                  </a:lnTo>
                  <a:lnTo>
                    <a:pt x="5249" y="1076"/>
                  </a:lnTo>
                  <a:lnTo>
                    <a:pt x="5238" y="1076"/>
                  </a:lnTo>
                  <a:lnTo>
                    <a:pt x="5238" y="1071"/>
                  </a:lnTo>
                  <a:lnTo>
                    <a:pt x="5209" y="1071"/>
                  </a:lnTo>
                  <a:lnTo>
                    <a:pt x="5209" y="1065"/>
                  </a:lnTo>
                  <a:lnTo>
                    <a:pt x="5181" y="1065"/>
                  </a:lnTo>
                  <a:lnTo>
                    <a:pt x="5181" y="1059"/>
                  </a:lnTo>
                  <a:lnTo>
                    <a:pt x="5124" y="1059"/>
                  </a:lnTo>
                  <a:lnTo>
                    <a:pt x="5124" y="1053"/>
                  </a:lnTo>
                  <a:lnTo>
                    <a:pt x="5073" y="1053"/>
                  </a:lnTo>
                  <a:lnTo>
                    <a:pt x="5073" y="1048"/>
                  </a:lnTo>
                  <a:lnTo>
                    <a:pt x="5044" y="1048"/>
                  </a:lnTo>
                  <a:lnTo>
                    <a:pt x="5044" y="1053"/>
                  </a:lnTo>
                  <a:lnTo>
                    <a:pt x="5026" y="1053"/>
                  </a:lnTo>
                  <a:lnTo>
                    <a:pt x="5026" y="1048"/>
                  </a:lnTo>
                  <a:lnTo>
                    <a:pt x="4993" y="1048"/>
                  </a:lnTo>
                  <a:lnTo>
                    <a:pt x="4993" y="1042"/>
                  </a:lnTo>
                  <a:lnTo>
                    <a:pt x="4919" y="1042"/>
                  </a:lnTo>
                  <a:lnTo>
                    <a:pt x="4919" y="1036"/>
                  </a:lnTo>
                  <a:lnTo>
                    <a:pt x="4874" y="1036"/>
                  </a:lnTo>
                  <a:lnTo>
                    <a:pt x="4874" y="1031"/>
                  </a:lnTo>
                  <a:lnTo>
                    <a:pt x="4839" y="1031"/>
                  </a:lnTo>
                  <a:lnTo>
                    <a:pt x="4839" y="1024"/>
                  </a:lnTo>
                  <a:lnTo>
                    <a:pt x="4817" y="1024"/>
                  </a:lnTo>
                  <a:lnTo>
                    <a:pt x="4817" y="1019"/>
                  </a:lnTo>
                  <a:lnTo>
                    <a:pt x="4771" y="1019"/>
                  </a:lnTo>
                  <a:lnTo>
                    <a:pt x="4771" y="1014"/>
                  </a:lnTo>
                  <a:lnTo>
                    <a:pt x="4753" y="1014"/>
                  </a:lnTo>
                  <a:lnTo>
                    <a:pt x="4753" y="1008"/>
                  </a:lnTo>
                  <a:lnTo>
                    <a:pt x="4743" y="1008"/>
                  </a:lnTo>
                  <a:lnTo>
                    <a:pt x="4743" y="1002"/>
                  </a:lnTo>
                  <a:lnTo>
                    <a:pt x="4731" y="1002"/>
                  </a:lnTo>
                  <a:lnTo>
                    <a:pt x="4731" y="997"/>
                  </a:lnTo>
                  <a:lnTo>
                    <a:pt x="4714" y="997"/>
                  </a:lnTo>
                  <a:lnTo>
                    <a:pt x="4714" y="991"/>
                  </a:lnTo>
                  <a:lnTo>
                    <a:pt x="4703" y="991"/>
                  </a:lnTo>
                  <a:lnTo>
                    <a:pt x="4703" y="985"/>
                  </a:lnTo>
                  <a:lnTo>
                    <a:pt x="4691" y="985"/>
                  </a:lnTo>
                  <a:lnTo>
                    <a:pt x="4691" y="979"/>
                  </a:lnTo>
                  <a:lnTo>
                    <a:pt x="4679" y="979"/>
                  </a:lnTo>
                  <a:lnTo>
                    <a:pt x="4679" y="974"/>
                  </a:lnTo>
                  <a:lnTo>
                    <a:pt x="4668" y="974"/>
                  </a:lnTo>
                  <a:lnTo>
                    <a:pt x="4668" y="967"/>
                  </a:lnTo>
                  <a:lnTo>
                    <a:pt x="4662" y="967"/>
                  </a:lnTo>
                  <a:lnTo>
                    <a:pt x="4662" y="957"/>
                  </a:lnTo>
                  <a:lnTo>
                    <a:pt x="4651" y="957"/>
                  </a:lnTo>
                  <a:lnTo>
                    <a:pt x="4651" y="951"/>
                  </a:lnTo>
                  <a:lnTo>
                    <a:pt x="4622" y="951"/>
                  </a:lnTo>
                  <a:lnTo>
                    <a:pt x="4622" y="945"/>
                  </a:lnTo>
                  <a:lnTo>
                    <a:pt x="4577" y="945"/>
                  </a:lnTo>
                  <a:lnTo>
                    <a:pt x="4577" y="940"/>
                  </a:lnTo>
                  <a:lnTo>
                    <a:pt x="4555" y="940"/>
                  </a:lnTo>
                  <a:lnTo>
                    <a:pt x="4555" y="934"/>
                  </a:lnTo>
                  <a:lnTo>
                    <a:pt x="4525" y="934"/>
                  </a:lnTo>
                  <a:lnTo>
                    <a:pt x="4525" y="928"/>
                  </a:lnTo>
                  <a:lnTo>
                    <a:pt x="4515" y="928"/>
                  </a:lnTo>
                  <a:lnTo>
                    <a:pt x="4515" y="922"/>
                  </a:lnTo>
                  <a:lnTo>
                    <a:pt x="4480" y="922"/>
                  </a:lnTo>
                  <a:lnTo>
                    <a:pt x="4480" y="917"/>
                  </a:lnTo>
                  <a:lnTo>
                    <a:pt x="4446" y="917"/>
                  </a:lnTo>
                  <a:lnTo>
                    <a:pt x="4446" y="911"/>
                  </a:lnTo>
                  <a:lnTo>
                    <a:pt x="4406" y="911"/>
                  </a:lnTo>
                  <a:lnTo>
                    <a:pt x="4406" y="905"/>
                  </a:lnTo>
                  <a:lnTo>
                    <a:pt x="4384" y="905"/>
                  </a:lnTo>
                  <a:lnTo>
                    <a:pt x="4384" y="900"/>
                  </a:lnTo>
                  <a:lnTo>
                    <a:pt x="4349" y="900"/>
                  </a:lnTo>
                  <a:lnTo>
                    <a:pt x="4349" y="894"/>
                  </a:lnTo>
                  <a:lnTo>
                    <a:pt x="4327" y="894"/>
                  </a:lnTo>
                  <a:lnTo>
                    <a:pt x="4327" y="888"/>
                  </a:lnTo>
                  <a:lnTo>
                    <a:pt x="4304" y="888"/>
                  </a:lnTo>
                  <a:lnTo>
                    <a:pt x="4304" y="883"/>
                  </a:lnTo>
                  <a:lnTo>
                    <a:pt x="4258" y="883"/>
                  </a:lnTo>
                  <a:lnTo>
                    <a:pt x="4258" y="877"/>
                  </a:lnTo>
                  <a:lnTo>
                    <a:pt x="4235" y="877"/>
                  </a:lnTo>
                  <a:lnTo>
                    <a:pt x="4235" y="872"/>
                  </a:lnTo>
                  <a:lnTo>
                    <a:pt x="4225" y="872"/>
                  </a:lnTo>
                  <a:lnTo>
                    <a:pt x="4225" y="865"/>
                  </a:lnTo>
                  <a:lnTo>
                    <a:pt x="4207" y="865"/>
                  </a:lnTo>
                  <a:lnTo>
                    <a:pt x="4207" y="860"/>
                  </a:lnTo>
                  <a:lnTo>
                    <a:pt x="4196" y="860"/>
                  </a:lnTo>
                  <a:lnTo>
                    <a:pt x="4196" y="855"/>
                  </a:lnTo>
                  <a:lnTo>
                    <a:pt x="4168" y="855"/>
                  </a:lnTo>
                  <a:lnTo>
                    <a:pt x="4168" y="848"/>
                  </a:lnTo>
                  <a:lnTo>
                    <a:pt x="4139" y="848"/>
                  </a:lnTo>
                  <a:lnTo>
                    <a:pt x="4139" y="843"/>
                  </a:lnTo>
                  <a:lnTo>
                    <a:pt x="4099" y="843"/>
                  </a:lnTo>
                  <a:lnTo>
                    <a:pt x="4099" y="837"/>
                  </a:lnTo>
                  <a:lnTo>
                    <a:pt x="4054" y="837"/>
                  </a:lnTo>
                  <a:lnTo>
                    <a:pt x="4054" y="832"/>
                  </a:lnTo>
                  <a:lnTo>
                    <a:pt x="4009" y="832"/>
                  </a:lnTo>
                  <a:lnTo>
                    <a:pt x="4009" y="826"/>
                  </a:lnTo>
                  <a:lnTo>
                    <a:pt x="3968" y="826"/>
                  </a:lnTo>
                  <a:lnTo>
                    <a:pt x="3968" y="820"/>
                  </a:lnTo>
                  <a:lnTo>
                    <a:pt x="3940" y="820"/>
                  </a:lnTo>
                  <a:lnTo>
                    <a:pt x="3940" y="815"/>
                  </a:lnTo>
                  <a:lnTo>
                    <a:pt x="3917" y="815"/>
                  </a:lnTo>
                  <a:lnTo>
                    <a:pt x="3917" y="808"/>
                  </a:lnTo>
                  <a:lnTo>
                    <a:pt x="3895" y="808"/>
                  </a:lnTo>
                  <a:lnTo>
                    <a:pt x="3895" y="803"/>
                  </a:lnTo>
                  <a:lnTo>
                    <a:pt x="3871" y="803"/>
                  </a:lnTo>
                  <a:lnTo>
                    <a:pt x="3871" y="798"/>
                  </a:lnTo>
                  <a:lnTo>
                    <a:pt x="3860" y="798"/>
                  </a:lnTo>
                  <a:lnTo>
                    <a:pt x="3860" y="791"/>
                  </a:lnTo>
                  <a:lnTo>
                    <a:pt x="3831" y="791"/>
                  </a:lnTo>
                  <a:lnTo>
                    <a:pt x="3831" y="786"/>
                  </a:lnTo>
                  <a:lnTo>
                    <a:pt x="3803" y="786"/>
                  </a:lnTo>
                  <a:lnTo>
                    <a:pt x="3803" y="781"/>
                  </a:lnTo>
                  <a:lnTo>
                    <a:pt x="3757" y="781"/>
                  </a:lnTo>
                  <a:lnTo>
                    <a:pt x="3757" y="775"/>
                  </a:lnTo>
                  <a:lnTo>
                    <a:pt x="3717" y="775"/>
                  </a:lnTo>
                  <a:lnTo>
                    <a:pt x="3717" y="769"/>
                  </a:lnTo>
                  <a:lnTo>
                    <a:pt x="3677" y="769"/>
                  </a:lnTo>
                  <a:lnTo>
                    <a:pt x="3677" y="763"/>
                  </a:lnTo>
                  <a:lnTo>
                    <a:pt x="3638" y="763"/>
                  </a:lnTo>
                  <a:lnTo>
                    <a:pt x="3638" y="758"/>
                  </a:lnTo>
                  <a:lnTo>
                    <a:pt x="3610" y="758"/>
                  </a:lnTo>
                  <a:lnTo>
                    <a:pt x="3610" y="752"/>
                  </a:lnTo>
                  <a:lnTo>
                    <a:pt x="3587" y="752"/>
                  </a:lnTo>
                  <a:lnTo>
                    <a:pt x="3587" y="746"/>
                  </a:lnTo>
                  <a:lnTo>
                    <a:pt x="3581" y="746"/>
                  </a:lnTo>
                  <a:lnTo>
                    <a:pt x="3581" y="741"/>
                  </a:lnTo>
                  <a:lnTo>
                    <a:pt x="3564" y="741"/>
                  </a:lnTo>
                  <a:lnTo>
                    <a:pt x="3564" y="734"/>
                  </a:lnTo>
                  <a:lnTo>
                    <a:pt x="3524" y="734"/>
                  </a:lnTo>
                  <a:lnTo>
                    <a:pt x="3524" y="729"/>
                  </a:lnTo>
                  <a:lnTo>
                    <a:pt x="3513" y="729"/>
                  </a:lnTo>
                  <a:lnTo>
                    <a:pt x="3513" y="724"/>
                  </a:lnTo>
                  <a:lnTo>
                    <a:pt x="3467" y="724"/>
                  </a:lnTo>
                  <a:lnTo>
                    <a:pt x="3467" y="718"/>
                  </a:lnTo>
                  <a:lnTo>
                    <a:pt x="3432" y="718"/>
                  </a:lnTo>
                  <a:lnTo>
                    <a:pt x="3432" y="712"/>
                  </a:lnTo>
                  <a:lnTo>
                    <a:pt x="3410" y="712"/>
                  </a:lnTo>
                  <a:lnTo>
                    <a:pt x="3410" y="706"/>
                  </a:lnTo>
                  <a:lnTo>
                    <a:pt x="3365" y="706"/>
                  </a:lnTo>
                  <a:lnTo>
                    <a:pt x="3365" y="701"/>
                  </a:lnTo>
                  <a:lnTo>
                    <a:pt x="3336" y="701"/>
                  </a:lnTo>
                  <a:lnTo>
                    <a:pt x="3336" y="695"/>
                  </a:lnTo>
                  <a:lnTo>
                    <a:pt x="3313" y="695"/>
                  </a:lnTo>
                  <a:lnTo>
                    <a:pt x="3313" y="689"/>
                  </a:lnTo>
                  <a:lnTo>
                    <a:pt x="3302" y="689"/>
                  </a:lnTo>
                  <a:lnTo>
                    <a:pt x="3302" y="684"/>
                  </a:lnTo>
                  <a:lnTo>
                    <a:pt x="3273" y="684"/>
                  </a:lnTo>
                  <a:lnTo>
                    <a:pt x="3273" y="677"/>
                  </a:lnTo>
                  <a:lnTo>
                    <a:pt x="3261" y="677"/>
                  </a:lnTo>
                  <a:lnTo>
                    <a:pt x="3261" y="672"/>
                  </a:lnTo>
                  <a:lnTo>
                    <a:pt x="3245" y="672"/>
                  </a:lnTo>
                  <a:lnTo>
                    <a:pt x="3245" y="667"/>
                  </a:lnTo>
                  <a:lnTo>
                    <a:pt x="3223" y="667"/>
                  </a:lnTo>
                  <a:lnTo>
                    <a:pt x="3223" y="661"/>
                  </a:lnTo>
                  <a:lnTo>
                    <a:pt x="3137" y="661"/>
                  </a:lnTo>
                  <a:lnTo>
                    <a:pt x="3137" y="655"/>
                  </a:lnTo>
                  <a:lnTo>
                    <a:pt x="3097" y="655"/>
                  </a:lnTo>
                  <a:lnTo>
                    <a:pt x="3097" y="649"/>
                  </a:lnTo>
                  <a:lnTo>
                    <a:pt x="3052" y="649"/>
                  </a:lnTo>
                  <a:lnTo>
                    <a:pt x="3052" y="644"/>
                  </a:lnTo>
                  <a:lnTo>
                    <a:pt x="3028" y="644"/>
                  </a:lnTo>
                  <a:lnTo>
                    <a:pt x="3028" y="638"/>
                  </a:lnTo>
                  <a:lnTo>
                    <a:pt x="2983" y="638"/>
                  </a:lnTo>
                  <a:lnTo>
                    <a:pt x="2983" y="632"/>
                  </a:lnTo>
                  <a:lnTo>
                    <a:pt x="2955" y="632"/>
                  </a:lnTo>
                  <a:lnTo>
                    <a:pt x="2955" y="627"/>
                  </a:lnTo>
                  <a:lnTo>
                    <a:pt x="2914" y="627"/>
                  </a:lnTo>
                  <a:lnTo>
                    <a:pt x="2914" y="620"/>
                  </a:lnTo>
                  <a:lnTo>
                    <a:pt x="2898" y="620"/>
                  </a:lnTo>
                  <a:lnTo>
                    <a:pt x="2898" y="615"/>
                  </a:lnTo>
                  <a:lnTo>
                    <a:pt x="2869" y="615"/>
                  </a:lnTo>
                  <a:lnTo>
                    <a:pt x="2869" y="610"/>
                  </a:lnTo>
                  <a:lnTo>
                    <a:pt x="2857" y="610"/>
                  </a:lnTo>
                  <a:lnTo>
                    <a:pt x="2857" y="604"/>
                  </a:lnTo>
                  <a:lnTo>
                    <a:pt x="2841" y="604"/>
                  </a:lnTo>
                  <a:lnTo>
                    <a:pt x="2841" y="598"/>
                  </a:lnTo>
                  <a:lnTo>
                    <a:pt x="2819" y="598"/>
                  </a:lnTo>
                  <a:lnTo>
                    <a:pt x="2819" y="604"/>
                  </a:lnTo>
                  <a:lnTo>
                    <a:pt x="2801" y="604"/>
                  </a:lnTo>
                  <a:lnTo>
                    <a:pt x="2801" y="598"/>
                  </a:lnTo>
                  <a:lnTo>
                    <a:pt x="2772" y="598"/>
                  </a:lnTo>
                  <a:lnTo>
                    <a:pt x="2772" y="592"/>
                  </a:lnTo>
                  <a:lnTo>
                    <a:pt x="2762" y="592"/>
                  </a:lnTo>
                  <a:lnTo>
                    <a:pt x="2762" y="587"/>
                  </a:lnTo>
                  <a:lnTo>
                    <a:pt x="2738" y="587"/>
                  </a:lnTo>
                  <a:lnTo>
                    <a:pt x="2738" y="581"/>
                  </a:lnTo>
                  <a:lnTo>
                    <a:pt x="2715" y="581"/>
                  </a:lnTo>
                  <a:lnTo>
                    <a:pt x="2715" y="575"/>
                  </a:lnTo>
                  <a:lnTo>
                    <a:pt x="2688" y="575"/>
                  </a:lnTo>
                  <a:lnTo>
                    <a:pt x="2688" y="570"/>
                  </a:lnTo>
                  <a:lnTo>
                    <a:pt x="2659" y="570"/>
                  </a:lnTo>
                  <a:lnTo>
                    <a:pt x="2659" y="563"/>
                  </a:lnTo>
                  <a:lnTo>
                    <a:pt x="2619" y="563"/>
                  </a:lnTo>
                  <a:lnTo>
                    <a:pt x="2619" y="558"/>
                  </a:lnTo>
                  <a:lnTo>
                    <a:pt x="2579" y="558"/>
                  </a:lnTo>
                  <a:lnTo>
                    <a:pt x="2579" y="553"/>
                  </a:lnTo>
                  <a:lnTo>
                    <a:pt x="2539" y="553"/>
                  </a:lnTo>
                  <a:lnTo>
                    <a:pt x="2539" y="558"/>
                  </a:lnTo>
                  <a:lnTo>
                    <a:pt x="2493" y="558"/>
                  </a:lnTo>
                  <a:lnTo>
                    <a:pt x="2493" y="553"/>
                  </a:lnTo>
                  <a:lnTo>
                    <a:pt x="2436" y="553"/>
                  </a:lnTo>
                  <a:lnTo>
                    <a:pt x="2436" y="547"/>
                  </a:lnTo>
                  <a:lnTo>
                    <a:pt x="2380" y="547"/>
                  </a:lnTo>
                  <a:lnTo>
                    <a:pt x="2380" y="553"/>
                  </a:lnTo>
                  <a:lnTo>
                    <a:pt x="2346" y="553"/>
                  </a:lnTo>
                  <a:lnTo>
                    <a:pt x="2346" y="547"/>
                  </a:lnTo>
                  <a:lnTo>
                    <a:pt x="2329" y="547"/>
                  </a:lnTo>
                  <a:lnTo>
                    <a:pt x="2329" y="553"/>
                  </a:lnTo>
                  <a:lnTo>
                    <a:pt x="2306" y="553"/>
                  </a:lnTo>
                  <a:lnTo>
                    <a:pt x="2306" y="558"/>
                  </a:lnTo>
                  <a:lnTo>
                    <a:pt x="2277" y="558"/>
                  </a:lnTo>
                  <a:lnTo>
                    <a:pt x="2277" y="563"/>
                  </a:lnTo>
                  <a:lnTo>
                    <a:pt x="2135" y="563"/>
                  </a:lnTo>
                  <a:lnTo>
                    <a:pt x="2135" y="570"/>
                  </a:lnTo>
                  <a:lnTo>
                    <a:pt x="2044" y="570"/>
                  </a:lnTo>
                  <a:lnTo>
                    <a:pt x="2044" y="575"/>
                  </a:lnTo>
                  <a:lnTo>
                    <a:pt x="1987" y="575"/>
                  </a:lnTo>
                  <a:lnTo>
                    <a:pt x="1987" y="581"/>
                  </a:lnTo>
                  <a:lnTo>
                    <a:pt x="1913" y="581"/>
                  </a:lnTo>
                  <a:lnTo>
                    <a:pt x="1913" y="587"/>
                  </a:lnTo>
                  <a:lnTo>
                    <a:pt x="1896" y="587"/>
                  </a:lnTo>
                  <a:lnTo>
                    <a:pt x="1896" y="592"/>
                  </a:lnTo>
                  <a:lnTo>
                    <a:pt x="1873" y="592"/>
                  </a:lnTo>
                  <a:lnTo>
                    <a:pt x="1873" y="598"/>
                  </a:lnTo>
                  <a:lnTo>
                    <a:pt x="1840" y="598"/>
                  </a:lnTo>
                  <a:lnTo>
                    <a:pt x="1840" y="604"/>
                  </a:lnTo>
                  <a:lnTo>
                    <a:pt x="1736" y="604"/>
                  </a:lnTo>
                  <a:lnTo>
                    <a:pt x="1736" y="610"/>
                  </a:lnTo>
                  <a:lnTo>
                    <a:pt x="1714" y="610"/>
                  </a:lnTo>
                  <a:lnTo>
                    <a:pt x="1714" y="615"/>
                  </a:lnTo>
                  <a:lnTo>
                    <a:pt x="1697" y="615"/>
                  </a:lnTo>
                  <a:lnTo>
                    <a:pt x="1697" y="620"/>
                  </a:lnTo>
                  <a:lnTo>
                    <a:pt x="1679" y="620"/>
                  </a:lnTo>
                  <a:lnTo>
                    <a:pt x="1679" y="627"/>
                  </a:lnTo>
                  <a:lnTo>
                    <a:pt x="1657" y="627"/>
                  </a:lnTo>
                  <a:lnTo>
                    <a:pt x="1657" y="632"/>
                  </a:lnTo>
                  <a:lnTo>
                    <a:pt x="1645" y="632"/>
                  </a:lnTo>
                  <a:lnTo>
                    <a:pt x="1645" y="638"/>
                  </a:lnTo>
                  <a:lnTo>
                    <a:pt x="1606" y="638"/>
                  </a:lnTo>
                  <a:lnTo>
                    <a:pt x="1606" y="644"/>
                  </a:lnTo>
                  <a:lnTo>
                    <a:pt x="1583" y="644"/>
                  </a:lnTo>
                  <a:lnTo>
                    <a:pt x="1583" y="649"/>
                  </a:lnTo>
                  <a:lnTo>
                    <a:pt x="1543" y="649"/>
                  </a:lnTo>
                  <a:lnTo>
                    <a:pt x="1543" y="655"/>
                  </a:lnTo>
                  <a:lnTo>
                    <a:pt x="1508" y="655"/>
                  </a:lnTo>
                  <a:lnTo>
                    <a:pt x="1508" y="661"/>
                  </a:lnTo>
                  <a:lnTo>
                    <a:pt x="1486" y="661"/>
                  </a:lnTo>
                  <a:lnTo>
                    <a:pt x="1486" y="667"/>
                  </a:lnTo>
                  <a:lnTo>
                    <a:pt x="1446" y="667"/>
                  </a:lnTo>
                  <a:lnTo>
                    <a:pt x="1446" y="672"/>
                  </a:lnTo>
                  <a:lnTo>
                    <a:pt x="1406" y="672"/>
                  </a:lnTo>
                  <a:lnTo>
                    <a:pt x="1406" y="677"/>
                  </a:lnTo>
                  <a:lnTo>
                    <a:pt x="1372" y="677"/>
                  </a:lnTo>
                  <a:lnTo>
                    <a:pt x="1372" y="684"/>
                  </a:lnTo>
                  <a:lnTo>
                    <a:pt x="1367" y="684"/>
                  </a:lnTo>
                  <a:lnTo>
                    <a:pt x="1367" y="689"/>
                  </a:lnTo>
                  <a:lnTo>
                    <a:pt x="1349" y="689"/>
                  </a:lnTo>
                  <a:lnTo>
                    <a:pt x="1349" y="695"/>
                  </a:lnTo>
                  <a:lnTo>
                    <a:pt x="1327" y="695"/>
                  </a:lnTo>
                  <a:lnTo>
                    <a:pt x="1327" y="701"/>
                  </a:lnTo>
                  <a:lnTo>
                    <a:pt x="1292" y="701"/>
                  </a:lnTo>
                  <a:lnTo>
                    <a:pt x="1292" y="706"/>
                  </a:lnTo>
                  <a:lnTo>
                    <a:pt x="1270" y="706"/>
                  </a:lnTo>
                  <a:lnTo>
                    <a:pt x="1270" y="712"/>
                  </a:lnTo>
                  <a:lnTo>
                    <a:pt x="1230" y="712"/>
                  </a:lnTo>
                  <a:lnTo>
                    <a:pt x="1230" y="718"/>
                  </a:lnTo>
                  <a:lnTo>
                    <a:pt x="1161" y="718"/>
                  </a:lnTo>
                  <a:lnTo>
                    <a:pt x="1161" y="724"/>
                  </a:lnTo>
                  <a:lnTo>
                    <a:pt x="1122" y="724"/>
                  </a:lnTo>
                  <a:lnTo>
                    <a:pt x="1122" y="729"/>
                  </a:lnTo>
                  <a:lnTo>
                    <a:pt x="1099" y="729"/>
                  </a:lnTo>
                  <a:lnTo>
                    <a:pt x="1099" y="734"/>
                  </a:lnTo>
                  <a:lnTo>
                    <a:pt x="1076" y="734"/>
                  </a:lnTo>
                  <a:lnTo>
                    <a:pt x="1076" y="741"/>
                  </a:lnTo>
                  <a:lnTo>
                    <a:pt x="1059" y="741"/>
                  </a:lnTo>
                  <a:lnTo>
                    <a:pt x="1059" y="746"/>
                  </a:lnTo>
                  <a:lnTo>
                    <a:pt x="1047" y="746"/>
                  </a:lnTo>
                  <a:lnTo>
                    <a:pt x="1047" y="752"/>
                  </a:lnTo>
                  <a:lnTo>
                    <a:pt x="1031" y="752"/>
                  </a:lnTo>
                  <a:lnTo>
                    <a:pt x="1031" y="758"/>
                  </a:lnTo>
                  <a:lnTo>
                    <a:pt x="997" y="758"/>
                  </a:lnTo>
                  <a:lnTo>
                    <a:pt x="997" y="763"/>
                  </a:lnTo>
                  <a:lnTo>
                    <a:pt x="980" y="763"/>
                  </a:lnTo>
                  <a:lnTo>
                    <a:pt x="980" y="769"/>
                  </a:lnTo>
                  <a:lnTo>
                    <a:pt x="957" y="769"/>
                  </a:lnTo>
                  <a:lnTo>
                    <a:pt x="957" y="775"/>
                  </a:lnTo>
                  <a:lnTo>
                    <a:pt x="900" y="775"/>
                  </a:lnTo>
                  <a:lnTo>
                    <a:pt x="900" y="781"/>
                  </a:lnTo>
                  <a:lnTo>
                    <a:pt x="876" y="781"/>
                  </a:lnTo>
                  <a:lnTo>
                    <a:pt x="876" y="786"/>
                  </a:lnTo>
                  <a:lnTo>
                    <a:pt x="866" y="786"/>
                  </a:lnTo>
                  <a:lnTo>
                    <a:pt x="866" y="791"/>
                  </a:lnTo>
                  <a:lnTo>
                    <a:pt x="849" y="791"/>
                  </a:lnTo>
                  <a:lnTo>
                    <a:pt x="849" y="798"/>
                  </a:lnTo>
                  <a:lnTo>
                    <a:pt x="843" y="798"/>
                  </a:lnTo>
                  <a:lnTo>
                    <a:pt x="843" y="803"/>
                  </a:lnTo>
                  <a:lnTo>
                    <a:pt x="837" y="803"/>
                  </a:lnTo>
                  <a:lnTo>
                    <a:pt x="837" y="815"/>
                  </a:lnTo>
                  <a:lnTo>
                    <a:pt x="831" y="815"/>
                  </a:lnTo>
                  <a:lnTo>
                    <a:pt x="831" y="826"/>
                  </a:lnTo>
                  <a:lnTo>
                    <a:pt x="826" y="826"/>
                  </a:lnTo>
                  <a:lnTo>
                    <a:pt x="826" y="832"/>
                  </a:lnTo>
                  <a:lnTo>
                    <a:pt x="819" y="832"/>
                  </a:lnTo>
                  <a:lnTo>
                    <a:pt x="819" y="837"/>
                  </a:lnTo>
                  <a:lnTo>
                    <a:pt x="809" y="837"/>
                  </a:lnTo>
                  <a:lnTo>
                    <a:pt x="809" y="843"/>
                  </a:lnTo>
                  <a:lnTo>
                    <a:pt x="803" y="843"/>
                  </a:lnTo>
                  <a:lnTo>
                    <a:pt x="803" y="848"/>
                  </a:lnTo>
                  <a:lnTo>
                    <a:pt x="798" y="848"/>
                  </a:lnTo>
                  <a:lnTo>
                    <a:pt x="798" y="855"/>
                  </a:lnTo>
                  <a:lnTo>
                    <a:pt x="792" y="855"/>
                  </a:lnTo>
                  <a:lnTo>
                    <a:pt x="792" y="860"/>
                  </a:lnTo>
                  <a:lnTo>
                    <a:pt x="786" y="860"/>
                  </a:lnTo>
                  <a:lnTo>
                    <a:pt x="786" y="872"/>
                  </a:lnTo>
                  <a:lnTo>
                    <a:pt x="781" y="872"/>
                  </a:lnTo>
                  <a:lnTo>
                    <a:pt x="781" y="883"/>
                  </a:lnTo>
                  <a:lnTo>
                    <a:pt x="774" y="883"/>
                  </a:lnTo>
                  <a:lnTo>
                    <a:pt x="774" y="894"/>
                  </a:lnTo>
                  <a:lnTo>
                    <a:pt x="769" y="894"/>
                  </a:lnTo>
                  <a:lnTo>
                    <a:pt x="769" y="900"/>
                  </a:lnTo>
                  <a:lnTo>
                    <a:pt x="764" y="900"/>
                  </a:lnTo>
                  <a:lnTo>
                    <a:pt x="764" y="905"/>
                  </a:lnTo>
                  <a:lnTo>
                    <a:pt x="757" y="905"/>
                  </a:lnTo>
                  <a:lnTo>
                    <a:pt x="757" y="911"/>
                  </a:lnTo>
                  <a:lnTo>
                    <a:pt x="752" y="911"/>
                  </a:lnTo>
                  <a:lnTo>
                    <a:pt x="752" y="945"/>
                  </a:lnTo>
                  <a:lnTo>
                    <a:pt x="746" y="945"/>
                  </a:lnTo>
                  <a:lnTo>
                    <a:pt x="746" y="951"/>
                  </a:lnTo>
                  <a:lnTo>
                    <a:pt x="741" y="951"/>
                  </a:lnTo>
                  <a:lnTo>
                    <a:pt x="741" y="957"/>
                  </a:lnTo>
                  <a:lnTo>
                    <a:pt x="735" y="957"/>
                  </a:lnTo>
                  <a:lnTo>
                    <a:pt x="735" y="967"/>
                  </a:lnTo>
                  <a:lnTo>
                    <a:pt x="729" y="967"/>
                  </a:lnTo>
                  <a:lnTo>
                    <a:pt x="729" y="985"/>
                  </a:lnTo>
                  <a:lnTo>
                    <a:pt x="724" y="985"/>
                  </a:lnTo>
                  <a:lnTo>
                    <a:pt x="724" y="991"/>
                  </a:lnTo>
                  <a:lnTo>
                    <a:pt x="717" y="991"/>
                  </a:lnTo>
                  <a:lnTo>
                    <a:pt x="717" y="1008"/>
                  </a:lnTo>
                  <a:lnTo>
                    <a:pt x="712" y="1008"/>
                  </a:lnTo>
                  <a:lnTo>
                    <a:pt x="712" y="1019"/>
                  </a:lnTo>
                  <a:lnTo>
                    <a:pt x="707" y="1019"/>
                  </a:lnTo>
                  <a:lnTo>
                    <a:pt x="707" y="1031"/>
                  </a:lnTo>
                  <a:lnTo>
                    <a:pt x="700" y="1031"/>
                  </a:lnTo>
                  <a:lnTo>
                    <a:pt x="700" y="1048"/>
                  </a:lnTo>
                  <a:lnTo>
                    <a:pt x="695" y="1048"/>
                  </a:lnTo>
                  <a:lnTo>
                    <a:pt x="695" y="1059"/>
                  </a:lnTo>
                  <a:lnTo>
                    <a:pt x="689" y="1059"/>
                  </a:lnTo>
                  <a:lnTo>
                    <a:pt x="689" y="1065"/>
                  </a:lnTo>
                  <a:lnTo>
                    <a:pt x="683" y="1065"/>
                  </a:lnTo>
                  <a:lnTo>
                    <a:pt x="683" y="1071"/>
                  </a:lnTo>
                  <a:lnTo>
                    <a:pt x="678" y="1071"/>
                  </a:lnTo>
                  <a:lnTo>
                    <a:pt x="678" y="1076"/>
                  </a:lnTo>
                  <a:lnTo>
                    <a:pt x="672" y="1076"/>
                  </a:lnTo>
                  <a:lnTo>
                    <a:pt x="672" y="1088"/>
                  </a:lnTo>
                  <a:lnTo>
                    <a:pt x="667" y="1088"/>
                  </a:lnTo>
                  <a:lnTo>
                    <a:pt x="667" y="1093"/>
                  </a:lnTo>
                  <a:lnTo>
                    <a:pt x="660" y="1093"/>
                  </a:lnTo>
                  <a:lnTo>
                    <a:pt x="660" y="1105"/>
                  </a:lnTo>
                  <a:lnTo>
                    <a:pt x="655" y="1105"/>
                  </a:lnTo>
                  <a:lnTo>
                    <a:pt x="655" y="1116"/>
                  </a:lnTo>
                  <a:lnTo>
                    <a:pt x="650" y="1116"/>
                  </a:lnTo>
                  <a:lnTo>
                    <a:pt x="650" y="1122"/>
                  </a:lnTo>
                  <a:lnTo>
                    <a:pt x="643" y="1122"/>
                  </a:lnTo>
                  <a:lnTo>
                    <a:pt x="643" y="1128"/>
                  </a:lnTo>
                  <a:lnTo>
                    <a:pt x="638" y="1128"/>
                  </a:lnTo>
                  <a:lnTo>
                    <a:pt x="638" y="1133"/>
                  </a:lnTo>
                  <a:lnTo>
                    <a:pt x="632" y="1133"/>
                  </a:lnTo>
                  <a:lnTo>
                    <a:pt x="632" y="1138"/>
                  </a:lnTo>
                  <a:lnTo>
                    <a:pt x="626" y="1138"/>
                  </a:lnTo>
                  <a:lnTo>
                    <a:pt x="626" y="1145"/>
                  </a:lnTo>
                  <a:lnTo>
                    <a:pt x="621" y="1145"/>
                  </a:lnTo>
                  <a:lnTo>
                    <a:pt x="621" y="1150"/>
                  </a:lnTo>
                  <a:lnTo>
                    <a:pt x="615" y="1150"/>
                  </a:lnTo>
                  <a:lnTo>
                    <a:pt x="615" y="1156"/>
                  </a:lnTo>
                  <a:lnTo>
                    <a:pt x="610" y="1156"/>
                  </a:lnTo>
                  <a:lnTo>
                    <a:pt x="610" y="1162"/>
                  </a:lnTo>
                  <a:lnTo>
                    <a:pt x="593" y="1162"/>
                  </a:lnTo>
                  <a:lnTo>
                    <a:pt x="593" y="1167"/>
                  </a:lnTo>
                  <a:lnTo>
                    <a:pt x="586" y="1167"/>
                  </a:lnTo>
                  <a:lnTo>
                    <a:pt x="586" y="1173"/>
                  </a:lnTo>
                  <a:lnTo>
                    <a:pt x="581" y="1173"/>
                  </a:lnTo>
                  <a:lnTo>
                    <a:pt x="581" y="1179"/>
                  </a:lnTo>
                  <a:lnTo>
                    <a:pt x="541" y="1179"/>
                  </a:lnTo>
                  <a:lnTo>
                    <a:pt x="541" y="1173"/>
                  </a:lnTo>
                  <a:lnTo>
                    <a:pt x="529" y="1173"/>
                  </a:lnTo>
                  <a:lnTo>
                    <a:pt x="529" y="1167"/>
                  </a:lnTo>
                  <a:lnTo>
                    <a:pt x="507" y="1167"/>
                  </a:lnTo>
                  <a:lnTo>
                    <a:pt x="507" y="1162"/>
                  </a:lnTo>
                  <a:lnTo>
                    <a:pt x="496" y="1162"/>
                  </a:lnTo>
                  <a:lnTo>
                    <a:pt x="496" y="1156"/>
                  </a:lnTo>
                  <a:lnTo>
                    <a:pt x="490" y="1156"/>
                  </a:lnTo>
                  <a:lnTo>
                    <a:pt x="490" y="1150"/>
                  </a:lnTo>
                  <a:lnTo>
                    <a:pt x="479" y="1150"/>
                  </a:lnTo>
                  <a:lnTo>
                    <a:pt x="479" y="1145"/>
                  </a:lnTo>
                  <a:lnTo>
                    <a:pt x="472" y="1145"/>
                  </a:lnTo>
                  <a:lnTo>
                    <a:pt x="472" y="1138"/>
                  </a:lnTo>
                  <a:lnTo>
                    <a:pt x="467" y="1138"/>
                  </a:lnTo>
                  <a:lnTo>
                    <a:pt x="467" y="1133"/>
                  </a:lnTo>
                  <a:lnTo>
                    <a:pt x="462" y="1133"/>
                  </a:lnTo>
                  <a:lnTo>
                    <a:pt x="462" y="1128"/>
                  </a:lnTo>
                  <a:lnTo>
                    <a:pt x="455" y="1128"/>
                  </a:lnTo>
                  <a:lnTo>
                    <a:pt x="455" y="1116"/>
                  </a:lnTo>
                  <a:lnTo>
                    <a:pt x="450" y="1116"/>
                  </a:lnTo>
                  <a:lnTo>
                    <a:pt x="450" y="1110"/>
                  </a:lnTo>
                  <a:lnTo>
                    <a:pt x="444" y="1110"/>
                  </a:lnTo>
                  <a:lnTo>
                    <a:pt x="444" y="1099"/>
                  </a:lnTo>
                  <a:lnTo>
                    <a:pt x="439" y="1099"/>
                  </a:lnTo>
                  <a:lnTo>
                    <a:pt x="439" y="1093"/>
                  </a:lnTo>
                  <a:lnTo>
                    <a:pt x="433" y="1093"/>
                  </a:lnTo>
                  <a:lnTo>
                    <a:pt x="433" y="1081"/>
                  </a:lnTo>
                  <a:lnTo>
                    <a:pt x="427" y="1081"/>
                  </a:lnTo>
                  <a:lnTo>
                    <a:pt x="427" y="1076"/>
                  </a:lnTo>
                  <a:lnTo>
                    <a:pt x="422" y="1076"/>
                  </a:lnTo>
                  <a:lnTo>
                    <a:pt x="422" y="1059"/>
                  </a:lnTo>
                  <a:lnTo>
                    <a:pt x="415" y="1059"/>
                  </a:lnTo>
                  <a:lnTo>
                    <a:pt x="415" y="1053"/>
                  </a:lnTo>
                  <a:lnTo>
                    <a:pt x="410" y="1053"/>
                  </a:lnTo>
                  <a:lnTo>
                    <a:pt x="410" y="1042"/>
                  </a:lnTo>
                  <a:lnTo>
                    <a:pt x="405" y="1042"/>
                  </a:lnTo>
                  <a:lnTo>
                    <a:pt x="405" y="1031"/>
                  </a:lnTo>
                  <a:lnTo>
                    <a:pt x="398" y="1031"/>
                  </a:lnTo>
                  <a:lnTo>
                    <a:pt x="398" y="1024"/>
                  </a:lnTo>
                  <a:lnTo>
                    <a:pt x="393" y="1024"/>
                  </a:lnTo>
                  <a:lnTo>
                    <a:pt x="393" y="1019"/>
                  </a:lnTo>
                  <a:lnTo>
                    <a:pt x="387" y="1019"/>
                  </a:lnTo>
                  <a:lnTo>
                    <a:pt x="387" y="1002"/>
                  </a:lnTo>
                  <a:lnTo>
                    <a:pt x="382" y="1002"/>
                  </a:lnTo>
                  <a:lnTo>
                    <a:pt x="382" y="997"/>
                  </a:lnTo>
                  <a:lnTo>
                    <a:pt x="377" y="997"/>
                  </a:lnTo>
                  <a:lnTo>
                    <a:pt x="377" y="974"/>
                  </a:lnTo>
                  <a:lnTo>
                    <a:pt x="370" y="974"/>
                  </a:lnTo>
                  <a:lnTo>
                    <a:pt x="370" y="967"/>
                  </a:lnTo>
                  <a:lnTo>
                    <a:pt x="365" y="967"/>
                  </a:lnTo>
                  <a:lnTo>
                    <a:pt x="365" y="957"/>
                  </a:lnTo>
                  <a:lnTo>
                    <a:pt x="359" y="957"/>
                  </a:lnTo>
                  <a:lnTo>
                    <a:pt x="359" y="951"/>
                  </a:lnTo>
                  <a:lnTo>
                    <a:pt x="199" y="951"/>
                  </a:lnTo>
                  <a:lnTo>
                    <a:pt x="199" y="957"/>
                  </a:lnTo>
                  <a:lnTo>
                    <a:pt x="97" y="957"/>
                  </a:lnTo>
                  <a:lnTo>
                    <a:pt x="97" y="962"/>
                  </a:lnTo>
                  <a:lnTo>
                    <a:pt x="85" y="962"/>
                  </a:lnTo>
                  <a:lnTo>
                    <a:pt x="85" y="1002"/>
                  </a:lnTo>
                  <a:lnTo>
                    <a:pt x="92" y="1002"/>
                  </a:lnTo>
                  <a:lnTo>
                    <a:pt x="92" y="1024"/>
                  </a:lnTo>
                  <a:lnTo>
                    <a:pt x="97" y="1024"/>
                  </a:lnTo>
                  <a:lnTo>
                    <a:pt x="97" y="1053"/>
                  </a:lnTo>
                  <a:lnTo>
                    <a:pt x="103" y="1053"/>
                  </a:lnTo>
                  <a:lnTo>
                    <a:pt x="103" y="1076"/>
                  </a:lnTo>
                  <a:lnTo>
                    <a:pt x="108" y="1076"/>
                  </a:lnTo>
                  <a:lnTo>
                    <a:pt x="108" y="1088"/>
                  </a:lnTo>
                  <a:lnTo>
                    <a:pt x="114" y="1088"/>
                  </a:lnTo>
                  <a:lnTo>
                    <a:pt x="114" y="1099"/>
                  </a:lnTo>
                  <a:lnTo>
                    <a:pt x="120" y="1099"/>
                  </a:lnTo>
                  <a:lnTo>
                    <a:pt x="120" y="1105"/>
                  </a:lnTo>
                  <a:lnTo>
                    <a:pt x="125" y="1105"/>
                  </a:lnTo>
                  <a:lnTo>
                    <a:pt x="125" y="1116"/>
                  </a:lnTo>
                  <a:lnTo>
                    <a:pt x="132" y="1116"/>
                  </a:lnTo>
                  <a:lnTo>
                    <a:pt x="132" y="1122"/>
                  </a:lnTo>
                  <a:lnTo>
                    <a:pt x="137" y="1122"/>
                  </a:lnTo>
                  <a:lnTo>
                    <a:pt x="137" y="1133"/>
                  </a:lnTo>
                  <a:lnTo>
                    <a:pt x="142" y="1133"/>
                  </a:lnTo>
                  <a:lnTo>
                    <a:pt x="142" y="1145"/>
                  </a:lnTo>
                  <a:lnTo>
                    <a:pt x="149" y="1145"/>
                  </a:lnTo>
                  <a:lnTo>
                    <a:pt x="149" y="1156"/>
                  </a:lnTo>
                  <a:lnTo>
                    <a:pt x="154" y="1156"/>
                  </a:lnTo>
                  <a:lnTo>
                    <a:pt x="154" y="1173"/>
                  </a:lnTo>
                  <a:lnTo>
                    <a:pt x="160" y="1173"/>
                  </a:lnTo>
                  <a:lnTo>
                    <a:pt x="160" y="1185"/>
                  </a:lnTo>
                  <a:lnTo>
                    <a:pt x="165" y="1185"/>
                  </a:lnTo>
                  <a:lnTo>
                    <a:pt x="165" y="1190"/>
                  </a:lnTo>
                  <a:lnTo>
                    <a:pt x="171" y="1190"/>
                  </a:lnTo>
                  <a:lnTo>
                    <a:pt x="171" y="1195"/>
                  </a:lnTo>
                  <a:lnTo>
                    <a:pt x="177" y="1195"/>
                  </a:lnTo>
                  <a:lnTo>
                    <a:pt x="177" y="1202"/>
                  </a:lnTo>
                  <a:lnTo>
                    <a:pt x="182" y="1202"/>
                  </a:lnTo>
                  <a:lnTo>
                    <a:pt x="182" y="1212"/>
                  </a:lnTo>
                  <a:lnTo>
                    <a:pt x="189" y="1212"/>
                  </a:lnTo>
                  <a:lnTo>
                    <a:pt x="189" y="1224"/>
                  </a:lnTo>
                  <a:lnTo>
                    <a:pt x="194" y="1224"/>
                  </a:lnTo>
                  <a:lnTo>
                    <a:pt x="194" y="1230"/>
                  </a:lnTo>
                  <a:lnTo>
                    <a:pt x="199" y="1230"/>
                  </a:lnTo>
                  <a:lnTo>
                    <a:pt x="199" y="1236"/>
                  </a:lnTo>
                  <a:lnTo>
                    <a:pt x="206" y="1236"/>
                  </a:lnTo>
                  <a:lnTo>
                    <a:pt x="206" y="1247"/>
                  </a:lnTo>
                  <a:lnTo>
                    <a:pt x="211" y="1247"/>
                  </a:lnTo>
                  <a:lnTo>
                    <a:pt x="211" y="1253"/>
                  </a:lnTo>
                  <a:lnTo>
                    <a:pt x="217" y="1253"/>
                  </a:lnTo>
                  <a:lnTo>
                    <a:pt x="217" y="1259"/>
                  </a:lnTo>
                  <a:lnTo>
                    <a:pt x="222" y="1259"/>
                  </a:lnTo>
                  <a:lnTo>
                    <a:pt x="222" y="1264"/>
                  </a:lnTo>
                  <a:lnTo>
                    <a:pt x="228" y="1264"/>
                  </a:lnTo>
                  <a:lnTo>
                    <a:pt x="228" y="1269"/>
                  </a:lnTo>
                  <a:lnTo>
                    <a:pt x="234" y="1269"/>
                  </a:lnTo>
                  <a:lnTo>
                    <a:pt x="234" y="1276"/>
                  </a:lnTo>
                  <a:lnTo>
                    <a:pt x="239" y="1276"/>
                  </a:lnTo>
                  <a:lnTo>
                    <a:pt x="239" y="1281"/>
                  </a:lnTo>
                  <a:lnTo>
                    <a:pt x="246" y="1281"/>
                  </a:lnTo>
                  <a:lnTo>
                    <a:pt x="246" y="1292"/>
                  </a:lnTo>
                  <a:lnTo>
                    <a:pt x="251" y="1292"/>
                  </a:lnTo>
                  <a:lnTo>
                    <a:pt x="251" y="1298"/>
                  </a:lnTo>
                  <a:lnTo>
                    <a:pt x="256" y="1298"/>
                  </a:lnTo>
                  <a:lnTo>
                    <a:pt x="256" y="1309"/>
                  </a:lnTo>
                  <a:lnTo>
                    <a:pt x="263" y="1309"/>
                  </a:lnTo>
                  <a:lnTo>
                    <a:pt x="263" y="1315"/>
                  </a:lnTo>
                  <a:lnTo>
                    <a:pt x="268" y="1315"/>
                  </a:lnTo>
                  <a:lnTo>
                    <a:pt x="268" y="1321"/>
                  </a:lnTo>
                  <a:lnTo>
                    <a:pt x="273" y="1321"/>
                  </a:lnTo>
                  <a:lnTo>
                    <a:pt x="273" y="1332"/>
                  </a:lnTo>
                  <a:lnTo>
                    <a:pt x="285" y="1332"/>
                  </a:lnTo>
                  <a:lnTo>
                    <a:pt x="285" y="1338"/>
                  </a:lnTo>
                  <a:lnTo>
                    <a:pt x="291" y="1338"/>
                  </a:lnTo>
                  <a:lnTo>
                    <a:pt x="291" y="1344"/>
                  </a:lnTo>
                  <a:lnTo>
                    <a:pt x="296" y="1344"/>
                  </a:lnTo>
                  <a:lnTo>
                    <a:pt x="296" y="1355"/>
                  </a:lnTo>
                  <a:lnTo>
                    <a:pt x="302" y="1355"/>
                  </a:lnTo>
                  <a:lnTo>
                    <a:pt x="302" y="1361"/>
                  </a:lnTo>
                  <a:lnTo>
                    <a:pt x="313" y="1361"/>
                  </a:lnTo>
                  <a:lnTo>
                    <a:pt x="313" y="1366"/>
                  </a:lnTo>
                  <a:lnTo>
                    <a:pt x="320" y="1366"/>
                  </a:lnTo>
                  <a:lnTo>
                    <a:pt x="320" y="1378"/>
                  </a:lnTo>
                  <a:lnTo>
                    <a:pt x="325" y="1378"/>
                  </a:lnTo>
                  <a:lnTo>
                    <a:pt x="325" y="1383"/>
                  </a:lnTo>
                  <a:lnTo>
                    <a:pt x="330" y="1383"/>
                  </a:lnTo>
                  <a:lnTo>
                    <a:pt x="330" y="1389"/>
                  </a:lnTo>
                  <a:lnTo>
                    <a:pt x="336" y="1389"/>
                  </a:lnTo>
                  <a:lnTo>
                    <a:pt x="336" y="1395"/>
                  </a:lnTo>
                  <a:lnTo>
                    <a:pt x="342" y="1395"/>
                  </a:lnTo>
                  <a:lnTo>
                    <a:pt x="342" y="1401"/>
                  </a:lnTo>
                  <a:lnTo>
                    <a:pt x="348" y="1401"/>
                  </a:lnTo>
                  <a:lnTo>
                    <a:pt x="348" y="1406"/>
                  </a:lnTo>
                  <a:lnTo>
                    <a:pt x="353" y="1406"/>
                  </a:lnTo>
                  <a:lnTo>
                    <a:pt x="353" y="1418"/>
                  </a:lnTo>
                  <a:lnTo>
                    <a:pt x="359" y="1418"/>
                  </a:lnTo>
                  <a:lnTo>
                    <a:pt x="359" y="1423"/>
                  </a:lnTo>
                  <a:lnTo>
                    <a:pt x="365" y="1423"/>
                  </a:lnTo>
                  <a:lnTo>
                    <a:pt x="365" y="1428"/>
                  </a:lnTo>
                  <a:lnTo>
                    <a:pt x="370" y="1428"/>
                  </a:lnTo>
                  <a:lnTo>
                    <a:pt x="370" y="1435"/>
                  </a:lnTo>
                  <a:lnTo>
                    <a:pt x="377" y="1435"/>
                  </a:lnTo>
                  <a:lnTo>
                    <a:pt x="377" y="1440"/>
                  </a:lnTo>
                  <a:lnTo>
                    <a:pt x="382" y="1440"/>
                  </a:lnTo>
                  <a:lnTo>
                    <a:pt x="382" y="1452"/>
                  </a:lnTo>
                  <a:lnTo>
                    <a:pt x="387" y="1452"/>
                  </a:lnTo>
                  <a:lnTo>
                    <a:pt x="387" y="1457"/>
                  </a:lnTo>
                  <a:lnTo>
                    <a:pt x="398" y="1457"/>
                  </a:lnTo>
                  <a:lnTo>
                    <a:pt x="398" y="1463"/>
                  </a:lnTo>
                  <a:lnTo>
                    <a:pt x="405" y="1463"/>
                  </a:lnTo>
                  <a:lnTo>
                    <a:pt x="405" y="1469"/>
                  </a:lnTo>
                  <a:lnTo>
                    <a:pt x="410" y="1469"/>
                  </a:lnTo>
                  <a:lnTo>
                    <a:pt x="410" y="1475"/>
                  </a:lnTo>
                  <a:lnTo>
                    <a:pt x="415" y="1475"/>
                  </a:lnTo>
                  <a:lnTo>
                    <a:pt x="415" y="1485"/>
                  </a:lnTo>
                  <a:lnTo>
                    <a:pt x="422" y="1485"/>
                  </a:lnTo>
                  <a:lnTo>
                    <a:pt x="422" y="1492"/>
                  </a:lnTo>
                  <a:lnTo>
                    <a:pt x="427" y="1492"/>
                  </a:lnTo>
                  <a:lnTo>
                    <a:pt x="427" y="1509"/>
                  </a:lnTo>
                  <a:lnTo>
                    <a:pt x="433" y="1509"/>
                  </a:lnTo>
                  <a:lnTo>
                    <a:pt x="433" y="1514"/>
                  </a:lnTo>
                  <a:lnTo>
                    <a:pt x="439" y="1514"/>
                  </a:lnTo>
                  <a:lnTo>
                    <a:pt x="439" y="1520"/>
                  </a:lnTo>
                  <a:lnTo>
                    <a:pt x="444" y="1520"/>
                  </a:lnTo>
                  <a:lnTo>
                    <a:pt x="444" y="1532"/>
                  </a:lnTo>
                  <a:lnTo>
                    <a:pt x="450" y="1532"/>
                  </a:lnTo>
                  <a:lnTo>
                    <a:pt x="450" y="1537"/>
                  </a:lnTo>
                  <a:lnTo>
                    <a:pt x="455" y="1537"/>
                  </a:lnTo>
                  <a:lnTo>
                    <a:pt x="455" y="1549"/>
                  </a:lnTo>
                  <a:lnTo>
                    <a:pt x="462" y="1549"/>
                  </a:lnTo>
                  <a:lnTo>
                    <a:pt x="462" y="1560"/>
                  </a:lnTo>
                  <a:lnTo>
                    <a:pt x="472" y="1560"/>
                  </a:lnTo>
                  <a:lnTo>
                    <a:pt x="472" y="1566"/>
                  </a:lnTo>
                  <a:lnTo>
                    <a:pt x="479" y="1566"/>
                  </a:lnTo>
                  <a:lnTo>
                    <a:pt x="479" y="1571"/>
                  </a:lnTo>
                  <a:lnTo>
                    <a:pt x="490" y="1571"/>
                  </a:lnTo>
                  <a:lnTo>
                    <a:pt x="490" y="1577"/>
                  </a:lnTo>
                  <a:lnTo>
                    <a:pt x="496" y="1577"/>
                  </a:lnTo>
                  <a:lnTo>
                    <a:pt x="496" y="1583"/>
                  </a:lnTo>
                  <a:lnTo>
                    <a:pt x="501" y="1583"/>
                  </a:lnTo>
                  <a:lnTo>
                    <a:pt x="501" y="1589"/>
                  </a:lnTo>
                  <a:lnTo>
                    <a:pt x="507" y="1589"/>
                  </a:lnTo>
                  <a:lnTo>
                    <a:pt x="507" y="1594"/>
                  </a:lnTo>
                  <a:lnTo>
                    <a:pt x="512" y="1594"/>
                  </a:lnTo>
                  <a:lnTo>
                    <a:pt x="512" y="1600"/>
                  </a:lnTo>
                  <a:lnTo>
                    <a:pt x="519" y="1600"/>
                  </a:lnTo>
                  <a:lnTo>
                    <a:pt x="519" y="1606"/>
                  </a:lnTo>
                  <a:lnTo>
                    <a:pt x="524" y="1606"/>
                  </a:lnTo>
                  <a:lnTo>
                    <a:pt x="524" y="1611"/>
                  </a:lnTo>
                  <a:lnTo>
                    <a:pt x="536" y="1611"/>
                  </a:lnTo>
                  <a:lnTo>
                    <a:pt x="536" y="1616"/>
                  </a:lnTo>
                  <a:lnTo>
                    <a:pt x="541" y="1616"/>
                  </a:lnTo>
                  <a:lnTo>
                    <a:pt x="541" y="1623"/>
                  </a:lnTo>
                  <a:lnTo>
                    <a:pt x="546" y="1623"/>
                  </a:lnTo>
                  <a:lnTo>
                    <a:pt x="546" y="1628"/>
                  </a:lnTo>
                  <a:lnTo>
                    <a:pt x="553" y="1628"/>
                  </a:lnTo>
                  <a:lnTo>
                    <a:pt x="553" y="1634"/>
                  </a:lnTo>
                  <a:lnTo>
                    <a:pt x="558" y="1634"/>
                  </a:lnTo>
                  <a:lnTo>
                    <a:pt x="558" y="1640"/>
                  </a:lnTo>
                  <a:lnTo>
                    <a:pt x="569" y="1640"/>
                  </a:lnTo>
                  <a:lnTo>
                    <a:pt x="569" y="1646"/>
                  </a:lnTo>
                  <a:lnTo>
                    <a:pt x="576" y="1646"/>
                  </a:lnTo>
                  <a:lnTo>
                    <a:pt x="576" y="1651"/>
                  </a:lnTo>
                  <a:lnTo>
                    <a:pt x="581" y="1651"/>
                  </a:lnTo>
                  <a:lnTo>
                    <a:pt x="581" y="1663"/>
                  </a:lnTo>
                  <a:lnTo>
                    <a:pt x="586" y="1663"/>
                  </a:lnTo>
                  <a:lnTo>
                    <a:pt x="586" y="1668"/>
                  </a:lnTo>
                  <a:lnTo>
                    <a:pt x="598" y="1668"/>
                  </a:lnTo>
                  <a:lnTo>
                    <a:pt x="598" y="1673"/>
                  </a:lnTo>
                  <a:lnTo>
                    <a:pt x="603" y="1673"/>
                  </a:lnTo>
                  <a:lnTo>
                    <a:pt x="603" y="1680"/>
                  </a:lnTo>
                  <a:lnTo>
                    <a:pt x="610" y="1680"/>
                  </a:lnTo>
                  <a:lnTo>
                    <a:pt x="610" y="1685"/>
                  </a:lnTo>
                  <a:lnTo>
                    <a:pt x="615" y="1685"/>
                  </a:lnTo>
                  <a:lnTo>
                    <a:pt x="615" y="1691"/>
                  </a:lnTo>
                  <a:lnTo>
                    <a:pt x="632" y="1691"/>
                  </a:lnTo>
                  <a:lnTo>
                    <a:pt x="632" y="1708"/>
                  </a:lnTo>
                  <a:lnTo>
                    <a:pt x="638" y="1708"/>
                  </a:lnTo>
                  <a:lnTo>
                    <a:pt x="638" y="1713"/>
                  </a:lnTo>
                  <a:lnTo>
                    <a:pt x="650" y="1713"/>
                  </a:lnTo>
                  <a:lnTo>
                    <a:pt x="650" y="1708"/>
                  </a:lnTo>
                  <a:lnTo>
                    <a:pt x="660" y="1708"/>
                  </a:lnTo>
                  <a:lnTo>
                    <a:pt x="660" y="1702"/>
                  </a:lnTo>
                  <a:lnTo>
                    <a:pt x="667" y="1702"/>
                  </a:lnTo>
                  <a:lnTo>
                    <a:pt x="667" y="1696"/>
                  </a:lnTo>
                  <a:lnTo>
                    <a:pt x="672" y="1696"/>
                  </a:lnTo>
                  <a:lnTo>
                    <a:pt x="672" y="1685"/>
                  </a:lnTo>
                  <a:lnTo>
                    <a:pt x="678" y="1685"/>
                  </a:lnTo>
                  <a:lnTo>
                    <a:pt x="678" y="1680"/>
                  </a:lnTo>
                  <a:lnTo>
                    <a:pt x="683" y="1680"/>
                  </a:lnTo>
                  <a:lnTo>
                    <a:pt x="683" y="1673"/>
                  </a:lnTo>
                  <a:lnTo>
                    <a:pt x="689" y="1673"/>
                  </a:lnTo>
                  <a:lnTo>
                    <a:pt x="689" y="1668"/>
                  </a:lnTo>
                  <a:lnTo>
                    <a:pt x="695" y="1668"/>
                  </a:lnTo>
                  <a:lnTo>
                    <a:pt x="695" y="1663"/>
                  </a:lnTo>
                  <a:lnTo>
                    <a:pt x="707" y="1663"/>
                  </a:lnTo>
                  <a:lnTo>
                    <a:pt x="707" y="1657"/>
                  </a:lnTo>
                  <a:lnTo>
                    <a:pt x="712" y="1657"/>
                  </a:lnTo>
                  <a:lnTo>
                    <a:pt x="712" y="1651"/>
                  </a:lnTo>
                  <a:lnTo>
                    <a:pt x="717" y="1651"/>
                  </a:lnTo>
                  <a:lnTo>
                    <a:pt x="717" y="1646"/>
                  </a:lnTo>
                  <a:lnTo>
                    <a:pt x="724" y="1646"/>
                  </a:lnTo>
                  <a:lnTo>
                    <a:pt x="724" y="1640"/>
                  </a:lnTo>
                  <a:lnTo>
                    <a:pt x="729" y="1640"/>
                  </a:lnTo>
                  <a:lnTo>
                    <a:pt x="729" y="1634"/>
                  </a:lnTo>
                  <a:lnTo>
                    <a:pt x="735" y="1634"/>
                  </a:lnTo>
                  <a:lnTo>
                    <a:pt x="735" y="1628"/>
                  </a:lnTo>
                  <a:lnTo>
                    <a:pt x="741" y="1628"/>
                  </a:lnTo>
                  <a:lnTo>
                    <a:pt x="741" y="1616"/>
                  </a:lnTo>
                  <a:lnTo>
                    <a:pt x="746" y="1616"/>
                  </a:lnTo>
                  <a:lnTo>
                    <a:pt x="746" y="1611"/>
                  </a:lnTo>
                  <a:lnTo>
                    <a:pt x="752" y="1611"/>
                  </a:lnTo>
                  <a:lnTo>
                    <a:pt x="752" y="1606"/>
                  </a:lnTo>
                  <a:lnTo>
                    <a:pt x="757" y="1606"/>
                  </a:lnTo>
                  <a:lnTo>
                    <a:pt x="757" y="1600"/>
                  </a:lnTo>
                  <a:lnTo>
                    <a:pt x="764" y="1600"/>
                  </a:lnTo>
                  <a:lnTo>
                    <a:pt x="764" y="1594"/>
                  </a:lnTo>
                  <a:lnTo>
                    <a:pt x="774" y="1594"/>
                  </a:lnTo>
                  <a:lnTo>
                    <a:pt x="774" y="1589"/>
                  </a:lnTo>
                  <a:lnTo>
                    <a:pt x="786" y="1589"/>
                  </a:lnTo>
                  <a:lnTo>
                    <a:pt x="786" y="1583"/>
                  </a:lnTo>
                  <a:lnTo>
                    <a:pt x="798" y="1583"/>
                  </a:lnTo>
                  <a:lnTo>
                    <a:pt x="798" y="1577"/>
                  </a:lnTo>
                  <a:lnTo>
                    <a:pt x="803" y="1577"/>
                  </a:lnTo>
                  <a:lnTo>
                    <a:pt x="803" y="1571"/>
                  </a:lnTo>
                  <a:lnTo>
                    <a:pt x="809" y="1571"/>
                  </a:lnTo>
                  <a:lnTo>
                    <a:pt x="809" y="1566"/>
                  </a:lnTo>
                  <a:lnTo>
                    <a:pt x="814" y="1566"/>
                  </a:lnTo>
                  <a:lnTo>
                    <a:pt x="814" y="1560"/>
                  </a:lnTo>
                  <a:lnTo>
                    <a:pt x="819" y="1560"/>
                  </a:lnTo>
                  <a:lnTo>
                    <a:pt x="819" y="1554"/>
                  </a:lnTo>
                  <a:lnTo>
                    <a:pt x="831" y="1554"/>
                  </a:lnTo>
                  <a:lnTo>
                    <a:pt x="831" y="1549"/>
                  </a:lnTo>
                  <a:lnTo>
                    <a:pt x="837" y="1549"/>
                  </a:lnTo>
                  <a:lnTo>
                    <a:pt x="837" y="1542"/>
                  </a:lnTo>
                  <a:lnTo>
                    <a:pt x="843" y="1542"/>
                  </a:lnTo>
                  <a:lnTo>
                    <a:pt x="843" y="1537"/>
                  </a:lnTo>
                  <a:lnTo>
                    <a:pt x="849" y="1537"/>
                  </a:lnTo>
                  <a:lnTo>
                    <a:pt x="849" y="1526"/>
                  </a:lnTo>
                  <a:lnTo>
                    <a:pt x="854" y="1526"/>
                  </a:lnTo>
                  <a:lnTo>
                    <a:pt x="854" y="1520"/>
                  </a:lnTo>
                  <a:lnTo>
                    <a:pt x="859" y="1520"/>
                  </a:lnTo>
                  <a:lnTo>
                    <a:pt x="859" y="1514"/>
                  </a:lnTo>
                  <a:lnTo>
                    <a:pt x="866" y="1514"/>
                  </a:lnTo>
                  <a:lnTo>
                    <a:pt x="866" y="1509"/>
                  </a:lnTo>
                  <a:lnTo>
                    <a:pt x="871" y="1509"/>
                  </a:lnTo>
                  <a:lnTo>
                    <a:pt x="871" y="1503"/>
                  </a:lnTo>
                  <a:lnTo>
                    <a:pt x="876" y="1503"/>
                  </a:lnTo>
                  <a:lnTo>
                    <a:pt x="876" y="1497"/>
                  </a:lnTo>
                  <a:lnTo>
                    <a:pt x="883" y="1497"/>
                  </a:lnTo>
                  <a:lnTo>
                    <a:pt x="883" y="1492"/>
                  </a:lnTo>
                  <a:lnTo>
                    <a:pt x="888" y="1492"/>
                  </a:lnTo>
                  <a:lnTo>
                    <a:pt x="888" y="1485"/>
                  </a:lnTo>
                  <a:lnTo>
                    <a:pt x="911" y="1485"/>
                  </a:lnTo>
                  <a:lnTo>
                    <a:pt x="911" y="1509"/>
                  </a:lnTo>
                  <a:lnTo>
                    <a:pt x="905" y="1509"/>
                  </a:lnTo>
                  <a:lnTo>
                    <a:pt x="905" y="1514"/>
                  </a:lnTo>
                  <a:lnTo>
                    <a:pt x="894" y="1514"/>
                  </a:lnTo>
                  <a:lnTo>
                    <a:pt x="894" y="1520"/>
                  </a:lnTo>
                  <a:lnTo>
                    <a:pt x="888" y="1520"/>
                  </a:lnTo>
                  <a:lnTo>
                    <a:pt x="888" y="1526"/>
                  </a:lnTo>
                  <a:lnTo>
                    <a:pt x="883" y="1526"/>
                  </a:lnTo>
                  <a:lnTo>
                    <a:pt x="883" y="1537"/>
                  </a:lnTo>
                  <a:lnTo>
                    <a:pt x="876" y="1537"/>
                  </a:lnTo>
                  <a:lnTo>
                    <a:pt x="876" y="1549"/>
                  </a:lnTo>
                  <a:lnTo>
                    <a:pt x="871" y="1549"/>
                  </a:lnTo>
                  <a:lnTo>
                    <a:pt x="871" y="1560"/>
                  </a:lnTo>
                  <a:lnTo>
                    <a:pt x="866" y="1560"/>
                  </a:lnTo>
                  <a:lnTo>
                    <a:pt x="866" y="1566"/>
                  </a:lnTo>
                  <a:lnTo>
                    <a:pt x="859" y="1566"/>
                  </a:lnTo>
                  <a:lnTo>
                    <a:pt x="859" y="1571"/>
                  </a:lnTo>
                  <a:lnTo>
                    <a:pt x="854" y="1571"/>
                  </a:lnTo>
                  <a:lnTo>
                    <a:pt x="854" y="1577"/>
                  </a:lnTo>
                  <a:lnTo>
                    <a:pt x="849" y="1577"/>
                  </a:lnTo>
                  <a:lnTo>
                    <a:pt x="849" y="1583"/>
                  </a:lnTo>
                  <a:lnTo>
                    <a:pt x="843" y="1583"/>
                  </a:lnTo>
                  <a:lnTo>
                    <a:pt x="843" y="1589"/>
                  </a:lnTo>
                  <a:lnTo>
                    <a:pt x="837" y="1589"/>
                  </a:lnTo>
                  <a:lnTo>
                    <a:pt x="837" y="1594"/>
                  </a:lnTo>
                  <a:lnTo>
                    <a:pt x="831" y="1594"/>
                  </a:lnTo>
                  <a:lnTo>
                    <a:pt x="831" y="1600"/>
                  </a:lnTo>
                  <a:lnTo>
                    <a:pt x="826" y="1600"/>
                  </a:lnTo>
                  <a:lnTo>
                    <a:pt x="826" y="1606"/>
                  </a:lnTo>
                  <a:lnTo>
                    <a:pt x="819" y="1606"/>
                  </a:lnTo>
                  <a:lnTo>
                    <a:pt x="819" y="1611"/>
                  </a:lnTo>
                  <a:lnTo>
                    <a:pt x="814" y="1611"/>
                  </a:lnTo>
                  <a:lnTo>
                    <a:pt x="814" y="1616"/>
                  </a:lnTo>
                  <a:lnTo>
                    <a:pt x="809" y="1616"/>
                  </a:lnTo>
                  <a:lnTo>
                    <a:pt x="809" y="1623"/>
                  </a:lnTo>
                  <a:lnTo>
                    <a:pt x="803" y="1623"/>
                  </a:lnTo>
                  <a:lnTo>
                    <a:pt x="803" y="1628"/>
                  </a:lnTo>
                  <a:lnTo>
                    <a:pt x="798" y="1628"/>
                  </a:lnTo>
                  <a:lnTo>
                    <a:pt x="798" y="1634"/>
                  </a:lnTo>
                  <a:lnTo>
                    <a:pt x="786" y="1634"/>
                  </a:lnTo>
                  <a:lnTo>
                    <a:pt x="786" y="1640"/>
                  </a:lnTo>
                  <a:lnTo>
                    <a:pt x="781" y="1640"/>
                  </a:lnTo>
                  <a:lnTo>
                    <a:pt x="781" y="1646"/>
                  </a:lnTo>
                  <a:lnTo>
                    <a:pt x="774" y="1646"/>
                  </a:lnTo>
                  <a:lnTo>
                    <a:pt x="774" y="1651"/>
                  </a:lnTo>
                  <a:lnTo>
                    <a:pt x="769" y="1651"/>
                  </a:lnTo>
                  <a:lnTo>
                    <a:pt x="769" y="1657"/>
                  </a:lnTo>
                  <a:lnTo>
                    <a:pt x="764" y="1657"/>
                  </a:lnTo>
                  <a:lnTo>
                    <a:pt x="764" y="1663"/>
                  </a:lnTo>
                  <a:lnTo>
                    <a:pt x="757" y="1663"/>
                  </a:lnTo>
                  <a:lnTo>
                    <a:pt x="757" y="1668"/>
                  </a:lnTo>
                  <a:lnTo>
                    <a:pt x="752" y="1668"/>
                  </a:lnTo>
                  <a:lnTo>
                    <a:pt x="752" y="1673"/>
                  </a:lnTo>
                  <a:lnTo>
                    <a:pt x="746" y="1673"/>
                  </a:lnTo>
                  <a:lnTo>
                    <a:pt x="746" y="1680"/>
                  </a:lnTo>
                  <a:lnTo>
                    <a:pt x="741" y="1680"/>
                  </a:lnTo>
                  <a:lnTo>
                    <a:pt x="741" y="1685"/>
                  </a:lnTo>
                  <a:lnTo>
                    <a:pt x="735" y="1685"/>
                  </a:lnTo>
                  <a:lnTo>
                    <a:pt x="735" y="1691"/>
                  </a:lnTo>
                  <a:lnTo>
                    <a:pt x="729" y="1691"/>
                  </a:lnTo>
                  <a:lnTo>
                    <a:pt x="729" y="1696"/>
                  </a:lnTo>
                  <a:lnTo>
                    <a:pt x="724" y="1696"/>
                  </a:lnTo>
                  <a:lnTo>
                    <a:pt x="724" y="1702"/>
                  </a:lnTo>
                  <a:lnTo>
                    <a:pt x="717" y="1702"/>
                  </a:lnTo>
                  <a:lnTo>
                    <a:pt x="717" y="1708"/>
                  </a:lnTo>
                  <a:lnTo>
                    <a:pt x="712" y="1708"/>
                  </a:lnTo>
                  <a:lnTo>
                    <a:pt x="712" y="1713"/>
                  </a:lnTo>
                  <a:lnTo>
                    <a:pt x="700" y="1713"/>
                  </a:lnTo>
                  <a:lnTo>
                    <a:pt x="700" y="1719"/>
                  </a:lnTo>
                  <a:lnTo>
                    <a:pt x="695" y="1719"/>
                  </a:lnTo>
                  <a:lnTo>
                    <a:pt x="695" y="1725"/>
                  </a:lnTo>
                  <a:lnTo>
                    <a:pt x="689" y="1725"/>
                  </a:lnTo>
                  <a:lnTo>
                    <a:pt x="689" y="1730"/>
                  </a:lnTo>
                  <a:lnTo>
                    <a:pt x="683" y="1730"/>
                  </a:lnTo>
                  <a:lnTo>
                    <a:pt x="683" y="1736"/>
                  </a:lnTo>
                  <a:lnTo>
                    <a:pt x="678" y="1736"/>
                  </a:lnTo>
                  <a:lnTo>
                    <a:pt x="678" y="1742"/>
                  </a:lnTo>
                  <a:lnTo>
                    <a:pt x="667" y="1742"/>
                  </a:lnTo>
                  <a:lnTo>
                    <a:pt x="667" y="1748"/>
                  </a:lnTo>
                  <a:lnTo>
                    <a:pt x="660" y="1748"/>
                  </a:lnTo>
                  <a:lnTo>
                    <a:pt x="660" y="1765"/>
                  </a:lnTo>
                  <a:lnTo>
                    <a:pt x="655" y="1765"/>
                  </a:lnTo>
                  <a:lnTo>
                    <a:pt x="655" y="1770"/>
                  </a:lnTo>
                  <a:lnTo>
                    <a:pt x="632" y="1770"/>
                  </a:lnTo>
                  <a:lnTo>
                    <a:pt x="632" y="1759"/>
                  </a:lnTo>
                  <a:lnTo>
                    <a:pt x="621" y="1759"/>
                  </a:lnTo>
                  <a:lnTo>
                    <a:pt x="621" y="1748"/>
                  </a:lnTo>
                  <a:lnTo>
                    <a:pt x="615" y="1748"/>
                  </a:lnTo>
                  <a:lnTo>
                    <a:pt x="615" y="1736"/>
                  </a:lnTo>
                  <a:lnTo>
                    <a:pt x="610" y="1736"/>
                  </a:lnTo>
                  <a:lnTo>
                    <a:pt x="610" y="1725"/>
                  </a:lnTo>
                  <a:lnTo>
                    <a:pt x="603" y="1725"/>
                  </a:lnTo>
                  <a:lnTo>
                    <a:pt x="603" y="1719"/>
                  </a:lnTo>
                  <a:lnTo>
                    <a:pt x="598" y="1719"/>
                  </a:lnTo>
                  <a:lnTo>
                    <a:pt x="598" y="1713"/>
                  </a:lnTo>
                  <a:lnTo>
                    <a:pt x="593" y="1713"/>
                  </a:lnTo>
                  <a:lnTo>
                    <a:pt x="593" y="1708"/>
                  </a:lnTo>
                  <a:lnTo>
                    <a:pt x="581" y="1708"/>
                  </a:lnTo>
                  <a:lnTo>
                    <a:pt x="581" y="1725"/>
                  </a:lnTo>
                  <a:lnTo>
                    <a:pt x="586" y="1725"/>
                  </a:lnTo>
                  <a:lnTo>
                    <a:pt x="586" y="1736"/>
                  </a:lnTo>
                  <a:lnTo>
                    <a:pt x="593" y="1736"/>
                  </a:lnTo>
                  <a:lnTo>
                    <a:pt x="593" y="1748"/>
                  </a:lnTo>
                  <a:lnTo>
                    <a:pt x="603" y="1748"/>
                  </a:lnTo>
                  <a:lnTo>
                    <a:pt x="603" y="1759"/>
                  </a:lnTo>
                  <a:lnTo>
                    <a:pt x="610" y="1759"/>
                  </a:lnTo>
                  <a:lnTo>
                    <a:pt x="610" y="1765"/>
                  </a:lnTo>
                  <a:lnTo>
                    <a:pt x="615" y="1765"/>
                  </a:lnTo>
                  <a:lnTo>
                    <a:pt x="615" y="1770"/>
                  </a:lnTo>
                  <a:lnTo>
                    <a:pt x="621" y="1770"/>
                  </a:lnTo>
                  <a:lnTo>
                    <a:pt x="621" y="1787"/>
                  </a:lnTo>
                  <a:lnTo>
                    <a:pt x="626" y="1787"/>
                  </a:lnTo>
                  <a:lnTo>
                    <a:pt x="626" y="1805"/>
                  </a:lnTo>
                  <a:lnTo>
                    <a:pt x="615" y="18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2140920" y="180360"/>
              <a:ext cx="15480" cy="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1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2110320" y="95400"/>
              <a:ext cx="76680" cy="8640"/>
            </a:xfrm>
            <a:custGeom>
              <a:avLst/>
              <a:gdLst/>
              <a:ahLst/>
              <a:rect l="l" t="t" r="r" b="b"/>
              <a:pathLst>
                <a:path w="131" h="17">
                  <a:moveTo>
                    <a:pt x="0" y="17"/>
                  </a:moveTo>
                  <a:lnTo>
                    <a:pt x="0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31" y="0"/>
                  </a:lnTo>
                  <a:lnTo>
                    <a:pt x="131" y="12"/>
                  </a:lnTo>
                  <a:lnTo>
                    <a:pt x="114" y="12"/>
                  </a:lnTo>
                  <a:lnTo>
                    <a:pt x="11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2140920" y="195840"/>
              <a:ext cx="15480" cy="86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12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2137320" y="45720"/>
              <a:ext cx="22680" cy="864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12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5"/>
                  </a:lnTo>
                  <a:lnTo>
                    <a:pt x="23" y="5"/>
                  </a:lnTo>
                  <a:lnTo>
                    <a:pt x="2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2118240" y="751320"/>
              <a:ext cx="15480" cy="8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1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1948680" y="5056200"/>
              <a:ext cx="291600" cy="22680"/>
            </a:xfrm>
            <a:custGeom>
              <a:avLst/>
              <a:gdLst/>
              <a:ahLst/>
              <a:rect l="l" t="t" r="r" b="b"/>
              <a:pathLst>
                <a:path w="529" h="50">
                  <a:moveTo>
                    <a:pt x="0" y="50"/>
                  </a:moveTo>
                  <a:lnTo>
                    <a:pt x="0" y="40"/>
                  </a:lnTo>
                  <a:lnTo>
                    <a:pt x="5" y="40"/>
                  </a:lnTo>
                  <a:lnTo>
                    <a:pt x="5" y="34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50" y="28"/>
                  </a:lnTo>
                  <a:lnTo>
                    <a:pt x="50" y="22"/>
                  </a:lnTo>
                  <a:lnTo>
                    <a:pt x="68" y="22"/>
                  </a:lnTo>
                  <a:lnTo>
                    <a:pt x="68" y="17"/>
                  </a:lnTo>
                  <a:lnTo>
                    <a:pt x="147" y="17"/>
                  </a:lnTo>
                  <a:lnTo>
                    <a:pt x="147" y="11"/>
                  </a:lnTo>
                  <a:lnTo>
                    <a:pt x="233" y="11"/>
                  </a:lnTo>
                  <a:lnTo>
                    <a:pt x="233" y="5"/>
                  </a:lnTo>
                  <a:lnTo>
                    <a:pt x="323" y="5"/>
                  </a:lnTo>
                  <a:lnTo>
                    <a:pt x="323" y="0"/>
                  </a:lnTo>
                  <a:lnTo>
                    <a:pt x="529" y="0"/>
                  </a:lnTo>
                  <a:lnTo>
                    <a:pt x="529" y="5"/>
                  </a:lnTo>
                  <a:lnTo>
                    <a:pt x="523" y="5"/>
                  </a:lnTo>
                  <a:lnTo>
                    <a:pt x="523" y="11"/>
                  </a:lnTo>
                  <a:lnTo>
                    <a:pt x="501" y="11"/>
                  </a:lnTo>
                  <a:lnTo>
                    <a:pt x="501" y="17"/>
                  </a:lnTo>
                  <a:lnTo>
                    <a:pt x="437" y="17"/>
                  </a:lnTo>
                  <a:lnTo>
                    <a:pt x="437" y="22"/>
                  </a:lnTo>
                  <a:lnTo>
                    <a:pt x="278" y="22"/>
                  </a:lnTo>
                  <a:lnTo>
                    <a:pt x="278" y="28"/>
                  </a:lnTo>
                  <a:lnTo>
                    <a:pt x="209" y="28"/>
                  </a:lnTo>
                  <a:lnTo>
                    <a:pt x="209" y="34"/>
                  </a:lnTo>
                  <a:lnTo>
                    <a:pt x="159" y="34"/>
                  </a:lnTo>
                  <a:lnTo>
                    <a:pt x="159" y="40"/>
                  </a:lnTo>
                  <a:lnTo>
                    <a:pt x="90" y="40"/>
                  </a:lnTo>
                  <a:lnTo>
                    <a:pt x="90" y="45"/>
                  </a:lnTo>
                  <a:lnTo>
                    <a:pt x="45" y="45"/>
                  </a:lnTo>
                  <a:lnTo>
                    <a:pt x="45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2083320" y="-367920"/>
              <a:ext cx="38160" cy="684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0" y="22"/>
                  </a:moveTo>
                  <a:lnTo>
                    <a:pt x="0" y="12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7" y="6"/>
                  </a:lnTo>
                  <a:lnTo>
                    <a:pt x="50" y="6"/>
                  </a:lnTo>
                  <a:lnTo>
                    <a:pt x="50" y="12"/>
                  </a:lnTo>
                  <a:lnTo>
                    <a:pt x="34" y="12"/>
                  </a:lnTo>
                  <a:lnTo>
                    <a:pt x="34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2076120" y="4899240"/>
              <a:ext cx="6840" cy="68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12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2037600" y="1441080"/>
              <a:ext cx="83520" cy="6840"/>
            </a:xfrm>
            <a:custGeom>
              <a:avLst/>
              <a:gdLst/>
              <a:ahLst/>
              <a:rect l="l" t="t" r="r" b="b"/>
              <a:pathLst>
                <a:path w="148" h="17">
                  <a:moveTo>
                    <a:pt x="12" y="17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7" y="0"/>
                  </a:lnTo>
                  <a:lnTo>
                    <a:pt x="57" y="5"/>
                  </a:lnTo>
                  <a:lnTo>
                    <a:pt x="69" y="5"/>
                  </a:lnTo>
                  <a:lnTo>
                    <a:pt x="69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48" y="5"/>
                  </a:lnTo>
                  <a:lnTo>
                    <a:pt x="148" y="12"/>
                  </a:lnTo>
                  <a:lnTo>
                    <a:pt x="143" y="12"/>
                  </a:lnTo>
                  <a:lnTo>
                    <a:pt x="143" y="17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2026440" y="1737000"/>
              <a:ext cx="29520" cy="68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17" y="17"/>
                  </a:moveTo>
                  <a:lnTo>
                    <a:pt x="17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52" y="6"/>
                  </a:lnTo>
                  <a:lnTo>
                    <a:pt x="52" y="12"/>
                  </a:lnTo>
                  <a:lnTo>
                    <a:pt x="46" y="12"/>
                  </a:lnTo>
                  <a:lnTo>
                    <a:pt x="46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1999440" y="1787040"/>
              <a:ext cx="60840" cy="15480"/>
            </a:xfrm>
            <a:custGeom>
              <a:avLst/>
              <a:gdLst/>
              <a:ahLst/>
              <a:rect l="l" t="t" r="r" b="b"/>
              <a:pathLst>
                <a:path w="113" h="34">
                  <a:moveTo>
                    <a:pt x="68" y="34"/>
                  </a:moveTo>
                  <a:lnTo>
                    <a:pt x="68" y="28"/>
                  </a:lnTo>
                  <a:lnTo>
                    <a:pt x="39" y="28"/>
                  </a:lnTo>
                  <a:lnTo>
                    <a:pt x="39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39" y="5"/>
                  </a:lnTo>
                  <a:lnTo>
                    <a:pt x="39" y="11"/>
                  </a:lnTo>
                  <a:lnTo>
                    <a:pt x="63" y="11"/>
                  </a:lnTo>
                  <a:lnTo>
                    <a:pt x="63" y="17"/>
                  </a:lnTo>
                  <a:lnTo>
                    <a:pt x="96" y="17"/>
                  </a:lnTo>
                  <a:lnTo>
                    <a:pt x="96" y="23"/>
                  </a:lnTo>
                  <a:lnTo>
                    <a:pt x="113" y="23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108" y="34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200000">
              <a:off x="2006280" y="-168840"/>
              <a:ext cx="6840" cy="68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1991520" y="-183960"/>
              <a:ext cx="22680" cy="684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6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1983600" y="-245520"/>
              <a:ext cx="15480" cy="154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7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1878840" y="4302000"/>
              <a:ext cx="146520" cy="76680"/>
            </a:xfrm>
            <a:custGeom>
              <a:avLst/>
              <a:gdLst/>
              <a:ahLst/>
              <a:rect l="l" t="t" r="r" b="b"/>
              <a:pathLst>
                <a:path w="268" h="141">
                  <a:moveTo>
                    <a:pt x="24" y="141"/>
                  </a:moveTo>
                  <a:lnTo>
                    <a:pt x="24" y="136"/>
                  </a:lnTo>
                  <a:lnTo>
                    <a:pt x="12" y="136"/>
                  </a:lnTo>
                  <a:lnTo>
                    <a:pt x="12" y="107"/>
                  </a:lnTo>
                  <a:lnTo>
                    <a:pt x="7" y="107"/>
                  </a:lnTo>
                  <a:lnTo>
                    <a:pt x="7" y="84"/>
                  </a:lnTo>
                  <a:lnTo>
                    <a:pt x="0" y="84"/>
                  </a:lnTo>
                  <a:lnTo>
                    <a:pt x="0" y="51"/>
                  </a:lnTo>
                  <a:lnTo>
                    <a:pt x="7" y="51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52" y="22"/>
                  </a:lnTo>
                  <a:lnTo>
                    <a:pt x="52" y="17"/>
                  </a:lnTo>
                  <a:lnTo>
                    <a:pt x="109" y="17"/>
                  </a:lnTo>
                  <a:lnTo>
                    <a:pt x="109" y="10"/>
                  </a:lnTo>
                  <a:lnTo>
                    <a:pt x="166" y="10"/>
                  </a:lnTo>
                  <a:lnTo>
                    <a:pt x="166" y="5"/>
                  </a:lnTo>
                  <a:lnTo>
                    <a:pt x="195" y="5"/>
                  </a:lnTo>
                  <a:lnTo>
                    <a:pt x="195" y="0"/>
                  </a:lnTo>
                  <a:lnTo>
                    <a:pt x="240" y="0"/>
                  </a:lnTo>
                  <a:lnTo>
                    <a:pt x="240" y="10"/>
                  </a:lnTo>
                  <a:lnTo>
                    <a:pt x="245" y="10"/>
                  </a:lnTo>
                  <a:lnTo>
                    <a:pt x="245" y="27"/>
                  </a:lnTo>
                  <a:lnTo>
                    <a:pt x="252" y="27"/>
                  </a:lnTo>
                  <a:lnTo>
                    <a:pt x="252" y="79"/>
                  </a:lnTo>
                  <a:lnTo>
                    <a:pt x="257" y="79"/>
                  </a:lnTo>
                  <a:lnTo>
                    <a:pt x="257" y="96"/>
                  </a:lnTo>
                  <a:lnTo>
                    <a:pt x="262" y="96"/>
                  </a:lnTo>
                  <a:lnTo>
                    <a:pt x="262" y="113"/>
                  </a:lnTo>
                  <a:lnTo>
                    <a:pt x="268" y="113"/>
                  </a:lnTo>
                  <a:lnTo>
                    <a:pt x="268" y="124"/>
                  </a:lnTo>
                  <a:lnTo>
                    <a:pt x="262" y="124"/>
                  </a:lnTo>
                  <a:lnTo>
                    <a:pt x="262" y="130"/>
                  </a:lnTo>
                  <a:lnTo>
                    <a:pt x="234" y="130"/>
                  </a:lnTo>
                  <a:lnTo>
                    <a:pt x="234" y="136"/>
                  </a:lnTo>
                  <a:lnTo>
                    <a:pt x="160" y="136"/>
                  </a:lnTo>
                  <a:lnTo>
                    <a:pt x="160" y="141"/>
                  </a:lnTo>
                  <a:lnTo>
                    <a:pt x="24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-1203840" y="1302480"/>
              <a:ext cx="5721120" cy="546480"/>
            </a:xfrm>
            <a:custGeom>
              <a:avLst/>
              <a:gdLst/>
              <a:ahLst/>
              <a:rect l="l" t="t" r="r" b="b"/>
              <a:pathLst>
                <a:path w="10395" h="984">
                  <a:moveTo>
                    <a:pt x="8062" y="984"/>
                  </a:moveTo>
                  <a:lnTo>
                    <a:pt x="8062" y="979"/>
                  </a:lnTo>
                  <a:lnTo>
                    <a:pt x="8044" y="979"/>
                  </a:lnTo>
                  <a:lnTo>
                    <a:pt x="8044" y="974"/>
                  </a:lnTo>
                  <a:lnTo>
                    <a:pt x="7993" y="974"/>
                  </a:lnTo>
                  <a:lnTo>
                    <a:pt x="7993" y="979"/>
                  </a:lnTo>
                  <a:lnTo>
                    <a:pt x="7930" y="979"/>
                  </a:lnTo>
                  <a:lnTo>
                    <a:pt x="7930" y="974"/>
                  </a:lnTo>
                  <a:lnTo>
                    <a:pt x="7919" y="974"/>
                  </a:lnTo>
                  <a:lnTo>
                    <a:pt x="7919" y="967"/>
                  </a:lnTo>
                  <a:lnTo>
                    <a:pt x="7839" y="967"/>
                  </a:lnTo>
                  <a:lnTo>
                    <a:pt x="7839" y="962"/>
                  </a:lnTo>
                  <a:lnTo>
                    <a:pt x="7789" y="962"/>
                  </a:lnTo>
                  <a:lnTo>
                    <a:pt x="7789" y="967"/>
                  </a:lnTo>
                  <a:lnTo>
                    <a:pt x="7782" y="967"/>
                  </a:lnTo>
                  <a:lnTo>
                    <a:pt x="7782" y="974"/>
                  </a:lnTo>
                  <a:lnTo>
                    <a:pt x="7765" y="974"/>
                  </a:lnTo>
                  <a:lnTo>
                    <a:pt x="7765" y="962"/>
                  </a:lnTo>
                  <a:lnTo>
                    <a:pt x="7697" y="962"/>
                  </a:lnTo>
                  <a:lnTo>
                    <a:pt x="7697" y="967"/>
                  </a:lnTo>
                  <a:lnTo>
                    <a:pt x="7685" y="967"/>
                  </a:lnTo>
                  <a:lnTo>
                    <a:pt x="7685" y="962"/>
                  </a:lnTo>
                  <a:lnTo>
                    <a:pt x="7680" y="962"/>
                  </a:lnTo>
                  <a:lnTo>
                    <a:pt x="7680" y="957"/>
                  </a:lnTo>
                  <a:lnTo>
                    <a:pt x="7657" y="957"/>
                  </a:lnTo>
                  <a:lnTo>
                    <a:pt x="7657" y="962"/>
                  </a:lnTo>
                  <a:lnTo>
                    <a:pt x="7628" y="962"/>
                  </a:lnTo>
                  <a:lnTo>
                    <a:pt x="7628" y="967"/>
                  </a:lnTo>
                  <a:lnTo>
                    <a:pt x="7544" y="967"/>
                  </a:lnTo>
                  <a:lnTo>
                    <a:pt x="7544" y="974"/>
                  </a:lnTo>
                  <a:lnTo>
                    <a:pt x="7487" y="974"/>
                  </a:lnTo>
                  <a:lnTo>
                    <a:pt x="7487" y="967"/>
                  </a:lnTo>
                  <a:lnTo>
                    <a:pt x="7424" y="967"/>
                  </a:lnTo>
                  <a:lnTo>
                    <a:pt x="7424" y="974"/>
                  </a:lnTo>
                  <a:lnTo>
                    <a:pt x="7350" y="974"/>
                  </a:lnTo>
                  <a:lnTo>
                    <a:pt x="7350" y="967"/>
                  </a:lnTo>
                  <a:lnTo>
                    <a:pt x="7326" y="967"/>
                  </a:lnTo>
                  <a:lnTo>
                    <a:pt x="7326" y="974"/>
                  </a:lnTo>
                  <a:lnTo>
                    <a:pt x="7145" y="974"/>
                  </a:lnTo>
                  <a:lnTo>
                    <a:pt x="7145" y="979"/>
                  </a:lnTo>
                  <a:lnTo>
                    <a:pt x="7134" y="979"/>
                  </a:lnTo>
                  <a:lnTo>
                    <a:pt x="7134" y="974"/>
                  </a:lnTo>
                  <a:lnTo>
                    <a:pt x="7082" y="974"/>
                  </a:lnTo>
                  <a:lnTo>
                    <a:pt x="7082" y="979"/>
                  </a:lnTo>
                  <a:lnTo>
                    <a:pt x="7071" y="979"/>
                  </a:lnTo>
                  <a:lnTo>
                    <a:pt x="7071" y="974"/>
                  </a:lnTo>
                  <a:lnTo>
                    <a:pt x="6996" y="974"/>
                  </a:lnTo>
                  <a:lnTo>
                    <a:pt x="6996" y="979"/>
                  </a:lnTo>
                  <a:lnTo>
                    <a:pt x="6957" y="979"/>
                  </a:lnTo>
                  <a:lnTo>
                    <a:pt x="6957" y="974"/>
                  </a:lnTo>
                  <a:lnTo>
                    <a:pt x="6889" y="974"/>
                  </a:lnTo>
                  <a:lnTo>
                    <a:pt x="6889" y="967"/>
                  </a:lnTo>
                  <a:lnTo>
                    <a:pt x="6815" y="967"/>
                  </a:lnTo>
                  <a:lnTo>
                    <a:pt x="6815" y="962"/>
                  </a:lnTo>
                  <a:lnTo>
                    <a:pt x="6723" y="962"/>
                  </a:lnTo>
                  <a:lnTo>
                    <a:pt x="6723" y="957"/>
                  </a:lnTo>
                  <a:lnTo>
                    <a:pt x="6564" y="957"/>
                  </a:lnTo>
                  <a:lnTo>
                    <a:pt x="6564" y="951"/>
                  </a:lnTo>
                  <a:lnTo>
                    <a:pt x="6501" y="951"/>
                  </a:lnTo>
                  <a:lnTo>
                    <a:pt x="6501" y="945"/>
                  </a:lnTo>
                  <a:lnTo>
                    <a:pt x="6473" y="945"/>
                  </a:lnTo>
                  <a:lnTo>
                    <a:pt x="6473" y="951"/>
                  </a:lnTo>
                  <a:lnTo>
                    <a:pt x="6450" y="951"/>
                  </a:lnTo>
                  <a:lnTo>
                    <a:pt x="6450" y="957"/>
                  </a:lnTo>
                  <a:lnTo>
                    <a:pt x="6440" y="957"/>
                  </a:lnTo>
                  <a:lnTo>
                    <a:pt x="6440" y="951"/>
                  </a:lnTo>
                  <a:lnTo>
                    <a:pt x="6416" y="951"/>
                  </a:lnTo>
                  <a:lnTo>
                    <a:pt x="6416" y="945"/>
                  </a:lnTo>
                  <a:lnTo>
                    <a:pt x="6359" y="945"/>
                  </a:lnTo>
                  <a:lnTo>
                    <a:pt x="6359" y="951"/>
                  </a:lnTo>
                  <a:lnTo>
                    <a:pt x="6234" y="951"/>
                  </a:lnTo>
                  <a:lnTo>
                    <a:pt x="6234" y="945"/>
                  </a:lnTo>
                  <a:lnTo>
                    <a:pt x="6183" y="945"/>
                  </a:lnTo>
                  <a:lnTo>
                    <a:pt x="6183" y="939"/>
                  </a:lnTo>
                  <a:lnTo>
                    <a:pt x="6091" y="939"/>
                  </a:lnTo>
                  <a:lnTo>
                    <a:pt x="6091" y="934"/>
                  </a:lnTo>
                  <a:lnTo>
                    <a:pt x="5979" y="934"/>
                  </a:lnTo>
                  <a:lnTo>
                    <a:pt x="5979" y="928"/>
                  </a:lnTo>
                  <a:lnTo>
                    <a:pt x="5944" y="928"/>
                  </a:lnTo>
                  <a:lnTo>
                    <a:pt x="5944" y="922"/>
                  </a:lnTo>
                  <a:lnTo>
                    <a:pt x="5904" y="922"/>
                  </a:lnTo>
                  <a:lnTo>
                    <a:pt x="5904" y="917"/>
                  </a:lnTo>
                  <a:lnTo>
                    <a:pt x="5881" y="917"/>
                  </a:lnTo>
                  <a:lnTo>
                    <a:pt x="5881" y="910"/>
                  </a:lnTo>
                  <a:lnTo>
                    <a:pt x="5830" y="910"/>
                  </a:lnTo>
                  <a:lnTo>
                    <a:pt x="5830" y="905"/>
                  </a:lnTo>
                  <a:lnTo>
                    <a:pt x="5813" y="905"/>
                  </a:lnTo>
                  <a:lnTo>
                    <a:pt x="5813" y="910"/>
                  </a:lnTo>
                  <a:lnTo>
                    <a:pt x="5767" y="910"/>
                  </a:lnTo>
                  <a:lnTo>
                    <a:pt x="5767" y="917"/>
                  </a:lnTo>
                  <a:lnTo>
                    <a:pt x="5744" y="917"/>
                  </a:lnTo>
                  <a:lnTo>
                    <a:pt x="5744" y="922"/>
                  </a:lnTo>
                  <a:lnTo>
                    <a:pt x="5716" y="922"/>
                  </a:lnTo>
                  <a:lnTo>
                    <a:pt x="5716" y="928"/>
                  </a:lnTo>
                  <a:lnTo>
                    <a:pt x="5677" y="928"/>
                  </a:lnTo>
                  <a:lnTo>
                    <a:pt x="5677" y="934"/>
                  </a:lnTo>
                  <a:lnTo>
                    <a:pt x="5563" y="934"/>
                  </a:lnTo>
                  <a:lnTo>
                    <a:pt x="5563" y="928"/>
                  </a:lnTo>
                  <a:lnTo>
                    <a:pt x="5528" y="928"/>
                  </a:lnTo>
                  <a:lnTo>
                    <a:pt x="5528" y="922"/>
                  </a:lnTo>
                  <a:lnTo>
                    <a:pt x="5477" y="922"/>
                  </a:lnTo>
                  <a:lnTo>
                    <a:pt x="5477" y="917"/>
                  </a:lnTo>
                  <a:lnTo>
                    <a:pt x="5454" y="917"/>
                  </a:lnTo>
                  <a:lnTo>
                    <a:pt x="5454" y="910"/>
                  </a:lnTo>
                  <a:lnTo>
                    <a:pt x="5414" y="910"/>
                  </a:lnTo>
                  <a:lnTo>
                    <a:pt x="5414" y="905"/>
                  </a:lnTo>
                  <a:lnTo>
                    <a:pt x="5335" y="905"/>
                  </a:lnTo>
                  <a:lnTo>
                    <a:pt x="5335" y="900"/>
                  </a:lnTo>
                  <a:lnTo>
                    <a:pt x="5295" y="900"/>
                  </a:lnTo>
                  <a:lnTo>
                    <a:pt x="5295" y="894"/>
                  </a:lnTo>
                  <a:lnTo>
                    <a:pt x="5266" y="894"/>
                  </a:lnTo>
                  <a:lnTo>
                    <a:pt x="5266" y="888"/>
                  </a:lnTo>
                  <a:lnTo>
                    <a:pt x="5210" y="888"/>
                  </a:lnTo>
                  <a:lnTo>
                    <a:pt x="5210" y="882"/>
                  </a:lnTo>
                  <a:lnTo>
                    <a:pt x="5169" y="882"/>
                  </a:lnTo>
                  <a:lnTo>
                    <a:pt x="5169" y="877"/>
                  </a:lnTo>
                  <a:lnTo>
                    <a:pt x="5136" y="877"/>
                  </a:lnTo>
                  <a:lnTo>
                    <a:pt x="5136" y="871"/>
                  </a:lnTo>
                  <a:lnTo>
                    <a:pt x="5119" y="871"/>
                  </a:lnTo>
                  <a:lnTo>
                    <a:pt x="5119" y="865"/>
                  </a:lnTo>
                  <a:lnTo>
                    <a:pt x="5096" y="865"/>
                  </a:lnTo>
                  <a:lnTo>
                    <a:pt x="5096" y="860"/>
                  </a:lnTo>
                  <a:lnTo>
                    <a:pt x="5067" y="860"/>
                  </a:lnTo>
                  <a:lnTo>
                    <a:pt x="5067" y="853"/>
                  </a:lnTo>
                  <a:lnTo>
                    <a:pt x="5039" y="853"/>
                  </a:lnTo>
                  <a:lnTo>
                    <a:pt x="5039" y="848"/>
                  </a:lnTo>
                  <a:lnTo>
                    <a:pt x="5016" y="848"/>
                  </a:lnTo>
                  <a:lnTo>
                    <a:pt x="5016" y="843"/>
                  </a:lnTo>
                  <a:lnTo>
                    <a:pt x="4970" y="843"/>
                  </a:lnTo>
                  <a:lnTo>
                    <a:pt x="4970" y="837"/>
                  </a:lnTo>
                  <a:lnTo>
                    <a:pt x="4924" y="837"/>
                  </a:lnTo>
                  <a:lnTo>
                    <a:pt x="4924" y="831"/>
                  </a:lnTo>
                  <a:lnTo>
                    <a:pt x="4884" y="831"/>
                  </a:lnTo>
                  <a:lnTo>
                    <a:pt x="4884" y="825"/>
                  </a:lnTo>
                  <a:lnTo>
                    <a:pt x="4822" y="825"/>
                  </a:lnTo>
                  <a:lnTo>
                    <a:pt x="4822" y="820"/>
                  </a:lnTo>
                  <a:lnTo>
                    <a:pt x="4772" y="820"/>
                  </a:lnTo>
                  <a:lnTo>
                    <a:pt x="4772" y="814"/>
                  </a:lnTo>
                  <a:lnTo>
                    <a:pt x="4737" y="814"/>
                  </a:lnTo>
                  <a:lnTo>
                    <a:pt x="4737" y="808"/>
                  </a:lnTo>
                  <a:lnTo>
                    <a:pt x="4686" y="808"/>
                  </a:lnTo>
                  <a:lnTo>
                    <a:pt x="4686" y="803"/>
                  </a:lnTo>
                  <a:lnTo>
                    <a:pt x="4646" y="803"/>
                  </a:lnTo>
                  <a:lnTo>
                    <a:pt x="4646" y="796"/>
                  </a:lnTo>
                  <a:lnTo>
                    <a:pt x="4583" y="796"/>
                  </a:lnTo>
                  <a:lnTo>
                    <a:pt x="4583" y="791"/>
                  </a:lnTo>
                  <a:lnTo>
                    <a:pt x="4549" y="791"/>
                  </a:lnTo>
                  <a:lnTo>
                    <a:pt x="4549" y="786"/>
                  </a:lnTo>
                  <a:lnTo>
                    <a:pt x="4532" y="786"/>
                  </a:lnTo>
                  <a:lnTo>
                    <a:pt x="4532" y="780"/>
                  </a:lnTo>
                  <a:lnTo>
                    <a:pt x="4509" y="780"/>
                  </a:lnTo>
                  <a:lnTo>
                    <a:pt x="4509" y="774"/>
                  </a:lnTo>
                  <a:lnTo>
                    <a:pt x="4452" y="774"/>
                  </a:lnTo>
                  <a:lnTo>
                    <a:pt x="4452" y="768"/>
                  </a:lnTo>
                  <a:lnTo>
                    <a:pt x="4418" y="768"/>
                  </a:lnTo>
                  <a:lnTo>
                    <a:pt x="4418" y="763"/>
                  </a:lnTo>
                  <a:lnTo>
                    <a:pt x="4378" y="763"/>
                  </a:lnTo>
                  <a:lnTo>
                    <a:pt x="4378" y="757"/>
                  </a:lnTo>
                  <a:lnTo>
                    <a:pt x="4356" y="757"/>
                  </a:lnTo>
                  <a:lnTo>
                    <a:pt x="4356" y="751"/>
                  </a:lnTo>
                  <a:lnTo>
                    <a:pt x="4264" y="751"/>
                  </a:lnTo>
                  <a:lnTo>
                    <a:pt x="4264" y="746"/>
                  </a:lnTo>
                  <a:lnTo>
                    <a:pt x="4259" y="746"/>
                  </a:lnTo>
                  <a:lnTo>
                    <a:pt x="4259" y="739"/>
                  </a:lnTo>
                  <a:lnTo>
                    <a:pt x="4224" y="739"/>
                  </a:lnTo>
                  <a:lnTo>
                    <a:pt x="4224" y="734"/>
                  </a:lnTo>
                  <a:lnTo>
                    <a:pt x="4202" y="734"/>
                  </a:lnTo>
                  <a:lnTo>
                    <a:pt x="4202" y="729"/>
                  </a:lnTo>
                  <a:lnTo>
                    <a:pt x="4190" y="729"/>
                  </a:lnTo>
                  <a:lnTo>
                    <a:pt x="4190" y="723"/>
                  </a:lnTo>
                  <a:lnTo>
                    <a:pt x="4185" y="723"/>
                  </a:lnTo>
                  <a:lnTo>
                    <a:pt x="4185" y="717"/>
                  </a:lnTo>
                  <a:lnTo>
                    <a:pt x="4162" y="717"/>
                  </a:lnTo>
                  <a:lnTo>
                    <a:pt x="4162" y="712"/>
                  </a:lnTo>
                  <a:lnTo>
                    <a:pt x="4150" y="712"/>
                  </a:lnTo>
                  <a:lnTo>
                    <a:pt x="4150" y="706"/>
                  </a:lnTo>
                  <a:lnTo>
                    <a:pt x="4133" y="706"/>
                  </a:lnTo>
                  <a:lnTo>
                    <a:pt x="4133" y="700"/>
                  </a:lnTo>
                  <a:lnTo>
                    <a:pt x="4122" y="700"/>
                  </a:lnTo>
                  <a:lnTo>
                    <a:pt x="4122" y="694"/>
                  </a:lnTo>
                  <a:lnTo>
                    <a:pt x="4093" y="694"/>
                  </a:lnTo>
                  <a:lnTo>
                    <a:pt x="4093" y="689"/>
                  </a:lnTo>
                  <a:lnTo>
                    <a:pt x="4065" y="689"/>
                  </a:lnTo>
                  <a:lnTo>
                    <a:pt x="4065" y="683"/>
                  </a:lnTo>
                  <a:lnTo>
                    <a:pt x="4043" y="683"/>
                  </a:lnTo>
                  <a:lnTo>
                    <a:pt x="4043" y="677"/>
                  </a:lnTo>
                  <a:lnTo>
                    <a:pt x="3997" y="677"/>
                  </a:lnTo>
                  <a:lnTo>
                    <a:pt x="3997" y="672"/>
                  </a:lnTo>
                  <a:lnTo>
                    <a:pt x="3981" y="672"/>
                  </a:lnTo>
                  <a:lnTo>
                    <a:pt x="3981" y="665"/>
                  </a:lnTo>
                  <a:lnTo>
                    <a:pt x="3969" y="665"/>
                  </a:lnTo>
                  <a:lnTo>
                    <a:pt x="3969" y="660"/>
                  </a:lnTo>
                  <a:lnTo>
                    <a:pt x="3946" y="660"/>
                  </a:lnTo>
                  <a:lnTo>
                    <a:pt x="3946" y="655"/>
                  </a:lnTo>
                  <a:lnTo>
                    <a:pt x="3940" y="655"/>
                  </a:lnTo>
                  <a:lnTo>
                    <a:pt x="3940" y="649"/>
                  </a:lnTo>
                  <a:lnTo>
                    <a:pt x="3924" y="649"/>
                  </a:lnTo>
                  <a:lnTo>
                    <a:pt x="3924" y="643"/>
                  </a:lnTo>
                  <a:lnTo>
                    <a:pt x="3917" y="643"/>
                  </a:lnTo>
                  <a:lnTo>
                    <a:pt x="3917" y="637"/>
                  </a:lnTo>
                  <a:lnTo>
                    <a:pt x="3895" y="637"/>
                  </a:lnTo>
                  <a:lnTo>
                    <a:pt x="3895" y="632"/>
                  </a:lnTo>
                  <a:lnTo>
                    <a:pt x="3872" y="632"/>
                  </a:lnTo>
                  <a:lnTo>
                    <a:pt x="3872" y="627"/>
                  </a:lnTo>
                  <a:lnTo>
                    <a:pt x="3849" y="627"/>
                  </a:lnTo>
                  <a:lnTo>
                    <a:pt x="3849" y="620"/>
                  </a:lnTo>
                  <a:lnTo>
                    <a:pt x="3826" y="620"/>
                  </a:lnTo>
                  <a:lnTo>
                    <a:pt x="3826" y="615"/>
                  </a:lnTo>
                  <a:lnTo>
                    <a:pt x="3815" y="615"/>
                  </a:lnTo>
                  <a:lnTo>
                    <a:pt x="3815" y="609"/>
                  </a:lnTo>
                  <a:lnTo>
                    <a:pt x="3792" y="609"/>
                  </a:lnTo>
                  <a:lnTo>
                    <a:pt x="3792" y="604"/>
                  </a:lnTo>
                  <a:lnTo>
                    <a:pt x="3763" y="604"/>
                  </a:lnTo>
                  <a:lnTo>
                    <a:pt x="3763" y="598"/>
                  </a:lnTo>
                  <a:lnTo>
                    <a:pt x="3753" y="598"/>
                  </a:lnTo>
                  <a:lnTo>
                    <a:pt x="3753" y="592"/>
                  </a:lnTo>
                  <a:lnTo>
                    <a:pt x="3735" y="592"/>
                  </a:lnTo>
                  <a:lnTo>
                    <a:pt x="3735" y="587"/>
                  </a:lnTo>
                  <a:lnTo>
                    <a:pt x="3724" y="587"/>
                  </a:lnTo>
                  <a:lnTo>
                    <a:pt x="3724" y="580"/>
                  </a:lnTo>
                  <a:lnTo>
                    <a:pt x="3706" y="580"/>
                  </a:lnTo>
                  <a:lnTo>
                    <a:pt x="3706" y="575"/>
                  </a:lnTo>
                  <a:lnTo>
                    <a:pt x="3695" y="575"/>
                  </a:lnTo>
                  <a:lnTo>
                    <a:pt x="3695" y="570"/>
                  </a:lnTo>
                  <a:lnTo>
                    <a:pt x="3684" y="570"/>
                  </a:lnTo>
                  <a:lnTo>
                    <a:pt x="3684" y="563"/>
                  </a:lnTo>
                  <a:lnTo>
                    <a:pt x="3667" y="563"/>
                  </a:lnTo>
                  <a:lnTo>
                    <a:pt x="3667" y="558"/>
                  </a:lnTo>
                  <a:lnTo>
                    <a:pt x="3655" y="558"/>
                  </a:lnTo>
                  <a:lnTo>
                    <a:pt x="3655" y="553"/>
                  </a:lnTo>
                  <a:lnTo>
                    <a:pt x="3638" y="553"/>
                  </a:lnTo>
                  <a:lnTo>
                    <a:pt x="3638" y="547"/>
                  </a:lnTo>
                  <a:lnTo>
                    <a:pt x="3627" y="547"/>
                  </a:lnTo>
                  <a:lnTo>
                    <a:pt x="3627" y="541"/>
                  </a:lnTo>
                  <a:lnTo>
                    <a:pt x="3604" y="541"/>
                  </a:lnTo>
                  <a:lnTo>
                    <a:pt x="3604" y="535"/>
                  </a:lnTo>
                  <a:lnTo>
                    <a:pt x="3582" y="535"/>
                  </a:lnTo>
                  <a:lnTo>
                    <a:pt x="3582" y="530"/>
                  </a:lnTo>
                  <a:lnTo>
                    <a:pt x="3565" y="530"/>
                  </a:lnTo>
                  <a:lnTo>
                    <a:pt x="3565" y="524"/>
                  </a:lnTo>
                  <a:lnTo>
                    <a:pt x="3547" y="524"/>
                  </a:lnTo>
                  <a:lnTo>
                    <a:pt x="3547" y="518"/>
                  </a:lnTo>
                  <a:lnTo>
                    <a:pt x="3536" y="518"/>
                  </a:lnTo>
                  <a:lnTo>
                    <a:pt x="3536" y="513"/>
                  </a:lnTo>
                  <a:lnTo>
                    <a:pt x="3519" y="513"/>
                  </a:lnTo>
                  <a:lnTo>
                    <a:pt x="3519" y="506"/>
                  </a:lnTo>
                  <a:lnTo>
                    <a:pt x="3508" y="506"/>
                  </a:lnTo>
                  <a:lnTo>
                    <a:pt x="3508" y="501"/>
                  </a:lnTo>
                  <a:lnTo>
                    <a:pt x="3502" y="501"/>
                  </a:lnTo>
                  <a:lnTo>
                    <a:pt x="3502" y="496"/>
                  </a:lnTo>
                  <a:lnTo>
                    <a:pt x="3485" y="496"/>
                  </a:lnTo>
                  <a:lnTo>
                    <a:pt x="3485" y="490"/>
                  </a:lnTo>
                  <a:lnTo>
                    <a:pt x="3456" y="490"/>
                  </a:lnTo>
                  <a:lnTo>
                    <a:pt x="3456" y="484"/>
                  </a:lnTo>
                  <a:lnTo>
                    <a:pt x="3445" y="484"/>
                  </a:lnTo>
                  <a:lnTo>
                    <a:pt x="3445" y="478"/>
                  </a:lnTo>
                  <a:lnTo>
                    <a:pt x="3399" y="478"/>
                  </a:lnTo>
                  <a:lnTo>
                    <a:pt x="3399" y="473"/>
                  </a:lnTo>
                  <a:lnTo>
                    <a:pt x="3376" y="473"/>
                  </a:lnTo>
                  <a:lnTo>
                    <a:pt x="3376" y="467"/>
                  </a:lnTo>
                  <a:lnTo>
                    <a:pt x="3354" y="467"/>
                  </a:lnTo>
                  <a:lnTo>
                    <a:pt x="3354" y="461"/>
                  </a:lnTo>
                  <a:lnTo>
                    <a:pt x="3337" y="461"/>
                  </a:lnTo>
                  <a:lnTo>
                    <a:pt x="3337" y="456"/>
                  </a:lnTo>
                  <a:lnTo>
                    <a:pt x="3308" y="456"/>
                  </a:lnTo>
                  <a:lnTo>
                    <a:pt x="3308" y="449"/>
                  </a:lnTo>
                  <a:lnTo>
                    <a:pt x="3302" y="449"/>
                  </a:lnTo>
                  <a:lnTo>
                    <a:pt x="3302" y="444"/>
                  </a:lnTo>
                  <a:lnTo>
                    <a:pt x="3290" y="444"/>
                  </a:lnTo>
                  <a:lnTo>
                    <a:pt x="3290" y="439"/>
                  </a:lnTo>
                  <a:lnTo>
                    <a:pt x="3251" y="439"/>
                  </a:lnTo>
                  <a:lnTo>
                    <a:pt x="3251" y="444"/>
                  </a:lnTo>
                  <a:lnTo>
                    <a:pt x="3240" y="444"/>
                  </a:lnTo>
                  <a:lnTo>
                    <a:pt x="3240" y="439"/>
                  </a:lnTo>
                  <a:lnTo>
                    <a:pt x="3233" y="439"/>
                  </a:lnTo>
                  <a:lnTo>
                    <a:pt x="3233" y="427"/>
                  </a:lnTo>
                  <a:lnTo>
                    <a:pt x="3228" y="427"/>
                  </a:lnTo>
                  <a:lnTo>
                    <a:pt x="3228" y="421"/>
                  </a:lnTo>
                  <a:lnTo>
                    <a:pt x="3114" y="421"/>
                  </a:lnTo>
                  <a:lnTo>
                    <a:pt x="3114" y="416"/>
                  </a:lnTo>
                  <a:lnTo>
                    <a:pt x="3074" y="416"/>
                  </a:lnTo>
                  <a:lnTo>
                    <a:pt x="3074" y="410"/>
                  </a:lnTo>
                  <a:lnTo>
                    <a:pt x="3017" y="410"/>
                  </a:lnTo>
                  <a:lnTo>
                    <a:pt x="3017" y="404"/>
                  </a:lnTo>
                  <a:lnTo>
                    <a:pt x="2978" y="404"/>
                  </a:lnTo>
                  <a:lnTo>
                    <a:pt x="2978" y="399"/>
                  </a:lnTo>
                  <a:lnTo>
                    <a:pt x="2950" y="399"/>
                  </a:lnTo>
                  <a:lnTo>
                    <a:pt x="2950" y="392"/>
                  </a:lnTo>
                  <a:lnTo>
                    <a:pt x="2864" y="392"/>
                  </a:lnTo>
                  <a:lnTo>
                    <a:pt x="2864" y="387"/>
                  </a:lnTo>
                  <a:lnTo>
                    <a:pt x="2847" y="387"/>
                  </a:lnTo>
                  <a:lnTo>
                    <a:pt x="2847" y="382"/>
                  </a:lnTo>
                  <a:lnTo>
                    <a:pt x="2796" y="382"/>
                  </a:lnTo>
                  <a:lnTo>
                    <a:pt x="2796" y="375"/>
                  </a:lnTo>
                  <a:lnTo>
                    <a:pt x="2773" y="375"/>
                  </a:lnTo>
                  <a:lnTo>
                    <a:pt x="2773" y="370"/>
                  </a:lnTo>
                  <a:lnTo>
                    <a:pt x="2665" y="370"/>
                  </a:lnTo>
                  <a:lnTo>
                    <a:pt x="2665" y="364"/>
                  </a:lnTo>
                  <a:lnTo>
                    <a:pt x="2631" y="364"/>
                  </a:lnTo>
                  <a:lnTo>
                    <a:pt x="2631" y="359"/>
                  </a:lnTo>
                  <a:lnTo>
                    <a:pt x="2563" y="359"/>
                  </a:lnTo>
                  <a:lnTo>
                    <a:pt x="2563" y="353"/>
                  </a:lnTo>
                  <a:lnTo>
                    <a:pt x="2369" y="353"/>
                  </a:lnTo>
                  <a:lnTo>
                    <a:pt x="2369" y="347"/>
                  </a:lnTo>
                  <a:lnTo>
                    <a:pt x="2330" y="347"/>
                  </a:lnTo>
                  <a:lnTo>
                    <a:pt x="2330" y="353"/>
                  </a:lnTo>
                  <a:lnTo>
                    <a:pt x="2283" y="353"/>
                  </a:lnTo>
                  <a:lnTo>
                    <a:pt x="2283" y="347"/>
                  </a:lnTo>
                  <a:lnTo>
                    <a:pt x="2261" y="347"/>
                  </a:lnTo>
                  <a:lnTo>
                    <a:pt x="2261" y="353"/>
                  </a:lnTo>
                  <a:lnTo>
                    <a:pt x="2118" y="353"/>
                  </a:lnTo>
                  <a:lnTo>
                    <a:pt x="2118" y="359"/>
                  </a:lnTo>
                  <a:lnTo>
                    <a:pt x="2067" y="359"/>
                  </a:lnTo>
                  <a:lnTo>
                    <a:pt x="2067" y="364"/>
                  </a:lnTo>
                  <a:lnTo>
                    <a:pt x="2045" y="364"/>
                  </a:lnTo>
                  <a:lnTo>
                    <a:pt x="2045" y="370"/>
                  </a:lnTo>
                  <a:lnTo>
                    <a:pt x="2010" y="370"/>
                  </a:lnTo>
                  <a:lnTo>
                    <a:pt x="2010" y="375"/>
                  </a:lnTo>
                  <a:lnTo>
                    <a:pt x="1993" y="375"/>
                  </a:lnTo>
                  <a:lnTo>
                    <a:pt x="1993" y="382"/>
                  </a:lnTo>
                  <a:lnTo>
                    <a:pt x="1971" y="382"/>
                  </a:lnTo>
                  <a:lnTo>
                    <a:pt x="1971" y="387"/>
                  </a:lnTo>
                  <a:lnTo>
                    <a:pt x="1948" y="387"/>
                  </a:lnTo>
                  <a:lnTo>
                    <a:pt x="1948" y="392"/>
                  </a:lnTo>
                  <a:lnTo>
                    <a:pt x="1919" y="392"/>
                  </a:lnTo>
                  <a:lnTo>
                    <a:pt x="1919" y="399"/>
                  </a:lnTo>
                  <a:lnTo>
                    <a:pt x="1891" y="399"/>
                  </a:lnTo>
                  <a:lnTo>
                    <a:pt x="1891" y="404"/>
                  </a:lnTo>
                  <a:lnTo>
                    <a:pt x="1851" y="404"/>
                  </a:lnTo>
                  <a:lnTo>
                    <a:pt x="1851" y="410"/>
                  </a:lnTo>
                  <a:lnTo>
                    <a:pt x="1794" y="410"/>
                  </a:lnTo>
                  <a:lnTo>
                    <a:pt x="1794" y="416"/>
                  </a:lnTo>
                  <a:lnTo>
                    <a:pt x="1743" y="416"/>
                  </a:lnTo>
                  <a:lnTo>
                    <a:pt x="1743" y="421"/>
                  </a:lnTo>
                  <a:lnTo>
                    <a:pt x="1731" y="421"/>
                  </a:lnTo>
                  <a:lnTo>
                    <a:pt x="1731" y="427"/>
                  </a:lnTo>
                  <a:lnTo>
                    <a:pt x="1674" y="427"/>
                  </a:lnTo>
                  <a:lnTo>
                    <a:pt x="1674" y="433"/>
                  </a:lnTo>
                  <a:lnTo>
                    <a:pt x="1646" y="433"/>
                  </a:lnTo>
                  <a:lnTo>
                    <a:pt x="1646" y="439"/>
                  </a:lnTo>
                  <a:lnTo>
                    <a:pt x="1629" y="439"/>
                  </a:lnTo>
                  <a:lnTo>
                    <a:pt x="1629" y="444"/>
                  </a:lnTo>
                  <a:lnTo>
                    <a:pt x="1606" y="444"/>
                  </a:lnTo>
                  <a:lnTo>
                    <a:pt x="1606" y="449"/>
                  </a:lnTo>
                  <a:lnTo>
                    <a:pt x="1594" y="449"/>
                  </a:lnTo>
                  <a:lnTo>
                    <a:pt x="1594" y="456"/>
                  </a:lnTo>
                  <a:lnTo>
                    <a:pt x="1578" y="456"/>
                  </a:lnTo>
                  <a:lnTo>
                    <a:pt x="1578" y="461"/>
                  </a:lnTo>
                  <a:lnTo>
                    <a:pt x="1561" y="461"/>
                  </a:lnTo>
                  <a:lnTo>
                    <a:pt x="1561" y="467"/>
                  </a:lnTo>
                  <a:lnTo>
                    <a:pt x="1532" y="467"/>
                  </a:lnTo>
                  <a:lnTo>
                    <a:pt x="1532" y="473"/>
                  </a:lnTo>
                  <a:lnTo>
                    <a:pt x="1504" y="473"/>
                  </a:lnTo>
                  <a:lnTo>
                    <a:pt x="1504" y="478"/>
                  </a:lnTo>
                  <a:lnTo>
                    <a:pt x="1470" y="478"/>
                  </a:lnTo>
                  <a:lnTo>
                    <a:pt x="1470" y="484"/>
                  </a:lnTo>
                  <a:lnTo>
                    <a:pt x="1418" y="484"/>
                  </a:lnTo>
                  <a:lnTo>
                    <a:pt x="1418" y="490"/>
                  </a:lnTo>
                  <a:lnTo>
                    <a:pt x="1333" y="490"/>
                  </a:lnTo>
                  <a:lnTo>
                    <a:pt x="1333" y="496"/>
                  </a:lnTo>
                  <a:lnTo>
                    <a:pt x="1287" y="496"/>
                  </a:lnTo>
                  <a:lnTo>
                    <a:pt x="1287" y="501"/>
                  </a:lnTo>
                  <a:lnTo>
                    <a:pt x="1270" y="501"/>
                  </a:lnTo>
                  <a:lnTo>
                    <a:pt x="1270" y="506"/>
                  </a:lnTo>
                  <a:lnTo>
                    <a:pt x="1247" y="506"/>
                  </a:lnTo>
                  <a:lnTo>
                    <a:pt x="1247" y="513"/>
                  </a:lnTo>
                  <a:lnTo>
                    <a:pt x="1235" y="513"/>
                  </a:lnTo>
                  <a:lnTo>
                    <a:pt x="1235" y="518"/>
                  </a:lnTo>
                  <a:lnTo>
                    <a:pt x="1213" y="518"/>
                  </a:lnTo>
                  <a:lnTo>
                    <a:pt x="1213" y="524"/>
                  </a:lnTo>
                  <a:lnTo>
                    <a:pt x="1185" y="524"/>
                  </a:lnTo>
                  <a:lnTo>
                    <a:pt x="1185" y="530"/>
                  </a:lnTo>
                  <a:lnTo>
                    <a:pt x="1145" y="530"/>
                  </a:lnTo>
                  <a:lnTo>
                    <a:pt x="1145" y="535"/>
                  </a:lnTo>
                  <a:lnTo>
                    <a:pt x="1117" y="535"/>
                  </a:lnTo>
                  <a:lnTo>
                    <a:pt x="1117" y="541"/>
                  </a:lnTo>
                  <a:lnTo>
                    <a:pt x="1083" y="541"/>
                  </a:lnTo>
                  <a:lnTo>
                    <a:pt x="1083" y="547"/>
                  </a:lnTo>
                  <a:lnTo>
                    <a:pt x="1066" y="547"/>
                  </a:lnTo>
                  <a:lnTo>
                    <a:pt x="1066" y="553"/>
                  </a:lnTo>
                  <a:lnTo>
                    <a:pt x="1043" y="553"/>
                  </a:lnTo>
                  <a:lnTo>
                    <a:pt x="1043" y="558"/>
                  </a:lnTo>
                  <a:lnTo>
                    <a:pt x="1009" y="558"/>
                  </a:lnTo>
                  <a:lnTo>
                    <a:pt x="1009" y="563"/>
                  </a:lnTo>
                  <a:lnTo>
                    <a:pt x="997" y="563"/>
                  </a:lnTo>
                  <a:lnTo>
                    <a:pt x="997" y="570"/>
                  </a:lnTo>
                  <a:lnTo>
                    <a:pt x="969" y="570"/>
                  </a:lnTo>
                  <a:lnTo>
                    <a:pt x="969" y="575"/>
                  </a:lnTo>
                  <a:lnTo>
                    <a:pt x="929" y="575"/>
                  </a:lnTo>
                  <a:lnTo>
                    <a:pt x="929" y="580"/>
                  </a:lnTo>
                  <a:lnTo>
                    <a:pt x="917" y="580"/>
                  </a:lnTo>
                  <a:lnTo>
                    <a:pt x="917" y="587"/>
                  </a:lnTo>
                  <a:lnTo>
                    <a:pt x="883" y="587"/>
                  </a:lnTo>
                  <a:lnTo>
                    <a:pt x="883" y="592"/>
                  </a:lnTo>
                  <a:lnTo>
                    <a:pt x="860" y="592"/>
                  </a:lnTo>
                  <a:lnTo>
                    <a:pt x="860" y="598"/>
                  </a:lnTo>
                  <a:lnTo>
                    <a:pt x="831" y="598"/>
                  </a:lnTo>
                  <a:lnTo>
                    <a:pt x="831" y="604"/>
                  </a:lnTo>
                  <a:lnTo>
                    <a:pt x="803" y="604"/>
                  </a:lnTo>
                  <a:lnTo>
                    <a:pt x="803" y="609"/>
                  </a:lnTo>
                  <a:lnTo>
                    <a:pt x="781" y="609"/>
                  </a:lnTo>
                  <a:lnTo>
                    <a:pt x="781" y="615"/>
                  </a:lnTo>
                  <a:lnTo>
                    <a:pt x="758" y="615"/>
                  </a:lnTo>
                  <a:lnTo>
                    <a:pt x="758" y="620"/>
                  </a:lnTo>
                  <a:lnTo>
                    <a:pt x="741" y="620"/>
                  </a:lnTo>
                  <a:lnTo>
                    <a:pt x="741" y="627"/>
                  </a:lnTo>
                  <a:lnTo>
                    <a:pt x="713" y="627"/>
                  </a:lnTo>
                  <a:lnTo>
                    <a:pt x="713" y="632"/>
                  </a:lnTo>
                  <a:lnTo>
                    <a:pt x="696" y="632"/>
                  </a:lnTo>
                  <a:lnTo>
                    <a:pt x="696" y="637"/>
                  </a:lnTo>
                  <a:lnTo>
                    <a:pt x="667" y="637"/>
                  </a:lnTo>
                  <a:lnTo>
                    <a:pt x="667" y="643"/>
                  </a:lnTo>
                  <a:lnTo>
                    <a:pt x="644" y="643"/>
                  </a:lnTo>
                  <a:lnTo>
                    <a:pt x="644" y="649"/>
                  </a:lnTo>
                  <a:lnTo>
                    <a:pt x="639" y="649"/>
                  </a:lnTo>
                  <a:lnTo>
                    <a:pt x="639" y="655"/>
                  </a:lnTo>
                  <a:lnTo>
                    <a:pt x="627" y="655"/>
                  </a:lnTo>
                  <a:lnTo>
                    <a:pt x="627" y="649"/>
                  </a:lnTo>
                  <a:lnTo>
                    <a:pt x="604" y="649"/>
                  </a:lnTo>
                  <a:lnTo>
                    <a:pt x="604" y="655"/>
                  </a:lnTo>
                  <a:lnTo>
                    <a:pt x="558" y="655"/>
                  </a:lnTo>
                  <a:lnTo>
                    <a:pt x="558" y="649"/>
                  </a:lnTo>
                  <a:lnTo>
                    <a:pt x="553" y="649"/>
                  </a:lnTo>
                  <a:lnTo>
                    <a:pt x="553" y="637"/>
                  </a:lnTo>
                  <a:lnTo>
                    <a:pt x="548" y="637"/>
                  </a:lnTo>
                  <a:lnTo>
                    <a:pt x="548" y="627"/>
                  </a:lnTo>
                  <a:lnTo>
                    <a:pt x="525" y="627"/>
                  </a:lnTo>
                  <a:lnTo>
                    <a:pt x="525" y="620"/>
                  </a:lnTo>
                  <a:lnTo>
                    <a:pt x="513" y="620"/>
                  </a:lnTo>
                  <a:lnTo>
                    <a:pt x="513" y="615"/>
                  </a:lnTo>
                  <a:lnTo>
                    <a:pt x="491" y="615"/>
                  </a:lnTo>
                  <a:lnTo>
                    <a:pt x="491" y="609"/>
                  </a:lnTo>
                  <a:lnTo>
                    <a:pt x="479" y="609"/>
                  </a:lnTo>
                  <a:lnTo>
                    <a:pt x="479" y="604"/>
                  </a:lnTo>
                  <a:lnTo>
                    <a:pt x="468" y="604"/>
                  </a:lnTo>
                  <a:lnTo>
                    <a:pt x="468" y="598"/>
                  </a:lnTo>
                  <a:lnTo>
                    <a:pt x="456" y="598"/>
                  </a:lnTo>
                  <a:lnTo>
                    <a:pt x="456" y="592"/>
                  </a:lnTo>
                  <a:lnTo>
                    <a:pt x="444" y="592"/>
                  </a:lnTo>
                  <a:lnTo>
                    <a:pt x="444" y="587"/>
                  </a:lnTo>
                  <a:lnTo>
                    <a:pt x="439" y="587"/>
                  </a:lnTo>
                  <a:lnTo>
                    <a:pt x="439" y="580"/>
                  </a:lnTo>
                  <a:lnTo>
                    <a:pt x="427" y="580"/>
                  </a:lnTo>
                  <a:lnTo>
                    <a:pt x="427" y="575"/>
                  </a:lnTo>
                  <a:lnTo>
                    <a:pt x="422" y="575"/>
                  </a:lnTo>
                  <a:lnTo>
                    <a:pt x="422" y="570"/>
                  </a:lnTo>
                  <a:lnTo>
                    <a:pt x="411" y="570"/>
                  </a:lnTo>
                  <a:lnTo>
                    <a:pt x="411" y="563"/>
                  </a:lnTo>
                  <a:lnTo>
                    <a:pt x="405" y="563"/>
                  </a:lnTo>
                  <a:lnTo>
                    <a:pt x="405" y="558"/>
                  </a:lnTo>
                  <a:lnTo>
                    <a:pt x="394" y="558"/>
                  </a:lnTo>
                  <a:lnTo>
                    <a:pt x="394" y="553"/>
                  </a:lnTo>
                  <a:lnTo>
                    <a:pt x="382" y="553"/>
                  </a:lnTo>
                  <a:lnTo>
                    <a:pt x="382" y="547"/>
                  </a:lnTo>
                  <a:lnTo>
                    <a:pt x="370" y="547"/>
                  </a:lnTo>
                  <a:lnTo>
                    <a:pt x="370" y="541"/>
                  </a:lnTo>
                  <a:lnTo>
                    <a:pt x="359" y="541"/>
                  </a:lnTo>
                  <a:lnTo>
                    <a:pt x="359" y="535"/>
                  </a:lnTo>
                  <a:lnTo>
                    <a:pt x="349" y="535"/>
                  </a:lnTo>
                  <a:lnTo>
                    <a:pt x="349" y="530"/>
                  </a:lnTo>
                  <a:lnTo>
                    <a:pt x="342" y="530"/>
                  </a:lnTo>
                  <a:lnTo>
                    <a:pt x="342" y="524"/>
                  </a:lnTo>
                  <a:lnTo>
                    <a:pt x="337" y="524"/>
                  </a:lnTo>
                  <a:lnTo>
                    <a:pt x="337" y="518"/>
                  </a:lnTo>
                  <a:lnTo>
                    <a:pt x="325" y="518"/>
                  </a:lnTo>
                  <a:lnTo>
                    <a:pt x="325" y="513"/>
                  </a:lnTo>
                  <a:lnTo>
                    <a:pt x="320" y="513"/>
                  </a:lnTo>
                  <a:lnTo>
                    <a:pt x="320" y="506"/>
                  </a:lnTo>
                  <a:lnTo>
                    <a:pt x="314" y="506"/>
                  </a:lnTo>
                  <a:lnTo>
                    <a:pt x="314" y="501"/>
                  </a:lnTo>
                  <a:lnTo>
                    <a:pt x="308" y="501"/>
                  </a:lnTo>
                  <a:lnTo>
                    <a:pt x="308" y="496"/>
                  </a:lnTo>
                  <a:lnTo>
                    <a:pt x="297" y="496"/>
                  </a:lnTo>
                  <a:lnTo>
                    <a:pt x="297" y="490"/>
                  </a:lnTo>
                  <a:lnTo>
                    <a:pt x="292" y="490"/>
                  </a:lnTo>
                  <a:lnTo>
                    <a:pt x="292" y="484"/>
                  </a:lnTo>
                  <a:lnTo>
                    <a:pt x="274" y="484"/>
                  </a:lnTo>
                  <a:lnTo>
                    <a:pt x="274" y="478"/>
                  </a:lnTo>
                  <a:lnTo>
                    <a:pt x="268" y="478"/>
                  </a:lnTo>
                  <a:lnTo>
                    <a:pt x="268" y="473"/>
                  </a:lnTo>
                  <a:lnTo>
                    <a:pt x="263" y="473"/>
                  </a:lnTo>
                  <a:lnTo>
                    <a:pt x="263" y="467"/>
                  </a:lnTo>
                  <a:lnTo>
                    <a:pt x="251" y="467"/>
                  </a:lnTo>
                  <a:lnTo>
                    <a:pt x="251" y="461"/>
                  </a:lnTo>
                  <a:lnTo>
                    <a:pt x="245" y="461"/>
                  </a:lnTo>
                  <a:lnTo>
                    <a:pt x="245" y="449"/>
                  </a:lnTo>
                  <a:lnTo>
                    <a:pt x="240" y="449"/>
                  </a:lnTo>
                  <a:lnTo>
                    <a:pt x="240" y="444"/>
                  </a:lnTo>
                  <a:lnTo>
                    <a:pt x="235" y="444"/>
                  </a:lnTo>
                  <a:lnTo>
                    <a:pt x="235" y="439"/>
                  </a:lnTo>
                  <a:lnTo>
                    <a:pt x="228" y="439"/>
                  </a:lnTo>
                  <a:lnTo>
                    <a:pt x="228" y="433"/>
                  </a:lnTo>
                  <a:lnTo>
                    <a:pt x="223" y="433"/>
                  </a:lnTo>
                  <a:lnTo>
                    <a:pt x="223" y="427"/>
                  </a:lnTo>
                  <a:lnTo>
                    <a:pt x="218" y="427"/>
                  </a:lnTo>
                  <a:lnTo>
                    <a:pt x="218" y="421"/>
                  </a:lnTo>
                  <a:lnTo>
                    <a:pt x="211" y="421"/>
                  </a:lnTo>
                  <a:lnTo>
                    <a:pt x="211" y="416"/>
                  </a:lnTo>
                  <a:lnTo>
                    <a:pt x="206" y="416"/>
                  </a:lnTo>
                  <a:lnTo>
                    <a:pt x="206" y="410"/>
                  </a:lnTo>
                  <a:lnTo>
                    <a:pt x="194" y="410"/>
                  </a:lnTo>
                  <a:lnTo>
                    <a:pt x="194" y="404"/>
                  </a:lnTo>
                  <a:lnTo>
                    <a:pt x="189" y="404"/>
                  </a:lnTo>
                  <a:lnTo>
                    <a:pt x="189" y="399"/>
                  </a:lnTo>
                  <a:lnTo>
                    <a:pt x="178" y="399"/>
                  </a:lnTo>
                  <a:lnTo>
                    <a:pt x="178" y="392"/>
                  </a:lnTo>
                  <a:lnTo>
                    <a:pt x="171" y="392"/>
                  </a:lnTo>
                  <a:lnTo>
                    <a:pt x="171" y="387"/>
                  </a:lnTo>
                  <a:lnTo>
                    <a:pt x="166" y="387"/>
                  </a:lnTo>
                  <a:lnTo>
                    <a:pt x="166" y="382"/>
                  </a:lnTo>
                  <a:lnTo>
                    <a:pt x="161" y="382"/>
                  </a:lnTo>
                  <a:lnTo>
                    <a:pt x="161" y="370"/>
                  </a:lnTo>
                  <a:lnTo>
                    <a:pt x="149" y="370"/>
                  </a:lnTo>
                  <a:lnTo>
                    <a:pt x="149" y="364"/>
                  </a:lnTo>
                  <a:lnTo>
                    <a:pt x="143" y="364"/>
                  </a:lnTo>
                  <a:lnTo>
                    <a:pt x="143" y="359"/>
                  </a:lnTo>
                  <a:lnTo>
                    <a:pt x="137" y="359"/>
                  </a:lnTo>
                  <a:lnTo>
                    <a:pt x="137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26" y="347"/>
                  </a:lnTo>
                  <a:lnTo>
                    <a:pt x="126" y="342"/>
                  </a:lnTo>
                  <a:lnTo>
                    <a:pt x="114" y="342"/>
                  </a:lnTo>
                  <a:lnTo>
                    <a:pt x="114" y="335"/>
                  </a:lnTo>
                  <a:lnTo>
                    <a:pt x="109" y="335"/>
                  </a:lnTo>
                  <a:lnTo>
                    <a:pt x="109" y="330"/>
                  </a:lnTo>
                  <a:lnTo>
                    <a:pt x="104" y="330"/>
                  </a:lnTo>
                  <a:lnTo>
                    <a:pt x="104" y="325"/>
                  </a:lnTo>
                  <a:lnTo>
                    <a:pt x="97" y="325"/>
                  </a:lnTo>
                  <a:lnTo>
                    <a:pt x="97" y="318"/>
                  </a:lnTo>
                  <a:lnTo>
                    <a:pt x="92" y="318"/>
                  </a:lnTo>
                  <a:lnTo>
                    <a:pt x="92" y="313"/>
                  </a:lnTo>
                  <a:lnTo>
                    <a:pt x="86" y="313"/>
                  </a:lnTo>
                  <a:lnTo>
                    <a:pt x="86" y="308"/>
                  </a:lnTo>
                  <a:lnTo>
                    <a:pt x="80" y="308"/>
                  </a:lnTo>
                  <a:lnTo>
                    <a:pt x="80" y="302"/>
                  </a:lnTo>
                  <a:lnTo>
                    <a:pt x="75" y="302"/>
                  </a:lnTo>
                  <a:lnTo>
                    <a:pt x="75" y="296"/>
                  </a:lnTo>
                  <a:lnTo>
                    <a:pt x="64" y="296"/>
                  </a:lnTo>
                  <a:lnTo>
                    <a:pt x="64" y="290"/>
                  </a:lnTo>
                  <a:lnTo>
                    <a:pt x="35" y="290"/>
                  </a:lnTo>
                  <a:lnTo>
                    <a:pt x="35" y="279"/>
                  </a:lnTo>
                  <a:lnTo>
                    <a:pt x="29" y="279"/>
                  </a:lnTo>
                  <a:lnTo>
                    <a:pt x="29" y="273"/>
                  </a:lnTo>
                  <a:lnTo>
                    <a:pt x="23" y="273"/>
                  </a:lnTo>
                  <a:lnTo>
                    <a:pt x="23" y="261"/>
                  </a:lnTo>
                  <a:lnTo>
                    <a:pt x="18" y="261"/>
                  </a:lnTo>
                  <a:lnTo>
                    <a:pt x="18" y="251"/>
                  </a:lnTo>
                  <a:lnTo>
                    <a:pt x="12" y="251"/>
                  </a:lnTo>
                  <a:lnTo>
                    <a:pt x="12" y="239"/>
                  </a:lnTo>
                  <a:lnTo>
                    <a:pt x="6" y="239"/>
                  </a:lnTo>
                  <a:lnTo>
                    <a:pt x="6" y="233"/>
                  </a:lnTo>
                  <a:lnTo>
                    <a:pt x="0" y="233"/>
                  </a:lnTo>
                  <a:lnTo>
                    <a:pt x="0" y="216"/>
                  </a:lnTo>
                  <a:lnTo>
                    <a:pt x="6" y="216"/>
                  </a:lnTo>
                  <a:lnTo>
                    <a:pt x="6" y="211"/>
                  </a:lnTo>
                  <a:lnTo>
                    <a:pt x="12" y="211"/>
                  </a:lnTo>
                  <a:lnTo>
                    <a:pt x="12" y="205"/>
                  </a:lnTo>
                  <a:lnTo>
                    <a:pt x="18" y="205"/>
                  </a:lnTo>
                  <a:lnTo>
                    <a:pt x="18" y="194"/>
                  </a:lnTo>
                  <a:lnTo>
                    <a:pt x="12" y="194"/>
                  </a:lnTo>
                  <a:lnTo>
                    <a:pt x="12" y="183"/>
                  </a:lnTo>
                  <a:lnTo>
                    <a:pt x="18" y="183"/>
                  </a:lnTo>
                  <a:lnTo>
                    <a:pt x="18" y="109"/>
                  </a:lnTo>
                  <a:lnTo>
                    <a:pt x="12" y="109"/>
                  </a:lnTo>
                  <a:lnTo>
                    <a:pt x="12" y="92"/>
                  </a:lnTo>
                  <a:lnTo>
                    <a:pt x="18" y="92"/>
                  </a:lnTo>
                  <a:lnTo>
                    <a:pt x="18" y="86"/>
                  </a:lnTo>
                  <a:lnTo>
                    <a:pt x="23" y="86"/>
                  </a:lnTo>
                  <a:lnTo>
                    <a:pt x="23" y="80"/>
                  </a:lnTo>
                  <a:lnTo>
                    <a:pt x="40" y="80"/>
                  </a:lnTo>
                  <a:lnTo>
                    <a:pt x="40" y="86"/>
                  </a:lnTo>
                  <a:lnTo>
                    <a:pt x="47" y="86"/>
                  </a:lnTo>
                  <a:lnTo>
                    <a:pt x="47" y="92"/>
                  </a:lnTo>
                  <a:lnTo>
                    <a:pt x="69" y="92"/>
                  </a:lnTo>
                  <a:lnTo>
                    <a:pt x="69" y="97"/>
                  </a:lnTo>
                  <a:lnTo>
                    <a:pt x="80" y="97"/>
                  </a:lnTo>
                  <a:lnTo>
                    <a:pt x="80" y="102"/>
                  </a:lnTo>
                  <a:lnTo>
                    <a:pt x="92" y="102"/>
                  </a:lnTo>
                  <a:lnTo>
                    <a:pt x="92" y="109"/>
                  </a:lnTo>
                  <a:lnTo>
                    <a:pt x="104" y="109"/>
                  </a:lnTo>
                  <a:lnTo>
                    <a:pt x="104" y="114"/>
                  </a:lnTo>
                  <a:lnTo>
                    <a:pt x="114" y="114"/>
                  </a:lnTo>
                  <a:lnTo>
                    <a:pt x="114" y="119"/>
                  </a:lnTo>
                  <a:lnTo>
                    <a:pt x="126" y="119"/>
                  </a:lnTo>
                  <a:lnTo>
                    <a:pt x="126" y="126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61" y="131"/>
                  </a:lnTo>
                  <a:lnTo>
                    <a:pt x="161" y="137"/>
                  </a:lnTo>
                  <a:lnTo>
                    <a:pt x="178" y="137"/>
                  </a:lnTo>
                  <a:lnTo>
                    <a:pt x="178" y="143"/>
                  </a:lnTo>
                  <a:lnTo>
                    <a:pt x="183" y="143"/>
                  </a:lnTo>
                  <a:lnTo>
                    <a:pt x="183" y="149"/>
                  </a:lnTo>
                  <a:lnTo>
                    <a:pt x="200" y="149"/>
                  </a:lnTo>
                  <a:lnTo>
                    <a:pt x="200" y="154"/>
                  </a:lnTo>
                  <a:lnTo>
                    <a:pt x="211" y="154"/>
                  </a:lnTo>
                  <a:lnTo>
                    <a:pt x="211" y="159"/>
                  </a:lnTo>
                  <a:lnTo>
                    <a:pt x="218" y="159"/>
                  </a:lnTo>
                  <a:lnTo>
                    <a:pt x="218" y="166"/>
                  </a:lnTo>
                  <a:lnTo>
                    <a:pt x="228" y="166"/>
                  </a:lnTo>
                  <a:lnTo>
                    <a:pt x="228" y="171"/>
                  </a:lnTo>
                  <a:lnTo>
                    <a:pt x="240" y="171"/>
                  </a:lnTo>
                  <a:lnTo>
                    <a:pt x="240" y="176"/>
                  </a:lnTo>
                  <a:lnTo>
                    <a:pt x="251" y="176"/>
                  </a:lnTo>
                  <a:lnTo>
                    <a:pt x="251" y="183"/>
                  </a:lnTo>
                  <a:lnTo>
                    <a:pt x="257" y="183"/>
                  </a:lnTo>
                  <a:lnTo>
                    <a:pt x="257" y="188"/>
                  </a:lnTo>
                  <a:lnTo>
                    <a:pt x="268" y="188"/>
                  </a:lnTo>
                  <a:lnTo>
                    <a:pt x="268" y="194"/>
                  </a:lnTo>
                  <a:lnTo>
                    <a:pt x="274" y="194"/>
                  </a:lnTo>
                  <a:lnTo>
                    <a:pt x="274" y="200"/>
                  </a:lnTo>
                  <a:lnTo>
                    <a:pt x="285" y="200"/>
                  </a:lnTo>
                  <a:lnTo>
                    <a:pt x="285" y="205"/>
                  </a:lnTo>
                  <a:lnTo>
                    <a:pt x="297" y="205"/>
                  </a:lnTo>
                  <a:lnTo>
                    <a:pt x="297" y="211"/>
                  </a:lnTo>
                  <a:lnTo>
                    <a:pt x="302" y="211"/>
                  </a:lnTo>
                  <a:lnTo>
                    <a:pt x="302" y="216"/>
                  </a:lnTo>
                  <a:lnTo>
                    <a:pt x="314" y="216"/>
                  </a:lnTo>
                  <a:lnTo>
                    <a:pt x="314" y="223"/>
                  </a:lnTo>
                  <a:lnTo>
                    <a:pt x="320" y="223"/>
                  </a:lnTo>
                  <a:lnTo>
                    <a:pt x="320" y="228"/>
                  </a:lnTo>
                  <a:lnTo>
                    <a:pt x="331" y="228"/>
                  </a:lnTo>
                  <a:lnTo>
                    <a:pt x="331" y="251"/>
                  </a:lnTo>
                  <a:lnTo>
                    <a:pt x="337" y="251"/>
                  </a:lnTo>
                  <a:lnTo>
                    <a:pt x="337" y="261"/>
                  </a:lnTo>
                  <a:lnTo>
                    <a:pt x="314" y="261"/>
                  </a:lnTo>
                  <a:lnTo>
                    <a:pt x="314" y="256"/>
                  </a:lnTo>
                  <a:lnTo>
                    <a:pt x="292" y="256"/>
                  </a:lnTo>
                  <a:lnTo>
                    <a:pt x="292" y="251"/>
                  </a:lnTo>
                  <a:lnTo>
                    <a:pt x="285" y="251"/>
                  </a:lnTo>
                  <a:lnTo>
                    <a:pt x="285" y="239"/>
                  </a:lnTo>
                  <a:lnTo>
                    <a:pt x="274" y="239"/>
                  </a:lnTo>
                  <a:lnTo>
                    <a:pt x="274" y="233"/>
                  </a:lnTo>
                  <a:lnTo>
                    <a:pt x="263" y="233"/>
                  </a:lnTo>
                  <a:lnTo>
                    <a:pt x="263" y="228"/>
                  </a:lnTo>
                  <a:lnTo>
                    <a:pt x="245" y="228"/>
                  </a:lnTo>
                  <a:lnTo>
                    <a:pt x="245" y="223"/>
                  </a:lnTo>
                  <a:lnTo>
                    <a:pt x="240" y="223"/>
                  </a:lnTo>
                  <a:lnTo>
                    <a:pt x="240" y="216"/>
                  </a:lnTo>
                  <a:lnTo>
                    <a:pt x="228" y="216"/>
                  </a:lnTo>
                  <a:lnTo>
                    <a:pt x="228" y="211"/>
                  </a:lnTo>
                  <a:lnTo>
                    <a:pt x="223" y="211"/>
                  </a:lnTo>
                  <a:lnTo>
                    <a:pt x="223" y="205"/>
                  </a:lnTo>
                  <a:lnTo>
                    <a:pt x="218" y="205"/>
                  </a:lnTo>
                  <a:lnTo>
                    <a:pt x="218" y="200"/>
                  </a:lnTo>
                  <a:lnTo>
                    <a:pt x="211" y="200"/>
                  </a:lnTo>
                  <a:lnTo>
                    <a:pt x="211" y="194"/>
                  </a:lnTo>
                  <a:lnTo>
                    <a:pt x="206" y="194"/>
                  </a:lnTo>
                  <a:lnTo>
                    <a:pt x="206" y="188"/>
                  </a:lnTo>
                  <a:lnTo>
                    <a:pt x="194" y="188"/>
                  </a:lnTo>
                  <a:lnTo>
                    <a:pt x="194" y="183"/>
                  </a:lnTo>
                  <a:lnTo>
                    <a:pt x="189" y="183"/>
                  </a:lnTo>
                  <a:lnTo>
                    <a:pt x="189" y="176"/>
                  </a:lnTo>
                  <a:lnTo>
                    <a:pt x="178" y="176"/>
                  </a:lnTo>
                  <a:lnTo>
                    <a:pt x="178" y="171"/>
                  </a:lnTo>
                  <a:lnTo>
                    <a:pt x="166" y="171"/>
                  </a:lnTo>
                  <a:lnTo>
                    <a:pt x="166" y="166"/>
                  </a:lnTo>
                  <a:lnTo>
                    <a:pt x="154" y="166"/>
                  </a:lnTo>
                  <a:lnTo>
                    <a:pt x="154" y="159"/>
                  </a:lnTo>
                  <a:lnTo>
                    <a:pt x="143" y="159"/>
                  </a:lnTo>
                  <a:lnTo>
                    <a:pt x="143" y="154"/>
                  </a:lnTo>
                  <a:lnTo>
                    <a:pt x="132" y="154"/>
                  </a:lnTo>
                  <a:lnTo>
                    <a:pt x="132" y="149"/>
                  </a:lnTo>
                  <a:lnTo>
                    <a:pt x="121" y="149"/>
                  </a:lnTo>
                  <a:lnTo>
                    <a:pt x="121" y="143"/>
                  </a:lnTo>
                  <a:lnTo>
                    <a:pt x="109" y="143"/>
                  </a:lnTo>
                  <a:lnTo>
                    <a:pt x="109" y="137"/>
                  </a:lnTo>
                  <a:lnTo>
                    <a:pt x="86" y="137"/>
                  </a:lnTo>
                  <a:lnTo>
                    <a:pt x="86" y="131"/>
                  </a:lnTo>
                  <a:lnTo>
                    <a:pt x="75" y="131"/>
                  </a:lnTo>
                  <a:lnTo>
                    <a:pt x="75" y="126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52" y="119"/>
                  </a:lnTo>
                  <a:lnTo>
                    <a:pt x="52" y="114"/>
                  </a:lnTo>
                  <a:lnTo>
                    <a:pt x="29" y="114"/>
                  </a:lnTo>
                  <a:lnTo>
                    <a:pt x="29" y="205"/>
                  </a:lnTo>
                  <a:lnTo>
                    <a:pt x="35" y="205"/>
                  </a:lnTo>
                  <a:lnTo>
                    <a:pt x="35" y="228"/>
                  </a:lnTo>
                  <a:lnTo>
                    <a:pt x="40" y="228"/>
                  </a:lnTo>
                  <a:lnTo>
                    <a:pt x="40" y="233"/>
                  </a:lnTo>
                  <a:lnTo>
                    <a:pt x="47" y="233"/>
                  </a:lnTo>
                  <a:lnTo>
                    <a:pt x="47" y="245"/>
                  </a:lnTo>
                  <a:lnTo>
                    <a:pt x="52" y="245"/>
                  </a:lnTo>
                  <a:lnTo>
                    <a:pt x="52" y="251"/>
                  </a:lnTo>
                  <a:lnTo>
                    <a:pt x="64" y="251"/>
                  </a:lnTo>
                  <a:lnTo>
                    <a:pt x="64" y="256"/>
                  </a:lnTo>
                  <a:lnTo>
                    <a:pt x="69" y="256"/>
                  </a:lnTo>
                  <a:lnTo>
                    <a:pt x="69" y="261"/>
                  </a:lnTo>
                  <a:lnTo>
                    <a:pt x="75" y="261"/>
                  </a:lnTo>
                  <a:lnTo>
                    <a:pt x="75" y="273"/>
                  </a:lnTo>
                  <a:lnTo>
                    <a:pt x="80" y="273"/>
                  </a:lnTo>
                  <a:lnTo>
                    <a:pt x="80" y="279"/>
                  </a:lnTo>
                  <a:lnTo>
                    <a:pt x="86" y="279"/>
                  </a:lnTo>
                  <a:lnTo>
                    <a:pt x="86" y="285"/>
                  </a:lnTo>
                  <a:lnTo>
                    <a:pt x="92" y="285"/>
                  </a:lnTo>
                  <a:lnTo>
                    <a:pt x="92" y="290"/>
                  </a:lnTo>
                  <a:lnTo>
                    <a:pt x="97" y="290"/>
                  </a:lnTo>
                  <a:lnTo>
                    <a:pt x="97" y="296"/>
                  </a:lnTo>
                  <a:lnTo>
                    <a:pt x="109" y="296"/>
                  </a:lnTo>
                  <a:lnTo>
                    <a:pt x="109" y="302"/>
                  </a:lnTo>
                  <a:lnTo>
                    <a:pt x="114" y="302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21" y="313"/>
                  </a:lnTo>
                  <a:lnTo>
                    <a:pt x="126" y="313"/>
                  </a:lnTo>
                  <a:lnTo>
                    <a:pt x="126" y="318"/>
                  </a:lnTo>
                  <a:lnTo>
                    <a:pt x="132" y="318"/>
                  </a:lnTo>
                  <a:lnTo>
                    <a:pt x="132" y="325"/>
                  </a:lnTo>
                  <a:lnTo>
                    <a:pt x="137" y="325"/>
                  </a:lnTo>
                  <a:lnTo>
                    <a:pt x="137" y="335"/>
                  </a:lnTo>
                  <a:lnTo>
                    <a:pt x="143" y="335"/>
                  </a:lnTo>
                  <a:lnTo>
                    <a:pt x="143" y="342"/>
                  </a:lnTo>
                  <a:lnTo>
                    <a:pt x="154" y="342"/>
                  </a:lnTo>
                  <a:lnTo>
                    <a:pt x="154" y="347"/>
                  </a:lnTo>
                  <a:lnTo>
                    <a:pt x="161" y="347"/>
                  </a:lnTo>
                  <a:lnTo>
                    <a:pt x="161" y="353"/>
                  </a:lnTo>
                  <a:lnTo>
                    <a:pt x="166" y="353"/>
                  </a:lnTo>
                  <a:lnTo>
                    <a:pt x="166" y="359"/>
                  </a:lnTo>
                  <a:lnTo>
                    <a:pt x="178" y="359"/>
                  </a:lnTo>
                  <a:lnTo>
                    <a:pt x="178" y="364"/>
                  </a:lnTo>
                  <a:lnTo>
                    <a:pt x="189" y="364"/>
                  </a:lnTo>
                  <a:lnTo>
                    <a:pt x="189" y="370"/>
                  </a:lnTo>
                  <a:lnTo>
                    <a:pt x="194" y="370"/>
                  </a:lnTo>
                  <a:lnTo>
                    <a:pt x="194" y="375"/>
                  </a:lnTo>
                  <a:lnTo>
                    <a:pt x="200" y="375"/>
                  </a:lnTo>
                  <a:lnTo>
                    <a:pt x="200" y="382"/>
                  </a:lnTo>
                  <a:lnTo>
                    <a:pt x="206" y="382"/>
                  </a:lnTo>
                  <a:lnTo>
                    <a:pt x="206" y="387"/>
                  </a:lnTo>
                  <a:lnTo>
                    <a:pt x="211" y="387"/>
                  </a:lnTo>
                  <a:lnTo>
                    <a:pt x="211" y="392"/>
                  </a:lnTo>
                  <a:lnTo>
                    <a:pt x="218" y="392"/>
                  </a:lnTo>
                  <a:lnTo>
                    <a:pt x="218" y="399"/>
                  </a:lnTo>
                  <a:lnTo>
                    <a:pt x="223" y="399"/>
                  </a:lnTo>
                  <a:lnTo>
                    <a:pt x="223" y="404"/>
                  </a:lnTo>
                  <a:lnTo>
                    <a:pt x="235" y="404"/>
                  </a:lnTo>
                  <a:lnTo>
                    <a:pt x="235" y="410"/>
                  </a:lnTo>
                  <a:lnTo>
                    <a:pt x="240" y="410"/>
                  </a:lnTo>
                  <a:lnTo>
                    <a:pt x="240" y="416"/>
                  </a:lnTo>
                  <a:lnTo>
                    <a:pt x="251" y="416"/>
                  </a:lnTo>
                  <a:lnTo>
                    <a:pt x="251" y="421"/>
                  </a:lnTo>
                  <a:lnTo>
                    <a:pt x="263" y="421"/>
                  </a:lnTo>
                  <a:lnTo>
                    <a:pt x="263" y="427"/>
                  </a:lnTo>
                  <a:lnTo>
                    <a:pt x="274" y="427"/>
                  </a:lnTo>
                  <a:lnTo>
                    <a:pt x="274" y="433"/>
                  </a:lnTo>
                  <a:lnTo>
                    <a:pt x="280" y="433"/>
                  </a:lnTo>
                  <a:lnTo>
                    <a:pt x="280" y="439"/>
                  </a:lnTo>
                  <a:lnTo>
                    <a:pt x="285" y="439"/>
                  </a:lnTo>
                  <a:lnTo>
                    <a:pt x="285" y="444"/>
                  </a:lnTo>
                  <a:lnTo>
                    <a:pt x="292" y="444"/>
                  </a:lnTo>
                  <a:lnTo>
                    <a:pt x="292" y="449"/>
                  </a:lnTo>
                  <a:lnTo>
                    <a:pt x="297" y="449"/>
                  </a:lnTo>
                  <a:lnTo>
                    <a:pt x="297" y="456"/>
                  </a:lnTo>
                  <a:lnTo>
                    <a:pt x="302" y="456"/>
                  </a:lnTo>
                  <a:lnTo>
                    <a:pt x="302" y="461"/>
                  </a:lnTo>
                  <a:lnTo>
                    <a:pt x="314" y="461"/>
                  </a:lnTo>
                  <a:lnTo>
                    <a:pt x="314" y="467"/>
                  </a:lnTo>
                  <a:lnTo>
                    <a:pt x="320" y="467"/>
                  </a:lnTo>
                  <a:lnTo>
                    <a:pt x="320" y="473"/>
                  </a:lnTo>
                  <a:lnTo>
                    <a:pt x="325" y="473"/>
                  </a:lnTo>
                  <a:lnTo>
                    <a:pt x="325" y="478"/>
                  </a:lnTo>
                  <a:lnTo>
                    <a:pt x="337" y="478"/>
                  </a:lnTo>
                  <a:lnTo>
                    <a:pt x="337" y="484"/>
                  </a:lnTo>
                  <a:lnTo>
                    <a:pt x="342" y="484"/>
                  </a:lnTo>
                  <a:lnTo>
                    <a:pt x="342" y="490"/>
                  </a:lnTo>
                  <a:lnTo>
                    <a:pt x="354" y="490"/>
                  </a:lnTo>
                  <a:lnTo>
                    <a:pt x="354" y="496"/>
                  </a:lnTo>
                  <a:lnTo>
                    <a:pt x="359" y="496"/>
                  </a:lnTo>
                  <a:lnTo>
                    <a:pt x="359" y="506"/>
                  </a:lnTo>
                  <a:lnTo>
                    <a:pt x="365" y="506"/>
                  </a:lnTo>
                  <a:lnTo>
                    <a:pt x="365" y="513"/>
                  </a:lnTo>
                  <a:lnTo>
                    <a:pt x="377" y="513"/>
                  </a:lnTo>
                  <a:lnTo>
                    <a:pt x="377" y="518"/>
                  </a:lnTo>
                  <a:lnTo>
                    <a:pt x="382" y="518"/>
                  </a:lnTo>
                  <a:lnTo>
                    <a:pt x="382" y="524"/>
                  </a:lnTo>
                  <a:lnTo>
                    <a:pt x="387" y="524"/>
                  </a:lnTo>
                  <a:lnTo>
                    <a:pt x="387" y="530"/>
                  </a:lnTo>
                  <a:lnTo>
                    <a:pt x="399" y="530"/>
                  </a:lnTo>
                  <a:lnTo>
                    <a:pt x="399" y="535"/>
                  </a:lnTo>
                  <a:lnTo>
                    <a:pt x="411" y="535"/>
                  </a:lnTo>
                  <a:lnTo>
                    <a:pt x="411" y="541"/>
                  </a:lnTo>
                  <a:lnTo>
                    <a:pt x="416" y="541"/>
                  </a:lnTo>
                  <a:lnTo>
                    <a:pt x="416" y="547"/>
                  </a:lnTo>
                  <a:lnTo>
                    <a:pt x="434" y="547"/>
                  </a:lnTo>
                  <a:lnTo>
                    <a:pt x="434" y="553"/>
                  </a:lnTo>
                  <a:lnTo>
                    <a:pt x="439" y="553"/>
                  </a:lnTo>
                  <a:lnTo>
                    <a:pt x="439" y="558"/>
                  </a:lnTo>
                  <a:lnTo>
                    <a:pt x="451" y="558"/>
                  </a:lnTo>
                  <a:lnTo>
                    <a:pt x="451" y="563"/>
                  </a:lnTo>
                  <a:lnTo>
                    <a:pt x="468" y="563"/>
                  </a:lnTo>
                  <a:lnTo>
                    <a:pt x="468" y="570"/>
                  </a:lnTo>
                  <a:lnTo>
                    <a:pt x="479" y="570"/>
                  </a:lnTo>
                  <a:lnTo>
                    <a:pt x="479" y="575"/>
                  </a:lnTo>
                  <a:lnTo>
                    <a:pt x="496" y="575"/>
                  </a:lnTo>
                  <a:lnTo>
                    <a:pt x="496" y="580"/>
                  </a:lnTo>
                  <a:lnTo>
                    <a:pt x="513" y="580"/>
                  </a:lnTo>
                  <a:lnTo>
                    <a:pt x="513" y="587"/>
                  </a:lnTo>
                  <a:lnTo>
                    <a:pt x="536" y="587"/>
                  </a:lnTo>
                  <a:lnTo>
                    <a:pt x="536" y="592"/>
                  </a:lnTo>
                  <a:lnTo>
                    <a:pt x="553" y="592"/>
                  </a:lnTo>
                  <a:lnTo>
                    <a:pt x="553" y="598"/>
                  </a:lnTo>
                  <a:lnTo>
                    <a:pt x="570" y="598"/>
                  </a:lnTo>
                  <a:lnTo>
                    <a:pt x="570" y="604"/>
                  </a:lnTo>
                  <a:lnTo>
                    <a:pt x="604" y="604"/>
                  </a:lnTo>
                  <a:lnTo>
                    <a:pt x="604" y="609"/>
                  </a:lnTo>
                  <a:lnTo>
                    <a:pt x="627" y="609"/>
                  </a:lnTo>
                  <a:lnTo>
                    <a:pt x="627" y="615"/>
                  </a:lnTo>
                  <a:lnTo>
                    <a:pt x="650" y="615"/>
                  </a:lnTo>
                  <a:lnTo>
                    <a:pt x="650" y="609"/>
                  </a:lnTo>
                  <a:lnTo>
                    <a:pt x="667" y="609"/>
                  </a:lnTo>
                  <a:lnTo>
                    <a:pt x="667" y="604"/>
                  </a:lnTo>
                  <a:lnTo>
                    <a:pt x="689" y="604"/>
                  </a:lnTo>
                  <a:lnTo>
                    <a:pt x="689" y="598"/>
                  </a:lnTo>
                  <a:lnTo>
                    <a:pt x="713" y="598"/>
                  </a:lnTo>
                  <a:lnTo>
                    <a:pt x="713" y="592"/>
                  </a:lnTo>
                  <a:lnTo>
                    <a:pt x="758" y="592"/>
                  </a:lnTo>
                  <a:lnTo>
                    <a:pt x="758" y="587"/>
                  </a:lnTo>
                  <a:lnTo>
                    <a:pt x="770" y="587"/>
                  </a:lnTo>
                  <a:lnTo>
                    <a:pt x="770" y="580"/>
                  </a:lnTo>
                  <a:lnTo>
                    <a:pt x="786" y="580"/>
                  </a:lnTo>
                  <a:lnTo>
                    <a:pt x="786" y="575"/>
                  </a:lnTo>
                  <a:lnTo>
                    <a:pt x="803" y="575"/>
                  </a:lnTo>
                  <a:lnTo>
                    <a:pt x="803" y="570"/>
                  </a:lnTo>
                  <a:lnTo>
                    <a:pt x="826" y="570"/>
                  </a:lnTo>
                  <a:lnTo>
                    <a:pt x="826" y="563"/>
                  </a:lnTo>
                  <a:lnTo>
                    <a:pt x="855" y="563"/>
                  </a:lnTo>
                  <a:lnTo>
                    <a:pt x="855" y="558"/>
                  </a:lnTo>
                  <a:lnTo>
                    <a:pt x="905" y="558"/>
                  </a:lnTo>
                  <a:lnTo>
                    <a:pt x="905" y="553"/>
                  </a:lnTo>
                  <a:lnTo>
                    <a:pt x="917" y="553"/>
                  </a:lnTo>
                  <a:lnTo>
                    <a:pt x="917" y="547"/>
                  </a:lnTo>
                  <a:lnTo>
                    <a:pt x="969" y="547"/>
                  </a:lnTo>
                  <a:lnTo>
                    <a:pt x="969" y="541"/>
                  </a:lnTo>
                  <a:lnTo>
                    <a:pt x="1009" y="541"/>
                  </a:lnTo>
                  <a:lnTo>
                    <a:pt x="1009" y="535"/>
                  </a:lnTo>
                  <a:lnTo>
                    <a:pt x="1031" y="535"/>
                  </a:lnTo>
                  <a:lnTo>
                    <a:pt x="1031" y="530"/>
                  </a:lnTo>
                  <a:lnTo>
                    <a:pt x="1043" y="530"/>
                  </a:lnTo>
                  <a:lnTo>
                    <a:pt x="1043" y="524"/>
                  </a:lnTo>
                  <a:lnTo>
                    <a:pt x="1054" y="524"/>
                  </a:lnTo>
                  <a:lnTo>
                    <a:pt x="1054" y="518"/>
                  </a:lnTo>
                  <a:lnTo>
                    <a:pt x="1076" y="518"/>
                  </a:lnTo>
                  <a:lnTo>
                    <a:pt x="1076" y="513"/>
                  </a:lnTo>
                  <a:lnTo>
                    <a:pt x="1111" y="513"/>
                  </a:lnTo>
                  <a:lnTo>
                    <a:pt x="1111" y="506"/>
                  </a:lnTo>
                  <a:lnTo>
                    <a:pt x="1133" y="506"/>
                  </a:lnTo>
                  <a:lnTo>
                    <a:pt x="1133" y="501"/>
                  </a:lnTo>
                  <a:lnTo>
                    <a:pt x="1150" y="501"/>
                  </a:lnTo>
                  <a:lnTo>
                    <a:pt x="1150" y="496"/>
                  </a:lnTo>
                  <a:lnTo>
                    <a:pt x="1168" y="496"/>
                  </a:lnTo>
                  <a:lnTo>
                    <a:pt x="1168" y="490"/>
                  </a:lnTo>
                  <a:lnTo>
                    <a:pt x="1207" y="490"/>
                  </a:lnTo>
                  <a:lnTo>
                    <a:pt x="1207" y="484"/>
                  </a:lnTo>
                  <a:lnTo>
                    <a:pt x="1253" y="484"/>
                  </a:lnTo>
                  <a:lnTo>
                    <a:pt x="1253" y="478"/>
                  </a:lnTo>
                  <a:lnTo>
                    <a:pt x="1293" y="478"/>
                  </a:lnTo>
                  <a:lnTo>
                    <a:pt x="1293" y="473"/>
                  </a:lnTo>
                  <a:lnTo>
                    <a:pt x="1327" y="473"/>
                  </a:lnTo>
                  <a:lnTo>
                    <a:pt x="1327" y="467"/>
                  </a:lnTo>
                  <a:lnTo>
                    <a:pt x="1344" y="467"/>
                  </a:lnTo>
                  <a:lnTo>
                    <a:pt x="1344" y="461"/>
                  </a:lnTo>
                  <a:lnTo>
                    <a:pt x="1373" y="461"/>
                  </a:lnTo>
                  <a:lnTo>
                    <a:pt x="1373" y="456"/>
                  </a:lnTo>
                  <a:lnTo>
                    <a:pt x="1401" y="456"/>
                  </a:lnTo>
                  <a:lnTo>
                    <a:pt x="1401" y="449"/>
                  </a:lnTo>
                  <a:lnTo>
                    <a:pt x="1407" y="449"/>
                  </a:lnTo>
                  <a:lnTo>
                    <a:pt x="1407" y="444"/>
                  </a:lnTo>
                  <a:lnTo>
                    <a:pt x="1418" y="444"/>
                  </a:lnTo>
                  <a:lnTo>
                    <a:pt x="1418" y="439"/>
                  </a:lnTo>
                  <a:lnTo>
                    <a:pt x="1441" y="439"/>
                  </a:lnTo>
                  <a:lnTo>
                    <a:pt x="1441" y="433"/>
                  </a:lnTo>
                  <a:lnTo>
                    <a:pt x="1458" y="433"/>
                  </a:lnTo>
                  <a:lnTo>
                    <a:pt x="1458" y="427"/>
                  </a:lnTo>
                  <a:lnTo>
                    <a:pt x="1487" y="427"/>
                  </a:lnTo>
                  <a:lnTo>
                    <a:pt x="1487" y="421"/>
                  </a:lnTo>
                  <a:lnTo>
                    <a:pt x="1504" y="421"/>
                  </a:lnTo>
                  <a:lnTo>
                    <a:pt x="1504" y="416"/>
                  </a:lnTo>
                  <a:lnTo>
                    <a:pt x="1532" y="416"/>
                  </a:lnTo>
                  <a:lnTo>
                    <a:pt x="1532" y="410"/>
                  </a:lnTo>
                  <a:lnTo>
                    <a:pt x="1657" y="410"/>
                  </a:lnTo>
                  <a:lnTo>
                    <a:pt x="1657" y="404"/>
                  </a:lnTo>
                  <a:lnTo>
                    <a:pt x="1691" y="404"/>
                  </a:lnTo>
                  <a:lnTo>
                    <a:pt x="1691" y="399"/>
                  </a:lnTo>
                  <a:lnTo>
                    <a:pt x="1714" y="399"/>
                  </a:lnTo>
                  <a:lnTo>
                    <a:pt x="1714" y="392"/>
                  </a:lnTo>
                  <a:lnTo>
                    <a:pt x="1731" y="392"/>
                  </a:lnTo>
                  <a:lnTo>
                    <a:pt x="1731" y="387"/>
                  </a:lnTo>
                  <a:lnTo>
                    <a:pt x="1760" y="387"/>
                  </a:lnTo>
                  <a:lnTo>
                    <a:pt x="1760" y="382"/>
                  </a:lnTo>
                  <a:lnTo>
                    <a:pt x="1800" y="382"/>
                  </a:lnTo>
                  <a:lnTo>
                    <a:pt x="1800" y="375"/>
                  </a:lnTo>
                  <a:lnTo>
                    <a:pt x="1845" y="375"/>
                  </a:lnTo>
                  <a:lnTo>
                    <a:pt x="1845" y="370"/>
                  </a:lnTo>
                  <a:lnTo>
                    <a:pt x="1874" y="370"/>
                  </a:lnTo>
                  <a:lnTo>
                    <a:pt x="1874" y="364"/>
                  </a:lnTo>
                  <a:lnTo>
                    <a:pt x="1896" y="364"/>
                  </a:lnTo>
                  <a:lnTo>
                    <a:pt x="1896" y="359"/>
                  </a:lnTo>
                  <a:lnTo>
                    <a:pt x="1948" y="359"/>
                  </a:lnTo>
                  <a:lnTo>
                    <a:pt x="1948" y="353"/>
                  </a:lnTo>
                  <a:lnTo>
                    <a:pt x="1988" y="353"/>
                  </a:lnTo>
                  <a:lnTo>
                    <a:pt x="1988" y="347"/>
                  </a:lnTo>
                  <a:lnTo>
                    <a:pt x="2033" y="347"/>
                  </a:lnTo>
                  <a:lnTo>
                    <a:pt x="2033" y="342"/>
                  </a:lnTo>
                  <a:lnTo>
                    <a:pt x="2061" y="342"/>
                  </a:lnTo>
                  <a:lnTo>
                    <a:pt x="2061" y="335"/>
                  </a:lnTo>
                  <a:lnTo>
                    <a:pt x="2159" y="335"/>
                  </a:lnTo>
                  <a:lnTo>
                    <a:pt x="2159" y="330"/>
                  </a:lnTo>
                  <a:lnTo>
                    <a:pt x="2169" y="330"/>
                  </a:lnTo>
                  <a:lnTo>
                    <a:pt x="2169" y="335"/>
                  </a:lnTo>
                  <a:lnTo>
                    <a:pt x="2181" y="335"/>
                  </a:lnTo>
                  <a:lnTo>
                    <a:pt x="2181" y="330"/>
                  </a:lnTo>
                  <a:lnTo>
                    <a:pt x="2278" y="330"/>
                  </a:lnTo>
                  <a:lnTo>
                    <a:pt x="2278" y="325"/>
                  </a:lnTo>
                  <a:lnTo>
                    <a:pt x="2330" y="325"/>
                  </a:lnTo>
                  <a:lnTo>
                    <a:pt x="2330" y="330"/>
                  </a:lnTo>
                  <a:lnTo>
                    <a:pt x="2414" y="330"/>
                  </a:lnTo>
                  <a:lnTo>
                    <a:pt x="2414" y="325"/>
                  </a:lnTo>
                  <a:lnTo>
                    <a:pt x="2425" y="325"/>
                  </a:lnTo>
                  <a:lnTo>
                    <a:pt x="2425" y="330"/>
                  </a:lnTo>
                  <a:lnTo>
                    <a:pt x="2539" y="330"/>
                  </a:lnTo>
                  <a:lnTo>
                    <a:pt x="2539" y="335"/>
                  </a:lnTo>
                  <a:lnTo>
                    <a:pt x="2596" y="335"/>
                  </a:lnTo>
                  <a:lnTo>
                    <a:pt x="2596" y="342"/>
                  </a:lnTo>
                  <a:lnTo>
                    <a:pt x="2648" y="342"/>
                  </a:lnTo>
                  <a:lnTo>
                    <a:pt x="2648" y="335"/>
                  </a:lnTo>
                  <a:lnTo>
                    <a:pt x="2660" y="335"/>
                  </a:lnTo>
                  <a:lnTo>
                    <a:pt x="2660" y="342"/>
                  </a:lnTo>
                  <a:lnTo>
                    <a:pt x="2682" y="342"/>
                  </a:lnTo>
                  <a:lnTo>
                    <a:pt x="2682" y="335"/>
                  </a:lnTo>
                  <a:lnTo>
                    <a:pt x="2705" y="335"/>
                  </a:lnTo>
                  <a:lnTo>
                    <a:pt x="2705" y="342"/>
                  </a:lnTo>
                  <a:lnTo>
                    <a:pt x="2734" y="342"/>
                  </a:lnTo>
                  <a:lnTo>
                    <a:pt x="2734" y="347"/>
                  </a:lnTo>
                  <a:lnTo>
                    <a:pt x="2773" y="347"/>
                  </a:lnTo>
                  <a:lnTo>
                    <a:pt x="2773" y="353"/>
                  </a:lnTo>
                  <a:lnTo>
                    <a:pt x="2829" y="353"/>
                  </a:lnTo>
                  <a:lnTo>
                    <a:pt x="2829" y="359"/>
                  </a:lnTo>
                  <a:lnTo>
                    <a:pt x="2898" y="359"/>
                  </a:lnTo>
                  <a:lnTo>
                    <a:pt x="2898" y="364"/>
                  </a:lnTo>
                  <a:lnTo>
                    <a:pt x="2933" y="364"/>
                  </a:lnTo>
                  <a:lnTo>
                    <a:pt x="2933" y="370"/>
                  </a:lnTo>
                  <a:lnTo>
                    <a:pt x="2967" y="370"/>
                  </a:lnTo>
                  <a:lnTo>
                    <a:pt x="2967" y="375"/>
                  </a:lnTo>
                  <a:lnTo>
                    <a:pt x="3012" y="375"/>
                  </a:lnTo>
                  <a:lnTo>
                    <a:pt x="3012" y="382"/>
                  </a:lnTo>
                  <a:lnTo>
                    <a:pt x="3046" y="382"/>
                  </a:lnTo>
                  <a:lnTo>
                    <a:pt x="3046" y="387"/>
                  </a:lnTo>
                  <a:lnTo>
                    <a:pt x="3121" y="387"/>
                  </a:lnTo>
                  <a:lnTo>
                    <a:pt x="3121" y="392"/>
                  </a:lnTo>
                  <a:lnTo>
                    <a:pt x="3171" y="392"/>
                  </a:lnTo>
                  <a:lnTo>
                    <a:pt x="3171" y="399"/>
                  </a:lnTo>
                  <a:lnTo>
                    <a:pt x="3183" y="399"/>
                  </a:lnTo>
                  <a:lnTo>
                    <a:pt x="3183" y="392"/>
                  </a:lnTo>
                  <a:lnTo>
                    <a:pt x="3233" y="392"/>
                  </a:lnTo>
                  <a:lnTo>
                    <a:pt x="3233" y="399"/>
                  </a:lnTo>
                  <a:lnTo>
                    <a:pt x="3245" y="399"/>
                  </a:lnTo>
                  <a:lnTo>
                    <a:pt x="3245" y="404"/>
                  </a:lnTo>
                  <a:lnTo>
                    <a:pt x="3268" y="404"/>
                  </a:lnTo>
                  <a:lnTo>
                    <a:pt x="3268" y="410"/>
                  </a:lnTo>
                  <a:lnTo>
                    <a:pt x="3297" y="410"/>
                  </a:lnTo>
                  <a:lnTo>
                    <a:pt x="3297" y="416"/>
                  </a:lnTo>
                  <a:lnTo>
                    <a:pt x="3314" y="416"/>
                  </a:lnTo>
                  <a:lnTo>
                    <a:pt x="3314" y="421"/>
                  </a:lnTo>
                  <a:lnTo>
                    <a:pt x="3342" y="421"/>
                  </a:lnTo>
                  <a:lnTo>
                    <a:pt x="3342" y="427"/>
                  </a:lnTo>
                  <a:lnTo>
                    <a:pt x="3365" y="427"/>
                  </a:lnTo>
                  <a:lnTo>
                    <a:pt x="3365" y="433"/>
                  </a:lnTo>
                  <a:lnTo>
                    <a:pt x="3382" y="433"/>
                  </a:lnTo>
                  <a:lnTo>
                    <a:pt x="3382" y="439"/>
                  </a:lnTo>
                  <a:lnTo>
                    <a:pt x="3404" y="439"/>
                  </a:lnTo>
                  <a:lnTo>
                    <a:pt x="3404" y="444"/>
                  </a:lnTo>
                  <a:lnTo>
                    <a:pt x="3416" y="444"/>
                  </a:lnTo>
                  <a:lnTo>
                    <a:pt x="3416" y="449"/>
                  </a:lnTo>
                  <a:lnTo>
                    <a:pt x="3428" y="449"/>
                  </a:lnTo>
                  <a:lnTo>
                    <a:pt x="3428" y="456"/>
                  </a:lnTo>
                  <a:lnTo>
                    <a:pt x="3439" y="456"/>
                  </a:lnTo>
                  <a:lnTo>
                    <a:pt x="3439" y="461"/>
                  </a:lnTo>
                  <a:lnTo>
                    <a:pt x="3451" y="461"/>
                  </a:lnTo>
                  <a:lnTo>
                    <a:pt x="3451" y="467"/>
                  </a:lnTo>
                  <a:lnTo>
                    <a:pt x="3461" y="467"/>
                  </a:lnTo>
                  <a:lnTo>
                    <a:pt x="3461" y="473"/>
                  </a:lnTo>
                  <a:lnTo>
                    <a:pt x="3485" y="473"/>
                  </a:lnTo>
                  <a:lnTo>
                    <a:pt x="3485" y="478"/>
                  </a:lnTo>
                  <a:lnTo>
                    <a:pt x="3508" y="478"/>
                  </a:lnTo>
                  <a:lnTo>
                    <a:pt x="3508" y="484"/>
                  </a:lnTo>
                  <a:lnTo>
                    <a:pt x="3536" y="484"/>
                  </a:lnTo>
                  <a:lnTo>
                    <a:pt x="3536" y="490"/>
                  </a:lnTo>
                  <a:lnTo>
                    <a:pt x="3547" y="490"/>
                  </a:lnTo>
                  <a:lnTo>
                    <a:pt x="3547" y="496"/>
                  </a:lnTo>
                  <a:lnTo>
                    <a:pt x="3582" y="496"/>
                  </a:lnTo>
                  <a:lnTo>
                    <a:pt x="3582" y="501"/>
                  </a:lnTo>
                  <a:lnTo>
                    <a:pt x="3587" y="501"/>
                  </a:lnTo>
                  <a:lnTo>
                    <a:pt x="3587" y="506"/>
                  </a:lnTo>
                  <a:lnTo>
                    <a:pt x="3599" y="506"/>
                  </a:lnTo>
                  <a:lnTo>
                    <a:pt x="3599" y="513"/>
                  </a:lnTo>
                  <a:lnTo>
                    <a:pt x="3610" y="513"/>
                  </a:lnTo>
                  <a:lnTo>
                    <a:pt x="3610" y="518"/>
                  </a:lnTo>
                  <a:lnTo>
                    <a:pt x="3627" y="518"/>
                  </a:lnTo>
                  <a:lnTo>
                    <a:pt x="3627" y="524"/>
                  </a:lnTo>
                  <a:lnTo>
                    <a:pt x="3638" y="524"/>
                  </a:lnTo>
                  <a:lnTo>
                    <a:pt x="3638" y="530"/>
                  </a:lnTo>
                  <a:lnTo>
                    <a:pt x="3644" y="530"/>
                  </a:lnTo>
                  <a:lnTo>
                    <a:pt x="3644" y="535"/>
                  </a:lnTo>
                  <a:lnTo>
                    <a:pt x="3661" y="535"/>
                  </a:lnTo>
                  <a:lnTo>
                    <a:pt x="3661" y="541"/>
                  </a:lnTo>
                  <a:lnTo>
                    <a:pt x="3678" y="541"/>
                  </a:lnTo>
                  <a:lnTo>
                    <a:pt x="3678" y="547"/>
                  </a:lnTo>
                  <a:lnTo>
                    <a:pt x="3701" y="547"/>
                  </a:lnTo>
                  <a:lnTo>
                    <a:pt x="3701" y="553"/>
                  </a:lnTo>
                  <a:lnTo>
                    <a:pt x="3718" y="553"/>
                  </a:lnTo>
                  <a:lnTo>
                    <a:pt x="3718" y="558"/>
                  </a:lnTo>
                  <a:lnTo>
                    <a:pt x="3741" y="558"/>
                  </a:lnTo>
                  <a:lnTo>
                    <a:pt x="3741" y="563"/>
                  </a:lnTo>
                  <a:lnTo>
                    <a:pt x="3769" y="563"/>
                  </a:lnTo>
                  <a:lnTo>
                    <a:pt x="3769" y="570"/>
                  </a:lnTo>
                  <a:lnTo>
                    <a:pt x="3786" y="570"/>
                  </a:lnTo>
                  <a:lnTo>
                    <a:pt x="3786" y="575"/>
                  </a:lnTo>
                  <a:lnTo>
                    <a:pt x="3798" y="575"/>
                  </a:lnTo>
                  <a:lnTo>
                    <a:pt x="3798" y="580"/>
                  </a:lnTo>
                  <a:lnTo>
                    <a:pt x="3810" y="580"/>
                  </a:lnTo>
                  <a:lnTo>
                    <a:pt x="3810" y="587"/>
                  </a:lnTo>
                  <a:lnTo>
                    <a:pt x="3826" y="587"/>
                  </a:lnTo>
                  <a:lnTo>
                    <a:pt x="3826" y="592"/>
                  </a:lnTo>
                  <a:lnTo>
                    <a:pt x="3843" y="592"/>
                  </a:lnTo>
                  <a:lnTo>
                    <a:pt x="3843" y="598"/>
                  </a:lnTo>
                  <a:lnTo>
                    <a:pt x="3855" y="598"/>
                  </a:lnTo>
                  <a:lnTo>
                    <a:pt x="3855" y="604"/>
                  </a:lnTo>
                  <a:lnTo>
                    <a:pt x="3860" y="604"/>
                  </a:lnTo>
                  <a:lnTo>
                    <a:pt x="3860" y="609"/>
                  </a:lnTo>
                  <a:lnTo>
                    <a:pt x="3877" y="609"/>
                  </a:lnTo>
                  <a:lnTo>
                    <a:pt x="3877" y="615"/>
                  </a:lnTo>
                  <a:lnTo>
                    <a:pt x="3906" y="615"/>
                  </a:lnTo>
                  <a:lnTo>
                    <a:pt x="3906" y="620"/>
                  </a:lnTo>
                  <a:lnTo>
                    <a:pt x="3924" y="620"/>
                  </a:lnTo>
                  <a:lnTo>
                    <a:pt x="3924" y="627"/>
                  </a:lnTo>
                  <a:lnTo>
                    <a:pt x="3957" y="627"/>
                  </a:lnTo>
                  <a:lnTo>
                    <a:pt x="3957" y="632"/>
                  </a:lnTo>
                  <a:lnTo>
                    <a:pt x="3991" y="632"/>
                  </a:lnTo>
                  <a:lnTo>
                    <a:pt x="3991" y="637"/>
                  </a:lnTo>
                  <a:lnTo>
                    <a:pt x="4020" y="637"/>
                  </a:lnTo>
                  <a:lnTo>
                    <a:pt x="4020" y="643"/>
                  </a:lnTo>
                  <a:lnTo>
                    <a:pt x="4093" y="643"/>
                  </a:lnTo>
                  <a:lnTo>
                    <a:pt x="4093" y="649"/>
                  </a:lnTo>
                  <a:lnTo>
                    <a:pt x="4111" y="649"/>
                  </a:lnTo>
                  <a:lnTo>
                    <a:pt x="4111" y="655"/>
                  </a:lnTo>
                  <a:lnTo>
                    <a:pt x="4133" y="655"/>
                  </a:lnTo>
                  <a:lnTo>
                    <a:pt x="4133" y="660"/>
                  </a:lnTo>
                  <a:lnTo>
                    <a:pt x="4150" y="660"/>
                  </a:lnTo>
                  <a:lnTo>
                    <a:pt x="4150" y="665"/>
                  </a:lnTo>
                  <a:lnTo>
                    <a:pt x="4168" y="665"/>
                  </a:lnTo>
                  <a:lnTo>
                    <a:pt x="4168" y="672"/>
                  </a:lnTo>
                  <a:lnTo>
                    <a:pt x="4185" y="672"/>
                  </a:lnTo>
                  <a:lnTo>
                    <a:pt x="4185" y="677"/>
                  </a:lnTo>
                  <a:lnTo>
                    <a:pt x="4214" y="677"/>
                  </a:lnTo>
                  <a:lnTo>
                    <a:pt x="4214" y="683"/>
                  </a:lnTo>
                  <a:lnTo>
                    <a:pt x="4236" y="683"/>
                  </a:lnTo>
                  <a:lnTo>
                    <a:pt x="4236" y="689"/>
                  </a:lnTo>
                  <a:lnTo>
                    <a:pt x="4281" y="689"/>
                  </a:lnTo>
                  <a:lnTo>
                    <a:pt x="4281" y="694"/>
                  </a:lnTo>
                  <a:lnTo>
                    <a:pt x="4321" y="694"/>
                  </a:lnTo>
                  <a:lnTo>
                    <a:pt x="4321" y="700"/>
                  </a:lnTo>
                  <a:lnTo>
                    <a:pt x="4385" y="700"/>
                  </a:lnTo>
                  <a:lnTo>
                    <a:pt x="4385" y="706"/>
                  </a:lnTo>
                  <a:lnTo>
                    <a:pt x="4418" y="706"/>
                  </a:lnTo>
                  <a:lnTo>
                    <a:pt x="4418" y="712"/>
                  </a:lnTo>
                  <a:lnTo>
                    <a:pt x="4452" y="712"/>
                  </a:lnTo>
                  <a:lnTo>
                    <a:pt x="4452" y="717"/>
                  </a:lnTo>
                  <a:lnTo>
                    <a:pt x="4480" y="717"/>
                  </a:lnTo>
                  <a:lnTo>
                    <a:pt x="4480" y="723"/>
                  </a:lnTo>
                  <a:lnTo>
                    <a:pt x="4515" y="723"/>
                  </a:lnTo>
                  <a:lnTo>
                    <a:pt x="4515" y="729"/>
                  </a:lnTo>
                  <a:lnTo>
                    <a:pt x="4532" y="729"/>
                  </a:lnTo>
                  <a:lnTo>
                    <a:pt x="4532" y="734"/>
                  </a:lnTo>
                  <a:lnTo>
                    <a:pt x="4572" y="734"/>
                  </a:lnTo>
                  <a:lnTo>
                    <a:pt x="4572" y="739"/>
                  </a:lnTo>
                  <a:lnTo>
                    <a:pt x="4606" y="739"/>
                  </a:lnTo>
                  <a:lnTo>
                    <a:pt x="4606" y="746"/>
                  </a:lnTo>
                  <a:lnTo>
                    <a:pt x="4651" y="746"/>
                  </a:lnTo>
                  <a:lnTo>
                    <a:pt x="4651" y="751"/>
                  </a:lnTo>
                  <a:lnTo>
                    <a:pt x="4720" y="751"/>
                  </a:lnTo>
                  <a:lnTo>
                    <a:pt x="4720" y="757"/>
                  </a:lnTo>
                  <a:lnTo>
                    <a:pt x="4772" y="757"/>
                  </a:lnTo>
                  <a:lnTo>
                    <a:pt x="4772" y="763"/>
                  </a:lnTo>
                  <a:lnTo>
                    <a:pt x="4834" y="763"/>
                  </a:lnTo>
                  <a:lnTo>
                    <a:pt x="4834" y="768"/>
                  </a:lnTo>
                  <a:lnTo>
                    <a:pt x="4851" y="768"/>
                  </a:lnTo>
                  <a:lnTo>
                    <a:pt x="4851" y="774"/>
                  </a:lnTo>
                  <a:lnTo>
                    <a:pt x="4867" y="774"/>
                  </a:lnTo>
                  <a:lnTo>
                    <a:pt x="4867" y="780"/>
                  </a:lnTo>
                  <a:lnTo>
                    <a:pt x="4879" y="780"/>
                  </a:lnTo>
                  <a:lnTo>
                    <a:pt x="4879" y="786"/>
                  </a:lnTo>
                  <a:lnTo>
                    <a:pt x="4891" y="786"/>
                  </a:lnTo>
                  <a:lnTo>
                    <a:pt x="4891" y="791"/>
                  </a:lnTo>
                  <a:lnTo>
                    <a:pt x="4902" y="791"/>
                  </a:lnTo>
                  <a:lnTo>
                    <a:pt x="4902" y="796"/>
                  </a:lnTo>
                  <a:lnTo>
                    <a:pt x="4913" y="796"/>
                  </a:lnTo>
                  <a:lnTo>
                    <a:pt x="4913" y="803"/>
                  </a:lnTo>
                  <a:lnTo>
                    <a:pt x="4941" y="803"/>
                  </a:lnTo>
                  <a:lnTo>
                    <a:pt x="4941" y="808"/>
                  </a:lnTo>
                  <a:lnTo>
                    <a:pt x="4959" y="808"/>
                  </a:lnTo>
                  <a:lnTo>
                    <a:pt x="4959" y="814"/>
                  </a:lnTo>
                  <a:lnTo>
                    <a:pt x="4998" y="814"/>
                  </a:lnTo>
                  <a:lnTo>
                    <a:pt x="4998" y="820"/>
                  </a:lnTo>
                  <a:lnTo>
                    <a:pt x="5016" y="820"/>
                  </a:lnTo>
                  <a:lnTo>
                    <a:pt x="5016" y="825"/>
                  </a:lnTo>
                  <a:lnTo>
                    <a:pt x="5055" y="825"/>
                  </a:lnTo>
                  <a:lnTo>
                    <a:pt x="5055" y="831"/>
                  </a:lnTo>
                  <a:lnTo>
                    <a:pt x="5090" y="831"/>
                  </a:lnTo>
                  <a:lnTo>
                    <a:pt x="5090" y="837"/>
                  </a:lnTo>
                  <a:lnTo>
                    <a:pt x="5119" y="837"/>
                  </a:lnTo>
                  <a:lnTo>
                    <a:pt x="5119" y="843"/>
                  </a:lnTo>
                  <a:lnTo>
                    <a:pt x="5147" y="843"/>
                  </a:lnTo>
                  <a:lnTo>
                    <a:pt x="5147" y="848"/>
                  </a:lnTo>
                  <a:lnTo>
                    <a:pt x="5176" y="848"/>
                  </a:lnTo>
                  <a:lnTo>
                    <a:pt x="5176" y="853"/>
                  </a:lnTo>
                  <a:lnTo>
                    <a:pt x="5210" y="853"/>
                  </a:lnTo>
                  <a:lnTo>
                    <a:pt x="5210" y="860"/>
                  </a:lnTo>
                  <a:lnTo>
                    <a:pt x="5226" y="860"/>
                  </a:lnTo>
                  <a:lnTo>
                    <a:pt x="5226" y="865"/>
                  </a:lnTo>
                  <a:lnTo>
                    <a:pt x="5255" y="865"/>
                  </a:lnTo>
                  <a:lnTo>
                    <a:pt x="5255" y="871"/>
                  </a:lnTo>
                  <a:lnTo>
                    <a:pt x="5271" y="871"/>
                  </a:lnTo>
                  <a:lnTo>
                    <a:pt x="5271" y="877"/>
                  </a:lnTo>
                  <a:lnTo>
                    <a:pt x="5295" y="877"/>
                  </a:lnTo>
                  <a:lnTo>
                    <a:pt x="5295" y="882"/>
                  </a:lnTo>
                  <a:lnTo>
                    <a:pt x="5340" y="882"/>
                  </a:lnTo>
                  <a:lnTo>
                    <a:pt x="5340" y="888"/>
                  </a:lnTo>
                  <a:lnTo>
                    <a:pt x="5352" y="888"/>
                  </a:lnTo>
                  <a:lnTo>
                    <a:pt x="5352" y="882"/>
                  </a:lnTo>
                  <a:lnTo>
                    <a:pt x="5369" y="882"/>
                  </a:lnTo>
                  <a:lnTo>
                    <a:pt x="5369" y="888"/>
                  </a:lnTo>
                  <a:lnTo>
                    <a:pt x="5568" y="888"/>
                  </a:lnTo>
                  <a:lnTo>
                    <a:pt x="5568" y="882"/>
                  </a:lnTo>
                  <a:lnTo>
                    <a:pt x="5585" y="882"/>
                  </a:lnTo>
                  <a:lnTo>
                    <a:pt x="5585" y="888"/>
                  </a:lnTo>
                  <a:lnTo>
                    <a:pt x="5875" y="888"/>
                  </a:lnTo>
                  <a:lnTo>
                    <a:pt x="5875" y="882"/>
                  </a:lnTo>
                  <a:lnTo>
                    <a:pt x="6024" y="882"/>
                  </a:lnTo>
                  <a:lnTo>
                    <a:pt x="6024" y="888"/>
                  </a:lnTo>
                  <a:lnTo>
                    <a:pt x="6074" y="888"/>
                  </a:lnTo>
                  <a:lnTo>
                    <a:pt x="6074" y="894"/>
                  </a:lnTo>
                  <a:lnTo>
                    <a:pt x="6120" y="894"/>
                  </a:lnTo>
                  <a:lnTo>
                    <a:pt x="6120" y="900"/>
                  </a:lnTo>
                  <a:lnTo>
                    <a:pt x="6183" y="900"/>
                  </a:lnTo>
                  <a:lnTo>
                    <a:pt x="6183" y="905"/>
                  </a:lnTo>
                  <a:lnTo>
                    <a:pt x="6234" y="905"/>
                  </a:lnTo>
                  <a:lnTo>
                    <a:pt x="6234" y="910"/>
                  </a:lnTo>
                  <a:lnTo>
                    <a:pt x="6252" y="910"/>
                  </a:lnTo>
                  <a:lnTo>
                    <a:pt x="6252" y="917"/>
                  </a:lnTo>
                  <a:lnTo>
                    <a:pt x="6262" y="917"/>
                  </a:lnTo>
                  <a:lnTo>
                    <a:pt x="6262" y="910"/>
                  </a:lnTo>
                  <a:lnTo>
                    <a:pt x="6297" y="910"/>
                  </a:lnTo>
                  <a:lnTo>
                    <a:pt x="6297" y="917"/>
                  </a:lnTo>
                  <a:lnTo>
                    <a:pt x="6371" y="917"/>
                  </a:lnTo>
                  <a:lnTo>
                    <a:pt x="6371" y="910"/>
                  </a:lnTo>
                  <a:lnTo>
                    <a:pt x="6468" y="910"/>
                  </a:lnTo>
                  <a:lnTo>
                    <a:pt x="6468" y="917"/>
                  </a:lnTo>
                  <a:lnTo>
                    <a:pt x="6485" y="917"/>
                  </a:lnTo>
                  <a:lnTo>
                    <a:pt x="6485" y="910"/>
                  </a:lnTo>
                  <a:lnTo>
                    <a:pt x="6496" y="910"/>
                  </a:lnTo>
                  <a:lnTo>
                    <a:pt x="6496" y="917"/>
                  </a:lnTo>
                  <a:lnTo>
                    <a:pt x="6535" y="917"/>
                  </a:lnTo>
                  <a:lnTo>
                    <a:pt x="6535" y="922"/>
                  </a:lnTo>
                  <a:lnTo>
                    <a:pt x="6564" y="922"/>
                  </a:lnTo>
                  <a:lnTo>
                    <a:pt x="6564" y="928"/>
                  </a:lnTo>
                  <a:lnTo>
                    <a:pt x="6610" y="928"/>
                  </a:lnTo>
                  <a:lnTo>
                    <a:pt x="6610" y="934"/>
                  </a:lnTo>
                  <a:lnTo>
                    <a:pt x="6644" y="934"/>
                  </a:lnTo>
                  <a:lnTo>
                    <a:pt x="6644" y="928"/>
                  </a:lnTo>
                  <a:lnTo>
                    <a:pt x="6673" y="928"/>
                  </a:lnTo>
                  <a:lnTo>
                    <a:pt x="6673" y="934"/>
                  </a:lnTo>
                  <a:lnTo>
                    <a:pt x="6718" y="934"/>
                  </a:lnTo>
                  <a:lnTo>
                    <a:pt x="6718" y="939"/>
                  </a:lnTo>
                  <a:lnTo>
                    <a:pt x="6803" y="939"/>
                  </a:lnTo>
                  <a:lnTo>
                    <a:pt x="6803" y="945"/>
                  </a:lnTo>
                  <a:lnTo>
                    <a:pt x="6900" y="945"/>
                  </a:lnTo>
                  <a:lnTo>
                    <a:pt x="6900" y="951"/>
                  </a:lnTo>
                  <a:lnTo>
                    <a:pt x="7333" y="951"/>
                  </a:lnTo>
                  <a:lnTo>
                    <a:pt x="7333" y="945"/>
                  </a:lnTo>
                  <a:lnTo>
                    <a:pt x="7561" y="945"/>
                  </a:lnTo>
                  <a:lnTo>
                    <a:pt x="7561" y="951"/>
                  </a:lnTo>
                  <a:lnTo>
                    <a:pt x="7589" y="951"/>
                  </a:lnTo>
                  <a:lnTo>
                    <a:pt x="7589" y="945"/>
                  </a:lnTo>
                  <a:lnTo>
                    <a:pt x="7640" y="945"/>
                  </a:lnTo>
                  <a:lnTo>
                    <a:pt x="7640" y="939"/>
                  </a:lnTo>
                  <a:lnTo>
                    <a:pt x="7663" y="939"/>
                  </a:lnTo>
                  <a:lnTo>
                    <a:pt x="7663" y="934"/>
                  </a:lnTo>
                  <a:lnTo>
                    <a:pt x="7685" y="934"/>
                  </a:lnTo>
                  <a:lnTo>
                    <a:pt x="7685" y="939"/>
                  </a:lnTo>
                  <a:lnTo>
                    <a:pt x="7697" y="939"/>
                  </a:lnTo>
                  <a:lnTo>
                    <a:pt x="7697" y="934"/>
                  </a:lnTo>
                  <a:lnTo>
                    <a:pt x="7720" y="934"/>
                  </a:lnTo>
                  <a:lnTo>
                    <a:pt x="7720" y="928"/>
                  </a:lnTo>
                  <a:lnTo>
                    <a:pt x="7765" y="928"/>
                  </a:lnTo>
                  <a:lnTo>
                    <a:pt x="7765" y="922"/>
                  </a:lnTo>
                  <a:lnTo>
                    <a:pt x="7789" y="922"/>
                  </a:lnTo>
                  <a:lnTo>
                    <a:pt x="7789" y="917"/>
                  </a:lnTo>
                  <a:lnTo>
                    <a:pt x="7891" y="917"/>
                  </a:lnTo>
                  <a:lnTo>
                    <a:pt x="7891" y="922"/>
                  </a:lnTo>
                  <a:lnTo>
                    <a:pt x="7987" y="922"/>
                  </a:lnTo>
                  <a:lnTo>
                    <a:pt x="7987" y="928"/>
                  </a:lnTo>
                  <a:lnTo>
                    <a:pt x="8079" y="928"/>
                  </a:lnTo>
                  <a:lnTo>
                    <a:pt x="8079" y="934"/>
                  </a:lnTo>
                  <a:lnTo>
                    <a:pt x="8090" y="934"/>
                  </a:lnTo>
                  <a:lnTo>
                    <a:pt x="8090" y="928"/>
                  </a:lnTo>
                  <a:lnTo>
                    <a:pt x="8147" y="928"/>
                  </a:lnTo>
                  <a:lnTo>
                    <a:pt x="8147" y="922"/>
                  </a:lnTo>
                  <a:lnTo>
                    <a:pt x="8193" y="922"/>
                  </a:lnTo>
                  <a:lnTo>
                    <a:pt x="8193" y="917"/>
                  </a:lnTo>
                  <a:lnTo>
                    <a:pt x="8221" y="917"/>
                  </a:lnTo>
                  <a:lnTo>
                    <a:pt x="8221" y="910"/>
                  </a:lnTo>
                  <a:lnTo>
                    <a:pt x="8260" y="910"/>
                  </a:lnTo>
                  <a:lnTo>
                    <a:pt x="8260" y="905"/>
                  </a:lnTo>
                  <a:lnTo>
                    <a:pt x="8307" y="905"/>
                  </a:lnTo>
                  <a:lnTo>
                    <a:pt x="8307" y="900"/>
                  </a:lnTo>
                  <a:lnTo>
                    <a:pt x="8352" y="900"/>
                  </a:lnTo>
                  <a:lnTo>
                    <a:pt x="8352" y="894"/>
                  </a:lnTo>
                  <a:lnTo>
                    <a:pt x="8392" y="894"/>
                  </a:lnTo>
                  <a:lnTo>
                    <a:pt x="8392" y="888"/>
                  </a:lnTo>
                  <a:lnTo>
                    <a:pt x="8431" y="888"/>
                  </a:lnTo>
                  <a:lnTo>
                    <a:pt x="8431" y="882"/>
                  </a:lnTo>
                  <a:lnTo>
                    <a:pt x="8471" y="882"/>
                  </a:lnTo>
                  <a:lnTo>
                    <a:pt x="8471" y="877"/>
                  </a:lnTo>
                  <a:lnTo>
                    <a:pt x="8483" y="877"/>
                  </a:lnTo>
                  <a:lnTo>
                    <a:pt x="8483" y="871"/>
                  </a:lnTo>
                  <a:lnTo>
                    <a:pt x="8506" y="871"/>
                  </a:lnTo>
                  <a:lnTo>
                    <a:pt x="8506" y="865"/>
                  </a:lnTo>
                  <a:lnTo>
                    <a:pt x="8516" y="865"/>
                  </a:lnTo>
                  <a:lnTo>
                    <a:pt x="8516" y="860"/>
                  </a:lnTo>
                  <a:lnTo>
                    <a:pt x="8528" y="860"/>
                  </a:lnTo>
                  <a:lnTo>
                    <a:pt x="8528" y="853"/>
                  </a:lnTo>
                  <a:lnTo>
                    <a:pt x="8545" y="853"/>
                  </a:lnTo>
                  <a:lnTo>
                    <a:pt x="8545" y="848"/>
                  </a:lnTo>
                  <a:lnTo>
                    <a:pt x="8562" y="848"/>
                  </a:lnTo>
                  <a:lnTo>
                    <a:pt x="8562" y="843"/>
                  </a:lnTo>
                  <a:lnTo>
                    <a:pt x="8585" y="843"/>
                  </a:lnTo>
                  <a:lnTo>
                    <a:pt x="8585" y="837"/>
                  </a:lnTo>
                  <a:lnTo>
                    <a:pt x="8597" y="837"/>
                  </a:lnTo>
                  <a:lnTo>
                    <a:pt x="8597" y="831"/>
                  </a:lnTo>
                  <a:lnTo>
                    <a:pt x="8613" y="831"/>
                  </a:lnTo>
                  <a:lnTo>
                    <a:pt x="8613" y="825"/>
                  </a:lnTo>
                  <a:lnTo>
                    <a:pt x="8642" y="825"/>
                  </a:lnTo>
                  <a:lnTo>
                    <a:pt x="8642" y="820"/>
                  </a:lnTo>
                  <a:lnTo>
                    <a:pt x="8659" y="820"/>
                  </a:lnTo>
                  <a:lnTo>
                    <a:pt x="8659" y="814"/>
                  </a:lnTo>
                  <a:lnTo>
                    <a:pt x="8682" y="814"/>
                  </a:lnTo>
                  <a:lnTo>
                    <a:pt x="8682" y="808"/>
                  </a:lnTo>
                  <a:lnTo>
                    <a:pt x="8687" y="808"/>
                  </a:lnTo>
                  <a:lnTo>
                    <a:pt x="8687" y="803"/>
                  </a:lnTo>
                  <a:lnTo>
                    <a:pt x="8711" y="803"/>
                  </a:lnTo>
                  <a:lnTo>
                    <a:pt x="8711" y="796"/>
                  </a:lnTo>
                  <a:lnTo>
                    <a:pt x="8722" y="796"/>
                  </a:lnTo>
                  <a:lnTo>
                    <a:pt x="8722" y="791"/>
                  </a:lnTo>
                  <a:lnTo>
                    <a:pt x="8728" y="791"/>
                  </a:lnTo>
                  <a:lnTo>
                    <a:pt x="8728" y="786"/>
                  </a:lnTo>
                  <a:lnTo>
                    <a:pt x="8739" y="786"/>
                  </a:lnTo>
                  <a:lnTo>
                    <a:pt x="8739" y="780"/>
                  </a:lnTo>
                  <a:lnTo>
                    <a:pt x="8779" y="780"/>
                  </a:lnTo>
                  <a:lnTo>
                    <a:pt x="8779" y="774"/>
                  </a:lnTo>
                  <a:lnTo>
                    <a:pt x="8801" y="774"/>
                  </a:lnTo>
                  <a:lnTo>
                    <a:pt x="8801" y="768"/>
                  </a:lnTo>
                  <a:lnTo>
                    <a:pt x="8825" y="768"/>
                  </a:lnTo>
                  <a:lnTo>
                    <a:pt x="8825" y="763"/>
                  </a:lnTo>
                  <a:lnTo>
                    <a:pt x="8842" y="763"/>
                  </a:lnTo>
                  <a:lnTo>
                    <a:pt x="8842" y="757"/>
                  </a:lnTo>
                  <a:lnTo>
                    <a:pt x="8853" y="757"/>
                  </a:lnTo>
                  <a:lnTo>
                    <a:pt x="8853" y="751"/>
                  </a:lnTo>
                  <a:lnTo>
                    <a:pt x="8875" y="751"/>
                  </a:lnTo>
                  <a:lnTo>
                    <a:pt x="8875" y="746"/>
                  </a:lnTo>
                  <a:lnTo>
                    <a:pt x="8887" y="746"/>
                  </a:lnTo>
                  <a:lnTo>
                    <a:pt x="8887" y="739"/>
                  </a:lnTo>
                  <a:lnTo>
                    <a:pt x="8899" y="739"/>
                  </a:lnTo>
                  <a:lnTo>
                    <a:pt x="8899" y="734"/>
                  </a:lnTo>
                  <a:lnTo>
                    <a:pt x="8904" y="734"/>
                  </a:lnTo>
                  <a:lnTo>
                    <a:pt x="8904" y="729"/>
                  </a:lnTo>
                  <a:lnTo>
                    <a:pt x="8910" y="729"/>
                  </a:lnTo>
                  <a:lnTo>
                    <a:pt x="8910" y="723"/>
                  </a:lnTo>
                  <a:lnTo>
                    <a:pt x="8920" y="723"/>
                  </a:lnTo>
                  <a:lnTo>
                    <a:pt x="8920" y="717"/>
                  </a:lnTo>
                  <a:lnTo>
                    <a:pt x="8932" y="717"/>
                  </a:lnTo>
                  <a:lnTo>
                    <a:pt x="8932" y="712"/>
                  </a:lnTo>
                  <a:lnTo>
                    <a:pt x="8944" y="712"/>
                  </a:lnTo>
                  <a:lnTo>
                    <a:pt x="8944" y="706"/>
                  </a:lnTo>
                  <a:lnTo>
                    <a:pt x="8960" y="706"/>
                  </a:lnTo>
                  <a:lnTo>
                    <a:pt x="8960" y="700"/>
                  </a:lnTo>
                  <a:lnTo>
                    <a:pt x="8972" y="700"/>
                  </a:lnTo>
                  <a:lnTo>
                    <a:pt x="8972" y="694"/>
                  </a:lnTo>
                  <a:lnTo>
                    <a:pt x="8995" y="694"/>
                  </a:lnTo>
                  <a:lnTo>
                    <a:pt x="8995" y="689"/>
                  </a:lnTo>
                  <a:lnTo>
                    <a:pt x="9018" y="689"/>
                  </a:lnTo>
                  <a:lnTo>
                    <a:pt x="9018" y="683"/>
                  </a:lnTo>
                  <a:lnTo>
                    <a:pt x="9034" y="683"/>
                  </a:lnTo>
                  <a:lnTo>
                    <a:pt x="9034" y="677"/>
                  </a:lnTo>
                  <a:lnTo>
                    <a:pt x="9052" y="677"/>
                  </a:lnTo>
                  <a:lnTo>
                    <a:pt x="9052" y="672"/>
                  </a:lnTo>
                  <a:lnTo>
                    <a:pt x="9063" y="672"/>
                  </a:lnTo>
                  <a:lnTo>
                    <a:pt x="9063" y="665"/>
                  </a:lnTo>
                  <a:lnTo>
                    <a:pt x="9075" y="665"/>
                  </a:lnTo>
                  <a:lnTo>
                    <a:pt x="9075" y="660"/>
                  </a:lnTo>
                  <a:lnTo>
                    <a:pt x="9081" y="660"/>
                  </a:lnTo>
                  <a:lnTo>
                    <a:pt x="9081" y="655"/>
                  </a:lnTo>
                  <a:lnTo>
                    <a:pt x="9086" y="655"/>
                  </a:lnTo>
                  <a:lnTo>
                    <a:pt x="9086" y="649"/>
                  </a:lnTo>
                  <a:lnTo>
                    <a:pt x="9091" y="649"/>
                  </a:lnTo>
                  <a:lnTo>
                    <a:pt x="9091" y="643"/>
                  </a:lnTo>
                  <a:lnTo>
                    <a:pt x="9098" y="643"/>
                  </a:lnTo>
                  <a:lnTo>
                    <a:pt x="9098" y="637"/>
                  </a:lnTo>
                  <a:lnTo>
                    <a:pt x="9115" y="637"/>
                  </a:lnTo>
                  <a:lnTo>
                    <a:pt x="9115" y="632"/>
                  </a:lnTo>
                  <a:lnTo>
                    <a:pt x="9132" y="632"/>
                  </a:lnTo>
                  <a:lnTo>
                    <a:pt x="9132" y="627"/>
                  </a:lnTo>
                  <a:lnTo>
                    <a:pt x="9155" y="627"/>
                  </a:lnTo>
                  <a:lnTo>
                    <a:pt x="9155" y="620"/>
                  </a:lnTo>
                  <a:lnTo>
                    <a:pt x="9165" y="620"/>
                  </a:lnTo>
                  <a:lnTo>
                    <a:pt x="9165" y="615"/>
                  </a:lnTo>
                  <a:lnTo>
                    <a:pt x="9183" y="615"/>
                  </a:lnTo>
                  <a:lnTo>
                    <a:pt x="9183" y="609"/>
                  </a:lnTo>
                  <a:lnTo>
                    <a:pt x="9200" y="609"/>
                  </a:lnTo>
                  <a:lnTo>
                    <a:pt x="9200" y="604"/>
                  </a:lnTo>
                  <a:lnTo>
                    <a:pt x="9212" y="604"/>
                  </a:lnTo>
                  <a:lnTo>
                    <a:pt x="9212" y="598"/>
                  </a:lnTo>
                  <a:lnTo>
                    <a:pt x="9222" y="598"/>
                  </a:lnTo>
                  <a:lnTo>
                    <a:pt x="9222" y="592"/>
                  </a:lnTo>
                  <a:lnTo>
                    <a:pt x="9229" y="592"/>
                  </a:lnTo>
                  <a:lnTo>
                    <a:pt x="9229" y="587"/>
                  </a:lnTo>
                  <a:lnTo>
                    <a:pt x="9240" y="587"/>
                  </a:lnTo>
                  <a:lnTo>
                    <a:pt x="9240" y="580"/>
                  </a:lnTo>
                  <a:lnTo>
                    <a:pt x="9246" y="580"/>
                  </a:lnTo>
                  <a:lnTo>
                    <a:pt x="9246" y="575"/>
                  </a:lnTo>
                  <a:lnTo>
                    <a:pt x="9251" y="575"/>
                  </a:lnTo>
                  <a:lnTo>
                    <a:pt x="9251" y="570"/>
                  </a:lnTo>
                  <a:lnTo>
                    <a:pt x="9262" y="570"/>
                  </a:lnTo>
                  <a:lnTo>
                    <a:pt x="9262" y="563"/>
                  </a:lnTo>
                  <a:lnTo>
                    <a:pt x="9269" y="563"/>
                  </a:lnTo>
                  <a:lnTo>
                    <a:pt x="9269" y="558"/>
                  </a:lnTo>
                  <a:lnTo>
                    <a:pt x="9286" y="558"/>
                  </a:lnTo>
                  <a:lnTo>
                    <a:pt x="9286" y="553"/>
                  </a:lnTo>
                  <a:lnTo>
                    <a:pt x="9297" y="553"/>
                  </a:lnTo>
                  <a:lnTo>
                    <a:pt x="9297" y="547"/>
                  </a:lnTo>
                  <a:lnTo>
                    <a:pt x="9319" y="547"/>
                  </a:lnTo>
                  <a:lnTo>
                    <a:pt x="9319" y="541"/>
                  </a:lnTo>
                  <a:lnTo>
                    <a:pt x="9331" y="541"/>
                  </a:lnTo>
                  <a:lnTo>
                    <a:pt x="9331" y="535"/>
                  </a:lnTo>
                  <a:lnTo>
                    <a:pt x="9348" y="535"/>
                  </a:lnTo>
                  <a:lnTo>
                    <a:pt x="9348" y="530"/>
                  </a:lnTo>
                  <a:lnTo>
                    <a:pt x="9365" y="530"/>
                  </a:lnTo>
                  <a:lnTo>
                    <a:pt x="9365" y="524"/>
                  </a:lnTo>
                  <a:lnTo>
                    <a:pt x="9371" y="524"/>
                  </a:lnTo>
                  <a:lnTo>
                    <a:pt x="9371" y="518"/>
                  </a:lnTo>
                  <a:lnTo>
                    <a:pt x="9388" y="518"/>
                  </a:lnTo>
                  <a:lnTo>
                    <a:pt x="9388" y="513"/>
                  </a:lnTo>
                  <a:lnTo>
                    <a:pt x="9399" y="513"/>
                  </a:lnTo>
                  <a:lnTo>
                    <a:pt x="9399" y="506"/>
                  </a:lnTo>
                  <a:lnTo>
                    <a:pt x="9416" y="506"/>
                  </a:lnTo>
                  <a:lnTo>
                    <a:pt x="9416" y="501"/>
                  </a:lnTo>
                  <a:lnTo>
                    <a:pt x="9422" y="501"/>
                  </a:lnTo>
                  <a:lnTo>
                    <a:pt x="9422" y="496"/>
                  </a:lnTo>
                  <a:lnTo>
                    <a:pt x="9438" y="496"/>
                  </a:lnTo>
                  <a:lnTo>
                    <a:pt x="9438" y="490"/>
                  </a:lnTo>
                  <a:lnTo>
                    <a:pt x="9456" y="490"/>
                  </a:lnTo>
                  <a:lnTo>
                    <a:pt x="9456" y="484"/>
                  </a:lnTo>
                  <a:lnTo>
                    <a:pt x="9479" y="484"/>
                  </a:lnTo>
                  <a:lnTo>
                    <a:pt x="9479" y="478"/>
                  </a:lnTo>
                  <a:lnTo>
                    <a:pt x="9495" y="478"/>
                  </a:lnTo>
                  <a:lnTo>
                    <a:pt x="9495" y="473"/>
                  </a:lnTo>
                  <a:lnTo>
                    <a:pt x="9513" y="473"/>
                  </a:lnTo>
                  <a:lnTo>
                    <a:pt x="9513" y="467"/>
                  </a:lnTo>
                  <a:lnTo>
                    <a:pt x="9536" y="467"/>
                  </a:lnTo>
                  <a:lnTo>
                    <a:pt x="9536" y="461"/>
                  </a:lnTo>
                  <a:lnTo>
                    <a:pt x="9542" y="461"/>
                  </a:lnTo>
                  <a:lnTo>
                    <a:pt x="9542" y="456"/>
                  </a:lnTo>
                  <a:lnTo>
                    <a:pt x="9547" y="456"/>
                  </a:lnTo>
                  <a:lnTo>
                    <a:pt x="9547" y="449"/>
                  </a:lnTo>
                  <a:lnTo>
                    <a:pt x="9559" y="449"/>
                  </a:lnTo>
                  <a:lnTo>
                    <a:pt x="9559" y="444"/>
                  </a:lnTo>
                  <a:lnTo>
                    <a:pt x="9564" y="444"/>
                  </a:lnTo>
                  <a:lnTo>
                    <a:pt x="9564" y="439"/>
                  </a:lnTo>
                  <a:lnTo>
                    <a:pt x="9576" y="439"/>
                  </a:lnTo>
                  <a:lnTo>
                    <a:pt x="9576" y="433"/>
                  </a:lnTo>
                  <a:lnTo>
                    <a:pt x="9581" y="433"/>
                  </a:lnTo>
                  <a:lnTo>
                    <a:pt x="9581" y="427"/>
                  </a:lnTo>
                  <a:lnTo>
                    <a:pt x="9599" y="427"/>
                  </a:lnTo>
                  <a:lnTo>
                    <a:pt x="9599" y="421"/>
                  </a:lnTo>
                  <a:lnTo>
                    <a:pt x="9609" y="421"/>
                  </a:lnTo>
                  <a:lnTo>
                    <a:pt x="9609" y="416"/>
                  </a:lnTo>
                  <a:lnTo>
                    <a:pt x="9621" y="416"/>
                  </a:lnTo>
                  <a:lnTo>
                    <a:pt x="9621" y="410"/>
                  </a:lnTo>
                  <a:lnTo>
                    <a:pt x="9633" y="410"/>
                  </a:lnTo>
                  <a:lnTo>
                    <a:pt x="9633" y="404"/>
                  </a:lnTo>
                  <a:lnTo>
                    <a:pt x="9650" y="404"/>
                  </a:lnTo>
                  <a:lnTo>
                    <a:pt x="9650" y="399"/>
                  </a:lnTo>
                  <a:lnTo>
                    <a:pt x="9661" y="399"/>
                  </a:lnTo>
                  <a:lnTo>
                    <a:pt x="9661" y="392"/>
                  </a:lnTo>
                  <a:lnTo>
                    <a:pt x="9667" y="392"/>
                  </a:lnTo>
                  <a:lnTo>
                    <a:pt x="9667" y="387"/>
                  </a:lnTo>
                  <a:lnTo>
                    <a:pt x="9673" y="387"/>
                  </a:lnTo>
                  <a:lnTo>
                    <a:pt x="9673" y="382"/>
                  </a:lnTo>
                  <a:lnTo>
                    <a:pt x="9678" y="382"/>
                  </a:lnTo>
                  <a:lnTo>
                    <a:pt x="9678" y="375"/>
                  </a:lnTo>
                  <a:lnTo>
                    <a:pt x="9684" y="375"/>
                  </a:lnTo>
                  <a:lnTo>
                    <a:pt x="9684" y="370"/>
                  </a:lnTo>
                  <a:lnTo>
                    <a:pt x="9690" y="370"/>
                  </a:lnTo>
                  <a:lnTo>
                    <a:pt x="9690" y="364"/>
                  </a:lnTo>
                  <a:lnTo>
                    <a:pt x="9695" y="364"/>
                  </a:lnTo>
                  <a:lnTo>
                    <a:pt x="9695" y="359"/>
                  </a:lnTo>
                  <a:lnTo>
                    <a:pt x="9701" y="359"/>
                  </a:lnTo>
                  <a:lnTo>
                    <a:pt x="9701" y="353"/>
                  </a:lnTo>
                  <a:lnTo>
                    <a:pt x="9718" y="353"/>
                  </a:lnTo>
                  <a:lnTo>
                    <a:pt x="9718" y="347"/>
                  </a:lnTo>
                  <a:lnTo>
                    <a:pt x="9730" y="347"/>
                  </a:lnTo>
                  <a:lnTo>
                    <a:pt x="9730" y="342"/>
                  </a:lnTo>
                  <a:lnTo>
                    <a:pt x="9740" y="342"/>
                  </a:lnTo>
                  <a:lnTo>
                    <a:pt x="9740" y="335"/>
                  </a:lnTo>
                  <a:lnTo>
                    <a:pt x="9752" y="335"/>
                  </a:lnTo>
                  <a:lnTo>
                    <a:pt x="9752" y="330"/>
                  </a:lnTo>
                  <a:lnTo>
                    <a:pt x="9758" y="330"/>
                  </a:lnTo>
                  <a:lnTo>
                    <a:pt x="9758" y="325"/>
                  </a:lnTo>
                  <a:lnTo>
                    <a:pt x="9763" y="325"/>
                  </a:lnTo>
                  <a:lnTo>
                    <a:pt x="9763" y="318"/>
                  </a:lnTo>
                  <a:lnTo>
                    <a:pt x="9775" y="318"/>
                  </a:lnTo>
                  <a:lnTo>
                    <a:pt x="9775" y="313"/>
                  </a:lnTo>
                  <a:lnTo>
                    <a:pt x="9780" y="313"/>
                  </a:lnTo>
                  <a:lnTo>
                    <a:pt x="9780" y="308"/>
                  </a:lnTo>
                  <a:lnTo>
                    <a:pt x="9792" y="308"/>
                  </a:lnTo>
                  <a:lnTo>
                    <a:pt x="9792" y="302"/>
                  </a:lnTo>
                  <a:lnTo>
                    <a:pt x="9803" y="302"/>
                  </a:lnTo>
                  <a:lnTo>
                    <a:pt x="9803" y="296"/>
                  </a:lnTo>
                  <a:lnTo>
                    <a:pt x="9815" y="296"/>
                  </a:lnTo>
                  <a:lnTo>
                    <a:pt x="9815" y="290"/>
                  </a:lnTo>
                  <a:lnTo>
                    <a:pt x="9826" y="290"/>
                  </a:lnTo>
                  <a:lnTo>
                    <a:pt x="9826" y="285"/>
                  </a:lnTo>
                  <a:lnTo>
                    <a:pt x="9843" y="285"/>
                  </a:lnTo>
                  <a:lnTo>
                    <a:pt x="9843" y="279"/>
                  </a:lnTo>
                  <a:lnTo>
                    <a:pt x="9854" y="279"/>
                  </a:lnTo>
                  <a:lnTo>
                    <a:pt x="9854" y="273"/>
                  </a:lnTo>
                  <a:lnTo>
                    <a:pt x="9866" y="273"/>
                  </a:lnTo>
                  <a:lnTo>
                    <a:pt x="9866" y="268"/>
                  </a:lnTo>
                  <a:lnTo>
                    <a:pt x="9877" y="268"/>
                  </a:lnTo>
                  <a:lnTo>
                    <a:pt x="9877" y="261"/>
                  </a:lnTo>
                  <a:lnTo>
                    <a:pt x="9889" y="261"/>
                  </a:lnTo>
                  <a:lnTo>
                    <a:pt x="9889" y="256"/>
                  </a:lnTo>
                  <a:lnTo>
                    <a:pt x="9900" y="256"/>
                  </a:lnTo>
                  <a:lnTo>
                    <a:pt x="9900" y="251"/>
                  </a:lnTo>
                  <a:lnTo>
                    <a:pt x="9911" y="251"/>
                  </a:lnTo>
                  <a:lnTo>
                    <a:pt x="9911" y="245"/>
                  </a:lnTo>
                  <a:lnTo>
                    <a:pt x="9923" y="245"/>
                  </a:lnTo>
                  <a:lnTo>
                    <a:pt x="9923" y="239"/>
                  </a:lnTo>
                  <a:lnTo>
                    <a:pt x="9929" y="239"/>
                  </a:lnTo>
                  <a:lnTo>
                    <a:pt x="9929" y="233"/>
                  </a:lnTo>
                  <a:lnTo>
                    <a:pt x="9940" y="233"/>
                  </a:lnTo>
                  <a:lnTo>
                    <a:pt x="9940" y="228"/>
                  </a:lnTo>
                  <a:lnTo>
                    <a:pt x="9951" y="228"/>
                  </a:lnTo>
                  <a:lnTo>
                    <a:pt x="9951" y="223"/>
                  </a:lnTo>
                  <a:lnTo>
                    <a:pt x="9963" y="223"/>
                  </a:lnTo>
                  <a:lnTo>
                    <a:pt x="9963" y="216"/>
                  </a:lnTo>
                  <a:lnTo>
                    <a:pt x="9974" y="216"/>
                  </a:lnTo>
                  <a:lnTo>
                    <a:pt x="9974" y="211"/>
                  </a:lnTo>
                  <a:lnTo>
                    <a:pt x="9986" y="211"/>
                  </a:lnTo>
                  <a:lnTo>
                    <a:pt x="9986" y="205"/>
                  </a:lnTo>
                  <a:lnTo>
                    <a:pt x="9997" y="205"/>
                  </a:lnTo>
                  <a:lnTo>
                    <a:pt x="9997" y="200"/>
                  </a:lnTo>
                  <a:lnTo>
                    <a:pt x="10003" y="200"/>
                  </a:lnTo>
                  <a:lnTo>
                    <a:pt x="10003" y="194"/>
                  </a:lnTo>
                  <a:lnTo>
                    <a:pt x="10015" y="194"/>
                  </a:lnTo>
                  <a:lnTo>
                    <a:pt x="10015" y="188"/>
                  </a:lnTo>
                  <a:lnTo>
                    <a:pt x="10025" y="188"/>
                  </a:lnTo>
                  <a:lnTo>
                    <a:pt x="10025" y="183"/>
                  </a:lnTo>
                  <a:lnTo>
                    <a:pt x="10037" y="183"/>
                  </a:lnTo>
                  <a:lnTo>
                    <a:pt x="10037" y="176"/>
                  </a:lnTo>
                  <a:lnTo>
                    <a:pt x="10048" y="176"/>
                  </a:lnTo>
                  <a:lnTo>
                    <a:pt x="10048" y="171"/>
                  </a:lnTo>
                  <a:lnTo>
                    <a:pt x="10060" y="171"/>
                  </a:lnTo>
                  <a:lnTo>
                    <a:pt x="10060" y="166"/>
                  </a:lnTo>
                  <a:lnTo>
                    <a:pt x="10072" y="166"/>
                  </a:lnTo>
                  <a:lnTo>
                    <a:pt x="10072" y="159"/>
                  </a:lnTo>
                  <a:lnTo>
                    <a:pt x="10082" y="159"/>
                  </a:lnTo>
                  <a:lnTo>
                    <a:pt x="10082" y="154"/>
                  </a:lnTo>
                  <a:lnTo>
                    <a:pt x="10088" y="154"/>
                  </a:lnTo>
                  <a:lnTo>
                    <a:pt x="10088" y="149"/>
                  </a:lnTo>
                  <a:lnTo>
                    <a:pt x="10099" y="149"/>
                  </a:lnTo>
                  <a:lnTo>
                    <a:pt x="10099" y="143"/>
                  </a:lnTo>
                  <a:lnTo>
                    <a:pt x="10105" y="143"/>
                  </a:lnTo>
                  <a:lnTo>
                    <a:pt x="10105" y="137"/>
                  </a:lnTo>
                  <a:lnTo>
                    <a:pt x="10111" y="137"/>
                  </a:lnTo>
                  <a:lnTo>
                    <a:pt x="10111" y="131"/>
                  </a:lnTo>
                  <a:lnTo>
                    <a:pt x="10117" y="131"/>
                  </a:lnTo>
                  <a:lnTo>
                    <a:pt x="10117" y="126"/>
                  </a:lnTo>
                  <a:lnTo>
                    <a:pt x="10122" y="126"/>
                  </a:lnTo>
                  <a:lnTo>
                    <a:pt x="10122" y="119"/>
                  </a:lnTo>
                  <a:lnTo>
                    <a:pt x="10129" y="119"/>
                  </a:lnTo>
                  <a:lnTo>
                    <a:pt x="10129" y="114"/>
                  </a:lnTo>
                  <a:lnTo>
                    <a:pt x="10139" y="114"/>
                  </a:lnTo>
                  <a:lnTo>
                    <a:pt x="10139" y="109"/>
                  </a:lnTo>
                  <a:lnTo>
                    <a:pt x="10150" y="109"/>
                  </a:lnTo>
                  <a:lnTo>
                    <a:pt x="10150" y="102"/>
                  </a:lnTo>
                  <a:lnTo>
                    <a:pt x="10162" y="102"/>
                  </a:lnTo>
                  <a:lnTo>
                    <a:pt x="10162" y="97"/>
                  </a:lnTo>
                  <a:lnTo>
                    <a:pt x="10167" y="97"/>
                  </a:lnTo>
                  <a:lnTo>
                    <a:pt x="10167" y="92"/>
                  </a:lnTo>
                  <a:lnTo>
                    <a:pt x="10179" y="92"/>
                  </a:lnTo>
                  <a:lnTo>
                    <a:pt x="10179" y="86"/>
                  </a:lnTo>
                  <a:lnTo>
                    <a:pt x="10184" y="86"/>
                  </a:lnTo>
                  <a:lnTo>
                    <a:pt x="10184" y="80"/>
                  </a:lnTo>
                  <a:lnTo>
                    <a:pt x="10190" y="80"/>
                  </a:lnTo>
                  <a:lnTo>
                    <a:pt x="10190" y="74"/>
                  </a:lnTo>
                  <a:lnTo>
                    <a:pt x="10196" y="74"/>
                  </a:lnTo>
                  <a:lnTo>
                    <a:pt x="10196" y="69"/>
                  </a:lnTo>
                  <a:lnTo>
                    <a:pt x="10202" y="69"/>
                  </a:lnTo>
                  <a:lnTo>
                    <a:pt x="10202" y="63"/>
                  </a:lnTo>
                  <a:lnTo>
                    <a:pt x="10207" y="63"/>
                  </a:lnTo>
                  <a:lnTo>
                    <a:pt x="10207" y="57"/>
                  </a:lnTo>
                  <a:lnTo>
                    <a:pt x="10213" y="57"/>
                  </a:lnTo>
                  <a:lnTo>
                    <a:pt x="10213" y="52"/>
                  </a:lnTo>
                  <a:lnTo>
                    <a:pt x="10219" y="52"/>
                  </a:lnTo>
                  <a:lnTo>
                    <a:pt x="10219" y="45"/>
                  </a:lnTo>
                  <a:lnTo>
                    <a:pt x="10224" y="45"/>
                  </a:lnTo>
                  <a:lnTo>
                    <a:pt x="10224" y="40"/>
                  </a:lnTo>
                  <a:lnTo>
                    <a:pt x="10241" y="40"/>
                  </a:lnTo>
                  <a:lnTo>
                    <a:pt x="10241" y="35"/>
                  </a:lnTo>
                  <a:lnTo>
                    <a:pt x="10248" y="35"/>
                  </a:lnTo>
                  <a:lnTo>
                    <a:pt x="10248" y="28"/>
                  </a:lnTo>
                  <a:lnTo>
                    <a:pt x="10259" y="28"/>
                  </a:lnTo>
                  <a:lnTo>
                    <a:pt x="10259" y="23"/>
                  </a:lnTo>
                  <a:lnTo>
                    <a:pt x="10270" y="23"/>
                  </a:lnTo>
                  <a:lnTo>
                    <a:pt x="10270" y="17"/>
                  </a:lnTo>
                  <a:lnTo>
                    <a:pt x="10288" y="17"/>
                  </a:lnTo>
                  <a:lnTo>
                    <a:pt x="10288" y="12"/>
                  </a:lnTo>
                  <a:lnTo>
                    <a:pt x="10305" y="12"/>
                  </a:lnTo>
                  <a:lnTo>
                    <a:pt x="10305" y="6"/>
                  </a:lnTo>
                  <a:lnTo>
                    <a:pt x="10355" y="6"/>
                  </a:lnTo>
                  <a:lnTo>
                    <a:pt x="10355" y="0"/>
                  </a:lnTo>
                  <a:lnTo>
                    <a:pt x="10372" y="0"/>
                  </a:lnTo>
                  <a:lnTo>
                    <a:pt x="10372" y="6"/>
                  </a:lnTo>
                  <a:lnTo>
                    <a:pt x="10390" y="6"/>
                  </a:lnTo>
                  <a:lnTo>
                    <a:pt x="10390" y="12"/>
                  </a:lnTo>
                  <a:lnTo>
                    <a:pt x="10395" y="12"/>
                  </a:lnTo>
                  <a:lnTo>
                    <a:pt x="10395" y="28"/>
                  </a:lnTo>
                  <a:lnTo>
                    <a:pt x="10390" y="28"/>
                  </a:lnTo>
                  <a:lnTo>
                    <a:pt x="10390" y="35"/>
                  </a:lnTo>
                  <a:lnTo>
                    <a:pt x="10367" y="35"/>
                  </a:lnTo>
                  <a:lnTo>
                    <a:pt x="10367" y="40"/>
                  </a:lnTo>
                  <a:lnTo>
                    <a:pt x="10338" y="40"/>
                  </a:lnTo>
                  <a:lnTo>
                    <a:pt x="10338" y="35"/>
                  </a:lnTo>
                  <a:lnTo>
                    <a:pt x="10310" y="35"/>
                  </a:lnTo>
                  <a:lnTo>
                    <a:pt x="10310" y="40"/>
                  </a:lnTo>
                  <a:lnTo>
                    <a:pt x="10298" y="40"/>
                  </a:lnTo>
                  <a:lnTo>
                    <a:pt x="10298" y="45"/>
                  </a:lnTo>
                  <a:lnTo>
                    <a:pt x="10288" y="45"/>
                  </a:lnTo>
                  <a:lnTo>
                    <a:pt x="10288" y="52"/>
                  </a:lnTo>
                  <a:lnTo>
                    <a:pt x="10281" y="52"/>
                  </a:lnTo>
                  <a:lnTo>
                    <a:pt x="10281" y="57"/>
                  </a:lnTo>
                  <a:lnTo>
                    <a:pt x="10276" y="57"/>
                  </a:lnTo>
                  <a:lnTo>
                    <a:pt x="10276" y="63"/>
                  </a:lnTo>
                  <a:lnTo>
                    <a:pt x="10259" y="63"/>
                  </a:lnTo>
                  <a:lnTo>
                    <a:pt x="10259" y="69"/>
                  </a:lnTo>
                  <a:lnTo>
                    <a:pt x="10253" y="69"/>
                  </a:lnTo>
                  <a:lnTo>
                    <a:pt x="10253" y="74"/>
                  </a:lnTo>
                  <a:lnTo>
                    <a:pt x="10241" y="74"/>
                  </a:lnTo>
                  <a:lnTo>
                    <a:pt x="10241" y="80"/>
                  </a:lnTo>
                  <a:lnTo>
                    <a:pt x="10231" y="80"/>
                  </a:lnTo>
                  <a:lnTo>
                    <a:pt x="10231" y="86"/>
                  </a:lnTo>
                  <a:lnTo>
                    <a:pt x="10224" y="86"/>
                  </a:lnTo>
                  <a:lnTo>
                    <a:pt x="10224" y="92"/>
                  </a:lnTo>
                  <a:lnTo>
                    <a:pt x="10219" y="92"/>
                  </a:lnTo>
                  <a:lnTo>
                    <a:pt x="10219" y="97"/>
                  </a:lnTo>
                  <a:lnTo>
                    <a:pt x="10213" y="97"/>
                  </a:lnTo>
                  <a:lnTo>
                    <a:pt x="10213" y="102"/>
                  </a:lnTo>
                  <a:lnTo>
                    <a:pt x="10202" y="102"/>
                  </a:lnTo>
                  <a:lnTo>
                    <a:pt x="10202" y="109"/>
                  </a:lnTo>
                  <a:lnTo>
                    <a:pt x="10196" y="109"/>
                  </a:lnTo>
                  <a:lnTo>
                    <a:pt x="10196" y="114"/>
                  </a:lnTo>
                  <a:lnTo>
                    <a:pt x="10184" y="114"/>
                  </a:lnTo>
                  <a:lnTo>
                    <a:pt x="10184" y="119"/>
                  </a:lnTo>
                  <a:lnTo>
                    <a:pt x="10179" y="119"/>
                  </a:lnTo>
                  <a:lnTo>
                    <a:pt x="10179" y="126"/>
                  </a:lnTo>
                  <a:lnTo>
                    <a:pt x="10167" y="126"/>
                  </a:lnTo>
                  <a:lnTo>
                    <a:pt x="10167" y="131"/>
                  </a:lnTo>
                  <a:lnTo>
                    <a:pt x="10156" y="131"/>
                  </a:lnTo>
                  <a:lnTo>
                    <a:pt x="10156" y="137"/>
                  </a:lnTo>
                  <a:lnTo>
                    <a:pt x="10150" y="137"/>
                  </a:lnTo>
                  <a:lnTo>
                    <a:pt x="10150" y="143"/>
                  </a:lnTo>
                  <a:lnTo>
                    <a:pt x="10139" y="143"/>
                  </a:lnTo>
                  <a:lnTo>
                    <a:pt x="10139" y="149"/>
                  </a:lnTo>
                  <a:lnTo>
                    <a:pt x="10134" y="149"/>
                  </a:lnTo>
                  <a:lnTo>
                    <a:pt x="10134" y="154"/>
                  </a:lnTo>
                  <a:lnTo>
                    <a:pt x="10122" y="154"/>
                  </a:lnTo>
                  <a:lnTo>
                    <a:pt x="10122" y="159"/>
                  </a:lnTo>
                  <a:lnTo>
                    <a:pt x="10111" y="159"/>
                  </a:lnTo>
                  <a:lnTo>
                    <a:pt x="10111" y="166"/>
                  </a:lnTo>
                  <a:lnTo>
                    <a:pt x="10105" y="166"/>
                  </a:lnTo>
                  <a:lnTo>
                    <a:pt x="10105" y="171"/>
                  </a:lnTo>
                  <a:lnTo>
                    <a:pt x="10099" y="171"/>
                  </a:lnTo>
                  <a:lnTo>
                    <a:pt x="10099" y="176"/>
                  </a:lnTo>
                  <a:lnTo>
                    <a:pt x="10088" y="176"/>
                  </a:lnTo>
                  <a:lnTo>
                    <a:pt x="10088" y="183"/>
                  </a:lnTo>
                  <a:lnTo>
                    <a:pt x="10077" y="183"/>
                  </a:lnTo>
                  <a:lnTo>
                    <a:pt x="10077" y="188"/>
                  </a:lnTo>
                  <a:lnTo>
                    <a:pt x="10065" y="188"/>
                  </a:lnTo>
                  <a:lnTo>
                    <a:pt x="10065" y="194"/>
                  </a:lnTo>
                  <a:lnTo>
                    <a:pt x="10054" y="194"/>
                  </a:lnTo>
                  <a:lnTo>
                    <a:pt x="10054" y="200"/>
                  </a:lnTo>
                  <a:lnTo>
                    <a:pt x="10048" y="200"/>
                  </a:lnTo>
                  <a:lnTo>
                    <a:pt x="10048" y="205"/>
                  </a:lnTo>
                  <a:lnTo>
                    <a:pt x="10037" y="205"/>
                  </a:lnTo>
                  <a:lnTo>
                    <a:pt x="10037" y="211"/>
                  </a:lnTo>
                  <a:lnTo>
                    <a:pt x="10031" y="211"/>
                  </a:lnTo>
                  <a:lnTo>
                    <a:pt x="10031" y="216"/>
                  </a:lnTo>
                  <a:lnTo>
                    <a:pt x="10025" y="216"/>
                  </a:lnTo>
                  <a:lnTo>
                    <a:pt x="10025" y="223"/>
                  </a:lnTo>
                  <a:lnTo>
                    <a:pt x="10015" y="223"/>
                  </a:lnTo>
                  <a:lnTo>
                    <a:pt x="10015" y="228"/>
                  </a:lnTo>
                  <a:lnTo>
                    <a:pt x="10008" y="228"/>
                  </a:lnTo>
                  <a:lnTo>
                    <a:pt x="10008" y="233"/>
                  </a:lnTo>
                  <a:lnTo>
                    <a:pt x="9997" y="233"/>
                  </a:lnTo>
                  <a:lnTo>
                    <a:pt x="9997" y="239"/>
                  </a:lnTo>
                  <a:lnTo>
                    <a:pt x="9991" y="239"/>
                  </a:lnTo>
                  <a:lnTo>
                    <a:pt x="9991" y="245"/>
                  </a:lnTo>
                  <a:lnTo>
                    <a:pt x="9986" y="245"/>
                  </a:lnTo>
                  <a:lnTo>
                    <a:pt x="9986" y="251"/>
                  </a:lnTo>
                  <a:lnTo>
                    <a:pt x="9980" y="251"/>
                  </a:lnTo>
                  <a:lnTo>
                    <a:pt x="9980" y="256"/>
                  </a:lnTo>
                  <a:lnTo>
                    <a:pt x="9974" y="256"/>
                  </a:lnTo>
                  <a:lnTo>
                    <a:pt x="9974" y="261"/>
                  </a:lnTo>
                  <a:lnTo>
                    <a:pt x="9963" y="261"/>
                  </a:lnTo>
                  <a:lnTo>
                    <a:pt x="9963" y="268"/>
                  </a:lnTo>
                  <a:lnTo>
                    <a:pt x="9940" y="268"/>
                  </a:lnTo>
                  <a:lnTo>
                    <a:pt x="9940" y="273"/>
                  </a:lnTo>
                  <a:lnTo>
                    <a:pt x="9934" y="273"/>
                  </a:lnTo>
                  <a:lnTo>
                    <a:pt x="9934" y="279"/>
                  </a:lnTo>
                  <a:lnTo>
                    <a:pt x="9923" y="279"/>
                  </a:lnTo>
                  <a:lnTo>
                    <a:pt x="9923" y="285"/>
                  </a:lnTo>
                  <a:lnTo>
                    <a:pt x="9917" y="285"/>
                  </a:lnTo>
                  <a:lnTo>
                    <a:pt x="9917" y="290"/>
                  </a:lnTo>
                  <a:lnTo>
                    <a:pt x="9906" y="290"/>
                  </a:lnTo>
                  <a:lnTo>
                    <a:pt x="9906" y="296"/>
                  </a:lnTo>
                  <a:lnTo>
                    <a:pt x="9889" y="296"/>
                  </a:lnTo>
                  <a:lnTo>
                    <a:pt x="9889" y="302"/>
                  </a:lnTo>
                  <a:lnTo>
                    <a:pt x="9883" y="302"/>
                  </a:lnTo>
                  <a:lnTo>
                    <a:pt x="9883" y="308"/>
                  </a:lnTo>
                  <a:lnTo>
                    <a:pt x="9872" y="308"/>
                  </a:lnTo>
                  <a:lnTo>
                    <a:pt x="9872" y="313"/>
                  </a:lnTo>
                  <a:lnTo>
                    <a:pt x="9854" y="313"/>
                  </a:lnTo>
                  <a:lnTo>
                    <a:pt x="9854" y="318"/>
                  </a:lnTo>
                  <a:lnTo>
                    <a:pt x="9849" y="318"/>
                  </a:lnTo>
                  <a:lnTo>
                    <a:pt x="9849" y="325"/>
                  </a:lnTo>
                  <a:lnTo>
                    <a:pt x="9843" y="325"/>
                  </a:lnTo>
                  <a:lnTo>
                    <a:pt x="9843" y="330"/>
                  </a:lnTo>
                  <a:lnTo>
                    <a:pt x="9832" y="330"/>
                  </a:lnTo>
                  <a:lnTo>
                    <a:pt x="9832" y="318"/>
                  </a:lnTo>
                  <a:lnTo>
                    <a:pt x="9820" y="318"/>
                  </a:lnTo>
                  <a:lnTo>
                    <a:pt x="9820" y="335"/>
                  </a:lnTo>
                  <a:lnTo>
                    <a:pt x="9815" y="335"/>
                  </a:lnTo>
                  <a:lnTo>
                    <a:pt x="9815" y="342"/>
                  </a:lnTo>
                  <a:lnTo>
                    <a:pt x="9797" y="342"/>
                  </a:lnTo>
                  <a:lnTo>
                    <a:pt x="9797" y="359"/>
                  </a:lnTo>
                  <a:lnTo>
                    <a:pt x="9792" y="359"/>
                  </a:lnTo>
                  <a:lnTo>
                    <a:pt x="9792" y="364"/>
                  </a:lnTo>
                  <a:lnTo>
                    <a:pt x="9775" y="364"/>
                  </a:lnTo>
                  <a:lnTo>
                    <a:pt x="9775" y="370"/>
                  </a:lnTo>
                  <a:lnTo>
                    <a:pt x="9758" y="370"/>
                  </a:lnTo>
                  <a:lnTo>
                    <a:pt x="9758" y="375"/>
                  </a:lnTo>
                  <a:lnTo>
                    <a:pt x="9752" y="375"/>
                  </a:lnTo>
                  <a:lnTo>
                    <a:pt x="9752" y="382"/>
                  </a:lnTo>
                  <a:lnTo>
                    <a:pt x="9735" y="382"/>
                  </a:lnTo>
                  <a:lnTo>
                    <a:pt x="9735" y="375"/>
                  </a:lnTo>
                  <a:lnTo>
                    <a:pt x="9718" y="375"/>
                  </a:lnTo>
                  <a:lnTo>
                    <a:pt x="9718" y="392"/>
                  </a:lnTo>
                  <a:lnTo>
                    <a:pt x="9713" y="392"/>
                  </a:lnTo>
                  <a:lnTo>
                    <a:pt x="9713" y="399"/>
                  </a:lnTo>
                  <a:lnTo>
                    <a:pt x="9707" y="399"/>
                  </a:lnTo>
                  <a:lnTo>
                    <a:pt x="9707" y="404"/>
                  </a:lnTo>
                  <a:lnTo>
                    <a:pt x="9701" y="404"/>
                  </a:lnTo>
                  <a:lnTo>
                    <a:pt x="9701" y="410"/>
                  </a:lnTo>
                  <a:lnTo>
                    <a:pt x="9684" y="410"/>
                  </a:lnTo>
                  <a:lnTo>
                    <a:pt x="9684" y="416"/>
                  </a:lnTo>
                  <a:lnTo>
                    <a:pt x="9678" y="416"/>
                  </a:lnTo>
                  <a:lnTo>
                    <a:pt x="9678" y="421"/>
                  </a:lnTo>
                  <a:lnTo>
                    <a:pt x="9661" y="421"/>
                  </a:lnTo>
                  <a:lnTo>
                    <a:pt x="9661" y="427"/>
                  </a:lnTo>
                  <a:lnTo>
                    <a:pt x="9656" y="427"/>
                  </a:lnTo>
                  <a:lnTo>
                    <a:pt x="9656" y="433"/>
                  </a:lnTo>
                  <a:lnTo>
                    <a:pt x="9638" y="433"/>
                  </a:lnTo>
                  <a:lnTo>
                    <a:pt x="9638" y="439"/>
                  </a:lnTo>
                  <a:lnTo>
                    <a:pt x="9633" y="439"/>
                  </a:lnTo>
                  <a:lnTo>
                    <a:pt x="9633" y="444"/>
                  </a:lnTo>
                  <a:lnTo>
                    <a:pt x="9627" y="444"/>
                  </a:lnTo>
                  <a:lnTo>
                    <a:pt x="9627" y="449"/>
                  </a:lnTo>
                  <a:lnTo>
                    <a:pt x="9616" y="449"/>
                  </a:lnTo>
                  <a:lnTo>
                    <a:pt x="9616" y="456"/>
                  </a:lnTo>
                  <a:lnTo>
                    <a:pt x="9599" y="456"/>
                  </a:lnTo>
                  <a:lnTo>
                    <a:pt x="9599" y="461"/>
                  </a:lnTo>
                  <a:lnTo>
                    <a:pt x="9593" y="461"/>
                  </a:lnTo>
                  <a:lnTo>
                    <a:pt x="9593" y="467"/>
                  </a:lnTo>
                  <a:lnTo>
                    <a:pt x="9576" y="467"/>
                  </a:lnTo>
                  <a:lnTo>
                    <a:pt x="9576" y="473"/>
                  </a:lnTo>
                  <a:lnTo>
                    <a:pt x="9564" y="473"/>
                  </a:lnTo>
                  <a:lnTo>
                    <a:pt x="9564" y="478"/>
                  </a:lnTo>
                  <a:lnTo>
                    <a:pt x="9542" y="478"/>
                  </a:lnTo>
                  <a:lnTo>
                    <a:pt x="9542" y="484"/>
                  </a:lnTo>
                  <a:lnTo>
                    <a:pt x="9536" y="484"/>
                  </a:lnTo>
                  <a:lnTo>
                    <a:pt x="9536" y="490"/>
                  </a:lnTo>
                  <a:lnTo>
                    <a:pt x="9519" y="490"/>
                  </a:lnTo>
                  <a:lnTo>
                    <a:pt x="9519" y="496"/>
                  </a:lnTo>
                  <a:lnTo>
                    <a:pt x="9507" y="496"/>
                  </a:lnTo>
                  <a:lnTo>
                    <a:pt x="9507" y="501"/>
                  </a:lnTo>
                  <a:lnTo>
                    <a:pt x="9495" y="501"/>
                  </a:lnTo>
                  <a:lnTo>
                    <a:pt x="9495" y="506"/>
                  </a:lnTo>
                  <a:lnTo>
                    <a:pt x="9490" y="506"/>
                  </a:lnTo>
                  <a:lnTo>
                    <a:pt x="9490" y="513"/>
                  </a:lnTo>
                  <a:lnTo>
                    <a:pt x="9485" y="513"/>
                  </a:lnTo>
                  <a:lnTo>
                    <a:pt x="9485" y="518"/>
                  </a:lnTo>
                  <a:lnTo>
                    <a:pt x="9473" y="518"/>
                  </a:lnTo>
                  <a:lnTo>
                    <a:pt x="9473" y="524"/>
                  </a:lnTo>
                  <a:lnTo>
                    <a:pt x="9462" y="524"/>
                  </a:lnTo>
                  <a:lnTo>
                    <a:pt x="9462" y="530"/>
                  </a:lnTo>
                  <a:lnTo>
                    <a:pt x="9450" y="530"/>
                  </a:lnTo>
                  <a:lnTo>
                    <a:pt x="9450" y="535"/>
                  </a:lnTo>
                  <a:lnTo>
                    <a:pt x="9438" y="535"/>
                  </a:lnTo>
                  <a:lnTo>
                    <a:pt x="9438" y="541"/>
                  </a:lnTo>
                  <a:lnTo>
                    <a:pt x="9422" y="541"/>
                  </a:lnTo>
                  <a:lnTo>
                    <a:pt x="9422" y="547"/>
                  </a:lnTo>
                  <a:lnTo>
                    <a:pt x="9405" y="547"/>
                  </a:lnTo>
                  <a:lnTo>
                    <a:pt x="9405" y="553"/>
                  </a:lnTo>
                  <a:lnTo>
                    <a:pt x="9393" y="553"/>
                  </a:lnTo>
                  <a:lnTo>
                    <a:pt x="9393" y="558"/>
                  </a:lnTo>
                  <a:lnTo>
                    <a:pt x="9376" y="558"/>
                  </a:lnTo>
                  <a:lnTo>
                    <a:pt x="9376" y="563"/>
                  </a:lnTo>
                  <a:lnTo>
                    <a:pt x="9365" y="563"/>
                  </a:lnTo>
                  <a:lnTo>
                    <a:pt x="9365" y="570"/>
                  </a:lnTo>
                  <a:lnTo>
                    <a:pt x="9348" y="570"/>
                  </a:lnTo>
                  <a:lnTo>
                    <a:pt x="9348" y="575"/>
                  </a:lnTo>
                  <a:lnTo>
                    <a:pt x="9342" y="575"/>
                  </a:lnTo>
                  <a:lnTo>
                    <a:pt x="9342" y="580"/>
                  </a:lnTo>
                  <a:lnTo>
                    <a:pt x="9331" y="580"/>
                  </a:lnTo>
                  <a:lnTo>
                    <a:pt x="9331" y="587"/>
                  </a:lnTo>
                  <a:lnTo>
                    <a:pt x="9314" y="587"/>
                  </a:lnTo>
                  <a:lnTo>
                    <a:pt x="9314" y="592"/>
                  </a:lnTo>
                  <a:lnTo>
                    <a:pt x="9308" y="592"/>
                  </a:lnTo>
                  <a:lnTo>
                    <a:pt x="9308" y="598"/>
                  </a:lnTo>
                  <a:lnTo>
                    <a:pt x="9297" y="598"/>
                  </a:lnTo>
                  <a:lnTo>
                    <a:pt x="9297" y="604"/>
                  </a:lnTo>
                  <a:lnTo>
                    <a:pt x="9279" y="604"/>
                  </a:lnTo>
                  <a:lnTo>
                    <a:pt x="9279" y="609"/>
                  </a:lnTo>
                  <a:lnTo>
                    <a:pt x="9269" y="609"/>
                  </a:lnTo>
                  <a:lnTo>
                    <a:pt x="9269" y="615"/>
                  </a:lnTo>
                  <a:lnTo>
                    <a:pt x="9257" y="615"/>
                  </a:lnTo>
                  <a:lnTo>
                    <a:pt x="9257" y="620"/>
                  </a:lnTo>
                  <a:lnTo>
                    <a:pt x="9240" y="620"/>
                  </a:lnTo>
                  <a:lnTo>
                    <a:pt x="9240" y="627"/>
                  </a:lnTo>
                  <a:lnTo>
                    <a:pt x="9234" y="627"/>
                  </a:lnTo>
                  <a:lnTo>
                    <a:pt x="9234" y="632"/>
                  </a:lnTo>
                  <a:lnTo>
                    <a:pt x="9222" y="632"/>
                  </a:lnTo>
                  <a:lnTo>
                    <a:pt x="9222" y="637"/>
                  </a:lnTo>
                  <a:lnTo>
                    <a:pt x="9217" y="637"/>
                  </a:lnTo>
                  <a:lnTo>
                    <a:pt x="9217" y="643"/>
                  </a:lnTo>
                  <a:lnTo>
                    <a:pt x="9212" y="643"/>
                  </a:lnTo>
                  <a:lnTo>
                    <a:pt x="9212" y="649"/>
                  </a:lnTo>
                  <a:lnTo>
                    <a:pt x="9205" y="649"/>
                  </a:lnTo>
                  <a:lnTo>
                    <a:pt x="9205" y="655"/>
                  </a:lnTo>
                  <a:lnTo>
                    <a:pt x="9194" y="655"/>
                  </a:lnTo>
                  <a:lnTo>
                    <a:pt x="9194" y="660"/>
                  </a:lnTo>
                  <a:lnTo>
                    <a:pt x="9189" y="660"/>
                  </a:lnTo>
                  <a:lnTo>
                    <a:pt x="9189" y="665"/>
                  </a:lnTo>
                  <a:lnTo>
                    <a:pt x="9177" y="665"/>
                  </a:lnTo>
                  <a:lnTo>
                    <a:pt x="9177" y="672"/>
                  </a:lnTo>
                  <a:lnTo>
                    <a:pt x="9172" y="672"/>
                  </a:lnTo>
                  <a:lnTo>
                    <a:pt x="9172" y="677"/>
                  </a:lnTo>
                  <a:lnTo>
                    <a:pt x="9160" y="677"/>
                  </a:lnTo>
                  <a:lnTo>
                    <a:pt x="9160" y="683"/>
                  </a:lnTo>
                  <a:lnTo>
                    <a:pt x="9143" y="683"/>
                  </a:lnTo>
                  <a:lnTo>
                    <a:pt x="9143" y="689"/>
                  </a:lnTo>
                  <a:lnTo>
                    <a:pt x="9132" y="689"/>
                  </a:lnTo>
                  <a:lnTo>
                    <a:pt x="9132" y="694"/>
                  </a:lnTo>
                  <a:lnTo>
                    <a:pt x="9115" y="694"/>
                  </a:lnTo>
                  <a:lnTo>
                    <a:pt x="9115" y="700"/>
                  </a:lnTo>
                  <a:lnTo>
                    <a:pt x="9098" y="700"/>
                  </a:lnTo>
                  <a:lnTo>
                    <a:pt x="9098" y="706"/>
                  </a:lnTo>
                  <a:lnTo>
                    <a:pt x="9081" y="706"/>
                  </a:lnTo>
                  <a:lnTo>
                    <a:pt x="9081" y="712"/>
                  </a:lnTo>
                  <a:lnTo>
                    <a:pt x="9069" y="712"/>
                  </a:lnTo>
                  <a:lnTo>
                    <a:pt x="9069" y="717"/>
                  </a:lnTo>
                  <a:lnTo>
                    <a:pt x="9058" y="717"/>
                  </a:lnTo>
                  <a:lnTo>
                    <a:pt x="9058" y="723"/>
                  </a:lnTo>
                  <a:lnTo>
                    <a:pt x="9052" y="723"/>
                  </a:lnTo>
                  <a:lnTo>
                    <a:pt x="9052" y="729"/>
                  </a:lnTo>
                  <a:lnTo>
                    <a:pt x="9041" y="729"/>
                  </a:lnTo>
                  <a:lnTo>
                    <a:pt x="9041" y="734"/>
                  </a:lnTo>
                  <a:lnTo>
                    <a:pt x="9029" y="734"/>
                  </a:lnTo>
                  <a:lnTo>
                    <a:pt x="9029" y="739"/>
                  </a:lnTo>
                  <a:lnTo>
                    <a:pt x="9012" y="739"/>
                  </a:lnTo>
                  <a:lnTo>
                    <a:pt x="9012" y="746"/>
                  </a:lnTo>
                  <a:lnTo>
                    <a:pt x="8995" y="746"/>
                  </a:lnTo>
                  <a:lnTo>
                    <a:pt x="8995" y="751"/>
                  </a:lnTo>
                  <a:lnTo>
                    <a:pt x="8960" y="751"/>
                  </a:lnTo>
                  <a:lnTo>
                    <a:pt x="8960" y="757"/>
                  </a:lnTo>
                  <a:lnTo>
                    <a:pt x="8938" y="757"/>
                  </a:lnTo>
                  <a:lnTo>
                    <a:pt x="8938" y="763"/>
                  </a:lnTo>
                  <a:lnTo>
                    <a:pt x="8927" y="763"/>
                  </a:lnTo>
                  <a:lnTo>
                    <a:pt x="8927" y="768"/>
                  </a:lnTo>
                  <a:lnTo>
                    <a:pt x="8915" y="768"/>
                  </a:lnTo>
                  <a:lnTo>
                    <a:pt x="8915" y="774"/>
                  </a:lnTo>
                  <a:lnTo>
                    <a:pt x="8904" y="774"/>
                  </a:lnTo>
                  <a:lnTo>
                    <a:pt x="8904" y="780"/>
                  </a:lnTo>
                  <a:lnTo>
                    <a:pt x="8899" y="780"/>
                  </a:lnTo>
                  <a:lnTo>
                    <a:pt x="8899" y="786"/>
                  </a:lnTo>
                  <a:lnTo>
                    <a:pt x="8887" y="786"/>
                  </a:lnTo>
                  <a:lnTo>
                    <a:pt x="8887" y="791"/>
                  </a:lnTo>
                  <a:lnTo>
                    <a:pt x="8882" y="791"/>
                  </a:lnTo>
                  <a:lnTo>
                    <a:pt x="8882" y="796"/>
                  </a:lnTo>
                  <a:lnTo>
                    <a:pt x="8875" y="796"/>
                  </a:lnTo>
                  <a:lnTo>
                    <a:pt x="8875" y="803"/>
                  </a:lnTo>
                  <a:lnTo>
                    <a:pt x="8870" y="803"/>
                  </a:lnTo>
                  <a:lnTo>
                    <a:pt x="8870" y="808"/>
                  </a:lnTo>
                  <a:lnTo>
                    <a:pt x="8858" y="808"/>
                  </a:lnTo>
                  <a:lnTo>
                    <a:pt x="8858" y="814"/>
                  </a:lnTo>
                  <a:lnTo>
                    <a:pt x="8853" y="814"/>
                  </a:lnTo>
                  <a:lnTo>
                    <a:pt x="8853" y="820"/>
                  </a:lnTo>
                  <a:lnTo>
                    <a:pt x="8825" y="820"/>
                  </a:lnTo>
                  <a:lnTo>
                    <a:pt x="8825" y="825"/>
                  </a:lnTo>
                  <a:lnTo>
                    <a:pt x="8801" y="825"/>
                  </a:lnTo>
                  <a:lnTo>
                    <a:pt x="8801" y="831"/>
                  </a:lnTo>
                  <a:lnTo>
                    <a:pt x="8779" y="831"/>
                  </a:lnTo>
                  <a:lnTo>
                    <a:pt x="8779" y="837"/>
                  </a:lnTo>
                  <a:lnTo>
                    <a:pt x="8761" y="837"/>
                  </a:lnTo>
                  <a:lnTo>
                    <a:pt x="8761" y="843"/>
                  </a:lnTo>
                  <a:lnTo>
                    <a:pt x="8739" y="843"/>
                  </a:lnTo>
                  <a:lnTo>
                    <a:pt x="8739" y="848"/>
                  </a:lnTo>
                  <a:lnTo>
                    <a:pt x="8733" y="848"/>
                  </a:lnTo>
                  <a:lnTo>
                    <a:pt x="8733" y="853"/>
                  </a:lnTo>
                  <a:lnTo>
                    <a:pt x="8716" y="853"/>
                  </a:lnTo>
                  <a:lnTo>
                    <a:pt x="8716" y="860"/>
                  </a:lnTo>
                  <a:lnTo>
                    <a:pt x="8694" y="860"/>
                  </a:lnTo>
                  <a:lnTo>
                    <a:pt x="8694" y="865"/>
                  </a:lnTo>
                  <a:lnTo>
                    <a:pt x="8676" y="865"/>
                  </a:lnTo>
                  <a:lnTo>
                    <a:pt x="8676" y="871"/>
                  </a:lnTo>
                  <a:lnTo>
                    <a:pt x="8665" y="871"/>
                  </a:lnTo>
                  <a:lnTo>
                    <a:pt x="8665" y="877"/>
                  </a:lnTo>
                  <a:lnTo>
                    <a:pt x="8642" y="877"/>
                  </a:lnTo>
                  <a:lnTo>
                    <a:pt x="8642" y="882"/>
                  </a:lnTo>
                  <a:lnTo>
                    <a:pt x="8613" y="882"/>
                  </a:lnTo>
                  <a:lnTo>
                    <a:pt x="8613" y="888"/>
                  </a:lnTo>
                  <a:lnTo>
                    <a:pt x="8573" y="888"/>
                  </a:lnTo>
                  <a:lnTo>
                    <a:pt x="8573" y="894"/>
                  </a:lnTo>
                  <a:lnTo>
                    <a:pt x="8540" y="894"/>
                  </a:lnTo>
                  <a:lnTo>
                    <a:pt x="8540" y="900"/>
                  </a:lnTo>
                  <a:lnTo>
                    <a:pt x="8506" y="900"/>
                  </a:lnTo>
                  <a:lnTo>
                    <a:pt x="8506" y="905"/>
                  </a:lnTo>
                  <a:lnTo>
                    <a:pt x="8478" y="905"/>
                  </a:lnTo>
                  <a:lnTo>
                    <a:pt x="8478" y="910"/>
                  </a:lnTo>
                  <a:lnTo>
                    <a:pt x="8466" y="910"/>
                  </a:lnTo>
                  <a:lnTo>
                    <a:pt x="8466" y="917"/>
                  </a:lnTo>
                  <a:lnTo>
                    <a:pt x="8449" y="917"/>
                  </a:lnTo>
                  <a:lnTo>
                    <a:pt x="8449" y="922"/>
                  </a:lnTo>
                  <a:lnTo>
                    <a:pt x="8426" y="922"/>
                  </a:lnTo>
                  <a:lnTo>
                    <a:pt x="8426" y="928"/>
                  </a:lnTo>
                  <a:lnTo>
                    <a:pt x="8397" y="928"/>
                  </a:lnTo>
                  <a:lnTo>
                    <a:pt x="8397" y="934"/>
                  </a:lnTo>
                  <a:lnTo>
                    <a:pt x="8380" y="934"/>
                  </a:lnTo>
                  <a:lnTo>
                    <a:pt x="8380" y="939"/>
                  </a:lnTo>
                  <a:lnTo>
                    <a:pt x="8340" y="939"/>
                  </a:lnTo>
                  <a:lnTo>
                    <a:pt x="8340" y="945"/>
                  </a:lnTo>
                  <a:lnTo>
                    <a:pt x="8323" y="945"/>
                  </a:lnTo>
                  <a:lnTo>
                    <a:pt x="8323" y="951"/>
                  </a:lnTo>
                  <a:lnTo>
                    <a:pt x="8278" y="951"/>
                  </a:lnTo>
                  <a:lnTo>
                    <a:pt x="8278" y="957"/>
                  </a:lnTo>
                  <a:lnTo>
                    <a:pt x="8243" y="957"/>
                  </a:lnTo>
                  <a:lnTo>
                    <a:pt x="8243" y="962"/>
                  </a:lnTo>
                  <a:lnTo>
                    <a:pt x="8186" y="962"/>
                  </a:lnTo>
                  <a:lnTo>
                    <a:pt x="8186" y="967"/>
                  </a:lnTo>
                  <a:lnTo>
                    <a:pt x="8152" y="967"/>
                  </a:lnTo>
                  <a:lnTo>
                    <a:pt x="8152" y="974"/>
                  </a:lnTo>
                  <a:lnTo>
                    <a:pt x="8129" y="974"/>
                  </a:lnTo>
                  <a:lnTo>
                    <a:pt x="8129" y="979"/>
                  </a:lnTo>
                  <a:lnTo>
                    <a:pt x="8079" y="979"/>
                  </a:lnTo>
                  <a:lnTo>
                    <a:pt x="8079" y="984"/>
                  </a:lnTo>
                  <a:lnTo>
                    <a:pt x="8062" y="9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1886760" y="5533920"/>
              <a:ext cx="60840" cy="6840"/>
            </a:xfrm>
            <a:custGeom>
              <a:avLst/>
              <a:gdLst/>
              <a:ahLst/>
              <a:rect l="l" t="t" r="r" b="b"/>
              <a:pathLst>
                <a:path w="119" h="17">
                  <a:moveTo>
                    <a:pt x="5" y="17"/>
                  </a:moveTo>
                  <a:lnTo>
                    <a:pt x="5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9" y="0"/>
                  </a:lnTo>
                  <a:lnTo>
                    <a:pt x="119" y="5"/>
                  </a:lnTo>
                  <a:lnTo>
                    <a:pt x="114" y="5"/>
                  </a:lnTo>
                  <a:lnTo>
                    <a:pt x="114" y="12"/>
                  </a:lnTo>
                  <a:lnTo>
                    <a:pt x="79" y="12"/>
                  </a:lnTo>
                  <a:lnTo>
                    <a:pt x="79" y="17"/>
                  </a:lnTo>
                  <a:lnTo>
                    <a:pt x="67" y="17"/>
                  </a:lnTo>
                  <a:lnTo>
                    <a:pt x="67" y="12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1891080" y="47520"/>
              <a:ext cx="38160" cy="684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17"/>
                  </a:moveTo>
                  <a:lnTo>
                    <a:pt x="0" y="6"/>
                  </a:lnTo>
                  <a:lnTo>
                    <a:pt x="52" y="6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69" y="12"/>
                  </a:lnTo>
                  <a:lnTo>
                    <a:pt x="63" y="12"/>
                  </a:lnTo>
                  <a:lnTo>
                    <a:pt x="6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879920" y="-10800"/>
              <a:ext cx="60840" cy="6840"/>
            </a:xfrm>
            <a:custGeom>
              <a:avLst/>
              <a:gdLst/>
              <a:ahLst/>
              <a:rect l="l" t="t" r="r" b="b"/>
              <a:pathLst>
                <a:path w="107" h="11">
                  <a:moveTo>
                    <a:pt x="0" y="11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6"/>
                  </a:lnTo>
                  <a:lnTo>
                    <a:pt x="102" y="6"/>
                  </a:lnTo>
                  <a:lnTo>
                    <a:pt x="10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1794240" y="4294080"/>
              <a:ext cx="123840" cy="115200"/>
            </a:xfrm>
            <a:custGeom>
              <a:avLst/>
              <a:gdLst/>
              <a:ahLst/>
              <a:rect l="l" t="t" r="r" b="b"/>
              <a:pathLst>
                <a:path w="222" h="200">
                  <a:moveTo>
                    <a:pt x="0" y="200"/>
                  </a:moveTo>
                  <a:lnTo>
                    <a:pt x="0" y="143"/>
                  </a:lnTo>
                  <a:lnTo>
                    <a:pt x="17" y="143"/>
                  </a:lnTo>
                  <a:lnTo>
                    <a:pt x="17" y="137"/>
                  </a:lnTo>
                  <a:lnTo>
                    <a:pt x="29" y="137"/>
                  </a:lnTo>
                  <a:lnTo>
                    <a:pt x="29" y="131"/>
                  </a:lnTo>
                  <a:lnTo>
                    <a:pt x="34" y="131"/>
                  </a:lnTo>
                  <a:lnTo>
                    <a:pt x="34" y="120"/>
                  </a:lnTo>
                  <a:lnTo>
                    <a:pt x="40" y="120"/>
                  </a:lnTo>
                  <a:lnTo>
                    <a:pt x="40" y="114"/>
                  </a:lnTo>
                  <a:lnTo>
                    <a:pt x="45" y="114"/>
                  </a:lnTo>
                  <a:lnTo>
                    <a:pt x="45" y="108"/>
                  </a:lnTo>
                  <a:lnTo>
                    <a:pt x="51" y="108"/>
                  </a:lnTo>
                  <a:lnTo>
                    <a:pt x="51" y="96"/>
                  </a:lnTo>
                  <a:lnTo>
                    <a:pt x="57" y="96"/>
                  </a:lnTo>
                  <a:lnTo>
                    <a:pt x="57" y="86"/>
                  </a:lnTo>
                  <a:lnTo>
                    <a:pt x="62" y="86"/>
                  </a:lnTo>
                  <a:lnTo>
                    <a:pt x="62" y="74"/>
                  </a:lnTo>
                  <a:lnTo>
                    <a:pt x="69" y="74"/>
                  </a:lnTo>
                  <a:lnTo>
                    <a:pt x="69" y="68"/>
                  </a:lnTo>
                  <a:lnTo>
                    <a:pt x="108" y="68"/>
                  </a:lnTo>
                  <a:lnTo>
                    <a:pt x="108" y="63"/>
                  </a:lnTo>
                  <a:lnTo>
                    <a:pt x="136" y="63"/>
                  </a:lnTo>
                  <a:lnTo>
                    <a:pt x="136" y="57"/>
                  </a:lnTo>
                  <a:lnTo>
                    <a:pt x="143" y="57"/>
                  </a:lnTo>
                  <a:lnTo>
                    <a:pt x="143" y="39"/>
                  </a:lnTo>
                  <a:lnTo>
                    <a:pt x="131" y="39"/>
                  </a:lnTo>
                  <a:lnTo>
                    <a:pt x="131" y="17"/>
                  </a:lnTo>
                  <a:lnTo>
                    <a:pt x="136" y="17"/>
                  </a:lnTo>
                  <a:lnTo>
                    <a:pt x="136" y="11"/>
                  </a:lnTo>
                  <a:lnTo>
                    <a:pt x="143" y="11"/>
                  </a:lnTo>
                  <a:lnTo>
                    <a:pt x="143" y="6"/>
                  </a:lnTo>
                  <a:lnTo>
                    <a:pt x="148" y="6"/>
                  </a:lnTo>
                  <a:lnTo>
                    <a:pt x="148" y="0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83" y="6"/>
                  </a:lnTo>
                  <a:lnTo>
                    <a:pt x="183" y="11"/>
                  </a:lnTo>
                  <a:lnTo>
                    <a:pt x="188" y="11"/>
                  </a:lnTo>
                  <a:lnTo>
                    <a:pt x="188" y="51"/>
                  </a:lnTo>
                  <a:lnTo>
                    <a:pt x="193" y="51"/>
                  </a:lnTo>
                  <a:lnTo>
                    <a:pt x="193" y="74"/>
                  </a:lnTo>
                  <a:lnTo>
                    <a:pt x="200" y="74"/>
                  </a:lnTo>
                  <a:lnTo>
                    <a:pt x="200" y="80"/>
                  </a:lnTo>
                  <a:lnTo>
                    <a:pt x="205" y="80"/>
                  </a:lnTo>
                  <a:lnTo>
                    <a:pt x="205" y="91"/>
                  </a:lnTo>
                  <a:lnTo>
                    <a:pt x="210" y="91"/>
                  </a:lnTo>
                  <a:lnTo>
                    <a:pt x="210" y="114"/>
                  </a:lnTo>
                  <a:lnTo>
                    <a:pt x="216" y="114"/>
                  </a:lnTo>
                  <a:lnTo>
                    <a:pt x="216" y="125"/>
                  </a:lnTo>
                  <a:lnTo>
                    <a:pt x="222" y="125"/>
                  </a:lnTo>
                  <a:lnTo>
                    <a:pt x="222" y="131"/>
                  </a:lnTo>
                  <a:lnTo>
                    <a:pt x="216" y="131"/>
                  </a:lnTo>
                  <a:lnTo>
                    <a:pt x="216" y="137"/>
                  </a:lnTo>
                  <a:lnTo>
                    <a:pt x="210" y="137"/>
                  </a:lnTo>
                  <a:lnTo>
                    <a:pt x="210" y="143"/>
                  </a:lnTo>
                  <a:lnTo>
                    <a:pt x="205" y="143"/>
                  </a:lnTo>
                  <a:lnTo>
                    <a:pt x="205" y="153"/>
                  </a:lnTo>
                  <a:lnTo>
                    <a:pt x="193" y="153"/>
                  </a:lnTo>
                  <a:lnTo>
                    <a:pt x="193" y="160"/>
                  </a:lnTo>
                  <a:lnTo>
                    <a:pt x="176" y="160"/>
                  </a:lnTo>
                  <a:lnTo>
                    <a:pt x="176" y="165"/>
                  </a:lnTo>
                  <a:lnTo>
                    <a:pt x="165" y="165"/>
                  </a:lnTo>
                  <a:lnTo>
                    <a:pt x="165" y="171"/>
                  </a:lnTo>
                  <a:lnTo>
                    <a:pt x="154" y="171"/>
                  </a:lnTo>
                  <a:lnTo>
                    <a:pt x="154" y="177"/>
                  </a:lnTo>
                  <a:lnTo>
                    <a:pt x="119" y="177"/>
                  </a:lnTo>
                  <a:lnTo>
                    <a:pt x="119" y="182"/>
                  </a:lnTo>
                  <a:lnTo>
                    <a:pt x="97" y="182"/>
                  </a:lnTo>
                  <a:lnTo>
                    <a:pt x="97" y="188"/>
                  </a:lnTo>
                  <a:lnTo>
                    <a:pt x="57" y="188"/>
                  </a:lnTo>
                  <a:lnTo>
                    <a:pt x="57" y="194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1906920" y="70200"/>
              <a:ext cx="6840" cy="68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886760" y="4278600"/>
              <a:ext cx="15480" cy="241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6" y="39"/>
                  </a:moveTo>
                  <a:lnTo>
                    <a:pt x="6" y="17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1867320" y="-276120"/>
              <a:ext cx="8640" cy="68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1859760" y="4574160"/>
              <a:ext cx="8640" cy="8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1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6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1791360" y="-369720"/>
              <a:ext cx="115200" cy="38160"/>
            </a:xfrm>
            <a:custGeom>
              <a:avLst/>
              <a:gdLst/>
              <a:ahLst/>
              <a:rect l="l" t="t" r="r" b="b"/>
              <a:pathLst>
                <a:path w="211" h="69">
                  <a:moveTo>
                    <a:pt x="0" y="69"/>
                  </a:moveTo>
                  <a:lnTo>
                    <a:pt x="0" y="57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23" y="52"/>
                  </a:lnTo>
                  <a:lnTo>
                    <a:pt x="23" y="45"/>
                  </a:lnTo>
                  <a:lnTo>
                    <a:pt x="35" y="45"/>
                  </a:lnTo>
                  <a:lnTo>
                    <a:pt x="35" y="40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69" y="35"/>
                  </a:lnTo>
                  <a:lnTo>
                    <a:pt x="69" y="29"/>
                  </a:lnTo>
                  <a:lnTo>
                    <a:pt x="92" y="29"/>
                  </a:lnTo>
                  <a:lnTo>
                    <a:pt x="92" y="23"/>
                  </a:lnTo>
                  <a:lnTo>
                    <a:pt x="109" y="23"/>
                  </a:lnTo>
                  <a:lnTo>
                    <a:pt x="109" y="17"/>
                  </a:lnTo>
                  <a:lnTo>
                    <a:pt x="126" y="17"/>
                  </a:lnTo>
                  <a:lnTo>
                    <a:pt x="126" y="12"/>
                  </a:lnTo>
                  <a:lnTo>
                    <a:pt x="143" y="12"/>
                  </a:lnTo>
                  <a:lnTo>
                    <a:pt x="143" y="6"/>
                  </a:lnTo>
                  <a:lnTo>
                    <a:pt x="178" y="6"/>
                  </a:lnTo>
                  <a:lnTo>
                    <a:pt x="178" y="0"/>
                  </a:lnTo>
                  <a:lnTo>
                    <a:pt x="211" y="0"/>
                  </a:lnTo>
                  <a:lnTo>
                    <a:pt x="211" y="6"/>
                  </a:lnTo>
                  <a:lnTo>
                    <a:pt x="206" y="6"/>
                  </a:lnTo>
                  <a:lnTo>
                    <a:pt x="206" y="12"/>
                  </a:lnTo>
                  <a:lnTo>
                    <a:pt x="183" y="12"/>
                  </a:lnTo>
                  <a:lnTo>
                    <a:pt x="183" y="17"/>
                  </a:lnTo>
                  <a:lnTo>
                    <a:pt x="166" y="17"/>
                  </a:lnTo>
                  <a:lnTo>
                    <a:pt x="166" y="23"/>
                  </a:lnTo>
                  <a:lnTo>
                    <a:pt x="143" y="23"/>
                  </a:lnTo>
                  <a:lnTo>
                    <a:pt x="143" y="29"/>
                  </a:lnTo>
                  <a:lnTo>
                    <a:pt x="132" y="29"/>
                  </a:lnTo>
                  <a:lnTo>
                    <a:pt x="132" y="35"/>
                  </a:lnTo>
                  <a:lnTo>
                    <a:pt x="109" y="35"/>
                  </a:lnTo>
                  <a:lnTo>
                    <a:pt x="109" y="40"/>
                  </a:lnTo>
                  <a:lnTo>
                    <a:pt x="86" y="40"/>
                  </a:lnTo>
                  <a:lnTo>
                    <a:pt x="86" y="45"/>
                  </a:lnTo>
                  <a:lnTo>
                    <a:pt x="75" y="45"/>
                  </a:lnTo>
                  <a:lnTo>
                    <a:pt x="75" y="52"/>
                  </a:lnTo>
                  <a:lnTo>
                    <a:pt x="57" y="52"/>
                  </a:lnTo>
                  <a:lnTo>
                    <a:pt x="57" y="57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12" y="63"/>
                  </a:lnTo>
                  <a:lnTo>
                    <a:pt x="12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1817640" y="-434520"/>
              <a:ext cx="22680" cy="1548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23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0" y="12"/>
                  </a:lnTo>
                  <a:lnTo>
                    <a:pt x="29" y="12"/>
                  </a:lnTo>
                  <a:lnTo>
                    <a:pt x="29" y="17"/>
                  </a:lnTo>
                  <a:lnTo>
                    <a:pt x="5" y="1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798560" y="1841040"/>
              <a:ext cx="29520" cy="1548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11" y="23"/>
                  </a:moveTo>
                  <a:lnTo>
                    <a:pt x="11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50" y="6"/>
                  </a:lnTo>
                  <a:lnTo>
                    <a:pt x="50" y="18"/>
                  </a:lnTo>
                  <a:lnTo>
                    <a:pt x="45" y="18"/>
                  </a:lnTo>
                  <a:lnTo>
                    <a:pt x="45" y="23"/>
                  </a:lnTo>
                  <a:lnTo>
                    <a:pt x="33" y="23"/>
                  </a:lnTo>
                  <a:lnTo>
                    <a:pt x="33" y="18"/>
                  </a:lnTo>
                  <a:lnTo>
                    <a:pt x="22" y="18"/>
                  </a:lnTo>
                  <a:lnTo>
                    <a:pt x="22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1763640" y="4556880"/>
              <a:ext cx="15480" cy="68040"/>
            </a:xfrm>
            <a:custGeom>
              <a:avLst/>
              <a:gdLst/>
              <a:ahLst/>
              <a:rect l="l" t="t" r="r" b="b"/>
              <a:pathLst>
                <a:path w="28" h="125">
                  <a:moveTo>
                    <a:pt x="11" y="125"/>
                  </a:moveTo>
                  <a:lnTo>
                    <a:pt x="11" y="86"/>
                  </a:lnTo>
                  <a:lnTo>
                    <a:pt x="6" y="86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17" y="40"/>
                  </a:lnTo>
                  <a:lnTo>
                    <a:pt x="23" y="40"/>
                  </a:lnTo>
                  <a:lnTo>
                    <a:pt x="23" y="103"/>
                  </a:lnTo>
                  <a:lnTo>
                    <a:pt x="28" y="103"/>
                  </a:lnTo>
                  <a:lnTo>
                    <a:pt x="28" y="120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11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1772280" y="1984320"/>
              <a:ext cx="52200" cy="13680"/>
            </a:xfrm>
            <a:custGeom>
              <a:avLst/>
              <a:gdLst/>
              <a:ahLst/>
              <a:rect l="l" t="t" r="r" b="b"/>
              <a:pathLst>
                <a:path w="97" h="24">
                  <a:moveTo>
                    <a:pt x="73" y="24"/>
                  </a:moveTo>
                  <a:lnTo>
                    <a:pt x="73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7"/>
                  </a:lnTo>
                  <a:lnTo>
                    <a:pt x="97" y="7"/>
                  </a:lnTo>
                  <a:lnTo>
                    <a:pt x="97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85" y="18"/>
                  </a:lnTo>
                  <a:lnTo>
                    <a:pt x="85" y="24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1780200" y="2044800"/>
              <a:ext cx="13680" cy="86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28" y="6"/>
                  </a:lnTo>
                  <a:lnTo>
                    <a:pt x="2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783440" y="-515520"/>
              <a:ext cx="6840" cy="8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1775880" y="2071800"/>
              <a:ext cx="15480" cy="154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5" y="22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34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1783440" y="-531000"/>
              <a:ext cx="6840" cy="8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1767960" y="-553680"/>
              <a:ext cx="6840" cy="86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717200" y="-603000"/>
              <a:ext cx="69840" cy="29520"/>
            </a:xfrm>
            <a:custGeom>
              <a:avLst/>
              <a:gdLst/>
              <a:ahLst/>
              <a:rect l="l" t="t" r="r" b="b"/>
              <a:pathLst>
                <a:path w="120" h="63">
                  <a:moveTo>
                    <a:pt x="0" y="63"/>
                  </a:moveTo>
                  <a:lnTo>
                    <a:pt x="0" y="52"/>
                  </a:lnTo>
                  <a:lnTo>
                    <a:pt x="6" y="52"/>
                  </a:lnTo>
                  <a:lnTo>
                    <a:pt x="6" y="46"/>
                  </a:lnTo>
                  <a:lnTo>
                    <a:pt x="17" y="46"/>
                  </a:lnTo>
                  <a:lnTo>
                    <a:pt x="17" y="40"/>
                  </a:lnTo>
                  <a:lnTo>
                    <a:pt x="29" y="40"/>
                  </a:lnTo>
                  <a:lnTo>
                    <a:pt x="29" y="35"/>
                  </a:lnTo>
                  <a:lnTo>
                    <a:pt x="40" y="35"/>
                  </a:lnTo>
                  <a:lnTo>
                    <a:pt x="40" y="28"/>
                  </a:lnTo>
                  <a:lnTo>
                    <a:pt x="51" y="28"/>
                  </a:lnTo>
                  <a:lnTo>
                    <a:pt x="51" y="23"/>
                  </a:lnTo>
                  <a:lnTo>
                    <a:pt x="69" y="23"/>
                  </a:lnTo>
                  <a:lnTo>
                    <a:pt x="69" y="18"/>
                  </a:lnTo>
                  <a:lnTo>
                    <a:pt x="74" y="18"/>
                  </a:lnTo>
                  <a:lnTo>
                    <a:pt x="74" y="12"/>
                  </a:lnTo>
                  <a:lnTo>
                    <a:pt x="86" y="12"/>
                  </a:lnTo>
                  <a:lnTo>
                    <a:pt x="86" y="6"/>
                  </a:lnTo>
                  <a:lnTo>
                    <a:pt x="103" y="6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20" y="12"/>
                  </a:lnTo>
                  <a:lnTo>
                    <a:pt x="108" y="12"/>
                  </a:lnTo>
                  <a:lnTo>
                    <a:pt x="108" y="18"/>
                  </a:lnTo>
                  <a:lnTo>
                    <a:pt x="96" y="18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91" y="28"/>
                  </a:lnTo>
                  <a:lnTo>
                    <a:pt x="86" y="28"/>
                  </a:lnTo>
                  <a:lnTo>
                    <a:pt x="86" y="35"/>
                  </a:lnTo>
                  <a:lnTo>
                    <a:pt x="69" y="35"/>
                  </a:lnTo>
                  <a:lnTo>
                    <a:pt x="69" y="40"/>
                  </a:lnTo>
                  <a:lnTo>
                    <a:pt x="57" y="40"/>
                  </a:lnTo>
                  <a:lnTo>
                    <a:pt x="57" y="46"/>
                  </a:lnTo>
                  <a:lnTo>
                    <a:pt x="34" y="46"/>
                  </a:lnTo>
                  <a:lnTo>
                    <a:pt x="34" y="52"/>
                  </a:lnTo>
                  <a:lnTo>
                    <a:pt x="22" y="52"/>
                  </a:lnTo>
                  <a:lnTo>
                    <a:pt x="22" y="57"/>
                  </a:lnTo>
                  <a:lnTo>
                    <a:pt x="6" y="5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1571400" y="-942120"/>
              <a:ext cx="13680" cy="684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22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28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1112040" y="4151520"/>
              <a:ext cx="254880" cy="345600"/>
            </a:xfrm>
            <a:custGeom>
              <a:avLst/>
              <a:gdLst/>
              <a:ahLst/>
              <a:rect l="l" t="t" r="r" b="b"/>
              <a:pathLst>
                <a:path w="461" h="620">
                  <a:moveTo>
                    <a:pt x="439" y="620"/>
                  </a:moveTo>
                  <a:lnTo>
                    <a:pt x="439" y="615"/>
                  </a:lnTo>
                  <a:lnTo>
                    <a:pt x="433" y="615"/>
                  </a:lnTo>
                  <a:lnTo>
                    <a:pt x="433" y="610"/>
                  </a:lnTo>
                  <a:lnTo>
                    <a:pt x="421" y="610"/>
                  </a:lnTo>
                  <a:lnTo>
                    <a:pt x="421" y="603"/>
                  </a:lnTo>
                  <a:lnTo>
                    <a:pt x="411" y="603"/>
                  </a:lnTo>
                  <a:lnTo>
                    <a:pt x="411" y="598"/>
                  </a:lnTo>
                  <a:lnTo>
                    <a:pt x="399" y="598"/>
                  </a:lnTo>
                  <a:lnTo>
                    <a:pt x="399" y="592"/>
                  </a:lnTo>
                  <a:lnTo>
                    <a:pt x="388" y="592"/>
                  </a:lnTo>
                  <a:lnTo>
                    <a:pt x="388" y="587"/>
                  </a:lnTo>
                  <a:lnTo>
                    <a:pt x="365" y="587"/>
                  </a:lnTo>
                  <a:lnTo>
                    <a:pt x="365" y="581"/>
                  </a:lnTo>
                  <a:lnTo>
                    <a:pt x="348" y="581"/>
                  </a:lnTo>
                  <a:lnTo>
                    <a:pt x="348" y="575"/>
                  </a:lnTo>
                  <a:lnTo>
                    <a:pt x="342" y="575"/>
                  </a:lnTo>
                  <a:lnTo>
                    <a:pt x="342" y="570"/>
                  </a:lnTo>
                  <a:lnTo>
                    <a:pt x="326" y="570"/>
                  </a:lnTo>
                  <a:lnTo>
                    <a:pt x="326" y="563"/>
                  </a:lnTo>
                  <a:lnTo>
                    <a:pt x="308" y="563"/>
                  </a:lnTo>
                  <a:lnTo>
                    <a:pt x="308" y="558"/>
                  </a:lnTo>
                  <a:lnTo>
                    <a:pt x="285" y="558"/>
                  </a:lnTo>
                  <a:lnTo>
                    <a:pt x="285" y="553"/>
                  </a:lnTo>
                  <a:lnTo>
                    <a:pt x="269" y="553"/>
                  </a:lnTo>
                  <a:lnTo>
                    <a:pt x="269" y="546"/>
                  </a:lnTo>
                  <a:lnTo>
                    <a:pt x="257" y="546"/>
                  </a:lnTo>
                  <a:lnTo>
                    <a:pt x="257" y="541"/>
                  </a:lnTo>
                  <a:lnTo>
                    <a:pt x="245" y="541"/>
                  </a:lnTo>
                  <a:lnTo>
                    <a:pt x="245" y="535"/>
                  </a:lnTo>
                  <a:lnTo>
                    <a:pt x="240" y="535"/>
                  </a:lnTo>
                  <a:lnTo>
                    <a:pt x="240" y="530"/>
                  </a:lnTo>
                  <a:lnTo>
                    <a:pt x="228" y="530"/>
                  </a:lnTo>
                  <a:lnTo>
                    <a:pt x="228" y="524"/>
                  </a:lnTo>
                  <a:lnTo>
                    <a:pt x="223" y="524"/>
                  </a:lnTo>
                  <a:lnTo>
                    <a:pt x="223" y="518"/>
                  </a:lnTo>
                  <a:lnTo>
                    <a:pt x="217" y="518"/>
                  </a:lnTo>
                  <a:lnTo>
                    <a:pt x="217" y="513"/>
                  </a:lnTo>
                  <a:lnTo>
                    <a:pt x="212" y="513"/>
                  </a:lnTo>
                  <a:lnTo>
                    <a:pt x="212" y="506"/>
                  </a:lnTo>
                  <a:lnTo>
                    <a:pt x="200" y="506"/>
                  </a:lnTo>
                  <a:lnTo>
                    <a:pt x="200" y="501"/>
                  </a:lnTo>
                  <a:lnTo>
                    <a:pt x="188" y="501"/>
                  </a:lnTo>
                  <a:lnTo>
                    <a:pt x="188" y="496"/>
                  </a:lnTo>
                  <a:lnTo>
                    <a:pt x="183" y="496"/>
                  </a:lnTo>
                  <a:lnTo>
                    <a:pt x="183" y="489"/>
                  </a:lnTo>
                  <a:lnTo>
                    <a:pt x="171" y="489"/>
                  </a:lnTo>
                  <a:lnTo>
                    <a:pt x="171" y="479"/>
                  </a:lnTo>
                  <a:lnTo>
                    <a:pt x="160" y="479"/>
                  </a:lnTo>
                  <a:lnTo>
                    <a:pt x="160" y="473"/>
                  </a:lnTo>
                  <a:lnTo>
                    <a:pt x="148" y="473"/>
                  </a:lnTo>
                  <a:lnTo>
                    <a:pt x="148" y="467"/>
                  </a:lnTo>
                  <a:lnTo>
                    <a:pt x="138" y="467"/>
                  </a:lnTo>
                  <a:lnTo>
                    <a:pt x="138" y="461"/>
                  </a:lnTo>
                  <a:lnTo>
                    <a:pt x="131" y="461"/>
                  </a:lnTo>
                  <a:lnTo>
                    <a:pt x="131" y="456"/>
                  </a:lnTo>
                  <a:lnTo>
                    <a:pt x="126" y="456"/>
                  </a:lnTo>
                  <a:lnTo>
                    <a:pt x="126" y="450"/>
                  </a:lnTo>
                  <a:lnTo>
                    <a:pt x="120" y="450"/>
                  </a:lnTo>
                  <a:lnTo>
                    <a:pt x="120" y="444"/>
                  </a:lnTo>
                  <a:lnTo>
                    <a:pt x="109" y="444"/>
                  </a:lnTo>
                  <a:lnTo>
                    <a:pt x="109" y="439"/>
                  </a:lnTo>
                  <a:lnTo>
                    <a:pt x="98" y="439"/>
                  </a:lnTo>
                  <a:lnTo>
                    <a:pt x="98" y="432"/>
                  </a:lnTo>
                  <a:lnTo>
                    <a:pt x="91" y="432"/>
                  </a:lnTo>
                  <a:lnTo>
                    <a:pt x="91" y="427"/>
                  </a:lnTo>
                  <a:lnTo>
                    <a:pt x="57" y="427"/>
                  </a:lnTo>
                  <a:lnTo>
                    <a:pt x="57" y="439"/>
                  </a:lnTo>
                  <a:lnTo>
                    <a:pt x="52" y="439"/>
                  </a:lnTo>
                  <a:lnTo>
                    <a:pt x="52" y="444"/>
                  </a:lnTo>
                  <a:lnTo>
                    <a:pt x="40" y="444"/>
                  </a:lnTo>
                  <a:lnTo>
                    <a:pt x="40" y="439"/>
                  </a:lnTo>
                  <a:lnTo>
                    <a:pt x="34" y="439"/>
                  </a:lnTo>
                  <a:lnTo>
                    <a:pt x="34" y="427"/>
                  </a:lnTo>
                  <a:lnTo>
                    <a:pt x="29" y="427"/>
                  </a:lnTo>
                  <a:lnTo>
                    <a:pt x="29" y="422"/>
                  </a:lnTo>
                  <a:lnTo>
                    <a:pt x="24" y="422"/>
                  </a:lnTo>
                  <a:lnTo>
                    <a:pt x="24" y="404"/>
                  </a:lnTo>
                  <a:lnTo>
                    <a:pt x="17" y="404"/>
                  </a:lnTo>
                  <a:lnTo>
                    <a:pt x="17" y="387"/>
                  </a:lnTo>
                  <a:lnTo>
                    <a:pt x="12" y="387"/>
                  </a:lnTo>
                  <a:lnTo>
                    <a:pt x="12" y="371"/>
                  </a:lnTo>
                  <a:lnTo>
                    <a:pt x="6" y="371"/>
                  </a:lnTo>
                  <a:lnTo>
                    <a:pt x="6" y="347"/>
                  </a:lnTo>
                  <a:lnTo>
                    <a:pt x="0" y="347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0"/>
                  </a:lnTo>
                  <a:lnTo>
                    <a:pt x="40" y="0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34" y="92"/>
                  </a:lnTo>
                  <a:lnTo>
                    <a:pt x="29" y="92"/>
                  </a:lnTo>
                  <a:lnTo>
                    <a:pt x="29" y="228"/>
                  </a:lnTo>
                  <a:lnTo>
                    <a:pt x="34" y="228"/>
                  </a:lnTo>
                  <a:lnTo>
                    <a:pt x="34" y="347"/>
                  </a:lnTo>
                  <a:lnTo>
                    <a:pt x="40" y="347"/>
                  </a:lnTo>
                  <a:lnTo>
                    <a:pt x="40" y="387"/>
                  </a:lnTo>
                  <a:lnTo>
                    <a:pt x="52" y="387"/>
                  </a:lnTo>
                  <a:lnTo>
                    <a:pt x="52" y="394"/>
                  </a:lnTo>
                  <a:lnTo>
                    <a:pt x="57" y="394"/>
                  </a:lnTo>
                  <a:lnTo>
                    <a:pt x="57" y="399"/>
                  </a:lnTo>
                  <a:lnTo>
                    <a:pt x="74" y="399"/>
                  </a:lnTo>
                  <a:lnTo>
                    <a:pt x="74" y="404"/>
                  </a:lnTo>
                  <a:lnTo>
                    <a:pt x="86" y="404"/>
                  </a:lnTo>
                  <a:lnTo>
                    <a:pt x="86" y="410"/>
                  </a:lnTo>
                  <a:lnTo>
                    <a:pt x="98" y="410"/>
                  </a:lnTo>
                  <a:lnTo>
                    <a:pt x="98" y="416"/>
                  </a:lnTo>
                  <a:lnTo>
                    <a:pt x="114" y="416"/>
                  </a:lnTo>
                  <a:lnTo>
                    <a:pt x="114" y="422"/>
                  </a:lnTo>
                  <a:lnTo>
                    <a:pt x="126" y="422"/>
                  </a:lnTo>
                  <a:lnTo>
                    <a:pt x="126" y="427"/>
                  </a:lnTo>
                  <a:lnTo>
                    <a:pt x="143" y="427"/>
                  </a:lnTo>
                  <a:lnTo>
                    <a:pt x="143" y="432"/>
                  </a:lnTo>
                  <a:lnTo>
                    <a:pt x="160" y="432"/>
                  </a:lnTo>
                  <a:lnTo>
                    <a:pt x="160" y="439"/>
                  </a:lnTo>
                  <a:lnTo>
                    <a:pt x="171" y="439"/>
                  </a:lnTo>
                  <a:lnTo>
                    <a:pt x="171" y="444"/>
                  </a:lnTo>
                  <a:lnTo>
                    <a:pt x="183" y="444"/>
                  </a:lnTo>
                  <a:lnTo>
                    <a:pt x="183" y="450"/>
                  </a:lnTo>
                  <a:lnTo>
                    <a:pt x="195" y="450"/>
                  </a:lnTo>
                  <a:lnTo>
                    <a:pt x="195" y="456"/>
                  </a:lnTo>
                  <a:lnTo>
                    <a:pt x="205" y="456"/>
                  </a:lnTo>
                  <a:lnTo>
                    <a:pt x="205" y="461"/>
                  </a:lnTo>
                  <a:lnTo>
                    <a:pt x="212" y="461"/>
                  </a:lnTo>
                  <a:lnTo>
                    <a:pt x="212" y="467"/>
                  </a:lnTo>
                  <a:lnTo>
                    <a:pt x="223" y="467"/>
                  </a:lnTo>
                  <a:lnTo>
                    <a:pt x="223" y="473"/>
                  </a:lnTo>
                  <a:lnTo>
                    <a:pt x="234" y="473"/>
                  </a:lnTo>
                  <a:lnTo>
                    <a:pt x="234" y="479"/>
                  </a:lnTo>
                  <a:lnTo>
                    <a:pt x="245" y="479"/>
                  </a:lnTo>
                  <a:lnTo>
                    <a:pt x="245" y="484"/>
                  </a:lnTo>
                  <a:lnTo>
                    <a:pt x="252" y="484"/>
                  </a:lnTo>
                  <a:lnTo>
                    <a:pt x="252" y="489"/>
                  </a:lnTo>
                  <a:lnTo>
                    <a:pt x="269" y="489"/>
                  </a:lnTo>
                  <a:lnTo>
                    <a:pt x="269" y="496"/>
                  </a:lnTo>
                  <a:lnTo>
                    <a:pt x="279" y="496"/>
                  </a:lnTo>
                  <a:lnTo>
                    <a:pt x="279" y="501"/>
                  </a:lnTo>
                  <a:lnTo>
                    <a:pt x="285" y="501"/>
                  </a:lnTo>
                  <a:lnTo>
                    <a:pt x="285" y="506"/>
                  </a:lnTo>
                  <a:lnTo>
                    <a:pt x="302" y="506"/>
                  </a:lnTo>
                  <a:lnTo>
                    <a:pt x="302" y="513"/>
                  </a:lnTo>
                  <a:lnTo>
                    <a:pt x="314" y="513"/>
                  </a:lnTo>
                  <a:lnTo>
                    <a:pt x="314" y="518"/>
                  </a:lnTo>
                  <a:lnTo>
                    <a:pt x="326" y="518"/>
                  </a:lnTo>
                  <a:lnTo>
                    <a:pt x="326" y="524"/>
                  </a:lnTo>
                  <a:lnTo>
                    <a:pt x="331" y="524"/>
                  </a:lnTo>
                  <a:lnTo>
                    <a:pt x="331" y="530"/>
                  </a:lnTo>
                  <a:lnTo>
                    <a:pt x="336" y="530"/>
                  </a:lnTo>
                  <a:lnTo>
                    <a:pt x="336" y="535"/>
                  </a:lnTo>
                  <a:lnTo>
                    <a:pt x="354" y="535"/>
                  </a:lnTo>
                  <a:lnTo>
                    <a:pt x="354" y="541"/>
                  </a:lnTo>
                  <a:lnTo>
                    <a:pt x="359" y="541"/>
                  </a:lnTo>
                  <a:lnTo>
                    <a:pt x="359" y="546"/>
                  </a:lnTo>
                  <a:lnTo>
                    <a:pt x="376" y="546"/>
                  </a:lnTo>
                  <a:lnTo>
                    <a:pt x="376" y="553"/>
                  </a:lnTo>
                  <a:lnTo>
                    <a:pt x="383" y="553"/>
                  </a:lnTo>
                  <a:lnTo>
                    <a:pt x="383" y="558"/>
                  </a:lnTo>
                  <a:lnTo>
                    <a:pt x="399" y="558"/>
                  </a:lnTo>
                  <a:lnTo>
                    <a:pt x="399" y="563"/>
                  </a:lnTo>
                  <a:lnTo>
                    <a:pt x="416" y="563"/>
                  </a:lnTo>
                  <a:lnTo>
                    <a:pt x="416" y="570"/>
                  </a:lnTo>
                  <a:lnTo>
                    <a:pt x="433" y="570"/>
                  </a:lnTo>
                  <a:lnTo>
                    <a:pt x="433" y="575"/>
                  </a:lnTo>
                  <a:lnTo>
                    <a:pt x="456" y="575"/>
                  </a:lnTo>
                  <a:lnTo>
                    <a:pt x="456" y="587"/>
                  </a:lnTo>
                  <a:lnTo>
                    <a:pt x="461" y="587"/>
                  </a:lnTo>
                  <a:lnTo>
                    <a:pt x="461" y="615"/>
                  </a:lnTo>
                  <a:lnTo>
                    <a:pt x="456" y="615"/>
                  </a:lnTo>
                  <a:lnTo>
                    <a:pt x="456" y="620"/>
                  </a:lnTo>
                  <a:lnTo>
                    <a:pt x="439" y="6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336680" y="4290480"/>
              <a:ext cx="38160" cy="2268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57" y="45"/>
                  </a:moveTo>
                  <a:lnTo>
                    <a:pt x="57" y="40"/>
                  </a:lnTo>
                  <a:lnTo>
                    <a:pt x="45" y="40"/>
                  </a:lnTo>
                  <a:lnTo>
                    <a:pt x="45" y="34"/>
                  </a:lnTo>
                  <a:lnTo>
                    <a:pt x="35" y="34"/>
                  </a:lnTo>
                  <a:lnTo>
                    <a:pt x="35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11" y="23"/>
                  </a:lnTo>
                  <a:lnTo>
                    <a:pt x="11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8" y="5"/>
                  </a:lnTo>
                  <a:lnTo>
                    <a:pt x="18" y="12"/>
                  </a:lnTo>
                  <a:lnTo>
                    <a:pt x="35" y="12"/>
                  </a:lnTo>
                  <a:lnTo>
                    <a:pt x="35" y="17"/>
                  </a:lnTo>
                  <a:lnTo>
                    <a:pt x="51" y="17"/>
                  </a:lnTo>
                  <a:lnTo>
                    <a:pt x="51" y="23"/>
                  </a:lnTo>
                  <a:lnTo>
                    <a:pt x="57" y="23"/>
                  </a:lnTo>
                  <a:lnTo>
                    <a:pt x="57" y="29"/>
                  </a:lnTo>
                  <a:lnTo>
                    <a:pt x="68" y="29"/>
                  </a:lnTo>
                  <a:lnTo>
                    <a:pt x="68" y="34"/>
                  </a:lnTo>
                  <a:lnTo>
                    <a:pt x="74" y="34"/>
                  </a:lnTo>
                  <a:lnTo>
                    <a:pt x="74" y="40"/>
                  </a:lnTo>
                  <a:lnTo>
                    <a:pt x="68" y="40"/>
                  </a:lnTo>
                  <a:lnTo>
                    <a:pt x="68" y="45"/>
                  </a:lnTo>
                  <a:lnTo>
                    <a:pt x="57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47840" y="4762800"/>
              <a:ext cx="15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352160" y="4773960"/>
              <a:ext cx="6840" cy="86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331640" y="4786560"/>
              <a:ext cx="24120" cy="1548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22" y="24"/>
                  </a:moveTo>
                  <a:lnTo>
                    <a:pt x="22" y="17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40" y="7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5" y="17"/>
                  </a:lnTo>
                  <a:lnTo>
                    <a:pt x="40" y="17"/>
                  </a:lnTo>
                  <a:lnTo>
                    <a:pt x="40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328760" y="4813560"/>
              <a:ext cx="15480" cy="15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7" y="23"/>
                  </a:move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22" y="6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962640" y="4709520"/>
              <a:ext cx="415440" cy="207720"/>
            </a:xfrm>
            <a:custGeom>
              <a:avLst/>
              <a:gdLst/>
              <a:ahLst/>
              <a:rect l="l" t="t" r="r" b="b"/>
              <a:pathLst>
                <a:path w="757" h="371">
                  <a:moveTo>
                    <a:pt x="717" y="371"/>
                  </a:moveTo>
                  <a:lnTo>
                    <a:pt x="717" y="365"/>
                  </a:lnTo>
                  <a:lnTo>
                    <a:pt x="694" y="365"/>
                  </a:lnTo>
                  <a:lnTo>
                    <a:pt x="694" y="359"/>
                  </a:lnTo>
                  <a:lnTo>
                    <a:pt x="671" y="359"/>
                  </a:lnTo>
                  <a:lnTo>
                    <a:pt x="671" y="354"/>
                  </a:lnTo>
                  <a:lnTo>
                    <a:pt x="643" y="354"/>
                  </a:lnTo>
                  <a:lnTo>
                    <a:pt x="643" y="347"/>
                  </a:lnTo>
                  <a:lnTo>
                    <a:pt x="620" y="347"/>
                  </a:lnTo>
                  <a:lnTo>
                    <a:pt x="620" y="342"/>
                  </a:lnTo>
                  <a:lnTo>
                    <a:pt x="609" y="342"/>
                  </a:lnTo>
                  <a:lnTo>
                    <a:pt x="609" y="337"/>
                  </a:lnTo>
                  <a:lnTo>
                    <a:pt x="586" y="337"/>
                  </a:lnTo>
                  <a:lnTo>
                    <a:pt x="586" y="330"/>
                  </a:lnTo>
                  <a:lnTo>
                    <a:pt x="575" y="330"/>
                  </a:lnTo>
                  <a:lnTo>
                    <a:pt x="575" y="325"/>
                  </a:lnTo>
                  <a:lnTo>
                    <a:pt x="558" y="325"/>
                  </a:lnTo>
                  <a:lnTo>
                    <a:pt x="558" y="319"/>
                  </a:lnTo>
                  <a:lnTo>
                    <a:pt x="535" y="319"/>
                  </a:lnTo>
                  <a:lnTo>
                    <a:pt x="535" y="313"/>
                  </a:lnTo>
                  <a:lnTo>
                    <a:pt x="523" y="313"/>
                  </a:lnTo>
                  <a:lnTo>
                    <a:pt x="523" y="308"/>
                  </a:lnTo>
                  <a:lnTo>
                    <a:pt x="512" y="308"/>
                  </a:lnTo>
                  <a:lnTo>
                    <a:pt x="512" y="302"/>
                  </a:lnTo>
                  <a:lnTo>
                    <a:pt x="494" y="302"/>
                  </a:lnTo>
                  <a:lnTo>
                    <a:pt x="494" y="297"/>
                  </a:lnTo>
                  <a:lnTo>
                    <a:pt x="478" y="297"/>
                  </a:lnTo>
                  <a:lnTo>
                    <a:pt x="478" y="290"/>
                  </a:lnTo>
                  <a:lnTo>
                    <a:pt x="466" y="290"/>
                  </a:lnTo>
                  <a:lnTo>
                    <a:pt x="466" y="285"/>
                  </a:lnTo>
                  <a:lnTo>
                    <a:pt x="455" y="285"/>
                  </a:lnTo>
                  <a:lnTo>
                    <a:pt x="455" y="280"/>
                  </a:lnTo>
                  <a:lnTo>
                    <a:pt x="444" y="280"/>
                  </a:lnTo>
                  <a:lnTo>
                    <a:pt x="444" y="273"/>
                  </a:lnTo>
                  <a:lnTo>
                    <a:pt x="432" y="273"/>
                  </a:lnTo>
                  <a:lnTo>
                    <a:pt x="432" y="268"/>
                  </a:lnTo>
                  <a:lnTo>
                    <a:pt x="415" y="268"/>
                  </a:lnTo>
                  <a:lnTo>
                    <a:pt x="415" y="263"/>
                  </a:lnTo>
                  <a:lnTo>
                    <a:pt x="409" y="263"/>
                  </a:lnTo>
                  <a:lnTo>
                    <a:pt x="409" y="256"/>
                  </a:lnTo>
                  <a:lnTo>
                    <a:pt x="380" y="256"/>
                  </a:lnTo>
                  <a:lnTo>
                    <a:pt x="380" y="251"/>
                  </a:lnTo>
                  <a:lnTo>
                    <a:pt x="370" y="251"/>
                  </a:lnTo>
                  <a:lnTo>
                    <a:pt x="370" y="245"/>
                  </a:lnTo>
                  <a:lnTo>
                    <a:pt x="358" y="245"/>
                  </a:lnTo>
                  <a:lnTo>
                    <a:pt x="358" y="240"/>
                  </a:lnTo>
                  <a:lnTo>
                    <a:pt x="353" y="240"/>
                  </a:lnTo>
                  <a:lnTo>
                    <a:pt x="353" y="234"/>
                  </a:lnTo>
                  <a:lnTo>
                    <a:pt x="341" y="234"/>
                  </a:lnTo>
                  <a:lnTo>
                    <a:pt x="341" y="228"/>
                  </a:lnTo>
                  <a:lnTo>
                    <a:pt x="335" y="228"/>
                  </a:lnTo>
                  <a:lnTo>
                    <a:pt x="335" y="223"/>
                  </a:lnTo>
                  <a:lnTo>
                    <a:pt x="313" y="223"/>
                  </a:lnTo>
                  <a:lnTo>
                    <a:pt x="313" y="216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78" y="211"/>
                  </a:lnTo>
                  <a:lnTo>
                    <a:pt x="278" y="206"/>
                  </a:lnTo>
                  <a:lnTo>
                    <a:pt x="261" y="206"/>
                  </a:lnTo>
                  <a:lnTo>
                    <a:pt x="261" y="199"/>
                  </a:lnTo>
                  <a:lnTo>
                    <a:pt x="239" y="199"/>
                  </a:lnTo>
                  <a:lnTo>
                    <a:pt x="239" y="194"/>
                  </a:lnTo>
                  <a:lnTo>
                    <a:pt x="227" y="194"/>
                  </a:lnTo>
                  <a:lnTo>
                    <a:pt x="227" y="188"/>
                  </a:lnTo>
                  <a:lnTo>
                    <a:pt x="211" y="188"/>
                  </a:lnTo>
                  <a:lnTo>
                    <a:pt x="211" y="183"/>
                  </a:lnTo>
                  <a:lnTo>
                    <a:pt x="199" y="183"/>
                  </a:lnTo>
                  <a:lnTo>
                    <a:pt x="199" y="177"/>
                  </a:lnTo>
                  <a:lnTo>
                    <a:pt x="188" y="177"/>
                  </a:lnTo>
                  <a:lnTo>
                    <a:pt x="188" y="171"/>
                  </a:lnTo>
                  <a:lnTo>
                    <a:pt x="171" y="171"/>
                  </a:lnTo>
                  <a:lnTo>
                    <a:pt x="171" y="166"/>
                  </a:lnTo>
                  <a:lnTo>
                    <a:pt x="147" y="166"/>
                  </a:lnTo>
                  <a:lnTo>
                    <a:pt x="147" y="159"/>
                  </a:lnTo>
                  <a:lnTo>
                    <a:pt x="142" y="159"/>
                  </a:lnTo>
                  <a:lnTo>
                    <a:pt x="142" y="154"/>
                  </a:lnTo>
                  <a:lnTo>
                    <a:pt x="125" y="154"/>
                  </a:lnTo>
                  <a:lnTo>
                    <a:pt x="125" y="149"/>
                  </a:lnTo>
                  <a:lnTo>
                    <a:pt x="114" y="149"/>
                  </a:lnTo>
                  <a:lnTo>
                    <a:pt x="114" y="142"/>
                  </a:lnTo>
                  <a:lnTo>
                    <a:pt x="102" y="142"/>
                  </a:lnTo>
                  <a:lnTo>
                    <a:pt x="102" y="137"/>
                  </a:lnTo>
                  <a:lnTo>
                    <a:pt x="97" y="137"/>
                  </a:lnTo>
                  <a:lnTo>
                    <a:pt x="97" y="131"/>
                  </a:lnTo>
                  <a:lnTo>
                    <a:pt x="80" y="131"/>
                  </a:lnTo>
                  <a:lnTo>
                    <a:pt x="80" y="126"/>
                  </a:lnTo>
                  <a:lnTo>
                    <a:pt x="74" y="126"/>
                  </a:lnTo>
                  <a:lnTo>
                    <a:pt x="74" y="120"/>
                  </a:lnTo>
                  <a:lnTo>
                    <a:pt x="68" y="120"/>
                  </a:lnTo>
                  <a:lnTo>
                    <a:pt x="68" y="114"/>
                  </a:lnTo>
                  <a:lnTo>
                    <a:pt x="40" y="114"/>
                  </a:lnTo>
                  <a:lnTo>
                    <a:pt x="40" y="120"/>
                  </a:lnTo>
                  <a:lnTo>
                    <a:pt x="28" y="120"/>
                  </a:lnTo>
                  <a:lnTo>
                    <a:pt x="28" y="114"/>
                  </a:lnTo>
                  <a:lnTo>
                    <a:pt x="11" y="114"/>
                  </a:lnTo>
                  <a:lnTo>
                    <a:pt x="11" y="102"/>
                  </a:lnTo>
                  <a:lnTo>
                    <a:pt x="5" y="102"/>
                  </a:lnTo>
                  <a:lnTo>
                    <a:pt x="5" y="97"/>
                  </a:lnTo>
                  <a:lnTo>
                    <a:pt x="0" y="97"/>
                  </a:lnTo>
                  <a:lnTo>
                    <a:pt x="0" y="80"/>
                  </a:lnTo>
                  <a:lnTo>
                    <a:pt x="5" y="80"/>
                  </a:lnTo>
                  <a:lnTo>
                    <a:pt x="5" y="75"/>
                  </a:lnTo>
                  <a:lnTo>
                    <a:pt x="33" y="75"/>
                  </a:lnTo>
                  <a:lnTo>
                    <a:pt x="33" y="80"/>
                  </a:lnTo>
                  <a:lnTo>
                    <a:pt x="50" y="80"/>
                  </a:lnTo>
                  <a:lnTo>
                    <a:pt x="50" y="85"/>
                  </a:lnTo>
                  <a:lnTo>
                    <a:pt x="62" y="85"/>
                  </a:lnTo>
                  <a:lnTo>
                    <a:pt x="62" y="92"/>
                  </a:lnTo>
                  <a:lnTo>
                    <a:pt x="74" y="92"/>
                  </a:lnTo>
                  <a:lnTo>
                    <a:pt x="74" y="97"/>
                  </a:lnTo>
                  <a:lnTo>
                    <a:pt x="80" y="97"/>
                  </a:lnTo>
                  <a:lnTo>
                    <a:pt x="80" y="102"/>
                  </a:lnTo>
                  <a:lnTo>
                    <a:pt x="90" y="102"/>
                  </a:lnTo>
                  <a:lnTo>
                    <a:pt x="90" y="109"/>
                  </a:lnTo>
                  <a:lnTo>
                    <a:pt x="102" y="109"/>
                  </a:lnTo>
                  <a:lnTo>
                    <a:pt x="102" y="114"/>
                  </a:lnTo>
                  <a:lnTo>
                    <a:pt x="107" y="114"/>
                  </a:lnTo>
                  <a:lnTo>
                    <a:pt x="107" y="120"/>
                  </a:lnTo>
                  <a:lnTo>
                    <a:pt x="119" y="120"/>
                  </a:lnTo>
                  <a:lnTo>
                    <a:pt x="119" y="126"/>
                  </a:lnTo>
                  <a:lnTo>
                    <a:pt x="131" y="126"/>
                  </a:lnTo>
                  <a:lnTo>
                    <a:pt x="131" y="131"/>
                  </a:lnTo>
                  <a:lnTo>
                    <a:pt x="142" y="131"/>
                  </a:lnTo>
                  <a:lnTo>
                    <a:pt x="142" y="137"/>
                  </a:lnTo>
                  <a:lnTo>
                    <a:pt x="154" y="137"/>
                  </a:lnTo>
                  <a:lnTo>
                    <a:pt x="154" y="142"/>
                  </a:lnTo>
                  <a:lnTo>
                    <a:pt x="164" y="142"/>
                  </a:lnTo>
                  <a:lnTo>
                    <a:pt x="164" y="149"/>
                  </a:lnTo>
                  <a:lnTo>
                    <a:pt x="176" y="149"/>
                  </a:lnTo>
                  <a:lnTo>
                    <a:pt x="176" y="154"/>
                  </a:lnTo>
                  <a:lnTo>
                    <a:pt x="188" y="154"/>
                  </a:lnTo>
                  <a:lnTo>
                    <a:pt x="188" y="159"/>
                  </a:lnTo>
                  <a:lnTo>
                    <a:pt x="204" y="159"/>
                  </a:lnTo>
                  <a:lnTo>
                    <a:pt x="204" y="166"/>
                  </a:lnTo>
                  <a:lnTo>
                    <a:pt x="221" y="166"/>
                  </a:lnTo>
                  <a:lnTo>
                    <a:pt x="221" y="171"/>
                  </a:lnTo>
                  <a:lnTo>
                    <a:pt x="250" y="171"/>
                  </a:lnTo>
                  <a:lnTo>
                    <a:pt x="250" y="177"/>
                  </a:lnTo>
                  <a:lnTo>
                    <a:pt x="267" y="177"/>
                  </a:lnTo>
                  <a:lnTo>
                    <a:pt x="267" y="183"/>
                  </a:lnTo>
                  <a:lnTo>
                    <a:pt x="284" y="183"/>
                  </a:lnTo>
                  <a:lnTo>
                    <a:pt x="284" y="188"/>
                  </a:lnTo>
                  <a:lnTo>
                    <a:pt x="301" y="188"/>
                  </a:lnTo>
                  <a:lnTo>
                    <a:pt x="301" y="194"/>
                  </a:lnTo>
                  <a:lnTo>
                    <a:pt x="313" y="194"/>
                  </a:lnTo>
                  <a:lnTo>
                    <a:pt x="313" y="199"/>
                  </a:lnTo>
                  <a:lnTo>
                    <a:pt x="330" y="199"/>
                  </a:lnTo>
                  <a:lnTo>
                    <a:pt x="330" y="206"/>
                  </a:lnTo>
                  <a:lnTo>
                    <a:pt x="341" y="206"/>
                  </a:lnTo>
                  <a:lnTo>
                    <a:pt x="341" y="211"/>
                  </a:lnTo>
                  <a:lnTo>
                    <a:pt x="353" y="211"/>
                  </a:lnTo>
                  <a:lnTo>
                    <a:pt x="353" y="216"/>
                  </a:lnTo>
                  <a:lnTo>
                    <a:pt x="370" y="216"/>
                  </a:lnTo>
                  <a:lnTo>
                    <a:pt x="370" y="223"/>
                  </a:lnTo>
                  <a:lnTo>
                    <a:pt x="375" y="223"/>
                  </a:lnTo>
                  <a:lnTo>
                    <a:pt x="375" y="228"/>
                  </a:lnTo>
                  <a:lnTo>
                    <a:pt x="392" y="228"/>
                  </a:lnTo>
                  <a:lnTo>
                    <a:pt x="392" y="234"/>
                  </a:lnTo>
                  <a:lnTo>
                    <a:pt x="404" y="234"/>
                  </a:lnTo>
                  <a:lnTo>
                    <a:pt x="404" y="240"/>
                  </a:lnTo>
                  <a:lnTo>
                    <a:pt x="421" y="240"/>
                  </a:lnTo>
                  <a:lnTo>
                    <a:pt x="421" y="245"/>
                  </a:lnTo>
                  <a:lnTo>
                    <a:pt x="437" y="245"/>
                  </a:lnTo>
                  <a:lnTo>
                    <a:pt x="437" y="251"/>
                  </a:lnTo>
                  <a:lnTo>
                    <a:pt x="449" y="251"/>
                  </a:lnTo>
                  <a:lnTo>
                    <a:pt x="449" y="256"/>
                  </a:lnTo>
                  <a:lnTo>
                    <a:pt x="461" y="256"/>
                  </a:lnTo>
                  <a:lnTo>
                    <a:pt x="461" y="263"/>
                  </a:lnTo>
                  <a:lnTo>
                    <a:pt x="472" y="263"/>
                  </a:lnTo>
                  <a:lnTo>
                    <a:pt x="472" y="268"/>
                  </a:lnTo>
                  <a:lnTo>
                    <a:pt x="489" y="268"/>
                  </a:lnTo>
                  <a:lnTo>
                    <a:pt x="489" y="273"/>
                  </a:lnTo>
                  <a:lnTo>
                    <a:pt x="523" y="273"/>
                  </a:lnTo>
                  <a:lnTo>
                    <a:pt x="523" y="280"/>
                  </a:lnTo>
                  <a:lnTo>
                    <a:pt x="563" y="280"/>
                  </a:lnTo>
                  <a:lnTo>
                    <a:pt x="563" y="285"/>
                  </a:lnTo>
                  <a:lnTo>
                    <a:pt x="586" y="285"/>
                  </a:lnTo>
                  <a:lnTo>
                    <a:pt x="586" y="290"/>
                  </a:lnTo>
                  <a:lnTo>
                    <a:pt x="609" y="290"/>
                  </a:lnTo>
                  <a:lnTo>
                    <a:pt x="609" y="297"/>
                  </a:lnTo>
                  <a:lnTo>
                    <a:pt x="626" y="297"/>
                  </a:lnTo>
                  <a:lnTo>
                    <a:pt x="626" y="302"/>
                  </a:lnTo>
                  <a:lnTo>
                    <a:pt x="655" y="302"/>
                  </a:lnTo>
                  <a:lnTo>
                    <a:pt x="655" y="308"/>
                  </a:lnTo>
                  <a:lnTo>
                    <a:pt x="677" y="308"/>
                  </a:lnTo>
                  <a:lnTo>
                    <a:pt x="677" y="313"/>
                  </a:lnTo>
                  <a:lnTo>
                    <a:pt x="712" y="313"/>
                  </a:lnTo>
                  <a:lnTo>
                    <a:pt x="712" y="308"/>
                  </a:lnTo>
                  <a:lnTo>
                    <a:pt x="717" y="308"/>
                  </a:lnTo>
                  <a:lnTo>
                    <a:pt x="717" y="273"/>
                  </a:lnTo>
                  <a:lnTo>
                    <a:pt x="722" y="273"/>
                  </a:lnTo>
                  <a:lnTo>
                    <a:pt x="722" y="223"/>
                  </a:lnTo>
                  <a:lnTo>
                    <a:pt x="717" y="223"/>
                  </a:lnTo>
                  <a:lnTo>
                    <a:pt x="717" y="97"/>
                  </a:lnTo>
                  <a:lnTo>
                    <a:pt x="722" y="97"/>
                  </a:lnTo>
                  <a:lnTo>
                    <a:pt x="722" y="75"/>
                  </a:lnTo>
                  <a:lnTo>
                    <a:pt x="728" y="75"/>
                  </a:lnTo>
                  <a:lnTo>
                    <a:pt x="728" y="28"/>
                  </a:lnTo>
                  <a:lnTo>
                    <a:pt x="722" y="28"/>
                  </a:lnTo>
                  <a:lnTo>
                    <a:pt x="722" y="0"/>
                  </a:lnTo>
                  <a:lnTo>
                    <a:pt x="751" y="0"/>
                  </a:lnTo>
                  <a:lnTo>
                    <a:pt x="751" y="40"/>
                  </a:lnTo>
                  <a:lnTo>
                    <a:pt x="757" y="40"/>
                  </a:lnTo>
                  <a:lnTo>
                    <a:pt x="757" y="69"/>
                  </a:lnTo>
                  <a:lnTo>
                    <a:pt x="751" y="69"/>
                  </a:lnTo>
                  <a:lnTo>
                    <a:pt x="751" y="92"/>
                  </a:lnTo>
                  <a:lnTo>
                    <a:pt x="745" y="92"/>
                  </a:lnTo>
                  <a:lnTo>
                    <a:pt x="745" y="228"/>
                  </a:lnTo>
                  <a:lnTo>
                    <a:pt x="751" y="228"/>
                  </a:lnTo>
                  <a:lnTo>
                    <a:pt x="751" y="251"/>
                  </a:lnTo>
                  <a:lnTo>
                    <a:pt x="757" y="251"/>
                  </a:lnTo>
                  <a:lnTo>
                    <a:pt x="757" y="263"/>
                  </a:lnTo>
                  <a:lnTo>
                    <a:pt x="751" y="263"/>
                  </a:lnTo>
                  <a:lnTo>
                    <a:pt x="751" y="280"/>
                  </a:lnTo>
                  <a:lnTo>
                    <a:pt x="745" y="280"/>
                  </a:lnTo>
                  <a:lnTo>
                    <a:pt x="745" y="297"/>
                  </a:lnTo>
                  <a:lnTo>
                    <a:pt x="751" y="297"/>
                  </a:lnTo>
                  <a:lnTo>
                    <a:pt x="751" y="325"/>
                  </a:lnTo>
                  <a:lnTo>
                    <a:pt x="757" y="325"/>
                  </a:lnTo>
                  <a:lnTo>
                    <a:pt x="757" y="371"/>
                  </a:lnTo>
                  <a:lnTo>
                    <a:pt x="717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-152280"/>
            <a:ext cx="914400" cy="914400"/>
            <a:chOff x="6629400" y="-152280"/>
            <a:chExt cx="914400" cy="914400"/>
          </a:xfrm>
        </p:grpSpPr>
        <p:sp>
          <p:nvSpPr>
            <p:cNvPr id="173" name=""/>
            <p:cNvSpPr/>
            <p:nvPr/>
          </p:nvSpPr>
          <p:spPr>
            <a:xfrm>
              <a:off x="6955920" y="174240"/>
              <a:ext cx="261360" cy="261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90760" y="108720"/>
              <a:ext cx="391680" cy="391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59720" y="-21240"/>
              <a:ext cx="653040" cy="65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9400" y="-152280"/>
              <a:ext cx="9144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8839080" y="3048120"/>
            <a:ext cx="762120" cy="761760"/>
            <a:chOff x="8839080" y="3048120"/>
            <a:chExt cx="762120" cy="761760"/>
          </a:xfrm>
        </p:grpSpPr>
        <p:sp>
          <p:nvSpPr>
            <p:cNvPr id="178" name=""/>
            <p:cNvSpPr/>
            <p:nvPr/>
          </p:nvSpPr>
          <p:spPr>
            <a:xfrm>
              <a:off x="9111240" y="3320280"/>
              <a:ext cx="217800" cy="217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56880" y="3265560"/>
              <a:ext cx="326520" cy="326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47800" y="3156840"/>
              <a:ext cx="544320" cy="543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39080" y="3048120"/>
              <a:ext cx="76212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530840" y="15228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 Benedetto 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10280" y="38862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ST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06200" y="335268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gogna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76320" y="1447920"/>
            <a:ext cx="2057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s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nnero - Mod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0512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2617920"/>
            <a:ext cx="2133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scita Autos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gogna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981080" y="3200400"/>
            <a:ext cx="6098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4572000"/>
            <a:ext cx="26672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’Uscita di Pegognaga seguire la segnaletica TUTTE LE DIREZIONI e all’incrocio successivo seguire l’ind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. BENED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599840" y="434340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4038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uire Segnaletica QUIST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638680" y="297144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16765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uire Segnaletica QUIST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2133720"/>
            <a:ext cx="10670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3526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uire Segnaletica QUIST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7619760" y="2590920"/>
            <a:ext cx="7596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1143000"/>
            <a:ext cx="2057400" cy="88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ARE RIFERIMENTO A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V.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39080" y="2057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0091600">
            <a:off x="3137040" y="3425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9200">
            <a:off x="6019920" y="2680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200">
            <a:off x="7086600" y="237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7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048120" y="385272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029120" y="32810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28680" y="4214880"/>
            <a:ext cx="27648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440" y="4410000"/>
            <a:ext cx="206280" cy="111240"/>
          </a:xfrm>
          <a:custGeom>
            <a:avLst/>
            <a:gdLst/>
            <a:ahLst/>
            <a:rect l="l" t="t" r="r" b="b"/>
            <a:pathLst>
              <a:path w="175" h="127">
                <a:moveTo>
                  <a:pt x="22" y="0"/>
                </a:moveTo>
                <a:cubicBezTo>
                  <a:pt x="11" y="44"/>
                  <a:pt x="0" y="89"/>
                  <a:pt x="25" y="108"/>
                </a:cubicBezTo>
                <a:cubicBezTo>
                  <a:pt x="50" y="127"/>
                  <a:pt x="150" y="113"/>
                  <a:pt x="17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05320" y="2895120"/>
            <a:ext cx="3333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72120" y="2795760"/>
            <a:ext cx="21456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86400" y="2800440"/>
            <a:ext cx="233640" cy="191880"/>
          </a:xfrm>
          <a:custGeom>
            <a:avLst/>
            <a:gdLst/>
            <a:ahLst/>
            <a:rect l="l" t="t" r="r" b="b"/>
            <a:pathLst>
              <a:path w="114" h="85">
                <a:moveTo>
                  <a:pt x="0" y="60"/>
                </a:moveTo>
                <a:cubicBezTo>
                  <a:pt x="22" y="72"/>
                  <a:pt x="44" y="85"/>
                  <a:pt x="63" y="75"/>
                </a:cubicBezTo>
                <a:cubicBezTo>
                  <a:pt x="82" y="65"/>
                  <a:pt x="106" y="12"/>
                  <a:pt x="11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0040" y="2595600"/>
            <a:ext cx="233280" cy="152280"/>
          </a:xfrm>
          <a:custGeom>
            <a:avLst/>
            <a:gdLst/>
            <a:ahLst/>
            <a:rect l="l" t="t" r="r" b="b"/>
            <a:pathLst>
              <a:path w="144" h="54">
                <a:moveTo>
                  <a:pt x="0" y="54"/>
                </a:moveTo>
                <a:cubicBezTo>
                  <a:pt x="3" y="33"/>
                  <a:pt x="6" y="12"/>
                  <a:pt x="30" y="6"/>
                </a:cubicBezTo>
                <a:cubicBezTo>
                  <a:pt x="54" y="0"/>
                  <a:pt x="125" y="13"/>
                  <a:pt x="144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429680" y="2400480"/>
            <a:ext cx="33336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81920" y="2317680"/>
            <a:ext cx="428760" cy="144360"/>
          </a:xfrm>
          <a:custGeom>
            <a:avLst/>
            <a:gdLst/>
            <a:ahLst/>
            <a:rect l="l" t="t" r="r" b="b"/>
            <a:pathLst>
              <a:path w="270" h="91">
                <a:moveTo>
                  <a:pt x="0" y="13"/>
                </a:moveTo>
                <a:cubicBezTo>
                  <a:pt x="54" y="6"/>
                  <a:pt x="108" y="0"/>
                  <a:pt x="153" y="13"/>
                </a:cubicBezTo>
                <a:cubicBezTo>
                  <a:pt x="198" y="26"/>
                  <a:pt x="250" y="78"/>
                  <a:pt x="270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82120" y="2752560"/>
            <a:ext cx="266760" cy="125640"/>
          </a:xfrm>
          <a:custGeom>
            <a:avLst/>
            <a:gdLst/>
            <a:ahLst/>
            <a:rect l="l" t="t" r="r" b="b"/>
            <a:pathLst>
              <a:path w="150" h="79">
                <a:moveTo>
                  <a:pt x="0" y="0"/>
                </a:moveTo>
                <a:cubicBezTo>
                  <a:pt x="25" y="32"/>
                  <a:pt x="50" y="65"/>
                  <a:pt x="75" y="72"/>
                </a:cubicBezTo>
                <a:cubicBezTo>
                  <a:pt x="100" y="79"/>
                  <a:pt x="138" y="47"/>
                  <a:pt x="150" y="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503280" y="228600"/>
            <a:ext cx="7869240" cy="6210360"/>
            <a:chOff x="503280" y="228600"/>
            <a:chExt cx="7869240" cy="6210360"/>
          </a:xfrm>
        </p:grpSpPr>
        <p:sp>
          <p:nvSpPr>
            <p:cNvPr id="214" name=""/>
            <p:cNvSpPr/>
            <p:nvPr/>
          </p:nvSpPr>
          <p:spPr>
            <a:xfrm>
              <a:off x="2989440" y="64278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30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74600" y="228600"/>
              <a:ext cx="1212840" cy="1758960"/>
            </a:xfrm>
            <a:custGeom>
              <a:avLst/>
              <a:gdLst/>
              <a:ahLst/>
              <a:rect l="l" t="t" r="r" b="b"/>
              <a:pathLst>
                <a:path w="2292" h="4432">
                  <a:moveTo>
                    <a:pt x="0" y="4386"/>
                  </a:moveTo>
                  <a:lnTo>
                    <a:pt x="5" y="4386"/>
                  </a:lnTo>
                  <a:lnTo>
                    <a:pt x="5" y="4379"/>
                  </a:lnTo>
                  <a:lnTo>
                    <a:pt x="9" y="4379"/>
                  </a:lnTo>
                  <a:lnTo>
                    <a:pt x="9" y="4361"/>
                  </a:lnTo>
                  <a:lnTo>
                    <a:pt x="14" y="4361"/>
                  </a:lnTo>
                  <a:lnTo>
                    <a:pt x="14" y="4350"/>
                  </a:lnTo>
                  <a:lnTo>
                    <a:pt x="19" y="4350"/>
                  </a:lnTo>
                  <a:lnTo>
                    <a:pt x="19" y="4320"/>
                  </a:lnTo>
                  <a:lnTo>
                    <a:pt x="24" y="4320"/>
                  </a:lnTo>
                  <a:lnTo>
                    <a:pt x="24" y="4303"/>
                  </a:lnTo>
                  <a:lnTo>
                    <a:pt x="29" y="4303"/>
                  </a:lnTo>
                  <a:lnTo>
                    <a:pt x="29" y="4285"/>
                  </a:lnTo>
                  <a:lnTo>
                    <a:pt x="35" y="4285"/>
                  </a:lnTo>
                  <a:lnTo>
                    <a:pt x="35" y="4268"/>
                  </a:lnTo>
                  <a:lnTo>
                    <a:pt x="39" y="4268"/>
                  </a:lnTo>
                  <a:lnTo>
                    <a:pt x="39" y="4255"/>
                  </a:lnTo>
                  <a:lnTo>
                    <a:pt x="43" y="4255"/>
                  </a:lnTo>
                  <a:lnTo>
                    <a:pt x="43" y="4244"/>
                  </a:lnTo>
                  <a:lnTo>
                    <a:pt x="48" y="4244"/>
                  </a:lnTo>
                  <a:lnTo>
                    <a:pt x="48" y="4226"/>
                  </a:lnTo>
                  <a:lnTo>
                    <a:pt x="53" y="4226"/>
                  </a:lnTo>
                  <a:lnTo>
                    <a:pt x="53" y="4209"/>
                  </a:lnTo>
                  <a:lnTo>
                    <a:pt x="58" y="4209"/>
                  </a:lnTo>
                  <a:lnTo>
                    <a:pt x="58" y="4197"/>
                  </a:lnTo>
                  <a:lnTo>
                    <a:pt x="62" y="4197"/>
                  </a:lnTo>
                  <a:lnTo>
                    <a:pt x="62" y="4184"/>
                  </a:lnTo>
                  <a:lnTo>
                    <a:pt x="68" y="4184"/>
                  </a:lnTo>
                  <a:lnTo>
                    <a:pt x="68" y="4168"/>
                  </a:lnTo>
                  <a:lnTo>
                    <a:pt x="72" y="4168"/>
                  </a:lnTo>
                  <a:lnTo>
                    <a:pt x="72" y="4149"/>
                  </a:lnTo>
                  <a:lnTo>
                    <a:pt x="77" y="4149"/>
                  </a:lnTo>
                  <a:lnTo>
                    <a:pt x="77" y="4137"/>
                  </a:lnTo>
                  <a:lnTo>
                    <a:pt x="82" y="4137"/>
                  </a:lnTo>
                  <a:lnTo>
                    <a:pt x="82" y="4125"/>
                  </a:lnTo>
                  <a:lnTo>
                    <a:pt x="86" y="4125"/>
                  </a:lnTo>
                  <a:lnTo>
                    <a:pt x="86" y="4108"/>
                  </a:lnTo>
                  <a:lnTo>
                    <a:pt x="91" y="4108"/>
                  </a:lnTo>
                  <a:lnTo>
                    <a:pt x="91" y="4095"/>
                  </a:lnTo>
                  <a:lnTo>
                    <a:pt x="95" y="4095"/>
                  </a:lnTo>
                  <a:lnTo>
                    <a:pt x="95" y="4078"/>
                  </a:lnTo>
                  <a:lnTo>
                    <a:pt x="102" y="4078"/>
                  </a:lnTo>
                  <a:lnTo>
                    <a:pt x="102" y="4060"/>
                  </a:lnTo>
                  <a:lnTo>
                    <a:pt x="106" y="4060"/>
                  </a:lnTo>
                  <a:lnTo>
                    <a:pt x="106" y="4031"/>
                  </a:lnTo>
                  <a:lnTo>
                    <a:pt x="111" y="4031"/>
                  </a:lnTo>
                  <a:lnTo>
                    <a:pt x="111" y="4019"/>
                  </a:lnTo>
                  <a:lnTo>
                    <a:pt x="116" y="4019"/>
                  </a:lnTo>
                  <a:lnTo>
                    <a:pt x="116" y="4001"/>
                  </a:lnTo>
                  <a:lnTo>
                    <a:pt x="120" y="4001"/>
                  </a:lnTo>
                  <a:lnTo>
                    <a:pt x="120" y="3983"/>
                  </a:lnTo>
                  <a:lnTo>
                    <a:pt x="125" y="3983"/>
                  </a:lnTo>
                  <a:lnTo>
                    <a:pt x="125" y="3972"/>
                  </a:lnTo>
                  <a:lnTo>
                    <a:pt x="130" y="3972"/>
                  </a:lnTo>
                  <a:lnTo>
                    <a:pt x="130" y="3954"/>
                  </a:lnTo>
                  <a:lnTo>
                    <a:pt x="135" y="3954"/>
                  </a:lnTo>
                  <a:lnTo>
                    <a:pt x="135" y="3931"/>
                  </a:lnTo>
                  <a:lnTo>
                    <a:pt x="139" y="3931"/>
                  </a:lnTo>
                  <a:lnTo>
                    <a:pt x="139" y="3907"/>
                  </a:lnTo>
                  <a:lnTo>
                    <a:pt x="144" y="3907"/>
                  </a:lnTo>
                  <a:lnTo>
                    <a:pt x="144" y="3883"/>
                  </a:lnTo>
                  <a:lnTo>
                    <a:pt x="149" y="3883"/>
                  </a:lnTo>
                  <a:lnTo>
                    <a:pt x="149" y="3872"/>
                  </a:lnTo>
                  <a:lnTo>
                    <a:pt x="154" y="3872"/>
                  </a:lnTo>
                  <a:lnTo>
                    <a:pt x="154" y="3847"/>
                  </a:lnTo>
                  <a:lnTo>
                    <a:pt x="158" y="3847"/>
                  </a:lnTo>
                  <a:lnTo>
                    <a:pt x="158" y="3836"/>
                  </a:lnTo>
                  <a:lnTo>
                    <a:pt x="163" y="3836"/>
                  </a:lnTo>
                  <a:lnTo>
                    <a:pt x="163" y="3818"/>
                  </a:lnTo>
                  <a:lnTo>
                    <a:pt x="168" y="3818"/>
                  </a:lnTo>
                  <a:lnTo>
                    <a:pt x="168" y="3801"/>
                  </a:lnTo>
                  <a:lnTo>
                    <a:pt x="173" y="3801"/>
                  </a:lnTo>
                  <a:lnTo>
                    <a:pt x="173" y="3782"/>
                  </a:lnTo>
                  <a:lnTo>
                    <a:pt x="179" y="3782"/>
                  </a:lnTo>
                  <a:lnTo>
                    <a:pt x="179" y="3771"/>
                  </a:lnTo>
                  <a:lnTo>
                    <a:pt x="183" y="3771"/>
                  </a:lnTo>
                  <a:lnTo>
                    <a:pt x="183" y="3741"/>
                  </a:lnTo>
                  <a:lnTo>
                    <a:pt x="188" y="3741"/>
                  </a:lnTo>
                  <a:lnTo>
                    <a:pt x="188" y="3724"/>
                  </a:lnTo>
                  <a:lnTo>
                    <a:pt x="192" y="3724"/>
                  </a:lnTo>
                  <a:lnTo>
                    <a:pt x="192" y="3706"/>
                  </a:lnTo>
                  <a:lnTo>
                    <a:pt x="198" y="3706"/>
                  </a:lnTo>
                  <a:lnTo>
                    <a:pt x="198" y="3695"/>
                  </a:lnTo>
                  <a:lnTo>
                    <a:pt x="202" y="3695"/>
                  </a:lnTo>
                  <a:lnTo>
                    <a:pt x="202" y="3682"/>
                  </a:lnTo>
                  <a:lnTo>
                    <a:pt x="206" y="3682"/>
                  </a:lnTo>
                  <a:lnTo>
                    <a:pt x="206" y="3664"/>
                  </a:lnTo>
                  <a:lnTo>
                    <a:pt x="212" y="3664"/>
                  </a:lnTo>
                  <a:lnTo>
                    <a:pt x="212" y="3652"/>
                  </a:lnTo>
                  <a:lnTo>
                    <a:pt x="216" y="3652"/>
                  </a:lnTo>
                  <a:lnTo>
                    <a:pt x="216" y="3635"/>
                  </a:lnTo>
                  <a:lnTo>
                    <a:pt x="221" y="3635"/>
                  </a:lnTo>
                  <a:lnTo>
                    <a:pt x="221" y="3618"/>
                  </a:lnTo>
                  <a:lnTo>
                    <a:pt x="226" y="3618"/>
                  </a:lnTo>
                  <a:lnTo>
                    <a:pt x="226" y="3600"/>
                  </a:lnTo>
                  <a:lnTo>
                    <a:pt x="231" y="3600"/>
                  </a:lnTo>
                  <a:lnTo>
                    <a:pt x="231" y="3588"/>
                  </a:lnTo>
                  <a:lnTo>
                    <a:pt x="235" y="3588"/>
                  </a:lnTo>
                  <a:lnTo>
                    <a:pt x="235" y="3569"/>
                  </a:lnTo>
                  <a:lnTo>
                    <a:pt x="240" y="3569"/>
                  </a:lnTo>
                  <a:lnTo>
                    <a:pt x="240" y="3559"/>
                  </a:lnTo>
                  <a:lnTo>
                    <a:pt x="246" y="3559"/>
                  </a:lnTo>
                  <a:lnTo>
                    <a:pt x="246" y="3551"/>
                  </a:lnTo>
                  <a:lnTo>
                    <a:pt x="250" y="3551"/>
                  </a:lnTo>
                  <a:lnTo>
                    <a:pt x="250" y="3540"/>
                  </a:lnTo>
                  <a:lnTo>
                    <a:pt x="254" y="3540"/>
                  </a:lnTo>
                  <a:lnTo>
                    <a:pt x="254" y="3523"/>
                  </a:lnTo>
                  <a:lnTo>
                    <a:pt x="260" y="3523"/>
                  </a:lnTo>
                  <a:lnTo>
                    <a:pt x="260" y="3505"/>
                  </a:lnTo>
                  <a:lnTo>
                    <a:pt x="264" y="3505"/>
                  </a:lnTo>
                  <a:lnTo>
                    <a:pt x="264" y="3488"/>
                  </a:lnTo>
                  <a:lnTo>
                    <a:pt x="269" y="3488"/>
                  </a:lnTo>
                  <a:lnTo>
                    <a:pt x="269" y="3469"/>
                  </a:lnTo>
                  <a:lnTo>
                    <a:pt x="274" y="3469"/>
                  </a:lnTo>
                  <a:lnTo>
                    <a:pt x="274" y="3452"/>
                  </a:lnTo>
                  <a:lnTo>
                    <a:pt x="279" y="3452"/>
                  </a:lnTo>
                  <a:lnTo>
                    <a:pt x="279" y="3440"/>
                  </a:lnTo>
                  <a:lnTo>
                    <a:pt x="283" y="3440"/>
                  </a:lnTo>
                  <a:lnTo>
                    <a:pt x="283" y="3415"/>
                  </a:lnTo>
                  <a:lnTo>
                    <a:pt x="288" y="3415"/>
                  </a:lnTo>
                  <a:lnTo>
                    <a:pt x="288" y="3404"/>
                  </a:lnTo>
                  <a:lnTo>
                    <a:pt x="293" y="3404"/>
                  </a:lnTo>
                  <a:lnTo>
                    <a:pt x="293" y="3393"/>
                  </a:lnTo>
                  <a:lnTo>
                    <a:pt x="297" y="3393"/>
                  </a:lnTo>
                  <a:lnTo>
                    <a:pt x="297" y="3374"/>
                  </a:lnTo>
                  <a:lnTo>
                    <a:pt x="302" y="3374"/>
                  </a:lnTo>
                  <a:lnTo>
                    <a:pt x="302" y="3350"/>
                  </a:lnTo>
                  <a:lnTo>
                    <a:pt x="307" y="3350"/>
                  </a:lnTo>
                  <a:lnTo>
                    <a:pt x="307" y="3340"/>
                  </a:lnTo>
                  <a:lnTo>
                    <a:pt x="312" y="3340"/>
                  </a:lnTo>
                  <a:lnTo>
                    <a:pt x="312" y="3316"/>
                  </a:lnTo>
                  <a:lnTo>
                    <a:pt x="316" y="3316"/>
                  </a:lnTo>
                  <a:lnTo>
                    <a:pt x="316" y="3304"/>
                  </a:lnTo>
                  <a:lnTo>
                    <a:pt x="323" y="3304"/>
                  </a:lnTo>
                  <a:lnTo>
                    <a:pt x="323" y="3287"/>
                  </a:lnTo>
                  <a:lnTo>
                    <a:pt x="327" y="3287"/>
                  </a:lnTo>
                  <a:lnTo>
                    <a:pt x="327" y="3281"/>
                  </a:lnTo>
                  <a:lnTo>
                    <a:pt x="332" y="3281"/>
                  </a:lnTo>
                  <a:lnTo>
                    <a:pt x="332" y="3263"/>
                  </a:lnTo>
                  <a:lnTo>
                    <a:pt x="336" y="3263"/>
                  </a:lnTo>
                  <a:lnTo>
                    <a:pt x="336" y="3251"/>
                  </a:lnTo>
                  <a:lnTo>
                    <a:pt x="341" y="3251"/>
                  </a:lnTo>
                  <a:lnTo>
                    <a:pt x="341" y="3244"/>
                  </a:lnTo>
                  <a:lnTo>
                    <a:pt x="346" y="3244"/>
                  </a:lnTo>
                  <a:lnTo>
                    <a:pt x="346" y="3233"/>
                  </a:lnTo>
                  <a:lnTo>
                    <a:pt x="350" y="3233"/>
                  </a:lnTo>
                  <a:lnTo>
                    <a:pt x="350" y="3214"/>
                  </a:lnTo>
                  <a:lnTo>
                    <a:pt x="356" y="3214"/>
                  </a:lnTo>
                  <a:lnTo>
                    <a:pt x="356" y="3203"/>
                  </a:lnTo>
                  <a:lnTo>
                    <a:pt x="360" y="3203"/>
                  </a:lnTo>
                  <a:lnTo>
                    <a:pt x="360" y="3186"/>
                  </a:lnTo>
                  <a:lnTo>
                    <a:pt x="365" y="3186"/>
                  </a:lnTo>
                  <a:lnTo>
                    <a:pt x="365" y="3173"/>
                  </a:lnTo>
                  <a:lnTo>
                    <a:pt x="370" y="3173"/>
                  </a:lnTo>
                  <a:lnTo>
                    <a:pt x="370" y="3156"/>
                  </a:lnTo>
                  <a:lnTo>
                    <a:pt x="375" y="3156"/>
                  </a:lnTo>
                  <a:lnTo>
                    <a:pt x="375" y="3145"/>
                  </a:lnTo>
                  <a:lnTo>
                    <a:pt x="379" y="3145"/>
                  </a:lnTo>
                  <a:lnTo>
                    <a:pt x="379" y="3127"/>
                  </a:lnTo>
                  <a:lnTo>
                    <a:pt x="384" y="3127"/>
                  </a:lnTo>
                  <a:lnTo>
                    <a:pt x="384" y="3115"/>
                  </a:lnTo>
                  <a:lnTo>
                    <a:pt x="389" y="3115"/>
                  </a:lnTo>
                  <a:lnTo>
                    <a:pt x="389" y="3097"/>
                  </a:lnTo>
                  <a:lnTo>
                    <a:pt x="394" y="3097"/>
                  </a:lnTo>
                  <a:lnTo>
                    <a:pt x="394" y="3091"/>
                  </a:lnTo>
                  <a:lnTo>
                    <a:pt x="399" y="3091"/>
                  </a:lnTo>
                  <a:lnTo>
                    <a:pt x="399" y="3078"/>
                  </a:lnTo>
                  <a:lnTo>
                    <a:pt x="404" y="3078"/>
                  </a:lnTo>
                  <a:lnTo>
                    <a:pt x="404" y="3073"/>
                  </a:lnTo>
                  <a:lnTo>
                    <a:pt x="409" y="3073"/>
                  </a:lnTo>
                  <a:lnTo>
                    <a:pt x="409" y="3056"/>
                  </a:lnTo>
                  <a:lnTo>
                    <a:pt x="413" y="3056"/>
                  </a:lnTo>
                  <a:lnTo>
                    <a:pt x="413" y="3037"/>
                  </a:lnTo>
                  <a:lnTo>
                    <a:pt x="418" y="3037"/>
                  </a:lnTo>
                  <a:lnTo>
                    <a:pt x="418" y="3020"/>
                  </a:lnTo>
                  <a:lnTo>
                    <a:pt x="423" y="3020"/>
                  </a:lnTo>
                  <a:lnTo>
                    <a:pt x="423" y="3002"/>
                  </a:lnTo>
                  <a:lnTo>
                    <a:pt x="427" y="3002"/>
                  </a:lnTo>
                  <a:lnTo>
                    <a:pt x="427" y="2991"/>
                  </a:lnTo>
                  <a:lnTo>
                    <a:pt x="432" y="2991"/>
                  </a:lnTo>
                  <a:lnTo>
                    <a:pt x="432" y="2974"/>
                  </a:lnTo>
                  <a:lnTo>
                    <a:pt x="437" y="2974"/>
                  </a:lnTo>
                  <a:lnTo>
                    <a:pt x="437" y="2961"/>
                  </a:lnTo>
                  <a:lnTo>
                    <a:pt x="442" y="2961"/>
                  </a:lnTo>
                  <a:lnTo>
                    <a:pt x="442" y="2942"/>
                  </a:lnTo>
                  <a:lnTo>
                    <a:pt x="446" y="2942"/>
                  </a:lnTo>
                  <a:lnTo>
                    <a:pt x="446" y="2926"/>
                  </a:lnTo>
                  <a:lnTo>
                    <a:pt x="452" y="2926"/>
                  </a:lnTo>
                  <a:lnTo>
                    <a:pt x="452" y="2914"/>
                  </a:lnTo>
                  <a:lnTo>
                    <a:pt x="456" y="2914"/>
                  </a:lnTo>
                  <a:lnTo>
                    <a:pt x="456" y="2901"/>
                  </a:lnTo>
                  <a:lnTo>
                    <a:pt x="460" y="2901"/>
                  </a:lnTo>
                  <a:lnTo>
                    <a:pt x="460" y="2890"/>
                  </a:lnTo>
                  <a:lnTo>
                    <a:pt x="467" y="2890"/>
                  </a:lnTo>
                  <a:lnTo>
                    <a:pt x="467" y="2873"/>
                  </a:lnTo>
                  <a:lnTo>
                    <a:pt x="471" y="2873"/>
                  </a:lnTo>
                  <a:lnTo>
                    <a:pt x="471" y="2855"/>
                  </a:lnTo>
                  <a:lnTo>
                    <a:pt x="476" y="2855"/>
                  </a:lnTo>
                  <a:lnTo>
                    <a:pt x="476" y="2836"/>
                  </a:lnTo>
                  <a:lnTo>
                    <a:pt x="480" y="2836"/>
                  </a:lnTo>
                  <a:lnTo>
                    <a:pt x="480" y="2825"/>
                  </a:lnTo>
                  <a:lnTo>
                    <a:pt x="486" y="2825"/>
                  </a:lnTo>
                  <a:lnTo>
                    <a:pt x="486" y="2814"/>
                  </a:lnTo>
                  <a:lnTo>
                    <a:pt x="490" y="2814"/>
                  </a:lnTo>
                  <a:lnTo>
                    <a:pt x="490" y="2801"/>
                  </a:lnTo>
                  <a:lnTo>
                    <a:pt x="495" y="2801"/>
                  </a:lnTo>
                  <a:lnTo>
                    <a:pt x="495" y="2783"/>
                  </a:lnTo>
                  <a:lnTo>
                    <a:pt x="500" y="2783"/>
                  </a:lnTo>
                  <a:lnTo>
                    <a:pt x="500" y="2773"/>
                  </a:lnTo>
                  <a:lnTo>
                    <a:pt x="504" y="2773"/>
                  </a:lnTo>
                  <a:lnTo>
                    <a:pt x="504" y="2760"/>
                  </a:lnTo>
                  <a:lnTo>
                    <a:pt x="509" y="2760"/>
                  </a:lnTo>
                  <a:lnTo>
                    <a:pt x="509" y="2749"/>
                  </a:lnTo>
                  <a:lnTo>
                    <a:pt x="514" y="2749"/>
                  </a:lnTo>
                  <a:lnTo>
                    <a:pt x="514" y="2737"/>
                  </a:lnTo>
                  <a:lnTo>
                    <a:pt x="519" y="2737"/>
                  </a:lnTo>
                  <a:lnTo>
                    <a:pt x="519" y="2713"/>
                  </a:lnTo>
                  <a:lnTo>
                    <a:pt x="523" y="2713"/>
                  </a:lnTo>
                  <a:lnTo>
                    <a:pt x="523" y="2695"/>
                  </a:lnTo>
                  <a:lnTo>
                    <a:pt x="528" y="2695"/>
                  </a:lnTo>
                  <a:lnTo>
                    <a:pt x="528" y="2689"/>
                  </a:lnTo>
                  <a:lnTo>
                    <a:pt x="533" y="2689"/>
                  </a:lnTo>
                  <a:lnTo>
                    <a:pt x="533" y="2678"/>
                  </a:lnTo>
                  <a:lnTo>
                    <a:pt x="539" y="2678"/>
                  </a:lnTo>
                  <a:lnTo>
                    <a:pt x="539" y="2665"/>
                  </a:lnTo>
                  <a:lnTo>
                    <a:pt x="543" y="2665"/>
                  </a:lnTo>
                  <a:lnTo>
                    <a:pt x="543" y="2648"/>
                  </a:lnTo>
                  <a:lnTo>
                    <a:pt x="548" y="2648"/>
                  </a:lnTo>
                  <a:lnTo>
                    <a:pt x="548" y="2642"/>
                  </a:lnTo>
                  <a:lnTo>
                    <a:pt x="553" y="2642"/>
                  </a:lnTo>
                  <a:lnTo>
                    <a:pt x="553" y="2630"/>
                  </a:lnTo>
                  <a:lnTo>
                    <a:pt x="557" y="2630"/>
                  </a:lnTo>
                  <a:lnTo>
                    <a:pt x="557" y="2618"/>
                  </a:lnTo>
                  <a:lnTo>
                    <a:pt x="563" y="2618"/>
                  </a:lnTo>
                  <a:lnTo>
                    <a:pt x="563" y="2607"/>
                  </a:lnTo>
                  <a:lnTo>
                    <a:pt x="567" y="2607"/>
                  </a:lnTo>
                  <a:lnTo>
                    <a:pt x="567" y="2596"/>
                  </a:lnTo>
                  <a:lnTo>
                    <a:pt x="572" y="2596"/>
                  </a:lnTo>
                  <a:lnTo>
                    <a:pt x="572" y="2588"/>
                  </a:lnTo>
                  <a:lnTo>
                    <a:pt x="576" y="2588"/>
                  </a:lnTo>
                  <a:lnTo>
                    <a:pt x="576" y="2577"/>
                  </a:lnTo>
                  <a:lnTo>
                    <a:pt x="581" y="2577"/>
                  </a:lnTo>
                  <a:lnTo>
                    <a:pt x="581" y="2572"/>
                  </a:lnTo>
                  <a:lnTo>
                    <a:pt x="586" y="2572"/>
                  </a:lnTo>
                  <a:lnTo>
                    <a:pt x="586" y="2559"/>
                  </a:lnTo>
                  <a:lnTo>
                    <a:pt x="590" y="2559"/>
                  </a:lnTo>
                  <a:lnTo>
                    <a:pt x="590" y="2547"/>
                  </a:lnTo>
                  <a:lnTo>
                    <a:pt x="595" y="2547"/>
                  </a:lnTo>
                  <a:lnTo>
                    <a:pt x="595" y="2536"/>
                  </a:lnTo>
                  <a:lnTo>
                    <a:pt x="600" y="2536"/>
                  </a:lnTo>
                  <a:lnTo>
                    <a:pt x="600" y="2518"/>
                  </a:lnTo>
                  <a:lnTo>
                    <a:pt x="604" y="2518"/>
                  </a:lnTo>
                  <a:lnTo>
                    <a:pt x="604" y="2501"/>
                  </a:lnTo>
                  <a:lnTo>
                    <a:pt x="611" y="2501"/>
                  </a:lnTo>
                  <a:lnTo>
                    <a:pt x="611" y="2494"/>
                  </a:lnTo>
                  <a:lnTo>
                    <a:pt x="615" y="2494"/>
                  </a:lnTo>
                  <a:lnTo>
                    <a:pt x="615" y="2482"/>
                  </a:lnTo>
                  <a:lnTo>
                    <a:pt x="620" y="2482"/>
                  </a:lnTo>
                  <a:lnTo>
                    <a:pt x="620" y="2469"/>
                  </a:lnTo>
                  <a:lnTo>
                    <a:pt x="624" y="2469"/>
                  </a:lnTo>
                  <a:lnTo>
                    <a:pt x="624" y="2436"/>
                  </a:lnTo>
                  <a:lnTo>
                    <a:pt x="630" y="2436"/>
                  </a:lnTo>
                  <a:lnTo>
                    <a:pt x="630" y="2423"/>
                  </a:lnTo>
                  <a:lnTo>
                    <a:pt x="634" y="2423"/>
                  </a:lnTo>
                  <a:lnTo>
                    <a:pt x="634" y="2411"/>
                  </a:lnTo>
                  <a:lnTo>
                    <a:pt x="638" y="2411"/>
                  </a:lnTo>
                  <a:lnTo>
                    <a:pt x="638" y="2387"/>
                  </a:lnTo>
                  <a:lnTo>
                    <a:pt x="644" y="2387"/>
                  </a:lnTo>
                  <a:lnTo>
                    <a:pt x="644" y="2363"/>
                  </a:lnTo>
                  <a:lnTo>
                    <a:pt x="648" y="2363"/>
                  </a:lnTo>
                  <a:lnTo>
                    <a:pt x="648" y="2341"/>
                  </a:lnTo>
                  <a:lnTo>
                    <a:pt x="653" y="2341"/>
                  </a:lnTo>
                  <a:lnTo>
                    <a:pt x="653" y="2322"/>
                  </a:lnTo>
                  <a:lnTo>
                    <a:pt x="658" y="2322"/>
                  </a:lnTo>
                  <a:lnTo>
                    <a:pt x="658" y="2305"/>
                  </a:lnTo>
                  <a:lnTo>
                    <a:pt x="663" y="2305"/>
                  </a:lnTo>
                  <a:lnTo>
                    <a:pt x="663" y="2292"/>
                  </a:lnTo>
                  <a:lnTo>
                    <a:pt x="667" y="2292"/>
                  </a:lnTo>
                  <a:lnTo>
                    <a:pt x="667" y="2276"/>
                  </a:lnTo>
                  <a:lnTo>
                    <a:pt x="672" y="2276"/>
                  </a:lnTo>
                  <a:lnTo>
                    <a:pt x="672" y="2259"/>
                  </a:lnTo>
                  <a:lnTo>
                    <a:pt x="677" y="2259"/>
                  </a:lnTo>
                  <a:lnTo>
                    <a:pt x="677" y="2246"/>
                  </a:lnTo>
                  <a:lnTo>
                    <a:pt x="682" y="2246"/>
                  </a:lnTo>
                  <a:lnTo>
                    <a:pt x="682" y="2229"/>
                  </a:lnTo>
                  <a:lnTo>
                    <a:pt x="687" y="2229"/>
                  </a:lnTo>
                  <a:lnTo>
                    <a:pt x="687" y="2222"/>
                  </a:lnTo>
                  <a:lnTo>
                    <a:pt x="692" y="2222"/>
                  </a:lnTo>
                  <a:lnTo>
                    <a:pt x="692" y="2210"/>
                  </a:lnTo>
                  <a:lnTo>
                    <a:pt x="697" y="2210"/>
                  </a:lnTo>
                  <a:lnTo>
                    <a:pt x="697" y="2192"/>
                  </a:lnTo>
                  <a:lnTo>
                    <a:pt x="701" y="2192"/>
                  </a:lnTo>
                  <a:lnTo>
                    <a:pt x="701" y="2181"/>
                  </a:lnTo>
                  <a:lnTo>
                    <a:pt x="707" y="2181"/>
                  </a:lnTo>
                  <a:lnTo>
                    <a:pt x="707" y="2164"/>
                  </a:lnTo>
                  <a:lnTo>
                    <a:pt x="711" y="2164"/>
                  </a:lnTo>
                  <a:lnTo>
                    <a:pt x="711" y="2158"/>
                  </a:lnTo>
                  <a:lnTo>
                    <a:pt x="716" y="2158"/>
                  </a:lnTo>
                  <a:lnTo>
                    <a:pt x="716" y="2145"/>
                  </a:lnTo>
                  <a:lnTo>
                    <a:pt x="720" y="2145"/>
                  </a:lnTo>
                  <a:lnTo>
                    <a:pt x="720" y="2134"/>
                  </a:lnTo>
                  <a:lnTo>
                    <a:pt x="725" y="2134"/>
                  </a:lnTo>
                  <a:lnTo>
                    <a:pt x="725" y="2123"/>
                  </a:lnTo>
                  <a:lnTo>
                    <a:pt x="730" y="2123"/>
                  </a:lnTo>
                  <a:lnTo>
                    <a:pt x="730" y="2110"/>
                  </a:lnTo>
                  <a:lnTo>
                    <a:pt x="734" y="2110"/>
                  </a:lnTo>
                  <a:lnTo>
                    <a:pt x="734" y="2104"/>
                  </a:lnTo>
                  <a:lnTo>
                    <a:pt x="740" y="2104"/>
                  </a:lnTo>
                  <a:lnTo>
                    <a:pt x="740" y="2091"/>
                  </a:lnTo>
                  <a:lnTo>
                    <a:pt x="744" y="2091"/>
                  </a:lnTo>
                  <a:lnTo>
                    <a:pt x="744" y="2086"/>
                  </a:lnTo>
                  <a:lnTo>
                    <a:pt x="749" y="2086"/>
                  </a:lnTo>
                  <a:lnTo>
                    <a:pt x="749" y="2074"/>
                  </a:lnTo>
                  <a:lnTo>
                    <a:pt x="755" y="2074"/>
                  </a:lnTo>
                  <a:lnTo>
                    <a:pt x="755" y="2063"/>
                  </a:lnTo>
                  <a:lnTo>
                    <a:pt x="760" y="2063"/>
                  </a:lnTo>
                  <a:lnTo>
                    <a:pt x="760" y="2050"/>
                  </a:lnTo>
                  <a:lnTo>
                    <a:pt x="764" y="2050"/>
                  </a:lnTo>
                  <a:lnTo>
                    <a:pt x="764" y="2039"/>
                  </a:lnTo>
                  <a:lnTo>
                    <a:pt x="769" y="2039"/>
                  </a:lnTo>
                  <a:lnTo>
                    <a:pt x="769" y="2028"/>
                  </a:lnTo>
                  <a:lnTo>
                    <a:pt x="774" y="2028"/>
                  </a:lnTo>
                  <a:lnTo>
                    <a:pt x="774" y="2015"/>
                  </a:lnTo>
                  <a:lnTo>
                    <a:pt x="778" y="2015"/>
                  </a:lnTo>
                  <a:lnTo>
                    <a:pt x="778" y="2009"/>
                  </a:lnTo>
                  <a:lnTo>
                    <a:pt x="783" y="2009"/>
                  </a:lnTo>
                  <a:lnTo>
                    <a:pt x="783" y="1992"/>
                  </a:lnTo>
                  <a:lnTo>
                    <a:pt x="788" y="1992"/>
                  </a:lnTo>
                  <a:lnTo>
                    <a:pt x="788" y="1987"/>
                  </a:lnTo>
                  <a:lnTo>
                    <a:pt x="793" y="1987"/>
                  </a:lnTo>
                  <a:lnTo>
                    <a:pt x="793" y="1980"/>
                  </a:lnTo>
                  <a:lnTo>
                    <a:pt x="797" y="1980"/>
                  </a:lnTo>
                  <a:lnTo>
                    <a:pt x="797" y="1974"/>
                  </a:lnTo>
                  <a:lnTo>
                    <a:pt x="802" y="1974"/>
                  </a:lnTo>
                  <a:lnTo>
                    <a:pt x="802" y="1963"/>
                  </a:lnTo>
                  <a:lnTo>
                    <a:pt x="807" y="1963"/>
                  </a:lnTo>
                  <a:lnTo>
                    <a:pt x="807" y="1950"/>
                  </a:lnTo>
                  <a:lnTo>
                    <a:pt x="811" y="1950"/>
                  </a:lnTo>
                  <a:lnTo>
                    <a:pt x="811" y="1938"/>
                  </a:lnTo>
                  <a:lnTo>
                    <a:pt x="816" y="1938"/>
                  </a:lnTo>
                  <a:lnTo>
                    <a:pt x="816" y="1933"/>
                  </a:lnTo>
                  <a:lnTo>
                    <a:pt x="821" y="1933"/>
                  </a:lnTo>
                  <a:lnTo>
                    <a:pt x="821" y="1922"/>
                  </a:lnTo>
                  <a:lnTo>
                    <a:pt x="827" y="1922"/>
                  </a:lnTo>
                  <a:lnTo>
                    <a:pt x="827" y="1914"/>
                  </a:lnTo>
                  <a:lnTo>
                    <a:pt x="831" y="1914"/>
                  </a:lnTo>
                  <a:lnTo>
                    <a:pt x="831" y="1903"/>
                  </a:lnTo>
                  <a:lnTo>
                    <a:pt x="837" y="1903"/>
                  </a:lnTo>
                  <a:lnTo>
                    <a:pt x="837" y="1890"/>
                  </a:lnTo>
                  <a:lnTo>
                    <a:pt x="841" y="1890"/>
                  </a:lnTo>
                  <a:lnTo>
                    <a:pt x="841" y="1885"/>
                  </a:lnTo>
                  <a:lnTo>
                    <a:pt x="845" y="1885"/>
                  </a:lnTo>
                  <a:lnTo>
                    <a:pt x="845" y="1873"/>
                  </a:lnTo>
                  <a:lnTo>
                    <a:pt x="851" y="1873"/>
                  </a:lnTo>
                  <a:lnTo>
                    <a:pt x="851" y="1862"/>
                  </a:lnTo>
                  <a:lnTo>
                    <a:pt x="855" y="1862"/>
                  </a:lnTo>
                  <a:lnTo>
                    <a:pt x="855" y="1849"/>
                  </a:lnTo>
                  <a:lnTo>
                    <a:pt x="860" y="1849"/>
                  </a:lnTo>
                  <a:lnTo>
                    <a:pt x="860" y="1844"/>
                  </a:lnTo>
                  <a:lnTo>
                    <a:pt x="864" y="1844"/>
                  </a:lnTo>
                  <a:lnTo>
                    <a:pt x="864" y="1838"/>
                  </a:lnTo>
                  <a:lnTo>
                    <a:pt x="870" y="1838"/>
                  </a:lnTo>
                  <a:lnTo>
                    <a:pt x="870" y="1827"/>
                  </a:lnTo>
                  <a:lnTo>
                    <a:pt x="879" y="1827"/>
                  </a:lnTo>
                  <a:lnTo>
                    <a:pt x="879" y="1821"/>
                  </a:lnTo>
                  <a:lnTo>
                    <a:pt x="884" y="1821"/>
                  </a:lnTo>
                  <a:lnTo>
                    <a:pt x="884" y="1809"/>
                  </a:lnTo>
                  <a:lnTo>
                    <a:pt x="888" y="1809"/>
                  </a:lnTo>
                  <a:lnTo>
                    <a:pt x="888" y="1803"/>
                  </a:lnTo>
                  <a:lnTo>
                    <a:pt x="893" y="1803"/>
                  </a:lnTo>
                  <a:lnTo>
                    <a:pt x="893" y="1797"/>
                  </a:lnTo>
                  <a:lnTo>
                    <a:pt x="899" y="1797"/>
                  </a:lnTo>
                  <a:lnTo>
                    <a:pt x="899" y="1791"/>
                  </a:lnTo>
                  <a:lnTo>
                    <a:pt x="904" y="1791"/>
                  </a:lnTo>
                  <a:lnTo>
                    <a:pt x="904" y="1786"/>
                  </a:lnTo>
                  <a:lnTo>
                    <a:pt x="908" y="1786"/>
                  </a:lnTo>
                  <a:lnTo>
                    <a:pt x="908" y="1773"/>
                  </a:lnTo>
                  <a:lnTo>
                    <a:pt x="913" y="1773"/>
                  </a:lnTo>
                  <a:lnTo>
                    <a:pt x="913" y="1768"/>
                  </a:lnTo>
                  <a:lnTo>
                    <a:pt x="918" y="1768"/>
                  </a:lnTo>
                  <a:lnTo>
                    <a:pt x="918" y="1761"/>
                  </a:lnTo>
                  <a:lnTo>
                    <a:pt x="923" y="1761"/>
                  </a:lnTo>
                  <a:lnTo>
                    <a:pt x="923" y="1749"/>
                  </a:lnTo>
                  <a:lnTo>
                    <a:pt x="932" y="1749"/>
                  </a:lnTo>
                  <a:lnTo>
                    <a:pt x="932" y="1743"/>
                  </a:lnTo>
                  <a:lnTo>
                    <a:pt x="936" y="1743"/>
                  </a:lnTo>
                  <a:lnTo>
                    <a:pt x="936" y="1732"/>
                  </a:lnTo>
                  <a:lnTo>
                    <a:pt x="941" y="1732"/>
                  </a:lnTo>
                  <a:lnTo>
                    <a:pt x="941" y="1720"/>
                  </a:lnTo>
                  <a:lnTo>
                    <a:pt x="951" y="1720"/>
                  </a:lnTo>
                  <a:lnTo>
                    <a:pt x="951" y="1715"/>
                  </a:lnTo>
                  <a:lnTo>
                    <a:pt x="955" y="1715"/>
                  </a:lnTo>
                  <a:lnTo>
                    <a:pt x="955" y="1708"/>
                  </a:lnTo>
                  <a:lnTo>
                    <a:pt x="960" y="1708"/>
                  </a:lnTo>
                  <a:lnTo>
                    <a:pt x="960" y="1702"/>
                  </a:lnTo>
                  <a:lnTo>
                    <a:pt x="965" y="1702"/>
                  </a:lnTo>
                  <a:lnTo>
                    <a:pt x="965" y="1696"/>
                  </a:lnTo>
                  <a:lnTo>
                    <a:pt x="971" y="1696"/>
                  </a:lnTo>
                  <a:lnTo>
                    <a:pt x="971" y="1691"/>
                  </a:lnTo>
                  <a:lnTo>
                    <a:pt x="975" y="1691"/>
                  </a:lnTo>
                  <a:lnTo>
                    <a:pt x="975" y="1678"/>
                  </a:lnTo>
                  <a:lnTo>
                    <a:pt x="980" y="1678"/>
                  </a:lnTo>
                  <a:lnTo>
                    <a:pt x="980" y="1672"/>
                  </a:lnTo>
                  <a:lnTo>
                    <a:pt x="989" y="1672"/>
                  </a:lnTo>
                  <a:lnTo>
                    <a:pt x="989" y="1661"/>
                  </a:lnTo>
                  <a:lnTo>
                    <a:pt x="999" y="1661"/>
                  </a:lnTo>
                  <a:lnTo>
                    <a:pt x="999" y="1655"/>
                  </a:lnTo>
                  <a:lnTo>
                    <a:pt x="1004" y="1655"/>
                  </a:lnTo>
                  <a:lnTo>
                    <a:pt x="1004" y="1650"/>
                  </a:lnTo>
                  <a:lnTo>
                    <a:pt x="1008" y="1650"/>
                  </a:lnTo>
                  <a:lnTo>
                    <a:pt x="1008" y="1642"/>
                  </a:lnTo>
                  <a:lnTo>
                    <a:pt x="1014" y="1642"/>
                  </a:lnTo>
                  <a:lnTo>
                    <a:pt x="1014" y="1637"/>
                  </a:lnTo>
                  <a:lnTo>
                    <a:pt x="1018" y="1637"/>
                  </a:lnTo>
                  <a:lnTo>
                    <a:pt x="1018" y="1631"/>
                  </a:lnTo>
                  <a:lnTo>
                    <a:pt x="1028" y="1631"/>
                  </a:lnTo>
                  <a:lnTo>
                    <a:pt x="1028" y="1626"/>
                  </a:lnTo>
                  <a:lnTo>
                    <a:pt x="1032" y="1626"/>
                  </a:lnTo>
                  <a:lnTo>
                    <a:pt x="1032" y="1620"/>
                  </a:lnTo>
                  <a:lnTo>
                    <a:pt x="1043" y="1620"/>
                  </a:lnTo>
                  <a:lnTo>
                    <a:pt x="1043" y="1613"/>
                  </a:lnTo>
                  <a:lnTo>
                    <a:pt x="1048" y="1613"/>
                  </a:lnTo>
                  <a:lnTo>
                    <a:pt x="1048" y="1608"/>
                  </a:lnTo>
                  <a:lnTo>
                    <a:pt x="1052" y="1608"/>
                  </a:lnTo>
                  <a:lnTo>
                    <a:pt x="1052" y="1601"/>
                  </a:lnTo>
                  <a:lnTo>
                    <a:pt x="1062" y="1601"/>
                  </a:lnTo>
                  <a:lnTo>
                    <a:pt x="1062" y="1596"/>
                  </a:lnTo>
                  <a:lnTo>
                    <a:pt x="1066" y="1596"/>
                  </a:lnTo>
                  <a:lnTo>
                    <a:pt x="1066" y="1584"/>
                  </a:lnTo>
                  <a:lnTo>
                    <a:pt x="1076" y="1584"/>
                  </a:lnTo>
                  <a:lnTo>
                    <a:pt x="1076" y="1577"/>
                  </a:lnTo>
                  <a:lnTo>
                    <a:pt x="1081" y="1577"/>
                  </a:lnTo>
                  <a:lnTo>
                    <a:pt x="1081" y="1572"/>
                  </a:lnTo>
                  <a:lnTo>
                    <a:pt x="1085" y="1572"/>
                  </a:lnTo>
                  <a:lnTo>
                    <a:pt x="1085" y="1566"/>
                  </a:lnTo>
                  <a:lnTo>
                    <a:pt x="1091" y="1566"/>
                  </a:lnTo>
                  <a:lnTo>
                    <a:pt x="1091" y="1560"/>
                  </a:lnTo>
                  <a:lnTo>
                    <a:pt x="1099" y="1560"/>
                  </a:lnTo>
                  <a:lnTo>
                    <a:pt x="1099" y="1555"/>
                  </a:lnTo>
                  <a:lnTo>
                    <a:pt x="1104" y="1555"/>
                  </a:lnTo>
                  <a:lnTo>
                    <a:pt x="1104" y="1549"/>
                  </a:lnTo>
                  <a:lnTo>
                    <a:pt x="1115" y="1549"/>
                  </a:lnTo>
                  <a:lnTo>
                    <a:pt x="1115" y="1542"/>
                  </a:lnTo>
                  <a:lnTo>
                    <a:pt x="1125" y="1542"/>
                  </a:lnTo>
                  <a:lnTo>
                    <a:pt x="1125" y="1536"/>
                  </a:lnTo>
                  <a:lnTo>
                    <a:pt x="1129" y="1536"/>
                  </a:lnTo>
                  <a:lnTo>
                    <a:pt x="1129" y="1531"/>
                  </a:lnTo>
                  <a:lnTo>
                    <a:pt x="1134" y="1531"/>
                  </a:lnTo>
                  <a:lnTo>
                    <a:pt x="1134" y="1525"/>
                  </a:lnTo>
                  <a:lnTo>
                    <a:pt x="1143" y="1525"/>
                  </a:lnTo>
                  <a:lnTo>
                    <a:pt x="1143" y="1519"/>
                  </a:lnTo>
                  <a:lnTo>
                    <a:pt x="1158" y="1519"/>
                  </a:lnTo>
                  <a:lnTo>
                    <a:pt x="1158" y="1501"/>
                  </a:lnTo>
                  <a:lnTo>
                    <a:pt x="1162" y="1501"/>
                  </a:lnTo>
                  <a:lnTo>
                    <a:pt x="1162" y="1482"/>
                  </a:lnTo>
                  <a:lnTo>
                    <a:pt x="1167" y="1482"/>
                  </a:lnTo>
                  <a:lnTo>
                    <a:pt x="1167" y="1465"/>
                  </a:lnTo>
                  <a:lnTo>
                    <a:pt x="1172" y="1465"/>
                  </a:lnTo>
                  <a:lnTo>
                    <a:pt x="1172" y="1460"/>
                  </a:lnTo>
                  <a:lnTo>
                    <a:pt x="1177" y="1460"/>
                  </a:lnTo>
                  <a:lnTo>
                    <a:pt x="1177" y="1454"/>
                  </a:lnTo>
                  <a:lnTo>
                    <a:pt x="1181" y="1454"/>
                  </a:lnTo>
                  <a:lnTo>
                    <a:pt x="1181" y="1449"/>
                  </a:lnTo>
                  <a:lnTo>
                    <a:pt x="1187" y="1449"/>
                  </a:lnTo>
                  <a:lnTo>
                    <a:pt x="1187" y="1441"/>
                  </a:lnTo>
                  <a:lnTo>
                    <a:pt x="1192" y="1441"/>
                  </a:lnTo>
                  <a:lnTo>
                    <a:pt x="1192" y="1436"/>
                  </a:lnTo>
                  <a:lnTo>
                    <a:pt x="1201" y="1436"/>
                  </a:lnTo>
                  <a:lnTo>
                    <a:pt x="1201" y="1424"/>
                  </a:lnTo>
                  <a:lnTo>
                    <a:pt x="1206" y="1424"/>
                  </a:lnTo>
                  <a:lnTo>
                    <a:pt x="1206" y="1419"/>
                  </a:lnTo>
                  <a:lnTo>
                    <a:pt x="1211" y="1419"/>
                  </a:lnTo>
                  <a:lnTo>
                    <a:pt x="1211" y="1406"/>
                  </a:lnTo>
                  <a:lnTo>
                    <a:pt x="1215" y="1406"/>
                  </a:lnTo>
                  <a:lnTo>
                    <a:pt x="1215" y="1395"/>
                  </a:lnTo>
                  <a:lnTo>
                    <a:pt x="1221" y="1395"/>
                  </a:lnTo>
                  <a:lnTo>
                    <a:pt x="1221" y="1383"/>
                  </a:lnTo>
                  <a:lnTo>
                    <a:pt x="1225" y="1383"/>
                  </a:lnTo>
                  <a:lnTo>
                    <a:pt x="1225" y="1378"/>
                  </a:lnTo>
                  <a:lnTo>
                    <a:pt x="1229" y="1378"/>
                  </a:lnTo>
                  <a:lnTo>
                    <a:pt x="1229" y="1371"/>
                  </a:lnTo>
                  <a:lnTo>
                    <a:pt x="1235" y="1371"/>
                  </a:lnTo>
                  <a:lnTo>
                    <a:pt x="1235" y="1365"/>
                  </a:lnTo>
                  <a:lnTo>
                    <a:pt x="1244" y="1365"/>
                  </a:lnTo>
                  <a:lnTo>
                    <a:pt x="1244" y="1354"/>
                  </a:lnTo>
                  <a:lnTo>
                    <a:pt x="1248" y="1354"/>
                  </a:lnTo>
                  <a:lnTo>
                    <a:pt x="1248" y="1348"/>
                  </a:lnTo>
                  <a:lnTo>
                    <a:pt x="1254" y="1348"/>
                  </a:lnTo>
                  <a:lnTo>
                    <a:pt x="1254" y="1341"/>
                  </a:lnTo>
                  <a:lnTo>
                    <a:pt x="1258" y="1341"/>
                  </a:lnTo>
                  <a:lnTo>
                    <a:pt x="1258" y="1330"/>
                  </a:lnTo>
                  <a:lnTo>
                    <a:pt x="1264" y="1330"/>
                  </a:lnTo>
                  <a:lnTo>
                    <a:pt x="1264" y="1324"/>
                  </a:lnTo>
                  <a:lnTo>
                    <a:pt x="1269" y="1324"/>
                  </a:lnTo>
                  <a:lnTo>
                    <a:pt x="1269" y="1318"/>
                  </a:lnTo>
                  <a:lnTo>
                    <a:pt x="1273" y="1318"/>
                  </a:lnTo>
                  <a:lnTo>
                    <a:pt x="1273" y="1305"/>
                  </a:lnTo>
                  <a:lnTo>
                    <a:pt x="1277" y="1305"/>
                  </a:lnTo>
                  <a:lnTo>
                    <a:pt x="1277" y="1300"/>
                  </a:lnTo>
                  <a:lnTo>
                    <a:pt x="1283" y="1300"/>
                  </a:lnTo>
                  <a:lnTo>
                    <a:pt x="1283" y="1295"/>
                  </a:lnTo>
                  <a:lnTo>
                    <a:pt x="1287" y="1295"/>
                  </a:lnTo>
                  <a:lnTo>
                    <a:pt x="1287" y="1288"/>
                  </a:lnTo>
                  <a:lnTo>
                    <a:pt x="1292" y="1288"/>
                  </a:lnTo>
                  <a:lnTo>
                    <a:pt x="1292" y="1283"/>
                  </a:lnTo>
                  <a:lnTo>
                    <a:pt x="1297" y="1283"/>
                  </a:lnTo>
                  <a:lnTo>
                    <a:pt x="1297" y="1277"/>
                  </a:lnTo>
                  <a:lnTo>
                    <a:pt x="1302" y="1277"/>
                  </a:lnTo>
                  <a:lnTo>
                    <a:pt x="1302" y="1272"/>
                  </a:lnTo>
                  <a:lnTo>
                    <a:pt x="1306" y="1272"/>
                  </a:lnTo>
                  <a:lnTo>
                    <a:pt x="1306" y="1264"/>
                  </a:lnTo>
                  <a:lnTo>
                    <a:pt x="1311" y="1264"/>
                  </a:lnTo>
                  <a:lnTo>
                    <a:pt x="1311" y="1259"/>
                  </a:lnTo>
                  <a:lnTo>
                    <a:pt x="1316" y="1259"/>
                  </a:lnTo>
                  <a:lnTo>
                    <a:pt x="1316" y="1254"/>
                  </a:lnTo>
                  <a:lnTo>
                    <a:pt x="1320" y="1254"/>
                  </a:lnTo>
                  <a:lnTo>
                    <a:pt x="1320" y="1247"/>
                  </a:lnTo>
                  <a:lnTo>
                    <a:pt x="1325" y="1247"/>
                  </a:lnTo>
                  <a:lnTo>
                    <a:pt x="1325" y="1242"/>
                  </a:lnTo>
                  <a:lnTo>
                    <a:pt x="1330" y="1242"/>
                  </a:lnTo>
                  <a:lnTo>
                    <a:pt x="1330" y="1235"/>
                  </a:lnTo>
                  <a:lnTo>
                    <a:pt x="1336" y="1235"/>
                  </a:lnTo>
                  <a:lnTo>
                    <a:pt x="1336" y="1223"/>
                  </a:lnTo>
                  <a:lnTo>
                    <a:pt x="1340" y="1223"/>
                  </a:lnTo>
                  <a:lnTo>
                    <a:pt x="1340" y="1218"/>
                  </a:lnTo>
                  <a:lnTo>
                    <a:pt x="1345" y="1218"/>
                  </a:lnTo>
                  <a:lnTo>
                    <a:pt x="1345" y="1212"/>
                  </a:lnTo>
                  <a:lnTo>
                    <a:pt x="1350" y="1212"/>
                  </a:lnTo>
                  <a:lnTo>
                    <a:pt x="1350" y="1205"/>
                  </a:lnTo>
                  <a:lnTo>
                    <a:pt x="1355" y="1205"/>
                  </a:lnTo>
                  <a:lnTo>
                    <a:pt x="1355" y="1200"/>
                  </a:lnTo>
                  <a:lnTo>
                    <a:pt x="1359" y="1200"/>
                  </a:lnTo>
                  <a:lnTo>
                    <a:pt x="1359" y="1194"/>
                  </a:lnTo>
                  <a:lnTo>
                    <a:pt x="1364" y="1194"/>
                  </a:lnTo>
                  <a:lnTo>
                    <a:pt x="1364" y="1188"/>
                  </a:lnTo>
                  <a:lnTo>
                    <a:pt x="1369" y="1188"/>
                  </a:lnTo>
                  <a:lnTo>
                    <a:pt x="1369" y="1182"/>
                  </a:lnTo>
                  <a:lnTo>
                    <a:pt x="1373" y="1182"/>
                  </a:lnTo>
                  <a:lnTo>
                    <a:pt x="1373" y="1177"/>
                  </a:lnTo>
                  <a:lnTo>
                    <a:pt x="1379" y="1177"/>
                  </a:lnTo>
                  <a:lnTo>
                    <a:pt x="1379" y="1169"/>
                  </a:lnTo>
                  <a:lnTo>
                    <a:pt x="1383" y="1169"/>
                  </a:lnTo>
                  <a:lnTo>
                    <a:pt x="1383" y="1164"/>
                  </a:lnTo>
                  <a:lnTo>
                    <a:pt x="1388" y="1164"/>
                  </a:lnTo>
                  <a:lnTo>
                    <a:pt x="1388" y="1153"/>
                  </a:lnTo>
                  <a:lnTo>
                    <a:pt x="1392" y="1153"/>
                  </a:lnTo>
                  <a:lnTo>
                    <a:pt x="1392" y="1141"/>
                  </a:lnTo>
                  <a:lnTo>
                    <a:pt x="1398" y="1141"/>
                  </a:lnTo>
                  <a:lnTo>
                    <a:pt x="1398" y="1136"/>
                  </a:lnTo>
                  <a:lnTo>
                    <a:pt x="1402" y="1136"/>
                  </a:lnTo>
                  <a:lnTo>
                    <a:pt x="1402" y="1123"/>
                  </a:lnTo>
                  <a:lnTo>
                    <a:pt x="1407" y="1123"/>
                  </a:lnTo>
                  <a:lnTo>
                    <a:pt x="1407" y="1111"/>
                  </a:lnTo>
                  <a:lnTo>
                    <a:pt x="1413" y="1111"/>
                  </a:lnTo>
                  <a:lnTo>
                    <a:pt x="1413" y="1104"/>
                  </a:lnTo>
                  <a:lnTo>
                    <a:pt x="1417" y="1104"/>
                  </a:lnTo>
                  <a:lnTo>
                    <a:pt x="1417" y="1099"/>
                  </a:lnTo>
                  <a:lnTo>
                    <a:pt x="1422" y="1099"/>
                  </a:lnTo>
                  <a:lnTo>
                    <a:pt x="1422" y="1087"/>
                  </a:lnTo>
                  <a:lnTo>
                    <a:pt x="1427" y="1087"/>
                  </a:lnTo>
                  <a:lnTo>
                    <a:pt x="1427" y="1082"/>
                  </a:lnTo>
                  <a:lnTo>
                    <a:pt x="1432" y="1082"/>
                  </a:lnTo>
                  <a:lnTo>
                    <a:pt x="1432" y="1069"/>
                  </a:lnTo>
                  <a:lnTo>
                    <a:pt x="1436" y="1069"/>
                  </a:lnTo>
                  <a:lnTo>
                    <a:pt x="1436" y="1063"/>
                  </a:lnTo>
                  <a:lnTo>
                    <a:pt x="1441" y="1063"/>
                  </a:lnTo>
                  <a:lnTo>
                    <a:pt x="1441" y="1052"/>
                  </a:lnTo>
                  <a:lnTo>
                    <a:pt x="1446" y="1052"/>
                  </a:lnTo>
                  <a:lnTo>
                    <a:pt x="1446" y="1046"/>
                  </a:lnTo>
                  <a:lnTo>
                    <a:pt x="1450" y="1046"/>
                  </a:lnTo>
                  <a:lnTo>
                    <a:pt x="1450" y="1034"/>
                  </a:lnTo>
                  <a:lnTo>
                    <a:pt x="1455" y="1034"/>
                  </a:lnTo>
                  <a:lnTo>
                    <a:pt x="1455" y="1028"/>
                  </a:lnTo>
                  <a:lnTo>
                    <a:pt x="1460" y="1028"/>
                  </a:lnTo>
                  <a:lnTo>
                    <a:pt x="1460" y="1022"/>
                  </a:lnTo>
                  <a:lnTo>
                    <a:pt x="1465" y="1022"/>
                  </a:lnTo>
                  <a:lnTo>
                    <a:pt x="1465" y="1017"/>
                  </a:lnTo>
                  <a:lnTo>
                    <a:pt x="1469" y="1017"/>
                  </a:lnTo>
                  <a:lnTo>
                    <a:pt x="1469" y="1010"/>
                  </a:lnTo>
                  <a:lnTo>
                    <a:pt x="1475" y="1010"/>
                  </a:lnTo>
                  <a:lnTo>
                    <a:pt x="1475" y="1005"/>
                  </a:lnTo>
                  <a:lnTo>
                    <a:pt x="1480" y="1005"/>
                  </a:lnTo>
                  <a:lnTo>
                    <a:pt x="1480" y="1000"/>
                  </a:lnTo>
                  <a:lnTo>
                    <a:pt x="1484" y="1000"/>
                  </a:lnTo>
                  <a:lnTo>
                    <a:pt x="1484" y="992"/>
                  </a:lnTo>
                  <a:lnTo>
                    <a:pt x="1489" y="992"/>
                  </a:lnTo>
                  <a:lnTo>
                    <a:pt x="1489" y="987"/>
                  </a:lnTo>
                  <a:lnTo>
                    <a:pt x="1494" y="987"/>
                  </a:lnTo>
                  <a:lnTo>
                    <a:pt x="1494" y="982"/>
                  </a:lnTo>
                  <a:lnTo>
                    <a:pt x="1503" y="982"/>
                  </a:lnTo>
                  <a:lnTo>
                    <a:pt x="1503" y="976"/>
                  </a:lnTo>
                  <a:lnTo>
                    <a:pt x="1509" y="976"/>
                  </a:lnTo>
                  <a:lnTo>
                    <a:pt x="1509" y="970"/>
                  </a:lnTo>
                  <a:lnTo>
                    <a:pt x="1513" y="970"/>
                  </a:lnTo>
                  <a:lnTo>
                    <a:pt x="1513" y="958"/>
                  </a:lnTo>
                  <a:lnTo>
                    <a:pt x="1518" y="958"/>
                  </a:lnTo>
                  <a:lnTo>
                    <a:pt x="1518" y="951"/>
                  </a:lnTo>
                  <a:lnTo>
                    <a:pt x="1527" y="951"/>
                  </a:lnTo>
                  <a:lnTo>
                    <a:pt x="1527" y="940"/>
                  </a:lnTo>
                  <a:lnTo>
                    <a:pt x="1532" y="940"/>
                  </a:lnTo>
                  <a:lnTo>
                    <a:pt x="1532" y="933"/>
                  </a:lnTo>
                  <a:lnTo>
                    <a:pt x="1537" y="933"/>
                  </a:lnTo>
                  <a:lnTo>
                    <a:pt x="1537" y="928"/>
                  </a:lnTo>
                  <a:lnTo>
                    <a:pt x="1542" y="928"/>
                  </a:lnTo>
                  <a:lnTo>
                    <a:pt x="1542" y="916"/>
                  </a:lnTo>
                  <a:lnTo>
                    <a:pt x="1546" y="916"/>
                  </a:lnTo>
                  <a:lnTo>
                    <a:pt x="1546" y="910"/>
                  </a:lnTo>
                  <a:lnTo>
                    <a:pt x="1552" y="910"/>
                  </a:lnTo>
                  <a:lnTo>
                    <a:pt x="1552" y="905"/>
                  </a:lnTo>
                  <a:lnTo>
                    <a:pt x="1557" y="905"/>
                  </a:lnTo>
                  <a:lnTo>
                    <a:pt x="1557" y="898"/>
                  </a:lnTo>
                  <a:lnTo>
                    <a:pt x="1562" y="898"/>
                  </a:lnTo>
                  <a:lnTo>
                    <a:pt x="1562" y="892"/>
                  </a:lnTo>
                  <a:lnTo>
                    <a:pt x="1566" y="892"/>
                  </a:lnTo>
                  <a:lnTo>
                    <a:pt x="1566" y="881"/>
                  </a:lnTo>
                  <a:lnTo>
                    <a:pt x="1571" y="881"/>
                  </a:lnTo>
                  <a:lnTo>
                    <a:pt x="1571" y="875"/>
                  </a:lnTo>
                  <a:lnTo>
                    <a:pt x="1576" y="875"/>
                  </a:lnTo>
                  <a:lnTo>
                    <a:pt x="1576" y="869"/>
                  </a:lnTo>
                  <a:lnTo>
                    <a:pt x="1580" y="869"/>
                  </a:lnTo>
                  <a:lnTo>
                    <a:pt x="1580" y="864"/>
                  </a:lnTo>
                  <a:lnTo>
                    <a:pt x="1585" y="864"/>
                  </a:lnTo>
                  <a:lnTo>
                    <a:pt x="1585" y="851"/>
                  </a:lnTo>
                  <a:lnTo>
                    <a:pt x="1590" y="851"/>
                  </a:lnTo>
                  <a:lnTo>
                    <a:pt x="1590" y="845"/>
                  </a:lnTo>
                  <a:lnTo>
                    <a:pt x="1599" y="845"/>
                  </a:lnTo>
                  <a:lnTo>
                    <a:pt x="1599" y="834"/>
                  </a:lnTo>
                  <a:lnTo>
                    <a:pt x="1605" y="834"/>
                  </a:lnTo>
                  <a:lnTo>
                    <a:pt x="1605" y="827"/>
                  </a:lnTo>
                  <a:lnTo>
                    <a:pt x="1609" y="827"/>
                  </a:lnTo>
                  <a:lnTo>
                    <a:pt x="1609" y="822"/>
                  </a:lnTo>
                  <a:lnTo>
                    <a:pt x="1613" y="822"/>
                  </a:lnTo>
                  <a:lnTo>
                    <a:pt x="1613" y="815"/>
                  </a:lnTo>
                  <a:lnTo>
                    <a:pt x="1618" y="815"/>
                  </a:lnTo>
                  <a:lnTo>
                    <a:pt x="1618" y="810"/>
                  </a:lnTo>
                  <a:lnTo>
                    <a:pt x="1624" y="810"/>
                  </a:lnTo>
                  <a:lnTo>
                    <a:pt x="1624" y="799"/>
                  </a:lnTo>
                  <a:lnTo>
                    <a:pt x="1628" y="799"/>
                  </a:lnTo>
                  <a:lnTo>
                    <a:pt x="1628" y="791"/>
                  </a:lnTo>
                  <a:lnTo>
                    <a:pt x="1633" y="791"/>
                  </a:lnTo>
                  <a:lnTo>
                    <a:pt x="1633" y="786"/>
                  </a:lnTo>
                  <a:lnTo>
                    <a:pt x="1638" y="786"/>
                  </a:lnTo>
                  <a:lnTo>
                    <a:pt x="1638" y="774"/>
                  </a:lnTo>
                  <a:lnTo>
                    <a:pt x="1647" y="774"/>
                  </a:lnTo>
                  <a:lnTo>
                    <a:pt x="1647" y="769"/>
                  </a:lnTo>
                  <a:lnTo>
                    <a:pt x="1653" y="769"/>
                  </a:lnTo>
                  <a:lnTo>
                    <a:pt x="1653" y="756"/>
                  </a:lnTo>
                  <a:lnTo>
                    <a:pt x="1661" y="756"/>
                  </a:lnTo>
                  <a:lnTo>
                    <a:pt x="1661" y="750"/>
                  </a:lnTo>
                  <a:lnTo>
                    <a:pt x="1667" y="750"/>
                  </a:lnTo>
                  <a:lnTo>
                    <a:pt x="1667" y="745"/>
                  </a:lnTo>
                  <a:lnTo>
                    <a:pt x="1671" y="745"/>
                  </a:lnTo>
                  <a:lnTo>
                    <a:pt x="1671" y="739"/>
                  </a:lnTo>
                  <a:lnTo>
                    <a:pt x="1676" y="739"/>
                  </a:lnTo>
                  <a:lnTo>
                    <a:pt x="1676" y="732"/>
                  </a:lnTo>
                  <a:lnTo>
                    <a:pt x="1681" y="732"/>
                  </a:lnTo>
                  <a:lnTo>
                    <a:pt x="1681" y="727"/>
                  </a:lnTo>
                  <a:lnTo>
                    <a:pt x="1690" y="727"/>
                  </a:lnTo>
                  <a:lnTo>
                    <a:pt x="1690" y="721"/>
                  </a:lnTo>
                  <a:lnTo>
                    <a:pt x="1696" y="721"/>
                  </a:lnTo>
                  <a:lnTo>
                    <a:pt x="1696" y="715"/>
                  </a:lnTo>
                  <a:lnTo>
                    <a:pt x="1701" y="715"/>
                  </a:lnTo>
                  <a:lnTo>
                    <a:pt x="1701" y="709"/>
                  </a:lnTo>
                  <a:lnTo>
                    <a:pt x="1705" y="709"/>
                  </a:lnTo>
                  <a:lnTo>
                    <a:pt x="1705" y="704"/>
                  </a:lnTo>
                  <a:lnTo>
                    <a:pt x="1710" y="704"/>
                  </a:lnTo>
                  <a:lnTo>
                    <a:pt x="1710" y="696"/>
                  </a:lnTo>
                  <a:lnTo>
                    <a:pt x="1715" y="696"/>
                  </a:lnTo>
                  <a:lnTo>
                    <a:pt x="1715" y="691"/>
                  </a:lnTo>
                  <a:lnTo>
                    <a:pt x="1720" y="691"/>
                  </a:lnTo>
                  <a:lnTo>
                    <a:pt x="1720" y="685"/>
                  </a:lnTo>
                  <a:lnTo>
                    <a:pt x="1724" y="685"/>
                  </a:lnTo>
                  <a:lnTo>
                    <a:pt x="1724" y="680"/>
                  </a:lnTo>
                  <a:lnTo>
                    <a:pt x="1729" y="680"/>
                  </a:lnTo>
                  <a:lnTo>
                    <a:pt x="1729" y="674"/>
                  </a:lnTo>
                  <a:lnTo>
                    <a:pt x="1734" y="674"/>
                  </a:lnTo>
                  <a:lnTo>
                    <a:pt x="1734" y="668"/>
                  </a:lnTo>
                  <a:lnTo>
                    <a:pt x="1739" y="668"/>
                  </a:lnTo>
                  <a:lnTo>
                    <a:pt x="1739" y="663"/>
                  </a:lnTo>
                  <a:lnTo>
                    <a:pt x="1743" y="663"/>
                  </a:lnTo>
                  <a:lnTo>
                    <a:pt x="1743" y="655"/>
                  </a:lnTo>
                  <a:lnTo>
                    <a:pt x="1753" y="655"/>
                  </a:lnTo>
                  <a:lnTo>
                    <a:pt x="1753" y="650"/>
                  </a:lnTo>
                  <a:lnTo>
                    <a:pt x="1757" y="650"/>
                  </a:lnTo>
                  <a:lnTo>
                    <a:pt x="1757" y="638"/>
                  </a:lnTo>
                  <a:lnTo>
                    <a:pt x="1763" y="638"/>
                  </a:lnTo>
                  <a:lnTo>
                    <a:pt x="1763" y="633"/>
                  </a:lnTo>
                  <a:lnTo>
                    <a:pt x="1768" y="633"/>
                  </a:lnTo>
                  <a:lnTo>
                    <a:pt x="1768" y="626"/>
                  </a:lnTo>
                  <a:lnTo>
                    <a:pt x="1773" y="626"/>
                  </a:lnTo>
                  <a:lnTo>
                    <a:pt x="1773" y="620"/>
                  </a:lnTo>
                  <a:lnTo>
                    <a:pt x="1777" y="620"/>
                  </a:lnTo>
                  <a:lnTo>
                    <a:pt x="1777" y="609"/>
                  </a:lnTo>
                  <a:lnTo>
                    <a:pt x="1782" y="609"/>
                  </a:lnTo>
                  <a:lnTo>
                    <a:pt x="1782" y="603"/>
                  </a:lnTo>
                  <a:lnTo>
                    <a:pt x="1787" y="603"/>
                  </a:lnTo>
                  <a:lnTo>
                    <a:pt x="1787" y="596"/>
                  </a:lnTo>
                  <a:lnTo>
                    <a:pt x="1791" y="596"/>
                  </a:lnTo>
                  <a:lnTo>
                    <a:pt x="1791" y="590"/>
                  </a:lnTo>
                  <a:lnTo>
                    <a:pt x="1801" y="590"/>
                  </a:lnTo>
                  <a:lnTo>
                    <a:pt x="1801" y="585"/>
                  </a:lnTo>
                  <a:lnTo>
                    <a:pt x="1806" y="585"/>
                  </a:lnTo>
                  <a:lnTo>
                    <a:pt x="1806" y="579"/>
                  </a:lnTo>
                  <a:lnTo>
                    <a:pt x="1811" y="579"/>
                  </a:lnTo>
                  <a:lnTo>
                    <a:pt x="1811" y="573"/>
                  </a:lnTo>
                  <a:lnTo>
                    <a:pt x="1816" y="573"/>
                  </a:lnTo>
                  <a:lnTo>
                    <a:pt x="1816" y="568"/>
                  </a:lnTo>
                  <a:lnTo>
                    <a:pt x="1820" y="568"/>
                  </a:lnTo>
                  <a:lnTo>
                    <a:pt x="1820" y="562"/>
                  </a:lnTo>
                  <a:lnTo>
                    <a:pt x="1825" y="562"/>
                  </a:lnTo>
                  <a:lnTo>
                    <a:pt x="1825" y="555"/>
                  </a:lnTo>
                  <a:lnTo>
                    <a:pt x="1830" y="555"/>
                  </a:lnTo>
                  <a:lnTo>
                    <a:pt x="1830" y="550"/>
                  </a:lnTo>
                  <a:lnTo>
                    <a:pt x="1834" y="550"/>
                  </a:lnTo>
                  <a:lnTo>
                    <a:pt x="1834" y="538"/>
                  </a:lnTo>
                  <a:lnTo>
                    <a:pt x="1840" y="538"/>
                  </a:lnTo>
                  <a:lnTo>
                    <a:pt x="1840" y="532"/>
                  </a:lnTo>
                  <a:lnTo>
                    <a:pt x="1845" y="532"/>
                  </a:lnTo>
                  <a:lnTo>
                    <a:pt x="1845" y="527"/>
                  </a:lnTo>
                  <a:lnTo>
                    <a:pt x="1850" y="527"/>
                  </a:lnTo>
                  <a:lnTo>
                    <a:pt x="1850" y="519"/>
                  </a:lnTo>
                  <a:lnTo>
                    <a:pt x="1854" y="519"/>
                  </a:lnTo>
                  <a:lnTo>
                    <a:pt x="1854" y="514"/>
                  </a:lnTo>
                  <a:lnTo>
                    <a:pt x="1860" y="514"/>
                  </a:lnTo>
                  <a:lnTo>
                    <a:pt x="1860" y="509"/>
                  </a:lnTo>
                  <a:lnTo>
                    <a:pt x="1864" y="509"/>
                  </a:lnTo>
                  <a:lnTo>
                    <a:pt x="1864" y="503"/>
                  </a:lnTo>
                  <a:lnTo>
                    <a:pt x="1868" y="503"/>
                  </a:lnTo>
                  <a:lnTo>
                    <a:pt x="1868" y="497"/>
                  </a:lnTo>
                  <a:lnTo>
                    <a:pt x="1873" y="497"/>
                  </a:lnTo>
                  <a:lnTo>
                    <a:pt x="1873" y="490"/>
                  </a:lnTo>
                  <a:lnTo>
                    <a:pt x="1878" y="490"/>
                  </a:lnTo>
                  <a:lnTo>
                    <a:pt x="1878" y="485"/>
                  </a:lnTo>
                  <a:lnTo>
                    <a:pt x="1883" y="485"/>
                  </a:lnTo>
                  <a:lnTo>
                    <a:pt x="1883" y="478"/>
                  </a:lnTo>
                  <a:lnTo>
                    <a:pt x="1887" y="478"/>
                  </a:lnTo>
                  <a:lnTo>
                    <a:pt x="1887" y="473"/>
                  </a:lnTo>
                  <a:lnTo>
                    <a:pt x="1893" y="473"/>
                  </a:lnTo>
                  <a:lnTo>
                    <a:pt x="1893" y="468"/>
                  </a:lnTo>
                  <a:lnTo>
                    <a:pt x="1897" y="468"/>
                  </a:lnTo>
                  <a:lnTo>
                    <a:pt x="1897" y="455"/>
                  </a:lnTo>
                  <a:lnTo>
                    <a:pt x="1902" y="455"/>
                  </a:lnTo>
                  <a:lnTo>
                    <a:pt x="1902" y="449"/>
                  </a:lnTo>
                  <a:lnTo>
                    <a:pt x="1907" y="449"/>
                  </a:lnTo>
                  <a:lnTo>
                    <a:pt x="1907" y="437"/>
                  </a:lnTo>
                  <a:lnTo>
                    <a:pt x="1912" y="437"/>
                  </a:lnTo>
                  <a:lnTo>
                    <a:pt x="1912" y="432"/>
                  </a:lnTo>
                  <a:lnTo>
                    <a:pt x="1917" y="432"/>
                  </a:lnTo>
                  <a:lnTo>
                    <a:pt x="1917" y="426"/>
                  </a:lnTo>
                  <a:lnTo>
                    <a:pt x="1922" y="426"/>
                  </a:lnTo>
                  <a:lnTo>
                    <a:pt x="1922" y="419"/>
                  </a:lnTo>
                  <a:lnTo>
                    <a:pt x="1931" y="419"/>
                  </a:lnTo>
                  <a:lnTo>
                    <a:pt x="1931" y="408"/>
                  </a:lnTo>
                  <a:lnTo>
                    <a:pt x="1936" y="408"/>
                  </a:lnTo>
                  <a:lnTo>
                    <a:pt x="1936" y="402"/>
                  </a:lnTo>
                  <a:lnTo>
                    <a:pt x="1941" y="402"/>
                  </a:lnTo>
                  <a:lnTo>
                    <a:pt x="1941" y="396"/>
                  </a:lnTo>
                  <a:lnTo>
                    <a:pt x="1946" y="396"/>
                  </a:lnTo>
                  <a:lnTo>
                    <a:pt x="1946" y="391"/>
                  </a:lnTo>
                  <a:lnTo>
                    <a:pt x="1955" y="391"/>
                  </a:lnTo>
                  <a:lnTo>
                    <a:pt x="1955" y="378"/>
                  </a:lnTo>
                  <a:lnTo>
                    <a:pt x="1964" y="378"/>
                  </a:lnTo>
                  <a:lnTo>
                    <a:pt x="1964" y="367"/>
                  </a:lnTo>
                  <a:lnTo>
                    <a:pt x="1969" y="367"/>
                  </a:lnTo>
                  <a:lnTo>
                    <a:pt x="1969" y="361"/>
                  </a:lnTo>
                  <a:lnTo>
                    <a:pt x="1974" y="361"/>
                  </a:lnTo>
                  <a:lnTo>
                    <a:pt x="1974" y="354"/>
                  </a:lnTo>
                  <a:lnTo>
                    <a:pt x="1978" y="354"/>
                  </a:lnTo>
                  <a:lnTo>
                    <a:pt x="1978" y="349"/>
                  </a:lnTo>
                  <a:lnTo>
                    <a:pt x="1984" y="349"/>
                  </a:lnTo>
                  <a:lnTo>
                    <a:pt x="1984" y="342"/>
                  </a:lnTo>
                  <a:lnTo>
                    <a:pt x="1989" y="342"/>
                  </a:lnTo>
                  <a:lnTo>
                    <a:pt x="1989" y="337"/>
                  </a:lnTo>
                  <a:lnTo>
                    <a:pt x="1994" y="337"/>
                  </a:lnTo>
                  <a:lnTo>
                    <a:pt x="1994" y="331"/>
                  </a:lnTo>
                  <a:lnTo>
                    <a:pt x="1998" y="331"/>
                  </a:lnTo>
                  <a:lnTo>
                    <a:pt x="1998" y="326"/>
                  </a:lnTo>
                  <a:lnTo>
                    <a:pt x="2003" y="326"/>
                  </a:lnTo>
                  <a:lnTo>
                    <a:pt x="2003" y="318"/>
                  </a:lnTo>
                  <a:lnTo>
                    <a:pt x="2008" y="318"/>
                  </a:lnTo>
                  <a:lnTo>
                    <a:pt x="2008" y="313"/>
                  </a:lnTo>
                  <a:lnTo>
                    <a:pt x="2012" y="313"/>
                  </a:lnTo>
                  <a:lnTo>
                    <a:pt x="2012" y="308"/>
                  </a:lnTo>
                  <a:lnTo>
                    <a:pt x="2017" y="308"/>
                  </a:lnTo>
                  <a:lnTo>
                    <a:pt x="2017" y="301"/>
                  </a:lnTo>
                  <a:lnTo>
                    <a:pt x="2022" y="301"/>
                  </a:lnTo>
                  <a:lnTo>
                    <a:pt x="2022" y="296"/>
                  </a:lnTo>
                  <a:lnTo>
                    <a:pt x="2027" y="296"/>
                  </a:lnTo>
                  <a:lnTo>
                    <a:pt x="2027" y="290"/>
                  </a:lnTo>
                  <a:lnTo>
                    <a:pt x="2031" y="290"/>
                  </a:lnTo>
                  <a:lnTo>
                    <a:pt x="2031" y="283"/>
                  </a:lnTo>
                  <a:lnTo>
                    <a:pt x="2037" y="283"/>
                  </a:lnTo>
                  <a:lnTo>
                    <a:pt x="2037" y="277"/>
                  </a:lnTo>
                  <a:lnTo>
                    <a:pt x="2041" y="277"/>
                  </a:lnTo>
                  <a:lnTo>
                    <a:pt x="2041" y="272"/>
                  </a:lnTo>
                  <a:lnTo>
                    <a:pt x="2045" y="272"/>
                  </a:lnTo>
                  <a:lnTo>
                    <a:pt x="2045" y="266"/>
                  </a:lnTo>
                  <a:lnTo>
                    <a:pt x="2051" y="266"/>
                  </a:lnTo>
                  <a:lnTo>
                    <a:pt x="2051" y="255"/>
                  </a:lnTo>
                  <a:lnTo>
                    <a:pt x="2055" y="255"/>
                  </a:lnTo>
                  <a:lnTo>
                    <a:pt x="2055" y="248"/>
                  </a:lnTo>
                  <a:lnTo>
                    <a:pt x="2061" y="248"/>
                  </a:lnTo>
                  <a:lnTo>
                    <a:pt x="2061" y="242"/>
                  </a:lnTo>
                  <a:lnTo>
                    <a:pt x="2066" y="242"/>
                  </a:lnTo>
                  <a:lnTo>
                    <a:pt x="2066" y="236"/>
                  </a:lnTo>
                  <a:lnTo>
                    <a:pt x="2071" y="236"/>
                  </a:lnTo>
                  <a:lnTo>
                    <a:pt x="2071" y="223"/>
                  </a:lnTo>
                  <a:lnTo>
                    <a:pt x="2075" y="223"/>
                  </a:lnTo>
                  <a:lnTo>
                    <a:pt x="2075" y="218"/>
                  </a:lnTo>
                  <a:lnTo>
                    <a:pt x="2080" y="218"/>
                  </a:lnTo>
                  <a:lnTo>
                    <a:pt x="2080" y="213"/>
                  </a:lnTo>
                  <a:lnTo>
                    <a:pt x="2085" y="213"/>
                  </a:lnTo>
                  <a:lnTo>
                    <a:pt x="2085" y="201"/>
                  </a:lnTo>
                  <a:lnTo>
                    <a:pt x="2094" y="201"/>
                  </a:lnTo>
                  <a:lnTo>
                    <a:pt x="2094" y="195"/>
                  </a:lnTo>
                  <a:lnTo>
                    <a:pt x="2099" y="195"/>
                  </a:lnTo>
                  <a:lnTo>
                    <a:pt x="2099" y="190"/>
                  </a:lnTo>
                  <a:lnTo>
                    <a:pt x="2104" y="190"/>
                  </a:lnTo>
                  <a:lnTo>
                    <a:pt x="2104" y="182"/>
                  </a:lnTo>
                  <a:lnTo>
                    <a:pt x="2108" y="182"/>
                  </a:lnTo>
                  <a:lnTo>
                    <a:pt x="2108" y="177"/>
                  </a:lnTo>
                  <a:lnTo>
                    <a:pt x="2113" y="177"/>
                  </a:lnTo>
                  <a:lnTo>
                    <a:pt x="2113" y="171"/>
                  </a:lnTo>
                  <a:lnTo>
                    <a:pt x="2118" y="171"/>
                  </a:lnTo>
                  <a:lnTo>
                    <a:pt x="2118" y="165"/>
                  </a:lnTo>
                  <a:lnTo>
                    <a:pt x="2122" y="165"/>
                  </a:lnTo>
                  <a:lnTo>
                    <a:pt x="2122" y="160"/>
                  </a:lnTo>
                  <a:lnTo>
                    <a:pt x="2127" y="160"/>
                  </a:lnTo>
                  <a:lnTo>
                    <a:pt x="2127" y="153"/>
                  </a:lnTo>
                  <a:lnTo>
                    <a:pt x="2133" y="153"/>
                  </a:lnTo>
                  <a:lnTo>
                    <a:pt x="2133" y="142"/>
                  </a:lnTo>
                  <a:lnTo>
                    <a:pt x="2138" y="142"/>
                  </a:lnTo>
                  <a:lnTo>
                    <a:pt x="2138" y="136"/>
                  </a:lnTo>
                  <a:lnTo>
                    <a:pt x="2142" y="136"/>
                  </a:lnTo>
                  <a:lnTo>
                    <a:pt x="2142" y="131"/>
                  </a:lnTo>
                  <a:lnTo>
                    <a:pt x="2148" y="131"/>
                  </a:lnTo>
                  <a:lnTo>
                    <a:pt x="2148" y="124"/>
                  </a:lnTo>
                  <a:lnTo>
                    <a:pt x="2152" y="124"/>
                  </a:lnTo>
                  <a:lnTo>
                    <a:pt x="2152" y="119"/>
                  </a:lnTo>
                  <a:lnTo>
                    <a:pt x="2157" y="119"/>
                  </a:lnTo>
                  <a:lnTo>
                    <a:pt x="2157" y="112"/>
                  </a:lnTo>
                  <a:lnTo>
                    <a:pt x="2161" y="112"/>
                  </a:lnTo>
                  <a:lnTo>
                    <a:pt x="2161" y="106"/>
                  </a:lnTo>
                  <a:lnTo>
                    <a:pt x="2166" y="106"/>
                  </a:lnTo>
                  <a:lnTo>
                    <a:pt x="2166" y="101"/>
                  </a:lnTo>
                  <a:lnTo>
                    <a:pt x="2175" y="101"/>
                  </a:lnTo>
                  <a:lnTo>
                    <a:pt x="2175" y="95"/>
                  </a:lnTo>
                  <a:lnTo>
                    <a:pt x="2181" y="95"/>
                  </a:lnTo>
                  <a:lnTo>
                    <a:pt x="2181" y="89"/>
                  </a:lnTo>
                  <a:lnTo>
                    <a:pt x="2185" y="89"/>
                  </a:lnTo>
                  <a:lnTo>
                    <a:pt x="2185" y="82"/>
                  </a:lnTo>
                  <a:lnTo>
                    <a:pt x="2190" y="82"/>
                  </a:lnTo>
                  <a:lnTo>
                    <a:pt x="2190" y="71"/>
                  </a:lnTo>
                  <a:lnTo>
                    <a:pt x="2195" y="71"/>
                  </a:lnTo>
                  <a:lnTo>
                    <a:pt x="2195" y="65"/>
                  </a:lnTo>
                  <a:lnTo>
                    <a:pt x="2205" y="65"/>
                  </a:lnTo>
                  <a:lnTo>
                    <a:pt x="2205" y="54"/>
                  </a:lnTo>
                  <a:lnTo>
                    <a:pt x="2210" y="54"/>
                  </a:lnTo>
                  <a:lnTo>
                    <a:pt x="2210" y="47"/>
                  </a:lnTo>
                  <a:lnTo>
                    <a:pt x="2219" y="47"/>
                  </a:lnTo>
                  <a:lnTo>
                    <a:pt x="2219" y="41"/>
                  </a:lnTo>
                  <a:lnTo>
                    <a:pt x="2224" y="41"/>
                  </a:lnTo>
                  <a:lnTo>
                    <a:pt x="2224" y="36"/>
                  </a:lnTo>
                  <a:lnTo>
                    <a:pt x="2229" y="36"/>
                  </a:lnTo>
                  <a:lnTo>
                    <a:pt x="2229" y="30"/>
                  </a:lnTo>
                  <a:lnTo>
                    <a:pt x="2234" y="30"/>
                  </a:lnTo>
                  <a:lnTo>
                    <a:pt x="2234" y="24"/>
                  </a:lnTo>
                  <a:lnTo>
                    <a:pt x="2238" y="24"/>
                  </a:lnTo>
                  <a:lnTo>
                    <a:pt x="2238" y="17"/>
                  </a:lnTo>
                  <a:lnTo>
                    <a:pt x="2244" y="17"/>
                  </a:lnTo>
                  <a:lnTo>
                    <a:pt x="2244" y="5"/>
                  </a:lnTo>
                  <a:lnTo>
                    <a:pt x="2262" y="5"/>
                  </a:lnTo>
                  <a:lnTo>
                    <a:pt x="2262" y="0"/>
                  </a:lnTo>
                  <a:lnTo>
                    <a:pt x="2278" y="0"/>
                  </a:lnTo>
                  <a:lnTo>
                    <a:pt x="2278" y="5"/>
                  </a:lnTo>
                  <a:lnTo>
                    <a:pt x="2282" y="5"/>
                  </a:lnTo>
                  <a:lnTo>
                    <a:pt x="2282" y="12"/>
                  </a:lnTo>
                  <a:lnTo>
                    <a:pt x="2287" y="12"/>
                  </a:lnTo>
                  <a:lnTo>
                    <a:pt x="2287" y="17"/>
                  </a:lnTo>
                  <a:lnTo>
                    <a:pt x="2292" y="17"/>
                  </a:lnTo>
                  <a:lnTo>
                    <a:pt x="2292" y="36"/>
                  </a:lnTo>
                  <a:lnTo>
                    <a:pt x="2287" y="36"/>
                  </a:lnTo>
                  <a:lnTo>
                    <a:pt x="2287" y="47"/>
                  </a:lnTo>
                  <a:lnTo>
                    <a:pt x="2282" y="47"/>
                  </a:lnTo>
                  <a:lnTo>
                    <a:pt x="2282" y="54"/>
                  </a:lnTo>
                  <a:lnTo>
                    <a:pt x="2267" y="54"/>
                  </a:lnTo>
                  <a:lnTo>
                    <a:pt x="2267" y="59"/>
                  </a:lnTo>
                  <a:lnTo>
                    <a:pt x="2262" y="59"/>
                  </a:lnTo>
                  <a:lnTo>
                    <a:pt x="2262" y="65"/>
                  </a:lnTo>
                  <a:lnTo>
                    <a:pt x="2257" y="65"/>
                  </a:lnTo>
                  <a:lnTo>
                    <a:pt x="2257" y="71"/>
                  </a:lnTo>
                  <a:lnTo>
                    <a:pt x="2252" y="71"/>
                  </a:lnTo>
                  <a:lnTo>
                    <a:pt x="2252" y="82"/>
                  </a:lnTo>
                  <a:lnTo>
                    <a:pt x="2248" y="82"/>
                  </a:lnTo>
                  <a:lnTo>
                    <a:pt x="2248" y="89"/>
                  </a:lnTo>
                  <a:lnTo>
                    <a:pt x="2244" y="89"/>
                  </a:lnTo>
                  <a:lnTo>
                    <a:pt x="2244" y="101"/>
                  </a:lnTo>
                  <a:lnTo>
                    <a:pt x="2238" y="101"/>
                  </a:lnTo>
                  <a:lnTo>
                    <a:pt x="2238" y="106"/>
                  </a:lnTo>
                  <a:lnTo>
                    <a:pt x="2234" y="106"/>
                  </a:lnTo>
                  <a:lnTo>
                    <a:pt x="2234" y="112"/>
                  </a:lnTo>
                  <a:lnTo>
                    <a:pt x="2229" y="112"/>
                  </a:lnTo>
                  <a:lnTo>
                    <a:pt x="2229" y="119"/>
                  </a:lnTo>
                  <a:lnTo>
                    <a:pt x="2224" y="119"/>
                  </a:lnTo>
                  <a:lnTo>
                    <a:pt x="2224" y="124"/>
                  </a:lnTo>
                  <a:lnTo>
                    <a:pt x="2219" y="124"/>
                  </a:lnTo>
                  <a:lnTo>
                    <a:pt x="2219" y="136"/>
                  </a:lnTo>
                  <a:lnTo>
                    <a:pt x="2215" y="136"/>
                  </a:lnTo>
                  <a:lnTo>
                    <a:pt x="2215" y="142"/>
                  </a:lnTo>
                  <a:lnTo>
                    <a:pt x="2210" y="142"/>
                  </a:lnTo>
                  <a:lnTo>
                    <a:pt x="2210" y="147"/>
                  </a:lnTo>
                  <a:lnTo>
                    <a:pt x="2205" y="147"/>
                  </a:lnTo>
                  <a:lnTo>
                    <a:pt x="2205" y="153"/>
                  </a:lnTo>
                  <a:lnTo>
                    <a:pt x="2201" y="153"/>
                  </a:lnTo>
                  <a:lnTo>
                    <a:pt x="2201" y="160"/>
                  </a:lnTo>
                  <a:lnTo>
                    <a:pt x="2190" y="160"/>
                  </a:lnTo>
                  <a:lnTo>
                    <a:pt x="2190" y="165"/>
                  </a:lnTo>
                  <a:lnTo>
                    <a:pt x="2185" y="165"/>
                  </a:lnTo>
                  <a:lnTo>
                    <a:pt x="2185" y="171"/>
                  </a:lnTo>
                  <a:lnTo>
                    <a:pt x="2181" y="171"/>
                  </a:lnTo>
                  <a:lnTo>
                    <a:pt x="2181" y="182"/>
                  </a:lnTo>
                  <a:lnTo>
                    <a:pt x="2175" y="182"/>
                  </a:lnTo>
                  <a:lnTo>
                    <a:pt x="2175" y="190"/>
                  </a:lnTo>
                  <a:lnTo>
                    <a:pt x="2171" y="190"/>
                  </a:lnTo>
                  <a:lnTo>
                    <a:pt x="2171" y="195"/>
                  </a:lnTo>
                  <a:lnTo>
                    <a:pt x="2161" y="195"/>
                  </a:lnTo>
                  <a:lnTo>
                    <a:pt x="2161" y="201"/>
                  </a:lnTo>
                  <a:lnTo>
                    <a:pt x="2152" y="201"/>
                  </a:lnTo>
                  <a:lnTo>
                    <a:pt x="2152" y="213"/>
                  </a:lnTo>
                  <a:lnTo>
                    <a:pt x="2148" y="213"/>
                  </a:lnTo>
                  <a:lnTo>
                    <a:pt x="2148" y="218"/>
                  </a:lnTo>
                  <a:lnTo>
                    <a:pt x="2142" y="218"/>
                  </a:lnTo>
                  <a:lnTo>
                    <a:pt x="2142" y="223"/>
                  </a:lnTo>
                  <a:lnTo>
                    <a:pt x="2138" y="223"/>
                  </a:lnTo>
                  <a:lnTo>
                    <a:pt x="2138" y="236"/>
                  </a:lnTo>
                  <a:lnTo>
                    <a:pt x="2133" y="236"/>
                  </a:lnTo>
                  <a:lnTo>
                    <a:pt x="2133" y="242"/>
                  </a:lnTo>
                  <a:lnTo>
                    <a:pt x="2127" y="242"/>
                  </a:lnTo>
                  <a:lnTo>
                    <a:pt x="2127" y="248"/>
                  </a:lnTo>
                  <a:lnTo>
                    <a:pt x="2122" y="248"/>
                  </a:lnTo>
                  <a:lnTo>
                    <a:pt x="2122" y="260"/>
                  </a:lnTo>
                  <a:lnTo>
                    <a:pt x="2118" y="260"/>
                  </a:lnTo>
                  <a:lnTo>
                    <a:pt x="2118" y="266"/>
                  </a:lnTo>
                  <a:lnTo>
                    <a:pt x="2113" y="266"/>
                  </a:lnTo>
                  <a:lnTo>
                    <a:pt x="2113" y="272"/>
                  </a:lnTo>
                  <a:lnTo>
                    <a:pt x="2108" y="272"/>
                  </a:lnTo>
                  <a:lnTo>
                    <a:pt x="2108" y="277"/>
                  </a:lnTo>
                  <a:lnTo>
                    <a:pt x="2104" y="277"/>
                  </a:lnTo>
                  <a:lnTo>
                    <a:pt x="2104" y="283"/>
                  </a:lnTo>
                  <a:lnTo>
                    <a:pt x="2099" y="283"/>
                  </a:lnTo>
                  <a:lnTo>
                    <a:pt x="2099" y="290"/>
                  </a:lnTo>
                  <a:lnTo>
                    <a:pt x="2094" y="290"/>
                  </a:lnTo>
                  <a:lnTo>
                    <a:pt x="2094" y="296"/>
                  </a:lnTo>
                  <a:lnTo>
                    <a:pt x="2089" y="296"/>
                  </a:lnTo>
                  <a:lnTo>
                    <a:pt x="2089" y="301"/>
                  </a:lnTo>
                  <a:lnTo>
                    <a:pt x="2085" y="301"/>
                  </a:lnTo>
                  <a:lnTo>
                    <a:pt x="2085" y="308"/>
                  </a:lnTo>
                  <a:lnTo>
                    <a:pt x="2080" y="308"/>
                  </a:lnTo>
                  <a:lnTo>
                    <a:pt x="2080" y="313"/>
                  </a:lnTo>
                  <a:lnTo>
                    <a:pt x="2075" y="313"/>
                  </a:lnTo>
                  <a:lnTo>
                    <a:pt x="2075" y="318"/>
                  </a:lnTo>
                  <a:lnTo>
                    <a:pt x="2071" y="318"/>
                  </a:lnTo>
                  <a:lnTo>
                    <a:pt x="2071" y="326"/>
                  </a:lnTo>
                  <a:lnTo>
                    <a:pt x="2066" y="326"/>
                  </a:lnTo>
                  <a:lnTo>
                    <a:pt x="2066" y="331"/>
                  </a:lnTo>
                  <a:lnTo>
                    <a:pt x="2061" y="331"/>
                  </a:lnTo>
                  <a:lnTo>
                    <a:pt x="2061" y="337"/>
                  </a:lnTo>
                  <a:lnTo>
                    <a:pt x="2055" y="337"/>
                  </a:lnTo>
                  <a:lnTo>
                    <a:pt x="2055" y="349"/>
                  </a:lnTo>
                  <a:lnTo>
                    <a:pt x="2045" y="349"/>
                  </a:lnTo>
                  <a:lnTo>
                    <a:pt x="2045" y="361"/>
                  </a:lnTo>
                  <a:lnTo>
                    <a:pt x="2041" y="361"/>
                  </a:lnTo>
                  <a:lnTo>
                    <a:pt x="2041" y="367"/>
                  </a:lnTo>
                  <a:lnTo>
                    <a:pt x="2037" y="367"/>
                  </a:lnTo>
                  <a:lnTo>
                    <a:pt x="2037" y="372"/>
                  </a:lnTo>
                  <a:lnTo>
                    <a:pt x="2031" y="372"/>
                  </a:lnTo>
                  <a:lnTo>
                    <a:pt x="2031" y="378"/>
                  </a:lnTo>
                  <a:lnTo>
                    <a:pt x="2027" y="378"/>
                  </a:lnTo>
                  <a:lnTo>
                    <a:pt x="2027" y="384"/>
                  </a:lnTo>
                  <a:lnTo>
                    <a:pt x="2022" y="384"/>
                  </a:lnTo>
                  <a:lnTo>
                    <a:pt x="2022" y="391"/>
                  </a:lnTo>
                  <a:lnTo>
                    <a:pt x="2017" y="391"/>
                  </a:lnTo>
                  <a:lnTo>
                    <a:pt x="2017" y="396"/>
                  </a:lnTo>
                  <a:lnTo>
                    <a:pt x="2012" y="396"/>
                  </a:lnTo>
                  <a:lnTo>
                    <a:pt x="2012" y="402"/>
                  </a:lnTo>
                  <a:lnTo>
                    <a:pt x="2008" y="402"/>
                  </a:lnTo>
                  <a:lnTo>
                    <a:pt x="2008" y="408"/>
                  </a:lnTo>
                  <a:lnTo>
                    <a:pt x="2003" y="408"/>
                  </a:lnTo>
                  <a:lnTo>
                    <a:pt x="2003" y="414"/>
                  </a:lnTo>
                  <a:lnTo>
                    <a:pt x="1998" y="414"/>
                  </a:lnTo>
                  <a:lnTo>
                    <a:pt x="1998" y="426"/>
                  </a:lnTo>
                  <a:lnTo>
                    <a:pt x="1994" y="426"/>
                  </a:lnTo>
                  <a:lnTo>
                    <a:pt x="1994" y="432"/>
                  </a:lnTo>
                  <a:lnTo>
                    <a:pt x="1989" y="432"/>
                  </a:lnTo>
                  <a:lnTo>
                    <a:pt x="1989" y="437"/>
                  </a:lnTo>
                  <a:lnTo>
                    <a:pt x="1984" y="437"/>
                  </a:lnTo>
                  <a:lnTo>
                    <a:pt x="1984" y="443"/>
                  </a:lnTo>
                  <a:lnTo>
                    <a:pt x="1978" y="443"/>
                  </a:lnTo>
                  <a:lnTo>
                    <a:pt x="1978" y="449"/>
                  </a:lnTo>
                  <a:lnTo>
                    <a:pt x="1974" y="449"/>
                  </a:lnTo>
                  <a:lnTo>
                    <a:pt x="1974" y="455"/>
                  </a:lnTo>
                  <a:lnTo>
                    <a:pt x="1969" y="455"/>
                  </a:lnTo>
                  <a:lnTo>
                    <a:pt x="1969" y="468"/>
                  </a:lnTo>
                  <a:lnTo>
                    <a:pt x="1964" y="468"/>
                  </a:lnTo>
                  <a:lnTo>
                    <a:pt x="1964" y="473"/>
                  </a:lnTo>
                  <a:lnTo>
                    <a:pt x="1959" y="473"/>
                  </a:lnTo>
                  <a:lnTo>
                    <a:pt x="1959" y="478"/>
                  </a:lnTo>
                  <a:lnTo>
                    <a:pt x="1955" y="478"/>
                  </a:lnTo>
                  <a:lnTo>
                    <a:pt x="1955" y="485"/>
                  </a:lnTo>
                  <a:lnTo>
                    <a:pt x="1946" y="485"/>
                  </a:lnTo>
                  <a:lnTo>
                    <a:pt x="1946" y="490"/>
                  </a:lnTo>
                  <a:lnTo>
                    <a:pt x="1941" y="490"/>
                  </a:lnTo>
                  <a:lnTo>
                    <a:pt x="1941" y="497"/>
                  </a:lnTo>
                  <a:lnTo>
                    <a:pt x="1936" y="497"/>
                  </a:lnTo>
                  <a:lnTo>
                    <a:pt x="1936" y="503"/>
                  </a:lnTo>
                  <a:lnTo>
                    <a:pt x="1931" y="503"/>
                  </a:lnTo>
                  <a:lnTo>
                    <a:pt x="1931" y="509"/>
                  </a:lnTo>
                  <a:lnTo>
                    <a:pt x="1927" y="509"/>
                  </a:lnTo>
                  <a:lnTo>
                    <a:pt x="1927" y="514"/>
                  </a:lnTo>
                  <a:lnTo>
                    <a:pt x="1922" y="514"/>
                  </a:lnTo>
                  <a:lnTo>
                    <a:pt x="1922" y="519"/>
                  </a:lnTo>
                  <a:lnTo>
                    <a:pt x="1917" y="519"/>
                  </a:lnTo>
                  <a:lnTo>
                    <a:pt x="1917" y="527"/>
                  </a:lnTo>
                  <a:lnTo>
                    <a:pt x="1912" y="527"/>
                  </a:lnTo>
                  <a:lnTo>
                    <a:pt x="1912" y="532"/>
                  </a:lnTo>
                  <a:lnTo>
                    <a:pt x="1907" y="532"/>
                  </a:lnTo>
                  <a:lnTo>
                    <a:pt x="1907" y="538"/>
                  </a:lnTo>
                  <a:lnTo>
                    <a:pt x="1902" y="538"/>
                  </a:lnTo>
                  <a:lnTo>
                    <a:pt x="1902" y="544"/>
                  </a:lnTo>
                  <a:lnTo>
                    <a:pt x="1897" y="544"/>
                  </a:lnTo>
                  <a:lnTo>
                    <a:pt x="1897" y="550"/>
                  </a:lnTo>
                  <a:lnTo>
                    <a:pt x="1893" y="550"/>
                  </a:lnTo>
                  <a:lnTo>
                    <a:pt x="1893" y="562"/>
                  </a:lnTo>
                  <a:lnTo>
                    <a:pt x="1887" y="562"/>
                  </a:lnTo>
                  <a:lnTo>
                    <a:pt x="1887" y="568"/>
                  </a:lnTo>
                  <a:lnTo>
                    <a:pt x="1883" y="568"/>
                  </a:lnTo>
                  <a:lnTo>
                    <a:pt x="1883" y="573"/>
                  </a:lnTo>
                  <a:lnTo>
                    <a:pt x="1878" y="573"/>
                  </a:lnTo>
                  <a:lnTo>
                    <a:pt x="1878" y="579"/>
                  </a:lnTo>
                  <a:lnTo>
                    <a:pt x="1873" y="579"/>
                  </a:lnTo>
                  <a:lnTo>
                    <a:pt x="1873" y="585"/>
                  </a:lnTo>
                  <a:lnTo>
                    <a:pt x="1868" y="585"/>
                  </a:lnTo>
                  <a:lnTo>
                    <a:pt x="1868" y="590"/>
                  </a:lnTo>
                  <a:lnTo>
                    <a:pt x="1864" y="590"/>
                  </a:lnTo>
                  <a:lnTo>
                    <a:pt x="1864" y="603"/>
                  </a:lnTo>
                  <a:lnTo>
                    <a:pt x="1860" y="603"/>
                  </a:lnTo>
                  <a:lnTo>
                    <a:pt x="1860" y="609"/>
                  </a:lnTo>
                  <a:lnTo>
                    <a:pt x="1854" y="609"/>
                  </a:lnTo>
                  <a:lnTo>
                    <a:pt x="1854" y="614"/>
                  </a:lnTo>
                  <a:lnTo>
                    <a:pt x="1850" y="614"/>
                  </a:lnTo>
                  <a:lnTo>
                    <a:pt x="1850" y="620"/>
                  </a:lnTo>
                  <a:lnTo>
                    <a:pt x="1845" y="620"/>
                  </a:lnTo>
                  <a:lnTo>
                    <a:pt x="1845" y="626"/>
                  </a:lnTo>
                  <a:lnTo>
                    <a:pt x="1840" y="626"/>
                  </a:lnTo>
                  <a:lnTo>
                    <a:pt x="1840" y="638"/>
                  </a:lnTo>
                  <a:lnTo>
                    <a:pt x="1830" y="638"/>
                  </a:lnTo>
                  <a:lnTo>
                    <a:pt x="1830" y="650"/>
                  </a:lnTo>
                  <a:lnTo>
                    <a:pt x="1820" y="650"/>
                  </a:lnTo>
                  <a:lnTo>
                    <a:pt x="1820" y="655"/>
                  </a:lnTo>
                  <a:lnTo>
                    <a:pt x="1816" y="655"/>
                  </a:lnTo>
                  <a:lnTo>
                    <a:pt x="1816" y="663"/>
                  </a:lnTo>
                  <a:lnTo>
                    <a:pt x="1811" y="663"/>
                  </a:lnTo>
                  <a:lnTo>
                    <a:pt x="1811" y="668"/>
                  </a:lnTo>
                  <a:lnTo>
                    <a:pt x="1806" y="668"/>
                  </a:lnTo>
                  <a:lnTo>
                    <a:pt x="1806" y="674"/>
                  </a:lnTo>
                  <a:lnTo>
                    <a:pt x="1801" y="674"/>
                  </a:lnTo>
                  <a:lnTo>
                    <a:pt x="1801" y="680"/>
                  </a:lnTo>
                  <a:lnTo>
                    <a:pt x="1797" y="680"/>
                  </a:lnTo>
                  <a:lnTo>
                    <a:pt x="1797" y="685"/>
                  </a:lnTo>
                  <a:lnTo>
                    <a:pt x="1791" y="685"/>
                  </a:lnTo>
                  <a:lnTo>
                    <a:pt x="1791" y="691"/>
                  </a:lnTo>
                  <a:lnTo>
                    <a:pt x="1782" y="691"/>
                  </a:lnTo>
                  <a:lnTo>
                    <a:pt x="1782" y="696"/>
                  </a:lnTo>
                  <a:lnTo>
                    <a:pt x="1777" y="696"/>
                  </a:lnTo>
                  <a:lnTo>
                    <a:pt x="1777" y="704"/>
                  </a:lnTo>
                  <a:lnTo>
                    <a:pt x="1773" y="704"/>
                  </a:lnTo>
                  <a:lnTo>
                    <a:pt x="1773" y="709"/>
                  </a:lnTo>
                  <a:lnTo>
                    <a:pt x="1768" y="709"/>
                  </a:lnTo>
                  <a:lnTo>
                    <a:pt x="1768" y="715"/>
                  </a:lnTo>
                  <a:lnTo>
                    <a:pt x="1763" y="715"/>
                  </a:lnTo>
                  <a:lnTo>
                    <a:pt x="1763" y="721"/>
                  </a:lnTo>
                  <a:lnTo>
                    <a:pt x="1757" y="721"/>
                  </a:lnTo>
                  <a:lnTo>
                    <a:pt x="1757" y="732"/>
                  </a:lnTo>
                  <a:lnTo>
                    <a:pt x="1748" y="732"/>
                  </a:lnTo>
                  <a:lnTo>
                    <a:pt x="1748" y="739"/>
                  </a:lnTo>
                  <a:lnTo>
                    <a:pt x="1743" y="739"/>
                  </a:lnTo>
                  <a:lnTo>
                    <a:pt x="1743" y="745"/>
                  </a:lnTo>
                  <a:lnTo>
                    <a:pt x="1739" y="745"/>
                  </a:lnTo>
                  <a:lnTo>
                    <a:pt x="1739" y="750"/>
                  </a:lnTo>
                  <a:lnTo>
                    <a:pt x="1734" y="750"/>
                  </a:lnTo>
                  <a:lnTo>
                    <a:pt x="1734" y="756"/>
                  </a:lnTo>
                  <a:lnTo>
                    <a:pt x="1729" y="756"/>
                  </a:lnTo>
                  <a:lnTo>
                    <a:pt x="1729" y="762"/>
                  </a:lnTo>
                  <a:lnTo>
                    <a:pt x="1724" y="762"/>
                  </a:lnTo>
                  <a:lnTo>
                    <a:pt x="1724" y="769"/>
                  </a:lnTo>
                  <a:lnTo>
                    <a:pt x="1720" y="769"/>
                  </a:lnTo>
                  <a:lnTo>
                    <a:pt x="1720" y="774"/>
                  </a:lnTo>
                  <a:lnTo>
                    <a:pt x="1715" y="774"/>
                  </a:lnTo>
                  <a:lnTo>
                    <a:pt x="1715" y="781"/>
                  </a:lnTo>
                  <a:lnTo>
                    <a:pt x="1710" y="781"/>
                  </a:lnTo>
                  <a:lnTo>
                    <a:pt x="1710" y="786"/>
                  </a:lnTo>
                  <a:lnTo>
                    <a:pt x="1705" y="786"/>
                  </a:lnTo>
                  <a:lnTo>
                    <a:pt x="1705" y="791"/>
                  </a:lnTo>
                  <a:lnTo>
                    <a:pt x="1701" y="791"/>
                  </a:lnTo>
                  <a:lnTo>
                    <a:pt x="1701" y="799"/>
                  </a:lnTo>
                  <a:lnTo>
                    <a:pt x="1696" y="799"/>
                  </a:lnTo>
                  <a:lnTo>
                    <a:pt x="1696" y="804"/>
                  </a:lnTo>
                  <a:lnTo>
                    <a:pt x="1690" y="804"/>
                  </a:lnTo>
                  <a:lnTo>
                    <a:pt x="1690" y="810"/>
                  </a:lnTo>
                  <a:lnTo>
                    <a:pt x="1686" y="810"/>
                  </a:lnTo>
                  <a:lnTo>
                    <a:pt x="1686" y="815"/>
                  </a:lnTo>
                  <a:lnTo>
                    <a:pt x="1681" y="815"/>
                  </a:lnTo>
                  <a:lnTo>
                    <a:pt x="1681" y="822"/>
                  </a:lnTo>
                  <a:lnTo>
                    <a:pt x="1676" y="822"/>
                  </a:lnTo>
                  <a:lnTo>
                    <a:pt x="1676" y="834"/>
                  </a:lnTo>
                  <a:lnTo>
                    <a:pt x="1671" y="834"/>
                  </a:lnTo>
                  <a:lnTo>
                    <a:pt x="1671" y="840"/>
                  </a:lnTo>
                  <a:lnTo>
                    <a:pt x="1667" y="840"/>
                  </a:lnTo>
                  <a:lnTo>
                    <a:pt x="1667" y="845"/>
                  </a:lnTo>
                  <a:lnTo>
                    <a:pt x="1661" y="845"/>
                  </a:lnTo>
                  <a:lnTo>
                    <a:pt x="1661" y="851"/>
                  </a:lnTo>
                  <a:lnTo>
                    <a:pt x="1657" y="851"/>
                  </a:lnTo>
                  <a:lnTo>
                    <a:pt x="1657" y="857"/>
                  </a:lnTo>
                  <a:lnTo>
                    <a:pt x="1653" y="857"/>
                  </a:lnTo>
                  <a:lnTo>
                    <a:pt x="1653" y="864"/>
                  </a:lnTo>
                  <a:lnTo>
                    <a:pt x="1647" y="864"/>
                  </a:lnTo>
                  <a:lnTo>
                    <a:pt x="1647" y="869"/>
                  </a:lnTo>
                  <a:lnTo>
                    <a:pt x="1643" y="869"/>
                  </a:lnTo>
                  <a:lnTo>
                    <a:pt x="1643" y="875"/>
                  </a:lnTo>
                  <a:lnTo>
                    <a:pt x="1638" y="875"/>
                  </a:lnTo>
                  <a:lnTo>
                    <a:pt x="1638" y="881"/>
                  </a:lnTo>
                  <a:lnTo>
                    <a:pt x="1633" y="881"/>
                  </a:lnTo>
                  <a:lnTo>
                    <a:pt x="1633" y="887"/>
                  </a:lnTo>
                  <a:lnTo>
                    <a:pt x="1628" y="887"/>
                  </a:lnTo>
                  <a:lnTo>
                    <a:pt x="1628" y="892"/>
                  </a:lnTo>
                  <a:lnTo>
                    <a:pt x="1624" y="892"/>
                  </a:lnTo>
                  <a:lnTo>
                    <a:pt x="1624" y="898"/>
                  </a:lnTo>
                  <a:lnTo>
                    <a:pt x="1618" y="898"/>
                  </a:lnTo>
                  <a:lnTo>
                    <a:pt x="1618" y="905"/>
                  </a:lnTo>
                  <a:lnTo>
                    <a:pt x="1613" y="905"/>
                  </a:lnTo>
                  <a:lnTo>
                    <a:pt x="1613" y="910"/>
                  </a:lnTo>
                  <a:lnTo>
                    <a:pt x="1609" y="910"/>
                  </a:lnTo>
                  <a:lnTo>
                    <a:pt x="1609" y="916"/>
                  </a:lnTo>
                  <a:lnTo>
                    <a:pt x="1605" y="916"/>
                  </a:lnTo>
                  <a:lnTo>
                    <a:pt x="1605" y="922"/>
                  </a:lnTo>
                  <a:lnTo>
                    <a:pt x="1599" y="922"/>
                  </a:lnTo>
                  <a:lnTo>
                    <a:pt x="1599" y="928"/>
                  </a:lnTo>
                  <a:lnTo>
                    <a:pt x="1595" y="928"/>
                  </a:lnTo>
                  <a:lnTo>
                    <a:pt x="1595" y="933"/>
                  </a:lnTo>
                  <a:lnTo>
                    <a:pt x="1590" y="933"/>
                  </a:lnTo>
                  <a:lnTo>
                    <a:pt x="1590" y="946"/>
                  </a:lnTo>
                  <a:lnTo>
                    <a:pt x="1585" y="946"/>
                  </a:lnTo>
                  <a:lnTo>
                    <a:pt x="1585" y="951"/>
                  </a:lnTo>
                  <a:lnTo>
                    <a:pt x="1580" y="951"/>
                  </a:lnTo>
                  <a:lnTo>
                    <a:pt x="1580" y="958"/>
                  </a:lnTo>
                  <a:lnTo>
                    <a:pt x="1576" y="958"/>
                  </a:lnTo>
                  <a:lnTo>
                    <a:pt x="1576" y="963"/>
                  </a:lnTo>
                  <a:lnTo>
                    <a:pt x="1571" y="963"/>
                  </a:lnTo>
                  <a:lnTo>
                    <a:pt x="1571" y="976"/>
                  </a:lnTo>
                  <a:lnTo>
                    <a:pt x="1566" y="976"/>
                  </a:lnTo>
                  <a:lnTo>
                    <a:pt x="1566" y="982"/>
                  </a:lnTo>
                  <a:lnTo>
                    <a:pt x="1562" y="982"/>
                  </a:lnTo>
                  <a:lnTo>
                    <a:pt x="1562" y="987"/>
                  </a:lnTo>
                  <a:lnTo>
                    <a:pt x="1557" y="987"/>
                  </a:lnTo>
                  <a:lnTo>
                    <a:pt x="1557" y="992"/>
                  </a:lnTo>
                  <a:lnTo>
                    <a:pt x="1552" y="992"/>
                  </a:lnTo>
                  <a:lnTo>
                    <a:pt x="1552" y="1000"/>
                  </a:lnTo>
                  <a:lnTo>
                    <a:pt x="1546" y="1000"/>
                  </a:lnTo>
                  <a:lnTo>
                    <a:pt x="1546" y="1005"/>
                  </a:lnTo>
                  <a:lnTo>
                    <a:pt x="1542" y="1005"/>
                  </a:lnTo>
                  <a:lnTo>
                    <a:pt x="1542" y="1017"/>
                  </a:lnTo>
                  <a:lnTo>
                    <a:pt x="1537" y="1017"/>
                  </a:lnTo>
                  <a:lnTo>
                    <a:pt x="1537" y="1022"/>
                  </a:lnTo>
                  <a:lnTo>
                    <a:pt x="1527" y="1022"/>
                  </a:lnTo>
                  <a:lnTo>
                    <a:pt x="1527" y="1034"/>
                  </a:lnTo>
                  <a:lnTo>
                    <a:pt x="1523" y="1034"/>
                  </a:lnTo>
                  <a:lnTo>
                    <a:pt x="1523" y="1041"/>
                  </a:lnTo>
                  <a:lnTo>
                    <a:pt x="1518" y="1041"/>
                  </a:lnTo>
                  <a:lnTo>
                    <a:pt x="1518" y="1046"/>
                  </a:lnTo>
                  <a:lnTo>
                    <a:pt x="1509" y="1046"/>
                  </a:lnTo>
                  <a:lnTo>
                    <a:pt x="1509" y="1058"/>
                  </a:lnTo>
                  <a:lnTo>
                    <a:pt x="1503" y="1058"/>
                  </a:lnTo>
                  <a:lnTo>
                    <a:pt x="1503" y="1063"/>
                  </a:lnTo>
                  <a:lnTo>
                    <a:pt x="1499" y="1063"/>
                  </a:lnTo>
                  <a:lnTo>
                    <a:pt x="1499" y="1069"/>
                  </a:lnTo>
                  <a:lnTo>
                    <a:pt x="1494" y="1069"/>
                  </a:lnTo>
                  <a:lnTo>
                    <a:pt x="1494" y="1076"/>
                  </a:lnTo>
                  <a:lnTo>
                    <a:pt x="1489" y="1076"/>
                  </a:lnTo>
                  <a:lnTo>
                    <a:pt x="1489" y="1087"/>
                  </a:lnTo>
                  <a:lnTo>
                    <a:pt x="1484" y="1087"/>
                  </a:lnTo>
                  <a:lnTo>
                    <a:pt x="1484" y="1093"/>
                  </a:lnTo>
                  <a:lnTo>
                    <a:pt x="1480" y="1093"/>
                  </a:lnTo>
                  <a:lnTo>
                    <a:pt x="1480" y="1099"/>
                  </a:lnTo>
                  <a:lnTo>
                    <a:pt x="1475" y="1099"/>
                  </a:lnTo>
                  <a:lnTo>
                    <a:pt x="1475" y="1104"/>
                  </a:lnTo>
                  <a:lnTo>
                    <a:pt x="1469" y="1104"/>
                  </a:lnTo>
                  <a:lnTo>
                    <a:pt x="1469" y="1111"/>
                  </a:lnTo>
                  <a:lnTo>
                    <a:pt x="1465" y="1111"/>
                  </a:lnTo>
                  <a:lnTo>
                    <a:pt x="1465" y="1123"/>
                  </a:lnTo>
                  <a:lnTo>
                    <a:pt x="1460" y="1123"/>
                  </a:lnTo>
                  <a:lnTo>
                    <a:pt x="1460" y="1136"/>
                  </a:lnTo>
                  <a:lnTo>
                    <a:pt x="1455" y="1136"/>
                  </a:lnTo>
                  <a:lnTo>
                    <a:pt x="1455" y="1141"/>
                  </a:lnTo>
                  <a:lnTo>
                    <a:pt x="1450" y="1141"/>
                  </a:lnTo>
                  <a:lnTo>
                    <a:pt x="1450" y="1147"/>
                  </a:lnTo>
                  <a:lnTo>
                    <a:pt x="1446" y="1147"/>
                  </a:lnTo>
                  <a:lnTo>
                    <a:pt x="1446" y="1158"/>
                  </a:lnTo>
                  <a:lnTo>
                    <a:pt x="1441" y="1158"/>
                  </a:lnTo>
                  <a:lnTo>
                    <a:pt x="1441" y="1164"/>
                  </a:lnTo>
                  <a:lnTo>
                    <a:pt x="1436" y="1164"/>
                  </a:lnTo>
                  <a:lnTo>
                    <a:pt x="1436" y="1169"/>
                  </a:lnTo>
                  <a:lnTo>
                    <a:pt x="1432" y="1169"/>
                  </a:lnTo>
                  <a:lnTo>
                    <a:pt x="1432" y="1182"/>
                  </a:lnTo>
                  <a:lnTo>
                    <a:pt x="1427" y="1182"/>
                  </a:lnTo>
                  <a:lnTo>
                    <a:pt x="1427" y="1188"/>
                  </a:lnTo>
                  <a:lnTo>
                    <a:pt x="1422" y="1188"/>
                  </a:lnTo>
                  <a:lnTo>
                    <a:pt x="1422" y="1194"/>
                  </a:lnTo>
                  <a:lnTo>
                    <a:pt x="1417" y="1194"/>
                  </a:lnTo>
                  <a:lnTo>
                    <a:pt x="1417" y="1200"/>
                  </a:lnTo>
                  <a:lnTo>
                    <a:pt x="1413" y="1200"/>
                  </a:lnTo>
                  <a:lnTo>
                    <a:pt x="1413" y="1212"/>
                  </a:lnTo>
                  <a:lnTo>
                    <a:pt x="1407" y="1212"/>
                  </a:lnTo>
                  <a:lnTo>
                    <a:pt x="1407" y="1218"/>
                  </a:lnTo>
                  <a:lnTo>
                    <a:pt x="1402" y="1218"/>
                  </a:lnTo>
                  <a:lnTo>
                    <a:pt x="1402" y="1223"/>
                  </a:lnTo>
                  <a:lnTo>
                    <a:pt x="1398" y="1223"/>
                  </a:lnTo>
                  <a:lnTo>
                    <a:pt x="1398" y="1235"/>
                  </a:lnTo>
                  <a:lnTo>
                    <a:pt x="1392" y="1235"/>
                  </a:lnTo>
                  <a:lnTo>
                    <a:pt x="1392" y="1247"/>
                  </a:lnTo>
                  <a:lnTo>
                    <a:pt x="1388" y="1247"/>
                  </a:lnTo>
                  <a:lnTo>
                    <a:pt x="1388" y="1254"/>
                  </a:lnTo>
                  <a:lnTo>
                    <a:pt x="1383" y="1254"/>
                  </a:lnTo>
                  <a:lnTo>
                    <a:pt x="1383" y="1259"/>
                  </a:lnTo>
                  <a:lnTo>
                    <a:pt x="1379" y="1259"/>
                  </a:lnTo>
                  <a:lnTo>
                    <a:pt x="1379" y="1264"/>
                  </a:lnTo>
                  <a:lnTo>
                    <a:pt x="1373" y="1264"/>
                  </a:lnTo>
                  <a:lnTo>
                    <a:pt x="1373" y="1272"/>
                  </a:lnTo>
                  <a:lnTo>
                    <a:pt x="1369" y="1272"/>
                  </a:lnTo>
                  <a:lnTo>
                    <a:pt x="1369" y="1277"/>
                  </a:lnTo>
                  <a:lnTo>
                    <a:pt x="1364" y="1277"/>
                  </a:lnTo>
                  <a:lnTo>
                    <a:pt x="1364" y="1283"/>
                  </a:lnTo>
                  <a:lnTo>
                    <a:pt x="1359" y="1283"/>
                  </a:lnTo>
                  <a:lnTo>
                    <a:pt x="1359" y="1295"/>
                  </a:lnTo>
                  <a:lnTo>
                    <a:pt x="1355" y="1295"/>
                  </a:lnTo>
                  <a:lnTo>
                    <a:pt x="1355" y="1300"/>
                  </a:lnTo>
                  <a:lnTo>
                    <a:pt x="1345" y="1300"/>
                  </a:lnTo>
                  <a:lnTo>
                    <a:pt x="1345" y="1305"/>
                  </a:lnTo>
                  <a:lnTo>
                    <a:pt x="1340" y="1305"/>
                  </a:lnTo>
                  <a:lnTo>
                    <a:pt x="1340" y="1313"/>
                  </a:lnTo>
                  <a:lnTo>
                    <a:pt x="1336" y="1313"/>
                  </a:lnTo>
                  <a:lnTo>
                    <a:pt x="1336" y="1318"/>
                  </a:lnTo>
                  <a:lnTo>
                    <a:pt x="1325" y="1318"/>
                  </a:lnTo>
                  <a:lnTo>
                    <a:pt x="1325" y="1330"/>
                  </a:lnTo>
                  <a:lnTo>
                    <a:pt x="1320" y="1330"/>
                  </a:lnTo>
                  <a:lnTo>
                    <a:pt x="1320" y="1336"/>
                  </a:lnTo>
                  <a:lnTo>
                    <a:pt x="1316" y="1336"/>
                  </a:lnTo>
                  <a:lnTo>
                    <a:pt x="1316" y="1341"/>
                  </a:lnTo>
                  <a:lnTo>
                    <a:pt x="1311" y="1341"/>
                  </a:lnTo>
                  <a:lnTo>
                    <a:pt x="1311" y="1354"/>
                  </a:lnTo>
                  <a:lnTo>
                    <a:pt x="1306" y="1354"/>
                  </a:lnTo>
                  <a:lnTo>
                    <a:pt x="1306" y="1359"/>
                  </a:lnTo>
                  <a:lnTo>
                    <a:pt x="1302" y="1359"/>
                  </a:lnTo>
                  <a:lnTo>
                    <a:pt x="1302" y="1365"/>
                  </a:lnTo>
                  <a:lnTo>
                    <a:pt x="1297" y="1365"/>
                  </a:lnTo>
                  <a:lnTo>
                    <a:pt x="1297" y="1378"/>
                  </a:lnTo>
                  <a:lnTo>
                    <a:pt x="1292" y="1378"/>
                  </a:lnTo>
                  <a:lnTo>
                    <a:pt x="1292" y="1383"/>
                  </a:lnTo>
                  <a:lnTo>
                    <a:pt x="1287" y="1383"/>
                  </a:lnTo>
                  <a:lnTo>
                    <a:pt x="1287" y="1389"/>
                  </a:lnTo>
                  <a:lnTo>
                    <a:pt x="1283" y="1389"/>
                  </a:lnTo>
                  <a:lnTo>
                    <a:pt x="1283" y="1395"/>
                  </a:lnTo>
                  <a:lnTo>
                    <a:pt x="1277" y="1395"/>
                  </a:lnTo>
                  <a:lnTo>
                    <a:pt x="1277" y="1406"/>
                  </a:lnTo>
                  <a:lnTo>
                    <a:pt x="1273" y="1406"/>
                  </a:lnTo>
                  <a:lnTo>
                    <a:pt x="1273" y="1413"/>
                  </a:lnTo>
                  <a:lnTo>
                    <a:pt x="1269" y="1413"/>
                  </a:lnTo>
                  <a:lnTo>
                    <a:pt x="1269" y="1419"/>
                  </a:lnTo>
                  <a:lnTo>
                    <a:pt x="1264" y="1419"/>
                  </a:lnTo>
                  <a:lnTo>
                    <a:pt x="1264" y="1424"/>
                  </a:lnTo>
                  <a:lnTo>
                    <a:pt x="1258" y="1424"/>
                  </a:lnTo>
                  <a:lnTo>
                    <a:pt x="1258" y="1436"/>
                  </a:lnTo>
                  <a:lnTo>
                    <a:pt x="1254" y="1436"/>
                  </a:lnTo>
                  <a:lnTo>
                    <a:pt x="1254" y="1441"/>
                  </a:lnTo>
                  <a:lnTo>
                    <a:pt x="1248" y="1441"/>
                  </a:lnTo>
                  <a:lnTo>
                    <a:pt x="1248" y="1449"/>
                  </a:lnTo>
                  <a:lnTo>
                    <a:pt x="1244" y="1449"/>
                  </a:lnTo>
                  <a:lnTo>
                    <a:pt x="1244" y="1460"/>
                  </a:lnTo>
                  <a:lnTo>
                    <a:pt x="1239" y="1460"/>
                  </a:lnTo>
                  <a:lnTo>
                    <a:pt x="1239" y="1465"/>
                  </a:lnTo>
                  <a:lnTo>
                    <a:pt x="1235" y="1465"/>
                  </a:lnTo>
                  <a:lnTo>
                    <a:pt x="1235" y="1471"/>
                  </a:lnTo>
                  <a:lnTo>
                    <a:pt x="1229" y="1471"/>
                  </a:lnTo>
                  <a:lnTo>
                    <a:pt x="1229" y="1482"/>
                  </a:lnTo>
                  <a:lnTo>
                    <a:pt x="1225" y="1482"/>
                  </a:lnTo>
                  <a:lnTo>
                    <a:pt x="1225" y="1490"/>
                  </a:lnTo>
                  <a:lnTo>
                    <a:pt x="1221" y="1490"/>
                  </a:lnTo>
                  <a:lnTo>
                    <a:pt x="1221" y="1501"/>
                  </a:lnTo>
                  <a:lnTo>
                    <a:pt x="1215" y="1501"/>
                  </a:lnTo>
                  <a:lnTo>
                    <a:pt x="1215" y="1519"/>
                  </a:lnTo>
                  <a:lnTo>
                    <a:pt x="1211" y="1519"/>
                  </a:lnTo>
                  <a:lnTo>
                    <a:pt x="1211" y="1525"/>
                  </a:lnTo>
                  <a:lnTo>
                    <a:pt x="1206" y="1525"/>
                  </a:lnTo>
                  <a:lnTo>
                    <a:pt x="1206" y="1536"/>
                  </a:lnTo>
                  <a:lnTo>
                    <a:pt x="1196" y="1536"/>
                  </a:lnTo>
                  <a:lnTo>
                    <a:pt x="1196" y="1549"/>
                  </a:lnTo>
                  <a:lnTo>
                    <a:pt x="1192" y="1549"/>
                  </a:lnTo>
                  <a:lnTo>
                    <a:pt x="1192" y="1560"/>
                  </a:lnTo>
                  <a:lnTo>
                    <a:pt x="1181" y="1560"/>
                  </a:lnTo>
                  <a:lnTo>
                    <a:pt x="1181" y="1566"/>
                  </a:lnTo>
                  <a:lnTo>
                    <a:pt x="1172" y="1566"/>
                  </a:lnTo>
                  <a:lnTo>
                    <a:pt x="1172" y="1572"/>
                  </a:lnTo>
                  <a:lnTo>
                    <a:pt x="1162" y="1572"/>
                  </a:lnTo>
                  <a:lnTo>
                    <a:pt x="1162" y="1577"/>
                  </a:lnTo>
                  <a:lnTo>
                    <a:pt x="1153" y="1577"/>
                  </a:lnTo>
                  <a:lnTo>
                    <a:pt x="1153" y="1584"/>
                  </a:lnTo>
                  <a:lnTo>
                    <a:pt x="1143" y="1584"/>
                  </a:lnTo>
                  <a:lnTo>
                    <a:pt x="1143" y="1590"/>
                  </a:lnTo>
                  <a:lnTo>
                    <a:pt x="1134" y="1590"/>
                  </a:lnTo>
                  <a:lnTo>
                    <a:pt x="1134" y="1596"/>
                  </a:lnTo>
                  <a:lnTo>
                    <a:pt x="1125" y="1596"/>
                  </a:lnTo>
                  <a:lnTo>
                    <a:pt x="1125" y="1601"/>
                  </a:lnTo>
                  <a:lnTo>
                    <a:pt x="1119" y="1601"/>
                  </a:lnTo>
                  <a:lnTo>
                    <a:pt x="1119" y="1608"/>
                  </a:lnTo>
                  <a:lnTo>
                    <a:pt x="1115" y="1608"/>
                  </a:lnTo>
                  <a:lnTo>
                    <a:pt x="1115" y="1613"/>
                  </a:lnTo>
                  <a:lnTo>
                    <a:pt x="1109" y="1613"/>
                  </a:lnTo>
                  <a:lnTo>
                    <a:pt x="1109" y="1620"/>
                  </a:lnTo>
                  <a:lnTo>
                    <a:pt x="1104" y="1620"/>
                  </a:lnTo>
                  <a:lnTo>
                    <a:pt x="1104" y="1626"/>
                  </a:lnTo>
                  <a:lnTo>
                    <a:pt x="1099" y="1626"/>
                  </a:lnTo>
                  <a:lnTo>
                    <a:pt x="1099" y="1631"/>
                  </a:lnTo>
                  <a:lnTo>
                    <a:pt x="1095" y="1631"/>
                  </a:lnTo>
                  <a:lnTo>
                    <a:pt x="1095" y="1637"/>
                  </a:lnTo>
                  <a:lnTo>
                    <a:pt x="1081" y="1637"/>
                  </a:lnTo>
                  <a:lnTo>
                    <a:pt x="1081" y="1642"/>
                  </a:lnTo>
                  <a:lnTo>
                    <a:pt x="1076" y="1642"/>
                  </a:lnTo>
                  <a:lnTo>
                    <a:pt x="1076" y="1655"/>
                  </a:lnTo>
                  <a:lnTo>
                    <a:pt x="1066" y="1655"/>
                  </a:lnTo>
                  <a:lnTo>
                    <a:pt x="1066" y="1661"/>
                  </a:lnTo>
                  <a:lnTo>
                    <a:pt x="1062" y="1661"/>
                  </a:lnTo>
                  <a:lnTo>
                    <a:pt x="1062" y="1667"/>
                  </a:lnTo>
                  <a:lnTo>
                    <a:pt x="1057" y="1667"/>
                  </a:lnTo>
                  <a:lnTo>
                    <a:pt x="1057" y="1672"/>
                  </a:lnTo>
                  <a:lnTo>
                    <a:pt x="1052" y="1672"/>
                  </a:lnTo>
                  <a:lnTo>
                    <a:pt x="1052" y="1678"/>
                  </a:lnTo>
                  <a:lnTo>
                    <a:pt x="1048" y="1678"/>
                  </a:lnTo>
                  <a:lnTo>
                    <a:pt x="1048" y="1685"/>
                  </a:lnTo>
                  <a:lnTo>
                    <a:pt x="1043" y="1685"/>
                  </a:lnTo>
                  <a:lnTo>
                    <a:pt x="1043" y="1691"/>
                  </a:lnTo>
                  <a:lnTo>
                    <a:pt x="1032" y="1691"/>
                  </a:lnTo>
                  <a:lnTo>
                    <a:pt x="1032" y="1696"/>
                  </a:lnTo>
                  <a:lnTo>
                    <a:pt x="1028" y="1696"/>
                  </a:lnTo>
                  <a:lnTo>
                    <a:pt x="1028" y="1702"/>
                  </a:lnTo>
                  <a:lnTo>
                    <a:pt x="1022" y="1702"/>
                  </a:lnTo>
                  <a:lnTo>
                    <a:pt x="1022" y="1708"/>
                  </a:lnTo>
                  <a:lnTo>
                    <a:pt x="1014" y="1708"/>
                  </a:lnTo>
                  <a:lnTo>
                    <a:pt x="1014" y="1715"/>
                  </a:lnTo>
                  <a:lnTo>
                    <a:pt x="1008" y="1715"/>
                  </a:lnTo>
                  <a:lnTo>
                    <a:pt x="1008" y="1720"/>
                  </a:lnTo>
                  <a:lnTo>
                    <a:pt x="1004" y="1720"/>
                  </a:lnTo>
                  <a:lnTo>
                    <a:pt x="1004" y="1726"/>
                  </a:lnTo>
                  <a:lnTo>
                    <a:pt x="999" y="1726"/>
                  </a:lnTo>
                  <a:lnTo>
                    <a:pt x="999" y="1732"/>
                  </a:lnTo>
                  <a:lnTo>
                    <a:pt x="995" y="1732"/>
                  </a:lnTo>
                  <a:lnTo>
                    <a:pt x="995" y="1737"/>
                  </a:lnTo>
                  <a:lnTo>
                    <a:pt x="989" y="1737"/>
                  </a:lnTo>
                  <a:lnTo>
                    <a:pt x="989" y="1743"/>
                  </a:lnTo>
                  <a:lnTo>
                    <a:pt x="985" y="1743"/>
                  </a:lnTo>
                  <a:lnTo>
                    <a:pt x="985" y="1749"/>
                  </a:lnTo>
                  <a:lnTo>
                    <a:pt x="980" y="1749"/>
                  </a:lnTo>
                  <a:lnTo>
                    <a:pt x="980" y="1756"/>
                  </a:lnTo>
                  <a:lnTo>
                    <a:pt x="975" y="1756"/>
                  </a:lnTo>
                  <a:lnTo>
                    <a:pt x="975" y="1761"/>
                  </a:lnTo>
                  <a:lnTo>
                    <a:pt x="971" y="1761"/>
                  </a:lnTo>
                  <a:lnTo>
                    <a:pt x="971" y="1773"/>
                  </a:lnTo>
                  <a:lnTo>
                    <a:pt x="965" y="1773"/>
                  </a:lnTo>
                  <a:lnTo>
                    <a:pt x="965" y="1778"/>
                  </a:lnTo>
                  <a:lnTo>
                    <a:pt x="960" y="1778"/>
                  </a:lnTo>
                  <a:lnTo>
                    <a:pt x="960" y="1791"/>
                  </a:lnTo>
                  <a:lnTo>
                    <a:pt x="951" y="1791"/>
                  </a:lnTo>
                  <a:lnTo>
                    <a:pt x="951" y="1803"/>
                  </a:lnTo>
                  <a:lnTo>
                    <a:pt x="946" y="1803"/>
                  </a:lnTo>
                  <a:lnTo>
                    <a:pt x="946" y="1814"/>
                  </a:lnTo>
                  <a:lnTo>
                    <a:pt x="941" y="1814"/>
                  </a:lnTo>
                  <a:lnTo>
                    <a:pt x="941" y="1821"/>
                  </a:lnTo>
                  <a:lnTo>
                    <a:pt x="936" y="1821"/>
                  </a:lnTo>
                  <a:lnTo>
                    <a:pt x="936" y="1827"/>
                  </a:lnTo>
                  <a:lnTo>
                    <a:pt x="932" y="1827"/>
                  </a:lnTo>
                  <a:lnTo>
                    <a:pt x="932" y="1832"/>
                  </a:lnTo>
                  <a:lnTo>
                    <a:pt x="927" y="1832"/>
                  </a:lnTo>
                  <a:lnTo>
                    <a:pt x="927" y="1838"/>
                  </a:lnTo>
                  <a:lnTo>
                    <a:pt x="923" y="1838"/>
                  </a:lnTo>
                  <a:lnTo>
                    <a:pt x="923" y="1844"/>
                  </a:lnTo>
                  <a:lnTo>
                    <a:pt x="918" y="1844"/>
                  </a:lnTo>
                  <a:lnTo>
                    <a:pt x="918" y="1856"/>
                  </a:lnTo>
                  <a:lnTo>
                    <a:pt x="913" y="1856"/>
                  </a:lnTo>
                  <a:lnTo>
                    <a:pt x="913" y="1862"/>
                  </a:lnTo>
                  <a:lnTo>
                    <a:pt x="908" y="1862"/>
                  </a:lnTo>
                  <a:lnTo>
                    <a:pt x="908" y="1868"/>
                  </a:lnTo>
                  <a:lnTo>
                    <a:pt x="904" y="1868"/>
                  </a:lnTo>
                  <a:lnTo>
                    <a:pt x="904" y="1873"/>
                  </a:lnTo>
                  <a:lnTo>
                    <a:pt x="899" y="1873"/>
                  </a:lnTo>
                  <a:lnTo>
                    <a:pt x="899" y="1879"/>
                  </a:lnTo>
                  <a:lnTo>
                    <a:pt x="893" y="1879"/>
                  </a:lnTo>
                  <a:lnTo>
                    <a:pt x="893" y="1890"/>
                  </a:lnTo>
                  <a:lnTo>
                    <a:pt x="888" y="1890"/>
                  </a:lnTo>
                  <a:lnTo>
                    <a:pt x="888" y="1897"/>
                  </a:lnTo>
                  <a:lnTo>
                    <a:pt x="884" y="1897"/>
                  </a:lnTo>
                  <a:lnTo>
                    <a:pt x="884" y="1903"/>
                  </a:lnTo>
                  <a:lnTo>
                    <a:pt x="879" y="1903"/>
                  </a:lnTo>
                  <a:lnTo>
                    <a:pt x="879" y="1914"/>
                  </a:lnTo>
                  <a:lnTo>
                    <a:pt x="874" y="1914"/>
                  </a:lnTo>
                  <a:lnTo>
                    <a:pt x="874" y="1922"/>
                  </a:lnTo>
                  <a:lnTo>
                    <a:pt x="870" y="1922"/>
                  </a:lnTo>
                  <a:lnTo>
                    <a:pt x="870" y="1927"/>
                  </a:lnTo>
                  <a:lnTo>
                    <a:pt x="864" y="1927"/>
                  </a:lnTo>
                  <a:lnTo>
                    <a:pt x="864" y="1938"/>
                  </a:lnTo>
                  <a:lnTo>
                    <a:pt x="860" y="1938"/>
                  </a:lnTo>
                  <a:lnTo>
                    <a:pt x="860" y="1950"/>
                  </a:lnTo>
                  <a:lnTo>
                    <a:pt x="855" y="1950"/>
                  </a:lnTo>
                  <a:lnTo>
                    <a:pt x="855" y="1963"/>
                  </a:lnTo>
                  <a:lnTo>
                    <a:pt x="851" y="1963"/>
                  </a:lnTo>
                  <a:lnTo>
                    <a:pt x="851" y="1974"/>
                  </a:lnTo>
                  <a:lnTo>
                    <a:pt x="845" y="1974"/>
                  </a:lnTo>
                  <a:lnTo>
                    <a:pt x="845" y="1987"/>
                  </a:lnTo>
                  <a:lnTo>
                    <a:pt x="841" y="1987"/>
                  </a:lnTo>
                  <a:lnTo>
                    <a:pt x="841" y="1997"/>
                  </a:lnTo>
                  <a:lnTo>
                    <a:pt x="837" y="1997"/>
                  </a:lnTo>
                  <a:lnTo>
                    <a:pt x="837" y="2009"/>
                  </a:lnTo>
                  <a:lnTo>
                    <a:pt x="831" y="2009"/>
                  </a:lnTo>
                  <a:lnTo>
                    <a:pt x="831" y="2022"/>
                  </a:lnTo>
                  <a:lnTo>
                    <a:pt x="827" y="2022"/>
                  </a:lnTo>
                  <a:lnTo>
                    <a:pt x="827" y="2033"/>
                  </a:lnTo>
                  <a:lnTo>
                    <a:pt x="821" y="2033"/>
                  </a:lnTo>
                  <a:lnTo>
                    <a:pt x="821" y="2039"/>
                  </a:lnTo>
                  <a:lnTo>
                    <a:pt x="816" y="2039"/>
                  </a:lnTo>
                  <a:lnTo>
                    <a:pt x="816" y="2045"/>
                  </a:lnTo>
                  <a:lnTo>
                    <a:pt x="811" y="2045"/>
                  </a:lnTo>
                  <a:lnTo>
                    <a:pt x="811" y="2056"/>
                  </a:lnTo>
                  <a:lnTo>
                    <a:pt x="807" y="2056"/>
                  </a:lnTo>
                  <a:lnTo>
                    <a:pt x="807" y="2069"/>
                  </a:lnTo>
                  <a:lnTo>
                    <a:pt x="797" y="2069"/>
                  </a:lnTo>
                  <a:lnTo>
                    <a:pt x="797" y="2081"/>
                  </a:lnTo>
                  <a:lnTo>
                    <a:pt x="793" y="2081"/>
                  </a:lnTo>
                  <a:lnTo>
                    <a:pt x="793" y="2086"/>
                  </a:lnTo>
                  <a:lnTo>
                    <a:pt x="788" y="2086"/>
                  </a:lnTo>
                  <a:lnTo>
                    <a:pt x="788" y="2099"/>
                  </a:lnTo>
                  <a:lnTo>
                    <a:pt x="783" y="2099"/>
                  </a:lnTo>
                  <a:lnTo>
                    <a:pt x="783" y="2110"/>
                  </a:lnTo>
                  <a:lnTo>
                    <a:pt x="778" y="2110"/>
                  </a:lnTo>
                  <a:lnTo>
                    <a:pt x="778" y="2115"/>
                  </a:lnTo>
                  <a:lnTo>
                    <a:pt x="774" y="2115"/>
                  </a:lnTo>
                  <a:lnTo>
                    <a:pt x="774" y="2128"/>
                  </a:lnTo>
                  <a:lnTo>
                    <a:pt x="769" y="2128"/>
                  </a:lnTo>
                  <a:lnTo>
                    <a:pt x="769" y="2140"/>
                  </a:lnTo>
                  <a:lnTo>
                    <a:pt x="764" y="2140"/>
                  </a:lnTo>
                  <a:lnTo>
                    <a:pt x="764" y="2158"/>
                  </a:lnTo>
                  <a:lnTo>
                    <a:pt x="760" y="2158"/>
                  </a:lnTo>
                  <a:lnTo>
                    <a:pt x="760" y="2175"/>
                  </a:lnTo>
                  <a:lnTo>
                    <a:pt x="755" y="2175"/>
                  </a:lnTo>
                  <a:lnTo>
                    <a:pt x="755" y="2187"/>
                  </a:lnTo>
                  <a:lnTo>
                    <a:pt x="749" y="2187"/>
                  </a:lnTo>
                  <a:lnTo>
                    <a:pt x="749" y="2199"/>
                  </a:lnTo>
                  <a:lnTo>
                    <a:pt x="744" y="2199"/>
                  </a:lnTo>
                  <a:lnTo>
                    <a:pt x="744" y="2210"/>
                  </a:lnTo>
                  <a:lnTo>
                    <a:pt x="740" y="2210"/>
                  </a:lnTo>
                  <a:lnTo>
                    <a:pt x="740" y="2229"/>
                  </a:lnTo>
                  <a:lnTo>
                    <a:pt x="734" y="2229"/>
                  </a:lnTo>
                  <a:lnTo>
                    <a:pt x="734" y="2241"/>
                  </a:lnTo>
                  <a:lnTo>
                    <a:pt x="730" y="2241"/>
                  </a:lnTo>
                  <a:lnTo>
                    <a:pt x="730" y="2251"/>
                  </a:lnTo>
                  <a:lnTo>
                    <a:pt x="725" y="2251"/>
                  </a:lnTo>
                  <a:lnTo>
                    <a:pt x="725" y="2264"/>
                  </a:lnTo>
                  <a:lnTo>
                    <a:pt x="720" y="2264"/>
                  </a:lnTo>
                  <a:lnTo>
                    <a:pt x="720" y="2281"/>
                  </a:lnTo>
                  <a:lnTo>
                    <a:pt x="716" y="2281"/>
                  </a:lnTo>
                  <a:lnTo>
                    <a:pt x="716" y="2292"/>
                  </a:lnTo>
                  <a:lnTo>
                    <a:pt x="711" y="2292"/>
                  </a:lnTo>
                  <a:lnTo>
                    <a:pt x="711" y="2305"/>
                  </a:lnTo>
                  <a:lnTo>
                    <a:pt x="707" y="2305"/>
                  </a:lnTo>
                  <a:lnTo>
                    <a:pt x="707" y="2317"/>
                  </a:lnTo>
                  <a:lnTo>
                    <a:pt x="701" y="2317"/>
                  </a:lnTo>
                  <a:lnTo>
                    <a:pt x="701" y="2335"/>
                  </a:lnTo>
                  <a:lnTo>
                    <a:pt x="697" y="2335"/>
                  </a:lnTo>
                  <a:lnTo>
                    <a:pt x="697" y="2352"/>
                  </a:lnTo>
                  <a:lnTo>
                    <a:pt x="692" y="2352"/>
                  </a:lnTo>
                  <a:lnTo>
                    <a:pt x="692" y="2382"/>
                  </a:lnTo>
                  <a:lnTo>
                    <a:pt x="687" y="2382"/>
                  </a:lnTo>
                  <a:lnTo>
                    <a:pt x="687" y="2387"/>
                  </a:lnTo>
                  <a:lnTo>
                    <a:pt x="682" y="2387"/>
                  </a:lnTo>
                  <a:lnTo>
                    <a:pt x="682" y="2411"/>
                  </a:lnTo>
                  <a:lnTo>
                    <a:pt x="677" y="2411"/>
                  </a:lnTo>
                  <a:lnTo>
                    <a:pt x="677" y="2428"/>
                  </a:lnTo>
                  <a:lnTo>
                    <a:pt x="672" y="2428"/>
                  </a:lnTo>
                  <a:lnTo>
                    <a:pt x="672" y="2441"/>
                  </a:lnTo>
                  <a:lnTo>
                    <a:pt x="667" y="2441"/>
                  </a:lnTo>
                  <a:lnTo>
                    <a:pt x="667" y="2453"/>
                  </a:lnTo>
                  <a:lnTo>
                    <a:pt x="663" y="2453"/>
                  </a:lnTo>
                  <a:lnTo>
                    <a:pt x="663" y="2469"/>
                  </a:lnTo>
                  <a:lnTo>
                    <a:pt x="658" y="2469"/>
                  </a:lnTo>
                  <a:lnTo>
                    <a:pt x="658" y="2488"/>
                  </a:lnTo>
                  <a:lnTo>
                    <a:pt x="653" y="2488"/>
                  </a:lnTo>
                  <a:lnTo>
                    <a:pt x="653" y="2501"/>
                  </a:lnTo>
                  <a:lnTo>
                    <a:pt x="648" y="2501"/>
                  </a:lnTo>
                  <a:lnTo>
                    <a:pt x="648" y="2518"/>
                  </a:lnTo>
                  <a:lnTo>
                    <a:pt x="644" y="2518"/>
                  </a:lnTo>
                  <a:lnTo>
                    <a:pt x="644" y="2536"/>
                  </a:lnTo>
                  <a:lnTo>
                    <a:pt x="638" y="2536"/>
                  </a:lnTo>
                  <a:lnTo>
                    <a:pt x="638" y="2554"/>
                  </a:lnTo>
                  <a:lnTo>
                    <a:pt x="634" y="2554"/>
                  </a:lnTo>
                  <a:lnTo>
                    <a:pt x="634" y="2577"/>
                  </a:lnTo>
                  <a:lnTo>
                    <a:pt x="630" y="2577"/>
                  </a:lnTo>
                  <a:lnTo>
                    <a:pt x="630" y="2588"/>
                  </a:lnTo>
                  <a:lnTo>
                    <a:pt x="624" y="2588"/>
                  </a:lnTo>
                  <a:lnTo>
                    <a:pt x="624" y="2601"/>
                  </a:lnTo>
                  <a:lnTo>
                    <a:pt x="620" y="2601"/>
                  </a:lnTo>
                  <a:lnTo>
                    <a:pt x="620" y="2607"/>
                  </a:lnTo>
                  <a:lnTo>
                    <a:pt x="615" y="2607"/>
                  </a:lnTo>
                  <a:lnTo>
                    <a:pt x="615" y="2618"/>
                  </a:lnTo>
                  <a:lnTo>
                    <a:pt x="611" y="2618"/>
                  </a:lnTo>
                  <a:lnTo>
                    <a:pt x="611" y="2637"/>
                  </a:lnTo>
                  <a:lnTo>
                    <a:pt x="604" y="2637"/>
                  </a:lnTo>
                  <a:lnTo>
                    <a:pt x="604" y="2648"/>
                  </a:lnTo>
                  <a:lnTo>
                    <a:pt x="600" y="2648"/>
                  </a:lnTo>
                  <a:lnTo>
                    <a:pt x="600" y="2659"/>
                  </a:lnTo>
                  <a:lnTo>
                    <a:pt x="595" y="2659"/>
                  </a:lnTo>
                  <a:lnTo>
                    <a:pt x="595" y="2665"/>
                  </a:lnTo>
                  <a:lnTo>
                    <a:pt x="590" y="2665"/>
                  </a:lnTo>
                  <a:lnTo>
                    <a:pt x="590" y="2678"/>
                  </a:lnTo>
                  <a:lnTo>
                    <a:pt x="586" y="2678"/>
                  </a:lnTo>
                  <a:lnTo>
                    <a:pt x="586" y="2689"/>
                  </a:lnTo>
                  <a:lnTo>
                    <a:pt x="581" y="2689"/>
                  </a:lnTo>
                  <a:lnTo>
                    <a:pt x="581" y="2700"/>
                  </a:lnTo>
                  <a:lnTo>
                    <a:pt x="576" y="2700"/>
                  </a:lnTo>
                  <a:lnTo>
                    <a:pt x="576" y="2707"/>
                  </a:lnTo>
                  <a:lnTo>
                    <a:pt x="572" y="2707"/>
                  </a:lnTo>
                  <a:lnTo>
                    <a:pt x="572" y="2719"/>
                  </a:lnTo>
                  <a:lnTo>
                    <a:pt x="567" y="2719"/>
                  </a:lnTo>
                  <a:lnTo>
                    <a:pt x="567" y="2730"/>
                  </a:lnTo>
                  <a:lnTo>
                    <a:pt x="563" y="2730"/>
                  </a:lnTo>
                  <a:lnTo>
                    <a:pt x="563" y="2737"/>
                  </a:lnTo>
                  <a:lnTo>
                    <a:pt x="557" y="2737"/>
                  </a:lnTo>
                  <a:lnTo>
                    <a:pt x="557" y="2749"/>
                  </a:lnTo>
                  <a:lnTo>
                    <a:pt x="553" y="2749"/>
                  </a:lnTo>
                  <a:lnTo>
                    <a:pt x="553" y="2760"/>
                  </a:lnTo>
                  <a:lnTo>
                    <a:pt x="548" y="2760"/>
                  </a:lnTo>
                  <a:lnTo>
                    <a:pt x="548" y="2773"/>
                  </a:lnTo>
                  <a:lnTo>
                    <a:pt x="543" y="2773"/>
                  </a:lnTo>
                  <a:lnTo>
                    <a:pt x="543" y="2790"/>
                  </a:lnTo>
                  <a:lnTo>
                    <a:pt x="539" y="2790"/>
                  </a:lnTo>
                  <a:lnTo>
                    <a:pt x="539" y="2801"/>
                  </a:lnTo>
                  <a:lnTo>
                    <a:pt x="533" y="2801"/>
                  </a:lnTo>
                  <a:lnTo>
                    <a:pt x="533" y="2819"/>
                  </a:lnTo>
                  <a:lnTo>
                    <a:pt x="528" y="2819"/>
                  </a:lnTo>
                  <a:lnTo>
                    <a:pt x="528" y="2831"/>
                  </a:lnTo>
                  <a:lnTo>
                    <a:pt x="523" y="2831"/>
                  </a:lnTo>
                  <a:lnTo>
                    <a:pt x="523" y="2849"/>
                  </a:lnTo>
                  <a:lnTo>
                    <a:pt x="519" y="2849"/>
                  </a:lnTo>
                  <a:lnTo>
                    <a:pt x="519" y="2868"/>
                  </a:lnTo>
                  <a:lnTo>
                    <a:pt x="514" y="2868"/>
                  </a:lnTo>
                  <a:lnTo>
                    <a:pt x="514" y="2884"/>
                  </a:lnTo>
                  <a:lnTo>
                    <a:pt x="509" y="2884"/>
                  </a:lnTo>
                  <a:lnTo>
                    <a:pt x="509" y="2901"/>
                  </a:lnTo>
                  <a:lnTo>
                    <a:pt x="504" y="2901"/>
                  </a:lnTo>
                  <a:lnTo>
                    <a:pt x="504" y="2909"/>
                  </a:lnTo>
                  <a:lnTo>
                    <a:pt x="500" y="2909"/>
                  </a:lnTo>
                  <a:lnTo>
                    <a:pt x="500" y="2926"/>
                  </a:lnTo>
                  <a:lnTo>
                    <a:pt x="495" y="2926"/>
                  </a:lnTo>
                  <a:lnTo>
                    <a:pt x="495" y="2942"/>
                  </a:lnTo>
                  <a:lnTo>
                    <a:pt x="490" y="2942"/>
                  </a:lnTo>
                  <a:lnTo>
                    <a:pt x="490" y="2961"/>
                  </a:lnTo>
                  <a:lnTo>
                    <a:pt x="486" y="2961"/>
                  </a:lnTo>
                  <a:lnTo>
                    <a:pt x="486" y="2979"/>
                  </a:lnTo>
                  <a:lnTo>
                    <a:pt x="480" y="2979"/>
                  </a:lnTo>
                  <a:lnTo>
                    <a:pt x="480" y="2996"/>
                  </a:lnTo>
                  <a:lnTo>
                    <a:pt x="476" y="2996"/>
                  </a:lnTo>
                  <a:lnTo>
                    <a:pt x="476" y="3015"/>
                  </a:lnTo>
                  <a:lnTo>
                    <a:pt x="471" y="3015"/>
                  </a:lnTo>
                  <a:lnTo>
                    <a:pt x="471" y="3032"/>
                  </a:lnTo>
                  <a:lnTo>
                    <a:pt x="467" y="3032"/>
                  </a:lnTo>
                  <a:lnTo>
                    <a:pt x="467" y="3050"/>
                  </a:lnTo>
                  <a:lnTo>
                    <a:pt x="460" y="3050"/>
                  </a:lnTo>
                  <a:lnTo>
                    <a:pt x="460" y="3068"/>
                  </a:lnTo>
                  <a:lnTo>
                    <a:pt x="456" y="3068"/>
                  </a:lnTo>
                  <a:lnTo>
                    <a:pt x="456" y="3078"/>
                  </a:lnTo>
                  <a:lnTo>
                    <a:pt x="452" y="3078"/>
                  </a:lnTo>
                  <a:lnTo>
                    <a:pt x="452" y="3086"/>
                  </a:lnTo>
                  <a:lnTo>
                    <a:pt x="446" y="3086"/>
                  </a:lnTo>
                  <a:lnTo>
                    <a:pt x="446" y="3103"/>
                  </a:lnTo>
                  <a:lnTo>
                    <a:pt x="442" y="3103"/>
                  </a:lnTo>
                  <a:lnTo>
                    <a:pt x="442" y="3115"/>
                  </a:lnTo>
                  <a:lnTo>
                    <a:pt x="437" y="3115"/>
                  </a:lnTo>
                  <a:lnTo>
                    <a:pt x="437" y="3121"/>
                  </a:lnTo>
                  <a:lnTo>
                    <a:pt x="432" y="3121"/>
                  </a:lnTo>
                  <a:lnTo>
                    <a:pt x="432" y="3132"/>
                  </a:lnTo>
                  <a:lnTo>
                    <a:pt x="427" y="3132"/>
                  </a:lnTo>
                  <a:lnTo>
                    <a:pt x="427" y="3138"/>
                  </a:lnTo>
                  <a:lnTo>
                    <a:pt x="423" y="3138"/>
                  </a:lnTo>
                  <a:lnTo>
                    <a:pt x="423" y="3145"/>
                  </a:lnTo>
                  <a:lnTo>
                    <a:pt x="418" y="3145"/>
                  </a:lnTo>
                  <a:lnTo>
                    <a:pt x="418" y="3168"/>
                  </a:lnTo>
                  <a:lnTo>
                    <a:pt x="413" y="3168"/>
                  </a:lnTo>
                  <a:lnTo>
                    <a:pt x="413" y="3186"/>
                  </a:lnTo>
                  <a:lnTo>
                    <a:pt x="409" y="3186"/>
                  </a:lnTo>
                  <a:lnTo>
                    <a:pt x="409" y="3197"/>
                  </a:lnTo>
                  <a:lnTo>
                    <a:pt x="404" y="3197"/>
                  </a:lnTo>
                  <a:lnTo>
                    <a:pt x="404" y="3209"/>
                  </a:lnTo>
                  <a:lnTo>
                    <a:pt x="399" y="3209"/>
                  </a:lnTo>
                  <a:lnTo>
                    <a:pt x="399" y="3222"/>
                  </a:lnTo>
                  <a:lnTo>
                    <a:pt x="394" y="3222"/>
                  </a:lnTo>
                  <a:lnTo>
                    <a:pt x="394" y="3233"/>
                  </a:lnTo>
                  <a:lnTo>
                    <a:pt x="389" y="3233"/>
                  </a:lnTo>
                  <a:lnTo>
                    <a:pt x="389" y="3244"/>
                  </a:lnTo>
                  <a:lnTo>
                    <a:pt x="384" y="3244"/>
                  </a:lnTo>
                  <a:lnTo>
                    <a:pt x="384" y="3256"/>
                  </a:lnTo>
                  <a:lnTo>
                    <a:pt x="379" y="3256"/>
                  </a:lnTo>
                  <a:lnTo>
                    <a:pt x="379" y="3281"/>
                  </a:lnTo>
                  <a:lnTo>
                    <a:pt x="375" y="3281"/>
                  </a:lnTo>
                  <a:lnTo>
                    <a:pt x="375" y="3287"/>
                  </a:lnTo>
                  <a:lnTo>
                    <a:pt x="370" y="3287"/>
                  </a:lnTo>
                  <a:lnTo>
                    <a:pt x="370" y="3316"/>
                  </a:lnTo>
                  <a:lnTo>
                    <a:pt x="365" y="3316"/>
                  </a:lnTo>
                  <a:lnTo>
                    <a:pt x="365" y="3328"/>
                  </a:lnTo>
                  <a:lnTo>
                    <a:pt x="360" y="3328"/>
                  </a:lnTo>
                  <a:lnTo>
                    <a:pt x="360" y="3357"/>
                  </a:lnTo>
                  <a:lnTo>
                    <a:pt x="356" y="3357"/>
                  </a:lnTo>
                  <a:lnTo>
                    <a:pt x="356" y="3374"/>
                  </a:lnTo>
                  <a:lnTo>
                    <a:pt x="350" y="3374"/>
                  </a:lnTo>
                  <a:lnTo>
                    <a:pt x="350" y="3387"/>
                  </a:lnTo>
                  <a:lnTo>
                    <a:pt x="346" y="3387"/>
                  </a:lnTo>
                  <a:lnTo>
                    <a:pt x="346" y="3393"/>
                  </a:lnTo>
                  <a:lnTo>
                    <a:pt x="341" y="3393"/>
                  </a:lnTo>
                  <a:lnTo>
                    <a:pt x="341" y="3399"/>
                  </a:lnTo>
                  <a:lnTo>
                    <a:pt x="336" y="3399"/>
                  </a:lnTo>
                  <a:lnTo>
                    <a:pt x="336" y="3423"/>
                  </a:lnTo>
                  <a:lnTo>
                    <a:pt x="332" y="3423"/>
                  </a:lnTo>
                  <a:lnTo>
                    <a:pt x="332" y="3445"/>
                  </a:lnTo>
                  <a:lnTo>
                    <a:pt x="327" y="3445"/>
                  </a:lnTo>
                  <a:lnTo>
                    <a:pt x="327" y="3452"/>
                  </a:lnTo>
                  <a:lnTo>
                    <a:pt x="323" y="3452"/>
                  </a:lnTo>
                  <a:lnTo>
                    <a:pt x="323" y="3475"/>
                  </a:lnTo>
                  <a:lnTo>
                    <a:pt x="316" y="3475"/>
                  </a:lnTo>
                  <a:lnTo>
                    <a:pt x="316" y="3481"/>
                  </a:lnTo>
                  <a:lnTo>
                    <a:pt x="312" y="3481"/>
                  </a:lnTo>
                  <a:lnTo>
                    <a:pt x="312" y="3493"/>
                  </a:lnTo>
                  <a:lnTo>
                    <a:pt x="307" y="3493"/>
                  </a:lnTo>
                  <a:lnTo>
                    <a:pt x="307" y="3505"/>
                  </a:lnTo>
                  <a:lnTo>
                    <a:pt x="302" y="3505"/>
                  </a:lnTo>
                  <a:lnTo>
                    <a:pt x="302" y="3518"/>
                  </a:lnTo>
                  <a:lnTo>
                    <a:pt x="297" y="3518"/>
                  </a:lnTo>
                  <a:lnTo>
                    <a:pt x="297" y="3546"/>
                  </a:lnTo>
                  <a:lnTo>
                    <a:pt x="293" y="3546"/>
                  </a:lnTo>
                  <a:lnTo>
                    <a:pt x="293" y="3564"/>
                  </a:lnTo>
                  <a:lnTo>
                    <a:pt x="288" y="3564"/>
                  </a:lnTo>
                  <a:lnTo>
                    <a:pt x="288" y="3576"/>
                  </a:lnTo>
                  <a:lnTo>
                    <a:pt x="283" y="3576"/>
                  </a:lnTo>
                  <a:lnTo>
                    <a:pt x="283" y="3594"/>
                  </a:lnTo>
                  <a:lnTo>
                    <a:pt x="279" y="3594"/>
                  </a:lnTo>
                  <a:lnTo>
                    <a:pt x="279" y="3605"/>
                  </a:lnTo>
                  <a:lnTo>
                    <a:pt x="274" y="3605"/>
                  </a:lnTo>
                  <a:lnTo>
                    <a:pt x="274" y="3629"/>
                  </a:lnTo>
                  <a:lnTo>
                    <a:pt x="269" y="3629"/>
                  </a:lnTo>
                  <a:lnTo>
                    <a:pt x="269" y="3641"/>
                  </a:lnTo>
                  <a:lnTo>
                    <a:pt x="264" y="3641"/>
                  </a:lnTo>
                  <a:lnTo>
                    <a:pt x="264" y="3652"/>
                  </a:lnTo>
                  <a:lnTo>
                    <a:pt x="260" y="3652"/>
                  </a:lnTo>
                  <a:lnTo>
                    <a:pt x="260" y="3682"/>
                  </a:lnTo>
                  <a:lnTo>
                    <a:pt x="254" y="3682"/>
                  </a:lnTo>
                  <a:lnTo>
                    <a:pt x="254" y="3695"/>
                  </a:lnTo>
                  <a:lnTo>
                    <a:pt x="250" y="3695"/>
                  </a:lnTo>
                  <a:lnTo>
                    <a:pt x="250" y="3706"/>
                  </a:lnTo>
                  <a:lnTo>
                    <a:pt x="246" y="3706"/>
                  </a:lnTo>
                  <a:lnTo>
                    <a:pt x="246" y="3711"/>
                  </a:lnTo>
                  <a:lnTo>
                    <a:pt x="240" y="3711"/>
                  </a:lnTo>
                  <a:lnTo>
                    <a:pt x="240" y="3717"/>
                  </a:lnTo>
                  <a:lnTo>
                    <a:pt x="235" y="3717"/>
                  </a:lnTo>
                  <a:lnTo>
                    <a:pt x="235" y="3736"/>
                  </a:lnTo>
                  <a:lnTo>
                    <a:pt x="231" y="3736"/>
                  </a:lnTo>
                  <a:lnTo>
                    <a:pt x="231" y="3760"/>
                  </a:lnTo>
                  <a:lnTo>
                    <a:pt x="226" y="3760"/>
                  </a:lnTo>
                  <a:lnTo>
                    <a:pt x="226" y="3777"/>
                  </a:lnTo>
                  <a:lnTo>
                    <a:pt x="221" y="3777"/>
                  </a:lnTo>
                  <a:lnTo>
                    <a:pt x="221" y="3801"/>
                  </a:lnTo>
                  <a:lnTo>
                    <a:pt x="216" y="3801"/>
                  </a:lnTo>
                  <a:lnTo>
                    <a:pt x="216" y="3806"/>
                  </a:lnTo>
                  <a:lnTo>
                    <a:pt x="212" y="3806"/>
                  </a:lnTo>
                  <a:lnTo>
                    <a:pt x="212" y="3823"/>
                  </a:lnTo>
                  <a:lnTo>
                    <a:pt x="206" y="3823"/>
                  </a:lnTo>
                  <a:lnTo>
                    <a:pt x="206" y="3836"/>
                  </a:lnTo>
                  <a:lnTo>
                    <a:pt x="202" y="3836"/>
                  </a:lnTo>
                  <a:lnTo>
                    <a:pt x="202" y="3865"/>
                  </a:lnTo>
                  <a:lnTo>
                    <a:pt x="198" y="3865"/>
                  </a:lnTo>
                  <a:lnTo>
                    <a:pt x="198" y="3877"/>
                  </a:lnTo>
                  <a:lnTo>
                    <a:pt x="192" y="3877"/>
                  </a:lnTo>
                  <a:lnTo>
                    <a:pt x="192" y="3896"/>
                  </a:lnTo>
                  <a:lnTo>
                    <a:pt x="188" y="3896"/>
                  </a:lnTo>
                  <a:lnTo>
                    <a:pt x="188" y="3907"/>
                  </a:lnTo>
                  <a:lnTo>
                    <a:pt x="183" y="3907"/>
                  </a:lnTo>
                  <a:lnTo>
                    <a:pt x="183" y="3924"/>
                  </a:lnTo>
                  <a:lnTo>
                    <a:pt x="179" y="3924"/>
                  </a:lnTo>
                  <a:lnTo>
                    <a:pt x="179" y="3942"/>
                  </a:lnTo>
                  <a:lnTo>
                    <a:pt x="173" y="3942"/>
                  </a:lnTo>
                  <a:lnTo>
                    <a:pt x="173" y="3972"/>
                  </a:lnTo>
                  <a:lnTo>
                    <a:pt x="168" y="3972"/>
                  </a:lnTo>
                  <a:lnTo>
                    <a:pt x="168" y="3989"/>
                  </a:lnTo>
                  <a:lnTo>
                    <a:pt x="163" y="3989"/>
                  </a:lnTo>
                  <a:lnTo>
                    <a:pt x="163" y="4007"/>
                  </a:lnTo>
                  <a:lnTo>
                    <a:pt x="158" y="4007"/>
                  </a:lnTo>
                  <a:lnTo>
                    <a:pt x="158" y="4024"/>
                  </a:lnTo>
                  <a:lnTo>
                    <a:pt x="154" y="4024"/>
                  </a:lnTo>
                  <a:lnTo>
                    <a:pt x="154" y="4042"/>
                  </a:lnTo>
                  <a:lnTo>
                    <a:pt x="149" y="4042"/>
                  </a:lnTo>
                  <a:lnTo>
                    <a:pt x="149" y="4073"/>
                  </a:lnTo>
                  <a:lnTo>
                    <a:pt x="144" y="4073"/>
                  </a:lnTo>
                  <a:lnTo>
                    <a:pt x="144" y="4095"/>
                  </a:lnTo>
                  <a:lnTo>
                    <a:pt x="139" y="4095"/>
                  </a:lnTo>
                  <a:lnTo>
                    <a:pt x="139" y="4114"/>
                  </a:lnTo>
                  <a:lnTo>
                    <a:pt x="135" y="4114"/>
                  </a:lnTo>
                  <a:lnTo>
                    <a:pt x="135" y="4132"/>
                  </a:lnTo>
                  <a:lnTo>
                    <a:pt x="130" y="4132"/>
                  </a:lnTo>
                  <a:lnTo>
                    <a:pt x="130" y="4143"/>
                  </a:lnTo>
                  <a:lnTo>
                    <a:pt x="125" y="4143"/>
                  </a:lnTo>
                  <a:lnTo>
                    <a:pt x="125" y="4155"/>
                  </a:lnTo>
                  <a:lnTo>
                    <a:pt x="120" y="4155"/>
                  </a:lnTo>
                  <a:lnTo>
                    <a:pt x="120" y="4168"/>
                  </a:lnTo>
                  <a:lnTo>
                    <a:pt x="116" y="4168"/>
                  </a:lnTo>
                  <a:lnTo>
                    <a:pt x="116" y="4179"/>
                  </a:lnTo>
                  <a:lnTo>
                    <a:pt x="111" y="4179"/>
                  </a:lnTo>
                  <a:lnTo>
                    <a:pt x="111" y="4197"/>
                  </a:lnTo>
                  <a:lnTo>
                    <a:pt x="106" y="4197"/>
                  </a:lnTo>
                  <a:lnTo>
                    <a:pt x="106" y="4214"/>
                  </a:lnTo>
                  <a:lnTo>
                    <a:pt x="102" y="4214"/>
                  </a:lnTo>
                  <a:lnTo>
                    <a:pt x="102" y="4226"/>
                  </a:lnTo>
                  <a:lnTo>
                    <a:pt x="95" y="4226"/>
                  </a:lnTo>
                  <a:lnTo>
                    <a:pt x="95" y="4238"/>
                  </a:lnTo>
                  <a:lnTo>
                    <a:pt x="91" y="4238"/>
                  </a:lnTo>
                  <a:lnTo>
                    <a:pt x="91" y="4250"/>
                  </a:lnTo>
                  <a:lnTo>
                    <a:pt x="86" y="4250"/>
                  </a:lnTo>
                  <a:lnTo>
                    <a:pt x="86" y="4261"/>
                  </a:lnTo>
                  <a:lnTo>
                    <a:pt x="82" y="4261"/>
                  </a:lnTo>
                  <a:lnTo>
                    <a:pt x="82" y="4279"/>
                  </a:lnTo>
                  <a:lnTo>
                    <a:pt x="77" y="4279"/>
                  </a:lnTo>
                  <a:lnTo>
                    <a:pt x="77" y="4296"/>
                  </a:lnTo>
                  <a:lnTo>
                    <a:pt x="72" y="4296"/>
                  </a:lnTo>
                  <a:lnTo>
                    <a:pt x="72" y="4309"/>
                  </a:lnTo>
                  <a:lnTo>
                    <a:pt x="68" y="4309"/>
                  </a:lnTo>
                  <a:lnTo>
                    <a:pt x="68" y="4328"/>
                  </a:lnTo>
                  <a:lnTo>
                    <a:pt x="62" y="4328"/>
                  </a:lnTo>
                  <a:lnTo>
                    <a:pt x="62" y="4345"/>
                  </a:lnTo>
                  <a:lnTo>
                    <a:pt x="58" y="4345"/>
                  </a:lnTo>
                  <a:lnTo>
                    <a:pt x="58" y="4361"/>
                  </a:lnTo>
                  <a:lnTo>
                    <a:pt x="53" y="4361"/>
                  </a:lnTo>
                  <a:lnTo>
                    <a:pt x="53" y="4386"/>
                  </a:lnTo>
                  <a:lnTo>
                    <a:pt x="48" y="4386"/>
                  </a:lnTo>
                  <a:lnTo>
                    <a:pt x="48" y="4404"/>
                  </a:lnTo>
                  <a:lnTo>
                    <a:pt x="43" y="4404"/>
                  </a:lnTo>
                  <a:lnTo>
                    <a:pt x="43" y="4421"/>
                  </a:lnTo>
                  <a:lnTo>
                    <a:pt x="35" y="4421"/>
                  </a:lnTo>
                  <a:lnTo>
                    <a:pt x="35" y="4427"/>
                  </a:lnTo>
                  <a:lnTo>
                    <a:pt x="29" y="4427"/>
                  </a:lnTo>
                  <a:lnTo>
                    <a:pt x="29" y="4432"/>
                  </a:lnTo>
                  <a:lnTo>
                    <a:pt x="5" y="4432"/>
                  </a:lnTo>
                  <a:lnTo>
                    <a:pt x="5" y="4409"/>
                  </a:lnTo>
                  <a:lnTo>
                    <a:pt x="0" y="4409"/>
                  </a:lnTo>
                  <a:lnTo>
                    <a:pt x="0" y="438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65400" y="1073160"/>
              <a:ext cx="2442960" cy="1684440"/>
            </a:xfrm>
            <a:custGeom>
              <a:avLst/>
              <a:gdLst/>
              <a:ahLst/>
              <a:rect l="l" t="t" r="r" b="b"/>
              <a:pathLst>
                <a:path w="4616" h="4244">
                  <a:moveTo>
                    <a:pt x="0" y="2513"/>
                  </a:moveTo>
                  <a:lnTo>
                    <a:pt x="5" y="2513"/>
                  </a:lnTo>
                  <a:lnTo>
                    <a:pt x="5" y="2505"/>
                  </a:lnTo>
                  <a:lnTo>
                    <a:pt x="10" y="2505"/>
                  </a:lnTo>
                  <a:lnTo>
                    <a:pt x="10" y="2488"/>
                  </a:lnTo>
                  <a:lnTo>
                    <a:pt x="15" y="2488"/>
                  </a:lnTo>
                  <a:lnTo>
                    <a:pt x="15" y="2470"/>
                  </a:lnTo>
                  <a:lnTo>
                    <a:pt x="19" y="2470"/>
                  </a:lnTo>
                  <a:lnTo>
                    <a:pt x="19" y="2459"/>
                  </a:lnTo>
                  <a:lnTo>
                    <a:pt x="24" y="2459"/>
                  </a:lnTo>
                  <a:lnTo>
                    <a:pt x="24" y="2440"/>
                  </a:lnTo>
                  <a:lnTo>
                    <a:pt x="29" y="2440"/>
                  </a:lnTo>
                  <a:lnTo>
                    <a:pt x="29" y="2428"/>
                  </a:lnTo>
                  <a:lnTo>
                    <a:pt x="34" y="2428"/>
                  </a:lnTo>
                  <a:lnTo>
                    <a:pt x="34" y="2418"/>
                  </a:lnTo>
                  <a:lnTo>
                    <a:pt x="39" y="2418"/>
                  </a:lnTo>
                  <a:lnTo>
                    <a:pt x="39" y="2405"/>
                  </a:lnTo>
                  <a:lnTo>
                    <a:pt x="44" y="2405"/>
                  </a:lnTo>
                  <a:lnTo>
                    <a:pt x="44" y="2394"/>
                  </a:lnTo>
                  <a:lnTo>
                    <a:pt x="49" y="2394"/>
                  </a:lnTo>
                  <a:lnTo>
                    <a:pt x="49" y="2369"/>
                  </a:lnTo>
                  <a:lnTo>
                    <a:pt x="53" y="2369"/>
                  </a:lnTo>
                  <a:lnTo>
                    <a:pt x="53" y="2352"/>
                  </a:lnTo>
                  <a:lnTo>
                    <a:pt x="58" y="2352"/>
                  </a:lnTo>
                  <a:lnTo>
                    <a:pt x="58" y="2334"/>
                  </a:lnTo>
                  <a:lnTo>
                    <a:pt x="63" y="2334"/>
                  </a:lnTo>
                  <a:lnTo>
                    <a:pt x="63" y="2317"/>
                  </a:lnTo>
                  <a:lnTo>
                    <a:pt x="67" y="2317"/>
                  </a:lnTo>
                  <a:lnTo>
                    <a:pt x="67" y="2304"/>
                  </a:lnTo>
                  <a:lnTo>
                    <a:pt x="72" y="2304"/>
                  </a:lnTo>
                  <a:lnTo>
                    <a:pt x="72" y="2299"/>
                  </a:lnTo>
                  <a:lnTo>
                    <a:pt x="77" y="2299"/>
                  </a:lnTo>
                  <a:lnTo>
                    <a:pt x="77" y="2281"/>
                  </a:lnTo>
                  <a:lnTo>
                    <a:pt x="82" y="2281"/>
                  </a:lnTo>
                  <a:lnTo>
                    <a:pt x="82" y="2268"/>
                  </a:lnTo>
                  <a:lnTo>
                    <a:pt x="86" y="2268"/>
                  </a:lnTo>
                  <a:lnTo>
                    <a:pt x="86" y="2258"/>
                  </a:lnTo>
                  <a:lnTo>
                    <a:pt x="92" y="2258"/>
                  </a:lnTo>
                  <a:lnTo>
                    <a:pt x="92" y="2246"/>
                  </a:lnTo>
                  <a:lnTo>
                    <a:pt x="96" y="2246"/>
                  </a:lnTo>
                  <a:lnTo>
                    <a:pt x="96" y="2233"/>
                  </a:lnTo>
                  <a:lnTo>
                    <a:pt x="100" y="2233"/>
                  </a:lnTo>
                  <a:lnTo>
                    <a:pt x="100" y="2217"/>
                  </a:lnTo>
                  <a:lnTo>
                    <a:pt x="107" y="2217"/>
                  </a:lnTo>
                  <a:lnTo>
                    <a:pt x="107" y="2192"/>
                  </a:lnTo>
                  <a:lnTo>
                    <a:pt x="111" y="2192"/>
                  </a:lnTo>
                  <a:lnTo>
                    <a:pt x="111" y="2175"/>
                  </a:lnTo>
                  <a:lnTo>
                    <a:pt x="116" y="2175"/>
                  </a:lnTo>
                  <a:lnTo>
                    <a:pt x="116" y="2151"/>
                  </a:lnTo>
                  <a:lnTo>
                    <a:pt x="120" y="2151"/>
                  </a:lnTo>
                  <a:lnTo>
                    <a:pt x="120" y="2133"/>
                  </a:lnTo>
                  <a:lnTo>
                    <a:pt x="126" y="2133"/>
                  </a:lnTo>
                  <a:lnTo>
                    <a:pt x="126" y="2116"/>
                  </a:lnTo>
                  <a:lnTo>
                    <a:pt x="130" y="2116"/>
                  </a:lnTo>
                  <a:lnTo>
                    <a:pt x="130" y="2110"/>
                  </a:lnTo>
                  <a:lnTo>
                    <a:pt x="135" y="2110"/>
                  </a:lnTo>
                  <a:lnTo>
                    <a:pt x="135" y="2074"/>
                  </a:lnTo>
                  <a:lnTo>
                    <a:pt x="140" y="2074"/>
                  </a:lnTo>
                  <a:lnTo>
                    <a:pt x="140" y="2062"/>
                  </a:lnTo>
                  <a:lnTo>
                    <a:pt x="144" y="2062"/>
                  </a:lnTo>
                  <a:lnTo>
                    <a:pt x="144" y="2040"/>
                  </a:lnTo>
                  <a:lnTo>
                    <a:pt x="149" y="2040"/>
                  </a:lnTo>
                  <a:lnTo>
                    <a:pt x="149" y="2032"/>
                  </a:lnTo>
                  <a:lnTo>
                    <a:pt x="154" y="2032"/>
                  </a:lnTo>
                  <a:lnTo>
                    <a:pt x="154" y="2015"/>
                  </a:lnTo>
                  <a:lnTo>
                    <a:pt x="159" y="2015"/>
                  </a:lnTo>
                  <a:lnTo>
                    <a:pt x="159" y="2004"/>
                  </a:lnTo>
                  <a:lnTo>
                    <a:pt x="163" y="2004"/>
                  </a:lnTo>
                  <a:lnTo>
                    <a:pt x="163" y="1991"/>
                  </a:lnTo>
                  <a:lnTo>
                    <a:pt x="168" y="1991"/>
                  </a:lnTo>
                  <a:lnTo>
                    <a:pt x="168" y="1980"/>
                  </a:lnTo>
                  <a:lnTo>
                    <a:pt x="173" y="1980"/>
                  </a:lnTo>
                  <a:lnTo>
                    <a:pt x="173" y="1962"/>
                  </a:lnTo>
                  <a:lnTo>
                    <a:pt x="179" y="1962"/>
                  </a:lnTo>
                  <a:lnTo>
                    <a:pt x="179" y="1945"/>
                  </a:lnTo>
                  <a:lnTo>
                    <a:pt x="183" y="1945"/>
                  </a:lnTo>
                  <a:lnTo>
                    <a:pt x="183" y="1932"/>
                  </a:lnTo>
                  <a:lnTo>
                    <a:pt x="188" y="1932"/>
                  </a:lnTo>
                  <a:lnTo>
                    <a:pt x="188" y="1909"/>
                  </a:lnTo>
                  <a:lnTo>
                    <a:pt x="193" y="1909"/>
                  </a:lnTo>
                  <a:lnTo>
                    <a:pt x="193" y="1896"/>
                  </a:lnTo>
                  <a:lnTo>
                    <a:pt x="197" y="1896"/>
                  </a:lnTo>
                  <a:lnTo>
                    <a:pt x="197" y="1885"/>
                  </a:lnTo>
                  <a:lnTo>
                    <a:pt x="203" y="1885"/>
                  </a:lnTo>
                  <a:lnTo>
                    <a:pt x="203" y="1868"/>
                  </a:lnTo>
                  <a:lnTo>
                    <a:pt x="207" y="1868"/>
                  </a:lnTo>
                  <a:lnTo>
                    <a:pt x="207" y="1855"/>
                  </a:lnTo>
                  <a:lnTo>
                    <a:pt x="212" y="1855"/>
                  </a:lnTo>
                  <a:lnTo>
                    <a:pt x="212" y="1838"/>
                  </a:lnTo>
                  <a:lnTo>
                    <a:pt x="216" y="1838"/>
                  </a:lnTo>
                  <a:lnTo>
                    <a:pt x="216" y="1820"/>
                  </a:lnTo>
                  <a:lnTo>
                    <a:pt x="221" y="1820"/>
                  </a:lnTo>
                  <a:lnTo>
                    <a:pt x="221" y="1809"/>
                  </a:lnTo>
                  <a:lnTo>
                    <a:pt x="226" y="1809"/>
                  </a:lnTo>
                  <a:lnTo>
                    <a:pt x="226" y="1796"/>
                  </a:lnTo>
                  <a:lnTo>
                    <a:pt x="230" y="1796"/>
                  </a:lnTo>
                  <a:lnTo>
                    <a:pt x="230" y="1785"/>
                  </a:lnTo>
                  <a:lnTo>
                    <a:pt x="235" y="1785"/>
                  </a:lnTo>
                  <a:lnTo>
                    <a:pt x="235" y="1773"/>
                  </a:lnTo>
                  <a:lnTo>
                    <a:pt x="240" y="1773"/>
                  </a:lnTo>
                  <a:lnTo>
                    <a:pt x="240" y="1760"/>
                  </a:lnTo>
                  <a:lnTo>
                    <a:pt x="244" y="1760"/>
                  </a:lnTo>
                  <a:lnTo>
                    <a:pt x="244" y="1744"/>
                  </a:lnTo>
                  <a:lnTo>
                    <a:pt x="251" y="1744"/>
                  </a:lnTo>
                  <a:lnTo>
                    <a:pt x="251" y="1727"/>
                  </a:lnTo>
                  <a:lnTo>
                    <a:pt x="255" y="1727"/>
                  </a:lnTo>
                  <a:lnTo>
                    <a:pt x="255" y="1714"/>
                  </a:lnTo>
                  <a:lnTo>
                    <a:pt x="260" y="1714"/>
                  </a:lnTo>
                  <a:lnTo>
                    <a:pt x="260" y="1695"/>
                  </a:lnTo>
                  <a:lnTo>
                    <a:pt x="264" y="1695"/>
                  </a:lnTo>
                  <a:lnTo>
                    <a:pt x="264" y="1685"/>
                  </a:lnTo>
                  <a:lnTo>
                    <a:pt x="270" y="1685"/>
                  </a:lnTo>
                  <a:lnTo>
                    <a:pt x="270" y="1667"/>
                  </a:lnTo>
                  <a:lnTo>
                    <a:pt x="274" y="1667"/>
                  </a:lnTo>
                  <a:lnTo>
                    <a:pt x="274" y="1654"/>
                  </a:lnTo>
                  <a:lnTo>
                    <a:pt x="278" y="1654"/>
                  </a:lnTo>
                  <a:lnTo>
                    <a:pt x="278" y="1637"/>
                  </a:lnTo>
                  <a:lnTo>
                    <a:pt x="284" y="1637"/>
                  </a:lnTo>
                  <a:lnTo>
                    <a:pt x="284" y="1619"/>
                  </a:lnTo>
                  <a:lnTo>
                    <a:pt x="288" y="1619"/>
                  </a:lnTo>
                  <a:lnTo>
                    <a:pt x="288" y="1601"/>
                  </a:lnTo>
                  <a:lnTo>
                    <a:pt x="293" y="1601"/>
                  </a:lnTo>
                  <a:lnTo>
                    <a:pt x="293" y="1583"/>
                  </a:lnTo>
                  <a:lnTo>
                    <a:pt x="298" y="1583"/>
                  </a:lnTo>
                  <a:lnTo>
                    <a:pt x="298" y="1559"/>
                  </a:lnTo>
                  <a:lnTo>
                    <a:pt x="303" y="1559"/>
                  </a:lnTo>
                  <a:lnTo>
                    <a:pt x="303" y="1542"/>
                  </a:lnTo>
                  <a:lnTo>
                    <a:pt x="307" y="1542"/>
                  </a:lnTo>
                  <a:lnTo>
                    <a:pt x="307" y="1524"/>
                  </a:lnTo>
                  <a:lnTo>
                    <a:pt x="312" y="1524"/>
                  </a:lnTo>
                  <a:lnTo>
                    <a:pt x="312" y="1507"/>
                  </a:lnTo>
                  <a:lnTo>
                    <a:pt x="317" y="1507"/>
                  </a:lnTo>
                  <a:lnTo>
                    <a:pt x="317" y="1482"/>
                  </a:lnTo>
                  <a:lnTo>
                    <a:pt x="322" y="1482"/>
                  </a:lnTo>
                  <a:lnTo>
                    <a:pt x="322" y="1472"/>
                  </a:lnTo>
                  <a:lnTo>
                    <a:pt x="327" y="1472"/>
                  </a:lnTo>
                  <a:lnTo>
                    <a:pt x="327" y="1448"/>
                  </a:lnTo>
                  <a:lnTo>
                    <a:pt x="332" y="1448"/>
                  </a:lnTo>
                  <a:lnTo>
                    <a:pt x="332" y="1423"/>
                  </a:lnTo>
                  <a:lnTo>
                    <a:pt x="337" y="1423"/>
                  </a:lnTo>
                  <a:lnTo>
                    <a:pt x="337" y="1412"/>
                  </a:lnTo>
                  <a:lnTo>
                    <a:pt x="341" y="1412"/>
                  </a:lnTo>
                  <a:lnTo>
                    <a:pt x="341" y="1390"/>
                  </a:lnTo>
                  <a:lnTo>
                    <a:pt x="347" y="1390"/>
                  </a:lnTo>
                  <a:lnTo>
                    <a:pt x="347" y="1377"/>
                  </a:lnTo>
                  <a:lnTo>
                    <a:pt x="351" y="1377"/>
                  </a:lnTo>
                  <a:lnTo>
                    <a:pt x="351" y="1353"/>
                  </a:lnTo>
                  <a:lnTo>
                    <a:pt x="356" y="1353"/>
                  </a:lnTo>
                  <a:lnTo>
                    <a:pt x="356" y="1341"/>
                  </a:lnTo>
                  <a:lnTo>
                    <a:pt x="360" y="1341"/>
                  </a:lnTo>
                  <a:lnTo>
                    <a:pt x="360" y="1324"/>
                  </a:lnTo>
                  <a:lnTo>
                    <a:pt x="365" y="1324"/>
                  </a:lnTo>
                  <a:lnTo>
                    <a:pt x="365" y="1306"/>
                  </a:lnTo>
                  <a:lnTo>
                    <a:pt x="370" y="1306"/>
                  </a:lnTo>
                  <a:lnTo>
                    <a:pt x="370" y="1287"/>
                  </a:lnTo>
                  <a:lnTo>
                    <a:pt x="374" y="1287"/>
                  </a:lnTo>
                  <a:lnTo>
                    <a:pt x="374" y="1271"/>
                  </a:lnTo>
                  <a:lnTo>
                    <a:pt x="380" y="1271"/>
                  </a:lnTo>
                  <a:lnTo>
                    <a:pt x="380" y="1259"/>
                  </a:lnTo>
                  <a:lnTo>
                    <a:pt x="384" y="1259"/>
                  </a:lnTo>
                  <a:lnTo>
                    <a:pt x="384" y="1246"/>
                  </a:lnTo>
                  <a:lnTo>
                    <a:pt x="389" y="1246"/>
                  </a:lnTo>
                  <a:lnTo>
                    <a:pt x="389" y="1235"/>
                  </a:lnTo>
                  <a:lnTo>
                    <a:pt x="395" y="1235"/>
                  </a:lnTo>
                  <a:lnTo>
                    <a:pt x="395" y="1217"/>
                  </a:lnTo>
                  <a:lnTo>
                    <a:pt x="400" y="1217"/>
                  </a:lnTo>
                  <a:lnTo>
                    <a:pt x="400" y="1194"/>
                  </a:lnTo>
                  <a:lnTo>
                    <a:pt x="404" y="1194"/>
                  </a:lnTo>
                  <a:lnTo>
                    <a:pt x="404" y="1176"/>
                  </a:lnTo>
                  <a:lnTo>
                    <a:pt x="409" y="1176"/>
                  </a:lnTo>
                  <a:lnTo>
                    <a:pt x="409" y="1164"/>
                  </a:lnTo>
                  <a:lnTo>
                    <a:pt x="414" y="1164"/>
                  </a:lnTo>
                  <a:lnTo>
                    <a:pt x="414" y="1135"/>
                  </a:lnTo>
                  <a:lnTo>
                    <a:pt x="418" y="1135"/>
                  </a:lnTo>
                  <a:lnTo>
                    <a:pt x="418" y="1110"/>
                  </a:lnTo>
                  <a:lnTo>
                    <a:pt x="423" y="1110"/>
                  </a:lnTo>
                  <a:lnTo>
                    <a:pt x="423" y="1094"/>
                  </a:lnTo>
                  <a:lnTo>
                    <a:pt x="428" y="1094"/>
                  </a:lnTo>
                  <a:lnTo>
                    <a:pt x="428" y="1069"/>
                  </a:lnTo>
                  <a:lnTo>
                    <a:pt x="433" y="1069"/>
                  </a:lnTo>
                  <a:lnTo>
                    <a:pt x="433" y="1058"/>
                  </a:lnTo>
                  <a:lnTo>
                    <a:pt x="437" y="1058"/>
                  </a:lnTo>
                  <a:lnTo>
                    <a:pt x="437" y="1045"/>
                  </a:lnTo>
                  <a:lnTo>
                    <a:pt x="442" y="1045"/>
                  </a:lnTo>
                  <a:lnTo>
                    <a:pt x="442" y="1028"/>
                  </a:lnTo>
                  <a:lnTo>
                    <a:pt x="447" y="1028"/>
                  </a:lnTo>
                  <a:lnTo>
                    <a:pt x="447" y="1010"/>
                  </a:lnTo>
                  <a:lnTo>
                    <a:pt x="451" y="1010"/>
                  </a:lnTo>
                  <a:lnTo>
                    <a:pt x="451" y="1004"/>
                  </a:lnTo>
                  <a:lnTo>
                    <a:pt x="456" y="1004"/>
                  </a:lnTo>
                  <a:lnTo>
                    <a:pt x="456" y="987"/>
                  </a:lnTo>
                  <a:lnTo>
                    <a:pt x="461" y="987"/>
                  </a:lnTo>
                  <a:lnTo>
                    <a:pt x="461" y="969"/>
                  </a:lnTo>
                  <a:lnTo>
                    <a:pt x="467" y="969"/>
                  </a:lnTo>
                  <a:lnTo>
                    <a:pt x="467" y="950"/>
                  </a:lnTo>
                  <a:lnTo>
                    <a:pt x="471" y="950"/>
                  </a:lnTo>
                  <a:lnTo>
                    <a:pt x="471" y="945"/>
                  </a:lnTo>
                  <a:lnTo>
                    <a:pt x="477" y="945"/>
                  </a:lnTo>
                  <a:lnTo>
                    <a:pt x="477" y="933"/>
                  </a:lnTo>
                  <a:lnTo>
                    <a:pt x="481" y="933"/>
                  </a:lnTo>
                  <a:lnTo>
                    <a:pt x="481" y="917"/>
                  </a:lnTo>
                  <a:lnTo>
                    <a:pt x="485" y="917"/>
                  </a:lnTo>
                  <a:lnTo>
                    <a:pt x="485" y="904"/>
                  </a:lnTo>
                  <a:lnTo>
                    <a:pt x="491" y="904"/>
                  </a:lnTo>
                  <a:lnTo>
                    <a:pt x="491" y="881"/>
                  </a:lnTo>
                  <a:lnTo>
                    <a:pt x="495" y="881"/>
                  </a:lnTo>
                  <a:lnTo>
                    <a:pt x="495" y="868"/>
                  </a:lnTo>
                  <a:lnTo>
                    <a:pt x="500" y="868"/>
                  </a:lnTo>
                  <a:lnTo>
                    <a:pt x="500" y="851"/>
                  </a:lnTo>
                  <a:lnTo>
                    <a:pt x="504" y="851"/>
                  </a:lnTo>
                  <a:lnTo>
                    <a:pt x="504" y="827"/>
                  </a:lnTo>
                  <a:lnTo>
                    <a:pt x="510" y="827"/>
                  </a:lnTo>
                  <a:lnTo>
                    <a:pt x="510" y="822"/>
                  </a:lnTo>
                  <a:lnTo>
                    <a:pt x="514" y="822"/>
                  </a:lnTo>
                  <a:lnTo>
                    <a:pt x="514" y="803"/>
                  </a:lnTo>
                  <a:lnTo>
                    <a:pt x="519" y="803"/>
                  </a:lnTo>
                  <a:lnTo>
                    <a:pt x="519" y="792"/>
                  </a:lnTo>
                  <a:lnTo>
                    <a:pt x="524" y="792"/>
                  </a:lnTo>
                  <a:lnTo>
                    <a:pt x="524" y="781"/>
                  </a:lnTo>
                  <a:lnTo>
                    <a:pt x="528" y="781"/>
                  </a:lnTo>
                  <a:lnTo>
                    <a:pt x="528" y="768"/>
                  </a:lnTo>
                  <a:lnTo>
                    <a:pt x="533" y="768"/>
                  </a:lnTo>
                  <a:lnTo>
                    <a:pt x="533" y="756"/>
                  </a:lnTo>
                  <a:lnTo>
                    <a:pt x="539" y="756"/>
                  </a:lnTo>
                  <a:lnTo>
                    <a:pt x="539" y="745"/>
                  </a:lnTo>
                  <a:lnTo>
                    <a:pt x="544" y="745"/>
                  </a:lnTo>
                  <a:lnTo>
                    <a:pt x="544" y="740"/>
                  </a:lnTo>
                  <a:lnTo>
                    <a:pt x="548" y="740"/>
                  </a:lnTo>
                  <a:lnTo>
                    <a:pt x="548" y="732"/>
                  </a:lnTo>
                  <a:lnTo>
                    <a:pt x="553" y="732"/>
                  </a:lnTo>
                  <a:lnTo>
                    <a:pt x="553" y="721"/>
                  </a:lnTo>
                  <a:lnTo>
                    <a:pt x="558" y="721"/>
                  </a:lnTo>
                  <a:lnTo>
                    <a:pt x="558" y="708"/>
                  </a:lnTo>
                  <a:lnTo>
                    <a:pt x="563" y="708"/>
                  </a:lnTo>
                  <a:lnTo>
                    <a:pt x="563" y="703"/>
                  </a:lnTo>
                  <a:lnTo>
                    <a:pt x="567" y="703"/>
                  </a:lnTo>
                  <a:lnTo>
                    <a:pt x="567" y="691"/>
                  </a:lnTo>
                  <a:lnTo>
                    <a:pt x="572" y="691"/>
                  </a:lnTo>
                  <a:lnTo>
                    <a:pt x="572" y="680"/>
                  </a:lnTo>
                  <a:lnTo>
                    <a:pt x="576" y="680"/>
                  </a:lnTo>
                  <a:lnTo>
                    <a:pt x="576" y="667"/>
                  </a:lnTo>
                  <a:lnTo>
                    <a:pt x="581" y="667"/>
                  </a:lnTo>
                  <a:lnTo>
                    <a:pt x="581" y="655"/>
                  </a:lnTo>
                  <a:lnTo>
                    <a:pt x="586" y="655"/>
                  </a:lnTo>
                  <a:lnTo>
                    <a:pt x="586" y="645"/>
                  </a:lnTo>
                  <a:lnTo>
                    <a:pt x="591" y="645"/>
                  </a:lnTo>
                  <a:lnTo>
                    <a:pt x="591" y="632"/>
                  </a:lnTo>
                  <a:lnTo>
                    <a:pt x="595" y="632"/>
                  </a:lnTo>
                  <a:lnTo>
                    <a:pt x="595" y="621"/>
                  </a:lnTo>
                  <a:lnTo>
                    <a:pt x="600" y="621"/>
                  </a:lnTo>
                  <a:lnTo>
                    <a:pt x="600" y="609"/>
                  </a:lnTo>
                  <a:lnTo>
                    <a:pt x="605" y="609"/>
                  </a:lnTo>
                  <a:lnTo>
                    <a:pt x="605" y="596"/>
                  </a:lnTo>
                  <a:lnTo>
                    <a:pt x="611" y="596"/>
                  </a:lnTo>
                  <a:lnTo>
                    <a:pt x="611" y="579"/>
                  </a:lnTo>
                  <a:lnTo>
                    <a:pt x="615" y="579"/>
                  </a:lnTo>
                  <a:lnTo>
                    <a:pt x="615" y="567"/>
                  </a:lnTo>
                  <a:lnTo>
                    <a:pt x="620" y="567"/>
                  </a:lnTo>
                  <a:lnTo>
                    <a:pt x="620" y="550"/>
                  </a:lnTo>
                  <a:lnTo>
                    <a:pt x="625" y="550"/>
                  </a:lnTo>
                  <a:lnTo>
                    <a:pt x="625" y="537"/>
                  </a:lnTo>
                  <a:lnTo>
                    <a:pt x="629" y="537"/>
                  </a:lnTo>
                  <a:lnTo>
                    <a:pt x="629" y="531"/>
                  </a:lnTo>
                  <a:lnTo>
                    <a:pt x="635" y="531"/>
                  </a:lnTo>
                  <a:lnTo>
                    <a:pt x="635" y="509"/>
                  </a:lnTo>
                  <a:lnTo>
                    <a:pt x="639" y="509"/>
                  </a:lnTo>
                  <a:lnTo>
                    <a:pt x="639" y="496"/>
                  </a:lnTo>
                  <a:lnTo>
                    <a:pt x="644" y="496"/>
                  </a:lnTo>
                  <a:lnTo>
                    <a:pt x="644" y="485"/>
                  </a:lnTo>
                  <a:lnTo>
                    <a:pt x="648" y="485"/>
                  </a:lnTo>
                  <a:lnTo>
                    <a:pt x="648" y="473"/>
                  </a:lnTo>
                  <a:lnTo>
                    <a:pt x="654" y="473"/>
                  </a:lnTo>
                  <a:lnTo>
                    <a:pt x="654" y="455"/>
                  </a:lnTo>
                  <a:lnTo>
                    <a:pt x="658" y="455"/>
                  </a:lnTo>
                  <a:lnTo>
                    <a:pt x="658" y="449"/>
                  </a:lnTo>
                  <a:lnTo>
                    <a:pt x="662" y="449"/>
                  </a:lnTo>
                  <a:lnTo>
                    <a:pt x="662" y="431"/>
                  </a:lnTo>
                  <a:lnTo>
                    <a:pt x="668" y="431"/>
                  </a:lnTo>
                  <a:lnTo>
                    <a:pt x="668" y="419"/>
                  </a:lnTo>
                  <a:lnTo>
                    <a:pt x="672" y="419"/>
                  </a:lnTo>
                  <a:lnTo>
                    <a:pt x="672" y="408"/>
                  </a:lnTo>
                  <a:lnTo>
                    <a:pt x="677" y="408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3" y="384"/>
                  </a:lnTo>
                  <a:lnTo>
                    <a:pt x="688" y="384"/>
                  </a:lnTo>
                  <a:lnTo>
                    <a:pt x="688" y="373"/>
                  </a:lnTo>
                  <a:lnTo>
                    <a:pt x="692" y="373"/>
                  </a:lnTo>
                  <a:lnTo>
                    <a:pt x="692" y="360"/>
                  </a:lnTo>
                  <a:lnTo>
                    <a:pt x="697" y="360"/>
                  </a:lnTo>
                  <a:lnTo>
                    <a:pt x="697" y="349"/>
                  </a:lnTo>
                  <a:lnTo>
                    <a:pt x="702" y="349"/>
                  </a:lnTo>
                  <a:lnTo>
                    <a:pt x="702" y="341"/>
                  </a:lnTo>
                  <a:lnTo>
                    <a:pt x="706" y="341"/>
                  </a:lnTo>
                  <a:lnTo>
                    <a:pt x="706" y="336"/>
                  </a:lnTo>
                  <a:lnTo>
                    <a:pt x="711" y="336"/>
                  </a:lnTo>
                  <a:lnTo>
                    <a:pt x="711" y="308"/>
                  </a:lnTo>
                  <a:lnTo>
                    <a:pt x="716" y="308"/>
                  </a:lnTo>
                  <a:lnTo>
                    <a:pt x="716" y="300"/>
                  </a:lnTo>
                  <a:lnTo>
                    <a:pt x="721" y="300"/>
                  </a:lnTo>
                  <a:lnTo>
                    <a:pt x="721" y="295"/>
                  </a:lnTo>
                  <a:lnTo>
                    <a:pt x="725" y="295"/>
                  </a:lnTo>
                  <a:lnTo>
                    <a:pt x="725" y="289"/>
                  </a:lnTo>
                  <a:lnTo>
                    <a:pt x="731" y="289"/>
                  </a:lnTo>
                  <a:lnTo>
                    <a:pt x="731" y="272"/>
                  </a:lnTo>
                  <a:lnTo>
                    <a:pt x="735" y="272"/>
                  </a:lnTo>
                  <a:lnTo>
                    <a:pt x="735" y="254"/>
                  </a:lnTo>
                  <a:lnTo>
                    <a:pt x="739" y="254"/>
                  </a:lnTo>
                  <a:lnTo>
                    <a:pt x="739" y="248"/>
                  </a:lnTo>
                  <a:lnTo>
                    <a:pt x="744" y="248"/>
                  </a:lnTo>
                  <a:lnTo>
                    <a:pt x="744" y="235"/>
                  </a:lnTo>
                  <a:lnTo>
                    <a:pt x="749" y="235"/>
                  </a:lnTo>
                  <a:lnTo>
                    <a:pt x="749" y="230"/>
                  </a:lnTo>
                  <a:lnTo>
                    <a:pt x="755" y="230"/>
                  </a:lnTo>
                  <a:lnTo>
                    <a:pt x="755" y="224"/>
                  </a:lnTo>
                  <a:lnTo>
                    <a:pt x="759" y="224"/>
                  </a:lnTo>
                  <a:lnTo>
                    <a:pt x="759" y="213"/>
                  </a:lnTo>
                  <a:lnTo>
                    <a:pt x="765" y="213"/>
                  </a:lnTo>
                  <a:lnTo>
                    <a:pt x="765" y="200"/>
                  </a:lnTo>
                  <a:lnTo>
                    <a:pt x="774" y="200"/>
                  </a:lnTo>
                  <a:lnTo>
                    <a:pt x="774" y="194"/>
                  </a:lnTo>
                  <a:lnTo>
                    <a:pt x="779" y="194"/>
                  </a:lnTo>
                  <a:lnTo>
                    <a:pt x="779" y="182"/>
                  </a:lnTo>
                  <a:lnTo>
                    <a:pt x="783" y="182"/>
                  </a:lnTo>
                  <a:lnTo>
                    <a:pt x="783" y="177"/>
                  </a:lnTo>
                  <a:lnTo>
                    <a:pt x="788" y="177"/>
                  </a:lnTo>
                  <a:lnTo>
                    <a:pt x="788" y="164"/>
                  </a:lnTo>
                  <a:lnTo>
                    <a:pt x="793" y="164"/>
                  </a:lnTo>
                  <a:lnTo>
                    <a:pt x="793" y="159"/>
                  </a:lnTo>
                  <a:lnTo>
                    <a:pt x="798" y="159"/>
                  </a:lnTo>
                  <a:lnTo>
                    <a:pt x="798" y="153"/>
                  </a:lnTo>
                  <a:lnTo>
                    <a:pt x="802" y="153"/>
                  </a:lnTo>
                  <a:lnTo>
                    <a:pt x="802" y="148"/>
                  </a:lnTo>
                  <a:lnTo>
                    <a:pt x="807" y="148"/>
                  </a:lnTo>
                  <a:lnTo>
                    <a:pt x="807" y="141"/>
                  </a:lnTo>
                  <a:lnTo>
                    <a:pt x="812" y="141"/>
                  </a:lnTo>
                  <a:lnTo>
                    <a:pt x="812" y="136"/>
                  </a:lnTo>
                  <a:lnTo>
                    <a:pt x="817" y="136"/>
                  </a:lnTo>
                  <a:lnTo>
                    <a:pt x="817" y="131"/>
                  </a:lnTo>
                  <a:lnTo>
                    <a:pt x="821" y="131"/>
                  </a:lnTo>
                  <a:lnTo>
                    <a:pt x="821" y="123"/>
                  </a:lnTo>
                  <a:lnTo>
                    <a:pt x="827" y="123"/>
                  </a:lnTo>
                  <a:lnTo>
                    <a:pt x="827" y="118"/>
                  </a:lnTo>
                  <a:lnTo>
                    <a:pt x="836" y="118"/>
                  </a:lnTo>
                  <a:lnTo>
                    <a:pt x="836" y="106"/>
                  </a:lnTo>
                  <a:lnTo>
                    <a:pt x="841" y="106"/>
                  </a:lnTo>
                  <a:lnTo>
                    <a:pt x="841" y="94"/>
                  </a:lnTo>
                  <a:lnTo>
                    <a:pt x="851" y="94"/>
                  </a:lnTo>
                  <a:lnTo>
                    <a:pt x="851" y="88"/>
                  </a:lnTo>
                  <a:lnTo>
                    <a:pt x="855" y="88"/>
                  </a:lnTo>
                  <a:lnTo>
                    <a:pt x="855" y="82"/>
                  </a:lnTo>
                  <a:lnTo>
                    <a:pt x="861" y="82"/>
                  </a:lnTo>
                  <a:lnTo>
                    <a:pt x="861" y="77"/>
                  </a:lnTo>
                  <a:lnTo>
                    <a:pt x="869" y="77"/>
                  </a:lnTo>
                  <a:lnTo>
                    <a:pt x="869" y="71"/>
                  </a:lnTo>
                  <a:lnTo>
                    <a:pt x="875" y="71"/>
                  </a:lnTo>
                  <a:lnTo>
                    <a:pt x="875" y="64"/>
                  </a:lnTo>
                  <a:lnTo>
                    <a:pt x="879" y="64"/>
                  </a:lnTo>
                  <a:lnTo>
                    <a:pt x="879" y="59"/>
                  </a:lnTo>
                  <a:lnTo>
                    <a:pt x="894" y="59"/>
                  </a:lnTo>
                  <a:lnTo>
                    <a:pt x="894" y="53"/>
                  </a:lnTo>
                  <a:lnTo>
                    <a:pt x="898" y="53"/>
                  </a:lnTo>
                  <a:lnTo>
                    <a:pt x="898" y="47"/>
                  </a:lnTo>
                  <a:lnTo>
                    <a:pt x="904" y="47"/>
                  </a:lnTo>
                  <a:lnTo>
                    <a:pt x="904" y="30"/>
                  </a:lnTo>
                  <a:lnTo>
                    <a:pt x="917" y="30"/>
                  </a:lnTo>
                  <a:lnTo>
                    <a:pt x="917" y="23"/>
                  </a:lnTo>
                  <a:lnTo>
                    <a:pt x="923" y="23"/>
                  </a:lnTo>
                  <a:lnTo>
                    <a:pt x="923" y="17"/>
                  </a:lnTo>
                  <a:lnTo>
                    <a:pt x="932" y="17"/>
                  </a:lnTo>
                  <a:lnTo>
                    <a:pt x="932" y="23"/>
                  </a:lnTo>
                  <a:lnTo>
                    <a:pt x="942" y="23"/>
                  </a:lnTo>
                  <a:lnTo>
                    <a:pt x="942" y="17"/>
                  </a:lnTo>
                  <a:lnTo>
                    <a:pt x="956" y="17"/>
                  </a:lnTo>
                  <a:lnTo>
                    <a:pt x="956" y="12"/>
                  </a:lnTo>
                  <a:lnTo>
                    <a:pt x="995" y="12"/>
                  </a:lnTo>
                  <a:lnTo>
                    <a:pt x="995" y="6"/>
                  </a:lnTo>
                  <a:lnTo>
                    <a:pt x="1013" y="6"/>
                  </a:lnTo>
                  <a:lnTo>
                    <a:pt x="1013" y="0"/>
                  </a:lnTo>
                  <a:lnTo>
                    <a:pt x="1038" y="0"/>
                  </a:lnTo>
                  <a:lnTo>
                    <a:pt x="1038" y="6"/>
                  </a:lnTo>
                  <a:lnTo>
                    <a:pt x="1047" y="6"/>
                  </a:lnTo>
                  <a:lnTo>
                    <a:pt x="1047" y="12"/>
                  </a:lnTo>
                  <a:lnTo>
                    <a:pt x="1053" y="12"/>
                  </a:lnTo>
                  <a:lnTo>
                    <a:pt x="1053" y="17"/>
                  </a:lnTo>
                  <a:lnTo>
                    <a:pt x="1072" y="17"/>
                  </a:lnTo>
                  <a:lnTo>
                    <a:pt x="1072" y="23"/>
                  </a:lnTo>
                  <a:lnTo>
                    <a:pt x="1105" y="23"/>
                  </a:lnTo>
                  <a:lnTo>
                    <a:pt x="1105" y="30"/>
                  </a:lnTo>
                  <a:lnTo>
                    <a:pt x="1186" y="30"/>
                  </a:lnTo>
                  <a:lnTo>
                    <a:pt x="1186" y="36"/>
                  </a:lnTo>
                  <a:lnTo>
                    <a:pt x="1211" y="36"/>
                  </a:lnTo>
                  <a:lnTo>
                    <a:pt x="1211" y="41"/>
                  </a:lnTo>
                  <a:lnTo>
                    <a:pt x="1245" y="41"/>
                  </a:lnTo>
                  <a:lnTo>
                    <a:pt x="1245" y="47"/>
                  </a:lnTo>
                  <a:lnTo>
                    <a:pt x="1278" y="47"/>
                  </a:lnTo>
                  <a:lnTo>
                    <a:pt x="1278" y="53"/>
                  </a:lnTo>
                  <a:lnTo>
                    <a:pt x="1301" y="53"/>
                  </a:lnTo>
                  <a:lnTo>
                    <a:pt x="1301" y="59"/>
                  </a:lnTo>
                  <a:lnTo>
                    <a:pt x="1350" y="59"/>
                  </a:lnTo>
                  <a:lnTo>
                    <a:pt x="1350" y="64"/>
                  </a:lnTo>
                  <a:lnTo>
                    <a:pt x="1388" y="64"/>
                  </a:lnTo>
                  <a:lnTo>
                    <a:pt x="1388" y="71"/>
                  </a:lnTo>
                  <a:lnTo>
                    <a:pt x="1403" y="71"/>
                  </a:lnTo>
                  <a:lnTo>
                    <a:pt x="1403" y="77"/>
                  </a:lnTo>
                  <a:lnTo>
                    <a:pt x="1413" y="77"/>
                  </a:lnTo>
                  <a:lnTo>
                    <a:pt x="1413" y="82"/>
                  </a:lnTo>
                  <a:lnTo>
                    <a:pt x="1427" y="82"/>
                  </a:lnTo>
                  <a:lnTo>
                    <a:pt x="1427" y="88"/>
                  </a:lnTo>
                  <a:lnTo>
                    <a:pt x="1490" y="88"/>
                  </a:lnTo>
                  <a:lnTo>
                    <a:pt x="1490" y="94"/>
                  </a:lnTo>
                  <a:lnTo>
                    <a:pt x="1494" y="94"/>
                  </a:lnTo>
                  <a:lnTo>
                    <a:pt x="1494" y="101"/>
                  </a:lnTo>
                  <a:lnTo>
                    <a:pt x="1513" y="101"/>
                  </a:lnTo>
                  <a:lnTo>
                    <a:pt x="1513" y="106"/>
                  </a:lnTo>
                  <a:lnTo>
                    <a:pt x="1537" y="106"/>
                  </a:lnTo>
                  <a:lnTo>
                    <a:pt x="1537" y="113"/>
                  </a:lnTo>
                  <a:lnTo>
                    <a:pt x="1562" y="113"/>
                  </a:lnTo>
                  <a:lnTo>
                    <a:pt x="1562" y="118"/>
                  </a:lnTo>
                  <a:lnTo>
                    <a:pt x="1576" y="118"/>
                  </a:lnTo>
                  <a:lnTo>
                    <a:pt x="1576" y="123"/>
                  </a:lnTo>
                  <a:lnTo>
                    <a:pt x="1614" y="123"/>
                  </a:lnTo>
                  <a:lnTo>
                    <a:pt x="1614" y="131"/>
                  </a:lnTo>
                  <a:lnTo>
                    <a:pt x="1624" y="131"/>
                  </a:lnTo>
                  <a:lnTo>
                    <a:pt x="1624" y="136"/>
                  </a:lnTo>
                  <a:lnTo>
                    <a:pt x="1652" y="136"/>
                  </a:lnTo>
                  <a:lnTo>
                    <a:pt x="1652" y="141"/>
                  </a:lnTo>
                  <a:lnTo>
                    <a:pt x="1677" y="141"/>
                  </a:lnTo>
                  <a:lnTo>
                    <a:pt x="1677" y="148"/>
                  </a:lnTo>
                  <a:lnTo>
                    <a:pt x="1691" y="148"/>
                  </a:lnTo>
                  <a:lnTo>
                    <a:pt x="1691" y="153"/>
                  </a:lnTo>
                  <a:lnTo>
                    <a:pt x="1706" y="153"/>
                  </a:lnTo>
                  <a:lnTo>
                    <a:pt x="1706" y="159"/>
                  </a:lnTo>
                  <a:lnTo>
                    <a:pt x="1729" y="159"/>
                  </a:lnTo>
                  <a:lnTo>
                    <a:pt x="1729" y="164"/>
                  </a:lnTo>
                  <a:lnTo>
                    <a:pt x="1748" y="164"/>
                  </a:lnTo>
                  <a:lnTo>
                    <a:pt x="1748" y="172"/>
                  </a:lnTo>
                  <a:lnTo>
                    <a:pt x="1762" y="172"/>
                  </a:lnTo>
                  <a:lnTo>
                    <a:pt x="1762" y="177"/>
                  </a:lnTo>
                  <a:lnTo>
                    <a:pt x="1788" y="177"/>
                  </a:lnTo>
                  <a:lnTo>
                    <a:pt x="1788" y="182"/>
                  </a:lnTo>
                  <a:lnTo>
                    <a:pt x="1801" y="182"/>
                  </a:lnTo>
                  <a:lnTo>
                    <a:pt x="1801" y="189"/>
                  </a:lnTo>
                  <a:lnTo>
                    <a:pt x="1830" y="189"/>
                  </a:lnTo>
                  <a:lnTo>
                    <a:pt x="1830" y="194"/>
                  </a:lnTo>
                  <a:lnTo>
                    <a:pt x="1841" y="194"/>
                  </a:lnTo>
                  <a:lnTo>
                    <a:pt x="1841" y="200"/>
                  </a:lnTo>
                  <a:lnTo>
                    <a:pt x="1859" y="200"/>
                  </a:lnTo>
                  <a:lnTo>
                    <a:pt x="1859" y="207"/>
                  </a:lnTo>
                  <a:lnTo>
                    <a:pt x="1869" y="207"/>
                  </a:lnTo>
                  <a:lnTo>
                    <a:pt x="1869" y="213"/>
                  </a:lnTo>
                  <a:lnTo>
                    <a:pt x="1888" y="213"/>
                  </a:lnTo>
                  <a:lnTo>
                    <a:pt x="1888" y="218"/>
                  </a:lnTo>
                  <a:lnTo>
                    <a:pt x="1902" y="218"/>
                  </a:lnTo>
                  <a:lnTo>
                    <a:pt x="1902" y="224"/>
                  </a:lnTo>
                  <a:lnTo>
                    <a:pt x="1918" y="224"/>
                  </a:lnTo>
                  <a:lnTo>
                    <a:pt x="1918" y="230"/>
                  </a:lnTo>
                  <a:lnTo>
                    <a:pt x="1932" y="230"/>
                  </a:lnTo>
                  <a:lnTo>
                    <a:pt x="1932" y="235"/>
                  </a:lnTo>
                  <a:lnTo>
                    <a:pt x="1950" y="235"/>
                  </a:lnTo>
                  <a:lnTo>
                    <a:pt x="1950" y="242"/>
                  </a:lnTo>
                  <a:lnTo>
                    <a:pt x="1959" y="242"/>
                  </a:lnTo>
                  <a:lnTo>
                    <a:pt x="1959" y="248"/>
                  </a:lnTo>
                  <a:lnTo>
                    <a:pt x="1979" y="248"/>
                  </a:lnTo>
                  <a:lnTo>
                    <a:pt x="1979" y="254"/>
                  </a:lnTo>
                  <a:lnTo>
                    <a:pt x="1994" y="254"/>
                  </a:lnTo>
                  <a:lnTo>
                    <a:pt x="1994" y="259"/>
                  </a:lnTo>
                  <a:lnTo>
                    <a:pt x="2003" y="259"/>
                  </a:lnTo>
                  <a:lnTo>
                    <a:pt x="2003" y="267"/>
                  </a:lnTo>
                  <a:lnTo>
                    <a:pt x="2027" y="267"/>
                  </a:lnTo>
                  <a:lnTo>
                    <a:pt x="2027" y="272"/>
                  </a:lnTo>
                  <a:lnTo>
                    <a:pt x="2036" y="272"/>
                  </a:lnTo>
                  <a:lnTo>
                    <a:pt x="2036" y="278"/>
                  </a:lnTo>
                  <a:lnTo>
                    <a:pt x="2066" y="278"/>
                  </a:lnTo>
                  <a:lnTo>
                    <a:pt x="2066" y="283"/>
                  </a:lnTo>
                  <a:lnTo>
                    <a:pt x="2085" y="283"/>
                  </a:lnTo>
                  <a:lnTo>
                    <a:pt x="2085" y="289"/>
                  </a:lnTo>
                  <a:lnTo>
                    <a:pt x="2103" y="289"/>
                  </a:lnTo>
                  <a:lnTo>
                    <a:pt x="2103" y="295"/>
                  </a:lnTo>
                  <a:lnTo>
                    <a:pt x="2118" y="295"/>
                  </a:lnTo>
                  <a:lnTo>
                    <a:pt x="2118" y="300"/>
                  </a:lnTo>
                  <a:lnTo>
                    <a:pt x="2143" y="300"/>
                  </a:lnTo>
                  <a:lnTo>
                    <a:pt x="2143" y="308"/>
                  </a:lnTo>
                  <a:lnTo>
                    <a:pt x="2162" y="308"/>
                  </a:lnTo>
                  <a:lnTo>
                    <a:pt x="2162" y="313"/>
                  </a:lnTo>
                  <a:lnTo>
                    <a:pt x="2181" y="313"/>
                  </a:lnTo>
                  <a:lnTo>
                    <a:pt x="2181" y="319"/>
                  </a:lnTo>
                  <a:lnTo>
                    <a:pt x="2195" y="319"/>
                  </a:lnTo>
                  <a:lnTo>
                    <a:pt x="2195" y="325"/>
                  </a:lnTo>
                  <a:lnTo>
                    <a:pt x="2206" y="325"/>
                  </a:lnTo>
                  <a:lnTo>
                    <a:pt x="2206" y="330"/>
                  </a:lnTo>
                  <a:lnTo>
                    <a:pt x="2225" y="330"/>
                  </a:lnTo>
                  <a:lnTo>
                    <a:pt x="2225" y="336"/>
                  </a:lnTo>
                  <a:lnTo>
                    <a:pt x="2239" y="336"/>
                  </a:lnTo>
                  <a:lnTo>
                    <a:pt x="2239" y="341"/>
                  </a:lnTo>
                  <a:lnTo>
                    <a:pt x="2248" y="341"/>
                  </a:lnTo>
                  <a:lnTo>
                    <a:pt x="2248" y="349"/>
                  </a:lnTo>
                  <a:lnTo>
                    <a:pt x="2268" y="349"/>
                  </a:lnTo>
                  <a:lnTo>
                    <a:pt x="2268" y="354"/>
                  </a:lnTo>
                  <a:lnTo>
                    <a:pt x="2282" y="354"/>
                  </a:lnTo>
                  <a:lnTo>
                    <a:pt x="2282" y="360"/>
                  </a:lnTo>
                  <a:lnTo>
                    <a:pt x="2291" y="360"/>
                  </a:lnTo>
                  <a:lnTo>
                    <a:pt x="2291" y="366"/>
                  </a:lnTo>
                  <a:lnTo>
                    <a:pt x="2306" y="366"/>
                  </a:lnTo>
                  <a:lnTo>
                    <a:pt x="2306" y="373"/>
                  </a:lnTo>
                  <a:lnTo>
                    <a:pt x="2310" y="373"/>
                  </a:lnTo>
                  <a:lnTo>
                    <a:pt x="2310" y="378"/>
                  </a:lnTo>
                  <a:lnTo>
                    <a:pt x="2320" y="378"/>
                  </a:lnTo>
                  <a:lnTo>
                    <a:pt x="2320" y="384"/>
                  </a:lnTo>
                  <a:lnTo>
                    <a:pt x="2330" y="384"/>
                  </a:lnTo>
                  <a:lnTo>
                    <a:pt x="2330" y="390"/>
                  </a:lnTo>
                  <a:lnTo>
                    <a:pt x="2339" y="390"/>
                  </a:lnTo>
                  <a:lnTo>
                    <a:pt x="2339" y="395"/>
                  </a:lnTo>
                  <a:lnTo>
                    <a:pt x="2354" y="395"/>
                  </a:lnTo>
                  <a:lnTo>
                    <a:pt x="2354" y="401"/>
                  </a:lnTo>
                  <a:lnTo>
                    <a:pt x="2373" y="401"/>
                  </a:lnTo>
                  <a:lnTo>
                    <a:pt x="2373" y="408"/>
                  </a:lnTo>
                  <a:lnTo>
                    <a:pt x="2383" y="408"/>
                  </a:lnTo>
                  <a:lnTo>
                    <a:pt x="2383" y="414"/>
                  </a:lnTo>
                  <a:lnTo>
                    <a:pt x="2397" y="414"/>
                  </a:lnTo>
                  <a:lnTo>
                    <a:pt x="2397" y="419"/>
                  </a:lnTo>
                  <a:lnTo>
                    <a:pt x="2421" y="419"/>
                  </a:lnTo>
                  <a:lnTo>
                    <a:pt x="2421" y="426"/>
                  </a:lnTo>
                  <a:lnTo>
                    <a:pt x="2440" y="426"/>
                  </a:lnTo>
                  <a:lnTo>
                    <a:pt x="2440" y="431"/>
                  </a:lnTo>
                  <a:lnTo>
                    <a:pt x="2450" y="431"/>
                  </a:lnTo>
                  <a:lnTo>
                    <a:pt x="2450" y="436"/>
                  </a:lnTo>
                  <a:lnTo>
                    <a:pt x="2460" y="436"/>
                  </a:lnTo>
                  <a:lnTo>
                    <a:pt x="2460" y="444"/>
                  </a:lnTo>
                  <a:lnTo>
                    <a:pt x="2479" y="444"/>
                  </a:lnTo>
                  <a:lnTo>
                    <a:pt x="2479" y="449"/>
                  </a:lnTo>
                  <a:lnTo>
                    <a:pt x="2498" y="449"/>
                  </a:lnTo>
                  <a:lnTo>
                    <a:pt x="2498" y="455"/>
                  </a:lnTo>
                  <a:lnTo>
                    <a:pt x="2513" y="455"/>
                  </a:lnTo>
                  <a:lnTo>
                    <a:pt x="2513" y="460"/>
                  </a:lnTo>
                  <a:lnTo>
                    <a:pt x="2531" y="460"/>
                  </a:lnTo>
                  <a:lnTo>
                    <a:pt x="2531" y="468"/>
                  </a:lnTo>
                  <a:lnTo>
                    <a:pt x="2546" y="468"/>
                  </a:lnTo>
                  <a:lnTo>
                    <a:pt x="2546" y="473"/>
                  </a:lnTo>
                  <a:lnTo>
                    <a:pt x="2560" y="473"/>
                  </a:lnTo>
                  <a:lnTo>
                    <a:pt x="2560" y="479"/>
                  </a:lnTo>
                  <a:lnTo>
                    <a:pt x="2575" y="479"/>
                  </a:lnTo>
                  <a:lnTo>
                    <a:pt x="2575" y="485"/>
                  </a:lnTo>
                  <a:lnTo>
                    <a:pt x="2599" y="485"/>
                  </a:lnTo>
                  <a:lnTo>
                    <a:pt x="2599" y="490"/>
                  </a:lnTo>
                  <a:lnTo>
                    <a:pt x="2613" y="490"/>
                  </a:lnTo>
                  <a:lnTo>
                    <a:pt x="2613" y="496"/>
                  </a:lnTo>
                  <a:lnTo>
                    <a:pt x="2631" y="496"/>
                  </a:lnTo>
                  <a:lnTo>
                    <a:pt x="2631" y="502"/>
                  </a:lnTo>
                  <a:lnTo>
                    <a:pt x="2647" y="502"/>
                  </a:lnTo>
                  <a:lnTo>
                    <a:pt x="2647" y="509"/>
                  </a:lnTo>
                  <a:lnTo>
                    <a:pt x="2661" y="509"/>
                  </a:lnTo>
                  <a:lnTo>
                    <a:pt x="2661" y="514"/>
                  </a:lnTo>
                  <a:lnTo>
                    <a:pt x="2680" y="514"/>
                  </a:lnTo>
                  <a:lnTo>
                    <a:pt x="2680" y="520"/>
                  </a:lnTo>
                  <a:lnTo>
                    <a:pt x="2700" y="520"/>
                  </a:lnTo>
                  <a:lnTo>
                    <a:pt x="2700" y="526"/>
                  </a:lnTo>
                  <a:lnTo>
                    <a:pt x="2719" y="526"/>
                  </a:lnTo>
                  <a:lnTo>
                    <a:pt x="2719" y="531"/>
                  </a:lnTo>
                  <a:lnTo>
                    <a:pt x="2734" y="531"/>
                  </a:lnTo>
                  <a:lnTo>
                    <a:pt x="2734" y="537"/>
                  </a:lnTo>
                  <a:lnTo>
                    <a:pt x="2752" y="537"/>
                  </a:lnTo>
                  <a:lnTo>
                    <a:pt x="2752" y="544"/>
                  </a:lnTo>
                  <a:lnTo>
                    <a:pt x="2767" y="544"/>
                  </a:lnTo>
                  <a:lnTo>
                    <a:pt x="2767" y="550"/>
                  </a:lnTo>
                  <a:lnTo>
                    <a:pt x="2781" y="550"/>
                  </a:lnTo>
                  <a:lnTo>
                    <a:pt x="2781" y="555"/>
                  </a:lnTo>
                  <a:lnTo>
                    <a:pt x="2801" y="555"/>
                  </a:lnTo>
                  <a:lnTo>
                    <a:pt x="2801" y="561"/>
                  </a:lnTo>
                  <a:lnTo>
                    <a:pt x="2824" y="561"/>
                  </a:lnTo>
                  <a:lnTo>
                    <a:pt x="2824" y="567"/>
                  </a:lnTo>
                  <a:lnTo>
                    <a:pt x="2844" y="567"/>
                  </a:lnTo>
                  <a:lnTo>
                    <a:pt x="2844" y="572"/>
                  </a:lnTo>
                  <a:lnTo>
                    <a:pt x="2868" y="572"/>
                  </a:lnTo>
                  <a:lnTo>
                    <a:pt x="2868" y="579"/>
                  </a:lnTo>
                  <a:lnTo>
                    <a:pt x="2887" y="579"/>
                  </a:lnTo>
                  <a:lnTo>
                    <a:pt x="2887" y="585"/>
                  </a:lnTo>
                  <a:lnTo>
                    <a:pt x="2911" y="585"/>
                  </a:lnTo>
                  <a:lnTo>
                    <a:pt x="2911" y="591"/>
                  </a:lnTo>
                  <a:lnTo>
                    <a:pt x="2931" y="591"/>
                  </a:lnTo>
                  <a:lnTo>
                    <a:pt x="2931" y="596"/>
                  </a:lnTo>
                  <a:lnTo>
                    <a:pt x="2959" y="596"/>
                  </a:lnTo>
                  <a:lnTo>
                    <a:pt x="2959" y="602"/>
                  </a:lnTo>
                  <a:lnTo>
                    <a:pt x="2997" y="602"/>
                  </a:lnTo>
                  <a:lnTo>
                    <a:pt x="2997" y="609"/>
                  </a:lnTo>
                  <a:lnTo>
                    <a:pt x="3026" y="609"/>
                  </a:lnTo>
                  <a:lnTo>
                    <a:pt x="3026" y="614"/>
                  </a:lnTo>
                  <a:lnTo>
                    <a:pt x="3041" y="614"/>
                  </a:lnTo>
                  <a:lnTo>
                    <a:pt x="3041" y="621"/>
                  </a:lnTo>
                  <a:lnTo>
                    <a:pt x="3059" y="621"/>
                  </a:lnTo>
                  <a:lnTo>
                    <a:pt x="3059" y="626"/>
                  </a:lnTo>
                  <a:lnTo>
                    <a:pt x="3069" y="626"/>
                  </a:lnTo>
                  <a:lnTo>
                    <a:pt x="3069" y="632"/>
                  </a:lnTo>
                  <a:lnTo>
                    <a:pt x="3098" y="632"/>
                  </a:lnTo>
                  <a:lnTo>
                    <a:pt x="3098" y="637"/>
                  </a:lnTo>
                  <a:lnTo>
                    <a:pt x="3112" y="637"/>
                  </a:lnTo>
                  <a:lnTo>
                    <a:pt x="3112" y="645"/>
                  </a:lnTo>
                  <a:lnTo>
                    <a:pt x="3126" y="645"/>
                  </a:lnTo>
                  <a:lnTo>
                    <a:pt x="3126" y="650"/>
                  </a:lnTo>
                  <a:lnTo>
                    <a:pt x="3147" y="650"/>
                  </a:lnTo>
                  <a:lnTo>
                    <a:pt x="3147" y="655"/>
                  </a:lnTo>
                  <a:lnTo>
                    <a:pt x="3161" y="655"/>
                  </a:lnTo>
                  <a:lnTo>
                    <a:pt x="3161" y="662"/>
                  </a:lnTo>
                  <a:lnTo>
                    <a:pt x="3180" y="662"/>
                  </a:lnTo>
                  <a:lnTo>
                    <a:pt x="3180" y="667"/>
                  </a:lnTo>
                  <a:lnTo>
                    <a:pt x="3199" y="667"/>
                  </a:lnTo>
                  <a:lnTo>
                    <a:pt x="3199" y="673"/>
                  </a:lnTo>
                  <a:lnTo>
                    <a:pt x="3219" y="673"/>
                  </a:lnTo>
                  <a:lnTo>
                    <a:pt x="3219" y="680"/>
                  </a:lnTo>
                  <a:lnTo>
                    <a:pt x="3238" y="680"/>
                  </a:lnTo>
                  <a:lnTo>
                    <a:pt x="3238" y="686"/>
                  </a:lnTo>
                  <a:lnTo>
                    <a:pt x="3256" y="686"/>
                  </a:lnTo>
                  <a:lnTo>
                    <a:pt x="3256" y="691"/>
                  </a:lnTo>
                  <a:lnTo>
                    <a:pt x="3285" y="691"/>
                  </a:lnTo>
                  <a:lnTo>
                    <a:pt x="3285" y="697"/>
                  </a:lnTo>
                  <a:lnTo>
                    <a:pt x="3305" y="697"/>
                  </a:lnTo>
                  <a:lnTo>
                    <a:pt x="3305" y="703"/>
                  </a:lnTo>
                  <a:lnTo>
                    <a:pt x="3319" y="703"/>
                  </a:lnTo>
                  <a:lnTo>
                    <a:pt x="3319" y="708"/>
                  </a:lnTo>
                  <a:lnTo>
                    <a:pt x="3338" y="708"/>
                  </a:lnTo>
                  <a:lnTo>
                    <a:pt x="3338" y="715"/>
                  </a:lnTo>
                  <a:lnTo>
                    <a:pt x="3367" y="715"/>
                  </a:lnTo>
                  <a:lnTo>
                    <a:pt x="3367" y="721"/>
                  </a:lnTo>
                  <a:lnTo>
                    <a:pt x="3382" y="721"/>
                  </a:lnTo>
                  <a:lnTo>
                    <a:pt x="3382" y="727"/>
                  </a:lnTo>
                  <a:lnTo>
                    <a:pt x="3387" y="727"/>
                  </a:lnTo>
                  <a:lnTo>
                    <a:pt x="3387" y="732"/>
                  </a:lnTo>
                  <a:lnTo>
                    <a:pt x="3396" y="732"/>
                  </a:lnTo>
                  <a:lnTo>
                    <a:pt x="3396" y="740"/>
                  </a:lnTo>
                  <a:lnTo>
                    <a:pt x="3406" y="740"/>
                  </a:lnTo>
                  <a:lnTo>
                    <a:pt x="3406" y="745"/>
                  </a:lnTo>
                  <a:lnTo>
                    <a:pt x="3415" y="745"/>
                  </a:lnTo>
                  <a:lnTo>
                    <a:pt x="3415" y="750"/>
                  </a:lnTo>
                  <a:lnTo>
                    <a:pt x="3429" y="750"/>
                  </a:lnTo>
                  <a:lnTo>
                    <a:pt x="3429" y="756"/>
                  </a:lnTo>
                  <a:lnTo>
                    <a:pt x="3444" y="756"/>
                  </a:lnTo>
                  <a:lnTo>
                    <a:pt x="3444" y="762"/>
                  </a:lnTo>
                  <a:lnTo>
                    <a:pt x="3463" y="762"/>
                  </a:lnTo>
                  <a:lnTo>
                    <a:pt x="3463" y="768"/>
                  </a:lnTo>
                  <a:lnTo>
                    <a:pt x="3473" y="768"/>
                  </a:lnTo>
                  <a:lnTo>
                    <a:pt x="3473" y="773"/>
                  </a:lnTo>
                  <a:lnTo>
                    <a:pt x="3482" y="773"/>
                  </a:lnTo>
                  <a:lnTo>
                    <a:pt x="3482" y="781"/>
                  </a:lnTo>
                  <a:lnTo>
                    <a:pt x="3507" y="781"/>
                  </a:lnTo>
                  <a:lnTo>
                    <a:pt x="3507" y="786"/>
                  </a:lnTo>
                  <a:lnTo>
                    <a:pt x="3526" y="786"/>
                  </a:lnTo>
                  <a:lnTo>
                    <a:pt x="3526" y="792"/>
                  </a:lnTo>
                  <a:lnTo>
                    <a:pt x="3545" y="792"/>
                  </a:lnTo>
                  <a:lnTo>
                    <a:pt x="3545" y="798"/>
                  </a:lnTo>
                  <a:lnTo>
                    <a:pt x="3559" y="798"/>
                  </a:lnTo>
                  <a:lnTo>
                    <a:pt x="3559" y="803"/>
                  </a:lnTo>
                  <a:lnTo>
                    <a:pt x="3593" y="803"/>
                  </a:lnTo>
                  <a:lnTo>
                    <a:pt x="3593" y="809"/>
                  </a:lnTo>
                  <a:lnTo>
                    <a:pt x="3613" y="809"/>
                  </a:lnTo>
                  <a:lnTo>
                    <a:pt x="3613" y="814"/>
                  </a:lnTo>
                  <a:lnTo>
                    <a:pt x="3622" y="814"/>
                  </a:lnTo>
                  <a:lnTo>
                    <a:pt x="3622" y="822"/>
                  </a:lnTo>
                  <a:lnTo>
                    <a:pt x="3636" y="822"/>
                  </a:lnTo>
                  <a:lnTo>
                    <a:pt x="3636" y="827"/>
                  </a:lnTo>
                  <a:lnTo>
                    <a:pt x="3656" y="827"/>
                  </a:lnTo>
                  <a:lnTo>
                    <a:pt x="3656" y="833"/>
                  </a:lnTo>
                  <a:lnTo>
                    <a:pt x="3680" y="833"/>
                  </a:lnTo>
                  <a:lnTo>
                    <a:pt x="3680" y="839"/>
                  </a:lnTo>
                  <a:lnTo>
                    <a:pt x="3688" y="839"/>
                  </a:lnTo>
                  <a:lnTo>
                    <a:pt x="3688" y="846"/>
                  </a:lnTo>
                  <a:lnTo>
                    <a:pt x="3698" y="846"/>
                  </a:lnTo>
                  <a:lnTo>
                    <a:pt x="3698" y="851"/>
                  </a:lnTo>
                  <a:lnTo>
                    <a:pt x="3703" y="851"/>
                  </a:lnTo>
                  <a:lnTo>
                    <a:pt x="3703" y="857"/>
                  </a:lnTo>
                  <a:lnTo>
                    <a:pt x="3717" y="857"/>
                  </a:lnTo>
                  <a:lnTo>
                    <a:pt x="3717" y="863"/>
                  </a:lnTo>
                  <a:lnTo>
                    <a:pt x="3742" y="863"/>
                  </a:lnTo>
                  <a:lnTo>
                    <a:pt x="3742" y="868"/>
                  </a:lnTo>
                  <a:lnTo>
                    <a:pt x="3761" y="868"/>
                  </a:lnTo>
                  <a:lnTo>
                    <a:pt x="3761" y="874"/>
                  </a:lnTo>
                  <a:lnTo>
                    <a:pt x="3780" y="874"/>
                  </a:lnTo>
                  <a:lnTo>
                    <a:pt x="3780" y="881"/>
                  </a:lnTo>
                  <a:lnTo>
                    <a:pt x="3794" y="881"/>
                  </a:lnTo>
                  <a:lnTo>
                    <a:pt x="3794" y="887"/>
                  </a:lnTo>
                  <a:lnTo>
                    <a:pt x="3805" y="887"/>
                  </a:lnTo>
                  <a:lnTo>
                    <a:pt x="3805" y="892"/>
                  </a:lnTo>
                  <a:lnTo>
                    <a:pt x="3814" y="892"/>
                  </a:lnTo>
                  <a:lnTo>
                    <a:pt x="3814" y="899"/>
                  </a:lnTo>
                  <a:lnTo>
                    <a:pt x="3838" y="899"/>
                  </a:lnTo>
                  <a:lnTo>
                    <a:pt x="3838" y="904"/>
                  </a:lnTo>
                  <a:lnTo>
                    <a:pt x="3843" y="904"/>
                  </a:lnTo>
                  <a:lnTo>
                    <a:pt x="3843" y="909"/>
                  </a:lnTo>
                  <a:lnTo>
                    <a:pt x="3866" y="909"/>
                  </a:lnTo>
                  <a:lnTo>
                    <a:pt x="3866" y="917"/>
                  </a:lnTo>
                  <a:lnTo>
                    <a:pt x="3915" y="917"/>
                  </a:lnTo>
                  <a:lnTo>
                    <a:pt x="3915" y="922"/>
                  </a:lnTo>
                  <a:lnTo>
                    <a:pt x="3934" y="922"/>
                  </a:lnTo>
                  <a:lnTo>
                    <a:pt x="3934" y="928"/>
                  </a:lnTo>
                  <a:lnTo>
                    <a:pt x="3949" y="928"/>
                  </a:lnTo>
                  <a:lnTo>
                    <a:pt x="3949" y="933"/>
                  </a:lnTo>
                  <a:lnTo>
                    <a:pt x="3968" y="933"/>
                  </a:lnTo>
                  <a:lnTo>
                    <a:pt x="3968" y="940"/>
                  </a:lnTo>
                  <a:lnTo>
                    <a:pt x="3991" y="940"/>
                  </a:lnTo>
                  <a:lnTo>
                    <a:pt x="3991" y="945"/>
                  </a:lnTo>
                  <a:lnTo>
                    <a:pt x="4011" y="945"/>
                  </a:lnTo>
                  <a:lnTo>
                    <a:pt x="4011" y="950"/>
                  </a:lnTo>
                  <a:lnTo>
                    <a:pt x="4021" y="950"/>
                  </a:lnTo>
                  <a:lnTo>
                    <a:pt x="4021" y="958"/>
                  </a:lnTo>
                  <a:lnTo>
                    <a:pt x="4035" y="958"/>
                  </a:lnTo>
                  <a:lnTo>
                    <a:pt x="4035" y="963"/>
                  </a:lnTo>
                  <a:lnTo>
                    <a:pt x="4045" y="963"/>
                  </a:lnTo>
                  <a:lnTo>
                    <a:pt x="4045" y="969"/>
                  </a:lnTo>
                  <a:lnTo>
                    <a:pt x="4059" y="969"/>
                  </a:lnTo>
                  <a:lnTo>
                    <a:pt x="4059" y="975"/>
                  </a:lnTo>
                  <a:lnTo>
                    <a:pt x="4068" y="975"/>
                  </a:lnTo>
                  <a:lnTo>
                    <a:pt x="4068" y="982"/>
                  </a:lnTo>
                  <a:lnTo>
                    <a:pt x="4072" y="982"/>
                  </a:lnTo>
                  <a:lnTo>
                    <a:pt x="4072" y="987"/>
                  </a:lnTo>
                  <a:lnTo>
                    <a:pt x="4082" y="987"/>
                  </a:lnTo>
                  <a:lnTo>
                    <a:pt x="4082" y="993"/>
                  </a:lnTo>
                  <a:lnTo>
                    <a:pt x="4098" y="993"/>
                  </a:lnTo>
                  <a:lnTo>
                    <a:pt x="4098" y="999"/>
                  </a:lnTo>
                  <a:lnTo>
                    <a:pt x="4116" y="999"/>
                  </a:lnTo>
                  <a:lnTo>
                    <a:pt x="4116" y="1004"/>
                  </a:lnTo>
                  <a:lnTo>
                    <a:pt x="4131" y="1004"/>
                  </a:lnTo>
                  <a:lnTo>
                    <a:pt x="4131" y="1010"/>
                  </a:lnTo>
                  <a:lnTo>
                    <a:pt x="4141" y="1010"/>
                  </a:lnTo>
                  <a:lnTo>
                    <a:pt x="4141" y="1017"/>
                  </a:lnTo>
                  <a:lnTo>
                    <a:pt x="4149" y="1017"/>
                  </a:lnTo>
                  <a:lnTo>
                    <a:pt x="4149" y="1022"/>
                  </a:lnTo>
                  <a:lnTo>
                    <a:pt x="4169" y="1022"/>
                  </a:lnTo>
                  <a:lnTo>
                    <a:pt x="4169" y="1028"/>
                  </a:lnTo>
                  <a:lnTo>
                    <a:pt x="4189" y="1028"/>
                  </a:lnTo>
                  <a:lnTo>
                    <a:pt x="4189" y="1034"/>
                  </a:lnTo>
                  <a:lnTo>
                    <a:pt x="4208" y="1034"/>
                  </a:lnTo>
                  <a:lnTo>
                    <a:pt x="4208" y="1040"/>
                  </a:lnTo>
                  <a:lnTo>
                    <a:pt x="4222" y="1040"/>
                  </a:lnTo>
                  <a:lnTo>
                    <a:pt x="4222" y="1045"/>
                  </a:lnTo>
                  <a:lnTo>
                    <a:pt x="4237" y="1045"/>
                  </a:lnTo>
                  <a:lnTo>
                    <a:pt x="4237" y="1052"/>
                  </a:lnTo>
                  <a:lnTo>
                    <a:pt x="4246" y="1052"/>
                  </a:lnTo>
                  <a:lnTo>
                    <a:pt x="4246" y="1058"/>
                  </a:lnTo>
                  <a:lnTo>
                    <a:pt x="4261" y="1058"/>
                  </a:lnTo>
                  <a:lnTo>
                    <a:pt x="4261" y="1063"/>
                  </a:lnTo>
                  <a:lnTo>
                    <a:pt x="4275" y="1063"/>
                  </a:lnTo>
                  <a:lnTo>
                    <a:pt x="4275" y="1069"/>
                  </a:lnTo>
                  <a:lnTo>
                    <a:pt x="4294" y="1069"/>
                  </a:lnTo>
                  <a:lnTo>
                    <a:pt x="4294" y="1075"/>
                  </a:lnTo>
                  <a:lnTo>
                    <a:pt x="4305" y="1075"/>
                  </a:lnTo>
                  <a:lnTo>
                    <a:pt x="4305" y="1081"/>
                  </a:lnTo>
                  <a:lnTo>
                    <a:pt x="4319" y="1081"/>
                  </a:lnTo>
                  <a:lnTo>
                    <a:pt x="4319" y="1086"/>
                  </a:lnTo>
                  <a:lnTo>
                    <a:pt x="4333" y="1086"/>
                  </a:lnTo>
                  <a:lnTo>
                    <a:pt x="4333" y="1094"/>
                  </a:lnTo>
                  <a:lnTo>
                    <a:pt x="4347" y="1094"/>
                  </a:lnTo>
                  <a:lnTo>
                    <a:pt x="4347" y="1099"/>
                  </a:lnTo>
                  <a:lnTo>
                    <a:pt x="4370" y="1099"/>
                  </a:lnTo>
                  <a:lnTo>
                    <a:pt x="4370" y="1105"/>
                  </a:lnTo>
                  <a:lnTo>
                    <a:pt x="4386" y="1105"/>
                  </a:lnTo>
                  <a:lnTo>
                    <a:pt x="4386" y="1110"/>
                  </a:lnTo>
                  <a:lnTo>
                    <a:pt x="4396" y="1110"/>
                  </a:lnTo>
                  <a:lnTo>
                    <a:pt x="4396" y="1116"/>
                  </a:lnTo>
                  <a:lnTo>
                    <a:pt x="4414" y="1116"/>
                  </a:lnTo>
                  <a:lnTo>
                    <a:pt x="4414" y="1123"/>
                  </a:lnTo>
                  <a:lnTo>
                    <a:pt x="4419" y="1123"/>
                  </a:lnTo>
                  <a:lnTo>
                    <a:pt x="4419" y="1128"/>
                  </a:lnTo>
                  <a:lnTo>
                    <a:pt x="4443" y="1128"/>
                  </a:lnTo>
                  <a:lnTo>
                    <a:pt x="4443" y="1135"/>
                  </a:lnTo>
                  <a:lnTo>
                    <a:pt x="4447" y="1135"/>
                  </a:lnTo>
                  <a:lnTo>
                    <a:pt x="4447" y="1140"/>
                  </a:lnTo>
                  <a:lnTo>
                    <a:pt x="4463" y="1140"/>
                  </a:lnTo>
                  <a:lnTo>
                    <a:pt x="4463" y="1146"/>
                  </a:lnTo>
                  <a:lnTo>
                    <a:pt x="4472" y="1146"/>
                  </a:lnTo>
                  <a:lnTo>
                    <a:pt x="4472" y="1153"/>
                  </a:lnTo>
                  <a:lnTo>
                    <a:pt x="4482" y="1153"/>
                  </a:lnTo>
                  <a:lnTo>
                    <a:pt x="4482" y="1159"/>
                  </a:lnTo>
                  <a:lnTo>
                    <a:pt x="4500" y="1159"/>
                  </a:lnTo>
                  <a:lnTo>
                    <a:pt x="4500" y="1164"/>
                  </a:lnTo>
                  <a:lnTo>
                    <a:pt x="4515" y="1164"/>
                  </a:lnTo>
                  <a:lnTo>
                    <a:pt x="4515" y="1170"/>
                  </a:lnTo>
                  <a:lnTo>
                    <a:pt x="4530" y="1170"/>
                  </a:lnTo>
                  <a:lnTo>
                    <a:pt x="4530" y="1176"/>
                  </a:lnTo>
                  <a:lnTo>
                    <a:pt x="4544" y="1176"/>
                  </a:lnTo>
                  <a:lnTo>
                    <a:pt x="4544" y="1181"/>
                  </a:lnTo>
                  <a:lnTo>
                    <a:pt x="4559" y="1181"/>
                  </a:lnTo>
                  <a:lnTo>
                    <a:pt x="4559" y="1188"/>
                  </a:lnTo>
                  <a:lnTo>
                    <a:pt x="4563" y="1188"/>
                  </a:lnTo>
                  <a:lnTo>
                    <a:pt x="4563" y="1194"/>
                  </a:lnTo>
                  <a:lnTo>
                    <a:pt x="4573" y="1194"/>
                  </a:lnTo>
                  <a:lnTo>
                    <a:pt x="4573" y="1200"/>
                  </a:lnTo>
                  <a:lnTo>
                    <a:pt x="4577" y="1200"/>
                  </a:lnTo>
                  <a:lnTo>
                    <a:pt x="4577" y="1205"/>
                  </a:lnTo>
                  <a:lnTo>
                    <a:pt x="4592" y="1205"/>
                  </a:lnTo>
                  <a:lnTo>
                    <a:pt x="4592" y="1217"/>
                  </a:lnTo>
                  <a:lnTo>
                    <a:pt x="4597" y="1217"/>
                  </a:lnTo>
                  <a:lnTo>
                    <a:pt x="4597" y="1222"/>
                  </a:lnTo>
                  <a:lnTo>
                    <a:pt x="4602" y="1222"/>
                  </a:lnTo>
                  <a:lnTo>
                    <a:pt x="4602" y="1235"/>
                  </a:lnTo>
                  <a:lnTo>
                    <a:pt x="4607" y="1235"/>
                  </a:lnTo>
                  <a:lnTo>
                    <a:pt x="4607" y="1241"/>
                  </a:lnTo>
                  <a:lnTo>
                    <a:pt x="4612" y="1241"/>
                  </a:lnTo>
                  <a:lnTo>
                    <a:pt x="4612" y="1259"/>
                  </a:lnTo>
                  <a:lnTo>
                    <a:pt x="4616" y="1259"/>
                  </a:lnTo>
                  <a:lnTo>
                    <a:pt x="4616" y="1287"/>
                  </a:lnTo>
                  <a:lnTo>
                    <a:pt x="4612" y="1287"/>
                  </a:lnTo>
                  <a:lnTo>
                    <a:pt x="4612" y="1312"/>
                  </a:lnTo>
                  <a:lnTo>
                    <a:pt x="4607" y="1312"/>
                  </a:lnTo>
                  <a:lnTo>
                    <a:pt x="4607" y="1324"/>
                  </a:lnTo>
                  <a:lnTo>
                    <a:pt x="4602" y="1324"/>
                  </a:lnTo>
                  <a:lnTo>
                    <a:pt x="4602" y="1336"/>
                  </a:lnTo>
                  <a:lnTo>
                    <a:pt x="4597" y="1336"/>
                  </a:lnTo>
                  <a:lnTo>
                    <a:pt x="4597" y="1341"/>
                  </a:lnTo>
                  <a:lnTo>
                    <a:pt x="4592" y="1341"/>
                  </a:lnTo>
                  <a:lnTo>
                    <a:pt x="4592" y="1353"/>
                  </a:lnTo>
                  <a:lnTo>
                    <a:pt x="4587" y="1353"/>
                  </a:lnTo>
                  <a:lnTo>
                    <a:pt x="4587" y="1365"/>
                  </a:lnTo>
                  <a:lnTo>
                    <a:pt x="4582" y="1365"/>
                  </a:lnTo>
                  <a:lnTo>
                    <a:pt x="4582" y="1377"/>
                  </a:lnTo>
                  <a:lnTo>
                    <a:pt x="4577" y="1377"/>
                  </a:lnTo>
                  <a:lnTo>
                    <a:pt x="4577" y="1390"/>
                  </a:lnTo>
                  <a:lnTo>
                    <a:pt x="4573" y="1390"/>
                  </a:lnTo>
                  <a:lnTo>
                    <a:pt x="4573" y="1395"/>
                  </a:lnTo>
                  <a:lnTo>
                    <a:pt x="4568" y="1395"/>
                  </a:lnTo>
                  <a:lnTo>
                    <a:pt x="4568" y="1401"/>
                  </a:lnTo>
                  <a:lnTo>
                    <a:pt x="4563" y="1401"/>
                  </a:lnTo>
                  <a:lnTo>
                    <a:pt x="4563" y="1423"/>
                  </a:lnTo>
                  <a:lnTo>
                    <a:pt x="4559" y="1423"/>
                  </a:lnTo>
                  <a:lnTo>
                    <a:pt x="4559" y="1431"/>
                  </a:lnTo>
                  <a:lnTo>
                    <a:pt x="4553" y="1431"/>
                  </a:lnTo>
                  <a:lnTo>
                    <a:pt x="4553" y="1448"/>
                  </a:lnTo>
                  <a:lnTo>
                    <a:pt x="4549" y="1448"/>
                  </a:lnTo>
                  <a:lnTo>
                    <a:pt x="4549" y="1466"/>
                  </a:lnTo>
                  <a:lnTo>
                    <a:pt x="4544" y="1466"/>
                  </a:lnTo>
                  <a:lnTo>
                    <a:pt x="4544" y="1477"/>
                  </a:lnTo>
                  <a:lnTo>
                    <a:pt x="4540" y="1477"/>
                  </a:lnTo>
                  <a:lnTo>
                    <a:pt x="4540" y="1490"/>
                  </a:lnTo>
                  <a:lnTo>
                    <a:pt x="4534" y="1490"/>
                  </a:lnTo>
                  <a:lnTo>
                    <a:pt x="4534" y="1507"/>
                  </a:lnTo>
                  <a:lnTo>
                    <a:pt x="4530" y="1507"/>
                  </a:lnTo>
                  <a:lnTo>
                    <a:pt x="4530" y="1518"/>
                  </a:lnTo>
                  <a:lnTo>
                    <a:pt x="4526" y="1518"/>
                  </a:lnTo>
                  <a:lnTo>
                    <a:pt x="4526" y="1536"/>
                  </a:lnTo>
                  <a:lnTo>
                    <a:pt x="4515" y="1536"/>
                  </a:lnTo>
                  <a:lnTo>
                    <a:pt x="4515" y="1548"/>
                  </a:lnTo>
                  <a:lnTo>
                    <a:pt x="4510" y="1548"/>
                  </a:lnTo>
                  <a:lnTo>
                    <a:pt x="4510" y="1559"/>
                  </a:lnTo>
                  <a:lnTo>
                    <a:pt x="4505" y="1559"/>
                  </a:lnTo>
                  <a:lnTo>
                    <a:pt x="4505" y="1583"/>
                  </a:lnTo>
                  <a:lnTo>
                    <a:pt x="4500" y="1583"/>
                  </a:lnTo>
                  <a:lnTo>
                    <a:pt x="4500" y="1596"/>
                  </a:lnTo>
                  <a:lnTo>
                    <a:pt x="4496" y="1596"/>
                  </a:lnTo>
                  <a:lnTo>
                    <a:pt x="4496" y="1608"/>
                  </a:lnTo>
                  <a:lnTo>
                    <a:pt x="4491" y="1608"/>
                  </a:lnTo>
                  <a:lnTo>
                    <a:pt x="4491" y="1626"/>
                  </a:lnTo>
                  <a:lnTo>
                    <a:pt x="4486" y="1626"/>
                  </a:lnTo>
                  <a:lnTo>
                    <a:pt x="4486" y="1637"/>
                  </a:lnTo>
                  <a:lnTo>
                    <a:pt x="4482" y="1637"/>
                  </a:lnTo>
                  <a:lnTo>
                    <a:pt x="4482" y="1649"/>
                  </a:lnTo>
                  <a:lnTo>
                    <a:pt x="4477" y="1649"/>
                  </a:lnTo>
                  <a:lnTo>
                    <a:pt x="4477" y="1660"/>
                  </a:lnTo>
                  <a:lnTo>
                    <a:pt x="4472" y="1660"/>
                  </a:lnTo>
                  <a:lnTo>
                    <a:pt x="4472" y="1673"/>
                  </a:lnTo>
                  <a:lnTo>
                    <a:pt x="4467" y="1673"/>
                  </a:lnTo>
                  <a:lnTo>
                    <a:pt x="4467" y="1690"/>
                  </a:lnTo>
                  <a:lnTo>
                    <a:pt x="4463" y="1690"/>
                  </a:lnTo>
                  <a:lnTo>
                    <a:pt x="4463" y="1695"/>
                  </a:lnTo>
                  <a:lnTo>
                    <a:pt x="4457" y="1695"/>
                  </a:lnTo>
                  <a:lnTo>
                    <a:pt x="4457" y="1708"/>
                  </a:lnTo>
                  <a:lnTo>
                    <a:pt x="4453" y="1708"/>
                  </a:lnTo>
                  <a:lnTo>
                    <a:pt x="4453" y="1714"/>
                  </a:lnTo>
                  <a:lnTo>
                    <a:pt x="4447" y="1714"/>
                  </a:lnTo>
                  <a:lnTo>
                    <a:pt x="4447" y="1732"/>
                  </a:lnTo>
                  <a:lnTo>
                    <a:pt x="4443" y="1732"/>
                  </a:lnTo>
                  <a:lnTo>
                    <a:pt x="4443" y="1737"/>
                  </a:lnTo>
                  <a:lnTo>
                    <a:pt x="4438" y="1737"/>
                  </a:lnTo>
                  <a:lnTo>
                    <a:pt x="4438" y="1749"/>
                  </a:lnTo>
                  <a:lnTo>
                    <a:pt x="4433" y="1749"/>
                  </a:lnTo>
                  <a:lnTo>
                    <a:pt x="4433" y="1768"/>
                  </a:lnTo>
                  <a:lnTo>
                    <a:pt x="4429" y="1768"/>
                  </a:lnTo>
                  <a:lnTo>
                    <a:pt x="4429" y="1790"/>
                  </a:lnTo>
                  <a:lnTo>
                    <a:pt x="4423" y="1790"/>
                  </a:lnTo>
                  <a:lnTo>
                    <a:pt x="4423" y="1796"/>
                  </a:lnTo>
                  <a:lnTo>
                    <a:pt x="4419" y="1796"/>
                  </a:lnTo>
                  <a:lnTo>
                    <a:pt x="4419" y="1809"/>
                  </a:lnTo>
                  <a:lnTo>
                    <a:pt x="4414" y="1809"/>
                  </a:lnTo>
                  <a:lnTo>
                    <a:pt x="4414" y="1820"/>
                  </a:lnTo>
                  <a:lnTo>
                    <a:pt x="4409" y="1820"/>
                  </a:lnTo>
                  <a:lnTo>
                    <a:pt x="4409" y="1831"/>
                  </a:lnTo>
                  <a:lnTo>
                    <a:pt x="4405" y="1831"/>
                  </a:lnTo>
                  <a:lnTo>
                    <a:pt x="4405" y="1849"/>
                  </a:lnTo>
                  <a:lnTo>
                    <a:pt x="4400" y="1849"/>
                  </a:lnTo>
                  <a:lnTo>
                    <a:pt x="4400" y="1861"/>
                  </a:lnTo>
                  <a:lnTo>
                    <a:pt x="4396" y="1861"/>
                  </a:lnTo>
                  <a:lnTo>
                    <a:pt x="4396" y="1885"/>
                  </a:lnTo>
                  <a:lnTo>
                    <a:pt x="4390" y="1885"/>
                  </a:lnTo>
                  <a:lnTo>
                    <a:pt x="4390" y="1891"/>
                  </a:lnTo>
                  <a:lnTo>
                    <a:pt x="4386" y="1891"/>
                  </a:lnTo>
                  <a:lnTo>
                    <a:pt x="4386" y="1909"/>
                  </a:lnTo>
                  <a:lnTo>
                    <a:pt x="4381" y="1909"/>
                  </a:lnTo>
                  <a:lnTo>
                    <a:pt x="4381" y="1926"/>
                  </a:lnTo>
                  <a:lnTo>
                    <a:pt x="4376" y="1926"/>
                  </a:lnTo>
                  <a:lnTo>
                    <a:pt x="4376" y="1932"/>
                  </a:lnTo>
                  <a:lnTo>
                    <a:pt x="4370" y="1932"/>
                  </a:lnTo>
                  <a:lnTo>
                    <a:pt x="4370" y="1950"/>
                  </a:lnTo>
                  <a:lnTo>
                    <a:pt x="4366" y="1950"/>
                  </a:lnTo>
                  <a:lnTo>
                    <a:pt x="4366" y="1955"/>
                  </a:lnTo>
                  <a:lnTo>
                    <a:pt x="4361" y="1955"/>
                  </a:lnTo>
                  <a:lnTo>
                    <a:pt x="4361" y="1974"/>
                  </a:lnTo>
                  <a:lnTo>
                    <a:pt x="4356" y="1974"/>
                  </a:lnTo>
                  <a:lnTo>
                    <a:pt x="4356" y="1986"/>
                  </a:lnTo>
                  <a:lnTo>
                    <a:pt x="4352" y="1986"/>
                  </a:lnTo>
                  <a:lnTo>
                    <a:pt x="4352" y="2004"/>
                  </a:lnTo>
                  <a:lnTo>
                    <a:pt x="4347" y="2004"/>
                  </a:lnTo>
                  <a:lnTo>
                    <a:pt x="4347" y="2009"/>
                  </a:lnTo>
                  <a:lnTo>
                    <a:pt x="4342" y="2009"/>
                  </a:lnTo>
                  <a:lnTo>
                    <a:pt x="4342" y="2027"/>
                  </a:lnTo>
                  <a:lnTo>
                    <a:pt x="4338" y="2027"/>
                  </a:lnTo>
                  <a:lnTo>
                    <a:pt x="4338" y="2040"/>
                  </a:lnTo>
                  <a:lnTo>
                    <a:pt x="4333" y="2040"/>
                  </a:lnTo>
                  <a:lnTo>
                    <a:pt x="4333" y="2056"/>
                  </a:lnTo>
                  <a:lnTo>
                    <a:pt x="4328" y="2056"/>
                  </a:lnTo>
                  <a:lnTo>
                    <a:pt x="4328" y="2062"/>
                  </a:lnTo>
                  <a:lnTo>
                    <a:pt x="4323" y="2062"/>
                  </a:lnTo>
                  <a:lnTo>
                    <a:pt x="4323" y="2086"/>
                  </a:lnTo>
                  <a:lnTo>
                    <a:pt x="4319" y="2086"/>
                  </a:lnTo>
                  <a:lnTo>
                    <a:pt x="4319" y="2092"/>
                  </a:lnTo>
                  <a:lnTo>
                    <a:pt x="4313" y="2092"/>
                  </a:lnTo>
                  <a:lnTo>
                    <a:pt x="4313" y="2103"/>
                  </a:lnTo>
                  <a:lnTo>
                    <a:pt x="4309" y="2103"/>
                  </a:lnTo>
                  <a:lnTo>
                    <a:pt x="4309" y="2122"/>
                  </a:lnTo>
                  <a:lnTo>
                    <a:pt x="4305" y="2122"/>
                  </a:lnTo>
                  <a:lnTo>
                    <a:pt x="4305" y="2140"/>
                  </a:lnTo>
                  <a:lnTo>
                    <a:pt x="4299" y="2140"/>
                  </a:lnTo>
                  <a:lnTo>
                    <a:pt x="4299" y="2157"/>
                  </a:lnTo>
                  <a:lnTo>
                    <a:pt x="4294" y="2157"/>
                  </a:lnTo>
                  <a:lnTo>
                    <a:pt x="4294" y="2175"/>
                  </a:lnTo>
                  <a:lnTo>
                    <a:pt x="4289" y="2175"/>
                  </a:lnTo>
                  <a:lnTo>
                    <a:pt x="4289" y="2181"/>
                  </a:lnTo>
                  <a:lnTo>
                    <a:pt x="4285" y="2181"/>
                  </a:lnTo>
                  <a:lnTo>
                    <a:pt x="4285" y="2187"/>
                  </a:lnTo>
                  <a:lnTo>
                    <a:pt x="4279" y="2187"/>
                  </a:lnTo>
                  <a:lnTo>
                    <a:pt x="4279" y="2210"/>
                  </a:lnTo>
                  <a:lnTo>
                    <a:pt x="4275" y="2210"/>
                  </a:lnTo>
                  <a:lnTo>
                    <a:pt x="4275" y="2217"/>
                  </a:lnTo>
                  <a:lnTo>
                    <a:pt x="4271" y="2217"/>
                  </a:lnTo>
                  <a:lnTo>
                    <a:pt x="4271" y="2233"/>
                  </a:lnTo>
                  <a:lnTo>
                    <a:pt x="4265" y="2233"/>
                  </a:lnTo>
                  <a:lnTo>
                    <a:pt x="4265" y="2246"/>
                  </a:lnTo>
                  <a:lnTo>
                    <a:pt x="4261" y="2246"/>
                  </a:lnTo>
                  <a:lnTo>
                    <a:pt x="4261" y="2258"/>
                  </a:lnTo>
                  <a:lnTo>
                    <a:pt x="4256" y="2258"/>
                  </a:lnTo>
                  <a:lnTo>
                    <a:pt x="4256" y="2276"/>
                  </a:lnTo>
                  <a:lnTo>
                    <a:pt x="4251" y="2276"/>
                  </a:lnTo>
                  <a:lnTo>
                    <a:pt x="4251" y="2293"/>
                  </a:lnTo>
                  <a:lnTo>
                    <a:pt x="4246" y="2293"/>
                  </a:lnTo>
                  <a:lnTo>
                    <a:pt x="4246" y="2299"/>
                  </a:lnTo>
                  <a:lnTo>
                    <a:pt x="4237" y="2299"/>
                  </a:lnTo>
                  <a:lnTo>
                    <a:pt x="4237" y="2317"/>
                  </a:lnTo>
                  <a:lnTo>
                    <a:pt x="4232" y="2317"/>
                  </a:lnTo>
                  <a:lnTo>
                    <a:pt x="4232" y="2322"/>
                  </a:lnTo>
                  <a:lnTo>
                    <a:pt x="4227" y="2322"/>
                  </a:lnTo>
                  <a:lnTo>
                    <a:pt x="4227" y="2341"/>
                  </a:lnTo>
                  <a:lnTo>
                    <a:pt x="4222" y="2341"/>
                  </a:lnTo>
                  <a:lnTo>
                    <a:pt x="4222" y="2346"/>
                  </a:lnTo>
                  <a:lnTo>
                    <a:pt x="4217" y="2346"/>
                  </a:lnTo>
                  <a:lnTo>
                    <a:pt x="4217" y="2352"/>
                  </a:lnTo>
                  <a:lnTo>
                    <a:pt x="4212" y="2352"/>
                  </a:lnTo>
                  <a:lnTo>
                    <a:pt x="4212" y="2364"/>
                  </a:lnTo>
                  <a:lnTo>
                    <a:pt x="4208" y="2364"/>
                  </a:lnTo>
                  <a:lnTo>
                    <a:pt x="4208" y="2375"/>
                  </a:lnTo>
                  <a:lnTo>
                    <a:pt x="4203" y="2375"/>
                  </a:lnTo>
                  <a:lnTo>
                    <a:pt x="4203" y="2387"/>
                  </a:lnTo>
                  <a:lnTo>
                    <a:pt x="4198" y="2387"/>
                  </a:lnTo>
                  <a:lnTo>
                    <a:pt x="4198" y="2399"/>
                  </a:lnTo>
                  <a:lnTo>
                    <a:pt x="4193" y="2399"/>
                  </a:lnTo>
                  <a:lnTo>
                    <a:pt x="4193" y="2410"/>
                  </a:lnTo>
                  <a:lnTo>
                    <a:pt x="4189" y="2410"/>
                  </a:lnTo>
                  <a:lnTo>
                    <a:pt x="4189" y="2418"/>
                  </a:lnTo>
                  <a:lnTo>
                    <a:pt x="4184" y="2418"/>
                  </a:lnTo>
                  <a:lnTo>
                    <a:pt x="4184" y="2423"/>
                  </a:lnTo>
                  <a:lnTo>
                    <a:pt x="4179" y="2423"/>
                  </a:lnTo>
                  <a:lnTo>
                    <a:pt x="4179" y="2453"/>
                  </a:lnTo>
                  <a:lnTo>
                    <a:pt x="4175" y="2453"/>
                  </a:lnTo>
                  <a:lnTo>
                    <a:pt x="4175" y="2459"/>
                  </a:lnTo>
                  <a:lnTo>
                    <a:pt x="4165" y="2459"/>
                  </a:lnTo>
                  <a:lnTo>
                    <a:pt x="4165" y="2470"/>
                  </a:lnTo>
                  <a:lnTo>
                    <a:pt x="4160" y="2470"/>
                  </a:lnTo>
                  <a:lnTo>
                    <a:pt x="4160" y="2482"/>
                  </a:lnTo>
                  <a:lnTo>
                    <a:pt x="4155" y="2482"/>
                  </a:lnTo>
                  <a:lnTo>
                    <a:pt x="4155" y="2488"/>
                  </a:lnTo>
                  <a:lnTo>
                    <a:pt x="4149" y="2488"/>
                  </a:lnTo>
                  <a:lnTo>
                    <a:pt x="4149" y="2500"/>
                  </a:lnTo>
                  <a:lnTo>
                    <a:pt x="4145" y="2500"/>
                  </a:lnTo>
                  <a:lnTo>
                    <a:pt x="4145" y="2505"/>
                  </a:lnTo>
                  <a:lnTo>
                    <a:pt x="4141" y="2505"/>
                  </a:lnTo>
                  <a:lnTo>
                    <a:pt x="4141" y="2518"/>
                  </a:lnTo>
                  <a:lnTo>
                    <a:pt x="4135" y="2518"/>
                  </a:lnTo>
                  <a:lnTo>
                    <a:pt x="4135" y="2541"/>
                  </a:lnTo>
                  <a:lnTo>
                    <a:pt x="4126" y="2541"/>
                  </a:lnTo>
                  <a:lnTo>
                    <a:pt x="4126" y="2546"/>
                  </a:lnTo>
                  <a:lnTo>
                    <a:pt x="4121" y="2546"/>
                  </a:lnTo>
                  <a:lnTo>
                    <a:pt x="4121" y="2559"/>
                  </a:lnTo>
                  <a:lnTo>
                    <a:pt x="4116" y="2559"/>
                  </a:lnTo>
                  <a:lnTo>
                    <a:pt x="4116" y="2576"/>
                  </a:lnTo>
                  <a:lnTo>
                    <a:pt x="4112" y="2576"/>
                  </a:lnTo>
                  <a:lnTo>
                    <a:pt x="4112" y="2583"/>
                  </a:lnTo>
                  <a:lnTo>
                    <a:pt x="4107" y="2583"/>
                  </a:lnTo>
                  <a:lnTo>
                    <a:pt x="4107" y="2589"/>
                  </a:lnTo>
                  <a:lnTo>
                    <a:pt x="4102" y="2589"/>
                  </a:lnTo>
                  <a:lnTo>
                    <a:pt x="4102" y="2600"/>
                  </a:lnTo>
                  <a:lnTo>
                    <a:pt x="4098" y="2600"/>
                  </a:lnTo>
                  <a:lnTo>
                    <a:pt x="4098" y="2624"/>
                  </a:lnTo>
                  <a:lnTo>
                    <a:pt x="4093" y="2624"/>
                  </a:lnTo>
                  <a:lnTo>
                    <a:pt x="4093" y="2654"/>
                  </a:lnTo>
                  <a:lnTo>
                    <a:pt x="4088" y="2654"/>
                  </a:lnTo>
                  <a:lnTo>
                    <a:pt x="4088" y="2660"/>
                  </a:lnTo>
                  <a:lnTo>
                    <a:pt x="4082" y="2660"/>
                  </a:lnTo>
                  <a:lnTo>
                    <a:pt x="4082" y="2677"/>
                  </a:lnTo>
                  <a:lnTo>
                    <a:pt x="4072" y="2677"/>
                  </a:lnTo>
                  <a:lnTo>
                    <a:pt x="4072" y="2682"/>
                  </a:lnTo>
                  <a:lnTo>
                    <a:pt x="4068" y="2682"/>
                  </a:lnTo>
                  <a:lnTo>
                    <a:pt x="4068" y="2700"/>
                  </a:lnTo>
                  <a:lnTo>
                    <a:pt x="4064" y="2700"/>
                  </a:lnTo>
                  <a:lnTo>
                    <a:pt x="4064" y="2706"/>
                  </a:lnTo>
                  <a:lnTo>
                    <a:pt x="4059" y="2706"/>
                  </a:lnTo>
                  <a:lnTo>
                    <a:pt x="4059" y="2712"/>
                  </a:lnTo>
                  <a:lnTo>
                    <a:pt x="4054" y="2712"/>
                  </a:lnTo>
                  <a:lnTo>
                    <a:pt x="4054" y="2724"/>
                  </a:lnTo>
                  <a:lnTo>
                    <a:pt x="4049" y="2724"/>
                  </a:lnTo>
                  <a:lnTo>
                    <a:pt x="4049" y="2731"/>
                  </a:lnTo>
                  <a:lnTo>
                    <a:pt x="4045" y="2731"/>
                  </a:lnTo>
                  <a:lnTo>
                    <a:pt x="4045" y="2736"/>
                  </a:lnTo>
                  <a:lnTo>
                    <a:pt x="4035" y="2736"/>
                  </a:lnTo>
                  <a:lnTo>
                    <a:pt x="4035" y="2760"/>
                  </a:lnTo>
                  <a:lnTo>
                    <a:pt x="4030" y="2760"/>
                  </a:lnTo>
                  <a:lnTo>
                    <a:pt x="4030" y="2777"/>
                  </a:lnTo>
                  <a:lnTo>
                    <a:pt x="4021" y="2777"/>
                  </a:lnTo>
                  <a:lnTo>
                    <a:pt x="4021" y="2784"/>
                  </a:lnTo>
                  <a:lnTo>
                    <a:pt x="4016" y="2784"/>
                  </a:lnTo>
                  <a:lnTo>
                    <a:pt x="4016" y="2795"/>
                  </a:lnTo>
                  <a:lnTo>
                    <a:pt x="4011" y="2795"/>
                  </a:lnTo>
                  <a:lnTo>
                    <a:pt x="4011" y="2807"/>
                  </a:lnTo>
                  <a:lnTo>
                    <a:pt x="4005" y="2807"/>
                  </a:lnTo>
                  <a:lnTo>
                    <a:pt x="4005" y="2831"/>
                  </a:lnTo>
                  <a:lnTo>
                    <a:pt x="4001" y="2831"/>
                  </a:lnTo>
                  <a:lnTo>
                    <a:pt x="4001" y="2842"/>
                  </a:lnTo>
                  <a:lnTo>
                    <a:pt x="3997" y="2842"/>
                  </a:lnTo>
                  <a:lnTo>
                    <a:pt x="3997" y="2855"/>
                  </a:lnTo>
                  <a:lnTo>
                    <a:pt x="3991" y="2855"/>
                  </a:lnTo>
                  <a:lnTo>
                    <a:pt x="3991" y="2872"/>
                  </a:lnTo>
                  <a:lnTo>
                    <a:pt x="3987" y="2872"/>
                  </a:lnTo>
                  <a:lnTo>
                    <a:pt x="3987" y="2883"/>
                  </a:lnTo>
                  <a:lnTo>
                    <a:pt x="3982" y="2883"/>
                  </a:lnTo>
                  <a:lnTo>
                    <a:pt x="3982" y="2908"/>
                  </a:lnTo>
                  <a:lnTo>
                    <a:pt x="3977" y="2908"/>
                  </a:lnTo>
                  <a:lnTo>
                    <a:pt x="3977" y="2920"/>
                  </a:lnTo>
                  <a:lnTo>
                    <a:pt x="3972" y="2920"/>
                  </a:lnTo>
                  <a:lnTo>
                    <a:pt x="3972" y="2932"/>
                  </a:lnTo>
                  <a:lnTo>
                    <a:pt x="3968" y="2932"/>
                  </a:lnTo>
                  <a:lnTo>
                    <a:pt x="3968" y="2961"/>
                  </a:lnTo>
                  <a:lnTo>
                    <a:pt x="3963" y="2961"/>
                  </a:lnTo>
                  <a:lnTo>
                    <a:pt x="3963" y="2967"/>
                  </a:lnTo>
                  <a:lnTo>
                    <a:pt x="3958" y="2967"/>
                  </a:lnTo>
                  <a:lnTo>
                    <a:pt x="3958" y="2986"/>
                  </a:lnTo>
                  <a:lnTo>
                    <a:pt x="3954" y="2986"/>
                  </a:lnTo>
                  <a:lnTo>
                    <a:pt x="3954" y="3002"/>
                  </a:lnTo>
                  <a:lnTo>
                    <a:pt x="3949" y="3002"/>
                  </a:lnTo>
                  <a:lnTo>
                    <a:pt x="3949" y="3014"/>
                  </a:lnTo>
                  <a:lnTo>
                    <a:pt x="3944" y="3014"/>
                  </a:lnTo>
                  <a:lnTo>
                    <a:pt x="3944" y="3062"/>
                  </a:lnTo>
                  <a:lnTo>
                    <a:pt x="3938" y="3062"/>
                  </a:lnTo>
                  <a:lnTo>
                    <a:pt x="3938" y="3068"/>
                  </a:lnTo>
                  <a:lnTo>
                    <a:pt x="3934" y="3068"/>
                  </a:lnTo>
                  <a:lnTo>
                    <a:pt x="3934" y="3079"/>
                  </a:lnTo>
                  <a:lnTo>
                    <a:pt x="3929" y="3079"/>
                  </a:lnTo>
                  <a:lnTo>
                    <a:pt x="3929" y="3092"/>
                  </a:lnTo>
                  <a:lnTo>
                    <a:pt x="3924" y="3092"/>
                  </a:lnTo>
                  <a:lnTo>
                    <a:pt x="3924" y="3097"/>
                  </a:lnTo>
                  <a:lnTo>
                    <a:pt x="3920" y="3097"/>
                  </a:lnTo>
                  <a:lnTo>
                    <a:pt x="3920" y="3108"/>
                  </a:lnTo>
                  <a:lnTo>
                    <a:pt x="3915" y="3108"/>
                  </a:lnTo>
                  <a:lnTo>
                    <a:pt x="3915" y="3127"/>
                  </a:lnTo>
                  <a:lnTo>
                    <a:pt x="3910" y="3127"/>
                  </a:lnTo>
                  <a:lnTo>
                    <a:pt x="3910" y="3138"/>
                  </a:lnTo>
                  <a:lnTo>
                    <a:pt x="3905" y="3138"/>
                  </a:lnTo>
                  <a:lnTo>
                    <a:pt x="3905" y="3144"/>
                  </a:lnTo>
                  <a:lnTo>
                    <a:pt x="3901" y="3144"/>
                  </a:lnTo>
                  <a:lnTo>
                    <a:pt x="3901" y="3150"/>
                  </a:lnTo>
                  <a:lnTo>
                    <a:pt x="3895" y="3150"/>
                  </a:lnTo>
                  <a:lnTo>
                    <a:pt x="3895" y="3155"/>
                  </a:lnTo>
                  <a:lnTo>
                    <a:pt x="3887" y="3155"/>
                  </a:lnTo>
                  <a:lnTo>
                    <a:pt x="3887" y="3162"/>
                  </a:lnTo>
                  <a:lnTo>
                    <a:pt x="3881" y="3162"/>
                  </a:lnTo>
                  <a:lnTo>
                    <a:pt x="3881" y="3168"/>
                  </a:lnTo>
                  <a:lnTo>
                    <a:pt x="3877" y="3168"/>
                  </a:lnTo>
                  <a:lnTo>
                    <a:pt x="3877" y="3185"/>
                  </a:lnTo>
                  <a:lnTo>
                    <a:pt x="3872" y="3185"/>
                  </a:lnTo>
                  <a:lnTo>
                    <a:pt x="3872" y="3197"/>
                  </a:lnTo>
                  <a:lnTo>
                    <a:pt x="3866" y="3197"/>
                  </a:lnTo>
                  <a:lnTo>
                    <a:pt x="3866" y="3204"/>
                  </a:lnTo>
                  <a:lnTo>
                    <a:pt x="3861" y="3204"/>
                  </a:lnTo>
                  <a:lnTo>
                    <a:pt x="3861" y="3222"/>
                  </a:lnTo>
                  <a:lnTo>
                    <a:pt x="3857" y="3222"/>
                  </a:lnTo>
                  <a:lnTo>
                    <a:pt x="3857" y="3233"/>
                  </a:lnTo>
                  <a:lnTo>
                    <a:pt x="3852" y="3233"/>
                  </a:lnTo>
                  <a:lnTo>
                    <a:pt x="3852" y="3250"/>
                  </a:lnTo>
                  <a:lnTo>
                    <a:pt x="3847" y="3250"/>
                  </a:lnTo>
                  <a:lnTo>
                    <a:pt x="3847" y="3255"/>
                  </a:lnTo>
                  <a:lnTo>
                    <a:pt x="3843" y="3255"/>
                  </a:lnTo>
                  <a:lnTo>
                    <a:pt x="3843" y="3268"/>
                  </a:lnTo>
                  <a:lnTo>
                    <a:pt x="3838" y="3268"/>
                  </a:lnTo>
                  <a:lnTo>
                    <a:pt x="3838" y="3274"/>
                  </a:lnTo>
                  <a:lnTo>
                    <a:pt x="3833" y="3274"/>
                  </a:lnTo>
                  <a:lnTo>
                    <a:pt x="3833" y="3280"/>
                  </a:lnTo>
                  <a:lnTo>
                    <a:pt x="3828" y="3280"/>
                  </a:lnTo>
                  <a:lnTo>
                    <a:pt x="3828" y="3286"/>
                  </a:lnTo>
                  <a:lnTo>
                    <a:pt x="3824" y="3286"/>
                  </a:lnTo>
                  <a:lnTo>
                    <a:pt x="3824" y="3291"/>
                  </a:lnTo>
                  <a:lnTo>
                    <a:pt x="3819" y="3291"/>
                  </a:lnTo>
                  <a:lnTo>
                    <a:pt x="3819" y="3304"/>
                  </a:lnTo>
                  <a:lnTo>
                    <a:pt x="3809" y="3304"/>
                  </a:lnTo>
                  <a:lnTo>
                    <a:pt x="3809" y="3309"/>
                  </a:lnTo>
                  <a:lnTo>
                    <a:pt x="3805" y="3309"/>
                  </a:lnTo>
                  <a:lnTo>
                    <a:pt x="3805" y="3321"/>
                  </a:lnTo>
                  <a:lnTo>
                    <a:pt x="3800" y="3321"/>
                  </a:lnTo>
                  <a:lnTo>
                    <a:pt x="3800" y="3328"/>
                  </a:lnTo>
                  <a:lnTo>
                    <a:pt x="3794" y="3328"/>
                  </a:lnTo>
                  <a:lnTo>
                    <a:pt x="3794" y="3333"/>
                  </a:lnTo>
                  <a:lnTo>
                    <a:pt x="3790" y="3333"/>
                  </a:lnTo>
                  <a:lnTo>
                    <a:pt x="3790" y="3340"/>
                  </a:lnTo>
                  <a:lnTo>
                    <a:pt x="3784" y="3340"/>
                  </a:lnTo>
                  <a:lnTo>
                    <a:pt x="3784" y="3345"/>
                  </a:lnTo>
                  <a:lnTo>
                    <a:pt x="3780" y="3345"/>
                  </a:lnTo>
                  <a:lnTo>
                    <a:pt x="3780" y="3351"/>
                  </a:lnTo>
                  <a:lnTo>
                    <a:pt x="3775" y="3351"/>
                  </a:lnTo>
                  <a:lnTo>
                    <a:pt x="3775" y="3363"/>
                  </a:lnTo>
                  <a:lnTo>
                    <a:pt x="3771" y="3363"/>
                  </a:lnTo>
                  <a:lnTo>
                    <a:pt x="3771" y="3369"/>
                  </a:lnTo>
                  <a:lnTo>
                    <a:pt x="3765" y="3369"/>
                  </a:lnTo>
                  <a:lnTo>
                    <a:pt x="3765" y="3381"/>
                  </a:lnTo>
                  <a:lnTo>
                    <a:pt x="3751" y="3381"/>
                  </a:lnTo>
                  <a:lnTo>
                    <a:pt x="3751" y="3392"/>
                  </a:lnTo>
                  <a:lnTo>
                    <a:pt x="3737" y="3392"/>
                  </a:lnTo>
                  <a:lnTo>
                    <a:pt x="3737" y="3399"/>
                  </a:lnTo>
                  <a:lnTo>
                    <a:pt x="3732" y="3399"/>
                  </a:lnTo>
                  <a:lnTo>
                    <a:pt x="3732" y="3405"/>
                  </a:lnTo>
                  <a:lnTo>
                    <a:pt x="3728" y="3405"/>
                  </a:lnTo>
                  <a:lnTo>
                    <a:pt x="3728" y="3410"/>
                  </a:lnTo>
                  <a:lnTo>
                    <a:pt x="3722" y="3410"/>
                  </a:lnTo>
                  <a:lnTo>
                    <a:pt x="3722" y="3416"/>
                  </a:lnTo>
                  <a:lnTo>
                    <a:pt x="3713" y="3416"/>
                  </a:lnTo>
                  <a:lnTo>
                    <a:pt x="3713" y="3427"/>
                  </a:lnTo>
                  <a:lnTo>
                    <a:pt x="3708" y="3427"/>
                  </a:lnTo>
                  <a:lnTo>
                    <a:pt x="3708" y="3434"/>
                  </a:lnTo>
                  <a:lnTo>
                    <a:pt x="3703" y="3434"/>
                  </a:lnTo>
                  <a:lnTo>
                    <a:pt x="3703" y="3440"/>
                  </a:lnTo>
                  <a:lnTo>
                    <a:pt x="3698" y="3440"/>
                  </a:lnTo>
                  <a:lnTo>
                    <a:pt x="3698" y="3451"/>
                  </a:lnTo>
                  <a:lnTo>
                    <a:pt x="3694" y="3451"/>
                  </a:lnTo>
                  <a:lnTo>
                    <a:pt x="3694" y="3459"/>
                  </a:lnTo>
                  <a:lnTo>
                    <a:pt x="3688" y="3459"/>
                  </a:lnTo>
                  <a:lnTo>
                    <a:pt x="3688" y="3469"/>
                  </a:lnTo>
                  <a:lnTo>
                    <a:pt x="3670" y="3469"/>
                  </a:lnTo>
                  <a:lnTo>
                    <a:pt x="3670" y="3481"/>
                  </a:lnTo>
                  <a:lnTo>
                    <a:pt x="3665" y="3481"/>
                  </a:lnTo>
                  <a:lnTo>
                    <a:pt x="3665" y="3487"/>
                  </a:lnTo>
                  <a:lnTo>
                    <a:pt x="3661" y="3487"/>
                  </a:lnTo>
                  <a:lnTo>
                    <a:pt x="3661" y="3492"/>
                  </a:lnTo>
                  <a:lnTo>
                    <a:pt x="3656" y="3492"/>
                  </a:lnTo>
                  <a:lnTo>
                    <a:pt x="3656" y="3500"/>
                  </a:lnTo>
                  <a:lnTo>
                    <a:pt x="3650" y="3500"/>
                  </a:lnTo>
                  <a:lnTo>
                    <a:pt x="3650" y="3505"/>
                  </a:lnTo>
                  <a:lnTo>
                    <a:pt x="3640" y="3505"/>
                  </a:lnTo>
                  <a:lnTo>
                    <a:pt x="3640" y="3510"/>
                  </a:lnTo>
                  <a:lnTo>
                    <a:pt x="3632" y="3510"/>
                  </a:lnTo>
                  <a:lnTo>
                    <a:pt x="3632" y="3517"/>
                  </a:lnTo>
                  <a:lnTo>
                    <a:pt x="3627" y="3517"/>
                  </a:lnTo>
                  <a:lnTo>
                    <a:pt x="3627" y="3522"/>
                  </a:lnTo>
                  <a:lnTo>
                    <a:pt x="3622" y="3522"/>
                  </a:lnTo>
                  <a:lnTo>
                    <a:pt x="3622" y="3527"/>
                  </a:lnTo>
                  <a:lnTo>
                    <a:pt x="3617" y="3527"/>
                  </a:lnTo>
                  <a:lnTo>
                    <a:pt x="3617" y="3535"/>
                  </a:lnTo>
                  <a:lnTo>
                    <a:pt x="3613" y="3535"/>
                  </a:lnTo>
                  <a:lnTo>
                    <a:pt x="3613" y="3546"/>
                  </a:lnTo>
                  <a:lnTo>
                    <a:pt x="3603" y="3546"/>
                  </a:lnTo>
                  <a:lnTo>
                    <a:pt x="3603" y="3551"/>
                  </a:lnTo>
                  <a:lnTo>
                    <a:pt x="3598" y="3551"/>
                  </a:lnTo>
                  <a:lnTo>
                    <a:pt x="3598" y="3563"/>
                  </a:lnTo>
                  <a:lnTo>
                    <a:pt x="3589" y="3563"/>
                  </a:lnTo>
                  <a:lnTo>
                    <a:pt x="3589" y="3576"/>
                  </a:lnTo>
                  <a:lnTo>
                    <a:pt x="3573" y="3576"/>
                  </a:lnTo>
                  <a:lnTo>
                    <a:pt x="3573" y="3581"/>
                  </a:lnTo>
                  <a:lnTo>
                    <a:pt x="3569" y="3581"/>
                  </a:lnTo>
                  <a:lnTo>
                    <a:pt x="3569" y="3587"/>
                  </a:lnTo>
                  <a:lnTo>
                    <a:pt x="3559" y="3587"/>
                  </a:lnTo>
                  <a:lnTo>
                    <a:pt x="3559" y="3593"/>
                  </a:lnTo>
                  <a:lnTo>
                    <a:pt x="3550" y="3593"/>
                  </a:lnTo>
                  <a:lnTo>
                    <a:pt x="3550" y="3611"/>
                  </a:lnTo>
                  <a:lnTo>
                    <a:pt x="3540" y="3611"/>
                  </a:lnTo>
                  <a:lnTo>
                    <a:pt x="3540" y="3622"/>
                  </a:lnTo>
                  <a:lnTo>
                    <a:pt x="3526" y="3622"/>
                  </a:lnTo>
                  <a:lnTo>
                    <a:pt x="3526" y="3628"/>
                  </a:lnTo>
                  <a:lnTo>
                    <a:pt x="3521" y="3628"/>
                  </a:lnTo>
                  <a:lnTo>
                    <a:pt x="3521" y="3635"/>
                  </a:lnTo>
                  <a:lnTo>
                    <a:pt x="3517" y="3635"/>
                  </a:lnTo>
                  <a:lnTo>
                    <a:pt x="3517" y="3641"/>
                  </a:lnTo>
                  <a:lnTo>
                    <a:pt x="3507" y="3641"/>
                  </a:lnTo>
                  <a:lnTo>
                    <a:pt x="3507" y="3646"/>
                  </a:lnTo>
                  <a:lnTo>
                    <a:pt x="3502" y="3646"/>
                  </a:lnTo>
                  <a:lnTo>
                    <a:pt x="3502" y="3652"/>
                  </a:lnTo>
                  <a:lnTo>
                    <a:pt x="3496" y="3652"/>
                  </a:lnTo>
                  <a:lnTo>
                    <a:pt x="3496" y="3658"/>
                  </a:lnTo>
                  <a:lnTo>
                    <a:pt x="3492" y="3658"/>
                  </a:lnTo>
                  <a:lnTo>
                    <a:pt x="3492" y="3669"/>
                  </a:lnTo>
                  <a:lnTo>
                    <a:pt x="3487" y="3669"/>
                  </a:lnTo>
                  <a:lnTo>
                    <a:pt x="3487" y="3676"/>
                  </a:lnTo>
                  <a:lnTo>
                    <a:pt x="3482" y="3676"/>
                  </a:lnTo>
                  <a:lnTo>
                    <a:pt x="3482" y="3682"/>
                  </a:lnTo>
                  <a:lnTo>
                    <a:pt x="3477" y="3682"/>
                  </a:lnTo>
                  <a:lnTo>
                    <a:pt x="3477" y="3687"/>
                  </a:lnTo>
                  <a:lnTo>
                    <a:pt x="3473" y="3687"/>
                  </a:lnTo>
                  <a:lnTo>
                    <a:pt x="3473" y="3694"/>
                  </a:lnTo>
                  <a:lnTo>
                    <a:pt x="3468" y="3694"/>
                  </a:lnTo>
                  <a:lnTo>
                    <a:pt x="3468" y="3699"/>
                  </a:lnTo>
                  <a:lnTo>
                    <a:pt x="3463" y="3699"/>
                  </a:lnTo>
                  <a:lnTo>
                    <a:pt x="3463" y="3706"/>
                  </a:lnTo>
                  <a:lnTo>
                    <a:pt x="3449" y="3706"/>
                  </a:lnTo>
                  <a:lnTo>
                    <a:pt x="3449" y="3712"/>
                  </a:lnTo>
                  <a:lnTo>
                    <a:pt x="3444" y="3712"/>
                  </a:lnTo>
                  <a:lnTo>
                    <a:pt x="3444" y="3718"/>
                  </a:lnTo>
                  <a:lnTo>
                    <a:pt x="3435" y="3718"/>
                  </a:lnTo>
                  <a:lnTo>
                    <a:pt x="3435" y="3723"/>
                  </a:lnTo>
                  <a:lnTo>
                    <a:pt x="3420" y="3723"/>
                  </a:lnTo>
                  <a:lnTo>
                    <a:pt x="3420" y="3728"/>
                  </a:lnTo>
                  <a:lnTo>
                    <a:pt x="3415" y="3728"/>
                  </a:lnTo>
                  <a:lnTo>
                    <a:pt x="3415" y="3741"/>
                  </a:lnTo>
                  <a:lnTo>
                    <a:pt x="3410" y="3741"/>
                  </a:lnTo>
                  <a:lnTo>
                    <a:pt x="3410" y="3747"/>
                  </a:lnTo>
                  <a:lnTo>
                    <a:pt x="3406" y="3747"/>
                  </a:lnTo>
                  <a:lnTo>
                    <a:pt x="3406" y="3753"/>
                  </a:lnTo>
                  <a:lnTo>
                    <a:pt x="3396" y="3753"/>
                  </a:lnTo>
                  <a:lnTo>
                    <a:pt x="3396" y="3759"/>
                  </a:lnTo>
                  <a:lnTo>
                    <a:pt x="3391" y="3759"/>
                  </a:lnTo>
                  <a:lnTo>
                    <a:pt x="3391" y="3764"/>
                  </a:lnTo>
                  <a:lnTo>
                    <a:pt x="3387" y="3764"/>
                  </a:lnTo>
                  <a:lnTo>
                    <a:pt x="3387" y="3771"/>
                  </a:lnTo>
                  <a:lnTo>
                    <a:pt x="3382" y="3771"/>
                  </a:lnTo>
                  <a:lnTo>
                    <a:pt x="3382" y="3777"/>
                  </a:lnTo>
                  <a:lnTo>
                    <a:pt x="3373" y="3777"/>
                  </a:lnTo>
                  <a:lnTo>
                    <a:pt x="3373" y="3782"/>
                  </a:lnTo>
                  <a:lnTo>
                    <a:pt x="3363" y="3782"/>
                  </a:lnTo>
                  <a:lnTo>
                    <a:pt x="3363" y="3794"/>
                  </a:lnTo>
                  <a:lnTo>
                    <a:pt x="3357" y="3794"/>
                  </a:lnTo>
                  <a:lnTo>
                    <a:pt x="3357" y="3801"/>
                  </a:lnTo>
                  <a:lnTo>
                    <a:pt x="3352" y="3801"/>
                  </a:lnTo>
                  <a:lnTo>
                    <a:pt x="3352" y="3806"/>
                  </a:lnTo>
                  <a:lnTo>
                    <a:pt x="3347" y="3806"/>
                  </a:lnTo>
                  <a:lnTo>
                    <a:pt x="3347" y="3813"/>
                  </a:lnTo>
                  <a:lnTo>
                    <a:pt x="3343" y="3813"/>
                  </a:lnTo>
                  <a:lnTo>
                    <a:pt x="3343" y="3818"/>
                  </a:lnTo>
                  <a:lnTo>
                    <a:pt x="3338" y="3818"/>
                  </a:lnTo>
                  <a:lnTo>
                    <a:pt x="3338" y="3824"/>
                  </a:lnTo>
                  <a:lnTo>
                    <a:pt x="3329" y="3824"/>
                  </a:lnTo>
                  <a:lnTo>
                    <a:pt x="3329" y="3829"/>
                  </a:lnTo>
                  <a:lnTo>
                    <a:pt x="3324" y="3829"/>
                  </a:lnTo>
                  <a:lnTo>
                    <a:pt x="3324" y="3835"/>
                  </a:lnTo>
                  <a:lnTo>
                    <a:pt x="3314" y="3835"/>
                  </a:lnTo>
                  <a:lnTo>
                    <a:pt x="3314" y="3847"/>
                  </a:lnTo>
                  <a:lnTo>
                    <a:pt x="3296" y="3847"/>
                  </a:lnTo>
                  <a:lnTo>
                    <a:pt x="3296" y="3854"/>
                  </a:lnTo>
                  <a:lnTo>
                    <a:pt x="3291" y="3854"/>
                  </a:lnTo>
                  <a:lnTo>
                    <a:pt x="3291" y="3859"/>
                  </a:lnTo>
                  <a:lnTo>
                    <a:pt x="3285" y="3859"/>
                  </a:lnTo>
                  <a:lnTo>
                    <a:pt x="3285" y="3865"/>
                  </a:lnTo>
                  <a:lnTo>
                    <a:pt x="3276" y="3865"/>
                  </a:lnTo>
                  <a:lnTo>
                    <a:pt x="3276" y="3872"/>
                  </a:lnTo>
                  <a:lnTo>
                    <a:pt x="3271" y="3872"/>
                  </a:lnTo>
                  <a:lnTo>
                    <a:pt x="3271" y="3877"/>
                  </a:lnTo>
                  <a:lnTo>
                    <a:pt x="3266" y="3877"/>
                  </a:lnTo>
                  <a:lnTo>
                    <a:pt x="3266" y="3883"/>
                  </a:lnTo>
                  <a:lnTo>
                    <a:pt x="3262" y="3883"/>
                  </a:lnTo>
                  <a:lnTo>
                    <a:pt x="3262" y="3889"/>
                  </a:lnTo>
                  <a:lnTo>
                    <a:pt x="3252" y="3889"/>
                  </a:lnTo>
                  <a:lnTo>
                    <a:pt x="3252" y="3895"/>
                  </a:lnTo>
                  <a:lnTo>
                    <a:pt x="3248" y="3895"/>
                  </a:lnTo>
                  <a:lnTo>
                    <a:pt x="3248" y="3900"/>
                  </a:lnTo>
                  <a:lnTo>
                    <a:pt x="3243" y="3900"/>
                  </a:lnTo>
                  <a:lnTo>
                    <a:pt x="3243" y="3907"/>
                  </a:lnTo>
                  <a:lnTo>
                    <a:pt x="3238" y="3907"/>
                  </a:lnTo>
                  <a:lnTo>
                    <a:pt x="3238" y="3913"/>
                  </a:lnTo>
                  <a:lnTo>
                    <a:pt x="3233" y="3913"/>
                  </a:lnTo>
                  <a:lnTo>
                    <a:pt x="3233" y="3919"/>
                  </a:lnTo>
                  <a:lnTo>
                    <a:pt x="3223" y="3919"/>
                  </a:lnTo>
                  <a:lnTo>
                    <a:pt x="3223" y="3924"/>
                  </a:lnTo>
                  <a:lnTo>
                    <a:pt x="3213" y="3924"/>
                  </a:lnTo>
                  <a:lnTo>
                    <a:pt x="3213" y="3937"/>
                  </a:lnTo>
                  <a:lnTo>
                    <a:pt x="3199" y="3937"/>
                  </a:lnTo>
                  <a:lnTo>
                    <a:pt x="3199" y="3942"/>
                  </a:lnTo>
                  <a:lnTo>
                    <a:pt x="3194" y="3942"/>
                  </a:lnTo>
                  <a:lnTo>
                    <a:pt x="3194" y="3948"/>
                  </a:lnTo>
                  <a:lnTo>
                    <a:pt x="3189" y="3948"/>
                  </a:lnTo>
                  <a:lnTo>
                    <a:pt x="3189" y="3954"/>
                  </a:lnTo>
                  <a:lnTo>
                    <a:pt x="3185" y="3954"/>
                  </a:lnTo>
                  <a:lnTo>
                    <a:pt x="3185" y="3959"/>
                  </a:lnTo>
                  <a:lnTo>
                    <a:pt x="3175" y="3959"/>
                  </a:lnTo>
                  <a:lnTo>
                    <a:pt x="3175" y="3965"/>
                  </a:lnTo>
                  <a:lnTo>
                    <a:pt x="3170" y="3965"/>
                  </a:lnTo>
                  <a:lnTo>
                    <a:pt x="3170" y="3971"/>
                  </a:lnTo>
                  <a:lnTo>
                    <a:pt x="3166" y="3971"/>
                  </a:lnTo>
                  <a:lnTo>
                    <a:pt x="3166" y="3978"/>
                  </a:lnTo>
                  <a:lnTo>
                    <a:pt x="3161" y="3978"/>
                  </a:lnTo>
                  <a:lnTo>
                    <a:pt x="3161" y="3983"/>
                  </a:lnTo>
                  <a:lnTo>
                    <a:pt x="3156" y="3983"/>
                  </a:lnTo>
                  <a:lnTo>
                    <a:pt x="3156" y="3989"/>
                  </a:lnTo>
                  <a:lnTo>
                    <a:pt x="3152" y="3989"/>
                  </a:lnTo>
                  <a:lnTo>
                    <a:pt x="3152" y="3995"/>
                  </a:lnTo>
                  <a:lnTo>
                    <a:pt x="3147" y="3995"/>
                  </a:lnTo>
                  <a:lnTo>
                    <a:pt x="3147" y="4000"/>
                  </a:lnTo>
                  <a:lnTo>
                    <a:pt x="3141" y="4000"/>
                  </a:lnTo>
                  <a:lnTo>
                    <a:pt x="3141" y="4008"/>
                  </a:lnTo>
                  <a:lnTo>
                    <a:pt x="3136" y="4008"/>
                  </a:lnTo>
                  <a:lnTo>
                    <a:pt x="3136" y="4013"/>
                  </a:lnTo>
                  <a:lnTo>
                    <a:pt x="3126" y="4013"/>
                  </a:lnTo>
                  <a:lnTo>
                    <a:pt x="3126" y="4019"/>
                  </a:lnTo>
                  <a:lnTo>
                    <a:pt x="3122" y="4019"/>
                  </a:lnTo>
                  <a:lnTo>
                    <a:pt x="3122" y="4024"/>
                  </a:lnTo>
                  <a:lnTo>
                    <a:pt x="3118" y="4024"/>
                  </a:lnTo>
                  <a:lnTo>
                    <a:pt x="3118" y="4031"/>
                  </a:lnTo>
                  <a:lnTo>
                    <a:pt x="3112" y="4031"/>
                  </a:lnTo>
                  <a:lnTo>
                    <a:pt x="3112" y="4036"/>
                  </a:lnTo>
                  <a:lnTo>
                    <a:pt x="3108" y="4036"/>
                  </a:lnTo>
                  <a:lnTo>
                    <a:pt x="3108" y="4049"/>
                  </a:lnTo>
                  <a:lnTo>
                    <a:pt x="3103" y="4049"/>
                  </a:lnTo>
                  <a:lnTo>
                    <a:pt x="3103" y="4054"/>
                  </a:lnTo>
                  <a:lnTo>
                    <a:pt x="3098" y="4054"/>
                  </a:lnTo>
                  <a:lnTo>
                    <a:pt x="3098" y="4060"/>
                  </a:lnTo>
                  <a:lnTo>
                    <a:pt x="3093" y="4060"/>
                  </a:lnTo>
                  <a:lnTo>
                    <a:pt x="3093" y="4066"/>
                  </a:lnTo>
                  <a:lnTo>
                    <a:pt x="3089" y="4066"/>
                  </a:lnTo>
                  <a:lnTo>
                    <a:pt x="3089" y="4073"/>
                  </a:lnTo>
                  <a:lnTo>
                    <a:pt x="3079" y="4073"/>
                  </a:lnTo>
                  <a:lnTo>
                    <a:pt x="3079" y="4078"/>
                  </a:lnTo>
                  <a:lnTo>
                    <a:pt x="3075" y="4078"/>
                  </a:lnTo>
                  <a:lnTo>
                    <a:pt x="3075" y="4084"/>
                  </a:lnTo>
                  <a:lnTo>
                    <a:pt x="3069" y="4084"/>
                  </a:lnTo>
                  <a:lnTo>
                    <a:pt x="3069" y="4090"/>
                  </a:lnTo>
                  <a:lnTo>
                    <a:pt x="3064" y="4090"/>
                  </a:lnTo>
                  <a:lnTo>
                    <a:pt x="3064" y="4095"/>
                  </a:lnTo>
                  <a:lnTo>
                    <a:pt x="3055" y="4095"/>
                  </a:lnTo>
                  <a:lnTo>
                    <a:pt x="3055" y="4101"/>
                  </a:lnTo>
                  <a:lnTo>
                    <a:pt x="3050" y="4101"/>
                  </a:lnTo>
                  <a:lnTo>
                    <a:pt x="3050" y="4107"/>
                  </a:lnTo>
                  <a:lnTo>
                    <a:pt x="3045" y="4107"/>
                  </a:lnTo>
                  <a:lnTo>
                    <a:pt x="3045" y="4114"/>
                  </a:lnTo>
                  <a:lnTo>
                    <a:pt x="3041" y="4114"/>
                  </a:lnTo>
                  <a:lnTo>
                    <a:pt x="3041" y="4125"/>
                  </a:lnTo>
                  <a:lnTo>
                    <a:pt x="3036" y="4125"/>
                  </a:lnTo>
                  <a:lnTo>
                    <a:pt x="3036" y="4131"/>
                  </a:lnTo>
                  <a:lnTo>
                    <a:pt x="3031" y="4131"/>
                  </a:lnTo>
                  <a:lnTo>
                    <a:pt x="3031" y="4137"/>
                  </a:lnTo>
                  <a:lnTo>
                    <a:pt x="3026" y="4137"/>
                  </a:lnTo>
                  <a:lnTo>
                    <a:pt x="3026" y="4142"/>
                  </a:lnTo>
                  <a:lnTo>
                    <a:pt x="3016" y="4142"/>
                  </a:lnTo>
                  <a:lnTo>
                    <a:pt x="3016" y="4155"/>
                  </a:lnTo>
                  <a:lnTo>
                    <a:pt x="3012" y="4155"/>
                  </a:lnTo>
                  <a:lnTo>
                    <a:pt x="3012" y="4160"/>
                  </a:lnTo>
                  <a:lnTo>
                    <a:pt x="3003" y="4160"/>
                  </a:lnTo>
                  <a:lnTo>
                    <a:pt x="3003" y="4172"/>
                  </a:lnTo>
                  <a:lnTo>
                    <a:pt x="2997" y="4172"/>
                  </a:lnTo>
                  <a:lnTo>
                    <a:pt x="2997" y="4179"/>
                  </a:lnTo>
                  <a:lnTo>
                    <a:pt x="2988" y="4179"/>
                  </a:lnTo>
                  <a:lnTo>
                    <a:pt x="2988" y="4185"/>
                  </a:lnTo>
                  <a:lnTo>
                    <a:pt x="2978" y="4185"/>
                  </a:lnTo>
                  <a:lnTo>
                    <a:pt x="2978" y="4191"/>
                  </a:lnTo>
                  <a:lnTo>
                    <a:pt x="2964" y="4191"/>
                  </a:lnTo>
                  <a:lnTo>
                    <a:pt x="2964" y="4196"/>
                  </a:lnTo>
                  <a:lnTo>
                    <a:pt x="2959" y="4196"/>
                  </a:lnTo>
                  <a:lnTo>
                    <a:pt x="2959" y="4209"/>
                  </a:lnTo>
                  <a:lnTo>
                    <a:pt x="2954" y="4209"/>
                  </a:lnTo>
                  <a:lnTo>
                    <a:pt x="2954" y="4214"/>
                  </a:lnTo>
                  <a:lnTo>
                    <a:pt x="2950" y="4214"/>
                  </a:lnTo>
                  <a:lnTo>
                    <a:pt x="2950" y="4226"/>
                  </a:lnTo>
                  <a:lnTo>
                    <a:pt x="2945" y="4226"/>
                  </a:lnTo>
                  <a:lnTo>
                    <a:pt x="2945" y="4232"/>
                  </a:lnTo>
                  <a:lnTo>
                    <a:pt x="2941" y="4232"/>
                  </a:lnTo>
                  <a:lnTo>
                    <a:pt x="2941" y="4237"/>
                  </a:lnTo>
                  <a:lnTo>
                    <a:pt x="2931" y="4237"/>
                  </a:lnTo>
                  <a:lnTo>
                    <a:pt x="2931" y="4244"/>
                  </a:lnTo>
                  <a:lnTo>
                    <a:pt x="2906" y="4244"/>
                  </a:lnTo>
                  <a:lnTo>
                    <a:pt x="2906" y="4237"/>
                  </a:lnTo>
                  <a:lnTo>
                    <a:pt x="2897" y="4237"/>
                  </a:lnTo>
                  <a:lnTo>
                    <a:pt x="2897" y="4232"/>
                  </a:lnTo>
                  <a:lnTo>
                    <a:pt x="2892" y="4232"/>
                  </a:lnTo>
                  <a:lnTo>
                    <a:pt x="2892" y="4226"/>
                  </a:lnTo>
                  <a:lnTo>
                    <a:pt x="2887" y="4226"/>
                  </a:lnTo>
                  <a:lnTo>
                    <a:pt x="2887" y="4209"/>
                  </a:lnTo>
                  <a:lnTo>
                    <a:pt x="2892" y="4209"/>
                  </a:lnTo>
                  <a:lnTo>
                    <a:pt x="2892" y="4201"/>
                  </a:lnTo>
                  <a:lnTo>
                    <a:pt x="2897" y="4201"/>
                  </a:lnTo>
                  <a:lnTo>
                    <a:pt x="2897" y="4196"/>
                  </a:lnTo>
                  <a:lnTo>
                    <a:pt x="2901" y="4196"/>
                  </a:lnTo>
                  <a:lnTo>
                    <a:pt x="2901" y="4191"/>
                  </a:lnTo>
                  <a:lnTo>
                    <a:pt x="2906" y="4191"/>
                  </a:lnTo>
                  <a:lnTo>
                    <a:pt x="2906" y="4185"/>
                  </a:lnTo>
                  <a:lnTo>
                    <a:pt x="2911" y="4185"/>
                  </a:lnTo>
                  <a:lnTo>
                    <a:pt x="2911" y="4179"/>
                  </a:lnTo>
                  <a:lnTo>
                    <a:pt x="2915" y="4179"/>
                  </a:lnTo>
                  <a:lnTo>
                    <a:pt x="2915" y="4172"/>
                  </a:lnTo>
                  <a:lnTo>
                    <a:pt x="2920" y="4172"/>
                  </a:lnTo>
                  <a:lnTo>
                    <a:pt x="2920" y="4167"/>
                  </a:lnTo>
                  <a:lnTo>
                    <a:pt x="2925" y="4167"/>
                  </a:lnTo>
                  <a:lnTo>
                    <a:pt x="2925" y="4160"/>
                  </a:lnTo>
                  <a:lnTo>
                    <a:pt x="2931" y="4160"/>
                  </a:lnTo>
                  <a:lnTo>
                    <a:pt x="2931" y="4155"/>
                  </a:lnTo>
                  <a:lnTo>
                    <a:pt x="2935" y="4155"/>
                  </a:lnTo>
                  <a:lnTo>
                    <a:pt x="2935" y="4149"/>
                  </a:lnTo>
                  <a:lnTo>
                    <a:pt x="2941" y="4149"/>
                  </a:lnTo>
                  <a:lnTo>
                    <a:pt x="2941" y="4142"/>
                  </a:lnTo>
                  <a:lnTo>
                    <a:pt x="2950" y="4142"/>
                  </a:lnTo>
                  <a:lnTo>
                    <a:pt x="2950" y="4131"/>
                  </a:lnTo>
                  <a:lnTo>
                    <a:pt x="2959" y="4131"/>
                  </a:lnTo>
                  <a:lnTo>
                    <a:pt x="2959" y="4125"/>
                  </a:lnTo>
                  <a:lnTo>
                    <a:pt x="2964" y="4125"/>
                  </a:lnTo>
                  <a:lnTo>
                    <a:pt x="2964" y="4119"/>
                  </a:lnTo>
                  <a:lnTo>
                    <a:pt x="2973" y="4119"/>
                  </a:lnTo>
                  <a:lnTo>
                    <a:pt x="2973" y="4114"/>
                  </a:lnTo>
                  <a:lnTo>
                    <a:pt x="2978" y="4114"/>
                  </a:lnTo>
                  <a:lnTo>
                    <a:pt x="2978" y="4107"/>
                  </a:lnTo>
                  <a:lnTo>
                    <a:pt x="2982" y="4107"/>
                  </a:lnTo>
                  <a:lnTo>
                    <a:pt x="2982" y="4101"/>
                  </a:lnTo>
                  <a:lnTo>
                    <a:pt x="2988" y="4101"/>
                  </a:lnTo>
                  <a:lnTo>
                    <a:pt x="2988" y="4095"/>
                  </a:lnTo>
                  <a:lnTo>
                    <a:pt x="2997" y="4095"/>
                  </a:lnTo>
                  <a:lnTo>
                    <a:pt x="2997" y="4090"/>
                  </a:lnTo>
                  <a:lnTo>
                    <a:pt x="3003" y="4090"/>
                  </a:lnTo>
                  <a:lnTo>
                    <a:pt x="3003" y="4084"/>
                  </a:lnTo>
                  <a:lnTo>
                    <a:pt x="3007" y="4084"/>
                  </a:lnTo>
                  <a:lnTo>
                    <a:pt x="3007" y="4078"/>
                  </a:lnTo>
                  <a:lnTo>
                    <a:pt x="3016" y="4078"/>
                  </a:lnTo>
                  <a:lnTo>
                    <a:pt x="3016" y="4073"/>
                  </a:lnTo>
                  <a:lnTo>
                    <a:pt x="3022" y="4073"/>
                  </a:lnTo>
                  <a:lnTo>
                    <a:pt x="3022" y="4066"/>
                  </a:lnTo>
                  <a:lnTo>
                    <a:pt x="3026" y="4066"/>
                  </a:lnTo>
                  <a:lnTo>
                    <a:pt x="3026" y="4054"/>
                  </a:lnTo>
                  <a:lnTo>
                    <a:pt x="3031" y="4054"/>
                  </a:lnTo>
                  <a:lnTo>
                    <a:pt x="3031" y="4049"/>
                  </a:lnTo>
                  <a:lnTo>
                    <a:pt x="3036" y="4049"/>
                  </a:lnTo>
                  <a:lnTo>
                    <a:pt x="3036" y="4041"/>
                  </a:lnTo>
                  <a:lnTo>
                    <a:pt x="3041" y="4041"/>
                  </a:lnTo>
                  <a:lnTo>
                    <a:pt x="3041" y="4036"/>
                  </a:lnTo>
                  <a:lnTo>
                    <a:pt x="3045" y="4036"/>
                  </a:lnTo>
                  <a:lnTo>
                    <a:pt x="3045" y="4031"/>
                  </a:lnTo>
                  <a:lnTo>
                    <a:pt x="3050" y="4031"/>
                  </a:lnTo>
                  <a:lnTo>
                    <a:pt x="3050" y="4024"/>
                  </a:lnTo>
                  <a:lnTo>
                    <a:pt x="3055" y="4024"/>
                  </a:lnTo>
                  <a:lnTo>
                    <a:pt x="3055" y="4019"/>
                  </a:lnTo>
                  <a:lnTo>
                    <a:pt x="3059" y="4019"/>
                  </a:lnTo>
                  <a:lnTo>
                    <a:pt x="3059" y="4013"/>
                  </a:lnTo>
                  <a:lnTo>
                    <a:pt x="3064" y="4013"/>
                  </a:lnTo>
                  <a:lnTo>
                    <a:pt x="3064" y="4008"/>
                  </a:lnTo>
                  <a:lnTo>
                    <a:pt x="3069" y="4008"/>
                  </a:lnTo>
                  <a:lnTo>
                    <a:pt x="3069" y="4000"/>
                  </a:lnTo>
                  <a:lnTo>
                    <a:pt x="3075" y="4000"/>
                  </a:lnTo>
                  <a:lnTo>
                    <a:pt x="3075" y="3995"/>
                  </a:lnTo>
                  <a:lnTo>
                    <a:pt x="3079" y="3995"/>
                  </a:lnTo>
                  <a:lnTo>
                    <a:pt x="3079" y="3983"/>
                  </a:lnTo>
                  <a:lnTo>
                    <a:pt x="3085" y="3983"/>
                  </a:lnTo>
                  <a:lnTo>
                    <a:pt x="3085" y="3978"/>
                  </a:lnTo>
                  <a:lnTo>
                    <a:pt x="3089" y="3978"/>
                  </a:lnTo>
                  <a:lnTo>
                    <a:pt x="3089" y="3971"/>
                  </a:lnTo>
                  <a:lnTo>
                    <a:pt x="3098" y="3971"/>
                  </a:lnTo>
                  <a:lnTo>
                    <a:pt x="3098" y="3965"/>
                  </a:lnTo>
                  <a:lnTo>
                    <a:pt x="3103" y="3965"/>
                  </a:lnTo>
                  <a:lnTo>
                    <a:pt x="3103" y="3959"/>
                  </a:lnTo>
                  <a:lnTo>
                    <a:pt x="3108" y="3959"/>
                  </a:lnTo>
                  <a:lnTo>
                    <a:pt x="3108" y="3954"/>
                  </a:lnTo>
                  <a:lnTo>
                    <a:pt x="3112" y="3954"/>
                  </a:lnTo>
                  <a:lnTo>
                    <a:pt x="3112" y="3948"/>
                  </a:lnTo>
                  <a:lnTo>
                    <a:pt x="3118" y="3948"/>
                  </a:lnTo>
                  <a:lnTo>
                    <a:pt x="3118" y="3942"/>
                  </a:lnTo>
                  <a:lnTo>
                    <a:pt x="3126" y="3942"/>
                  </a:lnTo>
                  <a:lnTo>
                    <a:pt x="3126" y="3937"/>
                  </a:lnTo>
                  <a:lnTo>
                    <a:pt x="3132" y="3937"/>
                  </a:lnTo>
                  <a:lnTo>
                    <a:pt x="3132" y="3930"/>
                  </a:lnTo>
                  <a:lnTo>
                    <a:pt x="3136" y="3930"/>
                  </a:lnTo>
                  <a:lnTo>
                    <a:pt x="3136" y="3924"/>
                  </a:lnTo>
                  <a:lnTo>
                    <a:pt x="3147" y="3924"/>
                  </a:lnTo>
                  <a:lnTo>
                    <a:pt x="3147" y="3919"/>
                  </a:lnTo>
                  <a:lnTo>
                    <a:pt x="3152" y="3919"/>
                  </a:lnTo>
                  <a:lnTo>
                    <a:pt x="3152" y="3913"/>
                  </a:lnTo>
                  <a:lnTo>
                    <a:pt x="3161" y="3913"/>
                  </a:lnTo>
                  <a:lnTo>
                    <a:pt x="3161" y="3907"/>
                  </a:lnTo>
                  <a:lnTo>
                    <a:pt x="3166" y="3907"/>
                  </a:lnTo>
                  <a:lnTo>
                    <a:pt x="3166" y="3900"/>
                  </a:lnTo>
                  <a:lnTo>
                    <a:pt x="3175" y="3900"/>
                  </a:lnTo>
                  <a:lnTo>
                    <a:pt x="3175" y="3895"/>
                  </a:lnTo>
                  <a:lnTo>
                    <a:pt x="3185" y="3895"/>
                  </a:lnTo>
                  <a:lnTo>
                    <a:pt x="3185" y="3883"/>
                  </a:lnTo>
                  <a:lnTo>
                    <a:pt x="3189" y="3883"/>
                  </a:lnTo>
                  <a:lnTo>
                    <a:pt x="3189" y="3877"/>
                  </a:lnTo>
                  <a:lnTo>
                    <a:pt x="3194" y="3877"/>
                  </a:lnTo>
                  <a:lnTo>
                    <a:pt x="3194" y="3872"/>
                  </a:lnTo>
                  <a:lnTo>
                    <a:pt x="3204" y="3872"/>
                  </a:lnTo>
                  <a:lnTo>
                    <a:pt x="3204" y="3865"/>
                  </a:lnTo>
                  <a:lnTo>
                    <a:pt x="3208" y="3865"/>
                  </a:lnTo>
                  <a:lnTo>
                    <a:pt x="3208" y="3859"/>
                  </a:lnTo>
                  <a:lnTo>
                    <a:pt x="3219" y="3859"/>
                  </a:lnTo>
                  <a:lnTo>
                    <a:pt x="3219" y="3847"/>
                  </a:lnTo>
                  <a:lnTo>
                    <a:pt x="3229" y="3847"/>
                  </a:lnTo>
                  <a:lnTo>
                    <a:pt x="3229" y="3835"/>
                  </a:lnTo>
                  <a:lnTo>
                    <a:pt x="3238" y="3835"/>
                  </a:lnTo>
                  <a:lnTo>
                    <a:pt x="3238" y="3829"/>
                  </a:lnTo>
                  <a:lnTo>
                    <a:pt x="3243" y="3829"/>
                  </a:lnTo>
                  <a:lnTo>
                    <a:pt x="3243" y="3824"/>
                  </a:lnTo>
                  <a:lnTo>
                    <a:pt x="3248" y="3824"/>
                  </a:lnTo>
                  <a:lnTo>
                    <a:pt x="3248" y="3818"/>
                  </a:lnTo>
                  <a:lnTo>
                    <a:pt x="3252" y="3818"/>
                  </a:lnTo>
                  <a:lnTo>
                    <a:pt x="3252" y="3813"/>
                  </a:lnTo>
                  <a:lnTo>
                    <a:pt x="3262" y="3813"/>
                  </a:lnTo>
                  <a:lnTo>
                    <a:pt x="3262" y="3806"/>
                  </a:lnTo>
                  <a:lnTo>
                    <a:pt x="3271" y="3806"/>
                  </a:lnTo>
                  <a:lnTo>
                    <a:pt x="3271" y="3801"/>
                  </a:lnTo>
                  <a:lnTo>
                    <a:pt x="3276" y="3801"/>
                  </a:lnTo>
                  <a:lnTo>
                    <a:pt x="3276" y="3794"/>
                  </a:lnTo>
                  <a:lnTo>
                    <a:pt x="3281" y="3794"/>
                  </a:lnTo>
                  <a:lnTo>
                    <a:pt x="3281" y="3788"/>
                  </a:lnTo>
                  <a:lnTo>
                    <a:pt x="3285" y="3788"/>
                  </a:lnTo>
                  <a:lnTo>
                    <a:pt x="3285" y="3782"/>
                  </a:lnTo>
                  <a:lnTo>
                    <a:pt x="3296" y="3782"/>
                  </a:lnTo>
                  <a:lnTo>
                    <a:pt x="3296" y="3777"/>
                  </a:lnTo>
                  <a:lnTo>
                    <a:pt x="3300" y="3777"/>
                  </a:lnTo>
                  <a:lnTo>
                    <a:pt x="3300" y="3771"/>
                  </a:lnTo>
                  <a:lnTo>
                    <a:pt x="3314" y="3771"/>
                  </a:lnTo>
                  <a:lnTo>
                    <a:pt x="3314" y="3764"/>
                  </a:lnTo>
                  <a:lnTo>
                    <a:pt x="3324" y="3764"/>
                  </a:lnTo>
                  <a:lnTo>
                    <a:pt x="3324" y="3759"/>
                  </a:lnTo>
                  <a:lnTo>
                    <a:pt x="3329" y="3759"/>
                  </a:lnTo>
                  <a:lnTo>
                    <a:pt x="3329" y="3747"/>
                  </a:lnTo>
                  <a:lnTo>
                    <a:pt x="3333" y="3747"/>
                  </a:lnTo>
                  <a:lnTo>
                    <a:pt x="3333" y="3741"/>
                  </a:lnTo>
                  <a:lnTo>
                    <a:pt x="3338" y="3741"/>
                  </a:lnTo>
                  <a:lnTo>
                    <a:pt x="3338" y="3736"/>
                  </a:lnTo>
                  <a:lnTo>
                    <a:pt x="3343" y="3736"/>
                  </a:lnTo>
                  <a:lnTo>
                    <a:pt x="3343" y="3728"/>
                  </a:lnTo>
                  <a:lnTo>
                    <a:pt x="3347" y="3728"/>
                  </a:lnTo>
                  <a:lnTo>
                    <a:pt x="3347" y="3723"/>
                  </a:lnTo>
                  <a:lnTo>
                    <a:pt x="3352" y="3723"/>
                  </a:lnTo>
                  <a:lnTo>
                    <a:pt x="3352" y="3718"/>
                  </a:lnTo>
                  <a:lnTo>
                    <a:pt x="3357" y="3718"/>
                  </a:lnTo>
                  <a:lnTo>
                    <a:pt x="3357" y="3712"/>
                  </a:lnTo>
                  <a:lnTo>
                    <a:pt x="3363" y="3712"/>
                  </a:lnTo>
                  <a:lnTo>
                    <a:pt x="3363" y="3706"/>
                  </a:lnTo>
                  <a:lnTo>
                    <a:pt x="3373" y="3706"/>
                  </a:lnTo>
                  <a:lnTo>
                    <a:pt x="3373" y="3699"/>
                  </a:lnTo>
                  <a:lnTo>
                    <a:pt x="3377" y="3699"/>
                  </a:lnTo>
                  <a:lnTo>
                    <a:pt x="3377" y="3694"/>
                  </a:lnTo>
                  <a:lnTo>
                    <a:pt x="3382" y="3694"/>
                  </a:lnTo>
                  <a:lnTo>
                    <a:pt x="3382" y="3687"/>
                  </a:lnTo>
                  <a:lnTo>
                    <a:pt x="3387" y="3687"/>
                  </a:lnTo>
                  <a:lnTo>
                    <a:pt x="3387" y="3682"/>
                  </a:lnTo>
                  <a:lnTo>
                    <a:pt x="3391" y="3682"/>
                  </a:lnTo>
                  <a:lnTo>
                    <a:pt x="3391" y="3676"/>
                  </a:lnTo>
                  <a:lnTo>
                    <a:pt x="3396" y="3676"/>
                  </a:lnTo>
                  <a:lnTo>
                    <a:pt x="3396" y="3669"/>
                  </a:lnTo>
                  <a:lnTo>
                    <a:pt x="3406" y="3669"/>
                  </a:lnTo>
                  <a:lnTo>
                    <a:pt x="3406" y="3665"/>
                  </a:lnTo>
                  <a:lnTo>
                    <a:pt x="3410" y="3665"/>
                  </a:lnTo>
                  <a:lnTo>
                    <a:pt x="3410" y="3658"/>
                  </a:lnTo>
                  <a:lnTo>
                    <a:pt x="3415" y="3658"/>
                  </a:lnTo>
                  <a:lnTo>
                    <a:pt x="3415" y="3652"/>
                  </a:lnTo>
                  <a:lnTo>
                    <a:pt x="3420" y="3652"/>
                  </a:lnTo>
                  <a:lnTo>
                    <a:pt x="3420" y="3646"/>
                  </a:lnTo>
                  <a:lnTo>
                    <a:pt x="3424" y="3646"/>
                  </a:lnTo>
                  <a:lnTo>
                    <a:pt x="3424" y="3641"/>
                  </a:lnTo>
                  <a:lnTo>
                    <a:pt x="3435" y="3641"/>
                  </a:lnTo>
                  <a:lnTo>
                    <a:pt x="3435" y="3635"/>
                  </a:lnTo>
                  <a:lnTo>
                    <a:pt x="3444" y="3635"/>
                  </a:lnTo>
                  <a:lnTo>
                    <a:pt x="3444" y="3628"/>
                  </a:lnTo>
                  <a:lnTo>
                    <a:pt x="3449" y="3628"/>
                  </a:lnTo>
                  <a:lnTo>
                    <a:pt x="3449" y="3622"/>
                  </a:lnTo>
                  <a:lnTo>
                    <a:pt x="3459" y="3622"/>
                  </a:lnTo>
                  <a:lnTo>
                    <a:pt x="3459" y="3617"/>
                  </a:lnTo>
                  <a:lnTo>
                    <a:pt x="3463" y="3617"/>
                  </a:lnTo>
                  <a:lnTo>
                    <a:pt x="3463" y="3611"/>
                  </a:lnTo>
                  <a:lnTo>
                    <a:pt x="3473" y="3611"/>
                  </a:lnTo>
                  <a:lnTo>
                    <a:pt x="3473" y="3605"/>
                  </a:lnTo>
                  <a:lnTo>
                    <a:pt x="3477" y="3605"/>
                  </a:lnTo>
                  <a:lnTo>
                    <a:pt x="3477" y="3600"/>
                  </a:lnTo>
                  <a:lnTo>
                    <a:pt x="3482" y="3600"/>
                  </a:lnTo>
                  <a:lnTo>
                    <a:pt x="3482" y="3593"/>
                  </a:lnTo>
                  <a:lnTo>
                    <a:pt x="3487" y="3593"/>
                  </a:lnTo>
                  <a:lnTo>
                    <a:pt x="3487" y="3587"/>
                  </a:lnTo>
                  <a:lnTo>
                    <a:pt x="3492" y="3587"/>
                  </a:lnTo>
                  <a:lnTo>
                    <a:pt x="3492" y="3581"/>
                  </a:lnTo>
                  <a:lnTo>
                    <a:pt x="3496" y="3581"/>
                  </a:lnTo>
                  <a:lnTo>
                    <a:pt x="3496" y="3570"/>
                  </a:lnTo>
                  <a:lnTo>
                    <a:pt x="3507" y="3570"/>
                  </a:lnTo>
                  <a:lnTo>
                    <a:pt x="3507" y="3563"/>
                  </a:lnTo>
                  <a:lnTo>
                    <a:pt x="3517" y="3563"/>
                  </a:lnTo>
                  <a:lnTo>
                    <a:pt x="3517" y="3558"/>
                  </a:lnTo>
                  <a:lnTo>
                    <a:pt x="3521" y="3558"/>
                  </a:lnTo>
                  <a:lnTo>
                    <a:pt x="3521" y="3551"/>
                  </a:lnTo>
                  <a:lnTo>
                    <a:pt x="3531" y="3551"/>
                  </a:lnTo>
                  <a:lnTo>
                    <a:pt x="3531" y="3546"/>
                  </a:lnTo>
                  <a:lnTo>
                    <a:pt x="3536" y="3546"/>
                  </a:lnTo>
                  <a:lnTo>
                    <a:pt x="3536" y="3540"/>
                  </a:lnTo>
                  <a:lnTo>
                    <a:pt x="3540" y="3540"/>
                  </a:lnTo>
                  <a:lnTo>
                    <a:pt x="3540" y="3535"/>
                  </a:lnTo>
                  <a:lnTo>
                    <a:pt x="3545" y="3535"/>
                  </a:lnTo>
                  <a:lnTo>
                    <a:pt x="3545" y="3522"/>
                  </a:lnTo>
                  <a:lnTo>
                    <a:pt x="3550" y="3522"/>
                  </a:lnTo>
                  <a:lnTo>
                    <a:pt x="3550" y="3517"/>
                  </a:lnTo>
                  <a:lnTo>
                    <a:pt x="3554" y="3517"/>
                  </a:lnTo>
                  <a:lnTo>
                    <a:pt x="3554" y="3510"/>
                  </a:lnTo>
                  <a:lnTo>
                    <a:pt x="3559" y="3510"/>
                  </a:lnTo>
                  <a:lnTo>
                    <a:pt x="3559" y="3505"/>
                  </a:lnTo>
                  <a:lnTo>
                    <a:pt x="3569" y="3505"/>
                  </a:lnTo>
                  <a:lnTo>
                    <a:pt x="3569" y="3500"/>
                  </a:lnTo>
                  <a:lnTo>
                    <a:pt x="3573" y="3500"/>
                  </a:lnTo>
                  <a:lnTo>
                    <a:pt x="3573" y="3492"/>
                  </a:lnTo>
                  <a:lnTo>
                    <a:pt x="3578" y="3492"/>
                  </a:lnTo>
                  <a:lnTo>
                    <a:pt x="3578" y="3487"/>
                  </a:lnTo>
                  <a:lnTo>
                    <a:pt x="3589" y="3487"/>
                  </a:lnTo>
                  <a:lnTo>
                    <a:pt x="3589" y="3481"/>
                  </a:lnTo>
                  <a:lnTo>
                    <a:pt x="3593" y="3481"/>
                  </a:lnTo>
                  <a:lnTo>
                    <a:pt x="3593" y="3475"/>
                  </a:lnTo>
                  <a:lnTo>
                    <a:pt x="3603" y="3475"/>
                  </a:lnTo>
                  <a:lnTo>
                    <a:pt x="3603" y="3469"/>
                  </a:lnTo>
                  <a:lnTo>
                    <a:pt x="3607" y="3469"/>
                  </a:lnTo>
                  <a:lnTo>
                    <a:pt x="3607" y="3459"/>
                  </a:lnTo>
                  <a:lnTo>
                    <a:pt x="3613" y="3459"/>
                  </a:lnTo>
                  <a:lnTo>
                    <a:pt x="3613" y="3451"/>
                  </a:lnTo>
                  <a:lnTo>
                    <a:pt x="3617" y="3451"/>
                  </a:lnTo>
                  <a:lnTo>
                    <a:pt x="3617" y="3446"/>
                  </a:lnTo>
                  <a:lnTo>
                    <a:pt x="3622" y="3446"/>
                  </a:lnTo>
                  <a:lnTo>
                    <a:pt x="3622" y="3440"/>
                  </a:lnTo>
                  <a:lnTo>
                    <a:pt x="3627" y="3440"/>
                  </a:lnTo>
                  <a:lnTo>
                    <a:pt x="3627" y="3434"/>
                  </a:lnTo>
                  <a:lnTo>
                    <a:pt x="3632" y="3434"/>
                  </a:lnTo>
                  <a:lnTo>
                    <a:pt x="3632" y="3422"/>
                  </a:lnTo>
                  <a:lnTo>
                    <a:pt x="3640" y="3422"/>
                  </a:lnTo>
                  <a:lnTo>
                    <a:pt x="3640" y="3416"/>
                  </a:lnTo>
                  <a:lnTo>
                    <a:pt x="3646" y="3416"/>
                  </a:lnTo>
                  <a:lnTo>
                    <a:pt x="3646" y="3410"/>
                  </a:lnTo>
                  <a:lnTo>
                    <a:pt x="3650" y="3410"/>
                  </a:lnTo>
                  <a:lnTo>
                    <a:pt x="3650" y="3405"/>
                  </a:lnTo>
                  <a:lnTo>
                    <a:pt x="3656" y="3405"/>
                  </a:lnTo>
                  <a:lnTo>
                    <a:pt x="3656" y="3399"/>
                  </a:lnTo>
                  <a:lnTo>
                    <a:pt x="3661" y="3399"/>
                  </a:lnTo>
                  <a:lnTo>
                    <a:pt x="3661" y="3392"/>
                  </a:lnTo>
                  <a:lnTo>
                    <a:pt x="3665" y="3392"/>
                  </a:lnTo>
                  <a:lnTo>
                    <a:pt x="3665" y="3386"/>
                  </a:lnTo>
                  <a:lnTo>
                    <a:pt x="3675" y="3386"/>
                  </a:lnTo>
                  <a:lnTo>
                    <a:pt x="3675" y="3381"/>
                  </a:lnTo>
                  <a:lnTo>
                    <a:pt x="3680" y="3381"/>
                  </a:lnTo>
                  <a:lnTo>
                    <a:pt x="3680" y="3374"/>
                  </a:lnTo>
                  <a:lnTo>
                    <a:pt x="3684" y="3374"/>
                  </a:lnTo>
                  <a:lnTo>
                    <a:pt x="3684" y="3369"/>
                  </a:lnTo>
                  <a:lnTo>
                    <a:pt x="3688" y="3369"/>
                  </a:lnTo>
                  <a:lnTo>
                    <a:pt x="3688" y="3363"/>
                  </a:lnTo>
                  <a:lnTo>
                    <a:pt x="3694" y="3363"/>
                  </a:lnTo>
                  <a:lnTo>
                    <a:pt x="3694" y="3351"/>
                  </a:lnTo>
                  <a:lnTo>
                    <a:pt x="3698" y="3351"/>
                  </a:lnTo>
                  <a:lnTo>
                    <a:pt x="3698" y="3345"/>
                  </a:lnTo>
                  <a:lnTo>
                    <a:pt x="3708" y="3345"/>
                  </a:lnTo>
                  <a:lnTo>
                    <a:pt x="3708" y="3340"/>
                  </a:lnTo>
                  <a:lnTo>
                    <a:pt x="3713" y="3340"/>
                  </a:lnTo>
                  <a:lnTo>
                    <a:pt x="3713" y="3333"/>
                  </a:lnTo>
                  <a:lnTo>
                    <a:pt x="3717" y="3333"/>
                  </a:lnTo>
                  <a:lnTo>
                    <a:pt x="3717" y="3328"/>
                  </a:lnTo>
                  <a:lnTo>
                    <a:pt x="3722" y="3328"/>
                  </a:lnTo>
                  <a:lnTo>
                    <a:pt x="3722" y="3321"/>
                  </a:lnTo>
                  <a:lnTo>
                    <a:pt x="3732" y="3321"/>
                  </a:lnTo>
                  <a:lnTo>
                    <a:pt x="3732" y="3315"/>
                  </a:lnTo>
                  <a:lnTo>
                    <a:pt x="3737" y="3315"/>
                  </a:lnTo>
                  <a:lnTo>
                    <a:pt x="3737" y="3309"/>
                  </a:lnTo>
                  <a:lnTo>
                    <a:pt x="3742" y="3309"/>
                  </a:lnTo>
                  <a:lnTo>
                    <a:pt x="3742" y="3304"/>
                  </a:lnTo>
                  <a:lnTo>
                    <a:pt x="3751" y="3304"/>
                  </a:lnTo>
                  <a:lnTo>
                    <a:pt x="3751" y="3298"/>
                  </a:lnTo>
                  <a:lnTo>
                    <a:pt x="3757" y="3298"/>
                  </a:lnTo>
                  <a:lnTo>
                    <a:pt x="3757" y="3291"/>
                  </a:lnTo>
                  <a:lnTo>
                    <a:pt x="3761" y="3291"/>
                  </a:lnTo>
                  <a:lnTo>
                    <a:pt x="3761" y="3280"/>
                  </a:lnTo>
                  <a:lnTo>
                    <a:pt x="3771" y="3280"/>
                  </a:lnTo>
                  <a:lnTo>
                    <a:pt x="3771" y="3274"/>
                  </a:lnTo>
                  <a:lnTo>
                    <a:pt x="3775" y="3274"/>
                  </a:lnTo>
                  <a:lnTo>
                    <a:pt x="3775" y="3263"/>
                  </a:lnTo>
                  <a:lnTo>
                    <a:pt x="3780" y="3263"/>
                  </a:lnTo>
                  <a:lnTo>
                    <a:pt x="3780" y="3255"/>
                  </a:lnTo>
                  <a:lnTo>
                    <a:pt x="3784" y="3255"/>
                  </a:lnTo>
                  <a:lnTo>
                    <a:pt x="3784" y="3250"/>
                  </a:lnTo>
                  <a:lnTo>
                    <a:pt x="3790" y="3250"/>
                  </a:lnTo>
                  <a:lnTo>
                    <a:pt x="3790" y="3245"/>
                  </a:lnTo>
                  <a:lnTo>
                    <a:pt x="3794" y="3245"/>
                  </a:lnTo>
                  <a:lnTo>
                    <a:pt x="3794" y="3239"/>
                  </a:lnTo>
                  <a:lnTo>
                    <a:pt x="3800" y="3239"/>
                  </a:lnTo>
                  <a:lnTo>
                    <a:pt x="3800" y="3227"/>
                  </a:lnTo>
                  <a:lnTo>
                    <a:pt x="3805" y="3227"/>
                  </a:lnTo>
                  <a:lnTo>
                    <a:pt x="3805" y="3214"/>
                  </a:lnTo>
                  <a:lnTo>
                    <a:pt x="3809" y="3214"/>
                  </a:lnTo>
                  <a:lnTo>
                    <a:pt x="3809" y="3204"/>
                  </a:lnTo>
                  <a:lnTo>
                    <a:pt x="3814" y="3204"/>
                  </a:lnTo>
                  <a:lnTo>
                    <a:pt x="3814" y="3179"/>
                  </a:lnTo>
                  <a:lnTo>
                    <a:pt x="3819" y="3179"/>
                  </a:lnTo>
                  <a:lnTo>
                    <a:pt x="3819" y="3173"/>
                  </a:lnTo>
                  <a:lnTo>
                    <a:pt x="3824" y="3173"/>
                  </a:lnTo>
                  <a:lnTo>
                    <a:pt x="3824" y="3168"/>
                  </a:lnTo>
                  <a:lnTo>
                    <a:pt x="3828" y="3168"/>
                  </a:lnTo>
                  <a:lnTo>
                    <a:pt x="3828" y="3162"/>
                  </a:lnTo>
                  <a:lnTo>
                    <a:pt x="3833" y="3162"/>
                  </a:lnTo>
                  <a:lnTo>
                    <a:pt x="3833" y="3138"/>
                  </a:lnTo>
                  <a:lnTo>
                    <a:pt x="3838" y="3138"/>
                  </a:lnTo>
                  <a:lnTo>
                    <a:pt x="3838" y="3132"/>
                  </a:lnTo>
                  <a:lnTo>
                    <a:pt x="3843" y="3132"/>
                  </a:lnTo>
                  <a:lnTo>
                    <a:pt x="3843" y="3108"/>
                  </a:lnTo>
                  <a:lnTo>
                    <a:pt x="3847" y="3108"/>
                  </a:lnTo>
                  <a:lnTo>
                    <a:pt x="3847" y="3092"/>
                  </a:lnTo>
                  <a:lnTo>
                    <a:pt x="3852" y="3092"/>
                  </a:lnTo>
                  <a:lnTo>
                    <a:pt x="3852" y="3079"/>
                  </a:lnTo>
                  <a:lnTo>
                    <a:pt x="3857" y="3079"/>
                  </a:lnTo>
                  <a:lnTo>
                    <a:pt x="3857" y="3062"/>
                  </a:lnTo>
                  <a:lnTo>
                    <a:pt x="3861" y="3062"/>
                  </a:lnTo>
                  <a:lnTo>
                    <a:pt x="3861" y="3044"/>
                  </a:lnTo>
                  <a:lnTo>
                    <a:pt x="3866" y="3044"/>
                  </a:lnTo>
                  <a:lnTo>
                    <a:pt x="3866" y="3019"/>
                  </a:lnTo>
                  <a:lnTo>
                    <a:pt x="3872" y="3019"/>
                  </a:lnTo>
                  <a:lnTo>
                    <a:pt x="3872" y="3008"/>
                  </a:lnTo>
                  <a:lnTo>
                    <a:pt x="3877" y="3008"/>
                  </a:lnTo>
                  <a:lnTo>
                    <a:pt x="3877" y="2996"/>
                  </a:lnTo>
                  <a:lnTo>
                    <a:pt x="3887" y="2996"/>
                  </a:lnTo>
                  <a:lnTo>
                    <a:pt x="3887" y="2986"/>
                  </a:lnTo>
                  <a:lnTo>
                    <a:pt x="3891" y="2986"/>
                  </a:lnTo>
                  <a:lnTo>
                    <a:pt x="3891" y="2973"/>
                  </a:lnTo>
                  <a:lnTo>
                    <a:pt x="3895" y="2973"/>
                  </a:lnTo>
                  <a:lnTo>
                    <a:pt x="3895" y="2967"/>
                  </a:lnTo>
                  <a:lnTo>
                    <a:pt x="3901" y="2967"/>
                  </a:lnTo>
                  <a:lnTo>
                    <a:pt x="3901" y="2954"/>
                  </a:lnTo>
                  <a:lnTo>
                    <a:pt x="3905" y="2954"/>
                  </a:lnTo>
                  <a:lnTo>
                    <a:pt x="3905" y="2949"/>
                  </a:lnTo>
                  <a:lnTo>
                    <a:pt x="3910" y="2949"/>
                  </a:lnTo>
                  <a:lnTo>
                    <a:pt x="3910" y="2932"/>
                  </a:lnTo>
                  <a:lnTo>
                    <a:pt x="3915" y="2932"/>
                  </a:lnTo>
                  <a:lnTo>
                    <a:pt x="3915" y="2926"/>
                  </a:lnTo>
                  <a:lnTo>
                    <a:pt x="3920" y="2926"/>
                  </a:lnTo>
                  <a:lnTo>
                    <a:pt x="3920" y="2908"/>
                  </a:lnTo>
                  <a:lnTo>
                    <a:pt x="3929" y="2908"/>
                  </a:lnTo>
                  <a:lnTo>
                    <a:pt x="3929" y="2896"/>
                  </a:lnTo>
                  <a:lnTo>
                    <a:pt x="3934" y="2896"/>
                  </a:lnTo>
                  <a:lnTo>
                    <a:pt x="3934" y="2883"/>
                  </a:lnTo>
                  <a:lnTo>
                    <a:pt x="3938" y="2883"/>
                  </a:lnTo>
                  <a:lnTo>
                    <a:pt x="3938" y="2872"/>
                  </a:lnTo>
                  <a:lnTo>
                    <a:pt x="3944" y="2872"/>
                  </a:lnTo>
                  <a:lnTo>
                    <a:pt x="3944" y="2855"/>
                  </a:lnTo>
                  <a:lnTo>
                    <a:pt x="3949" y="2855"/>
                  </a:lnTo>
                  <a:lnTo>
                    <a:pt x="3949" y="2842"/>
                  </a:lnTo>
                  <a:lnTo>
                    <a:pt x="3954" y="2842"/>
                  </a:lnTo>
                  <a:lnTo>
                    <a:pt x="3954" y="2836"/>
                  </a:lnTo>
                  <a:lnTo>
                    <a:pt x="3958" y="2836"/>
                  </a:lnTo>
                  <a:lnTo>
                    <a:pt x="3958" y="2818"/>
                  </a:lnTo>
                  <a:lnTo>
                    <a:pt x="3963" y="2818"/>
                  </a:lnTo>
                  <a:lnTo>
                    <a:pt x="3963" y="2801"/>
                  </a:lnTo>
                  <a:lnTo>
                    <a:pt x="3968" y="2801"/>
                  </a:lnTo>
                  <a:lnTo>
                    <a:pt x="3968" y="2784"/>
                  </a:lnTo>
                  <a:lnTo>
                    <a:pt x="3972" y="2784"/>
                  </a:lnTo>
                  <a:lnTo>
                    <a:pt x="3972" y="2777"/>
                  </a:lnTo>
                  <a:lnTo>
                    <a:pt x="3977" y="2777"/>
                  </a:lnTo>
                  <a:lnTo>
                    <a:pt x="3977" y="2766"/>
                  </a:lnTo>
                  <a:lnTo>
                    <a:pt x="3982" y="2766"/>
                  </a:lnTo>
                  <a:lnTo>
                    <a:pt x="3982" y="2760"/>
                  </a:lnTo>
                  <a:lnTo>
                    <a:pt x="3987" y="2760"/>
                  </a:lnTo>
                  <a:lnTo>
                    <a:pt x="3987" y="2741"/>
                  </a:lnTo>
                  <a:lnTo>
                    <a:pt x="3991" y="2741"/>
                  </a:lnTo>
                  <a:lnTo>
                    <a:pt x="3991" y="2731"/>
                  </a:lnTo>
                  <a:lnTo>
                    <a:pt x="3997" y="2731"/>
                  </a:lnTo>
                  <a:lnTo>
                    <a:pt x="3997" y="2724"/>
                  </a:lnTo>
                  <a:lnTo>
                    <a:pt x="4001" y="2724"/>
                  </a:lnTo>
                  <a:lnTo>
                    <a:pt x="4001" y="2719"/>
                  </a:lnTo>
                  <a:lnTo>
                    <a:pt x="4005" y="2719"/>
                  </a:lnTo>
                  <a:lnTo>
                    <a:pt x="4005" y="2712"/>
                  </a:lnTo>
                  <a:lnTo>
                    <a:pt x="4011" y="2712"/>
                  </a:lnTo>
                  <a:lnTo>
                    <a:pt x="4011" y="2700"/>
                  </a:lnTo>
                  <a:lnTo>
                    <a:pt x="4016" y="2700"/>
                  </a:lnTo>
                  <a:lnTo>
                    <a:pt x="4016" y="2689"/>
                  </a:lnTo>
                  <a:lnTo>
                    <a:pt x="4021" y="2689"/>
                  </a:lnTo>
                  <a:lnTo>
                    <a:pt x="4021" y="2672"/>
                  </a:lnTo>
                  <a:lnTo>
                    <a:pt x="4025" y="2672"/>
                  </a:lnTo>
                  <a:lnTo>
                    <a:pt x="4025" y="2660"/>
                  </a:lnTo>
                  <a:lnTo>
                    <a:pt x="4030" y="2660"/>
                  </a:lnTo>
                  <a:lnTo>
                    <a:pt x="4030" y="2648"/>
                  </a:lnTo>
                  <a:lnTo>
                    <a:pt x="4035" y="2648"/>
                  </a:lnTo>
                  <a:lnTo>
                    <a:pt x="4035" y="2636"/>
                  </a:lnTo>
                  <a:lnTo>
                    <a:pt x="4039" y="2636"/>
                  </a:lnTo>
                  <a:lnTo>
                    <a:pt x="4039" y="2630"/>
                  </a:lnTo>
                  <a:lnTo>
                    <a:pt x="4045" y="2630"/>
                  </a:lnTo>
                  <a:lnTo>
                    <a:pt x="4045" y="2619"/>
                  </a:lnTo>
                  <a:lnTo>
                    <a:pt x="4049" y="2619"/>
                  </a:lnTo>
                  <a:lnTo>
                    <a:pt x="4049" y="2613"/>
                  </a:lnTo>
                  <a:lnTo>
                    <a:pt x="4054" y="2613"/>
                  </a:lnTo>
                  <a:lnTo>
                    <a:pt x="4054" y="2606"/>
                  </a:lnTo>
                  <a:lnTo>
                    <a:pt x="4059" y="2606"/>
                  </a:lnTo>
                  <a:lnTo>
                    <a:pt x="4059" y="2595"/>
                  </a:lnTo>
                  <a:lnTo>
                    <a:pt x="4064" y="2595"/>
                  </a:lnTo>
                  <a:lnTo>
                    <a:pt x="4064" y="2589"/>
                  </a:lnTo>
                  <a:lnTo>
                    <a:pt x="4068" y="2589"/>
                  </a:lnTo>
                  <a:lnTo>
                    <a:pt x="4068" y="2576"/>
                  </a:lnTo>
                  <a:lnTo>
                    <a:pt x="4072" y="2576"/>
                  </a:lnTo>
                  <a:lnTo>
                    <a:pt x="4072" y="2559"/>
                  </a:lnTo>
                  <a:lnTo>
                    <a:pt x="4078" y="2559"/>
                  </a:lnTo>
                  <a:lnTo>
                    <a:pt x="4078" y="2541"/>
                  </a:lnTo>
                  <a:lnTo>
                    <a:pt x="4082" y="2541"/>
                  </a:lnTo>
                  <a:lnTo>
                    <a:pt x="4082" y="2529"/>
                  </a:lnTo>
                  <a:lnTo>
                    <a:pt x="4088" y="2529"/>
                  </a:lnTo>
                  <a:lnTo>
                    <a:pt x="4088" y="2523"/>
                  </a:lnTo>
                  <a:lnTo>
                    <a:pt x="4093" y="2523"/>
                  </a:lnTo>
                  <a:lnTo>
                    <a:pt x="4093" y="2513"/>
                  </a:lnTo>
                  <a:lnTo>
                    <a:pt x="4098" y="2513"/>
                  </a:lnTo>
                  <a:lnTo>
                    <a:pt x="4098" y="2500"/>
                  </a:lnTo>
                  <a:lnTo>
                    <a:pt x="4102" y="2500"/>
                  </a:lnTo>
                  <a:lnTo>
                    <a:pt x="4102" y="2488"/>
                  </a:lnTo>
                  <a:lnTo>
                    <a:pt x="4107" y="2488"/>
                  </a:lnTo>
                  <a:lnTo>
                    <a:pt x="4107" y="2482"/>
                  </a:lnTo>
                  <a:lnTo>
                    <a:pt x="4112" y="2482"/>
                  </a:lnTo>
                  <a:lnTo>
                    <a:pt x="4112" y="2464"/>
                  </a:lnTo>
                  <a:lnTo>
                    <a:pt x="4116" y="2464"/>
                  </a:lnTo>
                  <a:lnTo>
                    <a:pt x="4116" y="2459"/>
                  </a:lnTo>
                  <a:lnTo>
                    <a:pt x="4121" y="2459"/>
                  </a:lnTo>
                  <a:lnTo>
                    <a:pt x="4121" y="2447"/>
                  </a:lnTo>
                  <a:lnTo>
                    <a:pt x="4126" y="2447"/>
                  </a:lnTo>
                  <a:lnTo>
                    <a:pt x="4126" y="2440"/>
                  </a:lnTo>
                  <a:lnTo>
                    <a:pt x="4131" y="2440"/>
                  </a:lnTo>
                  <a:lnTo>
                    <a:pt x="4131" y="2428"/>
                  </a:lnTo>
                  <a:lnTo>
                    <a:pt x="4135" y="2428"/>
                  </a:lnTo>
                  <a:lnTo>
                    <a:pt x="4135" y="2418"/>
                  </a:lnTo>
                  <a:lnTo>
                    <a:pt x="4141" y="2418"/>
                  </a:lnTo>
                  <a:lnTo>
                    <a:pt x="4141" y="2410"/>
                  </a:lnTo>
                  <a:lnTo>
                    <a:pt x="4145" y="2410"/>
                  </a:lnTo>
                  <a:lnTo>
                    <a:pt x="4145" y="2399"/>
                  </a:lnTo>
                  <a:lnTo>
                    <a:pt x="4149" y="2399"/>
                  </a:lnTo>
                  <a:lnTo>
                    <a:pt x="4149" y="2387"/>
                  </a:lnTo>
                  <a:lnTo>
                    <a:pt x="4155" y="2387"/>
                  </a:lnTo>
                  <a:lnTo>
                    <a:pt x="4155" y="2375"/>
                  </a:lnTo>
                  <a:lnTo>
                    <a:pt x="4160" y="2375"/>
                  </a:lnTo>
                  <a:lnTo>
                    <a:pt x="4160" y="2369"/>
                  </a:lnTo>
                  <a:lnTo>
                    <a:pt x="4165" y="2369"/>
                  </a:lnTo>
                  <a:lnTo>
                    <a:pt x="4165" y="2352"/>
                  </a:lnTo>
                  <a:lnTo>
                    <a:pt x="4169" y="2352"/>
                  </a:lnTo>
                  <a:lnTo>
                    <a:pt x="4169" y="2341"/>
                  </a:lnTo>
                  <a:lnTo>
                    <a:pt x="4175" y="2341"/>
                  </a:lnTo>
                  <a:lnTo>
                    <a:pt x="4175" y="2328"/>
                  </a:lnTo>
                  <a:lnTo>
                    <a:pt x="4179" y="2328"/>
                  </a:lnTo>
                  <a:lnTo>
                    <a:pt x="4179" y="2322"/>
                  </a:lnTo>
                  <a:lnTo>
                    <a:pt x="4184" y="2322"/>
                  </a:lnTo>
                  <a:lnTo>
                    <a:pt x="4184" y="2311"/>
                  </a:lnTo>
                  <a:lnTo>
                    <a:pt x="4189" y="2311"/>
                  </a:lnTo>
                  <a:lnTo>
                    <a:pt x="4189" y="2299"/>
                  </a:lnTo>
                  <a:lnTo>
                    <a:pt x="4193" y="2299"/>
                  </a:lnTo>
                  <a:lnTo>
                    <a:pt x="4193" y="2293"/>
                  </a:lnTo>
                  <a:lnTo>
                    <a:pt x="4198" y="2293"/>
                  </a:lnTo>
                  <a:lnTo>
                    <a:pt x="4198" y="2276"/>
                  </a:lnTo>
                  <a:lnTo>
                    <a:pt x="4203" y="2276"/>
                  </a:lnTo>
                  <a:lnTo>
                    <a:pt x="4203" y="2263"/>
                  </a:lnTo>
                  <a:lnTo>
                    <a:pt x="4208" y="2263"/>
                  </a:lnTo>
                  <a:lnTo>
                    <a:pt x="4208" y="2251"/>
                  </a:lnTo>
                  <a:lnTo>
                    <a:pt x="4212" y="2251"/>
                  </a:lnTo>
                  <a:lnTo>
                    <a:pt x="4212" y="2241"/>
                  </a:lnTo>
                  <a:lnTo>
                    <a:pt x="4217" y="2241"/>
                  </a:lnTo>
                  <a:lnTo>
                    <a:pt x="4217" y="2228"/>
                  </a:lnTo>
                  <a:lnTo>
                    <a:pt x="4222" y="2228"/>
                  </a:lnTo>
                  <a:lnTo>
                    <a:pt x="4222" y="2217"/>
                  </a:lnTo>
                  <a:lnTo>
                    <a:pt x="4227" y="2217"/>
                  </a:lnTo>
                  <a:lnTo>
                    <a:pt x="4227" y="2205"/>
                  </a:lnTo>
                  <a:lnTo>
                    <a:pt x="4232" y="2205"/>
                  </a:lnTo>
                  <a:lnTo>
                    <a:pt x="4232" y="2200"/>
                  </a:lnTo>
                  <a:lnTo>
                    <a:pt x="4237" y="2200"/>
                  </a:lnTo>
                  <a:lnTo>
                    <a:pt x="4237" y="2181"/>
                  </a:lnTo>
                  <a:lnTo>
                    <a:pt x="4242" y="2181"/>
                  </a:lnTo>
                  <a:lnTo>
                    <a:pt x="4242" y="2175"/>
                  </a:lnTo>
                  <a:lnTo>
                    <a:pt x="4246" y="2175"/>
                  </a:lnTo>
                  <a:lnTo>
                    <a:pt x="4246" y="2157"/>
                  </a:lnTo>
                  <a:lnTo>
                    <a:pt x="4251" y="2157"/>
                  </a:lnTo>
                  <a:lnTo>
                    <a:pt x="4251" y="2146"/>
                  </a:lnTo>
                  <a:lnTo>
                    <a:pt x="4256" y="2146"/>
                  </a:lnTo>
                  <a:lnTo>
                    <a:pt x="4256" y="2133"/>
                  </a:lnTo>
                  <a:lnTo>
                    <a:pt x="4261" y="2133"/>
                  </a:lnTo>
                  <a:lnTo>
                    <a:pt x="4261" y="2122"/>
                  </a:lnTo>
                  <a:lnTo>
                    <a:pt x="4265" y="2122"/>
                  </a:lnTo>
                  <a:lnTo>
                    <a:pt x="4265" y="2103"/>
                  </a:lnTo>
                  <a:lnTo>
                    <a:pt x="4271" y="2103"/>
                  </a:lnTo>
                  <a:lnTo>
                    <a:pt x="4271" y="2092"/>
                  </a:lnTo>
                  <a:lnTo>
                    <a:pt x="4275" y="2092"/>
                  </a:lnTo>
                  <a:lnTo>
                    <a:pt x="4275" y="2069"/>
                  </a:lnTo>
                  <a:lnTo>
                    <a:pt x="4279" y="2069"/>
                  </a:lnTo>
                  <a:lnTo>
                    <a:pt x="4279" y="2062"/>
                  </a:lnTo>
                  <a:lnTo>
                    <a:pt x="4285" y="2062"/>
                  </a:lnTo>
                  <a:lnTo>
                    <a:pt x="4285" y="2045"/>
                  </a:lnTo>
                  <a:lnTo>
                    <a:pt x="4289" y="2045"/>
                  </a:lnTo>
                  <a:lnTo>
                    <a:pt x="4289" y="2032"/>
                  </a:lnTo>
                  <a:lnTo>
                    <a:pt x="4294" y="2032"/>
                  </a:lnTo>
                  <a:lnTo>
                    <a:pt x="4294" y="2021"/>
                  </a:lnTo>
                  <a:lnTo>
                    <a:pt x="4299" y="2021"/>
                  </a:lnTo>
                  <a:lnTo>
                    <a:pt x="4299" y="2004"/>
                  </a:lnTo>
                  <a:lnTo>
                    <a:pt x="4305" y="2004"/>
                  </a:lnTo>
                  <a:lnTo>
                    <a:pt x="4305" y="1980"/>
                  </a:lnTo>
                  <a:lnTo>
                    <a:pt x="4309" y="1980"/>
                  </a:lnTo>
                  <a:lnTo>
                    <a:pt x="4309" y="1974"/>
                  </a:lnTo>
                  <a:lnTo>
                    <a:pt x="4313" y="1974"/>
                  </a:lnTo>
                  <a:lnTo>
                    <a:pt x="4313" y="1955"/>
                  </a:lnTo>
                  <a:lnTo>
                    <a:pt x="4319" y="1955"/>
                  </a:lnTo>
                  <a:lnTo>
                    <a:pt x="4319" y="1939"/>
                  </a:lnTo>
                  <a:lnTo>
                    <a:pt x="4323" y="1939"/>
                  </a:lnTo>
                  <a:lnTo>
                    <a:pt x="4323" y="1921"/>
                  </a:lnTo>
                  <a:lnTo>
                    <a:pt x="4328" y="1921"/>
                  </a:lnTo>
                  <a:lnTo>
                    <a:pt x="4328" y="1909"/>
                  </a:lnTo>
                  <a:lnTo>
                    <a:pt x="4333" y="1909"/>
                  </a:lnTo>
                  <a:lnTo>
                    <a:pt x="4333" y="1891"/>
                  </a:lnTo>
                  <a:lnTo>
                    <a:pt x="4338" y="1891"/>
                  </a:lnTo>
                  <a:lnTo>
                    <a:pt x="4338" y="1873"/>
                  </a:lnTo>
                  <a:lnTo>
                    <a:pt x="4342" y="1873"/>
                  </a:lnTo>
                  <a:lnTo>
                    <a:pt x="4342" y="1861"/>
                  </a:lnTo>
                  <a:lnTo>
                    <a:pt x="4347" y="1861"/>
                  </a:lnTo>
                  <a:lnTo>
                    <a:pt x="4347" y="1844"/>
                  </a:lnTo>
                  <a:lnTo>
                    <a:pt x="4352" y="1844"/>
                  </a:lnTo>
                  <a:lnTo>
                    <a:pt x="4352" y="1826"/>
                  </a:lnTo>
                  <a:lnTo>
                    <a:pt x="4356" y="1826"/>
                  </a:lnTo>
                  <a:lnTo>
                    <a:pt x="4356" y="1814"/>
                  </a:lnTo>
                  <a:lnTo>
                    <a:pt x="4361" y="1814"/>
                  </a:lnTo>
                  <a:lnTo>
                    <a:pt x="4361" y="1803"/>
                  </a:lnTo>
                  <a:lnTo>
                    <a:pt x="4366" y="1803"/>
                  </a:lnTo>
                  <a:lnTo>
                    <a:pt x="4366" y="1790"/>
                  </a:lnTo>
                  <a:lnTo>
                    <a:pt x="4370" y="1790"/>
                  </a:lnTo>
                  <a:lnTo>
                    <a:pt x="4370" y="1779"/>
                  </a:lnTo>
                  <a:lnTo>
                    <a:pt x="4376" y="1779"/>
                  </a:lnTo>
                  <a:lnTo>
                    <a:pt x="4376" y="1768"/>
                  </a:lnTo>
                  <a:lnTo>
                    <a:pt x="4381" y="1768"/>
                  </a:lnTo>
                  <a:lnTo>
                    <a:pt x="4381" y="1755"/>
                  </a:lnTo>
                  <a:lnTo>
                    <a:pt x="4386" y="1755"/>
                  </a:lnTo>
                  <a:lnTo>
                    <a:pt x="4386" y="1749"/>
                  </a:lnTo>
                  <a:lnTo>
                    <a:pt x="4390" y="1749"/>
                  </a:lnTo>
                  <a:lnTo>
                    <a:pt x="4390" y="1737"/>
                  </a:lnTo>
                  <a:lnTo>
                    <a:pt x="4396" y="1737"/>
                  </a:lnTo>
                  <a:lnTo>
                    <a:pt x="4396" y="1732"/>
                  </a:lnTo>
                  <a:lnTo>
                    <a:pt x="4400" y="1732"/>
                  </a:lnTo>
                  <a:lnTo>
                    <a:pt x="4400" y="1719"/>
                  </a:lnTo>
                  <a:lnTo>
                    <a:pt x="4405" y="1719"/>
                  </a:lnTo>
                  <a:lnTo>
                    <a:pt x="4405" y="1714"/>
                  </a:lnTo>
                  <a:lnTo>
                    <a:pt x="4409" y="1714"/>
                  </a:lnTo>
                  <a:lnTo>
                    <a:pt x="4409" y="1702"/>
                  </a:lnTo>
                  <a:lnTo>
                    <a:pt x="4414" y="1702"/>
                  </a:lnTo>
                  <a:lnTo>
                    <a:pt x="4414" y="1690"/>
                  </a:lnTo>
                  <a:lnTo>
                    <a:pt x="4419" y="1690"/>
                  </a:lnTo>
                  <a:lnTo>
                    <a:pt x="4419" y="1678"/>
                  </a:lnTo>
                  <a:lnTo>
                    <a:pt x="4423" y="1678"/>
                  </a:lnTo>
                  <a:lnTo>
                    <a:pt x="4423" y="1667"/>
                  </a:lnTo>
                  <a:lnTo>
                    <a:pt x="4429" y="1667"/>
                  </a:lnTo>
                  <a:lnTo>
                    <a:pt x="4429" y="1654"/>
                  </a:lnTo>
                  <a:lnTo>
                    <a:pt x="4433" y="1654"/>
                  </a:lnTo>
                  <a:lnTo>
                    <a:pt x="4433" y="1643"/>
                  </a:lnTo>
                  <a:lnTo>
                    <a:pt x="4438" y="1643"/>
                  </a:lnTo>
                  <a:lnTo>
                    <a:pt x="4438" y="1626"/>
                  </a:lnTo>
                  <a:lnTo>
                    <a:pt x="4443" y="1626"/>
                  </a:lnTo>
                  <a:lnTo>
                    <a:pt x="4443" y="1613"/>
                  </a:lnTo>
                  <a:lnTo>
                    <a:pt x="4447" y="1613"/>
                  </a:lnTo>
                  <a:lnTo>
                    <a:pt x="4447" y="1596"/>
                  </a:lnTo>
                  <a:lnTo>
                    <a:pt x="4453" y="1596"/>
                  </a:lnTo>
                  <a:lnTo>
                    <a:pt x="4453" y="1572"/>
                  </a:lnTo>
                  <a:lnTo>
                    <a:pt x="4457" y="1572"/>
                  </a:lnTo>
                  <a:lnTo>
                    <a:pt x="4457" y="1559"/>
                  </a:lnTo>
                  <a:lnTo>
                    <a:pt x="4463" y="1559"/>
                  </a:lnTo>
                  <a:lnTo>
                    <a:pt x="4463" y="1548"/>
                  </a:lnTo>
                  <a:lnTo>
                    <a:pt x="4467" y="1548"/>
                  </a:lnTo>
                  <a:lnTo>
                    <a:pt x="4467" y="1536"/>
                  </a:lnTo>
                  <a:lnTo>
                    <a:pt x="4472" y="1536"/>
                  </a:lnTo>
                  <a:lnTo>
                    <a:pt x="4472" y="1518"/>
                  </a:lnTo>
                  <a:lnTo>
                    <a:pt x="4477" y="1518"/>
                  </a:lnTo>
                  <a:lnTo>
                    <a:pt x="4477" y="1507"/>
                  </a:lnTo>
                  <a:lnTo>
                    <a:pt x="4482" y="1507"/>
                  </a:lnTo>
                  <a:lnTo>
                    <a:pt x="4482" y="1494"/>
                  </a:lnTo>
                  <a:lnTo>
                    <a:pt x="4486" y="1494"/>
                  </a:lnTo>
                  <a:lnTo>
                    <a:pt x="4486" y="1482"/>
                  </a:lnTo>
                  <a:lnTo>
                    <a:pt x="4491" y="1482"/>
                  </a:lnTo>
                  <a:lnTo>
                    <a:pt x="4491" y="1472"/>
                  </a:lnTo>
                  <a:lnTo>
                    <a:pt x="4496" y="1472"/>
                  </a:lnTo>
                  <a:lnTo>
                    <a:pt x="4496" y="1453"/>
                  </a:lnTo>
                  <a:lnTo>
                    <a:pt x="4500" y="1453"/>
                  </a:lnTo>
                  <a:lnTo>
                    <a:pt x="4500" y="1448"/>
                  </a:lnTo>
                  <a:lnTo>
                    <a:pt x="4505" y="1448"/>
                  </a:lnTo>
                  <a:lnTo>
                    <a:pt x="4505" y="1436"/>
                  </a:lnTo>
                  <a:lnTo>
                    <a:pt x="4510" y="1436"/>
                  </a:lnTo>
                  <a:lnTo>
                    <a:pt x="4510" y="1418"/>
                  </a:lnTo>
                  <a:lnTo>
                    <a:pt x="4515" y="1418"/>
                  </a:lnTo>
                  <a:lnTo>
                    <a:pt x="4515" y="1406"/>
                  </a:lnTo>
                  <a:lnTo>
                    <a:pt x="4519" y="1406"/>
                  </a:lnTo>
                  <a:lnTo>
                    <a:pt x="4519" y="1395"/>
                  </a:lnTo>
                  <a:lnTo>
                    <a:pt x="4526" y="1395"/>
                  </a:lnTo>
                  <a:lnTo>
                    <a:pt x="4526" y="1390"/>
                  </a:lnTo>
                  <a:lnTo>
                    <a:pt x="4530" y="1390"/>
                  </a:lnTo>
                  <a:lnTo>
                    <a:pt x="4530" y="1371"/>
                  </a:lnTo>
                  <a:lnTo>
                    <a:pt x="4534" y="1371"/>
                  </a:lnTo>
                  <a:lnTo>
                    <a:pt x="4534" y="1360"/>
                  </a:lnTo>
                  <a:lnTo>
                    <a:pt x="4540" y="1360"/>
                  </a:lnTo>
                  <a:lnTo>
                    <a:pt x="4540" y="1347"/>
                  </a:lnTo>
                  <a:lnTo>
                    <a:pt x="4544" y="1347"/>
                  </a:lnTo>
                  <a:lnTo>
                    <a:pt x="4544" y="1336"/>
                  </a:lnTo>
                  <a:lnTo>
                    <a:pt x="4549" y="1336"/>
                  </a:lnTo>
                  <a:lnTo>
                    <a:pt x="4549" y="1330"/>
                  </a:lnTo>
                  <a:lnTo>
                    <a:pt x="4553" y="1330"/>
                  </a:lnTo>
                  <a:lnTo>
                    <a:pt x="4553" y="1317"/>
                  </a:lnTo>
                  <a:lnTo>
                    <a:pt x="4559" y="1317"/>
                  </a:lnTo>
                  <a:lnTo>
                    <a:pt x="4559" y="1282"/>
                  </a:lnTo>
                  <a:lnTo>
                    <a:pt x="4553" y="1282"/>
                  </a:lnTo>
                  <a:lnTo>
                    <a:pt x="4553" y="1271"/>
                  </a:lnTo>
                  <a:lnTo>
                    <a:pt x="4549" y="1271"/>
                  </a:lnTo>
                  <a:lnTo>
                    <a:pt x="4549" y="1259"/>
                  </a:lnTo>
                  <a:lnTo>
                    <a:pt x="4540" y="1259"/>
                  </a:lnTo>
                  <a:lnTo>
                    <a:pt x="4540" y="1254"/>
                  </a:lnTo>
                  <a:lnTo>
                    <a:pt x="4534" y="1254"/>
                  </a:lnTo>
                  <a:lnTo>
                    <a:pt x="4534" y="1246"/>
                  </a:lnTo>
                  <a:lnTo>
                    <a:pt x="4519" y="1246"/>
                  </a:lnTo>
                  <a:lnTo>
                    <a:pt x="4519" y="1241"/>
                  </a:lnTo>
                  <a:lnTo>
                    <a:pt x="4515" y="1241"/>
                  </a:lnTo>
                  <a:lnTo>
                    <a:pt x="4515" y="1235"/>
                  </a:lnTo>
                  <a:lnTo>
                    <a:pt x="4505" y="1235"/>
                  </a:lnTo>
                  <a:lnTo>
                    <a:pt x="4505" y="1229"/>
                  </a:lnTo>
                  <a:lnTo>
                    <a:pt x="4500" y="1229"/>
                  </a:lnTo>
                  <a:lnTo>
                    <a:pt x="4500" y="1222"/>
                  </a:lnTo>
                  <a:lnTo>
                    <a:pt x="4486" y="1222"/>
                  </a:lnTo>
                  <a:lnTo>
                    <a:pt x="4486" y="1217"/>
                  </a:lnTo>
                  <a:lnTo>
                    <a:pt x="4472" y="1217"/>
                  </a:lnTo>
                  <a:lnTo>
                    <a:pt x="4472" y="1212"/>
                  </a:lnTo>
                  <a:lnTo>
                    <a:pt x="4457" y="1212"/>
                  </a:lnTo>
                  <a:lnTo>
                    <a:pt x="4457" y="1205"/>
                  </a:lnTo>
                  <a:lnTo>
                    <a:pt x="4447" y="1205"/>
                  </a:lnTo>
                  <a:lnTo>
                    <a:pt x="4447" y="1200"/>
                  </a:lnTo>
                  <a:lnTo>
                    <a:pt x="4438" y="1200"/>
                  </a:lnTo>
                  <a:lnTo>
                    <a:pt x="4438" y="1194"/>
                  </a:lnTo>
                  <a:lnTo>
                    <a:pt x="4419" y="1194"/>
                  </a:lnTo>
                  <a:lnTo>
                    <a:pt x="4419" y="1188"/>
                  </a:lnTo>
                  <a:lnTo>
                    <a:pt x="4396" y="1188"/>
                  </a:lnTo>
                  <a:lnTo>
                    <a:pt x="4396" y="1181"/>
                  </a:lnTo>
                  <a:lnTo>
                    <a:pt x="4386" y="1181"/>
                  </a:lnTo>
                  <a:lnTo>
                    <a:pt x="4386" y="1176"/>
                  </a:lnTo>
                  <a:lnTo>
                    <a:pt x="4361" y="1176"/>
                  </a:lnTo>
                  <a:lnTo>
                    <a:pt x="4361" y="1188"/>
                  </a:lnTo>
                  <a:lnTo>
                    <a:pt x="4356" y="1188"/>
                  </a:lnTo>
                  <a:lnTo>
                    <a:pt x="4356" y="1200"/>
                  </a:lnTo>
                  <a:lnTo>
                    <a:pt x="4352" y="1200"/>
                  </a:lnTo>
                  <a:lnTo>
                    <a:pt x="4352" y="1212"/>
                  </a:lnTo>
                  <a:lnTo>
                    <a:pt x="4347" y="1212"/>
                  </a:lnTo>
                  <a:lnTo>
                    <a:pt x="4347" y="1222"/>
                  </a:lnTo>
                  <a:lnTo>
                    <a:pt x="4342" y="1222"/>
                  </a:lnTo>
                  <a:lnTo>
                    <a:pt x="4342" y="1235"/>
                  </a:lnTo>
                  <a:lnTo>
                    <a:pt x="4338" y="1235"/>
                  </a:lnTo>
                  <a:lnTo>
                    <a:pt x="4338" y="1246"/>
                  </a:lnTo>
                  <a:lnTo>
                    <a:pt x="4333" y="1246"/>
                  </a:lnTo>
                  <a:lnTo>
                    <a:pt x="4333" y="1265"/>
                  </a:lnTo>
                  <a:lnTo>
                    <a:pt x="4328" y="1265"/>
                  </a:lnTo>
                  <a:lnTo>
                    <a:pt x="4328" y="1276"/>
                  </a:lnTo>
                  <a:lnTo>
                    <a:pt x="4323" y="1276"/>
                  </a:lnTo>
                  <a:lnTo>
                    <a:pt x="4323" y="1282"/>
                  </a:lnTo>
                  <a:lnTo>
                    <a:pt x="4319" y="1282"/>
                  </a:lnTo>
                  <a:lnTo>
                    <a:pt x="4319" y="1295"/>
                  </a:lnTo>
                  <a:lnTo>
                    <a:pt x="4313" y="1295"/>
                  </a:lnTo>
                  <a:lnTo>
                    <a:pt x="4313" y="1312"/>
                  </a:lnTo>
                  <a:lnTo>
                    <a:pt x="4309" y="1312"/>
                  </a:lnTo>
                  <a:lnTo>
                    <a:pt x="4309" y="1330"/>
                  </a:lnTo>
                  <a:lnTo>
                    <a:pt x="4305" y="1330"/>
                  </a:lnTo>
                  <a:lnTo>
                    <a:pt x="4305" y="1336"/>
                  </a:lnTo>
                  <a:lnTo>
                    <a:pt x="4299" y="1336"/>
                  </a:lnTo>
                  <a:lnTo>
                    <a:pt x="4299" y="1353"/>
                  </a:lnTo>
                  <a:lnTo>
                    <a:pt x="4294" y="1353"/>
                  </a:lnTo>
                  <a:lnTo>
                    <a:pt x="4294" y="1371"/>
                  </a:lnTo>
                  <a:lnTo>
                    <a:pt x="4289" y="1371"/>
                  </a:lnTo>
                  <a:lnTo>
                    <a:pt x="4289" y="1382"/>
                  </a:lnTo>
                  <a:lnTo>
                    <a:pt x="4285" y="1382"/>
                  </a:lnTo>
                  <a:lnTo>
                    <a:pt x="4285" y="1418"/>
                  </a:lnTo>
                  <a:lnTo>
                    <a:pt x="4279" y="1418"/>
                  </a:lnTo>
                  <a:lnTo>
                    <a:pt x="4279" y="1436"/>
                  </a:lnTo>
                  <a:lnTo>
                    <a:pt x="4275" y="1436"/>
                  </a:lnTo>
                  <a:lnTo>
                    <a:pt x="4275" y="1453"/>
                  </a:lnTo>
                  <a:lnTo>
                    <a:pt x="4271" y="1453"/>
                  </a:lnTo>
                  <a:lnTo>
                    <a:pt x="4271" y="1466"/>
                  </a:lnTo>
                  <a:lnTo>
                    <a:pt x="4265" y="1466"/>
                  </a:lnTo>
                  <a:lnTo>
                    <a:pt x="4265" y="1482"/>
                  </a:lnTo>
                  <a:lnTo>
                    <a:pt x="4261" y="1482"/>
                  </a:lnTo>
                  <a:lnTo>
                    <a:pt x="4261" y="1494"/>
                  </a:lnTo>
                  <a:lnTo>
                    <a:pt x="4256" y="1494"/>
                  </a:lnTo>
                  <a:lnTo>
                    <a:pt x="4256" y="1507"/>
                  </a:lnTo>
                  <a:lnTo>
                    <a:pt x="4251" y="1507"/>
                  </a:lnTo>
                  <a:lnTo>
                    <a:pt x="4251" y="1524"/>
                  </a:lnTo>
                  <a:lnTo>
                    <a:pt x="4246" y="1524"/>
                  </a:lnTo>
                  <a:lnTo>
                    <a:pt x="4246" y="1536"/>
                  </a:lnTo>
                  <a:lnTo>
                    <a:pt x="4242" y="1536"/>
                  </a:lnTo>
                  <a:lnTo>
                    <a:pt x="4242" y="1567"/>
                  </a:lnTo>
                  <a:lnTo>
                    <a:pt x="4237" y="1567"/>
                  </a:lnTo>
                  <a:lnTo>
                    <a:pt x="4237" y="1578"/>
                  </a:lnTo>
                  <a:lnTo>
                    <a:pt x="4232" y="1578"/>
                  </a:lnTo>
                  <a:lnTo>
                    <a:pt x="4232" y="1583"/>
                  </a:lnTo>
                  <a:lnTo>
                    <a:pt x="4222" y="1583"/>
                  </a:lnTo>
                  <a:lnTo>
                    <a:pt x="4222" y="1572"/>
                  </a:lnTo>
                  <a:lnTo>
                    <a:pt x="4217" y="1572"/>
                  </a:lnTo>
                  <a:lnTo>
                    <a:pt x="4217" y="1559"/>
                  </a:lnTo>
                  <a:lnTo>
                    <a:pt x="4208" y="1559"/>
                  </a:lnTo>
                  <a:lnTo>
                    <a:pt x="4208" y="1554"/>
                  </a:lnTo>
                  <a:lnTo>
                    <a:pt x="4198" y="1554"/>
                  </a:lnTo>
                  <a:lnTo>
                    <a:pt x="4198" y="1548"/>
                  </a:lnTo>
                  <a:lnTo>
                    <a:pt x="4193" y="1548"/>
                  </a:lnTo>
                  <a:lnTo>
                    <a:pt x="4193" y="1542"/>
                  </a:lnTo>
                  <a:lnTo>
                    <a:pt x="4179" y="1542"/>
                  </a:lnTo>
                  <a:lnTo>
                    <a:pt x="4179" y="1536"/>
                  </a:lnTo>
                  <a:lnTo>
                    <a:pt x="4169" y="1536"/>
                  </a:lnTo>
                  <a:lnTo>
                    <a:pt x="4169" y="1531"/>
                  </a:lnTo>
                  <a:lnTo>
                    <a:pt x="4155" y="1531"/>
                  </a:lnTo>
                  <a:lnTo>
                    <a:pt x="4155" y="1524"/>
                  </a:lnTo>
                  <a:lnTo>
                    <a:pt x="4135" y="1524"/>
                  </a:lnTo>
                  <a:lnTo>
                    <a:pt x="4135" y="1518"/>
                  </a:lnTo>
                  <a:lnTo>
                    <a:pt x="4088" y="1518"/>
                  </a:lnTo>
                  <a:lnTo>
                    <a:pt x="4088" y="1513"/>
                  </a:lnTo>
                  <a:lnTo>
                    <a:pt x="4078" y="1513"/>
                  </a:lnTo>
                  <a:lnTo>
                    <a:pt x="4078" y="1507"/>
                  </a:lnTo>
                  <a:lnTo>
                    <a:pt x="4072" y="1507"/>
                  </a:lnTo>
                  <a:lnTo>
                    <a:pt x="4072" y="1501"/>
                  </a:lnTo>
                  <a:lnTo>
                    <a:pt x="4064" y="1501"/>
                  </a:lnTo>
                  <a:lnTo>
                    <a:pt x="4064" y="1494"/>
                  </a:lnTo>
                  <a:lnTo>
                    <a:pt x="4054" y="1494"/>
                  </a:lnTo>
                  <a:lnTo>
                    <a:pt x="4054" y="1490"/>
                  </a:lnTo>
                  <a:lnTo>
                    <a:pt x="4025" y="1490"/>
                  </a:lnTo>
                  <a:lnTo>
                    <a:pt x="4025" y="1482"/>
                  </a:lnTo>
                  <a:lnTo>
                    <a:pt x="3938" y="1482"/>
                  </a:lnTo>
                  <a:lnTo>
                    <a:pt x="3938" y="1477"/>
                  </a:lnTo>
                  <a:lnTo>
                    <a:pt x="3924" y="1477"/>
                  </a:lnTo>
                  <a:lnTo>
                    <a:pt x="3924" y="1472"/>
                  </a:lnTo>
                  <a:lnTo>
                    <a:pt x="3910" y="1472"/>
                  </a:lnTo>
                  <a:lnTo>
                    <a:pt x="3910" y="1466"/>
                  </a:lnTo>
                  <a:lnTo>
                    <a:pt x="3887" y="1466"/>
                  </a:lnTo>
                  <a:lnTo>
                    <a:pt x="3887" y="1460"/>
                  </a:lnTo>
                  <a:lnTo>
                    <a:pt x="3877" y="1460"/>
                  </a:lnTo>
                  <a:lnTo>
                    <a:pt x="3877" y="1453"/>
                  </a:lnTo>
                  <a:lnTo>
                    <a:pt x="3872" y="1453"/>
                  </a:lnTo>
                  <a:lnTo>
                    <a:pt x="3872" y="1441"/>
                  </a:lnTo>
                  <a:lnTo>
                    <a:pt x="3877" y="1441"/>
                  </a:lnTo>
                  <a:lnTo>
                    <a:pt x="3877" y="1436"/>
                  </a:lnTo>
                  <a:lnTo>
                    <a:pt x="3881" y="1436"/>
                  </a:lnTo>
                  <a:lnTo>
                    <a:pt x="3881" y="1431"/>
                  </a:lnTo>
                  <a:lnTo>
                    <a:pt x="3887" y="1431"/>
                  </a:lnTo>
                  <a:lnTo>
                    <a:pt x="3887" y="1423"/>
                  </a:lnTo>
                  <a:lnTo>
                    <a:pt x="3891" y="1423"/>
                  </a:lnTo>
                  <a:lnTo>
                    <a:pt x="3891" y="1377"/>
                  </a:lnTo>
                  <a:lnTo>
                    <a:pt x="3895" y="1377"/>
                  </a:lnTo>
                  <a:lnTo>
                    <a:pt x="3895" y="1306"/>
                  </a:lnTo>
                  <a:lnTo>
                    <a:pt x="3891" y="1306"/>
                  </a:lnTo>
                  <a:lnTo>
                    <a:pt x="3891" y="1287"/>
                  </a:lnTo>
                  <a:lnTo>
                    <a:pt x="3872" y="1287"/>
                  </a:lnTo>
                  <a:lnTo>
                    <a:pt x="3872" y="1300"/>
                  </a:lnTo>
                  <a:lnTo>
                    <a:pt x="3866" y="1300"/>
                  </a:lnTo>
                  <a:lnTo>
                    <a:pt x="3866" y="1306"/>
                  </a:lnTo>
                  <a:lnTo>
                    <a:pt x="3861" y="1306"/>
                  </a:lnTo>
                  <a:lnTo>
                    <a:pt x="3861" y="1317"/>
                  </a:lnTo>
                  <a:lnTo>
                    <a:pt x="3857" y="1317"/>
                  </a:lnTo>
                  <a:lnTo>
                    <a:pt x="3857" y="1324"/>
                  </a:lnTo>
                  <a:lnTo>
                    <a:pt x="3852" y="1324"/>
                  </a:lnTo>
                  <a:lnTo>
                    <a:pt x="3852" y="1336"/>
                  </a:lnTo>
                  <a:lnTo>
                    <a:pt x="3847" y="1336"/>
                  </a:lnTo>
                  <a:lnTo>
                    <a:pt x="3847" y="1341"/>
                  </a:lnTo>
                  <a:lnTo>
                    <a:pt x="3843" y="1341"/>
                  </a:lnTo>
                  <a:lnTo>
                    <a:pt x="3843" y="1347"/>
                  </a:lnTo>
                  <a:lnTo>
                    <a:pt x="3838" y="1347"/>
                  </a:lnTo>
                  <a:lnTo>
                    <a:pt x="3838" y="1360"/>
                  </a:lnTo>
                  <a:lnTo>
                    <a:pt x="3828" y="1360"/>
                  </a:lnTo>
                  <a:lnTo>
                    <a:pt x="3828" y="1365"/>
                  </a:lnTo>
                  <a:lnTo>
                    <a:pt x="3824" y="1365"/>
                  </a:lnTo>
                  <a:lnTo>
                    <a:pt x="3824" y="1371"/>
                  </a:lnTo>
                  <a:lnTo>
                    <a:pt x="3819" y="1371"/>
                  </a:lnTo>
                  <a:lnTo>
                    <a:pt x="3819" y="1377"/>
                  </a:lnTo>
                  <a:lnTo>
                    <a:pt x="3814" y="1377"/>
                  </a:lnTo>
                  <a:lnTo>
                    <a:pt x="3814" y="1382"/>
                  </a:lnTo>
                  <a:lnTo>
                    <a:pt x="3809" y="1382"/>
                  </a:lnTo>
                  <a:lnTo>
                    <a:pt x="3809" y="1390"/>
                  </a:lnTo>
                  <a:lnTo>
                    <a:pt x="3805" y="1390"/>
                  </a:lnTo>
                  <a:lnTo>
                    <a:pt x="3805" y="1395"/>
                  </a:lnTo>
                  <a:lnTo>
                    <a:pt x="3800" y="1395"/>
                  </a:lnTo>
                  <a:lnTo>
                    <a:pt x="3800" y="1406"/>
                  </a:lnTo>
                  <a:lnTo>
                    <a:pt x="3794" y="1406"/>
                  </a:lnTo>
                  <a:lnTo>
                    <a:pt x="3794" y="1412"/>
                  </a:lnTo>
                  <a:lnTo>
                    <a:pt x="3790" y="1412"/>
                  </a:lnTo>
                  <a:lnTo>
                    <a:pt x="3790" y="1418"/>
                  </a:lnTo>
                  <a:lnTo>
                    <a:pt x="3784" y="1418"/>
                  </a:lnTo>
                  <a:lnTo>
                    <a:pt x="3784" y="1423"/>
                  </a:lnTo>
                  <a:lnTo>
                    <a:pt x="3780" y="1423"/>
                  </a:lnTo>
                  <a:lnTo>
                    <a:pt x="3780" y="1436"/>
                  </a:lnTo>
                  <a:lnTo>
                    <a:pt x="3775" y="1436"/>
                  </a:lnTo>
                  <a:lnTo>
                    <a:pt x="3775" y="1441"/>
                  </a:lnTo>
                  <a:lnTo>
                    <a:pt x="3771" y="1441"/>
                  </a:lnTo>
                  <a:lnTo>
                    <a:pt x="3771" y="1448"/>
                  </a:lnTo>
                  <a:lnTo>
                    <a:pt x="3765" y="1448"/>
                  </a:lnTo>
                  <a:lnTo>
                    <a:pt x="3765" y="1460"/>
                  </a:lnTo>
                  <a:lnTo>
                    <a:pt x="3761" y="1460"/>
                  </a:lnTo>
                  <a:lnTo>
                    <a:pt x="3761" y="1466"/>
                  </a:lnTo>
                  <a:lnTo>
                    <a:pt x="3757" y="1466"/>
                  </a:lnTo>
                  <a:lnTo>
                    <a:pt x="3757" y="1472"/>
                  </a:lnTo>
                  <a:lnTo>
                    <a:pt x="3751" y="1472"/>
                  </a:lnTo>
                  <a:lnTo>
                    <a:pt x="3751" y="1477"/>
                  </a:lnTo>
                  <a:lnTo>
                    <a:pt x="3747" y="1477"/>
                  </a:lnTo>
                  <a:lnTo>
                    <a:pt x="3747" y="1482"/>
                  </a:lnTo>
                  <a:lnTo>
                    <a:pt x="3742" y="1482"/>
                  </a:lnTo>
                  <a:lnTo>
                    <a:pt x="3742" y="1490"/>
                  </a:lnTo>
                  <a:lnTo>
                    <a:pt x="3737" y="1490"/>
                  </a:lnTo>
                  <a:lnTo>
                    <a:pt x="3737" y="1507"/>
                  </a:lnTo>
                  <a:lnTo>
                    <a:pt x="3732" y="1507"/>
                  </a:lnTo>
                  <a:lnTo>
                    <a:pt x="3732" y="1513"/>
                  </a:lnTo>
                  <a:lnTo>
                    <a:pt x="3728" y="1513"/>
                  </a:lnTo>
                  <a:lnTo>
                    <a:pt x="3728" y="1524"/>
                  </a:lnTo>
                  <a:lnTo>
                    <a:pt x="3722" y="1524"/>
                  </a:lnTo>
                  <a:lnTo>
                    <a:pt x="3722" y="1542"/>
                  </a:lnTo>
                  <a:lnTo>
                    <a:pt x="3717" y="1542"/>
                  </a:lnTo>
                  <a:lnTo>
                    <a:pt x="3717" y="1548"/>
                  </a:lnTo>
                  <a:lnTo>
                    <a:pt x="3713" y="1548"/>
                  </a:lnTo>
                  <a:lnTo>
                    <a:pt x="3713" y="1567"/>
                  </a:lnTo>
                  <a:lnTo>
                    <a:pt x="3708" y="1567"/>
                  </a:lnTo>
                  <a:lnTo>
                    <a:pt x="3708" y="1572"/>
                  </a:lnTo>
                  <a:lnTo>
                    <a:pt x="3703" y="1572"/>
                  </a:lnTo>
                  <a:lnTo>
                    <a:pt x="3703" y="1596"/>
                  </a:lnTo>
                  <a:lnTo>
                    <a:pt x="3698" y="1596"/>
                  </a:lnTo>
                  <a:lnTo>
                    <a:pt x="3698" y="1626"/>
                  </a:lnTo>
                  <a:lnTo>
                    <a:pt x="3688" y="1626"/>
                  </a:lnTo>
                  <a:lnTo>
                    <a:pt x="3688" y="1649"/>
                  </a:lnTo>
                  <a:lnTo>
                    <a:pt x="3684" y="1649"/>
                  </a:lnTo>
                  <a:lnTo>
                    <a:pt x="3684" y="1667"/>
                  </a:lnTo>
                  <a:lnTo>
                    <a:pt x="3680" y="1667"/>
                  </a:lnTo>
                  <a:lnTo>
                    <a:pt x="3680" y="1678"/>
                  </a:lnTo>
                  <a:lnTo>
                    <a:pt x="3675" y="1678"/>
                  </a:lnTo>
                  <a:lnTo>
                    <a:pt x="3675" y="1690"/>
                  </a:lnTo>
                  <a:lnTo>
                    <a:pt x="3670" y="1690"/>
                  </a:lnTo>
                  <a:lnTo>
                    <a:pt x="3670" y="1702"/>
                  </a:lnTo>
                  <a:lnTo>
                    <a:pt x="3665" y="1702"/>
                  </a:lnTo>
                  <a:lnTo>
                    <a:pt x="3665" y="1714"/>
                  </a:lnTo>
                  <a:lnTo>
                    <a:pt x="3661" y="1714"/>
                  </a:lnTo>
                  <a:lnTo>
                    <a:pt x="3661" y="1727"/>
                  </a:lnTo>
                  <a:lnTo>
                    <a:pt x="3656" y="1727"/>
                  </a:lnTo>
                  <a:lnTo>
                    <a:pt x="3656" y="1732"/>
                  </a:lnTo>
                  <a:lnTo>
                    <a:pt x="3650" y="1732"/>
                  </a:lnTo>
                  <a:lnTo>
                    <a:pt x="3650" y="1737"/>
                  </a:lnTo>
                  <a:lnTo>
                    <a:pt x="3646" y="1737"/>
                  </a:lnTo>
                  <a:lnTo>
                    <a:pt x="3646" y="1749"/>
                  </a:lnTo>
                  <a:lnTo>
                    <a:pt x="3640" y="1749"/>
                  </a:lnTo>
                  <a:lnTo>
                    <a:pt x="3640" y="1755"/>
                  </a:lnTo>
                  <a:lnTo>
                    <a:pt x="3636" y="1755"/>
                  </a:lnTo>
                  <a:lnTo>
                    <a:pt x="3636" y="1760"/>
                  </a:lnTo>
                  <a:lnTo>
                    <a:pt x="3632" y="1760"/>
                  </a:lnTo>
                  <a:lnTo>
                    <a:pt x="3632" y="1779"/>
                  </a:lnTo>
                  <a:lnTo>
                    <a:pt x="3627" y="1779"/>
                  </a:lnTo>
                  <a:lnTo>
                    <a:pt x="3627" y="1790"/>
                  </a:lnTo>
                  <a:lnTo>
                    <a:pt x="3622" y="1790"/>
                  </a:lnTo>
                  <a:lnTo>
                    <a:pt x="3622" y="1803"/>
                  </a:lnTo>
                  <a:lnTo>
                    <a:pt x="3617" y="1803"/>
                  </a:lnTo>
                  <a:lnTo>
                    <a:pt x="3617" y="1814"/>
                  </a:lnTo>
                  <a:lnTo>
                    <a:pt x="3613" y="1814"/>
                  </a:lnTo>
                  <a:lnTo>
                    <a:pt x="3613" y="1826"/>
                  </a:lnTo>
                  <a:lnTo>
                    <a:pt x="3607" y="1826"/>
                  </a:lnTo>
                  <a:lnTo>
                    <a:pt x="3607" y="1838"/>
                  </a:lnTo>
                  <a:lnTo>
                    <a:pt x="3603" y="1838"/>
                  </a:lnTo>
                  <a:lnTo>
                    <a:pt x="3603" y="1849"/>
                  </a:lnTo>
                  <a:lnTo>
                    <a:pt x="3598" y="1849"/>
                  </a:lnTo>
                  <a:lnTo>
                    <a:pt x="3598" y="1868"/>
                  </a:lnTo>
                  <a:lnTo>
                    <a:pt x="3593" y="1868"/>
                  </a:lnTo>
                  <a:lnTo>
                    <a:pt x="3593" y="1873"/>
                  </a:lnTo>
                  <a:lnTo>
                    <a:pt x="3589" y="1873"/>
                  </a:lnTo>
                  <a:lnTo>
                    <a:pt x="3589" y="1885"/>
                  </a:lnTo>
                  <a:lnTo>
                    <a:pt x="3584" y="1885"/>
                  </a:lnTo>
                  <a:lnTo>
                    <a:pt x="3584" y="1891"/>
                  </a:lnTo>
                  <a:lnTo>
                    <a:pt x="3573" y="1891"/>
                  </a:lnTo>
                  <a:lnTo>
                    <a:pt x="3573" y="1896"/>
                  </a:lnTo>
                  <a:lnTo>
                    <a:pt x="3569" y="1896"/>
                  </a:lnTo>
                  <a:lnTo>
                    <a:pt x="3569" y="1903"/>
                  </a:lnTo>
                  <a:lnTo>
                    <a:pt x="3564" y="1903"/>
                  </a:lnTo>
                  <a:lnTo>
                    <a:pt x="3564" y="1914"/>
                  </a:lnTo>
                  <a:lnTo>
                    <a:pt x="3559" y="1914"/>
                  </a:lnTo>
                  <a:lnTo>
                    <a:pt x="3559" y="1926"/>
                  </a:lnTo>
                  <a:lnTo>
                    <a:pt x="3554" y="1926"/>
                  </a:lnTo>
                  <a:lnTo>
                    <a:pt x="3554" y="1932"/>
                  </a:lnTo>
                  <a:lnTo>
                    <a:pt x="3550" y="1932"/>
                  </a:lnTo>
                  <a:lnTo>
                    <a:pt x="3550" y="1939"/>
                  </a:lnTo>
                  <a:lnTo>
                    <a:pt x="3545" y="1939"/>
                  </a:lnTo>
                  <a:lnTo>
                    <a:pt x="3545" y="1950"/>
                  </a:lnTo>
                  <a:lnTo>
                    <a:pt x="3540" y="1950"/>
                  </a:lnTo>
                  <a:lnTo>
                    <a:pt x="3540" y="1962"/>
                  </a:lnTo>
                  <a:lnTo>
                    <a:pt x="3536" y="1962"/>
                  </a:lnTo>
                  <a:lnTo>
                    <a:pt x="3536" y="1980"/>
                  </a:lnTo>
                  <a:lnTo>
                    <a:pt x="3531" y="1980"/>
                  </a:lnTo>
                  <a:lnTo>
                    <a:pt x="3531" y="1986"/>
                  </a:lnTo>
                  <a:lnTo>
                    <a:pt x="3526" y="1986"/>
                  </a:lnTo>
                  <a:lnTo>
                    <a:pt x="3526" y="1991"/>
                  </a:lnTo>
                  <a:lnTo>
                    <a:pt x="3521" y="1991"/>
                  </a:lnTo>
                  <a:lnTo>
                    <a:pt x="3521" y="2004"/>
                  </a:lnTo>
                  <a:lnTo>
                    <a:pt x="3517" y="2004"/>
                  </a:lnTo>
                  <a:lnTo>
                    <a:pt x="3517" y="2009"/>
                  </a:lnTo>
                  <a:lnTo>
                    <a:pt x="3511" y="2009"/>
                  </a:lnTo>
                  <a:lnTo>
                    <a:pt x="3511" y="2015"/>
                  </a:lnTo>
                  <a:lnTo>
                    <a:pt x="3507" y="2015"/>
                  </a:lnTo>
                  <a:lnTo>
                    <a:pt x="3507" y="2027"/>
                  </a:lnTo>
                  <a:lnTo>
                    <a:pt x="3502" y="2027"/>
                  </a:lnTo>
                  <a:lnTo>
                    <a:pt x="3502" y="2032"/>
                  </a:lnTo>
                  <a:lnTo>
                    <a:pt x="3496" y="2032"/>
                  </a:lnTo>
                  <a:lnTo>
                    <a:pt x="3496" y="2045"/>
                  </a:lnTo>
                  <a:lnTo>
                    <a:pt x="3492" y="2045"/>
                  </a:lnTo>
                  <a:lnTo>
                    <a:pt x="3492" y="2056"/>
                  </a:lnTo>
                  <a:lnTo>
                    <a:pt x="3487" y="2056"/>
                  </a:lnTo>
                  <a:lnTo>
                    <a:pt x="3487" y="2069"/>
                  </a:lnTo>
                  <a:lnTo>
                    <a:pt x="3482" y="2069"/>
                  </a:lnTo>
                  <a:lnTo>
                    <a:pt x="3482" y="2092"/>
                  </a:lnTo>
                  <a:lnTo>
                    <a:pt x="3477" y="2092"/>
                  </a:lnTo>
                  <a:lnTo>
                    <a:pt x="3477" y="2133"/>
                  </a:lnTo>
                  <a:lnTo>
                    <a:pt x="3487" y="2133"/>
                  </a:lnTo>
                  <a:lnTo>
                    <a:pt x="3487" y="2122"/>
                  </a:lnTo>
                  <a:lnTo>
                    <a:pt x="3496" y="2122"/>
                  </a:lnTo>
                  <a:lnTo>
                    <a:pt x="3496" y="2133"/>
                  </a:lnTo>
                  <a:lnTo>
                    <a:pt x="3492" y="2133"/>
                  </a:lnTo>
                  <a:lnTo>
                    <a:pt x="3492" y="2146"/>
                  </a:lnTo>
                  <a:lnTo>
                    <a:pt x="3482" y="2146"/>
                  </a:lnTo>
                  <a:lnTo>
                    <a:pt x="3482" y="2133"/>
                  </a:lnTo>
                  <a:lnTo>
                    <a:pt x="3473" y="2133"/>
                  </a:lnTo>
                  <a:lnTo>
                    <a:pt x="3473" y="2146"/>
                  </a:lnTo>
                  <a:lnTo>
                    <a:pt x="3468" y="2146"/>
                  </a:lnTo>
                  <a:lnTo>
                    <a:pt x="3468" y="2157"/>
                  </a:lnTo>
                  <a:lnTo>
                    <a:pt x="3463" y="2157"/>
                  </a:lnTo>
                  <a:lnTo>
                    <a:pt x="3463" y="2163"/>
                  </a:lnTo>
                  <a:lnTo>
                    <a:pt x="3459" y="2163"/>
                  </a:lnTo>
                  <a:lnTo>
                    <a:pt x="3459" y="2175"/>
                  </a:lnTo>
                  <a:lnTo>
                    <a:pt x="3449" y="2175"/>
                  </a:lnTo>
                  <a:lnTo>
                    <a:pt x="3449" y="2181"/>
                  </a:lnTo>
                  <a:lnTo>
                    <a:pt x="3444" y="2181"/>
                  </a:lnTo>
                  <a:lnTo>
                    <a:pt x="3444" y="2187"/>
                  </a:lnTo>
                  <a:lnTo>
                    <a:pt x="3440" y="2187"/>
                  </a:lnTo>
                  <a:lnTo>
                    <a:pt x="3440" y="2192"/>
                  </a:lnTo>
                  <a:lnTo>
                    <a:pt x="3429" y="2192"/>
                  </a:lnTo>
                  <a:lnTo>
                    <a:pt x="3429" y="2200"/>
                  </a:lnTo>
                  <a:lnTo>
                    <a:pt x="3424" y="2200"/>
                  </a:lnTo>
                  <a:lnTo>
                    <a:pt x="3424" y="2210"/>
                  </a:lnTo>
                  <a:lnTo>
                    <a:pt x="3420" y="2210"/>
                  </a:lnTo>
                  <a:lnTo>
                    <a:pt x="3420" y="2217"/>
                  </a:lnTo>
                  <a:lnTo>
                    <a:pt x="3415" y="2217"/>
                  </a:lnTo>
                  <a:lnTo>
                    <a:pt x="3415" y="2228"/>
                  </a:lnTo>
                  <a:lnTo>
                    <a:pt x="3410" y="2228"/>
                  </a:lnTo>
                  <a:lnTo>
                    <a:pt x="3410" y="2233"/>
                  </a:lnTo>
                  <a:lnTo>
                    <a:pt x="3406" y="2233"/>
                  </a:lnTo>
                  <a:lnTo>
                    <a:pt x="3406" y="2241"/>
                  </a:lnTo>
                  <a:lnTo>
                    <a:pt x="3400" y="2241"/>
                  </a:lnTo>
                  <a:lnTo>
                    <a:pt x="3400" y="2246"/>
                  </a:lnTo>
                  <a:lnTo>
                    <a:pt x="3396" y="2246"/>
                  </a:lnTo>
                  <a:lnTo>
                    <a:pt x="3396" y="2251"/>
                  </a:lnTo>
                  <a:lnTo>
                    <a:pt x="3391" y="2251"/>
                  </a:lnTo>
                  <a:lnTo>
                    <a:pt x="3391" y="2263"/>
                  </a:lnTo>
                  <a:lnTo>
                    <a:pt x="3387" y="2263"/>
                  </a:lnTo>
                  <a:lnTo>
                    <a:pt x="3387" y="2268"/>
                  </a:lnTo>
                  <a:lnTo>
                    <a:pt x="3382" y="2268"/>
                  </a:lnTo>
                  <a:lnTo>
                    <a:pt x="3382" y="2276"/>
                  </a:lnTo>
                  <a:lnTo>
                    <a:pt x="3377" y="2276"/>
                  </a:lnTo>
                  <a:lnTo>
                    <a:pt x="3377" y="2281"/>
                  </a:lnTo>
                  <a:lnTo>
                    <a:pt x="3373" y="2281"/>
                  </a:lnTo>
                  <a:lnTo>
                    <a:pt x="3373" y="2287"/>
                  </a:lnTo>
                  <a:lnTo>
                    <a:pt x="3367" y="2287"/>
                  </a:lnTo>
                  <a:lnTo>
                    <a:pt x="3367" y="2299"/>
                  </a:lnTo>
                  <a:lnTo>
                    <a:pt x="3363" y="2299"/>
                  </a:lnTo>
                  <a:lnTo>
                    <a:pt x="3363" y="2304"/>
                  </a:lnTo>
                  <a:lnTo>
                    <a:pt x="3357" y="2304"/>
                  </a:lnTo>
                  <a:lnTo>
                    <a:pt x="3357" y="2311"/>
                  </a:lnTo>
                  <a:lnTo>
                    <a:pt x="3352" y="2311"/>
                  </a:lnTo>
                  <a:lnTo>
                    <a:pt x="3352" y="2317"/>
                  </a:lnTo>
                  <a:lnTo>
                    <a:pt x="3347" y="2317"/>
                  </a:lnTo>
                  <a:lnTo>
                    <a:pt x="3347" y="2322"/>
                  </a:lnTo>
                  <a:lnTo>
                    <a:pt x="3343" y="2322"/>
                  </a:lnTo>
                  <a:lnTo>
                    <a:pt x="3343" y="2334"/>
                  </a:lnTo>
                  <a:lnTo>
                    <a:pt x="3338" y="2334"/>
                  </a:lnTo>
                  <a:lnTo>
                    <a:pt x="3338" y="2341"/>
                  </a:lnTo>
                  <a:lnTo>
                    <a:pt x="3333" y="2341"/>
                  </a:lnTo>
                  <a:lnTo>
                    <a:pt x="3333" y="2346"/>
                  </a:lnTo>
                  <a:lnTo>
                    <a:pt x="3329" y="2346"/>
                  </a:lnTo>
                  <a:lnTo>
                    <a:pt x="3329" y="2352"/>
                  </a:lnTo>
                  <a:lnTo>
                    <a:pt x="3324" y="2352"/>
                  </a:lnTo>
                  <a:lnTo>
                    <a:pt x="3324" y="2358"/>
                  </a:lnTo>
                  <a:lnTo>
                    <a:pt x="3319" y="2358"/>
                  </a:lnTo>
                  <a:lnTo>
                    <a:pt x="3319" y="2364"/>
                  </a:lnTo>
                  <a:lnTo>
                    <a:pt x="3314" y="2364"/>
                  </a:lnTo>
                  <a:lnTo>
                    <a:pt x="3314" y="2369"/>
                  </a:lnTo>
                  <a:lnTo>
                    <a:pt x="3305" y="2369"/>
                  </a:lnTo>
                  <a:lnTo>
                    <a:pt x="3305" y="2375"/>
                  </a:lnTo>
                  <a:lnTo>
                    <a:pt x="3300" y="2375"/>
                  </a:lnTo>
                  <a:lnTo>
                    <a:pt x="3300" y="2382"/>
                  </a:lnTo>
                  <a:lnTo>
                    <a:pt x="3291" y="2382"/>
                  </a:lnTo>
                  <a:lnTo>
                    <a:pt x="3291" y="2387"/>
                  </a:lnTo>
                  <a:lnTo>
                    <a:pt x="3285" y="2387"/>
                  </a:lnTo>
                  <a:lnTo>
                    <a:pt x="3285" y="2394"/>
                  </a:lnTo>
                  <a:lnTo>
                    <a:pt x="3281" y="2394"/>
                  </a:lnTo>
                  <a:lnTo>
                    <a:pt x="3281" y="2399"/>
                  </a:lnTo>
                  <a:lnTo>
                    <a:pt x="3276" y="2399"/>
                  </a:lnTo>
                  <a:lnTo>
                    <a:pt x="3276" y="2410"/>
                  </a:lnTo>
                  <a:lnTo>
                    <a:pt x="3271" y="2410"/>
                  </a:lnTo>
                  <a:lnTo>
                    <a:pt x="3271" y="2418"/>
                  </a:lnTo>
                  <a:lnTo>
                    <a:pt x="3266" y="2418"/>
                  </a:lnTo>
                  <a:lnTo>
                    <a:pt x="3266" y="2423"/>
                  </a:lnTo>
                  <a:lnTo>
                    <a:pt x="3262" y="2423"/>
                  </a:lnTo>
                  <a:lnTo>
                    <a:pt x="3262" y="2428"/>
                  </a:lnTo>
                  <a:lnTo>
                    <a:pt x="3256" y="2428"/>
                  </a:lnTo>
                  <a:lnTo>
                    <a:pt x="3256" y="2435"/>
                  </a:lnTo>
                  <a:lnTo>
                    <a:pt x="3252" y="2435"/>
                  </a:lnTo>
                  <a:lnTo>
                    <a:pt x="3252" y="2447"/>
                  </a:lnTo>
                  <a:lnTo>
                    <a:pt x="3248" y="2447"/>
                  </a:lnTo>
                  <a:lnTo>
                    <a:pt x="3248" y="2453"/>
                  </a:lnTo>
                  <a:lnTo>
                    <a:pt x="3243" y="2453"/>
                  </a:lnTo>
                  <a:lnTo>
                    <a:pt x="3243" y="2459"/>
                  </a:lnTo>
                  <a:lnTo>
                    <a:pt x="3238" y="2459"/>
                  </a:lnTo>
                  <a:lnTo>
                    <a:pt x="3238" y="2470"/>
                  </a:lnTo>
                  <a:lnTo>
                    <a:pt x="3233" y="2470"/>
                  </a:lnTo>
                  <a:lnTo>
                    <a:pt x="3233" y="2477"/>
                  </a:lnTo>
                  <a:lnTo>
                    <a:pt x="3229" y="2477"/>
                  </a:lnTo>
                  <a:lnTo>
                    <a:pt x="3229" y="2482"/>
                  </a:lnTo>
                  <a:lnTo>
                    <a:pt x="3223" y="2482"/>
                  </a:lnTo>
                  <a:lnTo>
                    <a:pt x="3223" y="2488"/>
                  </a:lnTo>
                  <a:lnTo>
                    <a:pt x="3219" y="2488"/>
                  </a:lnTo>
                  <a:lnTo>
                    <a:pt x="3219" y="2500"/>
                  </a:lnTo>
                  <a:lnTo>
                    <a:pt x="3213" y="2500"/>
                  </a:lnTo>
                  <a:lnTo>
                    <a:pt x="3213" y="2505"/>
                  </a:lnTo>
                  <a:lnTo>
                    <a:pt x="3208" y="2505"/>
                  </a:lnTo>
                  <a:lnTo>
                    <a:pt x="3208" y="2513"/>
                  </a:lnTo>
                  <a:lnTo>
                    <a:pt x="3204" y="2513"/>
                  </a:lnTo>
                  <a:lnTo>
                    <a:pt x="3204" y="2518"/>
                  </a:lnTo>
                  <a:lnTo>
                    <a:pt x="3199" y="2518"/>
                  </a:lnTo>
                  <a:lnTo>
                    <a:pt x="3199" y="2523"/>
                  </a:lnTo>
                  <a:lnTo>
                    <a:pt x="3194" y="2523"/>
                  </a:lnTo>
                  <a:lnTo>
                    <a:pt x="3194" y="2535"/>
                  </a:lnTo>
                  <a:lnTo>
                    <a:pt x="3189" y="2535"/>
                  </a:lnTo>
                  <a:lnTo>
                    <a:pt x="3189" y="2541"/>
                  </a:lnTo>
                  <a:lnTo>
                    <a:pt x="3185" y="2541"/>
                  </a:lnTo>
                  <a:lnTo>
                    <a:pt x="3185" y="2559"/>
                  </a:lnTo>
                  <a:lnTo>
                    <a:pt x="3180" y="2559"/>
                  </a:lnTo>
                  <a:lnTo>
                    <a:pt x="3180" y="2571"/>
                  </a:lnTo>
                  <a:lnTo>
                    <a:pt x="3175" y="2571"/>
                  </a:lnTo>
                  <a:lnTo>
                    <a:pt x="3175" y="2576"/>
                  </a:lnTo>
                  <a:lnTo>
                    <a:pt x="3170" y="2576"/>
                  </a:lnTo>
                  <a:lnTo>
                    <a:pt x="3170" y="2583"/>
                  </a:lnTo>
                  <a:lnTo>
                    <a:pt x="3166" y="2583"/>
                  </a:lnTo>
                  <a:lnTo>
                    <a:pt x="3166" y="2589"/>
                  </a:lnTo>
                  <a:lnTo>
                    <a:pt x="3161" y="2589"/>
                  </a:lnTo>
                  <a:lnTo>
                    <a:pt x="3161" y="2595"/>
                  </a:lnTo>
                  <a:lnTo>
                    <a:pt x="3156" y="2595"/>
                  </a:lnTo>
                  <a:lnTo>
                    <a:pt x="3156" y="2600"/>
                  </a:lnTo>
                  <a:lnTo>
                    <a:pt x="3152" y="2600"/>
                  </a:lnTo>
                  <a:lnTo>
                    <a:pt x="3152" y="2613"/>
                  </a:lnTo>
                  <a:lnTo>
                    <a:pt x="3141" y="2613"/>
                  </a:lnTo>
                  <a:lnTo>
                    <a:pt x="3141" y="2619"/>
                  </a:lnTo>
                  <a:lnTo>
                    <a:pt x="3136" y="2619"/>
                  </a:lnTo>
                  <a:lnTo>
                    <a:pt x="3136" y="2630"/>
                  </a:lnTo>
                  <a:lnTo>
                    <a:pt x="3132" y="2630"/>
                  </a:lnTo>
                  <a:lnTo>
                    <a:pt x="3132" y="2636"/>
                  </a:lnTo>
                  <a:lnTo>
                    <a:pt x="3126" y="2636"/>
                  </a:lnTo>
                  <a:lnTo>
                    <a:pt x="3126" y="2648"/>
                  </a:lnTo>
                  <a:lnTo>
                    <a:pt x="3122" y="2648"/>
                  </a:lnTo>
                  <a:lnTo>
                    <a:pt x="3122" y="2654"/>
                  </a:lnTo>
                  <a:lnTo>
                    <a:pt x="3112" y="2654"/>
                  </a:lnTo>
                  <a:lnTo>
                    <a:pt x="3112" y="2660"/>
                  </a:lnTo>
                  <a:lnTo>
                    <a:pt x="3108" y="2660"/>
                  </a:lnTo>
                  <a:lnTo>
                    <a:pt x="3108" y="2665"/>
                  </a:lnTo>
                  <a:lnTo>
                    <a:pt x="3103" y="2665"/>
                  </a:lnTo>
                  <a:lnTo>
                    <a:pt x="3103" y="2672"/>
                  </a:lnTo>
                  <a:lnTo>
                    <a:pt x="3098" y="2672"/>
                  </a:lnTo>
                  <a:lnTo>
                    <a:pt x="3098" y="2677"/>
                  </a:lnTo>
                  <a:lnTo>
                    <a:pt x="3089" y="2677"/>
                  </a:lnTo>
                  <a:lnTo>
                    <a:pt x="3089" y="2682"/>
                  </a:lnTo>
                  <a:lnTo>
                    <a:pt x="3085" y="2682"/>
                  </a:lnTo>
                  <a:lnTo>
                    <a:pt x="3085" y="2689"/>
                  </a:lnTo>
                  <a:lnTo>
                    <a:pt x="3075" y="2689"/>
                  </a:lnTo>
                  <a:lnTo>
                    <a:pt x="3075" y="2700"/>
                  </a:lnTo>
                  <a:lnTo>
                    <a:pt x="3064" y="2700"/>
                  </a:lnTo>
                  <a:lnTo>
                    <a:pt x="3064" y="2706"/>
                  </a:lnTo>
                  <a:lnTo>
                    <a:pt x="3059" y="2706"/>
                  </a:lnTo>
                  <a:lnTo>
                    <a:pt x="3059" y="2712"/>
                  </a:lnTo>
                  <a:lnTo>
                    <a:pt x="3055" y="2712"/>
                  </a:lnTo>
                  <a:lnTo>
                    <a:pt x="3055" y="2719"/>
                  </a:lnTo>
                  <a:lnTo>
                    <a:pt x="3050" y="2719"/>
                  </a:lnTo>
                  <a:lnTo>
                    <a:pt x="3050" y="2724"/>
                  </a:lnTo>
                  <a:lnTo>
                    <a:pt x="3045" y="2724"/>
                  </a:lnTo>
                  <a:lnTo>
                    <a:pt x="3045" y="2731"/>
                  </a:lnTo>
                  <a:lnTo>
                    <a:pt x="3041" y="2731"/>
                  </a:lnTo>
                  <a:lnTo>
                    <a:pt x="3041" y="2736"/>
                  </a:lnTo>
                  <a:lnTo>
                    <a:pt x="3031" y="2736"/>
                  </a:lnTo>
                  <a:lnTo>
                    <a:pt x="3031" y="2741"/>
                  </a:lnTo>
                  <a:lnTo>
                    <a:pt x="3026" y="2741"/>
                  </a:lnTo>
                  <a:lnTo>
                    <a:pt x="3026" y="2749"/>
                  </a:lnTo>
                  <a:lnTo>
                    <a:pt x="3022" y="2749"/>
                  </a:lnTo>
                  <a:lnTo>
                    <a:pt x="3022" y="2754"/>
                  </a:lnTo>
                  <a:lnTo>
                    <a:pt x="3016" y="2754"/>
                  </a:lnTo>
                  <a:lnTo>
                    <a:pt x="3016" y="2760"/>
                  </a:lnTo>
                  <a:lnTo>
                    <a:pt x="3007" y="2760"/>
                  </a:lnTo>
                  <a:lnTo>
                    <a:pt x="3007" y="2766"/>
                  </a:lnTo>
                  <a:lnTo>
                    <a:pt x="3003" y="2766"/>
                  </a:lnTo>
                  <a:lnTo>
                    <a:pt x="3003" y="2772"/>
                  </a:lnTo>
                  <a:lnTo>
                    <a:pt x="2997" y="2772"/>
                  </a:lnTo>
                  <a:lnTo>
                    <a:pt x="2997" y="2777"/>
                  </a:lnTo>
                  <a:lnTo>
                    <a:pt x="2992" y="2777"/>
                  </a:lnTo>
                  <a:lnTo>
                    <a:pt x="2992" y="2784"/>
                  </a:lnTo>
                  <a:lnTo>
                    <a:pt x="2988" y="2784"/>
                  </a:lnTo>
                  <a:lnTo>
                    <a:pt x="2988" y="2790"/>
                  </a:lnTo>
                  <a:lnTo>
                    <a:pt x="2982" y="2790"/>
                  </a:lnTo>
                  <a:lnTo>
                    <a:pt x="2982" y="2795"/>
                  </a:lnTo>
                  <a:lnTo>
                    <a:pt x="2978" y="2795"/>
                  </a:lnTo>
                  <a:lnTo>
                    <a:pt x="2978" y="2801"/>
                  </a:lnTo>
                  <a:lnTo>
                    <a:pt x="2973" y="2801"/>
                  </a:lnTo>
                  <a:lnTo>
                    <a:pt x="2973" y="2807"/>
                  </a:lnTo>
                  <a:lnTo>
                    <a:pt x="2968" y="2807"/>
                  </a:lnTo>
                  <a:lnTo>
                    <a:pt x="2968" y="2813"/>
                  </a:lnTo>
                  <a:lnTo>
                    <a:pt x="2964" y="2813"/>
                  </a:lnTo>
                  <a:lnTo>
                    <a:pt x="2964" y="2818"/>
                  </a:lnTo>
                  <a:lnTo>
                    <a:pt x="2959" y="2818"/>
                  </a:lnTo>
                  <a:lnTo>
                    <a:pt x="2959" y="2831"/>
                  </a:lnTo>
                  <a:lnTo>
                    <a:pt x="2954" y="2831"/>
                  </a:lnTo>
                  <a:lnTo>
                    <a:pt x="2954" y="2836"/>
                  </a:lnTo>
                  <a:lnTo>
                    <a:pt x="2950" y="2836"/>
                  </a:lnTo>
                  <a:lnTo>
                    <a:pt x="2950" y="2848"/>
                  </a:lnTo>
                  <a:lnTo>
                    <a:pt x="2945" y="2848"/>
                  </a:lnTo>
                  <a:lnTo>
                    <a:pt x="2945" y="2855"/>
                  </a:lnTo>
                  <a:lnTo>
                    <a:pt x="2941" y="2855"/>
                  </a:lnTo>
                  <a:lnTo>
                    <a:pt x="2941" y="2860"/>
                  </a:lnTo>
                  <a:lnTo>
                    <a:pt x="2935" y="2860"/>
                  </a:lnTo>
                  <a:lnTo>
                    <a:pt x="2935" y="2867"/>
                  </a:lnTo>
                  <a:lnTo>
                    <a:pt x="2931" y="2867"/>
                  </a:lnTo>
                  <a:lnTo>
                    <a:pt x="2931" y="2878"/>
                  </a:lnTo>
                  <a:lnTo>
                    <a:pt x="2925" y="2878"/>
                  </a:lnTo>
                  <a:lnTo>
                    <a:pt x="2925" y="2890"/>
                  </a:lnTo>
                  <a:lnTo>
                    <a:pt x="2920" y="2890"/>
                  </a:lnTo>
                  <a:lnTo>
                    <a:pt x="2920" y="2896"/>
                  </a:lnTo>
                  <a:lnTo>
                    <a:pt x="2915" y="2896"/>
                  </a:lnTo>
                  <a:lnTo>
                    <a:pt x="2915" y="2908"/>
                  </a:lnTo>
                  <a:lnTo>
                    <a:pt x="2911" y="2908"/>
                  </a:lnTo>
                  <a:lnTo>
                    <a:pt x="2911" y="2913"/>
                  </a:lnTo>
                  <a:lnTo>
                    <a:pt x="2906" y="2913"/>
                  </a:lnTo>
                  <a:lnTo>
                    <a:pt x="2906" y="2920"/>
                  </a:lnTo>
                  <a:lnTo>
                    <a:pt x="2901" y="2920"/>
                  </a:lnTo>
                  <a:lnTo>
                    <a:pt x="2901" y="2932"/>
                  </a:lnTo>
                  <a:lnTo>
                    <a:pt x="2897" y="2932"/>
                  </a:lnTo>
                  <a:lnTo>
                    <a:pt x="2897" y="2937"/>
                  </a:lnTo>
                  <a:lnTo>
                    <a:pt x="2892" y="2937"/>
                  </a:lnTo>
                  <a:lnTo>
                    <a:pt x="2892" y="2943"/>
                  </a:lnTo>
                  <a:lnTo>
                    <a:pt x="2887" y="2943"/>
                  </a:lnTo>
                  <a:lnTo>
                    <a:pt x="2887" y="2949"/>
                  </a:lnTo>
                  <a:lnTo>
                    <a:pt x="2882" y="2949"/>
                  </a:lnTo>
                  <a:lnTo>
                    <a:pt x="2882" y="2954"/>
                  </a:lnTo>
                  <a:lnTo>
                    <a:pt x="2878" y="2954"/>
                  </a:lnTo>
                  <a:lnTo>
                    <a:pt x="2878" y="2961"/>
                  </a:lnTo>
                  <a:lnTo>
                    <a:pt x="2872" y="2961"/>
                  </a:lnTo>
                  <a:lnTo>
                    <a:pt x="2872" y="2967"/>
                  </a:lnTo>
                  <a:lnTo>
                    <a:pt x="2868" y="2967"/>
                  </a:lnTo>
                  <a:lnTo>
                    <a:pt x="2868" y="2973"/>
                  </a:lnTo>
                  <a:lnTo>
                    <a:pt x="2864" y="2973"/>
                  </a:lnTo>
                  <a:lnTo>
                    <a:pt x="2864" y="2978"/>
                  </a:lnTo>
                  <a:lnTo>
                    <a:pt x="2859" y="2978"/>
                  </a:lnTo>
                  <a:lnTo>
                    <a:pt x="2859" y="2986"/>
                  </a:lnTo>
                  <a:lnTo>
                    <a:pt x="2853" y="2986"/>
                  </a:lnTo>
                  <a:lnTo>
                    <a:pt x="2853" y="2991"/>
                  </a:lnTo>
                  <a:lnTo>
                    <a:pt x="2848" y="2991"/>
                  </a:lnTo>
                  <a:lnTo>
                    <a:pt x="2848" y="2996"/>
                  </a:lnTo>
                  <a:lnTo>
                    <a:pt x="2838" y="2996"/>
                  </a:lnTo>
                  <a:lnTo>
                    <a:pt x="2838" y="3002"/>
                  </a:lnTo>
                  <a:lnTo>
                    <a:pt x="2834" y="3002"/>
                  </a:lnTo>
                  <a:lnTo>
                    <a:pt x="2834" y="3014"/>
                  </a:lnTo>
                  <a:lnTo>
                    <a:pt x="2829" y="3014"/>
                  </a:lnTo>
                  <a:lnTo>
                    <a:pt x="2829" y="3019"/>
                  </a:lnTo>
                  <a:lnTo>
                    <a:pt x="2824" y="3019"/>
                  </a:lnTo>
                  <a:lnTo>
                    <a:pt x="2824" y="3027"/>
                  </a:lnTo>
                  <a:lnTo>
                    <a:pt x="2815" y="3027"/>
                  </a:lnTo>
                  <a:lnTo>
                    <a:pt x="2815" y="3038"/>
                  </a:lnTo>
                  <a:lnTo>
                    <a:pt x="2810" y="3038"/>
                  </a:lnTo>
                  <a:lnTo>
                    <a:pt x="2810" y="3044"/>
                  </a:lnTo>
                  <a:lnTo>
                    <a:pt x="2805" y="3044"/>
                  </a:lnTo>
                  <a:lnTo>
                    <a:pt x="2805" y="3049"/>
                  </a:lnTo>
                  <a:lnTo>
                    <a:pt x="2801" y="3049"/>
                  </a:lnTo>
                  <a:lnTo>
                    <a:pt x="2801" y="3062"/>
                  </a:lnTo>
                  <a:lnTo>
                    <a:pt x="2796" y="3062"/>
                  </a:lnTo>
                  <a:lnTo>
                    <a:pt x="2796" y="3079"/>
                  </a:lnTo>
                  <a:lnTo>
                    <a:pt x="2791" y="3079"/>
                  </a:lnTo>
                  <a:lnTo>
                    <a:pt x="2791" y="3092"/>
                  </a:lnTo>
                  <a:lnTo>
                    <a:pt x="2786" y="3092"/>
                  </a:lnTo>
                  <a:lnTo>
                    <a:pt x="2786" y="3103"/>
                  </a:lnTo>
                  <a:lnTo>
                    <a:pt x="2776" y="3103"/>
                  </a:lnTo>
                  <a:lnTo>
                    <a:pt x="2776" y="3108"/>
                  </a:lnTo>
                  <a:lnTo>
                    <a:pt x="2771" y="3108"/>
                  </a:lnTo>
                  <a:lnTo>
                    <a:pt x="2771" y="3120"/>
                  </a:lnTo>
                  <a:lnTo>
                    <a:pt x="2767" y="3120"/>
                  </a:lnTo>
                  <a:lnTo>
                    <a:pt x="2767" y="3127"/>
                  </a:lnTo>
                  <a:lnTo>
                    <a:pt x="2762" y="3127"/>
                  </a:lnTo>
                  <a:lnTo>
                    <a:pt x="2762" y="3138"/>
                  </a:lnTo>
                  <a:lnTo>
                    <a:pt x="2757" y="3138"/>
                  </a:lnTo>
                  <a:lnTo>
                    <a:pt x="2757" y="3144"/>
                  </a:lnTo>
                  <a:lnTo>
                    <a:pt x="2752" y="3144"/>
                  </a:lnTo>
                  <a:lnTo>
                    <a:pt x="2752" y="3150"/>
                  </a:lnTo>
                  <a:lnTo>
                    <a:pt x="2743" y="3150"/>
                  </a:lnTo>
                  <a:lnTo>
                    <a:pt x="2743" y="3155"/>
                  </a:lnTo>
                  <a:lnTo>
                    <a:pt x="2738" y="3155"/>
                  </a:lnTo>
                  <a:lnTo>
                    <a:pt x="2738" y="3162"/>
                  </a:lnTo>
                  <a:lnTo>
                    <a:pt x="2734" y="3162"/>
                  </a:lnTo>
                  <a:lnTo>
                    <a:pt x="2734" y="3168"/>
                  </a:lnTo>
                  <a:lnTo>
                    <a:pt x="2714" y="3168"/>
                  </a:lnTo>
                  <a:lnTo>
                    <a:pt x="2714" y="3179"/>
                  </a:lnTo>
                  <a:lnTo>
                    <a:pt x="2704" y="3179"/>
                  </a:lnTo>
                  <a:lnTo>
                    <a:pt x="2704" y="3168"/>
                  </a:lnTo>
                  <a:lnTo>
                    <a:pt x="2719" y="3168"/>
                  </a:lnTo>
                  <a:lnTo>
                    <a:pt x="2719" y="3155"/>
                  </a:lnTo>
                  <a:lnTo>
                    <a:pt x="2724" y="3155"/>
                  </a:lnTo>
                  <a:lnTo>
                    <a:pt x="2724" y="3150"/>
                  </a:lnTo>
                  <a:lnTo>
                    <a:pt x="2734" y="3150"/>
                  </a:lnTo>
                  <a:lnTo>
                    <a:pt x="2734" y="3144"/>
                  </a:lnTo>
                  <a:lnTo>
                    <a:pt x="2738" y="3144"/>
                  </a:lnTo>
                  <a:lnTo>
                    <a:pt x="2738" y="3138"/>
                  </a:lnTo>
                  <a:lnTo>
                    <a:pt x="2743" y="3138"/>
                  </a:lnTo>
                  <a:lnTo>
                    <a:pt x="2743" y="3132"/>
                  </a:lnTo>
                  <a:lnTo>
                    <a:pt x="2752" y="3132"/>
                  </a:lnTo>
                  <a:lnTo>
                    <a:pt x="2752" y="3103"/>
                  </a:lnTo>
                  <a:lnTo>
                    <a:pt x="2757" y="3103"/>
                  </a:lnTo>
                  <a:lnTo>
                    <a:pt x="2757" y="3092"/>
                  </a:lnTo>
                  <a:lnTo>
                    <a:pt x="2762" y="3092"/>
                  </a:lnTo>
                  <a:lnTo>
                    <a:pt x="2762" y="3079"/>
                  </a:lnTo>
                  <a:lnTo>
                    <a:pt x="2767" y="3079"/>
                  </a:lnTo>
                  <a:lnTo>
                    <a:pt x="2767" y="3073"/>
                  </a:lnTo>
                  <a:lnTo>
                    <a:pt x="2771" y="3073"/>
                  </a:lnTo>
                  <a:lnTo>
                    <a:pt x="2771" y="3068"/>
                  </a:lnTo>
                  <a:lnTo>
                    <a:pt x="2776" y="3068"/>
                  </a:lnTo>
                  <a:lnTo>
                    <a:pt x="2776" y="3056"/>
                  </a:lnTo>
                  <a:lnTo>
                    <a:pt x="2781" y="3056"/>
                  </a:lnTo>
                  <a:lnTo>
                    <a:pt x="2781" y="3049"/>
                  </a:lnTo>
                  <a:lnTo>
                    <a:pt x="2786" y="3049"/>
                  </a:lnTo>
                  <a:lnTo>
                    <a:pt x="2786" y="3044"/>
                  </a:lnTo>
                  <a:lnTo>
                    <a:pt x="2791" y="3044"/>
                  </a:lnTo>
                  <a:lnTo>
                    <a:pt x="2791" y="3038"/>
                  </a:lnTo>
                  <a:lnTo>
                    <a:pt x="2796" y="3038"/>
                  </a:lnTo>
                  <a:lnTo>
                    <a:pt x="2796" y="3032"/>
                  </a:lnTo>
                  <a:lnTo>
                    <a:pt x="2801" y="3032"/>
                  </a:lnTo>
                  <a:lnTo>
                    <a:pt x="2801" y="3027"/>
                  </a:lnTo>
                  <a:lnTo>
                    <a:pt x="2805" y="3027"/>
                  </a:lnTo>
                  <a:lnTo>
                    <a:pt x="2805" y="3014"/>
                  </a:lnTo>
                  <a:lnTo>
                    <a:pt x="2810" y="3014"/>
                  </a:lnTo>
                  <a:lnTo>
                    <a:pt x="2810" y="3002"/>
                  </a:lnTo>
                  <a:lnTo>
                    <a:pt x="2815" y="3002"/>
                  </a:lnTo>
                  <a:lnTo>
                    <a:pt x="2815" y="2973"/>
                  </a:lnTo>
                  <a:lnTo>
                    <a:pt x="2820" y="2973"/>
                  </a:lnTo>
                  <a:lnTo>
                    <a:pt x="2820" y="2967"/>
                  </a:lnTo>
                  <a:lnTo>
                    <a:pt x="2824" y="2967"/>
                  </a:lnTo>
                  <a:lnTo>
                    <a:pt x="2824" y="2961"/>
                  </a:lnTo>
                  <a:lnTo>
                    <a:pt x="2829" y="2961"/>
                  </a:lnTo>
                  <a:lnTo>
                    <a:pt x="2829" y="2949"/>
                  </a:lnTo>
                  <a:lnTo>
                    <a:pt x="2834" y="2949"/>
                  </a:lnTo>
                  <a:lnTo>
                    <a:pt x="2834" y="2937"/>
                  </a:lnTo>
                  <a:lnTo>
                    <a:pt x="2838" y="2937"/>
                  </a:lnTo>
                  <a:lnTo>
                    <a:pt x="2838" y="2932"/>
                  </a:lnTo>
                  <a:lnTo>
                    <a:pt x="2844" y="2932"/>
                  </a:lnTo>
                  <a:lnTo>
                    <a:pt x="2844" y="2926"/>
                  </a:lnTo>
                  <a:lnTo>
                    <a:pt x="2864" y="2926"/>
                  </a:lnTo>
                  <a:lnTo>
                    <a:pt x="2864" y="2913"/>
                  </a:lnTo>
                  <a:lnTo>
                    <a:pt x="2872" y="2913"/>
                  </a:lnTo>
                  <a:lnTo>
                    <a:pt x="2872" y="2908"/>
                  </a:lnTo>
                  <a:lnTo>
                    <a:pt x="2882" y="2908"/>
                  </a:lnTo>
                  <a:lnTo>
                    <a:pt x="2882" y="2920"/>
                  </a:lnTo>
                  <a:lnTo>
                    <a:pt x="2892" y="2920"/>
                  </a:lnTo>
                  <a:lnTo>
                    <a:pt x="2892" y="2913"/>
                  </a:lnTo>
                  <a:lnTo>
                    <a:pt x="2897" y="2913"/>
                  </a:lnTo>
                  <a:lnTo>
                    <a:pt x="2897" y="2908"/>
                  </a:lnTo>
                  <a:lnTo>
                    <a:pt x="2901" y="2908"/>
                  </a:lnTo>
                  <a:lnTo>
                    <a:pt x="2901" y="2890"/>
                  </a:lnTo>
                  <a:lnTo>
                    <a:pt x="2911" y="2890"/>
                  </a:lnTo>
                  <a:lnTo>
                    <a:pt x="2911" y="2878"/>
                  </a:lnTo>
                  <a:lnTo>
                    <a:pt x="2915" y="2878"/>
                  </a:lnTo>
                  <a:lnTo>
                    <a:pt x="2915" y="2872"/>
                  </a:lnTo>
                  <a:lnTo>
                    <a:pt x="2920" y="2872"/>
                  </a:lnTo>
                  <a:lnTo>
                    <a:pt x="2920" y="2860"/>
                  </a:lnTo>
                  <a:lnTo>
                    <a:pt x="2925" y="2860"/>
                  </a:lnTo>
                  <a:lnTo>
                    <a:pt x="2925" y="2855"/>
                  </a:lnTo>
                  <a:lnTo>
                    <a:pt x="2931" y="2855"/>
                  </a:lnTo>
                  <a:lnTo>
                    <a:pt x="2931" y="2842"/>
                  </a:lnTo>
                  <a:lnTo>
                    <a:pt x="2935" y="2842"/>
                  </a:lnTo>
                  <a:lnTo>
                    <a:pt x="2935" y="2831"/>
                  </a:lnTo>
                  <a:lnTo>
                    <a:pt x="2941" y="2831"/>
                  </a:lnTo>
                  <a:lnTo>
                    <a:pt x="2941" y="2825"/>
                  </a:lnTo>
                  <a:lnTo>
                    <a:pt x="2945" y="2825"/>
                  </a:lnTo>
                  <a:lnTo>
                    <a:pt x="2945" y="2818"/>
                  </a:lnTo>
                  <a:lnTo>
                    <a:pt x="2950" y="2818"/>
                  </a:lnTo>
                  <a:lnTo>
                    <a:pt x="2950" y="2813"/>
                  </a:lnTo>
                  <a:lnTo>
                    <a:pt x="2954" y="2813"/>
                  </a:lnTo>
                  <a:lnTo>
                    <a:pt x="2954" y="2801"/>
                  </a:lnTo>
                  <a:lnTo>
                    <a:pt x="2959" y="2801"/>
                  </a:lnTo>
                  <a:lnTo>
                    <a:pt x="2959" y="2795"/>
                  </a:lnTo>
                  <a:lnTo>
                    <a:pt x="2964" y="2795"/>
                  </a:lnTo>
                  <a:lnTo>
                    <a:pt x="2964" y="2784"/>
                  </a:lnTo>
                  <a:lnTo>
                    <a:pt x="2973" y="2784"/>
                  </a:lnTo>
                  <a:lnTo>
                    <a:pt x="2973" y="2777"/>
                  </a:lnTo>
                  <a:lnTo>
                    <a:pt x="2982" y="2777"/>
                  </a:lnTo>
                  <a:lnTo>
                    <a:pt x="2982" y="2772"/>
                  </a:lnTo>
                  <a:lnTo>
                    <a:pt x="2988" y="2772"/>
                  </a:lnTo>
                  <a:lnTo>
                    <a:pt x="2988" y="2766"/>
                  </a:lnTo>
                  <a:lnTo>
                    <a:pt x="2992" y="2766"/>
                  </a:lnTo>
                  <a:lnTo>
                    <a:pt x="2992" y="2760"/>
                  </a:lnTo>
                  <a:lnTo>
                    <a:pt x="2997" y="2760"/>
                  </a:lnTo>
                  <a:lnTo>
                    <a:pt x="2997" y="2754"/>
                  </a:lnTo>
                  <a:lnTo>
                    <a:pt x="3003" y="2754"/>
                  </a:lnTo>
                  <a:lnTo>
                    <a:pt x="3003" y="2749"/>
                  </a:lnTo>
                  <a:lnTo>
                    <a:pt x="3012" y="2749"/>
                  </a:lnTo>
                  <a:lnTo>
                    <a:pt x="3012" y="2741"/>
                  </a:lnTo>
                  <a:lnTo>
                    <a:pt x="3016" y="2741"/>
                  </a:lnTo>
                  <a:lnTo>
                    <a:pt x="3016" y="2736"/>
                  </a:lnTo>
                  <a:lnTo>
                    <a:pt x="3022" y="2736"/>
                  </a:lnTo>
                  <a:lnTo>
                    <a:pt x="3022" y="2731"/>
                  </a:lnTo>
                  <a:lnTo>
                    <a:pt x="3026" y="2731"/>
                  </a:lnTo>
                  <a:lnTo>
                    <a:pt x="3026" y="2724"/>
                  </a:lnTo>
                  <a:lnTo>
                    <a:pt x="3031" y="2724"/>
                  </a:lnTo>
                  <a:lnTo>
                    <a:pt x="3031" y="2719"/>
                  </a:lnTo>
                  <a:lnTo>
                    <a:pt x="3036" y="2719"/>
                  </a:lnTo>
                  <a:lnTo>
                    <a:pt x="3036" y="2712"/>
                  </a:lnTo>
                  <a:lnTo>
                    <a:pt x="3045" y="2712"/>
                  </a:lnTo>
                  <a:lnTo>
                    <a:pt x="3045" y="2706"/>
                  </a:lnTo>
                  <a:lnTo>
                    <a:pt x="3050" y="2706"/>
                  </a:lnTo>
                  <a:lnTo>
                    <a:pt x="3050" y="2700"/>
                  </a:lnTo>
                  <a:lnTo>
                    <a:pt x="3055" y="2700"/>
                  </a:lnTo>
                  <a:lnTo>
                    <a:pt x="3055" y="2695"/>
                  </a:lnTo>
                  <a:lnTo>
                    <a:pt x="3059" y="2695"/>
                  </a:lnTo>
                  <a:lnTo>
                    <a:pt x="3059" y="2689"/>
                  </a:lnTo>
                  <a:lnTo>
                    <a:pt x="3064" y="2689"/>
                  </a:lnTo>
                  <a:lnTo>
                    <a:pt x="3064" y="2682"/>
                  </a:lnTo>
                  <a:lnTo>
                    <a:pt x="3069" y="2682"/>
                  </a:lnTo>
                  <a:lnTo>
                    <a:pt x="3069" y="2677"/>
                  </a:lnTo>
                  <a:lnTo>
                    <a:pt x="3079" y="2677"/>
                  </a:lnTo>
                  <a:lnTo>
                    <a:pt x="3079" y="2672"/>
                  </a:lnTo>
                  <a:lnTo>
                    <a:pt x="3085" y="2672"/>
                  </a:lnTo>
                  <a:lnTo>
                    <a:pt x="3085" y="2665"/>
                  </a:lnTo>
                  <a:lnTo>
                    <a:pt x="3089" y="2665"/>
                  </a:lnTo>
                  <a:lnTo>
                    <a:pt x="3089" y="2660"/>
                  </a:lnTo>
                  <a:lnTo>
                    <a:pt x="3098" y="2660"/>
                  </a:lnTo>
                  <a:lnTo>
                    <a:pt x="3098" y="2654"/>
                  </a:lnTo>
                  <a:lnTo>
                    <a:pt x="3103" y="2654"/>
                  </a:lnTo>
                  <a:lnTo>
                    <a:pt x="3103" y="2641"/>
                  </a:lnTo>
                  <a:lnTo>
                    <a:pt x="3108" y="2641"/>
                  </a:lnTo>
                  <a:lnTo>
                    <a:pt x="3108" y="2636"/>
                  </a:lnTo>
                  <a:lnTo>
                    <a:pt x="3112" y="2636"/>
                  </a:lnTo>
                  <a:lnTo>
                    <a:pt x="3112" y="2624"/>
                  </a:lnTo>
                  <a:lnTo>
                    <a:pt x="3118" y="2624"/>
                  </a:lnTo>
                  <a:lnTo>
                    <a:pt x="3118" y="2619"/>
                  </a:lnTo>
                  <a:lnTo>
                    <a:pt x="3122" y="2619"/>
                  </a:lnTo>
                  <a:lnTo>
                    <a:pt x="3122" y="2613"/>
                  </a:lnTo>
                  <a:lnTo>
                    <a:pt x="3132" y="2613"/>
                  </a:lnTo>
                  <a:lnTo>
                    <a:pt x="3132" y="2606"/>
                  </a:lnTo>
                  <a:lnTo>
                    <a:pt x="3136" y="2606"/>
                  </a:lnTo>
                  <a:lnTo>
                    <a:pt x="3136" y="2600"/>
                  </a:lnTo>
                  <a:lnTo>
                    <a:pt x="3141" y="2600"/>
                  </a:lnTo>
                  <a:lnTo>
                    <a:pt x="3141" y="2595"/>
                  </a:lnTo>
                  <a:lnTo>
                    <a:pt x="3147" y="2595"/>
                  </a:lnTo>
                  <a:lnTo>
                    <a:pt x="3147" y="2589"/>
                  </a:lnTo>
                  <a:lnTo>
                    <a:pt x="3152" y="2589"/>
                  </a:lnTo>
                  <a:lnTo>
                    <a:pt x="3152" y="2576"/>
                  </a:lnTo>
                  <a:lnTo>
                    <a:pt x="3156" y="2576"/>
                  </a:lnTo>
                  <a:lnTo>
                    <a:pt x="3156" y="2565"/>
                  </a:lnTo>
                  <a:lnTo>
                    <a:pt x="3161" y="2565"/>
                  </a:lnTo>
                  <a:lnTo>
                    <a:pt x="3161" y="2554"/>
                  </a:lnTo>
                  <a:lnTo>
                    <a:pt x="3166" y="2554"/>
                  </a:lnTo>
                  <a:lnTo>
                    <a:pt x="3166" y="2546"/>
                  </a:lnTo>
                  <a:lnTo>
                    <a:pt x="3170" y="2546"/>
                  </a:lnTo>
                  <a:lnTo>
                    <a:pt x="3170" y="2541"/>
                  </a:lnTo>
                  <a:lnTo>
                    <a:pt x="3175" y="2541"/>
                  </a:lnTo>
                  <a:lnTo>
                    <a:pt x="3175" y="2535"/>
                  </a:lnTo>
                  <a:lnTo>
                    <a:pt x="3180" y="2535"/>
                  </a:lnTo>
                  <a:lnTo>
                    <a:pt x="3180" y="2529"/>
                  </a:lnTo>
                  <a:lnTo>
                    <a:pt x="3185" y="2529"/>
                  </a:lnTo>
                  <a:lnTo>
                    <a:pt x="3185" y="2518"/>
                  </a:lnTo>
                  <a:lnTo>
                    <a:pt x="3189" y="2518"/>
                  </a:lnTo>
                  <a:lnTo>
                    <a:pt x="3189" y="2505"/>
                  </a:lnTo>
                  <a:lnTo>
                    <a:pt x="3194" y="2505"/>
                  </a:lnTo>
                  <a:lnTo>
                    <a:pt x="3194" y="2500"/>
                  </a:lnTo>
                  <a:lnTo>
                    <a:pt x="3199" y="2500"/>
                  </a:lnTo>
                  <a:lnTo>
                    <a:pt x="3199" y="2494"/>
                  </a:lnTo>
                  <a:lnTo>
                    <a:pt x="3204" y="2494"/>
                  </a:lnTo>
                  <a:lnTo>
                    <a:pt x="3204" y="2488"/>
                  </a:lnTo>
                  <a:lnTo>
                    <a:pt x="3208" y="2488"/>
                  </a:lnTo>
                  <a:lnTo>
                    <a:pt x="3208" y="2482"/>
                  </a:lnTo>
                  <a:lnTo>
                    <a:pt x="3213" y="2482"/>
                  </a:lnTo>
                  <a:lnTo>
                    <a:pt x="3213" y="2477"/>
                  </a:lnTo>
                  <a:lnTo>
                    <a:pt x="3219" y="2477"/>
                  </a:lnTo>
                  <a:lnTo>
                    <a:pt x="3219" y="2464"/>
                  </a:lnTo>
                  <a:lnTo>
                    <a:pt x="3229" y="2464"/>
                  </a:lnTo>
                  <a:lnTo>
                    <a:pt x="3229" y="2453"/>
                  </a:lnTo>
                  <a:lnTo>
                    <a:pt x="3233" y="2453"/>
                  </a:lnTo>
                  <a:lnTo>
                    <a:pt x="3233" y="2440"/>
                  </a:lnTo>
                  <a:lnTo>
                    <a:pt x="3238" y="2440"/>
                  </a:lnTo>
                  <a:lnTo>
                    <a:pt x="3238" y="2435"/>
                  </a:lnTo>
                  <a:lnTo>
                    <a:pt x="3243" y="2435"/>
                  </a:lnTo>
                  <a:lnTo>
                    <a:pt x="3243" y="2423"/>
                  </a:lnTo>
                  <a:lnTo>
                    <a:pt x="3248" y="2423"/>
                  </a:lnTo>
                  <a:lnTo>
                    <a:pt x="3248" y="2418"/>
                  </a:lnTo>
                  <a:lnTo>
                    <a:pt x="3252" y="2418"/>
                  </a:lnTo>
                  <a:lnTo>
                    <a:pt x="3252" y="2410"/>
                  </a:lnTo>
                  <a:lnTo>
                    <a:pt x="3256" y="2410"/>
                  </a:lnTo>
                  <a:lnTo>
                    <a:pt x="3256" y="2405"/>
                  </a:lnTo>
                  <a:lnTo>
                    <a:pt x="3262" y="2405"/>
                  </a:lnTo>
                  <a:lnTo>
                    <a:pt x="3262" y="2399"/>
                  </a:lnTo>
                  <a:lnTo>
                    <a:pt x="3266" y="2399"/>
                  </a:lnTo>
                  <a:lnTo>
                    <a:pt x="3266" y="2387"/>
                  </a:lnTo>
                  <a:lnTo>
                    <a:pt x="3276" y="2387"/>
                  </a:lnTo>
                  <a:lnTo>
                    <a:pt x="3276" y="2382"/>
                  </a:lnTo>
                  <a:lnTo>
                    <a:pt x="3281" y="2382"/>
                  </a:lnTo>
                  <a:lnTo>
                    <a:pt x="3281" y="2375"/>
                  </a:lnTo>
                  <a:lnTo>
                    <a:pt x="3285" y="2375"/>
                  </a:lnTo>
                  <a:lnTo>
                    <a:pt x="3285" y="2369"/>
                  </a:lnTo>
                  <a:lnTo>
                    <a:pt x="3291" y="2369"/>
                  </a:lnTo>
                  <a:lnTo>
                    <a:pt x="3291" y="2364"/>
                  </a:lnTo>
                  <a:lnTo>
                    <a:pt x="3296" y="2364"/>
                  </a:lnTo>
                  <a:lnTo>
                    <a:pt x="3296" y="2358"/>
                  </a:lnTo>
                  <a:lnTo>
                    <a:pt x="3300" y="2358"/>
                  </a:lnTo>
                  <a:lnTo>
                    <a:pt x="3300" y="2352"/>
                  </a:lnTo>
                  <a:lnTo>
                    <a:pt x="3310" y="2352"/>
                  </a:lnTo>
                  <a:lnTo>
                    <a:pt x="3310" y="2346"/>
                  </a:lnTo>
                  <a:lnTo>
                    <a:pt x="3319" y="2346"/>
                  </a:lnTo>
                  <a:lnTo>
                    <a:pt x="3319" y="2334"/>
                  </a:lnTo>
                  <a:lnTo>
                    <a:pt x="3324" y="2334"/>
                  </a:lnTo>
                  <a:lnTo>
                    <a:pt x="3324" y="2328"/>
                  </a:lnTo>
                  <a:lnTo>
                    <a:pt x="3329" y="2328"/>
                  </a:lnTo>
                  <a:lnTo>
                    <a:pt x="3329" y="2322"/>
                  </a:lnTo>
                  <a:lnTo>
                    <a:pt x="3333" y="2322"/>
                  </a:lnTo>
                  <a:lnTo>
                    <a:pt x="3333" y="2317"/>
                  </a:lnTo>
                  <a:lnTo>
                    <a:pt x="3338" y="2317"/>
                  </a:lnTo>
                  <a:lnTo>
                    <a:pt x="3338" y="2311"/>
                  </a:lnTo>
                  <a:lnTo>
                    <a:pt x="3343" y="2311"/>
                  </a:lnTo>
                  <a:lnTo>
                    <a:pt x="3343" y="2304"/>
                  </a:lnTo>
                  <a:lnTo>
                    <a:pt x="3347" y="2304"/>
                  </a:lnTo>
                  <a:lnTo>
                    <a:pt x="3347" y="2299"/>
                  </a:lnTo>
                  <a:lnTo>
                    <a:pt x="3352" y="2299"/>
                  </a:lnTo>
                  <a:lnTo>
                    <a:pt x="3352" y="2287"/>
                  </a:lnTo>
                  <a:lnTo>
                    <a:pt x="3357" y="2287"/>
                  </a:lnTo>
                  <a:lnTo>
                    <a:pt x="3357" y="2281"/>
                  </a:lnTo>
                  <a:lnTo>
                    <a:pt x="3363" y="2281"/>
                  </a:lnTo>
                  <a:lnTo>
                    <a:pt x="3363" y="2276"/>
                  </a:lnTo>
                  <a:lnTo>
                    <a:pt x="3367" y="2276"/>
                  </a:lnTo>
                  <a:lnTo>
                    <a:pt x="3367" y="2268"/>
                  </a:lnTo>
                  <a:lnTo>
                    <a:pt x="3373" y="2268"/>
                  </a:lnTo>
                  <a:lnTo>
                    <a:pt x="3373" y="2263"/>
                  </a:lnTo>
                  <a:lnTo>
                    <a:pt x="3377" y="2263"/>
                  </a:lnTo>
                  <a:lnTo>
                    <a:pt x="3377" y="2251"/>
                  </a:lnTo>
                  <a:lnTo>
                    <a:pt x="3382" y="2251"/>
                  </a:lnTo>
                  <a:lnTo>
                    <a:pt x="3382" y="2246"/>
                  </a:lnTo>
                  <a:lnTo>
                    <a:pt x="3387" y="2246"/>
                  </a:lnTo>
                  <a:lnTo>
                    <a:pt x="3387" y="2241"/>
                  </a:lnTo>
                  <a:lnTo>
                    <a:pt x="3391" y="2241"/>
                  </a:lnTo>
                  <a:lnTo>
                    <a:pt x="3391" y="2233"/>
                  </a:lnTo>
                  <a:lnTo>
                    <a:pt x="3396" y="2233"/>
                  </a:lnTo>
                  <a:lnTo>
                    <a:pt x="3396" y="2228"/>
                  </a:lnTo>
                  <a:lnTo>
                    <a:pt x="3400" y="2228"/>
                  </a:lnTo>
                  <a:lnTo>
                    <a:pt x="3400" y="2217"/>
                  </a:lnTo>
                  <a:lnTo>
                    <a:pt x="3406" y="2217"/>
                  </a:lnTo>
                  <a:lnTo>
                    <a:pt x="3406" y="2210"/>
                  </a:lnTo>
                  <a:lnTo>
                    <a:pt x="3410" y="2210"/>
                  </a:lnTo>
                  <a:lnTo>
                    <a:pt x="3410" y="2200"/>
                  </a:lnTo>
                  <a:lnTo>
                    <a:pt x="3415" y="2200"/>
                  </a:lnTo>
                  <a:lnTo>
                    <a:pt x="3415" y="2192"/>
                  </a:lnTo>
                  <a:lnTo>
                    <a:pt x="3420" y="2192"/>
                  </a:lnTo>
                  <a:lnTo>
                    <a:pt x="3420" y="2187"/>
                  </a:lnTo>
                  <a:lnTo>
                    <a:pt x="3424" y="2187"/>
                  </a:lnTo>
                  <a:lnTo>
                    <a:pt x="3424" y="2181"/>
                  </a:lnTo>
                  <a:lnTo>
                    <a:pt x="3429" y="2181"/>
                  </a:lnTo>
                  <a:lnTo>
                    <a:pt x="3429" y="2175"/>
                  </a:lnTo>
                  <a:lnTo>
                    <a:pt x="3435" y="2175"/>
                  </a:lnTo>
                  <a:lnTo>
                    <a:pt x="3435" y="2168"/>
                  </a:lnTo>
                  <a:lnTo>
                    <a:pt x="3440" y="2168"/>
                  </a:lnTo>
                  <a:lnTo>
                    <a:pt x="3440" y="2163"/>
                  </a:lnTo>
                  <a:lnTo>
                    <a:pt x="3444" y="2163"/>
                  </a:lnTo>
                  <a:lnTo>
                    <a:pt x="3444" y="2157"/>
                  </a:lnTo>
                  <a:lnTo>
                    <a:pt x="3449" y="2157"/>
                  </a:lnTo>
                  <a:lnTo>
                    <a:pt x="3449" y="2151"/>
                  </a:lnTo>
                  <a:lnTo>
                    <a:pt x="3454" y="2151"/>
                  </a:lnTo>
                  <a:lnTo>
                    <a:pt x="3454" y="2140"/>
                  </a:lnTo>
                  <a:lnTo>
                    <a:pt x="3459" y="2140"/>
                  </a:lnTo>
                  <a:lnTo>
                    <a:pt x="3459" y="2127"/>
                  </a:lnTo>
                  <a:lnTo>
                    <a:pt x="3463" y="2127"/>
                  </a:lnTo>
                  <a:lnTo>
                    <a:pt x="3463" y="2103"/>
                  </a:lnTo>
                  <a:lnTo>
                    <a:pt x="3468" y="2103"/>
                  </a:lnTo>
                  <a:lnTo>
                    <a:pt x="3468" y="2086"/>
                  </a:lnTo>
                  <a:lnTo>
                    <a:pt x="3473" y="2086"/>
                  </a:lnTo>
                  <a:lnTo>
                    <a:pt x="3473" y="2062"/>
                  </a:lnTo>
                  <a:lnTo>
                    <a:pt x="3477" y="2062"/>
                  </a:lnTo>
                  <a:lnTo>
                    <a:pt x="3477" y="2045"/>
                  </a:lnTo>
                  <a:lnTo>
                    <a:pt x="3482" y="2045"/>
                  </a:lnTo>
                  <a:lnTo>
                    <a:pt x="3482" y="2040"/>
                  </a:lnTo>
                  <a:lnTo>
                    <a:pt x="3487" y="2040"/>
                  </a:lnTo>
                  <a:lnTo>
                    <a:pt x="3487" y="2027"/>
                  </a:lnTo>
                  <a:lnTo>
                    <a:pt x="3492" y="2027"/>
                  </a:lnTo>
                  <a:lnTo>
                    <a:pt x="3492" y="2009"/>
                  </a:lnTo>
                  <a:lnTo>
                    <a:pt x="3496" y="2009"/>
                  </a:lnTo>
                  <a:lnTo>
                    <a:pt x="3496" y="1997"/>
                  </a:lnTo>
                  <a:lnTo>
                    <a:pt x="3502" y="1997"/>
                  </a:lnTo>
                  <a:lnTo>
                    <a:pt x="3502" y="1991"/>
                  </a:lnTo>
                  <a:lnTo>
                    <a:pt x="3507" y="1991"/>
                  </a:lnTo>
                  <a:lnTo>
                    <a:pt x="3507" y="1980"/>
                  </a:lnTo>
                  <a:lnTo>
                    <a:pt x="3511" y="1980"/>
                  </a:lnTo>
                  <a:lnTo>
                    <a:pt x="3511" y="1974"/>
                  </a:lnTo>
                  <a:lnTo>
                    <a:pt x="3517" y="1974"/>
                  </a:lnTo>
                  <a:lnTo>
                    <a:pt x="3517" y="1967"/>
                  </a:lnTo>
                  <a:lnTo>
                    <a:pt x="3521" y="1967"/>
                  </a:lnTo>
                  <a:lnTo>
                    <a:pt x="3521" y="1962"/>
                  </a:lnTo>
                  <a:lnTo>
                    <a:pt x="3526" y="1962"/>
                  </a:lnTo>
                  <a:lnTo>
                    <a:pt x="3526" y="1950"/>
                  </a:lnTo>
                  <a:lnTo>
                    <a:pt x="3531" y="1950"/>
                  </a:lnTo>
                  <a:lnTo>
                    <a:pt x="3531" y="1939"/>
                  </a:lnTo>
                  <a:lnTo>
                    <a:pt x="3536" y="1939"/>
                  </a:lnTo>
                  <a:lnTo>
                    <a:pt x="3536" y="1932"/>
                  </a:lnTo>
                  <a:lnTo>
                    <a:pt x="3540" y="1932"/>
                  </a:lnTo>
                  <a:lnTo>
                    <a:pt x="3540" y="1926"/>
                  </a:lnTo>
                  <a:lnTo>
                    <a:pt x="3545" y="1926"/>
                  </a:lnTo>
                  <a:lnTo>
                    <a:pt x="3545" y="1914"/>
                  </a:lnTo>
                  <a:lnTo>
                    <a:pt x="3550" y="1914"/>
                  </a:lnTo>
                  <a:lnTo>
                    <a:pt x="3550" y="1909"/>
                  </a:lnTo>
                  <a:lnTo>
                    <a:pt x="3554" y="1909"/>
                  </a:lnTo>
                  <a:lnTo>
                    <a:pt x="3554" y="1891"/>
                  </a:lnTo>
                  <a:lnTo>
                    <a:pt x="3559" y="1891"/>
                  </a:lnTo>
                  <a:lnTo>
                    <a:pt x="3559" y="1879"/>
                  </a:lnTo>
                  <a:lnTo>
                    <a:pt x="3564" y="1879"/>
                  </a:lnTo>
                  <a:lnTo>
                    <a:pt x="3564" y="1873"/>
                  </a:lnTo>
                  <a:lnTo>
                    <a:pt x="3569" y="1873"/>
                  </a:lnTo>
                  <a:lnTo>
                    <a:pt x="3569" y="1868"/>
                  </a:lnTo>
                  <a:lnTo>
                    <a:pt x="3573" y="1868"/>
                  </a:lnTo>
                  <a:lnTo>
                    <a:pt x="3573" y="1861"/>
                  </a:lnTo>
                  <a:lnTo>
                    <a:pt x="3578" y="1861"/>
                  </a:lnTo>
                  <a:lnTo>
                    <a:pt x="3578" y="1855"/>
                  </a:lnTo>
                  <a:lnTo>
                    <a:pt x="3584" y="1855"/>
                  </a:lnTo>
                  <a:lnTo>
                    <a:pt x="3584" y="1849"/>
                  </a:lnTo>
                  <a:lnTo>
                    <a:pt x="3589" y="1849"/>
                  </a:lnTo>
                  <a:lnTo>
                    <a:pt x="3589" y="1844"/>
                  </a:lnTo>
                  <a:lnTo>
                    <a:pt x="3593" y="1844"/>
                  </a:lnTo>
                  <a:lnTo>
                    <a:pt x="3593" y="1831"/>
                  </a:lnTo>
                  <a:lnTo>
                    <a:pt x="3598" y="1831"/>
                  </a:lnTo>
                  <a:lnTo>
                    <a:pt x="3598" y="1820"/>
                  </a:lnTo>
                  <a:lnTo>
                    <a:pt x="3603" y="1820"/>
                  </a:lnTo>
                  <a:lnTo>
                    <a:pt x="3603" y="1809"/>
                  </a:lnTo>
                  <a:lnTo>
                    <a:pt x="3607" y="1809"/>
                  </a:lnTo>
                  <a:lnTo>
                    <a:pt x="3607" y="1796"/>
                  </a:lnTo>
                  <a:lnTo>
                    <a:pt x="3613" y="1796"/>
                  </a:lnTo>
                  <a:lnTo>
                    <a:pt x="3613" y="1785"/>
                  </a:lnTo>
                  <a:lnTo>
                    <a:pt x="3617" y="1785"/>
                  </a:lnTo>
                  <a:lnTo>
                    <a:pt x="3617" y="1773"/>
                  </a:lnTo>
                  <a:lnTo>
                    <a:pt x="3622" y="1773"/>
                  </a:lnTo>
                  <a:lnTo>
                    <a:pt x="3622" y="1755"/>
                  </a:lnTo>
                  <a:lnTo>
                    <a:pt x="3627" y="1755"/>
                  </a:lnTo>
                  <a:lnTo>
                    <a:pt x="3627" y="1744"/>
                  </a:lnTo>
                  <a:lnTo>
                    <a:pt x="3632" y="1744"/>
                  </a:lnTo>
                  <a:lnTo>
                    <a:pt x="3632" y="1732"/>
                  </a:lnTo>
                  <a:lnTo>
                    <a:pt x="3636" y="1732"/>
                  </a:lnTo>
                  <a:lnTo>
                    <a:pt x="3636" y="1719"/>
                  </a:lnTo>
                  <a:lnTo>
                    <a:pt x="3640" y="1719"/>
                  </a:lnTo>
                  <a:lnTo>
                    <a:pt x="3640" y="1714"/>
                  </a:lnTo>
                  <a:lnTo>
                    <a:pt x="3646" y="1714"/>
                  </a:lnTo>
                  <a:lnTo>
                    <a:pt x="3646" y="1708"/>
                  </a:lnTo>
                  <a:lnTo>
                    <a:pt x="3650" y="1708"/>
                  </a:lnTo>
                  <a:lnTo>
                    <a:pt x="3650" y="1695"/>
                  </a:lnTo>
                  <a:lnTo>
                    <a:pt x="3656" y="1695"/>
                  </a:lnTo>
                  <a:lnTo>
                    <a:pt x="3656" y="1685"/>
                  </a:lnTo>
                  <a:lnTo>
                    <a:pt x="3661" y="1685"/>
                  </a:lnTo>
                  <a:lnTo>
                    <a:pt x="3661" y="1673"/>
                  </a:lnTo>
                  <a:lnTo>
                    <a:pt x="3665" y="1673"/>
                  </a:lnTo>
                  <a:lnTo>
                    <a:pt x="3665" y="1667"/>
                  </a:lnTo>
                  <a:lnTo>
                    <a:pt x="3670" y="1667"/>
                  </a:lnTo>
                  <a:lnTo>
                    <a:pt x="3670" y="1649"/>
                  </a:lnTo>
                  <a:lnTo>
                    <a:pt x="3675" y="1649"/>
                  </a:lnTo>
                  <a:lnTo>
                    <a:pt x="3675" y="1632"/>
                  </a:lnTo>
                  <a:lnTo>
                    <a:pt x="3680" y="1632"/>
                  </a:lnTo>
                  <a:lnTo>
                    <a:pt x="3680" y="1613"/>
                  </a:lnTo>
                  <a:lnTo>
                    <a:pt x="3684" y="1613"/>
                  </a:lnTo>
                  <a:lnTo>
                    <a:pt x="3684" y="1596"/>
                  </a:lnTo>
                  <a:lnTo>
                    <a:pt x="3688" y="1596"/>
                  </a:lnTo>
                  <a:lnTo>
                    <a:pt x="3688" y="1578"/>
                  </a:lnTo>
                  <a:lnTo>
                    <a:pt x="3694" y="1578"/>
                  </a:lnTo>
                  <a:lnTo>
                    <a:pt x="3694" y="1559"/>
                  </a:lnTo>
                  <a:lnTo>
                    <a:pt x="3698" y="1559"/>
                  </a:lnTo>
                  <a:lnTo>
                    <a:pt x="3698" y="1548"/>
                  </a:lnTo>
                  <a:lnTo>
                    <a:pt x="3703" y="1548"/>
                  </a:lnTo>
                  <a:lnTo>
                    <a:pt x="3703" y="1531"/>
                  </a:lnTo>
                  <a:lnTo>
                    <a:pt x="3708" y="1531"/>
                  </a:lnTo>
                  <a:lnTo>
                    <a:pt x="3708" y="1524"/>
                  </a:lnTo>
                  <a:lnTo>
                    <a:pt x="3713" y="1524"/>
                  </a:lnTo>
                  <a:lnTo>
                    <a:pt x="3713" y="1507"/>
                  </a:lnTo>
                  <a:lnTo>
                    <a:pt x="3717" y="1507"/>
                  </a:lnTo>
                  <a:lnTo>
                    <a:pt x="3717" y="1501"/>
                  </a:lnTo>
                  <a:lnTo>
                    <a:pt x="3722" y="1501"/>
                  </a:lnTo>
                  <a:lnTo>
                    <a:pt x="3722" y="1490"/>
                  </a:lnTo>
                  <a:lnTo>
                    <a:pt x="3728" y="1490"/>
                  </a:lnTo>
                  <a:lnTo>
                    <a:pt x="3728" y="1477"/>
                  </a:lnTo>
                  <a:lnTo>
                    <a:pt x="3732" y="1477"/>
                  </a:lnTo>
                  <a:lnTo>
                    <a:pt x="3732" y="1472"/>
                  </a:lnTo>
                  <a:lnTo>
                    <a:pt x="3737" y="1472"/>
                  </a:lnTo>
                  <a:lnTo>
                    <a:pt x="3737" y="1466"/>
                  </a:lnTo>
                  <a:lnTo>
                    <a:pt x="3742" y="1466"/>
                  </a:lnTo>
                  <a:lnTo>
                    <a:pt x="3742" y="1460"/>
                  </a:lnTo>
                  <a:lnTo>
                    <a:pt x="3747" y="1460"/>
                  </a:lnTo>
                  <a:lnTo>
                    <a:pt x="3747" y="1453"/>
                  </a:lnTo>
                  <a:lnTo>
                    <a:pt x="3751" y="1453"/>
                  </a:lnTo>
                  <a:lnTo>
                    <a:pt x="3751" y="1448"/>
                  </a:lnTo>
                  <a:lnTo>
                    <a:pt x="3757" y="1448"/>
                  </a:lnTo>
                  <a:lnTo>
                    <a:pt x="3757" y="1436"/>
                  </a:lnTo>
                  <a:lnTo>
                    <a:pt x="3761" y="1436"/>
                  </a:lnTo>
                  <a:lnTo>
                    <a:pt x="3761" y="1431"/>
                  </a:lnTo>
                  <a:lnTo>
                    <a:pt x="3765" y="1431"/>
                  </a:lnTo>
                  <a:lnTo>
                    <a:pt x="3765" y="1423"/>
                  </a:lnTo>
                  <a:lnTo>
                    <a:pt x="3771" y="1423"/>
                  </a:lnTo>
                  <a:lnTo>
                    <a:pt x="3771" y="1418"/>
                  </a:lnTo>
                  <a:lnTo>
                    <a:pt x="3775" y="1418"/>
                  </a:lnTo>
                  <a:lnTo>
                    <a:pt x="3775" y="1406"/>
                  </a:lnTo>
                  <a:lnTo>
                    <a:pt x="3780" y="1406"/>
                  </a:lnTo>
                  <a:lnTo>
                    <a:pt x="3780" y="1401"/>
                  </a:lnTo>
                  <a:lnTo>
                    <a:pt x="3784" y="1401"/>
                  </a:lnTo>
                  <a:lnTo>
                    <a:pt x="3784" y="1395"/>
                  </a:lnTo>
                  <a:lnTo>
                    <a:pt x="3790" y="1395"/>
                  </a:lnTo>
                  <a:lnTo>
                    <a:pt x="3790" y="1390"/>
                  </a:lnTo>
                  <a:lnTo>
                    <a:pt x="3794" y="1390"/>
                  </a:lnTo>
                  <a:lnTo>
                    <a:pt x="3794" y="1382"/>
                  </a:lnTo>
                  <a:lnTo>
                    <a:pt x="3800" y="1382"/>
                  </a:lnTo>
                  <a:lnTo>
                    <a:pt x="3800" y="1377"/>
                  </a:lnTo>
                  <a:lnTo>
                    <a:pt x="3805" y="1377"/>
                  </a:lnTo>
                  <a:lnTo>
                    <a:pt x="3805" y="1371"/>
                  </a:lnTo>
                  <a:lnTo>
                    <a:pt x="3809" y="1371"/>
                  </a:lnTo>
                  <a:lnTo>
                    <a:pt x="3809" y="1360"/>
                  </a:lnTo>
                  <a:lnTo>
                    <a:pt x="3814" y="1360"/>
                  </a:lnTo>
                  <a:lnTo>
                    <a:pt x="3814" y="1353"/>
                  </a:lnTo>
                  <a:lnTo>
                    <a:pt x="3824" y="1353"/>
                  </a:lnTo>
                  <a:lnTo>
                    <a:pt x="3824" y="1347"/>
                  </a:lnTo>
                  <a:lnTo>
                    <a:pt x="3828" y="1347"/>
                  </a:lnTo>
                  <a:lnTo>
                    <a:pt x="3828" y="1336"/>
                  </a:lnTo>
                  <a:lnTo>
                    <a:pt x="3838" y="1336"/>
                  </a:lnTo>
                  <a:lnTo>
                    <a:pt x="3838" y="1330"/>
                  </a:lnTo>
                  <a:lnTo>
                    <a:pt x="3843" y="1330"/>
                  </a:lnTo>
                  <a:lnTo>
                    <a:pt x="3843" y="1317"/>
                  </a:lnTo>
                  <a:lnTo>
                    <a:pt x="3847" y="1317"/>
                  </a:lnTo>
                  <a:lnTo>
                    <a:pt x="3847" y="1312"/>
                  </a:lnTo>
                  <a:lnTo>
                    <a:pt x="3852" y="1312"/>
                  </a:lnTo>
                  <a:lnTo>
                    <a:pt x="3852" y="1300"/>
                  </a:lnTo>
                  <a:lnTo>
                    <a:pt x="3857" y="1300"/>
                  </a:lnTo>
                  <a:lnTo>
                    <a:pt x="3857" y="1282"/>
                  </a:lnTo>
                  <a:lnTo>
                    <a:pt x="3861" y="1282"/>
                  </a:lnTo>
                  <a:lnTo>
                    <a:pt x="3861" y="1276"/>
                  </a:lnTo>
                  <a:lnTo>
                    <a:pt x="3881" y="1276"/>
                  </a:lnTo>
                  <a:lnTo>
                    <a:pt x="3881" y="1265"/>
                  </a:lnTo>
                  <a:lnTo>
                    <a:pt x="3877" y="1265"/>
                  </a:lnTo>
                  <a:lnTo>
                    <a:pt x="3877" y="1254"/>
                  </a:lnTo>
                  <a:lnTo>
                    <a:pt x="3872" y="1254"/>
                  </a:lnTo>
                  <a:lnTo>
                    <a:pt x="3872" y="1235"/>
                  </a:lnTo>
                  <a:lnTo>
                    <a:pt x="3866" y="1235"/>
                  </a:lnTo>
                  <a:lnTo>
                    <a:pt x="3866" y="1222"/>
                  </a:lnTo>
                  <a:lnTo>
                    <a:pt x="3861" y="1222"/>
                  </a:lnTo>
                  <a:lnTo>
                    <a:pt x="3861" y="1217"/>
                  </a:lnTo>
                  <a:lnTo>
                    <a:pt x="3857" y="1217"/>
                  </a:lnTo>
                  <a:lnTo>
                    <a:pt x="3857" y="1212"/>
                  </a:lnTo>
                  <a:lnTo>
                    <a:pt x="3852" y="1212"/>
                  </a:lnTo>
                  <a:lnTo>
                    <a:pt x="3852" y="1205"/>
                  </a:lnTo>
                  <a:lnTo>
                    <a:pt x="3847" y="1205"/>
                  </a:lnTo>
                  <a:lnTo>
                    <a:pt x="3847" y="1200"/>
                  </a:lnTo>
                  <a:lnTo>
                    <a:pt x="3843" y="1200"/>
                  </a:lnTo>
                  <a:lnTo>
                    <a:pt x="3843" y="1188"/>
                  </a:lnTo>
                  <a:lnTo>
                    <a:pt x="3833" y="1188"/>
                  </a:lnTo>
                  <a:lnTo>
                    <a:pt x="3833" y="1181"/>
                  </a:lnTo>
                  <a:lnTo>
                    <a:pt x="3828" y="1181"/>
                  </a:lnTo>
                  <a:lnTo>
                    <a:pt x="3828" y="1176"/>
                  </a:lnTo>
                  <a:lnTo>
                    <a:pt x="3824" y="1176"/>
                  </a:lnTo>
                  <a:lnTo>
                    <a:pt x="3824" y="1170"/>
                  </a:lnTo>
                  <a:lnTo>
                    <a:pt x="3819" y="1170"/>
                  </a:lnTo>
                  <a:lnTo>
                    <a:pt x="3819" y="1159"/>
                  </a:lnTo>
                  <a:lnTo>
                    <a:pt x="3814" y="1159"/>
                  </a:lnTo>
                  <a:lnTo>
                    <a:pt x="3814" y="1153"/>
                  </a:lnTo>
                  <a:lnTo>
                    <a:pt x="3809" y="1153"/>
                  </a:lnTo>
                  <a:lnTo>
                    <a:pt x="3809" y="1146"/>
                  </a:lnTo>
                  <a:lnTo>
                    <a:pt x="3805" y="1146"/>
                  </a:lnTo>
                  <a:lnTo>
                    <a:pt x="3805" y="1140"/>
                  </a:lnTo>
                  <a:lnTo>
                    <a:pt x="3800" y="1140"/>
                  </a:lnTo>
                  <a:lnTo>
                    <a:pt x="3800" y="1135"/>
                  </a:lnTo>
                  <a:lnTo>
                    <a:pt x="3794" y="1135"/>
                  </a:lnTo>
                  <a:lnTo>
                    <a:pt x="3794" y="1128"/>
                  </a:lnTo>
                  <a:lnTo>
                    <a:pt x="3784" y="1128"/>
                  </a:lnTo>
                  <a:lnTo>
                    <a:pt x="3784" y="1123"/>
                  </a:lnTo>
                  <a:lnTo>
                    <a:pt x="3780" y="1123"/>
                  </a:lnTo>
                  <a:lnTo>
                    <a:pt x="3780" y="1116"/>
                  </a:lnTo>
                  <a:lnTo>
                    <a:pt x="3771" y="1116"/>
                  </a:lnTo>
                  <a:lnTo>
                    <a:pt x="3771" y="1110"/>
                  </a:lnTo>
                  <a:lnTo>
                    <a:pt x="3761" y="1110"/>
                  </a:lnTo>
                  <a:lnTo>
                    <a:pt x="3761" y="1105"/>
                  </a:lnTo>
                  <a:lnTo>
                    <a:pt x="3751" y="1105"/>
                  </a:lnTo>
                  <a:lnTo>
                    <a:pt x="3751" y="1099"/>
                  </a:lnTo>
                  <a:lnTo>
                    <a:pt x="3742" y="1099"/>
                  </a:lnTo>
                  <a:lnTo>
                    <a:pt x="3742" y="1094"/>
                  </a:lnTo>
                  <a:lnTo>
                    <a:pt x="3737" y="1094"/>
                  </a:lnTo>
                  <a:lnTo>
                    <a:pt x="3737" y="1086"/>
                  </a:lnTo>
                  <a:lnTo>
                    <a:pt x="3732" y="1086"/>
                  </a:lnTo>
                  <a:lnTo>
                    <a:pt x="3732" y="1081"/>
                  </a:lnTo>
                  <a:lnTo>
                    <a:pt x="3717" y="1081"/>
                  </a:lnTo>
                  <a:lnTo>
                    <a:pt x="3717" y="1075"/>
                  </a:lnTo>
                  <a:lnTo>
                    <a:pt x="3708" y="1075"/>
                  </a:lnTo>
                  <a:lnTo>
                    <a:pt x="3708" y="1069"/>
                  </a:lnTo>
                  <a:lnTo>
                    <a:pt x="3694" y="1069"/>
                  </a:lnTo>
                  <a:lnTo>
                    <a:pt x="3694" y="1063"/>
                  </a:lnTo>
                  <a:lnTo>
                    <a:pt x="3675" y="1063"/>
                  </a:lnTo>
                  <a:lnTo>
                    <a:pt x="3675" y="1058"/>
                  </a:lnTo>
                  <a:lnTo>
                    <a:pt x="3661" y="1058"/>
                  </a:lnTo>
                  <a:lnTo>
                    <a:pt x="3661" y="1052"/>
                  </a:lnTo>
                  <a:lnTo>
                    <a:pt x="3593" y="1052"/>
                  </a:lnTo>
                  <a:lnTo>
                    <a:pt x="3593" y="1063"/>
                  </a:lnTo>
                  <a:lnTo>
                    <a:pt x="3589" y="1063"/>
                  </a:lnTo>
                  <a:lnTo>
                    <a:pt x="3589" y="1069"/>
                  </a:lnTo>
                  <a:lnTo>
                    <a:pt x="3584" y="1069"/>
                  </a:lnTo>
                  <a:lnTo>
                    <a:pt x="3584" y="1075"/>
                  </a:lnTo>
                  <a:lnTo>
                    <a:pt x="3578" y="1075"/>
                  </a:lnTo>
                  <a:lnTo>
                    <a:pt x="3578" y="1081"/>
                  </a:lnTo>
                  <a:lnTo>
                    <a:pt x="3573" y="1081"/>
                  </a:lnTo>
                  <a:lnTo>
                    <a:pt x="3573" y="1086"/>
                  </a:lnTo>
                  <a:lnTo>
                    <a:pt x="3569" y="1086"/>
                  </a:lnTo>
                  <a:lnTo>
                    <a:pt x="3569" y="1105"/>
                  </a:lnTo>
                  <a:lnTo>
                    <a:pt x="3554" y="1105"/>
                  </a:lnTo>
                  <a:lnTo>
                    <a:pt x="3554" y="1123"/>
                  </a:lnTo>
                  <a:lnTo>
                    <a:pt x="3550" y="1123"/>
                  </a:lnTo>
                  <a:lnTo>
                    <a:pt x="3550" y="1135"/>
                  </a:lnTo>
                  <a:lnTo>
                    <a:pt x="3545" y="1135"/>
                  </a:lnTo>
                  <a:lnTo>
                    <a:pt x="3545" y="1140"/>
                  </a:lnTo>
                  <a:lnTo>
                    <a:pt x="3540" y="1140"/>
                  </a:lnTo>
                  <a:lnTo>
                    <a:pt x="3540" y="1153"/>
                  </a:lnTo>
                  <a:lnTo>
                    <a:pt x="3536" y="1153"/>
                  </a:lnTo>
                  <a:lnTo>
                    <a:pt x="3536" y="1164"/>
                  </a:lnTo>
                  <a:lnTo>
                    <a:pt x="3531" y="1164"/>
                  </a:lnTo>
                  <a:lnTo>
                    <a:pt x="3531" y="1170"/>
                  </a:lnTo>
                  <a:lnTo>
                    <a:pt x="3526" y="1170"/>
                  </a:lnTo>
                  <a:lnTo>
                    <a:pt x="3526" y="1181"/>
                  </a:lnTo>
                  <a:lnTo>
                    <a:pt x="3521" y="1181"/>
                  </a:lnTo>
                  <a:lnTo>
                    <a:pt x="3521" y="1188"/>
                  </a:lnTo>
                  <a:lnTo>
                    <a:pt x="3517" y="1188"/>
                  </a:lnTo>
                  <a:lnTo>
                    <a:pt x="3517" y="1194"/>
                  </a:lnTo>
                  <a:lnTo>
                    <a:pt x="3507" y="1194"/>
                  </a:lnTo>
                  <a:lnTo>
                    <a:pt x="3507" y="1205"/>
                  </a:lnTo>
                  <a:lnTo>
                    <a:pt x="3502" y="1205"/>
                  </a:lnTo>
                  <a:lnTo>
                    <a:pt x="3502" y="1212"/>
                  </a:lnTo>
                  <a:lnTo>
                    <a:pt x="3496" y="1212"/>
                  </a:lnTo>
                  <a:lnTo>
                    <a:pt x="3496" y="1217"/>
                  </a:lnTo>
                  <a:lnTo>
                    <a:pt x="3492" y="1217"/>
                  </a:lnTo>
                  <a:lnTo>
                    <a:pt x="3492" y="1222"/>
                  </a:lnTo>
                  <a:lnTo>
                    <a:pt x="3487" y="1222"/>
                  </a:lnTo>
                  <a:lnTo>
                    <a:pt x="3487" y="1235"/>
                  </a:lnTo>
                  <a:lnTo>
                    <a:pt x="3482" y="1235"/>
                  </a:lnTo>
                  <a:lnTo>
                    <a:pt x="3482" y="1241"/>
                  </a:lnTo>
                  <a:lnTo>
                    <a:pt x="3477" y="1241"/>
                  </a:lnTo>
                  <a:lnTo>
                    <a:pt x="3477" y="1246"/>
                  </a:lnTo>
                  <a:lnTo>
                    <a:pt x="3473" y="1246"/>
                  </a:lnTo>
                  <a:lnTo>
                    <a:pt x="3473" y="1254"/>
                  </a:lnTo>
                  <a:lnTo>
                    <a:pt x="3468" y="1254"/>
                  </a:lnTo>
                  <a:lnTo>
                    <a:pt x="3468" y="1259"/>
                  </a:lnTo>
                  <a:lnTo>
                    <a:pt x="3463" y="1259"/>
                  </a:lnTo>
                  <a:lnTo>
                    <a:pt x="3463" y="1271"/>
                  </a:lnTo>
                  <a:lnTo>
                    <a:pt x="3459" y="1271"/>
                  </a:lnTo>
                  <a:lnTo>
                    <a:pt x="3459" y="1282"/>
                  </a:lnTo>
                  <a:lnTo>
                    <a:pt x="3454" y="1282"/>
                  </a:lnTo>
                  <a:lnTo>
                    <a:pt x="3454" y="1287"/>
                  </a:lnTo>
                  <a:lnTo>
                    <a:pt x="3449" y="1287"/>
                  </a:lnTo>
                  <a:lnTo>
                    <a:pt x="3449" y="1295"/>
                  </a:lnTo>
                  <a:lnTo>
                    <a:pt x="3440" y="1295"/>
                  </a:lnTo>
                  <a:lnTo>
                    <a:pt x="3440" y="1300"/>
                  </a:lnTo>
                  <a:lnTo>
                    <a:pt x="3435" y="1300"/>
                  </a:lnTo>
                  <a:lnTo>
                    <a:pt x="3435" y="1306"/>
                  </a:lnTo>
                  <a:lnTo>
                    <a:pt x="3429" y="1306"/>
                  </a:lnTo>
                  <a:lnTo>
                    <a:pt x="3429" y="1312"/>
                  </a:lnTo>
                  <a:lnTo>
                    <a:pt x="3424" y="1312"/>
                  </a:lnTo>
                  <a:lnTo>
                    <a:pt x="3424" y="1317"/>
                  </a:lnTo>
                  <a:lnTo>
                    <a:pt x="3420" y="1317"/>
                  </a:lnTo>
                  <a:lnTo>
                    <a:pt x="3420" y="1324"/>
                  </a:lnTo>
                  <a:lnTo>
                    <a:pt x="3415" y="1324"/>
                  </a:lnTo>
                  <a:lnTo>
                    <a:pt x="3415" y="1330"/>
                  </a:lnTo>
                  <a:lnTo>
                    <a:pt x="3410" y="1330"/>
                  </a:lnTo>
                  <a:lnTo>
                    <a:pt x="3410" y="1336"/>
                  </a:lnTo>
                  <a:lnTo>
                    <a:pt x="3406" y="1336"/>
                  </a:lnTo>
                  <a:lnTo>
                    <a:pt x="3406" y="1341"/>
                  </a:lnTo>
                  <a:lnTo>
                    <a:pt x="3400" y="1341"/>
                  </a:lnTo>
                  <a:lnTo>
                    <a:pt x="3400" y="1353"/>
                  </a:lnTo>
                  <a:lnTo>
                    <a:pt x="3396" y="1353"/>
                  </a:lnTo>
                  <a:lnTo>
                    <a:pt x="3396" y="1360"/>
                  </a:lnTo>
                  <a:lnTo>
                    <a:pt x="3391" y="1360"/>
                  </a:lnTo>
                  <a:lnTo>
                    <a:pt x="3391" y="1365"/>
                  </a:lnTo>
                  <a:lnTo>
                    <a:pt x="3387" y="1365"/>
                  </a:lnTo>
                  <a:lnTo>
                    <a:pt x="3387" y="1371"/>
                  </a:lnTo>
                  <a:lnTo>
                    <a:pt x="3382" y="1371"/>
                  </a:lnTo>
                  <a:lnTo>
                    <a:pt x="3382" y="1377"/>
                  </a:lnTo>
                  <a:lnTo>
                    <a:pt x="3377" y="1377"/>
                  </a:lnTo>
                  <a:lnTo>
                    <a:pt x="3377" y="1390"/>
                  </a:lnTo>
                  <a:lnTo>
                    <a:pt x="3373" y="1390"/>
                  </a:lnTo>
                  <a:lnTo>
                    <a:pt x="3373" y="1395"/>
                  </a:lnTo>
                  <a:lnTo>
                    <a:pt x="3367" y="1395"/>
                  </a:lnTo>
                  <a:lnTo>
                    <a:pt x="3367" y="1406"/>
                  </a:lnTo>
                  <a:lnTo>
                    <a:pt x="3363" y="1406"/>
                  </a:lnTo>
                  <a:lnTo>
                    <a:pt x="3363" y="1412"/>
                  </a:lnTo>
                  <a:lnTo>
                    <a:pt x="3357" y="1412"/>
                  </a:lnTo>
                  <a:lnTo>
                    <a:pt x="3357" y="1418"/>
                  </a:lnTo>
                  <a:lnTo>
                    <a:pt x="3352" y="1418"/>
                  </a:lnTo>
                  <a:lnTo>
                    <a:pt x="3352" y="1423"/>
                  </a:lnTo>
                  <a:lnTo>
                    <a:pt x="3347" y="1423"/>
                  </a:lnTo>
                  <a:lnTo>
                    <a:pt x="3347" y="1436"/>
                  </a:lnTo>
                  <a:lnTo>
                    <a:pt x="3343" y="1436"/>
                  </a:lnTo>
                  <a:lnTo>
                    <a:pt x="3343" y="1441"/>
                  </a:lnTo>
                  <a:lnTo>
                    <a:pt x="3338" y="1441"/>
                  </a:lnTo>
                  <a:lnTo>
                    <a:pt x="3338" y="1448"/>
                  </a:lnTo>
                  <a:lnTo>
                    <a:pt x="3333" y="1448"/>
                  </a:lnTo>
                  <a:lnTo>
                    <a:pt x="3333" y="1453"/>
                  </a:lnTo>
                  <a:lnTo>
                    <a:pt x="3329" y="1453"/>
                  </a:lnTo>
                  <a:lnTo>
                    <a:pt x="3329" y="1466"/>
                  </a:lnTo>
                  <a:lnTo>
                    <a:pt x="3324" y="1466"/>
                  </a:lnTo>
                  <a:lnTo>
                    <a:pt x="3324" y="1472"/>
                  </a:lnTo>
                  <a:lnTo>
                    <a:pt x="3319" y="1472"/>
                  </a:lnTo>
                  <a:lnTo>
                    <a:pt x="3319" y="1477"/>
                  </a:lnTo>
                  <a:lnTo>
                    <a:pt x="3314" y="1477"/>
                  </a:lnTo>
                  <a:lnTo>
                    <a:pt x="3314" y="1490"/>
                  </a:lnTo>
                  <a:lnTo>
                    <a:pt x="3310" y="1490"/>
                  </a:lnTo>
                  <a:lnTo>
                    <a:pt x="3310" y="1494"/>
                  </a:lnTo>
                  <a:lnTo>
                    <a:pt x="3305" y="1494"/>
                  </a:lnTo>
                  <a:lnTo>
                    <a:pt x="3305" y="1501"/>
                  </a:lnTo>
                  <a:lnTo>
                    <a:pt x="3300" y="1501"/>
                  </a:lnTo>
                  <a:lnTo>
                    <a:pt x="3300" y="1507"/>
                  </a:lnTo>
                  <a:lnTo>
                    <a:pt x="3296" y="1507"/>
                  </a:lnTo>
                  <a:lnTo>
                    <a:pt x="3296" y="1518"/>
                  </a:lnTo>
                  <a:lnTo>
                    <a:pt x="3291" y="1518"/>
                  </a:lnTo>
                  <a:lnTo>
                    <a:pt x="3291" y="1531"/>
                  </a:lnTo>
                  <a:lnTo>
                    <a:pt x="3285" y="1531"/>
                  </a:lnTo>
                  <a:lnTo>
                    <a:pt x="3285" y="1548"/>
                  </a:lnTo>
                  <a:lnTo>
                    <a:pt x="3281" y="1548"/>
                  </a:lnTo>
                  <a:lnTo>
                    <a:pt x="3281" y="1559"/>
                  </a:lnTo>
                  <a:lnTo>
                    <a:pt x="3276" y="1559"/>
                  </a:lnTo>
                  <a:lnTo>
                    <a:pt x="3276" y="1578"/>
                  </a:lnTo>
                  <a:lnTo>
                    <a:pt x="3271" y="1578"/>
                  </a:lnTo>
                  <a:lnTo>
                    <a:pt x="3271" y="1589"/>
                  </a:lnTo>
                  <a:lnTo>
                    <a:pt x="3266" y="1589"/>
                  </a:lnTo>
                  <a:lnTo>
                    <a:pt x="3266" y="1596"/>
                  </a:lnTo>
                  <a:lnTo>
                    <a:pt x="3262" y="1596"/>
                  </a:lnTo>
                  <a:lnTo>
                    <a:pt x="3262" y="1601"/>
                  </a:lnTo>
                  <a:lnTo>
                    <a:pt x="3256" y="1601"/>
                  </a:lnTo>
                  <a:lnTo>
                    <a:pt x="3256" y="1613"/>
                  </a:lnTo>
                  <a:lnTo>
                    <a:pt x="3252" y="1613"/>
                  </a:lnTo>
                  <a:lnTo>
                    <a:pt x="3252" y="1626"/>
                  </a:lnTo>
                  <a:lnTo>
                    <a:pt x="3248" y="1626"/>
                  </a:lnTo>
                  <a:lnTo>
                    <a:pt x="3248" y="1637"/>
                  </a:lnTo>
                  <a:lnTo>
                    <a:pt x="3243" y="1637"/>
                  </a:lnTo>
                  <a:lnTo>
                    <a:pt x="3243" y="1649"/>
                  </a:lnTo>
                  <a:lnTo>
                    <a:pt x="3238" y="1649"/>
                  </a:lnTo>
                  <a:lnTo>
                    <a:pt x="3238" y="1667"/>
                  </a:lnTo>
                  <a:lnTo>
                    <a:pt x="3233" y="1667"/>
                  </a:lnTo>
                  <a:lnTo>
                    <a:pt x="3233" y="1678"/>
                  </a:lnTo>
                  <a:lnTo>
                    <a:pt x="3229" y="1678"/>
                  </a:lnTo>
                  <a:lnTo>
                    <a:pt x="3229" y="1690"/>
                  </a:lnTo>
                  <a:lnTo>
                    <a:pt x="3223" y="1690"/>
                  </a:lnTo>
                  <a:lnTo>
                    <a:pt x="3223" y="1695"/>
                  </a:lnTo>
                  <a:lnTo>
                    <a:pt x="3219" y="1695"/>
                  </a:lnTo>
                  <a:lnTo>
                    <a:pt x="3219" y="1702"/>
                  </a:lnTo>
                  <a:lnTo>
                    <a:pt x="3213" y="1702"/>
                  </a:lnTo>
                  <a:lnTo>
                    <a:pt x="3213" y="1708"/>
                  </a:lnTo>
                  <a:lnTo>
                    <a:pt x="3208" y="1708"/>
                  </a:lnTo>
                  <a:lnTo>
                    <a:pt x="3208" y="1714"/>
                  </a:lnTo>
                  <a:lnTo>
                    <a:pt x="3204" y="1714"/>
                  </a:lnTo>
                  <a:lnTo>
                    <a:pt x="3204" y="1719"/>
                  </a:lnTo>
                  <a:lnTo>
                    <a:pt x="3199" y="1719"/>
                  </a:lnTo>
                  <a:lnTo>
                    <a:pt x="3199" y="1727"/>
                  </a:lnTo>
                  <a:lnTo>
                    <a:pt x="3194" y="1727"/>
                  </a:lnTo>
                  <a:lnTo>
                    <a:pt x="3194" y="1732"/>
                  </a:lnTo>
                  <a:lnTo>
                    <a:pt x="3189" y="1732"/>
                  </a:lnTo>
                  <a:lnTo>
                    <a:pt x="3189" y="1737"/>
                  </a:lnTo>
                  <a:lnTo>
                    <a:pt x="3185" y="1737"/>
                  </a:lnTo>
                  <a:lnTo>
                    <a:pt x="3185" y="1749"/>
                  </a:lnTo>
                  <a:lnTo>
                    <a:pt x="3180" y="1749"/>
                  </a:lnTo>
                  <a:lnTo>
                    <a:pt x="3180" y="1755"/>
                  </a:lnTo>
                  <a:lnTo>
                    <a:pt x="3175" y="1755"/>
                  </a:lnTo>
                  <a:lnTo>
                    <a:pt x="3175" y="1760"/>
                  </a:lnTo>
                  <a:lnTo>
                    <a:pt x="3170" y="1760"/>
                  </a:lnTo>
                  <a:lnTo>
                    <a:pt x="3170" y="1768"/>
                  </a:lnTo>
                  <a:lnTo>
                    <a:pt x="3161" y="1768"/>
                  </a:lnTo>
                  <a:lnTo>
                    <a:pt x="3161" y="1773"/>
                  </a:lnTo>
                  <a:lnTo>
                    <a:pt x="3156" y="1773"/>
                  </a:lnTo>
                  <a:lnTo>
                    <a:pt x="3156" y="1785"/>
                  </a:lnTo>
                  <a:lnTo>
                    <a:pt x="3152" y="1785"/>
                  </a:lnTo>
                  <a:lnTo>
                    <a:pt x="3152" y="1790"/>
                  </a:lnTo>
                  <a:lnTo>
                    <a:pt x="3147" y="1790"/>
                  </a:lnTo>
                  <a:lnTo>
                    <a:pt x="3147" y="1796"/>
                  </a:lnTo>
                  <a:lnTo>
                    <a:pt x="3141" y="1796"/>
                  </a:lnTo>
                  <a:lnTo>
                    <a:pt x="3141" y="1803"/>
                  </a:lnTo>
                  <a:lnTo>
                    <a:pt x="3136" y="1803"/>
                  </a:lnTo>
                  <a:lnTo>
                    <a:pt x="3136" y="1809"/>
                  </a:lnTo>
                  <a:lnTo>
                    <a:pt x="3126" y="1809"/>
                  </a:lnTo>
                  <a:lnTo>
                    <a:pt x="3126" y="1814"/>
                  </a:lnTo>
                  <a:lnTo>
                    <a:pt x="3122" y="1814"/>
                  </a:lnTo>
                  <a:lnTo>
                    <a:pt x="3122" y="1826"/>
                  </a:lnTo>
                  <a:lnTo>
                    <a:pt x="3118" y="1826"/>
                  </a:lnTo>
                  <a:lnTo>
                    <a:pt x="3118" y="1831"/>
                  </a:lnTo>
                  <a:lnTo>
                    <a:pt x="3112" y="1831"/>
                  </a:lnTo>
                  <a:lnTo>
                    <a:pt x="3112" y="1838"/>
                  </a:lnTo>
                  <a:lnTo>
                    <a:pt x="3108" y="1838"/>
                  </a:lnTo>
                  <a:lnTo>
                    <a:pt x="3108" y="1844"/>
                  </a:lnTo>
                  <a:lnTo>
                    <a:pt x="3103" y="1844"/>
                  </a:lnTo>
                  <a:lnTo>
                    <a:pt x="3103" y="1849"/>
                  </a:lnTo>
                  <a:lnTo>
                    <a:pt x="3098" y="1849"/>
                  </a:lnTo>
                  <a:lnTo>
                    <a:pt x="3098" y="1855"/>
                  </a:lnTo>
                  <a:lnTo>
                    <a:pt x="3093" y="1855"/>
                  </a:lnTo>
                  <a:lnTo>
                    <a:pt x="3093" y="1868"/>
                  </a:lnTo>
                  <a:lnTo>
                    <a:pt x="3089" y="1868"/>
                  </a:lnTo>
                  <a:lnTo>
                    <a:pt x="3089" y="1873"/>
                  </a:lnTo>
                  <a:lnTo>
                    <a:pt x="3085" y="1873"/>
                  </a:lnTo>
                  <a:lnTo>
                    <a:pt x="3085" y="1879"/>
                  </a:lnTo>
                  <a:lnTo>
                    <a:pt x="3079" y="1879"/>
                  </a:lnTo>
                  <a:lnTo>
                    <a:pt x="3079" y="1891"/>
                  </a:lnTo>
                  <a:lnTo>
                    <a:pt x="3075" y="1891"/>
                  </a:lnTo>
                  <a:lnTo>
                    <a:pt x="3075" y="1896"/>
                  </a:lnTo>
                  <a:lnTo>
                    <a:pt x="3069" y="1896"/>
                  </a:lnTo>
                  <a:lnTo>
                    <a:pt x="3069" y="1909"/>
                  </a:lnTo>
                  <a:lnTo>
                    <a:pt x="3064" y="1909"/>
                  </a:lnTo>
                  <a:lnTo>
                    <a:pt x="3064" y="1921"/>
                  </a:lnTo>
                  <a:lnTo>
                    <a:pt x="3059" y="1921"/>
                  </a:lnTo>
                  <a:lnTo>
                    <a:pt x="3059" y="1932"/>
                  </a:lnTo>
                  <a:lnTo>
                    <a:pt x="3055" y="1932"/>
                  </a:lnTo>
                  <a:lnTo>
                    <a:pt x="3055" y="1945"/>
                  </a:lnTo>
                  <a:lnTo>
                    <a:pt x="3050" y="1945"/>
                  </a:lnTo>
                  <a:lnTo>
                    <a:pt x="3050" y="1950"/>
                  </a:lnTo>
                  <a:lnTo>
                    <a:pt x="3045" y="1950"/>
                  </a:lnTo>
                  <a:lnTo>
                    <a:pt x="3045" y="1967"/>
                  </a:lnTo>
                  <a:lnTo>
                    <a:pt x="3041" y="1967"/>
                  </a:lnTo>
                  <a:lnTo>
                    <a:pt x="3041" y="1980"/>
                  </a:lnTo>
                  <a:lnTo>
                    <a:pt x="3036" y="1980"/>
                  </a:lnTo>
                  <a:lnTo>
                    <a:pt x="3036" y="1986"/>
                  </a:lnTo>
                  <a:lnTo>
                    <a:pt x="3031" y="1986"/>
                  </a:lnTo>
                  <a:lnTo>
                    <a:pt x="3031" y="1997"/>
                  </a:lnTo>
                  <a:lnTo>
                    <a:pt x="3026" y="1997"/>
                  </a:lnTo>
                  <a:lnTo>
                    <a:pt x="3026" y="2004"/>
                  </a:lnTo>
                  <a:lnTo>
                    <a:pt x="3022" y="2004"/>
                  </a:lnTo>
                  <a:lnTo>
                    <a:pt x="3022" y="2015"/>
                  </a:lnTo>
                  <a:lnTo>
                    <a:pt x="3016" y="2015"/>
                  </a:lnTo>
                  <a:lnTo>
                    <a:pt x="3016" y="2021"/>
                  </a:lnTo>
                  <a:lnTo>
                    <a:pt x="3012" y="2021"/>
                  </a:lnTo>
                  <a:lnTo>
                    <a:pt x="3012" y="2027"/>
                  </a:lnTo>
                  <a:lnTo>
                    <a:pt x="3007" y="2027"/>
                  </a:lnTo>
                  <a:lnTo>
                    <a:pt x="3007" y="2032"/>
                  </a:lnTo>
                  <a:lnTo>
                    <a:pt x="3003" y="2032"/>
                  </a:lnTo>
                  <a:lnTo>
                    <a:pt x="3003" y="2045"/>
                  </a:lnTo>
                  <a:lnTo>
                    <a:pt x="2997" y="2045"/>
                  </a:lnTo>
                  <a:lnTo>
                    <a:pt x="2997" y="2051"/>
                  </a:lnTo>
                  <a:lnTo>
                    <a:pt x="2992" y="2051"/>
                  </a:lnTo>
                  <a:lnTo>
                    <a:pt x="2992" y="2056"/>
                  </a:lnTo>
                  <a:lnTo>
                    <a:pt x="2988" y="2056"/>
                  </a:lnTo>
                  <a:lnTo>
                    <a:pt x="2988" y="2062"/>
                  </a:lnTo>
                  <a:lnTo>
                    <a:pt x="2982" y="2062"/>
                  </a:lnTo>
                  <a:lnTo>
                    <a:pt x="2982" y="2069"/>
                  </a:lnTo>
                  <a:lnTo>
                    <a:pt x="2978" y="2069"/>
                  </a:lnTo>
                  <a:lnTo>
                    <a:pt x="2978" y="2074"/>
                  </a:lnTo>
                  <a:lnTo>
                    <a:pt x="2968" y="2074"/>
                  </a:lnTo>
                  <a:lnTo>
                    <a:pt x="2968" y="2081"/>
                  </a:lnTo>
                  <a:lnTo>
                    <a:pt x="2964" y="2081"/>
                  </a:lnTo>
                  <a:lnTo>
                    <a:pt x="2964" y="2086"/>
                  </a:lnTo>
                  <a:lnTo>
                    <a:pt x="2959" y="2086"/>
                  </a:lnTo>
                  <a:lnTo>
                    <a:pt x="2959" y="2092"/>
                  </a:lnTo>
                  <a:lnTo>
                    <a:pt x="2954" y="2092"/>
                  </a:lnTo>
                  <a:lnTo>
                    <a:pt x="2954" y="2098"/>
                  </a:lnTo>
                  <a:lnTo>
                    <a:pt x="2950" y="2098"/>
                  </a:lnTo>
                  <a:lnTo>
                    <a:pt x="2950" y="2103"/>
                  </a:lnTo>
                  <a:lnTo>
                    <a:pt x="2945" y="2103"/>
                  </a:lnTo>
                  <a:lnTo>
                    <a:pt x="2945" y="2110"/>
                  </a:lnTo>
                  <a:lnTo>
                    <a:pt x="2941" y="2110"/>
                  </a:lnTo>
                  <a:lnTo>
                    <a:pt x="2941" y="2116"/>
                  </a:lnTo>
                  <a:lnTo>
                    <a:pt x="2935" y="2116"/>
                  </a:lnTo>
                  <a:lnTo>
                    <a:pt x="2935" y="2122"/>
                  </a:lnTo>
                  <a:lnTo>
                    <a:pt x="2931" y="2122"/>
                  </a:lnTo>
                  <a:lnTo>
                    <a:pt x="2931" y="2127"/>
                  </a:lnTo>
                  <a:lnTo>
                    <a:pt x="2925" y="2127"/>
                  </a:lnTo>
                  <a:lnTo>
                    <a:pt x="2925" y="2133"/>
                  </a:lnTo>
                  <a:lnTo>
                    <a:pt x="2920" y="2133"/>
                  </a:lnTo>
                  <a:lnTo>
                    <a:pt x="2920" y="2140"/>
                  </a:lnTo>
                  <a:lnTo>
                    <a:pt x="2915" y="2140"/>
                  </a:lnTo>
                  <a:lnTo>
                    <a:pt x="2915" y="2151"/>
                  </a:lnTo>
                  <a:lnTo>
                    <a:pt x="2906" y="2151"/>
                  </a:lnTo>
                  <a:lnTo>
                    <a:pt x="2906" y="2163"/>
                  </a:lnTo>
                  <a:lnTo>
                    <a:pt x="2901" y="2163"/>
                  </a:lnTo>
                  <a:lnTo>
                    <a:pt x="2901" y="2168"/>
                  </a:lnTo>
                  <a:lnTo>
                    <a:pt x="2897" y="2168"/>
                  </a:lnTo>
                  <a:lnTo>
                    <a:pt x="2897" y="2175"/>
                  </a:lnTo>
                  <a:lnTo>
                    <a:pt x="2892" y="2175"/>
                  </a:lnTo>
                  <a:lnTo>
                    <a:pt x="2892" y="2181"/>
                  </a:lnTo>
                  <a:lnTo>
                    <a:pt x="2887" y="2181"/>
                  </a:lnTo>
                  <a:lnTo>
                    <a:pt x="2887" y="2187"/>
                  </a:lnTo>
                  <a:lnTo>
                    <a:pt x="2882" y="2187"/>
                  </a:lnTo>
                  <a:lnTo>
                    <a:pt x="2882" y="2200"/>
                  </a:lnTo>
                  <a:lnTo>
                    <a:pt x="2878" y="2200"/>
                  </a:lnTo>
                  <a:lnTo>
                    <a:pt x="2878" y="2205"/>
                  </a:lnTo>
                  <a:lnTo>
                    <a:pt x="2872" y="2205"/>
                  </a:lnTo>
                  <a:lnTo>
                    <a:pt x="2872" y="2217"/>
                  </a:lnTo>
                  <a:lnTo>
                    <a:pt x="2868" y="2217"/>
                  </a:lnTo>
                  <a:lnTo>
                    <a:pt x="2868" y="2222"/>
                  </a:lnTo>
                  <a:lnTo>
                    <a:pt x="2864" y="2222"/>
                  </a:lnTo>
                  <a:lnTo>
                    <a:pt x="2864" y="2228"/>
                  </a:lnTo>
                  <a:lnTo>
                    <a:pt x="2859" y="2228"/>
                  </a:lnTo>
                  <a:lnTo>
                    <a:pt x="2859" y="2233"/>
                  </a:lnTo>
                  <a:lnTo>
                    <a:pt x="2853" y="2233"/>
                  </a:lnTo>
                  <a:lnTo>
                    <a:pt x="2853" y="2241"/>
                  </a:lnTo>
                  <a:lnTo>
                    <a:pt x="2848" y="2241"/>
                  </a:lnTo>
                  <a:lnTo>
                    <a:pt x="2848" y="2251"/>
                  </a:lnTo>
                  <a:lnTo>
                    <a:pt x="2844" y="2251"/>
                  </a:lnTo>
                  <a:lnTo>
                    <a:pt x="2844" y="2258"/>
                  </a:lnTo>
                  <a:lnTo>
                    <a:pt x="2838" y="2258"/>
                  </a:lnTo>
                  <a:lnTo>
                    <a:pt x="2838" y="2263"/>
                  </a:lnTo>
                  <a:lnTo>
                    <a:pt x="2834" y="2263"/>
                  </a:lnTo>
                  <a:lnTo>
                    <a:pt x="2834" y="2268"/>
                  </a:lnTo>
                  <a:lnTo>
                    <a:pt x="2829" y="2268"/>
                  </a:lnTo>
                  <a:lnTo>
                    <a:pt x="2829" y="2281"/>
                  </a:lnTo>
                  <a:lnTo>
                    <a:pt x="2824" y="2281"/>
                  </a:lnTo>
                  <a:lnTo>
                    <a:pt x="2824" y="2287"/>
                  </a:lnTo>
                  <a:lnTo>
                    <a:pt x="2820" y="2287"/>
                  </a:lnTo>
                  <a:lnTo>
                    <a:pt x="2820" y="2293"/>
                  </a:lnTo>
                  <a:lnTo>
                    <a:pt x="2815" y="2293"/>
                  </a:lnTo>
                  <a:lnTo>
                    <a:pt x="2815" y="2304"/>
                  </a:lnTo>
                  <a:lnTo>
                    <a:pt x="2810" y="2304"/>
                  </a:lnTo>
                  <a:lnTo>
                    <a:pt x="2810" y="2311"/>
                  </a:lnTo>
                  <a:lnTo>
                    <a:pt x="2805" y="2311"/>
                  </a:lnTo>
                  <a:lnTo>
                    <a:pt x="2805" y="2322"/>
                  </a:lnTo>
                  <a:lnTo>
                    <a:pt x="2801" y="2322"/>
                  </a:lnTo>
                  <a:lnTo>
                    <a:pt x="2801" y="2328"/>
                  </a:lnTo>
                  <a:lnTo>
                    <a:pt x="2796" y="2328"/>
                  </a:lnTo>
                  <a:lnTo>
                    <a:pt x="2796" y="2341"/>
                  </a:lnTo>
                  <a:lnTo>
                    <a:pt x="2791" y="2341"/>
                  </a:lnTo>
                  <a:lnTo>
                    <a:pt x="2791" y="2346"/>
                  </a:lnTo>
                  <a:lnTo>
                    <a:pt x="2786" y="2346"/>
                  </a:lnTo>
                  <a:lnTo>
                    <a:pt x="2786" y="2358"/>
                  </a:lnTo>
                  <a:lnTo>
                    <a:pt x="2781" y="2358"/>
                  </a:lnTo>
                  <a:lnTo>
                    <a:pt x="2781" y="2369"/>
                  </a:lnTo>
                  <a:lnTo>
                    <a:pt x="2776" y="2369"/>
                  </a:lnTo>
                  <a:lnTo>
                    <a:pt x="2776" y="2375"/>
                  </a:lnTo>
                  <a:lnTo>
                    <a:pt x="2771" y="2375"/>
                  </a:lnTo>
                  <a:lnTo>
                    <a:pt x="2771" y="2382"/>
                  </a:lnTo>
                  <a:lnTo>
                    <a:pt x="2767" y="2382"/>
                  </a:lnTo>
                  <a:lnTo>
                    <a:pt x="2767" y="2394"/>
                  </a:lnTo>
                  <a:lnTo>
                    <a:pt x="2762" y="2394"/>
                  </a:lnTo>
                  <a:lnTo>
                    <a:pt x="2762" y="2399"/>
                  </a:lnTo>
                  <a:lnTo>
                    <a:pt x="2757" y="2399"/>
                  </a:lnTo>
                  <a:lnTo>
                    <a:pt x="2757" y="2410"/>
                  </a:lnTo>
                  <a:lnTo>
                    <a:pt x="2752" y="2410"/>
                  </a:lnTo>
                  <a:lnTo>
                    <a:pt x="2752" y="2418"/>
                  </a:lnTo>
                  <a:lnTo>
                    <a:pt x="2748" y="2418"/>
                  </a:lnTo>
                  <a:lnTo>
                    <a:pt x="2748" y="2428"/>
                  </a:lnTo>
                  <a:lnTo>
                    <a:pt x="2743" y="2428"/>
                  </a:lnTo>
                  <a:lnTo>
                    <a:pt x="2743" y="2435"/>
                  </a:lnTo>
                  <a:lnTo>
                    <a:pt x="2738" y="2435"/>
                  </a:lnTo>
                  <a:lnTo>
                    <a:pt x="2738" y="2447"/>
                  </a:lnTo>
                  <a:lnTo>
                    <a:pt x="2734" y="2447"/>
                  </a:lnTo>
                  <a:lnTo>
                    <a:pt x="2734" y="2453"/>
                  </a:lnTo>
                  <a:lnTo>
                    <a:pt x="2728" y="2453"/>
                  </a:lnTo>
                  <a:lnTo>
                    <a:pt x="2728" y="2464"/>
                  </a:lnTo>
                  <a:lnTo>
                    <a:pt x="2724" y="2464"/>
                  </a:lnTo>
                  <a:lnTo>
                    <a:pt x="2724" y="2470"/>
                  </a:lnTo>
                  <a:lnTo>
                    <a:pt x="2719" y="2470"/>
                  </a:lnTo>
                  <a:lnTo>
                    <a:pt x="2719" y="2477"/>
                  </a:lnTo>
                  <a:lnTo>
                    <a:pt x="2714" y="2477"/>
                  </a:lnTo>
                  <a:lnTo>
                    <a:pt x="2714" y="2488"/>
                  </a:lnTo>
                  <a:lnTo>
                    <a:pt x="2708" y="2488"/>
                  </a:lnTo>
                  <a:lnTo>
                    <a:pt x="2708" y="2494"/>
                  </a:lnTo>
                  <a:lnTo>
                    <a:pt x="2704" y="2494"/>
                  </a:lnTo>
                  <a:lnTo>
                    <a:pt x="2704" y="2500"/>
                  </a:lnTo>
                  <a:lnTo>
                    <a:pt x="2700" y="2500"/>
                  </a:lnTo>
                  <a:lnTo>
                    <a:pt x="2700" y="2505"/>
                  </a:lnTo>
                  <a:lnTo>
                    <a:pt x="2694" y="2505"/>
                  </a:lnTo>
                  <a:lnTo>
                    <a:pt x="2694" y="2518"/>
                  </a:lnTo>
                  <a:lnTo>
                    <a:pt x="2690" y="2518"/>
                  </a:lnTo>
                  <a:lnTo>
                    <a:pt x="2690" y="2523"/>
                  </a:lnTo>
                  <a:lnTo>
                    <a:pt x="2685" y="2523"/>
                  </a:lnTo>
                  <a:lnTo>
                    <a:pt x="2685" y="2529"/>
                  </a:lnTo>
                  <a:lnTo>
                    <a:pt x="2680" y="2529"/>
                  </a:lnTo>
                  <a:lnTo>
                    <a:pt x="2680" y="2535"/>
                  </a:lnTo>
                  <a:lnTo>
                    <a:pt x="2675" y="2535"/>
                  </a:lnTo>
                  <a:lnTo>
                    <a:pt x="2675" y="2541"/>
                  </a:lnTo>
                  <a:lnTo>
                    <a:pt x="2671" y="2541"/>
                  </a:lnTo>
                  <a:lnTo>
                    <a:pt x="2671" y="2554"/>
                  </a:lnTo>
                  <a:lnTo>
                    <a:pt x="2666" y="2554"/>
                  </a:lnTo>
                  <a:lnTo>
                    <a:pt x="2666" y="2559"/>
                  </a:lnTo>
                  <a:lnTo>
                    <a:pt x="2657" y="2559"/>
                  </a:lnTo>
                  <a:lnTo>
                    <a:pt x="2657" y="2565"/>
                  </a:lnTo>
                  <a:lnTo>
                    <a:pt x="2647" y="2565"/>
                  </a:lnTo>
                  <a:lnTo>
                    <a:pt x="2647" y="2571"/>
                  </a:lnTo>
                  <a:lnTo>
                    <a:pt x="2642" y="2571"/>
                  </a:lnTo>
                  <a:lnTo>
                    <a:pt x="2642" y="2583"/>
                  </a:lnTo>
                  <a:lnTo>
                    <a:pt x="2638" y="2583"/>
                  </a:lnTo>
                  <a:lnTo>
                    <a:pt x="2638" y="2589"/>
                  </a:lnTo>
                  <a:lnTo>
                    <a:pt x="2631" y="2589"/>
                  </a:lnTo>
                  <a:lnTo>
                    <a:pt x="2631" y="2595"/>
                  </a:lnTo>
                  <a:lnTo>
                    <a:pt x="2627" y="2595"/>
                  </a:lnTo>
                  <a:lnTo>
                    <a:pt x="2627" y="2600"/>
                  </a:lnTo>
                  <a:lnTo>
                    <a:pt x="2623" y="2600"/>
                  </a:lnTo>
                  <a:lnTo>
                    <a:pt x="2623" y="2606"/>
                  </a:lnTo>
                  <a:lnTo>
                    <a:pt x="2618" y="2606"/>
                  </a:lnTo>
                  <a:lnTo>
                    <a:pt x="2618" y="2613"/>
                  </a:lnTo>
                  <a:lnTo>
                    <a:pt x="2613" y="2613"/>
                  </a:lnTo>
                  <a:lnTo>
                    <a:pt x="2613" y="2619"/>
                  </a:lnTo>
                  <a:lnTo>
                    <a:pt x="2609" y="2619"/>
                  </a:lnTo>
                  <a:lnTo>
                    <a:pt x="2609" y="2624"/>
                  </a:lnTo>
                  <a:lnTo>
                    <a:pt x="2604" y="2624"/>
                  </a:lnTo>
                  <a:lnTo>
                    <a:pt x="2604" y="2636"/>
                  </a:lnTo>
                  <a:lnTo>
                    <a:pt x="2599" y="2636"/>
                  </a:lnTo>
                  <a:lnTo>
                    <a:pt x="2599" y="2641"/>
                  </a:lnTo>
                  <a:lnTo>
                    <a:pt x="2594" y="2641"/>
                  </a:lnTo>
                  <a:lnTo>
                    <a:pt x="2594" y="2648"/>
                  </a:lnTo>
                  <a:lnTo>
                    <a:pt x="2584" y="2648"/>
                  </a:lnTo>
                  <a:lnTo>
                    <a:pt x="2584" y="2654"/>
                  </a:lnTo>
                  <a:lnTo>
                    <a:pt x="2580" y="2654"/>
                  </a:lnTo>
                  <a:lnTo>
                    <a:pt x="2580" y="2660"/>
                  </a:lnTo>
                  <a:lnTo>
                    <a:pt x="2570" y="2660"/>
                  </a:lnTo>
                  <a:lnTo>
                    <a:pt x="2570" y="2665"/>
                  </a:lnTo>
                  <a:lnTo>
                    <a:pt x="2566" y="2665"/>
                  </a:lnTo>
                  <a:lnTo>
                    <a:pt x="2566" y="2672"/>
                  </a:lnTo>
                  <a:lnTo>
                    <a:pt x="2560" y="2672"/>
                  </a:lnTo>
                  <a:lnTo>
                    <a:pt x="2560" y="2677"/>
                  </a:lnTo>
                  <a:lnTo>
                    <a:pt x="2556" y="2677"/>
                  </a:lnTo>
                  <a:lnTo>
                    <a:pt x="2556" y="2682"/>
                  </a:lnTo>
                  <a:lnTo>
                    <a:pt x="2550" y="2682"/>
                  </a:lnTo>
                  <a:lnTo>
                    <a:pt x="2550" y="2689"/>
                  </a:lnTo>
                  <a:lnTo>
                    <a:pt x="2546" y="2689"/>
                  </a:lnTo>
                  <a:lnTo>
                    <a:pt x="2546" y="2695"/>
                  </a:lnTo>
                  <a:lnTo>
                    <a:pt x="2541" y="2695"/>
                  </a:lnTo>
                  <a:lnTo>
                    <a:pt x="2541" y="2700"/>
                  </a:lnTo>
                  <a:lnTo>
                    <a:pt x="2536" y="2700"/>
                  </a:lnTo>
                  <a:lnTo>
                    <a:pt x="2536" y="2706"/>
                  </a:lnTo>
                  <a:lnTo>
                    <a:pt x="2531" y="2706"/>
                  </a:lnTo>
                  <a:lnTo>
                    <a:pt x="2531" y="2712"/>
                  </a:lnTo>
                  <a:lnTo>
                    <a:pt x="2522" y="2712"/>
                  </a:lnTo>
                  <a:lnTo>
                    <a:pt x="2522" y="2719"/>
                  </a:lnTo>
                  <a:lnTo>
                    <a:pt x="2517" y="2719"/>
                  </a:lnTo>
                  <a:lnTo>
                    <a:pt x="2517" y="2724"/>
                  </a:lnTo>
                  <a:lnTo>
                    <a:pt x="2513" y="2724"/>
                  </a:lnTo>
                  <a:lnTo>
                    <a:pt x="2513" y="2731"/>
                  </a:lnTo>
                  <a:lnTo>
                    <a:pt x="2508" y="2731"/>
                  </a:lnTo>
                  <a:lnTo>
                    <a:pt x="2508" y="2736"/>
                  </a:lnTo>
                  <a:lnTo>
                    <a:pt x="2503" y="2736"/>
                  </a:lnTo>
                  <a:lnTo>
                    <a:pt x="2503" y="2741"/>
                  </a:lnTo>
                  <a:lnTo>
                    <a:pt x="2498" y="2741"/>
                  </a:lnTo>
                  <a:lnTo>
                    <a:pt x="2498" y="2749"/>
                  </a:lnTo>
                  <a:lnTo>
                    <a:pt x="2494" y="2749"/>
                  </a:lnTo>
                  <a:lnTo>
                    <a:pt x="2494" y="2754"/>
                  </a:lnTo>
                  <a:lnTo>
                    <a:pt x="2487" y="2754"/>
                  </a:lnTo>
                  <a:lnTo>
                    <a:pt x="2487" y="2766"/>
                  </a:lnTo>
                  <a:lnTo>
                    <a:pt x="2483" y="2766"/>
                  </a:lnTo>
                  <a:lnTo>
                    <a:pt x="2483" y="2772"/>
                  </a:lnTo>
                  <a:lnTo>
                    <a:pt x="2479" y="2772"/>
                  </a:lnTo>
                  <a:lnTo>
                    <a:pt x="2479" y="2777"/>
                  </a:lnTo>
                  <a:lnTo>
                    <a:pt x="2469" y="2777"/>
                  </a:lnTo>
                  <a:lnTo>
                    <a:pt x="2469" y="2784"/>
                  </a:lnTo>
                  <a:lnTo>
                    <a:pt x="2464" y="2784"/>
                  </a:lnTo>
                  <a:lnTo>
                    <a:pt x="2464" y="2790"/>
                  </a:lnTo>
                  <a:lnTo>
                    <a:pt x="2460" y="2790"/>
                  </a:lnTo>
                  <a:lnTo>
                    <a:pt x="2460" y="2795"/>
                  </a:lnTo>
                  <a:lnTo>
                    <a:pt x="2454" y="2795"/>
                  </a:lnTo>
                  <a:lnTo>
                    <a:pt x="2454" y="2801"/>
                  </a:lnTo>
                  <a:lnTo>
                    <a:pt x="2450" y="2801"/>
                  </a:lnTo>
                  <a:lnTo>
                    <a:pt x="2450" y="2807"/>
                  </a:lnTo>
                  <a:lnTo>
                    <a:pt x="2445" y="2807"/>
                  </a:lnTo>
                  <a:lnTo>
                    <a:pt x="2445" y="2813"/>
                  </a:lnTo>
                  <a:lnTo>
                    <a:pt x="2426" y="2813"/>
                  </a:lnTo>
                  <a:lnTo>
                    <a:pt x="2426" y="2825"/>
                  </a:lnTo>
                  <a:lnTo>
                    <a:pt x="2416" y="2825"/>
                  </a:lnTo>
                  <a:lnTo>
                    <a:pt x="2416" y="2831"/>
                  </a:lnTo>
                  <a:lnTo>
                    <a:pt x="2411" y="2831"/>
                  </a:lnTo>
                  <a:lnTo>
                    <a:pt x="2411" y="2836"/>
                  </a:lnTo>
                  <a:lnTo>
                    <a:pt x="2402" y="2836"/>
                  </a:lnTo>
                  <a:lnTo>
                    <a:pt x="2402" y="2818"/>
                  </a:lnTo>
                  <a:lnTo>
                    <a:pt x="2411" y="2818"/>
                  </a:lnTo>
                  <a:lnTo>
                    <a:pt x="2411" y="2813"/>
                  </a:lnTo>
                  <a:lnTo>
                    <a:pt x="2416" y="2813"/>
                  </a:lnTo>
                  <a:lnTo>
                    <a:pt x="2416" y="2807"/>
                  </a:lnTo>
                  <a:lnTo>
                    <a:pt x="2421" y="2807"/>
                  </a:lnTo>
                  <a:lnTo>
                    <a:pt x="2421" y="2801"/>
                  </a:lnTo>
                  <a:lnTo>
                    <a:pt x="2426" y="2801"/>
                  </a:lnTo>
                  <a:lnTo>
                    <a:pt x="2426" y="2795"/>
                  </a:lnTo>
                  <a:lnTo>
                    <a:pt x="2431" y="2795"/>
                  </a:lnTo>
                  <a:lnTo>
                    <a:pt x="2431" y="2790"/>
                  </a:lnTo>
                  <a:lnTo>
                    <a:pt x="2440" y="2790"/>
                  </a:lnTo>
                  <a:lnTo>
                    <a:pt x="2440" y="2784"/>
                  </a:lnTo>
                  <a:lnTo>
                    <a:pt x="2445" y="2784"/>
                  </a:lnTo>
                  <a:lnTo>
                    <a:pt x="2445" y="2777"/>
                  </a:lnTo>
                  <a:lnTo>
                    <a:pt x="2450" y="2777"/>
                  </a:lnTo>
                  <a:lnTo>
                    <a:pt x="2450" y="2772"/>
                  </a:lnTo>
                  <a:lnTo>
                    <a:pt x="2460" y="2772"/>
                  </a:lnTo>
                  <a:lnTo>
                    <a:pt x="2460" y="2766"/>
                  </a:lnTo>
                  <a:lnTo>
                    <a:pt x="2464" y="2766"/>
                  </a:lnTo>
                  <a:lnTo>
                    <a:pt x="2464" y="2760"/>
                  </a:lnTo>
                  <a:lnTo>
                    <a:pt x="2469" y="2760"/>
                  </a:lnTo>
                  <a:lnTo>
                    <a:pt x="2469" y="2754"/>
                  </a:lnTo>
                  <a:lnTo>
                    <a:pt x="2474" y="2754"/>
                  </a:lnTo>
                  <a:lnTo>
                    <a:pt x="2474" y="2749"/>
                  </a:lnTo>
                  <a:lnTo>
                    <a:pt x="2479" y="2749"/>
                  </a:lnTo>
                  <a:lnTo>
                    <a:pt x="2479" y="2741"/>
                  </a:lnTo>
                  <a:lnTo>
                    <a:pt x="2483" y="2741"/>
                  </a:lnTo>
                  <a:lnTo>
                    <a:pt x="2483" y="2736"/>
                  </a:lnTo>
                  <a:lnTo>
                    <a:pt x="2487" y="2736"/>
                  </a:lnTo>
                  <a:lnTo>
                    <a:pt x="2487" y="2724"/>
                  </a:lnTo>
                  <a:lnTo>
                    <a:pt x="2494" y="2724"/>
                  </a:lnTo>
                  <a:lnTo>
                    <a:pt x="2494" y="2719"/>
                  </a:lnTo>
                  <a:lnTo>
                    <a:pt x="2498" y="2719"/>
                  </a:lnTo>
                  <a:lnTo>
                    <a:pt x="2498" y="2712"/>
                  </a:lnTo>
                  <a:lnTo>
                    <a:pt x="2508" y="2712"/>
                  </a:lnTo>
                  <a:lnTo>
                    <a:pt x="2508" y="2706"/>
                  </a:lnTo>
                  <a:lnTo>
                    <a:pt x="2513" y="2706"/>
                  </a:lnTo>
                  <a:lnTo>
                    <a:pt x="2513" y="2700"/>
                  </a:lnTo>
                  <a:lnTo>
                    <a:pt x="2522" y="2700"/>
                  </a:lnTo>
                  <a:lnTo>
                    <a:pt x="2522" y="2695"/>
                  </a:lnTo>
                  <a:lnTo>
                    <a:pt x="2527" y="2695"/>
                  </a:lnTo>
                  <a:lnTo>
                    <a:pt x="2527" y="2689"/>
                  </a:lnTo>
                  <a:lnTo>
                    <a:pt x="2531" y="2689"/>
                  </a:lnTo>
                  <a:lnTo>
                    <a:pt x="2531" y="2682"/>
                  </a:lnTo>
                  <a:lnTo>
                    <a:pt x="2536" y="2682"/>
                  </a:lnTo>
                  <a:lnTo>
                    <a:pt x="2536" y="2677"/>
                  </a:lnTo>
                  <a:lnTo>
                    <a:pt x="2541" y="2677"/>
                  </a:lnTo>
                  <a:lnTo>
                    <a:pt x="2541" y="2672"/>
                  </a:lnTo>
                  <a:lnTo>
                    <a:pt x="2546" y="2672"/>
                  </a:lnTo>
                  <a:lnTo>
                    <a:pt x="2546" y="2665"/>
                  </a:lnTo>
                  <a:lnTo>
                    <a:pt x="2550" y="2665"/>
                  </a:lnTo>
                  <a:lnTo>
                    <a:pt x="2550" y="2660"/>
                  </a:lnTo>
                  <a:lnTo>
                    <a:pt x="2556" y="2660"/>
                  </a:lnTo>
                  <a:lnTo>
                    <a:pt x="2556" y="2654"/>
                  </a:lnTo>
                  <a:lnTo>
                    <a:pt x="2566" y="2654"/>
                  </a:lnTo>
                  <a:lnTo>
                    <a:pt x="2566" y="2648"/>
                  </a:lnTo>
                  <a:lnTo>
                    <a:pt x="2570" y="2648"/>
                  </a:lnTo>
                  <a:lnTo>
                    <a:pt x="2570" y="2641"/>
                  </a:lnTo>
                  <a:lnTo>
                    <a:pt x="2575" y="2641"/>
                  </a:lnTo>
                  <a:lnTo>
                    <a:pt x="2575" y="2636"/>
                  </a:lnTo>
                  <a:lnTo>
                    <a:pt x="2580" y="2636"/>
                  </a:lnTo>
                  <a:lnTo>
                    <a:pt x="2580" y="2630"/>
                  </a:lnTo>
                  <a:lnTo>
                    <a:pt x="2584" y="2630"/>
                  </a:lnTo>
                  <a:lnTo>
                    <a:pt x="2584" y="2624"/>
                  </a:lnTo>
                  <a:lnTo>
                    <a:pt x="2590" y="2624"/>
                  </a:lnTo>
                  <a:lnTo>
                    <a:pt x="2590" y="2613"/>
                  </a:lnTo>
                  <a:lnTo>
                    <a:pt x="2594" y="2613"/>
                  </a:lnTo>
                  <a:lnTo>
                    <a:pt x="2594" y="2606"/>
                  </a:lnTo>
                  <a:lnTo>
                    <a:pt x="2599" y="2606"/>
                  </a:lnTo>
                  <a:lnTo>
                    <a:pt x="2599" y="2600"/>
                  </a:lnTo>
                  <a:lnTo>
                    <a:pt x="2609" y="2600"/>
                  </a:lnTo>
                  <a:lnTo>
                    <a:pt x="2609" y="2595"/>
                  </a:lnTo>
                  <a:lnTo>
                    <a:pt x="2613" y="2595"/>
                  </a:lnTo>
                  <a:lnTo>
                    <a:pt x="2613" y="2583"/>
                  </a:lnTo>
                  <a:lnTo>
                    <a:pt x="2618" y="2583"/>
                  </a:lnTo>
                  <a:lnTo>
                    <a:pt x="2618" y="2576"/>
                  </a:lnTo>
                  <a:lnTo>
                    <a:pt x="2623" y="2576"/>
                  </a:lnTo>
                  <a:lnTo>
                    <a:pt x="2623" y="2571"/>
                  </a:lnTo>
                  <a:lnTo>
                    <a:pt x="2631" y="2571"/>
                  </a:lnTo>
                  <a:lnTo>
                    <a:pt x="2631" y="2565"/>
                  </a:lnTo>
                  <a:lnTo>
                    <a:pt x="2638" y="2565"/>
                  </a:lnTo>
                  <a:lnTo>
                    <a:pt x="2638" y="2559"/>
                  </a:lnTo>
                  <a:lnTo>
                    <a:pt x="2642" y="2559"/>
                  </a:lnTo>
                  <a:lnTo>
                    <a:pt x="2642" y="2554"/>
                  </a:lnTo>
                  <a:lnTo>
                    <a:pt x="2647" y="2554"/>
                  </a:lnTo>
                  <a:lnTo>
                    <a:pt x="2647" y="2541"/>
                  </a:lnTo>
                  <a:lnTo>
                    <a:pt x="2652" y="2541"/>
                  </a:lnTo>
                  <a:lnTo>
                    <a:pt x="2652" y="2535"/>
                  </a:lnTo>
                  <a:lnTo>
                    <a:pt x="2657" y="2535"/>
                  </a:lnTo>
                  <a:lnTo>
                    <a:pt x="2657" y="2529"/>
                  </a:lnTo>
                  <a:lnTo>
                    <a:pt x="2666" y="2529"/>
                  </a:lnTo>
                  <a:lnTo>
                    <a:pt x="2666" y="2518"/>
                  </a:lnTo>
                  <a:lnTo>
                    <a:pt x="2671" y="2518"/>
                  </a:lnTo>
                  <a:lnTo>
                    <a:pt x="2671" y="2513"/>
                  </a:lnTo>
                  <a:lnTo>
                    <a:pt x="2675" y="2513"/>
                  </a:lnTo>
                  <a:lnTo>
                    <a:pt x="2675" y="2500"/>
                  </a:lnTo>
                  <a:lnTo>
                    <a:pt x="2685" y="2500"/>
                  </a:lnTo>
                  <a:lnTo>
                    <a:pt x="2685" y="2494"/>
                  </a:lnTo>
                  <a:lnTo>
                    <a:pt x="2690" y="2494"/>
                  </a:lnTo>
                  <a:lnTo>
                    <a:pt x="2690" y="2488"/>
                  </a:lnTo>
                  <a:lnTo>
                    <a:pt x="2694" y="2488"/>
                  </a:lnTo>
                  <a:lnTo>
                    <a:pt x="2694" y="2477"/>
                  </a:lnTo>
                  <a:lnTo>
                    <a:pt x="2700" y="2477"/>
                  </a:lnTo>
                  <a:lnTo>
                    <a:pt x="2700" y="2470"/>
                  </a:lnTo>
                  <a:lnTo>
                    <a:pt x="2708" y="2470"/>
                  </a:lnTo>
                  <a:lnTo>
                    <a:pt x="2708" y="2464"/>
                  </a:lnTo>
                  <a:lnTo>
                    <a:pt x="2714" y="2464"/>
                  </a:lnTo>
                  <a:lnTo>
                    <a:pt x="2714" y="2453"/>
                  </a:lnTo>
                  <a:lnTo>
                    <a:pt x="2719" y="2453"/>
                  </a:lnTo>
                  <a:lnTo>
                    <a:pt x="2719" y="2447"/>
                  </a:lnTo>
                  <a:lnTo>
                    <a:pt x="2724" y="2447"/>
                  </a:lnTo>
                  <a:lnTo>
                    <a:pt x="2724" y="2440"/>
                  </a:lnTo>
                  <a:lnTo>
                    <a:pt x="2728" y="2440"/>
                  </a:lnTo>
                  <a:lnTo>
                    <a:pt x="2728" y="2428"/>
                  </a:lnTo>
                  <a:lnTo>
                    <a:pt x="2734" y="2428"/>
                  </a:lnTo>
                  <a:lnTo>
                    <a:pt x="2734" y="2418"/>
                  </a:lnTo>
                  <a:lnTo>
                    <a:pt x="2738" y="2418"/>
                  </a:lnTo>
                  <a:lnTo>
                    <a:pt x="2738" y="2410"/>
                  </a:lnTo>
                  <a:lnTo>
                    <a:pt x="2743" y="2410"/>
                  </a:lnTo>
                  <a:lnTo>
                    <a:pt x="2743" y="2399"/>
                  </a:lnTo>
                  <a:lnTo>
                    <a:pt x="2748" y="2399"/>
                  </a:lnTo>
                  <a:lnTo>
                    <a:pt x="2748" y="2394"/>
                  </a:lnTo>
                  <a:lnTo>
                    <a:pt x="2752" y="2394"/>
                  </a:lnTo>
                  <a:lnTo>
                    <a:pt x="2752" y="2387"/>
                  </a:lnTo>
                  <a:lnTo>
                    <a:pt x="2757" y="2387"/>
                  </a:lnTo>
                  <a:lnTo>
                    <a:pt x="2757" y="2375"/>
                  </a:lnTo>
                  <a:lnTo>
                    <a:pt x="2762" y="2375"/>
                  </a:lnTo>
                  <a:lnTo>
                    <a:pt x="2762" y="2369"/>
                  </a:lnTo>
                  <a:lnTo>
                    <a:pt x="2767" y="2369"/>
                  </a:lnTo>
                  <a:lnTo>
                    <a:pt x="2767" y="2358"/>
                  </a:lnTo>
                  <a:lnTo>
                    <a:pt x="2771" y="2358"/>
                  </a:lnTo>
                  <a:lnTo>
                    <a:pt x="2771" y="2352"/>
                  </a:lnTo>
                  <a:lnTo>
                    <a:pt x="2776" y="2352"/>
                  </a:lnTo>
                  <a:lnTo>
                    <a:pt x="2776" y="2341"/>
                  </a:lnTo>
                  <a:lnTo>
                    <a:pt x="2781" y="2341"/>
                  </a:lnTo>
                  <a:lnTo>
                    <a:pt x="2781" y="2328"/>
                  </a:lnTo>
                  <a:lnTo>
                    <a:pt x="2786" y="2328"/>
                  </a:lnTo>
                  <a:lnTo>
                    <a:pt x="2786" y="2317"/>
                  </a:lnTo>
                  <a:lnTo>
                    <a:pt x="2791" y="2317"/>
                  </a:lnTo>
                  <a:lnTo>
                    <a:pt x="2791" y="2311"/>
                  </a:lnTo>
                  <a:lnTo>
                    <a:pt x="2796" y="2311"/>
                  </a:lnTo>
                  <a:lnTo>
                    <a:pt x="2796" y="2299"/>
                  </a:lnTo>
                  <a:lnTo>
                    <a:pt x="2801" y="2299"/>
                  </a:lnTo>
                  <a:lnTo>
                    <a:pt x="2801" y="2293"/>
                  </a:lnTo>
                  <a:lnTo>
                    <a:pt x="2805" y="2293"/>
                  </a:lnTo>
                  <a:lnTo>
                    <a:pt x="2805" y="2287"/>
                  </a:lnTo>
                  <a:lnTo>
                    <a:pt x="2810" y="2287"/>
                  </a:lnTo>
                  <a:lnTo>
                    <a:pt x="2810" y="2281"/>
                  </a:lnTo>
                  <a:lnTo>
                    <a:pt x="2815" y="2281"/>
                  </a:lnTo>
                  <a:lnTo>
                    <a:pt x="2815" y="2268"/>
                  </a:lnTo>
                  <a:lnTo>
                    <a:pt x="2820" y="2268"/>
                  </a:lnTo>
                  <a:lnTo>
                    <a:pt x="2820" y="2263"/>
                  </a:lnTo>
                  <a:lnTo>
                    <a:pt x="2824" y="2263"/>
                  </a:lnTo>
                  <a:lnTo>
                    <a:pt x="2824" y="2251"/>
                  </a:lnTo>
                  <a:lnTo>
                    <a:pt x="2829" y="2251"/>
                  </a:lnTo>
                  <a:lnTo>
                    <a:pt x="2829" y="2246"/>
                  </a:lnTo>
                  <a:lnTo>
                    <a:pt x="2834" y="2246"/>
                  </a:lnTo>
                  <a:lnTo>
                    <a:pt x="2834" y="2241"/>
                  </a:lnTo>
                  <a:lnTo>
                    <a:pt x="2838" y="2241"/>
                  </a:lnTo>
                  <a:lnTo>
                    <a:pt x="2838" y="2228"/>
                  </a:lnTo>
                  <a:lnTo>
                    <a:pt x="2844" y="2228"/>
                  </a:lnTo>
                  <a:lnTo>
                    <a:pt x="2844" y="2222"/>
                  </a:lnTo>
                  <a:lnTo>
                    <a:pt x="2848" y="2222"/>
                  </a:lnTo>
                  <a:lnTo>
                    <a:pt x="2848" y="2217"/>
                  </a:lnTo>
                  <a:lnTo>
                    <a:pt x="2853" y="2217"/>
                  </a:lnTo>
                  <a:lnTo>
                    <a:pt x="2853" y="2205"/>
                  </a:lnTo>
                  <a:lnTo>
                    <a:pt x="2864" y="2205"/>
                  </a:lnTo>
                  <a:lnTo>
                    <a:pt x="2864" y="2200"/>
                  </a:lnTo>
                  <a:lnTo>
                    <a:pt x="2868" y="2200"/>
                  </a:lnTo>
                  <a:lnTo>
                    <a:pt x="2868" y="2192"/>
                  </a:lnTo>
                  <a:lnTo>
                    <a:pt x="2872" y="2192"/>
                  </a:lnTo>
                  <a:lnTo>
                    <a:pt x="2872" y="2181"/>
                  </a:lnTo>
                  <a:lnTo>
                    <a:pt x="2878" y="2181"/>
                  </a:lnTo>
                  <a:lnTo>
                    <a:pt x="2878" y="2175"/>
                  </a:lnTo>
                  <a:lnTo>
                    <a:pt x="2882" y="2175"/>
                  </a:lnTo>
                  <a:lnTo>
                    <a:pt x="2882" y="2168"/>
                  </a:lnTo>
                  <a:lnTo>
                    <a:pt x="2887" y="2168"/>
                  </a:lnTo>
                  <a:lnTo>
                    <a:pt x="2887" y="2163"/>
                  </a:lnTo>
                  <a:lnTo>
                    <a:pt x="2892" y="2163"/>
                  </a:lnTo>
                  <a:lnTo>
                    <a:pt x="2892" y="2157"/>
                  </a:lnTo>
                  <a:lnTo>
                    <a:pt x="2897" y="2157"/>
                  </a:lnTo>
                  <a:lnTo>
                    <a:pt x="2897" y="2146"/>
                  </a:lnTo>
                  <a:lnTo>
                    <a:pt x="2901" y="2146"/>
                  </a:lnTo>
                  <a:lnTo>
                    <a:pt x="2901" y="2140"/>
                  </a:lnTo>
                  <a:lnTo>
                    <a:pt x="2906" y="2140"/>
                  </a:lnTo>
                  <a:lnTo>
                    <a:pt x="2906" y="2133"/>
                  </a:lnTo>
                  <a:lnTo>
                    <a:pt x="2911" y="2133"/>
                  </a:lnTo>
                  <a:lnTo>
                    <a:pt x="2911" y="2127"/>
                  </a:lnTo>
                  <a:lnTo>
                    <a:pt x="2915" y="2127"/>
                  </a:lnTo>
                  <a:lnTo>
                    <a:pt x="2915" y="2122"/>
                  </a:lnTo>
                  <a:lnTo>
                    <a:pt x="2920" y="2122"/>
                  </a:lnTo>
                  <a:lnTo>
                    <a:pt x="2920" y="2116"/>
                  </a:lnTo>
                  <a:lnTo>
                    <a:pt x="2925" y="2116"/>
                  </a:lnTo>
                  <a:lnTo>
                    <a:pt x="2925" y="2110"/>
                  </a:lnTo>
                  <a:lnTo>
                    <a:pt x="2931" y="2110"/>
                  </a:lnTo>
                  <a:lnTo>
                    <a:pt x="2931" y="2103"/>
                  </a:lnTo>
                  <a:lnTo>
                    <a:pt x="2935" y="2103"/>
                  </a:lnTo>
                  <a:lnTo>
                    <a:pt x="2935" y="2098"/>
                  </a:lnTo>
                  <a:lnTo>
                    <a:pt x="2941" y="2098"/>
                  </a:lnTo>
                  <a:lnTo>
                    <a:pt x="2941" y="2092"/>
                  </a:lnTo>
                  <a:lnTo>
                    <a:pt x="2945" y="2092"/>
                  </a:lnTo>
                  <a:lnTo>
                    <a:pt x="2945" y="2086"/>
                  </a:lnTo>
                  <a:lnTo>
                    <a:pt x="2950" y="2086"/>
                  </a:lnTo>
                  <a:lnTo>
                    <a:pt x="2950" y="2081"/>
                  </a:lnTo>
                  <a:lnTo>
                    <a:pt x="2954" y="2081"/>
                  </a:lnTo>
                  <a:lnTo>
                    <a:pt x="2954" y="2069"/>
                  </a:lnTo>
                  <a:lnTo>
                    <a:pt x="2959" y="2069"/>
                  </a:lnTo>
                  <a:lnTo>
                    <a:pt x="2959" y="2062"/>
                  </a:lnTo>
                  <a:lnTo>
                    <a:pt x="2968" y="2062"/>
                  </a:lnTo>
                  <a:lnTo>
                    <a:pt x="2968" y="2056"/>
                  </a:lnTo>
                  <a:lnTo>
                    <a:pt x="2973" y="2056"/>
                  </a:lnTo>
                  <a:lnTo>
                    <a:pt x="2973" y="2051"/>
                  </a:lnTo>
                  <a:lnTo>
                    <a:pt x="2978" y="2051"/>
                  </a:lnTo>
                  <a:lnTo>
                    <a:pt x="2978" y="2040"/>
                  </a:lnTo>
                  <a:lnTo>
                    <a:pt x="2988" y="2040"/>
                  </a:lnTo>
                  <a:lnTo>
                    <a:pt x="2988" y="2027"/>
                  </a:lnTo>
                  <a:lnTo>
                    <a:pt x="2992" y="2027"/>
                  </a:lnTo>
                  <a:lnTo>
                    <a:pt x="2992" y="2021"/>
                  </a:lnTo>
                  <a:lnTo>
                    <a:pt x="2997" y="2021"/>
                  </a:lnTo>
                  <a:lnTo>
                    <a:pt x="2997" y="2009"/>
                  </a:lnTo>
                  <a:lnTo>
                    <a:pt x="3007" y="2009"/>
                  </a:lnTo>
                  <a:lnTo>
                    <a:pt x="3007" y="2004"/>
                  </a:lnTo>
                  <a:lnTo>
                    <a:pt x="3012" y="2004"/>
                  </a:lnTo>
                  <a:lnTo>
                    <a:pt x="3012" y="1991"/>
                  </a:lnTo>
                  <a:lnTo>
                    <a:pt x="3016" y="1991"/>
                  </a:lnTo>
                  <a:lnTo>
                    <a:pt x="3016" y="1986"/>
                  </a:lnTo>
                  <a:lnTo>
                    <a:pt x="3022" y="1986"/>
                  </a:lnTo>
                  <a:lnTo>
                    <a:pt x="3022" y="1962"/>
                  </a:lnTo>
                  <a:lnTo>
                    <a:pt x="3026" y="1962"/>
                  </a:lnTo>
                  <a:lnTo>
                    <a:pt x="3026" y="1955"/>
                  </a:lnTo>
                  <a:lnTo>
                    <a:pt x="3036" y="1955"/>
                  </a:lnTo>
                  <a:lnTo>
                    <a:pt x="3036" y="1939"/>
                  </a:lnTo>
                  <a:lnTo>
                    <a:pt x="3041" y="1939"/>
                  </a:lnTo>
                  <a:lnTo>
                    <a:pt x="3041" y="1932"/>
                  </a:lnTo>
                  <a:lnTo>
                    <a:pt x="3045" y="1932"/>
                  </a:lnTo>
                  <a:lnTo>
                    <a:pt x="3045" y="1921"/>
                  </a:lnTo>
                  <a:lnTo>
                    <a:pt x="3050" y="1921"/>
                  </a:lnTo>
                  <a:lnTo>
                    <a:pt x="3050" y="1914"/>
                  </a:lnTo>
                  <a:lnTo>
                    <a:pt x="3055" y="1914"/>
                  </a:lnTo>
                  <a:lnTo>
                    <a:pt x="3055" y="1903"/>
                  </a:lnTo>
                  <a:lnTo>
                    <a:pt x="3059" y="1903"/>
                  </a:lnTo>
                  <a:lnTo>
                    <a:pt x="3059" y="1891"/>
                  </a:lnTo>
                  <a:lnTo>
                    <a:pt x="3064" y="1891"/>
                  </a:lnTo>
                  <a:lnTo>
                    <a:pt x="3064" y="1879"/>
                  </a:lnTo>
                  <a:lnTo>
                    <a:pt x="3069" y="1879"/>
                  </a:lnTo>
                  <a:lnTo>
                    <a:pt x="3069" y="1873"/>
                  </a:lnTo>
                  <a:lnTo>
                    <a:pt x="3075" y="1873"/>
                  </a:lnTo>
                  <a:lnTo>
                    <a:pt x="3075" y="1861"/>
                  </a:lnTo>
                  <a:lnTo>
                    <a:pt x="3079" y="1861"/>
                  </a:lnTo>
                  <a:lnTo>
                    <a:pt x="3079" y="1855"/>
                  </a:lnTo>
                  <a:lnTo>
                    <a:pt x="3085" y="1855"/>
                  </a:lnTo>
                  <a:lnTo>
                    <a:pt x="3085" y="1849"/>
                  </a:lnTo>
                  <a:lnTo>
                    <a:pt x="3089" y="1849"/>
                  </a:lnTo>
                  <a:lnTo>
                    <a:pt x="3089" y="1844"/>
                  </a:lnTo>
                  <a:lnTo>
                    <a:pt x="3093" y="1844"/>
                  </a:lnTo>
                  <a:lnTo>
                    <a:pt x="3093" y="1838"/>
                  </a:lnTo>
                  <a:lnTo>
                    <a:pt x="3098" y="1838"/>
                  </a:lnTo>
                  <a:lnTo>
                    <a:pt x="3098" y="1831"/>
                  </a:lnTo>
                  <a:lnTo>
                    <a:pt x="3103" y="1831"/>
                  </a:lnTo>
                  <a:lnTo>
                    <a:pt x="3103" y="1820"/>
                  </a:lnTo>
                  <a:lnTo>
                    <a:pt x="3108" y="1820"/>
                  </a:lnTo>
                  <a:lnTo>
                    <a:pt x="3108" y="1814"/>
                  </a:lnTo>
                  <a:lnTo>
                    <a:pt x="3112" y="1814"/>
                  </a:lnTo>
                  <a:lnTo>
                    <a:pt x="3112" y="1809"/>
                  </a:lnTo>
                  <a:lnTo>
                    <a:pt x="3118" y="1809"/>
                  </a:lnTo>
                  <a:lnTo>
                    <a:pt x="3118" y="1803"/>
                  </a:lnTo>
                  <a:lnTo>
                    <a:pt x="3122" y="1803"/>
                  </a:lnTo>
                  <a:lnTo>
                    <a:pt x="3122" y="1796"/>
                  </a:lnTo>
                  <a:lnTo>
                    <a:pt x="3126" y="1796"/>
                  </a:lnTo>
                  <a:lnTo>
                    <a:pt x="3126" y="1790"/>
                  </a:lnTo>
                  <a:lnTo>
                    <a:pt x="3136" y="1790"/>
                  </a:lnTo>
                  <a:lnTo>
                    <a:pt x="3136" y="1779"/>
                  </a:lnTo>
                  <a:lnTo>
                    <a:pt x="3141" y="1779"/>
                  </a:lnTo>
                  <a:lnTo>
                    <a:pt x="3141" y="1773"/>
                  </a:lnTo>
                  <a:lnTo>
                    <a:pt x="3147" y="1773"/>
                  </a:lnTo>
                  <a:lnTo>
                    <a:pt x="3147" y="1768"/>
                  </a:lnTo>
                  <a:lnTo>
                    <a:pt x="3152" y="1768"/>
                  </a:lnTo>
                  <a:lnTo>
                    <a:pt x="3152" y="1760"/>
                  </a:lnTo>
                  <a:lnTo>
                    <a:pt x="3156" y="1760"/>
                  </a:lnTo>
                  <a:lnTo>
                    <a:pt x="3156" y="1755"/>
                  </a:lnTo>
                  <a:lnTo>
                    <a:pt x="3161" y="1755"/>
                  </a:lnTo>
                  <a:lnTo>
                    <a:pt x="3161" y="1749"/>
                  </a:lnTo>
                  <a:lnTo>
                    <a:pt x="3166" y="1749"/>
                  </a:lnTo>
                  <a:lnTo>
                    <a:pt x="3166" y="1744"/>
                  </a:lnTo>
                  <a:lnTo>
                    <a:pt x="3175" y="1744"/>
                  </a:lnTo>
                  <a:lnTo>
                    <a:pt x="3175" y="1732"/>
                  </a:lnTo>
                  <a:lnTo>
                    <a:pt x="3180" y="1732"/>
                  </a:lnTo>
                  <a:lnTo>
                    <a:pt x="3180" y="1727"/>
                  </a:lnTo>
                  <a:lnTo>
                    <a:pt x="3185" y="1727"/>
                  </a:lnTo>
                  <a:lnTo>
                    <a:pt x="3185" y="1719"/>
                  </a:lnTo>
                  <a:lnTo>
                    <a:pt x="3189" y="1719"/>
                  </a:lnTo>
                  <a:lnTo>
                    <a:pt x="3189" y="1714"/>
                  </a:lnTo>
                  <a:lnTo>
                    <a:pt x="3194" y="1714"/>
                  </a:lnTo>
                  <a:lnTo>
                    <a:pt x="3194" y="1708"/>
                  </a:lnTo>
                  <a:lnTo>
                    <a:pt x="3199" y="1708"/>
                  </a:lnTo>
                  <a:lnTo>
                    <a:pt x="3199" y="1695"/>
                  </a:lnTo>
                  <a:lnTo>
                    <a:pt x="3204" y="1695"/>
                  </a:lnTo>
                  <a:lnTo>
                    <a:pt x="3204" y="1690"/>
                  </a:lnTo>
                  <a:lnTo>
                    <a:pt x="3208" y="1690"/>
                  </a:lnTo>
                  <a:lnTo>
                    <a:pt x="3208" y="1685"/>
                  </a:lnTo>
                  <a:lnTo>
                    <a:pt x="3213" y="1685"/>
                  </a:lnTo>
                  <a:lnTo>
                    <a:pt x="3213" y="1673"/>
                  </a:lnTo>
                  <a:lnTo>
                    <a:pt x="3219" y="1673"/>
                  </a:lnTo>
                  <a:lnTo>
                    <a:pt x="3219" y="1667"/>
                  </a:lnTo>
                  <a:lnTo>
                    <a:pt x="3223" y="1667"/>
                  </a:lnTo>
                  <a:lnTo>
                    <a:pt x="3223" y="1654"/>
                  </a:lnTo>
                  <a:lnTo>
                    <a:pt x="3229" y="1654"/>
                  </a:lnTo>
                  <a:lnTo>
                    <a:pt x="3229" y="1643"/>
                  </a:lnTo>
                  <a:lnTo>
                    <a:pt x="3233" y="1643"/>
                  </a:lnTo>
                  <a:lnTo>
                    <a:pt x="3233" y="1632"/>
                  </a:lnTo>
                  <a:lnTo>
                    <a:pt x="3238" y="1632"/>
                  </a:lnTo>
                  <a:lnTo>
                    <a:pt x="3238" y="1613"/>
                  </a:lnTo>
                  <a:lnTo>
                    <a:pt x="3243" y="1613"/>
                  </a:lnTo>
                  <a:lnTo>
                    <a:pt x="3243" y="1601"/>
                  </a:lnTo>
                  <a:lnTo>
                    <a:pt x="3248" y="1601"/>
                  </a:lnTo>
                  <a:lnTo>
                    <a:pt x="3248" y="1589"/>
                  </a:lnTo>
                  <a:lnTo>
                    <a:pt x="3252" y="1589"/>
                  </a:lnTo>
                  <a:lnTo>
                    <a:pt x="3252" y="1578"/>
                  </a:lnTo>
                  <a:lnTo>
                    <a:pt x="3256" y="1578"/>
                  </a:lnTo>
                  <a:lnTo>
                    <a:pt x="3256" y="1567"/>
                  </a:lnTo>
                  <a:lnTo>
                    <a:pt x="3262" y="1567"/>
                  </a:lnTo>
                  <a:lnTo>
                    <a:pt x="3262" y="1554"/>
                  </a:lnTo>
                  <a:lnTo>
                    <a:pt x="3266" y="1554"/>
                  </a:lnTo>
                  <a:lnTo>
                    <a:pt x="3266" y="1536"/>
                  </a:lnTo>
                  <a:lnTo>
                    <a:pt x="3271" y="1536"/>
                  </a:lnTo>
                  <a:lnTo>
                    <a:pt x="3271" y="1524"/>
                  </a:lnTo>
                  <a:lnTo>
                    <a:pt x="3276" y="1524"/>
                  </a:lnTo>
                  <a:lnTo>
                    <a:pt x="3276" y="1518"/>
                  </a:lnTo>
                  <a:lnTo>
                    <a:pt x="3281" y="1518"/>
                  </a:lnTo>
                  <a:lnTo>
                    <a:pt x="3281" y="1507"/>
                  </a:lnTo>
                  <a:lnTo>
                    <a:pt x="3285" y="1507"/>
                  </a:lnTo>
                  <a:lnTo>
                    <a:pt x="3285" y="1494"/>
                  </a:lnTo>
                  <a:lnTo>
                    <a:pt x="3291" y="1494"/>
                  </a:lnTo>
                  <a:lnTo>
                    <a:pt x="3291" y="1490"/>
                  </a:lnTo>
                  <a:lnTo>
                    <a:pt x="3296" y="1490"/>
                  </a:lnTo>
                  <a:lnTo>
                    <a:pt x="3296" y="1482"/>
                  </a:lnTo>
                  <a:lnTo>
                    <a:pt x="3300" y="1482"/>
                  </a:lnTo>
                  <a:lnTo>
                    <a:pt x="3300" y="1472"/>
                  </a:lnTo>
                  <a:lnTo>
                    <a:pt x="3305" y="1472"/>
                  </a:lnTo>
                  <a:lnTo>
                    <a:pt x="3305" y="1466"/>
                  </a:lnTo>
                  <a:lnTo>
                    <a:pt x="3310" y="1466"/>
                  </a:lnTo>
                  <a:lnTo>
                    <a:pt x="3310" y="1460"/>
                  </a:lnTo>
                  <a:lnTo>
                    <a:pt x="3314" y="1460"/>
                  </a:lnTo>
                  <a:lnTo>
                    <a:pt x="3314" y="1453"/>
                  </a:lnTo>
                  <a:lnTo>
                    <a:pt x="3319" y="1453"/>
                  </a:lnTo>
                  <a:lnTo>
                    <a:pt x="3319" y="1448"/>
                  </a:lnTo>
                  <a:lnTo>
                    <a:pt x="3324" y="1448"/>
                  </a:lnTo>
                  <a:lnTo>
                    <a:pt x="3324" y="1436"/>
                  </a:lnTo>
                  <a:lnTo>
                    <a:pt x="3329" y="1436"/>
                  </a:lnTo>
                  <a:lnTo>
                    <a:pt x="3329" y="1431"/>
                  </a:lnTo>
                  <a:lnTo>
                    <a:pt x="3333" y="1431"/>
                  </a:lnTo>
                  <a:lnTo>
                    <a:pt x="3333" y="1423"/>
                  </a:lnTo>
                  <a:lnTo>
                    <a:pt x="3338" y="1423"/>
                  </a:lnTo>
                  <a:lnTo>
                    <a:pt x="3338" y="1418"/>
                  </a:lnTo>
                  <a:lnTo>
                    <a:pt x="3343" y="1418"/>
                  </a:lnTo>
                  <a:lnTo>
                    <a:pt x="3343" y="1412"/>
                  </a:lnTo>
                  <a:lnTo>
                    <a:pt x="3347" y="1412"/>
                  </a:lnTo>
                  <a:lnTo>
                    <a:pt x="3347" y="1401"/>
                  </a:lnTo>
                  <a:lnTo>
                    <a:pt x="3352" y="1401"/>
                  </a:lnTo>
                  <a:lnTo>
                    <a:pt x="3352" y="1390"/>
                  </a:lnTo>
                  <a:lnTo>
                    <a:pt x="3357" y="1390"/>
                  </a:lnTo>
                  <a:lnTo>
                    <a:pt x="3357" y="1382"/>
                  </a:lnTo>
                  <a:lnTo>
                    <a:pt x="3363" y="1382"/>
                  </a:lnTo>
                  <a:lnTo>
                    <a:pt x="3363" y="1371"/>
                  </a:lnTo>
                  <a:lnTo>
                    <a:pt x="3373" y="1371"/>
                  </a:lnTo>
                  <a:lnTo>
                    <a:pt x="3373" y="1353"/>
                  </a:lnTo>
                  <a:lnTo>
                    <a:pt x="3387" y="1353"/>
                  </a:lnTo>
                  <a:lnTo>
                    <a:pt x="3387" y="1347"/>
                  </a:lnTo>
                  <a:lnTo>
                    <a:pt x="3391" y="1347"/>
                  </a:lnTo>
                  <a:lnTo>
                    <a:pt x="3391" y="1336"/>
                  </a:lnTo>
                  <a:lnTo>
                    <a:pt x="3396" y="1336"/>
                  </a:lnTo>
                  <a:lnTo>
                    <a:pt x="3396" y="1330"/>
                  </a:lnTo>
                  <a:lnTo>
                    <a:pt x="3400" y="1330"/>
                  </a:lnTo>
                  <a:lnTo>
                    <a:pt x="3400" y="1324"/>
                  </a:lnTo>
                  <a:lnTo>
                    <a:pt x="3406" y="1324"/>
                  </a:lnTo>
                  <a:lnTo>
                    <a:pt x="3406" y="1317"/>
                  </a:lnTo>
                  <a:lnTo>
                    <a:pt x="3410" y="1317"/>
                  </a:lnTo>
                  <a:lnTo>
                    <a:pt x="3410" y="1306"/>
                  </a:lnTo>
                  <a:lnTo>
                    <a:pt x="3415" y="1306"/>
                  </a:lnTo>
                  <a:lnTo>
                    <a:pt x="3415" y="1300"/>
                  </a:lnTo>
                  <a:lnTo>
                    <a:pt x="3420" y="1300"/>
                  </a:lnTo>
                  <a:lnTo>
                    <a:pt x="3420" y="1287"/>
                  </a:lnTo>
                  <a:lnTo>
                    <a:pt x="3424" y="1287"/>
                  </a:lnTo>
                  <a:lnTo>
                    <a:pt x="3424" y="1282"/>
                  </a:lnTo>
                  <a:lnTo>
                    <a:pt x="3429" y="1282"/>
                  </a:lnTo>
                  <a:lnTo>
                    <a:pt x="3429" y="1276"/>
                  </a:lnTo>
                  <a:lnTo>
                    <a:pt x="3435" y="1276"/>
                  </a:lnTo>
                  <a:lnTo>
                    <a:pt x="3435" y="1271"/>
                  </a:lnTo>
                  <a:lnTo>
                    <a:pt x="3444" y="1271"/>
                  </a:lnTo>
                  <a:lnTo>
                    <a:pt x="3444" y="1265"/>
                  </a:lnTo>
                  <a:lnTo>
                    <a:pt x="3449" y="1265"/>
                  </a:lnTo>
                  <a:lnTo>
                    <a:pt x="3449" y="1259"/>
                  </a:lnTo>
                  <a:lnTo>
                    <a:pt x="3454" y="1259"/>
                  </a:lnTo>
                  <a:lnTo>
                    <a:pt x="3454" y="1254"/>
                  </a:lnTo>
                  <a:lnTo>
                    <a:pt x="3459" y="1254"/>
                  </a:lnTo>
                  <a:lnTo>
                    <a:pt x="3459" y="1246"/>
                  </a:lnTo>
                  <a:lnTo>
                    <a:pt x="3463" y="1246"/>
                  </a:lnTo>
                  <a:lnTo>
                    <a:pt x="3463" y="1241"/>
                  </a:lnTo>
                  <a:lnTo>
                    <a:pt x="3468" y="1241"/>
                  </a:lnTo>
                  <a:lnTo>
                    <a:pt x="3468" y="1235"/>
                  </a:lnTo>
                  <a:lnTo>
                    <a:pt x="3473" y="1235"/>
                  </a:lnTo>
                  <a:lnTo>
                    <a:pt x="3473" y="1229"/>
                  </a:lnTo>
                  <a:lnTo>
                    <a:pt x="3477" y="1229"/>
                  </a:lnTo>
                  <a:lnTo>
                    <a:pt x="3477" y="1217"/>
                  </a:lnTo>
                  <a:lnTo>
                    <a:pt x="3482" y="1217"/>
                  </a:lnTo>
                  <a:lnTo>
                    <a:pt x="3482" y="1212"/>
                  </a:lnTo>
                  <a:lnTo>
                    <a:pt x="3487" y="1212"/>
                  </a:lnTo>
                  <a:lnTo>
                    <a:pt x="3487" y="1205"/>
                  </a:lnTo>
                  <a:lnTo>
                    <a:pt x="3492" y="1205"/>
                  </a:lnTo>
                  <a:lnTo>
                    <a:pt x="3492" y="1194"/>
                  </a:lnTo>
                  <a:lnTo>
                    <a:pt x="3496" y="1194"/>
                  </a:lnTo>
                  <a:lnTo>
                    <a:pt x="3496" y="1188"/>
                  </a:lnTo>
                  <a:lnTo>
                    <a:pt x="3502" y="1188"/>
                  </a:lnTo>
                  <a:lnTo>
                    <a:pt x="3502" y="1176"/>
                  </a:lnTo>
                  <a:lnTo>
                    <a:pt x="3507" y="1176"/>
                  </a:lnTo>
                  <a:lnTo>
                    <a:pt x="3507" y="1159"/>
                  </a:lnTo>
                  <a:lnTo>
                    <a:pt x="3517" y="1159"/>
                  </a:lnTo>
                  <a:lnTo>
                    <a:pt x="3517" y="1153"/>
                  </a:lnTo>
                  <a:lnTo>
                    <a:pt x="3526" y="1153"/>
                  </a:lnTo>
                  <a:lnTo>
                    <a:pt x="3526" y="1140"/>
                  </a:lnTo>
                  <a:lnTo>
                    <a:pt x="3531" y="1140"/>
                  </a:lnTo>
                  <a:lnTo>
                    <a:pt x="3531" y="1135"/>
                  </a:lnTo>
                  <a:lnTo>
                    <a:pt x="3536" y="1135"/>
                  </a:lnTo>
                  <a:lnTo>
                    <a:pt x="3536" y="1128"/>
                  </a:lnTo>
                  <a:lnTo>
                    <a:pt x="3540" y="1128"/>
                  </a:lnTo>
                  <a:lnTo>
                    <a:pt x="3540" y="1110"/>
                  </a:lnTo>
                  <a:lnTo>
                    <a:pt x="3545" y="1110"/>
                  </a:lnTo>
                  <a:lnTo>
                    <a:pt x="3545" y="1099"/>
                  </a:lnTo>
                  <a:lnTo>
                    <a:pt x="3550" y="1099"/>
                  </a:lnTo>
                  <a:lnTo>
                    <a:pt x="3550" y="1086"/>
                  </a:lnTo>
                  <a:lnTo>
                    <a:pt x="3554" y="1086"/>
                  </a:lnTo>
                  <a:lnTo>
                    <a:pt x="3554" y="1081"/>
                  </a:lnTo>
                  <a:lnTo>
                    <a:pt x="3559" y="1081"/>
                  </a:lnTo>
                  <a:lnTo>
                    <a:pt x="3559" y="1069"/>
                  </a:lnTo>
                  <a:lnTo>
                    <a:pt x="3564" y="1069"/>
                  </a:lnTo>
                  <a:lnTo>
                    <a:pt x="3564" y="1052"/>
                  </a:lnTo>
                  <a:lnTo>
                    <a:pt x="3531" y="1052"/>
                  </a:lnTo>
                  <a:lnTo>
                    <a:pt x="3531" y="1058"/>
                  </a:lnTo>
                  <a:lnTo>
                    <a:pt x="3511" y="1058"/>
                  </a:lnTo>
                  <a:lnTo>
                    <a:pt x="3511" y="1063"/>
                  </a:lnTo>
                  <a:lnTo>
                    <a:pt x="3492" y="1063"/>
                  </a:lnTo>
                  <a:lnTo>
                    <a:pt x="3492" y="1069"/>
                  </a:lnTo>
                  <a:lnTo>
                    <a:pt x="3477" y="1069"/>
                  </a:lnTo>
                  <a:lnTo>
                    <a:pt x="3477" y="1075"/>
                  </a:lnTo>
                  <a:lnTo>
                    <a:pt x="3454" y="1075"/>
                  </a:lnTo>
                  <a:lnTo>
                    <a:pt x="3454" y="1081"/>
                  </a:lnTo>
                  <a:lnTo>
                    <a:pt x="3435" y="1081"/>
                  </a:lnTo>
                  <a:lnTo>
                    <a:pt x="3435" y="1086"/>
                  </a:lnTo>
                  <a:lnTo>
                    <a:pt x="3415" y="1086"/>
                  </a:lnTo>
                  <a:lnTo>
                    <a:pt x="3415" y="1094"/>
                  </a:lnTo>
                  <a:lnTo>
                    <a:pt x="3406" y="1094"/>
                  </a:lnTo>
                  <a:lnTo>
                    <a:pt x="3406" y="1099"/>
                  </a:lnTo>
                  <a:lnTo>
                    <a:pt x="3391" y="1099"/>
                  </a:lnTo>
                  <a:lnTo>
                    <a:pt x="3391" y="1105"/>
                  </a:lnTo>
                  <a:lnTo>
                    <a:pt x="3377" y="1105"/>
                  </a:lnTo>
                  <a:lnTo>
                    <a:pt x="3377" y="1110"/>
                  </a:lnTo>
                  <a:lnTo>
                    <a:pt x="3357" y="1110"/>
                  </a:lnTo>
                  <a:lnTo>
                    <a:pt x="3357" y="1116"/>
                  </a:lnTo>
                  <a:lnTo>
                    <a:pt x="3343" y="1116"/>
                  </a:lnTo>
                  <a:lnTo>
                    <a:pt x="3343" y="1123"/>
                  </a:lnTo>
                  <a:lnTo>
                    <a:pt x="3338" y="1123"/>
                  </a:lnTo>
                  <a:lnTo>
                    <a:pt x="3338" y="1128"/>
                  </a:lnTo>
                  <a:lnTo>
                    <a:pt x="3333" y="1128"/>
                  </a:lnTo>
                  <a:lnTo>
                    <a:pt x="3333" y="1135"/>
                  </a:lnTo>
                  <a:lnTo>
                    <a:pt x="3329" y="1135"/>
                  </a:lnTo>
                  <a:lnTo>
                    <a:pt x="3329" y="1140"/>
                  </a:lnTo>
                  <a:lnTo>
                    <a:pt x="3319" y="1140"/>
                  </a:lnTo>
                  <a:lnTo>
                    <a:pt x="3319" y="1153"/>
                  </a:lnTo>
                  <a:lnTo>
                    <a:pt x="3314" y="1153"/>
                  </a:lnTo>
                  <a:lnTo>
                    <a:pt x="3314" y="1159"/>
                  </a:lnTo>
                  <a:lnTo>
                    <a:pt x="3310" y="1159"/>
                  </a:lnTo>
                  <a:lnTo>
                    <a:pt x="3310" y="1164"/>
                  </a:lnTo>
                  <a:lnTo>
                    <a:pt x="3296" y="1164"/>
                  </a:lnTo>
                  <a:lnTo>
                    <a:pt x="3296" y="1176"/>
                  </a:lnTo>
                  <a:lnTo>
                    <a:pt x="3276" y="1176"/>
                  </a:lnTo>
                  <a:lnTo>
                    <a:pt x="3276" y="1181"/>
                  </a:lnTo>
                  <a:lnTo>
                    <a:pt x="3256" y="1181"/>
                  </a:lnTo>
                  <a:lnTo>
                    <a:pt x="3256" y="1176"/>
                  </a:lnTo>
                  <a:lnTo>
                    <a:pt x="3248" y="1176"/>
                  </a:lnTo>
                  <a:lnTo>
                    <a:pt x="3248" y="1170"/>
                  </a:lnTo>
                  <a:lnTo>
                    <a:pt x="3166" y="1170"/>
                  </a:lnTo>
                  <a:lnTo>
                    <a:pt x="3166" y="1164"/>
                  </a:lnTo>
                  <a:lnTo>
                    <a:pt x="3156" y="1164"/>
                  </a:lnTo>
                  <a:lnTo>
                    <a:pt x="3156" y="1159"/>
                  </a:lnTo>
                  <a:lnTo>
                    <a:pt x="3147" y="1159"/>
                  </a:lnTo>
                  <a:lnTo>
                    <a:pt x="3147" y="1153"/>
                  </a:lnTo>
                  <a:lnTo>
                    <a:pt x="3136" y="1153"/>
                  </a:lnTo>
                  <a:lnTo>
                    <a:pt x="3136" y="1146"/>
                  </a:lnTo>
                  <a:lnTo>
                    <a:pt x="3118" y="1146"/>
                  </a:lnTo>
                  <a:lnTo>
                    <a:pt x="3118" y="1140"/>
                  </a:lnTo>
                  <a:lnTo>
                    <a:pt x="3108" y="1140"/>
                  </a:lnTo>
                  <a:lnTo>
                    <a:pt x="3108" y="1135"/>
                  </a:lnTo>
                  <a:lnTo>
                    <a:pt x="3093" y="1135"/>
                  </a:lnTo>
                  <a:lnTo>
                    <a:pt x="3093" y="1128"/>
                  </a:lnTo>
                  <a:lnTo>
                    <a:pt x="3079" y="1128"/>
                  </a:lnTo>
                  <a:lnTo>
                    <a:pt x="3079" y="1123"/>
                  </a:lnTo>
                  <a:lnTo>
                    <a:pt x="3059" y="1123"/>
                  </a:lnTo>
                  <a:lnTo>
                    <a:pt x="3059" y="1116"/>
                  </a:lnTo>
                  <a:lnTo>
                    <a:pt x="3041" y="1116"/>
                  </a:lnTo>
                  <a:lnTo>
                    <a:pt x="3041" y="1110"/>
                  </a:lnTo>
                  <a:lnTo>
                    <a:pt x="3026" y="1110"/>
                  </a:lnTo>
                  <a:lnTo>
                    <a:pt x="3026" y="1105"/>
                  </a:lnTo>
                  <a:lnTo>
                    <a:pt x="3007" y="1105"/>
                  </a:lnTo>
                  <a:lnTo>
                    <a:pt x="3007" y="1099"/>
                  </a:lnTo>
                  <a:lnTo>
                    <a:pt x="2982" y="1099"/>
                  </a:lnTo>
                  <a:lnTo>
                    <a:pt x="2982" y="1094"/>
                  </a:lnTo>
                  <a:lnTo>
                    <a:pt x="2973" y="1094"/>
                  </a:lnTo>
                  <a:lnTo>
                    <a:pt x="2973" y="1086"/>
                  </a:lnTo>
                  <a:lnTo>
                    <a:pt x="2959" y="1086"/>
                  </a:lnTo>
                  <a:lnTo>
                    <a:pt x="2959" y="1081"/>
                  </a:lnTo>
                  <a:lnTo>
                    <a:pt x="2954" y="1081"/>
                  </a:lnTo>
                  <a:lnTo>
                    <a:pt x="2954" y="1075"/>
                  </a:lnTo>
                  <a:lnTo>
                    <a:pt x="2945" y="1075"/>
                  </a:lnTo>
                  <a:lnTo>
                    <a:pt x="2945" y="1069"/>
                  </a:lnTo>
                  <a:lnTo>
                    <a:pt x="2941" y="1069"/>
                  </a:lnTo>
                  <a:lnTo>
                    <a:pt x="2941" y="1040"/>
                  </a:lnTo>
                  <a:lnTo>
                    <a:pt x="2935" y="1040"/>
                  </a:lnTo>
                  <a:lnTo>
                    <a:pt x="2935" y="1010"/>
                  </a:lnTo>
                  <a:lnTo>
                    <a:pt x="2941" y="1010"/>
                  </a:lnTo>
                  <a:lnTo>
                    <a:pt x="2941" y="993"/>
                  </a:lnTo>
                  <a:lnTo>
                    <a:pt x="2945" y="993"/>
                  </a:lnTo>
                  <a:lnTo>
                    <a:pt x="2945" y="982"/>
                  </a:lnTo>
                  <a:lnTo>
                    <a:pt x="2950" y="982"/>
                  </a:lnTo>
                  <a:lnTo>
                    <a:pt x="2950" y="963"/>
                  </a:lnTo>
                  <a:lnTo>
                    <a:pt x="2954" y="963"/>
                  </a:lnTo>
                  <a:lnTo>
                    <a:pt x="2954" y="940"/>
                  </a:lnTo>
                  <a:lnTo>
                    <a:pt x="2959" y="940"/>
                  </a:lnTo>
                  <a:lnTo>
                    <a:pt x="2959" y="899"/>
                  </a:lnTo>
                  <a:lnTo>
                    <a:pt x="2954" y="899"/>
                  </a:lnTo>
                  <a:lnTo>
                    <a:pt x="2954" y="881"/>
                  </a:lnTo>
                  <a:lnTo>
                    <a:pt x="2959" y="881"/>
                  </a:lnTo>
                  <a:lnTo>
                    <a:pt x="2959" y="863"/>
                  </a:lnTo>
                  <a:lnTo>
                    <a:pt x="2964" y="863"/>
                  </a:lnTo>
                  <a:lnTo>
                    <a:pt x="2964" y="846"/>
                  </a:lnTo>
                  <a:lnTo>
                    <a:pt x="2968" y="846"/>
                  </a:lnTo>
                  <a:lnTo>
                    <a:pt x="2968" y="827"/>
                  </a:lnTo>
                  <a:lnTo>
                    <a:pt x="2973" y="827"/>
                  </a:lnTo>
                  <a:lnTo>
                    <a:pt x="2973" y="814"/>
                  </a:lnTo>
                  <a:lnTo>
                    <a:pt x="2978" y="814"/>
                  </a:lnTo>
                  <a:lnTo>
                    <a:pt x="2978" y="798"/>
                  </a:lnTo>
                  <a:lnTo>
                    <a:pt x="2982" y="798"/>
                  </a:lnTo>
                  <a:lnTo>
                    <a:pt x="2982" y="786"/>
                  </a:lnTo>
                  <a:lnTo>
                    <a:pt x="2988" y="786"/>
                  </a:lnTo>
                  <a:lnTo>
                    <a:pt x="2988" y="768"/>
                  </a:lnTo>
                  <a:lnTo>
                    <a:pt x="2992" y="768"/>
                  </a:lnTo>
                  <a:lnTo>
                    <a:pt x="2992" y="745"/>
                  </a:lnTo>
                  <a:lnTo>
                    <a:pt x="2997" y="745"/>
                  </a:lnTo>
                  <a:lnTo>
                    <a:pt x="2997" y="703"/>
                  </a:lnTo>
                  <a:lnTo>
                    <a:pt x="3003" y="703"/>
                  </a:lnTo>
                  <a:lnTo>
                    <a:pt x="3003" y="691"/>
                  </a:lnTo>
                  <a:lnTo>
                    <a:pt x="3007" y="691"/>
                  </a:lnTo>
                  <a:lnTo>
                    <a:pt x="3007" y="673"/>
                  </a:lnTo>
                  <a:lnTo>
                    <a:pt x="2997" y="673"/>
                  </a:lnTo>
                  <a:lnTo>
                    <a:pt x="2997" y="667"/>
                  </a:lnTo>
                  <a:lnTo>
                    <a:pt x="2978" y="667"/>
                  </a:lnTo>
                  <a:lnTo>
                    <a:pt x="2978" y="662"/>
                  </a:lnTo>
                  <a:lnTo>
                    <a:pt x="2959" y="662"/>
                  </a:lnTo>
                  <a:lnTo>
                    <a:pt x="2959" y="655"/>
                  </a:lnTo>
                  <a:lnTo>
                    <a:pt x="2935" y="655"/>
                  </a:lnTo>
                  <a:lnTo>
                    <a:pt x="2935" y="650"/>
                  </a:lnTo>
                  <a:lnTo>
                    <a:pt x="2911" y="650"/>
                  </a:lnTo>
                  <a:lnTo>
                    <a:pt x="2911" y="645"/>
                  </a:lnTo>
                  <a:lnTo>
                    <a:pt x="2897" y="645"/>
                  </a:lnTo>
                  <a:lnTo>
                    <a:pt x="2897" y="637"/>
                  </a:lnTo>
                  <a:lnTo>
                    <a:pt x="2878" y="637"/>
                  </a:lnTo>
                  <a:lnTo>
                    <a:pt x="2878" y="632"/>
                  </a:lnTo>
                  <a:lnTo>
                    <a:pt x="2859" y="632"/>
                  </a:lnTo>
                  <a:lnTo>
                    <a:pt x="2859" y="626"/>
                  </a:lnTo>
                  <a:lnTo>
                    <a:pt x="2834" y="626"/>
                  </a:lnTo>
                  <a:lnTo>
                    <a:pt x="2834" y="621"/>
                  </a:lnTo>
                  <a:lnTo>
                    <a:pt x="2820" y="621"/>
                  </a:lnTo>
                  <a:lnTo>
                    <a:pt x="2820" y="614"/>
                  </a:lnTo>
                  <a:lnTo>
                    <a:pt x="2801" y="614"/>
                  </a:lnTo>
                  <a:lnTo>
                    <a:pt x="2801" y="609"/>
                  </a:lnTo>
                  <a:lnTo>
                    <a:pt x="2781" y="609"/>
                  </a:lnTo>
                  <a:lnTo>
                    <a:pt x="2781" y="602"/>
                  </a:lnTo>
                  <a:lnTo>
                    <a:pt x="2757" y="602"/>
                  </a:lnTo>
                  <a:lnTo>
                    <a:pt x="2757" y="596"/>
                  </a:lnTo>
                  <a:lnTo>
                    <a:pt x="2734" y="596"/>
                  </a:lnTo>
                  <a:lnTo>
                    <a:pt x="2734" y="591"/>
                  </a:lnTo>
                  <a:lnTo>
                    <a:pt x="2719" y="591"/>
                  </a:lnTo>
                  <a:lnTo>
                    <a:pt x="2719" y="585"/>
                  </a:lnTo>
                  <a:lnTo>
                    <a:pt x="2708" y="585"/>
                  </a:lnTo>
                  <a:lnTo>
                    <a:pt x="2708" y="579"/>
                  </a:lnTo>
                  <a:lnTo>
                    <a:pt x="2690" y="579"/>
                  </a:lnTo>
                  <a:lnTo>
                    <a:pt x="2690" y="572"/>
                  </a:lnTo>
                  <a:lnTo>
                    <a:pt x="2666" y="572"/>
                  </a:lnTo>
                  <a:lnTo>
                    <a:pt x="2666" y="567"/>
                  </a:lnTo>
                  <a:lnTo>
                    <a:pt x="2647" y="567"/>
                  </a:lnTo>
                  <a:lnTo>
                    <a:pt x="2647" y="561"/>
                  </a:lnTo>
                  <a:lnTo>
                    <a:pt x="2627" y="561"/>
                  </a:lnTo>
                  <a:lnTo>
                    <a:pt x="2627" y="555"/>
                  </a:lnTo>
                  <a:lnTo>
                    <a:pt x="2609" y="555"/>
                  </a:lnTo>
                  <a:lnTo>
                    <a:pt x="2609" y="550"/>
                  </a:lnTo>
                  <a:lnTo>
                    <a:pt x="2594" y="550"/>
                  </a:lnTo>
                  <a:lnTo>
                    <a:pt x="2594" y="544"/>
                  </a:lnTo>
                  <a:lnTo>
                    <a:pt x="2584" y="544"/>
                  </a:lnTo>
                  <a:lnTo>
                    <a:pt x="2584" y="537"/>
                  </a:lnTo>
                  <a:lnTo>
                    <a:pt x="2566" y="537"/>
                  </a:lnTo>
                  <a:lnTo>
                    <a:pt x="2566" y="531"/>
                  </a:lnTo>
                  <a:lnTo>
                    <a:pt x="2541" y="531"/>
                  </a:lnTo>
                  <a:lnTo>
                    <a:pt x="2541" y="526"/>
                  </a:lnTo>
                  <a:lnTo>
                    <a:pt x="2517" y="526"/>
                  </a:lnTo>
                  <a:lnTo>
                    <a:pt x="2517" y="520"/>
                  </a:lnTo>
                  <a:lnTo>
                    <a:pt x="2498" y="520"/>
                  </a:lnTo>
                  <a:lnTo>
                    <a:pt x="2498" y="514"/>
                  </a:lnTo>
                  <a:lnTo>
                    <a:pt x="2479" y="514"/>
                  </a:lnTo>
                  <a:lnTo>
                    <a:pt x="2479" y="509"/>
                  </a:lnTo>
                  <a:lnTo>
                    <a:pt x="2464" y="509"/>
                  </a:lnTo>
                  <a:lnTo>
                    <a:pt x="2464" y="502"/>
                  </a:lnTo>
                  <a:lnTo>
                    <a:pt x="2454" y="502"/>
                  </a:lnTo>
                  <a:lnTo>
                    <a:pt x="2454" y="496"/>
                  </a:lnTo>
                  <a:lnTo>
                    <a:pt x="2445" y="496"/>
                  </a:lnTo>
                  <a:lnTo>
                    <a:pt x="2445" y="490"/>
                  </a:lnTo>
                  <a:lnTo>
                    <a:pt x="2431" y="490"/>
                  </a:lnTo>
                  <a:lnTo>
                    <a:pt x="2431" y="485"/>
                  </a:lnTo>
                  <a:lnTo>
                    <a:pt x="2416" y="485"/>
                  </a:lnTo>
                  <a:lnTo>
                    <a:pt x="2416" y="479"/>
                  </a:lnTo>
                  <a:lnTo>
                    <a:pt x="2402" y="479"/>
                  </a:lnTo>
                  <a:lnTo>
                    <a:pt x="2402" y="473"/>
                  </a:lnTo>
                  <a:lnTo>
                    <a:pt x="2387" y="473"/>
                  </a:lnTo>
                  <a:lnTo>
                    <a:pt x="2387" y="468"/>
                  </a:lnTo>
                  <a:lnTo>
                    <a:pt x="2373" y="468"/>
                  </a:lnTo>
                  <a:lnTo>
                    <a:pt x="2373" y="460"/>
                  </a:lnTo>
                  <a:lnTo>
                    <a:pt x="2359" y="460"/>
                  </a:lnTo>
                  <a:lnTo>
                    <a:pt x="2359" y="455"/>
                  </a:lnTo>
                  <a:lnTo>
                    <a:pt x="2350" y="455"/>
                  </a:lnTo>
                  <a:lnTo>
                    <a:pt x="2350" y="449"/>
                  </a:lnTo>
                  <a:lnTo>
                    <a:pt x="2334" y="449"/>
                  </a:lnTo>
                  <a:lnTo>
                    <a:pt x="2334" y="444"/>
                  </a:lnTo>
                  <a:lnTo>
                    <a:pt x="2320" y="444"/>
                  </a:lnTo>
                  <a:lnTo>
                    <a:pt x="2320" y="436"/>
                  </a:lnTo>
                  <a:lnTo>
                    <a:pt x="2310" y="436"/>
                  </a:lnTo>
                  <a:lnTo>
                    <a:pt x="2310" y="431"/>
                  </a:lnTo>
                  <a:lnTo>
                    <a:pt x="2301" y="431"/>
                  </a:lnTo>
                  <a:lnTo>
                    <a:pt x="2301" y="426"/>
                  </a:lnTo>
                  <a:lnTo>
                    <a:pt x="2282" y="426"/>
                  </a:lnTo>
                  <a:lnTo>
                    <a:pt x="2282" y="419"/>
                  </a:lnTo>
                  <a:lnTo>
                    <a:pt x="2272" y="419"/>
                  </a:lnTo>
                  <a:lnTo>
                    <a:pt x="2272" y="414"/>
                  </a:lnTo>
                  <a:lnTo>
                    <a:pt x="2262" y="414"/>
                  </a:lnTo>
                  <a:lnTo>
                    <a:pt x="2262" y="408"/>
                  </a:lnTo>
                  <a:lnTo>
                    <a:pt x="2248" y="408"/>
                  </a:lnTo>
                  <a:lnTo>
                    <a:pt x="2248" y="401"/>
                  </a:lnTo>
                  <a:lnTo>
                    <a:pt x="2239" y="401"/>
                  </a:lnTo>
                  <a:lnTo>
                    <a:pt x="2239" y="395"/>
                  </a:lnTo>
                  <a:lnTo>
                    <a:pt x="2225" y="395"/>
                  </a:lnTo>
                  <a:lnTo>
                    <a:pt x="2225" y="390"/>
                  </a:lnTo>
                  <a:lnTo>
                    <a:pt x="2210" y="390"/>
                  </a:lnTo>
                  <a:lnTo>
                    <a:pt x="2210" y="384"/>
                  </a:lnTo>
                  <a:lnTo>
                    <a:pt x="2199" y="384"/>
                  </a:lnTo>
                  <a:lnTo>
                    <a:pt x="2199" y="378"/>
                  </a:lnTo>
                  <a:lnTo>
                    <a:pt x="2181" y="378"/>
                  </a:lnTo>
                  <a:lnTo>
                    <a:pt x="2181" y="373"/>
                  </a:lnTo>
                  <a:lnTo>
                    <a:pt x="2166" y="373"/>
                  </a:lnTo>
                  <a:lnTo>
                    <a:pt x="2166" y="366"/>
                  </a:lnTo>
                  <a:lnTo>
                    <a:pt x="2147" y="366"/>
                  </a:lnTo>
                  <a:lnTo>
                    <a:pt x="2147" y="360"/>
                  </a:lnTo>
                  <a:lnTo>
                    <a:pt x="2128" y="360"/>
                  </a:lnTo>
                  <a:lnTo>
                    <a:pt x="2128" y="354"/>
                  </a:lnTo>
                  <a:lnTo>
                    <a:pt x="2103" y="354"/>
                  </a:lnTo>
                  <a:lnTo>
                    <a:pt x="2103" y="349"/>
                  </a:lnTo>
                  <a:lnTo>
                    <a:pt x="2085" y="349"/>
                  </a:lnTo>
                  <a:lnTo>
                    <a:pt x="2085" y="341"/>
                  </a:lnTo>
                  <a:lnTo>
                    <a:pt x="2055" y="341"/>
                  </a:lnTo>
                  <a:lnTo>
                    <a:pt x="2055" y="336"/>
                  </a:lnTo>
                  <a:lnTo>
                    <a:pt x="2036" y="336"/>
                  </a:lnTo>
                  <a:lnTo>
                    <a:pt x="2036" y="330"/>
                  </a:lnTo>
                  <a:lnTo>
                    <a:pt x="2027" y="330"/>
                  </a:lnTo>
                  <a:lnTo>
                    <a:pt x="2027" y="325"/>
                  </a:lnTo>
                  <a:lnTo>
                    <a:pt x="2018" y="325"/>
                  </a:lnTo>
                  <a:lnTo>
                    <a:pt x="2018" y="319"/>
                  </a:lnTo>
                  <a:lnTo>
                    <a:pt x="1999" y="319"/>
                  </a:lnTo>
                  <a:lnTo>
                    <a:pt x="1999" y="313"/>
                  </a:lnTo>
                  <a:lnTo>
                    <a:pt x="1974" y="313"/>
                  </a:lnTo>
                  <a:lnTo>
                    <a:pt x="1974" y="308"/>
                  </a:lnTo>
                  <a:lnTo>
                    <a:pt x="1959" y="308"/>
                  </a:lnTo>
                  <a:lnTo>
                    <a:pt x="1959" y="300"/>
                  </a:lnTo>
                  <a:lnTo>
                    <a:pt x="1950" y="300"/>
                  </a:lnTo>
                  <a:lnTo>
                    <a:pt x="1950" y="295"/>
                  </a:lnTo>
                  <a:lnTo>
                    <a:pt x="1918" y="295"/>
                  </a:lnTo>
                  <a:lnTo>
                    <a:pt x="1918" y="289"/>
                  </a:lnTo>
                  <a:lnTo>
                    <a:pt x="1902" y="289"/>
                  </a:lnTo>
                  <a:lnTo>
                    <a:pt x="1902" y="283"/>
                  </a:lnTo>
                  <a:lnTo>
                    <a:pt x="1888" y="283"/>
                  </a:lnTo>
                  <a:lnTo>
                    <a:pt x="1888" y="278"/>
                  </a:lnTo>
                  <a:lnTo>
                    <a:pt x="1878" y="278"/>
                  </a:lnTo>
                  <a:lnTo>
                    <a:pt x="1878" y="272"/>
                  </a:lnTo>
                  <a:lnTo>
                    <a:pt x="1864" y="272"/>
                  </a:lnTo>
                  <a:lnTo>
                    <a:pt x="1864" y="267"/>
                  </a:lnTo>
                  <a:lnTo>
                    <a:pt x="1841" y="267"/>
                  </a:lnTo>
                  <a:lnTo>
                    <a:pt x="1841" y="259"/>
                  </a:lnTo>
                  <a:lnTo>
                    <a:pt x="1825" y="259"/>
                  </a:lnTo>
                  <a:lnTo>
                    <a:pt x="1825" y="254"/>
                  </a:lnTo>
                  <a:lnTo>
                    <a:pt x="1801" y="254"/>
                  </a:lnTo>
                  <a:lnTo>
                    <a:pt x="1801" y="248"/>
                  </a:lnTo>
                  <a:lnTo>
                    <a:pt x="1788" y="248"/>
                  </a:lnTo>
                  <a:lnTo>
                    <a:pt x="1788" y="242"/>
                  </a:lnTo>
                  <a:lnTo>
                    <a:pt x="1767" y="242"/>
                  </a:lnTo>
                  <a:lnTo>
                    <a:pt x="1767" y="235"/>
                  </a:lnTo>
                  <a:lnTo>
                    <a:pt x="1748" y="235"/>
                  </a:lnTo>
                  <a:lnTo>
                    <a:pt x="1748" y="230"/>
                  </a:lnTo>
                  <a:lnTo>
                    <a:pt x="1729" y="230"/>
                  </a:lnTo>
                  <a:lnTo>
                    <a:pt x="1729" y="224"/>
                  </a:lnTo>
                  <a:lnTo>
                    <a:pt x="1706" y="224"/>
                  </a:lnTo>
                  <a:lnTo>
                    <a:pt x="1706" y="218"/>
                  </a:lnTo>
                  <a:lnTo>
                    <a:pt x="1695" y="218"/>
                  </a:lnTo>
                  <a:lnTo>
                    <a:pt x="1695" y="213"/>
                  </a:lnTo>
                  <a:lnTo>
                    <a:pt x="1681" y="213"/>
                  </a:lnTo>
                  <a:lnTo>
                    <a:pt x="1681" y="207"/>
                  </a:lnTo>
                  <a:lnTo>
                    <a:pt x="1657" y="207"/>
                  </a:lnTo>
                  <a:lnTo>
                    <a:pt x="1657" y="200"/>
                  </a:lnTo>
                  <a:lnTo>
                    <a:pt x="1643" y="200"/>
                  </a:lnTo>
                  <a:lnTo>
                    <a:pt x="1643" y="194"/>
                  </a:lnTo>
                  <a:lnTo>
                    <a:pt x="1634" y="194"/>
                  </a:lnTo>
                  <a:lnTo>
                    <a:pt x="1634" y="189"/>
                  </a:lnTo>
                  <a:lnTo>
                    <a:pt x="1595" y="189"/>
                  </a:lnTo>
                  <a:lnTo>
                    <a:pt x="1595" y="182"/>
                  </a:lnTo>
                  <a:lnTo>
                    <a:pt x="1571" y="182"/>
                  </a:lnTo>
                  <a:lnTo>
                    <a:pt x="1571" y="177"/>
                  </a:lnTo>
                  <a:lnTo>
                    <a:pt x="1552" y="177"/>
                  </a:lnTo>
                  <a:lnTo>
                    <a:pt x="1552" y="172"/>
                  </a:lnTo>
                  <a:lnTo>
                    <a:pt x="1518" y="172"/>
                  </a:lnTo>
                  <a:lnTo>
                    <a:pt x="1518" y="164"/>
                  </a:lnTo>
                  <a:lnTo>
                    <a:pt x="1508" y="164"/>
                  </a:lnTo>
                  <a:lnTo>
                    <a:pt x="1508" y="159"/>
                  </a:lnTo>
                  <a:lnTo>
                    <a:pt x="1490" y="159"/>
                  </a:lnTo>
                  <a:lnTo>
                    <a:pt x="1490" y="153"/>
                  </a:lnTo>
                  <a:lnTo>
                    <a:pt x="1451" y="153"/>
                  </a:lnTo>
                  <a:lnTo>
                    <a:pt x="1451" y="148"/>
                  </a:lnTo>
                  <a:lnTo>
                    <a:pt x="1431" y="148"/>
                  </a:lnTo>
                  <a:lnTo>
                    <a:pt x="1431" y="141"/>
                  </a:lnTo>
                  <a:lnTo>
                    <a:pt x="1413" y="141"/>
                  </a:lnTo>
                  <a:lnTo>
                    <a:pt x="1413" y="136"/>
                  </a:lnTo>
                  <a:lnTo>
                    <a:pt x="1383" y="136"/>
                  </a:lnTo>
                  <a:lnTo>
                    <a:pt x="1383" y="131"/>
                  </a:lnTo>
                  <a:lnTo>
                    <a:pt x="1360" y="131"/>
                  </a:lnTo>
                  <a:lnTo>
                    <a:pt x="1360" y="123"/>
                  </a:lnTo>
                  <a:lnTo>
                    <a:pt x="1336" y="123"/>
                  </a:lnTo>
                  <a:lnTo>
                    <a:pt x="1336" y="118"/>
                  </a:lnTo>
                  <a:lnTo>
                    <a:pt x="1264" y="118"/>
                  </a:lnTo>
                  <a:lnTo>
                    <a:pt x="1264" y="113"/>
                  </a:lnTo>
                  <a:lnTo>
                    <a:pt x="1220" y="113"/>
                  </a:lnTo>
                  <a:lnTo>
                    <a:pt x="1220" y="106"/>
                  </a:lnTo>
                  <a:lnTo>
                    <a:pt x="1202" y="106"/>
                  </a:lnTo>
                  <a:lnTo>
                    <a:pt x="1202" y="101"/>
                  </a:lnTo>
                  <a:lnTo>
                    <a:pt x="1172" y="101"/>
                  </a:lnTo>
                  <a:lnTo>
                    <a:pt x="1172" y="94"/>
                  </a:lnTo>
                  <a:lnTo>
                    <a:pt x="1139" y="94"/>
                  </a:lnTo>
                  <a:lnTo>
                    <a:pt x="1139" y="88"/>
                  </a:lnTo>
                  <a:lnTo>
                    <a:pt x="1105" y="88"/>
                  </a:lnTo>
                  <a:lnTo>
                    <a:pt x="1105" y="82"/>
                  </a:lnTo>
                  <a:lnTo>
                    <a:pt x="1053" y="82"/>
                  </a:lnTo>
                  <a:lnTo>
                    <a:pt x="1053" y="77"/>
                  </a:lnTo>
                  <a:lnTo>
                    <a:pt x="1028" y="77"/>
                  </a:lnTo>
                  <a:lnTo>
                    <a:pt x="1028" y="82"/>
                  </a:lnTo>
                  <a:lnTo>
                    <a:pt x="1013" y="82"/>
                  </a:lnTo>
                  <a:lnTo>
                    <a:pt x="1013" y="77"/>
                  </a:lnTo>
                  <a:lnTo>
                    <a:pt x="1009" y="77"/>
                  </a:lnTo>
                  <a:lnTo>
                    <a:pt x="1009" y="64"/>
                  </a:lnTo>
                  <a:lnTo>
                    <a:pt x="990" y="64"/>
                  </a:lnTo>
                  <a:lnTo>
                    <a:pt x="990" y="71"/>
                  </a:lnTo>
                  <a:lnTo>
                    <a:pt x="976" y="71"/>
                  </a:lnTo>
                  <a:lnTo>
                    <a:pt x="976" y="77"/>
                  </a:lnTo>
                  <a:lnTo>
                    <a:pt x="946" y="77"/>
                  </a:lnTo>
                  <a:lnTo>
                    <a:pt x="946" y="82"/>
                  </a:lnTo>
                  <a:lnTo>
                    <a:pt x="942" y="82"/>
                  </a:lnTo>
                  <a:lnTo>
                    <a:pt x="942" y="88"/>
                  </a:lnTo>
                  <a:lnTo>
                    <a:pt x="932" y="88"/>
                  </a:lnTo>
                  <a:lnTo>
                    <a:pt x="932" y="94"/>
                  </a:lnTo>
                  <a:lnTo>
                    <a:pt x="923" y="94"/>
                  </a:lnTo>
                  <a:lnTo>
                    <a:pt x="923" y="101"/>
                  </a:lnTo>
                  <a:lnTo>
                    <a:pt x="913" y="101"/>
                  </a:lnTo>
                  <a:lnTo>
                    <a:pt x="913" y="106"/>
                  </a:lnTo>
                  <a:lnTo>
                    <a:pt x="909" y="106"/>
                  </a:lnTo>
                  <a:lnTo>
                    <a:pt x="909" y="118"/>
                  </a:lnTo>
                  <a:lnTo>
                    <a:pt x="898" y="118"/>
                  </a:lnTo>
                  <a:lnTo>
                    <a:pt x="898" y="123"/>
                  </a:lnTo>
                  <a:lnTo>
                    <a:pt x="888" y="123"/>
                  </a:lnTo>
                  <a:lnTo>
                    <a:pt x="888" y="131"/>
                  </a:lnTo>
                  <a:lnTo>
                    <a:pt x="884" y="131"/>
                  </a:lnTo>
                  <a:lnTo>
                    <a:pt x="884" y="136"/>
                  </a:lnTo>
                  <a:lnTo>
                    <a:pt x="879" y="136"/>
                  </a:lnTo>
                  <a:lnTo>
                    <a:pt x="879" y="141"/>
                  </a:lnTo>
                  <a:lnTo>
                    <a:pt x="875" y="141"/>
                  </a:lnTo>
                  <a:lnTo>
                    <a:pt x="875" y="148"/>
                  </a:lnTo>
                  <a:lnTo>
                    <a:pt x="869" y="148"/>
                  </a:lnTo>
                  <a:lnTo>
                    <a:pt x="869" y="153"/>
                  </a:lnTo>
                  <a:lnTo>
                    <a:pt x="865" y="153"/>
                  </a:lnTo>
                  <a:lnTo>
                    <a:pt x="865" y="159"/>
                  </a:lnTo>
                  <a:lnTo>
                    <a:pt x="861" y="159"/>
                  </a:lnTo>
                  <a:lnTo>
                    <a:pt x="861" y="164"/>
                  </a:lnTo>
                  <a:lnTo>
                    <a:pt x="855" y="164"/>
                  </a:lnTo>
                  <a:lnTo>
                    <a:pt x="855" y="172"/>
                  </a:lnTo>
                  <a:lnTo>
                    <a:pt x="851" y="172"/>
                  </a:lnTo>
                  <a:lnTo>
                    <a:pt x="851" y="177"/>
                  </a:lnTo>
                  <a:lnTo>
                    <a:pt x="846" y="177"/>
                  </a:lnTo>
                  <a:lnTo>
                    <a:pt x="846" y="182"/>
                  </a:lnTo>
                  <a:lnTo>
                    <a:pt x="841" y="182"/>
                  </a:lnTo>
                  <a:lnTo>
                    <a:pt x="841" y="189"/>
                  </a:lnTo>
                  <a:lnTo>
                    <a:pt x="836" y="189"/>
                  </a:lnTo>
                  <a:lnTo>
                    <a:pt x="836" y="200"/>
                  </a:lnTo>
                  <a:lnTo>
                    <a:pt x="827" y="200"/>
                  </a:lnTo>
                  <a:lnTo>
                    <a:pt x="827" y="213"/>
                  </a:lnTo>
                  <a:lnTo>
                    <a:pt x="821" y="213"/>
                  </a:lnTo>
                  <a:lnTo>
                    <a:pt x="821" y="218"/>
                  </a:lnTo>
                  <a:lnTo>
                    <a:pt x="817" y="218"/>
                  </a:lnTo>
                  <a:lnTo>
                    <a:pt x="817" y="224"/>
                  </a:lnTo>
                  <a:lnTo>
                    <a:pt x="812" y="224"/>
                  </a:lnTo>
                  <a:lnTo>
                    <a:pt x="812" y="230"/>
                  </a:lnTo>
                  <a:lnTo>
                    <a:pt x="807" y="230"/>
                  </a:lnTo>
                  <a:lnTo>
                    <a:pt x="807" y="235"/>
                  </a:lnTo>
                  <a:lnTo>
                    <a:pt x="802" y="235"/>
                  </a:lnTo>
                  <a:lnTo>
                    <a:pt x="802" y="248"/>
                  </a:lnTo>
                  <a:lnTo>
                    <a:pt x="798" y="248"/>
                  </a:lnTo>
                  <a:lnTo>
                    <a:pt x="798" y="259"/>
                  </a:lnTo>
                  <a:lnTo>
                    <a:pt x="793" y="259"/>
                  </a:lnTo>
                  <a:lnTo>
                    <a:pt x="793" y="272"/>
                  </a:lnTo>
                  <a:lnTo>
                    <a:pt x="788" y="272"/>
                  </a:lnTo>
                  <a:lnTo>
                    <a:pt x="788" y="283"/>
                  </a:lnTo>
                  <a:lnTo>
                    <a:pt x="783" y="283"/>
                  </a:lnTo>
                  <a:lnTo>
                    <a:pt x="783" y="289"/>
                  </a:lnTo>
                  <a:lnTo>
                    <a:pt x="779" y="289"/>
                  </a:lnTo>
                  <a:lnTo>
                    <a:pt x="779" y="295"/>
                  </a:lnTo>
                  <a:lnTo>
                    <a:pt x="774" y="295"/>
                  </a:lnTo>
                  <a:lnTo>
                    <a:pt x="774" y="308"/>
                  </a:lnTo>
                  <a:lnTo>
                    <a:pt x="769" y="308"/>
                  </a:lnTo>
                  <a:lnTo>
                    <a:pt x="769" y="313"/>
                  </a:lnTo>
                  <a:lnTo>
                    <a:pt x="765" y="313"/>
                  </a:lnTo>
                  <a:lnTo>
                    <a:pt x="765" y="325"/>
                  </a:lnTo>
                  <a:lnTo>
                    <a:pt x="759" y="325"/>
                  </a:lnTo>
                  <a:lnTo>
                    <a:pt x="759" y="336"/>
                  </a:lnTo>
                  <a:lnTo>
                    <a:pt x="755" y="336"/>
                  </a:lnTo>
                  <a:lnTo>
                    <a:pt x="755" y="349"/>
                  </a:lnTo>
                  <a:lnTo>
                    <a:pt x="749" y="349"/>
                  </a:lnTo>
                  <a:lnTo>
                    <a:pt x="749" y="360"/>
                  </a:lnTo>
                  <a:lnTo>
                    <a:pt x="744" y="360"/>
                  </a:lnTo>
                  <a:lnTo>
                    <a:pt x="744" y="373"/>
                  </a:lnTo>
                  <a:lnTo>
                    <a:pt x="739" y="373"/>
                  </a:lnTo>
                  <a:lnTo>
                    <a:pt x="739" y="384"/>
                  </a:lnTo>
                  <a:lnTo>
                    <a:pt x="735" y="384"/>
                  </a:lnTo>
                  <a:lnTo>
                    <a:pt x="735" y="395"/>
                  </a:lnTo>
                  <a:lnTo>
                    <a:pt x="731" y="395"/>
                  </a:lnTo>
                  <a:lnTo>
                    <a:pt x="731" y="408"/>
                  </a:lnTo>
                  <a:lnTo>
                    <a:pt x="725" y="408"/>
                  </a:lnTo>
                  <a:lnTo>
                    <a:pt x="725" y="431"/>
                  </a:lnTo>
                  <a:lnTo>
                    <a:pt x="721" y="431"/>
                  </a:lnTo>
                  <a:lnTo>
                    <a:pt x="721" y="444"/>
                  </a:lnTo>
                  <a:lnTo>
                    <a:pt x="716" y="444"/>
                  </a:lnTo>
                  <a:lnTo>
                    <a:pt x="716" y="449"/>
                  </a:lnTo>
                  <a:lnTo>
                    <a:pt x="711" y="449"/>
                  </a:lnTo>
                  <a:lnTo>
                    <a:pt x="711" y="468"/>
                  </a:lnTo>
                  <a:lnTo>
                    <a:pt x="706" y="468"/>
                  </a:lnTo>
                  <a:lnTo>
                    <a:pt x="706" y="479"/>
                  </a:lnTo>
                  <a:lnTo>
                    <a:pt x="702" y="479"/>
                  </a:lnTo>
                  <a:lnTo>
                    <a:pt x="702" y="490"/>
                  </a:lnTo>
                  <a:lnTo>
                    <a:pt x="697" y="490"/>
                  </a:lnTo>
                  <a:lnTo>
                    <a:pt x="697" y="496"/>
                  </a:lnTo>
                  <a:lnTo>
                    <a:pt x="692" y="496"/>
                  </a:lnTo>
                  <a:lnTo>
                    <a:pt x="692" y="514"/>
                  </a:lnTo>
                  <a:lnTo>
                    <a:pt x="688" y="514"/>
                  </a:lnTo>
                  <a:lnTo>
                    <a:pt x="688" y="531"/>
                  </a:lnTo>
                  <a:lnTo>
                    <a:pt x="683" y="531"/>
                  </a:lnTo>
                  <a:lnTo>
                    <a:pt x="683" y="544"/>
                  </a:lnTo>
                  <a:lnTo>
                    <a:pt x="677" y="544"/>
                  </a:lnTo>
                  <a:lnTo>
                    <a:pt x="677" y="555"/>
                  </a:lnTo>
                  <a:lnTo>
                    <a:pt x="672" y="555"/>
                  </a:lnTo>
                  <a:lnTo>
                    <a:pt x="672" y="567"/>
                  </a:lnTo>
                  <a:lnTo>
                    <a:pt x="668" y="567"/>
                  </a:lnTo>
                  <a:lnTo>
                    <a:pt x="668" y="579"/>
                  </a:lnTo>
                  <a:lnTo>
                    <a:pt x="662" y="579"/>
                  </a:lnTo>
                  <a:lnTo>
                    <a:pt x="662" y="591"/>
                  </a:lnTo>
                  <a:lnTo>
                    <a:pt x="658" y="591"/>
                  </a:lnTo>
                  <a:lnTo>
                    <a:pt x="658" y="596"/>
                  </a:lnTo>
                  <a:lnTo>
                    <a:pt x="654" y="596"/>
                  </a:lnTo>
                  <a:lnTo>
                    <a:pt x="654" y="609"/>
                  </a:lnTo>
                  <a:lnTo>
                    <a:pt x="648" y="609"/>
                  </a:lnTo>
                  <a:lnTo>
                    <a:pt x="648" y="621"/>
                  </a:lnTo>
                  <a:lnTo>
                    <a:pt x="644" y="621"/>
                  </a:lnTo>
                  <a:lnTo>
                    <a:pt x="644" y="626"/>
                  </a:lnTo>
                  <a:lnTo>
                    <a:pt x="639" y="626"/>
                  </a:lnTo>
                  <a:lnTo>
                    <a:pt x="639" y="645"/>
                  </a:lnTo>
                  <a:lnTo>
                    <a:pt x="635" y="645"/>
                  </a:lnTo>
                  <a:lnTo>
                    <a:pt x="635" y="650"/>
                  </a:lnTo>
                  <a:lnTo>
                    <a:pt x="629" y="650"/>
                  </a:lnTo>
                  <a:lnTo>
                    <a:pt x="629" y="662"/>
                  </a:lnTo>
                  <a:lnTo>
                    <a:pt x="625" y="662"/>
                  </a:lnTo>
                  <a:lnTo>
                    <a:pt x="625" y="673"/>
                  </a:lnTo>
                  <a:lnTo>
                    <a:pt x="620" y="673"/>
                  </a:lnTo>
                  <a:lnTo>
                    <a:pt x="620" y="691"/>
                  </a:lnTo>
                  <a:lnTo>
                    <a:pt x="615" y="691"/>
                  </a:lnTo>
                  <a:lnTo>
                    <a:pt x="615" y="697"/>
                  </a:lnTo>
                  <a:lnTo>
                    <a:pt x="611" y="697"/>
                  </a:lnTo>
                  <a:lnTo>
                    <a:pt x="611" y="708"/>
                  </a:lnTo>
                  <a:lnTo>
                    <a:pt x="605" y="708"/>
                  </a:lnTo>
                  <a:lnTo>
                    <a:pt x="605" y="721"/>
                  </a:lnTo>
                  <a:lnTo>
                    <a:pt x="600" y="721"/>
                  </a:lnTo>
                  <a:lnTo>
                    <a:pt x="600" y="732"/>
                  </a:lnTo>
                  <a:lnTo>
                    <a:pt x="595" y="732"/>
                  </a:lnTo>
                  <a:lnTo>
                    <a:pt x="595" y="745"/>
                  </a:lnTo>
                  <a:lnTo>
                    <a:pt x="591" y="745"/>
                  </a:lnTo>
                  <a:lnTo>
                    <a:pt x="591" y="756"/>
                  </a:lnTo>
                  <a:lnTo>
                    <a:pt x="586" y="756"/>
                  </a:lnTo>
                  <a:lnTo>
                    <a:pt x="586" y="773"/>
                  </a:lnTo>
                  <a:lnTo>
                    <a:pt x="581" y="773"/>
                  </a:lnTo>
                  <a:lnTo>
                    <a:pt x="581" y="792"/>
                  </a:lnTo>
                  <a:lnTo>
                    <a:pt x="576" y="792"/>
                  </a:lnTo>
                  <a:lnTo>
                    <a:pt x="576" y="822"/>
                  </a:lnTo>
                  <a:lnTo>
                    <a:pt x="572" y="822"/>
                  </a:lnTo>
                  <a:lnTo>
                    <a:pt x="572" y="827"/>
                  </a:lnTo>
                  <a:lnTo>
                    <a:pt x="567" y="827"/>
                  </a:lnTo>
                  <a:lnTo>
                    <a:pt x="567" y="846"/>
                  </a:lnTo>
                  <a:lnTo>
                    <a:pt x="563" y="846"/>
                  </a:lnTo>
                  <a:lnTo>
                    <a:pt x="563" y="863"/>
                  </a:lnTo>
                  <a:lnTo>
                    <a:pt x="558" y="863"/>
                  </a:lnTo>
                  <a:lnTo>
                    <a:pt x="558" y="868"/>
                  </a:lnTo>
                  <a:lnTo>
                    <a:pt x="553" y="868"/>
                  </a:lnTo>
                  <a:lnTo>
                    <a:pt x="553" y="874"/>
                  </a:lnTo>
                  <a:lnTo>
                    <a:pt x="548" y="874"/>
                  </a:lnTo>
                  <a:lnTo>
                    <a:pt x="548" y="892"/>
                  </a:lnTo>
                  <a:lnTo>
                    <a:pt x="544" y="892"/>
                  </a:lnTo>
                  <a:lnTo>
                    <a:pt x="544" y="909"/>
                  </a:lnTo>
                  <a:lnTo>
                    <a:pt x="539" y="909"/>
                  </a:lnTo>
                  <a:lnTo>
                    <a:pt x="539" y="917"/>
                  </a:lnTo>
                  <a:lnTo>
                    <a:pt x="533" y="917"/>
                  </a:lnTo>
                  <a:lnTo>
                    <a:pt x="533" y="940"/>
                  </a:lnTo>
                  <a:lnTo>
                    <a:pt x="528" y="940"/>
                  </a:lnTo>
                  <a:lnTo>
                    <a:pt x="528" y="945"/>
                  </a:lnTo>
                  <a:lnTo>
                    <a:pt x="524" y="945"/>
                  </a:lnTo>
                  <a:lnTo>
                    <a:pt x="524" y="958"/>
                  </a:lnTo>
                  <a:lnTo>
                    <a:pt x="519" y="958"/>
                  </a:lnTo>
                  <a:lnTo>
                    <a:pt x="519" y="963"/>
                  </a:lnTo>
                  <a:lnTo>
                    <a:pt x="514" y="963"/>
                  </a:lnTo>
                  <a:lnTo>
                    <a:pt x="514" y="982"/>
                  </a:lnTo>
                  <a:lnTo>
                    <a:pt x="510" y="982"/>
                  </a:lnTo>
                  <a:lnTo>
                    <a:pt x="510" y="993"/>
                  </a:lnTo>
                  <a:lnTo>
                    <a:pt x="504" y="993"/>
                  </a:lnTo>
                  <a:lnTo>
                    <a:pt x="504" y="999"/>
                  </a:lnTo>
                  <a:lnTo>
                    <a:pt x="500" y="999"/>
                  </a:lnTo>
                  <a:lnTo>
                    <a:pt x="500" y="1010"/>
                  </a:lnTo>
                  <a:lnTo>
                    <a:pt x="495" y="1010"/>
                  </a:lnTo>
                  <a:lnTo>
                    <a:pt x="495" y="1028"/>
                  </a:lnTo>
                  <a:lnTo>
                    <a:pt x="491" y="1028"/>
                  </a:lnTo>
                  <a:lnTo>
                    <a:pt x="491" y="1045"/>
                  </a:lnTo>
                  <a:lnTo>
                    <a:pt x="485" y="1045"/>
                  </a:lnTo>
                  <a:lnTo>
                    <a:pt x="485" y="1069"/>
                  </a:lnTo>
                  <a:lnTo>
                    <a:pt x="481" y="1069"/>
                  </a:lnTo>
                  <a:lnTo>
                    <a:pt x="481" y="1081"/>
                  </a:lnTo>
                  <a:lnTo>
                    <a:pt x="477" y="1081"/>
                  </a:lnTo>
                  <a:lnTo>
                    <a:pt x="477" y="1110"/>
                  </a:lnTo>
                  <a:lnTo>
                    <a:pt x="471" y="1110"/>
                  </a:lnTo>
                  <a:lnTo>
                    <a:pt x="471" y="1135"/>
                  </a:lnTo>
                  <a:lnTo>
                    <a:pt x="467" y="1135"/>
                  </a:lnTo>
                  <a:lnTo>
                    <a:pt x="467" y="1140"/>
                  </a:lnTo>
                  <a:lnTo>
                    <a:pt x="461" y="1140"/>
                  </a:lnTo>
                  <a:lnTo>
                    <a:pt x="461" y="1170"/>
                  </a:lnTo>
                  <a:lnTo>
                    <a:pt x="456" y="1170"/>
                  </a:lnTo>
                  <a:lnTo>
                    <a:pt x="456" y="1176"/>
                  </a:lnTo>
                  <a:lnTo>
                    <a:pt x="451" y="1176"/>
                  </a:lnTo>
                  <a:lnTo>
                    <a:pt x="451" y="1194"/>
                  </a:lnTo>
                  <a:lnTo>
                    <a:pt x="447" y="1194"/>
                  </a:lnTo>
                  <a:lnTo>
                    <a:pt x="447" y="1212"/>
                  </a:lnTo>
                  <a:lnTo>
                    <a:pt x="442" y="1212"/>
                  </a:lnTo>
                  <a:lnTo>
                    <a:pt x="442" y="1229"/>
                  </a:lnTo>
                  <a:lnTo>
                    <a:pt x="437" y="1229"/>
                  </a:lnTo>
                  <a:lnTo>
                    <a:pt x="437" y="1241"/>
                  </a:lnTo>
                  <a:lnTo>
                    <a:pt x="433" y="1241"/>
                  </a:lnTo>
                  <a:lnTo>
                    <a:pt x="433" y="1254"/>
                  </a:lnTo>
                  <a:lnTo>
                    <a:pt x="428" y="1254"/>
                  </a:lnTo>
                  <a:lnTo>
                    <a:pt x="428" y="1265"/>
                  </a:lnTo>
                  <a:lnTo>
                    <a:pt x="423" y="1265"/>
                  </a:lnTo>
                  <a:lnTo>
                    <a:pt x="423" y="1276"/>
                  </a:lnTo>
                  <a:lnTo>
                    <a:pt x="418" y="1276"/>
                  </a:lnTo>
                  <a:lnTo>
                    <a:pt x="418" y="1300"/>
                  </a:lnTo>
                  <a:lnTo>
                    <a:pt x="414" y="1300"/>
                  </a:lnTo>
                  <a:lnTo>
                    <a:pt x="414" y="1317"/>
                  </a:lnTo>
                  <a:lnTo>
                    <a:pt x="409" y="1317"/>
                  </a:lnTo>
                  <a:lnTo>
                    <a:pt x="409" y="1341"/>
                  </a:lnTo>
                  <a:lnTo>
                    <a:pt x="404" y="1341"/>
                  </a:lnTo>
                  <a:lnTo>
                    <a:pt x="404" y="1360"/>
                  </a:lnTo>
                  <a:lnTo>
                    <a:pt x="400" y="1360"/>
                  </a:lnTo>
                  <a:lnTo>
                    <a:pt x="400" y="1390"/>
                  </a:lnTo>
                  <a:lnTo>
                    <a:pt x="395" y="1390"/>
                  </a:lnTo>
                  <a:lnTo>
                    <a:pt x="395" y="1401"/>
                  </a:lnTo>
                  <a:lnTo>
                    <a:pt x="389" y="1401"/>
                  </a:lnTo>
                  <a:lnTo>
                    <a:pt x="389" y="1412"/>
                  </a:lnTo>
                  <a:lnTo>
                    <a:pt x="384" y="1412"/>
                  </a:lnTo>
                  <a:lnTo>
                    <a:pt x="384" y="1431"/>
                  </a:lnTo>
                  <a:lnTo>
                    <a:pt x="380" y="1431"/>
                  </a:lnTo>
                  <a:lnTo>
                    <a:pt x="380" y="1453"/>
                  </a:lnTo>
                  <a:lnTo>
                    <a:pt x="374" y="1453"/>
                  </a:lnTo>
                  <a:lnTo>
                    <a:pt x="374" y="1482"/>
                  </a:lnTo>
                  <a:lnTo>
                    <a:pt x="370" y="1482"/>
                  </a:lnTo>
                  <a:lnTo>
                    <a:pt x="370" y="1494"/>
                  </a:lnTo>
                  <a:lnTo>
                    <a:pt x="365" y="1494"/>
                  </a:lnTo>
                  <a:lnTo>
                    <a:pt x="365" y="1513"/>
                  </a:lnTo>
                  <a:lnTo>
                    <a:pt x="360" y="1513"/>
                  </a:lnTo>
                  <a:lnTo>
                    <a:pt x="360" y="1524"/>
                  </a:lnTo>
                  <a:lnTo>
                    <a:pt x="356" y="1524"/>
                  </a:lnTo>
                  <a:lnTo>
                    <a:pt x="356" y="1548"/>
                  </a:lnTo>
                  <a:lnTo>
                    <a:pt x="351" y="1548"/>
                  </a:lnTo>
                  <a:lnTo>
                    <a:pt x="351" y="1567"/>
                  </a:lnTo>
                  <a:lnTo>
                    <a:pt x="347" y="1567"/>
                  </a:lnTo>
                  <a:lnTo>
                    <a:pt x="347" y="1578"/>
                  </a:lnTo>
                  <a:lnTo>
                    <a:pt x="341" y="1578"/>
                  </a:lnTo>
                  <a:lnTo>
                    <a:pt x="341" y="1589"/>
                  </a:lnTo>
                  <a:lnTo>
                    <a:pt x="337" y="1589"/>
                  </a:lnTo>
                  <a:lnTo>
                    <a:pt x="337" y="1608"/>
                  </a:lnTo>
                  <a:lnTo>
                    <a:pt x="332" y="1608"/>
                  </a:lnTo>
                  <a:lnTo>
                    <a:pt x="332" y="1626"/>
                  </a:lnTo>
                  <a:lnTo>
                    <a:pt x="327" y="1626"/>
                  </a:lnTo>
                  <a:lnTo>
                    <a:pt x="327" y="1643"/>
                  </a:lnTo>
                  <a:lnTo>
                    <a:pt x="322" y="1643"/>
                  </a:lnTo>
                  <a:lnTo>
                    <a:pt x="322" y="1654"/>
                  </a:lnTo>
                  <a:lnTo>
                    <a:pt x="317" y="1654"/>
                  </a:lnTo>
                  <a:lnTo>
                    <a:pt x="317" y="1673"/>
                  </a:lnTo>
                  <a:lnTo>
                    <a:pt x="312" y="1673"/>
                  </a:lnTo>
                  <a:lnTo>
                    <a:pt x="312" y="1685"/>
                  </a:lnTo>
                  <a:lnTo>
                    <a:pt x="307" y="1685"/>
                  </a:lnTo>
                  <a:lnTo>
                    <a:pt x="307" y="1702"/>
                  </a:lnTo>
                  <a:lnTo>
                    <a:pt x="303" y="1702"/>
                  </a:lnTo>
                  <a:lnTo>
                    <a:pt x="303" y="1719"/>
                  </a:lnTo>
                  <a:lnTo>
                    <a:pt x="298" y="1719"/>
                  </a:lnTo>
                  <a:lnTo>
                    <a:pt x="298" y="1732"/>
                  </a:lnTo>
                  <a:lnTo>
                    <a:pt x="293" y="1732"/>
                  </a:lnTo>
                  <a:lnTo>
                    <a:pt x="293" y="1749"/>
                  </a:lnTo>
                  <a:lnTo>
                    <a:pt x="288" y="1749"/>
                  </a:lnTo>
                  <a:lnTo>
                    <a:pt x="288" y="1768"/>
                  </a:lnTo>
                  <a:lnTo>
                    <a:pt x="284" y="1768"/>
                  </a:lnTo>
                  <a:lnTo>
                    <a:pt x="284" y="1785"/>
                  </a:lnTo>
                  <a:lnTo>
                    <a:pt x="278" y="1785"/>
                  </a:lnTo>
                  <a:lnTo>
                    <a:pt x="278" y="1796"/>
                  </a:lnTo>
                  <a:lnTo>
                    <a:pt x="274" y="1796"/>
                  </a:lnTo>
                  <a:lnTo>
                    <a:pt x="274" y="1814"/>
                  </a:lnTo>
                  <a:lnTo>
                    <a:pt x="270" y="1814"/>
                  </a:lnTo>
                  <a:lnTo>
                    <a:pt x="270" y="1831"/>
                  </a:lnTo>
                  <a:lnTo>
                    <a:pt x="264" y="1831"/>
                  </a:lnTo>
                  <a:lnTo>
                    <a:pt x="264" y="1849"/>
                  </a:lnTo>
                  <a:lnTo>
                    <a:pt x="260" y="1849"/>
                  </a:lnTo>
                  <a:lnTo>
                    <a:pt x="260" y="1873"/>
                  </a:lnTo>
                  <a:lnTo>
                    <a:pt x="255" y="1873"/>
                  </a:lnTo>
                  <a:lnTo>
                    <a:pt x="255" y="1885"/>
                  </a:lnTo>
                  <a:lnTo>
                    <a:pt x="251" y="1885"/>
                  </a:lnTo>
                  <a:lnTo>
                    <a:pt x="251" y="1896"/>
                  </a:lnTo>
                  <a:lnTo>
                    <a:pt x="244" y="1896"/>
                  </a:lnTo>
                  <a:lnTo>
                    <a:pt x="244" y="1909"/>
                  </a:lnTo>
                  <a:lnTo>
                    <a:pt x="240" y="1909"/>
                  </a:lnTo>
                  <a:lnTo>
                    <a:pt x="240" y="1926"/>
                  </a:lnTo>
                  <a:lnTo>
                    <a:pt x="235" y="1926"/>
                  </a:lnTo>
                  <a:lnTo>
                    <a:pt x="235" y="1939"/>
                  </a:lnTo>
                  <a:lnTo>
                    <a:pt x="230" y="1939"/>
                  </a:lnTo>
                  <a:lnTo>
                    <a:pt x="230" y="1974"/>
                  </a:lnTo>
                  <a:lnTo>
                    <a:pt x="226" y="1974"/>
                  </a:lnTo>
                  <a:lnTo>
                    <a:pt x="226" y="1980"/>
                  </a:lnTo>
                  <a:lnTo>
                    <a:pt x="221" y="1980"/>
                  </a:lnTo>
                  <a:lnTo>
                    <a:pt x="221" y="1991"/>
                  </a:lnTo>
                  <a:lnTo>
                    <a:pt x="216" y="1991"/>
                  </a:lnTo>
                  <a:lnTo>
                    <a:pt x="216" y="1997"/>
                  </a:lnTo>
                  <a:lnTo>
                    <a:pt x="212" y="1997"/>
                  </a:lnTo>
                  <a:lnTo>
                    <a:pt x="212" y="2015"/>
                  </a:lnTo>
                  <a:lnTo>
                    <a:pt x="207" y="2015"/>
                  </a:lnTo>
                  <a:lnTo>
                    <a:pt x="207" y="2021"/>
                  </a:lnTo>
                  <a:lnTo>
                    <a:pt x="203" y="2021"/>
                  </a:lnTo>
                  <a:lnTo>
                    <a:pt x="203" y="2027"/>
                  </a:lnTo>
                  <a:lnTo>
                    <a:pt x="197" y="2027"/>
                  </a:lnTo>
                  <a:lnTo>
                    <a:pt x="197" y="2040"/>
                  </a:lnTo>
                  <a:lnTo>
                    <a:pt x="193" y="2040"/>
                  </a:lnTo>
                  <a:lnTo>
                    <a:pt x="193" y="2045"/>
                  </a:lnTo>
                  <a:lnTo>
                    <a:pt x="188" y="2045"/>
                  </a:lnTo>
                  <a:lnTo>
                    <a:pt x="188" y="2056"/>
                  </a:lnTo>
                  <a:lnTo>
                    <a:pt x="183" y="2056"/>
                  </a:lnTo>
                  <a:lnTo>
                    <a:pt x="183" y="2074"/>
                  </a:lnTo>
                  <a:lnTo>
                    <a:pt x="179" y="2074"/>
                  </a:lnTo>
                  <a:lnTo>
                    <a:pt x="179" y="2098"/>
                  </a:lnTo>
                  <a:lnTo>
                    <a:pt x="173" y="2098"/>
                  </a:lnTo>
                  <a:lnTo>
                    <a:pt x="173" y="2127"/>
                  </a:lnTo>
                  <a:lnTo>
                    <a:pt x="168" y="2127"/>
                  </a:lnTo>
                  <a:lnTo>
                    <a:pt x="168" y="2157"/>
                  </a:lnTo>
                  <a:lnTo>
                    <a:pt x="163" y="2157"/>
                  </a:lnTo>
                  <a:lnTo>
                    <a:pt x="163" y="2175"/>
                  </a:lnTo>
                  <a:lnTo>
                    <a:pt x="159" y="2175"/>
                  </a:lnTo>
                  <a:lnTo>
                    <a:pt x="159" y="2192"/>
                  </a:lnTo>
                  <a:lnTo>
                    <a:pt x="154" y="2192"/>
                  </a:lnTo>
                  <a:lnTo>
                    <a:pt x="154" y="2222"/>
                  </a:lnTo>
                  <a:lnTo>
                    <a:pt x="149" y="2222"/>
                  </a:lnTo>
                  <a:lnTo>
                    <a:pt x="149" y="2233"/>
                  </a:lnTo>
                  <a:lnTo>
                    <a:pt x="144" y="2233"/>
                  </a:lnTo>
                  <a:lnTo>
                    <a:pt x="144" y="2251"/>
                  </a:lnTo>
                  <a:lnTo>
                    <a:pt x="140" y="2251"/>
                  </a:lnTo>
                  <a:lnTo>
                    <a:pt x="140" y="2268"/>
                  </a:lnTo>
                  <a:lnTo>
                    <a:pt x="135" y="2268"/>
                  </a:lnTo>
                  <a:lnTo>
                    <a:pt x="135" y="2281"/>
                  </a:lnTo>
                  <a:lnTo>
                    <a:pt x="130" y="2281"/>
                  </a:lnTo>
                  <a:lnTo>
                    <a:pt x="130" y="2299"/>
                  </a:lnTo>
                  <a:lnTo>
                    <a:pt x="126" y="2299"/>
                  </a:lnTo>
                  <a:lnTo>
                    <a:pt x="126" y="2311"/>
                  </a:lnTo>
                  <a:lnTo>
                    <a:pt x="120" y="2311"/>
                  </a:lnTo>
                  <a:lnTo>
                    <a:pt x="120" y="2317"/>
                  </a:lnTo>
                  <a:lnTo>
                    <a:pt x="116" y="2317"/>
                  </a:lnTo>
                  <a:lnTo>
                    <a:pt x="116" y="2341"/>
                  </a:lnTo>
                  <a:lnTo>
                    <a:pt x="111" y="2341"/>
                  </a:lnTo>
                  <a:lnTo>
                    <a:pt x="111" y="2364"/>
                  </a:lnTo>
                  <a:lnTo>
                    <a:pt x="107" y="2364"/>
                  </a:lnTo>
                  <a:lnTo>
                    <a:pt x="107" y="2369"/>
                  </a:lnTo>
                  <a:lnTo>
                    <a:pt x="100" y="2369"/>
                  </a:lnTo>
                  <a:lnTo>
                    <a:pt x="100" y="2382"/>
                  </a:lnTo>
                  <a:lnTo>
                    <a:pt x="96" y="2382"/>
                  </a:lnTo>
                  <a:lnTo>
                    <a:pt x="96" y="2399"/>
                  </a:lnTo>
                  <a:lnTo>
                    <a:pt x="92" y="2399"/>
                  </a:lnTo>
                  <a:lnTo>
                    <a:pt x="92" y="2418"/>
                  </a:lnTo>
                  <a:lnTo>
                    <a:pt x="86" y="2418"/>
                  </a:lnTo>
                  <a:lnTo>
                    <a:pt x="86" y="2428"/>
                  </a:lnTo>
                  <a:lnTo>
                    <a:pt x="82" y="2428"/>
                  </a:lnTo>
                  <a:lnTo>
                    <a:pt x="82" y="2440"/>
                  </a:lnTo>
                  <a:lnTo>
                    <a:pt x="77" y="2440"/>
                  </a:lnTo>
                  <a:lnTo>
                    <a:pt x="77" y="2459"/>
                  </a:lnTo>
                  <a:lnTo>
                    <a:pt x="72" y="2459"/>
                  </a:lnTo>
                  <a:lnTo>
                    <a:pt x="72" y="2470"/>
                  </a:lnTo>
                  <a:lnTo>
                    <a:pt x="67" y="2470"/>
                  </a:lnTo>
                  <a:lnTo>
                    <a:pt x="67" y="2482"/>
                  </a:lnTo>
                  <a:lnTo>
                    <a:pt x="63" y="2482"/>
                  </a:lnTo>
                  <a:lnTo>
                    <a:pt x="63" y="2494"/>
                  </a:lnTo>
                  <a:lnTo>
                    <a:pt x="58" y="2494"/>
                  </a:lnTo>
                  <a:lnTo>
                    <a:pt x="58" y="2513"/>
                  </a:lnTo>
                  <a:lnTo>
                    <a:pt x="53" y="2513"/>
                  </a:lnTo>
                  <a:lnTo>
                    <a:pt x="53" y="2529"/>
                  </a:lnTo>
                  <a:lnTo>
                    <a:pt x="49" y="2529"/>
                  </a:lnTo>
                  <a:lnTo>
                    <a:pt x="49" y="2541"/>
                  </a:lnTo>
                  <a:lnTo>
                    <a:pt x="44" y="2541"/>
                  </a:lnTo>
                  <a:lnTo>
                    <a:pt x="44" y="2546"/>
                  </a:lnTo>
                  <a:lnTo>
                    <a:pt x="39" y="2546"/>
                  </a:lnTo>
                  <a:lnTo>
                    <a:pt x="39" y="2565"/>
                  </a:lnTo>
                  <a:lnTo>
                    <a:pt x="34" y="2565"/>
                  </a:lnTo>
                  <a:lnTo>
                    <a:pt x="34" y="2571"/>
                  </a:lnTo>
                  <a:lnTo>
                    <a:pt x="15" y="2571"/>
                  </a:lnTo>
                  <a:lnTo>
                    <a:pt x="15" y="2559"/>
                  </a:lnTo>
                  <a:lnTo>
                    <a:pt x="19" y="2559"/>
                  </a:lnTo>
                  <a:lnTo>
                    <a:pt x="19" y="2546"/>
                  </a:lnTo>
                  <a:lnTo>
                    <a:pt x="15" y="2546"/>
                  </a:lnTo>
                  <a:lnTo>
                    <a:pt x="15" y="2541"/>
                  </a:lnTo>
                  <a:lnTo>
                    <a:pt x="10" y="2541"/>
                  </a:lnTo>
                  <a:lnTo>
                    <a:pt x="10" y="2535"/>
                  </a:lnTo>
                  <a:lnTo>
                    <a:pt x="5" y="2535"/>
                  </a:lnTo>
                  <a:lnTo>
                    <a:pt x="5" y="2529"/>
                  </a:lnTo>
                  <a:lnTo>
                    <a:pt x="0" y="2529"/>
                  </a:lnTo>
                  <a:lnTo>
                    <a:pt x="0" y="251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85920" y="5353200"/>
              <a:ext cx="4680" cy="46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3840" y="5361120"/>
              <a:ext cx="6480" cy="9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65160" y="272880"/>
              <a:ext cx="2322720" cy="1121040"/>
            </a:xfrm>
            <a:custGeom>
              <a:avLst/>
              <a:gdLst/>
              <a:ahLst/>
              <a:rect l="l" t="t" r="r" b="b"/>
              <a:pathLst>
                <a:path w="4389" h="2825">
                  <a:moveTo>
                    <a:pt x="0" y="1448"/>
                  </a:moveTo>
                  <a:lnTo>
                    <a:pt x="19" y="1448"/>
                  </a:lnTo>
                  <a:lnTo>
                    <a:pt x="19" y="1413"/>
                  </a:lnTo>
                  <a:lnTo>
                    <a:pt x="24" y="1413"/>
                  </a:lnTo>
                  <a:lnTo>
                    <a:pt x="24" y="1407"/>
                  </a:lnTo>
                  <a:lnTo>
                    <a:pt x="29" y="1407"/>
                  </a:lnTo>
                  <a:lnTo>
                    <a:pt x="29" y="1402"/>
                  </a:lnTo>
                  <a:lnTo>
                    <a:pt x="33" y="1402"/>
                  </a:lnTo>
                  <a:lnTo>
                    <a:pt x="33" y="1395"/>
                  </a:lnTo>
                  <a:lnTo>
                    <a:pt x="38" y="1395"/>
                  </a:lnTo>
                  <a:lnTo>
                    <a:pt x="38" y="1389"/>
                  </a:lnTo>
                  <a:lnTo>
                    <a:pt x="43" y="1389"/>
                  </a:lnTo>
                  <a:lnTo>
                    <a:pt x="43" y="1383"/>
                  </a:lnTo>
                  <a:lnTo>
                    <a:pt x="48" y="1383"/>
                  </a:lnTo>
                  <a:lnTo>
                    <a:pt x="48" y="1378"/>
                  </a:lnTo>
                  <a:lnTo>
                    <a:pt x="52" y="1378"/>
                  </a:lnTo>
                  <a:lnTo>
                    <a:pt x="52" y="1370"/>
                  </a:lnTo>
                  <a:lnTo>
                    <a:pt x="63" y="1370"/>
                  </a:lnTo>
                  <a:lnTo>
                    <a:pt x="63" y="1359"/>
                  </a:lnTo>
                  <a:lnTo>
                    <a:pt x="68" y="1359"/>
                  </a:lnTo>
                  <a:lnTo>
                    <a:pt x="68" y="1353"/>
                  </a:lnTo>
                  <a:lnTo>
                    <a:pt x="72" y="1353"/>
                  </a:lnTo>
                  <a:lnTo>
                    <a:pt x="72" y="1348"/>
                  </a:lnTo>
                  <a:lnTo>
                    <a:pt x="77" y="1348"/>
                  </a:lnTo>
                  <a:lnTo>
                    <a:pt x="77" y="1342"/>
                  </a:lnTo>
                  <a:lnTo>
                    <a:pt x="82" y="1342"/>
                  </a:lnTo>
                  <a:lnTo>
                    <a:pt x="82" y="1329"/>
                  </a:lnTo>
                  <a:lnTo>
                    <a:pt x="91" y="1329"/>
                  </a:lnTo>
                  <a:lnTo>
                    <a:pt x="91" y="1324"/>
                  </a:lnTo>
                  <a:lnTo>
                    <a:pt x="96" y="1324"/>
                  </a:lnTo>
                  <a:lnTo>
                    <a:pt x="96" y="1312"/>
                  </a:lnTo>
                  <a:lnTo>
                    <a:pt x="101" y="1312"/>
                  </a:lnTo>
                  <a:lnTo>
                    <a:pt x="101" y="1301"/>
                  </a:lnTo>
                  <a:lnTo>
                    <a:pt x="111" y="1301"/>
                  </a:lnTo>
                  <a:lnTo>
                    <a:pt x="111" y="1294"/>
                  </a:lnTo>
                  <a:lnTo>
                    <a:pt x="115" y="1294"/>
                  </a:lnTo>
                  <a:lnTo>
                    <a:pt x="115" y="1289"/>
                  </a:lnTo>
                  <a:lnTo>
                    <a:pt x="119" y="1289"/>
                  </a:lnTo>
                  <a:lnTo>
                    <a:pt x="119" y="1283"/>
                  </a:lnTo>
                  <a:lnTo>
                    <a:pt x="124" y="1283"/>
                  </a:lnTo>
                  <a:lnTo>
                    <a:pt x="124" y="1277"/>
                  </a:lnTo>
                  <a:lnTo>
                    <a:pt x="130" y="1277"/>
                  </a:lnTo>
                  <a:lnTo>
                    <a:pt x="130" y="1271"/>
                  </a:lnTo>
                  <a:lnTo>
                    <a:pt x="134" y="1271"/>
                  </a:lnTo>
                  <a:lnTo>
                    <a:pt x="134" y="1266"/>
                  </a:lnTo>
                  <a:lnTo>
                    <a:pt x="139" y="1266"/>
                  </a:lnTo>
                  <a:lnTo>
                    <a:pt x="139" y="1259"/>
                  </a:lnTo>
                  <a:lnTo>
                    <a:pt x="144" y="1259"/>
                  </a:lnTo>
                  <a:lnTo>
                    <a:pt x="144" y="1253"/>
                  </a:lnTo>
                  <a:lnTo>
                    <a:pt x="149" y="1253"/>
                  </a:lnTo>
                  <a:lnTo>
                    <a:pt x="149" y="1247"/>
                  </a:lnTo>
                  <a:lnTo>
                    <a:pt x="159" y="1247"/>
                  </a:lnTo>
                  <a:lnTo>
                    <a:pt x="159" y="1236"/>
                  </a:lnTo>
                  <a:lnTo>
                    <a:pt x="163" y="1236"/>
                  </a:lnTo>
                  <a:lnTo>
                    <a:pt x="163" y="1229"/>
                  </a:lnTo>
                  <a:lnTo>
                    <a:pt x="173" y="1229"/>
                  </a:lnTo>
                  <a:lnTo>
                    <a:pt x="173" y="1218"/>
                  </a:lnTo>
                  <a:lnTo>
                    <a:pt x="177" y="1218"/>
                  </a:lnTo>
                  <a:lnTo>
                    <a:pt x="177" y="1206"/>
                  </a:lnTo>
                  <a:lnTo>
                    <a:pt x="187" y="1206"/>
                  </a:lnTo>
                  <a:lnTo>
                    <a:pt x="187" y="1201"/>
                  </a:lnTo>
                  <a:lnTo>
                    <a:pt x="192" y="1201"/>
                  </a:lnTo>
                  <a:lnTo>
                    <a:pt x="192" y="1193"/>
                  </a:lnTo>
                  <a:lnTo>
                    <a:pt x="196" y="1193"/>
                  </a:lnTo>
                  <a:lnTo>
                    <a:pt x="196" y="1188"/>
                  </a:lnTo>
                  <a:lnTo>
                    <a:pt x="202" y="1188"/>
                  </a:lnTo>
                  <a:lnTo>
                    <a:pt x="202" y="1183"/>
                  </a:lnTo>
                  <a:lnTo>
                    <a:pt x="207" y="1183"/>
                  </a:lnTo>
                  <a:lnTo>
                    <a:pt x="207" y="1176"/>
                  </a:lnTo>
                  <a:lnTo>
                    <a:pt x="216" y="1176"/>
                  </a:lnTo>
                  <a:lnTo>
                    <a:pt x="216" y="1171"/>
                  </a:lnTo>
                  <a:lnTo>
                    <a:pt x="221" y="1171"/>
                  </a:lnTo>
                  <a:lnTo>
                    <a:pt x="221" y="1165"/>
                  </a:lnTo>
                  <a:lnTo>
                    <a:pt x="226" y="1165"/>
                  </a:lnTo>
                  <a:lnTo>
                    <a:pt x="226" y="1152"/>
                  </a:lnTo>
                  <a:lnTo>
                    <a:pt x="230" y="1152"/>
                  </a:lnTo>
                  <a:lnTo>
                    <a:pt x="230" y="1147"/>
                  </a:lnTo>
                  <a:lnTo>
                    <a:pt x="235" y="1147"/>
                  </a:lnTo>
                  <a:lnTo>
                    <a:pt x="235" y="1135"/>
                  </a:lnTo>
                  <a:lnTo>
                    <a:pt x="240" y="1135"/>
                  </a:lnTo>
                  <a:lnTo>
                    <a:pt x="240" y="1130"/>
                  </a:lnTo>
                  <a:lnTo>
                    <a:pt x="245" y="1130"/>
                  </a:lnTo>
                  <a:lnTo>
                    <a:pt x="245" y="1123"/>
                  </a:lnTo>
                  <a:lnTo>
                    <a:pt x="249" y="1123"/>
                  </a:lnTo>
                  <a:lnTo>
                    <a:pt x="249" y="1117"/>
                  </a:lnTo>
                  <a:lnTo>
                    <a:pt x="254" y="1117"/>
                  </a:lnTo>
                  <a:lnTo>
                    <a:pt x="254" y="1111"/>
                  </a:lnTo>
                  <a:lnTo>
                    <a:pt x="259" y="1111"/>
                  </a:lnTo>
                  <a:lnTo>
                    <a:pt x="259" y="1106"/>
                  </a:lnTo>
                  <a:lnTo>
                    <a:pt x="263" y="1106"/>
                  </a:lnTo>
                  <a:lnTo>
                    <a:pt x="263" y="1100"/>
                  </a:lnTo>
                  <a:lnTo>
                    <a:pt x="269" y="1100"/>
                  </a:lnTo>
                  <a:lnTo>
                    <a:pt x="269" y="1088"/>
                  </a:lnTo>
                  <a:lnTo>
                    <a:pt x="274" y="1088"/>
                  </a:lnTo>
                  <a:lnTo>
                    <a:pt x="274" y="1082"/>
                  </a:lnTo>
                  <a:lnTo>
                    <a:pt x="279" y="1082"/>
                  </a:lnTo>
                  <a:lnTo>
                    <a:pt x="279" y="1070"/>
                  </a:lnTo>
                  <a:lnTo>
                    <a:pt x="283" y="1070"/>
                  </a:lnTo>
                  <a:lnTo>
                    <a:pt x="283" y="1065"/>
                  </a:lnTo>
                  <a:lnTo>
                    <a:pt x="288" y="1065"/>
                  </a:lnTo>
                  <a:lnTo>
                    <a:pt x="288" y="1052"/>
                  </a:lnTo>
                  <a:lnTo>
                    <a:pt x="293" y="1052"/>
                  </a:lnTo>
                  <a:lnTo>
                    <a:pt x="293" y="1046"/>
                  </a:lnTo>
                  <a:lnTo>
                    <a:pt x="297" y="1046"/>
                  </a:lnTo>
                  <a:lnTo>
                    <a:pt x="297" y="1041"/>
                  </a:lnTo>
                  <a:lnTo>
                    <a:pt x="303" y="1041"/>
                  </a:lnTo>
                  <a:lnTo>
                    <a:pt x="303" y="1035"/>
                  </a:lnTo>
                  <a:lnTo>
                    <a:pt x="307" y="1035"/>
                  </a:lnTo>
                  <a:lnTo>
                    <a:pt x="307" y="1029"/>
                  </a:lnTo>
                  <a:lnTo>
                    <a:pt x="312" y="1029"/>
                  </a:lnTo>
                  <a:lnTo>
                    <a:pt x="312" y="1024"/>
                  </a:lnTo>
                  <a:lnTo>
                    <a:pt x="317" y="1024"/>
                  </a:lnTo>
                  <a:lnTo>
                    <a:pt x="317" y="1016"/>
                  </a:lnTo>
                  <a:lnTo>
                    <a:pt x="322" y="1016"/>
                  </a:lnTo>
                  <a:lnTo>
                    <a:pt x="322" y="1011"/>
                  </a:lnTo>
                  <a:lnTo>
                    <a:pt x="326" y="1011"/>
                  </a:lnTo>
                  <a:lnTo>
                    <a:pt x="326" y="999"/>
                  </a:lnTo>
                  <a:lnTo>
                    <a:pt x="331" y="999"/>
                  </a:lnTo>
                  <a:lnTo>
                    <a:pt x="331" y="992"/>
                  </a:lnTo>
                  <a:lnTo>
                    <a:pt x="336" y="992"/>
                  </a:lnTo>
                  <a:lnTo>
                    <a:pt x="336" y="987"/>
                  </a:lnTo>
                  <a:lnTo>
                    <a:pt x="340" y="987"/>
                  </a:lnTo>
                  <a:lnTo>
                    <a:pt x="340" y="975"/>
                  </a:lnTo>
                  <a:lnTo>
                    <a:pt x="346" y="975"/>
                  </a:lnTo>
                  <a:lnTo>
                    <a:pt x="346" y="970"/>
                  </a:lnTo>
                  <a:lnTo>
                    <a:pt x="351" y="970"/>
                  </a:lnTo>
                  <a:lnTo>
                    <a:pt x="351" y="964"/>
                  </a:lnTo>
                  <a:lnTo>
                    <a:pt x="356" y="964"/>
                  </a:lnTo>
                  <a:lnTo>
                    <a:pt x="356" y="951"/>
                  </a:lnTo>
                  <a:lnTo>
                    <a:pt x="366" y="951"/>
                  </a:lnTo>
                  <a:lnTo>
                    <a:pt x="366" y="940"/>
                  </a:lnTo>
                  <a:lnTo>
                    <a:pt x="370" y="940"/>
                  </a:lnTo>
                  <a:lnTo>
                    <a:pt x="370" y="929"/>
                  </a:lnTo>
                  <a:lnTo>
                    <a:pt x="374" y="929"/>
                  </a:lnTo>
                  <a:lnTo>
                    <a:pt x="374" y="922"/>
                  </a:lnTo>
                  <a:lnTo>
                    <a:pt x="379" y="922"/>
                  </a:lnTo>
                  <a:lnTo>
                    <a:pt x="379" y="910"/>
                  </a:lnTo>
                  <a:lnTo>
                    <a:pt x="384" y="910"/>
                  </a:lnTo>
                  <a:lnTo>
                    <a:pt x="384" y="898"/>
                  </a:lnTo>
                  <a:lnTo>
                    <a:pt x="389" y="898"/>
                  </a:lnTo>
                  <a:lnTo>
                    <a:pt x="389" y="888"/>
                  </a:lnTo>
                  <a:lnTo>
                    <a:pt x="393" y="888"/>
                  </a:lnTo>
                  <a:lnTo>
                    <a:pt x="393" y="880"/>
                  </a:lnTo>
                  <a:lnTo>
                    <a:pt x="399" y="880"/>
                  </a:lnTo>
                  <a:lnTo>
                    <a:pt x="399" y="875"/>
                  </a:lnTo>
                  <a:lnTo>
                    <a:pt x="403" y="875"/>
                  </a:lnTo>
                  <a:lnTo>
                    <a:pt x="403" y="864"/>
                  </a:lnTo>
                  <a:lnTo>
                    <a:pt x="408" y="864"/>
                  </a:lnTo>
                  <a:lnTo>
                    <a:pt x="408" y="858"/>
                  </a:lnTo>
                  <a:lnTo>
                    <a:pt x="413" y="858"/>
                  </a:lnTo>
                  <a:lnTo>
                    <a:pt x="413" y="846"/>
                  </a:lnTo>
                  <a:lnTo>
                    <a:pt x="418" y="846"/>
                  </a:lnTo>
                  <a:lnTo>
                    <a:pt x="418" y="839"/>
                  </a:lnTo>
                  <a:lnTo>
                    <a:pt x="423" y="839"/>
                  </a:lnTo>
                  <a:lnTo>
                    <a:pt x="423" y="834"/>
                  </a:lnTo>
                  <a:lnTo>
                    <a:pt x="428" y="834"/>
                  </a:lnTo>
                  <a:lnTo>
                    <a:pt x="428" y="821"/>
                  </a:lnTo>
                  <a:lnTo>
                    <a:pt x="433" y="821"/>
                  </a:lnTo>
                  <a:lnTo>
                    <a:pt x="433" y="816"/>
                  </a:lnTo>
                  <a:lnTo>
                    <a:pt x="437" y="816"/>
                  </a:lnTo>
                  <a:lnTo>
                    <a:pt x="437" y="810"/>
                  </a:lnTo>
                  <a:lnTo>
                    <a:pt x="442" y="810"/>
                  </a:lnTo>
                  <a:lnTo>
                    <a:pt x="442" y="804"/>
                  </a:lnTo>
                  <a:lnTo>
                    <a:pt x="447" y="804"/>
                  </a:lnTo>
                  <a:lnTo>
                    <a:pt x="447" y="798"/>
                  </a:lnTo>
                  <a:lnTo>
                    <a:pt x="452" y="798"/>
                  </a:lnTo>
                  <a:lnTo>
                    <a:pt x="452" y="793"/>
                  </a:lnTo>
                  <a:lnTo>
                    <a:pt x="456" y="793"/>
                  </a:lnTo>
                  <a:lnTo>
                    <a:pt x="456" y="786"/>
                  </a:lnTo>
                  <a:lnTo>
                    <a:pt x="461" y="786"/>
                  </a:lnTo>
                  <a:lnTo>
                    <a:pt x="461" y="780"/>
                  </a:lnTo>
                  <a:lnTo>
                    <a:pt x="465" y="780"/>
                  </a:lnTo>
                  <a:lnTo>
                    <a:pt x="465" y="775"/>
                  </a:lnTo>
                  <a:lnTo>
                    <a:pt x="470" y="775"/>
                  </a:lnTo>
                  <a:lnTo>
                    <a:pt x="470" y="769"/>
                  </a:lnTo>
                  <a:lnTo>
                    <a:pt x="475" y="769"/>
                  </a:lnTo>
                  <a:lnTo>
                    <a:pt x="475" y="763"/>
                  </a:lnTo>
                  <a:lnTo>
                    <a:pt x="480" y="763"/>
                  </a:lnTo>
                  <a:lnTo>
                    <a:pt x="480" y="757"/>
                  </a:lnTo>
                  <a:lnTo>
                    <a:pt x="484" y="757"/>
                  </a:lnTo>
                  <a:lnTo>
                    <a:pt x="484" y="752"/>
                  </a:lnTo>
                  <a:lnTo>
                    <a:pt x="490" y="752"/>
                  </a:lnTo>
                  <a:lnTo>
                    <a:pt x="490" y="745"/>
                  </a:lnTo>
                  <a:lnTo>
                    <a:pt x="495" y="745"/>
                  </a:lnTo>
                  <a:lnTo>
                    <a:pt x="495" y="739"/>
                  </a:lnTo>
                  <a:lnTo>
                    <a:pt x="500" y="739"/>
                  </a:lnTo>
                  <a:lnTo>
                    <a:pt x="500" y="733"/>
                  </a:lnTo>
                  <a:lnTo>
                    <a:pt x="504" y="733"/>
                  </a:lnTo>
                  <a:lnTo>
                    <a:pt x="504" y="728"/>
                  </a:lnTo>
                  <a:lnTo>
                    <a:pt x="509" y="728"/>
                  </a:lnTo>
                  <a:lnTo>
                    <a:pt x="509" y="722"/>
                  </a:lnTo>
                  <a:lnTo>
                    <a:pt x="514" y="722"/>
                  </a:lnTo>
                  <a:lnTo>
                    <a:pt x="514" y="710"/>
                  </a:lnTo>
                  <a:lnTo>
                    <a:pt x="518" y="710"/>
                  </a:lnTo>
                  <a:lnTo>
                    <a:pt x="518" y="703"/>
                  </a:lnTo>
                  <a:lnTo>
                    <a:pt x="523" y="703"/>
                  </a:lnTo>
                  <a:lnTo>
                    <a:pt x="523" y="698"/>
                  </a:lnTo>
                  <a:lnTo>
                    <a:pt x="528" y="698"/>
                  </a:lnTo>
                  <a:lnTo>
                    <a:pt x="528" y="692"/>
                  </a:lnTo>
                  <a:lnTo>
                    <a:pt x="533" y="692"/>
                  </a:lnTo>
                  <a:lnTo>
                    <a:pt x="533" y="687"/>
                  </a:lnTo>
                  <a:lnTo>
                    <a:pt x="537" y="687"/>
                  </a:lnTo>
                  <a:lnTo>
                    <a:pt x="537" y="674"/>
                  </a:lnTo>
                  <a:lnTo>
                    <a:pt x="543" y="674"/>
                  </a:lnTo>
                  <a:lnTo>
                    <a:pt x="543" y="669"/>
                  </a:lnTo>
                  <a:lnTo>
                    <a:pt x="547" y="669"/>
                  </a:lnTo>
                  <a:lnTo>
                    <a:pt x="547" y="662"/>
                  </a:lnTo>
                  <a:lnTo>
                    <a:pt x="551" y="662"/>
                  </a:lnTo>
                  <a:lnTo>
                    <a:pt x="551" y="657"/>
                  </a:lnTo>
                  <a:lnTo>
                    <a:pt x="557" y="657"/>
                  </a:lnTo>
                  <a:lnTo>
                    <a:pt x="557" y="650"/>
                  </a:lnTo>
                  <a:lnTo>
                    <a:pt x="561" y="650"/>
                  </a:lnTo>
                  <a:lnTo>
                    <a:pt x="561" y="638"/>
                  </a:lnTo>
                  <a:lnTo>
                    <a:pt x="567" y="638"/>
                  </a:lnTo>
                  <a:lnTo>
                    <a:pt x="567" y="633"/>
                  </a:lnTo>
                  <a:lnTo>
                    <a:pt x="572" y="633"/>
                  </a:lnTo>
                  <a:lnTo>
                    <a:pt x="572" y="627"/>
                  </a:lnTo>
                  <a:lnTo>
                    <a:pt x="577" y="627"/>
                  </a:lnTo>
                  <a:lnTo>
                    <a:pt x="577" y="615"/>
                  </a:lnTo>
                  <a:lnTo>
                    <a:pt x="581" y="615"/>
                  </a:lnTo>
                  <a:lnTo>
                    <a:pt x="581" y="609"/>
                  </a:lnTo>
                  <a:lnTo>
                    <a:pt x="586" y="609"/>
                  </a:lnTo>
                  <a:lnTo>
                    <a:pt x="586" y="603"/>
                  </a:lnTo>
                  <a:lnTo>
                    <a:pt x="591" y="603"/>
                  </a:lnTo>
                  <a:lnTo>
                    <a:pt x="591" y="597"/>
                  </a:lnTo>
                  <a:lnTo>
                    <a:pt x="595" y="597"/>
                  </a:lnTo>
                  <a:lnTo>
                    <a:pt x="595" y="592"/>
                  </a:lnTo>
                  <a:lnTo>
                    <a:pt x="600" y="592"/>
                  </a:lnTo>
                  <a:lnTo>
                    <a:pt x="600" y="584"/>
                  </a:lnTo>
                  <a:lnTo>
                    <a:pt x="605" y="584"/>
                  </a:lnTo>
                  <a:lnTo>
                    <a:pt x="605" y="579"/>
                  </a:lnTo>
                  <a:lnTo>
                    <a:pt x="610" y="579"/>
                  </a:lnTo>
                  <a:lnTo>
                    <a:pt x="610" y="573"/>
                  </a:lnTo>
                  <a:lnTo>
                    <a:pt x="614" y="573"/>
                  </a:lnTo>
                  <a:lnTo>
                    <a:pt x="614" y="568"/>
                  </a:lnTo>
                  <a:lnTo>
                    <a:pt x="619" y="568"/>
                  </a:lnTo>
                  <a:lnTo>
                    <a:pt x="619" y="562"/>
                  </a:lnTo>
                  <a:lnTo>
                    <a:pt x="624" y="562"/>
                  </a:lnTo>
                  <a:lnTo>
                    <a:pt x="624" y="551"/>
                  </a:lnTo>
                  <a:lnTo>
                    <a:pt x="628" y="551"/>
                  </a:lnTo>
                  <a:lnTo>
                    <a:pt x="628" y="543"/>
                  </a:lnTo>
                  <a:lnTo>
                    <a:pt x="633" y="543"/>
                  </a:lnTo>
                  <a:lnTo>
                    <a:pt x="633" y="532"/>
                  </a:lnTo>
                  <a:lnTo>
                    <a:pt x="644" y="532"/>
                  </a:lnTo>
                  <a:lnTo>
                    <a:pt x="644" y="521"/>
                  </a:lnTo>
                  <a:lnTo>
                    <a:pt x="648" y="521"/>
                  </a:lnTo>
                  <a:lnTo>
                    <a:pt x="648" y="514"/>
                  </a:lnTo>
                  <a:lnTo>
                    <a:pt x="654" y="514"/>
                  </a:lnTo>
                  <a:lnTo>
                    <a:pt x="654" y="502"/>
                  </a:lnTo>
                  <a:lnTo>
                    <a:pt x="658" y="502"/>
                  </a:lnTo>
                  <a:lnTo>
                    <a:pt x="658" y="497"/>
                  </a:lnTo>
                  <a:lnTo>
                    <a:pt x="663" y="497"/>
                  </a:lnTo>
                  <a:lnTo>
                    <a:pt x="663" y="484"/>
                  </a:lnTo>
                  <a:lnTo>
                    <a:pt x="667" y="484"/>
                  </a:lnTo>
                  <a:lnTo>
                    <a:pt x="667" y="478"/>
                  </a:lnTo>
                  <a:lnTo>
                    <a:pt x="672" y="478"/>
                  </a:lnTo>
                  <a:lnTo>
                    <a:pt x="672" y="473"/>
                  </a:lnTo>
                  <a:lnTo>
                    <a:pt x="681" y="473"/>
                  </a:lnTo>
                  <a:lnTo>
                    <a:pt x="681" y="467"/>
                  </a:lnTo>
                  <a:lnTo>
                    <a:pt x="687" y="467"/>
                  </a:lnTo>
                  <a:lnTo>
                    <a:pt x="687" y="456"/>
                  </a:lnTo>
                  <a:lnTo>
                    <a:pt x="691" y="456"/>
                  </a:lnTo>
                  <a:lnTo>
                    <a:pt x="691" y="450"/>
                  </a:lnTo>
                  <a:lnTo>
                    <a:pt x="696" y="450"/>
                  </a:lnTo>
                  <a:lnTo>
                    <a:pt x="696" y="443"/>
                  </a:lnTo>
                  <a:lnTo>
                    <a:pt x="701" y="443"/>
                  </a:lnTo>
                  <a:lnTo>
                    <a:pt x="701" y="438"/>
                  </a:lnTo>
                  <a:lnTo>
                    <a:pt x="707" y="438"/>
                  </a:lnTo>
                  <a:lnTo>
                    <a:pt x="707" y="426"/>
                  </a:lnTo>
                  <a:lnTo>
                    <a:pt x="716" y="426"/>
                  </a:lnTo>
                  <a:lnTo>
                    <a:pt x="716" y="415"/>
                  </a:lnTo>
                  <a:lnTo>
                    <a:pt x="721" y="415"/>
                  </a:lnTo>
                  <a:lnTo>
                    <a:pt x="721" y="407"/>
                  </a:lnTo>
                  <a:lnTo>
                    <a:pt x="725" y="407"/>
                  </a:lnTo>
                  <a:lnTo>
                    <a:pt x="725" y="402"/>
                  </a:lnTo>
                  <a:lnTo>
                    <a:pt x="730" y="402"/>
                  </a:lnTo>
                  <a:lnTo>
                    <a:pt x="730" y="397"/>
                  </a:lnTo>
                  <a:lnTo>
                    <a:pt x="735" y="397"/>
                  </a:lnTo>
                  <a:lnTo>
                    <a:pt x="735" y="385"/>
                  </a:lnTo>
                  <a:lnTo>
                    <a:pt x="740" y="385"/>
                  </a:lnTo>
                  <a:lnTo>
                    <a:pt x="740" y="378"/>
                  </a:lnTo>
                  <a:lnTo>
                    <a:pt x="744" y="378"/>
                  </a:lnTo>
                  <a:lnTo>
                    <a:pt x="744" y="373"/>
                  </a:lnTo>
                  <a:lnTo>
                    <a:pt x="750" y="373"/>
                  </a:lnTo>
                  <a:lnTo>
                    <a:pt x="750" y="366"/>
                  </a:lnTo>
                  <a:lnTo>
                    <a:pt x="754" y="366"/>
                  </a:lnTo>
                  <a:lnTo>
                    <a:pt x="754" y="361"/>
                  </a:lnTo>
                  <a:lnTo>
                    <a:pt x="758" y="361"/>
                  </a:lnTo>
                  <a:lnTo>
                    <a:pt x="758" y="356"/>
                  </a:lnTo>
                  <a:lnTo>
                    <a:pt x="763" y="356"/>
                  </a:lnTo>
                  <a:lnTo>
                    <a:pt x="763" y="343"/>
                  </a:lnTo>
                  <a:lnTo>
                    <a:pt x="773" y="343"/>
                  </a:lnTo>
                  <a:lnTo>
                    <a:pt x="773" y="337"/>
                  </a:lnTo>
                  <a:lnTo>
                    <a:pt x="777" y="337"/>
                  </a:lnTo>
                  <a:lnTo>
                    <a:pt x="777" y="331"/>
                  </a:lnTo>
                  <a:lnTo>
                    <a:pt x="784" y="331"/>
                  </a:lnTo>
                  <a:lnTo>
                    <a:pt x="784" y="325"/>
                  </a:lnTo>
                  <a:lnTo>
                    <a:pt x="788" y="325"/>
                  </a:lnTo>
                  <a:lnTo>
                    <a:pt x="788" y="320"/>
                  </a:lnTo>
                  <a:lnTo>
                    <a:pt x="793" y="320"/>
                  </a:lnTo>
                  <a:lnTo>
                    <a:pt x="793" y="314"/>
                  </a:lnTo>
                  <a:lnTo>
                    <a:pt x="798" y="314"/>
                  </a:lnTo>
                  <a:lnTo>
                    <a:pt x="798" y="307"/>
                  </a:lnTo>
                  <a:lnTo>
                    <a:pt x="802" y="307"/>
                  </a:lnTo>
                  <a:lnTo>
                    <a:pt x="802" y="302"/>
                  </a:lnTo>
                  <a:lnTo>
                    <a:pt x="806" y="302"/>
                  </a:lnTo>
                  <a:lnTo>
                    <a:pt x="806" y="296"/>
                  </a:lnTo>
                  <a:lnTo>
                    <a:pt x="812" y="296"/>
                  </a:lnTo>
                  <a:lnTo>
                    <a:pt x="812" y="290"/>
                  </a:lnTo>
                  <a:lnTo>
                    <a:pt x="816" y="290"/>
                  </a:lnTo>
                  <a:lnTo>
                    <a:pt x="816" y="284"/>
                  </a:lnTo>
                  <a:lnTo>
                    <a:pt x="821" y="284"/>
                  </a:lnTo>
                  <a:lnTo>
                    <a:pt x="821" y="279"/>
                  </a:lnTo>
                  <a:lnTo>
                    <a:pt x="825" y="279"/>
                  </a:lnTo>
                  <a:lnTo>
                    <a:pt x="825" y="272"/>
                  </a:lnTo>
                  <a:lnTo>
                    <a:pt x="831" y="272"/>
                  </a:lnTo>
                  <a:lnTo>
                    <a:pt x="831" y="266"/>
                  </a:lnTo>
                  <a:lnTo>
                    <a:pt x="835" y="266"/>
                  </a:lnTo>
                  <a:lnTo>
                    <a:pt x="835" y="260"/>
                  </a:lnTo>
                  <a:lnTo>
                    <a:pt x="840" y="260"/>
                  </a:lnTo>
                  <a:lnTo>
                    <a:pt x="840" y="255"/>
                  </a:lnTo>
                  <a:lnTo>
                    <a:pt x="845" y="255"/>
                  </a:lnTo>
                  <a:lnTo>
                    <a:pt x="845" y="249"/>
                  </a:lnTo>
                  <a:lnTo>
                    <a:pt x="849" y="249"/>
                  </a:lnTo>
                  <a:lnTo>
                    <a:pt x="849" y="242"/>
                  </a:lnTo>
                  <a:lnTo>
                    <a:pt x="855" y="242"/>
                  </a:lnTo>
                  <a:lnTo>
                    <a:pt x="855" y="237"/>
                  </a:lnTo>
                  <a:lnTo>
                    <a:pt x="860" y="237"/>
                  </a:lnTo>
                  <a:lnTo>
                    <a:pt x="860" y="230"/>
                  </a:lnTo>
                  <a:lnTo>
                    <a:pt x="865" y="230"/>
                  </a:lnTo>
                  <a:lnTo>
                    <a:pt x="865" y="225"/>
                  </a:lnTo>
                  <a:lnTo>
                    <a:pt x="869" y="225"/>
                  </a:lnTo>
                  <a:lnTo>
                    <a:pt x="869" y="219"/>
                  </a:lnTo>
                  <a:lnTo>
                    <a:pt x="874" y="219"/>
                  </a:lnTo>
                  <a:lnTo>
                    <a:pt x="874" y="214"/>
                  </a:lnTo>
                  <a:lnTo>
                    <a:pt x="879" y="214"/>
                  </a:lnTo>
                  <a:lnTo>
                    <a:pt x="879" y="201"/>
                  </a:lnTo>
                  <a:lnTo>
                    <a:pt x="884" y="201"/>
                  </a:lnTo>
                  <a:lnTo>
                    <a:pt x="884" y="196"/>
                  </a:lnTo>
                  <a:lnTo>
                    <a:pt x="888" y="196"/>
                  </a:lnTo>
                  <a:lnTo>
                    <a:pt x="888" y="184"/>
                  </a:lnTo>
                  <a:lnTo>
                    <a:pt x="898" y="184"/>
                  </a:lnTo>
                  <a:lnTo>
                    <a:pt x="898" y="178"/>
                  </a:lnTo>
                  <a:lnTo>
                    <a:pt x="907" y="178"/>
                  </a:lnTo>
                  <a:lnTo>
                    <a:pt x="907" y="171"/>
                  </a:lnTo>
                  <a:lnTo>
                    <a:pt x="912" y="171"/>
                  </a:lnTo>
                  <a:lnTo>
                    <a:pt x="912" y="165"/>
                  </a:lnTo>
                  <a:lnTo>
                    <a:pt x="917" y="165"/>
                  </a:lnTo>
                  <a:lnTo>
                    <a:pt x="917" y="160"/>
                  </a:lnTo>
                  <a:lnTo>
                    <a:pt x="928" y="160"/>
                  </a:lnTo>
                  <a:lnTo>
                    <a:pt x="928" y="148"/>
                  </a:lnTo>
                  <a:lnTo>
                    <a:pt x="936" y="148"/>
                  </a:lnTo>
                  <a:lnTo>
                    <a:pt x="936" y="143"/>
                  </a:lnTo>
                  <a:lnTo>
                    <a:pt x="942" y="143"/>
                  </a:lnTo>
                  <a:lnTo>
                    <a:pt x="942" y="136"/>
                  </a:lnTo>
                  <a:lnTo>
                    <a:pt x="946" y="136"/>
                  </a:lnTo>
                  <a:lnTo>
                    <a:pt x="946" y="124"/>
                  </a:lnTo>
                  <a:lnTo>
                    <a:pt x="951" y="124"/>
                  </a:lnTo>
                  <a:lnTo>
                    <a:pt x="951" y="111"/>
                  </a:lnTo>
                  <a:lnTo>
                    <a:pt x="956" y="111"/>
                  </a:lnTo>
                  <a:lnTo>
                    <a:pt x="956" y="106"/>
                  </a:lnTo>
                  <a:lnTo>
                    <a:pt x="961" y="106"/>
                  </a:lnTo>
                  <a:lnTo>
                    <a:pt x="961" y="101"/>
                  </a:lnTo>
                  <a:lnTo>
                    <a:pt x="965" y="101"/>
                  </a:lnTo>
                  <a:lnTo>
                    <a:pt x="965" y="95"/>
                  </a:lnTo>
                  <a:lnTo>
                    <a:pt x="969" y="95"/>
                  </a:lnTo>
                  <a:lnTo>
                    <a:pt x="969" y="89"/>
                  </a:lnTo>
                  <a:lnTo>
                    <a:pt x="975" y="89"/>
                  </a:lnTo>
                  <a:lnTo>
                    <a:pt x="975" y="83"/>
                  </a:lnTo>
                  <a:lnTo>
                    <a:pt x="979" y="83"/>
                  </a:lnTo>
                  <a:lnTo>
                    <a:pt x="979" y="78"/>
                  </a:lnTo>
                  <a:lnTo>
                    <a:pt x="984" y="78"/>
                  </a:lnTo>
                  <a:lnTo>
                    <a:pt x="984" y="65"/>
                  </a:lnTo>
                  <a:lnTo>
                    <a:pt x="989" y="65"/>
                  </a:lnTo>
                  <a:lnTo>
                    <a:pt x="989" y="59"/>
                  </a:lnTo>
                  <a:lnTo>
                    <a:pt x="994" y="59"/>
                  </a:lnTo>
                  <a:lnTo>
                    <a:pt x="994" y="53"/>
                  </a:lnTo>
                  <a:lnTo>
                    <a:pt x="999" y="53"/>
                  </a:lnTo>
                  <a:lnTo>
                    <a:pt x="999" y="48"/>
                  </a:lnTo>
                  <a:lnTo>
                    <a:pt x="1004" y="48"/>
                  </a:lnTo>
                  <a:lnTo>
                    <a:pt x="1004" y="41"/>
                  </a:lnTo>
                  <a:lnTo>
                    <a:pt x="1013" y="41"/>
                  </a:lnTo>
                  <a:lnTo>
                    <a:pt x="1013" y="35"/>
                  </a:lnTo>
                  <a:lnTo>
                    <a:pt x="1018" y="35"/>
                  </a:lnTo>
                  <a:lnTo>
                    <a:pt x="1018" y="30"/>
                  </a:lnTo>
                  <a:lnTo>
                    <a:pt x="1023" y="30"/>
                  </a:lnTo>
                  <a:lnTo>
                    <a:pt x="1023" y="12"/>
                  </a:lnTo>
                  <a:lnTo>
                    <a:pt x="1028" y="12"/>
                  </a:lnTo>
                  <a:lnTo>
                    <a:pt x="1028" y="7"/>
                  </a:lnTo>
                  <a:lnTo>
                    <a:pt x="1038" y="7"/>
                  </a:lnTo>
                  <a:lnTo>
                    <a:pt x="1038" y="0"/>
                  </a:lnTo>
                  <a:lnTo>
                    <a:pt x="1065" y="0"/>
                  </a:lnTo>
                  <a:lnTo>
                    <a:pt x="1065" y="7"/>
                  </a:lnTo>
                  <a:lnTo>
                    <a:pt x="1076" y="7"/>
                  </a:lnTo>
                  <a:lnTo>
                    <a:pt x="1076" y="19"/>
                  </a:lnTo>
                  <a:lnTo>
                    <a:pt x="1081" y="19"/>
                  </a:lnTo>
                  <a:lnTo>
                    <a:pt x="1081" y="41"/>
                  </a:lnTo>
                  <a:lnTo>
                    <a:pt x="1076" y="41"/>
                  </a:lnTo>
                  <a:lnTo>
                    <a:pt x="1076" y="53"/>
                  </a:lnTo>
                  <a:lnTo>
                    <a:pt x="1072" y="53"/>
                  </a:lnTo>
                  <a:lnTo>
                    <a:pt x="1072" y="59"/>
                  </a:lnTo>
                  <a:lnTo>
                    <a:pt x="1061" y="59"/>
                  </a:lnTo>
                  <a:lnTo>
                    <a:pt x="1061" y="65"/>
                  </a:lnTo>
                  <a:lnTo>
                    <a:pt x="1056" y="65"/>
                  </a:lnTo>
                  <a:lnTo>
                    <a:pt x="1056" y="70"/>
                  </a:lnTo>
                  <a:lnTo>
                    <a:pt x="1051" y="70"/>
                  </a:lnTo>
                  <a:lnTo>
                    <a:pt x="1051" y="78"/>
                  </a:lnTo>
                  <a:lnTo>
                    <a:pt x="1047" y="78"/>
                  </a:lnTo>
                  <a:lnTo>
                    <a:pt x="1047" y="83"/>
                  </a:lnTo>
                  <a:lnTo>
                    <a:pt x="1042" y="83"/>
                  </a:lnTo>
                  <a:lnTo>
                    <a:pt x="1042" y="89"/>
                  </a:lnTo>
                  <a:lnTo>
                    <a:pt x="1032" y="89"/>
                  </a:lnTo>
                  <a:lnTo>
                    <a:pt x="1032" y="101"/>
                  </a:lnTo>
                  <a:lnTo>
                    <a:pt x="1028" y="101"/>
                  </a:lnTo>
                  <a:lnTo>
                    <a:pt x="1028" y="106"/>
                  </a:lnTo>
                  <a:lnTo>
                    <a:pt x="1023" y="106"/>
                  </a:lnTo>
                  <a:lnTo>
                    <a:pt x="1023" y="111"/>
                  </a:lnTo>
                  <a:lnTo>
                    <a:pt x="1018" y="111"/>
                  </a:lnTo>
                  <a:lnTo>
                    <a:pt x="1018" y="119"/>
                  </a:lnTo>
                  <a:lnTo>
                    <a:pt x="1013" y="119"/>
                  </a:lnTo>
                  <a:lnTo>
                    <a:pt x="1013" y="130"/>
                  </a:lnTo>
                  <a:lnTo>
                    <a:pt x="1009" y="130"/>
                  </a:lnTo>
                  <a:lnTo>
                    <a:pt x="1009" y="136"/>
                  </a:lnTo>
                  <a:lnTo>
                    <a:pt x="1004" y="136"/>
                  </a:lnTo>
                  <a:lnTo>
                    <a:pt x="1004" y="143"/>
                  </a:lnTo>
                  <a:lnTo>
                    <a:pt x="999" y="143"/>
                  </a:lnTo>
                  <a:lnTo>
                    <a:pt x="999" y="148"/>
                  </a:lnTo>
                  <a:lnTo>
                    <a:pt x="994" y="148"/>
                  </a:lnTo>
                  <a:lnTo>
                    <a:pt x="994" y="154"/>
                  </a:lnTo>
                  <a:lnTo>
                    <a:pt x="989" y="154"/>
                  </a:lnTo>
                  <a:lnTo>
                    <a:pt x="989" y="160"/>
                  </a:lnTo>
                  <a:lnTo>
                    <a:pt x="984" y="160"/>
                  </a:lnTo>
                  <a:lnTo>
                    <a:pt x="984" y="165"/>
                  </a:lnTo>
                  <a:lnTo>
                    <a:pt x="979" y="165"/>
                  </a:lnTo>
                  <a:lnTo>
                    <a:pt x="979" y="171"/>
                  </a:lnTo>
                  <a:lnTo>
                    <a:pt x="975" y="171"/>
                  </a:lnTo>
                  <a:lnTo>
                    <a:pt x="975" y="184"/>
                  </a:lnTo>
                  <a:lnTo>
                    <a:pt x="965" y="184"/>
                  </a:lnTo>
                  <a:lnTo>
                    <a:pt x="965" y="196"/>
                  </a:lnTo>
                  <a:lnTo>
                    <a:pt x="956" y="196"/>
                  </a:lnTo>
                  <a:lnTo>
                    <a:pt x="956" y="201"/>
                  </a:lnTo>
                  <a:lnTo>
                    <a:pt x="951" y="201"/>
                  </a:lnTo>
                  <a:lnTo>
                    <a:pt x="951" y="206"/>
                  </a:lnTo>
                  <a:lnTo>
                    <a:pt x="946" y="206"/>
                  </a:lnTo>
                  <a:lnTo>
                    <a:pt x="946" y="214"/>
                  </a:lnTo>
                  <a:lnTo>
                    <a:pt x="942" y="214"/>
                  </a:lnTo>
                  <a:lnTo>
                    <a:pt x="942" y="219"/>
                  </a:lnTo>
                  <a:lnTo>
                    <a:pt x="936" y="219"/>
                  </a:lnTo>
                  <a:lnTo>
                    <a:pt x="936" y="225"/>
                  </a:lnTo>
                  <a:lnTo>
                    <a:pt x="932" y="225"/>
                  </a:lnTo>
                  <a:lnTo>
                    <a:pt x="932" y="230"/>
                  </a:lnTo>
                  <a:lnTo>
                    <a:pt x="928" y="230"/>
                  </a:lnTo>
                  <a:lnTo>
                    <a:pt x="928" y="237"/>
                  </a:lnTo>
                  <a:lnTo>
                    <a:pt x="921" y="237"/>
                  </a:lnTo>
                  <a:lnTo>
                    <a:pt x="921" y="242"/>
                  </a:lnTo>
                  <a:lnTo>
                    <a:pt x="917" y="242"/>
                  </a:lnTo>
                  <a:lnTo>
                    <a:pt x="917" y="249"/>
                  </a:lnTo>
                  <a:lnTo>
                    <a:pt x="912" y="249"/>
                  </a:lnTo>
                  <a:lnTo>
                    <a:pt x="912" y="255"/>
                  </a:lnTo>
                  <a:lnTo>
                    <a:pt x="902" y="255"/>
                  </a:lnTo>
                  <a:lnTo>
                    <a:pt x="902" y="260"/>
                  </a:lnTo>
                  <a:lnTo>
                    <a:pt x="898" y="260"/>
                  </a:lnTo>
                  <a:lnTo>
                    <a:pt x="898" y="266"/>
                  </a:lnTo>
                  <a:lnTo>
                    <a:pt x="888" y="266"/>
                  </a:lnTo>
                  <a:lnTo>
                    <a:pt x="888" y="279"/>
                  </a:lnTo>
                  <a:lnTo>
                    <a:pt x="884" y="279"/>
                  </a:lnTo>
                  <a:lnTo>
                    <a:pt x="884" y="284"/>
                  </a:lnTo>
                  <a:lnTo>
                    <a:pt x="874" y="284"/>
                  </a:lnTo>
                  <a:lnTo>
                    <a:pt x="874" y="296"/>
                  </a:lnTo>
                  <a:lnTo>
                    <a:pt x="869" y="296"/>
                  </a:lnTo>
                  <a:lnTo>
                    <a:pt x="869" y="302"/>
                  </a:lnTo>
                  <a:lnTo>
                    <a:pt x="865" y="302"/>
                  </a:lnTo>
                  <a:lnTo>
                    <a:pt x="865" y="307"/>
                  </a:lnTo>
                  <a:lnTo>
                    <a:pt x="860" y="307"/>
                  </a:lnTo>
                  <a:lnTo>
                    <a:pt x="860" y="320"/>
                  </a:lnTo>
                  <a:lnTo>
                    <a:pt x="855" y="320"/>
                  </a:lnTo>
                  <a:lnTo>
                    <a:pt x="855" y="325"/>
                  </a:lnTo>
                  <a:lnTo>
                    <a:pt x="849" y="325"/>
                  </a:lnTo>
                  <a:lnTo>
                    <a:pt x="849" y="331"/>
                  </a:lnTo>
                  <a:lnTo>
                    <a:pt x="845" y="331"/>
                  </a:lnTo>
                  <a:lnTo>
                    <a:pt x="845" y="337"/>
                  </a:lnTo>
                  <a:lnTo>
                    <a:pt x="840" y="337"/>
                  </a:lnTo>
                  <a:lnTo>
                    <a:pt x="840" y="343"/>
                  </a:lnTo>
                  <a:lnTo>
                    <a:pt x="835" y="343"/>
                  </a:lnTo>
                  <a:lnTo>
                    <a:pt x="835" y="348"/>
                  </a:lnTo>
                  <a:lnTo>
                    <a:pt x="831" y="348"/>
                  </a:lnTo>
                  <a:lnTo>
                    <a:pt x="831" y="361"/>
                  </a:lnTo>
                  <a:lnTo>
                    <a:pt x="821" y="361"/>
                  </a:lnTo>
                  <a:lnTo>
                    <a:pt x="821" y="373"/>
                  </a:lnTo>
                  <a:lnTo>
                    <a:pt x="816" y="373"/>
                  </a:lnTo>
                  <a:lnTo>
                    <a:pt x="816" y="378"/>
                  </a:lnTo>
                  <a:lnTo>
                    <a:pt x="812" y="378"/>
                  </a:lnTo>
                  <a:lnTo>
                    <a:pt x="812" y="385"/>
                  </a:lnTo>
                  <a:lnTo>
                    <a:pt x="806" y="385"/>
                  </a:lnTo>
                  <a:lnTo>
                    <a:pt x="806" y="391"/>
                  </a:lnTo>
                  <a:lnTo>
                    <a:pt x="802" y="391"/>
                  </a:lnTo>
                  <a:lnTo>
                    <a:pt x="802" y="397"/>
                  </a:lnTo>
                  <a:lnTo>
                    <a:pt x="798" y="397"/>
                  </a:lnTo>
                  <a:lnTo>
                    <a:pt x="798" y="402"/>
                  </a:lnTo>
                  <a:lnTo>
                    <a:pt x="793" y="402"/>
                  </a:lnTo>
                  <a:lnTo>
                    <a:pt x="793" y="407"/>
                  </a:lnTo>
                  <a:lnTo>
                    <a:pt x="788" y="407"/>
                  </a:lnTo>
                  <a:lnTo>
                    <a:pt x="788" y="415"/>
                  </a:lnTo>
                  <a:lnTo>
                    <a:pt x="784" y="415"/>
                  </a:lnTo>
                  <a:lnTo>
                    <a:pt x="784" y="420"/>
                  </a:lnTo>
                  <a:lnTo>
                    <a:pt x="777" y="420"/>
                  </a:lnTo>
                  <a:lnTo>
                    <a:pt x="777" y="426"/>
                  </a:lnTo>
                  <a:lnTo>
                    <a:pt x="768" y="426"/>
                  </a:lnTo>
                  <a:lnTo>
                    <a:pt x="768" y="438"/>
                  </a:lnTo>
                  <a:lnTo>
                    <a:pt x="758" y="438"/>
                  </a:lnTo>
                  <a:lnTo>
                    <a:pt x="758" y="443"/>
                  </a:lnTo>
                  <a:lnTo>
                    <a:pt x="754" y="443"/>
                  </a:lnTo>
                  <a:lnTo>
                    <a:pt x="754" y="450"/>
                  </a:lnTo>
                  <a:lnTo>
                    <a:pt x="750" y="450"/>
                  </a:lnTo>
                  <a:lnTo>
                    <a:pt x="750" y="461"/>
                  </a:lnTo>
                  <a:lnTo>
                    <a:pt x="744" y="461"/>
                  </a:lnTo>
                  <a:lnTo>
                    <a:pt x="744" y="467"/>
                  </a:lnTo>
                  <a:lnTo>
                    <a:pt x="740" y="467"/>
                  </a:lnTo>
                  <a:lnTo>
                    <a:pt x="740" y="473"/>
                  </a:lnTo>
                  <a:lnTo>
                    <a:pt x="735" y="473"/>
                  </a:lnTo>
                  <a:lnTo>
                    <a:pt x="735" y="478"/>
                  </a:lnTo>
                  <a:lnTo>
                    <a:pt x="730" y="478"/>
                  </a:lnTo>
                  <a:lnTo>
                    <a:pt x="730" y="484"/>
                  </a:lnTo>
                  <a:lnTo>
                    <a:pt x="725" y="484"/>
                  </a:lnTo>
                  <a:lnTo>
                    <a:pt x="725" y="491"/>
                  </a:lnTo>
                  <a:lnTo>
                    <a:pt x="721" y="491"/>
                  </a:lnTo>
                  <a:lnTo>
                    <a:pt x="721" y="497"/>
                  </a:lnTo>
                  <a:lnTo>
                    <a:pt x="716" y="497"/>
                  </a:lnTo>
                  <a:lnTo>
                    <a:pt x="716" y="508"/>
                  </a:lnTo>
                  <a:lnTo>
                    <a:pt x="711" y="508"/>
                  </a:lnTo>
                  <a:lnTo>
                    <a:pt x="711" y="521"/>
                  </a:lnTo>
                  <a:lnTo>
                    <a:pt x="707" y="521"/>
                  </a:lnTo>
                  <a:lnTo>
                    <a:pt x="707" y="526"/>
                  </a:lnTo>
                  <a:lnTo>
                    <a:pt x="701" y="526"/>
                  </a:lnTo>
                  <a:lnTo>
                    <a:pt x="701" y="532"/>
                  </a:lnTo>
                  <a:lnTo>
                    <a:pt x="696" y="532"/>
                  </a:lnTo>
                  <a:lnTo>
                    <a:pt x="696" y="538"/>
                  </a:lnTo>
                  <a:lnTo>
                    <a:pt x="691" y="538"/>
                  </a:lnTo>
                  <a:lnTo>
                    <a:pt x="691" y="551"/>
                  </a:lnTo>
                  <a:lnTo>
                    <a:pt x="687" y="551"/>
                  </a:lnTo>
                  <a:lnTo>
                    <a:pt x="687" y="556"/>
                  </a:lnTo>
                  <a:lnTo>
                    <a:pt x="681" y="556"/>
                  </a:lnTo>
                  <a:lnTo>
                    <a:pt x="681" y="568"/>
                  </a:lnTo>
                  <a:lnTo>
                    <a:pt x="677" y="568"/>
                  </a:lnTo>
                  <a:lnTo>
                    <a:pt x="677" y="573"/>
                  </a:lnTo>
                  <a:lnTo>
                    <a:pt x="672" y="573"/>
                  </a:lnTo>
                  <a:lnTo>
                    <a:pt x="672" y="579"/>
                  </a:lnTo>
                  <a:lnTo>
                    <a:pt x="667" y="579"/>
                  </a:lnTo>
                  <a:lnTo>
                    <a:pt x="667" y="584"/>
                  </a:lnTo>
                  <a:lnTo>
                    <a:pt x="663" y="584"/>
                  </a:lnTo>
                  <a:lnTo>
                    <a:pt x="663" y="592"/>
                  </a:lnTo>
                  <a:lnTo>
                    <a:pt x="658" y="592"/>
                  </a:lnTo>
                  <a:lnTo>
                    <a:pt x="658" y="597"/>
                  </a:lnTo>
                  <a:lnTo>
                    <a:pt x="654" y="597"/>
                  </a:lnTo>
                  <a:lnTo>
                    <a:pt x="654" y="603"/>
                  </a:lnTo>
                  <a:lnTo>
                    <a:pt x="648" y="603"/>
                  </a:lnTo>
                  <a:lnTo>
                    <a:pt x="648" y="609"/>
                  </a:lnTo>
                  <a:lnTo>
                    <a:pt x="644" y="609"/>
                  </a:lnTo>
                  <a:lnTo>
                    <a:pt x="644" y="620"/>
                  </a:lnTo>
                  <a:lnTo>
                    <a:pt x="639" y="620"/>
                  </a:lnTo>
                  <a:lnTo>
                    <a:pt x="639" y="627"/>
                  </a:lnTo>
                  <a:lnTo>
                    <a:pt x="633" y="627"/>
                  </a:lnTo>
                  <a:lnTo>
                    <a:pt x="633" y="638"/>
                  </a:lnTo>
                  <a:lnTo>
                    <a:pt x="628" y="638"/>
                  </a:lnTo>
                  <a:lnTo>
                    <a:pt x="628" y="644"/>
                  </a:lnTo>
                  <a:lnTo>
                    <a:pt x="624" y="644"/>
                  </a:lnTo>
                  <a:lnTo>
                    <a:pt x="624" y="657"/>
                  </a:lnTo>
                  <a:lnTo>
                    <a:pt x="619" y="657"/>
                  </a:lnTo>
                  <a:lnTo>
                    <a:pt x="619" y="662"/>
                  </a:lnTo>
                  <a:lnTo>
                    <a:pt x="614" y="662"/>
                  </a:lnTo>
                  <a:lnTo>
                    <a:pt x="614" y="669"/>
                  </a:lnTo>
                  <a:lnTo>
                    <a:pt x="610" y="669"/>
                  </a:lnTo>
                  <a:lnTo>
                    <a:pt x="610" y="674"/>
                  </a:lnTo>
                  <a:lnTo>
                    <a:pt x="605" y="674"/>
                  </a:lnTo>
                  <a:lnTo>
                    <a:pt x="605" y="679"/>
                  </a:lnTo>
                  <a:lnTo>
                    <a:pt x="600" y="679"/>
                  </a:lnTo>
                  <a:lnTo>
                    <a:pt x="600" y="687"/>
                  </a:lnTo>
                  <a:lnTo>
                    <a:pt x="595" y="687"/>
                  </a:lnTo>
                  <a:lnTo>
                    <a:pt x="595" y="692"/>
                  </a:lnTo>
                  <a:lnTo>
                    <a:pt x="591" y="692"/>
                  </a:lnTo>
                  <a:lnTo>
                    <a:pt x="591" y="698"/>
                  </a:lnTo>
                  <a:lnTo>
                    <a:pt x="586" y="698"/>
                  </a:lnTo>
                  <a:lnTo>
                    <a:pt x="586" y="703"/>
                  </a:lnTo>
                  <a:lnTo>
                    <a:pt x="581" y="703"/>
                  </a:lnTo>
                  <a:lnTo>
                    <a:pt x="581" y="710"/>
                  </a:lnTo>
                  <a:lnTo>
                    <a:pt x="577" y="710"/>
                  </a:lnTo>
                  <a:lnTo>
                    <a:pt x="577" y="715"/>
                  </a:lnTo>
                  <a:lnTo>
                    <a:pt x="572" y="715"/>
                  </a:lnTo>
                  <a:lnTo>
                    <a:pt x="572" y="722"/>
                  </a:lnTo>
                  <a:lnTo>
                    <a:pt x="567" y="722"/>
                  </a:lnTo>
                  <a:lnTo>
                    <a:pt x="567" y="733"/>
                  </a:lnTo>
                  <a:lnTo>
                    <a:pt x="561" y="733"/>
                  </a:lnTo>
                  <a:lnTo>
                    <a:pt x="561" y="739"/>
                  </a:lnTo>
                  <a:lnTo>
                    <a:pt x="557" y="739"/>
                  </a:lnTo>
                  <a:lnTo>
                    <a:pt x="557" y="745"/>
                  </a:lnTo>
                  <a:lnTo>
                    <a:pt x="551" y="745"/>
                  </a:lnTo>
                  <a:lnTo>
                    <a:pt x="551" y="752"/>
                  </a:lnTo>
                  <a:lnTo>
                    <a:pt x="547" y="752"/>
                  </a:lnTo>
                  <a:lnTo>
                    <a:pt x="547" y="757"/>
                  </a:lnTo>
                  <a:lnTo>
                    <a:pt x="543" y="757"/>
                  </a:lnTo>
                  <a:lnTo>
                    <a:pt x="543" y="769"/>
                  </a:lnTo>
                  <a:lnTo>
                    <a:pt x="537" y="769"/>
                  </a:lnTo>
                  <a:lnTo>
                    <a:pt x="537" y="775"/>
                  </a:lnTo>
                  <a:lnTo>
                    <a:pt x="528" y="775"/>
                  </a:lnTo>
                  <a:lnTo>
                    <a:pt x="528" y="780"/>
                  </a:lnTo>
                  <a:lnTo>
                    <a:pt x="523" y="780"/>
                  </a:lnTo>
                  <a:lnTo>
                    <a:pt x="523" y="793"/>
                  </a:lnTo>
                  <a:lnTo>
                    <a:pt x="514" y="793"/>
                  </a:lnTo>
                  <a:lnTo>
                    <a:pt x="514" y="804"/>
                  </a:lnTo>
                  <a:lnTo>
                    <a:pt x="509" y="804"/>
                  </a:lnTo>
                  <a:lnTo>
                    <a:pt x="509" y="810"/>
                  </a:lnTo>
                  <a:lnTo>
                    <a:pt x="504" y="810"/>
                  </a:lnTo>
                  <a:lnTo>
                    <a:pt x="504" y="816"/>
                  </a:lnTo>
                  <a:lnTo>
                    <a:pt x="500" y="816"/>
                  </a:lnTo>
                  <a:lnTo>
                    <a:pt x="500" y="828"/>
                  </a:lnTo>
                  <a:lnTo>
                    <a:pt x="495" y="828"/>
                  </a:lnTo>
                  <a:lnTo>
                    <a:pt x="495" y="834"/>
                  </a:lnTo>
                  <a:lnTo>
                    <a:pt x="490" y="834"/>
                  </a:lnTo>
                  <a:lnTo>
                    <a:pt x="490" y="839"/>
                  </a:lnTo>
                  <a:lnTo>
                    <a:pt x="484" y="839"/>
                  </a:lnTo>
                  <a:lnTo>
                    <a:pt x="484" y="846"/>
                  </a:lnTo>
                  <a:lnTo>
                    <a:pt x="480" y="846"/>
                  </a:lnTo>
                  <a:lnTo>
                    <a:pt x="480" y="851"/>
                  </a:lnTo>
                  <a:lnTo>
                    <a:pt x="475" y="851"/>
                  </a:lnTo>
                  <a:lnTo>
                    <a:pt x="475" y="864"/>
                  </a:lnTo>
                  <a:lnTo>
                    <a:pt x="465" y="864"/>
                  </a:lnTo>
                  <a:lnTo>
                    <a:pt x="465" y="870"/>
                  </a:lnTo>
                  <a:lnTo>
                    <a:pt x="461" y="870"/>
                  </a:lnTo>
                  <a:lnTo>
                    <a:pt x="461" y="875"/>
                  </a:lnTo>
                  <a:lnTo>
                    <a:pt x="456" y="875"/>
                  </a:lnTo>
                  <a:lnTo>
                    <a:pt x="456" y="888"/>
                  </a:lnTo>
                  <a:lnTo>
                    <a:pt x="452" y="888"/>
                  </a:lnTo>
                  <a:lnTo>
                    <a:pt x="452" y="893"/>
                  </a:lnTo>
                  <a:lnTo>
                    <a:pt x="447" y="893"/>
                  </a:lnTo>
                  <a:lnTo>
                    <a:pt x="447" y="898"/>
                  </a:lnTo>
                  <a:lnTo>
                    <a:pt x="442" y="898"/>
                  </a:lnTo>
                  <a:lnTo>
                    <a:pt x="442" y="905"/>
                  </a:lnTo>
                  <a:lnTo>
                    <a:pt x="437" y="905"/>
                  </a:lnTo>
                  <a:lnTo>
                    <a:pt x="437" y="916"/>
                  </a:lnTo>
                  <a:lnTo>
                    <a:pt x="433" y="916"/>
                  </a:lnTo>
                  <a:lnTo>
                    <a:pt x="433" y="929"/>
                  </a:lnTo>
                  <a:lnTo>
                    <a:pt x="428" y="929"/>
                  </a:lnTo>
                  <a:lnTo>
                    <a:pt x="428" y="934"/>
                  </a:lnTo>
                  <a:lnTo>
                    <a:pt x="423" y="934"/>
                  </a:lnTo>
                  <a:lnTo>
                    <a:pt x="423" y="940"/>
                  </a:lnTo>
                  <a:lnTo>
                    <a:pt x="418" y="940"/>
                  </a:lnTo>
                  <a:lnTo>
                    <a:pt x="418" y="951"/>
                  </a:lnTo>
                  <a:lnTo>
                    <a:pt x="413" y="951"/>
                  </a:lnTo>
                  <a:lnTo>
                    <a:pt x="413" y="957"/>
                  </a:lnTo>
                  <a:lnTo>
                    <a:pt x="408" y="957"/>
                  </a:lnTo>
                  <a:lnTo>
                    <a:pt x="408" y="964"/>
                  </a:lnTo>
                  <a:lnTo>
                    <a:pt x="403" y="964"/>
                  </a:lnTo>
                  <a:lnTo>
                    <a:pt x="403" y="975"/>
                  </a:lnTo>
                  <a:lnTo>
                    <a:pt x="399" y="975"/>
                  </a:lnTo>
                  <a:lnTo>
                    <a:pt x="399" y="987"/>
                  </a:lnTo>
                  <a:lnTo>
                    <a:pt x="393" y="987"/>
                  </a:lnTo>
                  <a:lnTo>
                    <a:pt x="393" y="992"/>
                  </a:lnTo>
                  <a:lnTo>
                    <a:pt x="389" y="992"/>
                  </a:lnTo>
                  <a:lnTo>
                    <a:pt x="389" y="999"/>
                  </a:lnTo>
                  <a:lnTo>
                    <a:pt x="384" y="999"/>
                  </a:lnTo>
                  <a:lnTo>
                    <a:pt x="384" y="1011"/>
                  </a:lnTo>
                  <a:lnTo>
                    <a:pt x="379" y="1011"/>
                  </a:lnTo>
                  <a:lnTo>
                    <a:pt x="379" y="1016"/>
                  </a:lnTo>
                  <a:lnTo>
                    <a:pt x="374" y="1016"/>
                  </a:lnTo>
                  <a:lnTo>
                    <a:pt x="374" y="1024"/>
                  </a:lnTo>
                  <a:lnTo>
                    <a:pt x="370" y="1024"/>
                  </a:lnTo>
                  <a:lnTo>
                    <a:pt x="370" y="1029"/>
                  </a:lnTo>
                  <a:lnTo>
                    <a:pt x="366" y="1029"/>
                  </a:lnTo>
                  <a:lnTo>
                    <a:pt x="366" y="1041"/>
                  </a:lnTo>
                  <a:lnTo>
                    <a:pt x="360" y="1041"/>
                  </a:lnTo>
                  <a:lnTo>
                    <a:pt x="360" y="1046"/>
                  </a:lnTo>
                  <a:lnTo>
                    <a:pt x="356" y="1046"/>
                  </a:lnTo>
                  <a:lnTo>
                    <a:pt x="356" y="1057"/>
                  </a:lnTo>
                  <a:lnTo>
                    <a:pt x="351" y="1057"/>
                  </a:lnTo>
                  <a:lnTo>
                    <a:pt x="351" y="1065"/>
                  </a:lnTo>
                  <a:lnTo>
                    <a:pt x="346" y="1065"/>
                  </a:lnTo>
                  <a:lnTo>
                    <a:pt x="346" y="1076"/>
                  </a:lnTo>
                  <a:lnTo>
                    <a:pt x="340" y="1076"/>
                  </a:lnTo>
                  <a:lnTo>
                    <a:pt x="340" y="1082"/>
                  </a:lnTo>
                  <a:lnTo>
                    <a:pt x="336" y="1082"/>
                  </a:lnTo>
                  <a:lnTo>
                    <a:pt x="336" y="1093"/>
                  </a:lnTo>
                  <a:lnTo>
                    <a:pt x="326" y="1093"/>
                  </a:lnTo>
                  <a:lnTo>
                    <a:pt x="326" y="1106"/>
                  </a:lnTo>
                  <a:lnTo>
                    <a:pt x="322" y="1106"/>
                  </a:lnTo>
                  <a:lnTo>
                    <a:pt x="322" y="1111"/>
                  </a:lnTo>
                  <a:lnTo>
                    <a:pt x="317" y="1111"/>
                  </a:lnTo>
                  <a:lnTo>
                    <a:pt x="317" y="1117"/>
                  </a:lnTo>
                  <a:lnTo>
                    <a:pt x="312" y="1117"/>
                  </a:lnTo>
                  <a:lnTo>
                    <a:pt x="312" y="1123"/>
                  </a:lnTo>
                  <a:lnTo>
                    <a:pt x="303" y="1123"/>
                  </a:lnTo>
                  <a:lnTo>
                    <a:pt x="303" y="1135"/>
                  </a:lnTo>
                  <a:lnTo>
                    <a:pt x="297" y="1135"/>
                  </a:lnTo>
                  <a:lnTo>
                    <a:pt x="297" y="1142"/>
                  </a:lnTo>
                  <a:lnTo>
                    <a:pt x="293" y="1142"/>
                  </a:lnTo>
                  <a:lnTo>
                    <a:pt x="293" y="1147"/>
                  </a:lnTo>
                  <a:lnTo>
                    <a:pt x="288" y="1147"/>
                  </a:lnTo>
                  <a:lnTo>
                    <a:pt x="288" y="1152"/>
                  </a:lnTo>
                  <a:lnTo>
                    <a:pt x="283" y="1152"/>
                  </a:lnTo>
                  <a:lnTo>
                    <a:pt x="283" y="1165"/>
                  </a:lnTo>
                  <a:lnTo>
                    <a:pt x="279" y="1165"/>
                  </a:lnTo>
                  <a:lnTo>
                    <a:pt x="279" y="1171"/>
                  </a:lnTo>
                  <a:lnTo>
                    <a:pt x="274" y="1171"/>
                  </a:lnTo>
                  <a:lnTo>
                    <a:pt x="274" y="1176"/>
                  </a:lnTo>
                  <a:lnTo>
                    <a:pt x="269" y="1176"/>
                  </a:lnTo>
                  <a:lnTo>
                    <a:pt x="269" y="1188"/>
                  </a:lnTo>
                  <a:lnTo>
                    <a:pt x="263" y="1188"/>
                  </a:lnTo>
                  <a:lnTo>
                    <a:pt x="263" y="1193"/>
                  </a:lnTo>
                  <a:lnTo>
                    <a:pt x="259" y="1193"/>
                  </a:lnTo>
                  <a:lnTo>
                    <a:pt x="259" y="1201"/>
                  </a:lnTo>
                  <a:lnTo>
                    <a:pt x="254" y="1201"/>
                  </a:lnTo>
                  <a:lnTo>
                    <a:pt x="254" y="1206"/>
                  </a:lnTo>
                  <a:lnTo>
                    <a:pt x="249" y="1206"/>
                  </a:lnTo>
                  <a:lnTo>
                    <a:pt x="249" y="1212"/>
                  </a:lnTo>
                  <a:lnTo>
                    <a:pt x="245" y="1212"/>
                  </a:lnTo>
                  <a:lnTo>
                    <a:pt x="245" y="1218"/>
                  </a:lnTo>
                  <a:lnTo>
                    <a:pt x="240" y="1218"/>
                  </a:lnTo>
                  <a:lnTo>
                    <a:pt x="240" y="1224"/>
                  </a:lnTo>
                  <a:lnTo>
                    <a:pt x="235" y="1224"/>
                  </a:lnTo>
                  <a:lnTo>
                    <a:pt x="235" y="1229"/>
                  </a:lnTo>
                  <a:lnTo>
                    <a:pt x="230" y="1229"/>
                  </a:lnTo>
                  <a:lnTo>
                    <a:pt x="230" y="1236"/>
                  </a:lnTo>
                  <a:lnTo>
                    <a:pt x="226" y="1236"/>
                  </a:lnTo>
                  <a:lnTo>
                    <a:pt x="226" y="1247"/>
                  </a:lnTo>
                  <a:lnTo>
                    <a:pt x="216" y="1247"/>
                  </a:lnTo>
                  <a:lnTo>
                    <a:pt x="216" y="1259"/>
                  </a:lnTo>
                  <a:lnTo>
                    <a:pt x="211" y="1259"/>
                  </a:lnTo>
                  <a:lnTo>
                    <a:pt x="211" y="1266"/>
                  </a:lnTo>
                  <a:lnTo>
                    <a:pt x="202" y="1266"/>
                  </a:lnTo>
                  <a:lnTo>
                    <a:pt x="202" y="1271"/>
                  </a:lnTo>
                  <a:lnTo>
                    <a:pt x="196" y="1271"/>
                  </a:lnTo>
                  <a:lnTo>
                    <a:pt x="196" y="1277"/>
                  </a:lnTo>
                  <a:lnTo>
                    <a:pt x="192" y="1277"/>
                  </a:lnTo>
                  <a:lnTo>
                    <a:pt x="192" y="1283"/>
                  </a:lnTo>
                  <a:lnTo>
                    <a:pt x="187" y="1283"/>
                  </a:lnTo>
                  <a:lnTo>
                    <a:pt x="187" y="1289"/>
                  </a:lnTo>
                  <a:lnTo>
                    <a:pt x="182" y="1289"/>
                  </a:lnTo>
                  <a:lnTo>
                    <a:pt x="182" y="1294"/>
                  </a:lnTo>
                  <a:lnTo>
                    <a:pt x="177" y="1294"/>
                  </a:lnTo>
                  <a:lnTo>
                    <a:pt x="177" y="1301"/>
                  </a:lnTo>
                  <a:lnTo>
                    <a:pt x="173" y="1301"/>
                  </a:lnTo>
                  <a:lnTo>
                    <a:pt x="173" y="1307"/>
                  </a:lnTo>
                  <a:lnTo>
                    <a:pt x="167" y="1307"/>
                  </a:lnTo>
                  <a:lnTo>
                    <a:pt x="167" y="1312"/>
                  </a:lnTo>
                  <a:lnTo>
                    <a:pt x="163" y="1312"/>
                  </a:lnTo>
                  <a:lnTo>
                    <a:pt x="163" y="1318"/>
                  </a:lnTo>
                  <a:lnTo>
                    <a:pt x="159" y="1318"/>
                  </a:lnTo>
                  <a:lnTo>
                    <a:pt x="159" y="1329"/>
                  </a:lnTo>
                  <a:lnTo>
                    <a:pt x="149" y="1329"/>
                  </a:lnTo>
                  <a:lnTo>
                    <a:pt x="149" y="1337"/>
                  </a:lnTo>
                  <a:lnTo>
                    <a:pt x="144" y="1337"/>
                  </a:lnTo>
                  <a:lnTo>
                    <a:pt x="144" y="1342"/>
                  </a:lnTo>
                  <a:lnTo>
                    <a:pt x="139" y="1342"/>
                  </a:lnTo>
                  <a:lnTo>
                    <a:pt x="139" y="1348"/>
                  </a:lnTo>
                  <a:lnTo>
                    <a:pt x="134" y="1348"/>
                  </a:lnTo>
                  <a:lnTo>
                    <a:pt x="134" y="1353"/>
                  </a:lnTo>
                  <a:lnTo>
                    <a:pt x="130" y="1353"/>
                  </a:lnTo>
                  <a:lnTo>
                    <a:pt x="130" y="1359"/>
                  </a:lnTo>
                  <a:lnTo>
                    <a:pt x="124" y="1359"/>
                  </a:lnTo>
                  <a:lnTo>
                    <a:pt x="124" y="1365"/>
                  </a:lnTo>
                  <a:lnTo>
                    <a:pt x="119" y="1365"/>
                  </a:lnTo>
                  <a:lnTo>
                    <a:pt x="119" y="1370"/>
                  </a:lnTo>
                  <a:lnTo>
                    <a:pt x="115" y="1370"/>
                  </a:lnTo>
                  <a:lnTo>
                    <a:pt x="115" y="1378"/>
                  </a:lnTo>
                  <a:lnTo>
                    <a:pt x="111" y="1378"/>
                  </a:lnTo>
                  <a:lnTo>
                    <a:pt x="111" y="1383"/>
                  </a:lnTo>
                  <a:lnTo>
                    <a:pt x="105" y="1383"/>
                  </a:lnTo>
                  <a:lnTo>
                    <a:pt x="105" y="1389"/>
                  </a:lnTo>
                  <a:lnTo>
                    <a:pt x="101" y="1389"/>
                  </a:lnTo>
                  <a:lnTo>
                    <a:pt x="101" y="1395"/>
                  </a:lnTo>
                  <a:lnTo>
                    <a:pt x="96" y="1395"/>
                  </a:lnTo>
                  <a:lnTo>
                    <a:pt x="96" y="1407"/>
                  </a:lnTo>
                  <a:lnTo>
                    <a:pt x="91" y="1407"/>
                  </a:lnTo>
                  <a:lnTo>
                    <a:pt x="91" y="1424"/>
                  </a:lnTo>
                  <a:lnTo>
                    <a:pt x="130" y="1424"/>
                  </a:lnTo>
                  <a:lnTo>
                    <a:pt x="130" y="1430"/>
                  </a:lnTo>
                  <a:lnTo>
                    <a:pt x="144" y="1430"/>
                  </a:lnTo>
                  <a:lnTo>
                    <a:pt x="144" y="1437"/>
                  </a:lnTo>
                  <a:lnTo>
                    <a:pt x="163" y="1437"/>
                  </a:lnTo>
                  <a:lnTo>
                    <a:pt x="163" y="1443"/>
                  </a:lnTo>
                  <a:lnTo>
                    <a:pt x="187" y="1443"/>
                  </a:lnTo>
                  <a:lnTo>
                    <a:pt x="187" y="1448"/>
                  </a:lnTo>
                  <a:lnTo>
                    <a:pt x="202" y="1448"/>
                  </a:lnTo>
                  <a:lnTo>
                    <a:pt x="202" y="1454"/>
                  </a:lnTo>
                  <a:lnTo>
                    <a:pt x="221" y="1454"/>
                  </a:lnTo>
                  <a:lnTo>
                    <a:pt x="221" y="1460"/>
                  </a:lnTo>
                  <a:lnTo>
                    <a:pt x="245" y="1460"/>
                  </a:lnTo>
                  <a:lnTo>
                    <a:pt x="245" y="1465"/>
                  </a:lnTo>
                  <a:lnTo>
                    <a:pt x="263" y="1465"/>
                  </a:lnTo>
                  <a:lnTo>
                    <a:pt x="263" y="1472"/>
                  </a:lnTo>
                  <a:lnTo>
                    <a:pt x="288" y="1472"/>
                  </a:lnTo>
                  <a:lnTo>
                    <a:pt x="288" y="1478"/>
                  </a:lnTo>
                  <a:lnTo>
                    <a:pt x="297" y="1478"/>
                  </a:lnTo>
                  <a:lnTo>
                    <a:pt x="297" y="1484"/>
                  </a:lnTo>
                  <a:lnTo>
                    <a:pt x="322" y="1484"/>
                  </a:lnTo>
                  <a:lnTo>
                    <a:pt x="322" y="1489"/>
                  </a:lnTo>
                  <a:lnTo>
                    <a:pt x="346" y="1489"/>
                  </a:lnTo>
                  <a:lnTo>
                    <a:pt x="346" y="1496"/>
                  </a:lnTo>
                  <a:lnTo>
                    <a:pt x="360" y="1496"/>
                  </a:lnTo>
                  <a:lnTo>
                    <a:pt x="360" y="1501"/>
                  </a:lnTo>
                  <a:lnTo>
                    <a:pt x="374" y="1501"/>
                  </a:lnTo>
                  <a:lnTo>
                    <a:pt x="374" y="1508"/>
                  </a:lnTo>
                  <a:lnTo>
                    <a:pt x="389" y="1508"/>
                  </a:lnTo>
                  <a:lnTo>
                    <a:pt x="389" y="1514"/>
                  </a:lnTo>
                  <a:lnTo>
                    <a:pt x="403" y="1514"/>
                  </a:lnTo>
                  <a:lnTo>
                    <a:pt x="403" y="1519"/>
                  </a:lnTo>
                  <a:lnTo>
                    <a:pt x="413" y="1519"/>
                  </a:lnTo>
                  <a:lnTo>
                    <a:pt x="413" y="1525"/>
                  </a:lnTo>
                  <a:lnTo>
                    <a:pt x="437" y="1525"/>
                  </a:lnTo>
                  <a:lnTo>
                    <a:pt x="437" y="1530"/>
                  </a:lnTo>
                  <a:lnTo>
                    <a:pt x="452" y="1530"/>
                  </a:lnTo>
                  <a:lnTo>
                    <a:pt x="452" y="1538"/>
                  </a:lnTo>
                  <a:lnTo>
                    <a:pt x="480" y="1538"/>
                  </a:lnTo>
                  <a:lnTo>
                    <a:pt x="480" y="1543"/>
                  </a:lnTo>
                  <a:lnTo>
                    <a:pt x="504" y="1543"/>
                  </a:lnTo>
                  <a:lnTo>
                    <a:pt x="504" y="1549"/>
                  </a:lnTo>
                  <a:lnTo>
                    <a:pt x="523" y="1549"/>
                  </a:lnTo>
                  <a:lnTo>
                    <a:pt x="523" y="1555"/>
                  </a:lnTo>
                  <a:lnTo>
                    <a:pt x="557" y="1555"/>
                  </a:lnTo>
                  <a:lnTo>
                    <a:pt x="557" y="1560"/>
                  </a:lnTo>
                  <a:lnTo>
                    <a:pt x="567" y="1560"/>
                  </a:lnTo>
                  <a:lnTo>
                    <a:pt x="567" y="1566"/>
                  </a:lnTo>
                  <a:lnTo>
                    <a:pt x="600" y="1566"/>
                  </a:lnTo>
                  <a:lnTo>
                    <a:pt x="600" y="1573"/>
                  </a:lnTo>
                  <a:lnTo>
                    <a:pt x="628" y="1573"/>
                  </a:lnTo>
                  <a:lnTo>
                    <a:pt x="628" y="1579"/>
                  </a:lnTo>
                  <a:lnTo>
                    <a:pt x="644" y="1579"/>
                  </a:lnTo>
                  <a:lnTo>
                    <a:pt x="644" y="1584"/>
                  </a:lnTo>
                  <a:lnTo>
                    <a:pt x="663" y="1584"/>
                  </a:lnTo>
                  <a:lnTo>
                    <a:pt x="663" y="1590"/>
                  </a:lnTo>
                  <a:lnTo>
                    <a:pt x="681" y="1590"/>
                  </a:lnTo>
                  <a:lnTo>
                    <a:pt x="681" y="1596"/>
                  </a:lnTo>
                  <a:lnTo>
                    <a:pt x="707" y="1596"/>
                  </a:lnTo>
                  <a:lnTo>
                    <a:pt x="707" y="1603"/>
                  </a:lnTo>
                  <a:lnTo>
                    <a:pt x="716" y="1603"/>
                  </a:lnTo>
                  <a:lnTo>
                    <a:pt x="716" y="1608"/>
                  </a:lnTo>
                  <a:lnTo>
                    <a:pt x="735" y="1608"/>
                  </a:lnTo>
                  <a:lnTo>
                    <a:pt x="735" y="1614"/>
                  </a:lnTo>
                  <a:lnTo>
                    <a:pt x="740" y="1614"/>
                  </a:lnTo>
                  <a:lnTo>
                    <a:pt x="740" y="1620"/>
                  </a:lnTo>
                  <a:lnTo>
                    <a:pt x="750" y="1620"/>
                  </a:lnTo>
                  <a:lnTo>
                    <a:pt x="750" y="1625"/>
                  </a:lnTo>
                  <a:lnTo>
                    <a:pt x="758" y="1625"/>
                  </a:lnTo>
                  <a:lnTo>
                    <a:pt x="758" y="1631"/>
                  </a:lnTo>
                  <a:lnTo>
                    <a:pt x="788" y="1631"/>
                  </a:lnTo>
                  <a:lnTo>
                    <a:pt x="788" y="1637"/>
                  </a:lnTo>
                  <a:lnTo>
                    <a:pt x="802" y="1637"/>
                  </a:lnTo>
                  <a:lnTo>
                    <a:pt x="802" y="1644"/>
                  </a:lnTo>
                  <a:lnTo>
                    <a:pt x="816" y="1644"/>
                  </a:lnTo>
                  <a:lnTo>
                    <a:pt x="816" y="1649"/>
                  </a:lnTo>
                  <a:lnTo>
                    <a:pt x="825" y="1649"/>
                  </a:lnTo>
                  <a:lnTo>
                    <a:pt x="825" y="1656"/>
                  </a:lnTo>
                  <a:lnTo>
                    <a:pt x="840" y="1656"/>
                  </a:lnTo>
                  <a:lnTo>
                    <a:pt x="840" y="1661"/>
                  </a:lnTo>
                  <a:lnTo>
                    <a:pt x="860" y="1661"/>
                  </a:lnTo>
                  <a:lnTo>
                    <a:pt x="860" y="1666"/>
                  </a:lnTo>
                  <a:lnTo>
                    <a:pt x="874" y="1666"/>
                  </a:lnTo>
                  <a:lnTo>
                    <a:pt x="874" y="1674"/>
                  </a:lnTo>
                  <a:lnTo>
                    <a:pt x="884" y="1674"/>
                  </a:lnTo>
                  <a:lnTo>
                    <a:pt x="884" y="1679"/>
                  </a:lnTo>
                  <a:lnTo>
                    <a:pt x="898" y="1679"/>
                  </a:lnTo>
                  <a:lnTo>
                    <a:pt x="898" y="1685"/>
                  </a:lnTo>
                  <a:lnTo>
                    <a:pt x="917" y="1685"/>
                  </a:lnTo>
                  <a:lnTo>
                    <a:pt x="917" y="1691"/>
                  </a:lnTo>
                  <a:lnTo>
                    <a:pt x="932" y="1691"/>
                  </a:lnTo>
                  <a:lnTo>
                    <a:pt x="932" y="1697"/>
                  </a:lnTo>
                  <a:lnTo>
                    <a:pt x="946" y="1697"/>
                  </a:lnTo>
                  <a:lnTo>
                    <a:pt x="946" y="1702"/>
                  </a:lnTo>
                  <a:lnTo>
                    <a:pt x="961" y="1702"/>
                  </a:lnTo>
                  <a:lnTo>
                    <a:pt x="961" y="1709"/>
                  </a:lnTo>
                  <a:lnTo>
                    <a:pt x="969" y="1709"/>
                  </a:lnTo>
                  <a:lnTo>
                    <a:pt x="969" y="1715"/>
                  </a:lnTo>
                  <a:lnTo>
                    <a:pt x="979" y="1715"/>
                  </a:lnTo>
                  <a:lnTo>
                    <a:pt x="979" y="1720"/>
                  </a:lnTo>
                  <a:lnTo>
                    <a:pt x="1004" y="1720"/>
                  </a:lnTo>
                  <a:lnTo>
                    <a:pt x="1004" y="1726"/>
                  </a:lnTo>
                  <a:lnTo>
                    <a:pt x="1009" y="1726"/>
                  </a:lnTo>
                  <a:lnTo>
                    <a:pt x="1009" y="1732"/>
                  </a:lnTo>
                  <a:lnTo>
                    <a:pt x="1023" y="1732"/>
                  </a:lnTo>
                  <a:lnTo>
                    <a:pt x="1023" y="1737"/>
                  </a:lnTo>
                  <a:lnTo>
                    <a:pt x="1042" y="1737"/>
                  </a:lnTo>
                  <a:lnTo>
                    <a:pt x="1042" y="1744"/>
                  </a:lnTo>
                  <a:lnTo>
                    <a:pt x="1061" y="1744"/>
                  </a:lnTo>
                  <a:lnTo>
                    <a:pt x="1061" y="1750"/>
                  </a:lnTo>
                  <a:lnTo>
                    <a:pt x="1076" y="1750"/>
                  </a:lnTo>
                  <a:lnTo>
                    <a:pt x="1076" y="1756"/>
                  </a:lnTo>
                  <a:lnTo>
                    <a:pt x="1091" y="1756"/>
                  </a:lnTo>
                  <a:lnTo>
                    <a:pt x="1091" y="1761"/>
                  </a:lnTo>
                  <a:lnTo>
                    <a:pt x="1100" y="1761"/>
                  </a:lnTo>
                  <a:lnTo>
                    <a:pt x="1100" y="1767"/>
                  </a:lnTo>
                  <a:lnTo>
                    <a:pt x="1114" y="1767"/>
                  </a:lnTo>
                  <a:lnTo>
                    <a:pt x="1114" y="1773"/>
                  </a:lnTo>
                  <a:lnTo>
                    <a:pt x="1143" y="1773"/>
                  </a:lnTo>
                  <a:lnTo>
                    <a:pt x="1143" y="1778"/>
                  </a:lnTo>
                  <a:lnTo>
                    <a:pt x="1153" y="1778"/>
                  </a:lnTo>
                  <a:lnTo>
                    <a:pt x="1153" y="1785"/>
                  </a:lnTo>
                  <a:lnTo>
                    <a:pt x="1176" y="1785"/>
                  </a:lnTo>
                  <a:lnTo>
                    <a:pt x="1176" y="1791"/>
                  </a:lnTo>
                  <a:lnTo>
                    <a:pt x="1186" y="1791"/>
                  </a:lnTo>
                  <a:lnTo>
                    <a:pt x="1186" y="1797"/>
                  </a:lnTo>
                  <a:lnTo>
                    <a:pt x="1225" y="1797"/>
                  </a:lnTo>
                  <a:lnTo>
                    <a:pt x="1225" y="1802"/>
                  </a:lnTo>
                  <a:lnTo>
                    <a:pt x="1239" y="1802"/>
                  </a:lnTo>
                  <a:lnTo>
                    <a:pt x="1239" y="1810"/>
                  </a:lnTo>
                  <a:lnTo>
                    <a:pt x="1253" y="1810"/>
                  </a:lnTo>
                  <a:lnTo>
                    <a:pt x="1253" y="1815"/>
                  </a:lnTo>
                  <a:lnTo>
                    <a:pt x="1272" y="1815"/>
                  </a:lnTo>
                  <a:lnTo>
                    <a:pt x="1272" y="1821"/>
                  </a:lnTo>
                  <a:lnTo>
                    <a:pt x="1282" y="1821"/>
                  </a:lnTo>
                  <a:lnTo>
                    <a:pt x="1282" y="1826"/>
                  </a:lnTo>
                  <a:lnTo>
                    <a:pt x="1306" y="1826"/>
                  </a:lnTo>
                  <a:lnTo>
                    <a:pt x="1306" y="1832"/>
                  </a:lnTo>
                  <a:lnTo>
                    <a:pt x="1320" y="1832"/>
                  </a:lnTo>
                  <a:lnTo>
                    <a:pt x="1320" y="1838"/>
                  </a:lnTo>
                  <a:lnTo>
                    <a:pt x="1340" y="1838"/>
                  </a:lnTo>
                  <a:lnTo>
                    <a:pt x="1340" y="1843"/>
                  </a:lnTo>
                  <a:lnTo>
                    <a:pt x="1349" y="1843"/>
                  </a:lnTo>
                  <a:lnTo>
                    <a:pt x="1349" y="1851"/>
                  </a:lnTo>
                  <a:lnTo>
                    <a:pt x="1364" y="1851"/>
                  </a:lnTo>
                  <a:lnTo>
                    <a:pt x="1364" y="1856"/>
                  </a:lnTo>
                  <a:lnTo>
                    <a:pt x="1397" y="1856"/>
                  </a:lnTo>
                  <a:lnTo>
                    <a:pt x="1397" y="1862"/>
                  </a:lnTo>
                  <a:lnTo>
                    <a:pt x="1407" y="1862"/>
                  </a:lnTo>
                  <a:lnTo>
                    <a:pt x="1407" y="1868"/>
                  </a:lnTo>
                  <a:lnTo>
                    <a:pt x="1416" y="1868"/>
                  </a:lnTo>
                  <a:lnTo>
                    <a:pt x="1416" y="1875"/>
                  </a:lnTo>
                  <a:lnTo>
                    <a:pt x="1432" y="1875"/>
                  </a:lnTo>
                  <a:lnTo>
                    <a:pt x="1432" y="1880"/>
                  </a:lnTo>
                  <a:lnTo>
                    <a:pt x="1450" y="1880"/>
                  </a:lnTo>
                  <a:lnTo>
                    <a:pt x="1450" y="1885"/>
                  </a:lnTo>
                  <a:lnTo>
                    <a:pt x="1470" y="1885"/>
                  </a:lnTo>
                  <a:lnTo>
                    <a:pt x="1470" y="1892"/>
                  </a:lnTo>
                  <a:lnTo>
                    <a:pt x="1489" y="1892"/>
                  </a:lnTo>
                  <a:lnTo>
                    <a:pt x="1489" y="1897"/>
                  </a:lnTo>
                  <a:lnTo>
                    <a:pt x="1504" y="1897"/>
                  </a:lnTo>
                  <a:lnTo>
                    <a:pt x="1504" y="1903"/>
                  </a:lnTo>
                  <a:lnTo>
                    <a:pt x="1527" y="1903"/>
                  </a:lnTo>
                  <a:lnTo>
                    <a:pt x="1527" y="1910"/>
                  </a:lnTo>
                  <a:lnTo>
                    <a:pt x="1546" y="1910"/>
                  </a:lnTo>
                  <a:lnTo>
                    <a:pt x="1546" y="1916"/>
                  </a:lnTo>
                  <a:lnTo>
                    <a:pt x="1570" y="1916"/>
                  </a:lnTo>
                  <a:lnTo>
                    <a:pt x="1570" y="1921"/>
                  </a:lnTo>
                  <a:lnTo>
                    <a:pt x="1585" y="1921"/>
                  </a:lnTo>
                  <a:lnTo>
                    <a:pt x="1585" y="1927"/>
                  </a:lnTo>
                  <a:lnTo>
                    <a:pt x="1618" y="1927"/>
                  </a:lnTo>
                  <a:lnTo>
                    <a:pt x="1618" y="1933"/>
                  </a:lnTo>
                  <a:lnTo>
                    <a:pt x="1633" y="1933"/>
                  </a:lnTo>
                  <a:lnTo>
                    <a:pt x="1633" y="1938"/>
                  </a:lnTo>
                  <a:lnTo>
                    <a:pt x="1642" y="1938"/>
                  </a:lnTo>
                  <a:lnTo>
                    <a:pt x="1642" y="1944"/>
                  </a:lnTo>
                  <a:lnTo>
                    <a:pt x="1657" y="1944"/>
                  </a:lnTo>
                  <a:lnTo>
                    <a:pt x="1657" y="1951"/>
                  </a:lnTo>
                  <a:lnTo>
                    <a:pt x="1676" y="1951"/>
                  </a:lnTo>
                  <a:lnTo>
                    <a:pt x="1676" y="1957"/>
                  </a:lnTo>
                  <a:lnTo>
                    <a:pt x="1690" y="1957"/>
                  </a:lnTo>
                  <a:lnTo>
                    <a:pt x="1690" y="1962"/>
                  </a:lnTo>
                  <a:lnTo>
                    <a:pt x="1704" y="1962"/>
                  </a:lnTo>
                  <a:lnTo>
                    <a:pt x="1704" y="1969"/>
                  </a:lnTo>
                  <a:lnTo>
                    <a:pt x="1714" y="1969"/>
                  </a:lnTo>
                  <a:lnTo>
                    <a:pt x="1714" y="1974"/>
                  </a:lnTo>
                  <a:lnTo>
                    <a:pt x="1730" y="1974"/>
                  </a:lnTo>
                  <a:lnTo>
                    <a:pt x="1730" y="1979"/>
                  </a:lnTo>
                  <a:lnTo>
                    <a:pt x="1738" y="1979"/>
                  </a:lnTo>
                  <a:lnTo>
                    <a:pt x="1738" y="1987"/>
                  </a:lnTo>
                  <a:lnTo>
                    <a:pt x="1763" y="1987"/>
                  </a:lnTo>
                  <a:lnTo>
                    <a:pt x="1763" y="1992"/>
                  </a:lnTo>
                  <a:lnTo>
                    <a:pt x="1781" y="1992"/>
                  </a:lnTo>
                  <a:lnTo>
                    <a:pt x="1781" y="1998"/>
                  </a:lnTo>
                  <a:lnTo>
                    <a:pt x="1791" y="1998"/>
                  </a:lnTo>
                  <a:lnTo>
                    <a:pt x="1791" y="2003"/>
                  </a:lnTo>
                  <a:lnTo>
                    <a:pt x="1801" y="2003"/>
                  </a:lnTo>
                  <a:lnTo>
                    <a:pt x="1801" y="2011"/>
                  </a:lnTo>
                  <a:lnTo>
                    <a:pt x="1820" y="2011"/>
                  </a:lnTo>
                  <a:lnTo>
                    <a:pt x="1820" y="2016"/>
                  </a:lnTo>
                  <a:lnTo>
                    <a:pt x="1839" y="2016"/>
                  </a:lnTo>
                  <a:lnTo>
                    <a:pt x="1839" y="2022"/>
                  </a:lnTo>
                  <a:lnTo>
                    <a:pt x="1854" y="2022"/>
                  </a:lnTo>
                  <a:lnTo>
                    <a:pt x="1854" y="2028"/>
                  </a:lnTo>
                  <a:lnTo>
                    <a:pt x="1869" y="2028"/>
                  </a:lnTo>
                  <a:lnTo>
                    <a:pt x="1869" y="2033"/>
                  </a:lnTo>
                  <a:lnTo>
                    <a:pt x="1878" y="2033"/>
                  </a:lnTo>
                  <a:lnTo>
                    <a:pt x="1878" y="2039"/>
                  </a:lnTo>
                  <a:lnTo>
                    <a:pt x="1897" y="2039"/>
                  </a:lnTo>
                  <a:lnTo>
                    <a:pt x="1897" y="2046"/>
                  </a:lnTo>
                  <a:lnTo>
                    <a:pt x="1907" y="2046"/>
                  </a:lnTo>
                  <a:lnTo>
                    <a:pt x="1907" y="2052"/>
                  </a:lnTo>
                  <a:lnTo>
                    <a:pt x="1921" y="2052"/>
                  </a:lnTo>
                  <a:lnTo>
                    <a:pt x="1921" y="2057"/>
                  </a:lnTo>
                  <a:lnTo>
                    <a:pt x="1955" y="2057"/>
                  </a:lnTo>
                  <a:lnTo>
                    <a:pt x="1955" y="2063"/>
                  </a:lnTo>
                  <a:lnTo>
                    <a:pt x="1964" y="2063"/>
                  </a:lnTo>
                  <a:lnTo>
                    <a:pt x="1964" y="2069"/>
                  </a:lnTo>
                  <a:lnTo>
                    <a:pt x="1978" y="2069"/>
                  </a:lnTo>
                  <a:lnTo>
                    <a:pt x="1978" y="2075"/>
                  </a:lnTo>
                  <a:lnTo>
                    <a:pt x="1992" y="2075"/>
                  </a:lnTo>
                  <a:lnTo>
                    <a:pt x="1992" y="2080"/>
                  </a:lnTo>
                  <a:lnTo>
                    <a:pt x="2013" y="2080"/>
                  </a:lnTo>
                  <a:lnTo>
                    <a:pt x="2013" y="2087"/>
                  </a:lnTo>
                  <a:lnTo>
                    <a:pt x="2027" y="2087"/>
                  </a:lnTo>
                  <a:lnTo>
                    <a:pt x="2027" y="2093"/>
                  </a:lnTo>
                  <a:lnTo>
                    <a:pt x="2055" y="2093"/>
                  </a:lnTo>
                  <a:lnTo>
                    <a:pt x="2055" y="2098"/>
                  </a:lnTo>
                  <a:lnTo>
                    <a:pt x="2070" y="2098"/>
                  </a:lnTo>
                  <a:lnTo>
                    <a:pt x="2070" y="2104"/>
                  </a:lnTo>
                  <a:lnTo>
                    <a:pt x="2085" y="2104"/>
                  </a:lnTo>
                  <a:lnTo>
                    <a:pt x="2085" y="2110"/>
                  </a:lnTo>
                  <a:lnTo>
                    <a:pt x="2099" y="2110"/>
                  </a:lnTo>
                  <a:lnTo>
                    <a:pt x="2099" y="2117"/>
                  </a:lnTo>
                  <a:lnTo>
                    <a:pt x="2114" y="2117"/>
                  </a:lnTo>
                  <a:lnTo>
                    <a:pt x="2114" y="2122"/>
                  </a:lnTo>
                  <a:lnTo>
                    <a:pt x="2132" y="2122"/>
                  </a:lnTo>
                  <a:lnTo>
                    <a:pt x="2132" y="2129"/>
                  </a:lnTo>
                  <a:lnTo>
                    <a:pt x="2147" y="2129"/>
                  </a:lnTo>
                  <a:lnTo>
                    <a:pt x="2147" y="2134"/>
                  </a:lnTo>
                  <a:lnTo>
                    <a:pt x="2171" y="2134"/>
                  </a:lnTo>
                  <a:lnTo>
                    <a:pt x="2171" y="2139"/>
                  </a:lnTo>
                  <a:lnTo>
                    <a:pt x="2190" y="2139"/>
                  </a:lnTo>
                  <a:lnTo>
                    <a:pt x="2190" y="2147"/>
                  </a:lnTo>
                  <a:lnTo>
                    <a:pt x="2199" y="2147"/>
                  </a:lnTo>
                  <a:lnTo>
                    <a:pt x="2199" y="2152"/>
                  </a:lnTo>
                  <a:lnTo>
                    <a:pt x="2209" y="2152"/>
                  </a:lnTo>
                  <a:lnTo>
                    <a:pt x="2209" y="2157"/>
                  </a:lnTo>
                  <a:lnTo>
                    <a:pt x="2218" y="2157"/>
                  </a:lnTo>
                  <a:lnTo>
                    <a:pt x="2218" y="2164"/>
                  </a:lnTo>
                  <a:lnTo>
                    <a:pt x="2233" y="2164"/>
                  </a:lnTo>
                  <a:lnTo>
                    <a:pt x="2233" y="2169"/>
                  </a:lnTo>
                  <a:lnTo>
                    <a:pt x="2253" y="2169"/>
                  </a:lnTo>
                  <a:lnTo>
                    <a:pt x="2253" y="2175"/>
                  </a:lnTo>
                  <a:lnTo>
                    <a:pt x="2262" y="2175"/>
                  </a:lnTo>
                  <a:lnTo>
                    <a:pt x="2262" y="2180"/>
                  </a:lnTo>
                  <a:lnTo>
                    <a:pt x="2276" y="2180"/>
                  </a:lnTo>
                  <a:lnTo>
                    <a:pt x="2276" y="2188"/>
                  </a:lnTo>
                  <a:lnTo>
                    <a:pt x="2286" y="2188"/>
                  </a:lnTo>
                  <a:lnTo>
                    <a:pt x="2286" y="2193"/>
                  </a:lnTo>
                  <a:lnTo>
                    <a:pt x="2301" y="2193"/>
                  </a:lnTo>
                  <a:lnTo>
                    <a:pt x="2301" y="2198"/>
                  </a:lnTo>
                  <a:lnTo>
                    <a:pt x="2320" y="2198"/>
                  </a:lnTo>
                  <a:lnTo>
                    <a:pt x="2320" y="2205"/>
                  </a:lnTo>
                  <a:lnTo>
                    <a:pt x="2329" y="2205"/>
                  </a:lnTo>
                  <a:lnTo>
                    <a:pt x="2329" y="2210"/>
                  </a:lnTo>
                  <a:lnTo>
                    <a:pt x="2339" y="2210"/>
                  </a:lnTo>
                  <a:lnTo>
                    <a:pt x="2339" y="2216"/>
                  </a:lnTo>
                  <a:lnTo>
                    <a:pt x="2348" y="2216"/>
                  </a:lnTo>
                  <a:lnTo>
                    <a:pt x="2348" y="2223"/>
                  </a:lnTo>
                  <a:lnTo>
                    <a:pt x="2368" y="2223"/>
                  </a:lnTo>
                  <a:lnTo>
                    <a:pt x="2368" y="2229"/>
                  </a:lnTo>
                  <a:lnTo>
                    <a:pt x="2387" y="2229"/>
                  </a:lnTo>
                  <a:lnTo>
                    <a:pt x="2387" y="2234"/>
                  </a:lnTo>
                  <a:lnTo>
                    <a:pt x="2397" y="2234"/>
                  </a:lnTo>
                  <a:lnTo>
                    <a:pt x="2397" y="2240"/>
                  </a:lnTo>
                  <a:lnTo>
                    <a:pt x="2406" y="2240"/>
                  </a:lnTo>
                  <a:lnTo>
                    <a:pt x="2406" y="2246"/>
                  </a:lnTo>
                  <a:lnTo>
                    <a:pt x="2411" y="2246"/>
                  </a:lnTo>
                  <a:lnTo>
                    <a:pt x="2411" y="2251"/>
                  </a:lnTo>
                  <a:lnTo>
                    <a:pt x="2425" y="2251"/>
                  </a:lnTo>
                  <a:lnTo>
                    <a:pt x="2425" y="2258"/>
                  </a:lnTo>
                  <a:lnTo>
                    <a:pt x="2435" y="2258"/>
                  </a:lnTo>
                  <a:lnTo>
                    <a:pt x="2435" y="2264"/>
                  </a:lnTo>
                  <a:lnTo>
                    <a:pt x="2450" y="2264"/>
                  </a:lnTo>
                  <a:lnTo>
                    <a:pt x="2450" y="2270"/>
                  </a:lnTo>
                  <a:lnTo>
                    <a:pt x="2464" y="2270"/>
                  </a:lnTo>
                  <a:lnTo>
                    <a:pt x="2464" y="2275"/>
                  </a:lnTo>
                  <a:lnTo>
                    <a:pt x="2473" y="2275"/>
                  </a:lnTo>
                  <a:lnTo>
                    <a:pt x="2473" y="2283"/>
                  </a:lnTo>
                  <a:lnTo>
                    <a:pt x="2493" y="2283"/>
                  </a:lnTo>
                  <a:lnTo>
                    <a:pt x="2493" y="2288"/>
                  </a:lnTo>
                  <a:lnTo>
                    <a:pt x="2512" y="2288"/>
                  </a:lnTo>
                  <a:lnTo>
                    <a:pt x="2512" y="2294"/>
                  </a:lnTo>
                  <a:lnTo>
                    <a:pt x="2531" y="2294"/>
                  </a:lnTo>
                  <a:lnTo>
                    <a:pt x="2531" y="2299"/>
                  </a:lnTo>
                  <a:lnTo>
                    <a:pt x="2546" y="2299"/>
                  </a:lnTo>
                  <a:lnTo>
                    <a:pt x="2546" y="2305"/>
                  </a:lnTo>
                  <a:lnTo>
                    <a:pt x="2554" y="2305"/>
                  </a:lnTo>
                  <a:lnTo>
                    <a:pt x="2554" y="2311"/>
                  </a:lnTo>
                  <a:lnTo>
                    <a:pt x="2564" y="2311"/>
                  </a:lnTo>
                  <a:lnTo>
                    <a:pt x="2564" y="2316"/>
                  </a:lnTo>
                  <a:lnTo>
                    <a:pt x="2574" y="2316"/>
                  </a:lnTo>
                  <a:lnTo>
                    <a:pt x="2574" y="2324"/>
                  </a:lnTo>
                  <a:lnTo>
                    <a:pt x="2583" y="2324"/>
                  </a:lnTo>
                  <a:lnTo>
                    <a:pt x="2583" y="2329"/>
                  </a:lnTo>
                  <a:lnTo>
                    <a:pt x="2598" y="2329"/>
                  </a:lnTo>
                  <a:lnTo>
                    <a:pt x="2598" y="2335"/>
                  </a:lnTo>
                  <a:lnTo>
                    <a:pt x="2608" y="2335"/>
                  </a:lnTo>
                  <a:lnTo>
                    <a:pt x="2608" y="2341"/>
                  </a:lnTo>
                  <a:lnTo>
                    <a:pt x="2646" y="2341"/>
                  </a:lnTo>
                  <a:lnTo>
                    <a:pt x="2646" y="2346"/>
                  </a:lnTo>
                  <a:lnTo>
                    <a:pt x="2660" y="2346"/>
                  </a:lnTo>
                  <a:lnTo>
                    <a:pt x="2660" y="2352"/>
                  </a:lnTo>
                  <a:lnTo>
                    <a:pt x="2675" y="2352"/>
                  </a:lnTo>
                  <a:lnTo>
                    <a:pt x="2675" y="2357"/>
                  </a:lnTo>
                  <a:lnTo>
                    <a:pt x="2690" y="2357"/>
                  </a:lnTo>
                  <a:lnTo>
                    <a:pt x="2690" y="2365"/>
                  </a:lnTo>
                  <a:lnTo>
                    <a:pt x="2699" y="2365"/>
                  </a:lnTo>
                  <a:lnTo>
                    <a:pt x="2699" y="2370"/>
                  </a:lnTo>
                  <a:lnTo>
                    <a:pt x="2713" y="2370"/>
                  </a:lnTo>
                  <a:lnTo>
                    <a:pt x="2713" y="2376"/>
                  </a:lnTo>
                  <a:lnTo>
                    <a:pt x="2723" y="2376"/>
                  </a:lnTo>
                  <a:lnTo>
                    <a:pt x="2723" y="2382"/>
                  </a:lnTo>
                  <a:lnTo>
                    <a:pt x="2732" y="2382"/>
                  </a:lnTo>
                  <a:lnTo>
                    <a:pt x="2732" y="2389"/>
                  </a:lnTo>
                  <a:lnTo>
                    <a:pt x="2761" y="2389"/>
                  </a:lnTo>
                  <a:lnTo>
                    <a:pt x="2761" y="2394"/>
                  </a:lnTo>
                  <a:lnTo>
                    <a:pt x="2776" y="2394"/>
                  </a:lnTo>
                  <a:lnTo>
                    <a:pt x="2776" y="2389"/>
                  </a:lnTo>
                  <a:lnTo>
                    <a:pt x="2781" y="2389"/>
                  </a:lnTo>
                  <a:lnTo>
                    <a:pt x="2781" y="2382"/>
                  </a:lnTo>
                  <a:lnTo>
                    <a:pt x="2786" y="2382"/>
                  </a:lnTo>
                  <a:lnTo>
                    <a:pt x="2786" y="2376"/>
                  </a:lnTo>
                  <a:lnTo>
                    <a:pt x="2790" y="2376"/>
                  </a:lnTo>
                  <a:lnTo>
                    <a:pt x="2790" y="2370"/>
                  </a:lnTo>
                  <a:lnTo>
                    <a:pt x="2795" y="2370"/>
                  </a:lnTo>
                  <a:lnTo>
                    <a:pt x="2795" y="2357"/>
                  </a:lnTo>
                  <a:lnTo>
                    <a:pt x="2800" y="2357"/>
                  </a:lnTo>
                  <a:lnTo>
                    <a:pt x="2800" y="2346"/>
                  </a:lnTo>
                  <a:lnTo>
                    <a:pt x="2804" y="2346"/>
                  </a:lnTo>
                  <a:lnTo>
                    <a:pt x="2804" y="2335"/>
                  </a:lnTo>
                  <a:lnTo>
                    <a:pt x="2815" y="2335"/>
                  </a:lnTo>
                  <a:lnTo>
                    <a:pt x="2815" y="2316"/>
                  </a:lnTo>
                  <a:lnTo>
                    <a:pt x="2820" y="2316"/>
                  </a:lnTo>
                  <a:lnTo>
                    <a:pt x="2820" y="2311"/>
                  </a:lnTo>
                  <a:lnTo>
                    <a:pt x="2824" y="2311"/>
                  </a:lnTo>
                  <a:lnTo>
                    <a:pt x="2824" y="2299"/>
                  </a:lnTo>
                  <a:lnTo>
                    <a:pt x="2829" y="2299"/>
                  </a:lnTo>
                  <a:lnTo>
                    <a:pt x="2829" y="2288"/>
                  </a:lnTo>
                  <a:lnTo>
                    <a:pt x="2834" y="2288"/>
                  </a:lnTo>
                  <a:lnTo>
                    <a:pt x="2834" y="2270"/>
                  </a:lnTo>
                  <a:lnTo>
                    <a:pt x="2838" y="2270"/>
                  </a:lnTo>
                  <a:lnTo>
                    <a:pt x="2838" y="2258"/>
                  </a:lnTo>
                  <a:lnTo>
                    <a:pt x="2843" y="2258"/>
                  </a:lnTo>
                  <a:lnTo>
                    <a:pt x="2843" y="2251"/>
                  </a:lnTo>
                  <a:lnTo>
                    <a:pt x="2848" y="2251"/>
                  </a:lnTo>
                  <a:lnTo>
                    <a:pt x="2848" y="2240"/>
                  </a:lnTo>
                  <a:lnTo>
                    <a:pt x="2853" y="2240"/>
                  </a:lnTo>
                  <a:lnTo>
                    <a:pt x="2853" y="2234"/>
                  </a:lnTo>
                  <a:lnTo>
                    <a:pt x="2857" y="2234"/>
                  </a:lnTo>
                  <a:lnTo>
                    <a:pt x="2857" y="2223"/>
                  </a:lnTo>
                  <a:lnTo>
                    <a:pt x="2863" y="2223"/>
                  </a:lnTo>
                  <a:lnTo>
                    <a:pt x="2863" y="2216"/>
                  </a:lnTo>
                  <a:lnTo>
                    <a:pt x="2867" y="2216"/>
                  </a:lnTo>
                  <a:lnTo>
                    <a:pt x="2867" y="2205"/>
                  </a:lnTo>
                  <a:lnTo>
                    <a:pt x="2871" y="2205"/>
                  </a:lnTo>
                  <a:lnTo>
                    <a:pt x="2871" y="2198"/>
                  </a:lnTo>
                  <a:lnTo>
                    <a:pt x="2877" y="2198"/>
                  </a:lnTo>
                  <a:lnTo>
                    <a:pt x="2877" y="2180"/>
                  </a:lnTo>
                  <a:lnTo>
                    <a:pt x="2882" y="2180"/>
                  </a:lnTo>
                  <a:lnTo>
                    <a:pt x="2882" y="2169"/>
                  </a:lnTo>
                  <a:lnTo>
                    <a:pt x="2887" y="2169"/>
                  </a:lnTo>
                  <a:lnTo>
                    <a:pt x="2887" y="2164"/>
                  </a:lnTo>
                  <a:lnTo>
                    <a:pt x="2891" y="2164"/>
                  </a:lnTo>
                  <a:lnTo>
                    <a:pt x="2891" y="2157"/>
                  </a:lnTo>
                  <a:lnTo>
                    <a:pt x="2896" y="2157"/>
                  </a:lnTo>
                  <a:lnTo>
                    <a:pt x="2896" y="2139"/>
                  </a:lnTo>
                  <a:lnTo>
                    <a:pt x="2901" y="2139"/>
                  </a:lnTo>
                  <a:lnTo>
                    <a:pt x="2901" y="2129"/>
                  </a:lnTo>
                  <a:lnTo>
                    <a:pt x="2911" y="2129"/>
                  </a:lnTo>
                  <a:lnTo>
                    <a:pt x="2911" y="2122"/>
                  </a:lnTo>
                  <a:lnTo>
                    <a:pt x="2915" y="2122"/>
                  </a:lnTo>
                  <a:lnTo>
                    <a:pt x="2915" y="2117"/>
                  </a:lnTo>
                  <a:lnTo>
                    <a:pt x="2925" y="2117"/>
                  </a:lnTo>
                  <a:lnTo>
                    <a:pt x="2925" y="2110"/>
                  </a:lnTo>
                  <a:lnTo>
                    <a:pt x="2930" y="2110"/>
                  </a:lnTo>
                  <a:lnTo>
                    <a:pt x="2930" y="2104"/>
                  </a:lnTo>
                  <a:lnTo>
                    <a:pt x="2934" y="2104"/>
                  </a:lnTo>
                  <a:lnTo>
                    <a:pt x="2934" y="2093"/>
                  </a:lnTo>
                  <a:lnTo>
                    <a:pt x="2938" y="2093"/>
                  </a:lnTo>
                  <a:lnTo>
                    <a:pt x="2938" y="2087"/>
                  </a:lnTo>
                  <a:lnTo>
                    <a:pt x="2944" y="2087"/>
                  </a:lnTo>
                  <a:lnTo>
                    <a:pt x="2944" y="2075"/>
                  </a:lnTo>
                  <a:lnTo>
                    <a:pt x="2948" y="2075"/>
                  </a:lnTo>
                  <a:lnTo>
                    <a:pt x="2948" y="2063"/>
                  </a:lnTo>
                  <a:lnTo>
                    <a:pt x="2954" y="2063"/>
                  </a:lnTo>
                  <a:lnTo>
                    <a:pt x="2954" y="2057"/>
                  </a:lnTo>
                  <a:lnTo>
                    <a:pt x="2959" y="2057"/>
                  </a:lnTo>
                  <a:lnTo>
                    <a:pt x="2959" y="2046"/>
                  </a:lnTo>
                  <a:lnTo>
                    <a:pt x="2964" y="2046"/>
                  </a:lnTo>
                  <a:lnTo>
                    <a:pt x="2964" y="2028"/>
                  </a:lnTo>
                  <a:lnTo>
                    <a:pt x="2968" y="2028"/>
                  </a:lnTo>
                  <a:lnTo>
                    <a:pt x="2968" y="2022"/>
                  </a:lnTo>
                  <a:lnTo>
                    <a:pt x="2973" y="2022"/>
                  </a:lnTo>
                  <a:lnTo>
                    <a:pt x="2973" y="2003"/>
                  </a:lnTo>
                  <a:lnTo>
                    <a:pt x="2978" y="2003"/>
                  </a:lnTo>
                  <a:lnTo>
                    <a:pt x="2978" y="1992"/>
                  </a:lnTo>
                  <a:lnTo>
                    <a:pt x="2982" y="1992"/>
                  </a:lnTo>
                  <a:lnTo>
                    <a:pt x="2982" y="1969"/>
                  </a:lnTo>
                  <a:lnTo>
                    <a:pt x="2987" y="1969"/>
                  </a:lnTo>
                  <a:lnTo>
                    <a:pt x="2987" y="1944"/>
                  </a:lnTo>
                  <a:lnTo>
                    <a:pt x="2992" y="1944"/>
                  </a:lnTo>
                  <a:lnTo>
                    <a:pt x="2992" y="1938"/>
                  </a:lnTo>
                  <a:lnTo>
                    <a:pt x="2997" y="1938"/>
                  </a:lnTo>
                  <a:lnTo>
                    <a:pt x="2997" y="1933"/>
                  </a:lnTo>
                  <a:lnTo>
                    <a:pt x="3001" y="1933"/>
                  </a:lnTo>
                  <a:lnTo>
                    <a:pt x="3001" y="1916"/>
                  </a:lnTo>
                  <a:lnTo>
                    <a:pt x="3007" y="1916"/>
                  </a:lnTo>
                  <a:lnTo>
                    <a:pt x="3007" y="1910"/>
                  </a:lnTo>
                  <a:lnTo>
                    <a:pt x="3011" y="1910"/>
                  </a:lnTo>
                  <a:lnTo>
                    <a:pt x="3011" y="1903"/>
                  </a:lnTo>
                  <a:lnTo>
                    <a:pt x="3015" y="1903"/>
                  </a:lnTo>
                  <a:lnTo>
                    <a:pt x="3015" y="1885"/>
                  </a:lnTo>
                  <a:lnTo>
                    <a:pt x="3021" y="1885"/>
                  </a:lnTo>
                  <a:lnTo>
                    <a:pt x="3021" y="1868"/>
                  </a:lnTo>
                  <a:lnTo>
                    <a:pt x="3026" y="1868"/>
                  </a:lnTo>
                  <a:lnTo>
                    <a:pt x="3026" y="1856"/>
                  </a:lnTo>
                  <a:lnTo>
                    <a:pt x="3031" y="1856"/>
                  </a:lnTo>
                  <a:lnTo>
                    <a:pt x="3031" y="1843"/>
                  </a:lnTo>
                  <a:lnTo>
                    <a:pt x="3035" y="1843"/>
                  </a:lnTo>
                  <a:lnTo>
                    <a:pt x="3035" y="1826"/>
                  </a:lnTo>
                  <a:lnTo>
                    <a:pt x="3041" y="1826"/>
                  </a:lnTo>
                  <a:lnTo>
                    <a:pt x="3041" y="1821"/>
                  </a:lnTo>
                  <a:lnTo>
                    <a:pt x="3045" y="1821"/>
                  </a:lnTo>
                  <a:lnTo>
                    <a:pt x="3045" y="1810"/>
                  </a:lnTo>
                  <a:lnTo>
                    <a:pt x="3050" y="1810"/>
                  </a:lnTo>
                  <a:lnTo>
                    <a:pt x="3050" y="1802"/>
                  </a:lnTo>
                  <a:lnTo>
                    <a:pt x="3055" y="1802"/>
                  </a:lnTo>
                  <a:lnTo>
                    <a:pt x="3055" y="1767"/>
                  </a:lnTo>
                  <a:lnTo>
                    <a:pt x="3059" y="1767"/>
                  </a:lnTo>
                  <a:lnTo>
                    <a:pt x="3059" y="1756"/>
                  </a:lnTo>
                  <a:lnTo>
                    <a:pt x="3064" y="1756"/>
                  </a:lnTo>
                  <a:lnTo>
                    <a:pt x="3064" y="1744"/>
                  </a:lnTo>
                  <a:lnTo>
                    <a:pt x="3069" y="1744"/>
                  </a:lnTo>
                  <a:lnTo>
                    <a:pt x="3069" y="1737"/>
                  </a:lnTo>
                  <a:lnTo>
                    <a:pt x="3074" y="1737"/>
                  </a:lnTo>
                  <a:lnTo>
                    <a:pt x="3074" y="1726"/>
                  </a:lnTo>
                  <a:lnTo>
                    <a:pt x="3078" y="1726"/>
                  </a:lnTo>
                  <a:lnTo>
                    <a:pt x="3078" y="1720"/>
                  </a:lnTo>
                  <a:lnTo>
                    <a:pt x="3083" y="1720"/>
                  </a:lnTo>
                  <a:lnTo>
                    <a:pt x="3083" y="1709"/>
                  </a:lnTo>
                  <a:lnTo>
                    <a:pt x="3088" y="1709"/>
                  </a:lnTo>
                  <a:lnTo>
                    <a:pt x="3088" y="1702"/>
                  </a:lnTo>
                  <a:lnTo>
                    <a:pt x="3093" y="1702"/>
                  </a:lnTo>
                  <a:lnTo>
                    <a:pt x="3093" y="1697"/>
                  </a:lnTo>
                  <a:lnTo>
                    <a:pt x="3103" y="1697"/>
                  </a:lnTo>
                  <a:lnTo>
                    <a:pt x="3103" y="1685"/>
                  </a:lnTo>
                  <a:lnTo>
                    <a:pt x="3108" y="1685"/>
                  </a:lnTo>
                  <a:lnTo>
                    <a:pt x="3108" y="1666"/>
                  </a:lnTo>
                  <a:lnTo>
                    <a:pt x="3112" y="1666"/>
                  </a:lnTo>
                  <a:lnTo>
                    <a:pt x="3112" y="1649"/>
                  </a:lnTo>
                  <a:lnTo>
                    <a:pt x="3117" y="1649"/>
                  </a:lnTo>
                  <a:lnTo>
                    <a:pt x="3117" y="1631"/>
                  </a:lnTo>
                  <a:lnTo>
                    <a:pt x="3122" y="1631"/>
                  </a:lnTo>
                  <a:lnTo>
                    <a:pt x="3122" y="1614"/>
                  </a:lnTo>
                  <a:lnTo>
                    <a:pt x="3127" y="1614"/>
                  </a:lnTo>
                  <a:lnTo>
                    <a:pt x="3127" y="1596"/>
                  </a:lnTo>
                  <a:lnTo>
                    <a:pt x="3131" y="1596"/>
                  </a:lnTo>
                  <a:lnTo>
                    <a:pt x="3131" y="1584"/>
                  </a:lnTo>
                  <a:lnTo>
                    <a:pt x="3137" y="1584"/>
                  </a:lnTo>
                  <a:lnTo>
                    <a:pt x="3137" y="1573"/>
                  </a:lnTo>
                  <a:lnTo>
                    <a:pt x="3141" y="1573"/>
                  </a:lnTo>
                  <a:lnTo>
                    <a:pt x="3141" y="1560"/>
                  </a:lnTo>
                  <a:lnTo>
                    <a:pt x="3145" y="1560"/>
                  </a:lnTo>
                  <a:lnTo>
                    <a:pt x="3145" y="1543"/>
                  </a:lnTo>
                  <a:lnTo>
                    <a:pt x="3151" y="1543"/>
                  </a:lnTo>
                  <a:lnTo>
                    <a:pt x="3151" y="1530"/>
                  </a:lnTo>
                  <a:lnTo>
                    <a:pt x="3155" y="1530"/>
                  </a:lnTo>
                  <a:lnTo>
                    <a:pt x="3155" y="1519"/>
                  </a:lnTo>
                  <a:lnTo>
                    <a:pt x="3160" y="1519"/>
                  </a:lnTo>
                  <a:lnTo>
                    <a:pt x="3160" y="1508"/>
                  </a:lnTo>
                  <a:lnTo>
                    <a:pt x="3165" y="1508"/>
                  </a:lnTo>
                  <a:lnTo>
                    <a:pt x="3165" y="1496"/>
                  </a:lnTo>
                  <a:lnTo>
                    <a:pt x="3171" y="1496"/>
                  </a:lnTo>
                  <a:lnTo>
                    <a:pt x="3171" y="1472"/>
                  </a:lnTo>
                  <a:lnTo>
                    <a:pt x="3175" y="1472"/>
                  </a:lnTo>
                  <a:lnTo>
                    <a:pt x="3175" y="1460"/>
                  </a:lnTo>
                  <a:lnTo>
                    <a:pt x="3179" y="1460"/>
                  </a:lnTo>
                  <a:lnTo>
                    <a:pt x="3179" y="1443"/>
                  </a:lnTo>
                  <a:lnTo>
                    <a:pt x="3185" y="1443"/>
                  </a:lnTo>
                  <a:lnTo>
                    <a:pt x="3185" y="1430"/>
                  </a:lnTo>
                  <a:lnTo>
                    <a:pt x="3194" y="1430"/>
                  </a:lnTo>
                  <a:lnTo>
                    <a:pt x="3194" y="1383"/>
                  </a:lnTo>
                  <a:lnTo>
                    <a:pt x="3199" y="1383"/>
                  </a:lnTo>
                  <a:lnTo>
                    <a:pt x="3199" y="1378"/>
                  </a:lnTo>
                  <a:lnTo>
                    <a:pt x="3208" y="1378"/>
                  </a:lnTo>
                  <a:lnTo>
                    <a:pt x="3208" y="1383"/>
                  </a:lnTo>
                  <a:lnTo>
                    <a:pt x="3218" y="1383"/>
                  </a:lnTo>
                  <a:lnTo>
                    <a:pt x="3218" y="1378"/>
                  </a:lnTo>
                  <a:lnTo>
                    <a:pt x="3222" y="1378"/>
                  </a:lnTo>
                  <a:lnTo>
                    <a:pt x="3222" y="1370"/>
                  </a:lnTo>
                  <a:lnTo>
                    <a:pt x="3227" y="1370"/>
                  </a:lnTo>
                  <a:lnTo>
                    <a:pt x="3227" y="1342"/>
                  </a:lnTo>
                  <a:lnTo>
                    <a:pt x="3232" y="1342"/>
                  </a:lnTo>
                  <a:lnTo>
                    <a:pt x="3232" y="1329"/>
                  </a:lnTo>
                  <a:lnTo>
                    <a:pt x="3236" y="1329"/>
                  </a:lnTo>
                  <a:lnTo>
                    <a:pt x="3236" y="1318"/>
                  </a:lnTo>
                  <a:lnTo>
                    <a:pt x="3242" y="1318"/>
                  </a:lnTo>
                  <a:lnTo>
                    <a:pt x="3242" y="1301"/>
                  </a:lnTo>
                  <a:lnTo>
                    <a:pt x="3247" y="1301"/>
                  </a:lnTo>
                  <a:lnTo>
                    <a:pt x="3247" y="1289"/>
                  </a:lnTo>
                  <a:lnTo>
                    <a:pt x="3252" y="1289"/>
                  </a:lnTo>
                  <a:lnTo>
                    <a:pt x="3252" y="1277"/>
                  </a:lnTo>
                  <a:lnTo>
                    <a:pt x="3256" y="1277"/>
                  </a:lnTo>
                  <a:lnTo>
                    <a:pt x="3256" y="1271"/>
                  </a:lnTo>
                  <a:lnTo>
                    <a:pt x="3262" y="1271"/>
                  </a:lnTo>
                  <a:lnTo>
                    <a:pt x="3262" y="1253"/>
                  </a:lnTo>
                  <a:lnTo>
                    <a:pt x="3266" y="1253"/>
                  </a:lnTo>
                  <a:lnTo>
                    <a:pt x="3266" y="1229"/>
                  </a:lnTo>
                  <a:lnTo>
                    <a:pt x="3271" y="1229"/>
                  </a:lnTo>
                  <a:lnTo>
                    <a:pt x="3271" y="1218"/>
                  </a:lnTo>
                  <a:lnTo>
                    <a:pt x="3275" y="1218"/>
                  </a:lnTo>
                  <a:lnTo>
                    <a:pt x="3275" y="1193"/>
                  </a:lnTo>
                  <a:lnTo>
                    <a:pt x="3280" y="1193"/>
                  </a:lnTo>
                  <a:lnTo>
                    <a:pt x="3280" y="1183"/>
                  </a:lnTo>
                  <a:lnTo>
                    <a:pt x="3285" y="1183"/>
                  </a:lnTo>
                  <a:lnTo>
                    <a:pt x="3285" y="1171"/>
                  </a:lnTo>
                  <a:lnTo>
                    <a:pt x="3289" y="1171"/>
                  </a:lnTo>
                  <a:lnTo>
                    <a:pt x="3289" y="1165"/>
                  </a:lnTo>
                  <a:lnTo>
                    <a:pt x="3295" y="1165"/>
                  </a:lnTo>
                  <a:lnTo>
                    <a:pt x="3295" y="1152"/>
                  </a:lnTo>
                  <a:lnTo>
                    <a:pt x="3299" y="1152"/>
                  </a:lnTo>
                  <a:lnTo>
                    <a:pt x="3299" y="1135"/>
                  </a:lnTo>
                  <a:lnTo>
                    <a:pt x="3304" y="1135"/>
                  </a:lnTo>
                  <a:lnTo>
                    <a:pt x="3304" y="1123"/>
                  </a:lnTo>
                  <a:lnTo>
                    <a:pt x="3309" y="1123"/>
                  </a:lnTo>
                  <a:lnTo>
                    <a:pt x="3309" y="1117"/>
                  </a:lnTo>
                  <a:lnTo>
                    <a:pt x="3313" y="1117"/>
                  </a:lnTo>
                  <a:lnTo>
                    <a:pt x="3313" y="1106"/>
                  </a:lnTo>
                  <a:lnTo>
                    <a:pt x="3319" y="1106"/>
                  </a:lnTo>
                  <a:lnTo>
                    <a:pt x="3319" y="1100"/>
                  </a:lnTo>
                  <a:lnTo>
                    <a:pt x="3323" y="1100"/>
                  </a:lnTo>
                  <a:lnTo>
                    <a:pt x="3323" y="1088"/>
                  </a:lnTo>
                  <a:lnTo>
                    <a:pt x="3329" y="1088"/>
                  </a:lnTo>
                  <a:lnTo>
                    <a:pt x="3329" y="1082"/>
                  </a:lnTo>
                  <a:lnTo>
                    <a:pt x="3333" y="1082"/>
                  </a:lnTo>
                  <a:lnTo>
                    <a:pt x="3333" y="1076"/>
                  </a:lnTo>
                  <a:lnTo>
                    <a:pt x="3338" y="1076"/>
                  </a:lnTo>
                  <a:lnTo>
                    <a:pt x="3338" y="1070"/>
                  </a:lnTo>
                  <a:lnTo>
                    <a:pt x="3343" y="1070"/>
                  </a:lnTo>
                  <a:lnTo>
                    <a:pt x="3343" y="1065"/>
                  </a:lnTo>
                  <a:lnTo>
                    <a:pt x="3348" y="1065"/>
                  </a:lnTo>
                  <a:lnTo>
                    <a:pt x="3348" y="1057"/>
                  </a:lnTo>
                  <a:lnTo>
                    <a:pt x="3352" y="1057"/>
                  </a:lnTo>
                  <a:lnTo>
                    <a:pt x="3352" y="1041"/>
                  </a:lnTo>
                  <a:lnTo>
                    <a:pt x="3357" y="1041"/>
                  </a:lnTo>
                  <a:lnTo>
                    <a:pt x="3357" y="1035"/>
                  </a:lnTo>
                  <a:lnTo>
                    <a:pt x="3362" y="1035"/>
                  </a:lnTo>
                  <a:lnTo>
                    <a:pt x="3362" y="1029"/>
                  </a:lnTo>
                  <a:lnTo>
                    <a:pt x="3366" y="1029"/>
                  </a:lnTo>
                  <a:lnTo>
                    <a:pt x="3366" y="1016"/>
                  </a:lnTo>
                  <a:lnTo>
                    <a:pt x="3371" y="1016"/>
                  </a:lnTo>
                  <a:lnTo>
                    <a:pt x="3371" y="1005"/>
                  </a:lnTo>
                  <a:lnTo>
                    <a:pt x="3376" y="1005"/>
                  </a:lnTo>
                  <a:lnTo>
                    <a:pt x="3376" y="987"/>
                  </a:lnTo>
                  <a:lnTo>
                    <a:pt x="3381" y="987"/>
                  </a:lnTo>
                  <a:lnTo>
                    <a:pt x="3381" y="975"/>
                  </a:lnTo>
                  <a:lnTo>
                    <a:pt x="3385" y="975"/>
                  </a:lnTo>
                  <a:lnTo>
                    <a:pt x="3385" y="964"/>
                  </a:lnTo>
                  <a:lnTo>
                    <a:pt x="3392" y="964"/>
                  </a:lnTo>
                  <a:lnTo>
                    <a:pt x="3392" y="951"/>
                  </a:lnTo>
                  <a:lnTo>
                    <a:pt x="3396" y="951"/>
                  </a:lnTo>
                  <a:lnTo>
                    <a:pt x="3396" y="946"/>
                  </a:lnTo>
                  <a:lnTo>
                    <a:pt x="3400" y="946"/>
                  </a:lnTo>
                  <a:lnTo>
                    <a:pt x="3400" y="929"/>
                  </a:lnTo>
                  <a:lnTo>
                    <a:pt x="3406" y="929"/>
                  </a:lnTo>
                  <a:lnTo>
                    <a:pt x="3406" y="910"/>
                  </a:lnTo>
                  <a:lnTo>
                    <a:pt x="3410" y="910"/>
                  </a:lnTo>
                  <a:lnTo>
                    <a:pt x="3410" y="905"/>
                  </a:lnTo>
                  <a:lnTo>
                    <a:pt x="3415" y="905"/>
                  </a:lnTo>
                  <a:lnTo>
                    <a:pt x="3415" y="893"/>
                  </a:lnTo>
                  <a:lnTo>
                    <a:pt x="3419" y="893"/>
                  </a:lnTo>
                  <a:lnTo>
                    <a:pt x="3419" y="888"/>
                  </a:lnTo>
                  <a:lnTo>
                    <a:pt x="3425" y="888"/>
                  </a:lnTo>
                  <a:lnTo>
                    <a:pt x="3425" y="875"/>
                  </a:lnTo>
                  <a:lnTo>
                    <a:pt x="3429" y="875"/>
                  </a:lnTo>
                  <a:lnTo>
                    <a:pt x="3429" y="870"/>
                  </a:lnTo>
                  <a:lnTo>
                    <a:pt x="3439" y="870"/>
                  </a:lnTo>
                  <a:lnTo>
                    <a:pt x="3439" y="858"/>
                  </a:lnTo>
                  <a:lnTo>
                    <a:pt x="3443" y="858"/>
                  </a:lnTo>
                  <a:lnTo>
                    <a:pt x="3443" y="851"/>
                  </a:lnTo>
                  <a:lnTo>
                    <a:pt x="3448" y="851"/>
                  </a:lnTo>
                  <a:lnTo>
                    <a:pt x="3448" y="839"/>
                  </a:lnTo>
                  <a:lnTo>
                    <a:pt x="3453" y="839"/>
                  </a:lnTo>
                  <a:lnTo>
                    <a:pt x="3453" y="834"/>
                  </a:lnTo>
                  <a:lnTo>
                    <a:pt x="3458" y="834"/>
                  </a:lnTo>
                  <a:lnTo>
                    <a:pt x="3458" y="816"/>
                  </a:lnTo>
                  <a:lnTo>
                    <a:pt x="3463" y="816"/>
                  </a:lnTo>
                  <a:lnTo>
                    <a:pt x="3463" y="804"/>
                  </a:lnTo>
                  <a:lnTo>
                    <a:pt x="3468" y="804"/>
                  </a:lnTo>
                  <a:lnTo>
                    <a:pt x="3468" y="798"/>
                  </a:lnTo>
                  <a:lnTo>
                    <a:pt x="3473" y="798"/>
                  </a:lnTo>
                  <a:lnTo>
                    <a:pt x="3473" y="793"/>
                  </a:lnTo>
                  <a:lnTo>
                    <a:pt x="3478" y="793"/>
                  </a:lnTo>
                  <a:lnTo>
                    <a:pt x="3478" y="780"/>
                  </a:lnTo>
                  <a:lnTo>
                    <a:pt x="3482" y="780"/>
                  </a:lnTo>
                  <a:lnTo>
                    <a:pt x="3482" y="775"/>
                  </a:lnTo>
                  <a:lnTo>
                    <a:pt x="3487" y="775"/>
                  </a:lnTo>
                  <a:lnTo>
                    <a:pt x="3487" y="769"/>
                  </a:lnTo>
                  <a:lnTo>
                    <a:pt x="3492" y="769"/>
                  </a:lnTo>
                  <a:lnTo>
                    <a:pt x="3492" y="752"/>
                  </a:lnTo>
                  <a:lnTo>
                    <a:pt x="3496" y="752"/>
                  </a:lnTo>
                  <a:lnTo>
                    <a:pt x="3496" y="745"/>
                  </a:lnTo>
                  <a:lnTo>
                    <a:pt x="3501" y="745"/>
                  </a:lnTo>
                  <a:lnTo>
                    <a:pt x="3501" y="722"/>
                  </a:lnTo>
                  <a:lnTo>
                    <a:pt x="3506" y="722"/>
                  </a:lnTo>
                  <a:lnTo>
                    <a:pt x="3506" y="710"/>
                  </a:lnTo>
                  <a:lnTo>
                    <a:pt x="3511" y="710"/>
                  </a:lnTo>
                  <a:lnTo>
                    <a:pt x="3511" y="698"/>
                  </a:lnTo>
                  <a:lnTo>
                    <a:pt x="3515" y="698"/>
                  </a:lnTo>
                  <a:lnTo>
                    <a:pt x="3515" y="687"/>
                  </a:lnTo>
                  <a:lnTo>
                    <a:pt x="3520" y="687"/>
                  </a:lnTo>
                  <a:lnTo>
                    <a:pt x="3520" y="674"/>
                  </a:lnTo>
                  <a:lnTo>
                    <a:pt x="3525" y="674"/>
                  </a:lnTo>
                  <a:lnTo>
                    <a:pt x="3525" y="669"/>
                  </a:lnTo>
                  <a:lnTo>
                    <a:pt x="3529" y="669"/>
                  </a:lnTo>
                  <a:lnTo>
                    <a:pt x="3529" y="657"/>
                  </a:lnTo>
                  <a:lnTo>
                    <a:pt x="3536" y="657"/>
                  </a:lnTo>
                  <a:lnTo>
                    <a:pt x="3536" y="650"/>
                  </a:lnTo>
                  <a:lnTo>
                    <a:pt x="3545" y="650"/>
                  </a:lnTo>
                  <a:lnTo>
                    <a:pt x="3545" y="669"/>
                  </a:lnTo>
                  <a:lnTo>
                    <a:pt x="3540" y="669"/>
                  </a:lnTo>
                  <a:lnTo>
                    <a:pt x="3540" y="674"/>
                  </a:lnTo>
                  <a:lnTo>
                    <a:pt x="3536" y="674"/>
                  </a:lnTo>
                  <a:lnTo>
                    <a:pt x="3536" y="687"/>
                  </a:lnTo>
                  <a:lnTo>
                    <a:pt x="3529" y="687"/>
                  </a:lnTo>
                  <a:lnTo>
                    <a:pt x="3529" y="703"/>
                  </a:lnTo>
                  <a:lnTo>
                    <a:pt x="3525" y="703"/>
                  </a:lnTo>
                  <a:lnTo>
                    <a:pt x="3525" y="715"/>
                  </a:lnTo>
                  <a:lnTo>
                    <a:pt x="3520" y="715"/>
                  </a:lnTo>
                  <a:lnTo>
                    <a:pt x="3520" y="733"/>
                  </a:lnTo>
                  <a:lnTo>
                    <a:pt x="3515" y="733"/>
                  </a:lnTo>
                  <a:lnTo>
                    <a:pt x="3515" y="745"/>
                  </a:lnTo>
                  <a:lnTo>
                    <a:pt x="3511" y="745"/>
                  </a:lnTo>
                  <a:lnTo>
                    <a:pt x="3511" y="752"/>
                  </a:lnTo>
                  <a:lnTo>
                    <a:pt x="3506" y="752"/>
                  </a:lnTo>
                  <a:lnTo>
                    <a:pt x="3506" y="763"/>
                  </a:lnTo>
                  <a:lnTo>
                    <a:pt x="3501" y="763"/>
                  </a:lnTo>
                  <a:lnTo>
                    <a:pt x="3501" y="775"/>
                  </a:lnTo>
                  <a:lnTo>
                    <a:pt x="3496" y="775"/>
                  </a:lnTo>
                  <a:lnTo>
                    <a:pt x="3496" y="780"/>
                  </a:lnTo>
                  <a:lnTo>
                    <a:pt x="3492" y="780"/>
                  </a:lnTo>
                  <a:lnTo>
                    <a:pt x="3492" y="786"/>
                  </a:lnTo>
                  <a:lnTo>
                    <a:pt x="3487" y="786"/>
                  </a:lnTo>
                  <a:lnTo>
                    <a:pt x="3487" y="798"/>
                  </a:lnTo>
                  <a:lnTo>
                    <a:pt x="3482" y="798"/>
                  </a:lnTo>
                  <a:lnTo>
                    <a:pt x="3482" y="804"/>
                  </a:lnTo>
                  <a:lnTo>
                    <a:pt x="3478" y="804"/>
                  </a:lnTo>
                  <a:lnTo>
                    <a:pt x="3478" y="821"/>
                  </a:lnTo>
                  <a:lnTo>
                    <a:pt x="3473" y="821"/>
                  </a:lnTo>
                  <a:lnTo>
                    <a:pt x="3473" y="828"/>
                  </a:lnTo>
                  <a:lnTo>
                    <a:pt x="3468" y="828"/>
                  </a:lnTo>
                  <a:lnTo>
                    <a:pt x="3468" y="839"/>
                  </a:lnTo>
                  <a:lnTo>
                    <a:pt x="3463" y="839"/>
                  </a:lnTo>
                  <a:lnTo>
                    <a:pt x="3463" y="851"/>
                  </a:lnTo>
                  <a:lnTo>
                    <a:pt x="3458" y="851"/>
                  </a:lnTo>
                  <a:lnTo>
                    <a:pt x="3458" y="858"/>
                  </a:lnTo>
                  <a:lnTo>
                    <a:pt x="3453" y="858"/>
                  </a:lnTo>
                  <a:lnTo>
                    <a:pt x="3453" y="864"/>
                  </a:lnTo>
                  <a:lnTo>
                    <a:pt x="3448" y="864"/>
                  </a:lnTo>
                  <a:lnTo>
                    <a:pt x="3448" y="875"/>
                  </a:lnTo>
                  <a:lnTo>
                    <a:pt x="3443" y="875"/>
                  </a:lnTo>
                  <a:lnTo>
                    <a:pt x="3443" y="880"/>
                  </a:lnTo>
                  <a:lnTo>
                    <a:pt x="3439" y="880"/>
                  </a:lnTo>
                  <a:lnTo>
                    <a:pt x="3439" y="888"/>
                  </a:lnTo>
                  <a:lnTo>
                    <a:pt x="3434" y="888"/>
                  </a:lnTo>
                  <a:lnTo>
                    <a:pt x="3434" y="893"/>
                  </a:lnTo>
                  <a:lnTo>
                    <a:pt x="3429" y="893"/>
                  </a:lnTo>
                  <a:lnTo>
                    <a:pt x="3429" y="905"/>
                  </a:lnTo>
                  <a:lnTo>
                    <a:pt x="3425" y="905"/>
                  </a:lnTo>
                  <a:lnTo>
                    <a:pt x="3425" y="916"/>
                  </a:lnTo>
                  <a:lnTo>
                    <a:pt x="3419" y="916"/>
                  </a:lnTo>
                  <a:lnTo>
                    <a:pt x="3419" y="929"/>
                  </a:lnTo>
                  <a:lnTo>
                    <a:pt x="3415" y="929"/>
                  </a:lnTo>
                  <a:lnTo>
                    <a:pt x="3415" y="940"/>
                  </a:lnTo>
                  <a:lnTo>
                    <a:pt x="3410" y="940"/>
                  </a:lnTo>
                  <a:lnTo>
                    <a:pt x="3410" y="951"/>
                  </a:lnTo>
                  <a:lnTo>
                    <a:pt x="3406" y="951"/>
                  </a:lnTo>
                  <a:lnTo>
                    <a:pt x="3406" y="964"/>
                  </a:lnTo>
                  <a:lnTo>
                    <a:pt x="3400" y="964"/>
                  </a:lnTo>
                  <a:lnTo>
                    <a:pt x="3400" y="975"/>
                  </a:lnTo>
                  <a:lnTo>
                    <a:pt x="3396" y="975"/>
                  </a:lnTo>
                  <a:lnTo>
                    <a:pt x="3396" y="987"/>
                  </a:lnTo>
                  <a:lnTo>
                    <a:pt x="3392" y="987"/>
                  </a:lnTo>
                  <a:lnTo>
                    <a:pt x="3392" y="1005"/>
                  </a:lnTo>
                  <a:lnTo>
                    <a:pt x="3385" y="1005"/>
                  </a:lnTo>
                  <a:lnTo>
                    <a:pt x="3385" y="1016"/>
                  </a:lnTo>
                  <a:lnTo>
                    <a:pt x="3381" y="1016"/>
                  </a:lnTo>
                  <a:lnTo>
                    <a:pt x="3381" y="1024"/>
                  </a:lnTo>
                  <a:lnTo>
                    <a:pt x="3376" y="1024"/>
                  </a:lnTo>
                  <a:lnTo>
                    <a:pt x="3376" y="1041"/>
                  </a:lnTo>
                  <a:lnTo>
                    <a:pt x="3371" y="1041"/>
                  </a:lnTo>
                  <a:lnTo>
                    <a:pt x="3371" y="1046"/>
                  </a:lnTo>
                  <a:lnTo>
                    <a:pt x="3366" y="1046"/>
                  </a:lnTo>
                  <a:lnTo>
                    <a:pt x="3366" y="1057"/>
                  </a:lnTo>
                  <a:lnTo>
                    <a:pt x="3362" y="1057"/>
                  </a:lnTo>
                  <a:lnTo>
                    <a:pt x="3362" y="1065"/>
                  </a:lnTo>
                  <a:lnTo>
                    <a:pt x="3357" y="1065"/>
                  </a:lnTo>
                  <a:lnTo>
                    <a:pt x="3357" y="1076"/>
                  </a:lnTo>
                  <a:lnTo>
                    <a:pt x="3352" y="1076"/>
                  </a:lnTo>
                  <a:lnTo>
                    <a:pt x="3352" y="1082"/>
                  </a:lnTo>
                  <a:lnTo>
                    <a:pt x="3343" y="1082"/>
                  </a:lnTo>
                  <a:lnTo>
                    <a:pt x="3343" y="1093"/>
                  </a:lnTo>
                  <a:lnTo>
                    <a:pt x="3338" y="1093"/>
                  </a:lnTo>
                  <a:lnTo>
                    <a:pt x="3338" y="1100"/>
                  </a:lnTo>
                  <a:lnTo>
                    <a:pt x="3333" y="1100"/>
                  </a:lnTo>
                  <a:lnTo>
                    <a:pt x="3333" y="1111"/>
                  </a:lnTo>
                  <a:lnTo>
                    <a:pt x="3329" y="1111"/>
                  </a:lnTo>
                  <a:lnTo>
                    <a:pt x="3329" y="1117"/>
                  </a:lnTo>
                  <a:lnTo>
                    <a:pt x="3323" y="1117"/>
                  </a:lnTo>
                  <a:lnTo>
                    <a:pt x="3323" y="1123"/>
                  </a:lnTo>
                  <a:lnTo>
                    <a:pt x="3319" y="1123"/>
                  </a:lnTo>
                  <a:lnTo>
                    <a:pt x="3319" y="1135"/>
                  </a:lnTo>
                  <a:lnTo>
                    <a:pt x="3313" y="1135"/>
                  </a:lnTo>
                  <a:lnTo>
                    <a:pt x="3313" y="1147"/>
                  </a:lnTo>
                  <a:lnTo>
                    <a:pt x="3309" y="1147"/>
                  </a:lnTo>
                  <a:lnTo>
                    <a:pt x="3309" y="1160"/>
                  </a:lnTo>
                  <a:lnTo>
                    <a:pt x="3304" y="1160"/>
                  </a:lnTo>
                  <a:lnTo>
                    <a:pt x="3304" y="1171"/>
                  </a:lnTo>
                  <a:lnTo>
                    <a:pt x="3299" y="1171"/>
                  </a:lnTo>
                  <a:lnTo>
                    <a:pt x="3299" y="1176"/>
                  </a:lnTo>
                  <a:lnTo>
                    <a:pt x="3295" y="1176"/>
                  </a:lnTo>
                  <a:lnTo>
                    <a:pt x="3295" y="1193"/>
                  </a:lnTo>
                  <a:lnTo>
                    <a:pt x="3289" y="1193"/>
                  </a:lnTo>
                  <a:lnTo>
                    <a:pt x="3289" y="1212"/>
                  </a:lnTo>
                  <a:lnTo>
                    <a:pt x="3285" y="1212"/>
                  </a:lnTo>
                  <a:lnTo>
                    <a:pt x="3285" y="1242"/>
                  </a:lnTo>
                  <a:lnTo>
                    <a:pt x="3280" y="1242"/>
                  </a:lnTo>
                  <a:lnTo>
                    <a:pt x="3280" y="1253"/>
                  </a:lnTo>
                  <a:lnTo>
                    <a:pt x="3275" y="1253"/>
                  </a:lnTo>
                  <a:lnTo>
                    <a:pt x="3275" y="1266"/>
                  </a:lnTo>
                  <a:lnTo>
                    <a:pt x="3271" y="1266"/>
                  </a:lnTo>
                  <a:lnTo>
                    <a:pt x="3271" y="1283"/>
                  </a:lnTo>
                  <a:lnTo>
                    <a:pt x="3266" y="1283"/>
                  </a:lnTo>
                  <a:lnTo>
                    <a:pt x="3266" y="1301"/>
                  </a:lnTo>
                  <a:lnTo>
                    <a:pt x="3262" y="1301"/>
                  </a:lnTo>
                  <a:lnTo>
                    <a:pt x="3262" y="1307"/>
                  </a:lnTo>
                  <a:lnTo>
                    <a:pt x="3256" y="1307"/>
                  </a:lnTo>
                  <a:lnTo>
                    <a:pt x="3256" y="1324"/>
                  </a:lnTo>
                  <a:lnTo>
                    <a:pt x="3252" y="1324"/>
                  </a:lnTo>
                  <a:lnTo>
                    <a:pt x="3252" y="1337"/>
                  </a:lnTo>
                  <a:lnTo>
                    <a:pt x="3247" y="1337"/>
                  </a:lnTo>
                  <a:lnTo>
                    <a:pt x="3247" y="1348"/>
                  </a:lnTo>
                  <a:lnTo>
                    <a:pt x="3242" y="1348"/>
                  </a:lnTo>
                  <a:lnTo>
                    <a:pt x="3242" y="1365"/>
                  </a:lnTo>
                  <a:lnTo>
                    <a:pt x="3236" y="1365"/>
                  </a:lnTo>
                  <a:lnTo>
                    <a:pt x="3236" y="1378"/>
                  </a:lnTo>
                  <a:lnTo>
                    <a:pt x="3232" y="1378"/>
                  </a:lnTo>
                  <a:lnTo>
                    <a:pt x="3232" y="1389"/>
                  </a:lnTo>
                  <a:lnTo>
                    <a:pt x="3227" y="1389"/>
                  </a:lnTo>
                  <a:lnTo>
                    <a:pt x="3227" y="1395"/>
                  </a:lnTo>
                  <a:lnTo>
                    <a:pt x="3222" y="1395"/>
                  </a:lnTo>
                  <a:lnTo>
                    <a:pt x="3222" y="1402"/>
                  </a:lnTo>
                  <a:lnTo>
                    <a:pt x="3218" y="1402"/>
                  </a:lnTo>
                  <a:lnTo>
                    <a:pt x="3218" y="1424"/>
                  </a:lnTo>
                  <a:lnTo>
                    <a:pt x="3213" y="1424"/>
                  </a:lnTo>
                  <a:lnTo>
                    <a:pt x="3213" y="1430"/>
                  </a:lnTo>
                  <a:lnTo>
                    <a:pt x="3208" y="1430"/>
                  </a:lnTo>
                  <a:lnTo>
                    <a:pt x="3208" y="1437"/>
                  </a:lnTo>
                  <a:lnTo>
                    <a:pt x="3204" y="1437"/>
                  </a:lnTo>
                  <a:lnTo>
                    <a:pt x="3204" y="1443"/>
                  </a:lnTo>
                  <a:lnTo>
                    <a:pt x="3199" y="1443"/>
                  </a:lnTo>
                  <a:lnTo>
                    <a:pt x="3199" y="1460"/>
                  </a:lnTo>
                  <a:lnTo>
                    <a:pt x="3194" y="1460"/>
                  </a:lnTo>
                  <a:lnTo>
                    <a:pt x="3194" y="1465"/>
                  </a:lnTo>
                  <a:lnTo>
                    <a:pt x="3189" y="1465"/>
                  </a:lnTo>
                  <a:lnTo>
                    <a:pt x="3189" y="1478"/>
                  </a:lnTo>
                  <a:lnTo>
                    <a:pt x="3185" y="1478"/>
                  </a:lnTo>
                  <a:lnTo>
                    <a:pt x="3185" y="1489"/>
                  </a:lnTo>
                  <a:lnTo>
                    <a:pt x="3179" y="1489"/>
                  </a:lnTo>
                  <a:lnTo>
                    <a:pt x="3179" y="1501"/>
                  </a:lnTo>
                  <a:lnTo>
                    <a:pt x="3175" y="1501"/>
                  </a:lnTo>
                  <a:lnTo>
                    <a:pt x="3175" y="1514"/>
                  </a:lnTo>
                  <a:lnTo>
                    <a:pt x="3171" y="1514"/>
                  </a:lnTo>
                  <a:lnTo>
                    <a:pt x="3171" y="1525"/>
                  </a:lnTo>
                  <a:lnTo>
                    <a:pt x="3165" y="1525"/>
                  </a:lnTo>
                  <a:lnTo>
                    <a:pt x="3165" y="1543"/>
                  </a:lnTo>
                  <a:lnTo>
                    <a:pt x="3160" y="1543"/>
                  </a:lnTo>
                  <a:lnTo>
                    <a:pt x="3160" y="1555"/>
                  </a:lnTo>
                  <a:lnTo>
                    <a:pt x="3155" y="1555"/>
                  </a:lnTo>
                  <a:lnTo>
                    <a:pt x="3155" y="1566"/>
                  </a:lnTo>
                  <a:lnTo>
                    <a:pt x="3151" y="1566"/>
                  </a:lnTo>
                  <a:lnTo>
                    <a:pt x="3151" y="1584"/>
                  </a:lnTo>
                  <a:lnTo>
                    <a:pt x="3145" y="1584"/>
                  </a:lnTo>
                  <a:lnTo>
                    <a:pt x="3145" y="1603"/>
                  </a:lnTo>
                  <a:lnTo>
                    <a:pt x="3141" y="1603"/>
                  </a:lnTo>
                  <a:lnTo>
                    <a:pt x="3141" y="1620"/>
                  </a:lnTo>
                  <a:lnTo>
                    <a:pt x="3137" y="1620"/>
                  </a:lnTo>
                  <a:lnTo>
                    <a:pt x="3137" y="1637"/>
                  </a:lnTo>
                  <a:lnTo>
                    <a:pt x="3131" y="1637"/>
                  </a:lnTo>
                  <a:lnTo>
                    <a:pt x="3131" y="1649"/>
                  </a:lnTo>
                  <a:lnTo>
                    <a:pt x="3127" y="1649"/>
                  </a:lnTo>
                  <a:lnTo>
                    <a:pt x="3127" y="1666"/>
                  </a:lnTo>
                  <a:lnTo>
                    <a:pt x="3122" y="1666"/>
                  </a:lnTo>
                  <a:lnTo>
                    <a:pt x="3122" y="1679"/>
                  </a:lnTo>
                  <a:lnTo>
                    <a:pt x="3117" y="1679"/>
                  </a:lnTo>
                  <a:lnTo>
                    <a:pt x="3117" y="1691"/>
                  </a:lnTo>
                  <a:lnTo>
                    <a:pt x="3112" y="1691"/>
                  </a:lnTo>
                  <a:lnTo>
                    <a:pt x="3112" y="1702"/>
                  </a:lnTo>
                  <a:lnTo>
                    <a:pt x="3108" y="1702"/>
                  </a:lnTo>
                  <a:lnTo>
                    <a:pt x="3108" y="1709"/>
                  </a:lnTo>
                  <a:lnTo>
                    <a:pt x="3103" y="1709"/>
                  </a:lnTo>
                  <a:lnTo>
                    <a:pt x="3103" y="1715"/>
                  </a:lnTo>
                  <a:lnTo>
                    <a:pt x="3098" y="1715"/>
                  </a:lnTo>
                  <a:lnTo>
                    <a:pt x="3098" y="1726"/>
                  </a:lnTo>
                  <a:lnTo>
                    <a:pt x="3088" y="1726"/>
                  </a:lnTo>
                  <a:lnTo>
                    <a:pt x="3088" y="1744"/>
                  </a:lnTo>
                  <a:lnTo>
                    <a:pt x="3083" y="1744"/>
                  </a:lnTo>
                  <a:lnTo>
                    <a:pt x="3083" y="1756"/>
                  </a:lnTo>
                  <a:lnTo>
                    <a:pt x="3078" y="1756"/>
                  </a:lnTo>
                  <a:lnTo>
                    <a:pt x="3078" y="1761"/>
                  </a:lnTo>
                  <a:lnTo>
                    <a:pt x="3074" y="1761"/>
                  </a:lnTo>
                  <a:lnTo>
                    <a:pt x="3074" y="1778"/>
                  </a:lnTo>
                  <a:lnTo>
                    <a:pt x="3069" y="1778"/>
                  </a:lnTo>
                  <a:lnTo>
                    <a:pt x="3069" y="1785"/>
                  </a:lnTo>
                  <a:lnTo>
                    <a:pt x="3064" y="1785"/>
                  </a:lnTo>
                  <a:lnTo>
                    <a:pt x="3064" y="1810"/>
                  </a:lnTo>
                  <a:lnTo>
                    <a:pt x="3059" y="1810"/>
                  </a:lnTo>
                  <a:lnTo>
                    <a:pt x="3059" y="1838"/>
                  </a:lnTo>
                  <a:lnTo>
                    <a:pt x="3050" y="1838"/>
                  </a:lnTo>
                  <a:lnTo>
                    <a:pt x="3050" y="1843"/>
                  </a:lnTo>
                  <a:lnTo>
                    <a:pt x="3045" y="1843"/>
                  </a:lnTo>
                  <a:lnTo>
                    <a:pt x="3045" y="1862"/>
                  </a:lnTo>
                  <a:lnTo>
                    <a:pt x="3041" y="1862"/>
                  </a:lnTo>
                  <a:lnTo>
                    <a:pt x="3041" y="1875"/>
                  </a:lnTo>
                  <a:lnTo>
                    <a:pt x="3035" y="1875"/>
                  </a:lnTo>
                  <a:lnTo>
                    <a:pt x="3035" y="1885"/>
                  </a:lnTo>
                  <a:lnTo>
                    <a:pt x="3031" y="1885"/>
                  </a:lnTo>
                  <a:lnTo>
                    <a:pt x="3031" y="1892"/>
                  </a:lnTo>
                  <a:lnTo>
                    <a:pt x="3026" y="1892"/>
                  </a:lnTo>
                  <a:lnTo>
                    <a:pt x="3026" y="1910"/>
                  </a:lnTo>
                  <a:lnTo>
                    <a:pt x="3021" y="1910"/>
                  </a:lnTo>
                  <a:lnTo>
                    <a:pt x="3021" y="1916"/>
                  </a:lnTo>
                  <a:lnTo>
                    <a:pt x="3015" y="1916"/>
                  </a:lnTo>
                  <a:lnTo>
                    <a:pt x="3015" y="1927"/>
                  </a:lnTo>
                  <a:lnTo>
                    <a:pt x="3011" y="1927"/>
                  </a:lnTo>
                  <a:lnTo>
                    <a:pt x="3011" y="1944"/>
                  </a:lnTo>
                  <a:lnTo>
                    <a:pt x="3007" y="1944"/>
                  </a:lnTo>
                  <a:lnTo>
                    <a:pt x="3007" y="1969"/>
                  </a:lnTo>
                  <a:lnTo>
                    <a:pt x="3001" y="1969"/>
                  </a:lnTo>
                  <a:lnTo>
                    <a:pt x="3001" y="1974"/>
                  </a:lnTo>
                  <a:lnTo>
                    <a:pt x="2997" y="1974"/>
                  </a:lnTo>
                  <a:lnTo>
                    <a:pt x="2997" y="1998"/>
                  </a:lnTo>
                  <a:lnTo>
                    <a:pt x="2992" y="1998"/>
                  </a:lnTo>
                  <a:lnTo>
                    <a:pt x="2992" y="2011"/>
                  </a:lnTo>
                  <a:lnTo>
                    <a:pt x="2987" y="2011"/>
                  </a:lnTo>
                  <a:lnTo>
                    <a:pt x="2987" y="2028"/>
                  </a:lnTo>
                  <a:lnTo>
                    <a:pt x="2982" y="2028"/>
                  </a:lnTo>
                  <a:lnTo>
                    <a:pt x="2982" y="2033"/>
                  </a:lnTo>
                  <a:lnTo>
                    <a:pt x="2978" y="2033"/>
                  </a:lnTo>
                  <a:lnTo>
                    <a:pt x="2978" y="2039"/>
                  </a:lnTo>
                  <a:lnTo>
                    <a:pt x="2973" y="2039"/>
                  </a:lnTo>
                  <a:lnTo>
                    <a:pt x="2973" y="2052"/>
                  </a:lnTo>
                  <a:lnTo>
                    <a:pt x="2968" y="2052"/>
                  </a:lnTo>
                  <a:lnTo>
                    <a:pt x="2968" y="2063"/>
                  </a:lnTo>
                  <a:lnTo>
                    <a:pt x="2964" y="2063"/>
                  </a:lnTo>
                  <a:lnTo>
                    <a:pt x="2964" y="2075"/>
                  </a:lnTo>
                  <a:lnTo>
                    <a:pt x="2959" y="2075"/>
                  </a:lnTo>
                  <a:lnTo>
                    <a:pt x="2959" y="2080"/>
                  </a:lnTo>
                  <a:lnTo>
                    <a:pt x="2954" y="2080"/>
                  </a:lnTo>
                  <a:lnTo>
                    <a:pt x="2954" y="2093"/>
                  </a:lnTo>
                  <a:lnTo>
                    <a:pt x="2948" y="2093"/>
                  </a:lnTo>
                  <a:lnTo>
                    <a:pt x="2948" y="2104"/>
                  </a:lnTo>
                  <a:lnTo>
                    <a:pt x="2944" y="2104"/>
                  </a:lnTo>
                  <a:lnTo>
                    <a:pt x="2944" y="2110"/>
                  </a:lnTo>
                  <a:lnTo>
                    <a:pt x="2938" y="2110"/>
                  </a:lnTo>
                  <a:lnTo>
                    <a:pt x="2938" y="2117"/>
                  </a:lnTo>
                  <a:lnTo>
                    <a:pt x="2934" y="2117"/>
                  </a:lnTo>
                  <a:lnTo>
                    <a:pt x="2934" y="2122"/>
                  </a:lnTo>
                  <a:lnTo>
                    <a:pt x="2930" y="2122"/>
                  </a:lnTo>
                  <a:lnTo>
                    <a:pt x="2930" y="2129"/>
                  </a:lnTo>
                  <a:lnTo>
                    <a:pt x="2925" y="2129"/>
                  </a:lnTo>
                  <a:lnTo>
                    <a:pt x="2925" y="2139"/>
                  </a:lnTo>
                  <a:lnTo>
                    <a:pt x="2920" y="2139"/>
                  </a:lnTo>
                  <a:lnTo>
                    <a:pt x="2920" y="2147"/>
                  </a:lnTo>
                  <a:lnTo>
                    <a:pt x="2915" y="2147"/>
                  </a:lnTo>
                  <a:lnTo>
                    <a:pt x="2915" y="2152"/>
                  </a:lnTo>
                  <a:lnTo>
                    <a:pt x="2911" y="2152"/>
                  </a:lnTo>
                  <a:lnTo>
                    <a:pt x="2911" y="2157"/>
                  </a:lnTo>
                  <a:lnTo>
                    <a:pt x="2905" y="2157"/>
                  </a:lnTo>
                  <a:lnTo>
                    <a:pt x="2905" y="2164"/>
                  </a:lnTo>
                  <a:lnTo>
                    <a:pt x="2901" y="2164"/>
                  </a:lnTo>
                  <a:lnTo>
                    <a:pt x="2901" y="2169"/>
                  </a:lnTo>
                  <a:lnTo>
                    <a:pt x="2896" y="2169"/>
                  </a:lnTo>
                  <a:lnTo>
                    <a:pt x="2896" y="2180"/>
                  </a:lnTo>
                  <a:lnTo>
                    <a:pt x="2891" y="2180"/>
                  </a:lnTo>
                  <a:lnTo>
                    <a:pt x="2891" y="2188"/>
                  </a:lnTo>
                  <a:lnTo>
                    <a:pt x="2887" y="2188"/>
                  </a:lnTo>
                  <a:lnTo>
                    <a:pt x="2887" y="2205"/>
                  </a:lnTo>
                  <a:lnTo>
                    <a:pt x="2882" y="2205"/>
                  </a:lnTo>
                  <a:lnTo>
                    <a:pt x="2882" y="2210"/>
                  </a:lnTo>
                  <a:lnTo>
                    <a:pt x="2877" y="2210"/>
                  </a:lnTo>
                  <a:lnTo>
                    <a:pt x="2877" y="2223"/>
                  </a:lnTo>
                  <a:lnTo>
                    <a:pt x="2871" y="2223"/>
                  </a:lnTo>
                  <a:lnTo>
                    <a:pt x="2871" y="2234"/>
                  </a:lnTo>
                  <a:lnTo>
                    <a:pt x="2867" y="2234"/>
                  </a:lnTo>
                  <a:lnTo>
                    <a:pt x="2867" y="2240"/>
                  </a:lnTo>
                  <a:lnTo>
                    <a:pt x="2863" y="2240"/>
                  </a:lnTo>
                  <a:lnTo>
                    <a:pt x="2863" y="2251"/>
                  </a:lnTo>
                  <a:lnTo>
                    <a:pt x="2857" y="2251"/>
                  </a:lnTo>
                  <a:lnTo>
                    <a:pt x="2857" y="2264"/>
                  </a:lnTo>
                  <a:lnTo>
                    <a:pt x="2853" y="2264"/>
                  </a:lnTo>
                  <a:lnTo>
                    <a:pt x="2853" y="2275"/>
                  </a:lnTo>
                  <a:lnTo>
                    <a:pt x="2848" y="2275"/>
                  </a:lnTo>
                  <a:lnTo>
                    <a:pt x="2848" y="2283"/>
                  </a:lnTo>
                  <a:lnTo>
                    <a:pt x="2843" y="2283"/>
                  </a:lnTo>
                  <a:lnTo>
                    <a:pt x="2843" y="2294"/>
                  </a:lnTo>
                  <a:lnTo>
                    <a:pt x="2838" y="2294"/>
                  </a:lnTo>
                  <a:lnTo>
                    <a:pt x="2838" y="2305"/>
                  </a:lnTo>
                  <a:lnTo>
                    <a:pt x="2834" y="2305"/>
                  </a:lnTo>
                  <a:lnTo>
                    <a:pt x="2834" y="2316"/>
                  </a:lnTo>
                  <a:lnTo>
                    <a:pt x="2829" y="2316"/>
                  </a:lnTo>
                  <a:lnTo>
                    <a:pt x="2829" y="2324"/>
                  </a:lnTo>
                  <a:lnTo>
                    <a:pt x="2824" y="2324"/>
                  </a:lnTo>
                  <a:lnTo>
                    <a:pt x="2824" y="2341"/>
                  </a:lnTo>
                  <a:lnTo>
                    <a:pt x="2820" y="2341"/>
                  </a:lnTo>
                  <a:lnTo>
                    <a:pt x="2820" y="2346"/>
                  </a:lnTo>
                  <a:lnTo>
                    <a:pt x="2815" y="2346"/>
                  </a:lnTo>
                  <a:lnTo>
                    <a:pt x="2815" y="2357"/>
                  </a:lnTo>
                  <a:lnTo>
                    <a:pt x="2810" y="2357"/>
                  </a:lnTo>
                  <a:lnTo>
                    <a:pt x="2810" y="2365"/>
                  </a:lnTo>
                  <a:lnTo>
                    <a:pt x="2804" y="2365"/>
                  </a:lnTo>
                  <a:lnTo>
                    <a:pt x="2804" y="2376"/>
                  </a:lnTo>
                  <a:lnTo>
                    <a:pt x="2800" y="2376"/>
                  </a:lnTo>
                  <a:lnTo>
                    <a:pt x="2800" y="2389"/>
                  </a:lnTo>
                  <a:lnTo>
                    <a:pt x="2795" y="2389"/>
                  </a:lnTo>
                  <a:lnTo>
                    <a:pt x="2795" y="2400"/>
                  </a:lnTo>
                  <a:lnTo>
                    <a:pt x="2800" y="2400"/>
                  </a:lnTo>
                  <a:lnTo>
                    <a:pt x="2800" y="2406"/>
                  </a:lnTo>
                  <a:lnTo>
                    <a:pt x="2804" y="2406"/>
                  </a:lnTo>
                  <a:lnTo>
                    <a:pt x="2804" y="2411"/>
                  </a:lnTo>
                  <a:lnTo>
                    <a:pt x="2815" y="2411"/>
                  </a:lnTo>
                  <a:lnTo>
                    <a:pt x="2815" y="2417"/>
                  </a:lnTo>
                  <a:lnTo>
                    <a:pt x="2829" y="2417"/>
                  </a:lnTo>
                  <a:lnTo>
                    <a:pt x="2829" y="2424"/>
                  </a:lnTo>
                  <a:lnTo>
                    <a:pt x="2838" y="2424"/>
                  </a:lnTo>
                  <a:lnTo>
                    <a:pt x="2838" y="2430"/>
                  </a:lnTo>
                  <a:lnTo>
                    <a:pt x="2853" y="2430"/>
                  </a:lnTo>
                  <a:lnTo>
                    <a:pt x="2853" y="2435"/>
                  </a:lnTo>
                  <a:lnTo>
                    <a:pt x="2867" y="2435"/>
                  </a:lnTo>
                  <a:lnTo>
                    <a:pt x="2867" y="2442"/>
                  </a:lnTo>
                  <a:lnTo>
                    <a:pt x="2882" y="2442"/>
                  </a:lnTo>
                  <a:lnTo>
                    <a:pt x="2882" y="2447"/>
                  </a:lnTo>
                  <a:lnTo>
                    <a:pt x="2896" y="2447"/>
                  </a:lnTo>
                  <a:lnTo>
                    <a:pt x="2896" y="2452"/>
                  </a:lnTo>
                  <a:lnTo>
                    <a:pt x="2911" y="2452"/>
                  </a:lnTo>
                  <a:lnTo>
                    <a:pt x="2911" y="2460"/>
                  </a:lnTo>
                  <a:lnTo>
                    <a:pt x="2934" y="2460"/>
                  </a:lnTo>
                  <a:lnTo>
                    <a:pt x="2934" y="2465"/>
                  </a:lnTo>
                  <a:lnTo>
                    <a:pt x="2948" y="2465"/>
                  </a:lnTo>
                  <a:lnTo>
                    <a:pt x="2948" y="2471"/>
                  </a:lnTo>
                  <a:lnTo>
                    <a:pt x="2959" y="2471"/>
                  </a:lnTo>
                  <a:lnTo>
                    <a:pt x="2959" y="2476"/>
                  </a:lnTo>
                  <a:lnTo>
                    <a:pt x="2973" y="2476"/>
                  </a:lnTo>
                  <a:lnTo>
                    <a:pt x="2973" y="2484"/>
                  </a:lnTo>
                  <a:lnTo>
                    <a:pt x="2982" y="2484"/>
                  </a:lnTo>
                  <a:lnTo>
                    <a:pt x="2982" y="2489"/>
                  </a:lnTo>
                  <a:lnTo>
                    <a:pt x="3001" y="2489"/>
                  </a:lnTo>
                  <a:lnTo>
                    <a:pt x="3001" y="2495"/>
                  </a:lnTo>
                  <a:lnTo>
                    <a:pt x="3011" y="2495"/>
                  </a:lnTo>
                  <a:lnTo>
                    <a:pt x="3011" y="2501"/>
                  </a:lnTo>
                  <a:lnTo>
                    <a:pt x="3031" y="2501"/>
                  </a:lnTo>
                  <a:lnTo>
                    <a:pt x="3031" y="2506"/>
                  </a:lnTo>
                  <a:lnTo>
                    <a:pt x="3045" y="2506"/>
                  </a:lnTo>
                  <a:lnTo>
                    <a:pt x="3045" y="2512"/>
                  </a:lnTo>
                  <a:lnTo>
                    <a:pt x="3055" y="2512"/>
                  </a:lnTo>
                  <a:lnTo>
                    <a:pt x="3055" y="2518"/>
                  </a:lnTo>
                  <a:lnTo>
                    <a:pt x="3064" y="2518"/>
                  </a:lnTo>
                  <a:lnTo>
                    <a:pt x="3064" y="2525"/>
                  </a:lnTo>
                  <a:lnTo>
                    <a:pt x="3074" y="2525"/>
                  </a:lnTo>
                  <a:lnTo>
                    <a:pt x="3074" y="2530"/>
                  </a:lnTo>
                  <a:lnTo>
                    <a:pt x="3088" y="2530"/>
                  </a:lnTo>
                  <a:lnTo>
                    <a:pt x="3088" y="2536"/>
                  </a:lnTo>
                  <a:lnTo>
                    <a:pt x="3112" y="2536"/>
                  </a:lnTo>
                  <a:lnTo>
                    <a:pt x="3112" y="2542"/>
                  </a:lnTo>
                  <a:lnTo>
                    <a:pt x="3131" y="2542"/>
                  </a:lnTo>
                  <a:lnTo>
                    <a:pt x="3131" y="2547"/>
                  </a:lnTo>
                  <a:lnTo>
                    <a:pt x="3151" y="2547"/>
                  </a:lnTo>
                  <a:lnTo>
                    <a:pt x="3151" y="2553"/>
                  </a:lnTo>
                  <a:lnTo>
                    <a:pt x="3160" y="2553"/>
                  </a:lnTo>
                  <a:lnTo>
                    <a:pt x="3160" y="2560"/>
                  </a:lnTo>
                  <a:lnTo>
                    <a:pt x="3175" y="2560"/>
                  </a:lnTo>
                  <a:lnTo>
                    <a:pt x="3175" y="2566"/>
                  </a:lnTo>
                  <a:lnTo>
                    <a:pt x="3189" y="2566"/>
                  </a:lnTo>
                  <a:lnTo>
                    <a:pt x="3189" y="2571"/>
                  </a:lnTo>
                  <a:lnTo>
                    <a:pt x="3208" y="2571"/>
                  </a:lnTo>
                  <a:lnTo>
                    <a:pt x="3208" y="2577"/>
                  </a:lnTo>
                  <a:lnTo>
                    <a:pt x="3227" y="2577"/>
                  </a:lnTo>
                  <a:lnTo>
                    <a:pt x="3227" y="2583"/>
                  </a:lnTo>
                  <a:lnTo>
                    <a:pt x="3262" y="2583"/>
                  </a:lnTo>
                  <a:lnTo>
                    <a:pt x="3262" y="2588"/>
                  </a:lnTo>
                  <a:lnTo>
                    <a:pt x="3275" y="2588"/>
                  </a:lnTo>
                  <a:lnTo>
                    <a:pt x="3275" y="2595"/>
                  </a:lnTo>
                  <a:lnTo>
                    <a:pt x="3289" y="2595"/>
                  </a:lnTo>
                  <a:lnTo>
                    <a:pt x="3289" y="2601"/>
                  </a:lnTo>
                  <a:lnTo>
                    <a:pt x="3299" y="2601"/>
                  </a:lnTo>
                  <a:lnTo>
                    <a:pt x="3299" y="2607"/>
                  </a:lnTo>
                  <a:lnTo>
                    <a:pt x="3309" y="2607"/>
                  </a:lnTo>
                  <a:lnTo>
                    <a:pt x="3309" y="2612"/>
                  </a:lnTo>
                  <a:lnTo>
                    <a:pt x="3329" y="2612"/>
                  </a:lnTo>
                  <a:lnTo>
                    <a:pt x="3329" y="2618"/>
                  </a:lnTo>
                  <a:lnTo>
                    <a:pt x="3338" y="2618"/>
                  </a:lnTo>
                  <a:lnTo>
                    <a:pt x="3338" y="2625"/>
                  </a:lnTo>
                  <a:lnTo>
                    <a:pt x="3362" y="2625"/>
                  </a:lnTo>
                  <a:lnTo>
                    <a:pt x="3362" y="2630"/>
                  </a:lnTo>
                  <a:lnTo>
                    <a:pt x="3381" y="2630"/>
                  </a:lnTo>
                  <a:lnTo>
                    <a:pt x="3381" y="2637"/>
                  </a:lnTo>
                  <a:lnTo>
                    <a:pt x="3396" y="2637"/>
                  </a:lnTo>
                  <a:lnTo>
                    <a:pt x="3396" y="2642"/>
                  </a:lnTo>
                  <a:lnTo>
                    <a:pt x="3410" y="2642"/>
                  </a:lnTo>
                  <a:lnTo>
                    <a:pt x="3410" y="2648"/>
                  </a:lnTo>
                  <a:lnTo>
                    <a:pt x="3434" y="2648"/>
                  </a:lnTo>
                  <a:lnTo>
                    <a:pt x="3434" y="2653"/>
                  </a:lnTo>
                  <a:lnTo>
                    <a:pt x="3443" y="2653"/>
                  </a:lnTo>
                  <a:lnTo>
                    <a:pt x="3443" y="2661"/>
                  </a:lnTo>
                  <a:lnTo>
                    <a:pt x="3458" y="2661"/>
                  </a:lnTo>
                  <a:lnTo>
                    <a:pt x="3458" y="2666"/>
                  </a:lnTo>
                  <a:lnTo>
                    <a:pt x="3468" y="2666"/>
                  </a:lnTo>
                  <a:lnTo>
                    <a:pt x="3468" y="2671"/>
                  </a:lnTo>
                  <a:lnTo>
                    <a:pt x="3482" y="2671"/>
                  </a:lnTo>
                  <a:lnTo>
                    <a:pt x="3482" y="2678"/>
                  </a:lnTo>
                  <a:lnTo>
                    <a:pt x="3515" y="2678"/>
                  </a:lnTo>
                  <a:lnTo>
                    <a:pt x="3515" y="2683"/>
                  </a:lnTo>
                  <a:lnTo>
                    <a:pt x="3529" y="2683"/>
                  </a:lnTo>
                  <a:lnTo>
                    <a:pt x="3529" y="2689"/>
                  </a:lnTo>
                  <a:lnTo>
                    <a:pt x="3559" y="2689"/>
                  </a:lnTo>
                  <a:lnTo>
                    <a:pt x="3559" y="2696"/>
                  </a:lnTo>
                  <a:lnTo>
                    <a:pt x="3573" y="2696"/>
                  </a:lnTo>
                  <a:lnTo>
                    <a:pt x="3573" y="2702"/>
                  </a:lnTo>
                  <a:lnTo>
                    <a:pt x="3602" y="2702"/>
                  </a:lnTo>
                  <a:lnTo>
                    <a:pt x="3602" y="2707"/>
                  </a:lnTo>
                  <a:lnTo>
                    <a:pt x="3645" y="2707"/>
                  </a:lnTo>
                  <a:lnTo>
                    <a:pt x="3645" y="2713"/>
                  </a:lnTo>
                  <a:lnTo>
                    <a:pt x="3650" y="2713"/>
                  </a:lnTo>
                  <a:lnTo>
                    <a:pt x="3650" y="2719"/>
                  </a:lnTo>
                  <a:lnTo>
                    <a:pt x="3669" y="2719"/>
                  </a:lnTo>
                  <a:lnTo>
                    <a:pt x="3669" y="2724"/>
                  </a:lnTo>
                  <a:lnTo>
                    <a:pt x="3698" y="2724"/>
                  </a:lnTo>
                  <a:lnTo>
                    <a:pt x="3698" y="2731"/>
                  </a:lnTo>
                  <a:lnTo>
                    <a:pt x="3707" y="2731"/>
                  </a:lnTo>
                  <a:lnTo>
                    <a:pt x="3707" y="2737"/>
                  </a:lnTo>
                  <a:lnTo>
                    <a:pt x="3722" y="2737"/>
                  </a:lnTo>
                  <a:lnTo>
                    <a:pt x="3722" y="2743"/>
                  </a:lnTo>
                  <a:lnTo>
                    <a:pt x="3751" y="2743"/>
                  </a:lnTo>
                  <a:lnTo>
                    <a:pt x="3751" y="2748"/>
                  </a:lnTo>
                  <a:lnTo>
                    <a:pt x="3770" y="2748"/>
                  </a:lnTo>
                  <a:lnTo>
                    <a:pt x="3770" y="2737"/>
                  </a:lnTo>
                  <a:lnTo>
                    <a:pt x="3776" y="2737"/>
                  </a:lnTo>
                  <a:lnTo>
                    <a:pt x="3776" y="2648"/>
                  </a:lnTo>
                  <a:lnTo>
                    <a:pt x="3780" y="2648"/>
                  </a:lnTo>
                  <a:lnTo>
                    <a:pt x="3780" y="2588"/>
                  </a:lnTo>
                  <a:lnTo>
                    <a:pt x="3784" y="2588"/>
                  </a:lnTo>
                  <a:lnTo>
                    <a:pt x="3784" y="2530"/>
                  </a:lnTo>
                  <a:lnTo>
                    <a:pt x="3790" y="2530"/>
                  </a:lnTo>
                  <a:lnTo>
                    <a:pt x="3790" y="2506"/>
                  </a:lnTo>
                  <a:lnTo>
                    <a:pt x="3794" y="2506"/>
                  </a:lnTo>
                  <a:lnTo>
                    <a:pt x="3794" y="2465"/>
                  </a:lnTo>
                  <a:lnTo>
                    <a:pt x="3799" y="2465"/>
                  </a:lnTo>
                  <a:lnTo>
                    <a:pt x="3799" y="2442"/>
                  </a:lnTo>
                  <a:lnTo>
                    <a:pt x="3803" y="2442"/>
                  </a:lnTo>
                  <a:lnTo>
                    <a:pt x="3803" y="2400"/>
                  </a:lnTo>
                  <a:lnTo>
                    <a:pt x="3809" y="2400"/>
                  </a:lnTo>
                  <a:lnTo>
                    <a:pt x="3809" y="2370"/>
                  </a:lnTo>
                  <a:lnTo>
                    <a:pt x="3813" y="2370"/>
                  </a:lnTo>
                  <a:lnTo>
                    <a:pt x="3813" y="2346"/>
                  </a:lnTo>
                  <a:lnTo>
                    <a:pt x="3818" y="2346"/>
                  </a:lnTo>
                  <a:lnTo>
                    <a:pt x="3818" y="2329"/>
                  </a:lnTo>
                  <a:lnTo>
                    <a:pt x="3824" y="2329"/>
                  </a:lnTo>
                  <a:lnTo>
                    <a:pt x="3824" y="2316"/>
                  </a:lnTo>
                  <a:lnTo>
                    <a:pt x="3828" y="2316"/>
                  </a:lnTo>
                  <a:lnTo>
                    <a:pt x="3828" y="2288"/>
                  </a:lnTo>
                  <a:lnTo>
                    <a:pt x="3833" y="2288"/>
                  </a:lnTo>
                  <a:lnTo>
                    <a:pt x="3833" y="2275"/>
                  </a:lnTo>
                  <a:lnTo>
                    <a:pt x="3838" y="2275"/>
                  </a:lnTo>
                  <a:lnTo>
                    <a:pt x="3838" y="2246"/>
                  </a:lnTo>
                  <a:lnTo>
                    <a:pt x="3843" y="2246"/>
                  </a:lnTo>
                  <a:lnTo>
                    <a:pt x="3843" y="2223"/>
                  </a:lnTo>
                  <a:lnTo>
                    <a:pt x="3847" y="2223"/>
                  </a:lnTo>
                  <a:lnTo>
                    <a:pt x="3847" y="2198"/>
                  </a:lnTo>
                  <a:lnTo>
                    <a:pt x="3852" y="2198"/>
                  </a:lnTo>
                  <a:lnTo>
                    <a:pt x="3852" y="2193"/>
                  </a:lnTo>
                  <a:lnTo>
                    <a:pt x="3857" y="2193"/>
                  </a:lnTo>
                  <a:lnTo>
                    <a:pt x="3857" y="2169"/>
                  </a:lnTo>
                  <a:lnTo>
                    <a:pt x="3861" y="2169"/>
                  </a:lnTo>
                  <a:lnTo>
                    <a:pt x="3861" y="2139"/>
                  </a:lnTo>
                  <a:lnTo>
                    <a:pt x="3866" y="2139"/>
                  </a:lnTo>
                  <a:lnTo>
                    <a:pt x="3866" y="2122"/>
                  </a:lnTo>
                  <a:lnTo>
                    <a:pt x="3871" y="2122"/>
                  </a:lnTo>
                  <a:lnTo>
                    <a:pt x="3871" y="2104"/>
                  </a:lnTo>
                  <a:lnTo>
                    <a:pt x="3876" y="2104"/>
                  </a:lnTo>
                  <a:lnTo>
                    <a:pt x="3876" y="2087"/>
                  </a:lnTo>
                  <a:lnTo>
                    <a:pt x="3880" y="2087"/>
                  </a:lnTo>
                  <a:lnTo>
                    <a:pt x="3880" y="2063"/>
                  </a:lnTo>
                  <a:lnTo>
                    <a:pt x="3885" y="2063"/>
                  </a:lnTo>
                  <a:lnTo>
                    <a:pt x="3885" y="2033"/>
                  </a:lnTo>
                  <a:lnTo>
                    <a:pt x="3890" y="2033"/>
                  </a:lnTo>
                  <a:lnTo>
                    <a:pt x="3890" y="2016"/>
                  </a:lnTo>
                  <a:lnTo>
                    <a:pt x="3896" y="2016"/>
                  </a:lnTo>
                  <a:lnTo>
                    <a:pt x="3896" y="2003"/>
                  </a:lnTo>
                  <a:lnTo>
                    <a:pt x="3900" y="2003"/>
                  </a:lnTo>
                  <a:lnTo>
                    <a:pt x="3900" y="1979"/>
                  </a:lnTo>
                  <a:lnTo>
                    <a:pt x="3905" y="1979"/>
                  </a:lnTo>
                  <a:lnTo>
                    <a:pt x="3905" y="1969"/>
                  </a:lnTo>
                  <a:lnTo>
                    <a:pt x="3910" y="1969"/>
                  </a:lnTo>
                  <a:lnTo>
                    <a:pt x="3910" y="1951"/>
                  </a:lnTo>
                  <a:lnTo>
                    <a:pt x="3914" y="1951"/>
                  </a:lnTo>
                  <a:lnTo>
                    <a:pt x="3914" y="1938"/>
                  </a:lnTo>
                  <a:lnTo>
                    <a:pt x="3919" y="1938"/>
                  </a:lnTo>
                  <a:lnTo>
                    <a:pt x="3919" y="1921"/>
                  </a:lnTo>
                  <a:lnTo>
                    <a:pt x="3924" y="1921"/>
                  </a:lnTo>
                  <a:lnTo>
                    <a:pt x="3924" y="1916"/>
                  </a:lnTo>
                  <a:lnTo>
                    <a:pt x="3928" y="1916"/>
                  </a:lnTo>
                  <a:lnTo>
                    <a:pt x="3928" y="1897"/>
                  </a:lnTo>
                  <a:lnTo>
                    <a:pt x="3934" y="1897"/>
                  </a:lnTo>
                  <a:lnTo>
                    <a:pt x="3934" y="1885"/>
                  </a:lnTo>
                  <a:lnTo>
                    <a:pt x="3938" y="1885"/>
                  </a:lnTo>
                  <a:lnTo>
                    <a:pt x="3938" y="1868"/>
                  </a:lnTo>
                  <a:lnTo>
                    <a:pt x="3943" y="1868"/>
                  </a:lnTo>
                  <a:lnTo>
                    <a:pt x="3943" y="1851"/>
                  </a:lnTo>
                  <a:lnTo>
                    <a:pt x="3947" y="1851"/>
                  </a:lnTo>
                  <a:lnTo>
                    <a:pt x="3947" y="1826"/>
                  </a:lnTo>
                  <a:lnTo>
                    <a:pt x="3952" y="1826"/>
                  </a:lnTo>
                  <a:lnTo>
                    <a:pt x="3952" y="1815"/>
                  </a:lnTo>
                  <a:lnTo>
                    <a:pt x="3957" y="1815"/>
                  </a:lnTo>
                  <a:lnTo>
                    <a:pt x="3957" y="1802"/>
                  </a:lnTo>
                  <a:lnTo>
                    <a:pt x="3961" y="1802"/>
                  </a:lnTo>
                  <a:lnTo>
                    <a:pt x="3961" y="1778"/>
                  </a:lnTo>
                  <a:lnTo>
                    <a:pt x="3968" y="1778"/>
                  </a:lnTo>
                  <a:lnTo>
                    <a:pt x="3968" y="1761"/>
                  </a:lnTo>
                  <a:lnTo>
                    <a:pt x="3972" y="1761"/>
                  </a:lnTo>
                  <a:lnTo>
                    <a:pt x="3972" y="1750"/>
                  </a:lnTo>
                  <a:lnTo>
                    <a:pt x="3977" y="1750"/>
                  </a:lnTo>
                  <a:lnTo>
                    <a:pt x="3977" y="1732"/>
                  </a:lnTo>
                  <a:lnTo>
                    <a:pt x="3982" y="1732"/>
                  </a:lnTo>
                  <a:lnTo>
                    <a:pt x="3982" y="1715"/>
                  </a:lnTo>
                  <a:lnTo>
                    <a:pt x="3987" y="1715"/>
                  </a:lnTo>
                  <a:lnTo>
                    <a:pt x="3987" y="1702"/>
                  </a:lnTo>
                  <a:lnTo>
                    <a:pt x="3991" y="1702"/>
                  </a:lnTo>
                  <a:lnTo>
                    <a:pt x="3991" y="1691"/>
                  </a:lnTo>
                  <a:lnTo>
                    <a:pt x="3996" y="1691"/>
                  </a:lnTo>
                  <a:lnTo>
                    <a:pt x="3996" y="1674"/>
                  </a:lnTo>
                  <a:lnTo>
                    <a:pt x="4001" y="1674"/>
                  </a:lnTo>
                  <a:lnTo>
                    <a:pt x="4001" y="1661"/>
                  </a:lnTo>
                  <a:lnTo>
                    <a:pt x="4005" y="1661"/>
                  </a:lnTo>
                  <a:lnTo>
                    <a:pt x="4005" y="1644"/>
                  </a:lnTo>
                  <a:lnTo>
                    <a:pt x="4010" y="1644"/>
                  </a:lnTo>
                  <a:lnTo>
                    <a:pt x="4010" y="1637"/>
                  </a:lnTo>
                  <a:lnTo>
                    <a:pt x="4015" y="1637"/>
                  </a:lnTo>
                  <a:lnTo>
                    <a:pt x="4015" y="1631"/>
                  </a:lnTo>
                  <a:lnTo>
                    <a:pt x="4020" y="1631"/>
                  </a:lnTo>
                  <a:lnTo>
                    <a:pt x="4020" y="1614"/>
                  </a:lnTo>
                  <a:lnTo>
                    <a:pt x="4024" y="1614"/>
                  </a:lnTo>
                  <a:lnTo>
                    <a:pt x="4024" y="1608"/>
                  </a:lnTo>
                  <a:lnTo>
                    <a:pt x="4029" y="1608"/>
                  </a:lnTo>
                  <a:lnTo>
                    <a:pt x="4029" y="1596"/>
                  </a:lnTo>
                  <a:lnTo>
                    <a:pt x="4034" y="1596"/>
                  </a:lnTo>
                  <a:lnTo>
                    <a:pt x="4034" y="1579"/>
                  </a:lnTo>
                  <a:lnTo>
                    <a:pt x="4039" y="1579"/>
                  </a:lnTo>
                  <a:lnTo>
                    <a:pt x="4039" y="1566"/>
                  </a:lnTo>
                  <a:lnTo>
                    <a:pt x="4044" y="1566"/>
                  </a:lnTo>
                  <a:lnTo>
                    <a:pt x="4044" y="1555"/>
                  </a:lnTo>
                  <a:lnTo>
                    <a:pt x="4049" y="1555"/>
                  </a:lnTo>
                  <a:lnTo>
                    <a:pt x="4049" y="1538"/>
                  </a:lnTo>
                  <a:lnTo>
                    <a:pt x="4054" y="1538"/>
                  </a:lnTo>
                  <a:lnTo>
                    <a:pt x="4054" y="1525"/>
                  </a:lnTo>
                  <a:lnTo>
                    <a:pt x="4058" y="1525"/>
                  </a:lnTo>
                  <a:lnTo>
                    <a:pt x="4058" y="1501"/>
                  </a:lnTo>
                  <a:lnTo>
                    <a:pt x="4064" y="1501"/>
                  </a:lnTo>
                  <a:lnTo>
                    <a:pt x="4064" y="1484"/>
                  </a:lnTo>
                  <a:lnTo>
                    <a:pt x="4068" y="1484"/>
                  </a:lnTo>
                  <a:lnTo>
                    <a:pt x="4068" y="1465"/>
                  </a:lnTo>
                  <a:lnTo>
                    <a:pt x="4073" y="1465"/>
                  </a:lnTo>
                  <a:lnTo>
                    <a:pt x="4073" y="1454"/>
                  </a:lnTo>
                  <a:lnTo>
                    <a:pt x="4078" y="1454"/>
                  </a:lnTo>
                  <a:lnTo>
                    <a:pt x="4078" y="1443"/>
                  </a:lnTo>
                  <a:lnTo>
                    <a:pt x="4082" y="1443"/>
                  </a:lnTo>
                  <a:lnTo>
                    <a:pt x="4082" y="1413"/>
                  </a:lnTo>
                  <a:lnTo>
                    <a:pt x="4087" y="1413"/>
                  </a:lnTo>
                  <a:lnTo>
                    <a:pt x="4087" y="1402"/>
                  </a:lnTo>
                  <a:lnTo>
                    <a:pt x="4091" y="1402"/>
                  </a:lnTo>
                  <a:lnTo>
                    <a:pt x="4091" y="1389"/>
                  </a:lnTo>
                  <a:lnTo>
                    <a:pt x="4097" y="1389"/>
                  </a:lnTo>
                  <a:lnTo>
                    <a:pt x="4097" y="1370"/>
                  </a:lnTo>
                  <a:lnTo>
                    <a:pt x="4101" y="1370"/>
                  </a:lnTo>
                  <a:lnTo>
                    <a:pt x="4101" y="1365"/>
                  </a:lnTo>
                  <a:lnTo>
                    <a:pt x="4106" y="1365"/>
                  </a:lnTo>
                  <a:lnTo>
                    <a:pt x="4106" y="1353"/>
                  </a:lnTo>
                  <a:lnTo>
                    <a:pt x="4112" y="1353"/>
                  </a:lnTo>
                  <a:lnTo>
                    <a:pt x="4112" y="1342"/>
                  </a:lnTo>
                  <a:lnTo>
                    <a:pt x="4117" y="1342"/>
                  </a:lnTo>
                  <a:lnTo>
                    <a:pt x="4117" y="1329"/>
                  </a:lnTo>
                  <a:lnTo>
                    <a:pt x="4121" y="1329"/>
                  </a:lnTo>
                  <a:lnTo>
                    <a:pt x="4121" y="1318"/>
                  </a:lnTo>
                  <a:lnTo>
                    <a:pt x="4126" y="1318"/>
                  </a:lnTo>
                  <a:lnTo>
                    <a:pt x="4126" y="1301"/>
                  </a:lnTo>
                  <a:lnTo>
                    <a:pt x="4131" y="1301"/>
                  </a:lnTo>
                  <a:lnTo>
                    <a:pt x="4131" y="1289"/>
                  </a:lnTo>
                  <a:lnTo>
                    <a:pt x="4135" y="1289"/>
                  </a:lnTo>
                  <a:lnTo>
                    <a:pt x="4135" y="1277"/>
                  </a:lnTo>
                  <a:lnTo>
                    <a:pt x="4140" y="1277"/>
                  </a:lnTo>
                  <a:lnTo>
                    <a:pt x="4140" y="1271"/>
                  </a:lnTo>
                  <a:lnTo>
                    <a:pt x="4145" y="1271"/>
                  </a:lnTo>
                  <a:lnTo>
                    <a:pt x="4145" y="1259"/>
                  </a:lnTo>
                  <a:lnTo>
                    <a:pt x="4150" y="1259"/>
                  </a:lnTo>
                  <a:lnTo>
                    <a:pt x="4150" y="1247"/>
                  </a:lnTo>
                  <a:lnTo>
                    <a:pt x="4154" y="1247"/>
                  </a:lnTo>
                  <a:lnTo>
                    <a:pt x="4154" y="1236"/>
                  </a:lnTo>
                  <a:lnTo>
                    <a:pt x="4160" y="1236"/>
                  </a:lnTo>
                  <a:lnTo>
                    <a:pt x="4160" y="1229"/>
                  </a:lnTo>
                  <a:lnTo>
                    <a:pt x="4164" y="1229"/>
                  </a:lnTo>
                  <a:lnTo>
                    <a:pt x="4164" y="1224"/>
                  </a:lnTo>
                  <a:lnTo>
                    <a:pt x="4168" y="1224"/>
                  </a:lnTo>
                  <a:lnTo>
                    <a:pt x="4168" y="1212"/>
                  </a:lnTo>
                  <a:lnTo>
                    <a:pt x="4174" y="1212"/>
                  </a:lnTo>
                  <a:lnTo>
                    <a:pt x="4174" y="1201"/>
                  </a:lnTo>
                  <a:lnTo>
                    <a:pt x="4178" y="1201"/>
                  </a:lnTo>
                  <a:lnTo>
                    <a:pt x="4178" y="1193"/>
                  </a:lnTo>
                  <a:lnTo>
                    <a:pt x="4184" y="1193"/>
                  </a:lnTo>
                  <a:lnTo>
                    <a:pt x="4184" y="1176"/>
                  </a:lnTo>
                  <a:lnTo>
                    <a:pt x="4188" y="1176"/>
                  </a:lnTo>
                  <a:lnTo>
                    <a:pt x="4188" y="1165"/>
                  </a:lnTo>
                  <a:lnTo>
                    <a:pt x="4194" y="1165"/>
                  </a:lnTo>
                  <a:lnTo>
                    <a:pt x="4194" y="1160"/>
                  </a:lnTo>
                  <a:lnTo>
                    <a:pt x="4198" y="1160"/>
                  </a:lnTo>
                  <a:lnTo>
                    <a:pt x="4198" y="1142"/>
                  </a:lnTo>
                  <a:lnTo>
                    <a:pt x="4202" y="1142"/>
                  </a:lnTo>
                  <a:lnTo>
                    <a:pt x="4202" y="1135"/>
                  </a:lnTo>
                  <a:lnTo>
                    <a:pt x="4208" y="1135"/>
                  </a:lnTo>
                  <a:lnTo>
                    <a:pt x="4208" y="1130"/>
                  </a:lnTo>
                  <a:lnTo>
                    <a:pt x="4212" y="1130"/>
                  </a:lnTo>
                  <a:lnTo>
                    <a:pt x="4212" y="1111"/>
                  </a:lnTo>
                  <a:lnTo>
                    <a:pt x="4217" y="1111"/>
                  </a:lnTo>
                  <a:lnTo>
                    <a:pt x="4217" y="1106"/>
                  </a:lnTo>
                  <a:lnTo>
                    <a:pt x="4222" y="1106"/>
                  </a:lnTo>
                  <a:lnTo>
                    <a:pt x="4222" y="1100"/>
                  </a:lnTo>
                  <a:lnTo>
                    <a:pt x="4227" y="1100"/>
                  </a:lnTo>
                  <a:lnTo>
                    <a:pt x="4227" y="1088"/>
                  </a:lnTo>
                  <a:lnTo>
                    <a:pt x="4231" y="1088"/>
                  </a:lnTo>
                  <a:lnTo>
                    <a:pt x="4231" y="1076"/>
                  </a:lnTo>
                  <a:lnTo>
                    <a:pt x="4236" y="1076"/>
                  </a:lnTo>
                  <a:lnTo>
                    <a:pt x="4236" y="1070"/>
                  </a:lnTo>
                  <a:lnTo>
                    <a:pt x="4241" y="1070"/>
                  </a:lnTo>
                  <a:lnTo>
                    <a:pt x="4241" y="1065"/>
                  </a:lnTo>
                  <a:lnTo>
                    <a:pt x="4245" y="1065"/>
                  </a:lnTo>
                  <a:lnTo>
                    <a:pt x="4245" y="1052"/>
                  </a:lnTo>
                  <a:lnTo>
                    <a:pt x="4250" y="1052"/>
                  </a:lnTo>
                  <a:lnTo>
                    <a:pt x="4250" y="1046"/>
                  </a:lnTo>
                  <a:lnTo>
                    <a:pt x="4256" y="1046"/>
                  </a:lnTo>
                  <a:lnTo>
                    <a:pt x="4256" y="1035"/>
                  </a:lnTo>
                  <a:lnTo>
                    <a:pt x="4260" y="1035"/>
                  </a:lnTo>
                  <a:lnTo>
                    <a:pt x="4260" y="1029"/>
                  </a:lnTo>
                  <a:lnTo>
                    <a:pt x="4265" y="1029"/>
                  </a:lnTo>
                  <a:lnTo>
                    <a:pt x="4265" y="1016"/>
                  </a:lnTo>
                  <a:lnTo>
                    <a:pt x="4270" y="1016"/>
                  </a:lnTo>
                  <a:lnTo>
                    <a:pt x="4270" y="1005"/>
                  </a:lnTo>
                  <a:lnTo>
                    <a:pt x="4275" y="1005"/>
                  </a:lnTo>
                  <a:lnTo>
                    <a:pt x="4275" y="992"/>
                  </a:lnTo>
                  <a:lnTo>
                    <a:pt x="4284" y="992"/>
                  </a:lnTo>
                  <a:lnTo>
                    <a:pt x="4284" y="987"/>
                  </a:lnTo>
                  <a:lnTo>
                    <a:pt x="4289" y="987"/>
                  </a:lnTo>
                  <a:lnTo>
                    <a:pt x="4289" y="981"/>
                  </a:lnTo>
                  <a:lnTo>
                    <a:pt x="4293" y="981"/>
                  </a:lnTo>
                  <a:lnTo>
                    <a:pt x="4293" y="975"/>
                  </a:lnTo>
                  <a:lnTo>
                    <a:pt x="4298" y="975"/>
                  </a:lnTo>
                  <a:lnTo>
                    <a:pt x="4298" y="964"/>
                  </a:lnTo>
                  <a:lnTo>
                    <a:pt x="4303" y="964"/>
                  </a:lnTo>
                  <a:lnTo>
                    <a:pt x="4303" y="957"/>
                  </a:lnTo>
                  <a:lnTo>
                    <a:pt x="4308" y="957"/>
                  </a:lnTo>
                  <a:lnTo>
                    <a:pt x="4308" y="951"/>
                  </a:lnTo>
                  <a:lnTo>
                    <a:pt x="4312" y="951"/>
                  </a:lnTo>
                  <a:lnTo>
                    <a:pt x="4312" y="946"/>
                  </a:lnTo>
                  <a:lnTo>
                    <a:pt x="4318" y="946"/>
                  </a:lnTo>
                  <a:lnTo>
                    <a:pt x="4318" y="940"/>
                  </a:lnTo>
                  <a:lnTo>
                    <a:pt x="4322" y="940"/>
                  </a:lnTo>
                  <a:lnTo>
                    <a:pt x="4322" y="922"/>
                  </a:lnTo>
                  <a:lnTo>
                    <a:pt x="4327" y="922"/>
                  </a:lnTo>
                  <a:lnTo>
                    <a:pt x="4327" y="916"/>
                  </a:lnTo>
                  <a:lnTo>
                    <a:pt x="4332" y="916"/>
                  </a:lnTo>
                  <a:lnTo>
                    <a:pt x="4332" y="910"/>
                  </a:lnTo>
                  <a:lnTo>
                    <a:pt x="4337" y="910"/>
                  </a:lnTo>
                  <a:lnTo>
                    <a:pt x="4337" y="905"/>
                  </a:lnTo>
                  <a:lnTo>
                    <a:pt x="4342" y="905"/>
                  </a:lnTo>
                  <a:lnTo>
                    <a:pt x="4342" y="898"/>
                  </a:lnTo>
                  <a:lnTo>
                    <a:pt x="4346" y="898"/>
                  </a:lnTo>
                  <a:lnTo>
                    <a:pt x="4346" y="893"/>
                  </a:lnTo>
                  <a:lnTo>
                    <a:pt x="4352" y="893"/>
                  </a:lnTo>
                  <a:lnTo>
                    <a:pt x="4352" y="888"/>
                  </a:lnTo>
                  <a:lnTo>
                    <a:pt x="4385" y="888"/>
                  </a:lnTo>
                  <a:lnTo>
                    <a:pt x="4385" y="893"/>
                  </a:lnTo>
                  <a:lnTo>
                    <a:pt x="4389" y="893"/>
                  </a:lnTo>
                  <a:lnTo>
                    <a:pt x="4389" y="922"/>
                  </a:lnTo>
                  <a:lnTo>
                    <a:pt x="4385" y="922"/>
                  </a:lnTo>
                  <a:lnTo>
                    <a:pt x="4385" y="929"/>
                  </a:lnTo>
                  <a:lnTo>
                    <a:pt x="4380" y="929"/>
                  </a:lnTo>
                  <a:lnTo>
                    <a:pt x="4380" y="940"/>
                  </a:lnTo>
                  <a:lnTo>
                    <a:pt x="4375" y="940"/>
                  </a:lnTo>
                  <a:lnTo>
                    <a:pt x="4375" y="946"/>
                  </a:lnTo>
                  <a:lnTo>
                    <a:pt x="4371" y="946"/>
                  </a:lnTo>
                  <a:lnTo>
                    <a:pt x="4371" y="951"/>
                  </a:lnTo>
                  <a:lnTo>
                    <a:pt x="4366" y="951"/>
                  </a:lnTo>
                  <a:lnTo>
                    <a:pt x="4366" y="957"/>
                  </a:lnTo>
                  <a:lnTo>
                    <a:pt x="4361" y="957"/>
                  </a:lnTo>
                  <a:lnTo>
                    <a:pt x="4361" y="964"/>
                  </a:lnTo>
                  <a:lnTo>
                    <a:pt x="4356" y="964"/>
                  </a:lnTo>
                  <a:lnTo>
                    <a:pt x="4356" y="970"/>
                  </a:lnTo>
                  <a:lnTo>
                    <a:pt x="4352" y="970"/>
                  </a:lnTo>
                  <a:lnTo>
                    <a:pt x="4352" y="975"/>
                  </a:lnTo>
                  <a:lnTo>
                    <a:pt x="4346" y="975"/>
                  </a:lnTo>
                  <a:lnTo>
                    <a:pt x="4346" y="987"/>
                  </a:lnTo>
                  <a:lnTo>
                    <a:pt x="4342" y="987"/>
                  </a:lnTo>
                  <a:lnTo>
                    <a:pt x="4342" y="992"/>
                  </a:lnTo>
                  <a:lnTo>
                    <a:pt x="4337" y="992"/>
                  </a:lnTo>
                  <a:lnTo>
                    <a:pt x="4337" y="999"/>
                  </a:lnTo>
                  <a:lnTo>
                    <a:pt x="4332" y="999"/>
                  </a:lnTo>
                  <a:lnTo>
                    <a:pt x="4332" y="1005"/>
                  </a:lnTo>
                  <a:lnTo>
                    <a:pt x="4327" y="1005"/>
                  </a:lnTo>
                  <a:lnTo>
                    <a:pt x="4327" y="1016"/>
                  </a:lnTo>
                  <a:lnTo>
                    <a:pt x="4322" y="1016"/>
                  </a:lnTo>
                  <a:lnTo>
                    <a:pt x="4322" y="1029"/>
                  </a:lnTo>
                  <a:lnTo>
                    <a:pt x="4318" y="1029"/>
                  </a:lnTo>
                  <a:lnTo>
                    <a:pt x="4318" y="1035"/>
                  </a:lnTo>
                  <a:lnTo>
                    <a:pt x="4312" y="1035"/>
                  </a:lnTo>
                  <a:lnTo>
                    <a:pt x="4312" y="1041"/>
                  </a:lnTo>
                  <a:lnTo>
                    <a:pt x="4308" y="1041"/>
                  </a:lnTo>
                  <a:lnTo>
                    <a:pt x="4308" y="1052"/>
                  </a:lnTo>
                  <a:lnTo>
                    <a:pt x="4303" y="1052"/>
                  </a:lnTo>
                  <a:lnTo>
                    <a:pt x="4303" y="1057"/>
                  </a:lnTo>
                  <a:lnTo>
                    <a:pt x="4298" y="1057"/>
                  </a:lnTo>
                  <a:lnTo>
                    <a:pt x="4298" y="1065"/>
                  </a:lnTo>
                  <a:lnTo>
                    <a:pt x="4293" y="1065"/>
                  </a:lnTo>
                  <a:lnTo>
                    <a:pt x="4293" y="1070"/>
                  </a:lnTo>
                  <a:lnTo>
                    <a:pt x="4289" y="1070"/>
                  </a:lnTo>
                  <a:lnTo>
                    <a:pt x="4289" y="1082"/>
                  </a:lnTo>
                  <a:lnTo>
                    <a:pt x="4279" y="1082"/>
                  </a:lnTo>
                  <a:lnTo>
                    <a:pt x="4279" y="1088"/>
                  </a:lnTo>
                  <a:lnTo>
                    <a:pt x="4275" y="1088"/>
                  </a:lnTo>
                  <a:lnTo>
                    <a:pt x="4275" y="1100"/>
                  </a:lnTo>
                  <a:lnTo>
                    <a:pt x="4270" y="1100"/>
                  </a:lnTo>
                  <a:lnTo>
                    <a:pt x="4270" y="1106"/>
                  </a:lnTo>
                  <a:lnTo>
                    <a:pt x="4265" y="1106"/>
                  </a:lnTo>
                  <a:lnTo>
                    <a:pt x="4265" y="1117"/>
                  </a:lnTo>
                  <a:lnTo>
                    <a:pt x="4260" y="1117"/>
                  </a:lnTo>
                  <a:lnTo>
                    <a:pt x="4260" y="1123"/>
                  </a:lnTo>
                  <a:lnTo>
                    <a:pt x="4256" y="1123"/>
                  </a:lnTo>
                  <a:lnTo>
                    <a:pt x="4256" y="1142"/>
                  </a:lnTo>
                  <a:lnTo>
                    <a:pt x="4250" y="1142"/>
                  </a:lnTo>
                  <a:lnTo>
                    <a:pt x="4250" y="1147"/>
                  </a:lnTo>
                  <a:lnTo>
                    <a:pt x="4245" y="1147"/>
                  </a:lnTo>
                  <a:lnTo>
                    <a:pt x="4245" y="1160"/>
                  </a:lnTo>
                  <a:lnTo>
                    <a:pt x="4241" y="1160"/>
                  </a:lnTo>
                  <a:lnTo>
                    <a:pt x="4241" y="1171"/>
                  </a:lnTo>
                  <a:lnTo>
                    <a:pt x="4236" y="1171"/>
                  </a:lnTo>
                  <a:lnTo>
                    <a:pt x="4236" y="1183"/>
                  </a:lnTo>
                  <a:lnTo>
                    <a:pt x="4231" y="1183"/>
                  </a:lnTo>
                  <a:lnTo>
                    <a:pt x="4231" y="1188"/>
                  </a:lnTo>
                  <a:lnTo>
                    <a:pt x="4227" y="1188"/>
                  </a:lnTo>
                  <a:lnTo>
                    <a:pt x="4227" y="1201"/>
                  </a:lnTo>
                  <a:lnTo>
                    <a:pt x="4222" y="1201"/>
                  </a:lnTo>
                  <a:lnTo>
                    <a:pt x="4222" y="1206"/>
                  </a:lnTo>
                  <a:lnTo>
                    <a:pt x="4217" y="1206"/>
                  </a:lnTo>
                  <a:lnTo>
                    <a:pt x="4217" y="1218"/>
                  </a:lnTo>
                  <a:lnTo>
                    <a:pt x="4212" y="1218"/>
                  </a:lnTo>
                  <a:lnTo>
                    <a:pt x="4212" y="1224"/>
                  </a:lnTo>
                  <a:lnTo>
                    <a:pt x="4208" y="1224"/>
                  </a:lnTo>
                  <a:lnTo>
                    <a:pt x="4208" y="1236"/>
                  </a:lnTo>
                  <a:lnTo>
                    <a:pt x="4202" y="1236"/>
                  </a:lnTo>
                  <a:lnTo>
                    <a:pt x="4202" y="1253"/>
                  </a:lnTo>
                  <a:lnTo>
                    <a:pt x="4198" y="1253"/>
                  </a:lnTo>
                  <a:lnTo>
                    <a:pt x="4198" y="1266"/>
                  </a:lnTo>
                  <a:lnTo>
                    <a:pt x="4194" y="1266"/>
                  </a:lnTo>
                  <a:lnTo>
                    <a:pt x="4194" y="1271"/>
                  </a:lnTo>
                  <a:lnTo>
                    <a:pt x="4188" y="1271"/>
                  </a:lnTo>
                  <a:lnTo>
                    <a:pt x="4188" y="1289"/>
                  </a:lnTo>
                  <a:lnTo>
                    <a:pt x="4184" y="1289"/>
                  </a:lnTo>
                  <a:lnTo>
                    <a:pt x="4184" y="1301"/>
                  </a:lnTo>
                  <a:lnTo>
                    <a:pt x="4178" y="1301"/>
                  </a:lnTo>
                  <a:lnTo>
                    <a:pt x="4178" y="1318"/>
                  </a:lnTo>
                  <a:lnTo>
                    <a:pt x="4174" y="1318"/>
                  </a:lnTo>
                  <a:lnTo>
                    <a:pt x="4174" y="1329"/>
                  </a:lnTo>
                  <a:lnTo>
                    <a:pt x="4168" y="1329"/>
                  </a:lnTo>
                  <a:lnTo>
                    <a:pt x="4168" y="1342"/>
                  </a:lnTo>
                  <a:lnTo>
                    <a:pt x="4164" y="1342"/>
                  </a:lnTo>
                  <a:lnTo>
                    <a:pt x="4164" y="1353"/>
                  </a:lnTo>
                  <a:lnTo>
                    <a:pt x="4160" y="1353"/>
                  </a:lnTo>
                  <a:lnTo>
                    <a:pt x="4160" y="1359"/>
                  </a:lnTo>
                  <a:lnTo>
                    <a:pt x="4154" y="1359"/>
                  </a:lnTo>
                  <a:lnTo>
                    <a:pt x="4154" y="1370"/>
                  </a:lnTo>
                  <a:lnTo>
                    <a:pt x="4150" y="1370"/>
                  </a:lnTo>
                  <a:lnTo>
                    <a:pt x="4150" y="1383"/>
                  </a:lnTo>
                  <a:lnTo>
                    <a:pt x="4145" y="1383"/>
                  </a:lnTo>
                  <a:lnTo>
                    <a:pt x="4145" y="1395"/>
                  </a:lnTo>
                  <a:lnTo>
                    <a:pt x="4140" y="1395"/>
                  </a:lnTo>
                  <a:lnTo>
                    <a:pt x="4140" y="1402"/>
                  </a:lnTo>
                  <a:lnTo>
                    <a:pt x="4135" y="1402"/>
                  </a:lnTo>
                  <a:lnTo>
                    <a:pt x="4135" y="1413"/>
                  </a:lnTo>
                  <a:lnTo>
                    <a:pt x="4131" y="1413"/>
                  </a:lnTo>
                  <a:lnTo>
                    <a:pt x="4131" y="1437"/>
                  </a:lnTo>
                  <a:lnTo>
                    <a:pt x="4126" y="1437"/>
                  </a:lnTo>
                  <a:lnTo>
                    <a:pt x="4126" y="1448"/>
                  </a:lnTo>
                  <a:lnTo>
                    <a:pt x="4121" y="1448"/>
                  </a:lnTo>
                  <a:lnTo>
                    <a:pt x="4121" y="1460"/>
                  </a:lnTo>
                  <a:lnTo>
                    <a:pt x="4117" y="1460"/>
                  </a:lnTo>
                  <a:lnTo>
                    <a:pt x="4117" y="1472"/>
                  </a:lnTo>
                  <a:lnTo>
                    <a:pt x="4112" y="1472"/>
                  </a:lnTo>
                  <a:lnTo>
                    <a:pt x="4112" y="1484"/>
                  </a:lnTo>
                  <a:lnTo>
                    <a:pt x="4106" y="1484"/>
                  </a:lnTo>
                  <a:lnTo>
                    <a:pt x="4106" y="1514"/>
                  </a:lnTo>
                  <a:lnTo>
                    <a:pt x="4101" y="1514"/>
                  </a:lnTo>
                  <a:lnTo>
                    <a:pt x="4101" y="1525"/>
                  </a:lnTo>
                  <a:lnTo>
                    <a:pt x="4097" y="1525"/>
                  </a:lnTo>
                  <a:lnTo>
                    <a:pt x="4097" y="1543"/>
                  </a:lnTo>
                  <a:lnTo>
                    <a:pt x="4091" y="1543"/>
                  </a:lnTo>
                  <a:lnTo>
                    <a:pt x="4091" y="1555"/>
                  </a:lnTo>
                  <a:lnTo>
                    <a:pt x="4087" y="1555"/>
                  </a:lnTo>
                  <a:lnTo>
                    <a:pt x="4087" y="1566"/>
                  </a:lnTo>
                  <a:lnTo>
                    <a:pt x="4082" y="1566"/>
                  </a:lnTo>
                  <a:lnTo>
                    <a:pt x="4082" y="1579"/>
                  </a:lnTo>
                  <a:lnTo>
                    <a:pt x="4078" y="1579"/>
                  </a:lnTo>
                  <a:lnTo>
                    <a:pt x="4078" y="1603"/>
                  </a:lnTo>
                  <a:lnTo>
                    <a:pt x="4073" y="1603"/>
                  </a:lnTo>
                  <a:lnTo>
                    <a:pt x="4073" y="1614"/>
                  </a:lnTo>
                  <a:lnTo>
                    <a:pt x="4068" y="1614"/>
                  </a:lnTo>
                  <a:lnTo>
                    <a:pt x="4068" y="1625"/>
                  </a:lnTo>
                  <a:lnTo>
                    <a:pt x="4064" y="1625"/>
                  </a:lnTo>
                  <a:lnTo>
                    <a:pt x="4064" y="1637"/>
                  </a:lnTo>
                  <a:lnTo>
                    <a:pt x="4058" y="1637"/>
                  </a:lnTo>
                  <a:lnTo>
                    <a:pt x="4058" y="1649"/>
                  </a:lnTo>
                  <a:lnTo>
                    <a:pt x="4054" y="1649"/>
                  </a:lnTo>
                  <a:lnTo>
                    <a:pt x="4054" y="1666"/>
                  </a:lnTo>
                  <a:lnTo>
                    <a:pt x="4049" y="1666"/>
                  </a:lnTo>
                  <a:lnTo>
                    <a:pt x="4049" y="1685"/>
                  </a:lnTo>
                  <a:lnTo>
                    <a:pt x="4044" y="1685"/>
                  </a:lnTo>
                  <a:lnTo>
                    <a:pt x="4044" y="1697"/>
                  </a:lnTo>
                  <a:lnTo>
                    <a:pt x="4039" y="1697"/>
                  </a:lnTo>
                  <a:lnTo>
                    <a:pt x="4039" y="1709"/>
                  </a:lnTo>
                  <a:lnTo>
                    <a:pt x="4034" y="1709"/>
                  </a:lnTo>
                  <a:lnTo>
                    <a:pt x="4034" y="1720"/>
                  </a:lnTo>
                  <a:lnTo>
                    <a:pt x="4029" y="1720"/>
                  </a:lnTo>
                  <a:lnTo>
                    <a:pt x="4029" y="1744"/>
                  </a:lnTo>
                  <a:lnTo>
                    <a:pt x="4024" y="1744"/>
                  </a:lnTo>
                  <a:lnTo>
                    <a:pt x="4024" y="1750"/>
                  </a:lnTo>
                  <a:lnTo>
                    <a:pt x="4020" y="1750"/>
                  </a:lnTo>
                  <a:lnTo>
                    <a:pt x="4020" y="1761"/>
                  </a:lnTo>
                  <a:lnTo>
                    <a:pt x="4015" y="1761"/>
                  </a:lnTo>
                  <a:lnTo>
                    <a:pt x="4015" y="1778"/>
                  </a:lnTo>
                  <a:lnTo>
                    <a:pt x="4010" y="1778"/>
                  </a:lnTo>
                  <a:lnTo>
                    <a:pt x="4010" y="1791"/>
                  </a:lnTo>
                  <a:lnTo>
                    <a:pt x="4005" y="1791"/>
                  </a:lnTo>
                  <a:lnTo>
                    <a:pt x="4005" y="1797"/>
                  </a:lnTo>
                  <a:lnTo>
                    <a:pt x="4001" y="1797"/>
                  </a:lnTo>
                  <a:lnTo>
                    <a:pt x="4001" y="1810"/>
                  </a:lnTo>
                  <a:lnTo>
                    <a:pt x="3996" y="1810"/>
                  </a:lnTo>
                  <a:lnTo>
                    <a:pt x="3996" y="1832"/>
                  </a:lnTo>
                  <a:lnTo>
                    <a:pt x="3991" y="1832"/>
                  </a:lnTo>
                  <a:lnTo>
                    <a:pt x="3991" y="1851"/>
                  </a:lnTo>
                  <a:lnTo>
                    <a:pt x="3987" y="1851"/>
                  </a:lnTo>
                  <a:lnTo>
                    <a:pt x="3987" y="1862"/>
                  </a:lnTo>
                  <a:lnTo>
                    <a:pt x="3982" y="1862"/>
                  </a:lnTo>
                  <a:lnTo>
                    <a:pt x="3982" y="1875"/>
                  </a:lnTo>
                  <a:lnTo>
                    <a:pt x="3977" y="1875"/>
                  </a:lnTo>
                  <a:lnTo>
                    <a:pt x="3977" y="1903"/>
                  </a:lnTo>
                  <a:lnTo>
                    <a:pt x="3972" y="1903"/>
                  </a:lnTo>
                  <a:lnTo>
                    <a:pt x="3972" y="1916"/>
                  </a:lnTo>
                  <a:lnTo>
                    <a:pt x="3968" y="1916"/>
                  </a:lnTo>
                  <a:lnTo>
                    <a:pt x="3968" y="1933"/>
                  </a:lnTo>
                  <a:lnTo>
                    <a:pt x="3961" y="1933"/>
                  </a:lnTo>
                  <a:lnTo>
                    <a:pt x="3961" y="1951"/>
                  </a:lnTo>
                  <a:lnTo>
                    <a:pt x="3957" y="1951"/>
                  </a:lnTo>
                  <a:lnTo>
                    <a:pt x="3957" y="1974"/>
                  </a:lnTo>
                  <a:lnTo>
                    <a:pt x="3952" y="1974"/>
                  </a:lnTo>
                  <a:lnTo>
                    <a:pt x="3952" y="1992"/>
                  </a:lnTo>
                  <a:lnTo>
                    <a:pt x="3947" y="1992"/>
                  </a:lnTo>
                  <a:lnTo>
                    <a:pt x="3947" y="2011"/>
                  </a:lnTo>
                  <a:lnTo>
                    <a:pt x="3943" y="2011"/>
                  </a:lnTo>
                  <a:lnTo>
                    <a:pt x="3943" y="2028"/>
                  </a:lnTo>
                  <a:lnTo>
                    <a:pt x="3938" y="2028"/>
                  </a:lnTo>
                  <a:lnTo>
                    <a:pt x="3938" y="2052"/>
                  </a:lnTo>
                  <a:lnTo>
                    <a:pt x="3934" y="2052"/>
                  </a:lnTo>
                  <a:lnTo>
                    <a:pt x="3934" y="2080"/>
                  </a:lnTo>
                  <a:lnTo>
                    <a:pt x="3928" y="2080"/>
                  </a:lnTo>
                  <a:lnTo>
                    <a:pt x="3928" y="2087"/>
                  </a:lnTo>
                  <a:lnTo>
                    <a:pt x="3924" y="2087"/>
                  </a:lnTo>
                  <a:lnTo>
                    <a:pt x="3924" y="2110"/>
                  </a:lnTo>
                  <a:lnTo>
                    <a:pt x="3919" y="2110"/>
                  </a:lnTo>
                  <a:lnTo>
                    <a:pt x="3919" y="2129"/>
                  </a:lnTo>
                  <a:lnTo>
                    <a:pt x="3914" y="2129"/>
                  </a:lnTo>
                  <a:lnTo>
                    <a:pt x="3914" y="2147"/>
                  </a:lnTo>
                  <a:lnTo>
                    <a:pt x="3910" y="2147"/>
                  </a:lnTo>
                  <a:lnTo>
                    <a:pt x="3910" y="2169"/>
                  </a:lnTo>
                  <a:lnTo>
                    <a:pt x="3905" y="2169"/>
                  </a:lnTo>
                  <a:lnTo>
                    <a:pt x="3905" y="2180"/>
                  </a:lnTo>
                  <a:lnTo>
                    <a:pt x="3900" y="2180"/>
                  </a:lnTo>
                  <a:lnTo>
                    <a:pt x="3900" y="2198"/>
                  </a:lnTo>
                  <a:lnTo>
                    <a:pt x="3896" y="2198"/>
                  </a:lnTo>
                  <a:lnTo>
                    <a:pt x="3896" y="2234"/>
                  </a:lnTo>
                  <a:lnTo>
                    <a:pt x="3890" y="2234"/>
                  </a:lnTo>
                  <a:lnTo>
                    <a:pt x="3890" y="2240"/>
                  </a:lnTo>
                  <a:lnTo>
                    <a:pt x="3885" y="2240"/>
                  </a:lnTo>
                  <a:lnTo>
                    <a:pt x="3885" y="2258"/>
                  </a:lnTo>
                  <a:lnTo>
                    <a:pt x="3880" y="2258"/>
                  </a:lnTo>
                  <a:lnTo>
                    <a:pt x="3880" y="2275"/>
                  </a:lnTo>
                  <a:lnTo>
                    <a:pt x="3876" y="2275"/>
                  </a:lnTo>
                  <a:lnTo>
                    <a:pt x="3876" y="2311"/>
                  </a:lnTo>
                  <a:lnTo>
                    <a:pt x="3871" y="2311"/>
                  </a:lnTo>
                  <a:lnTo>
                    <a:pt x="3871" y="2329"/>
                  </a:lnTo>
                  <a:lnTo>
                    <a:pt x="3866" y="2329"/>
                  </a:lnTo>
                  <a:lnTo>
                    <a:pt x="3866" y="2335"/>
                  </a:lnTo>
                  <a:lnTo>
                    <a:pt x="3861" y="2335"/>
                  </a:lnTo>
                  <a:lnTo>
                    <a:pt x="3861" y="2370"/>
                  </a:lnTo>
                  <a:lnTo>
                    <a:pt x="3857" y="2370"/>
                  </a:lnTo>
                  <a:lnTo>
                    <a:pt x="3857" y="2411"/>
                  </a:lnTo>
                  <a:lnTo>
                    <a:pt x="3852" y="2411"/>
                  </a:lnTo>
                  <a:lnTo>
                    <a:pt x="3852" y="2435"/>
                  </a:lnTo>
                  <a:lnTo>
                    <a:pt x="3847" y="2435"/>
                  </a:lnTo>
                  <a:lnTo>
                    <a:pt x="3847" y="2506"/>
                  </a:lnTo>
                  <a:lnTo>
                    <a:pt x="3843" y="2506"/>
                  </a:lnTo>
                  <a:lnTo>
                    <a:pt x="3843" y="2547"/>
                  </a:lnTo>
                  <a:lnTo>
                    <a:pt x="3838" y="2547"/>
                  </a:lnTo>
                  <a:lnTo>
                    <a:pt x="3838" y="2560"/>
                  </a:lnTo>
                  <a:lnTo>
                    <a:pt x="3833" y="2560"/>
                  </a:lnTo>
                  <a:lnTo>
                    <a:pt x="3833" y="2583"/>
                  </a:lnTo>
                  <a:lnTo>
                    <a:pt x="3828" y="2583"/>
                  </a:lnTo>
                  <a:lnTo>
                    <a:pt x="3828" y="2595"/>
                  </a:lnTo>
                  <a:lnTo>
                    <a:pt x="3824" y="2595"/>
                  </a:lnTo>
                  <a:lnTo>
                    <a:pt x="3824" y="2607"/>
                  </a:lnTo>
                  <a:lnTo>
                    <a:pt x="3828" y="2607"/>
                  </a:lnTo>
                  <a:lnTo>
                    <a:pt x="3828" y="2653"/>
                  </a:lnTo>
                  <a:lnTo>
                    <a:pt x="3833" y="2653"/>
                  </a:lnTo>
                  <a:lnTo>
                    <a:pt x="3833" y="2671"/>
                  </a:lnTo>
                  <a:lnTo>
                    <a:pt x="3828" y="2671"/>
                  </a:lnTo>
                  <a:lnTo>
                    <a:pt x="3828" y="2772"/>
                  </a:lnTo>
                  <a:lnTo>
                    <a:pt x="3833" y="2772"/>
                  </a:lnTo>
                  <a:lnTo>
                    <a:pt x="3833" y="2789"/>
                  </a:lnTo>
                  <a:lnTo>
                    <a:pt x="3838" y="2789"/>
                  </a:lnTo>
                  <a:lnTo>
                    <a:pt x="3838" y="2814"/>
                  </a:lnTo>
                  <a:lnTo>
                    <a:pt x="3824" y="2814"/>
                  </a:lnTo>
                  <a:lnTo>
                    <a:pt x="3824" y="2825"/>
                  </a:lnTo>
                  <a:lnTo>
                    <a:pt x="3794" y="2825"/>
                  </a:lnTo>
                  <a:lnTo>
                    <a:pt x="3794" y="2819"/>
                  </a:lnTo>
                  <a:lnTo>
                    <a:pt x="3770" y="2819"/>
                  </a:lnTo>
                  <a:lnTo>
                    <a:pt x="3770" y="2814"/>
                  </a:lnTo>
                  <a:lnTo>
                    <a:pt x="3746" y="2814"/>
                  </a:lnTo>
                  <a:lnTo>
                    <a:pt x="3746" y="2808"/>
                  </a:lnTo>
                  <a:lnTo>
                    <a:pt x="3736" y="2808"/>
                  </a:lnTo>
                  <a:lnTo>
                    <a:pt x="3736" y="2802"/>
                  </a:lnTo>
                  <a:lnTo>
                    <a:pt x="3713" y="2802"/>
                  </a:lnTo>
                  <a:lnTo>
                    <a:pt x="3713" y="2797"/>
                  </a:lnTo>
                  <a:lnTo>
                    <a:pt x="3694" y="2797"/>
                  </a:lnTo>
                  <a:lnTo>
                    <a:pt x="3694" y="2789"/>
                  </a:lnTo>
                  <a:lnTo>
                    <a:pt x="3673" y="2789"/>
                  </a:lnTo>
                  <a:lnTo>
                    <a:pt x="3673" y="2784"/>
                  </a:lnTo>
                  <a:lnTo>
                    <a:pt x="3659" y="2784"/>
                  </a:lnTo>
                  <a:lnTo>
                    <a:pt x="3659" y="2778"/>
                  </a:lnTo>
                  <a:lnTo>
                    <a:pt x="3631" y="2778"/>
                  </a:lnTo>
                  <a:lnTo>
                    <a:pt x="3631" y="2772"/>
                  </a:lnTo>
                  <a:lnTo>
                    <a:pt x="3612" y="2772"/>
                  </a:lnTo>
                  <a:lnTo>
                    <a:pt x="3612" y="2766"/>
                  </a:lnTo>
                  <a:lnTo>
                    <a:pt x="3592" y="2766"/>
                  </a:lnTo>
                  <a:lnTo>
                    <a:pt x="3592" y="2761"/>
                  </a:lnTo>
                  <a:lnTo>
                    <a:pt x="3577" y="2761"/>
                  </a:lnTo>
                  <a:lnTo>
                    <a:pt x="3577" y="2756"/>
                  </a:lnTo>
                  <a:lnTo>
                    <a:pt x="3545" y="2756"/>
                  </a:lnTo>
                  <a:lnTo>
                    <a:pt x="3545" y="2748"/>
                  </a:lnTo>
                  <a:lnTo>
                    <a:pt x="3536" y="2748"/>
                  </a:lnTo>
                  <a:lnTo>
                    <a:pt x="3536" y="2743"/>
                  </a:lnTo>
                  <a:lnTo>
                    <a:pt x="3506" y="2743"/>
                  </a:lnTo>
                  <a:lnTo>
                    <a:pt x="3506" y="2737"/>
                  </a:lnTo>
                  <a:lnTo>
                    <a:pt x="3487" y="2737"/>
                  </a:lnTo>
                  <a:lnTo>
                    <a:pt x="3487" y="2731"/>
                  </a:lnTo>
                  <a:lnTo>
                    <a:pt x="3468" y="2731"/>
                  </a:lnTo>
                  <a:lnTo>
                    <a:pt x="3468" y="2724"/>
                  </a:lnTo>
                  <a:lnTo>
                    <a:pt x="3458" y="2724"/>
                  </a:lnTo>
                  <a:lnTo>
                    <a:pt x="3458" y="2719"/>
                  </a:lnTo>
                  <a:lnTo>
                    <a:pt x="3439" y="2719"/>
                  </a:lnTo>
                  <a:lnTo>
                    <a:pt x="3439" y="2713"/>
                  </a:lnTo>
                  <a:lnTo>
                    <a:pt x="3429" y="2713"/>
                  </a:lnTo>
                  <a:lnTo>
                    <a:pt x="3429" y="2707"/>
                  </a:lnTo>
                  <a:lnTo>
                    <a:pt x="3415" y="2707"/>
                  </a:lnTo>
                  <a:lnTo>
                    <a:pt x="3415" y="2702"/>
                  </a:lnTo>
                  <a:lnTo>
                    <a:pt x="3385" y="2702"/>
                  </a:lnTo>
                  <a:lnTo>
                    <a:pt x="3385" y="2696"/>
                  </a:lnTo>
                  <a:lnTo>
                    <a:pt x="3371" y="2696"/>
                  </a:lnTo>
                  <a:lnTo>
                    <a:pt x="3371" y="2689"/>
                  </a:lnTo>
                  <a:lnTo>
                    <a:pt x="3352" y="2689"/>
                  </a:lnTo>
                  <a:lnTo>
                    <a:pt x="3352" y="2683"/>
                  </a:lnTo>
                  <a:lnTo>
                    <a:pt x="3338" y="2683"/>
                  </a:lnTo>
                  <a:lnTo>
                    <a:pt x="3338" y="2678"/>
                  </a:lnTo>
                  <a:lnTo>
                    <a:pt x="3323" y="2678"/>
                  </a:lnTo>
                  <a:lnTo>
                    <a:pt x="3323" y="2671"/>
                  </a:lnTo>
                  <a:lnTo>
                    <a:pt x="3309" y="2671"/>
                  </a:lnTo>
                  <a:lnTo>
                    <a:pt x="3309" y="2666"/>
                  </a:lnTo>
                  <a:lnTo>
                    <a:pt x="3295" y="2666"/>
                  </a:lnTo>
                  <a:lnTo>
                    <a:pt x="3295" y="2661"/>
                  </a:lnTo>
                  <a:lnTo>
                    <a:pt x="3280" y="2661"/>
                  </a:lnTo>
                  <a:lnTo>
                    <a:pt x="3280" y="2653"/>
                  </a:lnTo>
                  <a:lnTo>
                    <a:pt x="3262" y="2653"/>
                  </a:lnTo>
                  <a:lnTo>
                    <a:pt x="3262" y="2648"/>
                  </a:lnTo>
                  <a:lnTo>
                    <a:pt x="3242" y="2648"/>
                  </a:lnTo>
                  <a:lnTo>
                    <a:pt x="3242" y="2642"/>
                  </a:lnTo>
                  <a:lnTo>
                    <a:pt x="3218" y="2642"/>
                  </a:lnTo>
                  <a:lnTo>
                    <a:pt x="3218" y="2637"/>
                  </a:lnTo>
                  <a:lnTo>
                    <a:pt x="3204" y="2637"/>
                  </a:lnTo>
                  <a:lnTo>
                    <a:pt x="3204" y="2630"/>
                  </a:lnTo>
                  <a:lnTo>
                    <a:pt x="3189" y="2630"/>
                  </a:lnTo>
                  <a:lnTo>
                    <a:pt x="3189" y="2625"/>
                  </a:lnTo>
                  <a:lnTo>
                    <a:pt x="3175" y="2625"/>
                  </a:lnTo>
                  <a:lnTo>
                    <a:pt x="3175" y="2618"/>
                  </a:lnTo>
                  <a:lnTo>
                    <a:pt x="3165" y="2618"/>
                  </a:lnTo>
                  <a:lnTo>
                    <a:pt x="3165" y="2612"/>
                  </a:lnTo>
                  <a:lnTo>
                    <a:pt x="3155" y="2612"/>
                  </a:lnTo>
                  <a:lnTo>
                    <a:pt x="3155" y="2607"/>
                  </a:lnTo>
                  <a:lnTo>
                    <a:pt x="3151" y="2607"/>
                  </a:lnTo>
                  <a:lnTo>
                    <a:pt x="3151" y="2601"/>
                  </a:lnTo>
                  <a:lnTo>
                    <a:pt x="3103" y="2601"/>
                  </a:lnTo>
                  <a:lnTo>
                    <a:pt x="3103" y="2595"/>
                  </a:lnTo>
                  <a:lnTo>
                    <a:pt x="3093" y="2595"/>
                  </a:lnTo>
                  <a:lnTo>
                    <a:pt x="3093" y="2588"/>
                  </a:lnTo>
                  <a:lnTo>
                    <a:pt x="3083" y="2588"/>
                  </a:lnTo>
                  <a:lnTo>
                    <a:pt x="3083" y="2583"/>
                  </a:lnTo>
                  <a:lnTo>
                    <a:pt x="3069" y="2583"/>
                  </a:lnTo>
                  <a:lnTo>
                    <a:pt x="3069" y="2577"/>
                  </a:lnTo>
                  <a:lnTo>
                    <a:pt x="3059" y="2577"/>
                  </a:lnTo>
                  <a:lnTo>
                    <a:pt x="3059" y="2571"/>
                  </a:lnTo>
                  <a:lnTo>
                    <a:pt x="3035" y="2571"/>
                  </a:lnTo>
                  <a:lnTo>
                    <a:pt x="3035" y="2566"/>
                  </a:lnTo>
                  <a:lnTo>
                    <a:pt x="3021" y="2566"/>
                  </a:lnTo>
                  <a:lnTo>
                    <a:pt x="3021" y="2560"/>
                  </a:lnTo>
                  <a:lnTo>
                    <a:pt x="3011" y="2560"/>
                  </a:lnTo>
                  <a:lnTo>
                    <a:pt x="3011" y="2553"/>
                  </a:lnTo>
                  <a:lnTo>
                    <a:pt x="3001" y="2553"/>
                  </a:lnTo>
                  <a:lnTo>
                    <a:pt x="3001" y="2547"/>
                  </a:lnTo>
                  <a:lnTo>
                    <a:pt x="2987" y="2547"/>
                  </a:lnTo>
                  <a:lnTo>
                    <a:pt x="2987" y="2542"/>
                  </a:lnTo>
                  <a:lnTo>
                    <a:pt x="2964" y="2542"/>
                  </a:lnTo>
                  <a:lnTo>
                    <a:pt x="2964" y="2536"/>
                  </a:lnTo>
                  <a:lnTo>
                    <a:pt x="2948" y="2536"/>
                  </a:lnTo>
                  <a:lnTo>
                    <a:pt x="2948" y="2530"/>
                  </a:lnTo>
                  <a:lnTo>
                    <a:pt x="2938" y="2530"/>
                  </a:lnTo>
                  <a:lnTo>
                    <a:pt x="2938" y="2525"/>
                  </a:lnTo>
                  <a:lnTo>
                    <a:pt x="2920" y="2525"/>
                  </a:lnTo>
                  <a:lnTo>
                    <a:pt x="2920" y="2518"/>
                  </a:lnTo>
                  <a:lnTo>
                    <a:pt x="2905" y="2518"/>
                  </a:lnTo>
                  <a:lnTo>
                    <a:pt x="2905" y="2512"/>
                  </a:lnTo>
                  <a:lnTo>
                    <a:pt x="2882" y="2512"/>
                  </a:lnTo>
                  <a:lnTo>
                    <a:pt x="2882" y="2506"/>
                  </a:lnTo>
                  <a:lnTo>
                    <a:pt x="2871" y="2506"/>
                  </a:lnTo>
                  <a:lnTo>
                    <a:pt x="2871" y="2501"/>
                  </a:lnTo>
                  <a:lnTo>
                    <a:pt x="2857" y="2501"/>
                  </a:lnTo>
                  <a:lnTo>
                    <a:pt x="2857" y="2495"/>
                  </a:lnTo>
                  <a:lnTo>
                    <a:pt x="2843" y="2495"/>
                  </a:lnTo>
                  <a:lnTo>
                    <a:pt x="2843" y="2489"/>
                  </a:lnTo>
                  <a:lnTo>
                    <a:pt x="2824" y="2489"/>
                  </a:lnTo>
                  <a:lnTo>
                    <a:pt x="2824" y="2484"/>
                  </a:lnTo>
                  <a:lnTo>
                    <a:pt x="2815" y="2484"/>
                  </a:lnTo>
                  <a:lnTo>
                    <a:pt x="2815" y="2476"/>
                  </a:lnTo>
                  <a:lnTo>
                    <a:pt x="2810" y="2476"/>
                  </a:lnTo>
                  <a:lnTo>
                    <a:pt x="2810" y="2471"/>
                  </a:lnTo>
                  <a:lnTo>
                    <a:pt x="2804" y="2471"/>
                  </a:lnTo>
                  <a:lnTo>
                    <a:pt x="2804" y="2465"/>
                  </a:lnTo>
                  <a:lnTo>
                    <a:pt x="2786" y="2465"/>
                  </a:lnTo>
                  <a:lnTo>
                    <a:pt x="2786" y="2460"/>
                  </a:lnTo>
                  <a:lnTo>
                    <a:pt x="2761" y="2460"/>
                  </a:lnTo>
                  <a:lnTo>
                    <a:pt x="2761" y="2452"/>
                  </a:lnTo>
                  <a:lnTo>
                    <a:pt x="2753" y="2452"/>
                  </a:lnTo>
                  <a:lnTo>
                    <a:pt x="2753" y="2447"/>
                  </a:lnTo>
                  <a:lnTo>
                    <a:pt x="2727" y="2447"/>
                  </a:lnTo>
                  <a:lnTo>
                    <a:pt x="2727" y="2442"/>
                  </a:lnTo>
                  <a:lnTo>
                    <a:pt x="2723" y="2442"/>
                  </a:lnTo>
                  <a:lnTo>
                    <a:pt x="2723" y="2435"/>
                  </a:lnTo>
                  <a:lnTo>
                    <a:pt x="2709" y="2435"/>
                  </a:lnTo>
                  <a:lnTo>
                    <a:pt x="2709" y="2430"/>
                  </a:lnTo>
                  <a:lnTo>
                    <a:pt x="2699" y="2430"/>
                  </a:lnTo>
                  <a:lnTo>
                    <a:pt x="2699" y="2424"/>
                  </a:lnTo>
                  <a:lnTo>
                    <a:pt x="2685" y="2424"/>
                  </a:lnTo>
                  <a:lnTo>
                    <a:pt x="2685" y="2417"/>
                  </a:lnTo>
                  <a:lnTo>
                    <a:pt x="2671" y="2417"/>
                  </a:lnTo>
                  <a:lnTo>
                    <a:pt x="2671" y="2411"/>
                  </a:lnTo>
                  <a:lnTo>
                    <a:pt x="2656" y="2411"/>
                  </a:lnTo>
                  <a:lnTo>
                    <a:pt x="2656" y="2406"/>
                  </a:lnTo>
                  <a:lnTo>
                    <a:pt x="2631" y="2406"/>
                  </a:lnTo>
                  <a:lnTo>
                    <a:pt x="2631" y="2400"/>
                  </a:lnTo>
                  <a:lnTo>
                    <a:pt x="2617" y="2400"/>
                  </a:lnTo>
                  <a:lnTo>
                    <a:pt x="2617" y="2394"/>
                  </a:lnTo>
                  <a:lnTo>
                    <a:pt x="2598" y="2394"/>
                  </a:lnTo>
                  <a:lnTo>
                    <a:pt x="2598" y="2389"/>
                  </a:lnTo>
                  <a:lnTo>
                    <a:pt x="2588" y="2389"/>
                  </a:lnTo>
                  <a:lnTo>
                    <a:pt x="2588" y="2382"/>
                  </a:lnTo>
                  <a:lnTo>
                    <a:pt x="2574" y="2382"/>
                  </a:lnTo>
                  <a:lnTo>
                    <a:pt x="2574" y="2376"/>
                  </a:lnTo>
                  <a:lnTo>
                    <a:pt x="2560" y="2376"/>
                  </a:lnTo>
                  <a:lnTo>
                    <a:pt x="2560" y="2370"/>
                  </a:lnTo>
                  <a:lnTo>
                    <a:pt x="2554" y="2370"/>
                  </a:lnTo>
                  <a:lnTo>
                    <a:pt x="2554" y="2365"/>
                  </a:lnTo>
                  <a:lnTo>
                    <a:pt x="2541" y="2365"/>
                  </a:lnTo>
                  <a:lnTo>
                    <a:pt x="2541" y="2357"/>
                  </a:lnTo>
                  <a:lnTo>
                    <a:pt x="2527" y="2357"/>
                  </a:lnTo>
                  <a:lnTo>
                    <a:pt x="2527" y="2352"/>
                  </a:lnTo>
                  <a:lnTo>
                    <a:pt x="2498" y="2352"/>
                  </a:lnTo>
                  <a:lnTo>
                    <a:pt x="2498" y="2346"/>
                  </a:lnTo>
                  <a:lnTo>
                    <a:pt x="2488" y="2346"/>
                  </a:lnTo>
                  <a:lnTo>
                    <a:pt x="2488" y="2341"/>
                  </a:lnTo>
                  <a:lnTo>
                    <a:pt x="2473" y="2341"/>
                  </a:lnTo>
                  <a:lnTo>
                    <a:pt x="2473" y="2335"/>
                  </a:lnTo>
                  <a:lnTo>
                    <a:pt x="2469" y="2335"/>
                  </a:lnTo>
                  <a:lnTo>
                    <a:pt x="2469" y="2329"/>
                  </a:lnTo>
                  <a:lnTo>
                    <a:pt x="2444" y="2329"/>
                  </a:lnTo>
                  <a:lnTo>
                    <a:pt x="2444" y="2324"/>
                  </a:lnTo>
                  <a:lnTo>
                    <a:pt x="2435" y="2324"/>
                  </a:lnTo>
                  <a:lnTo>
                    <a:pt x="2435" y="2316"/>
                  </a:lnTo>
                  <a:lnTo>
                    <a:pt x="2411" y="2316"/>
                  </a:lnTo>
                  <a:lnTo>
                    <a:pt x="2411" y="2311"/>
                  </a:lnTo>
                  <a:lnTo>
                    <a:pt x="2397" y="2311"/>
                  </a:lnTo>
                  <a:lnTo>
                    <a:pt x="2397" y="2305"/>
                  </a:lnTo>
                  <a:lnTo>
                    <a:pt x="2383" y="2305"/>
                  </a:lnTo>
                  <a:lnTo>
                    <a:pt x="2383" y="2299"/>
                  </a:lnTo>
                  <a:lnTo>
                    <a:pt x="2362" y="2299"/>
                  </a:lnTo>
                  <a:lnTo>
                    <a:pt x="2362" y="2294"/>
                  </a:lnTo>
                  <a:lnTo>
                    <a:pt x="2353" y="2294"/>
                  </a:lnTo>
                  <a:lnTo>
                    <a:pt x="2353" y="2288"/>
                  </a:lnTo>
                  <a:lnTo>
                    <a:pt x="2343" y="2288"/>
                  </a:lnTo>
                  <a:lnTo>
                    <a:pt x="2343" y="2283"/>
                  </a:lnTo>
                  <a:lnTo>
                    <a:pt x="2329" y="2283"/>
                  </a:lnTo>
                  <a:lnTo>
                    <a:pt x="2329" y="2275"/>
                  </a:lnTo>
                  <a:lnTo>
                    <a:pt x="2325" y="2275"/>
                  </a:lnTo>
                  <a:lnTo>
                    <a:pt x="2325" y="2270"/>
                  </a:lnTo>
                  <a:lnTo>
                    <a:pt x="2315" y="2270"/>
                  </a:lnTo>
                  <a:lnTo>
                    <a:pt x="2315" y="2264"/>
                  </a:lnTo>
                  <a:lnTo>
                    <a:pt x="2290" y="2264"/>
                  </a:lnTo>
                  <a:lnTo>
                    <a:pt x="2290" y="2258"/>
                  </a:lnTo>
                  <a:lnTo>
                    <a:pt x="2281" y="2258"/>
                  </a:lnTo>
                  <a:lnTo>
                    <a:pt x="2281" y="2251"/>
                  </a:lnTo>
                  <a:lnTo>
                    <a:pt x="2266" y="2251"/>
                  </a:lnTo>
                  <a:lnTo>
                    <a:pt x="2266" y="2246"/>
                  </a:lnTo>
                  <a:lnTo>
                    <a:pt x="2257" y="2246"/>
                  </a:lnTo>
                  <a:lnTo>
                    <a:pt x="2257" y="2240"/>
                  </a:lnTo>
                  <a:lnTo>
                    <a:pt x="2243" y="2240"/>
                  </a:lnTo>
                  <a:lnTo>
                    <a:pt x="2243" y="2234"/>
                  </a:lnTo>
                  <a:lnTo>
                    <a:pt x="2233" y="2234"/>
                  </a:lnTo>
                  <a:lnTo>
                    <a:pt x="2233" y="2229"/>
                  </a:lnTo>
                  <a:lnTo>
                    <a:pt x="2223" y="2229"/>
                  </a:lnTo>
                  <a:lnTo>
                    <a:pt x="2223" y="2223"/>
                  </a:lnTo>
                  <a:lnTo>
                    <a:pt x="2209" y="2223"/>
                  </a:lnTo>
                  <a:lnTo>
                    <a:pt x="2209" y="2216"/>
                  </a:lnTo>
                  <a:lnTo>
                    <a:pt x="2204" y="2216"/>
                  </a:lnTo>
                  <a:lnTo>
                    <a:pt x="2204" y="2210"/>
                  </a:lnTo>
                  <a:lnTo>
                    <a:pt x="2190" y="2210"/>
                  </a:lnTo>
                  <a:lnTo>
                    <a:pt x="2190" y="2205"/>
                  </a:lnTo>
                  <a:lnTo>
                    <a:pt x="2176" y="2205"/>
                  </a:lnTo>
                  <a:lnTo>
                    <a:pt x="2176" y="2198"/>
                  </a:lnTo>
                  <a:lnTo>
                    <a:pt x="2166" y="2198"/>
                  </a:lnTo>
                  <a:lnTo>
                    <a:pt x="2166" y="2193"/>
                  </a:lnTo>
                  <a:lnTo>
                    <a:pt x="2147" y="2193"/>
                  </a:lnTo>
                  <a:lnTo>
                    <a:pt x="2147" y="2188"/>
                  </a:lnTo>
                  <a:lnTo>
                    <a:pt x="2122" y="2188"/>
                  </a:lnTo>
                  <a:lnTo>
                    <a:pt x="2122" y="2180"/>
                  </a:lnTo>
                  <a:lnTo>
                    <a:pt x="2114" y="2180"/>
                  </a:lnTo>
                  <a:lnTo>
                    <a:pt x="2114" y="2175"/>
                  </a:lnTo>
                  <a:lnTo>
                    <a:pt x="2109" y="2175"/>
                  </a:lnTo>
                  <a:lnTo>
                    <a:pt x="2109" y="2169"/>
                  </a:lnTo>
                  <a:lnTo>
                    <a:pt x="2089" y="2169"/>
                  </a:lnTo>
                  <a:lnTo>
                    <a:pt x="2089" y="2164"/>
                  </a:lnTo>
                  <a:lnTo>
                    <a:pt x="2065" y="2164"/>
                  </a:lnTo>
                  <a:lnTo>
                    <a:pt x="2065" y="2157"/>
                  </a:lnTo>
                  <a:lnTo>
                    <a:pt x="2051" y="2157"/>
                  </a:lnTo>
                  <a:lnTo>
                    <a:pt x="2051" y="2152"/>
                  </a:lnTo>
                  <a:lnTo>
                    <a:pt x="2032" y="2152"/>
                  </a:lnTo>
                  <a:lnTo>
                    <a:pt x="2032" y="2147"/>
                  </a:lnTo>
                  <a:lnTo>
                    <a:pt x="2022" y="2147"/>
                  </a:lnTo>
                  <a:lnTo>
                    <a:pt x="2022" y="2139"/>
                  </a:lnTo>
                  <a:lnTo>
                    <a:pt x="1998" y="2139"/>
                  </a:lnTo>
                  <a:lnTo>
                    <a:pt x="1998" y="2134"/>
                  </a:lnTo>
                  <a:lnTo>
                    <a:pt x="1978" y="2134"/>
                  </a:lnTo>
                  <a:lnTo>
                    <a:pt x="1978" y="2129"/>
                  </a:lnTo>
                  <a:lnTo>
                    <a:pt x="1964" y="2129"/>
                  </a:lnTo>
                  <a:lnTo>
                    <a:pt x="1964" y="2122"/>
                  </a:lnTo>
                  <a:lnTo>
                    <a:pt x="1945" y="2122"/>
                  </a:lnTo>
                  <a:lnTo>
                    <a:pt x="1945" y="2117"/>
                  </a:lnTo>
                  <a:lnTo>
                    <a:pt x="1935" y="2117"/>
                  </a:lnTo>
                  <a:lnTo>
                    <a:pt x="1935" y="2110"/>
                  </a:lnTo>
                  <a:lnTo>
                    <a:pt x="1925" y="2110"/>
                  </a:lnTo>
                  <a:lnTo>
                    <a:pt x="1925" y="2104"/>
                  </a:lnTo>
                  <a:lnTo>
                    <a:pt x="1911" y="2104"/>
                  </a:lnTo>
                  <a:lnTo>
                    <a:pt x="1911" y="2098"/>
                  </a:lnTo>
                  <a:lnTo>
                    <a:pt x="1882" y="2098"/>
                  </a:lnTo>
                  <a:lnTo>
                    <a:pt x="1882" y="2093"/>
                  </a:lnTo>
                  <a:lnTo>
                    <a:pt x="1873" y="2093"/>
                  </a:lnTo>
                  <a:lnTo>
                    <a:pt x="1873" y="2087"/>
                  </a:lnTo>
                  <a:lnTo>
                    <a:pt x="1858" y="2087"/>
                  </a:lnTo>
                  <a:lnTo>
                    <a:pt x="1858" y="2080"/>
                  </a:lnTo>
                  <a:lnTo>
                    <a:pt x="1839" y="2080"/>
                  </a:lnTo>
                  <a:lnTo>
                    <a:pt x="1839" y="2075"/>
                  </a:lnTo>
                  <a:lnTo>
                    <a:pt x="1830" y="2075"/>
                  </a:lnTo>
                  <a:lnTo>
                    <a:pt x="1830" y="2069"/>
                  </a:lnTo>
                  <a:lnTo>
                    <a:pt x="1820" y="2069"/>
                  </a:lnTo>
                  <a:lnTo>
                    <a:pt x="1820" y="2063"/>
                  </a:lnTo>
                  <a:lnTo>
                    <a:pt x="1797" y="2063"/>
                  </a:lnTo>
                  <a:lnTo>
                    <a:pt x="1797" y="2057"/>
                  </a:lnTo>
                  <a:lnTo>
                    <a:pt x="1786" y="2057"/>
                  </a:lnTo>
                  <a:lnTo>
                    <a:pt x="1786" y="2052"/>
                  </a:lnTo>
                  <a:lnTo>
                    <a:pt x="1763" y="2052"/>
                  </a:lnTo>
                  <a:lnTo>
                    <a:pt x="1763" y="2046"/>
                  </a:lnTo>
                  <a:lnTo>
                    <a:pt x="1753" y="2046"/>
                  </a:lnTo>
                  <a:lnTo>
                    <a:pt x="1753" y="2039"/>
                  </a:lnTo>
                  <a:lnTo>
                    <a:pt x="1744" y="2039"/>
                  </a:lnTo>
                  <a:lnTo>
                    <a:pt x="1744" y="2033"/>
                  </a:lnTo>
                  <a:lnTo>
                    <a:pt x="1725" y="2033"/>
                  </a:lnTo>
                  <a:lnTo>
                    <a:pt x="1725" y="2028"/>
                  </a:lnTo>
                  <a:lnTo>
                    <a:pt x="1704" y="2028"/>
                  </a:lnTo>
                  <a:lnTo>
                    <a:pt x="1704" y="2022"/>
                  </a:lnTo>
                  <a:lnTo>
                    <a:pt x="1686" y="2022"/>
                  </a:lnTo>
                  <a:lnTo>
                    <a:pt x="1686" y="2016"/>
                  </a:lnTo>
                  <a:lnTo>
                    <a:pt x="1662" y="2016"/>
                  </a:lnTo>
                  <a:lnTo>
                    <a:pt x="1662" y="2011"/>
                  </a:lnTo>
                  <a:lnTo>
                    <a:pt x="1642" y="2011"/>
                  </a:lnTo>
                  <a:lnTo>
                    <a:pt x="1642" y="2003"/>
                  </a:lnTo>
                  <a:lnTo>
                    <a:pt x="1633" y="2003"/>
                  </a:lnTo>
                  <a:lnTo>
                    <a:pt x="1633" y="1998"/>
                  </a:lnTo>
                  <a:lnTo>
                    <a:pt x="1618" y="1998"/>
                  </a:lnTo>
                  <a:lnTo>
                    <a:pt x="1618" y="1992"/>
                  </a:lnTo>
                  <a:lnTo>
                    <a:pt x="1594" y="1992"/>
                  </a:lnTo>
                  <a:lnTo>
                    <a:pt x="1594" y="1987"/>
                  </a:lnTo>
                  <a:lnTo>
                    <a:pt x="1585" y="1987"/>
                  </a:lnTo>
                  <a:lnTo>
                    <a:pt x="1585" y="1979"/>
                  </a:lnTo>
                  <a:lnTo>
                    <a:pt x="1566" y="1979"/>
                  </a:lnTo>
                  <a:lnTo>
                    <a:pt x="1566" y="1974"/>
                  </a:lnTo>
                  <a:lnTo>
                    <a:pt x="1556" y="1974"/>
                  </a:lnTo>
                  <a:lnTo>
                    <a:pt x="1556" y="1969"/>
                  </a:lnTo>
                  <a:lnTo>
                    <a:pt x="1523" y="1969"/>
                  </a:lnTo>
                  <a:lnTo>
                    <a:pt x="1523" y="1962"/>
                  </a:lnTo>
                  <a:lnTo>
                    <a:pt x="1504" y="1962"/>
                  </a:lnTo>
                  <a:lnTo>
                    <a:pt x="1504" y="1957"/>
                  </a:lnTo>
                  <a:lnTo>
                    <a:pt x="1493" y="1957"/>
                  </a:lnTo>
                  <a:lnTo>
                    <a:pt x="1493" y="1951"/>
                  </a:lnTo>
                  <a:lnTo>
                    <a:pt x="1479" y="1951"/>
                  </a:lnTo>
                  <a:lnTo>
                    <a:pt x="1479" y="1944"/>
                  </a:lnTo>
                  <a:lnTo>
                    <a:pt x="1456" y="1944"/>
                  </a:lnTo>
                  <a:lnTo>
                    <a:pt x="1456" y="1938"/>
                  </a:lnTo>
                  <a:lnTo>
                    <a:pt x="1441" y="1938"/>
                  </a:lnTo>
                  <a:lnTo>
                    <a:pt x="1441" y="1933"/>
                  </a:lnTo>
                  <a:lnTo>
                    <a:pt x="1432" y="1933"/>
                  </a:lnTo>
                  <a:lnTo>
                    <a:pt x="1432" y="1927"/>
                  </a:lnTo>
                  <a:lnTo>
                    <a:pt x="1397" y="1927"/>
                  </a:lnTo>
                  <a:lnTo>
                    <a:pt x="1397" y="1921"/>
                  </a:lnTo>
                  <a:lnTo>
                    <a:pt x="1383" y="1921"/>
                  </a:lnTo>
                  <a:lnTo>
                    <a:pt x="1383" y="1916"/>
                  </a:lnTo>
                  <a:lnTo>
                    <a:pt x="1369" y="1916"/>
                  </a:lnTo>
                  <a:lnTo>
                    <a:pt x="1369" y="1910"/>
                  </a:lnTo>
                  <a:lnTo>
                    <a:pt x="1353" y="1910"/>
                  </a:lnTo>
                  <a:lnTo>
                    <a:pt x="1353" y="1903"/>
                  </a:lnTo>
                  <a:lnTo>
                    <a:pt x="1330" y="1903"/>
                  </a:lnTo>
                  <a:lnTo>
                    <a:pt x="1330" y="1897"/>
                  </a:lnTo>
                  <a:lnTo>
                    <a:pt x="1320" y="1897"/>
                  </a:lnTo>
                  <a:lnTo>
                    <a:pt x="1320" y="1892"/>
                  </a:lnTo>
                  <a:lnTo>
                    <a:pt x="1306" y="1892"/>
                  </a:lnTo>
                  <a:lnTo>
                    <a:pt x="1306" y="1885"/>
                  </a:lnTo>
                  <a:lnTo>
                    <a:pt x="1287" y="1885"/>
                  </a:lnTo>
                  <a:lnTo>
                    <a:pt x="1287" y="1880"/>
                  </a:lnTo>
                  <a:lnTo>
                    <a:pt x="1263" y="1880"/>
                  </a:lnTo>
                  <a:lnTo>
                    <a:pt x="1263" y="1875"/>
                  </a:lnTo>
                  <a:lnTo>
                    <a:pt x="1253" y="1875"/>
                  </a:lnTo>
                  <a:lnTo>
                    <a:pt x="1253" y="1868"/>
                  </a:lnTo>
                  <a:lnTo>
                    <a:pt x="1230" y="1868"/>
                  </a:lnTo>
                  <a:lnTo>
                    <a:pt x="1230" y="1862"/>
                  </a:lnTo>
                  <a:lnTo>
                    <a:pt x="1205" y="1862"/>
                  </a:lnTo>
                  <a:lnTo>
                    <a:pt x="1205" y="1856"/>
                  </a:lnTo>
                  <a:lnTo>
                    <a:pt x="1200" y="1856"/>
                  </a:lnTo>
                  <a:lnTo>
                    <a:pt x="1200" y="1851"/>
                  </a:lnTo>
                  <a:lnTo>
                    <a:pt x="1182" y="1851"/>
                  </a:lnTo>
                  <a:lnTo>
                    <a:pt x="1182" y="1843"/>
                  </a:lnTo>
                  <a:lnTo>
                    <a:pt x="1157" y="1843"/>
                  </a:lnTo>
                  <a:lnTo>
                    <a:pt x="1157" y="1838"/>
                  </a:lnTo>
                  <a:lnTo>
                    <a:pt x="1143" y="1838"/>
                  </a:lnTo>
                  <a:lnTo>
                    <a:pt x="1143" y="1832"/>
                  </a:lnTo>
                  <a:lnTo>
                    <a:pt x="1124" y="1832"/>
                  </a:lnTo>
                  <a:lnTo>
                    <a:pt x="1124" y="1826"/>
                  </a:lnTo>
                  <a:lnTo>
                    <a:pt x="1105" y="1826"/>
                  </a:lnTo>
                  <a:lnTo>
                    <a:pt x="1105" y="1821"/>
                  </a:lnTo>
                  <a:lnTo>
                    <a:pt x="1091" y="1821"/>
                  </a:lnTo>
                  <a:lnTo>
                    <a:pt x="1091" y="1815"/>
                  </a:lnTo>
                  <a:lnTo>
                    <a:pt x="1072" y="1815"/>
                  </a:lnTo>
                  <a:lnTo>
                    <a:pt x="1072" y="1810"/>
                  </a:lnTo>
                  <a:lnTo>
                    <a:pt x="1051" y="1810"/>
                  </a:lnTo>
                  <a:lnTo>
                    <a:pt x="1051" y="1802"/>
                  </a:lnTo>
                  <a:lnTo>
                    <a:pt x="1032" y="1802"/>
                  </a:lnTo>
                  <a:lnTo>
                    <a:pt x="1032" y="1797"/>
                  </a:lnTo>
                  <a:lnTo>
                    <a:pt x="1018" y="1797"/>
                  </a:lnTo>
                  <a:lnTo>
                    <a:pt x="1018" y="1791"/>
                  </a:lnTo>
                  <a:lnTo>
                    <a:pt x="1004" y="1791"/>
                  </a:lnTo>
                  <a:lnTo>
                    <a:pt x="1004" y="1785"/>
                  </a:lnTo>
                  <a:lnTo>
                    <a:pt x="994" y="1785"/>
                  </a:lnTo>
                  <a:lnTo>
                    <a:pt x="994" y="1778"/>
                  </a:lnTo>
                  <a:lnTo>
                    <a:pt x="975" y="1778"/>
                  </a:lnTo>
                  <a:lnTo>
                    <a:pt x="975" y="1773"/>
                  </a:lnTo>
                  <a:lnTo>
                    <a:pt x="965" y="1773"/>
                  </a:lnTo>
                  <a:lnTo>
                    <a:pt x="965" y="1767"/>
                  </a:lnTo>
                  <a:lnTo>
                    <a:pt x="951" y="1767"/>
                  </a:lnTo>
                  <a:lnTo>
                    <a:pt x="951" y="1761"/>
                  </a:lnTo>
                  <a:lnTo>
                    <a:pt x="942" y="1761"/>
                  </a:lnTo>
                  <a:lnTo>
                    <a:pt x="942" y="1756"/>
                  </a:lnTo>
                  <a:lnTo>
                    <a:pt x="928" y="1756"/>
                  </a:lnTo>
                  <a:lnTo>
                    <a:pt x="928" y="1750"/>
                  </a:lnTo>
                  <a:lnTo>
                    <a:pt x="907" y="1750"/>
                  </a:lnTo>
                  <a:lnTo>
                    <a:pt x="907" y="1744"/>
                  </a:lnTo>
                  <a:lnTo>
                    <a:pt x="898" y="1744"/>
                  </a:lnTo>
                  <a:lnTo>
                    <a:pt x="898" y="1737"/>
                  </a:lnTo>
                  <a:lnTo>
                    <a:pt x="884" y="1737"/>
                  </a:lnTo>
                  <a:lnTo>
                    <a:pt x="884" y="1732"/>
                  </a:lnTo>
                  <a:lnTo>
                    <a:pt x="869" y="1732"/>
                  </a:lnTo>
                  <a:lnTo>
                    <a:pt x="869" y="1726"/>
                  </a:lnTo>
                  <a:lnTo>
                    <a:pt x="855" y="1726"/>
                  </a:lnTo>
                  <a:lnTo>
                    <a:pt x="855" y="1720"/>
                  </a:lnTo>
                  <a:lnTo>
                    <a:pt x="840" y="1720"/>
                  </a:lnTo>
                  <a:lnTo>
                    <a:pt x="840" y="1715"/>
                  </a:lnTo>
                  <a:lnTo>
                    <a:pt x="825" y="1715"/>
                  </a:lnTo>
                  <a:lnTo>
                    <a:pt x="825" y="1709"/>
                  </a:lnTo>
                  <a:lnTo>
                    <a:pt x="812" y="1709"/>
                  </a:lnTo>
                  <a:lnTo>
                    <a:pt x="812" y="1702"/>
                  </a:lnTo>
                  <a:lnTo>
                    <a:pt x="793" y="1702"/>
                  </a:lnTo>
                  <a:lnTo>
                    <a:pt x="793" y="1697"/>
                  </a:lnTo>
                  <a:lnTo>
                    <a:pt x="784" y="1697"/>
                  </a:lnTo>
                  <a:lnTo>
                    <a:pt x="784" y="1691"/>
                  </a:lnTo>
                  <a:lnTo>
                    <a:pt x="763" y="1691"/>
                  </a:lnTo>
                  <a:lnTo>
                    <a:pt x="763" y="1685"/>
                  </a:lnTo>
                  <a:lnTo>
                    <a:pt x="750" y="1685"/>
                  </a:lnTo>
                  <a:lnTo>
                    <a:pt x="750" y="1679"/>
                  </a:lnTo>
                  <a:lnTo>
                    <a:pt x="735" y="1679"/>
                  </a:lnTo>
                  <a:lnTo>
                    <a:pt x="735" y="1674"/>
                  </a:lnTo>
                  <a:lnTo>
                    <a:pt x="711" y="1674"/>
                  </a:lnTo>
                  <a:lnTo>
                    <a:pt x="711" y="1666"/>
                  </a:lnTo>
                  <a:lnTo>
                    <a:pt x="696" y="1666"/>
                  </a:lnTo>
                  <a:lnTo>
                    <a:pt x="696" y="1661"/>
                  </a:lnTo>
                  <a:lnTo>
                    <a:pt x="681" y="1661"/>
                  </a:lnTo>
                  <a:lnTo>
                    <a:pt x="681" y="1656"/>
                  </a:lnTo>
                  <a:lnTo>
                    <a:pt x="648" y="1656"/>
                  </a:lnTo>
                  <a:lnTo>
                    <a:pt x="648" y="1649"/>
                  </a:lnTo>
                  <a:lnTo>
                    <a:pt x="628" y="1649"/>
                  </a:lnTo>
                  <a:lnTo>
                    <a:pt x="628" y="1644"/>
                  </a:lnTo>
                  <a:lnTo>
                    <a:pt x="610" y="1644"/>
                  </a:lnTo>
                  <a:lnTo>
                    <a:pt x="610" y="1637"/>
                  </a:lnTo>
                  <a:lnTo>
                    <a:pt x="595" y="1637"/>
                  </a:lnTo>
                  <a:lnTo>
                    <a:pt x="595" y="1631"/>
                  </a:lnTo>
                  <a:lnTo>
                    <a:pt x="572" y="1631"/>
                  </a:lnTo>
                  <a:lnTo>
                    <a:pt x="572" y="1625"/>
                  </a:lnTo>
                  <a:lnTo>
                    <a:pt x="557" y="1625"/>
                  </a:lnTo>
                  <a:lnTo>
                    <a:pt x="557" y="1620"/>
                  </a:lnTo>
                  <a:lnTo>
                    <a:pt x="537" y="1620"/>
                  </a:lnTo>
                  <a:lnTo>
                    <a:pt x="537" y="1614"/>
                  </a:lnTo>
                  <a:lnTo>
                    <a:pt x="518" y="1614"/>
                  </a:lnTo>
                  <a:lnTo>
                    <a:pt x="518" y="1608"/>
                  </a:lnTo>
                  <a:lnTo>
                    <a:pt x="504" y="1608"/>
                  </a:lnTo>
                  <a:lnTo>
                    <a:pt x="504" y="1603"/>
                  </a:lnTo>
                  <a:lnTo>
                    <a:pt x="480" y="1603"/>
                  </a:lnTo>
                  <a:lnTo>
                    <a:pt x="480" y="1596"/>
                  </a:lnTo>
                  <a:lnTo>
                    <a:pt x="456" y="1596"/>
                  </a:lnTo>
                  <a:lnTo>
                    <a:pt x="456" y="1590"/>
                  </a:lnTo>
                  <a:lnTo>
                    <a:pt x="437" y="1590"/>
                  </a:lnTo>
                  <a:lnTo>
                    <a:pt x="437" y="1584"/>
                  </a:lnTo>
                  <a:lnTo>
                    <a:pt x="418" y="1584"/>
                  </a:lnTo>
                  <a:lnTo>
                    <a:pt x="418" y="1579"/>
                  </a:lnTo>
                  <a:lnTo>
                    <a:pt x="399" y="1579"/>
                  </a:lnTo>
                  <a:lnTo>
                    <a:pt x="399" y="1573"/>
                  </a:lnTo>
                  <a:lnTo>
                    <a:pt x="379" y="1573"/>
                  </a:lnTo>
                  <a:lnTo>
                    <a:pt x="379" y="1566"/>
                  </a:lnTo>
                  <a:lnTo>
                    <a:pt x="351" y="1566"/>
                  </a:lnTo>
                  <a:lnTo>
                    <a:pt x="351" y="1560"/>
                  </a:lnTo>
                  <a:lnTo>
                    <a:pt x="336" y="1560"/>
                  </a:lnTo>
                  <a:lnTo>
                    <a:pt x="336" y="1555"/>
                  </a:lnTo>
                  <a:lnTo>
                    <a:pt x="322" y="1555"/>
                  </a:lnTo>
                  <a:lnTo>
                    <a:pt x="322" y="1549"/>
                  </a:lnTo>
                  <a:lnTo>
                    <a:pt x="303" y="1549"/>
                  </a:lnTo>
                  <a:lnTo>
                    <a:pt x="303" y="1543"/>
                  </a:lnTo>
                  <a:lnTo>
                    <a:pt x="293" y="1543"/>
                  </a:lnTo>
                  <a:lnTo>
                    <a:pt x="293" y="1538"/>
                  </a:lnTo>
                  <a:lnTo>
                    <a:pt x="259" y="1538"/>
                  </a:lnTo>
                  <a:lnTo>
                    <a:pt x="259" y="1530"/>
                  </a:lnTo>
                  <a:lnTo>
                    <a:pt x="240" y="1530"/>
                  </a:lnTo>
                  <a:lnTo>
                    <a:pt x="240" y="1525"/>
                  </a:lnTo>
                  <a:lnTo>
                    <a:pt x="230" y="1525"/>
                  </a:lnTo>
                  <a:lnTo>
                    <a:pt x="230" y="1519"/>
                  </a:lnTo>
                  <a:lnTo>
                    <a:pt x="211" y="1519"/>
                  </a:lnTo>
                  <a:lnTo>
                    <a:pt x="211" y="1514"/>
                  </a:lnTo>
                  <a:lnTo>
                    <a:pt x="192" y="1514"/>
                  </a:lnTo>
                  <a:lnTo>
                    <a:pt x="192" y="1508"/>
                  </a:lnTo>
                  <a:lnTo>
                    <a:pt x="182" y="1508"/>
                  </a:lnTo>
                  <a:lnTo>
                    <a:pt x="182" y="1501"/>
                  </a:lnTo>
                  <a:lnTo>
                    <a:pt x="173" y="1501"/>
                  </a:lnTo>
                  <a:lnTo>
                    <a:pt x="173" y="1496"/>
                  </a:lnTo>
                  <a:lnTo>
                    <a:pt x="144" y="1496"/>
                  </a:lnTo>
                  <a:lnTo>
                    <a:pt x="144" y="1489"/>
                  </a:lnTo>
                  <a:lnTo>
                    <a:pt x="115" y="1489"/>
                  </a:lnTo>
                  <a:lnTo>
                    <a:pt x="115" y="1484"/>
                  </a:lnTo>
                  <a:lnTo>
                    <a:pt x="63" y="1484"/>
                  </a:lnTo>
                  <a:lnTo>
                    <a:pt x="63" y="1478"/>
                  </a:lnTo>
                  <a:lnTo>
                    <a:pt x="48" y="1478"/>
                  </a:lnTo>
                  <a:lnTo>
                    <a:pt x="48" y="1472"/>
                  </a:lnTo>
                  <a:lnTo>
                    <a:pt x="29" y="1472"/>
                  </a:lnTo>
                  <a:lnTo>
                    <a:pt x="29" y="1465"/>
                  </a:lnTo>
                  <a:lnTo>
                    <a:pt x="0" y="1465"/>
                  </a:lnTo>
                  <a:lnTo>
                    <a:pt x="0" y="144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8040" y="2041560"/>
              <a:ext cx="146160" cy="15228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373"/>
                  </a:moveTo>
                  <a:lnTo>
                    <a:pt x="4" y="373"/>
                  </a:lnTo>
                  <a:lnTo>
                    <a:pt x="4" y="367"/>
                  </a:lnTo>
                  <a:lnTo>
                    <a:pt x="9" y="367"/>
                  </a:lnTo>
                  <a:lnTo>
                    <a:pt x="9" y="361"/>
                  </a:lnTo>
                  <a:lnTo>
                    <a:pt x="14" y="361"/>
                  </a:lnTo>
                  <a:lnTo>
                    <a:pt x="14" y="355"/>
                  </a:lnTo>
                  <a:lnTo>
                    <a:pt x="19" y="355"/>
                  </a:lnTo>
                  <a:lnTo>
                    <a:pt x="19" y="350"/>
                  </a:lnTo>
                  <a:lnTo>
                    <a:pt x="23" y="350"/>
                  </a:lnTo>
                  <a:lnTo>
                    <a:pt x="23" y="344"/>
                  </a:lnTo>
                  <a:lnTo>
                    <a:pt x="29" y="344"/>
                  </a:lnTo>
                  <a:lnTo>
                    <a:pt x="29" y="337"/>
                  </a:lnTo>
                  <a:lnTo>
                    <a:pt x="33" y="337"/>
                  </a:lnTo>
                  <a:lnTo>
                    <a:pt x="33" y="326"/>
                  </a:lnTo>
                  <a:lnTo>
                    <a:pt x="37" y="326"/>
                  </a:lnTo>
                  <a:lnTo>
                    <a:pt x="37" y="314"/>
                  </a:lnTo>
                  <a:lnTo>
                    <a:pt x="43" y="314"/>
                  </a:lnTo>
                  <a:lnTo>
                    <a:pt x="43" y="301"/>
                  </a:lnTo>
                  <a:lnTo>
                    <a:pt x="48" y="301"/>
                  </a:lnTo>
                  <a:lnTo>
                    <a:pt x="48" y="284"/>
                  </a:lnTo>
                  <a:lnTo>
                    <a:pt x="53" y="284"/>
                  </a:lnTo>
                  <a:lnTo>
                    <a:pt x="53" y="272"/>
                  </a:lnTo>
                  <a:lnTo>
                    <a:pt x="57" y="272"/>
                  </a:lnTo>
                  <a:lnTo>
                    <a:pt x="57" y="255"/>
                  </a:lnTo>
                  <a:lnTo>
                    <a:pt x="63" y="255"/>
                  </a:lnTo>
                  <a:lnTo>
                    <a:pt x="63" y="242"/>
                  </a:lnTo>
                  <a:lnTo>
                    <a:pt x="67" y="242"/>
                  </a:lnTo>
                  <a:lnTo>
                    <a:pt x="67" y="225"/>
                  </a:lnTo>
                  <a:lnTo>
                    <a:pt x="72" y="225"/>
                  </a:lnTo>
                  <a:lnTo>
                    <a:pt x="72" y="190"/>
                  </a:lnTo>
                  <a:lnTo>
                    <a:pt x="96" y="190"/>
                  </a:lnTo>
                  <a:lnTo>
                    <a:pt x="96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30" y="190"/>
                  </a:lnTo>
                  <a:lnTo>
                    <a:pt x="130" y="184"/>
                  </a:lnTo>
                  <a:lnTo>
                    <a:pt x="134" y="184"/>
                  </a:lnTo>
                  <a:lnTo>
                    <a:pt x="134" y="179"/>
                  </a:lnTo>
                  <a:lnTo>
                    <a:pt x="139" y="179"/>
                  </a:lnTo>
                  <a:lnTo>
                    <a:pt x="139" y="173"/>
                  </a:lnTo>
                  <a:lnTo>
                    <a:pt x="144" y="173"/>
                  </a:lnTo>
                  <a:lnTo>
                    <a:pt x="144" y="160"/>
                  </a:lnTo>
                  <a:lnTo>
                    <a:pt x="149" y="160"/>
                  </a:lnTo>
                  <a:lnTo>
                    <a:pt x="149" y="155"/>
                  </a:lnTo>
                  <a:lnTo>
                    <a:pt x="153" y="155"/>
                  </a:lnTo>
                  <a:lnTo>
                    <a:pt x="153" y="125"/>
                  </a:lnTo>
                  <a:lnTo>
                    <a:pt x="158" y="125"/>
                  </a:lnTo>
                  <a:lnTo>
                    <a:pt x="158" y="119"/>
                  </a:lnTo>
                  <a:lnTo>
                    <a:pt x="201" y="119"/>
                  </a:lnTo>
                  <a:lnTo>
                    <a:pt x="201" y="114"/>
                  </a:lnTo>
                  <a:lnTo>
                    <a:pt x="207" y="114"/>
                  </a:lnTo>
                  <a:lnTo>
                    <a:pt x="207" y="101"/>
                  </a:lnTo>
                  <a:lnTo>
                    <a:pt x="211" y="101"/>
                  </a:lnTo>
                  <a:lnTo>
                    <a:pt x="211" y="89"/>
                  </a:lnTo>
                  <a:lnTo>
                    <a:pt x="216" y="89"/>
                  </a:lnTo>
                  <a:lnTo>
                    <a:pt x="216" y="73"/>
                  </a:lnTo>
                  <a:lnTo>
                    <a:pt x="221" y="73"/>
                  </a:lnTo>
                  <a:lnTo>
                    <a:pt x="221" y="54"/>
                  </a:lnTo>
                  <a:lnTo>
                    <a:pt x="226" y="54"/>
                  </a:lnTo>
                  <a:lnTo>
                    <a:pt x="226" y="37"/>
                  </a:lnTo>
                  <a:lnTo>
                    <a:pt x="230" y="37"/>
                  </a:lnTo>
                  <a:lnTo>
                    <a:pt x="230" y="30"/>
                  </a:lnTo>
                  <a:lnTo>
                    <a:pt x="235" y="30"/>
                  </a:lnTo>
                  <a:lnTo>
                    <a:pt x="235" y="19"/>
                  </a:lnTo>
                  <a:lnTo>
                    <a:pt x="240" y="19"/>
                  </a:lnTo>
                  <a:lnTo>
                    <a:pt x="240" y="13"/>
                  </a:lnTo>
                  <a:lnTo>
                    <a:pt x="244" y="13"/>
                  </a:lnTo>
                  <a:lnTo>
                    <a:pt x="244" y="7"/>
                  </a:lnTo>
                  <a:lnTo>
                    <a:pt x="260" y="7"/>
                  </a:lnTo>
                  <a:lnTo>
                    <a:pt x="260" y="0"/>
                  </a:lnTo>
                  <a:lnTo>
                    <a:pt x="274" y="0"/>
                  </a:lnTo>
                  <a:lnTo>
                    <a:pt x="274" y="13"/>
                  </a:lnTo>
                  <a:lnTo>
                    <a:pt x="264" y="13"/>
                  </a:lnTo>
                  <a:lnTo>
                    <a:pt x="264" y="19"/>
                  </a:lnTo>
                  <a:lnTo>
                    <a:pt x="254" y="19"/>
                  </a:lnTo>
                  <a:lnTo>
                    <a:pt x="254" y="24"/>
                  </a:lnTo>
                  <a:lnTo>
                    <a:pt x="244" y="24"/>
                  </a:lnTo>
                  <a:lnTo>
                    <a:pt x="244" y="37"/>
                  </a:lnTo>
                  <a:lnTo>
                    <a:pt x="240" y="37"/>
                  </a:lnTo>
                  <a:lnTo>
                    <a:pt x="240" y="42"/>
                  </a:lnTo>
                  <a:lnTo>
                    <a:pt x="235" y="42"/>
                  </a:lnTo>
                  <a:lnTo>
                    <a:pt x="235" y="65"/>
                  </a:lnTo>
                  <a:lnTo>
                    <a:pt x="230" y="65"/>
                  </a:lnTo>
                  <a:lnTo>
                    <a:pt x="230" y="83"/>
                  </a:lnTo>
                  <a:lnTo>
                    <a:pt x="226" y="83"/>
                  </a:lnTo>
                  <a:lnTo>
                    <a:pt x="226" y="101"/>
                  </a:lnTo>
                  <a:lnTo>
                    <a:pt x="221" y="101"/>
                  </a:lnTo>
                  <a:lnTo>
                    <a:pt x="221" y="114"/>
                  </a:lnTo>
                  <a:lnTo>
                    <a:pt x="216" y="114"/>
                  </a:lnTo>
                  <a:lnTo>
                    <a:pt x="216" y="119"/>
                  </a:lnTo>
                  <a:lnTo>
                    <a:pt x="211" y="119"/>
                  </a:lnTo>
                  <a:lnTo>
                    <a:pt x="211" y="125"/>
                  </a:lnTo>
                  <a:lnTo>
                    <a:pt x="207" y="125"/>
                  </a:lnTo>
                  <a:lnTo>
                    <a:pt x="207" y="131"/>
                  </a:lnTo>
                  <a:lnTo>
                    <a:pt x="201" y="131"/>
                  </a:lnTo>
                  <a:lnTo>
                    <a:pt x="201" y="136"/>
                  </a:lnTo>
                  <a:lnTo>
                    <a:pt x="193" y="136"/>
                  </a:lnTo>
                  <a:lnTo>
                    <a:pt x="193" y="143"/>
                  </a:lnTo>
                  <a:lnTo>
                    <a:pt x="167" y="143"/>
                  </a:lnTo>
                  <a:lnTo>
                    <a:pt x="167" y="160"/>
                  </a:lnTo>
                  <a:lnTo>
                    <a:pt x="163" y="160"/>
                  </a:lnTo>
                  <a:lnTo>
                    <a:pt x="163" y="166"/>
                  </a:lnTo>
                  <a:lnTo>
                    <a:pt x="158" y="166"/>
                  </a:lnTo>
                  <a:lnTo>
                    <a:pt x="158" y="179"/>
                  </a:lnTo>
                  <a:lnTo>
                    <a:pt x="149" y="179"/>
                  </a:lnTo>
                  <a:lnTo>
                    <a:pt x="149" y="190"/>
                  </a:lnTo>
                  <a:lnTo>
                    <a:pt x="144" y="190"/>
                  </a:lnTo>
                  <a:lnTo>
                    <a:pt x="144" y="196"/>
                  </a:lnTo>
                  <a:lnTo>
                    <a:pt x="139" y="196"/>
                  </a:lnTo>
                  <a:lnTo>
                    <a:pt x="139" y="201"/>
                  </a:lnTo>
                  <a:lnTo>
                    <a:pt x="130" y="201"/>
                  </a:lnTo>
                  <a:lnTo>
                    <a:pt x="130" y="208"/>
                  </a:lnTo>
                  <a:lnTo>
                    <a:pt x="110" y="208"/>
                  </a:lnTo>
                  <a:lnTo>
                    <a:pt x="110" y="214"/>
                  </a:lnTo>
                  <a:lnTo>
                    <a:pt x="86" y="214"/>
                  </a:lnTo>
                  <a:lnTo>
                    <a:pt x="86" y="220"/>
                  </a:lnTo>
                  <a:lnTo>
                    <a:pt x="81" y="220"/>
                  </a:lnTo>
                  <a:lnTo>
                    <a:pt x="81" y="237"/>
                  </a:lnTo>
                  <a:lnTo>
                    <a:pt x="77" y="237"/>
                  </a:lnTo>
                  <a:lnTo>
                    <a:pt x="77" y="255"/>
                  </a:lnTo>
                  <a:lnTo>
                    <a:pt x="72" y="255"/>
                  </a:lnTo>
                  <a:lnTo>
                    <a:pt x="72" y="260"/>
                  </a:lnTo>
                  <a:lnTo>
                    <a:pt x="67" y="260"/>
                  </a:lnTo>
                  <a:lnTo>
                    <a:pt x="67" y="279"/>
                  </a:lnTo>
                  <a:lnTo>
                    <a:pt x="63" y="279"/>
                  </a:lnTo>
                  <a:lnTo>
                    <a:pt x="63" y="291"/>
                  </a:lnTo>
                  <a:lnTo>
                    <a:pt x="57" y="291"/>
                  </a:lnTo>
                  <a:lnTo>
                    <a:pt x="57" y="309"/>
                  </a:lnTo>
                  <a:lnTo>
                    <a:pt x="53" y="309"/>
                  </a:lnTo>
                  <a:lnTo>
                    <a:pt x="53" y="320"/>
                  </a:lnTo>
                  <a:lnTo>
                    <a:pt x="48" y="320"/>
                  </a:lnTo>
                  <a:lnTo>
                    <a:pt x="48" y="332"/>
                  </a:lnTo>
                  <a:lnTo>
                    <a:pt x="43" y="332"/>
                  </a:lnTo>
                  <a:lnTo>
                    <a:pt x="43" y="344"/>
                  </a:lnTo>
                  <a:lnTo>
                    <a:pt x="37" y="344"/>
                  </a:lnTo>
                  <a:lnTo>
                    <a:pt x="37" y="350"/>
                  </a:lnTo>
                  <a:lnTo>
                    <a:pt x="33" y="350"/>
                  </a:lnTo>
                  <a:lnTo>
                    <a:pt x="33" y="355"/>
                  </a:lnTo>
                  <a:lnTo>
                    <a:pt x="29" y="355"/>
                  </a:lnTo>
                  <a:lnTo>
                    <a:pt x="29" y="361"/>
                  </a:lnTo>
                  <a:lnTo>
                    <a:pt x="23" y="361"/>
                  </a:lnTo>
                  <a:lnTo>
                    <a:pt x="23" y="373"/>
                  </a:lnTo>
                  <a:lnTo>
                    <a:pt x="14" y="373"/>
                  </a:lnTo>
                  <a:lnTo>
                    <a:pt x="14" y="378"/>
                  </a:lnTo>
                  <a:lnTo>
                    <a:pt x="9" y="378"/>
                  </a:lnTo>
                  <a:lnTo>
                    <a:pt x="9" y="385"/>
                  </a:lnTo>
                  <a:lnTo>
                    <a:pt x="0" y="385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9040" y="2236680"/>
              <a:ext cx="19080" cy="19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46"/>
                  </a:moveTo>
                  <a:lnTo>
                    <a:pt x="5" y="46"/>
                  </a:lnTo>
                  <a:lnTo>
                    <a:pt x="5" y="41"/>
                  </a:lnTo>
                  <a:lnTo>
                    <a:pt x="10" y="41"/>
                  </a:lnTo>
                  <a:lnTo>
                    <a:pt x="10" y="35"/>
                  </a:lnTo>
                  <a:lnTo>
                    <a:pt x="14" y="35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29" y="11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9" y="11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20" y="22"/>
                  </a:lnTo>
                  <a:lnTo>
                    <a:pt x="14" y="22"/>
                  </a:lnTo>
                  <a:lnTo>
                    <a:pt x="14" y="35"/>
                  </a:lnTo>
                  <a:lnTo>
                    <a:pt x="10" y="35"/>
                  </a:lnTo>
                  <a:lnTo>
                    <a:pt x="10" y="41"/>
                  </a:lnTo>
                  <a:lnTo>
                    <a:pt x="5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59040" y="2233440"/>
              <a:ext cx="33480" cy="2880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60"/>
                  </a:moveTo>
                  <a:lnTo>
                    <a:pt x="0" y="65"/>
                  </a:lnTo>
                  <a:lnTo>
                    <a:pt x="10" y="65"/>
                  </a:lnTo>
                  <a:lnTo>
                    <a:pt x="10" y="60"/>
                  </a:lnTo>
                  <a:lnTo>
                    <a:pt x="14" y="60"/>
                  </a:lnTo>
                  <a:lnTo>
                    <a:pt x="14" y="52"/>
                  </a:lnTo>
                  <a:lnTo>
                    <a:pt x="20" y="52"/>
                  </a:lnTo>
                  <a:lnTo>
                    <a:pt x="20" y="47"/>
                  </a:lnTo>
                  <a:lnTo>
                    <a:pt x="24" y="47"/>
                  </a:lnTo>
                  <a:lnTo>
                    <a:pt x="24" y="41"/>
                  </a:lnTo>
                  <a:lnTo>
                    <a:pt x="29" y="41"/>
                  </a:lnTo>
                  <a:lnTo>
                    <a:pt x="29" y="28"/>
                  </a:lnTo>
                  <a:lnTo>
                    <a:pt x="44" y="28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11"/>
                  </a:lnTo>
                  <a:lnTo>
                    <a:pt x="54" y="11"/>
                  </a:lnTo>
                  <a:lnTo>
                    <a:pt x="54" y="17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44" y="28"/>
                  </a:lnTo>
                  <a:lnTo>
                    <a:pt x="29" y="28"/>
                  </a:lnTo>
                  <a:lnTo>
                    <a:pt x="29" y="41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0" y="47"/>
                  </a:lnTo>
                  <a:lnTo>
                    <a:pt x="20" y="52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0" y="60"/>
                  </a:lnTo>
                  <a:lnTo>
                    <a:pt x="10" y="65"/>
                  </a:lnTo>
                  <a:lnTo>
                    <a:pt x="5" y="65"/>
                  </a:lnTo>
                  <a:lnTo>
                    <a:pt x="5" y="70"/>
                  </a:lnTo>
                  <a:lnTo>
                    <a:pt x="0" y="7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82800" y="2232000"/>
              <a:ext cx="4680" cy="1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0680" y="1447920"/>
              <a:ext cx="63360" cy="61920"/>
            </a:xfrm>
            <a:custGeom>
              <a:avLst/>
              <a:gdLst/>
              <a:ahLst/>
              <a:rect l="l" t="t" r="r" b="b"/>
              <a:pathLst>
                <a:path w="120" h="154">
                  <a:moveTo>
                    <a:pt x="0" y="59"/>
                  </a:moveTo>
                  <a:lnTo>
                    <a:pt x="5" y="59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82" y="5"/>
                  </a:lnTo>
                  <a:lnTo>
                    <a:pt x="82" y="13"/>
                  </a:lnTo>
                  <a:lnTo>
                    <a:pt x="96" y="13"/>
                  </a:lnTo>
                  <a:lnTo>
                    <a:pt x="96" y="18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20" y="24"/>
                  </a:lnTo>
                  <a:lnTo>
                    <a:pt x="120" y="54"/>
                  </a:lnTo>
                  <a:lnTo>
                    <a:pt x="116" y="54"/>
                  </a:lnTo>
                  <a:lnTo>
                    <a:pt x="116" y="83"/>
                  </a:lnTo>
                  <a:lnTo>
                    <a:pt x="110" y="83"/>
                  </a:lnTo>
                  <a:lnTo>
                    <a:pt x="110" y="107"/>
                  </a:lnTo>
                  <a:lnTo>
                    <a:pt x="105" y="107"/>
                  </a:lnTo>
                  <a:lnTo>
                    <a:pt x="105" y="136"/>
                  </a:lnTo>
                  <a:lnTo>
                    <a:pt x="100" y="136"/>
                  </a:lnTo>
                  <a:lnTo>
                    <a:pt x="100" y="149"/>
                  </a:lnTo>
                  <a:lnTo>
                    <a:pt x="96" y="149"/>
                  </a:lnTo>
                  <a:lnTo>
                    <a:pt x="96" y="154"/>
                  </a:lnTo>
                  <a:lnTo>
                    <a:pt x="91" y="154"/>
                  </a:lnTo>
                  <a:lnTo>
                    <a:pt x="91" y="149"/>
                  </a:lnTo>
                  <a:lnTo>
                    <a:pt x="86" y="149"/>
                  </a:lnTo>
                  <a:lnTo>
                    <a:pt x="86" y="136"/>
                  </a:lnTo>
                  <a:lnTo>
                    <a:pt x="67" y="136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63" y="124"/>
                  </a:lnTo>
                  <a:lnTo>
                    <a:pt x="53" y="124"/>
                  </a:lnTo>
                  <a:lnTo>
                    <a:pt x="53" y="130"/>
                  </a:lnTo>
                  <a:lnTo>
                    <a:pt x="48" y="130"/>
                  </a:lnTo>
                  <a:lnTo>
                    <a:pt x="48" y="136"/>
                  </a:lnTo>
                  <a:lnTo>
                    <a:pt x="33" y="136"/>
                  </a:lnTo>
                  <a:lnTo>
                    <a:pt x="33" y="130"/>
                  </a:lnTo>
                  <a:lnTo>
                    <a:pt x="29" y="130"/>
                  </a:lnTo>
                  <a:lnTo>
                    <a:pt x="33" y="130"/>
                  </a:lnTo>
                  <a:lnTo>
                    <a:pt x="33" y="113"/>
                  </a:lnTo>
                  <a:lnTo>
                    <a:pt x="23" y="113"/>
                  </a:lnTo>
                  <a:lnTo>
                    <a:pt x="23" y="124"/>
                  </a:lnTo>
                  <a:lnTo>
                    <a:pt x="14" y="124"/>
                  </a:lnTo>
                  <a:lnTo>
                    <a:pt x="14" y="118"/>
                  </a:lnTo>
                  <a:lnTo>
                    <a:pt x="9" y="118"/>
                  </a:lnTo>
                  <a:lnTo>
                    <a:pt x="9" y="107"/>
                  </a:lnTo>
                  <a:lnTo>
                    <a:pt x="5" y="107"/>
                  </a:lnTo>
                  <a:lnTo>
                    <a:pt x="5" y="100"/>
                  </a:lnTo>
                  <a:lnTo>
                    <a:pt x="0" y="10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6520" y="1406520"/>
              <a:ext cx="93600" cy="55440"/>
            </a:xfrm>
            <a:custGeom>
              <a:avLst/>
              <a:gdLst/>
              <a:ahLst/>
              <a:rect l="l" t="t" r="r" b="b"/>
              <a:pathLst>
                <a:path w="178" h="143">
                  <a:moveTo>
                    <a:pt x="0" y="35"/>
                  </a:moveTo>
                  <a:lnTo>
                    <a:pt x="4" y="35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0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57" y="7"/>
                  </a:lnTo>
                  <a:lnTo>
                    <a:pt x="57" y="12"/>
                  </a:lnTo>
                  <a:lnTo>
                    <a:pt x="76" y="12"/>
                  </a:lnTo>
                  <a:lnTo>
                    <a:pt x="76" y="18"/>
                  </a:lnTo>
                  <a:lnTo>
                    <a:pt x="91" y="18"/>
                  </a:lnTo>
                  <a:lnTo>
                    <a:pt x="91" y="24"/>
                  </a:lnTo>
                  <a:lnTo>
                    <a:pt x="110" y="24"/>
                  </a:lnTo>
                  <a:lnTo>
                    <a:pt x="110" y="29"/>
                  </a:lnTo>
                  <a:lnTo>
                    <a:pt x="124" y="29"/>
                  </a:lnTo>
                  <a:lnTo>
                    <a:pt x="124" y="35"/>
                  </a:lnTo>
                  <a:lnTo>
                    <a:pt x="144" y="35"/>
                  </a:lnTo>
                  <a:lnTo>
                    <a:pt x="144" y="42"/>
                  </a:lnTo>
                  <a:lnTo>
                    <a:pt x="168" y="42"/>
                  </a:lnTo>
                  <a:lnTo>
                    <a:pt x="168" y="48"/>
                  </a:lnTo>
                  <a:lnTo>
                    <a:pt x="178" y="48"/>
                  </a:lnTo>
                  <a:lnTo>
                    <a:pt x="178" y="94"/>
                  </a:lnTo>
                  <a:lnTo>
                    <a:pt x="173" y="94"/>
                  </a:lnTo>
                  <a:lnTo>
                    <a:pt x="173" y="143"/>
                  </a:lnTo>
                  <a:lnTo>
                    <a:pt x="159" y="143"/>
                  </a:lnTo>
                  <a:lnTo>
                    <a:pt x="159" y="136"/>
                  </a:lnTo>
                  <a:lnTo>
                    <a:pt x="144" y="136"/>
                  </a:lnTo>
                  <a:lnTo>
                    <a:pt x="144" y="130"/>
                  </a:lnTo>
                  <a:lnTo>
                    <a:pt x="130" y="130"/>
                  </a:lnTo>
                  <a:lnTo>
                    <a:pt x="130" y="124"/>
                  </a:lnTo>
                  <a:lnTo>
                    <a:pt x="115" y="124"/>
                  </a:lnTo>
                  <a:lnTo>
                    <a:pt x="115" y="119"/>
                  </a:lnTo>
                  <a:lnTo>
                    <a:pt x="97" y="119"/>
                  </a:lnTo>
                  <a:lnTo>
                    <a:pt x="97" y="111"/>
                  </a:lnTo>
                  <a:lnTo>
                    <a:pt x="81" y="111"/>
                  </a:lnTo>
                  <a:lnTo>
                    <a:pt x="81" y="106"/>
                  </a:lnTo>
                  <a:lnTo>
                    <a:pt x="71" y="106"/>
                  </a:lnTo>
                  <a:lnTo>
                    <a:pt x="71" y="101"/>
                  </a:lnTo>
                  <a:lnTo>
                    <a:pt x="57" y="101"/>
                  </a:lnTo>
                  <a:lnTo>
                    <a:pt x="57" y="94"/>
                  </a:lnTo>
                  <a:lnTo>
                    <a:pt x="43" y="94"/>
                  </a:lnTo>
                  <a:lnTo>
                    <a:pt x="43" y="89"/>
                  </a:lnTo>
                  <a:lnTo>
                    <a:pt x="28" y="89"/>
                  </a:lnTo>
                  <a:lnTo>
                    <a:pt x="28" y="83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9" y="78"/>
                  </a:lnTo>
                  <a:lnTo>
                    <a:pt x="9" y="70"/>
                  </a:lnTo>
                  <a:lnTo>
                    <a:pt x="4" y="70"/>
                  </a:lnTo>
                  <a:lnTo>
                    <a:pt x="4" y="65"/>
                  </a:lnTo>
                  <a:lnTo>
                    <a:pt x="0" y="6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55880" y="1368360"/>
              <a:ext cx="38160" cy="3492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23"/>
                  </a:moveTo>
                  <a:lnTo>
                    <a:pt x="5" y="23"/>
                  </a:lnTo>
                  <a:lnTo>
                    <a:pt x="5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52" y="5"/>
                  </a:lnTo>
                  <a:lnTo>
                    <a:pt x="52" y="11"/>
                  </a:lnTo>
                  <a:lnTo>
                    <a:pt x="68" y="11"/>
                  </a:lnTo>
                  <a:lnTo>
                    <a:pt x="68" y="17"/>
                  </a:lnTo>
                  <a:lnTo>
                    <a:pt x="72" y="17"/>
                  </a:lnTo>
                  <a:lnTo>
                    <a:pt x="72" y="82"/>
                  </a:lnTo>
                  <a:lnTo>
                    <a:pt x="68" y="82"/>
                  </a:lnTo>
                  <a:lnTo>
                    <a:pt x="68" y="88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29" y="82"/>
                  </a:lnTo>
                  <a:lnTo>
                    <a:pt x="29" y="77"/>
                  </a:lnTo>
                  <a:lnTo>
                    <a:pt x="15" y="77"/>
                  </a:lnTo>
                  <a:lnTo>
                    <a:pt x="15" y="69"/>
                  </a:lnTo>
                  <a:lnTo>
                    <a:pt x="5" y="69"/>
                  </a:lnTo>
                  <a:lnTo>
                    <a:pt x="5" y="64"/>
                  </a:lnTo>
                  <a:lnTo>
                    <a:pt x="0" y="6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63800" y="1339920"/>
              <a:ext cx="104760" cy="42840"/>
            </a:xfrm>
            <a:custGeom>
              <a:avLst/>
              <a:gdLst/>
              <a:ahLst/>
              <a:rect l="l" t="t" r="r" b="b"/>
              <a:pathLst>
                <a:path w="197" h="108">
                  <a:moveTo>
                    <a:pt x="0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42" y="7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63" y="18"/>
                  </a:lnTo>
                  <a:lnTo>
                    <a:pt x="63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119" y="30"/>
                  </a:lnTo>
                  <a:lnTo>
                    <a:pt x="119" y="35"/>
                  </a:lnTo>
                  <a:lnTo>
                    <a:pt x="130" y="35"/>
                  </a:lnTo>
                  <a:lnTo>
                    <a:pt x="130" y="42"/>
                  </a:lnTo>
                  <a:lnTo>
                    <a:pt x="139" y="42"/>
                  </a:lnTo>
                  <a:lnTo>
                    <a:pt x="139" y="48"/>
                  </a:lnTo>
                  <a:lnTo>
                    <a:pt x="148" y="48"/>
                  </a:lnTo>
                  <a:lnTo>
                    <a:pt x="148" y="54"/>
                  </a:lnTo>
                  <a:lnTo>
                    <a:pt x="172" y="54"/>
                  </a:lnTo>
                  <a:lnTo>
                    <a:pt x="172" y="59"/>
                  </a:lnTo>
                  <a:lnTo>
                    <a:pt x="191" y="59"/>
                  </a:lnTo>
                  <a:lnTo>
                    <a:pt x="191" y="67"/>
                  </a:lnTo>
                  <a:lnTo>
                    <a:pt x="197" y="67"/>
                  </a:lnTo>
                  <a:lnTo>
                    <a:pt x="197" y="83"/>
                  </a:lnTo>
                  <a:lnTo>
                    <a:pt x="191" y="83"/>
                  </a:lnTo>
                  <a:lnTo>
                    <a:pt x="191" y="100"/>
                  </a:lnTo>
                  <a:lnTo>
                    <a:pt x="186" y="100"/>
                  </a:lnTo>
                  <a:lnTo>
                    <a:pt x="186" y="108"/>
                  </a:lnTo>
                  <a:lnTo>
                    <a:pt x="163" y="108"/>
                  </a:lnTo>
                  <a:lnTo>
                    <a:pt x="163" y="100"/>
                  </a:lnTo>
                  <a:lnTo>
                    <a:pt x="144" y="100"/>
                  </a:lnTo>
                  <a:lnTo>
                    <a:pt x="144" y="95"/>
                  </a:lnTo>
                  <a:lnTo>
                    <a:pt x="119" y="95"/>
                  </a:lnTo>
                  <a:lnTo>
                    <a:pt x="119" y="89"/>
                  </a:lnTo>
                  <a:lnTo>
                    <a:pt x="110" y="89"/>
                  </a:lnTo>
                  <a:lnTo>
                    <a:pt x="110" y="83"/>
                  </a:lnTo>
                  <a:lnTo>
                    <a:pt x="96" y="83"/>
                  </a:lnTo>
                  <a:lnTo>
                    <a:pt x="96" y="77"/>
                  </a:lnTo>
                  <a:lnTo>
                    <a:pt x="76" y="77"/>
                  </a:lnTo>
                  <a:lnTo>
                    <a:pt x="76" y="72"/>
                  </a:lnTo>
                  <a:lnTo>
                    <a:pt x="57" y="72"/>
                  </a:lnTo>
                  <a:lnTo>
                    <a:pt x="57" y="67"/>
                  </a:lnTo>
                  <a:lnTo>
                    <a:pt x="42" y="67"/>
                  </a:lnTo>
                  <a:lnTo>
                    <a:pt x="42" y="59"/>
                  </a:lnTo>
                  <a:lnTo>
                    <a:pt x="33" y="59"/>
                  </a:lnTo>
                  <a:lnTo>
                    <a:pt x="33" y="54"/>
                  </a:lnTo>
                  <a:lnTo>
                    <a:pt x="23" y="54"/>
                  </a:lnTo>
                  <a:lnTo>
                    <a:pt x="23" y="48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4" y="42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8480" y="1687680"/>
              <a:ext cx="944640" cy="1949400"/>
            </a:xfrm>
            <a:custGeom>
              <a:avLst/>
              <a:gdLst/>
              <a:ahLst/>
              <a:rect l="l" t="t" r="r" b="b"/>
              <a:pathLst>
                <a:path w="1783" h="4912">
                  <a:moveTo>
                    <a:pt x="0" y="2890"/>
                  </a:moveTo>
                  <a:lnTo>
                    <a:pt x="5" y="2890"/>
                  </a:lnTo>
                  <a:lnTo>
                    <a:pt x="5" y="2879"/>
                  </a:lnTo>
                  <a:lnTo>
                    <a:pt x="10" y="2879"/>
                  </a:lnTo>
                  <a:lnTo>
                    <a:pt x="10" y="2873"/>
                  </a:lnTo>
                  <a:lnTo>
                    <a:pt x="14" y="2873"/>
                  </a:lnTo>
                  <a:lnTo>
                    <a:pt x="14" y="2866"/>
                  </a:lnTo>
                  <a:lnTo>
                    <a:pt x="19" y="2866"/>
                  </a:lnTo>
                  <a:lnTo>
                    <a:pt x="19" y="2860"/>
                  </a:lnTo>
                  <a:lnTo>
                    <a:pt x="24" y="2860"/>
                  </a:lnTo>
                  <a:lnTo>
                    <a:pt x="24" y="2855"/>
                  </a:lnTo>
                  <a:lnTo>
                    <a:pt x="28" y="2855"/>
                  </a:lnTo>
                  <a:lnTo>
                    <a:pt x="28" y="2849"/>
                  </a:lnTo>
                  <a:lnTo>
                    <a:pt x="33" y="2849"/>
                  </a:lnTo>
                  <a:lnTo>
                    <a:pt x="33" y="2843"/>
                  </a:lnTo>
                  <a:lnTo>
                    <a:pt x="44" y="2843"/>
                  </a:lnTo>
                  <a:lnTo>
                    <a:pt x="44" y="2838"/>
                  </a:lnTo>
                  <a:lnTo>
                    <a:pt x="48" y="2838"/>
                  </a:lnTo>
                  <a:lnTo>
                    <a:pt x="48" y="2830"/>
                  </a:lnTo>
                  <a:lnTo>
                    <a:pt x="54" y="2830"/>
                  </a:lnTo>
                  <a:lnTo>
                    <a:pt x="54" y="2825"/>
                  </a:lnTo>
                  <a:lnTo>
                    <a:pt x="58" y="2825"/>
                  </a:lnTo>
                  <a:lnTo>
                    <a:pt x="58" y="2819"/>
                  </a:lnTo>
                  <a:lnTo>
                    <a:pt x="62" y="2819"/>
                  </a:lnTo>
                  <a:lnTo>
                    <a:pt x="62" y="2814"/>
                  </a:lnTo>
                  <a:lnTo>
                    <a:pt x="72" y="2814"/>
                  </a:lnTo>
                  <a:lnTo>
                    <a:pt x="72" y="2808"/>
                  </a:lnTo>
                  <a:lnTo>
                    <a:pt x="81" y="2808"/>
                  </a:lnTo>
                  <a:lnTo>
                    <a:pt x="81" y="2797"/>
                  </a:lnTo>
                  <a:lnTo>
                    <a:pt x="91" y="2797"/>
                  </a:lnTo>
                  <a:lnTo>
                    <a:pt x="91" y="2790"/>
                  </a:lnTo>
                  <a:lnTo>
                    <a:pt x="95" y="2790"/>
                  </a:lnTo>
                  <a:lnTo>
                    <a:pt x="95" y="2784"/>
                  </a:lnTo>
                  <a:lnTo>
                    <a:pt x="105" y="2784"/>
                  </a:lnTo>
                  <a:lnTo>
                    <a:pt x="105" y="2779"/>
                  </a:lnTo>
                  <a:lnTo>
                    <a:pt x="110" y="2779"/>
                  </a:lnTo>
                  <a:lnTo>
                    <a:pt x="110" y="2772"/>
                  </a:lnTo>
                  <a:lnTo>
                    <a:pt x="116" y="2772"/>
                  </a:lnTo>
                  <a:lnTo>
                    <a:pt x="116" y="2767"/>
                  </a:lnTo>
                  <a:lnTo>
                    <a:pt x="121" y="2767"/>
                  </a:lnTo>
                  <a:lnTo>
                    <a:pt x="121" y="2760"/>
                  </a:lnTo>
                  <a:lnTo>
                    <a:pt x="130" y="2760"/>
                  </a:lnTo>
                  <a:lnTo>
                    <a:pt x="130" y="2754"/>
                  </a:lnTo>
                  <a:lnTo>
                    <a:pt x="135" y="2754"/>
                  </a:lnTo>
                  <a:lnTo>
                    <a:pt x="135" y="2748"/>
                  </a:lnTo>
                  <a:lnTo>
                    <a:pt x="144" y="2748"/>
                  </a:lnTo>
                  <a:lnTo>
                    <a:pt x="144" y="2743"/>
                  </a:lnTo>
                  <a:lnTo>
                    <a:pt x="149" y="2743"/>
                  </a:lnTo>
                  <a:lnTo>
                    <a:pt x="149" y="2738"/>
                  </a:lnTo>
                  <a:lnTo>
                    <a:pt x="158" y="2738"/>
                  </a:lnTo>
                  <a:lnTo>
                    <a:pt x="158" y="2730"/>
                  </a:lnTo>
                  <a:lnTo>
                    <a:pt x="168" y="2730"/>
                  </a:lnTo>
                  <a:lnTo>
                    <a:pt x="168" y="2725"/>
                  </a:lnTo>
                  <a:lnTo>
                    <a:pt x="173" y="2725"/>
                  </a:lnTo>
                  <a:lnTo>
                    <a:pt x="173" y="2719"/>
                  </a:lnTo>
                  <a:lnTo>
                    <a:pt x="188" y="2719"/>
                  </a:lnTo>
                  <a:lnTo>
                    <a:pt x="188" y="2713"/>
                  </a:lnTo>
                  <a:lnTo>
                    <a:pt x="192" y="2713"/>
                  </a:lnTo>
                  <a:lnTo>
                    <a:pt x="192" y="2707"/>
                  </a:lnTo>
                  <a:lnTo>
                    <a:pt x="198" y="2707"/>
                  </a:lnTo>
                  <a:lnTo>
                    <a:pt x="198" y="2702"/>
                  </a:lnTo>
                  <a:lnTo>
                    <a:pt x="202" y="2702"/>
                  </a:lnTo>
                  <a:lnTo>
                    <a:pt x="202" y="2696"/>
                  </a:lnTo>
                  <a:lnTo>
                    <a:pt x="207" y="2696"/>
                  </a:lnTo>
                  <a:lnTo>
                    <a:pt x="207" y="2689"/>
                  </a:lnTo>
                  <a:lnTo>
                    <a:pt x="212" y="2689"/>
                  </a:lnTo>
                  <a:lnTo>
                    <a:pt x="212" y="2684"/>
                  </a:lnTo>
                  <a:lnTo>
                    <a:pt x="221" y="2684"/>
                  </a:lnTo>
                  <a:lnTo>
                    <a:pt x="221" y="2678"/>
                  </a:lnTo>
                  <a:lnTo>
                    <a:pt x="225" y="2678"/>
                  </a:lnTo>
                  <a:lnTo>
                    <a:pt x="225" y="2672"/>
                  </a:lnTo>
                  <a:lnTo>
                    <a:pt x="231" y="2672"/>
                  </a:lnTo>
                  <a:lnTo>
                    <a:pt x="231" y="2666"/>
                  </a:lnTo>
                  <a:lnTo>
                    <a:pt x="240" y="2666"/>
                  </a:lnTo>
                  <a:lnTo>
                    <a:pt x="240" y="2661"/>
                  </a:lnTo>
                  <a:lnTo>
                    <a:pt x="245" y="2661"/>
                  </a:lnTo>
                  <a:lnTo>
                    <a:pt x="245" y="2653"/>
                  </a:lnTo>
                  <a:lnTo>
                    <a:pt x="254" y="2653"/>
                  </a:lnTo>
                  <a:lnTo>
                    <a:pt x="254" y="2648"/>
                  </a:lnTo>
                  <a:lnTo>
                    <a:pt x="260" y="2648"/>
                  </a:lnTo>
                  <a:lnTo>
                    <a:pt x="260" y="2643"/>
                  </a:lnTo>
                  <a:lnTo>
                    <a:pt x="265" y="2643"/>
                  </a:lnTo>
                  <a:lnTo>
                    <a:pt x="265" y="2637"/>
                  </a:lnTo>
                  <a:lnTo>
                    <a:pt x="274" y="2637"/>
                  </a:lnTo>
                  <a:lnTo>
                    <a:pt x="274" y="2631"/>
                  </a:lnTo>
                  <a:lnTo>
                    <a:pt x="279" y="2631"/>
                  </a:lnTo>
                  <a:lnTo>
                    <a:pt x="279" y="2624"/>
                  </a:lnTo>
                  <a:lnTo>
                    <a:pt x="288" y="2624"/>
                  </a:lnTo>
                  <a:lnTo>
                    <a:pt x="288" y="2619"/>
                  </a:lnTo>
                  <a:lnTo>
                    <a:pt x="293" y="2619"/>
                  </a:lnTo>
                  <a:lnTo>
                    <a:pt x="293" y="2612"/>
                  </a:lnTo>
                  <a:lnTo>
                    <a:pt x="298" y="2612"/>
                  </a:lnTo>
                  <a:lnTo>
                    <a:pt x="298" y="2607"/>
                  </a:lnTo>
                  <a:lnTo>
                    <a:pt x="307" y="2607"/>
                  </a:lnTo>
                  <a:lnTo>
                    <a:pt x="307" y="2601"/>
                  </a:lnTo>
                  <a:lnTo>
                    <a:pt x="312" y="2601"/>
                  </a:lnTo>
                  <a:lnTo>
                    <a:pt x="312" y="2594"/>
                  </a:lnTo>
                  <a:lnTo>
                    <a:pt x="321" y="2594"/>
                  </a:lnTo>
                  <a:lnTo>
                    <a:pt x="321" y="2589"/>
                  </a:lnTo>
                  <a:lnTo>
                    <a:pt x="326" y="2589"/>
                  </a:lnTo>
                  <a:lnTo>
                    <a:pt x="326" y="2583"/>
                  </a:lnTo>
                  <a:lnTo>
                    <a:pt x="332" y="2583"/>
                  </a:lnTo>
                  <a:lnTo>
                    <a:pt x="332" y="2577"/>
                  </a:lnTo>
                  <a:lnTo>
                    <a:pt x="336" y="2577"/>
                  </a:lnTo>
                  <a:lnTo>
                    <a:pt x="336" y="2571"/>
                  </a:lnTo>
                  <a:lnTo>
                    <a:pt x="342" y="2571"/>
                  </a:lnTo>
                  <a:lnTo>
                    <a:pt x="342" y="2566"/>
                  </a:lnTo>
                  <a:lnTo>
                    <a:pt x="346" y="2566"/>
                  </a:lnTo>
                  <a:lnTo>
                    <a:pt x="346" y="2559"/>
                  </a:lnTo>
                  <a:lnTo>
                    <a:pt x="351" y="2559"/>
                  </a:lnTo>
                  <a:lnTo>
                    <a:pt x="351" y="2553"/>
                  </a:lnTo>
                  <a:lnTo>
                    <a:pt x="356" y="2553"/>
                  </a:lnTo>
                  <a:lnTo>
                    <a:pt x="356" y="2547"/>
                  </a:lnTo>
                  <a:lnTo>
                    <a:pt x="360" y="2547"/>
                  </a:lnTo>
                  <a:lnTo>
                    <a:pt x="360" y="2542"/>
                  </a:lnTo>
                  <a:lnTo>
                    <a:pt x="365" y="2542"/>
                  </a:lnTo>
                  <a:lnTo>
                    <a:pt x="365" y="2536"/>
                  </a:lnTo>
                  <a:lnTo>
                    <a:pt x="369" y="2536"/>
                  </a:lnTo>
                  <a:lnTo>
                    <a:pt x="369" y="2530"/>
                  </a:lnTo>
                  <a:lnTo>
                    <a:pt x="375" y="2530"/>
                  </a:lnTo>
                  <a:lnTo>
                    <a:pt x="375" y="2525"/>
                  </a:lnTo>
                  <a:lnTo>
                    <a:pt x="379" y="2525"/>
                  </a:lnTo>
                  <a:lnTo>
                    <a:pt x="379" y="2518"/>
                  </a:lnTo>
                  <a:lnTo>
                    <a:pt x="384" y="2518"/>
                  </a:lnTo>
                  <a:lnTo>
                    <a:pt x="384" y="2512"/>
                  </a:lnTo>
                  <a:lnTo>
                    <a:pt x="389" y="2512"/>
                  </a:lnTo>
                  <a:lnTo>
                    <a:pt x="389" y="2506"/>
                  </a:lnTo>
                  <a:lnTo>
                    <a:pt x="393" y="2506"/>
                  </a:lnTo>
                  <a:lnTo>
                    <a:pt x="393" y="2501"/>
                  </a:lnTo>
                  <a:lnTo>
                    <a:pt x="398" y="2501"/>
                  </a:lnTo>
                  <a:lnTo>
                    <a:pt x="398" y="2493"/>
                  </a:lnTo>
                  <a:lnTo>
                    <a:pt x="413" y="2493"/>
                  </a:lnTo>
                  <a:lnTo>
                    <a:pt x="413" y="2488"/>
                  </a:lnTo>
                  <a:lnTo>
                    <a:pt x="418" y="2488"/>
                  </a:lnTo>
                  <a:lnTo>
                    <a:pt x="418" y="2483"/>
                  </a:lnTo>
                  <a:lnTo>
                    <a:pt x="423" y="2483"/>
                  </a:lnTo>
                  <a:lnTo>
                    <a:pt x="423" y="2476"/>
                  </a:lnTo>
                  <a:lnTo>
                    <a:pt x="432" y="2476"/>
                  </a:lnTo>
                  <a:lnTo>
                    <a:pt x="432" y="2471"/>
                  </a:lnTo>
                  <a:lnTo>
                    <a:pt x="442" y="2471"/>
                  </a:lnTo>
                  <a:lnTo>
                    <a:pt x="442" y="2465"/>
                  </a:lnTo>
                  <a:lnTo>
                    <a:pt x="446" y="2465"/>
                  </a:lnTo>
                  <a:lnTo>
                    <a:pt x="446" y="2460"/>
                  </a:lnTo>
                  <a:lnTo>
                    <a:pt x="451" y="2460"/>
                  </a:lnTo>
                  <a:lnTo>
                    <a:pt x="451" y="2447"/>
                  </a:lnTo>
                  <a:lnTo>
                    <a:pt x="456" y="2447"/>
                  </a:lnTo>
                  <a:lnTo>
                    <a:pt x="456" y="2441"/>
                  </a:lnTo>
                  <a:lnTo>
                    <a:pt x="461" y="2441"/>
                  </a:lnTo>
                  <a:lnTo>
                    <a:pt x="461" y="2435"/>
                  </a:lnTo>
                  <a:lnTo>
                    <a:pt x="465" y="2435"/>
                  </a:lnTo>
                  <a:lnTo>
                    <a:pt x="465" y="2430"/>
                  </a:lnTo>
                  <a:lnTo>
                    <a:pt x="476" y="2430"/>
                  </a:lnTo>
                  <a:lnTo>
                    <a:pt x="476" y="2423"/>
                  </a:lnTo>
                  <a:lnTo>
                    <a:pt x="480" y="2423"/>
                  </a:lnTo>
                  <a:lnTo>
                    <a:pt x="480" y="2417"/>
                  </a:lnTo>
                  <a:lnTo>
                    <a:pt x="486" y="2417"/>
                  </a:lnTo>
                  <a:lnTo>
                    <a:pt x="486" y="2411"/>
                  </a:lnTo>
                  <a:lnTo>
                    <a:pt x="495" y="2411"/>
                  </a:lnTo>
                  <a:lnTo>
                    <a:pt x="495" y="2406"/>
                  </a:lnTo>
                  <a:lnTo>
                    <a:pt x="500" y="2406"/>
                  </a:lnTo>
                  <a:lnTo>
                    <a:pt x="500" y="2400"/>
                  </a:lnTo>
                  <a:lnTo>
                    <a:pt x="505" y="2400"/>
                  </a:lnTo>
                  <a:lnTo>
                    <a:pt x="505" y="2394"/>
                  </a:lnTo>
                  <a:lnTo>
                    <a:pt x="509" y="2394"/>
                  </a:lnTo>
                  <a:lnTo>
                    <a:pt x="509" y="2389"/>
                  </a:lnTo>
                  <a:lnTo>
                    <a:pt x="514" y="2389"/>
                  </a:lnTo>
                  <a:lnTo>
                    <a:pt x="514" y="2382"/>
                  </a:lnTo>
                  <a:lnTo>
                    <a:pt x="519" y="2382"/>
                  </a:lnTo>
                  <a:lnTo>
                    <a:pt x="519" y="2376"/>
                  </a:lnTo>
                  <a:lnTo>
                    <a:pt x="523" y="2376"/>
                  </a:lnTo>
                  <a:lnTo>
                    <a:pt x="523" y="2371"/>
                  </a:lnTo>
                  <a:lnTo>
                    <a:pt x="528" y="2371"/>
                  </a:lnTo>
                  <a:lnTo>
                    <a:pt x="528" y="2365"/>
                  </a:lnTo>
                  <a:lnTo>
                    <a:pt x="538" y="2365"/>
                  </a:lnTo>
                  <a:lnTo>
                    <a:pt x="538" y="2359"/>
                  </a:lnTo>
                  <a:lnTo>
                    <a:pt x="542" y="2359"/>
                  </a:lnTo>
                  <a:lnTo>
                    <a:pt x="542" y="2352"/>
                  </a:lnTo>
                  <a:lnTo>
                    <a:pt x="547" y="2352"/>
                  </a:lnTo>
                  <a:lnTo>
                    <a:pt x="547" y="2347"/>
                  </a:lnTo>
                  <a:lnTo>
                    <a:pt x="558" y="2347"/>
                  </a:lnTo>
                  <a:lnTo>
                    <a:pt x="558" y="2341"/>
                  </a:lnTo>
                  <a:lnTo>
                    <a:pt x="562" y="2341"/>
                  </a:lnTo>
                  <a:lnTo>
                    <a:pt x="562" y="2335"/>
                  </a:lnTo>
                  <a:lnTo>
                    <a:pt x="567" y="2335"/>
                  </a:lnTo>
                  <a:lnTo>
                    <a:pt x="567" y="2329"/>
                  </a:lnTo>
                  <a:lnTo>
                    <a:pt x="576" y="2329"/>
                  </a:lnTo>
                  <a:lnTo>
                    <a:pt x="576" y="2324"/>
                  </a:lnTo>
                  <a:lnTo>
                    <a:pt x="582" y="2324"/>
                  </a:lnTo>
                  <a:lnTo>
                    <a:pt x="582" y="2317"/>
                  </a:lnTo>
                  <a:lnTo>
                    <a:pt x="586" y="2317"/>
                  </a:lnTo>
                  <a:lnTo>
                    <a:pt x="586" y="2311"/>
                  </a:lnTo>
                  <a:lnTo>
                    <a:pt x="591" y="2311"/>
                  </a:lnTo>
                  <a:lnTo>
                    <a:pt x="591" y="2306"/>
                  </a:lnTo>
                  <a:lnTo>
                    <a:pt x="596" y="2306"/>
                  </a:lnTo>
                  <a:lnTo>
                    <a:pt x="596" y="2299"/>
                  </a:lnTo>
                  <a:lnTo>
                    <a:pt x="601" y="2299"/>
                  </a:lnTo>
                  <a:lnTo>
                    <a:pt x="601" y="2294"/>
                  </a:lnTo>
                  <a:lnTo>
                    <a:pt x="605" y="2294"/>
                  </a:lnTo>
                  <a:lnTo>
                    <a:pt x="605" y="2287"/>
                  </a:lnTo>
                  <a:lnTo>
                    <a:pt x="609" y="2287"/>
                  </a:lnTo>
                  <a:lnTo>
                    <a:pt x="609" y="2281"/>
                  </a:lnTo>
                  <a:lnTo>
                    <a:pt x="615" y="2281"/>
                  </a:lnTo>
                  <a:lnTo>
                    <a:pt x="615" y="2276"/>
                  </a:lnTo>
                  <a:lnTo>
                    <a:pt x="625" y="2276"/>
                  </a:lnTo>
                  <a:lnTo>
                    <a:pt x="625" y="2270"/>
                  </a:lnTo>
                  <a:lnTo>
                    <a:pt x="630" y="2270"/>
                  </a:lnTo>
                  <a:lnTo>
                    <a:pt x="630" y="2265"/>
                  </a:lnTo>
                  <a:lnTo>
                    <a:pt x="634" y="2265"/>
                  </a:lnTo>
                  <a:lnTo>
                    <a:pt x="634" y="2258"/>
                  </a:lnTo>
                  <a:lnTo>
                    <a:pt x="639" y="2258"/>
                  </a:lnTo>
                  <a:lnTo>
                    <a:pt x="639" y="2253"/>
                  </a:lnTo>
                  <a:lnTo>
                    <a:pt x="644" y="2253"/>
                  </a:lnTo>
                  <a:lnTo>
                    <a:pt x="644" y="2246"/>
                  </a:lnTo>
                  <a:lnTo>
                    <a:pt x="649" y="2246"/>
                  </a:lnTo>
                  <a:lnTo>
                    <a:pt x="649" y="2240"/>
                  </a:lnTo>
                  <a:lnTo>
                    <a:pt x="653" y="2240"/>
                  </a:lnTo>
                  <a:lnTo>
                    <a:pt x="653" y="2234"/>
                  </a:lnTo>
                  <a:lnTo>
                    <a:pt x="663" y="2234"/>
                  </a:lnTo>
                  <a:lnTo>
                    <a:pt x="663" y="2229"/>
                  </a:lnTo>
                  <a:lnTo>
                    <a:pt x="667" y="2229"/>
                  </a:lnTo>
                  <a:lnTo>
                    <a:pt x="667" y="2216"/>
                  </a:lnTo>
                  <a:lnTo>
                    <a:pt x="677" y="2216"/>
                  </a:lnTo>
                  <a:lnTo>
                    <a:pt x="677" y="2211"/>
                  </a:lnTo>
                  <a:lnTo>
                    <a:pt x="682" y="2211"/>
                  </a:lnTo>
                  <a:lnTo>
                    <a:pt x="682" y="2205"/>
                  </a:lnTo>
                  <a:lnTo>
                    <a:pt x="686" y="2205"/>
                  </a:lnTo>
                  <a:lnTo>
                    <a:pt x="686" y="2199"/>
                  </a:lnTo>
                  <a:lnTo>
                    <a:pt x="691" y="2199"/>
                  </a:lnTo>
                  <a:lnTo>
                    <a:pt x="691" y="2193"/>
                  </a:lnTo>
                  <a:lnTo>
                    <a:pt x="697" y="2193"/>
                  </a:lnTo>
                  <a:lnTo>
                    <a:pt x="697" y="2188"/>
                  </a:lnTo>
                  <a:lnTo>
                    <a:pt x="701" y="2188"/>
                  </a:lnTo>
                  <a:lnTo>
                    <a:pt x="701" y="2180"/>
                  </a:lnTo>
                  <a:lnTo>
                    <a:pt x="711" y="2180"/>
                  </a:lnTo>
                  <a:lnTo>
                    <a:pt x="711" y="2175"/>
                  </a:lnTo>
                  <a:lnTo>
                    <a:pt x="716" y="2175"/>
                  </a:lnTo>
                  <a:lnTo>
                    <a:pt x="716" y="2170"/>
                  </a:lnTo>
                  <a:lnTo>
                    <a:pt x="720" y="2170"/>
                  </a:lnTo>
                  <a:lnTo>
                    <a:pt x="720" y="2164"/>
                  </a:lnTo>
                  <a:lnTo>
                    <a:pt x="726" y="2164"/>
                  </a:lnTo>
                  <a:lnTo>
                    <a:pt x="726" y="2151"/>
                  </a:lnTo>
                  <a:lnTo>
                    <a:pt x="730" y="2151"/>
                  </a:lnTo>
                  <a:lnTo>
                    <a:pt x="730" y="2146"/>
                  </a:lnTo>
                  <a:lnTo>
                    <a:pt x="734" y="2146"/>
                  </a:lnTo>
                  <a:lnTo>
                    <a:pt x="734" y="2139"/>
                  </a:lnTo>
                  <a:lnTo>
                    <a:pt x="744" y="2139"/>
                  </a:lnTo>
                  <a:lnTo>
                    <a:pt x="744" y="2134"/>
                  </a:lnTo>
                  <a:lnTo>
                    <a:pt x="749" y="2134"/>
                  </a:lnTo>
                  <a:lnTo>
                    <a:pt x="749" y="2128"/>
                  </a:lnTo>
                  <a:lnTo>
                    <a:pt x="759" y="2128"/>
                  </a:lnTo>
                  <a:lnTo>
                    <a:pt x="759" y="2121"/>
                  </a:lnTo>
                  <a:lnTo>
                    <a:pt x="763" y="2121"/>
                  </a:lnTo>
                  <a:lnTo>
                    <a:pt x="763" y="2117"/>
                  </a:lnTo>
                  <a:lnTo>
                    <a:pt x="774" y="2117"/>
                  </a:lnTo>
                  <a:lnTo>
                    <a:pt x="774" y="2110"/>
                  </a:lnTo>
                  <a:lnTo>
                    <a:pt x="778" y="2110"/>
                  </a:lnTo>
                  <a:lnTo>
                    <a:pt x="778" y="2104"/>
                  </a:lnTo>
                  <a:lnTo>
                    <a:pt x="783" y="2104"/>
                  </a:lnTo>
                  <a:lnTo>
                    <a:pt x="783" y="2098"/>
                  </a:lnTo>
                  <a:lnTo>
                    <a:pt x="788" y="2098"/>
                  </a:lnTo>
                  <a:lnTo>
                    <a:pt x="788" y="2093"/>
                  </a:lnTo>
                  <a:lnTo>
                    <a:pt x="793" y="2093"/>
                  </a:lnTo>
                  <a:lnTo>
                    <a:pt x="793" y="2087"/>
                  </a:lnTo>
                  <a:lnTo>
                    <a:pt x="797" y="2087"/>
                  </a:lnTo>
                  <a:lnTo>
                    <a:pt x="797" y="2080"/>
                  </a:lnTo>
                  <a:lnTo>
                    <a:pt x="802" y="2080"/>
                  </a:lnTo>
                  <a:lnTo>
                    <a:pt x="802" y="2074"/>
                  </a:lnTo>
                  <a:lnTo>
                    <a:pt x="807" y="2074"/>
                  </a:lnTo>
                  <a:lnTo>
                    <a:pt x="807" y="2069"/>
                  </a:lnTo>
                  <a:lnTo>
                    <a:pt x="816" y="2069"/>
                  </a:lnTo>
                  <a:lnTo>
                    <a:pt x="816" y="2063"/>
                  </a:lnTo>
                  <a:lnTo>
                    <a:pt x="821" y="2063"/>
                  </a:lnTo>
                  <a:lnTo>
                    <a:pt x="821" y="2057"/>
                  </a:lnTo>
                  <a:lnTo>
                    <a:pt x="826" y="2057"/>
                  </a:lnTo>
                  <a:lnTo>
                    <a:pt x="826" y="2052"/>
                  </a:lnTo>
                  <a:lnTo>
                    <a:pt x="830" y="2052"/>
                  </a:lnTo>
                  <a:lnTo>
                    <a:pt x="830" y="2039"/>
                  </a:lnTo>
                  <a:lnTo>
                    <a:pt x="835" y="2039"/>
                  </a:lnTo>
                  <a:lnTo>
                    <a:pt x="835" y="2033"/>
                  </a:lnTo>
                  <a:lnTo>
                    <a:pt x="846" y="2033"/>
                  </a:lnTo>
                  <a:lnTo>
                    <a:pt x="846" y="2028"/>
                  </a:lnTo>
                  <a:lnTo>
                    <a:pt x="850" y="2028"/>
                  </a:lnTo>
                  <a:lnTo>
                    <a:pt x="850" y="2022"/>
                  </a:lnTo>
                  <a:lnTo>
                    <a:pt x="864" y="2022"/>
                  </a:lnTo>
                  <a:lnTo>
                    <a:pt x="864" y="2015"/>
                  </a:lnTo>
                  <a:lnTo>
                    <a:pt x="870" y="2015"/>
                  </a:lnTo>
                  <a:lnTo>
                    <a:pt x="870" y="2010"/>
                  </a:lnTo>
                  <a:lnTo>
                    <a:pt x="874" y="2010"/>
                  </a:lnTo>
                  <a:lnTo>
                    <a:pt x="874" y="2003"/>
                  </a:lnTo>
                  <a:lnTo>
                    <a:pt x="884" y="2003"/>
                  </a:lnTo>
                  <a:lnTo>
                    <a:pt x="884" y="1998"/>
                  </a:lnTo>
                  <a:lnTo>
                    <a:pt x="889" y="1998"/>
                  </a:lnTo>
                  <a:lnTo>
                    <a:pt x="889" y="1992"/>
                  </a:lnTo>
                  <a:lnTo>
                    <a:pt x="898" y="1992"/>
                  </a:lnTo>
                  <a:lnTo>
                    <a:pt x="898" y="1979"/>
                  </a:lnTo>
                  <a:lnTo>
                    <a:pt x="907" y="1979"/>
                  </a:lnTo>
                  <a:lnTo>
                    <a:pt x="907" y="1969"/>
                  </a:lnTo>
                  <a:lnTo>
                    <a:pt x="913" y="1969"/>
                  </a:lnTo>
                  <a:lnTo>
                    <a:pt x="913" y="1962"/>
                  </a:lnTo>
                  <a:lnTo>
                    <a:pt x="918" y="1962"/>
                  </a:lnTo>
                  <a:lnTo>
                    <a:pt x="918" y="1957"/>
                  </a:lnTo>
                  <a:lnTo>
                    <a:pt x="923" y="1957"/>
                  </a:lnTo>
                  <a:lnTo>
                    <a:pt x="923" y="1952"/>
                  </a:lnTo>
                  <a:lnTo>
                    <a:pt x="927" y="1952"/>
                  </a:lnTo>
                  <a:lnTo>
                    <a:pt x="927" y="1944"/>
                  </a:lnTo>
                  <a:lnTo>
                    <a:pt x="932" y="1944"/>
                  </a:lnTo>
                  <a:lnTo>
                    <a:pt x="932" y="1939"/>
                  </a:lnTo>
                  <a:lnTo>
                    <a:pt x="937" y="1939"/>
                  </a:lnTo>
                  <a:lnTo>
                    <a:pt x="937" y="1933"/>
                  </a:lnTo>
                  <a:lnTo>
                    <a:pt x="941" y="1933"/>
                  </a:lnTo>
                  <a:lnTo>
                    <a:pt x="941" y="1927"/>
                  </a:lnTo>
                  <a:lnTo>
                    <a:pt x="946" y="1927"/>
                  </a:lnTo>
                  <a:lnTo>
                    <a:pt x="946" y="1916"/>
                  </a:lnTo>
                  <a:lnTo>
                    <a:pt x="951" y="1916"/>
                  </a:lnTo>
                  <a:lnTo>
                    <a:pt x="951" y="1911"/>
                  </a:lnTo>
                  <a:lnTo>
                    <a:pt x="956" y="1911"/>
                  </a:lnTo>
                  <a:lnTo>
                    <a:pt x="956" y="1903"/>
                  </a:lnTo>
                  <a:lnTo>
                    <a:pt x="960" y="1903"/>
                  </a:lnTo>
                  <a:lnTo>
                    <a:pt x="960" y="1898"/>
                  </a:lnTo>
                  <a:lnTo>
                    <a:pt x="966" y="1898"/>
                  </a:lnTo>
                  <a:lnTo>
                    <a:pt x="966" y="1892"/>
                  </a:lnTo>
                  <a:lnTo>
                    <a:pt x="970" y="1892"/>
                  </a:lnTo>
                  <a:lnTo>
                    <a:pt x="970" y="1879"/>
                  </a:lnTo>
                  <a:lnTo>
                    <a:pt x="974" y="1879"/>
                  </a:lnTo>
                  <a:lnTo>
                    <a:pt x="974" y="1868"/>
                  </a:lnTo>
                  <a:lnTo>
                    <a:pt x="980" y="1868"/>
                  </a:lnTo>
                  <a:lnTo>
                    <a:pt x="980" y="1857"/>
                  </a:lnTo>
                  <a:lnTo>
                    <a:pt x="985" y="1857"/>
                  </a:lnTo>
                  <a:lnTo>
                    <a:pt x="985" y="1844"/>
                  </a:lnTo>
                  <a:lnTo>
                    <a:pt x="990" y="1844"/>
                  </a:lnTo>
                  <a:lnTo>
                    <a:pt x="990" y="1838"/>
                  </a:lnTo>
                  <a:lnTo>
                    <a:pt x="994" y="1838"/>
                  </a:lnTo>
                  <a:lnTo>
                    <a:pt x="994" y="1826"/>
                  </a:lnTo>
                  <a:lnTo>
                    <a:pt x="999" y="1826"/>
                  </a:lnTo>
                  <a:lnTo>
                    <a:pt x="999" y="1821"/>
                  </a:lnTo>
                  <a:lnTo>
                    <a:pt x="1004" y="1821"/>
                  </a:lnTo>
                  <a:lnTo>
                    <a:pt x="1004" y="1808"/>
                  </a:lnTo>
                  <a:lnTo>
                    <a:pt x="1008" y="1808"/>
                  </a:lnTo>
                  <a:lnTo>
                    <a:pt x="1008" y="1803"/>
                  </a:lnTo>
                  <a:lnTo>
                    <a:pt x="1014" y="1803"/>
                  </a:lnTo>
                  <a:lnTo>
                    <a:pt x="1014" y="1792"/>
                  </a:lnTo>
                  <a:lnTo>
                    <a:pt x="1018" y="1792"/>
                  </a:lnTo>
                  <a:lnTo>
                    <a:pt x="1018" y="1780"/>
                  </a:lnTo>
                  <a:lnTo>
                    <a:pt x="1023" y="1780"/>
                  </a:lnTo>
                  <a:lnTo>
                    <a:pt x="1023" y="1773"/>
                  </a:lnTo>
                  <a:lnTo>
                    <a:pt x="1028" y="1773"/>
                  </a:lnTo>
                  <a:lnTo>
                    <a:pt x="1028" y="1767"/>
                  </a:lnTo>
                  <a:lnTo>
                    <a:pt x="1033" y="1767"/>
                  </a:lnTo>
                  <a:lnTo>
                    <a:pt x="1033" y="1761"/>
                  </a:lnTo>
                  <a:lnTo>
                    <a:pt x="1037" y="1761"/>
                  </a:lnTo>
                  <a:lnTo>
                    <a:pt x="1037" y="1750"/>
                  </a:lnTo>
                  <a:lnTo>
                    <a:pt x="1041" y="1750"/>
                  </a:lnTo>
                  <a:lnTo>
                    <a:pt x="1041" y="1738"/>
                  </a:lnTo>
                  <a:lnTo>
                    <a:pt x="1047" y="1738"/>
                  </a:lnTo>
                  <a:lnTo>
                    <a:pt x="1047" y="1720"/>
                  </a:lnTo>
                  <a:lnTo>
                    <a:pt x="1051" y="1720"/>
                  </a:lnTo>
                  <a:lnTo>
                    <a:pt x="1051" y="1707"/>
                  </a:lnTo>
                  <a:lnTo>
                    <a:pt x="1057" y="1707"/>
                  </a:lnTo>
                  <a:lnTo>
                    <a:pt x="1057" y="1697"/>
                  </a:lnTo>
                  <a:lnTo>
                    <a:pt x="1062" y="1697"/>
                  </a:lnTo>
                  <a:lnTo>
                    <a:pt x="1062" y="1679"/>
                  </a:lnTo>
                  <a:lnTo>
                    <a:pt x="1067" y="1679"/>
                  </a:lnTo>
                  <a:lnTo>
                    <a:pt x="1067" y="1674"/>
                  </a:lnTo>
                  <a:lnTo>
                    <a:pt x="1071" y="1674"/>
                  </a:lnTo>
                  <a:lnTo>
                    <a:pt x="1071" y="1661"/>
                  </a:lnTo>
                  <a:lnTo>
                    <a:pt x="1076" y="1661"/>
                  </a:lnTo>
                  <a:lnTo>
                    <a:pt x="1076" y="1649"/>
                  </a:lnTo>
                  <a:lnTo>
                    <a:pt x="1081" y="1649"/>
                  </a:lnTo>
                  <a:lnTo>
                    <a:pt x="1081" y="1631"/>
                  </a:lnTo>
                  <a:lnTo>
                    <a:pt x="1085" y="1631"/>
                  </a:lnTo>
                  <a:lnTo>
                    <a:pt x="1085" y="1620"/>
                  </a:lnTo>
                  <a:lnTo>
                    <a:pt x="1090" y="1620"/>
                  </a:lnTo>
                  <a:lnTo>
                    <a:pt x="1090" y="1614"/>
                  </a:lnTo>
                  <a:lnTo>
                    <a:pt x="1095" y="1614"/>
                  </a:lnTo>
                  <a:lnTo>
                    <a:pt x="1095" y="1607"/>
                  </a:lnTo>
                  <a:lnTo>
                    <a:pt x="1100" y="1607"/>
                  </a:lnTo>
                  <a:lnTo>
                    <a:pt x="1100" y="1602"/>
                  </a:lnTo>
                  <a:lnTo>
                    <a:pt x="1104" y="1602"/>
                  </a:lnTo>
                  <a:lnTo>
                    <a:pt x="1104" y="1596"/>
                  </a:lnTo>
                  <a:lnTo>
                    <a:pt x="1110" y="1596"/>
                  </a:lnTo>
                  <a:lnTo>
                    <a:pt x="1110" y="1590"/>
                  </a:lnTo>
                  <a:lnTo>
                    <a:pt x="1114" y="1590"/>
                  </a:lnTo>
                  <a:lnTo>
                    <a:pt x="1114" y="1584"/>
                  </a:lnTo>
                  <a:lnTo>
                    <a:pt x="1118" y="1584"/>
                  </a:lnTo>
                  <a:lnTo>
                    <a:pt x="1118" y="1572"/>
                  </a:lnTo>
                  <a:lnTo>
                    <a:pt x="1124" y="1572"/>
                  </a:lnTo>
                  <a:lnTo>
                    <a:pt x="1124" y="1560"/>
                  </a:lnTo>
                  <a:lnTo>
                    <a:pt x="1129" y="1560"/>
                  </a:lnTo>
                  <a:lnTo>
                    <a:pt x="1129" y="1555"/>
                  </a:lnTo>
                  <a:lnTo>
                    <a:pt x="1134" y="1555"/>
                  </a:lnTo>
                  <a:lnTo>
                    <a:pt x="1134" y="1538"/>
                  </a:lnTo>
                  <a:lnTo>
                    <a:pt x="1138" y="1538"/>
                  </a:lnTo>
                  <a:lnTo>
                    <a:pt x="1138" y="1525"/>
                  </a:lnTo>
                  <a:lnTo>
                    <a:pt x="1144" y="1525"/>
                  </a:lnTo>
                  <a:lnTo>
                    <a:pt x="1144" y="1501"/>
                  </a:lnTo>
                  <a:lnTo>
                    <a:pt x="1148" y="1501"/>
                  </a:lnTo>
                  <a:lnTo>
                    <a:pt x="1148" y="1484"/>
                  </a:lnTo>
                  <a:lnTo>
                    <a:pt x="1153" y="1484"/>
                  </a:lnTo>
                  <a:lnTo>
                    <a:pt x="1153" y="1479"/>
                  </a:lnTo>
                  <a:lnTo>
                    <a:pt x="1158" y="1479"/>
                  </a:lnTo>
                  <a:lnTo>
                    <a:pt x="1158" y="1466"/>
                  </a:lnTo>
                  <a:lnTo>
                    <a:pt x="1162" y="1466"/>
                  </a:lnTo>
                  <a:lnTo>
                    <a:pt x="1162" y="1460"/>
                  </a:lnTo>
                  <a:lnTo>
                    <a:pt x="1167" y="1460"/>
                  </a:lnTo>
                  <a:lnTo>
                    <a:pt x="1167" y="1443"/>
                  </a:lnTo>
                  <a:lnTo>
                    <a:pt x="1172" y="1443"/>
                  </a:lnTo>
                  <a:lnTo>
                    <a:pt x="1172" y="1438"/>
                  </a:lnTo>
                  <a:lnTo>
                    <a:pt x="1177" y="1438"/>
                  </a:lnTo>
                  <a:lnTo>
                    <a:pt x="1177" y="1419"/>
                  </a:lnTo>
                  <a:lnTo>
                    <a:pt x="1181" y="1419"/>
                  </a:lnTo>
                  <a:lnTo>
                    <a:pt x="1181" y="1406"/>
                  </a:lnTo>
                  <a:lnTo>
                    <a:pt x="1186" y="1406"/>
                  </a:lnTo>
                  <a:lnTo>
                    <a:pt x="1186" y="1401"/>
                  </a:lnTo>
                  <a:lnTo>
                    <a:pt x="1191" y="1401"/>
                  </a:lnTo>
                  <a:lnTo>
                    <a:pt x="1191" y="1389"/>
                  </a:lnTo>
                  <a:lnTo>
                    <a:pt x="1196" y="1389"/>
                  </a:lnTo>
                  <a:lnTo>
                    <a:pt x="1196" y="1372"/>
                  </a:lnTo>
                  <a:lnTo>
                    <a:pt x="1201" y="1372"/>
                  </a:lnTo>
                  <a:lnTo>
                    <a:pt x="1201" y="1353"/>
                  </a:lnTo>
                  <a:lnTo>
                    <a:pt x="1206" y="1353"/>
                  </a:lnTo>
                  <a:lnTo>
                    <a:pt x="1206" y="1342"/>
                  </a:lnTo>
                  <a:lnTo>
                    <a:pt x="1211" y="1342"/>
                  </a:lnTo>
                  <a:lnTo>
                    <a:pt x="1211" y="1335"/>
                  </a:lnTo>
                  <a:lnTo>
                    <a:pt x="1215" y="1335"/>
                  </a:lnTo>
                  <a:lnTo>
                    <a:pt x="1215" y="1319"/>
                  </a:lnTo>
                  <a:lnTo>
                    <a:pt x="1220" y="1319"/>
                  </a:lnTo>
                  <a:lnTo>
                    <a:pt x="1220" y="1312"/>
                  </a:lnTo>
                  <a:lnTo>
                    <a:pt x="1225" y="1312"/>
                  </a:lnTo>
                  <a:lnTo>
                    <a:pt x="1225" y="1288"/>
                  </a:lnTo>
                  <a:lnTo>
                    <a:pt x="1230" y="1288"/>
                  </a:lnTo>
                  <a:lnTo>
                    <a:pt x="1230" y="1283"/>
                  </a:lnTo>
                  <a:lnTo>
                    <a:pt x="1234" y="1283"/>
                  </a:lnTo>
                  <a:lnTo>
                    <a:pt x="1234" y="1265"/>
                  </a:lnTo>
                  <a:lnTo>
                    <a:pt x="1240" y="1265"/>
                  </a:lnTo>
                  <a:lnTo>
                    <a:pt x="1240" y="1253"/>
                  </a:lnTo>
                  <a:lnTo>
                    <a:pt x="1244" y="1253"/>
                  </a:lnTo>
                  <a:lnTo>
                    <a:pt x="1244" y="1242"/>
                  </a:lnTo>
                  <a:lnTo>
                    <a:pt x="1248" y="1242"/>
                  </a:lnTo>
                  <a:lnTo>
                    <a:pt x="1248" y="1229"/>
                  </a:lnTo>
                  <a:lnTo>
                    <a:pt x="1254" y="1229"/>
                  </a:lnTo>
                  <a:lnTo>
                    <a:pt x="1254" y="1212"/>
                  </a:lnTo>
                  <a:lnTo>
                    <a:pt x="1258" y="1212"/>
                  </a:lnTo>
                  <a:lnTo>
                    <a:pt x="1258" y="1206"/>
                  </a:lnTo>
                  <a:lnTo>
                    <a:pt x="1263" y="1206"/>
                  </a:lnTo>
                  <a:lnTo>
                    <a:pt x="1263" y="1201"/>
                  </a:lnTo>
                  <a:lnTo>
                    <a:pt x="1268" y="1201"/>
                  </a:lnTo>
                  <a:lnTo>
                    <a:pt x="1268" y="1188"/>
                  </a:lnTo>
                  <a:lnTo>
                    <a:pt x="1274" y="1188"/>
                  </a:lnTo>
                  <a:lnTo>
                    <a:pt x="1274" y="1171"/>
                  </a:lnTo>
                  <a:lnTo>
                    <a:pt x="1278" y="1171"/>
                  </a:lnTo>
                  <a:lnTo>
                    <a:pt x="1278" y="1164"/>
                  </a:lnTo>
                  <a:lnTo>
                    <a:pt x="1282" y="1164"/>
                  </a:lnTo>
                  <a:lnTo>
                    <a:pt x="1282" y="1152"/>
                  </a:lnTo>
                  <a:lnTo>
                    <a:pt x="1288" y="1152"/>
                  </a:lnTo>
                  <a:lnTo>
                    <a:pt x="1288" y="1141"/>
                  </a:lnTo>
                  <a:lnTo>
                    <a:pt x="1292" y="1141"/>
                  </a:lnTo>
                  <a:lnTo>
                    <a:pt x="1292" y="1134"/>
                  </a:lnTo>
                  <a:lnTo>
                    <a:pt x="1297" y="1134"/>
                  </a:lnTo>
                  <a:lnTo>
                    <a:pt x="1297" y="1124"/>
                  </a:lnTo>
                  <a:lnTo>
                    <a:pt x="1302" y="1124"/>
                  </a:lnTo>
                  <a:lnTo>
                    <a:pt x="1302" y="1100"/>
                  </a:lnTo>
                  <a:lnTo>
                    <a:pt x="1307" y="1100"/>
                  </a:lnTo>
                  <a:lnTo>
                    <a:pt x="1307" y="1088"/>
                  </a:lnTo>
                  <a:lnTo>
                    <a:pt x="1311" y="1088"/>
                  </a:lnTo>
                  <a:lnTo>
                    <a:pt x="1311" y="1076"/>
                  </a:lnTo>
                  <a:lnTo>
                    <a:pt x="1316" y="1076"/>
                  </a:lnTo>
                  <a:lnTo>
                    <a:pt x="1316" y="1071"/>
                  </a:lnTo>
                  <a:lnTo>
                    <a:pt x="1321" y="1071"/>
                  </a:lnTo>
                  <a:lnTo>
                    <a:pt x="1321" y="1065"/>
                  </a:lnTo>
                  <a:lnTo>
                    <a:pt x="1325" y="1065"/>
                  </a:lnTo>
                  <a:lnTo>
                    <a:pt x="1325" y="1052"/>
                  </a:lnTo>
                  <a:lnTo>
                    <a:pt x="1330" y="1052"/>
                  </a:lnTo>
                  <a:lnTo>
                    <a:pt x="1330" y="1041"/>
                  </a:lnTo>
                  <a:lnTo>
                    <a:pt x="1335" y="1041"/>
                  </a:lnTo>
                  <a:lnTo>
                    <a:pt x="1335" y="1028"/>
                  </a:lnTo>
                  <a:lnTo>
                    <a:pt x="1339" y="1028"/>
                  </a:lnTo>
                  <a:lnTo>
                    <a:pt x="1339" y="1017"/>
                  </a:lnTo>
                  <a:lnTo>
                    <a:pt x="1345" y="1017"/>
                  </a:lnTo>
                  <a:lnTo>
                    <a:pt x="1345" y="1006"/>
                  </a:lnTo>
                  <a:lnTo>
                    <a:pt x="1350" y="1006"/>
                  </a:lnTo>
                  <a:lnTo>
                    <a:pt x="1350" y="998"/>
                  </a:lnTo>
                  <a:lnTo>
                    <a:pt x="1355" y="998"/>
                  </a:lnTo>
                  <a:lnTo>
                    <a:pt x="1355" y="987"/>
                  </a:lnTo>
                  <a:lnTo>
                    <a:pt x="1359" y="987"/>
                  </a:lnTo>
                  <a:lnTo>
                    <a:pt x="1359" y="970"/>
                  </a:lnTo>
                  <a:lnTo>
                    <a:pt x="1365" y="970"/>
                  </a:lnTo>
                  <a:lnTo>
                    <a:pt x="1365" y="952"/>
                  </a:lnTo>
                  <a:lnTo>
                    <a:pt x="1369" y="952"/>
                  </a:lnTo>
                  <a:lnTo>
                    <a:pt x="1369" y="946"/>
                  </a:lnTo>
                  <a:lnTo>
                    <a:pt x="1374" y="946"/>
                  </a:lnTo>
                  <a:lnTo>
                    <a:pt x="1374" y="929"/>
                  </a:lnTo>
                  <a:lnTo>
                    <a:pt x="1378" y="929"/>
                  </a:lnTo>
                  <a:lnTo>
                    <a:pt x="1378" y="916"/>
                  </a:lnTo>
                  <a:lnTo>
                    <a:pt x="1383" y="916"/>
                  </a:lnTo>
                  <a:lnTo>
                    <a:pt x="1383" y="899"/>
                  </a:lnTo>
                  <a:lnTo>
                    <a:pt x="1388" y="899"/>
                  </a:lnTo>
                  <a:lnTo>
                    <a:pt x="1388" y="887"/>
                  </a:lnTo>
                  <a:lnTo>
                    <a:pt x="1392" y="887"/>
                  </a:lnTo>
                  <a:lnTo>
                    <a:pt x="1392" y="875"/>
                  </a:lnTo>
                  <a:lnTo>
                    <a:pt x="1398" y="875"/>
                  </a:lnTo>
                  <a:lnTo>
                    <a:pt x="1398" y="857"/>
                  </a:lnTo>
                  <a:lnTo>
                    <a:pt x="1402" y="857"/>
                  </a:lnTo>
                  <a:lnTo>
                    <a:pt x="1402" y="851"/>
                  </a:lnTo>
                  <a:lnTo>
                    <a:pt x="1407" y="851"/>
                  </a:lnTo>
                  <a:lnTo>
                    <a:pt x="1407" y="834"/>
                  </a:lnTo>
                  <a:lnTo>
                    <a:pt x="1412" y="834"/>
                  </a:lnTo>
                  <a:lnTo>
                    <a:pt x="1412" y="827"/>
                  </a:lnTo>
                  <a:lnTo>
                    <a:pt x="1416" y="827"/>
                  </a:lnTo>
                  <a:lnTo>
                    <a:pt x="1416" y="816"/>
                  </a:lnTo>
                  <a:lnTo>
                    <a:pt x="1422" y="816"/>
                  </a:lnTo>
                  <a:lnTo>
                    <a:pt x="1422" y="810"/>
                  </a:lnTo>
                  <a:lnTo>
                    <a:pt x="1426" y="810"/>
                  </a:lnTo>
                  <a:lnTo>
                    <a:pt x="1426" y="798"/>
                  </a:lnTo>
                  <a:lnTo>
                    <a:pt x="1432" y="798"/>
                  </a:lnTo>
                  <a:lnTo>
                    <a:pt x="1432" y="793"/>
                  </a:lnTo>
                  <a:lnTo>
                    <a:pt x="1436" y="793"/>
                  </a:lnTo>
                  <a:lnTo>
                    <a:pt x="1436" y="780"/>
                  </a:lnTo>
                  <a:lnTo>
                    <a:pt x="1441" y="780"/>
                  </a:lnTo>
                  <a:lnTo>
                    <a:pt x="1441" y="769"/>
                  </a:lnTo>
                  <a:lnTo>
                    <a:pt x="1446" y="769"/>
                  </a:lnTo>
                  <a:lnTo>
                    <a:pt x="1446" y="756"/>
                  </a:lnTo>
                  <a:lnTo>
                    <a:pt x="1451" y="756"/>
                  </a:lnTo>
                  <a:lnTo>
                    <a:pt x="1451" y="751"/>
                  </a:lnTo>
                  <a:lnTo>
                    <a:pt x="1455" y="751"/>
                  </a:lnTo>
                  <a:lnTo>
                    <a:pt x="1455" y="739"/>
                  </a:lnTo>
                  <a:lnTo>
                    <a:pt x="1460" y="739"/>
                  </a:lnTo>
                  <a:lnTo>
                    <a:pt x="1460" y="733"/>
                  </a:lnTo>
                  <a:lnTo>
                    <a:pt x="1465" y="733"/>
                  </a:lnTo>
                  <a:lnTo>
                    <a:pt x="1465" y="728"/>
                  </a:lnTo>
                  <a:lnTo>
                    <a:pt x="1469" y="728"/>
                  </a:lnTo>
                  <a:lnTo>
                    <a:pt x="1469" y="720"/>
                  </a:lnTo>
                  <a:lnTo>
                    <a:pt x="1474" y="720"/>
                  </a:lnTo>
                  <a:lnTo>
                    <a:pt x="1474" y="710"/>
                  </a:lnTo>
                  <a:lnTo>
                    <a:pt x="1479" y="710"/>
                  </a:lnTo>
                  <a:lnTo>
                    <a:pt x="1479" y="698"/>
                  </a:lnTo>
                  <a:lnTo>
                    <a:pt x="1484" y="698"/>
                  </a:lnTo>
                  <a:lnTo>
                    <a:pt x="1484" y="693"/>
                  </a:lnTo>
                  <a:lnTo>
                    <a:pt x="1488" y="693"/>
                  </a:lnTo>
                  <a:lnTo>
                    <a:pt x="1488" y="680"/>
                  </a:lnTo>
                  <a:lnTo>
                    <a:pt x="1495" y="680"/>
                  </a:lnTo>
                  <a:lnTo>
                    <a:pt x="1495" y="662"/>
                  </a:lnTo>
                  <a:lnTo>
                    <a:pt x="1499" y="662"/>
                  </a:lnTo>
                  <a:lnTo>
                    <a:pt x="1499" y="639"/>
                  </a:lnTo>
                  <a:lnTo>
                    <a:pt x="1503" y="639"/>
                  </a:lnTo>
                  <a:lnTo>
                    <a:pt x="1503" y="627"/>
                  </a:lnTo>
                  <a:lnTo>
                    <a:pt x="1509" y="627"/>
                  </a:lnTo>
                  <a:lnTo>
                    <a:pt x="1509" y="615"/>
                  </a:lnTo>
                  <a:lnTo>
                    <a:pt x="1513" y="615"/>
                  </a:lnTo>
                  <a:lnTo>
                    <a:pt x="1513" y="598"/>
                  </a:lnTo>
                  <a:lnTo>
                    <a:pt x="1518" y="598"/>
                  </a:lnTo>
                  <a:lnTo>
                    <a:pt x="1518" y="585"/>
                  </a:lnTo>
                  <a:lnTo>
                    <a:pt x="1522" y="585"/>
                  </a:lnTo>
                  <a:lnTo>
                    <a:pt x="1522" y="579"/>
                  </a:lnTo>
                  <a:lnTo>
                    <a:pt x="1528" y="579"/>
                  </a:lnTo>
                  <a:lnTo>
                    <a:pt x="1528" y="568"/>
                  </a:lnTo>
                  <a:lnTo>
                    <a:pt x="1532" y="568"/>
                  </a:lnTo>
                  <a:lnTo>
                    <a:pt x="1532" y="544"/>
                  </a:lnTo>
                  <a:lnTo>
                    <a:pt x="1537" y="544"/>
                  </a:lnTo>
                  <a:lnTo>
                    <a:pt x="1537" y="533"/>
                  </a:lnTo>
                  <a:lnTo>
                    <a:pt x="1542" y="533"/>
                  </a:lnTo>
                  <a:lnTo>
                    <a:pt x="1542" y="526"/>
                  </a:lnTo>
                  <a:lnTo>
                    <a:pt x="1546" y="526"/>
                  </a:lnTo>
                  <a:lnTo>
                    <a:pt x="1546" y="508"/>
                  </a:lnTo>
                  <a:lnTo>
                    <a:pt x="1551" y="508"/>
                  </a:lnTo>
                  <a:lnTo>
                    <a:pt x="1551" y="492"/>
                  </a:lnTo>
                  <a:lnTo>
                    <a:pt x="1556" y="492"/>
                  </a:lnTo>
                  <a:lnTo>
                    <a:pt x="1556" y="479"/>
                  </a:lnTo>
                  <a:lnTo>
                    <a:pt x="1561" y="479"/>
                  </a:lnTo>
                  <a:lnTo>
                    <a:pt x="1561" y="461"/>
                  </a:lnTo>
                  <a:lnTo>
                    <a:pt x="1566" y="461"/>
                  </a:lnTo>
                  <a:lnTo>
                    <a:pt x="1566" y="449"/>
                  </a:lnTo>
                  <a:lnTo>
                    <a:pt x="1571" y="449"/>
                  </a:lnTo>
                  <a:lnTo>
                    <a:pt x="1571" y="443"/>
                  </a:lnTo>
                  <a:lnTo>
                    <a:pt x="1576" y="443"/>
                  </a:lnTo>
                  <a:lnTo>
                    <a:pt x="1576" y="419"/>
                  </a:lnTo>
                  <a:lnTo>
                    <a:pt x="1581" y="419"/>
                  </a:lnTo>
                  <a:lnTo>
                    <a:pt x="1581" y="402"/>
                  </a:lnTo>
                  <a:lnTo>
                    <a:pt x="1585" y="402"/>
                  </a:lnTo>
                  <a:lnTo>
                    <a:pt x="1585" y="384"/>
                  </a:lnTo>
                  <a:lnTo>
                    <a:pt x="1590" y="384"/>
                  </a:lnTo>
                  <a:lnTo>
                    <a:pt x="1590" y="373"/>
                  </a:lnTo>
                  <a:lnTo>
                    <a:pt x="1595" y="373"/>
                  </a:lnTo>
                  <a:lnTo>
                    <a:pt x="1595" y="361"/>
                  </a:lnTo>
                  <a:lnTo>
                    <a:pt x="1599" y="361"/>
                  </a:lnTo>
                  <a:lnTo>
                    <a:pt x="1599" y="348"/>
                  </a:lnTo>
                  <a:lnTo>
                    <a:pt x="1604" y="348"/>
                  </a:lnTo>
                  <a:lnTo>
                    <a:pt x="1604" y="337"/>
                  </a:lnTo>
                  <a:lnTo>
                    <a:pt x="1609" y="337"/>
                  </a:lnTo>
                  <a:lnTo>
                    <a:pt x="1609" y="325"/>
                  </a:lnTo>
                  <a:lnTo>
                    <a:pt x="1614" y="325"/>
                  </a:lnTo>
                  <a:lnTo>
                    <a:pt x="1614" y="307"/>
                  </a:lnTo>
                  <a:lnTo>
                    <a:pt x="1618" y="307"/>
                  </a:lnTo>
                  <a:lnTo>
                    <a:pt x="1618" y="290"/>
                  </a:lnTo>
                  <a:lnTo>
                    <a:pt x="1623" y="290"/>
                  </a:lnTo>
                  <a:lnTo>
                    <a:pt x="1623" y="278"/>
                  </a:lnTo>
                  <a:lnTo>
                    <a:pt x="1628" y="278"/>
                  </a:lnTo>
                  <a:lnTo>
                    <a:pt x="1628" y="261"/>
                  </a:lnTo>
                  <a:lnTo>
                    <a:pt x="1632" y="261"/>
                  </a:lnTo>
                  <a:lnTo>
                    <a:pt x="1632" y="248"/>
                  </a:lnTo>
                  <a:lnTo>
                    <a:pt x="1639" y="248"/>
                  </a:lnTo>
                  <a:lnTo>
                    <a:pt x="1639" y="231"/>
                  </a:lnTo>
                  <a:lnTo>
                    <a:pt x="1643" y="231"/>
                  </a:lnTo>
                  <a:lnTo>
                    <a:pt x="1643" y="212"/>
                  </a:lnTo>
                  <a:lnTo>
                    <a:pt x="1648" y="212"/>
                  </a:lnTo>
                  <a:lnTo>
                    <a:pt x="1648" y="196"/>
                  </a:lnTo>
                  <a:lnTo>
                    <a:pt x="1653" y="196"/>
                  </a:lnTo>
                  <a:lnTo>
                    <a:pt x="1653" y="189"/>
                  </a:lnTo>
                  <a:lnTo>
                    <a:pt x="1657" y="189"/>
                  </a:lnTo>
                  <a:lnTo>
                    <a:pt x="1657" y="184"/>
                  </a:lnTo>
                  <a:lnTo>
                    <a:pt x="1662" y="184"/>
                  </a:lnTo>
                  <a:lnTo>
                    <a:pt x="1662" y="166"/>
                  </a:lnTo>
                  <a:lnTo>
                    <a:pt x="1666" y="166"/>
                  </a:lnTo>
                  <a:lnTo>
                    <a:pt x="1666" y="154"/>
                  </a:lnTo>
                  <a:lnTo>
                    <a:pt x="1672" y="154"/>
                  </a:lnTo>
                  <a:lnTo>
                    <a:pt x="1672" y="142"/>
                  </a:lnTo>
                  <a:lnTo>
                    <a:pt x="1676" y="142"/>
                  </a:lnTo>
                  <a:lnTo>
                    <a:pt x="1676" y="130"/>
                  </a:lnTo>
                  <a:lnTo>
                    <a:pt x="1680" y="130"/>
                  </a:lnTo>
                  <a:lnTo>
                    <a:pt x="1680" y="119"/>
                  </a:lnTo>
                  <a:lnTo>
                    <a:pt x="1686" y="119"/>
                  </a:lnTo>
                  <a:lnTo>
                    <a:pt x="1686" y="106"/>
                  </a:lnTo>
                  <a:lnTo>
                    <a:pt x="1690" y="106"/>
                  </a:lnTo>
                  <a:lnTo>
                    <a:pt x="1690" y="95"/>
                  </a:lnTo>
                  <a:lnTo>
                    <a:pt x="1695" y="95"/>
                  </a:lnTo>
                  <a:lnTo>
                    <a:pt x="1695" y="78"/>
                  </a:lnTo>
                  <a:lnTo>
                    <a:pt x="1700" y="78"/>
                  </a:lnTo>
                  <a:lnTo>
                    <a:pt x="1700" y="48"/>
                  </a:lnTo>
                  <a:lnTo>
                    <a:pt x="1705" y="48"/>
                  </a:lnTo>
                  <a:lnTo>
                    <a:pt x="1705" y="19"/>
                  </a:lnTo>
                  <a:lnTo>
                    <a:pt x="1710" y="19"/>
                  </a:lnTo>
                  <a:lnTo>
                    <a:pt x="1710" y="6"/>
                  </a:lnTo>
                  <a:lnTo>
                    <a:pt x="1729" y="6"/>
                  </a:lnTo>
                  <a:lnTo>
                    <a:pt x="1729" y="0"/>
                  </a:lnTo>
                  <a:lnTo>
                    <a:pt x="1743" y="0"/>
                  </a:lnTo>
                  <a:lnTo>
                    <a:pt x="1743" y="6"/>
                  </a:lnTo>
                  <a:lnTo>
                    <a:pt x="1748" y="6"/>
                  </a:lnTo>
                  <a:lnTo>
                    <a:pt x="1748" y="19"/>
                  </a:lnTo>
                  <a:lnTo>
                    <a:pt x="1753" y="19"/>
                  </a:lnTo>
                  <a:lnTo>
                    <a:pt x="1753" y="24"/>
                  </a:lnTo>
                  <a:lnTo>
                    <a:pt x="1757" y="24"/>
                  </a:lnTo>
                  <a:lnTo>
                    <a:pt x="1757" y="35"/>
                  </a:lnTo>
                  <a:lnTo>
                    <a:pt x="1762" y="35"/>
                  </a:lnTo>
                  <a:lnTo>
                    <a:pt x="1762" y="65"/>
                  </a:lnTo>
                  <a:lnTo>
                    <a:pt x="1767" y="65"/>
                  </a:lnTo>
                  <a:lnTo>
                    <a:pt x="1767" y="84"/>
                  </a:lnTo>
                  <a:lnTo>
                    <a:pt x="1772" y="84"/>
                  </a:lnTo>
                  <a:lnTo>
                    <a:pt x="1772" y="89"/>
                  </a:lnTo>
                  <a:lnTo>
                    <a:pt x="1776" y="89"/>
                  </a:lnTo>
                  <a:lnTo>
                    <a:pt x="1776" y="119"/>
                  </a:lnTo>
                  <a:lnTo>
                    <a:pt x="1783" y="119"/>
                  </a:lnTo>
                  <a:lnTo>
                    <a:pt x="1783" y="137"/>
                  </a:lnTo>
                  <a:lnTo>
                    <a:pt x="1776" y="137"/>
                  </a:lnTo>
                  <a:lnTo>
                    <a:pt x="1776" y="171"/>
                  </a:lnTo>
                  <a:lnTo>
                    <a:pt x="1772" y="171"/>
                  </a:lnTo>
                  <a:lnTo>
                    <a:pt x="1772" y="184"/>
                  </a:lnTo>
                  <a:lnTo>
                    <a:pt x="1767" y="184"/>
                  </a:lnTo>
                  <a:lnTo>
                    <a:pt x="1767" y="196"/>
                  </a:lnTo>
                  <a:lnTo>
                    <a:pt x="1762" y="196"/>
                  </a:lnTo>
                  <a:lnTo>
                    <a:pt x="1762" y="207"/>
                  </a:lnTo>
                  <a:lnTo>
                    <a:pt x="1757" y="207"/>
                  </a:lnTo>
                  <a:lnTo>
                    <a:pt x="1757" y="248"/>
                  </a:lnTo>
                  <a:lnTo>
                    <a:pt x="1753" y="248"/>
                  </a:lnTo>
                  <a:lnTo>
                    <a:pt x="1753" y="272"/>
                  </a:lnTo>
                  <a:lnTo>
                    <a:pt x="1748" y="272"/>
                  </a:lnTo>
                  <a:lnTo>
                    <a:pt x="1748" y="301"/>
                  </a:lnTo>
                  <a:lnTo>
                    <a:pt x="1743" y="301"/>
                  </a:lnTo>
                  <a:lnTo>
                    <a:pt x="1743" y="325"/>
                  </a:lnTo>
                  <a:lnTo>
                    <a:pt x="1739" y="325"/>
                  </a:lnTo>
                  <a:lnTo>
                    <a:pt x="1739" y="337"/>
                  </a:lnTo>
                  <a:lnTo>
                    <a:pt x="1734" y="337"/>
                  </a:lnTo>
                  <a:lnTo>
                    <a:pt x="1734" y="355"/>
                  </a:lnTo>
                  <a:lnTo>
                    <a:pt x="1729" y="355"/>
                  </a:lnTo>
                  <a:lnTo>
                    <a:pt x="1729" y="366"/>
                  </a:lnTo>
                  <a:lnTo>
                    <a:pt x="1724" y="366"/>
                  </a:lnTo>
                  <a:lnTo>
                    <a:pt x="1724" y="384"/>
                  </a:lnTo>
                  <a:lnTo>
                    <a:pt x="1720" y="384"/>
                  </a:lnTo>
                  <a:lnTo>
                    <a:pt x="1720" y="397"/>
                  </a:lnTo>
                  <a:lnTo>
                    <a:pt x="1715" y="397"/>
                  </a:lnTo>
                  <a:lnTo>
                    <a:pt x="1715" y="407"/>
                  </a:lnTo>
                  <a:lnTo>
                    <a:pt x="1710" y="407"/>
                  </a:lnTo>
                  <a:lnTo>
                    <a:pt x="1710" y="426"/>
                  </a:lnTo>
                  <a:lnTo>
                    <a:pt x="1705" y="426"/>
                  </a:lnTo>
                  <a:lnTo>
                    <a:pt x="1705" y="438"/>
                  </a:lnTo>
                  <a:lnTo>
                    <a:pt x="1700" y="438"/>
                  </a:lnTo>
                  <a:lnTo>
                    <a:pt x="1700" y="456"/>
                  </a:lnTo>
                  <a:lnTo>
                    <a:pt x="1695" y="456"/>
                  </a:lnTo>
                  <a:lnTo>
                    <a:pt x="1695" y="467"/>
                  </a:lnTo>
                  <a:lnTo>
                    <a:pt x="1690" y="467"/>
                  </a:lnTo>
                  <a:lnTo>
                    <a:pt x="1690" y="492"/>
                  </a:lnTo>
                  <a:lnTo>
                    <a:pt x="1686" y="492"/>
                  </a:lnTo>
                  <a:lnTo>
                    <a:pt x="1686" y="514"/>
                  </a:lnTo>
                  <a:lnTo>
                    <a:pt x="1680" y="514"/>
                  </a:lnTo>
                  <a:lnTo>
                    <a:pt x="1680" y="526"/>
                  </a:lnTo>
                  <a:lnTo>
                    <a:pt x="1676" y="526"/>
                  </a:lnTo>
                  <a:lnTo>
                    <a:pt x="1676" y="538"/>
                  </a:lnTo>
                  <a:lnTo>
                    <a:pt x="1672" y="538"/>
                  </a:lnTo>
                  <a:lnTo>
                    <a:pt x="1672" y="550"/>
                  </a:lnTo>
                  <a:lnTo>
                    <a:pt x="1666" y="550"/>
                  </a:lnTo>
                  <a:lnTo>
                    <a:pt x="1666" y="568"/>
                  </a:lnTo>
                  <a:lnTo>
                    <a:pt x="1662" y="568"/>
                  </a:lnTo>
                  <a:lnTo>
                    <a:pt x="1662" y="579"/>
                  </a:lnTo>
                  <a:lnTo>
                    <a:pt x="1657" y="579"/>
                  </a:lnTo>
                  <a:lnTo>
                    <a:pt x="1657" y="585"/>
                  </a:lnTo>
                  <a:lnTo>
                    <a:pt x="1653" y="585"/>
                  </a:lnTo>
                  <a:lnTo>
                    <a:pt x="1653" y="598"/>
                  </a:lnTo>
                  <a:lnTo>
                    <a:pt x="1648" y="598"/>
                  </a:lnTo>
                  <a:lnTo>
                    <a:pt x="1648" y="603"/>
                  </a:lnTo>
                  <a:lnTo>
                    <a:pt x="1643" y="603"/>
                  </a:lnTo>
                  <a:lnTo>
                    <a:pt x="1643" y="615"/>
                  </a:lnTo>
                  <a:lnTo>
                    <a:pt x="1639" y="615"/>
                  </a:lnTo>
                  <a:lnTo>
                    <a:pt x="1639" y="627"/>
                  </a:lnTo>
                  <a:lnTo>
                    <a:pt x="1632" y="627"/>
                  </a:lnTo>
                  <a:lnTo>
                    <a:pt x="1632" y="639"/>
                  </a:lnTo>
                  <a:lnTo>
                    <a:pt x="1628" y="639"/>
                  </a:lnTo>
                  <a:lnTo>
                    <a:pt x="1628" y="652"/>
                  </a:lnTo>
                  <a:lnTo>
                    <a:pt x="1623" y="652"/>
                  </a:lnTo>
                  <a:lnTo>
                    <a:pt x="1623" y="657"/>
                  </a:lnTo>
                  <a:lnTo>
                    <a:pt x="1618" y="657"/>
                  </a:lnTo>
                  <a:lnTo>
                    <a:pt x="1618" y="669"/>
                  </a:lnTo>
                  <a:lnTo>
                    <a:pt x="1614" y="669"/>
                  </a:lnTo>
                  <a:lnTo>
                    <a:pt x="1614" y="685"/>
                  </a:lnTo>
                  <a:lnTo>
                    <a:pt x="1609" y="685"/>
                  </a:lnTo>
                  <a:lnTo>
                    <a:pt x="1609" y="710"/>
                  </a:lnTo>
                  <a:lnTo>
                    <a:pt x="1604" y="710"/>
                  </a:lnTo>
                  <a:lnTo>
                    <a:pt x="1604" y="715"/>
                  </a:lnTo>
                  <a:lnTo>
                    <a:pt x="1599" y="715"/>
                  </a:lnTo>
                  <a:lnTo>
                    <a:pt x="1599" y="720"/>
                  </a:lnTo>
                  <a:lnTo>
                    <a:pt x="1595" y="720"/>
                  </a:lnTo>
                  <a:lnTo>
                    <a:pt x="1595" y="751"/>
                  </a:lnTo>
                  <a:lnTo>
                    <a:pt x="1590" y="751"/>
                  </a:lnTo>
                  <a:lnTo>
                    <a:pt x="1590" y="763"/>
                  </a:lnTo>
                  <a:lnTo>
                    <a:pt x="1585" y="763"/>
                  </a:lnTo>
                  <a:lnTo>
                    <a:pt x="1585" y="780"/>
                  </a:lnTo>
                  <a:lnTo>
                    <a:pt x="1581" y="780"/>
                  </a:lnTo>
                  <a:lnTo>
                    <a:pt x="1581" y="786"/>
                  </a:lnTo>
                  <a:lnTo>
                    <a:pt x="1576" y="786"/>
                  </a:lnTo>
                  <a:lnTo>
                    <a:pt x="1576" y="804"/>
                  </a:lnTo>
                  <a:lnTo>
                    <a:pt x="1571" y="804"/>
                  </a:lnTo>
                  <a:lnTo>
                    <a:pt x="1571" y="816"/>
                  </a:lnTo>
                  <a:lnTo>
                    <a:pt x="1566" y="816"/>
                  </a:lnTo>
                  <a:lnTo>
                    <a:pt x="1566" y="827"/>
                  </a:lnTo>
                  <a:lnTo>
                    <a:pt x="1561" y="827"/>
                  </a:lnTo>
                  <a:lnTo>
                    <a:pt x="1561" y="839"/>
                  </a:lnTo>
                  <a:lnTo>
                    <a:pt x="1556" y="839"/>
                  </a:lnTo>
                  <a:lnTo>
                    <a:pt x="1556" y="851"/>
                  </a:lnTo>
                  <a:lnTo>
                    <a:pt x="1551" y="851"/>
                  </a:lnTo>
                  <a:lnTo>
                    <a:pt x="1551" y="862"/>
                  </a:lnTo>
                  <a:lnTo>
                    <a:pt x="1546" y="862"/>
                  </a:lnTo>
                  <a:lnTo>
                    <a:pt x="1546" y="880"/>
                  </a:lnTo>
                  <a:lnTo>
                    <a:pt x="1542" y="880"/>
                  </a:lnTo>
                  <a:lnTo>
                    <a:pt x="1542" y="892"/>
                  </a:lnTo>
                  <a:lnTo>
                    <a:pt x="1537" y="892"/>
                  </a:lnTo>
                  <a:lnTo>
                    <a:pt x="1537" y="905"/>
                  </a:lnTo>
                  <a:lnTo>
                    <a:pt x="1532" y="905"/>
                  </a:lnTo>
                  <a:lnTo>
                    <a:pt x="1532" y="916"/>
                  </a:lnTo>
                  <a:lnTo>
                    <a:pt x="1528" y="916"/>
                  </a:lnTo>
                  <a:lnTo>
                    <a:pt x="1528" y="929"/>
                  </a:lnTo>
                  <a:lnTo>
                    <a:pt x="1522" y="929"/>
                  </a:lnTo>
                  <a:lnTo>
                    <a:pt x="1522" y="934"/>
                  </a:lnTo>
                  <a:lnTo>
                    <a:pt x="1518" y="934"/>
                  </a:lnTo>
                  <a:lnTo>
                    <a:pt x="1518" y="952"/>
                  </a:lnTo>
                  <a:lnTo>
                    <a:pt x="1509" y="952"/>
                  </a:lnTo>
                  <a:lnTo>
                    <a:pt x="1509" y="970"/>
                  </a:lnTo>
                  <a:lnTo>
                    <a:pt x="1503" y="970"/>
                  </a:lnTo>
                  <a:lnTo>
                    <a:pt x="1503" y="981"/>
                  </a:lnTo>
                  <a:lnTo>
                    <a:pt x="1495" y="981"/>
                  </a:lnTo>
                  <a:lnTo>
                    <a:pt x="1495" y="993"/>
                  </a:lnTo>
                  <a:lnTo>
                    <a:pt x="1488" y="993"/>
                  </a:lnTo>
                  <a:lnTo>
                    <a:pt x="1488" y="1011"/>
                  </a:lnTo>
                  <a:lnTo>
                    <a:pt x="1484" y="1011"/>
                  </a:lnTo>
                  <a:lnTo>
                    <a:pt x="1484" y="1023"/>
                  </a:lnTo>
                  <a:lnTo>
                    <a:pt x="1479" y="1023"/>
                  </a:lnTo>
                  <a:lnTo>
                    <a:pt x="1479" y="1028"/>
                  </a:lnTo>
                  <a:lnTo>
                    <a:pt x="1474" y="1028"/>
                  </a:lnTo>
                  <a:lnTo>
                    <a:pt x="1474" y="1047"/>
                  </a:lnTo>
                  <a:lnTo>
                    <a:pt x="1469" y="1047"/>
                  </a:lnTo>
                  <a:lnTo>
                    <a:pt x="1469" y="1052"/>
                  </a:lnTo>
                  <a:lnTo>
                    <a:pt x="1460" y="1052"/>
                  </a:lnTo>
                  <a:lnTo>
                    <a:pt x="1460" y="1065"/>
                  </a:lnTo>
                  <a:lnTo>
                    <a:pt x="1455" y="1065"/>
                  </a:lnTo>
                  <a:lnTo>
                    <a:pt x="1455" y="1082"/>
                  </a:lnTo>
                  <a:lnTo>
                    <a:pt x="1451" y="1082"/>
                  </a:lnTo>
                  <a:lnTo>
                    <a:pt x="1451" y="1093"/>
                  </a:lnTo>
                  <a:lnTo>
                    <a:pt x="1446" y="1093"/>
                  </a:lnTo>
                  <a:lnTo>
                    <a:pt x="1446" y="1100"/>
                  </a:lnTo>
                  <a:lnTo>
                    <a:pt x="1441" y="1100"/>
                  </a:lnTo>
                  <a:lnTo>
                    <a:pt x="1441" y="1106"/>
                  </a:lnTo>
                  <a:lnTo>
                    <a:pt x="1436" y="1106"/>
                  </a:lnTo>
                  <a:lnTo>
                    <a:pt x="1436" y="1117"/>
                  </a:lnTo>
                  <a:lnTo>
                    <a:pt x="1432" y="1117"/>
                  </a:lnTo>
                  <a:lnTo>
                    <a:pt x="1432" y="1129"/>
                  </a:lnTo>
                  <a:lnTo>
                    <a:pt x="1426" y="1129"/>
                  </a:lnTo>
                  <a:lnTo>
                    <a:pt x="1426" y="1141"/>
                  </a:lnTo>
                  <a:lnTo>
                    <a:pt x="1422" y="1141"/>
                  </a:lnTo>
                  <a:lnTo>
                    <a:pt x="1422" y="1158"/>
                  </a:lnTo>
                  <a:lnTo>
                    <a:pt x="1416" y="1158"/>
                  </a:lnTo>
                  <a:lnTo>
                    <a:pt x="1416" y="1171"/>
                  </a:lnTo>
                  <a:lnTo>
                    <a:pt x="1412" y="1171"/>
                  </a:lnTo>
                  <a:lnTo>
                    <a:pt x="1412" y="1183"/>
                  </a:lnTo>
                  <a:lnTo>
                    <a:pt x="1407" y="1183"/>
                  </a:lnTo>
                  <a:lnTo>
                    <a:pt x="1407" y="1201"/>
                  </a:lnTo>
                  <a:lnTo>
                    <a:pt x="1402" y="1201"/>
                  </a:lnTo>
                  <a:lnTo>
                    <a:pt x="1402" y="1218"/>
                  </a:lnTo>
                  <a:lnTo>
                    <a:pt x="1398" y="1218"/>
                  </a:lnTo>
                  <a:lnTo>
                    <a:pt x="1398" y="1236"/>
                  </a:lnTo>
                  <a:lnTo>
                    <a:pt x="1392" y="1236"/>
                  </a:lnTo>
                  <a:lnTo>
                    <a:pt x="1392" y="1253"/>
                  </a:lnTo>
                  <a:lnTo>
                    <a:pt x="1388" y="1253"/>
                  </a:lnTo>
                  <a:lnTo>
                    <a:pt x="1388" y="1270"/>
                  </a:lnTo>
                  <a:lnTo>
                    <a:pt x="1383" y="1270"/>
                  </a:lnTo>
                  <a:lnTo>
                    <a:pt x="1383" y="1277"/>
                  </a:lnTo>
                  <a:lnTo>
                    <a:pt x="1378" y="1277"/>
                  </a:lnTo>
                  <a:lnTo>
                    <a:pt x="1378" y="1288"/>
                  </a:lnTo>
                  <a:lnTo>
                    <a:pt x="1374" y="1288"/>
                  </a:lnTo>
                  <a:lnTo>
                    <a:pt x="1374" y="1300"/>
                  </a:lnTo>
                  <a:lnTo>
                    <a:pt x="1369" y="1300"/>
                  </a:lnTo>
                  <a:lnTo>
                    <a:pt x="1369" y="1307"/>
                  </a:lnTo>
                  <a:lnTo>
                    <a:pt x="1365" y="1307"/>
                  </a:lnTo>
                  <a:lnTo>
                    <a:pt x="1365" y="1312"/>
                  </a:lnTo>
                  <a:lnTo>
                    <a:pt x="1359" y="1312"/>
                  </a:lnTo>
                  <a:lnTo>
                    <a:pt x="1359" y="1330"/>
                  </a:lnTo>
                  <a:lnTo>
                    <a:pt x="1355" y="1330"/>
                  </a:lnTo>
                  <a:lnTo>
                    <a:pt x="1355" y="1335"/>
                  </a:lnTo>
                  <a:lnTo>
                    <a:pt x="1350" y="1335"/>
                  </a:lnTo>
                  <a:lnTo>
                    <a:pt x="1350" y="1348"/>
                  </a:lnTo>
                  <a:lnTo>
                    <a:pt x="1345" y="1348"/>
                  </a:lnTo>
                  <a:lnTo>
                    <a:pt x="1345" y="1365"/>
                  </a:lnTo>
                  <a:lnTo>
                    <a:pt x="1339" y="1365"/>
                  </a:lnTo>
                  <a:lnTo>
                    <a:pt x="1339" y="1378"/>
                  </a:lnTo>
                  <a:lnTo>
                    <a:pt x="1335" y="1378"/>
                  </a:lnTo>
                  <a:lnTo>
                    <a:pt x="1335" y="1389"/>
                  </a:lnTo>
                  <a:lnTo>
                    <a:pt x="1330" y="1389"/>
                  </a:lnTo>
                  <a:lnTo>
                    <a:pt x="1330" y="1401"/>
                  </a:lnTo>
                  <a:lnTo>
                    <a:pt x="1325" y="1401"/>
                  </a:lnTo>
                  <a:lnTo>
                    <a:pt x="1325" y="1419"/>
                  </a:lnTo>
                  <a:lnTo>
                    <a:pt x="1321" y="1419"/>
                  </a:lnTo>
                  <a:lnTo>
                    <a:pt x="1321" y="1430"/>
                  </a:lnTo>
                  <a:lnTo>
                    <a:pt x="1316" y="1430"/>
                  </a:lnTo>
                  <a:lnTo>
                    <a:pt x="1316" y="1438"/>
                  </a:lnTo>
                  <a:lnTo>
                    <a:pt x="1311" y="1438"/>
                  </a:lnTo>
                  <a:lnTo>
                    <a:pt x="1311" y="1443"/>
                  </a:lnTo>
                  <a:lnTo>
                    <a:pt x="1307" y="1443"/>
                  </a:lnTo>
                  <a:lnTo>
                    <a:pt x="1307" y="1454"/>
                  </a:lnTo>
                  <a:lnTo>
                    <a:pt x="1302" y="1454"/>
                  </a:lnTo>
                  <a:lnTo>
                    <a:pt x="1302" y="1471"/>
                  </a:lnTo>
                  <a:lnTo>
                    <a:pt x="1297" y="1471"/>
                  </a:lnTo>
                  <a:lnTo>
                    <a:pt x="1297" y="1490"/>
                  </a:lnTo>
                  <a:lnTo>
                    <a:pt x="1292" y="1490"/>
                  </a:lnTo>
                  <a:lnTo>
                    <a:pt x="1292" y="1501"/>
                  </a:lnTo>
                  <a:lnTo>
                    <a:pt x="1288" y="1501"/>
                  </a:lnTo>
                  <a:lnTo>
                    <a:pt x="1288" y="1514"/>
                  </a:lnTo>
                  <a:lnTo>
                    <a:pt x="1282" y="1514"/>
                  </a:lnTo>
                  <a:lnTo>
                    <a:pt x="1282" y="1525"/>
                  </a:lnTo>
                  <a:lnTo>
                    <a:pt x="1278" y="1525"/>
                  </a:lnTo>
                  <a:lnTo>
                    <a:pt x="1278" y="1531"/>
                  </a:lnTo>
                  <a:lnTo>
                    <a:pt x="1274" y="1531"/>
                  </a:lnTo>
                  <a:lnTo>
                    <a:pt x="1274" y="1544"/>
                  </a:lnTo>
                  <a:lnTo>
                    <a:pt x="1268" y="1544"/>
                  </a:lnTo>
                  <a:lnTo>
                    <a:pt x="1268" y="1566"/>
                  </a:lnTo>
                  <a:lnTo>
                    <a:pt x="1263" y="1566"/>
                  </a:lnTo>
                  <a:lnTo>
                    <a:pt x="1263" y="1579"/>
                  </a:lnTo>
                  <a:lnTo>
                    <a:pt x="1258" y="1579"/>
                  </a:lnTo>
                  <a:lnTo>
                    <a:pt x="1258" y="1607"/>
                  </a:lnTo>
                  <a:lnTo>
                    <a:pt x="1254" y="1607"/>
                  </a:lnTo>
                  <a:lnTo>
                    <a:pt x="1254" y="1625"/>
                  </a:lnTo>
                  <a:lnTo>
                    <a:pt x="1248" y="1625"/>
                  </a:lnTo>
                  <a:lnTo>
                    <a:pt x="1248" y="1637"/>
                  </a:lnTo>
                  <a:lnTo>
                    <a:pt x="1244" y="1637"/>
                  </a:lnTo>
                  <a:lnTo>
                    <a:pt x="1244" y="1649"/>
                  </a:lnTo>
                  <a:lnTo>
                    <a:pt x="1240" y="1649"/>
                  </a:lnTo>
                  <a:lnTo>
                    <a:pt x="1240" y="1666"/>
                  </a:lnTo>
                  <a:lnTo>
                    <a:pt x="1234" y="1666"/>
                  </a:lnTo>
                  <a:lnTo>
                    <a:pt x="1234" y="1685"/>
                  </a:lnTo>
                  <a:lnTo>
                    <a:pt x="1230" y="1685"/>
                  </a:lnTo>
                  <a:lnTo>
                    <a:pt x="1230" y="1697"/>
                  </a:lnTo>
                  <a:lnTo>
                    <a:pt x="1225" y="1697"/>
                  </a:lnTo>
                  <a:lnTo>
                    <a:pt x="1225" y="1720"/>
                  </a:lnTo>
                  <a:lnTo>
                    <a:pt x="1220" y="1720"/>
                  </a:lnTo>
                  <a:lnTo>
                    <a:pt x="1220" y="1726"/>
                  </a:lnTo>
                  <a:lnTo>
                    <a:pt x="1215" y="1726"/>
                  </a:lnTo>
                  <a:lnTo>
                    <a:pt x="1215" y="1743"/>
                  </a:lnTo>
                  <a:lnTo>
                    <a:pt x="1211" y="1743"/>
                  </a:lnTo>
                  <a:lnTo>
                    <a:pt x="1211" y="1756"/>
                  </a:lnTo>
                  <a:lnTo>
                    <a:pt x="1206" y="1756"/>
                  </a:lnTo>
                  <a:lnTo>
                    <a:pt x="1206" y="1792"/>
                  </a:lnTo>
                  <a:lnTo>
                    <a:pt x="1201" y="1792"/>
                  </a:lnTo>
                  <a:lnTo>
                    <a:pt x="1201" y="1815"/>
                  </a:lnTo>
                  <a:lnTo>
                    <a:pt x="1196" y="1815"/>
                  </a:lnTo>
                  <a:lnTo>
                    <a:pt x="1196" y="1838"/>
                  </a:lnTo>
                  <a:lnTo>
                    <a:pt x="1191" y="1838"/>
                  </a:lnTo>
                  <a:lnTo>
                    <a:pt x="1191" y="1857"/>
                  </a:lnTo>
                  <a:lnTo>
                    <a:pt x="1186" y="1857"/>
                  </a:lnTo>
                  <a:lnTo>
                    <a:pt x="1186" y="1898"/>
                  </a:lnTo>
                  <a:lnTo>
                    <a:pt x="1181" y="1898"/>
                  </a:lnTo>
                  <a:lnTo>
                    <a:pt x="1181" y="1921"/>
                  </a:lnTo>
                  <a:lnTo>
                    <a:pt x="1177" y="1921"/>
                  </a:lnTo>
                  <a:lnTo>
                    <a:pt x="1177" y="1939"/>
                  </a:lnTo>
                  <a:lnTo>
                    <a:pt x="1172" y="1939"/>
                  </a:lnTo>
                  <a:lnTo>
                    <a:pt x="1172" y="1962"/>
                  </a:lnTo>
                  <a:lnTo>
                    <a:pt x="1167" y="1962"/>
                  </a:lnTo>
                  <a:lnTo>
                    <a:pt x="1167" y="1979"/>
                  </a:lnTo>
                  <a:lnTo>
                    <a:pt x="1162" y="1979"/>
                  </a:lnTo>
                  <a:lnTo>
                    <a:pt x="1162" y="2010"/>
                  </a:lnTo>
                  <a:lnTo>
                    <a:pt x="1158" y="2010"/>
                  </a:lnTo>
                  <a:lnTo>
                    <a:pt x="1158" y="2015"/>
                  </a:lnTo>
                  <a:lnTo>
                    <a:pt x="1153" y="2015"/>
                  </a:lnTo>
                  <a:lnTo>
                    <a:pt x="1153" y="2069"/>
                  </a:lnTo>
                  <a:lnTo>
                    <a:pt x="1148" y="2069"/>
                  </a:lnTo>
                  <a:lnTo>
                    <a:pt x="1148" y="2093"/>
                  </a:lnTo>
                  <a:lnTo>
                    <a:pt x="1144" y="2093"/>
                  </a:lnTo>
                  <a:lnTo>
                    <a:pt x="1144" y="2146"/>
                  </a:lnTo>
                  <a:lnTo>
                    <a:pt x="1138" y="2146"/>
                  </a:lnTo>
                  <a:lnTo>
                    <a:pt x="1138" y="2170"/>
                  </a:lnTo>
                  <a:lnTo>
                    <a:pt x="1134" y="2170"/>
                  </a:lnTo>
                  <a:lnTo>
                    <a:pt x="1134" y="2199"/>
                  </a:lnTo>
                  <a:lnTo>
                    <a:pt x="1129" y="2199"/>
                  </a:lnTo>
                  <a:lnTo>
                    <a:pt x="1129" y="2229"/>
                  </a:lnTo>
                  <a:lnTo>
                    <a:pt x="1124" y="2229"/>
                  </a:lnTo>
                  <a:lnTo>
                    <a:pt x="1124" y="2281"/>
                  </a:lnTo>
                  <a:lnTo>
                    <a:pt x="1118" y="2281"/>
                  </a:lnTo>
                  <a:lnTo>
                    <a:pt x="1118" y="2335"/>
                  </a:lnTo>
                  <a:lnTo>
                    <a:pt x="1114" y="2335"/>
                  </a:lnTo>
                  <a:lnTo>
                    <a:pt x="1114" y="2359"/>
                  </a:lnTo>
                  <a:lnTo>
                    <a:pt x="1110" y="2359"/>
                  </a:lnTo>
                  <a:lnTo>
                    <a:pt x="1110" y="2371"/>
                  </a:lnTo>
                  <a:lnTo>
                    <a:pt x="1104" y="2371"/>
                  </a:lnTo>
                  <a:lnTo>
                    <a:pt x="1104" y="2400"/>
                  </a:lnTo>
                  <a:lnTo>
                    <a:pt x="1100" y="2400"/>
                  </a:lnTo>
                  <a:lnTo>
                    <a:pt x="1100" y="2417"/>
                  </a:lnTo>
                  <a:lnTo>
                    <a:pt x="1095" y="2417"/>
                  </a:lnTo>
                  <a:lnTo>
                    <a:pt x="1095" y="2435"/>
                  </a:lnTo>
                  <a:lnTo>
                    <a:pt x="1090" y="2435"/>
                  </a:lnTo>
                  <a:lnTo>
                    <a:pt x="1090" y="2447"/>
                  </a:lnTo>
                  <a:lnTo>
                    <a:pt x="1085" y="2447"/>
                  </a:lnTo>
                  <a:lnTo>
                    <a:pt x="1085" y="2493"/>
                  </a:lnTo>
                  <a:lnTo>
                    <a:pt x="1081" y="2493"/>
                  </a:lnTo>
                  <a:lnTo>
                    <a:pt x="1081" y="2525"/>
                  </a:lnTo>
                  <a:lnTo>
                    <a:pt x="1076" y="2525"/>
                  </a:lnTo>
                  <a:lnTo>
                    <a:pt x="1076" y="2559"/>
                  </a:lnTo>
                  <a:lnTo>
                    <a:pt x="1071" y="2559"/>
                  </a:lnTo>
                  <a:lnTo>
                    <a:pt x="1071" y="2653"/>
                  </a:lnTo>
                  <a:lnTo>
                    <a:pt x="1067" y="2653"/>
                  </a:lnTo>
                  <a:lnTo>
                    <a:pt x="1067" y="2730"/>
                  </a:lnTo>
                  <a:lnTo>
                    <a:pt x="1062" y="2730"/>
                  </a:lnTo>
                  <a:lnTo>
                    <a:pt x="1062" y="2760"/>
                  </a:lnTo>
                  <a:lnTo>
                    <a:pt x="1067" y="2760"/>
                  </a:lnTo>
                  <a:lnTo>
                    <a:pt x="1067" y="2779"/>
                  </a:lnTo>
                  <a:lnTo>
                    <a:pt x="1062" y="2779"/>
                  </a:lnTo>
                  <a:lnTo>
                    <a:pt x="1062" y="2808"/>
                  </a:lnTo>
                  <a:lnTo>
                    <a:pt x="1067" y="2808"/>
                  </a:lnTo>
                  <a:lnTo>
                    <a:pt x="1067" y="2860"/>
                  </a:lnTo>
                  <a:lnTo>
                    <a:pt x="1071" y="2860"/>
                  </a:lnTo>
                  <a:lnTo>
                    <a:pt x="1071" y="2879"/>
                  </a:lnTo>
                  <a:lnTo>
                    <a:pt x="1067" y="2879"/>
                  </a:lnTo>
                  <a:lnTo>
                    <a:pt x="1067" y="2966"/>
                  </a:lnTo>
                  <a:lnTo>
                    <a:pt x="1071" y="2966"/>
                  </a:lnTo>
                  <a:lnTo>
                    <a:pt x="1071" y="2979"/>
                  </a:lnTo>
                  <a:lnTo>
                    <a:pt x="1067" y="2979"/>
                  </a:lnTo>
                  <a:lnTo>
                    <a:pt x="1067" y="2991"/>
                  </a:lnTo>
                  <a:lnTo>
                    <a:pt x="1071" y="2991"/>
                  </a:lnTo>
                  <a:lnTo>
                    <a:pt x="1071" y="3044"/>
                  </a:lnTo>
                  <a:lnTo>
                    <a:pt x="1076" y="3044"/>
                  </a:lnTo>
                  <a:lnTo>
                    <a:pt x="1076" y="3121"/>
                  </a:lnTo>
                  <a:lnTo>
                    <a:pt x="1081" y="3121"/>
                  </a:lnTo>
                  <a:lnTo>
                    <a:pt x="1081" y="3203"/>
                  </a:lnTo>
                  <a:lnTo>
                    <a:pt x="1085" y="3203"/>
                  </a:lnTo>
                  <a:lnTo>
                    <a:pt x="1085" y="3245"/>
                  </a:lnTo>
                  <a:lnTo>
                    <a:pt x="1090" y="3245"/>
                  </a:lnTo>
                  <a:lnTo>
                    <a:pt x="1090" y="3292"/>
                  </a:lnTo>
                  <a:lnTo>
                    <a:pt x="1095" y="3292"/>
                  </a:lnTo>
                  <a:lnTo>
                    <a:pt x="1095" y="3316"/>
                  </a:lnTo>
                  <a:lnTo>
                    <a:pt x="1100" y="3316"/>
                  </a:lnTo>
                  <a:lnTo>
                    <a:pt x="1100" y="3333"/>
                  </a:lnTo>
                  <a:lnTo>
                    <a:pt x="1104" y="3333"/>
                  </a:lnTo>
                  <a:lnTo>
                    <a:pt x="1104" y="3363"/>
                  </a:lnTo>
                  <a:lnTo>
                    <a:pt x="1110" y="3363"/>
                  </a:lnTo>
                  <a:lnTo>
                    <a:pt x="1110" y="3393"/>
                  </a:lnTo>
                  <a:lnTo>
                    <a:pt x="1114" y="3393"/>
                  </a:lnTo>
                  <a:lnTo>
                    <a:pt x="1114" y="3417"/>
                  </a:lnTo>
                  <a:lnTo>
                    <a:pt x="1118" y="3417"/>
                  </a:lnTo>
                  <a:lnTo>
                    <a:pt x="1118" y="3439"/>
                  </a:lnTo>
                  <a:lnTo>
                    <a:pt x="1124" y="3439"/>
                  </a:lnTo>
                  <a:lnTo>
                    <a:pt x="1124" y="3470"/>
                  </a:lnTo>
                  <a:lnTo>
                    <a:pt x="1129" y="3470"/>
                  </a:lnTo>
                  <a:lnTo>
                    <a:pt x="1129" y="3488"/>
                  </a:lnTo>
                  <a:lnTo>
                    <a:pt x="1134" y="3488"/>
                  </a:lnTo>
                  <a:lnTo>
                    <a:pt x="1134" y="3499"/>
                  </a:lnTo>
                  <a:lnTo>
                    <a:pt x="1138" y="3499"/>
                  </a:lnTo>
                  <a:lnTo>
                    <a:pt x="1138" y="3523"/>
                  </a:lnTo>
                  <a:lnTo>
                    <a:pt x="1144" y="3523"/>
                  </a:lnTo>
                  <a:lnTo>
                    <a:pt x="1144" y="3553"/>
                  </a:lnTo>
                  <a:lnTo>
                    <a:pt x="1148" y="3553"/>
                  </a:lnTo>
                  <a:lnTo>
                    <a:pt x="1148" y="3570"/>
                  </a:lnTo>
                  <a:lnTo>
                    <a:pt x="1153" y="3570"/>
                  </a:lnTo>
                  <a:lnTo>
                    <a:pt x="1153" y="3594"/>
                  </a:lnTo>
                  <a:lnTo>
                    <a:pt x="1158" y="3594"/>
                  </a:lnTo>
                  <a:lnTo>
                    <a:pt x="1158" y="3624"/>
                  </a:lnTo>
                  <a:lnTo>
                    <a:pt x="1162" y="3624"/>
                  </a:lnTo>
                  <a:lnTo>
                    <a:pt x="1162" y="3630"/>
                  </a:lnTo>
                  <a:lnTo>
                    <a:pt x="1167" y="3630"/>
                  </a:lnTo>
                  <a:lnTo>
                    <a:pt x="1167" y="3641"/>
                  </a:lnTo>
                  <a:lnTo>
                    <a:pt x="1172" y="3641"/>
                  </a:lnTo>
                  <a:lnTo>
                    <a:pt x="1172" y="3653"/>
                  </a:lnTo>
                  <a:lnTo>
                    <a:pt x="1177" y="3653"/>
                  </a:lnTo>
                  <a:lnTo>
                    <a:pt x="1177" y="3665"/>
                  </a:lnTo>
                  <a:lnTo>
                    <a:pt x="1181" y="3665"/>
                  </a:lnTo>
                  <a:lnTo>
                    <a:pt x="1181" y="3676"/>
                  </a:lnTo>
                  <a:lnTo>
                    <a:pt x="1186" y="3676"/>
                  </a:lnTo>
                  <a:lnTo>
                    <a:pt x="1186" y="3689"/>
                  </a:lnTo>
                  <a:lnTo>
                    <a:pt x="1191" y="3689"/>
                  </a:lnTo>
                  <a:lnTo>
                    <a:pt x="1191" y="3700"/>
                  </a:lnTo>
                  <a:lnTo>
                    <a:pt x="1196" y="3700"/>
                  </a:lnTo>
                  <a:lnTo>
                    <a:pt x="1196" y="3711"/>
                  </a:lnTo>
                  <a:lnTo>
                    <a:pt x="1201" y="3711"/>
                  </a:lnTo>
                  <a:lnTo>
                    <a:pt x="1201" y="3724"/>
                  </a:lnTo>
                  <a:lnTo>
                    <a:pt x="1206" y="3724"/>
                  </a:lnTo>
                  <a:lnTo>
                    <a:pt x="1206" y="3742"/>
                  </a:lnTo>
                  <a:lnTo>
                    <a:pt x="1211" y="3742"/>
                  </a:lnTo>
                  <a:lnTo>
                    <a:pt x="1211" y="3752"/>
                  </a:lnTo>
                  <a:lnTo>
                    <a:pt x="1215" y="3752"/>
                  </a:lnTo>
                  <a:lnTo>
                    <a:pt x="1215" y="3765"/>
                  </a:lnTo>
                  <a:lnTo>
                    <a:pt x="1220" y="3765"/>
                  </a:lnTo>
                  <a:lnTo>
                    <a:pt x="1220" y="3784"/>
                  </a:lnTo>
                  <a:lnTo>
                    <a:pt x="1225" y="3784"/>
                  </a:lnTo>
                  <a:lnTo>
                    <a:pt x="1225" y="3789"/>
                  </a:lnTo>
                  <a:lnTo>
                    <a:pt x="1230" y="3789"/>
                  </a:lnTo>
                  <a:lnTo>
                    <a:pt x="1230" y="3801"/>
                  </a:lnTo>
                  <a:lnTo>
                    <a:pt x="1234" y="3801"/>
                  </a:lnTo>
                  <a:lnTo>
                    <a:pt x="1234" y="3819"/>
                  </a:lnTo>
                  <a:lnTo>
                    <a:pt x="1240" y="3819"/>
                  </a:lnTo>
                  <a:lnTo>
                    <a:pt x="1240" y="3830"/>
                  </a:lnTo>
                  <a:lnTo>
                    <a:pt x="1244" y="3830"/>
                  </a:lnTo>
                  <a:lnTo>
                    <a:pt x="1244" y="3836"/>
                  </a:lnTo>
                  <a:lnTo>
                    <a:pt x="1248" y="3836"/>
                  </a:lnTo>
                  <a:lnTo>
                    <a:pt x="1248" y="3847"/>
                  </a:lnTo>
                  <a:lnTo>
                    <a:pt x="1254" y="3847"/>
                  </a:lnTo>
                  <a:lnTo>
                    <a:pt x="1254" y="3860"/>
                  </a:lnTo>
                  <a:lnTo>
                    <a:pt x="1258" y="3860"/>
                  </a:lnTo>
                  <a:lnTo>
                    <a:pt x="1258" y="3871"/>
                  </a:lnTo>
                  <a:lnTo>
                    <a:pt x="1263" y="3871"/>
                  </a:lnTo>
                  <a:lnTo>
                    <a:pt x="1263" y="3883"/>
                  </a:lnTo>
                  <a:lnTo>
                    <a:pt x="1268" y="3883"/>
                  </a:lnTo>
                  <a:lnTo>
                    <a:pt x="1268" y="3895"/>
                  </a:lnTo>
                  <a:lnTo>
                    <a:pt x="1274" y="3895"/>
                  </a:lnTo>
                  <a:lnTo>
                    <a:pt x="1274" y="3907"/>
                  </a:lnTo>
                  <a:lnTo>
                    <a:pt x="1278" y="3907"/>
                  </a:lnTo>
                  <a:lnTo>
                    <a:pt x="1278" y="3920"/>
                  </a:lnTo>
                  <a:lnTo>
                    <a:pt x="1282" y="3920"/>
                  </a:lnTo>
                  <a:lnTo>
                    <a:pt x="1282" y="3931"/>
                  </a:lnTo>
                  <a:lnTo>
                    <a:pt x="1288" y="3931"/>
                  </a:lnTo>
                  <a:lnTo>
                    <a:pt x="1288" y="3943"/>
                  </a:lnTo>
                  <a:lnTo>
                    <a:pt x="1292" y="3943"/>
                  </a:lnTo>
                  <a:lnTo>
                    <a:pt x="1292" y="3953"/>
                  </a:lnTo>
                  <a:lnTo>
                    <a:pt x="1297" y="3953"/>
                  </a:lnTo>
                  <a:lnTo>
                    <a:pt x="1297" y="3961"/>
                  </a:lnTo>
                  <a:lnTo>
                    <a:pt x="1302" y="3961"/>
                  </a:lnTo>
                  <a:lnTo>
                    <a:pt x="1302" y="3978"/>
                  </a:lnTo>
                  <a:lnTo>
                    <a:pt x="1307" y="3978"/>
                  </a:lnTo>
                  <a:lnTo>
                    <a:pt x="1307" y="3985"/>
                  </a:lnTo>
                  <a:lnTo>
                    <a:pt x="1311" y="3985"/>
                  </a:lnTo>
                  <a:lnTo>
                    <a:pt x="1311" y="3996"/>
                  </a:lnTo>
                  <a:lnTo>
                    <a:pt x="1316" y="3996"/>
                  </a:lnTo>
                  <a:lnTo>
                    <a:pt x="1316" y="4002"/>
                  </a:lnTo>
                  <a:lnTo>
                    <a:pt x="1321" y="4002"/>
                  </a:lnTo>
                  <a:lnTo>
                    <a:pt x="1321" y="4007"/>
                  </a:lnTo>
                  <a:lnTo>
                    <a:pt x="1325" y="4007"/>
                  </a:lnTo>
                  <a:lnTo>
                    <a:pt x="1325" y="4013"/>
                  </a:lnTo>
                  <a:lnTo>
                    <a:pt x="1330" y="4013"/>
                  </a:lnTo>
                  <a:lnTo>
                    <a:pt x="1330" y="4026"/>
                  </a:lnTo>
                  <a:lnTo>
                    <a:pt x="1335" y="4026"/>
                  </a:lnTo>
                  <a:lnTo>
                    <a:pt x="1335" y="4038"/>
                  </a:lnTo>
                  <a:lnTo>
                    <a:pt x="1339" y="4038"/>
                  </a:lnTo>
                  <a:lnTo>
                    <a:pt x="1339" y="4049"/>
                  </a:lnTo>
                  <a:lnTo>
                    <a:pt x="1345" y="4049"/>
                  </a:lnTo>
                  <a:lnTo>
                    <a:pt x="1345" y="4061"/>
                  </a:lnTo>
                  <a:lnTo>
                    <a:pt x="1350" y="4061"/>
                  </a:lnTo>
                  <a:lnTo>
                    <a:pt x="1350" y="4072"/>
                  </a:lnTo>
                  <a:lnTo>
                    <a:pt x="1355" y="4072"/>
                  </a:lnTo>
                  <a:lnTo>
                    <a:pt x="1355" y="4079"/>
                  </a:lnTo>
                  <a:lnTo>
                    <a:pt x="1359" y="4079"/>
                  </a:lnTo>
                  <a:lnTo>
                    <a:pt x="1359" y="4097"/>
                  </a:lnTo>
                  <a:lnTo>
                    <a:pt x="1365" y="4097"/>
                  </a:lnTo>
                  <a:lnTo>
                    <a:pt x="1365" y="4108"/>
                  </a:lnTo>
                  <a:lnTo>
                    <a:pt x="1369" y="4108"/>
                  </a:lnTo>
                  <a:lnTo>
                    <a:pt x="1369" y="4119"/>
                  </a:lnTo>
                  <a:lnTo>
                    <a:pt x="1374" y="4119"/>
                  </a:lnTo>
                  <a:lnTo>
                    <a:pt x="1374" y="4126"/>
                  </a:lnTo>
                  <a:lnTo>
                    <a:pt x="1378" y="4126"/>
                  </a:lnTo>
                  <a:lnTo>
                    <a:pt x="1378" y="4131"/>
                  </a:lnTo>
                  <a:lnTo>
                    <a:pt x="1383" y="4131"/>
                  </a:lnTo>
                  <a:lnTo>
                    <a:pt x="1383" y="4143"/>
                  </a:lnTo>
                  <a:lnTo>
                    <a:pt x="1388" y="4143"/>
                  </a:lnTo>
                  <a:lnTo>
                    <a:pt x="1388" y="4155"/>
                  </a:lnTo>
                  <a:lnTo>
                    <a:pt x="1392" y="4155"/>
                  </a:lnTo>
                  <a:lnTo>
                    <a:pt x="1392" y="4167"/>
                  </a:lnTo>
                  <a:lnTo>
                    <a:pt x="1398" y="4167"/>
                  </a:lnTo>
                  <a:lnTo>
                    <a:pt x="1398" y="4173"/>
                  </a:lnTo>
                  <a:lnTo>
                    <a:pt x="1402" y="4173"/>
                  </a:lnTo>
                  <a:lnTo>
                    <a:pt x="1402" y="4184"/>
                  </a:lnTo>
                  <a:lnTo>
                    <a:pt x="1407" y="4184"/>
                  </a:lnTo>
                  <a:lnTo>
                    <a:pt x="1407" y="4203"/>
                  </a:lnTo>
                  <a:lnTo>
                    <a:pt x="1412" y="4203"/>
                  </a:lnTo>
                  <a:lnTo>
                    <a:pt x="1412" y="4214"/>
                  </a:lnTo>
                  <a:lnTo>
                    <a:pt x="1416" y="4214"/>
                  </a:lnTo>
                  <a:lnTo>
                    <a:pt x="1416" y="4225"/>
                  </a:lnTo>
                  <a:lnTo>
                    <a:pt x="1422" y="4225"/>
                  </a:lnTo>
                  <a:lnTo>
                    <a:pt x="1422" y="4238"/>
                  </a:lnTo>
                  <a:lnTo>
                    <a:pt x="1426" y="4238"/>
                  </a:lnTo>
                  <a:lnTo>
                    <a:pt x="1426" y="4244"/>
                  </a:lnTo>
                  <a:lnTo>
                    <a:pt x="1432" y="4244"/>
                  </a:lnTo>
                  <a:lnTo>
                    <a:pt x="1432" y="4249"/>
                  </a:lnTo>
                  <a:lnTo>
                    <a:pt x="1436" y="4249"/>
                  </a:lnTo>
                  <a:lnTo>
                    <a:pt x="1436" y="4262"/>
                  </a:lnTo>
                  <a:lnTo>
                    <a:pt x="1441" y="4262"/>
                  </a:lnTo>
                  <a:lnTo>
                    <a:pt x="1441" y="4285"/>
                  </a:lnTo>
                  <a:lnTo>
                    <a:pt x="1446" y="4285"/>
                  </a:lnTo>
                  <a:lnTo>
                    <a:pt x="1446" y="4309"/>
                  </a:lnTo>
                  <a:lnTo>
                    <a:pt x="1441" y="4309"/>
                  </a:lnTo>
                  <a:lnTo>
                    <a:pt x="1441" y="4315"/>
                  </a:lnTo>
                  <a:lnTo>
                    <a:pt x="1436" y="4315"/>
                  </a:lnTo>
                  <a:lnTo>
                    <a:pt x="1436" y="4339"/>
                  </a:lnTo>
                  <a:lnTo>
                    <a:pt x="1432" y="4339"/>
                  </a:lnTo>
                  <a:lnTo>
                    <a:pt x="1432" y="4344"/>
                  </a:lnTo>
                  <a:lnTo>
                    <a:pt x="1426" y="4344"/>
                  </a:lnTo>
                  <a:lnTo>
                    <a:pt x="1426" y="4350"/>
                  </a:lnTo>
                  <a:lnTo>
                    <a:pt x="1416" y="4350"/>
                  </a:lnTo>
                  <a:lnTo>
                    <a:pt x="1416" y="4356"/>
                  </a:lnTo>
                  <a:lnTo>
                    <a:pt x="1412" y="4356"/>
                  </a:lnTo>
                  <a:lnTo>
                    <a:pt x="1412" y="4368"/>
                  </a:lnTo>
                  <a:lnTo>
                    <a:pt x="1402" y="4368"/>
                  </a:lnTo>
                  <a:lnTo>
                    <a:pt x="1402" y="4380"/>
                  </a:lnTo>
                  <a:lnTo>
                    <a:pt x="1398" y="4380"/>
                  </a:lnTo>
                  <a:lnTo>
                    <a:pt x="1398" y="4385"/>
                  </a:lnTo>
                  <a:lnTo>
                    <a:pt x="1388" y="4385"/>
                  </a:lnTo>
                  <a:lnTo>
                    <a:pt x="1388" y="4398"/>
                  </a:lnTo>
                  <a:lnTo>
                    <a:pt x="1383" y="4398"/>
                  </a:lnTo>
                  <a:lnTo>
                    <a:pt x="1383" y="4404"/>
                  </a:lnTo>
                  <a:lnTo>
                    <a:pt x="1378" y="4404"/>
                  </a:lnTo>
                  <a:lnTo>
                    <a:pt x="1378" y="4410"/>
                  </a:lnTo>
                  <a:lnTo>
                    <a:pt x="1369" y="4410"/>
                  </a:lnTo>
                  <a:lnTo>
                    <a:pt x="1369" y="4416"/>
                  </a:lnTo>
                  <a:lnTo>
                    <a:pt x="1359" y="4416"/>
                  </a:lnTo>
                  <a:lnTo>
                    <a:pt x="1359" y="4421"/>
                  </a:lnTo>
                  <a:lnTo>
                    <a:pt x="1355" y="4421"/>
                  </a:lnTo>
                  <a:lnTo>
                    <a:pt x="1355" y="4426"/>
                  </a:lnTo>
                  <a:lnTo>
                    <a:pt x="1345" y="4426"/>
                  </a:lnTo>
                  <a:lnTo>
                    <a:pt x="1345" y="4434"/>
                  </a:lnTo>
                  <a:lnTo>
                    <a:pt x="1339" y="4434"/>
                  </a:lnTo>
                  <a:lnTo>
                    <a:pt x="1339" y="4439"/>
                  </a:lnTo>
                  <a:lnTo>
                    <a:pt x="1335" y="4439"/>
                  </a:lnTo>
                  <a:lnTo>
                    <a:pt x="1335" y="4445"/>
                  </a:lnTo>
                  <a:lnTo>
                    <a:pt x="1330" y="4445"/>
                  </a:lnTo>
                  <a:lnTo>
                    <a:pt x="1330" y="4451"/>
                  </a:lnTo>
                  <a:lnTo>
                    <a:pt x="1321" y="4451"/>
                  </a:lnTo>
                  <a:lnTo>
                    <a:pt x="1321" y="4457"/>
                  </a:lnTo>
                  <a:lnTo>
                    <a:pt x="1316" y="4457"/>
                  </a:lnTo>
                  <a:lnTo>
                    <a:pt x="1316" y="4462"/>
                  </a:lnTo>
                  <a:lnTo>
                    <a:pt x="1311" y="4462"/>
                  </a:lnTo>
                  <a:lnTo>
                    <a:pt x="1311" y="4469"/>
                  </a:lnTo>
                  <a:lnTo>
                    <a:pt x="1302" y="4469"/>
                  </a:lnTo>
                  <a:lnTo>
                    <a:pt x="1302" y="4475"/>
                  </a:lnTo>
                  <a:lnTo>
                    <a:pt x="1297" y="4475"/>
                  </a:lnTo>
                  <a:lnTo>
                    <a:pt x="1297" y="4480"/>
                  </a:lnTo>
                  <a:lnTo>
                    <a:pt x="1288" y="4480"/>
                  </a:lnTo>
                  <a:lnTo>
                    <a:pt x="1288" y="4486"/>
                  </a:lnTo>
                  <a:lnTo>
                    <a:pt x="1282" y="4486"/>
                  </a:lnTo>
                  <a:lnTo>
                    <a:pt x="1282" y="4499"/>
                  </a:lnTo>
                  <a:lnTo>
                    <a:pt x="1278" y="4499"/>
                  </a:lnTo>
                  <a:lnTo>
                    <a:pt x="1278" y="4504"/>
                  </a:lnTo>
                  <a:lnTo>
                    <a:pt x="1274" y="4504"/>
                  </a:lnTo>
                  <a:lnTo>
                    <a:pt x="1274" y="4510"/>
                  </a:lnTo>
                  <a:lnTo>
                    <a:pt x="1263" y="4510"/>
                  </a:lnTo>
                  <a:lnTo>
                    <a:pt x="1263" y="4516"/>
                  </a:lnTo>
                  <a:lnTo>
                    <a:pt x="1258" y="4516"/>
                  </a:lnTo>
                  <a:lnTo>
                    <a:pt x="1258" y="4529"/>
                  </a:lnTo>
                  <a:lnTo>
                    <a:pt x="1254" y="4529"/>
                  </a:lnTo>
                  <a:lnTo>
                    <a:pt x="1254" y="4534"/>
                  </a:lnTo>
                  <a:lnTo>
                    <a:pt x="1248" y="4534"/>
                  </a:lnTo>
                  <a:lnTo>
                    <a:pt x="1248" y="4539"/>
                  </a:lnTo>
                  <a:lnTo>
                    <a:pt x="1244" y="4539"/>
                  </a:lnTo>
                  <a:lnTo>
                    <a:pt x="1244" y="4545"/>
                  </a:lnTo>
                  <a:lnTo>
                    <a:pt x="1240" y="4545"/>
                  </a:lnTo>
                  <a:lnTo>
                    <a:pt x="1240" y="4551"/>
                  </a:lnTo>
                  <a:lnTo>
                    <a:pt x="1230" y="4551"/>
                  </a:lnTo>
                  <a:lnTo>
                    <a:pt x="1230" y="4557"/>
                  </a:lnTo>
                  <a:lnTo>
                    <a:pt x="1225" y="4557"/>
                  </a:lnTo>
                  <a:lnTo>
                    <a:pt x="1225" y="4562"/>
                  </a:lnTo>
                  <a:lnTo>
                    <a:pt x="1215" y="4562"/>
                  </a:lnTo>
                  <a:lnTo>
                    <a:pt x="1215" y="4570"/>
                  </a:lnTo>
                  <a:lnTo>
                    <a:pt x="1211" y="4570"/>
                  </a:lnTo>
                  <a:lnTo>
                    <a:pt x="1211" y="4575"/>
                  </a:lnTo>
                  <a:lnTo>
                    <a:pt x="1206" y="4575"/>
                  </a:lnTo>
                  <a:lnTo>
                    <a:pt x="1206" y="4580"/>
                  </a:lnTo>
                  <a:lnTo>
                    <a:pt x="1201" y="4580"/>
                  </a:lnTo>
                  <a:lnTo>
                    <a:pt x="1201" y="4587"/>
                  </a:lnTo>
                  <a:lnTo>
                    <a:pt x="1196" y="4587"/>
                  </a:lnTo>
                  <a:lnTo>
                    <a:pt x="1196" y="4592"/>
                  </a:lnTo>
                  <a:lnTo>
                    <a:pt x="1191" y="4592"/>
                  </a:lnTo>
                  <a:lnTo>
                    <a:pt x="1191" y="4598"/>
                  </a:lnTo>
                  <a:lnTo>
                    <a:pt x="1186" y="4598"/>
                  </a:lnTo>
                  <a:lnTo>
                    <a:pt x="1186" y="4603"/>
                  </a:lnTo>
                  <a:lnTo>
                    <a:pt x="1181" y="4603"/>
                  </a:lnTo>
                  <a:lnTo>
                    <a:pt x="1181" y="4611"/>
                  </a:lnTo>
                  <a:lnTo>
                    <a:pt x="1172" y="4611"/>
                  </a:lnTo>
                  <a:lnTo>
                    <a:pt x="1172" y="4616"/>
                  </a:lnTo>
                  <a:lnTo>
                    <a:pt x="1167" y="4616"/>
                  </a:lnTo>
                  <a:lnTo>
                    <a:pt x="1167" y="4622"/>
                  </a:lnTo>
                  <a:lnTo>
                    <a:pt x="1158" y="4622"/>
                  </a:lnTo>
                  <a:lnTo>
                    <a:pt x="1158" y="4628"/>
                  </a:lnTo>
                  <a:lnTo>
                    <a:pt x="1148" y="4628"/>
                  </a:lnTo>
                  <a:lnTo>
                    <a:pt x="1148" y="4633"/>
                  </a:lnTo>
                  <a:lnTo>
                    <a:pt x="1144" y="4633"/>
                  </a:lnTo>
                  <a:lnTo>
                    <a:pt x="1144" y="4640"/>
                  </a:lnTo>
                  <a:lnTo>
                    <a:pt x="1134" y="4640"/>
                  </a:lnTo>
                  <a:lnTo>
                    <a:pt x="1134" y="4646"/>
                  </a:lnTo>
                  <a:lnTo>
                    <a:pt x="1129" y="4646"/>
                  </a:lnTo>
                  <a:lnTo>
                    <a:pt x="1129" y="4652"/>
                  </a:lnTo>
                  <a:lnTo>
                    <a:pt x="1118" y="4652"/>
                  </a:lnTo>
                  <a:lnTo>
                    <a:pt x="1118" y="4657"/>
                  </a:lnTo>
                  <a:lnTo>
                    <a:pt x="1114" y="4657"/>
                  </a:lnTo>
                  <a:lnTo>
                    <a:pt x="1114" y="4663"/>
                  </a:lnTo>
                  <a:lnTo>
                    <a:pt x="1110" y="4663"/>
                  </a:lnTo>
                  <a:lnTo>
                    <a:pt x="1110" y="4670"/>
                  </a:lnTo>
                  <a:lnTo>
                    <a:pt x="1104" y="4670"/>
                  </a:lnTo>
                  <a:lnTo>
                    <a:pt x="1104" y="4681"/>
                  </a:lnTo>
                  <a:lnTo>
                    <a:pt x="1100" y="4681"/>
                  </a:lnTo>
                  <a:lnTo>
                    <a:pt x="1100" y="4687"/>
                  </a:lnTo>
                  <a:lnTo>
                    <a:pt x="1090" y="4687"/>
                  </a:lnTo>
                  <a:lnTo>
                    <a:pt x="1090" y="4693"/>
                  </a:lnTo>
                  <a:lnTo>
                    <a:pt x="1081" y="4693"/>
                  </a:lnTo>
                  <a:lnTo>
                    <a:pt x="1081" y="4698"/>
                  </a:lnTo>
                  <a:lnTo>
                    <a:pt x="1071" y="4698"/>
                  </a:lnTo>
                  <a:lnTo>
                    <a:pt x="1071" y="4706"/>
                  </a:lnTo>
                  <a:lnTo>
                    <a:pt x="1067" y="4706"/>
                  </a:lnTo>
                  <a:lnTo>
                    <a:pt x="1067" y="4711"/>
                  </a:lnTo>
                  <a:lnTo>
                    <a:pt x="1062" y="4711"/>
                  </a:lnTo>
                  <a:lnTo>
                    <a:pt x="1062" y="4717"/>
                  </a:lnTo>
                  <a:lnTo>
                    <a:pt x="1057" y="4717"/>
                  </a:lnTo>
                  <a:lnTo>
                    <a:pt x="1057" y="4722"/>
                  </a:lnTo>
                  <a:lnTo>
                    <a:pt x="1047" y="4722"/>
                  </a:lnTo>
                  <a:lnTo>
                    <a:pt x="1047" y="4729"/>
                  </a:lnTo>
                  <a:lnTo>
                    <a:pt x="1041" y="4729"/>
                  </a:lnTo>
                  <a:lnTo>
                    <a:pt x="1041" y="4734"/>
                  </a:lnTo>
                  <a:lnTo>
                    <a:pt x="1037" y="4734"/>
                  </a:lnTo>
                  <a:lnTo>
                    <a:pt x="1037" y="4739"/>
                  </a:lnTo>
                  <a:lnTo>
                    <a:pt x="1028" y="4739"/>
                  </a:lnTo>
                  <a:lnTo>
                    <a:pt x="1028" y="4747"/>
                  </a:lnTo>
                  <a:lnTo>
                    <a:pt x="1023" y="4747"/>
                  </a:lnTo>
                  <a:lnTo>
                    <a:pt x="1023" y="4752"/>
                  </a:lnTo>
                  <a:lnTo>
                    <a:pt x="1014" y="4752"/>
                  </a:lnTo>
                  <a:lnTo>
                    <a:pt x="1014" y="4758"/>
                  </a:lnTo>
                  <a:lnTo>
                    <a:pt x="1008" y="4758"/>
                  </a:lnTo>
                  <a:lnTo>
                    <a:pt x="1008" y="4764"/>
                  </a:lnTo>
                  <a:lnTo>
                    <a:pt x="999" y="4764"/>
                  </a:lnTo>
                  <a:lnTo>
                    <a:pt x="999" y="4771"/>
                  </a:lnTo>
                  <a:lnTo>
                    <a:pt x="990" y="4771"/>
                  </a:lnTo>
                  <a:lnTo>
                    <a:pt x="990" y="4776"/>
                  </a:lnTo>
                  <a:lnTo>
                    <a:pt x="980" y="4776"/>
                  </a:lnTo>
                  <a:lnTo>
                    <a:pt x="980" y="4782"/>
                  </a:lnTo>
                  <a:lnTo>
                    <a:pt x="970" y="4782"/>
                  </a:lnTo>
                  <a:lnTo>
                    <a:pt x="970" y="4788"/>
                  </a:lnTo>
                  <a:lnTo>
                    <a:pt x="960" y="4788"/>
                  </a:lnTo>
                  <a:lnTo>
                    <a:pt x="960" y="4793"/>
                  </a:lnTo>
                  <a:lnTo>
                    <a:pt x="956" y="4793"/>
                  </a:lnTo>
                  <a:lnTo>
                    <a:pt x="956" y="4799"/>
                  </a:lnTo>
                  <a:lnTo>
                    <a:pt x="951" y="4799"/>
                  </a:lnTo>
                  <a:lnTo>
                    <a:pt x="951" y="4806"/>
                  </a:lnTo>
                  <a:lnTo>
                    <a:pt x="946" y="4806"/>
                  </a:lnTo>
                  <a:lnTo>
                    <a:pt x="946" y="4812"/>
                  </a:lnTo>
                  <a:lnTo>
                    <a:pt x="941" y="4812"/>
                  </a:lnTo>
                  <a:lnTo>
                    <a:pt x="941" y="4817"/>
                  </a:lnTo>
                  <a:lnTo>
                    <a:pt x="932" y="4817"/>
                  </a:lnTo>
                  <a:lnTo>
                    <a:pt x="932" y="4823"/>
                  </a:lnTo>
                  <a:lnTo>
                    <a:pt x="923" y="4823"/>
                  </a:lnTo>
                  <a:lnTo>
                    <a:pt x="923" y="4829"/>
                  </a:lnTo>
                  <a:lnTo>
                    <a:pt x="918" y="4829"/>
                  </a:lnTo>
                  <a:lnTo>
                    <a:pt x="918" y="4836"/>
                  </a:lnTo>
                  <a:lnTo>
                    <a:pt x="907" y="4836"/>
                  </a:lnTo>
                  <a:lnTo>
                    <a:pt x="907" y="4841"/>
                  </a:lnTo>
                  <a:lnTo>
                    <a:pt x="893" y="4841"/>
                  </a:lnTo>
                  <a:lnTo>
                    <a:pt x="893" y="4847"/>
                  </a:lnTo>
                  <a:lnTo>
                    <a:pt x="879" y="4847"/>
                  </a:lnTo>
                  <a:lnTo>
                    <a:pt x="879" y="4853"/>
                  </a:lnTo>
                  <a:lnTo>
                    <a:pt x="870" y="4853"/>
                  </a:lnTo>
                  <a:lnTo>
                    <a:pt x="870" y="4858"/>
                  </a:lnTo>
                  <a:lnTo>
                    <a:pt x="860" y="4858"/>
                  </a:lnTo>
                  <a:lnTo>
                    <a:pt x="860" y="4866"/>
                  </a:lnTo>
                  <a:lnTo>
                    <a:pt x="846" y="4866"/>
                  </a:lnTo>
                  <a:lnTo>
                    <a:pt x="846" y="4871"/>
                  </a:lnTo>
                  <a:lnTo>
                    <a:pt x="835" y="4871"/>
                  </a:lnTo>
                  <a:lnTo>
                    <a:pt x="835" y="4877"/>
                  </a:lnTo>
                  <a:lnTo>
                    <a:pt x="826" y="4877"/>
                  </a:lnTo>
                  <a:lnTo>
                    <a:pt x="826" y="4888"/>
                  </a:lnTo>
                  <a:lnTo>
                    <a:pt x="821" y="4888"/>
                  </a:lnTo>
                  <a:lnTo>
                    <a:pt x="821" y="4894"/>
                  </a:lnTo>
                  <a:lnTo>
                    <a:pt x="816" y="4894"/>
                  </a:lnTo>
                  <a:lnTo>
                    <a:pt x="816" y="4899"/>
                  </a:lnTo>
                  <a:lnTo>
                    <a:pt x="812" y="4899"/>
                  </a:lnTo>
                  <a:lnTo>
                    <a:pt x="812" y="4907"/>
                  </a:lnTo>
                  <a:lnTo>
                    <a:pt x="807" y="4907"/>
                  </a:lnTo>
                  <a:lnTo>
                    <a:pt x="807" y="4912"/>
                  </a:lnTo>
                  <a:lnTo>
                    <a:pt x="793" y="4912"/>
                  </a:lnTo>
                  <a:lnTo>
                    <a:pt x="793" y="4907"/>
                  </a:lnTo>
                  <a:lnTo>
                    <a:pt x="788" y="4907"/>
                  </a:lnTo>
                  <a:lnTo>
                    <a:pt x="788" y="4899"/>
                  </a:lnTo>
                  <a:lnTo>
                    <a:pt x="783" y="4899"/>
                  </a:lnTo>
                  <a:lnTo>
                    <a:pt x="783" y="4894"/>
                  </a:lnTo>
                  <a:lnTo>
                    <a:pt x="774" y="4894"/>
                  </a:lnTo>
                  <a:lnTo>
                    <a:pt x="774" y="4888"/>
                  </a:lnTo>
                  <a:lnTo>
                    <a:pt x="769" y="4888"/>
                  </a:lnTo>
                  <a:lnTo>
                    <a:pt x="769" y="4883"/>
                  </a:lnTo>
                  <a:lnTo>
                    <a:pt x="763" y="4883"/>
                  </a:lnTo>
                  <a:lnTo>
                    <a:pt x="763" y="4871"/>
                  </a:lnTo>
                  <a:lnTo>
                    <a:pt x="774" y="4871"/>
                  </a:lnTo>
                  <a:lnTo>
                    <a:pt x="774" y="4858"/>
                  </a:lnTo>
                  <a:lnTo>
                    <a:pt x="778" y="4858"/>
                  </a:lnTo>
                  <a:lnTo>
                    <a:pt x="778" y="4853"/>
                  </a:lnTo>
                  <a:lnTo>
                    <a:pt x="783" y="4853"/>
                  </a:lnTo>
                  <a:lnTo>
                    <a:pt x="783" y="4847"/>
                  </a:lnTo>
                  <a:lnTo>
                    <a:pt x="797" y="4847"/>
                  </a:lnTo>
                  <a:lnTo>
                    <a:pt x="797" y="4841"/>
                  </a:lnTo>
                  <a:lnTo>
                    <a:pt x="802" y="4841"/>
                  </a:lnTo>
                  <a:lnTo>
                    <a:pt x="802" y="4836"/>
                  </a:lnTo>
                  <a:lnTo>
                    <a:pt x="812" y="4836"/>
                  </a:lnTo>
                  <a:lnTo>
                    <a:pt x="812" y="4829"/>
                  </a:lnTo>
                  <a:lnTo>
                    <a:pt x="826" y="4829"/>
                  </a:lnTo>
                  <a:lnTo>
                    <a:pt x="826" y="4823"/>
                  </a:lnTo>
                  <a:lnTo>
                    <a:pt x="830" y="4823"/>
                  </a:lnTo>
                  <a:lnTo>
                    <a:pt x="830" y="4817"/>
                  </a:lnTo>
                  <a:lnTo>
                    <a:pt x="835" y="4817"/>
                  </a:lnTo>
                  <a:lnTo>
                    <a:pt x="835" y="4812"/>
                  </a:lnTo>
                  <a:lnTo>
                    <a:pt x="841" y="4812"/>
                  </a:lnTo>
                  <a:lnTo>
                    <a:pt x="841" y="4806"/>
                  </a:lnTo>
                  <a:lnTo>
                    <a:pt x="850" y="4806"/>
                  </a:lnTo>
                  <a:lnTo>
                    <a:pt x="850" y="4799"/>
                  </a:lnTo>
                  <a:lnTo>
                    <a:pt x="864" y="4799"/>
                  </a:lnTo>
                  <a:lnTo>
                    <a:pt x="864" y="4793"/>
                  </a:lnTo>
                  <a:lnTo>
                    <a:pt x="874" y="4793"/>
                  </a:lnTo>
                  <a:lnTo>
                    <a:pt x="874" y="4788"/>
                  </a:lnTo>
                  <a:lnTo>
                    <a:pt x="889" y="4788"/>
                  </a:lnTo>
                  <a:lnTo>
                    <a:pt x="889" y="4782"/>
                  </a:lnTo>
                  <a:lnTo>
                    <a:pt x="898" y="4782"/>
                  </a:lnTo>
                  <a:lnTo>
                    <a:pt x="898" y="4776"/>
                  </a:lnTo>
                  <a:lnTo>
                    <a:pt x="907" y="4776"/>
                  </a:lnTo>
                  <a:lnTo>
                    <a:pt x="907" y="4771"/>
                  </a:lnTo>
                  <a:lnTo>
                    <a:pt x="923" y="4771"/>
                  </a:lnTo>
                  <a:lnTo>
                    <a:pt x="923" y="4764"/>
                  </a:lnTo>
                  <a:lnTo>
                    <a:pt x="927" y="4764"/>
                  </a:lnTo>
                  <a:lnTo>
                    <a:pt x="927" y="4758"/>
                  </a:lnTo>
                  <a:lnTo>
                    <a:pt x="937" y="4758"/>
                  </a:lnTo>
                  <a:lnTo>
                    <a:pt x="937" y="4752"/>
                  </a:lnTo>
                  <a:lnTo>
                    <a:pt x="941" y="4752"/>
                  </a:lnTo>
                  <a:lnTo>
                    <a:pt x="941" y="4747"/>
                  </a:lnTo>
                  <a:lnTo>
                    <a:pt x="946" y="4747"/>
                  </a:lnTo>
                  <a:lnTo>
                    <a:pt x="946" y="4739"/>
                  </a:lnTo>
                  <a:lnTo>
                    <a:pt x="956" y="4739"/>
                  </a:lnTo>
                  <a:lnTo>
                    <a:pt x="956" y="4734"/>
                  </a:lnTo>
                  <a:lnTo>
                    <a:pt x="960" y="4734"/>
                  </a:lnTo>
                  <a:lnTo>
                    <a:pt x="960" y="4729"/>
                  </a:lnTo>
                  <a:lnTo>
                    <a:pt x="974" y="4729"/>
                  </a:lnTo>
                  <a:lnTo>
                    <a:pt x="974" y="4722"/>
                  </a:lnTo>
                  <a:lnTo>
                    <a:pt x="985" y="4722"/>
                  </a:lnTo>
                  <a:lnTo>
                    <a:pt x="985" y="4711"/>
                  </a:lnTo>
                  <a:lnTo>
                    <a:pt x="994" y="4711"/>
                  </a:lnTo>
                  <a:lnTo>
                    <a:pt x="994" y="4706"/>
                  </a:lnTo>
                  <a:lnTo>
                    <a:pt x="999" y="4706"/>
                  </a:lnTo>
                  <a:lnTo>
                    <a:pt x="999" y="4698"/>
                  </a:lnTo>
                  <a:lnTo>
                    <a:pt x="1004" y="4698"/>
                  </a:lnTo>
                  <a:lnTo>
                    <a:pt x="1004" y="4693"/>
                  </a:lnTo>
                  <a:lnTo>
                    <a:pt x="1023" y="4693"/>
                  </a:lnTo>
                  <a:lnTo>
                    <a:pt x="1023" y="4687"/>
                  </a:lnTo>
                  <a:lnTo>
                    <a:pt x="1033" y="4687"/>
                  </a:lnTo>
                  <a:lnTo>
                    <a:pt x="1033" y="4681"/>
                  </a:lnTo>
                  <a:lnTo>
                    <a:pt x="1037" y="4681"/>
                  </a:lnTo>
                  <a:lnTo>
                    <a:pt x="1037" y="4676"/>
                  </a:lnTo>
                  <a:lnTo>
                    <a:pt x="1041" y="4676"/>
                  </a:lnTo>
                  <a:lnTo>
                    <a:pt x="1041" y="4670"/>
                  </a:lnTo>
                  <a:lnTo>
                    <a:pt x="1051" y="4670"/>
                  </a:lnTo>
                  <a:lnTo>
                    <a:pt x="1051" y="4663"/>
                  </a:lnTo>
                  <a:lnTo>
                    <a:pt x="1057" y="4663"/>
                  </a:lnTo>
                  <a:lnTo>
                    <a:pt x="1057" y="4657"/>
                  </a:lnTo>
                  <a:lnTo>
                    <a:pt x="1062" y="4657"/>
                  </a:lnTo>
                  <a:lnTo>
                    <a:pt x="1062" y="4652"/>
                  </a:lnTo>
                  <a:lnTo>
                    <a:pt x="1067" y="4652"/>
                  </a:lnTo>
                  <a:lnTo>
                    <a:pt x="1067" y="4646"/>
                  </a:lnTo>
                  <a:lnTo>
                    <a:pt x="1071" y="4646"/>
                  </a:lnTo>
                  <a:lnTo>
                    <a:pt x="1071" y="4640"/>
                  </a:lnTo>
                  <a:lnTo>
                    <a:pt x="1076" y="4640"/>
                  </a:lnTo>
                  <a:lnTo>
                    <a:pt x="1076" y="4633"/>
                  </a:lnTo>
                  <a:lnTo>
                    <a:pt x="1081" y="4633"/>
                  </a:lnTo>
                  <a:lnTo>
                    <a:pt x="1081" y="4628"/>
                  </a:lnTo>
                  <a:lnTo>
                    <a:pt x="1085" y="4628"/>
                  </a:lnTo>
                  <a:lnTo>
                    <a:pt x="1085" y="4622"/>
                  </a:lnTo>
                  <a:lnTo>
                    <a:pt x="1090" y="4622"/>
                  </a:lnTo>
                  <a:lnTo>
                    <a:pt x="1090" y="4616"/>
                  </a:lnTo>
                  <a:lnTo>
                    <a:pt x="1100" y="4616"/>
                  </a:lnTo>
                  <a:lnTo>
                    <a:pt x="1100" y="4611"/>
                  </a:lnTo>
                  <a:lnTo>
                    <a:pt x="1104" y="4611"/>
                  </a:lnTo>
                  <a:lnTo>
                    <a:pt x="1104" y="4603"/>
                  </a:lnTo>
                  <a:lnTo>
                    <a:pt x="1110" y="4603"/>
                  </a:lnTo>
                  <a:lnTo>
                    <a:pt x="1110" y="4598"/>
                  </a:lnTo>
                  <a:lnTo>
                    <a:pt x="1114" y="4598"/>
                  </a:lnTo>
                  <a:lnTo>
                    <a:pt x="1114" y="4592"/>
                  </a:lnTo>
                  <a:lnTo>
                    <a:pt x="1118" y="4592"/>
                  </a:lnTo>
                  <a:lnTo>
                    <a:pt x="1118" y="4587"/>
                  </a:lnTo>
                  <a:lnTo>
                    <a:pt x="1124" y="4587"/>
                  </a:lnTo>
                  <a:lnTo>
                    <a:pt x="1124" y="4580"/>
                  </a:lnTo>
                  <a:lnTo>
                    <a:pt x="1134" y="4580"/>
                  </a:lnTo>
                  <a:lnTo>
                    <a:pt x="1134" y="4575"/>
                  </a:lnTo>
                  <a:lnTo>
                    <a:pt x="1138" y="4575"/>
                  </a:lnTo>
                  <a:lnTo>
                    <a:pt x="1138" y="4570"/>
                  </a:lnTo>
                  <a:lnTo>
                    <a:pt x="1144" y="4570"/>
                  </a:lnTo>
                  <a:lnTo>
                    <a:pt x="1144" y="4562"/>
                  </a:lnTo>
                  <a:lnTo>
                    <a:pt x="1153" y="4562"/>
                  </a:lnTo>
                  <a:lnTo>
                    <a:pt x="1153" y="4557"/>
                  </a:lnTo>
                  <a:lnTo>
                    <a:pt x="1158" y="4557"/>
                  </a:lnTo>
                  <a:lnTo>
                    <a:pt x="1158" y="4551"/>
                  </a:lnTo>
                  <a:lnTo>
                    <a:pt x="1162" y="4551"/>
                  </a:lnTo>
                  <a:lnTo>
                    <a:pt x="1162" y="4545"/>
                  </a:lnTo>
                  <a:lnTo>
                    <a:pt x="1172" y="4545"/>
                  </a:lnTo>
                  <a:lnTo>
                    <a:pt x="1172" y="4539"/>
                  </a:lnTo>
                  <a:lnTo>
                    <a:pt x="1177" y="4539"/>
                  </a:lnTo>
                  <a:lnTo>
                    <a:pt x="1177" y="4534"/>
                  </a:lnTo>
                  <a:lnTo>
                    <a:pt x="1181" y="4534"/>
                  </a:lnTo>
                  <a:lnTo>
                    <a:pt x="1181" y="4529"/>
                  </a:lnTo>
                  <a:lnTo>
                    <a:pt x="1186" y="4529"/>
                  </a:lnTo>
                  <a:lnTo>
                    <a:pt x="1186" y="4521"/>
                  </a:lnTo>
                  <a:lnTo>
                    <a:pt x="1196" y="4521"/>
                  </a:lnTo>
                  <a:lnTo>
                    <a:pt x="1196" y="4516"/>
                  </a:lnTo>
                  <a:lnTo>
                    <a:pt x="1201" y="4516"/>
                  </a:lnTo>
                  <a:lnTo>
                    <a:pt x="1201" y="4510"/>
                  </a:lnTo>
                  <a:lnTo>
                    <a:pt x="1211" y="4510"/>
                  </a:lnTo>
                  <a:lnTo>
                    <a:pt x="1211" y="4504"/>
                  </a:lnTo>
                  <a:lnTo>
                    <a:pt x="1215" y="4504"/>
                  </a:lnTo>
                  <a:lnTo>
                    <a:pt x="1215" y="4499"/>
                  </a:lnTo>
                  <a:lnTo>
                    <a:pt x="1225" y="4499"/>
                  </a:lnTo>
                  <a:lnTo>
                    <a:pt x="1225" y="4486"/>
                  </a:lnTo>
                  <a:lnTo>
                    <a:pt x="1230" y="4486"/>
                  </a:lnTo>
                  <a:lnTo>
                    <a:pt x="1230" y="4480"/>
                  </a:lnTo>
                  <a:lnTo>
                    <a:pt x="1234" y="4480"/>
                  </a:lnTo>
                  <a:lnTo>
                    <a:pt x="1234" y="4475"/>
                  </a:lnTo>
                  <a:lnTo>
                    <a:pt x="1240" y="4475"/>
                  </a:lnTo>
                  <a:lnTo>
                    <a:pt x="1240" y="4469"/>
                  </a:lnTo>
                  <a:lnTo>
                    <a:pt x="1244" y="4469"/>
                  </a:lnTo>
                  <a:lnTo>
                    <a:pt x="1244" y="4462"/>
                  </a:lnTo>
                  <a:lnTo>
                    <a:pt x="1248" y="4462"/>
                  </a:lnTo>
                  <a:lnTo>
                    <a:pt x="1248" y="4457"/>
                  </a:lnTo>
                  <a:lnTo>
                    <a:pt x="1258" y="4457"/>
                  </a:lnTo>
                  <a:lnTo>
                    <a:pt x="1258" y="4451"/>
                  </a:lnTo>
                  <a:lnTo>
                    <a:pt x="1263" y="4451"/>
                  </a:lnTo>
                  <a:lnTo>
                    <a:pt x="1263" y="4445"/>
                  </a:lnTo>
                  <a:lnTo>
                    <a:pt x="1268" y="4445"/>
                  </a:lnTo>
                  <a:lnTo>
                    <a:pt x="1268" y="4439"/>
                  </a:lnTo>
                  <a:lnTo>
                    <a:pt x="1278" y="4439"/>
                  </a:lnTo>
                  <a:lnTo>
                    <a:pt x="1278" y="4426"/>
                  </a:lnTo>
                  <a:lnTo>
                    <a:pt x="1282" y="4426"/>
                  </a:lnTo>
                  <a:lnTo>
                    <a:pt x="1282" y="4421"/>
                  </a:lnTo>
                  <a:lnTo>
                    <a:pt x="1288" y="4421"/>
                  </a:lnTo>
                  <a:lnTo>
                    <a:pt x="1288" y="4416"/>
                  </a:lnTo>
                  <a:lnTo>
                    <a:pt x="1292" y="4416"/>
                  </a:lnTo>
                  <a:lnTo>
                    <a:pt x="1292" y="4410"/>
                  </a:lnTo>
                  <a:lnTo>
                    <a:pt x="1297" y="4410"/>
                  </a:lnTo>
                  <a:lnTo>
                    <a:pt x="1297" y="4404"/>
                  </a:lnTo>
                  <a:lnTo>
                    <a:pt x="1307" y="4404"/>
                  </a:lnTo>
                  <a:lnTo>
                    <a:pt x="1307" y="4398"/>
                  </a:lnTo>
                  <a:lnTo>
                    <a:pt x="1311" y="4398"/>
                  </a:lnTo>
                  <a:lnTo>
                    <a:pt x="1311" y="4393"/>
                  </a:lnTo>
                  <a:lnTo>
                    <a:pt x="1316" y="4393"/>
                  </a:lnTo>
                  <a:lnTo>
                    <a:pt x="1316" y="4385"/>
                  </a:lnTo>
                  <a:lnTo>
                    <a:pt x="1325" y="4385"/>
                  </a:lnTo>
                  <a:lnTo>
                    <a:pt x="1325" y="4380"/>
                  </a:lnTo>
                  <a:lnTo>
                    <a:pt x="1330" y="4380"/>
                  </a:lnTo>
                  <a:lnTo>
                    <a:pt x="1330" y="4374"/>
                  </a:lnTo>
                  <a:lnTo>
                    <a:pt x="1339" y="4374"/>
                  </a:lnTo>
                  <a:lnTo>
                    <a:pt x="1339" y="4368"/>
                  </a:lnTo>
                  <a:lnTo>
                    <a:pt x="1345" y="4368"/>
                  </a:lnTo>
                  <a:lnTo>
                    <a:pt x="1345" y="4363"/>
                  </a:lnTo>
                  <a:lnTo>
                    <a:pt x="1350" y="4363"/>
                  </a:lnTo>
                  <a:lnTo>
                    <a:pt x="1350" y="4356"/>
                  </a:lnTo>
                  <a:lnTo>
                    <a:pt x="1355" y="4356"/>
                  </a:lnTo>
                  <a:lnTo>
                    <a:pt x="1355" y="4350"/>
                  </a:lnTo>
                  <a:lnTo>
                    <a:pt x="1359" y="4350"/>
                  </a:lnTo>
                  <a:lnTo>
                    <a:pt x="1359" y="4344"/>
                  </a:lnTo>
                  <a:lnTo>
                    <a:pt x="1365" y="4344"/>
                  </a:lnTo>
                  <a:lnTo>
                    <a:pt x="1365" y="4339"/>
                  </a:lnTo>
                  <a:lnTo>
                    <a:pt x="1374" y="4339"/>
                  </a:lnTo>
                  <a:lnTo>
                    <a:pt x="1374" y="4326"/>
                  </a:lnTo>
                  <a:lnTo>
                    <a:pt x="1378" y="4326"/>
                  </a:lnTo>
                  <a:lnTo>
                    <a:pt x="1378" y="4320"/>
                  </a:lnTo>
                  <a:lnTo>
                    <a:pt x="1383" y="4320"/>
                  </a:lnTo>
                  <a:lnTo>
                    <a:pt x="1383" y="4274"/>
                  </a:lnTo>
                  <a:lnTo>
                    <a:pt x="1378" y="4274"/>
                  </a:lnTo>
                  <a:lnTo>
                    <a:pt x="1378" y="4262"/>
                  </a:lnTo>
                  <a:lnTo>
                    <a:pt x="1374" y="4262"/>
                  </a:lnTo>
                  <a:lnTo>
                    <a:pt x="1374" y="4244"/>
                  </a:lnTo>
                  <a:lnTo>
                    <a:pt x="1369" y="4244"/>
                  </a:lnTo>
                  <a:lnTo>
                    <a:pt x="1369" y="4238"/>
                  </a:lnTo>
                  <a:lnTo>
                    <a:pt x="1365" y="4238"/>
                  </a:lnTo>
                  <a:lnTo>
                    <a:pt x="1365" y="4225"/>
                  </a:lnTo>
                  <a:lnTo>
                    <a:pt x="1359" y="4225"/>
                  </a:lnTo>
                  <a:lnTo>
                    <a:pt x="1359" y="4214"/>
                  </a:lnTo>
                  <a:lnTo>
                    <a:pt x="1355" y="4214"/>
                  </a:lnTo>
                  <a:lnTo>
                    <a:pt x="1355" y="4208"/>
                  </a:lnTo>
                  <a:lnTo>
                    <a:pt x="1350" y="4208"/>
                  </a:lnTo>
                  <a:lnTo>
                    <a:pt x="1350" y="4190"/>
                  </a:lnTo>
                  <a:lnTo>
                    <a:pt x="1345" y="4190"/>
                  </a:lnTo>
                  <a:lnTo>
                    <a:pt x="1345" y="4184"/>
                  </a:lnTo>
                  <a:lnTo>
                    <a:pt x="1339" y="4184"/>
                  </a:lnTo>
                  <a:lnTo>
                    <a:pt x="1339" y="4179"/>
                  </a:lnTo>
                  <a:lnTo>
                    <a:pt x="1335" y="4179"/>
                  </a:lnTo>
                  <a:lnTo>
                    <a:pt x="1335" y="4167"/>
                  </a:lnTo>
                  <a:lnTo>
                    <a:pt x="1330" y="4167"/>
                  </a:lnTo>
                  <a:lnTo>
                    <a:pt x="1330" y="4162"/>
                  </a:lnTo>
                  <a:lnTo>
                    <a:pt x="1325" y="4162"/>
                  </a:lnTo>
                  <a:lnTo>
                    <a:pt x="1325" y="4149"/>
                  </a:lnTo>
                  <a:lnTo>
                    <a:pt x="1321" y="4149"/>
                  </a:lnTo>
                  <a:lnTo>
                    <a:pt x="1321" y="4143"/>
                  </a:lnTo>
                  <a:lnTo>
                    <a:pt x="1316" y="4143"/>
                  </a:lnTo>
                  <a:lnTo>
                    <a:pt x="1316" y="4138"/>
                  </a:lnTo>
                  <a:lnTo>
                    <a:pt x="1311" y="4138"/>
                  </a:lnTo>
                  <a:lnTo>
                    <a:pt x="1311" y="4108"/>
                  </a:lnTo>
                  <a:lnTo>
                    <a:pt x="1307" y="4108"/>
                  </a:lnTo>
                  <a:lnTo>
                    <a:pt x="1307" y="4102"/>
                  </a:lnTo>
                  <a:lnTo>
                    <a:pt x="1302" y="4102"/>
                  </a:lnTo>
                  <a:lnTo>
                    <a:pt x="1302" y="4089"/>
                  </a:lnTo>
                  <a:lnTo>
                    <a:pt x="1297" y="4089"/>
                  </a:lnTo>
                  <a:lnTo>
                    <a:pt x="1297" y="4079"/>
                  </a:lnTo>
                  <a:lnTo>
                    <a:pt x="1292" y="4079"/>
                  </a:lnTo>
                  <a:lnTo>
                    <a:pt x="1292" y="4067"/>
                  </a:lnTo>
                  <a:lnTo>
                    <a:pt x="1288" y="4067"/>
                  </a:lnTo>
                  <a:lnTo>
                    <a:pt x="1288" y="4049"/>
                  </a:lnTo>
                  <a:lnTo>
                    <a:pt x="1282" y="4049"/>
                  </a:lnTo>
                  <a:lnTo>
                    <a:pt x="1282" y="4043"/>
                  </a:lnTo>
                  <a:lnTo>
                    <a:pt x="1278" y="4043"/>
                  </a:lnTo>
                  <a:lnTo>
                    <a:pt x="1278" y="4031"/>
                  </a:lnTo>
                  <a:lnTo>
                    <a:pt x="1274" y="4031"/>
                  </a:lnTo>
                  <a:lnTo>
                    <a:pt x="1274" y="4019"/>
                  </a:lnTo>
                  <a:lnTo>
                    <a:pt x="1268" y="4019"/>
                  </a:lnTo>
                  <a:lnTo>
                    <a:pt x="1268" y="4002"/>
                  </a:lnTo>
                  <a:lnTo>
                    <a:pt x="1263" y="4002"/>
                  </a:lnTo>
                  <a:lnTo>
                    <a:pt x="1263" y="3996"/>
                  </a:lnTo>
                  <a:lnTo>
                    <a:pt x="1258" y="3996"/>
                  </a:lnTo>
                  <a:lnTo>
                    <a:pt x="1258" y="3985"/>
                  </a:lnTo>
                  <a:lnTo>
                    <a:pt x="1254" y="3985"/>
                  </a:lnTo>
                  <a:lnTo>
                    <a:pt x="1254" y="3966"/>
                  </a:lnTo>
                  <a:lnTo>
                    <a:pt x="1248" y="3966"/>
                  </a:lnTo>
                  <a:lnTo>
                    <a:pt x="1248" y="3961"/>
                  </a:lnTo>
                  <a:lnTo>
                    <a:pt x="1244" y="3961"/>
                  </a:lnTo>
                  <a:lnTo>
                    <a:pt x="1244" y="3948"/>
                  </a:lnTo>
                  <a:lnTo>
                    <a:pt x="1240" y="3948"/>
                  </a:lnTo>
                  <a:lnTo>
                    <a:pt x="1240" y="3931"/>
                  </a:lnTo>
                  <a:lnTo>
                    <a:pt x="1234" y="3931"/>
                  </a:lnTo>
                  <a:lnTo>
                    <a:pt x="1234" y="3925"/>
                  </a:lnTo>
                  <a:lnTo>
                    <a:pt x="1230" y="3925"/>
                  </a:lnTo>
                  <a:lnTo>
                    <a:pt x="1230" y="3912"/>
                  </a:lnTo>
                  <a:lnTo>
                    <a:pt x="1225" y="3912"/>
                  </a:lnTo>
                  <a:lnTo>
                    <a:pt x="1225" y="3901"/>
                  </a:lnTo>
                  <a:lnTo>
                    <a:pt x="1220" y="3901"/>
                  </a:lnTo>
                  <a:lnTo>
                    <a:pt x="1220" y="3890"/>
                  </a:lnTo>
                  <a:lnTo>
                    <a:pt x="1215" y="3890"/>
                  </a:lnTo>
                  <a:lnTo>
                    <a:pt x="1215" y="3877"/>
                  </a:lnTo>
                  <a:lnTo>
                    <a:pt x="1211" y="3877"/>
                  </a:lnTo>
                  <a:lnTo>
                    <a:pt x="1211" y="3871"/>
                  </a:lnTo>
                  <a:lnTo>
                    <a:pt x="1206" y="3871"/>
                  </a:lnTo>
                  <a:lnTo>
                    <a:pt x="1206" y="3866"/>
                  </a:lnTo>
                  <a:lnTo>
                    <a:pt x="1201" y="3866"/>
                  </a:lnTo>
                  <a:lnTo>
                    <a:pt x="1201" y="3854"/>
                  </a:lnTo>
                  <a:lnTo>
                    <a:pt x="1196" y="3854"/>
                  </a:lnTo>
                  <a:lnTo>
                    <a:pt x="1196" y="3847"/>
                  </a:lnTo>
                  <a:lnTo>
                    <a:pt x="1191" y="3847"/>
                  </a:lnTo>
                  <a:lnTo>
                    <a:pt x="1191" y="3836"/>
                  </a:lnTo>
                  <a:lnTo>
                    <a:pt x="1186" y="3836"/>
                  </a:lnTo>
                  <a:lnTo>
                    <a:pt x="1186" y="3825"/>
                  </a:lnTo>
                  <a:lnTo>
                    <a:pt x="1181" y="3825"/>
                  </a:lnTo>
                  <a:lnTo>
                    <a:pt x="1181" y="3812"/>
                  </a:lnTo>
                  <a:lnTo>
                    <a:pt x="1177" y="3812"/>
                  </a:lnTo>
                  <a:lnTo>
                    <a:pt x="1177" y="3795"/>
                  </a:lnTo>
                  <a:lnTo>
                    <a:pt x="1172" y="3795"/>
                  </a:lnTo>
                  <a:lnTo>
                    <a:pt x="1172" y="3784"/>
                  </a:lnTo>
                  <a:lnTo>
                    <a:pt x="1167" y="3784"/>
                  </a:lnTo>
                  <a:lnTo>
                    <a:pt x="1167" y="3771"/>
                  </a:lnTo>
                  <a:lnTo>
                    <a:pt x="1162" y="3771"/>
                  </a:lnTo>
                  <a:lnTo>
                    <a:pt x="1162" y="3760"/>
                  </a:lnTo>
                  <a:lnTo>
                    <a:pt x="1158" y="3760"/>
                  </a:lnTo>
                  <a:lnTo>
                    <a:pt x="1158" y="3747"/>
                  </a:lnTo>
                  <a:lnTo>
                    <a:pt x="1153" y="3747"/>
                  </a:lnTo>
                  <a:lnTo>
                    <a:pt x="1153" y="3730"/>
                  </a:lnTo>
                  <a:lnTo>
                    <a:pt x="1148" y="3730"/>
                  </a:lnTo>
                  <a:lnTo>
                    <a:pt x="1148" y="3717"/>
                  </a:lnTo>
                  <a:lnTo>
                    <a:pt x="1144" y="3717"/>
                  </a:lnTo>
                  <a:lnTo>
                    <a:pt x="1144" y="3711"/>
                  </a:lnTo>
                  <a:lnTo>
                    <a:pt x="1138" y="3711"/>
                  </a:lnTo>
                  <a:lnTo>
                    <a:pt x="1138" y="3700"/>
                  </a:lnTo>
                  <a:lnTo>
                    <a:pt x="1134" y="3700"/>
                  </a:lnTo>
                  <a:lnTo>
                    <a:pt x="1134" y="3683"/>
                  </a:lnTo>
                  <a:lnTo>
                    <a:pt x="1129" y="3683"/>
                  </a:lnTo>
                  <a:lnTo>
                    <a:pt x="1129" y="3676"/>
                  </a:lnTo>
                  <a:lnTo>
                    <a:pt x="1124" y="3676"/>
                  </a:lnTo>
                  <a:lnTo>
                    <a:pt x="1124" y="3648"/>
                  </a:lnTo>
                  <a:lnTo>
                    <a:pt x="1118" y="3648"/>
                  </a:lnTo>
                  <a:lnTo>
                    <a:pt x="1118" y="3630"/>
                  </a:lnTo>
                  <a:lnTo>
                    <a:pt x="1114" y="3630"/>
                  </a:lnTo>
                  <a:lnTo>
                    <a:pt x="1114" y="3606"/>
                  </a:lnTo>
                  <a:lnTo>
                    <a:pt x="1110" y="3606"/>
                  </a:lnTo>
                  <a:lnTo>
                    <a:pt x="1110" y="3588"/>
                  </a:lnTo>
                  <a:lnTo>
                    <a:pt x="1104" y="3588"/>
                  </a:lnTo>
                  <a:lnTo>
                    <a:pt x="1104" y="3583"/>
                  </a:lnTo>
                  <a:lnTo>
                    <a:pt x="1100" y="3583"/>
                  </a:lnTo>
                  <a:lnTo>
                    <a:pt x="1100" y="3558"/>
                  </a:lnTo>
                  <a:lnTo>
                    <a:pt x="1095" y="3558"/>
                  </a:lnTo>
                  <a:lnTo>
                    <a:pt x="1095" y="3529"/>
                  </a:lnTo>
                  <a:lnTo>
                    <a:pt x="1090" y="3529"/>
                  </a:lnTo>
                  <a:lnTo>
                    <a:pt x="1090" y="3517"/>
                  </a:lnTo>
                  <a:lnTo>
                    <a:pt x="1085" y="3517"/>
                  </a:lnTo>
                  <a:lnTo>
                    <a:pt x="1085" y="3505"/>
                  </a:lnTo>
                  <a:lnTo>
                    <a:pt x="1081" y="3505"/>
                  </a:lnTo>
                  <a:lnTo>
                    <a:pt x="1081" y="3480"/>
                  </a:lnTo>
                  <a:lnTo>
                    <a:pt x="1076" y="3480"/>
                  </a:lnTo>
                  <a:lnTo>
                    <a:pt x="1076" y="3458"/>
                  </a:lnTo>
                  <a:lnTo>
                    <a:pt x="1071" y="3458"/>
                  </a:lnTo>
                  <a:lnTo>
                    <a:pt x="1071" y="3429"/>
                  </a:lnTo>
                  <a:lnTo>
                    <a:pt x="1067" y="3429"/>
                  </a:lnTo>
                  <a:lnTo>
                    <a:pt x="1067" y="3406"/>
                  </a:lnTo>
                  <a:lnTo>
                    <a:pt x="1062" y="3406"/>
                  </a:lnTo>
                  <a:lnTo>
                    <a:pt x="1062" y="3381"/>
                  </a:lnTo>
                  <a:lnTo>
                    <a:pt x="1057" y="3381"/>
                  </a:lnTo>
                  <a:lnTo>
                    <a:pt x="1057" y="3352"/>
                  </a:lnTo>
                  <a:lnTo>
                    <a:pt x="1051" y="3352"/>
                  </a:lnTo>
                  <a:lnTo>
                    <a:pt x="1051" y="3328"/>
                  </a:lnTo>
                  <a:lnTo>
                    <a:pt x="1047" y="3328"/>
                  </a:lnTo>
                  <a:lnTo>
                    <a:pt x="1047" y="3275"/>
                  </a:lnTo>
                  <a:lnTo>
                    <a:pt x="1041" y="3275"/>
                  </a:lnTo>
                  <a:lnTo>
                    <a:pt x="1041" y="3186"/>
                  </a:lnTo>
                  <a:lnTo>
                    <a:pt x="1037" y="3186"/>
                  </a:lnTo>
                  <a:lnTo>
                    <a:pt x="1037" y="3157"/>
                  </a:lnTo>
                  <a:lnTo>
                    <a:pt x="1033" y="3157"/>
                  </a:lnTo>
                  <a:lnTo>
                    <a:pt x="1033" y="3092"/>
                  </a:lnTo>
                  <a:lnTo>
                    <a:pt x="1028" y="3092"/>
                  </a:lnTo>
                  <a:lnTo>
                    <a:pt x="1028" y="3085"/>
                  </a:lnTo>
                  <a:lnTo>
                    <a:pt x="1023" y="3085"/>
                  </a:lnTo>
                  <a:lnTo>
                    <a:pt x="1023" y="3039"/>
                  </a:lnTo>
                  <a:lnTo>
                    <a:pt x="1028" y="3039"/>
                  </a:lnTo>
                  <a:lnTo>
                    <a:pt x="1028" y="3020"/>
                  </a:lnTo>
                  <a:lnTo>
                    <a:pt x="1023" y="3020"/>
                  </a:lnTo>
                  <a:lnTo>
                    <a:pt x="1023" y="2974"/>
                  </a:lnTo>
                  <a:lnTo>
                    <a:pt x="1018" y="2974"/>
                  </a:lnTo>
                  <a:lnTo>
                    <a:pt x="1018" y="2767"/>
                  </a:lnTo>
                  <a:lnTo>
                    <a:pt x="1014" y="2767"/>
                  </a:lnTo>
                  <a:lnTo>
                    <a:pt x="1014" y="2748"/>
                  </a:lnTo>
                  <a:lnTo>
                    <a:pt x="1018" y="2748"/>
                  </a:lnTo>
                  <a:lnTo>
                    <a:pt x="1018" y="2719"/>
                  </a:lnTo>
                  <a:lnTo>
                    <a:pt x="1023" y="2719"/>
                  </a:lnTo>
                  <a:lnTo>
                    <a:pt x="1023" y="2653"/>
                  </a:lnTo>
                  <a:lnTo>
                    <a:pt x="1028" y="2653"/>
                  </a:lnTo>
                  <a:lnTo>
                    <a:pt x="1028" y="2566"/>
                  </a:lnTo>
                  <a:lnTo>
                    <a:pt x="1033" y="2566"/>
                  </a:lnTo>
                  <a:lnTo>
                    <a:pt x="1033" y="2518"/>
                  </a:lnTo>
                  <a:lnTo>
                    <a:pt x="1037" y="2518"/>
                  </a:lnTo>
                  <a:lnTo>
                    <a:pt x="1037" y="2488"/>
                  </a:lnTo>
                  <a:lnTo>
                    <a:pt x="1041" y="2488"/>
                  </a:lnTo>
                  <a:lnTo>
                    <a:pt x="1041" y="2452"/>
                  </a:lnTo>
                  <a:lnTo>
                    <a:pt x="1047" y="2452"/>
                  </a:lnTo>
                  <a:lnTo>
                    <a:pt x="1047" y="2406"/>
                  </a:lnTo>
                  <a:lnTo>
                    <a:pt x="1051" y="2406"/>
                  </a:lnTo>
                  <a:lnTo>
                    <a:pt x="1051" y="2382"/>
                  </a:lnTo>
                  <a:lnTo>
                    <a:pt x="1057" y="2382"/>
                  </a:lnTo>
                  <a:lnTo>
                    <a:pt x="1057" y="2347"/>
                  </a:lnTo>
                  <a:lnTo>
                    <a:pt x="1051" y="2347"/>
                  </a:lnTo>
                  <a:lnTo>
                    <a:pt x="1051" y="2335"/>
                  </a:lnTo>
                  <a:lnTo>
                    <a:pt x="1057" y="2335"/>
                  </a:lnTo>
                  <a:lnTo>
                    <a:pt x="1057" y="2317"/>
                  </a:lnTo>
                  <a:lnTo>
                    <a:pt x="1062" y="2317"/>
                  </a:lnTo>
                  <a:lnTo>
                    <a:pt x="1062" y="2299"/>
                  </a:lnTo>
                  <a:lnTo>
                    <a:pt x="1067" y="2299"/>
                  </a:lnTo>
                  <a:lnTo>
                    <a:pt x="1067" y="2281"/>
                  </a:lnTo>
                  <a:lnTo>
                    <a:pt x="1071" y="2281"/>
                  </a:lnTo>
                  <a:lnTo>
                    <a:pt x="1071" y="2234"/>
                  </a:lnTo>
                  <a:lnTo>
                    <a:pt x="1076" y="2234"/>
                  </a:lnTo>
                  <a:lnTo>
                    <a:pt x="1076" y="2211"/>
                  </a:lnTo>
                  <a:lnTo>
                    <a:pt x="1081" y="2211"/>
                  </a:lnTo>
                  <a:lnTo>
                    <a:pt x="1081" y="2175"/>
                  </a:lnTo>
                  <a:lnTo>
                    <a:pt x="1085" y="2175"/>
                  </a:lnTo>
                  <a:lnTo>
                    <a:pt x="1085" y="2121"/>
                  </a:lnTo>
                  <a:lnTo>
                    <a:pt x="1090" y="2121"/>
                  </a:lnTo>
                  <a:lnTo>
                    <a:pt x="1090" y="2110"/>
                  </a:lnTo>
                  <a:lnTo>
                    <a:pt x="1095" y="2110"/>
                  </a:lnTo>
                  <a:lnTo>
                    <a:pt x="1095" y="2093"/>
                  </a:lnTo>
                  <a:lnTo>
                    <a:pt x="1100" y="2093"/>
                  </a:lnTo>
                  <a:lnTo>
                    <a:pt x="1100" y="2052"/>
                  </a:lnTo>
                  <a:lnTo>
                    <a:pt x="1104" y="2052"/>
                  </a:lnTo>
                  <a:lnTo>
                    <a:pt x="1104" y="2033"/>
                  </a:lnTo>
                  <a:lnTo>
                    <a:pt x="1110" y="2033"/>
                  </a:lnTo>
                  <a:lnTo>
                    <a:pt x="1110" y="2003"/>
                  </a:lnTo>
                  <a:lnTo>
                    <a:pt x="1114" y="2003"/>
                  </a:lnTo>
                  <a:lnTo>
                    <a:pt x="1114" y="1974"/>
                  </a:lnTo>
                  <a:lnTo>
                    <a:pt x="1118" y="1974"/>
                  </a:lnTo>
                  <a:lnTo>
                    <a:pt x="1118" y="1962"/>
                  </a:lnTo>
                  <a:lnTo>
                    <a:pt x="1124" y="1962"/>
                  </a:lnTo>
                  <a:lnTo>
                    <a:pt x="1124" y="1944"/>
                  </a:lnTo>
                  <a:lnTo>
                    <a:pt x="1129" y="1944"/>
                  </a:lnTo>
                  <a:lnTo>
                    <a:pt x="1129" y="1903"/>
                  </a:lnTo>
                  <a:lnTo>
                    <a:pt x="1134" y="1903"/>
                  </a:lnTo>
                  <a:lnTo>
                    <a:pt x="1134" y="1879"/>
                  </a:lnTo>
                  <a:lnTo>
                    <a:pt x="1138" y="1879"/>
                  </a:lnTo>
                  <a:lnTo>
                    <a:pt x="1138" y="1844"/>
                  </a:lnTo>
                  <a:lnTo>
                    <a:pt x="1144" y="1844"/>
                  </a:lnTo>
                  <a:lnTo>
                    <a:pt x="1144" y="1808"/>
                  </a:lnTo>
                  <a:lnTo>
                    <a:pt x="1148" y="1808"/>
                  </a:lnTo>
                  <a:lnTo>
                    <a:pt x="1148" y="1780"/>
                  </a:lnTo>
                  <a:lnTo>
                    <a:pt x="1153" y="1780"/>
                  </a:lnTo>
                  <a:lnTo>
                    <a:pt x="1153" y="1756"/>
                  </a:lnTo>
                  <a:lnTo>
                    <a:pt x="1158" y="1756"/>
                  </a:lnTo>
                  <a:lnTo>
                    <a:pt x="1158" y="1738"/>
                  </a:lnTo>
                  <a:lnTo>
                    <a:pt x="1162" y="1738"/>
                  </a:lnTo>
                  <a:lnTo>
                    <a:pt x="1162" y="1726"/>
                  </a:lnTo>
                  <a:lnTo>
                    <a:pt x="1167" y="1726"/>
                  </a:lnTo>
                  <a:lnTo>
                    <a:pt x="1167" y="1715"/>
                  </a:lnTo>
                  <a:lnTo>
                    <a:pt x="1172" y="1715"/>
                  </a:lnTo>
                  <a:lnTo>
                    <a:pt x="1172" y="1697"/>
                  </a:lnTo>
                  <a:lnTo>
                    <a:pt x="1177" y="1697"/>
                  </a:lnTo>
                  <a:lnTo>
                    <a:pt x="1177" y="1679"/>
                  </a:lnTo>
                  <a:lnTo>
                    <a:pt x="1181" y="1679"/>
                  </a:lnTo>
                  <a:lnTo>
                    <a:pt x="1181" y="1661"/>
                  </a:lnTo>
                  <a:lnTo>
                    <a:pt x="1186" y="1661"/>
                  </a:lnTo>
                  <a:lnTo>
                    <a:pt x="1186" y="1656"/>
                  </a:lnTo>
                  <a:lnTo>
                    <a:pt x="1191" y="1656"/>
                  </a:lnTo>
                  <a:lnTo>
                    <a:pt x="1191" y="1637"/>
                  </a:lnTo>
                  <a:lnTo>
                    <a:pt x="1196" y="1637"/>
                  </a:lnTo>
                  <a:lnTo>
                    <a:pt x="1196" y="1625"/>
                  </a:lnTo>
                  <a:lnTo>
                    <a:pt x="1201" y="1625"/>
                  </a:lnTo>
                  <a:lnTo>
                    <a:pt x="1201" y="1607"/>
                  </a:lnTo>
                  <a:lnTo>
                    <a:pt x="1206" y="1607"/>
                  </a:lnTo>
                  <a:lnTo>
                    <a:pt x="1206" y="1584"/>
                  </a:lnTo>
                  <a:lnTo>
                    <a:pt x="1211" y="1584"/>
                  </a:lnTo>
                  <a:lnTo>
                    <a:pt x="1211" y="1579"/>
                  </a:lnTo>
                  <a:lnTo>
                    <a:pt x="1215" y="1579"/>
                  </a:lnTo>
                  <a:lnTo>
                    <a:pt x="1215" y="1566"/>
                  </a:lnTo>
                  <a:lnTo>
                    <a:pt x="1220" y="1566"/>
                  </a:lnTo>
                  <a:lnTo>
                    <a:pt x="1220" y="1549"/>
                  </a:lnTo>
                  <a:lnTo>
                    <a:pt x="1225" y="1549"/>
                  </a:lnTo>
                  <a:lnTo>
                    <a:pt x="1225" y="1531"/>
                  </a:lnTo>
                  <a:lnTo>
                    <a:pt x="1230" y="1531"/>
                  </a:lnTo>
                  <a:lnTo>
                    <a:pt x="1230" y="1520"/>
                  </a:lnTo>
                  <a:lnTo>
                    <a:pt x="1234" y="1520"/>
                  </a:lnTo>
                  <a:lnTo>
                    <a:pt x="1234" y="1508"/>
                  </a:lnTo>
                  <a:lnTo>
                    <a:pt x="1240" y="1508"/>
                  </a:lnTo>
                  <a:lnTo>
                    <a:pt x="1240" y="1496"/>
                  </a:lnTo>
                  <a:lnTo>
                    <a:pt x="1244" y="1496"/>
                  </a:lnTo>
                  <a:lnTo>
                    <a:pt x="1244" y="1484"/>
                  </a:lnTo>
                  <a:lnTo>
                    <a:pt x="1248" y="1484"/>
                  </a:lnTo>
                  <a:lnTo>
                    <a:pt x="1248" y="1471"/>
                  </a:lnTo>
                  <a:lnTo>
                    <a:pt x="1254" y="1471"/>
                  </a:lnTo>
                  <a:lnTo>
                    <a:pt x="1254" y="1454"/>
                  </a:lnTo>
                  <a:lnTo>
                    <a:pt x="1258" y="1454"/>
                  </a:lnTo>
                  <a:lnTo>
                    <a:pt x="1258" y="1448"/>
                  </a:lnTo>
                  <a:lnTo>
                    <a:pt x="1263" y="1448"/>
                  </a:lnTo>
                  <a:lnTo>
                    <a:pt x="1263" y="1419"/>
                  </a:lnTo>
                  <a:lnTo>
                    <a:pt x="1268" y="1419"/>
                  </a:lnTo>
                  <a:lnTo>
                    <a:pt x="1268" y="1401"/>
                  </a:lnTo>
                  <a:lnTo>
                    <a:pt x="1274" y="1401"/>
                  </a:lnTo>
                  <a:lnTo>
                    <a:pt x="1274" y="1389"/>
                  </a:lnTo>
                  <a:lnTo>
                    <a:pt x="1278" y="1389"/>
                  </a:lnTo>
                  <a:lnTo>
                    <a:pt x="1278" y="1372"/>
                  </a:lnTo>
                  <a:lnTo>
                    <a:pt x="1282" y="1372"/>
                  </a:lnTo>
                  <a:lnTo>
                    <a:pt x="1282" y="1360"/>
                  </a:lnTo>
                  <a:lnTo>
                    <a:pt x="1288" y="1360"/>
                  </a:lnTo>
                  <a:lnTo>
                    <a:pt x="1288" y="1348"/>
                  </a:lnTo>
                  <a:lnTo>
                    <a:pt x="1292" y="1348"/>
                  </a:lnTo>
                  <a:lnTo>
                    <a:pt x="1292" y="1335"/>
                  </a:lnTo>
                  <a:lnTo>
                    <a:pt x="1297" y="1335"/>
                  </a:lnTo>
                  <a:lnTo>
                    <a:pt x="1297" y="1319"/>
                  </a:lnTo>
                  <a:lnTo>
                    <a:pt x="1302" y="1319"/>
                  </a:lnTo>
                  <a:lnTo>
                    <a:pt x="1302" y="1307"/>
                  </a:lnTo>
                  <a:lnTo>
                    <a:pt x="1307" y="1307"/>
                  </a:lnTo>
                  <a:lnTo>
                    <a:pt x="1307" y="1300"/>
                  </a:lnTo>
                  <a:lnTo>
                    <a:pt x="1311" y="1300"/>
                  </a:lnTo>
                  <a:lnTo>
                    <a:pt x="1311" y="1288"/>
                  </a:lnTo>
                  <a:lnTo>
                    <a:pt x="1316" y="1288"/>
                  </a:lnTo>
                  <a:lnTo>
                    <a:pt x="1316" y="1283"/>
                  </a:lnTo>
                  <a:lnTo>
                    <a:pt x="1321" y="1283"/>
                  </a:lnTo>
                  <a:lnTo>
                    <a:pt x="1321" y="1270"/>
                  </a:lnTo>
                  <a:lnTo>
                    <a:pt x="1325" y="1270"/>
                  </a:lnTo>
                  <a:lnTo>
                    <a:pt x="1325" y="1259"/>
                  </a:lnTo>
                  <a:lnTo>
                    <a:pt x="1330" y="1259"/>
                  </a:lnTo>
                  <a:lnTo>
                    <a:pt x="1330" y="1242"/>
                  </a:lnTo>
                  <a:lnTo>
                    <a:pt x="1335" y="1242"/>
                  </a:lnTo>
                  <a:lnTo>
                    <a:pt x="1335" y="1236"/>
                  </a:lnTo>
                  <a:lnTo>
                    <a:pt x="1339" y="1236"/>
                  </a:lnTo>
                  <a:lnTo>
                    <a:pt x="1339" y="1224"/>
                  </a:lnTo>
                  <a:lnTo>
                    <a:pt x="1345" y="1224"/>
                  </a:lnTo>
                  <a:lnTo>
                    <a:pt x="1345" y="1206"/>
                  </a:lnTo>
                  <a:lnTo>
                    <a:pt x="1350" y="1206"/>
                  </a:lnTo>
                  <a:lnTo>
                    <a:pt x="1350" y="1193"/>
                  </a:lnTo>
                  <a:lnTo>
                    <a:pt x="1355" y="1193"/>
                  </a:lnTo>
                  <a:lnTo>
                    <a:pt x="1355" y="1176"/>
                  </a:lnTo>
                  <a:lnTo>
                    <a:pt x="1359" y="1176"/>
                  </a:lnTo>
                  <a:lnTo>
                    <a:pt x="1359" y="1171"/>
                  </a:lnTo>
                  <a:lnTo>
                    <a:pt x="1365" y="1171"/>
                  </a:lnTo>
                  <a:lnTo>
                    <a:pt x="1365" y="1158"/>
                  </a:lnTo>
                  <a:lnTo>
                    <a:pt x="1369" y="1158"/>
                  </a:lnTo>
                  <a:lnTo>
                    <a:pt x="1369" y="1147"/>
                  </a:lnTo>
                  <a:lnTo>
                    <a:pt x="1374" y="1147"/>
                  </a:lnTo>
                  <a:lnTo>
                    <a:pt x="1374" y="1134"/>
                  </a:lnTo>
                  <a:lnTo>
                    <a:pt x="1378" y="1134"/>
                  </a:lnTo>
                  <a:lnTo>
                    <a:pt x="1378" y="1117"/>
                  </a:lnTo>
                  <a:lnTo>
                    <a:pt x="1383" y="1117"/>
                  </a:lnTo>
                  <a:lnTo>
                    <a:pt x="1383" y="1112"/>
                  </a:lnTo>
                  <a:lnTo>
                    <a:pt x="1388" y="1112"/>
                  </a:lnTo>
                  <a:lnTo>
                    <a:pt x="1388" y="1106"/>
                  </a:lnTo>
                  <a:lnTo>
                    <a:pt x="1392" y="1106"/>
                  </a:lnTo>
                  <a:lnTo>
                    <a:pt x="1392" y="1088"/>
                  </a:lnTo>
                  <a:lnTo>
                    <a:pt x="1398" y="1088"/>
                  </a:lnTo>
                  <a:lnTo>
                    <a:pt x="1398" y="1076"/>
                  </a:lnTo>
                  <a:lnTo>
                    <a:pt x="1402" y="1076"/>
                  </a:lnTo>
                  <a:lnTo>
                    <a:pt x="1402" y="1058"/>
                  </a:lnTo>
                  <a:lnTo>
                    <a:pt x="1407" y="1058"/>
                  </a:lnTo>
                  <a:lnTo>
                    <a:pt x="1407" y="1052"/>
                  </a:lnTo>
                  <a:lnTo>
                    <a:pt x="1412" y="1052"/>
                  </a:lnTo>
                  <a:lnTo>
                    <a:pt x="1412" y="1041"/>
                  </a:lnTo>
                  <a:lnTo>
                    <a:pt x="1416" y="1041"/>
                  </a:lnTo>
                  <a:lnTo>
                    <a:pt x="1416" y="1023"/>
                  </a:lnTo>
                  <a:lnTo>
                    <a:pt x="1422" y="1023"/>
                  </a:lnTo>
                  <a:lnTo>
                    <a:pt x="1422" y="1017"/>
                  </a:lnTo>
                  <a:lnTo>
                    <a:pt x="1426" y="1017"/>
                  </a:lnTo>
                  <a:lnTo>
                    <a:pt x="1426" y="1006"/>
                  </a:lnTo>
                  <a:lnTo>
                    <a:pt x="1432" y="1006"/>
                  </a:lnTo>
                  <a:lnTo>
                    <a:pt x="1432" y="987"/>
                  </a:lnTo>
                  <a:lnTo>
                    <a:pt x="1436" y="987"/>
                  </a:lnTo>
                  <a:lnTo>
                    <a:pt x="1436" y="981"/>
                  </a:lnTo>
                  <a:lnTo>
                    <a:pt x="1441" y="981"/>
                  </a:lnTo>
                  <a:lnTo>
                    <a:pt x="1441" y="970"/>
                  </a:lnTo>
                  <a:lnTo>
                    <a:pt x="1446" y="970"/>
                  </a:lnTo>
                  <a:lnTo>
                    <a:pt x="1446" y="957"/>
                  </a:lnTo>
                  <a:lnTo>
                    <a:pt x="1451" y="957"/>
                  </a:lnTo>
                  <a:lnTo>
                    <a:pt x="1451" y="946"/>
                  </a:lnTo>
                  <a:lnTo>
                    <a:pt x="1455" y="946"/>
                  </a:lnTo>
                  <a:lnTo>
                    <a:pt x="1455" y="940"/>
                  </a:lnTo>
                  <a:lnTo>
                    <a:pt x="1460" y="940"/>
                  </a:lnTo>
                  <a:lnTo>
                    <a:pt x="1460" y="929"/>
                  </a:lnTo>
                  <a:lnTo>
                    <a:pt x="1465" y="929"/>
                  </a:lnTo>
                  <a:lnTo>
                    <a:pt x="1465" y="916"/>
                  </a:lnTo>
                  <a:lnTo>
                    <a:pt x="1469" y="916"/>
                  </a:lnTo>
                  <a:lnTo>
                    <a:pt x="1469" y="905"/>
                  </a:lnTo>
                  <a:lnTo>
                    <a:pt x="1474" y="905"/>
                  </a:lnTo>
                  <a:lnTo>
                    <a:pt x="1474" y="899"/>
                  </a:lnTo>
                  <a:lnTo>
                    <a:pt x="1479" y="899"/>
                  </a:lnTo>
                  <a:lnTo>
                    <a:pt x="1479" y="887"/>
                  </a:lnTo>
                  <a:lnTo>
                    <a:pt x="1484" y="887"/>
                  </a:lnTo>
                  <a:lnTo>
                    <a:pt x="1484" y="880"/>
                  </a:lnTo>
                  <a:lnTo>
                    <a:pt x="1488" y="880"/>
                  </a:lnTo>
                  <a:lnTo>
                    <a:pt x="1488" y="870"/>
                  </a:lnTo>
                  <a:lnTo>
                    <a:pt x="1495" y="870"/>
                  </a:lnTo>
                  <a:lnTo>
                    <a:pt x="1495" y="862"/>
                  </a:lnTo>
                  <a:lnTo>
                    <a:pt x="1499" y="862"/>
                  </a:lnTo>
                  <a:lnTo>
                    <a:pt x="1499" y="846"/>
                  </a:lnTo>
                  <a:lnTo>
                    <a:pt x="1503" y="846"/>
                  </a:lnTo>
                  <a:lnTo>
                    <a:pt x="1503" y="834"/>
                  </a:lnTo>
                  <a:lnTo>
                    <a:pt x="1509" y="834"/>
                  </a:lnTo>
                  <a:lnTo>
                    <a:pt x="1509" y="821"/>
                  </a:lnTo>
                  <a:lnTo>
                    <a:pt x="1513" y="821"/>
                  </a:lnTo>
                  <a:lnTo>
                    <a:pt x="1513" y="816"/>
                  </a:lnTo>
                  <a:lnTo>
                    <a:pt x="1518" y="816"/>
                  </a:lnTo>
                  <a:lnTo>
                    <a:pt x="1518" y="804"/>
                  </a:lnTo>
                  <a:lnTo>
                    <a:pt x="1522" y="804"/>
                  </a:lnTo>
                  <a:lnTo>
                    <a:pt x="1522" y="793"/>
                  </a:lnTo>
                  <a:lnTo>
                    <a:pt x="1528" y="793"/>
                  </a:lnTo>
                  <a:lnTo>
                    <a:pt x="1528" y="786"/>
                  </a:lnTo>
                  <a:lnTo>
                    <a:pt x="1532" y="786"/>
                  </a:lnTo>
                  <a:lnTo>
                    <a:pt x="1532" y="774"/>
                  </a:lnTo>
                  <a:lnTo>
                    <a:pt x="1537" y="774"/>
                  </a:lnTo>
                  <a:lnTo>
                    <a:pt x="1537" y="756"/>
                  </a:lnTo>
                  <a:lnTo>
                    <a:pt x="1542" y="756"/>
                  </a:lnTo>
                  <a:lnTo>
                    <a:pt x="1542" y="733"/>
                  </a:lnTo>
                  <a:lnTo>
                    <a:pt x="1546" y="733"/>
                  </a:lnTo>
                  <a:lnTo>
                    <a:pt x="1546" y="720"/>
                  </a:lnTo>
                  <a:lnTo>
                    <a:pt x="1551" y="720"/>
                  </a:lnTo>
                  <a:lnTo>
                    <a:pt x="1551" y="703"/>
                  </a:lnTo>
                  <a:lnTo>
                    <a:pt x="1556" y="703"/>
                  </a:lnTo>
                  <a:lnTo>
                    <a:pt x="1556" y="698"/>
                  </a:lnTo>
                  <a:lnTo>
                    <a:pt x="1561" y="698"/>
                  </a:lnTo>
                  <a:lnTo>
                    <a:pt x="1561" y="680"/>
                  </a:lnTo>
                  <a:lnTo>
                    <a:pt x="1566" y="680"/>
                  </a:lnTo>
                  <a:lnTo>
                    <a:pt x="1566" y="662"/>
                  </a:lnTo>
                  <a:lnTo>
                    <a:pt x="1571" y="662"/>
                  </a:lnTo>
                  <a:lnTo>
                    <a:pt x="1571" y="644"/>
                  </a:lnTo>
                  <a:lnTo>
                    <a:pt x="1576" y="644"/>
                  </a:lnTo>
                  <a:lnTo>
                    <a:pt x="1576" y="633"/>
                  </a:lnTo>
                  <a:lnTo>
                    <a:pt x="1581" y="633"/>
                  </a:lnTo>
                  <a:lnTo>
                    <a:pt x="1581" y="620"/>
                  </a:lnTo>
                  <a:lnTo>
                    <a:pt x="1585" y="620"/>
                  </a:lnTo>
                  <a:lnTo>
                    <a:pt x="1585" y="609"/>
                  </a:lnTo>
                  <a:lnTo>
                    <a:pt x="1590" y="609"/>
                  </a:lnTo>
                  <a:lnTo>
                    <a:pt x="1590" y="592"/>
                  </a:lnTo>
                  <a:lnTo>
                    <a:pt x="1595" y="592"/>
                  </a:lnTo>
                  <a:lnTo>
                    <a:pt x="1595" y="579"/>
                  </a:lnTo>
                  <a:lnTo>
                    <a:pt x="1599" y="579"/>
                  </a:lnTo>
                  <a:lnTo>
                    <a:pt x="1599" y="568"/>
                  </a:lnTo>
                  <a:lnTo>
                    <a:pt x="1604" y="568"/>
                  </a:lnTo>
                  <a:lnTo>
                    <a:pt x="1604" y="562"/>
                  </a:lnTo>
                  <a:lnTo>
                    <a:pt x="1609" y="562"/>
                  </a:lnTo>
                  <a:lnTo>
                    <a:pt x="1609" y="550"/>
                  </a:lnTo>
                  <a:lnTo>
                    <a:pt x="1614" y="550"/>
                  </a:lnTo>
                  <a:lnTo>
                    <a:pt x="1614" y="538"/>
                  </a:lnTo>
                  <a:lnTo>
                    <a:pt x="1618" y="538"/>
                  </a:lnTo>
                  <a:lnTo>
                    <a:pt x="1618" y="514"/>
                  </a:lnTo>
                  <a:lnTo>
                    <a:pt x="1623" y="514"/>
                  </a:lnTo>
                  <a:lnTo>
                    <a:pt x="1623" y="497"/>
                  </a:lnTo>
                  <a:lnTo>
                    <a:pt x="1628" y="497"/>
                  </a:lnTo>
                  <a:lnTo>
                    <a:pt x="1628" y="492"/>
                  </a:lnTo>
                  <a:lnTo>
                    <a:pt x="1632" y="492"/>
                  </a:lnTo>
                  <a:lnTo>
                    <a:pt x="1632" y="473"/>
                  </a:lnTo>
                  <a:lnTo>
                    <a:pt x="1639" y="473"/>
                  </a:lnTo>
                  <a:lnTo>
                    <a:pt x="1639" y="461"/>
                  </a:lnTo>
                  <a:lnTo>
                    <a:pt x="1643" y="461"/>
                  </a:lnTo>
                  <a:lnTo>
                    <a:pt x="1643" y="449"/>
                  </a:lnTo>
                  <a:lnTo>
                    <a:pt x="1648" y="449"/>
                  </a:lnTo>
                  <a:lnTo>
                    <a:pt x="1648" y="438"/>
                  </a:lnTo>
                  <a:lnTo>
                    <a:pt x="1653" y="438"/>
                  </a:lnTo>
                  <a:lnTo>
                    <a:pt x="1653" y="414"/>
                  </a:lnTo>
                  <a:lnTo>
                    <a:pt x="1657" y="414"/>
                  </a:lnTo>
                  <a:lnTo>
                    <a:pt x="1657" y="402"/>
                  </a:lnTo>
                  <a:lnTo>
                    <a:pt x="1662" y="402"/>
                  </a:lnTo>
                  <a:lnTo>
                    <a:pt x="1662" y="397"/>
                  </a:lnTo>
                  <a:lnTo>
                    <a:pt x="1666" y="397"/>
                  </a:lnTo>
                  <a:lnTo>
                    <a:pt x="1666" y="378"/>
                  </a:lnTo>
                  <a:lnTo>
                    <a:pt x="1672" y="378"/>
                  </a:lnTo>
                  <a:lnTo>
                    <a:pt x="1672" y="361"/>
                  </a:lnTo>
                  <a:lnTo>
                    <a:pt x="1676" y="361"/>
                  </a:lnTo>
                  <a:lnTo>
                    <a:pt x="1676" y="355"/>
                  </a:lnTo>
                  <a:lnTo>
                    <a:pt x="1680" y="355"/>
                  </a:lnTo>
                  <a:lnTo>
                    <a:pt x="1680" y="343"/>
                  </a:lnTo>
                  <a:lnTo>
                    <a:pt x="1686" y="343"/>
                  </a:lnTo>
                  <a:lnTo>
                    <a:pt x="1686" y="320"/>
                  </a:lnTo>
                  <a:lnTo>
                    <a:pt x="1690" y="320"/>
                  </a:lnTo>
                  <a:lnTo>
                    <a:pt x="1690" y="296"/>
                  </a:lnTo>
                  <a:lnTo>
                    <a:pt x="1695" y="296"/>
                  </a:lnTo>
                  <a:lnTo>
                    <a:pt x="1695" y="283"/>
                  </a:lnTo>
                  <a:lnTo>
                    <a:pt x="1700" y="283"/>
                  </a:lnTo>
                  <a:lnTo>
                    <a:pt x="1700" y="272"/>
                  </a:lnTo>
                  <a:lnTo>
                    <a:pt x="1705" y="272"/>
                  </a:lnTo>
                  <a:lnTo>
                    <a:pt x="1705" y="248"/>
                  </a:lnTo>
                  <a:lnTo>
                    <a:pt x="1710" y="248"/>
                  </a:lnTo>
                  <a:lnTo>
                    <a:pt x="1710" y="220"/>
                  </a:lnTo>
                  <a:lnTo>
                    <a:pt x="1715" y="220"/>
                  </a:lnTo>
                  <a:lnTo>
                    <a:pt x="1715" y="196"/>
                  </a:lnTo>
                  <a:lnTo>
                    <a:pt x="1720" y="196"/>
                  </a:lnTo>
                  <a:lnTo>
                    <a:pt x="1720" y="179"/>
                  </a:lnTo>
                  <a:lnTo>
                    <a:pt x="1724" y="179"/>
                  </a:lnTo>
                  <a:lnTo>
                    <a:pt x="1724" y="160"/>
                  </a:lnTo>
                  <a:lnTo>
                    <a:pt x="1710" y="160"/>
                  </a:lnTo>
                  <a:lnTo>
                    <a:pt x="1710" y="171"/>
                  </a:lnTo>
                  <a:lnTo>
                    <a:pt x="1705" y="171"/>
                  </a:lnTo>
                  <a:lnTo>
                    <a:pt x="1705" y="184"/>
                  </a:lnTo>
                  <a:lnTo>
                    <a:pt x="1700" y="184"/>
                  </a:lnTo>
                  <a:lnTo>
                    <a:pt x="1700" y="196"/>
                  </a:lnTo>
                  <a:lnTo>
                    <a:pt x="1695" y="196"/>
                  </a:lnTo>
                  <a:lnTo>
                    <a:pt x="1695" y="212"/>
                  </a:lnTo>
                  <a:lnTo>
                    <a:pt x="1690" y="212"/>
                  </a:lnTo>
                  <a:lnTo>
                    <a:pt x="1690" y="231"/>
                  </a:lnTo>
                  <a:lnTo>
                    <a:pt x="1686" y="231"/>
                  </a:lnTo>
                  <a:lnTo>
                    <a:pt x="1686" y="242"/>
                  </a:lnTo>
                  <a:lnTo>
                    <a:pt x="1680" y="242"/>
                  </a:lnTo>
                  <a:lnTo>
                    <a:pt x="1680" y="266"/>
                  </a:lnTo>
                  <a:lnTo>
                    <a:pt x="1676" y="266"/>
                  </a:lnTo>
                  <a:lnTo>
                    <a:pt x="1676" y="283"/>
                  </a:lnTo>
                  <a:lnTo>
                    <a:pt x="1672" y="283"/>
                  </a:lnTo>
                  <a:lnTo>
                    <a:pt x="1672" y="301"/>
                  </a:lnTo>
                  <a:lnTo>
                    <a:pt x="1666" y="301"/>
                  </a:lnTo>
                  <a:lnTo>
                    <a:pt x="1666" y="307"/>
                  </a:lnTo>
                  <a:lnTo>
                    <a:pt x="1662" y="307"/>
                  </a:lnTo>
                  <a:lnTo>
                    <a:pt x="1662" y="320"/>
                  </a:lnTo>
                  <a:lnTo>
                    <a:pt x="1657" y="320"/>
                  </a:lnTo>
                  <a:lnTo>
                    <a:pt x="1657" y="337"/>
                  </a:lnTo>
                  <a:lnTo>
                    <a:pt x="1653" y="337"/>
                  </a:lnTo>
                  <a:lnTo>
                    <a:pt x="1653" y="355"/>
                  </a:lnTo>
                  <a:lnTo>
                    <a:pt x="1648" y="355"/>
                  </a:lnTo>
                  <a:lnTo>
                    <a:pt x="1648" y="373"/>
                  </a:lnTo>
                  <a:lnTo>
                    <a:pt x="1639" y="373"/>
                  </a:lnTo>
                  <a:lnTo>
                    <a:pt x="1639" y="391"/>
                  </a:lnTo>
                  <a:lnTo>
                    <a:pt x="1632" y="391"/>
                  </a:lnTo>
                  <a:lnTo>
                    <a:pt x="1632" y="397"/>
                  </a:lnTo>
                  <a:lnTo>
                    <a:pt x="1628" y="397"/>
                  </a:lnTo>
                  <a:lnTo>
                    <a:pt x="1628" y="414"/>
                  </a:lnTo>
                  <a:lnTo>
                    <a:pt x="1623" y="414"/>
                  </a:lnTo>
                  <a:lnTo>
                    <a:pt x="1623" y="426"/>
                  </a:lnTo>
                  <a:lnTo>
                    <a:pt x="1618" y="426"/>
                  </a:lnTo>
                  <a:lnTo>
                    <a:pt x="1618" y="438"/>
                  </a:lnTo>
                  <a:lnTo>
                    <a:pt x="1614" y="438"/>
                  </a:lnTo>
                  <a:lnTo>
                    <a:pt x="1614" y="456"/>
                  </a:lnTo>
                  <a:lnTo>
                    <a:pt x="1609" y="456"/>
                  </a:lnTo>
                  <a:lnTo>
                    <a:pt x="1609" y="473"/>
                  </a:lnTo>
                  <a:lnTo>
                    <a:pt x="1604" y="473"/>
                  </a:lnTo>
                  <a:lnTo>
                    <a:pt x="1604" y="492"/>
                  </a:lnTo>
                  <a:lnTo>
                    <a:pt x="1599" y="492"/>
                  </a:lnTo>
                  <a:lnTo>
                    <a:pt x="1599" y="508"/>
                  </a:lnTo>
                  <a:lnTo>
                    <a:pt x="1595" y="508"/>
                  </a:lnTo>
                  <a:lnTo>
                    <a:pt x="1595" y="521"/>
                  </a:lnTo>
                  <a:lnTo>
                    <a:pt x="1590" y="521"/>
                  </a:lnTo>
                  <a:lnTo>
                    <a:pt x="1590" y="526"/>
                  </a:lnTo>
                  <a:lnTo>
                    <a:pt x="1585" y="526"/>
                  </a:lnTo>
                  <a:lnTo>
                    <a:pt x="1585" y="538"/>
                  </a:lnTo>
                  <a:lnTo>
                    <a:pt x="1581" y="538"/>
                  </a:lnTo>
                  <a:lnTo>
                    <a:pt x="1581" y="555"/>
                  </a:lnTo>
                  <a:lnTo>
                    <a:pt x="1576" y="555"/>
                  </a:lnTo>
                  <a:lnTo>
                    <a:pt x="1576" y="562"/>
                  </a:lnTo>
                  <a:lnTo>
                    <a:pt x="1571" y="562"/>
                  </a:lnTo>
                  <a:lnTo>
                    <a:pt x="1571" y="574"/>
                  </a:lnTo>
                  <a:lnTo>
                    <a:pt x="1566" y="574"/>
                  </a:lnTo>
                  <a:lnTo>
                    <a:pt x="1566" y="592"/>
                  </a:lnTo>
                  <a:lnTo>
                    <a:pt x="1561" y="592"/>
                  </a:lnTo>
                  <a:lnTo>
                    <a:pt x="1561" y="598"/>
                  </a:lnTo>
                  <a:lnTo>
                    <a:pt x="1556" y="598"/>
                  </a:lnTo>
                  <a:lnTo>
                    <a:pt x="1556" y="615"/>
                  </a:lnTo>
                  <a:lnTo>
                    <a:pt x="1551" y="615"/>
                  </a:lnTo>
                  <a:lnTo>
                    <a:pt x="1551" y="620"/>
                  </a:lnTo>
                  <a:lnTo>
                    <a:pt x="1546" y="620"/>
                  </a:lnTo>
                  <a:lnTo>
                    <a:pt x="1546" y="633"/>
                  </a:lnTo>
                  <a:lnTo>
                    <a:pt x="1542" y="633"/>
                  </a:lnTo>
                  <a:lnTo>
                    <a:pt x="1542" y="652"/>
                  </a:lnTo>
                  <a:lnTo>
                    <a:pt x="1537" y="652"/>
                  </a:lnTo>
                  <a:lnTo>
                    <a:pt x="1537" y="674"/>
                  </a:lnTo>
                  <a:lnTo>
                    <a:pt x="1532" y="674"/>
                  </a:lnTo>
                  <a:lnTo>
                    <a:pt x="1532" y="698"/>
                  </a:lnTo>
                  <a:lnTo>
                    <a:pt x="1528" y="698"/>
                  </a:lnTo>
                  <a:lnTo>
                    <a:pt x="1528" y="710"/>
                  </a:lnTo>
                  <a:lnTo>
                    <a:pt x="1522" y="710"/>
                  </a:lnTo>
                  <a:lnTo>
                    <a:pt x="1522" y="715"/>
                  </a:lnTo>
                  <a:lnTo>
                    <a:pt x="1518" y="715"/>
                  </a:lnTo>
                  <a:lnTo>
                    <a:pt x="1518" y="720"/>
                  </a:lnTo>
                  <a:lnTo>
                    <a:pt x="1513" y="720"/>
                  </a:lnTo>
                  <a:lnTo>
                    <a:pt x="1513" y="728"/>
                  </a:lnTo>
                  <a:lnTo>
                    <a:pt x="1509" y="728"/>
                  </a:lnTo>
                  <a:lnTo>
                    <a:pt x="1509" y="733"/>
                  </a:lnTo>
                  <a:lnTo>
                    <a:pt x="1503" y="733"/>
                  </a:lnTo>
                  <a:lnTo>
                    <a:pt x="1503" y="745"/>
                  </a:lnTo>
                  <a:lnTo>
                    <a:pt x="1499" y="745"/>
                  </a:lnTo>
                  <a:lnTo>
                    <a:pt x="1499" y="763"/>
                  </a:lnTo>
                  <a:lnTo>
                    <a:pt x="1495" y="763"/>
                  </a:lnTo>
                  <a:lnTo>
                    <a:pt x="1495" y="774"/>
                  </a:lnTo>
                  <a:lnTo>
                    <a:pt x="1488" y="774"/>
                  </a:lnTo>
                  <a:lnTo>
                    <a:pt x="1488" y="780"/>
                  </a:lnTo>
                  <a:lnTo>
                    <a:pt x="1484" y="780"/>
                  </a:lnTo>
                  <a:lnTo>
                    <a:pt x="1484" y="793"/>
                  </a:lnTo>
                  <a:lnTo>
                    <a:pt x="1479" y="793"/>
                  </a:lnTo>
                  <a:lnTo>
                    <a:pt x="1479" y="804"/>
                  </a:lnTo>
                  <a:lnTo>
                    <a:pt x="1469" y="804"/>
                  </a:lnTo>
                  <a:lnTo>
                    <a:pt x="1469" y="810"/>
                  </a:lnTo>
                  <a:lnTo>
                    <a:pt x="1465" y="810"/>
                  </a:lnTo>
                  <a:lnTo>
                    <a:pt x="1465" y="827"/>
                  </a:lnTo>
                  <a:lnTo>
                    <a:pt x="1460" y="827"/>
                  </a:lnTo>
                  <a:lnTo>
                    <a:pt x="1460" y="846"/>
                  </a:lnTo>
                  <a:lnTo>
                    <a:pt x="1455" y="846"/>
                  </a:lnTo>
                  <a:lnTo>
                    <a:pt x="1455" y="851"/>
                  </a:lnTo>
                  <a:lnTo>
                    <a:pt x="1451" y="851"/>
                  </a:lnTo>
                  <a:lnTo>
                    <a:pt x="1451" y="862"/>
                  </a:lnTo>
                  <a:lnTo>
                    <a:pt x="1441" y="862"/>
                  </a:lnTo>
                  <a:lnTo>
                    <a:pt x="1441" y="870"/>
                  </a:lnTo>
                  <a:lnTo>
                    <a:pt x="1436" y="870"/>
                  </a:lnTo>
                  <a:lnTo>
                    <a:pt x="1436" y="887"/>
                  </a:lnTo>
                  <a:lnTo>
                    <a:pt x="1432" y="887"/>
                  </a:lnTo>
                  <a:lnTo>
                    <a:pt x="1432" y="911"/>
                  </a:lnTo>
                  <a:lnTo>
                    <a:pt x="1416" y="911"/>
                  </a:lnTo>
                  <a:lnTo>
                    <a:pt x="1416" y="946"/>
                  </a:lnTo>
                  <a:lnTo>
                    <a:pt x="1412" y="946"/>
                  </a:lnTo>
                  <a:lnTo>
                    <a:pt x="1412" y="952"/>
                  </a:lnTo>
                  <a:lnTo>
                    <a:pt x="1407" y="952"/>
                  </a:lnTo>
                  <a:lnTo>
                    <a:pt x="1407" y="965"/>
                  </a:lnTo>
                  <a:lnTo>
                    <a:pt x="1402" y="965"/>
                  </a:lnTo>
                  <a:lnTo>
                    <a:pt x="1402" y="981"/>
                  </a:lnTo>
                  <a:lnTo>
                    <a:pt x="1398" y="981"/>
                  </a:lnTo>
                  <a:lnTo>
                    <a:pt x="1398" y="993"/>
                  </a:lnTo>
                  <a:lnTo>
                    <a:pt x="1392" y="993"/>
                  </a:lnTo>
                  <a:lnTo>
                    <a:pt x="1392" y="1006"/>
                  </a:lnTo>
                  <a:lnTo>
                    <a:pt x="1388" y="1006"/>
                  </a:lnTo>
                  <a:lnTo>
                    <a:pt x="1388" y="1017"/>
                  </a:lnTo>
                  <a:lnTo>
                    <a:pt x="1383" y="1017"/>
                  </a:lnTo>
                  <a:lnTo>
                    <a:pt x="1383" y="1047"/>
                  </a:lnTo>
                  <a:lnTo>
                    <a:pt x="1378" y="1047"/>
                  </a:lnTo>
                  <a:lnTo>
                    <a:pt x="1378" y="1058"/>
                  </a:lnTo>
                  <a:lnTo>
                    <a:pt x="1374" y="1058"/>
                  </a:lnTo>
                  <a:lnTo>
                    <a:pt x="1374" y="1076"/>
                  </a:lnTo>
                  <a:lnTo>
                    <a:pt x="1369" y="1076"/>
                  </a:lnTo>
                  <a:lnTo>
                    <a:pt x="1369" y="1082"/>
                  </a:lnTo>
                  <a:lnTo>
                    <a:pt x="1365" y="1082"/>
                  </a:lnTo>
                  <a:lnTo>
                    <a:pt x="1365" y="1093"/>
                  </a:lnTo>
                  <a:lnTo>
                    <a:pt x="1359" y="1093"/>
                  </a:lnTo>
                  <a:lnTo>
                    <a:pt x="1359" y="1100"/>
                  </a:lnTo>
                  <a:lnTo>
                    <a:pt x="1355" y="1100"/>
                  </a:lnTo>
                  <a:lnTo>
                    <a:pt x="1355" y="1112"/>
                  </a:lnTo>
                  <a:lnTo>
                    <a:pt x="1350" y="1112"/>
                  </a:lnTo>
                  <a:lnTo>
                    <a:pt x="1350" y="1124"/>
                  </a:lnTo>
                  <a:lnTo>
                    <a:pt x="1345" y="1124"/>
                  </a:lnTo>
                  <a:lnTo>
                    <a:pt x="1345" y="1129"/>
                  </a:lnTo>
                  <a:lnTo>
                    <a:pt x="1339" y="1129"/>
                  </a:lnTo>
                  <a:lnTo>
                    <a:pt x="1339" y="1141"/>
                  </a:lnTo>
                  <a:lnTo>
                    <a:pt x="1335" y="1141"/>
                  </a:lnTo>
                  <a:lnTo>
                    <a:pt x="1335" y="1147"/>
                  </a:lnTo>
                  <a:lnTo>
                    <a:pt x="1330" y="1147"/>
                  </a:lnTo>
                  <a:lnTo>
                    <a:pt x="1330" y="1152"/>
                  </a:lnTo>
                  <a:lnTo>
                    <a:pt x="1325" y="1152"/>
                  </a:lnTo>
                  <a:lnTo>
                    <a:pt x="1325" y="1164"/>
                  </a:lnTo>
                  <a:lnTo>
                    <a:pt x="1321" y="1164"/>
                  </a:lnTo>
                  <a:lnTo>
                    <a:pt x="1321" y="1171"/>
                  </a:lnTo>
                  <a:lnTo>
                    <a:pt x="1316" y="1171"/>
                  </a:lnTo>
                  <a:lnTo>
                    <a:pt x="1316" y="1183"/>
                  </a:lnTo>
                  <a:lnTo>
                    <a:pt x="1311" y="1183"/>
                  </a:lnTo>
                  <a:lnTo>
                    <a:pt x="1311" y="1188"/>
                  </a:lnTo>
                  <a:lnTo>
                    <a:pt x="1307" y="1188"/>
                  </a:lnTo>
                  <a:lnTo>
                    <a:pt x="1307" y="1193"/>
                  </a:lnTo>
                  <a:lnTo>
                    <a:pt x="1302" y="1193"/>
                  </a:lnTo>
                  <a:lnTo>
                    <a:pt x="1302" y="1206"/>
                  </a:lnTo>
                  <a:lnTo>
                    <a:pt x="1297" y="1206"/>
                  </a:lnTo>
                  <a:lnTo>
                    <a:pt x="1297" y="1212"/>
                  </a:lnTo>
                  <a:lnTo>
                    <a:pt x="1292" y="1212"/>
                  </a:lnTo>
                  <a:lnTo>
                    <a:pt x="1292" y="1229"/>
                  </a:lnTo>
                  <a:lnTo>
                    <a:pt x="1288" y="1229"/>
                  </a:lnTo>
                  <a:lnTo>
                    <a:pt x="1288" y="1253"/>
                  </a:lnTo>
                  <a:lnTo>
                    <a:pt x="1282" y="1253"/>
                  </a:lnTo>
                  <a:lnTo>
                    <a:pt x="1282" y="1265"/>
                  </a:lnTo>
                  <a:lnTo>
                    <a:pt x="1278" y="1265"/>
                  </a:lnTo>
                  <a:lnTo>
                    <a:pt x="1278" y="1277"/>
                  </a:lnTo>
                  <a:lnTo>
                    <a:pt x="1274" y="1277"/>
                  </a:lnTo>
                  <a:lnTo>
                    <a:pt x="1274" y="1288"/>
                  </a:lnTo>
                  <a:lnTo>
                    <a:pt x="1268" y="1288"/>
                  </a:lnTo>
                  <a:lnTo>
                    <a:pt x="1268" y="1300"/>
                  </a:lnTo>
                  <a:lnTo>
                    <a:pt x="1263" y="1300"/>
                  </a:lnTo>
                  <a:lnTo>
                    <a:pt x="1263" y="1312"/>
                  </a:lnTo>
                  <a:lnTo>
                    <a:pt x="1258" y="1312"/>
                  </a:lnTo>
                  <a:lnTo>
                    <a:pt x="1258" y="1324"/>
                  </a:lnTo>
                  <a:lnTo>
                    <a:pt x="1254" y="1324"/>
                  </a:lnTo>
                  <a:lnTo>
                    <a:pt x="1254" y="1348"/>
                  </a:lnTo>
                  <a:lnTo>
                    <a:pt x="1248" y="1348"/>
                  </a:lnTo>
                  <a:lnTo>
                    <a:pt x="1248" y="1353"/>
                  </a:lnTo>
                  <a:lnTo>
                    <a:pt x="1244" y="1353"/>
                  </a:lnTo>
                  <a:lnTo>
                    <a:pt x="1244" y="1372"/>
                  </a:lnTo>
                  <a:lnTo>
                    <a:pt x="1240" y="1372"/>
                  </a:lnTo>
                  <a:lnTo>
                    <a:pt x="1240" y="1401"/>
                  </a:lnTo>
                  <a:lnTo>
                    <a:pt x="1234" y="1401"/>
                  </a:lnTo>
                  <a:lnTo>
                    <a:pt x="1234" y="1419"/>
                  </a:lnTo>
                  <a:lnTo>
                    <a:pt x="1230" y="1419"/>
                  </a:lnTo>
                  <a:lnTo>
                    <a:pt x="1230" y="1425"/>
                  </a:lnTo>
                  <a:lnTo>
                    <a:pt x="1225" y="1425"/>
                  </a:lnTo>
                  <a:lnTo>
                    <a:pt x="1225" y="1438"/>
                  </a:lnTo>
                  <a:lnTo>
                    <a:pt x="1220" y="1438"/>
                  </a:lnTo>
                  <a:lnTo>
                    <a:pt x="1220" y="1443"/>
                  </a:lnTo>
                  <a:lnTo>
                    <a:pt x="1215" y="1443"/>
                  </a:lnTo>
                  <a:lnTo>
                    <a:pt x="1215" y="1448"/>
                  </a:lnTo>
                  <a:lnTo>
                    <a:pt x="1211" y="1448"/>
                  </a:lnTo>
                  <a:lnTo>
                    <a:pt x="1211" y="1460"/>
                  </a:lnTo>
                  <a:lnTo>
                    <a:pt x="1206" y="1460"/>
                  </a:lnTo>
                  <a:lnTo>
                    <a:pt x="1206" y="1471"/>
                  </a:lnTo>
                  <a:lnTo>
                    <a:pt x="1201" y="1471"/>
                  </a:lnTo>
                  <a:lnTo>
                    <a:pt x="1201" y="1484"/>
                  </a:lnTo>
                  <a:lnTo>
                    <a:pt x="1196" y="1484"/>
                  </a:lnTo>
                  <a:lnTo>
                    <a:pt x="1196" y="1501"/>
                  </a:lnTo>
                  <a:lnTo>
                    <a:pt x="1191" y="1501"/>
                  </a:lnTo>
                  <a:lnTo>
                    <a:pt x="1191" y="1525"/>
                  </a:lnTo>
                  <a:lnTo>
                    <a:pt x="1186" y="1525"/>
                  </a:lnTo>
                  <a:lnTo>
                    <a:pt x="1186" y="1538"/>
                  </a:lnTo>
                  <a:lnTo>
                    <a:pt x="1181" y="1538"/>
                  </a:lnTo>
                  <a:lnTo>
                    <a:pt x="1181" y="1544"/>
                  </a:lnTo>
                  <a:lnTo>
                    <a:pt x="1177" y="1544"/>
                  </a:lnTo>
                  <a:lnTo>
                    <a:pt x="1177" y="1560"/>
                  </a:lnTo>
                  <a:lnTo>
                    <a:pt x="1167" y="1560"/>
                  </a:lnTo>
                  <a:lnTo>
                    <a:pt x="1167" y="1572"/>
                  </a:lnTo>
                  <a:lnTo>
                    <a:pt x="1162" y="1572"/>
                  </a:lnTo>
                  <a:lnTo>
                    <a:pt x="1162" y="1579"/>
                  </a:lnTo>
                  <a:lnTo>
                    <a:pt x="1158" y="1579"/>
                  </a:lnTo>
                  <a:lnTo>
                    <a:pt x="1158" y="1590"/>
                  </a:lnTo>
                  <a:lnTo>
                    <a:pt x="1153" y="1590"/>
                  </a:lnTo>
                  <a:lnTo>
                    <a:pt x="1153" y="1596"/>
                  </a:lnTo>
                  <a:lnTo>
                    <a:pt x="1148" y="1596"/>
                  </a:lnTo>
                  <a:lnTo>
                    <a:pt x="1148" y="1607"/>
                  </a:lnTo>
                  <a:lnTo>
                    <a:pt x="1144" y="1607"/>
                  </a:lnTo>
                  <a:lnTo>
                    <a:pt x="1144" y="1614"/>
                  </a:lnTo>
                  <a:lnTo>
                    <a:pt x="1138" y="1614"/>
                  </a:lnTo>
                  <a:lnTo>
                    <a:pt x="1138" y="1620"/>
                  </a:lnTo>
                  <a:lnTo>
                    <a:pt x="1134" y="1620"/>
                  </a:lnTo>
                  <a:lnTo>
                    <a:pt x="1134" y="1631"/>
                  </a:lnTo>
                  <a:lnTo>
                    <a:pt x="1129" y="1631"/>
                  </a:lnTo>
                  <a:lnTo>
                    <a:pt x="1129" y="1649"/>
                  </a:lnTo>
                  <a:lnTo>
                    <a:pt x="1124" y="1649"/>
                  </a:lnTo>
                  <a:lnTo>
                    <a:pt x="1124" y="1661"/>
                  </a:lnTo>
                  <a:lnTo>
                    <a:pt x="1118" y="1661"/>
                  </a:lnTo>
                  <a:lnTo>
                    <a:pt x="1118" y="1674"/>
                  </a:lnTo>
                  <a:lnTo>
                    <a:pt x="1114" y="1674"/>
                  </a:lnTo>
                  <a:lnTo>
                    <a:pt x="1114" y="1685"/>
                  </a:lnTo>
                  <a:lnTo>
                    <a:pt x="1110" y="1685"/>
                  </a:lnTo>
                  <a:lnTo>
                    <a:pt x="1110" y="1691"/>
                  </a:lnTo>
                  <a:lnTo>
                    <a:pt x="1104" y="1691"/>
                  </a:lnTo>
                  <a:lnTo>
                    <a:pt x="1104" y="1702"/>
                  </a:lnTo>
                  <a:lnTo>
                    <a:pt x="1100" y="1702"/>
                  </a:lnTo>
                  <a:lnTo>
                    <a:pt x="1100" y="1715"/>
                  </a:lnTo>
                  <a:lnTo>
                    <a:pt x="1095" y="1715"/>
                  </a:lnTo>
                  <a:lnTo>
                    <a:pt x="1095" y="1720"/>
                  </a:lnTo>
                  <a:lnTo>
                    <a:pt x="1090" y="1720"/>
                  </a:lnTo>
                  <a:lnTo>
                    <a:pt x="1090" y="1732"/>
                  </a:lnTo>
                  <a:lnTo>
                    <a:pt x="1085" y="1732"/>
                  </a:lnTo>
                  <a:lnTo>
                    <a:pt x="1085" y="1738"/>
                  </a:lnTo>
                  <a:lnTo>
                    <a:pt x="1081" y="1738"/>
                  </a:lnTo>
                  <a:lnTo>
                    <a:pt x="1081" y="1750"/>
                  </a:lnTo>
                  <a:lnTo>
                    <a:pt x="1076" y="1750"/>
                  </a:lnTo>
                  <a:lnTo>
                    <a:pt x="1076" y="1756"/>
                  </a:lnTo>
                  <a:lnTo>
                    <a:pt x="1071" y="1756"/>
                  </a:lnTo>
                  <a:lnTo>
                    <a:pt x="1071" y="1767"/>
                  </a:lnTo>
                  <a:lnTo>
                    <a:pt x="1067" y="1767"/>
                  </a:lnTo>
                  <a:lnTo>
                    <a:pt x="1067" y="1780"/>
                  </a:lnTo>
                  <a:lnTo>
                    <a:pt x="1062" y="1780"/>
                  </a:lnTo>
                  <a:lnTo>
                    <a:pt x="1062" y="1785"/>
                  </a:lnTo>
                  <a:lnTo>
                    <a:pt x="1057" y="1785"/>
                  </a:lnTo>
                  <a:lnTo>
                    <a:pt x="1057" y="1803"/>
                  </a:lnTo>
                  <a:lnTo>
                    <a:pt x="1051" y="1803"/>
                  </a:lnTo>
                  <a:lnTo>
                    <a:pt x="1051" y="1815"/>
                  </a:lnTo>
                  <a:lnTo>
                    <a:pt x="1047" y="1815"/>
                  </a:lnTo>
                  <a:lnTo>
                    <a:pt x="1047" y="1826"/>
                  </a:lnTo>
                  <a:lnTo>
                    <a:pt x="1041" y="1826"/>
                  </a:lnTo>
                  <a:lnTo>
                    <a:pt x="1041" y="1838"/>
                  </a:lnTo>
                  <a:lnTo>
                    <a:pt x="1037" y="1838"/>
                  </a:lnTo>
                  <a:lnTo>
                    <a:pt x="1037" y="1844"/>
                  </a:lnTo>
                  <a:lnTo>
                    <a:pt x="1033" y="1844"/>
                  </a:lnTo>
                  <a:lnTo>
                    <a:pt x="1033" y="1862"/>
                  </a:lnTo>
                  <a:lnTo>
                    <a:pt x="1028" y="1862"/>
                  </a:lnTo>
                  <a:lnTo>
                    <a:pt x="1028" y="1868"/>
                  </a:lnTo>
                  <a:lnTo>
                    <a:pt x="1023" y="1868"/>
                  </a:lnTo>
                  <a:lnTo>
                    <a:pt x="1023" y="1879"/>
                  </a:lnTo>
                  <a:lnTo>
                    <a:pt x="1018" y="1879"/>
                  </a:lnTo>
                  <a:lnTo>
                    <a:pt x="1018" y="1892"/>
                  </a:lnTo>
                  <a:lnTo>
                    <a:pt x="1014" y="1892"/>
                  </a:lnTo>
                  <a:lnTo>
                    <a:pt x="1014" y="1898"/>
                  </a:lnTo>
                  <a:lnTo>
                    <a:pt x="1008" y="1898"/>
                  </a:lnTo>
                  <a:lnTo>
                    <a:pt x="1008" y="1911"/>
                  </a:lnTo>
                  <a:lnTo>
                    <a:pt x="1004" y="1911"/>
                  </a:lnTo>
                  <a:lnTo>
                    <a:pt x="1004" y="1916"/>
                  </a:lnTo>
                  <a:lnTo>
                    <a:pt x="999" y="1916"/>
                  </a:lnTo>
                  <a:lnTo>
                    <a:pt x="999" y="1921"/>
                  </a:lnTo>
                  <a:lnTo>
                    <a:pt x="994" y="1921"/>
                  </a:lnTo>
                  <a:lnTo>
                    <a:pt x="994" y="1927"/>
                  </a:lnTo>
                  <a:lnTo>
                    <a:pt x="990" y="1927"/>
                  </a:lnTo>
                  <a:lnTo>
                    <a:pt x="990" y="1939"/>
                  </a:lnTo>
                  <a:lnTo>
                    <a:pt x="985" y="1939"/>
                  </a:lnTo>
                  <a:lnTo>
                    <a:pt x="985" y="1944"/>
                  </a:lnTo>
                  <a:lnTo>
                    <a:pt x="974" y="1944"/>
                  </a:lnTo>
                  <a:lnTo>
                    <a:pt x="974" y="1952"/>
                  </a:lnTo>
                  <a:lnTo>
                    <a:pt x="970" y="1952"/>
                  </a:lnTo>
                  <a:lnTo>
                    <a:pt x="970" y="1957"/>
                  </a:lnTo>
                  <a:lnTo>
                    <a:pt x="966" y="1957"/>
                  </a:lnTo>
                  <a:lnTo>
                    <a:pt x="966" y="1962"/>
                  </a:lnTo>
                  <a:lnTo>
                    <a:pt x="960" y="1962"/>
                  </a:lnTo>
                  <a:lnTo>
                    <a:pt x="960" y="1969"/>
                  </a:lnTo>
                  <a:lnTo>
                    <a:pt x="956" y="1969"/>
                  </a:lnTo>
                  <a:lnTo>
                    <a:pt x="956" y="1974"/>
                  </a:lnTo>
                  <a:lnTo>
                    <a:pt x="951" y="1974"/>
                  </a:lnTo>
                  <a:lnTo>
                    <a:pt x="951" y="1979"/>
                  </a:lnTo>
                  <a:lnTo>
                    <a:pt x="946" y="1979"/>
                  </a:lnTo>
                  <a:lnTo>
                    <a:pt x="946" y="1987"/>
                  </a:lnTo>
                  <a:lnTo>
                    <a:pt x="941" y="1987"/>
                  </a:lnTo>
                  <a:lnTo>
                    <a:pt x="941" y="1998"/>
                  </a:lnTo>
                  <a:lnTo>
                    <a:pt x="937" y="1998"/>
                  </a:lnTo>
                  <a:lnTo>
                    <a:pt x="937" y="2003"/>
                  </a:lnTo>
                  <a:lnTo>
                    <a:pt x="932" y="2003"/>
                  </a:lnTo>
                  <a:lnTo>
                    <a:pt x="932" y="2010"/>
                  </a:lnTo>
                  <a:lnTo>
                    <a:pt x="923" y="2010"/>
                  </a:lnTo>
                  <a:lnTo>
                    <a:pt x="923" y="2015"/>
                  </a:lnTo>
                  <a:lnTo>
                    <a:pt x="918" y="2015"/>
                  </a:lnTo>
                  <a:lnTo>
                    <a:pt x="918" y="2028"/>
                  </a:lnTo>
                  <a:lnTo>
                    <a:pt x="913" y="2028"/>
                  </a:lnTo>
                  <a:lnTo>
                    <a:pt x="913" y="2033"/>
                  </a:lnTo>
                  <a:lnTo>
                    <a:pt x="907" y="2033"/>
                  </a:lnTo>
                  <a:lnTo>
                    <a:pt x="907" y="2039"/>
                  </a:lnTo>
                  <a:lnTo>
                    <a:pt x="903" y="2039"/>
                  </a:lnTo>
                  <a:lnTo>
                    <a:pt x="903" y="2045"/>
                  </a:lnTo>
                  <a:lnTo>
                    <a:pt x="898" y="2045"/>
                  </a:lnTo>
                  <a:lnTo>
                    <a:pt x="898" y="2052"/>
                  </a:lnTo>
                  <a:lnTo>
                    <a:pt x="889" y="2052"/>
                  </a:lnTo>
                  <a:lnTo>
                    <a:pt x="889" y="2057"/>
                  </a:lnTo>
                  <a:lnTo>
                    <a:pt x="884" y="2057"/>
                  </a:lnTo>
                  <a:lnTo>
                    <a:pt x="884" y="2063"/>
                  </a:lnTo>
                  <a:lnTo>
                    <a:pt x="874" y="2063"/>
                  </a:lnTo>
                  <a:lnTo>
                    <a:pt x="874" y="2069"/>
                  </a:lnTo>
                  <a:lnTo>
                    <a:pt x="870" y="2069"/>
                  </a:lnTo>
                  <a:lnTo>
                    <a:pt x="870" y="2074"/>
                  </a:lnTo>
                  <a:lnTo>
                    <a:pt x="864" y="2074"/>
                  </a:lnTo>
                  <a:lnTo>
                    <a:pt x="864" y="2080"/>
                  </a:lnTo>
                  <a:lnTo>
                    <a:pt x="860" y="2080"/>
                  </a:lnTo>
                  <a:lnTo>
                    <a:pt x="860" y="2087"/>
                  </a:lnTo>
                  <a:lnTo>
                    <a:pt x="850" y="2087"/>
                  </a:lnTo>
                  <a:lnTo>
                    <a:pt x="850" y="2093"/>
                  </a:lnTo>
                  <a:lnTo>
                    <a:pt x="841" y="2093"/>
                  </a:lnTo>
                  <a:lnTo>
                    <a:pt x="841" y="2098"/>
                  </a:lnTo>
                  <a:lnTo>
                    <a:pt x="835" y="2098"/>
                  </a:lnTo>
                  <a:lnTo>
                    <a:pt x="835" y="2110"/>
                  </a:lnTo>
                  <a:lnTo>
                    <a:pt x="830" y="2110"/>
                  </a:lnTo>
                  <a:lnTo>
                    <a:pt x="830" y="2117"/>
                  </a:lnTo>
                  <a:lnTo>
                    <a:pt x="826" y="2117"/>
                  </a:lnTo>
                  <a:lnTo>
                    <a:pt x="826" y="2121"/>
                  </a:lnTo>
                  <a:lnTo>
                    <a:pt x="821" y="2121"/>
                  </a:lnTo>
                  <a:lnTo>
                    <a:pt x="821" y="2128"/>
                  </a:lnTo>
                  <a:lnTo>
                    <a:pt x="816" y="2128"/>
                  </a:lnTo>
                  <a:lnTo>
                    <a:pt x="816" y="2134"/>
                  </a:lnTo>
                  <a:lnTo>
                    <a:pt x="812" y="2134"/>
                  </a:lnTo>
                  <a:lnTo>
                    <a:pt x="812" y="2146"/>
                  </a:lnTo>
                  <a:lnTo>
                    <a:pt x="807" y="2146"/>
                  </a:lnTo>
                  <a:lnTo>
                    <a:pt x="807" y="2151"/>
                  </a:lnTo>
                  <a:lnTo>
                    <a:pt x="797" y="2151"/>
                  </a:lnTo>
                  <a:lnTo>
                    <a:pt x="797" y="2158"/>
                  </a:lnTo>
                  <a:lnTo>
                    <a:pt x="788" y="2158"/>
                  </a:lnTo>
                  <a:lnTo>
                    <a:pt x="788" y="2164"/>
                  </a:lnTo>
                  <a:lnTo>
                    <a:pt x="783" y="2164"/>
                  </a:lnTo>
                  <a:lnTo>
                    <a:pt x="783" y="2170"/>
                  </a:lnTo>
                  <a:lnTo>
                    <a:pt x="778" y="2170"/>
                  </a:lnTo>
                  <a:lnTo>
                    <a:pt x="778" y="2175"/>
                  </a:lnTo>
                  <a:lnTo>
                    <a:pt x="774" y="2175"/>
                  </a:lnTo>
                  <a:lnTo>
                    <a:pt x="774" y="2180"/>
                  </a:lnTo>
                  <a:lnTo>
                    <a:pt x="769" y="2180"/>
                  </a:lnTo>
                  <a:lnTo>
                    <a:pt x="769" y="2188"/>
                  </a:lnTo>
                  <a:lnTo>
                    <a:pt x="763" y="2188"/>
                  </a:lnTo>
                  <a:lnTo>
                    <a:pt x="763" y="2193"/>
                  </a:lnTo>
                  <a:lnTo>
                    <a:pt x="753" y="2193"/>
                  </a:lnTo>
                  <a:lnTo>
                    <a:pt x="753" y="2199"/>
                  </a:lnTo>
                  <a:lnTo>
                    <a:pt x="744" y="2199"/>
                  </a:lnTo>
                  <a:lnTo>
                    <a:pt x="744" y="2205"/>
                  </a:lnTo>
                  <a:lnTo>
                    <a:pt x="740" y="2205"/>
                  </a:lnTo>
                  <a:lnTo>
                    <a:pt x="740" y="2211"/>
                  </a:lnTo>
                  <a:lnTo>
                    <a:pt x="734" y="2211"/>
                  </a:lnTo>
                  <a:lnTo>
                    <a:pt x="734" y="2216"/>
                  </a:lnTo>
                  <a:lnTo>
                    <a:pt x="730" y="2216"/>
                  </a:lnTo>
                  <a:lnTo>
                    <a:pt x="730" y="2223"/>
                  </a:lnTo>
                  <a:lnTo>
                    <a:pt x="726" y="2223"/>
                  </a:lnTo>
                  <a:lnTo>
                    <a:pt x="726" y="2229"/>
                  </a:lnTo>
                  <a:lnTo>
                    <a:pt x="720" y="2229"/>
                  </a:lnTo>
                  <a:lnTo>
                    <a:pt x="720" y="2234"/>
                  </a:lnTo>
                  <a:lnTo>
                    <a:pt x="716" y="2234"/>
                  </a:lnTo>
                  <a:lnTo>
                    <a:pt x="716" y="2240"/>
                  </a:lnTo>
                  <a:lnTo>
                    <a:pt x="711" y="2240"/>
                  </a:lnTo>
                  <a:lnTo>
                    <a:pt x="711" y="2246"/>
                  </a:lnTo>
                  <a:lnTo>
                    <a:pt x="706" y="2246"/>
                  </a:lnTo>
                  <a:lnTo>
                    <a:pt x="706" y="2253"/>
                  </a:lnTo>
                  <a:lnTo>
                    <a:pt x="697" y="2253"/>
                  </a:lnTo>
                  <a:lnTo>
                    <a:pt x="697" y="2258"/>
                  </a:lnTo>
                  <a:lnTo>
                    <a:pt x="686" y="2258"/>
                  </a:lnTo>
                  <a:lnTo>
                    <a:pt x="686" y="2265"/>
                  </a:lnTo>
                  <a:lnTo>
                    <a:pt x="682" y="2265"/>
                  </a:lnTo>
                  <a:lnTo>
                    <a:pt x="682" y="2270"/>
                  </a:lnTo>
                  <a:lnTo>
                    <a:pt x="677" y="2270"/>
                  </a:lnTo>
                  <a:lnTo>
                    <a:pt x="677" y="2281"/>
                  </a:lnTo>
                  <a:lnTo>
                    <a:pt x="672" y="2281"/>
                  </a:lnTo>
                  <a:lnTo>
                    <a:pt x="672" y="2287"/>
                  </a:lnTo>
                  <a:lnTo>
                    <a:pt x="667" y="2287"/>
                  </a:lnTo>
                  <a:lnTo>
                    <a:pt x="667" y="2294"/>
                  </a:lnTo>
                  <a:lnTo>
                    <a:pt x="663" y="2294"/>
                  </a:lnTo>
                  <a:lnTo>
                    <a:pt x="663" y="2299"/>
                  </a:lnTo>
                  <a:lnTo>
                    <a:pt x="657" y="2299"/>
                  </a:lnTo>
                  <a:lnTo>
                    <a:pt x="657" y="2306"/>
                  </a:lnTo>
                  <a:lnTo>
                    <a:pt x="649" y="2306"/>
                  </a:lnTo>
                  <a:lnTo>
                    <a:pt x="649" y="2317"/>
                  </a:lnTo>
                  <a:lnTo>
                    <a:pt x="644" y="2317"/>
                  </a:lnTo>
                  <a:lnTo>
                    <a:pt x="644" y="2324"/>
                  </a:lnTo>
                  <a:lnTo>
                    <a:pt x="634" y="2324"/>
                  </a:lnTo>
                  <a:lnTo>
                    <a:pt x="634" y="2329"/>
                  </a:lnTo>
                  <a:lnTo>
                    <a:pt x="630" y="2329"/>
                  </a:lnTo>
                  <a:lnTo>
                    <a:pt x="630" y="2335"/>
                  </a:lnTo>
                  <a:lnTo>
                    <a:pt x="625" y="2335"/>
                  </a:lnTo>
                  <a:lnTo>
                    <a:pt x="625" y="2341"/>
                  </a:lnTo>
                  <a:lnTo>
                    <a:pt x="619" y="2341"/>
                  </a:lnTo>
                  <a:lnTo>
                    <a:pt x="619" y="2347"/>
                  </a:lnTo>
                  <a:lnTo>
                    <a:pt x="615" y="2347"/>
                  </a:lnTo>
                  <a:lnTo>
                    <a:pt x="615" y="2359"/>
                  </a:lnTo>
                  <a:lnTo>
                    <a:pt x="605" y="2359"/>
                  </a:lnTo>
                  <a:lnTo>
                    <a:pt x="605" y="2365"/>
                  </a:lnTo>
                  <a:lnTo>
                    <a:pt x="596" y="2365"/>
                  </a:lnTo>
                  <a:lnTo>
                    <a:pt x="596" y="2376"/>
                  </a:lnTo>
                  <a:lnTo>
                    <a:pt x="586" y="2376"/>
                  </a:lnTo>
                  <a:lnTo>
                    <a:pt x="586" y="2382"/>
                  </a:lnTo>
                  <a:lnTo>
                    <a:pt x="576" y="2382"/>
                  </a:lnTo>
                  <a:lnTo>
                    <a:pt x="576" y="2389"/>
                  </a:lnTo>
                  <a:lnTo>
                    <a:pt x="572" y="2389"/>
                  </a:lnTo>
                  <a:lnTo>
                    <a:pt x="572" y="2394"/>
                  </a:lnTo>
                  <a:lnTo>
                    <a:pt x="567" y="2394"/>
                  </a:lnTo>
                  <a:lnTo>
                    <a:pt x="567" y="2406"/>
                  </a:lnTo>
                  <a:lnTo>
                    <a:pt x="562" y="2406"/>
                  </a:lnTo>
                  <a:lnTo>
                    <a:pt x="562" y="2411"/>
                  </a:lnTo>
                  <a:lnTo>
                    <a:pt x="558" y="2411"/>
                  </a:lnTo>
                  <a:lnTo>
                    <a:pt x="558" y="2417"/>
                  </a:lnTo>
                  <a:lnTo>
                    <a:pt x="547" y="2417"/>
                  </a:lnTo>
                  <a:lnTo>
                    <a:pt x="547" y="2423"/>
                  </a:lnTo>
                  <a:lnTo>
                    <a:pt x="542" y="2423"/>
                  </a:lnTo>
                  <a:lnTo>
                    <a:pt x="542" y="2430"/>
                  </a:lnTo>
                  <a:lnTo>
                    <a:pt x="533" y="2430"/>
                  </a:lnTo>
                  <a:lnTo>
                    <a:pt x="533" y="2435"/>
                  </a:lnTo>
                  <a:lnTo>
                    <a:pt x="523" y="2435"/>
                  </a:lnTo>
                  <a:lnTo>
                    <a:pt x="523" y="2441"/>
                  </a:lnTo>
                  <a:lnTo>
                    <a:pt x="519" y="2441"/>
                  </a:lnTo>
                  <a:lnTo>
                    <a:pt x="519" y="2447"/>
                  </a:lnTo>
                  <a:lnTo>
                    <a:pt x="514" y="2447"/>
                  </a:lnTo>
                  <a:lnTo>
                    <a:pt x="514" y="2452"/>
                  </a:lnTo>
                  <a:lnTo>
                    <a:pt x="509" y="2452"/>
                  </a:lnTo>
                  <a:lnTo>
                    <a:pt x="509" y="2460"/>
                  </a:lnTo>
                  <a:lnTo>
                    <a:pt x="505" y="2460"/>
                  </a:lnTo>
                  <a:lnTo>
                    <a:pt x="505" y="2465"/>
                  </a:lnTo>
                  <a:lnTo>
                    <a:pt x="500" y="2465"/>
                  </a:lnTo>
                  <a:lnTo>
                    <a:pt x="500" y="2476"/>
                  </a:lnTo>
                  <a:lnTo>
                    <a:pt x="490" y="2476"/>
                  </a:lnTo>
                  <a:lnTo>
                    <a:pt x="490" y="2483"/>
                  </a:lnTo>
                  <a:lnTo>
                    <a:pt x="476" y="2483"/>
                  </a:lnTo>
                  <a:lnTo>
                    <a:pt x="476" y="2488"/>
                  </a:lnTo>
                  <a:lnTo>
                    <a:pt x="471" y="2488"/>
                  </a:lnTo>
                  <a:lnTo>
                    <a:pt x="471" y="2493"/>
                  </a:lnTo>
                  <a:lnTo>
                    <a:pt x="465" y="2493"/>
                  </a:lnTo>
                  <a:lnTo>
                    <a:pt x="465" y="2501"/>
                  </a:lnTo>
                  <a:lnTo>
                    <a:pt x="461" y="2501"/>
                  </a:lnTo>
                  <a:lnTo>
                    <a:pt x="461" y="2506"/>
                  </a:lnTo>
                  <a:lnTo>
                    <a:pt x="456" y="2506"/>
                  </a:lnTo>
                  <a:lnTo>
                    <a:pt x="456" y="2512"/>
                  </a:lnTo>
                  <a:lnTo>
                    <a:pt x="451" y="2512"/>
                  </a:lnTo>
                  <a:lnTo>
                    <a:pt x="451" y="2525"/>
                  </a:lnTo>
                  <a:lnTo>
                    <a:pt x="446" y="2525"/>
                  </a:lnTo>
                  <a:lnTo>
                    <a:pt x="446" y="2530"/>
                  </a:lnTo>
                  <a:lnTo>
                    <a:pt x="437" y="2530"/>
                  </a:lnTo>
                  <a:lnTo>
                    <a:pt x="437" y="2536"/>
                  </a:lnTo>
                  <a:lnTo>
                    <a:pt x="428" y="2536"/>
                  </a:lnTo>
                  <a:lnTo>
                    <a:pt x="428" y="2542"/>
                  </a:lnTo>
                  <a:lnTo>
                    <a:pt x="418" y="2542"/>
                  </a:lnTo>
                  <a:lnTo>
                    <a:pt x="418" y="2547"/>
                  </a:lnTo>
                  <a:lnTo>
                    <a:pt x="409" y="2547"/>
                  </a:lnTo>
                  <a:lnTo>
                    <a:pt x="409" y="2553"/>
                  </a:lnTo>
                  <a:lnTo>
                    <a:pt x="404" y="2553"/>
                  </a:lnTo>
                  <a:lnTo>
                    <a:pt x="404" y="2559"/>
                  </a:lnTo>
                  <a:lnTo>
                    <a:pt x="398" y="2559"/>
                  </a:lnTo>
                  <a:lnTo>
                    <a:pt x="398" y="2566"/>
                  </a:lnTo>
                  <a:lnTo>
                    <a:pt x="393" y="2566"/>
                  </a:lnTo>
                  <a:lnTo>
                    <a:pt x="393" y="2571"/>
                  </a:lnTo>
                  <a:lnTo>
                    <a:pt x="389" y="2571"/>
                  </a:lnTo>
                  <a:lnTo>
                    <a:pt x="389" y="2577"/>
                  </a:lnTo>
                  <a:lnTo>
                    <a:pt x="384" y="2577"/>
                  </a:lnTo>
                  <a:lnTo>
                    <a:pt x="384" y="2583"/>
                  </a:lnTo>
                  <a:lnTo>
                    <a:pt x="379" y="2583"/>
                  </a:lnTo>
                  <a:lnTo>
                    <a:pt x="379" y="2589"/>
                  </a:lnTo>
                  <a:lnTo>
                    <a:pt x="375" y="2589"/>
                  </a:lnTo>
                  <a:lnTo>
                    <a:pt x="375" y="2594"/>
                  </a:lnTo>
                  <a:lnTo>
                    <a:pt x="369" y="2594"/>
                  </a:lnTo>
                  <a:lnTo>
                    <a:pt x="369" y="2601"/>
                  </a:lnTo>
                  <a:lnTo>
                    <a:pt x="365" y="2601"/>
                  </a:lnTo>
                  <a:lnTo>
                    <a:pt x="365" y="2607"/>
                  </a:lnTo>
                  <a:lnTo>
                    <a:pt x="360" y="2607"/>
                  </a:lnTo>
                  <a:lnTo>
                    <a:pt x="360" y="2612"/>
                  </a:lnTo>
                  <a:lnTo>
                    <a:pt x="356" y="2612"/>
                  </a:lnTo>
                  <a:lnTo>
                    <a:pt x="356" y="2619"/>
                  </a:lnTo>
                  <a:lnTo>
                    <a:pt x="351" y="2619"/>
                  </a:lnTo>
                  <a:lnTo>
                    <a:pt x="351" y="2624"/>
                  </a:lnTo>
                  <a:lnTo>
                    <a:pt x="346" y="2624"/>
                  </a:lnTo>
                  <a:lnTo>
                    <a:pt x="346" y="2631"/>
                  </a:lnTo>
                  <a:lnTo>
                    <a:pt x="342" y="2631"/>
                  </a:lnTo>
                  <a:lnTo>
                    <a:pt x="342" y="2637"/>
                  </a:lnTo>
                  <a:lnTo>
                    <a:pt x="332" y="2637"/>
                  </a:lnTo>
                  <a:lnTo>
                    <a:pt x="332" y="2648"/>
                  </a:lnTo>
                  <a:lnTo>
                    <a:pt x="326" y="2648"/>
                  </a:lnTo>
                  <a:lnTo>
                    <a:pt x="326" y="2653"/>
                  </a:lnTo>
                  <a:lnTo>
                    <a:pt x="316" y="2653"/>
                  </a:lnTo>
                  <a:lnTo>
                    <a:pt x="316" y="2661"/>
                  </a:lnTo>
                  <a:lnTo>
                    <a:pt x="307" y="2661"/>
                  </a:lnTo>
                  <a:lnTo>
                    <a:pt x="307" y="2666"/>
                  </a:lnTo>
                  <a:lnTo>
                    <a:pt x="302" y="2666"/>
                  </a:lnTo>
                  <a:lnTo>
                    <a:pt x="302" y="2672"/>
                  </a:lnTo>
                  <a:lnTo>
                    <a:pt x="293" y="2672"/>
                  </a:lnTo>
                  <a:lnTo>
                    <a:pt x="293" y="2684"/>
                  </a:lnTo>
                  <a:lnTo>
                    <a:pt x="283" y="2684"/>
                  </a:lnTo>
                  <a:lnTo>
                    <a:pt x="283" y="2689"/>
                  </a:lnTo>
                  <a:lnTo>
                    <a:pt x="279" y="2689"/>
                  </a:lnTo>
                  <a:lnTo>
                    <a:pt x="279" y="2702"/>
                  </a:lnTo>
                  <a:lnTo>
                    <a:pt x="269" y="2702"/>
                  </a:lnTo>
                  <a:lnTo>
                    <a:pt x="269" y="2707"/>
                  </a:lnTo>
                  <a:lnTo>
                    <a:pt x="265" y="2707"/>
                  </a:lnTo>
                  <a:lnTo>
                    <a:pt x="265" y="2713"/>
                  </a:lnTo>
                  <a:lnTo>
                    <a:pt x="254" y="2713"/>
                  </a:lnTo>
                  <a:lnTo>
                    <a:pt x="254" y="2719"/>
                  </a:lnTo>
                  <a:lnTo>
                    <a:pt x="250" y="2719"/>
                  </a:lnTo>
                  <a:lnTo>
                    <a:pt x="250" y="2725"/>
                  </a:lnTo>
                  <a:lnTo>
                    <a:pt x="240" y="2725"/>
                  </a:lnTo>
                  <a:lnTo>
                    <a:pt x="240" y="2730"/>
                  </a:lnTo>
                  <a:lnTo>
                    <a:pt x="231" y="2730"/>
                  </a:lnTo>
                  <a:lnTo>
                    <a:pt x="231" y="2738"/>
                  </a:lnTo>
                  <a:lnTo>
                    <a:pt x="225" y="2738"/>
                  </a:lnTo>
                  <a:lnTo>
                    <a:pt x="225" y="2743"/>
                  </a:lnTo>
                  <a:lnTo>
                    <a:pt x="217" y="2743"/>
                  </a:lnTo>
                  <a:lnTo>
                    <a:pt x="217" y="2748"/>
                  </a:lnTo>
                  <a:lnTo>
                    <a:pt x="212" y="2748"/>
                  </a:lnTo>
                  <a:lnTo>
                    <a:pt x="212" y="2754"/>
                  </a:lnTo>
                  <a:lnTo>
                    <a:pt x="202" y="2754"/>
                  </a:lnTo>
                  <a:lnTo>
                    <a:pt x="202" y="2767"/>
                  </a:lnTo>
                  <a:lnTo>
                    <a:pt x="198" y="2767"/>
                  </a:lnTo>
                  <a:lnTo>
                    <a:pt x="198" y="2772"/>
                  </a:lnTo>
                  <a:lnTo>
                    <a:pt x="188" y="2772"/>
                  </a:lnTo>
                  <a:lnTo>
                    <a:pt x="188" y="2779"/>
                  </a:lnTo>
                  <a:lnTo>
                    <a:pt x="173" y="2779"/>
                  </a:lnTo>
                  <a:lnTo>
                    <a:pt x="173" y="2784"/>
                  </a:lnTo>
                  <a:lnTo>
                    <a:pt x="168" y="2784"/>
                  </a:lnTo>
                  <a:lnTo>
                    <a:pt x="168" y="2790"/>
                  </a:lnTo>
                  <a:lnTo>
                    <a:pt x="158" y="2790"/>
                  </a:lnTo>
                  <a:lnTo>
                    <a:pt x="158" y="2797"/>
                  </a:lnTo>
                  <a:lnTo>
                    <a:pt x="154" y="2797"/>
                  </a:lnTo>
                  <a:lnTo>
                    <a:pt x="154" y="2802"/>
                  </a:lnTo>
                  <a:lnTo>
                    <a:pt x="149" y="2802"/>
                  </a:lnTo>
                  <a:lnTo>
                    <a:pt x="149" y="2808"/>
                  </a:lnTo>
                  <a:lnTo>
                    <a:pt x="144" y="2808"/>
                  </a:lnTo>
                  <a:lnTo>
                    <a:pt x="144" y="2814"/>
                  </a:lnTo>
                  <a:lnTo>
                    <a:pt x="135" y="2814"/>
                  </a:lnTo>
                  <a:lnTo>
                    <a:pt x="135" y="2819"/>
                  </a:lnTo>
                  <a:lnTo>
                    <a:pt x="130" y="2819"/>
                  </a:lnTo>
                  <a:lnTo>
                    <a:pt x="130" y="2825"/>
                  </a:lnTo>
                  <a:lnTo>
                    <a:pt x="121" y="2825"/>
                  </a:lnTo>
                  <a:lnTo>
                    <a:pt x="121" y="2830"/>
                  </a:lnTo>
                  <a:lnTo>
                    <a:pt x="116" y="2830"/>
                  </a:lnTo>
                  <a:lnTo>
                    <a:pt x="116" y="2838"/>
                  </a:lnTo>
                  <a:lnTo>
                    <a:pt x="110" y="2838"/>
                  </a:lnTo>
                  <a:lnTo>
                    <a:pt x="110" y="2843"/>
                  </a:lnTo>
                  <a:lnTo>
                    <a:pt x="101" y="2843"/>
                  </a:lnTo>
                  <a:lnTo>
                    <a:pt x="101" y="2849"/>
                  </a:lnTo>
                  <a:lnTo>
                    <a:pt x="95" y="2849"/>
                  </a:lnTo>
                  <a:lnTo>
                    <a:pt x="95" y="2855"/>
                  </a:lnTo>
                  <a:lnTo>
                    <a:pt x="91" y="2855"/>
                  </a:lnTo>
                  <a:lnTo>
                    <a:pt x="91" y="2860"/>
                  </a:lnTo>
                  <a:lnTo>
                    <a:pt x="87" y="2860"/>
                  </a:lnTo>
                  <a:lnTo>
                    <a:pt x="87" y="2866"/>
                  </a:lnTo>
                  <a:lnTo>
                    <a:pt x="77" y="2866"/>
                  </a:lnTo>
                  <a:lnTo>
                    <a:pt x="77" y="2873"/>
                  </a:lnTo>
                  <a:lnTo>
                    <a:pt x="72" y="2873"/>
                  </a:lnTo>
                  <a:lnTo>
                    <a:pt x="72" y="2879"/>
                  </a:lnTo>
                  <a:lnTo>
                    <a:pt x="67" y="2879"/>
                  </a:lnTo>
                  <a:lnTo>
                    <a:pt x="67" y="2884"/>
                  </a:lnTo>
                  <a:lnTo>
                    <a:pt x="62" y="2884"/>
                  </a:lnTo>
                  <a:lnTo>
                    <a:pt x="62" y="2890"/>
                  </a:lnTo>
                  <a:lnTo>
                    <a:pt x="54" y="2890"/>
                  </a:lnTo>
                  <a:lnTo>
                    <a:pt x="54" y="2896"/>
                  </a:lnTo>
                  <a:lnTo>
                    <a:pt x="48" y="2896"/>
                  </a:lnTo>
                  <a:lnTo>
                    <a:pt x="48" y="2903"/>
                  </a:lnTo>
                  <a:lnTo>
                    <a:pt x="44" y="2903"/>
                  </a:lnTo>
                  <a:lnTo>
                    <a:pt x="44" y="2908"/>
                  </a:lnTo>
                  <a:lnTo>
                    <a:pt x="38" y="2908"/>
                  </a:lnTo>
                  <a:lnTo>
                    <a:pt x="38" y="2914"/>
                  </a:lnTo>
                  <a:lnTo>
                    <a:pt x="10" y="2914"/>
                  </a:lnTo>
                  <a:lnTo>
                    <a:pt x="10" y="2908"/>
                  </a:lnTo>
                  <a:lnTo>
                    <a:pt x="5" y="2908"/>
                  </a:lnTo>
                  <a:lnTo>
                    <a:pt x="5" y="2903"/>
                  </a:lnTo>
                  <a:lnTo>
                    <a:pt x="0" y="2903"/>
                  </a:lnTo>
                  <a:lnTo>
                    <a:pt x="0" y="289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4320" y="1936800"/>
              <a:ext cx="117720" cy="144360"/>
            </a:xfrm>
            <a:custGeom>
              <a:avLst/>
              <a:gdLst/>
              <a:ahLst/>
              <a:rect l="l" t="t" r="r" b="b"/>
              <a:pathLst>
                <a:path w="222" h="366">
                  <a:moveTo>
                    <a:pt x="0" y="348"/>
                  </a:moveTo>
                  <a:lnTo>
                    <a:pt x="5" y="348"/>
                  </a:lnTo>
                  <a:lnTo>
                    <a:pt x="5" y="343"/>
                  </a:lnTo>
                  <a:lnTo>
                    <a:pt x="10" y="343"/>
                  </a:lnTo>
                  <a:lnTo>
                    <a:pt x="10" y="338"/>
                  </a:lnTo>
                  <a:lnTo>
                    <a:pt x="16" y="338"/>
                  </a:lnTo>
                  <a:lnTo>
                    <a:pt x="16" y="325"/>
                  </a:lnTo>
                  <a:lnTo>
                    <a:pt x="20" y="325"/>
                  </a:lnTo>
                  <a:lnTo>
                    <a:pt x="20" y="302"/>
                  </a:lnTo>
                  <a:lnTo>
                    <a:pt x="26" y="302"/>
                  </a:lnTo>
                  <a:lnTo>
                    <a:pt x="26" y="284"/>
                  </a:lnTo>
                  <a:lnTo>
                    <a:pt x="30" y="284"/>
                  </a:lnTo>
                  <a:lnTo>
                    <a:pt x="30" y="272"/>
                  </a:lnTo>
                  <a:lnTo>
                    <a:pt x="34" y="272"/>
                  </a:lnTo>
                  <a:lnTo>
                    <a:pt x="34" y="235"/>
                  </a:lnTo>
                  <a:lnTo>
                    <a:pt x="30" y="235"/>
                  </a:lnTo>
                  <a:lnTo>
                    <a:pt x="30" y="212"/>
                  </a:lnTo>
                  <a:lnTo>
                    <a:pt x="26" y="212"/>
                  </a:lnTo>
                  <a:lnTo>
                    <a:pt x="26" y="200"/>
                  </a:lnTo>
                  <a:lnTo>
                    <a:pt x="30" y="200"/>
                  </a:lnTo>
                  <a:lnTo>
                    <a:pt x="30" y="194"/>
                  </a:lnTo>
                  <a:lnTo>
                    <a:pt x="39" y="194"/>
                  </a:lnTo>
                  <a:lnTo>
                    <a:pt x="39" y="200"/>
                  </a:lnTo>
                  <a:lnTo>
                    <a:pt x="44" y="200"/>
                  </a:lnTo>
                  <a:lnTo>
                    <a:pt x="44" y="207"/>
                  </a:lnTo>
                  <a:lnTo>
                    <a:pt x="53" y="207"/>
                  </a:lnTo>
                  <a:lnTo>
                    <a:pt x="53" y="212"/>
                  </a:lnTo>
                  <a:lnTo>
                    <a:pt x="77" y="212"/>
                  </a:lnTo>
                  <a:lnTo>
                    <a:pt x="77" y="207"/>
                  </a:lnTo>
                  <a:lnTo>
                    <a:pt x="93" y="207"/>
                  </a:lnTo>
                  <a:lnTo>
                    <a:pt x="93" y="200"/>
                  </a:lnTo>
                  <a:lnTo>
                    <a:pt x="97" y="200"/>
                  </a:lnTo>
                  <a:lnTo>
                    <a:pt x="97" y="194"/>
                  </a:lnTo>
                  <a:lnTo>
                    <a:pt x="102" y="194"/>
                  </a:lnTo>
                  <a:lnTo>
                    <a:pt x="102" y="189"/>
                  </a:lnTo>
                  <a:lnTo>
                    <a:pt x="107" y="189"/>
                  </a:lnTo>
                  <a:lnTo>
                    <a:pt x="107" y="177"/>
                  </a:lnTo>
                  <a:lnTo>
                    <a:pt x="111" y="177"/>
                  </a:lnTo>
                  <a:lnTo>
                    <a:pt x="111" y="166"/>
                  </a:lnTo>
                  <a:lnTo>
                    <a:pt x="116" y="166"/>
                  </a:lnTo>
                  <a:lnTo>
                    <a:pt x="116" y="159"/>
                  </a:lnTo>
                  <a:lnTo>
                    <a:pt x="121" y="159"/>
                  </a:lnTo>
                  <a:lnTo>
                    <a:pt x="121" y="136"/>
                  </a:lnTo>
                  <a:lnTo>
                    <a:pt x="126" y="136"/>
                  </a:lnTo>
                  <a:lnTo>
                    <a:pt x="126" y="101"/>
                  </a:lnTo>
                  <a:lnTo>
                    <a:pt x="140" y="101"/>
                  </a:lnTo>
                  <a:lnTo>
                    <a:pt x="140" y="106"/>
                  </a:lnTo>
                  <a:lnTo>
                    <a:pt x="164" y="106"/>
                  </a:lnTo>
                  <a:lnTo>
                    <a:pt x="164" y="101"/>
                  </a:lnTo>
                  <a:lnTo>
                    <a:pt x="170" y="101"/>
                  </a:lnTo>
                  <a:lnTo>
                    <a:pt x="170" y="93"/>
                  </a:lnTo>
                  <a:lnTo>
                    <a:pt x="174" y="93"/>
                  </a:lnTo>
                  <a:lnTo>
                    <a:pt x="174" y="88"/>
                  </a:lnTo>
                  <a:lnTo>
                    <a:pt x="179" y="88"/>
                  </a:lnTo>
                  <a:lnTo>
                    <a:pt x="179" y="76"/>
                  </a:lnTo>
                  <a:lnTo>
                    <a:pt x="184" y="76"/>
                  </a:lnTo>
                  <a:lnTo>
                    <a:pt x="184" y="66"/>
                  </a:lnTo>
                  <a:lnTo>
                    <a:pt x="189" y="66"/>
                  </a:lnTo>
                  <a:lnTo>
                    <a:pt x="189" y="53"/>
                  </a:lnTo>
                  <a:lnTo>
                    <a:pt x="193" y="53"/>
                  </a:lnTo>
                  <a:lnTo>
                    <a:pt x="193" y="47"/>
                  </a:lnTo>
                  <a:lnTo>
                    <a:pt x="197" y="47"/>
                  </a:lnTo>
                  <a:lnTo>
                    <a:pt x="197" y="30"/>
                  </a:lnTo>
                  <a:lnTo>
                    <a:pt x="203" y="30"/>
                  </a:lnTo>
                  <a:lnTo>
                    <a:pt x="203" y="25"/>
                  </a:lnTo>
                  <a:lnTo>
                    <a:pt x="207" y="25"/>
                  </a:lnTo>
                  <a:lnTo>
                    <a:pt x="207" y="6"/>
                  </a:lnTo>
                  <a:lnTo>
                    <a:pt x="212" y="6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2" y="12"/>
                  </a:lnTo>
                  <a:lnTo>
                    <a:pt x="217" y="12"/>
                  </a:lnTo>
                  <a:lnTo>
                    <a:pt x="217" y="30"/>
                  </a:lnTo>
                  <a:lnTo>
                    <a:pt x="212" y="30"/>
                  </a:lnTo>
                  <a:lnTo>
                    <a:pt x="212" y="42"/>
                  </a:lnTo>
                  <a:lnTo>
                    <a:pt x="207" y="42"/>
                  </a:lnTo>
                  <a:lnTo>
                    <a:pt x="207" y="53"/>
                  </a:lnTo>
                  <a:lnTo>
                    <a:pt x="203" y="53"/>
                  </a:lnTo>
                  <a:lnTo>
                    <a:pt x="203" y="58"/>
                  </a:lnTo>
                  <a:lnTo>
                    <a:pt x="197" y="58"/>
                  </a:lnTo>
                  <a:lnTo>
                    <a:pt x="197" y="71"/>
                  </a:lnTo>
                  <a:lnTo>
                    <a:pt x="193" y="71"/>
                  </a:lnTo>
                  <a:lnTo>
                    <a:pt x="193" y="83"/>
                  </a:lnTo>
                  <a:lnTo>
                    <a:pt x="189" y="83"/>
                  </a:lnTo>
                  <a:lnTo>
                    <a:pt x="189" y="93"/>
                  </a:lnTo>
                  <a:lnTo>
                    <a:pt x="184" y="93"/>
                  </a:lnTo>
                  <a:lnTo>
                    <a:pt x="184" y="101"/>
                  </a:lnTo>
                  <a:lnTo>
                    <a:pt x="179" y="101"/>
                  </a:lnTo>
                  <a:lnTo>
                    <a:pt x="179" y="106"/>
                  </a:lnTo>
                  <a:lnTo>
                    <a:pt x="174" y="106"/>
                  </a:lnTo>
                  <a:lnTo>
                    <a:pt x="174" y="112"/>
                  </a:lnTo>
                  <a:lnTo>
                    <a:pt x="170" y="112"/>
                  </a:lnTo>
                  <a:lnTo>
                    <a:pt x="170" y="118"/>
                  </a:lnTo>
                  <a:lnTo>
                    <a:pt x="160" y="118"/>
                  </a:lnTo>
                  <a:lnTo>
                    <a:pt x="160" y="124"/>
                  </a:lnTo>
                  <a:lnTo>
                    <a:pt x="135" y="124"/>
                  </a:lnTo>
                  <a:lnTo>
                    <a:pt x="135" y="142"/>
                  </a:lnTo>
                  <a:lnTo>
                    <a:pt x="130" y="142"/>
                  </a:lnTo>
                  <a:lnTo>
                    <a:pt x="130" y="166"/>
                  </a:lnTo>
                  <a:lnTo>
                    <a:pt x="126" y="166"/>
                  </a:lnTo>
                  <a:lnTo>
                    <a:pt x="126" y="171"/>
                  </a:lnTo>
                  <a:lnTo>
                    <a:pt x="121" y="171"/>
                  </a:lnTo>
                  <a:lnTo>
                    <a:pt x="121" y="183"/>
                  </a:lnTo>
                  <a:lnTo>
                    <a:pt x="116" y="183"/>
                  </a:lnTo>
                  <a:lnTo>
                    <a:pt x="116" y="194"/>
                  </a:lnTo>
                  <a:lnTo>
                    <a:pt x="111" y="194"/>
                  </a:lnTo>
                  <a:lnTo>
                    <a:pt x="111" y="200"/>
                  </a:lnTo>
                  <a:lnTo>
                    <a:pt x="107" y="200"/>
                  </a:lnTo>
                  <a:lnTo>
                    <a:pt x="107" y="207"/>
                  </a:lnTo>
                  <a:lnTo>
                    <a:pt x="102" y="207"/>
                  </a:lnTo>
                  <a:lnTo>
                    <a:pt x="102" y="212"/>
                  </a:lnTo>
                  <a:lnTo>
                    <a:pt x="97" y="212"/>
                  </a:lnTo>
                  <a:lnTo>
                    <a:pt x="97" y="219"/>
                  </a:lnTo>
                  <a:lnTo>
                    <a:pt x="88" y="219"/>
                  </a:lnTo>
                  <a:lnTo>
                    <a:pt x="88" y="224"/>
                  </a:lnTo>
                  <a:lnTo>
                    <a:pt x="77" y="224"/>
                  </a:lnTo>
                  <a:lnTo>
                    <a:pt x="77" y="230"/>
                  </a:lnTo>
                  <a:lnTo>
                    <a:pt x="63" y="230"/>
                  </a:lnTo>
                  <a:lnTo>
                    <a:pt x="63" y="224"/>
                  </a:lnTo>
                  <a:lnTo>
                    <a:pt x="44" y="224"/>
                  </a:lnTo>
                  <a:lnTo>
                    <a:pt x="44" y="278"/>
                  </a:lnTo>
                  <a:lnTo>
                    <a:pt x="39" y="278"/>
                  </a:lnTo>
                  <a:lnTo>
                    <a:pt x="39" y="289"/>
                  </a:lnTo>
                  <a:lnTo>
                    <a:pt x="34" y="289"/>
                  </a:lnTo>
                  <a:lnTo>
                    <a:pt x="34" y="313"/>
                  </a:lnTo>
                  <a:lnTo>
                    <a:pt x="30" y="313"/>
                  </a:lnTo>
                  <a:lnTo>
                    <a:pt x="30" y="330"/>
                  </a:lnTo>
                  <a:lnTo>
                    <a:pt x="26" y="330"/>
                  </a:lnTo>
                  <a:lnTo>
                    <a:pt x="26" y="343"/>
                  </a:lnTo>
                  <a:lnTo>
                    <a:pt x="20" y="343"/>
                  </a:lnTo>
                  <a:lnTo>
                    <a:pt x="20" y="354"/>
                  </a:lnTo>
                  <a:lnTo>
                    <a:pt x="16" y="354"/>
                  </a:lnTo>
                  <a:lnTo>
                    <a:pt x="16" y="360"/>
                  </a:lnTo>
                  <a:lnTo>
                    <a:pt x="10" y="360"/>
                  </a:lnTo>
                  <a:lnTo>
                    <a:pt x="10" y="366"/>
                  </a:lnTo>
                  <a:lnTo>
                    <a:pt x="0" y="366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4040" y="1461960"/>
              <a:ext cx="74520" cy="66960"/>
            </a:xfrm>
            <a:custGeom>
              <a:avLst/>
              <a:gdLst/>
              <a:ahLst/>
              <a:rect l="l" t="t" r="r" b="b"/>
              <a:pathLst>
                <a:path w="140" h="164">
                  <a:moveTo>
                    <a:pt x="0" y="76"/>
                  </a:moveTo>
                  <a:lnTo>
                    <a:pt x="6" y="76"/>
                  </a:lnTo>
                  <a:lnTo>
                    <a:pt x="6" y="52"/>
                  </a:lnTo>
                  <a:lnTo>
                    <a:pt x="10" y="52"/>
                  </a:lnTo>
                  <a:lnTo>
                    <a:pt x="10" y="35"/>
                  </a:lnTo>
                  <a:lnTo>
                    <a:pt x="14" y="35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47" y="5"/>
                  </a:lnTo>
                  <a:lnTo>
                    <a:pt x="47" y="11"/>
                  </a:lnTo>
                  <a:lnTo>
                    <a:pt x="62" y="11"/>
                  </a:lnTo>
                  <a:lnTo>
                    <a:pt x="62" y="17"/>
                  </a:lnTo>
                  <a:lnTo>
                    <a:pt x="82" y="17"/>
                  </a:lnTo>
                  <a:lnTo>
                    <a:pt x="82" y="22"/>
                  </a:lnTo>
                  <a:lnTo>
                    <a:pt x="91" y="22"/>
                  </a:lnTo>
                  <a:lnTo>
                    <a:pt x="91" y="28"/>
                  </a:lnTo>
                  <a:lnTo>
                    <a:pt x="110" y="28"/>
                  </a:lnTo>
                  <a:lnTo>
                    <a:pt x="110" y="35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40" y="40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34" y="81"/>
                  </a:lnTo>
                  <a:lnTo>
                    <a:pt x="129" y="81"/>
                  </a:lnTo>
                  <a:lnTo>
                    <a:pt x="129" y="93"/>
                  </a:lnTo>
                  <a:lnTo>
                    <a:pt x="125" y="93"/>
                  </a:lnTo>
                  <a:lnTo>
                    <a:pt x="125" y="112"/>
                  </a:lnTo>
                  <a:lnTo>
                    <a:pt x="120" y="112"/>
                  </a:lnTo>
                  <a:lnTo>
                    <a:pt x="120" y="123"/>
                  </a:lnTo>
                  <a:lnTo>
                    <a:pt x="115" y="123"/>
                  </a:lnTo>
                  <a:lnTo>
                    <a:pt x="115" y="134"/>
                  </a:lnTo>
                  <a:lnTo>
                    <a:pt x="110" y="134"/>
                  </a:lnTo>
                  <a:lnTo>
                    <a:pt x="110" y="146"/>
                  </a:lnTo>
                  <a:lnTo>
                    <a:pt x="106" y="146"/>
                  </a:lnTo>
                  <a:lnTo>
                    <a:pt x="106" y="164"/>
                  </a:lnTo>
                  <a:lnTo>
                    <a:pt x="77" y="164"/>
                  </a:lnTo>
                  <a:lnTo>
                    <a:pt x="77" y="158"/>
                  </a:lnTo>
                  <a:lnTo>
                    <a:pt x="73" y="158"/>
                  </a:lnTo>
                  <a:lnTo>
                    <a:pt x="73" y="146"/>
                  </a:lnTo>
                  <a:lnTo>
                    <a:pt x="87" y="146"/>
                  </a:lnTo>
                  <a:lnTo>
                    <a:pt x="87" y="134"/>
                  </a:lnTo>
                  <a:lnTo>
                    <a:pt x="57" y="134"/>
                  </a:lnTo>
                  <a:lnTo>
                    <a:pt x="57" y="146"/>
                  </a:lnTo>
                  <a:lnTo>
                    <a:pt x="43" y="146"/>
                  </a:lnTo>
                  <a:lnTo>
                    <a:pt x="43" y="141"/>
                  </a:lnTo>
                  <a:lnTo>
                    <a:pt x="39" y="141"/>
                  </a:lnTo>
                  <a:lnTo>
                    <a:pt x="39" y="134"/>
                  </a:lnTo>
                  <a:lnTo>
                    <a:pt x="24" y="134"/>
                  </a:lnTo>
                  <a:lnTo>
                    <a:pt x="24" y="128"/>
                  </a:lnTo>
                  <a:lnTo>
                    <a:pt x="19" y="128"/>
                  </a:lnTo>
                  <a:lnTo>
                    <a:pt x="19" y="123"/>
                  </a:lnTo>
                  <a:lnTo>
                    <a:pt x="14" y="123"/>
                  </a:lnTo>
                  <a:lnTo>
                    <a:pt x="14" y="117"/>
                  </a:lnTo>
                  <a:lnTo>
                    <a:pt x="10" y="117"/>
                  </a:lnTo>
                  <a:lnTo>
                    <a:pt x="10" y="112"/>
                  </a:lnTo>
                  <a:lnTo>
                    <a:pt x="6" y="112"/>
                  </a:lnTo>
                  <a:lnTo>
                    <a:pt x="6" y="104"/>
                  </a:lnTo>
                  <a:lnTo>
                    <a:pt x="0" y="104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1960" y="1379520"/>
              <a:ext cx="109440" cy="54000"/>
            </a:xfrm>
            <a:custGeom>
              <a:avLst/>
              <a:gdLst/>
              <a:ahLst/>
              <a:rect l="l" t="t" r="r" b="b"/>
              <a:pathLst>
                <a:path w="207" h="136">
                  <a:moveTo>
                    <a:pt x="0" y="19"/>
                  </a:moveTo>
                  <a:lnTo>
                    <a:pt x="5" y="19"/>
                  </a:lnTo>
                  <a:lnTo>
                    <a:pt x="5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43" y="8"/>
                  </a:lnTo>
                  <a:lnTo>
                    <a:pt x="43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87" y="19"/>
                  </a:lnTo>
                  <a:lnTo>
                    <a:pt x="87" y="25"/>
                  </a:lnTo>
                  <a:lnTo>
                    <a:pt x="96" y="25"/>
                  </a:lnTo>
                  <a:lnTo>
                    <a:pt x="96" y="30"/>
                  </a:lnTo>
                  <a:lnTo>
                    <a:pt x="106" y="30"/>
                  </a:lnTo>
                  <a:lnTo>
                    <a:pt x="106" y="36"/>
                  </a:lnTo>
                  <a:lnTo>
                    <a:pt x="120" y="36"/>
                  </a:lnTo>
                  <a:lnTo>
                    <a:pt x="120" y="41"/>
                  </a:lnTo>
                  <a:lnTo>
                    <a:pt x="140" y="41"/>
                  </a:lnTo>
                  <a:lnTo>
                    <a:pt x="140" y="49"/>
                  </a:lnTo>
                  <a:lnTo>
                    <a:pt x="163" y="49"/>
                  </a:lnTo>
                  <a:lnTo>
                    <a:pt x="163" y="54"/>
                  </a:lnTo>
                  <a:lnTo>
                    <a:pt x="183" y="54"/>
                  </a:lnTo>
                  <a:lnTo>
                    <a:pt x="183" y="60"/>
                  </a:lnTo>
                  <a:lnTo>
                    <a:pt x="192" y="60"/>
                  </a:lnTo>
                  <a:lnTo>
                    <a:pt x="192" y="66"/>
                  </a:lnTo>
                  <a:lnTo>
                    <a:pt x="203" y="66"/>
                  </a:lnTo>
                  <a:lnTo>
                    <a:pt x="203" y="78"/>
                  </a:lnTo>
                  <a:lnTo>
                    <a:pt x="207" y="78"/>
                  </a:lnTo>
                  <a:lnTo>
                    <a:pt x="207" y="108"/>
                  </a:lnTo>
                  <a:lnTo>
                    <a:pt x="203" y="108"/>
                  </a:lnTo>
                  <a:lnTo>
                    <a:pt x="203" y="126"/>
                  </a:lnTo>
                  <a:lnTo>
                    <a:pt x="198" y="126"/>
                  </a:lnTo>
                  <a:lnTo>
                    <a:pt x="198" y="136"/>
                  </a:lnTo>
                  <a:lnTo>
                    <a:pt x="188" y="136"/>
                  </a:lnTo>
                  <a:lnTo>
                    <a:pt x="188" y="131"/>
                  </a:lnTo>
                  <a:lnTo>
                    <a:pt x="169" y="131"/>
                  </a:lnTo>
                  <a:lnTo>
                    <a:pt x="169" y="126"/>
                  </a:lnTo>
                  <a:lnTo>
                    <a:pt x="145" y="126"/>
                  </a:lnTo>
                  <a:lnTo>
                    <a:pt x="145" y="119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20" y="114"/>
                  </a:lnTo>
                  <a:lnTo>
                    <a:pt x="120" y="108"/>
                  </a:lnTo>
                  <a:lnTo>
                    <a:pt x="96" y="108"/>
                  </a:lnTo>
                  <a:lnTo>
                    <a:pt x="96" y="101"/>
                  </a:lnTo>
                  <a:lnTo>
                    <a:pt x="92" y="101"/>
                  </a:lnTo>
                  <a:lnTo>
                    <a:pt x="92" y="95"/>
                  </a:lnTo>
                  <a:lnTo>
                    <a:pt x="73" y="95"/>
                  </a:lnTo>
                  <a:lnTo>
                    <a:pt x="73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29" y="84"/>
                  </a:lnTo>
                  <a:lnTo>
                    <a:pt x="29" y="78"/>
                  </a:lnTo>
                  <a:lnTo>
                    <a:pt x="15" y="78"/>
                  </a:lnTo>
                  <a:lnTo>
                    <a:pt x="15" y="73"/>
                  </a:lnTo>
                  <a:lnTo>
                    <a:pt x="10" y="73"/>
                  </a:lnTo>
                  <a:lnTo>
                    <a:pt x="10" y="66"/>
                  </a:lnTo>
                  <a:lnTo>
                    <a:pt x="5" y="66"/>
                  </a:lnTo>
                  <a:lnTo>
                    <a:pt x="5" y="49"/>
                  </a:lnTo>
                  <a:lnTo>
                    <a:pt x="0" y="4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06640" y="1754280"/>
              <a:ext cx="146160" cy="169920"/>
            </a:xfrm>
            <a:custGeom>
              <a:avLst/>
              <a:gdLst/>
              <a:ahLst/>
              <a:rect l="l" t="t" r="r" b="b"/>
              <a:pathLst>
                <a:path w="274" h="432">
                  <a:moveTo>
                    <a:pt x="0" y="413"/>
                  </a:moveTo>
                  <a:lnTo>
                    <a:pt x="5" y="413"/>
                  </a:lnTo>
                  <a:lnTo>
                    <a:pt x="5" y="408"/>
                  </a:lnTo>
                  <a:lnTo>
                    <a:pt x="19" y="408"/>
                  </a:lnTo>
                  <a:lnTo>
                    <a:pt x="19" y="402"/>
                  </a:lnTo>
                  <a:lnTo>
                    <a:pt x="23" y="402"/>
                  </a:lnTo>
                  <a:lnTo>
                    <a:pt x="23" y="396"/>
                  </a:lnTo>
                  <a:lnTo>
                    <a:pt x="29" y="396"/>
                  </a:lnTo>
                  <a:lnTo>
                    <a:pt x="29" y="389"/>
                  </a:lnTo>
                  <a:lnTo>
                    <a:pt x="33" y="389"/>
                  </a:lnTo>
                  <a:lnTo>
                    <a:pt x="33" y="378"/>
                  </a:lnTo>
                  <a:lnTo>
                    <a:pt x="38" y="378"/>
                  </a:lnTo>
                  <a:lnTo>
                    <a:pt x="38" y="360"/>
                  </a:lnTo>
                  <a:lnTo>
                    <a:pt x="44" y="360"/>
                  </a:lnTo>
                  <a:lnTo>
                    <a:pt x="44" y="342"/>
                  </a:lnTo>
                  <a:lnTo>
                    <a:pt x="49" y="342"/>
                  </a:lnTo>
                  <a:lnTo>
                    <a:pt x="49" y="313"/>
                  </a:lnTo>
                  <a:lnTo>
                    <a:pt x="44" y="313"/>
                  </a:lnTo>
                  <a:lnTo>
                    <a:pt x="44" y="290"/>
                  </a:lnTo>
                  <a:lnTo>
                    <a:pt x="63" y="290"/>
                  </a:lnTo>
                  <a:lnTo>
                    <a:pt x="63" y="295"/>
                  </a:lnTo>
                  <a:lnTo>
                    <a:pt x="96" y="295"/>
                  </a:lnTo>
                  <a:lnTo>
                    <a:pt x="96" y="290"/>
                  </a:lnTo>
                  <a:lnTo>
                    <a:pt x="105" y="290"/>
                  </a:lnTo>
                  <a:lnTo>
                    <a:pt x="105" y="283"/>
                  </a:lnTo>
                  <a:lnTo>
                    <a:pt x="110" y="283"/>
                  </a:lnTo>
                  <a:lnTo>
                    <a:pt x="110" y="277"/>
                  </a:lnTo>
                  <a:lnTo>
                    <a:pt x="116" y="277"/>
                  </a:lnTo>
                  <a:lnTo>
                    <a:pt x="116" y="272"/>
                  </a:lnTo>
                  <a:lnTo>
                    <a:pt x="120" y="272"/>
                  </a:lnTo>
                  <a:lnTo>
                    <a:pt x="120" y="266"/>
                  </a:lnTo>
                  <a:lnTo>
                    <a:pt x="126" y="266"/>
                  </a:lnTo>
                  <a:lnTo>
                    <a:pt x="126" y="200"/>
                  </a:lnTo>
                  <a:lnTo>
                    <a:pt x="130" y="200"/>
                  </a:lnTo>
                  <a:lnTo>
                    <a:pt x="130" y="195"/>
                  </a:lnTo>
                  <a:lnTo>
                    <a:pt x="140" y="195"/>
                  </a:lnTo>
                  <a:lnTo>
                    <a:pt x="140" y="200"/>
                  </a:lnTo>
                  <a:lnTo>
                    <a:pt x="153" y="200"/>
                  </a:lnTo>
                  <a:lnTo>
                    <a:pt x="153" y="195"/>
                  </a:lnTo>
                  <a:lnTo>
                    <a:pt x="178" y="195"/>
                  </a:lnTo>
                  <a:lnTo>
                    <a:pt x="178" y="189"/>
                  </a:lnTo>
                  <a:lnTo>
                    <a:pt x="188" y="189"/>
                  </a:lnTo>
                  <a:lnTo>
                    <a:pt x="188" y="182"/>
                  </a:lnTo>
                  <a:lnTo>
                    <a:pt x="193" y="182"/>
                  </a:lnTo>
                  <a:lnTo>
                    <a:pt x="193" y="177"/>
                  </a:lnTo>
                  <a:lnTo>
                    <a:pt x="197" y="177"/>
                  </a:lnTo>
                  <a:lnTo>
                    <a:pt x="197" y="165"/>
                  </a:lnTo>
                  <a:lnTo>
                    <a:pt x="202" y="165"/>
                  </a:lnTo>
                  <a:lnTo>
                    <a:pt x="202" y="154"/>
                  </a:lnTo>
                  <a:lnTo>
                    <a:pt x="207" y="154"/>
                  </a:lnTo>
                  <a:lnTo>
                    <a:pt x="207" y="147"/>
                  </a:lnTo>
                  <a:lnTo>
                    <a:pt x="211" y="147"/>
                  </a:lnTo>
                  <a:lnTo>
                    <a:pt x="211" y="130"/>
                  </a:lnTo>
                  <a:lnTo>
                    <a:pt x="216" y="130"/>
                  </a:lnTo>
                  <a:lnTo>
                    <a:pt x="216" y="117"/>
                  </a:lnTo>
                  <a:lnTo>
                    <a:pt x="221" y="117"/>
                  </a:lnTo>
                  <a:lnTo>
                    <a:pt x="221" y="100"/>
                  </a:lnTo>
                  <a:lnTo>
                    <a:pt x="226" y="100"/>
                  </a:lnTo>
                  <a:lnTo>
                    <a:pt x="226" y="71"/>
                  </a:lnTo>
                  <a:lnTo>
                    <a:pt x="230" y="71"/>
                  </a:lnTo>
                  <a:lnTo>
                    <a:pt x="230" y="41"/>
                  </a:lnTo>
                  <a:lnTo>
                    <a:pt x="235" y="41"/>
                  </a:lnTo>
                  <a:lnTo>
                    <a:pt x="235" y="13"/>
                  </a:lnTo>
                  <a:lnTo>
                    <a:pt x="254" y="13"/>
                  </a:lnTo>
                  <a:lnTo>
                    <a:pt x="254" y="5"/>
                  </a:lnTo>
                  <a:lnTo>
                    <a:pt x="264" y="5"/>
                  </a:lnTo>
                  <a:lnTo>
                    <a:pt x="264" y="0"/>
                  </a:lnTo>
                  <a:lnTo>
                    <a:pt x="274" y="0"/>
                  </a:lnTo>
                  <a:lnTo>
                    <a:pt x="274" y="13"/>
                  </a:lnTo>
                  <a:lnTo>
                    <a:pt x="270" y="13"/>
                  </a:lnTo>
                  <a:lnTo>
                    <a:pt x="270" y="18"/>
                  </a:lnTo>
                  <a:lnTo>
                    <a:pt x="260" y="18"/>
                  </a:lnTo>
                  <a:lnTo>
                    <a:pt x="260" y="23"/>
                  </a:lnTo>
                  <a:lnTo>
                    <a:pt x="254" y="23"/>
                  </a:lnTo>
                  <a:lnTo>
                    <a:pt x="254" y="30"/>
                  </a:lnTo>
                  <a:lnTo>
                    <a:pt x="244" y="30"/>
                  </a:lnTo>
                  <a:lnTo>
                    <a:pt x="244" y="46"/>
                  </a:lnTo>
                  <a:lnTo>
                    <a:pt x="240" y="46"/>
                  </a:lnTo>
                  <a:lnTo>
                    <a:pt x="240" y="76"/>
                  </a:lnTo>
                  <a:lnTo>
                    <a:pt x="235" y="76"/>
                  </a:lnTo>
                  <a:lnTo>
                    <a:pt x="235" y="106"/>
                  </a:lnTo>
                  <a:lnTo>
                    <a:pt x="230" y="106"/>
                  </a:lnTo>
                  <a:lnTo>
                    <a:pt x="230" y="124"/>
                  </a:lnTo>
                  <a:lnTo>
                    <a:pt x="226" y="124"/>
                  </a:lnTo>
                  <a:lnTo>
                    <a:pt x="226" y="141"/>
                  </a:lnTo>
                  <a:lnTo>
                    <a:pt x="221" y="141"/>
                  </a:lnTo>
                  <a:lnTo>
                    <a:pt x="221" y="154"/>
                  </a:lnTo>
                  <a:lnTo>
                    <a:pt x="216" y="154"/>
                  </a:lnTo>
                  <a:lnTo>
                    <a:pt x="216" y="171"/>
                  </a:lnTo>
                  <a:lnTo>
                    <a:pt x="211" y="171"/>
                  </a:lnTo>
                  <a:lnTo>
                    <a:pt x="211" y="177"/>
                  </a:lnTo>
                  <a:lnTo>
                    <a:pt x="207" y="177"/>
                  </a:lnTo>
                  <a:lnTo>
                    <a:pt x="207" y="189"/>
                  </a:lnTo>
                  <a:lnTo>
                    <a:pt x="202" y="189"/>
                  </a:lnTo>
                  <a:lnTo>
                    <a:pt x="202" y="195"/>
                  </a:lnTo>
                  <a:lnTo>
                    <a:pt x="197" y="195"/>
                  </a:lnTo>
                  <a:lnTo>
                    <a:pt x="197" y="200"/>
                  </a:lnTo>
                  <a:lnTo>
                    <a:pt x="188" y="200"/>
                  </a:lnTo>
                  <a:lnTo>
                    <a:pt x="188" y="207"/>
                  </a:lnTo>
                  <a:lnTo>
                    <a:pt x="178" y="207"/>
                  </a:lnTo>
                  <a:lnTo>
                    <a:pt x="178" y="212"/>
                  </a:lnTo>
                  <a:lnTo>
                    <a:pt x="163" y="212"/>
                  </a:lnTo>
                  <a:lnTo>
                    <a:pt x="163" y="218"/>
                  </a:lnTo>
                  <a:lnTo>
                    <a:pt x="135" y="218"/>
                  </a:lnTo>
                  <a:lnTo>
                    <a:pt x="135" y="272"/>
                  </a:lnTo>
                  <a:lnTo>
                    <a:pt x="130" y="272"/>
                  </a:lnTo>
                  <a:lnTo>
                    <a:pt x="130" y="277"/>
                  </a:lnTo>
                  <a:lnTo>
                    <a:pt x="126" y="277"/>
                  </a:lnTo>
                  <a:lnTo>
                    <a:pt x="126" y="290"/>
                  </a:lnTo>
                  <a:lnTo>
                    <a:pt x="120" y="290"/>
                  </a:lnTo>
                  <a:lnTo>
                    <a:pt x="120" y="301"/>
                  </a:lnTo>
                  <a:lnTo>
                    <a:pt x="110" y="301"/>
                  </a:lnTo>
                  <a:lnTo>
                    <a:pt x="110" y="307"/>
                  </a:lnTo>
                  <a:lnTo>
                    <a:pt x="86" y="307"/>
                  </a:lnTo>
                  <a:lnTo>
                    <a:pt x="86" y="313"/>
                  </a:lnTo>
                  <a:lnTo>
                    <a:pt x="58" y="313"/>
                  </a:lnTo>
                  <a:lnTo>
                    <a:pt x="58" y="348"/>
                  </a:lnTo>
                  <a:lnTo>
                    <a:pt x="53" y="348"/>
                  </a:lnTo>
                  <a:lnTo>
                    <a:pt x="53" y="367"/>
                  </a:lnTo>
                  <a:lnTo>
                    <a:pt x="49" y="367"/>
                  </a:lnTo>
                  <a:lnTo>
                    <a:pt x="49" y="384"/>
                  </a:lnTo>
                  <a:lnTo>
                    <a:pt x="44" y="384"/>
                  </a:lnTo>
                  <a:lnTo>
                    <a:pt x="44" y="402"/>
                  </a:lnTo>
                  <a:lnTo>
                    <a:pt x="38" y="402"/>
                  </a:lnTo>
                  <a:lnTo>
                    <a:pt x="38" y="408"/>
                  </a:lnTo>
                  <a:lnTo>
                    <a:pt x="33" y="408"/>
                  </a:lnTo>
                  <a:lnTo>
                    <a:pt x="33" y="413"/>
                  </a:lnTo>
                  <a:lnTo>
                    <a:pt x="29" y="413"/>
                  </a:lnTo>
                  <a:lnTo>
                    <a:pt x="29" y="419"/>
                  </a:lnTo>
                  <a:lnTo>
                    <a:pt x="19" y="419"/>
                  </a:lnTo>
                  <a:lnTo>
                    <a:pt x="19" y="426"/>
                  </a:lnTo>
                  <a:lnTo>
                    <a:pt x="9" y="426"/>
                  </a:lnTo>
                  <a:lnTo>
                    <a:pt x="9" y="432"/>
                  </a:lnTo>
                  <a:lnTo>
                    <a:pt x="0" y="432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1280" y="1430280"/>
              <a:ext cx="98280" cy="55800"/>
            </a:xfrm>
            <a:custGeom>
              <a:avLst/>
              <a:gdLst/>
              <a:ahLst/>
              <a:rect l="l" t="t" r="r" b="b"/>
              <a:pathLst>
                <a:path w="188" h="141">
                  <a:moveTo>
                    <a:pt x="0" y="5"/>
                  </a:moveTo>
                  <a:lnTo>
                    <a:pt x="4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48" y="10"/>
                  </a:lnTo>
                  <a:lnTo>
                    <a:pt x="48" y="18"/>
                  </a:lnTo>
                  <a:lnTo>
                    <a:pt x="71" y="18"/>
                  </a:lnTo>
                  <a:lnTo>
                    <a:pt x="71" y="23"/>
                  </a:lnTo>
                  <a:lnTo>
                    <a:pt x="96" y="23"/>
                  </a:lnTo>
                  <a:lnTo>
                    <a:pt x="96" y="29"/>
                  </a:lnTo>
                  <a:lnTo>
                    <a:pt x="111" y="29"/>
                  </a:lnTo>
                  <a:lnTo>
                    <a:pt x="111" y="34"/>
                  </a:lnTo>
                  <a:lnTo>
                    <a:pt x="129" y="34"/>
                  </a:lnTo>
                  <a:lnTo>
                    <a:pt x="129" y="41"/>
                  </a:lnTo>
                  <a:lnTo>
                    <a:pt x="153" y="41"/>
                  </a:lnTo>
                  <a:lnTo>
                    <a:pt x="153" y="46"/>
                  </a:lnTo>
                  <a:lnTo>
                    <a:pt x="162" y="46"/>
                  </a:lnTo>
                  <a:lnTo>
                    <a:pt x="162" y="51"/>
                  </a:lnTo>
                  <a:lnTo>
                    <a:pt x="178" y="51"/>
                  </a:lnTo>
                  <a:lnTo>
                    <a:pt x="178" y="59"/>
                  </a:lnTo>
                  <a:lnTo>
                    <a:pt x="188" y="59"/>
                  </a:lnTo>
                  <a:lnTo>
                    <a:pt x="188" y="70"/>
                  </a:lnTo>
                  <a:lnTo>
                    <a:pt x="172" y="70"/>
                  </a:lnTo>
                  <a:lnTo>
                    <a:pt x="172" y="76"/>
                  </a:lnTo>
                  <a:lnTo>
                    <a:pt x="167" y="76"/>
                  </a:lnTo>
                  <a:lnTo>
                    <a:pt x="167" y="100"/>
                  </a:lnTo>
                  <a:lnTo>
                    <a:pt x="162" y="100"/>
                  </a:lnTo>
                  <a:lnTo>
                    <a:pt x="162" y="105"/>
                  </a:lnTo>
                  <a:lnTo>
                    <a:pt x="158" y="105"/>
                  </a:lnTo>
                  <a:lnTo>
                    <a:pt x="158" y="141"/>
                  </a:lnTo>
                  <a:lnTo>
                    <a:pt x="139" y="141"/>
                  </a:lnTo>
                  <a:lnTo>
                    <a:pt x="139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00" y="129"/>
                  </a:lnTo>
                  <a:lnTo>
                    <a:pt x="100" y="123"/>
                  </a:lnTo>
                  <a:lnTo>
                    <a:pt x="86" y="123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63" y="111"/>
                  </a:lnTo>
                  <a:lnTo>
                    <a:pt x="38" y="111"/>
                  </a:lnTo>
                  <a:lnTo>
                    <a:pt x="38" y="105"/>
                  </a:lnTo>
                  <a:lnTo>
                    <a:pt x="28" y="105"/>
                  </a:lnTo>
                  <a:lnTo>
                    <a:pt x="28" y="100"/>
                  </a:lnTo>
                  <a:lnTo>
                    <a:pt x="14" y="100"/>
                  </a:lnTo>
                  <a:lnTo>
                    <a:pt x="14" y="94"/>
                  </a:lnTo>
                  <a:lnTo>
                    <a:pt x="4" y="94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2440" y="1481040"/>
              <a:ext cx="87120" cy="4932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0" y="95"/>
                  </a:moveTo>
                  <a:lnTo>
                    <a:pt x="5" y="95"/>
                  </a:lnTo>
                  <a:lnTo>
                    <a:pt x="5" y="77"/>
                  </a:lnTo>
                  <a:lnTo>
                    <a:pt x="11" y="77"/>
                  </a:lnTo>
                  <a:lnTo>
                    <a:pt x="11" y="58"/>
                  </a:lnTo>
                  <a:lnTo>
                    <a:pt x="15" y="58"/>
                  </a:lnTo>
                  <a:lnTo>
                    <a:pt x="15" y="47"/>
                  </a:lnTo>
                  <a:lnTo>
                    <a:pt x="21" y="47"/>
                  </a:lnTo>
                  <a:lnTo>
                    <a:pt x="21" y="30"/>
                  </a:lnTo>
                  <a:lnTo>
                    <a:pt x="15" y="30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73" y="12"/>
                  </a:lnTo>
                  <a:lnTo>
                    <a:pt x="73" y="17"/>
                  </a:lnTo>
                  <a:lnTo>
                    <a:pt x="92" y="17"/>
                  </a:lnTo>
                  <a:lnTo>
                    <a:pt x="92" y="24"/>
                  </a:lnTo>
                  <a:lnTo>
                    <a:pt x="116" y="24"/>
                  </a:lnTo>
                  <a:lnTo>
                    <a:pt x="116" y="30"/>
                  </a:lnTo>
                  <a:lnTo>
                    <a:pt x="130" y="30"/>
                  </a:lnTo>
                  <a:lnTo>
                    <a:pt x="130" y="35"/>
                  </a:lnTo>
                  <a:lnTo>
                    <a:pt x="144" y="35"/>
                  </a:lnTo>
                  <a:lnTo>
                    <a:pt x="144" y="41"/>
                  </a:lnTo>
                  <a:lnTo>
                    <a:pt x="155" y="41"/>
                  </a:lnTo>
                  <a:lnTo>
                    <a:pt x="155" y="47"/>
                  </a:lnTo>
                  <a:lnTo>
                    <a:pt x="165" y="47"/>
                  </a:lnTo>
                  <a:lnTo>
                    <a:pt x="165" y="58"/>
                  </a:lnTo>
                  <a:lnTo>
                    <a:pt x="155" y="58"/>
                  </a:lnTo>
                  <a:lnTo>
                    <a:pt x="155" y="66"/>
                  </a:lnTo>
                  <a:lnTo>
                    <a:pt x="139" y="66"/>
                  </a:lnTo>
                  <a:lnTo>
                    <a:pt x="139" y="71"/>
                  </a:lnTo>
                  <a:lnTo>
                    <a:pt x="130" y="71"/>
                  </a:lnTo>
                  <a:lnTo>
                    <a:pt x="130" y="77"/>
                  </a:lnTo>
                  <a:lnTo>
                    <a:pt x="121" y="77"/>
                  </a:lnTo>
                  <a:lnTo>
                    <a:pt x="121" y="82"/>
                  </a:lnTo>
                  <a:lnTo>
                    <a:pt x="116" y="82"/>
                  </a:lnTo>
                  <a:lnTo>
                    <a:pt x="116" y="88"/>
                  </a:lnTo>
                  <a:lnTo>
                    <a:pt x="106" y="88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7" y="100"/>
                  </a:lnTo>
                  <a:lnTo>
                    <a:pt x="92" y="100"/>
                  </a:lnTo>
                  <a:lnTo>
                    <a:pt x="92" y="107"/>
                  </a:lnTo>
                  <a:lnTo>
                    <a:pt x="88" y="107"/>
                  </a:lnTo>
                  <a:lnTo>
                    <a:pt x="88" y="112"/>
                  </a:lnTo>
                  <a:lnTo>
                    <a:pt x="77" y="112"/>
                  </a:lnTo>
                  <a:lnTo>
                    <a:pt x="77" y="118"/>
                  </a:lnTo>
                  <a:lnTo>
                    <a:pt x="68" y="118"/>
                  </a:lnTo>
                  <a:lnTo>
                    <a:pt x="68" y="125"/>
                  </a:lnTo>
                  <a:lnTo>
                    <a:pt x="30" y="125"/>
                  </a:lnTo>
                  <a:lnTo>
                    <a:pt x="30" y="118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0" y="11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3240" y="1370160"/>
              <a:ext cx="90720" cy="4104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0" y="18"/>
                  </a:moveTo>
                  <a:lnTo>
                    <a:pt x="4" y="18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37" y="6"/>
                  </a:lnTo>
                  <a:lnTo>
                    <a:pt x="37" y="12"/>
                  </a:lnTo>
                  <a:lnTo>
                    <a:pt x="85" y="12"/>
                  </a:lnTo>
                  <a:lnTo>
                    <a:pt x="85" y="18"/>
                  </a:lnTo>
                  <a:lnTo>
                    <a:pt x="95" y="18"/>
                  </a:lnTo>
                  <a:lnTo>
                    <a:pt x="95" y="23"/>
                  </a:lnTo>
                  <a:lnTo>
                    <a:pt x="109" y="23"/>
                  </a:lnTo>
                  <a:lnTo>
                    <a:pt x="109" y="31"/>
                  </a:lnTo>
                  <a:lnTo>
                    <a:pt x="114" y="31"/>
                  </a:lnTo>
                  <a:lnTo>
                    <a:pt x="114" y="36"/>
                  </a:lnTo>
                  <a:lnTo>
                    <a:pt x="144" y="36"/>
                  </a:lnTo>
                  <a:lnTo>
                    <a:pt x="144" y="42"/>
                  </a:lnTo>
                  <a:lnTo>
                    <a:pt x="162" y="42"/>
                  </a:lnTo>
                  <a:lnTo>
                    <a:pt x="162" y="48"/>
                  </a:lnTo>
                  <a:lnTo>
                    <a:pt x="171" y="48"/>
                  </a:lnTo>
                  <a:lnTo>
                    <a:pt x="171" y="72"/>
                  </a:lnTo>
                  <a:lnTo>
                    <a:pt x="167" y="72"/>
                  </a:lnTo>
                  <a:lnTo>
                    <a:pt x="167" y="89"/>
                  </a:lnTo>
                  <a:lnTo>
                    <a:pt x="162" y="89"/>
                  </a:lnTo>
                  <a:lnTo>
                    <a:pt x="162" y="101"/>
                  </a:lnTo>
                  <a:lnTo>
                    <a:pt x="144" y="101"/>
                  </a:lnTo>
                  <a:lnTo>
                    <a:pt x="144" y="96"/>
                  </a:lnTo>
                  <a:lnTo>
                    <a:pt x="134" y="96"/>
                  </a:lnTo>
                  <a:lnTo>
                    <a:pt x="134" y="89"/>
                  </a:lnTo>
                  <a:lnTo>
                    <a:pt x="114" y="89"/>
                  </a:lnTo>
                  <a:lnTo>
                    <a:pt x="114" y="83"/>
                  </a:lnTo>
                  <a:lnTo>
                    <a:pt x="100" y="83"/>
                  </a:lnTo>
                  <a:lnTo>
                    <a:pt x="100" y="77"/>
                  </a:lnTo>
                  <a:lnTo>
                    <a:pt x="90" y="77"/>
                  </a:lnTo>
                  <a:lnTo>
                    <a:pt x="90" y="72"/>
                  </a:lnTo>
                  <a:lnTo>
                    <a:pt x="81" y="72"/>
                  </a:lnTo>
                  <a:lnTo>
                    <a:pt x="81" y="64"/>
                  </a:lnTo>
                  <a:lnTo>
                    <a:pt x="47" y="64"/>
                  </a:lnTo>
                  <a:lnTo>
                    <a:pt x="47" y="59"/>
                  </a:lnTo>
                  <a:lnTo>
                    <a:pt x="27" y="59"/>
                  </a:lnTo>
                  <a:lnTo>
                    <a:pt x="27" y="53"/>
                  </a:lnTo>
                  <a:lnTo>
                    <a:pt x="14" y="53"/>
                  </a:lnTo>
                  <a:lnTo>
                    <a:pt x="14" y="48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19320" y="1411200"/>
              <a:ext cx="103320" cy="55800"/>
            </a:xfrm>
            <a:custGeom>
              <a:avLst/>
              <a:gdLst/>
              <a:ahLst/>
              <a:rect l="l" t="t" r="r" b="b"/>
              <a:pathLst>
                <a:path w="197" h="142">
                  <a:moveTo>
                    <a:pt x="0" y="41"/>
                  </a:moveTo>
                  <a:lnTo>
                    <a:pt x="5" y="41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3" y="6"/>
                  </a:lnTo>
                  <a:lnTo>
                    <a:pt x="33" y="12"/>
                  </a:lnTo>
                  <a:lnTo>
                    <a:pt x="53" y="12"/>
                  </a:lnTo>
                  <a:lnTo>
                    <a:pt x="53" y="17"/>
                  </a:lnTo>
                  <a:lnTo>
                    <a:pt x="63" y="17"/>
                  </a:lnTo>
                  <a:lnTo>
                    <a:pt x="63" y="23"/>
                  </a:lnTo>
                  <a:lnTo>
                    <a:pt x="82" y="23"/>
                  </a:lnTo>
                  <a:lnTo>
                    <a:pt x="82" y="30"/>
                  </a:lnTo>
                  <a:lnTo>
                    <a:pt x="86" y="30"/>
                  </a:lnTo>
                  <a:lnTo>
                    <a:pt x="86" y="36"/>
                  </a:lnTo>
                  <a:lnTo>
                    <a:pt x="110" y="36"/>
                  </a:lnTo>
                  <a:lnTo>
                    <a:pt x="110" y="41"/>
                  </a:lnTo>
                  <a:lnTo>
                    <a:pt x="130" y="41"/>
                  </a:lnTo>
                  <a:lnTo>
                    <a:pt x="130" y="48"/>
                  </a:lnTo>
                  <a:lnTo>
                    <a:pt x="154" y="48"/>
                  </a:lnTo>
                  <a:lnTo>
                    <a:pt x="154" y="53"/>
                  </a:lnTo>
                  <a:lnTo>
                    <a:pt x="163" y="53"/>
                  </a:lnTo>
                  <a:lnTo>
                    <a:pt x="163" y="58"/>
                  </a:lnTo>
                  <a:lnTo>
                    <a:pt x="173" y="58"/>
                  </a:lnTo>
                  <a:lnTo>
                    <a:pt x="173" y="66"/>
                  </a:lnTo>
                  <a:lnTo>
                    <a:pt x="182" y="66"/>
                  </a:lnTo>
                  <a:lnTo>
                    <a:pt x="182" y="71"/>
                  </a:lnTo>
                  <a:lnTo>
                    <a:pt x="193" y="71"/>
                  </a:lnTo>
                  <a:lnTo>
                    <a:pt x="193" y="77"/>
                  </a:lnTo>
                  <a:lnTo>
                    <a:pt x="197" y="77"/>
                  </a:lnTo>
                  <a:lnTo>
                    <a:pt x="197" y="99"/>
                  </a:lnTo>
                  <a:lnTo>
                    <a:pt x="193" y="99"/>
                  </a:lnTo>
                  <a:lnTo>
                    <a:pt x="193" y="124"/>
                  </a:lnTo>
                  <a:lnTo>
                    <a:pt x="188" y="124"/>
                  </a:lnTo>
                  <a:lnTo>
                    <a:pt x="188" y="136"/>
                  </a:lnTo>
                  <a:lnTo>
                    <a:pt x="182" y="136"/>
                  </a:lnTo>
                  <a:lnTo>
                    <a:pt x="182" y="142"/>
                  </a:lnTo>
                  <a:lnTo>
                    <a:pt x="163" y="142"/>
                  </a:lnTo>
                  <a:lnTo>
                    <a:pt x="163" y="136"/>
                  </a:lnTo>
                  <a:lnTo>
                    <a:pt x="159" y="136"/>
                  </a:lnTo>
                  <a:lnTo>
                    <a:pt x="159" y="131"/>
                  </a:lnTo>
                  <a:lnTo>
                    <a:pt x="154" y="131"/>
                  </a:lnTo>
                  <a:lnTo>
                    <a:pt x="154" y="124"/>
                  </a:lnTo>
                  <a:lnTo>
                    <a:pt x="140" y="124"/>
                  </a:lnTo>
                  <a:lnTo>
                    <a:pt x="140" y="118"/>
                  </a:lnTo>
                  <a:lnTo>
                    <a:pt x="115" y="118"/>
                  </a:lnTo>
                  <a:lnTo>
                    <a:pt x="115" y="112"/>
                  </a:lnTo>
                  <a:lnTo>
                    <a:pt x="106" y="112"/>
                  </a:lnTo>
                  <a:lnTo>
                    <a:pt x="106" y="107"/>
                  </a:lnTo>
                  <a:lnTo>
                    <a:pt x="92" y="107"/>
                  </a:lnTo>
                  <a:lnTo>
                    <a:pt x="92" y="99"/>
                  </a:lnTo>
                  <a:lnTo>
                    <a:pt x="82" y="99"/>
                  </a:lnTo>
                  <a:lnTo>
                    <a:pt x="82" y="94"/>
                  </a:lnTo>
                  <a:lnTo>
                    <a:pt x="73" y="94"/>
                  </a:lnTo>
                  <a:lnTo>
                    <a:pt x="73" y="89"/>
                  </a:lnTo>
                  <a:lnTo>
                    <a:pt x="53" y="89"/>
                  </a:lnTo>
                  <a:lnTo>
                    <a:pt x="53" y="82"/>
                  </a:lnTo>
                  <a:lnTo>
                    <a:pt x="38" y="82"/>
                  </a:lnTo>
                  <a:lnTo>
                    <a:pt x="38" y="77"/>
                  </a:lnTo>
                  <a:lnTo>
                    <a:pt x="19" y="77"/>
                  </a:lnTo>
                  <a:lnTo>
                    <a:pt x="19" y="71"/>
                  </a:lnTo>
                  <a:lnTo>
                    <a:pt x="10" y="71"/>
                  </a:lnTo>
                  <a:lnTo>
                    <a:pt x="10" y="66"/>
                  </a:lnTo>
                  <a:lnTo>
                    <a:pt x="5" y="66"/>
                  </a:lnTo>
                  <a:lnTo>
                    <a:pt x="5" y="58"/>
                  </a:lnTo>
                  <a:lnTo>
                    <a:pt x="0" y="5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4360" y="285840"/>
              <a:ext cx="20520" cy="792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0"/>
                  </a:moveTo>
                  <a:lnTo>
                    <a:pt x="39" y="0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23" y="23"/>
                  </a:lnTo>
                  <a:lnTo>
                    <a:pt x="5" y="23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4880" y="1455840"/>
              <a:ext cx="73080" cy="41040"/>
            </a:xfrm>
            <a:custGeom>
              <a:avLst/>
              <a:gdLst/>
              <a:ahLst/>
              <a:rect l="l" t="t" r="r" b="b"/>
              <a:pathLst>
                <a:path w="139" h="106">
                  <a:moveTo>
                    <a:pt x="0" y="65"/>
                  </a:moveTo>
                  <a:lnTo>
                    <a:pt x="4" y="65"/>
                  </a:lnTo>
                  <a:lnTo>
                    <a:pt x="4" y="4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4" y="12"/>
                  </a:lnTo>
                  <a:lnTo>
                    <a:pt x="19" y="1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37" y="6"/>
                  </a:lnTo>
                  <a:lnTo>
                    <a:pt x="37" y="12"/>
                  </a:lnTo>
                  <a:lnTo>
                    <a:pt x="52" y="12"/>
                  </a:lnTo>
                  <a:lnTo>
                    <a:pt x="52" y="19"/>
                  </a:lnTo>
                  <a:lnTo>
                    <a:pt x="61" y="19"/>
                  </a:lnTo>
                  <a:lnTo>
                    <a:pt x="61" y="24"/>
                  </a:lnTo>
                  <a:lnTo>
                    <a:pt x="77" y="24"/>
                  </a:lnTo>
                  <a:lnTo>
                    <a:pt x="77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10" y="36"/>
                  </a:lnTo>
                  <a:lnTo>
                    <a:pt x="110" y="41"/>
                  </a:lnTo>
                  <a:lnTo>
                    <a:pt x="114" y="41"/>
                  </a:lnTo>
                  <a:lnTo>
                    <a:pt x="114" y="47"/>
                  </a:lnTo>
                  <a:lnTo>
                    <a:pt x="129" y="47"/>
                  </a:lnTo>
                  <a:lnTo>
                    <a:pt x="129" y="54"/>
                  </a:lnTo>
                  <a:lnTo>
                    <a:pt x="139" y="54"/>
                  </a:lnTo>
                  <a:lnTo>
                    <a:pt x="139" y="71"/>
                  </a:lnTo>
                  <a:lnTo>
                    <a:pt x="129" y="71"/>
                  </a:lnTo>
                  <a:lnTo>
                    <a:pt x="129" y="77"/>
                  </a:lnTo>
                  <a:lnTo>
                    <a:pt x="124" y="77"/>
                  </a:lnTo>
                  <a:lnTo>
                    <a:pt x="124" y="82"/>
                  </a:lnTo>
                  <a:lnTo>
                    <a:pt x="105" y="82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91" y="95"/>
                  </a:lnTo>
                  <a:lnTo>
                    <a:pt x="61" y="95"/>
                  </a:lnTo>
                  <a:lnTo>
                    <a:pt x="61" y="100"/>
                  </a:lnTo>
                  <a:lnTo>
                    <a:pt x="52" y="100"/>
                  </a:lnTo>
                  <a:lnTo>
                    <a:pt x="52" y="106"/>
                  </a:lnTo>
                  <a:lnTo>
                    <a:pt x="43" y="106"/>
                  </a:lnTo>
                  <a:lnTo>
                    <a:pt x="43" y="100"/>
                  </a:lnTo>
                  <a:lnTo>
                    <a:pt x="24" y="100"/>
                  </a:lnTo>
                  <a:lnTo>
                    <a:pt x="24" y="95"/>
                  </a:lnTo>
                  <a:lnTo>
                    <a:pt x="14" y="95"/>
                  </a:lnTo>
                  <a:lnTo>
                    <a:pt x="14" y="89"/>
                  </a:lnTo>
                  <a:lnTo>
                    <a:pt x="10" y="89"/>
                  </a:lnTo>
                  <a:lnTo>
                    <a:pt x="10" y="82"/>
                  </a:lnTo>
                  <a:lnTo>
                    <a:pt x="4" y="82"/>
                  </a:lnTo>
                  <a:lnTo>
                    <a:pt x="4" y="77"/>
                  </a:lnTo>
                  <a:lnTo>
                    <a:pt x="0" y="7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52800" y="901800"/>
              <a:ext cx="4680" cy="46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71880" y="1397160"/>
              <a:ext cx="142920" cy="55440"/>
            </a:xfrm>
            <a:custGeom>
              <a:avLst/>
              <a:gdLst/>
              <a:ahLst/>
              <a:rect l="l" t="t" r="r" b="b"/>
              <a:pathLst>
                <a:path w="269" h="144">
                  <a:moveTo>
                    <a:pt x="0" y="0"/>
                  </a:moveTo>
                  <a:lnTo>
                    <a:pt x="20" y="0"/>
                  </a:lnTo>
                  <a:lnTo>
                    <a:pt x="20" y="8"/>
                  </a:lnTo>
                  <a:lnTo>
                    <a:pt x="53" y="8"/>
                  </a:lnTo>
                  <a:lnTo>
                    <a:pt x="53" y="13"/>
                  </a:lnTo>
                  <a:lnTo>
                    <a:pt x="67" y="13"/>
                  </a:lnTo>
                  <a:lnTo>
                    <a:pt x="67" y="19"/>
                  </a:lnTo>
                  <a:lnTo>
                    <a:pt x="77" y="19"/>
                  </a:lnTo>
                  <a:lnTo>
                    <a:pt x="77" y="25"/>
                  </a:lnTo>
                  <a:lnTo>
                    <a:pt x="87" y="25"/>
                  </a:lnTo>
                  <a:lnTo>
                    <a:pt x="87" y="32"/>
                  </a:lnTo>
                  <a:lnTo>
                    <a:pt x="116" y="32"/>
                  </a:lnTo>
                  <a:lnTo>
                    <a:pt x="116" y="37"/>
                  </a:lnTo>
                  <a:lnTo>
                    <a:pt x="130" y="37"/>
                  </a:lnTo>
                  <a:lnTo>
                    <a:pt x="130" y="43"/>
                  </a:lnTo>
                  <a:lnTo>
                    <a:pt x="139" y="43"/>
                  </a:lnTo>
                  <a:lnTo>
                    <a:pt x="139" y="49"/>
                  </a:lnTo>
                  <a:lnTo>
                    <a:pt x="174" y="49"/>
                  </a:lnTo>
                  <a:lnTo>
                    <a:pt x="174" y="54"/>
                  </a:lnTo>
                  <a:lnTo>
                    <a:pt x="183" y="54"/>
                  </a:lnTo>
                  <a:lnTo>
                    <a:pt x="183" y="60"/>
                  </a:lnTo>
                  <a:lnTo>
                    <a:pt x="192" y="60"/>
                  </a:lnTo>
                  <a:lnTo>
                    <a:pt x="192" y="67"/>
                  </a:lnTo>
                  <a:lnTo>
                    <a:pt x="207" y="67"/>
                  </a:lnTo>
                  <a:lnTo>
                    <a:pt x="207" y="73"/>
                  </a:lnTo>
                  <a:lnTo>
                    <a:pt x="221" y="73"/>
                  </a:lnTo>
                  <a:lnTo>
                    <a:pt x="221" y="78"/>
                  </a:lnTo>
                  <a:lnTo>
                    <a:pt x="235" y="78"/>
                  </a:lnTo>
                  <a:lnTo>
                    <a:pt x="235" y="85"/>
                  </a:lnTo>
                  <a:lnTo>
                    <a:pt x="246" y="85"/>
                  </a:lnTo>
                  <a:lnTo>
                    <a:pt x="246" y="90"/>
                  </a:lnTo>
                  <a:lnTo>
                    <a:pt x="265" y="90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69" y="131"/>
                  </a:lnTo>
                  <a:lnTo>
                    <a:pt x="265" y="131"/>
                  </a:lnTo>
                  <a:lnTo>
                    <a:pt x="265" y="144"/>
                  </a:lnTo>
                  <a:lnTo>
                    <a:pt x="235" y="144"/>
                  </a:lnTo>
                  <a:lnTo>
                    <a:pt x="235" y="136"/>
                  </a:lnTo>
                  <a:lnTo>
                    <a:pt x="221" y="136"/>
                  </a:lnTo>
                  <a:lnTo>
                    <a:pt x="221" y="131"/>
                  </a:lnTo>
                  <a:lnTo>
                    <a:pt x="212" y="131"/>
                  </a:lnTo>
                  <a:lnTo>
                    <a:pt x="212" y="126"/>
                  </a:lnTo>
                  <a:lnTo>
                    <a:pt x="198" y="126"/>
                  </a:lnTo>
                  <a:lnTo>
                    <a:pt x="198" y="119"/>
                  </a:lnTo>
                  <a:lnTo>
                    <a:pt x="183" y="119"/>
                  </a:lnTo>
                  <a:lnTo>
                    <a:pt x="183" y="114"/>
                  </a:lnTo>
                  <a:lnTo>
                    <a:pt x="169" y="114"/>
                  </a:lnTo>
                  <a:lnTo>
                    <a:pt x="169" y="108"/>
                  </a:lnTo>
                  <a:lnTo>
                    <a:pt x="163" y="108"/>
                  </a:lnTo>
                  <a:lnTo>
                    <a:pt x="163" y="103"/>
                  </a:lnTo>
                  <a:lnTo>
                    <a:pt x="144" y="103"/>
                  </a:lnTo>
                  <a:lnTo>
                    <a:pt x="144" y="95"/>
                  </a:lnTo>
                  <a:lnTo>
                    <a:pt x="116" y="95"/>
                  </a:lnTo>
                  <a:lnTo>
                    <a:pt x="116" y="90"/>
                  </a:lnTo>
                  <a:lnTo>
                    <a:pt x="111" y="90"/>
                  </a:lnTo>
                  <a:lnTo>
                    <a:pt x="111" y="85"/>
                  </a:lnTo>
                  <a:lnTo>
                    <a:pt x="96" y="85"/>
                  </a:lnTo>
                  <a:lnTo>
                    <a:pt x="96" y="78"/>
                  </a:lnTo>
                  <a:lnTo>
                    <a:pt x="67" y="78"/>
                  </a:lnTo>
                  <a:lnTo>
                    <a:pt x="67" y="73"/>
                  </a:lnTo>
                  <a:lnTo>
                    <a:pt x="62" y="73"/>
                  </a:lnTo>
                  <a:lnTo>
                    <a:pt x="62" y="67"/>
                  </a:lnTo>
                  <a:lnTo>
                    <a:pt x="53" y="67"/>
                  </a:lnTo>
                  <a:lnTo>
                    <a:pt x="53" y="60"/>
                  </a:lnTo>
                  <a:lnTo>
                    <a:pt x="39" y="60"/>
                  </a:lnTo>
                  <a:lnTo>
                    <a:pt x="39" y="54"/>
                  </a:lnTo>
                  <a:lnTo>
                    <a:pt x="20" y="54"/>
                  </a:lnTo>
                  <a:lnTo>
                    <a:pt x="20" y="49"/>
                  </a:lnTo>
                  <a:lnTo>
                    <a:pt x="5" y="49"/>
                  </a:lnTo>
                  <a:lnTo>
                    <a:pt x="5" y="43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95640" y="1568520"/>
              <a:ext cx="98280" cy="8892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0" y="214"/>
                  </a:moveTo>
                  <a:lnTo>
                    <a:pt x="9" y="214"/>
                  </a:lnTo>
                  <a:lnTo>
                    <a:pt x="9" y="207"/>
                  </a:lnTo>
                  <a:lnTo>
                    <a:pt x="14" y="207"/>
                  </a:lnTo>
                  <a:lnTo>
                    <a:pt x="14" y="195"/>
                  </a:lnTo>
                  <a:lnTo>
                    <a:pt x="18" y="195"/>
                  </a:lnTo>
                  <a:lnTo>
                    <a:pt x="18" y="190"/>
                  </a:lnTo>
                  <a:lnTo>
                    <a:pt x="23" y="190"/>
                  </a:lnTo>
                  <a:lnTo>
                    <a:pt x="23" y="185"/>
                  </a:lnTo>
                  <a:lnTo>
                    <a:pt x="28" y="185"/>
                  </a:lnTo>
                  <a:lnTo>
                    <a:pt x="28" y="166"/>
                  </a:lnTo>
                  <a:lnTo>
                    <a:pt x="33" y="166"/>
                  </a:lnTo>
                  <a:lnTo>
                    <a:pt x="33" y="144"/>
                  </a:lnTo>
                  <a:lnTo>
                    <a:pt x="37" y="144"/>
                  </a:lnTo>
                  <a:lnTo>
                    <a:pt x="37" y="101"/>
                  </a:lnTo>
                  <a:lnTo>
                    <a:pt x="81" y="101"/>
                  </a:lnTo>
                  <a:lnTo>
                    <a:pt x="81" y="95"/>
                  </a:lnTo>
                  <a:lnTo>
                    <a:pt x="91" y="95"/>
                  </a:lnTo>
                  <a:lnTo>
                    <a:pt x="91" y="90"/>
                  </a:lnTo>
                  <a:lnTo>
                    <a:pt x="95" y="90"/>
                  </a:lnTo>
                  <a:lnTo>
                    <a:pt x="95" y="84"/>
                  </a:lnTo>
                  <a:lnTo>
                    <a:pt x="100" y="84"/>
                  </a:lnTo>
                  <a:lnTo>
                    <a:pt x="100" y="54"/>
                  </a:lnTo>
                  <a:lnTo>
                    <a:pt x="105" y="54"/>
                  </a:lnTo>
                  <a:lnTo>
                    <a:pt x="105" y="36"/>
                  </a:lnTo>
                  <a:lnTo>
                    <a:pt x="110" y="36"/>
                  </a:lnTo>
                  <a:lnTo>
                    <a:pt x="110" y="30"/>
                  </a:lnTo>
                  <a:lnTo>
                    <a:pt x="148" y="30"/>
                  </a:lnTo>
                  <a:lnTo>
                    <a:pt x="148" y="25"/>
                  </a:lnTo>
                  <a:lnTo>
                    <a:pt x="158" y="25"/>
                  </a:lnTo>
                  <a:lnTo>
                    <a:pt x="158" y="19"/>
                  </a:lnTo>
                  <a:lnTo>
                    <a:pt x="163" y="19"/>
                  </a:lnTo>
                  <a:lnTo>
                    <a:pt x="163" y="13"/>
                  </a:lnTo>
                  <a:lnTo>
                    <a:pt x="168" y="13"/>
                  </a:lnTo>
                  <a:lnTo>
                    <a:pt x="168" y="8"/>
                  </a:lnTo>
                  <a:lnTo>
                    <a:pt x="173" y="8"/>
                  </a:lnTo>
                  <a:lnTo>
                    <a:pt x="173" y="0"/>
                  </a:lnTo>
                  <a:lnTo>
                    <a:pt x="187" y="0"/>
                  </a:lnTo>
                  <a:lnTo>
                    <a:pt x="187" y="13"/>
                  </a:lnTo>
                  <a:lnTo>
                    <a:pt x="181" y="13"/>
                  </a:lnTo>
                  <a:lnTo>
                    <a:pt x="181" y="19"/>
                  </a:lnTo>
                  <a:lnTo>
                    <a:pt x="173" y="19"/>
                  </a:lnTo>
                  <a:lnTo>
                    <a:pt x="173" y="25"/>
                  </a:lnTo>
                  <a:lnTo>
                    <a:pt x="168" y="25"/>
                  </a:lnTo>
                  <a:lnTo>
                    <a:pt x="168" y="30"/>
                  </a:lnTo>
                  <a:lnTo>
                    <a:pt x="163" y="30"/>
                  </a:lnTo>
                  <a:lnTo>
                    <a:pt x="163" y="36"/>
                  </a:lnTo>
                  <a:lnTo>
                    <a:pt x="154" y="36"/>
                  </a:lnTo>
                  <a:lnTo>
                    <a:pt x="154" y="41"/>
                  </a:lnTo>
                  <a:lnTo>
                    <a:pt x="148" y="41"/>
                  </a:lnTo>
                  <a:lnTo>
                    <a:pt x="148" y="49"/>
                  </a:lnTo>
                  <a:lnTo>
                    <a:pt x="125" y="49"/>
                  </a:lnTo>
                  <a:lnTo>
                    <a:pt x="125" y="54"/>
                  </a:lnTo>
                  <a:lnTo>
                    <a:pt x="119" y="54"/>
                  </a:lnTo>
                  <a:lnTo>
                    <a:pt x="119" y="66"/>
                  </a:lnTo>
                  <a:lnTo>
                    <a:pt x="114" y="66"/>
                  </a:lnTo>
                  <a:lnTo>
                    <a:pt x="114" y="90"/>
                  </a:lnTo>
                  <a:lnTo>
                    <a:pt x="110" y="90"/>
                  </a:lnTo>
                  <a:lnTo>
                    <a:pt x="110" y="95"/>
                  </a:lnTo>
                  <a:lnTo>
                    <a:pt x="105" y="95"/>
                  </a:lnTo>
                  <a:lnTo>
                    <a:pt x="105" y="101"/>
                  </a:lnTo>
                  <a:lnTo>
                    <a:pt x="100" y="101"/>
                  </a:lnTo>
                  <a:lnTo>
                    <a:pt x="100" y="107"/>
                  </a:lnTo>
                  <a:lnTo>
                    <a:pt x="91" y="107"/>
                  </a:lnTo>
                  <a:lnTo>
                    <a:pt x="91" y="114"/>
                  </a:lnTo>
                  <a:lnTo>
                    <a:pt x="72" y="114"/>
                  </a:lnTo>
                  <a:lnTo>
                    <a:pt x="72" y="119"/>
                  </a:lnTo>
                  <a:lnTo>
                    <a:pt x="52" y="119"/>
                  </a:lnTo>
                  <a:lnTo>
                    <a:pt x="52" y="136"/>
                  </a:lnTo>
                  <a:lnTo>
                    <a:pt x="48" y="136"/>
                  </a:lnTo>
                  <a:lnTo>
                    <a:pt x="48" y="155"/>
                  </a:lnTo>
                  <a:lnTo>
                    <a:pt x="43" y="155"/>
                  </a:lnTo>
                  <a:lnTo>
                    <a:pt x="43" y="172"/>
                  </a:lnTo>
                  <a:lnTo>
                    <a:pt x="37" y="172"/>
                  </a:lnTo>
                  <a:lnTo>
                    <a:pt x="37" y="190"/>
                  </a:lnTo>
                  <a:lnTo>
                    <a:pt x="33" y="190"/>
                  </a:lnTo>
                  <a:lnTo>
                    <a:pt x="33" y="202"/>
                  </a:lnTo>
                  <a:lnTo>
                    <a:pt x="28" y="202"/>
                  </a:lnTo>
                  <a:lnTo>
                    <a:pt x="28" y="207"/>
                  </a:lnTo>
                  <a:lnTo>
                    <a:pt x="23" y="207"/>
                  </a:lnTo>
                  <a:lnTo>
                    <a:pt x="23" y="214"/>
                  </a:lnTo>
                  <a:lnTo>
                    <a:pt x="18" y="214"/>
                  </a:lnTo>
                  <a:lnTo>
                    <a:pt x="18" y="220"/>
                  </a:lnTo>
                  <a:lnTo>
                    <a:pt x="14" y="220"/>
                  </a:lnTo>
                  <a:lnTo>
                    <a:pt x="14" y="226"/>
                  </a:lnTo>
                  <a:lnTo>
                    <a:pt x="0" y="22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10040" y="1652760"/>
              <a:ext cx="96840" cy="109440"/>
            </a:xfrm>
            <a:custGeom>
              <a:avLst/>
              <a:gdLst/>
              <a:ahLst/>
              <a:rect l="l" t="t" r="r" b="b"/>
              <a:pathLst>
                <a:path w="183" h="277">
                  <a:moveTo>
                    <a:pt x="0" y="259"/>
                  </a:moveTo>
                  <a:lnTo>
                    <a:pt x="5" y="259"/>
                  </a:lnTo>
                  <a:lnTo>
                    <a:pt x="5" y="254"/>
                  </a:lnTo>
                  <a:lnTo>
                    <a:pt x="15" y="254"/>
                  </a:lnTo>
                  <a:lnTo>
                    <a:pt x="15" y="242"/>
                  </a:lnTo>
                  <a:lnTo>
                    <a:pt x="20" y="242"/>
                  </a:lnTo>
                  <a:lnTo>
                    <a:pt x="20" y="166"/>
                  </a:lnTo>
                  <a:lnTo>
                    <a:pt x="15" y="166"/>
                  </a:lnTo>
                  <a:lnTo>
                    <a:pt x="15" y="159"/>
                  </a:lnTo>
                  <a:lnTo>
                    <a:pt x="9" y="159"/>
                  </a:lnTo>
                  <a:lnTo>
                    <a:pt x="9" y="141"/>
                  </a:lnTo>
                  <a:lnTo>
                    <a:pt x="20" y="141"/>
                  </a:lnTo>
                  <a:lnTo>
                    <a:pt x="20" y="136"/>
                  </a:lnTo>
                  <a:lnTo>
                    <a:pt x="30" y="136"/>
                  </a:lnTo>
                  <a:lnTo>
                    <a:pt x="30" y="141"/>
                  </a:lnTo>
                  <a:lnTo>
                    <a:pt x="34" y="141"/>
                  </a:lnTo>
                  <a:lnTo>
                    <a:pt x="34" y="148"/>
                  </a:lnTo>
                  <a:lnTo>
                    <a:pt x="53" y="148"/>
                  </a:lnTo>
                  <a:lnTo>
                    <a:pt x="53" y="141"/>
                  </a:lnTo>
                  <a:lnTo>
                    <a:pt x="63" y="141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18"/>
                  </a:lnTo>
                  <a:lnTo>
                    <a:pt x="72" y="118"/>
                  </a:lnTo>
                  <a:lnTo>
                    <a:pt x="72" y="99"/>
                  </a:lnTo>
                  <a:lnTo>
                    <a:pt x="77" y="99"/>
                  </a:lnTo>
                  <a:lnTo>
                    <a:pt x="77" y="71"/>
                  </a:lnTo>
                  <a:lnTo>
                    <a:pt x="120" y="71"/>
                  </a:lnTo>
                  <a:lnTo>
                    <a:pt x="120" y="64"/>
                  </a:lnTo>
                  <a:lnTo>
                    <a:pt x="126" y="64"/>
                  </a:lnTo>
                  <a:lnTo>
                    <a:pt x="126" y="58"/>
                  </a:lnTo>
                  <a:lnTo>
                    <a:pt x="130" y="58"/>
                  </a:lnTo>
                  <a:lnTo>
                    <a:pt x="130" y="53"/>
                  </a:lnTo>
                  <a:lnTo>
                    <a:pt x="135" y="53"/>
                  </a:lnTo>
                  <a:lnTo>
                    <a:pt x="135" y="47"/>
                  </a:lnTo>
                  <a:lnTo>
                    <a:pt x="140" y="47"/>
                  </a:lnTo>
                  <a:lnTo>
                    <a:pt x="140" y="41"/>
                  </a:lnTo>
                  <a:lnTo>
                    <a:pt x="145" y="41"/>
                  </a:lnTo>
                  <a:lnTo>
                    <a:pt x="145" y="34"/>
                  </a:lnTo>
                  <a:lnTo>
                    <a:pt x="149" y="34"/>
                  </a:lnTo>
                  <a:lnTo>
                    <a:pt x="149" y="30"/>
                  </a:lnTo>
                  <a:lnTo>
                    <a:pt x="153" y="30"/>
                  </a:lnTo>
                  <a:lnTo>
                    <a:pt x="153" y="22"/>
                  </a:lnTo>
                  <a:lnTo>
                    <a:pt x="159" y="22"/>
                  </a:lnTo>
                  <a:lnTo>
                    <a:pt x="159" y="17"/>
                  </a:lnTo>
                  <a:lnTo>
                    <a:pt x="163" y="17"/>
                  </a:lnTo>
                  <a:lnTo>
                    <a:pt x="163" y="12"/>
                  </a:lnTo>
                  <a:lnTo>
                    <a:pt x="169" y="12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74" y="0"/>
                  </a:lnTo>
                  <a:lnTo>
                    <a:pt x="183" y="0"/>
                  </a:lnTo>
                  <a:lnTo>
                    <a:pt x="183" y="12"/>
                  </a:lnTo>
                  <a:lnTo>
                    <a:pt x="178" y="12"/>
                  </a:lnTo>
                  <a:lnTo>
                    <a:pt x="178" y="17"/>
                  </a:lnTo>
                  <a:lnTo>
                    <a:pt x="174" y="17"/>
                  </a:lnTo>
                  <a:lnTo>
                    <a:pt x="174" y="22"/>
                  </a:lnTo>
                  <a:lnTo>
                    <a:pt x="169" y="22"/>
                  </a:lnTo>
                  <a:lnTo>
                    <a:pt x="169" y="34"/>
                  </a:lnTo>
                  <a:lnTo>
                    <a:pt x="163" y="34"/>
                  </a:lnTo>
                  <a:lnTo>
                    <a:pt x="163" y="41"/>
                  </a:lnTo>
                  <a:lnTo>
                    <a:pt x="159" y="41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53" y="53"/>
                  </a:lnTo>
                  <a:lnTo>
                    <a:pt x="149" y="53"/>
                  </a:lnTo>
                  <a:lnTo>
                    <a:pt x="149" y="58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0" y="64"/>
                  </a:lnTo>
                  <a:lnTo>
                    <a:pt x="140" y="71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26" y="76"/>
                  </a:lnTo>
                  <a:lnTo>
                    <a:pt x="126" y="82"/>
                  </a:lnTo>
                  <a:lnTo>
                    <a:pt x="116" y="82"/>
                  </a:lnTo>
                  <a:lnTo>
                    <a:pt x="116" y="88"/>
                  </a:lnTo>
                  <a:lnTo>
                    <a:pt x="97" y="88"/>
                  </a:lnTo>
                  <a:lnTo>
                    <a:pt x="97" y="99"/>
                  </a:lnTo>
                  <a:lnTo>
                    <a:pt x="91" y="99"/>
                  </a:lnTo>
                  <a:lnTo>
                    <a:pt x="91" y="118"/>
                  </a:lnTo>
                  <a:lnTo>
                    <a:pt x="86" y="118"/>
                  </a:lnTo>
                  <a:lnTo>
                    <a:pt x="86" y="123"/>
                  </a:lnTo>
                  <a:lnTo>
                    <a:pt x="82" y="123"/>
                  </a:lnTo>
                  <a:lnTo>
                    <a:pt x="82" y="129"/>
                  </a:lnTo>
                  <a:lnTo>
                    <a:pt x="77" y="129"/>
                  </a:lnTo>
                  <a:lnTo>
                    <a:pt x="77" y="136"/>
                  </a:lnTo>
                  <a:lnTo>
                    <a:pt x="72" y="136"/>
                  </a:lnTo>
                  <a:lnTo>
                    <a:pt x="72" y="148"/>
                  </a:lnTo>
                  <a:lnTo>
                    <a:pt x="67" y="148"/>
                  </a:lnTo>
                  <a:lnTo>
                    <a:pt x="67" y="153"/>
                  </a:lnTo>
                  <a:lnTo>
                    <a:pt x="63" y="153"/>
                  </a:lnTo>
                  <a:lnTo>
                    <a:pt x="63" y="159"/>
                  </a:lnTo>
                  <a:lnTo>
                    <a:pt x="49" y="159"/>
                  </a:lnTo>
                  <a:lnTo>
                    <a:pt x="49" y="166"/>
                  </a:lnTo>
                  <a:lnTo>
                    <a:pt x="34" y="166"/>
                  </a:lnTo>
                  <a:lnTo>
                    <a:pt x="34" y="200"/>
                  </a:lnTo>
                  <a:lnTo>
                    <a:pt x="39" y="200"/>
                  </a:lnTo>
                  <a:lnTo>
                    <a:pt x="39" y="225"/>
                  </a:lnTo>
                  <a:lnTo>
                    <a:pt x="34" y="225"/>
                  </a:lnTo>
                  <a:lnTo>
                    <a:pt x="34" y="259"/>
                  </a:lnTo>
                  <a:lnTo>
                    <a:pt x="30" y="259"/>
                  </a:lnTo>
                  <a:lnTo>
                    <a:pt x="30" y="267"/>
                  </a:lnTo>
                  <a:lnTo>
                    <a:pt x="20" y="267"/>
                  </a:lnTo>
                  <a:lnTo>
                    <a:pt x="20" y="272"/>
                  </a:lnTo>
                  <a:lnTo>
                    <a:pt x="15" y="272"/>
                  </a:lnTo>
                  <a:lnTo>
                    <a:pt x="15" y="277"/>
                  </a:lnTo>
                  <a:lnTo>
                    <a:pt x="5" y="277"/>
                  </a:lnTo>
                  <a:lnTo>
                    <a:pt x="5" y="272"/>
                  </a:lnTo>
                  <a:lnTo>
                    <a:pt x="0" y="272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29120" y="1878120"/>
              <a:ext cx="4680" cy="46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30560" y="1446120"/>
              <a:ext cx="147600" cy="63720"/>
            </a:xfrm>
            <a:custGeom>
              <a:avLst/>
              <a:gdLst/>
              <a:ahLst/>
              <a:rect l="l" t="t" r="r" b="b"/>
              <a:pathLst>
                <a:path w="279" h="159">
                  <a:moveTo>
                    <a:pt x="0" y="18"/>
                  </a:moveTo>
                  <a:lnTo>
                    <a:pt x="5" y="18"/>
                  </a:lnTo>
                  <a:lnTo>
                    <a:pt x="5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87" y="10"/>
                  </a:lnTo>
                  <a:lnTo>
                    <a:pt x="87" y="18"/>
                  </a:lnTo>
                  <a:lnTo>
                    <a:pt x="91" y="18"/>
                  </a:lnTo>
                  <a:lnTo>
                    <a:pt x="91" y="23"/>
                  </a:lnTo>
                  <a:lnTo>
                    <a:pt x="110" y="23"/>
                  </a:lnTo>
                  <a:lnTo>
                    <a:pt x="110" y="29"/>
                  </a:lnTo>
                  <a:lnTo>
                    <a:pt x="130" y="29"/>
                  </a:lnTo>
                  <a:lnTo>
                    <a:pt x="130" y="35"/>
                  </a:lnTo>
                  <a:lnTo>
                    <a:pt x="144" y="35"/>
                  </a:lnTo>
                  <a:lnTo>
                    <a:pt x="144" y="42"/>
                  </a:lnTo>
                  <a:lnTo>
                    <a:pt x="149" y="42"/>
                  </a:lnTo>
                  <a:lnTo>
                    <a:pt x="149" y="47"/>
                  </a:lnTo>
                  <a:lnTo>
                    <a:pt x="158" y="47"/>
                  </a:lnTo>
                  <a:lnTo>
                    <a:pt x="158" y="53"/>
                  </a:lnTo>
                  <a:lnTo>
                    <a:pt x="172" y="53"/>
                  </a:lnTo>
                  <a:lnTo>
                    <a:pt x="172" y="59"/>
                  </a:lnTo>
                  <a:lnTo>
                    <a:pt x="191" y="59"/>
                  </a:lnTo>
                  <a:lnTo>
                    <a:pt x="191" y="64"/>
                  </a:lnTo>
                  <a:lnTo>
                    <a:pt x="206" y="64"/>
                  </a:lnTo>
                  <a:lnTo>
                    <a:pt x="206" y="70"/>
                  </a:lnTo>
                  <a:lnTo>
                    <a:pt x="221" y="70"/>
                  </a:lnTo>
                  <a:lnTo>
                    <a:pt x="221" y="77"/>
                  </a:lnTo>
                  <a:lnTo>
                    <a:pt x="239" y="77"/>
                  </a:lnTo>
                  <a:lnTo>
                    <a:pt x="239" y="82"/>
                  </a:lnTo>
                  <a:lnTo>
                    <a:pt x="254" y="82"/>
                  </a:lnTo>
                  <a:lnTo>
                    <a:pt x="254" y="88"/>
                  </a:lnTo>
                  <a:lnTo>
                    <a:pt x="268" y="88"/>
                  </a:lnTo>
                  <a:lnTo>
                    <a:pt x="268" y="94"/>
                  </a:lnTo>
                  <a:lnTo>
                    <a:pt x="279" y="94"/>
                  </a:lnTo>
                  <a:lnTo>
                    <a:pt x="279" y="118"/>
                  </a:lnTo>
                  <a:lnTo>
                    <a:pt x="274" y="118"/>
                  </a:lnTo>
                  <a:lnTo>
                    <a:pt x="274" y="146"/>
                  </a:lnTo>
                  <a:lnTo>
                    <a:pt x="268" y="146"/>
                  </a:lnTo>
                  <a:lnTo>
                    <a:pt x="268" y="159"/>
                  </a:lnTo>
                  <a:lnTo>
                    <a:pt x="254" y="159"/>
                  </a:lnTo>
                  <a:lnTo>
                    <a:pt x="254" y="154"/>
                  </a:lnTo>
                  <a:lnTo>
                    <a:pt x="245" y="154"/>
                  </a:lnTo>
                  <a:lnTo>
                    <a:pt x="245" y="146"/>
                  </a:lnTo>
                  <a:lnTo>
                    <a:pt x="235" y="146"/>
                  </a:lnTo>
                  <a:lnTo>
                    <a:pt x="235" y="141"/>
                  </a:lnTo>
                  <a:lnTo>
                    <a:pt x="231" y="141"/>
                  </a:lnTo>
                  <a:lnTo>
                    <a:pt x="231" y="135"/>
                  </a:lnTo>
                  <a:lnTo>
                    <a:pt x="221" y="135"/>
                  </a:lnTo>
                  <a:lnTo>
                    <a:pt x="221" y="129"/>
                  </a:lnTo>
                  <a:lnTo>
                    <a:pt x="206" y="129"/>
                  </a:lnTo>
                  <a:lnTo>
                    <a:pt x="206" y="123"/>
                  </a:lnTo>
                  <a:lnTo>
                    <a:pt x="202" y="123"/>
                  </a:lnTo>
                  <a:lnTo>
                    <a:pt x="202" y="118"/>
                  </a:lnTo>
                  <a:lnTo>
                    <a:pt x="187" y="118"/>
                  </a:lnTo>
                  <a:lnTo>
                    <a:pt x="187" y="112"/>
                  </a:lnTo>
                  <a:lnTo>
                    <a:pt x="177" y="112"/>
                  </a:lnTo>
                  <a:lnTo>
                    <a:pt x="177" y="105"/>
                  </a:lnTo>
                  <a:lnTo>
                    <a:pt x="172" y="105"/>
                  </a:lnTo>
                  <a:lnTo>
                    <a:pt x="172" y="100"/>
                  </a:lnTo>
                  <a:lnTo>
                    <a:pt x="158" y="100"/>
                  </a:lnTo>
                  <a:lnTo>
                    <a:pt x="158" y="94"/>
                  </a:lnTo>
                  <a:lnTo>
                    <a:pt x="154" y="94"/>
                  </a:lnTo>
                  <a:lnTo>
                    <a:pt x="154" y="88"/>
                  </a:lnTo>
                  <a:lnTo>
                    <a:pt x="139" y="88"/>
                  </a:lnTo>
                  <a:lnTo>
                    <a:pt x="139" y="82"/>
                  </a:lnTo>
                  <a:lnTo>
                    <a:pt x="91" y="82"/>
                  </a:lnTo>
                  <a:lnTo>
                    <a:pt x="91" y="77"/>
                  </a:lnTo>
                  <a:lnTo>
                    <a:pt x="72" y="77"/>
                  </a:lnTo>
                  <a:lnTo>
                    <a:pt x="72" y="82"/>
                  </a:lnTo>
                  <a:lnTo>
                    <a:pt x="33" y="82"/>
                  </a:lnTo>
                  <a:lnTo>
                    <a:pt x="33" y="88"/>
                  </a:lnTo>
                  <a:lnTo>
                    <a:pt x="24" y="88"/>
                  </a:lnTo>
                  <a:lnTo>
                    <a:pt x="2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0" y="77"/>
                  </a:lnTo>
                  <a:lnTo>
                    <a:pt x="10" y="70"/>
                  </a:lnTo>
                  <a:lnTo>
                    <a:pt x="5" y="70"/>
                  </a:lnTo>
                  <a:lnTo>
                    <a:pt x="5" y="53"/>
                  </a:lnTo>
                  <a:lnTo>
                    <a:pt x="0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22720" y="1438200"/>
              <a:ext cx="338040" cy="125640"/>
            </a:xfrm>
            <a:custGeom>
              <a:avLst/>
              <a:gdLst/>
              <a:ahLst/>
              <a:rect l="l" t="t" r="r" b="b"/>
              <a:pathLst>
                <a:path w="640" h="313">
                  <a:moveTo>
                    <a:pt x="0" y="41"/>
                  </a:moveTo>
                  <a:lnTo>
                    <a:pt x="5" y="41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44" y="6"/>
                  </a:lnTo>
                  <a:lnTo>
                    <a:pt x="44" y="11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82" y="18"/>
                  </a:lnTo>
                  <a:lnTo>
                    <a:pt x="82" y="23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11" y="28"/>
                  </a:lnTo>
                  <a:lnTo>
                    <a:pt x="111" y="36"/>
                  </a:lnTo>
                  <a:lnTo>
                    <a:pt x="126" y="36"/>
                  </a:lnTo>
                  <a:lnTo>
                    <a:pt x="126" y="41"/>
                  </a:lnTo>
                  <a:lnTo>
                    <a:pt x="145" y="41"/>
                  </a:lnTo>
                  <a:lnTo>
                    <a:pt x="145" y="47"/>
                  </a:lnTo>
                  <a:lnTo>
                    <a:pt x="154" y="47"/>
                  </a:lnTo>
                  <a:lnTo>
                    <a:pt x="154" y="53"/>
                  </a:lnTo>
                  <a:lnTo>
                    <a:pt x="163" y="53"/>
                  </a:lnTo>
                  <a:lnTo>
                    <a:pt x="163" y="60"/>
                  </a:lnTo>
                  <a:lnTo>
                    <a:pt x="179" y="60"/>
                  </a:lnTo>
                  <a:lnTo>
                    <a:pt x="179" y="65"/>
                  </a:lnTo>
                  <a:lnTo>
                    <a:pt x="203" y="65"/>
                  </a:lnTo>
                  <a:lnTo>
                    <a:pt x="203" y="71"/>
                  </a:lnTo>
                  <a:lnTo>
                    <a:pt x="222" y="71"/>
                  </a:lnTo>
                  <a:lnTo>
                    <a:pt x="222" y="77"/>
                  </a:lnTo>
                  <a:lnTo>
                    <a:pt x="231" y="77"/>
                  </a:lnTo>
                  <a:lnTo>
                    <a:pt x="231" y="82"/>
                  </a:lnTo>
                  <a:lnTo>
                    <a:pt x="256" y="82"/>
                  </a:lnTo>
                  <a:lnTo>
                    <a:pt x="256" y="88"/>
                  </a:lnTo>
                  <a:lnTo>
                    <a:pt x="270" y="88"/>
                  </a:lnTo>
                  <a:lnTo>
                    <a:pt x="270" y="95"/>
                  </a:lnTo>
                  <a:lnTo>
                    <a:pt x="284" y="95"/>
                  </a:lnTo>
                  <a:lnTo>
                    <a:pt x="284" y="100"/>
                  </a:lnTo>
                  <a:lnTo>
                    <a:pt x="318" y="100"/>
                  </a:lnTo>
                  <a:lnTo>
                    <a:pt x="318" y="106"/>
                  </a:lnTo>
                  <a:lnTo>
                    <a:pt x="327" y="106"/>
                  </a:lnTo>
                  <a:lnTo>
                    <a:pt x="327" y="112"/>
                  </a:lnTo>
                  <a:lnTo>
                    <a:pt x="351" y="112"/>
                  </a:lnTo>
                  <a:lnTo>
                    <a:pt x="351" y="118"/>
                  </a:lnTo>
                  <a:lnTo>
                    <a:pt x="370" y="118"/>
                  </a:lnTo>
                  <a:lnTo>
                    <a:pt x="370" y="123"/>
                  </a:lnTo>
                  <a:lnTo>
                    <a:pt x="384" y="123"/>
                  </a:lnTo>
                  <a:lnTo>
                    <a:pt x="384" y="130"/>
                  </a:lnTo>
                  <a:lnTo>
                    <a:pt x="395" y="130"/>
                  </a:lnTo>
                  <a:lnTo>
                    <a:pt x="395" y="136"/>
                  </a:lnTo>
                  <a:lnTo>
                    <a:pt x="404" y="136"/>
                  </a:lnTo>
                  <a:lnTo>
                    <a:pt x="404" y="141"/>
                  </a:lnTo>
                  <a:lnTo>
                    <a:pt x="423" y="141"/>
                  </a:lnTo>
                  <a:lnTo>
                    <a:pt x="423" y="147"/>
                  </a:lnTo>
                  <a:lnTo>
                    <a:pt x="437" y="147"/>
                  </a:lnTo>
                  <a:lnTo>
                    <a:pt x="437" y="153"/>
                  </a:lnTo>
                  <a:lnTo>
                    <a:pt x="451" y="153"/>
                  </a:lnTo>
                  <a:lnTo>
                    <a:pt x="451" y="159"/>
                  </a:lnTo>
                  <a:lnTo>
                    <a:pt x="457" y="159"/>
                  </a:lnTo>
                  <a:lnTo>
                    <a:pt x="457" y="164"/>
                  </a:lnTo>
                  <a:lnTo>
                    <a:pt x="471" y="164"/>
                  </a:lnTo>
                  <a:lnTo>
                    <a:pt x="471" y="172"/>
                  </a:lnTo>
                  <a:lnTo>
                    <a:pt x="486" y="172"/>
                  </a:lnTo>
                  <a:lnTo>
                    <a:pt x="486" y="177"/>
                  </a:lnTo>
                  <a:lnTo>
                    <a:pt x="505" y="177"/>
                  </a:lnTo>
                  <a:lnTo>
                    <a:pt x="505" y="183"/>
                  </a:lnTo>
                  <a:lnTo>
                    <a:pt x="524" y="183"/>
                  </a:lnTo>
                  <a:lnTo>
                    <a:pt x="524" y="188"/>
                  </a:lnTo>
                  <a:lnTo>
                    <a:pt x="539" y="188"/>
                  </a:lnTo>
                  <a:lnTo>
                    <a:pt x="539" y="194"/>
                  </a:lnTo>
                  <a:lnTo>
                    <a:pt x="553" y="194"/>
                  </a:lnTo>
                  <a:lnTo>
                    <a:pt x="553" y="201"/>
                  </a:lnTo>
                  <a:lnTo>
                    <a:pt x="567" y="201"/>
                  </a:lnTo>
                  <a:lnTo>
                    <a:pt x="567" y="206"/>
                  </a:lnTo>
                  <a:lnTo>
                    <a:pt x="581" y="206"/>
                  </a:lnTo>
                  <a:lnTo>
                    <a:pt x="581" y="213"/>
                  </a:lnTo>
                  <a:lnTo>
                    <a:pt x="587" y="213"/>
                  </a:lnTo>
                  <a:lnTo>
                    <a:pt x="587" y="218"/>
                  </a:lnTo>
                  <a:lnTo>
                    <a:pt x="611" y="218"/>
                  </a:lnTo>
                  <a:lnTo>
                    <a:pt x="611" y="224"/>
                  </a:lnTo>
                  <a:lnTo>
                    <a:pt x="625" y="224"/>
                  </a:lnTo>
                  <a:lnTo>
                    <a:pt x="625" y="231"/>
                  </a:lnTo>
                  <a:lnTo>
                    <a:pt x="635" y="231"/>
                  </a:lnTo>
                  <a:lnTo>
                    <a:pt x="635" y="237"/>
                  </a:lnTo>
                  <a:lnTo>
                    <a:pt x="640" y="237"/>
                  </a:lnTo>
                  <a:lnTo>
                    <a:pt x="640" y="254"/>
                  </a:lnTo>
                  <a:lnTo>
                    <a:pt x="635" y="254"/>
                  </a:lnTo>
                  <a:lnTo>
                    <a:pt x="635" y="266"/>
                  </a:lnTo>
                  <a:lnTo>
                    <a:pt x="630" y="266"/>
                  </a:lnTo>
                  <a:lnTo>
                    <a:pt x="630" y="290"/>
                  </a:lnTo>
                  <a:lnTo>
                    <a:pt x="625" y="290"/>
                  </a:lnTo>
                  <a:lnTo>
                    <a:pt x="625" y="307"/>
                  </a:lnTo>
                  <a:lnTo>
                    <a:pt x="621" y="307"/>
                  </a:lnTo>
                  <a:lnTo>
                    <a:pt x="621" y="313"/>
                  </a:lnTo>
                  <a:lnTo>
                    <a:pt x="611" y="313"/>
                  </a:lnTo>
                  <a:lnTo>
                    <a:pt x="611" y="307"/>
                  </a:lnTo>
                  <a:lnTo>
                    <a:pt x="587" y="307"/>
                  </a:lnTo>
                  <a:lnTo>
                    <a:pt x="587" y="300"/>
                  </a:lnTo>
                  <a:lnTo>
                    <a:pt x="577" y="300"/>
                  </a:lnTo>
                  <a:lnTo>
                    <a:pt x="577" y="295"/>
                  </a:lnTo>
                  <a:lnTo>
                    <a:pt x="563" y="295"/>
                  </a:lnTo>
                  <a:lnTo>
                    <a:pt x="563" y="290"/>
                  </a:lnTo>
                  <a:lnTo>
                    <a:pt x="544" y="290"/>
                  </a:lnTo>
                  <a:lnTo>
                    <a:pt x="544" y="283"/>
                  </a:lnTo>
                  <a:lnTo>
                    <a:pt x="529" y="283"/>
                  </a:lnTo>
                  <a:lnTo>
                    <a:pt x="529" y="278"/>
                  </a:lnTo>
                  <a:lnTo>
                    <a:pt x="519" y="278"/>
                  </a:lnTo>
                  <a:lnTo>
                    <a:pt x="519" y="272"/>
                  </a:lnTo>
                  <a:lnTo>
                    <a:pt x="500" y="272"/>
                  </a:lnTo>
                  <a:lnTo>
                    <a:pt x="500" y="266"/>
                  </a:lnTo>
                  <a:lnTo>
                    <a:pt x="491" y="266"/>
                  </a:lnTo>
                  <a:lnTo>
                    <a:pt x="491" y="259"/>
                  </a:lnTo>
                  <a:lnTo>
                    <a:pt x="477" y="259"/>
                  </a:lnTo>
                  <a:lnTo>
                    <a:pt x="477" y="254"/>
                  </a:lnTo>
                  <a:lnTo>
                    <a:pt x="467" y="254"/>
                  </a:lnTo>
                  <a:lnTo>
                    <a:pt x="467" y="248"/>
                  </a:lnTo>
                  <a:lnTo>
                    <a:pt x="443" y="248"/>
                  </a:lnTo>
                  <a:lnTo>
                    <a:pt x="443" y="242"/>
                  </a:lnTo>
                  <a:lnTo>
                    <a:pt x="437" y="242"/>
                  </a:lnTo>
                  <a:lnTo>
                    <a:pt x="437" y="237"/>
                  </a:lnTo>
                  <a:lnTo>
                    <a:pt x="423" y="237"/>
                  </a:lnTo>
                  <a:lnTo>
                    <a:pt x="423" y="231"/>
                  </a:lnTo>
                  <a:lnTo>
                    <a:pt x="409" y="231"/>
                  </a:lnTo>
                  <a:lnTo>
                    <a:pt x="409" y="224"/>
                  </a:lnTo>
                  <a:lnTo>
                    <a:pt x="395" y="224"/>
                  </a:lnTo>
                  <a:lnTo>
                    <a:pt x="395" y="218"/>
                  </a:lnTo>
                  <a:lnTo>
                    <a:pt x="390" y="218"/>
                  </a:lnTo>
                  <a:lnTo>
                    <a:pt x="390" y="213"/>
                  </a:lnTo>
                  <a:lnTo>
                    <a:pt x="380" y="213"/>
                  </a:lnTo>
                  <a:lnTo>
                    <a:pt x="380" y="206"/>
                  </a:lnTo>
                  <a:lnTo>
                    <a:pt x="370" y="206"/>
                  </a:lnTo>
                  <a:lnTo>
                    <a:pt x="370" y="201"/>
                  </a:lnTo>
                  <a:lnTo>
                    <a:pt x="356" y="201"/>
                  </a:lnTo>
                  <a:lnTo>
                    <a:pt x="356" y="194"/>
                  </a:lnTo>
                  <a:lnTo>
                    <a:pt x="337" y="194"/>
                  </a:lnTo>
                  <a:lnTo>
                    <a:pt x="337" y="188"/>
                  </a:lnTo>
                  <a:lnTo>
                    <a:pt x="327" y="188"/>
                  </a:lnTo>
                  <a:lnTo>
                    <a:pt x="327" y="183"/>
                  </a:lnTo>
                  <a:lnTo>
                    <a:pt x="313" y="183"/>
                  </a:lnTo>
                  <a:lnTo>
                    <a:pt x="313" y="177"/>
                  </a:lnTo>
                  <a:lnTo>
                    <a:pt x="299" y="177"/>
                  </a:lnTo>
                  <a:lnTo>
                    <a:pt x="299" y="172"/>
                  </a:lnTo>
                  <a:lnTo>
                    <a:pt x="284" y="172"/>
                  </a:lnTo>
                  <a:lnTo>
                    <a:pt x="284" y="164"/>
                  </a:lnTo>
                  <a:lnTo>
                    <a:pt x="274" y="164"/>
                  </a:lnTo>
                  <a:lnTo>
                    <a:pt x="274" y="159"/>
                  </a:lnTo>
                  <a:lnTo>
                    <a:pt x="260" y="159"/>
                  </a:lnTo>
                  <a:lnTo>
                    <a:pt x="260" y="153"/>
                  </a:lnTo>
                  <a:lnTo>
                    <a:pt x="251" y="153"/>
                  </a:lnTo>
                  <a:lnTo>
                    <a:pt x="251" y="147"/>
                  </a:lnTo>
                  <a:lnTo>
                    <a:pt x="236" y="147"/>
                  </a:lnTo>
                  <a:lnTo>
                    <a:pt x="236" y="141"/>
                  </a:lnTo>
                  <a:lnTo>
                    <a:pt x="222" y="141"/>
                  </a:lnTo>
                  <a:lnTo>
                    <a:pt x="222" y="136"/>
                  </a:lnTo>
                  <a:lnTo>
                    <a:pt x="207" y="136"/>
                  </a:lnTo>
                  <a:lnTo>
                    <a:pt x="207" y="130"/>
                  </a:lnTo>
                  <a:lnTo>
                    <a:pt x="193" y="130"/>
                  </a:lnTo>
                  <a:lnTo>
                    <a:pt x="193" y="123"/>
                  </a:lnTo>
                  <a:lnTo>
                    <a:pt x="179" y="123"/>
                  </a:lnTo>
                  <a:lnTo>
                    <a:pt x="179" y="118"/>
                  </a:lnTo>
                  <a:lnTo>
                    <a:pt x="159" y="118"/>
                  </a:lnTo>
                  <a:lnTo>
                    <a:pt x="159" y="112"/>
                  </a:lnTo>
                  <a:lnTo>
                    <a:pt x="149" y="112"/>
                  </a:lnTo>
                  <a:lnTo>
                    <a:pt x="149" y="106"/>
                  </a:lnTo>
                  <a:lnTo>
                    <a:pt x="135" y="106"/>
                  </a:lnTo>
                  <a:lnTo>
                    <a:pt x="135" y="100"/>
                  </a:lnTo>
                  <a:lnTo>
                    <a:pt x="121" y="100"/>
                  </a:lnTo>
                  <a:lnTo>
                    <a:pt x="121" y="95"/>
                  </a:lnTo>
                  <a:lnTo>
                    <a:pt x="102" y="95"/>
                  </a:lnTo>
                  <a:lnTo>
                    <a:pt x="102" y="88"/>
                  </a:lnTo>
                  <a:lnTo>
                    <a:pt x="86" y="88"/>
                  </a:lnTo>
                  <a:lnTo>
                    <a:pt x="86" y="82"/>
                  </a:lnTo>
                  <a:lnTo>
                    <a:pt x="77" y="82"/>
                  </a:lnTo>
                  <a:lnTo>
                    <a:pt x="77" y="77"/>
                  </a:lnTo>
                  <a:lnTo>
                    <a:pt x="59" y="77"/>
                  </a:lnTo>
                  <a:lnTo>
                    <a:pt x="59" y="71"/>
                  </a:lnTo>
                  <a:lnTo>
                    <a:pt x="44" y="71"/>
                  </a:lnTo>
                  <a:lnTo>
                    <a:pt x="44" y="65"/>
                  </a:lnTo>
                  <a:lnTo>
                    <a:pt x="30" y="65"/>
                  </a:lnTo>
                  <a:lnTo>
                    <a:pt x="30" y="60"/>
                  </a:lnTo>
                  <a:lnTo>
                    <a:pt x="10" y="60"/>
                  </a:lnTo>
                  <a:lnTo>
                    <a:pt x="10" y="53"/>
                  </a:lnTo>
                  <a:lnTo>
                    <a:pt x="5" y="53"/>
                  </a:lnTo>
                  <a:lnTo>
                    <a:pt x="5" y="4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81400" y="1487520"/>
              <a:ext cx="95040" cy="61920"/>
            </a:xfrm>
            <a:custGeom>
              <a:avLst/>
              <a:gdLst/>
              <a:ahLst/>
              <a:rect l="l" t="t" r="r" b="b"/>
              <a:pathLst>
                <a:path w="182" h="155">
                  <a:moveTo>
                    <a:pt x="0" y="49"/>
                  </a:moveTo>
                  <a:lnTo>
                    <a:pt x="5" y="49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0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48" y="7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86" y="24"/>
                  </a:lnTo>
                  <a:lnTo>
                    <a:pt x="86" y="30"/>
                  </a:lnTo>
                  <a:lnTo>
                    <a:pt x="111" y="30"/>
                  </a:lnTo>
                  <a:lnTo>
                    <a:pt x="111" y="36"/>
                  </a:lnTo>
                  <a:lnTo>
                    <a:pt x="125" y="36"/>
                  </a:lnTo>
                  <a:lnTo>
                    <a:pt x="125" y="41"/>
                  </a:lnTo>
                  <a:lnTo>
                    <a:pt x="135" y="41"/>
                  </a:lnTo>
                  <a:lnTo>
                    <a:pt x="135" y="49"/>
                  </a:lnTo>
                  <a:lnTo>
                    <a:pt x="149" y="49"/>
                  </a:lnTo>
                  <a:lnTo>
                    <a:pt x="149" y="54"/>
                  </a:lnTo>
                  <a:lnTo>
                    <a:pt x="159" y="54"/>
                  </a:lnTo>
                  <a:lnTo>
                    <a:pt x="159" y="60"/>
                  </a:lnTo>
                  <a:lnTo>
                    <a:pt x="168" y="60"/>
                  </a:lnTo>
                  <a:lnTo>
                    <a:pt x="168" y="65"/>
                  </a:lnTo>
                  <a:lnTo>
                    <a:pt x="178" y="65"/>
                  </a:lnTo>
                  <a:lnTo>
                    <a:pt x="178" y="78"/>
                  </a:lnTo>
                  <a:lnTo>
                    <a:pt x="182" y="78"/>
                  </a:lnTo>
                  <a:lnTo>
                    <a:pt x="182" y="95"/>
                  </a:lnTo>
                  <a:lnTo>
                    <a:pt x="178" y="95"/>
                  </a:lnTo>
                  <a:lnTo>
                    <a:pt x="178" y="101"/>
                  </a:lnTo>
                  <a:lnTo>
                    <a:pt x="173" y="101"/>
                  </a:lnTo>
                  <a:lnTo>
                    <a:pt x="173" y="119"/>
                  </a:lnTo>
                  <a:lnTo>
                    <a:pt x="168" y="119"/>
                  </a:lnTo>
                  <a:lnTo>
                    <a:pt x="168" y="136"/>
                  </a:lnTo>
                  <a:lnTo>
                    <a:pt x="163" y="136"/>
                  </a:lnTo>
                  <a:lnTo>
                    <a:pt x="163" y="155"/>
                  </a:lnTo>
                  <a:lnTo>
                    <a:pt x="149" y="155"/>
                  </a:lnTo>
                  <a:lnTo>
                    <a:pt x="149" y="149"/>
                  </a:lnTo>
                  <a:lnTo>
                    <a:pt x="135" y="149"/>
                  </a:lnTo>
                  <a:lnTo>
                    <a:pt x="135" y="143"/>
                  </a:lnTo>
                  <a:lnTo>
                    <a:pt x="106" y="143"/>
                  </a:lnTo>
                  <a:lnTo>
                    <a:pt x="106" y="136"/>
                  </a:lnTo>
                  <a:lnTo>
                    <a:pt x="92" y="136"/>
                  </a:lnTo>
                  <a:lnTo>
                    <a:pt x="92" y="131"/>
                  </a:lnTo>
                  <a:lnTo>
                    <a:pt x="78" y="131"/>
                  </a:lnTo>
                  <a:lnTo>
                    <a:pt x="78" y="125"/>
                  </a:lnTo>
                  <a:lnTo>
                    <a:pt x="57" y="125"/>
                  </a:lnTo>
                  <a:lnTo>
                    <a:pt x="57" y="119"/>
                  </a:lnTo>
                  <a:lnTo>
                    <a:pt x="52" y="119"/>
                  </a:lnTo>
                  <a:lnTo>
                    <a:pt x="52" y="114"/>
                  </a:lnTo>
                  <a:lnTo>
                    <a:pt x="43" y="114"/>
                  </a:lnTo>
                  <a:lnTo>
                    <a:pt x="43" y="119"/>
                  </a:lnTo>
                  <a:lnTo>
                    <a:pt x="34" y="119"/>
                  </a:lnTo>
                  <a:lnTo>
                    <a:pt x="34" y="114"/>
                  </a:lnTo>
                  <a:lnTo>
                    <a:pt x="29" y="114"/>
                  </a:lnTo>
                  <a:lnTo>
                    <a:pt x="29" y="108"/>
                  </a:lnTo>
                  <a:lnTo>
                    <a:pt x="24" y="108"/>
                  </a:lnTo>
                  <a:lnTo>
                    <a:pt x="24" y="101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5" y="90"/>
                  </a:lnTo>
                  <a:lnTo>
                    <a:pt x="5" y="90"/>
                  </a:lnTo>
                  <a:lnTo>
                    <a:pt x="5" y="83"/>
                  </a:lnTo>
                  <a:lnTo>
                    <a:pt x="0" y="8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11640" y="1546200"/>
              <a:ext cx="114120" cy="61920"/>
            </a:xfrm>
            <a:custGeom>
              <a:avLst/>
              <a:gdLst/>
              <a:ahLst/>
              <a:rect l="l" t="t" r="r" b="b"/>
              <a:pathLst>
                <a:path w="216" h="153">
                  <a:moveTo>
                    <a:pt x="0" y="0"/>
                  </a:moveTo>
                  <a:lnTo>
                    <a:pt x="21" y="0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39" y="11"/>
                  </a:lnTo>
                  <a:lnTo>
                    <a:pt x="63" y="11"/>
                  </a:lnTo>
                  <a:lnTo>
                    <a:pt x="63" y="18"/>
                  </a:lnTo>
                  <a:lnTo>
                    <a:pt x="83" y="18"/>
                  </a:lnTo>
                  <a:lnTo>
                    <a:pt x="83" y="23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25" y="28"/>
                  </a:lnTo>
                  <a:lnTo>
                    <a:pt x="125" y="35"/>
                  </a:lnTo>
                  <a:lnTo>
                    <a:pt x="135" y="35"/>
                  </a:lnTo>
                  <a:lnTo>
                    <a:pt x="135" y="41"/>
                  </a:lnTo>
                  <a:lnTo>
                    <a:pt x="159" y="41"/>
                  </a:lnTo>
                  <a:lnTo>
                    <a:pt x="159" y="47"/>
                  </a:lnTo>
                  <a:lnTo>
                    <a:pt x="169" y="47"/>
                  </a:lnTo>
                  <a:lnTo>
                    <a:pt x="169" y="52"/>
                  </a:lnTo>
                  <a:lnTo>
                    <a:pt x="188" y="52"/>
                  </a:lnTo>
                  <a:lnTo>
                    <a:pt x="188" y="60"/>
                  </a:lnTo>
                  <a:lnTo>
                    <a:pt x="202" y="60"/>
                  </a:lnTo>
                  <a:lnTo>
                    <a:pt x="202" y="65"/>
                  </a:lnTo>
                  <a:lnTo>
                    <a:pt x="212" y="65"/>
                  </a:lnTo>
                  <a:lnTo>
                    <a:pt x="212" y="71"/>
                  </a:lnTo>
                  <a:lnTo>
                    <a:pt x="216" y="71"/>
                  </a:lnTo>
                  <a:lnTo>
                    <a:pt x="216" y="88"/>
                  </a:lnTo>
                  <a:lnTo>
                    <a:pt x="212" y="88"/>
                  </a:lnTo>
                  <a:lnTo>
                    <a:pt x="212" y="106"/>
                  </a:lnTo>
                  <a:lnTo>
                    <a:pt x="206" y="106"/>
                  </a:lnTo>
                  <a:lnTo>
                    <a:pt x="206" y="123"/>
                  </a:lnTo>
                  <a:lnTo>
                    <a:pt x="202" y="123"/>
                  </a:lnTo>
                  <a:lnTo>
                    <a:pt x="202" y="130"/>
                  </a:lnTo>
                  <a:lnTo>
                    <a:pt x="198" y="130"/>
                  </a:lnTo>
                  <a:lnTo>
                    <a:pt x="198" y="142"/>
                  </a:lnTo>
                  <a:lnTo>
                    <a:pt x="193" y="142"/>
                  </a:lnTo>
                  <a:lnTo>
                    <a:pt x="193" y="147"/>
                  </a:lnTo>
                  <a:lnTo>
                    <a:pt x="188" y="147"/>
                  </a:lnTo>
                  <a:lnTo>
                    <a:pt x="188" y="153"/>
                  </a:lnTo>
                  <a:lnTo>
                    <a:pt x="179" y="153"/>
                  </a:lnTo>
                  <a:lnTo>
                    <a:pt x="179" y="147"/>
                  </a:lnTo>
                  <a:lnTo>
                    <a:pt x="159" y="147"/>
                  </a:lnTo>
                  <a:lnTo>
                    <a:pt x="159" y="142"/>
                  </a:lnTo>
                  <a:lnTo>
                    <a:pt x="139" y="142"/>
                  </a:lnTo>
                  <a:lnTo>
                    <a:pt x="139" y="136"/>
                  </a:lnTo>
                  <a:lnTo>
                    <a:pt x="125" y="136"/>
                  </a:lnTo>
                  <a:lnTo>
                    <a:pt x="125" y="130"/>
                  </a:lnTo>
                  <a:lnTo>
                    <a:pt x="116" y="130"/>
                  </a:lnTo>
                  <a:lnTo>
                    <a:pt x="116" y="123"/>
                  </a:lnTo>
                  <a:lnTo>
                    <a:pt x="106" y="123"/>
                  </a:lnTo>
                  <a:lnTo>
                    <a:pt x="106" y="118"/>
                  </a:lnTo>
                  <a:lnTo>
                    <a:pt x="92" y="118"/>
                  </a:lnTo>
                  <a:lnTo>
                    <a:pt x="92" y="112"/>
                  </a:lnTo>
                  <a:lnTo>
                    <a:pt x="72" y="112"/>
                  </a:lnTo>
                  <a:lnTo>
                    <a:pt x="72" y="106"/>
                  </a:lnTo>
                  <a:lnTo>
                    <a:pt x="63" y="106"/>
                  </a:lnTo>
                  <a:lnTo>
                    <a:pt x="63" y="101"/>
                  </a:lnTo>
                  <a:lnTo>
                    <a:pt x="54" y="101"/>
                  </a:lnTo>
                  <a:lnTo>
                    <a:pt x="54" y="93"/>
                  </a:lnTo>
                  <a:lnTo>
                    <a:pt x="49" y="93"/>
                  </a:lnTo>
                  <a:lnTo>
                    <a:pt x="49" y="88"/>
                  </a:lnTo>
                  <a:lnTo>
                    <a:pt x="44" y="88"/>
                  </a:lnTo>
                  <a:lnTo>
                    <a:pt x="44" y="71"/>
                  </a:lnTo>
                  <a:lnTo>
                    <a:pt x="39" y="71"/>
                  </a:lnTo>
                  <a:lnTo>
                    <a:pt x="39" y="60"/>
                  </a:lnTo>
                  <a:lnTo>
                    <a:pt x="35" y="60"/>
                  </a:lnTo>
                  <a:lnTo>
                    <a:pt x="35" y="47"/>
                  </a:lnTo>
                  <a:lnTo>
                    <a:pt x="25" y="47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1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11" y="18"/>
                  </a:lnTo>
                  <a:lnTo>
                    <a:pt x="6" y="18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33600" y="1598760"/>
              <a:ext cx="57240" cy="5400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82"/>
                  </a:moveTo>
                  <a:lnTo>
                    <a:pt x="5" y="82"/>
                  </a:lnTo>
                  <a:lnTo>
                    <a:pt x="5" y="41"/>
                  </a:lnTo>
                  <a:lnTo>
                    <a:pt x="10" y="41"/>
                  </a:lnTo>
                  <a:lnTo>
                    <a:pt x="10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2" y="17"/>
                  </a:lnTo>
                  <a:lnTo>
                    <a:pt x="87" y="17"/>
                  </a:lnTo>
                  <a:lnTo>
                    <a:pt x="87" y="23"/>
                  </a:lnTo>
                  <a:lnTo>
                    <a:pt x="101" y="23"/>
                  </a:lnTo>
                  <a:lnTo>
                    <a:pt x="101" y="29"/>
                  </a:lnTo>
                  <a:lnTo>
                    <a:pt x="106" y="29"/>
                  </a:lnTo>
                  <a:lnTo>
                    <a:pt x="106" y="36"/>
                  </a:lnTo>
                  <a:lnTo>
                    <a:pt x="101" y="36"/>
                  </a:lnTo>
                  <a:lnTo>
                    <a:pt x="101" y="47"/>
                  </a:lnTo>
                  <a:lnTo>
                    <a:pt x="91" y="47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7" y="77"/>
                  </a:lnTo>
                  <a:lnTo>
                    <a:pt x="81" y="77"/>
                  </a:lnTo>
                  <a:lnTo>
                    <a:pt x="81" y="107"/>
                  </a:lnTo>
                  <a:lnTo>
                    <a:pt x="77" y="107"/>
                  </a:lnTo>
                  <a:lnTo>
                    <a:pt x="77" y="117"/>
                  </a:lnTo>
                  <a:lnTo>
                    <a:pt x="72" y="117"/>
                  </a:lnTo>
                  <a:lnTo>
                    <a:pt x="72" y="136"/>
                  </a:lnTo>
                  <a:lnTo>
                    <a:pt x="53" y="136"/>
                  </a:lnTo>
                  <a:lnTo>
                    <a:pt x="53" y="129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28" y="124"/>
                  </a:lnTo>
                  <a:lnTo>
                    <a:pt x="28" y="117"/>
                  </a:lnTo>
                  <a:lnTo>
                    <a:pt x="10" y="117"/>
                  </a:lnTo>
                  <a:lnTo>
                    <a:pt x="10" y="112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0" y="10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7720" y="3517920"/>
              <a:ext cx="863280" cy="831960"/>
            </a:xfrm>
            <a:custGeom>
              <a:avLst/>
              <a:gdLst/>
              <a:ahLst/>
              <a:rect l="l" t="t" r="r" b="b"/>
              <a:pathLst>
                <a:path w="1632" h="2098">
                  <a:moveTo>
                    <a:pt x="0" y="655"/>
                  </a:moveTo>
                  <a:lnTo>
                    <a:pt x="9" y="655"/>
                  </a:lnTo>
                  <a:lnTo>
                    <a:pt x="9" y="650"/>
                  </a:lnTo>
                  <a:lnTo>
                    <a:pt x="14" y="650"/>
                  </a:lnTo>
                  <a:lnTo>
                    <a:pt x="14" y="644"/>
                  </a:lnTo>
                  <a:lnTo>
                    <a:pt x="18" y="644"/>
                  </a:lnTo>
                  <a:lnTo>
                    <a:pt x="18" y="638"/>
                  </a:lnTo>
                  <a:lnTo>
                    <a:pt x="28" y="638"/>
                  </a:lnTo>
                  <a:lnTo>
                    <a:pt x="28" y="633"/>
                  </a:lnTo>
                  <a:lnTo>
                    <a:pt x="33" y="633"/>
                  </a:lnTo>
                  <a:lnTo>
                    <a:pt x="33" y="626"/>
                  </a:lnTo>
                  <a:lnTo>
                    <a:pt x="43" y="626"/>
                  </a:lnTo>
                  <a:lnTo>
                    <a:pt x="43" y="620"/>
                  </a:lnTo>
                  <a:lnTo>
                    <a:pt x="51" y="620"/>
                  </a:lnTo>
                  <a:lnTo>
                    <a:pt x="51" y="614"/>
                  </a:lnTo>
                  <a:lnTo>
                    <a:pt x="57" y="614"/>
                  </a:lnTo>
                  <a:lnTo>
                    <a:pt x="57" y="609"/>
                  </a:lnTo>
                  <a:lnTo>
                    <a:pt x="62" y="609"/>
                  </a:lnTo>
                  <a:lnTo>
                    <a:pt x="62" y="601"/>
                  </a:lnTo>
                  <a:lnTo>
                    <a:pt x="71" y="601"/>
                  </a:lnTo>
                  <a:lnTo>
                    <a:pt x="71" y="596"/>
                  </a:lnTo>
                  <a:lnTo>
                    <a:pt x="85" y="596"/>
                  </a:lnTo>
                  <a:lnTo>
                    <a:pt x="85" y="591"/>
                  </a:lnTo>
                  <a:lnTo>
                    <a:pt x="91" y="591"/>
                  </a:lnTo>
                  <a:lnTo>
                    <a:pt x="91" y="584"/>
                  </a:lnTo>
                  <a:lnTo>
                    <a:pt x="100" y="584"/>
                  </a:lnTo>
                  <a:lnTo>
                    <a:pt x="100" y="579"/>
                  </a:lnTo>
                  <a:lnTo>
                    <a:pt x="110" y="579"/>
                  </a:lnTo>
                  <a:lnTo>
                    <a:pt x="110" y="573"/>
                  </a:lnTo>
                  <a:lnTo>
                    <a:pt x="118" y="573"/>
                  </a:lnTo>
                  <a:lnTo>
                    <a:pt x="118" y="568"/>
                  </a:lnTo>
                  <a:lnTo>
                    <a:pt x="124" y="568"/>
                  </a:lnTo>
                  <a:lnTo>
                    <a:pt x="124" y="555"/>
                  </a:lnTo>
                  <a:lnTo>
                    <a:pt x="128" y="555"/>
                  </a:lnTo>
                  <a:lnTo>
                    <a:pt x="128" y="549"/>
                  </a:lnTo>
                  <a:lnTo>
                    <a:pt x="139" y="549"/>
                  </a:lnTo>
                  <a:lnTo>
                    <a:pt x="139" y="543"/>
                  </a:lnTo>
                  <a:lnTo>
                    <a:pt x="144" y="543"/>
                  </a:lnTo>
                  <a:lnTo>
                    <a:pt x="144" y="538"/>
                  </a:lnTo>
                  <a:lnTo>
                    <a:pt x="148" y="538"/>
                  </a:lnTo>
                  <a:lnTo>
                    <a:pt x="148" y="532"/>
                  </a:lnTo>
                  <a:lnTo>
                    <a:pt x="158" y="532"/>
                  </a:lnTo>
                  <a:lnTo>
                    <a:pt x="158" y="525"/>
                  </a:lnTo>
                  <a:lnTo>
                    <a:pt x="167" y="525"/>
                  </a:lnTo>
                  <a:lnTo>
                    <a:pt x="167" y="519"/>
                  </a:lnTo>
                  <a:lnTo>
                    <a:pt x="172" y="519"/>
                  </a:lnTo>
                  <a:lnTo>
                    <a:pt x="172" y="514"/>
                  </a:lnTo>
                  <a:lnTo>
                    <a:pt x="181" y="514"/>
                  </a:lnTo>
                  <a:lnTo>
                    <a:pt x="181" y="508"/>
                  </a:lnTo>
                  <a:lnTo>
                    <a:pt x="187" y="508"/>
                  </a:lnTo>
                  <a:lnTo>
                    <a:pt x="187" y="502"/>
                  </a:lnTo>
                  <a:lnTo>
                    <a:pt x="191" y="502"/>
                  </a:lnTo>
                  <a:lnTo>
                    <a:pt x="191" y="495"/>
                  </a:lnTo>
                  <a:lnTo>
                    <a:pt x="195" y="495"/>
                  </a:lnTo>
                  <a:lnTo>
                    <a:pt x="195" y="490"/>
                  </a:lnTo>
                  <a:lnTo>
                    <a:pt x="201" y="490"/>
                  </a:lnTo>
                  <a:lnTo>
                    <a:pt x="201" y="484"/>
                  </a:lnTo>
                  <a:lnTo>
                    <a:pt x="206" y="484"/>
                  </a:lnTo>
                  <a:lnTo>
                    <a:pt x="206" y="478"/>
                  </a:lnTo>
                  <a:lnTo>
                    <a:pt x="211" y="478"/>
                  </a:lnTo>
                  <a:lnTo>
                    <a:pt x="211" y="473"/>
                  </a:lnTo>
                  <a:lnTo>
                    <a:pt x="215" y="473"/>
                  </a:lnTo>
                  <a:lnTo>
                    <a:pt x="215" y="465"/>
                  </a:lnTo>
                  <a:lnTo>
                    <a:pt x="225" y="465"/>
                  </a:lnTo>
                  <a:lnTo>
                    <a:pt x="225" y="460"/>
                  </a:lnTo>
                  <a:lnTo>
                    <a:pt x="230" y="460"/>
                  </a:lnTo>
                  <a:lnTo>
                    <a:pt x="230" y="454"/>
                  </a:lnTo>
                  <a:lnTo>
                    <a:pt x="235" y="454"/>
                  </a:lnTo>
                  <a:lnTo>
                    <a:pt x="235" y="449"/>
                  </a:lnTo>
                  <a:lnTo>
                    <a:pt x="244" y="449"/>
                  </a:lnTo>
                  <a:lnTo>
                    <a:pt x="244" y="442"/>
                  </a:lnTo>
                  <a:lnTo>
                    <a:pt x="249" y="442"/>
                  </a:lnTo>
                  <a:lnTo>
                    <a:pt x="249" y="432"/>
                  </a:lnTo>
                  <a:lnTo>
                    <a:pt x="263" y="432"/>
                  </a:lnTo>
                  <a:lnTo>
                    <a:pt x="263" y="424"/>
                  </a:lnTo>
                  <a:lnTo>
                    <a:pt x="268" y="424"/>
                  </a:lnTo>
                  <a:lnTo>
                    <a:pt x="268" y="419"/>
                  </a:lnTo>
                  <a:lnTo>
                    <a:pt x="278" y="419"/>
                  </a:lnTo>
                  <a:lnTo>
                    <a:pt x="278" y="413"/>
                  </a:lnTo>
                  <a:lnTo>
                    <a:pt x="283" y="413"/>
                  </a:lnTo>
                  <a:lnTo>
                    <a:pt x="283" y="407"/>
                  </a:lnTo>
                  <a:lnTo>
                    <a:pt x="292" y="407"/>
                  </a:lnTo>
                  <a:lnTo>
                    <a:pt x="292" y="401"/>
                  </a:lnTo>
                  <a:lnTo>
                    <a:pt x="302" y="401"/>
                  </a:lnTo>
                  <a:lnTo>
                    <a:pt x="302" y="396"/>
                  </a:lnTo>
                  <a:lnTo>
                    <a:pt x="307" y="396"/>
                  </a:lnTo>
                  <a:lnTo>
                    <a:pt x="307" y="389"/>
                  </a:lnTo>
                  <a:lnTo>
                    <a:pt x="317" y="389"/>
                  </a:lnTo>
                  <a:lnTo>
                    <a:pt x="317" y="383"/>
                  </a:lnTo>
                  <a:lnTo>
                    <a:pt x="321" y="383"/>
                  </a:lnTo>
                  <a:lnTo>
                    <a:pt x="321" y="378"/>
                  </a:lnTo>
                  <a:lnTo>
                    <a:pt x="325" y="378"/>
                  </a:lnTo>
                  <a:lnTo>
                    <a:pt x="325" y="372"/>
                  </a:lnTo>
                  <a:lnTo>
                    <a:pt x="335" y="372"/>
                  </a:lnTo>
                  <a:lnTo>
                    <a:pt x="335" y="366"/>
                  </a:lnTo>
                  <a:lnTo>
                    <a:pt x="345" y="366"/>
                  </a:lnTo>
                  <a:lnTo>
                    <a:pt x="345" y="359"/>
                  </a:lnTo>
                  <a:lnTo>
                    <a:pt x="355" y="359"/>
                  </a:lnTo>
                  <a:lnTo>
                    <a:pt x="355" y="354"/>
                  </a:lnTo>
                  <a:lnTo>
                    <a:pt x="359" y="354"/>
                  </a:lnTo>
                  <a:lnTo>
                    <a:pt x="359" y="348"/>
                  </a:lnTo>
                  <a:lnTo>
                    <a:pt x="365" y="348"/>
                  </a:lnTo>
                  <a:lnTo>
                    <a:pt x="365" y="342"/>
                  </a:lnTo>
                  <a:lnTo>
                    <a:pt x="369" y="342"/>
                  </a:lnTo>
                  <a:lnTo>
                    <a:pt x="369" y="337"/>
                  </a:lnTo>
                  <a:lnTo>
                    <a:pt x="384" y="337"/>
                  </a:lnTo>
                  <a:lnTo>
                    <a:pt x="384" y="331"/>
                  </a:lnTo>
                  <a:lnTo>
                    <a:pt x="393" y="331"/>
                  </a:lnTo>
                  <a:lnTo>
                    <a:pt x="393" y="324"/>
                  </a:lnTo>
                  <a:lnTo>
                    <a:pt x="398" y="324"/>
                  </a:lnTo>
                  <a:lnTo>
                    <a:pt x="398" y="318"/>
                  </a:lnTo>
                  <a:lnTo>
                    <a:pt x="407" y="318"/>
                  </a:lnTo>
                  <a:lnTo>
                    <a:pt x="407" y="313"/>
                  </a:lnTo>
                  <a:lnTo>
                    <a:pt x="412" y="313"/>
                  </a:lnTo>
                  <a:lnTo>
                    <a:pt x="412" y="307"/>
                  </a:lnTo>
                  <a:lnTo>
                    <a:pt x="422" y="307"/>
                  </a:lnTo>
                  <a:lnTo>
                    <a:pt x="422" y="301"/>
                  </a:lnTo>
                  <a:lnTo>
                    <a:pt x="432" y="301"/>
                  </a:lnTo>
                  <a:lnTo>
                    <a:pt x="432" y="296"/>
                  </a:lnTo>
                  <a:lnTo>
                    <a:pt x="436" y="296"/>
                  </a:lnTo>
                  <a:lnTo>
                    <a:pt x="436" y="288"/>
                  </a:lnTo>
                  <a:lnTo>
                    <a:pt x="442" y="288"/>
                  </a:lnTo>
                  <a:lnTo>
                    <a:pt x="442" y="283"/>
                  </a:lnTo>
                  <a:lnTo>
                    <a:pt x="451" y="283"/>
                  </a:lnTo>
                  <a:lnTo>
                    <a:pt x="451" y="277"/>
                  </a:lnTo>
                  <a:lnTo>
                    <a:pt x="455" y="277"/>
                  </a:lnTo>
                  <a:lnTo>
                    <a:pt x="455" y="272"/>
                  </a:lnTo>
                  <a:lnTo>
                    <a:pt x="465" y="272"/>
                  </a:lnTo>
                  <a:lnTo>
                    <a:pt x="465" y="266"/>
                  </a:lnTo>
                  <a:lnTo>
                    <a:pt x="475" y="266"/>
                  </a:lnTo>
                  <a:lnTo>
                    <a:pt x="475" y="260"/>
                  </a:lnTo>
                  <a:lnTo>
                    <a:pt x="479" y="260"/>
                  </a:lnTo>
                  <a:lnTo>
                    <a:pt x="479" y="255"/>
                  </a:lnTo>
                  <a:lnTo>
                    <a:pt x="484" y="255"/>
                  </a:lnTo>
                  <a:lnTo>
                    <a:pt x="484" y="247"/>
                  </a:lnTo>
                  <a:lnTo>
                    <a:pt x="489" y="247"/>
                  </a:lnTo>
                  <a:lnTo>
                    <a:pt x="489" y="242"/>
                  </a:lnTo>
                  <a:lnTo>
                    <a:pt x="493" y="242"/>
                  </a:lnTo>
                  <a:lnTo>
                    <a:pt x="493" y="230"/>
                  </a:lnTo>
                  <a:lnTo>
                    <a:pt x="499" y="230"/>
                  </a:lnTo>
                  <a:lnTo>
                    <a:pt x="499" y="225"/>
                  </a:lnTo>
                  <a:lnTo>
                    <a:pt x="509" y="225"/>
                  </a:lnTo>
                  <a:lnTo>
                    <a:pt x="509" y="218"/>
                  </a:lnTo>
                  <a:lnTo>
                    <a:pt x="518" y="218"/>
                  </a:lnTo>
                  <a:lnTo>
                    <a:pt x="518" y="212"/>
                  </a:lnTo>
                  <a:lnTo>
                    <a:pt x="523" y="212"/>
                  </a:lnTo>
                  <a:lnTo>
                    <a:pt x="523" y="206"/>
                  </a:lnTo>
                  <a:lnTo>
                    <a:pt x="532" y="206"/>
                  </a:lnTo>
                  <a:lnTo>
                    <a:pt x="532" y="195"/>
                  </a:lnTo>
                  <a:lnTo>
                    <a:pt x="542" y="195"/>
                  </a:lnTo>
                  <a:lnTo>
                    <a:pt x="542" y="188"/>
                  </a:lnTo>
                  <a:lnTo>
                    <a:pt x="551" y="188"/>
                  </a:lnTo>
                  <a:lnTo>
                    <a:pt x="551" y="177"/>
                  </a:lnTo>
                  <a:lnTo>
                    <a:pt x="561" y="177"/>
                  </a:lnTo>
                  <a:lnTo>
                    <a:pt x="561" y="171"/>
                  </a:lnTo>
                  <a:lnTo>
                    <a:pt x="565" y="171"/>
                  </a:lnTo>
                  <a:lnTo>
                    <a:pt x="565" y="165"/>
                  </a:lnTo>
                  <a:lnTo>
                    <a:pt x="572" y="165"/>
                  </a:lnTo>
                  <a:lnTo>
                    <a:pt x="572" y="160"/>
                  </a:lnTo>
                  <a:lnTo>
                    <a:pt x="576" y="160"/>
                  </a:lnTo>
                  <a:lnTo>
                    <a:pt x="576" y="153"/>
                  </a:lnTo>
                  <a:lnTo>
                    <a:pt x="586" y="153"/>
                  </a:lnTo>
                  <a:lnTo>
                    <a:pt x="586" y="147"/>
                  </a:lnTo>
                  <a:lnTo>
                    <a:pt x="590" y="147"/>
                  </a:lnTo>
                  <a:lnTo>
                    <a:pt x="590" y="141"/>
                  </a:lnTo>
                  <a:lnTo>
                    <a:pt x="595" y="141"/>
                  </a:lnTo>
                  <a:lnTo>
                    <a:pt x="595" y="128"/>
                  </a:lnTo>
                  <a:lnTo>
                    <a:pt x="599" y="128"/>
                  </a:lnTo>
                  <a:lnTo>
                    <a:pt x="599" y="123"/>
                  </a:lnTo>
                  <a:lnTo>
                    <a:pt x="605" y="123"/>
                  </a:lnTo>
                  <a:lnTo>
                    <a:pt x="605" y="118"/>
                  </a:lnTo>
                  <a:lnTo>
                    <a:pt x="614" y="118"/>
                  </a:lnTo>
                  <a:lnTo>
                    <a:pt x="614" y="111"/>
                  </a:lnTo>
                  <a:lnTo>
                    <a:pt x="619" y="111"/>
                  </a:lnTo>
                  <a:lnTo>
                    <a:pt x="619" y="106"/>
                  </a:lnTo>
                  <a:lnTo>
                    <a:pt x="623" y="106"/>
                  </a:lnTo>
                  <a:lnTo>
                    <a:pt x="623" y="100"/>
                  </a:lnTo>
                  <a:lnTo>
                    <a:pt x="628" y="100"/>
                  </a:lnTo>
                  <a:lnTo>
                    <a:pt x="628" y="95"/>
                  </a:lnTo>
                  <a:lnTo>
                    <a:pt x="633" y="95"/>
                  </a:lnTo>
                  <a:lnTo>
                    <a:pt x="633" y="87"/>
                  </a:lnTo>
                  <a:lnTo>
                    <a:pt x="648" y="87"/>
                  </a:lnTo>
                  <a:lnTo>
                    <a:pt x="648" y="82"/>
                  </a:lnTo>
                  <a:lnTo>
                    <a:pt x="653" y="82"/>
                  </a:lnTo>
                  <a:lnTo>
                    <a:pt x="653" y="76"/>
                  </a:lnTo>
                  <a:lnTo>
                    <a:pt x="658" y="76"/>
                  </a:lnTo>
                  <a:lnTo>
                    <a:pt x="658" y="70"/>
                  </a:lnTo>
                  <a:lnTo>
                    <a:pt x="662" y="70"/>
                  </a:lnTo>
                  <a:lnTo>
                    <a:pt x="662" y="65"/>
                  </a:lnTo>
                  <a:lnTo>
                    <a:pt x="672" y="65"/>
                  </a:lnTo>
                  <a:lnTo>
                    <a:pt x="672" y="59"/>
                  </a:lnTo>
                  <a:lnTo>
                    <a:pt x="676" y="59"/>
                  </a:lnTo>
                  <a:lnTo>
                    <a:pt x="676" y="52"/>
                  </a:lnTo>
                  <a:lnTo>
                    <a:pt x="691" y="52"/>
                  </a:lnTo>
                  <a:lnTo>
                    <a:pt x="691" y="46"/>
                  </a:lnTo>
                  <a:lnTo>
                    <a:pt x="695" y="46"/>
                  </a:lnTo>
                  <a:lnTo>
                    <a:pt x="695" y="22"/>
                  </a:lnTo>
                  <a:lnTo>
                    <a:pt x="705" y="22"/>
                  </a:lnTo>
                  <a:lnTo>
                    <a:pt x="705" y="17"/>
                  </a:lnTo>
                  <a:lnTo>
                    <a:pt x="709" y="17"/>
                  </a:lnTo>
                  <a:lnTo>
                    <a:pt x="709" y="5"/>
                  </a:lnTo>
                  <a:lnTo>
                    <a:pt x="725" y="5"/>
                  </a:lnTo>
                  <a:lnTo>
                    <a:pt x="725" y="0"/>
                  </a:lnTo>
                  <a:lnTo>
                    <a:pt x="734" y="0"/>
                  </a:lnTo>
                  <a:lnTo>
                    <a:pt x="734" y="5"/>
                  </a:lnTo>
                  <a:lnTo>
                    <a:pt x="739" y="5"/>
                  </a:lnTo>
                  <a:lnTo>
                    <a:pt x="739" y="11"/>
                  </a:lnTo>
                  <a:lnTo>
                    <a:pt x="743" y="11"/>
                  </a:lnTo>
                  <a:lnTo>
                    <a:pt x="743" y="17"/>
                  </a:lnTo>
                  <a:lnTo>
                    <a:pt x="749" y="17"/>
                  </a:lnTo>
                  <a:lnTo>
                    <a:pt x="749" y="22"/>
                  </a:lnTo>
                  <a:lnTo>
                    <a:pt x="753" y="22"/>
                  </a:lnTo>
                  <a:lnTo>
                    <a:pt x="753" y="29"/>
                  </a:lnTo>
                  <a:lnTo>
                    <a:pt x="757" y="29"/>
                  </a:lnTo>
                  <a:lnTo>
                    <a:pt x="757" y="35"/>
                  </a:lnTo>
                  <a:lnTo>
                    <a:pt x="767" y="35"/>
                  </a:lnTo>
                  <a:lnTo>
                    <a:pt x="767" y="41"/>
                  </a:lnTo>
                  <a:lnTo>
                    <a:pt x="772" y="41"/>
                  </a:lnTo>
                  <a:lnTo>
                    <a:pt x="772" y="59"/>
                  </a:lnTo>
                  <a:lnTo>
                    <a:pt x="777" y="59"/>
                  </a:lnTo>
                  <a:lnTo>
                    <a:pt x="777" y="70"/>
                  </a:lnTo>
                  <a:lnTo>
                    <a:pt x="782" y="70"/>
                  </a:lnTo>
                  <a:lnTo>
                    <a:pt x="782" y="87"/>
                  </a:lnTo>
                  <a:lnTo>
                    <a:pt x="787" y="87"/>
                  </a:lnTo>
                  <a:lnTo>
                    <a:pt x="787" y="100"/>
                  </a:lnTo>
                  <a:lnTo>
                    <a:pt x="792" y="100"/>
                  </a:lnTo>
                  <a:lnTo>
                    <a:pt x="792" y="111"/>
                  </a:lnTo>
                  <a:lnTo>
                    <a:pt x="797" y="111"/>
                  </a:lnTo>
                  <a:lnTo>
                    <a:pt x="797" y="118"/>
                  </a:lnTo>
                  <a:lnTo>
                    <a:pt x="801" y="118"/>
                  </a:lnTo>
                  <a:lnTo>
                    <a:pt x="801" y="123"/>
                  </a:lnTo>
                  <a:lnTo>
                    <a:pt x="806" y="123"/>
                  </a:lnTo>
                  <a:lnTo>
                    <a:pt x="806" y="128"/>
                  </a:lnTo>
                  <a:lnTo>
                    <a:pt x="811" y="128"/>
                  </a:lnTo>
                  <a:lnTo>
                    <a:pt x="811" y="141"/>
                  </a:lnTo>
                  <a:lnTo>
                    <a:pt x="816" y="141"/>
                  </a:lnTo>
                  <a:lnTo>
                    <a:pt x="816" y="147"/>
                  </a:lnTo>
                  <a:lnTo>
                    <a:pt x="820" y="147"/>
                  </a:lnTo>
                  <a:lnTo>
                    <a:pt x="820" y="160"/>
                  </a:lnTo>
                  <a:lnTo>
                    <a:pt x="825" y="160"/>
                  </a:lnTo>
                  <a:lnTo>
                    <a:pt x="825" y="171"/>
                  </a:lnTo>
                  <a:lnTo>
                    <a:pt x="830" y="171"/>
                  </a:lnTo>
                  <a:lnTo>
                    <a:pt x="830" y="177"/>
                  </a:lnTo>
                  <a:lnTo>
                    <a:pt x="834" y="177"/>
                  </a:lnTo>
                  <a:lnTo>
                    <a:pt x="834" y="188"/>
                  </a:lnTo>
                  <a:lnTo>
                    <a:pt x="839" y="188"/>
                  </a:lnTo>
                  <a:lnTo>
                    <a:pt x="839" y="195"/>
                  </a:lnTo>
                  <a:lnTo>
                    <a:pt x="844" y="195"/>
                  </a:lnTo>
                  <a:lnTo>
                    <a:pt x="844" y="206"/>
                  </a:lnTo>
                  <a:lnTo>
                    <a:pt x="849" y="206"/>
                  </a:lnTo>
                  <a:lnTo>
                    <a:pt x="849" y="212"/>
                  </a:lnTo>
                  <a:lnTo>
                    <a:pt x="853" y="212"/>
                  </a:lnTo>
                  <a:lnTo>
                    <a:pt x="853" y="218"/>
                  </a:lnTo>
                  <a:lnTo>
                    <a:pt x="864" y="218"/>
                  </a:lnTo>
                  <a:lnTo>
                    <a:pt x="864" y="225"/>
                  </a:lnTo>
                  <a:lnTo>
                    <a:pt x="869" y="225"/>
                  </a:lnTo>
                  <a:lnTo>
                    <a:pt x="869" y="230"/>
                  </a:lnTo>
                  <a:lnTo>
                    <a:pt x="874" y="230"/>
                  </a:lnTo>
                  <a:lnTo>
                    <a:pt x="874" y="236"/>
                  </a:lnTo>
                  <a:lnTo>
                    <a:pt x="878" y="236"/>
                  </a:lnTo>
                  <a:lnTo>
                    <a:pt x="878" y="247"/>
                  </a:lnTo>
                  <a:lnTo>
                    <a:pt x="883" y="247"/>
                  </a:lnTo>
                  <a:lnTo>
                    <a:pt x="883" y="255"/>
                  </a:lnTo>
                  <a:lnTo>
                    <a:pt x="893" y="255"/>
                  </a:lnTo>
                  <a:lnTo>
                    <a:pt x="893" y="266"/>
                  </a:lnTo>
                  <a:lnTo>
                    <a:pt x="897" y="266"/>
                  </a:lnTo>
                  <a:lnTo>
                    <a:pt x="897" y="272"/>
                  </a:lnTo>
                  <a:lnTo>
                    <a:pt x="902" y="272"/>
                  </a:lnTo>
                  <a:lnTo>
                    <a:pt x="902" y="277"/>
                  </a:lnTo>
                  <a:lnTo>
                    <a:pt x="907" y="277"/>
                  </a:lnTo>
                  <a:lnTo>
                    <a:pt x="907" y="283"/>
                  </a:lnTo>
                  <a:lnTo>
                    <a:pt x="912" y="283"/>
                  </a:lnTo>
                  <a:lnTo>
                    <a:pt x="912" y="288"/>
                  </a:lnTo>
                  <a:lnTo>
                    <a:pt x="916" y="288"/>
                  </a:lnTo>
                  <a:lnTo>
                    <a:pt x="916" y="296"/>
                  </a:lnTo>
                  <a:lnTo>
                    <a:pt x="926" y="296"/>
                  </a:lnTo>
                  <a:lnTo>
                    <a:pt x="926" y="301"/>
                  </a:lnTo>
                  <a:lnTo>
                    <a:pt x="931" y="301"/>
                  </a:lnTo>
                  <a:lnTo>
                    <a:pt x="931" y="313"/>
                  </a:lnTo>
                  <a:lnTo>
                    <a:pt x="936" y="313"/>
                  </a:lnTo>
                  <a:lnTo>
                    <a:pt x="936" y="324"/>
                  </a:lnTo>
                  <a:lnTo>
                    <a:pt x="941" y="324"/>
                  </a:lnTo>
                  <a:lnTo>
                    <a:pt x="941" y="331"/>
                  </a:lnTo>
                  <a:lnTo>
                    <a:pt x="946" y="331"/>
                  </a:lnTo>
                  <a:lnTo>
                    <a:pt x="946" y="337"/>
                  </a:lnTo>
                  <a:lnTo>
                    <a:pt x="950" y="337"/>
                  </a:lnTo>
                  <a:lnTo>
                    <a:pt x="950" y="342"/>
                  </a:lnTo>
                  <a:lnTo>
                    <a:pt x="956" y="342"/>
                  </a:lnTo>
                  <a:lnTo>
                    <a:pt x="956" y="354"/>
                  </a:lnTo>
                  <a:lnTo>
                    <a:pt x="960" y="354"/>
                  </a:lnTo>
                  <a:lnTo>
                    <a:pt x="960" y="359"/>
                  </a:lnTo>
                  <a:lnTo>
                    <a:pt x="964" y="359"/>
                  </a:lnTo>
                  <a:lnTo>
                    <a:pt x="964" y="366"/>
                  </a:lnTo>
                  <a:lnTo>
                    <a:pt x="970" y="366"/>
                  </a:lnTo>
                  <a:lnTo>
                    <a:pt x="970" y="372"/>
                  </a:lnTo>
                  <a:lnTo>
                    <a:pt x="974" y="372"/>
                  </a:lnTo>
                  <a:lnTo>
                    <a:pt x="974" y="378"/>
                  </a:lnTo>
                  <a:lnTo>
                    <a:pt x="979" y="378"/>
                  </a:lnTo>
                  <a:lnTo>
                    <a:pt x="979" y="383"/>
                  </a:lnTo>
                  <a:lnTo>
                    <a:pt x="983" y="383"/>
                  </a:lnTo>
                  <a:lnTo>
                    <a:pt x="983" y="389"/>
                  </a:lnTo>
                  <a:lnTo>
                    <a:pt x="989" y="389"/>
                  </a:lnTo>
                  <a:lnTo>
                    <a:pt x="989" y="396"/>
                  </a:lnTo>
                  <a:lnTo>
                    <a:pt x="993" y="396"/>
                  </a:lnTo>
                  <a:lnTo>
                    <a:pt x="993" y="401"/>
                  </a:lnTo>
                  <a:lnTo>
                    <a:pt x="998" y="401"/>
                  </a:lnTo>
                  <a:lnTo>
                    <a:pt x="998" y="413"/>
                  </a:lnTo>
                  <a:lnTo>
                    <a:pt x="1004" y="413"/>
                  </a:lnTo>
                  <a:lnTo>
                    <a:pt x="1004" y="419"/>
                  </a:lnTo>
                  <a:lnTo>
                    <a:pt x="1008" y="419"/>
                  </a:lnTo>
                  <a:lnTo>
                    <a:pt x="1008" y="432"/>
                  </a:lnTo>
                  <a:lnTo>
                    <a:pt x="1013" y="432"/>
                  </a:lnTo>
                  <a:lnTo>
                    <a:pt x="1013" y="442"/>
                  </a:lnTo>
                  <a:lnTo>
                    <a:pt x="1018" y="442"/>
                  </a:lnTo>
                  <a:lnTo>
                    <a:pt x="1018" y="449"/>
                  </a:lnTo>
                  <a:lnTo>
                    <a:pt x="1023" y="449"/>
                  </a:lnTo>
                  <a:lnTo>
                    <a:pt x="1023" y="454"/>
                  </a:lnTo>
                  <a:lnTo>
                    <a:pt x="1027" y="454"/>
                  </a:lnTo>
                  <a:lnTo>
                    <a:pt x="1027" y="460"/>
                  </a:lnTo>
                  <a:lnTo>
                    <a:pt x="1032" y="460"/>
                  </a:lnTo>
                  <a:lnTo>
                    <a:pt x="1032" y="465"/>
                  </a:lnTo>
                  <a:lnTo>
                    <a:pt x="1037" y="465"/>
                  </a:lnTo>
                  <a:lnTo>
                    <a:pt x="1037" y="473"/>
                  </a:lnTo>
                  <a:lnTo>
                    <a:pt x="1041" y="473"/>
                  </a:lnTo>
                  <a:lnTo>
                    <a:pt x="1041" y="478"/>
                  </a:lnTo>
                  <a:lnTo>
                    <a:pt x="1046" y="478"/>
                  </a:lnTo>
                  <a:lnTo>
                    <a:pt x="1046" y="490"/>
                  </a:lnTo>
                  <a:lnTo>
                    <a:pt x="1051" y="490"/>
                  </a:lnTo>
                  <a:lnTo>
                    <a:pt x="1051" y="495"/>
                  </a:lnTo>
                  <a:lnTo>
                    <a:pt x="1056" y="495"/>
                  </a:lnTo>
                  <a:lnTo>
                    <a:pt x="1056" y="502"/>
                  </a:lnTo>
                  <a:lnTo>
                    <a:pt x="1060" y="502"/>
                  </a:lnTo>
                  <a:lnTo>
                    <a:pt x="1060" y="514"/>
                  </a:lnTo>
                  <a:lnTo>
                    <a:pt x="1065" y="514"/>
                  </a:lnTo>
                  <a:lnTo>
                    <a:pt x="1065" y="519"/>
                  </a:lnTo>
                  <a:lnTo>
                    <a:pt x="1070" y="519"/>
                  </a:lnTo>
                  <a:lnTo>
                    <a:pt x="1070" y="525"/>
                  </a:lnTo>
                  <a:lnTo>
                    <a:pt x="1076" y="525"/>
                  </a:lnTo>
                  <a:lnTo>
                    <a:pt x="1076" y="538"/>
                  </a:lnTo>
                  <a:lnTo>
                    <a:pt x="1080" y="538"/>
                  </a:lnTo>
                  <a:lnTo>
                    <a:pt x="1080" y="543"/>
                  </a:lnTo>
                  <a:lnTo>
                    <a:pt x="1085" y="543"/>
                  </a:lnTo>
                  <a:lnTo>
                    <a:pt x="1085" y="549"/>
                  </a:lnTo>
                  <a:lnTo>
                    <a:pt x="1090" y="549"/>
                  </a:lnTo>
                  <a:lnTo>
                    <a:pt x="1090" y="555"/>
                  </a:lnTo>
                  <a:lnTo>
                    <a:pt x="1094" y="555"/>
                  </a:lnTo>
                  <a:lnTo>
                    <a:pt x="1094" y="568"/>
                  </a:lnTo>
                  <a:lnTo>
                    <a:pt x="1099" y="568"/>
                  </a:lnTo>
                  <a:lnTo>
                    <a:pt x="1099" y="573"/>
                  </a:lnTo>
                  <a:lnTo>
                    <a:pt x="1104" y="573"/>
                  </a:lnTo>
                  <a:lnTo>
                    <a:pt x="1104" y="579"/>
                  </a:lnTo>
                  <a:lnTo>
                    <a:pt x="1108" y="579"/>
                  </a:lnTo>
                  <a:lnTo>
                    <a:pt x="1108" y="584"/>
                  </a:lnTo>
                  <a:lnTo>
                    <a:pt x="1114" y="584"/>
                  </a:lnTo>
                  <a:lnTo>
                    <a:pt x="1114" y="591"/>
                  </a:lnTo>
                  <a:lnTo>
                    <a:pt x="1118" y="591"/>
                  </a:lnTo>
                  <a:lnTo>
                    <a:pt x="1118" y="596"/>
                  </a:lnTo>
                  <a:lnTo>
                    <a:pt x="1123" y="596"/>
                  </a:lnTo>
                  <a:lnTo>
                    <a:pt x="1123" y="601"/>
                  </a:lnTo>
                  <a:lnTo>
                    <a:pt x="1127" y="601"/>
                  </a:lnTo>
                  <a:lnTo>
                    <a:pt x="1127" y="614"/>
                  </a:lnTo>
                  <a:lnTo>
                    <a:pt x="1132" y="614"/>
                  </a:lnTo>
                  <a:lnTo>
                    <a:pt x="1132" y="626"/>
                  </a:lnTo>
                  <a:lnTo>
                    <a:pt x="1137" y="626"/>
                  </a:lnTo>
                  <a:lnTo>
                    <a:pt x="1137" y="633"/>
                  </a:lnTo>
                  <a:lnTo>
                    <a:pt x="1141" y="633"/>
                  </a:lnTo>
                  <a:lnTo>
                    <a:pt x="1141" y="638"/>
                  </a:lnTo>
                  <a:lnTo>
                    <a:pt x="1148" y="638"/>
                  </a:lnTo>
                  <a:lnTo>
                    <a:pt x="1148" y="644"/>
                  </a:lnTo>
                  <a:lnTo>
                    <a:pt x="1152" y="644"/>
                  </a:lnTo>
                  <a:lnTo>
                    <a:pt x="1152" y="650"/>
                  </a:lnTo>
                  <a:lnTo>
                    <a:pt x="1157" y="650"/>
                  </a:lnTo>
                  <a:lnTo>
                    <a:pt x="1157" y="661"/>
                  </a:lnTo>
                  <a:lnTo>
                    <a:pt x="1162" y="661"/>
                  </a:lnTo>
                  <a:lnTo>
                    <a:pt x="1162" y="668"/>
                  </a:lnTo>
                  <a:lnTo>
                    <a:pt x="1167" y="668"/>
                  </a:lnTo>
                  <a:lnTo>
                    <a:pt x="1167" y="679"/>
                  </a:lnTo>
                  <a:lnTo>
                    <a:pt x="1171" y="679"/>
                  </a:lnTo>
                  <a:lnTo>
                    <a:pt x="1171" y="685"/>
                  </a:lnTo>
                  <a:lnTo>
                    <a:pt x="1176" y="685"/>
                  </a:lnTo>
                  <a:lnTo>
                    <a:pt x="1176" y="691"/>
                  </a:lnTo>
                  <a:lnTo>
                    <a:pt x="1181" y="691"/>
                  </a:lnTo>
                  <a:lnTo>
                    <a:pt x="1181" y="696"/>
                  </a:lnTo>
                  <a:lnTo>
                    <a:pt x="1185" y="696"/>
                  </a:lnTo>
                  <a:lnTo>
                    <a:pt x="1185" y="709"/>
                  </a:lnTo>
                  <a:lnTo>
                    <a:pt x="1190" y="709"/>
                  </a:lnTo>
                  <a:lnTo>
                    <a:pt x="1190" y="715"/>
                  </a:lnTo>
                  <a:lnTo>
                    <a:pt x="1195" y="715"/>
                  </a:lnTo>
                  <a:lnTo>
                    <a:pt x="1195" y="720"/>
                  </a:lnTo>
                  <a:lnTo>
                    <a:pt x="1200" y="720"/>
                  </a:lnTo>
                  <a:lnTo>
                    <a:pt x="1200" y="727"/>
                  </a:lnTo>
                  <a:lnTo>
                    <a:pt x="1209" y="727"/>
                  </a:lnTo>
                  <a:lnTo>
                    <a:pt x="1209" y="732"/>
                  </a:lnTo>
                  <a:lnTo>
                    <a:pt x="1214" y="732"/>
                  </a:lnTo>
                  <a:lnTo>
                    <a:pt x="1214" y="739"/>
                  </a:lnTo>
                  <a:lnTo>
                    <a:pt x="1219" y="739"/>
                  </a:lnTo>
                  <a:lnTo>
                    <a:pt x="1219" y="750"/>
                  </a:lnTo>
                  <a:lnTo>
                    <a:pt x="1224" y="750"/>
                  </a:lnTo>
                  <a:lnTo>
                    <a:pt x="1224" y="761"/>
                  </a:lnTo>
                  <a:lnTo>
                    <a:pt x="1229" y="761"/>
                  </a:lnTo>
                  <a:lnTo>
                    <a:pt x="1229" y="767"/>
                  </a:lnTo>
                  <a:lnTo>
                    <a:pt x="1234" y="767"/>
                  </a:lnTo>
                  <a:lnTo>
                    <a:pt x="1234" y="774"/>
                  </a:lnTo>
                  <a:lnTo>
                    <a:pt x="1238" y="774"/>
                  </a:lnTo>
                  <a:lnTo>
                    <a:pt x="1238" y="779"/>
                  </a:lnTo>
                  <a:lnTo>
                    <a:pt x="1244" y="779"/>
                  </a:lnTo>
                  <a:lnTo>
                    <a:pt x="1244" y="791"/>
                  </a:lnTo>
                  <a:lnTo>
                    <a:pt x="1248" y="791"/>
                  </a:lnTo>
                  <a:lnTo>
                    <a:pt x="1248" y="797"/>
                  </a:lnTo>
                  <a:lnTo>
                    <a:pt x="1253" y="797"/>
                  </a:lnTo>
                  <a:lnTo>
                    <a:pt x="1253" y="804"/>
                  </a:lnTo>
                  <a:lnTo>
                    <a:pt x="1258" y="804"/>
                  </a:lnTo>
                  <a:lnTo>
                    <a:pt x="1258" y="815"/>
                  </a:lnTo>
                  <a:lnTo>
                    <a:pt x="1262" y="815"/>
                  </a:lnTo>
                  <a:lnTo>
                    <a:pt x="1262" y="821"/>
                  </a:lnTo>
                  <a:lnTo>
                    <a:pt x="1267" y="821"/>
                  </a:lnTo>
                  <a:lnTo>
                    <a:pt x="1267" y="827"/>
                  </a:lnTo>
                  <a:lnTo>
                    <a:pt x="1277" y="827"/>
                  </a:lnTo>
                  <a:lnTo>
                    <a:pt x="1277" y="832"/>
                  </a:lnTo>
                  <a:lnTo>
                    <a:pt x="1281" y="832"/>
                  </a:lnTo>
                  <a:lnTo>
                    <a:pt x="1281" y="839"/>
                  </a:lnTo>
                  <a:lnTo>
                    <a:pt x="1286" y="839"/>
                  </a:lnTo>
                  <a:lnTo>
                    <a:pt x="1286" y="845"/>
                  </a:lnTo>
                  <a:lnTo>
                    <a:pt x="1292" y="845"/>
                  </a:lnTo>
                  <a:lnTo>
                    <a:pt x="1292" y="856"/>
                  </a:lnTo>
                  <a:lnTo>
                    <a:pt x="1297" y="856"/>
                  </a:lnTo>
                  <a:lnTo>
                    <a:pt x="1297" y="862"/>
                  </a:lnTo>
                  <a:lnTo>
                    <a:pt x="1301" y="862"/>
                  </a:lnTo>
                  <a:lnTo>
                    <a:pt x="1301" y="868"/>
                  </a:lnTo>
                  <a:lnTo>
                    <a:pt x="1306" y="868"/>
                  </a:lnTo>
                  <a:lnTo>
                    <a:pt x="1306" y="873"/>
                  </a:lnTo>
                  <a:lnTo>
                    <a:pt x="1311" y="873"/>
                  </a:lnTo>
                  <a:lnTo>
                    <a:pt x="1311" y="880"/>
                  </a:lnTo>
                  <a:lnTo>
                    <a:pt x="1315" y="880"/>
                  </a:lnTo>
                  <a:lnTo>
                    <a:pt x="1315" y="886"/>
                  </a:lnTo>
                  <a:lnTo>
                    <a:pt x="1320" y="886"/>
                  </a:lnTo>
                  <a:lnTo>
                    <a:pt x="1320" y="892"/>
                  </a:lnTo>
                  <a:lnTo>
                    <a:pt x="1325" y="892"/>
                  </a:lnTo>
                  <a:lnTo>
                    <a:pt x="1325" y="897"/>
                  </a:lnTo>
                  <a:lnTo>
                    <a:pt x="1334" y="897"/>
                  </a:lnTo>
                  <a:lnTo>
                    <a:pt x="1334" y="905"/>
                  </a:lnTo>
                  <a:lnTo>
                    <a:pt x="1344" y="905"/>
                  </a:lnTo>
                  <a:lnTo>
                    <a:pt x="1344" y="910"/>
                  </a:lnTo>
                  <a:lnTo>
                    <a:pt x="1348" y="910"/>
                  </a:lnTo>
                  <a:lnTo>
                    <a:pt x="1348" y="922"/>
                  </a:lnTo>
                  <a:lnTo>
                    <a:pt x="1354" y="922"/>
                  </a:lnTo>
                  <a:lnTo>
                    <a:pt x="1354" y="927"/>
                  </a:lnTo>
                  <a:lnTo>
                    <a:pt x="1358" y="927"/>
                  </a:lnTo>
                  <a:lnTo>
                    <a:pt x="1358" y="933"/>
                  </a:lnTo>
                  <a:lnTo>
                    <a:pt x="1368" y="933"/>
                  </a:lnTo>
                  <a:lnTo>
                    <a:pt x="1368" y="938"/>
                  </a:lnTo>
                  <a:lnTo>
                    <a:pt x="1374" y="938"/>
                  </a:lnTo>
                  <a:lnTo>
                    <a:pt x="1374" y="946"/>
                  </a:lnTo>
                  <a:lnTo>
                    <a:pt x="1378" y="946"/>
                  </a:lnTo>
                  <a:lnTo>
                    <a:pt x="1378" y="951"/>
                  </a:lnTo>
                  <a:lnTo>
                    <a:pt x="1382" y="951"/>
                  </a:lnTo>
                  <a:lnTo>
                    <a:pt x="1382" y="957"/>
                  </a:lnTo>
                  <a:lnTo>
                    <a:pt x="1388" y="957"/>
                  </a:lnTo>
                  <a:lnTo>
                    <a:pt x="1388" y="963"/>
                  </a:lnTo>
                  <a:lnTo>
                    <a:pt x="1392" y="963"/>
                  </a:lnTo>
                  <a:lnTo>
                    <a:pt x="1392" y="968"/>
                  </a:lnTo>
                  <a:lnTo>
                    <a:pt x="1397" y="968"/>
                  </a:lnTo>
                  <a:lnTo>
                    <a:pt x="1397" y="975"/>
                  </a:lnTo>
                  <a:lnTo>
                    <a:pt x="1402" y="975"/>
                  </a:lnTo>
                  <a:lnTo>
                    <a:pt x="1402" y="981"/>
                  </a:lnTo>
                  <a:lnTo>
                    <a:pt x="1407" y="981"/>
                  </a:lnTo>
                  <a:lnTo>
                    <a:pt x="1407" y="987"/>
                  </a:lnTo>
                  <a:lnTo>
                    <a:pt x="1411" y="987"/>
                  </a:lnTo>
                  <a:lnTo>
                    <a:pt x="1411" y="992"/>
                  </a:lnTo>
                  <a:lnTo>
                    <a:pt x="1416" y="992"/>
                  </a:lnTo>
                  <a:lnTo>
                    <a:pt x="1416" y="998"/>
                  </a:lnTo>
                  <a:lnTo>
                    <a:pt x="1421" y="998"/>
                  </a:lnTo>
                  <a:lnTo>
                    <a:pt x="1421" y="1004"/>
                  </a:lnTo>
                  <a:lnTo>
                    <a:pt x="1430" y="1004"/>
                  </a:lnTo>
                  <a:lnTo>
                    <a:pt x="1430" y="1009"/>
                  </a:lnTo>
                  <a:lnTo>
                    <a:pt x="1436" y="1009"/>
                  </a:lnTo>
                  <a:lnTo>
                    <a:pt x="1436" y="1016"/>
                  </a:lnTo>
                  <a:lnTo>
                    <a:pt x="1445" y="1016"/>
                  </a:lnTo>
                  <a:lnTo>
                    <a:pt x="1445" y="1022"/>
                  </a:lnTo>
                  <a:lnTo>
                    <a:pt x="1450" y="1022"/>
                  </a:lnTo>
                  <a:lnTo>
                    <a:pt x="1450" y="1028"/>
                  </a:lnTo>
                  <a:lnTo>
                    <a:pt x="1455" y="1028"/>
                  </a:lnTo>
                  <a:lnTo>
                    <a:pt x="1455" y="1033"/>
                  </a:lnTo>
                  <a:lnTo>
                    <a:pt x="1464" y="1033"/>
                  </a:lnTo>
                  <a:lnTo>
                    <a:pt x="1464" y="1041"/>
                  </a:lnTo>
                  <a:lnTo>
                    <a:pt x="1478" y="1041"/>
                  </a:lnTo>
                  <a:lnTo>
                    <a:pt x="1478" y="1046"/>
                  </a:lnTo>
                  <a:lnTo>
                    <a:pt x="1483" y="1046"/>
                  </a:lnTo>
                  <a:lnTo>
                    <a:pt x="1483" y="1052"/>
                  </a:lnTo>
                  <a:lnTo>
                    <a:pt x="1488" y="1052"/>
                  </a:lnTo>
                  <a:lnTo>
                    <a:pt x="1488" y="1057"/>
                  </a:lnTo>
                  <a:lnTo>
                    <a:pt x="1492" y="1057"/>
                  </a:lnTo>
                  <a:lnTo>
                    <a:pt x="1492" y="1063"/>
                  </a:lnTo>
                  <a:lnTo>
                    <a:pt x="1502" y="1063"/>
                  </a:lnTo>
                  <a:lnTo>
                    <a:pt x="1502" y="1069"/>
                  </a:lnTo>
                  <a:lnTo>
                    <a:pt x="1507" y="1069"/>
                  </a:lnTo>
                  <a:lnTo>
                    <a:pt x="1507" y="1074"/>
                  </a:lnTo>
                  <a:lnTo>
                    <a:pt x="1512" y="1074"/>
                  </a:lnTo>
                  <a:lnTo>
                    <a:pt x="1512" y="1082"/>
                  </a:lnTo>
                  <a:lnTo>
                    <a:pt x="1522" y="1082"/>
                  </a:lnTo>
                  <a:lnTo>
                    <a:pt x="1522" y="1087"/>
                  </a:lnTo>
                  <a:lnTo>
                    <a:pt x="1532" y="1087"/>
                  </a:lnTo>
                  <a:lnTo>
                    <a:pt x="1532" y="1093"/>
                  </a:lnTo>
                  <a:lnTo>
                    <a:pt x="1536" y="1093"/>
                  </a:lnTo>
                  <a:lnTo>
                    <a:pt x="1536" y="1099"/>
                  </a:lnTo>
                  <a:lnTo>
                    <a:pt x="1541" y="1099"/>
                  </a:lnTo>
                  <a:lnTo>
                    <a:pt x="1541" y="1106"/>
                  </a:lnTo>
                  <a:lnTo>
                    <a:pt x="1555" y="1106"/>
                  </a:lnTo>
                  <a:lnTo>
                    <a:pt x="1555" y="1111"/>
                  </a:lnTo>
                  <a:lnTo>
                    <a:pt x="1560" y="1111"/>
                  </a:lnTo>
                  <a:lnTo>
                    <a:pt x="1560" y="1117"/>
                  </a:lnTo>
                  <a:lnTo>
                    <a:pt x="1569" y="1117"/>
                  </a:lnTo>
                  <a:lnTo>
                    <a:pt x="1569" y="1123"/>
                  </a:lnTo>
                  <a:lnTo>
                    <a:pt x="1589" y="1123"/>
                  </a:lnTo>
                  <a:lnTo>
                    <a:pt x="1589" y="1128"/>
                  </a:lnTo>
                  <a:lnTo>
                    <a:pt x="1599" y="1128"/>
                  </a:lnTo>
                  <a:lnTo>
                    <a:pt x="1599" y="1134"/>
                  </a:lnTo>
                  <a:lnTo>
                    <a:pt x="1608" y="1134"/>
                  </a:lnTo>
                  <a:lnTo>
                    <a:pt x="1608" y="1140"/>
                  </a:lnTo>
                  <a:lnTo>
                    <a:pt x="1613" y="1140"/>
                  </a:lnTo>
                  <a:lnTo>
                    <a:pt x="1613" y="1147"/>
                  </a:lnTo>
                  <a:lnTo>
                    <a:pt x="1618" y="1147"/>
                  </a:lnTo>
                  <a:lnTo>
                    <a:pt x="1618" y="1164"/>
                  </a:lnTo>
                  <a:lnTo>
                    <a:pt x="1622" y="1164"/>
                  </a:lnTo>
                  <a:lnTo>
                    <a:pt x="1622" y="1169"/>
                  </a:lnTo>
                  <a:lnTo>
                    <a:pt x="1628" y="1169"/>
                  </a:lnTo>
                  <a:lnTo>
                    <a:pt x="1628" y="1210"/>
                  </a:lnTo>
                  <a:lnTo>
                    <a:pt x="1632" y="1210"/>
                  </a:lnTo>
                  <a:lnTo>
                    <a:pt x="1632" y="1223"/>
                  </a:lnTo>
                  <a:lnTo>
                    <a:pt x="1628" y="1223"/>
                  </a:lnTo>
                  <a:lnTo>
                    <a:pt x="1628" y="1228"/>
                  </a:lnTo>
                  <a:lnTo>
                    <a:pt x="1618" y="1228"/>
                  </a:lnTo>
                  <a:lnTo>
                    <a:pt x="1618" y="1234"/>
                  </a:lnTo>
                  <a:lnTo>
                    <a:pt x="1589" y="1234"/>
                  </a:lnTo>
                  <a:lnTo>
                    <a:pt x="1589" y="1240"/>
                  </a:lnTo>
                  <a:lnTo>
                    <a:pt x="1574" y="1240"/>
                  </a:lnTo>
                  <a:lnTo>
                    <a:pt x="1574" y="1247"/>
                  </a:lnTo>
                  <a:lnTo>
                    <a:pt x="1569" y="1247"/>
                  </a:lnTo>
                  <a:lnTo>
                    <a:pt x="1569" y="1252"/>
                  </a:lnTo>
                  <a:lnTo>
                    <a:pt x="1555" y="1252"/>
                  </a:lnTo>
                  <a:lnTo>
                    <a:pt x="1555" y="1259"/>
                  </a:lnTo>
                  <a:lnTo>
                    <a:pt x="1546" y="1259"/>
                  </a:lnTo>
                  <a:lnTo>
                    <a:pt x="1546" y="1264"/>
                  </a:lnTo>
                  <a:lnTo>
                    <a:pt x="1541" y="1264"/>
                  </a:lnTo>
                  <a:lnTo>
                    <a:pt x="1541" y="1270"/>
                  </a:lnTo>
                  <a:lnTo>
                    <a:pt x="1526" y="1270"/>
                  </a:lnTo>
                  <a:lnTo>
                    <a:pt x="1526" y="1276"/>
                  </a:lnTo>
                  <a:lnTo>
                    <a:pt x="1517" y="1276"/>
                  </a:lnTo>
                  <a:lnTo>
                    <a:pt x="1517" y="1281"/>
                  </a:lnTo>
                  <a:lnTo>
                    <a:pt x="1507" y="1281"/>
                  </a:lnTo>
                  <a:lnTo>
                    <a:pt x="1507" y="1288"/>
                  </a:lnTo>
                  <a:lnTo>
                    <a:pt x="1498" y="1288"/>
                  </a:lnTo>
                  <a:lnTo>
                    <a:pt x="1498" y="1294"/>
                  </a:lnTo>
                  <a:lnTo>
                    <a:pt x="1492" y="1294"/>
                  </a:lnTo>
                  <a:lnTo>
                    <a:pt x="1492" y="1300"/>
                  </a:lnTo>
                  <a:lnTo>
                    <a:pt x="1478" y="1300"/>
                  </a:lnTo>
                  <a:lnTo>
                    <a:pt x="1478" y="1305"/>
                  </a:lnTo>
                  <a:lnTo>
                    <a:pt x="1473" y="1305"/>
                  </a:lnTo>
                  <a:lnTo>
                    <a:pt x="1473" y="1311"/>
                  </a:lnTo>
                  <a:lnTo>
                    <a:pt x="1455" y="1311"/>
                  </a:lnTo>
                  <a:lnTo>
                    <a:pt x="1455" y="1318"/>
                  </a:lnTo>
                  <a:lnTo>
                    <a:pt x="1445" y="1318"/>
                  </a:lnTo>
                  <a:lnTo>
                    <a:pt x="1445" y="1324"/>
                  </a:lnTo>
                  <a:lnTo>
                    <a:pt x="1440" y="1324"/>
                  </a:lnTo>
                  <a:lnTo>
                    <a:pt x="1440" y="1329"/>
                  </a:lnTo>
                  <a:lnTo>
                    <a:pt x="1436" y="1329"/>
                  </a:lnTo>
                  <a:lnTo>
                    <a:pt x="1436" y="1335"/>
                  </a:lnTo>
                  <a:lnTo>
                    <a:pt x="1425" y="1335"/>
                  </a:lnTo>
                  <a:lnTo>
                    <a:pt x="1425" y="1341"/>
                  </a:lnTo>
                  <a:lnTo>
                    <a:pt x="1421" y="1341"/>
                  </a:lnTo>
                  <a:lnTo>
                    <a:pt x="1421" y="1346"/>
                  </a:lnTo>
                  <a:lnTo>
                    <a:pt x="1416" y="1346"/>
                  </a:lnTo>
                  <a:lnTo>
                    <a:pt x="1416" y="1353"/>
                  </a:lnTo>
                  <a:lnTo>
                    <a:pt x="1407" y="1353"/>
                  </a:lnTo>
                  <a:lnTo>
                    <a:pt x="1407" y="1359"/>
                  </a:lnTo>
                  <a:lnTo>
                    <a:pt x="1392" y="1359"/>
                  </a:lnTo>
                  <a:lnTo>
                    <a:pt x="1392" y="1365"/>
                  </a:lnTo>
                  <a:lnTo>
                    <a:pt x="1388" y="1365"/>
                  </a:lnTo>
                  <a:lnTo>
                    <a:pt x="1388" y="1370"/>
                  </a:lnTo>
                  <a:lnTo>
                    <a:pt x="1378" y="1370"/>
                  </a:lnTo>
                  <a:lnTo>
                    <a:pt x="1378" y="1376"/>
                  </a:lnTo>
                  <a:lnTo>
                    <a:pt x="1374" y="1376"/>
                  </a:lnTo>
                  <a:lnTo>
                    <a:pt x="1374" y="1383"/>
                  </a:lnTo>
                  <a:lnTo>
                    <a:pt x="1368" y="1383"/>
                  </a:lnTo>
                  <a:lnTo>
                    <a:pt x="1368" y="1388"/>
                  </a:lnTo>
                  <a:lnTo>
                    <a:pt x="1364" y="1388"/>
                  </a:lnTo>
                  <a:lnTo>
                    <a:pt x="1364" y="1395"/>
                  </a:lnTo>
                  <a:lnTo>
                    <a:pt x="1358" y="1395"/>
                  </a:lnTo>
                  <a:lnTo>
                    <a:pt x="1358" y="1400"/>
                  </a:lnTo>
                  <a:lnTo>
                    <a:pt x="1344" y="1400"/>
                  </a:lnTo>
                  <a:lnTo>
                    <a:pt x="1344" y="1406"/>
                  </a:lnTo>
                  <a:lnTo>
                    <a:pt x="1334" y="1406"/>
                  </a:lnTo>
                  <a:lnTo>
                    <a:pt x="1334" y="1411"/>
                  </a:lnTo>
                  <a:lnTo>
                    <a:pt x="1325" y="1411"/>
                  </a:lnTo>
                  <a:lnTo>
                    <a:pt x="1325" y="1419"/>
                  </a:lnTo>
                  <a:lnTo>
                    <a:pt x="1315" y="1419"/>
                  </a:lnTo>
                  <a:lnTo>
                    <a:pt x="1315" y="1424"/>
                  </a:lnTo>
                  <a:lnTo>
                    <a:pt x="1301" y="1424"/>
                  </a:lnTo>
                  <a:lnTo>
                    <a:pt x="1301" y="1429"/>
                  </a:lnTo>
                  <a:lnTo>
                    <a:pt x="1297" y="1429"/>
                  </a:lnTo>
                  <a:lnTo>
                    <a:pt x="1297" y="1436"/>
                  </a:lnTo>
                  <a:lnTo>
                    <a:pt x="1281" y="1436"/>
                  </a:lnTo>
                  <a:lnTo>
                    <a:pt x="1281" y="1441"/>
                  </a:lnTo>
                  <a:lnTo>
                    <a:pt x="1267" y="1441"/>
                  </a:lnTo>
                  <a:lnTo>
                    <a:pt x="1267" y="1447"/>
                  </a:lnTo>
                  <a:lnTo>
                    <a:pt x="1262" y="1447"/>
                  </a:lnTo>
                  <a:lnTo>
                    <a:pt x="1262" y="1454"/>
                  </a:lnTo>
                  <a:lnTo>
                    <a:pt x="1253" y="1454"/>
                  </a:lnTo>
                  <a:lnTo>
                    <a:pt x="1253" y="1460"/>
                  </a:lnTo>
                  <a:lnTo>
                    <a:pt x="1248" y="1460"/>
                  </a:lnTo>
                  <a:lnTo>
                    <a:pt x="1248" y="1465"/>
                  </a:lnTo>
                  <a:lnTo>
                    <a:pt x="1234" y="1465"/>
                  </a:lnTo>
                  <a:lnTo>
                    <a:pt x="1234" y="1471"/>
                  </a:lnTo>
                  <a:lnTo>
                    <a:pt x="1224" y="1471"/>
                  </a:lnTo>
                  <a:lnTo>
                    <a:pt x="1224" y="1477"/>
                  </a:lnTo>
                  <a:lnTo>
                    <a:pt x="1219" y="1477"/>
                  </a:lnTo>
                  <a:lnTo>
                    <a:pt x="1219" y="1482"/>
                  </a:lnTo>
                  <a:lnTo>
                    <a:pt x="1209" y="1482"/>
                  </a:lnTo>
                  <a:lnTo>
                    <a:pt x="1209" y="1489"/>
                  </a:lnTo>
                  <a:lnTo>
                    <a:pt x="1200" y="1489"/>
                  </a:lnTo>
                  <a:lnTo>
                    <a:pt x="1200" y="1495"/>
                  </a:lnTo>
                  <a:lnTo>
                    <a:pt x="1185" y="1495"/>
                  </a:lnTo>
                  <a:lnTo>
                    <a:pt x="1185" y="1501"/>
                  </a:lnTo>
                  <a:lnTo>
                    <a:pt x="1181" y="1501"/>
                  </a:lnTo>
                  <a:lnTo>
                    <a:pt x="1181" y="1506"/>
                  </a:lnTo>
                  <a:lnTo>
                    <a:pt x="1171" y="1506"/>
                  </a:lnTo>
                  <a:lnTo>
                    <a:pt x="1171" y="1514"/>
                  </a:lnTo>
                  <a:lnTo>
                    <a:pt x="1162" y="1514"/>
                  </a:lnTo>
                  <a:lnTo>
                    <a:pt x="1162" y="1519"/>
                  </a:lnTo>
                  <a:lnTo>
                    <a:pt x="1152" y="1519"/>
                  </a:lnTo>
                  <a:lnTo>
                    <a:pt x="1152" y="1525"/>
                  </a:lnTo>
                  <a:lnTo>
                    <a:pt x="1141" y="1525"/>
                  </a:lnTo>
                  <a:lnTo>
                    <a:pt x="1141" y="1530"/>
                  </a:lnTo>
                  <a:lnTo>
                    <a:pt x="1132" y="1530"/>
                  </a:lnTo>
                  <a:lnTo>
                    <a:pt x="1132" y="1536"/>
                  </a:lnTo>
                  <a:lnTo>
                    <a:pt x="1127" y="1536"/>
                  </a:lnTo>
                  <a:lnTo>
                    <a:pt x="1127" y="1542"/>
                  </a:lnTo>
                  <a:lnTo>
                    <a:pt x="1114" y="1542"/>
                  </a:lnTo>
                  <a:lnTo>
                    <a:pt x="1114" y="1547"/>
                  </a:lnTo>
                  <a:lnTo>
                    <a:pt x="1108" y="1547"/>
                  </a:lnTo>
                  <a:lnTo>
                    <a:pt x="1108" y="1555"/>
                  </a:lnTo>
                  <a:lnTo>
                    <a:pt x="1099" y="1555"/>
                  </a:lnTo>
                  <a:lnTo>
                    <a:pt x="1099" y="1560"/>
                  </a:lnTo>
                  <a:lnTo>
                    <a:pt x="1090" y="1560"/>
                  </a:lnTo>
                  <a:lnTo>
                    <a:pt x="1090" y="1566"/>
                  </a:lnTo>
                  <a:lnTo>
                    <a:pt x="1080" y="1566"/>
                  </a:lnTo>
                  <a:lnTo>
                    <a:pt x="1080" y="1572"/>
                  </a:lnTo>
                  <a:lnTo>
                    <a:pt x="1070" y="1572"/>
                  </a:lnTo>
                  <a:lnTo>
                    <a:pt x="1070" y="1578"/>
                  </a:lnTo>
                  <a:lnTo>
                    <a:pt x="1060" y="1578"/>
                  </a:lnTo>
                  <a:lnTo>
                    <a:pt x="1060" y="1583"/>
                  </a:lnTo>
                  <a:lnTo>
                    <a:pt x="1056" y="1583"/>
                  </a:lnTo>
                  <a:lnTo>
                    <a:pt x="1056" y="1590"/>
                  </a:lnTo>
                  <a:lnTo>
                    <a:pt x="1041" y="1590"/>
                  </a:lnTo>
                  <a:lnTo>
                    <a:pt x="1041" y="1595"/>
                  </a:lnTo>
                  <a:lnTo>
                    <a:pt x="1032" y="1595"/>
                  </a:lnTo>
                  <a:lnTo>
                    <a:pt x="1032" y="1601"/>
                  </a:lnTo>
                  <a:lnTo>
                    <a:pt x="1023" y="1601"/>
                  </a:lnTo>
                  <a:lnTo>
                    <a:pt x="1023" y="1606"/>
                  </a:lnTo>
                  <a:lnTo>
                    <a:pt x="1013" y="1606"/>
                  </a:lnTo>
                  <a:lnTo>
                    <a:pt x="1013" y="1613"/>
                  </a:lnTo>
                  <a:lnTo>
                    <a:pt x="1008" y="1613"/>
                  </a:lnTo>
                  <a:lnTo>
                    <a:pt x="1008" y="1618"/>
                  </a:lnTo>
                  <a:lnTo>
                    <a:pt x="998" y="1618"/>
                  </a:lnTo>
                  <a:lnTo>
                    <a:pt x="998" y="1625"/>
                  </a:lnTo>
                  <a:lnTo>
                    <a:pt x="989" y="1625"/>
                  </a:lnTo>
                  <a:lnTo>
                    <a:pt x="989" y="1631"/>
                  </a:lnTo>
                  <a:lnTo>
                    <a:pt x="983" y="1631"/>
                  </a:lnTo>
                  <a:lnTo>
                    <a:pt x="983" y="1637"/>
                  </a:lnTo>
                  <a:lnTo>
                    <a:pt x="974" y="1637"/>
                  </a:lnTo>
                  <a:lnTo>
                    <a:pt x="974" y="1642"/>
                  </a:lnTo>
                  <a:lnTo>
                    <a:pt x="970" y="1642"/>
                  </a:lnTo>
                  <a:lnTo>
                    <a:pt x="970" y="1648"/>
                  </a:lnTo>
                  <a:lnTo>
                    <a:pt x="960" y="1648"/>
                  </a:lnTo>
                  <a:lnTo>
                    <a:pt x="960" y="1655"/>
                  </a:lnTo>
                  <a:lnTo>
                    <a:pt x="950" y="1655"/>
                  </a:lnTo>
                  <a:lnTo>
                    <a:pt x="950" y="1660"/>
                  </a:lnTo>
                  <a:lnTo>
                    <a:pt x="941" y="1660"/>
                  </a:lnTo>
                  <a:lnTo>
                    <a:pt x="941" y="1666"/>
                  </a:lnTo>
                  <a:lnTo>
                    <a:pt x="936" y="1666"/>
                  </a:lnTo>
                  <a:lnTo>
                    <a:pt x="936" y="1672"/>
                  </a:lnTo>
                  <a:lnTo>
                    <a:pt x="931" y="1672"/>
                  </a:lnTo>
                  <a:lnTo>
                    <a:pt x="931" y="1678"/>
                  </a:lnTo>
                  <a:lnTo>
                    <a:pt x="921" y="1678"/>
                  </a:lnTo>
                  <a:lnTo>
                    <a:pt x="921" y="1683"/>
                  </a:lnTo>
                  <a:lnTo>
                    <a:pt x="912" y="1683"/>
                  </a:lnTo>
                  <a:lnTo>
                    <a:pt x="912" y="1691"/>
                  </a:lnTo>
                  <a:lnTo>
                    <a:pt x="907" y="1691"/>
                  </a:lnTo>
                  <a:lnTo>
                    <a:pt x="907" y="1696"/>
                  </a:lnTo>
                  <a:lnTo>
                    <a:pt x="897" y="1696"/>
                  </a:lnTo>
                  <a:lnTo>
                    <a:pt x="897" y="1701"/>
                  </a:lnTo>
                  <a:lnTo>
                    <a:pt x="878" y="1701"/>
                  </a:lnTo>
                  <a:lnTo>
                    <a:pt x="878" y="1707"/>
                  </a:lnTo>
                  <a:lnTo>
                    <a:pt x="869" y="1707"/>
                  </a:lnTo>
                  <a:lnTo>
                    <a:pt x="869" y="1719"/>
                  </a:lnTo>
                  <a:lnTo>
                    <a:pt x="853" y="1719"/>
                  </a:lnTo>
                  <a:lnTo>
                    <a:pt x="853" y="1724"/>
                  </a:lnTo>
                  <a:lnTo>
                    <a:pt x="839" y="1724"/>
                  </a:lnTo>
                  <a:lnTo>
                    <a:pt x="839" y="1732"/>
                  </a:lnTo>
                  <a:lnTo>
                    <a:pt x="834" y="1732"/>
                  </a:lnTo>
                  <a:lnTo>
                    <a:pt x="834" y="1737"/>
                  </a:lnTo>
                  <a:lnTo>
                    <a:pt x="830" y="1737"/>
                  </a:lnTo>
                  <a:lnTo>
                    <a:pt x="830" y="1743"/>
                  </a:lnTo>
                  <a:lnTo>
                    <a:pt x="820" y="1743"/>
                  </a:lnTo>
                  <a:lnTo>
                    <a:pt x="820" y="1749"/>
                  </a:lnTo>
                  <a:lnTo>
                    <a:pt x="811" y="1749"/>
                  </a:lnTo>
                  <a:lnTo>
                    <a:pt x="811" y="1754"/>
                  </a:lnTo>
                  <a:lnTo>
                    <a:pt x="806" y="1754"/>
                  </a:lnTo>
                  <a:lnTo>
                    <a:pt x="806" y="1761"/>
                  </a:lnTo>
                  <a:lnTo>
                    <a:pt x="797" y="1761"/>
                  </a:lnTo>
                  <a:lnTo>
                    <a:pt x="797" y="1773"/>
                  </a:lnTo>
                  <a:lnTo>
                    <a:pt x="787" y="1773"/>
                  </a:lnTo>
                  <a:lnTo>
                    <a:pt x="787" y="1778"/>
                  </a:lnTo>
                  <a:lnTo>
                    <a:pt x="777" y="1778"/>
                  </a:lnTo>
                  <a:lnTo>
                    <a:pt x="777" y="1784"/>
                  </a:lnTo>
                  <a:lnTo>
                    <a:pt x="772" y="1784"/>
                  </a:lnTo>
                  <a:lnTo>
                    <a:pt x="772" y="1791"/>
                  </a:lnTo>
                  <a:lnTo>
                    <a:pt x="767" y="1791"/>
                  </a:lnTo>
                  <a:lnTo>
                    <a:pt x="767" y="1796"/>
                  </a:lnTo>
                  <a:lnTo>
                    <a:pt x="763" y="1796"/>
                  </a:lnTo>
                  <a:lnTo>
                    <a:pt x="763" y="1802"/>
                  </a:lnTo>
                  <a:lnTo>
                    <a:pt x="753" y="1802"/>
                  </a:lnTo>
                  <a:lnTo>
                    <a:pt x="753" y="1808"/>
                  </a:lnTo>
                  <a:lnTo>
                    <a:pt x="743" y="1808"/>
                  </a:lnTo>
                  <a:lnTo>
                    <a:pt x="743" y="1814"/>
                  </a:lnTo>
                  <a:lnTo>
                    <a:pt x="739" y="1814"/>
                  </a:lnTo>
                  <a:lnTo>
                    <a:pt x="739" y="1819"/>
                  </a:lnTo>
                  <a:lnTo>
                    <a:pt x="730" y="1819"/>
                  </a:lnTo>
                  <a:lnTo>
                    <a:pt x="730" y="1826"/>
                  </a:lnTo>
                  <a:lnTo>
                    <a:pt x="720" y="1826"/>
                  </a:lnTo>
                  <a:lnTo>
                    <a:pt x="720" y="1832"/>
                  </a:lnTo>
                  <a:lnTo>
                    <a:pt x="716" y="1832"/>
                  </a:lnTo>
                  <a:lnTo>
                    <a:pt x="716" y="1838"/>
                  </a:lnTo>
                  <a:lnTo>
                    <a:pt x="705" y="1838"/>
                  </a:lnTo>
                  <a:lnTo>
                    <a:pt x="705" y="1843"/>
                  </a:lnTo>
                  <a:lnTo>
                    <a:pt x="695" y="1843"/>
                  </a:lnTo>
                  <a:lnTo>
                    <a:pt x="695" y="1849"/>
                  </a:lnTo>
                  <a:lnTo>
                    <a:pt x="691" y="1849"/>
                  </a:lnTo>
                  <a:lnTo>
                    <a:pt x="691" y="1855"/>
                  </a:lnTo>
                  <a:lnTo>
                    <a:pt x="686" y="1855"/>
                  </a:lnTo>
                  <a:lnTo>
                    <a:pt x="686" y="1860"/>
                  </a:lnTo>
                  <a:lnTo>
                    <a:pt x="676" y="1860"/>
                  </a:lnTo>
                  <a:lnTo>
                    <a:pt x="676" y="1868"/>
                  </a:lnTo>
                  <a:lnTo>
                    <a:pt x="672" y="1868"/>
                  </a:lnTo>
                  <a:lnTo>
                    <a:pt x="672" y="1873"/>
                  </a:lnTo>
                  <a:lnTo>
                    <a:pt x="667" y="1873"/>
                  </a:lnTo>
                  <a:lnTo>
                    <a:pt x="667" y="1879"/>
                  </a:lnTo>
                  <a:lnTo>
                    <a:pt x="658" y="1879"/>
                  </a:lnTo>
                  <a:lnTo>
                    <a:pt x="658" y="1884"/>
                  </a:lnTo>
                  <a:lnTo>
                    <a:pt x="648" y="1884"/>
                  </a:lnTo>
                  <a:lnTo>
                    <a:pt x="648" y="1892"/>
                  </a:lnTo>
                  <a:lnTo>
                    <a:pt x="643" y="1892"/>
                  </a:lnTo>
                  <a:lnTo>
                    <a:pt x="643" y="1897"/>
                  </a:lnTo>
                  <a:lnTo>
                    <a:pt x="633" y="1897"/>
                  </a:lnTo>
                  <a:lnTo>
                    <a:pt x="633" y="1902"/>
                  </a:lnTo>
                  <a:lnTo>
                    <a:pt x="623" y="1902"/>
                  </a:lnTo>
                  <a:lnTo>
                    <a:pt x="623" y="1909"/>
                  </a:lnTo>
                  <a:lnTo>
                    <a:pt x="619" y="1909"/>
                  </a:lnTo>
                  <a:lnTo>
                    <a:pt x="619" y="1914"/>
                  </a:lnTo>
                  <a:lnTo>
                    <a:pt x="614" y="1914"/>
                  </a:lnTo>
                  <a:lnTo>
                    <a:pt x="614" y="1920"/>
                  </a:lnTo>
                  <a:lnTo>
                    <a:pt x="605" y="1920"/>
                  </a:lnTo>
                  <a:lnTo>
                    <a:pt x="605" y="1927"/>
                  </a:lnTo>
                  <a:lnTo>
                    <a:pt x="599" y="1927"/>
                  </a:lnTo>
                  <a:lnTo>
                    <a:pt x="599" y="1933"/>
                  </a:lnTo>
                  <a:lnTo>
                    <a:pt x="590" y="1933"/>
                  </a:lnTo>
                  <a:lnTo>
                    <a:pt x="590" y="1938"/>
                  </a:lnTo>
                  <a:lnTo>
                    <a:pt x="580" y="1938"/>
                  </a:lnTo>
                  <a:lnTo>
                    <a:pt x="580" y="1944"/>
                  </a:lnTo>
                  <a:lnTo>
                    <a:pt x="572" y="1944"/>
                  </a:lnTo>
                  <a:lnTo>
                    <a:pt x="572" y="1950"/>
                  </a:lnTo>
                  <a:lnTo>
                    <a:pt x="561" y="1950"/>
                  </a:lnTo>
                  <a:lnTo>
                    <a:pt x="561" y="1955"/>
                  </a:lnTo>
                  <a:lnTo>
                    <a:pt x="556" y="1955"/>
                  </a:lnTo>
                  <a:lnTo>
                    <a:pt x="556" y="1962"/>
                  </a:lnTo>
                  <a:lnTo>
                    <a:pt x="551" y="1962"/>
                  </a:lnTo>
                  <a:lnTo>
                    <a:pt x="551" y="1968"/>
                  </a:lnTo>
                  <a:lnTo>
                    <a:pt x="537" y="1968"/>
                  </a:lnTo>
                  <a:lnTo>
                    <a:pt x="537" y="1974"/>
                  </a:lnTo>
                  <a:lnTo>
                    <a:pt x="532" y="1974"/>
                  </a:lnTo>
                  <a:lnTo>
                    <a:pt x="532" y="1979"/>
                  </a:lnTo>
                  <a:lnTo>
                    <a:pt x="523" y="1979"/>
                  </a:lnTo>
                  <a:lnTo>
                    <a:pt x="523" y="1987"/>
                  </a:lnTo>
                  <a:lnTo>
                    <a:pt x="518" y="1987"/>
                  </a:lnTo>
                  <a:lnTo>
                    <a:pt x="518" y="1992"/>
                  </a:lnTo>
                  <a:lnTo>
                    <a:pt x="509" y="1992"/>
                  </a:lnTo>
                  <a:lnTo>
                    <a:pt x="509" y="1998"/>
                  </a:lnTo>
                  <a:lnTo>
                    <a:pt x="499" y="1998"/>
                  </a:lnTo>
                  <a:lnTo>
                    <a:pt x="499" y="2003"/>
                  </a:lnTo>
                  <a:lnTo>
                    <a:pt x="493" y="2003"/>
                  </a:lnTo>
                  <a:lnTo>
                    <a:pt x="493" y="2009"/>
                  </a:lnTo>
                  <a:lnTo>
                    <a:pt x="484" y="2009"/>
                  </a:lnTo>
                  <a:lnTo>
                    <a:pt x="484" y="2014"/>
                  </a:lnTo>
                  <a:lnTo>
                    <a:pt x="479" y="2014"/>
                  </a:lnTo>
                  <a:lnTo>
                    <a:pt x="479" y="2020"/>
                  </a:lnTo>
                  <a:lnTo>
                    <a:pt x="475" y="2020"/>
                  </a:lnTo>
                  <a:lnTo>
                    <a:pt x="475" y="2026"/>
                  </a:lnTo>
                  <a:lnTo>
                    <a:pt x="469" y="2026"/>
                  </a:lnTo>
                  <a:lnTo>
                    <a:pt x="469" y="2033"/>
                  </a:lnTo>
                  <a:lnTo>
                    <a:pt x="465" y="2033"/>
                  </a:lnTo>
                  <a:lnTo>
                    <a:pt x="465" y="2038"/>
                  </a:lnTo>
                  <a:lnTo>
                    <a:pt x="451" y="2038"/>
                  </a:lnTo>
                  <a:lnTo>
                    <a:pt x="451" y="2045"/>
                  </a:lnTo>
                  <a:lnTo>
                    <a:pt x="436" y="2045"/>
                  </a:lnTo>
                  <a:lnTo>
                    <a:pt x="436" y="2056"/>
                  </a:lnTo>
                  <a:lnTo>
                    <a:pt x="427" y="2056"/>
                  </a:lnTo>
                  <a:lnTo>
                    <a:pt x="427" y="2061"/>
                  </a:lnTo>
                  <a:lnTo>
                    <a:pt x="407" y="2061"/>
                  </a:lnTo>
                  <a:lnTo>
                    <a:pt x="407" y="2068"/>
                  </a:lnTo>
                  <a:lnTo>
                    <a:pt x="402" y="2068"/>
                  </a:lnTo>
                  <a:lnTo>
                    <a:pt x="402" y="2074"/>
                  </a:lnTo>
                  <a:lnTo>
                    <a:pt x="388" y="2074"/>
                  </a:lnTo>
                  <a:lnTo>
                    <a:pt x="388" y="2079"/>
                  </a:lnTo>
                  <a:lnTo>
                    <a:pt x="379" y="2079"/>
                  </a:lnTo>
                  <a:lnTo>
                    <a:pt x="379" y="2086"/>
                  </a:lnTo>
                  <a:lnTo>
                    <a:pt x="374" y="2086"/>
                  </a:lnTo>
                  <a:lnTo>
                    <a:pt x="374" y="2091"/>
                  </a:lnTo>
                  <a:lnTo>
                    <a:pt x="369" y="2091"/>
                  </a:lnTo>
                  <a:lnTo>
                    <a:pt x="369" y="2098"/>
                  </a:lnTo>
                  <a:lnTo>
                    <a:pt x="359" y="2098"/>
                  </a:lnTo>
                  <a:lnTo>
                    <a:pt x="359" y="2091"/>
                  </a:lnTo>
                  <a:lnTo>
                    <a:pt x="355" y="2091"/>
                  </a:lnTo>
                  <a:lnTo>
                    <a:pt x="355" y="2086"/>
                  </a:lnTo>
                  <a:lnTo>
                    <a:pt x="335" y="2086"/>
                  </a:lnTo>
                  <a:lnTo>
                    <a:pt x="335" y="2079"/>
                  </a:lnTo>
                  <a:lnTo>
                    <a:pt x="331" y="2079"/>
                  </a:lnTo>
                  <a:lnTo>
                    <a:pt x="331" y="2074"/>
                  </a:lnTo>
                  <a:lnTo>
                    <a:pt x="325" y="2074"/>
                  </a:lnTo>
                  <a:lnTo>
                    <a:pt x="325" y="2050"/>
                  </a:lnTo>
                  <a:lnTo>
                    <a:pt x="331" y="2050"/>
                  </a:lnTo>
                  <a:lnTo>
                    <a:pt x="331" y="2038"/>
                  </a:lnTo>
                  <a:lnTo>
                    <a:pt x="340" y="2038"/>
                  </a:lnTo>
                  <a:lnTo>
                    <a:pt x="340" y="2033"/>
                  </a:lnTo>
                  <a:lnTo>
                    <a:pt x="351" y="2033"/>
                  </a:lnTo>
                  <a:lnTo>
                    <a:pt x="351" y="2026"/>
                  </a:lnTo>
                  <a:lnTo>
                    <a:pt x="355" y="2026"/>
                  </a:lnTo>
                  <a:lnTo>
                    <a:pt x="355" y="2020"/>
                  </a:lnTo>
                  <a:lnTo>
                    <a:pt x="365" y="2020"/>
                  </a:lnTo>
                  <a:lnTo>
                    <a:pt x="365" y="2014"/>
                  </a:lnTo>
                  <a:lnTo>
                    <a:pt x="369" y="2014"/>
                  </a:lnTo>
                  <a:lnTo>
                    <a:pt x="369" y="2009"/>
                  </a:lnTo>
                  <a:lnTo>
                    <a:pt x="379" y="2009"/>
                  </a:lnTo>
                  <a:lnTo>
                    <a:pt x="379" y="2003"/>
                  </a:lnTo>
                  <a:lnTo>
                    <a:pt x="384" y="2003"/>
                  </a:lnTo>
                  <a:lnTo>
                    <a:pt x="384" y="1998"/>
                  </a:lnTo>
                  <a:lnTo>
                    <a:pt x="398" y="1998"/>
                  </a:lnTo>
                  <a:lnTo>
                    <a:pt x="398" y="1992"/>
                  </a:lnTo>
                  <a:lnTo>
                    <a:pt x="412" y="1992"/>
                  </a:lnTo>
                  <a:lnTo>
                    <a:pt x="412" y="1987"/>
                  </a:lnTo>
                  <a:lnTo>
                    <a:pt x="422" y="1987"/>
                  </a:lnTo>
                  <a:lnTo>
                    <a:pt x="422" y="1979"/>
                  </a:lnTo>
                  <a:lnTo>
                    <a:pt x="427" y="1979"/>
                  </a:lnTo>
                  <a:lnTo>
                    <a:pt x="427" y="1974"/>
                  </a:lnTo>
                  <a:lnTo>
                    <a:pt x="432" y="1974"/>
                  </a:lnTo>
                  <a:lnTo>
                    <a:pt x="432" y="1968"/>
                  </a:lnTo>
                  <a:lnTo>
                    <a:pt x="442" y="1968"/>
                  </a:lnTo>
                  <a:lnTo>
                    <a:pt x="442" y="1962"/>
                  </a:lnTo>
                  <a:lnTo>
                    <a:pt x="451" y="1962"/>
                  </a:lnTo>
                  <a:lnTo>
                    <a:pt x="451" y="1955"/>
                  </a:lnTo>
                  <a:lnTo>
                    <a:pt x="460" y="1955"/>
                  </a:lnTo>
                  <a:lnTo>
                    <a:pt x="460" y="1950"/>
                  </a:lnTo>
                  <a:lnTo>
                    <a:pt x="465" y="1950"/>
                  </a:lnTo>
                  <a:lnTo>
                    <a:pt x="465" y="1944"/>
                  </a:lnTo>
                  <a:lnTo>
                    <a:pt x="475" y="1944"/>
                  </a:lnTo>
                  <a:lnTo>
                    <a:pt x="475" y="1938"/>
                  </a:lnTo>
                  <a:lnTo>
                    <a:pt x="479" y="1938"/>
                  </a:lnTo>
                  <a:lnTo>
                    <a:pt x="479" y="1933"/>
                  </a:lnTo>
                  <a:lnTo>
                    <a:pt x="484" y="1933"/>
                  </a:lnTo>
                  <a:lnTo>
                    <a:pt x="484" y="1927"/>
                  </a:lnTo>
                  <a:lnTo>
                    <a:pt x="489" y="1927"/>
                  </a:lnTo>
                  <a:lnTo>
                    <a:pt x="489" y="1920"/>
                  </a:lnTo>
                  <a:lnTo>
                    <a:pt x="493" y="1920"/>
                  </a:lnTo>
                  <a:lnTo>
                    <a:pt x="493" y="1914"/>
                  </a:lnTo>
                  <a:lnTo>
                    <a:pt x="503" y="1914"/>
                  </a:lnTo>
                  <a:lnTo>
                    <a:pt x="503" y="1909"/>
                  </a:lnTo>
                  <a:lnTo>
                    <a:pt x="509" y="1909"/>
                  </a:lnTo>
                  <a:lnTo>
                    <a:pt x="509" y="1902"/>
                  </a:lnTo>
                  <a:lnTo>
                    <a:pt x="518" y="1902"/>
                  </a:lnTo>
                  <a:lnTo>
                    <a:pt x="518" y="1897"/>
                  </a:lnTo>
                  <a:lnTo>
                    <a:pt x="523" y="1897"/>
                  </a:lnTo>
                  <a:lnTo>
                    <a:pt x="523" y="1892"/>
                  </a:lnTo>
                  <a:lnTo>
                    <a:pt x="528" y="1892"/>
                  </a:lnTo>
                  <a:lnTo>
                    <a:pt x="528" y="1884"/>
                  </a:lnTo>
                  <a:lnTo>
                    <a:pt x="542" y="1884"/>
                  </a:lnTo>
                  <a:lnTo>
                    <a:pt x="542" y="1879"/>
                  </a:lnTo>
                  <a:lnTo>
                    <a:pt x="551" y="1879"/>
                  </a:lnTo>
                  <a:lnTo>
                    <a:pt x="551" y="1873"/>
                  </a:lnTo>
                  <a:lnTo>
                    <a:pt x="561" y="1873"/>
                  </a:lnTo>
                  <a:lnTo>
                    <a:pt x="561" y="1868"/>
                  </a:lnTo>
                  <a:lnTo>
                    <a:pt x="565" y="1868"/>
                  </a:lnTo>
                  <a:lnTo>
                    <a:pt x="565" y="1860"/>
                  </a:lnTo>
                  <a:lnTo>
                    <a:pt x="576" y="1860"/>
                  </a:lnTo>
                  <a:lnTo>
                    <a:pt x="576" y="1855"/>
                  </a:lnTo>
                  <a:lnTo>
                    <a:pt x="580" y="1855"/>
                  </a:lnTo>
                  <a:lnTo>
                    <a:pt x="580" y="1849"/>
                  </a:lnTo>
                  <a:lnTo>
                    <a:pt x="590" y="1849"/>
                  </a:lnTo>
                  <a:lnTo>
                    <a:pt x="590" y="1843"/>
                  </a:lnTo>
                  <a:lnTo>
                    <a:pt x="605" y="1843"/>
                  </a:lnTo>
                  <a:lnTo>
                    <a:pt x="605" y="1838"/>
                  </a:lnTo>
                  <a:lnTo>
                    <a:pt x="609" y="1838"/>
                  </a:lnTo>
                  <a:lnTo>
                    <a:pt x="609" y="1832"/>
                  </a:lnTo>
                  <a:lnTo>
                    <a:pt x="619" y="1832"/>
                  </a:lnTo>
                  <a:lnTo>
                    <a:pt x="619" y="1826"/>
                  </a:lnTo>
                  <a:lnTo>
                    <a:pt x="628" y="1826"/>
                  </a:lnTo>
                  <a:lnTo>
                    <a:pt x="628" y="1819"/>
                  </a:lnTo>
                  <a:lnTo>
                    <a:pt x="633" y="1819"/>
                  </a:lnTo>
                  <a:lnTo>
                    <a:pt x="633" y="1814"/>
                  </a:lnTo>
                  <a:lnTo>
                    <a:pt x="638" y="1814"/>
                  </a:lnTo>
                  <a:lnTo>
                    <a:pt x="638" y="1808"/>
                  </a:lnTo>
                  <a:lnTo>
                    <a:pt x="643" y="1808"/>
                  </a:lnTo>
                  <a:lnTo>
                    <a:pt x="643" y="1802"/>
                  </a:lnTo>
                  <a:lnTo>
                    <a:pt x="648" y="1802"/>
                  </a:lnTo>
                  <a:lnTo>
                    <a:pt x="648" y="1796"/>
                  </a:lnTo>
                  <a:lnTo>
                    <a:pt x="658" y="1796"/>
                  </a:lnTo>
                  <a:lnTo>
                    <a:pt x="658" y="1791"/>
                  </a:lnTo>
                  <a:lnTo>
                    <a:pt x="662" y="1791"/>
                  </a:lnTo>
                  <a:lnTo>
                    <a:pt x="662" y="1784"/>
                  </a:lnTo>
                  <a:lnTo>
                    <a:pt x="672" y="1784"/>
                  </a:lnTo>
                  <a:lnTo>
                    <a:pt x="672" y="1778"/>
                  </a:lnTo>
                  <a:lnTo>
                    <a:pt x="676" y="1778"/>
                  </a:lnTo>
                  <a:lnTo>
                    <a:pt x="676" y="1773"/>
                  </a:lnTo>
                  <a:lnTo>
                    <a:pt x="686" y="1773"/>
                  </a:lnTo>
                  <a:lnTo>
                    <a:pt x="686" y="1767"/>
                  </a:lnTo>
                  <a:lnTo>
                    <a:pt x="695" y="1767"/>
                  </a:lnTo>
                  <a:lnTo>
                    <a:pt x="695" y="1761"/>
                  </a:lnTo>
                  <a:lnTo>
                    <a:pt x="705" y="1761"/>
                  </a:lnTo>
                  <a:lnTo>
                    <a:pt x="705" y="1754"/>
                  </a:lnTo>
                  <a:lnTo>
                    <a:pt x="709" y="1754"/>
                  </a:lnTo>
                  <a:lnTo>
                    <a:pt x="709" y="1749"/>
                  </a:lnTo>
                  <a:lnTo>
                    <a:pt x="720" y="1749"/>
                  </a:lnTo>
                  <a:lnTo>
                    <a:pt x="720" y="1743"/>
                  </a:lnTo>
                  <a:lnTo>
                    <a:pt x="730" y="1743"/>
                  </a:lnTo>
                  <a:lnTo>
                    <a:pt x="730" y="1737"/>
                  </a:lnTo>
                  <a:lnTo>
                    <a:pt x="734" y="1737"/>
                  </a:lnTo>
                  <a:lnTo>
                    <a:pt x="734" y="1732"/>
                  </a:lnTo>
                  <a:lnTo>
                    <a:pt x="743" y="1732"/>
                  </a:lnTo>
                  <a:lnTo>
                    <a:pt x="743" y="1724"/>
                  </a:lnTo>
                  <a:lnTo>
                    <a:pt x="753" y="1724"/>
                  </a:lnTo>
                  <a:lnTo>
                    <a:pt x="753" y="1719"/>
                  </a:lnTo>
                  <a:lnTo>
                    <a:pt x="763" y="1719"/>
                  </a:lnTo>
                  <a:lnTo>
                    <a:pt x="763" y="1713"/>
                  </a:lnTo>
                  <a:lnTo>
                    <a:pt x="767" y="1713"/>
                  </a:lnTo>
                  <a:lnTo>
                    <a:pt x="767" y="1707"/>
                  </a:lnTo>
                  <a:lnTo>
                    <a:pt x="777" y="1707"/>
                  </a:lnTo>
                  <a:lnTo>
                    <a:pt x="777" y="1701"/>
                  </a:lnTo>
                  <a:lnTo>
                    <a:pt x="787" y="1701"/>
                  </a:lnTo>
                  <a:lnTo>
                    <a:pt x="787" y="1696"/>
                  </a:lnTo>
                  <a:lnTo>
                    <a:pt x="792" y="1696"/>
                  </a:lnTo>
                  <a:lnTo>
                    <a:pt x="792" y="1691"/>
                  </a:lnTo>
                  <a:lnTo>
                    <a:pt x="806" y="1691"/>
                  </a:lnTo>
                  <a:lnTo>
                    <a:pt x="806" y="1683"/>
                  </a:lnTo>
                  <a:lnTo>
                    <a:pt x="820" y="1683"/>
                  </a:lnTo>
                  <a:lnTo>
                    <a:pt x="820" y="1678"/>
                  </a:lnTo>
                  <a:lnTo>
                    <a:pt x="825" y="1678"/>
                  </a:lnTo>
                  <a:lnTo>
                    <a:pt x="825" y="1672"/>
                  </a:lnTo>
                  <a:lnTo>
                    <a:pt x="834" y="1672"/>
                  </a:lnTo>
                  <a:lnTo>
                    <a:pt x="834" y="1666"/>
                  </a:lnTo>
                  <a:lnTo>
                    <a:pt x="839" y="1666"/>
                  </a:lnTo>
                  <a:lnTo>
                    <a:pt x="839" y="1660"/>
                  </a:lnTo>
                  <a:lnTo>
                    <a:pt x="849" y="1660"/>
                  </a:lnTo>
                  <a:lnTo>
                    <a:pt x="849" y="1655"/>
                  </a:lnTo>
                  <a:lnTo>
                    <a:pt x="864" y="1655"/>
                  </a:lnTo>
                  <a:lnTo>
                    <a:pt x="864" y="1648"/>
                  </a:lnTo>
                  <a:lnTo>
                    <a:pt x="869" y="1648"/>
                  </a:lnTo>
                  <a:lnTo>
                    <a:pt x="869" y="1637"/>
                  </a:lnTo>
                  <a:lnTo>
                    <a:pt x="878" y="1637"/>
                  </a:lnTo>
                  <a:lnTo>
                    <a:pt x="878" y="1631"/>
                  </a:lnTo>
                  <a:lnTo>
                    <a:pt x="883" y="1631"/>
                  </a:lnTo>
                  <a:lnTo>
                    <a:pt x="883" y="1625"/>
                  </a:lnTo>
                  <a:lnTo>
                    <a:pt x="887" y="1625"/>
                  </a:lnTo>
                  <a:lnTo>
                    <a:pt x="887" y="1618"/>
                  </a:lnTo>
                  <a:lnTo>
                    <a:pt x="902" y="1618"/>
                  </a:lnTo>
                  <a:lnTo>
                    <a:pt x="902" y="1613"/>
                  </a:lnTo>
                  <a:lnTo>
                    <a:pt x="907" y="1613"/>
                  </a:lnTo>
                  <a:lnTo>
                    <a:pt x="907" y="1606"/>
                  </a:lnTo>
                  <a:lnTo>
                    <a:pt x="916" y="1606"/>
                  </a:lnTo>
                  <a:lnTo>
                    <a:pt x="916" y="1601"/>
                  </a:lnTo>
                  <a:lnTo>
                    <a:pt x="921" y="1601"/>
                  </a:lnTo>
                  <a:lnTo>
                    <a:pt x="921" y="1595"/>
                  </a:lnTo>
                  <a:lnTo>
                    <a:pt x="936" y="1595"/>
                  </a:lnTo>
                  <a:lnTo>
                    <a:pt x="936" y="1590"/>
                  </a:lnTo>
                  <a:lnTo>
                    <a:pt x="946" y="1590"/>
                  </a:lnTo>
                  <a:lnTo>
                    <a:pt x="946" y="1583"/>
                  </a:lnTo>
                  <a:lnTo>
                    <a:pt x="950" y="1583"/>
                  </a:lnTo>
                  <a:lnTo>
                    <a:pt x="950" y="1578"/>
                  </a:lnTo>
                  <a:lnTo>
                    <a:pt x="956" y="1578"/>
                  </a:lnTo>
                  <a:lnTo>
                    <a:pt x="956" y="1572"/>
                  </a:lnTo>
                  <a:lnTo>
                    <a:pt x="964" y="1572"/>
                  </a:lnTo>
                  <a:lnTo>
                    <a:pt x="964" y="1566"/>
                  </a:lnTo>
                  <a:lnTo>
                    <a:pt x="974" y="1566"/>
                  </a:lnTo>
                  <a:lnTo>
                    <a:pt x="974" y="1560"/>
                  </a:lnTo>
                  <a:lnTo>
                    <a:pt x="989" y="1560"/>
                  </a:lnTo>
                  <a:lnTo>
                    <a:pt x="989" y="1555"/>
                  </a:lnTo>
                  <a:lnTo>
                    <a:pt x="993" y="1555"/>
                  </a:lnTo>
                  <a:lnTo>
                    <a:pt x="993" y="1547"/>
                  </a:lnTo>
                  <a:lnTo>
                    <a:pt x="1004" y="1547"/>
                  </a:lnTo>
                  <a:lnTo>
                    <a:pt x="1004" y="1542"/>
                  </a:lnTo>
                  <a:lnTo>
                    <a:pt x="1008" y="1542"/>
                  </a:lnTo>
                  <a:lnTo>
                    <a:pt x="1008" y="1536"/>
                  </a:lnTo>
                  <a:lnTo>
                    <a:pt x="1018" y="1536"/>
                  </a:lnTo>
                  <a:lnTo>
                    <a:pt x="1018" y="1530"/>
                  </a:lnTo>
                  <a:lnTo>
                    <a:pt x="1032" y="1530"/>
                  </a:lnTo>
                  <a:lnTo>
                    <a:pt x="1032" y="1525"/>
                  </a:lnTo>
                  <a:lnTo>
                    <a:pt x="1037" y="1525"/>
                  </a:lnTo>
                  <a:lnTo>
                    <a:pt x="1037" y="1519"/>
                  </a:lnTo>
                  <a:lnTo>
                    <a:pt x="1046" y="1519"/>
                  </a:lnTo>
                  <a:lnTo>
                    <a:pt x="1046" y="1514"/>
                  </a:lnTo>
                  <a:lnTo>
                    <a:pt x="1060" y="1514"/>
                  </a:lnTo>
                  <a:lnTo>
                    <a:pt x="1060" y="1506"/>
                  </a:lnTo>
                  <a:lnTo>
                    <a:pt x="1065" y="1506"/>
                  </a:lnTo>
                  <a:lnTo>
                    <a:pt x="1065" y="1501"/>
                  </a:lnTo>
                  <a:lnTo>
                    <a:pt x="1070" y="1501"/>
                  </a:lnTo>
                  <a:lnTo>
                    <a:pt x="1070" y="1495"/>
                  </a:lnTo>
                  <a:lnTo>
                    <a:pt x="1080" y="1495"/>
                  </a:lnTo>
                  <a:lnTo>
                    <a:pt x="1080" y="1489"/>
                  </a:lnTo>
                  <a:lnTo>
                    <a:pt x="1090" y="1489"/>
                  </a:lnTo>
                  <a:lnTo>
                    <a:pt x="1090" y="1482"/>
                  </a:lnTo>
                  <a:lnTo>
                    <a:pt x="1099" y="1482"/>
                  </a:lnTo>
                  <a:lnTo>
                    <a:pt x="1099" y="1477"/>
                  </a:lnTo>
                  <a:lnTo>
                    <a:pt x="1104" y="1477"/>
                  </a:lnTo>
                  <a:lnTo>
                    <a:pt x="1104" y="1471"/>
                  </a:lnTo>
                  <a:lnTo>
                    <a:pt x="1114" y="1471"/>
                  </a:lnTo>
                  <a:lnTo>
                    <a:pt x="1114" y="1465"/>
                  </a:lnTo>
                  <a:lnTo>
                    <a:pt x="1118" y="1465"/>
                  </a:lnTo>
                  <a:lnTo>
                    <a:pt x="1118" y="1460"/>
                  </a:lnTo>
                  <a:lnTo>
                    <a:pt x="1132" y="1460"/>
                  </a:lnTo>
                  <a:lnTo>
                    <a:pt x="1132" y="1454"/>
                  </a:lnTo>
                  <a:lnTo>
                    <a:pt x="1137" y="1454"/>
                  </a:lnTo>
                  <a:lnTo>
                    <a:pt x="1137" y="1447"/>
                  </a:lnTo>
                  <a:lnTo>
                    <a:pt x="1148" y="1447"/>
                  </a:lnTo>
                  <a:lnTo>
                    <a:pt x="1148" y="1441"/>
                  </a:lnTo>
                  <a:lnTo>
                    <a:pt x="1157" y="1441"/>
                  </a:lnTo>
                  <a:lnTo>
                    <a:pt x="1157" y="1436"/>
                  </a:lnTo>
                  <a:lnTo>
                    <a:pt x="1167" y="1436"/>
                  </a:lnTo>
                  <a:lnTo>
                    <a:pt x="1167" y="1429"/>
                  </a:lnTo>
                  <a:lnTo>
                    <a:pt x="1171" y="1429"/>
                  </a:lnTo>
                  <a:lnTo>
                    <a:pt x="1171" y="1424"/>
                  </a:lnTo>
                  <a:lnTo>
                    <a:pt x="1195" y="1424"/>
                  </a:lnTo>
                  <a:lnTo>
                    <a:pt x="1195" y="1419"/>
                  </a:lnTo>
                  <a:lnTo>
                    <a:pt x="1209" y="1419"/>
                  </a:lnTo>
                  <a:lnTo>
                    <a:pt x="1209" y="1411"/>
                  </a:lnTo>
                  <a:lnTo>
                    <a:pt x="1219" y="1411"/>
                  </a:lnTo>
                  <a:lnTo>
                    <a:pt x="1219" y="1406"/>
                  </a:lnTo>
                  <a:lnTo>
                    <a:pt x="1224" y="1406"/>
                  </a:lnTo>
                  <a:lnTo>
                    <a:pt x="1224" y="1400"/>
                  </a:lnTo>
                  <a:lnTo>
                    <a:pt x="1234" y="1400"/>
                  </a:lnTo>
                  <a:lnTo>
                    <a:pt x="1234" y="1395"/>
                  </a:lnTo>
                  <a:lnTo>
                    <a:pt x="1244" y="1395"/>
                  </a:lnTo>
                  <a:lnTo>
                    <a:pt x="1244" y="1388"/>
                  </a:lnTo>
                  <a:lnTo>
                    <a:pt x="1248" y="1388"/>
                  </a:lnTo>
                  <a:lnTo>
                    <a:pt x="1248" y="1383"/>
                  </a:lnTo>
                  <a:lnTo>
                    <a:pt x="1258" y="1383"/>
                  </a:lnTo>
                  <a:lnTo>
                    <a:pt x="1258" y="1376"/>
                  </a:lnTo>
                  <a:lnTo>
                    <a:pt x="1262" y="1376"/>
                  </a:lnTo>
                  <a:lnTo>
                    <a:pt x="1262" y="1370"/>
                  </a:lnTo>
                  <a:lnTo>
                    <a:pt x="1271" y="1370"/>
                  </a:lnTo>
                  <a:lnTo>
                    <a:pt x="1271" y="1365"/>
                  </a:lnTo>
                  <a:lnTo>
                    <a:pt x="1277" y="1365"/>
                  </a:lnTo>
                  <a:lnTo>
                    <a:pt x="1277" y="1359"/>
                  </a:lnTo>
                  <a:lnTo>
                    <a:pt x="1292" y="1359"/>
                  </a:lnTo>
                  <a:lnTo>
                    <a:pt x="1292" y="1353"/>
                  </a:lnTo>
                  <a:lnTo>
                    <a:pt x="1297" y="1353"/>
                  </a:lnTo>
                  <a:lnTo>
                    <a:pt x="1297" y="1346"/>
                  </a:lnTo>
                  <a:lnTo>
                    <a:pt x="1311" y="1346"/>
                  </a:lnTo>
                  <a:lnTo>
                    <a:pt x="1311" y="1341"/>
                  </a:lnTo>
                  <a:lnTo>
                    <a:pt x="1320" y="1341"/>
                  </a:lnTo>
                  <a:lnTo>
                    <a:pt x="1320" y="1335"/>
                  </a:lnTo>
                  <a:lnTo>
                    <a:pt x="1330" y="1335"/>
                  </a:lnTo>
                  <a:lnTo>
                    <a:pt x="1330" y="1329"/>
                  </a:lnTo>
                  <a:lnTo>
                    <a:pt x="1344" y="1329"/>
                  </a:lnTo>
                  <a:lnTo>
                    <a:pt x="1344" y="1324"/>
                  </a:lnTo>
                  <a:lnTo>
                    <a:pt x="1354" y="1324"/>
                  </a:lnTo>
                  <a:lnTo>
                    <a:pt x="1354" y="1318"/>
                  </a:lnTo>
                  <a:lnTo>
                    <a:pt x="1364" y="1318"/>
                  </a:lnTo>
                  <a:lnTo>
                    <a:pt x="1364" y="1311"/>
                  </a:lnTo>
                  <a:lnTo>
                    <a:pt x="1368" y="1311"/>
                  </a:lnTo>
                  <a:lnTo>
                    <a:pt x="1368" y="1305"/>
                  </a:lnTo>
                  <a:lnTo>
                    <a:pt x="1378" y="1305"/>
                  </a:lnTo>
                  <a:lnTo>
                    <a:pt x="1378" y="1300"/>
                  </a:lnTo>
                  <a:lnTo>
                    <a:pt x="1382" y="1300"/>
                  </a:lnTo>
                  <a:lnTo>
                    <a:pt x="1382" y="1294"/>
                  </a:lnTo>
                  <a:lnTo>
                    <a:pt x="1388" y="1294"/>
                  </a:lnTo>
                  <a:lnTo>
                    <a:pt x="1388" y="1288"/>
                  </a:lnTo>
                  <a:lnTo>
                    <a:pt x="1397" y="1288"/>
                  </a:lnTo>
                  <a:lnTo>
                    <a:pt x="1397" y="1281"/>
                  </a:lnTo>
                  <a:lnTo>
                    <a:pt x="1407" y="1281"/>
                  </a:lnTo>
                  <a:lnTo>
                    <a:pt x="1407" y="1276"/>
                  </a:lnTo>
                  <a:lnTo>
                    <a:pt x="1411" y="1276"/>
                  </a:lnTo>
                  <a:lnTo>
                    <a:pt x="1411" y="1270"/>
                  </a:lnTo>
                  <a:lnTo>
                    <a:pt x="1421" y="1270"/>
                  </a:lnTo>
                  <a:lnTo>
                    <a:pt x="1421" y="1264"/>
                  </a:lnTo>
                  <a:lnTo>
                    <a:pt x="1425" y="1264"/>
                  </a:lnTo>
                  <a:lnTo>
                    <a:pt x="1425" y="1259"/>
                  </a:lnTo>
                  <a:lnTo>
                    <a:pt x="1436" y="1259"/>
                  </a:lnTo>
                  <a:lnTo>
                    <a:pt x="1436" y="1252"/>
                  </a:lnTo>
                  <a:lnTo>
                    <a:pt x="1445" y="1252"/>
                  </a:lnTo>
                  <a:lnTo>
                    <a:pt x="1445" y="1247"/>
                  </a:lnTo>
                  <a:lnTo>
                    <a:pt x="1450" y="1247"/>
                  </a:lnTo>
                  <a:lnTo>
                    <a:pt x="1450" y="1240"/>
                  </a:lnTo>
                  <a:lnTo>
                    <a:pt x="1464" y="1240"/>
                  </a:lnTo>
                  <a:lnTo>
                    <a:pt x="1464" y="1234"/>
                  </a:lnTo>
                  <a:lnTo>
                    <a:pt x="1469" y="1234"/>
                  </a:lnTo>
                  <a:lnTo>
                    <a:pt x="1469" y="1228"/>
                  </a:lnTo>
                  <a:lnTo>
                    <a:pt x="1473" y="1228"/>
                  </a:lnTo>
                  <a:lnTo>
                    <a:pt x="1473" y="1223"/>
                  </a:lnTo>
                  <a:lnTo>
                    <a:pt x="1492" y="1223"/>
                  </a:lnTo>
                  <a:lnTo>
                    <a:pt x="1492" y="1218"/>
                  </a:lnTo>
                  <a:lnTo>
                    <a:pt x="1498" y="1218"/>
                  </a:lnTo>
                  <a:lnTo>
                    <a:pt x="1498" y="1210"/>
                  </a:lnTo>
                  <a:lnTo>
                    <a:pt x="1507" y="1210"/>
                  </a:lnTo>
                  <a:lnTo>
                    <a:pt x="1507" y="1205"/>
                  </a:lnTo>
                  <a:lnTo>
                    <a:pt x="1512" y="1205"/>
                  </a:lnTo>
                  <a:lnTo>
                    <a:pt x="1512" y="1182"/>
                  </a:lnTo>
                  <a:lnTo>
                    <a:pt x="1502" y="1182"/>
                  </a:lnTo>
                  <a:lnTo>
                    <a:pt x="1502" y="1175"/>
                  </a:lnTo>
                  <a:lnTo>
                    <a:pt x="1492" y="1175"/>
                  </a:lnTo>
                  <a:lnTo>
                    <a:pt x="1492" y="1169"/>
                  </a:lnTo>
                  <a:lnTo>
                    <a:pt x="1478" y="1169"/>
                  </a:lnTo>
                  <a:lnTo>
                    <a:pt x="1478" y="1164"/>
                  </a:lnTo>
                  <a:lnTo>
                    <a:pt x="1473" y="1164"/>
                  </a:lnTo>
                  <a:lnTo>
                    <a:pt x="1473" y="1158"/>
                  </a:lnTo>
                  <a:lnTo>
                    <a:pt x="1459" y="1158"/>
                  </a:lnTo>
                  <a:lnTo>
                    <a:pt x="1459" y="1152"/>
                  </a:lnTo>
                  <a:lnTo>
                    <a:pt x="1455" y="1152"/>
                  </a:lnTo>
                  <a:lnTo>
                    <a:pt x="1455" y="1147"/>
                  </a:lnTo>
                  <a:lnTo>
                    <a:pt x="1450" y="1147"/>
                  </a:lnTo>
                  <a:lnTo>
                    <a:pt x="1450" y="1134"/>
                  </a:lnTo>
                  <a:lnTo>
                    <a:pt x="1445" y="1134"/>
                  </a:lnTo>
                  <a:lnTo>
                    <a:pt x="1445" y="1128"/>
                  </a:lnTo>
                  <a:lnTo>
                    <a:pt x="1436" y="1128"/>
                  </a:lnTo>
                  <a:lnTo>
                    <a:pt x="1436" y="1123"/>
                  </a:lnTo>
                  <a:lnTo>
                    <a:pt x="1430" y="1123"/>
                  </a:lnTo>
                  <a:lnTo>
                    <a:pt x="1430" y="1117"/>
                  </a:lnTo>
                  <a:lnTo>
                    <a:pt x="1425" y="1117"/>
                  </a:lnTo>
                  <a:lnTo>
                    <a:pt x="1425" y="1111"/>
                  </a:lnTo>
                  <a:lnTo>
                    <a:pt x="1421" y="1111"/>
                  </a:lnTo>
                  <a:lnTo>
                    <a:pt x="1421" y="1106"/>
                  </a:lnTo>
                  <a:lnTo>
                    <a:pt x="1416" y="1106"/>
                  </a:lnTo>
                  <a:lnTo>
                    <a:pt x="1416" y="1099"/>
                  </a:lnTo>
                  <a:lnTo>
                    <a:pt x="1411" y="1099"/>
                  </a:lnTo>
                  <a:lnTo>
                    <a:pt x="1411" y="1093"/>
                  </a:lnTo>
                  <a:lnTo>
                    <a:pt x="1407" y="1093"/>
                  </a:lnTo>
                  <a:lnTo>
                    <a:pt x="1407" y="1087"/>
                  </a:lnTo>
                  <a:lnTo>
                    <a:pt x="1397" y="1087"/>
                  </a:lnTo>
                  <a:lnTo>
                    <a:pt x="1397" y="1082"/>
                  </a:lnTo>
                  <a:lnTo>
                    <a:pt x="1392" y="1082"/>
                  </a:lnTo>
                  <a:lnTo>
                    <a:pt x="1392" y="1074"/>
                  </a:lnTo>
                  <a:lnTo>
                    <a:pt x="1388" y="1074"/>
                  </a:lnTo>
                  <a:lnTo>
                    <a:pt x="1388" y="1069"/>
                  </a:lnTo>
                  <a:lnTo>
                    <a:pt x="1382" y="1069"/>
                  </a:lnTo>
                  <a:lnTo>
                    <a:pt x="1382" y="1063"/>
                  </a:lnTo>
                  <a:lnTo>
                    <a:pt x="1378" y="1063"/>
                  </a:lnTo>
                  <a:lnTo>
                    <a:pt x="1378" y="1057"/>
                  </a:lnTo>
                  <a:lnTo>
                    <a:pt x="1374" y="1057"/>
                  </a:lnTo>
                  <a:lnTo>
                    <a:pt x="1374" y="1052"/>
                  </a:lnTo>
                  <a:lnTo>
                    <a:pt x="1368" y="1052"/>
                  </a:lnTo>
                  <a:lnTo>
                    <a:pt x="1368" y="1046"/>
                  </a:lnTo>
                  <a:lnTo>
                    <a:pt x="1364" y="1046"/>
                  </a:lnTo>
                  <a:lnTo>
                    <a:pt x="1364" y="1041"/>
                  </a:lnTo>
                  <a:lnTo>
                    <a:pt x="1358" y="1041"/>
                  </a:lnTo>
                  <a:lnTo>
                    <a:pt x="1358" y="1033"/>
                  </a:lnTo>
                  <a:lnTo>
                    <a:pt x="1354" y="1033"/>
                  </a:lnTo>
                  <a:lnTo>
                    <a:pt x="1354" y="1028"/>
                  </a:lnTo>
                  <a:lnTo>
                    <a:pt x="1344" y="1028"/>
                  </a:lnTo>
                  <a:lnTo>
                    <a:pt x="1344" y="1022"/>
                  </a:lnTo>
                  <a:lnTo>
                    <a:pt x="1334" y="1022"/>
                  </a:lnTo>
                  <a:lnTo>
                    <a:pt x="1334" y="1016"/>
                  </a:lnTo>
                  <a:lnTo>
                    <a:pt x="1330" y="1016"/>
                  </a:lnTo>
                  <a:lnTo>
                    <a:pt x="1330" y="1009"/>
                  </a:lnTo>
                  <a:lnTo>
                    <a:pt x="1325" y="1009"/>
                  </a:lnTo>
                  <a:lnTo>
                    <a:pt x="1325" y="1004"/>
                  </a:lnTo>
                  <a:lnTo>
                    <a:pt x="1320" y="1004"/>
                  </a:lnTo>
                  <a:lnTo>
                    <a:pt x="1320" y="998"/>
                  </a:lnTo>
                  <a:lnTo>
                    <a:pt x="1315" y="998"/>
                  </a:lnTo>
                  <a:lnTo>
                    <a:pt x="1315" y="992"/>
                  </a:lnTo>
                  <a:lnTo>
                    <a:pt x="1306" y="992"/>
                  </a:lnTo>
                  <a:lnTo>
                    <a:pt x="1306" y="987"/>
                  </a:lnTo>
                  <a:lnTo>
                    <a:pt x="1301" y="987"/>
                  </a:lnTo>
                  <a:lnTo>
                    <a:pt x="1301" y="968"/>
                  </a:lnTo>
                  <a:lnTo>
                    <a:pt x="1297" y="968"/>
                  </a:lnTo>
                  <a:lnTo>
                    <a:pt x="1297" y="963"/>
                  </a:lnTo>
                  <a:lnTo>
                    <a:pt x="1286" y="963"/>
                  </a:lnTo>
                  <a:lnTo>
                    <a:pt x="1286" y="957"/>
                  </a:lnTo>
                  <a:lnTo>
                    <a:pt x="1281" y="957"/>
                  </a:lnTo>
                  <a:lnTo>
                    <a:pt x="1281" y="951"/>
                  </a:lnTo>
                  <a:lnTo>
                    <a:pt x="1277" y="951"/>
                  </a:lnTo>
                  <a:lnTo>
                    <a:pt x="1277" y="946"/>
                  </a:lnTo>
                  <a:lnTo>
                    <a:pt x="1271" y="946"/>
                  </a:lnTo>
                  <a:lnTo>
                    <a:pt x="1271" y="938"/>
                  </a:lnTo>
                  <a:lnTo>
                    <a:pt x="1267" y="938"/>
                  </a:lnTo>
                  <a:lnTo>
                    <a:pt x="1267" y="927"/>
                  </a:lnTo>
                  <a:lnTo>
                    <a:pt x="1262" y="927"/>
                  </a:lnTo>
                  <a:lnTo>
                    <a:pt x="1262" y="922"/>
                  </a:lnTo>
                  <a:lnTo>
                    <a:pt x="1258" y="922"/>
                  </a:lnTo>
                  <a:lnTo>
                    <a:pt x="1258" y="915"/>
                  </a:lnTo>
                  <a:lnTo>
                    <a:pt x="1253" y="915"/>
                  </a:lnTo>
                  <a:lnTo>
                    <a:pt x="1253" y="910"/>
                  </a:lnTo>
                  <a:lnTo>
                    <a:pt x="1248" y="910"/>
                  </a:lnTo>
                  <a:lnTo>
                    <a:pt x="1248" y="905"/>
                  </a:lnTo>
                  <a:lnTo>
                    <a:pt x="1244" y="905"/>
                  </a:lnTo>
                  <a:lnTo>
                    <a:pt x="1244" y="892"/>
                  </a:lnTo>
                  <a:lnTo>
                    <a:pt x="1238" y="892"/>
                  </a:lnTo>
                  <a:lnTo>
                    <a:pt x="1238" y="886"/>
                  </a:lnTo>
                  <a:lnTo>
                    <a:pt x="1234" y="886"/>
                  </a:lnTo>
                  <a:lnTo>
                    <a:pt x="1234" y="880"/>
                  </a:lnTo>
                  <a:lnTo>
                    <a:pt x="1229" y="880"/>
                  </a:lnTo>
                  <a:lnTo>
                    <a:pt x="1229" y="873"/>
                  </a:lnTo>
                  <a:lnTo>
                    <a:pt x="1224" y="873"/>
                  </a:lnTo>
                  <a:lnTo>
                    <a:pt x="1224" y="862"/>
                  </a:lnTo>
                  <a:lnTo>
                    <a:pt x="1219" y="862"/>
                  </a:lnTo>
                  <a:lnTo>
                    <a:pt x="1219" y="856"/>
                  </a:lnTo>
                  <a:lnTo>
                    <a:pt x="1214" y="856"/>
                  </a:lnTo>
                  <a:lnTo>
                    <a:pt x="1214" y="851"/>
                  </a:lnTo>
                  <a:lnTo>
                    <a:pt x="1209" y="851"/>
                  </a:lnTo>
                  <a:lnTo>
                    <a:pt x="1209" y="845"/>
                  </a:lnTo>
                  <a:lnTo>
                    <a:pt x="1204" y="845"/>
                  </a:lnTo>
                  <a:lnTo>
                    <a:pt x="1204" y="839"/>
                  </a:lnTo>
                  <a:lnTo>
                    <a:pt x="1200" y="839"/>
                  </a:lnTo>
                  <a:lnTo>
                    <a:pt x="1200" y="832"/>
                  </a:lnTo>
                  <a:lnTo>
                    <a:pt x="1195" y="832"/>
                  </a:lnTo>
                  <a:lnTo>
                    <a:pt x="1195" y="827"/>
                  </a:lnTo>
                  <a:lnTo>
                    <a:pt x="1190" y="827"/>
                  </a:lnTo>
                  <a:lnTo>
                    <a:pt x="1190" y="821"/>
                  </a:lnTo>
                  <a:lnTo>
                    <a:pt x="1185" y="821"/>
                  </a:lnTo>
                  <a:lnTo>
                    <a:pt x="1185" y="809"/>
                  </a:lnTo>
                  <a:lnTo>
                    <a:pt x="1181" y="809"/>
                  </a:lnTo>
                  <a:lnTo>
                    <a:pt x="1181" y="804"/>
                  </a:lnTo>
                  <a:lnTo>
                    <a:pt x="1171" y="804"/>
                  </a:lnTo>
                  <a:lnTo>
                    <a:pt x="1171" y="797"/>
                  </a:lnTo>
                  <a:lnTo>
                    <a:pt x="1167" y="797"/>
                  </a:lnTo>
                  <a:lnTo>
                    <a:pt x="1167" y="779"/>
                  </a:lnTo>
                  <a:lnTo>
                    <a:pt x="1162" y="779"/>
                  </a:lnTo>
                  <a:lnTo>
                    <a:pt x="1162" y="774"/>
                  </a:lnTo>
                  <a:lnTo>
                    <a:pt x="1157" y="774"/>
                  </a:lnTo>
                  <a:lnTo>
                    <a:pt x="1157" y="767"/>
                  </a:lnTo>
                  <a:lnTo>
                    <a:pt x="1152" y="767"/>
                  </a:lnTo>
                  <a:lnTo>
                    <a:pt x="1152" y="761"/>
                  </a:lnTo>
                  <a:lnTo>
                    <a:pt x="1148" y="761"/>
                  </a:lnTo>
                  <a:lnTo>
                    <a:pt x="1148" y="755"/>
                  </a:lnTo>
                  <a:lnTo>
                    <a:pt x="1141" y="755"/>
                  </a:lnTo>
                  <a:lnTo>
                    <a:pt x="1141" y="750"/>
                  </a:lnTo>
                  <a:lnTo>
                    <a:pt x="1137" y="750"/>
                  </a:lnTo>
                  <a:lnTo>
                    <a:pt x="1137" y="745"/>
                  </a:lnTo>
                  <a:lnTo>
                    <a:pt x="1132" y="745"/>
                  </a:lnTo>
                  <a:lnTo>
                    <a:pt x="1132" y="720"/>
                  </a:lnTo>
                  <a:lnTo>
                    <a:pt x="1127" y="720"/>
                  </a:lnTo>
                  <a:lnTo>
                    <a:pt x="1127" y="715"/>
                  </a:lnTo>
                  <a:lnTo>
                    <a:pt x="1123" y="715"/>
                  </a:lnTo>
                  <a:lnTo>
                    <a:pt x="1123" y="709"/>
                  </a:lnTo>
                  <a:lnTo>
                    <a:pt x="1118" y="709"/>
                  </a:lnTo>
                  <a:lnTo>
                    <a:pt x="1118" y="702"/>
                  </a:lnTo>
                  <a:lnTo>
                    <a:pt x="1114" y="702"/>
                  </a:lnTo>
                  <a:lnTo>
                    <a:pt x="1114" y="691"/>
                  </a:lnTo>
                  <a:lnTo>
                    <a:pt x="1108" y="691"/>
                  </a:lnTo>
                  <a:lnTo>
                    <a:pt x="1108" y="685"/>
                  </a:lnTo>
                  <a:lnTo>
                    <a:pt x="1099" y="685"/>
                  </a:lnTo>
                  <a:lnTo>
                    <a:pt x="1099" y="679"/>
                  </a:lnTo>
                  <a:lnTo>
                    <a:pt x="1094" y="679"/>
                  </a:lnTo>
                  <a:lnTo>
                    <a:pt x="1094" y="674"/>
                  </a:lnTo>
                  <a:lnTo>
                    <a:pt x="1090" y="674"/>
                  </a:lnTo>
                  <a:lnTo>
                    <a:pt x="1090" y="668"/>
                  </a:lnTo>
                  <a:lnTo>
                    <a:pt x="1085" y="668"/>
                  </a:lnTo>
                  <a:lnTo>
                    <a:pt x="1085" y="661"/>
                  </a:lnTo>
                  <a:lnTo>
                    <a:pt x="1080" y="661"/>
                  </a:lnTo>
                  <a:lnTo>
                    <a:pt x="1080" y="650"/>
                  </a:lnTo>
                  <a:lnTo>
                    <a:pt x="1076" y="650"/>
                  </a:lnTo>
                  <a:lnTo>
                    <a:pt x="1076" y="638"/>
                  </a:lnTo>
                  <a:lnTo>
                    <a:pt x="1070" y="638"/>
                  </a:lnTo>
                  <a:lnTo>
                    <a:pt x="1070" y="633"/>
                  </a:lnTo>
                  <a:lnTo>
                    <a:pt x="1065" y="633"/>
                  </a:lnTo>
                  <a:lnTo>
                    <a:pt x="1065" y="626"/>
                  </a:lnTo>
                  <a:lnTo>
                    <a:pt x="1060" y="626"/>
                  </a:lnTo>
                  <a:lnTo>
                    <a:pt x="1060" y="614"/>
                  </a:lnTo>
                  <a:lnTo>
                    <a:pt x="1056" y="614"/>
                  </a:lnTo>
                  <a:lnTo>
                    <a:pt x="1056" y="609"/>
                  </a:lnTo>
                  <a:lnTo>
                    <a:pt x="1051" y="609"/>
                  </a:lnTo>
                  <a:lnTo>
                    <a:pt x="1051" y="601"/>
                  </a:lnTo>
                  <a:lnTo>
                    <a:pt x="1046" y="601"/>
                  </a:lnTo>
                  <a:lnTo>
                    <a:pt x="1046" y="596"/>
                  </a:lnTo>
                  <a:lnTo>
                    <a:pt x="1041" y="596"/>
                  </a:lnTo>
                  <a:lnTo>
                    <a:pt x="1041" y="584"/>
                  </a:lnTo>
                  <a:lnTo>
                    <a:pt x="1032" y="584"/>
                  </a:lnTo>
                  <a:lnTo>
                    <a:pt x="1032" y="579"/>
                  </a:lnTo>
                  <a:lnTo>
                    <a:pt x="1027" y="579"/>
                  </a:lnTo>
                  <a:lnTo>
                    <a:pt x="1027" y="573"/>
                  </a:lnTo>
                  <a:lnTo>
                    <a:pt x="1023" y="573"/>
                  </a:lnTo>
                  <a:lnTo>
                    <a:pt x="1023" y="560"/>
                  </a:lnTo>
                  <a:lnTo>
                    <a:pt x="1018" y="560"/>
                  </a:lnTo>
                  <a:lnTo>
                    <a:pt x="1018" y="555"/>
                  </a:lnTo>
                  <a:lnTo>
                    <a:pt x="1013" y="555"/>
                  </a:lnTo>
                  <a:lnTo>
                    <a:pt x="1013" y="549"/>
                  </a:lnTo>
                  <a:lnTo>
                    <a:pt x="1008" y="549"/>
                  </a:lnTo>
                  <a:lnTo>
                    <a:pt x="1008" y="543"/>
                  </a:lnTo>
                  <a:lnTo>
                    <a:pt x="1004" y="543"/>
                  </a:lnTo>
                  <a:lnTo>
                    <a:pt x="1004" y="538"/>
                  </a:lnTo>
                  <a:lnTo>
                    <a:pt x="998" y="538"/>
                  </a:lnTo>
                  <a:lnTo>
                    <a:pt x="998" y="532"/>
                  </a:lnTo>
                  <a:lnTo>
                    <a:pt x="993" y="532"/>
                  </a:lnTo>
                  <a:lnTo>
                    <a:pt x="993" y="525"/>
                  </a:lnTo>
                  <a:lnTo>
                    <a:pt x="989" y="525"/>
                  </a:lnTo>
                  <a:lnTo>
                    <a:pt x="989" y="519"/>
                  </a:lnTo>
                  <a:lnTo>
                    <a:pt x="979" y="519"/>
                  </a:lnTo>
                  <a:lnTo>
                    <a:pt x="979" y="514"/>
                  </a:lnTo>
                  <a:lnTo>
                    <a:pt x="974" y="514"/>
                  </a:lnTo>
                  <a:lnTo>
                    <a:pt x="974" y="502"/>
                  </a:lnTo>
                  <a:lnTo>
                    <a:pt x="970" y="502"/>
                  </a:lnTo>
                  <a:lnTo>
                    <a:pt x="970" y="490"/>
                  </a:lnTo>
                  <a:lnTo>
                    <a:pt x="964" y="490"/>
                  </a:lnTo>
                  <a:lnTo>
                    <a:pt x="964" y="484"/>
                  </a:lnTo>
                  <a:lnTo>
                    <a:pt x="960" y="484"/>
                  </a:lnTo>
                  <a:lnTo>
                    <a:pt x="960" y="478"/>
                  </a:lnTo>
                  <a:lnTo>
                    <a:pt x="956" y="478"/>
                  </a:lnTo>
                  <a:lnTo>
                    <a:pt x="956" y="465"/>
                  </a:lnTo>
                  <a:lnTo>
                    <a:pt x="950" y="465"/>
                  </a:lnTo>
                  <a:lnTo>
                    <a:pt x="950" y="460"/>
                  </a:lnTo>
                  <a:lnTo>
                    <a:pt x="946" y="460"/>
                  </a:lnTo>
                  <a:lnTo>
                    <a:pt x="946" y="449"/>
                  </a:lnTo>
                  <a:lnTo>
                    <a:pt x="941" y="449"/>
                  </a:lnTo>
                  <a:lnTo>
                    <a:pt x="941" y="442"/>
                  </a:lnTo>
                  <a:lnTo>
                    <a:pt x="936" y="442"/>
                  </a:lnTo>
                  <a:lnTo>
                    <a:pt x="936" y="437"/>
                  </a:lnTo>
                  <a:lnTo>
                    <a:pt x="931" y="437"/>
                  </a:lnTo>
                  <a:lnTo>
                    <a:pt x="931" y="432"/>
                  </a:lnTo>
                  <a:lnTo>
                    <a:pt x="926" y="432"/>
                  </a:lnTo>
                  <a:lnTo>
                    <a:pt x="926" y="424"/>
                  </a:lnTo>
                  <a:lnTo>
                    <a:pt x="921" y="424"/>
                  </a:lnTo>
                  <a:lnTo>
                    <a:pt x="921" y="419"/>
                  </a:lnTo>
                  <a:lnTo>
                    <a:pt x="916" y="419"/>
                  </a:lnTo>
                  <a:lnTo>
                    <a:pt x="916" y="413"/>
                  </a:lnTo>
                  <a:lnTo>
                    <a:pt x="912" y="413"/>
                  </a:lnTo>
                  <a:lnTo>
                    <a:pt x="912" y="407"/>
                  </a:lnTo>
                  <a:lnTo>
                    <a:pt x="907" y="407"/>
                  </a:lnTo>
                  <a:lnTo>
                    <a:pt x="907" y="401"/>
                  </a:lnTo>
                  <a:lnTo>
                    <a:pt x="902" y="401"/>
                  </a:lnTo>
                  <a:lnTo>
                    <a:pt x="902" y="383"/>
                  </a:lnTo>
                  <a:lnTo>
                    <a:pt x="897" y="383"/>
                  </a:lnTo>
                  <a:lnTo>
                    <a:pt x="897" y="378"/>
                  </a:lnTo>
                  <a:lnTo>
                    <a:pt x="893" y="378"/>
                  </a:lnTo>
                  <a:lnTo>
                    <a:pt x="893" y="366"/>
                  </a:lnTo>
                  <a:lnTo>
                    <a:pt x="887" y="366"/>
                  </a:lnTo>
                  <a:lnTo>
                    <a:pt x="887" y="359"/>
                  </a:lnTo>
                  <a:lnTo>
                    <a:pt x="883" y="359"/>
                  </a:lnTo>
                  <a:lnTo>
                    <a:pt x="883" y="348"/>
                  </a:lnTo>
                  <a:lnTo>
                    <a:pt x="878" y="348"/>
                  </a:lnTo>
                  <a:lnTo>
                    <a:pt x="878" y="337"/>
                  </a:lnTo>
                  <a:lnTo>
                    <a:pt x="874" y="337"/>
                  </a:lnTo>
                  <a:lnTo>
                    <a:pt x="874" y="331"/>
                  </a:lnTo>
                  <a:lnTo>
                    <a:pt x="864" y="331"/>
                  </a:lnTo>
                  <a:lnTo>
                    <a:pt x="864" y="313"/>
                  </a:lnTo>
                  <a:lnTo>
                    <a:pt x="860" y="313"/>
                  </a:lnTo>
                  <a:lnTo>
                    <a:pt x="860" y="307"/>
                  </a:lnTo>
                  <a:lnTo>
                    <a:pt x="853" y="307"/>
                  </a:lnTo>
                  <a:lnTo>
                    <a:pt x="853" y="301"/>
                  </a:lnTo>
                  <a:lnTo>
                    <a:pt x="849" y="301"/>
                  </a:lnTo>
                  <a:lnTo>
                    <a:pt x="849" y="296"/>
                  </a:lnTo>
                  <a:lnTo>
                    <a:pt x="844" y="296"/>
                  </a:lnTo>
                  <a:lnTo>
                    <a:pt x="844" y="288"/>
                  </a:lnTo>
                  <a:lnTo>
                    <a:pt x="839" y="288"/>
                  </a:lnTo>
                  <a:lnTo>
                    <a:pt x="839" y="283"/>
                  </a:lnTo>
                  <a:lnTo>
                    <a:pt x="834" y="283"/>
                  </a:lnTo>
                  <a:lnTo>
                    <a:pt x="834" y="272"/>
                  </a:lnTo>
                  <a:lnTo>
                    <a:pt x="830" y="272"/>
                  </a:lnTo>
                  <a:lnTo>
                    <a:pt x="830" y="266"/>
                  </a:lnTo>
                  <a:lnTo>
                    <a:pt x="825" y="266"/>
                  </a:lnTo>
                  <a:lnTo>
                    <a:pt x="825" y="255"/>
                  </a:lnTo>
                  <a:lnTo>
                    <a:pt x="820" y="255"/>
                  </a:lnTo>
                  <a:lnTo>
                    <a:pt x="820" y="242"/>
                  </a:lnTo>
                  <a:lnTo>
                    <a:pt x="816" y="242"/>
                  </a:lnTo>
                  <a:lnTo>
                    <a:pt x="816" y="236"/>
                  </a:lnTo>
                  <a:lnTo>
                    <a:pt x="811" y="236"/>
                  </a:lnTo>
                  <a:lnTo>
                    <a:pt x="811" y="225"/>
                  </a:lnTo>
                  <a:lnTo>
                    <a:pt x="806" y="225"/>
                  </a:lnTo>
                  <a:lnTo>
                    <a:pt x="806" y="218"/>
                  </a:lnTo>
                  <a:lnTo>
                    <a:pt x="801" y="218"/>
                  </a:lnTo>
                  <a:lnTo>
                    <a:pt x="801" y="212"/>
                  </a:lnTo>
                  <a:lnTo>
                    <a:pt x="797" y="212"/>
                  </a:lnTo>
                  <a:lnTo>
                    <a:pt x="797" y="206"/>
                  </a:lnTo>
                  <a:lnTo>
                    <a:pt x="792" y="206"/>
                  </a:lnTo>
                  <a:lnTo>
                    <a:pt x="792" y="201"/>
                  </a:lnTo>
                  <a:lnTo>
                    <a:pt x="787" y="201"/>
                  </a:lnTo>
                  <a:lnTo>
                    <a:pt x="787" y="195"/>
                  </a:lnTo>
                  <a:lnTo>
                    <a:pt x="782" y="195"/>
                  </a:lnTo>
                  <a:lnTo>
                    <a:pt x="782" y="188"/>
                  </a:lnTo>
                  <a:lnTo>
                    <a:pt x="777" y="188"/>
                  </a:lnTo>
                  <a:lnTo>
                    <a:pt x="777" y="177"/>
                  </a:lnTo>
                  <a:lnTo>
                    <a:pt x="772" y="177"/>
                  </a:lnTo>
                  <a:lnTo>
                    <a:pt x="772" y="165"/>
                  </a:lnTo>
                  <a:lnTo>
                    <a:pt x="767" y="165"/>
                  </a:lnTo>
                  <a:lnTo>
                    <a:pt x="767" y="160"/>
                  </a:lnTo>
                  <a:lnTo>
                    <a:pt x="763" y="160"/>
                  </a:lnTo>
                  <a:lnTo>
                    <a:pt x="763" y="147"/>
                  </a:lnTo>
                  <a:lnTo>
                    <a:pt x="757" y="147"/>
                  </a:lnTo>
                  <a:lnTo>
                    <a:pt x="757" y="141"/>
                  </a:lnTo>
                  <a:lnTo>
                    <a:pt x="753" y="141"/>
                  </a:lnTo>
                  <a:lnTo>
                    <a:pt x="753" y="136"/>
                  </a:lnTo>
                  <a:lnTo>
                    <a:pt x="749" y="136"/>
                  </a:lnTo>
                  <a:lnTo>
                    <a:pt x="749" y="123"/>
                  </a:lnTo>
                  <a:lnTo>
                    <a:pt x="743" y="123"/>
                  </a:lnTo>
                  <a:lnTo>
                    <a:pt x="743" y="118"/>
                  </a:lnTo>
                  <a:lnTo>
                    <a:pt x="739" y="118"/>
                  </a:lnTo>
                  <a:lnTo>
                    <a:pt x="739" y="111"/>
                  </a:lnTo>
                  <a:lnTo>
                    <a:pt x="705" y="111"/>
                  </a:lnTo>
                  <a:lnTo>
                    <a:pt x="705" y="118"/>
                  </a:lnTo>
                  <a:lnTo>
                    <a:pt x="695" y="118"/>
                  </a:lnTo>
                  <a:lnTo>
                    <a:pt x="695" y="123"/>
                  </a:lnTo>
                  <a:lnTo>
                    <a:pt x="691" y="123"/>
                  </a:lnTo>
                  <a:lnTo>
                    <a:pt x="691" y="128"/>
                  </a:lnTo>
                  <a:lnTo>
                    <a:pt x="686" y="128"/>
                  </a:lnTo>
                  <a:lnTo>
                    <a:pt x="686" y="136"/>
                  </a:lnTo>
                  <a:lnTo>
                    <a:pt x="681" y="136"/>
                  </a:lnTo>
                  <a:lnTo>
                    <a:pt x="681" y="141"/>
                  </a:lnTo>
                  <a:lnTo>
                    <a:pt x="676" y="141"/>
                  </a:lnTo>
                  <a:lnTo>
                    <a:pt x="676" y="147"/>
                  </a:lnTo>
                  <a:lnTo>
                    <a:pt x="672" y="147"/>
                  </a:lnTo>
                  <a:lnTo>
                    <a:pt x="672" y="153"/>
                  </a:lnTo>
                  <a:lnTo>
                    <a:pt x="662" y="153"/>
                  </a:lnTo>
                  <a:lnTo>
                    <a:pt x="662" y="160"/>
                  </a:lnTo>
                  <a:lnTo>
                    <a:pt x="658" y="160"/>
                  </a:lnTo>
                  <a:lnTo>
                    <a:pt x="658" y="165"/>
                  </a:lnTo>
                  <a:lnTo>
                    <a:pt x="653" y="165"/>
                  </a:lnTo>
                  <a:lnTo>
                    <a:pt x="653" y="177"/>
                  </a:lnTo>
                  <a:lnTo>
                    <a:pt x="643" y="177"/>
                  </a:lnTo>
                  <a:lnTo>
                    <a:pt x="643" y="182"/>
                  </a:lnTo>
                  <a:lnTo>
                    <a:pt x="633" y="182"/>
                  </a:lnTo>
                  <a:lnTo>
                    <a:pt x="633" y="188"/>
                  </a:lnTo>
                  <a:lnTo>
                    <a:pt x="628" y="188"/>
                  </a:lnTo>
                  <a:lnTo>
                    <a:pt x="628" y="195"/>
                  </a:lnTo>
                  <a:lnTo>
                    <a:pt x="623" y="195"/>
                  </a:lnTo>
                  <a:lnTo>
                    <a:pt x="623" y="201"/>
                  </a:lnTo>
                  <a:lnTo>
                    <a:pt x="614" y="201"/>
                  </a:lnTo>
                  <a:lnTo>
                    <a:pt x="614" y="206"/>
                  </a:lnTo>
                  <a:lnTo>
                    <a:pt x="609" y="206"/>
                  </a:lnTo>
                  <a:lnTo>
                    <a:pt x="609" y="212"/>
                  </a:lnTo>
                  <a:lnTo>
                    <a:pt x="599" y="212"/>
                  </a:lnTo>
                  <a:lnTo>
                    <a:pt x="599" y="218"/>
                  </a:lnTo>
                  <a:lnTo>
                    <a:pt x="595" y="218"/>
                  </a:lnTo>
                  <a:lnTo>
                    <a:pt x="595" y="225"/>
                  </a:lnTo>
                  <a:lnTo>
                    <a:pt x="586" y="225"/>
                  </a:lnTo>
                  <a:lnTo>
                    <a:pt x="586" y="230"/>
                  </a:lnTo>
                  <a:lnTo>
                    <a:pt x="580" y="230"/>
                  </a:lnTo>
                  <a:lnTo>
                    <a:pt x="580" y="236"/>
                  </a:lnTo>
                  <a:lnTo>
                    <a:pt x="576" y="236"/>
                  </a:lnTo>
                  <a:lnTo>
                    <a:pt x="576" y="242"/>
                  </a:lnTo>
                  <a:lnTo>
                    <a:pt x="572" y="242"/>
                  </a:lnTo>
                  <a:lnTo>
                    <a:pt x="572" y="247"/>
                  </a:lnTo>
                  <a:lnTo>
                    <a:pt x="565" y="247"/>
                  </a:lnTo>
                  <a:lnTo>
                    <a:pt x="565" y="255"/>
                  </a:lnTo>
                  <a:lnTo>
                    <a:pt x="556" y="255"/>
                  </a:lnTo>
                  <a:lnTo>
                    <a:pt x="556" y="260"/>
                  </a:lnTo>
                  <a:lnTo>
                    <a:pt x="551" y="260"/>
                  </a:lnTo>
                  <a:lnTo>
                    <a:pt x="551" y="266"/>
                  </a:lnTo>
                  <a:lnTo>
                    <a:pt x="542" y="266"/>
                  </a:lnTo>
                  <a:lnTo>
                    <a:pt x="542" y="272"/>
                  </a:lnTo>
                  <a:lnTo>
                    <a:pt x="532" y="272"/>
                  </a:lnTo>
                  <a:lnTo>
                    <a:pt x="532" y="277"/>
                  </a:lnTo>
                  <a:lnTo>
                    <a:pt x="528" y="277"/>
                  </a:lnTo>
                  <a:lnTo>
                    <a:pt x="528" y="283"/>
                  </a:lnTo>
                  <a:lnTo>
                    <a:pt x="523" y="283"/>
                  </a:lnTo>
                  <a:lnTo>
                    <a:pt x="523" y="288"/>
                  </a:lnTo>
                  <a:lnTo>
                    <a:pt x="509" y="288"/>
                  </a:lnTo>
                  <a:lnTo>
                    <a:pt x="509" y="296"/>
                  </a:lnTo>
                  <a:lnTo>
                    <a:pt x="503" y="296"/>
                  </a:lnTo>
                  <a:lnTo>
                    <a:pt x="503" y="307"/>
                  </a:lnTo>
                  <a:lnTo>
                    <a:pt x="499" y="307"/>
                  </a:lnTo>
                  <a:lnTo>
                    <a:pt x="499" y="313"/>
                  </a:lnTo>
                  <a:lnTo>
                    <a:pt x="489" y="313"/>
                  </a:lnTo>
                  <a:lnTo>
                    <a:pt x="489" y="318"/>
                  </a:lnTo>
                  <a:lnTo>
                    <a:pt x="484" y="318"/>
                  </a:lnTo>
                  <a:lnTo>
                    <a:pt x="484" y="324"/>
                  </a:lnTo>
                  <a:lnTo>
                    <a:pt x="475" y="324"/>
                  </a:lnTo>
                  <a:lnTo>
                    <a:pt x="475" y="331"/>
                  </a:lnTo>
                  <a:lnTo>
                    <a:pt x="469" y="331"/>
                  </a:lnTo>
                  <a:lnTo>
                    <a:pt x="469" y="337"/>
                  </a:lnTo>
                  <a:lnTo>
                    <a:pt x="465" y="337"/>
                  </a:lnTo>
                  <a:lnTo>
                    <a:pt x="465" y="342"/>
                  </a:lnTo>
                  <a:lnTo>
                    <a:pt x="455" y="342"/>
                  </a:lnTo>
                  <a:lnTo>
                    <a:pt x="455" y="348"/>
                  </a:lnTo>
                  <a:lnTo>
                    <a:pt x="451" y="348"/>
                  </a:lnTo>
                  <a:lnTo>
                    <a:pt x="451" y="354"/>
                  </a:lnTo>
                  <a:lnTo>
                    <a:pt x="446" y="354"/>
                  </a:lnTo>
                  <a:lnTo>
                    <a:pt x="446" y="359"/>
                  </a:lnTo>
                  <a:lnTo>
                    <a:pt x="442" y="359"/>
                  </a:lnTo>
                  <a:lnTo>
                    <a:pt x="442" y="366"/>
                  </a:lnTo>
                  <a:lnTo>
                    <a:pt x="432" y="366"/>
                  </a:lnTo>
                  <a:lnTo>
                    <a:pt x="432" y="372"/>
                  </a:lnTo>
                  <a:lnTo>
                    <a:pt x="427" y="372"/>
                  </a:lnTo>
                  <a:lnTo>
                    <a:pt x="427" y="378"/>
                  </a:lnTo>
                  <a:lnTo>
                    <a:pt x="416" y="378"/>
                  </a:lnTo>
                  <a:lnTo>
                    <a:pt x="416" y="383"/>
                  </a:lnTo>
                  <a:lnTo>
                    <a:pt x="412" y="383"/>
                  </a:lnTo>
                  <a:lnTo>
                    <a:pt x="412" y="389"/>
                  </a:lnTo>
                  <a:lnTo>
                    <a:pt x="407" y="389"/>
                  </a:lnTo>
                  <a:lnTo>
                    <a:pt x="407" y="396"/>
                  </a:lnTo>
                  <a:lnTo>
                    <a:pt x="393" y="396"/>
                  </a:lnTo>
                  <a:lnTo>
                    <a:pt x="393" y="401"/>
                  </a:lnTo>
                  <a:lnTo>
                    <a:pt x="388" y="401"/>
                  </a:lnTo>
                  <a:lnTo>
                    <a:pt x="388" y="407"/>
                  </a:lnTo>
                  <a:lnTo>
                    <a:pt x="384" y="407"/>
                  </a:lnTo>
                  <a:lnTo>
                    <a:pt x="384" y="413"/>
                  </a:lnTo>
                  <a:lnTo>
                    <a:pt x="374" y="413"/>
                  </a:lnTo>
                  <a:lnTo>
                    <a:pt x="374" y="419"/>
                  </a:lnTo>
                  <a:lnTo>
                    <a:pt x="369" y="419"/>
                  </a:lnTo>
                  <a:lnTo>
                    <a:pt x="369" y="424"/>
                  </a:lnTo>
                  <a:lnTo>
                    <a:pt x="365" y="424"/>
                  </a:lnTo>
                  <a:lnTo>
                    <a:pt x="365" y="432"/>
                  </a:lnTo>
                  <a:lnTo>
                    <a:pt x="359" y="432"/>
                  </a:lnTo>
                  <a:lnTo>
                    <a:pt x="359" y="437"/>
                  </a:lnTo>
                  <a:lnTo>
                    <a:pt x="355" y="437"/>
                  </a:lnTo>
                  <a:lnTo>
                    <a:pt x="355" y="442"/>
                  </a:lnTo>
                  <a:lnTo>
                    <a:pt x="345" y="442"/>
                  </a:lnTo>
                  <a:lnTo>
                    <a:pt x="345" y="449"/>
                  </a:lnTo>
                  <a:lnTo>
                    <a:pt x="340" y="449"/>
                  </a:lnTo>
                  <a:lnTo>
                    <a:pt x="340" y="454"/>
                  </a:lnTo>
                  <a:lnTo>
                    <a:pt x="335" y="454"/>
                  </a:lnTo>
                  <a:lnTo>
                    <a:pt x="335" y="460"/>
                  </a:lnTo>
                  <a:lnTo>
                    <a:pt x="325" y="460"/>
                  </a:lnTo>
                  <a:lnTo>
                    <a:pt x="325" y="465"/>
                  </a:lnTo>
                  <a:lnTo>
                    <a:pt x="321" y="465"/>
                  </a:lnTo>
                  <a:lnTo>
                    <a:pt x="321" y="473"/>
                  </a:lnTo>
                  <a:lnTo>
                    <a:pt x="311" y="473"/>
                  </a:lnTo>
                  <a:lnTo>
                    <a:pt x="311" y="478"/>
                  </a:lnTo>
                  <a:lnTo>
                    <a:pt x="307" y="478"/>
                  </a:lnTo>
                  <a:lnTo>
                    <a:pt x="307" y="484"/>
                  </a:lnTo>
                  <a:lnTo>
                    <a:pt x="297" y="484"/>
                  </a:lnTo>
                  <a:lnTo>
                    <a:pt x="297" y="490"/>
                  </a:lnTo>
                  <a:lnTo>
                    <a:pt x="292" y="490"/>
                  </a:lnTo>
                  <a:lnTo>
                    <a:pt x="292" y="495"/>
                  </a:lnTo>
                  <a:lnTo>
                    <a:pt x="288" y="495"/>
                  </a:lnTo>
                  <a:lnTo>
                    <a:pt x="288" y="502"/>
                  </a:lnTo>
                  <a:lnTo>
                    <a:pt x="278" y="502"/>
                  </a:lnTo>
                  <a:lnTo>
                    <a:pt x="278" y="508"/>
                  </a:lnTo>
                  <a:lnTo>
                    <a:pt x="273" y="508"/>
                  </a:lnTo>
                  <a:lnTo>
                    <a:pt x="273" y="514"/>
                  </a:lnTo>
                  <a:lnTo>
                    <a:pt x="268" y="514"/>
                  </a:lnTo>
                  <a:lnTo>
                    <a:pt x="268" y="519"/>
                  </a:lnTo>
                  <a:lnTo>
                    <a:pt x="258" y="519"/>
                  </a:lnTo>
                  <a:lnTo>
                    <a:pt x="258" y="525"/>
                  </a:lnTo>
                  <a:lnTo>
                    <a:pt x="254" y="525"/>
                  </a:lnTo>
                  <a:lnTo>
                    <a:pt x="254" y="532"/>
                  </a:lnTo>
                  <a:lnTo>
                    <a:pt x="244" y="532"/>
                  </a:lnTo>
                  <a:lnTo>
                    <a:pt x="244" y="538"/>
                  </a:lnTo>
                  <a:lnTo>
                    <a:pt x="239" y="538"/>
                  </a:lnTo>
                  <a:lnTo>
                    <a:pt x="239" y="543"/>
                  </a:lnTo>
                  <a:lnTo>
                    <a:pt x="235" y="543"/>
                  </a:lnTo>
                  <a:lnTo>
                    <a:pt x="235" y="549"/>
                  </a:lnTo>
                  <a:lnTo>
                    <a:pt x="225" y="549"/>
                  </a:lnTo>
                  <a:lnTo>
                    <a:pt x="225" y="555"/>
                  </a:lnTo>
                  <a:lnTo>
                    <a:pt x="215" y="555"/>
                  </a:lnTo>
                  <a:lnTo>
                    <a:pt x="215" y="560"/>
                  </a:lnTo>
                  <a:lnTo>
                    <a:pt x="211" y="560"/>
                  </a:lnTo>
                  <a:lnTo>
                    <a:pt x="211" y="568"/>
                  </a:lnTo>
                  <a:lnTo>
                    <a:pt x="206" y="568"/>
                  </a:lnTo>
                  <a:lnTo>
                    <a:pt x="206" y="573"/>
                  </a:lnTo>
                  <a:lnTo>
                    <a:pt x="201" y="573"/>
                  </a:lnTo>
                  <a:lnTo>
                    <a:pt x="201" y="579"/>
                  </a:lnTo>
                  <a:lnTo>
                    <a:pt x="191" y="579"/>
                  </a:lnTo>
                  <a:lnTo>
                    <a:pt x="191" y="584"/>
                  </a:lnTo>
                  <a:lnTo>
                    <a:pt x="187" y="584"/>
                  </a:lnTo>
                  <a:lnTo>
                    <a:pt x="187" y="591"/>
                  </a:lnTo>
                  <a:lnTo>
                    <a:pt x="177" y="591"/>
                  </a:lnTo>
                  <a:lnTo>
                    <a:pt x="177" y="596"/>
                  </a:lnTo>
                  <a:lnTo>
                    <a:pt x="172" y="596"/>
                  </a:lnTo>
                  <a:lnTo>
                    <a:pt x="172" y="601"/>
                  </a:lnTo>
                  <a:lnTo>
                    <a:pt x="158" y="601"/>
                  </a:lnTo>
                  <a:lnTo>
                    <a:pt x="158" y="609"/>
                  </a:lnTo>
                  <a:lnTo>
                    <a:pt x="148" y="609"/>
                  </a:lnTo>
                  <a:lnTo>
                    <a:pt x="148" y="614"/>
                  </a:lnTo>
                  <a:lnTo>
                    <a:pt x="144" y="614"/>
                  </a:lnTo>
                  <a:lnTo>
                    <a:pt x="144" y="620"/>
                  </a:lnTo>
                  <a:lnTo>
                    <a:pt x="134" y="620"/>
                  </a:lnTo>
                  <a:lnTo>
                    <a:pt x="134" y="633"/>
                  </a:lnTo>
                  <a:lnTo>
                    <a:pt x="124" y="633"/>
                  </a:lnTo>
                  <a:lnTo>
                    <a:pt x="124" y="638"/>
                  </a:lnTo>
                  <a:lnTo>
                    <a:pt x="114" y="638"/>
                  </a:lnTo>
                  <a:lnTo>
                    <a:pt x="114" y="650"/>
                  </a:lnTo>
                  <a:lnTo>
                    <a:pt x="105" y="650"/>
                  </a:lnTo>
                  <a:lnTo>
                    <a:pt x="105" y="655"/>
                  </a:lnTo>
                  <a:lnTo>
                    <a:pt x="95" y="655"/>
                  </a:lnTo>
                  <a:lnTo>
                    <a:pt x="95" y="661"/>
                  </a:lnTo>
                  <a:lnTo>
                    <a:pt x="81" y="661"/>
                  </a:lnTo>
                  <a:lnTo>
                    <a:pt x="81" y="668"/>
                  </a:lnTo>
                  <a:lnTo>
                    <a:pt x="67" y="668"/>
                  </a:lnTo>
                  <a:lnTo>
                    <a:pt x="67" y="674"/>
                  </a:lnTo>
                  <a:lnTo>
                    <a:pt x="62" y="674"/>
                  </a:lnTo>
                  <a:lnTo>
                    <a:pt x="62" y="679"/>
                  </a:lnTo>
                  <a:lnTo>
                    <a:pt x="57" y="679"/>
                  </a:lnTo>
                  <a:lnTo>
                    <a:pt x="57" y="685"/>
                  </a:lnTo>
                  <a:lnTo>
                    <a:pt x="51" y="685"/>
                  </a:lnTo>
                  <a:lnTo>
                    <a:pt x="51" y="691"/>
                  </a:lnTo>
                  <a:lnTo>
                    <a:pt x="43" y="691"/>
                  </a:lnTo>
                  <a:lnTo>
                    <a:pt x="43" y="696"/>
                  </a:lnTo>
                  <a:lnTo>
                    <a:pt x="37" y="696"/>
                  </a:lnTo>
                  <a:lnTo>
                    <a:pt x="37" y="702"/>
                  </a:lnTo>
                  <a:lnTo>
                    <a:pt x="18" y="702"/>
                  </a:lnTo>
                  <a:lnTo>
                    <a:pt x="18" y="696"/>
                  </a:lnTo>
                  <a:lnTo>
                    <a:pt x="14" y="696"/>
                  </a:lnTo>
                  <a:lnTo>
                    <a:pt x="14" y="691"/>
                  </a:lnTo>
                  <a:lnTo>
                    <a:pt x="9" y="691"/>
                  </a:lnTo>
                  <a:lnTo>
                    <a:pt x="9" y="679"/>
                  </a:lnTo>
                  <a:lnTo>
                    <a:pt x="4" y="679"/>
                  </a:lnTo>
                  <a:lnTo>
                    <a:pt x="4" y="668"/>
                  </a:lnTo>
                  <a:lnTo>
                    <a:pt x="0" y="668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82920" y="1521000"/>
              <a:ext cx="103320" cy="58680"/>
            </a:xfrm>
            <a:custGeom>
              <a:avLst/>
              <a:gdLst/>
              <a:ahLst/>
              <a:rect l="l" t="t" r="r" b="b"/>
              <a:pathLst>
                <a:path w="197" h="148">
                  <a:moveTo>
                    <a:pt x="0" y="25"/>
                  </a:moveTo>
                  <a:lnTo>
                    <a:pt x="4" y="25"/>
                  </a:lnTo>
                  <a:lnTo>
                    <a:pt x="4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8" y="7"/>
                  </a:lnTo>
                  <a:lnTo>
                    <a:pt x="48" y="12"/>
                  </a:lnTo>
                  <a:lnTo>
                    <a:pt x="63" y="12"/>
                  </a:lnTo>
                  <a:lnTo>
                    <a:pt x="63" y="18"/>
                  </a:lnTo>
                  <a:lnTo>
                    <a:pt x="77" y="18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1" y="31"/>
                  </a:lnTo>
                  <a:lnTo>
                    <a:pt x="92" y="31"/>
                  </a:lnTo>
                  <a:lnTo>
                    <a:pt x="92" y="36"/>
                  </a:lnTo>
                  <a:lnTo>
                    <a:pt x="101" y="36"/>
                  </a:lnTo>
                  <a:lnTo>
                    <a:pt x="101" y="42"/>
                  </a:lnTo>
                  <a:lnTo>
                    <a:pt x="106" y="42"/>
                  </a:lnTo>
                  <a:lnTo>
                    <a:pt x="106" y="48"/>
                  </a:lnTo>
                  <a:lnTo>
                    <a:pt x="130" y="48"/>
                  </a:lnTo>
                  <a:lnTo>
                    <a:pt x="130" y="53"/>
                  </a:lnTo>
                  <a:lnTo>
                    <a:pt x="144" y="53"/>
                  </a:lnTo>
                  <a:lnTo>
                    <a:pt x="144" y="60"/>
                  </a:lnTo>
                  <a:lnTo>
                    <a:pt x="159" y="60"/>
                  </a:lnTo>
                  <a:lnTo>
                    <a:pt x="159" y="66"/>
                  </a:lnTo>
                  <a:lnTo>
                    <a:pt x="168" y="66"/>
                  </a:lnTo>
                  <a:lnTo>
                    <a:pt x="168" y="72"/>
                  </a:lnTo>
                  <a:lnTo>
                    <a:pt x="183" y="72"/>
                  </a:lnTo>
                  <a:lnTo>
                    <a:pt x="183" y="77"/>
                  </a:lnTo>
                  <a:lnTo>
                    <a:pt x="197" y="77"/>
                  </a:lnTo>
                  <a:lnTo>
                    <a:pt x="197" y="94"/>
                  </a:lnTo>
                  <a:lnTo>
                    <a:pt x="192" y="94"/>
                  </a:lnTo>
                  <a:lnTo>
                    <a:pt x="192" y="101"/>
                  </a:lnTo>
                  <a:lnTo>
                    <a:pt x="188" y="101"/>
                  </a:lnTo>
                  <a:lnTo>
                    <a:pt x="188" y="113"/>
                  </a:lnTo>
                  <a:lnTo>
                    <a:pt x="183" y="113"/>
                  </a:lnTo>
                  <a:lnTo>
                    <a:pt x="183" y="126"/>
                  </a:lnTo>
                  <a:lnTo>
                    <a:pt x="178" y="126"/>
                  </a:lnTo>
                  <a:lnTo>
                    <a:pt x="178" y="143"/>
                  </a:lnTo>
                  <a:lnTo>
                    <a:pt x="174" y="143"/>
                  </a:lnTo>
                  <a:lnTo>
                    <a:pt x="174" y="148"/>
                  </a:lnTo>
                  <a:lnTo>
                    <a:pt x="148" y="148"/>
                  </a:lnTo>
                  <a:lnTo>
                    <a:pt x="148" y="143"/>
                  </a:lnTo>
                  <a:lnTo>
                    <a:pt x="140" y="143"/>
                  </a:lnTo>
                  <a:lnTo>
                    <a:pt x="140" y="137"/>
                  </a:lnTo>
                  <a:lnTo>
                    <a:pt x="120" y="137"/>
                  </a:lnTo>
                  <a:lnTo>
                    <a:pt x="120" y="131"/>
                  </a:lnTo>
                  <a:lnTo>
                    <a:pt x="97" y="131"/>
                  </a:lnTo>
                  <a:lnTo>
                    <a:pt x="97" y="126"/>
                  </a:lnTo>
                  <a:lnTo>
                    <a:pt x="92" y="126"/>
                  </a:lnTo>
                  <a:lnTo>
                    <a:pt x="92" y="118"/>
                  </a:lnTo>
                  <a:lnTo>
                    <a:pt x="81" y="118"/>
                  </a:lnTo>
                  <a:lnTo>
                    <a:pt x="81" y="113"/>
                  </a:lnTo>
                  <a:lnTo>
                    <a:pt x="67" y="113"/>
                  </a:lnTo>
                  <a:lnTo>
                    <a:pt x="67" y="107"/>
                  </a:lnTo>
                  <a:lnTo>
                    <a:pt x="58" y="107"/>
                  </a:lnTo>
                  <a:lnTo>
                    <a:pt x="58" y="101"/>
                  </a:lnTo>
                  <a:lnTo>
                    <a:pt x="44" y="101"/>
                  </a:lnTo>
                  <a:lnTo>
                    <a:pt x="44" y="94"/>
                  </a:lnTo>
                  <a:lnTo>
                    <a:pt x="29" y="94"/>
                  </a:lnTo>
                  <a:lnTo>
                    <a:pt x="29" y="89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4" y="84"/>
                  </a:lnTo>
                  <a:lnTo>
                    <a:pt x="4" y="77"/>
                  </a:lnTo>
                  <a:lnTo>
                    <a:pt x="0" y="77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84720" y="1612800"/>
              <a:ext cx="63360" cy="46080"/>
            </a:xfrm>
            <a:custGeom>
              <a:avLst/>
              <a:gdLst/>
              <a:ahLst/>
              <a:rect l="l" t="t" r="r" b="b"/>
              <a:pathLst>
                <a:path w="121" h="117">
                  <a:moveTo>
                    <a:pt x="0" y="58"/>
                  </a:moveTo>
                  <a:lnTo>
                    <a:pt x="6" y="58"/>
                  </a:lnTo>
                  <a:lnTo>
                    <a:pt x="6" y="35"/>
                  </a:lnTo>
                  <a:lnTo>
                    <a:pt x="11" y="35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44" y="5"/>
                  </a:lnTo>
                  <a:lnTo>
                    <a:pt x="44" y="11"/>
                  </a:lnTo>
                  <a:lnTo>
                    <a:pt x="59" y="11"/>
                  </a:lnTo>
                  <a:lnTo>
                    <a:pt x="59" y="17"/>
                  </a:lnTo>
                  <a:lnTo>
                    <a:pt x="73" y="17"/>
                  </a:lnTo>
                  <a:lnTo>
                    <a:pt x="73" y="22"/>
                  </a:lnTo>
                  <a:lnTo>
                    <a:pt x="83" y="22"/>
                  </a:lnTo>
                  <a:lnTo>
                    <a:pt x="83" y="30"/>
                  </a:lnTo>
                  <a:lnTo>
                    <a:pt x="97" y="30"/>
                  </a:lnTo>
                  <a:lnTo>
                    <a:pt x="97" y="35"/>
                  </a:lnTo>
                  <a:lnTo>
                    <a:pt x="111" y="35"/>
                  </a:lnTo>
                  <a:lnTo>
                    <a:pt x="111" y="41"/>
                  </a:lnTo>
                  <a:lnTo>
                    <a:pt x="121" y="41"/>
                  </a:lnTo>
                  <a:lnTo>
                    <a:pt x="121" y="76"/>
                  </a:lnTo>
                  <a:lnTo>
                    <a:pt x="116" y="76"/>
                  </a:lnTo>
                  <a:lnTo>
                    <a:pt x="116" y="81"/>
                  </a:lnTo>
                  <a:lnTo>
                    <a:pt x="111" y="81"/>
                  </a:lnTo>
                  <a:lnTo>
                    <a:pt x="111" y="93"/>
                  </a:lnTo>
                  <a:lnTo>
                    <a:pt x="107" y="93"/>
                  </a:lnTo>
                  <a:lnTo>
                    <a:pt x="107" y="112"/>
                  </a:lnTo>
                  <a:lnTo>
                    <a:pt x="102" y="112"/>
                  </a:lnTo>
                  <a:lnTo>
                    <a:pt x="102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44" y="106"/>
                  </a:lnTo>
                  <a:lnTo>
                    <a:pt x="44" y="100"/>
                  </a:lnTo>
                  <a:lnTo>
                    <a:pt x="34" y="100"/>
                  </a:lnTo>
                  <a:lnTo>
                    <a:pt x="34" y="93"/>
                  </a:lnTo>
                  <a:lnTo>
                    <a:pt x="20" y="93"/>
                  </a:lnTo>
                  <a:lnTo>
                    <a:pt x="20" y="106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0" y="10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8480" y="1063800"/>
              <a:ext cx="126720" cy="126720"/>
            </a:xfrm>
            <a:custGeom>
              <a:avLst/>
              <a:gdLst/>
              <a:ahLst/>
              <a:rect l="l" t="t" r="r" b="b"/>
              <a:pathLst>
                <a:path w="240" h="319">
                  <a:moveTo>
                    <a:pt x="0" y="302"/>
                  </a:moveTo>
                  <a:lnTo>
                    <a:pt x="33" y="302"/>
                  </a:lnTo>
                  <a:lnTo>
                    <a:pt x="33" y="291"/>
                  </a:lnTo>
                  <a:lnTo>
                    <a:pt x="49" y="291"/>
                  </a:lnTo>
                  <a:lnTo>
                    <a:pt x="49" y="283"/>
                  </a:lnTo>
                  <a:lnTo>
                    <a:pt x="53" y="283"/>
                  </a:lnTo>
                  <a:lnTo>
                    <a:pt x="53" y="266"/>
                  </a:lnTo>
                  <a:lnTo>
                    <a:pt x="58" y="266"/>
                  </a:lnTo>
                  <a:lnTo>
                    <a:pt x="58" y="254"/>
                  </a:lnTo>
                  <a:lnTo>
                    <a:pt x="63" y="254"/>
                  </a:lnTo>
                  <a:lnTo>
                    <a:pt x="63" y="242"/>
                  </a:lnTo>
                  <a:lnTo>
                    <a:pt x="67" y="242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188"/>
                  </a:lnTo>
                  <a:lnTo>
                    <a:pt x="67" y="188"/>
                  </a:lnTo>
                  <a:lnTo>
                    <a:pt x="67" y="165"/>
                  </a:lnTo>
                  <a:lnTo>
                    <a:pt x="111" y="165"/>
                  </a:lnTo>
                  <a:lnTo>
                    <a:pt x="111" y="160"/>
                  </a:lnTo>
                  <a:lnTo>
                    <a:pt x="120" y="160"/>
                  </a:lnTo>
                  <a:lnTo>
                    <a:pt x="120" y="155"/>
                  </a:lnTo>
                  <a:lnTo>
                    <a:pt x="126" y="155"/>
                  </a:lnTo>
                  <a:lnTo>
                    <a:pt x="126" y="147"/>
                  </a:lnTo>
                  <a:lnTo>
                    <a:pt x="130" y="147"/>
                  </a:lnTo>
                  <a:lnTo>
                    <a:pt x="130" y="142"/>
                  </a:lnTo>
                  <a:lnTo>
                    <a:pt x="135" y="142"/>
                  </a:lnTo>
                  <a:lnTo>
                    <a:pt x="135" y="130"/>
                  </a:lnTo>
                  <a:lnTo>
                    <a:pt x="140" y="130"/>
                  </a:lnTo>
                  <a:lnTo>
                    <a:pt x="140" y="112"/>
                  </a:lnTo>
                  <a:lnTo>
                    <a:pt x="144" y="112"/>
                  </a:lnTo>
                  <a:lnTo>
                    <a:pt x="144" y="83"/>
                  </a:lnTo>
                  <a:lnTo>
                    <a:pt x="149" y="83"/>
                  </a:lnTo>
                  <a:lnTo>
                    <a:pt x="149" y="77"/>
                  </a:lnTo>
                  <a:lnTo>
                    <a:pt x="173" y="77"/>
                  </a:lnTo>
                  <a:lnTo>
                    <a:pt x="173" y="83"/>
                  </a:lnTo>
                  <a:lnTo>
                    <a:pt x="188" y="83"/>
                  </a:lnTo>
                  <a:lnTo>
                    <a:pt x="188" y="77"/>
                  </a:lnTo>
                  <a:lnTo>
                    <a:pt x="197" y="77"/>
                  </a:lnTo>
                  <a:lnTo>
                    <a:pt x="197" y="71"/>
                  </a:lnTo>
                  <a:lnTo>
                    <a:pt x="202" y="71"/>
                  </a:lnTo>
                  <a:lnTo>
                    <a:pt x="202" y="65"/>
                  </a:lnTo>
                  <a:lnTo>
                    <a:pt x="207" y="65"/>
                  </a:lnTo>
                  <a:lnTo>
                    <a:pt x="207" y="54"/>
                  </a:lnTo>
                  <a:lnTo>
                    <a:pt x="212" y="54"/>
                  </a:lnTo>
                  <a:lnTo>
                    <a:pt x="212" y="47"/>
                  </a:lnTo>
                  <a:lnTo>
                    <a:pt x="216" y="47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2" y="24"/>
                  </a:lnTo>
                  <a:lnTo>
                    <a:pt x="226" y="2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0" y="0"/>
                  </a:lnTo>
                  <a:lnTo>
                    <a:pt x="240" y="0"/>
                  </a:lnTo>
                  <a:lnTo>
                    <a:pt x="240" y="24"/>
                  </a:lnTo>
                  <a:lnTo>
                    <a:pt x="236" y="24"/>
                  </a:lnTo>
                  <a:lnTo>
                    <a:pt x="236" y="30"/>
                  </a:lnTo>
                  <a:lnTo>
                    <a:pt x="230" y="30"/>
                  </a:lnTo>
                  <a:lnTo>
                    <a:pt x="230" y="41"/>
                  </a:lnTo>
                  <a:lnTo>
                    <a:pt x="226" y="41"/>
                  </a:lnTo>
                  <a:lnTo>
                    <a:pt x="226" y="54"/>
                  </a:lnTo>
                  <a:lnTo>
                    <a:pt x="222" y="54"/>
                  </a:lnTo>
                  <a:lnTo>
                    <a:pt x="222" y="60"/>
                  </a:lnTo>
                  <a:lnTo>
                    <a:pt x="216" y="60"/>
                  </a:lnTo>
                  <a:lnTo>
                    <a:pt x="216" y="71"/>
                  </a:lnTo>
                  <a:lnTo>
                    <a:pt x="212" y="71"/>
                  </a:lnTo>
                  <a:lnTo>
                    <a:pt x="212" y="77"/>
                  </a:lnTo>
                  <a:lnTo>
                    <a:pt x="207" y="77"/>
                  </a:lnTo>
                  <a:lnTo>
                    <a:pt x="207" y="88"/>
                  </a:lnTo>
                  <a:lnTo>
                    <a:pt x="197" y="88"/>
                  </a:lnTo>
                  <a:lnTo>
                    <a:pt x="197" y="95"/>
                  </a:lnTo>
                  <a:lnTo>
                    <a:pt x="188" y="95"/>
                  </a:lnTo>
                  <a:lnTo>
                    <a:pt x="188" y="101"/>
                  </a:lnTo>
                  <a:lnTo>
                    <a:pt x="159" y="101"/>
                  </a:lnTo>
                  <a:lnTo>
                    <a:pt x="159" y="106"/>
                  </a:lnTo>
                  <a:lnTo>
                    <a:pt x="154" y="106"/>
                  </a:lnTo>
                  <a:lnTo>
                    <a:pt x="154" y="130"/>
                  </a:lnTo>
                  <a:lnTo>
                    <a:pt x="149" y="130"/>
                  </a:lnTo>
                  <a:lnTo>
                    <a:pt x="149" y="142"/>
                  </a:lnTo>
                  <a:lnTo>
                    <a:pt x="144" y="142"/>
                  </a:lnTo>
                  <a:lnTo>
                    <a:pt x="144" y="155"/>
                  </a:lnTo>
                  <a:lnTo>
                    <a:pt x="140" y="155"/>
                  </a:lnTo>
                  <a:lnTo>
                    <a:pt x="140" y="160"/>
                  </a:lnTo>
                  <a:lnTo>
                    <a:pt x="135" y="160"/>
                  </a:lnTo>
                  <a:lnTo>
                    <a:pt x="135" y="165"/>
                  </a:lnTo>
                  <a:lnTo>
                    <a:pt x="130" y="165"/>
                  </a:lnTo>
                  <a:lnTo>
                    <a:pt x="130" y="172"/>
                  </a:lnTo>
                  <a:lnTo>
                    <a:pt x="126" y="172"/>
                  </a:lnTo>
                  <a:lnTo>
                    <a:pt x="126" y="177"/>
                  </a:lnTo>
                  <a:lnTo>
                    <a:pt x="116" y="177"/>
                  </a:lnTo>
                  <a:lnTo>
                    <a:pt x="116" y="183"/>
                  </a:lnTo>
                  <a:lnTo>
                    <a:pt x="86" y="183"/>
                  </a:lnTo>
                  <a:lnTo>
                    <a:pt x="86" y="188"/>
                  </a:lnTo>
                  <a:lnTo>
                    <a:pt x="82" y="188"/>
                  </a:lnTo>
                  <a:lnTo>
                    <a:pt x="82" y="231"/>
                  </a:lnTo>
                  <a:lnTo>
                    <a:pt x="77" y="231"/>
                  </a:lnTo>
                  <a:lnTo>
                    <a:pt x="77" y="254"/>
                  </a:lnTo>
                  <a:lnTo>
                    <a:pt x="72" y="254"/>
                  </a:lnTo>
                  <a:lnTo>
                    <a:pt x="72" y="266"/>
                  </a:lnTo>
                  <a:lnTo>
                    <a:pt x="67" y="266"/>
                  </a:lnTo>
                  <a:lnTo>
                    <a:pt x="67" y="283"/>
                  </a:lnTo>
                  <a:lnTo>
                    <a:pt x="63" y="283"/>
                  </a:lnTo>
                  <a:lnTo>
                    <a:pt x="63" y="291"/>
                  </a:lnTo>
                  <a:lnTo>
                    <a:pt x="58" y="291"/>
                  </a:lnTo>
                  <a:lnTo>
                    <a:pt x="58" y="296"/>
                  </a:lnTo>
                  <a:lnTo>
                    <a:pt x="53" y="296"/>
                  </a:lnTo>
                  <a:lnTo>
                    <a:pt x="53" y="302"/>
                  </a:lnTo>
                  <a:lnTo>
                    <a:pt x="49" y="302"/>
                  </a:lnTo>
                  <a:lnTo>
                    <a:pt x="49" y="307"/>
                  </a:lnTo>
                  <a:lnTo>
                    <a:pt x="39" y="307"/>
                  </a:lnTo>
                  <a:lnTo>
                    <a:pt x="39" y="313"/>
                  </a:lnTo>
                  <a:lnTo>
                    <a:pt x="29" y="313"/>
                  </a:lnTo>
                  <a:lnTo>
                    <a:pt x="29" y="319"/>
                  </a:lnTo>
                  <a:lnTo>
                    <a:pt x="5" y="319"/>
                  </a:lnTo>
                  <a:lnTo>
                    <a:pt x="5" y="313"/>
                  </a:lnTo>
                  <a:lnTo>
                    <a:pt x="0" y="313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2520" y="1579680"/>
              <a:ext cx="106560" cy="633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54"/>
                  </a:moveTo>
                  <a:lnTo>
                    <a:pt x="4" y="54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63" y="6"/>
                  </a:lnTo>
                  <a:lnTo>
                    <a:pt x="63" y="11"/>
                  </a:lnTo>
                  <a:lnTo>
                    <a:pt x="71" y="11"/>
                  </a:lnTo>
                  <a:lnTo>
                    <a:pt x="71" y="19"/>
                  </a:lnTo>
                  <a:lnTo>
                    <a:pt x="87" y="19"/>
                  </a:lnTo>
                  <a:lnTo>
                    <a:pt x="87" y="24"/>
                  </a:lnTo>
                  <a:lnTo>
                    <a:pt x="91" y="24"/>
                  </a:lnTo>
                  <a:lnTo>
                    <a:pt x="91" y="36"/>
                  </a:lnTo>
                  <a:lnTo>
                    <a:pt x="97" y="36"/>
                  </a:lnTo>
                  <a:lnTo>
                    <a:pt x="97" y="48"/>
                  </a:lnTo>
                  <a:lnTo>
                    <a:pt x="106" y="48"/>
                  </a:lnTo>
                  <a:lnTo>
                    <a:pt x="106" y="36"/>
                  </a:lnTo>
                  <a:lnTo>
                    <a:pt x="125" y="36"/>
                  </a:lnTo>
                  <a:lnTo>
                    <a:pt x="125" y="41"/>
                  </a:lnTo>
                  <a:lnTo>
                    <a:pt x="134" y="41"/>
                  </a:lnTo>
                  <a:lnTo>
                    <a:pt x="134" y="48"/>
                  </a:lnTo>
                  <a:lnTo>
                    <a:pt x="154" y="48"/>
                  </a:lnTo>
                  <a:lnTo>
                    <a:pt x="154" y="54"/>
                  </a:lnTo>
                  <a:lnTo>
                    <a:pt x="168" y="54"/>
                  </a:lnTo>
                  <a:lnTo>
                    <a:pt x="168" y="60"/>
                  </a:lnTo>
                  <a:lnTo>
                    <a:pt x="187" y="60"/>
                  </a:lnTo>
                  <a:lnTo>
                    <a:pt x="187" y="65"/>
                  </a:lnTo>
                  <a:lnTo>
                    <a:pt x="201" y="65"/>
                  </a:lnTo>
                  <a:lnTo>
                    <a:pt x="201" y="95"/>
                  </a:lnTo>
                  <a:lnTo>
                    <a:pt x="197" y="95"/>
                  </a:lnTo>
                  <a:lnTo>
                    <a:pt x="197" y="106"/>
                  </a:lnTo>
                  <a:lnTo>
                    <a:pt x="193" y="106"/>
                  </a:lnTo>
                  <a:lnTo>
                    <a:pt x="193" y="125"/>
                  </a:lnTo>
                  <a:lnTo>
                    <a:pt x="187" y="125"/>
                  </a:lnTo>
                  <a:lnTo>
                    <a:pt x="187" y="142"/>
                  </a:lnTo>
                  <a:lnTo>
                    <a:pt x="183" y="142"/>
                  </a:lnTo>
                  <a:lnTo>
                    <a:pt x="183" y="160"/>
                  </a:lnTo>
                  <a:lnTo>
                    <a:pt x="173" y="160"/>
                  </a:lnTo>
                  <a:lnTo>
                    <a:pt x="173" y="155"/>
                  </a:lnTo>
                  <a:lnTo>
                    <a:pt x="164" y="155"/>
                  </a:lnTo>
                  <a:lnTo>
                    <a:pt x="164" y="147"/>
                  </a:lnTo>
                  <a:lnTo>
                    <a:pt x="149" y="147"/>
                  </a:lnTo>
                  <a:lnTo>
                    <a:pt x="149" y="142"/>
                  </a:lnTo>
                  <a:lnTo>
                    <a:pt x="134" y="142"/>
                  </a:lnTo>
                  <a:lnTo>
                    <a:pt x="134" y="136"/>
                  </a:lnTo>
                  <a:lnTo>
                    <a:pt x="120" y="136"/>
                  </a:lnTo>
                  <a:lnTo>
                    <a:pt x="120" y="130"/>
                  </a:lnTo>
                  <a:lnTo>
                    <a:pt x="101" y="130"/>
                  </a:lnTo>
                  <a:lnTo>
                    <a:pt x="101" y="125"/>
                  </a:lnTo>
                  <a:lnTo>
                    <a:pt x="87" y="125"/>
                  </a:lnTo>
                  <a:lnTo>
                    <a:pt x="87" y="119"/>
                  </a:lnTo>
                  <a:lnTo>
                    <a:pt x="71" y="119"/>
                  </a:lnTo>
                  <a:lnTo>
                    <a:pt x="71" y="114"/>
                  </a:lnTo>
                  <a:lnTo>
                    <a:pt x="57" y="114"/>
                  </a:lnTo>
                  <a:lnTo>
                    <a:pt x="57" y="106"/>
                  </a:lnTo>
                  <a:lnTo>
                    <a:pt x="43" y="106"/>
                  </a:lnTo>
                  <a:lnTo>
                    <a:pt x="43" y="101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89"/>
                  </a:lnTo>
                  <a:lnTo>
                    <a:pt x="4" y="89"/>
                  </a:lnTo>
                  <a:lnTo>
                    <a:pt x="4" y="84"/>
                  </a:lnTo>
                  <a:lnTo>
                    <a:pt x="0" y="8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52760" y="1633680"/>
              <a:ext cx="58680" cy="37800"/>
            </a:xfrm>
            <a:custGeom>
              <a:avLst/>
              <a:gdLst/>
              <a:ahLst/>
              <a:rect l="l" t="t" r="r" b="b"/>
              <a:pathLst>
                <a:path w="111" h="95">
                  <a:moveTo>
                    <a:pt x="0" y="36"/>
                  </a:moveTo>
                  <a:lnTo>
                    <a:pt x="6" y="36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44" y="6"/>
                  </a:lnTo>
                  <a:lnTo>
                    <a:pt x="44" y="11"/>
                  </a:lnTo>
                  <a:lnTo>
                    <a:pt x="58" y="11"/>
                  </a:lnTo>
                  <a:lnTo>
                    <a:pt x="58" y="19"/>
                  </a:lnTo>
                  <a:lnTo>
                    <a:pt x="77" y="19"/>
                  </a:lnTo>
                  <a:lnTo>
                    <a:pt x="77" y="24"/>
                  </a:lnTo>
                  <a:lnTo>
                    <a:pt x="87" y="24"/>
                  </a:lnTo>
                  <a:lnTo>
                    <a:pt x="87" y="29"/>
                  </a:lnTo>
                  <a:lnTo>
                    <a:pt x="102" y="29"/>
                  </a:lnTo>
                  <a:lnTo>
                    <a:pt x="102" y="36"/>
                  </a:lnTo>
                  <a:lnTo>
                    <a:pt x="111" y="36"/>
                  </a:lnTo>
                  <a:lnTo>
                    <a:pt x="111" y="65"/>
                  </a:lnTo>
                  <a:lnTo>
                    <a:pt x="107" y="65"/>
                  </a:lnTo>
                  <a:lnTo>
                    <a:pt x="107" y="78"/>
                  </a:lnTo>
                  <a:lnTo>
                    <a:pt x="102" y="78"/>
                  </a:lnTo>
                  <a:lnTo>
                    <a:pt x="102" y="89"/>
                  </a:lnTo>
                  <a:lnTo>
                    <a:pt x="97" y="89"/>
                  </a:lnTo>
                  <a:lnTo>
                    <a:pt x="97" y="95"/>
                  </a:lnTo>
                  <a:lnTo>
                    <a:pt x="87" y="95"/>
                  </a:lnTo>
                  <a:lnTo>
                    <a:pt x="87" y="89"/>
                  </a:lnTo>
                  <a:lnTo>
                    <a:pt x="54" y="89"/>
                  </a:lnTo>
                  <a:lnTo>
                    <a:pt x="54" y="82"/>
                  </a:lnTo>
                  <a:lnTo>
                    <a:pt x="40" y="82"/>
                  </a:lnTo>
                  <a:lnTo>
                    <a:pt x="40" y="78"/>
                  </a:lnTo>
                  <a:lnTo>
                    <a:pt x="30" y="78"/>
                  </a:lnTo>
                  <a:lnTo>
                    <a:pt x="30" y="70"/>
                  </a:lnTo>
                  <a:lnTo>
                    <a:pt x="6" y="70"/>
                  </a:lnTo>
                  <a:lnTo>
                    <a:pt x="6" y="65"/>
                  </a:lnTo>
                  <a:lnTo>
                    <a:pt x="0" y="6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68600" y="1608120"/>
              <a:ext cx="6480" cy="46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4440" y="1555920"/>
              <a:ext cx="60480" cy="4284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0" y="54"/>
                  </a:moveTo>
                  <a:lnTo>
                    <a:pt x="5" y="54"/>
                  </a:lnTo>
                  <a:lnTo>
                    <a:pt x="5" y="37"/>
                  </a:lnTo>
                  <a:lnTo>
                    <a:pt x="10" y="37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49" y="5"/>
                  </a:lnTo>
                  <a:lnTo>
                    <a:pt x="49" y="12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92" y="24"/>
                  </a:lnTo>
                  <a:lnTo>
                    <a:pt x="92" y="29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12" y="37"/>
                  </a:lnTo>
                  <a:lnTo>
                    <a:pt x="112" y="42"/>
                  </a:lnTo>
                  <a:lnTo>
                    <a:pt x="116" y="42"/>
                  </a:lnTo>
                  <a:lnTo>
                    <a:pt x="116" y="65"/>
                  </a:lnTo>
                  <a:lnTo>
                    <a:pt x="112" y="65"/>
                  </a:lnTo>
                  <a:lnTo>
                    <a:pt x="112" y="83"/>
                  </a:lnTo>
                  <a:lnTo>
                    <a:pt x="106" y="83"/>
                  </a:lnTo>
                  <a:lnTo>
                    <a:pt x="106" y="95"/>
                  </a:lnTo>
                  <a:lnTo>
                    <a:pt x="101" y="95"/>
                  </a:lnTo>
                  <a:lnTo>
                    <a:pt x="101" y="107"/>
                  </a:lnTo>
                  <a:lnTo>
                    <a:pt x="86" y="107"/>
                  </a:lnTo>
                  <a:lnTo>
                    <a:pt x="86" y="100"/>
                  </a:lnTo>
                  <a:lnTo>
                    <a:pt x="63" y="100"/>
                  </a:lnTo>
                  <a:lnTo>
                    <a:pt x="63" y="95"/>
                  </a:lnTo>
                  <a:lnTo>
                    <a:pt x="44" y="95"/>
                  </a:lnTo>
                  <a:lnTo>
                    <a:pt x="44" y="89"/>
                  </a:lnTo>
                  <a:lnTo>
                    <a:pt x="29" y="89"/>
                  </a:lnTo>
                  <a:lnTo>
                    <a:pt x="29" y="83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5" y="78"/>
                  </a:lnTo>
                  <a:lnTo>
                    <a:pt x="5" y="70"/>
                  </a:lnTo>
                  <a:lnTo>
                    <a:pt x="0" y="7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9360" y="557280"/>
              <a:ext cx="424080" cy="716040"/>
            </a:xfrm>
            <a:custGeom>
              <a:avLst/>
              <a:gdLst/>
              <a:ahLst/>
              <a:rect l="l" t="t" r="r" b="b"/>
              <a:pathLst>
                <a:path w="801" h="1803">
                  <a:moveTo>
                    <a:pt x="0" y="1786"/>
                  </a:moveTo>
                  <a:lnTo>
                    <a:pt x="4" y="1786"/>
                  </a:lnTo>
                  <a:lnTo>
                    <a:pt x="4" y="1780"/>
                  </a:lnTo>
                  <a:lnTo>
                    <a:pt x="10" y="1780"/>
                  </a:lnTo>
                  <a:lnTo>
                    <a:pt x="10" y="1769"/>
                  </a:lnTo>
                  <a:lnTo>
                    <a:pt x="14" y="1769"/>
                  </a:lnTo>
                  <a:lnTo>
                    <a:pt x="14" y="1761"/>
                  </a:lnTo>
                  <a:lnTo>
                    <a:pt x="18" y="1761"/>
                  </a:lnTo>
                  <a:lnTo>
                    <a:pt x="18" y="1756"/>
                  </a:lnTo>
                  <a:lnTo>
                    <a:pt x="24" y="1756"/>
                  </a:lnTo>
                  <a:lnTo>
                    <a:pt x="24" y="1745"/>
                  </a:lnTo>
                  <a:lnTo>
                    <a:pt x="28" y="1745"/>
                  </a:lnTo>
                  <a:lnTo>
                    <a:pt x="28" y="1737"/>
                  </a:lnTo>
                  <a:lnTo>
                    <a:pt x="33" y="1737"/>
                  </a:lnTo>
                  <a:lnTo>
                    <a:pt x="33" y="1720"/>
                  </a:lnTo>
                  <a:lnTo>
                    <a:pt x="38" y="1720"/>
                  </a:lnTo>
                  <a:lnTo>
                    <a:pt x="38" y="1709"/>
                  </a:lnTo>
                  <a:lnTo>
                    <a:pt x="44" y="1709"/>
                  </a:lnTo>
                  <a:lnTo>
                    <a:pt x="44" y="1696"/>
                  </a:lnTo>
                  <a:lnTo>
                    <a:pt x="48" y="1696"/>
                  </a:lnTo>
                  <a:lnTo>
                    <a:pt x="48" y="1685"/>
                  </a:lnTo>
                  <a:lnTo>
                    <a:pt x="52" y="1685"/>
                  </a:lnTo>
                  <a:lnTo>
                    <a:pt x="52" y="1674"/>
                  </a:lnTo>
                  <a:lnTo>
                    <a:pt x="58" y="1674"/>
                  </a:lnTo>
                  <a:lnTo>
                    <a:pt x="58" y="1655"/>
                  </a:lnTo>
                  <a:lnTo>
                    <a:pt x="62" y="1655"/>
                  </a:lnTo>
                  <a:lnTo>
                    <a:pt x="62" y="1642"/>
                  </a:lnTo>
                  <a:lnTo>
                    <a:pt x="67" y="1642"/>
                  </a:lnTo>
                  <a:lnTo>
                    <a:pt x="67" y="1637"/>
                  </a:lnTo>
                  <a:lnTo>
                    <a:pt x="72" y="1637"/>
                  </a:lnTo>
                  <a:lnTo>
                    <a:pt x="72" y="1614"/>
                  </a:lnTo>
                  <a:lnTo>
                    <a:pt x="77" y="1614"/>
                  </a:lnTo>
                  <a:lnTo>
                    <a:pt x="77" y="1590"/>
                  </a:lnTo>
                  <a:lnTo>
                    <a:pt x="81" y="1590"/>
                  </a:lnTo>
                  <a:lnTo>
                    <a:pt x="81" y="1568"/>
                  </a:lnTo>
                  <a:lnTo>
                    <a:pt x="86" y="1568"/>
                  </a:lnTo>
                  <a:lnTo>
                    <a:pt x="86" y="1549"/>
                  </a:lnTo>
                  <a:lnTo>
                    <a:pt x="91" y="1549"/>
                  </a:lnTo>
                  <a:lnTo>
                    <a:pt x="91" y="1543"/>
                  </a:lnTo>
                  <a:lnTo>
                    <a:pt x="95" y="1543"/>
                  </a:lnTo>
                  <a:lnTo>
                    <a:pt x="95" y="1536"/>
                  </a:lnTo>
                  <a:lnTo>
                    <a:pt x="100" y="1536"/>
                  </a:lnTo>
                  <a:lnTo>
                    <a:pt x="100" y="1531"/>
                  </a:lnTo>
                  <a:lnTo>
                    <a:pt x="105" y="1531"/>
                  </a:lnTo>
                  <a:lnTo>
                    <a:pt x="105" y="1525"/>
                  </a:lnTo>
                  <a:lnTo>
                    <a:pt x="109" y="1525"/>
                  </a:lnTo>
                  <a:lnTo>
                    <a:pt x="109" y="1514"/>
                  </a:lnTo>
                  <a:lnTo>
                    <a:pt x="115" y="1514"/>
                  </a:lnTo>
                  <a:lnTo>
                    <a:pt x="115" y="1508"/>
                  </a:lnTo>
                  <a:lnTo>
                    <a:pt x="120" y="1508"/>
                  </a:lnTo>
                  <a:lnTo>
                    <a:pt x="120" y="1501"/>
                  </a:lnTo>
                  <a:lnTo>
                    <a:pt x="125" y="1501"/>
                  </a:lnTo>
                  <a:lnTo>
                    <a:pt x="125" y="1495"/>
                  </a:lnTo>
                  <a:lnTo>
                    <a:pt x="135" y="1495"/>
                  </a:lnTo>
                  <a:lnTo>
                    <a:pt x="135" y="1483"/>
                  </a:lnTo>
                  <a:lnTo>
                    <a:pt x="139" y="1483"/>
                  </a:lnTo>
                  <a:lnTo>
                    <a:pt x="139" y="1478"/>
                  </a:lnTo>
                  <a:lnTo>
                    <a:pt x="144" y="1478"/>
                  </a:lnTo>
                  <a:lnTo>
                    <a:pt x="144" y="1473"/>
                  </a:lnTo>
                  <a:lnTo>
                    <a:pt x="148" y="1473"/>
                  </a:lnTo>
                  <a:lnTo>
                    <a:pt x="148" y="1465"/>
                  </a:lnTo>
                  <a:lnTo>
                    <a:pt x="153" y="1465"/>
                  </a:lnTo>
                  <a:lnTo>
                    <a:pt x="153" y="1460"/>
                  </a:lnTo>
                  <a:lnTo>
                    <a:pt x="158" y="1460"/>
                  </a:lnTo>
                  <a:lnTo>
                    <a:pt x="158" y="1454"/>
                  </a:lnTo>
                  <a:lnTo>
                    <a:pt x="162" y="1454"/>
                  </a:lnTo>
                  <a:lnTo>
                    <a:pt x="162" y="1442"/>
                  </a:lnTo>
                  <a:lnTo>
                    <a:pt x="168" y="1442"/>
                  </a:lnTo>
                  <a:lnTo>
                    <a:pt x="168" y="1437"/>
                  </a:lnTo>
                  <a:lnTo>
                    <a:pt x="172" y="1437"/>
                  </a:lnTo>
                  <a:lnTo>
                    <a:pt x="172" y="1424"/>
                  </a:lnTo>
                  <a:lnTo>
                    <a:pt x="177" y="1424"/>
                  </a:lnTo>
                  <a:lnTo>
                    <a:pt x="177" y="1414"/>
                  </a:lnTo>
                  <a:lnTo>
                    <a:pt x="182" y="1414"/>
                  </a:lnTo>
                  <a:lnTo>
                    <a:pt x="182" y="1402"/>
                  </a:lnTo>
                  <a:lnTo>
                    <a:pt x="186" y="1402"/>
                  </a:lnTo>
                  <a:lnTo>
                    <a:pt x="186" y="1389"/>
                  </a:lnTo>
                  <a:lnTo>
                    <a:pt x="192" y="1389"/>
                  </a:lnTo>
                  <a:lnTo>
                    <a:pt x="192" y="1378"/>
                  </a:lnTo>
                  <a:lnTo>
                    <a:pt x="196" y="1378"/>
                  </a:lnTo>
                  <a:lnTo>
                    <a:pt x="196" y="1365"/>
                  </a:lnTo>
                  <a:lnTo>
                    <a:pt x="202" y="1365"/>
                  </a:lnTo>
                  <a:lnTo>
                    <a:pt x="202" y="1354"/>
                  </a:lnTo>
                  <a:lnTo>
                    <a:pt x="206" y="1354"/>
                  </a:lnTo>
                  <a:lnTo>
                    <a:pt x="206" y="1342"/>
                  </a:lnTo>
                  <a:lnTo>
                    <a:pt x="211" y="1342"/>
                  </a:lnTo>
                  <a:lnTo>
                    <a:pt x="211" y="1331"/>
                  </a:lnTo>
                  <a:lnTo>
                    <a:pt x="216" y="1331"/>
                  </a:lnTo>
                  <a:lnTo>
                    <a:pt x="216" y="1318"/>
                  </a:lnTo>
                  <a:lnTo>
                    <a:pt x="221" y="1318"/>
                  </a:lnTo>
                  <a:lnTo>
                    <a:pt x="221" y="1301"/>
                  </a:lnTo>
                  <a:lnTo>
                    <a:pt x="225" y="1301"/>
                  </a:lnTo>
                  <a:lnTo>
                    <a:pt x="225" y="1296"/>
                  </a:lnTo>
                  <a:lnTo>
                    <a:pt x="230" y="1296"/>
                  </a:lnTo>
                  <a:lnTo>
                    <a:pt x="230" y="1283"/>
                  </a:lnTo>
                  <a:lnTo>
                    <a:pt x="235" y="1283"/>
                  </a:lnTo>
                  <a:lnTo>
                    <a:pt x="235" y="1272"/>
                  </a:lnTo>
                  <a:lnTo>
                    <a:pt x="239" y="1272"/>
                  </a:lnTo>
                  <a:lnTo>
                    <a:pt x="239" y="1259"/>
                  </a:lnTo>
                  <a:lnTo>
                    <a:pt x="244" y="1259"/>
                  </a:lnTo>
                  <a:lnTo>
                    <a:pt x="244" y="1254"/>
                  </a:lnTo>
                  <a:lnTo>
                    <a:pt x="249" y="1254"/>
                  </a:lnTo>
                  <a:lnTo>
                    <a:pt x="249" y="1247"/>
                  </a:lnTo>
                  <a:lnTo>
                    <a:pt x="254" y="1247"/>
                  </a:lnTo>
                  <a:lnTo>
                    <a:pt x="254" y="1236"/>
                  </a:lnTo>
                  <a:lnTo>
                    <a:pt x="258" y="1236"/>
                  </a:lnTo>
                  <a:lnTo>
                    <a:pt x="258" y="1223"/>
                  </a:lnTo>
                  <a:lnTo>
                    <a:pt x="265" y="1223"/>
                  </a:lnTo>
                  <a:lnTo>
                    <a:pt x="265" y="1218"/>
                  </a:lnTo>
                  <a:lnTo>
                    <a:pt x="269" y="1218"/>
                  </a:lnTo>
                  <a:lnTo>
                    <a:pt x="269" y="1212"/>
                  </a:lnTo>
                  <a:lnTo>
                    <a:pt x="273" y="1212"/>
                  </a:lnTo>
                  <a:lnTo>
                    <a:pt x="273" y="1201"/>
                  </a:lnTo>
                  <a:lnTo>
                    <a:pt x="279" y="1201"/>
                  </a:lnTo>
                  <a:lnTo>
                    <a:pt x="279" y="1188"/>
                  </a:lnTo>
                  <a:lnTo>
                    <a:pt x="288" y="1188"/>
                  </a:lnTo>
                  <a:lnTo>
                    <a:pt x="288" y="1182"/>
                  </a:lnTo>
                  <a:lnTo>
                    <a:pt x="292" y="1182"/>
                  </a:lnTo>
                  <a:lnTo>
                    <a:pt x="292" y="1170"/>
                  </a:lnTo>
                  <a:lnTo>
                    <a:pt x="298" y="1170"/>
                  </a:lnTo>
                  <a:lnTo>
                    <a:pt x="298" y="1165"/>
                  </a:lnTo>
                  <a:lnTo>
                    <a:pt x="302" y="1165"/>
                  </a:lnTo>
                  <a:lnTo>
                    <a:pt x="302" y="1153"/>
                  </a:lnTo>
                  <a:lnTo>
                    <a:pt x="307" y="1153"/>
                  </a:lnTo>
                  <a:lnTo>
                    <a:pt x="307" y="1147"/>
                  </a:lnTo>
                  <a:lnTo>
                    <a:pt x="312" y="1147"/>
                  </a:lnTo>
                  <a:lnTo>
                    <a:pt x="312" y="1136"/>
                  </a:lnTo>
                  <a:lnTo>
                    <a:pt x="316" y="1136"/>
                  </a:lnTo>
                  <a:lnTo>
                    <a:pt x="316" y="1128"/>
                  </a:lnTo>
                  <a:lnTo>
                    <a:pt x="321" y="1128"/>
                  </a:lnTo>
                  <a:lnTo>
                    <a:pt x="321" y="1111"/>
                  </a:lnTo>
                  <a:lnTo>
                    <a:pt x="326" y="1111"/>
                  </a:lnTo>
                  <a:lnTo>
                    <a:pt x="326" y="1106"/>
                  </a:lnTo>
                  <a:lnTo>
                    <a:pt x="331" y="1106"/>
                  </a:lnTo>
                  <a:lnTo>
                    <a:pt x="331" y="1095"/>
                  </a:lnTo>
                  <a:lnTo>
                    <a:pt x="336" y="1095"/>
                  </a:lnTo>
                  <a:lnTo>
                    <a:pt x="336" y="1070"/>
                  </a:lnTo>
                  <a:lnTo>
                    <a:pt x="341" y="1070"/>
                  </a:lnTo>
                  <a:lnTo>
                    <a:pt x="341" y="1058"/>
                  </a:lnTo>
                  <a:lnTo>
                    <a:pt x="346" y="1058"/>
                  </a:lnTo>
                  <a:lnTo>
                    <a:pt x="346" y="1029"/>
                  </a:lnTo>
                  <a:lnTo>
                    <a:pt x="351" y="1029"/>
                  </a:lnTo>
                  <a:lnTo>
                    <a:pt x="351" y="1005"/>
                  </a:lnTo>
                  <a:lnTo>
                    <a:pt x="355" y="1005"/>
                  </a:lnTo>
                  <a:lnTo>
                    <a:pt x="355" y="987"/>
                  </a:lnTo>
                  <a:lnTo>
                    <a:pt x="360" y="987"/>
                  </a:lnTo>
                  <a:lnTo>
                    <a:pt x="360" y="976"/>
                  </a:lnTo>
                  <a:lnTo>
                    <a:pt x="365" y="976"/>
                  </a:lnTo>
                  <a:lnTo>
                    <a:pt x="365" y="951"/>
                  </a:lnTo>
                  <a:lnTo>
                    <a:pt x="369" y="951"/>
                  </a:lnTo>
                  <a:lnTo>
                    <a:pt x="369" y="941"/>
                  </a:lnTo>
                  <a:lnTo>
                    <a:pt x="374" y="941"/>
                  </a:lnTo>
                  <a:lnTo>
                    <a:pt x="374" y="929"/>
                  </a:lnTo>
                  <a:lnTo>
                    <a:pt x="379" y="929"/>
                  </a:lnTo>
                  <a:lnTo>
                    <a:pt x="379" y="916"/>
                  </a:lnTo>
                  <a:lnTo>
                    <a:pt x="384" y="916"/>
                  </a:lnTo>
                  <a:lnTo>
                    <a:pt x="384" y="899"/>
                  </a:lnTo>
                  <a:lnTo>
                    <a:pt x="388" y="899"/>
                  </a:lnTo>
                  <a:lnTo>
                    <a:pt x="388" y="893"/>
                  </a:lnTo>
                  <a:lnTo>
                    <a:pt x="393" y="893"/>
                  </a:lnTo>
                  <a:lnTo>
                    <a:pt x="393" y="888"/>
                  </a:lnTo>
                  <a:lnTo>
                    <a:pt x="398" y="888"/>
                  </a:lnTo>
                  <a:lnTo>
                    <a:pt x="398" y="881"/>
                  </a:lnTo>
                  <a:lnTo>
                    <a:pt x="402" y="881"/>
                  </a:lnTo>
                  <a:lnTo>
                    <a:pt x="402" y="869"/>
                  </a:lnTo>
                  <a:lnTo>
                    <a:pt x="409" y="869"/>
                  </a:lnTo>
                  <a:lnTo>
                    <a:pt x="409" y="864"/>
                  </a:lnTo>
                  <a:lnTo>
                    <a:pt x="413" y="864"/>
                  </a:lnTo>
                  <a:lnTo>
                    <a:pt x="413" y="845"/>
                  </a:lnTo>
                  <a:lnTo>
                    <a:pt x="423" y="845"/>
                  </a:lnTo>
                  <a:lnTo>
                    <a:pt x="423" y="834"/>
                  </a:lnTo>
                  <a:lnTo>
                    <a:pt x="427" y="834"/>
                  </a:lnTo>
                  <a:lnTo>
                    <a:pt x="427" y="828"/>
                  </a:lnTo>
                  <a:lnTo>
                    <a:pt x="432" y="828"/>
                  </a:lnTo>
                  <a:lnTo>
                    <a:pt x="432" y="815"/>
                  </a:lnTo>
                  <a:lnTo>
                    <a:pt x="436" y="815"/>
                  </a:lnTo>
                  <a:lnTo>
                    <a:pt x="436" y="810"/>
                  </a:lnTo>
                  <a:lnTo>
                    <a:pt x="442" y="810"/>
                  </a:lnTo>
                  <a:lnTo>
                    <a:pt x="442" y="799"/>
                  </a:lnTo>
                  <a:lnTo>
                    <a:pt x="446" y="799"/>
                  </a:lnTo>
                  <a:lnTo>
                    <a:pt x="446" y="786"/>
                  </a:lnTo>
                  <a:lnTo>
                    <a:pt x="450" y="786"/>
                  </a:lnTo>
                  <a:lnTo>
                    <a:pt x="450" y="774"/>
                  </a:lnTo>
                  <a:lnTo>
                    <a:pt x="456" y="774"/>
                  </a:lnTo>
                  <a:lnTo>
                    <a:pt x="456" y="757"/>
                  </a:lnTo>
                  <a:lnTo>
                    <a:pt x="460" y="757"/>
                  </a:lnTo>
                  <a:lnTo>
                    <a:pt x="460" y="745"/>
                  </a:lnTo>
                  <a:lnTo>
                    <a:pt x="465" y="745"/>
                  </a:lnTo>
                  <a:lnTo>
                    <a:pt x="465" y="728"/>
                  </a:lnTo>
                  <a:lnTo>
                    <a:pt x="470" y="728"/>
                  </a:lnTo>
                  <a:lnTo>
                    <a:pt x="470" y="709"/>
                  </a:lnTo>
                  <a:lnTo>
                    <a:pt x="475" y="709"/>
                  </a:lnTo>
                  <a:lnTo>
                    <a:pt x="475" y="698"/>
                  </a:lnTo>
                  <a:lnTo>
                    <a:pt x="480" y="698"/>
                  </a:lnTo>
                  <a:lnTo>
                    <a:pt x="480" y="687"/>
                  </a:lnTo>
                  <a:lnTo>
                    <a:pt x="485" y="687"/>
                  </a:lnTo>
                  <a:lnTo>
                    <a:pt x="485" y="674"/>
                  </a:lnTo>
                  <a:lnTo>
                    <a:pt x="490" y="674"/>
                  </a:lnTo>
                  <a:lnTo>
                    <a:pt x="490" y="668"/>
                  </a:lnTo>
                  <a:lnTo>
                    <a:pt x="494" y="668"/>
                  </a:lnTo>
                  <a:lnTo>
                    <a:pt x="494" y="650"/>
                  </a:lnTo>
                  <a:lnTo>
                    <a:pt x="499" y="650"/>
                  </a:lnTo>
                  <a:lnTo>
                    <a:pt x="499" y="638"/>
                  </a:lnTo>
                  <a:lnTo>
                    <a:pt x="504" y="638"/>
                  </a:lnTo>
                  <a:lnTo>
                    <a:pt x="504" y="627"/>
                  </a:lnTo>
                  <a:lnTo>
                    <a:pt x="509" y="627"/>
                  </a:lnTo>
                  <a:lnTo>
                    <a:pt x="509" y="609"/>
                  </a:lnTo>
                  <a:lnTo>
                    <a:pt x="513" y="609"/>
                  </a:lnTo>
                  <a:lnTo>
                    <a:pt x="513" y="597"/>
                  </a:lnTo>
                  <a:lnTo>
                    <a:pt x="518" y="597"/>
                  </a:lnTo>
                  <a:lnTo>
                    <a:pt x="518" y="592"/>
                  </a:lnTo>
                  <a:lnTo>
                    <a:pt x="523" y="592"/>
                  </a:lnTo>
                  <a:lnTo>
                    <a:pt x="523" y="579"/>
                  </a:lnTo>
                  <a:lnTo>
                    <a:pt x="527" y="579"/>
                  </a:lnTo>
                  <a:lnTo>
                    <a:pt x="527" y="562"/>
                  </a:lnTo>
                  <a:lnTo>
                    <a:pt x="532" y="562"/>
                  </a:lnTo>
                  <a:lnTo>
                    <a:pt x="532" y="551"/>
                  </a:lnTo>
                  <a:lnTo>
                    <a:pt x="537" y="551"/>
                  </a:lnTo>
                  <a:lnTo>
                    <a:pt x="537" y="521"/>
                  </a:lnTo>
                  <a:lnTo>
                    <a:pt x="532" y="521"/>
                  </a:lnTo>
                  <a:lnTo>
                    <a:pt x="532" y="503"/>
                  </a:lnTo>
                  <a:lnTo>
                    <a:pt x="537" y="503"/>
                  </a:lnTo>
                  <a:lnTo>
                    <a:pt x="537" y="468"/>
                  </a:lnTo>
                  <a:lnTo>
                    <a:pt x="542" y="468"/>
                  </a:lnTo>
                  <a:lnTo>
                    <a:pt x="542" y="456"/>
                  </a:lnTo>
                  <a:lnTo>
                    <a:pt x="546" y="456"/>
                  </a:lnTo>
                  <a:lnTo>
                    <a:pt x="546" y="445"/>
                  </a:lnTo>
                  <a:lnTo>
                    <a:pt x="553" y="445"/>
                  </a:lnTo>
                  <a:lnTo>
                    <a:pt x="553" y="437"/>
                  </a:lnTo>
                  <a:lnTo>
                    <a:pt x="557" y="437"/>
                  </a:lnTo>
                  <a:lnTo>
                    <a:pt x="557" y="432"/>
                  </a:lnTo>
                  <a:lnTo>
                    <a:pt x="562" y="432"/>
                  </a:lnTo>
                  <a:lnTo>
                    <a:pt x="562" y="427"/>
                  </a:lnTo>
                  <a:lnTo>
                    <a:pt x="567" y="427"/>
                  </a:lnTo>
                  <a:lnTo>
                    <a:pt x="567" y="420"/>
                  </a:lnTo>
                  <a:lnTo>
                    <a:pt x="571" y="420"/>
                  </a:lnTo>
                  <a:lnTo>
                    <a:pt x="571" y="415"/>
                  </a:lnTo>
                  <a:lnTo>
                    <a:pt x="576" y="415"/>
                  </a:lnTo>
                  <a:lnTo>
                    <a:pt x="576" y="402"/>
                  </a:lnTo>
                  <a:lnTo>
                    <a:pt x="580" y="402"/>
                  </a:lnTo>
                  <a:lnTo>
                    <a:pt x="580" y="396"/>
                  </a:lnTo>
                  <a:lnTo>
                    <a:pt x="586" y="396"/>
                  </a:lnTo>
                  <a:lnTo>
                    <a:pt x="586" y="391"/>
                  </a:lnTo>
                  <a:lnTo>
                    <a:pt x="590" y="391"/>
                  </a:lnTo>
                  <a:lnTo>
                    <a:pt x="590" y="385"/>
                  </a:lnTo>
                  <a:lnTo>
                    <a:pt x="595" y="385"/>
                  </a:lnTo>
                  <a:lnTo>
                    <a:pt x="595" y="367"/>
                  </a:lnTo>
                  <a:lnTo>
                    <a:pt x="605" y="367"/>
                  </a:lnTo>
                  <a:lnTo>
                    <a:pt x="605" y="361"/>
                  </a:lnTo>
                  <a:lnTo>
                    <a:pt x="609" y="361"/>
                  </a:lnTo>
                  <a:lnTo>
                    <a:pt x="609" y="355"/>
                  </a:lnTo>
                  <a:lnTo>
                    <a:pt x="614" y="355"/>
                  </a:lnTo>
                  <a:lnTo>
                    <a:pt x="614" y="350"/>
                  </a:lnTo>
                  <a:lnTo>
                    <a:pt x="619" y="350"/>
                  </a:lnTo>
                  <a:lnTo>
                    <a:pt x="619" y="337"/>
                  </a:lnTo>
                  <a:lnTo>
                    <a:pt x="624" y="337"/>
                  </a:lnTo>
                  <a:lnTo>
                    <a:pt x="624" y="331"/>
                  </a:lnTo>
                  <a:lnTo>
                    <a:pt x="629" y="331"/>
                  </a:lnTo>
                  <a:lnTo>
                    <a:pt x="629" y="320"/>
                  </a:lnTo>
                  <a:lnTo>
                    <a:pt x="634" y="320"/>
                  </a:lnTo>
                  <a:lnTo>
                    <a:pt x="634" y="309"/>
                  </a:lnTo>
                  <a:lnTo>
                    <a:pt x="639" y="309"/>
                  </a:lnTo>
                  <a:lnTo>
                    <a:pt x="639" y="301"/>
                  </a:lnTo>
                  <a:lnTo>
                    <a:pt x="643" y="301"/>
                  </a:lnTo>
                  <a:lnTo>
                    <a:pt x="643" y="290"/>
                  </a:lnTo>
                  <a:lnTo>
                    <a:pt x="649" y="290"/>
                  </a:lnTo>
                  <a:lnTo>
                    <a:pt x="649" y="272"/>
                  </a:lnTo>
                  <a:lnTo>
                    <a:pt x="653" y="272"/>
                  </a:lnTo>
                  <a:lnTo>
                    <a:pt x="653" y="260"/>
                  </a:lnTo>
                  <a:lnTo>
                    <a:pt x="657" y="260"/>
                  </a:lnTo>
                  <a:lnTo>
                    <a:pt x="657" y="249"/>
                  </a:lnTo>
                  <a:lnTo>
                    <a:pt x="663" y="249"/>
                  </a:lnTo>
                  <a:lnTo>
                    <a:pt x="663" y="236"/>
                  </a:lnTo>
                  <a:lnTo>
                    <a:pt x="667" y="236"/>
                  </a:lnTo>
                  <a:lnTo>
                    <a:pt x="667" y="225"/>
                  </a:lnTo>
                  <a:lnTo>
                    <a:pt x="672" y="225"/>
                  </a:lnTo>
                  <a:lnTo>
                    <a:pt x="672" y="214"/>
                  </a:lnTo>
                  <a:lnTo>
                    <a:pt x="676" y="214"/>
                  </a:lnTo>
                  <a:lnTo>
                    <a:pt x="676" y="195"/>
                  </a:lnTo>
                  <a:lnTo>
                    <a:pt x="682" y="195"/>
                  </a:lnTo>
                  <a:lnTo>
                    <a:pt x="682" y="183"/>
                  </a:lnTo>
                  <a:lnTo>
                    <a:pt x="686" y="183"/>
                  </a:lnTo>
                  <a:lnTo>
                    <a:pt x="686" y="178"/>
                  </a:lnTo>
                  <a:lnTo>
                    <a:pt x="691" y="178"/>
                  </a:lnTo>
                  <a:lnTo>
                    <a:pt x="691" y="165"/>
                  </a:lnTo>
                  <a:lnTo>
                    <a:pt x="697" y="165"/>
                  </a:lnTo>
                  <a:lnTo>
                    <a:pt x="697" y="155"/>
                  </a:lnTo>
                  <a:lnTo>
                    <a:pt x="701" y="155"/>
                  </a:lnTo>
                  <a:lnTo>
                    <a:pt x="701" y="143"/>
                  </a:lnTo>
                  <a:lnTo>
                    <a:pt x="706" y="143"/>
                  </a:lnTo>
                  <a:lnTo>
                    <a:pt x="706" y="136"/>
                  </a:lnTo>
                  <a:lnTo>
                    <a:pt x="711" y="136"/>
                  </a:lnTo>
                  <a:lnTo>
                    <a:pt x="711" y="124"/>
                  </a:lnTo>
                  <a:lnTo>
                    <a:pt x="716" y="124"/>
                  </a:lnTo>
                  <a:lnTo>
                    <a:pt x="716" y="113"/>
                  </a:lnTo>
                  <a:lnTo>
                    <a:pt x="720" y="113"/>
                  </a:lnTo>
                  <a:lnTo>
                    <a:pt x="720" y="101"/>
                  </a:lnTo>
                  <a:lnTo>
                    <a:pt x="725" y="101"/>
                  </a:lnTo>
                  <a:lnTo>
                    <a:pt x="725" y="95"/>
                  </a:lnTo>
                  <a:lnTo>
                    <a:pt x="730" y="95"/>
                  </a:lnTo>
                  <a:lnTo>
                    <a:pt x="730" y="83"/>
                  </a:lnTo>
                  <a:lnTo>
                    <a:pt x="734" y="83"/>
                  </a:lnTo>
                  <a:lnTo>
                    <a:pt x="734" y="71"/>
                  </a:lnTo>
                  <a:lnTo>
                    <a:pt x="739" y="71"/>
                  </a:lnTo>
                  <a:lnTo>
                    <a:pt x="739" y="65"/>
                  </a:lnTo>
                  <a:lnTo>
                    <a:pt x="744" y="65"/>
                  </a:lnTo>
                  <a:lnTo>
                    <a:pt x="744" y="54"/>
                  </a:lnTo>
                  <a:lnTo>
                    <a:pt x="749" y="54"/>
                  </a:lnTo>
                  <a:lnTo>
                    <a:pt x="749" y="48"/>
                  </a:lnTo>
                  <a:lnTo>
                    <a:pt x="753" y="48"/>
                  </a:lnTo>
                  <a:lnTo>
                    <a:pt x="753" y="42"/>
                  </a:lnTo>
                  <a:lnTo>
                    <a:pt x="758" y="42"/>
                  </a:lnTo>
                  <a:lnTo>
                    <a:pt x="758" y="37"/>
                  </a:lnTo>
                  <a:lnTo>
                    <a:pt x="763" y="37"/>
                  </a:lnTo>
                  <a:lnTo>
                    <a:pt x="763" y="24"/>
                  </a:lnTo>
                  <a:lnTo>
                    <a:pt x="773" y="24"/>
                  </a:lnTo>
                  <a:lnTo>
                    <a:pt x="773" y="18"/>
                  </a:lnTo>
                  <a:lnTo>
                    <a:pt x="778" y="18"/>
                  </a:lnTo>
                  <a:lnTo>
                    <a:pt x="778" y="13"/>
                  </a:lnTo>
                  <a:lnTo>
                    <a:pt x="783" y="13"/>
                  </a:lnTo>
                  <a:lnTo>
                    <a:pt x="783" y="7"/>
                  </a:lnTo>
                  <a:lnTo>
                    <a:pt x="787" y="7"/>
                  </a:lnTo>
                  <a:lnTo>
                    <a:pt x="787" y="0"/>
                  </a:lnTo>
                  <a:lnTo>
                    <a:pt x="801" y="0"/>
                  </a:lnTo>
                  <a:lnTo>
                    <a:pt x="801" y="13"/>
                  </a:lnTo>
                  <a:lnTo>
                    <a:pt x="797" y="13"/>
                  </a:lnTo>
                  <a:lnTo>
                    <a:pt x="797" y="18"/>
                  </a:lnTo>
                  <a:lnTo>
                    <a:pt x="792" y="18"/>
                  </a:lnTo>
                  <a:lnTo>
                    <a:pt x="792" y="24"/>
                  </a:lnTo>
                  <a:lnTo>
                    <a:pt x="787" y="24"/>
                  </a:lnTo>
                  <a:lnTo>
                    <a:pt x="787" y="30"/>
                  </a:lnTo>
                  <a:lnTo>
                    <a:pt x="778" y="30"/>
                  </a:lnTo>
                  <a:lnTo>
                    <a:pt x="778" y="37"/>
                  </a:lnTo>
                  <a:lnTo>
                    <a:pt x="773" y="37"/>
                  </a:lnTo>
                  <a:lnTo>
                    <a:pt x="773" y="42"/>
                  </a:lnTo>
                  <a:lnTo>
                    <a:pt x="769" y="42"/>
                  </a:lnTo>
                  <a:lnTo>
                    <a:pt x="769" y="48"/>
                  </a:lnTo>
                  <a:lnTo>
                    <a:pt x="763" y="48"/>
                  </a:lnTo>
                  <a:lnTo>
                    <a:pt x="763" y="54"/>
                  </a:lnTo>
                  <a:lnTo>
                    <a:pt x="758" y="54"/>
                  </a:lnTo>
                  <a:lnTo>
                    <a:pt x="758" y="65"/>
                  </a:lnTo>
                  <a:lnTo>
                    <a:pt x="753" y="65"/>
                  </a:lnTo>
                  <a:lnTo>
                    <a:pt x="753" y="78"/>
                  </a:lnTo>
                  <a:lnTo>
                    <a:pt x="749" y="78"/>
                  </a:lnTo>
                  <a:lnTo>
                    <a:pt x="749" y="83"/>
                  </a:lnTo>
                  <a:lnTo>
                    <a:pt x="744" y="83"/>
                  </a:lnTo>
                  <a:lnTo>
                    <a:pt x="744" y="95"/>
                  </a:lnTo>
                  <a:lnTo>
                    <a:pt x="739" y="95"/>
                  </a:lnTo>
                  <a:lnTo>
                    <a:pt x="739" y="106"/>
                  </a:lnTo>
                  <a:lnTo>
                    <a:pt x="734" y="106"/>
                  </a:lnTo>
                  <a:lnTo>
                    <a:pt x="734" y="119"/>
                  </a:lnTo>
                  <a:lnTo>
                    <a:pt x="730" y="119"/>
                  </a:lnTo>
                  <a:lnTo>
                    <a:pt x="730" y="131"/>
                  </a:lnTo>
                  <a:lnTo>
                    <a:pt x="725" y="131"/>
                  </a:lnTo>
                  <a:lnTo>
                    <a:pt x="725" y="143"/>
                  </a:lnTo>
                  <a:lnTo>
                    <a:pt x="720" y="143"/>
                  </a:lnTo>
                  <a:lnTo>
                    <a:pt x="720" y="155"/>
                  </a:lnTo>
                  <a:lnTo>
                    <a:pt x="716" y="155"/>
                  </a:lnTo>
                  <a:lnTo>
                    <a:pt x="716" y="165"/>
                  </a:lnTo>
                  <a:lnTo>
                    <a:pt x="711" y="165"/>
                  </a:lnTo>
                  <a:lnTo>
                    <a:pt x="711" y="173"/>
                  </a:lnTo>
                  <a:lnTo>
                    <a:pt x="706" y="173"/>
                  </a:lnTo>
                  <a:lnTo>
                    <a:pt x="706" y="183"/>
                  </a:lnTo>
                  <a:lnTo>
                    <a:pt x="701" y="183"/>
                  </a:lnTo>
                  <a:lnTo>
                    <a:pt x="701" y="190"/>
                  </a:lnTo>
                  <a:lnTo>
                    <a:pt x="697" y="190"/>
                  </a:lnTo>
                  <a:lnTo>
                    <a:pt x="697" y="201"/>
                  </a:lnTo>
                  <a:lnTo>
                    <a:pt x="691" y="201"/>
                  </a:lnTo>
                  <a:lnTo>
                    <a:pt x="691" y="214"/>
                  </a:lnTo>
                  <a:lnTo>
                    <a:pt x="686" y="214"/>
                  </a:lnTo>
                  <a:lnTo>
                    <a:pt x="686" y="225"/>
                  </a:lnTo>
                  <a:lnTo>
                    <a:pt x="682" y="225"/>
                  </a:lnTo>
                  <a:lnTo>
                    <a:pt x="682" y="242"/>
                  </a:lnTo>
                  <a:lnTo>
                    <a:pt x="676" y="242"/>
                  </a:lnTo>
                  <a:lnTo>
                    <a:pt x="676" y="255"/>
                  </a:lnTo>
                  <a:lnTo>
                    <a:pt x="672" y="255"/>
                  </a:lnTo>
                  <a:lnTo>
                    <a:pt x="672" y="266"/>
                  </a:lnTo>
                  <a:lnTo>
                    <a:pt x="667" y="266"/>
                  </a:lnTo>
                  <a:lnTo>
                    <a:pt x="667" y="277"/>
                  </a:lnTo>
                  <a:lnTo>
                    <a:pt x="663" y="277"/>
                  </a:lnTo>
                  <a:lnTo>
                    <a:pt x="663" y="290"/>
                  </a:lnTo>
                  <a:lnTo>
                    <a:pt x="657" y="290"/>
                  </a:lnTo>
                  <a:lnTo>
                    <a:pt x="657" y="296"/>
                  </a:lnTo>
                  <a:lnTo>
                    <a:pt x="653" y="296"/>
                  </a:lnTo>
                  <a:lnTo>
                    <a:pt x="653" y="309"/>
                  </a:lnTo>
                  <a:lnTo>
                    <a:pt x="649" y="309"/>
                  </a:lnTo>
                  <a:lnTo>
                    <a:pt x="649" y="320"/>
                  </a:lnTo>
                  <a:lnTo>
                    <a:pt x="643" y="320"/>
                  </a:lnTo>
                  <a:lnTo>
                    <a:pt x="643" y="331"/>
                  </a:lnTo>
                  <a:lnTo>
                    <a:pt x="639" y="331"/>
                  </a:lnTo>
                  <a:lnTo>
                    <a:pt x="639" y="337"/>
                  </a:lnTo>
                  <a:lnTo>
                    <a:pt x="634" y="337"/>
                  </a:lnTo>
                  <a:lnTo>
                    <a:pt x="634" y="350"/>
                  </a:lnTo>
                  <a:lnTo>
                    <a:pt x="629" y="350"/>
                  </a:lnTo>
                  <a:lnTo>
                    <a:pt x="629" y="361"/>
                  </a:lnTo>
                  <a:lnTo>
                    <a:pt x="624" y="361"/>
                  </a:lnTo>
                  <a:lnTo>
                    <a:pt x="624" y="367"/>
                  </a:lnTo>
                  <a:lnTo>
                    <a:pt x="619" y="367"/>
                  </a:lnTo>
                  <a:lnTo>
                    <a:pt x="619" y="373"/>
                  </a:lnTo>
                  <a:lnTo>
                    <a:pt x="614" y="373"/>
                  </a:lnTo>
                  <a:lnTo>
                    <a:pt x="614" y="378"/>
                  </a:lnTo>
                  <a:lnTo>
                    <a:pt x="609" y="378"/>
                  </a:lnTo>
                  <a:lnTo>
                    <a:pt x="609" y="391"/>
                  </a:lnTo>
                  <a:lnTo>
                    <a:pt x="605" y="391"/>
                  </a:lnTo>
                  <a:lnTo>
                    <a:pt x="605" y="396"/>
                  </a:lnTo>
                  <a:lnTo>
                    <a:pt x="595" y="396"/>
                  </a:lnTo>
                  <a:lnTo>
                    <a:pt x="595" y="408"/>
                  </a:lnTo>
                  <a:lnTo>
                    <a:pt x="590" y="408"/>
                  </a:lnTo>
                  <a:lnTo>
                    <a:pt x="590" y="420"/>
                  </a:lnTo>
                  <a:lnTo>
                    <a:pt x="586" y="420"/>
                  </a:lnTo>
                  <a:lnTo>
                    <a:pt x="586" y="427"/>
                  </a:lnTo>
                  <a:lnTo>
                    <a:pt x="580" y="427"/>
                  </a:lnTo>
                  <a:lnTo>
                    <a:pt x="580" y="432"/>
                  </a:lnTo>
                  <a:lnTo>
                    <a:pt x="576" y="432"/>
                  </a:lnTo>
                  <a:lnTo>
                    <a:pt x="576" y="445"/>
                  </a:lnTo>
                  <a:lnTo>
                    <a:pt x="571" y="445"/>
                  </a:lnTo>
                  <a:lnTo>
                    <a:pt x="571" y="450"/>
                  </a:lnTo>
                  <a:lnTo>
                    <a:pt x="567" y="450"/>
                  </a:lnTo>
                  <a:lnTo>
                    <a:pt x="567" y="456"/>
                  </a:lnTo>
                  <a:lnTo>
                    <a:pt x="562" y="456"/>
                  </a:lnTo>
                  <a:lnTo>
                    <a:pt x="562" y="473"/>
                  </a:lnTo>
                  <a:lnTo>
                    <a:pt x="557" y="473"/>
                  </a:lnTo>
                  <a:lnTo>
                    <a:pt x="557" y="544"/>
                  </a:lnTo>
                  <a:lnTo>
                    <a:pt x="553" y="544"/>
                  </a:lnTo>
                  <a:lnTo>
                    <a:pt x="553" y="556"/>
                  </a:lnTo>
                  <a:lnTo>
                    <a:pt x="546" y="556"/>
                  </a:lnTo>
                  <a:lnTo>
                    <a:pt x="546" y="568"/>
                  </a:lnTo>
                  <a:lnTo>
                    <a:pt x="542" y="568"/>
                  </a:lnTo>
                  <a:lnTo>
                    <a:pt x="542" y="574"/>
                  </a:lnTo>
                  <a:lnTo>
                    <a:pt x="537" y="574"/>
                  </a:lnTo>
                  <a:lnTo>
                    <a:pt x="537" y="586"/>
                  </a:lnTo>
                  <a:lnTo>
                    <a:pt x="532" y="586"/>
                  </a:lnTo>
                  <a:lnTo>
                    <a:pt x="532" y="597"/>
                  </a:lnTo>
                  <a:lnTo>
                    <a:pt x="527" y="597"/>
                  </a:lnTo>
                  <a:lnTo>
                    <a:pt x="527" y="609"/>
                  </a:lnTo>
                  <a:lnTo>
                    <a:pt x="523" y="609"/>
                  </a:lnTo>
                  <a:lnTo>
                    <a:pt x="523" y="622"/>
                  </a:lnTo>
                  <a:lnTo>
                    <a:pt x="518" y="622"/>
                  </a:lnTo>
                  <a:lnTo>
                    <a:pt x="518" y="633"/>
                  </a:lnTo>
                  <a:lnTo>
                    <a:pt x="513" y="633"/>
                  </a:lnTo>
                  <a:lnTo>
                    <a:pt x="513" y="644"/>
                  </a:lnTo>
                  <a:lnTo>
                    <a:pt x="509" y="644"/>
                  </a:lnTo>
                  <a:lnTo>
                    <a:pt x="509" y="663"/>
                  </a:lnTo>
                  <a:lnTo>
                    <a:pt x="504" y="663"/>
                  </a:lnTo>
                  <a:lnTo>
                    <a:pt x="504" y="674"/>
                  </a:lnTo>
                  <a:lnTo>
                    <a:pt x="499" y="674"/>
                  </a:lnTo>
                  <a:lnTo>
                    <a:pt x="499" y="680"/>
                  </a:lnTo>
                  <a:lnTo>
                    <a:pt x="494" y="680"/>
                  </a:lnTo>
                  <a:lnTo>
                    <a:pt x="494" y="698"/>
                  </a:lnTo>
                  <a:lnTo>
                    <a:pt x="490" y="698"/>
                  </a:lnTo>
                  <a:lnTo>
                    <a:pt x="490" y="709"/>
                  </a:lnTo>
                  <a:lnTo>
                    <a:pt x="485" y="709"/>
                  </a:lnTo>
                  <a:lnTo>
                    <a:pt x="485" y="728"/>
                  </a:lnTo>
                  <a:lnTo>
                    <a:pt x="480" y="728"/>
                  </a:lnTo>
                  <a:lnTo>
                    <a:pt x="480" y="739"/>
                  </a:lnTo>
                  <a:lnTo>
                    <a:pt x="475" y="739"/>
                  </a:lnTo>
                  <a:lnTo>
                    <a:pt x="475" y="757"/>
                  </a:lnTo>
                  <a:lnTo>
                    <a:pt x="470" y="757"/>
                  </a:lnTo>
                  <a:lnTo>
                    <a:pt x="470" y="769"/>
                  </a:lnTo>
                  <a:lnTo>
                    <a:pt x="465" y="769"/>
                  </a:lnTo>
                  <a:lnTo>
                    <a:pt x="465" y="781"/>
                  </a:lnTo>
                  <a:lnTo>
                    <a:pt x="460" y="781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6" y="810"/>
                  </a:lnTo>
                  <a:lnTo>
                    <a:pt x="450" y="810"/>
                  </a:lnTo>
                  <a:lnTo>
                    <a:pt x="450" y="823"/>
                  </a:lnTo>
                  <a:lnTo>
                    <a:pt x="446" y="823"/>
                  </a:lnTo>
                  <a:lnTo>
                    <a:pt x="446" y="828"/>
                  </a:lnTo>
                  <a:lnTo>
                    <a:pt x="442" y="828"/>
                  </a:lnTo>
                  <a:lnTo>
                    <a:pt x="442" y="834"/>
                  </a:lnTo>
                  <a:lnTo>
                    <a:pt x="436" y="834"/>
                  </a:lnTo>
                  <a:lnTo>
                    <a:pt x="436" y="840"/>
                  </a:lnTo>
                  <a:lnTo>
                    <a:pt x="432" y="840"/>
                  </a:lnTo>
                  <a:lnTo>
                    <a:pt x="432" y="851"/>
                  </a:lnTo>
                  <a:lnTo>
                    <a:pt x="427" y="851"/>
                  </a:lnTo>
                  <a:lnTo>
                    <a:pt x="427" y="858"/>
                  </a:lnTo>
                  <a:lnTo>
                    <a:pt x="423" y="858"/>
                  </a:lnTo>
                  <a:lnTo>
                    <a:pt x="423" y="869"/>
                  </a:lnTo>
                  <a:lnTo>
                    <a:pt x="418" y="869"/>
                  </a:lnTo>
                  <a:lnTo>
                    <a:pt x="418" y="881"/>
                  </a:lnTo>
                  <a:lnTo>
                    <a:pt x="413" y="881"/>
                  </a:lnTo>
                  <a:lnTo>
                    <a:pt x="413" y="888"/>
                  </a:lnTo>
                  <a:lnTo>
                    <a:pt x="409" y="888"/>
                  </a:lnTo>
                  <a:lnTo>
                    <a:pt x="409" y="899"/>
                  </a:lnTo>
                  <a:lnTo>
                    <a:pt x="402" y="899"/>
                  </a:lnTo>
                  <a:lnTo>
                    <a:pt x="402" y="910"/>
                  </a:lnTo>
                  <a:lnTo>
                    <a:pt x="398" y="910"/>
                  </a:lnTo>
                  <a:lnTo>
                    <a:pt x="398" y="922"/>
                  </a:lnTo>
                  <a:lnTo>
                    <a:pt x="393" y="922"/>
                  </a:lnTo>
                  <a:lnTo>
                    <a:pt x="393" y="934"/>
                  </a:lnTo>
                  <a:lnTo>
                    <a:pt x="388" y="934"/>
                  </a:lnTo>
                  <a:lnTo>
                    <a:pt x="388" y="946"/>
                  </a:lnTo>
                  <a:lnTo>
                    <a:pt x="384" y="946"/>
                  </a:lnTo>
                  <a:lnTo>
                    <a:pt x="384" y="959"/>
                  </a:lnTo>
                  <a:lnTo>
                    <a:pt x="379" y="959"/>
                  </a:lnTo>
                  <a:lnTo>
                    <a:pt x="379" y="970"/>
                  </a:lnTo>
                  <a:lnTo>
                    <a:pt x="374" y="970"/>
                  </a:lnTo>
                  <a:lnTo>
                    <a:pt x="374" y="982"/>
                  </a:lnTo>
                  <a:lnTo>
                    <a:pt x="369" y="982"/>
                  </a:lnTo>
                  <a:lnTo>
                    <a:pt x="369" y="1005"/>
                  </a:lnTo>
                  <a:lnTo>
                    <a:pt x="365" y="1005"/>
                  </a:lnTo>
                  <a:lnTo>
                    <a:pt x="365" y="1022"/>
                  </a:lnTo>
                  <a:lnTo>
                    <a:pt x="360" y="1022"/>
                  </a:lnTo>
                  <a:lnTo>
                    <a:pt x="360" y="1046"/>
                  </a:lnTo>
                  <a:lnTo>
                    <a:pt x="355" y="1046"/>
                  </a:lnTo>
                  <a:lnTo>
                    <a:pt x="355" y="1076"/>
                  </a:lnTo>
                  <a:lnTo>
                    <a:pt x="351" y="1076"/>
                  </a:lnTo>
                  <a:lnTo>
                    <a:pt x="351" y="1100"/>
                  </a:lnTo>
                  <a:lnTo>
                    <a:pt x="346" y="1100"/>
                  </a:lnTo>
                  <a:lnTo>
                    <a:pt x="346" y="1111"/>
                  </a:lnTo>
                  <a:lnTo>
                    <a:pt x="341" y="1111"/>
                  </a:lnTo>
                  <a:lnTo>
                    <a:pt x="341" y="1123"/>
                  </a:lnTo>
                  <a:lnTo>
                    <a:pt x="336" y="1123"/>
                  </a:lnTo>
                  <a:lnTo>
                    <a:pt x="336" y="1128"/>
                  </a:lnTo>
                  <a:lnTo>
                    <a:pt x="331" y="1128"/>
                  </a:lnTo>
                  <a:lnTo>
                    <a:pt x="331" y="1136"/>
                  </a:lnTo>
                  <a:lnTo>
                    <a:pt x="326" y="1136"/>
                  </a:lnTo>
                  <a:lnTo>
                    <a:pt x="326" y="1141"/>
                  </a:lnTo>
                  <a:lnTo>
                    <a:pt x="321" y="1141"/>
                  </a:lnTo>
                  <a:lnTo>
                    <a:pt x="321" y="1153"/>
                  </a:lnTo>
                  <a:lnTo>
                    <a:pt x="316" y="1153"/>
                  </a:lnTo>
                  <a:lnTo>
                    <a:pt x="316" y="1160"/>
                  </a:lnTo>
                  <a:lnTo>
                    <a:pt x="312" y="1160"/>
                  </a:lnTo>
                  <a:lnTo>
                    <a:pt x="312" y="1170"/>
                  </a:lnTo>
                  <a:lnTo>
                    <a:pt x="307" y="1170"/>
                  </a:lnTo>
                  <a:lnTo>
                    <a:pt x="307" y="1182"/>
                  </a:lnTo>
                  <a:lnTo>
                    <a:pt x="302" y="1182"/>
                  </a:lnTo>
                  <a:lnTo>
                    <a:pt x="302" y="1188"/>
                  </a:lnTo>
                  <a:lnTo>
                    <a:pt x="298" y="1188"/>
                  </a:lnTo>
                  <a:lnTo>
                    <a:pt x="298" y="1201"/>
                  </a:lnTo>
                  <a:lnTo>
                    <a:pt x="292" y="1201"/>
                  </a:lnTo>
                  <a:lnTo>
                    <a:pt x="292" y="1206"/>
                  </a:lnTo>
                  <a:lnTo>
                    <a:pt x="288" y="1206"/>
                  </a:lnTo>
                  <a:lnTo>
                    <a:pt x="288" y="1218"/>
                  </a:lnTo>
                  <a:lnTo>
                    <a:pt x="283" y="1218"/>
                  </a:lnTo>
                  <a:lnTo>
                    <a:pt x="283" y="1223"/>
                  </a:lnTo>
                  <a:lnTo>
                    <a:pt x="279" y="1223"/>
                  </a:lnTo>
                  <a:lnTo>
                    <a:pt x="279" y="1229"/>
                  </a:lnTo>
                  <a:lnTo>
                    <a:pt x="273" y="1229"/>
                  </a:lnTo>
                  <a:lnTo>
                    <a:pt x="273" y="1242"/>
                  </a:lnTo>
                  <a:lnTo>
                    <a:pt x="269" y="1242"/>
                  </a:lnTo>
                  <a:lnTo>
                    <a:pt x="269" y="1247"/>
                  </a:lnTo>
                  <a:lnTo>
                    <a:pt x="265" y="1247"/>
                  </a:lnTo>
                  <a:lnTo>
                    <a:pt x="265" y="1259"/>
                  </a:lnTo>
                  <a:lnTo>
                    <a:pt x="258" y="1259"/>
                  </a:lnTo>
                  <a:lnTo>
                    <a:pt x="258" y="1264"/>
                  </a:lnTo>
                  <a:lnTo>
                    <a:pt x="254" y="1264"/>
                  </a:lnTo>
                  <a:lnTo>
                    <a:pt x="254" y="1272"/>
                  </a:lnTo>
                  <a:lnTo>
                    <a:pt x="249" y="1272"/>
                  </a:lnTo>
                  <a:lnTo>
                    <a:pt x="249" y="1283"/>
                  </a:lnTo>
                  <a:lnTo>
                    <a:pt x="244" y="1283"/>
                  </a:lnTo>
                  <a:lnTo>
                    <a:pt x="244" y="1296"/>
                  </a:lnTo>
                  <a:lnTo>
                    <a:pt x="239" y="1296"/>
                  </a:lnTo>
                  <a:lnTo>
                    <a:pt x="239" y="1307"/>
                  </a:lnTo>
                  <a:lnTo>
                    <a:pt x="235" y="1307"/>
                  </a:lnTo>
                  <a:lnTo>
                    <a:pt x="235" y="1318"/>
                  </a:lnTo>
                  <a:lnTo>
                    <a:pt x="230" y="1318"/>
                  </a:lnTo>
                  <a:lnTo>
                    <a:pt x="230" y="1337"/>
                  </a:lnTo>
                  <a:lnTo>
                    <a:pt x="225" y="1337"/>
                  </a:lnTo>
                  <a:lnTo>
                    <a:pt x="225" y="1342"/>
                  </a:lnTo>
                  <a:lnTo>
                    <a:pt x="221" y="1342"/>
                  </a:lnTo>
                  <a:lnTo>
                    <a:pt x="221" y="1360"/>
                  </a:lnTo>
                  <a:lnTo>
                    <a:pt x="216" y="1360"/>
                  </a:lnTo>
                  <a:lnTo>
                    <a:pt x="216" y="1372"/>
                  </a:lnTo>
                  <a:lnTo>
                    <a:pt x="211" y="1372"/>
                  </a:lnTo>
                  <a:lnTo>
                    <a:pt x="211" y="1389"/>
                  </a:lnTo>
                  <a:lnTo>
                    <a:pt x="206" y="1389"/>
                  </a:lnTo>
                  <a:lnTo>
                    <a:pt x="206" y="1395"/>
                  </a:lnTo>
                  <a:lnTo>
                    <a:pt x="202" y="1395"/>
                  </a:lnTo>
                  <a:lnTo>
                    <a:pt x="202" y="1402"/>
                  </a:lnTo>
                  <a:lnTo>
                    <a:pt x="196" y="1402"/>
                  </a:lnTo>
                  <a:lnTo>
                    <a:pt x="196" y="1414"/>
                  </a:lnTo>
                  <a:lnTo>
                    <a:pt x="192" y="1414"/>
                  </a:lnTo>
                  <a:lnTo>
                    <a:pt x="192" y="1419"/>
                  </a:lnTo>
                  <a:lnTo>
                    <a:pt x="186" y="1419"/>
                  </a:lnTo>
                  <a:lnTo>
                    <a:pt x="186" y="1432"/>
                  </a:lnTo>
                  <a:lnTo>
                    <a:pt x="182" y="1432"/>
                  </a:lnTo>
                  <a:lnTo>
                    <a:pt x="182" y="1442"/>
                  </a:lnTo>
                  <a:lnTo>
                    <a:pt x="177" y="1442"/>
                  </a:lnTo>
                  <a:lnTo>
                    <a:pt x="177" y="1449"/>
                  </a:lnTo>
                  <a:lnTo>
                    <a:pt x="172" y="1449"/>
                  </a:lnTo>
                  <a:lnTo>
                    <a:pt x="172" y="1460"/>
                  </a:lnTo>
                  <a:lnTo>
                    <a:pt x="168" y="1460"/>
                  </a:lnTo>
                  <a:lnTo>
                    <a:pt x="168" y="1465"/>
                  </a:lnTo>
                  <a:lnTo>
                    <a:pt x="162" y="1465"/>
                  </a:lnTo>
                  <a:lnTo>
                    <a:pt x="162" y="1478"/>
                  </a:lnTo>
                  <a:lnTo>
                    <a:pt x="158" y="1478"/>
                  </a:lnTo>
                  <a:lnTo>
                    <a:pt x="158" y="1483"/>
                  </a:lnTo>
                  <a:lnTo>
                    <a:pt x="153" y="1483"/>
                  </a:lnTo>
                  <a:lnTo>
                    <a:pt x="153" y="1490"/>
                  </a:lnTo>
                  <a:lnTo>
                    <a:pt x="148" y="1490"/>
                  </a:lnTo>
                  <a:lnTo>
                    <a:pt x="148" y="1495"/>
                  </a:lnTo>
                  <a:lnTo>
                    <a:pt x="144" y="1495"/>
                  </a:lnTo>
                  <a:lnTo>
                    <a:pt x="144" y="1501"/>
                  </a:lnTo>
                  <a:lnTo>
                    <a:pt x="139" y="1501"/>
                  </a:lnTo>
                  <a:lnTo>
                    <a:pt x="139" y="1508"/>
                  </a:lnTo>
                  <a:lnTo>
                    <a:pt x="135" y="1508"/>
                  </a:lnTo>
                  <a:lnTo>
                    <a:pt x="135" y="1514"/>
                  </a:lnTo>
                  <a:lnTo>
                    <a:pt x="129" y="1514"/>
                  </a:lnTo>
                  <a:lnTo>
                    <a:pt x="129" y="1519"/>
                  </a:lnTo>
                  <a:lnTo>
                    <a:pt x="125" y="1519"/>
                  </a:lnTo>
                  <a:lnTo>
                    <a:pt x="125" y="1525"/>
                  </a:lnTo>
                  <a:lnTo>
                    <a:pt x="120" y="1525"/>
                  </a:lnTo>
                  <a:lnTo>
                    <a:pt x="120" y="1536"/>
                  </a:lnTo>
                  <a:lnTo>
                    <a:pt x="115" y="1536"/>
                  </a:lnTo>
                  <a:lnTo>
                    <a:pt x="115" y="1543"/>
                  </a:lnTo>
                  <a:lnTo>
                    <a:pt x="109" y="1543"/>
                  </a:lnTo>
                  <a:lnTo>
                    <a:pt x="109" y="1555"/>
                  </a:lnTo>
                  <a:lnTo>
                    <a:pt x="105" y="1555"/>
                  </a:lnTo>
                  <a:lnTo>
                    <a:pt x="105" y="1573"/>
                  </a:lnTo>
                  <a:lnTo>
                    <a:pt x="100" y="1573"/>
                  </a:lnTo>
                  <a:lnTo>
                    <a:pt x="100" y="1601"/>
                  </a:lnTo>
                  <a:lnTo>
                    <a:pt x="95" y="1601"/>
                  </a:lnTo>
                  <a:lnTo>
                    <a:pt x="95" y="1614"/>
                  </a:lnTo>
                  <a:lnTo>
                    <a:pt x="91" y="1614"/>
                  </a:lnTo>
                  <a:lnTo>
                    <a:pt x="91" y="1626"/>
                  </a:lnTo>
                  <a:lnTo>
                    <a:pt x="86" y="1626"/>
                  </a:lnTo>
                  <a:lnTo>
                    <a:pt x="86" y="1631"/>
                  </a:lnTo>
                  <a:lnTo>
                    <a:pt x="81" y="1631"/>
                  </a:lnTo>
                  <a:lnTo>
                    <a:pt x="81" y="1642"/>
                  </a:lnTo>
                  <a:lnTo>
                    <a:pt x="77" y="1642"/>
                  </a:lnTo>
                  <a:lnTo>
                    <a:pt x="77" y="1661"/>
                  </a:lnTo>
                  <a:lnTo>
                    <a:pt x="72" y="1661"/>
                  </a:lnTo>
                  <a:lnTo>
                    <a:pt x="72" y="1674"/>
                  </a:lnTo>
                  <a:lnTo>
                    <a:pt x="67" y="1674"/>
                  </a:lnTo>
                  <a:lnTo>
                    <a:pt x="67" y="1685"/>
                  </a:lnTo>
                  <a:lnTo>
                    <a:pt x="62" y="1685"/>
                  </a:lnTo>
                  <a:lnTo>
                    <a:pt x="62" y="1696"/>
                  </a:lnTo>
                  <a:lnTo>
                    <a:pt x="58" y="1696"/>
                  </a:lnTo>
                  <a:lnTo>
                    <a:pt x="58" y="1709"/>
                  </a:lnTo>
                  <a:lnTo>
                    <a:pt x="52" y="1709"/>
                  </a:lnTo>
                  <a:lnTo>
                    <a:pt x="52" y="1727"/>
                  </a:lnTo>
                  <a:lnTo>
                    <a:pt x="48" y="1727"/>
                  </a:lnTo>
                  <a:lnTo>
                    <a:pt x="48" y="1732"/>
                  </a:lnTo>
                  <a:lnTo>
                    <a:pt x="44" y="1732"/>
                  </a:lnTo>
                  <a:lnTo>
                    <a:pt x="44" y="1745"/>
                  </a:lnTo>
                  <a:lnTo>
                    <a:pt x="38" y="1745"/>
                  </a:lnTo>
                  <a:lnTo>
                    <a:pt x="38" y="1756"/>
                  </a:lnTo>
                  <a:lnTo>
                    <a:pt x="33" y="1756"/>
                  </a:lnTo>
                  <a:lnTo>
                    <a:pt x="33" y="1761"/>
                  </a:lnTo>
                  <a:lnTo>
                    <a:pt x="28" y="1761"/>
                  </a:lnTo>
                  <a:lnTo>
                    <a:pt x="28" y="1774"/>
                  </a:lnTo>
                  <a:lnTo>
                    <a:pt x="24" y="1774"/>
                  </a:lnTo>
                  <a:lnTo>
                    <a:pt x="24" y="1791"/>
                  </a:lnTo>
                  <a:lnTo>
                    <a:pt x="18" y="1791"/>
                  </a:lnTo>
                  <a:lnTo>
                    <a:pt x="18" y="1797"/>
                  </a:lnTo>
                  <a:lnTo>
                    <a:pt x="14" y="1797"/>
                  </a:lnTo>
                  <a:lnTo>
                    <a:pt x="14" y="1803"/>
                  </a:lnTo>
                  <a:lnTo>
                    <a:pt x="4" y="1803"/>
                  </a:lnTo>
                  <a:lnTo>
                    <a:pt x="4" y="1797"/>
                  </a:lnTo>
                  <a:lnTo>
                    <a:pt x="0" y="1797"/>
                  </a:lnTo>
                  <a:lnTo>
                    <a:pt x="0" y="178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2320" y="1219320"/>
              <a:ext cx="4680" cy="28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60760" y="787320"/>
              <a:ext cx="152280" cy="163440"/>
            </a:xfrm>
            <a:custGeom>
              <a:avLst/>
              <a:gdLst/>
              <a:ahLst/>
              <a:rect l="l" t="t" r="r" b="b"/>
              <a:pathLst>
                <a:path w="288" h="415">
                  <a:moveTo>
                    <a:pt x="0" y="397"/>
                  </a:moveTo>
                  <a:lnTo>
                    <a:pt x="32" y="397"/>
                  </a:lnTo>
                  <a:lnTo>
                    <a:pt x="32" y="391"/>
                  </a:lnTo>
                  <a:lnTo>
                    <a:pt x="43" y="391"/>
                  </a:lnTo>
                  <a:lnTo>
                    <a:pt x="43" y="385"/>
                  </a:lnTo>
                  <a:lnTo>
                    <a:pt x="48" y="385"/>
                  </a:lnTo>
                  <a:lnTo>
                    <a:pt x="48" y="380"/>
                  </a:lnTo>
                  <a:lnTo>
                    <a:pt x="52" y="380"/>
                  </a:lnTo>
                  <a:lnTo>
                    <a:pt x="52" y="367"/>
                  </a:lnTo>
                  <a:lnTo>
                    <a:pt x="58" y="367"/>
                  </a:lnTo>
                  <a:lnTo>
                    <a:pt x="58" y="343"/>
                  </a:lnTo>
                  <a:lnTo>
                    <a:pt x="62" y="343"/>
                  </a:lnTo>
                  <a:lnTo>
                    <a:pt x="62" y="331"/>
                  </a:lnTo>
                  <a:lnTo>
                    <a:pt x="67" y="331"/>
                  </a:lnTo>
                  <a:lnTo>
                    <a:pt x="67" y="314"/>
                  </a:lnTo>
                  <a:lnTo>
                    <a:pt x="71" y="314"/>
                  </a:lnTo>
                  <a:lnTo>
                    <a:pt x="71" y="290"/>
                  </a:lnTo>
                  <a:lnTo>
                    <a:pt x="76" y="290"/>
                  </a:lnTo>
                  <a:lnTo>
                    <a:pt x="76" y="272"/>
                  </a:lnTo>
                  <a:lnTo>
                    <a:pt x="71" y="272"/>
                  </a:lnTo>
                  <a:lnTo>
                    <a:pt x="71" y="261"/>
                  </a:lnTo>
                  <a:lnTo>
                    <a:pt x="109" y="261"/>
                  </a:lnTo>
                  <a:lnTo>
                    <a:pt x="109" y="255"/>
                  </a:lnTo>
                  <a:lnTo>
                    <a:pt x="119" y="255"/>
                  </a:lnTo>
                  <a:lnTo>
                    <a:pt x="119" y="244"/>
                  </a:lnTo>
                  <a:lnTo>
                    <a:pt x="125" y="244"/>
                  </a:lnTo>
                  <a:lnTo>
                    <a:pt x="125" y="236"/>
                  </a:lnTo>
                  <a:lnTo>
                    <a:pt x="129" y="236"/>
                  </a:lnTo>
                  <a:lnTo>
                    <a:pt x="129" y="231"/>
                  </a:lnTo>
                  <a:lnTo>
                    <a:pt x="134" y="231"/>
                  </a:lnTo>
                  <a:lnTo>
                    <a:pt x="134" y="220"/>
                  </a:lnTo>
                  <a:lnTo>
                    <a:pt x="139" y="220"/>
                  </a:lnTo>
                  <a:lnTo>
                    <a:pt x="139" y="214"/>
                  </a:lnTo>
                  <a:lnTo>
                    <a:pt x="144" y="214"/>
                  </a:lnTo>
                  <a:lnTo>
                    <a:pt x="144" y="184"/>
                  </a:lnTo>
                  <a:lnTo>
                    <a:pt x="148" y="184"/>
                  </a:lnTo>
                  <a:lnTo>
                    <a:pt x="148" y="149"/>
                  </a:lnTo>
                  <a:lnTo>
                    <a:pt x="206" y="149"/>
                  </a:lnTo>
                  <a:lnTo>
                    <a:pt x="206" y="143"/>
                  </a:lnTo>
                  <a:lnTo>
                    <a:pt x="211" y="143"/>
                  </a:lnTo>
                  <a:lnTo>
                    <a:pt x="211" y="136"/>
                  </a:lnTo>
                  <a:lnTo>
                    <a:pt x="215" y="136"/>
                  </a:lnTo>
                  <a:lnTo>
                    <a:pt x="215" y="130"/>
                  </a:lnTo>
                  <a:lnTo>
                    <a:pt x="221" y="130"/>
                  </a:lnTo>
                  <a:lnTo>
                    <a:pt x="221" y="119"/>
                  </a:lnTo>
                  <a:lnTo>
                    <a:pt x="225" y="119"/>
                  </a:lnTo>
                  <a:lnTo>
                    <a:pt x="225" y="108"/>
                  </a:lnTo>
                  <a:lnTo>
                    <a:pt x="230" y="108"/>
                  </a:lnTo>
                  <a:lnTo>
                    <a:pt x="230" y="95"/>
                  </a:lnTo>
                  <a:lnTo>
                    <a:pt x="235" y="95"/>
                  </a:lnTo>
                  <a:lnTo>
                    <a:pt x="235" y="76"/>
                  </a:lnTo>
                  <a:lnTo>
                    <a:pt x="239" y="76"/>
                  </a:lnTo>
                  <a:lnTo>
                    <a:pt x="239" y="54"/>
                  </a:lnTo>
                  <a:lnTo>
                    <a:pt x="244" y="54"/>
                  </a:lnTo>
                  <a:lnTo>
                    <a:pt x="244" y="13"/>
                  </a:lnTo>
                  <a:lnTo>
                    <a:pt x="249" y="13"/>
                  </a:lnTo>
                  <a:lnTo>
                    <a:pt x="249" y="7"/>
                  </a:lnTo>
                  <a:lnTo>
                    <a:pt x="254" y="7"/>
                  </a:lnTo>
                  <a:lnTo>
                    <a:pt x="254" y="0"/>
                  </a:lnTo>
                  <a:lnTo>
                    <a:pt x="288" y="0"/>
                  </a:lnTo>
                  <a:lnTo>
                    <a:pt x="288" y="13"/>
                  </a:lnTo>
                  <a:lnTo>
                    <a:pt x="278" y="13"/>
                  </a:lnTo>
                  <a:lnTo>
                    <a:pt x="278" y="18"/>
                  </a:lnTo>
                  <a:lnTo>
                    <a:pt x="259" y="18"/>
                  </a:lnTo>
                  <a:lnTo>
                    <a:pt x="259" y="24"/>
                  </a:lnTo>
                  <a:lnTo>
                    <a:pt x="254" y="24"/>
                  </a:lnTo>
                  <a:lnTo>
                    <a:pt x="254" y="59"/>
                  </a:lnTo>
                  <a:lnTo>
                    <a:pt x="249" y="59"/>
                  </a:lnTo>
                  <a:lnTo>
                    <a:pt x="249" y="84"/>
                  </a:lnTo>
                  <a:lnTo>
                    <a:pt x="244" y="84"/>
                  </a:lnTo>
                  <a:lnTo>
                    <a:pt x="244" y="101"/>
                  </a:lnTo>
                  <a:lnTo>
                    <a:pt x="239" y="101"/>
                  </a:lnTo>
                  <a:lnTo>
                    <a:pt x="239" y="113"/>
                  </a:lnTo>
                  <a:lnTo>
                    <a:pt x="235" y="113"/>
                  </a:lnTo>
                  <a:lnTo>
                    <a:pt x="235" y="125"/>
                  </a:lnTo>
                  <a:lnTo>
                    <a:pt x="230" y="125"/>
                  </a:lnTo>
                  <a:lnTo>
                    <a:pt x="230" y="136"/>
                  </a:lnTo>
                  <a:lnTo>
                    <a:pt x="225" y="136"/>
                  </a:lnTo>
                  <a:lnTo>
                    <a:pt x="225" y="149"/>
                  </a:lnTo>
                  <a:lnTo>
                    <a:pt x="215" y="149"/>
                  </a:lnTo>
                  <a:lnTo>
                    <a:pt x="215" y="160"/>
                  </a:lnTo>
                  <a:lnTo>
                    <a:pt x="211" y="160"/>
                  </a:lnTo>
                  <a:lnTo>
                    <a:pt x="211" y="166"/>
                  </a:lnTo>
                  <a:lnTo>
                    <a:pt x="196" y="166"/>
                  </a:lnTo>
                  <a:lnTo>
                    <a:pt x="196" y="171"/>
                  </a:lnTo>
                  <a:lnTo>
                    <a:pt x="177" y="171"/>
                  </a:lnTo>
                  <a:lnTo>
                    <a:pt x="177" y="166"/>
                  </a:lnTo>
                  <a:lnTo>
                    <a:pt x="162" y="166"/>
                  </a:lnTo>
                  <a:lnTo>
                    <a:pt x="162" y="178"/>
                  </a:lnTo>
                  <a:lnTo>
                    <a:pt x="158" y="178"/>
                  </a:lnTo>
                  <a:lnTo>
                    <a:pt x="158" y="195"/>
                  </a:lnTo>
                  <a:lnTo>
                    <a:pt x="153" y="195"/>
                  </a:lnTo>
                  <a:lnTo>
                    <a:pt x="153" y="220"/>
                  </a:lnTo>
                  <a:lnTo>
                    <a:pt x="148" y="220"/>
                  </a:lnTo>
                  <a:lnTo>
                    <a:pt x="148" y="225"/>
                  </a:lnTo>
                  <a:lnTo>
                    <a:pt x="144" y="225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9" y="249"/>
                  </a:lnTo>
                  <a:lnTo>
                    <a:pt x="134" y="249"/>
                  </a:lnTo>
                  <a:lnTo>
                    <a:pt x="134" y="261"/>
                  </a:lnTo>
                  <a:lnTo>
                    <a:pt x="129" y="261"/>
                  </a:lnTo>
                  <a:lnTo>
                    <a:pt x="129" y="266"/>
                  </a:lnTo>
                  <a:lnTo>
                    <a:pt x="119" y="266"/>
                  </a:lnTo>
                  <a:lnTo>
                    <a:pt x="119" y="272"/>
                  </a:lnTo>
                  <a:lnTo>
                    <a:pt x="115" y="272"/>
                  </a:lnTo>
                  <a:lnTo>
                    <a:pt x="115" y="279"/>
                  </a:lnTo>
                  <a:lnTo>
                    <a:pt x="85" y="279"/>
                  </a:lnTo>
                  <a:lnTo>
                    <a:pt x="85" y="296"/>
                  </a:lnTo>
                  <a:lnTo>
                    <a:pt x="81" y="296"/>
                  </a:lnTo>
                  <a:lnTo>
                    <a:pt x="81" y="326"/>
                  </a:lnTo>
                  <a:lnTo>
                    <a:pt x="76" y="326"/>
                  </a:lnTo>
                  <a:lnTo>
                    <a:pt x="76" y="350"/>
                  </a:lnTo>
                  <a:lnTo>
                    <a:pt x="71" y="350"/>
                  </a:lnTo>
                  <a:lnTo>
                    <a:pt x="71" y="367"/>
                  </a:lnTo>
                  <a:lnTo>
                    <a:pt x="67" y="367"/>
                  </a:lnTo>
                  <a:lnTo>
                    <a:pt x="67" y="380"/>
                  </a:lnTo>
                  <a:lnTo>
                    <a:pt x="62" y="380"/>
                  </a:lnTo>
                  <a:lnTo>
                    <a:pt x="62" y="391"/>
                  </a:lnTo>
                  <a:lnTo>
                    <a:pt x="58" y="391"/>
                  </a:lnTo>
                  <a:lnTo>
                    <a:pt x="58" y="397"/>
                  </a:lnTo>
                  <a:lnTo>
                    <a:pt x="52" y="397"/>
                  </a:lnTo>
                  <a:lnTo>
                    <a:pt x="52" y="403"/>
                  </a:lnTo>
                  <a:lnTo>
                    <a:pt x="48" y="403"/>
                  </a:lnTo>
                  <a:lnTo>
                    <a:pt x="48" y="408"/>
                  </a:lnTo>
                  <a:lnTo>
                    <a:pt x="32" y="408"/>
                  </a:lnTo>
                  <a:lnTo>
                    <a:pt x="32" y="415"/>
                  </a:lnTo>
                  <a:lnTo>
                    <a:pt x="4" y="415"/>
                  </a:lnTo>
                  <a:lnTo>
                    <a:pt x="4" y="408"/>
                  </a:lnTo>
                  <a:lnTo>
                    <a:pt x="0" y="408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78400" y="941400"/>
              <a:ext cx="93600" cy="141120"/>
            </a:xfrm>
            <a:custGeom>
              <a:avLst/>
              <a:gdLst/>
              <a:ahLst/>
              <a:rect l="l" t="t" r="r" b="b"/>
              <a:pathLst>
                <a:path w="179" h="354">
                  <a:moveTo>
                    <a:pt x="0" y="343"/>
                  </a:moveTo>
                  <a:lnTo>
                    <a:pt x="6" y="343"/>
                  </a:lnTo>
                  <a:lnTo>
                    <a:pt x="6" y="337"/>
                  </a:lnTo>
                  <a:lnTo>
                    <a:pt x="11" y="337"/>
                  </a:lnTo>
                  <a:lnTo>
                    <a:pt x="11" y="326"/>
                  </a:lnTo>
                  <a:lnTo>
                    <a:pt x="16" y="326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0" y="284"/>
                  </a:lnTo>
                  <a:lnTo>
                    <a:pt x="26" y="284"/>
                  </a:lnTo>
                  <a:lnTo>
                    <a:pt x="26" y="259"/>
                  </a:lnTo>
                  <a:lnTo>
                    <a:pt x="30" y="259"/>
                  </a:lnTo>
                  <a:lnTo>
                    <a:pt x="30" y="248"/>
                  </a:lnTo>
                  <a:lnTo>
                    <a:pt x="35" y="248"/>
                  </a:lnTo>
                  <a:lnTo>
                    <a:pt x="35" y="231"/>
                  </a:lnTo>
                  <a:lnTo>
                    <a:pt x="39" y="231"/>
                  </a:lnTo>
                  <a:lnTo>
                    <a:pt x="39" y="207"/>
                  </a:lnTo>
                  <a:lnTo>
                    <a:pt x="44" y="207"/>
                  </a:lnTo>
                  <a:lnTo>
                    <a:pt x="44" y="200"/>
                  </a:lnTo>
                  <a:lnTo>
                    <a:pt x="73" y="200"/>
                  </a:lnTo>
                  <a:lnTo>
                    <a:pt x="73" y="190"/>
                  </a:lnTo>
                  <a:lnTo>
                    <a:pt x="77" y="190"/>
                  </a:lnTo>
                  <a:lnTo>
                    <a:pt x="77" y="171"/>
                  </a:lnTo>
                  <a:lnTo>
                    <a:pt x="83" y="171"/>
                  </a:lnTo>
                  <a:lnTo>
                    <a:pt x="83" y="147"/>
                  </a:lnTo>
                  <a:lnTo>
                    <a:pt x="87" y="147"/>
                  </a:lnTo>
                  <a:lnTo>
                    <a:pt x="87" y="112"/>
                  </a:lnTo>
                  <a:lnTo>
                    <a:pt x="93" y="112"/>
                  </a:lnTo>
                  <a:lnTo>
                    <a:pt x="93" y="106"/>
                  </a:lnTo>
                  <a:lnTo>
                    <a:pt x="97" y="106"/>
                  </a:lnTo>
                  <a:lnTo>
                    <a:pt x="97" y="100"/>
                  </a:lnTo>
                  <a:lnTo>
                    <a:pt x="116" y="100"/>
                  </a:lnTo>
                  <a:lnTo>
                    <a:pt x="116" y="93"/>
                  </a:lnTo>
                  <a:lnTo>
                    <a:pt x="121" y="93"/>
                  </a:lnTo>
                  <a:lnTo>
                    <a:pt x="121" y="88"/>
                  </a:lnTo>
                  <a:lnTo>
                    <a:pt x="126" y="88"/>
                  </a:lnTo>
                  <a:lnTo>
                    <a:pt x="126" y="82"/>
                  </a:lnTo>
                  <a:lnTo>
                    <a:pt x="130" y="82"/>
                  </a:lnTo>
                  <a:lnTo>
                    <a:pt x="130" y="65"/>
                  </a:lnTo>
                  <a:lnTo>
                    <a:pt x="135" y="65"/>
                  </a:lnTo>
                  <a:lnTo>
                    <a:pt x="135" y="52"/>
                  </a:lnTo>
                  <a:lnTo>
                    <a:pt x="140" y="52"/>
                  </a:lnTo>
                  <a:lnTo>
                    <a:pt x="140" y="35"/>
                  </a:lnTo>
                  <a:lnTo>
                    <a:pt x="145" y="35"/>
                  </a:lnTo>
                  <a:lnTo>
                    <a:pt x="145" y="17"/>
                  </a:lnTo>
                  <a:lnTo>
                    <a:pt x="149" y="17"/>
                  </a:lnTo>
                  <a:lnTo>
                    <a:pt x="149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79" y="6"/>
                  </a:lnTo>
                  <a:lnTo>
                    <a:pt x="179" y="17"/>
                  </a:lnTo>
                  <a:lnTo>
                    <a:pt x="174" y="17"/>
                  </a:lnTo>
                  <a:lnTo>
                    <a:pt x="174" y="24"/>
                  </a:lnTo>
                  <a:lnTo>
                    <a:pt x="160" y="24"/>
                  </a:lnTo>
                  <a:lnTo>
                    <a:pt x="160" y="35"/>
                  </a:lnTo>
                  <a:lnTo>
                    <a:pt x="156" y="35"/>
                  </a:lnTo>
                  <a:lnTo>
                    <a:pt x="156" y="52"/>
                  </a:lnTo>
                  <a:lnTo>
                    <a:pt x="149" y="52"/>
                  </a:lnTo>
                  <a:lnTo>
                    <a:pt x="149" y="65"/>
                  </a:lnTo>
                  <a:lnTo>
                    <a:pt x="145" y="65"/>
                  </a:lnTo>
                  <a:lnTo>
                    <a:pt x="145" y="76"/>
                  </a:lnTo>
                  <a:lnTo>
                    <a:pt x="140" y="76"/>
                  </a:lnTo>
                  <a:lnTo>
                    <a:pt x="140" y="93"/>
                  </a:lnTo>
                  <a:lnTo>
                    <a:pt x="135" y="93"/>
                  </a:lnTo>
                  <a:lnTo>
                    <a:pt x="135" y="100"/>
                  </a:lnTo>
                  <a:lnTo>
                    <a:pt x="130" y="100"/>
                  </a:lnTo>
                  <a:lnTo>
                    <a:pt x="130" y="106"/>
                  </a:lnTo>
                  <a:lnTo>
                    <a:pt x="126" y="106"/>
                  </a:lnTo>
                  <a:lnTo>
                    <a:pt x="126" y="112"/>
                  </a:lnTo>
                  <a:lnTo>
                    <a:pt x="121" y="112"/>
                  </a:lnTo>
                  <a:lnTo>
                    <a:pt x="121" y="117"/>
                  </a:lnTo>
                  <a:lnTo>
                    <a:pt x="112" y="117"/>
                  </a:lnTo>
                  <a:lnTo>
                    <a:pt x="112" y="125"/>
                  </a:lnTo>
                  <a:lnTo>
                    <a:pt x="107" y="125"/>
                  </a:lnTo>
                  <a:lnTo>
                    <a:pt x="107" y="130"/>
                  </a:lnTo>
                  <a:lnTo>
                    <a:pt x="102" y="130"/>
                  </a:lnTo>
                  <a:lnTo>
                    <a:pt x="102" y="147"/>
                  </a:lnTo>
                  <a:lnTo>
                    <a:pt x="97" y="147"/>
                  </a:lnTo>
                  <a:lnTo>
                    <a:pt x="97" y="166"/>
                  </a:lnTo>
                  <a:lnTo>
                    <a:pt x="93" y="166"/>
                  </a:lnTo>
                  <a:lnTo>
                    <a:pt x="93" y="183"/>
                  </a:lnTo>
                  <a:lnTo>
                    <a:pt x="87" y="183"/>
                  </a:lnTo>
                  <a:lnTo>
                    <a:pt x="87" y="200"/>
                  </a:lnTo>
                  <a:lnTo>
                    <a:pt x="83" y="200"/>
                  </a:lnTo>
                  <a:lnTo>
                    <a:pt x="83" y="207"/>
                  </a:lnTo>
                  <a:lnTo>
                    <a:pt x="77" y="207"/>
                  </a:lnTo>
                  <a:lnTo>
                    <a:pt x="77" y="218"/>
                  </a:lnTo>
                  <a:lnTo>
                    <a:pt x="73" y="218"/>
                  </a:lnTo>
                  <a:lnTo>
                    <a:pt x="73" y="225"/>
                  </a:lnTo>
                  <a:lnTo>
                    <a:pt x="49" y="225"/>
                  </a:lnTo>
                  <a:lnTo>
                    <a:pt x="49" y="236"/>
                  </a:lnTo>
                  <a:lnTo>
                    <a:pt x="44" y="236"/>
                  </a:lnTo>
                  <a:lnTo>
                    <a:pt x="44" y="253"/>
                  </a:lnTo>
                  <a:lnTo>
                    <a:pt x="39" y="253"/>
                  </a:lnTo>
                  <a:lnTo>
                    <a:pt x="39" y="277"/>
                  </a:lnTo>
                  <a:lnTo>
                    <a:pt x="35" y="277"/>
                  </a:lnTo>
                  <a:lnTo>
                    <a:pt x="35" y="302"/>
                  </a:lnTo>
                  <a:lnTo>
                    <a:pt x="30" y="302"/>
                  </a:lnTo>
                  <a:lnTo>
                    <a:pt x="30" y="313"/>
                  </a:lnTo>
                  <a:lnTo>
                    <a:pt x="26" y="313"/>
                  </a:lnTo>
                  <a:lnTo>
                    <a:pt x="26" y="331"/>
                  </a:lnTo>
                  <a:lnTo>
                    <a:pt x="20" y="331"/>
                  </a:lnTo>
                  <a:lnTo>
                    <a:pt x="20" y="343"/>
                  </a:lnTo>
                  <a:lnTo>
                    <a:pt x="16" y="343"/>
                  </a:lnTo>
                  <a:lnTo>
                    <a:pt x="16" y="354"/>
                  </a:lnTo>
                  <a:lnTo>
                    <a:pt x="0" y="354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21240" y="2533680"/>
              <a:ext cx="718920" cy="979560"/>
            </a:xfrm>
            <a:custGeom>
              <a:avLst/>
              <a:gdLst/>
              <a:ahLst/>
              <a:rect l="l" t="t" r="r" b="b"/>
              <a:pathLst>
                <a:path w="1358" h="2464">
                  <a:moveTo>
                    <a:pt x="0" y="378"/>
                  </a:moveTo>
                  <a:lnTo>
                    <a:pt x="4" y="378"/>
                  </a:lnTo>
                  <a:lnTo>
                    <a:pt x="4" y="359"/>
                  </a:lnTo>
                  <a:lnTo>
                    <a:pt x="10" y="359"/>
                  </a:lnTo>
                  <a:lnTo>
                    <a:pt x="10" y="349"/>
                  </a:lnTo>
                  <a:lnTo>
                    <a:pt x="14" y="349"/>
                  </a:lnTo>
                  <a:lnTo>
                    <a:pt x="14" y="342"/>
                  </a:lnTo>
                  <a:lnTo>
                    <a:pt x="19" y="342"/>
                  </a:lnTo>
                  <a:lnTo>
                    <a:pt x="19" y="331"/>
                  </a:lnTo>
                  <a:lnTo>
                    <a:pt x="24" y="331"/>
                  </a:lnTo>
                  <a:lnTo>
                    <a:pt x="24" y="318"/>
                  </a:lnTo>
                  <a:lnTo>
                    <a:pt x="29" y="318"/>
                  </a:lnTo>
                  <a:lnTo>
                    <a:pt x="29" y="307"/>
                  </a:lnTo>
                  <a:lnTo>
                    <a:pt x="33" y="307"/>
                  </a:lnTo>
                  <a:lnTo>
                    <a:pt x="33" y="301"/>
                  </a:lnTo>
                  <a:lnTo>
                    <a:pt x="38" y="301"/>
                  </a:lnTo>
                  <a:lnTo>
                    <a:pt x="38" y="296"/>
                  </a:lnTo>
                  <a:lnTo>
                    <a:pt x="43" y="296"/>
                  </a:lnTo>
                  <a:lnTo>
                    <a:pt x="43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7" y="283"/>
                  </a:lnTo>
                  <a:lnTo>
                    <a:pt x="57" y="272"/>
                  </a:lnTo>
                  <a:lnTo>
                    <a:pt x="62" y="272"/>
                  </a:lnTo>
                  <a:lnTo>
                    <a:pt x="62" y="266"/>
                  </a:lnTo>
                  <a:lnTo>
                    <a:pt x="77" y="266"/>
                  </a:lnTo>
                  <a:lnTo>
                    <a:pt x="77" y="260"/>
                  </a:lnTo>
                  <a:lnTo>
                    <a:pt x="81" y="260"/>
                  </a:lnTo>
                  <a:lnTo>
                    <a:pt x="81" y="255"/>
                  </a:lnTo>
                  <a:lnTo>
                    <a:pt x="87" y="255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1" y="242"/>
                  </a:lnTo>
                  <a:lnTo>
                    <a:pt x="100" y="242"/>
                  </a:lnTo>
                  <a:lnTo>
                    <a:pt x="100" y="237"/>
                  </a:lnTo>
                  <a:lnTo>
                    <a:pt x="110" y="237"/>
                  </a:lnTo>
                  <a:lnTo>
                    <a:pt x="110" y="231"/>
                  </a:lnTo>
                  <a:lnTo>
                    <a:pt x="115" y="231"/>
                  </a:lnTo>
                  <a:lnTo>
                    <a:pt x="115" y="225"/>
                  </a:lnTo>
                  <a:lnTo>
                    <a:pt x="124" y="225"/>
                  </a:lnTo>
                  <a:lnTo>
                    <a:pt x="124" y="218"/>
                  </a:lnTo>
                  <a:lnTo>
                    <a:pt x="134" y="218"/>
                  </a:lnTo>
                  <a:lnTo>
                    <a:pt x="134" y="213"/>
                  </a:lnTo>
                  <a:lnTo>
                    <a:pt x="144" y="213"/>
                  </a:lnTo>
                  <a:lnTo>
                    <a:pt x="144" y="207"/>
                  </a:lnTo>
                  <a:lnTo>
                    <a:pt x="149" y="207"/>
                  </a:lnTo>
                  <a:lnTo>
                    <a:pt x="149" y="201"/>
                  </a:lnTo>
                  <a:lnTo>
                    <a:pt x="159" y="201"/>
                  </a:lnTo>
                  <a:lnTo>
                    <a:pt x="159" y="195"/>
                  </a:lnTo>
                  <a:lnTo>
                    <a:pt x="163" y="195"/>
                  </a:lnTo>
                  <a:lnTo>
                    <a:pt x="163" y="190"/>
                  </a:lnTo>
                  <a:lnTo>
                    <a:pt x="168" y="190"/>
                  </a:lnTo>
                  <a:lnTo>
                    <a:pt x="168" y="183"/>
                  </a:lnTo>
                  <a:lnTo>
                    <a:pt x="182" y="183"/>
                  </a:lnTo>
                  <a:lnTo>
                    <a:pt x="182" y="177"/>
                  </a:lnTo>
                  <a:lnTo>
                    <a:pt x="192" y="177"/>
                  </a:lnTo>
                  <a:lnTo>
                    <a:pt x="192" y="172"/>
                  </a:lnTo>
                  <a:lnTo>
                    <a:pt x="217" y="172"/>
                  </a:lnTo>
                  <a:lnTo>
                    <a:pt x="217" y="165"/>
                  </a:lnTo>
                  <a:lnTo>
                    <a:pt x="226" y="165"/>
                  </a:lnTo>
                  <a:lnTo>
                    <a:pt x="226" y="160"/>
                  </a:lnTo>
                  <a:lnTo>
                    <a:pt x="240" y="160"/>
                  </a:lnTo>
                  <a:lnTo>
                    <a:pt x="240" y="153"/>
                  </a:lnTo>
                  <a:lnTo>
                    <a:pt x="250" y="153"/>
                  </a:lnTo>
                  <a:lnTo>
                    <a:pt x="250" y="147"/>
                  </a:lnTo>
                  <a:lnTo>
                    <a:pt x="273" y="147"/>
                  </a:lnTo>
                  <a:lnTo>
                    <a:pt x="273" y="142"/>
                  </a:lnTo>
                  <a:lnTo>
                    <a:pt x="283" y="142"/>
                  </a:lnTo>
                  <a:lnTo>
                    <a:pt x="283" y="136"/>
                  </a:lnTo>
                  <a:lnTo>
                    <a:pt x="298" y="136"/>
                  </a:lnTo>
                  <a:lnTo>
                    <a:pt x="298" y="131"/>
                  </a:lnTo>
                  <a:lnTo>
                    <a:pt x="317" y="131"/>
                  </a:lnTo>
                  <a:lnTo>
                    <a:pt x="317" y="124"/>
                  </a:lnTo>
                  <a:lnTo>
                    <a:pt x="326" y="124"/>
                  </a:lnTo>
                  <a:lnTo>
                    <a:pt x="326" y="119"/>
                  </a:lnTo>
                  <a:lnTo>
                    <a:pt x="340" y="119"/>
                  </a:lnTo>
                  <a:lnTo>
                    <a:pt x="340" y="112"/>
                  </a:lnTo>
                  <a:lnTo>
                    <a:pt x="379" y="112"/>
                  </a:lnTo>
                  <a:lnTo>
                    <a:pt x="379" y="106"/>
                  </a:lnTo>
                  <a:lnTo>
                    <a:pt x="403" y="106"/>
                  </a:lnTo>
                  <a:lnTo>
                    <a:pt x="403" y="100"/>
                  </a:lnTo>
                  <a:lnTo>
                    <a:pt x="432" y="100"/>
                  </a:lnTo>
                  <a:lnTo>
                    <a:pt x="432" y="95"/>
                  </a:lnTo>
                  <a:lnTo>
                    <a:pt x="447" y="95"/>
                  </a:lnTo>
                  <a:lnTo>
                    <a:pt x="447" y="89"/>
                  </a:lnTo>
                  <a:lnTo>
                    <a:pt x="465" y="89"/>
                  </a:lnTo>
                  <a:lnTo>
                    <a:pt x="465" y="82"/>
                  </a:lnTo>
                  <a:lnTo>
                    <a:pt x="484" y="82"/>
                  </a:lnTo>
                  <a:lnTo>
                    <a:pt x="484" y="77"/>
                  </a:lnTo>
                  <a:lnTo>
                    <a:pt x="505" y="77"/>
                  </a:lnTo>
                  <a:lnTo>
                    <a:pt x="505" y="71"/>
                  </a:lnTo>
                  <a:lnTo>
                    <a:pt x="528" y="71"/>
                  </a:lnTo>
                  <a:lnTo>
                    <a:pt x="528" y="65"/>
                  </a:lnTo>
                  <a:lnTo>
                    <a:pt x="552" y="65"/>
                  </a:lnTo>
                  <a:lnTo>
                    <a:pt x="552" y="59"/>
                  </a:lnTo>
                  <a:lnTo>
                    <a:pt x="561" y="59"/>
                  </a:lnTo>
                  <a:lnTo>
                    <a:pt x="561" y="54"/>
                  </a:lnTo>
                  <a:lnTo>
                    <a:pt x="600" y="54"/>
                  </a:lnTo>
                  <a:lnTo>
                    <a:pt x="600" y="46"/>
                  </a:lnTo>
                  <a:lnTo>
                    <a:pt x="638" y="46"/>
                  </a:lnTo>
                  <a:lnTo>
                    <a:pt x="638" y="41"/>
                  </a:lnTo>
                  <a:lnTo>
                    <a:pt x="663" y="41"/>
                  </a:lnTo>
                  <a:lnTo>
                    <a:pt x="663" y="36"/>
                  </a:lnTo>
                  <a:lnTo>
                    <a:pt x="710" y="36"/>
                  </a:lnTo>
                  <a:lnTo>
                    <a:pt x="710" y="30"/>
                  </a:lnTo>
                  <a:lnTo>
                    <a:pt x="730" y="30"/>
                  </a:lnTo>
                  <a:lnTo>
                    <a:pt x="730" y="24"/>
                  </a:lnTo>
                  <a:lnTo>
                    <a:pt x="739" y="24"/>
                  </a:lnTo>
                  <a:lnTo>
                    <a:pt x="739" y="17"/>
                  </a:lnTo>
                  <a:lnTo>
                    <a:pt x="749" y="17"/>
                  </a:lnTo>
                  <a:lnTo>
                    <a:pt x="749" y="12"/>
                  </a:lnTo>
                  <a:lnTo>
                    <a:pt x="793" y="12"/>
                  </a:lnTo>
                  <a:lnTo>
                    <a:pt x="793" y="5"/>
                  </a:lnTo>
                  <a:lnTo>
                    <a:pt x="807" y="5"/>
                  </a:lnTo>
                  <a:lnTo>
                    <a:pt x="807" y="12"/>
                  </a:lnTo>
                  <a:lnTo>
                    <a:pt x="816" y="12"/>
                  </a:lnTo>
                  <a:lnTo>
                    <a:pt x="816" y="5"/>
                  </a:lnTo>
                  <a:lnTo>
                    <a:pt x="835" y="5"/>
                  </a:lnTo>
                  <a:lnTo>
                    <a:pt x="835" y="0"/>
                  </a:lnTo>
                  <a:lnTo>
                    <a:pt x="865" y="0"/>
                  </a:lnTo>
                  <a:lnTo>
                    <a:pt x="865" y="5"/>
                  </a:lnTo>
                  <a:lnTo>
                    <a:pt x="869" y="5"/>
                  </a:lnTo>
                  <a:lnTo>
                    <a:pt x="869" y="12"/>
                  </a:lnTo>
                  <a:lnTo>
                    <a:pt x="875" y="12"/>
                  </a:lnTo>
                  <a:lnTo>
                    <a:pt x="875" y="17"/>
                  </a:lnTo>
                  <a:lnTo>
                    <a:pt x="879" y="17"/>
                  </a:lnTo>
                  <a:lnTo>
                    <a:pt x="879" y="30"/>
                  </a:lnTo>
                  <a:lnTo>
                    <a:pt x="875" y="30"/>
                  </a:lnTo>
                  <a:lnTo>
                    <a:pt x="875" y="54"/>
                  </a:lnTo>
                  <a:lnTo>
                    <a:pt x="865" y="54"/>
                  </a:lnTo>
                  <a:lnTo>
                    <a:pt x="865" y="59"/>
                  </a:lnTo>
                  <a:lnTo>
                    <a:pt x="835" y="59"/>
                  </a:lnTo>
                  <a:lnTo>
                    <a:pt x="835" y="65"/>
                  </a:lnTo>
                  <a:lnTo>
                    <a:pt x="812" y="65"/>
                  </a:lnTo>
                  <a:lnTo>
                    <a:pt x="812" y="71"/>
                  </a:lnTo>
                  <a:lnTo>
                    <a:pt x="782" y="71"/>
                  </a:lnTo>
                  <a:lnTo>
                    <a:pt x="782" y="77"/>
                  </a:lnTo>
                  <a:lnTo>
                    <a:pt x="745" y="77"/>
                  </a:lnTo>
                  <a:lnTo>
                    <a:pt x="745" y="82"/>
                  </a:lnTo>
                  <a:lnTo>
                    <a:pt x="735" y="82"/>
                  </a:lnTo>
                  <a:lnTo>
                    <a:pt x="735" y="89"/>
                  </a:lnTo>
                  <a:lnTo>
                    <a:pt x="715" y="89"/>
                  </a:lnTo>
                  <a:lnTo>
                    <a:pt x="715" y="95"/>
                  </a:lnTo>
                  <a:lnTo>
                    <a:pt x="696" y="95"/>
                  </a:lnTo>
                  <a:lnTo>
                    <a:pt x="696" y="100"/>
                  </a:lnTo>
                  <a:lnTo>
                    <a:pt x="624" y="100"/>
                  </a:lnTo>
                  <a:lnTo>
                    <a:pt x="624" y="106"/>
                  </a:lnTo>
                  <a:lnTo>
                    <a:pt x="591" y="106"/>
                  </a:lnTo>
                  <a:lnTo>
                    <a:pt x="591" y="112"/>
                  </a:lnTo>
                  <a:lnTo>
                    <a:pt x="566" y="112"/>
                  </a:lnTo>
                  <a:lnTo>
                    <a:pt x="566" y="119"/>
                  </a:lnTo>
                  <a:lnTo>
                    <a:pt x="547" y="119"/>
                  </a:lnTo>
                  <a:lnTo>
                    <a:pt x="547" y="124"/>
                  </a:lnTo>
                  <a:lnTo>
                    <a:pt x="542" y="124"/>
                  </a:lnTo>
                  <a:lnTo>
                    <a:pt x="542" y="131"/>
                  </a:lnTo>
                  <a:lnTo>
                    <a:pt x="514" y="131"/>
                  </a:lnTo>
                  <a:lnTo>
                    <a:pt x="514" y="136"/>
                  </a:lnTo>
                  <a:lnTo>
                    <a:pt x="484" y="136"/>
                  </a:lnTo>
                  <a:lnTo>
                    <a:pt x="484" y="142"/>
                  </a:lnTo>
                  <a:lnTo>
                    <a:pt x="465" y="142"/>
                  </a:lnTo>
                  <a:lnTo>
                    <a:pt x="465" y="147"/>
                  </a:lnTo>
                  <a:lnTo>
                    <a:pt x="457" y="147"/>
                  </a:lnTo>
                  <a:lnTo>
                    <a:pt x="457" y="153"/>
                  </a:lnTo>
                  <a:lnTo>
                    <a:pt x="437" y="153"/>
                  </a:lnTo>
                  <a:lnTo>
                    <a:pt x="437" y="160"/>
                  </a:lnTo>
                  <a:lnTo>
                    <a:pt x="394" y="160"/>
                  </a:lnTo>
                  <a:lnTo>
                    <a:pt x="394" y="165"/>
                  </a:lnTo>
                  <a:lnTo>
                    <a:pt x="375" y="165"/>
                  </a:lnTo>
                  <a:lnTo>
                    <a:pt x="375" y="172"/>
                  </a:lnTo>
                  <a:lnTo>
                    <a:pt x="361" y="172"/>
                  </a:lnTo>
                  <a:lnTo>
                    <a:pt x="361" y="177"/>
                  </a:lnTo>
                  <a:lnTo>
                    <a:pt x="331" y="177"/>
                  </a:lnTo>
                  <a:lnTo>
                    <a:pt x="331" y="183"/>
                  </a:lnTo>
                  <a:lnTo>
                    <a:pt x="317" y="183"/>
                  </a:lnTo>
                  <a:lnTo>
                    <a:pt x="317" y="190"/>
                  </a:lnTo>
                  <a:lnTo>
                    <a:pt x="302" y="190"/>
                  </a:lnTo>
                  <a:lnTo>
                    <a:pt x="302" y="195"/>
                  </a:lnTo>
                  <a:lnTo>
                    <a:pt x="288" y="195"/>
                  </a:lnTo>
                  <a:lnTo>
                    <a:pt x="288" y="201"/>
                  </a:lnTo>
                  <a:lnTo>
                    <a:pt x="273" y="201"/>
                  </a:lnTo>
                  <a:lnTo>
                    <a:pt x="273" y="207"/>
                  </a:lnTo>
                  <a:lnTo>
                    <a:pt x="258" y="207"/>
                  </a:lnTo>
                  <a:lnTo>
                    <a:pt x="258" y="213"/>
                  </a:lnTo>
                  <a:lnTo>
                    <a:pt x="250" y="213"/>
                  </a:lnTo>
                  <a:lnTo>
                    <a:pt x="250" y="218"/>
                  </a:lnTo>
                  <a:lnTo>
                    <a:pt x="235" y="218"/>
                  </a:lnTo>
                  <a:lnTo>
                    <a:pt x="235" y="225"/>
                  </a:lnTo>
                  <a:lnTo>
                    <a:pt x="226" y="225"/>
                  </a:lnTo>
                  <a:lnTo>
                    <a:pt x="226" y="231"/>
                  </a:lnTo>
                  <a:lnTo>
                    <a:pt x="210" y="231"/>
                  </a:lnTo>
                  <a:lnTo>
                    <a:pt x="210" y="237"/>
                  </a:lnTo>
                  <a:lnTo>
                    <a:pt x="201" y="237"/>
                  </a:lnTo>
                  <a:lnTo>
                    <a:pt x="201" y="242"/>
                  </a:lnTo>
                  <a:lnTo>
                    <a:pt x="192" y="242"/>
                  </a:lnTo>
                  <a:lnTo>
                    <a:pt x="192" y="248"/>
                  </a:lnTo>
                  <a:lnTo>
                    <a:pt x="182" y="248"/>
                  </a:lnTo>
                  <a:lnTo>
                    <a:pt x="182" y="255"/>
                  </a:lnTo>
                  <a:lnTo>
                    <a:pt x="177" y="255"/>
                  </a:lnTo>
                  <a:lnTo>
                    <a:pt x="177" y="260"/>
                  </a:lnTo>
                  <a:lnTo>
                    <a:pt x="173" y="260"/>
                  </a:lnTo>
                  <a:lnTo>
                    <a:pt x="173" y="266"/>
                  </a:lnTo>
                  <a:lnTo>
                    <a:pt x="159" y="266"/>
                  </a:lnTo>
                  <a:lnTo>
                    <a:pt x="159" y="272"/>
                  </a:lnTo>
                  <a:lnTo>
                    <a:pt x="154" y="272"/>
                  </a:lnTo>
                  <a:lnTo>
                    <a:pt x="154" y="277"/>
                  </a:lnTo>
                  <a:lnTo>
                    <a:pt x="149" y="277"/>
                  </a:lnTo>
                  <a:lnTo>
                    <a:pt x="149" y="283"/>
                  </a:lnTo>
                  <a:lnTo>
                    <a:pt x="134" y="283"/>
                  </a:lnTo>
                  <a:lnTo>
                    <a:pt x="134" y="289"/>
                  </a:lnTo>
                  <a:lnTo>
                    <a:pt x="124" y="289"/>
                  </a:lnTo>
                  <a:lnTo>
                    <a:pt x="124" y="296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10" y="301"/>
                  </a:lnTo>
                  <a:lnTo>
                    <a:pt x="110" y="307"/>
                  </a:lnTo>
                  <a:lnTo>
                    <a:pt x="106" y="307"/>
                  </a:lnTo>
                  <a:lnTo>
                    <a:pt x="106" y="313"/>
                  </a:lnTo>
                  <a:lnTo>
                    <a:pt x="100" y="313"/>
                  </a:lnTo>
                  <a:lnTo>
                    <a:pt x="100" y="318"/>
                  </a:lnTo>
                  <a:lnTo>
                    <a:pt x="96" y="318"/>
                  </a:lnTo>
                  <a:lnTo>
                    <a:pt x="96" y="326"/>
                  </a:lnTo>
                  <a:lnTo>
                    <a:pt x="91" y="326"/>
                  </a:lnTo>
                  <a:lnTo>
                    <a:pt x="91" y="331"/>
                  </a:lnTo>
                  <a:lnTo>
                    <a:pt x="87" y="331"/>
                  </a:lnTo>
                  <a:lnTo>
                    <a:pt x="87" y="337"/>
                  </a:lnTo>
                  <a:lnTo>
                    <a:pt x="81" y="337"/>
                  </a:lnTo>
                  <a:lnTo>
                    <a:pt x="81" y="349"/>
                  </a:lnTo>
                  <a:lnTo>
                    <a:pt x="77" y="349"/>
                  </a:lnTo>
                  <a:lnTo>
                    <a:pt x="77" y="378"/>
                  </a:lnTo>
                  <a:lnTo>
                    <a:pt x="73" y="378"/>
                  </a:lnTo>
                  <a:lnTo>
                    <a:pt x="73" y="391"/>
                  </a:lnTo>
                  <a:lnTo>
                    <a:pt x="66" y="391"/>
                  </a:lnTo>
                  <a:lnTo>
                    <a:pt x="66" y="408"/>
                  </a:lnTo>
                  <a:lnTo>
                    <a:pt x="62" y="408"/>
                  </a:lnTo>
                  <a:lnTo>
                    <a:pt x="62" y="443"/>
                  </a:lnTo>
                  <a:lnTo>
                    <a:pt x="66" y="443"/>
                  </a:lnTo>
                  <a:lnTo>
                    <a:pt x="66" y="503"/>
                  </a:lnTo>
                  <a:lnTo>
                    <a:pt x="73" y="503"/>
                  </a:lnTo>
                  <a:lnTo>
                    <a:pt x="73" y="538"/>
                  </a:lnTo>
                  <a:lnTo>
                    <a:pt x="77" y="538"/>
                  </a:lnTo>
                  <a:lnTo>
                    <a:pt x="77" y="585"/>
                  </a:lnTo>
                  <a:lnTo>
                    <a:pt x="81" y="585"/>
                  </a:lnTo>
                  <a:lnTo>
                    <a:pt x="81" y="626"/>
                  </a:lnTo>
                  <a:lnTo>
                    <a:pt x="87" y="626"/>
                  </a:lnTo>
                  <a:lnTo>
                    <a:pt x="87" y="656"/>
                  </a:lnTo>
                  <a:lnTo>
                    <a:pt x="91" y="656"/>
                  </a:lnTo>
                  <a:lnTo>
                    <a:pt x="91" y="704"/>
                  </a:lnTo>
                  <a:lnTo>
                    <a:pt x="96" y="704"/>
                  </a:lnTo>
                  <a:lnTo>
                    <a:pt x="96" y="739"/>
                  </a:lnTo>
                  <a:lnTo>
                    <a:pt x="100" y="739"/>
                  </a:lnTo>
                  <a:lnTo>
                    <a:pt x="100" y="804"/>
                  </a:lnTo>
                  <a:lnTo>
                    <a:pt x="106" y="804"/>
                  </a:lnTo>
                  <a:lnTo>
                    <a:pt x="106" y="832"/>
                  </a:lnTo>
                  <a:lnTo>
                    <a:pt x="110" y="832"/>
                  </a:lnTo>
                  <a:lnTo>
                    <a:pt x="110" y="881"/>
                  </a:lnTo>
                  <a:lnTo>
                    <a:pt x="115" y="881"/>
                  </a:lnTo>
                  <a:lnTo>
                    <a:pt x="115" y="910"/>
                  </a:lnTo>
                  <a:lnTo>
                    <a:pt x="120" y="910"/>
                  </a:lnTo>
                  <a:lnTo>
                    <a:pt x="120" y="958"/>
                  </a:lnTo>
                  <a:lnTo>
                    <a:pt x="124" y="958"/>
                  </a:lnTo>
                  <a:lnTo>
                    <a:pt x="124" y="981"/>
                  </a:lnTo>
                  <a:lnTo>
                    <a:pt x="129" y="981"/>
                  </a:lnTo>
                  <a:lnTo>
                    <a:pt x="129" y="1011"/>
                  </a:lnTo>
                  <a:lnTo>
                    <a:pt x="134" y="1011"/>
                  </a:lnTo>
                  <a:lnTo>
                    <a:pt x="134" y="1034"/>
                  </a:lnTo>
                  <a:lnTo>
                    <a:pt x="139" y="1034"/>
                  </a:lnTo>
                  <a:lnTo>
                    <a:pt x="139" y="1069"/>
                  </a:lnTo>
                  <a:lnTo>
                    <a:pt x="144" y="1069"/>
                  </a:lnTo>
                  <a:lnTo>
                    <a:pt x="144" y="1099"/>
                  </a:lnTo>
                  <a:lnTo>
                    <a:pt x="149" y="1099"/>
                  </a:lnTo>
                  <a:lnTo>
                    <a:pt x="149" y="1123"/>
                  </a:lnTo>
                  <a:lnTo>
                    <a:pt x="154" y="1123"/>
                  </a:lnTo>
                  <a:lnTo>
                    <a:pt x="154" y="1136"/>
                  </a:lnTo>
                  <a:lnTo>
                    <a:pt x="159" y="1136"/>
                  </a:lnTo>
                  <a:lnTo>
                    <a:pt x="159" y="1169"/>
                  </a:lnTo>
                  <a:lnTo>
                    <a:pt x="163" y="1169"/>
                  </a:lnTo>
                  <a:lnTo>
                    <a:pt x="163" y="1188"/>
                  </a:lnTo>
                  <a:lnTo>
                    <a:pt x="168" y="1188"/>
                  </a:lnTo>
                  <a:lnTo>
                    <a:pt x="168" y="1218"/>
                  </a:lnTo>
                  <a:lnTo>
                    <a:pt x="173" y="1218"/>
                  </a:lnTo>
                  <a:lnTo>
                    <a:pt x="173" y="1242"/>
                  </a:lnTo>
                  <a:lnTo>
                    <a:pt x="177" y="1242"/>
                  </a:lnTo>
                  <a:lnTo>
                    <a:pt x="177" y="1253"/>
                  </a:lnTo>
                  <a:lnTo>
                    <a:pt x="182" y="1253"/>
                  </a:lnTo>
                  <a:lnTo>
                    <a:pt x="182" y="1283"/>
                  </a:lnTo>
                  <a:lnTo>
                    <a:pt x="187" y="1283"/>
                  </a:lnTo>
                  <a:lnTo>
                    <a:pt x="187" y="1288"/>
                  </a:lnTo>
                  <a:lnTo>
                    <a:pt x="192" y="1288"/>
                  </a:lnTo>
                  <a:lnTo>
                    <a:pt x="192" y="1313"/>
                  </a:lnTo>
                  <a:lnTo>
                    <a:pt x="196" y="1313"/>
                  </a:lnTo>
                  <a:lnTo>
                    <a:pt x="196" y="1330"/>
                  </a:lnTo>
                  <a:lnTo>
                    <a:pt x="201" y="1330"/>
                  </a:lnTo>
                  <a:lnTo>
                    <a:pt x="201" y="1341"/>
                  </a:lnTo>
                  <a:lnTo>
                    <a:pt x="206" y="1341"/>
                  </a:lnTo>
                  <a:lnTo>
                    <a:pt x="206" y="1365"/>
                  </a:lnTo>
                  <a:lnTo>
                    <a:pt x="210" y="1365"/>
                  </a:lnTo>
                  <a:lnTo>
                    <a:pt x="210" y="1383"/>
                  </a:lnTo>
                  <a:lnTo>
                    <a:pt x="217" y="1383"/>
                  </a:lnTo>
                  <a:lnTo>
                    <a:pt x="217" y="1395"/>
                  </a:lnTo>
                  <a:lnTo>
                    <a:pt x="221" y="1395"/>
                  </a:lnTo>
                  <a:lnTo>
                    <a:pt x="221" y="1406"/>
                  </a:lnTo>
                  <a:lnTo>
                    <a:pt x="226" y="1406"/>
                  </a:lnTo>
                  <a:lnTo>
                    <a:pt x="226" y="1419"/>
                  </a:lnTo>
                  <a:lnTo>
                    <a:pt x="231" y="1419"/>
                  </a:lnTo>
                  <a:lnTo>
                    <a:pt x="231" y="1431"/>
                  </a:lnTo>
                  <a:lnTo>
                    <a:pt x="235" y="1431"/>
                  </a:lnTo>
                  <a:lnTo>
                    <a:pt x="235" y="1436"/>
                  </a:lnTo>
                  <a:lnTo>
                    <a:pt x="240" y="1436"/>
                  </a:lnTo>
                  <a:lnTo>
                    <a:pt x="240" y="1449"/>
                  </a:lnTo>
                  <a:lnTo>
                    <a:pt x="244" y="1449"/>
                  </a:lnTo>
                  <a:lnTo>
                    <a:pt x="244" y="1454"/>
                  </a:lnTo>
                  <a:lnTo>
                    <a:pt x="250" y="1454"/>
                  </a:lnTo>
                  <a:lnTo>
                    <a:pt x="250" y="1465"/>
                  </a:lnTo>
                  <a:lnTo>
                    <a:pt x="254" y="1465"/>
                  </a:lnTo>
                  <a:lnTo>
                    <a:pt x="254" y="1477"/>
                  </a:lnTo>
                  <a:lnTo>
                    <a:pt x="258" y="1477"/>
                  </a:lnTo>
                  <a:lnTo>
                    <a:pt x="258" y="1490"/>
                  </a:lnTo>
                  <a:lnTo>
                    <a:pt x="264" y="1490"/>
                  </a:lnTo>
                  <a:lnTo>
                    <a:pt x="264" y="1501"/>
                  </a:lnTo>
                  <a:lnTo>
                    <a:pt x="268" y="1501"/>
                  </a:lnTo>
                  <a:lnTo>
                    <a:pt x="268" y="1507"/>
                  </a:lnTo>
                  <a:lnTo>
                    <a:pt x="273" y="1507"/>
                  </a:lnTo>
                  <a:lnTo>
                    <a:pt x="273" y="1514"/>
                  </a:lnTo>
                  <a:lnTo>
                    <a:pt x="278" y="1514"/>
                  </a:lnTo>
                  <a:lnTo>
                    <a:pt x="278" y="1525"/>
                  </a:lnTo>
                  <a:lnTo>
                    <a:pt x="283" y="1525"/>
                  </a:lnTo>
                  <a:lnTo>
                    <a:pt x="283" y="1536"/>
                  </a:lnTo>
                  <a:lnTo>
                    <a:pt x="288" y="1536"/>
                  </a:lnTo>
                  <a:lnTo>
                    <a:pt x="288" y="1542"/>
                  </a:lnTo>
                  <a:lnTo>
                    <a:pt x="293" y="1542"/>
                  </a:lnTo>
                  <a:lnTo>
                    <a:pt x="293" y="1555"/>
                  </a:lnTo>
                  <a:lnTo>
                    <a:pt x="298" y="1555"/>
                  </a:lnTo>
                  <a:lnTo>
                    <a:pt x="298" y="1566"/>
                  </a:lnTo>
                  <a:lnTo>
                    <a:pt x="302" y="1566"/>
                  </a:lnTo>
                  <a:lnTo>
                    <a:pt x="302" y="1572"/>
                  </a:lnTo>
                  <a:lnTo>
                    <a:pt x="307" y="1572"/>
                  </a:lnTo>
                  <a:lnTo>
                    <a:pt x="307" y="1583"/>
                  </a:lnTo>
                  <a:lnTo>
                    <a:pt x="312" y="1583"/>
                  </a:lnTo>
                  <a:lnTo>
                    <a:pt x="312" y="1590"/>
                  </a:lnTo>
                  <a:lnTo>
                    <a:pt x="317" y="1590"/>
                  </a:lnTo>
                  <a:lnTo>
                    <a:pt x="317" y="1596"/>
                  </a:lnTo>
                  <a:lnTo>
                    <a:pt x="321" y="1596"/>
                  </a:lnTo>
                  <a:lnTo>
                    <a:pt x="321" y="1608"/>
                  </a:lnTo>
                  <a:lnTo>
                    <a:pt x="326" y="1608"/>
                  </a:lnTo>
                  <a:lnTo>
                    <a:pt x="326" y="1618"/>
                  </a:lnTo>
                  <a:lnTo>
                    <a:pt x="331" y="1618"/>
                  </a:lnTo>
                  <a:lnTo>
                    <a:pt x="331" y="1631"/>
                  </a:lnTo>
                  <a:lnTo>
                    <a:pt x="335" y="1631"/>
                  </a:lnTo>
                  <a:lnTo>
                    <a:pt x="335" y="1642"/>
                  </a:lnTo>
                  <a:lnTo>
                    <a:pt x="340" y="1642"/>
                  </a:lnTo>
                  <a:lnTo>
                    <a:pt x="340" y="1650"/>
                  </a:lnTo>
                  <a:lnTo>
                    <a:pt x="345" y="1650"/>
                  </a:lnTo>
                  <a:lnTo>
                    <a:pt x="345" y="1655"/>
                  </a:lnTo>
                  <a:lnTo>
                    <a:pt x="350" y="1655"/>
                  </a:lnTo>
                  <a:lnTo>
                    <a:pt x="350" y="1667"/>
                  </a:lnTo>
                  <a:lnTo>
                    <a:pt x="354" y="1667"/>
                  </a:lnTo>
                  <a:lnTo>
                    <a:pt x="354" y="1678"/>
                  </a:lnTo>
                  <a:lnTo>
                    <a:pt x="361" y="1678"/>
                  </a:lnTo>
                  <a:lnTo>
                    <a:pt x="361" y="1685"/>
                  </a:lnTo>
                  <a:lnTo>
                    <a:pt x="365" y="1685"/>
                  </a:lnTo>
                  <a:lnTo>
                    <a:pt x="365" y="1691"/>
                  </a:lnTo>
                  <a:lnTo>
                    <a:pt x="370" y="1691"/>
                  </a:lnTo>
                  <a:lnTo>
                    <a:pt x="370" y="1696"/>
                  </a:lnTo>
                  <a:lnTo>
                    <a:pt x="375" y="1696"/>
                  </a:lnTo>
                  <a:lnTo>
                    <a:pt x="375" y="1708"/>
                  </a:lnTo>
                  <a:lnTo>
                    <a:pt x="379" y="1708"/>
                  </a:lnTo>
                  <a:lnTo>
                    <a:pt x="379" y="1720"/>
                  </a:lnTo>
                  <a:lnTo>
                    <a:pt x="384" y="1720"/>
                  </a:lnTo>
                  <a:lnTo>
                    <a:pt x="384" y="1726"/>
                  </a:lnTo>
                  <a:lnTo>
                    <a:pt x="388" y="1726"/>
                  </a:lnTo>
                  <a:lnTo>
                    <a:pt x="388" y="1732"/>
                  </a:lnTo>
                  <a:lnTo>
                    <a:pt x="394" y="1732"/>
                  </a:lnTo>
                  <a:lnTo>
                    <a:pt x="394" y="1743"/>
                  </a:lnTo>
                  <a:lnTo>
                    <a:pt x="398" y="1743"/>
                  </a:lnTo>
                  <a:lnTo>
                    <a:pt x="398" y="1749"/>
                  </a:lnTo>
                  <a:lnTo>
                    <a:pt x="403" y="1749"/>
                  </a:lnTo>
                  <a:lnTo>
                    <a:pt x="403" y="1756"/>
                  </a:lnTo>
                  <a:lnTo>
                    <a:pt x="408" y="1756"/>
                  </a:lnTo>
                  <a:lnTo>
                    <a:pt x="408" y="1767"/>
                  </a:lnTo>
                  <a:lnTo>
                    <a:pt x="413" y="1767"/>
                  </a:lnTo>
                  <a:lnTo>
                    <a:pt x="413" y="1773"/>
                  </a:lnTo>
                  <a:lnTo>
                    <a:pt x="417" y="1773"/>
                  </a:lnTo>
                  <a:lnTo>
                    <a:pt x="417" y="1778"/>
                  </a:lnTo>
                  <a:lnTo>
                    <a:pt x="422" y="1778"/>
                  </a:lnTo>
                  <a:lnTo>
                    <a:pt x="422" y="1791"/>
                  </a:lnTo>
                  <a:lnTo>
                    <a:pt x="427" y="1791"/>
                  </a:lnTo>
                  <a:lnTo>
                    <a:pt x="427" y="1797"/>
                  </a:lnTo>
                  <a:lnTo>
                    <a:pt x="432" y="1797"/>
                  </a:lnTo>
                  <a:lnTo>
                    <a:pt x="432" y="1809"/>
                  </a:lnTo>
                  <a:lnTo>
                    <a:pt x="437" y="1809"/>
                  </a:lnTo>
                  <a:lnTo>
                    <a:pt x="437" y="1819"/>
                  </a:lnTo>
                  <a:lnTo>
                    <a:pt x="442" y="1819"/>
                  </a:lnTo>
                  <a:lnTo>
                    <a:pt x="442" y="1832"/>
                  </a:lnTo>
                  <a:lnTo>
                    <a:pt x="447" y="1832"/>
                  </a:lnTo>
                  <a:lnTo>
                    <a:pt x="447" y="1844"/>
                  </a:lnTo>
                  <a:lnTo>
                    <a:pt x="451" y="1844"/>
                  </a:lnTo>
                  <a:lnTo>
                    <a:pt x="451" y="1851"/>
                  </a:lnTo>
                  <a:lnTo>
                    <a:pt x="457" y="1851"/>
                  </a:lnTo>
                  <a:lnTo>
                    <a:pt x="457" y="1862"/>
                  </a:lnTo>
                  <a:lnTo>
                    <a:pt x="461" y="1862"/>
                  </a:lnTo>
                  <a:lnTo>
                    <a:pt x="461" y="1868"/>
                  </a:lnTo>
                  <a:lnTo>
                    <a:pt x="465" y="1868"/>
                  </a:lnTo>
                  <a:lnTo>
                    <a:pt x="465" y="1879"/>
                  </a:lnTo>
                  <a:lnTo>
                    <a:pt x="471" y="1879"/>
                  </a:lnTo>
                  <a:lnTo>
                    <a:pt x="471" y="1885"/>
                  </a:lnTo>
                  <a:lnTo>
                    <a:pt x="475" y="1885"/>
                  </a:lnTo>
                  <a:lnTo>
                    <a:pt x="475" y="1892"/>
                  </a:lnTo>
                  <a:lnTo>
                    <a:pt x="480" y="1892"/>
                  </a:lnTo>
                  <a:lnTo>
                    <a:pt x="480" y="1897"/>
                  </a:lnTo>
                  <a:lnTo>
                    <a:pt x="484" y="1897"/>
                  </a:lnTo>
                  <a:lnTo>
                    <a:pt x="484" y="1909"/>
                  </a:lnTo>
                  <a:lnTo>
                    <a:pt x="490" y="1909"/>
                  </a:lnTo>
                  <a:lnTo>
                    <a:pt x="490" y="1915"/>
                  </a:lnTo>
                  <a:lnTo>
                    <a:pt x="494" y="1915"/>
                  </a:lnTo>
                  <a:lnTo>
                    <a:pt x="494" y="1922"/>
                  </a:lnTo>
                  <a:lnTo>
                    <a:pt x="499" y="1922"/>
                  </a:lnTo>
                  <a:lnTo>
                    <a:pt x="499" y="1933"/>
                  </a:lnTo>
                  <a:lnTo>
                    <a:pt x="505" y="1933"/>
                  </a:lnTo>
                  <a:lnTo>
                    <a:pt x="505" y="1938"/>
                  </a:lnTo>
                  <a:lnTo>
                    <a:pt x="509" y="1938"/>
                  </a:lnTo>
                  <a:lnTo>
                    <a:pt x="509" y="1950"/>
                  </a:lnTo>
                  <a:lnTo>
                    <a:pt x="514" y="1950"/>
                  </a:lnTo>
                  <a:lnTo>
                    <a:pt x="514" y="1955"/>
                  </a:lnTo>
                  <a:lnTo>
                    <a:pt x="519" y="1955"/>
                  </a:lnTo>
                  <a:lnTo>
                    <a:pt x="519" y="1968"/>
                  </a:lnTo>
                  <a:lnTo>
                    <a:pt x="524" y="1968"/>
                  </a:lnTo>
                  <a:lnTo>
                    <a:pt x="524" y="1980"/>
                  </a:lnTo>
                  <a:lnTo>
                    <a:pt x="528" y="1980"/>
                  </a:lnTo>
                  <a:lnTo>
                    <a:pt x="528" y="1985"/>
                  </a:lnTo>
                  <a:lnTo>
                    <a:pt x="533" y="1985"/>
                  </a:lnTo>
                  <a:lnTo>
                    <a:pt x="533" y="1992"/>
                  </a:lnTo>
                  <a:lnTo>
                    <a:pt x="538" y="1992"/>
                  </a:lnTo>
                  <a:lnTo>
                    <a:pt x="538" y="2004"/>
                  </a:lnTo>
                  <a:lnTo>
                    <a:pt x="542" y="2004"/>
                  </a:lnTo>
                  <a:lnTo>
                    <a:pt x="542" y="2009"/>
                  </a:lnTo>
                  <a:lnTo>
                    <a:pt x="547" y="2009"/>
                  </a:lnTo>
                  <a:lnTo>
                    <a:pt x="547" y="2015"/>
                  </a:lnTo>
                  <a:lnTo>
                    <a:pt x="552" y="2015"/>
                  </a:lnTo>
                  <a:lnTo>
                    <a:pt x="552" y="2028"/>
                  </a:lnTo>
                  <a:lnTo>
                    <a:pt x="557" y="2028"/>
                  </a:lnTo>
                  <a:lnTo>
                    <a:pt x="557" y="2033"/>
                  </a:lnTo>
                  <a:lnTo>
                    <a:pt x="561" y="2033"/>
                  </a:lnTo>
                  <a:lnTo>
                    <a:pt x="561" y="2045"/>
                  </a:lnTo>
                  <a:lnTo>
                    <a:pt x="566" y="2045"/>
                  </a:lnTo>
                  <a:lnTo>
                    <a:pt x="566" y="2050"/>
                  </a:lnTo>
                  <a:lnTo>
                    <a:pt x="571" y="2050"/>
                  </a:lnTo>
                  <a:lnTo>
                    <a:pt x="571" y="2056"/>
                  </a:lnTo>
                  <a:lnTo>
                    <a:pt x="577" y="2056"/>
                  </a:lnTo>
                  <a:lnTo>
                    <a:pt x="577" y="2063"/>
                  </a:lnTo>
                  <a:lnTo>
                    <a:pt x="581" y="2063"/>
                  </a:lnTo>
                  <a:lnTo>
                    <a:pt x="581" y="2074"/>
                  </a:lnTo>
                  <a:lnTo>
                    <a:pt x="586" y="2074"/>
                  </a:lnTo>
                  <a:lnTo>
                    <a:pt x="586" y="2080"/>
                  </a:lnTo>
                  <a:lnTo>
                    <a:pt x="591" y="2080"/>
                  </a:lnTo>
                  <a:lnTo>
                    <a:pt x="591" y="2086"/>
                  </a:lnTo>
                  <a:lnTo>
                    <a:pt x="595" y="2086"/>
                  </a:lnTo>
                  <a:lnTo>
                    <a:pt x="595" y="2099"/>
                  </a:lnTo>
                  <a:lnTo>
                    <a:pt x="600" y="2099"/>
                  </a:lnTo>
                  <a:lnTo>
                    <a:pt x="600" y="2104"/>
                  </a:lnTo>
                  <a:lnTo>
                    <a:pt x="605" y="2104"/>
                  </a:lnTo>
                  <a:lnTo>
                    <a:pt x="605" y="2110"/>
                  </a:lnTo>
                  <a:lnTo>
                    <a:pt x="609" y="2110"/>
                  </a:lnTo>
                  <a:lnTo>
                    <a:pt x="609" y="2123"/>
                  </a:lnTo>
                  <a:lnTo>
                    <a:pt x="615" y="2123"/>
                  </a:lnTo>
                  <a:lnTo>
                    <a:pt x="615" y="2128"/>
                  </a:lnTo>
                  <a:lnTo>
                    <a:pt x="619" y="2128"/>
                  </a:lnTo>
                  <a:lnTo>
                    <a:pt x="619" y="2140"/>
                  </a:lnTo>
                  <a:lnTo>
                    <a:pt x="624" y="2140"/>
                  </a:lnTo>
                  <a:lnTo>
                    <a:pt x="624" y="2145"/>
                  </a:lnTo>
                  <a:lnTo>
                    <a:pt x="628" y="2145"/>
                  </a:lnTo>
                  <a:lnTo>
                    <a:pt x="628" y="2151"/>
                  </a:lnTo>
                  <a:lnTo>
                    <a:pt x="633" y="2151"/>
                  </a:lnTo>
                  <a:lnTo>
                    <a:pt x="633" y="2158"/>
                  </a:lnTo>
                  <a:lnTo>
                    <a:pt x="638" y="2158"/>
                  </a:lnTo>
                  <a:lnTo>
                    <a:pt x="638" y="2169"/>
                  </a:lnTo>
                  <a:lnTo>
                    <a:pt x="642" y="2169"/>
                  </a:lnTo>
                  <a:lnTo>
                    <a:pt x="642" y="2175"/>
                  </a:lnTo>
                  <a:lnTo>
                    <a:pt x="649" y="2175"/>
                  </a:lnTo>
                  <a:lnTo>
                    <a:pt x="649" y="2181"/>
                  </a:lnTo>
                  <a:lnTo>
                    <a:pt x="653" y="2181"/>
                  </a:lnTo>
                  <a:lnTo>
                    <a:pt x="653" y="2186"/>
                  </a:lnTo>
                  <a:lnTo>
                    <a:pt x="658" y="2186"/>
                  </a:lnTo>
                  <a:lnTo>
                    <a:pt x="658" y="2199"/>
                  </a:lnTo>
                  <a:lnTo>
                    <a:pt x="663" y="2199"/>
                  </a:lnTo>
                  <a:lnTo>
                    <a:pt x="663" y="2205"/>
                  </a:lnTo>
                  <a:lnTo>
                    <a:pt x="668" y="2205"/>
                  </a:lnTo>
                  <a:lnTo>
                    <a:pt x="668" y="2210"/>
                  </a:lnTo>
                  <a:lnTo>
                    <a:pt x="672" y="2210"/>
                  </a:lnTo>
                  <a:lnTo>
                    <a:pt x="672" y="2216"/>
                  </a:lnTo>
                  <a:lnTo>
                    <a:pt x="677" y="2216"/>
                  </a:lnTo>
                  <a:lnTo>
                    <a:pt x="677" y="2222"/>
                  </a:lnTo>
                  <a:lnTo>
                    <a:pt x="682" y="2222"/>
                  </a:lnTo>
                  <a:lnTo>
                    <a:pt x="682" y="2229"/>
                  </a:lnTo>
                  <a:lnTo>
                    <a:pt x="686" y="2229"/>
                  </a:lnTo>
                  <a:lnTo>
                    <a:pt x="686" y="2234"/>
                  </a:lnTo>
                  <a:lnTo>
                    <a:pt x="691" y="2234"/>
                  </a:lnTo>
                  <a:lnTo>
                    <a:pt x="691" y="2240"/>
                  </a:lnTo>
                  <a:lnTo>
                    <a:pt x="696" y="2240"/>
                  </a:lnTo>
                  <a:lnTo>
                    <a:pt x="696" y="2246"/>
                  </a:lnTo>
                  <a:lnTo>
                    <a:pt x="705" y="2246"/>
                  </a:lnTo>
                  <a:lnTo>
                    <a:pt x="705" y="2259"/>
                  </a:lnTo>
                  <a:lnTo>
                    <a:pt x="710" y="2259"/>
                  </a:lnTo>
                  <a:lnTo>
                    <a:pt x="710" y="2264"/>
                  </a:lnTo>
                  <a:lnTo>
                    <a:pt x="715" y="2264"/>
                  </a:lnTo>
                  <a:lnTo>
                    <a:pt x="715" y="2270"/>
                  </a:lnTo>
                  <a:lnTo>
                    <a:pt x="720" y="2270"/>
                  </a:lnTo>
                  <a:lnTo>
                    <a:pt x="720" y="2276"/>
                  </a:lnTo>
                  <a:lnTo>
                    <a:pt x="725" y="2276"/>
                  </a:lnTo>
                  <a:lnTo>
                    <a:pt x="725" y="2282"/>
                  </a:lnTo>
                  <a:lnTo>
                    <a:pt x="730" y="2282"/>
                  </a:lnTo>
                  <a:lnTo>
                    <a:pt x="730" y="2287"/>
                  </a:lnTo>
                  <a:lnTo>
                    <a:pt x="735" y="2287"/>
                  </a:lnTo>
                  <a:lnTo>
                    <a:pt x="735" y="2300"/>
                  </a:lnTo>
                  <a:lnTo>
                    <a:pt x="739" y="2300"/>
                  </a:lnTo>
                  <a:lnTo>
                    <a:pt x="739" y="2305"/>
                  </a:lnTo>
                  <a:lnTo>
                    <a:pt x="745" y="2305"/>
                  </a:lnTo>
                  <a:lnTo>
                    <a:pt x="745" y="2317"/>
                  </a:lnTo>
                  <a:lnTo>
                    <a:pt x="749" y="2317"/>
                  </a:lnTo>
                  <a:lnTo>
                    <a:pt x="749" y="2323"/>
                  </a:lnTo>
                  <a:lnTo>
                    <a:pt x="754" y="2323"/>
                  </a:lnTo>
                  <a:lnTo>
                    <a:pt x="754" y="2328"/>
                  </a:lnTo>
                  <a:lnTo>
                    <a:pt x="763" y="2328"/>
                  </a:lnTo>
                  <a:lnTo>
                    <a:pt x="763" y="2335"/>
                  </a:lnTo>
                  <a:lnTo>
                    <a:pt x="768" y="2335"/>
                  </a:lnTo>
                  <a:lnTo>
                    <a:pt x="768" y="2341"/>
                  </a:lnTo>
                  <a:lnTo>
                    <a:pt x="772" y="2341"/>
                  </a:lnTo>
                  <a:lnTo>
                    <a:pt x="772" y="2346"/>
                  </a:lnTo>
                  <a:lnTo>
                    <a:pt x="778" y="2346"/>
                  </a:lnTo>
                  <a:lnTo>
                    <a:pt x="778" y="2352"/>
                  </a:lnTo>
                  <a:lnTo>
                    <a:pt x="782" y="2352"/>
                  </a:lnTo>
                  <a:lnTo>
                    <a:pt x="782" y="2358"/>
                  </a:lnTo>
                  <a:lnTo>
                    <a:pt x="787" y="2358"/>
                  </a:lnTo>
                  <a:lnTo>
                    <a:pt x="787" y="2365"/>
                  </a:lnTo>
                  <a:lnTo>
                    <a:pt x="793" y="2365"/>
                  </a:lnTo>
                  <a:lnTo>
                    <a:pt x="793" y="2370"/>
                  </a:lnTo>
                  <a:lnTo>
                    <a:pt x="798" y="2370"/>
                  </a:lnTo>
                  <a:lnTo>
                    <a:pt x="798" y="2376"/>
                  </a:lnTo>
                  <a:lnTo>
                    <a:pt x="807" y="2376"/>
                  </a:lnTo>
                  <a:lnTo>
                    <a:pt x="807" y="2382"/>
                  </a:lnTo>
                  <a:lnTo>
                    <a:pt x="835" y="2382"/>
                  </a:lnTo>
                  <a:lnTo>
                    <a:pt x="835" y="2376"/>
                  </a:lnTo>
                  <a:lnTo>
                    <a:pt x="841" y="2376"/>
                  </a:lnTo>
                  <a:lnTo>
                    <a:pt x="841" y="2370"/>
                  </a:lnTo>
                  <a:lnTo>
                    <a:pt x="845" y="2370"/>
                  </a:lnTo>
                  <a:lnTo>
                    <a:pt x="845" y="2365"/>
                  </a:lnTo>
                  <a:lnTo>
                    <a:pt x="849" y="2365"/>
                  </a:lnTo>
                  <a:lnTo>
                    <a:pt x="849" y="2358"/>
                  </a:lnTo>
                  <a:lnTo>
                    <a:pt x="855" y="2358"/>
                  </a:lnTo>
                  <a:lnTo>
                    <a:pt x="855" y="2352"/>
                  </a:lnTo>
                  <a:lnTo>
                    <a:pt x="865" y="2352"/>
                  </a:lnTo>
                  <a:lnTo>
                    <a:pt x="865" y="2341"/>
                  </a:lnTo>
                  <a:lnTo>
                    <a:pt x="869" y="2341"/>
                  </a:lnTo>
                  <a:lnTo>
                    <a:pt x="869" y="2328"/>
                  </a:lnTo>
                  <a:lnTo>
                    <a:pt x="875" y="2328"/>
                  </a:lnTo>
                  <a:lnTo>
                    <a:pt x="875" y="2317"/>
                  </a:lnTo>
                  <a:lnTo>
                    <a:pt x="879" y="2317"/>
                  </a:lnTo>
                  <a:lnTo>
                    <a:pt x="879" y="2305"/>
                  </a:lnTo>
                  <a:lnTo>
                    <a:pt x="883" y="2305"/>
                  </a:lnTo>
                  <a:lnTo>
                    <a:pt x="883" y="2287"/>
                  </a:lnTo>
                  <a:lnTo>
                    <a:pt x="889" y="2287"/>
                  </a:lnTo>
                  <a:lnTo>
                    <a:pt x="889" y="2270"/>
                  </a:lnTo>
                  <a:lnTo>
                    <a:pt x="893" y="2270"/>
                  </a:lnTo>
                  <a:lnTo>
                    <a:pt x="893" y="2251"/>
                  </a:lnTo>
                  <a:lnTo>
                    <a:pt x="898" y="2251"/>
                  </a:lnTo>
                  <a:lnTo>
                    <a:pt x="898" y="2234"/>
                  </a:lnTo>
                  <a:lnTo>
                    <a:pt x="903" y="2234"/>
                  </a:lnTo>
                  <a:lnTo>
                    <a:pt x="903" y="2216"/>
                  </a:lnTo>
                  <a:lnTo>
                    <a:pt x="908" y="2216"/>
                  </a:lnTo>
                  <a:lnTo>
                    <a:pt x="908" y="2210"/>
                  </a:lnTo>
                  <a:lnTo>
                    <a:pt x="912" y="2210"/>
                  </a:lnTo>
                  <a:lnTo>
                    <a:pt x="912" y="2192"/>
                  </a:lnTo>
                  <a:lnTo>
                    <a:pt x="917" y="2192"/>
                  </a:lnTo>
                  <a:lnTo>
                    <a:pt x="917" y="2186"/>
                  </a:lnTo>
                  <a:lnTo>
                    <a:pt x="922" y="2186"/>
                  </a:lnTo>
                  <a:lnTo>
                    <a:pt x="922" y="2175"/>
                  </a:lnTo>
                  <a:lnTo>
                    <a:pt x="926" y="2175"/>
                  </a:lnTo>
                  <a:lnTo>
                    <a:pt x="926" y="2164"/>
                  </a:lnTo>
                  <a:lnTo>
                    <a:pt x="931" y="2164"/>
                  </a:lnTo>
                  <a:lnTo>
                    <a:pt x="931" y="2158"/>
                  </a:lnTo>
                  <a:lnTo>
                    <a:pt x="937" y="2158"/>
                  </a:lnTo>
                  <a:lnTo>
                    <a:pt x="937" y="2145"/>
                  </a:lnTo>
                  <a:lnTo>
                    <a:pt x="941" y="2145"/>
                  </a:lnTo>
                  <a:lnTo>
                    <a:pt x="941" y="2128"/>
                  </a:lnTo>
                  <a:lnTo>
                    <a:pt x="946" y="2128"/>
                  </a:lnTo>
                  <a:lnTo>
                    <a:pt x="946" y="2123"/>
                  </a:lnTo>
                  <a:lnTo>
                    <a:pt x="951" y="2123"/>
                  </a:lnTo>
                  <a:lnTo>
                    <a:pt x="951" y="2110"/>
                  </a:lnTo>
                  <a:lnTo>
                    <a:pt x="956" y="2110"/>
                  </a:lnTo>
                  <a:lnTo>
                    <a:pt x="956" y="2104"/>
                  </a:lnTo>
                  <a:lnTo>
                    <a:pt x="960" y="2104"/>
                  </a:lnTo>
                  <a:lnTo>
                    <a:pt x="960" y="2099"/>
                  </a:lnTo>
                  <a:lnTo>
                    <a:pt x="965" y="2099"/>
                  </a:lnTo>
                  <a:lnTo>
                    <a:pt x="965" y="2086"/>
                  </a:lnTo>
                  <a:lnTo>
                    <a:pt x="970" y="2086"/>
                  </a:lnTo>
                  <a:lnTo>
                    <a:pt x="970" y="2080"/>
                  </a:lnTo>
                  <a:lnTo>
                    <a:pt x="974" y="2080"/>
                  </a:lnTo>
                  <a:lnTo>
                    <a:pt x="974" y="2074"/>
                  </a:lnTo>
                  <a:lnTo>
                    <a:pt x="979" y="2074"/>
                  </a:lnTo>
                  <a:lnTo>
                    <a:pt x="979" y="2069"/>
                  </a:lnTo>
                  <a:lnTo>
                    <a:pt x="984" y="2069"/>
                  </a:lnTo>
                  <a:lnTo>
                    <a:pt x="984" y="2056"/>
                  </a:lnTo>
                  <a:lnTo>
                    <a:pt x="989" y="2056"/>
                  </a:lnTo>
                  <a:lnTo>
                    <a:pt x="989" y="2045"/>
                  </a:lnTo>
                  <a:lnTo>
                    <a:pt x="993" y="2045"/>
                  </a:lnTo>
                  <a:lnTo>
                    <a:pt x="993" y="2039"/>
                  </a:lnTo>
                  <a:lnTo>
                    <a:pt x="999" y="2039"/>
                  </a:lnTo>
                  <a:lnTo>
                    <a:pt x="999" y="2033"/>
                  </a:lnTo>
                  <a:lnTo>
                    <a:pt x="1003" y="2033"/>
                  </a:lnTo>
                  <a:lnTo>
                    <a:pt x="1003" y="2021"/>
                  </a:lnTo>
                  <a:lnTo>
                    <a:pt x="1008" y="2021"/>
                  </a:lnTo>
                  <a:lnTo>
                    <a:pt x="1008" y="2015"/>
                  </a:lnTo>
                  <a:lnTo>
                    <a:pt x="1013" y="2015"/>
                  </a:lnTo>
                  <a:lnTo>
                    <a:pt x="1013" y="2004"/>
                  </a:lnTo>
                  <a:lnTo>
                    <a:pt x="1018" y="2004"/>
                  </a:lnTo>
                  <a:lnTo>
                    <a:pt x="1018" y="1997"/>
                  </a:lnTo>
                  <a:lnTo>
                    <a:pt x="1023" y="1997"/>
                  </a:lnTo>
                  <a:lnTo>
                    <a:pt x="1023" y="1985"/>
                  </a:lnTo>
                  <a:lnTo>
                    <a:pt x="1027" y="1985"/>
                  </a:lnTo>
                  <a:lnTo>
                    <a:pt x="1027" y="1974"/>
                  </a:lnTo>
                  <a:lnTo>
                    <a:pt x="1033" y="1974"/>
                  </a:lnTo>
                  <a:lnTo>
                    <a:pt x="1033" y="1968"/>
                  </a:lnTo>
                  <a:lnTo>
                    <a:pt x="1037" y="1968"/>
                  </a:lnTo>
                  <a:lnTo>
                    <a:pt x="1037" y="1955"/>
                  </a:lnTo>
                  <a:lnTo>
                    <a:pt x="1047" y="1955"/>
                  </a:lnTo>
                  <a:lnTo>
                    <a:pt x="1047" y="1945"/>
                  </a:lnTo>
                  <a:lnTo>
                    <a:pt x="1052" y="1945"/>
                  </a:lnTo>
                  <a:lnTo>
                    <a:pt x="1052" y="1938"/>
                  </a:lnTo>
                  <a:lnTo>
                    <a:pt x="1056" y="1938"/>
                  </a:lnTo>
                  <a:lnTo>
                    <a:pt x="1056" y="1927"/>
                  </a:lnTo>
                  <a:lnTo>
                    <a:pt x="1061" y="1927"/>
                  </a:lnTo>
                  <a:lnTo>
                    <a:pt x="1061" y="1922"/>
                  </a:lnTo>
                  <a:lnTo>
                    <a:pt x="1066" y="1922"/>
                  </a:lnTo>
                  <a:lnTo>
                    <a:pt x="1066" y="1915"/>
                  </a:lnTo>
                  <a:lnTo>
                    <a:pt x="1070" y="1915"/>
                  </a:lnTo>
                  <a:lnTo>
                    <a:pt x="1070" y="1904"/>
                  </a:lnTo>
                  <a:lnTo>
                    <a:pt x="1075" y="1904"/>
                  </a:lnTo>
                  <a:lnTo>
                    <a:pt x="1075" y="1892"/>
                  </a:lnTo>
                  <a:lnTo>
                    <a:pt x="1080" y="1892"/>
                  </a:lnTo>
                  <a:lnTo>
                    <a:pt x="1080" y="1885"/>
                  </a:lnTo>
                  <a:lnTo>
                    <a:pt x="1086" y="1885"/>
                  </a:lnTo>
                  <a:lnTo>
                    <a:pt x="1086" y="1879"/>
                  </a:lnTo>
                  <a:lnTo>
                    <a:pt x="1090" y="1879"/>
                  </a:lnTo>
                  <a:lnTo>
                    <a:pt x="1090" y="1868"/>
                  </a:lnTo>
                  <a:lnTo>
                    <a:pt x="1095" y="1868"/>
                  </a:lnTo>
                  <a:lnTo>
                    <a:pt x="1095" y="1856"/>
                  </a:lnTo>
                  <a:lnTo>
                    <a:pt x="1100" y="1856"/>
                  </a:lnTo>
                  <a:lnTo>
                    <a:pt x="1100" y="1844"/>
                  </a:lnTo>
                  <a:lnTo>
                    <a:pt x="1104" y="1844"/>
                  </a:lnTo>
                  <a:lnTo>
                    <a:pt x="1104" y="1838"/>
                  </a:lnTo>
                  <a:lnTo>
                    <a:pt x="1109" y="1838"/>
                  </a:lnTo>
                  <a:lnTo>
                    <a:pt x="1109" y="1832"/>
                  </a:lnTo>
                  <a:lnTo>
                    <a:pt x="1114" y="1832"/>
                  </a:lnTo>
                  <a:lnTo>
                    <a:pt x="1114" y="1819"/>
                  </a:lnTo>
                  <a:lnTo>
                    <a:pt x="1119" y="1819"/>
                  </a:lnTo>
                  <a:lnTo>
                    <a:pt x="1119" y="1814"/>
                  </a:lnTo>
                  <a:lnTo>
                    <a:pt x="1123" y="1814"/>
                  </a:lnTo>
                  <a:lnTo>
                    <a:pt x="1123" y="1809"/>
                  </a:lnTo>
                  <a:lnTo>
                    <a:pt x="1129" y="1809"/>
                  </a:lnTo>
                  <a:lnTo>
                    <a:pt x="1129" y="1797"/>
                  </a:lnTo>
                  <a:lnTo>
                    <a:pt x="1138" y="1797"/>
                  </a:lnTo>
                  <a:lnTo>
                    <a:pt x="1138" y="1786"/>
                  </a:lnTo>
                  <a:lnTo>
                    <a:pt x="1143" y="1786"/>
                  </a:lnTo>
                  <a:lnTo>
                    <a:pt x="1143" y="1778"/>
                  </a:lnTo>
                  <a:lnTo>
                    <a:pt x="1147" y="1778"/>
                  </a:lnTo>
                  <a:lnTo>
                    <a:pt x="1147" y="1773"/>
                  </a:lnTo>
                  <a:lnTo>
                    <a:pt x="1152" y="1773"/>
                  </a:lnTo>
                  <a:lnTo>
                    <a:pt x="1152" y="1767"/>
                  </a:lnTo>
                  <a:lnTo>
                    <a:pt x="1157" y="1767"/>
                  </a:lnTo>
                  <a:lnTo>
                    <a:pt x="1157" y="1761"/>
                  </a:lnTo>
                  <a:lnTo>
                    <a:pt x="1163" y="1761"/>
                  </a:lnTo>
                  <a:lnTo>
                    <a:pt x="1163" y="1756"/>
                  </a:lnTo>
                  <a:lnTo>
                    <a:pt x="1167" y="1756"/>
                  </a:lnTo>
                  <a:lnTo>
                    <a:pt x="1167" y="1749"/>
                  </a:lnTo>
                  <a:lnTo>
                    <a:pt x="1172" y="1749"/>
                  </a:lnTo>
                  <a:lnTo>
                    <a:pt x="1172" y="1743"/>
                  </a:lnTo>
                  <a:lnTo>
                    <a:pt x="1177" y="1743"/>
                  </a:lnTo>
                  <a:lnTo>
                    <a:pt x="1177" y="1737"/>
                  </a:lnTo>
                  <a:lnTo>
                    <a:pt x="1181" y="1737"/>
                  </a:lnTo>
                  <a:lnTo>
                    <a:pt x="1181" y="1732"/>
                  </a:lnTo>
                  <a:lnTo>
                    <a:pt x="1186" y="1732"/>
                  </a:lnTo>
                  <a:lnTo>
                    <a:pt x="1186" y="1720"/>
                  </a:lnTo>
                  <a:lnTo>
                    <a:pt x="1191" y="1720"/>
                  </a:lnTo>
                  <a:lnTo>
                    <a:pt x="1191" y="1713"/>
                  </a:lnTo>
                  <a:lnTo>
                    <a:pt x="1196" y="1713"/>
                  </a:lnTo>
                  <a:lnTo>
                    <a:pt x="1196" y="1702"/>
                  </a:lnTo>
                  <a:lnTo>
                    <a:pt x="1200" y="1702"/>
                  </a:lnTo>
                  <a:lnTo>
                    <a:pt x="1200" y="1696"/>
                  </a:lnTo>
                  <a:lnTo>
                    <a:pt x="1205" y="1696"/>
                  </a:lnTo>
                  <a:lnTo>
                    <a:pt x="1205" y="1685"/>
                  </a:lnTo>
                  <a:lnTo>
                    <a:pt x="1210" y="1685"/>
                  </a:lnTo>
                  <a:lnTo>
                    <a:pt x="1210" y="1672"/>
                  </a:lnTo>
                  <a:lnTo>
                    <a:pt x="1215" y="1672"/>
                  </a:lnTo>
                  <a:lnTo>
                    <a:pt x="1215" y="1667"/>
                  </a:lnTo>
                  <a:lnTo>
                    <a:pt x="1219" y="1667"/>
                  </a:lnTo>
                  <a:lnTo>
                    <a:pt x="1219" y="1655"/>
                  </a:lnTo>
                  <a:lnTo>
                    <a:pt x="1224" y="1655"/>
                  </a:lnTo>
                  <a:lnTo>
                    <a:pt x="1224" y="1650"/>
                  </a:lnTo>
                  <a:lnTo>
                    <a:pt x="1230" y="1650"/>
                  </a:lnTo>
                  <a:lnTo>
                    <a:pt x="1230" y="1637"/>
                  </a:lnTo>
                  <a:lnTo>
                    <a:pt x="1234" y="1637"/>
                  </a:lnTo>
                  <a:lnTo>
                    <a:pt x="1234" y="1626"/>
                  </a:lnTo>
                  <a:lnTo>
                    <a:pt x="1240" y="1626"/>
                  </a:lnTo>
                  <a:lnTo>
                    <a:pt x="1240" y="1618"/>
                  </a:lnTo>
                  <a:lnTo>
                    <a:pt x="1244" y="1618"/>
                  </a:lnTo>
                  <a:lnTo>
                    <a:pt x="1244" y="1601"/>
                  </a:lnTo>
                  <a:lnTo>
                    <a:pt x="1249" y="1601"/>
                  </a:lnTo>
                  <a:lnTo>
                    <a:pt x="1249" y="1583"/>
                  </a:lnTo>
                  <a:lnTo>
                    <a:pt x="1253" y="1583"/>
                  </a:lnTo>
                  <a:lnTo>
                    <a:pt x="1253" y="1572"/>
                  </a:lnTo>
                  <a:lnTo>
                    <a:pt x="1259" y="1572"/>
                  </a:lnTo>
                  <a:lnTo>
                    <a:pt x="1259" y="1560"/>
                  </a:lnTo>
                  <a:lnTo>
                    <a:pt x="1263" y="1560"/>
                  </a:lnTo>
                  <a:lnTo>
                    <a:pt x="1263" y="1549"/>
                  </a:lnTo>
                  <a:lnTo>
                    <a:pt x="1267" y="1549"/>
                  </a:lnTo>
                  <a:lnTo>
                    <a:pt x="1267" y="1536"/>
                  </a:lnTo>
                  <a:lnTo>
                    <a:pt x="1277" y="1536"/>
                  </a:lnTo>
                  <a:lnTo>
                    <a:pt x="1277" y="1531"/>
                  </a:lnTo>
                  <a:lnTo>
                    <a:pt x="1281" y="1531"/>
                  </a:lnTo>
                  <a:lnTo>
                    <a:pt x="1281" y="1519"/>
                  </a:lnTo>
                  <a:lnTo>
                    <a:pt x="1287" y="1519"/>
                  </a:lnTo>
                  <a:lnTo>
                    <a:pt x="1287" y="1507"/>
                  </a:lnTo>
                  <a:lnTo>
                    <a:pt x="1291" y="1507"/>
                  </a:lnTo>
                  <a:lnTo>
                    <a:pt x="1291" y="1496"/>
                  </a:lnTo>
                  <a:lnTo>
                    <a:pt x="1296" y="1496"/>
                  </a:lnTo>
                  <a:lnTo>
                    <a:pt x="1296" y="1490"/>
                  </a:lnTo>
                  <a:lnTo>
                    <a:pt x="1301" y="1490"/>
                  </a:lnTo>
                  <a:lnTo>
                    <a:pt x="1301" y="1477"/>
                  </a:lnTo>
                  <a:lnTo>
                    <a:pt x="1307" y="1477"/>
                  </a:lnTo>
                  <a:lnTo>
                    <a:pt x="1307" y="1465"/>
                  </a:lnTo>
                  <a:lnTo>
                    <a:pt x="1311" y="1465"/>
                  </a:lnTo>
                  <a:lnTo>
                    <a:pt x="1311" y="1449"/>
                  </a:lnTo>
                  <a:lnTo>
                    <a:pt x="1315" y="1449"/>
                  </a:lnTo>
                  <a:lnTo>
                    <a:pt x="1315" y="1442"/>
                  </a:lnTo>
                  <a:lnTo>
                    <a:pt x="1321" y="1442"/>
                  </a:lnTo>
                  <a:lnTo>
                    <a:pt x="1321" y="1436"/>
                  </a:lnTo>
                  <a:lnTo>
                    <a:pt x="1340" y="1436"/>
                  </a:lnTo>
                  <a:lnTo>
                    <a:pt x="1340" y="1442"/>
                  </a:lnTo>
                  <a:lnTo>
                    <a:pt x="1344" y="1442"/>
                  </a:lnTo>
                  <a:lnTo>
                    <a:pt x="1344" y="1449"/>
                  </a:lnTo>
                  <a:lnTo>
                    <a:pt x="1349" y="1449"/>
                  </a:lnTo>
                  <a:lnTo>
                    <a:pt x="1349" y="1454"/>
                  </a:lnTo>
                  <a:lnTo>
                    <a:pt x="1354" y="1454"/>
                  </a:lnTo>
                  <a:lnTo>
                    <a:pt x="1354" y="1465"/>
                  </a:lnTo>
                  <a:lnTo>
                    <a:pt x="1358" y="1465"/>
                  </a:lnTo>
                  <a:lnTo>
                    <a:pt x="1358" y="1484"/>
                  </a:lnTo>
                  <a:lnTo>
                    <a:pt x="1354" y="1484"/>
                  </a:lnTo>
                  <a:lnTo>
                    <a:pt x="1354" y="1490"/>
                  </a:lnTo>
                  <a:lnTo>
                    <a:pt x="1349" y="1490"/>
                  </a:lnTo>
                  <a:lnTo>
                    <a:pt x="1349" y="1501"/>
                  </a:lnTo>
                  <a:lnTo>
                    <a:pt x="1344" y="1501"/>
                  </a:lnTo>
                  <a:lnTo>
                    <a:pt x="1344" y="1514"/>
                  </a:lnTo>
                  <a:lnTo>
                    <a:pt x="1340" y="1514"/>
                  </a:lnTo>
                  <a:lnTo>
                    <a:pt x="1340" y="1531"/>
                  </a:lnTo>
                  <a:lnTo>
                    <a:pt x="1335" y="1531"/>
                  </a:lnTo>
                  <a:lnTo>
                    <a:pt x="1335" y="1536"/>
                  </a:lnTo>
                  <a:lnTo>
                    <a:pt x="1330" y="1536"/>
                  </a:lnTo>
                  <a:lnTo>
                    <a:pt x="1330" y="1549"/>
                  </a:lnTo>
                  <a:lnTo>
                    <a:pt x="1325" y="1549"/>
                  </a:lnTo>
                  <a:lnTo>
                    <a:pt x="1325" y="1566"/>
                  </a:lnTo>
                  <a:lnTo>
                    <a:pt x="1321" y="1566"/>
                  </a:lnTo>
                  <a:lnTo>
                    <a:pt x="1321" y="1577"/>
                  </a:lnTo>
                  <a:lnTo>
                    <a:pt x="1315" y="1577"/>
                  </a:lnTo>
                  <a:lnTo>
                    <a:pt x="1315" y="1590"/>
                  </a:lnTo>
                  <a:lnTo>
                    <a:pt x="1311" y="1590"/>
                  </a:lnTo>
                  <a:lnTo>
                    <a:pt x="1311" y="1608"/>
                  </a:lnTo>
                  <a:lnTo>
                    <a:pt x="1307" y="1608"/>
                  </a:lnTo>
                  <a:lnTo>
                    <a:pt x="1307" y="1613"/>
                  </a:lnTo>
                  <a:lnTo>
                    <a:pt x="1301" y="1613"/>
                  </a:lnTo>
                  <a:lnTo>
                    <a:pt x="1301" y="1626"/>
                  </a:lnTo>
                  <a:lnTo>
                    <a:pt x="1296" y="1626"/>
                  </a:lnTo>
                  <a:lnTo>
                    <a:pt x="1296" y="1631"/>
                  </a:lnTo>
                  <a:lnTo>
                    <a:pt x="1291" y="1631"/>
                  </a:lnTo>
                  <a:lnTo>
                    <a:pt x="1291" y="1642"/>
                  </a:lnTo>
                  <a:lnTo>
                    <a:pt x="1287" y="1642"/>
                  </a:lnTo>
                  <a:lnTo>
                    <a:pt x="1287" y="1650"/>
                  </a:lnTo>
                  <a:lnTo>
                    <a:pt x="1281" y="1650"/>
                  </a:lnTo>
                  <a:lnTo>
                    <a:pt x="1281" y="1655"/>
                  </a:lnTo>
                  <a:lnTo>
                    <a:pt x="1277" y="1655"/>
                  </a:lnTo>
                  <a:lnTo>
                    <a:pt x="1277" y="1667"/>
                  </a:lnTo>
                  <a:lnTo>
                    <a:pt x="1273" y="1667"/>
                  </a:lnTo>
                  <a:lnTo>
                    <a:pt x="1273" y="1672"/>
                  </a:lnTo>
                  <a:lnTo>
                    <a:pt x="1267" y="1672"/>
                  </a:lnTo>
                  <a:lnTo>
                    <a:pt x="1267" y="1678"/>
                  </a:lnTo>
                  <a:lnTo>
                    <a:pt x="1263" y="1678"/>
                  </a:lnTo>
                  <a:lnTo>
                    <a:pt x="1263" y="1685"/>
                  </a:lnTo>
                  <a:lnTo>
                    <a:pt x="1259" y="1685"/>
                  </a:lnTo>
                  <a:lnTo>
                    <a:pt x="1259" y="1696"/>
                  </a:lnTo>
                  <a:lnTo>
                    <a:pt x="1253" y="1696"/>
                  </a:lnTo>
                  <a:lnTo>
                    <a:pt x="1253" y="1702"/>
                  </a:lnTo>
                  <a:lnTo>
                    <a:pt x="1249" y="1702"/>
                  </a:lnTo>
                  <a:lnTo>
                    <a:pt x="1249" y="1713"/>
                  </a:lnTo>
                  <a:lnTo>
                    <a:pt x="1244" y="1713"/>
                  </a:lnTo>
                  <a:lnTo>
                    <a:pt x="1244" y="1732"/>
                  </a:lnTo>
                  <a:lnTo>
                    <a:pt x="1240" y="1732"/>
                  </a:lnTo>
                  <a:lnTo>
                    <a:pt x="1240" y="1737"/>
                  </a:lnTo>
                  <a:lnTo>
                    <a:pt x="1234" y="1737"/>
                  </a:lnTo>
                  <a:lnTo>
                    <a:pt x="1234" y="1756"/>
                  </a:lnTo>
                  <a:lnTo>
                    <a:pt x="1230" y="1756"/>
                  </a:lnTo>
                  <a:lnTo>
                    <a:pt x="1230" y="1761"/>
                  </a:lnTo>
                  <a:lnTo>
                    <a:pt x="1224" y="1761"/>
                  </a:lnTo>
                  <a:lnTo>
                    <a:pt x="1224" y="1773"/>
                  </a:lnTo>
                  <a:lnTo>
                    <a:pt x="1219" y="1773"/>
                  </a:lnTo>
                  <a:lnTo>
                    <a:pt x="1219" y="1778"/>
                  </a:lnTo>
                  <a:lnTo>
                    <a:pt x="1215" y="1778"/>
                  </a:lnTo>
                  <a:lnTo>
                    <a:pt x="1215" y="1786"/>
                  </a:lnTo>
                  <a:lnTo>
                    <a:pt x="1210" y="1786"/>
                  </a:lnTo>
                  <a:lnTo>
                    <a:pt x="1210" y="1791"/>
                  </a:lnTo>
                  <a:lnTo>
                    <a:pt x="1205" y="1791"/>
                  </a:lnTo>
                  <a:lnTo>
                    <a:pt x="1205" y="1803"/>
                  </a:lnTo>
                  <a:lnTo>
                    <a:pt x="1200" y="1803"/>
                  </a:lnTo>
                  <a:lnTo>
                    <a:pt x="1200" y="1809"/>
                  </a:lnTo>
                  <a:lnTo>
                    <a:pt x="1196" y="1809"/>
                  </a:lnTo>
                  <a:lnTo>
                    <a:pt x="1196" y="1814"/>
                  </a:lnTo>
                  <a:lnTo>
                    <a:pt x="1191" y="1814"/>
                  </a:lnTo>
                  <a:lnTo>
                    <a:pt x="1191" y="1819"/>
                  </a:lnTo>
                  <a:lnTo>
                    <a:pt x="1186" y="1819"/>
                  </a:lnTo>
                  <a:lnTo>
                    <a:pt x="1186" y="1827"/>
                  </a:lnTo>
                  <a:lnTo>
                    <a:pt x="1181" y="1827"/>
                  </a:lnTo>
                  <a:lnTo>
                    <a:pt x="1181" y="1832"/>
                  </a:lnTo>
                  <a:lnTo>
                    <a:pt x="1177" y="1832"/>
                  </a:lnTo>
                  <a:lnTo>
                    <a:pt x="1177" y="1838"/>
                  </a:lnTo>
                  <a:lnTo>
                    <a:pt x="1172" y="1838"/>
                  </a:lnTo>
                  <a:lnTo>
                    <a:pt x="1172" y="1851"/>
                  </a:lnTo>
                  <a:lnTo>
                    <a:pt x="1163" y="1851"/>
                  </a:lnTo>
                  <a:lnTo>
                    <a:pt x="1163" y="1862"/>
                  </a:lnTo>
                  <a:lnTo>
                    <a:pt x="1157" y="1862"/>
                  </a:lnTo>
                  <a:lnTo>
                    <a:pt x="1157" y="1868"/>
                  </a:lnTo>
                  <a:lnTo>
                    <a:pt x="1152" y="1868"/>
                  </a:lnTo>
                  <a:lnTo>
                    <a:pt x="1152" y="1873"/>
                  </a:lnTo>
                  <a:lnTo>
                    <a:pt x="1143" y="1873"/>
                  </a:lnTo>
                  <a:lnTo>
                    <a:pt x="1143" y="1885"/>
                  </a:lnTo>
                  <a:lnTo>
                    <a:pt x="1138" y="1885"/>
                  </a:lnTo>
                  <a:lnTo>
                    <a:pt x="1138" y="1892"/>
                  </a:lnTo>
                  <a:lnTo>
                    <a:pt x="1133" y="1892"/>
                  </a:lnTo>
                  <a:lnTo>
                    <a:pt x="1133" y="1904"/>
                  </a:lnTo>
                  <a:lnTo>
                    <a:pt x="1129" y="1904"/>
                  </a:lnTo>
                  <a:lnTo>
                    <a:pt x="1129" y="1915"/>
                  </a:lnTo>
                  <a:lnTo>
                    <a:pt x="1123" y="1915"/>
                  </a:lnTo>
                  <a:lnTo>
                    <a:pt x="1123" y="1922"/>
                  </a:lnTo>
                  <a:lnTo>
                    <a:pt x="1119" y="1922"/>
                  </a:lnTo>
                  <a:lnTo>
                    <a:pt x="1119" y="1933"/>
                  </a:lnTo>
                  <a:lnTo>
                    <a:pt x="1114" y="1933"/>
                  </a:lnTo>
                  <a:lnTo>
                    <a:pt x="1114" y="1938"/>
                  </a:lnTo>
                  <a:lnTo>
                    <a:pt x="1109" y="1938"/>
                  </a:lnTo>
                  <a:lnTo>
                    <a:pt x="1109" y="1950"/>
                  </a:lnTo>
                  <a:lnTo>
                    <a:pt x="1104" y="1950"/>
                  </a:lnTo>
                  <a:lnTo>
                    <a:pt x="1104" y="1955"/>
                  </a:lnTo>
                  <a:lnTo>
                    <a:pt x="1100" y="1955"/>
                  </a:lnTo>
                  <a:lnTo>
                    <a:pt x="1100" y="1968"/>
                  </a:lnTo>
                  <a:lnTo>
                    <a:pt x="1095" y="1968"/>
                  </a:lnTo>
                  <a:lnTo>
                    <a:pt x="1095" y="1974"/>
                  </a:lnTo>
                  <a:lnTo>
                    <a:pt x="1090" y="1974"/>
                  </a:lnTo>
                  <a:lnTo>
                    <a:pt x="1090" y="1985"/>
                  </a:lnTo>
                  <a:lnTo>
                    <a:pt x="1086" y="1985"/>
                  </a:lnTo>
                  <a:lnTo>
                    <a:pt x="1086" y="1992"/>
                  </a:lnTo>
                  <a:lnTo>
                    <a:pt x="1080" y="1992"/>
                  </a:lnTo>
                  <a:lnTo>
                    <a:pt x="1080" y="1997"/>
                  </a:lnTo>
                  <a:lnTo>
                    <a:pt x="1075" y="1997"/>
                  </a:lnTo>
                  <a:lnTo>
                    <a:pt x="1075" y="2009"/>
                  </a:lnTo>
                  <a:lnTo>
                    <a:pt x="1070" y="2009"/>
                  </a:lnTo>
                  <a:lnTo>
                    <a:pt x="1070" y="2015"/>
                  </a:lnTo>
                  <a:lnTo>
                    <a:pt x="1066" y="2015"/>
                  </a:lnTo>
                  <a:lnTo>
                    <a:pt x="1066" y="2028"/>
                  </a:lnTo>
                  <a:lnTo>
                    <a:pt x="1061" y="2028"/>
                  </a:lnTo>
                  <a:lnTo>
                    <a:pt x="1061" y="2039"/>
                  </a:lnTo>
                  <a:lnTo>
                    <a:pt x="1056" y="2039"/>
                  </a:lnTo>
                  <a:lnTo>
                    <a:pt x="1056" y="2045"/>
                  </a:lnTo>
                  <a:lnTo>
                    <a:pt x="1052" y="2045"/>
                  </a:lnTo>
                  <a:lnTo>
                    <a:pt x="1052" y="2050"/>
                  </a:lnTo>
                  <a:lnTo>
                    <a:pt x="1047" y="2050"/>
                  </a:lnTo>
                  <a:lnTo>
                    <a:pt x="1047" y="2063"/>
                  </a:lnTo>
                  <a:lnTo>
                    <a:pt x="1042" y="2063"/>
                  </a:lnTo>
                  <a:lnTo>
                    <a:pt x="1042" y="2074"/>
                  </a:lnTo>
                  <a:lnTo>
                    <a:pt x="1037" y="2074"/>
                  </a:lnTo>
                  <a:lnTo>
                    <a:pt x="1037" y="2080"/>
                  </a:lnTo>
                  <a:lnTo>
                    <a:pt x="1033" y="2080"/>
                  </a:lnTo>
                  <a:lnTo>
                    <a:pt x="1033" y="2086"/>
                  </a:lnTo>
                  <a:lnTo>
                    <a:pt x="1027" y="2086"/>
                  </a:lnTo>
                  <a:lnTo>
                    <a:pt x="1027" y="2091"/>
                  </a:lnTo>
                  <a:lnTo>
                    <a:pt x="1023" y="2091"/>
                  </a:lnTo>
                  <a:lnTo>
                    <a:pt x="1023" y="2099"/>
                  </a:lnTo>
                  <a:lnTo>
                    <a:pt x="1018" y="2099"/>
                  </a:lnTo>
                  <a:lnTo>
                    <a:pt x="1018" y="2104"/>
                  </a:lnTo>
                  <a:lnTo>
                    <a:pt x="1013" y="2104"/>
                  </a:lnTo>
                  <a:lnTo>
                    <a:pt x="1013" y="2115"/>
                  </a:lnTo>
                  <a:lnTo>
                    <a:pt x="1008" y="2115"/>
                  </a:lnTo>
                  <a:lnTo>
                    <a:pt x="1008" y="2128"/>
                  </a:lnTo>
                  <a:lnTo>
                    <a:pt x="1003" y="2128"/>
                  </a:lnTo>
                  <a:lnTo>
                    <a:pt x="1003" y="2145"/>
                  </a:lnTo>
                  <a:lnTo>
                    <a:pt x="999" y="2145"/>
                  </a:lnTo>
                  <a:lnTo>
                    <a:pt x="999" y="2158"/>
                  </a:lnTo>
                  <a:lnTo>
                    <a:pt x="993" y="2158"/>
                  </a:lnTo>
                  <a:lnTo>
                    <a:pt x="993" y="2164"/>
                  </a:lnTo>
                  <a:lnTo>
                    <a:pt x="989" y="2164"/>
                  </a:lnTo>
                  <a:lnTo>
                    <a:pt x="989" y="2175"/>
                  </a:lnTo>
                  <a:lnTo>
                    <a:pt x="984" y="2175"/>
                  </a:lnTo>
                  <a:lnTo>
                    <a:pt x="984" y="2181"/>
                  </a:lnTo>
                  <a:lnTo>
                    <a:pt x="979" y="2181"/>
                  </a:lnTo>
                  <a:lnTo>
                    <a:pt x="979" y="2192"/>
                  </a:lnTo>
                  <a:lnTo>
                    <a:pt x="974" y="2192"/>
                  </a:lnTo>
                  <a:lnTo>
                    <a:pt x="974" y="2205"/>
                  </a:lnTo>
                  <a:lnTo>
                    <a:pt x="970" y="2205"/>
                  </a:lnTo>
                  <a:lnTo>
                    <a:pt x="970" y="2216"/>
                  </a:lnTo>
                  <a:lnTo>
                    <a:pt x="965" y="2216"/>
                  </a:lnTo>
                  <a:lnTo>
                    <a:pt x="965" y="2229"/>
                  </a:lnTo>
                  <a:lnTo>
                    <a:pt x="960" y="2229"/>
                  </a:lnTo>
                  <a:lnTo>
                    <a:pt x="960" y="2234"/>
                  </a:lnTo>
                  <a:lnTo>
                    <a:pt x="956" y="2234"/>
                  </a:lnTo>
                  <a:lnTo>
                    <a:pt x="956" y="2246"/>
                  </a:lnTo>
                  <a:lnTo>
                    <a:pt x="951" y="2246"/>
                  </a:lnTo>
                  <a:lnTo>
                    <a:pt x="951" y="2264"/>
                  </a:lnTo>
                  <a:lnTo>
                    <a:pt x="946" y="2264"/>
                  </a:lnTo>
                  <a:lnTo>
                    <a:pt x="946" y="2282"/>
                  </a:lnTo>
                  <a:lnTo>
                    <a:pt x="941" y="2282"/>
                  </a:lnTo>
                  <a:lnTo>
                    <a:pt x="941" y="2300"/>
                  </a:lnTo>
                  <a:lnTo>
                    <a:pt x="937" y="2300"/>
                  </a:lnTo>
                  <a:lnTo>
                    <a:pt x="937" y="2317"/>
                  </a:lnTo>
                  <a:lnTo>
                    <a:pt x="931" y="2317"/>
                  </a:lnTo>
                  <a:lnTo>
                    <a:pt x="931" y="2328"/>
                  </a:lnTo>
                  <a:lnTo>
                    <a:pt x="926" y="2328"/>
                  </a:lnTo>
                  <a:lnTo>
                    <a:pt x="926" y="2341"/>
                  </a:lnTo>
                  <a:lnTo>
                    <a:pt x="922" y="2341"/>
                  </a:lnTo>
                  <a:lnTo>
                    <a:pt x="922" y="2346"/>
                  </a:lnTo>
                  <a:lnTo>
                    <a:pt x="917" y="2346"/>
                  </a:lnTo>
                  <a:lnTo>
                    <a:pt x="917" y="2358"/>
                  </a:lnTo>
                  <a:lnTo>
                    <a:pt x="912" y="2358"/>
                  </a:lnTo>
                  <a:lnTo>
                    <a:pt x="912" y="2370"/>
                  </a:lnTo>
                  <a:lnTo>
                    <a:pt x="908" y="2370"/>
                  </a:lnTo>
                  <a:lnTo>
                    <a:pt x="908" y="2376"/>
                  </a:lnTo>
                  <a:lnTo>
                    <a:pt x="903" y="2376"/>
                  </a:lnTo>
                  <a:lnTo>
                    <a:pt x="903" y="2387"/>
                  </a:lnTo>
                  <a:lnTo>
                    <a:pt x="898" y="2387"/>
                  </a:lnTo>
                  <a:lnTo>
                    <a:pt x="898" y="2400"/>
                  </a:lnTo>
                  <a:lnTo>
                    <a:pt x="893" y="2400"/>
                  </a:lnTo>
                  <a:lnTo>
                    <a:pt x="893" y="2405"/>
                  </a:lnTo>
                  <a:lnTo>
                    <a:pt x="889" y="2405"/>
                  </a:lnTo>
                  <a:lnTo>
                    <a:pt x="889" y="2411"/>
                  </a:lnTo>
                  <a:lnTo>
                    <a:pt x="883" y="2411"/>
                  </a:lnTo>
                  <a:lnTo>
                    <a:pt x="883" y="2417"/>
                  </a:lnTo>
                  <a:lnTo>
                    <a:pt x="879" y="2417"/>
                  </a:lnTo>
                  <a:lnTo>
                    <a:pt x="879" y="2423"/>
                  </a:lnTo>
                  <a:lnTo>
                    <a:pt x="875" y="2423"/>
                  </a:lnTo>
                  <a:lnTo>
                    <a:pt x="875" y="2428"/>
                  </a:lnTo>
                  <a:lnTo>
                    <a:pt x="865" y="2428"/>
                  </a:lnTo>
                  <a:lnTo>
                    <a:pt x="865" y="2436"/>
                  </a:lnTo>
                  <a:lnTo>
                    <a:pt x="859" y="2436"/>
                  </a:lnTo>
                  <a:lnTo>
                    <a:pt x="859" y="2446"/>
                  </a:lnTo>
                  <a:lnTo>
                    <a:pt x="845" y="2446"/>
                  </a:lnTo>
                  <a:lnTo>
                    <a:pt x="845" y="2453"/>
                  </a:lnTo>
                  <a:lnTo>
                    <a:pt x="841" y="2453"/>
                  </a:lnTo>
                  <a:lnTo>
                    <a:pt x="841" y="2458"/>
                  </a:lnTo>
                  <a:lnTo>
                    <a:pt x="821" y="2458"/>
                  </a:lnTo>
                  <a:lnTo>
                    <a:pt x="821" y="2464"/>
                  </a:lnTo>
                  <a:lnTo>
                    <a:pt x="812" y="2464"/>
                  </a:lnTo>
                  <a:lnTo>
                    <a:pt x="812" y="2458"/>
                  </a:lnTo>
                  <a:lnTo>
                    <a:pt x="793" y="2458"/>
                  </a:lnTo>
                  <a:lnTo>
                    <a:pt x="793" y="2453"/>
                  </a:lnTo>
                  <a:lnTo>
                    <a:pt x="787" y="2453"/>
                  </a:lnTo>
                  <a:lnTo>
                    <a:pt x="787" y="2446"/>
                  </a:lnTo>
                  <a:lnTo>
                    <a:pt x="782" y="2446"/>
                  </a:lnTo>
                  <a:lnTo>
                    <a:pt x="782" y="2441"/>
                  </a:lnTo>
                  <a:lnTo>
                    <a:pt x="778" y="2441"/>
                  </a:lnTo>
                  <a:lnTo>
                    <a:pt x="778" y="2436"/>
                  </a:lnTo>
                  <a:lnTo>
                    <a:pt x="772" y="2436"/>
                  </a:lnTo>
                  <a:lnTo>
                    <a:pt x="772" y="2428"/>
                  </a:lnTo>
                  <a:lnTo>
                    <a:pt x="768" y="2428"/>
                  </a:lnTo>
                  <a:lnTo>
                    <a:pt x="768" y="2423"/>
                  </a:lnTo>
                  <a:lnTo>
                    <a:pt x="763" y="2423"/>
                  </a:lnTo>
                  <a:lnTo>
                    <a:pt x="763" y="2417"/>
                  </a:lnTo>
                  <a:lnTo>
                    <a:pt x="759" y="2417"/>
                  </a:lnTo>
                  <a:lnTo>
                    <a:pt x="759" y="2411"/>
                  </a:lnTo>
                  <a:lnTo>
                    <a:pt x="754" y="2411"/>
                  </a:lnTo>
                  <a:lnTo>
                    <a:pt x="754" y="2405"/>
                  </a:lnTo>
                  <a:lnTo>
                    <a:pt x="749" y="2405"/>
                  </a:lnTo>
                  <a:lnTo>
                    <a:pt x="749" y="2400"/>
                  </a:lnTo>
                  <a:lnTo>
                    <a:pt x="745" y="2400"/>
                  </a:lnTo>
                  <a:lnTo>
                    <a:pt x="745" y="2395"/>
                  </a:lnTo>
                  <a:lnTo>
                    <a:pt x="739" y="2395"/>
                  </a:lnTo>
                  <a:lnTo>
                    <a:pt x="739" y="2387"/>
                  </a:lnTo>
                  <a:lnTo>
                    <a:pt x="735" y="2387"/>
                  </a:lnTo>
                  <a:lnTo>
                    <a:pt x="735" y="2382"/>
                  </a:lnTo>
                  <a:lnTo>
                    <a:pt x="725" y="2382"/>
                  </a:lnTo>
                  <a:lnTo>
                    <a:pt x="725" y="2376"/>
                  </a:lnTo>
                  <a:lnTo>
                    <a:pt x="720" y="2376"/>
                  </a:lnTo>
                  <a:lnTo>
                    <a:pt x="720" y="2365"/>
                  </a:lnTo>
                  <a:lnTo>
                    <a:pt x="715" y="2365"/>
                  </a:lnTo>
                  <a:lnTo>
                    <a:pt x="715" y="2352"/>
                  </a:lnTo>
                  <a:lnTo>
                    <a:pt x="710" y="2352"/>
                  </a:lnTo>
                  <a:lnTo>
                    <a:pt x="710" y="2346"/>
                  </a:lnTo>
                  <a:lnTo>
                    <a:pt x="705" y="2346"/>
                  </a:lnTo>
                  <a:lnTo>
                    <a:pt x="705" y="2341"/>
                  </a:lnTo>
                  <a:lnTo>
                    <a:pt x="701" y="2341"/>
                  </a:lnTo>
                  <a:lnTo>
                    <a:pt x="701" y="2335"/>
                  </a:lnTo>
                  <a:lnTo>
                    <a:pt x="696" y="2335"/>
                  </a:lnTo>
                  <a:lnTo>
                    <a:pt x="696" y="2328"/>
                  </a:lnTo>
                  <a:lnTo>
                    <a:pt x="691" y="2328"/>
                  </a:lnTo>
                  <a:lnTo>
                    <a:pt x="691" y="2323"/>
                  </a:lnTo>
                  <a:lnTo>
                    <a:pt x="686" y="2323"/>
                  </a:lnTo>
                  <a:lnTo>
                    <a:pt x="686" y="2317"/>
                  </a:lnTo>
                  <a:lnTo>
                    <a:pt x="677" y="2317"/>
                  </a:lnTo>
                  <a:lnTo>
                    <a:pt x="677" y="2311"/>
                  </a:lnTo>
                  <a:lnTo>
                    <a:pt x="672" y="2311"/>
                  </a:lnTo>
                  <a:lnTo>
                    <a:pt x="672" y="2300"/>
                  </a:lnTo>
                  <a:lnTo>
                    <a:pt x="668" y="2300"/>
                  </a:lnTo>
                  <a:lnTo>
                    <a:pt x="668" y="2292"/>
                  </a:lnTo>
                  <a:lnTo>
                    <a:pt x="663" y="2292"/>
                  </a:lnTo>
                  <a:lnTo>
                    <a:pt x="663" y="2287"/>
                  </a:lnTo>
                  <a:lnTo>
                    <a:pt x="658" y="2287"/>
                  </a:lnTo>
                  <a:lnTo>
                    <a:pt x="658" y="2282"/>
                  </a:lnTo>
                  <a:lnTo>
                    <a:pt x="653" y="2282"/>
                  </a:lnTo>
                  <a:lnTo>
                    <a:pt x="653" y="2276"/>
                  </a:lnTo>
                  <a:lnTo>
                    <a:pt x="649" y="2276"/>
                  </a:lnTo>
                  <a:lnTo>
                    <a:pt x="649" y="2264"/>
                  </a:lnTo>
                  <a:lnTo>
                    <a:pt x="642" y="2264"/>
                  </a:lnTo>
                  <a:lnTo>
                    <a:pt x="642" y="2259"/>
                  </a:lnTo>
                  <a:lnTo>
                    <a:pt x="638" y="2259"/>
                  </a:lnTo>
                  <a:lnTo>
                    <a:pt x="638" y="2251"/>
                  </a:lnTo>
                  <a:lnTo>
                    <a:pt x="633" y="2251"/>
                  </a:lnTo>
                  <a:lnTo>
                    <a:pt x="633" y="2246"/>
                  </a:lnTo>
                  <a:lnTo>
                    <a:pt x="628" y="2246"/>
                  </a:lnTo>
                  <a:lnTo>
                    <a:pt x="628" y="2240"/>
                  </a:lnTo>
                  <a:lnTo>
                    <a:pt x="624" y="2240"/>
                  </a:lnTo>
                  <a:lnTo>
                    <a:pt x="624" y="2229"/>
                  </a:lnTo>
                  <a:lnTo>
                    <a:pt x="619" y="2229"/>
                  </a:lnTo>
                  <a:lnTo>
                    <a:pt x="619" y="2222"/>
                  </a:lnTo>
                  <a:lnTo>
                    <a:pt x="615" y="2222"/>
                  </a:lnTo>
                  <a:lnTo>
                    <a:pt x="615" y="2216"/>
                  </a:lnTo>
                  <a:lnTo>
                    <a:pt x="605" y="2216"/>
                  </a:lnTo>
                  <a:lnTo>
                    <a:pt x="605" y="2210"/>
                  </a:lnTo>
                  <a:lnTo>
                    <a:pt x="600" y="2210"/>
                  </a:lnTo>
                  <a:lnTo>
                    <a:pt x="600" y="2199"/>
                  </a:lnTo>
                  <a:lnTo>
                    <a:pt x="595" y="2199"/>
                  </a:lnTo>
                  <a:lnTo>
                    <a:pt x="595" y="2192"/>
                  </a:lnTo>
                  <a:lnTo>
                    <a:pt x="591" y="2192"/>
                  </a:lnTo>
                  <a:lnTo>
                    <a:pt x="591" y="2186"/>
                  </a:lnTo>
                  <a:lnTo>
                    <a:pt x="586" y="2186"/>
                  </a:lnTo>
                  <a:lnTo>
                    <a:pt x="586" y="2181"/>
                  </a:lnTo>
                  <a:lnTo>
                    <a:pt x="581" y="2181"/>
                  </a:lnTo>
                  <a:lnTo>
                    <a:pt x="581" y="2169"/>
                  </a:lnTo>
                  <a:lnTo>
                    <a:pt x="577" y="2169"/>
                  </a:lnTo>
                  <a:lnTo>
                    <a:pt x="577" y="2164"/>
                  </a:lnTo>
                  <a:lnTo>
                    <a:pt x="571" y="2164"/>
                  </a:lnTo>
                  <a:lnTo>
                    <a:pt x="571" y="2158"/>
                  </a:lnTo>
                  <a:lnTo>
                    <a:pt x="566" y="2158"/>
                  </a:lnTo>
                  <a:lnTo>
                    <a:pt x="566" y="2145"/>
                  </a:lnTo>
                  <a:lnTo>
                    <a:pt x="561" y="2145"/>
                  </a:lnTo>
                  <a:lnTo>
                    <a:pt x="561" y="2140"/>
                  </a:lnTo>
                  <a:lnTo>
                    <a:pt x="557" y="2140"/>
                  </a:lnTo>
                  <a:lnTo>
                    <a:pt x="557" y="2133"/>
                  </a:lnTo>
                  <a:lnTo>
                    <a:pt x="552" y="2133"/>
                  </a:lnTo>
                  <a:lnTo>
                    <a:pt x="552" y="2115"/>
                  </a:lnTo>
                  <a:lnTo>
                    <a:pt x="547" y="2115"/>
                  </a:lnTo>
                  <a:lnTo>
                    <a:pt x="547" y="2110"/>
                  </a:lnTo>
                  <a:lnTo>
                    <a:pt x="542" y="2110"/>
                  </a:lnTo>
                  <a:lnTo>
                    <a:pt x="542" y="2104"/>
                  </a:lnTo>
                  <a:lnTo>
                    <a:pt x="538" y="2104"/>
                  </a:lnTo>
                  <a:lnTo>
                    <a:pt x="538" y="2099"/>
                  </a:lnTo>
                  <a:lnTo>
                    <a:pt x="533" y="2099"/>
                  </a:lnTo>
                  <a:lnTo>
                    <a:pt x="533" y="2091"/>
                  </a:lnTo>
                  <a:lnTo>
                    <a:pt x="528" y="2091"/>
                  </a:lnTo>
                  <a:lnTo>
                    <a:pt x="528" y="2086"/>
                  </a:lnTo>
                  <a:lnTo>
                    <a:pt x="524" y="2086"/>
                  </a:lnTo>
                  <a:lnTo>
                    <a:pt x="524" y="2080"/>
                  </a:lnTo>
                  <a:lnTo>
                    <a:pt x="519" y="2080"/>
                  </a:lnTo>
                  <a:lnTo>
                    <a:pt x="519" y="2069"/>
                  </a:lnTo>
                  <a:lnTo>
                    <a:pt x="509" y="2069"/>
                  </a:lnTo>
                  <a:lnTo>
                    <a:pt x="509" y="2063"/>
                  </a:lnTo>
                  <a:lnTo>
                    <a:pt x="505" y="2063"/>
                  </a:lnTo>
                  <a:lnTo>
                    <a:pt x="505" y="2050"/>
                  </a:lnTo>
                  <a:lnTo>
                    <a:pt x="499" y="2050"/>
                  </a:lnTo>
                  <a:lnTo>
                    <a:pt x="499" y="2033"/>
                  </a:lnTo>
                  <a:lnTo>
                    <a:pt x="494" y="2033"/>
                  </a:lnTo>
                  <a:lnTo>
                    <a:pt x="494" y="2028"/>
                  </a:lnTo>
                  <a:lnTo>
                    <a:pt x="490" y="2028"/>
                  </a:lnTo>
                  <a:lnTo>
                    <a:pt x="490" y="2021"/>
                  </a:lnTo>
                  <a:lnTo>
                    <a:pt x="484" y="2021"/>
                  </a:lnTo>
                  <a:lnTo>
                    <a:pt x="484" y="2009"/>
                  </a:lnTo>
                  <a:lnTo>
                    <a:pt x="480" y="2009"/>
                  </a:lnTo>
                  <a:lnTo>
                    <a:pt x="480" y="1997"/>
                  </a:lnTo>
                  <a:lnTo>
                    <a:pt x="475" y="1997"/>
                  </a:lnTo>
                  <a:lnTo>
                    <a:pt x="475" y="1992"/>
                  </a:lnTo>
                  <a:lnTo>
                    <a:pt x="471" y="1992"/>
                  </a:lnTo>
                  <a:lnTo>
                    <a:pt x="471" y="1985"/>
                  </a:lnTo>
                  <a:lnTo>
                    <a:pt x="465" y="1985"/>
                  </a:lnTo>
                  <a:lnTo>
                    <a:pt x="465" y="1974"/>
                  </a:lnTo>
                  <a:lnTo>
                    <a:pt x="461" y="1974"/>
                  </a:lnTo>
                  <a:lnTo>
                    <a:pt x="461" y="1968"/>
                  </a:lnTo>
                  <a:lnTo>
                    <a:pt x="457" y="1968"/>
                  </a:lnTo>
                  <a:lnTo>
                    <a:pt x="457" y="1955"/>
                  </a:lnTo>
                  <a:lnTo>
                    <a:pt x="451" y="1955"/>
                  </a:lnTo>
                  <a:lnTo>
                    <a:pt x="451" y="1950"/>
                  </a:lnTo>
                  <a:lnTo>
                    <a:pt x="447" y="1950"/>
                  </a:lnTo>
                  <a:lnTo>
                    <a:pt x="447" y="1938"/>
                  </a:lnTo>
                  <a:lnTo>
                    <a:pt x="442" y="1938"/>
                  </a:lnTo>
                  <a:lnTo>
                    <a:pt x="442" y="1927"/>
                  </a:lnTo>
                  <a:lnTo>
                    <a:pt x="437" y="1927"/>
                  </a:lnTo>
                  <a:lnTo>
                    <a:pt x="437" y="1915"/>
                  </a:lnTo>
                  <a:lnTo>
                    <a:pt x="432" y="1915"/>
                  </a:lnTo>
                  <a:lnTo>
                    <a:pt x="432" y="1909"/>
                  </a:lnTo>
                  <a:lnTo>
                    <a:pt x="427" y="1909"/>
                  </a:lnTo>
                  <a:lnTo>
                    <a:pt x="427" y="1904"/>
                  </a:lnTo>
                  <a:lnTo>
                    <a:pt x="422" y="1904"/>
                  </a:lnTo>
                  <a:lnTo>
                    <a:pt x="422" y="1892"/>
                  </a:lnTo>
                  <a:lnTo>
                    <a:pt x="417" y="1892"/>
                  </a:lnTo>
                  <a:lnTo>
                    <a:pt x="417" y="1885"/>
                  </a:lnTo>
                  <a:lnTo>
                    <a:pt x="413" y="1885"/>
                  </a:lnTo>
                  <a:lnTo>
                    <a:pt x="413" y="1879"/>
                  </a:lnTo>
                  <a:lnTo>
                    <a:pt x="408" y="1879"/>
                  </a:lnTo>
                  <a:lnTo>
                    <a:pt x="408" y="1868"/>
                  </a:lnTo>
                  <a:lnTo>
                    <a:pt x="403" y="1868"/>
                  </a:lnTo>
                  <a:lnTo>
                    <a:pt x="403" y="1856"/>
                  </a:lnTo>
                  <a:lnTo>
                    <a:pt x="398" y="1856"/>
                  </a:lnTo>
                  <a:lnTo>
                    <a:pt x="398" y="1851"/>
                  </a:lnTo>
                  <a:lnTo>
                    <a:pt x="394" y="1851"/>
                  </a:lnTo>
                  <a:lnTo>
                    <a:pt x="394" y="1838"/>
                  </a:lnTo>
                  <a:lnTo>
                    <a:pt x="388" y="1838"/>
                  </a:lnTo>
                  <a:lnTo>
                    <a:pt x="388" y="1832"/>
                  </a:lnTo>
                  <a:lnTo>
                    <a:pt x="384" y="1832"/>
                  </a:lnTo>
                  <a:lnTo>
                    <a:pt x="384" y="1814"/>
                  </a:lnTo>
                  <a:lnTo>
                    <a:pt x="379" y="1814"/>
                  </a:lnTo>
                  <a:lnTo>
                    <a:pt x="379" y="1809"/>
                  </a:lnTo>
                  <a:lnTo>
                    <a:pt x="375" y="1809"/>
                  </a:lnTo>
                  <a:lnTo>
                    <a:pt x="375" y="1803"/>
                  </a:lnTo>
                  <a:lnTo>
                    <a:pt x="370" y="1803"/>
                  </a:lnTo>
                  <a:lnTo>
                    <a:pt x="370" y="1791"/>
                  </a:lnTo>
                  <a:lnTo>
                    <a:pt x="365" y="1791"/>
                  </a:lnTo>
                  <a:lnTo>
                    <a:pt x="365" y="1786"/>
                  </a:lnTo>
                  <a:lnTo>
                    <a:pt x="361" y="1786"/>
                  </a:lnTo>
                  <a:lnTo>
                    <a:pt x="361" y="1773"/>
                  </a:lnTo>
                  <a:lnTo>
                    <a:pt x="350" y="1773"/>
                  </a:lnTo>
                  <a:lnTo>
                    <a:pt x="350" y="1767"/>
                  </a:lnTo>
                  <a:lnTo>
                    <a:pt x="345" y="1767"/>
                  </a:lnTo>
                  <a:lnTo>
                    <a:pt x="345" y="1761"/>
                  </a:lnTo>
                  <a:lnTo>
                    <a:pt x="340" y="1761"/>
                  </a:lnTo>
                  <a:lnTo>
                    <a:pt x="340" y="1756"/>
                  </a:lnTo>
                  <a:lnTo>
                    <a:pt x="335" y="1756"/>
                  </a:lnTo>
                  <a:lnTo>
                    <a:pt x="335" y="1743"/>
                  </a:lnTo>
                  <a:lnTo>
                    <a:pt x="331" y="1743"/>
                  </a:lnTo>
                  <a:lnTo>
                    <a:pt x="331" y="1737"/>
                  </a:lnTo>
                  <a:lnTo>
                    <a:pt x="326" y="1737"/>
                  </a:lnTo>
                  <a:lnTo>
                    <a:pt x="326" y="1726"/>
                  </a:lnTo>
                  <a:lnTo>
                    <a:pt x="321" y="1726"/>
                  </a:lnTo>
                  <a:lnTo>
                    <a:pt x="321" y="1713"/>
                  </a:lnTo>
                  <a:lnTo>
                    <a:pt x="317" y="1713"/>
                  </a:lnTo>
                  <a:lnTo>
                    <a:pt x="317" y="1702"/>
                  </a:lnTo>
                  <a:lnTo>
                    <a:pt x="312" y="1702"/>
                  </a:lnTo>
                  <a:lnTo>
                    <a:pt x="312" y="1691"/>
                  </a:lnTo>
                  <a:lnTo>
                    <a:pt x="307" y="1691"/>
                  </a:lnTo>
                  <a:lnTo>
                    <a:pt x="307" y="1685"/>
                  </a:lnTo>
                  <a:lnTo>
                    <a:pt x="302" y="1685"/>
                  </a:lnTo>
                  <a:lnTo>
                    <a:pt x="302" y="1672"/>
                  </a:lnTo>
                  <a:lnTo>
                    <a:pt x="298" y="1672"/>
                  </a:lnTo>
                  <a:lnTo>
                    <a:pt x="298" y="1661"/>
                  </a:lnTo>
                  <a:lnTo>
                    <a:pt x="293" y="1661"/>
                  </a:lnTo>
                  <a:lnTo>
                    <a:pt x="293" y="1655"/>
                  </a:lnTo>
                  <a:lnTo>
                    <a:pt x="288" y="1655"/>
                  </a:lnTo>
                  <a:lnTo>
                    <a:pt x="288" y="1642"/>
                  </a:lnTo>
                  <a:lnTo>
                    <a:pt x="283" y="1642"/>
                  </a:lnTo>
                  <a:lnTo>
                    <a:pt x="283" y="1631"/>
                  </a:lnTo>
                  <a:lnTo>
                    <a:pt x="278" y="1631"/>
                  </a:lnTo>
                  <a:lnTo>
                    <a:pt x="278" y="1626"/>
                  </a:lnTo>
                  <a:lnTo>
                    <a:pt x="273" y="1626"/>
                  </a:lnTo>
                  <a:lnTo>
                    <a:pt x="273" y="1613"/>
                  </a:lnTo>
                  <a:lnTo>
                    <a:pt x="268" y="1613"/>
                  </a:lnTo>
                  <a:lnTo>
                    <a:pt x="268" y="1601"/>
                  </a:lnTo>
                  <a:lnTo>
                    <a:pt x="264" y="1601"/>
                  </a:lnTo>
                  <a:lnTo>
                    <a:pt x="264" y="1596"/>
                  </a:lnTo>
                  <a:lnTo>
                    <a:pt x="258" y="1596"/>
                  </a:lnTo>
                  <a:lnTo>
                    <a:pt x="258" y="1583"/>
                  </a:lnTo>
                  <a:lnTo>
                    <a:pt x="254" y="1583"/>
                  </a:lnTo>
                  <a:lnTo>
                    <a:pt x="254" y="1577"/>
                  </a:lnTo>
                  <a:lnTo>
                    <a:pt x="250" y="1577"/>
                  </a:lnTo>
                  <a:lnTo>
                    <a:pt x="250" y="1566"/>
                  </a:lnTo>
                  <a:lnTo>
                    <a:pt x="244" y="1566"/>
                  </a:lnTo>
                  <a:lnTo>
                    <a:pt x="244" y="1560"/>
                  </a:lnTo>
                  <a:lnTo>
                    <a:pt x="240" y="1560"/>
                  </a:lnTo>
                  <a:lnTo>
                    <a:pt x="240" y="1555"/>
                  </a:lnTo>
                  <a:lnTo>
                    <a:pt x="235" y="1555"/>
                  </a:lnTo>
                  <a:lnTo>
                    <a:pt x="235" y="1542"/>
                  </a:lnTo>
                  <a:lnTo>
                    <a:pt x="231" y="1542"/>
                  </a:lnTo>
                  <a:lnTo>
                    <a:pt x="231" y="1536"/>
                  </a:lnTo>
                  <a:lnTo>
                    <a:pt x="226" y="1536"/>
                  </a:lnTo>
                  <a:lnTo>
                    <a:pt x="226" y="1531"/>
                  </a:lnTo>
                  <a:lnTo>
                    <a:pt x="221" y="1531"/>
                  </a:lnTo>
                  <a:lnTo>
                    <a:pt x="221" y="1519"/>
                  </a:lnTo>
                  <a:lnTo>
                    <a:pt x="217" y="1519"/>
                  </a:lnTo>
                  <a:lnTo>
                    <a:pt x="217" y="1514"/>
                  </a:lnTo>
                  <a:lnTo>
                    <a:pt x="210" y="1514"/>
                  </a:lnTo>
                  <a:lnTo>
                    <a:pt x="210" y="1501"/>
                  </a:lnTo>
                  <a:lnTo>
                    <a:pt x="206" y="1501"/>
                  </a:lnTo>
                  <a:lnTo>
                    <a:pt x="206" y="1496"/>
                  </a:lnTo>
                  <a:lnTo>
                    <a:pt x="201" y="1496"/>
                  </a:lnTo>
                  <a:lnTo>
                    <a:pt x="201" y="1490"/>
                  </a:lnTo>
                  <a:lnTo>
                    <a:pt x="196" y="1490"/>
                  </a:lnTo>
                  <a:lnTo>
                    <a:pt x="196" y="1477"/>
                  </a:lnTo>
                  <a:lnTo>
                    <a:pt x="192" y="1477"/>
                  </a:lnTo>
                  <a:lnTo>
                    <a:pt x="192" y="1465"/>
                  </a:lnTo>
                  <a:lnTo>
                    <a:pt x="187" y="1465"/>
                  </a:lnTo>
                  <a:lnTo>
                    <a:pt x="187" y="1454"/>
                  </a:lnTo>
                  <a:lnTo>
                    <a:pt x="182" y="1454"/>
                  </a:lnTo>
                  <a:lnTo>
                    <a:pt x="182" y="1449"/>
                  </a:lnTo>
                  <a:lnTo>
                    <a:pt x="177" y="1449"/>
                  </a:lnTo>
                  <a:lnTo>
                    <a:pt x="177" y="1442"/>
                  </a:lnTo>
                  <a:lnTo>
                    <a:pt x="173" y="1442"/>
                  </a:lnTo>
                  <a:lnTo>
                    <a:pt x="173" y="1424"/>
                  </a:lnTo>
                  <a:lnTo>
                    <a:pt x="168" y="1424"/>
                  </a:lnTo>
                  <a:lnTo>
                    <a:pt x="168" y="1406"/>
                  </a:lnTo>
                  <a:lnTo>
                    <a:pt x="163" y="1406"/>
                  </a:lnTo>
                  <a:lnTo>
                    <a:pt x="163" y="1389"/>
                  </a:lnTo>
                  <a:lnTo>
                    <a:pt x="159" y="1389"/>
                  </a:lnTo>
                  <a:lnTo>
                    <a:pt x="159" y="1371"/>
                  </a:lnTo>
                  <a:lnTo>
                    <a:pt x="154" y="1371"/>
                  </a:lnTo>
                  <a:lnTo>
                    <a:pt x="154" y="1359"/>
                  </a:lnTo>
                  <a:lnTo>
                    <a:pt x="149" y="1359"/>
                  </a:lnTo>
                  <a:lnTo>
                    <a:pt x="149" y="1341"/>
                  </a:lnTo>
                  <a:lnTo>
                    <a:pt x="144" y="1341"/>
                  </a:lnTo>
                  <a:lnTo>
                    <a:pt x="144" y="1318"/>
                  </a:lnTo>
                  <a:lnTo>
                    <a:pt x="139" y="1318"/>
                  </a:lnTo>
                  <a:lnTo>
                    <a:pt x="139" y="1295"/>
                  </a:lnTo>
                  <a:lnTo>
                    <a:pt x="134" y="1295"/>
                  </a:lnTo>
                  <a:lnTo>
                    <a:pt x="134" y="1277"/>
                  </a:lnTo>
                  <a:lnTo>
                    <a:pt x="129" y="1277"/>
                  </a:lnTo>
                  <a:lnTo>
                    <a:pt x="129" y="1264"/>
                  </a:lnTo>
                  <a:lnTo>
                    <a:pt x="124" y="1264"/>
                  </a:lnTo>
                  <a:lnTo>
                    <a:pt x="124" y="1223"/>
                  </a:lnTo>
                  <a:lnTo>
                    <a:pt x="120" y="1223"/>
                  </a:lnTo>
                  <a:lnTo>
                    <a:pt x="120" y="1205"/>
                  </a:lnTo>
                  <a:lnTo>
                    <a:pt x="115" y="1205"/>
                  </a:lnTo>
                  <a:lnTo>
                    <a:pt x="115" y="1188"/>
                  </a:lnTo>
                  <a:lnTo>
                    <a:pt x="110" y="1188"/>
                  </a:lnTo>
                  <a:lnTo>
                    <a:pt x="110" y="1169"/>
                  </a:lnTo>
                  <a:lnTo>
                    <a:pt x="106" y="1169"/>
                  </a:lnTo>
                  <a:lnTo>
                    <a:pt x="106" y="1136"/>
                  </a:lnTo>
                  <a:lnTo>
                    <a:pt x="100" y="1136"/>
                  </a:lnTo>
                  <a:lnTo>
                    <a:pt x="100" y="1111"/>
                  </a:lnTo>
                  <a:lnTo>
                    <a:pt x="96" y="1111"/>
                  </a:lnTo>
                  <a:lnTo>
                    <a:pt x="96" y="1093"/>
                  </a:lnTo>
                  <a:lnTo>
                    <a:pt x="91" y="1093"/>
                  </a:lnTo>
                  <a:lnTo>
                    <a:pt x="91" y="1069"/>
                  </a:lnTo>
                  <a:lnTo>
                    <a:pt x="87" y="1069"/>
                  </a:lnTo>
                  <a:lnTo>
                    <a:pt x="87" y="1041"/>
                  </a:lnTo>
                  <a:lnTo>
                    <a:pt x="81" y="1041"/>
                  </a:lnTo>
                  <a:lnTo>
                    <a:pt x="81" y="1017"/>
                  </a:lnTo>
                  <a:lnTo>
                    <a:pt x="77" y="1017"/>
                  </a:lnTo>
                  <a:lnTo>
                    <a:pt x="77" y="981"/>
                  </a:lnTo>
                  <a:lnTo>
                    <a:pt x="73" y="981"/>
                  </a:lnTo>
                  <a:lnTo>
                    <a:pt x="73" y="958"/>
                  </a:lnTo>
                  <a:lnTo>
                    <a:pt x="66" y="958"/>
                  </a:lnTo>
                  <a:lnTo>
                    <a:pt x="66" y="928"/>
                  </a:lnTo>
                  <a:lnTo>
                    <a:pt x="62" y="928"/>
                  </a:lnTo>
                  <a:lnTo>
                    <a:pt x="62" y="898"/>
                  </a:lnTo>
                  <a:lnTo>
                    <a:pt x="57" y="898"/>
                  </a:lnTo>
                  <a:lnTo>
                    <a:pt x="57" y="851"/>
                  </a:lnTo>
                  <a:lnTo>
                    <a:pt x="52" y="851"/>
                  </a:lnTo>
                  <a:lnTo>
                    <a:pt x="52" y="810"/>
                  </a:lnTo>
                  <a:lnTo>
                    <a:pt x="47" y="810"/>
                  </a:lnTo>
                  <a:lnTo>
                    <a:pt x="47" y="762"/>
                  </a:lnTo>
                  <a:lnTo>
                    <a:pt x="43" y="762"/>
                  </a:lnTo>
                  <a:lnTo>
                    <a:pt x="43" y="721"/>
                  </a:lnTo>
                  <a:lnTo>
                    <a:pt x="38" y="721"/>
                  </a:lnTo>
                  <a:lnTo>
                    <a:pt x="38" y="685"/>
                  </a:lnTo>
                  <a:lnTo>
                    <a:pt x="33" y="685"/>
                  </a:lnTo>
                  <a:lnTo>
                    <a:pt x="33" y="638"/>
                  </a:lnTo>
                  <a:lnTo>
                    <a:pt x="29" y="638"/>
                  </a:lnTo>
                  <a:lnTo>
                    <a:pt x="29" y="604"/>
                  </a:lnTo>
                  <a:lnTo>
                    <a:pt x="24" y="604"/>
                  </a:lnTo>
                  <a:lnTo>
                    <a:pt x="24" y="573"/>
                  </a:lnTo>
                  <a:lnTo>
                    <a:pt x="19" y="573"/>
                  </a:lnTo>
                  <a:lnTo>
                    <a:pt x="19" y="538"/>
                  </a:lnTo>
                  <a:lnTo>
                    <a:pt x="14" y="538"/>
                  </a:lnTo>
                  <a:lnTo>
                    <a:pt x="14" y="527"/>
                  </a:lnTo>
                  <a:lnTo>
                    <a:pt x="10" y="527"/>
                  </a:lnTo>
                  <a:lnTo>
                    <a:pt x="10" y="478"/>
                  </a:lnTo>
                  <a:lnTo>
                    <a:pt x="4" y="478"/>
                  </a:lnTo>
                  <a:lnTo>
                    <a:pt x="4" y="419"/>
                  </a:lnTo>
                  <a:lnTo>
                    <a:pt x="0" y="419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78120" y="596880"/>
              <a:ext cx="112680" cy="157320"/>
            </a:xfrm>
            <a:custGeom>
              <a:avLst/>
              <a:gdLst/>
              <a:ahLst/>
              <a:rect l="l" t="t" r="r" b="b"/>
              <a:pathLst>
                <a:path w="215" h="396">
                  <a:moveTo>
                    <a:pt x="0" y="385"/>
                  </a:moveTo>
                  <a:lnTo>
                    <a:pt x="4" y="385"/>
                  </a:lnTo>
                  <a:lnTo>
                    <a:pt x="4" y="372"/>
                  </a:lnTo>
                  <a:lnTo>
                    <a:pt x="9" y="372"/>
                  </a:lnTo>
                  <a:lnTo>
                    <a:pt x="9" y="355"/>
                  </a:lnTo>
                  <a:lnTo>
                    <a:pt x="14" y="355"/>
                  </a:lnTo>
                  <a:lnTo>
                    <a:pt x="14" y="336"/>
                  </a:lnTo>
                  <a:lnTo>
                    <a:pt x="18" y="336"/>
                  </a:lnTo>
                  <a:lnTo>
                    <a:pt x="18" y="314"/>
                  </a:lnTo>
                  <a:lnTo>
                    <a:pt x="23" y="314"/>
                  </a:lnTo>
                  <a:lnTo>
                    <a:pt x="23" y="284"/>
                  </a:lnTo>
                  <a:lnTo>
                    <a:pt x="28" y="284"/>
                  </a:lnTo>
                  <a:lnTo>
                    <a:pt x="28" y="236"/>
                  </a:lnTo>
                  <a:lnTo>
                    <a:pt x="43" y="236"/>
                  </a:lnTo>
                  <a:lnTo>
                    <a:pt x="43" y="241"/>
                  </a:lnTo>
                  <a:lnTo>
                    <a:pt x="53" y="241"/>
                  </a:lnTo>
                  <a:lnTo>
                    <a:pt x="53" y="249"/>
                  </a:lnTo>
                  <a:lnTo>
                    <a:pt x="76" y="249"/>
                  </a:lnTo>
                  <a:lnTo>
                    <a:pt x="76" y="241"/>
                  </a:lnTo>
                  <a:lnTo>
                    <a:pt x="81" y="241"/>
                  </a:lnTo>
                  <a:lnTo>
                    <a:pt x="81" y="236"/>
                  </a:lnTo>
                  <a:lnTo>
                    <a:pt x="86" y="236"/>
                  </a:lnTo>
                  <a:lnTo>
                    <a:pt x="86" y="225"/>
                  </a:lnTo>
                  <a:lnTo>
                    <a:pt x="90" y="225"/>
                  </a:lnTo>
                  <a:lnTo>
                    <a:pt x="90" y="213"/>
                  </a:lnTo>
                  <a:lnTo>
                    <a:pt x="95" y="213"/>
                  </a:lnTo>
                  <a:lnTo>
                    <a:pt x="95" y="200"/>
                  </a:lnTo>
                  <a:lnTo>
                    <a:pt x="100" y="200"/>
                  </a:lnTo>
                  <a:lnTo>
                    <a:pt x="100" y="171"/>
                  </a:lnTo>
                  <a:lnTo>
                    <a:pt x="95" y="171"/>
                  </a:lnTo>
                  <a:lnTo>
                    <a:pt x="95" y="159"/>
                  </a:lnTo>
                  <a:lnTo>
                    <a:pt x="148" y="159"/>
                  </a:lnTo>
                  <a:lnTo>
                    <a:pt x="148" y="154"/>
                  </a:lnTo>
                  <a:lnTo>
                    <a:pt x="152" y="154"/>
                  </a:lnTo>
                  <a:lnTo>
                    <a:pt x="152" y="148"/>
                  </a:lnTo>
                  <a:lnTo>
                    <a:pt x="158" y="148"/>
                  </a:lnTo>
                  <a:lnTo>
                    <a:pt x="158" y="141"/>
                  </a:lnTo>
                  <a:lnTo>
                    <a:pt x="162" y="141"/>
                  </a:lnTo>
                  <a:lnTo>
                    <a:pt x="162" y="135"/>
                  </a:lnTo>
                  <a:lnTo>
                    <a:pt x="167" y="135"/>
                  </a:lnTo>
                  <a:lnTo>
                    <a:pt x="167" y="124"/>
                  </a:lnTo>
                  <a:lnTo>
                    <a:pt x="172" y="124"/>
                  </a:lnTo>
                  <a:lnTo>
                    <a:pt x="172" y="113"/>
                  </a:lnTo>
                  <a:lnTo>
                    <a:pt x="177" y="113"/>
                  </a:lnTo>
                  <a:lnTo>
                    <a:pt x="177" y="94"/>
                  </a:lnTo>
                  <a:lnTo>
                    <a:pt x="182" y="94"/>
                  </a:lnTo>
                  <a:lnTo>
                    <a:pt x="182" y="82"/>
                  </a:lnTo>
                  <a:lnTo>
                    <a:pt x="187" y="82"/>
                  </a:lnTo>
                  <a:lnTo>
                    <a:pt x="187" y="59"/>
                  </a:lnTo>
                  <a:lnTo>
                    <a:pt x="192" y="59"/>
                  </a:lnTo>
                  <a:lnTo>
                    <a:pt x="192" y="42"/>
                  </a:lnTo>
                  <a:lnTo>
                    <a:pt x="196" y="4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15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06" y="23"/>
                  </a:lnTo>
                  <a:lnTo>
                    <a:pt x="206" y="48"/>
                  </a:lnTo>
                  <a:lnTo>
                    <a:pt x="201" y="48"/>
                  </a:lnTo>
                  <a:lnTo>
                    <a:pt x="201" y="64"/>
                  </a:lnTo>
                  <a:lnTo>
                    <a:pt x="196" y="64"/>
                  </a:lnTo>
                  <a:lnTo>
                    <a:pt x="196" y="89"/>
                  </a:lnTo>
                  <a:lnTo>
                    <a:pt x="192" y="89"/>
                  </a:lnTo>
                  <a:lnTo>
                    <a:pt x="192" y="100"/>
                  </a:lnTo>
                  <a:lnTo>
                    <a:pt x="187" y="100"/>
                  </a:lnTo>
                  <a:lnTo>
                    <a:pt x="187" y="118"/>
                  </a:lnTo>
                  <a:lnTo>
                    <a:pt x="182" y="118"/>
                  </a:lnTo>
                  <a:lnTo>
                    <a:pt x="182" y="130"/>
                  </a:lnTo>
                  <a:lnTo>
                    <a:pt x="177" y="130"/>
                  </a:lnTo>
                  <a:lnTo>
                    <a:pt x="177" y="141"/>
                  </a:lnTo>
                  <a:lnTo>
                    <a:pt x="172" y="141"/>
                  </a:lnTo>
                  <a:lnTo>
                    <a:pt x="172" y="148"/>
                  </a:lnTo>
                  <a:lnTo>
                    <a:pt x="167" y="148"/>
                  </a:lnTo>
                  <a:lnTo>
                    <a:pt x="167" y="159"/>
                  </a:lnTo>
                  <a:lnTo>
                    <a:pt x="162" y="159"/>
                  </a:lnTo>
                  <a:lnTo>
                    <a:pt x="162" y="165"/>
                  </a:lnTo>
                  <a:lnTo>
                    <a:pt x="158" y="165"/>
                  </a:lnTo>
                  <a:lnTo>
                    <a:pt x="158" y="171"/>
                  </a:lnTo>
                  <a:lnTo>
                    <a:pt x="148" y="171"/>
                  </a:lnTo>
                  <a:lnTo>
                    <a:pt x="148" y="176"/>
                  </a:lnTo>
                  <a:lnTo>
                    <a:pt x="138" y="176"/>
                  </a:lnTo>
                  <a:lnTo>
                    <a:pt x="138" y="183"/>
                  </a:lnTo>
                  <a:lnTo>
                    <a:pt x="129" y="183"/>
                  </a:lnTo>
                  <a:lnTo>
                    <a:pt x="129" y="176"/>
                  </a:lnTo>
                  <a:lnTo>
                    <a:pt x="115" y="176"/>
                  </a:lnTo>
                  <a:lnTo>
                    <a:pt x="115" y="183"/>
                  </a:lnTo>
                  <a:lnTo>
                    <a:pt x="111" y="183"/>
                  </a:lnTo>
                  <a:lnTo>
                    <a:pt x="111" y="208"/>
                  </a:lnTo>
                  <a:lnTo>
                    <a:pt x="104" y="208"/>
                  </a:lnTo>
                  <a:lnTo>
                    <a:pt x="104" y="225"/>
                  </a:lnTo>
                  <a:lnTo>
                    <a:pt x="100" y="225"/>
                  </a:lnTo>
                  <a:lnTo>
                    <a:pt x="100" y="236"/>
                  </a:lnTo>
                  <a:lnTo>
                    <a:pt x="95" y="236"/>
                  </a:lnTo>
                  <a:lnTo>
                    <a:pt x="95" y="249"/>
                  </a:lnTo>
                  <a:lnTo>
                    <a:pt x="90" y="249"/>
                  </a:lnTo>
                  <a:lnTo>
                    <a:pt x="90" y="254"/>
                  </a:lnTo>
                  <a:lnTo>
                    <a:pt x="86" y="254"/>
                  </a:lnTo>
                  <a:lnTo>
                    <a:pt x="86" y="260"/>
                  </a:lnTo>
                  <a:lnTo>
                    <a:pt x="76" y="260"/>
                  </a:lnTo>
                  <a:lnTo>
                    <a:pt x="76" y="266"/>
                  </a:lnTo>
                  <a:lnTo>
                    <a:pt x="38" y="266"/>
                  </a:lnTo>
                  <a:lnTo>
                    <a:pt x="38" y="301"/>
                  </a:lnTo>
                  <a:lnTo>
                    <a:pt x="33" y="301"/>
                  </a:lnTo>
                  <a:lnTo>
                    <a:pt x="33" y="326"/>
                  </a:lnTo>
                  <a:lnTo>
                    <a:pt x="28" y="326"/>
                  </a:lnTo>
                  <a:lnTo>
                    <a:pt x="28" y="349"/>
                  </a:lnTo>
                  <a:lnTo>
                    <a:pt x="23" y="349"/>
                  </a:lnTo>
                  <a:lnTo>
                    <a:pt x="23" y="367"/>
                  </a:lnTo>
                  <a:lnTo>
                    <a:pt x="18" y="367"/>
                  </a:lnTo>
                  <a:lnTo>
                    <a:pt x="18" y="377"/>
                  </a:lnTo>
                  <a:lnTo>
                    <a:pt x="14" y="377"/>
                  </a:lnTo>
                  <a:lnTo>
                    <a:pt x="14" y="390"/>
                  </a:lnTo>
                  <a:lnTo>
                    <a:pt x="9" y="390"/>
                  </a:lnTo>
                  <a:lnTo>
                    <a:pt x="9" y="396"/>
                  </a:lnTo>
                  <a:lnTo>
                    <a:pt x="0" y="396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89280" y="1019160"/>
              <a:ext cx="6480" cy="46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00440" y="3857760"/>
              <a:ext cx="1614600" cy="625320"/>
            </a:xfrm>
            <a:custGeom>
              <a:avLst/>
              <a:gdLst/>
              <a:ahLst/>
              <a:rect l="l" t="t" r="r" b="b"/>
              <a:pathLst>
                <a:path w="3050" h="1577">
                  <a:moveTo>
                    <a:pt x="0" y="1526"/>
                  </a:moveTo>
                  <a:lnTo>
                    <a:pt x="5" y="1526"/>
                  </a:lnTo>
                  <a:lnTo>
                    <a:pt x="5" y="1519"/>
                  </a:lnTo>
                  <a:lnTo>
                    <a:pt x="14" y="1519"/>
                  </a:lnTo>
                  <a:lnTo>
                    <a:pt x="14" y="1514"/>
                  </a:lnTo>
                  <a:lnTo>
                    <a:pt x="19" y="1514"/>
                  </a:lnTo>
                  <a:lnTo>
                    <a:pt x="19" y="1509"/>
                  </a:lnTo>
                  <a:lnTo>
                    <a:pt x="28" y="1509"/>
                  </a:lnTo>
                  <a:lnTo>
                    <a:pt x="28" y="1501"/>
                  </a:lnTo>
                  <a:lnTo>
                    <a:pt x="33" y="1501"/>
                  </a:lnTo>
                  <a:lnTo>
                    <a:pt x="33" y="1496"/>
                  </a:lnTo>
                  <a:lnTo>
                    <a:pt x="38" y="1496"/>
                  </a:lnTo>
                  <a:lnTo>
                    <a:pt x="38" y="1490"/>
                  </a:lnTo>
                  <a:lnTo>
                    <a:pt x="43" y="1490"/>
                  </a:lnTo>
                  <a:lnTo>
                    <a:pt x="43" y="1485"/>
                  </a:lnTo>
                  <a:lnTo>
                    <a:pt x="57" y="1485"/>
                  </a:lnTo>
                  <a:lnTo>
                    <a:pt x="57" y="1477"/>
                  </a:lnTo>
                  <a:lnTo>
                    <a:pt x="61" y="1477"/>
                  </a:lnTo>
                  <a:lnTo>
                    <a:pt x="61" y="1472"/>
                  </a:lnTo>
                  <a:lnTo>
                    <a:pt x="72" y="1472"/>
                  </a:lnTo>
                  <a:lnTo>
                    <a:pt x="72" y="1466"/>
                  </a:lnTo>
                  <a:lnTo>
                    <a:pt x="82" y="1466"/>
                  </a:lnTo>
                  <a:lnTo>
                    <a:pt x="82" y="1460"/>
                  </a:lnTo>
                  <a:lnTo>
                    <a:pt x="95" y="1460"/>
                  </a:lnTo>
                  <a:lnTo>
                    <a:pt x="95" y="1455"/>
                  </a:lnTo>
                  <a:lnTo>
                    <a:pt x="109" y="1455"/>
                  </a:lnTo>
                  <a:lnTo>
                    <a:pt x="109" y="1449"/>
                  </a:lnTo>
                  <a:lnTo>
                    <a:pt x="115" y="1449"/>
                  </a:lnTo>
                  <a:lnTo>
                    <a:pt x="115" y="1442"/>
                  </a:lnTo>
                  <a:lnTo>
                    <a:pt x="124" y="1442"/>
                  </a:lnTo>
                  <a:lnTo>
                    <a:pt x="124" y="1431"/>
                  </a:lnTo>
                  <a:lnTo>
                    <a:pt x="129" y="1431"/>
                  </a:lnTo>
                  <a:lnTo>
                    <a:pt x="129" y="1425"/>
                  </a:lnTo>
                  <a:lnTo>
                    <a:pt x="144" y="1425"/>
                  </a:lnTo>
                  <a:lnTo>
                    <a:pt x="144" y="1419"/>
                  </a:lnTo>
                  <a:lnTo>
                    <a:pt x="153" y="1419"/>
                  </a:lnTo>
                  <a:lnTo>
                    <a:pt x="153" y="1413"/>
                  </a:lnTo>
                  <a:lnTo>
                    <a:pt x="158" y="1413"/>
                  </a:lnTo>
                  <a:lnTo>
                    <a:pt x="158" y="1408"/>
                  </a:lnTo>
                  <a:lnTo>
                    <a:pt x="168" y="1408"/>
                  </a:lnTo>
                  <a:lnTo>
                    <a:pt x="168" y="1401"/>
                  </a:lnTo>
                  <a:lnTo>
                    <a:pt x="172" y="1401"/>
                  </a:lnTo>
                  <a:lnTo>
                    <a:pt x="172" y="1395"/>
                  </a:lnTo>
                  <a:lnTo>
                    <a:pt x="182" y="1395"/>
                  </a:lnTo>
                  <a:lnTo>
                    <a:pt x="182" y="1390"/>
                  </a:lnTo>
                  <a:lnTo>
                    <a:pt x="186" y="1390"/>
                  </a:lnTo>
                  <a:lnTo>
                    <a:pt x="186" y="1384"/>
                  </a:lnTo>
                  <a:lnTo>
                    <a:pt x="196" y="1384"/>
                  </a:lnTo>
                  <a:lnTo>
                    <a:pt x="196" y="1378"/>
                  </a:lnTo>
                  <a:lnTo>
                    <a:pt x="201" y="1378"/>
                  </a:lnTo>
                  <a:lnTo>
                    <a:pt x="201" y="1371"/>
                  </a:lnTo>
                  <a:lnTo>
                    <a:pt x="205" y="1371"/>
                  </a:lnTo>
                  <a:lnTo>
                    <a:pt x="205" y="1366"/>
                  </a:lnTo>
                  <a:lnTo>
                    <a:pt x="221" y="1366"/>
                  </a:lnTo>
                  <a:lnTo>
                    <a:pt x="221" y="1359"/>
                  </a:lnTo>
                  <a:lnTo>
                    <a:pt x="230" y="1359"/>
                  </a:lnTo>
                  <a:lnTo>
                    <a:pt x="230" y="1354"/>
                  </a:lnTo>
                  <a:lnTo>
                    <a:pt x="239" y="1354"/>
                  </a:lnTo>
                  <a:lnTo>
                    <a:pt x="239" y="1341"/>
                  </a:lnTo>
                  <a:lnTo>
                    <a:pt x="245" y="1341"/>
                  </a:lnTo>
                  <a:lnTo>
                    <a:pt x="245" y="1336"/>
                  </a:lnTo>
                  <a:lnTo>
                    <a:pt x="254" y="1336"/>
                  </a:lnTo>
                  <a:lnTo>
                    <a:pt x="254" y="1330"/>
                  </a:lnTo>
                  <a:lnTo>
                    <a:pt x="264" y="1330"/>
                  </a:lnTo>
                  <a:lnTo>
                    <a:pt x="264" y="1324"/>
                  </a:lnTo>
                  <a:lnTo>
                    <a:pt x="273" y="1324"/>
                  </a:lnTo>
                  <a:lnTo>
                    <a:pt x="273" y="1318"/>
                  </a:lnTo>
                  <a:lnTo>
                    <a:pt x="283" y="1318"/>
                  </a:lnTo>
                  <a:lnTo>
                    <a:pt x="283" y="1313"/>
                  </a:lnTo>
                  <a:lnTo>
                    <a:pt x="288" y="1313"/>
                  </a:lnTo>
                  <a:lnTo>
                    <a:pt x="288" y="1306"/>
                  </a:lnTo>
                  <a:lnTo>
                    <a:pt x="293" y="1306"/>
                  </a:lnTo>
                  <a:lnTo>
                    <a:pt x="293" y="1300"/>
                  </a:lnTo>
                  <a:lnTo>
                    <a:pt x="298" y="1300"/>
                  </a:lnTo>
                  <a:lnTo>
                    <a:pt x="298" y="1295"/>
                  </a:lnTo>
                  <a:lnTo>
                    <a:pt x="308" y="1295"/>
                  </a:lnTo>
                  <a:lnTo>
                    <a:pt x="308" y="1289"/>
                  </a:lnTo>
                  <a:lnTo>
                    <a:pt x="312" y="1289"/>
                  </a:lnTo>
                  <a:lnTo>
                    <a:pt x="312" y="1283"/>
                  </a:lnTo>
                  <a:lnTo>
                    <a:pt x="316" y="1283"/>
                  </a:lnTo>
                  <a:lnTo>
                    <a:pt x="316" y="1277"/>
                  </a:lnTo>
                  <a:lnTo>
                    <a:pt x="326" y="1277"/>
                  </a:lnTo>
                  <a:lnTo>
                    <a:pt x="326" y="1272"/>
                  </a:lnTo>
                  <a:lnTo>
                    <a:pt x="335" y="1272"/>
                  </a:lnTo>
                  <a:lnTo>
                    <a:pt x="335" y="1265"/>
                  </a:lnTo>
                  <a:lnTo>
                    <a:pt x="345" y="1265"/>
                  </a:lnTo>
                  <a:lnTo>
                    <a:pt x="345" y="1259"/>
                  </a:lnTo>
                  <a:lnTo>
                    <a:pt x="356" y="1259"/>
                  </a:lnTo>
                  <a:lnTo>
                    <a:pt x="356" y="1254"/>
                  </a:lnTo>
                  <a:lnTo>
                    <a:pt x="365" y="1254"/>
                  </a:lnTo>
                  <a:lnTo>
                    <a:pt x="365" y="1248"/>
                  </a:lnTo>
                  <a:lnTo>
                    <a:pt x="370" y="1248"/>
                  </a:lnTo>
                  <a:lnTo>
                    <a:pt x="370" y="1242"/>
                  </a:lnTo>
                  <a:lnTo>
                    <a:pt x="379" y="1242"/>
                  </a:lnTo>
                  <a:lnTo>
                    <a:pt x="379" y="1235"/>
                  </a:lnTo>
                  <a:lnTo>
                    <a:pt x="389" y="1235"/>
                  </a:lnTo>
                  <a:lnTo>
                    <a:pt x="389" y="1230"/>
                  </a:lnTo>
                  <a:lnTo>
                    <a:pt x="398" y="1230"/>
                  </a:lnTo>
                  <a:lnTo>
                    <a:pt x="398" y="1223"/>
                  </a:lnTo>
                  <a:lnTo>
                    <a:pt x="408" y="1223"/>
                  </a:lnTo>
                  <a:lnTo>
                    <a:pt x="408" y="1218"/>
                  </a:lnTo>
                  <a:lnTo>
                    <a:pt x="417" y="1218"/>
                  </a:lnTo>
                  <a:lnTo>
                    <a:pt x="417" y="1212"/>
                  </a:lnTo>
                  <a:lnTo>
                    <a:pt x="422" y="1212"/>
                  </a:lnTo>
                  <a:lnTo>
                    <a:pt x="422" y="1205"/>
                  </a:lnTo>
                  <a:lnTo>
                    <a:pt x="437" y="1205"/>
                  </a:lnTo>
                  <a:lnTo>
                    <a:pt x="437" y="1200"/>
                  </a:lnTo>
                  <a:lnTo>
                    <a:pt x="442" y="1200"/>
                  </a:lnTo>
                  <a:lnTo>
                    <a:pt x="442" y="1194"/>
                  </a:lnTo>
                  <a:lnTo>
                    <a:pt x="451" y="1194"/>
                  </a:lnTo>
                  <a:lnTo>
                    <a:pt x="451" y="1189"/>
                  </a:lnTo>
                  <a:lnTo>
                    <a:pt x="456" y="1189"/>
                  </a:lnTo>
                  <a:lnTo>
                    <a:pt x="456" y="1182"/>
                  </a:lnTo>
                  <a:lnTo>
                    <a:pt x="466" y="1182"/>
                  </a:lnTo>
                  <a:lnTo>
                    <a:pt x="466" y="1177"/>
                  </a:lnTo>
                  <a:lnTo>
                    <a:pt x="475" y="1177"/>
                  </a:lnTo>
                  <a:lnTo>
                    <a:pt x="475" y="1170"/>
                  </a:lnTo>
                  <a:lnTo>
                    <a:pt x="484" y="1170"/>
                  </a:lnTo>
                  <a:lnTo>
                    <a:pt x="484" y="1164"/>
                  </a:lnTo>
                  <a:lnTo>
                    <a:pt x="489" y="1164"/>
                  </a:lnTo>
                  <a:lnTo>
                    <a:pt x="489" y="1158"/>
                  </a:lnTo>
                  <a:lnTo>
                    <a:pt x="493" y="1158"/>
                  </a:lnTo>
                  <a:lnTo>
                    <a:pt x="493" y="1153"/>
                  </a:lnTo>
                  <a:lnTo>
                    <a:pt x="509" y="1153"/>
                  </a:lnTo>
                  <a:lnTo>
                    <a:pt x="509" y="1147"/>
                  </a:lnTo>
                  <a:lnTo>
                    <a:pt x="519" y="1147"/>
                  </a:lnTo>
                  <a:lnTo>
                    <a:pt x="519" y="1142"/>
                  </a:lnTo>
                  <a:lnTo>
                    <a:pt x="523" y="1142"/>
                  </a:lnTo>
                  <a:lnTo>
                    <a:pt x="523" y="1136"/>
                  </a:lnTo>
                  <a:lnTo>
                    <a:pt x="533" y="1136"/>
                  </a:lnTo>
                  <a:lnTo>
                    <a:pt x="533" y="1131"/>
                  </a:lnTo>
                  <a:lnTo>
                    <a:pt x="542" y="1131"/>
                  </a:lnTo>
                  <a:lnTo>
                    <a:pt x="542" y="1123"/>
                  </a:lnTo>
                  <a:lnTo>
                    <a:pt x="547" y="1123"/>
                  </a:lnTo>
                  <a:lnTo>
                    <a:pt x="547" y="1118"/>
                  </a:lnTo>
                  <a:lnTo>
                    <a:pt x="561" y="1118"/>
                  </a:lnTo>
                  <a:lnTo>
                    <a:pt x="561" y="1112"/>
                  </a:lnTo>
                  <a:lnTo>
                    <a:pt x="571" y="1112"/>
                  </a:lnTo>
                  <a:lnTo>
                    <a:pt x="571" y="1106"/>
                  </a:lnTo>
                  <a:lnTo>
                    <a:pt x="576" y="1106"/>
                  </a:lnTo>
                  <a:lnTo>
                    <a:pt x="576" y="1099"/>
                  </a:lnTo>
                  <a:lnTo>
                    <a:pt x="586" y="1099"/>
                  </a:lnTo>
                  <a:lnTo>
                    <a:pt x="586" y="1094"/>
                  </a:lnTo>
                  <a:lnTo>
                    <a:pt x="596" y="1094"/>
                  </a:lnTo>
                  <a:lnTo>
                    <a:pt x="596" y="1088"/>
                  </a:lnTo>
                  <a:lnTo>
                    <a:pt x="605" y="1088"/>
                  </a:lnTo>
                  <a:lnTo>
                    <a:pt x="605" y="1082"/>
                  </a:lnTo>
                  <a:lnTo>
                    <a:pt x="619" y="1082"/>
                  </a:lnTo>
                  <a:lnTo>
                    <a:pt x="619" y="1077"/>
                  </a:lnTo>
                  <a:lnTo>
                    <a:pt x="623" y="1077"/>
                  </a:lnTo>
                  <a:lnTo>
                    <a:pt x="623" y="1071"/>
                  </a:lnTo>
                  <a:lnTo>
                    <a:pt x="633" y="1071"/>
                  </a:lnTo>
                  <a:lnTo>
                    <a:pt x="633" y="1064"/>
                  </a:lnTo>
                  <a:lnTo>
                    <a:pt x="638" y="1064"/>
                  </a:lnTo>
                  <a:lnTo>
                    <a:pt x="638" y="1058"/>
                  </a:lnTo>
                  <a:lnTo>
                    <a:pt x="644" y="1058"/>
                  </a:lnTo>
                  <a:lnTo>
                    <a:pt x="644" y="1053"/>
                  </a:lnTo>
                  <a:lnTo>
                    <a:pt x="658" y="1053"/>
                  </a:lnTo>
                  <a:lnTo>
                    <a:pt x="658" y="1046"/>
                  </a:lnTo>
                  <a:lnTo>
                    <a:pt x="663" y="1046"/>
                  </a:lnTo>
                  <a:lnTo>
                    <a:pt x="663" y="1041"/>
                  </a:lnTo>
                  <a:lnTo>
                    <a:pt x="667" y="1041"/>
                  </a:lnTo>
                  <a:lnTo>
                    <a:pt x="667" y="1036"/>
                  </a:lnTo>
                  <a:lnTo>
                    <a:pt x="682" y="1036"/>
                  </a:lnTo>
                  <a:lnTo>
                    <a:pt x="682" y="1028"/>
                  </a:lnTo>
                  <a:lnTo>
                    <a:pt x="696" y="1028"/>
                  </a:lnTo>
                  <a:lnTo>
                    <a:pt x="696" y="1023"/>
                  </a:lnTo>
                  <a:lnTo>
                    <a:pt x="706" y="1023"/>
                  </a:lnTo>
                  <a:lnTo>
                    <a:pt x="706" y="1017"/>
                  </a:lnTo>
                  <a:lnTo>
                    <a:pt x="716" y="1017"/>
                  </a:lnTo>
                  <a:lnTo>
                    <a:pt x="716" y="1012"/>
                  </a:lnTo>
                  <a:lnTo>
                    <a:pt x="720" y="1012"/>
                  </a:lnTo>
                  <a:lnTo>
                    <a:pt x="720" y="1004"/>
                  </a:lnTo>
                  <a:lnTo>
                    <a:pt x="726" y="1004"/>
                  </a:lnTo>
                  <a:lnTo>
                    <a:pt x="726" y="999"/>
                  </a:lnTo>
                  <a:lnTo>
                    <a:pt x="734" y="999"/>
                  </a:lnTo>
                  <a:lnTo>
                    <a:pt x="734" y="993"/>
                  </a:lnTo>
                  <a:lnTo>
                    <a:pt x="740" y="993"/>
                  </a:lnTo>
                  <a:lnTo>
                    <a:pt x="740" y="987"/>
                  </a:lnTo>
                  <a:lnTo>
                    <a:pt x="749" y="987"/>
                  </a:lnTo>
                  <a:lnTo>
                    <a:pt x="749" y="982"/>
                  </a:lnTo>
                  <a:lnTo>
                    <a:pt x="759" y="982"/>
                  </a:lnTo>
                  <a:lnTo>
                    <a:pt x="759" y="976"/>
                  </a:lnTo>
                  <a:lnTo>
                    <a:pt x="773" y="976"/>
                  </a:lnTo>
                  <a:lnTo>
                    <a:pt x="773" y="970"/>
                  </a:lnTo>
                  <a:lnTo>
                    <a:pt x="777" y="970"/>
                  </a:lnTo>
                  <a:lnTo>
                    <a:pt x="777" y="963"/>
                  </a:lnTo>
                  <a:lnTo>
                    <a:pt x="788" y="963"/>
                  </a:lnTo>
                  <a:lnTo>
                    <a:pt x="788" y="958"/>
                  </a:lnTo>
                  <a:lnTo>
                    <a:pt x="792" y="958"/>
                  </a:lnTo>
                  <a:lnTo>
                    <a:pt x="792" y="952"/>
                  </a:lnTo>
                  <a:lnTo>
                    <a:pt x="802" y="952"/>
                  </a:lnTo>
                  <a:lnTo>
                    <a:pt x="802" y="946"/>
                  </a:lnTo>
                  <a:lnTo>
                    <a:pt x="811" y="946"/>
                  </a:lnTo>
                  <a:lnTo>
                    <a:pt x="811" y="940"/>
                  </a:lnTo>
                  <a:lnTo>
                    <a:pt x="821" y="940"/>
                  </a:lnTo>
                  <a:lnTo>
                    <a:pt x="821" y="935"/>
                  </a:lnTo>
                  <a:lnTo>
                    <a:pt x="825" y="935"/>
                  </a:lnTo>
                  <a:lnTo>
                    <a:pt x="825" y="928"/>
                  </a:lnTo>
                  <a:lnTo>
                    <a:pt x="840" y="928"/>
                  </a:lnTo>
                  <a:lnTo>
                    <a:pt x="840" y="922"/>
                  </a:lnTo>
                  <a:lnTo>
                    <a:pt x="850" y="922"/>
                  </a:lnTo>
                  <a:lnTo>
                    <a:pt x="850" y="917"/>
                  </a:lnTo>
                  <a:lnTo>
                    <a:pt x="854" y="917"/>
                  </a:lnTo>
                  <a:lnTo>
                    <a:pt x="854" y="911"/>
                  </a:lnTo>
                  <a:lnTo>
                    <a:pt x="864" y="911"/>
                  </a:lnTo>
                  <a:lnTo>
                    <a:pt x="864" y="905"/>
                  </a:lnTo>
                  <a:lnTo>
                    <a:pt x="869" y="905"/>
                  </a:lnTo>
                  <a:lnTo>
                    <a:pt x="869" y="898"/>
                  </a:lnTo>
                  <a:lnTo>
                    <a:pt x="874" y="898"/>
                  </a:lnTo>
                  <a:lnTo>
                    <a:pt x="874" y="893"/>
                  </a:lnTo>
                  <a:lnTo>
                    <a:pt x="884" y="893"/>
                  </a:lnTo>
                  <a:lnTo>
                    <a:pt x="884" y="887"/>
                  </a:lnTo>
                  <a:lnTo>
                    <a:pt x="893" y="887"/>
                  </a:lnTo>
                  <a:lnTo>
                    <a:pt x="893" y="881"/>
                  </a:lnTo>
                  <a:lnTo>
                    <a:pt x="903" y="881"/>
                  </a:lnTo>
                  <a:lnTo>
                    <a:pt x="903" y="876"/>
                  </a:lnTo>
                  <a:lnTo>
                    <a:pt x="912" y="876"/>
                  </a:lnTo>
                  <a:lnTo>
                    <a:pt x="912" y="868"/>
                  </a:lnTo>
                  <a:lnTo>
                    <a:pt x="921" y="868"/>
                  </a:lnTo>
                  <a:lnTo>
                    <a:pt x="921" y="863"/>
                  </a:lnTo>
                  <a:lnTo>
                    <a:pt x="926" y="863"/>
                  </a:lnTo>
                  <a:lnTo>
                    <a:pt x="926" y="857"/>
                  </a:lnTo>
                  <a:lnTo>
                    <a:pt x="937" y="857"/>
                  </a:lnTo>
                  <a:lnTo>
                    <a:pt x="937" y="851"/>
                  </a:lnTo>
                  <a:lnTo>
                    <a:pt x="941" y="851"/>
                  </a:lnTo>
                  <a:lnTo>
                    <a:pt x="941" y="845"/>
                  </a:lnTo>
                  <a:lnTo>
                    <a:pt x="955" y="845"/>
                  </a:lnTo>
                  <a:lnTo>
                    <a:pt x="955" y="840"/>
                  </a:lnTo>
                  <a:lnTo>
                    <a:pt x="970" y="840"/>
                  </a:lnTo>
                  <a:lnTo>
                    <a:pt x="970" y="835"/>
                  </a:lnTo>
                  <a:lnTo>
                    <a:pt x="980" y="835"/>
                  </a:lnTo>
                  <a:lnTo>
                    <a:pt x="980" y="827"/>
                  </a:lnTo>
                  <a:lnTo>
                    <a:pt x="989" y="827"/>
                  </a:lnTo>
                  <a:lnTo>
                    <a:pt x="989" y="822"/>
                  </a:lnTo>
                  <a:lnTo>
                    <a:pt x="998" y="822"/>
                  </a:lnTo>
                  <a:lnTo>
                    <a:pt x="998" y="816"/>
                  </a:lnTo>
                  <a:lnTo>
                    <a:pt x="1014" y="816"/>
                  </a:lnTo>
                  <a:lnTo>
                    <a:pt x="1014" y="810"/>
                  </a:lnTo>
                  <a:lnTo>
                    <a:pt x="1023" y="810"/>
                  </a:lnTo>
                  <a:lnTo>
                    <a:pt x="1023" y="804"/>
                  </a:lnTo>
                  <a:lnTo>
                    <a:pt x="1032" y="804"/>
                  </a:lnTo>
                  <a:lnTo>
                    <a:pt x="1032" y="799"/>
                  </a:lnTo>
                  <a:lnTo>
                    <a:pt x="1047" y="799"/>
                  </a:lnTo>
                  <a:lnTo>
                    <a:pt x="1047" y="792"/>
                  </a:lnTo>
                  <a:lnTo>
                    <a:pt x="1051" y="792"/>
                  </a:lnTo>
                  <a:lnTo>
                    <a:pt x="1051" y="786"/>
                  </a:lnTo>
                  <a:lnTo>
                    <a:pt x="1066" y="786"/>
                  </a:lnTo>
                  <a:lnTo>
                    <a:pt x="1066" y="781"/>
                  </a:lnTo>
                  <a:lnTo>
                    <a:pt x="1075" y="781"/>
                  </a:lnTo>
                  <a:lnTo>
                    <a:pt x="1075" y="775"/>
                  </a:lnTo>
                  <a:lnTo>
                    <a:pt x="1085" y="775"/>
                  </a:lnTo>
                  <a:lnTo>
                    <a:pt x="1085" y="769"/>
                  </a:lnTo>
                  <a:lnTo>
                    <a:pt x="1091" y="769"/>
                  </a:lnTo>
                  <a:lnTo>
                    <a:pt x="1091" y="762"/>
                  </a:lnTo>
                  <a:lnTo>
                    <a:pt x="1100" y="762"/>
                  </a:lnTo>
                  <a:lnTo>
                    <a:pt x="1100" y="757"/>
                  </a:lnTo>
                  <a:lnTo>
                    <a:pt x="1104" y="757"/>
                  </a:lnTo>
                  <a:lnTo>
                    <a:pt x="1104" y="750"/>
                  </a:lnTo>
                  <a:lnTo>
                    <a:pt x="1118" y="750"/>
                  </a:lnTo>
                  <a:lnTo>
                    <a:pt x="1118" y="745"/>
                  </a:lnTo>
                  <a:lnTo>
                    <a:pt x="1128" y="745"/>
                  </a:lnTo>
                  <a:lnTo>
                    <a:pt x="1128" y="739"/>
                  </a:lnTo>
                  <a:lnTo>
                    <a:pt x="1138" y="739"/>
                  </a:lnTo>
                  <a:lnTo>
                    <a:pt x="1138" y="734"/>
                  </a:lnTo>
                  <a:lnTo>
                    <a:pt x="1152" y="734"/>
                  </a:lnTo>
                  <a:lnTo>
                    <a:pt x="1152" y="727"/>
                  </a:lnTo>
                  <a:lnTo>
                    <a:pt x="1172" y="727"/>
                  </a:lnTo>
                  <a:lnTo>
                    <a:pt x="1172" y="722"/>
                  </a:lnTo>
                  <a:lnTo>
                    <a:pt x="1186" y="722"/>
                  </a:lnTo>
                  <a:lnTo>
                    <a:pt x="1186" y="716"/>
                  </a:lnTo>
                  <a:lnTo>
                    <a:pt x="1200" y="716"/>
                  </a:lnTo>
                  <a:lnTo>
                    <a:pt x="1200" y="710"/>
                  </a:lnTo>
                  <a:lnTo>
                    <a:pt x="1209" y="710"/>
                  </a:lnTo>
                  <a:lnTo>
                    <a:pt x="1209" y="704"/>
                  </a:lnTo>
                  <a:lnTo>
                    <a:pt x="1219" y="704"/>
                  </a:lnTo>
                  <a:lnTo>
                    <a:pt x="1219" y="699"/>
                  </a:lnTo>
                  <a:lnTo>
                    <a:pt x="1229" y="699"/>
                  </a:lnTo>
                  <a:lnTo>
                    <a:pt x="1229" y="691"/>
                  </a:lnTo>
                  <a:lnTo>
                    <a:pt x="1239" y="691"/>
                  </a:lnTo>
                  <a:lnTo>
                    <a:pt x="1239" y="686"/>
                  </a:lnTo>
                  <a:lnTo>
                    <a:pt x="1244" y="686"/>
                  </a:lnTo>
                  <a:lnTo>
                    <a:pt x="1244" y="680"/>
                  </a:lnTo>
                  <a:lnTo>
                    <a:pt x="1253" y="680"/>
                  </a:lnTo>
                  <a:lnTo>
                    <a:pt x="1253" y="674"/>
                  </a:lnTo>
                  <a:lnTo>
                    <a:pt x="1262" y="674"/>
                  </a:lnTo>
                  <a:lnTo>
                    <a:pt x="1262" y="669"/>
                  </a:lnTo>
                  <a:lnTo>
                    <a:pt x="1268" y="669"/>
                  </a:lnTo>
                  <a:lnTo>
                    <a:pt x="1268" y="663"/>
                  </a:lnTo>
                  <a:lnTo>
                    <a:pt x="1277" y="663"/>
                  </a:lnTo>
                  <a:lnTo>
                    <a:pt x="1277" y="658"/>
                  </a:lnTo>
                  <a:lnTo>
                    <a:pt x="1287" y="658"/>
                  </a:lnTo>
                  <a:lnTo>
                    <a:pt x="1287" y="650"/>
                  </a:lnTo>
                  <a:lnTo>
                    <a:pt x="1302" y="650"/>
                  </a:lnTo>
                  <a:lnTo>
                    <a:pt x="1302" y="645"/>
                  </a:lnTo>
                  <a:lnTo>
                    <a:pt x="1311" y="645"/>
                  </a:lnTo>
                  <a:lnTo>
                    <a:pt x="1311" y="639"/>
                  </a:lnTo>
                  <a:lnTo>
                    <a:pt x="1325" y="639"/>
                  </a:lnTo>
                  <a:lnTo>
                    <a:pt x="1325" y="633"/>
                  </a:lnTo>
                  <a:lnTo>
                    <a:pt x="1335" y="633"/>
                  </a:lnTo>
                  <a:lnTo>
                    <a:pt x="1335" y="626"/>
                  </a:lnTo>
                  <a:lnTo>
                    <a:pt x="1339" y="626"/>
                  </a:lnTo>
                  <a:lnTo>
                    <a:pt x="1339" y="621"/>
                  </a:lnTo>
                  <a:lnTo>
                    <a:pt x="1349" y="621"/>
                  </a:lnTo>
                  <a:lnTo>
                    <a:pt x="1349" y="615"/>
                  </a:lnTo>
                  <a:lnTo>
                    <a:pt x="1364" y="615"/>
                  </a:lnTo>
                  <a:lnTo>
                    <a:pt x="1364" y="609"/>
                  </a:lnTo>
                  <a:lnTo>
                    <a:pt x="1374" y="609"/>
                  </a:lnTo>
                  <a:lnTo>
                    <a:pt x="1374" y="604"/>
                  </a:lnTo>
                  <a:lnTo>
                    <a:pt x="1383" y="604"/>
                  </a:lnTo>
                  <a:lnTo>
                    <a:pt x="1383" y="598"/>
                  </a:lnTo>
                  <a:lnTo>
                    <a:pt x="1388" y="598"/>
                  </a:lnTo>
                  <a:lnTo>
                    <a:pt x="1388" y="591"/>
                  </a:lnTo>
                  <a:lnTo>
                    <a:pt x="1398" y="591"/>
                  </a:lnTo>
                  <a:lnTo>
                    <a:pt x="1398" y="585"/>
                  </a:lnTo>
                  <a:lnTo>
                    <a:pt x="1402" y="585"/>
                  </a:lnTo>
                  <a:lnTo>
                    <a:pt x="1402" y="580"/>
                  </a:lnTo>
                  <a:lnTo>
                    <a:pt x="1416" y="580"/>
                  </a:lnTo>
                  <a:lnTo>
                    <a:pt x="1416" y="573"/>
                  </a:lnTo>
                  <a:lnTo>
                    <a:pt x="1421" y="573"/>
                  </a:lnTo>
                  <a:lnTo>
                    <a:pt x="1421" y="568"/>
                  </a:lnTo>
                  <a:lnTo>
                    <a:pt x="1426" y="568"/>
                  </a:lnTo>
                  <a:lnTo>
                    <a:pt x="1426" y="563"/>
                  </a:lnTo>
                  <a:lnTo>
                    <a:pt x="1431" y="563"/>
                  </a:lnTo>
                  <a:lnTo>
                    <a:pt x="1431" y="555"/>
                  </a:lnTo>
                  <a:lnTo>
                    <a:pt x="1441" y="555"/>
                  </a:lnTo>
                  <a:lnTo>
                    <a:pt x="1441" y="550"/>
                  </a:lnTo>
                  <a:lnTo>
                    <a:pt x="1446" y="550"/>
                  </a:lnTo>
                  <a:lnTo>
                    <a:pt x="1446" y="544"/>
                  </a:lnTo>
                  <a:lnTo>
                    <a:pt x="1469" y="544"/>
                  </a:lnTo>
                  <a:lnTo>
                    <a:pt x="1469" y="539"/>
                  </a:lnTo>
                  <a:lnTo>
                    <a:pt x="1502" y="539"/>
                  </a:lnTo>
                  <a:lnTo>
                    <a:pt x="1502" y="544"/>
                  </a:lnTo>
                  <a:lnTo>
                    <a:pt x="1570" y="544"/>
                  </a:lnTo>
                  <a:lnTo>
                    <a:pt x="1570" y="550"/>
                  </a:lnTo>
                  <a:lnTo>
                    <a:pt x="1604" y="550"/>
                  </a:lnTo>
                  <a:lnTo>
                    <a:pt x="1604" y="544"/>
                  </a:lnTo>
                  <a:lnTo>
                    <a:pt x="1637" y="544"/>
                  </a:lnTo>
                  <a:lnTo>
                    <a:pt x="1637" y="539"/>
                  </a:lnTo>
                  <a:lnTo>
                    <a:pt x="1681" y="539"/>
                  </a:lnTo>
                  <a:lnTo>
                    <a:pt x="1681" y="532"/>
                  </a:lnTo>
                  <a:lnTo>
                    <a:pt x="1695" y="532"/>
                  </a:lnTo>
                  <a:lnTo>
                    <a:pt x="1695" y="527"/>
                  </a:lnTo>
                  <a:lnTo>
                    <a:pt x="1728" y="527"/>
                  </a:lnTo>
                  <a:lnTo>
                    <a:pt x="1728" y="520"/>
                  </a:lnTo>
                  <a:lnTo>
                    <a:pt x="1749" y="520"/>
                  </a:lnTo>
                  <a:lnTo>
                    <a:pt x="1749" y="514"/>
                  </a:lnTo>
                  <a:lnTo>
                    <a:pt x="1767" y="514"/>
                  </a:lnTo>
                  <a:lnTo>
                    <a:pt x="1767" y="509"/>
                  </a:lnTo>
                  <a:lnTo>
                    <a:pt x="1800" y="509"/>
                  </a:lnTo>
                  <a:lnTo>
                    <a:pt x="1800" y="503"/>
                  </a:lnTo>
                  <a:lnTo>
                    <a:pt x="1806" y="503"/>
                  </a:lnTo>
                  <a:lnTo>
                    <a:pt x="1806" y="497"/>
                  </a:lnTo>
                  <a:lnTo>
                    <a:pt x="1820" y="497"/>
                  </a:lnTo>
                  <a:lnTo>
                    <a:pt x="1820" y="490"/>
                  </a:lnTo>
                  <a:lnTo>
                    <a:pt x="1830" y="490"/>
                  </a:lnTo>
                  <a:lnTo>
                    <a:pt x="1830" y="485"/>
                  </a:lnTo>
                  <a:lnTo>
                    <a:pt x="1844" y="485"/>
                  </a:lnTo>
                  <a:lnTo>
                    <a:pt x="1844" y="479"/>
                  </a:lnTo>
                  <a:lnTo>
                    <a:pt x="1863" y="479"/>
                  </a:lnTo>
                  <a:lnTo>
                    <a:pt x="1863" y="473"/>
                  </a:lnTo>
                  <a:lnTo>
                    <a:pt x="1867" y="473"/>
                  </a:lnTo>
                  <a:lnTo>
                    <a:pt x="1867" y="468"/>
                  </a:lnTo>
                  <a:lnTo>
                    <a:pt x="1878" y="468"/>
                  </a:lnTo>
                  <a:lnTo>
                    <a:pt x="1878" y="462"/>
                  </a:lnTo>
                  <a:lnTo>
                    <a:pt x="1907" y="462"/>
                  </a:lnTo>
                  <a:lnTo>
                    <a:pt x="1907" y="455"/>
                  </a:lnTo>
                  <a:lnTo>
                    <a:pt x="1920" y="455"/>
                  </a:lnTo>
                  <a:lnTo>
                    <a:pt x="1920" y="449"/>
                  </a:lnTo>
                  <a:lnTo>
                    <a:pt x="1934" y="449"/>
                  </a:lnTo>
                  <a:lnTo>
                    <a:pt x="1934" y="444"/>
                  </a:lnTo>
                  <a:lnTo>
                    <a:pt x="1950" y="444"/>
                  </a:lnTo>
                  <a:lnTo>
                    <a:pt x="1950" y="438"/>
                  </a:lnTo>
                  <a:lnTo>
                    <a:pt x="1964" y="438"/>
                  </a:lnTo>
                  <a:lnTo>
                    <a:pt x="1964" y="432"/>
                  </a:lnTo>
                  <a:lnTo>
                    <a:pt x="1974" y="432"/>
                  </a:lnTo>
                  <a:lnTo>
                    <a:pt x="1974" y="425"/>
                  </a:lnTo>
                  <a:lnTo>
                    <a:pt x="1988" y="425"/>
                  </a:lnTo>
                  <a:lnTo>
                    <a:pt x="1988" y="420"/>
                  </a:lnTo>
                  <a:lnTo>
                    <a:pt x="1993" y="420"/>
                  </a:lnTo>
                  <a:lnTo>
                    <a:pt x="1993" y="414"/>
                  </a:lnTo>
                  <a:lnTo>
                    <a:pt x="2003" y="414"/>
                  </a:lnTo>
                  <a:lnTo>
                    <a:pt x="2003" y="408"/>
                  </a:lnTo>
                  <a:lnTo>
                    <a:pt x="2016" y="408"/>
                  </a:lnTo>
                  <a:lnTo>
                    <a:pt x="2016" y="403"/>
                  </a:lnTo>
                  <a:lnTo>
                    <a:pt x="2031" y="403"/>
                  </a:lnTo>
                  <a:lnTo>
                    <a:pt x="2031" y="396"/>
                  </a:lnTo>
                  <a:lnTo>
                    <a:pt x="2037" y="396"/>
                  </a:lnTo>
                  <a:lnTo>
                    <a:pt x="2037" y="391"/>
                  </a:lnTo>
                  <a:lnTo>
                    <a:pt x="2046" y="391"/>
                  </a:lnTo>
                  <a:lnTo>
                    <a:pt x="2046" y="384"/>
                  </a:lnTo>
                  <a:lnTo>
                    <a:pt x="2070" y="384"/>
                  </a:lnTo>
                  <a:lnTo>
                    <a:pt x="2070" y="378"/>
                  </a:lnTo>
                  <a:lnTo>
                    <a:pt x="2074" y="378"/>
                  </a:lnTo>
                  <a:lnTo>
                    <a:pt x="2074" y="372"/>
                  </a:lnTo>
                  <a:lnTo>
                    <a:pt x="2084" y="372"/>
                  </a:lnTo>
                  <a:lnTo>
                    <a:pt x="2084" y="367"/>
                  </a:lnTo>
                  <a:lnTo>
                    <a:pt x="2099" y="367"/>
                  </a:lnTo>
                  <a:lnTo>
                    <a:pt x="2099" y="362"/>
                  </a:lnTo>
                  <a:lnTo>
                    <a:pt x="2108" y="362"/>
                  </a:lnTo>
                  <a:lnTo>
                    <a:pt x="2108" y="354"/>
                  </a:lnTo>
                  <a:lnTo>
                    <a:pt x="2118" y="354"/>
                  </a:lnTo>
                  <a:lnTo>
                    <a:pt x="2118" y="349"/>
                  </a:lnTo>
                  <a:lnTo>
                    <a:pt x="2127" y="349"/>
                  </a:lnTo>
                  <a:lnTo>
                    <a:pt x="2127" y="343"/>
                  </a:lnTo>
                  <a:lnTo>
                    <a:pt x="2141" y="343"/>
                  </a:lnTo>
                  <a:lnTo>
                    <a:pt x="2141" y="337"/>
                  </a:lnTo>
                  <a:lnTo>
                    <a:pt x="2151" y="337"/>
                  </a:lnTo>
                  <a:lnTo>
                    <a:pt x="2151" y="331"/>
                  </a:lnTo>
                  <a:lnTo>
                    <a:pt x="2155" y="331"/>
                  </a:lnTo>
                  <a:lnTo>
                    <a:pt x="2155" y="326"/>
                  </a:lnTo>
                  <a:lnTo>
                    <a:pt x="2171" y="326"/>
                  </a:lnTo>
                  <a:lnTo>
                    <a:pt x="2171" y="319"/>
                  </a:lnTo>
                  <a:lnTo>
                    <a:pt x="2181" y="319"/>
                  </a:lnTo>
                  <a:lnTo>
                    <a:pt x="2181" y="313"/>
                  </a:lnTo>
                  <a:lnTo>
                    <a:pt x="2199" y="313"/>
                  </a:lnTo>
                  <a:lnTo>
                    <a:pt x="2199" y="308"/>
                  </a:lnTo>
                  <a:lnTo>
                    <a:pt x="2204" y="308"/>
                  </a:lnTo>
                  <a:lnTo>
                    <a:pt x="2204" y="302"/>
                  </a:lnTo>
                  <a:lnTo>
                    <a:pt x="2209" y="302"/>
                  </a:lnTo>
                  <a:lnTo>
                    <a:pt x="2209" y="296"/>
                  </a:lnTo>
                  <a:lnTo>
                    <a:pt x="2218" y="296"/>
                  </a:lnTo>
                  <a:lnTo>
                    <a:pt x="2218" y="291"/>
                  </a:lnTo>
                  <a:lnTo>
                    <a:pt x="2228" y="291"/>
                  </a:lnTo>
                  <a:lnTo>
                    <a:pt x="2228" y="284"/>
                  </a:lnTo>
                  <a:lnTo>
                    <a:pt x="2238" y="284"/>
                  </a:lnTo>
                  <a:lnTo>
                    <a:pt x="2238" y="278"/>
                  </a:lnTo>
                  <a:lnTo>
                    <a:pt x="2252" y="278"/>
                  </a:lnTo>
                  <a:lnTo>
                    <a:pt x="2252" y="272"/>
                  </a:lnTo>
                  <a:lnTo>
                    <a:pt x="2267" y="272"/>
                  </a:lnTo>
                  <a:lnTo>
                    <a:pt x="2267" y="267"/>
                  </a:lnTo>
                  <a:lnTo>
                    <a:pt x="2276" y="267"/>
                  </a:lnTo>
                  <a:lnTo>
                    <a:pt x="2276" y="261"/>
                  </a:lnTo>
                  <a:lnTo>
                    <a:pt x="2291" y="261"/>
                  </a:lnTo>
                  <a:lnTo>
                    <a:pt x="2291" y="250"/>
                  </a:lnTo>
                  <a:lnTo>
                    <a:pt x="2300" y="250"/>
                  </a:lnTo>
                  <a:lnTo>
                    <a:pt x="2300" y="243"/>
                  </a:lnTo>
                  <a:lnTo>
                    <a:pt x="2319" y="243"/>
                  </a:lnTo>
                  <a:lnTo>
                    <a:pt x="2319" y="237"/>
                  </a:lnTo>
                  <a:lnTo>
                    <a:pt x="2325" y="237"/>
                  </a:lnTo>
                  <a:lnTo>
                    <a:pt x="2325" y="226"/>
                  </a:lnTo>
                  <a:lnTo>
                    <a:pt x="2339" y="226"/>
                  </a:lnTo>
                  <a:lnTo>
                    <a:pt x="2339" y="218"/>
                  </a:lnTo>
                  <a:lnTo>
                    <a:pt x="2353" y="218"/>
                  </a:lnTo>
                  <a:lnTo>
                    <a:pt x="2353" y="213"/>
                  </a:lnTo>
                  <a:lnTo>
                    <a:pt x="2367" y="213"/>
                  </a:lnTo>
                  <a:lnTo>
                    <a:pt x="2367" y="207"/>
                  </a:lnTo>
                  <a:lnTo>
                    <a:pt x="2382" y="207"/>
                  </a:lnTo>
                  <a:lnTo>
                    <a:pt x="2382" y="201"/>
                  </a:lnTo>
                  <a:lnTo>
                    <a:pt x="2388" y="201"/>
                  </a:lnTo>
                  <a:lnTo>
                    <a:pt x="2388" y="196"/>
                  </a:lnTo>
                  <a:lnTo>
                    <a:pt x="2406" y="196"/>
                  </a:lnTo>
                  <a:lnTo>
                    <a:pt x="2406" y="190"/>
                  </a:lnTo>
                  <a:lnTo>
                    <a:pt x="2411" y="190"/>
                  </a:lnTo>
                  <a:lnTo>
                    <a:pt x="2411" y="185"/>
                  </a:lnTo>
                  <a:lnTo>
                    <a:pt x="2421" y="185"/>
                  </a:lnTo>
                  <a:lnTo>
                    <a:pt x="2421" y="177"/>
                  </a:lnTo>
                  <a:lnTo>
                    <a:pt x="2430" y="177"/>
                  </a:lnTo>
                  <a:lnTo>
                    <a:pt x="2430" y="172"/>
                  </a:lnTo>
                  <a:lnTo>
                    <a:pt x="2449" y="172"/>
                  </a:lnTo>
                  <a:lnTo>
                    <a:pt x="2449" y="166"/>
                  </a:lnTo>
                  <a:lnTo>
                    <a:pt x="2464" y="166"/>
                  </a:lnTo>
                  <a:lnTo>
                    <a:pt x="2464" y="160"/>
                  </a:lnTo>
                  <a:lnTo>
                    <a:pt x="2469" y="160"/>
                  </a:lnTo>
                  <a:lnTo>
                    <a:pt x="2469" y="153"/>
                  </a:lnTo>
                  <a:lnTo>
                    <a:pt x="2483" y="153"/>
                  </a:lnTo>
                  <a:lnTo>
                    <a:pt x="2483" y="148"/>
                  </a:lnTo>
                  <a:lnTo>
                    <a:pt x="2492" y="148"/>
                  </a:lnTo>
                  <a:lnTo>
                    <a:pt x="2492" y="142"/>
                  </a:lnTo>
                  <a:lnTo>
                    <a:pt x="2502" y="142"/>
                  </a:lnTo>
                  <a:lnTo>
                    <a:pt x="2502" y="136"/>
                  </a:lnTo>
                  <a:lnTo>
                    <a:pt x="2521" y="136"/>
                  </a:lnTo>
                  <a:lnTo>
                    <a:pt x="2521" y="131"/>
                  </a:lnTo>
                  <a:lnTo>
                    <a:pt x="2525" y="131"/>
                  </a:lnTo>
                  <a:lnTo>
                    <a:pt x="2525" y="125"/>
                  </a:lnTo>
                  <a:lnTo>
                    <a:pt x="2545" y="125"/>
                  </a:lnTo>
                  <a:lnTo>
                    <a:pt x="2545" y="119"/>
                  </a:lnTo>
                  <a:lnTo>
                    <a:pt x="2555" y="119"/>
                  </a:lnTo>
                  <a:lnTo>
                    <a:pt x="2555" y="112"/>
                  </a:lnTo>
                  <a:lnTo>
                    <a:pt x="2565" y="112"/>
                  </a:lnTo>
                  <a:lnTo>
                    <a:pt x="2565" y="107"/>
                  </a:lnTo>
                  <a:lnTo>
                    <a:pt x="2573" y="107"/>
                  </a:lnTo>
                  <a:lnTo>
                    <a:pt x="2573" y="101"/>
                  </a:lnTo>
                  <a:lnTo>
                    <a:pt x="2583" y="101"/>
                  </a:lnTo>
                  <a:lnTo>
                    <a:pt x="2583" y="95"/>
                  </a:lnTo>
                  <a:lnTo>
                    <a:pt x="2593" y="95"/>
                  </a:lnTo>
                  <a:lnTo>
                    <a:pt x="2593" y="90"/>
                  </a:lnTo>
                  <a:lnTo>
                    <a:pt x="2608" y="90"/>
                  </a:lnTo>
                  <a:lnTo>
                    <a:pt x="2608" y="82"/>
                  </a:lnTo>
                  <a:lnTo>
                    <a:pt x="2627" y="82"/>
                  </a:lnTo>
                  <a:lnTo>
                    <a:pt x="2627" y="77"/>
                  </a:lnTo>
                  <a:lnTo>
                    <a:pt x="2632" y="77"/>
                  </a:lnTo>
                  <a:lnTo>
                    <a:pt x="2632" y="71"/>
                  </a:lnTo>
                  <a:lnTo>
                    <a:pt x="2636" y="71"/>
                  </a:lnTo>
                  <a:lnTo>
                    <a:pt x="2636" y="66"/>
                  </a:lnTo>
                  <a:lnTo>
                    <a:pt x="2641" y="66"/>
                  </a:lnTo>
                  <a:lnTo>
                    <a:pt x="2641" y="59"/>
                  </a:lnTo>
                  <a:lnTo>
                    <a:pt x="2651" y="59"/>
                  </a:lnTo>
                  <a:lnTo>
                    <a:pt x="2651" y="66"/>
                  </a:lnTo>
                  <a:lnTo>
                    <a:pt x="2660" y="66"/>
                  </a:lnTo>
                  <a:lnTo>
                    <a:pt x="2660" y="59"/>
                  </a:lnTo>
                  <a:lnTo>
                    <a:pt x="2669" y="59"/>
                  </a:lnTo>
                  <a:lnTo>
                    <a:pt x="2669" y="54"/>
                  </a:lnTo>
                  <a:lnTo>
                    <a:pt x="2676" y="54"/>
                  </a:lnTo>
                  <a:lnTo>
                    <a:pt x="2676" y="49"/>
                  </a:lnTo>
                  <a:lnTo>
                    <a:pt x="2685" y="49"/>
                  </a:lnTo>
                  <a:lnTo>
                    <a:pt x="2685" y="41"/>
                  </a:lnTo>
                  <a:lnTo>
                    <a:pt x="2695" y="41"/>
                  </a:lnTo>
                  <a:lnTo>
                    <a:pt x="2695" y="36"/>
                  </a:lnTo>
                  <a:lnTo>
                    <a:pt x="2699" y="36"/>
                  </a:lnTo>
                  <a:lnTo>
                    <a:pt x="2699" y="30"/>
                  </a:lnTo>
                  <a:lnTo>
                    <a:pt x="2709" y="30"/>
                  </a:lnTo>
                  <a:lnTo>
                    <a:pt x="2709" y="24"/>
                  </a:lnTo>
                  <a:lnTo>
                    <a:pt x="2723" y="24"/>
                  </a:lnTo>
                  <a:lnTo>
                    <a:pt x="2723" y="17"/>
                  </a:lnTo>
                  <a:lnTo>
                    <a:pt x="2737" y="17"/>
                  </a:lnTo>
                  <a:lnTo>
                    <a:pt x="2737" y="12"/>
                  </a:lnTo>
                  <a:lnTo>
                    <a:pt x="2747" y="12"/>
                  </a:lnTo>
                  <a:lnTo>
                    <a:pt x="2747" y="6"/>
                  </a:lnTo>
                  <a:lnTo>
                    <a:pt x="2762" y="6"/>
                  </a:lnTo>
                  <a:lnTo>
                    <a:pt x="2762" y="0"/>
                  </a:lnTo>
                  <a:lnTo>
                    <a:pt x="2772" y="0"/>
                  </a:lnTo>
                  <a:lnTo>
                    <a:pt x="2772" y="6"/>
                  </a:lnTo>
                  <a:lnTo>
                    <a:pt x="2785" y="6"/>
                  </a:lnTo>
                  <a:lnTo>
                    <a:pt x="2785" y="12"/>
                  </a:lnTo>
                  <a:lnTo>
                    <a:pt x="2790" y="12"/>
                  </a:lnTo>
                  <a:lnTo>
                    <a:pt x="2790" y="17"/>
                  </a:lnTo>
                  <a:lnTo>
                    <a:pt x="2799" y="17"/>
                  </a:lnTo>
                  <a:lnTo>
                    <a:pt x="2799" y="24"/>
                  </a:lnTo>
                  <a:lnTo>
                    <a:pt x="2805" y="24"/>
                  </a:lnTo>
                  <a:lnTo>
                    <a:pt x="2805" y="36"/>
                  </a:lnTo>
                  <a:lnTo>
                    <a:pt x="2809" y="36"/>
                  </a:lnTo>
                  <a:lnTo>
                    <a:pt x="2809" y="41"/>
                  </a:lnTo>
                  <a:lnTo>
                    <a:pt x="2814" y="41"/>
                  </a:lnTo>
                  <a:lnTo>
                    <a:pt x="2814" y="59"/>
                  </a:lnTo>
                  <a:lnTo>
                    <a:pt x="2820" y="59"/>
                  </a:lnTo>
                  <a:lnTo>
                    <a:pt x="2820" y="77"/>
                  </a:lnTo>
                  <a:lnTo>
                    <a:pt x="2824" y="77"/>
                  </a:lnTo>
                  <a:lnTo>
                    <a:pt x="2824" y="107"/>
                  </a:lnTo>
                  <a:lnTo>
                    <a:pt x="2829" y="107"/>
                  </a:lnTo>
                  <a:lnTo>
                    <a:pt x="2829" y="112"/>
                  </a:lnTo>
                  <a:lnTo>
                    <a:pt x="2833" y="112"/>
                  </a:lnTo>
                  <a:lnTo>
                    <a:pt x="2833" y="125"/>
                  </a:lnTo>
                  <a:lnTo>
                    <a:pt x="2838" y="125"/>
                  </a:lnTo>
                  <a:lnTo>
                    <a:pt x="2838" y="136"/>
                  </a:lnTo>
                  <a:lnTo>
                    <a:pt x="2843" y="136"/>
                  </a:lnTo>
                  <a:lnTo>
                    <a:pt x="2843" y="148"/>
                  </a:lnTo>
                  <a:lnTo>
                    <a:pt x="2847" y="148"/>
                  </a:lnTo>
                  <a:lnTo>
                    <a:pt x="2847" y="153"/>
                  </a:lnTo>
                  <a:lnTo>
                    <a:pt x="2853" y="153"/>
                  </a:lnTo>
                  <a:lnTo>
                    <a:pt x="2853" y="166"/>
                  </a:lnTo>
                  <a:lnTo>
                    <a:pt x="2857" y="166"/>
                  </a:lnTo>
                  <a:lnTo>
                    <a:pt x="2857" y="172"/>
                  </a:lnTo>
                  <a:lnTo>
                    <a:pt x="2862" y="172"/>
                  </a:lnTo>
                  <a:lnTo>
                    <a:pt x="2862" y="190"/>
                  </a:lnTo>
                  <a:lnTo>
                    <a:pt x="2867" y="190"/>
                  </a:lnTo>
                  <a:lnTo>
                    <a:pt x="2867" y="207"/>
                  </a:lnTo>
                  <a:lnTo>
                    <a:pt x="2871" y="207"/>
                  </a:lnTo>
                  <a:lnTo>
                    <a:pt x="2871" y="218"/>
                  </a:lnTo>
                  <a:lnTo>
                    <a:pt x="2876" y="218"/>
                  </a:lnTo>
                  <a:lnTo>
                    <a:pt x="2876" y="237"/>
                  </a:lnTo>
                  <a:lnTo>
                    <a:pt x="2881" y="237"/>
                  </a:lnTo>
                  <a:lnTo>
                    <a:pt x="2881" y="243"/>
                  </a:lnTo>
                  <a:lnTo>
                    <a:pt x="2886" y="243"/>
                  </a:lnTo>
                  <a:lnTo>
                    <a:pt x="2886" y="255"/>
                  </a:lnTo>
                  <a:lnTo>
                    <a:pt x="2891" y="255"/>
                  </a:lnTo>
                  <a:lnTo>
                    <a:pt x="2891" y="272"/>
                  </a:lnTo>
                  <a:lnTo>
                    <a:pt x="2896" y="272"/>
                  </a:lnTo>
                  <a:lnTo>
                    <a:pt x="2896" y="308"/>
                  </a:lnTo>
                  <a:lnTo>
                    <a:pt x="2901" y="308"/>
                  </a:lnTo>
                  <a:lnTo>
                    <a:pt x="2901" y="326"/>
                  </a:lnTo>
                  <a:lnTo>
                    <a:pt x="2906" y="326"/>
                  </a:lnTo>
                  <a:lnTo>
                    <a:pt x="2906" y="343"/>
                  </a:lnTo>
                  <a:lnTo>
                    <a:pt x="2910" y="343"/>
                  </a:lnTo>
                  <a:lnTo>
                    <a:pt x="2910" y="362"/>
                  </a:lnTo>
                  <a:lnTo>
                    <a:pt x="2915" y="362"/>
                  </a:lnTo>
                  <a:lnTo>
                    <a:pt x="2915" y="384"/>
                  </a:lnTo>
                  <a:lnTo>
                    <a:pt x="2920" y="384"/>
                  </a:lnTo>
                  <a:lnTo>
                    <a:pt x="2920" y="396"/>
                  </a:lnTo>
                  <a:lnTo>
                    <a:pt x="2924" y="396"/>
                  </a:lnTo>
                  <a:lnTo>
                    <a:pt x="2924" y="403"/>
                  </a:lnTo>
                  <a:lnTo>
                    <a:pt x="2929" y="403"/>
                  </a:lnTo>
                  <a:lnTo>
                    <a:pt x="2929" y="420"/>
                  </a:lnTo>
                  <a:lnTo>
                    <a:pt x="2934" y="420"/>
                  </a:lnTo>
                  <a:lnTo>
                    <a:pt x="2934" y="462"/>
                  </a:lnTo>
                  <a:lnTo>
                    <a:pt x="2939" y="462"/>
                  </a:lnTo>
                  <a:lnTo>
                    <a:pt x="2939" y="479"/>
                  </a:lnTo>
                  <a:lnTo>
                    <a:pt x="2943" y="479"/>
                  </a:lnTo>
                  <a:lnTo>
                    <a:pt x="2943" y="503"/>
                  </a:lnTo>
                  <a:lnTo>
                    <a:pt x="2949" y="503"/>
                  </a:lnTo>
                  <a:lnTo>
                    <a:pt x="2949" y="539"/>
                  </a:lnTo>
                  <a:lnTo>
                    <a:pt x="2953" y="539"/>
                  </a:lnTo>
                  <a:lnTo>
                    <a:pt x="2953" y="568"/>
                  </a:lnTo>
                  <a:lnTo>
                    <a:pt x="2957" y="568"/>
                  </a:lnTo>
                  <a:lnTo>
                    <a:pt x="2957" y="585"/>
                  </a:lnTo>
                  <a:lnTo>
                    <a:pt x="2964" y="585"/>
                  </a:lnTo>
                  <a:lnTo>
                    <a:pt x="2964" y="621"/>
                  </a:lnTo>
                  <a:lnTo>
                    <a:pt x="2968" y="621"/>
                  </a:lnTo>
                  <a:lnTo>
                    <a:pt x="2968" y="639"/>
                  </a:lnTo>
                  <a:lnTo>
                    <a:pt x="2973" y="639"/>
                  </a:lnTo>
                  <a:lnTo>
                    <a:pt x="2973" y="658"/>
                  </a:lnTo>
                  <a:lnTo>
                    <a:pt x="2978" y="658"/>
                  </a:lnTo>
                  <a:lnTo>
                    <a:pt x="2978" y="669"/>
                  </a:lnTo>
                  <a:lnTo>
                    <a:pt x="2983" y="669"/>
                  </a:lnTo>
                  <a:lnTo>
                    <a:pt x="2983" y="699"/>
                  </a:lnTo>
                  <a:lnTo>
                    <a:pt x="2987" y="699"/>
                  </a:lnTo>
                  <a:lnTo>
                    <a:pt x="2987" y="722"/>
                  </a:lnTo>
                  <a:lnTo>
                    <a:pt x="2992" y="722"/>
                  </a:lnTo>
                  <a:lnTo>
                    <a:pt x="2992" y="734"/>
                  </a:lnTo>
                  <a:lnTo>
                    <a:pt x="2997" y="734"/>
                  </a:lnTo>
                  <a:lnTo>
                    <a:pt x="2997" y="757"/>
                  </a:lnTo>
                  <a:lnTo>
                    <a:pt x="3001" y="757"/>
                  </a:lnTo>
                  <a:lnTo>
                    <a:pt x="3001" y="786"/>
                  </a:lnTo>
                  <a:lnTo>
                    <a:pt x="3006" y="786"/>
                  </a:lnTo>
                  <a:lnTo>
                    <a:pt x="3006" y="822"/>
                  </a:lnTo>
                  <a:lnTo>
                    <a:pt x="3011" y="822"/>
                  </a:lnTo>
                  <a:lnTo>
                    <a:pt x="3011" y="857"/>
                  </a:lnTo>
                  <a:lnTo>
                    <a:pt x="3016" y="857"/>
                  </a:lnTo>
                  <a:lnTo>
                    <a:pt x="3016" y="917"/>
                  </a:lnTo>
                  <a:lnTo>
                    <a:pt x="3020" y="917"/>
                  </a:lnTo>
                  <a:lnTo>
                    <a:pt x="3020" y="940"/>
                  </a:lnTo>
                  <a:lnTo>
                    <a:pt x="3025" y="940"/>
                  </a:lnTo>
                  <a:lnTo>
                    <a:pt x="3025" y="958"/>
                  </a:lnTo>
                  <a:lnTo>
                    <a:pt x="3030" y="958"/>
                  </a:lnTo>
                  <a:lnTo>
                    <a:pt x="3030" y="976"/>
                  </a:lnTo>
                  <a:lnTo>
                    <a:pt x="3036" y="976"/>
                  </a:lnTo>
                  <a:lnTo>
                    <a:pt x="3036" y="999"/>
                  </a:lnTo>
                  <a:lnTo>
                    <a:pt x="3040" y="999"/>
                  </a:lnTo>
                  <a:lnTo>
                    <a:pt x="3040" y="1004"/>
                  </a:lnTo>
                  <a:lnTo>
                    <a:pt x="3045" y="1004"/>
                  </a:lnTo>
                  <a:lnTo>
                    <a:pt x="3045" y="1041"/>
                  </a:lnTo>
                  <a:lnTo>
                    <a:pt x="3050" y="1041"/>
                  </a:lnTo>
                  <a:lnTo>
                    <a:pt x="3050" y="1071"/>
                  </a:lnTo>
                  <a:lnTo>
                    <a:pt x="3045" y="1071"/>
                  </a:lnTo>
                  <a:lnTo>
                    <a:pt x="3045" y="1082"/>
                  </a:lnTo>
                  <a:lnTo>
                    <a:pt x="3040" y="1082"/>
                  </a:lnTo>
                  <a:lnTo>
                    <a:pt x="3040" y="1088"/>
                  </a:lnTo>
                  <a:lnTo>
                    <a:pt x="3036" y="1088"/>
                  </a:lnTo>
                  <a:lnTo>
                    <a:pt x="3036" y="1099"/>
                  </a:lnTo>
                  <a:lnTo>
                    <a:pt x="3030" y="1099"/>
                  </a:lnTo>
                  <a:lnTo>
                    <a:pt x="3030" y="1106"/>
                  </a:lnTo>
                  <a:lnTo>
                    <a:pt x="2997" y="1106"/>
                  </a:lnTo>
                  <a:lnTo>
                    <a:pt x="2997" y="1099"/>
                  </a:lnTo>
                  <a:lnTo>
                    <a:pt x="2992" y="1099"/>
                  </a:lnTo>
                  <a:lnTo>
                    <a:pt x="2992" y="1064"/>
                  </a:lnTo>
                  <a:lnTo>
                    <a:pt x="2987" y="1064"/>
                  </a:lnTo>
                  <a:lnTo>
                    <a:pt x="2987" y="1041"/>
                  </a:lnTo>
                  <a:lnTo>
                    <a:pt x="2983" y="1041"/>
                  </a:lnTo>
                  <a:lnTo>
                    <a:pt x="2983" y="1012"/>
                  </a:lnTo>
                  <a:lnTo>
                    <a:pt x="2978" y="1012"/>
                  </a:lnTo>
                  <a:lnTo>
                    <a:pt x="2978" y="993"/>
                  </a:lnTo>
                  <a:lnTo>
                    <a:pt x="2973" y="993"/>
                  </a:lnTo>
                  <a:lnTo>
                    <a:pt x="2973" y="963"/>
                  </a:lnTo>
                  <a:lnTo>
                    <a:pt x="2968" y="963"/>
                  </a:lnTo>
                  <a:lnTo>
                    <a:pt x="2968" y="946"/>
                  </a:lnTo>
                  <a:lnTo>
                    <a:pt x="2964" y="946"/>
                  </a:lnTo>
                  <a:lnTo>
                    <a:pt x="2964" y="917"/>
                  </a:lnTo>
                  <a:lnTo>
                    <a:pt x="2957" y="917"/>
                  </a:lnTo>
                  <a:lnTo>
                    <a:pt x="2957" y="876"/>
                  </a:lnTo>
                  <a:lnTo>
                    <a:pt x="2953" y="876"/>
                  </a:lnTo>
                  <a:lnTo>
                    <a:pt x="2953" y="822"/>
                  </a:lnTo>
                  <a:lnTo>
                    <a:pt x="2949" y="822"/>
                  </a:lnTo>
                  <a:lnTo>
                    <a:pt x="2949" y="792"/>
                  </a:lnTo>
                  <a:lnTo>
                    <a:pt x="2943" y="792"/>
                  </a:lnTo>
                  <a:lnTo>
                    <a:pt x="2943" y="750"/>
                  </a:lnTo>
                  <a:lnTo>
                    <a:pt x="2939" y="750"/>
                  </a:lnTo>
                  <a:lnTo>
                    <a:pt x="2939" y="727"/>
                  </a:lnTo>
                  <a:lnTo>
                    <a:pt x="2934" y="727"/>
                  </a:lnTo>
                  <a:lnTo>
                    <a:pt x="2934" y="691"/>
                  </a:lnTo>
                  <a:lnTo>
                    <a:pt x="2929" y="691"/>
                  </a:lnTo>
                  <a:lnTo>
                    <a:pt x="2929" y="674"/>
                  </a:lnTo>
                  <a:lnTo>
                    <a:pt x="2924" y="674"/>
                  </a:lnTo>
                  <a:lnTo>
                    <a:pt x="2924" y="650"/>
                  </a:lnTo>
                  <a:lnTo>
                    <a:pt x="2920" y="650"/>
                  </a:lnTo>
                  <a:lnTo>
                    <a:pt x="2920" y="626"/>
                  </a:lnTo>
                  <a:lnTo>
                    <a:pt x="2915" y="626"/>
                  </a:lnTo>
                  <a:lnTo>
                    <a:pt x="2915" y="615"/>
                  </a:lnTo>
                  <a:lnTo>
                    <a:pt x="2910" y="615"/>
                  </a:lnTo>
                  <a:lnTo>
                    <a:pt x="2910" y="580"/>
                  </a:lnTo>
                  <a:lnTo>
                    <a:pt x="2906" y="580"/>
                  </a:lnTo>
                  <a:lnTo>
                    <a:pt x="2906" y="544"/>
                  </a:lnTo>
                  <a:lnTo>
                    <a:pt x="2901" y="544"/>
                  </a:lnTo>
                  <a:lnTo>
                    <a:pt x="2901" y="520"/>
                  </a:lnTo>
                  <a:lnTo>
                    <a:pt x="2896" y="520"/>
                  </a:lnTo>
                  <a:lnTo>
                    <a:pt x="2896" y="497"/>
                  </a:lnTo>
                  <a:lnTo>
                    <a:pt x="2891" y="497"/>
                  </a:lnTo>
                  <a:lnTo>
                    <a:pt x="2891" y="473"/>
                  </a:lnTo>
                  <a:lnTo>
                    <a:pt x="2886" y="473"/>
                  </a:lnTo>
                  <a:lnTo>
                    <a:pt x="2886" y="449"/>
                  </a:lnTo>
                  <a:lnTo>
                    <a:pt x="2881" y="449"/>
                  </a:lnTo>
                  <a:lnTo>
                    <a:pt x="2881" y="425"/>
                  </a:lnTo>
                  <a:lnTo>
                    <a:pt x="2876" y="425"/>
                  </a:lnTo>
                  <a:lnTo>
                    <a:pt x="2876" y="420"/>
                  </a:lnTo>
                  <a:lnTo>
                    <a:pt x="2871" y="420"/>
                  </a:lnTo>
                  <a:lnTo>
                    <a:pt x="2871" y="403"/>
                  </a:lnTo>
                  <a:lnTo>
                    <a:pt x="2867" y="403"/>
                  </a:lnTo>
                  <a:lnTo>
                    <a:pt x="2867" y="391"/>
                  </a:lnTo>
                  <a:lnTo>
                    <a:pt x="2862" y="391"/>
                  </a:lnTo>
                  <a:lnTo>
                    <a:pt x="2862" y="378"/>
                  </a:lnTo>
                  <a:lnTo>
                    <a:pt x="2857" y="378"/>
                  </a:lnTo>
                  <a:lnTo>
                    <a:pt x="2857" y="367"/>
                  </a:lnTo>
                  <a:lnTo>
                    <a:pt x="2853" y="367"/>
                  </a:lnTo>
                  <a:lnTo>
                    <a:pt x="2853" y="349"/>
                  </a:lnTo>
                  <a:lnTo>
                    <a:pt x="2847" y="349"/>
                  </a:lnTo>
                  <a:lnTo>
                    <a:pt x="2847" y="326"/>
                  </a:lnTo>
                  <a:lnTo>
                    <a:pt x="2843" y="326"/>
                  </a:lnTo>
                  <a:lnTo>
                    <a:pt x="2843" y="308"/>
                  </a:lnTo>
                  <a:lnTo>
                    <a:pt x="2838" y="308"/>
                  </a:lnTo>
                  <a:lnTo>
                    <a:pt x="2838" y="291"/>
                  </a:lnTo>
                  <a:lnTo>
                    <a:pt x="2833" y="291"/>
                  </a:lnTo>
                  <a:lnTo>
                    <a:pt x="2833" y="272"/>
                  </a:lnTo>
                  <a:lnTo>
                    <a:pt x="2829" y="272"/>
                  </a:lnTo>
                  <a:lnTo>
                    <a:pt x="2829" y="250"/>
                  </a:lnTo>
                  <a:lnTo>
                    <a:pt x="2824" y="250"/>
                  </a:lnTo>
                  <a:lnTo>
                    <a:pt x="2824" y="231"/>
                  </a:lnTo>
                  <a:lnTo>
                    <a:pt x="2820" y="231"/>
                  </a:lnTo>
                  <a:lnTo>
                    <a:pt x="2820" y="218"/>
                  </a:lnTo>
                  <a:lnTo>
                    <a:pt x="2814" y="218"/>
                  </a:lnTo>
                  <a:lnTo>
                    <a:pt x="2814" y="207"/>
                  </a:lnTo>
                  <a:lnTo>
                    <a:pt x="2809" y="207"/>
                  </a:lnTo>
                  <a:lnTo>
                    <a:pt x="2809" y="196"/>
                  </a:lnTo>
                  <a:lnTo>
                    <a:pt x="2805" y="196"/>
                  </a:lnTo>
                  <a:lnTo>
                    <a:pt x="2805" y="185"/>
                  </a:lnTo>
                  <a:lnTo>
                    <a:pt x="2799" y="185"/>
                  </a:lnTo>
                  <a:lnTo>
                    <a:pt x="2799" y="172"/>
                  </a:lnTo>
                  <a:lnTo>
                    <a:pt x="2795" y="172"/>
                  </a:lnTo>
                  <a:lnTo>
                    <a:pt x="2795" y="160"/>
                  </a:lnTo>
                  <a:lnTo>
                    <a:pt x="2790" y="160"/>
                  </a:lnTo>
                  <a:lnTo>
                    <a:pt x="2790" y="148"/>
                  </a:lnTo>
                  <a:lnTo>
                    <a:pt x="2785" y="148"/>
                  </a:lnTo>
                  <a:lnTo>
                    <a:pt x="2785" y="136"/>
                  </a:lnTo>
                  <a:lnTo>
                    <a:pt x="2780" y="136"/>
                  </a:lnTo>
                  <a:lnTo>
                    <a:pt x="2780" y="125"/>
                  </a:lnTo>
                  <a:lnTo>
                    <a:pt x="2776" y="125"/>
                  </a:lnTo>
                  <a:lnTo>
                    <a:pt x="2776" y="112"/>
                  </a:lnTo>
                  <a:lnTo>
                    <a:pt x="2772" y="112"/>
                  </a:lnTo>
                  <a:lnTo>
                    <a:pt x="2772" y="101"/>
                  </a:lnTo>
                  <a:lnTo>
                    <a:pt x="2766" y="101"/>
                  </a:lnTo>
                  <a:lnTo>
                    <a:pt x="2766" y="95"/>
                  </a:lnTo>
                  <a:lnTo>
                    <a:pt x="2757" y="95"/>
                  </a:lnTo>
                  <a:lnTo>
                    <a:pt x="2757" y="90"/>
                  </a:lnTo>
                  <a:lnTo>
                    <a:pt x="2752" y="90"/>
                  </a:lnTo>
                  <a:lnTo>
                    <a:pt x="2752" y="82"/>
                  </a:lnTo>
                  <a:lnTo>
                    <a:pt x="2737" y="82"/>
                  </a:lnTo>
                  <a:lnTo>
                    <a:pt x="2737" y="90"/>
                  </a:lnTo>
                  <a:lnTo>
                    <a:pt x="2728" y="90"/>
                  </a:lnTo>
                  <a:lnTo>
                    <a:pt x="2728" y="95"/>
                  </a:lnTo>
                  <a:lnTo>
                    <a:pt x="2718" y="95"/>
                  </a:lnTo>
                  <a:lnTo>
                    <a:pt x="2718" y="101"/>
                  </a:lnTo>
                  <a:lnTo>
                    <a:pt x="2709" y="101"/>
                  </a:lnTo>
                  <a:lnTo>
                    <a:pt x="2709" y="107"/>
                  </a:lnTo>
                  <a:lnTo>
                    <a:pt x="2699" y="107"/>
                  </a:lnTo>
                  <a:lnTo>
                    <a:pt x="2699" y="112"/>
                  </a:lnTo>
                  <a:lnTo>
                    <a:pt x="2685" y="112"/>
                  </a:lnTo>
                  <a:lnTo>
                    <a:pt x="2685" y="119"/>
                  </a:lnTo>
                  <a:lnTo>
                    <a:pt x="2676" y="119"/>
                  </a:lnTo>
                  <a:lnTo>
                    <a:pt x="2676" y="125"/>
                  </a:lnTo>
                  <a:lnTo>
                    <a:pt x="2660" y="125"/>
                  </a:lnTo>
                  <a:lnTo>
                    <a:pt x="2660" y="131"/>
                  </a:lnTo>
                  <a:lnTo>
                    <a:pt x="2646" y="131"/>
                  </a:lnTo>
                  <a:lnTo>
                    <a:pt x="2646" y="136"/>
                  </a:lnTo>
                  <a:lnTo>
                    <a:pt x="2636" y="136"/>
                  </a:lnTo>
                  <a:lnTo>
                    <a:pt x="2636" y="142"/>
                  </a:lnTo>
                  <a:lnTo>
                    <a:pt x="2627" y="142"/>
                  </a:lnTo>
                  <a:lnTo>
                    <a:pt x="2627" y="148"/>
                  </a:lnTo>
                  <a:lnTo>
                    <a:pt x="2608" y="148"/>
                  </a:lnTo>
                  <a:lnTo>
                    <a:pt x="2608" y="153"/>
                  </a:lnTo>
                  <a:lnTo>
                    <a:pt x="2603" y="153"/>
                  </a:lnTo>
                  <a:lnTo>
                    <a:pt x="2603" y="160"/>
                  </a:lnTo>
                  <a:lnTo>
                    <a:pt x="2588" y="160"/>
                  </a:lnTo>
                  <a:lnTo>
                    <a:pt x="2588" y="166"/>
                  </a:lnTo>
                  <a:lnTo>
                    <a:pt x="2579" y="166"/>
                  </a:lnTo>
                  <a:lnTo>
                    <a:pt x="2579" y="172"/>
                  </a:lnTo>
                  <a:lnTo>
                    <a:pt x="2573" y="172"/>
                  </a:lnTo>
                  <a:lnTo>
                    <a:pt x="2573" y="177"/>
                  </a:lnTo>
                  <a:lnTo>
                    <a:pt x="2565" y="177"/>
                  </a:lnTo>
                  <a:lnTo>
                    <a:pt x="2565" y="185"/>
                  </a:lnTo>
                  <a:lnTo>
                    <a:pt x="2555" y="185"/>
                  </a:lnTo>
                  <a:lnTo>
                    <a:pt x="2555" y="190"/>
                  </a:lnTo>
                  <a:lnTo>
                    <a:pt x="2545" y="190"/>
                  </a:lnTo>
                  <a:lnTo>
                    <a:pt x="2545" y="196"/>
                  </a:lnTo>
                  <a:lnTo>
                    <a:pt x="2531" y="196"/>
                  </a:lnTo>
                  <a:lnTo>
                    <a:pt x="2531" y="201"/>
                  </a:lnTo>
                  <a:lnTo>
                    <a:pt x="2516" y="201"/>
                  </a:lnTo>
                  <a:lnTo>
                    <a:pt x="2516" y="207"/>
                  </a:lnTo>
                  <a:lnTo>
                    <a:pt x="2497" y="207"/>
                  </a:lnTo>
                  <a:lnTo>
                    <a:pt x="2497" y="213"/>
                  </a:lnTo>
                  <a:lnTo>
                    <a:pt x="2492" y="213"/>
                  </a:lnTo>
                  <a:lnTo>
                    <a:pt x="2492" y="218"/>
                  </a:lnTo>
                  <a:lnTo>
                    <a:pt x="2483" y="218"/>
                  </a:lnTo>
                  <a:lnTo>
                    <a:pt x="2483" y="226"/>
                  </a:lnTo>
                  <a:lnTo>
                    <a:pt x="2474" y="226"/>
                  </a:lnTo>
                  <a:lnTo>
                    <a:pt x="2474" y="231"/>
                  </a:lnTo>
                  <a:lnTo>
                    <a:pt x="2464" y="231"/>
                  </a:lnTo>
                  <a:lnTo>
                    <a:pt x="2464" y="237"/>
                  </a:lnTo>
                  <a:lnTo>
                    <a:pt x="2449" y="237"/>
                  </a:lnTo>
                  <a:lnTo>
                    <a:pt x="2449" y="243"/>
                  </a:lnTo>
                  <a:lnTo>
                    <a:pt x="2439" y="243"/>
                  </a:lnTo>
                  <a:lnTo>
                    <a:pt x="2439" y="250"/>
                  </a:lnTo>
                  <a:lnTo>
                    <a:pt x="2430" y="250"/>
                  </a:lnTo>
                  <a:lnTo>
                    <a:pt x="2430" y="255"/>
                  </a:lnTo>
                  <a:lnTo>
                    <a:pt x="2421" y="255"/>
                  </a:lnTo>
                  <a:lnTo>
                    <a:pt x="2421" y="261"/>
                  </a:lnTo>
                  <a:lnTo>
                    <a:pt x="2411" y="261"/>
                  </a:lnTo>
                  <a:lnTo>
                    <a:pt x="2411" y="267"/>
                  </a:lnTo>
                  <a:lnTo>
                    <a:pt x="2401" y="267"/>
                  </a:lnTo>
                  <a:lnTo>
                    <a:pt x="2401" y="272"/>
                  </a:lnTo>
                  <a:lnTo>
                    <a:pt x="2388" y="272"/>
                  </a:lnTo>
                  <a:lnTo>
                    <a:pt x="2388" y="278"/>
                  </a:lnTo>
                  <a:lnTo>
                    <a:pt x="2372" y="278"/>
                  </a:lnTo>
                  <a:lnTo>
                    <a:pt x="2372" y="284"/>
                  </a:lnTo>
                  <a:lnTo>
                    <a:pt x="2362" y="284"/>
                  </a:lnTo>
                  <a:lnTo>
                    <a:pt x="2362" y="291"/>
                  </a:lnTo>
                  <a:lnTo>
                    <a:pt x="2348" y="291"/>
                  </a:lnTo>
                  <a:lnTo>
                    <a:pt x="2348" y="296"/>
                  </a:lnTo>
                  <a:lnTo>
                    <a:pt x="2339" y="296"/>
                  </a:lnTo>
                  <a:lnTo>
                    <a:pt x="2339" y="302"/>
                  </a:lnTo>
                  <a:lnTo>
                    <a:pt x="2329" y="302"/>
                  </a:lnTo>
                  <a:lnTo>
                    <a:pt x="2329" y="308"/>
                  </a:lnTo>
                  <a:lnTo>
                    <a:pt x="2319" y="308"/>
                  </a:lnTo>
                  <a:lnTo>
                    <a:pt x="2319" y="313"/>
                  </a:lnTo>
                  <a:lnTo>
                    <a:pt x="2311" y="313"/>
                  </a:lnTo>
                  <a:lnTo>
                    <a:pt x="2311" y="319"/>
                  </a:lnTo>
                  <a:lnTo>
                    <a:pt x="2304" y="319"/>
                  </a:lnTo>
                  <a:lnTo>
                    <a:pt x="2304" y="326"/>
                  </a:lnTo>
                  <a:lnTo>
                    <a:pt x="2295" y="326"/>
                  </a:lnTo>
                  <a:lnTo>
                    <a:pt x="2295" y="331"/>
                  </a:lnTo>
                  <a:lnTo>
                    <a:pt x="2285" y="331"/>
                  </a:lnTo>
                  <a:lnTo>
                    <a:pt x="2285" y="337"/>
                  </a:lnTo>
                  <a:lnTo>
                    <a:pt x="2276" y="337"/>
                  </a:lnTo>
                  <a:lnTo>
                    <a:pt x="2276" y="343"/>
                  </a:lnTo>
                  <a:lnTo>
                    <a:pt x="2267" y="343"/>
                  </a:lnTo>
                  <a:lnTo>
                    <a:pt x="2267" y="349"/>
                  </a:lnTo>
                  <a:lnTo>
                    <a:pt x="2257" y="349"/>
                  </a:lnTo>
                  <a:lnTo>
                    <a:pt x="2257" y="354"/>
                  </a:lnTo>
                  <a:lnTo>
                    <a:pt x="2243" y="354"/>
                  </a:lnTo>
                  <a:lnTo>
                    <a:pt x="2243" y="362"/>
                  </a:lnTo>
                  <a:lnTo>
                    <a:pt x="2228" y="362"/>
                  </a:lnTo>
                  <a:lnTo>
                    <a:pt x="2228" y="367"/>
                  </a:lnTo>
                  <a:lnTo>
                    <a:pt x="2223" y="367"/>
                  </a:lnTo>
                  <a:lnTo>
                    <a:pt x="2223" y="372"/>
                  </a:lnTo>
                  <a:lnTo>
                    <a:pt x="2209" y="372"/>
                  </a:lnTo>
                  <a:lnTo>
                    <a:pt x="2209" y="378"/>
                  </a:lnTo>
                  <a:lnTo>
                    <a:pt x="2195" y="378"/>
                  </a:lnTo>
                  <a:lnTo>
                    <a:pt x="2195" y="384"/>
                  </a:lnTo>
                  <a:lnTo>
                    <a:pt x="2185" y="384"/>
                  </a:lnTo>
                  <a:lnTo>
                    <a:pt x="2185" y="391"/>
                  </a:lnTo>
                  <a:lnTo>
                    <a:pt x="2171" y="391"/>
                  </a:lnTo>
                  <a:lnTo>
                    <a:pt x="2171" y="396"/>
                  </a:lnTo>
                  <a:lnTo>
                    <a:pt x="2151" y="396"/>
                  </a:lnTo>
                  <a:lnTo>
                    <a:pt x="2151" y="403"/>
                  </a:lnTo>
                  <a:lnTo>
                    <a:pt x="2141" y="403"/>
                  </a:lnTo>
                  <a:lnTo>
                    <a:pt x="2141" y="408"/>
                  </a:lnTo>
                  <a:lnTo>
                    <a:pt x="2133" y="408"/>
                  </a:lnTo>
                  <a:lnTo>
                    <a:pt x="2133" y="414"/>
                  </a:lnTo>
                  <a:lnTo>
                    <a:pt x="2127" y="414"/>
                  </a:lnTo>
                  <a:lnTo>
                    <a:pt x="2127" y="420"/>
                  </a:lnTo>
                  <a:lnTo>
                    <a:pt x="2113" y="420"/>
                  </a:lnTo>
                  <a:lnTo>
                    <a:pt x="2113" y="425"/>
                  </a:lnTo>
                  <a:lnTo>
                    <a:pt x="2108" y="425"/>
                  </a:lnTo>
                  <a:lnTo>
                    <a:pt x="2108" y="432"/>
                  </a:lnTo>
                  <a:lnTo>
                    <a:pt x="2089" y="432"/>
                  </a:lnTo>
                  <a:lnTo>
                    <a:pt x="2089" y="438"/>
                  </a:lnTo>
                  <a:lnTo>
                    <a:pt x="2074" y="438"/>
                  </a:lnTo>
                  <a:lnTo>
                    <a:pt x="2074" y="444"/>
                  </a:lnTo>
                  <a:lnTo>
                    <a:pt x="2065" y="444"/>
                  </a:lnTo>
                  <a:lnTo>
                    <a:pt x="2065" y="449"/>
                  </a:lnTo>
                  <a:lnTo>
                    <a:pt x="2055" y="449"/>
                  </a:lnTo>
                  <a:lnTo>
                    <a:pt x="2055" y="455"/>
                  </a:lnTo>
                  <a:lnTo>
                    <a:pt x="2051" y="455"/>
                  </a:lnTo>
                  <a:lnTo>
                    <a:pt x="2051" y="462"/>
                  </a:lnTo>
                  <a:lnTo>
                    <a:pt x="2031" y="462"/>
                  </a:lnTo>
                  <a:lnTo>
                    <a:pt x="2031" y="468"/>
                  </a:lnTo>
                  <a:lnTo>
                    <a:pt x="2016" y="468"/>
                  </a:lnTo>
                  <a:lnTo>
                    <a:pt x="2016" y="473"/>
                  </a:lnTo>
                  <a:lnTo>
                    <a:pt x="2007" y="473"/>
                  </a:lnTo>
                  <a:lnTo>
                    <a:pt x="2007" y="479"/>
                  </a:lnTo>
                  <a:lnTo>
                    <a:pt x="1997" y="479"/>
                  </a:lnTo>
                  <a:lnTo>
                    <a:pt x="1997" y="485"/>
                  </a:lnTo>
                  <a:lnTo>
                    <a:pt x="1983" y="485"/>
                  </a:lnTo>
                  <a:lnTo>
                    <a:pt x="1983" y="490"/>
                  </a:lnTo>
                  <a:lnTo>
                    <a:pt x="1974" y="490"/>
                  </a:lnTo>
                  <a:lnTo>
                    <a:pt x="1974" y="497"/>
                  </a:lnTo>
                  <a:lnTo>
                    <a:pt x="1955" y="497"/>
                  </a:lnTo>
                  <a:lnTo>
                    <a:pt x="1955" y="503"/>
                  </a:lnTo>
                  <a:lnTo>
                    <a:pt x="1950" y="503"/>
                  </a:lnTo>
                  <a:lnTo>
                    <a:pt x="1950" y="509"/>
                  </a:lnTo>
                  <a:lnTo>
                    <a:pt x="1934" y="509"/>
                  </a:lnTo>
                  <a:lnTo>
                    <a:pt x="1934" y="514"/>
                  </a:lnTo>
                  <a:lnTo>
                    <a:pt x="1926" y="514"/>
                  </a:lnTo>
                  <a:lnTo>
                    <a:pt x="1926" y="520"/>
                  </a:lnTo>
                  <a:lnTo>
                    <a:pt x="1907" y="520"/>
                  </a:lnTo>
                  <a:lnTo>
                    <a:pt x="1907" y="527"/>
                  </a:lnTo>
                  <a:lnTo>
                    <a:pt x="1897" y="527"/>
                  </a:lnTo>
                  <a:lnTo>
                    <a:pt x="1897" y="532"/>
                  </a:lnTo>
                  <a:lnTo>
                    <a:pt x="1887" y="532"/>
                  </a:lnTo>
                  <a:lnTo>
                    <a:pt x="1887" y="539"/>
                  </a:lnTo>
                  <a:lnTo>
                    <a:pt x="1853" y="539"/>
                  </a:lnTo>
                  <a:lnTo>
                    <a:pt x="1853" y="544"/>
                  </a:lnTo>
                  <a:lnTo>
                    <a:pt x="1839" y="544"/>
                  </a:lnTo>
                  <a:lnTo>
                    <a:pt x="1839" y="550"/>
                  </a:lnTo>
                  <a:lnTo>
                    <a:pt x="1825" y="550"/>
                  </a:lnTo>
                  <a:lnTo>
                    <a:pt x="1825" y="555"/>
                  </a:lnTo>
                  <a:lnTo>
                    <a:pt x="1800" y="555"/>
                  </a:lnTo>
                  <a:lnTo>
                    <a:pt x="1800" y="563"/>
                  </a:lnTo>
                  <a:lnTo>
                    <a:pt x="1791" y="563"/>
                  </a:lnTo>
                  <a:lnTo>
                    <a:pt x="1791" y="568"/>
                  </a:lnTo>
                  <a:lnTo>
                    <a:pt x="1782" y="568"/>
                  </a:lnTo>
                  <a:lnTo>
                    <a:pt x="1782" y="573"/>
                  </a:lnTo>
                  <a:lnTo>
                    <a:pt x="1776" y="573"/>
                  </a:lnTo>
                  <a:lnTo>
                    <a:pt x="1776" y="580"/>
                  </a:lnTo>
                  <a:lnTo>
                    <a:pt x="1743" y="580"/>
                  </a:lnTo>
                  <a:lnTo>
                    <a:pt x="1743" y="585"/>
                  </a:lnTo>
                  <a:lnTo>
                    <a:pt x="1728" y="585"/>
                  </a:lnTo>
                  <a:lnTo>
                    <a:pt x="1728" y="591"/>
                  </a:lnTo>
                  <a:lnTo>
                    <a:pt x="1705" y="591"/>
                  </a:lnTo>
                  <a:lnTo>
                    <a:pt x="1705" y="598"/>
                  </a:lnTo>
                  <a:lnTo>
                    <a:pt x="1676" y="598"/>
                  </a:lnTo>
                  <a:lnTo>
                    <a:pt x="1676" y="604"/>
                  </a:lnTo>
                  <a:lnTo>
                    <a:pt x="1656" y="604"/>
                  </a:lnTo>
                  <a:lnTo>
                    <a:pt x="1656" y="609"/>
                  </a:lnTo>
                  <a:lnTo>
                    <a:pt x="1460" y="609"/>
                  </a:lnTo>
                  <a:lnTo>
                    <a:pt x="1460" y="615"/>
                  </a:lnTo>
                  <a:lnTo>
                    <a:pt x="1451" y="615"/>
                  </a:lnTo>
                  <a:lnTo>
                    <a:pt x="1451" y="621"/>
                  </a:lnTo>
                  <a:lnTo>
                    <a:pt x="1431" y="621"/>
                  </a:lnTo>
                  <a:lnTo>
                    <a:pt x="1431" y="626"/>
                  </a:lnTo>
                  <a:lnTo>
                    <a:pt x="1426" y="626"/>
                  </a:lnTo>
                  <a:lnTo>
                    <a:pt x="1426" y="633"/>
                  </a:lnTo>
                  <a:lnTo>
                    <a:pt x="1421" y="633"/>
                  </a:lnTo>
                  <a:lnTo>
                    <a:pt x="1421" y="639"/>
                  </a:lnTo>
                  <a:lnTo>
                    <a:pt x="1416" y="639"/>
                  </a:lnTo>
                  <a:lnTo>
                    <a:pt x="1416" y="650"/>
                  </a:lnTo>
                  <a:lnTo>
                    <a:pt x="1398" y="650"/>
                  </a:lnTo>
                  <a:lnTo>
                    <a:pt x="1398" y="658"/>
                  </a:lnTo>
                  <a:lnTo>
                    <a:pt x="1388" y="658"/>
                  </a:lnTo>
                  <a:lnTo>
                    <a:pt x="1388" y="663"/>
                  </a:lnTo>
                  <a:lnTo>
                    <a:pt x="1374" y="663"/>
                  </a:lnTo>
                  <a:lnTo>
                    <a:pt x="1374" y="669"/>
                  </a:lnTo>
                  <a:lnTo>
                    <a:pt x="1369" y="669"/>
                  </a:lnTo>
                  <a:lnTo>
                    <a:pt x="1369" y="674"/>
                  </a:lnTo>
                  <a:lnTo>
                    <a:pt x="1364" y="674"/>
                  </a:lnTo>
                  <a:lnTo>
                    <a:pt x="1364" y="680"/>
                  </a:lnTo>
                  <a:lnTo>
                    <a:pt x="1349" y="680"/>
                  </a:lnTo>
                  <a:lnTo>
                    <a:pt x="1349" y="686"/>
                  </a:lnTo>
                  <a:lnTo>
                    <a:pt x="1339" y="686"/>
                  </a:lnTo>
                  <a:lnTo>
                    <a:pt x="1339" y="691"/>
                  </a:lnTo>
                  <a:lnTo>
                    <a:pt x="1335" y="691"/>
                  </a:lnTo>
                  <a:lnTo>
                    <a:pt x="1335" y="699"/>
                  </a:lnTo>
                  <a:lnTo>
                    <a:pt x="1321" y="699"/>
                  </a:lnTo>
                  <a:lnTo>
                    <a:pt x="1321" y="704"/>
                  </a:lnTo>
                  <a:lnTo>
                    <a:pt x="1311" y="704"/>
                  </a:lnTo>
                  <a:lnTo>
                    <a:pt x="1311" y="710"/>
                  </a:lnTo>
                  <a:lnTo>
                    <a:pt x="1306" y="710"/>
                  </a:lnTo>
                  <a:lnTo>
                    <a:pt x="1306" y="716"/>
                  </a:lnTo>
                  <a:lnTo>
                    <a:pt x="1297" y="716"/>
                  </a:lnTo>
                  <a:lnTo>
                    <a:pt x="1297" y="722"/>
                  </a:lnTo>
                  <a:lnTo>
                    <a:pt x="1282" y="722"/>
                  </a:lnTo>
                  <a:lnTo>
                    <a:pt x="1282" y="727"/>
                  </a:lnTo>
                  <a:lnTo>
                    <a:pt x="1272" y="727"/>
                  </a:lnTo>
                  <a:lnTo>
                    <a:pt x="1272" y="734"/>
                  </a:lnTo>
                  <a:lnTo>
                    <a:pt x="1262" y="734"/>
                  </a:lnTo>
                  <a:lnTo>
                    <a:pt x="1262" y="739"/>
                  </a:lnTo>
                  <a:lnTo>
                    <a:pt x="1253" y="739"/>
                  </a:lnTo>
                  <a:lnTo>
                    <a:pt x="1253" y="745"/>
                  </a:lnTo>
                  <a:lnTo>
                    <a:pt x="1248" y="745"/>
                  </a:lnTo>
                  <a:lnTo>
                    <a:pt x="1248" y="750"/>
                  </a:lnTo>
                  <a:lnTo>
                    <a:pt x="1235" y="750"/>
                  </a:lnTo>
                  <a:lnTo>
                    <a:pt x="1235" y="757"/>
                  </a:lnTo>
                  <a:lnTo>
                    <a:pt x="1225" y="757"/>
                  </a:lnTo>
                  <a:lnTo>
                    <a:pt x="1225" y="762"/>
                  </a:lnTo>
                  <a:lnTo>
                    <a:pt x="1219" y="762"/>
                  </a:lnTo>
                  <a:lnTo>
                    <a:pt x="1219" y="769"/>
                  </a:lnTo>
                  <a:lnTo>
                    <a:pt x="1209" y="769"/>
                  </a:lnTo>
                  <a:lnTo>
                    <a:pt x="1209" y="775"/>
                  </a:lnTo>
                  <a:lnTo>
                    <a:pt x="1200" y="775"/>
                  </a:lnTo>
                  <a:lnTo>
                    <a:pt x="1200" y="781"/>
                  </a:lnTo>
                  <a:lnTo>
                    <a:pt x="1195" y="781"/>
                  </a:lnTo>
                  <a:lnTo>
                    <a:pt x="1195" y="786"/>
                  </a:lnTo>
                  <a:lnTo>
                    <a:pt x="1186" y="786"/>
                  </a:lnTo>
                  <a:lnTo>
                    <a:pt x="1186" y="792"/>
                  </a:lnTo>
                  <a:lnTo>
                    <a:pt x="1176" y="792"/>
                  </a:lnTo>
                  <a:lnTo>
                    <a:pt x="1176" y="799"/>
                  </a:lnTo>
                  <a:lnTo>
                    <a:pt x="1166" y="799"/>
                  </a:lnTo>
                  <a:lnTo>
                    <a:pt x="1166" y="804"/>
                  </a:lnTo>
                  <a:lnTo>
                    <a:pt x="1158" y="804"/>
                  </a:lnTo>
                  <a:lnTo>
                    <a:pt x="1158" y="810"/>
                  </a:lnTo>
                  <a:lnTo>
                    <a:pt x="1152" y="810"/>
                  </a:lnTo>
                  <a:lnTo>
                    <a:pt x="1152" y="816"/>
                  </a:lnTo>
                  <a:lnTo>
                    <a:pt x="1147" y="816"/>
                  </a:lnTo>
                  <a:lnTo>
                    <a:pt x="1147" y="822"/>
                  </a:lnTo>
                  <a:lnTo>
                    <a:pt x="1132" y="822"/>
                  </a:lnTo>
                  <a:lnTo>
                    <a:pt x="1132" y="827"/>
                  </a:lnTo>
                  <a:lnTo>
                    <a:pt x="1124" y="827"/>
                  </a:lnTo>
                  <a:lnTo>
                    <a:pt x="1124" y="835"/>
                  </a:lnTo>
                  <a:lnTo>
                    <a:pt x="1104" y="835"/>
                  </a:lnTo>
                  <a:lnTo>
                    <a:pt x="1104" y="840"/>
                  </a:lnTo>
                  <a:lnTo>
                    <a:pt x="1095" y="840"/>
                  </a:lnTo>
                  <a:lnTo>
                    <a:pt x="1095" y="845"/>
                  </a:lnTo>
                  <a:lnTo>
                    <a:pt x="1091" y="845"/>
                  </a:lnTo>
                  <a:lnTo>
                    <a:pt x="1091" y="851"/>
                  </a:lnTo>
                  <a:lnTo>
                    <a:pt x="1081" y="851"/>
                  </a:lnTo>
                  <a:lnTo>
                    <a:pt x="1081" y="857"/>
                  </a:lnTo>
                  <a:lnTo>
                    <a:pt x="1075" y="857"/>
                  </a:lnTo>
                  <a:lnTo>
                    <a:pt x="1075" y="863"/>
                  </a:lnTo>
                  <a:lnTo>
                    <a:pt x="1066" y="863"/>
                  </a:lnTo>
                  <a:lnTo>
                    <a:pt x="1066" y="868"/>
                  </a:lnTo>
                  <a:lnTo>
                    <a:pt x="1061" y="868"/>
                  </a:lnTo>
                  <a:lnTo>
                    <a:pt x="1061" y="876"/>
                  </a:lnTo>
                  <a:lnTo>
                    <a:pt x="1051" y="876"/>
                  </a:lnTo>
                  <a:lnTo>
                    <a:pt x="1051" y="881"/>
                  </a:lnTo>
                  <a:lnTo>
                    <a:pt x="1042" y="881"/>
                  </a:lnTo>
                  <a:lnTo>
                    <a:pt x="1042" y="887"/>
                  </a:lnTo>
                  <a:lnTo>
                    <a:pt x="1023" y="887"/>
                  </a:lnTo>
                  <a:lnTo>
                    <a:pt x="1023" y="893"/>
                  </a:lnTo>
                  <a:lnTo>
                    <a:pt x="1014" y="893"/>
                  </a:lnTo>
                  <a:lnTo>
                    <a:pt x="1014" y="898"/>
                  </a:lnTo>
                  <a:lnTo>
                    <a:pt x="1003" y="898"/>
                  </a:lnTo>
                  <a:lnTo>
                    <a:pt x="1003" y="905"/>
                  </a:lnTo>
                  <a:lnTo>
                    <a:pt x="989" y="905"/>
                  </a:lnTo>
                  <a:lnTo>
                    <a:pt x="989" y="911"/>
                  </a:lnTo>
                  <a:lnTo>
                    <a:pt x="980" y="911"/>
                  </a:lnTo>
                  <a:lnTo>
                    <a:pt x="980" y="917"/>
                  </a:lnTo>
                  <a:lnTo>
                    <a:pt x="965" y="917"/>
                  </a:lnTo>
                  <a:lnTo>
                    <a:pt x="965" y="922"/>
                  </a:lnTo>
                  <a:lnTo>
                    <a:pt x="955" y="922"/>
                  </a:lnTo>
                  <a:lnTo>
                    <a:pt x="955" y="928"/>
                  </a:lnTo>
                  <a:lnTo>
                    <a:pt x="951" y="928"/>
                  </a:lnTo>
                  <a:lnTo>
                    <a:pt x="951" y="935"/>
                  </a:lnTo>
                  <a:lnTo>
                    <a:pt x="937" y="935"/>
                  </a:lnTo>
                  <a:lnTo>
                    <a:pt x="937" y="940"/>
                  </a:lnTo>
                  <a:lnTo>
                    <a:pt x="926" y="940"/>
                  </a:lnTo>
                  <a:lnTo>
                    <a:pt x="926" y="946"/>
                  </a:lnTo>
                  <a:lnTo>
                    <a:pt x="917" y="946"/>
                  </a:lnTo>
                  <a:lnTo>
                    <a:pt x="917" y="952"/>
                  </a:lnTo>
                  <a:lnTo>
                    <a:pt x="907" y="952"/>
                  </a:lnTo>
                  <a:lnTo>
                    <a:pt x="907" y="958"/>
                  </a:lnTo>
                  <a:lnTo>
                    <a:pt x="898" y="958"/>
                  </a:lnTo>
                  <a:lnTo>
                    <a:pt x="898" y="963"/>
                  </a:lnTo>
                  <a:lnTo>
                    <a:pt x="888" y="963"/>
                  </a:lnTo>
                  <a:lnTo>
                    <a:pt x="888" y="970"/>
                  </a:lnTo>
                  <a:lnTo>
                    <a:pt x="884" y="970"/>
                  </a:lnTo>
                  <a:lnTo>
                    <a:pt x="884" y="976"/>
                  </a:lnTo>
                  <a:lnTo>
                    <a:pt x="874" y="976"/>
                  </a:lnTo>
                  <a:lnTo>
                    <a:pt x="874" y="982"/>
                  </a:lnTo>
                  <a:lnTo>
                    <a:pt x="864" y="982"/>
                  </a:lnTo>
                  <a:lnTo>
                    <a:pt x="864" y="987"/>
                  </a:lnTo>
                  <a:lnTo>
                    <a:pt x="854" y="987"/>
                  </a:lnTo>
                  <a:lnTo>
                    <a:pt x="854" y="993"/>
                  </a:lnTo>
                  <a:lnTo>
                    <a:pt x="850" y="993"/>
                  </a:lnTo>
                  <a:lnTo>
                    <a:pt x="850" y="999"/>
                  </a:lnTo>
                  <a:lnTo>
                    <a:pt x="840" y="999"/>
                  </a:lnTo>
                  <a:lnTo>
                    <a:pt x="840" y="1004"/>
                  </a:lnTo>
                  <a:lnTo>
                    <a:pt x="835" y="1004"/>
                  </a:lnTo>
                  <a:lnTo>
                    <a:pt x="835" y="1012"/>
                  </a:lnTo>
                  <a:lnTo>
                    <a:pt x="821" y="1012"/>
                  </a:lnTo>
                  <a:lnTo>
                    <a:pt x="821" y="1017"/>
                  </a:lnTo>
                  <a:lnTo>
                    <a:pt x="807" y="1017"/>
                  </a:lnTo>
                  <a:lnTo>
                    <a:pt x="807" y="1023"/>
                  </a:lnTo>
                  <a:lnTo>
                    <a:pt x="797" y="1023"/>
                  </a:lnTo>
                  <a:lnTo>
                    <a:pt x="797" y="1028"/>
                  </a:lnTo>
                  <a:lnTo>
                    <a:pt x="792" y="1028"/>
                  </a:lnTo>
                  <a:lnTo>
                    <a:pt x="792" y="1036"/>
                  </a:lnTo>
                  <a:lnTo>
                    <a:pt x="788" y="1036"/>
                  </a:lnTo>
                  <a:lnTo>
                    <a:pt x="788" y="1041"/>
                  </a:lnTo>
                  <a:lnTo>
                    <a:pt x="777" y="1041"/>
                  </a:lnTo>
                  <a:lnTo>
                    <a:pt x="777" y="1046"/>
                  </a:lnTo>
                  <a:lnTo>
                    <a:pt x="768" y="1046"/>
                  </a:lnTo>
                  <a:lnTo>
                    <a:pt x="768" y="1053"/>
                  </a:lnTo>
                  <a:lnTo>
                    <a:pt x="763" y="1053"/>
                  </a:lnTo>
                  <a:lnTo>
                    <a:pt x="763" y="1058"/>
                  </a:lnTo>
                  <a:lnTo>
                    <a:pt x="749" y="1058"/>
                  </a:lnTo>
                  <a:lnTo>
                    <a:pt x="749" y="1064"/>
                  </a:lnTo>
                  <a:lnTo>
                    <a:pt x="740" y="1064"/>
                  </a:lnTo>
                  <a:lnTo>
                    <a:pt x="740" y="1071"/>
                  </a:lnTo>
                  <a:lnTo>
                    <a:pt x="730" y="1071"/>
                  </a:lnTo>
                  <a:lnTo>
                    <a:pt x="730" y="1077"/>
                  </a:lnTo>
                  <a:lnTo>
                    <a:pt x="720" y="1077"/>
                  </a:lnTo>
                  <a:lnTo>
                    <a:pt x="720" y="1082"/>
                  </a:lnTo>
                  <a:lnTo>
                    <a:pt x="716" y="1082"/>
                  </a:lnTo>
                  <a:lnTo>
                    <a:pt x="716" y="1088"/>
                  </a:lnTo>
                  <a:lnTo>
                    <a:pt x="710" y="1088"/>
                  </a:lnTo>
                  <a:lnTo>
                    <a:pt x="710" y="1094"/>
                  </a:lnTo>
                  <a:lnTo>
                    <a:pt x="700" y="1094"/>
                  </a:lnTo>
                  <a:lnTo>
                    <a:pt x="700" y="1099"/>
                  </a:lnTo>
                  <a:lnTo>
                    <a:pt x="692" y="1099"/>
                  </a:lnTo>
                  <a:lnTo>
                    <a:pt x="692" y="1106"/>
                  </a:lnTo>
                  <a:lnTo>
                    <a:pt x="682" y="1106"/>
                  </a:lnTo>
                  <a:lnTo>
                    <a:pt x="682" y="1112"/>
                  </a:lnTo>
                  <a:lnTo>
                    <a:pt x="672" y="1112"/>
                  </a:lnTo>
                  <a:lnTo>
                    <a:pt x="672" y="1118"/>
                  </a:lnTo>
                  <a:lnTo>
                    <a:pt x="663" y="1118"/>
                  </a:lnTo>
                  <a:lnTo>
                    <a:pt x="663" y="1123"/>
                  </a:lnTo>
                  <a:lnTo>
                    <a:pt x="653" y="1123"/>
                  </a:lnTo>
                  <a:lnTo>
                    <a:pt x="653" y="1131"/>
                  </a:lnTo>
                  <a:lnTo>
                    <a:pt x="644" y="1131"/>
                  </a:lnTo>
                  <a:lnTo>
                    <a:pt x="644" y="1136"/>
                  </a:lnTo>
                  <a:lnTo>
                    <a:pt x="633" y="1136"/>
                  </a:lnTo>
                  <a:lnTo>
                    <a:pt x="633" y="1142"/>
                  </a:lnTo>
                  <a:lnTo>
                    <a:pt x="623" y="1142"/>
                  </a:lnTo>
                  <a:lnTo>
                    <a:pt x="623" y="1147"/>
                  </a:lnTo>
                  <a:lnTo>
                    <a:pt x="614" y="1147"/>
                  </a:lnTo>
                  <a:lnTo>
                    <a:pt x="614" y="1153"/>
                  </a:lnTo>
                  <a:lnTo>
                    <a:pt x="610" y="1153"/>
                  </a:lnTo>
                  <a:lnTo>
                    <a:pt x="610" y="1158"/>
                  </a:lnTo>
                  <a:lnTo>
                    <a:pt x="605" y="1158"/>
                  </a:lnTo>
                  <a:lnTo>
                    <a:pt x="605" y="1164"/>
                  </a:lnTo>
                  <a:lnTo>
                    <a:pt x="590" y="1164"/>
                  </a:lnTo>
                  <a:lnTo>
                    <a:pt x="590" y="1170"/>
                  </a:lnTo>
                  <a:lnTo>
                    <a:pt x="586" y="1170"/>
                  </a:lnTo>
                  <a:lnTo>
                    <a:pt x="586" y="1177"/>
                  </a:lnTo>
                  <a:lnTo>
                    <a:pt x="571" y="1177"/>
                  </a:lnTo>
                  <a:lnTo>
                    <a:pt x="571" y="1182"/>
                  </a:lnTo>
                  <a:lnTo>
                    <a:pt x="561" y="1182"/>
                  </a:lnTo>
                  <a:lnTo>
                    <a:pt x="561" y="1189"/>
                  </a:lnTo>
                  <a:lnTo>
                    <a:pt x="556" y="1189"/>
                  </a:lnTo>
                  <a:lnTo>
                    <a:pt x="556" y="1194"/>
                  </a:lnTo>
                  <a:lnTo>
                    <a:pt x="547" y="1194"/>
                  </a:lnTo>
                  <a:lnTo>
                    <a:pt x="547" y="1200"/>
                  </a:lnTo>
                  <a:lnTo>
                    <a:pt x="542" y="1200"/>
                  </a:lnTo>
                  <a:lnTo>
                    <a:pt x="542" y="1205"/>
                  </a:lnTo>
                  <a:lnTo>
                    <a:pt x="528" y="1205"/>
                  </a:lnTo>
                  <a:lnTo>
                    <a:pt x="528" y="1212"/>
                  </a:lnTo>
                  <a:lnTo>
                    <a:pt x="514" y="1212"/>
                  </a:lnTo>
                  <a:lnTo>
                    <a:pt x="514" y="1218"/>
                  </a:lnTo>
                  <a:lnTo>
                    <a:pt x="504" y="1218"/>
                  </a:lnTo>
                  <a:lnTo>
                    <a:pt x="504" y="1223"/>
                  </a:lnTo>
                  <a:lnTo>
                    <a:pt x="493" y="1223"/>
                  </a:lnTo>
                  <a:lnTo>
                    <a:pt x="493" y="1230"/>
                  </a:lnTo>
                  <a:lnTo>
                    <a:pt x="484" y="1230"/>
                  </a:lnTo>
                  <a:lnTo>
                    <a:pt x="484" y="1235"/>
                  </a:lnTo>
                  <a:lnTo>
                    <a:pt x="479" y="1235"/>
                  </a:lnTo>
                  <a:lnTo>
                    <a:pt x="479" y="1242"/>
                  </a:lnTo>
                  <a:lnTo>
                    <a:pt x="475" y="1242"/>
                  </a:lnTo>
                  <a:lnTo>
                    <a:pt x="475" y="1248"/>
                  </a:lnTo>
                  <a:lnTo>
                    <a:pt x="470" y="1248"/>
                  </a:lnTo>
                  <a:lnTo>
                    <a:pt x="470" y="1254"/>
                  </a:lnTo>
                  <a:lnTo>
                    <a:pt x="460" y="1254"/>
                  </a:lnTo>
                  <a:lnTo>
                    <a:pt x="460" y="1259"/>
                  </a:lnTo>
                  <a:lnTo>
                    <a:pt x="451" y="1259"/>
                  </a:lnTo>
                  <a:lnTo>
                    <a:pt x="451" y="1265"/>
                  </a:lnTo>
                  <a:lnTo>
                    <a:pt x="442" y="1265"/>
                  </a:lnTo>
                  <a:lnTo>
                    <a:pt x="442" y="1272"/>
                  </a:lnTo>
                  <a:lnTo>
                    <a:pt x="432" y="1272"/>
                  </a:lnTo>
                  <a:lnTo>
                    <a:pt x="432" y="1277"/>
                  </a:lnTo>
                  <a:lnTo>
                    <a:pt x="428" y="1277"/>
                  </a:lnTo>
                  <a:lnTo>
                    <a:pt x="428" y="1283"/>
                  </a:lnTo>
                  <a:lnTo>
                    <a:pt x="422" y="1283"/>
                  </a:lnTo>
                  <a:lnTo>
                    <a:pt x="422" y="1289"/>
                  </a:lnTo>
                  <a:lnTo>
                    <a:pt x="417" y="1289"/>
                  </a:lnTo>
                  <a:lnTo>
                    <a:pt x="417" y="1295"/>
                  </a:lnTo>
                  <a:lnTo>
                    <a:pt x="408" y="1295"/>
                  </a:lnTo>
                  <a:lnTo>
                    <a:pt x="408" y="1300"/>
                  </a:lnTo>
                  <a:lnTo>
                    <a:pt x="398" y="1300"/>
                  </a:lnTo>
                  <a:lnTo>
                    <a:pt x="398" y="1306"/>
                  </a:lnTo>
                  <a:lnTo>
                    <a:pt x="389" y="1306"/>
                  </a:lnTo>
                  <a:lnTo>
                    <a:pt x="389" y="1313"/>
                  </a:lnTo>
                  <a:lnTo>
                    <a:pt x="379" y="1313"/>
                  </a:lnTo>
                  <a:lnTo>
                    <a:pt x="379" y="1318"/>
                  </a:lnTo>
                  <a:lnTo>
                    <a:pt x="375" y="1318"/>
                  </a:lnTo>
                  <a:lnTo>
                    <a:pt x="375" y="1324"/>
                  </a:lnTo>
                  <a:lnTo>
                    <a:pt x="360" y="1324"/>
                  </a:lnTo>
                  <a:lnTo>
                    <a:pt x="360" y="1330"/>
                  </a:lnTo>
                  <a:lnTo>
                    <a:pt x="356" y="1330"/>
                  </a:lnTo>
                  <a:lnTo>
                    <a:pt x="356" y="1336"/>
                  </a:lnTo>
                  <a:lnTo>
                    <a:pt x="345" y="1336"/>
                  </a:lnTo>
                  <a:lnTo>
                    <a:pt x="345" y="1341"/>
                  </a:lnTo>
                  <a:lnTo>
                    <a:pt x="341" y="1341"/>
                  </a:lnTo>
                  <a:lnTo>
                    <a:pt x="341" y="1349"/>
                  </a:lnTo>
                  <a:lnTo>
                    <a:pt x="326" y="1349"/>
                  </a:lnTo>
                  <a:lnTo>
                    <a:pt x="326" y="1354"/>
                  </a:lnTo>
                  <a:lnTo>
                    <a:pt x="316" y="1354"/>
                  </a:lnTo>
                  <a:lnTo>
                    <a:pt x="316" y="1359"/>
                  </a:lnTo>
                  <a:lnTo>
                    <a:pt x="312" y="1359"/>
                  </a:lnTo>
                  <a:lnTo>
                    <a:pt x="312" y="1366"/>
                  </a:lnTo>
                  <a:lnTo>
                    <a:pt x="308" y="1366"/>
                  </a:lnTo>
                  <a:lnTo>
                    <a:pt x="308" y="1371"/>
                  </a:lnTo>
                  <a:lnTo>
                    <a:pt x="302" y="1371"/>
                  </a:lnTo>
                  <a:lnTo>
                    <a:pt x="302" y="1378"/>
                  </a:lnTo>
                  <a:lnTo>
                    <a:pt x="293" y="1378"/>
                  </a:lnTo>
                  <a:lnTo>
                    <a:pt x="293" y="1384"/>
                  </a:lnTo>
                  <a:lnTo>
                    <a:pt x="288" y="1384"/>
                  </a:lnTo>
                  <a:lnTo>
                    <a:pt x="288" y="1390"/>
                  </a:lnTo>
                  <a:lnTo>
                    <a:pt x="283" y="1390"/>
                  </a:lnTo>
                  <a:lnTo>
                    <a:pt x="283" y="1395"/>
                  </a:lnTo>
                  <a:lnTo>
                    <a:pt x="273" y="1395"/>
                  </a:lnTo>
                  <a:lnTo>
                    <a:pt x="273" y="1401"/>
                  </a:lnTo>
                  <a:lnTo>
                    <a:pt x="268" y="1401"/>
                  </a:lnTo>
                  <a:lnTo>
                    <a:pt x="268" y="1408"/>
                  </a:lnTo>
                  <a:lnTo>
                    <a:pt x="254" y="1408"/>
                  </a:lnTo>
                  <a:lnTo>
                    <a:pt x="254" y="1413"/>
                  </a:lnTo>
                  <a:lnTo>
                    <a:pt x="249" y="1413"/>
                  </a:lnTo>
                  <a:lnTo>
                    <a:pt x="249" y="1419"/>
                  </a:lnTo>
                  <a:lnTo>
                    <a:pt x="245" y="1419"/>
                  </a:lnTo>
                  <a:lnTo>
                    <a:pt x="245" y="1425"/>
                  </a:lnTo>
                  <a:lnTo>
                    <a:pt x="230" y="1425"/>
                  </a:lnTo>
                  <a:lnTo>
                    <a:pt x="230" y="1431"/>
                  </a:lnTo>
                  <a:lnTo>
                    <a:pt x="226" y="1431"/>
                  </a:lnTo>
                  <a:lnTo>
                    <a:pt x="226" y="1436"/>
                  </a:lnTo>
                  <a:lnTo>
                    <a:pt x="216" y="1436"/>
                  </a:lnTo>
                  <a:lnTo>
                    <a:pt x="216" y="1442"/>
                  </a:lnTo>
                  <a:lnTo>
                    <a:pt x="205" y="1442"/>
                  </a:lnTo>
                  <a:lnTo>
                    <a:pt x="205" y="1449"/>
                  </a:lnTo>
                  <a:lnTo>
                    <a:pt x="201" y="1449"/>
                  </a:lnTo>
                  <a:lnTo>
                    <a:pt x="201" y="1455"/>
                  </a:lnTo>
                  <a:lnTo>
                    <a:pt x="191" y="1455"/>
                  </a:lnTo>
                  <a:lnTo>
                    <a:pt x="191" y="1460"/>
                  </a:lnTo>
                  <a:lnTo>
                    <a:pt x="182" y="1460"/>
                  </a:lnTo>
                  <a:lnTo>
                    <a:pt x="182" y="1466"/>
                  </a:lnTo>
                  <a:lnTo>
                    <a:pt x="177" y="1466"/>
                  </a:lnTo>
                  <a:lnTo>
                    <a:pt x="177" y="1472"/>
                  </a:lnTo>
                  <a:lnTo>
                    <a:pt x="172" y="1472"/>
                  </a:lnTo>
                  <a:lnTo>
                    <a:pt x="172" y="1477"/>
                  </a:lnTo>
                  <a:lnTo>
                    <a:pt x="168" y="1477"/>
                  </a:lnTo>
                  <a:lnTo>
                    <a:pt x="168" y="1485"/>
                  </a:lnTo>
                  <a:lnTo>
                    <a:pt x="163" y="1485"/>
                  </a:lnTo>
                  <a:lnTo>
                    <a:pt x="163" y="1490"/>
                  </a:lnTo>
                  <a:lnTo>
                    <a:pt x="149" y="1490"/>
                  </a:lnTo>
                  <a:lnTo>
                    <a:pt x="149" y="1496"/>
                  </a:lnTo>
                  <a:lnTo>
                    <a:pt x="144" y="1496"/>
                  </a:lnTo>
                  <a:lnTo>
                    <a:pt x="144" y="1501"/>
                  </a:lnTo>
                  <a:lnTo>
                    <a:pt x="129" y="1501"/>
                  </a:lnTo>
                  <a:lnTo>
                    <a:pt x="129" y="1509"/>
                  </a:lnTo>
                  <a:lnTo>
                    <a:pt x="124" y="1509"/>
                  </a:lnTo>
                  <a:lnTo>
                    <a:pt x="124" y="1514"/>
                  </a:lnTo>
                  <a:lnTo>
                    <a:pt x="115" y="1514"/>
                  </a:lnTo>
                  <a:lnTo>
                    <a:pt x="115" y="1519"/>
                  </a:lnTo>
                  <a:lnTo>
                    <a:pt x="109" y="1519"/>
                  </a:lnTo>
                  <a:lnTo>
                    <a:pt x="109" y="1526"/>
                  </a:lnTo>
                  <a:lnTo>
                    <a:pt x="105" y="1526"/>
                  </a:lnTo>
                  <a:lnTo>
                    <a:pt x="105" y="1531"/>
                  </a:lnTo>
                  <a:lnTo>
                    <a:pt x="95" y="1531"/>
                  </a:lnTo>
                  <a:lnTo>
                    <a:pt x="95" y="1537"/>
                  </a:lnTo>
                  <a:lnTo>
                    <a:pt x="86" y="1537"/>
                  </a:lnTo>
                  <a:lnTo>
                    <a:pt x="86" y="1544"/>
                  </a:lnTo>
                  <a:lnTo>
                    <a:pt x="82" y="1544"/>
                  </a:lnTo>
                  <a:lnTo>
                    <a:pt x="82" y="1550"/>
                  </a:lnTo>
                  <a:lnTo>
                    <a:pt x="72" y="1550"/>
                  </a:lnTo>
                  <a:lnTo>
                    <a:pt x="72" y="1555"/>
                  </a:lnTo>
                  <a:lnTo>
                    <a:pt x="61" y="1555"/>
                  </a:lnTo>
                  <a:lnTo>
                    <a:pt x="61" y="1561"/>
                  </a:lnTo>
                  <a:lnTo>
                    <a:pt x="52" y="1561"/>
                  </a:lnTo>
                  <a:lnTo>
                    <a:pt x="52" y="1567"/>
                  </a:lnTo>
                  <a:lnTo>
                    <a:pt x="47" y="1567"/>
                  </a:lnTo>
                  <a:lnTo>
                    <a:pt x="47" y="1572"/>
                  </a:lnTo>
                  <a:lnTo>
                    <a:pt x="43" y="1572"/>
                  </a:lnTo>
                  <a:lnTo>
                    <a:pt x="43" y="1577"/>
                  </a:lnTo>
                  <a:lnTo>
                    <a:pt x="33" y="1577"/>
                  </a:lnTo>
                  <a:lnTo>
                    <a:pt x="33" y="1572"/>
                  </a:lnTo>
                  <a:lnTo>
                    <a:pt x="28" y="1572"/>
                  </a:lnTo>
                  <a:lnTo>
                    <a:pt x="28" y="1567"/>
                  </a:lnTo>
                  <a:lnTo>
                    <a:pt x="10" y="1567"/>
                  </a:lnTo>
                  <a:lnTo>
                    <a:pt x="10" y="1561"/>
                  </a:lnTo>
                  <a:lnTo>
                    <a:pt x="5" y="1561"/>
                  </a:lnTo>
                  <a:lnTo>
                    <a:pt x="5" y="1555"/>
                  </a:lnTo>
                  <a:lnTo>
                    <a:pt x="0" y="1555"/>
                  </a:lnTo>
                  <a:lnTo>
                    <a:pt x="0" y="152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03680" y="961920"/>
              <a:ext cx="1096920" cy="1479600"/>
            </a:xfrm>
            <a:custGeom>
              <a:avLst/>
              <a:gdLst/>
              <a:ahLst/>
              <a:rect l="l" t="t" r="r" b="b"/>
              <a:pathLst>
                <a:path w="2074" h="3725">
                  <a:moveTo>
                    <a:pt x="0" y="3630"/>
                  </a:moveTo>
                  <a:lnTo>
                    <a:pt x="5" y="3630"/>
                  </a:lnTo>
                  <a:lnTo>
                    <a:pt x="5" y="3594"/>
                  </a:lnTo>
                  <a:lnTo>
                    <a:pt x="9" y="3594"/>
                  </a:lnTo>
                  <a:lnTo>
                    <a:pt x="9" y="3577"/>
                  </a:lnTo>
                  <a:lnTo>
                    <a:pt x="14" y="3577"/>
                  </a:lnTo>
                  <a:lnTo>
                    <a:pt x="14" y="3559"/>
                  </a:lnTo>
                  <a:lnTo>
                    <a:pt x="19" y="3559"/>
                  </a:lnTo>
                  <a:lnTo>
                    <a:pt x="19" y="3542"/>
                  </a:lnTo>
                  <a:lnTo>
                    <a:pt x="23" y="3542"/>
                  </a:lnTo>
                  <a:lnTo>
                    <a:pt x="23" y="3518"/>
                  </a:lnTo>
                  <a:lnTo>
                    <a:pt x="28" y="3518"/>
                  </a:lnTo>
                  <a:lnTo>
                    <a:pt x="28" y="3501"/>
                  </a:lnTo>
                  <a:lnTo>
                    <a:pt x="33" y="3501"/>
                  </a:lnTo>
                  <a:lnTo>
                    <a:pt x="33" y="3483"/>
                  </a:lnTo>
                  <a:lnTo>
                    <a:pt x="38" y="3483"/>
                  </a:lnTo>
                  <a:lnTo>
                    <a:pt x="38" y="3458"/>
                  </a:lnTo>
                  <a:lnTo>
                    <a:pt x="42" y="3458"/>
                  </a:lnTo>
                  <a:lnTo>
                    <a:pt x="42" y="3434"/>
                  </a:lnTo>
                  <a:lnTo>
                    <a:pt x="47" y="3434"/>
                  </a:lnTo>
                  <a:lnTo>
                    <a:pt x="47" y="3417"/>
                  </a:lnTo>
                  <a:lnTo>
                    <a:pt x="52" y="3417"/>
                  </a:lnTo>
                  <a:lnTo>
                    <a:pt x="52" y="3406"/>
                  </a:lnTo>
                  <a:lnTo>
                    <a:pt x="56" y="3406"/>
                  </a:lnTo>
                  <a:lnTo>
                    <a:pt x="56" y="3399"/>
                  </a:lnTo>
                  <a:lnTo>
                    <a:pt x="63" y="3399"/>
                  </a:lnTo>
                  <a:lnTo>
                    <a:pt x="63" y="3382"/>
                  </a:lnTo>
                  <a:lnTo>
                    <a:pt x="67" y="3382"/>
                  </a:lnTo>
                  <a:lnTo>
                    <a:pt x="67" y="3365"/>
                  </a:lnTo>
                  <a:lnTo>
                    <a:pt x="72" y="3365"/>
                  </a:lnTo>
                  <a:lnTo>
                    <a:pt x="72" y="3347"/>
                  </a:lnTo>
                  <a:lnTo>
                    <a:pt x="77" y="3347"/>
                  </a:lnTo>
                  <a:lnTo>
                    <a:pt x="77" y="3341"/>
                  </a:lnTo>
                  <a:lnTo>
                    <a:pt x="81" y="3341"/>
                  </a:lnTo>
                  <a:lnTo>
                    <a:pt x="81" y="3328"/>
                  </a:lnTo>
                  <a:lnTo>
                    <a:pt x="86" y="3328"/>
                  </a:lnTo>
                  <a:lnTo>
                    <a:pt x="86" y="3306"/>
                  </a:lnTo>
                  <a:lnTo>
                    <a:pt x="90" y="3306"/>
                  </a:lnTo>
                  <a:lnTo>
                    <a:pt x="90" y="3293"/>
                  </a:lnTo>
                  <a:lnTo>
                    <a:pt x="96" y="3293"/>
                  </a:lnTo>
                  <a:lnTo>
                    <a:pt x="96" y="3287"/>
                  </a:lnTo>
                  <a:lnTo>
                    <a:pt x="100" y="3287"/>
                  </a:lnTo>
                  <a:lnTo>
                    <a:pt x="100" y="3270"/>
                  </a:lnTo>
                  <a:lnTo>
                    <a:pt x="104" y="3270"/>
                  </a:lnTo>
                  <a:lnTo>
                    <a:pt x="104" y="3252"/>
                  </a:lnTo>
                  <a:lnTo>
                    <a:pt x="110" y="3252"/>
                  </a:lnTo>
                  <a:lnTo>
                    <a:pt x="110" y="3233"/>
                  </a:lnTo>
                  <a:lnTo>
                    <a:pt x="114" y="3233"/>
                  </a:lnTo>
                  <a:lnTo>
                    <a:pt x="114" y="3216"/>
                  </a:lnTo>
                  <a:lnTo>
                    <a:pt x="119" y="3216"/>
                  </a:lnTo>
                  <a:lnTo>
                    <a:pt x="119" y="3192"/>
                  </a:lnTo>
                  <a:lnTo>
                    <a:pt x="124" y="3192"/>
                  </a:lnTo>
                  <a:lnTo>
                    <a:pt x="124" y="3175"/>
                  </a:lnTo>
                  <a:lnTo>
                    <a:pt x="129" y="3175"/>
                  </a:lnTo>
                  <a:lnTo>
                    <a:pt x="129" y="3162"/>
                  </a:lnTo>
                  <a:lnTo>
                    <a:pt x="134" y="3162"/>
                  </a:lnTo>
                  <a:lnTo>
                    <a:pt x="134" y="3151"/>
                  </a:lnTo>
                  <a:lnTo>
                    <a:pt x="139" y="3151"/>
                  </a:lnTo>
                  <a:lnTo>
                    <a:pt x="139" y="3134"/>
                  </a:lnTo>
                  <a:lnTo>
                    <a:pt x="144" y="3134"/>
                  </a:lnTo>
                  <a:lnTo>
                    <a:pt x="144" y="3121"/>
                  </a:lnTo>
                  <a:lnTo>
                    <a:pt x="148" y="3121"/>
                  </a:lnTo>
                  <a:lnTo>
                    <a:pt x="148" y="3104"/>
                  </a:lnTo>
                  <a:lnTo>
                    <a:pt x="153" y="3104"/>
                  </a:lnTo>
                  <a:lnTo>
                    <a:pt x="153" y="3074"/>
                  </a:lnTo>
                  <a:lnTo>
                    <a:pt x="158" y="3074"/>
                  </a:lnTo>
                  <a:lnTo>
                    <a:pt x="158" y="3056"/>
                  </a:lnTo>
                  <a:lnTo>
                    <a:pt x="163" y="3056"/>
                  </a:lnTo>
                  <a:lnTo>
                    <a:pt x="163" y="3039"/>
                  </a:lnTo>
                  <a:lnTo>
                    <a:pt x="167" y="3039"/>
                  </a:lnTo>
                  <a:lnTo>
                    <a:pt x="167" y="3020"/>
                  </a:lnTo>
                  <a:lnTo>
                    <a:pt x="172" y="3020"/>
                  </a:lnTo>
                  <a:lnTo>
                    <a:pt x="172" y="3003"/>
                  </a:lnTo>
                  <a:lnTo>
                    <a:pt x="177" y="3003"/>
                  </a:lnTo>
                  <a:lnTo>
                    <a:pt x="177" y="2974"/>
                  </a:lnTo>
                  <a:lnTo>
                    <a:pt x="181" y="2974"/>
                  </a:lnTo>
                  <a:lnTo>
                    <a:pt x="181" y="2956"/>
                  </a:lnTo>
                  <a:lnTo>
                    <a:pt x="186" y="2956"/>
                  </a:lnTo>
                  <a:lnTo>
                    <a:pt x="186" y="2939"/>
                  </a:lnTo>
                  <a:lnTo>
                    <a:pt x="191" y="2939"/>
                  </a:lnTo>
                  <a:lnTo>
                    <a:pt x="191" y="2933"/>
                  </a:lnTo>
                  <a:lnTo>
                    <a:pt x="196" y="2933"/>
                  </a:lnTo>
                  <a:lnTo>
                    <a:pt x="196" y="2915"/>
                  </a:lnTo>
                  <a:lnTo>
                    <a:pt x="200" y="2915"/>
                  </a:lnTo>
                  <a:lnTo>
                    <a:pt x="200" y="2909"/>
                  </a:lnTo>
                  <a:lnTo>
                    <a:pt x="207" y="2909"/>
                  </a:lnTo>
                  <a:lnTo>
                    <a:pt x="207" y="2898"/>
                  </a:lnTo>
                  <a:lnTo>
                    <a:pt x="211" y="2898"/>
                  </a:lnTo>
                  <a:lnTo>
                    <a:pt x="211" y="2879"/>
                  </a:lnTo>
                  <a:lnTo>
                    <a:pt x="216" y="2879"/>
                  </a:lnTo>
                  <a:lnTo>
                    <a:pt x="216" y="2868"/>
                  </a:lnTo>
                  <a:lnTo>
                    <a:pt x="221" y="2868"/>
                  </a:lnTo>
                  <a:lnTo>
                    <a:pt x="221" y="2844"/>
                  </a:lnTo>
                  <a:lnTo>
                    <a:pt x="225" y="2844"/>
                  </a:lnTo>
                  <a:lnTo>
                    <a:pt x="225" y="2838"/>
                  </a:lnTo>
                  <a:lnTo>
                    <a:pt x="230" y="2838"/>
                  </a:lnTo>
                  <a:lnTo>
                    <a:pt x="230" y="2820"/>
                  </a:lnTo>
                  <a:lnTo>
                    <a:pt x="234" y="2820"/>
                  </a:lnTo>
                  <a:lnTo>
                    <a:pt x="234" y="2808"/>
                  </a:lnTo>
                  <a:lnTo>
                    <a:pt x="240" y="2808"/>
                  </a:lnTo>
                  <a:lnTo>
                    <a:pt x="240" y="2792"/>
                  </a:lnTo>
                  <a:lnTo>
                    <a:pt x="244" y="2792"/>
                  </a:lnTo>
                  <a:lnTo>
                    <a:pt x="244" y="2784"/>
                  </a:lnTo>
                  <a:lnTo>
                    <a:pt x="249" y="2784"/>
                  </a:lnTo>
                  <a:lnTo>
                    <a:pt x="249" y="2773"/>
                  </a:lnTo>
                  <a:lnTo>
                    <a:pt x="254" y="2773"/>
                  </a:lnTo>
                  <a:lnTo>
                    <a:pt x="254" y="2761"/>
                  </a:lnTo>
                  <a:lnTo>
                    <a:pt x="259" y="2761"/>
                  </a:lnTo>
                  <a:lnTo>
                    <a:pt x="259" y="2743"/>
                  </a:lnTo>
                  <a:lnTo>
                    <a:pt x="263" y="2743"/>
                  </a:lnTo>
                  <a:lnTo>
                    <a:pt x="263" y="2726"/>
                  </a:lnTo>
                  <a:lnTo>
                    <a:pt x="268" y="2726"/>
                  </a:lnTo>
                  <a:lnTo>
                    <a:pt x="268" y="2719"/>
                  </a:lnTo>
                  <a:lnTo>
                    <a:pt x="273" y="2719"/>
                  </a:lnTo>
                  <a:lnTo>
                    <a:pt x="273" y="2702"/>
                  </a:lnTo>
                  <a:lnTo>
                    <a:pt x="278" y="2702"/>
                  </a:lnTo>
                  <a:lnTo>
                    <a:pt x="278" y="2689"/>
                  </a:lnTo>
                  <a:lnTo>
                    <a:pt x="283" y="2689"/>
                  </a:lnTo>
                  <a:lnTo>
                    <a:pt x="283" y="2673"/>
                  </a:lnTo>
                  <a:lnTo>
                    <a:pt x="288" y="2673"/>
                  </a:lnTo>
                  <a:lnTo>
                    <a:pt x="288" y="2661"/>
                  </a:lnTo>
                  <a:lnTo>
                    <a:pt x="293" y="2661"/>
                  </a:lnTo>
                  <a:lnTo>
                    <a:pt x="293" y="2648"/>
                  </a:lnTo>
                  <a:lnTo>
                    <a:pt x="297" y="2648"/>
                  </a:lnTo>
                  <a:lnTo>
                    <a:pt x="297" y="2631"/>
                  </a:lnTo>
                  <a:lnTo>
                    <a:pt x="303" y="2631"/>
                  </a:lnTo>
                  <a:lnTo>
                    <a:pt x="303" y="2613"/>
                  </a:lnTo>
                  <a:lnTo>
                    <a:pt x="307" y="2613"/>
                  </a:lnTo>
                  <a:lnTo>
                    <a:pt x="307" y="2596"/>
                  </a:lnTo>
                  <a:lnTo>
                    <a:pt x="311" y="2596"/>
                  </a:lnTo>
                  <a:lnTo>
                    <a:pt x="311" y="2572"/>
                  </a:lnTo>
                  <a:lnTo>
                    <a:pt x="317" y="2572"/>
                  </a:lnTo>
                  <a:lnTo>
                    <a:pt x="317" y="2555"/>
                  </a:lnTo>
                  <a:lnTo>
                    <a:pt x="321" y="2555"/>
                  </a:lnTo>
                  <a:lnTo>
                    <a:pt x="321" y="2542"/>
                  </a:lnTo>
                  <a:lnTo>
                    <a:pt x="326" y="2542"/>
                  </a:lnTo>
                  <a:lnTo>
                    <a:pt x="326" y="2537"/>
                  </a:lnTo>
                  <a:lnTo>
                    <a:pt x="330" y="2537"/>
                  </a:lnTo>
                  <a:lnTo>
                    <a:pt x="330" y="2530"/>
                  </a:lnTo>
                  <a:lnTo>
                    <a:pt x="336" y="2530"/>
                  </a:lnTo>
                  <a:lnTo>
                    <a:pt x="336" y="2525"/>
                  </a:lnTo>
                  <a:lnTo>
                    <a:pt x="340" y="2525"/>
                  </a:lnTo>
                  <a:lnTo>
                    <a:pt x="340" y="2512"/>
                  </a:lnTo>
                  <a:lnTo>
                    <a:pt x="351" y="2512"/>
                  </a:lnTo>
                  <a:lnTo>
                    <a:pt x="351" y="2496"/>
                  </a:lnTo>
                  <a:lnTo>
                    <a:pt x="355" y="2496"/>
                  </a:lnTo>
                  <a:lnTo>
                    <a:pt x="355" y="2484"/>
                  </a:lnTo>
                  <a:lnTo>
                    <a:pt x="360" y="2484"/>
                  </a:lnTo>
                  <a:lnTo>
                    <a:pt x="360" y="2471"/>
                  </a:lnTo>
                  <a:lnTo>
                    <a:pt x="365" y="2471"/>
                  </a:lnTo>
                  <a:lnTo>
                    <a:pt x="365" y="2460"/>
                  </a:lnTo>
                  <a:lnTo>
                    <a:pt x="370" y="2460"/>
                  </a:lnTo>
                  <a:lnTo>
                    <a:pt x="370" y="2447"/>
                  </a:lnTo>
                  <a:lnTo>
                    <a:pt x="374" y="2447"/>
                  </a:lnTo>
                  <a:lnTo>
                    <a:pt x="374" y="2436"/>
                  </a:lnTo>
                  <a:lnTo>
                    <a:pt x="379" y="2436"/>
                  </a:lnTo>
                  <a:lnTo>
                    <a:pt x="379" y="2430"/>
                  </a:lnTo>
                  <a:lnTo>
                    <a:pt x="384" y="2430"/>
                  </a:lnTo>
                  <a:lnTo>
                    <a:pt x="384" y="2419"/>
                  </a:lnTo>
                  <a:lnTo>
                    <a:pt x="388" y="2419"/>
                  </a:lnTo>
                  <a:lnTo>
                    <a:pt x="388" y="2401"/>
                  </a:lnTo>
                  <a:lnTo>
                    <a:pt x="393" y="2401"/>
                  </a:lnTo>
                  <a:lnTo>
                    <a:pt x="393" y="2389"/>
                  </a:lnTo>
                  <a:lnTo>
                    <a:pt x="398" y="2389"/>
                  </a:lnTo>
                  <a:lnTo>
                    <a:pt x="398" y="2382"/>
                  </a:lnTo>
                  <a:lnTo>
                    <a:pt x="403" y="2382"/>
                  </a:lnTo>
                  <a:lnTo>
                    <a:pt x="403" y="2365"/>
                  </a:lnTo>
                  <a:lnTo>
                    <a:pt x="407" y="2365"/>
                  </a:lnTo>
                  <a:lnTo>
                    <a:pt x="407" y="2353"/>
                  </a:lnTo>
                  <a:lnTo>
                    <a:pt x="412" y="2353"/>
                  </a:lnTo>
                  <a:lnTo>
                    <a:pt x="412" y="2341"/>
                  </a:lnTo>
                  <a:lnTo>
                    <a:pt x="417" y="2341"/>
                  </a:lnTo>
                  <a:lnTo>
                    <a:pt x="417" y="2324"/>
                  </a:lnTo>
                  <a:lnTo>
                    <a:pt x="423" y="2324"/>
                  </a:lnTo>
                  <a:lnTo>
                    <a:pt x="423" y="2319"/>
                  </a:lnTo>
                  <a:lnTo>
                    <a:pt x="427" y="2319"/>
                  </a:lnTo>
                  <a:lnTo>
                    <a:pt x="427" y="2306"/>
                  </a:lnTo>
                  <a:lnTo>
                    <a:pt x="432" y="2306"/>
                  </a:lnTo>
                  <a:lnTo>
                    <a:pt x="432" y="2294"/>
                  </a:lnTo>
                  <a:lnTo>
                    <a:pt x="437" y="2294"/>
                  </a:lnTo>
                  <a:lnTo>
                    <a:pt x="437" y="2283"/>
                  </a:lnTo>
                  <a:lnTo>
                    <a:pt x="441" y="2283"/>
                  </a:lnTo>
                  <a:lnTo>
                    <a:pt x="441" y="2276"/>
                  </a:lnTo>
                  <a:lnTo>
                    <a:pt x="446" y="2276"/>
                  </a:lnTo>
                  <a:lnTo>
                    <a:pt x="446" y="2265"/>
                  </a:lnTo>
                  <a:lnTo>
                    <a:pt x="451" y="2265"/>
                  </a:lnTo>
                  <a:lnTo>
                    <a:pt x="451" y="2253"/>
                  </a:lnTo>
                  <a:lnTo>
                    <a:pt x="455" y="2253"/>
                  </a:lnTo>
                  <a:lnTo>
                    <a:pt x="455" y="2241"/>
                  </a:lnTo>
                  <a:lnTo>
                    <a:pt x="461" y="2241"/>
                  </a:lnTo>
                  <a:lnTo>
                    <a:pt x="461" y="2229"/>
                  </a:lnTo>
                  <a:lnTo>
                    <a:pt x="465" y="2229"/>
                  </a:lnTo>
                  <a:lnTo>
                    <a:pt x="465" y="2211"/>
                  </a:lnTo>
                  <a:lnTo>
                    <a:pt x="470" y="2211"/>
                  </a:lnTo>
                  <a:lnTo>
                    <a:pt x="470" y="2205"/>
                  </a:lnTo>
                  <a:lnTo>
                    <a:pt x="474" y="2205"/>
                  </a:lnTo>
                  <a:lnTo>
                    <a:pt x="474" y="2193"/>
                  </a:lnTo>
                  <a:lnTo>
                    <a:pt x="479" y="2193"/>
                  </a:lnTo>
                  <a:lnTo>
                    <a:pt x="479" y="2182"/>
                  </a:lnTo>
                  <a:lnTo>
                    <a:pt x="484" y="2182"/>
                  </a:lnTo>
                  <a:lnTo>
                    <a:pt x="484" y="2175"/>
                  </a:lnTo>
                  <a:lnTo>
                    <a:pt x="488" y="2175"/>
                  </a:lnTo>
                  <a:lnTo>
                    <a:pt x="488" y="2164"/>
                  </a:lnTo>
                  <a:lnTo>
                    <a:pt x="495" y="2164"/>
                  </a:lnTo>
                  <a:lnTo>
                    <a:pt x="495" y="2147"/>
                  </a:lnTo>
                  <a:lnTo>
                    <a:pt x="499" y="2147"/>
                  </a:lnTo>
                  <a:lnTo>
                    <a:pt x="499" y="2140"/>
                  </a:lnTo>
                  <a:lnTo>
                    <a:pt x="504" y="2140"/>
                  </a:lnTo>
                  <a:lnTo>
                    <a:pt x="504" y="2128"/>
                  </a:lnTo>
                  <a:lnTo>
                    <a:pt x="509" y="2128"/>
                  </a:lnTo>
                  <a:lnTo>
                    <a:pt x="509" y="2117"/>
                  </a:lnTo>
                  <a:lnTo>
                    <a:pt x="514" y="2117"/>
                  </a:lnTo>
                  <a:lnTo>
                    <a:pt x="514" y="2105"/>
                  </a:lnTo>
                  <a:lnTo>
                    <a:pt x="518" y="2105"/>
                  </a:lnTo>
                  <a:lnTo>
                    <a:pt x="518" y="2093"/>
                  </a:lnTo>
                  <a:lnTo>
                    <a:pt x="523" y="2093"/>
                  </a:lnTo>
                  <a:lnTo>
                    <a:pt x="523" y="2075"/>
                  </a:lnTo>
                  <a:lnTo>
                    <a:pt x="528" y="2075"/>
                  </a:lnTo>
                  <a:lnTo>
                    <a:pt x="528" y="2064"/>
                  </a:lnTo>
                  <a:lnTo>
                    <a:pt x="532" y="2064"/>
                  </a:lnTo>
                  <a:lnTo>
                    <a:pt x="532" y="2058"/>
                  </a:lnTo>
                  <a:lnTo>
                    <a:pt x="537" y="2058"/>
                  </a:lnTo>
                  <a:lnTo>
                    <a:pt x="537" y="2047"/>
                  </a:lnTo>
                  <a:lnTo>
                    <a:pt x="542" y="2047"/>
                  </a:lnTo>
                  <a:lnTo>
                    <a:pt x="542" y="2023"/>
                  </a:lnTo>
                  <a:lnTo>
                    <a:pt x="547" y="2023"/>
                  </a:lnTo>
                  <a:lnTo>
                    <a:pt x="547" y="2016"/>
                  </a:lnTo>
                  <a:lnTo>
                    <a:pt x="551" y="2016"/>
                  </a:lnTo>
                  <a:lnTo>
                    <a:pt x="551" y="2006"/>
                  </a:lnTo>
                  <a:lnTo>
                    <a:pt x="556" y="2006"/>
                  </a:lnTo>
                  <a:lnTo>
                    <a:pt x="556" y="1993"/>
                  </a:lnTo>
                  <a:lnTo>
                    <a:pt x="561" y="1993"/>
                  </a:lnTo>
                  <a:lnTo>
                    <a:pt x="561" y="1981"/>
                  </a:lnTo>
                  <a:lnTo>
                    <a:pt x="566" y="1981"/>
                  </a:lnTo>
                  <a:lnTo>
                    <a:pt x="566" y="1964"/>
                  </a:lnTo>
                  <a:lnTo>
                    <a:pt x="571" y="1964"/>
                  </a:lnTo>
                  <a:lnTo>
                    <a:pt x="571" y="1946"/>
                  </a:lnTo>
                  <a:lnTo>
                    <a:pt x="576" y="1946"/>
                  </a:lnTo>
                  <a:lnTo>
                    <a:pt x="576" y="1933"/>
                  </a:lnTo>
                  <a:lnTo>
                    <a:pt x="581" y="1933"/>
                  </a:lnTo>
                  <a:lnTo>
                    <a:pt x="581" y="1922"/>
                  </a:lnTo>
                  <a:lnTo>
                    <a:pt x="585" y="1922"/>
                  </a:lnTo>
                  <a:lnTo>
                    <a:pt x="585" y="1911"/>
                  </a:lnTo>
                  <a:lnTo>
                    <a:pt x="591" y="1911"/>
                  </a:lnTo>
                  <a:lnTo>
                    <a:pt x="591" y="1905"/>
                  </a:lnTo>
                  <a:lnTo>
                    <a:pt x="595" y="1905"/>
                  </a:lnTo>
                  <a:lnTo>
                    <a:pt x="595" y="1887"/>
                  </a:lnTo>
                  <a:lnTo>
                    <a:pt x="600" y="1887"/>
                  </a:lnTo>
                  <a:lnTo>
                    <a:pt x="600" y="1868"/>
                  </a:lnTo>
                  <a:lnTo>
                    <a:pt x="605" y="1868"/>
                  </a:lnTo>
                  <a:lnTo>
                    <a:pt x="605" y="1862"/>
                  </a:lnTo>
                  <a:lnTo>
                    <a:pt x="609" y="1862"/>
                  </a:lnTo>
                  <a:lnTo>
                    <a:pt x="609" y="1851"/>
                  </a:lnTo>
                  <a:lnTo>
                    <a:pt x="614" y="1851"/>
                  </a:lnTo>
                  <a:lnTo>
                    <a:pt x="614" y="1838"/>
                  </a:lnTo>
                  <a:lnTo>
                    <a:pt x="618" y="1838"/>
                  </a:lnTo>
                  <a:lnTo>
                    <a:pt x="618" y="1821"/>
                  </a:lnTo>
                  <a:lnTo>
                    <a:pt x="624" y="1821"/>
                  </a:lnTo>
                  <a:lnTo>
                    <a:pt x="624" y="1810"/>
                  </a:lnTo>
                  <a:lnTo>
                    <a:pt x="628" y="1810"/>
                  </a:lnTo>
                  <a:lnTo>
                    <a:pt x="628" y="1803"/>
                  </a:lnTo>
                  <a:lnTo>
                    <a:pt x="633" y="1803"/>
                  </a:lnTo>
                  <a:lnTo>
                    <a:pt x="633" y="1780"/>
                  </a:lnTo>
                  <a:lnTo>
                    <a:pt x="639" y="1780"/>
                  </a:lnTo>
                  <a:lnTo>
                    <a:pt x="639" y="1769"/>
                  </a:lnTo>
                  <a:lnTo>
                    <a:pt x="644" y="1769"/>
                  </a:lnTo>
                  <a:lnTo>
                    <a:pt x="644" y="1756"/>
                  </a:lnTo>
                  <a:lnTo>
                    <a:pt x="648" y="1756"/>
                  </a:lnTo>
                  <a:lnTo>
                    <a:pt x="648" y="1739"/>
                  </a:lnTo>
                  <a:lnTo>
                    <a:pt x="653" y="1739"/>
                  </a:lnTo>
                  <a:lnTo>
                    <a:pt x="653" y="1732"/>
                  </a:lnTo>
                  <a:lnTo>
                    <a:pt x="658" y="1732"/>
                  </a:lnTo>
                  <a:lnTo>
                    <a:pt x="658" y="1720"/>
                  </a:lnTo>
                  <a:lnTo>
                    <a:pt x="662" y="1720"/>
                  </a:lnTo>
                  <a:lnTo>
                    <a:pt x="662" y="1710"/>
                  </a:lnTo>
                  <a:lnTo>
                    <a:pt x="667" y="1710"/>
                  </a:lnTo>
                  <a:lnTo>
                    <a:pt x="667" y="1702"/>
                  </a:lnTo>
                  <a:lnTo>
                    <a:pt x="672" y="1702"/>
                  </a:lnTo>
                  <a:lnTo>
                    <a:pt x="672" y="1697"/>
                  </a:lnTo>
                  <a:lnTo>
                    <a:pt x="677" y="1697"/>
                  </a:lnTo>
                  <a:lnTo>
                    <a:pt x="677" y="1685"/>
                  </a:lnTo>
                  <a:lnTo>
                    <a:pt x="681" y="1685"/>
                  </a:lnTo>
                  <a:lnTo>
                    <a:pt x="681" y="1674"/>
                  </a:lnTo>
                  <a:lnTo>
                    <a:pt x="687" y="1674"/>
                  </a:lnTo>
                  <a:lnTo>
                    <a:pt x="687" y="1669"/>
                  </a:lnTo>
                  <a:lnTo>
                    <a:pt x="691" y="1669"/>
                  </a:lnTo>
                  <a:lnTo>
                    <a:pt x="691" y="1650"/>
                  </a:lnTo>
                  <a:lnTo>
                    <a:pt x="695" y="1650"/>
                  </a:lnTo>
                  <a:lnTo>
                    <a:pt x="695" y="1626"/>
                  </a:lnTo>
                  <a:lnTo>
                    <a:pt x="701" y="1626"/>
                  </a:lnTo>
                  <a:lnTo>
                    <a:pt x="701" y="1609"/>
                  </a:lnTo>
                  <a:lnTo>
                    <a:pt x="705" y="1609"/>
                  </a:lnTo>
                  <a:lnTo>
                    <a:pt x="705" y="1596"/>
                  </a:lnTo>
                  <a:lnTo>
                    <a:pt x="711" y="1596"/>
                  </a:lnTo>
                  <a:lnTo>
                    <a:pt x="711" y="1585"/>
                  </a:lnTo>
                  <a:lnTo>
                    <a:pt x="715" y="1585"/>
                  </a:lnTo>
                  <a:lnTo>
                    <a:pt x="715" y="1574"/>
                  </a:lnTo>
                  <a:lnTo>
                    <a:pt x="721" y="1574"/>
                  </a:lnTo>
                  <a:lnTo>
                    <a:pt x="721" y="1561"/>
                  </a:lnTo>
                  <a:lnTo>
                    <a:pt x="725" y="1561"/>
                  </a:lnTo>
                  <a:lnTo>
                    <a:pt x="725" y="1550"/>
                  </a:lnTo>
                  <a:lnTo>
                    <a:pt x="729" y="1550"/>
                  </a:lnTo>
                  <a:lnTo>
                    <a:pt x="729" y="1538"/>
                  </a:lnTo>
                  <a:lnTo>
                    <a:pt x="735" y="1538"/>
                  </a:lnTo>
                  <a:lnTo>
                    <a:pt x="735" y="1525"/>
                  </a:lnTo>
                  <a:lnTo>
                    <a:pt x="739" y="1525"/>
                  </a:lnTo>
                  <a:lnTo>
                    <a:pt x="739" y="1514"/>
                  </a:lnTo>
                  <a:lnTo>
                    <a:pt x="744" y="1514"/>
                  </a:lnTo>
                  <a:lnTo>
                    <a:pt x="744" y="1508"/>
                  </a:lnTo>
                  <a:lnTo>
                    <a:pt x="749" y="1508"/>
                  </a:lnTo>
                  <a:lnTo>
                    <a:pt x="749" y="1496"/>
                  </a:lnTo>
                  <a:lnTo>
                    <a:pt x="754" y="1496"/>
                  </a:lnTo>
                  <a:lnTo>
                    <a:pt x="754" y="1491"/>
                  </a:lnTo>
                  <a:lnTo>
                    <a:pt x="758" y="1491"/>
                  </a:lnTo>
                  <a:lnTo>
                    <a:pt x="758" y="1479"/>
                  </a:lnTo>
                  <a:lnTo>
                    <a:pt x="763" y="1479"/>
                  </a:lnTo>
                  <a:lnTo>
                    <a:pt x="763" y="1473"/>
                  </a:lnTo>
                  <a:lnTo>
                    <a:pt x="768" y="1473"/>
                  </a:lnTo>
                  <a:lnTo>
                    <a:pt x="768" y="1467"/>
                  </a:lnTo>
                  <a:lnTo>
                    <a:pt x="772" y="1467"/>
                  </a:lnTo>
                  <a:lnTo>
                    <a:pt x="772" y="1455"/>
                  </a:lnTo>
                  <a:lnTo>
                    <a:pt x="777" y="1455"/>
                  </a:lnTo>
                  <a:lnTo>
                    <a:pt x="777" y="1443"/>
                  </a:lnTo>
                  <a:lnTo>
                    <a:pt x="783" y="1443"/>
                  </a:lnTo>
                  <a:lnTo>
                    <a:pt x="783" y="1432"/>
                  </a:lnTo>
                  <a:lnTo>
                    <a:pt x="787" y="1432"/>
                  </a:lnTo>
                  <a:lnTo>
                    <a:pt x="787" y="1419"/>
                  </a:lnTo>
                  <a:lnTo>
                    <a:pt x="792" y="1419"/>
                  </a:lnTo>
                  <a:lnTo>
                    <a:pt x="792" y="1407"/>
                  </a:lnTo>
                  <a:lnTo>
                    <a:pt x="797" y="1407"/>
                  </a:lnTo>
                  <a:lnTo>
                    <a:pt x="797" y="1395"/>
                  </a:lnTo>
                  <a:lnTo>
                    <a:pt x="802" y="1395"/>
                  </a:lnTo>
                  <a:lnTo>
                    <a:pt x="802" y="1389"/>
                  </a:lnTo>
                  <a:lnTo>
                    <a:pt x="806" y="1389"/>
                  </a:lnTo>
                  <a:lnTo>
                    <a:pt x="806" y="1384"/>
                  </a:lnTo>
                  <a:lnTo>
                    <a:pt x="811" y="1384"/>
                  </a:lnTo>
                  <a:lnTo>
                    <a:pt x="811" y="1378"/>
                  </a:lnTo>
                  <a:lnTo>
                    <a:pt x="816" y="1378"/>
                  </a:lnTo>
                  <a:lnTo>
                    <a:pt x="816" y="1373"/>
                  </a:lnTo>
                  <a:lnTo>
                    <a:pt x="820" y="1373"/>
                  </a:lnTo>
                  <a:lnTo>
                    <a:pt x="820" y="1365"/>
                  </a:lnTo>
                  <a:lnTo>
                    <a:pt x="825" y="1365"/>
                  </a:lnTo>
                  <a:lnTo>
                    <a:pt x="825" y="1360"/>
                  </a:lnTo>
                  <a:lnTo>
                    <a:pt x="830" y="1360"/>
                  </a:lnTo>
                  <a:lnTo>
                    <a:pt x="830" y="1348"/>
                  </a:lnTo>
                  <a:lnTo>
                    <a:pt x="835" y="1348"/>
                  </a:lnTo>
                  <a:lnTo>
                    <a:pt x="835" y="1342"/>
                  </a:lnTo>
                  <a:lnTo>
                    <a:pt x="839" y="1342"/>
                  </a:lnTo>
                  <a:lnTo>
                    <a:pt x="839" y="1331"/>
                  </a:lnTo>
                  <a:lnTo>
                    <a:pt x="845" y="1331"/>
                  </a:lnTo>
                  <a:lnTo>
                    <a:pt x="845" y="1324"/>
                  </a:lnTo>
                  <a:lnTo>
                    <a:pt x="849" y="1324"/>
                  </a:lnTo>
                  <a:lnTo>
                    <a:pt x="849" y="1319"/>
                  </a:lnTo>
                  <a:lnTo>
                    <a:pt x="854" y="1319"/>
                  </a:lnTo>
                  <a:lnTo>
                    <a:pt x="854" y="1307"/>
                  </a:lnTo>
                  <a:lnTo>
                    <a:pt x="859" y="1307"/>
                  </a:lnTo>
                  <a:lnTo>
                    <a:pt x="859" y="1289"/>
                  </a:lnTo>
                  <a:lnTo>
                    <a:pt x="864" y="1289"/>
                  </a:lnTo>
                  <a:lnTo>
                    <a:pt x="864" y="1283"/>
                  </a:lnTo>
                  <a:lnTo>
                    <a:pt x="869" y="1283"/>
                  </a:lnTo>
                  <a:lnTo>
                    <a:pt x="869" y="1278"/>
                  </a:lnTo>
                  <a:lnTo>
                    <a:pt x="873" y="1278"/>
                  </a:lnTo>
                  <a:lnTo>
                    <a:pt x="873" y="1272"/>
                  </a:lnTo>
                  <a:lnTo>
                    <a:pt x="879" y="1272"/>
                  </a:lnTo>
                  <a:lnTo>
                    <a:pt x="879" y="1266"/>
                  </a:lnTo>
                  <a:lnTo>
                    <a:pt x="883" y="1266"/>
                  </a:lnTo>
                  <a:lnTo>
                    <a:pt x="883" y="1261"/>
                  </a:lnTo>
                  <a:lnTo>
                    <a:pt x="888" y="1261"/>
                  </a:lnTo>
                  <a:lnTo>
                    <a:pt x="888" y="1254"/>
                  </a:lnTo>
                  <a:lnTo>
                    <a:pt x="893" y="1254"/>
                  </a:lnTo>
                  <a:lnTo>
                    <a:pt x="893" y="1248"/>
                  </a:lnTo>
                  <a:lnTo>
                    <a:pt x="898" y="1248"/>
                  </a:lnTo>
                  <a:lnTo>
                    <a:pt x="898" y="1237"/>
                  </a:lnTo>
                  <a:lnTo>
                    <a:pt x="902" y="1237"/>
                  </a:lnTo>
                  <a:lnTo>
                    <a:pt x="902" y="1224"/>
                  </a:lnTo>
                  <a:lnTo>
                    <a:pt x="907" y="1224"/>
                  </a:lnTo>
                  <a:lnTo>
                    <a:pt x="907" y="1219"/>
                  </a:lnTo>
                  <a:lnTo>
                    <a:pt x="912" y="1219"/>
                  </a:lnTo>
                  <a:lnTo>
                    <a:pt x="912" y="1207"/>
                  </a:lnTo>
                  <a:lnTo>
                    <a:pt x="916" y="1207"/>
                  </a:lnTo>
                  <a:lnTo>
                    <a:pt x="916" y="1201"/>
                  </a:lnTo>
                  <a:lnTo>
                    <a:pt x="921" y="1201"/>
                  </a:lnTo>
                  <a:lnTo>
                    <a:pt x="921" y="1188"/>
                  </a:lnTo>
                  <a:lnTo>
                    <a:pt x="926" y="1188"/>
                  </a:lnTo>
                  <a:lnTo>
                    <a:pt x="926" y="1183"/>
                  </a:lnTo>
                  <a:lnTo>
                    <a:pt x="932" y="1183"/>
                  </a:lnTo>
                  <a:lnTo>
                    <a:pt x="932" y="1178"/>
                  </a:lnTo>
                  <a:lnTo>
                    <a:pt x="936" y="1178"/>
                  </a:lnTo>
                  <a:lnTo>
                    <a:pt x="936" y="1166"/>
                  </a:lnTo>
                  <a:lnTo>
                    <a:pt x="941" y="1166"/>
                  </a:lnTo>
                  <a:lnTo>
                    <a:pt x="941" y="1160"/>
                  </a:lnTo>
                  <a:lnTo>
                    <a:pt x="946" y="1160"/>
                  </a:lnTo>
                  <a:lnTo>
                    <a:pt x="946" y="1153"/>
                  </a:lnTo>
                  <a:lnTo>
                    <a:pt x="950" y="1153"/>
                  </a:lnTo>
                  <a:lnTo>
                    <a:pt x="950" y="1147"/>
                  </a:lnTo>
                  <a:lnTo>
                    <a:pt x="955" y="1147"/>
                  </a:lnTo>
                  <a:lnTo>
                    <a:pt x="955" y="1142"/>
                  </a:lnTo>
                  <a:lnTo>
                    <a:pt x="960" y="1142"/>
                  </a:lnTo>
                  <a:lnTo>
                    <a:pt x="960" y="1136"/>
                  </a:lnTo>
                  <a:lnTo>
                    <a:pt x="965" y="1136"/>
                  </a:lnTo>
                  <a:lnTo>
                    <a:pt x="965" y="1130"/>
                  </a:lnTo>
                  <a:lnTo>
                    <a:pt x="969" y="1130"/>
                  </a:lnTo>
                  <a:lnTo>
                    <a:pt x="969" y="1125"/>
                  </a:lnTo>
                  <a:lnTo>
                    <a:pt x="975" y="1125"/>
                  </a:lnTo>
                  <a:lnTo>
                    <a:pt x="975" y="1118"/>
                  </a:lnTo>
                  <a:lnTo>
                    <a:pt x="979" y="1118"/>
                  </a:lnTo>
                  <a:lnTo>
                    <a:pt x="979" y="1106"/>
                  </a:lnTo>
                  <a:lnTo>
                    <a:pt x="984" y="1106"/>
                  </a:lnTo>
                  <a:lnTo>
                    <a:pt x="984" y="1101"/>
                  </a:lnTo>
                  <a:lnTo>
                    <a:pt x="993" y="1101"/>
                  </a:lnTo>
                  <a:lnTo>
                    <a:pt x="993" y="1093"/>
                  </a:lnTo>
                  <a:lnTo>
                    <a:pt x="998" y="1093"/>
                  </a:lnTo>
                  <a:lnTo>
                    <a:pt x="998" y="1088"/>
                  </a:lnTo>
                  <a:lnTo>
                    <a:pt x="1003" y="1088"/>
                  </a:lnTo>
                  <a:lnTo>
                    <a:pt x="1003" y="1077"/>
                  </a:lnTo>
                  <a:lnTo>
                    <a:pt x="1009" y="1077"/>
                  </a:lnTo>
                  <a:lnTo>
                    <a:pt x="1009" y="1065"/>
                  </a:lnTo>
                  <a:lnTo>
                    <a:pt x="1013" y="1065"/>
                  </a:lnTo>
                  <a:lnTo>
                    <a:pt x="1013" y="1060"/>
                  </a:lnTo>
                  <a:lnTo>
                    <a:pt x="1023" y="1060"/>
                  </a:lnTo>
                  <a:lnTo>
                    <a:pt x="1023" y="1047"/>
                  </a:lnTo>
                  <a:lnTo>
                    <a:pt x="1027" y="1047"/>
                  </a:lnTo>
                  <a:lnTo>
                    <a:pt x="1027" y="1035"/>
                  </a:lnTo>
                  <a:lnTo>
                    <a:pt x="1032" y="1035"/>
                  </a:lnTo>
                  <a:lnTo>
                    <a:pt x="1032" y="1029"/>
                  </a:lnTo>
                  <a:lnTo>
                    <a:pt x="1037" y="1029"/>
                  </a:lnTo>
                  <a:lnTo>
                    <a:pt x="1037" y="1019"/>
                  </a:lnTo>
                  <a:lnTo>
                    <a:pt x="1046" y="1019"/>
                  </a:lnTo>
                  <a:lnTo>
                    <a:pt x="1046" y="1006"/>
                  </a:lnTo>
                  <a:lnTo>
                    <a:pt x="1051" y="1006"/>
                  </a:lnTo>
                  <a:lnTo>
                    <a:pt x="1051" y="1000"/>
                  </a:lnTo>
                  <a:lnTo>
                    <a:pt x="1056" y="1000"/>
                  </a:lnTo>
                  <a:lnTo>
                    <a:pt x="1056" y="987"/>
                  </a:lnTo>
                  <a:lnTo>
                    <a:pt x="1061" y="987"/>
                  </a:lnTo>
                  <a:lnTo>
                    <a:pt x="1061" y="982"/>
                  </a:lnTo>
                  <a:lnTo>
                    <a:pt x="1070" y="982"/>
                  </a:lnTo>
                  <a:lnTo>
                    <a:pt x="1070" y="970"/>
                  </a:lnTo>
                  <a:lnTo>
                    <a:pt x="1076" y="970"/>
                  </a:lnTo>
                  <a:lnTo>
                    <a:pt x="1076" y="965"/>
                  </a:lnTo>
                  <a:lnTo>
                    <a:pt x="1080" y="965"/>
                  </a:lnTo>
                  <a:lnTo>
                    <a:pt x="1080" y="952"/>
                  </a:lnTo>
                  <a:lnTo>
                    <a:pt x="1086" y="952"/>
                  </a:lnTo>
                  <a:lnTo>
                    <a:pt x="1086" y="941"/>
                  </a:lnTo>
                  <a:lnTo>
                    <a:pt x="1090" y="941"/>
                  </a:lnTo>
                  <a:lnTo>
                    <a:pt x="1090" y="934"/>
                  </a:lnTo>
                  <a:lnTo>
                    <a:pt x="1095" y="934"/>
                  </a:lnTo>
                  <a:lnTo>
                    <a:pt x="1095" y="924"/>
                  </a:lnTo>
                  <a:lnTo>
                    <a:pt x="1099" y="924"/>
                  </a:lnTo>
                  <a:lnTo>
                    <a:pt x="1099" y="916"/>
                  </a:lnTo>
                  <a:lnTo>
                    <a:pt x="1105" y="916"/>
                  </a:lnTo>
                  <a:lnTo>
                    <a:pt x="1105" y="905"/>
                  </a:lnTo>
                  <a:lnTo>
                    <a:pt x="1109" y="905"/>
                  </a:lnTo>
                  <a:lnTo>
                    <a:pt x="1109" y="900"/>
                  </a:lnTo>
                  <a:lnTo>
                    <a:pt x="1119" y="900"/>
                  </a:lnTo>
                  <a:lnTo>
                    <a:pt x="1119" y="893"/>
                  </a:lnTo>
                  <a:lnTo>
                    <a:pt x="1123" y="893"/>
                  </a:lnTo>
                  <a:lnTo>
                    <a:pt x="1123" y="888"/>
                  </a:lnTo>
                  <a:lnTo>
                    <a:pt x="1133" y="888"/>
                  </a:lnTo>
                  <a:lnTo>
                    <a:pt x="1133" y="875"/>
                  </a:lnTo>
                  <a:lnTo>
                    <a:pt x="1142" y="875"/>
                  </a:lnTo>
                  <a:lnTo>
                    <a:pt x="1142" y="870"/>
                  </a:lnTo>
                  <a:lnTo>
                    <a:pt x="1147" y="870"/>
                  </a:lnTo>
                  <a:lnTo>
                    <a:pt x="1147" y="864"/>
                  </a:lnTo>
                  <a:lnTo>
                    <a:pt x="1153" y="864"/>
                  </a:lnTo>
                  <a:lnTo>
                    <a:pt x="1153" y="858"/>
                  </a:lnTo>
                  <a:lnTo>
                    <a:pt x="1157" y="858"/>
                  </a:lnTo>
                  <a:lnTo>
                    <a:pt x="1157" y="846"/>
                  </a:lnTo>
                  <a:lnTo>
                    <a:pt x="1161" y="846"/>
                  </a:lnTo>
                  <a:lnTo>
                    <a:pt x="1161" y="840"/>
                  </a:lnTo>
                  <a:lnTo>
                    <a:pt x="1167" y="840"/>
                  </a:lnTo>
                  <a:lnTo>
                    <a:pt x="1167" y="834"/>
                  </a:lnTo>
                  <a:lnTo>
                    <a:pt x="1171" y="834"/>
                  </a:lnTo>
                  <a:lnTo>
                    <a:pt x="1171" y="829"/>
                  </a:lnTo>
                  <a:lnTo>
                    <a:pt x="1176" y="829"/>
                  </a:lnTo>
                  <a:lnTo>
                    <a:pt x="1176" y="823"/>
                  </a:lnTo>
                  <a:lnTo>
                    <a:pt x="1181" y="823"/>
                  </a:lnTo>
                  <a:lnTo>
                    <a:pt x="1181" y="816"/>
                  </a:lnTo>
                  <a:lnTo>
                    <a:pt x="1186" y="816"/>
                  </a:lnTo>
                  <a:lnTo>
                    <a:pt x="1186" y="810"/>
                  </a:lnTo>
                  <a:lnTo>
                    <a:pt x="1190" y="810"/>
                  </a:lnTo>
                  <a:lnTo>
                    <a:pt x="1190" y="793"/>
                  </a:lnTo>
                  <a:lnTo>
                    <a:pt x="1195" y="793"/>
                  </a:lnTo>
                  <a:lnTo>
                    <a:pt x="1195" y="788"/>
                  </a:lnTo>
                  <a:lnTo>
                    <a:pt x="1200" y="788"/>
                  </a:lnTo>
                  <a:lnTo>
                    <a:pt x="1200" y="781"/>
                  </a:lnTo>
                  <a:lnTo>
                    <a:pt x="1204" y="781"/>
                  </a:lnTo>
                  <a:lnTo>
                    <a:pt x="1204" y="775"/>
                  </a:lnTo>
                  <a:lnTo>
                    <a:pt x="1209" y="775"/>
                  </a:lnTo>
                  <a:lnTo>
                    <a:pt x="1209" y="769"/>
                  </a:lnTo>
                  <a:lnTo>
                    <a:pt x="1214" y="769"/>
                  </a:lnTo>
                  <a:lnTo>
                    <a:pt x="1214" y="758"/>
                  </a:lnTo>
                  <a:lnTo>
                    <a:pt x="1220" y="758"/>
                  </a:lnTo>
                  <a:lnTo>
                    <a:pt x="1220" y="752"/>
                  </a:lnTo>
                  <a:lnTo>
                    <a:pt x="1224" y="752"/>
                  </a:lnTo>
                  <a:lnTo>
                    <a:pt x="1224" y="747"/>
                  </a:lnTo>
                  <a:lnTo>
                    <a:pt x="1230" y="747"/>
                  </a:lnTo>
                  <a:lnTo>
                    <a:pt x="1230" y="739"/>
                  </a:lnTo>
                  <a:lnTo>
                    <a:pt x="1234" y="739"/>
                  </a:lnTo>
                  <a:lnTo>
                    <a:pt x="1234" y="734"/>
                  </a:lnTo>
                  <a:lnTo>
                    <a:pt x="1239" y="734"/>
                  </a:lnTo>
                  <a:lnTo>
                    <a:pt x="1239" y="728"/>
                  </a:lnTo>
                  <a:lnTo>
                    <a:pt x="1243" y="728"/>
                  </a:lnTo>
                  <a:lnTo>
                    <a:pt x="1243" y="723"/>
                  </a:lnTo>
                  <a:lnTo>
                    <a:pt x="1248" y="723"/>
                  </a:lnTo>
                  <a:lnTo>
                    <a:pt x="1248" y="715"/>
                  </a:lnTo>
                  <a:lnTo>
                    <a:pt x="1253" y="715"/>
                  </a:lnTo>
                  <a:lnTo>
                    <a:pt x="1253" y="710"/>
                  </a:lnTo>
                  <a:lnTo>
                    <a:pt x="1257" y="710"/>
                  </a:lnTo>
                  <a:lnTo>
                    <a:pt x="1257" y="705"/>
                  </a:lnTo>
                  <a:lnTo>
                    <a:pt x="1263" y="705"/>
                  </a:lnTo>
                  <a:lnTo>
                    <a:pt x="1263" y="698"/>
                  </a:lnTo>
                  <a:lnTo>
                    <a:pt x="1267" y="698"/>
                  </a:lnTo>
                  <a:lnTo>
                    <a:pt x="1267" y="693"/>
                  </a:lnTo>
                  <a:lnTo>
                    <a:pt x="1272" y="693"/>
                  </a:lnTo>
                  <a:lnTo>
                    <a:pt x="1272" y="687"/>
                  </a:lnTo>
                  <a:lnTo>
                    <a:pt x="1282" y="687"/>
                  </a:lnTo>
                  <a:lnTo>
                    <a:pt x="1282" y="674"/>
                  </a:lnTo>
                  <a:lnTo>
                    <a:pt x="1292" y="674"/>
                  </a:lnTo>
                  <a:lnTo>
                    <a:pt x="1292" y="669"/>
                  </a:lnTo>
                  <a:lnTo>
                    <a:pt x="1297" y="669"/>
                  </a:lnTo>
                  <a:lnTo>
                    <a:pt x="1297" y="663"/>
                  </a:lnTo>
                  <a:lnTo>
                    <a:pt x="1301" y="663"/>
                  </a:lnTo>
                  <a:lnTo>
                    <a:pt x="1301" y="657"/>
                  </a:lnTo>
                  <a:lnTo>
                    <a:pt x="1306" y="657"/>
                  </a:lnTo>
                  <a:lnTo>
                    <a:pt x="1306" y="652"/>
                  </a:lnTo>
                  <a:lnTo>
                    <a:pt x="1311" y="652"/>
                  </a:lnTo>
                  <a:lnTo>
                    <a:pt x="1311" y="645"/>
                  </a:lnTo>
                  <a:lnTo>
                    <a:pt x="1316" y="645"/>
                  </a:lnTo>
                  <a:lnTo>
                    <a:pt x="1316" y="639"/>
                  </a:lnTo>
                  <a:lnTo>
                    <a:pt x="1325" y="639"/>
                  </a:lnTo>
                  <a:lnTo>
                    <a:pt x="1325" y="628"/>
                  </a:lnTo>
                  <a:lnTo>
                    <a:pt x="1330" y="628"/>
                  </a:lnTo>
                  <a:lnTo>
                    <a:pt x="1330" y="615"/>
                  </a:lnTo>
                  <a:lnTo>
                    <a:pt x="1334" y="615"/>
                  </a:lnTo>
                  <a:lnTo>
                    <a:pt x="1334" y="609"/>
                  </a:lnTo>
                  <a:lnTo>
                    <a:pt x="1339" y="609"/>
                  </a:lnTo>
                  <a:lnTo>
                    <a:pt x="1339" y="604"/>
                  </a:lnTo>
                  <a:lnTo>
                    <a:pt x="1344" y="604"/>
                  </a:lnTo>
                  <a:lnTo>
                    <a:pt x="1344" y="598"/>
                  </a:lnTo>
                  <a:lnTo>
                    <a:pt x="1349" y="598"/>
                  </a:lnTo>
                  <a:lnTo>
                    <a:pt x="1349" y="592"/>
                  </a:lnTo>
                  <a:lnTo>
                    <a:pt x="1353" y="592"/>
                  </a:lnTo>
                  <a:lnTo>
                    <a:pt x="1353" y="587"/>
                  </a:lnTo>
                  <a:lnTo>
                    <a:pt x="1359" y="587"/>
                  </a:lnTo>
                  <a:lnTo>
                    <a:pt x="1359" y="579"/>
                  </a:lnTo>
                  <a:lnTo>
                    <a:pt x="1364" y="579"/>
                  </a:lnTo>
                  <a:lnTo>
                    <a:pt x="1364" y="574"/>
                  </a:lnTo>
                  <a:lnTo>
                    <a:pt x="1369" y="574"/>
                  </a:lnTo>
                  <a:lnTo>
                    <a:pt x="1369" y="568"/>
                  </a:lnTo>
                  <a:lnTo>
                    <a:pt x="1374" y="568"/>
                  </a:lnTo>
                  <a:lnTo>
                    <a:pt x="1374" y="562"/>
                  </a:lnTo>
                  <a:lnTo>
                    <a:pt x="1378" y="562"/>
                  </a:lnTo>
                  <a:lnTo>
                    <a:pt x="1378" y="557"/>
                  </a:lnTo>
                  <a:lnTo>
                    <a:pt x="1383" y="557"/>
                  </a:lnTo>
                  <a:lnTo>
                    <a:pt x="1383" y="551"/>
                  </a:lnTo>
                  <a:lnTo>
                    <a:pt x="1393" y="551"/>
                  </a:lnTo>
                  <a:lnTo>
                    <a:pt x="1393" y="546"/>
                  </a:lnTo>
                  <a:lnTo>
                    <a:pt x="1397" y="546"/>
                  </a:lnTo>
                  <a:lnTo>
                    <a:pt x="1397" y="538"/>
                  </a:lnTo>
                  <a:lnTo>
                    <a:pt x="1407" y="538"/>
                  </a:lnTo>
                  <a:lnTo>
                    <a:pt x="1407" y="533"/>
                  </a:lnTo>
                  <a:lnTo>
                    <a:pt x="1411" y="533"/>
                  </a:lnTo>
                  <a:lnTo>
                    <a:pt x="1411" y="527"/>
                  </a:lnTo>
                  <a:lnTo>
                    <a:pt x="1416" y="527"/>
                  </a:lnTo>
                  <a:lnTo>
                    <a:pt x="1416" y="514"/>
                  </a:lnTo>
                  <a:lnTo>
                    <a:pt x="1426" y="514"/>
                  </a:lnTo>
                  <a:lnTo>
                    <a:pt x="1426" y="503"/>
                  </a:lnTo>
                  <a:lnTo>
                    <a:pt x="1436" y="503"/>
                  </a:lnTo>
                  <a:lnTo>
                    <a:pt x="1436" y="497"/>
                  </a:lnTo>
                  <a:lnTo>
                    <a:pt x="1441" y="497"/>
                  </a:lnTo>
                  <a:lnTo>
                    <a:pt x="1441" y="492"/>
                  </a:lnTo>
                  <a:lnTo>
                    <a:pt x="1450" y="492"/>
                  </a:lnTo>
                  <a:lnTo>
                    <a:pt x="1450" y="486"/>
                  </a:lnTo>
                  <a:lnTo>
                    <a:pt x="1460" y="486"/>
                  </a:lnTo>
                  <a:lnTo>
                    <a:pt x="1460" y="479"/>
                  </a:lnTo>
                  <a:lnTo>
                    <a:pt x="1464" y="479"/>
                  </a:lnTo>
                  <a:lnTo>
                    <a:pt x="1464" y="473"/>
                  </a:lnTo>
                  <a:lnTo>
                    <a:pt x="1474" y="473"/>
                  </a:lnTo>
                  <a:lnTo>
                    <a:pt x="1474" y="468"/>
                  </a:lnTo>
                  <a:lnTo>
                    <a:pt x="1478" y="468"/>
                  </a:lnTo>
                  <a:lnTo>
                    <a:pt x="1478" y="461"/>
                  </a:lnTo>
                  <a:lnTo>
                    <a:pt x="1483" y="461"/>
                  </a:lnTo>
                  <a:lnTo>
                    <a:pt x="1483" y="456"/>
                  </a:lnTo>
                  <a:lnTo>
                    <a:pt x="1493" y="456"/>
                  </a:lnTo>
                  <a:lnTo>
                    <a:pt x="1493" y="451"/>
                  </a:lnTo>
                  <a:lnTo>
                    <a:pt x="1497" y="451"/>
                  </a:lnTo>
                  <a:lnTo>
                    <a:pt x="1497" y="443"/>
                  </a:lnTo>
                  <a:lnTo>
                    <a:pt x="1502" y="443"/>
                  </a:lnTo>
                  <a:lnTo>
                    <a:pt x="1502" y="438"/>
                  </a:lnTo>
                  <a:lnTo>
                    <a:pt x="1508" y="438"/>
                  </a:lnTo>
                  <a:lnTo>
                    <a:pt x="1508" y="432"/>
                  </a:lnTo>
                  <a:lnTo>
                    <a:pt x="1518" y="432"/>
                  </a:lnTo>
                  <a:lnTo>
                    <a:pt x="1518" y="427"/>
                  </a:lnTo>
                  <a:lnTo>
                    <a:pt x="1522" y="427"/>
                  </a:lnTo>
                  <a:lnTo>
                    <a:pt x="1522" y="420"/>
                  </a:lnTo>
                  <a:lnTo>
                    <a:pt x="1527" y="420"/>
                  </a:lnTo>
                  <a:lnTo>
                    <a:pt x="1527" y="415"/>
                  </a:lnTo>
                  <a:lnTo>
                    <a:pt x="1531" y="415"/>
                  </a:lnTo>
                  <a:lnTo>
                    <a:pt x="1531" y="410"/>
                  </a:lnTo>
                  <a:lnTo>
                    <a:pt x="1537" y="410"/>
                  </a:lnTo>
                  <a:lnTo>
                    <a:pt x="1537" y="402"/>
                  </a:lnTo>
                  <a:lnTo>
                    <a:pt x="1541" y="402"/>
                  </a:lnTo>
                  <a:lnTo>
                    <a:pt x="1541" y="397"/>
                  </a:lnTo>
                  <a:lnTo>
                    <a:pt x="1551" y="397"/>
                  </a:lnTo>
                  <a:lnTo>
                    <a:pt x="1551" y="385"/>
                  </a:lnTo>
                  <a:lnTo>
                    <a:pt x="1560" y="385"/>
                  </a:lnTo>
                  <a:lnTo>
                    <a:pt x="1560" y="380"/>
                  </a:lnTo>
                  <a:lnTo>
                    <a:pt x="1570" y="380"/>
                  </a:lnTo>
                  <a:lnTo>
                    <a:pt x="1570" y="367"/>
                  </a:lnTo>
                  <a:lnTo>
                    <a:pt x="1574" y="367"/>
                  </a:lnTo>
                  <a:lnTo>
                    <a:pt x="1574" y="361"/>
                  </a:lnTo>
                  <a:lnTo>
                    <a:pt x="1580" y="361"/>
                  </a:lnTo>
                  <a:lnTo>
                    <a:pt x="1580" y="356"/>
                  </a:lnTo>
                  <a:lnTo>
                    <a:pt x="1589" y="356"/>
                  </a:lnTo>
                  <a:lnTo>
                    <a:pt x="1589" y="350"/>
                  </a:lnTo>
                  <a:lnTo>
                    <a:pt x="1599" y="350"/>
                  </a:lnTo>
                  <a:lnTo>
                    <a:pt x="1599" y="343"/>
                  </a:lnTo>
                  <a:lnTo>
                    <a:pt x="1608" y="343"/>
                  </a:lnTo>
                  <a:lnTo>
                    <a:pt x="1608" y="338"/>
                  </a:lnTo>
                  <a:lnTo>
                    <a:pt x="1614" y="338"/>
                  </a:lnTo>
                  <a:lnTo>
                    <a:pt x="1614" y="332"/>
                  </a:lnTo>
                  <a:lnTo>
                    <a:pt x="1618" y="332"/>
                  </a:lnTo>
                  <a:lnTo>
                    <a:pt x="1618" y="326"/>
                  </a:lnTo>
                  <a:lnTo>
                    <a:pt x="1627" y="326"/>
                  </a:lnTo>
                  <a:lnTo>
                    <a:pt x="1627" y="315"/>
                  </a:lnTo>
                  <a:lnTo>
                    <a:pt x="1632" y="315"/>
                  </a:lnTo>
                  <a:lnTo>
                    <a:pt x="1632" y="309"/>
                  </a:lnTo>
                  <a:lnTo>
                    <a:pt x="1641" y="309"/>
                  </a:lnTo>
                  <a:lnTo>
                    <a:pt x="1641" y="302"/>
                  </a:lnTo>
                  <a:lnTo>
                    <a:pt x="1651" y="302"/>
                  </a:lnTo>
                  <a:lnTo>
                    <a:pt x="1651" y="296"/>
                  </a:lnTo>
                  <a:lnTo>
                    <a:pt x="1662" y="296"/>
                  </a:lnTo>
                  <a:lnTo>
                    <a:pt x="1662" y="291"/>
                  </a:lnTo>
                  <a:lnTo>
                    <a:pt x="1667" y="291"/>
                  </a:lnTo>
                  <a:lnTo>
                    <a:pt x="1667" y="285"/>
                  </a:lnTo>
                  <a:lnTo>
                    <a:pt x="1671" y="285"/>
                  </a:lnTo>
                  <a:lnTo>
                    <a:pt x="1671" y="279"/>
                  </a:lnTo>
                  <a:lnTo>
                    <a:pt x="1681" y="279"/>
                  </a:lnTo>
                  <a:lnTo>
                    <a:pt x="1681" y="274"/>
                  </a:lnTo>
                  <a:lnTo>
                    <a:pt x="1685" y="274"/>
                  </a:lnTo>
                  <a:lnTo>
                    <a:pt x="1685" y="266"/>
                  </a:lnTo>
                  <a:lnTo>
                    <a:pt x="1690" y="266"/>
                  </a:lnTo>
                  <a:lnTo>
                    <a:pt x="1690" y="261"/>
                  </a:lnTo>
                  <a:lnTo>
                    <a:pt x="1700" y="261"/>
                  </a:lnTo>
                  <a:lnTo>
                    <a:pt x="1700" y="255"/>
                  </a:lnTo>
                  <a:lnTo>
                    <a:pt x="1709" y="255"/>
                  </a:lnTo>
                  <a:lnTo>
                    <a:pt x="1709" y="250"/>
                  </a:lnTo>
                  <a:lnTo>
                    <a:pt x="1718" y="250"/>
                  </a:lnTo>
                  <a:lnTo>
                    <a:pt x="1718" y="242"/>
                  </a:lnTo>
                  <a:lnTo>
                    <a:pt x="1723" y="242"/>
                  </a:lnTo>
                  <a:lnTo>
                    <a:pt x="1723" y="237"/>
                  </a:lnTo>
                  <a:lnTo>
                    <a:pt x="1729" y="237"/>
                  </a:lnTo>
                  <a:lnTo>
                    <a:pt x="1729" y="232"/>
                  </a:lnTo>
                  <a:lnTo>
                    <a:pt x="1738" y="232"/>
                  </a:lnTo>
                  <a:lnTo>
                    <a:pt x="1738" y="225"/>
                  </a:lnTo>
                  <a:lnTo>
                    <a:pt x="1744" y="225"/>
                  </a:lnTo>
                  <a:lnTo>
                    <a:pt x="1744" y="220"/>
                  </a:lnTo>
                  <a:lnTo>
                    <a:pt x="1752" y="220"/>
                  </a:lnTo>
                  <a:lnTo>
                    <a:pt x="1752" y="214"/>
                  </a:lnTo>
                  <a:lnTo>
                    <a:pt x="1762" y="214"/>
                  </a:lnTo>
                  <a:lnTo>
                    <a:pt x="1762" y="207"/>
                  </a:lnTo>
                  <a:lnTo>
                    <a:pt x="1771" y="207"/>
                  </a:lnTo>
                  <a:lnTo>
                    <a:pt x="1771" y="201"/>
                  </a:lnTo>
                  <a:lnTo>
                    <a:pt x="1777" y="201"/>
                  </a:lnTo>
                  <a:lnTo>
                    <a:pt x="1777" y="196"/>
                  </a:lnTo>
                  <a:lnTo>
                    <a:pt x="1786" y="196"/>
                  </a:lnTo>
                  <a:lnTo>
                    <a:pt x="1786" y="190"/>
                  </a:lnTo>
                  <a:lnTo>
                    <a:pt x="1795" y="190"/>
                  </a:lnTo>
                  <a:lnTo>
                    <a:pt x="1795" y="184"/>
                  </a:lnTo>
                  <a:lnTo>
                    <a:pt x="1801" y="184"/>
                  </a:lnTo>
                  <a:lnTo>
                    <a:pt x="1801" y="179"/>
                  </a:lnTo>
                  <a:lnTo>
                    <a:pt x="1810" y="179"/>
                  </a:lnTo>
                  <a:lnTo>
                    <a:pt x="1810" y="173"/>
                  </a:lnTo>
                  <a:lnTo>
                    <a:pt x="1820" y="173"/>
                  </a:lnTo>
                  <a:lnTo>
                    <a:pt x="1820" y="166"/>
                  </a:lnTo>
                  <a:lnTo>
                    <a:pt x="1825" y="166"/>
                  </a:lnTo>
                  <a:lnTo>
                    <a:pt x="1825" y="160"/>
                  </a:lnTo>
                  <a:lnTo>
                    <a:pt x="1834" y="160"/>
                  </a:lnTo>
                  <a:lnTo>
                    <a:pt x="1834" y="155"/>
                  </a:lnTo>
                  <a:lnTo>
                    <a:pt x="1843" y="155"/>
                  </a:lnTo>
                  <a:lnTo>
                    <a:pt x="1843" y="148"/>
                  </a:lnTo>
                  <a:lnTo>
                    <a:pt x="1848" y="148"/>
                  </a:lnTo>
                  <a:lnTo>
                    <a:pt x="1848" y="143"/>
                  </a:lnTo>
                  <a:lnTo>
                    <a:pt x="1853" y="143"/>
                  </a:lnTo>
                  <a:lnTo>
                    <a:pt x="1853" y="138"/>
                  </a:lnTo>
                  <a:lnTo>
                    <a:pt x="1862" y="138"/>
                  </a:lnTo>
                  <a:lnTo>
                    <a:pt x="1862" y="131"/>
                  </a:lnTo>
                  <a:lnTo>
                    <a:pt x="1873" y="131"/>
                  </a:lnTo>
                  <a:lnTo>
                    <a:pt x="1873" y="125"/>
                  </a:lnTo>
                  <a:lnTo>
                    <a:pt x="1882" y="125"/>
                  </a:lnTo>
                  <a:lnTo>
                    <a:pt x="1882" y="119"/>
                  </a:lnTo>
                  <a:lnTo>
                    <a:pt x="1887" y="119"/>
                  </a:lnTo>
                  <a:lnTo>
                    <a:pt x="1887" y="114"/>
                  </a:lnTo>
                  <a:lnTo>
                    <a:pt x="1896" y="114"/>
                  </a:lnTo>
                  <a:lnTo>
                    <a:pt x="1896" y="106"/>
                  </a:lnTo>
                  <a:lnTo>
                    <a:pt x="1902" y="106"/>
                  </a:lnTo>
                  <a:lnTo>
                    <a:pt x="1902" y="101"/>
                  </a:lnTo>
                  <a:lnTo>
                    <a:pt x="1911" y="101"/>
                  </a:lnTo>
                  <a:lnTo>
                    <a:pt x="1911" y="95"/>
                  </a:lnTo>
                  <a:lnTo>
                    <a:pt x="1915" y="95"/>
                  </a:lnTo>
                  <a:lnTo>
                    <a:pt x="1915" y="89"/>
                  </a:lnTo>
                  <a:lnTo>
                    <a:pt x="1925" y="89"/>
                  </a:lnTo>
                  <a:lnTo>
                    <a:pt x="1925" y="84"/>
                  </a:lnTo>
                  <a:lnTo>
                    <a:pt x="1929" y="84"/>
                  </a:lnTo>
                  <a:lnTo>
                    <a:pt x="1929" y="78"/>
                  </a:lnTo>
                  <a:lnTo>
                    <a:pt x="1939" y="78"/>
                  </a:lnTo>
                  <a:lnTo>
                    <a:pt x="1939" y="73"/>
                  </a:lnTo>
                  <a:lnTo>
                    <a:pt x="1950" y="73"/>
                  </a:lnTo>
                  <a:lnTo>
                    <a:pt x="1950" y="65"/>
                  </a:lnTo>
                  <a:lnTo>
                    <a:pt x="1955" y="65"/>
                  </a:lnTo>
                  <a:lnTo>
                    <a:pt x="1955" y="60"/>
                  </a:lnTo>
                  <a:lnTo>
                    <a:pt x="1964" y="60"/>
                  </a:lnTo>
                  <a:lnTo>
                    <a:pt x="1964" y="54"/>
                  </a:lnTo>
                  <a:lnTo>
                    <a:pt x="1969" y="54"/>
                  </a:lnTo>
                  <a:lnTo>
                    <a:pt x="1969" y="48"/>
                  </a:lnTo>
                  <a:lnTo>
                    <a:pt x="1973" y="48"/>
                  </a:lnTo>
                  <a:lnTo>
                    <a:pt x="1973" y="41"/>
                  </a:lnTo>
                  <a:lnTo>
                    <a:pt x="1978" y="41"/>
                  </a:lnTo>
                  <a:lnTo>
                    <a:pt x="1978" y="36"/>
                  </a:lnTo>
                  <a:lnTo>
                    <a:pt x="1988" y="36"/>
                  </a:lnTo>
                  <a:lnTo>
                    <a:pt x="1988" y="30"/>
                  </a:lnTo>
                  <a:lnTo>
                    <a:pt x="1992" y="30"/>
                  </a:lnTo>
                  <a:lnTo>
                    <a:pt x="1992" y="24"/>
                  </a:lnTo>
                  <a:lnTo>
                    <a:pt x="2002" y="24"/>
                  </a:lnTo>
                  <a:lnTo>
                    <a:pt x="2002" y="19"/>
                  </a:lnTo>
                  <a:lnTo>
                    <a:pt x="2011" y="19"/>
                  </a:lnTo>
                  <a:lnTo>
                    <a:pt x="2011" y="13"/>
                  </a:lnTo>
                  <a:lnTo>
                    <a:pt x="2017" y="13"/>
                  </a:lnTo>
                  <a:lnTo>
                    <a:pt x="2017" y="7"/>
                  </a:lnTo>
                  <a:lnTo>
                    <a:pt x="2041" y="7"/>
                  </a:lnTo>
                  <a:lnTo>
                    <a:pt x="2041" y="0"/>
                  </a:lnTo>
                  <a:lnTo>
                    <a:pt x="2065" y="0"/>
                  </a:lnTo>
                  <a:lnTo>
                    <a:pt x="2065" y="7"/>
                  </a:lnTo>
                  <a:lnTo>
                    <a:pt x="2069" y="7"/>
                  </a:lnTo>
                  <a:lnTo>
                    <a:pt x="2069" y="13"/>
                  </a:lnTo>
                  <a:lnTo>
                    <a:pt x="2074" y="13"/>
                  </a:lnTo>
                  <a:lnTo>
                    <a:pt x="2074" y="41"/>
                  </a:lnTo>
                  <a:lnTo>
                    <a:pt x="2069" y="41"/>
                  </a:lnTo>
                  <a:lnTo>
                    <a:pt x="2069" y="48"/>
                  </a:lnTo>
                  <a:lnTo>
                    <a:pt x="2060" y="48"/>
                  </a:lnTo>
                  <a:lnTo>
                    <a:pt x="2060" y="54"/>
                  </a:lnTo>
                  <a:lnTo>
                    <a:pt x="2046" y="54"/>
                  </a:lnTo>
                  <a:lnTo>
                    <a:pt x="2046" y="60"/>
                  </a:lnTo>
                  <a:lnTo>
                    <a:pt x="2036" y="60"/>
                  </a:lnTo>
                  <a:lnTo>
                    <a:pt x="2036" y="65"/>
                  </a:lnTo>
                  <a:lnTo>
                    <a:pt x="2022" y="65"/>
                  </a:lnTo>
                  <a:lnTo>
                    <a:pt x="2022" y="73"/>
                  </a:lnTo>
                  <a:lnTo>
                    <a:pt x="2017" y="73"/>
                  </a:lnTo>
                  <a:lnTo>
                    <a:pt x="2017" y="78"/>
                  </a:lnTo>
                  <a:lnTo>
                    <a:pt x="2007" y="78"/>
                  </a:lnTo>
                  <a:lnTo>
                    <a:pt x="2007" y="84"/>
                  </a:lnTo>
                  <a:lnTo>
                    <a:pt x="2002" y="84"/>
                  </a:lnTo>
                  <a:lnTo>
                    <a:pt x="2002" y="89"/>
                  </a:lnTo>
                  <a:lnTo>
                    <a:pt x="1998" y="89"/>
                  </a:lnTo>
                  <a:lnTo>
                    <a:pt x="1998" y="95"/>
                  </a:lnTo>
                  <a:lnTo>
                    <a:pt x="1988" y="95"/>
                  </a:lnTo>
                  <a:lnTo>
                    <a:pt x="1988" y="101"/>
                  </a:lnTo>
                  <a:lnTo>
                    <a:pt x="1978" y="101"/>
                  </a:lnTo>
                  <a:lnTo>
                    <a:pt x="1978" y="106"/>
                  </a:lnTo>
                  <a:lnTo>
                    <a:pt x="1973" y="106"/>
                  </a:lnTo>
                  <a:lnTo>
                    <a:pt x="1973" y="114"/>
                  </a:lnTo>
                  <a:lnTo>
                    <a:pt x="1969" y="114"/>
                  </a:lnTo>
                  <a:lnTo>
                    <a:pt x="1969" y="119"/>
                  </a:lnTo>
                  <a:lnTo>
                    <a:pt x="1964" y="119"/>
                  </a:lnTo>
                  <a:lnTo>
                    <a:pt x="1964" y="125"/>
                  </a:lnTo>
                  <a:lnTo>
                    <a:pt x="1955" y="125"/>
                  </a:lnTo>
                  <a:lnTo>
                    <a:pt x="1955" y="131"/>
                  </a:lnTo>
                  <a:lnTo>
                    <a:pt x="1950" y="131"/>
                  </a:lnTo>
                  <a:lnTo>
                    <a:pt x="1950" y="138"/>
                  </a:lnTo>
                  <a:lnTo>
                    <a:pt x="1939" y="138"/>
                  </a:lnTo>
                  <a:lnTo>
                    <a:pt x="1939" y="143"/>
                  </a:lnTo>
                  <a:lnTo>
                    <a:pt x="1929" y="143"/>
                  </a:lnTo>
                  <a:lnTo>
                    <a:pt x="1929" y="148"/>
                  </a:lnTo>
                  <a:lnTo>
                    <a:pt x="1921" y="148"/>
                  </a:lnTo>
                  <a:lnTo>
                    <a:pt x="1921" y="155"/>
                  </a:lnTo>
                  <a:lnTo>
                    <a:pt x="1915" y="155"/>
                  </a:lnTo>
                  <a:lnTo>
                    <a:pt x="1915" y="160"/>
                  </a:lnTo>
                  <a:lnTo>
                    <a:pt x="1906" y="160"/>
                  </a:lnTo>
                  <a:lnTo>
                    <a:pt x="1906" y="166"/>
                  </a:lnTo>
                  <a:lnTo>
                    <a:pt x="1902" y="166"/>
                  </a:lnTo>
                  <a:lnTo>
                    <a:pt x="1902" y="173"/>
                  </a:lnTo>
                  <a:lnTo>
                    <a:pt x="1892" y="173"/>
                  </a:lnTo>
                  <a:lnTo>
                    <a:pt x="1892" y="179"/>
                  </a:lnTo>
                  <a:lnTo>
                    <a:pt x="1887" y="179"/>
                  </a:lnTo>
                  <a:lnTo>
                    <a:pt x="1887" y="184"/>
                  </a:lnTo>
                  <a:lnTo>
                    <a:pt x="1873" y="184"/>
                  </a:lnTo>
                  <a:lnTo>
                    <a:pt x="1873" y="190"/>
                  </a:lnTo>
                  <a:lnTo>
                    <a:pt x="1867" y="190"/>
                  </a:lnTo>
                  <a:lnTo>
                    <a:pt x="1867" y="196"/>
                  </a:lnTo>
                  <a:lnTo>
                    <a:pt x="1858" y="196"/>
                  </a:lnTo>
                  <a:lnTo>
                    <a:pt x="1858" y="201"/>
                  </a:lnTo>
                  <a:lnTo>
                    <a:pt x="1853" y="201"/>
                  </a:lnTo>
                  <a:lnTo>
                    <a:pt x="1853" y="207"/>
                  </a:lnTo>
                  <a:lnTo>
                    <a:pt x="1843" y="207"/>
                  </a:lnTo>
                  <a:lnTo>
                    <a:pt x="1843" y="214"/>
                  </a:lnTo>
                  <a:lnTo>
                    <a:pt x="1839" y="214"/>
                  </a:lnTo>
                  <a:lnTo>
                    <a:pt x="1839" y="220"/>
                  </a:lnTo>
                  <a:lnTo>
                    <a:pt x="1829" y="220"/>
                  </a:lnTo>
                  <a:lnTo>
                    <a:pt x="1829" y="225"/>
                  </a:lnTo>
                  <a:lnTo>
                    <a:pt x="1825" y="225"/>
                  </a:lnTo>
                  <a:lnTo>
                    <a:pt x="1825" y="232"/>
                  </a:lnTo>
                  <a:lnTo>
                    <a:pt x="1810" y="232"/>
                  </a:lnTo>
                  <a:lnTo>
                    <a:pt x="1810" y="237"/>
                  </a:lnTo>
                  <a:lnTo>
                    <a:pt x="1806" y="237"/>
                  </a:lnTo>
                  <a:lnTo>
                    <a:pt x="1806" y="242"/>
                  </a:lnTo>
                  <a:lnTo>
                    <a:pt x="1795" y="242"/>
                  </a:lnTo>
                  <a:lnTo>
                    <a:pt x="1795" y="250"/>
                  </a:lnTo>
                  <a:lnTo>
                    <a:pt x="1791" y="250"/>
                  </a:lnTo>
                  <a:lnTo>
                    <a:pt x="1791" y="255"/>
                  </a:lnTo>
                  <a:lnTo>
                    <a:pt x="1786" y="255"/>
                  </a:lnTo>
                  <a:lnTo>
                    <a:pt x="1786" y="261"/>
                  </a:lnTo>
                  <a:lnTo>
                    <a:pt x="1777" y="261"/>
                  </a:lnTo>
                  <a:lnTo>
                    <a:pt x="1777" y="266"/>
                  </a:lnTo>
                  <a:lnTo>
                    <a:pt x="1771" y="266"/>
                  </a:lnTo>
                  <a:lnTo>
                    <a:pt x="1771" y="274"/>
                  </a:lnTo>
                  <a:lnTo>
                    <a:pt x="1762" y="274"/>
                  </a:lnTo>
                  <a:lnTo>
                    <a:pt x="1762" y="279"/>
                  </a:lnTo>
                  <a:lnTo>
                    <a:pt x="1752" y="279"/>
                  </a:lnTo>
                  <a:lnTo>
                    <a:pt x="1752" y="285"/>
                  </a:lnTo>
                  <a:lnTo>
                    <a:pt x="1748" y="285"/>
                  </a:lnTo>
                  <a:lnTo>
                    <a:pt x="1748" y="291"/>
                  </a:lnTo>
                  <a:lnTo>
                    <a:pt x="1738" y="291"/>
                  </a:lnTo>
                  <a:lnTo>
                    <a:pt x="1738" y="296"/>
                  </a:lnTo>
                  <a:lnTo>
                    <a:pt x="1729" y="296"/>
                  </a:lnTo>
                  <a:lnTo>
                    <a:pt x="1729" y="302"/>
                  </a:lnTo>
                  <a:lnTo>
                    <a:pt x="1723" y="302"/>
                  </a:lnTo>
                  <a:lnTo>
                    <a:pt x="1723" y="309"/>
                  </a:lnTo>
                  <a:lnTo>
                    <a:pt x="1718" y="309"/>
                  </a:lnTo>
                  <a:lnTo>
                    <a:pt x="1718" y="315"/>
                  </a:lnTo>
                  <a:lnTo>
                    <a:pt x="1714" y="315"/>
                  </a:lnTo>
                  <a:lnTo>
                    <a:pt x="1714" y="320"/>
                  </a:lnTo>
                  <a:lnTo>
                    <a:pt x="1704" y="320"/>
                  </a:lnTo>
                  <a:lnTo>
                    <a:pt x="1704" y="326"/>
                  </a:lnTo>
                  <a:lnTo>
                    <a:pt x="1695" y="326"/>
                  </a:lnTo>
                  <a:lnTo>
                    <a:pt x="1695" y="332"/>
                  </a:lnTo>
                  <a:lnTo>
                    <a:pt x="1685" y="332"/>
                  </a:lnTo>
                  <a:lnTo>
                    <a:pt x="1685" y="338"/>
                  </a:lnTo>
                  <a:lnTo>
                    <a:pt x="1681" y="338"/>
                  </a:lnTo>
                  <a:lnTo>
                    <a:pt x="1681" y="343"/>
                  </a:lnTo>
                  <a:lnTo>
                    <a:pt x="1676" y="343"/>
                  </a:lnTo>
                  <a:lnTo>
                    <a:pt x="1676" y="350"/>
                  </a:lnTo>
                  <a:lnTo>
                    <a:pt x="1667" y="350"/>
                  </a:lnTo>
                  <a:lnTo>
                    <a:pt x="1667" y="356"/>
                  </a:lnTo>
                  <a:lnTo>
                    <a:pt x="1662" y="356"/>
                  </a:lnTo>
                  <a:lnTo>
                    <a:pt x="1662" y="361"/>
                  </a:lnTo>
                  <a:lnTo>
                    <a:pt x="1657" y="361"/>
                  </a:lnTo>
                  <a:lnTo>
                    <a:pt x="1657" y="367"/>
                  </a:lnTo>
                  <a:lnTo>
                    <a:pt x="1647" y="367"/>
                  </a:lnTo>
                  <a:lnTo>
                    <a:pt x="1647" y="373"/>
                  </a:lnTo>
                  <a:lnTo>
                    <a:pt x="1641" y="373"/>
                  </a:lnTo>
                  <a:lnTo>
                    <a:pt x="1641" y="380"/>
                  </a:lnTo>
                  <a:lnTo>
                    <a:pt x="1632" y="380"/>
                  </a:lnTo>
                  <a:lnTo>
                    <a:pt x="1632" y="385"/>
                  </a:lnTo>
                  <a:lnTo>
                    <a:pt x="1627" y="385"/>
                  </a:lnTo>
                  <a:lnTo>
                    <a:pt x="1627" y="392"/>
                  </a:lnTo>
                  <a:lnTo>
                    <a:pt x="1623" y="392"/>
                  </a:lnTo>
                  <a:lnTo>
                    <a:pt x="1623" y="397"/>
                  </a:lnTo>
                  <a:lnTo>
                    <a:pt x="1618" y="397"/>
                  </a:lnTo>
                  <a:lnTo>
                    <a:pt x="1618" y="402"/>
                  </a:lnTo>
                  <a:lnTo>
                    <a:pt x="1614" y="402"/>
                  </a:lnTo>
                  <a:lnTo>
                    <a:pt x="1614" y="410"/>
                  </a:lnTo>
                  <a:lnTo>
                    <a:pt x="1604" y="410"/>
                  </a:lnTo>
                  <a:lnTo>
                    <a:pt x="1604" y="415"/>
                  </a:lnTo>
                  <a:lnTo>
                    <a:pt x="1594" y="415"/>
                  </a:lnTo>
                  <a:lnTo>
                    <a:pt x="1594" y="420"/>
                  </a:lnTo>
                  <a:lnTo>
                    <a:pt x="1585" y="420"/>
                  </a:lnTo>
                  <a:lnTo>
                    <a:pt x="1585" y="427"/>
                  </a:lnTo>
                  <a:lnTo>
                    <a:pt x="1580" y="427"/>
                  </a:lnTo>
                  <a:lnTo>
                    <a:pt x="1580" y="432"/>
                  </a:lnTo>
                  <a:lnTo>
                    <a:pt x="1574" y="432"/>
                  </a:lnTo>
                  <a:lnTo>
                    <a:pt x="1574" y="438"/>
                  </a:lnTo>
                  <a:lnTo>
                    <a:pt x="1570" y="438"/>
                  </a:lnTo>
                  <a:lnTo>
                    <a:pt x="1570" y="443"/>
                  </a:lnTo>
                  <a:lnTo>
                    <a:pt x="1560" y="443"/>
                  </a:lnTo>
                  <a:lnTo>
                    <a:pt x="1560" y="451"/>
                  </a:lnTo>
                  <a:lnTo>
                    <a:pt x="1555" y="451"/>
                  </a:lnTo>
                  <a:lnTo>
                    <a:pt x="1555" y="456"/>
                  </a:lnTo>
                  <a:lnTo>
                    <a:pt x="1551" y="456"/>
                  </a:lnTo>
                  <a:lnTo>
                    <a:pt x="1551" y="461"/>
                  </a:lnTo>
                  <a:lnTo>
                    <a:pt x="1545" y="461"/>
                  </a:lnTo>
                  <a:lnTo>
                    <a:pt x="1545" y="468"/>
                  </a:lnTo>
                  <a:lnTo>
                    <a:pt x="1541" y="468"/>
                  </a:lnTo>
                  <a:lnTo>
                    <a:pt x="1541" y="473"/>
                  </a:lnTo>
                  <a:lnTo>
                    <a:pt x="1537" y="473"/>
                  </a:lnTo>
                  <a:lnTo>
                    <a:pt x="1537" y="479"/>
                  </a:lnTo>
                  <a:lnTo>
                    <a:pt x="1531" y="479"/>
                  </a:lnTo>
                  <a:lnTo>
                    <a:pt x="1531" y="486"/>
                  </a:lnTo>
                  <a:lnTo>
                    <a:pt x="1527" y="486"/>
                  </a:lnTo>
                  <a:lnTo>
                    <a:pt x="1527" y="492"/>
                  </a:lnTo>
                  <a:lnTo>
                    <a:pt x="1522" y="492"/>
                  </a:lnTo>
                  <a:lnTo>
                    <a:pt x="1522" y="497"/>
                  </a:lnTo>
                  <a:lnTo>
                    <a:pt x="1518" y="497"/>
                  </a:lnTo>
                  <a:lnTo>
                    <a:pt x="1518" y="503"/>
                  </a:lnTo>
                  <a:lnTo>
                    <a:pt x="1508" y="503"/>
                  </a:lnTo>
                  <a:lnTo>
                    <a:pt x="1508" y="509"/>
                  </a:lnTo>
                  <a:lnTo>
                    <a:pt x="1497" y="509"/>
                  </a:lnTo>
                  <a:lnTo>
                    <a:pt x="1497" y="514"/>
                  </a:lnTo>
                  <a:lnTo>
                    <a:pt x="1493" y="514"/>
                  </a:lnTo>
                  <a:lnTo>
                    <a:pt x="1493" y="521"/>
                  </a:lnTo>
                  <a:lnTo>
                    <a:pt x="1483" y="521"/>
                  </a:lnTo>
                  <a:lnTo>
                    <a:pt x="1483" y="527"/>
                  </a:lnTo>
                  <a:lnTo>
                    <a:pt x="1478" y="527"/>
                  </a:lnTo>
                  <a:lnTo>
                    <a:pt x="1478" y="533"/>
                  </a:lnTo>
                  <a:lnTo>
                    <a:pt x="1474" y="533"/>
                  </a:lnTo>
                  <a:lnTo>
                    <a:pt x="1474" y="538"/>
                  </a:lnTo>
                  <a:lnTo>
                    <a:pt x="1464" y="538"/>
                  </a:lnTo>
                  <a:lnTo>
                    <a:pt x="1464" y="546"/>
                  </a:lnTo>
                  <a:lnTo>
                    <a:pt x="1460" y="546"/>
                  </a:lnTo>
                  <a:lnTo>
                    <a:pt x="1460" y="551"/>
                  </a:lnTo>
                  <a:lnTo>
                    <a:pt x="1455" y="551"/>
                  </a:lnTo>
                  <a:lnTo>
                    <a:pt x="1455" y="557"/>
                  </a:lnTo>
                  <a:lnTo>
                    <a:pt x="1450" y="557"/>
                  </a:lnTo>
                  <a:lnTo>
                    <a:pt x="1450" y="562"/>
                  </a:lnTo>
                  <a:lnTo>
                    <a:pt x="1441" y="562"/>
                  </a:lnTo>
                  <a:lnTo>
                    <a:pt x="1441" y="568"/>
                  </a:lnTo>
                  <a:lnTo>
                    <a:pt x="1430" y="568"/>
                  </a:lnTo>
                  <a:lnTo>
                    <a:pt x="1430" y="574"/>
                  </a:lnTo>
                  <a:lnTo>
                    <a:pt x="1426" y="574"/>
                  </a:lnTo>
                  <a:lnTo>
                    <a:pt x="1426" y="579"/>
                  </a:lnTo>
                  <a:lnTo>
                    <a:pt x="1421" y="579"/>
                  </a:lnTo>
                  <a:lnTo>
                    <a:pt x="1421" y="587"/>
                  </a:lnTo>
                  <a:lnTo>
                    <a:pt x="1416" y="587"/>
                  </a:lnTo>
                  <a:lnTo>
                    <a:pt x="1416" y="592"/>
                  </a:lnTo>
                  <a:lnTo>
                    <a:pt x="1411" y="592"/>
                  </a:lnTo>
                  <a:lnTo>
                    <a:pt x="1411" y="604"/>
                  </a:lnTo>
                  <a:lnTo>
                    <a:pt x="1407" y="604"/>
                  </a:lnTo>
                  <a:lnTo>
                    <a:pt x="1407" y="609"/>
                  </a:lnTo>
                  <a:lnTo>
                    <a:pt x="1397" y="609"/>
                  </a:lnTo>
                  <a:lnTo>
                    <a:pt x="1397" y="615"/>
                  </a:lnTo>
                  <a:lnTo>
                    <a:pt x="1393" y="615"/>
                  </a:lnTo>
                  <a:lnTo>
                    <a:pt x="1393" y="628"/>
                  </a:lnTo>
                  <a:lnTo>
                    <a:pt x="1387" y="628"/>
                  </a:lnTo>
                  <a:lnTo>
                    <a:pt x="1387" y="633"/>
                  </a:lnTo>
                  <a:lnTo>
                    <a:pt x="1378" y="633"/>
                  </a:lnTo>
                  <a:lnTo>
                    <a:pt x="1378" y="645"/>
                  </a:lnTo>
                  <a:lnTo>
                    <a:pt x="1374" y="645"/>
                  </a:lnTo>
                  <a:lnTo>
                    <a:pt x="1374" y="652"/>
                  </a:lnTo>
                  <a:lnTo>
                    <a:pt x="1369" y="652"/>
                  </a:lnTo>
                  <a:lnTo>
                    <a:pt x="1369" y="657"/>
                  </a:lnTo>
                  <a:lnTo>
                    <a:pt x="1364" y="657"/>
                  </a:lnTo>
                  <a:lnTo>
                    <a:pt x="1364" y="663"/>
                  </a:lnTo>
                  <a:lnTo>
                    <a:pt x="1359" y="663"/>
                  </a:lnTo>
                  <a:lnTo>
                    <a:pt x="1359" y="669"/>
                  </a:lnTo>
                  <a:lnTo>
                    <a:pt x="1353" y="669"/>
                  </a:lnTo>
                  <a:lnTo>
                    <a:pt x="1353" y="680"/>
                  </a:lnTo>
                  <a:lnTo>
                    <a:pt x="1344" y="680"/>
                  </a:lnTo>
                  <a:lnTo>
                    <a:pt x="1344" y="687"/>
                  </a:lnTo>
                  <a:lnTo>
                    <a:pt x="1339" y="687"/>
                  </a:lnTo>
                  <a:lnTo>
                    <a:pt x="1339" y="698"/>
                  </a:lnTo>
                  <a:lnTo>
                    <a:pt x="1334" y="698"/>
                  </a:lnTo>
                  <a:lnTo>
                    <a:pt x="1334" y="705"/>
                  </a:lnTo>
                  <a:lnTo>
                    <a:pt x="1330" y="705"/>
                  </a:lnTo>
                  <a:lnTo>
                    <a:pt x="1330" y="710"/>
                  </a:lnTo>
                  <a:lnTo>
                    <a:pt x="1320" y="710"/>
                  </a:lnTo>
                  <a:lnTo>
                    <a:pt x="1320" y="715"/>
                  </a:lnTo>
                  <a:lnTo>
                    <a:pt x="1316" y="715"/>
                  </a:lnTo>
                  <a:lnTo>
                    <a:pt x="1316" y="728"/>
                  </a:lnTo>
                  <a:lnTo>
                    <a:pt x="1311" y="728"/>
                  </a:lnTo>
                  <a:lnTo>
                    <a:pt x="1311" y="734"/>
                  </a:lnTo>
                  <a:lnTo>
                    <a:pt x="1306" y="734"/>
                  </a:lnTo>
                  <a:lnTo>
                    <a:pt x="1306" y="739"/>
                  </a:lnTo>
                  <a:lnTo>
                    <a:pt x="1301" y="739"/>
                  </a:lnTo>
                  <a:lnTo>
                    <a:pt x="1301" y="747"/>
                  </a:lnTo>
                  <a:lnTo>
                    <a:pt x="1292" y="747"/>
                  </a:lnTo>
                  <a:lnTo>
                    <a:pt x="1292" y="752"/>
                  </a:lnTo>
                  <a:lnTo>
                    <a:pt x="1286" y="752"/>
                  </a:lnTo>
                  <a:lnTo>
                    <a:pt x="1286" y="758"/>
                  </a:lnTo>
                  <a:lnTo>
                    <a:pt x="1277" y="758"/>
                  </a:lnTo>
                  <a:lnTo>
                    <a:pt x="1277" y="764"/>
                  </a:lnTo>
                  <a:lnTo>
                    <a:pt x="1272" y="764"/>
                  </a:lnTo>
                  <a:lnTo>
                    <a:pt x="1272" y="775"/>
                  </a:lnTo>
                  <a:lnTo>
                    <a:pt x="1267" y="775"/>
                  </a:lnTo>
                  <a:lnTo>
                    <a:pt x="1267" y="781"/>
                  </a:lnTo>
                  <a:lnTo>
                    <a:pt x="1263" y="781"/>
                  </a:lnTo>
                  <a:lnTo>
                    <a:pt x="1263" y="788"/>
                  </a:lnTo>
                  <a:lnTo>
                    <a:pt x="1257" y="788"/>
                  </a:lnTo>
                  <a:lnTo>
                    <a:pt x="1257" y="793"/>
                  </a:lnTo>
                  <a:lnTo>
                    <a:pt x="1253" y="793"/>
                  </a:lnTo>
                  <a:lnTo>
                    <a:pt x="1253" y="799"/>
                  </a:lnTo>
                  <a:lnTo>
                    <a:pt x="1248" y="799"/>
                  </a:lnTo>
                  <a:lnTo>
                    <a:pt x="1248" y="810"/>
                  </a:lnTo>
                  <a:lnTo>
                    <a:pt x="1243" y="810"/>
                  </a:lnTo>
                  <a:lnTo>
                    <a:pt x="1243" y="816"/>
                  </a:lnTo>
                  <a:lnTo>
                    <a:pt x="1239" y="816"/>
                  </a:lnTo>
                  <a:lnTo>
                    <a:pt x="1239" y="823"/>
                  </a:lnTo>
                  <a:lnTo>
                    <a:pt x="1234" y="823"/>
                  </a:lnTo>
                  <a:lnTo>
                    <a:pt x="1234" y="829"/>
                  </a:lnTo>
                  <a:lnTo>
                    <a:pt x="1230" y="829"/>
                  </a:lnTo>
                  <a:lnTo>
                    <a:pt x="1230" y="834"/>
                  </a:lnTo>
                  <a:lnTo>
                    <a:pt x="1224" y="834"/>
                  </a:lnTo>
                  <a:lnTo>
                    <a:pt x="1224" y="840"/>
                  </a:lnTo>
                  <a:lnTo>
                    <a:pt x="1220" y="840"/>
                  </a:lnTo>
                  <a:lnTo>
                    <a:pt x="1220" y="846"/>
                  </a:lnTo>
                  <a:lnTo>
                    <a:pt x="1214" y="846"/>
                  </a:lnTo>
                  <a:lnTo>
                    <a:pt x="1214" y="851"/>
                  </a:lnTo>
                  <a:lnTo>
                    <a:pt x="1209" y="851"/>
                  </a:lnTo>
                  <a:lnTo>
                    <a:pt x="1209" y="864"/>
                  </a:lnTo>
                  <a:lnTo>
                    <a:pt x="1204" y="864"/>
                  </a:lnTo>
                  <a:lnTo>
                    <a:pt x="1204" y="870"/>
                  </a:lnTo>
                  <a:lnTo>
                    <a:pt x="1200" y="870"/>
                  </a:lnTo>
                  <a:lnTo>
                    <a:pt x="1200" y="875"/>
                  </a:lnTo>
                  <a:lnTo>
                    <a:pt x="1195" y="875"/>
                  </a:lnTo>
                  <a:lnTo>
                    <a:pt x="1195" y="881"/>
                  </a:lnTo>
                  <a:lnTo>
                    <a:pt x="1190" y="881"/>
                  </a:lnTo>
                  <a:lnTo>
                    <a:pt x="1190" y="888"/>
                  </a:lnTo>
                  <a:lnTo>
                    <a:pt x="1186" y="888"/>
                  </a:lnTo>
                  <a:lnTo>
                    <a:pt x="1186" y="893"/>
                  </a:lnTo>
                  <a:lnTo>
                    <a:pt x="1181" y="893"/>
                  </a:lnTo>
                  <a:lnTo>
                    <a:pt x="1181" y="900"/>
                  </a:lnTo>
                  <a:lnTo>
                    <a:pt x="1176" y="900"/>
                  </a:lnTo>
                  <a:lnTo>
                    <a:pt x="1176" y="905"/>
                  </a:lnTo>
                  <a:lnTo>
                    <a:pt x="1171" y="905"/>
                  </a:lnTo>
                  <a:lnTo>
                    <a:pt x="1171" y="911"/>
                  </a:lnTo>
                  <a:lnTo>
                    <a:pt x="1167" y="911"/>
                  </a:lnTo>
                  <a:lnTo>
                    <a:pt x="1167" y="924"/>
                  </a:lnTo>
                  <a:lnTo>
                    <a:pt x="1161" y="924"/>
                  </a:lnTo>
                  <a:lnTo>
                    <a:pt x="1161" y="929"/>
                  </a:lnTo>
                  <a:lnTo>
                    <a:pt x="1157" y="929"/>
                  </a:lnTo>
                  <a:lnTo>
                    <a:pt x="1157" y="934"/>
                  </a:lnTo>
                  <a:lnTo>
                    <a:pt x="1153" y="934"/>
                  </a:lnTo>
                  <a:lnTo>
                    <a:pt x="1153" y="946"/>
                  </a:lnTo>
                  <a:lnTo>
                    <a:pt x="1147" y="946"/>
                  </a:lnTo>
                  <a:lnTo>
                    <a:pt x="1147" y="952"/>
                  </a:lnTo>
                  <a:lnTo>
                    <a:pt x="1142" y="952"/>
                  </a:lnTo>
                  <a:lnTo>
                    <a:pt x="1142" y="959"/>
                  </a:lnTo>
                  <a:lnTo>
                    <a:pt x="1137" y="959"/>
                  </a:lnTo>
                  <a:lnTo>
                    <a:pt x="1137" y="965"/>
                  </a:lnTo>
                  <a:lnTo>
                    <a:pt x="1133" y="965"/>
                  </a:lnTo>
                  <a:lnTo>
                    <a:pt x="1133" y="970"/>
                  </a:lnTo>
                  <a:lnTo>
                    <a:pt x="1127" y="970"/>
                  </a:lnTo>
                  <a:lnTo>
                    <a:pt x="1127" y="976"/>
                  </a:lnTo>
                  <a:lnTo>
                    <a:pt x="1123" y="976"/>
                  </a:lnTo>
                  <a:lnTo>
                    <a:pt x="1123" y="982"/>
                  </a:lnTo>
                  <a:lnTo>
                    <a:pt x="1119" y="982"/>
                  </a:lnTo>
                  <a:lnTo>
                    <a:pt x="1119" y="987"/>
                  </a:lnTo>
                  <a:lnTo>
                    <a:pt x="1113" y="987"/>
                  </a:lnTo>
                  <a:lnTo>
                    <a:pt x="1113" y="994"/>
                  </a:lnTo>
                  <a:lnTo>
                    <a:pt x="1109" y="994"/>
                  </a:lnTo>
                  <a:lnTo>
                    <a:pt x="1109" y="1000"/>
                  </a:lnTo>
                  <a:lnTo>
                    <a:pt x="1105" y="1000"/>
                  </a:lnTo>
                  <a:lnTo>
                    <a:pt x="1105" y="1006"/>
                  </a:lnTo>
                  <a:lnTo>
                    <a:pt x="1095" y="1006"/>
                  </a:lnTo>
                  <a:lnTo>
                    <a:pt x="1095" y="1019"/>
                  </a:lnTo>
                  <a:lnTo>
                    <a:pt x="1090" y="1019"/>
                  </a:lnTo>
                  <a:lnTo>
                    <a:pt x="1090" y="1029"/>
                  </a:lnTo>
                  <a:lnTo>
                    <a:pt x="1086" y="1029"/>
                  </a:lnTo>
                  <a:lnTo>
                    <a:pt x="1086" y="1041"/>
                  </a:lnTo>
                  <a:lnTo>
                    <a:pt x="1080" y="1041"/>
                  </a:lnTo>
                  <a:lnTo>
                    <a:pt x="1080" y="1052"/>
                  </a:lnTo>
                  <a:lnTo>
                    <a:pt x="1076" y="1052"/>
                  </a:lnTo>
                  <a:lnTo>
                    <a:pt x="1076" y="1065"/>
                  </a:lnTo>
                  <a:lnTo>
                    <a:pt x="1070" y="1065"/>
                  </a:lnTo>
                  <a:lnTo>
                    <a:pt x="1070" y="1077"/>
                  </a:lnTo>
                  <a:lnTo>
                    <a:pt x="1065" y="1077"/>
                  </a:lnTo>
                  <a:lnTo>
                    <a:pt x="1065" y="1082"/>
                  </a:lnTo>
                  <a:lnTo>
                    <a:pt x="1061" y="1082"/>
                  </a:lnTo>
                  <a:lnTo>
                    <a:pt x="1061" y="1088"/>
                  </a:lnTo>
                  <a:lnTo>
                    <a:pt x="1056" y="1088"/>
                  </a:lnTo>
                  <a:lnTo>
                    <a:pt x="1056" y="1106"/>
                  </a:lnTo>
                  <a:lnTo>
                    <a:pt x="1051" y="1106"/>
                  </a:lnTo>
                  <a:lnTo>
                    <a:pt x="1051" y="1112"/>
                  </a:lnTo>
                  <a:lnTo>
                    <a:pt x="1046" y="1112"/>
                  </a:lnTo>
                  <a:lnTo>
                    <a:pt x="1046" y="1118"/>
                  </a:lnTo>
                  <a:lnTo>
                    <a:pt x="1042" y="1118"/>
                  </a:lnTo>
                  <a:lnTo>
                    <a:pt x="1042" y="1125"/>
                  </a:lnTo>
                  <a:lnTo>
                    <a:pt x="1037" y="1125"/>
                  </a:lnTo>
                  <a:lnTo>
                    <a:pt x="1037" y="1130"/>
                  </a:lnTo>
                  <a:lnTo>
                    <a:pt x="1032" y="1130"/>
                  </a:lnTo>
                  <a:lnTo>
                    <a:pt x="1032" y="1136"/>
                  </a:lnTo>
                  <a:lnTo>
                    <a:pt x="1027" y="1136"/>
                  </a:lnTo>
                  <a:lnTo>
                    <a:pt x="1027" y="1142"/>
                  </a:lnTo>
                  <a:lnTo>
                    <a:pt x="1023" y="1142"/>
                  </a:lnTo>
                  <a:lnTo>
                    <a:pt x="1023" y="1147"/>
                  </a:lnTo>
                  <a:lnTo>
                    <a:pt x="1018" y="1147"/>
                  </a:lnTo>
                  <a:lnTo>
                    <a:pt x="1018" y="1153"/>
                  </a:lnTo>
                  <a:lnTo>
                    <a:pt x="1013" y="1153"/>
                  </a:lnTo>
                  <a:lnTo>
                    <a:pt x="1013" y="1160"/>
                  </a:lnTo>
                  <a:lnTo>
                    <a:pt x="1009" y="1160"/>
                  </a:lnTo>
                  <a:lnTo>
                    <a:pt x="1009" y="1166"/>
                  </a:lnTo>
                  <a:lnTo>
                    <a:pt x="1003" y="1166"/>
                  </a:lnTo>
                  <a:lnTo>
                    <a:pt x="1003" y="1171"/>
                  </a:lnTo>
                  <a:lnTo>
                    <a:pt x="998" y="1171"/>
                  </a:lnTo>
                  <a:lnTo>
                    <a:pt x="998" y="1178"/>
                  </a:lnTo>
                  <a:lnTo>
                    <a:pt x="993" y="1178"/>
                  </a:lnTo>
                  <a:lnTo>
                    <a:pt x="993" y="1183"/>
                  </a:lnTo>
                  <a:lnTo>
                    <a:pt x="989" y="1183"/>
                  </a:lnTo>
                  <a:lnTo>
                    <a:pt x="989" y="1196"/>
                  </a:lnTo>
                  <a:lnTo>
                    <a:pt x="984" y="1196"/>
                  </a:lnTo>
                  <a:lnTo>
                    <a:pt x="984" y="1201"/>
                  </a:lnTo>
                  <a:lnTo>
                    <a:pt x="979" y="1201"/>
                  </a:lnTo>
                  <a:lnTo>
                    <a:pt x="979" y="1207"/>
                  </a:lnTo>
                  <a:lnTo>
                    <a:pt x="975" y="1207"/>
                  </a:lnTo>
                  <a:lnTo>
                    <a:pt x="975" y="1212"/>
                  </a:lnTo>
                  <a:lnTo>
                    <a:pt x="969" y="1212"/>
                  </a:lnTo>
                  <a:lnTo>
                    <a:pt x="969" y="1219"/>
                  </a:lnTo>
                  <a:lnTo>
                    <a:pt x="965" y="1219"/>
                  </a:lnTo>
                  <a:lnTo>
                    <a:pt x="965" y="1224"/>
                  </a:lnTo>
                  <a:lnTo>
                    <a:pt x="960" y="1224"/>
                  </a:lnTo>
                  <a:lnTo>
                    <a:pt x="960" y="1237"/>
                  </a:lnTo>
                  <a:lnTo>
                    <a:pt x="955" y="1237"/>
                  </a:lnTo>
                  <a:lnTo>
                    <a:pt x="955" y="1242"/>
                  </a:lnTo>
                  <a:lnTo>
                    <a:pt x="950" y="1242"/>
                  </a:lnTo>
                  <a:lnTo>
                    <a:pt x="950" y="1248"/>
                  </a:lnTo>
                  <a:lnTo>
                    <a:pt x="946" y="1248"/>
                  </a:lnTo>
                  <a:lnTo>
                    <a:pt x="946" y="1254"/>
                  </a:lnTo>
                  <a:lnTo>
                    <a:pt x="941" y="1254"/>
                  </a:lnTo>
                  <a:lnTo>
                    <a:pt x="941" y="1266"/>
                  </a:lnTo>
                  <a:lnTo>
                    <a:pt x="936" y="1266"/>
                  </a:lnTo>
                  <a:lnTo>
                    <a:pt x="936" y="1278"/>
                  </a:lnTo>
                  <a:lnTo>
                    <a:pt x="932" y="1278"/>
                  </a:lnTo>
                  <a:lnTo>
                    <a:pt x="932" y="1283"/>
                  </a:lnTo>
                  <a:lnTo>
                    <a:pt x="926" y="1283"/>
                  </a:lnTo>
                  <a:lnTo>
                    <a:pt x="926" y="1289"/>
                  </a:lnTo>
                  <a:lnTo>
                    <a:pt x="921" y="1289"/>
                  </a:lnTo>
                  <a:lnTo>
                    <a:pt x="921" y="1301"/>
                  </a:lnTo>
                  <a:lnTo>
                    <a:pt x="916" y="1301"/>
                  </a:lnTo>
                  <a:lnTo>
                    <a:pt x="916" y="1307"/>
                  </a:lnTo>
                  <a:lnTo>
                    <a:pt x="912" y="1307"/>
                  </a:lnTo>
                  <a:lnTo>
                    <a:pt x="912" y="1313"/>
                  </a:lnTo>
                  <a:lnTo>
                    <a:pt x="907" y="1313"/>
                  </a:lnTo>
                  <a:lnTo>
                    <a:pt x="907" y="1324"/>
                  </a:lnTo>
                  <a:lnTo>
                    <a:pt x="902" y="1324"/>
                  </a:lnTo>
                  <a:lnTo>
                    <a:pt x="902" y="1331"/>
                  </a:lnTo>
                  <a:lnTo>
                    <a:pt x="898" y="1331"/>
                  </a:lnTo>
                  <a:lnTo>
                    <a:pt x="898" y="1337"/>
                  </a:lnTo>
                  <a:lnTo>
                    <a:pt x="893" y="1337"/>
                  </a:lnTo>
                  <a:lnTo>
                    <a:pt x="893" y="1348"/>
                  </a:lnTo>
                  <a:lnTo>
                    <a:pt x="888" y="1348"/>
                  </a:lnTo>
                  <a:lnTo>
                    <a:pt x="888" y="1354"/>
                  </a:lnTo>
                  <a:lnTo>
                    <a:pt x="883" y="1354"/>
                  </a:lnTo>
                  <a:lnTo>
                    <a:pt x="883" y="1360"/>
                  </a:lnTo>
                  <a:lnTo>
                    <a:pt x="879" y="1360"/>
                  </a:lnTo>
                  <a:lnTo>
                    <a:pt x="879" y="1373"/>
                  </a:lnTo>
                  <a:lnTo>
                    <a:pt x="873" y="1373"/>
                  </a:lnTo>
                  <a:lnTo>
                    <a:pt x="873" y="1378"/>
                  </a:lnTo>
                  <a:lnTo>
                    <a:pt x="869" y="1378"/>
                  </a:lnTo>
                  <a:lnTo>
                    <a:pt x="869" y="1384"/>
                  </a:lnTo>
                  <a:lnTo>
                    <a:pt x="864" y="1384"/>
                  </a:lnTo>
                  <a:lnTo>
                    <a:pt x="864" y="1395"/>
                  </a:lnTo>
                  <a:lnTo>
                    <a:pt x="859" y="1395"/>
                  </a:lnTo>
                  <a:lnTo>
                    <a:pt x="859" y="1402"/>
                  </a:lnTo>
                  <a:lnTo>
                    <a:pt x="854" y="1402"/>
                  </a:lnTo>
                  <a:lnTo>
                    <a:pt x="854" y="1425"/>
                  </a:lnTo>
                  <a:lnTo>
                    <a:pt x="849" y="1425"/>
                  </a:lnTo>
                  <a:lnTo>
                    <a:pt x="849" y="1432"/>
                  </a:lnTo>
                  <a:lnTo>
                    <a:pt x="845" y="1432"/>
                  </a:lnTo>
                  <a:lnTo>
                    <a:pt x="845" y="1438"/>
                  </a:lnTo>
                  <a:lnTo>
                    <a:pt x="839" y="1438"/>
                  </a:lnTo>
                  <a:lnTo>
                    <a:pt x="839" y="1443"/>
                  </a:lnTo>
                  <a:lnTo>
                    <a:pt x="835" y="1443"/>
                  </a:lnTo>
                  <a:lnTo>
                    <a:pt x="835" y="1455"/>
                  </a:lnTo>
                  <a:lnTo>
                    <a:pt x="830" y="1455"/>
                  </a:lnTo>
                  <a:lnTo>
                    <a:pt x="830" y="1473"/>
                  </a:lnTo>
                  <a:lnTo>
                    <a:pt x="825" y="1473"/>
                  </a:lnTo>
                  <a:lnTo>
                    <a:pt x="825" y="1479"/>
                  </a:lnTo>
                  <a:lnTo>
                    <a:pt x="820" y="1479"/>
                  </a:lnTo>
                  <a:lnTo>
                    <a:pt x="820" y="1484"/>
                  </a:lnTo>
                  <a:lnTo>
                    <a:pt x="811" y="1484"/>
                  </a:lnTo>
                  <a:lnTo>
                    <a:pt x="811" y="1491"/>
                  </a:lnTo>
                  <a:lnTo>
                    <a:pt x="806" y="1491"/>
                  </a:lnTo>
                  <a:lnTo>
                    <a:pt x="806" y="1501"/>
                  </a:lnTo>
                  <a:lnTo>
                    <a:pt x="802" y="1501"/>
                  </a:lnTo>
                  <a:lnTo>
                    <a:pt x="802" y="1508"/>
                  </a:lnTo>
                  <a:lnTo>
                    <a:pt x="797" y="1508"/>
                  </a:lnTo>
                  <a:lnTo>
                    <a:pt x="797" y="1520"/>
                  </a:lnTo>
                  <a:lnTo>
                    <a:pt x="792" y="1520"/>
                  </a:lnTo>
                  <a:lnTo>
                    <a:pt x="792" y="1533"/>
                  </a:lnTo>
                  <a:lnTo>
                    <a:pt x="787" y="1533"/>
                  </a:lnTo>
                  <a:lnTo>
                    <a:pt x="787" y="1544"/>
                  </a:lnTo>
                  <a:lnTo>
                    <a:pt x="783" y="1544"/>
                  </a:lnTo>
                  <a:lnTo>
                    <a:pt x="783" y="1550"/>
                  </a:lnTo>
                  <a:lnTo>
                    <a:pt x="777" y="1550"/>
                  </a:lnTo>
                  <a:lnTo>
                    <a:pt x="777" y="1566"/>
                  </a:lnTo>
                  <a:lnTo>
                    <a:pt x="772" y="1566"/>
                  </a:lnTo>
                  <a:lnTo>
                    <a:pt x="772" y="1579"/>
                  </a:lnTo>
                  <a:lnTo>
                    <a:pt x="768" y="1579"/>
                  </a:lnTo>
                  <a:lnTo>
                    <a:pt x="768" y="1591"/>
                  </a:lnTo>
                  <a:lnTo>
                    <a:pt x="763" y="1591"/>
                  </a:lnTo>
                  <a:lnTo>
                    <a:pt x="763" y="1596"/>
                  </a:lnTo>
                  <a:lnTo>
                    <a:pt x="758" y="1596"/>
                  </a:lnTo>
                  <a:lnTo>
                    <a:pt x="758" y="1603"/>
                  </a:lnTo>
                  <a:lnTo>
                    <a:pt x="754" y="1603"/>
                  </a:lnTo>
                  <a:lnTo>
                    <a:pt x="754" y="1615"/>
                  </a:lnTo>
                  <a:lnTo>
                    <a:pt x="749" y="1615"/>
                  </a:lnTo>
                  <a:lnTo>
                    <a:pt x="749" y="1620"/>
                  </a:lnTo>
                  <a:lnTo>
                    <a:pt x="744" y="1620"/>
                  </a:lnTo>
                  <a:lnTo>
                    <a:pt x="744" y="1639"/>
                  </a:lnTo>
                  <a:lnTo>
                    <a:pt x="739" y="1639"/>
                  </a:lnTo>
                  <a:lnTo>
                    <a:pt x="739" y="1650"/>
                  </a:lnTo>
                  <a:lnTo>
                    <a:pt x="735" y="1650"/>
                  </a:lnTo>
                  <a:lnTo>
                    <a:pt x="735" y="1669"/>
                  </a:lnTo>
                  <a:lnTo>
                    <a:pt x="729" y="1669"/>
                  </a:lnTo>
                  <a:lnTo>
                    <a:pt x="729" y="1685"/>
                  </a:lnTo>
                  <a:lnTo>
                    <a:pt x="725" y="1685"/>
                  </a:lnTo>
                  <a:lnTo>
                    <a:pt x="725" y="1702"/>
                  </a:lnTo>
                  <a:lnTo>
                    <a:pt x="721" y="1702"/>
                  </a:lnTo>
                  <a:lnTo>
                    <a:pt x="721" y="1715"/>
                  </a:lnTo>
                  <a:lnTo>
                    <a:pt x="715" y="1715"/>
                  </a:lnTo>
                  <a:lnTo>
                    <a:pt x="715" y="1732"/>
                  </a:lnTo>
                  <a:lnTo>
                    <a:pt x="711" y="1732"/>
                  </a:lnTo>
                  <a:lnTo>
                    <a:pt x="711" y="1745"/>
                  </a:lnTo>
                  <a:lnTo>
                    <a:pt x="705" y="1745"/>
                  </a:lnTo>
                  <a:lnTo>
                    <a:pt x="705" y="1756"/>
                  </a:lnTo>
                  <a:lnTo>
                    <a:pt x="701" y="1756"/>
                  </a:lnTo>
                  <a:lnTo>
                    <a:pt x="701" y="1773"/>
                  </a:lnTo>
                  <a:lnTo>
                    <a:pt x="695" y="1773"/>
                  </a:lnTo>
                  <a:lnTo>
                    <a:pt x="695" y="1786"/>
                  </a:lnTo>
                  <a:lnTo>
                    <a:pt x="691" y="1786"/>
                  </a:lnTo>
                  <a:lnTo>
                    <a:pt x="691" y="1797"/>
                  </a:lnTo>
                  <a:lnTo>
                    <a:pt x="687" y="1797"/>
                  </a:lnTo>
                  <a:lnTo>
                    <a:pt x="687" y="1803"/>
                  </a:lnTo>
                  <a:lnTo>
                    <a:pt x="681" y="1803"/>
                  </a:lnTo>
                  <a:lnTo>
                    <a:pt x="681" y="1815"/>
                  </a:lnTo>
                  <a:lnTo>
                    <a:pt x="677" y="1815"/>
                  </a:lnTo>
                  <a:lnTo>
                    <a:pt x="677" y="1827"/>
                  </a:lnTo>
                  <a:lnTo>
                    <a:pt x="672" y="1827"/>
                  </a:lnTo>
                  <a:lnTo>
                    <a:pt x="672" y="1838"/>
                  </a:lnTo>
                  <a:lnTo>
                    <a:pt x="667" y="1838"/>
                  </a:lnTo>
                  <a:lnTo>
                    <a:pt x="667" y="1857"/>
                  </a:lnTo>
                  <a:lnTo>
                    <a:pt x="662" y="1857"/>
                  </a:lnTo>
                  <a:lnTo>
                    <a:pt x="662" y="1862"/>
                  </a:lnTo>
                  <a:lnTo>
                    <a:pt x="658" y="1862"/>
                  </a:lnTo>
                  <a:lnTo>
                    <a:pt x="658" y="1868"/>
                  </a:lnTo>
                  <a:lnTo>
                    <a:pt x="653" y="1868"/>
                  </a:lnTo>
                  <a:lnTo>
                    <a:pt x="653" y="1880"/>
                  </a:lnTo>
                  <a:lnTo>
                    <a:pt x="648" y="1880"/>
                  </a:lnTo>
                  <a:lnTo>
                    <a:pt x="648" y="1892"/>
                  </a:lnTo>
                  <a:lnTo>
                    <a:pt x="644" y="1892"/>
                  </a:lnTo>
                  <a:lnTo>
                    <a:pt x="644" y="1905"/>
                  </a:lnTo>
                  <a:lnTo>
                    <a:pt x="639" y="1905"/>
                  </a:lnTo>
                  <a:lnTo>
                    <a:pt x="639" y="1916"/>
                  </a:lnTo>
                  <a:lnTo>
                    <a:pt x="633" y="1916"/>
                  </a:lnTo>
                  <a:lnTo>
                    <a:pt x="633" y="1928"/>
                  </a:lnTo>
                  <a:lnTo>
                    <a:pt x="628" y="1928"/>
                  </a:lnTo>
                  <a:lnTo>
                    <a:pt x="628" y="1939"/>
                  </a:lnTo>
                  <a:lnTo>
                    <a:pt x="624" y="1939"/>
                  </a:lnTo>
                  <a:lnTo>
                    <a:pt x="624" y="1957"/>
                  </a:lnTo>
                  <a:lnTo>
                    <a:pt x="618" y="1957"/>
                  </a:lnTo>
                  <a:lnTo>
                    <a:pt x="618" y="1969"/>
                  </a:lnTo>
                  <a:lnTo>
                    <a:pt x="614" y="1969"/>
                  </a:lnTo>
                  <a:lnTo>
                    <a:pt x="614" y="1987"/>
                  </a:lnTo>
                  <a:lnTo>
                    <a:pt x="609" y="1987"/>
                  </a:lnTo>
                  <a:lnTo>
                    <a:pt x="609" y="1998"/>
                  </a:lnTo>
                  <a:lnTo>
                    <a:pt x="605" y="1998"/>
                  </a:lnTo>
                  <a:lnTo>
                    <a:pt x="605" y="2023"/>
                  </a:lnTo>
                  <a:lnTo>
                    <a:pt x="600" y="2023"/>
                  </a:lnTo>
                  <a:lnTo>
                    <a:pt x="600" y="2028"/>
                  </a:lnTo>
                  <a:lnTo>
                    <a:pt x="595" y="2028"/>
                  </a:lnTo>
                  <a:lnTo>
                    <a:pt x="595" y="2047"/>
                  </a:lnTo>
                  <a:lnTo>
                    <a:pt x="591" y="2047"/>
                  </a:lnTo>
                  <a:lnTo>
                    <a:pt x="591" y="2058"/>
                  </a:lnTo>
                  <a:lnTo>
                    <a:pt x="585" y="2058"/>
                  </a:lnTo>
                  <a:lnTo>
                    <a:pt x="585" y="2069"/>
                  </a:lnTo>
                  <a:lnTo>
                    <a:pt x="581" y="2069"/>
                  </a:lnTo>
                  <a:lnTo>
                    <a:pt x="581" y="2075"/>
                  </a:lnTo>
                  <a:lnTo>
                    <a:pt x="576" y="2075"/>
                  </a:lnTo>
                  <a:lnTo>
                    <a:pt x="576" y="2099"/>
                  </a:lnTo>
                  <a:lnTo>
                    <a:pt x="571" y="2099"/>
                  </a:lnTo>
                  <a:lnTo>
                    <a:pt x="571" y="2110"/>
                  </a:lnTo>
                  <a:lnTo>
                    <a:pt x="566" y="2110"/>
                  </a:lnTo>
                  <a:lnTo>
                    <a:pt x="566" y="2123"/>
                  </a:lnTo>
                  <a:lnTo>
                    <a:pt x="561" y="2123"/>
                  </a:lnTo>
                  <a:lnTo>
                    <a:pt x="561" y="2134"/>
                  </a:lnTo>
                  <a:lnTo>
                    <a:pt x="556" y="2134"/>
                  </a:lnTo>
                  <a:lnTo>
                    <a:pt x="556" y="2152"/>
                  </a:lnTo>
                  <a:lnTo>
                    <a:pt x="551" y="2152"/>
                  </a:lnTo>
                  <a:lnTo>
                    <a:pt x="551" y="2164"/>
                  </a:lnTo>
                  <a:lnTo>
                    <a:pt x="547" y="2164"/>
                  </a:lnTo>
                  <a:lnTo>
                    <a:pt x="547" y="2170"/>
                  </a:lnTo>
                  <a:lnTo>
                    <a:pt x="542" y="2170"/>
                  </a:lnTo>
                  <a:lnTo>
                    <a:pt x="542" y="2182"/>
                  </a:lnTo>
                  <a:lnTo>
                    <a:pt x="537" y="2182"/>
                  </a:lnTo>
                  <a:lnTo>
                    <a:pt x="537" y="2193"/>
                  </a:lnTo>
                  <a:lnTo>
                    <a:pt x="532" y="2193"/>
                  </a:lnTo>
                  <a:lnTo>
                    <a:pt x="532" y="2200"/>
                  </a:lnTo>
                  <a:lnTo>
                    <a:pt x="528" y="2200"/>
                  </a:lnTo>
                  <a:lnTo>
                    <a:pt x="528" y="2211"/>
                  </a:lnTo>
                  <a:lnTo>
                    <a:pt x="523" y="2211"/>
                  </a:lnTo>
                  <a:lnTo>
                    <a:pt x="523" y="2218"/>
                  </a:lnTo>
                  <a:lnTo>
                    <a:pt x="518" y="2218"/>
                  </a:lnTo>
                  <a:lnTo>
                    <a:pt x="518" y="2224"/>
                  </a:lnTo>
                  <a:lnTo>
                    <a:pt x="514" y="2224"/>
                  </a:lnTo>
                  <a:lnTo>
                    <a:pt x="514" y="2246"/>
                  </a:lnTo>
                  <a:lnTo>
                    <a:pt x="509" y="2246"/>
                  </a:lnTo>
                  <a:lnTo>
                    <a:pt x="509" y="2253"/>
                  </a:lnTo>
                  <a:lnTo>
                    <a:pt x="504" y="2253"/>
                  </a:lnTo>
                  <a:lnTo>
                    <a:pt x="504" y="2265"/>
                  </a:lnTo>
                  <a:lnTo>
                    <a:pt x="499" y="2265"/>
                  </a:lnTo>
                  <a:lnTo>
                    <a:pt x="499" y="2276"/>
                  </a:lnTo>
                  <a:lnTo>
                    <a:pt x="495" y="2276"/>
                  </a:lnTo>
                  <a:lnTo>
                    <a:pt x="495" y="2288"/>
                  </a:lnTo>
                  <a:lnTo>
                    <a:pt x="488" y="2288"/>
                  </a:lnTo>
                  <a:lnTo>
                    <a:pt x="488" y="2300"/>
                  </a:lnTo>
                  <a:lnTo>
                    <a:pt x="484" y="2300"/>
                  </a:lnTo>
                  <a:lnTo>
                    <a:pt x="484" y="2311"/>
                  </a:lnTo>
                  <a:lnTo>
                    <a:pt x="479" y="2311"/>
                  </a:lnTo>
                  <a:lnTo>
                    <a:pt x="479" y="2324"/>
                  </a:lnTo>
                  <a:lnTo>
                    <a:pt x="474" y="2324"/>
                  </a:lnTo>
                  <a:lnTo>
                    <a:pt x="474" y="2330"/>
                  </a:lnTo>
                  <a:lnTo>
                    <a:pt x="470" y="2330"/>
                  </a:lnTo>
                  <a:lnTo>
                    <a:pt x="470" y="2341"/>
                  </a:lnTo>
                  <a:lnTo>
                    <a:pt x="465" y="2341"/>
                  </a:lnTo>
                  <a:lnTo>
                    <a:pt x="465" y="2348"/>
                  </a:lnTo>
                  <a:lnTo>
                    <a:pt x="461" y="2348"/>
                  </a:lnTo>
                  <a:lnTo>
                    <a:pt x="461" y="2360"/>
                  </a:lnTo>
                  <a:lnTo>
                    <a:pt x="455" y="2360"/>
                  </a:lnTo>
                  <a:lnTo>
                    <a:pt x="455" y="2377"/>
                  </a:lnTo>
                  <a:lnTo>
                    <a:pt x="451" y="2377"/>
                  </a:lnTo>
                  <a:lnTo>
                    <a:pt x="451" y="2389"/>
                  </a:lnTo>
                  <a:lnTo>
                    <a:pt x="446" y="2389"/>
                  </a:lnTo>
                  <a:lnTo>
                    <a:pt x="446" y="2395"/>
                  </a:lnTo>
                  <a:lnTo>
                    <a:pt x="441" y="2395"/>
                  </a:lnTo>
                  <a:lnTo>
                    <a:pt x="441" y="2406"/>
                  </a:lnTo>
                  <a:lnTo>
                    <a:pt x="437" y="2406"/>
                  </a:lnTo>
                  <a:lnTo>
                    <a:pt x="437" y="2419"/>
                  </a:lnTo>
                  <a:lnTo>
                    <a:pt x="432" y="2419"/>
                  </a:lnTo>
                  <a:lnTo>
                    <a:pt x="432" y="2430"/>
                  </a:lnTo>
                  <a:lnTo>
                    <a:pt x="427" y="2430"/>
                  </a:lnTo>
                  <a:lnTo>
                    <a:pt x="427" y="2447"/>
                  </a:lnTo>
                  <a:lnTo>
                    <a:pt x="423" y="2447"/>
                  </a:lnTo>
                  <a:lnTo>
                    <a:pt x="423" y="2466"/>
                  </a:lnTo>
                  <a:lnTo>
                    <a:pt x="417" y="2466"/>
                  </a:lnTo>
                  <a:lnTo>
                    <a:pt x="417" y="2479"/>
                  </a:lnTo>
                  <a:lnTo>
                    <a:pt x="412" y="2479"/>
                  </a:lnTo>
                  <a:lnTo>
                    <a:pt x="412" y="2484"/>
                  </a:lnTo>
                  <a:lnTo>
                    <a:pt x="407" y="2484"/>
                  </a:lnTo>
                  <a:lnTo>
                    <a:pt x="407" y="2489"/>
                  </a:lnTo>
                  <a:lnTo>
                    <a:pt x="403" y="2489"/>
                  </a:lnTo>
                  <a:lnTo>
                    <a:pt x="403" y="2501"/>
                  </a:lnTo>
                  <a:lnTo>
                    <a:pt x="398" y="2501"/>
                  </a:lnTo>
                  <a:lnTo>
                    <a:pt x="398" y="2512"/>
                  </a:lnTo>
                  <a:lnTo>
                    <a:pt x="393" y="2512"/>
                  </a:lnTo>
                  <a:lnTo>
                    <a:pt x="393" y="2525"/>
                  </a:lnTo>
                  <a:lnTo>
                    <a:pt x="388" y="2525"/>
                  </a:lnTo>
                  <a:lnTo>
                    <a:pt x="388" y="2537"/>
                  </a:lnTo>
                  <a:lnTo>
                    <a:pt x="384" y="2537"/>
                  </a:lnTo>
                  <a:lnTo>
                    <a:pt x="384" y="2547"/>
                  </a:lnTo>
                  <a:lnTo>
                    <a:pt x="379" y="2547"/>
                  </a:lnTo>
                  <a:lnTo>
                    <a:pt x="379" y="2560"/>
                  </a:lnTo>
                  <a:lnTo>
                    <a:pt x="374" y="2560"/>
                  </a:lnTo>
                  <a:lnTo>
                    <a:pt x="374" y="2572"/>
                  </a:lnTo>
                  <a:lnTo>
                    <a:pt x="370" y="2572"/>
                  </a:lnTo>
                  <a:lnTo>
                    <a:pt x="370" y="2583"/>
                  </a:lnTo>
                  <a:lnTo>
                    <a:pt x="365" y="2583"/>
                  </a:lnTo>
                  <a:lnTo>
                    <a:pt x="365" y="2596"/>
                  </a:lnTo>
                  <a:lnTo>
                    <a:pt x="360" y="2596"/>
                  </a:lnTo>
                  <a:lnTo>
                    <a:pt x="360" y="2620"/>
                  </a:lnTo>
                  <a:lnTo>
                    <a:pt x="355" y="2620"/>
                  </a:lnTo>
                  <a:lnTo>
                    <a:pt x="355" y="2631"/>
                  </a:lnTo>
                  <a:lnTo>
                    <a:pt x="351" y="2631"/>
                  </a:lnTo>
                  <a:lnTo>
                    <a:pt x="351" y="2637"/>
                  </a:lnTo>
                  <a:lnTo>
                    <a:pt x="345" y="2637"/>
                  </a:lnTo>
                  <a:lnTo>
                    <a:pt x="345" y="2648"/>
                  </a:lnTo>
                  <a:lnTo>
                    <a:pt x="340" y="2648"/>
                  </a:lnTo>
                  <a:lnTo>
                    <a:pt x="340" y="2666"/>
                  </a:lnTo>
                  <a:lnTo>
                    <a:pt x="336" y="2666"/>
                  </a:lnTo>
                  <a:lnTo>
                    <a:pt x="336" y="2689"/>
                  </a:lnTo>
                  <a:lnTo>
                    <a:pt x="330" y="2689"/>
                  </a:lnTo>
                  <a:lnTo>
                    <a:pt x="330" y="2697"/>
                  </a:lnTo>
                  <a:lnTo>
                    <a:pt x="326" y="2697"/>
                  </a:lnTo>
                  <a:lnTo>
                    <a:pt x="326" y="2707"/>
                  </a:lnTo>
                  <a:lnTo>
                    <a:pt x="321" y="2707"/>
                  </a:lnTo>
                  <a:lnTo>
                    <a:pt x="321" y="2719"/>
                  </a:lnTo>
                  <a:lnTo>
                    <a:pt x="317" y="2719"/>
                  </a:lnTo>
                  <a:lnTo>
                    <a:pt x="317" y="2732"/>
                  </a:lnTo>
                  <a:lnTo>
                    <a:pt x="311" y="2732"/>
                  </a:lnTo>
                  <a:lnTo>
                    <a:pt x="311" y="2743"/>
                  </a:lnTo>
                  <a:lnTo>
                    <a:pt x="307" y="2743"/>
                  </a:lnTo>
                  <a:lnTo>
                    <a:pt x="307" y="2761"/>
                  </a:lnTo>
                  <a:lnTo>
                    <a:pt x="303" y="2761"/>
                  </a:lnTo>
                  <a:lnTo>
                    <a:pt x="303" y="2767"/>
                  </a:lnTo>
                  <a:lnTo>
                    <a:pt x="297" y="2767"/>
                  </a:lnTo>
                  <a:lnTo>
                    <a:pt x="297" y="2779"/>
                  </a:lnTo>
                  <a:lnTo>
                    <a:pt x="293" y="2779"/>
                  </a:lnTo>
                  <a:lnTo>
                    <a:pt x="293" y="2792"/>
                  </a:lnTo>
                  <a:lnTo>
                    <a:pt x="288" y="2792"/>
                  </a:lnTo>
                  <a:lnTo>
                    <a:pt x="288" y="2808"/>
                  </a:lnTo>
                  <a:lnTo>
                    <a:pt x="283" y="2808"/>
                  </a:lnTo>
                  <a:lnTo>
                    <a:pt x="283" y="2838"/>
                  </a:lnTo>
                  <a:lnTo>
                    <a:pt x="278" y="2838"/>
                  </a:lnTo>
                  <a:lnTo>
                    <a:pt x="278" y="2850"/>
                  </a:lnTo>
                  <a:lnTo>
                    <a:pt x="273" y="2850"/>
                  </a:lnTo>
                  <a:lnTo>
                    <a:pt x="273" y="2868"/>
                  </a:lnTo>
                  <a:lnTo>
                    <a:pt x="268" y="2868"/>
                  </a:lnTo>
                  <a:lnTo>
                    <a:pt x="268" y="2874"/>
                  </a:lnTo>
                  <a:lnTo>
                    <a:pt x="263" y="2874"/>
                  </a:lnTo>
                  <a:lnTo>
                    <a:pt x="263" y="2892"/>
                  </a:lnTo>
                  <a:lnTo>
                    <a:pt x="259" y="2892"/>
                  </a:lnTo>
                  <a:lnTo>
                    <a:pt x="259" y="2903"/>
                  </a:lnTo>
                  <a:lnTo>
                    <a:pt x="254" y="2903"/>
                  </a:lnTo>
                  <a:lnTo>
                    <a:pt x="254" y="2920"/>
                  </a:lnTo>
                  <a:lnTo>
                    <a:pt x="249" y="2920"/>
                  </a:lnTo>
                  <a:lnTo>
                    <a:pt x="249" y="2933"/>
                  </a:lnTo>
                  <a:lnTo>
                    <a:pt x="244" y="2933"/>
                  </a:lnTo>
                  <a:lnTo>
                    <a:pt x="244" y="2944"/>
                  </a:lnTo>
                  <a:lnTo>
                    <a:pt x="240" y="2944"/>
                  </a:lnTo>
                  <a:lnTo>
                    <a:pt x="240" y="2968"/>
                  </a:lnTo>
                  <a:lnTo>
                    <a:pt x="234" y="2968"/>
                  </a:lnTo>
                  <a:lnTo>
                    <a:pt x="234" y="2979"/>
                  </a:lnTo>
                  <a:lnTo>
                    <a:pt x="230" y="2979"/>
                  </a:lnTo>
                  <a:lnTo>
                    <a:pt x="230" y="2998"/>
                  </a:lnTo>
                  <a:lnTo>
                    <a:pt x="225" y="2998"/>
                  </a:lnTo>
                  <a:lnTo>
                    <a:pt x="225" y="3020"/>
                  </a:lnTo>
                  <a:lnTo>
                    <a:pt x="221" y="3020"/>
                  </a:lnTo>
                  <a:lnTo>
                    <a:pt x="221" y="3039"/>
                  </a:lnTo>
                  <a:lnTo>
                    <a:pt x="216" y="3039"/>
                  </a:lnTo>
                  <a:lnTo>
                    <a:pt x="216" y="3056"/>
                  </a:lnTo>
                  <a:lnTo>
                    <a:pt x="211" y="3056"/>
                  </a:lnTo>
                  <a:lnTo>
                    <a:pt x="211" y="3074"/>
                  </a:lnTo>
                  <a:lnTo>
                    <a:pt x="207" y="3074"/>
                  </a:lnTo>
                  <a:lnTo>
                    <a:pt x="207" y="3092"/>
                  </a:lnTo>
                  <a:lnTo>
                    <a:pt x="200" y="3092"/>
                  </a:lnTo>
                  <a:lnTo>
                    <a:pt x="200" y="3104"/>
                  </a:lnTo>
                  <a:lnTo>
                    <a:pt x="196" y="3104"/>
                  </a:lnTo>
                  <a:lnTo>
                    <a:pt x="196" y="3115"/>
                  </a:lnTo>
                  <a:lnTo>
                    <a:pt x="191" y="3115"/>
                  </a:lnTo>
                  <a:lnTo>
                    <a:pt x="191" y="3134"/>
                  </a:lnTo>
                  <a:lnTo>
                    <a:pt x="186" y="3134"/>
                  </a:lnTo>
                  <a:lnTo>
                    <a:pt x="186" y="3151"/>
                  </a:lnTo>
                  <a:lnTo>
                    <a:pt x="181" y="3151"/>
                  </a:lnTo>
                  <a:lnTo>
                    <a:pt x="181" y="3162"/>
                  </a:lnTo>
                  <a:lnTo>
                    <a:pt x="177" y="3162"/>
                  </a:lnTo>
                  <a:lnTo>
                    <a:pt x="177" y="3180"/>
                  </a:lnTo>
                  <a:lnTo>
                    <a:pt x="172" y="3180"/>
                  </a:lnTo>
                  <a:lnTo>
                    <a:pt x="172" y="3192"/>
                  </a:lnTo>
                  <a:lnTo>
                    <a:pt x="167" y="3192"/>
                  </a:lnTo>
                  <a:lnTo>
                    <a:pt x="167" y="3216"/>
                  </a:lnTo>
                  <a:lnTo>
                    <a:pt x="163" y="3216"/>
                  </a:lnTo>
                  <a:lnTo>
                    <a:pt x="163" y="3228"/>
                  </a:lnTo>
                  <a:lnTo>
                    <a:pt x="158" y="3228"/>
                  </a:lnTo>
                  <a:lnTo>
                    <a:pt x="158" y="3246"/>
                  </a:lnTo>
                  <a:lnTo>
                    <a:pt x="153" y="3246"/>
                  </a:lnTo>
                  <a:lnTo>
                    <a:pt x="153" y="3270"/>
                  </a:lnTo>
                  <a:lnTo>
                    <a:pt x="148" y="3270"/>
                  </a:lnTo>
                  <a:lnTo>
                    <a:pt x="148" y="3287"/>
                  </a:lnTo>
                  <a:lnTo>
                    <a:pt x="144" y="3287"/>
                  </a:lnTo>
                  <a:lnTo>
                    <a:pt x="144" y="3298"/>
                  </a:lnTo>
                  <a:lnTo>
                    <a:pt x="139" y="3298"/>
                  </a:lnTo>
                  <a:lnTo>
                    <a:pt x="139" y="3323"/>
                  </a:lnTo>
                  <a:lnTo>
                    <a:pt x="134" y="3323"/>
                  </a:lnTo>
                  <a:lnTo>
                    <a:pt x="134" y="3335"/>
                  </a:lnTo>
                  <a:lnTo>
                    <a:pt x="129" y="3335"/>
                  </a:lnTo>
                  <a:lnTo>
                    <a:pt x="129" y="3347"/>
                  </a:lnTo>
                  <a:lnTo>
                    <a:pt x="124" y="3347"/>
                  </a:lnTo>
                  <a:lnTo>
                    <a:pt x="124" y="3365"/>
                  </a:lnTo>
                  <a:lnTo>
                    <a:pt x="119" y="3365"/>
                  </a:lnTo>
                  <a:lnTo>
                    <a:pt x="119" y="3387"/>
                  </a:lnTo>
                  <a:lnTo>
                    <a:pt x="114" y="3387"/>
                  </a:lnTo>
                  <a:lnTo>
                    <a:pt x="114" y="3399"/>
                  </a:lnTo>
                  <a:lnTo>
                    <a:pt x="110" y="3399"/>
                  </a:lnTo>
                  <a:lnTo>
                    <a:pt x="110" y="3417"/>
                  </a:lnTo>
                  <a:lnTo>
                    <a:pt x="104" y="3417"/>
                  </a:lnTo>
                  <a:lnTo>
                    <a:pt x="104" y="3429"/>
                  </a:lnTo>
                  <a:lnTo>
                    <a:pt x="100" y="3429"/>
                  </a:lnTo>
                  <a:lnTo>
                    <a:pt x="100" y="3447"/>
                  </a:lnTo>
                  <a:lnTo>
                    <a:pt x="96" y="3447"/>
                  </a:lnTo>
                  <a:lnTo>
                    <a:pt x="96" y="3476"/>
                  </a:lnTo>
                  <a:lnTo>
                    <a:pt x="90" y="3476"/>
                  </a:lnTo>
                  <a:lnTo>
                    <a:pt x="90" y="3493"/>
                  </a:lnTo>
                  <a:lnTo>
                    <a:pt x="86" y="3493"/>
                  </a:lnTo>
                  <a:lnTo>
                    <a:pt x="86" y="3512"/>
                  </a:lnTo>
                  <a:lnTo>
                    <a:pt x="81" y="3512"/>
                  </a:lnTo>
                  <a:lnTo>
                    <a:pt x="81" y="3529"/>
                  </a:lnTo>
                  <a:lnTo>
                    <a:pt x="77" y="3529"/>
                  </a:lnTo>
                  <a:lnTo>
                    <a:pt x="77" y="3553"/>
                  </a:lnTo>
                  <a:lnTo>
                    <a:pt x="72" y="3553"/>
                  </a:lnTo>
                  <a:lnTo>
                    <a:pt x="72" y="3594"/>
                  </a:lnTo>
                  <a:lnTo>
                    <a:pt x="67" y="3594"/>
                  </a:lnTo>
                  <a:lnTo>
                    <a:pt x="67" y="3635"/>
                  </a:lnTo>
                  <a:lnTo>
                    <a:pt x="72" y="3635"/>
                  </a:lnTo>
                  <a:lnTo>
                    <a:pt x="72" y="3642"/>
                  </a:lnTo>
                  <a:lnTo>
                    <a:pt x="77" y="3642"/>
                  </a:lnTo>
                  <a:lnTo>
                    <a:pt x="77" y="3648"/>
                  </a:lnTo>
                  <a:lnTo>
                    <a:pt x="86" y="3648"/>
                  </a:lnTo>
                  <a:lnTo>
                    <a:pt x="86" y="3653"/>
                  </a:lnTo>
                  <a:lnTo>
                    <a:pt x="100" y="3653"/>
                  </a:lnTo>
                  <a:lnTo>
                    <a:pt x="100" y="3660"/>
                  </a:lnTo>
                  <a:lnTo>
                    <a:pt x="119" y="3660"/>
                  </a:lnTo>
                  <a:lnTo>
                    <a:pt x="119" y="3665"/>
                  </a:lnTo>
                  <a:lnTo>
                    <a:pt x="207" y="3665"/>
                  </a:lnTo>
                  <a:lnTo>
                    <a:pt x="207" y="3660"/>
                  </a:lnTo>
                  <a:lnTo>
                    <a:pt x="293" y="3660"/>
                  </a:lnTo>
                  <a:lnTo>
                    <a:pt x="293" y="3653"/>
                  </a:lnTo>
                  <a:lnTo>
                    <a:pt x="355" y="3653"/>
                  </a:lnTo>
                  <a:lnTo>
                    <a:pt x="355" y="3648"/>
                  </a:lnTo>
                  <a:lnTo>
                    <a:pt x="393" y="3648"/>
                  </a:lnTo>
                  <a:lnTo>
                    <a:pt x="393" y="3642"/>
                  </a:lnTo>
                  <a:lnTo>
                    <a:pt x="427" y="3642"/>
                  </a:lnTo>
                  <a:lnTo>
                    <a:pt x="427" y="3635"/>
                  </a:lnTo>
                  <a:lnTo>
                    <a:pt x="451" y="3635"/>
                  </a:lnTo>
                  <a:lnTo>
                    <a:pt x="451" y="3630"/>
                  </a:lnTo>
                  <a:lnTo>
                    <a:pt x="461" y="3630"/>
                  </a:lnTo>
                  <a:lnTo>
                    <a:pt x="461" y="3624"/>
                  </a:lnTo>
                  <a:lnTo>
                    <a:pt x="479" y="3624"/>
                  </a:lnTo>
                  <a:lnTo>
                    <a:pt x="479" y="3619"/>
                  </a:lnTo>
                  <a:lnTo>
                    <a:pt x="488" y="3619"/>
                  </a:lnTo>
                  <a:lnTo>
                    <a:pt x="488" y="3612"/>
                  </a:lnTo>
                  <a:lnTo>
                    <a:pt x="523" y="3612"/>
                  </a:lnTo>
                  <a:lnTo>
                    <a:pt x="523" y="3619"/>
                  </a:lnTo>
                  <a:lnTo>
                    <a:pt x="528" y="3619"/>
                  </a:lnTo>
                  <a:lnTo>
                    <a:pt x="528" y="3624"/>
                  </a:lnTo>
                  <a:lnTo>
                    <a:pt x="532" y="3624"/>
                  </a:lnTo>
                  <a:lnTo>
                    <a:pt x="532" y="3630"/>
                  </a:lnTo>
                  <a:lnTo>
                    <a:pt x="547" y="3630"/>
                  </a:lnTo>
                  <a:lnTo>
                    <a:pt x="547" y="3660"/>
                  </a:lnTo>
                  <a:lnTo>
                    <a:pt x="542" y="3660"/>
                  </a:lnTo>
                  <a:lnTo>
                    <a:pt x="542" y="3671"/>
                  </a:lnTo>
                  <a:lnTo>
                    <a:pt x="537" y="3671"/>
                  </a:lnTo>
                  <a:lnTo>
                    <a:pt x="537" y="3678"/>
                  </a:lnTo>
                  <a:lnTo>
                    <a:pt x="532" y="3678"/>
                  </a:lnTo>
                  <a:lnTo>
                    <a:pt x="532" y="3684"/>
                  </a:lnTo>
                  <a:lnTo>
                    <a:pt x="504" y="3684"/>
                  </a:lnTo>
                  <a:lnTo>
                    <a:pt x="504" y="3689"/>
                  </a:lnTo>
                  <a:lnTo>
                    <a:pt x="474" y="3689"/>
                  </a:lnTo>
                  <a:lnTo>
                    <a:pt x="474" y="3695"/>
                  </a:lnTo>
                  <a:lnTo>
                    <a:pt x="441" y="3695"/>
                  </a:lnTo>
                  <a:lnTo>
                    <a:pt x="441" y="3701"/>
                  </a:lnTo>
                  <a:lnTo>
                    <a:pt x="370" y="3701"/>
                  </a:lnTo>
                  <a:lnTo>
                    <a:pt x="370" y="3706"/>
                  </a:lnTo>
                  <a:lnTo>
                    <a:pt x="321" y="3706"/>
                  </a:lnTo>
                  <a:lnTo>
                    <a:pt x="321" y="3713"/>
                  </a:lnTo>
                  <a:lnTo>
                    <a:pt x="259" y="3713"/>
                  </a:lnTo>
                  <a:lnTo>
                    <a:pt x="259" y="3719"/>
                  </a:lnTo>
                  <a:lnTo>
                    <a:pt x="196" y="3719"/>
                  </a:lnTo>
                  <a:lnTo>
                    <a:pt x="196" y="3725"/>
                  </a:lnTo>
                  <a:lnTo>
                    <a:pt x="129" y="3725"/>
                  </a:lnTo>
                  <a:lnTo>
                    <a:pt x="129" y="3719"/>
                  </a:lnTo>
                  <a:lnTo>
                    <a:pt x="100" y="3719"/>
                  </a:lnTo>
                  <a:lnTo>
                    <a:pt x="100" y="3713"/>
                  </a:lnTo>
                  <a:lnTo>
                    <a:pt x="86" y="3713"/>
                  </a:lnTo>
                  <a:lnTo>
                    <a:pt x="86" y="3706"/>
                  </a:lnTo>
                  <a:lnTo>
                    <a:pt x="63" y="3706"/>
                  </a:lnTo>
                  <a:lnTo>
                    <a:pt x="63" y="3701"/>
                  </a:lnTo>
                  <a:lnTo>
                    <a:pt x="52" y="3701"/>
                  </a:lnTo>
                  <a:lnTo>
                    <a:pt x="52" y="3695"/>
                  </a:lnTo>
                  <a:lnTo>
                    <a:pt x="42" y="3695"/>
                  </a:lnTo>
                  <a:lnTo>
                    <a:pt x="42" y="3689"/>
                  </a:lnTo>
                  <a:lnTo>
                    <a:pt x="28" y="3689"/>
                  </a:lnTo>
                  <a:lnTo>
                    <a:pt x="28" y="3684"/>
                  </a:lnTo>
                  <a:lnTo>
                    <a:pt x="23" y="3684"/>
                  </a:lnTo>
                  <a:lnTo>
                    <a:pt x="23" y="3678"/>
                  </a:lnTo>
                  <a:lnTo>
                    <a:pt x="14" y="3678"/>
                  </a:lnTo>
                  <a:lnTo>
                    <a:pt x="14" y="3671"/>
                  </a:lnTo>
                  <a:lnTo>
                    <a:pt x="9" y="3671"/>
                  </a:lnTo>
                  <a:lnTo>
                    <a:pt x="9" y="3665"/>
                  </a:lnTo>
                  <a:lnTo>
                    <a:pt x="5" y="3665"/>
                  </a:lnTo>
                  <a:lnTo>
                    <a:pt x="5" y="3660"/>
                  </a:lnTo>
                  <a:lnTo>
                    <a:pt x="0" y="3660"/>
                  </a:lnTo>
                  <a:lnTo>
                    <a:pt x="0" y="363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3800" y="730080"/>
              <a:ext cx="693720" cy="474840"/>
            </a:xfrm>
            <a:custGeom>
              <a:avLst/>
              <a:gdLst/>
              <a:ahLst/>
              <a:rect l="l" t="t" r="r" b="b"/>
              <a:pathLst>
                <a:path w="1311" h="1194">
                  <a:moveTo>
                    <a:pt x="0" y="1142"/>
                  </a:moveTo>
                  <a:lnTo>
                    <a:pt x="4" y="1142"/>
                  </a:lnTo>
                  <a:lnTo>
                    <a:pt x="4" y="1131"/>
                  </a:lnTo>
                  <a:lnTo>
                    <a:pt x="9" y="1131"/>
                  </a:lnTo>
                  <a:lnTo>
                    <a:pt x="9" y="1106"/>
                  </a:lnTo>
                  <a:lnTo>
                    <a:pt x="15" y="1106"/>
                  </a:lnTo>
                  <a:lnTo>
                    <a:pt x="15" y="1088"/>
                  </a:lnTo>
                  <a:lnTo>
                    <a:pt x="9" y="1088"/>
                  </a:lnTo>
                  <a:lnTo>
                    <a:pt x="9" y="1077"/>
                  </a:lnTo>
                  <a:lnTo>
                    <a:pt x="15" y="1077"/>
                  </a:lnTo>
                  <a:lnTo>
                    <a:pt x="15" y="1058"/>
                  </a:lnTo>
                  <a:lnTo>
                    <a:pt x="20" y="1058"/>
                  </a:lnTo>
                  <a:lnTo>
                    <a:pt x="20" y="1023"/>
                  </a:lnTo>
                  <a:lnTo>
                    <a:pt x="24" y="1023"/>
                  </a:lnTo>
                  <a:lnTo>
                    <a:pt x="24" y="1005"/>
                  </a:lnTo>
                  <a:lnTo>
                    <a:pt x="29" y="1005"/>
                  </a:lnTo>
                  <a:lnTo>
                    <a:pt x="29" y="977"/>
                  </a:lnTo>
                  <a:lnTo>
                    <a:pt x="34" y="977"/>
                  </a:lnTo>
                  <a:lnTo>
                    <a:pt x="34" y="946"/>
                  </a:lnTo>
                  <a:lnTo>
                    <a:pt x="38" y="946"/>
                  </a:lnTo>
                  <a:lnTo>
                    <a:pt x="38" y="941"/>
                  </a:lnTo>
                  <a:lnTo>
                    <a:pt x="43" y="941"/>
                  </a:lnTo>
                  <a:lnTo>
                    <a:pt x="43" y="923"/>
                  </a:lnTo>
                  <a:lnTo>
                    <a:pt x="48" y="923"/>
                  </a:lnTo>
                  <a:lnTo>
                    <a:pt x="48" y="917"/>
                  </a:lnTo>
                  <a:lnTo>
                    <a:pt x="53" y="917"/>
                  </a:lnTo>
                  <a:lnTo>
                    <a:pt x="53" y="905"/>
                  </a:lnTo>
                  <a:lnTo>
                    <a:pt x="57" y="905"/>
                  </a:lnTo>
                  <a:lnTo>
                    <a:pt x="57" y="900"/>
                  </a:lnTo>
                  <a:lnTo>
                    <a:pt x="63" y="900"/>
                  </a:lnTo>
                  <a:lnTo>
                    <a:pt x="63" y="887"/>
                  </a:lnTo>
                  <a:lnTo>
                    <a:pt x="67" y="887"/>
                  </a:lnTo>
                  <a:lnTo>
                    <a:pt x="67" y="851"/>
                  </a:lnTo>
                  <a:lnTo>
                    <a:pt x="71" y="851"/>
                  </a:lnTo>
                  <a:lnTo>
                    <a:pt x="71" y="840"/>
                  </a:lnTo>
                  <a:lnTo>
                    <a:pt x="77" y="840"/>
                  </a:lnTo>
                  <a:lnTo>
                    <a:pt x="77" y="835"/>
                  </a:lnTo>
                  <a:lnTo>
                    <a:pt x="81" y="835"/>
                  </a:lnTo>
                  <a:lnTo>
                    <a:pt x="81" y="817"/>
                  </a:lnTo>
                  <a:lnTo>
                    <a:pt x="87" y="817"/>
                  </a:lnTo>
                  <a:lnTo>
                    <a:pt x="87" y="792"/>
                  </a:lnTo>
                  <a:lnTo>
                    <a:pt x="91" y="792"/>
                  </a:lnTo>
                  <a:lnTo>
                    <a:pt x="91" y="775"/>
                  </a:lnTo>
                  <a:lnTo>
                    <a:pt x="97" y="775"/>
                  </a:lnTo>
                  <a:lnTo>
                    <a:pt x="97" y="758"/>
                  </a:lnTo>
                  <a:lnTo>
                    <a:pt x="101" y="758"/>
                  </a:lnTo>
                  <a:lnTo>
                    <a:pt x="101" y="733"/>
                  </a:lnTo>
                  <a:lnTo>
                    <a:pt x="105" y="733"/>
                  </a:lnTo>
                  <a:lnTo>
                    <a:pt x="105" y="723"/>
                  </a:lnTo>
                  <a:lnTo>
                    <a:pt x="111" y="723"/>
                  </a:lnTo>
                  <a:lnTo>
                    <a:pt x="111" y="710"/>
                  </a:lnTo>
                  <a:lnTo>
                    <a:pt x="115" y="710"/>
                  </a:lnTo>
                  <a:lnTo>
                    <a:pt x="115" y="680"/>
                  </a:lnTo>
                  <a:lnTo>
                    <a:pt x="120" y="680"/>
                  </a:lnTo>
                  <a:lnTo>
                    <a:pt x="120" y="674"/>
                  </a:lnTo>
                  <a:lnTo>
                    <a:pt x="125" y="674"/>
                  </a:lnTo>
                  <a:lnTo>
                    <a:pt x="125" y="663"/>
                  </a:lnTo>
                  <a:lnTo>
                    <a:pt x="130" y="663"/>
                  </a:lnTo>
                  <a:lnTo>
                    <a:pt x="130" y="639"/>
                  </a:lnTo>
                  <a:lnTo>
                    <a:pt x="134" y="639"/>
                  </a:lnTo>
                  <a:lnTo>
                    <a:pt x="134" y="626"/>
                  </a:lnTo>
                  <a:lnTo>
                    <a:pt x="139" y="626"/>
                  </a:lnTo>
                  <a:lnTo>
                    <a:pt x="139" y="621"/>
                  </a:lnTo>
                  <a:lnTo>
                    <a:pt x="144" y="621"/>
                  </a:lnTo>
                  <a:lnTo>
                    <a:pt x="144" y="609"/>
                  </a:lnTo>
                  <a:lnTo>
                    <a:pt x="148" y="609"/>
                  </a:lnTo>
                  <a:lnTo>
                    <a:pt x="148" y="598"/>
                  </a:lnTo>
                  <a:lnTo>
                    <a:pt x="153" y="598"/>
                  </a:lnTo>
                  <a:lnTo>
                    <a:pt x="153" y="585"/>
                  </a:lnTo>
                  <a:lnTo>
                    <a:pt x="159" y="585"/>
                  </a:lnTo>
                  <a:lnTo>
                    <a:pt x="159" y="568"/>
                  </a:lnTo>
                  <a:lnTo>
                    <a:pt x="163" y="568"/>
                  </a:lnTo>
                  <a:lnTo>
                    <a:pt x="163" y="557"/>
                  </a:lnTo>
                  <a:lnTo>
                    <a:pt x="168" y="557"/>
                  </a:lnTo>
                  <a:lnTo>
                    <a:pt x="168" y="539"/>
                  </a:lnTo>
                  <a:lnTo>
                    <a:pt x="173" y="539"/>
                  </a:lnTo>
                  <a:lnTo>
                    <a:pt x="173" y="533"/>
                  </a:lnTo>
                  <a:lnTo>
                    <a:pt x="178" y="533"/>
                  </a:lnTo>
                  <a:lnTo>
                    <a:pt x="178" y="522"/>
                  </a:lnTo>
                  <a:lnTo>
                    <a:pt x="182" y="522"/>
                  </a:lnTo>
                  <a:lnTo>
                    <a:pt x="182" y="514"/>
                  </a:lnTo>
                  <a:lnTo>
                    <a:pt x="187" y="514"/>
                  </a:lnTo>
                  <a:lnTo>
                    <a:pt x="187" y="497"/>
                  </a:lnTo>
                  <a:lnTo>
                    <a:pt x="192" y="497"/>
                  </a:lnTo>
                  <a:lnTo>
                    <a:pt x="192" y="492"/>
                  </a:lnTo>
                  <a:lnTo>
                    <a:pt x="201" y="492"/>
                  </a:lnTo>
                  <a:lnTo>
                    <a:pt x="201" y="479"/>
                  </a:lnTo>
                  <a:lnTo>
                    <a:pt x="206" y="479"/>
                  </a:lnTo>
                  <a:lnTo>
                    <a:pt x="206" y="468"/>
                  </a:lnTo>
                  <a:lnTo>
                    <a:pt x="211" y="468"/>
                  </a:lnTo>
                  <a:lnTo>
                    <a:pt x="211" y="456"/>
                  </a:lnTo>
                  <a:lnTo>
                    <a:pt x="215" y="456"/>
                  </a:lnTo>
                  <a:lnTo>
                    <a:pt x="215" y="438"/>
                  </a:lnTo>
                  <a:lnTo>
                    <a:pt x="221" y="438"/>
                  </a:lnTo>
                  <a:lnTo>
                    <a:pt x="221" y="421"/>
                  </a:lnTo>
                  <a:lnTo>
                    <a:pt x="225" y="421"/>
                  </a:lnTo>
                  <a:lnTo>
                    <a:pt x="225" y="408"/>
                  </a:lnTo>
                  <a:lnTo>
                    <a:pt x="230" y="408"/>
                  </a:lnTo>
                  <a:lnTo>
                    <a:pt x="230" y="403"/>
                  </a:lnTo>
                  <a:lnTo>
                    <a:pt x="235" y="403"/>
                  </a:lnTo>
                  <a:lnTo>
                    <a:pt x="235" y="391"/>
                  </a:lnTo>
                  <a:lnTo>
                    <a:pt x="240" y="391"/>
                  </a:lnTo>
                  <a:lnTo>
                    <a:pt x="240" y="378"/>
                  </a:lnTo>
                  <a:lnTo>
                    <a:pt x="245" y="378"/>
                  </a:lnTo>
                  <a:lnTo>
                    <a:pt x="245" y="362"/>
                  </a:lnTo>
                  <a:lnTo>
                    <a:pt x="249" y="362"/>
                  </a:lnTo>
                  <a:lnTo>
                    <a:pt x="249" y="356"/>
                  </a:lnTo>
                  <a:lnTo>
                    <a:pt x="255" y="356"/>
                  </a:lnTo>
                  <a:lnTo>
                    <a:pt x="255" y="349"/>
                  </a:lnTo>
                  <a:lnTo>
                    <a:pt x="259" y="349"/>
                  </a:lnTo>
                  <a:lnTo>
                    <a:pt x="259" y="337"/>
                  </a:lnTo>
                  <a:lnTo>
                    <a:pt x="264" y="337"/>
                  </a:lnTo>
                  <a:lnTo>
                    <a:pt x="264" y="332"/>
                  </a:lnTo>
                  <a:lnTo>
                    <a:pt x="269" y="332"/>
                  </a:lnTo>
                  <a:lnTo>
                    <a:pt x="269" y="320"/>
                  </a:lnTo>
                  <a:lnTo>
                    <a:pt x="274" y="320"/>
                  </a:lnTo>
                  <a:lnTo>
                    <a:pt x="274" y="308"/>
                  </a:lnTo>
                  <a:lnTo>
                    <a:pt x="278" y="308"/>
                  </a:lnTo>
                  <a:lnTo>
                    <a:pt x="278" y="296"/>
                  </a:lnTo>
                  <a:lnTo>
                    <a:pt x="283" y="296"/>
                  </a:lnTo>
                  <a:lnTo>
                    <a:pt x="283" y="285"/>
                  </a:lnTo>
                  <a:lnTo>
                    <a:pt x="288" y="285"/>
                  </a:lnTo>
                  <a:lnTo>
                    <a:pt x="288" y="278"/>
                  </a:lnTo>
                  <a:lnTo>
                    <a:pt x="292" y="278"/>
                  </a:lnTo>
                  <a:lnTo>
                    <a:pt x="292" y="267"/>
                  </a:lnTo>
                  <a:lnTo>
                    <a:pt x="297" y="267"/>
                  </a:lnTo>
                  <a:lnTo>
                    <a:pt x="297" y="255"/>
                  </a:lnTo>
                  <a:lnTo>
                    <a:pt x="302" y="255"/>
                  </a:lnTo>
                  <a:lnTo>
                    <a:pt x="302" y="243"/>
                  </a:lnTo>
                  <a:lnTo>
                    <a:pt x="308" y="243"/>
                  </a:lnTo>
                  <a:lnTo>
                    <a:pt x="308" y="237"/>
                  </a:lnTo>
                  <a:lnTo>
                    <a:pt x="312" y="237"/>
                  </a:lnTo>
                  <a:lnTo>
                    <a:pt x="312" y="226"/>
                  </a:lnTo>
                  <a:lnTo>
                    <a:pt x="317" y="226"/>
                  </a:lnTo>
                  <a:lnTo>
                    <a:pt x="317" y="213"/>
                  </a:lnTo>
                  <a:lnTo>
                    <a:pt x="322" y="213"/>
                  </a:lnTo>
                  <a:lnTo>
                    <a:pt x="322" y="207"/>
                  </a:lnTo>
                  <a:lnTo>
                    <a:pt x="326" y="207"/>
                  </a:lnTo>
                  <a:lnTo>
                    <a:pt x="326" y="196"/>
                  </a:lnTo>
                  <a:lnTo>
                    <a:pt x="331" y="196"/>
                  </a:lnTo>
                  <a:lnTo>
                    <a:pt x="331" y="185"/>
                  </a:lnTo>
                  <a:lnTo>
                    <a:pt x="336" y="185"/>
                  </a:lnTo>
                  <a:lnTo>
                    <a:pt x="336" y="172"/>
                  </a:lnTo>
                  <a:lnTo>
                    <a:pt x="341" y="172"/>
                  </a:lnTo>
                  <a:lnTo>
                    <a:pt x="341" y="166"/>
                  </a:lnTo>
                  <a:lnTo>
                    <a:pt x="345" y="166"/>
                  </a:lnTo>
                  <a:lnTo>
                    <a:pt x="345" y="155"/>
                  </a:lnTo>
                  <a:lnTo>
                    <a:pt x="351" y="155"/>
                  </a:lnTo>
                  <a:lnTo>
                    <a:pt x="351" y="149"/>
                  </a:lnTo>
                  <a:lnTo>
                    <a:pt x="355" y="149"/>
                  </a:lnTo>
                  <a:lnTo>
                    <a:pt x="355" y="137"/>
                  </a:lnTo>
                  <a:lnTo>
                    <a:pt x="360" y="137"/>
                  </a:lnTo>
                  <a:lnTo>
                    <a:pt x="360" y="131"/>
                  </a:lnTo>
                  <a:lnTo>
                    <a:pt x="365" y="131"/>
                  </a:lnTo>
                  <a:lnTo>
                    <a:pt x="365" y="119"/>
                  </a:lnTo>
                  <a:lnTo>
                    <a:pt x="369" y="119"/>
                  </a:lnTo>
                  <a:lnTo>
                    <a:pt x="369" y="114"/>
                  </a:lnTo>
                  <a:lnTo>
                    <a:pt x="374" y="114"/>
                  </a:lnTo>
                  <a:lnTo>
                    <a:pt x="374" y="107"/>
                  </a:lnTo>
                  <a:lnTo>
                    <a:pt x="379" y="107"/>
                  </a:lnTo>
                  <a:lnTo>
                    <a:pt x="379" y="90"/>
                  </a:lnTo>
                  <a:lnTo>
                    <a:pt x="385" y="90"/>
                  </a:lnTo>
                  <a:lnTo>
                    <a:pt x="385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94" y="72"/>
                  </a:lnTo>
                  <a:lnTo>
                    <a:pt x="394" y="66"/>
                  </a:lnTo>
                  <a:lnTo>
                    <a:pt x="399" y="66"/>
                  </a:lnTo>
                  <a:lnTo>
                    <a:pt x="399" y="54"/>
                  </a:lnTo>
                  <a:lnTo>
                    <a:pt x="403" y="54"/>
                  </a:lnTo>
                  <a:lnTo>
                    <a:pt x="403" y="49"/>
                  </a:lnTo>
                  <a:lnTo>
                    <a:pt x="408" y="49"/>
                  </a:lnTo>
                  <a:lnTo>
                    <a:pt x="408" y="36"/>
                  </a:lnTo>
                  <a:lnTo>
                    <a:pt x="413" y="36"/>
                  </a:lnTo>
                  <a:lnTo>
                    <a:pt x="413" y="19"/>
                  </a:lnTo>
                  <a:lnTo>
                    <a:pt x="418" y="19"/>
                  </a:lnTo>
                  <a:lnTo>
                    <a:pt x="418" y="8"/>
                  </a:lnTo>
                  <a:lnTo>
                    <a:pt x="422" y="8"/>
                  </a:lnTo>
                  <a:lnTo>
                    <a:pt x="422" y="0"/>
                  </a:lnTo>
                  <a:lnTo>
                    <a:pt x="456" y="0"/>
                  </a:lnTo>
                  <a:lnTo>
                    <a:pt x="456" y="8"/>
                  </a:lnTo>
                  <a:lnTo>
                    <a:pt x="462" y="8"/>
                  </a:lnTo>
                  <a:lnTo>
                    <a:pt x="462" y="49"/>
                  </a:lnTo>
                  <a:lnTo>
                    <a:pt x="456" y="49"/>
                  </a:lnTo>
                  <a:lnTo>
                    <a:pt x="456" y="60"/>
                  </a:lnTo>
                  <a:lnTo>
                    <a:pt x="452" y="60"/>
                  </a:lnTo>
                  <a:lnTo>
                    <a:pt x="452" y="66"/>
                  </a:lnTo>
                  <a:lnTo>
                    <a:pt x="446" y="66"/>
                  </a:lnTo>
                  <a:lnTo>
                    <a:pt x="446" y="84"/>
                  </a:lnTo>
                  <a:lnTo>
                    <a:pt x="441" y="84"/>
                  </a:lnTo>
                  <a:lnTo>
                    <a:pt x="441" y="95"/>
                  </a:lnTo>
                  <a:lnTo>
                    <a:pt x="437" y="95"/>
                  </a:lnTo>
                  <a:lnTo>
                    <a:pt x="437" y="101"/>
                  </a:lnTo>
                  <a:lnTo>
                    <a:pt x="432" y="101"/>
                  </a:lnTo>
                  <a:lnTo>
                    <a:pt x="432" y="114"/>
                  </a:lnTo>
                  <a:lnTo>
                    <a:pt x="427" y="114"/>
                  </a:lnTo>
                  <a:lnTo>
                    <a:pt x="427" y="125"/>
                  </a:lnTo>
                  <a:lnTo>
                    <a:pt x="422" y="125"/>
                  </a:lnTo>
                  <a:lnTo>
                    <a:pt x="422" y="137"/>
                  </a:lnTo>
                  <a:lnTo>
                    <a:pt x="418" y="137"/>
                  </a:lnTo>
                  <a:lnTo>
                    <a:pt x="418" y="149"/>
                  </a:lnTo>
                  <a:lnTo>
                    <a:pt x="413" y="149"/>
                  </a:lnTo>
                  <a:lnTo>
                    <a:pt x="413" y="155"/>
                  </a:lnTo>
                  <a:lnTo>
                    <a:pt x="408" y="155"/>
                  </a:lnTo>
                  <a:lnTo>
                    <a:pt x="408" y="166"/>
                  </a:lnTo>
                  <a:lnTo>
                    <a:pt x="403" y="166"/>
                  </a:lnTo>
                  <a:lnTo>
                    <a:pt x="403" y="172"/>
                  </a:lnTo>
                  <a:lnTo>
                    <a:pt x="399" y="172"/>
                  </a:lnTo>
                  <a:lnTo>
                    <a:pt x="399" y="185"/>
                  </a:lnTo>
                  <a:lnTo>
                    <a:pt x="394" y="185"/>
                  </a:lnTo>
                  <a:lnTo>
                    <a:pt x="394" y="190"/>
                  </a:lnTo>
                  <a:lnTo>
                    <a:pt x="389" y="190"/>
                  </a:lnTo>
                  <a:lnTo>
                    <a:pt x="389" y="196"/>
                  </a:lnTo>
                  <a:lnTo>
                    <a:pt x="385" y="196"/>
                  </a:lnTo>
                  <a:lnTo>
                    <a:pt x="385" y="207"/>
                  </a:lnTo>
                  <a:lnTo>
                    <a:pt x="379" y="207"/>
                  </a:lnTo>
                  <a:lnTo>
                    <a:pt x="379" y="218"/>
                  </a:lnTo>
                  <a:lnTo>
                    <a:pt x="374" y="218"/>
                  </a:lnTo>
                  <a:lnTo>
                    <a:pt x="374" y="226"/>
                  </a:lnTo>
                  <a:lnTo>
                    <a:pt x="369" y="226"/>
                  </a:lnTo>
                  <a:lnTo>
                    <a:pt x="369" y="231"/>
                  </a:lnTo>
                  <a:lnTo>
                    <a:pt x="365" y="231"/>
                  </a:lnTo>
                  <a:lnTo>
                    <a:pt x="365" y="237"/>
                  </a:lnTo>
                  <a:lnTo>
                    <a:pt x="360" y="237"/>
                  </a:lnTo>
                  <a:lnTo>
                    <a:pt x="360" y="243"/>
                  </a:lnTo>
                  <a:lnTo>
                    <a:pt x="355" y="243"/>
                  </a:lnTo>
                  <a:lnTo>
                    <a:pt x="355" y="250"/>
                  </a:lnTo>
                  <a:lnTo>
                    <a:pt x="351" y="250"/>
                  </a:lnTo>
                  <a:lnTo>
                    <a:pt x="351" y="261"/>
                  </a:lnTo>
                  <a:lnTo>
                    <a:pt x="345" y="261"/>
                  </a:lnTo>
                  <a:lnTo>
                    <a:pt x="345" y="272"/>
                  </a:lnTo>
                  <a:lnTo>
                    <a:pt x="341" y="272"/>
                  </a:lnTo>
                  <a:lnTo>
                    <a:pt x="341" y="285"/>
                  </a:lnTo>
                  <a:lnTo>
                    <a:pt x="336" y="285"/>
                  </a:lnTo>
                  <a:lnTo>
                    <a:pt x="336" y="296"/>
                  </a:lnTo>
                  <a:lnTo>
                    <a:pt x="331" y="296"/>
                  </a:lnTo>
                  <a:lnTo>
                    <a:pt x="331" y="302"/>
                  </a:lnTo>
                  <a:lnTo>
                    <a:pt x="326" y="302"/>
                  </a:lnTo>
                  <a:lnTo>
                    <a:pt x="326" y="313"/>
                  </a:lnTo>
                  <a:lnTo>
                    <a:pt x="322" y="313"/>
                  </a:lnTo>
                  <a:lnTo>
                    <a:pt x="322" y="326"/>
                  </a:lnTo>
                  <a:lnTo>
                    <a:pt x="317" y="326"/>
                  </a:lnTo>
                  <a:lnTo>
                    <a:pt x="317" y="332"/>
                  </a:lnTo>
                  <a:lnTo>
                    <a:pt x="312" y="332"/>
                  </a:lnTo>
                  <a:lnTo>
                    <a:pt x="312" y="349"/>
                  </a:lnTo>
                  <a:lnTo>
                    <a:pt x="308" y="349"/>
                  </a:lnTo>
                  <a:lnTo>
                    <a:pt x="308" y="362"/>
                  </a:lnTo>
                  <a:lnTo>
                    <a:pt x="302" y="362"/>
                  </a:lnTo>
                  <a:lnTo>
                    <a:pt x="302" y="367"/>
                  </a:lnTo>
                  <a:lnTo>
                    <a:pt x="297" y="367"/>
                  </a:lnTo>
                  <a:lnTo>
                    <a:pt x="297" y="378"/>
                  </a:lnTo>
                  <a:lnTo>
                    <a:pt x="292" y="378"/>
                  </a:lnTo>
                  <a:lnTo>
                    <a:pt x="292" y="391"/>
                  </a:lnTo>
                  <a:lnTo>
                    <a:pt x="288" y="391"/>
                  </a:lnTo>
                  <a:lnTo>
                    <a:pt x="288" y="403"/>
                  </a:lnTo>
                  <a:lnTo>
                    <a:pt x="283" y="403"/>
                  </a:lnTo>
                  <a:lnTo>
                    <a:pt x="283" y="421"/>
                  </a:lnTo>
                  <a:lnTo>
                    <a:pt x="278" y="421"/>
                  </a:lnTo>
                  <a:lnTo>
                    <a:pt x="278" y="432"/>
                  </a:lnTo>
                  <a:lnTo>
                    <a:pt x="274" y="432"/>
                  </a:lnTo>
                  <a:lnTo>
                    <a:pt x="274" y="444"/>
                  </a:lnTo>
                  <a:lnTo>
                    <a:pt x="269" y="444"/>
                  </a:lnTo>
                  <a:lnTo>
                    <a:pt x="269" y="456"/>
                  </a:lnTo>
                  <a:lnTo>
                    <a:pt x="264" y="456"/>
                  </a:lnTo>
                  <a:lnTo>
                    <a:pt x="264" y="468"/>
                  </a:lnTo>
                  <a:lnTo>
                    <a:pt x="259" y="468"/>
                  </a:lnTo>
                  <a:lnTo>
                    <a:pt x="259" y="473"/>
                  </a:lnTo>
                  <a:lnTo>
                    <a:pt x="255" y="473"/>
                  </a:lnTo>
                  <a:lnTo>
                    <a:pt x="255" y="479"/>
                  </a:lnTo>
                  <a:lnTo>
                    <a:pt x="249" y="479"/>
                  </a:lnTo>
                  <a:lnTo>
                    <a:pt x="249" y="492"/>
                  </a:lnTo>
                  <a:lnTo>
                    <a:pt x="245" y="492"/>
                  </a:lnTo>
                  <a:lnTo>
                    <a:pt x="245" y="504"/>
                  </a:lnTo>
                  <a:lnTo>
                    <a:pt x="240" y="504"/>
                  </a:lnTo>
                  <a:lnTo>
                    <a:pt x="240" y="514"/>
                  </a:lnTo>
                  <a:lnTo>
                    <a:pt x="235" y="514"/>
                  </a:lnTo>
                  <a:lnTo>
                    <a:pt x="235" y="527"/>
                  </a:lnTo>
                  <a:lnTo>
                    <a:pt x="230" y="527"/>
                  </a:lnTo>
                  <a:lnTo>
                    <a:pt x="230" y="545"/>
                  </a:lnTo>
                  <a:lnTo>
                    <a:pt x="225" y="545"/>
                  </a:lnTo>
                  <a:lnTo>
                    <a:pt x="225" y="557"/>
                  </a:lnTo>
                  <a:lnTo>
                    <a:pt x="221" y="557"/>
                  </a:lnTo>
                  <a:lnTo>
                    <a:pt x="221" y="568"/>
                  </a:lnTo>
                  <a:lnTo>
                    <a:pt x="215" y="568"/>
                  </a:lnTo>
                  <a:lnTo>
                    <a:pt x="215" y="580"/>
                  </a:lnTo>
                  <a:lnTo>
                    <a:pt x="211" y="580"/>
                  </a:lnTo>
                  <a:lnTo>
                    <a:pt x="211" y="592"/>
                  </a:lnTo>
                  <a:lnTo>
                    <a:pt x="206" y="592"/>
                  </a:lnTo>
                  <a:lnTo>
                    <a:pt x="206" y="604"/>
                  </a:lnTo>
                  <a:lnTo>
                    <a:pt x="201" y="604"/>
                  </a:lnTo>
                  <a:lnTo>
                    <a:pt x="201" y="615"/>
                  </a:lnTo>
                  <a:lnTo>
                    <a:pt x="196" y="615"/>
                  </a:lnTo>
                  <a:lnTo>
                    <a:pt x="196" y="621"/>
                  </a:lnTo>
                  <a:lnTo>
                    <a:pt x="192" y="621"/>
                  </a:lnTo>
                  <a:lnTo>
                    <a:pt x="192" y="633"/>
                  </a:lnTo>
                  <a:lnTo>
                    <a:pt x="187" y="633"/>
                  </a:lnTo>
                  <a:lnTo>
                    <a:pt x="187" y="639"/>
                  </a:lnTo>
                  <a:lnTo>
                    <a:pt x="182" y="639"/>
                  </a:lnTo>
                  <a:lnTo>
                    <a:pt x="182" y="663"/>
                  </a:lnTo>
                  <a:lnTo>
                    <a:pt x="178" y="663"/>
                  </a:lnTo>
                  <a:lnTo>
                    <a:pt x="178" y="669"/>
                  </a:lnTo>
                  <a:lnTo>
                    <a:pt x="173" y="669"/>
                  </a:lnTo>
                  <a:lnTo>
                    <a:pt x="173" y="686"/>
                  </a:lnTo>
                  <a:lnTo>
                    <a:pt x="168" y="686"/>
                  </a:lnTo>
                  <a:lnTo>
                    <a:pt x="168" y="699"/>
                  </a:lnTo>
                  <a:lnTo>
                    <a:pt x="163" y="699"/>
                  </a:lnTo>
                  <a:lnTo>
                    <a:pt x="163" y="710"/>
                  </a:lnTo>
                  <a:lnTo>
                    <a:pt x="159" y="710"/>
                  </a:lnTo>
                  <a:lnTo>
                    <a:pt x="159" y="728"/>
                  </a:lnTo>
                  <a:lnTo>
                    <a:pt x="153" y="728"/>
                  </a:lnTo>
                  <a:lnTo>
                    <a:pt x="153" y="745"/>
                  </a:lnTo>
                  <a:lnTo>
                    <a:pt x="148" y="745"/>
                  </a:lnTo>
                  <a:lnTo>
                    <a:pt x="148" y="769"/>
                  </a:lnTo>
                  <a:lnTo>
                    <a:pt x="144" y="769"/>
                  </a:lnTo>
                  <a:lnTo>
                    <a:pt x="144" y="792"/>
                  </a:lnTo>
                  <a:lnTo>
                    <a:pt x="139" y="792"/>
                  </a:lnTo>
                  <a:lnTo>
                    <a:pt x="139" y="810"/>
                  </a:lnTo>
                  <a:lnTo>
                    <a:pt x="134" y="810"/>
                  </a:lnTo>
                  <a:lnTo>
                    <a:pt x="134" y="822"/>
                  </a:lnTo>
                  <a:lnTo>
                    <a:pt x="130" y="822"/>
                  </a:lnTo>
                  <a:lnTo>
                    <a:pt x="130" y="827"/>
                  </a:lnTo>
                  <a:lnTo>
                    <a:pt x="125" y="827"/>
                  </a:lnTo>
                  <a:lnTo>
                    <a:pt x="125" y="840"/>
                  </a:lnTo>
                  <a:lnTo>
                    <a:pt x="120" y="840"/>
                  </a:lnTo>
                  <a:lnTo>
                    <a:pt x="120" y="859"/>
                  </a:lnTo>
                  <a:lnTo>
                    <a:pt x="115" y="859"/>
                  </a:lnTo>
                  <a:lnTo>
                    <a:pt x="115" y="876"/>
                  </a:lnTo>
                  <a:lnTo>
                    <a:pt x="111" y="876"/>
                  </a:lnTo>
                  <a:lnTo>
                    <a:pt x="111" y="894"/>
                  </a:lnTo>
                  <a:lnTo>
                    <a:pt x="105" y="894"/>
                  </a:lnTo>
                  <a:lnTo>
                    <a:pt x="105" y="917"/>
                  </a:lnTo>
                  <a:lnTo>
                    <a:pt x="101" y="917"/>
                  </a:lnTo>
                  <a:lnTo>
                    <a:pt x="101" y="935"/>
                  </a:lnTo>
                  <a:lnTo>
                    <a:pt x="97" y="935"/>
                  </a:lnTo>
                  <a:lnTo>
                    <a:pt x="97" y="958"/>
                  </a:lnTo>
                  <a:lnTo>
                    <a:pt x="91" y="958"/>
                  </a:lnTo>
                  <a:lnTo>
                    <a:pt x="91" y="987"/>
                  </a:lnTo>
                  <a:lnTo>
                    <a:pt x="87" y="987"/>
                  </a:lnTo>
                  <a:lnTo>
                    <a:pt x="87" y="1012"/>
                  </a:lnTo>
                  <a:lnTo>
                    <a:pt x="81" y="1012"/>
                  </a:lnTo>
                  <a:lnTo>
                    <a:pt x="81" y="1028"/>
                  </a:lnTo>
                  <a:lnTo>
                    <a:pt x="77" y="1028"/>
                  </a:lnTo>
                  <a:lnTo>
                    <a:pt x="77" y="1064"/>
                  </a:lnTo>
                  <a:lnTo>
                    <a:pt x="71" y="1064"/>
                  </a:lnTo>
                  <a:lnTo>
                    <a:pt x="71" y="1082"/>
                  </a:lnTo>
                  <a:lnTo>
                    <a:pt x="77" y="1082"/>
                  </a:lnTo>
                  <a:lnTo>
                    <a:pt x="77" y="1088"/>
                  </a:lnTo>
                  <a:lnTo>
                    <a:pt x="91" y="1088"/>
                  </a:lnTo>
                  <a:lnTo>
                    <a:pt x="91" y="1082"/>
                  </a:lnTo>
                  <a:lnTo>
                    <a:pt x="97" y="1082"/>
                  </a:lnTo>
                  <a:lnTo>
                    <a:pt x="97" y="1077"/>
                  </a:lnTo>
                  <a:lnTo>
                    <a:pt x="101" y="1077"/>
                  </a:lnTo>
                  <a:lnTo>
                    <a:pt x="101" y="1071"/>
                  </a:lnTo>
                  <a:lnTo>
                    <a:pt x="105" y="1071"/>
                  </a:lnTo>
                  <a:lnTo>
                    <a:pt x="105" y="1064"/>
                  </a:lnTo>
                  <a:lnTo>
                    <a:pt x="115" y="1064"/>
                  </a:lnTo>
                  <a:lnTo>
                    <a:pt x="115" y="1058"/>
                  </a:lnTo>
                  <a:lnTo>
                    <a:pt x="125" y="1058"/>
                  </a:lnTo>
                  <a:lnTo>
                    <a:pt x="125" y="1053"/>
                  </a:lnTo>
                  <a:lnTo>
                    <a:pt x="134" y="1053"/>
                  </a:lnTo>
                  <a:lnTo>
                    <a:pt x="134" y="1041"/>
                  </a:lnTo>
                  <a:lnTo>
                    <a:pt x="144" y="1041"/>
                  </a:lnTo>
                  <a:lnTo>
                    <a:pt x="144" y="1036"/>
                  </a:lnTo>
                  <a:lnTo>
                    <a:pt x="153" y="1036"/>
                  </a:lnTo>
                  <a:lnTo>
                    <a:pt x="153" y="1028"/>
                  </a:lnTo>
                  <a:lnTo>
                    <a:pt x="159" y="1028"/>
                  </a:lnTo>
                  <a:lnTo>
                    <a:pt x="159" y="1023"/>
                  </a:lnTo>
                  <a:lnTo>
                    <a:pt x="168" y="1023"/>
                  </a:lnTo>
                  <a:lnTo>
                    <a:pt x="168" y="1017"/>
                  </a:lnTo>
                  <a:lnTo>
                    <a:pt x="173" y="1017"/>
                  </a:lnTo>
                  <a:lnTo>
                    <a:pt x="173" y="1012"/>
                  </a:lnTo>
                  <a:lnTo>
                    <a:pt x="182" y="1012"/>
                  </a:lnTo>
                  <a:lnTo>
                    <a:pt x="182" y="1005"/>
                  </a:lnTo>
                  <a:lnTo>
                    <a:pt x="192" y="1005"/>
                  </a:lnTo>
                  <a:lnTo>
                    <a:pt x="192" y="1000"/>
                  </a:lnTo>
                  <a:lnTo>
                    <a:pt x="201" y="1000"/>
                  </a:lnTo>
                  <a:lnTo>
                    <a:pt x="201" y="995"/>
                  </a:lnTo>
                  <a:lnTo>
                    <a:pt x="206" y="995"/>
                  </a:lnTo>
                  <a:lnTo>
                    <a:pt x="206" y="987"/>
                  </a:lnTo>
                  <a:lnTo>
                    <a:pt x="211" y="987"/>
                  </a:lnTo>
                  <a:lnTo>
                    <a:pt x="211" y="982"/>
                  </a:lnTo>
                  <a:lnTo>
                    <a:pt x="221" y="982"/>
                  </a:lnTo>
                  <a:lnTo>
                    <a:pt x="221" y="977"/>
                  </a:lnTo>
                  <a:lnTo>
                    <a:pt x="225" y="977"/>
                  </a:lnTo>
                  <a:lnTo>
                    <a:pt x="225" y="970"/>
                  </a:lnTo>
                  <a:lnTo>
                    <a:pt x="230" y="970"/>
                  </a:lnTo>
                  <a:lnTo>
                    <a:pt x="230" y="965"/>
                  </a:lnTo>
                  <a:lnTo>
                    <a:pt x="235" y="965"/>
                  </a:lnTo>
                  <a:lnTo>
                    <a:pt x="235" y="958"/>
                  </a:lnTo>
                  <a:lnTo>
                    <a:pt x="240" y="958"/>
                  </a:lnTo>
                  <a:lnTo>
                    <a:pt x="240" y="952"/>
                  </a:lnTo>
                  <a:lnTo>
                    <a:pt x="249" y="952"/>
                  </a:lnTo>
                  <a:lnTo>
                    <a:pt x="249" y="946"/>
                  </a:lnTo>
                  <a:lnTo>
                    <a:pt x="255" y="946"/>
                  </a:lnTo>
                  <a:lnTo>
                    <a:pt x="255" y="941"/>
                  </a:lnTo>
                  <a:lnTo>
                    <a:pt x="264" y="941"/>
                  </a:lnTo>
                  <a:lnTo>
                    <a:pt x="264" y="928"/>
                  </a:lnTo>
                  <a:lnTo>
                    <a:pt x="278" y="928"/>
                  </a:lnTo>
                  <a:lnTo>
                    <a:pt x="278" y="923"/>
                  </a:lnTo>
                  <a:lnTo>
                    <a:pt x="288" y="923"/>
                  </a:lnTo>
                  <a:lnTo>
                    <a:pt x="288" y="917"/>
                  </a:lnTo>
                  <a:lnTo>
                    <a:pt x="292" y="917"/>
                  </a:lnTo>
                  <a:lnTo>
                    <a:pt x="292" y="911"/>
                  </a:lnTo>
                  <a:lnTo>
                    <a:pt x="297" y="911"/>
                  </a:lnTo>
                  <a:lnTo>
                    <a:pt x="297" y="905"/>
                  </a:lnTo>
                  <a:lnTo>
                    <a:pt x="302" y="905"/>
                  </a:lnTo>
                  <a:lnTo>
                    <a:pt x="302" y="900"/>
                  </a:lnTo>
                  <a:lnTo>
                    <a:pt x="308" y="900"/>
                  </a:lnTo>
                  <a:lnTo>
                    <a:pt x="308" y="894"/>
                  </a:lnTo>
                  <a:lnTo>
                    <a:pt x="317" y="894"/>
                  </a:lnTo>
                  <a:lnTo>
                    <a:pt x="317" y="887"/>
                  </a:lnTo>
                  <a:lnTo>
                    <a:pt x="322" y="887"/>
                  </a:lnTo>
                  <a:lnTo>
                    <a:pt x="322" y="881"/>
                  </a:lnTo>
                  <a:lnTo>
                    <a:pt x="326" y="881"/>
                  </a:lnTo>
                  <a:lnTo>
                    <a:pt x="326" y="876"/>
                  </a:lnTo>
                  <a:lnTo>
                    <a:pt x="336" y="876"/>
                  </a:lnTo>
                  <a:lnTo>
                    <a:pt x="336" y="870"/>
                  </a:lnTo>
                  <a:lnTo>
                    <a:pt x="341" y="870"/>
                  </a:lnTo>
                  <a:lnTo>
                    <a:pt x="341" y="864"/>
                  </a:lnTo>
                  <a:lnTo>
                    <a:pt x="351" y="864"/>
                  </a:lnTo>
                  <a:lnTo>
                    <a:pt x="351" y="859"/>
                  </a:lnTo>
                  <a:lnTo>
                    <a:pt x="360" y="859"/>
                  </a:lnTo>
                  <a:lnTo>
                    <a:pt x="360" y="851"/>
                  </a:lnTo>
                  <a:lnTo>
                    <a:pt x="365" y="851"/>
                  </a:lnTo>
                  <a:lnTo>
                    <a:pt x="365" y="846"/>
                  </a:lnTo>
                  <a:lnTo>
                    <a:pt x="369" y="846"/>
                  </a:lnTo>
                  <a:lnTo>
                    <a:pt x="369" y="840"/>
                  </a:lnTo>
                  <a:lnTo>
                    <a:pt x="379" y="840"/>
                  </a:lnTo>
                  <a:lnTo>
                    <a:pt x="379" y="835"/>
                  </a:lnTo>
                  <a:lnTo>
                    <a:pt x="389" y="835"/>
                  </a:lnTo>
                  <a:lnTo>
                    <a:pt x="389" y="827"/>
                  </a:lnTo>
                  <a:lnTo>
                    <a:pt x="394" y="827"/>
                  </a:lnTo>
                  <a:lnTo>
                    <a:pt x="394" y="822"/>
                  </a:lnTo>
                  <a:lnTo>
                    <a:pt x="399" y="822"/>
                  </a:lnTo>
                  <a:lnTo>
                    <a:pt x="399" y="817"/>
                  </a:lnTo>
                  <a:lnTo>
                    <a:pt x="403" y="817"/>
                  </a:lnTo>
                  <a:lnTo>
                    <a:pt x="403" y="810"/>
                  </a:lnTo>
                  <a:lnTo>
                    <a:pt x="413" y="810"/>
                  </a:lnTo>
                  <a:lnTo>
                    <a:pt x="413" y="805"/>
                  </a:lnTo>
                  <a:lnTo>
                    <a:pt x="418" y="805"/>
                  </a:lnTo>
                  <a:lnTo>
                    <a:pt x="418" y="799"/>
                  </a:lnTo>
                  <a:lnTo>
                    <a:pt x="427" y="799"/>
                  </a:lnTo>
                  <a:lnTo>
                    <a:pt x="427" y="792"/>
                  </a:lnTo>
                  <a:lnTo>
                    <a:pt x="437" y="792"/>
                  </a:lnTo>
                  <a:lnTo>
                    <a:pt x="437" y="786"/>
                  </a:lnTo>
                  <a:lnTo>
                    <a:pt x="446" y="786"/>
                  </a:lnTo>
                  <a:lnTo>
                    <a:pt x="446" y="781"/>
                  </a:lnTo>
                  <a:lnTo>
                    <a:pt x="452" y="781"/>
                  </a:lnTo>
                  <a:lnTo>
                    <a:pt x="452" y="775"/>
                  </a:lnTo>
                  <a:lnTo>
                    <a:pt x="456" y="775"/>
                  </a:lnTo>
                  <a:lnTo>
                    <a:pt x="456" y="769"/>
                  </a:lnTo>
                  <a:lnTo>
                    <a:pt x="462" y="769"/>
                  </a:lnTo>
                  <a:lnTo>
                    <a:pt x="462" y="764"/>
                  </a:lnTo>
                  <a:lnTo>
                    <a:pt x="466" y="764"/>
                  </a:lnTo>
                  <a:lnTo>
                    <a:pt x="466" y="758"/>
                  </a:lnTo>
                  <a:lnTo>
                    <a:pt x="471" y="758"/>
                  </a:lnTo>
                  <a:lnTo>
                    <a:pt x="471" y="751"/>
                  </a:lnTo>
                  <a:lnTo>
                    <a:pt x="481" y="751"/>
                  </a:lnTo>
                  <a:lnTo>
                    <a:pt x="481" y="740"/>
                  </a:lnTo>
                  <a:lnTo>
                    <a:pt x="489" y="740"/>
                  </a:lnTo>
                  <a:lnTo>
                    <a:pt x="489" y="733"/>
                  </a:lnTo>
                  <a:lnTo>
                    <a:pt x="503" y="733"/>
                  </a:lnTo>
                  <a:lnTo>
                    <a:pt x="503" y="728"/>
                  </a:lnTo>
                  <a:lnTo>
                    <a:pt x="513" y="728"/>
                  </a:lnTo>
                  <a:lnTo>
                    <a:pt x="513" y="723"/>
                  </a:lnTo>
                  <a:lnTo>
                    <a:pt x="518" y="723"/>
                  </a:lnTo>
                  <a:lnTo>
                    <a:pt x="518" y="716"/>
                  </a:lnTo>
                  <a:lnTo>
                    <a:pt x="529" y="716"/>
                  </a:lnTo>
                  <a:lnTo>
                    <a:pt x="529" y="710"/>
                  </a:lnTo>
                  <a:lnTo>
                    <a:pt x="533" y="710"/>
                  </a:lnTo>
                  <a:lnTo>
                    <a:pt x="533" y="704"/>
                  </a:lnTo>
                  <a:lnTo>
                    <a:pt x="537" y="704"/>
                  </a:lnTo>
                  <a:lnTo>
                    <a:pt x="537" y="699"/>
                  </a:lnTo>
                  <a:lnTo>
                    <a:pt x="547" y="699"/>
                  </a:lnTo>
                  <a:lnTo>
                    <a:pt x="547" y="691"/>
                  </a:lnTo>
                  <a:lnTo>
                    <a:pt x="552" y="691"/>
                  </a:lnTo>
                  <a:lnTo>
                    <a:pt x="552" y="686"/>
                  </a:lnTo>
                  <a:lnTo>
                    <a:pt x="562" y="686"/>
                  </a:lnTo>
                  <a:lnTo>
                    <a:pt x="562" y="680"/>
                  </a:lnTo>
                  <a:lnTo>
                    <a:pt x="566" y="680"/>
                  </a:lnTo>
                  <a:lnTo>
                    <a:pt x="566" y="674"/>
                  </a:lnTo>
                  <a:lnTo>
                    <a:pt x="576" y="674"/>
                  </a:lnTo>
                  <a:lnTo>
                    <a:pt x="576" y="669"/>
                  </a:lnTo>
                  <a:lnTo>
                    <a:pt x="580" y="669"/>
                  </a:lnTo>
                  <a:lnTo>
                    <a:pt x="580" y="663"/>
                  </a:lnTo>
                  <a:lnTo>
                    <a:pt x="590" y="663"/>
                  </a:lnTo>
                  <a:lnTo>
                    <a:pt x="590" y="658"/>
                  </a:lnTo>
                  <a:lnTo>
                    <a:pt x="600" y="658"/>
                  </a:lnTo>
                  <a:lnTo>
                    <a:pt x="600" y="650"/>
                  </a:lnTo>
                  <a:lnTo>
                    <a:pt x="610" y="650"/>
                  </a:lnTo>
                  <a:lnTo>
                    <a:pt x="610" y="645"/>
                  </a:lnTo>
                  <a:lnTo>
                    <a:pt x="615" y="645"/>
                  </a:lnTo>
                  <a:lnTo>
                    <a:pt x="615" y="639"/>
                  </a:lnTo>
                  <a:lnTo>
                    <a:pt x="624" y="639"/>
                  </a:lnTo>
                  <a:lnTo>
                    <a:pt x="624" y="633"/>
                  </a:lnTo>
                  <a:lnTo>
                    <a:pt x="629" y="633"/>
                  </a:lnTo>
                  <a:lnTo>
                    <a:pt x="629" y="626"/>
                  </a:lnTo>
                  <a:lnTo>
                    <a:pt x="639" y="626"/>
                  </a:lnTo>
                  <a:lnTo>
                    <a:pt x="639" y="621"/>
                  </a:lnTo>
                  <a:lnTo>
                    <a:pt x="643" y="621"/>
                  </a:lnTo>
                  <a:lnTo>
                    <a:pt x="643" y="615"/>
                  </a:lnTo>
                  <a:lnTo>
                    <a:pt x="648" y="615"/>
                  </a:lnTo>
                  <a:lnTo>
                    <a:pt x="648" y="609"/>
                  </a:lnTo>
                  <a:lnTo>
                    <a:pt x="658" y="609"/>
                  </a:lnTo>
                  <a:lnTo>
                    <a:pt x="658" y="604"/>
                  </a:lnTo>
                  <a:lnTo>
                    <a:pt x="662" y="604"/>
                  </a:lnTo>
                  <a:lnTo>
                    <a:pt x="662" y="598"/>
                  </a:lnTo>
                  <a:lnTo>
                    <a:pt x="673" y="598"/>
                  </a:lnTo>
                  <a:lnTo>
                    <a:pt x="673" y="592"/>
                  </a:lnTo>
                  <a:lnTo>
                    <a:pt x="687" y="592"/>
                  </a:lnTo>
                  <a:lnTo>
                    <a:pt x="687" y="585"/>
                  </a:lnTo>
                  <a:lnTo>
                    <a:pt x="696" y="585"/>
                  </a:lnTo>
                  <a:lnTo>
                    <a:pt x="696" y="580"/>
                  </a:lnTo>
                  <a:lnTo>
                    <a:pt x="701" y="580"/>
                  </a:lnTo>
                  <a:lnTo>
                    <a:pt x="701" y="574"/>
                  </a:lnTo>
                  <a:lnTo>
                    <a:pt x="706" y="574"/>
                  </a:lnTo>
                  <a:lnTo>
                    <a:pt x="706" y="568"/>
                  </a:lnTo>
                  <a:lnTo>
                    <a:pt x="710" y="568"/>
                  </a:lnTo>
                  <a:lnTo>
                    <a:pt x="710" y="563"/>
                  </a:lnTo>
                  <a:lnTo>
                    <a:pt x="715" y="563"/>
                  </a:lnTo>
                  <a:lnTo>
                    <a:pt x="715" y="557"/>
                  </a:lnTo>
                  <a:lnTo>
                    <a:pt x="729" y="557"/>
                  </a:lnTo>
                  <a:lnTo>
                    <a:pt x="729" y="550"/>
                  </a:lnTo>
                  <a:lnTo>
                    <a:pt x="735" y="550"/>
                  </a:lnTo>
                  <a:lnTo>
                    <a:pt x="735" y="545"/>
                  </a:lnTo>
                  <a:lnTo>
                    <a:pt x="745" y="545"/>
                  </a:lnTo>
                  <a:lnTo>
                    <a:pt x="745" y="539"/>
                  </a:lnTo>
                  <a:lnTo>
                    <a:pt x="754" y="539"/>
                  </a:lnTo>
                  <a:lnTo>
                    <a:pt x="754" y="533"/>
                  </a:lnTo>
                  <a:lnTo>
                    <a:pt x="763" y="533"/>
                  </a:lnTo>
                  <a:lnTo>
                    <a:pt x="763" y="527"/>
                  </a:lnTo>
                  <a:lnTo>
                    <a:pt x="769" y="527"/>
                  </a:lnTo>
                  <a:lnTo>
                    <a:pt x="769" y="522"/>
                  </a:lnTo>
                  <a:lnTo>
                    <a:pt x="773" y="522"/>
                  </a:lnTo>
                  <a:lnTo>
                    <a:pt x="773" y="514"/>
                  </a:lnTo>
                  <a:lnTo>
                    <a:pt x="783" y="514"/>
                  </a:lnTo>
                  <a:lnTo>
                    <a:pt x="783" y="509"/>
                  </a:lnTo>
                  <a:lnTo>
                    <a:pt x="787" y="509"/>
                  </a:lnTo>
                  <a:lnTo>
                    <a:pt x="787" y="504"/>
                  </a:lnTo>
                  <a:lnTo>
                    <a:pt x="797" y="504"/>
                  </a:lnTo>
                  <a:lnTo>
                    <a:pt x="797" y="497"/>
                  </a:lnTo>
                  <a:lnTo>
                    <a:pt x="802" y="497"/>
                  </a:lnTo>
                  <a:lnTo>
                    <a:pt x="802" y="492"/>
                  </a:lnTo>
                  <a:lnTo>
                    <a:pt x="812" y="492"/>
                  </a:lnTo>
                  <a:lnTo>
                    <a:pt x="812" y="485"/>
                  </a:lnTo>
                  <a:lnTo>
                    <a:pt x="822" y="485"/>
                  </a:lnTo>
                  <a:lnTo>
                    <a:pt x="822" y="479"/>
                  </a:lnTo>
                  <a:lnTo>
                    <a:pt x="831" y="479"/>
                  </a:lnTo>
                  <a:lnTo>
                    <a:pt x="831" y="473"/>
                  </a:lnTo>
                  <a:lnTo>
                    <a:pt x="840" y="473"/>
                  </a:lnTo>
                  <a:lnTo>
                    <a:pt x="840" y="468"/>
                  </a:lnTo>
                  <a:lnTo>
                    <a:pt x="845" y="468"/>
                  </a:lnTo>
                  <a:lnTo>
                    <a:pt x="845" y="462"/>
                  </a:lnTo>
                  <a:lnTo>
                    <a:pt x="850" y="462"/>
                  </a:lnTo>
                  <a:lnTo>
                    <a:pt x="850" y="456"/>
                  </a:lnTo>
                  <a:lnTo>
                    <a:pt x="859" y="456"/>
                  </a:lnTo>
                  <a:lnTo>
                    <a:pt x="859" y="451"/>
                  </a:lnTo>
                  <a:lnTo>
                    <a:pt x="869" y="451"/>
                  </a:lnTo>
                  <a:lnTo>
                    <a:pt x="869" y="444"/>
                  </a:lnTo>
                  <a:lnTo>
                    <a:pt x="878" y="444"/>
                  </a:lnTo>
                  <a:lnTo>
                    <a:pt x="878" y="438"/>
                  </a:lnTo>
                  <a:lnTo>
                    <a:pt x="894" y="438"/>
                  </a:lnTo>
                  <a:lnTo>
                    <a:pt x="894" y="427"/>
                  </a:lnTo>
                  <a:lnTo>
                    <a:pt x="898" y="427"/>
                  </a:lnTo>
                  <a:lnTo>
                    <a:pt x="898" y="421"/>
                  </a:lnTo>
                  <a:lnTo>
                    <a:pt x="907" y="421"/>
                  </a:lnTo>
                  <a:lnTo>
                    <a:pt x="907" y="414"/>
                  </a:lnTo>
                  <a:lnTo>
                    <a:pt x="917" y="414"/>
                  </a:lnTo>
                  <a:lnTo>
                    <a:pt x="917" y="408"/>
                  </a:lnTo>
                  <a:lnTo>
                    <a:pt x="921" y="408"/>
                  </a:lnTo>
                  <a:lnTo>
                    <a:pt x="921" y="403"/>
                  </a:lnTo>
                  <a:lnTo>
                    <a:pt x="927" y="403"/>
                  </a:lnTo>
                  <a:lnTo>
                    <a:pt x="927" y="397"/>
                  </a:lnTo>
                  <a:lnTo>
                    <a:pt x="936" y="397"/>
                  </a:lnTo>
                  <a:lnTo>
                    <a:pt x="936" y="391"/>
                  </a:lnTo>
                  <a:lnTo>
                    <a:pt x="941" y="391"/>
                  </a:lnTo>
                  <a:lnTo>
                    <a:pt x="941" y="386"/>
                  </a:lnTo>
                  <a:lnTo>
                    <a:pt x="946" y="386"/>
                  </a:lnTo>
                  <a:lnTo>
                    <a:pt x="946" y="378"/>
                  </a:lnTo>
                  <a:lnTo>
                    <a:pt x="950" y="378"/>
                  </a:lnTo>
                  <a:lnTo>
                    <a:pt x="950" y="373"/>
                  </a:lnTo>
                  <a:lnTo>
                    <a:pt x="961" y="373"/>
                  </a:lnTo>
                  <a:lnTo>
                    <a:pt x="961" y="367"/>
                  </a:lnTo>
                  <a:lnTo>
                    <a:pt x="970" y="367"/>
                  </a:lnTo>
                  <a:lnTo>
                    <a:pt x="970" y="362"/>
                  </a:lnTo>
                  <a:lnTo>
                    <a:pt x="980" y="362"/>
                  </a:lnTo>
                  <a:lnTo>
                    <a:pt x="980" y="356"/>
                  </a:lnTo>
                  <a:lnTo>
                    <a:pt x="990" y="356"/>
                  </a:lnTo>
                  <a:lnTo>
                    <a:pt x="990" y="349"/>
                  </a:lnTo>
                  <a:lnTo>
                    <a:pt x="999" y="349"/>
                  </a:lnTo>
                  <a:lnTo>
                    <a:pt x="999" y="344"/>
                  </a:lnTo>
                  <a:lnTo>
                    <a:pt x="1003" y="344"/>
                  </a:lnTo>
                  <a:lnTo>
                    <a:pt x="1003" y="337"/>
                  </a:lnTo>
                  <a:lnTo>
                    <a:pt x="1017" y="337"/>
                  </a:lnTo>
                  <a:lnTo>
                    <a:pt x="1017" y="332"/>
                  </a:lnTo>
                  <a:lnTo>
                    <a:pt x="1027" y="332"/>
                  </a:lnTo>
                  <a:lnTo>
                    <a:pt x="1027" y="326"/>
                  </a:lnTo>
                  <a:lnTo>
                    <a:pt x="1033" y="326"/>
                  </a:lnTo>
                  <a:lnTo>
                    <a:pt x="1033" y="320"/>
                  </a:lnTo>
                  <a:lnTo>
                    <a:pt x="1047" y="320"/>
                  </a:lnTo>
                  <a:lnTo>
                    <a:pt x="1047" y="313"/>
                  </a:lnTo>
                  <a:lnTo>
                    <a:pt x="1052" y="313"/>
                  </a:lnTo>
                  <a:lnTo>
                    <a:pt x="1052" y="308"/>
                  </a:lnTo>
                  <a:lnTo>
                    <a:pt x="1061" y="308"/>
                  </a:lnTo>
                  <a:lnTo>
                    <a:pt x="1061" y="302"/>
                  </a:lnTo>
                  <a:lnTo>
                    <a:pt x="1066" y="302"/>
                  </a:lnTo>
                  <a:lnTo>
                    <a:pt x="1066" y="296"/>
                  </a:lnTo>
                  <a:lnTo>
                    <a:pt x="1076" y="296"/>
                  </a:lnTo>
                  <a:lnTo>
                    <a:pt x="1076" y="291"/>
                  </a:lnTo>
                  <a:lnTo>
                    <a:pt x="1085" y="291"/>
                  </a:lnTo>
                  <a:lnTo>
                    <a:pt x="1085" y="285"/>
                  </a:lnTo>
                  <a:lnTo>
                    <a:pt x="1090" y="285"/>
                  </a:lnTo>
                  <a:lnTo>
                    <a:pt x="1090" y="278"/>
                  </a:lnTo>
                  <a:lnTo>
                    <a:pt x="1094" y="278"/>
                  </a:lnTo>
                  <a:lnTo>
                    <a:pt x="1094" y="272"/>
                  </a:lnTo>
                  <a:lnTo>
                    <a:pt x="1110" y="272"/>
                  </a:lnTo>
                  <a:lnTo>
                    <a:pt x="1110" y="267"/>
                  </a:lnTo>
                  <a:lnTo>
                    <a:pt x="1120" y="267"/>
                  </a:lnTo>
                  <a:lnTo>
                    <a:pt x="1120" y="261"/>
                  </a:lnTo>
                  <a:lnTo>
                    <a:pt x="1128" y="261"/>
                  </a:lnTo>
                  <a:lnTo>
                    <a:pt x="1128" y="255"/>
                  </a:lnTo>
                  <a:lnTo>
                    <a:pt x="1134" y="255"/>
                  </a:lnTo>
                  <a:lnTo>
                    <a:pt x="1134" y="250"/>
                  </a:lnTo>
                  <a:lnTo>
                    <a:pt x="1138" y="250"/>
                  </a:lnTo>
                  <a:lnTo>
                    <a:pt x="1138" y="243"/>
                  </a:lnTo>
                  <a:lnTo>
                    <a:pt x="1147" y="243"/>
                  </a:lnTo>
                  <a:lnTo>
                    <a:pt x="1147" y="237"/>
                  </a:lnTo>
                  <a:lnTo>
                    <a:pt x="1162" y="237"/>
                  </a:lnTo>
                  <a:lnTo>
                    <a:pt x="1162" y="231"/>
                  </a:lnTo>
                  <a:lnTo>
                    <a:pt x="1167" y="231"/>
                  </a:lnTo>
                  <a:lnTo>
                    <a:pt x="1167" y="226"/>
                  </a:lnTo>
                  <a:lnTo>
                    <a:pt x="1171" y="226"/>
                  </a:lnTo>
                  <a:lnTo>
                    <a:pt x="1171" y="218"/>
                  </a:lnTo>
                  <a:lnTo>
                    <a:pt x="1182" y="218"/>
                  </a:lnTo>
                  <a:lnTo>
                    <a:pt x="1182" y="213"/>
                  </a:lnTo>
                  <a:lnTo>
                    <a:pt x="1186" y="213"/>
                  </a:lnTo>
                  <a:lnTo>
                    <a:pt x="1186" y="207"/>
                  </a:lnTo>
                  <a:lnTo>
                    <a:pt x="1196" y="207"/>
                  </a:lnTo>
                  <a:lnTo>
                    <a:pt x="1196" y="201"/>
                  </a:lnTo>
                  <a:lnTo>
                    <a:pt x="1201" y="201"/>
                  </a:lnTo>
                  <a:lnTo>
                    <a:pt x="1201" y="196"/>
                  </a:lnTo>
                  <a:lnTo>
                    <a:pt x="1210" y="196"/>
                  </a:lnTo>
                  <a:lnTo>
                    <a:pt x="1210" y="190"/>
                  </a:lnTo>
                  <a:lnTo>
                    <a:pt x="1215" y="190"/>
                  </a:lnTo>
                  <a:lnTo>
                    <a:pt x="1215" y="185"/>
                  </a:lnTo>
                  <a:lnTo>
                    <a:pt x="1219" y="185"/>
                  </a:lnTo>
                  <a:lnTo>
                    <a:pt x="1219" y="177"/>
                  </a:lnTo>
                  <a:lnTo>
                    <a:pt x="1234" y="177"/>
                  </a:lnTo>
                  <a:lnTo>
                    <a:pt x="1234" y="172"/>
                  </a:lnTo>
                  <a:lnTo>
                    <a:pt x="1238" y="172"/>
                  </a:lnTo>
                  <a:lnTo>
                    <a:pt x="1238" y="166"/>
                  </a:lnTo>
                  <a:lnTo>
                    <a:pt x="1249" y="166"/>
                  </a:lnTo>
                  <a:lnTo>
                    <a:pt x="1249" y="160"/>
                  </a:lnTo>
                  <a:lnTo>
                    <a:pt x="1254" y="160"/>
                  </a:lnTo>
                  <a:lnTo>
                    <a:pt x="1254" y="155"/>
                  </a:lnTo>
                  <a:lnTo>
                    <a:pt x="1291" y="155"/>
                  </a:lnTo>
                  <a:lnTo>
                    <a:pt x="1291" y="160"/>
                  </a:lnTo>
                  <a:lnTo>
                    <a:pt x="1305" y="160"/>
                  </a:lnTo>
                  <a:lnTo>
                    <a:pt x="1305" y="172"/>
                  </a:lnTo>
                  <a:lnTo>
                    <a:pt x="1311" y="172"/>
                  </a:lnTo>
                  <a:lnTo>
                    <a:pt x="1311" y="201"/>
                  </a:lnTo>
                  <a:lnTo>
                    <a:pt x="1301" y="201"/>
                  </a:lnTo>
                  <a:lnTo>
                    <a:pt x="1301" y="207"/>
                  </a:lnTo>
                  <a:lnTo>
                    <a:pt x="1291" y="207"/>
                  </a:lnTo>
                  <a:lnTo>
                    <a:pt x="1291" y="213"/>
                  </a:lnTo>
                  <a:lnTo>
                    <a:pt x="1282" y="213"/>
                  </a:lnTo>
                  <a:lnTo>
                    <a:pt x="1282" y="218"/>
                  </a:lnTo>
                  <a:lnTo>
                    <a:pt x="1272" y="218"/>
                  </a:lnTo>
                  <a:lnTo>
                    <a:pt x="1272" y="226"/>
                  </a:lnTo>
                  <a:lnTo>
                    <a:pt x="1268" y="226"/>
                  </a:lnTo>
                  <a:lnTo>
                    <a:pt x="1268" y="231"/>
                  </a:lnTo>
                  <a:lnTo>
                    <a:pt x="1254" y="231"/>
                  </a:lnTo>
                  <a:lnTo>
                    <a:pt x="1254" y="237"/>
                  </a:lnTo>
                  <a:lnTo>
                    <a:pt x="1249" y="237"/>
                  </a:lnTo>
                  <a:lnTo>
                    <a:pt x="1249" y="243"/>
                  </a:lnTo>
                  <a:lnTo>
                    <a:pt x="1243" y="243"/>
                  </a:lnTo>
                  <a:lnTo>
                    <a:pt x="1243" y="250"/>
                  </a:lnTo>
                  <a:lnTo>
                    <a:pt x="1229" y="250"/>
                  </a:lnTo>
                  <a:lnTo>
                    <a:pt x="1229" y="255"/>
                  </a:lnTo>
                  <a:lnTo>
                    <a:pt x="1224" y="255"/>
                  </a:lnTo>
                  <a:lnTo>
                    <a:pt x="1224" y="261"/>
                  </a:lnTo>
                  <a:lnTo>
                    <a:pt x="1219" y="261"/>
                  </a:lnTo>
                  <a:lnTo>
                    <a:pt x="1219" y="267"/>
                  </a:lnTo>
                  <a:lnTo>
                    <a:pt x="1210" y="267"/>
                  </a:lnTo>
                  <a:lnTo>
                    <a:pt x="1210" y="272"/>
                  </a:lnTo>
                  <a:lnTo>
                    <a:pt x="1201" y="272"/>
                  </a:lnTo>
                  <a:lnTo>
                    <a:pt x="1201" y="278"/>
                  </a:lnTo>
                  <a:lnTo>
                    <a:pt x="1196" y="278"/>
                  </a:lnTo>
                  <a:lnTo>
                    <a:pt x="1196" y="285"/>
                  </a:lnTo>
                  <a:lnTo>
                    <a:pt x="1186" y="285"/>
                  </a:lnTo>
                  <a:lnTo>
                    <a:pt x="1186" y="291"/>
                  </a:lnTo>
                  <a:lnTo>
                    <a:pt x="1177" y="291"/>
                  </a:lnTo>
                  <a:lnTo>
                    <a:pt x="1177" y="296"/>
                  </a:lnTo>
                  <a:lnTo>
                    <a:pt x="1167" y="296"/>
                  </a:lnTo>
                  <a:lnTo>
                    <a:pt x="1167" y="302"/>
                  </a:lnTo>
                  <a:lnTo>
                    <a:pt x="1157" y="302"/>
                  </a:lnTo>
                  <a:lnTo>
                    <a:pt x="1157" y="308"/>
                  </a:lnTo>
                  <a:lnTo>
                    <a:pt x="1147" y="308"/>
                  </a:lnTo>
                  <a:lnTo>
                    <a:pt x="1147" y="313"/>
                  </a:lnTo>
                  <a:lnTo>
                    <a:pt x="1138" y="313"/>
                  </a:lnTo>
                  <a:lnTo>
                    <a:pt x="1138" y="320"/>
                  </a:lnTo>
                  <a:lnTo>
                    <a:pt x="1128" y="320"/>
                  </a:lnTo>
                  <a:lnTo>
                    <a:pt x="1128" y="326"/>
                  </a:lnTo>
                  <a:lnTo>
                    <a:pt x="1124" y="326"/>
                  </a:lnTo>
                  <a:lnTo>
                    <a:pt x="1124" y="332"/>
                  </a:lnTo>
                  <a:lnTo>
                    <a:pt x="1114" y="332"/>
                  </a:lnTo>
                  <a:lnTo>
                    <a:pt x="1114" y="337"/>
                  </a:lnTo>
                  <a:lnTo>
                    <a:pt x="1105" y="337"/>
                  </a:lnTo>
                  <a:lnTo>
                    <a:pt x="1105" y="344"/>
                  </a:lnTo>
                  <a:lnTo>
                    <a:pt x="1094" y="344"/>
                  </a:lnTo>
                  <a:lnTo>
                    <a:pt x="1094" y="349"/>
                  </a:lnTo>
                  <a:lnTo>
                    <a:pt x="1085" y="349"/>
                  </a:lnTo>
                  <a:lnTo>
                    <a:pt x="1085" y="356"/>
                  </a:lnTo>
                  <a:lnTo>
                    <a:pt x="1080" y="356"/>
                  </a:lnTo>
                  <a:lnTo>
                    <a:pt x="1080" y="362"/>
                  </a:lnTo>
                  <a:lnTo>
                    <a:pt x="1071" y="362"/>
                  </a:lnTo>
                  <a:lnTo>
                    <a:pt x="1071" y="367"/>
                  </a:lnTo>
                  <a:lnTo>
                    <a:pt x="1061" y="367"/>
                  </a:lnTo>
                  <a:lnTo>
                    <a:pt x="1061" y="373"/>
                  </a:lnTo>
                  <a:lnTo>
                    <a:pt x="1057" y="373"/>
                  </a:lnTo>
                  <a:lnTo>
                    <a:pt x="1057" y="378"/>
                  </a:lnTo>
                  <a:lnTo>
                    <a:pt x="1052" y="378"/>
                  </a:lnTo>
                  <a:lnTo>
                    <a:pt x="1052" y="386"/>
                  </a:lnTo>
                  <a:lnTo>
                    <a:pt x="1043" y="386"/>
                  </a:lnTo>
                  <a:lnTo>
                    <a:pt x="1043" y="391"/>
                  </a:lnTo>
                  <a:lnTo>
                    <a:pt x="1027" y="391"/>
                  </a:lnTo>
                  <a:lnTo>
                    <a:pt x="1027" y="397"/>
                  </a:lnTo>
                  <a:lnTo>
                    <a:pt x="1017" y="397"/>
                  </a:lnTo>
                  <a:lnTo>
                    <a:pt x="1017" y="403"/>
                  </a:lnTo>
                  <a:lnTo>
                    <a:pt x="1013" y="403"/>
                  </a:lnTo>
                  <a:lnTo>
                    <a:pt x="1013" y="408"/>
                  </a:lnTo>
                  <a:lnTo>
                    <a:pt x="1008" y="408"/>
                  </a:lnTo>
                  <a:lnTo>
                    <a:pt x="1008" y="414"/>
                  </a:lnTo>
                  <a:lnTo>
                    <a:pt x="999" y="414"/>
                  </a:lnTo>
                  <a:lnTo>
                    <a:pt x="999" y="421"/>
                  </a:lnTo>
                  <a:lnTo>
                    <a:pt x="990" y="421"/>
                  </a:lnTo>
                  <a:lnTo>
                    <a:pt x="990" y="427"/>
                  </a:lnTo>
                  <a:lnTo>
                    <a:pt x="980" y="427"/>
                  </a:lnTo>
                  <a:lnTo>
                    <a:pt x="980" y="432"/>
                  </a:lnTo>
                  <a:lnTo>
                    <a:pt x="975" y="432"/>
                  </a:lnTo>
                  <a:lnTo>
                    <a:pt x="975" y="438"/>
                  </a:lnTo>
                  <a:lnTo>
                    <a:pt x="965" y="438"/>
                  </a:lnTo>
                  <a:lnTo>
                    <a:pt x="965" y="444"/>
                  </a:lnTo>
                  <a:lnTo>
                    <a:pt x="950" y="444"/>
                  </a:lnTo>
                  <a:lnTo>
                    <a:pt x="950" y="451"/>
                  </a:lnTo>
                  <a:lnTo>
                    <a:pt x="946" y="451"/>
                  </a:lnTo>
                  <a:lnTo>
                    <a:pt x="946" y="456"/>
                  </a:lnTo>
                  <a:lnTo>
                    <a:pt x="936" y="456"/>
                  </a:lnTo>
                  <a:lnTo>
                    <a:pt x="936" y="462"/>
                  </a:lnTo>
                  <a:lnTo>
                    <a:pt x="927" y="462"/>
                  </a:lnTo>
                  <a:lnTo>
                    <a:pt x="927" y="468"/>
                  </a:lnTo>
                  <a:lnTo>
                    <a:pt x="921" y="468"/>
                  </a:lnTo>
                  <a:lnTo>
                    <a:pt x="921" y="473"/>
                  </a:lnTo>
                  <a:lnTo>
                    <a:pt x="917" y="473"/>
                  </a:lnTo>
                  <a:lnTo>
                    <a:pt x="917" y="479"/>
                  </a:lnTo>
                  <a:lnTo>
                    <a:pt x="907" y="479"/>
                  </a:lnTo>
                  <a:lnTo>
                    <a:pt x="907" y="485"/>
                  </a:lnTo>
                  <a:lnTo>
                    <a:pt x="903" y="485"/>
                  </a:lnTo>
                  <a:lnTo>
                    <a:pt x="903" y="492"/>
                  </a:lnTo>
                  <a:lnTo>
                    <a:pt x="898" y="492"/>
                  </a:lnTo>
                  <a:lnTo>
                    <a:pt x="898" y="497"/>
                  </a:lnTo>
                  <a:lnTo>
                    <a:pt x="888" y="497"/>
                  </a:lnTo>
                  <a:lnTo>
                    <a:pt x="888" y="504"/>
                  </a:lnTo>
                  <a:lnTo>
                    <a:pt x="884" y="504"/>
                  </a:lnTo>
                  <a:lnTo>
                    <a:pt x="884" y="509"/>
                  </a:lnTo>
                  <a:lnTo>
                    <a:pt x="869" y="509"/>
                  </a:lnTo>
                  <a:lnTo>
                    <a:pt x="869" y="514"/>
                  </a:lnTo>
                  <a:lnTo>
                    <a:pt x="859" y="514"/>
                  </a:lnTo>
                  <a:lnTo>
                    <a:pt x="859" y="522"/>
                  </a:lnTo>
                  <a:lnTo>
                    <a:pt x="854" y="522"/>
                  </a:lnTo>
                  <a:lnTo>
                    <a:pt x="854" y="527"/>
                  </a:lnTo>
                  <a:lnTo>
                    <a:pt x="845" y="527"/>
                  </a:lnTo>
                  <a:lnTo>
                    <a:pt x="845" y="533"/>
                  </a:lnTo>
                  <a:lnTo>
                    <a:pt x="836" y="533"/>
                  </a:lnTo>
                  <a:lnTo>
                    <a:pt x="836" y="539"/>
                  </a:lnTo>
                  <a:lnTo>
                    <a:pt x="831" y="539"/>
                  </a:lnTo>
                  <a:lnTo>
                    <a:pt x="831" y="545"/>
                  </a:lnTo>
                  <a:lnTo>
                    <a:pt x="822" y="545"/>
                  </a:lnTo>
                  <a:lnTo>
                    <a:pt x="822" y="550"/>
                  </a:lnTo>
                  <a:lnTo>
                    <a:pt x="812" y="550"/>
                  </a:lnTo>
                  <a:lnTo>
                    <a:pt x="812" y="557"/>
                  </a:lnTo>
                  <a:lnTo>
                    <a:pt x="806" y="557"/>
                  </a:lnTo>
                  <a:lnTo>
                    <a:pt x="806" y="563"/>
                  </a:lnTo>
                  <a:lnTo>
                    <a:pt x="797" y="563"/>
                  </a:lnTo>
                  <a:lnTo>
                    <a:pt x="797" y="568"/>
                  </a:lnTo>
                  <a:lnTo>
                    <a:pt x="792" y="568"/>
                  </a:lnTo>
                  <a:lnTo>
                    <a:pt x="792" y="574"/>
                  </a:lnTo>
                  <a:lnTo>
                    <a:pt x="787" y="574"/>
                  </a:lnTo>
                  <a:lnTo>
                    <a:pt x="787" y="580"/>
                  </a:lnTo>
                  <a:lnTo>
                    <a:pt x="783" y="580"/>
                  </a:lnTo>
                  <a:lnTo>
                    <a:pt x="783" y="585"/>
                  </a:lnTo>
                  <a:lnTo>
                    <a:pt x="778" y="585"/>
                  </a:lnTo>
                  <a:lnTo>
                    <a:pt x="778" y="592"/>
                  </a:lnTo>
                  <a:lnTo>
                    <a:pt x="773" y="592"/>
                  </a:lnTo>
                  <a:lnTo>
                    <a:pt x="773" y="598"/>
                  </a:lnTo>
                  <a:lnTo>
                    <a:pt x="759" y="598"/>
                  </a:lnTo>
                  <a:lnTo>
                    <a:pt x="759" y="604"/>
                  </a:lnTo>
                  <a:lnTo>
                    <a:pt x="754" y="604"/>
                  </a:lnTo>
                  <a:lnTo>
                    <a:pt x="754" y="609"/>
                  </a:lnTo>
                  <a:lnTo>
                    <a:pt x="745" y="609"/>
                  </a:lnTo>
                  <a:lnTo>
                    <a:pt x="745" y="615"/>
                  </a:lnTo>
                  <a:lnTo>
                    <a:pt x="740" y="615"/>
                  </a:lnTo>
                  <a:lnTo>
                    <a:pt x="740" y="621"/>
                  </a:lnTo>
                  <a:lnTo>
                    <a:pt x="729" y="621"/>
                  </a:lnTo>
                  <a:lnTo>
                    <a:pt x="729" y="626"/>
                  </a:lnTo>
                  <a:lnTo>
                    <a:pt x="720" y="626"/>
                  </a:lnTo>
                  <a:lnTo>
                    <a:pt x="720" y="633"/>
                  </a:lnTo>
                  <a:lnTo>
                    <a:pt x="715" y="633"/>
                  </a:lnTo>
                  <a:lnTo>
                    <a:pt x="715" y="639"/>
                  </a:lnTo>
                  <a:lnTo>
                    <a:pt x="710" y="639"/>
                  </a:lnTo>
                  <a:lnTo>
                    <a:pt x="710" y="645"/>
                  </a:lnTo>
                  <a:lnTo>
                    <a:pt x="701" y="645"/>
                  </a:lnTo>
                  <a:lnTo>
                    <a:pt x="701" y="650"/>
                  </a:lnTo>
                  <a:lnTo>
                    <a:pt x="692" y="650"/>
                  </a:lnTo>
                  <a:lnTo>
                    <a:pt x="692" y="658"/>
                  </a:lnTo>
                  <a:lnTo>
                    <a:pt x="682" y="658"/>
                  </a:lnTo>
                  <a:lnTo>
                    <a:pt x="682" y="663"/>
                  </a:lnTo>
                  <a:lnTo>
                    <a:pt x="677" y="663"/>
                  </a:lnTo>
                  <a:lnTo>
                    <a:pt x="677" y="669"/>
                  </a:lnTo>
                  <a:lnTo>
                    <a:pt x="662" y="669"/>
                  </a:lnTo>
                  <a:lnTo>
                    <a:pt x="662" y="674"/>
                  </a:lnTo>
                  <a:lnTo>
                    <a:pt x="658" y="674"/>
                  </a:lnTo>
                  <a:lnTo>
                    <a:pt x="658" y="680"/>
                  </a:lnTo>
                  <a:lnTo>
                    <a:pt x="648" y="680"/>
                  </a:lnTo>
                  <a:lnTo>
                    <a:pt x="648" y="686"/>
                  </a:lnTo>
                  <a:lnTo>
                    <a:pt x="639" y="686"/>
                  </a:lnTo>
                  <a:lnTo>
                    <a:pt x="639" y="691"/>
                  </a:lnTo>
                  <a:lnTo>
                    <a:pt x="633" y="691"/>
                  </a:lnTo>
                  <a:lnTo>
                    <a:pt x="633" y="699"/>
                  </a:lnTo>
                  <a:lnTo>
                    <a:pt x="629" y="699"/>
                  </a:lnTo>
                  <a:lnTo>
                    <a:pt x="629" y="704"/>
                  </a:lnTo>
                  <a:lnTo>
                    <a:pt x="619" y="704"/>
                  </a:lnTo>
                  <a:lnTo>
                    <a:pt x="619" y="710"/>
                  </a:lnTo>
                  <a:lnTo>
                    <a:pt x="610" y="710"/>
                  </a:lnTo>
                  <a:lnTo>
                    <a:pt x="610" y="716"/>
                  </a:lnTo>
                  <a:lnTo>
                    <a:pt x="606" y="716"/>
                  </a:lnTo>
                  <a:lnTo>
                    <a:pt x="606" y="723"/>
                  </a:lnTo>
                  <a:lnTo>
                    <a:pt x="590" y="723"/>
                  </a:lnTo>
                  <a:lnTo>
                    <a:pt x="590" y="728"/>
                  </a:lnTo>
                  <a:lnTo>
                    <a:pt x="585" y="728"/>
                  </a:lnTo>
                  <a:lnTo>
                    <a:pt x="585" y="733"/>
                  </a:lnTo>
                  <a:lnTo>
                    <a:pt x="576" y="733"/>
                  </a:lnTo>
                  <a:lnTo>
                    <a:pt x="576" y="740"/>
                  </a:lnTo>
                  <a:lnTo>
                    <a:pt x="571" y="740"/>
                  </a:lnTo>
                  <a:lnTo>
                    <a:pt x="571" y="745"/>
                  </a:lnTo>
                  <a:lnTo>
                    <a:pt x="562" y="745"/>
                  </a:lnTo>
                  <a:lnTo>
                    <a:pt x="562" y="751"/>
                  </a:lnTo>
                  <a:lnTo>
                    <a:pt x="557" y="751"/>
                  </a:lnTo>
                  <a:lnTo>
                    <a:pt x="557" y="758"/>
                  </a:lnTo>
                  <a:lnTo>
                    <a:pt x="547" y="758"/>
                  </a:lnTo>
                  <a:lnTo>
                    <a:pt x="547" y="764"/>
                  </a:lnTo>
                  <a:lnTo>
                    <a:pt x="543" y="764"/>
                  </a:lnTo>
                  <a:lnTo>
                    <a:pt x="543" y="769"/>
                  </a:lnTo>
                  <a:lnTo>
                    <a:pt x="537" y="769"/>
                  </a:lnTo>
                  <a:lnTo>
                    <a:pt x="537" y="775"/>
                  </a:lnTo>
                  <a:lnTo>
                    <a:pt x="533" y="775"/>
                  </a:lnTo>
                  <a:lnTo>
                    <a:pt x="533" y="781"/>
                  </a:lnTo>
                  <a:lnTo>
                    <a:pt x="523" y="781"/>
                  </a:lnTo>
                  <a:lnTo>
                    <a:pt x="523" y="786"/>
                  </a:lnTo>
                  <a:lnTo>
                    <a:pt x="518" y="786"/>
                  </a:lnTo>
                  <a:lnTo>
                    <a:pt x="518" y="792"/>
                  </a:lnTo>
                  <a:lnTo>
                    <a:pt x="509" y="792"/>
                  </a:lnTo>
                  <a:lnTo>
                    <a:pt x="509" y="799"/>
                  </a:lnTo>
                  <a:lnTo>
                    <a:pt x="503" y="799"/>
                  </a:lnTo>
                  <a:lnTo>
                    <a:pt x="503" y="805"/>
                  </a:lnTo>
                  <a:lnTo>
                    <a:pt x="489" y="805"/>
                  </a:lnTo>
                  <a:lnTo>
                    <a:pt x="489" y="810"/>
                  </a:lnTo>
                  <a:lnTo>
                    <a:pt x="481" y="810"/>
                  </a:lnTo>
                  <a:lnTo>
                    <a:pt x="481" y="817"/>
                  </a:lnTo>
                  <a:lnTo>
                    <a:pt x="475" y="817"/>
                  </a:lnTo>
                  <a:lnTo>
                    <a:pt x="475" y="822"/>
                  </a:lnTo>
                  <a:lnTo>
                    <a:pt x="466" y="822"/>
                  </a:lnTo>
                  <a:lnTo>
                    <a:pt x="466" y="827"/>
                  </a:lnTo>
                  <a:lnTo>
                    <a:pt x="462" y="827"/>
                  </a:lnTo>
                  <a:lnTo>
                    <a:pt x="462" y="835"/>
                  </a:lnTo>
                  <a:lnTo>
                    <a:pt x="456" y="835"/>
                  </a:lnTo>
                  <a:lnTo>
                    <a:pt x="456" y="846"/>
                  </a:lnTo>
                  <a:lnTo>
                    <a:pt x="446" y="846"/>
                  </a:lnTo>
                  <a:lnTo>
                    <a:pt x="446" y="851"/>
                  </a:lnTo>
                  <a:lnTo>
                    <a:pt x="437" y="851"/>
                  </a:lnTo>
                  <a:lnTo>
                    <a:pt x="437" y="859"/>
                  </a:lnTo>
                  <a:lnTo>
                    <a:pt x="432" y="859"/>
                  </a:lnTo>
                  <a:lnTo>
                    <a:pt x="432" y="864"/>
                  </a:lnTo>
                  <a:lnTo>
                    <a:pt x="427" y="864"/>
                  </a:lnTo>
                  <a:lnTo>
                    <a:pt x="427" y="876"/>
                  </a:lnTo>
                  <a:lnTo>
                    <a:pt x="418" y="876"/>
                  </a:lnTo>
                  <a:lnTo>
                    <a:pt x="418" y="881"/>
                  </a:lnTo>
                  <a:lnTo>
                    <a:pt x="413" y="881"/>
                  </a:lnTo>
                  <a:lnTo>
                    <a:pt x="413" y="887"/>
                  </a:lnTo>
                  <a:lnTo>
                    <a:pt x="403" y="887"/>
                  </a:lnTo>
                  <a:lnTo>
                    <a:pt x="403" y="894"/>
                  </a:lnTo>
                  <a:lnTo>
                    <a:pt x="394" y="894"/>
                  </a:lnTo>
                  <a:lnTo>
                    <a:pt x="394" y="900"/>
                  </a:lnTo>
                  <a:lnTo>
                    <a:pt x="389" y="900"/>
                  </a:lnTo>
                  <a:lnTo>
                    <a:pt x="389" y="905"/>
                  </a:lnTo>
                  <a:lnTo>
                    <a:pt x="379" y="905"/>
                  </a:lnTo>
                  <a:lnTo>
                    <a:pt x="379" y="911"/>
                  </a:lnTo>
                  <a:lnTo>
                    <a:pt x="369" y="911"/>
                  </a:lnTo>
                  <a:lnTo>
                    <a:pt x="369" y="917"/>
                  </a:lnTo>
                  <a:lnTo>
                    <a:pt x="365" y="917"/>
                  </a:lnTo>
                  <a:lnTo>
                    <a:pt x="365" y="923"/>
                  </a:lnTo>
                  <a:lnTo>
                    <a:pt x="355" y="923"/>
                  </a:lnTo>
                  <a:lnTo>
                    <a:pt x="355" y="928"/>
                  </a:lnTo>
                  <a:lnTo>
                    <a:pt x="351" y="928"/>
                  </a:lnTo>
                  <a:lnTo>
                    <a:pt x="351" y="935"/>
                  </a:lnTo>
                  <a:lnTo>
                    <a:pt x="341" y="935"/>
                  </a:lnTo>
                  <a:lnTo>
                    <a:pt x="341" y="946"/>
                  </a:lnTo>
                  <a:lnTo>
                    <a:pt x="331" y="946"/>
                  </a:lnTo>
                  <a:lnTo>
                    <a:pt x="331" y="952"/>
                  </a:lnTo>
                  <a:lnTo>
                    <a:pt x="322" y="952"/>
                  </a:lnTo>
                  <a:lnTo>
                    <a:pt x="322" y="958"/>
                  </a:lnTo>
                  <a:lnTo>
                    <a:pt x="308" y="958"/>
                  </a:lnTo>
                  <a:lnTo>
                    <a:pt x="308" y="965"/>
                  </a:lnTo>
                  <a:lnTo>
                    <a:pt x="302" y="965"/>
                  </a:lnTo>
                  <a:lnTo>
                    <a:pt x="302" y="977"/>
                  </a:lnTo>
                  <a:lnTo>
                    <a:pt x="297" y="977"/>
                  </a:lnTo>
                  <a:lnTo>
                    <a:pt x="297" y="982"/>
                  </a:lnTo>
                  <a:lnTo>
                    <a:pt x="288" y="982"/>
                  </a:lnTo>
                  <a:lnTo>
                    <a:pt x="288" y="987"/>
                  </a:lnTo>
                  <a:lnTo>
                    <a:pt x="283" y="987"/>
                  </a:lnTo>
                  <a:lnTo>
                    <a:pt x="283" y="995"/>
                  </a:lnTo>
                  <a:lnTo>
                    <a:pt x="278" y="995"/>
                  </a:lnTo>
                  <a:lnTo>
                    <a:pt x="278" y="1000"/>
                  </a:lnTo>
                  <a:lnTo>
                    <a:pt x="269" y="1000"/>
                  </a:lnTo>
                  <a:lnTo>
                    <a:pt x="269" y="1005"/>
                  </a:lnTo>
                  <a:lnTo>
                    <a:pt x="264" y="1005"/>
                  </a:lnTo>
                  <a:lnTo>
                    <a:pt x="264" y="1012"/>
                  </a:lnTo>
                  <a:lnTo>
                    <a:pt x="255" y="1012"/>
                  </a:lnTo>
                  <a:lnTo>
                    <a:pt x="255" y="1017"/>
                  </a:lnTo>
                  <a:lnTo>
                    <a:pt x="245" y="1017"/>
                  </a:lnTo>
                  <a:lnTo>
                    <a:pt x="245" y="1023"/>
                  </a:lnTo>
                  <a:lnTo>
                    <a:pt x="235" y="1023"/>
                  </a:lnTo>
                  <a:lnTo>
                    <a:pt x="235" y="1028"/>
                  </a:lnTo>
                  <a:lnTo>
                    <a:pt x="230" y="1028"/>
                  </a:lnTo>
                  <a:lnTo>
                    <a:pt x="230" y="1036"/>
                  </a:lnTo>
                  <a:lnTo>
                    <a:pt x="225" y="1036"/>
                  </a:lnTo>
                  <a:lnTo>
                    <a:pt x="225" y="1041"/>
                  </a:lnTo>
                  <a:lnTo>
                    <a:pt x="221" y="1041"/>
                  </a:lnTo>
                  <a:lnTo>
                    <a:pt x="221" y="1046"/>
                  </a:lnTo>
                  <a:lnTo>
                    <a:pt x="215" y="1046"/>
                  </a:lnTo>
                  <a:lnTo>
                    <a:pt x="215" y="1053"/>
                  </a:lnTo>
                  <a:lnTo>
                    <a:pt x="211" y="1053"/>
                  </a:lnTo>
                  <a:lnTo>
                    <a:pt x="211" y="1071"/>
                  </a:lnTo>
                  <a:lnTo>
                    <a:pt x="201" y="1071"/>
                  </a:lnTo>
                  <a:lnTo>
                    <a:pt x="201" y="1077"/>
                  </a:lnTo>
                  <a:lnTo>
                    <a:pt x="196" y="1077"/>
                  </a:lnTo>
                  <a:lnTo>
                    <a:pt x="196" y="1088"/>
                  </a:lnTo>
                  <a:lnTo>
                    <a:pt x="192" y="1088"/>
                  </a:lnTo>
                  <a:lnTo>
                    <a:pt x="192" y="1094"/>
                  </a:lnTo>
                  <a:lnTo>
                    <a:pt x="173" y="1094"/>
                  </a:lnTo>
                  <a:lnTo>
                    <a:pt x="173" y="1099"/>
                  </a:lnTo>
                  <a:lnTo>
                    <a:pt x="168" y="1099"/>
                  </a:lnTo>
                  <a:lnTo>
                    <a:pt x="168" y="1106"/>
                  </a:lnTo>
                  <a:lnTo>
                    <a:pt x="159" y="1106"/>
                  </a:lnTo>
                  <a:lnTo>
                    <a:pt x="159" y="1112"/>
                  </a:lnTo>
                  <a:lnTo>
                    <a:pt x="153" y="1112"/>
                  </a:lnTo>
                  <a:lnTo>
                    <a:pt x="153" y="1118"/>
                  </a:lnTo>
                  <a:lnTo>
                    <a:pt x="148" y="1118"/>
                  </a:lnTo>
                  <a:lnTo>
                    <a:pt x="148" y="1131"/>
                  </a:lnTo>
                  <a:lnTo>
                    <a:pt x="139" y="1131"/>
                  </a:lnTo>
                  <a:lnTo>
                    <a:pt x="139" y="1136"/>
                  </a:lnTo>
                  <a:lnTo>
                    <a:pt x="130" y="1136"/>
                  </a:lnTo>
                  <a:lnTo>
                    <a:pt x="130" y="1142"/>
                  </a:lnTo>
                  <a:lnTo>
                    <a:pt x="115" y="1142"/>
                  </a:lnTo>
                  <a:lnTo>
                    <a:pt x="115" y="1147"/>
                  </a:lnTo>
                  <a:lnTo>
                    <a:pt x="111" y="1147"/>
                  </a:lnTo>
                  <a:lnTo>
                    <a:pt x="111" y="1159"/>
                  </a:lnTo>
                  <a:lnTo>
                    <a:pt x="105" y="1159"/>
                  </a:lnTo>
                  <a:lnTo>
                    <a:pt x="105" y="1164"/>
                  </a:lnTo>
                  <a:lnTo>
                    <a:pt x="97" y="1164"/>
                  </a:lnTo>
                  <a:lnTo>
                    <a:pt x="97" y="1177"/>
                  </a:lnTo>
                  <a:lnTo>
                    <a:pt x="87" y="1177"/>
                  </a:lnTo>
                  <a:lnTo>
                    <a:pt x="87" y="1183"/>
                  </a:lnTo>
                  <a:lnTo>
                    <a:pt x="57" y="1183"/>
                  </a:lnTo>
                  <a:lnTo>
                    <a:pt x="57" y="1189"/>
                  </a:lnTo>
                  <a:lnTo>
                    <a:pt x="43" y="1189"/>
                  </a:lnTo>
                  <a:lnTo>
                    <a:pt x="43" y="1194"/>
                  </a:lnTo>
                  <a:lnTo>
                    <a:pt x="15" y="1194"/>
                  </a:lnTo>
                  <a:lnTo>
                    <a:pt x="15" y="1189"/>
                  </a:lnTo>
                  <a:lnTo>
                    <a:pt x="4" y="1189"/>
                  </a:lnTo>
                  <a:lnTo>
                    <a:pt x="4" y="1183"/>
                  </a:lnTo>
                  <a:lnTo>
                    <a:pt x="0" y="1183"/>
                  </a:lnTo>
                  <a:lnTo>
                    <a:pt x="0" y="114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11640" y="3228840"/>
              <a:ext cx="858960" cy="614520"/>
            </a:xfrm>
            <a:custGeom>
              <a:avLst/>
              <a:gdLst/>
              <a:ahLst/>
              <a:rect l="l" t="t" r="r" b="b"/>
              <a:pathLst>
                <a:path w="1623" h="1549">
                  <a:moveTo>
                    <a:pt x="0" y="1059"/>
                  </a:moveTo>
                  <a:lnTo>
                    <a:pt x="5" y="1059"/>
                  </a:lnTo>
                  <a:lnTo>
                    <a:pt x="5" y="1052"/>
                  </a:lnTo>
                  <a:lnTo>
                    <a:pt x="9" y="1052"/>
                  </a:lnTo>
                  <a:lnTo>
                    <a:pt x="9" y="1041"/>
                  </a:lnTo>
                  <a:lnTo>
                    <a:pt x="15" y="1041"/>
                  </a:lnTo>
                  <a:lnTo>
                    <a:pt x="15" y="1029"/>
                  </a:lnTo>
                  <a:lnTo>
                    <a:pt x="19" y="1029"/>
                  </a:lnTo>
                  <a:lnTo>
                    <a:pt x="19" y="1016"/>
                  </a:lnTo>
                  <a:lnTo>
                    <a:pt x="24" y="1016"/>
                  </a:lnTo>
                  <a:lnTo>
                    <a:pt x="24" y="1005"/>
                  </a:lnTo>
                  <a:lnTo>
                    <a:pt x="29" y="1005"/>
                  </a:lnTo>
                  <a:lnTo>
                    <a:pt x="29" y="1000"/>
                  </a:lnTo>
                  <a:lnTo>
                    <a:pt x="33" y="1000"/>
                  </a:lnTo>
                  <a:lnTo>
                    <a:pt x="33" y="994"/>
                  </a:lnTo>
                  <a:lnTo>
                    <a:pt x="38" y="994"/>
                  </a:lnTo>
                  <a:lnTo>
                    <a:pt x="38" y="970"/>
                  </a:lnTo>
                  <a:lnTo>
                    <a:pt x="43" y="970"/>
                  </a:lnTo>
                  <a:lnTo>
                    <a:pt x="43" y="964"/>
                  </a:lnTo>
                  <a:lnTo>
                    <a:pt x="49" y="964"/>
                  </a:lnTo>
                  <a:lnTo>
                    <a:pt x="49" y="953"/>
                  </a:lnTo>
                  <a:lnTo>
                    <a:pt x="53" y="953"/>
                  </a:lnTo>
                  <a:lnTo>
                    <a:pt x="53" y="940"/>
                  </a:lnTo>
                  <a:lnTo>
                    <a:pt x="58" y="940"/>
                  </a:lnTo>
                  <a:lnTo>
                    <a:pt x="58" y="934"/>
                  </a:lnTo>
                  <a:lnTo>
                    <a:pt x="63" y="934"/>
                  </a:lnTo>
                  <a:lnTo>
                    <a:pt x="63" y="923"/>
                  </a:lnTo>
                  <a:lnTo>
                    <a:pt x="67" y="923"/>
                  </a:lnTo>
                  <a:lnTo>
                    <a:pt x="67" y="910"/>
                  </a:lnTo>
                  <a:lnTo>
                    <a:pt x="72" y="910"/>
                  </a:lnTo>
                  <a:lnTo>
                    <a:pt x="72" y="899"/>
                  </a:lnTo>
                  <a:lnTo>
                    <a:pt x="77" y="899"/>
                  </a:lnTo>
                  <a:lnTo>
                    <a:pt x="77" y="893"/>
                  </a:lnTo>
                  <a:lnTo>
                    <a:pt x="82" y="893"/>
                  </a:lnTo>
                  <a:lnTo>
                    <a:pt x="82" y="888"/>
                  </a:lnTo>
                  <a:lnTo>
                    <a:pt x="86" y="888"/>
                  </a:lnTo>
                  <a:lnTo>
                    <a:pt x="86" y="875"/>
                  </a:lnTo>
                  <a:lnTo>
                    <a:pt x="91" y="875"/>
                  </a:lnTo>
                  <a:lnTo>
                    <a:pt x="91" y="869"/>
                  </a:lnTo>
                  <a:lnTo>
                    <a:pt x="96" y="869"/>
                  </a:lnTo>
                  <a:lnTo>
                    <a:pt x="96" y="856"/>
                  </a:lnTo>
                  <a:lnTo>
                    <a:pt x="101" y="856"/>
                  </a:lnTo>
                  <a:lnTo>
                    <a:pt x="101" y="846"/>
                  </a:lnTo>
                  <a:lnTo>
                    <a:pt x="105" y="846"/>
                  </a:lnTo>
                  <a:lnTo>
                    <a:pt x="105" y="834"/>
                  </a:lnTo>
                  <a:lnTo>
                    <a:pt x="110" y="834"/>
                  </a:lnTo>
                  <a:lnTo>
                    <a:pt x="110" y="828"/>
                  </a:lnTo>
                  <a:lnTo>
                    <a:pt x="116" y="828"/>
                  </a:lnTo>
                  <a:lnTo>
                    <a:pt x="116" y="823"/>
                  </a:lnTo>
                  <a:lnTo>
                    <a:pt x="120" y="823"/>
                  </a:lnTo>
                  <a:lnTo>
                    <a:pt x="120" y="804"/>
                  </a:lnTo>
                  <a:lnTo>
                    <a:pt x="126" y="804"/>
                  </a:lnTo>
                  <a:lnTo>
                    <a:pt x="126" y="798"/>
                  </a:lnTo>
                  <a:lnTo>
                    <a:pt x="130" y="798"/>
                  </a:lnTo>
                  <a:lnTo>
                    <a:pt x="130" y="787"/>
                  </a:lnTo>
                  <a:lnTo>
                    <a:pt x="135" y="787"/>
                  </a:lnTo>
                  <a:lnTo>
                    <a:pt x="135" y="769"/>
                  </a:lnTo>
                  <a:lnTo>
                    <a:pt x="139" y="769"/>
                  </a:lnTo>
                  <a:lnTo>
                    <a:pt x="139" y="750"/>
                  </a:lnTo>
                  <a:lnTo>
                    <a:pt x="145" y="750"/>
                  </a:lnTo>
                  <a:lnTo>
                    <a:pt x="145" y="745"/>
                  </a:lnTo>
                  <a:lnTo>
                    <a:pt x="149" y="745"/>
                  </a:lnTo>
                  <a:lnTo>
                    <a:pt x="149" y="739"/>
                  </a:lnTo>
                  <a:lnTo>
                    <a:pt x="153" y="739"/>
                  </a:lnTo>
                  <a:lnTo>
                    <a:pt x="153" y="728"/>
                  </a:lnTo>
                  <a:lnTo>
                    <a:pt x="159" y="728"/>
                  </a:lnTo>
                  <a:lnTo>
                    <a:pt x="159" y="720"/>
                  </a:lnTo>
                  <a:lnTo>
                    <a:pt x="163" y="720"/>
                  </a:lnTo>
                  <a:lnTo>
                    <a:pt x="163" y="715"/>
                  </a:lnTo>
                  <a:lnTo>
                    <a:pt x="167" y="715"/>
                  </a:lnTo>
                  <a:lnTo>
                    <a:pt x="167" y="709"/>
                  </a:lnTo>
                  <a:lnTo>
                    <a:pt x="173" y="709"/>
                  </a:lnTo>
                  <a:lnTo>
                    <a:pt x="173" y="704"/>
                  </a:lnTo>
                  <a:lnTo>
                    <a:pt x="177" y="704"/>
                  </a:lnTo>
                  <a:lnTo>
                    <a:pt x="177" y="692"/>
                  </a:lnTo>
                  <a:lnTo>
                    <a:pt x="182" y="692"/>
                  </a:lnTo>
                  <a:lnTo>
                    <a:pt x="182" y="687"/>
                  </a:lnTo>
                  <a:lnTo>
                    <a:pt x="187" y="687"/>
                  </a:lnTo>
                  <a:lnTo>
                    <a:pt x="187" y="679"/>
                  </a:lnTo>
                  <a:lnTo>
                    <a:pt x="193" y="679"/>
                  </a:lnTo>
                  <a:lnTo>
                    <a:pt x="193" y="668"/>
                  </a:lnTo>
                  <a:lnTo>
                    <a:pt x="197" y="668"/>
                  </a:lnTo>
                  <a:lnTo>
                    <a:pt x="197" y="662"/>
                  </a:lnTo>
                  <a:lnTo>
                    <a:pt x="201" y="662"/>
                  </a:lnTo>
                  <a:lnTo>
                    <a:pt x="201" y="651"/>
                  </a:lnTo>
                  <a:lnTo>
                    <a:pt x="207" y="651"/>
                  </a:lnTo>
                  <a:lnTo>
                    <a:pt x="207" y="646"/>
                  </a:lnTo>
                  <a:lnTo>
                    <a:pt x="211" y="646"/>
                  </a:lnTo>
                  <a:lnTo>
                    <a:pt x="211" y="633"/>
                  </a:lnTo>
                  <a:lnTo>
                    <a:pt x="216" y="633"/>
                  </a:lnTo>
                  <a:lnTo>
                    <a:pt x="216" y="621"/>
                  </a:lnTo>
                  <a:lnTo>
                    <a:pt x="221" y="621"/>
                  </a:lnTo>
                  <a:lnTo>
                    <a:pt x="221" y="609"/>
                  </a:lnTo>
                  <a:lnTo>
                    <a:pt x="226" y="609"/>
                  </a:lnTo>
                  <a:lnTo>
                    <a:pt x="226" y="603"/>
                  </a:lnTo>
                  <a:lnTo>
                    <a:pt x="230" y="603"/>
                  </a:lnTo>
                  <a:lnTo>
                    <a:pt x="230" y="592"/>
                  </a:lnTo>
                  <a:lnTo>
                    <a:pt x="235" y="592"/>
                  </a:lnTo>
                  <a:lnTo>
                    <a:pt x="235" y="579"/>
                  </a:lnTo>
                  <a:lnTo>
                    <a:pt x="240" y="579"/>
                  </a:lnTo>
                  <a:lnTo>
                    <a:pt x="240" y="574"/>
                  </a:lnTo>
                  <a:lnTo>
                    <a:pt x="244" y="574"/>
                  </a:lnTo>
                  <a:lnTo>
                    <a:pt x="244" y="562"/>
                  </a:lnTo>
                  <a:lnTo>
                    <a:pt x="249" y="562"/>
                  </a:lnTo>
                  <a:lnTo>
                    <a:pt x="249" y="551"/>
                  </a:lnTo>
                  <a:lnTo>
                    <a:pt x="254" y="551"/>
                  </a:lnTo>
                  <a:lnTo>
                    <a:pt x="254" y="538"/>
                  </a:lnTo>
                  <a:lnTo>
                    <a:pt x="260" y="538"/>
                  </a:lnTo>
                  <a:lnTo>
                    <a:pt x="260" y="533"/>
                  </a:lnTo>
                  <a:lnTo>
                    <a:pt x="264" y="533"/>
                  </a:lnTo>
                  <a:lnTo>
                    <a:pt x="264" y="521"/>
                  </a:lnTo>
                  <a:lnTo>
                    <a:pt x="270" y="521"/>
                  </a:lnTo>
                  <a:lnTo>
                    <a:pt x="270" y="510"/>
                  </a:lnTo>
                  <a:lnTo>
                    <a:pt x="274" y="510"/>
                  </a:lnTo>
                  <a:lnTo>
                    <a:pt x="274" y="497"/>
                  </a:lnTo>
                  <a:lnTo>
                    <a:pt x="283" y="497"/>
                  </a:lnTo>
                  <a:lnTo>
                    <a:pt x="283" y="485"/>
                  </a:lnTo>
                  <a:lnTo>
                    <a:pt x="288" y="485"/>
                  </a:lnTo>
                  <a:lnTo>
                    <a:pt x="288" y="473"/>
                  </a:lnTo>
                  <a:lnTo>
                    <a:pt x="293" y="473"/>
                  </a:lnTo>
                  <a:lnTo>
                    <a:pt x="293" y="467"/>
                  </a:lnTo>
                  <a:lnTo>
                    <a:pt x="297" y="467"/>
                  </a:lnTo>
                  <a:lnTo>
                    <a:pt x="297" y="456"/>
                  </a:lnTo>
                  <a:lnTo>
                    <a:pt x="303" y="456"/>
                  </a:lnTo>
                  <a:lnTo>
                    <a:pt x="303" y="443"/>
                  </a:lnTo>
                  <a:lnTo>
                    <a:pt x="307" y="443"/>
                  </a:lnTo>
                  <a:lnTo>
                    <a:pt x="307" y="432"/>
                  </a:lnTo>
                  <a:lnTo>
                    <a:pt x="312" y="432"/>
                  </a:lnTo>
                  <a:lnTo>
                    <a:pt x="312" y="426"/>
                  </a:lnTo>
                  <a:lnTo>
                    <a:pt x="317" y="426"/>
                  </a:lnTo>
                  <a:lnTo>
                    <a:pt x="317" y="415"/>
                  </a:lnTo>
                  <a:lnTo>
                    <a:pt x="322" y="415"/>
                  </a:lnTo>
                  <a:lnTo>
                    <a:pt x="322" y="409"/>
                  </a:lnTo>
                  <a:lnTo>
                    <a:pt x="326" y="409"/>
                  </a:lnTo>
                  <a:lnTo>
                    <a:pt x="326" y="402"/>
                  </a:lnTo>
                  <a:lnTo>
                    <a:pt x="332" y="402"/>
                  </a:lnTo>
                  <a:lnTo>
                    <a:pt x="332" y="391"/>
                  </a:lnTo>
                  <a:lnTo>
                    <a:pt x="337" y="391"/>
                  </a:lnTo>
                  <a:lnTo>
                    <a:pt x="337" y="384"/>
                  </a:lnTo>
                  <a:lnTo>
                    <a:pt x="341" y="384"/>
                  </a:lnTo>
                  <a:lnTo>
                    <a:pt x="341" y="379"/>
                  </a:lnTo>
                  <a:lnTo>
                    <a:pt x="346" y="379"/>
                  </a:lnTo>
                  <a:lnTo>
                    <a:pt x="346" y="366"/>
                  </a:lnTo>
                  <a:lnTo>
                    <a:pt x="351" y="366"/>
                  </a:lnTo>
                  <a:lnTo>
                    <a:pt x="351" y="355"/>
                  </a:lnTo>
                  <a:lnTo>
                    <a:pt x="356" y="355"/>
                  </a:lnTo>
                  <a:lnTo>
                    <a:pt x="356" y="342"/>
                  </a:lnTo>
                  <a:lnTo>
                    <a:pt x="360" y="342"/>
                  </a:lnTo>
                  <a:lnTo>
                    <a:pt x="360" y="337"/>
                  </a:lnTo>
                  <a:lnTo>
                    <a:pt x="365" y="337"/>
                  </a:lnTo>
                  <a:lnTo>
                    <a:pt x="365" y="325"/>
                  </a:lnTo>
                  <a:lnTo>
                    <a:pt x="370" y="325"/>
                  </a:lnTo>
                  <a:lnTo>
                    <a:pt x="370" y="314"/>
                  </a:lnTo>
                  <a:lnTo>
                    <a:pt x="374" y="314"/>
                  </a:lnTo>
                  <a:lnTo>
                    <a:pt x="374" y="307"/>
                  </a:lnTo>
                  <a:lnTo>
                    <a:pt x="379" y="307"/>
                  </a:lnTo>
                  <a:lnTo>
                    <a:pt x="379" y="296"/>
                  </a:lnTo>
                  <a:lnTo>
                    <a:pt x="384" y="296"/>
                  </a:lnTo>
                  <a:lnTo>
                    <a:pt x="384" y="284"/>
                  </a:lnTo>
                  <a:lnTo>
                    <a:pt x="389" y="284"/>
                  </a:lnTo>
                  <a:lnTo>
                    <a:pt x="389" y="272"/>
                  </a:lnTo>
                  <a:lnTo>
                    <a:pt x="393" y="272"/>
                  </a:lnTo>
                  <a:lnTo>
                    <a:pt x="393" y="266"/>
                  </a:lnTo>
                  <a:lnTo>
                    <a:pt x="399" y="266"/>
                  </a:lnTo>
                  <a:lnTo>
                    <a:pt x="399" y="260"/>
                  </a:lnTo>
                  <a:lnTo>
                    <a:pt x="404" y="260"/>
                  </a:lnTo>
                  <a:lnTo>
                    <a:pt x="404" y="248"/>
                  </a:lnTo>
                  <a:lnTo>
                    <a:pt x="409" y="248"/>
                  </a:lnTo>
                  <a:lnTo>
                    <a:pt x="409" y="243"/>
                  </a:lnTo>
                  <a:lnTo>
                    <a:pt x="414" y="243"/>
                  </a:lnTo>
                  <a:lnTo>
                    <a:pt x="414" y="225"/>
                  </a:lnTo>
                  <a:lnTo>
                    <a:pt x="418" y="225"/>
                  </a:lnTo>
                  <a:lnTo>
                    <a:pt x="418" y="219"/>
                  </a:lnTo>
                  <a:lnTo>
                    <a:pt x="423" y="219"/>
                  </a:lnTo>
                  <a:lnTo>
                    <a:pt x="423" y="206"/>
                  </a:lnTo>
                  <a:lnTo>
                    <a:pt x="427" y="206"/>
                  </a:lnTo>
                  <a:lnTo>
                    <a:pt x="427" y="201"/>
                  </a:lnTo>
                  <a:lnTo>
                    <a:pt x="433" y="201"/>
                  </a:lnTo>
                  <a:lnTo>
                    <a:pt x="433" y="189"/>
                  </a:lnTo>
                  <a:lnTo>
                    <a:pt x="437" y="189"/>
                  </a:lnTo>
                  <a:lnTo>
                    <a:pt x="437" y="184"/>
                  </a:lnTo>
                  <a:lnTo>
                    <a:pt x="442" y="184"/>
                  </a:lnTo>
                  <a:lnTo>
                    <a:pt x="442" y="173"/>
                  </a:lnTo>
                  <a:lnTo>
                    <a:pt x="447" y="173"/>
                  </a:lnTo>
                  <a:lnTo>
                    <a:pt x="447" y="166"/>
                  </a:lnTo>
                  <a:lnTo>
                    <a:pt x="451" y="166"/>
                  </a:lnTo>
                  <a:lnTo>
                    <a:pt x="451" y="155"/>
                  </a:lnTo>
                  <a:lnTo>
                    <a:pt x="456" y="155"/>
                  </a:lnTo>
                  <a:lnTo>
                    <a:pt x="456" y="148"/>
                  </a:lnTo>
                  <a:lnTo>
                    <a:pt x="461" y="148"/>
                  </a:lnTo>
                  <a:lnTo>
                    <a:pt x="461" y="136"/>
                  </a:lnTo>
                  <a:lnTo>
                    <a:pt x="466" y="136"/>
                  </a:lnTo>
                  <a:lnTo>
                    <a:pt x="466" y="130"/>
                  </a:lnTo>
                  <a:lnTo>
                    <a:pt x="470" y="130"/>
                  </a:lnTo>
                  <a:lnTo>
                    <a:pt x="470" y="119"/>
                  </a:lnTo>
                  <a:lnTo>
                    <a:pt x="476" y="119"/>
                  </a:lnTo>
                  <a:lnTo>
                    <a:pt x="476" y="113"/>
                  </a:lnTo>
                  <a:lnTo>
                    <a:pt x="481" y="113"/>
                  </a:lnTo>
                  <a:lnTo>
                    <a:pt x="481" y="102"/>
                  </a:lnTo>
                  <a:lnTo>
                    <a:pt x="486" y="102"/>
                  </a:lnTo>
                  <a:lnTo>
                    <a:pt x="486" y="95"/>
                  </a:lnTo>
                  <a:lnTo>
                    <a:pt x="490" y="95"/>
                  </a:lnTo>
                  <a:lnTo>
                    <a:pt x="490" y="89"/>
                  </a:lnTo>
                  <a:lnTo>
                    <a:pt x="495" y="89"/>
                  </a:lnTo>
                  <a:lnTo>
                    <a:pt x="495" y="83"/>
                  </a:lnTo>
                  <a:lnTo>
                    <a:pt x="500" y="83"/>
                  </a:lnTo>
                  <a:lnTo>
                    <a:pt x="500" y="70"/>
                  </a:lnTo>
                  <a:lnTo>
                    <a:pt x="504" y="70"/>
                  </a:lnTo>
                  <a:lnTo>
                    <a:pt x="504" y="60"/>
                  </a:lnTo>
                  <a:lnTo>
                    <a:pt x="509" y="60"/>
                  </a:lnTo>
                  <a:lnTo>
                    <a:pt x="509" y="48"/>
                  </a:lnTo>
                  <a:lnTo>
                    <a:pt x="514" y="48"/>
                  </a:lnTo>
                  <a:lnTo>
                    <a:pt x="514" y="42"/>
                  </a:lnTo>
                  <a:lnTo>
                    <a:pt x="518" y="42"/>
                  </a:lnTo>
                  <a:lnTo>
                    <a:pt x="518" y="37"/>
                  </a:lnTo>
                  <a:lnTo>
                    <a:pt x="523" y="37"/>
                  </a:lnTo>
                  <a:lnTo>
                    <a:pt x="523" y="24"/>
                  </a:lnTo>
                  <a:lnTo>
                    <a:pt x="528" y="24"/>
                  </a:lnTo>
                  <a:lnTo>
                    <a:pt x="528" y="12"/>
                  </a:lnTo>
                  <a:lnTo>
                    <a:pt x="533" y="12"/>
                  </a:lnTo>
                  <a:lnTo>
                    <a:pt x="533" y="7"/>
                  </a:lnTo>
                  <a:lnTo>
                    <a:pt x="542" y="7"/>
                  </a:lnTo>
                  <a:lnTo>
                    <a:pt x="542" y="0"/>
                  </a:lnTo>
                  <a:lnTo>
                    <a:pt x="558" y="0"/>
                  </a:lnTo>
                  <a:lnTo>
                    <a:pt x="558" y="7"/>
                  </a:lnTo>
                  <a:lnTo>
                    <a:pt x="562" y="7"/>
                  </a:lnTo>
                  <a:lnTo>
                    <a:pt x="562" y="12"/>
                  </a:lnTo>
                  <a:lnTo>
                    <a:pt x="567" y="12"/>
                  </a:lnTo>
                  <a:lnTo>
                    <a:pt x="567" y="18"/>
                  </a:lnTo>
                  <a:lnTo>
                    <a:pt x="571" y="18"/>
                  </a:lnTo>
                  <a:lnTo>
                    <a:pt x="571" y="60"/>
                  </a:lnTo>
                  <a:lnTo>
                    <a:pt x="567" y="60"/>
                  </a:lnTo>
                  <a:lnTo>
                    <a:pt x="567" y="78"/>
                  </a:lnTo>
                  <a:lnTo>
                    <a:pt x="562" y="78"/>
                  </a:lnTo>
                  <a:lnTo>
                    <a:pt x="562" y="89"/>
                  </a:lnTo>
                  <a:lnTo>
                    <a:pt x="558" y="89"/>
                  </a:lnTo>
                  <a:lnTo>
                    <a:pt x="558" y="95"/>
                  </a:lnTo>
                  <a:lnTo>
                    <a:pt x="552" y="95"/>
                  </a:lnTo>
                  <a:lnTo>
                    <a:pt x="552" y="107"/>
                  </a:lnTo>
                  <a:lnTo>
                    <a:pt x="548" y="107"/>
                  </a:lnTo>
                  <a:lnTo>
                    <a:pt x="548" y="113"/>
                  </a:lnTo>
                  <a:lnTo>
                    <a:pt x="542" y="113"/>
                  </a:lnTo>
                  <a:lnTo>
                    <a:pt x="542" y="119"/>
                  </a:lnTo>
                  <a:lnTo>
                    <a:pt x="537" y="119"/>
                  </a:lnTo>
                  <a:lnTo>
                    <a:pt x="537" y="130"/>
                  </a:lnTo>
                  <a:lnTo>
                    <a:pt x="533" y="130"/>
                  </a:lnTo>
                  <a:lnTo>
                    <a:pt x="533" y="136"/>
                  </a:lnTo>
                  <a:lnTo>
                    <a:pt x="528" y="136"/>
                  </a:lnTo>
                  <a:lnTo>
                    <a:pt x="528" y="148"/>
                  </a:lnTo>
                  <a:lnTo>
                    <a:pt x="523" y="148"/>
                  </a:lnTo>
                  <a:lnTo>
                    <a:pt x="523" y="155"/>
                  </a:lnTo>
                  <a:lnTo>
                    <a:pt x="518" y="155"/>
                  </a:lnTo>
                  <a:lnTo>
                    <a:pt x="518" y="166"/>
                  </a:lnTo>
                  <a:lnTo>
                    <a:pt x="514" y="166"/>
                  </a:lnTo>
                  <a:lnTo>
                    <a:pt x="514" y="173"/>
                  </a:lnTo>
                  <a:lnTo>
                    <a:pt x="509" y="173"/>
                  </a:lnTo>
                  <a:lnTo>
                    <a:pt x="509" y="184"/>
                  </a:lnTo>
                  <a:lnTo>
                    <a:pt x="504" y="184"/>
                  </a:lnTo>
                  <a:lnTo>
                    <a:pt x="504" y="189"/>
                  </a:lnTo>
                  <a:lnTo>
                    <a:pt x="500" y="189"/>
                  </a:lnTo>
                  <a:lnTo>
                    <a:pt x="500" y="201"/>
                  </a:lnTo>
                  <a:lnTo>
                    <a:pt x="495" y="201"/>
                  </a:lnTo>
                  <a:lnTo>
                    <a:pt x="495" y="206"/>
                  </a:lnTo>
                  <a:lnTo>
                    <a:pt x="490" y="206"/>
                  </a:lnTo>
                  <a:lnTo>
                    <a:pt x="490" y="214"/>
                  </a:lnTo>
                  <a:lnTo>
                    <a:pt x="481" y="214"/>
                  </a:lnTo>
                  <a:lnTo>
                    <a:pt x="481" y="225"/>
                  </a:lnTo>
                  <a:lnTo>
                    <a:pt x="476" y="225"/>
                  </a:lnTo>
                  <a:lnTo>
                    <a:pt x="476" y="236"/>
                  </a:lnTo>
                  <a:lnTo>
                    <a:pt x="470" y="236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6" y="255"/>
                  </a:lnTo>
                  <a:lnTo>
                    <a:pt x="461" y="255"/>
                  </a:lnTo>
                  <a:lnTo>
                    <a:pt x="461" y="266"/>
                  </a:lnTo>
                  <a:lnTo>
                    <a:pt x="456" y="266"/>
                  </a:lnTo>
                  <a:lnTo>
                    <a:pt x="456" y="272"/>
                  </a:lnTo>
                  <a:lnTo>
                    <a:pt x="451" y="272"/>
                  </a:lnTo>
                  <a:lnTo>
                    <a:pt x="451" y="284"/>
                  </a:lnTo>
                  <a:lnTo>
                    <a:pt x="447" y="284"/>
                  </a:lnTo>
                  <a:lnTo>
                    <a:pt x="447" y="301"/>
                  </a:lnTo>
                  <a:lnTo>
                    <a:pt x="442" y="301"/>
                  </a:lnTo>
                  <a:lnTo>
                    <a:pt x="442" y="307"/>
                  </a:lnTo>
                  <a:lnTo>
                    <a:pt x="437" y="307"/>
                  </a:lnTo>
                  <a:lnTo>
                    <a:pt x="437" y="320"/>
                  </a:lnTo>
                  <a:lnTo>
                    <a:pt x="433" y="320"/>
                  </a:lnTo>
                  <a:lnTo>
                    <a:pt x="433" y="325"/>
                  </a:lnTo>
                  <a:lnTo>
                    <a:pt x="427" y="325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3" y="337"/>
                  </a:lnTo>
                  <a:lnTo>
                    <a:pt x="418" y="337"/>
                  </a:lnTo>
                  <a:lnTo>
                    <a:pt x="418" y="350"/>
                  </a:lnTo>
                  <a:lnTo>
                    <a:pt x="414" y="350"/>
                  </a:lnTo>
                  <a:lnTo>
                    <a:pt x="414" y="366"/>
                  </a:lnTo>
                  <a:lnTo>
                    <a:pt x="409" y="366"/>
                  </a:lnTo>
                  <a:lnTo>
                    <a:pt x="409" y="374"/>
                  </a:lnTo>
                  <a:lnTo>
                    <a:pt x="404" y="374"/>
                  </a:lnTo>
                  <a:lnTo>
                    <a:pt x="404" y="384"/>
                  </a:lnTo>
                  <a:lnTo>
                    <a:pt x="399" y="384"/>
                  </a:lnTo>
                  <a:lnTo>
                    <a:pt x="399" y="396"/>
                  </a:lnTo>
                  <a:lnTo>
                    <a:pt x="393" y="396"/>
                  </a:lnTo>
                  <a:lnTo>
                    <a:pt x="393" y="402"/>
                  </a:lnTo>
                  <a:lnTo>
                    <a:pt x="389" y="402"/>
                  </a:lnTo>
                  <a:lnTo>
                    <a:pt x="389" y="409"/>
                  </a:lnTo>
                  <a:lnTo>
                    <a:pt x="384" y="409"/>
                  </a:lnTo>
                  <a:lnTo>
                    <a:pt x="384" y="415"/>
                  </a:lnTo>
                  <a:lnTo>
                    <a:pt x="379" y="415"/>
                  </a:lnTo>
                  <a:lnTo>
                    <a:pt x="379" y="426"/>
                  </a:lnTo>
                  <a:lnTo>
                    <a:pt x="374" y="426"/>
                  </a:lnTo>
                  <a:lnTo>
                    <a:pt x="374" y="432"/>
                  </a:lnTo>
                  <a:lnTo>
                    <a:pt x="370" y="432"/>
                  </a:lnTo>
                  <a:lnTo>
                    <a:pt x="370" y="443"/>
                  </a:lnTo>
                  <a:lnTo>
                    <a:pt x="365" y="443"/>
                  </a:lnTo>
                  <a:lnTo>
                    <a:pt x="365" y="456"/>
                  </a:lnTo>
                  <a:lnTo>
                    <a:pt x="360" y="456"/>
                  </a:lnTo>
                  <a:lnTo>
                    <a:pt x="360" y="467"/>
                  </a:lnTo>
                  <a:lnTo>
                    <a:pt x="356" y="467"/>
                  </a:lnTo>
                  <a:lnTo>
                    <a:pt x="356" y="480"/>
                  </a:lnTo>
                  <a:lnTo>
                    <a:pt x="351" y="480"/>
                  </a:lnTo>
                  <a:lnTo>
                    <a:pt x="351" y="485"/>
                  </a:lnTo>
                  <a:lnTo>
                    <a:pt x="346" y="485"/>
                  </a:lnTo>
                  <a:lnTo>
                    <a:pt x="346" y="497"/>
                  </a:lnTo>
                  <a:lnTo>
                    <a:pt x="341" y="497"/>
                  </a:lnTo>
                  <a:lnTo>
                    <a:pt x="341" y="510"/>
                  </a:lnTo>
                  <a:lnTo>
                    <a:pt x="337" y="510"/>
                  </a:lnTo>
                  <a:lnTo>
                    <a:pt x="337" y="515"/>
                  </a:lnTo>
                  <a:lnTo>
                    <a:pt x="332" y="515"/>
                  </a:lnTo>
                  <a:lnTo>
                    <a:pt x="332" y="521"/>
                  </a:lnTo>
                  <a:lnTo>
                    <a:pt x="326" y="521"/>
                  </a:lnTo>
                  <a:lnTo>
                    <a:pt x="326" y="533"/>
                  </a:lnTo>
                  <a:lnTo>
                    <a:pt x="322" y="533"/>
                  </a:lnTo>
                  <a:lnTo>
                    <a:pt x="322" y="538"/>
                  </a:lnTo>
                  <a:lnTo>
                    <a:pt x="317" y="538"/>
                  </a:lnTo>
                  <a:lnTo>
                    <a:pt x="317" y="543"/>
                  </a:lnTo>
                  <a:lnTo>
                    <a:pt x="312" y="543"/>
                  </a:lnTo>
                  <a:lnTo>
                    <a:pt x="312" y="556"/>
                  </a:lnTo>
                  <a:lnTo>
                    <a:pt x="307" y="556"/>
                  </a:lnTo>
                  <a:lnTo>
                    <a:pt x="307" y="562"/>
                  </a:lnTo>
                  <a:lnTo>
                    <a:pt x="303" y="562"/>
                  </a:lnTo>
                  <a:lnTo>
                    <a:pt x="303" y="568"/>
                  </a:lnTo>
                  <a:lnTo>
                    <a:pt x="297" y="568"/>
                  </a:lnTo>
                  <a:lnTo>
                    <a:pt x="297" y="579"/>
                  </a:lnTo>
                  <a:lnTo>
                    <a:pt x="293" y="579"/>
                  </a:lnTo>
                  <a:lnTo>
                    <a:pt x="293" y="592"/>
                  </a:lnTo>
                  <a:lnTo>
                    <a:pt x="288" y="592"/>
                  </a:lnTo>
                  <a:lnTo>
                    <a:pt x="288" y="603"/>
                  </a:lnTo>
                  <a:lnTo>
                    <a:pt x="283" y="603"/>
                  </a:lnTo>
                  <a:lnTo>
                    <a:pt x="283" y="609"/>
                  </a:lnTo>
                  <a:lnTo>
                    <a:pt x="279" y="609"/>
                  </a:lnTo>
                  <a:lnTo>
                    <a:pt x="279" y="621"/>
                  </a:lnTo>
                  <a:lnTo>
                    <a:pt x="274" y="621"/>
                  </a:lnTo>
                  <a:lnTo>
                    <a:pt x="274" y="627"/>
                  </a:lnTo>
                  <a:lnTo>
                    <a:pt x="270" y="627"/>
                  </a:lnTo>
                  <a:lnTo>
                    <a:pt x="270" y="633"/>
                  </a:lnTo>
                  <a:lnTo>
                    <a:pt x="264" y="633"/>
                  </a:lnTo>
                  <a:lnTo>
                    <a:pt x="264" y="638"/>
                  </a:lnTo>
                  <a:lnTo>
                    <a:pt x="260" y="638"/>
                  </a:lnTo>
                  <a:lnTo>
                    <a:pt x="260" y="651"/>
                  </a:lnTo>
                  <a:lnTo>
                    <a:pt x="254" y="651"/>
                  </a:lnTo>
                  <a:lnTo>
                    <a:pt x="254" y="662"/>
                  </a:lnTo>
                  <a:lnTo>
                    <a:pt x="249" y="662"/>
                  </a:lnTo>
                  <a:lnTo>
                    <a:pt x="249" y="668"/>
                  </a:lnTo>
                  <a:lnTo>
                    <a:pt x="244" y="668"/>
                  </a:lnTo>
                  <a:lnTo>
                    <a:pt x="244" y="687"/>
                  </a:lnTo>
                  <a:lnTo>
                    <a:pt x="240" y="687"/>
                  </a:lnTo>
                  <a:lnTo>
                    <a:pt x="240" y="692"/>
                  </a:lnTo>
                  <a:lnTo>
                    <a:pt x="235" y="692"/>
                  </a:lnTo>
                  <a:lnTo>
                    <a:pt x="235" y="709"/>
                  </a:lnTo>
                  <a:lnTo>
                    <a:pt x="230" y="709"/>
                  </a:lnTo>
                  <a:lnTo>
                    <a:pt x="230" y="715"/>
                  </a:lnTo>
                  <a:lnTo>
                    <a:pt x="226" y="715"/>
                  </a:lnTo>
                  <a:lnTo>
                    <a:pt x="226" y="720"/>
                  </a:lnTo>
                  <a:lnTo>
                    <a:pt x="221" y="720"/>
                  </a:lnTo>
                  <a:lnTo>
                    <a:pt x="221" y="733"/>
                  </a:lnTo>
                  <a:lnTo>
                    <a:pt x="216" y="733"/>
                  </a:lnTo>
                  <a:lnTo>
                    <a:pt x="216" y="745"/>
                  </a:lnTo>
                  <a:lnTo>
                    <a:pt x="211" y="745"/>
                  </a:lnTo>
                  <a:lnTo>
                    <a:pt x="211" y="757"/>
                  </a:lnTo>
                  <a:lnTo>
                    <a:pt x="207" y="757"/>
                  </a:lnTo>
                  <a:lnTo>
                    <a:pt x="207" y="769"/>
                  </a:lnTo>
                  <a:lnTo>
                    <a:pt x="201" y="769"/>
                  </a:lnTo>
                  <a:lnTo>
                    <a:pt x="201" y="780"/>
                  </a:lnTo>
                  <a:lnTo>
                    <a:pt x="197" y="780"/>
                  </a:lnTo>
                  <a:lnTo>
                    <a:pt x="197" y="793"/>
                  </a:lnTo>
                  <a:lnTo>
                    <a:pt x="193" y="793"/>
                  </a:lnTo>
                  <a:lnTo>
                    <a:pt x="193" y="798"/>
                  </a:lnTo>
                  <a:lnTo>
                    <a:pt x="187" y="798"/>
                  </a:lnTo>
                  <a:lnTo>
                    <a:pt x="187" y="810"/>
                  </a:lnTo>
                  <a:lnTo>
                    <a:pt x="182" y="810"/>
                  </a:lnTo>
                  <a:lnTo>
                    <a:pt x="182" y="823"/>
                  </a:lnTo>
                  <a:lnTo>
                    <a:pt x="177" y="823"/>
                  </a:lnTo>
                  <a:lnTo>
                    <a:pt x="177" y="828"/>
                  </a:lnTo>
                  <a:lnTo>
                    <a:pt x="173" y="828"/>
                  </a:lnTo>
                  <a:lnTo>
                    <a:pt x="173" y="834"/>
                  </a:lnTo>
                  <a:lnTo>
                    <a:pt x="167" y="834"/>
                  </a:lnTo>
                  <a:lnTo>
                    <a:pt x="167" y="839"/>
                  </a:lnTo>
                  <a:lnTo>
                    <a:pt x="163" y="839"/>
                  </a:lnTo>
                  <a:lnTo>
                    <a:pt x="163" y="846"/>
                  </a:lnTo>
                  <a:lnTo>
                    <a:pt x="159" y="846"/>
                  </a:lnTo>
                  <a:lnTo>
                    <a:pt x="159" y="851"/>
                  </a:lnTo>
                  <a:lnTo>
                    <a:pt x="153" y="851"/>
                  </a:lnTo>
                  <a:lnTo>
                    <a:pt x="153" y="864"/>
                  </a:lnTo>
                  <a:lnTo>
                    <a:pt x="149" y="864"/>
                  </a:lnTo>
                  <a:lnTo>
                    <a:pt x="149" y="869"/>
                  </a:lnTo>
                  <a:lnTo>
                    <a:pt x="145" y="869"/>
                  </a:lnTo>
                  <a:lnTo>
                    <a:pt x="145" y="875"/>
                  </a:lnTo>
                  <a:lnTo>
                    <a:pt x="139" y="875"/>
                  </a:lnTo>
                  <a:lnTo>
                    <a:pt x="139" y="888"/>
                  </a:lnTo>
                  <a:lnTo>
                    <a:pt x="135" y="888"/>
                  </a:lnTo>
                  <a:lnTo>
                    <a:pt x="135" y="899"/>
                  </a:lnTo>
                  <a:lnTo>
                    <a:pt x="130" y="899"/>
                  </a:lnTo>
                  <a:lnTo>
                    <a:pt x="130" y="916"/>
                  </a:lnTo>
                  <a:lnTo>
                    <a:pt x="126" y="916"/>
                  </a:lnTo>
                  <a:lnTo>
                    <a:pt x="126" y="929"/>
                  </a:lnTo>
                  <a:lnTo>
                    <a:pt x="120" y="929"/>
                  </a:lnTo>
                  <a:lnTo>
                    <a:pt x="120" y="946"/>
                  </a:lnTo>
                  <a:lnTo>
                    <a:pt x="116" y="946"/>
                  </a:lnTo>
                  <a:lnTo>
                    <a:pt x="116" y="958"/>
                  </a:lnTo>
                  <a:lnTo>
                    <a:pt x="110" y="958"/>
                  </a:lnTo>
                  <a:lnTo>
                    <a:pt x="110" y="964"/>
                  </a:lnTo>
                  <a:lnTo>
                    <a:pt x="105" y="964"/>
                  </a:lnTo>
                  <a:lnTo>
                    <a:pt x="105" y="975"/>
                  </a:lnTo>
                  <a:lnTo>
                    <a:pt x="101" y="975"/>
                  </a:lnTo>
                  <a:lnTo>
                    <a:pt x="101" y="994"/>
                  </a:lnTo>
                  <a:lnTo>
                    <a:pt x="96" y="994"/>
                  </a:lnTo>
                  <a:lnTo>
                    <a:pt x="96" y="1000"/>
                  </a:lnTo>
                  <a:lnTo>
                    <a:pt x="91" y="1000"/>
                  </a:lnTo>
                  <a:lnTo>
                    <a:pt x="91" y="1011"/>
                  </a:lnTo>
                  <a:lnTo>
                    <a:pt x="86" y="1011"/>
                  </a:lnTo>
                  <a:lnTo>
                    <a:pt x="86" y="1024"/>
                  </a:lnTo>
                  <a:lnTo>
                    <a:pt x="82" y="1024"/>
                  </a:lnTo>
                  <a:lnTo>
                    <a:pt x="82" y="1041"/>
                  </a:lnTo>
                  <a:lnTo>
                    <a:pt x="77" y="1041"/>
                  </a:lnTo>
                  <a:lnTo>
                    <a:pt x="77" y="1052"/>
                  </a:lnTo>
                  <a:lnTo>
                    <a:pt x="72" y="1052"/>
                  </a:lnTo>
                  <a:lnTo>
                    <a:pt x="72" y="1070"/>
                  </a:lnTo>
                  <a:lnTo>
                    <a:pt x="82" y="1070"/>
                  </a:lnTo>
                  <a:lnTo>
                    <a:pt x="82" y="1082"/>
                  </a:lnTo>
                  <a:lnTo>
                    <a:pt x="67" y="1082"/>
                  </a:lnTo>
                  <a:lnTo>
                    <a:pt x="67" y="1117"/>
                  </a:lnTo>
                  <a:lnTo>
                    <a:pt x="72" y="1117"/>
                  </a:lnTo>
                  <a:lnTo>
                    <a:pt x="72" y="1129"/>
                  </a:lnTo>
                  <a:lnTo>
                    <a:pt x="77" y="1129"/>
                  </a:lnTo>
                  <a:lnTo>
                    <a:pt x="77" y="1152"/>
                  </a:lnTo>
                  <a:lnTo>
                    <a:pt x="82" y="1152"/>
                  </a:lnTo>
                  <a:lnTo>
                    <a:pt x="82" y="1165"/>
                  </a:lnTo>
                  <a:lnTo>
                    <a:pt x="86" y="1165"/>
                  </a:lnTo>
                  <a:lnTo>
                    <a:pt x="86" y="1182"/>
                  </a:lnTo>
                  <a:lnTo>
                    <a:pt x="91" y="1182"/>
                  </a:lnTo>
                  <a:lnTo>
                    <a:pt x="91" y="1193"/>
                  </a:lnTo>
                  <a:lnTo>
                    <a:pt x="96" y="1193"/>
                  </a:lnTo>
                  <a:lnTo>
                    <a:pt x="96" y="1206"/>
                  </a:lnTo>
                  <a:lnTo>
                    <a:pt x="101" y="1206"/>
                  </a:lnTo>
                  <a:lnTo>
                    <a:pt x="101" y="1212"/>
                  </a:lnTo>
                  <a:lnTo>
                    <a:pt x="105" y="1212"/>
                  </a:lnTo>
                  <a:lnTo>
                    <a:pt x="105" y="1230"/>
                  </a:lnTo>
                  <a:lnTo>
                    <a:pt x="110" y="1230"/>
                  </a:lnTo>
                  <a:lnTo>
                    <a:pt x="110" y="1236"/>
                  </a:lnTo>
                  <a:lnTo>
                    <a:pt x="116" y="1236"/>
                  </a:lnTo>
                  <a:lnTo>
                    <a:pt x="116" y="1253"/>
                  </a:lnTo>
                  <a:lnTo>
                    <a:pt x="120" y="1253"/>
                  </a:lnTo>
                  <a:lnTo>
                    <a:pt x="120" y="1260"/>
                  </a:lnTo>
                  <a:lnTo>
                    <a:pt x="126" y="1260"/>
                  </a:lnTo>
                  <a:lnTo>
                    <a:pt x="126" y="1271"/>
                  </a:lnTo>
                  <a:lnTo>
                    <a:pt x="130" y="1271"/>
                  </a:lnTo>
                  <a:lnTo>
                    <a:pt x="130" y="1277"/>
                  </a:lnTo>
                  <a:lnTo>
                    <a:pt x="135" y="1277"/>
                  </a:lnTo>
                  <a:lnTo>
                    <a:pt x="135" y="1283"/>
                  </a:lnTo>
                  <a:lnTo>
                    <a:pt x="139" y="1283"/>
                  </a:lnTo>
                  <a:lnTo>
                    <a:pt x="139" y="1296"/>
                  </a:lnTo>
                  <a:lnTo>
                    <a:pt x="145" y="1296"/>
                  </a:lnTo>
                  <a:lnTo>
                    <a:pt x="145" y="1301"/>
                  </a:lnTo>
                  <a:lnTo>
                    <a:pt x="149" y="1301"/>
                  </a:lnTo>
                  <a:lnTo>
                    <a:pt x="149" y="1307"/>
                  </a:lnTo>
                  <a:lnTo>
                    <a:pt x="153" y="1307"/>
                  </a:lnTo>
                  <a:lnTo>
                    <a:pt x="153" y="1312"/>
                  </a:lnTo>
                  <a:lnTo>
                    <a:pt x="163" y="1312"/>
                  </a:lnTo>
                  <a:lnTo>
                    <a:pt x="163" y="1319"/>
                  </a:lnTo>
                  <a:lnTo>
                    <a:pt x="167" y="1319"/>
                  </a:lnTo>
                  <a:lnTo>
                    <a:pt x="167" y="1324"/>
                  </a:lnTo>
                  <a:lnTo>
                    <a:pt x="173" y="1324"/>
                  </a:lnTo>
                  <a:lnTo>
                    <a:pt x="173" y="1329"/>
                  </a:lnTo>
                  <a:lnTo>
                    <a:pt x="177" y="1329"/>
                  </a:lnTo>
                  <a:lnTo>
                    <a:pt x="177" y="1337"/>
                  </a:lnTo>
                  <a:lnTo>
                    <a:pt x="187" y="1337"/>
                  </a:lnTo>
                  <a:lnTo>
                    <a:pt x="187" y="1342"/>
                  </a:lnTo>
                  <a:lnTo>
                    <a:pt x="193" y="1342"/>
                  </a:lnTo>
                  <a:lnTo>
                    <a:pt x="193" y="1348"/>
                  </a:lnTo>
                  <a:lnTo>
                    <a:pt x="197" y="1348"/>
                  </a:lnTo>
                  <a:lnTo>
                    <a:pt x="197" y="1354"/>
                  </a:lnTo>
                  <a:lnTo>
                    <a:pt x="207" y="1354"/>
                  </a:lnTo>
                  <a:lnTo>
                    <a:pt x="207" y="1361"/>
                  </a:lnTo>
                  <a:lnTo>
                    <a:pt x="211" y="1361"/>
                  </a:lnTo>
                  <a:lnTo>
                    <a:pt x="211" y="1366"/>
                  </a:lnTo>
                  <a:lnTo>
                    <a:pt x="221" y="1366"/>
                  </a:lnTo>
                  <a:lnTo>
                    <a:pt x="221" y="1372"/>
                  </a:lnTo>
                  <a:lnTo>
                    <a:pt x="230" y="1372"/>
                  </a:lnTo>
                  <a:lnTo>
                    <a:pt x="230" y="1378"/>
                  </a:lnTo>
                  <a:lnTo>
                    <a:pt x="240" y="1378"/>
                  </a:lnTo>
                  <a:lnTo>
                    <a:pt x="240" y="1383"/>
                  </a:lnTo>
                  <a:lnTo>
                    <a:pt x="244" y="1383"/>
                  </a:lnTo>
                  <a:lnTo>
                    <a:pt x="244" y="1389"/>
                  </a:lnTo>
                  <a:lnTo>
                    <a:pt x="270" y="1389"/>
                  </a:lnTo>
                  <a:lnTo>
                    <a:pt x="270" y="1396"/>
                  </a:lnTo>
                  <a:lnTo>
                    <a:pt x="283" y="1396"/>
                  </a:lnTo>
                  <a:lnTo>
                    <a:pt x="283" y="1402"/>
                  </a:lnTo>
                  <a:lnTo>
                    <a:pt x="288" y="1402"/>
                  </a:lnTo>
                  <a:lnTo>
                    <a:pt x="288" y="1407"/>
                  </a:lnTo>
                  <a:lnTo>
                    <a:pt x="303" y="1407"/>
                  </a:lnTo>
                  <a:lnTo>
                    <a:pt x="303" y="1413"/>
                  </a:lnTo>
                  <a:lnTo>
                    <a:pt x="317" y="1413"/>
                  </a:lnTo>
                  <a:lnTo>
                    <a:pt x="317" y="1419"/>
                  </a:lnTo>
                  <a:lnTo>
                    <a:pt x="332" y="1419"/>
                  </a:lnTo>
                  <a:lnTo>
                    <a:pt x="332" y="1424"/>
                  </a:lnTo>
                  <a:lnTo>
                    <a:pt x="346" y="1424"/>
                  </a:lnTo>
                  <a:lnTo>
                    <a:pt x="346" y="1430"/>
                  </a:lnTo>
                  <a:lnTo>
                    <a:pt x="356" y="1430"/>
                  </a:lnTo>
                  <a:lnTo>
                    <a:pt x="356" y="1437"/>
                  </a:lnTo>
                  <a:lnTo>
                    <a:pt x="370" y="1437"/>
                  </a:lnTo>
                  <a:lnTo>
                    <a:pt x="370" y="1443"/>
                  </a:lnTo>
                  <a:lnTo>
                    <a:pt x="393" y="1443"/>
                  </a:lnTo>
                  <a:lnTo>
                    <a:pt x="393" y="1448"/>
                  </a:lnTo>
                  <a:lnTo>
                    <a:pt x="409" y="1448"/>
                  </a:lnTo>
                  <a:lnTo>
                    <a:pt x="409" y="1455"/>
                  </a:lnTo>
                  <a:lnTo>
                    <a:pt x="423" y="1455"/>
                  </a:lnTo>
                  <a:lnTo>
                    <a:pt x="423" y="1460"/>
                  </a:lnTo>
                  <a:lnTo>
                    <a:pt x="451" y="1460"/>
                  </a:lnTo>
                  <a:lnTo>
                    <a:pt x="451" y="1467"/>
                  </a:lnTo>
                  <a:lnTo>
                    <a:pt x="490" y="1467"/>
                  </a:lnTo>
                  <a:lnTo>
                    <a:pt x="490" y="1473"/>
                  </a:lnTo>
                  <a:lnTo>
                    <a:pt x="528" y="1473"/>
                  </a:lnTo>
                  <a:lnTo>
                    <a:pt x="528" y="1478"/>
                  </a:lnTo>
                  <a:lnTo>
                    <a:pt x="581" y="1478"/>
                  </a:lnTo>
                  <a:lnTo>
                    <a:pt x="581" y="1483"/>
                  </a:lnTo>
                  <a:lnTo>
                    <a:pt x="625" y="1483"/>
                  </a:lnTo>
                  <a:lnTo>
                    <a:pt x="625" y="1478"/>
                  </a:lnTo>
                  <a:lnTo>
                    <a:pt x="677" y="1478"/>
                  </a:lnTo>
                  <a:lnTo>
                    <a:pt x="677" y="1473"/>
                  </a:lnTo>
                  <a:lnTo>
                    <a:pt x="687" y="1473"/>
                  </a:lnTo>
                  <a:lnTo>
                    <a:pt x="687" y="1467"/>
                  </a:lnTo>
                  <a:lnTo>
                    <a:pt x="716" y="1467"/>
                  </a:lnTo>
                  <a:lnTo>
                    <a:pt x="716" y="1460"/>
                  </a:lnTo>
                  <a:lnTo>
                    <a:pt x="735" y="1460"/>
                  </a:lnTo>
                  <a:lnTo>
                    <a:pt x="735" y="1455"/>
                  </a:lnTo>
                  <a:lnTo>
                    <a:pt x="744" y="1455"/>
                  </a:lnTo>
                  <a:lnTo>
                    <a:pt x="744" y="1460"/>
                  </a:lnTo>
                  <a:lnTo>
                    <a:pt x="758" y="1460"/>
                  </a:lnTo>
                  <a:lnTo>
                    <a:pt x="758" y="1448"/>
                  </a:lnTo>
                  <a:lnTo>
                    <a:pt x="763" y="1448"/>
                  </a:lnTo>
                  <a:lnTo>
                    <a:pt x="763" y="1443"/>
                  </a:lnTo>
                  <a:lnTo>
                    <a:pt x="788" y="1443"/>
                  </a:lnTo>
                  <a:lnTo>
                    <a:pt x="788" y="1437"/>
                  </a:lnTo>
                  <a:lnTo>
                    <a:pt x="798" y="1437"/>
                  </a:lnTo>
                  <a:lnTo>
                    <a:pt x="798" y="1430"/>
                  </a:lnTo>
                  <a:lnTo>
                    <a:pt x="817" y="1430"/>
                  </a:lnTo>
                  <a:lnTo>
                    <a:pt x="817" y="1424"/>
                  </a:lnTo>
                  <a:lnTo>
                    <a:pt x="826" y="1424"/>
                  </a:lnTo>
                  <a:lnTo>
                    <a:pt x="826" y="1419"/>
                  </a:lnTo>
                  <a:lnTo>
                    <a:pt x="841" y="1419"/>
                  </a:lnTo>
                  <a:lnTo>
                    <a:pt x="841" y="1413"/>
                  </a:lnTo>
                  <a:lnTo>
                    <a:pt x="860" y="1413"/>
                  </a:lnTo>
                  <a:lnTo>
                    <a:pt x="860" y="1407"/>
                  </a:lnTo>
                  <a:lnTo>
                    <a:pt x="865" y="1407"/>
                  </a:lnTo>
                  <a:lnTo>
                    <a:pt x="865" y="1402"/>
                  </a:lnTo>
                  <a:lnTo>
                    <a:pt x="879" y="1402"/>
                  </a:lnTo>
                  <a:lnTo>
                    <a:pt x="879" y="1396"/>
                  </a:lnTo>
                  <a:lnTo>
                    <a:pt x="888" y="1396"/>
                  </a:lnTo>
                  <a:lnTo>
                    <a:pt x="888" y="1389"/>
                  </a:lnTo>
                  <a:lnTo>
                    <a:pt x="898" y="1389"/>
                  </a:lnTo>
                  <a:lnTo>
                    <a:pt x="898" y="1383"/>
                  </a:lnTo>
                  <a:lnTo>
                    <a:pt x="907" y="1383"/>
                  </a:lnTo>
                  <a:lnTo>
                    <a:pt x="907" y="1378"/>
                  </a:lnTo>
                  <a:lnTo>
                    <a:pt x="927" y="1378"/>
                  </a:lnTo>
                  <a:lnTo>
                    <a:pt x="927" y="1383"/>
                  </a:lnTo>
                  <a:lnTo>
                    <a:pt x="955" y="1383"/>
                  </a:lnTo>
                  <a:lnTo>
                    <a:pt x="955" y="1378"/>
                  </a:lnTo>
                  <a:lnTo>
                    <a:pt x="969" y="1378"/>
                  </a:lnTo>
                  <a:lnTo>
                    <a:pt x="969" y="1372"/>
                  </a:lnTo>
                  <a:lnTo>
                    <a:pt x="990" y="1372"/>
                  </a:lnTo>
                  <a:lnTo>
                    <a:pt x="990" y="1366"/>
                  </a:lnTo>
                  <a:lnTo>
                    <a:pt x="999" y="1366"/>
                  </a:lnTo>
                  <a:lnTo>
                    <a:pt x="999" y="1361"/>
                  </a:lnTo>
                  <a:lnTo>
                    <a:pt x="1013" y="1361"/>
                  </a:lnTo>
                  <a:lnTo>
                    <a:pt x="1013" y="1354"/>
                  </a:lnTo>
                  <a:lnTo>
                    <a:pt x="1028" y="1354"/>
                  </a:lnTo>
                  <a:lnTo>
                    <a:pt x="1028" y="1348"/>
                  </a:lnTo>
                  <a:lnTo>
                    <a:pt x="1042" y="1348"/>
                  </a:lnTo>
                  <a:lnTo>
                    <a:pt x="1042" y="1342"/>
                  </a:lnTo>
                  <a:lnTo>
                    <a:pt x="1057" y="1342"/>
                  </a:lnTo>
                  <a:lnTo>
                    <a:pt x="1057" y="1337"/>
                  </a:lnTo>
                  <a:lnTo>
                    <a:pt x="1066" y="1337"/>
                  </a:lnTo>
                  <a:lnTo>
                    <a:pt x="1066" y="1329"/>
                  </a:lnTo>
                  <a:lnTo>
                    <a:pt x="1081" y="1329"/>
                  </a:lnTo>
                  <a:lnTo>
                    <a:pt x="1081" y="1324"/>
                  </a:lnTo>
                  <a:lnTo>
                    <a:pt x="1095" y="1324"/>
                  </a:lnTo>
                  <a:lnTo>
                    <a:pt x="1095" y="1329"/>
                  </a:lnTo>
                  <a:lnTo>
                    <a:pt x="1105" y="1329"/>
                  </a:lnTo>
                  <a:lnTo>
                    <a:pt x="1105" y="1324"/>
                  </a:lnTo>
                  <a:lnTo>
                    <a:pt x="1114" y="1324"/>
                  </a:lnTo>
                  <a:lnTo>
                    <a:pt x="1114" y="1319"/>
                  </a:lnTo>
                  <a:lnTo>
                    <a:pt x="1129" y="1319"/>
                  </a:lnTo>
                  <a:lnTo>
                    <a:pt x="1129" y="1312"/>
                  </a:lnTo>
                  <a:lnTo>
                    <a:pt x="1143" y="1312"/>
                  </a:lnTo>
                  <a:lnTo>
                    <a:pt x="1143" y="1307"/>
                  </a:lnTo>
                  <a:lnTo>
                    <a:pt x="1153" y="1307"/>
                  </a:lnTo>
                  <a:lnTo>
                    <a:pt x="1153" y="1301"/>
                  </a:lnTo>
                  <a:lnTo>
                    <a:pt x="1168" y="1301"/>
                  </a:lnTo>
                  <a:lnTo>
                    <a:pt x="1168" y="1296"/>
                  </a:lnTo>
                  <a:lnTo>
                    <a:pt x="1176" y="1296"/>
                  </a:lnTo>
                  <a:lnTo>
                    <a:pt x="1176" y="1288"/>
                  </a:lnTo>
                  <a:lnTo>
                    <a:pt x="1186" y="1288"/>
                  </a:lnTo>
                  <a:lnTo>
                    <a:pt x="1186" y="1283"/>
                  </a:lnTo>
                  <a:lnTo>
                    <a:pt x="1195" y="1283"/>
                  </a:lnTo>
                  <a:lnTo>
                    <a:pt x="1195" y="1277"/>
                  </a:lnTo>
                  <a:lnTo>
                    <a:pt x="1206" y="1277"/>
                  </a:lnTo>
                  <a:lnTo>
                    <a:pt x="1206" y="1271"/>
                  </a:lnTo>
                  <a:lnTo>
                    <a:pt x="1210" y="1271"/>
                  </a:lnTo>
                  <a:lnTo>
                    <a:pt x="1210" y="1266"/>
                  </a:lnTo>
                  <a:lnTo>
                    <a:pt x="1224" y="1266"/>
                  </a:lnTo>
                  <a:lnTo>
                    <a:pt x="1224" y="1260"/>
                  </a:lnTo>
                  <a:lnTo>
                    <a:pt x="1244" y="1260"/>
                  </a:lnTo>
                  <a:lnTo>
                    <a:pt x="1244" y="1253"/>
                  </a:lnTo>
                  <a:lnTo>
                    <a:pt x="1253" y="1253"/>
                  </a:lnTo>
                  <a:lnTo>
                    <a:pt x="1253" y="1247"/>
                  </a:lnTo>
                  <a:lnTo>
                    <a:pt x="1273" y="1247"/>
                  </a:lnTo>
                  <a:lnTo>
                    <a:pt x="1273" y="1242"/>
                  </a:lnTo>
                  <a:lnTo>
                    <a:pt x="1283" y="1242"/>
                  </a:lnTo>
                  <a:lnTo>
                    <a:pt x="1283" y="1236"/>
                  </a:lnTo>
                  <a:lnTo>
                    <a:pt x="1297" y="1236"/>
                  </a:lnTo>
                  <a:lnTo>
                    <a:pt x="1297" y="1230"/>
                  </a:lnTo>
                  <a:lnTo>
                    <a:pt x="1306" y="1230"/>
                  </a:lnTo>
                  <a:lnTo>
                    <a:pt x="1306" y="1223"/>
                  </a:lnTo>
                  <a:lnTo>
                    <a:pt x="1320" y="1223"/>
                  </a:lnTo>
                  <a:lnTo>
                    <a:pt x="1320" y="1218"/>
                  </a:lnTo>
                  <a:lnTo>
                    <a:pt x="1335" y="1218"/>
                  </a:lnTo>
                  <a:lnTo>
                    <a:pt x="1335" y="1212"/>
                  </a:lnTo>
                  <a:lnTo>
                    <a:pt x="1346" y="1212"/>
                  </a:lnTo>
                  <a:lnTo>
                    <a:pt x="1346" y="1206"/>
                  </a:lnTo>
                  <a:lnTo>
                    <a:pt x="1360" y="1206"/>
                  </a:lnTo>
                  <a:lnTo>
                    <a:pt x="1360" y="1201"/>
                  </a:lnTo>
                  <a:lnTo>
                    <a:pt x="1364" y="1201"/>
                  </a:lnTo>
                  <a:lnTo>
                    <a:pt x="1364" y="1193"/>
                  </a:lnTo>
                  <a:lnTo>
                    <a:pt x="1379" y="1193"/>
                  </a:lnTo>
                  <a:lnTo>
                    <a:pt x="1379" y="1188"/>
                  </a:lnTo>
                  <a:lnTo>
                    <a:pt x="1393" y="1188"/>
                  </a:lnTo>
                  <a:lnTo>
                    <a:pt x="1393" y="1182"/>
                  </a:lnTo>
                  <a:lnTo>
                    <a:pt x="1402" y="1182"/>
                  </a:lnTo>
                  <a:lnTo>
                    <a:pt x="1402" y="1177"/>
                  </a:lnTo>
                  <a:lnTo>
                    <a:pt x="1412" y="1177"/>
                  </a:lnTo>
                  <a:lnTo>
                    <a:pt x="1412" y="1170"/>
                  </a:lnTo>
                  <a:lnTo>
                    <a:pt x="1427" y="1170"/>
                  </a:lnTo>
                  <a:lnTo>
                    <a:pt x="1427" y="1165"/>
                  </a:lnTo>
                  <a:lnTo>
                    <a:pt x="1436" y="1165"/>
                  </a:lnTo>
                  <a:lnTo>
                    <a:pt x="1436" y="1160"/>
                  </a:lnTo>
                  <a:lnTo>
                    <a:pt x="1446" y="1160"/>
                  </a:lnTo>
                  <a:lnTo>
                    <a:pt x="1446" y="1152"/>
                  </a:lnTo>
                  <a:lnTo>
                    <a:pt x="1465" y="1152"/>
                  </a:lnTo>
                  <a:lnTo>
                    <a:pt x="1465" y="1147"/>
                  </a:lnTo>
                  <a:lnTo>
                    <a:pt x="1470" y="1147"/>
                  </a:lnTo>
                  <a:lnTo>
                    <a:pt x="1470" y="1141"/>
                  </a:lnTo>
                  <a:lnTo>
                    <a:pt x="1479" y="1141"/>
                  </a:lnTo>
                  <a:lnTo>
                    <a:pt x="1479" y="1135"/>
                  </a:lnTo>
                  <a:lnTo>
                    <a:pt x="1499" y="1135"/>
                  </a:lnTo>
                  <a:lnTo>
                    <a:pt x="1499" y="1129"/>
                  </a:lnTo>
                  <a:lnTo>
                    <a:pt x="1509" y="1129"/>
                  </a:lnTo>
                  <a:lnTo>
                    <a:pt x="1509" y="1124"/>
                  </a:lnTo>
                  <a:lnTo>
                    <a:pt x="1523" y="1124"/>
                  </a:lnTo>
                  <a:lnTo>
                    <a:pt x="1523" y="1117"/>
                  </a:lnTo>
                  <a:lnTo>
                    <a:pt x="1532" y="1117"/>
                  </a:lnTo>
                  <a:lnTo>
                    <a:pt x="1532" y="1111"/>
                  </a:lnTo>
                  <a:lnTo>
                    <a:pt x="1541" y="1111"/>
                  </a:lnTo>
                  <a:lnTo>
                    <a:pt x="1541" y="1106"/>
                  </a:lnTo>
                  <a:lnTo>
                    <a:pt x="1556" y="1106"/>
                  </a:lnTo>
                  <a:lnTo>
                    <a:pt x="1556" y="1100"/>
                  </a:lnTo>
                  <a:lnTo>
                    <a:pt x="1571" y="1100"/>
                  </a:lnTo>
                  <a:lnTo>
                    <a:pt x="1571" y="1046"/>
                  </a:lnTo>
                  <a:lnTo>
                    <a:pt x="1566" y="1046"/>
                  </a:lnTo>
                  <a:lnTo>
                    <a:pt x="1566" y="1035"/>
                  </a:lnTo>
                  <a:lnTo>
                    <a:pt x="1560" y="1035"/>
                  </a:lnTo>
                  <a:lnTo>
                    <a:pt x="1560" y="1016"/>
                  </a:lnTo>
                  <a:lnTo>
                    <a:pt x="1556" y="1016"/>
                  </a:lnTo>
                  <a:lnTo>
                    <a:pt x="1556" y="1005"/>
                  </a:lnTo>
                  <a:lnTo>
                    <a:pt x="1551" y="1005"/>
                  </a:lnTo>
                  <a:lnTo>
                    <a:pt x="1551" y="988"/>
                  </a:lnTo>
                  <a:lnTo>
                    <a:pt x="1546" y="988"/>
                  </a:lnTo>
                  <a:lnTo>
                    <a:pt x="1546" y="975"/>
                  </a:lnTo>
                  <a:lnTo>
                    <a:pt x="1541" y="975"/>
                  </a:lnTo>
                  <a:lnTo>
                    <a:pt x="1541" y="964"/>
                  </a:lnTo>
                  <a:lnTo>
                    <a:pt x="1537" y="964"/>
                  </a:lnTo>
                  <a:lnTo>
                    <a:pt x="1537" y="946"/>
                  </a:lnTo>
                  <a:lnTo>
                    <a:pt x="1532" y="946"/>
                  </a:lnTo>
                  <a:lnTo>
                    <a:pt x="1532" y="929"/>
                  </a:lnTo>
                  <a:lnTo>
                    <a:pt x="1527" y="929"/>
                  </a:lnTo>
                  <a:lnTo>
                    <a:pt x="1527" y="910"/>
                  </a:lnTo>
                  <a:lnTo>
                    <a:pt x="1523" y="910"/>
                  </a:lnTo>
                  <a:lnTo>
                    <a:pt x="1523" y="905"/>
                  </a:lnTo>
                  <a:lnTo>
                    <a:pt x="1518" y="905"/>
                  </a:lnTo>
                  <a:lnTo>
                    <a:pt x="1518" y="881"/>
                  </a:lnTo>
                  <a:lnTo>
                    <a:pt x="1513" y="881"/>
                  </a:lnTo>
                  <a:lnTo>
                    <a:pt x="1513" y="864"/>
                  </a:lnTo>
                  <a:lnTo>
                    <a:pt x="1509" y="864"/>
                  </a:lnTo>
                  <a:lnTo>
                    <a:pt x="1509" y="851"/>
                  </a:lnTo>
                  <a:lnTo>
                    <a:pt x="1504" y="851"/>
                  </a:lnTo>
                  <a:lnTo>
                    <a:pt x="1504" y="828"/>
                  </a:lnTo>
                  <a:lnTo>
                    <a:pt x="1499" y="828"/>
                  </a:lnTo>
                  <a:lnTo>
                    <a:pt x="1499" y="815"/>
                  </a:lnTo>
                  <a:lnTo>
                    <a:pt x="1494" y="815"/>
                  </a:lnTo>
                  <a:lnTo>
                    <a:pt x="1494" y="804"/>
                  </a:lnTo>
                  <a:lnTo>
                    <a:pt x="1490" y="804"/>
                  </a:lnTo>
                  <a:lnTo>
                    <a:pt x="1490" y="793"/>
                  </a:lnTo>
                  <a:lnTo>
                    <a:pt x="1484" y="793"/>
                  </a:lnTo>
                  <a:lnTo>
                    <a:pt x="1484" y="774"/>
                  </a:lnTo>
                  <a:lnTo>
                    <a:pt x="1479" y="774"/>
                  </a:lnTo>
                  <a:lnTo>
                    <a:pt x="1479" y="769"/>
                  </a:lnTo>
                  <a:lnTo>
                    <a:pt x="1474" y="769"/>
                  </a:lnTo>
                  <a:lnTo>
                    <a:pt x="1474" y="757"/>
                  </a:lnTo>
                  <a:lnTo>
                    <a:pt x="1470" y="757"/>
                  </a:lnTo>
                  <a:lnTo>
                    <a:pt x="1470" y="745"/>
                  </a:lnTo>
                  <a:lnTo>
                    <a:pt x="1465" y="745"/>
                  </a:lnTo>
                  <a:lnTo>
                    <a:pt x="1465" y="733"/>
                  </a:lnTo>
                  <a:lnTo>
                    <a:pt x="1460" y="733"/>
                  </a:lnTo>
                  <a:lnTo>
                    <a:pt x="1460" y="715"/>
                  </a:lnTo>
                  <a:lnTo>
                    <a:pt x="1456" y="715"/>
                  </a:lnTo>
                  <a:lnTo>
                    <a:pt x="1456" y="709"/>
                  </a:lnTo>
                  <a:lnTo>
                    <a:pt x="1450" y="709"/>
                  </a:lnTo>
                  <a:lnTo>
                    <a:pt x="1450" y="692"/>
                  </a:lnTo>
                  <a:lnTo>
                    <a:pt x="1446" y="692"/>
                  </a:lnTo>
                  <a:lnTo>
                    <a:pt x="1446" y="674"/>
                  </a:lnTo>
                  <a:lnTo>
                    <a:pt x="1441" y="674"/>
                  </a:lnTo>
                  <a:lnTo>
                    <a:pt x="1441" y="662"/>
                  </a:lnTo>
                  <a:lnTo>
                    <a:pt x="1436" y="662"/>
                  </a:lnTo>
                  <a:lnTo>
                    <a:pt x="1436" y="651"/>
                  </a:lnTo>
                  <a:lnTo>
                    <a:pt x="1431" y="651"/>
                  </a:lnTo>
                  <a:lnTo>
                    <a:pt x="1431" y="633"/>
                  </a:lnTo>
                  <a:lnTo>
                    <a:pt x="1427" y="633"/>
                  </a:lnTo>
                  <a:lnTo>
                    <a:pt x="1427" y="627"/>
                  </a:lnTo>
                  <a:lnTo>
                    <a:pt x="1423" y="627"/>
                  </a:lnTo>
                  <a:lnTo>
                    <a:pt x="1423" y="616"/>
                  </a:lnTo>
                  <a:lnTo>
                    <a:pt x="1417" y="616"/>
                  </a:lnTo>
                  <a:lnTo>
                    <a:pt x="1417" y="609"/>
                  </a:lnTo>
                  <a:lnTo>
                    <a:pt x="1412" y="609"/>
                  </a:lnTo>
                  <a:lnTo>
                    <a:pt x="1412" y="603"/>
                  </a:lnTo>
                  <a:lnTo>
                    <a:pt x="1407" y="603"/>
                  </a:lnTo>
                  <a:lnTo>
                    <a:pt x="1407" y="586"/>
                  </a:lnTo>
                  <a:lnTo>
                    <a:pt x="1402" y="586"/>
                  </a:lnTo>
                  <a:lnTo>
                    <a:pt x="1402" y="574"/>
                  </a:lnTo>
                  <a:lnTo>
                    <a:pt x="1397" y="574"/>
                  </a:lnTo>
                  <a:lnTo>
                    <a:pt x="1397" y="562"/>
                  </a:lnTo>
                  <a:lnTo>
                    <a:pt x="1393" y="562"/>
                  </a:lnTo>
                  <a:lnTo>
                    <a:pt x="1393" y="543"/>
                  </a:lnTo>
                  <a:lnTo>
                    <a:pt x="1388" y="543"/>
                  </a:lnTo>
                  <a:lnTo>
                    <a:pt x="1388" y="533"/>
                  </a:lnTo>
                  <a:lnTo>
                    <a:pt x="1383" y="533"/>
                  </a:lnTo>
                  <a:lnTo>
                    <a:pt x="1383" y="527"/>
                  </a:lnTo>
                  <a:lnTo>
                    <a:pt x="1379" y="527"/>
                  </a:lnTo>
                  <a:lnTo>
                    <a:pt x="1379" y="515"/>
                  </a:lnTo>
                  <a:lnTo>
                    <a:pt x="1374" y="515"/>
                  </a:lnTo>
                  <a:lnTo>
                    <a:pt x="1374" y="502"/>
                  </a:lnTo>
                  <a:lnTo>
                    <a:pt x="1369" y="502"/>
                  </a:lnTo>
                  <a:lnTo>
                    <a:pt x="1369" y="491"/>
                  </a:lnTo>
                  <a:lnTo>
                    <a:pt x="1364" y="491"/>
                  </a:lnTo>
                  <a:lnTo>
                    <a:pt x="1364" y="480"/>
                  </a:lnTo>
                  <a:lnTo>
                    <a:pt x="1360" y="480"/>
                  </a:lnTo>
                  <a:lnTo>
                    <a:pt x="1360" y="467"/>
                  </a:lnTo>
                  <a:lnTo>
                    <a:pt x="1354" y="467"/>
                  </a:lnTo>
                  <a:lnTo>
                    <a:pt x="1354" y="456"/>
                  </a:lnTo>
                  <a:lnTo>
                    <a:pt x="1350" y="456"/>
                  </a:lnTo>
                  <a:lnTo>
                    <a:pt x="1350" y="450"/>
                  </a:lnTo>
                  <a:lnTo>
                    <a:pt x="1335" y="450"/>
                  </a:lnTo>
                  <a:lnTo>
                    <a:pt x="1335" y="443"/>
                  </a:lnTo>
                  <a:lnTo>
                    <a:pt x="1330" y="443"/>
                  </a:lnTo>
                  <a:lnTo>
                    <a:pt x="1330" y="432"/>
                  </a:lnTo>
                  <a:lnTo>
                    <a:pt x="1326" y="432"/>
                  </a:lnTo>
                  <a:lnTo>
                    <a:pt x="1326" y="420"/>
                  </a:lnTo>
                  <a:lnTo>
                    <a:pt x="1320" y="420"/>
                  </a:lnTo>
                  <a:lnTo>
                    <a:pt x="1320" y="402"/>
                  </a:lnTo>
                  <a:lnTo>
                    <a:pt x="1316" y="402"/>
                  </a:lnTo>
                  <a:lnTo>
                    <a:pt x="1316" y="384"/>
                  </a:lnTo>
                  <a:lnTo>
                    <a:pt x="1311" y="384"/>
                  </a:lnTo>
                  <a:lnTo>
                    <a:pt x="1311" y="361"/>
                  </a:lnTo>
                  <a:lnTo>
                    <a:pt x="1320" y="361"/>
                  </a:lnTo>
                  <a:lnTo>
                    <a:pt x="1320" y="355"/>
                  </a:lnTo>
                  <a:lnTo>
                    <a:pt x="1335" y="355"/>
                  </a:lnTo>
                  <a:lnTo>
                    <a:pt x="1335" y="350"/>
                  </a:lnTo>
                  <a:lnTo>
                    <a:pt x="1354" y="350"/>
                  </a:lnTo>
                  <a:lnTo>
                    <a:pt x="1354" y="355"/>
                  </a:lnTo>
                  <a:lnTo>
                    <a:pt x="1360" y="355"/>
                  </a:lnTo>
                  <a:lnTo>
                    <a:pt x="1360" y="361"/>
                  </a:lnTo>
                  <a:lnTo>
                    <a:pt x="1364" y="361"/>
                  </a:lnTo>
                  <a:lnTo>
                    <a:pt x="1364" y="374"/>
                  </a:lnTo>
                  <a:lnTo>
                    <a:pt x="1369" y="374"/>
                  </a:lnTo>
                  <a:lnTo>
                    <a:pt x="1369" y="384"/>
                  </a:lnTo>
                  <a:lnTo>
                    <a:pt x="1374" y="384"/>
                  </a:lnTo>
                  <a:lnTo>
                    <a:pt x="1374" y="396"/>
                  </a:lnTo>
                  <a:lnTo>
                    <a:pt x="1379" y="396"/>
                  </a:lnTo>
                  <a:lnTo>
                    <a:pt x="1379" y="402"/>
                  </a:lnTo>
                  <a:lnTo>
                    <a:pt x="1383" y="402"/>
                  </a:lnTo>
                  <a:lnTo>
                    <a:pt x="1383" y="415"/>
                  </a:lnTo>
                  <a:lnTo>
                    <a:pt x="1388" y="415"/>
                  </a:lnTo>
                  <a:lnTo>
                    <a:pt x="1388" y="426"/>
                  </a:lnTo>
                  <a:lnTo>
                    <a:pt x="1393" y="426"/>
                  </a:lnTo>
                  <a:lnTo>
                    <a:pt x="1393" y="437"/>
                  </a:lnTo>
                  <a:lnTo>
                    <a:pt x="1397" y="437"/>
                  </a:lnTo>
                  <a:lnTo>
                    <a:pt x="1397" y="443"/>
                  </a:lnTo>
                  <a:lnTo>
                    <a:pt x="1402" y="443"/>
                  </a:lnTo>
                  <a:lnTo>
                    <a:pt x="1402" y="456"/>
                  </a:lnTo>
                  <a:lnTo>
                    <a:pt x="1407" y="456"/>
                  </a:lnTo>
                  <a:lnTo>
                    <a:pt x="1407" y="461"/>
                  </a:lnTo>
                  <a:lnTo>
                    <a:pt x="1412" y="461"/>
                  </a:lnTo>
                  <a:lnTo>
                    <a:pt x="1412" y="467"/>
                  </a:lnTo>
                  <a:lnTo>
                    <a:pt x="1417" y="467"/>
                  </a:lnTo>
                  <a:lnTo>
                    <a:pt x="1417" y="473"/>
                  </a:lnTo>
                  <a:lnTo>
                    <a:pt x="1423" y="473"/>
                  </a:lnTo>
                  <a:lnTo>
                    <a:pt x="1423" y="485"/>
                  </a:lnTo>
                  <a:lnTo>
                    <a:pt x="1427" y="485"/>
                  </a:lnTo>
                  <a:lnTo>
                    <a:pt x="1427" y="491"/>
                  </a:lnTo>
                  <a:lnTo>
                    <a:pt x="1431" y="491"/>
                  </a:lnTo>
                  <a:lnTo>
                    <a:pt x="1431" y="510"/>
                  </a:lnTo>
                  <a:lnTo>
                    <a:pt x="1436" y="510"/>
                  </a:lnTo>
                  <a:lnTo>
                    <a:pt x="1436" y="521"/>
                  </a:lnTo>
                  <a:lnTo>
                    <a:pt x="1441" y="521"/>
                  </a:lnTo>
                  <a:lnTo>
                    <a:pt x="1441" y="533"/>
                  </a:lnTo>
                  <a:lnTo>
                    <a:pt x="1446" y="533"/>
                  </a:lnTo>
                  <a:lnTo>
                    <a:pt x="1446" y="551"/>
                  </a:lnTo>
                  <a:lnTo>
                    <a:pt x="1450" y="551"/>
                  </a:lnTo>
                  <a:lnTo>
                    <a:pt x="1450" y="562"/>
                  </a:lnTo>
                  <a:lnTo>
                    <a:pt x="1456" y="562"/>
                  </a:lnTo>
                  <a:lnTo>
                    <a:pt x="1456" y="574"/>
                  </a:lnTo>
                  <a:lnTo>
                    <a:pt x="1460" y="574"/>
                  </a:lnTo>
                  <a:lnTo>
                    <a:pt x="1460" y="586"/>
                  </a:lnTo>
                  <a:lnTo>
                    <a:pt x="1465" y="586"/>
                  </a:lnTo>
                  <a:lnTo>
                    <a:pt x="1465" y="597"/>
                  </a:lnTo>
                  <a:lnTo>
                    <a:pt x="1470" y="597"/>
                  </a:lnTo>
                  <a:lnTo>
                    <a:pt x="1470" y="616"/>
                  </a:lnTo>
                  <a:lnTo>
                    <a:pt x="1474" y="616"/>
                  </a:lnTo>
                  <a:lnTo>
                    <a:pt x="1474" y="621"/>
                  </a:lnTo>
                  <a:lnTo>
                    <a:pt x="1479" y="621"/>
                  </a:lnTo>
                  <a:lnTo>
                    <a:pt x="1479" y="633"/>
                  </a:lnTo>
                  <a:lnTo>
                    <a:pt x="1484" y="633"/>
                  </a:lnTo>
                  <a:lnTo>
                    <a:pt x="1484" y="646"/>
                  </a:lnTo>
                  <a:lnTo>
                    <a:pt x="1490" y="646"/>
                  </a:lnTo>
                  <a:lnTo>
                    <a:pt x="1490" y="656"/>
                  </a:lnTo>
                  <a:lnTo>
                    <a:pt x="1494" y="656"/>
                  </a:lnTo>
                  <a:lnTo>
                    <a:pt x="1494" y="674"/>
                  </a:lnTo>
                  <a:lnTo>
                    <a:pt x="1499" y="674"/>
                  </a:lnTo>
                  <a:lnTo>
                    <a:pt x="1499" y="679"/>
                  </a:lnTo>
                  <a:lnTo>
                    <a:pt x="1504" y="679"/>
                  </a:lnTo>
                  <a:lnTo>
                    <a:pt x="1504" y="692"/>
                  </a:lnTo>
                  <a:lnTo>
                    <a:pt x="1509" y="692"/>
                  </a:lnTo>
                  <a:lnTo>
                    <a:pt x="1509" y="709"/>
                  </a:lnTo>
                  <a:lnTo>
                    <a:pt x="1513" y="709"/>
                  </a:lnTo>
                  <a:lnTo>
                    <a:pt x="1513" y="728"/>
                  </a:lnTo>
                  <a:lnTo>
                    <a:pt x="1518" y="728"/>
                  </a:lnTo>
                  <a:lnTo>
                    <a:pt x="1518" y="739"/>
                  </a:lnTo>
                  <a:lnTo>
                    <a:pt x="1523" y="739"/>
                  </a:lnTo>
                  <a:lnTo>
                    <a:pt x="1523" y="750"/>
                  </a:lnTo>
                  <a:lnTo>
                    <a:pt x="1527" y="750"/>
                  </a:lnTo>
                  <a:lnTo>
                    <a:pt x="1527" y="757"/>
                  </a:lnTo>
                  <a:lnTo>
                    <a:pt x="1532" y="757"/>
                  </a:lnTo>
                  <a:lnTo>
                    <a:pt x="1532" y="769"/>
                  </a:lnTo>
                  <a:lnTo>
                    <a:pt x="1537" y="769"/>
                  </a:lnTo>
                  <a:lnTo>
                    <a:pt x="1537" y="793"/>
                  </a:lnTo>
                  <a:lnTo>
                    <a:pt x="1541" y="793"/>
                  </a:lnTo>
                  <a:lnTo>
                    <a:pt x="1541" y="804"/>
                  </a:lnTo>
                  <a:lnTo>
                    <a:pt x="1546" y="804"/>
                  </a:lnTo>
                  <a:lnTo>
                    <a:pt x="1546" y="810"/>
                  </a:lnTo>
                  <a:lnTo>
                    <a:pt x="1551" y="810"/>
                  </a:lnTo>
                  <a:lnTo>
                    <a:pt x="1551" y="828"/>
                  </a:lnTo>
                  <a:lnTo>
                    <a:pt x="1556" y="828"/>
                  </a:lnTo>
                  <a:lnTo>
                    <a:pt x="1556" y="839"/>
                  </a:lnTo>
                  <a:lnTo>
                    <a:pt x="1560" y="839"/>
                  </a:lnTo>
                  <a:lnTo>
                    <a:pt x="1560" y="851"/>
                  </a:lnTo>
                  <a:lnTo>
                    <a:pt x="1566" y="851"/>
                  </a:lnTo>
                  <a:lnTo>
                    <a:pt x="1566" y="869"/>
                  </a:lnTo>
                  <a:lnTo>
                    <a:pt x="1571" y="869"/>
                  </a:lnTo>
                  <a:lnTo>
                    <a:pt x="1571" y="875"/>
                  </a:lnTo>
                  <a:lnTo>
                    <a:pt x="1575" y="875"/>
                  </a:lnTo>
                  <a:lnTo>
                    <a:pt x="1575" y="888"/>
                  </a:lnTo>
                  <a:lnTo>
                    <a:pt x="1580" y="888"/>
                  </a:lnTo>
                  <a:lnTo>
                    <a:pt x="1580" y="899"/>
                  </a:lnTo>
                  <a:lnTo>
                    <a:pt x="1585" y="899"/>
                  </a:lnTo>
                  <a:lnTo>
                    <a:pt x="1585" y="916"/>
                  </a:lnTo>
                  <a:lnTo>
                    <a:pt x="1590" y="916"/>
                  </a:lnTo>
                  <a:lnTo>
                    <a:pt x="1590" y="923"/>
                  </a:lnTo>
                  <a:lnTo>
                    <a:pt x="1594" y="923"/>
                  </a:lnTo>
                  <a:lnTo>
                    <a:pt x="1594" y="958"/>
                  </a:lnTo>
                  <a:lnTo>
                    <a:pt x="1600" y="958"/>
                  </a:lnTo>
                  <a:lnTo>
                    <a:pt x="1600" y="975"/>
                  </a:lnTo>
                  <a:lnTo>
                    <a:pt x="1604" y="975"/>
                  </a:lnTo>
                  <a:lnTo>
                    <a:pt x="1604" y="994"/>
                  </a:lnTo>
                  <a:lnTo>
                    <a:pt x="1608" y="994"/>
                  </a:lnTo>
                  <a:lnTo>
                    <a:pt x="1608" y="1029"/>
                  </a:lnTo>
                  <a:lnTo>
                    <a:pt x="1614" y="1029"/>
                  </a:lnTo>
                  <a:lnTo>
                    <a:pt x="1614" y="1041"/>
                  </a:lnTo>
                  <a:lnTo>
                    <a:pt x="1618" y="1041"/>
                  </a:lnTo>
                  <a:lnTo>
                    <a:pt x="1618" y="1065"/>
                  </a:lnTo>
                  <a:lnTo>
                    <a:pt x="1623" y="1065"/>
                  </a:lnTo>
                  <a:lnTo>
                    <a:pt x="1623" y="1082"/>
                  </a:lnTo>
                  <a:lnTo>
                    <a:pt x="1618" y="1082"/>
                  </a:lnTo>
                  <a:lnTo>
                    <a:pt x="1618" y="1087"/>
                  </a:lnTo>
                  <a:lnTo>
                    <a:pt x="1614" y="1087"/>
                  </a:lnTo>
                  <a:lnTo>
                    <a:pt x="1614" y="1141"/>
                  </a:lnTo>
                  <a:lnTo>
                    <a:pt x="1608" y="1141"/>
                  </a:lnTo>
                  <a:lnTo>
                    <a:pt x="1608" y="1152"/>
                  </a:lnTo>
                  <a:lnTo>
                    <a:pt x="1604" y="1152"/>
                  </a:lnTo>
                  <a:lnTo>
                    <a:pt x="1604" y="1160"/>
                  </a:lnTo>
                  <a:lnTo>
                    <a:pt x="1600" y="1160"/>
                  </a:lnTo>
                  <a:lnTo>
                    <a:pt x="1600" y="1165"/>
                  </a:lnTo>
                  <a:lnTo>
                    <a:pt x="1566" y="1165"/>
                  </a:lnTo>
                  <a:lnTo>
                    <a:pt x="1566" y="1170"/>
                  </a:lnTo>
                  <a:lnTo>
                    <a:pt x="1556" y="1170"/>
                  </a:lnTo>
                  <a:lnTo>
                    <a:pt x="1556" y="1177"/>
                  </a:lnTo>
                  <a:lnTo>
                    <a:pt x="1537" y="1177"/>
                  </a:lnTo>
                  <a:lnTo>
                    <a:pt x="1537" y="1182"/>
                  </a:lnTo>
                  <a:lnTo>
                    <a:pt x="1527" y="1182"/>
                  </a:lnTo>
                  <a:lnTo>
                    <a:pt x="1527" y="1188"/>
                  </a:lnTo>
                  <a:lnTo>
                    <a:pt x="1509" y="1188"/>
                  </a:lnTo>
                  <a:lnTo>
                    <a:pt x="1509" y="1193"/>
                  </a:lnTo>
                  <a:lnTo>
                    <a:pt x="1504" y="1193"/>
                  </a:lnTo>
                  <a:lnTo>
                    <a:pt x="1504" y="1201"/>
                  </a:lnTo>
                  <a:lnTo>
                    <a:pt x="1499" y="1201"/>
                  </a:lnTo>
                  <a:lnTo>
                    <a:pt x="1499" y="1206"/>
                  </a:lnTo>
                  <a:lnTo>
                    <a:pt x="1479" y="1206"/>
                  </a:lnTo>
                  <a:lnTo>
                    <a:pt x="1479" y="1212"/>
                  </a:lnTo>
                  <a:lnTo>
                    <a:pt x="1465" y="1212"/>
                  </a:lnTo>
                  <a:lnTo>
                    <a:pt x="1465" y="1218"/>
                  </a:lnTo>
                  <a:lnTo>
                    <a:pt x="1456" y="1218"/>
                  </a:lnTo>
                  <a:lnTo>
                    <a:pt x="1456" y="1223"/>
                  </a:lnTo>
                  <a:lnTo>
                    <a:pt x="1446" y="1223"/>
                  </a:lnTo>
                  <a:lnTo>
                    <a:pt x="1446" y="1230"/>
                  </a:lnTo>
                  <a:lnTo>
                    <a:pt x="1431" y="1230"/>
                  </a:lnTo>
                  <a:lnTo>
                    <a:pt x="1431" y="1236"/>
                  </a:lnTo>
                  <a:lnTo>
                    <a:pt x="1427" y="1236"/>
                  </a:lnTo>
                  <a:lnTo>
                    <a:pt x="1427" y="1242"/>
                  </a:lnTo>
                  <a:lnTo>
                    <a:pt x="1417" y="1242"/>
                  </a:lnTo>
                  <a:lnTo>
                    <a:pt x="1417" y="1247"/>
                  </a:lnTo>
                  <a:lnTo>
                    <a:pt x="1397" y="1247"/>
                  </a:lnTo>
                  <a:lnTo>
                    <a:pt x="1397" y="1253"/>
                  </a:lnTo>
                  <a:lnTo>
                    <a:pt x="1393" y="1253"/>
                  </a:lnTo>
                  <a:lnTo>
                    <a:pt x="1393" y="1260"/>
                  </a:lnTo>
                  <a:lnTo>
                    <a:pt x="1383" y="1260"/>
                  </a:lnTo>
                  <a:lnTo>
                    <a:pt x="1383" y="1266"/>
                  </a:lnTo>
                  <a:lnTo>
                    <a:pt x="1369" y="1266"/>
                  </a:lnTo>
                  <a:lnTo>
                    <a:pt x="1369" y="1271"/>
                  </a:lnTo>
                  <a:lnTo>
                    <a:pt x="1354" y="1271"/>
                  </a:lnTo>
                  <a:lnTo>
                    <a:pt x="1354" y="1277"/>
                  </a:lnTo>
                  <a:lnTo>
                    <a:pt x="1346" y="1277"/>
                  </a:lnTo>
                  <a:lnTo>
                    <a:pt x="1346" y="1283"/>
                  </a:lnTo>
                  <a:lnTo>
                    <a:pt x="1326" y="1283"/>
                  </a:lnTo>
                  <a:lnTo>
                    <a:pt x="1326" y="1288"/>
                  </a:lnTo>
                  <a:lnTo>
                    <a:pt x="1311" y="1288"/>
                  </a:lnTo>
                  <a:lnTo>
                    <a:pt x="1311" y="1296"/>
                  </a:lnTo>
                  <a:lnTo>
                    <a:pt x="1302" y="1296"/>
                  </a:lnTo>
                  <a:lnTo>
                    <a:pt x="1302" y="1301"/>
                  </a:lnTo>
                  <a:lnTo>
                    <a:pt x="1287" y="1301"/>
                  </a:lnTo>
                  <a:lnTo>
                    <a:pt x="1287" y="1307"/>
                  </a:lnTo>
                  <a:lnTo>
                    <a:pt x="1278" y="1307"/>
                  </a:lnTo>
                  <a:lnTo>
                    <a:pt x="1278" y="1312"/>
                  </a:lnTo>
                  <a:lnTo>
                    <a:pt x="1263" y="1312"/>
                  </a:lnTo>
                  <a:lnTo>
                    <a:pt x="1263" y="1319"/>
                  </a:lnTo>
                  <a:lnTo>
                    <a:pt x="1249" y="1319"/>
                  </a:lnTo>
                  <a:lnTo>
                    <a:pt x="1249" y="1324"/>
                  </a:lnTo>
                  <a:lnTo>
                    <a:pt x="1234" y="1324"/>
                  </a:lnTo>
                  <a:lnTo>
                    <a:pt x="1234" y="1329"/>
                  </a:lnTo>
                  <a:lnTo>
                    <a:pt x="1216" y="1329"/>
                  </a:lnTo>
                  <a:lnTo>
                    <a:pt x="1216" y="1337"/>
                  </a:lnTo>
                  <a:lnTo>
                    <a:pt x="1206" y="1337"/>
                  </a:lnTo>
                  <a:lnTo>
                    <a:pt x="1206" y="1342"/>
                  </a:lnTo>
                  <a:lnTo>
                    <a:pt x="1195" y="1342"/>
                  </a:lnTo>
                  <a:lnTo>
                    <a:pt x="1195" y="1348"/>
                  </a:lnTo>
                  <a:lnTo>
                    <a:pt x="1181" y="1348"/>
                  </a:lnTo>
                  <a:lnTo>
                    <a:pt x="1181" y="1354"/>
                  </a:lnTo>
                  <a:lnTo>
                    <a:pt x="1172" y="1354"/>
                  </a:lnTo>
                  <a:lnTo>
                    <a:pt x="1172" y="1361"/>
                  </a:lnTo>
                  <a:lnTo>
                    <a:pt x="1162" y="1361"/>
                  </a:lnTo>
                  <a:lnTo>
                    <a:pt x="1162" y="1366"/>
                  </a:lnTo>
                  <a:lnTo>
                    <a:pt x="1153" y="1366"/>
                  </a:lnTo>
                  <a:lnTo>
                    <a:pt x="1153" y="1372"/>
                  </a:lnTo>
                  <a:lnTo>
                    <a:pt x="1139" y="1372"/>
                  </a:lnTo>
                  <a:lnTo>
                    <a:pt x="1139" y="1378"/>
                  </a:lnTo>
                  <a:lnTo>
                    <a:pt x="1119" y="1378"/>
                  </a:lnTo>
                  <a:lnTo>
                    <a:pt x="1119" y="1383"/>
                  </a:lnTo>
                  <a:lnTo>
                    <a:pt x="1100" y="1383"/>
                  </a:lnTo>
                  <a:lnTo>
                    <a:pt x="1100" y="1389"/>
                  </a:lnTo>
                  <a:lnTo>
                    <a:pt x="1090" y="1389"/>
                  </a:lnTo>
                  <a:lnTo>
                    <a:pt x="1090" y="1396"/>
                  </a:lnTo>
                  <a:lnTo>
                    <a:pt x="1081" y="1396"/>
                  </a:lnTo>
                  <a:lnTo>
                    <a:pt x="1081" y="1402"/>
                  </a:lnTo>
                  <a:lnTo>
                    <a:pt x="1062" y="1402"/>
                  </a:lnTo>
                  <a:lnTo>
                    <a:pt x="1062" y="1407"/>
                  </a:lnTo>
                  <a:lnTo>
                    <a:pt x="1047" y="1407"/>
                  </a:lnTo>
                  <a:lnTo>
                    <a:pt x="1047" y="1413"/>
                  </a:lnTo>
                  <a:lnTo>
                    <a:pt x="1032" y="1413"/>
                  </a:lnTo>
                  <a:lnTo>
                    <a:pt x="1032" y="1419"/>
                  </a:lnTo>
                  <a:lnTo>
                    <a:pt x="1013" y="1419"/>
                  </a:lnTo>
                  <a:lnTo>
                    <a:pt x="1013" y="1424"/>
                  </a:lnTo>
                  <a:lnTo>
                    <a:pt x="1009" y="1424"/>
                  </a:lnTo>
                  <a:lnTo>
                    <a:pt x="1009" y="1430"/>
                  </a:lnTo>
                  <a:lnTo>
                    <a:pt x="995" y="1430"/>
                  </a:lnTo>
                  <a:lnTo>
                    <a:pt x="995" y="1437"/>
                  </a:lnTo>
                  <a:lnTo>
                    <a:pt x="985" y="1437"/>
                  </a:lnTo>
                  <a:lnTo>
                    <a:pt x="985" y="1443"/>
                  </a:lnTo>
                  <a:lnTo>
                    <a:pt x="975" y="1443"/>
                  </a:lnTo>
                  <a:lnTo>
                    <a:pt x="975" y="1448"/>
                  </a:lnTo>
                  <a:lnTo>
                    <a:pt x="961" y="1448"/>
                  </a:lnTo>
                  <a:lnTo>
                    <a:pt x="961" y="1455"/>
                  </a:lnTo>
                  <a:lnTo>
                    <a:pt x="942" y="1455"/>
                  </a:lnTo>
                  <a:lnTo>
                    <a:pt x="942" y="1460"/>
                  </a:lnTo>
                  <a:lnTo>
                    <a:pt x="927" y="1460"/>
                  </a:lnTo>
                  <a:lnTo>
                    <a:pt x="927" y="1467"/>
                  </a:lnTo>
                  <a:lnTo>
                    <a:pt x="918" y="1467"/>
                  </a:lnTo>
                  <a:lnTo>
                    <a:pt x="918" y="1473"/>
                  </a:lnTo>
                  <a:lnTo>
                    <a:pt x="902" y="1473"/>
                  </a:lnTo>
                  <a:lnTo>
                    <a:pt x="902" y="1478"/>
                  </a:lnTo>
                  <a:lnTo>
                    <a:pt x="883" y="1478"/>
                  </a:lnTo>
                  <a:lnTo>
                    <a:pt x="883" y="1483"/>
                  </a:lnTo>
                  <a:lnTo>
                    <a:pt x="874" y="1483"/>
                  </a:lnTo>
                  <a:lnTo>
                    <a:pt x="874" y="1489"/>
                  </a:lnTo>
                  <a:lnTo>
                    <a:pt x="860" y="1489"/>
                  </a:lnTo>
                  <a:lnTo>
                    <a:pt x="860" y="1495"/>
                  </a:lnTo>
                  <a:lnTo>
                    <a:pt x="850" y="1495"/>
                  </a:lnTo>
                  <a:lnTo>
                    <a:pt x="850" y="1502"/>
                  </a:lnTo>
                  <a:lnTo>
                    <a:pt x="835" y="1502"/>
                  </a:lnTo>
                  <a:lnTo>
                    <a:pt x="835" y="1507"/>
                  </a:lnTo>
                  <a:lnTo>
                    <a:pt x="826" y="1507"/>
                  </a:lnTo>
                  <a:lnTo>
                    <a:pt x="826" y="1514"/>
                  </a:lnTo>
                  <a:lnTo>
                    <a:pt x="802" y="1514"/>
                  </a:lnTo>
                  <a:lnTo>
                    <a:pt x="802" y="1519"/>
                  </a:lnTo>
                  <a:lnTo>
                    <a:pt x="784" y="1519"/>
                  </a:lnTo>
                  <a:lnTo>
                    <a:pt x="784" y="1525"/>
                  </a:lnTo>
                  <a:lnTo>
                    <a:pt x="754" y="1525"/>
                  </a:lnTo>
                  <a:lnTo>
                    <a:pt x="754" y="1532"/>
                  </a:lnTo>
                  <a:lnTo>
                    <a:pt x="725" y="1532"/>
                  </a:lnTo>
                  <a:lnTo>
                    <a:pt x="725" y="1537"/>
                  </a:lnTo>
                  <a:lnTo>
                    <a:pt x="702" y="1537"/>
                  </a:lnTo>
                  <a:lnTo>
                    <a:pt x="702" y="1543"/>
                  </a:lnTo>
                  <a:lnTo>
                    <a:pt x="681" y="1543"/>
                  </a:lnTo>
                  <a:lnTo>
                    <a:pt x="681" y="1537"/>
                  </a:lnTo>
                  <a:lnTo>
                    <a:pt x="639" y="1537"/>
                  </a:lnTo>
                  <a:lnTo>
                    <a:pt x="639" y="1543"/>
                  </a:lnTo>
                  <a:lnTo>
                    <a:pt x="610" y="1543"/>
                  </a:lnTo>
                  <a:lnTo>
                    <a:pt x="610" y="1549"/>
                  </a:lnTo>
                  <a:lnTo>
                    <a:pt x="595" y="1549"/>
                  </a:lnTo>
                  <a:lnTo>
                    <a:pt x="595" y="1543"/>
                  </a:lnTo>
                  <a:lnTo>
                    <a:pt x="558" y="1543"/>
                  </a:lnTo>
                  <a:lnTo>
                    <a:pt x="558" y="1537"/>
                  </a:lnTo>
                  <a:lnTo>
                    <a:pt x="486" y="1537"/>
                  </a:lnTo>
                  <a:lnTo>
                    <a:pt x="486" y="1532"/>
                  </a:lnTo>
                  <a:lnTo>
                    <a:pt x="466" y="1532"/>
                  </a:lnTo>
                  <a:lnTo>
                    <a:pt x="466" y="1525"/>
                  </a:lnTo>
                  <a:lnTo>
                    <a:pt x="437" y="1525"/>
                  </a:lnTo>
                  <a:lnTo>
                    <a:pt x="437" y="1519"/>
                  </a:lnTo>
                  <a:lnTo>
                    <a:pt x="409" y="1519"/>
                  </a:lnTo>
                  <a:lnTo>
                    <a:pt x="409" y="1514"/>
                  </a:lnTo>
                  <a:lnTo>
                    <a:pt x="384" y="1514"/>
                  </a:lnTo>
                  <a:lnTo>
                    <a:pt x="384" y="1507"/>
                  </a:lnTo>
                  <a:lnTo>
                    <a:pt x="374" y="1507"/>
                  </a:lnTo>
                  <a:lnTo>
                    <a:pt x="374" y="1502"/>
                  </a:lnTo>
                  <a:lnTo>
                    <a:pt x="360" y="1502"/>
                  </a:lnTo>
                  <a:lnTo>
                    <a:pt x="360" y="1495"/>
                  </a:lnTo>
                  <a:lnTo>
                    <a:pt x="346" y="1495"/>
                  </a:lnTo>
                  <a:lnTo>
                    <a:pt x="346" y="1489"/>
                  </a:lnTo>
                  <a:lnTo>
                    <a:pt x="317" y="1489"/>
                  </a:lnTo>
                  <a:lnTo>
                    <a:pt x="317" y="1483"/>
                  </a:lnTo>
                  <a:lnTo>
                    <a:pt x="307" y="1483"/>
                  </a:lnTo>
                  <a:lnTo>
                    <a:pt x="307" y="1478"/>
                  </a:lnTo>
                  <a:lnTo>
                    <a:pt x="297" y="1478"/>
                  </a:lnTo>
                  <a:lnTo>
                    <a:pt x="297" y="1473"/>
                  </a:lnTo>
                  <a:lnTo>
                    <a:pt x="288" y="1473"/>
                  </a:lnTo>
                  <a:lnTo>
                    <a:pt x="288" y="1467"/>
                  </a:lnTo>
                  <a:lnTo>
                    <a:pt x="270" y="1467"/>
                  </a:lnTo>
                  <a:lnTo>
                    <a:pt x="270" y="1460"/>
                  </a:lnTo>
                  <a:lnTo>
                    <a:pt x="254" y="1460"/>
                  </a:lnTo>
                  <a:lnTo>
                    <a:pt x="254" y="1455"/>
                  </a:lnTo>
                  <a:lnTo>
                    <a:pt x="244" y="1455"/>
                  </a:lnTo>
                  <a:lnTo>
                    <a:pt x="244" y="1448"/>
                  </a:lnTo>
                  <a:lnTo>
                    <a:pt x="235" y="1448"/>
                  </a:lnTo>
                  <a:lnTo>
                    <a:pt x="235" y="1443"/>
                  </a:lnTo>
                  <a:lnTo>
                    <a:pt x="221" y="1443"/>
                  </a:lnTo>
                  <a:lnTo>
                    <a:pt x="221" y="1437"/>
                  </a:lnTo>
                  <a:lnTo>
                    <a:pt x="211" y="1437"/>
                  </a:lnTo>
                  <a:lnTo>
                    <a:pt x="211" y="1430"/>
                  </a:lnTo>
                  <a:lnTo>
                    <a:pt x="207" y="1430"/>
                  </a:lnTo>
                  <a:lnTo>
                    <a:pt x="207" y="1424"/>
                  </a:lnTo>
                  <a:lnTo>
                    <a:pt x="197" y="1424"/>
                  </a:lnTo>
                  <a:lnTo>
                    <a:pt x="197" y="1419"/>
                  </a:lnTo>
                  <a:lnTo>
                    <a:pt x="193" y="1419"/>
                  </a:lnTo>
                  <a:lnTo>
                    <a:pt x="193" y="1413"/>
                  </a:lnTo>
                  <a:lnTo>
                    <a:pt x="182" y="1413"/>
                  </a:lnTo>
                  <a:lnTo>
                    <a:pt x="182" y="1407"/>
                  </a:lnTo>
                  <a:lnTo>
                    <a:pt x="167" y="1407"/>
                  </a:lnTo>
                  <a:lnTo>
                    <a:pt x="167" y="1402"/>
                  </a:lnTo>
                  <a:lnTo>
                    <a:pt x="159" y="1402"/>
                  </a:lnTo>
                  <a:lnTo>
                    <a:pt x="159" y="1396"/>
                  </a:lnTo>
                  <a:lnTo>
                    <a:pt x="153" y="1396"/>
                  </a:lnTo>
                  <a:lnTo>
                    <a:pt x="153" y="1389"/>
                  </a:lnTo>
                  <a:lnTo>
                    <a:pt x="149" y="1389"/>
                  </a:lnTo>
                  <a:lnTo>
                    <a:pt x="149" y="1383"/>
                  </a:lnTo>
                  <a:lnTo>
                    <a:pt x="145" y="1383"/>
                  </a:lnTo>
                  <a:lnTo>
                    <a:pt x="145" y="1378"/>
                  </a:lnTo>
                  <a:lnTo>
                    <a:pt x="139" y="1378"/>
                  </a:lnTo>
                  <a:lnTo>
                    <a:pt x="139" y="1372"/>
                  </a:lnTo>
                  <a:lnTo>
                    <a:pt x="135" y="1372"/>
                  </a:lnTo>
                  <a:lnTo>
                    <a:pt x="135" y="1361"/>
                  </a:lnTo>
                  <a:lnTo>
                    <a:pt x="130" y="1361"/>
                  </a:lnTo>
                  <a:lnTo>
                    <a:pt x="130" y="1354"/>
                  </a:lnTo>
                  <a:lnTo>
                    <a:pt x="126" y="1354"/>
                  </a:lnTo>
                  <a:lnTo>
                    <a:pt x="126" y="1348"/>
                  </a:lnTo>
                  <a:lnTo>
                    <a:pt x="120" y="1348"/>
                  </a:lnTo>
                  <a:lnTo>
                    <a:pt x="120" y="1342"/>
                  </a:lnTo>
                  <a:lnTo>
                    <a:pt x="116" y="1342"/>
                  </a:lnTo>
                  <a:lnTo>
                    <a:pt x="116" y="1337"/>
                  </a:lnTo>
                  <a:lnTo>
                    <a:pt x="110" y="1337"/>
                  </a:lnTo>
                  <a:lnTo>
                    <a:pt x="110" y="1329"/>
                  </a:lnTo>
                  <a:lnTo>
                    <a:pt x="105" y="1329"/>
                  </a:lnTo>
                  <a:lnTo>
                    <a:pt x="105" y="1319"/>
                  </a:lnTo>
                  <a:lnTo>
                    <a:pt x="101" y="1319"/>
                  </a:lnTo>
                  <a:lnTo>
                    <a:pt x="101" y="1312"/>
                  </a:lnTo>
                  <a:lnTo>
                    <a:pt x="96" y="1312"/>
                  </a:lnTo>
                  <a:lnTo>
                    <a:pt x="96" y="1301"/>
                  </a:lnTo>
                  <a:lnTo>
                    <a:pt x="91" y="1301"/>
                  </a:lnTo>
                  <a:lnTo>
                    <a:pt x="91" y="1296"/>
                  </a:lnTo>
                  <a:lnTo>
                    <a:pt x="86" y="1296"/>
                  </a:lnTo>
                  <a:lnTo>
                    <a:pt x="86" y="1288"/>
                  </a:lnTo>
                  <a:lnTo>
                    <a:pt x="82" y="1288"/>
                  </a:lnTo>
                  <a:lnTo>
                    <a:pt x="82" y="1277"/>
                  </a:lnTo>
                  <a:lnTo>
                    <a:pt x="77" y="1277"/>
                  </a:lnTo>
                  <a:lnTo>
                    <a:pt x="77" y="1266"/>
                  </a:lnTo>
                  <a:lnTo>
                    <a:pt x="72" y="1266"/>
                  </a:lnTo>
                  <a:lnTo>
                    <a:pt x="72" y="1260"/>
                  </a:lnTo>
                  <a:lnTo>
                    <a:pt x="67" y="1260"/>
                  </a:lnTo>
                  <a:lnTo>
                    <a:pt x="67" y="1253"/>
                  </a:lnTo>
                  <a:lnTo>
                    <a:pt x="63" y="1253"/>
                  </a:lnTo>
                  <a:lnTo>
                    <a:pt x="63" y="1242"/>
                  </a:lnTo>
                  <a:lnTo>
                    <a:pt x="58" y="1242"/>
                  </a:lnTo>
                  <a:lnTo>
                    <a:pt x="58" y="1236"/>
                  </a:lnTo>
                  <a:lnTo>
                    <a:pt x="53" y="1236"/>
                  </a:lnTo>
                  <a:lnTo>
                    <a:pt x="53" y="1223"/>
                  </a:lnTo>
                  <a:lnTo>
                    <a:pt x="49" y="1223"/>
                  </a:lnTo>
                  <a:lnTo>
                    <a:pt x="49" y="1218"/>
                  </a:lnTo>
                  <a:lnTo>
                    <a:pt x="43" y="1218"/>
                  </a:lnTo>
                  <a:lnTo>
                    <a:pt x="43" y="1206"/>
                  </a:lnTo>
                  <a:lnTo>
                    <a:pt x="38" y="1206"/>
                  </a:lnTo>
                  <a:lnTo>
                    <a:pt x="38" y="1188"/>
                  </a:lnTo>
                  <a:lnTo>
                    <a:pt x="33" y="1188"/>
                  </a:lnTo>
                  <a:lnTo>
                    <a:pt x="33" y="1170"/>
                  </a:lnTo>
                  <a:lnTo>
                    <a:pt x="29" y="1170"/>
                  </a:lnTo>
                  <a:lnTo>
                    <a:pt x="29" y="1152"/>
                  </a:lnTo>
                  <a:lnTo>
                    <a:pt x="24" y="1152"/>
                  </a:lnTo>
                  <a:lnTo>
                    <a:pt x="24" y="1135"/>
                  </a:lnTo>
                  <a:lnTo>
                    <a:pt x="15" y="1135"/>
                  </a:lnTo>
                  <a:lnTo>
                    <a:pt x="15" y="1106"/>
                  </a:lnTo>
                  <a:lnTo>
                    <a:pt x="9" y="1106"/>
                  </a:lnTo>
                  <a:lnTo>
                    <a:pt x="9" y="1094"/>
                  </a:lnTo>
                  <a:lnTo>
                    <a:pt x="5" y="1094"/>
                  </a:lnTo>
                  <a:lnTo>
                    <a:pt x="5" y="1087"/>
                  </a:lnTo>
                  <a:lnTo>
                    <a:pt x="0" y="1087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26160" y="249120"/>
              <a:ext cx="4680" cy="50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59440" y="2792520"/>
              <a:ext cx="734760" cy="811080"/>
            </a:xfrm>
            <a:custGeom>
              <a:avLst/>
              <a:gdLst/>
              <a:ahLst/>
              <a:rect l="l" t="t" r="r" b="b"/>
              <a:pathLst>
                <a:path w="1388" h="2045">
                  <a:moveTo>
                    <a:pt x="0" y="1300"/>
                  </a:moveTo>
                  <a:lnTo>
                    <a:pt x="4" y="1300"/>
                  </a:lnTo>
                  <a:lnTo>
                    <a:pt x="4" y="1283"/>
                  </a:lnTo>
                  <a:lnTo>
                    <a:pt x="39" y="1283"/>
                  </a:lnTo>
                  <a:lnTo>
                    <a:pt x="39" y="1288"/>
                  </a:lnTo>
                  <a:lnTo>
                    <a:pt x="44" y="1288"/>
                  </a:lnTo>
                  <a:lnTo>
                    <a:pt x="44" y="1295"/>
                  </a:lnTo>
                  <a:lnTo>
                    <a:pt x="48" y="1295"/>
                  </a:lnTo>
                  <a:lnTo>
                    <a:pt x="48" y="1318"/>
                  </a:lnTo>
                  <a:lnTo>
                    <a:pt x="53" y="1318"/>
                  </a:lnTo>
                  <a:lnTo>
                    <a:pt x="53" y="1330"/>
                  </a:lnTo>
                  <a:lnTo>
                    <a:pt x="58" y="1330"/>
                  </a:lnTo>
                  <a:lnTo>
                    <a:pt x="58" y="1342"/>
                  </a:lnTo>
                  <a:lnTo>
                    <a:pt x="63" y="1342"/>
                  </a:lnTo>
                  <a:lnTo>
                    <a:pt x="63" y="1359"/>
                  </a:lnTo>
                  <a:lnTo>
                    <a:pt x="67" y="1359"/>
                  </a:lnTo>
                  <a:lnTo>
                    <a:pt x="67" y="1365"/>
                  </a:lnTo>
                  <a:lnTo>
                    <a:pt x="72" y="1365"/>
                  </a:lnTo>
                  <a:lnTo>
                    <a:pt x="72" y="1371"/>
                  </a:lnTo>
                  <a:lnTo>
                    <a:pt x="77" y="1371"/>
                  </a:lnTo>
                  <a:lnTo>
                    <a:pt x="77" y="1383"/>
                  </a:lnTo>
                  <a:lnTo>
                    <a:pt x="82" y="1383"/>
                  </a:lnTo>
                  <a:lnTo>
                    <a:pt x="82" y="1389"/>
                  </a:lnTo>
                  <a:lnTo>
                    <a:pt x="86" y="1389"/>
                  </a:lnTo>
                  <a:lnTo>
                    <a:pt x="86" y="1395"/>
                  </a:lnTo>
                  <a:lnTo>
                    <a:pt x="91" y="1395"/>
                  </a:lnTo>
                  <a:lnTo>
                    <a:pt x="91" y="1406"/>
                  </a:lnTo>
                  <a:lnTo>
                    <a:pt x="96" y="1406"/>
                  </a:lnTo>
                  <a:lnTo>
                    <a:pt x="96" y="1413"/>
                  </a:lnTo>
                  <a:lnTo>
                    <a:pt x="100" y="1413"/>
                  </a:lnTo>
                  <a:lnTo>
                    <a:pt x="100" y="1424"/>
                  </a:lnTo>
                  <a:lnTo>
                    <a:pt x="107" y="1424"/>
                  </a:lnTo>
                  <a:lnTo>
                    <a:pt x="107" y="1436"/>
                  </a:lnTo>
                  <a:lnTo>
                    <a:pt x="111" y="1436"/>
                  </a:lnTo>
                  <a:lnTo>
                    <a:pt x="111" y="1441"/>
                  </a:lnTo>
                  <a:lnTo>
                    <a:pt x="116" y="1441"/>
                  </a:lnTo>
                  <a:lnTo>
                    <a:pt x="116" y="1454"/>
                  </a:lnTo>
                  <a:lnTo>
                    <a:pt x="120" y="1454"/>
                  </a:lnTo>
                  <a:lnTo>
                    <a:pt x="120" y="1465"/>
                  </a:lnTo>
                  <a:lnTo>
                    <a:pt x="126" y="1465"/>
                  </a:lnTo>
                  <a:lnTo>
                    <a:pt x="126" y="1478"/>
                  </a:lnTo>
                  <a:lnTo>
                    <a:pt x="130" y="1478"/>
                  </a:lnTo>
                  <a:lnTo>
                    <a:pt x="130" y="1483"/>
                  </a:lnTo>
                  <a:lnTo>
                    <a:pt x="134" y="1483"/>
                  </a:lnTo>
                  <a:lnTo>
                    <a:pt x="134" y="1501"/>
                  </a:lnTo>
                  <a:lnTo>
                    <a:pt x="140" y="1501"/>
                  </a:lnTo>
                  <a:lnTo>
                    <a:pt x="140" y="1514"/>
                  </a:lnTo>
                  <a:lnTo>
                    <a:pt x="144" y="1514"/>
                  </a:lnTo>
                  <a:lnTo>
                    <a:pt x="144" y="1525"/>
                  </a:lnTo>
                  <a:lnTo>
                    <a:pt x="149" y="1525"/>
                  </a:lnTo>
                  <a:lnTo>
                    <a:pt x="149" y="1536"/>
                  </a:lnTo>
                  <a:lnTo>
                    <a:pt x="154" y="1536"/>
                  </a:lnTo>
                  <a:lnTo>
                    <a:pt x="154" y="1542"/>
                  </a:lnTo>
                  <a:lnTo>
                    <a:pt x="159" y="1542"/>
                  </a:lnTo>
                  <a:lnTo>
                    <a:pt x="159" y="1549"/>
                  </a:lnTo>
                  <a:lnTo>
                    <a:pt x="163" y="1549"/>
                  </a:lnTo>
                  <a:lnTo>
                    <a:pt x="163" y="1566"/>
                  </a:lnTo>
                  <a:lnTo>
                    <a:pt x="168" y="1566"/>
                  </a:lnTo>
                  <a:lnTo>
                    <a:pt x="168" y="1584"/>
                  </a:lnTo>
                  <a:lnTo>
                    <a:pt x="173" y="1584"/>
                  </a:lnTo>
                  <a:lnTo>
                    <a:pt x="173" y="1590"/>
                  </a:lnTo>
                  <a:lnTo>
                    <a:pt x="178" y="1590"/>
                  </a:lnTo>
                  <a:lnTo>
                    <a:pt x="178" y="1601"/>
                  </a:lnTo>
                  <a:lnTo>
                    <a:pt x="183" y="1601"/>
                  </a:lnTo>
                  <a:lnTo>
                    <a:pt x="183" y="1614"/>
                  </a:lnTo>
                  <a:lnTo>
                    <a:pt x="188" y="1614"/>
                  </a:lnTo>
                  <a:lnTo>
                    <a:pt x="188" y="1626"/>
                  </a:lnTo>
                  <a:lnTo>
                    <a:pt x="193" y="1626"/>
                  </a:lnTo>
                  <a:lnTo>
                    <a:pt x="193" y="1637"/>
                  </a:lnTo>
                  <a:lnTo>
                    <a:pt x="197" y="1637"/>
                  </a:lnTo>
                  <a:lnTo>
                    <a:pt x="197" y="1650"/>
                  </a:lnTo>
                  <a:lnTo>
                    <a:pt x="203" y="1650"/>
                  </a:lnTo>
                  <a:lnTo>
                    <a:pt x="203" y="1661"/>
                  </a:lnTo>
                  <a:lnTo>
                    <a:pt x="207" y="1661"/>
                  </a:lnTo>
                  <a:lnTo>
                    <a:pt x="207" y="1673"/>
                  </a:lnTo>
                  <a:lnTo>
                    <a:pt x="211" y="1673"/>
                  </a:lnTo>
                  <a:lnTo>
                    <a:pt x="211" y="1685"/>
                  </a:lnTo>
                  <a:lnTo>
                    <a:pt x="216" y="1685"/>
                  </a:lnTo>
                  <a:lnTo>
                    <a:pt x="216" y="1696"/>
                  </a:lnTo>
                  <a:lnTo>
                    <a:pt x="221" y="1696"/>
                  </a:lnTo>
                  <a:lnTo>
                    <a:pt x="221" y="1708"/>
                  </a:lnTo>
                  <a:lnTo>
                    <a:pt x="226" y="1708"/>
                  </a:lnTo>
                  <a:lnTo>
                    <a:pt x="226" y="1715"/>
                  </a:lnTo>
                  <a:lnTo>
                    <a:pt x="230" y="1715"/>
                  </a:lnTo>
                  <a:lnTo>
                    <a:pt x="230" y="1720"/>
                  </a:lnTo>
                  <a:lnTo>
                    <a:pt x="236" y="1720"/>
                  </a:lnTo>
                  <a:lnTo>
                    <a:pt x="236" y="1737"/>
                  </a:lnTo>
                  <a:lnTo>
                    <a:pt x="240" y="1737"/>
                  </a:lnTo>
                  <a:lnTo>
                    <a:pt x="240" y="1745"/>
                  </a:lnTo>
                  <a:lnTo>
                    <a:pt x="245" y="1745"/>
                  </a:lnTo>
                  <a:lnTo>
                    <a:pt x="245" y="1755"/>
                  </a:lnTo>
                  <a:lnTo>
                    <a:pt x="251" y="1755"/>
                  </a:lnTo>
                  <a:lnTo>
                    <a:pt x="251" y="1767"/>
                  </a:lnTo>
                  <a:lnTo>
                    <a:pt x="255" y="1767"/>
                  </a:lnTo>
                  <a:lnTo>
                    <a:pt x="255" y="1786"/>
                  </a:lnTo>
                  <a:lnTo>
                    <a:pt x="260" y="1786"/>
                  </a:lnTo>
                  <a:lnTo>
                    <a:pt x="260" y="1796"/>
                  </a:lnTo>
                  <a:lnTo>
                    <a:pt x="264" y="1796"/>
                  </a:lnTo>
                  <a:lnTo>
                    <a:pt x="264" y="1808"/>
                  </a:lnTo>
                  <a:lnTo>
                    <a:pt x="269" y="1808"/>
                  </a:lnTo>
                  <a:lnTo>
                    <a:pt x="269" y="1814"/>
                  </a:lnTo>
                  <a:lnTo>
                    <a:pt x="274" y="1814"/>
                  </a:lnTo>
                  <a:lnTo>
                    <a:pt x="274" y="1832"/>
                  </a:lnTo>
                  <a:lnTo>
                    <a:pt x="278" y="1832"/>
                  </a:lnTo>
                  <a:lnTo>
                    <a:pt x="278" y="1844"/>
                  </a:lnTo>
                  <a:lnTo>
                    <a:pt x="284" y="1844"/>
                  </a:lnTo>
                  <a:lnTo>
                    <a:pt x="284" y="1862"/>
                  </a:lnTo>
                  <a:lnTo>
                    <a:pt x="288" y="1862"/>
                  </a:lnTo>
                  <a:lnTo>
                    <a:pt x="288" y="1868"/>
                  </a:lnTo>
                  <a:lnTo>
                    <a:pt x="293" y="1868"/>
                  </a:lnTo>
                  <a:lnTo>
                    <a:pt x="293" y="1879"/>
                  </a:lnTo>
                  <a:lnTo>
                    <a:pt x="298" y="1879"/>
                  </a:lnTo>
                  <a:lnTo>
                    <a:pt x="298" y="1886"/>
                  </a:lnTo>
                  <a:lnTo>
                    <a:pt x="302" y="1886"/>
                  </a:lnTo>
                  <a:lnTo>
                    <a:pt x="302" y="1892"/>
                  </a:lnTo>
                  <a:lnTo>
                    <a:pt x="307" y="1892"/>
                  </a:lnTo>
                  <a:lnTo>
                    <a:pt x="307" y="1909"/>
                  </a:lnTo>
                  <a:lnTo>
                    <a:pt x="312" y="1909"/>
                  </a:lnTo>
                  <a:lnTo>
                    <a:pt x="312" y="1922"/>
                  </a:lnTo>
                  <a:lnTo>
                    <a:pt x="317" y="1922"/>
                  </a:lnTo>
                  <a:lnTo>
                    <a:pt x="317" y="1938"/>
                  </a:lnTo>
                  <a:lnTo>
                    <a:pt x="322" y="1938"/>
                  </a:lnTo>
                  <a:lnTo>
                    <a:pt x="322" y="1955"/>
                  </a:lnTo>
                  <a:lnTo>
                    <a:pt x="327" y="1955"/>
                  </a:lnTo>
                  <a:lnTo>
                    <a:pt x="327" y="1963"/>
                  </a:lnTo>
                  <a:lnTo>
                    <a:pt x="332" y="1963"/>
                  </a:lnTo>
                  <a:lnTo>
                    <a:pt x="332" y="1968"/>
                  </a:lnTo>
                  <a:lnTo>
                    <a:pt x="337" y="1968"/>
                  </a:lnTo>
                  <a:lnTo>
                    <a:pt x="337" y="1974"/>
                  </a:lnTo>
                  <a:lnTo>
                    <a:pt x="374" y="1974"/>
                  </a:lnTo>
                  <a:lnTo>
                    <a:pt x="374" y="1968"/>
                  </a:lnTo>
                  <a:lnTo>
                    <a:pt x="399" y="1968"/>
                  </a:lnTo>
                  <a:lnTo>
                    <a:pt x="399" y="1963"/>
                  </a:lnTo>
                  <a:lnTo>
                    <a:pt x="451" y="1963"/>
                  </a:lnTo>
                  <a:lnTo>
                    <a:pt x="451" y="1955"/>
                  </a:lnTo>
                  <a:lnTo>
                    <a:pt x="467" y="1955"/>
                  </a:lnTo>
                  <a:lnTo>
                    <a:pt x="467" y="1950"/>
                  </a:lnTo>
                  <a:lnTo>
                    <a:pt x="491" y="1950"/>
                  </a:lnTo>
                  <a:lnTo>
                    <a:pt x="491" y="1945"/>
                  </a:lnTo>
                  <a:lnTo>
                    <a:pt x="504" y="1945"/>
                  </a:lnTo>
                  <a:lnTo>
                    <a:pt x="504" y="1938"/>
                  </a:lnTo>
                  <a:lnTo>
                    <a:pt x="524" y="1938"/>
                  </a:lnTo>
                  <a:lnTo>
                    <a:pt x="524" y="1933"/>
                  </a:lnTo>
                  <a:lnTo>
                    <a:pt x="553" y="1933"/>
                  </a:lnTo>
                  <a:lnTo>
                    <a:pt x="553" y="1927"/>
                  </a:lnTo>
                  <a:lnTo>
                    <a:pt x="567" y="1927"/>
                  </a:lnTo>
                  <a:lnTo>
                    <a:pt x="567" y="1922"/>
                  </a:lnTo>
                  <a:lnTo>
                    <a:pt x="587" y="1922"/>
                  </a:lnTo>
                  <a:lnTo>
                    <a:pt x="587" y="1914"/>
                  </a:lnTo>
                  <a:lnTo>
                    <a:pt x="600" y="1914"/>
                  </a:lnTo>
                  <a:lnTo>
                    <a:pt x="600" y="1909"/>
                  </a:lnTo>
                  <a:lnTo>
                    <a:pt x="620" y="1909"/>
                  </a:lnTo>
                  <a:lnTo>
                    <a:pt x="620" y="1903"/>
                  </a:lnTo>
                  <a:lnTo>
                    <a:pt x="629" y="1903"/>
                  </a:lnTo>
                  <a:lnTo>
                    <a:pt x="629" y="1897"/>
                  </a:lnTo>
                  <a:lnTo>
                    <a:pt x="653" y="1897"/>
                  </a:lnTo>
                  <a:lnTo>
                    <a:pt x="653" y="1892"/>
                  </a:lnTo>
                  <a:lnTo>
                    <a:pt x="662" y="1892"/>
                  </a:lnTo>
                  <a:lnTo>
                    <a:pt x="662" y="1886"/>
                  </a:lnTo>
                  <a:lnTo>
                    <a:pt x="687" y="1886"/>
                  </a:lnTo>
                  <a:lnTo>
                    <a:pt x="687" y="1879"/>
                  </a:lnTo>
                  <a:lnTo>
                    <a:pt x="692" y="1879"/>
                  </a:lnTo>
                  <a:lnTo>
                    <a:pt x="692" y="1873"/>
                  </a:lnTo>
                  <a:lnTo>
                    <a:pt x="702" y="1873"/>
                  </a:lnTo>
                  <a:lnTo>
                    <a:pt x="702" y="1868"/>
                  </a:lnTo>
                  <a:lnTo>
                    <a:pt x="716" y="1868"/>
                  </a:lnTo>
                  <a:lnTo>
                    <a:pt x="716" y="1862"/>
                  </a:lnTo>
                  <a:lnTo>
                    <a:pt x="725" y="1862"/>
                  </a:lnTo>
                  <a:lnTo>
                    <a:pt x="725" y="1856"/>
                  </a:lnTo>
                  <a:lnTo>
                    <a:pt x="744" y="1856"/>
                  </a:lnTo>
                  <a:lnTo>
                    <a:pt x="744" y="1849"/>
                  </a:lnTo>
                  <a:lnTo>
                    <a:pt x="755" y="1849"/>
                  </a:lnTo>
                  <a:lnTo>
                    <a:pt x="755" y="1844"/>
                  </a:lnTo>
                  <a:lnTo>
                    <a:pt x="765" y="1844"/>
                  </a:lnTo>
                  <a:lnTo>
                    <a:pt x="765" y="1838"/>
                  </a:lnTo>
                  <a:lnTo>
                    <a:pt x="779" y="1838"/>
                  </a:lnTo>
                  <a:lnTo>
                    <a:pt x="779" y="1832"/>
                  </a:lnTo>
                  <a:lnTo>
                    <a:pt x="788" y="1832"/>
                  </a:lnTo>
                  <a:lnTo>
                    <a:pt x="788" y="1827"/>
                  </a:lnTo>
                  <a:lnTo>
                    <a:pt x="798" y="1827"/>
                  </a:lnTo>
                  <a:lnTo>
                    <a:pt x="798" y="1819"/>
                  </a:lnTo>
                  <a:lnTo>
                    <a:pt x="807" y="1819"/>
                  </a:lnTo>
                  <a:lnTo>
                    <a:pt x="807" y="1814"/>
                  </a:lnTo>
                  <a:lnTo>
                    <a:pt x="816" y="1814"/>
                  </a:lnTo>
                  <a:lnTo>
                    <a:pt x="816" y="1808"/>
                  </a:lnTo>
                  <a:lnTo>
                    <a:pt x="832" y="1808"/>
                  </a:lnTo>
                  <a:lnTo>
                    <a:pt x="832" y="1803"/>
                  </a:lnTo>
                  <a:lnTo>
                    <a:pt x="836" y="1803"/>
                  </a:lnTo>
                  <a:lnTo>
                    <a:pt x="836" y="1796"/>
                  </a:lnTo>
                  <a:lnTo>
                    <a:pt x="850" y="1796"/>
                  </a:lnTo>
                  <a:lnTo>
                    <a:pt x="850" y="1791"/>
                  </a:lnTo>
                  <a:lnTo>
                    <a:pt x="860" y="1791"/>
                  </a:lnTo>
                  <a:lnTo>
                    <a:pt x="860" y="1786"/>
                  </a:lnTo>
                  <a:lnTo>
                    <a:pt x="879" y="1786"/>
                  </a:lnTo>
                  <a:lnTo>
                    <a:pt x="879" y="1778"/>
                  </a:lnTo>
                  <a:lnTo>
                    <a:pt x="893" y="1778"/>
                  </a:lnTo>
                  <a:lnTo>
                    <a:pt x="893" y="1773"/>
                  </a:lnTo>
                  <a:lnTo>
                    <a:pt x="899" y="1773"/>
                  </a:lnTo>
                  <a:lnTo>
                    <a:pt x="899" y="1767"/>
                  </a:lnTo>
                  <a:lnTo>
                    <a:pt x="909" y="1767"/>
                  </a:lnTo>
                  <a:lnTo>
                    <a:pt x="909" y="1761"/>
                  </a:lnTo>
                  <a:lnTo>
                    <a:pt x="928" y="1761"/>
                  </a:lnTo>
                  <a:lnTo>
                    <a:pt x="928" y="1755"/>
                  </a:lnTo>
                  <a:lnTo>
                    <a:pt x="937" y="1755"/>
                  </a:lnTo>
                  <a:lnTo>
                    <a:pt x="937" y="1750"/>
                  </a:lnTo>
                  <a:lnTo>
                    <a:pt x="942" y="1750"/>
                  </a:lnTo>
                  <a:lnTo>
                    <a:pt x="942" y="1745"/>
                  </a:lnTo>
                  <a:lnTo>
                    <a:pt x="950" y="1745"/>
                  </a:lnTo>
                  <a:lnTo>
                    <a:pt x="950" y="1737"/>
                  </a:lnTo>
                  <a:lnTo>
                    <a:pt x="960" y="1737"/>
                  </a:lnTo>
                  <a:lnTo>
                    <a:pt x="960" y="1732"/>
                  </a:lnTo>
                  <a:lnTo>
                    <a:pt x="970" y="1732"/>
                  </a:lnTo>
                  <a:lnTo>
                    <a:pt x="970" y="1726"/>
                  </a:lnTo>
                  <a:lnTo>
                    <a:pt x="985" y="1726"/>
                  </a:lnTo>
                  <a:lnTo>
                    <a:pt x="985" y="1720"/>
                  </a:lnTo>
                  <a:lnTo>
                    <a:pt x="994" y="1720"/>
                  </a:lnTo>
                  <a:lnTo>
                    <a:pt x="994" y="1715"/>
                  </a:lnTo>
                  <a:lnTo>
                    <a:pt x="1004" y="1715"/>
                  </a:lnTo>
                  <a:lnTo>
                    <a:pt x="1004" y="1708"/>
                  </a:lnTo>
                  <a:lnTo>
                    <a:pt x="1009" y="1708"/>
                  </a:lnTo>
                  <a:lnTo>
                    <a:pt x="1009" y="1702"/>
                  </a:lnTo>
                  <a:lnTo>
                    <a:pt x="1013" y="1702"/>
                  </a:lnTo>
                  <a:lnTo>
                    <a:pt x="1013" y="1696"/>
                  </a:lnTo>
                  <a:lnTo>
                    <a:pt x="1023" y="1696"/>
                  </a:lnTo>
                  <a:lnTo>
                    <a:pt x="1023" y="1691"/>
                  </a:lnTo>
                  <a:lnTo>
                    <a:pt x="1032" y="1691"/>
                  </a:lnTo>
                  <a:lnTo>
                    <a:pt x="1032" y="1685"/>
                  </a:lnTo>
                  <a:lnTo>
                    <a:pt x="1042" y="1685"/>
                  </a:lnTo>
                  <a:lnTo>
                    <a:pt x="1042" y="1678"/>
                  </a:lnTo>
                  <a:lnTo>
                    <a:pt x="1047" y="1678"/>
                  </a:lnTo>
                  <a:lnTo>
                    <a:pt x="1047" y="1673"/>
                  </a:lnTo>
                  <a:lnTo>
                    <a:pt x="1057" y="1673"/>
                  </a:lnTo>
                  <a:lnTo>
                    <a:pt x="1057" y="1667"/>
                  </a:lnTo>
                  <a:lnTo>
                    <a:pt x="1067" y="1667"/>
                  </a:lnTo>
                  <a:lnTo>
                    <a:pt x="1067" y="1661"/>
                  </a:lnTo>
                  <a:lnTo>
                    <a:pt x="1076" y="1661"/>
                  </a:lnTo>
                  <a:lnTo>
                    <a:pt x="1076" y="1655"/>
                  </a:lnTo>
                  <a:lnTo>
                    <a:pt x="1081" y="1655"/>
                  </a:lnTo>
                  <a:lnTo>
                    <a:pt x="1081" y="1650"/>
                  </a:lnTo>
                  <a:lnTo>
                    <a:pt x="1090" y="1650"/>
                  </a:lnTo>
                  <a:lnTo>
                    <a:pt x="1090" y="1642"/>
                  </a:lnTo>
                  <a:lnTo>
                    <a:pt x="1100" y="1642"/>
                  </a:lnTo>
                  <a:lnTo>
                    <a:pt x="1100" y="1637"/>
                  </a:lnTo>
                  <a:lnTo>
                    <a:pt x="1109" y="1637"/>
                  </a:lnTo>
                  <a:lnTo>
                    <a:pt x="1109" y="1632"/>
                  </a:lnTo>
                  <a:lnTo>
                    <a:pt x="1124" y="1632"/>
                  </a:lnTo>
                  <a:lnTo>
                    <a:pt x="1124" y="1626"/>
                  </a:lnTo>
                  <a:lnTo>
                    <a:pt x="1134" y="1626"/>
                  </a:lnTo>
                  <a:lnTo>
                    <a:pt x="1134" y="1620"/>
                  </a:lnTo>
                  <a:lnTo>
                    <a:pt x="1143" y="1620"/>
                  </a:lnTo>
                  <a:lnTo>
                    <a:pt x="1143" y="1614"/>
                  </a:lnTo>
                  <a:lnTo>
                    <a:pt x="1157" y="1614"/>
                  </a:lnTo>
                  <a:lnTo>
                    <a:pt x="1157" y="1609"/>
                  </a:lnTo>
                  <a:lnTo>
                    <a:pt x="1167" y="1609"/>
                  </a:lnTo>
                  <a:lnTo>
                    <a:pt x="1167" y="1601"/>
                  </a:lnTo>
                  <a:lnTo>
                    <a:pt x="1177" y="1601"/>
                  </a:lnTo>
                  <a:lnTo>
                    <a:pt x="1177" y="1596"/>
                  </a:lnTo>
                  <a:lnTo>
                    <a:pt x="1191" y="1596"/>
                  </a:lnTo>
                  <a:lnTo>
                    <a:pt x="1191" y="1590"/>
                  </a:lnTo>
                  <a:lnTo>
                    <a:pt x="1201" y="1590"/>
                  </a:lnTo>
                  <a:lnTo>
                    <a:pt x="1201" y="1584"/>
                  </a:lnTo>
                  <a:lnTo>
                    <a:pt x="1211" y="1584"/>
                  </a:lnTo>
                  <a:lnTo>
                    <a:pt x="1211" y="1579"/>
                  </a:lnTo>
                  <a:lnTo>
                    <a:pt x="1220" y="1579"/>
                  </a:lnTo>
                  <a:lnTo>
                    <a:pt x="1220" y="1572"/>
                  </a:lnTo>
                  <a:lnTo>
                    <a:pt x="1225" y="1572"/>
                  </a:lnTo>
                  <a:lnTo>
                    <a:pt x="1225" y="1566"/>
                  </a:lnTo>
                  <a:lnTo>
                    <a:pt x="1239" y="1566"/>
                  </a:lnTo>
                  <a:lnTo>
                    <a:pt x="1239" y="1560"/>
                  </a:lnTo>
                  <a:lnTo>
                    <a:pt x="1249" y="1560"/>
                  </a:lnTo>
                  <a:lnTo>
                    <a:pt x="1249" y="1555"/>
                  </a:lnTo>
                  <a:lnTo>
                    <a:pt x="1253" y="1555"/>
                  </a:lnTo>
                  <a:lnTo>
                    <a:pt x="1253" y="1549"/>
                  </a:lnTo>
                  <a:lnTo>
                    <a:pt x="1264" y="1549"/>
                  </a:lnTo>
                  <a:lnTo>
                    <a:pt x="1264" y="1536"/>
                  </a:lnTo>
                  <a:lnTo>
                    <a:pt x="1269" y="1536"/>
                  </a:lnTo>
                  <a:lnTo>
                    <a:pt x="1269" y="1531"/>
                  </a:lnTo>
                  <a:lnTo>
                    <a:pt x="1278" y="1531"/>
                  </a:lnTo>
                  <a:lnTo>
                    <a:pt x="1278" y="1525"/>
                  </a:lnTo>
                  <a:lnTo>
                    <a:pt x="1283" y="1525"/>
                  </a:lnTo>
                  <a:lnTo>
                    <a:pt x="1283" y="1519"/>
                  </a:lnTo>
                  <a:lnTo>
                    <a:pt x="1287" y="1519"/>
                  </a:lnTo>
                  <a:lnTo>
                    <a:pt x="1287" y="1514"/>
                  </a:lnTo>
                  <a:lnTo>
                    <a:pt x="1297" y="1514"/>
                  </a:lnTo>
                  <a:lnTo>
                    <a:pt x="1297" y="1508"/>
                  </a:lnTo>
                  <a:lnTo>
                    <a:pt x="1301" y="1508"/>
                  </a:lnTo>
                  <a:lnTo>
                    <a:pt x="1301" y="1501"/>
                  </a:lnTo>
                  <a:lnTo>
                    <a:pt x="1307" y="1501"/>
                  </a:lnTo>
                  <a:lnTo>
                    <a:pt x="1307" y="1495"/>
                  </a:lnTo>
                  <a:lnTo>
                    <a:pt x="1311" y="1495"/>
                  </a:lnTo>
                  <a:lnTo>
                    <a:pt x="1311" y="1490"/>
                  </a:lnTo>
                  <a:lnTo>
                    <a:pt x="1321" y="1490"/>
                  </a:lnTo>
                  <a:lnTo>
                    <a:pt x="1321" y="1483"/>
                  </a:lnTo>
                  <a:lnTo>
                    <a:pt x="1325" y="1483"/>
                  </a:lnTo>
                  <a:lnTo>
                    <a:pt x="1325" y="1465"/>
                  </a:lnTo>
                  <a:lnTo>
                    <a:pt x="1330" y="1465"/>
                  </a:lnTo>
                  <a:lnTo>
                    <a:pt x="1330" y="1430"/>
                  </a:lnTo>
                  <a:lnTo>
                    <a:pt x="1325" y="1430"/>
                  </a:lnTo>
                  <a:lnTo>
                    <a:pt x="1325" y="1413"/>
                  </a:lnTo>
                  <a:lnTo>
                    <a:pt x="1321" y="1413"/>
                  </a:lnTo>
                  <a:lnTo>
                    <a:pt x="1321" y="1400"/>
                  </a:lnTo>
                  <a:lnTo>
                    <a:pt x="1316" y="1400"/>
                  </a:lnTo>
                  <a:lnTo>
                    <a:pt x="1316" y="1389"/>
                  </a:lnTo>
                  <a:lnTo>
                    <a:pt x="1311" y="1389"/>
                  </a:lnTo>
                  <a:lnTo>
                    <a:pt x="1311" y="1371"/>
                  </a:lnTo>
                  <a:lnTo>
                    <a:pt x="1307" y="1371"/>
                  </a:lnTo>
                  <a:lnTo>
                    <a:pt x="1307" y="1335"/>
                  </a:lnTo>
                  <a:lnTo>
                    <a:pt x="1301" y="1335"/>
                  </a:lnTo>
                  <a:lnTo>
                    <a:pt x="1301" y="1318"/>
                  </a:lnTo>
                  <a:lnTo>
                    <a:pt x="1297" y="1318"/>
                  </a:lnTo>
                  <a:lnTo>
                    <a:pt x="1297" y="1305"/>
                  </a:lnTo>
                  <a:lnTo>
                    <a:pt x="1293" y="1305"/>
                  </a:lnTo>
                  <a:lnTo>
                    <a:pt x="1293" y="1288"/>
                  </a:lnTo>
                  <a:lnTo>
                    <a:pt x="1287" y="1288"/>
                  </a:lnTo>
                  <a:lnTo>
                    <a:pt x="1287" y="1283"/>
                  </a:lnTo>
                  <a:lnTo>
                    <a:pt x="1283" y="1283"/>
                  </a:lnTo>
                  <a:lnTo>
                    <a:pt x="1283" y="1265"/>
                  </a:lnTo>
                  <a:lnTo>
                    <a:pt x="1278" y="1265"/>
                  </a:lnTo>
                  <a:lnTo>
                    <a:pt x="1278" y="1254"/>
                  </a:lnTo>
                  <a:lnTo>
                    <a:pt x="1273" y="1254"/>
                  </a:lnTo>
                  <a:lnTo>
                    <a:pt x="1273" y="1247"/>
                  </a:lnTo>
                  <a:lnTo>
                    <a:pt x="1269" y="1247"/>
                  </a:lnTo>
                  <a:lnTo>
                    <a:pt x="1269" y="1229"/>
                  </a:lnTo>
                  <a:lnTo>
                    <a:pt x="1264" y="1229"/>
                  </a:lnTo>
                  <a:lnTo>
                    <a:pt x="1264" y="1218"/>
                  </a:lnTo>
                  <a:lnTo>
                    <a:pt x="1259" y="1218"/>
                  </a:lnTo>
                  <a:lnTo>
                    <a:pt x="1259" y="1206"/>
                  </a:lnTo>
                  <a:lnTo>
                    <a:pt x="1253" y="1206"/>
                  </a:lnTo>
                  <a:lnTo>
                    <a:pt x="1253" y="1188"/>
                  </a:lnTo>
                  <a:lnTo>
                    <a:pt x="1249" y="1188"/>
                  </a:lnTo>
                  <a:lnTo>
                    <a:pt x="1249" y="1182"/>
                  </a:lnTo>
                  <a:lnTo>
                    <a:pt x="1244" y="1182"/>
                  </a:lnTo>
                  <a:lnTo>
                    <a:pt x="1244" y="1169"/>
                  </a:lnTo>
                  <a:lnTo>
                    <a:pt x="1239" y="1169"/>
                  </a:lnTo>
                  <a:lnTo>
                    <a:pt x="1239" y="1159"/>
                  </a:lnTo>
                  <a:lnTo>
                    <a:pt x="1234" y="1159"/>
                  </a:lnTo>
                  <a:lnTo>
                    <a:pt x="1234" y="1153"/>
                  </a:lnTo>
                  <a:lnTo>
                    <a:pt x="1230" y="1153"/>
                  </a:lnTo>
                  <a:lnTo>
                    <a:pt x="1230" y="1136"/>
                  </a:lnTo>
                  <a:lnTo>
                    <a:pt x="1225" y="1136"/>
                  </a:lnTo>
                  <a:lnTo>
                    <a:pt x="1225" y="1128"/>
                  </a:lnTo>
                  <a:lnTo>
                    <a:pt x="1220" y="1128"/>
                  </a:lnTo>
                  <a:lnTo>
                    <a:pt x="1220" y="1123"/>
                  </a:lnTo>
                  <a:lnTo>
                    <a:pt x="1216" y="1123"/>
                  </a:lnTo>
                  <a:lnTo>
                    <a:pt x="1216" y="1111"/>
                  </a:lnTo>
                  <a:lnTo>
                    <a:pt x="1211" y="1111"/>
                  </a:lnTo>
                  <a:lnTo>
                    <a:pt x="1211" y="1106"/>
                  </a:lnTo>
                  <a:lnTo>
                    <a:pt x="1206" y="1106"/>
                  </a:lnTo>
                  <a:lnTo>
                    <a:pt x="1206" y="1099"/>
                  </a:lnTo>
                  <a:lnTo>
                    <a:pt x="1201" y="1099"/>
                  </a:lnTo>
                  <a:lnTo>
                    <a:pt x="1201" y="1082"/>
                  </a:lnTo>
                  <a:lnTo>
                    <a:pt x="1197" y="1082"/>
                  </a:lnTo>
                  <a:lnTo>
                    <a:pt x="1197" y="1076"/>
                  </a:lnTo>
                  <a:lnTo>
                    <a:pt x="1191" y="1076"/>
                  </a:lnTo>
                  <a:lnTo>
                    <a:pt x="1191" y="1070"/>
                  </a:lnTo>
                  <a:lnTo>
                    <a:pt x="1186" y="1070"/>
                  </a:lnTo>
                  <a:lnTo>
                    <a:pt x="1186" y="1063"/>
                  </a:lnTo>
                  <a:lnTo>
                    <a:pt x="1182" y="1063"/>
                  </a:lnTo>
                  <a:lnTo>
                    <a:pt x="1182" y="1052"/>
                  </a:lnTo>
                  <a:lnTo>
                    <a:pt x="1177" y="1052"/>
                  </a:lnTo>
                  <a:lnTo>
                    <a:pt x="1177" y="1041"/>
                  </a:lnTo>
                  <a:lnTo>
                    <a:pt x="1172" y="1041"/>
                  </a:lnTo>
                  <a:lnTo>
                    <a:pt x="1172" y="1028"/>
                  </a:lnTo>
                  <a:lnTo>
                    <a:pt x="1167" y="1028"/>
                  </a:lnTo>
                  <a:lnTo>
                    <a:pt x="1167" y="1022"/>
                  </a:lnTo>
                  <a:lnTo>
                    <a:pt x="1163" y="1022"/>
                  </a:lnTo>
                  <a:lnTo>
                    <a:pt x="1163" y="1011"/>
                  </a:lnTo>
                  <a:lnTo>
                    <a:pt x="1157" y="1011"/>
                  </a:lnTo>
                  <a:lnTo>
                    <a:pt x="1157" y="1000"/>
                  </a:lnTo>
                  <a:lnTo>
                    <a:pt x="1153" y="1000"/>
                  </a:lnTo>
                  <a:lnTo>
                    <a:pt x="1153" y="987"/>
                  </a:lnTo>
                  <a:lnTo>
                    <a:pt x="1148" y="987"/>
                  </a:lnTo>
                  <a:lnTo>
                    <a:pt x="1148" y="976"/>
                  </a:lnTo>
                  <a:lnTo>
                    <a:pt x="1143" y="976"/>
                  </a:lnTo>
                  <a:lnTo>
                    <a:pt x="1143" y="963"/>
                  </a:lnTo>
                  <a:lnTo>
                    <a:pt x="1139" y="963"/>
                  </a:lnTo>
                  <a:lnTo>
                    <a:pt x="1139" y="951"/>
                  </a:lnTo>
                  <a:lnTo>
                    <a:pt x="1134" y="951"/>
                  </a:lnTo>
                  <a:lnTo>
                    <a:pt x="1134" y="940"/>
                  </a:lnTo>
                  <a:lnTo>
                    <a:pt x="1129" y="940"/>
                  </a:lnTo>
                  <a:lnTo>
                    <a:pt x="1129" y="933"/>
                  </a:lnTo>
                  <a:lnTo>
                    <a:pt x="1124" y="933"/>
                  </a:lnTo>
                  <a:lnTo>
                    <a:pt x="1124" y="922"/>
                  </a:lnTo>
                  <a:lnTo>
                    <a:pt x="1120" y="922"/>
                  </a:lnTo>
                  <a:lnTo>
                    <a:pt x="1120" y="910"/>
                  </a:lnTo>
                  <a:lnTo>
                    <a:pt x="1114" y="910"/>
                  </a:lnTo>
                  <a:lnTo>
                    <a:pt x="1114" y="892"/>
                  </a:lnTo>
                  <a:lnTo>
                    <a:pt x="1109" y="892"/>
                  </a:lnTo>
                  <a:lnTo>
                    <a:pt x="1109" y="881"/>
                  </a:lnTo>
                  <a:lnTo>
                    <a:pt x="1105" y="881"/>
                  </a:lnTo>
                  <a:lnTo>
                    <a:pt x="1105" y="869"/>
                  </a:lnTo>
                  <a:lnTo>
                    <a:pt x="1100" y="869"/>
                  </a:lnTo>
                  <a:lnTo>
                    <a:pt x="1100" y="864"/>
                  </a:lnTo>
                  <a:lnTo>
                    <a:pt x="1095" y="864"/>
                  </a:lnTo>
                  <a:lnTo>
                    <a:pt x="1095" y="851"/>
                  </a:lnTo>
                  <a:lnTo>
                    <a:pt x="1090" y="851"/>
                  </a:lnTo>
                  <a:lnTo>
                    <a:pt x="1090" y="840"/>
                  </a:lnTo>
                  <a:lnTo>
                    <a:pt x="1086" y="840"/>
                  </a:lnTo>
                  <a:lnTo>
                    <a:pt x="1086" y="827"/>
                  </a:lnTo>
                  <a:lnTo>
                    <a:pt x="1081" y="827"/>
                  </a:lnTo>
                  <a:lnTo>
                    <a:pt x="1081" y="815"/>
                  </a:lnTo>
                  <a:lnTo>
                    <a:pt x="1076" y="815"/>
                  </a:lnTo>
                  <a:lnTo>
                    <a:pt x="1076" y="810"/>
                  </a:lnTo>
                  <a:lnTo>
                    <a:pt x="1071" y="810"/>
                  </a:lnTo>
                  <a:lnTo>
                    <a:pt x="1071" y="799"/>
                  </a:lnTo>
                  <a:lnTo>
                    <a:pt x="1067" y="799"/>
                  </a:lnTo>
                  <a:lnTo>
                    <a:pt x="1067" y="792"/>
                  </a:lnTo>
                  <a:lnTo>
                    <a:pt x="1062" y="792"/>
                  </a:lnTo>
                  <a:lnTo>
                    <a:pt x="1062" y="786"/>
                  </a:lnTo>
                  <a:lnTo>
                    <a:pt x="1057" y="786"/>
                  </a:lnTo>
                  <a:lnTo>
                    <a:pt x="1057" y="774"/>
                  </a:lnTo>
                  <a:lnTo>
                    <a:pt x="1053" y="774"/>
                  </a:lnTo>
                  <a:lnTo>
                    <a:pt x="1053" y="763"/>
                  </a:lnTo>
                  <a:lnTo>
                    <a:pt x="1047" y="763"/>
                  </a:lnTo>
                  <a:lnTo>
                    <a:pt x="1047" y="756"/>
                  </a:lnTo>
                  <a:lnTo>
                    <a:pt x="1042" y="756"/>
                  </a:lnTo>
                  <a:lnTo>
                    <a:pt x="1042" y="750"/>
                  </a:lnTo>
                  <a:lnTo>
                    <a:pt x="1037" y="750"/>
                  </a:lnTo>
                  <a:lnTo>
                    <a:pt x="1037" y="745"/>
                  </a:lnTo>
                  <a:lnTo>
                    <a:pt x="1032" y="745"/>
                  </a:lnTo>
                  <a:lnTo>
                    <a:pt x="1032" y="733"/>
                  </a:lnTo>
                  <a:lnTo>
                    <a:pt x="1027" y="733"/>
                  </a:lnTo>
                  <a:lnTo>
                    <a:pt x="1027" y="728"/>
                  </a:lnTo>
                  <a:lnTo>
                    <a:pt x="1023" y="728"/>
                  </a:lnTo>
                  <a:lnTo>
                    <a:pt x="1023" y="721"/>
                  </a:lnTo>
                  <a:lnTo>
                    <a:pt x="1019" y="721"/>
                  </a:lnTo>
                  <a:lnTo>
                    <a:pt x="1019" y="715"/>
                  </a:lnTo>
                  <a:lnTo>
                    <a:pt x="1013" y="715"/>
                  </a:lnTo>
                  <a:lnTo>
                    <a:pt x="1013" y="709"/>
                  </a:lnTo>
                  <a:lnTo>
                    <a:pt x="1009" y="709"/>
                  </a:lnTo>
                  <a:lnTo>
                    <a:pt x="1009" y="704"/>
                  </a:lnTo>
                  <a:lnTo>
                    <a:pt x="1004" y="704"/>
                  </a:lnTo>
                  <a:lnTo>
                    <a:pt x="1004" y="696"/>
                  </a:lnTo>
                  <a:lnTo>
                    <a:pt x="999" y="696"/>
                  </a:lnTo>
                  <a:lnTo>
                    <a:pt x="999" y="691"/>
                  </a:lnTo>
                  <a:lnTo>
                    <a:pt x="994" y="691"/>
                  </a:lnTo>
                  <a:lnTo>
                    <a:pt x="994" y="680"/>
                  </a:lnTo>
                  <a:lnTo>
                    <a:pt x="990" y="680"/>
                  </a:lnTo>
                  <a:lnTo>
                    <a:pt x="990" y="668"/>
                  </a:lnTo>
                  <a:lnTo>
                    <a:pt x="985" y="668"/>
                  </a:lnTo>
                  <a:lnTo>
                    <a:pt x="985" y="663"/>
                  </a:lnTo>
                  <a:lnTo>
                    <a:pt x="980" y="663"/>
                  </a:lnTo>
                  <a:lnTo>
                    <a:pt x="980" y="655"/>
                  </a:lnTo>
                  <a:lnTo>
                    <a:pt x="976" y="655"/>
                  </a:lnTo>
                  <a:lnTo>
                    <a:pt x="976" y="645"/>
                  </a:lnTo>
                  <a:lnTo>
                    <a:pt x="970" y="645"/>
                  </a:lnTo>
                  <a:lnTo>
                    <a:pt x="970" y="627"/>
                  </a:lnTo>
                  <a:lnTo>
                    <a:pt x="965" y="627"/>
                  </a:lnTo>
                  <a:lnTo>
                    <a:pt x="965" y="622"/>
                  </a:lnTo>
                  <a:lnTo>
                    <a:pt x="960" y="622"/>
                  </a:lnTo>
                  <a:lnTo>
                    <a:pt x="960" y="614"/>
                  </a:lnTo>
                  <a:lnTo>
                    <a:pt x="956" y="614"/>
                  </a:lnTo>
                  <a:lnTo>
                    <a:pt x="956" y="609"/>
                  </a:lnTo>
                  <a:lnTo>
                    <a:pt x="950" y="609"/>
                  </a:lnTo>
                  <a:lnTo>
                    <a:pt x="950" y="597"/>
                  </a:lnTo>
                  <a:lnTo>
                    <a:pt x="946" y="597"/>
                  </a:lnTo>
                  <a:lnTo>
                    <a:pt x="946" y="592"/>
                  </a:lnTo>
                  <a:lnTo>
                    <a:pt x="942" y="592"/>
                  </a:lnTo>
                  <a:lnTo>
                    <a:pt x="942" y="579"/>
                  </a:lnTo>
                  <a:lnTo>
                    <a:pt x="937" y="579"/>
                  </a:lnTo>
                  <a:lnTo>
                    <a:pt x="937" y="573"/>
                  </a:lnTo>
                  <a:lnTo>
                    <a:pt x="932" y="573"/>
                  </a:lnTo>
                  <a:lnTo>
                    <a:pt x="932" y="562"/>
                  </a:lnTo>
                  <a:lnTo>
                    <a:pt x="928" y="562"/>
                  </a:lnTo>
                  <a:lnTo>
                    <a:pt x="928" y="555"/>
                  </a:lnTo>
                  <a:lnTo>
                    <a:pt x="923" y="555"/>
                  </a:lnTo>
                  <a:lnTo>
                    <a:pt x="923" y="549"/>
                  </a:lnTo>
                  <a:lnTo>
                    <a:pt x="918" y="549"/>
                  </a:lnTo>
                  <a:lnTo>
                    <a:pt x="918" y="538"/>
                  </a:lnTo>
                  <a:lnTo>
                    <a:pt x="913" y="538"/>
                  </a:lnTo>
                  <a:lnTo>
                    <a:pt x="913" y="532"/>
                  </a:lnTo>
                  <a:lnTo>
                    <a:pt x="909" y="532"/>
                  </a:lnTo>
                  <a:lnTo>
                    <a:pt x="909" y="514"/>
                  </a:lnTo>
                  <a:lnTo>
                    <a:pt x="903" y="514"/>
                  </a:lnTo>
                  <a:lnTo>
                    <a:pt x="903" y="508"/>
                  </a:lnTo>
                  <a:lnTo>
                    <a:pt x="899" y="508"/>
                  </a:lnTo>
                  <a:lnTo>
                    <a:pt x="899" y="495"/>
                  </a:lnTo>
                  <a:lnTo>
                    <a:pt x="893" y="495"/>
                  </a:lnTo>
                  <a:lnTo>
                    <a:pt x="893" y="491"/>
                  </a:lnTo>
                  <a:lnTo>
                    <a:pt x="888" y="491"/>
                  </a:lnTo>
                  <a:lnTo>
                    <a:pt x="888" y="486"/>
                  </a:lnTo>
                  <a:lnTo>
                    <a:pt x="884" y="486"/>
                  </a:lnTo>
                  <a:lnTo>
                    <a:pt x="884" y="478"/>
                  </a:lnTo>
                  <a:lnTo>
                    <a:pt x="879" y="478"/>
                  </a:lnTo>
                  <a:lnTo>
                    <a:pt x="879" y="473"/>
                  </a:lnTo>
                  <a:lnTo>
                    <a:pt x="875" y="473"/>
                  </a:lnTo>
                  <a:lnTo>
                    <a:pt x="875" y="454"/>
                  </a:lnTo>
                  <a:lnTo>
                    <a:pt x="869" y="454"/>
                  </a:lnTo>
                  <a:lnTo>
                    <a:pt x="869" y="443"/>
                  </a:lnTo>
                  <a:lnTo>
                    <a:pt x="865" y="443"/>
                  </a:lnTo>
                  <a:lnTo>
                    <a:pt x="865" y="432"/>
                  </a:lnTo>
                  <a:lnTo>
                    <a:pt x="860" y="432"/>
                  </a:lnTo>
                  <a:lnTo>
                    <a:pt x="860" y="427"/>
                  </a:lnTo>
                  <a:lnTo>
                    <a:pt x="855" y="427"/>
                  </a:lnTo>
                  <a:lnTo>
                    <a:pt x="855" y="414"/>
                  </a:lnTo>
                  <a:lnTo>
                    <a:pt x="850" y="414"/>
                  </a:lnTo>
                  <a:lnTo>
                    <a:pt x="850" y="396"/>
                  </a:lnTo>
                  <a:lnTo>
                    <a:pt x="846" y="396"/>
                  </a:lnTo>
                  <a:lnTo>
                    <a:pt x="846" y="391"/>
                  </a:lnTo>
                  <a:lnTo>
                    <a:pt x="841" y="391"/>
                  </a:lnTo>
                  <a:lnTo>
                    <a:pt x="841" y="378"/>
                  </a:lnTo>
                  <a:lnTo>
                    <a:pt x="836" y="378"/>
                  </a:lnTo>
                  <a:lnTo>
                    <a:pt x="836" y="373"/>
                  </a:lnTo>
                  <a:lnTo>
                    <a:pt x="832" y="373"/>
                  </a:lnTo>
                  <a:lnTo>
                    <a:pt x="832" y="367"/>
                  </a:lnTo>
                  <a:lnTo>
                    <a:pt x="827" y="367"/>
                  </a:lnTo>
                  <a:lnTo>
                    <a:pt x="827" y="350"/>
                  </a:lnTo>
                  <a:lnTo>
                    <a:pt x="821" y="350"/>
                  </a:lnTo>
                  <a:lnTo>
                    <a:pt x="821" y="342"/>
                  </a:lnTo>
                  <a:lnTo>
                    <a:pt x="816" y="342"/>
                  </a:lnTo>
                  <a:lnTo>
                    <a:pt x="816" y="331"/>
                  </a:lnTo>
                  <a:lnTo>
                    <a:pt x="812" y="331"/>
                  </a:lnTo>
                  <a:lnTo>
                    <a:pt x="812" y="320"/>
                  </a:lnTo>
                  <a:lnTo>
                    <a:pt x="807" y="320"/>
                  </a:lnTo>
                  <a:lnTo>
                    <a:pt x="807" y="308"/>
                  </a:lnTo>
                  <a:lnTo>
                    <a:pt x="802" y="308"/>
                  </a:lnTo>
                  <a:lnTo>
                    <a:pt x="802" y="296"/>
                  </a:lnTo>
                  <a:lnTo>
                    <a:pt x="798" y="296"/>
                  </a:lnTo>
                  <a:lnTo>
                    <a:pt x="798" y="283"/>
                  </a:lnTo>
                  <a:lnTo>
                    <a:pt x="793" y="283"/>
                  </a:lnTo>
                  <a:lnTo>
                    <a:pt x="793" y="278"/>
                  </a:lnTo>
                  <a:lnTo>
                    <a:pt x="788" y="278"/>
                  </a:lnTo>
                  <a:lnTo>
                    <a:pt x="788" y="266"/>
                  </a:lnTo>
                  <a:lnTo>
                    <a:pt x="783" y="266"/>
                  </a:lnTo>
                  <a:lnTo>
                    <a:pt x="783" y="260"/>
                  </a:lnTo>
                  <a:lnTo>
                    <a:pt x="779" y="260"/>
                  </a:lnTo>
                  <a:lnTo>
                    <a:pt x="779" y="255"/>
                  </a:lnTo>
                  <a:lnTo>
                    <a:pt x="773" y="255"/>
                  </a:lnTo>
                  <a:lnTo>
                    <a:pt x="773" y="242"/>
                  </a:lnTo>
                  <a:lnTo>
                    <a:pt x="769" y="242"/>
                  </a:lnTo>
                  <a:lnTo>
                    <a:pt x="769" y="231"/>
                  </a:lnTo>
                  <a:lnTo>
                    <a:pt x="765" y="231"/>
                  </a:lnTo>
                  <a:lnTo>
                    <a:pt x="765" y="218"/>
                  </a:lnTo>
                  <a:lnTo>
                    <a:pt x="759" y="218"/>
                  </a:lnTo>
                  <a:lnTo>
                    <a:pt x="759" y="213"/>
                  </a:lnTo>
                  <a:lnTo>
                    <a:pt x="755" y="213"/>
                  </a:lnTo>
                  <a:lnTo>
                    <a:pt x="755" y="207"/>
                  </a:lnTo>
                  <a:lnTo>
                    <a:pt x="749" y="207"/>
                  </a:lnTo>
                  <a:lnTo>
                    <a:pt x="749" y="201"/>
                  </a:lnTo>
                  <a:lnTo>
                    <a:pt x="744" y="201"/>
                  </a:lnTo>
                  <a:lnTo>
                    <a:pt x="744" y="195"/>
                  </a:lnTo>
                  <a:lnTo>
                    <a:pt x="739" y="195"/>
                  </a:lnTo>
                  <a:lnTo>
                    <a:pt x="739" y="182"/>
                  </a:lnTo>
                  <a:lnTo>
                    <a:pt x="735" y="182"/>
                  </a:lnTo>
                  <a:lnTo>
                    <a:pt x="735" y="172"/>
                  </a:lnTo>
                  <a:lnTo>
                    <a:pt x="730" y="172"/>
                  </a:lnTo>
                  <a:lnTo>
                    <a:pt x="730" y="165"/>
                  </a:lnTo>
                  <a:lnTo>
                    <a:pt x="725" y="165"/>
                  </a:lnTo>
                  <a:lnTo>
                    <a:pt x="725" y="160"/>
                  </a:lnTo>
                  <a:lnTo>
                    <a:pt x="721" y="160"/>
                  </a:lnTo>
                  <a:lnTo>
                    <a:pt x="721" y="154"/>
                  </a:lnTo>
                  <a:lnTo>
                    <a:pt x="716" y="154"/>
                  </a:lnTo>
                  <a:lnTo>
                    <a:pt x="716" y="141"/>
                  </a:lnTo>
                  <a:lnTo>
                    <a:pt x="711" y="141"/>
                  </a:lnTo>
                  <a:lnTo>
                    <a:pt x="711" y="136"/>
                  </a:lnTo>
                  <a:lnTo>
                    <a:pt x="706" y="136"/>
                  </a:lnTo>
                  <a:lnTo>
                    <a:pt x="706" y="119"/>
                  </a:lnTo>
                  <a:lnTo>
                    <a:pt x="702" y="119"/>
                  </a:lnTo>
                  <a:lnTo>
                    <a:pt x="702" y="112"/>
                  </a:lnTo>
                  <a:lnTo>
                    <a:pt x="697" y="112"/>
                  </a:lnTo>
                  <a:lnTo>
                    <a:pt x="697" y="100"/>
                  </a:lnTo>
                  <a:lnTo>
                    <a:pt x="692" y="100"/>
                  </a:lnTo>
                  <a:lnTo>
                    <a:pt x="692" y="95"/>
                  </a:lnTo>
                  <a:lnTo>
                    <a:pt x="687" y="95"/>
                  </a:lnTo>
                  <a:lnTo>
                    <a:pt x="687" y="82"/>
                  </a:lnTo>
                  <a:lnTo>
                    <a:pt x="683" y="82"/>
                  </a:lnTo>
                  <a:lnTo>
                    <a:pt x="683" y="76"/>
                  </a:lnTo>
                  <a:lnTo>
                    <a:pt x="677" y="76"/>
                  </a:lnTo>
                  <a:lnTo>
                    <a:pt x="677" y="71"/>
                  </a:lnTo>
                  <a:lnTo>
                    <a:pt x="672" y="71"/>
                  </a:lnTo>
                  <a:lnTo>
                    <a:pt x="672" y="65"/>
                  </a:lnTo>
                  <a:lnTo>
                    <a:pt x="668" y="65"/>
                  </a:lnTo>
                  <a:lnTo>
                    <a:pt x="668" y="46"/>
                  </a:lnTo>
                  <a:lnTo>
                    <a:pt x="662" y="46"/>
                  </a:lnTo>
                  <a:lnTo>
                    <a:pt x="662" y="41"/>
                  </a:lnTo>
                  <a:lnTo>
                    <a:pt x="658" y="41"/>
                  </a:lnTo>
                  <a:lnTo>
                    <a:pt x="658" y="30"/>
                  </a:lnTo>
                  <a:lnTo>
                    <a:pt x="662" y="30"/>
                  </a:lnTo>
                  <a:lnTo>
                    <a:pt x="662" y="18"/>
                  </a:lnTo>
                  <a:lnTo>
                    <a:pt x="668" y="18"/>
                  </a:lnTo>
                  <a:lnTo>
                    <a:pt x="668" y="13"/>
                  </a:lnTo>
                  <a:lnTo>
                    <a:pt x="672" y="13"/>
                  </a:lnTo>
                  <a:lnTo>
                    <a:pt x="672" y="6"/>
                  </a:lnTo>
                  <a:lnTo>
                    <a:pt x="677" y="6"/>
                  </a:lnTo>
                  <a:lnTo>
                    <a:pt x="677" y="0"/>
                  </a:lnTo>
                  <a:lnTo>
                    <a:pt x="687" y="0"/>
                  </a:lnTo>
                  <a:lnTo>
                    <a:pt x="687" y="6"/>
                  </a:lnTo>
                  <a:lnTo>
                    <a:pt x="716" y="6"/>
                  </a:lnTo>
                  <a:lnTo>
                    <a:pt x="716" y="13"/>
                  </a:lnTo>
                  <a:lnTo>
                    <a:pt x="721" y="13"/>
                  </a:lnTo>
                  <a:lnTo>
                    <a:pt x="721" y="30"/>
                  </a:lnTo>
                  <a:lnTo>
                    <a:pt x="725" y="30"/>
                  </a:lnTo>
                  <a:lnTo>
                    <a:pt x="725" y="41"/>
                  </a:lnTo>
                  <a:lnTo>
                    <a:pt x="730" y="41"/>
                  </a:lnTo>
                  <a:lnTo>
                    <a:pt x="730" y="46"/>
                  </a:lnTo>
                  <a:lnTo>
                    <a:pt x="735" y="46"/>
                  </a:lnTo>
                  <a:lnTo>
                    <a:pt x="735" y="54"/>
                  </a:lnTo>
                  <a:lnTo>
                    <a:pt x="739" y="54"/>
                  </a:lnTo>
                  <a:lnTo>
                    <a:pt x="739" y="65"/>
                  </a:lnTo>
                  <a:lnTo>
                    <a:pt x="744" y="65"/>
                  </a:lnTo>
                  <a:lnTo>
                    <a:pt x="744" y="76"/>
                  </a:lnTo>
                  <a:lnTo>
                    <a:pt x="749" y="76"/>
                  </a:lnTo>
                  <a:lnTo>
                    <a:pt x="749" y="82"/>
                  </a:lnTo>
                  <a:lnTo>
                    <a:pt x="755" y="82"/>
                  </a:lnTo>
                  <a:lnTo>
                    <a:pt x="755" y="89"/>
                  </a:lnTo>
                  <a:lnTo>
                    <a:pt x="759" y="89"/>
                  </a:lnTo>
                  <a:lnTo>
                    <a:pt x="759" y="100"/>
                  </a:lnTo>
                  <a:lnTo>
                    <a:pt x="765" y="100"/>
                  </a:lnTo>
                  <a:lnTo>
                    <a:pt x="765" y="106"/>
                  </a:lnTo>
                  <a:lnTo>
                    <a:pt x="769" y="106"/>
                  </a:lnTo>
                  <a:lnTo>
                    <a:pt x="769" y="119"/>
                  </a:lnTo>
                  <a:lnTo>
                    <a:pt x="773" y="119"/>
                  </a:lnTo>
                  <a:lnTo>
                    <a:pt x="773" y="124"/>
                  </a:lnTo>
                  <a:lnTo>
                    <a:pt x="779" y="124"/>
                  </a:lnTo>
                  <a:lnTo>
                    <a:pt x="779" y="136"/>
                  </a:lnTo>
                  <a:lnTo>
                    <a:pt x="783" y="136"/>
                  </a:lnTo>
                  <a:lnTo>
                    <a:pt x="783" y="141"/>
                  </a:lnTo>
                  <a:lnTo>
                    <a:pt x="788" y="141"/>
                  </a:lnTo>
                  <a:lnTo>
                    <a:pt x="788" y="154"/>
                  </a:lnTo>
                  <a:lnTo>
                    <a:pt x="793" y="154"/>
                  </a:lnTo>
                  <a:lnTo>
                    <a:pt x="793" y="165"/>
                  </a:lnTo>
                  <a:lnTo>
                    <a:pt x="798" y="165"/>
                  </a:lnTo>
                  <a:lnTo>
                    <a:pt x="798" y="172"/>
                  </a:lnTo>
                  <a:lnTo>
                    <a:pt x="802" y="172"/>
                  </a:lnTo>
                  <a:lnTo>
                    <a:pt x="802" y="182"/>
                  </a:lnTo>
                  <a:lnTo>
                    <a:pt x="807" y="182"/>
                  </a:lnTo>
                  <a:lnTo>
                    <a:pt x="807" y="195"/>
                  </a:lnTo>
                  <a:lnTo>
                    <a:pt x="812" y="195"/>
                  </a:lnTo>
                  <a:lnTo>
                    <a:pt x="812" y="207"/>
                  </a:lnTo>
                  <a:lnTo>
                    <a:pt x="816" y="207"/>
                  </a:lnTo>
                  <a:lnTo>
                    <a:pt x="816" y="218"/>
                  </a:lnTo>
                  <a:lnTo>
                    <a:pt x="821" y="218"/>
                  </a:lnTo>
                  <a:lnTo>
                    <a:pt x="821" y="225"/>
                  </a:lnTo>
                  <a:lnTo>
                    <a:pt x="827" y="225"/>
                  </a:lnTo>
                  <a:lnTo>
                    <a:pt x="827" y="236"/>
                  </a:lnTo>
                  <a:lnTo>
                    <a:pt x="832" y="236"/>
                  </a:lnTo>
                  <a:lnTo>
                    <a:pt x="832" y="242"/>
                  </a:lnTo>
                  <a:lnTo>
                    <a:pt x="836" y="242"/>
                  </a:lnTo>
                  <a:lnTo>
                    <a:pt x="836" y="255"/>
                  </a:lnTo>
                  <a:lnTo>
                    <a:pt x="841" y="255"/>
                  </a:lnTo>
                  <a:lnTo>
                    <a:pt x="841" y="260"/>
                  </a:lnTo>
                  <a:lnTo>
                    <a:pt x="846" y="260"/>
                  </a:lnTo>
                  <a:lnTo>
                    <a:pt x="846" y="272"/>
                  </a:lnTo>
                  <a:lnTo>
                    <a:pt x="850" y="272"/>
                  </a:lnTo>
                  <a:lnTo>
                    <a:pt x="850" y="283"/>
                  </a:lnTo>
                  <a:lnTo>
                    <a:pt x="855" y="283"/>
                  </a:lnTo>
                  <a:lnTo>
                    <a:pt x="855" y="296"/>
                  </a:lnTo>
                  <a:lnTo>
                    <a:pt x="860" y="296"/>
                  </a:lnTo>
                  <a:lnTo>
                    <a:pt x="860" y="301"/>
                  </a:lnTo>
                  <a:lnTo>
                    <a:pt x="865" y="301"/>
                  </a:lnTo>
                  <a:lnTo>
                    <a:pt x="865" y="308"/>
                  </a:lnTo>
                  <a:lnTo>
                    <a:pt x="869" y="308"/>
                  </a:lnTo>
                  <a:lnTo>
                    <a:pt x="869" y="313"/>
                  </a:lnTo>
                  <a:lnTo>
                    <a:pt x="875" y="313"/>
                  </a:lnTo>
                  <a:lnTo>
                    <a:pt x="875" y="320"/>
                  </a:lnTo>
                  <a:lnTo>
                    <a:pt x="879" y="320"/>
                  </a:lnTo>
                  <a:lnTo>
                    <a:pt x="879" y="326"/>
                  </a:lnTo>
                  <a:lnTo>
                    <a:pt x="884" y="326"/>
                  </a:lnTo>
                  <a:lnTo>
                    <a:pt x="884" y="337"/>
                  </a:lnTo>
                  <a:lnTo>
                    <a:pt x="888" y="337"/>
                  </a:lnTo>
                  <a:lnTo>
                    <a:pt x="888" y="342"/>
                  </a:lnTo>
                  <a:lnTo>
                    <a:pt x="893" y="342"/>
                  </a:lnTo>
                  <a:lnTo>
                    <a:pt x="893" y="354"/>
                  </a:lnTo>
                  <a:lnTo>
                    <a:pt x="899" y="354"/>
                  </a:lnTo>
                  <a:lnTo>
                    <a:pt x="899" y="373"/>
                  </a:lnTo>
                  <a:lnTo>
                    <a:pt x="903" y="373"/>
                  </a:lnTo>
                  <a:lnTo>
                    <a:pt x="903" y="384"/>
                  </a:lnTo>
                  <a:lnTo>
                    <a:pt x="909" y="384"/>
                  </a:lnTo>
                  <a:lnTo>
                    <a:pt x="909" y="391"/>
                  </a:lnTo>
                  <a:lnTo>
                    <a:pt x="913" y="391"/>
                  </a:lnTo>
                  <a:lnTo>
                    <a:pt x="913" y="402"/>
                  </a:lnTo>
                  <a:lnTo>
                    <a:pt x="918" y="402"/>
                  </a:lnTo>
                  <a:lnTo>
                    <a:pt x="918" y="414"/>
                  </a:lnTo>
                  <a:lnTo>
                    <a:pt x="923" y="414"/>
                  </a:lnTo>
                  <a:lnTo>
                    <a:pt x="923" y="419"/>
                  </a:lnTo>
                  <a:lnTo>
                    <a:pt x="928" y="419"/>
                  </a:lnTo>
                  <a:lnTo>
                    <a:pt x="928" y="432"/>
                  </a:lnTo>
                  <a:lnTo>
                    <a:pt x="932" y="432"/>
                  </a:lnTo>
                  <a:lnTo>
                    <a:pt x="932" y="437"/>
                  </a:lnTo>
                  <a:lnTo>
                    <a:pt x="937" y="437"/>
                  </a:lnTo>
                  <a:lnTo>
                    <a:pt x="937" y="449"/>
                  </a:lnTo>
                  <a:lnTo>
                    <a:pt x="942" y="449"/>
                  </a:lnTo>
                  <a:lnTo>
                    <a:pt x="942" y="461"/>
                  </a:lnTo>
                  <a:lnTo>
                    <a:pt x="946" y="461"/>
                  </a:lnTo>
                  <a:lnTo>
                    <a:pt x="946" y="473"/>
                  </a:lnTo>
                  <a:lnTo>
                    <a:pt x="950" y="473"/>
                  </a:lnTo>
                  <a:lnTo>
                    <a:pt x="950" y="486"/>
                  </a:lnTo>
                  <a:lnTo>
                    <a:pt x="956" y="486"/>
                  </a:lnTo>
                  <a:lnTo>
                    <a:pt x="956" y="503"/>
                  </a:lnTo>
                  <a:lnTo>
                    <a:pt x="960" y="503"/>
                  </a:lnTo>
                  <a:lnTo>
                    <a:pt x="960" y="508"/>
                  </a:lnTo>
                  <a:lnTo>
                    <a:pt x="965" y="508"/>
                  </a:lnTo>
                  <a:lnTo>
                    <a:pt x="965" y="519"/>
                  </a:lnTo>
                  <a:lnTo>
                    <a:pt x="970" y="519"/>
                  </a:lnTo>
                  <a:lnTo>
                    <a:pt x="970" y="532"/>
                  </a:lnTo>
                  <a:lnTo>
                    <a:pt x="976" y="532"/>
                  </a:lnTo>
                  <a:lnTo>
                    <a:pt x="976" y="538"/>
                  </a:lnTo>
                  <a:lnTo>
                    <a:pt x="980" y="538"/>
                  </a:lnTo>
                  <a:lnTo>
                    <a:pt x="980" y="549"/>
                  </a:lnTo>
                  <a:lnTo>
                    <a:pt x="985" y="549"/>
                  </a:lnTo>
                  <a:lnTo>
                    <a:pt x="985" y="555"/>
                  </a:lnTo>
                  <a:lnTo>
                    <a:pt x="990" y="555"/>
                  </a:lnTo>
                  <a:lnTo>
                    <a:pt x="990" y="562"/>
                  </a:lnTo>
                  <a:lnTo>
                    <a:pt x="994" y="562"/>
                  </a:lnTo>
                  <a:lnTo>
                    <a:pt x="994" y="568"/>
                  </a:lnTo>
                  <a:lnTo>
                    <a:pt x="999" y="568"/>
                  </a:lnTo>
                  <a:lnTo>
                    <a:pt x="999" y="573"/>
                  </a:lnTo>
                  <a:lnTo>
                    <a:pt x="1004" y="573"/>
                  </a:lnTo>
                  <a:lnTo>
                    <a:pt x="1004" y="585"/>
                  </a:lnTo>
                  <a:lnTo>
                    <a:pt x="1009" y="585"/>
                  </a:lnTo>
                  <a:lnTo>
                    <a:pt x="1009" y="592"/>
                  </a:lnTo>
                  <a:lnTo>
                    <a:pt x="1013" y="592"/>
                  </a:lnTo>
                  <a:lnTo>
                    <a:pt x="1013" y="597"/>
                  </a:lnTo>
                  <a:lnTo>
                    <a:pt x="1019" y="597"/>
                  </a:lnTo>
                  <a:lnTo>
                    <a:pt x="1019" y="609"/>
                  </a:lnTo>
                  <a:lnTo>
                    <a:pt x="1023" y="609"/>
                  </a:lnTo>
                  <a:lnTo>
                    <a:pt x="1023" y="614"/>
                  </a:lnTo>
                  <a:lnTo>
                    <a:pt x="1027" y="614"/>
                  </a:lnTo>
                  <a:lnTo>
                    <a:pt x="1027" y="622"/>
                  </a:lnTo>
                  <a:lnTo>
                    <a:pt x="1032" y="622"/>
                  </a:lnTo>
                  <a:lnTo>
                    <a:pt x="1032" y="627"/>
                  </a:lnTo>
                  <a:lnTo>
                    <a:pt x="1037" y="627"/>
                  </a:lnTo>
                  <a:lnTo>
                    <a:pt x="1037" y="633"/>
                  </a:lnTo>
                  <a:lnTo>
                    <a:pt x="1042" y="633"/>
                  </a:lnTo>
                  <a:lnTo>
                    <a:pt x="1042" y="645"/>
                  </a:lnTo>
                  <a:lnTo>
                    <a:pt x="1047" y="645"/>
                  </a:lnTo>
                  <a:lnTo>
                    <a:pt x="1047" y="650"/>
                  </a:lnTo>
                  <a:lnTo>
                    <a:pt x="1053" y="650"/>
                  </a:lnTo>
                  <a:lnTo>
                    <a:pt x="1053" y="663"/>
                  </a:lnTo>
                  <a:lnTo>
                    <a:pt x="1057" y="663"/>
                  </a:lnTo>
                  <a:lnTo>
                    <a:pt x="1057" y="668"/>
                  </a:lnTo>
                  <a:lnTo>
                    <a:pt x="1062" y="668"/>
                  </a:lnTo>
                  <a:lnTo>
                    <a:pt x="1062" y="674"/>
                  </a:lnTo>
                  <a:lnTo>
                    <a:pt x="1067" y="674"/>
                  </a:lnTo>
                  <a:lnTo>
                    <a:pt x="1067" y="686"/>
                  </a:lnTo>
                  <a:lnTo>
                    <a:pt x="1071" y="686"/>
                  </a:lnTo>
                  <a:lnTo>
                    <a:pt x="1071" y="696"/>
                  </a:lnTo>
                  <a:lnTo>
                    <a:pt x="1076" y="696"/>
                  </a:lnTo>
                  <a:lnTo>
                    <a:pt x="1076" y="709"/>
                  </a:lnTo>
                  <a:lnTo>
                    <a:pt x="1081" y="709"/>
                  </a:lnTo>
                  <a:lnTo>
                    <a:pt x="1081" y="715"/>
                  </a:lnTo>
                  <a:lnTo>
                    <a:pt x="1086" y="715"/>
                  </a:lnTo>
                  <a:lnTo>
                    <a:pt x="1086" y="721"/>
                  </a:lnTo>
                  <a:lnTo>
                    <a:pt x="1090" y="721"/>
                  </a:lnTo>
                  <a:lnTo>
                    <a:pt x="1090" y="733"/>
                  </a:lnTo>
                  <a:lnTo>
                    <a:pt x="1095" y="733"/>
                  </a:lnTo>
                  <a:lnTo>
                    <a:pt x="1095" y="739"/>
                  </a:lnTo>
                  <a:lnTo>
                    <a:pt x="1100" y="739"/>
                  </a:lnTo>
                  <a:lnTo>
                    <a:pt x="1100" y="756"/>
                  </a:lnTo>
                  <a:lnTo>
                    <a:pt x="1105" y="756"/>
                  </a:lnTo>
                  <a:lnTo>
                    <a:pt x="1105" y="763"/>
                  </a:lnTo>
                  <a:lnTo>
                    <a:pt x="1109" y="763"/>
                  </a:lnTo>
                  <a:lnTo>
                    <a:pt x="1109" y="769"/>
                  </a:lnTo>
                  <a:lnTo>
                    <a:pt x="1114" y="769"/>
                  </a:lnTo>
                  <a:lnTo>
                    <a:pt x="1114" y="774"/>
                  </a:lnTo>
                  <a:lnTo>
                    <a:pt x="1120" y="774"/>
                  </a:lnTo>
                  <a:lnTo>
                    <a:pt x="1120" y="786"/>
                  </a:lnTo>
                  <a:lnTo>
                    <a:pt x="1124" y="786"/>
                  </a:lnTo>
                  <a:lnTo>
                    <a:pt x="1124" y="799"/>
                  </a:lnTo>
                  <a:lnTo>
                    <a:pt x="1129" y="799"/>
                  </a:lnTo>
                  <a:lnTo>
                    <a:pt x="1129" y="804"/>
                  </a:lnTo>
                  <a:lnTo>
                    <a:pt x="1134" y="804"/>
                  </a:lnTo>
                  <a:lnTo>
                    <a:pt x="1134" y="815"/>
                  </a:lnTo>
                  <a:lnTo>
                    <a:pt x="1139" y="815"/>
                  </a:lnTo>
                  <a:lnTo>
                    <a:pt x="1139" y="827"/>
                  </a:lnTo>
                  <a:lnTo>
                    <a:pt x="1143" y="827"/>
                  </a:lnTo>
                  <a:lnTo>
                    <a:pt x="1143" y="840"/>
                  </a:lnTo>
                  <a:lnTo>
                    <a:pt x="1148" y="840"/>
                  </a:lnTo>
                  <a:lnTo>
                    <a:pt x="1148" y="851"/>
                  </a:lnTo>
                  <a:lnTo>
                    <a:pt x="1153" y="851"/>
                  </a:lnTo>
                  <a:lnTo>
                    <a:pt x="1153" y="864"/>
                  </a:lnTo>
                  <a:lnTo>
                    <a:pt x="1157" y="864"/>
                  </a:lnTo>
                  <a:lnTo>
                    <a:pt x="1157" y="875"/>
                  </a:lnTo>
                  <a:lnTo>
                    <a:pt x="1163" y="875"/>
                  </a:lnTo>
                  <a:lnTo>
                    <a:pt x="1163" y="881"/>
                  </a:lnTo>
                  <a:lnTo>
                    <a:pt x="1167" y="881"/>
                  </a:lnTo>
                  <a:lnTo>
                    <a:pt x="1167" y="899"/>
                  </a:lnTo>
                  <a:lnTo>
                    <a:pt x="1172" y="899"/>
                  </a:lnTo>
                  <a:lnTo>
                    <a:pt x="1172" y="905"/>
                  </a:lnTo>
                  <a:lnTo>
                    <a:pt x="1177" y="905"/>
                  </a:lnTo>
                  <a:lnTo>
                    <a:pt x="1177" y="916"/>
                  </a:lnTo>
                  <a:lnTo>
                    <a:pt x="1182" y="916"/>
                  </a:lnTo>
                  <a:lnTo>
                    <a:pt x="1182" y="922"/>
                  </a:lnTo>
                  <a:lnTo>
                    <a:pt x="1186" y="922"/>
                  </a:lnTo>
                  <a:lnTo>
                    <a:pt x="1186" y="927"/>
                  </a:lnTo>
                  <a:lnTo>
                    <a:pt x="1191" y="927"/>
                  </a:lnTo>
                  <a:lnTo>
                    <a:pt x="1191" y="946"/>
                  </a:lnTo>
                  <a:lnTo>
                    <a:pt x="1197" y="946"/>
                  </a:lnTo>
                  <a:lnTo>
                    <a:pt x="1197" y="958"/>
                  </a:lnTo>
                  <a:lnTo>
                    <a:pt x="1201" y="958"/>
                  </a:lnTo>
                  <a:lnTo>
                    <a:pt x="1201" y="963"/>
                  </a:lnTo>
                  <a:lnTo>
                    <a:pt x="1206" y="963"/>
                  </a:lnTo>
                  <a:lnTo>
                    <a:pt x="1206" y="976"/>
                  </a:lnTo>
                  <a:lnTo>
                    <a:pt x="1211" y="976"/>
                  </a:lnTo>
                  <a:lnTo>
                    <a:pt x="1211" y="987"/>
                  </a:lnTo>
                  <a:lnTo>
                    <a:pt x="1216" y="987"/>
                  </a:lnTo>
                  <a:lnTo>
                    <a:pt x="1216" y="1000"/>
                  </a:lnTo>
                  <a:lnTo>
                    <a:pt x="1220" y="1000"/>
                  </a:lnTo>
                  <a:lnTo>
                    <a:pt x="1220" y="1005"/>
                  </a:lnTo>
                  <a:lnTo>
                    <a:pt x="1225" y="1005"/>
                  </a:lnTo>
                  <a:lnTo>
                    <a:pt x="1225" y="1017"/>
                  </a:lnTo>
                  <a:lnTo>
                    <a:pt x="1230" y="1017"/>
                  </a:lnTo>
                  <a:lnTo>
                    <a:pt x="1230" y="1028"/>
                  </a:lnTo>
                  <a:lnTo>
                    <a:pt x="1234" y="1028"/>
                  </a:lnTo>
                  <a:lnTo>
                    <a:pt x="1234" y="1035"/>
                  </a:lnTo>
                  <a:lnTo>
                    <a:pt x="1239" y="1035"/>
                  </a:lnTo>
                  <a:lnTo>
                    <a:pt x="1239" y="1046"/>
                  </a:lnTo>
                  <a:lnTo>
                    <a:pt x="1244" y="1046"/>
                  </a:lnTo>
                  <a:lnTo>
                    <a:pt x="1244" y="1058"/>
                  </a:lnTo>
                  <a:lnTo>
                    <a:pt x="1249" y="1058"/>
                  </a:lnTo>
                  <a:lnTo>
                    <a:pt x="1249" y="1070"/>
                  </a:lnTo>
                  <a:lnTo>
                    <a:pt x="1253" y="1070"/>
                  </a:lnTo>
                  <a:lnTo>
                    <a:pt x="1253" y="1082"/>
                  </a:lnTo>
                  <a:lnTo>
                    <a:pt x="1259" y="1082"/>
                  </a:lnTo>
                  <a:lnTo>
                    <a:pt x="1259" y="1093"/>
                  </a:lnTo>
                  <a:lnTo>
                    <a:pt x="1264" y="1093"/>
                  </a:lnTo>
                  <a:lnTo>
                    <a:pt x="1264" y="1099"/>
                  </a:lnTo>
                  <a:lnTo>
                    <a:pt x="1269" y="1099"/>
                  </a:lnTo>
                  <a:lnTo>
                    <a:pt x="1269" y="1111"/>
                  </a:lnTo>
                  <a:lnTo>
                    <a:pt x="1273" y="1111"/>
                  </a:lnTo>
                  <a:lnTo>
                    <a:pt x="1273" y="1123"/>
                  </a:lnTo>
                  <a:lnTo>
                    <a:pt x="1278" y="1123"/>
                  </a:lnTo>
                  <a:lnTo>
                    <a:pt x="1278" y="1128"/>
                  </a:lnTo>
                  <a:lnTo>
                    <a:pt x="1283" y="1128"/>
                  </a:lnTo>
                  <a:lnTo>
                    <a:pt x="1283" y="1141"/>
                  </a:lnTo>
                  <a:lnTo>
                    <a:pt x="1287" y="1141"/>
                  </a:lnTo>
                  <a:lnTo>
                    <a:pt x="1287" y="1147"/>
                  </a:lnTo>
                  <a:lnTo>
                    <a:pt x="1293" y="1147"/>
                  </a:lnTo>
                  <a:lnTo>
                    <a:pt x="1293" y="1159"/>
                  </a:lnTo>
                  <a:lnTo>
                    <a:pt x="1297" y="1159"/>
                  </a:lnTo>
                  <a:lnTo>
                    <a:pt x="1297" y="1169"/>
                  </a:lnTo>
                  <a:lnTo>
                    <a:pt x="1301" y="1169"/>
                  </a:lnTo>
                  <a:lnTo>
                    <a:pt x="1301" y="1188"/>
                  </a:lnTo>
                  <a:lnTo>
                    <a:pt x="1307" y="1188"/>
                  </a:lnTo>
                  <a:lnTo>
                    <a:pt x="1307" y="1201"/>
                  </a:lnTo>
                  <a:lnTo>
                    <a:pt x="1311" y="1201"/>
                  </a:lnTo>
                  <a:lnTo>
                    <a:pt x="1311" y="1212"/>
                  </a:lnTo>
                  <a:lnTo>
                    <a:pt x="1316" y="1212"/>
                  </a:lnTo>
                  <a:lnTo>
                    <a:pt x="1316" y="1218"/>
                  </a:lnTo>
                  <a:lnTo>
                    <a:pt x="1321" y="1218"/>
                  </a:lnTo>
                  <a:lnTo>
                    <a:pt x="1321" y="1229"/>
                  </a:lnTo>
                  <a:lnTo>
                    <a:pt x="1325" y="1229"/>
                  </a:lnTo>
                  <a:lnTo>
                    <a:pt x="1325" y="1242"/>
                  </a:lnTo>
                  <a:lnTo>
                    <a:pt x="1330" y="1242"/>
                  </a:lnTo>
                  <a:lnTo>
                    <a:pt x="1330" y="1254"/>
                  </a:lnTo>
                  <a:lnTo>
                    <a:pt x="1335" y="1254"/>
                  </a:lnTo>
                  <a:lnTo>
                    <a:pt x="1335" y="1265"/>
                  </a:lnTo>
                  <a:lnTo>
                    <a:pt x="1341" y="1265"/>
                  </a:lnTo>
                  <a:lnTo>
                    <a:pt x="1341" y="1272"/>
                  </a:lnTo>
                  <a:lnTo>
                    <a:pt x="1345" y="1272"/>
                  </a:lnTo>
                  <a:lnTo>
                    <a:pt x="1345" y="1277"/>
                  </a:lnTo>
                  <a:lnTo>
                    <a:pt x="1350" y="1277"/>
                  </a:lnTo>
                  <a:lnTo>
                    <a:pt x="1350" y="1288"/>
                  </a:lnTo>
                  <a:lnTo>
                    <a:pt x="1355" y="1288"/>
                  </a:lnTo>
                  <a:lnTo>
                    <a:pt x="1355" y="1305"/>
                  </a:lnTo>
                  <a:lnTo>
                    <a:pt x="1360" y="1305"/>
                  </a:lnTo>
                  <a:lnTo>
                    <a:pt x="1360" y="1324"/>
                  </a:lnTo>
                  <a:lnTo>
                    <a:pt x="1364" y="1324"/>
                  </a:lnTo>
                  <a:lnTo>
                    <a:pt x="1364" y="1342"/>
                  </a:lnTo>
                  <a:lnTo>
                    <a:pt x="1369" y="1342"/>
                  </a:lnTo>
                  <a:lnTo>
                    <a:pt x="1369" y="1347"/>
                  </a:lnTo>
                  <a:lnTo>
                    <a:pt x="1374" y="1347"/>
                  </a:lnTo>
                  <a:lnTo>
                    <a:pt x="1374" y="1371"/>
                  </a:lnTo>
                  <a:lnTo>
                    <a:pt x="1378" y="1371"/>
                  </a:lnTo>
                  <a:lnTo>
                    <a:pt x="1378" y="1383"/>
                  </a:lnTo>
                  <a:lnTo>
                    <a:pt x="1383" y="1383"/>
                  </a:lnTo>
                  <a:lnTo>
                    <a:pt x="1383" y="1419"/>
                  </a:lnTo>
                  <a:lnTo>
                    <a:pt x="1388" y="1419"/>
                  </a:lnTo>
                  <a:lnTo>
                    <a:pt x="1388" y="1490"/>
                  </a:lnTo>
                  <a:lnTo>
                    <a:pt x="1383" y="1490"/>
                  </a:lnTo>
                  <a:lnTo>
                    <a:pt x="1383" y="1508"/>
                  </a:lnTo>
                  <a:lnTo>
                    <a:pt x="1378" y="1508"/>
                  </a:lnTo>
                  <a:lnTo>
                    <a:pt x="1378" y="1531"/>
                  </a:lnTo>
                  <a:lnTo>
                    <a:pt x="1374" y="1531"/>
                  </a:lnTo>
                  <a:lnTo>
                    <a:pt x="1374" y="1542"/>
                  </a:lnTo>
                  <a:lnTo>
                    <a:pt x="1369" y="1542"/>
                  </a:lnTo>
                  <a:lnTo>
                    <a:pt x="1369" y="1549"/>
                  </a:lnTo>
                  <a:lnTo>
                    <a:pt x="1364" y="1549"/>
                  </a:lnTo>
                  <a:lnTo>
                    <a:pt x="1364" y="1555"/>
                  </a:lnTo>
                  <a:lnTo>
                    <a:pt x="1360" y="1555"/>
                  </a:lnTo>
                  <a:lnTo>
                    <a:pt x="1360" y="1560"/>
                  </a:lnTo>
                  <a:lnTo>
                    <a:pt x="1350" y="1560"/>
                  </a:lnTo>
                  <a:lnTo>
                    <a:pt x="1350" y="1566"/>
                  </a:lnTo>
                  <a:lnTo>
                    <a:pt x="1335" y="1566"/>
                  </a:lnTo>
                  <a:lnTo>
                    <a:pt x="1335" y="1572"/>
                  </a:lnTo>
                  <a:lnTo>
                    <a:pt x="1321" y="1572"/>
                  </a:lnTo>
                  <a:lnTo>
                    <a:pt x="1321" y="1579"/>
                  </a:lnTo>
                  <a:lnTo>
                    <a:pt x="1316" y="1579"/>
                  </a:lnTo>
                  <a:lnTo>
                    <a:pt x="1316" y="1584"/>
                  </a:lnTo>
                  <a:lnTo>
                    <a:pt x="1307" y="1584"/>
                  </a:lnTo>
                  <a:lnTo>
                    <a:pt x="1307" y="1590"/>
                  </a:lnTo>
                  <a:lnTo>
                    <a:pt x="1301" y="1590"/>
                  </a:lnTo>
                  <a:lnTo>
                    <a:pt x="1301" y="1596"/>
                  </a:lnTo>
                  <a:lnTo>
                    <a:pt x="1293" y="1596"/>
                  </a:lnTo>
                  <a:lnTo>
                    <a:pt x="1293" y="1601"/>
                  </a:lnTo>
                  <a:lnTo>
                    <a:pt x="1283" y="1601"/>
                  </a:lnTo>
                  <a:lnTo>
                    <a:pt x="1283" y="1609"/>
                  </a:lnTo>
                  <a:lnTo>
                    <a:pt x="1273" y="1609"/>
                  </a:lnTo>
                  <a:lnTo>
                    <a:pt x="1273" y="1614"/>
                  </a:lnTo>
                  <a:lnTo>
                    <a:pt x="1264" y="1614"/>
                  </a:lnTo>
                  <a:lnTo>
                    <a:pt x="1264" y="1620"/>
                  </a:lnTo>
                  <a:lnTo>
                    <a:pt x="1253" y="1620"/>
                  </a:lnTo>
                  <a:lnTo>
                    <a:pt x="1253" y="1626"/>
                  </a:lnTo>
                  <a:lnTo>
                    <a:pt x="1244" y="1626"/>
                  </a:lnTo>
                  <a:lnTo>
                    <a:pt x="1244" y="1632"/>
                  </a:lnTo>
                  <a:lnTo>
                    <a:pt x="1239" y="1632"/>
                  </a:lnTo>
                  <a:lnTo>
                    <a:pt x="1239" y="1637"/>
                  </a:lnTo>
                  <a:lnTo>
                    <a:pt x="1234" y="1637"/>
                  </a:lnTo>
                  <a:lnTo>
                    <a:pt x="1234" y="1642"/>
                  </a:lnTo>
                  <a:lnTo>
                    <a:pt x="1225" y="1642"/>
                  </a:lnTo>
                  <a:lnTo>
                    <a:pt x="1225" y="1650"/>
                  </a:lnTo>
                  <a:lnTo>
                    <a:pt x="1206" y="1650"/>
                  </a:lnTo>
                  <a:lnTo>
                    <a:pt x="1206" y="1655"/>
                  </a:lnTo>
                  <a:lnTo>
                    <a:pt x="1197" y="1655"/>
                  </a:lnTo>
                  <a:lnTo>
                    <a:pt x="1197" y="1661"/>
                  </a:lnTo>
                  <a:lnTo>
                    <a:pt x="1182" y="1661"/>
                  </a:lnTo>
                  <a:lnTo>
                    <a:pt x="1182" y="1667"/>
                  </a:lnTo>
                  <a:lnTo>
                    <a:pt x="1172" y="1667"/>
                  </a:lnTo>
                  <a:lnTo>
                    <a:pt x="1172" y="1673"/>
                  </a:lnTo>
                  <a:lnTo>
                    <a:pt x="1153" y="1673"/>
                  </a:lnTo>
                  <a:lnTo>
                    <a:pt x="1153" y="1678"/>
                  </a:lnTo>
                  <a:lnTo>
                    <a:pt x="1148" y="1678"/>
                  </a:lnTo>
                  <a:lnTo>
                    <a:pt x="1148" y="1685"/>
                  </a:lnTo>
                  <a:lnTo>
                    <a:pt x="1143" y="1685"/>
                  </a:lnTo>
                  <a:lnTo>
                    <a:pt x="1143" y="1691"/>
                  </a:lnTo>
                  <a:lnTo>
                    <a:pt x="1129" y="1691"/>
                  </a:lnTo>
                  <a:lnTo>
                    <a:pt x="1129" y="1696"/>
                  </a:lnTo>
                  <a:lnTo>
                    <a:pt x="1120" y="1696"/>
                  </a:lnTo>
                  <a:lnTo>
                    <a:pt x="1120" y="1702"/>
                  </a:lnTo>
                  <a:lnTo>
                    <a:pt x="1109" y="1702"/>
                  </a:lnTo>
                  <a:lnTo>
                    <a:pt x="1109" y="1708"/>
                  </a:lnTo>
                  <a:lnTo>
                    <a:pt x="1100" y="1708"/>
                  </a:lnTo>
                  <a:lnTo>
                    <a:pt x="1100" y="1715"/>
                  </a:lnTo>
                  <a:lnTo>
                    <a:pt x="1095" y="1715"/>
                  </a:lnTo>
                  <a:lnTo>
                    <a:pt x="1095" y="1720"/>
                  </a:lnTo>
                  <a:lnTo>
                    <a:pt x="1086" y="1720"/>
                  </a:lnTo>
                  <a:lnTo>
                    <a:pt x="1086" y="1726"/>
                  </a:lnTo>
                  <a:lnTo>
                    <a:pt x="1076" y="1726"/>
                  </a:lnTo>
                  <a:lnTo>
                    <a:pt x="1076" y="1732"/>
                  </a:lnTo>
                  <a:lnTo>
                    <a:pt x="1071" y="1732"/>
                  </a:lnTo>
                  <a:lnTo>
                    <a:pt x="1071" y="1737"/>
                  </a:lnTo>
                  <a:lnTo>
                    <a:pt x="1062" y="1737"/>
                  </a:lnTo>
                  <a:lnTo>
                    <a:pt x="1062" y="1745"/>
                  </a:lnTo>
                  <a:lnTo>
                    <a:pt x="1057" y="1745"/>
                  </a:lnTo>
                  <a:lnTo>
                    <a:pt x="1057" y="1750"/>
                  </a:lnTo>
                  <a:lnTo>
                    <a:pt x="1053" y="1750"/>
                  </a:lnTo>
                  <a:lnTo>
                    <a:pt x="1053" y="1755"/>
                  </a:lnTo>
                  <a:lnTo>
                    <a:pt x="1037" y="1755"/>
                  </a:lnTo>
                  <a:lnTo>
                    <a:pt x="1037" y="1761"/>
                  </a:lnTo>
                  <a:lnTo>
                    <a:pt x="1023" y="1761"/>
                  </a:lnTo>
                  <a:lnTo>
                    <a:pt x="1023" y="1767"/>
                  </a:lnTo>
                  <a:lnTo>
                    <a:pt x="1013" y="1767"/>
                  </a:lnTo>
                  <a:lnTo>
                    <a:pt x="1013" y="1773"/>
                  </a:lnTo>
                  <a:lnTo>
                    <a:pt x="1004" y="1773"/>
                  </a:lnTo>
                  <a:lnTo>
                    <a:pt x="1004" y="1778"/>
                  </a:lnTo>
                  <a:lnTo>
                    <a:pt x="994" y="1778"/>
                  </a:lnTo>
                  <a:lnTo>
                    <a:pt x="994" y="1786"/>
                  </a:lnTo>
                  <a:lnTo>
                    <a:pt x="985" y="1786"/>
                  </a:lnTo>
                  <a:lnTo>
                    <a:pt x="985" y="1791"/>
                  </a:lnTo>
                  <a:lnTo>
                    <a:pt x="976" y="1791"/>
                  </a:lnTo>
                  <a:lnTo>
                    <a:pt x="976" y="1796"/>
                  </a:lnTo>
                  <a:lnTo>
                    <a:pt x="970" y="1796"/>
                  </a:lnTo>
                  <a:lnTo>
                    <a:pt x="970" y="1803"/>
                  </a:lnTo>
                  <a:lnTo>
                    <a:pt x="965" y="1803"/>
                  </a:lnTo>
                  <a:lnTo>
                    <a:pt x="965" y="1808"/>
                  </a:lnTo>
                  <a:lnTo>
                    <a:pt x="946" y="1808"/>
                  </a:lnTo>
                  <a:lnTo>
                    <a:pt x="946" y="1814"/>
                  </a:lnTo>
                  <a:lnTo>
                    <a:pt x="942" y="1814"/>
                  </a:lnTo>
                  <a:lnTo>
                    <a:pt x="942" y="1819"/>
                  </a:lnTo>
                  <a:lnTo>
                    <a:pt x="928" y="1819"/>
                  </a:lnTo>
                  <a:lnTo>
                    <a:pt x="928" y="1827"/>
                  </a:lnTo>
                  <a:lnTo>
                    <a:pt x="909" y="1827"/>
                  </a:lnTo>
                  <a:lnTo>
                    <a:pt x="909" y="1832"/>
                  </a:lnTo>
                  <a:lnTo>
                    <a:pt x="899" y="1832"/>
                  </a:lnTo>
                  <a:lnTo>
                    <a:pt x="899" y="1838"/>
                  </a:lnTo>
                  <a:lnTo>
                    <a:pt x="884" y="1838"/>
                  </a:lnTo>
                  <a:lnTo>
                    <a:pt x="884" y="1844"/>
                  </a:lnTo>
                  <a:lnTo>
                    <a:pt x="879" y="1844"/>
                  </a:lnTo>
                  <a:lnTo>
                    <a:pt x="879" y="1849"/>
                  </a:lnTo>
                  <a:lnTo>
                    <a:pt x="865" y="1849"/>
                  </a:lnTo>
                  <a:lnTo>
                    <a:pt x="865" y="1856"/>
                  </a:lnTo>
                  <a:lnTo>
                    <a:pt x="850" y="1856"/>
                  </a:lnTo>
                  <a:lnTo>
                    <a:pt x="850" y="1862"/>
                  </a:lnTo>
                  <a:lnTo>
                    <a:pt x="841" y="1862"/>
                  </a:lnTo>
                  <a:lnTo>
                    <a:pt x="841" y="1868"/>
                  </a:lnTo>
                  <a:lnTo>
                    <a:pt x="827" y="1868"/>
                  </a:lnTo>
                  <a:lnTo>
                    <a:pt x="827" y="1873"/>
                  </a:lnTo>
                  <a:lnTo>
                    <a:pt x="816" y="1873"/>
                  </a:lnTo>
                  <a:lnTo>
                    <a:pt x="816" y="1879"/>
                  </a:lnTo>
                  <a:lnTo>
                    <a:pt x="807" y="1879"/>
                  </a:lnTo>
                  <a:lnTo>
                    <a:pt x="807" y="1886"/>
                  </a:lnTo>
                  <a:lnTo>
                    <a:pt x="802" y="1886"/>
                  </a:lnTo>
                  <a:lnTo>
                    <a:pt x="802" y="1892"/>
                  </a:lnTo>
                  <a:lnTo>
                    <a:pt x="793" y="1892"/>
                  </a:lnTo>
                  <a:lnTo>
                    <a:pt x="793" y="1897"/>
                  </a:lnTo>
                  <a:lnTo>
                    <a:pt x="779" y="1897"/>
                  </a:lnTo>
                  <a:lnTo>
                    <a:pt x="779" y="1903"/>
                  </a:lnTo>
                  <a:lnTo>
                    <a:pt x="769" y="1903"/>
                  </a:lnTo>
                  <a:lnTo>
                    <a:pt x="769" y="1909"/>
                  </a:lnTo>
                  <a:lnTo>
                    <a:pt x="755" y="1909"/>
                  </a:lnTo>
                  <a:lnTo>
                    <a:pt x="755" y="1914"/>
                  </a:lnTo>
                  <a:lnTo>
                    <a:pt x="744" y="1914"/>
                  </a:lnTo>
                  <a:lnTo>
                    <a:pt x="744" y="1922"/>
                  </a:lnTo>
                  <a:lnTo>
                    <a:pt x="725" y="1922"/>
                  </a:lnTo>
                  <a:lnTo>
                    <a:pt x="725" y="1927"/>
                  </a:lnTo>
                  <a:lnTo>
                    <a:pt x="711" y="1927"/>
                  </a:lnTo>
                  <a:lnTo>
                    <a:pt x="711" y="1933"/>
                  </a:lnTo>
                  <a:lnTo>
                    <a:pt x="697" y="1933"/>
                  </a:lnTo>
                  <a:lnTo>
                    <a:pt x="697" y="1938"/>
                  </a:lnTo>
                  <a:lnTo>
                    <a:pt x="683" y="1938"/>
                  </a:lnTo>
                  <a:lnTo>
                    <a:pt x="683" y="1945"/>
                  </a:lnTo>
                  <a:lnTo>
                    <a:pt x="672" y="1945"/>
                  </a:lnTo>
                  <a:lnTo>
                    <a:pt x="672" y="1950"/>
                  </a:lnTo>
                  <a:lnTo>
                    <a:pt x="658" y="1950"/>
                  </a:lnTo>
                  <a:lnTo>
                    <a:pt x="658" y="1955"/>
                  </a:lnTo>
                  <a:lnTo>
                    <a:pt x="635" y="1955"/>
                  </a:lnTo>
                  <a:lnTo>
                    <a:pt x="635" y="1963"/>
                  </a:lnTo>
                  <a:lnTo>
                    <a:pt x="620" y="1963"/>
                  </a:lnTo>
                  <a:lnTo>
                    <a:pt x="620" y="1968"/>
                  </a:lnTo>
                  <a:lnTo>
                    <a:pt x="610" y="1968"/>
                  </a:lnTo>
                  <a:lnTo>
                    <a:pt x="610" y="1974"/>
                  </a:lnTo>
                  <a:lnTo>
                    <a:pt x="600" y="1974"/>
                  </a:lnTo>
                  <a:lnTo>
                    <a:pt x="600" y="1980"/>
                  </a:lnTo>
                  <a:lnTo>
                    <a:pt x="591" y="1980"/>
                  </a:lnTo>
                  <a:lnTo>
                    <a:pt x="591" y="1987"/>
                  </a:lnTo>
                  <a:lnTo>
                    <a:pt x="558" y="1987"/>
                  </a:lnTo>
                  <a:lnTo>
                    <a:pt x="558" y="1992"/>
                  </a:lnTo>
                  <a:lnTo>
                    <a:pt x="528" y="1992"/>
                  </a:lnTo>
                  <a:lnTo>
                    <a:pt x="528" y="1998"/>
                  </a:lnTo>
                  <a:lnTo>
                    <a:pt x="509" y="1998"/>
                  </a:lnTo>
                  <a:lnTo>
                    <a:pt x="509" y="2004"/>
                  </a:lnTo>
                  <a:lnTo>
                    <a:pt x="491" y="2004"/>
                  </a:lnTo>
                  <a:lnTo>
                    <a:pt x="491" y="2009"/>
                  </a:lnTo>
                  <a:lnTo>
                    <a:pt x="467" y="2009"/>
                  </a:lnTo>
                  <a:lnTo>
                    <a:pt x="467" y="2015"/>
                  </a:lnTo>
                  <a:lnTo>
                    <a:pt x="461" y="2015"/>
                  </a:lnTo>
                  <a:lnTo>
                    <a:pt x="461" y="2022"/>
                  </a:lnTo>
                  <a:lnTo>
                    <a:pt x="432" y="2022"/>
                  </a:lnTo>
                  <a:lnTo>
                    <a:pt x="432" y="2028"/>
                  </a:lnTo>
                  <a:lnTo>
                    <a:pt x="395" y="2028"/>
                  </a:lnTo>
                  <a:lnTo>
                    <a:pt x="395" y="2033"/>
                  </a:lnTo>
                  <a:lnTo>
                    <a:pt x="380" y="2033"/>
                  </a:lnTo>
                  <a:lnTo>
                    <a:pt x="380" y="2039"/>
                  </a:lnTo>
                  <a:lnTo>
                    <a:pt x="365" y="2039"/>
                  </a:lnTo>
                  <a:lnTo>
                    <a:pt x="365" y="2045"/>
                  </a:lnTo>
                  <a:lnTo>
                    <a:pt x="327" y="2045"/>
                  </a:lnTo>
                  <a:lnTo>
                    <a:pt x="327" y="2039"/>
                  </a:lnTo>
                  <a:lnTo>
                    <a:pt x="312" y="2039"/>
                  </a:lnTo>
                  <a:lnTo>
                    <a:pt x="312" y="2033"/>
                  </a:lnTo>
                  <a:lnTo>
                    <a:pt x="298" y="2033"/>
                  </a:lnTo>
                  <a:lnTo>
                    <a:pt x="298" y="2028"/>
                  </a:lnTo>
                  <a:lnTo>
                    <a:pt x="288" y="2028"/>
                  </a:lnTo>
                  <a:lnTo>
                    <a:pt x="288" y="2022"/>
                  </a:lnTo>
                  <a:lnTo>
                    <a:pt x="284" y="2022"/>
                  </a:lnTo>
                  <a:lnTo>
                    <a:pt x="284" y="2009"/>
                  </a:lnTo>
                  <a:lnTo>
                    <a:pt x="278" y="2009"/>
                  </a:lnTo>
                  <a:lnTo>
                    <a:pt x="278" y="1992"/>
                  </a:lnTo>
                  <a:lnTo>
                    <a:pt x="274" y="1992"/>
                  </a:lnTo>
                  <a:lnTo>
                    <a:pt x="274" y="1974"/>
                  </a:lnTo>
                  <a:lnTo>
                    <a:pt x="269" y="1974"/>
                  </a:lnTo>
                  <a:lnTo>
                    <a:pt x="269" y="1963"/>
                  </a:lnTo>
                  <a:lnTo>
                    <a:pt x="264" y="1963"/>
                  </a:lnTo>
                  <a:lnTo>
                    <a:pt x="264" y="1945"/>
                  </a:lnTo>
                  <a:lnTo>
                    <a:pt x="260" y="1945"/>
                  </a:lnTo>
                  <a:lnTo>
                    <a:pt x="260" y="1922"/>
                  </a:lnTo>
                  <a:lnTo>
                    <a:pt x="255" y="1922"/>
                  </a:lnTo>
                  <a:lnTo>
                    <a:pt x="255" y="1903"/>
                  </a:lnTo>
                  <a:lnTo>
                    <a:pt x="251" y="1903"/>
                  </a:lnTo>
                  <a:lnTo>
                    <a:pt x="251" y="1892"/>
                  </a:lnTo>
                  <a:lnTo>
                    <a:pt x="245" y="1892"/>
                  </a:lnTo>
                  <a:lnTo>
                    <a:pt x="245" y="1886"/>
                  </a:lnTo>
                  <a:lnTo>
                    <a:pt x="240" y="1886"/>
                  </a:lnTo>
                  <a:lnTo>
                    <a:pt x="240" y="1873"/>
                  </a:lnTo>
                  <a:lnTo>
                    <a:pt x="236" y="1873"/>
                  </a:lnTo>
                  <a:lnTo>
                    <a:pt x="236" y="1862"/>
                  </a:lnTo>
                  <a:lnTo>
                    <a:pt x="230" y="1862"/>
                  </a:lnTo>
                  <a:lnTo>
                    <a:pt x="230" y="1844"/>
                  </a:lnTo>
                  <a:lnTo>
                    <a:pt x="226" y="1844"/>
                  </a:lnTo>
                  <a:lnTo>
                    <a:pt x="226" y="1832"/>
                  </a:lnTo>
                  <a:lnTo>
                    <a:pt x="221" y="1832"/>
                  </a:lnTo>
                  <a:lnTo>
                    <a:pt x="221" y="1827"/>
                  </a:lnTo>
                  <a:lnTo>
                    <a:pt x="216" y="1827"/>
                  </a:lnTo>
                  <a:lnTo>
                    <a:pt x="216" y="1808"/>
                  </a:lnTo>
                  <a:lnTo>
                    <a:pt x="211" y="1808"/>
                  </a:lnTo>
                  <a:lnTo>
                    <a:pt x="211" y="1796"/>
                  </a:lnTo>
                  <a:lnTo>
                    <a:pt x="207" y="1796"/>
                  </a:lnTo>
                  <a:lnTo>
                    <a:pt x="207" y="1778"/>
                  </a:lnTo>
                  <a:lnTo>
                    <a:pt x="203" y="1778"/>
                  </a:lnTo>
                  <a:lnTo>
                    <a:pt x="203" y="1761"/>
                  </a:lnTo>
                  <a:lnTo>
                    <a:pt x="197" y="1761"/>
                  </a:lnTo>
                  <a:lnTo>
                    <a:pt x="197" y="1750"/>
                  </a:lnTo>
                  <a:lnTo>
                    <a:pt x="193" y="1750"/>
                  </a:lnTo>
                  <a:lnTo>
                    <a:pt x="193" y="1745"/>
                  </a:lnTo>
                  <a:lnTo>
                    <a:pt x="188" y="1745"/>
                  </a:lnTo>
                  <a:lnTo>
                    <a:pt x="188" y="1732"/>
                  </a:lnTo>
                  <a:lnTo>
                    <a:pt x="183" y="1732"/>
                  </a:lnTo>
                  <a:lnTo>
                    <a:pt x="183" y="1726"/>
                  </a:lnTo>
                  <a:lnTo>
                    <a:pt x="178" y="1726"/>
                  </a:lnTo>
                  <a:lnTo>
                    <a:pt x="178" y="1720"/>
                  </a:lnTo>
                  <a:lnTo>
                    <a:pt x="173" y="1720"/>
                  </a:lnTo>
                  <a:lnTo>
                    <a:pt x="173" y="1715"/>
                  </a:lnTo>
                  <a:lnTo>
                    <a:pt x="168" y="1715"/>
                  </a:lnTo>
                  <a:lnTo>
                    <a:pt x="168" y="1702"/>
                  </a:lnTo>
                  <a:lnTo>
                    <a:pt x="163" y="1702"/>
                  </a:lnTo>
                  <a:lnTo>
                    <a:pt x="163" y="1696"/>
                  </a:lnTo>
                  <a:lnTo>
                    <a:pt x="159" y="1696"/>
                  </a:lnTo>
                  <a:lnTo>
                    <a:pt x="159" y="1678"/>
                  </a:lnTo>
                  <a:lnTo>
                    <a:pt x="154" y="1678"/>
                  </a:lnTo>
                  <a:lnTo>
                    <a:pt x="154" y="1667"/>
                  </a:lnTo>
                  <a:lnTo>
                    <a:pt x="149" y="1667"/>
                  </a:lnTo>
                  <a:lnTo>
                    <a:pt x="149" y="1661"/>
                  </a:lnTo>
                  <a:lnTo>
                    <a:pt x="144" y="1661"/>
                  </a:lnTo>
                  <a:lnTo>
                    <a:pt x="144" y="1650"/>
                  </a:lnTo>
                  <a:lnTo>
                    <a:pt x="140" y="1650"/>
                  </a:lnTo>
                  <a:lnTo>
                    <a:pt x="140" y="1632"/>
                  </a:lnTo>
                  <a:lnTo>
                    <a:pt x="134" y="1632"/>
                  </a:lnTo>
                  <a:lnTo>
                    <a:pt x="134" y="1626"/>
                  </a:lnTo>
                  <a:lnTo>
                    <a:pt x="130" y="1626"/>
                  </a:lnTo>
                  <a:lnTo>
                    <a:pt x="130" y="1601"/>
                  </a:lnTo>
                  <a:lnTo>
                    <a:pt x="126" y="1601"/>
                  </a:lnTo>
                  <a:lnTo>
                    <a:pt x="126" y="1590"/>
                  </a:lnTo>
                  <a:lnTo>
                    <a:pt x="120" y="1590"/>
                  </a:lnTo>
                  <a:lnTo>
                    <a:pt x="120" y="1579"/>
                  </a:lnTo>
                  <a:lnTo>
                    <a:pt x="116" y="1579"/>
                  </a:lnTo>
                  <a:lnTo>
                    <a:pt x="116" y="1566"/>
                  </a:lnTo>
                  <a:lnTo>
                    <a:pt x="111" y="1566"/>
                  </a:lnTo>
                  <a:lnTo>
                    <a:pt x="111" y="1555"/>
                  </a:lnTo>
                  <a:lnTo>
                    <a:pt x="107" y="1555"/>
                  </a:lnTo>
                  <a:lnTo>
                    <a:pt x="107" y="1542"/>
                  </a:lnTo>
                  <a:lnTo>
                    <a:pt x="100" y="1542"/>
                  </a:lnTo>
                  <a:lnTo>
                    <a:pt x="100" y="1536"/>
                  </a:lnTo>
                  <a:lnTo>
                    <a:pt x="96" y="1536"/>
                  </a:lnTo>
                  <a:lnTo>
                    <a:pt x="96" y="1525"/>
                  </a:lnTo>
                  <a:lnTo>
                    <a:pt x="91" y="1525"/>
                  </a:lnTo>
                  <a:lnTo>
                    <a:pt x="91" y="1519"/>
                  </a:lnTo>
                  <a:lnTo>
                    <a:pt x="86" y="1519"/>
                  </a:lnTo>
                  <a:lnTo>
                    <a:pt x="86" y="1514"/>
                  </a:lnTo>
                  <a:lnTo>
                    <a:pt x="82" y="1514"/>
                  </a:lnTo>
                  <a:lnTo>
                    <a:pt x="82" y="1501"/>
                  </a:lnTo>
                  <a:lnTo>
                    <a:pt x="77" y="1501"/>
                  </a:lnTo>
                  <a:lnTo>
                    <a:pt x="77" y="1483"/>
                  </a:lnTo>
                  <a:lnTo>
                    <a:pt x="72" y="1483"/>
                  </a:lnTo>
                  <a:lnTo>
                    <a:pt x="72" y="1473"/>
                  </a:lnTo>
                  <a:lnTo>
                    <a:pt x="67" y="1473"/>
                  </a:lnTo>
                  <a:lnTo>
                    <a:pt x="67" y="1454"/>
                  </a:lnTo>
                  <a:lnTo>
                    <a:pt x="63" y="1454"/>
                  </a:lnTo>
                  <a:lnTo>
                    <a:pt x="63" y="1441"/>
                  </a:lnTo>
                  <a:lnTo>
                    <a:pt x="58" y="1441"/>
                  </a:lnTo>
                  <a:lnTo>
                    <a:pt x="58" y="1430"/>
                  </a:lnTo>
                  <a:lnTo>
                    <a:pt x="53" y="1430"/>
                  </a:lnTo>
                  <a:lnTo>
                    <a:pt x="53" y="1419"/>
                  </a:lnTo>
                  <a:lnTo>
                    <a:pt x="48" y="1419"/>
                  </a:lnTo>
                  <a:lnTo>
                    <a:pt x="48" y="1413"/>
                  </a:lnTo>
                  <a:lnTo>
                    <a:pt x="44" y="1413"/>
                  </a:lnTo>
                  <a:lnTo>
                    <a:pt x="44" y="1406"/>
                  </a:lnTo>
                  <a:lnTo>
                    <a:pt x="39" y="1406"/>
                  </a:lnTo>
                  <a:lnTo>
                    <a:pt x="39" y="1395"/>
                  </a:lnTo>
                  <a:lnTo>
                    <a:pt x="34" y="1395"/>
                  </a:lnTo>
                  <a:lnTo>
                    <a:pt x="34" y="1389"/>
                  </a:lnTo>
                  <a:lnTo>
                    <a:pt x="30" y="1389"/>
                  </a:lnTo>
                  <a:lnTo>
                    <a:pt x="30" y="1383"/>
                  </a:lnTo>
                  <a:lnTo>
                    <a:pt x="24" y="1383"/>
                  </a:lnTo>
                  <a:lnTo>
                    <a:pt x="24" y="1371"/>
                  </a:lnTo>
                  <a:lnTo>
                    <a:pt x="19" y="1371"/>
                  </a:lnTo>
                  <a:lnTo>
                    <a:pt x="19" y="1359"/>
                  </a:lnTo>
                  <a:lnTo>
                    <a:pt x="14" y="1359"/>
                  </a:lnTo>
                  <a:lnTo>
                    <a:pt x="14" y="1342"/>
                  </a:lnTo>
                  <a:lnTo>
                    <a:pt x="10" y="1342"/>
                  </a:lnTo>
                  <a:lnTo>
                    <a:pt x="10" y="1330"/>
                  </a:lnTo>
                  <a:lnTo>
                    <a:pt x="4" y="1330"/>
                  </a:lnTo>
                  <a:lnTo>
                    <a:pt x="4" y="1313"/>
                  </a:lnTo>
                  <a:lnTo>
                    <a:pt x="0" y="1313"/>
                  </a:lnTo>
                  <a:lnTo>
                    <a:pt x="0" y="130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51600" y="2395440"/>
              <a:ext cx="10800" cy="1440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0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0" y="30"/>
                  </a:lnTo>
                  <a:lnTo>
                    <a:pt x="15" y="30"/>
                  </a:lnTo>
                  <a:lnTo>
                    <a:pt x="15" y="36"/>
                  </a:lnTo>
                  <a:lnTo>
                    <a:pt x="5" y="36"/>
                  </a:lnTo>
                  <a:lnTo>
                    <a:pt x="5" y="30"/>
                  </a:lnTo>
                  <a:lnTo>
                    <a:pt x="0" y="3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83080" y="5241960"/>
              <a:ext cx="5040" cy="32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6040" y="3657600"/>
              <a:ext cx="663480" cy="1600200"/>
            </a:xfrm>
            <a:custGeom>
              <a:avLst/>
              <a:gdLst/>
              <a:ahLst/>
              <a:rect l="l" t="t" r="r" b="b"/>
              <a:pathLst>
                <a:path w="1253" h="4031">
                  <a:moveTo>
                    <a:pt x="0" y="3990"/>
                  </a:moveTo>
                  <a:lnTo>
                    <a:pt x="4" y="3990"/>
                  </a:lnTo>
                  <a:lnTo>
                    <a:pt x="4" y="3983"/>
                  </a:lnTo>
                  <a:lnTo>
                    <a:pt x="8" y="3983"/>
                  </a:lnTo>
                  <a:lnTo>
                    <a:pt x="8" y="3978"/>
                  </a:lnTo>
                  <a:lnTo>
                    <a:pt x="13" y="3978"/>
                  </a:lnTo>
                  <a:lnTo>
                    <a:pt x="13" y="3971"/>
                  </a:lnTo>
                  <a:lnTo>
                    <a:pt x="23" y="3971"/>
                  </a:lnTo>
                  <a:lnTo>
                    <a:pt x="23" y="3966"/>
                  </a:lnTo>
                  <a:lnTo>
                    <a:pt x="37" y="3966"/>
                  </a:lnTo>
                  <a:lnTo>
                    <a:pt x="37" y="3971"/>
                  </a:lnTo>
                  <a:lnTo>
                    <a:pt x="104" y="3971"/>
                  </a:lnTo>
                  <a:lnTo>
                    <a:pt x="104" y="3966"/>
                  </a:lnTo>
                  <a:lnTo>
                    <a:pt x="134" y="3966"/>
                  </a:lnTo>
                  <a:lnTo>
                    <a:pt x="134" y="3971"/>
                  </a:lnTo>
                  <a:lnTo>
                    <a:pt x="177" y="3971"/>
                  </a:lnTo>
                  <a:lnTo>
                    <a:pt x="177" y="3966"/>
                  </a:lnTo>
                  <a:lnTo>
                    <a:pt x="211" y="3966"/>
                  </a:lnTo>
                  <a:lnTo>
                    <a:pt x="211" y="3960"/>
                  </a:lnTo>
                  <a:lnTo>
                    <a:pt x="220" y="3960"/>
                  </a:lnTo>
                  <a:lnTo>
                    <a:pt x="220" y="3966"/>
                  </a:lnTo>
                  <a:lnTo>
                    <a:pt x="311" y="3966"/>
                  </a:lnTo>
                  <a:lnTo>
                    <a:pt x="311" y="3960"/>
                  </a:lnTo>
                  <a:lnTo>
                    <a:pt x="345" y="3960"/>
                  </a:lnTo>
                  <a:lnTo>
                    <a:pt x="345" y="3966"/>
                  </a:lnTo>
                  <a:lnTo>
                    <a:pt x="427" y="3966"/>
                  </a:lnTo>
                  <a:lnTo>
                    <a:pt x="427" y="3971"/>
                  </a:lnTo>
                  <a:lnTo>
                    <a:pt x="441" y="3971"/>
                  </a:lnTo>
                  <a:lnTo>
                    <a:pt x="441" y="3966"/>
                  </a:lnTo>
                  <a:lnTo>
                    <a:pt x="494" y="3966"/>
                  </a:lnTo>
                  <a:lnTo>
                    <a:pt x="494" y="3971"/>
                  </a:lnTo>
                  <a:lnTo>
                    <a:pt x="508" y="3971"/>
                  </a:lnTo>
                  <a:lnTo>
                    <a:pt x="508" y="3966"/>
                  </a:lnTo>
                  <a:lnTo>
                    <a:pt x="551" y="3966"/>
                  </a:lnTo>
                  <a:lnTo>
                    <a:pt x="551" y="3971"/>
                  </a:lnTo>
                  <a:lnTo>
                    <a:pt x="566" y="3971"/>
                  </a:lnTo>
                  <a:lnTo>
                    <a:pt x="566" y="3966"/>
                  </a:lnTo>
                  <a:lnTo>
                    <a:pt x="581" y="3966"/>
                  </a:lnTo>
                  <a:lnTo>
                    <a:pt x="581" y="3971"/>
                  </a:lnTo>
                  <a:lnTo>
                    <a:pt x="624" y="3971"/>
                  </a:lnTo>
                  <a:lnTo>
                    <a:pt x="624" y="3966"/>
                  </a:lnTo>
                  <a:lnTo>
                    <a:pt x="706" y="3966"/>
                  </a:lnTo>
                  <a:lnTo>
                    <a:pt x="706" y="3971"/>
                  </a:lnTo>
                  <a:lnTo>
                    <a:pt x="715" y="3971"/>
                  </a:lnTo>
                  <a:lnTo>
                    <a:pt x="715" y="3966"/>
                  </a:lnTo>
                  <a:lnTo>
                    <a:pt x="854" y="3966"/>
                  </a:lnTo>
                  <a:lnTo>
                    <a:pt x="854" y="3960"/>
                  </a:lnTo>
                  <a:lnTo>
                    <a:pt x="922" y="3960"/>
                  </a:lnTo>
                  <a:lnTo>
                    <a:pt x="922" y="3955"/>
                  </a:lnTo>
                  <a:lnTo>
                    <a:pt x="983" y="3955"/>
                  </a:lnTo>
                  <a:lnTo>
                    <a:pt x="983" y="3947"/>
                  </a:lnTo>
                  <a:lnTo>
                    <a:pt x="1013" y="3947"/>
                  </a:lnTo>
                  <a:lnTo>
                    <a:pt x="1013" y="3942"/>
                  </a:lnTo>
                  <a:lnTo>
                    <a:pt x="1041" y="3942"/>
                  </a:lnTo>
                  <a:lnTo>
                    <a:pt x="1041" y="3947"/>
                  </a:lnTo>
                  <a:lnTo>
                    <a:pt x="1056" y="3947"/>
                  </a:lnTo>
                  <a:lnTo>
                    <a:pt x="1056" y="3942"/>
                  </a:lnTo>
                  <a:lnTo>
                    <a:pt x="1113" y="3942"/>
                  </a:lnTo>
                  <a:lnTo>
                    <a:pt x="1113" y="3937"/>
                  </a:lnTo>
                  <a:lnTo>
                    <a:pt x="1166" y="3937"/>
                  </a:lnTo>
                  <a:lnTo>
                    <a:pt x="1166" y="3930"/>
                  </a:lnTo>
                  <a:lnTo>
                    <a:pt x="1176" y="3930"/>
                  </a:lnTo>
                  <a:lnTo>
                    <a:pt x="1176" y="3925"/>
                  </a:lnTo>
                  <a:lnTo>
                    <a:pt x="1186" y="3925"/>
                  </a:lnTo>
                  <a:lnTo>
                    <a:pt x="1186" y="3912"/>
                  </a:lnTo>
                  <a:lnTo>
                    <a:pt x="1190" y="3912"/>
                  </a:lnTo>
                  <a:lnTo>
                    <a:pt x="1190" y="3830"/>
                  </a:lnTo>
                  <a:lnTo>
                    <a:pt x="1194" y="3830"/>
                  </a:lnTo>
                  <a:lnTo>
                    <a:pt x="1194" y="3741"/>
                  </a:lnTo>
                  <a:lnTo>
                    <a:pt x="1200" y="3741"/>
                  </a:lnTo>
                  <a:lnTo>
                    <a:pt x="1200" y="3718"/>
                  </a:lnTo>
                  <a:lnTo>
                    <a:pt x="1204" y="3718"/>
                  </a:lnTo>
                  <a:lnTo>
                    <a:pt x="1204" y="3700"/>
                  </a:lnTo>
                  <a:lnTo>
                    <a:pt x="1200" y="3700"/>
                  </a:lnTo>
                  <a:lnTo>
                    <a:pt x="1200" y="3629"/>
                  </a:lnTo>
                  <a:lnTo>
                    <a:pt x="1194" y="3629"/>
                  </a:lnTo>
                  <a:lnTo>
                    <a:pt x="1194" y="3612"/>
                  </a:lnTo>
                  <a:lnTo>
                    <a:pt x="1200" y="3612"/>
                  </a:lnTo>
                  <a:lnTo>
                    <a:pt x="1200" y="3552"/>
                  </a:lnTo>
                  <a:lnTo>
                    <a:pt x="1194" y="3552"/>
                  </a:lnTo>
                  <a:lnTo>
                    <a:pt x="1194" y="3452"/>
                  </a:lnTo>
                  <a:lnTo>
                    <a:pt x="1190" y="3452"/>
                  </a:lnTo>
                  <a:lnTo>
                    <a:pt x="1190" y="3287"/>
                  </a:lnTo>
                  <a:lnTo>
                    <a:pt x="1186" y="3287"/>
                  </a:lnTo>
                  <a:lnTo>
                    <a:pt x="1186" y="3251"/>
                  </a:lnTo>
                  <a:lnTo>
                    <a:pt x="1190" y="3251"/>
                  </a:lnTo>
                  <a:lnTo>
                    <a:pt x="1190" y="3215"/>
                  </a:lnTo>
                  <a:lnTo>
                    <a:pt x="1186" y="3215"/>
                  </a:lnTo>
                  <a:lnTo>
                    <a:pt x="1186" y="3156"/>
                  </a:lnTo>
                  <a:lnTo>
                    <a:pt x="1180" y="3156"/>
                  </a:lnTo>
                  <a:lnTo>
                    <a:pt x="1180" y="3144"/>
                  </a:lnTo>
                  <a:lnTo>
                    <a:pt x="1186" y="3144"/>
                  </a:lnTo>
                  <a:lnTo>
                    <a:pt x="1186" y="3102"/>
                  </a:lnTo>
                  <a:lnTo>
                    <a:pt x="1180" y="3102"/>
                  </a:lnTo>
                  <a:lnTo>
                    <a:pt x="1180" y="3074"/>
                  </a:lnTo>
                  <a:lnTo>
                    <a:pt x="1176" y="3074"/>
                  </a:lnTo>
                  <a:lnTo>
                    <a:pt x="1176" y="3009"/>
                  </a:lnTo>
                  <a:lnTo>
                    <a:pt x="1171" y="3009"/>
                  </a:lnTo>
                  <a:lnTo>
                    <a:pt x="1171" y="2914"/>
                  </a:lnTo>
                  <a:lnTo>
                    <a:pt x="1166" y="2914"/>
                  </a:lnTo>
                  <a:lnTo>
                    <a:pt x="1166" y="2807"/>
                  </a:lnTo>
                  <a:lnTo>
                    <a:pt x="1161" y="2807"/>
                  </a:lnTo>
                  <a:lnTo>
                    <a:pt x="1161" y="2797"/>
                  </a:lnTo>
                  <a:lnTo>
                    <a:pt x="1157" y="2797"/>
                  </a:lnTo>
                  <a:lnTo>
                    <a:pt x="1157" y="2772"/>
                  </a:lnTo>
                  <a:lnTo>
                    <a:pt x="1161" y="2772"/>
                  </a:lnTo>
                  <a:lnTo>
                    <a:pt x="1161" y="2754"/>
                  </a:lnTo>
                  <a:lnTo>
                    <a:pt x="1157" y="2754"/>
                  </a:lnTo>
                  <a:lnTo>
                    <a:pt x="1157" y="2737"/>
                  </a:lnTo>
                  <a:lnTo>
                    <a:pt x="1153" y="2737"/>
                  </a:lnTo>
                  <a:lnTo>
                    <a:pt x="1153" y="2671"/>
                  </a:lnTo>
                  <a:lnTo>
                    <a:pt x="1147" y="2671"/>
                  </a:lnTo>
                  <a:lnTo>
                    <a:pt x="1147" y="2560"/>
                  </a:lnTo>
                  <a:lnTo>
                    <a:pt x="1143" y="2560"/>
                  </a:lnTo>
                  <a:lnTo>
                    <a:pt x="1143" y="2530"/>
                  </a:lnTo>
                  <a:lnTo>
                    <a:pt x="1138" y="2530"/>
                  </a:lnTo>
                  <a:lnTo>
                    <a:pt x="1138" y="2324"/>
                  </a:lnTo>
                  <a:lnTo>
                    <a:pt x="1133" y="2324"/>
                  </a:lnTo>
                  <a:lnTo>
                    <a:pt x="1133" y="2293"/>
                  </a:lnTo>
                  <a:lnTo>
                    <a:pt x="1138" y="2293"/>
                  </a:lnTo>
                  <a:lnTo>
                    <a:pt x="1138" y="2275"/>
                  </a:lnTo>
                  <a:lnTo>
                    <a:pt x="1133" y="2275"/>
                  </a:lnTo>
                  <a:lnTo>
                    <a:pt x="1133" y="2098"/>
                  </a:lnTo>
                  <a:lnTo>
                    <a:pt x="1127" y="2098"/>
                  </a:lnTo>
                  <a:lnTo>
                    <a:pt x="1127" y="2063"/>
                  </a:lnTo>
                  <a:lnTo>
                    <a:pt x="1123" y="2063"/>
                  </a:lnTo>
                  <a:lnTo>
                    <a:pt x="1123" y="1838"/>
                  </a:lnTo>
                  <a:lnTo>
                    <a:pt x="1118" y="1838"/>
                  </a:lnTo>
                  <a:lnTo>
                    <a:pt x="1118" y="1756"/>
                  </a:lnTo>
                  <a:lnTo>
                    <a:pt x="1113" y="1756"/>
                  </a:lnTo>
                  <a:lnTo>
                    <a:pt x="1113" y="1744"/>
                  </a:lnTo>
                  <a:lnTo>
                    <a:pt x="1118" y="1744"/>
                  </a:lnTo>
                  <a:lnTo>
                    <a:pt x="1118" y="1548"/>
                  </a:lnTo>
                  <a:lnTo>
                    <a:pt x="1123" y="1548"/>
                  </a:lnTo>
                  <a:lnTo>
                    <a:pt x="1123" y="1519"/>
                  </a:lnTo>
                  <a:lnTo>
                    <a:pt x="1118" y="1519"/>
                  </a:lnTo>
                  <a:lnTo>
                    <a:pt x="1118" y="1489"/>
                  </a:lnTo>
                  <a:lnTo>
                    <a:pt x="1123" y="1489"/>
                  </a:lnTo>
                  <a:lnTo>
                    <a:pt x="1123" y="1383"/>
                  </a:lnTo>
                  <a:lnTo>
                    <a:pt x="1118" y="1383"/>
                  </a:lnTo>
                  <a:lnTo>
                    <a:pt x="1118" y="1252"/>
                  </a:lnTo>
                  <a:lnTo>
                    <a:pt x="1123" y="1252"/>
                  </a:lnTo>
                  <a:lnTo>
                    <a:pt x="1123" y="1236"/>
                  </a:lnTo>
                  <a:lnTo>
                    <a:pt x="1118" y="1236"/>
                  </a:lnTo>
                  <a:lnTo>
                    <a:pt x="1118" y="1224"/>
                  </a:lnTo>
                  <a:lnTo>
                    <a:pt x="1123" y="1224"/>
                  </a:lnTo>
                  <a:lnTo>
                    <a:pt x="1123" y="1193"/>
                  </a:lnTo>
                  <a:lnTo>
                    <a:pt x="1127" y="1193"/>
                  </a:lnTo>
                  <a:lnTo>
                    <a:pt x="1127" y="1123"/>
                  </a:lnTo>
                  <a:lnTo>
                    <a:pt x="1133" y="1123"/>
                  </a:lnTo>
                  <a:lnTo>
                    <a:pt x="1133" y="1070"/>
                  </a:lnTo>
                  <a:lnTo>
                    <a:pt x="1138" y="1070"/>
                  </a:lnTo>
                  <a:lnTo>
                    <a:pt x="1138" y="905"/>
                  </a:lnTo>
                  <a:lnTo>
                    <a:pt x="1133" y="905"/>
                  </a:lnTo>
                  <a:lnTo>
                    <a:pt x="1133" y="898"/>
                  </a:lnTo>
                  <a:lnTo>
                    <a:pt x="1127" y="898"/>
                  </a:lnTo>
                  <a:lnTo>
                    <a:pt x="1127" y="864"/>
                  </a:lnTo>
                  <a:lnTo>
                    <a:pt x="1123" y="864"/>
                  </a:lnTo>
                  <a:lnTo>
                    <a:pt x="1123" y="614"/>
                  </a:lnTo>
                  <a:lnTo>
                    <a:pt x="1118" y="614"/>
                  </a:lnTo>
                  <a:lnTo>
                    <a:pt x="1118" y="584"/>
                  </a:lnTo>
                  <a:lnTo>
                    <a:pt x="1113" y="584"/>
                  </a:lnTo>
                  <a:lnTo>
                    <a:pt x="1113" y="543"/>
                  </a:lnTo>
                  <a:lnTo>
                    <a:pt x="1109" y="543"/>
                  </a:lnTo>
                  <a:lnTo>
                    <a:pt x="1109" y="519"/>
                  </a:lnTo>
                  <a:lnTo>
                    <a:pt x="1104" y="519"/>
                  </a:lnTo>
                  <a:lnTo>
                    <a:pt x="1104" y="491"/>
                  </a:lnTo>
                  <a:lnTo>
                    <a:pt x="1099" y="491"/>
                  </a:lnTo>
                  <a:lnTo>
                    <a:pt x="1099" y="478"/>
                  </a:lnTo>
                  <a:lnTo>
                    <a:pt x="1094" y="478"/>
                  </a:lnTo>
                  <a:lnTo>
                    <a:pt x="1094" y="467"/>
                  </a:lnTo>
                  <a:lnTo>
                    <a:pt x="1090" y="467"/>
                  </a:lnTo>
                  <a:lnTo>
                    <a:pt x="1090" y="455"/>
                  </a:lnTo>
                  <a:lnTo>
                    <a:pt x="1084" y="455"/>
                  </a:lnTo>
                  <a:lnTo>
                    <a:pt x="1084" y="432"/>
                  </a:lnTo>
                  <a:lnTo>
                    <a:pt x="1080" y="432"/>
                  </a:lnTo>
                  <a:lnTo>
                    <a:pt x="1080" y="420"/>
                  </a:lnTo>
                  <a:lnTo>
                    <a:pt x="1075" y="420"/>
                  </a:lnTo>
                  <a:lnTo>
                    <a:pt x="1075" y="413"/>
                  </a:lnTo>
                  <a:lnTo>
                    <a:pt x="1071" y="413"/>
                  </a:lnTo>
                  <a:lnTo>
                    <a:pt x="1071" y="385"/>
                  </a:lnTo>
                  <a:lnTo>
                    <a:pt x="1066" y="385"/>
                  </a:lnTo>
                  <a:lnTo>
                    <a:pt x="1066" y="366"/>
                  </a:lnTo>
                  <a:lnTo>
                    <a:pt x="1061" y="366"/>
                  </a:lnTo>
                  <a:lnTo>
                    <a:pt x="1061" y="355"/>
                  </a:lnTo>
                  <a:lnTo>
                    <a:pt x="1056" y="355"/>
                  </a:lnTo>
                  <a:lnTo>
                    <a:pt x="1056" y="325"/>
                  </a:lnTo>
                  <a:lnTo>
                    <a:pt x="1050" y="325"/>
                  </a:lnTo>
                  <a:lnTo>
                    <a:pt x="1050" y="307"/>
                  </a:lnTo>
                  <a:lnTo>
                    <a:pt x="1046" y="307"/>
                  </a:lnTo>
                  <a:lnTo>
                    <a:pt x="1046" y="284"/>
                  </a:lnTo>
                  <a:lnTo>
                    <a:pt x="1041" y="284"/>
                  </a:lnTo>
                  <a:lnTo>
                    <a:pt x="1041" y="279"/>
                  </a:lnTo>
                  <a:lnTo>
                    <a:pt x="1036" y="279"/>
                  </a:lnTo>
                  <a:lnTo>
                    <a:pt x="1036" y="260"/>
                  </a:lnTo>
                  <a:lnTo>
                    <a:pt x="1031" y="260"/>
                  </a:lnTo>
                  <a:lnTo>
                    <a:pt x="1031" y="255"/>
                  </a:lnTo>
                  <a:lnTo>
                    <a:pt x="1027" y="255"/>
                  </a:lnTo>
                  <a:lnTo>
                    <a:pt x="1027" y="242"/>
                  </a:lnTo>
                  <a:lnTo>
                    <a:pt x="1022" y="242"/>
                  </a:lnTo>
                  <a:lnTo>
                    <a:pt x="1022" y="225"/>
                  </a:lnTo>
                  <a:lnTo>
                    <a:pt x="1017" y="225"/>
                  </a:lnTo>
                  <a:lnTo>
                    <a:pt x="1017" y="219"/>
                  </a:lnTo>
                  <a:lnTo>
                    <a:pt x="1013" y="219"/>
                  </a:lnTo>
                  <a:lnTo>
                    <a:pt x="1013" y="206"/>
                  </a:lnTo>
                  <a:lnTo>
                    <a:pt x="1008" y="206"/>
                  </a:lnTo>
                  <a:lnTo>
                    <a:pt x="1008" y="195"/>
                  </a:lnTo>
                  <a:lnTo>
                    <a:pt x="1003" y="195"/>
                  </a:lnTo>
                  <a:lnTo>
                    <a:pt x="1003" y="184"/>
                  </a:lnTo>
                  <a:lnTo>
                    <a:pt x="999" y="184"/>
                  </a:lnTo>
                  <a:lnTo>
                    <a:pt x="999" y="165"/>
                  </a:lnTo>
                  <a:lnTo>
                    <a:pt x="994" y="165"/>
                  </a:lnTo>
                  <a:lnTo>
                    <a:pt x="994" y="160"/>
                  </a:lnTo>
                  <a:lnTo>
                    <a:pt x="989" y="160"/>
                  </a:lnTo>
                  <a:lnTo>
                    <a:pt x="989" y="148"/>
                  </a:lnTo>
                  <a:lnTo>
                    <a:pt x="983" y="148"/>
                  </a:lnTo>
                  <a:lnTo>
                    <a:pt x="983" y="136"/>
                  </a:lnTo>
                  <a:lnTo>
                    <a:pt x="979" y="136"/>
                  </a:lnTo>
                  <a:lnTo>
                    <a:pt x="979" y="130"/>
                  </a:lnTo>
                  <a:lnTo>
                    <a:pt x="974" y="130"/>
                  </a:lnTo>
                  <a:lnTo>
                    <a:pt x="974" y="119"/>
                  </a:lnTo>
                  <a:lnTo>
                    <a:pt x="969" y="119"/>
                  </a:lnTo>
                  <a:lnTo>
                    <a:pt x="969" y="111"/>
                  </a:lnTo>
                  <a:lnTo>
                    <a:pt x="965" y="111"/>
                  </a:lnTo>
                  <a:lnTo>
                    <a:pt x="965" y="106"/>
                  </a:lnTo>
                  <a:lnTo>
                    <a:pt x="960" y="106"/>
                  </a:lnTo>
                  <a:lnTo>
                    <a:pt x="960" y="100"/>
                  </a:lnTo>
                  <a:lnTo>
                    <a:pt x="955" y="100"/>
                  </a:lnTo>
                  <a:lnTo>
                    <a:pt x="955" y="95"/>
                  </a:lnTo>
                  <a:lnTo>
                    <a:pt x="950" y="95"/>
                  </a:lnTo>
                  <a:lnTo>
                    <a:pt x="950" y="88"/>
                  </a:lnTo>
                  <a:lnTo>
                    <a:pt x="946" y="88"/>
                  </a:lnTo>
                  <a:lnTo>
                    <a:pt x="946" y="83"/>
                  </a:lnTo>
                  <a:lnTo>
                    <a:pt x="936" y="83"/>
                  </a:lnTo>
                  <a:lnTo>
                    <a:pt x="936" y="78"/>
                  </a:lnTo>
                  <a:lnTo>
                    <a:pt x="927" y="78"/>
                  </a:lnTo>
                  <a:lnTo>
                    <a:pt x="927" y="70"/>
                  </a:lnTo>
                  <a:lnTo>
                    <a:pt x="897" y="70"/>
                  </a:lnTo>
                  <a:lnTo>
                    <a:pt x="897" y="65"/>
                  </a:lnTo>
                  <a:lnTo>
                    <a:pt x="873" y="65"/>
                  </a:lnTo>
                  <a:lnTo>
                    <a:pt x="873" y="70"/>
                  </a:lnTo>
                  <a:lnTo>
                    <a:pt x="850" y="70"/>
                  </a:lnTo>
                  <a:lnTo>
                    <a:pt x="850" y="78"/>
                  </a:lnTo>
                  <a:lnTo>
                    <a:pt x="830" y="78"/>
                  </a:lnTo>
                  <a:lnTo>
                    <a:pt x="830" y="83"/>
                  </a:lnTo>
                  <a:lnTo>
                    <a:pt x="825" y="83"/>
                  </a:lnTo>
                  <a:lnTo>
                    <a:pt x="825" y="88"/>
                  </a:lnTo>
                  <a:lnTo>
                    <a:pt x="816" y="88"/>
                  </a:lnTo>
                  <a:lnTo>
                    <a:pt x="816" y="95"/>
                  </a:lnTo>
                  <a:lnTo>
                    <a:pt x="802" y="95"/>
                  </a:lnTo>
                  <a:lnTo>
                    <a:pt x="802" y="100"/>
                  </a:lnTo>
                  <a:lnTo>
                    <a:pt x="787" y="100"/>
                  </a:lnTo>
                  <a:lnTo>
                    <a:pt x="787" y="106"/>
                  </a:lnTo>
                  <a:lnTo>
                    <a:pt x="777" y="106"/>
                  </a:lnTo>
                  <a:lnTo>
                    <a:pt x="777" y="111"/>
                  </a:lnTo>
                  <a:lnTo>
                    <a:pt x="758" y="111"/>
                  </a:lnTo>
                  <a:lnTo>
                    <a:pt x="758" y="119"/>
                  </a:lnTo>
                  <a:lnTo>
                    <a:pt x="743" y="119"/>
                  </a:lnTo>
                  <a:lnTo>
                    <a:pt x="743" y="124"/>
                  </a:lnTo>
                  <a:lnTo>
                    <a:pt x="725" y="124"/>
                  </a:lnTo>
                  <a:lnTo>
                    <a:pt x="725" y="130"/>
                  </a:lnTo>
                  <a:lnTo>
                    <a:pt x="706" y="130"/>
                  </a:lnTo>
                  <a:lnTo>
                    <a:pt x="706" y="136"/>
                  </a:lnTo>
                  <a:lnTo>
                    <a:pt x="695" y="136"/>
                  </a:lnTo>
                  <a:lnTo>
                    <a:pt x="695" y="141"/>
                  </a:lnTo>
                  <a:lnTo>
                    <a:pt x="686" y="141"/>
                  </a:lnTo>
                  <a:lnTo>
                    <a:pt x="686" y="148"/>
                  </a:lnTo>
                  <a:lnTo>
                    <a:pt x="676" y="148"/>
                  </a:lnTo>
                  <a:lnTo>
                    <a:pt x="676" y="154"/>
                  </a:lnTo>
                  <a:lnTo>
                    <a:pt x="662" y="154"/>
                  </a:lnTo>
                  <a:lnTo>
                    <a:pt x="662" y="160"/>
                  </a:lnTo>
                  <a:lnTo>
                    <a:pt x="648" y="160"/>
                  </a:lnTo>
                  <a:lnTo>
                    <a:pt x="648" y="165"/>
                  </a:lnTo>
                  <a:lnTo>
                    <a:pt x="634" y="165"/>
                  </a:lnTo>
                  <a:lnTo>
                    <a:pt x="634" y="171"/>
                  </a:lnTo>
                  <a:lnTo>
                    <a:pt x="624" y="171"/>
                  </a:lnTo>
                  <a:lnTo>
                    <a:pt x="624" y="178"/>
                  </a:lnTo>
                  <a:lnTo>
                    <a:pt x="614" y="178"/>
                  </a:lnTo>
                  <a:lnTo>
                    <a:pt x="614" y="184"/>
                  </a:lnTo>
                  <a:lnTo>
                    <a:pt x="609" y="184"/>
                  </a:lnTo>
                  <a:lnTo>
                    <a:pt x="609" y="189"/>
                  </a:lnTo>
                  <a:lnTo>
                    <a:pt x="595" y="189"/>
                  </a:lnTo>
                  <a:lnTo>
                    <a:pt x="595" y="195"/>
                  </a:lnTo>
                  <a:lnTo>
                    <a:pt x="585" y="195"/>
                  </a:lnTo>
                  <a:lnTo>
                    <a:pt x="585" y="201"/>
                  </a:lnTo>
                  <a:lnTo>
                    <a:pt x="576" y="201"/>
                  </a:lnTo>
                  <a:lnTo>
                    <a:pt x="576" y="206"/>
                  </a:lnTo>
                  <a:lnTo>
                    <a:pt x="562" y="206"/>
                  </a:lnTo>
                  <a:lnTo>
                    <a:pt x="562" y="214"/>
                  </a:lnTo>
                  <a:lnTo>
                    <a:pt x="547" y="214"/>
                  </a:lnTo>
                  <a:lnTo>
                    <a:pt x="547" y="219"/>
                  </a:lnTo>
                  <a:lnTo>
                    <a:pt x="532" y="219"/>
                  </a:lnTo>
                  <a:lnTo>
                    <a:pt x="532" y="225"/>
                  </a:lnTo>
                  <a:lnTo>
                    <a:pt x="528" y="225"/>
                  </a:lnTo>
                  <a:lnTo>
                    <a:pt x="528" y="230"/>
                  </a:lnTo>
                  <a:lnTo>
                    <a:pt x="518" y="230"/>
                  </a:lnTo>
                  <a:lnTo>
                    <a:pt x="518" y="237"/>
                  </a:lnTo>
                  <a:lnTo>
                    <a:pt x="508" y="237"/>
                  </a:lnTo>
                  <a:lnTo>
                    <a:pt x="508" y="242"/>
                  </a:lnTo>
                  <a:lnTo>
                    <a:pt x="499" y="242"/>
                  </a:lnTo>
                  <a:lnTo>
                    <a:pt x="499" y="247"/>
                  </a:lnTo>
                  <a:lnTo>
                    <a:pt x="485" y="247"/>
                  </a:lnTo>
                  <a:lnTo>
                    <a:pt x="485" y="255"/>
                  </a:lnTo>
                  <a:lnTo>
                    <a:pt x="474" y="255"/>
                  </a:lnTo>
                  <a:lnTo>
                    <a:pt x="474" y="260"/>
                  </a:lnTo>
                  <a:lnTo>
                    <a:pt x="465" y="260"/>
                  </a:lnTo>
                  <a:lnTo>
                    <a:pt x="465" y="266"/>
                  </a:lnTo>
                  <a:lnTo>
                    <a:pt x="455" y="266"/>
                  </a:lnTo>
                  <a:lnTo>
                    <a:pt x="455" y="272"/>
                  </a:lnTo>
                  <a:lnTo>
                    <a:pt x="451" y="272"/>
                  </a:lnTo>
                  <a:lnTo>
                    <a:pt x="451" y="279"/>
                  </a:lnTo>
                  <a:lnTo>
                    <a:pt x="436" y="279"/>
                  </a:lnTo>
                  <a:lnTo>
                    <a:pt x="436" y="284"/>
                  </a:lnTo>
                  <a:lnTo>
                    <a:pt x="427" y="284"/>
                  </a:lnTo>
                  <a:lnTo>
                    <a:pt x="427" y="290"/>
                  </a:lnTo>
                  <a:lnTo>
                    <a:pt x="418" y="290"/>
                  </a:lnTo>
                  <a:lnTo>
                    <a:pt x="418" y="296"/>
                  </a:lnTo>
                  <a:lnTo>
                    <a:pt x="407" y="296"/>
                  </a:lnTo>
                  <a:lnTo>
                    <a:pt x="407" y="301"/>
                  </a:lnTo>
                  <a:lnTo>
                    <a:pt x="392" y="301"/>
                  </a:lnTo>
                  <a:lnTo>
                    <a:pt x="392" y="307"/>
                  </a:lnTo>
                  <a:lnTo>
                    <a:pt x="378" y="307"/>
                  </a:lnTo>
                  <a:lnTo>
                    <a:pt x="378" y="314"/>
                  </a:lnTo>
                  <a:lnTo>
                    <a:pt x="369" y="314"/>
                  </a:lnTo>
                  <a:lnTo>
                    <a:pt x="369" y="320"/>
                  </a:lnTo>
                  <a:lnTo>
                    <a:pt x="364" y="320"/>
                  </a:lnTo>
                  <a:lnTo>
                    <a:pt x="364" y="325"/>
                  </a:lnTo>
                  <a:lnTo>
                    <a:pt x="350" y="325"/>
                  </a:lnTo>
                  <a:lnTo>
                    <a:pt x="350" y="331"/>
                  </a:lnTo>
                  <a:lnTo>
                    <a:pt x="335" y="331"/>
                  </a:lnTo>
                  <a:lnTo>
                    <a:pt x="335" y="337"/>
                  </a:lnTo>
                  <a:lnTo>
                    <a:pt x="325" y="337"/>
                  </a:lnTo>
                  <a:lnTo>
                    <a:pt x="325" y="342"/>
                  </a:lnTo>
                  <a:lnTo>
                    <a:pt x="321" y="342"/>
                  </a:lnTo>
                  <a:lnTo>
                    <a:pt x="321" y="348"/>
                  </a:lnTo>
                  <a:lnTo>
                    <a:pt x="311" y="348"/>
                  </a:lnTo>
                  <a:lnTo>
                    <a:pt x="311" y="355"/>
                  </a:lnTo>
                  <a:lnTo>
                    <a:pt x="302" y="355"/>
                  </a:lnTo>
                  <a:lnTo>
                    <a:pt x="302" y="361"/>
                  </a:lnTo>
                  <a:lnTo>
                    <a:pt x="293" y="361"/>
                  </a:lnTo>
                  <a:lnTo>
                    <a:pt x="293" y="366"/>
                  </a:lnTo>
                  <a:lnTo>
                    <a:pt x="283" y="366"/>
                  </a:lnTo>
                  <a:lnTo>
                    <a:pt x="283" y="373"/>
                  </a:lnTo>
                  <a:lnTo>
                    <a:pt x="268" y="373"/>
                  </a:lnTo>
                  <a:lnTo>
                    <a:pt x="268" y="378"/>
                  </a:lnTo>
                  <a:lnTo>
                    <a:pt x="258" y="378"/>
                  </a:lnTo>
                  <a:lnTo>
                    <a:pt x="258" y="385"/>
                  </a:lnTo>
                  <a:lnTo>
                    <a:pt x="253" y="385"/>
                  </a:lnTo>
                  <a:lnTo>
                    <a:pt x="253" y="391"/>
                  </a:lnTo>
                  <a:lnTo>
                    <a:pt x="244" y="391"/>
                  </a:lnTo>
                  <a:lnTo>
                    <a:pt x="244" y="396"/>
                  </a:lnTo>
                  <a:lnTo>
                    <a:pt x="240" y="396"/>
                  </a:lnTo>
                  <a:lnTo>
                    <a:pt x="240" y="401"/>
                  </a:lnTo>
                  <a:lnTo>
                    <a:pt x="230" y="401"/>
                  </a:lnTo>
                  <a:lnTo>
                    <a:pt x="230" y="407"/>
                  </a:lnTo>
                  <a:lnTo>
                    <a:pt x="220" y="407"/>
                  </a:lnTo>
                  <a:lnTo>
                    <a:pt x="220" y="413"/>
                  </a:lnTo>
                  <a:lnTo>
                    <a:pt x="206" y="413"/>
                  </a:lnTo>
                  <a:lnTo>
                    <a:pt x="206" y="420"/>
                  </a:lnTo>
                  <a:lnTo>
                    <a:pt x="197" y="420"/>
                  </a:lnTo>
                  <a:lnTo>
                    <a:pt x="197" y="425"/>
                  </a:lnTo>
                  <a:lnTo>
                    <a:pt x="186" y="425"/>
                  </a:lnTo>
                  <a:lnTo>
                    <a:pt x="186" y="432"/>
                  </a:lnTo>
                  <a:lnTo>
                    <a:pt x="177" y="432"/>
                  </a:lnTo>
                  <a:lnTo>
                    <a:pt x="177" y="437"/>
                  </a:lnTo>
                  <a:lnTo>
                    <a:pt x="172" y="437"/>
                  </a:lnTo>
                  <a:lnTo>
                    <a:pt x="172" y="443"/>
                  </a:lnTo>
                  <a:lnTo>
                    <a:pt x="158" y="443"/>
                  </a:lnTo>
                  <a:lnTo>
                    <a:pt x="158" y="450"/>
                  </a:lnTo>
                  <a:lnTo>
                    <a:pt x="148" y="450"/>
                  </a:lnTo>
                  <a:lnTo>
                    <a:pt x="148" y="455"/>
                  </a:lnTo>
                  <a:lnTo>
                    <a:pt x="138" y="455"/>
                  </a:lnTo>
                  <a:lnTo>
                    <a:pt x="138" y="461"/>
                  </a:lnTo>
                  <a:lnTo>
                    <a:pt x="130" y="461"/>
                  </a:lnTo>
                  <a:lnTo>
                    <a:pt x="130" y="467"/>
                  </a:lnTo>
                  <a:lnTo>
                    <a:pt x="120" y="467"/>
                  </a:lnTo>
                  <a:lnTo>
                    <a:pt x="120" y="473"/>
                  </a:lnTo>
                  <a:lnTo>
                    <a:pt x="109" y="473"/>
                  </a:lnTo>
                  <a:lnTo>
                    <a:pt x="109" y="478"/>
                  </a:lnTo>
                  <a:lnTo>
                    <a:pt x="100" y="478"/>
                  </a:lnTo>
                  <a:lnTo>
                    <a:pt x="100" y="485"/>
                  </a:lnTo>
                  <a:lnTo>
                    <a:pt x="95" y="485"/>
                  </a:lnTo>
                  <a:lnTo>
                    <a:pt x="95" y="491"/>
                  </a:lnTo>
                  <a:lnTo>
                    <a:pt x="90" y="491"/>
                  </a:lnTo>
                  <a:lnTo>
                    <a:pt x="90" y="497"/>
                  </a:lnTo>
                  <a:lnTo>
                    <a:pt x="86" y="497"/>
                  </a:lnTo>
                  <a:lnTo>
                    <a:pt x="86" y="502"/>
                  </a:lnTo>
                  <a:lnTo>
                    <a:pt x="81" y="502"/>
                  </a:lnTo>
                  <a:lnTo>
                    <a:pt x="81" y="508"/>
                  </a:lnTo>
                  <a:lnTo>
                    <a:pt x="76" y="508"/>
                  </a:lnTo>
                  <a:lnTo>
                    <a:pt x="76" y="526"/>
                  </a:lnTo>
                  <a:lnTo>
                    <a:pt x="71" y="526"/>
                  </a:lnTo>
                  <a:lnTo>
                    <a:pt x="71" y="543"/>
                  </a:lnTo>
                  <a:lnTo>
                    <a:pt x="67" y="543"/>
                  </a:lnTo>
                  <a:lnTo>
                    <a:pt x="67" y="592"/>
                  </a:lnTo>
                  <a:lnTo>
                    <a:pt x="71" y="592"/>
                  </a:lnTo>
                  <a:lnTo>
                    <a:pt x="71" y="633"/>
                  </a:lnTo>
                  <a:lnTo>
                    <a:pt x="76" y="633"/>
                  </a:lnTo>
                  <a:lnTo>
                    <a:pt x="76" y="674"/>
                  </a:lnTo>
                  <a:lnTo>
                    <a:pt x="81" y="674"/>
                  </a:lnTo>
                  <a:lnTo>
                    <a:pt x="81" y="720"/>
                  </a:lnTo>
                  <a:lnTo>
                    <a:pt x="86" y="720"/>
                  </a:lnTo>
                  <a:lnTo>
                    <a:pt x="86" y="752"/>
                  </a:lnTo>
                  <a:lnTo>
                    <a:pt x="90" y="752"/>
                  </a:lnTo>
                  <a:lnTo>
                    <a:pt x="90" y="810"/>
                  </a:lnTo>
                  <a:lnTo>
                    <a:pt x="95" y="810"/>
                  </a:lnTo>
                  <a:lnTo>
                    <a:pt x="95" y="845"/>
                  </a:lnTo>
                  <a:lnTo>
                    <a:pt x="100" y="845"/>
                  </a:lnTo>
                  <a:lnTo>
                    <a:pt x="100" y="905"/>
                  </a:lnTo>
                  <a:lnTo>
                    <a:pt x="104" y="905"/>
                  </a:lnTo>
                  <a:lnTo>
                    <a:pt x="104" y="916"/>
                  </a:lnTo>
                  <a:lnTo>
                    <a:pt x="100" y="916"/>
                  </a:lnTo>
                  <a:lnTo>
                    <a:pt x="100" y="927"/>
                  </a:lnTo>
                  <a:lnTo>
                    <a:pt x="104" y="927"/>
                  </a:lnTo>
                  <a:lnTo>
                    <a:pt x="104" y="957"/>
                  </a:lnTo>
                  <a:lnTo>
                    <a:pt x="109" y="957"/>
                  </a:lnTo>
                  <a:lnTo>
                    <a:pt x="109" y="981"/>
                  </a:lnTo>
                  <a:lnTo>
                    <a:pt x="114" y="981"/>
                  </a:lnTo>
                  <a:lnTo>
                    <a:pt x="114" y="1011"/>
                  </a:lnTo>
                  <a:lnTo>
                    <a:pt x="120" y="1011"/>
                  </a:lnTo>
                  <a:lnTo>
                    <a:pt x="120" y="1052"/>
                  </a:lnTo>
                  <a:lnTo>
                    <a:pt x="124" y="1052"/>
                  </a:lnTo>
                  <a:lnTo>
                    <a:pt x="124" y="1087"/>
                  </a:lnTo>
                  <a:lnTo>
                    <a:pt x="130" y="1087"/>
                  </a:lnTo>
                  <a:lnTo>
                    <a:pt x="130" y="1147"/>
                  </a:lnTo>
                  <a:lnTo>
                    <a:pt x="134" y="1147"/>
                  </a:lnTo>
                  <a:lnTo>
                    <a:pt x="134" y="1171"/>
                  </a:lnTo>
                  <a:lnTo>
                    <a:pt x="138" y="1171"/>
                  </a:lnTo>
                  <a:lnTo>
                    <a:pt x="138" y="1229"/>
                  </a:lnTo>
                  <a:lnTo>
                    <a:pt x="144" y="1229"/>
                  </a:lnTo>
                  <a:lnTo>
                    <a:pt x="144" y="1277"/>
                  </a:lnTo>
                  <a:lnTo>
                    <a:pt x="148" y="1277"/>
                  </a:lnTo>
                  <a:lnTo>
                    <a:pt x="148" y="1301"/>
                  </a:lnTo>
                  <a:lnTo>
                    <a:pt x="153" y="1301"/>
                  </a:lnTo>
                  <a:lnTo>
                    <a:pt x="153" y="1353"/>
                  </a:lnTo>
                  <a:lnTo>
                    <a:pt x="158" y="1353"/>
                  </a:lnTo>
                  <a:lnTo>
                    <a:pt x="158" y="1370"/>
                  </a:lnTo>
                  <a:lnTo>
                    <a:pt x="163" y="1370"/>
                  </a:lnTo>
                  <a:lnTo>
                    <a:pt x="163" y="1389"/>
                  </a:lnTo>
                  <a:lnTo>
                    <a:pt x="167" y="1389"/>
                  </a:lnTo>
                  <a:lnTo>
                    <a:pt x="167" y="1413"/>
                  </a:lnTo>
                  <a:lnTo>
                    <a:pt x="163" y="1413"/>
                  </a:lnTo>
                  <a:lnTo>
                    <a:pt x="163" y="1424"/>
                  </a:lnTo>
                  <a:lnTo>
                    <a:pt x="158" y="1424"/>
                  </a:lnTo>
                  <a:lnTo>
                    <a:pt x="158" y="1437"/>
                  </a:lnTo>
                  <a:lnTo>
                    <a:pt x="148" y="1437"/>
                  </a:lnTo>
                  <a:lnTo>
                    <a:pt x="148" y="1442"/>
                  </a:lnTo>
                  <a:lnTo>
                    <a:pt x="138" y="1442"/>
                  </a:lnTo>
                  <a:lnTo>
                    <a:pt x="138" y="1448"/>
                  </a:lnTo>
                  <a:lnTo>
                    <a:pt x="120" y="1448"/>
                  </a:lnTo>
                  <a:lnTo>
                    <a:pt x="120" y="1454"/>
                  </a:lnTo>
                  <a:lnTo>
                    <a:pt x="109" y="1454"/>
                  </a:lnTo>
                  <a:lnTo>
                    <a:pt x="109" y="1448"/>
                  </a:lnTo>
                  <a:lnTo>
                    <a:pt x="104" y="1448"/>
                  </a:lnTo>
                  <a:lnTo>
                    <a:pt x="104" y="1424"/>
                  </a:lnTo>
                  <a:lnTo>
                    <a:pt x="100" y="1424"/>
                  </a:lnTo>
                  <a:lnTo>
                    <a:pt x="100" y="1413"/>
                  </a:lnTo>
                  <a:lnTo>
                    <a:pt x="95" y="1413"/>
                  </a:lnTo>
                  <a:lnTo>
                    <a:pt x="95" y="1395"/>
                  </a:lnTo>
                  <a:lnTo>
                    <a:pt x="100" y="1395"/>
                  </a:lnTo>
                  <a:lnTo>
                    <a:pt x="100" y="1324"/>
                  </a:lnTo>
                  <a:lnTo>
                    <a:pt x="95" y="1324"/>
                  </a:lnTo>
                  <a:lnTo>
                    <a:pt x="95" y="1264"/>
                  </a:lnTo>
                  <a:lnTo>
                    <a:pt x="90" y="1264"/>
                  </a:lnTo>
                  <a:lnTo>
                    <a:pt x="90" y="1206"/>
                  </a:lnTo>
                  <a:lnTo>
                    <a:pt x="86" y="1206"/>
                  </a:lnTo>
                  <a:lnTo>
                    <a:pt x="86" y="1188"/>
                  </a:lnTo>
                  <a:lnTo>
                    <a:pt x="81" y="1188"/>
                  </a:lnTo>
                  <a:lnTo>
                    <a:pt x="81" y="1152"/>
                  </a:lnTo>
                  <a:lnTo>
                    <a:pt x="76" y="1152"/>
                  </a:lnTo>
                  <a:lnTo>
                    <a:pt x="76" y="1093"/>
                  </a:lnTo>
                  <a:lnTo>
                    <a:pt x="71" y="1093"/>
                  </a:lnTo>
                  <a:lnTo>
                    <a:pt x="71" y="1070"/>
                  </a:lnTo>
                  <a:lnTo>
                    <a:pt x="67" y="1070"/>
                  </a:lnTo>
                  <a:lnTo>
                    <a:pt x="67" y="1029"/>
                  </a:lnTo>
                  <a:lnTo>
                    <a:pt x="62" y="1029"/>
                  </a:lnTo>
                  <a:lnTo>
                    <a:pt x="62" y="981"/>
                  </a:lnTo>
                  <a:lnTo>
                    <a:pt x="57" y="981"/>
                  </a:lnTo>
                  <a:lnTo>
                    <a:pt x="57" y="934"/>
                  </a:lnTo>
                  <a:lnTo>
                    <a:pt x="52" y="934"/>
                  </a:lnTo>
                  <a:lnTo>
                    <a:pt x="52" y="886"/>
                  </a:lnTo>
                  <a:lnTo>
                    <a:pt x="48" y="886"/>
                  </a:lnTo>
                  <a:lnTo>
                    <a:pt x="48" y="856"/>
                  </a:lnTo>
                  <a:lnTo>
                    <a:pt x="42" y="856"/>
                  </a:lnTo>
                  <a:lnTo>
                    <a:pt x="42" y="810"/>
                  </a:lnTo>
                  <a:lnTo>
                    <a:pt x="37" y="810"/>
                  </a:lnTo>
                  <a:lnTo>
                    <a:pt x="37" y="757"/>
                  </a:lnTo>
                  <a:lnTo>
                    <a:pt x="33" y="757"/>
                  </a:lnTo>
                  <a:lnTo>
                    <a:pt x="33" y="687"/>
                  </a:lnTo>
                  <a:lnTo>
                    <a:pt x="27" y="687"/>
                  </a:lnTo>
                  <a:lnTo>
                    <a:pt x="27" y="644"/>
                  </a:lnTo>
                  <a:lnTo>
                    <a:pt x="23" y="644"/>
                  </a:lnTo>
                  <a:lnTo>
                    <a:pt x="23" y="627"/>
                  </a:lnTo>
                  <a:lnTo>
                    <a:pt x="18" y="627"/>
                  </a:lnTo>
                  <a:lnTo>
                    <a:pt x="18" y="551"/>
                  </a:lnTo>
                  <a:lnTo>
                    <a:pt x="13" y="551"/>
                  </a:lnTo>
                  <a:lnTo>
                    <a:pt x="13" y="478"/>
                  </a:lnTo>
                  <a:lnTo>
                    <a:pt x="18" y="478"/>
                  </a:lnTo>
                  <a:lnTo>
                    <a:pt x="18" y="473"/>
                  </a:lnTo>
                  <a:lnTo>
                    <a:pt x="33" y="473"/>
                  </a:lnTo>
                  <a:lnTo>
                    <a:pt x="33" y="467"/>
                  </a:lnTo>
                  <a:lnTo>
                    <a:pt x="37" y="467"/>
                  </a:lnTo>
                  <a:lnTo>
                    <a:pt x="37" y="455"/>
                  </a:lnTo>
                  <a:lnTo>
                    <a:pt x="42" y="455"/>
                  </a:lnTo>
                  <a:lnTo>
                    <a:pt x="42" y="450"/>
                  </a:lnTo>
                  <a:lnTo>
                    <a:pt x="52" y="450"/>
                  </a:lnTo>
                  <a:lnTo>
                    <a:pt x="52" y="443"/>
                  </a:lnTo>
                  <a:lnTo>
                    <a:pt x="62" y="443"/>
                  </a:lnTo>
                  <a:lnTo>
                    <a:pt x="62" y="437"/>
                  </a:lnTo>
                  <a:lnTo>
                    <a:pt x="67" y="437"/>
                  </a:lnTo>
                  <a:lnTo>
                    <a:pt x="67" y="432"/>
                  </a:lnTo>
                  <a:lnTo>
                    <a:pt x="76" y="432"/>
                  </a:lnTo>
                  <a:lnTo>
                    <a:pt x="76" y="425"/>
                  </a:lnTo>
                  <a:lnTo>
                    <a:pt x="86" y="425"/>
                  </a:lnTo>
                  <a:lnTo>
                    <a:pt x="86" y="420"/>
                  </a:lnTo>
                  <a:lnTo>
                    <a:pt x="95" y="420"/>
                  </a:lnTo>
                  <a:lnTo>
                    <a:pt x="95" y="413"/>
                  </a:lnTo>
                  <a:lnTo>
                    <a:pt x="104" y="413"/>
                  </a:lnTo>
                  <a:lnTo>
                    <a:pt x="104" y="407"/>
                  </a:lnTo>
                  <a:lnTo>
                    <a:pt x="114" y="407"/>
                  </a:lnTo>
                  <a:lnTo>
                    <a:pt x="114" y="401"/>
                  </a:lnTo>
                  <a:lnTo>
                    <a:pt x="124" y="401"/>
                  </a:lnTo>
                  <a:lnTo>
                    <a:pt x="124" y="396"/>
                  </a:lnTo>
                  <a:lnTo>
                    <a:pt x="138" y="396"/>
                  </a:lnTo>
                  <a:lnTo>
                    <a:pt x="138" y="391"/>
                  </a:lnTo>
                  <a:lnTo>
                    <a:pt x="144" y="391"/>
                  </a:lnTo>
                  <a:lnTo>
                    <a:pt x="144" y="385"/>
                  </a:lnTo>
                  <a:lnTo>
                    <a:pt x="158" y="385"/>
                  </a:lnTo>
                  <a:lnTo>
                    <a:pt x="158" y="378"/>
                  </a:lnTo>
                  <a:lnTo>
                    <a:pt x="167" y="378"/>
                  </a:lnTo>
                  <a:lnTo>
                    <a:pt x="167" y="373"/>
                  </a:lnTo>
                  <a:lnTo>
                    <a:pt x="177" y="373"/>
                  </a:lnTo>
                  <a:lnTo>
                    <a:pt x="177" y="366"/>
                  </a:lnTo>
                  <a:lnTo>
                    <a:pt x="181" y="366"/>
                  </a:lnTo>
                  <a:lnTo>
                    <a:pt x="181" y="361"/>
                  </a:lnTo>
                  <a:lnTo>
                    <a:pt x="186" y="361"/>
                  </a:lnTo>
                  <a:lnTo>
                    <a:pt x="186" y="355"/>
                  </a:lnTo>
                  <a:lnTo>
                    <a:pt x="197" y="355"/>
                  </a:lnTo>
                  <a:lnTo>
                    <a:pt x="197" y="348"/>
                  </a:lnTo>
                  <a:lnTo>
                    <a:pt x="201" y="348"/>
                  </a:lnTo>
                  <a:lnTo>
                    <a:pt x="201" y="342"/>
                  </a:lnTo>
                  <a:lnTo>
                    <a:pt x="215" y="342"/>
                  </a:lnTo>
                  <a:lnTo>
                    <a:pt x="215" y="337"/>
                  </a:lnTo>
                  <a:lnTo>
                    <a:pt x="220" y="337"/>
                  </a:lnTo>
                  <a:lnTo>
                    <a:pt x="220" y="331"/>
                  </a:lnTo>
                  <a:lnTo>
                    <a:pt x="234" y="331"/>
                  </a:lnTo>
                  <a:lnTo>
                    <a:pt x="234" y="325"/>
                  </a:lnTo>
                  <a:lnTo>
                    <a:pt x="249" y="325"/>
                  </a:lnTo>
                  <a:lnTo>
                    <a:pt x="249" y="320"/>
                  </a:lnTo>
                  <a:lnTo>
                    <a:pt x="258" y="320"/>
                  </a:lnTo>
                  <a:lnTo>
                    <a:pt x="258" y="314"/>
                  </a:lnTo>
                  <a:lnTo>
                    <a:pt x="268" y="314"/>
                  </a:lnTo>
                  <a:lnTo>
                    <a:pt x="268" y="307"/>
                  </a:lnTo>
                  <a:lnTo>
                    <a:pt x="278" y="307"/>
                  </a:lnTo>
                  <a:lnTo>
                    <a:pt x="278" y="301"/>
                  </a:lnTo>
                  <a:lnTo>
                    <a:pt x="293" y="301"/>
                  </a:lnTo>
                  <a:lnTo>
                    <a:pt x="293" y="296"/>
                  </a:lnTo>
                  <a:lnTo>
                    <a:pt x="302" y="296"/>
                  </a:lnTo>
                  <a:lnTo>
                    <a:pt x="302" y="290"/>
                  </a:lnTo>
                  <a:lnTo>
                    <a:pt x="311" y="290"/>
                  </a:lnTo>
                  <a:lnTo>
                    <a:pt x="311" y="284"/>
                  </a:lnTo>
                  <a:lnTo>
                    <a:pt x="321" y="284"/>
                  </a:lnTo>
                  <a:lnTo>
                    <a:pt x="321" y="279"/>
                  </a:lnTo>
                  <a:lnTo>
                    <a:pt x="330" y="279"/>
                  </a:lnTo>
                  <a:lnTo>
                    <a:pt x="330" y="272"/>
                  </a:lnTo>
                  <a:lnTo>
                    <a:pt x="335" y="272"/>
                  </a:lnTo>
                  <a:lnTo>
                    <a:pt x="335" y="266"/>
                  </a:lnTo>
                  <a:lnTo>
                    <a:pt x="345" y="266"/>
                  </a:lnTo>
                  <a:lnTo>
                    <a:pt x="345" y="260"/>
                  </a:lnTo>
                  <a:lnTo>
                    <a:pt x="359" y="260"/>
                  </a:lnTo>
                  <a:lnTo>
                    <a:pt x="359" y="255"/>
                  </a:lnTo>
                  <a:lnTo>
                    <a:pt x="374" y="255"/>
                  </a:lnTo>
                  <a:lnTo>
                    <a:pt x="374" y="247"/>
                  </a:lnTo>
                  <a:lnTo>
                    <a:pt x="378" y="247"/>
                  </a:lnTo>
                  <a:lnTo>
                    <a:pt x="378" y="242"/>
                  </a:lnTo>
                  <a:lnTo>
                    <a:pt x="392" y="242"/>
                  </a:lnTo>
                  <a:lnTo>
                    <a:pt x="392" y="237"/>
                  </a:lnTo>
                  <a:lnTo>
                    <a:pt x="402" y="237"/>
                  </a:lnTo>
                  <a:lnTo>
                    <a:pt x="402" y="230"/>
                  </a:lnTo>
                  <a:lnTo>
                    <a:pt x="412" y="230"/>
                  </a:lnTo>
                  <a:lnTo>
                    <a:pt x="412" y="225"/>
                  </a:lnTo>
                  <a:lnTo>
                    <a:pt x="427" y="225"/>
                  </a:lnTo>
                  <a:lnTo>
                    <a:pt x="427" y="219"/>
                  </a:lnTo>
                  <a:lnTo>
                    <a:pt x="436" y="219"/>
                  </a:lnTo>
                  <a:lnTo>
                    <a:pt x="436" y="214"/>
                  </a:lnTo>
                  <a:lnTo>
                    <a:pt x="446" y="214"/>
                  </a:lnTo>
                  <a:lnTo>
                    <a:pt x="446" y="206"/>
                  </a:lnTo>
                  <a:lnTo>
                    <a:pt x="455" y="206"/>
                  </a:lnTo>
                  <a:lnTo>
                    <a:pt x="455" y="201"/>
                  </a:lnTo>
                  <a:lnTo>
                    <a:pt x="470" y="201"/>
                  </a:lnTo>
                  <a:lnTo>
                    <a:pt x="470" y="195"/>
                  </a:lnTo>
                  <a:lnTo>
                    <a:pt x="474" y="195"/>
                  </a:lnTo>
                  <a:lnTo>
                    <a:pt x="474" y="189"/>
                  </a:lnTo>
                  <a:lnTo>
                    <a:pt x="485" y="189"/>
                  </a:lnTo>
                  <a:lnTo>
                    <a:pt x="485" y="184"/>
                  </a:lnTo>
                  <a:lnTo>
                    <a:pt x="494" y="184"/>
                  </a:lnTo>
                  <a:lnTo>
                    <a:pt x="494" y="178"/>
                  </a:lnTo>
                  <a:lnTo>
                    <a:pt x="508" y="178"/>
                  </a:lnTo>
                  <a:lnTo>
                    <a:pt x="508" y="171"/>
                  </a:lnTo>
                  <a:lnTo>
                    <a:pt x="522" y="171"/>
                  </a:lnTo>
                  <a:lnTo>
                    <a:pt x="522" y="165"/>
                  </a:lnTo>
                  <a:lnTo>
                    <a:pt x="528" y="165"/>
                  </a:lnTo>
                  <a:lnTo>
                    <a:pt x="528" y="160"/>
                  </a:lnTo>
                  <a:lnTo>
                    <a:pt x="547" y="160"/>
                  </a:lnTo>
                  <a:lnTo>
                    <a:pt x="547" y="154"/>
                  </a:lnTo>
                  <a:lnTo>
                    <a:pt x="556" y="154"/>
                  </a:lnTo>
                  <a:lnTo>
                    <a:pt x="556" y="148"/>
                  </a:lnTo>
                  <a:lnTo>
                    <a:pt x="566" y="148"/>
                  </a:lnTo>
                  <a:lnTo>
                    <a:pt x="566" y="141"/>
                  </a:lnTo>
                  <a:lnTo>
                    <a:pt x="576" y="141"/>
                  </a:lnTo>
                  <a:lnTo>
                    <a:pt x="576" y="136"/>
                  </a:lnTo>
                  <a:lnTo>
                    <a:pt x="585" y="136"/>
                  </a:lnTo>
                  <a:lnTo>
                    <a:pt x="585" y="130"/>
                  </a:lnTo>
                  <a:lnTo>
                    <a:pt x="590" y="130"/>
                  </a:lnTo>
                  <a:lnTo>
                    <a:pt x="590" y="124"/>
                  </a:lnTo>
                  <a:lnTo>
                    <a:pt x="604" y="124"/>
                  </a:lnTo>
                  <a:lnTo>
                    <a:pt x="604" y="119"/>
                  </a:lnTo>
                  <a:lnTo>
                    <a:pt x="618" y="119"/>
                  </a:lnTo>
                  <a:lnTo>
                    <a:pt x="618" y="111"/>
                  </a:lnTo>
                  <a:lnTo>
                    <a:pt x="629" y="111"/>
                  </a:lnTo>
                  <a:lnTo>
                    <a:pt x="629" y="106"/>
                  </a:lnTo>
                  <a:lnTo>
                    <a:pt x="638" y="106"/>
                  </a:lnTo>
                  <a:lnTo>
                    <a:pt x="638" y="100"/>
                  </a:lnTo>
                  <a:lnTo>
                    <a:pt x="648" y="100"/>
                  </a:lnTo>
                  <a:lnTo>
                    <a:pt x="648" y="95"/>
                  </a:lnTo>
                  <a:lnTo>
                    <a:pt x="652" y="95"/>
                  </a:lnTo>
                  <a:lnTo>
                    <a:pt x="652" y="88"/>
                  </a:lnTo>
                  <a:lnTo>
                    <a:pt x="666" y="88"/>
                  </a:lnTo>
                  <a:lnTo>
                    <a:pt x="666" y="83"/>
                  </a:lnTo>
                  <a:lnTo>
                    <a:pt x="686" y="83"/>
                  </a:lnTo>
                  <a:lnTo>
                    <a:pt x="686" y="78"/>
                  </a:lnTo>
                  <a:lnTo>
                    <a:pt x="710" y="78"/>
                  </a:lnTo>
                  <a:lnTo>
                    <a:pt x="710" y="70"/>
                  </a:lnTo>
                  <a:lnTo>
                    <a:pt x="715" y="70"/>
                  </a:lnTo>
                  <a:lnTo>
                    <a:pt x="715" y="65"/>
                  </a:lnTo>
                  <a:lnTo>
                    <a:pt x="720" y="65"/>
                  </a:lnTo>
                  <a:lnTo>
                    <a:pt x="720" y="59"/>
                  </a:lnTo>
                  <a:lnTo>
                    <a:pt x="743" y="59"/>
                  </a:lnTo>
                  <a:lnTo>
                    <a:pt x="743" y="53"/>
                  </a:lnTo>
                  <a:lnTo>
                    <a:pt x="758" y="53"/>
                  </a:lnTo>
                  <a:lnTo>
                    <a:pt x="758" y="47"/>
                  </a:lnTo>
                  <a:lnTo>
                    <a:pt x="773" y="47"/>
                  </a:lnTo>
                  <a:lnTo>
                    <a:pt x="773" y="42"/>
                  </a:lnTo>
                  <a:lnTo>
                    <a:pt x="782" y="42"/>
                  </a:lnTo>
                  <a:lnTo>
                    <a:pt x="782" y="35"/>
                  </a:lnTo>
                  <a:lnTo>
                    <a:pt x="792" y="35"/>
                  </a:lnTo>
                  <a:lnTo>
                    <a:pt x="792" y="29"/>
                  </a:lnTo>
                  <a:lnTo>
                    <a:pt x="802" y="29"/>
                  </a:lnTo>
                  <a:lnTo>
                    <a:pt x="802" y="24"/>
                  </a:lnTo>
                  <a:lnTo>
                    <a:pt x="816" y="24"/>
                  </a:lnTo>
                  <a:lnTo>
                    <a:pt x="816" y="18"/>
                  </a:lnTo>
                  <a:lnTo>
                    <a:pt x="830" y="18"/>
                  </a:lnTo>
                  <a:lnTo>
                    <a:pt x="830" y="12"/>
                  </a:lnTo>
                  <a:lnTo>
                    <a:pt x="845" y="12"/>
                  </a:lnTo>
                  <a:lnTo>
                    <a:pt x="845" y="5"/>
                  </a:lnTo>
                  <a:lnTo>
                    <a:pt x="854" y="5"/>
                  </a:lnTo>
                  <a:lnTo>
                    <a:pt x="854" y="0"/>
                  </a:lnTo>
                  <a:lnTo>
                    <a:pt x="927" y="0"/>
                  </a:lnTo>
                  <a:lnTo>
                    <a:pt x="927" y="5"/>
                  </a:lnTo>
                  <a:lnTo>
                    <a:pt x="950" y="5"/>
                  </a:lnTo>
                  <a:lnTo>
                    <a:pt x="950" y="12"/>
                  </a:lnTo>
                  <a:lnTo>
                    <a:pt x="960" y="12"/>
                  </a:lnTo>
                  <a:lnTo>
                    <a:pt x="960" y="18"/>
                  </a:lnTo>
                  <a:lnTo>
                    <a:pt x="965" y="18"/>
                  </a:lnTo>
                  <a:lnTo>
                    <a:pt x="965" y="29"/>
                  </a:lnTo>
                  <a:lnTo>
                    <a:pt x="969" y="29"/>
                  </a:lnTo>
                  <a:lnTo>
                    <a:pt x="969" y="35"/>
                  </a:lnTo>
                  <a:lnTo>
                    <a:pt x="974" y="35"/>
                  </a:lnTo>
                  <a:lnTo>
                    <a:pt x="974" y="42"/>
                  </a:lnTo>
                  <a:lnTo>
                    <a:pt x="983" y="42"/>
                  </a:lnTo>
                  <a:lnTo>
                    <a:pt x="983" y="47"/>
                  </a:lnTo>
                  <a:lnTo>
                    <a:pt x="989" y="47"/>
                  </a:lnTo>
                  <a:lnTo>
                    <a:pt x="989" y="53"/>
                  </a:lnTo>
                  <a:lnTo>
                    <a:pt x="994" y="53"/>
                  </a:lnTo>
                  <a:lnTo>
                    <a:pt x="994" y="59"/>
                  </a:lnTo>
                  <a:lnTo>
                    <a:pt x="999" y="59"/>
                  </a:lnTo>
                  <a:lnTo>
                    <a:pt x="999" y="65"/>
                  </a:lnTo>
                  <a:lnTo>
                    <a:pt x="1003" y="65"/>
                  </a:lnTo>
                  <a:lnTo>
                    <a:pt x="1003" y="70"/>
                  </a:lnTo>
                  <a:lnTo>
                    <a:pt x="1008" y="70"/>
                  </a:lnTo>
                  <a:lnTo>
                    <a:pt x="1008" y="78"/>
                  </a:lnTo>
                  <a:lnTo>
                    <a:pt x="1013" y="78"/>
                  </a:lnTo>
                  <a:lnTo>
                    <a:pt x="1013" y="83"/>
                  </a:lnTo>
                  <a:lnTo>
                    <a:pt x="1017" y="83"/>
                  </a:lnTo>
                  <a:lnTo>
                    <a:pt x="1017" y="88"/>
                  </a:lnTo>
                  <a:lnTo>
                    <a:pt x="1022" y="88"/>
                  </a:lnTo>
                  <a:lnTo>
                    <a:pt x="1022" y="100"/>
                  </a:lnTo>
                  <a:lnTo>
                    <a:pt x="1027" y="100"/>
                  </a:lnTo>
                  <a:lnTo>
                    <a:pt x="1027" y="111"/>
                  </a:lnTo>
                  <a:lnTo>
                    <a:pt x="1031" y="111"/>
                  </a:lnTo>
                  <a:lnTo>
                    <a:pt x="1031" y="119"/>
                  </a:lnTo>
                  <a:lnTo>
                    <a:pt x="1036" y="119"/>
                  </a:lnTo>
                  <a:lnTo>
                    <a:pt x="1036" y="130"/>
                  </a:lnTo>
                  <a:lnTo>
                    <a:pt x="1041" y="130"/>
                  </a:lnTo>
                  <a:lnTo>
                    <a:pt x="1041" y="136"/>
                  </a:lnTo>
                  <a:lnTo>
                    <a:pt x="1046" y="136"/>
                  </a:lnTo>
                  <a:lnTo>
                    <a:pt x="1046" y="148"/>
                  </a:lnTo>
                  <a:lnTo>
                    <a:pt x="1050" y="148"/>
                  </a:lnTo>
                  <a:lnTo>
                    <a:pt x="1050" y="160"/>
                  </a:lnTo>
                  <a:lnTo>
                    <a:pt x="1056" y="160"/>
                  </a:lnTo>
                  <a:lnTo>
                    <a:pt x="1056" y="165"/>
                  </a:lnTo>
                  <a:lnTo>
                    <a:pt x="1061" y="165"/>
                  </a:lnTo>
                  <a:lnTo>
                    <a:pt x="1061" y="184"/>
                  </a:lnTo>
                  <a:lnTo>
                    <a:pt x="1066" y="184"/>
                  </a:lnTo>
                  <a:lnTo>
                    <a:pt x="1066" y="201"/>
                  </a:lnTo>
                  <a:lnTo>
                    <a:pt x="1071" y="201"/>
                  </a:lnTo>
                  <a:lnTo>
                    <a:pt x="1071" y="214"/>
                  </a:lnTo>
                  <a:lnTo>
                    <a:pt x="1075" y="214"/>
                  </a:lnTo>
                  <a:lnTo>
                    <a:pt x="1075" y="230"/>
                  </a:lnTo>
                  <a:lnTo>
                    <a:pt x="1080" y="230"/>
                  </a:lnTo>
                  <a:lnTo>
                    <a:pt x="1080" y="247"/>
                  </a:lnTo>
                  <a:lnTo>
                    <a:pt x="1084" y="247"/>
                  </a:lnTo>
                  <a:lnTo>
                    <a:pt x="1084" y="260"/>
                  </a:lnTo>
                  <a:lnTo>
                    <a:pt x="1090" y="260"/>
                  </a:lnTo>
                  <a:lnTo>
                    <a:pt x="1090" y="272"/>
                  </a:lnTo>
                  <a:lnTo>
                    <a:pt x="1094" y="272"/>
                  </a:lnTo>
                  <a:lnTo>
                    <a:pt x="1094" y="290"/>
                  </a:lnTo>
                  <a:lnTo>
                    <a:pt x="1099" y="290"/>
                  </a:lnTo>
                  <a:lnTo>
                    <a:pt x="1099" y="307"/>
                  </a:lnTo>
                  <a:lnTo>
                    <a:pt x="1104" y="307"/>
                  </a:lnTo>
                  <a:lnTo>
                    <a:pt x="1104" y="325"/>
                  </a:lnTo>
                  <a:lnTo>
                    <a:pt x="1109" y="325"/>
                  </a:lnTo>
                  <a:lnTo>
                    <a:pt x="1109" y="342"/>
                  </a:lnTo>
                  <a:lnTo>
                    <a:pt x="1113" y="342"/>
                  </a:lnTo>
                  <a:lnTo>
                    <a:pt x="1113" y="366"/>
                  </a:lnTo>
                  <a:lnTo>
                    <a:pt x="1118" y="366"/>
                  </a:lnTo>
                  <a:lnTo>
                    <a:pt x="1118" y="396"/>
                  </a:lnTo>
                  <a:lnTo>
                    <a:pt x="1123" y="396"/>
                  </a:lnTo>
                  <a:lnTo>
                    <a:pt x="1123" y="407"/>
                  </a:lnTo>
                  <a:lnTo>
                    <a:pt x="1127" y="407"/>
                  </a:lnTo>
                  <a:lnTo>
                    <a:pt x="1127" y="420"/>
                  </a:lnTo>
                  <a:lnTo>
                    <a:pt x="1133" y="420"/>
                  </a:lnTo>
                  <a:lnTo>
                    <a:pt x="1133" y="443"/>
                  </a:lnTo>
                  <a:lnTo>
                    <a:pt x="1138" y="443"/>
                  </a:lnTo>
                  <a:lnTo>
                    <a:pt x="1138" y="450"/>
                  </a:lnTo>
                  <a:lnTo>
                    <a:pt x="1143" y="450"/>
                  </a:lnTo>
                  <a:lnTo>
                    <a:pt x="1143" y="473"/>
                  </a:lnTo>
                  <a:lnTo>
                    <a:pt x="1147" y="473"/>
                  </a:lnTo>
                  <a:lnTo>
                    <a:pt x="1147" y="485"/>
                  </a:lnTo>
                  <a:lnTo>
                    <a:pt x="1153" y="485"/>
                  </a:lnTo>
                  <a:lnTo>
                    <a:pt x="1153" y="491"/>
                  </a:lnTo>
                  <a:lnTo>
                    <a:pt x="1157" y="491"/>
                  </a:lnTo>
                  <a:lnTo>
                    <a:pt x="1157" y="519"/>
                  </a:lnTo>
                  <a:lnTo>
                    <a:pt x="1161" y="519"/>
                  </a:lnTo>
                  <a:lnTo>
                    <a:pt x="1161" y="538"/>
                  </a:lnTo>
                  <a:lnTo>
                    <a:pt x="1166" y="538"/>
                  </a:lnTo>
                  <a:lnTo>
                    <a:pt x="1166" y="568"/>
                  </a:lnTo>
                  <a:lnTo>
                    <a:pt x="1171" y="568"/>
                  </a:lnTo>
                  <a:lnTo>
                    <a:pt x="1171" y="603"/>
                  </a:lnTo>
                  <a:lnTo>
                    <a:pt x="1176" y="603"/>
                  </a:lnTo>
                  <a:lnTo>
                    <a:pt x="1176" y="638"/>
                  </a:lnTo>
                  <a:lnTo>
                    <a:pt x="1180" y="638"/>
                  </a:lnTo>
                  <a:lnTo>
                    <a:pt x="1180" y="650"/>
                  </a:lnTo>
                  <a:lnTo>
                    <a:pt x="1176" y="650"/>
                  </a:lnTo>
                  <a:lnTo>
                    <a:pt x="1176" y="786"/>
                  </a:lnTo>
                  <a:lnTo>
                    <a:pt x="1180" y="786"/>
                  </a:lnTo>
                  <a:lnTo>
                    <a:pt x="1180" y="810"/>
                  </a:lnTo>
                  <a:lnTo>
                    <a:pt x="1186" y="810"/>
                  </a:lnTo>
                  <a:lnTo>
                    <a:pt x="1186" y="869"/>
                  </a:lnTo>
                  <a:lnTo>
                    <a:pt x="1190" y="869"/>
                  </a:lnTo>
                  <a:lnTo>
                    <a:pt x="1190" y="898"/>
                  </a:lnTo>
                  <a:lnTo>
                    <a:pt x="1186" y="898"/>
                  </a:lnTo>
                  <a:lnTo>
                    <a:pt x="1186" y="910"/>
                  </a:lnTo>
                  <a:lnTo>
                    <a:pt x="1190" y="910"/>
                  </a:lnTo>
                  <a:lnTo>
                    <a:pt x="1190" y="951"/>
                  </a:lnTo>
                  <a:lnTo>
                    <a:pt x="1194" y="951"/>
                  </a:lnTo>
                  <a:lnTo>
                    <a:pt x="1194" y="987"/>
                  </a:lnTo>
                  <a:lnTo>
                    <a:pt x="1190" y="987"/>
                  </a:lnTo>
                  <a:lnTo>
                    <a:pt x="1190" y="1065"/>
                  </a:lnTo>
                  <a:lnTo>
                    <a:pt x="1186" y="1065"/>
                  </a:lnTo>
                  <a:lnTo>
                    <a:pt x="1186" y="1135"/>
                  </a:lnTo>
                  <a:lnTo>
                    <a:pt x="1180" y="1135"/>
                  </a:lnTo>
                  <a:lnTo>
                    <a:pt x="1180" y="1188"/>
                  </a:lnTo>
                  <a:lnTo>
                    <a:pt x="1176" y="1188"/>
                  </a:lnTo>
                  <a:lnTo>
                    <a:pt x="1176" y="1271"/>
                  </a:lnTo>
                  <a:lnTo>
                    <a:pt x="1171" y="1271"/>
                  </a:lnTo>
                  <a:lnTo>
                    <a:pt x="1171" y="1353"/>
                  </a:lnTo>
                  <a:lnTo>
                    <a:pt x="1176" y="1353"/>
                  </a:lnTo>
                  <a:lnTo>
                    <a:pt x="1176" y="1407"/>
                  </a:lnTo>
                  <a:lnTo>
                    <a:pt x="1171" y="1407"/>
                  </a:lnTo>
                  <a:lnTo>
                    <a:pt x="1171" y="1419"/>
                  </a:lnTo>
                  <a:lnTo>
                    <a:pt x="1176" y="1419"/>
                  </a:lnTo>
                  <a:lnTo>
                    <a:pt x="1176" y="1437"/>
                  </a:lnTo>
                  <a:lnTo>
                    <a:pt x="1171" y="1437"/>
                  </a:lnTo>
                  <a:lnTo>
                    <a:pt x="1171" y="1460"/>
                  </a:lnTo>
                  <a:lnTo>
                    <a:pt x="1176" y="1460"/>
                  </a:lnTo>
                  <a:lnTo>
                    <a:pt x="1176" y="1530"/>
                  </a:lnTo>
                  <a:lnTo>
                    <a:pt x="1171" y="1530"/>
                  </a:lnTo>
                  <a:lnTo>
                    <a:pt x="1171" y="1584"/>
                  </a:lnTo>
                  <a:lnTo>
                    <a:pt x="1166" y="1584"/>
                  </a:lnTo>
                  <a:lnTo>
                    <a:pt x="1166" y="1620"/>
                  </a:lnTo>
                  <a:lnTo>
                    <a:pt x="1171" y="1620"/>
                  </a:lnTo>
                  <a:lnTo>
                    <a:pt x="1171" y="1633"/>
                  </a:lnTo>
                  <a:lnTo>
                    <a:pt x="1166" y="1633"/>
                  </a:lnTo>
                  <a:lnTo>
                    <a:pt x="1166" y="1649"/>
                  </a:lnTo>
                  <a:lnTo>
                    <a:pt x="1171" y="1649"/>
                  </a:lnTo>
                  <a:lnTo>
                    <a:pt x="1171" y="1660"/>
                  </a:lnTo>
                  <a:lnTo>
                    <a:pt x="1166" y="1660"/>
                  </a:lnTo>
                  <a:lnTo>
                    <a:pt x="1166" y="1672"/>
                  </a:lnTo>
                  <a:lnTo>
                    <a:pt x="1171" y="1672"/>
                  </a:lnTo>
                  <a:lnTo>
                    <a:pt x="1171" y="1696"/>
                  </a:lnTo>
                  <a:lnTo>
                    <a:pt x="1166" y="1696"/>
                  </a:lnTo>
                  <a:lnTo>
                    <a:pt x="1166" y="1767"/>
                  </a:lnTo>
                  <a:lnTo>
                    <a:pt x="1171" y="1767"/>
                  </a:lnTo>
                  <a:lnTo>
                    <a:pt x="1171" y="1815"/>
                  </a:lnTo>
                  <a:lnTo>
                    <a:pt x="1176" y="1815"/>
                  </a:lnTo>
                  <a:lnTo>
                    <a:pt x="1176" y="1910"/>
                  </a:lnTo>
                  <a:lnTo>
                    <a:pt x="1180" y="1910"/>
                  </a:lnTo>
                  <a:lnTo>
                    <a:pt x="1180" y="1927"/>
                  </a:lnTo>
                  <a:lnTo>
                    <a:pt x="1176" y="1927"/>
                  </a:lnTo>
                  <a:lnTo>
                    <a:pt x="1176" y="2033"/>
                  </a:lnTo>
                  <a:lnTo>
                    <a:pt x="1180" y="2033"/>
                  </a:lnTo>
                  <a:lnTo>
                    <a:pt x="1180" y="2087"/>
                  </a:lnTo>
                  <a:lnTo>
                    <a:pt x="1186" y="2087"/>
                  </a:lnTo>
                  <a:lnTo>
                    <a:pt x="1186" y="2198"/>
                  </a:lnTo>
                  <a:lnTo>
                    <a:pt x="1190" y="2198"/>
                  </a:lnTo>
                  <a:lnTo>
                    <a:pt x="1190" y="2346"/>
                  </a:lnTo>
                  <a:lnTo>
                    <a:pt x="1194" y="2346"/>
                  </a:lnTo>
                  <a:lnTo>
                    <a:pt x="1194" y="2382"/>
                  </a:lnTo>
                  <a:lnTo>
                    <a:pt x="1190" y="2382"/>
                  </a:lnTo>
                  <a:lnTo>
                    <a:pt x="1190" y="2435"/>
                  </a:lnTo>
                  <a:lnTo>
                    <a:pt x="1194" y="2435"/>
                  </a:lnTo>
                  <a:lnTo>
                    <a:pt x="1194" y="2447"/>
                  </a:lnTo>
                  <a:lnTo>
                    <a:pt x="1190" y="2447"/>
                  </a:lnTo>
                  <a:lnTo>
                    <a:pt x="1190" y="2471"/>
                  </a:lnTo>
                  <a:lnTo>
                    <a:pt x="1194" y="2471"/>
                  </a:lnTo>
                  <a:lnTo>
                    <a:pt x="1194" y="2530"/>
                  </a:lnTo>
                  <a:lnTo>
                    <a:pt x="1200" y="2530"/>
                  </a:lnTo>
                  <a:lnTo>
                    <a:pt x="1200" y="2630"/>
                  </a:lnTo>
                  <a:lnTo>
                    <a:pt x="1204" y="2630"/>
                  </a:lnTo>
                  <a:lnTo>
                    <a:pt x="1204" y="2689"/>
                  </a:lnTo>
                  <a:lnTo>
                    <a:pt x="1210" y="2689"/>
                  </a:lnTo>
                  <a:lnTo>
                    <a:pt x="1210" y="2713"/>
                  </a:lnTo>
                  <a:lnTo>
                    <a:pt x="1204" y="2713"/>
                  </a:lnTo>
                  <a:lnTo>
                    <a:pt x="1204" y="2761"/>
                  </a:lnTo>
                  <a:lnTo>
                    <a:pt x="1210" y="2761"/>
                  </a:lnTo>
                  <a:lnTo>
                    <a:pt x="1210" y="2802"/>
                  </a:lnTo>
                  <a:lnTo>
                    <a:pt x="1215" y="2802"/>
                  </a:lnTo>
                  <a:lnTo>
                    <a:pt x="1215" y="2848"/>
                  </a:lnTo>
                  <a:lnTo>
                    <a:pt x="1220" y="2848"/>
                  </a:lnTo>
                  <a:lnTo>
                    <a:pt x="1220" y="2860"/>
                  </a:lnTo>
                  <a:lnTo>
                    <a:pt x="1215" y="2860"/>
                  </a:lnTo>
                  <a:lnTo>
                    <a:pt x="1215" y="2897"/>
                  </a:lnTo>
                  <a:lnTo>
                    <a:pt x="1220" y="2897"/>
                  </a:lnTo>
                  <a:lnTo>
                    <a:pt x="1220" y="2960"/>
                  </a:lnTo>
                  <a:lnTo>
                    <a:pt x="1224" y="2960"/>
                  </a:lnTo>
                  <a:lnTo>
                    <a:pt x="1224" y="2984"/>
                  </a:lnTo>
                  <a:lnTo>
                    <a:pt x="1220" y="2984"/>
                  </a:lnTo>
                  <a:lnTo>
                    <a:pt x="1220" y="3038"/>
                  </a:lnTo>
                  <a:lnTo>
                    <a:pt x="1224" y="3038"/>
                  </a:lnTo>
                  <a:lnTo>
                    <a:pt x="1224" y="3097"/>
                  </a:lnTo>
                  <a:lnTo>
                    <a:pt x="1229" y="3097"/>
                  </a:lnTo>
                  <a:lnTo>
                    <a:pt x="1229" y="3186"/>
                  </a:lnTo>
                  <a:lnTo>
                    <a:pt x="1234" y="3186"/>
                  </a:lnTo>
                  <a:lnTo>
                    <a:pt x="1234" y="3416"/>
                  </a:lnTo>
                  <a:lnTo>
                    <a:pt x="1238" y="3416"/>
                  </a:lnTo>
                  <a:lnTo>
                    <a:pt x="1238" y="3498"/>
                  </a:lnTo>
                  <a:lnTo>
                    <a:pt x="1243" y="3498"/>
                  </a:lnTo>
                  <a:lnTo>
                    <a:pt x="1243" y="3511"/>
                  </a:lnTo>
                  <a:lnTo>
                    <a:pt x="1238" y="3511"/>
                  </a:lnTo>
                  <a:lnTo>
                    <a:pt x="1238" y="3523"/>
                  </a:lnTo>
                  <a:lnTo>
                    <a:pt x="1243" y="3523"/>
                  </a:lnTo>
                  <a:lnTo>
                    <a:pt x="1243" y="3558"/>
                  </a:lnTo>
                  <a:lnTo>
                    <a:pt x="1238" y="3558"/>
                  </a:lnTo>
                  <a:lnTo>
                    <a:pt x="1238" y="3570"/>
                  </a:lnTo>
                  <a:lnTo>
                    <a:pt x="1243" y="3570"/>
                  </a:lnTo>
                  <a:lnTo>
                    <a:pt x="1243" y="3653"/>
                  </a:lnTo>
                  <a:lnTo>
                    <a:pt x="1248" y="3653"/>
                  </a:lnTo>
                  <a:lnTo>
                    <a:pt x="1248" y="3683"/>
                  </a:lnTo>
                  <a:lnTo>
                    <a:pt x="1253" y="3683"/>
                  </a:lnTo>
                  <a:lnTo>
                    <a:pt x="1253" y="3694"/>
                  </a:lnTo>
                  <a:lnTo>
                    <a:pt x="1248" y="3694"/>
                  </a:lnTo>
                  <a:lnTo>
                    <a:pt x="1248" y="3753"/>
                  </a:lnTo>
                  <a:lnTo>
                    <a:pt x="1243" y="3753"/>
                  </a:lnTo>
                  <a:lnTo>
                    <a:pt x="1243" y="3842"/>
                  </a:lnTo>
                  <a:lnTo>
                    <a:pt x="1238" y="3842"/>
                  </a:lnTo>
                  <a:lnTo>
                    <a:pt x="1238" y="3884"/>
                  </a:lnTo>
                  <a:lnTo>
                    <a:pt x="1234" y="3884"/>
                  </a:lnTo>
                  <a:lnTo>
                    <a:pt x="1234" y="3895"/>
                  </a:lnTo>
                  <a:lnTo>
                    <a:pt x="1238" y="3895"/>
                  </a:lnTo>
                  <a:lnTo>
                    <a:pt x="1238" y="3925"/>
                  </a:lnTo>
                  <a:lnTo>
                    <a:pt x="1229" y="3925"/>
                  </a:lnTo>
                  <a:lnTo>
                    <a:pt x="1229" y="3930"/>
                  </a:lnTo>
                  <a:lnTo>
                    <a:pt x="1224" y="3930"/>
                  </a:lnTo>
                  <a:lnTo>
                    <a:pt x="1224" y="3966"/>
                  </a:lnTo>
                  <a:lnTo>
                    <a:pt x="1220" y="3966"/>
                  </a:lnTo>
                  <a:lnTo>
                    <a:pt x="1220" y="3978"/>
                  </a:lnTo>
                  <a:lnTo>
                    <a:pt x="1215" y="3978"/>
                  </a:lnTo>
                  <a:lnTo>
                    <a:pt x="1215" y="3983"/>
                  </a:lnTo>
                  <a:lnTo>
                    <a:pt x="1210" y="3983"/>
                  </a:lnTo>
                  <a:lnTo>
                    <a:pt x="1210" y="3996"/>
                  </a:lnTo>
                  <a:lnTo>
                    <a:pt x="1200" y="3996"/>
                  </a:lnTo>
                  <a:lnTo>
                    <a:pt x="1200" y="3990"/>
                  </a:lnTo>
                  <a:lnTo>
                    <a:pt x="1161" y="3990"/>
                  </a:lnTo>
                  <a:lnTo>
                    <a:pt x="1161" y="3996"/>
                  </a:lnTo>
                  <a:lnTo>
                    <a:pt x="1071" y="3996"/>
                  </a:lnTo>
                  <a:lnTo>
                    <a:pt x="1071" y="4001"/>
                  </a:lnTo>
                  <a:lnTo>
                    <a:pt x="1017" y="4001"/>
                  </a:lnTo>
                  <a:lnTo>
                    <a:pt x="1017" y="4007"/>
                  </a:lnTo>
                  <a:lnTo>
                    <a:pt x="965" y="4007"/>
                  </a:lnTo>
                  <a:lnTo>
                    <a:pt x="965" y="4013"/>
                  </a:lnTo>
                  <a:lnTo>
                    <a:pt x="936" y="4013"/>
                  </a:lnTo>
                  <a:lnTo>
                    <a:pt x="936" y="4020"/>
                  </a:lnTo>
                  <a:lnTo>
                    <a:pt x="892" y="4020"/>
                  </a:lnTo>
                  <a:lnTo>
                    <a:pt x="892" y="4025"/>
                  </a:lnTo>
                  <a:lnTo>
                    <a:pt x="883" y="4025"/>
                  </a:lnTo>
                  <a:lnTo>
                    <a:pt x="883" y="4020"/>
                  </a:lnTo>
                  <a:lnTo>
                    <a:pt x="869" y="4020"/>
                  </a:lnTo>
                  <a:lnTo>
                    <a:pt x="869" y="4025"/>
                  </a:lnTo>
                  <a:lnTo>
                    <a:pt x="811" y="4025"/>
                  </a:lnTo>
                  <a:lnTo>
                    <a:pt x="811" y="4031"/>
                  </a:lnTo>
                  <a:lnTo>
                    <a:pt x="796" y="4031"/>
                  </a:lnTo>
                  <a:lnTo>
                    <a:pt x="796" y="4025"/>
                  </a:lnTo>
                  <a:lnTo>
                    <a:pt x="758" y="4025"/>
                  </a:lnTo>
                  <a:lnTo>
                    <a:pt x="758" y="4031"/>
                  </a:lnTo>
                  <a:lnTo>
                    <a:pt x="710" y="4031"/>
                  </a:lnTo>
                  <a:lnTo>
                    <a:pt x="710" y="4025"/>
                  </a:lnTo>
                  <a:lnTo>
                    <a:pt x="648" y="4025"/>
                  </a:lnTo>
                  <a:lnTo>
                    <a:pt x="648" y="4031"/>
                  </a:lnTo>
                  <a:lnTo>
                    <a:pt x="638" y="4031"/>
                  </a:lnTo>
                  <a:lnTo>
                    <a:pt x="638" y="4025"/>
                  </a:lnTo>
                  <a:lnTo>
                    <a:pt x="590" y="4025"/>
                  </a:lnTo>
                  <a:lnTo>
                    <a:pt x="590" y="4031"/>
                  </a:lnTo>
                  <a:lnTo>
                    <a:pt x="581" y="4031"/>
                  </a:lnTo>
                  <a:lnTo>
                    <a:pt x="581" y="4025"/>
                  </a:lnTo>
                  <a:lnTo>
                    <a:pt x="562" y="4025"/>
                  </a:lnTo>
                  <a:lnTo>
                    <a:pt x="562" y="4031"/>
                  </a:lnTo>
                  <a:lnTo>
                    <a:pt x="485" y="4031"/>
                  </a:lnTo>
                  <a:lnTo>
                    <a:pt x="485" y="4025"/>
                  </a:lnTo>
                  <a:lnTo>
                    <a:pt x="378" y="4025"/>
                  </a:lnTo>
                  <a:lnTo>
                    <a:pt x="378" y="4020"/>
                  </a:lnTo>
                  <a:lnTo>
                    <a:pt x="345" y="4020"/>
                  </a:lnTo>
                  <a:lnTo>
                    <a:pt x="345" y="4025"/>
                  </a:lnTo>
                  <a:lnTo>
                    <a:pt x="274" y="4025"/>
                  </a:lnTo>
                  <a:lnTo>
                    <a:pt x="274" y="4020"/>
                  </a:lnTo>
                  <a:lnTo>
                    <a:pt x="201" y="4020"/>
                  </a:lnTo>
                  <a:lnTo>
                    <a:pt x="201" y="4025"/>
                  </a:lnTo>
                  <a:lnTo>
                    <a:pt x="90" y="4025"/>
                  </a:lnTo>
                  <a:lnTo>
                    <a:pt x="90" y="4031"/>
                  </a:lnTo>
                  <a:lnTo>
                    <a:pt x="13" y="4031"/>
                  </a:lnTo>
                  <a:lnTo>
                    <a:pt x="13" y="4025"/>
                  </a:lnTo>
                  <a:lnTo>
                    <a:pt x="8" y="4025"/>
                  </a:lnTo>
                  <a:lnTo>
                    <a:pt x="8" y="4007"/>
                  </a:lnTo>
                  <a:lnTo>
                    <a:pt x="0" y="4007"/>
                  </a:lnTo>
                  <a:lnTo>
                    <a:pt x="0" y="399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81720" y="5372280"/>
              <a:ext cx="2011320" cy="204480"/>
            </a:xfrm>
            <a:custGeom>
              <a:avLst/>
              <a:gdLst/>
              <a:ahLst/>
              <a:rect l="l" t="t" r="r" b="b"/>
              <a:pathLst>
                <a:path w="3799" h="514">
                  <a:moveTo>
                    <a:pt x="0" y="72"/>
                  </a:moveTo>
                  <a:lnTo>
                    <a:pt x="4" y="72"/>
                  </a:lnTo>
                  <a:lnTo>
                    <a:pt x="4" y="65"/>
                  </a:lnTo>
                  <a:lnTo>
                    <a:pt x="9" y="65"/>
                  </a:lnTo>
                  <a:lnTo>
                    <a:pt x="9" y="59"/>
                  </a:lnTo>
                  <a:lnTo>
                    <a:pt x="77" y="59"/>
                  </a:lnTo>
                  <a:lnTo>
                    <a:pt x="77" y="54"/>
                  </a:lnTo>
                  <a:lnTo>
                    <a:pt x="167" y="54"/>
                  </a:lnTo>
                  <a:lnTo>
                    <a:pt x="167" y="48"/>
                  </a:lnTo>
                  <a:lnTo>
                    <a:pt x="178" y="48"/>
                  </a:lnTo>
                  <a:lnTo>
                    <a:pt x="178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384" y="48"/>
                  </a:lnTo>
                  <a:lnTo>
                    <a:pt x="384" y="42"/>
                  </a:lnTo>
                  <a:lnTo>
                    <a:pt x="446" y="42"/>
                  </a:lnTo>
                  <a:lnTo>
                    <a:pt x="446" y="48"/>
                  </a:lnTo>
                  <a:lnTo>
                    <a:pt x="523" y="48"/>
                  </a:lnTo>
                  <a:lnTo>
                    <a:pt x="523" y="42"/>
                  </a:lnTo>
                  <a:lnTo>
                    <a:pt x="672" y="42"/>
                  </a:lnTo>
                  <a:lnTo>
                    <a:pt x="672" y="37"/>
                  </a:lnTo>
                  <a:lnTo>
                    <a:pt x="806" y="37"/>
                  </a:lnTo>
                  <a:lnTo>
                    <a:pt x="806" y="30"/>
                  </a:lnTo>
                  <a:lnTo>
                    <a:pt x="836" y="30"/>
                  </a:lnTo>
                  <a:lnTo>
                    <a:pt x="836" y="24"/>
                  </a:lnTo>
                  <a:lnTo>
                    <a:pt x="898" y="24"/>
                  </a:lnTo>
                  <a:lnTo>
                    <a:pt x="898" y="18"/>
                  </a:lnTo>
                  <a:lnTo>
                    <a:pt x="955" y="18"/>
                  </a:lnTo>
                  <a:lnTo>
                    <a:pt x="955" y="24"/>
                  </a:lnTo>
                  <a:lnTo>
                    <a:pt x="970" y="24"/>
                  </a:lnTo>
                  <a:lnTo>
                    <a:pt x="970" y="18"/>
                  </a:lnTo>
                  <a:lnTo>
                    <a:pt x="1013" y="18"/>
                  </a:lnTo>
                  <a:lnTo>
                    <a:pt x="1013" y="13"/>
                  </a:lnTo>
                  <a:lnTo>
                    <a:pt x="1041" y="13"/>
                  </a:lnTo>
                  <a:lnTo>
                    <a:pt x="1041" y="5"/>
                  </a:lnTo>
                  <a:lnTo>
                    <a:pt x="1167" y="5"/>
                  </a:lnTo>
                  <a:lnTo>
                    <a:pt x="1167" y="0"/>
                  </a:lnTo>
                  <a:lnTo>
                    <a:pt x="1181" y="0"/>
                  </a:lnTo>
                  <a:lnTo>
                    <a:pt x="1181" y="5"/>
                  </a:lnTo>
                  <a:lnTo>
                    <a:pt x="1345" y="5"/>
                  </a:lnTo>
                  <a:lnTo>
                    <a:pt x="1345" y="13"/>
                  </a:lnTo>
                  <a:lnTo>
                    <a:pt x="1392" y="13"/>
                  </a:lnTo>
                  <a:lnTo>
                    <a:pt x="1392" y="18"/>
                  </a:lnTo>
                  <a:lnTo>
                    <a:pt x="1536" y="18"/>
                  </a:lnTo>
                  <a:lnTo>
                    <a:pt x="1536" y="24"/>
                  </a:lnTo>
                  <a:lnTo>
                    <a:pt x="1545" y="24"/>
                  </a:lnTo>
                  <a:lnTo>
                    <a:pt x="1545" y="18"/>
                  </a:lnTo>
                  <a:lnTo>
                    <a:pt x="1676" y="18"/>
                  </a:lnTo>
                  <a:lnTo>
                    <a:pt x="1676" y="24"/>
                  </a:lnTo>
                  <a:lnTo>
                    <a:pt x="1748" y="24"/>
                  </a:lnTo>
                  <a:lnTo>
                    <a:pt x="1748" y="30"/>
                  </a:lnTo>
                  <a:lnTo>
                    <a:pt x="1854" y="30"/>
                  </a:lnTo>
                  <a:lnTo>
                    <a:pt x="1854" y="37"/>
                  </a:lnTo>
                  <a:lnTo>
                    <a:pt x="1950" y="37"/>
                  </a:lnTo>
                  <a:lnTo>
                    <a:pt x="1950" y="42"/>
                  </a:lnTo>
                  <a:lnTo>
                    <a:pt x="2007" y="42"/>
                  </a:lnTo>
                  <a:lnTo>
                    <a:pt x="2007" y="48"/>
                  </a:lnTo>
                  <a:lnTo>
                    <a:pt x="2050" y="48"/>
                  </a:lnTo>
                  <a:lnTo>
                    <a:pt x="2050" y="42"/>
                  </a:lnTo>
                  <a:lnTo>
                    <a:pt x="2176" y="42"/>
                  </a:lnTo>
                  <a:lnTo>
                    <a:pt x="2176" y="37"/>
                  </a:lnTo>
                  <a:lnTo>
                    <a:pt x="2257" y="37"/>
                  </a:lnTo>
                  <a:lnTo>
                    <a:pt x="2257" y="42"/>
                  </a:lnTo>
                  <a:lnTo>
                    <a:pt x="2291" y="42"/>
                  </a:lnTo>
                  <a:lnTo>
                    <a:pt x="2291" y="48"/>
                  </a:lnTo>
                  <a:lnTo>
                    <a:pt x="2526" y="48"/>
                  </a:lnTo>
                  <a:lnTo>
                    <a:pt x="2526" y="54"/>
                  </a:lnTo>
                  <a:lnTo>
                    <a:pt x="2569" y="54"/>
                  </a:lnTo>
                  <a:lnTo>
                    <a:pt x="2569" y="59"/>
                  </a:lnTo>
                  <a:lnTo>
                    <a:pt x="2598" y="59"/>
                  </a:lnTo>
                  <a:lnTo>
                    <a:pt x="2598" y="65"/>
                  </a:lnTo>
                  <a:lnTo>
                    <a:pt x="2689" y="65"/>
                  </a:lnTo>
                  <a:lnTo>
                    <a:pt x="2689" y="59"/>
                  </a:lnTo>
                  <a:lnTo>
                    <a:pt x="2698" y="59"/>
                  </a:lnTo>
                  <a:lnTo>
                    <a:pt x="2698" y="65"/>
                  </a:lnTo>
                  <a:lnTo>
                    <a:pt x="2709" y="65"/>
                  </a:lnTo>
                  <a:lnTo>
                    <a:pt x="2709" y="59"/>
                  </a:lnTo>
                  <a:lnTo>
                    <a:pt x="2737" y="59"/>
                  </a:lnTo>
                  <a:lnTo>
                    <a:pt x="2737" y="65"/>
                  </a:lnTo>
                  <a:lnTo>
                    <a:pt x="2771" y="65"/>
                  </a:lnTo>
                  <a:lnTo>
                    <a:pt x="2771" y="59"/>
                  </a:lnTo>
                  <a:lnTo>
                    <a:pt x="2790" y="59"/>
                  </a:lnTo>
                  <a:lnTo>
                    <a:pt x="2790" y="65"/>
                  </a:lnTo>
                  <a:lnTo>
                    <a:pt x="2819" y="65"/>
                  </a:lnTo>
                  <a:lnTo>
                    <a:pt x="2819" y="72"/>
                  </a:lnTo>
                  <a:lnTo>
                    <a:pt x="2863" y="72"/>
                  </a:lnTo>
                  <a:lnTo>
                    <a:pt x="2863" y="65"/>
                  </a:lnTo>
                  <a:lnTo>
                    <a:pt x="2877" y="65"/>
                  </a:lnTo>
                  <a:lnTo>
                    <a:pt x="2877" y="72"/>
                  </a:lnTo>
                  <a:lnTo>
                    <a:pt x="2910" y="72"/>
                  </a:lnTo>
                  <a:lnTo>
                    <a:pt x="2910" y="78"/>
                  </a:lnTo>
                  <a:lnTo>
                    <a:pt x="2934" y="78"/>
                  </a:lnTo>
                  <a:lnTo>
                    <a:pt x="2934" y="83"/>
                  </a:lnTo>
                  <a:lnTo>
                    <a:pt x="2958" y="83"/>
                  </a:lnTo>
                  <a:lnTo>
                    <a:pt x="2958" y="90"/>
                  </a:lnTo>
                  <a:lnTo>
                    <a:pt x="2986" y="90"/>
                  </a:lnTo>
                  <a:lnTo>
                    <a:pt x="2986" y="83"/>
                  </a:lnTo>
                  <a:lnTo>
                    <a:pt x="3044" y="83"/>
                  </a:lnTo>
                  <a:lnTo>
                    <a:pt x="3044" y="90"/>
                  </a:lnTo>
                  <a:lnTo>
                    <a:pt x="3074" y="90"/>
                  </a:lnTo>
                  <a:lnTo>
                    <a:pt x="3074" y="83"/>
                  </a:lnTo>
                  <a:lnTo>
                    <a:pt x="3093" y="83"/>
                  </a:lnTo>
                  <a:lnTo>
                    <a:pt x="3093" y="90"/>
                  </a:lnTo>
                  <a:lnTo>
                    <a:pt x="3241" y="90"/>
                  </a:lnTo>
                  <a:lnTo>
                    <a:pt x="3241" y="95"/>
                  </a:lnTo>
                  <a:lnTo>
                    <a:pt x="3255" y="95"/>
                  </a:lnTo>
                  <a:lnTo>
                    <a:pt x="3255" y="90"/>
                  </a:lnTo>
                  <a:lnTo>
                    <a:pt x="3290" y="90"/>
                  </a:lnTo>
                  <a:lnTo>
                    <a:pt x="3290" y="95"/>
                  </a:lnTo>
                  <a:lnTo>
                    <a:pt x="3299" y="95"/>
                  </a:lnTo>
                  <a:lnTo>
                    <a:pt x="3299" y="90"/>
                  </a:lnTo>
                  <a:lnTo>
                    <a:pt x="3458" y="90"/>
                  </a:lnTo>
                  <a:lnTo>
                    <a:pt x="3458" y="95"/>
                  </a:lnTo>
                  <a:lnTo>
                    <a:pt x="3477" y="95"/>
                  </a:lnTo>
                  <a:lnTo>
                    <a:pt x="3477" y="90"/>
                  </a:lnTo>
                  <a:lnTo>
                    <a:pt x="3683" y="90"/>
                  </a:lnTo>
                  <a:lnTo>
                    <a:pt x="3683" y="95"/>
                  </a:lnTo>
                  <a:lnTo>
                    <a:pt x="3707" y="95"/>
                  </a:lnTo>
                  <a:lnTo>
                    <a:pt x="3707" y="90"/>
                  </a:lnTo>
                  <a:lnTo>
                    <a:pt x="3732" y="90"/>
                  </a:lnTo>
                  <a:lnTo>
                    <a:pt x="3732" y="95"/>
                  </a:lnTo>
                  <a:lnTo>
                    <a:pt x="3746" y="95"/>
                  </a:lnTo>
                  <a:lnTo>
                    <a:pt x="3746" y="100"/>
                  </a:lnTo>
                  <a:lnTo>
                    <a:pt x="3755" y="100"/>
                  </a:lnTo>
                  <a:lnTo>
                    <a:pt x="3755" y="108"/>
                  </a:lnTo>
                  <a:lnTo>
                    <a:pt x="3760" y="108"/>
                  </a:lnTo>
                  <a:lnTo>
                    <a:pt x="3760" y="113"/>
                  </a:lnTo>
                  <a:lnTo>
                    <a:pt x="3769" y="113"/>
                  </a:lnTo>
                  <a:lnTo>
                    <a:pt x="3769" y="119"/>
                  </a:lnTo>
                  <a:lnTo>
                    <a:pt x="3779" y="119"/>
                  </a:lnTo>
                  <a:lnTo>
                    <a:pt x="3779" y="124"/>
                  </a:lnTo>
                  <a:lnTo>
                    <a:pt x="3784" y="124"/>
                  </a:lnTo>
                  <a:lnTo>
                    <a:pt x="3784" y="136"/>
                  </a:lnTo>
                  <a:lnTo>
                    <a:pt x="3789" y="136"/>
                  </a:lnTo>
                  <a:lnTo>
                    <a:pt x="3789" y="237"/>
                  </a:lnTo>
                  <a:lnTo>
                    <a:pt x="3795" y="237"/>
                  </a:lnTo>
                  <a:lnTo>
                    <a:pt x="3795" y="272"/>
                  </a:lnTo>
                  <a:lnTo>
                    <a:pt x="3789" y="272"/>
                  </a:lnTo>
                  <a:lnTo>
                    <a:pt x="3789" y="337"/>
                  </a:lnTo>
                  <a:lnTo>
                    <a:pt x="3795" y="337"/>
                  </a:lnTo>
                  <a:lnTo>
                    <a:pt x="3795" y="385"/>
                  </a:lnTo>
                  <a:lnTo>
                    <a:pt x="3789" y="385"/>
                  </a:lnTo>
                  <a:lnTo>
                    <a:pt x="3789" y="396"/>
                  </a:lnTo>
                  <a:lnTo>
                    <a:pt x="3795" y="396"/>
                  </a:lnTo>
                  <a:lnTo>
                    <a:pt x="3795" y="486"/>
                  </a:lnTo>
                  <a:lnTo>
                    <a:pt x="3799" y="486"/>
                  </a:lnTo>
                  <a:lnTo>
                    <a:pt x="3799" y="503"/>
                  </a:lnTo>
                  <a:lnTo>
                    <a:pt x="3795" y="503"/>
                  </a:lnTo>
                  <a:lnTo>
                    <a:pt x="3795" y="510"/>
                  </a:lnTo>
                  <a:lnTo>
                    <a:pt x="3789" y="510"/>
                  </a:lnTo>
                  <a:lnTo>
                    <a:pt x="3789" y="514"/>
                  </a:lnTo>
                  <a:lnTo>
                    <a:pt x="3751" y="514"/>
                  </a:lnTo>
                  <a:lnTo>
                    <a:pt x="3751" y="510"/>
                  </a:lnTo>
                  <a:lnTo>
                    <a:pt x="3746" y="510"/>
                  </a:lnTo>
                  <a:lnTo>
                    <a:pt x="3746" y="497"/>
                  </a:lnTo>
                  <a:lnTo>
                    <a:pt x="3742" y="497"/>
                  </a:lnTo>
                  <a:lnTo>
                    <a:pt x="3742" y="491"/>
                  </a:lnTo>
                  <a:lnTo>
                    <a:pt x="3736" y="491"/>
                  </a:lnTo>
                  <a:lnTo>
                    <a:pt x="3736" y="173"/>
                  </a:lnTo>
                  <a:lnTo>
                    <a:pt x="3721" y="173"/>
                  </a:lnTo>
                  <a:lnTo>
                    <a:pt x="3721" y="166"/>
                  </a:lnTo>
                  <a:lnTo>
                    <a:pt x="3707" y="166"/>
                  </a:lnTo>
                  <a:lnTo>
                    <a:pt x="3707" y="160"/>
                  </a:lnTo>
                  <a:lnTo>
                    <a:pt x="3665" y="160"/>
                  </a:lnTo>
                  <a:lnTo>
                    <a:pt x="3665" y="154"/>
                  </a:lnTo>
                  <a:lnTo>
                    <a:pt x="3616" y="154"/>
                  </a:lnTo>
                  <a:lnTo>
                    <a:pt x="3616" y="149"/>
                  </a:lnTo>
                  <a:lnTo>
                    <a:pt x="3597" y="149"/>
                  </a:lnTo>
                  <a:lnTo>
                    <a:pt x="3597" y="154"/>
                  </a:lnTo>
                  <a:lnTo>
                    <a:pt x="3554" y="154"/>
                  </a:lnTo>
                  <a:lnTo>
                    <a:pt x="3554" y="149"/>
                  </a:lnTo>
                  <a:lnTo>
                    <a:pt x="3491" y="149"/>
                  </a:lnTo>
                  <a:lnTo>
                    <a:pt x="3491" y="154"/>
                  </a:lnTo>
                  <a:lnTo>
                    <a:pt x="3448" y="154"/>
                  </a:lnTo>
                  <a:lnTo>
                    <a:pt x="3448" y="149"/>
                  </a:lnTo>
                  <a:lnTo>
                    <a:pt x="3434" y="149"/>
                  </a:lnTo>
                  <a:lnTo>
                    <a:pt x="3434" y="154"/>
                  </a:lnTo>
                  <a:lnTo>
                    <a:pt x="3424" y="154"/>
                  </a:lnTo>
                  <a:lnTo>
                    <a:pt x="3424" y="149"/>
                  </a:lnTo>
                  <a:lnTo>
                    <a:pt x="3385" y="149"/>
                  </a:lnTo>
                  <a:lnTo>
                    <a:pt x="3385" y="154"/>
                  </a:lnTo>
                  <a:lnTo>
                    <a:pt x="3376" y="154"/>
                  </a:lnTo>
                  <a:lnTo>
                    <a:pt x="3376" y="149"/>
                  </a:lnTo>
                  <a:lnTo>
                    <a:pt x="3337" y="149"/>
                  </a:lnTo>
                  <a:lnTo>
                    <a:pt x="3337" y="154"/>
                  </a:lnTo>
                  <a:lnTo>
                    <a:pt x="3213" y="154"/>
                  </a:lnTo>
                  <a:lnTo>
                    <a:pt x="3213" y="160"/>
                  </a:lnTo>
                  <a:lnTo>
                    <a:pt x="3151" y="160"/>
                  </a:lnTo>
                  <a:lnTo>
                    <a:pt x="3151" y="154"/>
                  </a:lnTo>
                  <a:lnTo>
                    <a:pt x="3117" y="154"/>
                  </a:lnTo>
                  <a:lnTo>
                    <a:pt x="3117" y="149"/>
                  </a:lnTo>
                  <a:lnTo>
                    <a:pt x="3097" y="149"/>
                  </a:lnTo>
                  <a:lnTo>
                    <a:pt x="3097" y="154"/>
                  </a:lnTo>
                  <a:lnTo>
                    <a:pt x="3068" y="154"/>
                  </a:lnTo>
                  <a:lnTo>
                    <a:pt x="3068" y="149"/>
                  </a:lnTo>
                  <a:lnTo>
                    <a:pt x="2982" y="149"/>
                  </a:lnTo>
                  <a:lnTo>
                    <a:pt x="2982" y="143"/>
                  </a:lnTo>
                  <a:lnTo>
                    <a:pt x="2949" y="143"/>
                  </a:lnTo>
                  <a:lnTo>
                    <a:pt x="2949" y="136"/>
                  </a:lnTo>
                  <a:lnTo>
                    <a:pt x="2905" y="136"/>
                  </a:lnTo>
                  <a:lnTo>
                    <a:pt x="2905" y="131"/>
                  </a:lnTo>
                  <a:lnTo>
                    <a:pt x="2882" y="131"/>
                  </a:lnTo>
                  <a:lnTo>
                    <a:pt x="2882" y="136"/>
                  </a:lnTo>
                  <a:lnTo>
                    <a:pt x="2872" y="136"/>
                  </a:lnTo>
                  <a:lnTo>
                    <a:pt x="2872" y="131"/>
                  </a:lnTo>
                  <a:lnTo>
                    <a:pt x="2829" y="131"/>
                  </a:lnTo>
                  <a:lnTo>
                    <a:pt x="2829" y="124"/>
                  </a:lnTo>
                  <a:lnTo>
                    <a:pt x="2786" y="124"/>
                  </a:lnTo>
                  <a:lnTo>
                    <a:pt x="2786" y="131"/>
                  </a:lnTo>
                  <a:lnTo>
                    <a:pt x="2756" y="131"/>
                  </a:lnTo>
                  <a:lnTo>
                    <a:pt x="2756" y="124"/>
                  </a:lnTo>
                  <a:lnTo>
                    <a:pt x="2719" y="124"/>
                  </a:lnTo>
                  <a:lnTo>
                    <a:pt x="2719" y="131"/>
                  </a:lnTo>
                  <a:lnTo>
                    <a:pt x="2703" y="131"/>
                  </a:lnTo>
                  <a:lnTo>
                    <a:pt x="2703" y="124"/>
                  </a:lnTo>
                  <a:lnTo>
                    <a:pt x="2651" y="124"/>
                  </a:lnTo>
                  <a:lnTo>
                    <a:pt x="2651" y="119"/>
                  </a:lnTo>
                  <a:lnTo>
                    <a:pt x="2565" y="119"/>
                  </a:lnTo>
                  <a:lnTo>
                    <a:pt x="2565" y="113"/>
                  </a:lnTo>
                  <a:lnTo>
                    <a:pt x="2445" y="113"/>
                  </a:lnTo>
                  <a:lnTo>
                    <a:pt x="2445" y="108"/>
                  </a:lnTo>
                  <a:lnTo>
                    <a:pt x="2334" y="108"/>
                  </a:lnTo>
                  <a:lnTo>
                    <a:pt x="2334" y="100"/>
                  </a:lnTo>
                  <a:lnTo>
                    <a:pt x="2238" y="100"/>
                  </a:lnTo>
                  <a:lnTo>
                    <a:pt x="2238" y="95"/>
                  </a:lnTo>
                  <a:lnTo>
                    <a:pt x="2205" y="95"/>
                  </a:lnTo>
                  <a:lnTo>
                    <a:pt x="2205" y="100"/>
                  </a:lnTo>
                  <a:lnTo>
                    <a:pt x="2074" y="100"/>
                  </a:lnTo>
                  <a:lnTo>
                    <a:pt x="2074" y="108"/>
                  </a:lnTo>
                  <a:lnTo>
                    <a:pt x="2040" y="108"/>
                  </a:lnTo>
                  <a:lnTo>
                    <a:pt x="2040" y="100"/>
                  </a:lnTo>
                  <a:lnTo>
                    <a:pt x="1977" y="100"/>
                  </a:lnTo>
                  <a:lnTo>
                    <a:pt x="1977" y="95"/>
                  </a:lnTo>
                  <a:lnTo>
                    <a:pt x="1873" y="95"/>
                  </a:lnTo>
                  <a:lnTo>
                    <a:pt x="1873" y="90"/>
                  </a:lnTo>
                  <a:lnTo>
                    <a:pt x="1829" y="90"/>
                  </a:lnTo>
                  <a:lnTo>
                    <a:pt x="1829" y="95"/>
                  </a:lnTo>
                  <a:lnTo>
                    <a:pt x="1820" y="95"/>
                  </a:lnTo>
                  <a:lnTo>
                    <a:pt x="1820" y="90"/>
                  </a:lnTo>
                  <a:lnTo>
                    <a:pt x="1782" y="90"/>
                  </a:lnTo>
                  <a:lnTo>
                    <a:pt x="1782" y="83"/>
                  </a:lnTo>
                  <a:lnTo>
                    <a:pt x="1710" y="83"/>
                  </a:lnTo>
                  <a:lnTo>
                    <a:pt x="1710" y="78"/>
                  </a:lnTo>
                  <a:lnTo>
                    <a:pt x="1556" y="78"/>
                  </a:lnTo>
                  <a:lnTo>
                    <a:pt x="1556" y="83"/>
                  </a:lnTo>
                  <a:lnTo>
                    <a:pt x="1545" y="83"/>
                  </a:lnTo>
                  <a:lnTo>
                    <a:pt x="1545" y="78"/>
                  </a:lnTo>
                  <a:lnTo>
                    <a:pt x="1489" y="78"/>
                  </a:lnTo>
                  <a:lnTo>
                    <a:pt x="1489" y="83"/>
                  </a:lnTo>
                  <a:lnTo>
                    <a:pt x="1469" y="83"/>
                  </a:lnTo>
                  <a:lnTo>
                    <a:pt x="1469" y="78"/>
                  </a:lnTo>
                  <a:lnTo>
                    <a:pt x="1378" y="78"/>
                  </a:lnTo>
                  <a:lnTo>
                    <a:pt x="1378" y="72"/>
                  </a:lnTo>
                  <a:lnTo>
                    <a:pt x="1320" y="72"/>
                  </a:lnTo>
                  <a:lnTo>
                    <a:pt x="1320" y="65"/>
                  </a:lnTo>
                  <a:lnTo>
                    <a:pt x="1201" y="65"/>
                  </a:lnTo>
                  <a:lnTo>
                    <a:pt x="1201" y="59"/>
                  </a:lnTo>
                  <a:lnTo>
                    <a:pt x="1176" y="59"/>
                  </a:lnTo>
                  <a:lnTo>
                    <a:pt x="1176" y="65"/>
                  </a:lnTo>
                  <a:lnTo>
                    <a:pt x="1075" y="65"/>
                  </a:lnTo>
                  <a:lnTo>
                    <a:pt x="1075" y="72"/>
                  </a:lnTo>
                  <a:lnTo>
                    <a:pt x="1023" y="72"/>
                  </a:lnTo>
                  <a:lnTo>
                    <a:pt x="1023" y="78"/>
                  </a:lnTo>
                  <a:lnTo>
                    <a:pt x="864" y="78"/>
                  </a:lnTo>
                  <a:lnTo>
                    <a:pt x="864" y="83"/>
                  </a:lnTo>
                  <a:lnTo>
                    <a:pt x="820" y="83"/>
                  </a:lnTo>
                  <a:lnTo>
                    <a:pt x="820" y="90"/>
                  </a:lnTo>
                  <a:lnTo>
                    <a:pt x="739" y="90"/>
                  </a:lnTo>
                  <a:lnTo>
                    <a:pt x="739" y="95"/>
                  </a:lnTo>
                  <a:lnTo>
                    <a:pt x="662" y="95"/>
                  </a:lnTo>
                  <a:lnTo>
                    <a:pt x="662" y="100"/>
                  </a:lnTo>
                  <a:lnTo>
                    <a:pt x="653" y="100"/>
                  </a:lnTo>
                  <a:lnTo>
                    <a:pt x="653" y="95"/>
                  </a:lnTo>
                  <a:lnTo>
                    <a:pt x="624" y="95"/>
                  </a:lnTo>
                  <a:lnTo>
                    <a:pt x="624" y="100"/>
                  </a:lnTo>
                  <a:lnTo>
                    <a:pt x="557" y="100"/>
                  </a:lnTo>
                  <a:lnTo>
                    <a:pt x="557" y="108"/>
                  </a:lnTo>
                  <a:lnTo>
                    <a:pt x="518" y="108"/>
                  </a:lnTo>
                  <a:lnTo>
                    <a:pt x="518" y="100"/>
                  </a:lnTo>
                  <a:lnTo>
                    <a:pt x="466" y="100"/>
                  </a:lnTo>
                  <a:lnTo>
                    <a:pt x="466" y="108"/>
                  </a:lnTo>
                  <a:lnTo>
                    <a:pt x="422" y="108"/>
                  </a:lnTo>
                  <a:lnTo>
                    <a:pt x="422" y="113"/>
                  </a:lnTo>
                  <a:lnTo>
                    <a:pt x="408" y="113"/>
                  </a:lnTo>
                  <a:lnTo>
                    <a:pt x="408" y="108"/>
                  </a:lnTo>
                  <a:lnTo>
                    <a:pt x="288" y="108"/>
                  </a:lnTo>
                  <a:lnTo>
                    <a:pt x="288" y="113"/>
                  </a:lnTo>
                  <a:lnTo>
                    <a:pt x="95" y="113"/>
                  </a:lnTo>
                  <a:lnTo>
                    <a:pt x="95" y="119"/>
                  </a:lnTo>
                  <a:lnTo>
                    <a:pt x="34" y="119"/>
                  </a:lnTo>
                  <a:lnTo>
                    <a:pt x="34" y="124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9" y="119"/>
                  </a:lnTo>
                  <a:lnTo>
                    <a:pt x="9" y="113"/>
                  </a:lnTo>
                  <a:lnTo>
                    <a:pt x="4" y="113"/>
                  </a:lnTo>
                  <a:lnTo>
                    <a:pt x="4" y="108"/>
                  </a:lnTo>
                  <a:lnTo>
                    <a:pt x="0" y="10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29240" y="1550880"/>
              <a:ext cx="6480" cy="50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19600" y="2763720"/>
              <a:ext cx="525600" cy="435240"/>
            </a:xfrm>
            <a:custGeom>
              <a:avLst/>
              <a:gdLst/>
              <a:ahLst/>
              <a:rect l="l" t="t" r="r" b="b"/>
              <a:pathLst>
                <a:path w="993" h="1093">
                  <a:moveTo>
                    <a:pt x="0" y="35"/>
                  </a:moveTo>
                  <a:lnTo>
                    <a:pt x="5" y="35"/>
                  </a:lnTo>
                  <a:lnTo>
                    <a:pt x="5" y="25"/>
                  </a:lnTo>
                  <a:lnTo>
                    <a:pt x="14" y="25"/>
                  </a:lnTo>
                  <a:lnTo>
                    <a:pt x="14" y="17"/>
                  </a:lnTo>
                  <a:lnTo>
                    <a:pt x="19" y="17"/>
                  </a:lnTo>
                  <a:lnTo>
                    <a:pt x="19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2" y="41"/>
                  </a:lnTo>
                  <a:lnTo>
                    <a:pt x="57" y="41"/>
                  </a:lnTo>
                  <a:lnTo>
                    <a:pt x="57" y="47"/>
                  </a:lnTo>
                  <a:lnTo>
                    <a:pt x="63" y="47"/>
                  </a:lnTo>
                  <a:lnTo>
                    <a:pt x="63" y="54"/>
                  </a:lnTo>
                  <a:lnTo>
                    <a:pt x="67" y="54"/>
                  </a:lnTo>
                  <a:lnTo>
                    <a:pt x="67" y="71"/>
                  </a:lnTo>
                  <a:lnTo>
                    <a:pt x="72" y="71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77" y="89"/>
                  </a:lnTo>
                  <a:lnTo>
                    <a:pt x="82" y="89"/>
                  </a:lnTo>
                  <a:lnTo>
                    <a:pt x="82" y="112"/>
                  </a:lnTo>
                  <a:lnTo>
                    <a:pt x="86" y="112"/>
                  </a:lnTo>
                  <a:lnTo>
                    <a:pt x="86" y="125"/>
                  </a:lnTo>
                  <a:lnTo>
                    <a:pt x="91" y="125"/>
                  </a:lnTo>
                  <a:lnTo>
                    <a:pt x="91" y="130"/>
                  </a:lnTo>
                  <a:lnTo>
                    <a:pt x="96" y="130"/>
                  </a:lnTo>
                  <a:lnTo>
                    <a:pt x="96" y="142"/>
                  </a:lnTo>
                  <a:lnTo>
                    <a:pt x="100" y="142"/>
                  </a:lnTo>
                  <a:lnTo>
                    <a:pt x="100" y="160"/>
                  </a:lnTo>
                  <a:lnTo>
                    <a:pt x="106" y="160"/>
                  </a:lnTo>
                  <a:lnTo>
                    <a:pt x="106" y="171"/>
                  </a:lnTo>
                  <a:lnTo>
                    <a:pt x="110" y="171"/>
                  </a:lnTo>
                  <a:lnTo>
                    <a:pt x="110" y="183"/>
                  </a:lnTo>
                  <a:lnTo>
                    <a:pt x="115" y="183"/>
                  </a:lnTo>
                  <a:lnTo>
                    <a:pt x="115" y="190"/>
                  </a:lnTo>
                  <a:lnTo>
                    <a:pt x="120" y="190"/>
                  </a:lnTo>
                  <a:lnTo>
                    <a:pt x="120" y="201"/>
                  </a:lnTo>
                  <a:lnTo>
                    <a:pt x="125" y="201"/>
                  </a:lnTo>
                  <a:lnTo>
                    <a:pt x="125" y="207"/>
                  </a:lnTo>
                  <a:lnTo>
                    <a:pt x="129" y="207"/>
                  </a:lnTo>
                  <a:lnTo>
                    <a:pt x="129" y="220"/>
                  </a:lnTo>
                  <a:lnTo>
                    <a:pt x="134" y="220"/>
                  </a:lnTo>
                  <a:lnTo>
                    <a:pt x="134" y="231"/>
                  </a:lnTo>
                  <a:lnTo>
                    <a:pt x="140" y="231"/>
                  </a:lnTo>
                  <a:lnTo>
                    <a:pt x="140" y="236"/>
                  </a:lnTo>
                  <a:lnTo>
                    <a:pt x="144" y="236"/>
                  </a:lnTo>
                  <a:lnTo>
                    <a:pt x="144" y="243"/>
                  </a:lnTo>
                  <a:lnTo>
                    <a:pt x="149" y="243"/>
                  </a:lnTo>
                  <a:lnTo>
                    <a:pt x="149" y="248"/>
                  </a:lnTo>
                  <a:lnTo>
                    <a:pt x="154" y="248"/>
                  </a:lnTo>
                  <a:lnTo>
                    <a:pt x="154" y="253"/>
                  </a:lnTo>
                  <a:lnTo>
                    <a:pt x="159" y="253"/>
                  </a:lnTo>
                  <a:lnTo>
                    <a:pt x="159" y="272"/>
                  </a:lnTo>
                  <a:lnTo>
                    <a:pt x="163" y="272"/>
                  </a:lnTo>
                  <a:lnTo>
                    <a:pt x="163" y="284"/>
                  </a:lnTo>
                  <a:lnTo>
                    <a:pt x="168" y="284"/>
                  </a:lnTo>
                  <a:lnTo>
                    <a:pt x="168" y="289"/>
                  </a:lnTo>
                  <a:lnTo>
                    <a:pt x="173" y="289"/>
                  </a:lnTo>
                  <a:lnTo>
                    <a:pt x="173" y="307"/>
                  </a:lnTo>
                  <a:lnTo>
                    <a:pt x="177" y="307"/>
                  </a:lnTo>
                  <a:lnTo>
                    <a:pt x="177" y="313"/>
                  </a:lnTo>
                  <a:lnTo>
                    <a:pt x="182" y="313"/>
                  </a:lnTo>
                  <a:lnTo>
                    <a:pt x="182" y="319"/>
                  </a:lnTo>
                  <a:lnTo>
                    <a:pt x="187" y="319"/>
                  </a:lnTo>
                  <a:lnTo>
                    <a:pt x="187" y="331"/>
                  </a:lnTo>
                  <a:lnTo>
                    <a:pt x="192" y="331"/>
                  </a:lnTo>
                  <a:lnTo>
                    <a:pt x="192" y="337"/>
                  </a:lnTo>
                  <a:lnTo>
                    <a:pt x="196" y="337"/>
                  </a:lnTo>
                  <a:lnTo>
                    <a:pt x="196" y="343"/>
                  </a:lnTo>
                  <a:lnTo>
                    <a:pt x="202" y="343"/>
                  </a:lnTo>
                  <a:lnTo>
                    <a:pt x="202" y="354"/>
                  </a:lnTo>
                  <a:lnTo>
                    <a:pt x="207" y="354"/>
                  </a:lnTo>
                  <a:lnTo>
                    <a:pt x="207" y="361"/>
                  </a:lnTo>
                  <a:lnTo>
                    <a:pt x="212" y="361"/>
                  </a:lnTo>
                  <a:lnTo>
                    <a:pt x="212" y="372"/>
                  </a:lnTo>
                  <a:lnTo>
                    <a:pt x="216" y="372"/>
                  </a:lnTo>
                  <a:lnTo>
                    <a:pt x="216" y="391"/>
                  </a:lnTo>
                  <a:lnTo>
                    <a:pt x="221" y="391"/>
                  </a:lnTo>
                  <a:lnTo>
                    <a:pt x="221" y="397"/>
                  </a:lnTo>
                  <a:lnTo>
                    <a:pt x="226" y="397"/>
                  </a:lnTo>
                  <a:lnTo>
                    <a:pt x="226" y="408"/>
                  </a:lnTo>
                  <a:lnTo>
                    <a:pt x="230" y="408"/>
                  </a:lnTo>
                  <a:lnTo>
                    <a:pt x="230" y="421"/>
                  </a:lnTo>
                  <a:lnTo>
                    <a:pt x="236" y="421"/>
                  </a:lnTo>
                  <a:lnTo>
                    <a:pt x="236" y="432"/>
                  </a:lnTo>
                  <a:lnTo>
                    <a:pt x="240" y="432"/>
                  </a:lnTo>
                  <a:lnTo>
                    <a:pt x="240" y="444"/>
                  </a:lnTo>
                  <a:lnTo>
                    <a:pt x="244" y="444"/>
                  </a:lnTo>
                  <a:lnTo>
                    <a:pt x="244" y="455"/>
                  </a:lnTo>
                  <a:lnTo>
                    <a:pt x="250" y="455"/>
                  </a:lnTo>
                  <a:lnTo>
                    <a:pt x="250" y="467"/>
                  </a:lnTo>
                  <a:lnTo>
                    <a:pt x="254" y="467"/>
                  </a:lnTo>
                  <a:lnTo>
                    <a:pt x="254" y="473"/>
                  </a:lnTo>
                  <a:lnTo>
                    <a:pt x="259" y="473"/>
                  </a:lnTo>
                  <a:lnTo>
                    <a:pt x="259" y="479"/>
                  </a:lnTo>
                  <a:lnTo>
                    <a:pt x="264" y="479"/>
                  </a:lnTo>
                  <a:lnTo>
                    <a:pt x="264" y="485"/>
                  </a:lnTo>
                  <a:lnTo>
                    <a:pt x="268" y="485"/>
                  </a:lnTo>
                  <a:lnTo>
                    <a:pt x="268" y="503"/>
                  </a:lnTo>
                  <a:lnTo>
                    <a:pt x="273" y="503"/>
                  </a:lnTo>
                  <a:lnTo>
                    <a:pt x="273" y="508"/>
                  </a:lnTo>
                  <a:lnTo>
                    <a:pt x="278" y="508"/>
                  </a:lnTo>
                  <a:lnTo>
                    <a:pt x="278" y="520"/>
                  </a:lnTo>
                  <a:lnTo>
                    <a:pt x="284" y="520"/>
                  </a:lnTo>
                  <a:lnTo>
                    <a:pt x="284" y="525"/>
                  </a:lnTo>
                  <a:lnTo>
                    <a:pt x="288" y="525"/>
                  </a:lnTo>
                  <a:lnTo>
                    <a:pt x="288" y="538"/>
                  </a:lnTo>
                  <a:lnTo>
                    <a:pt x="293" y="538"/>
                  </a:lnTo>
                  <a:lnTo>
                    <a:pt x="293" y="557"/>
                  </a:lnTo>
                  <a:lnTo>
                    <a:pt x="298" y="557"/>
                  </a:lnTo>
                  <a:lnTo>
                    <a:pt x="298" y="566"/>
                  </a:lnTo>
                  <a:lnTo>
                    <a:pt x="303" y="566"/>
                  </a:lnTo>
                  <a:lnTo>
                    <a:pt x="303" y="585"/>
                  </a:lnTo>
                  <a:lnTo>
                    <a:pt x="307" y="585"/>
                  </a:lnTo>
                  <a:lnTo>
                    <a:pt x="307" y="590"/>
                  </a:lnTo>
                  <a:lnTo>
                    <a:pt x="312" y="590"/>
                  </a:lnTo>
                  <a:lnTo>
                    <a:pt x="312" y="598"/>
                  </a:lnTo>
                  <a:lnTo>
                    <a:pt x="317" y="598"/>
                  </a:lnTo>
                  <a:lnTo>
                    <a:pt x="317" y="603"/>
                  </a:lnTo>
                  <a:lnTo>
                    <a:pt x="321" y="603"/>
                  </a:lnTo>
                  <a:lnTo>
                    <a:pt x="321" y="615"/>
                  </a:lnTo>
                  <a:lnTo>
                    <a:pt x="326" y="615"/>
                  </a:lnTo>
                  <a:lnTo>
                    <a:pt x="326" y="620"/>
                  </a:lnTo>
                  <a:lnTo>
                    <a:pt x="331" y="620"/>
                  </a:lnTo>
                  <a:lnTo>
                    <a:pt x="331" y="633"/>
                  </a:lnTo>
                  <a:lnTo>
                    <a:pt x="336" y="633"/>
                  </a:lnTo>
                  <a:lnTo>
                    <a:pt x="336" y="644"/>
                  </a:lnTo>
                  <a:lnTo>
                    <a:pt x="340" y="644"/>
                  </a:lnTo>
                  <a:lnTo>
                    <a:pt x="340" y="663"/>
                  </a:lnTo>
                  <a:lnTo>
                    <a:pt x="346" y="663"/>
                  </a:lnTo>
                  <a:lnTo>
                    <a:pt x="346" y="680"/>
                  </a:lnTo>
                  <a:lnTo>
                    <a:pt x="351" y="680"/>
                  </a:lnTo>
                  <a:lnTo>
                    <a:pt x="351" y="693"/>
                  </a:lnTo>
                  <a:lnTo>
                    <a:pt x="355" y="693"/>
                  </a:lnTo>
                  <a:lnTo>
                    <a:pt x="355" y="704"/>
                  </a:lnTo>
                  <a:lnTo>
                    <a:pt x="360" y="704"/>
                  </a:lnTo>
                  <a:lnTo>
                    <a:pt x="360" y="716"/>
                  </a:lnTo>
                  <a:lnTo>
                    <a:pt x="365" y="716"/>
                  </a:lnTo>
                  <a:lnTo>
                    <a:pt x="365" y="734"/>
                  </a:lnTo>
                  <a:lnTo>
                    <a:pt x="370" y="734"/>
                  </a:lnTo>
                  <a:lnTo>
                    <a:pt x="370" y="739"/>
                  </a:lnTo>
                  <a:lnTo>
                    <a:pt x="374" y="739"/>
                  </a:lnTo>
                  <a:lnTo>
                    <a:pt x="374" y="745"/>
                  </a:lnTo>
                  <a:lnTo>
                    <a:pt x="380" y="745"/>
                  </a:lnTo>
                  <a:lnTo>
                    <a:pt x="380" y="757"/>
                  </a:lnTo>
                  <a:lnTo>
                    <a:pt x="384" y="757"/>
                  </a:lnTo>
                  <a:lnTo>
                    <a:pt x="384" y="767"/>
                  </a:lnTo>
                  <a:lnTo>
                    <a:pt x="389" y="767"/>
                  </a:lnTo>
                  <a:lnTo>
                    <a:pt x="389" y="775"/>
                  </a:lnTo>
                  <a:lnTo>
                    <a:pt x="394" y="775"/>
                  </a:lnTo>
                  <a:lnTo>
                    <a:pt x="394" y="786"/>
                  </a:lnTo>
                  <a:lnTo>
                    <a:pt x="398" y="786"/>
                  </a:lnTo>
                  <a:lnTo>
                    <a:pt x="398" y="799"/>
                  </a:lnTo>
                  <a:lnTo>
                    <a:pt x="403" y="799"/>
                  </a:lnTo>
                  <a:lnTo>
                    <a:pt x="403" y="810"/>
                  </a:lnTo>
                  <a:lnTo>
                    <a:pt x="408" y="810"/>
                  </a:lnTo>
                  <a:lnTo>
                    <a:pt x="408" y="816"/>
                  </a:lnTo>
                  <a:lnTo>
                    <a:pt x="413" y="816"/>
                  </a:lnTo>
                  <a:lnTo>
                    <a:pt x="413" y="821"/>
                  </a:lnTo>
                  <a:lnTo>
                    <a:pt x="417" y="821"/>
                  </a:lnTo>
                  <a:lnTo>
                    <a:pt x="417" y="834"/>
                  </a:lnTo>
                  <a:lnTo>
                    <a:pt x="423" y="834"/>
                  </a:lnTo>
                  <a:lnTo>
                    <a:pt x="423" y="845"/>
                  </a:lnTo>
                  <a:lnTo>
                    <a:pt x="428" y="845"/>
                  </a:lnTo>
                  <a:lnTo>
                    <a:pt x="428" y="857"/>
                  </a:lnTo>
                  <a:lnTo>
                    <a:pt x="432" y="857"/>
                  </a:lnTo>
                  <a:lnTo>
                    <a:pt x="432" y="863"/>
                  </a:lnTo>
                  <a:lnTo>
                    <a:pt x="437" y="863"/>
                  </a:lnTo>
                  <a:lnTo>
                    <a:pt x="437" y="870"/>
                  </a:lnTo>
                  <a:lnTo>
                    <a:pt x="442" y="870"/>
                  </a:lnTo>
                  <a:lnTo>
                    <a:pt x="442" y="893"/>
                  </a:lnTo>
                  <a:lnTo>
                    <a:pt x="447" y="893"/>
                  </a:lnTo>
                  <a:lnTo>
                    <a:pt x="447" y="905"/>
                  </a:lnTo>
                  <a:lnTo>
                    <a:pt x="451" y="905"/>
                  </a:lnTo>
                  <a:lnTo>
                    <a:pt x="451" y="911"/>
                  </a:lnTo>
                  <a:lnTo>
                    <a:pt x="456" y="911"/>
                  </a:lnTo>
                  <a:lnTo>
                    <a:pt x="456" y="917"/>
                  </a:lnTo>
                  <a:lnTo>
                    <a:pt x="461" y="917"/>
                  </a:lnTo>
                  <a:lnTo>
                    <a:pt x="461" y="922"/>
                  </a:lnTo>
                  <a:lnTo>
                    <a:pt x="466" y="922"/>
                  </a:lnTo>
                  <a:lnTo>
                    <a:pt x="466" y="928"/>
                  </a:lnTo>
                  <a:lnTo>
                    <a:pt x="470" y="928"/>
                  </a:lnTo>
                  <a:lnTo>
                    <a:pt x="470" y="940"/>
                  </a:lnTo>
                  <a:lnTo>
                    <a:pt x="475" y="940"/>
                  </a:lnTo>
                  <a:lnTo>
                    <a:pt x="475" y="952"/>
                  </a:lnTo>
                  <a:lnTo>
                    <a:pt x="480" y="952"/>
                  </a:lnTo>
                  <a:lnTo>
                    <a:pt x="480" y="957"/>
                  </a:lnTo>
                  <a:lnTo>
                    <a:pt x="484" y="957"/>
                  </a:lnTo>
                  <a:lnTo>
                    <a:pt x="484" y="976"/>
                  </a:lnTo>
                  <a:lnTo>
                    <a:pt x="490" y="976"/>
                  </a:lnTo>
                  <a:lnTo>
                    <a:pt x="490" y="987"/>
                  </a:lnTo>
                  <a:lnTo>
                    <a:pt x="495" y="987"/>
                  </a:lnTo>
                  <a:lnTo>
                    <a:pt x="495" y="993"/>
                  </a:lnTo>
                  <a:lnTo>
                    <a:pt x="500" y="993"/>
                  </a:lnTo>
                  <a:lnTo>
                    <a:pt x="500" y="998"/>
                  </a:lnTo>
                  <a:lnTo>
                    <a:pt x="510" y="998"/>
                  </a:lnTo>
                  <a:lnTo>
                    <a:pt x="510" y="993"/>
                  </a:lnTo>
                  <a:lnTo>
                    <a:pt x="514" y="993"/>
                  </a:lnTo>
                  <a:lnTo>
                    <a:pt x="514" y="987"/>
                  </a:lnTo>
                  <a:lnTo>
                    <a:pt x="524" y="987"/>
                  </a:lnTo>
                  <a:lnTo>
                    <a:pt x="524" y="981"/>
                  </a:lnTo>
                  <a:lnTo>
                    <a:pt x="528" y="981"/>
                  </a:lnTo>
                  <a:lnTo>
                    <a:pt x="528" y="970"/>
                  </a:lnTo>
                  <a:lnTo>
                    <a:pt x="533" y="970"/>
                  </a:lnTo>
                  <a:lnTo>
                    <a:pt x="533" y="963"/>
                  </a:lnTo>
                  <a:lnTo>
                    <a:pt x="538" y="963"/>
                  </a:lnTo>
                  <a:lnTo>
                    <a:pt x="538" y="957"/>
                  </a:lnTo>
                  <a:lnTo>
                    <a:pt x="543" y="957"/>
                  </a:lnTo>
                  <a:lnTo>
                    <a:pt x="543" y="952"/>
                  </a:lnTo>
                  <a:lnTo>
                    <a:pt x="547" y="952"/>
                  </a:lnTo>
                  <a:lnTo>
                    <a:pt x="547" y="946"/>
                  </a:lnTo>
                  <a:lnTo>
                    <a:pt x="552" y="946"/>
                  </a:lnTo>
                  <a:lnTo>
                    <a:pt x="552" y="940"/>
                  </a:lnTo>
                  <a:lnTo>
                    <a:pt x="557" y="940"/>
                  </a:lnTo>
                  <a:lnTo>
                    <a:pt x="557" y="935"/>
                  </a:lnTo>
                  <a:lnTo>
                    <a:pt x="567" y="935"/>
                  </a:lnTo>
                  <a:lnTo>
                    <a:pt x="567" y="922"/>
                  </a:lnTo>
                  <a:lnTo>
                    <a:pt x="572" y="922"/>
                  </a:lnTo>
                  <a:lnTo>
                    <a:pt x="572" y="917"/>
                  </a:lnTo>
                  <a:lnTo>
                    <a:pt x="577" y="917"/>
                  </a:lnTo>
                  <a:lnTo>
                    <a:pt x="577" y="911"/>
                  </a:lnTo>
                  <a:lnTo>
                    <a:pt x="581" y="911"/>
                  </a:lnTo>
                  <a:lnTo>
                    <a:pt x="581" y="905"/>
                  </a:lnTo>
                  <a:lnTo>
                    <a:pt x="586" y="905"/>
                  </a:lnTo>
                  <a:lnTo>
                    <a:pt x="586" y="898"/>
                  </a:lnTo>
                  <a:lnTo>
                    <a:pt x="595" y="898"/>
                  </a:lnTo>
                  <a:lnTo>
                    <a:pt x="595" y="893"/>
                  </a:lnTo>
                  <a:lnTo>
                    <a:pt x="605" y="893"/>
                  </a:lnTo>
                  <a:lnTo>
                    <a:pt x="605" y="886"/>
                  </a:lnTo>
                  <a:lnTo>
                    <a:pt x="609" y="886"/>
                  </a:lnTo>
                  <a:lnTo>
                    <a:pt x="609" y="881"/>
                  </a:lnTo>
                  <a:lnTo>
                    <a:pt x="614" y="881"/>
                  </a:lnTo>
                  <a:lnTo>
                    <a:pt x="614" y="875"/>
                  </a:lnTo>
                  <a:lnTo>
                    <a:pt x="619" y="875"/>
                  </a:lnTo>
                  <a:lnTo>
                    <a:pt x="619" y="870"/>
                  </a:lnTo>
                  <a:lnTo>
                    <a:pt x="624" y="870"/>
                  </a:lnTo>
                  <a:lnTo>
                    <a:pt x="624" y="857"/>
                  </a:lnTo>
                  <a:lnTo>
                    <a:pt x="628" y="857"/>
                  </a:lnTo>
                  <a:lnTo>
                    <a:pt x="628" y="852"/>
                  </a:lnTo>
                  <a:lnTo>
                    <a:pt x="639" y="852"/>
                  </a:lnTo>
                  <a:lnTo>
                    <a:pt x="639" y="840"/>
                  </a:lnTo>
                  <a:lnTo>
                    <a:pt x="644" y="840"/>
                  </a:lnTo>
                  <a:lnTo>
                    <a:pt x="644" y="834"/>
                  </a:lnTo>
                  <a:lnTo>
                    <a:pt x="649" y="834"/>
                  </a:lnTo>
                  <a:lnTo>
                    <a:pt x="649" y="827"/>
                  </a:lnTo>
                  <a:lnTo>
                    <a:pt x="653" y="827"/>
                  </a:lnTo>
                  <a:lnTo>
                    <a:pt x="653" y="821"/>
                  </a:lnTo>
                  <a:lnTo>
                    <a:pt x="658" y="821"/>
                  </a:lnTo>
                  <a:lnTo>
                    <a:pt x="658" y="816"/>
                  </a:lnTo>
                  <a:lnTo>
                    <a:pt x="662" y="816"/>
                  </a:lnTo>
                  <a:lnTo>
                    <a:pt x="662" y="810"/>
                  </a:lnTo>
                  <a:lnTo>
                    <a:pt x="668" y="810"/>
                  </a:lnTo>
                  <a:lnTo>
                    <a:pt x="668" y="799"/>
                  </a:lnTo>
                  <a:lnTo>
                    <a:pt x="672" y="799"/>
                  </a:lnTo>
                  <a:lnTo>
                    <a:pt x="672" y="792"/>
                  </a:lnTo>
                  <a:lnTo>
                    <a:pt x="677" y="792"/>
                  </a:lnTo>
                  <a:lnTo>
                    <a:pt x="677" y="786"/>
                  </a:lnTo>
                  <a:lnTo>
                    <a:pt x="682" y="786"/>
                  </a:lnTo>
                  <a:lnTo>
                    <a:pt x="682" y="780"/>
                  </a:lnTo>
                  <a:lnTo>
                    <a:pt x="687" y="780"/>
                  </a:lnTo>
                  <a:lnTo>
                    <a:pt x="687" y="775"/>
                  </a:lnTo>
                  <a:lnTo>
                    <a:pt x="691" y="775"/>
                  </a:lnTo>
                  <a:lnTo>
                    <a:pt x="691" y="767"/>
                  </a:lnTo>
                  <a:lnTo>
                    <a:pt x="696" y="767"/>
                  </a:lnTo>
                  <a:lnTo>
                    <a:pt x="696" y="757"/>
                  </a:lnTo>
                  <a:lnTo>
                    <a:pt x="701" y="757"/>
                  </a:lnTo>
                  <a:lnTo>
                    <a:pt x="701" y="745"/>
                  </a:lnTo>
                  <a:lnTo>
                    <a:pt x="705" y="745"/>
                  </a:lnTo>
                  <a:lnTo>
                    <a:pt x="705" y="739"/>
                  </a:lnTo>
                  <a:lnTo>
                    <a:pt x="711" y="739"/>
                  </a:lnTo>
                  <a:lnTo>
                    <a:pt x="711" y="734"/>
                  </a:lnTo>
                  <a:lnTo>
                    <a:pt x="716" y="734"/>
                  </a:lnTo>
                  <a:lnTo>
                    <a:pt x="716" y="726"/>
                  </a:lnTo>
                  <a:lnTo>
                    <a:pt x="721" y="726"/>
                  </a:lnTo>
                  <a:lnTo>
                    <a:pt x="721" y="721"/>
                  </a:lnTo>
                  <a:lnTo>
                    <a:pt x="731" y="721"/>
                  </a:lnTo>
                  <a:lnTo>
                    <a:pt x="731" y="716"/>
                  </a:lnTo>
                  <a:lnTo>
                    <a:pt x="735" y="716"/>
                  </a:lnTo>
                  <a:lnTo>
                    <a:pt x="735" y="709"/>
                  </a:lnTo>
                  <a:lnTo>
                    <a:pt x="739" y="709"/>
                  </a:lnTo>
                  <a:lnTo>
                    <a:pt x="739" y="698"/>
                  </a:lnTo>
                  <a:lnTo>
                    <a:pt x="744" y="698"/>
                  </a:lnTo>
                  <a:lnTo>
                    <a:pt x="744" y="693"/>
                  </a:lnTo>
                  <a:lnTo>
                    <a:pt x="749" y="693"/>
                  </a:lnTo>
                  <a:lnTo>
                    <a:pt x="749" y="680"/>
                  </a:lnTo>
                  <a:lnTo>
                    <a:pt x="754" y="680"/>
                  </a:lnTo>
                  <a:lnTo>
                    <a:pt x="754" y="674"/>
                  </a:lnTo>
                  <a:lnTo>
                    <a:pt x="758" y="674"/>
                  </a:lnTo>
                  <a:lnTo>
                    <a:pt x="758" y="668"/>
                  </a:lnTo>
                  <a:lnTo>
                    <a:pt x="764" y="668"/>
                  </a:lnTo>
                  <a:lnTo>
                    <a:pt x="764" y="663"/>
                  </a:lnTo>
                  <a:lnTo>
                    <a:pt x="768" y="663"/>
                  </a:lnTo>
                  <a:lnTo>
                    <a:pt x="768" y="650"/>
                  </a:lnTo>
                  <a:lnTo>
                    <a:pt x="772" y="650"/>
                  </a:lnTo>
                  <a:lnTo>
                    <a:pt x="772" y="644"/>
                  </a:lnTo>
                  <a:lnTo>
                    <a:pt x="778" y="644"/>
                  </a:lnTo>
                  <a:lnTo>
                    <a:pt x="778" y="639"/>
                  </a:lnTo>
                  <a:lnTo>
                    <a:pt x="782" y="639"/>
                  </a:lnTo>
                  <a:lnTo>
                    <a:pt x="782" y="633"/>
                  </a:lnTo>
                  <a:lnTo>
                    <a:pt x="788" y="633"/>
                  </a:lnTo>
                  <a:lnTo>
                    <a:pt x="788" y="620"/>
                  </a:lnTo>
                  <a:lnTo>
                    <a:pt x="793" y="620"/>
                  </a:lnTo>
                  <a:lnTo>
                    <a:pt x="793" y="609"/>
                  </a:lnTo>
                  <a:lnTo>
                    <a:pt x="798" y="609"/>
                  </a:lnTo>
                  <a:lnTo>
                    <a:pt x="798" y="598"/>
                  </a:lnTo>
                  <a:lnTo>
                    <a:pt x="802" y="598"/>
                  </a:lnTo>
                  <a:lnTo>
                    <a:pt x="802" y="585"/>
                  </a:lnTo>
                  <a:lnTo>
                    <a:pt x="807" y="585"/>
                  </a:lnTo>
                  <a:lnTo>
                    <a:pt x="807" y="574"/>
                  </a:lnTo>
                  <a:lnTo>
                    <a:pt x="812" y="574"/>
                  </a:lnTo>
                  <a:lnTo>
                    <a:pt x="812" y="566"/>
                  </a:lnTo>
                  <a:lnTo>
                    <a:pt x="816" y="566"/>
                  </a:lnTo>
                  <a:lnTo>
                    <a:pt x="816" y="557"/>
                  </a:lnTo>
                  <a:lnTo>
                    <a:pt x="821" y="557"/>
                  </a:lnTo>
                  <a:lnTo>
                    <a:pt x="821" y="549"/>
                  </a:lnTo>
                  <a:lnTo>
                    <a:pt x="826" y="549"/>
                  </a:lnTo>
                  <a:lnTo>
                    <a:pt x="826" y="538"/>
                  </a:lnTo>
                  <a:lnTo>
                    <a:pt x="831" y="538"/>
                  </a:lnTo>
                  <a:lnTo>
                    <a:pt x="831" y="525"/>
                  </a:lnTo>
                  <a:lnTo>
                    <a:pt x="835" y="525"/>
                  </a:lnTo>
                  <a:lnTo>
                    <a:pt x="835" y="520"/>
                  </a:lnTo>
                  <a:lnTo>
                    <a:pt x="840" y="520"/>
                  </a:lnTo>
                  <a:lnTo>
                    <a:pt x="840" y="514"/>
                  </a:lnTo>
                  <a:lnTo>
                    <a:pt x="845" y="514"/>
                  </a:lnTo>
                  <a:lnTo>
                    <a:pt x="845" y="508"/>
                  </a:lnTo>
                  <a:lnTo>
                    <a:pt x="850" y="508"/>
                  </a:lnTo>
                  <a:lnTo>
                    <a:pt x="850" y="490"/>
                  </a:lnTo>
                  <a:lnTo>
                    <a:pt x="854" y="490"/>
                  </a:lnTo>
                  <a:lnTo>
                    <a:pt x="854" y="479"/>
                  </a:lnTo>
                  <a:lnTo>
                    <a:pt x="860" y="479"/>
                  </a:lnTo>
                  <a:lnTo>
                    <a:pt x="860" y="473"/>
                  </a:lnTo>
                  <a:lnTo>
                    <a:pt x="865" y="473"/>
                  </a:lnTo>
                  <a:lnTo>
                    <a:pt x="865" y="467"/>
                  </a:lnTo>
                  <a:lnTo>
                    <a:pt x="869" y="467"/>
                  </a:lnTo>
                  <a:lnTo>
                    <a:pt x="869" y="449"/>
                  </a:lnTo>
                  <a:lnTo>
                    <a:pt x="875" y="449"/>
                  </a:lnTo>
                  <a:lnTo>
                    <a:pt x="875" y="444"/>
                  </a:lnTo>
                  <a:lnTo>
                    <a:pt x="879" y="444"/>
                  </a:lnTo>
                  <a:lnTo>
                    <a:pt x="879" y="438"/>
                  </a:lnTo>
                  <a:lnTo>
                    <a:pt x="884" y="438"/>
                  </a:lnTo>
                  <a:lnTo>
                    <a:pt x="884" y="425"/>
                  </a:lnTo>
                  <a:lnTo>
                    <a:pt x="889" y="425"/>
                  </a:lnTo>
                  <a:lnTo>
                    <a:pt x="889" y="421"/>
                  </a:lnTo>
                  <a:lnTo>
                    <a:pt x="894" y="421"/>
                  </a:lnTo>
                  <a:lnTo>
                    <a:pt x="894" y="402"/>
                  </a:lnTo>
                  <a:lnTo>
                    <a:pt x="898" y="402"/>
                  </a:lnTo>
                  <a:lnTo>
                    <a:pt x="898" y="391"/>
                  </a:lnTo>
                  <a:lnTo>
                    <a:pt x="902" y="391"/>
                  </a:lnTo>
                  <a:lnTo>
                    <a:pt x="902" y="379"/>
                  </a:lnTo>
                  <a:lnTo>
                    <a:pt x="908" y="379"/>
                  </a:lnTo>
                  <a:lnTo>
                    <a:pt x="908" y="361"/>
                  </a:lnTo>
                  <a:lnTo>
                    <a:pt x="912" y="361"/>
                  </a:lnTo>
                  <a:lnTo>
                    <a:pt x="912" y="349"/>
                  </a:lnTo>
                  <a:lnTo>
                    <a:pt x="917" y="349"/>
                  </a:lnTo>
                  <a:lnTo>
                    <a:pt x="917" y="326"/>
                  </a:lnTo>
                  <a:lnTo>
                    <a:pt x="922" y="326"/>
                  </a:lnTo>
                  <a:lnTo>
                    <a:pt x="922" y="313"/>
                  </a:lnTo>
                  <a:lnTo>
                    <a:pt x="926" y="313"/>
                  </a:lnTo>
                  <a:lnTo>
                    <a:pt x="926" y="307"/>
                  </a:lnTo>
                  <a:lnTo>
                    <a:pt x="932" y="307"/>
                  </a:lnTo>
                  <a:lnTo>
                    <a:pt x="932" y="289"/>
                  </a:lnTo>
                  <a:lnTo>
                    <a:pt x="937" y="289"/>
                  </a:lnTo>
                  <a:lnTo>
                    <a:pt x="937" y="266"/>
                  </a:lnTo>
                  <a:lnTo>
                    <a:pt x="946" y="266"/>
                  </a:lnTo>
                  <a:lnTo>
                    <a:pt x="946" y="261"/>
                  </a:lnTo>
                  <a:lnTo>
                    <a:pt x="950" y="261"/>
                  </a:lnTo>
                  <a:lnTo>
                    <a:pt x="950" y="253"/>
                  </a:lnTo>
                  <a:lnTo>
                    <a:pt x="975" y="253"/>
                  </a:lnTo>
                  <a:lnTo>
                    <a:pt x="975" y="248"/>
                  </a:lnTo>
                  <a:lnTo>
                    <a:pt x="984" y="248"/>
                  </a:lnTo>
                  <a:lnTo>
                    <a:pt x="984" y="261"/>
                  </a:lnTo>
                  <a:lnTo>
                    <a:pt x="989" y="261"/>
                  </a:lnTo>
                  <a:lnTo>
                    <a:pt x="989" y="284"/>
                  </a:lnTo>
                  <a:lnTo>
                    <a:pt x="993" y="284"/>
                  </a:lnTo>
                  <a:lnTo>
                    <a:pt x="993" y="296"/>
                  </a:lnTo>
                  <a:lnTo>
                    <a:pt x="989" y="296"/>
                  </a:lnTo>
                  <a:lnTo>
                    <a:pt x="989" y="307"/>
                  </a:lnTo>
                  <a:lnTo>
                    <a:pt x="984" y="307"/>
                  </a:lnTo>
                  <a:lnTo>
                    <a:pt x="984" y="313"/>
                  </a:lnTo>
                  <a:lnTo>
                    <a:pt x="979" y="313"/>
                  </a:lnTo>
                  <a:lnTo>
                    <a:pt x="979" y="331"/>
                  </a:lnTo>
                  <a:lnTo>
                    <a:pt x="975" y="331"/>
                  </a:lnTo>
                  <a:lnTo>
                    <a:pt x="975" y="343"/>
                  </a:lnTo>
                  <a:lnTo>
                    <a:pt x="970" y="343"/>
                  </a:lnTo>
                  <a:lnTo>
                    <a:pt x="970" y="361"/>
                  </a:lnTo>
                  <a:lnTo>
                    <a:pt x="965" y="361"/>
                  </a:lnTo>
                  <a:lnTo>
                    <a:pt x="965" y="367"/>
                  </a:lnTo>
                  <a:lnTo>
                    <a:pt x="960" y="367"/>
                  </a:lnTo>
                  <a:lnTo>
                    <a:pt x="960" y="379"/>
                  </a:lnTo>
                  <a:lnTo>
                    <a:pt x="956" y="379"/>
                  </a:lnTo>
                  <a:lnTo>
                    <a:pt x="956" y="391"/>
                  </a:lnTo>
                  <a:lnTo>
                    <a:pt x="950" y="391"/>
                  </a:lnTo>
                  <a:lnTo>
                    <a:pt x="950" y="402"/>
                  </a:lnTo>
                  <a:lnTo>
                    <a:pt x="946" y="402"/>
                  </a:lnTo>
                  <a:lnTo>
                    <a:pt x="946" y="413"/>
                  </a:lnTo>
                  <a:lnTo>
                    <a:pt x="942" y="413"/>
                  </a:lnTo>
                  <a:lnTo>
                    <a:pt x="942" y="425"/>
                  </a:lnTo>
                  <a:lnTo>
                    <a:pt x="937" y="425"/>
                  </a:lnTo>
                  <a:lnTo>
                    <a:pt x="937" y="438"/>
                  </a:lnTo>
                  <a:lnTo>
                    <a:pt x="932" y="438"/>
                  </a:lnTo>
                  <a:lnTo>
                    <a:pt x="932" y="449"/>
                  </a:lnTo>
                  <a:lnTo>
                    <a:pt x="926" y="449"/>
                  </a:lnTo>
                  <a:lnTo>
                    <a:pt x="926" y="455"/>
                  </a:lnTo>
                  <a:lnTo>
                    <a:pt x="922" y="455"/>
                  </a:lnTo>
                  <a:lnTo>
                    <a:pt x="922" y="467"/>
                  </a:lnTo>
                  <a:lnTo>
                    <a:pt x="917" y="467"/>
                  </a:lnTo>
                  <a:lnTo>
                    <a:pt x="917" y="485"/>
                  </a:lnTo>
                  <a:lnTo>
                    <a:pt x="912" y="485"/>
                  </a:lnTo>
                  <a:lnTo>
                    <a:pt x="912" y="498"/>
                  </a:lnTo>
                  <a:lnTo>
                    <a:pt x="908" y="498"/>
                  </a:lnTo>
                  <a:lnTo>
                    <a:pt x="908" y="508"/>
                  </a:lnTo>
                  <a:lnTo>
                    <a:pt x="902" y="508"/>
                  </a:lnTo>
                  <a:lnTo>
                    <a:pt x="902" y="520"/>
                  </a:lnTo>
                  <a:lnTo>
                    <a:pt x="898" y="520"/>
                  </a:lnTo>
                  <a:lnTo>
                    <a:pt x="898" y="525"/>
                  </a:lnTo>
                  <a:lnTo>
                    <a:pt x="894" y="525"/>
                  </a:lnTo>
                  <a:lnTo>
                    <a:pt x="894" y="532"/>
                  </a:lnTo>
                  <a:lnTo>
                    <a:pt x="889" y="532"/>
                  </a:lnTo>
                  <a:lnTo>
                    <a:pt x="889" y="538"/>
                  </a:lnTo>
                  <a:lnTo>
                    <a:pt x="884" y="538"/>
                  </a:lnTo>
                  <a:lnTo>
                    <a:pt x="884" y="544"/>
                  </a:lnTo>
                  <a:lnTo>
                    <a:pt x="879" y="544"/>
                  </a:lnTo>
                  <a:lnTo>
                    <a:pt x="879" y="557"/>
                  </a:lnTo>
                  <a:lnTo>
                    <a:pt x="875" y="557"/>
                  </a:lnTo>
                  <a:lnTo>
                    <a:pt x="875" y="562"/>
                  </a:lnTo>
                  <a:lnTo>
                    <a:pt x="869" y="562"/>
                  </a:lnTo>
                  <a:lnTo>
                    <a:pt x="869" y="574"/>
                  </a:lnTo>
                  <a:lnTo>
                    <a:pt x="865" y="574"/>
                  </a:lnTo>
                  <a:lnTo>
                    <a:pt x="865" y="585"/>
                  </a:lnTo>
                  <a:lnTo>
                    <a:pt x="860" y="585"/>
                  </a:lnTo>
                  <a:lnTo>
                    <a:pt x="860" y="598"/>
                  </a:lnTo>
                  <a:lnTo>
                    <a:pt x="854" y="598"/>
                  </a:lnTo>
                  <a:lnTo>
                    <a:pt x="854" y="603"/>
                  </a:lnTo>
                  <a:lnTo>
                    <a:pt x="850" y="603"/>
                  </a:lnTo>
                  <a:lnTo>
                    <a:pt x="850" y="620"/>
                  </a:lnTo>
                  <a:lnTo>
                    <a:pt x="845" y="620"/>
                  </a:lnTo>
                  <a:lnTo>
                    <a:pt x="845" y="633"/>
                  </a:lnTo>
                  <a:lnTo>
                    <a:pt x="840" y="633"/>
                  </a:lnTo>
                  <a:lnTo>
                    <a:pt x="840" y="639"/>
                  </a:lnTo>
                  <a:lnTo>
                    <a:pt x="831" y="639"/>
                  </a:lnTo>
                  <a:lnTo>
                    <a:pt x="831" y="644"/>
                  </a:lnTo>
                  <a:lnTo>
                    <a:pt x="826" y="644"/>
                  </a:lnTo>
                  <a:lnTo>
                    <a:pt x="826" y="656"/>
                  </a:lnTo>
                  <a:lnTo>
                    <a:pt x="821" y="656"/>
                  </a:lnTo>
                  <a:lnTo>
                    <a:pt x="821" y="663"/>
                  </a:lnTo>
                  <a:lnTo>
                    <a:pt x="816" y="663"/>
                  </a:lnTo>
                  <a:lnTo>
                    <a:pt x="816" y="674"/>
                  </a:lnTo>
                  <a:lnTo>
                    <a:pt x="812" y="674"/>
                  </a:lnTo>
                  <a:lnTo>
                    <a:pt x="812" y="680"/>
                  </a:lnTo>
                  <a:lnTo>
                    <a:pt x="807" y="680"/>
                  </a:lnTo>
                  <a:lnTo>
                    <a:pt x="807" y="693"/>
                  </a:lnTo>
                  <a:lnTo>
                    <a:pt x="802" y="693"/>
                  </a:lnTo>
                  <a:lnTo>
                    <a:pt x="802" y="704"/>
                  </a:lnTo>
                  <a:lnTo>
                    <a:pt x="798" y="704"/>
                  </a:lnTo>
                  <a:lnTo>
                    <a:pt x="798" y="709"/>
                  </a:lnTo>
                  <a:lnTo>
                    <a:pt x="793" y="709"/>
                  </a:lnTo>
                  <a:lnTo>
                    <a:pt x="793" y="721"/>
                  </a:lnTo>
                  <a:lnTo>
                    <a:pt x="788" y="721"/>
                  </a:lnTo>
                  <a:lnTo>
                    <a:pt x="788" y="734"/>
                  </a:lnTo>
                  <a:lnTo>
                    <a:pt x="782" y="734"/>
                  </a:lnTo>
                  <a:lnTo>
                    <a:pt x="782" y="739"/>
                  </a:lnTo>
                  <a:lnTo>
                    <a:pt x="778" y="739"/>
                  </a:lnTo>
                  <a:lnTo>
                    <a:pt x="778" y="745"/>
                  </a:lnTo>
                  <a:lnTo>
                    <a:pt x="772" y="745"/>
                  </a:lnTo>
                  <a:lnTo>
                    <a:pt x="772" y="757"/>
                  </a:lnTo>
                  <a:lnTo>
                    <a:pt x="768" y="757"/>
                  </a:lnTo>
                  <a:lnTo>
                    <a:pt x="768" y="762"/>
                  </a:lnTo>
                  <a:lnTo>
                    <a:pt x="764" y="762"/>
                  </a:lnTo>
                  <a:lnTo>
                    <a:pt x="764" y="767"/>
                  </a:lnTo>
                  <a:lnTo>
                    <a:pt x="758" y="767"/>
                  </a:lnTo>
                  <a:lnTo>
                    <a:pt x="758" y="775"/>
                  </a:lnTo>
                  <a:lnTo>
                    <a:pt x="754" y="775"/>
                  </a:lnTo>
                  <a:lnTo>
                    <a:pt x="754" y="780"/>
                  </a:lnTo>
                  <a:lnTo>
                    <a:pt x="749" y="780"/>
                  </a:lnTo>
                  <a:lnTo>
                    <a:pt x="749" y="792"/>
                  </a:lnTo>
                  <a:lnTo>
                    <a:pt x="744" y="792"/>
                  </a:lnTo>
                  <a:lnTo>
                    <a:pt x="744" y="799"/>
                  </a:lnTo>
                  <a:lnTo>
                    <a:pt x="739" y="799"/>
                  </a:lnTo>
                  <a:lnTo>
                    <a:pt x="739" y="804"/>
                  </a:lnTo>
                  <a:lnTo>
                    <a:pt x="735" y="804"/>
                  </a:lnTo>
                  <a:lnTo>
                    <a:pt x="735" y="810"/>
                  </a:lnTo>
                  <a:lnTo>
                    <a:pt x="731" y="810"/>
                  </a:lnTo>
                  <a:lnTo>
                    <a:pt x="731" y="816"/>
                  </a:lnTo>
                  <a:lnTo>
                    <a:pt x="725" y="816"/>
                  </a:lnTo>
                  <a:lnTo>
                    <a:pt x="725" y="821"/>
                  </a:lnTo>
                  <a:lnTo>
                    <a:pt x="721" y="821"/>
                  </a:lnTo>
                  <a:lnTo>
                    <a:pt x="721" y="827"/>
                  </a:lnTo>
                  <a:lnTo>
                    <a:pt x="716" y="827"/>
                  </a:lnTo>
                  <a:lnTo>
                    <a:pt x="716" y="834"/>
                  </a:lnTo>
                  <a:lnTo>
                    <a:pt x="711" y="834"/>
                  </a:lnTo>
                  <a:lnTo>
                    <a:pt x="711" y="840"/>
                  </a:lnTo>
                  <a:lnTo>
                    <a:pt x="705" y="840"/>
                  </a:lnTo>
                  <a:lnTo>
                    <a:pt x="705" y="845"/>
                  </a:lnTo>
                  <a:lnTo>
                    <a:pt x="701" y="845"/>
                  </a:lnTo>
                  <a:lnTo>
                    <a:pt x="701" y="857"/>
                  </a:lnTo>
                  <a:lnTo>
                    <a:pt x="696" y="857"/>
                  </a:lnTo>
                  <a:lnTo>
                    <a:pt x="696" y="863"/>
                  </a:lnTo>
                  <a:lnTo>
                    <a:pt x="691" y="863"/>
                  </a:lnTo>
                  <a:lnTo>
                    <a:pt x="691" y="870"/>
                  </a:lnTo>
                  <a:lnTo>
                    <a:pt x="687" y="870"/>
                  </a:lnTo>
                  <a:lnTo>
                    <a:pt x="687" y="875"/>
                  </a:lnTo>
                  <a:lnTo>
                    <a:pt x="682" y="875"/>
                  </a:lnTo>
                  <a:lnTo>
                    <a:pt x="682" y="881"/>
                  </a:lnTo>
                  <a:lnTo>
                    <a:pt x="677" y="881"/>
                  </a:lnTo>
                  <a:lnTo>
                    <a:pt x="677" y="886"/>
                  </a:lnTo>
                  <a:lnTo>
                    <a:pt x="672" y="886"/>
                  </a:lnTo>
                  <a:lnTo>
                    <a:pt x="672" y="893"/>
                  </a:lnTo>
                  <a:lnTo>
                    <a:pt x="668" y="893"/>
                  </a:lnTo>
                  <a:lnTo>
                    <a:pt x="668" y="898"/>
                  </a:lnTo>
                  <a:lnTo>
                    <a:pt x="662" y="898"/>
                  </a:lnTo>
                  <a:lnTo>
                    <a:pt x="662" y="905"/>
                  </a:lnTo>
                  <a:lnTo>
                    <a:pt x="658" y="905"/>
                  </a:lnTo>
                  <a:lnTo>
                    <a:pt x="658" y="911"/>
                  </a:lnTo>
                  <a:lnTo>
                    <a:pt x="653" y="911"/>
                  </a:lnTo>
                  <a:lnTo>
                    <a:pt x="653" y="917"/>
                  </a:lnTo>
                  <a:lnTo>
                    <a:pt x="649" y="917"/>
                  </a:lnTo>
                  <a:lnTo>
                    <a:pt x="649" y="922"/>
                  </a:lnTo>
                  <a:lnTo>
                    <a:pt x="644" y="922"/>
                  </a:lnTo>
                  <a:lnTo>
                    <a:pt x="644" y="928"/>
                  </a:lnTo>
                  <a:lnTo>
                    <a:pt x="639" y="928"/>
                  </a:lnTo>
                  <a:lnTo>
                    <a:pt x="639" y="940"/>
                  </a:lnTo>
                  <a:lnTo>
                    <a:pt x="628" y="940"/>
                  </a:lnTo>
                  <a:lnTo>
                    <a:pt x="628" y="946"/>
                  </a:lnTo>
                  <a:lnTo>
                    <a:pt x="624" y="946"/>
                  </a:lnTo>
                  <a:lnTo>
                    <a:pt x="624" y="957"/>
                  </a:lnTo>
                  <a:lnTo>
                    <a:pt x="614" y="957"/>
                  </a:lnTo>
                  <a:lnTo>
                    <a:pt x="614" y="963"/>
                  </a:lnTo>
                  <a:lnTo>
                    <a:pt x="609" y="963"/>
                  </a:lnTo>
                  <a:lnTo>
                    <a:pt x="609" y="970"/>
                  </a:lnTo>
                  <a:lnTo>
                    <a:pt x="605" y="970"/>
                  </a:lnTo>
                  <a:lnTo>
                    <a:pt x="605" y="976"/>
                  </a:lnTo>
                  <a:lnTo>
                    <a:pt x="600" y="976"/>
                  </a:lnTo>
                  <a:lnTo>
                    <a:pt x="600" y="981"/>
                  </a:lnTo>
                  <a:lnTo>
                    <a:pt x="595" y="981"/>
                  </a:lnTo>
                  <a:lnTo>
                    <a:pt x="595" y="987"/>
                  </a:lnTo>
                  <a:lnTo>
                    <a:pt x="586" y="987"/>
                  </a:lnTo>
                  <a:lnTo>
                    <a:pt x="586" y="993"/>
                  </a:lnTo>
                  <a:lnTo>
                    <a:pt x="581" y="993"/>
                  </a:lnTo>
                  <a:lnTo>
                    <a:pt x="581" y="998"/>
                  </a:lnTo>
                  <a:lnTo>
                    <a:pt x="577" y="998"/>
                  </a:lnTo>
                  <a:lnTo>
                    <a:pt x="577" y="1004"/>
                  </a:lnTo>
                  <a:lnTo>
                    <a:pt x="572" y="1004"/>
                  </a:lnTo>
                  <a:lnTo>
                    <a:pt x="572" y="1011"/>
                  </a:lnTo>
                  <a:lnTo>
                    <a:pt x="567" y="1011"/>
                  </a:lnTo>
                  <a:lnTo>
                    <a:pt x="567" y="1017"/>
                  </a:lnTo>
                  <a:lnTo>
                    <a:pt x="561" y="1017"/>
                  </a:lnTo>
                  <a:lnTo>
                    <a:pt x="561" y="1029"/>
                  </a:lnTo>
                  <a:lnTo>
                    <a:pt x="552" y="1029"/>
                  </a:lnTo>
                  <a:lnTo>
                    <a:pt x="552" y="1034"/>
                  </a:lnTo>
                  <a:lnTo>
                    <a:pt x="547" y="1034"/>
                  </a:lnTo>
                  <a:lnTo>
                    <a:pt x="547" y="1039"/>
                  </a:lnTo>
                  <a:lnTo>
                    <a:pt x="543" y="1039"/>
                  </a:lnTo>
                  <a:lnTo>
                    <a:pt x="543" y="1047"/>
                  </a:lnTo>
                  <a:lnTo>
                    <a:pt x="538" y="1047"/>
                  </a:lnTo>
                  <a:lnTo>
                    <a:pt x="538" y="1058"/>
                  </a:lnTo>
                  <a:lnTo>
                    <a:pt x="533" y="1058"/>
                  </a:lnTo>
                  <a:lnTo>
                    <a:pt x="533" y="1063"/>
                  </a:lnTo>
                  <a:lnTo>
                    <a:pt x="528" y="1063"/>
                  </a:lnTo>
                  <a:lnTo>
                    <a:pt x="528" y="1071"/>
                  </a:lnTo>
                  <a:lnTo>
                    <a:pt x="524" y="1071"/>
                  </a:lnTo>
                  <a:lnTo>
                    <a:pt x="524" y="1076"/>
                  </a:lnTo>
                  <a:lnTo>
                    <a:pt x="518" y="1076"/>
                  </a:lnTo>
                  <a:lnTo>
                    <a:pt x="518" y="1082"/>
                  </a:lnTo>
                  <a:lnTo>
                    <a:pt x="510" y="1082"/>
                  </a:lnTo>
                  <a:lnTo>
                    <a:pt x="510" y="1088"/>
                  </a:lnTo>
                  <a:lnTo>
                    <a:pt x="500" y="1088"/>
                  </a:lnTo>
                  <a:lnTo>
                    <a:pt x="500" y="1093"/>
                  </a:lnTo>
                  <a:lnTo>
                    <a:pt x="490" y="1093"/>
                  </a:lnTo>
                  <a:lnTo>
                    <a:pt x="490" y="1088"/>
                  </a:lnTo>
                  <a:lnTo>
                    <a:pt x="484" y="1088"/>
                  </a:lnTo>
                  <a:lnTo>
                    <a:pt x="484" y="1082"/>
                  </a:lnTo>
                  <a:lnTo>
                    <a:pt x="480" y="1082"/>
                  </a:lnTo>
                  <a:lnTo>
                    <a:pt x="480" y="1076"/>
                  </a:lnTo>
                  <a:lnTo>
                    <a:pt x="475" y="1076"/>
                  </a:lnTo>
                  <a:lnTo>
                    <a:pt x="475" y="1071"/>
                  </a:lnTo>
                  <a:lnTo>
                    <a:pt x="470" y="1071"/>
                  </a:lnTo>
                  <a:lnTo>
                    <a:pt x="470" y="1063"/>
                  </a:lnTo>
                  <a:lnTo>
                    <a:pt x="466" y="1063"/>
                  </a:lnTo>
                  <a:lnTo>
                    <a:pt x="466" y="1034"/>
                  </a:lnTo>
                  <a:lnTo>
                    <a:pt x="461" y="1034"/>
                  </a:lnTo>
                  <a:lnTo>
                    <a:pt x="461" y="1022"/>
                  </a:lnTo>
                  <a:lnTo>
                    <a:pt x="456" y="1022"/>
                  </a:lnTo>
                  <a:lnTo>
                    <a:pt x="456" y="1011"/>
                  </a:lnTo>
                  <a:lnTo>
                    <a:pt x="451" y="1011"/>
                  </a:lnTo>
                  <a:lnTo>
                    <a:pt x="451" y="1004"/>
                  </a:lnTo>
                  <a:lnTo>
                    <a:pt x="447" y="1004"/>
                  </a:lnTo>
                  <a:lnTo>
                    <a:pt x="447" y="993"/>
                  </a:lnTo>
                  <a:lnTo>
                    <a:pt x="442" y="993"/>
                  </a:lnTo>
                  <a:lnTo>
                    <a:pt x="442" y="987"/>
                  </a:lnTo>
                  <a:lnTo>
                    <a:pt x="437" y="987"/>
                  </a:lnTo>
                  <a:lnTo>
                    <a:pt x="437" y="981"/>
                  </a:lnTo>
                  <a:lnTo>
                    <a:pt x="432" y="981"/>
                  </a:lnTo>
                  <a:lnTo>
                    <a:pt x="432" y="970"/>
                  </a:lnTo>
                  <a:lnTo>
                    <a:pt x="428" y="970"/>
                  </a:lnTo>
                  <a:lnTo>
                    <a:pt x="428" y="957"/>
                  </a:lnTo>
                  <a:lnTo>
                    <a:pt x="423" y="957"/>
                  </a:lnTo>
                  <a:lnTo>
                    <a:pt x="423" y="952"/>
                  </a:lnTo>
                  <a:lnTo>
                    <a:pt x="417" y="952"/>
                  </a:lnTo>
                  <a:lnTo>
                    <a:pt x="417" y="940"/>
                  </a:lnTo>
                  <a:lnTo>
                    <a:pt x="413" y="940"/>
                  </a:lnTo>
                  <a:lnTo>
                    <a:pt x="413" y="928"/>
                  </a:lnTo>
                  <a:lnTo>
                    <a:pt x="408" y="928"/>
                  </a:lnTo>
                  <a:lnTo>
                    <a:pt x="408" y="922"/>
                  </a:lnTo>
                  <a:lnTo>
                    <a:pt x="403" y="922"/>
                  </a:lnTo>
                  <a:lnTo>
                    <a:pt x="403" y="911"/>
                  </a:lnTo>
                  <a:lnTo>
                    <a:pt x="398" y="911"/>
                  </a:lnTo>
                  <a:lnTo>
                    <a:pt x="398" y="886"/>
                  </a:lnTo>
                  <a:lnTo>
                    <a:pt x="389" y="886"/>
                  </a:lnTo>
                  <a:lnTo>
                    <a:pt x="389" y="881"/>
                  </a:lnTo>
                  <a:lnTo>
                    <a:pt x="384" y="881"/>
                  </a:lnTo>
                  <a:lnTo>
                    <a:pt x="384" y="863"/>
                  </a:lnTo>
                  <a:lnTo>
                    <a:pt x="380" y="863"/>
                  </a:lnTo>
                  <a:lnTo>
                    <a:pt x="380" y="852"/>
                  </a:lnTo>
                  <a:lnTo>
                    <a:pt x="374" y="852"/>
                  </a:lnTo>
                  <a:lnTo>
                    <a:pt x="374" y="845"/>
                  </a:lnTo>
                  <a:lnTo>
                    <a:pt x="370" y="845"/>
                  </a:lnTo>
                  <a:lnTo>
                    <a:pt x="370" y="834"/>
                  </a:lnTo>
                  <a:lnTo>
                    <a:pt x="365" y="834"/>
                  </a:lnTo>
                  <a:lnTo>
                    <a:pt x="365" y="821"/>
                  </a:lnTo>
                  <a:lnTo>
                    <a:pt x="360" y="821"/>
                  </a:lnTo>
                  <a:lnTo>
                    <a:pt x="360" y="804"/>
                  </a:lnTo>
                  <a:lnTo>
                    <a:pt x="355" y="804"/>
                  </a:lnTo>
                  <a:lnTo>
                    <a:pt x="355" y="799"/>
                  </a:lnTo>
                  <a:lnTo>
                    <a:pt x="351" y="799"/>
                  </a:lnTo>
                  <a:lnTo>
                    <a:pt x="351" y="786"/>
                  </a:lnTo>
                  <a:lnTo>
                    <a:pt x="346" y="786"/>
                  </a:lnTo>
                  <a:lnTo>
                    <a:pt x="346" y="767"/>
                  </a:lnTo>
                  <a:lnTo>
                    <a:pt x="340" y="767"/>
                  </a:lnTo>
                  <a:lnTo>
                    <a:pt x="340" y="751"/>
                  </a:lnTo>
                  <a:lnTo>
                    <a:pt x="336" y="751"/>
                  </a:lnTo>
                  <a:lnTo>
                    <a:pt x="336" y="745"/>
                  </a:lnTo>
                  <a:lnTo>
                    <a:pt x="331" y="745"/>
                  </a:lnTo>
                  <a:lnTo>
                    <a:pt x="331" y="739"/>
                  </a:lnTo>
                  <a:lnTo>
                    <a:pt x="326" y="739"/>
                  </a:lnTo>
                  <a:lnTo>
                    <a:pt x="326" y="734"/>
                  </a:lnTo>
                  <a:lnTo>
                    <a:pt x="321" y="734"/>
                  </a:lnTo>
                  <a:lnTo>
                    <a:pt x="321" y="716"/>
                  </a:lnTo>
                  <a:lnTo>
                    <a:pt x="317" y="716"/>
                  </a:lnTo>
                  <a:lnTo>
                    <a:pt x="317" y="698"/>
                  </a:lnTo>
                  <a:lnTo>
                    <a:pt x="312" y="698"/>
                  </a:lnTo>
                  <a:lnTo>
                    <a:pt x="312" y="685"/>
                  </a:lnTo>
                  <a:lnTo>
                    <a:pt x="307" y="685"/>
                  </a:lnTo>
                  <a:lnTo>
                    <a:pt x="307" y="663"/>
                  </a:lnTo>
                  <a:lnTo>
                    <a:pt x="303" y="663"/>
                  </a:lnTo>
                  <a:lnTo>
                    <a:pt x="303" y="656"/>
                  </a:lnTo>
                  <a:lnTo>
                    <a:pt x="293" y="656"/>
                  </a:lnTo>
                  <a:lnTo>
                    <a:pt x="293" y="650"/>
                  </a:lnTo>
                  <a:lnTo>
                    <a:pt x="288" y="650"/>
                  </a:lnTo>
                  <a:lnTo>
                    <a:pt x="288" y="626"/>
                  </a:lnTo>
                  <a:lnTo>
                    <a:pt x="284" y="626"/>
                  </a:lnTo>
                  <a:lnTo>
                    <a:pt x="284" y="620"/>
                  </a:lnTo>
                  <a:lnTo>
                    <a:pt x="278" y="620"/>
                  </a:lnTo>
                  <a:lnTo>
                    <a:pt x="278" y="615"/>
                  </a:lnTo>
                  <a:lnTo>
                    <a:pt x="273" y="615"/>
                  </a:lnTo>
                  <a:lnTo>
                    <a:pt x="273" y="609"/>
                  </a:lnTo>
                  <a:lnTo>
                    <a:pt x="268" y="609"/>
                  </a:lnTo>
                  <a:lnTo>
                    <a:pt x="268" y="603"/>
                  </a:lnTo>
                  <a:lnTo>
                    <a:pt x="264" y="603"/>
                  </a:lnTo>
                  <a:lnTo>
                    <a:pt x="264" y="585"/>
                  </a:lnTo>
                  <a:lnTo>
                    <a:pt x="254" y="585"/>
                  </a:lnTo>
                  <a:lnTo>
                    <a:pt x="254" y="579"/>
                  </a:lnTo>
                  <a:lnTo>
                    <a:pt x="250" y="579"/>
                  </a:lnTo>
                  <a:lnTo>
                    <a:pt x="250" y="566"/>
                  </a:lnTo>
                  <a:lnTo>
                    <a:pt x="244" y="566"/>
                  </a:lnTo>
                  <a:lnTo>
                    <a:pt x="244" y="549"/>
                  </a:lnTo>
                  <a:lnTo>
                    <a:pt x="240" y="549"/>
                  </a:lnTo>
                  <a:lnTo>
                    <a:pt x="240" y="544"/>
                  </a:lnTo>
                  <a:lnTo>
                    <a:pt x="236" y="544"/>
                  </a:lnTo>
                  <a:lnTo>
                    <a:pt x="236" y="525"/>
                  </a:lnTo>
                  <a:lnTo>
                    <a:pt x="230" y="525"/>
                  </a:lnTo>
                  <a:lnTo>
                    <a:pt x="230" y="514"/>
                  </a:lnTo>
                  <a:lnTo>
                    <a:pt x="226" y="514"/>
                  </a:lnTo>
                  <a:lnTo>
                    <a:pt x="226" y="508"/>
                  </a:lnTo>
                  <a:lnTo>
                    <a:pt x="221" y="508"/>
                  </a:lnTo>
                  <a:lnTo>
                    <a:pt x="221" y="503"/>
                  </a:lnTo>
                  <a:lnTo>
                    <a:pt x="216" y="503"/>
                  </a:lnTo>
                  <a:lnTo>
                    <a:pt x="216" y="490"/>
                  </a:lnTo>
                  <a:lnTo>
                    <a:pt x="212" y="490"/>
                  </a:lnTo>
                  <a:lnTo>
                    <a:pt x="212" y="479"/>
                  </a:lnTo>
                  <a:lnTo>
                    <a:pt x="207" y="479"/>
                  </a:lnTo>
                  <a:lnTo>
                    <a:pt x="207" y="467"/>
                  </a:lnTo>
                  <a:lnTo>
                    <a:pt x="202" y="467"/>
                  </a:lnTo>
                  <a:lnTo>
                    <a:pt x="202" y="455"/>
                  </a:lnTo>
                  <a:lnTo>
                    <a:pt x="196" y="455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38"/>
                  </a:lnTo>
                  <a:lnTo>
                    <a:pt x="187" y="438"/>
                  </a:lnTo>
                  <a:lnTo>
                    <a:pt x="187" y="425"/>
                  </a:lnTo>
                  <a:lnTo>
                    <a:pt x="182" y="425"/>
                  </a:lnTo>
                  <a:lnTo>
                    <a:pt x="182" y="402"/>
                  </a:lnTo>
                  <a:lnTo>
                    <a:pt x="177" y="402"/>
                  </a:lnTo>
                  <a:lnTo>
                    <a:pt x="177" y="397"/>
                  </a:lnTo>
                  <a:lnTo>
                    <a:pt x="173" y="397"/>
                  </a:lnTo>
                  <a:lnTo>
                    <a:pt x="173" y="391"/>
                  </a:lnTo>
                  <a:lnTo>
                    <a:pt x="168" y="391"/>
                  </a:lnTo>
                  <a:lnTo>
                    <a:pt x="168" y="384"/>
                  </a:lnTo>
                  <a:lnTo>
                    <a:pt x="163" y="384"/>
                  </a:lnTo>
                  <a:lnTo>
                    <a:pt x="163" y="379"/>
                  </a:lnTo>
                  <a:lnTo>
                    <a:pt x="159" y="379"/>
                  </a:lnTo>
                  <a:lnTo>
                    <a:pt x="159" y="367"/>
                  </a:lnTo>
                  <a:lnTo>
                    <a:pt x="154" y="367"/>
                  </a:lnTo>
                  <a:lnTo>
                    <a:pt x="154" y="349"/>
                  </a:lnTo>
                  <a:lnTo>
                    <a:pt x="149" y="349"/>
                  </a:lnTo>
                  <a:lnTo>
                    <a:pt x="149" y="331"/>
                  </a:lnTo>
                  <a:lnTo>
                    <a:pt x="144" y="331"/>
                  </a:lnTo>
                  <a:lnTo>
                    <a:pt x="144" y="326"/>
                  </a:lnTo>
                  <a:lnTo>
                    <a:pt x="140" y="326"/>
                  </a:lnTo>
                  <a:lnTo>
                    <a:pt x="140" y="307"/>
                  </a:lnTo>
                  <a:lnTo>
                    <a:pt x="134" y="307"/>
                  </a:lnTo>
                  <a:lnTo>
                    <a:pt x="134" y="302"/>
                  </a:lnTo>
                  <a:lnTo>
                    <a:pt x="129" y="302"/>
                  </a:lnTo>
                  <a:lnTo>
                    <a:pt x="129" y="289"/>
                  </a:lnTo>
                  <a:lnTo>
                    <a:pt x="125" y="289"/>
                  </a:lnTo>
                  <a:lnTo>
                    <a:pt x="125" y="284"/>
                  </a:lnTo>
                  <a:lnTo>
                    <a:pt x="120" y="284"/>
                  </a:lnTo>
                  <a:lnTo>
                    <a:pt x="120" y="278"/>
                  </a:lnTo>
                  <a:lnTo>
                    <a:pt x="115" y="278"/>
                  </a:lnTo>
                  <a:lnTo>
                    <a:pt x="115" y="266"/>
                  </a:lnTo>
                  <a:lnTo>
                    <a:pt x="106" y="266"/>
                  </a:lnTo>
                  <a:lnTo>
                    <a:pt x="106" y="261"/>
                  </a:lnTo>
                  <a:lnTo>
                    <a:pt x="100" y="261"/>
                  </a:lnTo>
                  <a:lnTo>
                    <a:pt x="100" y="243"/>
                  </a:lnTo>
                  <a:lnTo>
                    <a:pt x="96" y="243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91" y="231"/>
                  </a:lnTo>
                  <a:lnTo>
                    <a:pt x="86" y="231"/>
                  </a:lnTo>
                  <a:lnTo>
                    <a:pt x="86" y="225"/>
                  </a:lnTo>
                  <a:lnTo>
                    <a:pt x="82" y="225"/>
                  </a:lnTo>
                  <a:lnTo>
                    <a:pt x="82" y="212"/>
                  </a:lnTo>
                  <a:lnTo>
                    <a:pt x="77" y="212"/>
                  </a:lnTo>
                  <a:lnTo>
                    <a:pt x="77" y="207"/>
                  </a:lnTo>
                  <a:lnTo>
                    <a:pt x="72" y="207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183"/>
                  </a:lnTo>
                  <a:lnTo>
                    <a:pt x="63" y="183"/>
                  </a:lnTo>
                  <a:lnTo>
                    <a:pt x="63" y="177"/>
                  </a:lnTo>
                  <a:lnTo>
                    <a:pt x="57" y="177"/>
                  </a:lnTo>
                  <a:lnTo>
                    <a:pt x="57" y="171"/>
                  </a:lnTo>
                  <a:lnTo>
                    <a:pt x="52" y="171"/>
                  </a:lnTo>
                  <a:lnTo>
                    <a:pt x="52" y="160"/>
                  </a:lnTo>
                  <a:lnTo>
                    <a:pt x="48" y="160"/>
                  </a:lnTo>
                  <a:lnTo>
                    <a:pt x="48" y="130"/>
                  </a:lnTo>
                  <a:lnTo>
                    <a:pt x="43" y="130"/>
                  </a:lnTo>
                  <a:lnTo>
                    <a:pt x="43" y="125"/>
                  </a:lnTo>
                  <a:lnTo>
                    <a:pt x="38" y="125"/>
                  </a:lnTo>
                  <a:lnTo>
                    <a:pt x="38" y="117"/>
                  </a:lnTo>
                  <a:lnTo>
                    <a:pt x="33" y="117"/>
                  </a:lnTo>
                  <a:lnTo>
                    <a:pt x="33" y="112"/>
                  </a:lnTo>
                  <a:lnTo>
                    <a:pt x="29" y="112"/>
                  </a:lnTo>
                  <a:lnTo>
                    <a:pt x="29" y="101"/>
                  </a:lnTo>
                  <a:lnTo>
                    <a:pt x="24" y="101"/>
                  </a:lnTo>
                  <a:lnTo>
                    <a:pt x="24" y="84"/>
                  </a:lnTo>
                  <a:lnTo>
                    <a:pt x="19" y="84"/>
                  </a:lnTo>
                  <a:lnTo>
                    <a:pt x="19" y="71"/>
                  </a:lnTo>
                  <a:lnTo>
                    <a:pt x="14" y="71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10" y="54"/>
                  </a:lnTo>
                  <a:lnTo>
                    <a:pt x="5" y="54"/>
                  </a:lnTo>
                  <a:lnTo>
                    <a:pt x="5" y="47"/>
                  </a:lnTo>
                  <a:lnTo>
                    <a:pt x="0" y="4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0320" y="4259160"/>
              <a:ext cx="4680" cy="50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77080" y="2739960"/>
              <a:ext cx="488880" cy="622440"/>
            </a:xfrm>
            <a:custGeom>
              <a:avLst/>
              <a:gdLst/>
              <a:ahLst/>
              <a:rect l="l" t="t" r="r" b="b"/>
              <a:pathLst>
                <a:path w="923" h="1567">
                  <a:moveTo>
                    <a:pt x="0" y="1308"/>
                  </a:moveTo>
                  <a:lnTo>
                    <a:pt x="5" y="1308"/>
                  </a:lnTo>
                  <a:lnTo>
                    <a:pt x="5" y="1300"/>
                  </a:lnTo>
                  <a:lnTo>
                    <a:pt x="10" y="1300"/>
                  </a:lnTo>
                  <a:lnTo>
                    <a:pt x="10" y="1295"/>
                  </a:lnTo>
                  <a:lnTo>
                    <a:pt x="14" y="1295"/>
                  </a:lnTo>
                  <a:lnTo>
                    <a:pt x="14" y="1290"/>
                  </a:lnTo>
                  <a:lnTo>
                    <a:pt x="19" y="1290"/>
                  </a:lnTo>
                  <a:lnTo>
                    <a:pt x="19" y="1284"/>
                  </a:lnTo>
                  <a:lnTo>
                    <a:pt x="24" y="1284"/>
                  </a:lnTo>
                  <a:lnTo>
                    <a:pt x="24" y="1278"/>
                  </a:lnTo>
                  <a:lnTo>
                    <a:pt x="28" y="1278"/>
                  </a:lnTo>
                  <a:lnTo>
                    <a:pt x="28" y="1267"/>
                  </a:lnTo>
                  <a:lnTo>
                    <a:pt x="34" y="1267"/>
                  </a:lnTo>
                  <a:lnTo>
                    <a:pt x="34" y="1259"/>
                  </a:lnTo>
                  <a:lnTo>
                    <a:pt x="39" y="1259"/>
                  </a:lnTo>
                  <a:lnTo>
                    <a:pt x="39" y="1248"/>
                  </a:lnTo>
                  <a:lnTo>
                    <a:pt x="48" y="1248"/>
                  </a:lnTo>
                  <a:lnTo>
                    <a:pt x="48" y="1242"/>
                  </a:lnTo>
                  <a:lnTo>
                    <a:pt x="58" y="1242"/>
                  </a:lnTo>
                  <a:lnTo>
                    <a:pt x="58" y="1237"/>
                  </a:lnTo>
                  <a:lnTo>
                    <a:pt x="62" y="1237"/>
                  </a:lnTo>
                  <a:lnTo>
                    <a:pt x="62" y="1230"/>
                  </a:lnTo>
                  <a:lnTo>
                    <a:pt x="72" y="1230"/>
                  </a:lnTo>
                  <a:lnTo>
                    <a:pt x="72" y="1224"/>
                  </a:lnTo>
                  <a:lnTo>
                    <a:pt x="77" y="1224"/>
                  </a:lnTo>
                  <a:lnTo>
                    <a:pt x="77" y="1213"/>
                  </a:lnTo>
                  <a:lnTo>
                    <a:pt x="87" y="1213"/>
                  </a:lnTo>
                  <a:lnTo>
                    <a:pt x="87" y="1207"/>
                  </a:lnTo>
                  <a:lnTo>
                    <a:pt x="91" y="1207"/>
                  </a:lnTo>
                  <a:lnTo>
                    <a:pt x="91" y="1201"/>
                  </a:lnTo>
                  <a:lnTo>
                    <a:pt x="95" y="1201"/>
                  </a:lnTo>
                  <a:lnTo>
                    <a:pt x="95" y="1194"/>
                  </a:lnTo>
                  <a:lnTo>
                    <a:pt x="101" y="1194"/>
                  </a:lnTo>
                  <a:lnTo>
                    <a:pt x="101" y="1189"/>
                  </a:lnTo>
                  <a:lnTo>
                    <a:pt x="105" y="1189"/>
                  </a:lnTo>
                  <a:lnTo>
                    <a:pt x="105" y="1183"/>
                  </a:lnTo>
                  <a:lnTo>
                    <a:pt x="111" y="1183"/>
                  </a:lnTo>
                  <a:lnTo>
                    <a:pt x="111" y="1177"/>
                  </a:lnTo>
                  <a:lnTo>
                    <a:pt x="116" y="1177"/>
                  </a:lnTo>
                  <a:lnTo>
                    <a:pt x="116" y="1172"/>
                  </a:lnTo>
                  <a:lnTo>
                    <a:pt x="121" y="1172"/>
                  </a:lnTo>
                  <a:lnTo>
                    <a:pt x="121" y="1166"/>
                  </a:lnTo>
                  <a:lnTo>
                    <a:pt x="125" y="1166"/>
                  </a:lnTo>
                  <a:lnTo>
                    <a:pt x="125" y="1159"/>
                  </a:lnTo>
                  <a:lnTo>
                    <a:pt x="130" y="1159"/>
                  </a:lnTo>
                  <a:lnTo>
                    <a:pt x="130" y="1148"/>
                  </a:lnTo>
                  <a:lnTo>
                    <a:pt x="135" y="1148"/>
                  </a:lnTo>
                  <a:lnTo>
                    <a:pt x="135" y="1142"/>
                  </a:lnTo>
                  <a:lnTo>
                    <a:pt x="139" y="1142"/>
                  </a:lnTo>
                  <a:lnTo>
                    <a:pt x="139" y="1136"/>
                  </a:lnTo>
                  <a:lnTo>
                    <a:pt x="144" y="1136"/>
                  </a:lnTo>
                  <a:lnTo>
                    <a:pt x="144" y="1131"/>
                  </a:lnTo>
                  <a:lnTo>
                    <a:pt x="149" y="1131"/>
                  </a:lnTo>
                  <a:lnTo>
                    <a:pt x="149" y="1123"/>
                  </a:lnTo>
                  <a:lnTo>
                    <a:pt x="154" y="1123"/>
                  </a:lnTo>
                  <a:lnTo>
                    <a:pt x="154" y="1118"/>
                  </a:lnTo>
                  <a:lnTo>
                    <a:pt x="158" y="1118"/>
                  </a:lnTo>
                  <a:lnTo>
                    <a:pt x="158" y="1112"/>
                  </a:lnTo>
                  <a:lnTo>
                    <a:pt x="163" y="1112"/>
                  </a:lnTo>
                  <a:lnTo>
                    <a:pt x="163" y="1099"/>
                  </a:lnTo>
                  <a:lnTo>
                    <a:pt x="168" y="1099"/>
                  </a:lnTo>
                  <a:lnTo>
                    <a:pt x="168" y="1094"/>
                  </a:lnTo>
                  <a:lnTo>
                    <a:pt x="173" y="1094"/>
                  </a:lnTo>
                  <a:lnTo>
                    <a:pt x="173" y="1089"/>
                  </a:lnTo>
                  <a:lnTo>
                    <a:pt x="177" y="1089"/>
                  </a:lnTo>
                  <a:lnTo>
                    <a:pt x="177" y="1077"/>
                  </a:lnTo>
                  <a:lnTo>
                    <a:pt x="183" y="1077"/>
                  </a:lnTo>
                  <a:lnTo>
                    <a:pt x="183" y="1071"/>
                  </a:lnTo>
                  <a:lnTo>
                    <a:pt x="188" y="1071"/>
                  </a:lnTo>
                  <a:lnTo>
                    <a:pt x="188" y="1064"/>
                  </a:lnTo>
                  <a:lnTo>
                    <a:pt x="192" y="1064"/>
                  </a:lnTo>
                  <a:lnTo>
                    <a:pt x="192" y="1053"/>
                  </a:lnTo>
                  <a:lnTo>
                    <a:pt x="198" y="1053"/>
                  </a:lnTo>
                  <a:lnTo>
                    <a:pt x="198" y="1047"/>
                  </a:lnTo>
                  <a:lnTo>
                    <a:pt x="202" y="1047"/>
                  </a:lnTo>
                  <a:lnTo>
                    <a:pt x="202" y="1041"/>
                  </a:lnTo>
                  <a:lnTo>
                    <a:pt x="207" y="1041"/>
                  </a:lnTo>
                  <a:lnTo>
                    <a:pt x="207" y="1030"/>
                  </a:lnTo>
                  <a:lnTo>
                    <a:pt x="212" y="1030"/>
                  </a:lnTo>
                  <a:lnTo>
                    <a:pt x="212" y="1023"/>
                  </a:lnTo>
                  <a:lnTo>
                    <a:pt x="217" y="1023"/>
                  </a:lnTo>
                  <a:lnTo>
                    <a:pt x="217" y="1012"/>
                  </a:lnTo>
                  <a:lnTo>
                    <a:pt x="221" y="1012"/>
                  </a:lnTo>
                  <a:lnTo>
                    <a:pt x="221" y="1006"/>
                  </a:lnTo>
                  <a:lnTo>
                    <a:pt x="225" y="1006"/>
                  </a:lnTo>
                  <a:lnTo>
                    <a:pt x="225" y="995"/>
                  </a:lnTo>
                  <a:lnTo>
                    <a:pt x="231" y="995"/>
                  </a:lnTo>
                  <a:lnTo>
                    <a:pt x="231" y="988"/>
                  </a:lnTo>
                  <a:lnTo>
                    <a:pt x="235" y="988"/>
                  </a:lnTo>
                  <a:lnTo>
                    <a:pt x="235" y="977"/>
                  </a:lnTo>
                  <a:lnTo>
                    <a:pt x="240" y="977"/>
                  </a:lnTo>
                  <a:lnTo>
                    <a:pt x="240" y="965"/>
                  </a:lnTo>
                  <a:lnTo>
                    <a:pt x="245" y="965"/>
                  </a:lnTo>
                  <a:lnTo>
                    <a:pt x="245" y="958"/>
                  </a:lnTo>
                  <a:lnTo>
                    <a:pt x="249" y="958"/>
                  </a:lnTo>
                  <a:lnTo>
                    <a:pt x="249" y="946"/>
                  </a:lnTo>
                  <a:lnTo>
                    <a:pt x="255" y="946"/>
                  </a:lnTo>
                  <a:lnTo>
                    <a:pt x="255" y="935"/>
                  </a:lnTo>
                  <a:lnTo>
                    <a:pt x="260" y="935"/>
                  </a:lnTo>
                  <a:lnTo>
                    <a:pt x="260" y="923"/>
                  </a:lnTo>
                  <a:lnTo>
                    <a:pt x="265" y="923"/>
                  </a:lnTo>
                  <a:lnTo>
                    <a:pt x="265" y="912"/>
                  </a:lnTo>
                  <a:lnTo>
                    <a:pt x="269" y="912"/>
                  </a:lnTo>
                  <a:lnTo>
                    <a:pt x="269" y="905"/>
                  </a:lnTo>
                  <a:lnTo>
                    <a:pt x="273" y="905"/>
                  </a:lnTo>
                  <a:lnTo>
                    <a:pt x="273" y="894"/>
                  </a:lnTo>
                  <a:lnTo>
                    <a:pt x="279" y="894"/>
                  </a:lnTo>
                  <a:lnTo>
                    <a:pt x="279" y="887"/>
                  </a:lnTo>
                  <a:lnTo>
                    <a:pt x="283" y="887"/>
                  </a:lnTo>
                  <a:lnTo>
                    <a:pt x="283" y="881"/>
                  </a:lnTo>
                  <a:lnTo>
                    <a:pt x="288" y="881"/>
                  </a:lnTo>
                  <a:lnTo>
                    <a:pt x="288" y="870"/>
                  </a:lnTo>
                  <a:lnTo>
                    <a:pt x="293" y="870"/>
                  </a:lnTo>
                  <a:lnTo>
                    <a:pt x="293" y="859"/>
                  </a:lnTo>
                  <a:lnTo>
                    <a:pt x="298" y="859"/>
                  </a:lnTo>
                  <a:lnTo>
                    <a:pt x="298" y="846"/>
                  </a:lnTo>
                  <a:lnTo>
                    <a:pt x="302" y="846"/>
                  </a:lnTo>
                  <a:lnTo>
                    <a:pt x="302" y="835"/>
                  </a:lnTo>
                  <a:lnTo>
                    <a:pt x="307" y="835"/>
                  </a:lnTo>
                  <a:lnTo>
                    <a:pt x="307" y="827"/>
                  </a:lnTo>
                  <a:lnTo>
                    <a:pt x="312" y="827"/>
                  </a:lnTo>
                  <a:lnTo>
                    <a:pt x="312" y="811"/>
                  </a:lnTo>
                  <a:lnTo>
                    <a:pt x="316" y="811"/>
                  </a:lnTo>
                  <a:lnTo>
                    <a:pt x="316" y="805"/>
                  </a:lnTo>
                  <a:lnTo>
                    <a:pt x="321" y="805"/>
                  </a:lnTo>
                  <a:lnTo>
                    <a:pt x="321" y="794"/>
                  </a:lnTo>
                  <a:lnTo>
                    <a:pt x="327" y="794"/>
                  </a:lnTo>
                  <a:lnTo>
                    <a:pt x="327" y="781"/>
                  </a:lnTo>
                  <a:lnTo>
                    <a:pt x="332" y="781"/>
                  </a:lnTo>
                  <a:lnTo>
                    <a:pt x="332" y="764"/>
                  </a:lnTo>
                  <a:lnTo>
                    <a:pt x="336" y="764"/>
                  </a:lnTo>
                  <a:lnTo>
                    <a:pt x="336" y="753"/>
                  </a:lnTo>
                  <a:lnTo>
                    <a:pt x="342" y="753"/>
                  </a:lnTo>
                  <a:lnTo>
                    <a:pt x="342" y="740"/>
                  </a:lnTo>
                  <a:lnTo>
                    <a:pt x="346" y="740"/>
                  </a:lnTo>
                  <a:lnTo>
                    <a:pt x="346" y="734"/>
                  </a:lnTo>
                  <a:lnTo>
                    <a:pt x="351" y="734"/>
                  </a:lnTo>
                  <a:lnTo>
                    <a:pt x="351" y="723"/>
                  </a:lnTo>
                  <a:lnTo>
                    <a:pt x="356" y="723"/>
                  </a:lnTo>
                  <a:lnTo>
                    <a:pt x="356" y="710"/>
                  </a:lnTo>
                  <a:lnTo>
                    <a:pt x="360" y="710"/>
                  </a:lnTo>
                  <a:lnTo>
                    <a:pt x="360" y="699"/>
                  </a:lnTo>
                  <a:lnTo>
                    <a:pt x="365" y="699"/>
                  </a:lnTo>
                  <a:lnTo>
                    <a:pt x="365" y="675"/>
                  </a:lnTo>
                  <a:lnTo>
                    <a:pt x="369" y="675"/>
                  </a:lnTo>
                  <a:lnTo>
                    <a:pt x="369" y="663"/>
                  </a:lnTo>
                  <a:lnTo>
                    <a:pt x="375" y="663"/>
                  </a:lnTo>
                  <a:lnTo>
                    <a:pt x="375" y="639"/>
                  </a:lnTo>
                  <a:lnTo>
                    <a:pt x="379" y="639"/>
                  </a:lnTo>
                  <a:lnTo>
                    <a:pt x="379" y="626"/>
                  </a:lnTo>
                  <a:lnTo>
                    <a:pt x="384" y="626"/>
                  </a:lnTo>
                  <a:lnTo>
                    <a:pt x="384" y="617"/>
                  </a:lnTo>
                  <a:lnTo>
                    <a:pt x="389" y="617"/>
                  </a:lnTo>
                  <a:lnTo>
                    <a:pt x="389" y="604"/>
                  </a:lnTo>
                  <a:lnTo>
                    <a:pt x="394" y="604"/>
                  </a:lnTo>
                  <a:lnTo>
                    <a:pt x="394" y="592"/>
                  </a:lnTo>
                  <a:lnTo>
                    <a:pt x="399" y="592"/>
                  </a:lnTo>
                  <a:lnTo>
                    <a:pt x="399" y="580"/>
                  </a:lnTo>
                  <a:lnTo>
                    <a:pt x="404" y="580"/>
                  </a:lnTo>
                  <a:lnTo>
                    <a:pt x="404" y="568"/>
                  </a:lnTo>
                  <a:lnTo>
                    <a:pt x="409" y="568"/>
                  </a:lnTo>
                  <a:lnTo>
                    <a:pt x="409" y="550"/>
                  </a:lnTo>
                  <a:lnTo>
                    <a:pt x="413" y="550"/>
                  </a:lnTo>
                  <a:lnTo>
                    <a:pt x="413" y="527"/>
                  </a:lnTo>
                  <a:lnTo>
                    <a:pt x="418" y="527"/>
                  </a:lnTo>
                  <a:lnTo>
                    <a:pt x="418" y="515"/>
                  </a:lnTo>
                  <a:lnTo>
                    <a:pt x="423" y="515"/>
                  </a:lnTo>
                  <a:lnTo>
                    <a:pt x="423" y="485"/>
                  </a:lnTo>
                  <a:lnTo>
                    <a:pt x="428" y="485"/>
                  </a:lnTo>
                  <a:lnTo>
                    <a:pt x="428" y="468"/>
                  </a:lnTo>
                  <a:lnTo>
                    <a:pt x="432" y="468"/>
                  </a:lnTo>
                  <a:lnTo>
                    <a:pt x="432" y="451"/>
                  </a:lnTo>
                  <a:lnTo>
                    <a:pt x="437" y="451"/>
                  </a:lnTo>
                  <a:lnTo>
                    <a:pt x="437" y="397"/>
                  </a:lnTo>
                  <a:lnTo>
                    <a:pt x="442" y="397"/>
                  </a:lnTo>
                  <a:lnTo>
                    <a:pt x="442" y="391"/>
                  </a:lnTo>
                  <a:lnTo>
                    <a:pt x="446" y="391"/>
                  </a:lnTo>
                  <a:lnTo>
                    <a:pt x="446" y="379"/>
                  </a:lnTo>
                  <a:lnTo>
                    <a:pt x="451" y="379"/>
                  </a:lnTo>
                  <a:lnTo>
                    <a:pt x="451" y="373"/>
                  </a:lnTo>
                  <a:lnTo>
                    <a:pt x="480" y="373"/>
                  </a:lnTo>
                  <a:lnTo>
                    <a:pt x="480" y="379"/>
                  </a:lnTo>
                  <a:lnTo>
                    <a:pt x="486" y="379"/>
                  </a:lnTo>
                  <a:lnTo>
                    <a:pt x="486" y="391"/>
                  </a:lnTo>
                  <a:lnTo>
                    <a:pt x="490" y="391"/>
                  </a:lnTo>
                  <a:lnTo>
                    <a:pt x="490" y="403"/>
                  </a:lnTo>
                  <a:lnTo>
                    <a:pt x="495" y="403"/>
                  </a:lnTo>
                  <a:lnTo>
                    <a:pt x="495" y="421"/>
                  </a:lnTo>
                  <a:lnTo>
                    <a:pt x="490" y="421"/>
                  </a:lnTo>
                  <a:lnTo>
                    <a:pt x="490" y="439"/>
                  </a:lnTo>
                  <a:lnTo>
                    <a:pt x="486" y="439"/>
                  </a:lnTo>
                  <a:lnTo>
                    <a:pt x="486" y="468"/>
                  </a:lnTo>
                  <a:lnTo>
                    <a:pt x="480" y="468"/>
                  </a:lnTo>
                  <a:lnTo>
                    <a:pt x="480" y="492"/>
                  </a:lnTo>
                  <a:lnTo>
                    <a:pt x="476" y="492"/>
                  </a:lnTo>
                  <a:lnTo>
                    <a:pt x="476" y="509"/>
                  </a:lnTo>
                  <a:lnTo>
                    <a:pt x="472" y="509"/>
                  </a:lnTo>
                  <a:lnTo>
                    <a:pt x="472" y="539"/>
                  </a:lnTo>
                  <a:lnTo>
                    <a:pt x="465" y="539"/>
                  </a:lnTo>
                  <a:lnTo>
                    <a:pt x="465" y="563"/>
                  </a:lnTo>
                  <a:lnTo>
                    <a:pt x="461" y="563"/>
                  </a:lnTo>
                  <a:lnTo>
                    <a:pt x="461" y="574"/>
                  </a:lnTo>
                  <a:lnTo>
                    <a:pt x="456" y="574"/>
                  </a:lnTo>
                  <a:lnTo>
                    <a:pt x="456" y="592"/>
                  </a:lnTo>
                  <a:lnTo>
                    <a:pt x="451" y="592"/>
                  </a:lnTo>
                  <a:lnTo>
                    <a:pt x="451" y="609"/>
                  </a:lnTo>
                  <a:lnTo>
                    <a:pt x="446" y="609"/>
                  </a:lnTo>
                  <a:lnTo>
                    <a:pt x="446" y="617"/>
                  </a:lnTo>
                  <a:lnTo>
                    <a:pt x="442" y="617"/>
                  </a:lnTo>
                  <a:lnTo>
                    <a:pt x="442" y="639"/>
                  </a:lnTo>
                  <a:lnTo>
                    <a:pt x="437" y="639"/>
                  </a:lnTo>
                  <a:lnTo>
                    <a:pt x="437" y="650"/>
                  </a:lnTo>
                  <a:lnTo>
                    <a:pt x="432" y="650"/>
                  </a:lnTo>
                  <a:lnTo>
                    <a:pt x="432" y="669"/>
                  </a:lnTo>
                  <a:lnTo>
                    <a:pt x="428" y="669"/>
                  </a:lnTo>
                  <a:lnTo>
                    <a:pt x="428" y="686"/>
                  </a:lnTo>
                  <a:lnTo>
                    <a:pt x="423" y="686"/>
                  </a:lnTo>
                  <a:lnTo>
                    <a:pt x="423" y="704"/>
                  </a:lnTo>
                  <a:lnTo>
                    <a:pt x="418" y="704"/>
                  </a:lnTo>
                  <a:lnTo>
                    <a:pt x="418" y="723"/>
                  </a:lnTo>
                  <a:lnTo>
                    <a:pt x="413" y="723"/>
                  </a:lnTo>
                  <a:lnTo>
                    <a:pt x="413" y="734"/>
                  </a:lnTo>
                  <a:lnTo>
                    <a:pt x="409" y="734"/>
                  </a:lnTo>
                  <a:lnTo>
                    <a:pt x="409" y="745"/>
                  </a:lnTo>
                  <a:lnTo>
                    <a:pt x="404" y="745"/>
                  </a:lnTo>
                  <a:lnTo>
                    <a:pt x="404" y="758"/>
                  </a:lnTo>
                  <a:lnTo>
                    <a:pt x="399" y="758"/>
                  </a:lnTo>
                  <a:lnTo>
                    <a:pt x="399" y="769"/>
                  </a:lnTo>
                  <a:lnTo>
                    <a:pt x="394" y="769"/>
                  </a:lnTo>
                  <a:lnTo>
                    <a:pt x="394" y="781"/>
                  </a:lnTo>
                  <a:lnTo>
                    <a:pt x="389" y="781"/>
                  </a:lnTo>
                  <a:lnTo>
                    <a:pt x="389" y="794"/>
                  </a:lnTo>
                  <a:lnTo>
                    <a:pt x="384" y="794"/>
                  </a:lnTo>
                  <a:lnTo>
                    <a:pt x="384" y="799"/>
                  </a:lnTo>
                  <a:lnTo>
                    <a:pt x="379" y="799"/>
                  </a:lnTo>
                  <a:lnTo>
                    <a:pt x="379" y="805"/>
                  </a:lnTo>
                  <a:lnTo>
                    <a:pt x="375" y="805"/>
                  </a:lnTo>
                  <a:lnTo>
                    <a:pt x="375" y="817"/>
                  </a:lnTo>
                  <a:lnTo>
                    <a:pt x="369" y="817"/>
                  </a:lnTo>
                  <a:lnTo>
                    <a:pt x="369" y="827"/>
                  </a:lnTo>
                  <a:lnTo>
                    <a:pt x="365" y="827"/>
                  </a:lnTo>
                  <a:lnTo>
                    <a:pt x="365" y="840"/>
                  </a:lnTo>
                  <a:lnTo>
                    <a:pt x="360" y="840"/>
                  </a:lnTo>
                  <a:lnTo>
                    <a:pt x="360" y="846"/>
                  </a:lnTo>
                  <a:lnTo>
                    <a:pt x="356" y="846"/>
                  </a:lnTo>
                  <a:lnTo>
                    <a:pt x="356" y="859"/>
                  </a:lnTo>
                  <a:lnTo>
                    <a:pt x="351" y="859"/>
                  </a:lnTo>
                  <a:lnTo>
                    <a:pt x="351" y="864"/>
                  </a:lnTo>
                  <a:lnTo>
                    <a:pt x="346" y="864"/>
                  </a:lnTo>
                  <a:lnTo>
                    <a:pt x="346" y="881"/>
                  </a:lnTo>
                  <a:lnTo>
                    <a:pt x="342" y="881"/>
                  </a:lnTo>
                  <a:lnTo>
                    <a:pt x="342" y="894"/>
                  </a:lnTo>
                  <a:lnTo>
                    <a:pt x="336" y="894"/>
                  </a:lnTo>
                  <a:lnTo>
                    <a:pt x="336" y="900"/>
                  </a:lnTo>
                  <a:lnTo>
                    <a:pt x="332" y="900"/>
                  </a:lnTo>
                  <a:lnTo>
                    <a:pt x="332" y="905"/>
                  </a:lnTo>
                  <a:lnTo>
                    <a:pt x="327" y="905"/>
                  </a:lnTo>
                  <a:lnTo>
                    <a:pt x="327" y="923"/>
                  </a:lnTo>
                  <a:lnTo>
                    <a:pt x="321" y="923"/>
                  </a:lnTo>
                  <a:lnTo>
                    <a:pt x="321" y="930"/>
                  </a:lnTo>
                  <a:lnTo>
                    <a:pt x="316" y="930"/>
                  </a:lnTo>
                  <a:lnTo>
                    <a:pt x="316" y="941"/>
                  </a:lnTo>
                  <a:lnTo>
                    <a:pt x="312" y="941"/>
                  </a:lnTo>
                  <a:lnTo>
                    <a:pt x="312" y="953"/>
                  </a:lnTo>
                  <a:lnTo>
                    <a:pt x="307" y="953"/>
                  </a:lnTo>
                  <a:lnTo>
                    <a:pt x="307" y="965"/>
                  </a:lnTo>
                  <a:lnTo>
                    <a:pt x="302" y="965"/>
                  </a:lnTo>
                  <a:lnTo>
                    <a:pt x="302" y="977"/>
                  </a:lnTo>
                  <a:lnTo>
                    <a:pt x="298" y="977"/>
                  </a:lnTo>
                  <a:lnTo>
                    <a:pt x="298" y="988"/>
                  </a:lnTo>
                  <a:lnTo>
                    <a:pt x="293" y="988"/>
                  </a:lnTo>
                  <a:lnTo>
                    <a:pt x="293" y="995"/>
                  </a:lnTo>
                  <a:lnTo>
                    <a:pt x="288" y="995"/>
                  </a:lnTo>
                  <a:lnTo>
                    <a:pt x="288" y="1006"/>
                  </a:lnTo>
                  <a:lnTo>
                    <a:pt x="283" y="1006"/>
                  </a:lnTo>
                  <a:lnTo>
                    <a:pt x="283" y="1012"/>
                  </a:lnTo>
                  <a:lnTo>
                    <a:pt x="279" y="1012"/>
                  </a:lnTo>
                  <a:lnTo>
                    <a:pt x="279" y="1023"/>
                  </a:lnTo>
                  <a:lnTo>
                    <a:pt x="273" y="1023"/>
                  </a:lnTo>
                  <a:lnTo>
                    <a:pt x="273" y="1036"/>
                  </a:lnTo>
                  <a:lnTo>
                    <a:pt x="269" y="1036"/>
                  </a:lnTo>
                  <a:lnTo>
                    <a:pt x="269" y="1041"/>
                  </a:lnTo>
                  <a:lnTo>
                    <a:pt x="265" y="1041"/>
                  </a:lnTo>
                  <a:lnTo>
                    <a:pt x="265" y="1047"/>
                  </a:lnTo>
                  <a:lnTo>
                    <a:pt x="260" y="1047"/>
                  </a:lnTo>
                  <a:lnTo>
                    <a:pt x="260" y="1053"/>
                  </a:lnTo>
                  <a:lnTo>
                    <a:pt x="255" y="1053"/>
                  </a:lnTo>
                  <a:lnTo>
                    <a:pt x="255" y="1064"/>
                  </a:lnTo>
                  <a:lnTo>
                    <a:pt x="249" y="1064"/>
                  </a:lnTo>
                  <a:lnTo>
                    <a:pt x="249" y="1071"/>
                  </a:lnTo>
                  <a:lnTo>
                    <a:pt x="245" y="1071"/>
                  </a:lnTo>
                  <a:lnTo>
                    <a:pt x="245" y="1082"/>
                  </a:lnTo>
                  <a:lnTo>
                    <a:pt x="240" y="1082"/>
                  </a:lnTo>
                  <a:lnTo>
                    <a:pt x="240" y="1094"/>
                  </a:lnTo>
                  <a:lnTo>
                    <a:pt x="235" y="1094"/>
                  </a:lnTo>
                  <a:lnTo>
                    <a:pt x="235" y="1099"/>
                  </a:lnTo>
                  <a:lnTo>
                    <a:pt x="231" y="1099"/>
                  </a:lnTo>
                  <a:lnTo>
                    <a:pt x="231" y="1112"/>
                  </a:lnTo>
                  <a:lnTo>
                    <a:pt x="225" y="1112"/>
                  </a:lnTo>
                  <a:lnTo>
                    <a:pt x="225" y="1123"/>
                  </a:lnTo>
                  <a:lnTo>
                    <a:pt x="221" y="1123"/>
                  </a:lnTo>
                  <a:lnTo>
                    <a:pt x="221" y="1131"/>
                  </a:lnTo>
                  <a:lnTo>
                    <a:pt x="217" y="1131"/>
                  </a:lnTo>
                  <a:lnTo>
                    <a:pt x="217" y="1136"/>
                  </a:lnTo>
                  <a:lnTo>
                    <a:pt x="212" y="1136"/>
                  </a:lnTo>
                  <a:lnTo>
                    <a:pt x="212" y="1142"/>
                  </a:lnTo>
                  <a:lnTo>
                    <a:pt x="207" y="1142"/>
                  </a:lnTo>
                  <a:lnTo>
                    <a:pt x="207" y="1148"/>
                  </a:lnTo>
                  <a:lnTo>
                    <a:pt x="202" y="1148"/>
                  </a:lnTo>
                  <a:lnTo>
                    <a:pt x="202" y="1153"/>
                  </a:lnTo>
                  <a:lnTo>
                    <a:pt x="198" y="1153"/>
                  </a:lnTo>
                  <a:lnTo>
                    <a:pt x="198" y="1166"/>
                  </a:lnTo>
                  <a:lnTo>
                    <a:pt x="192" y="1166"/>
                  </a:lnTo>
                  <a:lnTo>
                    <a:pt x="192" y="1172"/>
                  </a:lnTo>
                  <a:lnTo>
                    <a:pt x="188" y="1172"/>
                  </a:lnTo>
                  <a:lnTo>
                    <a:pt x="188" y="1177"/>
                  </a:lnTo>
                  <a:lnTo>
                    <a:pt x="183" y="1177"/>
                  </a:lnTo>
                  <a:lnTo>
                    <a:pt x="183" y="1183"/>
                  </a:lnTo>
                  <a:lnTo>
                    <a:pt x="177" y="1183"/>
                  </a:lnTo>
                  <a:lnTo>
                    <a:pt x="177" y="1189"/>
                  </a:lnTo>
                  <a:lnTo>
                    <a:pt x="173" y="1189"/>
                  </a:lnTo>
                  <a:lnTo>
                    <a:pt x="173" y="1194"/>
                  </a:lnTo>
                  <a:lnTo>
                    <a:pt x="168" y="1194"/>
                  </a:lnTo>
                  <a:lnTo>
                    <a:pt x="168" y="1207"/>
                  </a:lnTo>
                  <a:lnTo>
                    <a:pt x="163" y="1207"/>
                  </a:lnTo>
                  <a:lnTo>
                    <a:pt x="163" y="1213"/>
                  </a:lnTo>
                  <a:lnTo>
                    <a:pt x="158" y="1213"/>
                  </a:lnTo>
                  <a:lnTo>
                    <a:pt x="158" y="1218"/>
                  </a:lnTo>
                  <a:lnTo>
                    <a:pt x="154" y="1218"/>
                  </a:lnTo>
                  <a:lnTo>
                    <a:pt x="154" y="1224"/>
                  </a:lnTo>
                  <a:lnTo>
                    <a:pt x="149" y="1224"/>
                  </a:lnTo>
                  <a:lnTo>
                    <a:pt x="149" y="1230"/>
                  </a:lnTo>
                  <a:lnTo>
                    <a:pt x="144" y="1230"/>
                  </a:lnTo>
                  <a:lnTo>
                    <a:pt x="144" y="1237"/>
                  </a:lnTo>
                  <a:lnTo>
                    <a:pt x="139" y="1237"/>
                  </a:lnTo>
                  <a:lnTo>
                    <a:pt x="139" y="1242"/>
                  </a:lnTo>
                  <a:lnTo>
                    <a:pt x="135" y="1242"/>
                  </a:lnTo>
                  <a:lnTo>
                    <a:pt x="135" y="1248"/>
                  </a:lnTo>
                  <a:lnTo>
                    <a:pt x="130" y="1248"/>
                  </a:lnTo>
                  <a:lnTo>
                    <a:pt x="130" y="1254"/>
                  </a:lnTo>
                  <a:lnTo>
                    <a:pt x="125" y="1254"/>
                  </a:lnTo>
                  <a:lnTo>
                    <a:pt x="125" y="1259"/>
                  </a:lnTo>
                  <a:lnTo>
                    <a:pt x="121" y="1259"/>
                  </a:lnTo>
                  <a:lnTo>
                    <a:pt x="121" y="1267"/>
                  </a:lnTo>
                  <a:lnTo>
                    <a:pt x="116" y="1267"/>
                  </a:lnTo>
                  <a:lnTo>
                    <a:pt x="116" y="1272"/>
                  </a:lnTo>
                  <a:lnTo>
                    <a:pt x="111" y="1272"/>
                  </a:lnTo>
                  <a:lnTo>
                    <a:pt x="111" y="1278"/>
                  </a:lnTo>
                  <a:lnTo>
                    <a:pt x="105" y="1278"/>
                  </a:lnTo>
                  <a:lnTo>
                    <a:pt x="105" y="1284"/>
                  </a:lnTo>
                  <a:lnTo>
                    <a:pt x="101" y="1284"/>
                  </a:lnTo>
                  <a:lnTo>
                    <a:pt x="101" y="1290"/>
                  </a:lnTo>
                  <a:lnTo>
                    <a:pt x="95" y="1290"/>
                  </a:lnTo>
                  <a:lnTo>
                    <a:pt x="95" y="1295"/>
                  </a:lnTo>
                  <a:lnTo>
                    <a:pt x="91" y="1295"/>
                  </a:lnTo>
                  <a:lnTo>
                    <a:pt x="91" y="1300"/>
                  </a:lnTo>
                  <a:lnTo>
                    <a:pt x="87" y="1300"/>
                  </a:lnTo>
                  <a:lnTo>
                    <a:pt x="87" y="1308"/>
                  </a:lnTo>
                  <a:lnTo>
                    <a:pt x="81" y="1308"/>
                  </a:lnTo>
                  <a:lnTo>
                    <a:pt x="81" y="1313"/>
                  </a:lnTo>
                  <a:lnTo>
                    <a:pt x="72" y="1313"/>
                  </a:lnTo>
                  <a:lnTo>
                    <a:pt x="72" y="1337"/>
                  </a:lnTo>
                  <a:lnTo>
                    <a:pt x="77" y="1337"/>
                  </a:lnTo>
                  <a:lnTo>
                    <a:pt x="77" y="1343"/>
                  </a:lnTo>
                  <a:lnTo>
                    <a:pt x="87" y="1343"/>
                  </a:lnTo>
                  <a:lnTo>
                    <a:pt x="87" y="1349"/>
                  </a:lnTo>
                  <a:lnTo>
                    <a:pt x="95" y="1349"/>
                  </a:lnTo>
                  <a:lnTo>
                    <a:pt x="95" y="1354"/>
                  </a:lnTo>
                  <a:lnTo>
                    <a:pt x="101" y="1354"/>
                  </a:lnTo>
                  <a:lnTo>
                    <a:pt x="101" y="1373"/>
                  </a:lnTo>
                  <a:lnTo>
                    <a:pt x="105" y="1373"/>
                  </a:lnTo>
                  <a:lnTo>
                    <a:pt x="105" y="1378"/>
                  </a:lnTo>
                  <a:lnTo>
                    <a:pt x="111" y="1378"/>
                  </a:lnTo>
                  <a:lnTo>
                    <a:pt x="111" y="1385"/>
                  </a:lnTo>
                  <a:lnTo>
                    <a:pt x="116" y="1385"/>
                  </a:lnTo>
                  <a:lnTo>
                    <a:pt x="116" y="1390"/>
                  </a:lnTo>
                  <a:lnTo>
                    <a:pt x="121" y="1390"/>
                  </a:lnTo>
                  <a:lnTo>
                    <a:pt x="121" y="1396"/>
                  </a:lnTo>
                  <a:lnTo>
                    <a:pt x="125" y="1396"/>
                  </a:lnTo>
                  <a:lnTo>
                    <a:pt x="125" y="1408"/>
                  </a:lnTo>
                  <a:lnTo>
                    <a:pt x="130" y="1408"/>
                  </a:lnTo>
                  <a:lnTo>
                    <a:pt x="130" y="1414"/>
                  </a:lnTo>
                  <a:lnTo>
                    <a:pt x="135" y="1414"/>
                  </a:lnTo>
                  <a:lnTo>
                    <a:pt x="135" y="1419"/>
                  </a:lnTo>
                  <a:lnTo>
                    <a:pt x="139" y="1419"/>
                  </a:lnTo>
                  <a:lnTo>
                    <a:pt x="139" y="1426"/>
                  </a:lnTo>
                  <a:lnTo>
                    <a:pt x="144" y="1426"/>
                  </a:lnTo>
                  <a:lnTo>
                    <a:pt x="144" y="1436"/>
                  </a:lnTo>
                  <a:lnTo>
                    <a:pt x="149" y="1436"/>
                  </a:lnTo>
                  <a:lnTo>
                    <a:pt x="149" y="1444"/>
                  </a:lnTo>
                  <a:lnTo>
                    <a:pt x="154" y="1444"/>
                  </a:lnTo>
                  <a:lnTo>
                    <a:pt x="154" y="1455"/>
                  </a:lnTo>
                  <a:lnTo>
                    <a:pt x="158" y="1455"/>
                  </a:lnTo>
                  <a:lnTo>
                    <a:pt x="158" y="1461"/>
                  </a:lnTo>
                  <a:lnTo>
                    <a:pt x="163" y="1461"/>
                  </a:lnTo>
                  <a:lnTo>
                    <a:pt x="163" y="1466"/>
                  </a:lnTo>
                  <a:lnTo>
                    <a:pt x="173" y="1466"/>
                  </a:lnTo>
                  <a:lnTo>
                    <a:pt x="173" y="1473"/>
                  </a:lnTo>
                  <a:lnTo>
                    <a:pt x="192" y="1473"/>
                  </a:lnTo>
                  <a:lnTo>
                    <a:pt x="192" y="1478"/>
                  </a:lnTo>
                  <a:lnTo>
                    <a:pt x="212" y="1478"/>
                  </a:lnTo>
                  <a:lnTo>
                    <a:pt x="212" y="1485"/>
                  </a:lnTo>
                  <a:lnTo>
                    <a:pt x="225" y="1485"/>
                  </a:lnTo>
                  <a:lnTo>
                    <a:pt x="225" y="1490"/>
                  </a:lnTo>
                  <a:lnTo>
                    <a:pt x="235" y="1490"/>
                  </a:lnTo>
                  <a:lnTo>
                    <a:pt x="235" y="1496"/>
                  </a:lnTo>
                  <a:lnTo>
                    <a:pt x="249" y="1496"/>
                  </a:lnTo>
                  <a:lnTo>
                    <a:pt x="249" y="1502"/>
                  </a:lnTo>
                  <a:lnTo>
                    <a:pt x="288" y="1502"/>
                  </a:lnTo>
                  <a:lnTo>
                    <a:pt x="288" y="1496"/>
                  </a:lnTo>
                  <a:lnTo>
                    <a:pt x="307" y="1496"/>
                  </a:lnTo>
                  <a:lnTo>
                    <a:pt x="307" y="1490"/>
                  </a:lnTo>
                  <a:lnTo>
                    <a:pt x="327" y="1490"/>
                  </a:lnTo>
                  <a:lnTo>
                    <a:pt x="327" y="1485"/>
                  </a:lnTo>
                  <a:lnTo>
                    <a:pt x="365" y="1485"/>
                  </a:lnTo>
                  <a:lnTo>
                    <a:pt x="365" y="1478"/>
                  </a:lnTo>
                  <a:lnTo>
                    <a:pt x="379" y="1478"/>
                  </a:lnTo>
                  <a:lnTo>
                    <a:pt x="379" y="1473"/>
                  </a:lnTo>
                  <a:lnTo>
                    <a:pt x="389" y="1473"/>
                  </a:lnTo>
                  <a:lnTo>
                    <a:pt x="389" y="1466"/>
                  </a:lnTo>
                  <a:lnTo>
                    <a:pt x="409" y="1466"/>
                  </a:lnTo>
                  <a:lnTo>
                    <a:pt x="409" y="1461"/>
                  </a:lnTo>
                  <a:lnTo>
                    <a:pt x="413" y="1461"/>
                  </a:lnTo>
                  <a:lnTo>
                    <a:pt x="413" y="1455"/>
                  </a:lnTo>
                  <a:lnTo>
                    <a:pt x="418" y="1455"/>
                  </a:lnTo>
                  <a:lnTo>
                    <a:pt x="418" y="1449"/>
                  </a:lnTo>
                  <a:lnTo>
                    <a:pt x="423" y="1449"/>
                  </a:lnTo>
                  <a:lnTo>
                    <a:pt x="423" y="1444"/>
                  </a:lnTo>
                  <a:lnTo>
                    <a:pt x="432" y="1444"/>
                  </a:lnTo>
                  <a:lnTo>
                    <a:pt x="432" y="1436"/>
                  </a:lnTo>
                  <a:lnTo>
                    <a:pt x="437" y="1436"/>
                  </a:lnTo>
                  <a:lnTo>
                    <a:pt x="437" y="1431"/>
                  </a:lnTo>
                  <a:lnTo>
                    <a:pt x="442" y="1431"/>
                  </a:lnTo>
                  <a:lnTo>
                    <a:pt x="442" y="1426"/>
                  </a:lnTo>
                  <a:lnTo>
                    <a:pt x="446" y="1426"/>
                  </a:lnTo>
                  <a:lnTo>
                    <a:pt x="446" y="1419"/>
                  </a:lnTo>
                  <a:lnTo>
                    <a:pt x="451" y="1419"/>
                  </a:lnTo>
                  <a:lnTo>
                    <a:pt x="451" y="1414"/>
                  </a:lnTo>
                  <a:lnTo>
                    <a:pt x="456" y="1414"/>
                  </a:lnTo>
                  <a:lnTo>
                    <a:pt x="456" y="1408"/>
                  </a:lnTo>
                  <a:lnTo>
                    <a:pt x="461" y="1408"/>
                  </a:lnTo>
                  <a:lnTo>
                    <a:pt x="461" y="1403"/>
                  </a:lnTo>
                  <a:lnTo>
                    <a:pt x="465" y="1403"/>
                  </a:lnTo>
                  <a:lnTo>
                    <a:pt x="465" y="1396"/>
                  </a:lnTo>
                  <a:lnTo>
                    <a:pt x="472" y="1396"/>
                  </a:lnTo>
                  <a:lnTo>
                    <a:pt x="472" y="1390"/>
                  </a:lnTo>
                  <a:lnTo>
                    <a:pt x="476" y="1390"/>
                  </a:lnTo>
                  <a:lnTo>
                    <a:pt x="476" y="1378"/>
                  </a:lnTo>
                  <a:lnTo>
                    <a:pt x="480" y="1378"/>
                  </a:lnTo>
                  <a:lnTo>
                    <a:pt x="480" y="1373"/>
                  </a:lnTo>
                  <a:lnTo>
                    <a:pt x="486" y="1373"/>
                  </a:lnTo>
                  <a:lnTo>
                    <a:pt x="486" y="1366"/>
                  </a:lnTo>
                  <a:lnTo>
                    <a:pt x="490" y="1366"/>
                  </a:lnTo>
                  <a:lnTo>
                    <a:pt x="490" y="1354"/>
                  </a:lnTo>
                  <a:lnTo>
                    <a:pt x="495" y="1354"/>
                  </a:lnTo>
                  <a:lnTo>
                    <a:pt x="495" y="1349"/>
                  </a:lnTo>
                  <a:lnTo>
                    <a:pt x="500" y="1349"/>
                  </a:lnTo>
                  <a:lnTo>
                    <a:pt x="500" y="1337"/>
                  </a:lnTo>
                  <a:lnTo>
                    <a:pt x="505" y="1337"/>
                  </a:lnTo>
                  <a:lnTo>
                    <a:pt x="505" y="1332"/>
                  </a:lnTo>
                  <a:lnTo>
                    <a:pt x="509" y="1332"/>
                  </a:lnTo>
                  <a:lnTo>
                    <a:pt x="509" y="1319"/>
                  </a:lnTo>
                  <a:lnTo>
                    <a:pt x="514" y="1319"/>
                  </a:lnTo>
                  <a:lnTo>
                    <a:pt x="514" y="1308"/>
                  </a:lnTo>
                  <a:lnTo>
                    <a:pt x="519" y="1308"/>
                  </a:lnTo>
                  <a:lnTo>
                    <a:pt x="519" y="1300"/>
                  </a:lnTo>
                  <a:lnTo>
                    <a:pt x="523" y="1300"/>
                  </a:lnTo>
                  <a:lnTo>
                    <a:pt x="523" y="1290"/>
                  </a:lnTo>
                  <a:lnTo>
                    <a:pt x="528" y="1290"/>
                  </a:lnTo>
                  <a:lnTo>
                    <a:pt x="528" y="1284"/>
                  </a:lnTo>
                  <a:lnTo>
                    <a:pt x="533" y="1284"/>
                  </a:lnTo>
                  <a:lnTo>
                    <a:pt x="533" y="1272"/>
                  </a:lnTo>
                  <a:lnTo>
                    <a:pt x="538" y="1272"/>
                  </a:lnTo>
                  <a:lnTo>
                    <a:pt x="538" y="1267"/>
                  </a:lnTo>
                  <a:lnTo>
                    <a:pt x="543" y="1267"/>
                  </a:lnTo>
                  <a:lnTo>
                    <a:pt x="543" y="1254"/>
                  </a:lnTo>
                  <a:lnTo>
                    <a:pt x="548" y="1254"/>
                  </a:lnTo>
                  <a:lnTo>
                    <a:pt x="548" y="1248"/>
                  </a:lnTo>
                  <a:lnTo>
                    <a:pt x="553" y="1248"/>
                  </a:lnTo>
                  <a:lnTo>
                    <a:pt x="553" y="1237"/>
                  </a:lnTo>
                  <a:lnTo>
                    <a:pt x="558" y="1237"/>
                  </a:lnTo>
                  <a:lnTo>
                    <a:pt x="558" y="1224"/>
                  </a:lnTo>
                  <a:lnTo>
                    <a:pt x="562" y="1224"/>
                  </a:lnTo>
                  <a:lnTo>
                    <a:pt x="562" y="1213"/>
                  </a:lnTo>
                  <a:lnTo>
                    <a:pt x="567" y="1213"/>
                  </a:lnTo>
                  <a:lnTo>
                    <a:pt x="567" y="1207"/>
                  </a:lnTo>
                  <a:lnTo>
                    <a:pt x="572" y="1207"/>
                  </a:lnTo>
                  <a:lnTo>
                    <a:pt x="572" y="1189"/>
                  </a:lnTo>
                  <a:lnTo>
                    <a:pt x="576" y="1189"/>
                  </a:lnTo>
                  <a:lnTo>
                    <a:pt x="576" y="1172"/>
                  </a:lnTo>
                  <a:lnTo>
                    <a:pt x="582" y="1172"/>
                  </a:lnTo>
                  <a:lnTo>
                    <a:pt x="582" y="1159"/>
                  </a:lnTo>
                  <a:lnTo>
                    <a:pt x="586" y="1159"/>
                  </a:lnTo>
                  <a:lnTo>
                    <a:pt x="586" y="1148"/>
                  </a:lnTo>
                  <a:lnTo>
                    <a:pt x="590" y="1148"/>
                  </a:lnTo>
                  <a:lnTo>
                    <a:pt x="590" y="1142"/>
                  </a:lnTo>
                  <a:lnTo>
                    <a:pt x="595" y="1142"/>
                  </a:lnTo>
                  <a:lnTo>
                    <a:pt x="595" y="1131"/>
                  </a:lnTo>
                  <a:lnTo>
                    <a:pt x="600" y="1131"/>
                  </a:lnTo>
                  <a:lnTo>
                    <a:pt x="600" y="1112"/>
                  </a:lnTo>
                  <a:lnTo>
                    <a:pt x="605" y="1112"/>
                  </a:lnTo>
                  <a:lnTo>
                    <a:pt x="605" y="1099"/>
                  </a:lnTo>
                  <a:lnTo>
                    <a:pt x="609" y="1099"/>
                  </a:lnTo>
                  <a:lnTo>
                    <a:pt x="609" y="1082"/>
                  </a:lnTo>
                  <a:lnTo>
                    <a:pt x="615" y="1082"/>
                  </a:lnTo>
                  <a:lnTo>
                    <a:pt x="615" y="1071"/>
                  </a:lnTo>
                  <a:lnTo>
                    <a:pt x="620" y="1071"/>
                  </a:lnTo>
                  <a:lnTo>
                    <a:pt x="620" y="1058"/>
                  </a:lnTo>
                  <a:lnTo>
                    <a:pt x="624" y="1058"/>
                  </a:lnTo>
                  <a:lnTo>
                    <a:pt x="624" y="1036"/>
                  </a:lnTo>
                  <a:lnTo>
                    <a:pt x="630" y="1036"/>
                  </a:lnTo>
                  <a:lnTo>
                    <a:pt x="630" y="1030"/>
                  </a:lnTo>
                  <a:lnTo>
                    <a:pt x="634" y="1030"/>
                  </a:lnTo>
                  <a:lnTo>
                    <a:pt x="634" y="1006"/>
                  </a:lnTo>
                  <a:lnTo>
                    <a:pt x="639" y="1006"/>
                  </a:lnTo>
                  <a:lnTo>
                    <a:pt x="639" y="995"/>
                  </a:lnTo>
                  <a:lnTo>
                    <a:pt x="644" y="995"/>
                  </a:lnTo>
                  <a:lnTo>
                    <a:pt x="644" y="982"/>
                  </a:lnTo>
                  <a:lnTo>
                    <a:pt x="649" y="982"/>
                  </a:lnTo>
                  <a:lnTo>
                    <a:pt x="649" y="965"/>
                  </a:lnTo>
                  <a:lnTo>
                    <a:pt x="653" y="965"/>
                  </a:lnTo>
                  <a:lnTo>
                    <a:pt x="653" y="958"/>
                  </a:lnTo>
                  <a:lnTo>
                    <a:pt x="657" y="958"/>
                  </a:lnTo>
                  <a:lnTo>
                    <a:pt x="657" y="941"/>
                  </a:lnTo>
                  <a:lnTo>
                    <a:pt x="663" y="941"/>
                  </a:lnTo>
                  <a:lnTo>
                    <a:pt x="663" y="923"/>
                  </a:lnTo>
                  <a:lnTo>
                    <a:pt x="667" y="923"/>
                  </a:lnTo>
                  <a:lnTo>
                    <a:pt x="667" y="917"/>
                  </a:lnTo>
                  <a:lnTo>
                    <a:pt x="672" y="917"/>
                  </a:lnTo>
                  <a:lnTo>
                    <a:pt x="672" y="900"/>
                  </a:lnTo>
                  <a:lnTo>
                    <a:pt x="677" y="900"/>
                  </a:lnTo>
                  <a:lnTo>
                    <a:pt x="677" y="887"/>
                  </a:lnTo>
                  <a:lnTo>
                    <a:pt x="682" y="887"/>
                  </a:lnTo>
                  <a:lnTo>
                    <a:pt x="682" y="876"/>
                  </a:lnTo>
                  <a:lnTo>
                    <a:pt x="687" y="876"/>
                  </a:lnTo>
                  <a:lnTo>
                    <a:pt x="687" y="864"/>
                  </a:lnTo>
                  <a:lnTo>
                    <a:pt x="692" y="864"/>
                  </a:lnTo>
                  <a:lnTo>
                    <a:pt x="692" y="846"/>
                  </a:lnTo>
                  <a:lnTo>
                    <a:pt x="697" y="846"/>
                  </a:lnTo>
                  <a:lnTo>
                    <a:pt x="697" y="835"/>
                  </a:lnTo>
                  <a:lnTo>
                    <a:pt x="701" y="835"/>
                  </a:lnTo>
                  <a:lnTo>
                    <a:pt x="701" y="822"/>
                  </a:lnTo>
                  <a:lnTo>
                    <a:pt x="706" y="822"/>
                  </a:lnTo>
                  <a:lnTo>
                    <a:pt x="706" y="805"/>
                  </a:lnTo>
                  <a:lnTo>
                    <a:pt x="711" y="805"/>
                  </a:lnTo>
                  <a:lnTo>
                    <a:pt x="711" y="794"/>
                  </a:lnTo>
                  <a:lnTo>
                    <a:pt x="716" y="794"/>
                  </a:lnTo>
                  <a:lnTo>
                    <a:pt x="716" y="769"/>
                  </a:lnTo>
                  <a:lnTo>
                    <a:pt x="720" y="769"/>
                  </a:lnTo>
                  <a:lnTo>
                    <a:pt x="720" y="753"/>
                  </a:lnTo>
                  <a:lnTo>
                    <a:pt x="726" y="753"/>
                  </a:lnTo>
                  <a:lnTo>
                    <a:pt x="726" y="728"/>
                  </a:lnTo>
                  <a:lnTo>
                    <a:pt x="730" y="728"/>
                  </a:lnTo>
                  <a:lnTo>
                    <a:pt x="730" y="699"/>
                  </a:lnTo>
                  <a:lnTo>
                    <a:pt x="734" y="699"/>
                  </a:lnTo>
                  <a:lnTo>
                    <a:pt x="734" y="680"/>
                  </a:lnTo>
                  <a:lnTo>
                    <a:pt x="740" y="680"/>
                  </a:lnTo>
                  <a:lnTo>
                    <a:pt x="740" y="663"/>
                  </a:lnTo>
                  <a:lnTo>
                    <a:pt x="744" y="663"/>
                  </a:lnTo>
                  <a:lnTo>
                    <a:pt x="744" y="645"/>
                  </a:lnTo>
                  <a:lnTo>
                    <a:pt x="749" y="645"/>
                  </a:lnTo>
                  <a:lnTo>
                    <a:pt x="749" y="626"/>
                  </a:lnTo>
                  <a:lnTo>
                    <a:pt x="753" y="626"/>
                  </a:lnTo>
                  <a:lnTo>
                    <a:pt x="753" y="604"/>
                  </a:lnTo>
                  <a:lnTo>
                    <a:pt x="760" y="604"/>
                  </a:lnTo>
                  <a:lnTo>
                    <a:pt x="760" y="574"/>
                  </a:lnTo>
                  <a:lnTo>
                    <a:pt x="764" y="574"/>
                  </a:lnTo>
                  <a:lnTo>
                    <a:pt x="764" y="563"/>
                  </a:lnTo>
                  <a:lnTo>
                    <a:pt x="769" y="563"/>
                  </a:lnTo>
                  <a:lnTo>
                    <a:pt x="769" y="545"/>
                  </a:lnTo>
                  <a:lnTo>
                    <a:pt x="774" y="545"/>
                  </a:lnTo>
                  <a:lnTo>
                    <a:pt x="774" y="527"/>
                  </a:lnTo>
                  <a:lnTo>
                    <a:pt x="778" y="527"/>
                  </a:lnTo>
                  <a:lnTo>
                    <a:pt x="778" y="509"/>
                  </a:lnTo>
                  <a:lnTo>
                    <a:pt x="783" y="509"/>
                  </a:lnTo>
                  <a:lnTo>
                    <a:pt x="783" y="492"/>
                  </a:lnTo>
                  <a:lnTo>
                    <a:pt x="788" y="492"/>
                  </a:lnTo>
                  <a:lnTo>
                    <a:pt x="788" y="473"/>
                  </a:lnTo>
                  <a:lnTo>
                    <a:pt x="793" y="473"/>
                  </a:lnTo>
                  <a:lnTo>
                    <a:pt x="793" y="462"/>
                  </a:lnTo>
                  <a:lnTo>
                    <a:pt x="797" y="462"/>
                  </a:lnTo>
                  <a:lnTo>
                    <a:pt x="797" y="432"/>
                  </a:lnTo>
                  <a:lnTo>
                    <a:pt x="802" y="432"/>
                  </a:lnTo>
                  <a:lnTo>
                    <a:pt x="802" y="421"/>
                  </a:lnTo>
                  <a:lnTo>
                    <a:pt x="807" y="421"/>
                  </a:lnTo>
                  <a:lnTo>
                    <a:pt x="807" y="409"/>
                  </a:lnTo>
                  <a:lnTo>
                    <a:pt x="812" y="409"/>
                  </a:lnTo>
                  <a:lnTo>
                    <a:pt x="812" y="391"/>
                  </a:lnTo>
                  <a:lnTo>
                    <a:pt x="816" y="391"/>
                  </a:lnTo>
                  <a:lnTo>
                    <a:pt x="816" y="367"/>
                  </a:lnTo>
                  <a:lnTo>
                    <a:pt x="821" y="367"/>
                  </a:lnTo>
                  <a:lnTo>
                    <a:pt x="821" y="356"/>
                  </a:lnTo>
                  <a:lnTo>
                    <a:pt x="826" y="356"/>
                  </a:lnTo>
                  <a:lnTo>
                    <a:pt x="826" y="344"/>
                  </a:lnTo>
                  <a:lnTo>
                    <a:pt x="831" y="344"/>
                  </a:lnTo>
                  <a:lnTo>
                    <a:pt x="831" y="313"/>
                  </a:lnTo>
                  <a:lnTo>
                    <a:pt x="836" y="313"/>
                  </a:lnTo>
                  <a:lnTo>
                    <a:pt x="836" y="291"/>
                  </a:lnTo>
                  <a:lnTo>
                    <a:pt x="841" y="291"/>
                  </a:lnTo>
                  <a:lnTo>
                    <a:pt x="841" y="272"/>
                  </a:lnTo>
                  <a:lnTo>
                    <a:pt x="846" y="272"/>
                  </a:lnTo>
                  <a:lnTo>
                    <a:pt x="846" y="255"/>
                  </a:lnTo>
                  <a:lnTo>
                    <a:pt x="850" y="255"/>
                  </a:lnTo>
                  <a:lnTo>
                    <a:pt x="850" y="226"/>
                  </a:lnTo>
                  <a:lnTo>
                    <a:pt x="856" y="226"/>
                  </a:lnTo>
                  <a:lnTo>
                    <a:pt x="856" y="177"/>
                  </a:lnTo>
                  <a:lnTo>
                    <a:pt x="860" y="177"/>
                  </a:lnTo>
                  <a:lnTo>
                    <a:pt x="860" y="155"/>
                  </a:lnTo>
                  <a:lnTo>
                    <a:pt x="864" y="155"/>
                  </a:lnTo>
                  <a:lnTo>
                    <a:pt x="864" y="131"/>
                  </a:lnTo>
                  <a:lnTo>
                    <a:pt x="870" y="131"/>
                  </a:lnTo>
                  <a:lnTo>
                    <a:pt x="870" y="90"/>
                  </a:lnTo>
                  <a:lnTo>
                    <a:pt x="874" y="90"/>
                  </a:lnTo>
                  <a:lnTo>
                    <a:pt x="874" y="49"/>
                  </a:lnTo>
                  <a:lnTo>
                    <a:pt x="879" y="49"/>
                  </a:lnTo>
                  <a:lnTo>
                    <a:pt x="879" y="31"/>
                  </a:lnTo>
                  <a:lnTo>
                    <a:pt x="874" y="31"/>
                  </a:lnTo>
                  <a:lnTo>
                    <a:pt x="874" y="13"/>
                  </a:lnTo>
                  <a:lnTo>
                    <a:pt x="879" y="13"/>
                  </a:lnTo>
                  <a:lnTo>
                    <a:pt x="879" y="8"/>
                  </a:lnTo>
                  <a:lnTo>
                    <a:pt x="884" y="8"/>
                  </a:lnTo>
                  <a:lnTo>
                    <a:pt x="884" y="0"/>
                  </a:lnTo>
                  <a:lnTo>
                    <a:pt x="908" y="0"/>
                  </a:lnTo>
                  <a:lnTo>
                    <a:pt x="908" y="8"/>
                  </a:lnTo>
                  <a:lnTo>
                    <a:pt x="913" y="8"/>
                  </a:lnTo>
                  <a:lnTo>
                    <a:pt x="913" y="13"/>
                  </a:lnTo>
                  <a:lnTo>
                    <a:pt x="918" y="13"/>
                  </a:lnTo>
                  <a:lnTo>
                    <a:pt x="918" y="25"/>
                  </a:lnTo>
                  <a:lnTo>
                    <a:pt x="923" y="25"/>
                  </a:lnTo>
                  <a:lnTo>
                    <a:pt x="923" y="90"/>
                  </a:lnTo>
                  <a:lnTo>
                    <a:pt x="918" y="90"/>
                  </a:lnTo>
                  <a:lnTo>
                    <a:pt x="918" y="144"/>
                  </a:lnTo>
                  <a:lnTo>
                    <a:pt x="913" y="144"/>
                  </a:lnTo>
                  <a:lnTo>
                    <a:pt x="913" y="177"/>
                  </a:lnTo>
                  <a:lnTo>
                    <a:pt x="908" y="177"/>
                  </a:lnTo>
                  <a:lnTo>
                    <a:pt x="908" y="220"/>
                  </a:lnTo>
                  <a:lnTo>
                    <a:pt x="904" y="220"/>
                  </a:lnTo>
                  <a:lnTo>
                    <a:pt x="904" y="250"/>
                  </a:lnTo>
                  <a:lnTo>
                    <a:pt x="898" y="250"/>
                  </a:lnTo>
                  <a:lnTo>
                    <a:pt x="898" y="272"/>
                  </a:lnTo>
                  <a:lnTo>
                    <a:pt x="893" y="272"/>
                  </a:lnTo>
                  <a:lnTo>
                    <a:pt x="893" y="303"/>
                  </a:lnTo>
                  <a:lnTo>
                    <a:pt x="889" y="303"/>
                  </a:lnTo>
                  <a:lnTo>
                    <a:pt x="889" y="338"/>
                  </a:lnTo>
                  <a:lnTo>
                    <a:pt x="884" y="338"/>
                  </a:lnTo>
                  <a:lnTo>
                    <a:pt x="884" y="367"/>
                  </a:lnTo>
                  <a:lnTo>
                    <a:pt x="879" y="367"/>
                  </a:lnTo>
                  <a:lnTo>
                    <a:pt x="879" y="386"/>
                  </a:lnTo>
                  <a:lnTo>
                    <a:pt x="874" y="386"/>
                  </a:lnTo>
                  <a:lnTo>
                    <a:pt x="874" y="397"/>
                  </a:lnTo>
                  <a:lnTo>
                    <a:pt x="870" y="397"/>
                  </a:lnTo>
                  <a:lnTo>
                    <a:pt x="870" y="409"/>
                  </a:lnTo>
                  <a:lnTo>
                    <a:pt x="864" y="409"/>
                  </a:lnTo>
                  <a:lnTo>
                    <a:pt x="864" y="421"/>
                  </a:lnTo>
                  <a:lnTo>
                    <a:pt x="860" y="421"/>
                  </a:lnTo>
                  <a:lnTo>
                    <a:pt x="860" y="432"/>
                  </a:lnTo>
                  <a:lnTo>
                    <a:pt x="856" y="432"/>
                  </a:lnTo>
                  <a:lnTo>
                    <a:pt x="856" y="451"/>
                  </a:lnTo>
                  <a:lnTo>
                    <a:pt x="850" y="451"/>
                  </a:lnTo>
                  <a:lnTo>
                    <a:pt x="850" y="473"/>
                  </a:lnTo>
                  <a:lnTo>
                    <a:pt x="846" y="473"/>
                  </a:lnTo>
                  <a:lnTo>
                    <a:pt x="846" y="485"/>
                  </a:lnTo>
                  <a:lnTo>
                    <a:pt x="841" y="485"/>
                  </a:lnTo>
                  <a:lnTo>
                    <a:pt x="841" y="504"/>
                  </a:lnTo>
                  <a:lnTo>
                    <a:pt x="836" y="504"/>
                  </a:lnTo>
                  <a:lnTo>
                    <a:pt x="836" y="515"/>
                  </a:lnTo>
                  <a:lnTo>
                    <a:pt x="831" y="515"/>
                  </a:lnTo>
                  <a:lnTo>
                    <a:pt x="831" y="539"/>
                  </a:lnTo>
                  <a:lnTo>
                    <a:pt x="826" y="539"/>
                  </a:lnTo>
                  <a:lnTo>
                    <a:pt x="826" y="550"/>
                  </a:lnTo>
                  <a:lnTo>
                    <a:pt x="821" y="550"/>
                  </a:lnTo>
                  <a:lnTo>
                    <a:pt x="821" y="558"/>
                  </a:lnTo>
                  <a:lnTo>
                    <a:pt x="816" y="558"/>
                  </a:lnTo>
                  <a:lnTo>
                    <a:pt x="816" y="568"/>
                  </a:lnTo>
                  <a:lnTo>
                    <a:pt x="812" y="568"/>
                  </a:lnTo>
                  <a:lnTo>
                    <a:pt x="812" y="585"/>
                  </a:lnTo>
                  <a:lnTo>
                    <a:pt x="807" y="585"/>
                  </a:lnTo>
                  <a:lnTo>
                    <a:pt x="807" y="617"/>
                  </a:lnTo>
                  <a:lnTo>
                    <a:pt x="802" y="617"/>
                  </a:lnTo>
                  <a:lnTo>
                    <a:pt x="802" y="645"/>
                  </a:lnTo>
                  <a:lnTo>
                    <a:pt x="797" y="645"/>
                  </a:lnTo>
                  <a:lnTo>
                    <a:pt x="797" y="663"/>
                  </a:lnTo>
                  <a:lnTo>
                    <a:pt x="793" y="663"/>
                  </a:lnTo>
                  <a:lnTo>
                    <a:pt x="793" y="675"/>
                  </a:lnTo>
                  <a:lnTo>
                    <a:pt x="788" y="675"/>
                  </a:lnTo>
                  <a:lnTo>
                    <a:pt x="788" y="704"/>
                  </a:lnTo>
                  <a:lnTo>
                    <a:pt x="783" y="704"/>
                  </a:lnTo>
                  <a:lnTo>
                    <a:pt x="783" y="723"/>
                  </a:lnTo>
                  <a:lnTo>
                    <a:pt x="778" y="723"/>
                  </a:lnTo>
                  <a:lnTo>
                    <a:pt x="778" y="740"/>
                  </a:lnTo>
                  <a:lnTo>
                    <a:pt x="774" y="740"/>
                  </a:lnTo>
                  <a:lnTo>
                    <a:pt x="774" y="758"/>
                  </a:lnTo>
                  <a:lnTo>
                    <a:pt x="769" y="758"/>
                  </a:lnTo>
                  <a:lnTo>
                    <a:pt x="769" y="776"/>
                  </a:lnTo>
                  <a:lnTo>
                    <a:pt x="764" y="776"/>
                  </a:lnTo>
                  <a:lnTo>
                    <a:pt x="764" y="799"/>
                  </a:lnTo>
                  <a:lnTo>
                    <a:pt x="760" y="799"/>
                  </a:lnTo>
                  <a:lnTo>
                    <a:pt x="760" y="817"/>
                  </a:lnTo>
                  <a:lnTo>
                    <a:pt x="753" y="817"/>
                  </a:lnTo>
                  <a:lnTo>
                    <a:pt x="753" y="827"/>
                  </a:lnTo>
                  <a:lnTo>
                    <a:pt x="749" y="827"/>
                  </a:lnTo>
                  <a:lnTo>
                    <a:pt x="749" y="846"/>
                  </a:lnTo>
                  <a:lnTo>
                    <a:pt x="744" y="846"/>
                  </a:lnTo>
                  <a:lnTo>
                    <a:pt x="744" y="859"/>
                  </a:lnTo>
                  <a:lnTo>
                    <a:pt x="740" y="859"/>
                  </a:lnTo>
                  <a:lnTo>
                    <a:pt x="740" y="876"/>
                  </a:lnTo>
                  <a:lnTo>
                    <a:pt x="734" y="876"/>
                  </a:lnTo>
                  <a:lnTo>
                    <a:pt x="734" y="887"/>
                  </a:lnTo>
                  <a:lnTo>
                    <a:pt x="730" y="887"/>
                  </a:lnTo>
                  <a:lnTo>
                    <a:pt x="730" y="912"/>
                  </a:lnTo>
                  <a:lnTo>
                    <a:pt x="726" y="912"/>
                  </a:lnTo>
                  <a:lnTo>
                    <a:pt x="726" y="930"/>
                  </a:lnTo>
                  <a:lnTo>
                    <a:pt x="720" y="930"/>
                  </a:lnTo>
                  <a:lnTo>
                    <a:pt x="720" y="935"/>
                  </a:lnTo>
                  <a:lnTo>
                    <a:pt x="716" y="935"/>
                  </a:lnTo>
                  <a:lnTo>
                    <a:pt x="716" y="946"/>
                  </a:lnTo>
                  <a:lnTo>
                    <a:pt x="711" y="946"/>
                  </a:lnTo>
                  <a:lnTo>
                    <a:pt x="711" y="958"/>
                  </a:lnTo>
                  <a:lnTo>
                    <a:pt x="706" y="958"/>
                  </a:lnTo>
                  <a:lnTo>
                    <a:pt x="706" y="982"/>
                  </a:lnTo>
                  <a:lnTo>
                    <a:pt x="701" y="982"/>
                  </a:lnTo>
                  <a:lnTo>
                    <a:pt x="701" y="1006"/>
                  </a:lnTo>
                  <a:lnTo>
                    <a:pt x="697" y="1006"/>
                  </a:lnTo>
                  <a:lnTo>
                    <a:pt x="697" y="1017"/>
                  </a:lnTo>
                  <a:lnTo>
                    <a:pt x="692" y="1017"/>
                  </a:lnTo>
                  <a:lnTo>
                    <a:pt x="692" y="1041"/>
                  </a:lnTo>
                  <a:lnTo>
                    <a:pt x="687" y="1041"/>
                  </a:lnTo>
                  <a:lnTo>
                    <a:pt x="687" y="1047"/>
                  </a:lnTo>
                  <a:lnTo>
                    <a:pt x="682" y="1047"/>
                  </a:lnTo>
                  <a:lnTo>
                    <a:pt x="682" y="1058"/>
                  </a:lnTo>
                  <a:lnTo>
                    <a:pt x="677" y="1058"/>
                  </a:lnTo>
                  <a:lnTo>
                    <a:pt x="677" y="1077"/>
                  </a:lnTo>
                  <a:lnTo>
                    <a:pt x="672" y="1077"/>
                  </a:lnTo>
                  <a:lnTo>
                    <a:pt x="672" y="1082"/>
                  </a:lnTo>
                  <a:lnTo>
                    <a:pt x="667" y="1082"/>
                  </a:lnTo>
                  <a:lnTo>
                    <a:pt x="667" y="1107"/>
                  </a:lnTo>
                  <a:lnTo>
                    <a:pt x="663" y="1107"/>
                  </a:lnTo>
                  <a:lnTo>
                    <a:pt x="663" y="1118"/>
                  </a:lnTo>
                  <a:lnTo>
                    <a:pt x="657" y="1118"/>
                  </a:lnTo>
                  <a:lnTo>
                    <a:pt x="657" y="1123"/>
                  </a:lnTo>
                  <a:lnTo>
                    <a:pt x="653" y="1123"/>
                  </a:lnTo>
                  <a:lnTo>
                    <a:pt x="653" y="1142"/>
                  </a:lnTo>
                  <a:lnTo>
                    <a:pt x="649" y="1142"/>
                  </a:lnTo>
                  <a:lnTo>
                    <a:pt x="649" y="1148"/>
                  </a:lnTo>
                  <a:lnTo>
                    <a:pt x="644" y="1148"/>
                  </a:lnTo>
                  <a:lnTo>
                    <a:pt x="644" y="1153"/>
                  </a:lnTo>
                  <a:lnTo>
                    <a:pt x="639" y="1153"/>
                  </a:lnTo>
                  <a:lnTo>
                    <a:pt x="639" y="1166"/>
                  </a:lnTo>
                  <a:lnTo>
                    <a:pt x="634" y="1166"/>
                  </a:lnTo>
                  <a:lnTo>
                    <a:pt x="634" y="1177"/>
                  </a:lnTo>
                  <a:lnTo>
                    <a:pt x="630" y="1177"/>
                  </a:lnTo>
                  <a:lnTo>
                    <a:pt x="630" y="1189"/>
                  </a:lnTo>
                  <a:lnTo>
                    <a:pt x="624" y="1189"/>
                  </a:lnTo>
                  <a:lnTo>
                    <a:pt x="624" y="1207"/>
                  </a:lnTo>
                  <a:lnTo>
                    <a:pt x="620" y="1207"/>
                  </a:lnTo>
                  <a:lnTo>
                    <a:pt x="620" y="1213"/>
                  </a:lnTo>
                  <a:lnTo>
                    <a:pt x="615" y="1213"/>
                  </a:lnTo>
                  <a:lnTo>
                    <a:pt x="615" y="1224"/>
                  </a:lnTo>
                  <a:lnTo>
                    <a:pt x="609" y="1224"/>
                  </a:lnTo>
                  <a:lnTo>
                    <a:pt x="609" y="1248"/>
                  </a:lnTo>
                  <a:lnTo>
                    <a:pt x="605" y="1248"/>
                  </a:lnTo>
                  <a:lnTo>
                    <a:pt x="605" y="1259"/>
                  </a:lnTo>
                  <a:lnTo>
                    <a:pt x="600" y="1259"/>
                  </a:lnTo>
                  <a:lnTo>
                    <a:pt x="600" y="1267"/>
                  </a:lnTo>
                  <a:lnTo>
                    <a:pt x="595" y="1267"/>
                  </a:lnTo>
                  <a:lnTo>
                    <a:pt x="595" y="1272"/>
                  </a:lnTo>
                  <a:lnTo>
                    <a:pt x="590" y="1272"/>
                  </a:lnTo>
                  <a:lnTo>
                    <a:pt x="590" y="1278"/>
                  </a:lnTo>
                  <a:lnTo>
                    <a:pt x="586" y="1278"/>
                  </a:lnTo>
                  <a:lnTo>
                    <a:pt x="586" y="1290"/>
                  </a:lnTo>
                  <a:lnTo>
                    <a:pt x="582" y="1290"/>
                  </a:lnTo>
                  <a:lnTo>
                    <a:pt x="582" y="1313"/>
                  </a:lnTo>
                  <a:lnTo>
                    <a:pt x="576" y="1313"/>
                  </a:lnTo>
                  <a:lnTo>
                    <a:pt x="576" y="1319"/>
                  </a:lnTo>
                  <a:lnTo>
                    <a:pt x="572" y="1319"/>
                  </a:lnTo>
                  <a:lnTo>
                    <a:pt x="572" y="1337"/>
                  </a:lnTo>
                  <a:lnTo>
                    <a:pt x="567" y="1337"/>
                  </a:lnTo>
                  <a:lnTo>
                    <a:pt x="567" y="1349"/>
                  </a:lnTo>
                  <a:lnTo>
                    <a:pt x="562" y="1349"/>
                  </a:lnTo>
                  <a:lnTo>
                    <a:pt x="562" y="1360"/>
                  </a:lnTo>
                  <a:lnTo>
                    <a:pt x="558" y="1360"/>
                  </a:lnTo>
                  <a:lnTo>
                    <a:pt x="558" y="1373"/>
                  </a:lnTo>
                  <a:lnTo>
                    <a:pt x="553" y="1373"/>
                  </a:lnTo>
                  <a:lnTo>
                    <a:pt x="553" y="1378"/>
                  </a:lnTo>
                  <a:lnTo>
                    <a:pt x="548" y="1378"/>
                  </a:lnTo>
                  <a:lnTo>
                    <a:pt x="548" y="1385"/>
                  </a:lnTo>
                  <a:lnTo>
                    <a:pt x="543" y="1385"/>
                  </a:lnTo>
                  <a:lnTo>
                    <a:pt x="543" y="1390"/>
                  </a:lnTo>
                  <a:lnTo>
                    <a:pt x="538" y="1390"/>
                  </a:lnTo>
                  <a:lnTo>
                    <a:pt x="538" y="1396"/>
                  </a:lnTo>
                  <a:lnTo>
                    <a:pt x="533" y="1396"/>
                  </a:lnTo>
                  <a:lnTo>
                    <a:pt x="533" y="1403"/>
                  </a:lnTo>
                  <a:lnTo>
                    <a:pt x="528" y="1403"/>
                  </a:lnTo>
                  <a:lnTo>
                    <a:pt x="528" y="1414"/>
                  </a:lnTo>
                  <a:lnTo>
                    <a:pt x="523" y="1414"/>
                  </a:lnTo>
                  <a:lnTo>
                    <a:pt x="523" y="1419"/>
                  </a:lnTo>
                  <a:lnTo>
                    <a:pt x="519" y="1419"/>
                  </a:lnTo>
                  <a:lnTo>
                    <a:pt x="519" y="1426"/>
                  </a:lnTo>
                  <a:lnTo>
                    <a:pt x="509" y="1426"/>
                  </a:lnTo>
                  <a:lnTo>
                    <a:pt x="509" y="1431"/>
                  </a:lnTo>
                  <a:lnTo>
                    <a:pt x="505" y="1431"/>
                  </a:lnTo>
                  <a:lnTo>
                    <a:pt x="505" y="1436"/>
                  </a:lnTo>
                  <a:lnTo>
                    <a:pt x="500" y="1436"/>
                  </a:lnTo>
                  <a:lnTo>
                    <a:pt x="500" y="1449"/>
                  </a:lnTo>
                  <a:lnTo>
                    <a:pt x="495" y="1449"/>
                  </a:lnTo>
                  <a:lnTo>
                    <a:pt x="495" y="1461"/>
                  </a:lnTo>
                  <a:lnTo>
                    <a:pt x="486" y="1461"/>
                  </a:lnTo>
                  <a:lnTo>
                    <a:pt x="486" y="1466"/>
                  </a:lnTo>
                  <a:lnTo>
                    <a:pt x="480" y="1466"/>
                  </a:lnTo>
                  <a:lnTo>
                    <a:pt x="480" y="1473"/>
                  </a:lnTo>
                  <a:lnTo>
                    <a:pt x="476" y="1473"/>
                  </a:lnTo>
                  <a:lnTo>
                    <a:pt x="476" y="1478"/>
                  </a:lnTo>
                  <a:lnTo>
                    <a:pt x="472" y="1478"/>
                  </a:lnTo>
                  <a:lnTo>
                    <a:pt x="472" y="1485"/>
                  </a:lnTo>
                  <a:lnTo>
                    <a:pt x="465" y="1485"/>
                  </a:lnTo>
                  <a:lnTo>
                    <a:pt x="465" y="1490"/>
                  </a:lnTo>
                  <a:lnTo>
                    <a:pt x="461" y="1490"/>
                  </a:lnTo>
                  <a:lnTo>
                    <a:pt x="461" y="1496"/>
                  </a:lnTo>
                  <a:lnTo>
                    <a:pt x="456" y="1496"/>
                  </a:lnTo>
                  <a:lnTo>
                    <a:pt x="456" y="1502"/>
                  </a:lnTo>
                  <a:lnTo>
                    <a:pt x="446" y="1502"/>
                  </a:lnTo>
                  <a:lnTo>
                    <a:pt x="446" y="1509"/>
                  </a:lnTo>
                  <a:lnTo>
                    <a:pt x="437" y="1509"/>
                  </a:lnTo>
                  <a:lnTo>
                    <a:pt x="437" y="1520"/>
                  </a:lnTo>
                  <a:lnTo>
                    <a:pt x="423" y="1520"/>
                  </a:lnTo>
                  <a:lnTo>
                    <a:pt x="423" y="1526"/>
                  </a:lnTo>
                  <a:lnTo>
                    <a:pt x="413" y="1526"/>
                  </a:lnTo>
                  <a:lnTo>
                    <a:pt x="413" y="1531"/>
                  </a:lnTo>
                  <a:lnTo>
                    <a:pt x="394" y="1531"/>
                  </a:lnTo>
                  <a:lnTo>
                    <a:pt x="394" y="1537"/>
                  </a:lnTo>
                  <a:lnTo>
                    <a:pt x="379" y="1537"/>
                  </a:lnTo>
                  <a:lnTo>
                    <a:pt x="379" y="1544"/>
                  </a:lnTo>
                  <a:lnTo>
                    <a:pt x="342" y="1544"/>
                  </a:lnTo>
                  <a:lnTo>
                    <a:pt x="342" y="1550"/>
                  </a:lnTo>
                  <a:lnTo>
                    <a:pt x="316" y="1550"/>
                  </a:lnTo>
                  <a:lnTo>
                    <a:pt x="316" y="1555"/>
                  </a:lnTo>
                  <a:lnTo>
                    <a:pt x="293" y="1555"/>
                  </a:lnTo>
                  <a:lnTo>
                    <a:pt x="293" y="1561"/>
                  </a:lnTo>
                  <a:lnTo>
                    <a:pt x="255" y="1561"/>
                  </a:lnTo>
                  <a:lnTo>
                    <a:pt x="255" y="1567"/>
                  </a:lnTo>
                  <a:lnTo>
                    <a:pt x="245" y="1567"/>
                  </a:lnTo>
                  <a:lnTo>
                    <a:pt x="245" y="1561"/>
                  </a:lnTo>
                  <a:lnTo>
                    <a:pt x="217" y="1561"/>
                  </a:lnTo>
                  <a:lnTo>
                    <a:pt x="217" y="1555"/>
                  </a:lnTo>
                  <a:lnTo>
                    <a:pt x="198" y="1555"/>
                  </a:lnTo>
                  <a:lnTo>
                    <a:pt x="198" y="1550"/>
                  </a:lnTo>
                  <a:lnTo>
                    <a:pt x="177" y="1550"/>
                  </a:lnTo>
                  <a:lnTo>
                    <a:pt x="177" y="1544"/>
                  </a:lnTo>
                  <a:lnTo>
                    <a:pt x="168" y="1544"/>
                  </a:lnTo>
                  <a:lnTo>
                    <a:pt x="168" y="1537"/>
                  </a:lnTo>
                  <a:lnTo>
                    <a:pt x="158" y="1537"/>
                  </a:lnTo>
                  <a:lnTo>
                    <a:pt x="158" y="1531"/>
                  </a:lnTo>
                  <a:lnTo>
                    <a:pt x="154" y="1531"/>
                  </a:lnTo>
                  <a:lnTo>
                    <a:pt x="154" y="1526"/>
                  </a:lnTo>
                  <a:lnTo>
                    <a:pt x="144" y="1526"/>
                  </a:lnTo>
                  <a:lnTo>
                    <a:pt x="144" y="1520"/>
                  </a:lnTo>
                  <a:lnTo>
                    <a:pt x="135" y="1520"/>
                  </a:lnTo>
                  <a:lnTo>
                    <a:pt x="135" y="1514"/>
                  </a:lnTo>
                  <a:lnTo>
                    <a:pt x="130" y="1514"/>
                  </a:lnTo>
                  <a:lnTo>
                    <a:pt x="130" y="1509"/>
                  </a:lnTo>
                  <a:lnTo>
                    <a:pt x="125" y="1509"/>
                  </a:lnTo>
                  <a:lnTo>
                    <a:pt x="125" y="1502"/>
                  </a:lnTo>
                  <a:lnTo>
                    <a:pt x="121" y="1502"/>
                  </a:lnTo>
                  <a:lnTo>
                    <a:pt x="121" y="1496"/>
                  </a:lnTo>
                  <a:lnTo>
                    <a:pt x="111" y="1496"/>
                  </a:lnTo>
                  <a:lnTo>
                    <a:pt x="111" y="1490"/>
                  </a:lnTo>
                  <a:lnTo>
                    <a:pt x="101" y="1490"/>
                  </a:lnTo>
                  <a:lnTo>
                    <a:pt x="101" y="1485"/>
                  </a:lnTo>
                  <a:lnTo>
                    <a:pt x="95" y="1485"/>
                  </a:lnTo>
                  <a:lnTo>
                    <a:pt x="95" y="1478"/>
                  </a:lnTo>
                  <a:lnTo>
                    <a:pt x="91" y="1478"/>
                  </a:lnTo>
                  <a:lnTo>
                    <a:pt x="91" y="1473"/>
                  </a:lnTo>
                  <a:lnTo>
                    <a:pt x="87" y="1473"/>
                  </a:lnTo>
                  <a:lnTo>
                    <a:pt x="87" y="1461"/>
                  </a:lnTo>
                  <a:lnTo>
                    <a:pt x="81" y="1461"/>
                  </a:lnTo>
                  <a:lnTo>
                    <a:pt x="81" y="1455"/>
                  </a:lnTo>
                  <a:lnTo>
                    <a:pt x="77" y="1455"/>
                  </a:lnTo>
                  <a:lnTo>
                    <a:pt x="77" y="1449"/>
                  </a:lnTo>
                  <a:lnTo>
                    <a:pt x="72" y="1449"/>
                  </a:lnTo>
                  <a:lnTo>
                    <a:pt x="72" y="1444"/>
                  </a:lnTo>
                  <a:lnTo>
                    <a:pt x="67" y="1444"/>
                  </a:lnTo>
                  <a:lnTo>
                    <a:pt x="67" y="1436"/>
                  </a:lnTo>
                  <a:lnTo>
                    <a:pt x="62" y="1436"/>
                  </a:lnTo>
                  <a:lnTo>
                    <a:pt x="62" y="1426"/>
                  </a:lnTo>
                  <a:lnTo>
                    <a:pt x="58" y="1426"/>
                  </a:lnTo>
                  <a:lnTo>
                    <a:pt x="58" y="1419"/>
                  </a:lnTo>
                  <a:lnTo>
                    <a:pt x="54" y="1419"/>
                  </a:lnTo>
                  <a:lnTo>
                    <a:pt x="54" y="1414"/>
                  </a:lnTo>
                  <a:lnTo>
                    <a:pt x="44" y="1414"/>
                  </a:lnTo>
                  <a:lnTo>
                    <a:pt x="44" y="1408"/>
                  </a:lnTo>
                  <a:lnTo>
                    <a:pt x="39" y="1408"/>
                  </a:lnTo>
                  <a:lnTo>
                    <a:pt x="39" y="1396"/>
                  </a:lnTo>
                  <a:lnTo>
                    <a:pt x="34" y="1396"/>
                  </a:lnTo>
                  <a:lnTo>
                    <a:pt x="34" y="1390"/>
                  </a:lnTo>
                  <a:lnTo>
                    <a:pt x="28" y="1390"/>
                  </a:lnTo>
                  <a:lnTo>
                    <a:pt x="28" y="1385"/>
                  </a:lnTo>
                  <a:lnTo>
                    <a:pt x="24" y="1385"/>
                  </a:lnTo>
                  <a:lnTo>
                    <a:pt x="24" y="1373"/>
                  </a:lnTo>
                  <a:lnTo>
                    <a:pt x="19" y="1373"/>
                  </a:lnTo>
                  <a:lnTo>
                    <a:pt x="19" y="1366"/>
                  </a:lnTo>
                  <a:lnTo>
                    <a:pt x="14" y="1366"/>
                  </a:lnTo>
                  <a:lnTo>
                    <a:pt x="14" y="1354"/>
                  </a:lnTo>
                  <a:lnTo>
                    <a:pt x="10" y="1354"/>
                  </a:lnTo>
                  <a:lnTo>
                    <a:pt x="10" y="1349"/>
                  </a:lnTo>
                  <a:lnTo>
                    <a:pt x="5" y="1349"/>
                  </a:lnTo>
                  <a:lnTo>
                    <a:pt x="5" y="1343"/>
                  </a:lnTo>
                  <a:lnTo>
                    <a:pt x="0" y="1343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57800" y="3440160"/>
              <a:ext cx="1359000" cy="663480"/>
            </a:xfrm>
            <a:custGeom>
              <a:avLst/>
              <a:gdLst/>
              <a:ahLst/>
              <a:rect l="l" t="t" r="r" b="b"/>
              <a:pathLst>
                <a:path w="2568" h="1672">
                  <a:moveTo>
                    <a:pt x="0" y="791"/>
                  </a:moveTo>
                  <a:lnTo>
                    <a:pt x="4" y="791"/>
                  </a:lnTo>
                  <a:lnTo>
                    <a:pt x="4" y="733"/>
                  </a:lnTo>
                  <a:lnTo>
                    <a:pt x="9" y="733"/>
                  </a:lnTo>
                  <a:lnTo>
                    <a:pt x="9" y="679"/>
                  </a:lnTo>
                  <a:lnTo>
                    <a:pt x="14" y="679"/>
                  </a:lnTo>
                  <a:lnTo>
                    <a:pt x="14" y="602"/>
                  </a:lnTo>
                  <a:lnTo>
                    <a:pt x="18" y="602"/>
                  </a:lnTo>
                  <a:lnTo>
                    <a:pt x="18" y="578"/>
                  </a:lnTo>
                  <a:lnTo>
                    <a:pt x="14" y="578"/>
                  </a:lnTo>
                  <a:lnTo>
                    <a:pt x="14" y="561"/>
                  </a:lnTo>
                  <a:lnTo>
                    <a:pt x="18" y="561"/>
                  </a:lnTo>
                  <a:lnTo>
                    <a:pt x="18" y="537"/>
                  </a:lnTo>
                  <a:lnTo>
                    <a:pt x="14" y="537"/>
                  </a:lnTo>
                  <a:lnTo>
                    <a:pt x="14" y="401"/>
                  </a:lnTo>
                  <a:lnTo>
                    <a:pt x="18" y="401"/>
                  </a:lnTo>
                  <a:lnTo>
                    <a:pt x="18" y="383"/>
                  </a:lnTo>
                  <a:lnTo>
                    <a:pt x="23" y="383"/>
                  </a:lnTo>
                  <a:lnTo>
                    <a:pt x="23" y="355"/>
                  </a:lnTo>
                  <a:lnTo>
                    <a:pt x="27" y="355"/>
                  </a:lnTo>
                  <a:lnTo>
                    <a:pt x="27" y="295"/>
                  </a:lnTo>
                  <a:lnTo>
                    <a:pt x="33" y="295"/>
                  </a:lnTo>
                  <a:lnTo>
                    <a:pt x="33" y="290"/>
                  </a:lnTo>
                  <a:lnTo>
                    <a:pt x="37" y="290"/>
                  </a:lnTo>
                  <a:lnTo>
                    <a:pt x="37" y="260"/>
                  </a:lnTo>
                  <a:lnTo>
                    <a:pt x="42" y="260"/>
                  </a:lnTo>
                  <a:lnTo>
                    <a:pt x="42" y="254"/>
                  </a:lnTo>
                  <a:lnTo>
                    <a:pt x="52" y="254"/>
                  </a:lnTo>
                  <a:lnTo>
                    <a:pt x="52" y="247"/>
                  </a:lnTo>
                  <a:lnTo>
                    <a:pt x="57" y="247"/>
                  </a:lnTo>
                  <a:lnTo>
                    <a:pt x="57" y="241"/>
                  </a:lnTo>
                  <a:lnTo>
                    <a:pt x="62" y="241"/>
                  </a:lnTo>
                  <a:lnTo>
                    <a:pt x="62" y="236"/>
                  </a:lnTo>
                  <a:lnTo>
                    <a:pt x="67" y="236"/>
                  </a:lnTo>
                  <a:lnTo>
                    <a:pt x="67" y="230"/>
                  </a:lnTo>
                  <a:lnTo>
                    <a:pt x="76" y="230"/>
                  </a:lnTo>
                  <a:lnTo>
                    <a:pt x="76" y="224"/>
                  </a:lnTo>
                  <a:lnTo>
                    <a:pt x="81" y="224"/>
                  </a:lnTo>
                  <a:lnTo>
                    <a:pt x="81" y="217"/>
                  </a:lnTo>
                  <a:lnTo>
                    <a:pt x="86" y="217"/>
                  </a:lnTo>
                  <a:lnTo>
                    <a:pt x="86" y="206"/>
                  </a:lnTo>
                  <a:lnTo>
                    <a:pt x="90" y="206"/>
                  </a:lnTo>
                  <a:lnTo>
                    <a:pt x="90" y="200"/>
                  </a:lnTo>
                  <a:lnTo>
                    <a:pt x="95" y="200"/>
                  </a:lnTo>
                  <a:lnTo>
                    <a:pt x="95" y="195"/>
                  </a:lnTo>
                  <a:lnTo>
                    <a:pt x="109" y="195"/>
                  </a:lnTo>
                  <a:lnTo>
                    <a:pt x="109" y="187"/>
                  </a:lnTo>
                  <a:lnTo>
                    <a:pt x="123" y="187"/>
                  </a:lnTo>
                  <a:lnTo>
                    <a:pt x="123" y="182"/>
                  </a:lnTo>
                  <a:lnTo>
                    <a:pt x="134" y="182"/>
                  </a:lnTo>
                  <a:lnTo>
                    <a:pt x="134" y="176"/>
                  </a:lnTo>
                  <a:lnTo>
                    <a:pt x="148" y="176"/>
                  </a:lnTo>
                  <a:lnTo>
                    <a:pt x="148" y="171"/>
                  </a:lnTo>
                  <a:lnTo>
                    <a:pt x="158" y="171"/>
                  </a:lnTo>
                  <a:lnTo>
                    <a:pt x="158" y="164"/>
                  </a:lnTo>
                  <a:lnTo>
                    <a:pt x="177" y="164"/>
                  </a:lnTo>
                  <a:lnTo>
                    <a:pt x="177" y="159"/>
                  </a:lnTo>
                  <a:lnTo>
                    <a:pt x="201" y="159"/>
                  </a:lnTo>
                  <a:lnTo>
                    <a:pt x="201" y="154"/>
                  </a:lnTo>
                  <a:lnTo>
                    <a:pt x="220" y="154"/>
                  </a:lnTo>
                  <a:lnTo>
                    <a:pt x="220" y="146"/>
                  </a:lnTo>
                  <a:lnTo>
                    <a:pt x="240" y="146"/>
                  </a:lnTo>
                  <a:lnTo>
                    <a:pt x="240" y="141"/>
                  </a:lnTo>
                  <a:lnTo>
                    <a:pt x="267" y="141"/>
                  </a:lnTo>
                  <a:lnTo>
                    <a:pt x="267" y="135"/>
                  </a:lnTo>
                  <a:lnTo>
                    <a:pt x="288" y="135"/>
                  </a:lnTo>
                  <a:lnTo>
                    <a:pt x="288" y="129"/>
                  </a:lnTo>
                  <a:lnTo>
                    <a:pt x="307" y="129"/>
                  </a:lnTo>
                  <a:lnTo>
                    <a:pt x="307" y="123"/>
                  </a:lnTo>
                  <a:lnTo>
                    <a:pt x="321" y="123"/>
                  </a:lnTo>
                  <a:lnTo>
                    <a:pt x="321" y="118"/>
                  </a:lnTo>
                  <a:lnTo>
                    <a:pt x="335" y="118"/>
                  </a:lnTo>
                  <a:lnTo>
                    <a:pt x="335" y="113"/>
                  </a:lnTo>
                  <a:lnTo>
                    <a:pt x="359" y="113"/>
                  </a:lnTo>
                  <a:lnTo>
                    <a:pt x="359" y="105"/>
                  </a:lnTo>
                  <a:lnTo>
                    <a:pt x="388" y="105"/>
                  </a:lnTo>
                  <a:lnTo>
                    <a:pt x="388" y="100"/>
                  </a:lnTo>
                  <a:lnTo>
                    <a:pt x="398" y="100"/>
                  </a:lnTo>
                  <a:lnTo>
                    <a:pt x="398" y="94"/>
                  </a:lnTo>
                  <a:lnTo>
                    <a:pt x="427" y="94"/>
                  </a:lnTo>
                  <a:lnTo>
                    <a:pt x="427" y="88"/>
                  </a:lnTo>
                  <a:lnTo>
                    <a:pt x="479" y="88"/>
                  </a:lnTo>
                  <a:lnTo>
                    <a:pt x="479" y="83"/>
                  </a:lnTo>
                  <a:lnTo>
                    <a:pt x="504" y="83"/>
                  </a:lnTo>
                  <a:lnTo>
                    <a:pt x="504" y="76"/>
                  </a:lnTo>
                  <a:lnTo>
                    <a:pt x="542" y="76"/>
                  </a:lnTo>
                  <a:lnTo>
                    <a:pt x="542" y="70"/>
                  </a:lnTo>
                  <a:lnTo>
                    <a:pt x="566" y="70"/>
                  </a:lnTo>
                  <a:lnTo>
                    <a:pt x="566" y="64"/>
                  </a:lnTo>
                  <a:lnTo>
                    <a:pt x="585" y="64"/>
                  </a:lnTo>
                  <a:lnTo>
                    <a:pt x="585" y="59"/>
                  </a:lnTo>
                  <a:lnTo>
                    <a:pt x="613" y="59"/>
                  </a:lnTo>
                  <a:lnTo>
                    <a:pt x="613" y="53"/>
                  </a:lnTo>
                  <a:lnTo>
                    <a:pt x="632" y="53"/>
                  </a:lnTo>
                  <a:lnTo>
                    <a:pt x="632" y="46"/>
                  </a:lnTo>
                  <a:lnTo>
                    <a:pt x="643" y="46"/>
                  </a:lnTo>
                  <a:lnTo>
                    <a:pt x="643" y="53"/>
                  </a:lnTo>
                  <a:lnTo>
                    <a:pt x="676" y="53"/>
                  </a:lnTo>
                  <a:lnTo>
                    <a:pt x="676" y="46"/>
                  </a:lnTo>
                  <a:lnTo>
                    <a:pt x="720" y="46"/>
                  </a:lnTo>
                  <a:lnTo>
                    <a:pt x="720" y="41"/>
                  </a:lnTo>
                  <a:lnTo>
                    <a:pt x="762" y="41"/>
                  </a:lnTo>
                  <a:lnTo>
                    <a:pt x="762" y="35"/>
                  </a:lnTo>
                  <a:lnTo>
                    <a:pt x="806" y="35"/>
                  </a:lnTo>
                  <a:lnTo>
                    <a:pt x="806" y="29"/>
                  </a:lnTo>
                  <a:lnTo>
                    <a:pt x="830" y="29"/>
                  </a:lnTo>
                  <a:lnTo>
                    <a:pt x="830" y="23"/>
                  </a:lnTo>
                  <a:lnTo>
                    <a:pt x="873" y="23"/>
                  </a:lnTo>
                  <a:lnTo>
                    <a:pt x="873" y="18"/>
                  </a:lnTo>
                  <a:lnTo>
                    <a:pt x="916" y="18"/>
                  </a:lnTo>
                  <a:lnTo>
                    <a:pt x="916" y="10"/>
                  </a:lnTo>
                  <a:lnTo>
                    <a:pt x="969" y="10"/>
                  </a:lnTo>
                  <a:lnTo>
                    <a:pt x="969" y="5"/>
                  </a:lnTo>
                  <a:lnTo>
                    <a:pt x="988" y="5"/>
                  </a:lnTo>
                  <a:lnTo>
                    <a:pt x="988" y="0"/>
                  </a:lnTo>
                  <a:lnTo>
                    <a:pt x="1008" y="0"/>
                  </a:lnTo>
                  <a:lnTo>
                    <a:pt x="1008" y="5"/>
                  </a:lnTo>
                  <a:lnTo>
                    <a:pt x="1071" y="5"/>
                  </a:lnTo>
                  <a:lnTo>
                    <a:pt x="1071" y="0"/>
                  </a:lnTo>
                  <a:lnTo>
                    <a:pt x="1171" y="0"/>
                  </a:lnTo>
                  <a:lnTo>
                    <a:pt x="1171" y="5"/>
                  </a:lnTo>
                  <a:lnTo>
                    <a:pt x="1368" y="5"/>
                  </a:lnTo>
                  <a:lnTo>
                    <a:pt x="1368" y="0"/>
                  </a:lnTo>
                  <a:lnTo>
                    <a:pt x="1378" y="0"/>
                  </a:lnTo>
                  <a:lnTo>
                    <a:pt x="1378" y="5"/>
                  </a:lnTo>
                  <a:lnTo>
                    <a:pt x="1387" y="5"/>
                  </a:lnTo>
                  <a:lnTo>
                    <a:pt x="1387" y="0"/>
                  </a:lnTo>
                  <a:lnTo>
                    <a:pt x="1488" y="0"/>
                  </a:lnTo>
                  <a:lnTo>
                    <a:pt x="1488" y="5"/>
                  </a:lnTo>
                  <a:lnTo>
                    <a:pt x="1604" y="5"/>
                  </a:lnTo>
                  <a:lnTo>
                    <a:pt x="1604" y="10"/>
                  </a:lnTo>
                  <a:lnTo>
                    <a:pt x="1646" y="10"/>
                  </a:lnTo>
                  <a:lnTo>
                    <a:pt x="1646" y="18"/>
                  </a:lnTo>
                  <a:lnTo>
                    <a:pt x="1723" y="18"/>
                  </a:lnTo>
                  <a:lnTo>
                    <a:pt x="1723" y="23"/>
                  </a:lnTo>
                  <a:lnTo>
                    <a:pt x="1839" y="23"/>
                  </a:lnTo>
                  <a:lnTo>
                    <a:pt x="1839" y="18"/>
                  </a:lnTo>
                  <a:lnTo>
                    <a:pt x="1848" y="18"/>
                  </a:lnTo>
                  <a:lnTo>
                    <a:pt x="1848" y="23"/>
                  </a:lnTo>
                  <a:lnTo>
                    <a:pt x="1873" y="23"/>
                  </a:lnTo>
                  <a:lnTo>
                    <a:pt x="1873" y="29"/>
                  </a:lnTo>
                  <a:lnTo>
                    <a:pt x="1901" y="29"/>
                  </a:lnTo>
                  <a:lnTo>
                    <a:pt x="1901" y="35"/>
                  </a:lnTo>
                  <a:lnTo>
                    <a:pt x="1915" y="35"/>
                  </a:lnTo>
                  <a:lnTo>
                    <a:pt x="1915" y="29"/>
                  </a:lnTo>
                  <a:lnTo>
                    <a:pt x="1925" y="29"/>
                  </a:lnTo>
                  <a:lnTo>
                    <a:pt x="1925" y="35"/>
                  </a:lnTo>
                  <a:lnTo>
                    <a:pt x="1955" y="35"/>
                  </a:lnTo>
                  <a:lnTo>
                    <a:pt x="1955" y="41"/>
                  </a:lnTo>
                  <a:lnTo>
                    <a:pt x="1992" y="41"/>
                  </a:lnTo>
                  <a:lnTo>
                    <a:pt x="1992" y="46"/>
                  </a:lnTo>
                  <a:lnTo>
                    <a:pt x="2103" y="46"/>
                  </a:lnTo>
                  <a:lnTo>
                    <a:pt x="2103" y="53"/>
                  </a:lnTo>
                  <a:lnTo>
                    <a:pt x="2184" y="53"/>
                  </a:lnTo>
                  <a:lnTo>
                    <a:pt x="2184" y="59"/>
                  </a:lnTo>
                  <a:lnTo>
                    <a:pt x="2237" y="59"/>
                  </a:lnTo>
                  <a:lnTo>
                    <a:pt x="2237" y="64"/>
                  </a:lnTo>
                  <a:lnTo>
                    <a:pt x="2271" y="64"/>
                  </a:lnTo>
                  <a:lnTo>
                    <a:pt x="2271" y="70"/>
                  </a:lnTo>
                  <a:lnTo>
                    <a:pt x="2300" y="70"/>
                  </a:lnTo>
                  <a:lnTo>
                    <a:pt x="2300" y="76"/>
                  </a:lnTo>
                  <a:lnTo>
                    <a:pt x="2343" y="76"/>
                  </a:lnTo>
                  <a:lnTo>
                    <a:pt x="2343" y="83"/>
                  </a:lnTo>
                  <a:lnTo>
                    <a:pt x="2367" y="83"/>
                  </a:lnTo>
                  <a:lnTo>
                    <a:pt x="2367" y="88"/>
                  </a:lnTo>
                  <a:lnTo>
                    <a:pt x="2377" y="88"/>
                  </a:lnTo>
                  <a:lnTo>
                    <a:pt x="2377" y="94"/>
                  </a:lnTo>
                  <a:lnTo>
                    <a:pt x="2396" y="94"/>
                  </a:lnTo>
                  <a:lnTo>
                    <a:pt x="2396" y="100"/>
                  </a:lnTo>
                  <a:lnTo>
                    <a:pt x="2401" y="100"/>
                  </a:lnTo>
                  <a:lnTo>
                    <a:pt x="2401" y="105"/>
                  </a:lnTo>
                  <a:lnTo>
                    <a:pt x="2415" y="105"/>
                  </a:lnTo>
                  <a:lnTo>
                    <a:pt x="2415" y="113"/>
                  </a:lnTo>
                  <a:lnTo>
                    <a:pt x="2420" y="113"/>
                  </a:lnTo>
                  <a:lnTo>
                    <a:pt x="2420" y="118"/>
                  </a:lnTo>
                  <a:lnTo>
                    <a:pt x="2424" y="118"/>
                  </a:lnTo>
                  <a:lnTo>
                    <a:pt x="2424" y="123"/>
                  </a:lnTo>
                  <a:lnTo>
                    <a:pt x="2429" y="123"/>
                  </a:lnTo>
                  <a:lnTo>
                    <a:pt x="2429" y="129"/>
                  </a:lnTo>
                  <a:lnTo>
                    <a:pt x="2434" y="129"/>
                  </a:lnTo>
                  <a:lnTo>
                    <a:pt x="2434" y="135"/>
                  </a:lnTo>
                  <a:lnTo>
                    <a:pt x="2443" y="135"/>
                  </a:lnTo>
                  <a:lnTo>
                    <a:pt x="2443" y="141"/>
                  </a:lnTo>
                  <a:lnTo>
                    <a:pt x="2458" y="141"/>
                  </a:lnTo>
                  <a:lnTo>
                    <a:pt x="2458" y="146"/>
                  </a:lnTo>
                  <a:lnTo>
                    <a:pt x="2468" y="146"/>
                  </a:lnTo>
                  <a:lnTo>
                    <a:pt x="2468" y="154"/>
                  </a:lnTo>
                  <a:lnTo>
                    <a:pt x="2473" y="154"/>
                  </a:lnTo>
                  <a:lnTo>
                    <a:pt x="2473" y="159"/>
                  </a:lnTo>
                  <a:lnTo>
                    <a:pt x="2482" y="159"/>
                  </a:lnTo>
                  <a:lnTo>
                    <a:pt x="2482" y="164"/>
                  </a:lnTo>
                  <a:lnTo>
                    <a:pt x="2487" y="164"/>
                  </a:lnTo>
                  <a:lnTo>
                    <a:pt x="2487" y="171"/>
                  </a:lnTo>
                  <a:lnTo>
                    <a:pt x="2491" y="171"/>
                  </a:lnTo>
                  <a:lnTo>
                    <a:pt x="2491" y="195"/>
                  </a:lnTo>
                  <a:lnTo>
                    <a:pt x="2497" y="195"/>
                  </a:lnTo>
                  <a:lnTo>
                    <a:pt x="2497" y="212"/>
                  </a:lnTo>
                  <a:lnTo>
                    <a:pt x="2491" y="212"/>
                  </a:lnTo>
                  <a:lnTo>
                    <a:pt x="2491" y="236"/>
                  </a:lnTo>
                  <a:lnTo>
                    <a:pt x="2497" y="236"/>
                  </a:lnTo>
                  <a:lnTo>
                    <a:pt x="2497" y="247"/>
                  </a:lnTo>
                  <a:lnTo>
                    <a:pt x="2501" y="247"/>
                  </a:lnTo>
                  <a:lnTo>
                    <a:pt x="2501" y="265"/>
                  </a:lnTo>
                  <a:lnTo>
                    <a:pt x="2506" y="265"/>
                  </a:lnTo>
                  <a:lnTo>
                    <a:pt x="2506" y="295"/>
                  </a:lnTo>
                  <a:lnTo>
                    <a:pt x="2511" y="295"/>
                  </a:lnTo>
                  <a:lnTo>
                    <a:pt x="2511" y="342"/>
                  </a:lnTo>
                  <a:lnTo>
                    <a:pt x="2517" y="342"/>
                  </a:lnTo>
                  <a:lnTo>
                    <a:pt x="2517" y="383"/>
                  </a:lnTo>
                  <a:lnTo>
                    <a:pt x="2521" y="383"/>
                  </a:lnTo>
                  <a:lnTo>
                    <a:pt x="2521" y="413"/>
                  </a:lnTo>
                  <a:lnTo>
                    <a:pt x="2517" y="413"/>
                  </a:lnTo>
                  <a:lnTo>
                    <a:pt x="2517" y="455"/>
                  </a:lnTo>
                  <a:lnTo>
                    <a:pt x="2521" y="455"/>
                  </a:lnTo>
                  <a:lnTo>
                    <a:pt x="2521" y="508"/>
                  </a:lnTo>
                  <a:lnTo>
                    <a:pt x="2526" y="508"/>
                  </a:lnTo>
                  <a:lnTo>
                    <a:pt x="2526" y="561"/>
                  </a:lnTo>
                  <a:lnTo>
                    <a:pt x="2531" y="561"/>
                  </a:lnTo>
                  <a:lnTo>
                    <a:pt x="2531" y="727"/>
                  </a:lnTo>
                  <a:lnTo>
                    <a:pt x="2535" y="727"/>
                  </a:lnTo>
                  <a:lnTo>
                    <a:pt x="2535" y="738"/>
                  </a:lnTo>
                  <a:lnTo>
                    <a:pt x="2531" y="738"/>
                  </a:lnTo>
                  <a:lnTo>
                    <a:pt x="2531" y="768"/>
                  </a:lnTo>
                  <a:lnTo>
                    <a:pt x="2535" y="768"/>
                  </a:lnTo>
                  <a:lnTo>
                    <a:pt x="2535" y="828"/>
                  </a:lnTo>
                  <a:lnTo>
                    <a:pt x="2540" y="828"/>
                  </a:lnTo>
                  <a:lnTo>
                    <a:pt x="2540" y="863"/>
                  </a:lnTo>
                  <a:lnTo>
                    <a:pt x="2545" y="863"/>
                  </a:lnTo>
                  <a:lnTo>
                    <a:pt x="2545" y="897"/>
                  </a:lnTo>
                  <a:lnTo>
                    <a:pt x="2550" y="897"/>
                  </a:lnTo>
                  <a:lnTo>
                    <a:pt x="2550" y="974"/>
                  </a:lnTo>
                  <a:lnTo>
                    <a:pt x="2554" y="974"/>
                  </a:lnTo>
                  <a:lnTo>
                    <a:pt x="2554" y="1016"/>
                  </a:lnTo>
                  <a:lnTo>
                    <a:pt x="2559" y="1016"/>
                  </a:lnTo>
                  <a:lnTo>
                    <a:pt x="2559" y="1141"/>
                  </a:lnTo>
                  <a:lnTo>
                    <a:pt x="2564" y="1141"/>
                  </a:lnTo>
                  <a:lnTo>
                    <a:pt x="2564" y="1176"/>
                  </a:lnTo>
                  <a:lnTo>
                    <a:pt x="2559" y="1176"/>
                  </a:lnTo>
                  <a:lnTo>
                    <a:pt x="2559" y="1187"/>
                  </a:lnTo>
                  <a:lnTo>
                    <a:pt x="2564" y="1187"/>
                  </a:lnTo>
                  <a:lnTo>
                    <a:pt x="2564" y="1294"/>
                  </a:lnTo>
                  <a:lnTo>
                    <a:pt x="2568" y="1294"/>
                  </a:lnTo>
                  <a:lnTo>
                    <a:pt x="2568" y="1595"/>
                  </a:lnTo>
                  <a:lnTo>
                    <a:pt x="2564" y="1595"/>
                  </a:lnTo>
                  <a:lnTo>
                    <a:pt x="2564" y="1636"/>
                  </a:lnTo>
                  <a:lnTo>
                    <a:pt x="2568" y="1636"/>
                  </a:lnTo>
                  <a:lnTo>
                    <a:pt x="2568" y="1649"/>
                  </a:lnTo>
                  <a:lnTo>
                    <a:pt x="2564" y="1649"/>
                  </a:lnTo>
                  <a:lnTo>
                    <a:pt x="2564" y="1655"/>
                  </a:lnTo>
                  <a:lnTo>
                    <a:pt x="2554" y="1655"/>
                  </a:lnTo>
                  <a:lnTo>
                    <a:pt x="2554" y="1672"/>
                  </a:lnTo>
                  <a:lnTo>
                    <a:pt x="2526" y="1672"/>
                  </a:lnTo>
                  <a:lnTo>
                    <a:pt x="2526" y="1666"/>
                  </a:lnTo>
                  <a:lnTo>
                    <a:pt x="2517" y="1666"/>
                  </a:lnTo>
                  <a:lnTo>
                    <a:pt x="2517" y="1660"/>
                  </a:lnTo>
                  <a:lnTo>
                    <a:pt x="2506" y="1660"/>
                  </a:lnTo>
                  <a:lnTo>
                    <a:pt x="2506" y="1655"/>
                  </a:lnTo>
                  <a:lnTo>
                    <a:pt x="2357" y="1655"/>
                  </a:lnTo>
                  <a:lnTo>
                    <a:pt x="2357" y="1660"/>
                  </a:lnTo>
                  <a:lnTo>
                    <a:pt x="2257" y="1660"/>
                  </a:lnTo>
                  <a:lnTo>
                    <a:pt x="2257" y="1655"/>
                  </a:lnTo>
                  <a:lnTo>
                    <a:pt x="2203" y="1655"/>
                  </a:lnTo>
                  <a:lnTo>
                    <a:pt x="2203" y="1660"/>
                  </a:lnTo>
                  <a:lnTo>
                    <a:pt x="2194" y="1660"/>
                  </a:lnTo>
                  <a:lnTo>
                    <a:pt x="2194" y="1655"/>
                  </a:lnTo>
                  <a:lnTo>
                    <a:pt x="2166" y="1655"/>
                  </a:lnTo>
                  <a:lnTo>
                    <a:pt x="2166" y="1649"/>
                  </a:lnTo>
                  <a:lnTo>
                    <a:pt x="2079" y="1649"/>
                  </a:lnTo>
                  <a:lnTo>
                    <a:pt x="2079" y="1655"/>
                  </a:lnTo>
                  <a:lnTo>
                    <a:pt x="2026" y="1655"/>
                  </a:lnTo>
                  <a:lnTo>
                    <a:pt x="2026" y="1649"/>
                  </a:lnTo>
                  <a:lnTo>
                    <a:pt x="1969" y="1649"/>
                  </a:lnTo>
                  <a:lnTo>
                    <a:pt x="1969" y="1655"/>
                  </a:lnTo>
                  <a:lnTo>
                    <a:pt x="1955" y="1655"/>
                  </a:lnTo>
                  <a:lnTo>
                    <a:pt x="1955" y="1649"/>
                  </a:lnTo>
                  <a:lnTo>
                    <a:pt x="1862" y="1649"/>
                  </a:lnTo>
                  <a:lnTo>
                    <a:pt x="1862" y="1642"/>
                  </a:lnTo>
                  <a:lnTo>
                    <a:pt x="1781" y="1642"/>
                  </a:lnTo>
                  <a:lnTo>
                    <a:pt x="1781" y="1636"/>
                  </a:lnTo>
                  <a:lnTo>
                    <a:pt x="1738" y="1636"/>
                  </a:lnTo>
                  <a:lnTo>
                    <a:pt x="1738" y="1642"/>
                  </a:lnTo>
                  <a:lnTo>
                    <a:pt x="1729" y="1642"/>
                  </a:lnTo>
                  <a:lnTo>
                    <a:pt x="1729" y="1636"/>
                  </a:lnTo>
                  <a:lnTo>
                    <a:pt x="1675" y="1636"/>
                  </a:lnTo>
                  <a:lnTo>
                    <a:pt x="1675" y="1642"/>
                  </a:lnTo>
                  <a:lnTo>
                    <a:pt x="1666" y="1642"/>
                  </a:lnTo>
                  <a:lnTo>
                    <a:pt x="1666" y="1649"/>
                  </a:lnTo>
                  <a:lnTo>
                    <a:pt x="1636" y="1649"/>
                  </a:lnTo>
                  <a:lnTo>
                    <a:pt x="1636" y="1642"/>
                  </a:lnTo>
                  <a:lnTo>
                    <a:pt x="1522" y="1642"/>
                  </a:lnTo>
                  <a:lnTo>
                    <a:pt x="1522" y="1636"/>
                  </a:lnTo>
                  <a:lnTo>
                    <a:pt x="1441" y="1636"/>
                  </a:lnTo>
                  <a:lnTo>
                    <a:pt x="1441" y="1642"/>
                  </a:lnTo>
                  <a:lnTo>
                    <a:pt x="1353" y="1642"/>
                  </a:lnTo>
                  <a:lnTo>
                    <a:pt x="1353" y="1636"/>
                  </a:lnTo>
                  <a:lnTo>
                    <a:pt x="1311" y="1636"/>
                  </a:lnTo>
                  <a:lnTo>
                    <a:pt x="1311" y="1642"/>
                  </a:lnTo>
                  <a:lnTo>
                    <a:pt x="1301" y="1642"/>
                  </a:lnTo>
                  <a:lnTo>
                    <a:pt x="1301" y="1636"/>
                  </a:lnTo>
                  <a:lnTo>
                    <a:pt x="1204" y="1636"/>
                  </a:lnTo>
                  <a:lnTo>
                    <a:pt x="1204" y="1642"/>
                  </a:lnTo>
                  <a:lnTo>
                    <a:pt x="1195" y="1642"/>
                  </a:lnTo>
                  <a:lnTo>
                    <a:pt x="1195" y="1636"/>
                  </a:lnTo>
                  <a:lnTo>
                    <a:pt x="1137" y="1636"/>
                  </a:lnTo>
                  <a:lnTo>
                    <a:pt x="1137" y="1642"/>
                  </a:lnTo>
                  <a:lnTo>
                    <a:pt x="1127" y="1642"/>
                  </a:lnTo>
                  <a:lnTo>
                    <a:pt x="1127" y="1636"/>
                  </a:lnTo>
                  <a:lnTo>
                    <a:pt x="1071" y="1636"/>
                  </a:lnTo>
                  <a:lnTo>
                    <a:pt x="1071" y="1642"/>
                  </a:lnTo>
                  <a:lnTo>
                    <a:pt x="1046" y="1642"/>
                  </a:lnTo>
                  <a:lnTo>
                    <a:pt x="1046" y="1636"/>
                  </a:lnTo>
                  <a:lnTo>
                    <a:pt x="734" y="1636"/>
                  </a:lnTo>
                  <a:lnTo>
                    <a:pt x="734" y="1631"/>
                  </a:lnTo>
                  <a:lnTo>
                    <a:pt x="638" y="1631"/>
                  </a:lnTo>
                  <a:lnTo>
                    <a:pt x="638" y="1636"/>
                  </a:lnTo>
                  <a:lnTo>
                    <a:pt x="613" y="1636"/>
                  </a:lnTo>
                  <a:lnTo>
                    <a:pt x="613" y="1631"/>
                  </a:lnTo>
                  <a:lnTo>
                    <a:pt x="542" y="1631"/>
                  </a:lnTo>
                  <a:lnTo>
                    <a:pt x="542" y="1636"/>
                  </a:lnTo>
                  <a:lnTo>
                    <a:pt x="392" y="1636"/>
                  </a:lnTo>
                  <a:lnTo>
                    <a:pt x="392" y="1631"/>
                  </a:lnTo>
                  <a:lnTo>
                    <a:pt x="335" y="1631"/>
                  </a:lnTo>
                  <a:lnTo>
                    <a:pt x="335" y="1624"/>
                  </a:lnTo>
                  <a:lnTo>
                    <a:pt x="267" y="1624"/>
                  </a:lnTo>
                  <a:lnTo>
                    <a:pt x="267" y="1619"/>
                  </a:lnTo>
                  <a:lnTo>
                    <a:pt x="163" y="1619"/>
                  </a:lnTo>
                  <a:lnTo>
                    <a:pt x="163" y="1614"/>
                  </a:lnTo>
                  <a:lnTo>
                    <a:pt x="153" y="1614"/>
                  </a:lnTo>
                  <a:lnTo>
                    <a:pt x="153" y="1606"/>
                  </a:lnTo>
                  <a:lnTo>
                    <a:pt x="144" y="1606"/>
                  </a:lnTo>
                  <a:lnTo>
                    <a:pt x="144" y="1601"/>
                  </a:lnTo>
                  <a:lnTo>
                    <a:pt x="134" y="1601"/>
                  </a:lnTo>
                  <a:lnTo>
                    <a:pt x="134" y="1595"/>
                  </a:lnTo>
                  <a:lnTo>
                    <a:pt x="114" y="1595"/>
                  </a:lnTo>
                  <a:lnTo>
                    <a:pt x="114" y="1590"/>
                  </a:lnTo>
                  <a:lnTo>
                    <a:pt x="104" y="1590"/>
                  </a:lnTo>
                  <a:lnTo>
                    <a:pt x="104" y="1583"/>
                  </a:lnTo>
                  <a:lnTo>
                    <a:pt x="95" y="1583"/>
                  </a:lnTo>
                  <a:lnTo>
                    <a:pt x="95" y="1578"/>
                  </a:lnTo>
                  <a:lnTo>
                    <a:pt x="90" y="1578"/>
                  </a:lnTo>
                  <a:lnTo>
                    <a:pt x="90" y="1571"/>
                  </a:lnTo>
                  <a:lnTo>
                    <a:pt x="86" y="1571"/>
                  </a:lnTo>
                  <a:lnTo>
                    <a:pt x="86" y="1565"/>
                  </a:lnTo>
                  <a:lnTo>
                    <a:pt x="81" y="1565"/>
                  </a:lnTo>
                  <a:lnTo>
                    <a:pt x="81" y="1554"/>
                  </a:lnTo>
                  <a:lnTo>
                    <a:pt x="76" y="1554"/>
                  </a:lnTo>
                  <a:lnTo>
                    <a:pt x="76" y="1548"/>
                  </a:lnTo>
                  <a:lnTo>
                    <a:pt x="71" y="1548"/>
                  </a:lnTo>
                  <a:lnTo>
                    <a:pt x="71" y="1524"/>
                  </a:lnTo>
                  <a:lnTo>
                    <a:pt x="67" y="1524"/>
                  </a:lnTo>
                  <a:lnTo>
                    <a:pt x="67" y="1519"/>
                  </a:lnTo>
                  <a:lnTo>
                    <a:pt x="62" y="1519"/>
                  </a:lnTo>
                  <a:lnTo>
                    <a:pt x="62" y="1500"/>
                  </a:lnTo>
                  <a:lnTo>
                    <a:pt x="57" y="1500"/>
                  </a:lnTo>
                  <a:lnTo>
                    <a:pt x="57" y="1489"/>
                  </a:lnTo>
                  <a:lnTo>
                    <a:pt x="52" y="1489"/>
                  </a:lnTo>
                  <a:lnTo>
                    <a:pt x="52" y="1476"/>
                  </a:lnTo>
                  <a:lnTo>
                    <a:pt x="47" y="1476"/>
                  </a:lnTo>
                  <a:lnTo>
                    <a:pt x="47" y="1447"/>
                  </a:lnTo>
                  <a:lnTo>
                    <a:pt x="42" y="1447"/>
                  </a:lnTo>
                  <a:lnTo>
                    <a:pt x="42" y="1423"/>
                  </a:lnTo>
                  <a:lnTo>
                    <a:pt x="37" y="1423"/>
                  </a:lnTo>
                  <a:lnTo>
                    <a:pt x="37" y="1388"/>
                  </a:lnTo>
                  <a:lnTo>
                    <a:pt x="33" y="1388"/>
                  </a:lnTo>
                  <a:lnTo>
                    <a:pt x="33" y="1347"/>
                  </a:lnTo>
                  <a:lnTo>
                    <a:pt x="27" y="1347"/>
                  </a:lnTo>
                  <a:lnTo>
                    <a:pt x="27" y="1228"/>
                  </a:lnTo>
                  <a:lnTo>
                    <a:pt x="23" y="1228"/>
                  </a:lnTo>
                  <a:lnTo>
                    <a:pt x="23" y="1128"/>
                  </a:lnTo>
                  <a:lnTo>
                    <a:pt x="18" y="1128"/>
                  </a:lnTo>
                  <a:lnTo>
                    <a:pt x="18" y="1057"/>
                  </a:lnTo>
                  <a:lnTo>
                    <a:pt x="14" y="1057"/>
                  </a:lnTo>
                  <a:lnTo>
                    <a:pt x="14" y="992"/>
                  </a:lnTo>
                  <a:lnTo>
                    <a:pt x="9" y="992"/>
                  </a:lnTo>
                  <a:lnTo>
                    <a:pt x="9" y="910"/>
                  </a:lnTo>
                  <a:lnTo>
                    <a:pt x="4" y="910"/>
                  </a:lnTo>
                  <a:lnTo>
                    <a:pt x="4" y="804"/>
                  </a:lnTo>
                  <a:lnTo>
                    <a:pt x="0" y="804"/>
                  </a:lnTo>
                  <a:lnTo>
                    <a:pt x="0" y="79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91280" y="3463920"/>
              <a:ext cx="1301760" cy="611280"/>
            </a:xfrm>
            <a:custGeom>
              <a:avLst/>
              <a:gdLst/>
              <a:ahLst/>
              <a:rect l="l" t="t" r="r" b="b"/>
              <a:pathLst>
                <a:path w="2459" h="1542">
                  <a:moveTo>
                    <a:pt x="0" y="674"/>
                  </a:moveTo>
                  <a:lnTo>
                    <a:pt x="5" y="674"/>
                  </a:lnTo>
                  <a:lnTo>
                    <a:pt x="5" y="596"/>
                  </a:lnTo>
                  <a:lnTo>
                    <a:pt x="9" y="596"/>
                  </a:lnTo>
                  <a:lnTo>
                    <a:pt x="9" y="348"/>
                  </a:lnTo>
                  <a:lnTo>
                    <a:pt x="14" y="348"/>
                  </a:lnTo>
                  <a:lnTo>
                    <a:pt x="14" y="324"/>
                  </a:lnTo>
                  <a:lnTo>
                    <a:pt x="19" y="324"/>
                  </a:lnTo>
                  <a:lnTo>
                    <a:pt x="19" y="301"/>
                  </a:lnTo>
                  <a:lnTo>
                    <a:pt x="24" y="301"/>
                  </a:lnTo>
                  <a:lnTo>
                    <a:pt x="24" y="296"/>
                  </a:lnTo>
                  <a:lnTo>
                    <a:pt x="28" y="296"/>
                  </a:lnTo>
                  <a:lnTo>
                    <a:pt x="28" y="264"/>
                  </a:lnTo>
                  <a:lnTo>
                    <a:pt x="33" y="264"/>
                  </a:lnTo>
                  <a:lnTo>
                    <a:pt x="33" y="247"/>
                  </a:lnTo>
                  <a:lnTo>
                    <a:pt x="38" y="247"/>
                  </a:lnTo>
                  <a:lnTo>
                    <a:pt x="38" y="242"/>
                  </a:lnTo>
                  <a:lnTo>
                    <a:pt x="42" y="242"/>
                  </a:lnTo>
                  <a:lnTo>
                    <a:pt x="42" y="236"/>
                  </a:lnTo>
                  <a:lnTo>
                    <a:pt x="47" y="236"/>
                  </a:lnTo>
                  <a:lnTo>
                    <a:pt x="47" y="231"/>
                  </a:lnTo>
                  <a:lnTo>
                    <a:pt x="52" y="231"/>
                  </a:lnTo>
                  <a:lnTo>
                    <a:pt x="52" y="218"/>
                  </a:lnTo>
                  <a:lnTo>
                    <a:pt x="57" y="218"/>
                  </a:lnTo>
                  <a:lnTo>
                    <a:pt x="57" y="206"/>
                  </a:lnTo>
                  <a:lnTo>
                    <a:pt x="61" y="206"/>
                  </a:lnTo>
                  <a:lnTo>
                    <a:pt x="61" y="195"/>
                  </a:lnTo>
                  <a:lnTo>
                    <a:pt x="68" y="195"/>
                  </a:lnTo>
                  <a:lnTo>
                    <a:pt x="68" y="188"/>
                  </a:lnTo>
                  <a:lnTo>
                    <a:pt x="72" y="188"/>
                  </a:lnTo>
                  <a:lnTo>
                    <a:pt x="72" y="182"/>
                  </a:lnTo>
                  <a:lnTo>
                    <a:pt x="76" y="182"/>
                  </a:lnTo>
                  <a:lnTo>
                    <a:pt x="76" y="177"/>
                  </a:lnTo>
                  <a:lnTo>
                    <a:pt x="86" y="177"/>
                  </a:lnTo>
                  <a:lnTo>
                    <a:pt x="86" y="171"/>
                  </a:lnTo>
                  <a:lnTo>
                    <a:pt x="96" y="171"/>
                  </a:lnTo>
                  <a:lnTo>
                    <a:pt x="96" y="165"/>
                  </a:lnTo>
                  <a:lnTo>
                    <a:pt x="134" y="165"/>
                  </a:lnTo>
                  <a:lnTo>
                    <a:pt x="134" y="158"/>
                  </a:lnTo>
                  <a:lnTo>
                    <a:pt x="149" y="158"/>
                  </a:lnTo>
                  <a:lnTo>
                    <a:pt x="149" y="153"/>
                  </a:lnTo>
                  <a:lnTo>
                    <a:pt x="158" y="153"/>
                  </a:lnTo>
                  <a:lnTo>
                    <a:pt x="158" y="147"/>
                  </a:lnTo>
                  <a:lnTo>
                    <a:pt x="186" y="147"/>
                  </a:lnTo>
                  <a:lnTo>
                    <a:pt x="186" y="141"/>
                  </a:lnTo>
                  <a:lnTo>
                    <a:pt x="205" y="141"/>
                  </a:lnTo>
                  <a:lnTo>
                    <a:pt x="205" y="136"/>
                  </a:lnTo>
                  <a:lnTo>
                    <a:pt x="226" y="136"/>
                  </a:lnTo>
                  <a:lnTo>
                    <a:pt x="226" y="128"/>
                  </a:lnTo>
                  <a:lnTo>
                    <a:pt x="273" y="128"/>
                  </a:lnTo>
                  <a:lnTo>
                    <a:pt x="273" y="123"/>
                  </a:lnTo>
                  <a:lnTo>
                    <a:pt x="297" y="123"/>
                  </a:lnTo>
                  <a:lnTo>
                    <a:pt x="297" y="117"/>
                  </a:lnTo>
                  <a:lnTo>
                    <a:pt x="316" y="117"/>
                  </a:lnTo>
                  <a:lnTo>
                    <a:pt x="316" y="112"/>
                  </a:lnTo>
                  <a:lnTo>
                    <a:pt x="356" y="112"/>
                  </a:lnTo>
                  <a:lnTo>
                    <a:pt x="356" y="105"/>
                  </a:lnTo>
                  <a:lnTo>
                    <a:pt x="370" y="105"/>
                  </a:lnTo>
                  <a:lnTo>
                    <a:pt x="370" y="100"/>
                  </a:lnTo>
                  <a:lnTo>
                    <a:pt x="398" y="100"/>
                  </a:lnTo>
                  <a:lnTo>
                    <a:pt x="398" y="95"/>
                  </a:lnTo>
                  <a:lnTo>
                    <a:pt x="422" y="95"/>
                  </a:lnTo>
                  <a:lnTo>
                    <a:pt x="422" y="87"/>
                  </a:lnTo>
                  <a:lnTo>
                    <a:pt x="442" y="87"/>
                  </a:lnTo>
                  <a:lnTo>
                    <a:pt x="442" y="82"/>
                  </a:lnTo>
                  <a:lnTo>
                    <a:pt x="470" y="82"/>
                  </a:lnTo>
                  <a:lnTo>
                    <a:pt x="470" y="76"/>
                  </a:lnTo>
                  <a:lnTo>
                    <a:pt x="494" y="76"/>
                  </a:lnTo>
                  <a:lnTo>
                    <a:pt x="494" y="70"/>
                  </a:lnTo>
                  <a:lnTo>
                    <a:pt x="514" y="70"/>
                  </a:lnTo>
                  <a:lnTo>
                    <a:pt x="514" y="64"/>
                  </a:lnTo>
                  <a:lnTo>
                    <a:pt x="537" y="64"/>
                  </a:lnTo>
                  <a:lnTo>
                    <a:pt x="537" y="59"/>
                  </a:lnTo>
                  <a:lnTo>
                    <a:pt x="586" y="59"/>
                  </a:lnTo>
                  <a:lnTo>
                    <a:pt x="586" y="54"/>
                  </a:lnTo>
                  <a:lnTo>
                    <a:pt x="633" y="54"/>
                  </a:lnTo>
                  <a:lnTo>
                    <a:pt x="633" y="46"/>
                  </a:lnTo>
                  <a:lnTo>
                    <a:pt x="700" y="46"/>
                  </a:lnTo>
                  <a:lnTo>
                    <a:pt x="700" y="41"/>
                  </a:lnTo>
                  <a:lnTo>
                    <a:pt x="721" y="41"/>
                  </a:lnTo>
                  <a:lnTo>
                    <a:pt x="721" y="35"/>
                  </a:lnTo>
                  <a:lnTo>
                    <a:pt x="749" y="35"/>
                  </a:lnTo>
                  <a:lnTo>
                    <a:pt x="749" y="29"/>
                  </a:lnTo>
                  <a:lnTo>
                    <a:pt x="816" y="29"/>
                  </a:lnTo>
                  <a:lnTo>
                    <a:pt x="816" y="24"/>
                  </a:lnTo>
                  <a:lnTo>
                    <a:pt x="830" y="24"/>
                  </a:lnTo>
                  <a:lnTo>
                    <a:pt x="830" y="17"/>
                  </a:lnTo>
                  <a:lnTo>
                    <a:pt x="865" y="17"/>
                  </a:lnTo>
                  <a:lnTo>
                    <a:pt x="865" y="11"/>
                  </a:lnTo>
                  <a:lnTo>
                    <a:pt x="955" y="11"/>
                  </a:lnTo>
                  <a:lnTo>
                    <a:pt x="955" y="5"/>
                  </a:lnTo>
                  <a:lnTo>
                    <a:pt x="1013" y="5"/>
                  </a:lnTo>
                  <a:lnTo>
                    <a:pt x="1013" y="0"/>
                  </a:lnTo>
                  <a:lnTo>
                    <a:pt x="1075" y="0"/>
                  </a:lnTo>
                  <a:lnTo>
                    <a:pt x="1075" y="5"/>
                  </a:lnTo>
                  <a:lnTo>
                    <a:pt x="1210" y="5"/>
                  </a:lnTo>
                  <a:lnTo>
                    <a:pt x="1210" y="11"/>
                  </a:lnTo>
                  <a:lnTo>
                    <a:pt x="1219" y="11"/>
                  </a:lnTo>
                  <a:lnTo>
                    <a:pt x="1219" y="5"/>
                  </a:lnTo>
                  <a:lnTo>
                    <a:pt x="1253" y="5"/>
                  </a:lnTo>
                  <a:lnTo>
                    <a:pt x="1253" y="0"/>
                  </a:lnTo>
                  <a:lnTo>
                    <a:pt x="1291" y="0"/>
                  </a:lnTo>
                  <a:lnTo>
                    <a:pt x="1291" y="5"/>
                  </a:lnTo>
                  <a:lnTo>
                    <a:pt x="1306" y="5"/>
                  </a:lnTo>
                  <a:lnTo>
                    <a:pt x="1306" y="0"/>
                  </a:lnTo>
                  <a:lnTo>
                    <a:pt x="1369" y="0"/>
                  </a:lnTo>
                  <a:lnTo>
                    <a:pt x="1369" y="5"/>
                  </a:lnTo>
                  <a:lnTo>
                    <a:pt x="1502" y="5"/>
                  </a:lnTo>
                  <a:lnTo>
                    <a:pt x="1502" y="11"/>
                  </a:lnTo>
                  <a:lnTo>
                    <a:pt x="1590" y="11"/>
                  </a:lnTo>
                  <a:lnTo>
                    <a:pt x="1590" y="17"/>
                  </a:lnTo>
                  <a:lnTo>
                    <a:pt x="1623" y="17"/>
                  </a:lnTo>
                  <a:lnTo>
                    <a:pt x="1623" y="24"/>
                  </a:lnTo>
                  <a:lnTo>
                    <a:pt x="1646" y="24"/>
                  </a:lnTo>
                  <a:lnTo>
                    <a:pt x="1646" y="29"/>
                  </a:lnTo>
                  <a:lnTo>
                    <a:pt x="1719" y="29"/>
                  </a:lnTo>
                  <a:lnTo>
                    <a:pt x="1719" y="24"/>
                  </a:lnTo>
                  <a:lnTo>
                    <a:pt x="1786" y="24"/>
                  </a:lnTo>
                  <a:lnTo>
                    <a:pt x="1786" y="29"/>
                  </a:lnTo>
                  <a:lnTo>
                    <a:pt x="1820" y="29"/>
                  </a:lnTo>
                  <a:lnTo>
                    <a:pt x="1820" y="35"/>
                  </a:lnTo>
                  <a:lnTo>
                    <a:pt x="1878" y="35"/>
                  </a:lnTo>
                  <a:lnTo>
                    <a:pt x="1878" y="41"/>
                  </a:lnTo>
                  <a:lnTo>
                    <a:pt x="1911" y="41"/>
                  </a:lnTo>
                  <a:lnTo>
                    <a:pt x="1911" y="35"/>
                  </a:lnTo>
                  <a:lnTo>
                    <a:pt x="1925" y="35"/>
                  </a:lnTo>
                  <a:lnTo>
                    <a:pt x="1925" y="41"/>
                  </a:lnTo>
                  <a:lnTo>
                    <a:pt x="1950" y="41"/>
                  </a:lnTo>
                  <a:lnTo>
                    <a:pt x="1950" y="46"/>
                  </a:lnTo>
                  <a:lnTo>
                    <a:pt x="1993" y="46"/>
                  </a:lnTo>
                  <a:lnTo>
                    <a:pt x="1993" y="54"/>
                  </a:lnTo>
                  <a:lnTo>
                    <a:pt x="2084" y="54"/>
                  </a:lnTo>
                  <a:lnTo>
                    <a:pt x="2084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2175" y="64"/>
                  </a:lnTo>
                  <a:lnTo>
                    <a:pt x="2175" y="70"/>
                  </a:lnTo>
                  <a:lnTo>
                    <a:pt x="2228" y="70"/>
                  </a:lnTo>
                  <a:lnTo>
                    <a:pt x="2228" y="76"/>
                  </a:lnTo>
                  <a:lnTo>
                    <a:pt x="2248" y="76"/>
                  </a:lnTo>
                  <a:lnTo>
                    <a:pt x="2248" y="82"/>
                  </a:lnTo>
                  <a:lnTo>
                    <a:pt x="2276" y="82"/>
                  </a:lnTo>
                  <a:lnTo>
                    <a:pt x="2276" y="87"/>
                  </a:lnTo>
                  <a:lnTo>
                    <a:pt x="2295" y="87"/>
                  </a:lnTo>
                  <a:lnTo>
                    <a:pt x="2295" y="95"/>
                  </a:lnTo>
                  <a:lnTo>
                    <a:pt x="2319" y="95"/>
                  </a:lnTo>
                  <a:lnTo>
                    <a:pt x="2319" y="100"/>
                  </a:lnTo>
                  <a:lnTo>
                    <a:pt x="2329" y="100"/>
                  </a:lnTo>
                  <a:lnTo>
                    <a:pt x="2329" y="105"/>
                  </a:lnTo>
                  <a:lnTo>
                    <a:pt x="2334" y="105"/>
                  </a:lnTo>
                  <a:lnTo>
                    <a:pt x="2334" y="112"/>
                  </a:lnTo>
                  <a:lnTo>
                    <a:pt x="2343" y="112"/>
                  </a:lnTo>
                  <a:lnTo>
                    <a:pt x="2343" y="117"/>
                  </a:lnTo>
                  <a:lnTo>
                    <a:pt x="2348" y="117"/>
                  </a:lnTo>
                  <a:lnTo>
                    <a:pt x="2348" y="123"/>
                  </a:lnTo>
                  <a:lnTo>
                    <a:pt x="2353" y="123"/>
                  </a:lnTo>
                  <a:lnTo>
                    <a:pt x="2353" y="136"/>
                  </a:lnTo>
                  <a:lnTo>
                    <a:pt x="2358" y="136"/>
                  </a:lnTo>
                  <a:lnTo>
                    <a:pt x="2358" y="147"/>
                  </a:lnTo>
                  <a:lnTo>
                    <a:pt x="2362" y="147"/>
                  </a:lnTo>
                  <a:lnTo>
                    <a:pt x="2362" y="153"/>
                  </a:lnTo>
                  <a:lnTo>
                    <a:pt x="2367" y="153"/>
                  </a:lnTo>
                  <a:lnTo>
                    <a:pt x="2367" y="165"/>
                  </a:lnTo>
                  <a:lnTo>
                    <a:pt x="2372" y="165"/>
                  </a:lnTo>
                  <a:lnTo>
                    <a:pt x="2372" y="177"/>
                  </a:lnTo>
                  <a:lnTo>
                    <a:pt x="2376" y="177"/>
                  </a:lnTo>
                  <a:lnTo>
                    <a:pt x="2376" y="188"/>
                  </a:lnTo>
                  <a:lnTo>
                    <a:pt x="2381" y="188"/>
                  </a:lnTo>
                  <a:lnTo>
                    <a:pt x="2381" y="201"/>
                  </a:lnTo>
                  <a:lnTo>
                    <a:pt x="2387" y="201"/>
                  </a:lnTo>
                  <a:lnTo>
                    <a:pt x="2387" y="223"/>
                  </a:lnTo>
                  <a:lnTo>
                    <a:pt x="2392" y="223"/>
                  </a:lnTo>
                  <a:lnTo>
                    <a:pt x="2392" y="264"/>
                  </a:lnTo>
                  <a:lnTo>
                    <a:pt x="2396" y="264"/>
                  </a:lnTo>
                  <a:lnTo>
                    <a:pt x="2396" y="331"/>
                  </a:lnTo>
                  <a:lnTo>
                    <a:pt x="2402" y="331"/>
                  </a:lnTo>
                  <a:lnTo>
                    <a:pt x="2402" y="424"/>
                  </a:lnTo>
                  <a:lnTo>
                    <a:pt x="2406" y="424"/>
                  </a:lnTo>
                  <a:lnTo>
                    <a:pt x="2406" y="460"/>
                  </a:lnTo>
                  <a:lnTo>
                    <a:pt x="2411" y="460"/>
                  </a:lnTo>
                  <a:lnTo>
                    <a:pt x="2411" y="543"/>
                  </a:lnTo>
                  <a:lnTo>
                    <a:pt x="2415" y="543"/>
                  </a:lnTo>
                  <a:lnTo>
                    <a:pt x="2415" y="560"/>
                  </a:lnTo>
                  <a:lnTo>
                    <a:pt x="2411" y="560"/>
                  </a:lnTo>
                  <a:lnTo>
                    <a:pt x="2411" y="573"/>
                  </a:lnTo>
                  <a:lnTo>
                    <a:pt x="2415" y="573"/>
                  </a:lnTo>
                  <a:lnTo>
                    <a:pt x="2415" y="596"/>
                  </a:lnTo>
                  <a:lnTo>
                    <a:pt x="2411" y="596"/>
                  </a:lnTo>
                  <a:lnTo>
                    <a:pt x="2411" y="620"/>
                  </a:lnTo>
                  <a:lnTo>
                    <a:pt x="2415" y="620"/>
                  </a:lnTo>
                  <a:lnTo>
                    <a:pt x="2415" y="704"/>
                  </a:lnTo>
                  <a:lnTo>
                    <a:pt x="2420" y="704"/>
                  </a:lnTo>
                  <a:lnTo>
                    <a:pt x="2420" y="791"/>
                  </a:lnTo>
                  <a:lnTo>
                    <a:pt x="2425" y="791"/>
                  </a:lnTo>
                  <a:lnTo>
                    <a:pt x="2425" y="821"/>
                  </a:lnTo>
                  <a:lnTo>
                    <a:pt x="2429" y="821"/>
                  </a:lnTo>
                  <a:lnTo>
                    <a:pt x="2429" y="838"/>
                  </a:lnTo>
                  <a:lnTo>
                    <a:pt x="2435" y="838"/>
                  </a:lnTo>
                  <a:lnTo>
                    <a:pt x="2435" y="897"/>
                  </a:lnTo>
                  <a:lnTo>
                    <a:pt x="2439" y="897"/>
                  </a:lnTo>
                  <a:lnTo>
                    <a:pt x="2439" y="951"/>
                  </a:lnTo>
                  <a:lnTo>
                    <a:pt x="2444" y="951"/>
                  </a:lnTo>
                  <a:lnTo>
                    <a:pt x="2444" y="1069"/>
                  </a:lnTo>
                  <a:lnTo>
                    <a:pt x="2449" y="1069"/>
                  </a:lnTo>
                  <a:lnTo>
                    <a:pt x="2449" y="1188"/>
                  </a:lnTo>
                  <a:lnTo>
                    <a:pt x="2455" y="1188"/>
                  </a:lnTo>
                  <a:lnTo>
                    <a:pt x="2455" y="1441"/>
                  </a:lnTo>
                  <a:lnTo>
                    <a:pt x="2459" y="1441"/>
                  </a:lnTo>
                  <a:lnTo>
                    <a:pt x="2459" y="1471"/>
                  </a:lnTo>
                  <a:lnTo>
                    <a:pt x="2455" y="1471"/>
                  </a:lnTo>
                  <a:lnTo>
                    <a:pt x="2455" y="1512"/>
                  </a:lnTo>
                  <a:lnTo>
                    <a:pt x="2449" y="1512"/>
                  </a:lnTo>
                  <a:lnTo>
                    <a:pt x="2449" y="1531"/>
                  </a:lnTo>
                  <a:lnTo>
                    <a:pt x="2325" y="1531"/>
                  </a:lnTo>
                  <a:lnTo>
                    <a:pt x="2325" y="1536"/>
                  </a:lnTo>
                  <a:lnTo>
                    <a:pt x="2238" y="1536"/>
                  </a:lnTo>
                  <a:lnTo>
                    <a:pt x="2238" y="1542"/>
                  </a:lnTo>
                  <a:lnTo>
                    <a:pt x="2204" y="1542"/>
                  </a:lnTo>
                  <a:lnTo>
                    <a:pt x="2204" y="1536"/>
                  </a:lnTo>
                  <a:lnTo>
                    <a:pt x="2171" y="1536"/>
                  </a:lnTo>
                  <a:lnTo>
                    <a:pt x="2171" y="1531"/>
                  </a:lnTo>
                  <a:lnTo>
                    <a:pt x="2156" y="1531"/>
                  </a:lnTo>
                  <a:lnTo>
                    <a:pt x="2156" y="1536"/>
                  </a:lnTo>
                  <a:lnTo>
                    <a:pt x="2104" y="1536"/>
                  </a:lnTo>
                  <a:lnTo>
                    <a:pt x="2104" y="1531"/>
                  </a:lnTo>
                  <a:lnTo>
                    <a:pt x="1983" y="1531"/>
                  </a:lnTo>
                  <a:lnTo>
                    <a:pt x="1983" y="1524"/>
                  </a:lnTo>
                  <a:lnTo>
                    <a:pt x="1959" y="1524"/>
                  </a:lnTo>
                  <a:lnTo>
                    <a:pt x="1959" y="1531"/>
                  </a:lnTo>
                  <a:lnTo>
                    <a:pt x="1934" y="1531"/>
                  </a:lnTo>
                  <a:lnTo>
                    <a:pt x="1934" y="1524"/>
                  </a:lnTo>
                  <a:lnTo>
                    <a:pt x="1921" y="1524"/>
                  </a:lnTo>
                  <a:lnTo>
                    <a:pt x="1921" y="1531"/>
                  </a:lnTo>
                  <a:lnTo>
                    <a:pt x="1907" y="1531"/>
                  </a:lnTo>
                  <a:lnTo>
                    <a:pt x="1907" y="1524"/>
                  </a:lnTo>
                  <a:lnTo>
                    <a:pt x="1772" y="1524"/>
                  </a:lnTo>
                  <a:lnTo>
                    <a:pt x="1772" y="1519"/>
                  </a:lnTo>
                  <a:lnTo>
                    <a:pt x="1728" y="1519"/>
                  </a:lnTo>
                  <a:lnTo>
                    <a:pt x="1728" y="1524"/>
                  </a:lnTo>
                  <a:lnTo>
                    <a:pt x="1709" y="1524"/>
                  </a:lnTo>
                  <a:lnTo>
                    <a:pt x="1709" y="1519"/>
                  </a:lnTo>
                  <a:lnTo>
                    <a:pt x="1690" y="1519"/>
                  </a:lnTo>
                  <a:lnTo>
                    <a:pt x="1690" y="1524"/>
                  </a:lnTo>
                  <a:lnTo>
                    <a:pt x="1676" y="1524"/>
                  </a:lnTo>
                  <a:lnTo>
                    <a:pt x="1676" y="1519"/>
                  </a:lnTo>
                  <a:lnTo>
                    <a:pt x="1646" y="1519"/>
                  </a:lnTo>
                  <a:lnTo>
                    <a:pt x="1646" y="1524"/>
                  </a:lnTo>
                  <a:lnTo>
                    <a:pt x="1604" y="1524"/>
                  </a:lnTo>
                  <a:lnTo>
                    <a:pt x="1604" y="1519"/>
                  </a:lnTo>
                  <a:lnTo>
                    <a:pt x="1537" y="1519"/>
                  </a:lnTo>
                  <a:lnTo>
                    <a:pt x="1537" y="1512"/>
                  </a:lnTo>
                  <a:lnTo>
                    <a:pt x="1475" y="1512"/>
                  </a:lnTo>
                  <a:lnTo>
                    <a:pt x="1475" y="1519"/>
                  </a:lnTo>
                  <a:lnTo>
                    <a:pt x="1393" y="1519"/>
                  </a:lnTo>
                  <a:lnTo>
                    <a:pt x="1393" y="1524"/>
                  </a:lnTo>
                  <a:lnTo>
                    <a:pt x="1373" y="1524"/>
                  </a:lnTo>
                  <a:lnTo>
                    <a:pt x="1373" y="1519"/>
                  </a:lnTo>
                  <a:lnTo>
                    <a:pt x="1282" y="1519"/>
                  </a:lnTo>
                  <a:lnTo>
                    <a:pt x="1282" y="1524"/>
                  </a:lnTo>
                  <a:lnTo>
                    <a:pt x="1234" y="1524"/>
                  </a:lnTo>
                  <a:lnTo>
                    <a:pt x="1234" y="1519"/>
                  </a:lnTo>
                  <a:lnTo>
                    <a:pt x="1219" y="1519"/>
                  </a:lnTo>
                  <a:lnTo>
                    <a:pt x="1219" y="1524"/>
                  </a:lnTo>
                  <a:lnTo>
                    <a:pt x="1195" y="1524"/>
                  </a:lnTo>
                  <a:lnTo>
                    <a:pt x="1195" y="1519"/>
                  </a:lnTo>
                  <a:lnTo>
                    <a:pt x="1153" y="1519"/>
                  </a:lnTo>
                  <a:lnTo>
                    <a:pt x="1153" y="1512"/>
                  </a:lnTo>
                  <a:lnTo>
                    <a:pt x="1142" y="1512"/>
                  </a:lnTo>
                  <a:lnTo>
                    <a:pt x="1142" y="1519"/>
                  </a:lnTo>
                  <a:lnTo>
                    <a:pt x="1085" y="1519"/>
                  </a:lnTo>
                  <a:lnTo>
                    <a:pt x="1085" y="1512"/>
                  </a:lnTo>
                  <a:lnTo>
                    <a:pt x="998" y="1512"/>
                  </a:lnTo>
                  <a:lnTo>
                    <a:pt x="998" y="1506"/>
                  </a:lnTo>
                  <a:lnTo>
                    <a:pt x="984" y="1506"/>
                  </a:lnTo>
                  <a:lnTo>
                    <a:pt x="984" y="1512"/>
                  </a:lnTo>
                  <a:lnTo>
                    <a:pt x="974" y="1512"/>
                  </a:lnTo>
                  <a:lnTo>
                    <a:pt x="974" y="1519"/>
                  </a:lnTo>
                  <a:lnTo>
                    <a:pt x="874" y="1519"/>
                  </a:lnTo>
                  <a:lnTo>
                    <a:pt x="874" y="1524"/>
                  </a:lnTo>
                  <a:lnTo>
                    <a:pt x="859" y="1524"/>
                  </a:lnTo>
                  <a:lnTo>
                    <a:pt x="859" y="1519"/>
                  </a:lnTo>
                  <a:lnTo>
                    <a:pt x="782" y="1519"/>
                  </a:lnTo>
                  <a:lnTo>
                    <a:pt x="782" y="1512"/>
                  </a:lnTo>
                  <a:lnTo>
                    <a:pt x="763" y="1512"/>
                  </a:lnTo>
                  <a:lnTo>
                    <a:pt x="763" y="1519"/>
                  </a:lnTo>
                  <a:lnTo>
                    <a:pt x="644" y="1519"/>
                  </a:lnTo>
                  <a:lnTo>
                    <a:pt x="644" y="1512"/>
                  </a:lnTo>
                  <a:lnTo>
                    <a:pt x="494" y="1512"/>
                  </a:lnTo>
                  <a:lnTo>
                    <a:pt x="494" y="1506"/>
                  </a:lnTo>
                  <a:lnTo>
                    <a:pt x="408" y="1506"/>
                  </a:lnTo>
                  <a:lnTo>
                    <a:pt x="408" y="1501"/>
                  </a:lnTo>
                  <a:lnTo>
                    <a:pt x="365" y="1501"/>
                  </a:lnTo>
                  <a:lnTo>
                    <a:pt x="365" y="1495"/>
                  </a:lnTo>
                  <a:lnTo>
                    <a:pt x="307" y="1495"/>
                  </a:lnTo>
                  <a:lnTo>
                    <a:pt x="307" y="1489"/>
                  </a:lnTo>
                  <a:lnTo>
                    <a:pt x="205" y="1489"/>
                  </a:lnTo>
                  <a:lnTo>
                    <a:pt x="205" y="1482"/>
                  </a:lnTo>
                  <a:lnTo>
                    <a:pt x="134" y="1482"/>
                  </a:lnTo>
                  <a:lnTo>
                    <a:pt x="134" y="1477"/>
                  </a:lnTo>
                  <a:lnTo>
                    <a:pt x="91" y="1477"/>
                  </a:lnTo>
                  <a:lnTo>
                    <a:pt x="91" y="1482"/>
                  </a:lnTo>
                  <a:lnTo>
                    <a:pt x="72" y="1482"/>
                  </a:lnTo>
                  <a:lnTo>
                    <a:pt x="72" y="1477"/>
                  </a:lnTo>
                  <a:lnTo>
                    <a:pt x="68" y="1477"/>
                  </a:lnTo>
                  <a:lnTo>
                    <a:pt x="68" y="1465"/>
                  </a:lnTo>
                  <a:lnTo>
                    <a:pt x="61" y="1465"/>
                  </a:lnTo>
                  <a:lnTo>
                    <a:pt x="61" y="1460"/>
                  </a:lnTo>
                  <a:lnTo>
                    <a:pt x="57" y="1460"/>
                  </a:lnTo>
                  <a:lnTo>
                    <a:pt x="57" y="1417"/>
                  </a:lnTo>
                  <a:lnTo>
                    <a:pt x="52" y="1417"/>
                  </a:lnTo>
                  <a:lnTo>
                    <a:pt x="52" y="1395"/>
                  </a:lnTo>
                  <a:lnTo>
                    <a:pt x="47" y="1395"/>
                  </a:lnTo>
                  <a:lnTo>
                    <a:pt x="47" y="1370"/>
                  </a:lnTo>
                  <a:lnTo>
                    <a:pt x="42" y="1370"/>
                  </a:lnTo>
                  <a:lnTo>
                    <a:pt x="42" y="1364"/>
                  </a:lnTo>
                  <a:lnTo>
                    <a:pt x="38" y="1364"/>
                  </a:lnTo>
                  <a:lnTo>
                    <a:pt x="38" y="1346"/>
                  </a:lnTo>
                  <a:lnTo>
                    <a:pt x="42" y="1346"/>
                  </a:lnTo>
                  <a:lnTo>
                    <a:pt x="42" y="1329"/>
                  </a:lnTo>
                  <a:lnTo>
                    <a:pt x="38" y="1329"/>
                  </a:lnTo>
                  <a:lnTo>
                    <a:pt x="38" y="1305"/>
                  </a:lnTo>
                  <a:lnTo>
                    <a:pt x="33" y="1305"/>
                  </a:lnTo>
                  <a:lnTo>
                    <a:pt x="33" y="1270"/>
                  </a:lnTo>
                  <a:lnTo>
                    <a:pt x="28" y="1270"/>
                  </a:lnTo>
                  <a:lnTo>
                    <a:pt x="28" y="1182"/>
                  </a:lnTo>
                  <a:lnTo>
                    <a:pt x="24" y="1182"/>
                  </a:lnTo>
                  <a:lnTo>
                    <a:pt x="24" y="1145"/>
                  </a:lnTo>
                  <a:lnTo>
                    <a:pt x="19" y="1145"/>
                  </a:lnTo>
                  <a:lnTo>
                    <a:pt x="19" y="1087"/>
                  </a:lnTo>
                  <a:lnTo>
                    <a:pt x="14" y="1087"/>
                  </a:lnTo>
                  <a:lnTo>
                    <a:pt x="14" y="1016"/>
                  </a:lnTo>
                  <a:lnTo>
                    <a:pt x="9" y="1016"/>
                  </a:lnTo>
                  <a:lnTo>
                    <a:pt x="9" y="903"/>
                  </a:lnTo>
                  <a:lnTo>
                    <a:pt x="5" y="903"/>
                  </a:lnTo>
                  <a:lnTo>
                    <a:pt x="5" y="875"/>
                  </a:lnTo>
                  <a:lnTo>
                    <a:pt x="0" y="875"/>
                  </a:lnTo>
                  <a:lnTo>
                    <a:pt x="0" y="863"/>
                  </a:lnTo>
                  <a:lnTo>
                    <a:pt x="5" y="863"/>
                  </a:lnTo>
                  <a:lnTo>
                    <a:pt x="5" y="851"/>
                  </a:lnTo>
                  <a:lnTo>
                    <a:pt x="0" y="851"/>
                  </a:lnTo>
                  <a:lnTo>
                    <a:pt x="0" y="6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03880" y="4138560"/>
              <a:ext cx="1303560" cy="1100160"/>
            </a:xfrm>
            <a:custGeom>
              <a:avLst/>
              <a:gdLst/>
              <a:ahLst/>
              <a:rect l="l" t="t" r="r" b="b"/>
              <a:pathLst>
                <a:path w="2464" h="2771">
                  <a:moveTo>
                    <a:pt x="0" y="508"/>
                  </a:moveTo>
                  <a:lnTo>
                    <a:pt x="4" y="508"/>
                  </a:lnTo>
                  <a:lnTo>
                    <a:pt x="4" y="396"/>
                  </a:lnTo>
                  <a:lnTo>
                    <a:pt x="9" y="396"/>
                  </a:lnTo>
                  <a:lnTo>
                    <a:pt x="9" y="331"/>
                  </a:lnTo>
                  <a:lnTo>
                    <a:pt x="4" y="331"/>
                  </a:lnTo>
                  <a:lnTo>
                    <a:pt x="4" y="283"/>
                  </a:lnTo>
                  <a:lnTo>
                    <a:pt x="9" y="283"/>
                  </a:lnTo>
                  <a:lnTo>
                    <a:pt x="9" y="260"/>
                  </a:lnTo>
                  <a:lnTo>
                    <a:pt x="4" y="260"/>
                  </a:lnTo>
                  <a:lnTo>
                    <a:pt x="4" y="248"/>
                  </a:lnTo>
                  <a:lnTo>
                    <a:pt x="9" y="248"/>
                  </a:lnTo>
                  <a:lnTo>
                    <a:pt x="9" y="225"/>
                  </a:lnTo>
                  <a:lnTo>
                    <a:pt x="14" y="225"/>
                  </a:lnTo>
                  <a:lnTo>
                    <a:pt x="14" y="201"/>
                  </a:lnTo>
                  <a:lnTo>
                    <a:pt x="18" y="201"/>
                  </a:lnTo>
                  <a:lnTo>
                    <a:pt x="18" y="188"/>
                  </a:lnTo>
                  <a:lnTo>
                    <a:pt x="23" y="188"/>
                  </a:lnTo>
                  <a:lnTo>
                    <a:pt x="23" y="177"/>
                  </a:lnTo>
                  <a:lnTo>
                    <a:pt x="28" y="177"/>
                  </a:lnTo>
                  <a:lnTo>
                    <a:pt x="28" y="166"/>
                  </a:lnTo>
                  <a:lnTo>
                    <a:pt x="37" y="166"/>
                  </a:lnTo>
                  <a:lnTo>
                    <a:pt x="37" y="153"/>
                  </a:lnTo>
                  <a:lnTo>
                    <a:pt x="44" y="153"/>
                  </a:lnTo>
                  <a:lnTo>
                    <a:pt x="44" y="141"/>
                  </a:lnTo>
                  <a:lnTo>
                    <a:pt x="48" y="141"/>
                  </a:lnTo>
                  <a:lnTo>
                    <a:pt x="48" y="130"/>
                  </a:lnTo>
                  <a:lnTo>
                    <a:pt x="52" y="130"/>
                  </a:lnTo>
                  <a:lnTo>
                    <a:pt x="52" y="125"/>
                  </a:lnTo>
                  <a:lnTo>
                    <a:pt x="58" y="125"/>
                  </a:lnTo>
                  <a:lnTo>
                    <a:pt x="58" y="112"/>
                  </a:lnTo>
                  <a:lnTo>
                    <a:pt x="62" y="112"/>
                  </a:lnTo>
                  <a:lnTo>
                    <a:pt x="62" y="106"/>
                  </a:lnTo>
                  <a:lnTo>
                    <a:pt x="67" y="106"/>
                  </a:lnTo>
                  <a:lnTo>
                    <a:pt x="67" y="100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86" y="94"/>
                  </a:lnTo>
                  <a:lnTo>
                    <a:pt x="86" y="89"/>
                  </a:lnTo>
                  <a:lnTo>
                    <a:pt x="91" y="89"/>
                  </a:lnTo>
                  <a:lnTo>
                    <a:pt x="91" y="82"/>
                  </a:lnTo>
                  <a:lnTo>
                    <a:pt x="105" y="82"/>
                  </a:lnTo>
                  <a:lnTo>
                    <a:pt x="105" y="76"/>
                  </a:lnTo>
                  <a:lnTo>
                    <a:pt x="115" y="76"/>
                  </a:lnTo>
                  <a:lnTo>
                    <a:pt x="115" y="71"/>
                  </a:lnTo>
                  <a:lnTo>
                    <a:pt x="125" y="71"/>
                  </a:lnTo>
                  <a:lnTo>
                    <a:pt x="125" y="65"/>
                  </a:lnTo>
                  <a:lnTo>
                    <a:pt x="139" y="65"/>
                  </a:lnTo>
                  <a:lnTo>
                    <a:pt x="139" y="59"/>
                  </a:lnTo>
                  <a:lnTo>
                    <a:pt x="154" y="59"/>
                  </a:lnTo>
                  <a:lnTo>
                    <a:pt x="154" y="52"/>
                  </a:lnTo>
                  <a:lnTo>
                    <a:pt x="172" y="52"/>
                  </a:lnTo>
                  <a:lnTo>
                    <a:pt x="172" y="47"/>
                  </a:lnTo>
                  <a:lnTo>
                    <a:pt x="225" y="47"/>
                  </a:lnTo>
                  <a:lnTo>
                    <a:pt x="225" y="40"/>
                  </a:lnTo>
                  <a:lnTo>
                    <a:pt x="254" y="40"/>
                  </a:lnTo>
                  <a:lnTo>
                    <a:pt x="254" y="35"/>
                  </a:lnTo>
                  <a:lnTo>
                    <a:pt x="298" y="35"/>
                  </a:lnTo>
                  <a:lnTo>
                    <a:pt x="298" y="29"/>
                  </a:lnTo>
                  <a:lnTo>
                    <a:pt x="312" y="29"/>
                  </a:lnTo>
                  <a:lnTo>
                    <a:pt x="312" y="35"/>
                  </a:lnTo>
                  <a:lnTo>
                    <a:pt x="325" y="35"/>
                  </a:lnTo>
                  <a:lnTo>
                    <a:pt x="325" y="29"/>
                  </a:lnTo>
                  <a:lnTo>
                    <a:pt x="355" y="29"/>
                  </a:lnTo>
                  <a:lnTo>
                    <a:pt x="355" y="24"/>
                  </a:lnTo>
                  <a:lnTo>
                    <a:pt x="398" y="24"/>
                  </a:lnTo>
                  <a:lnTo>
                    <a:pt x="398" y="29"/>
                  </a:lnTo>
                  <a:lnTo>
                    <a:pt x="408" y="29"/>
                  </a:lnTo>
                  <a:lnTo>
                    <a:pt x="408" y="24"/>
                  </a:lnTo>
                  <a:lnTo>
                    <a:pt x="532" y="24"/>
                  </a:lnTo>
                  <a:lnTo>
                    <a:pt x="532" y="17"/>
                  </a:lnTo>
                  <a:lnTo>
                    <a:pt x="609" y="17"/>
                  </a:lnTo>
                  <a:lnTo>
                    <a:pt x="609" y="12"/>
                  </a:lnTo>
                  <a:lnTo>
                    <a:pt x="806" y="12"/>
                  </a:lnTo>
                  <a:lnTo>
                    <a:pt x="806" y="6"/>
                  </a:lnTo>
                  <a:lnTo>
                    <a:pt x="860" y="6"/>
                  </a:lnTo>
                  <a:lnTo>
                    <a:pt x="860" y="0"/>
                  </a:lnTo>
                  <a:lnTo>
                    <a:pt x="1032" y="0"/>
                  </a:lnTo>
                  <a:lnTo>
                    <a:pt x="1032" y="6"/>
                  </a:lnTo>
                  <a:lnTo>
                    <a:pt x="1067" y="6"/>
                  </a:lnTo>
                  <a:lnTo>
                    <a:pt x="1067" y="12"/>
                  </a:lnTo>
                  <a:lnTo>
                    <a:pt x="1148" y="12"/>
                  </a:lnTo>
                  <a:lnTo>
                    <a:pt x="1148" y="6"/>
                  </a:lnTo>
                  <a:lnTo>
                    <a:pt x="1229" y="6"/>
                  </a:lnTo>
                  <a:lnTo>
                    <a:pt x="1229" y="12"/>
                  </a:lnTo>
                  <a:lnTo>
                    <a:pt x="1278" y="12"/>
                  </a:lnTo>
                  <a:lnTo>
                    <a:pt x="1278" y="6"/>
                  </a:lnTo>
                  <a:lnTo>
                    <a:pt x="1325" y="6"/>
                  </a:lnTo>
                  <a:lnTo>
                    <a:pt x="1325" y="12"/>
                  </a:lnTo>
                  <a:lnTo>
                    <a:pt x="1364" y="12"/>
                  </a:lnTo>
                  <a:lnTo>
                    <a:pt x="1364" y="17"/>
                  </a:lnTo>
                  <a:lnTo>
                    <a:pt x="1378" y="17"/>
                  </a:lnTo>
                  <a:lnTo>
                    <a:pt x="1378" y="12"/>
                  </a:lnTo>
                  <a:lnTo>
                    <a:pt x="1392" y="12"/>
                  </a:lnTo>
                  <a:lnTo>
                    <a:pt x="1392" y="17"/>
                  </a:lnTo>
                  <a:lnTo>
                    <a:pt x="1431" y="17"/>
                  </a:lnTo>
                  <a:lnTo>
                    <a:pt x="1431" y="24"/>
                  </a:lnTo>
                  <a:lnTo>
                    <a:pt x="1465" y="24"/>
                  </a:lnTo>
                  <a:lnTo>
                    <a:pt x="1465" y="17"/>
                  </a:lnTo>
                  <a:lnTo>
                    <a:pt x="1508" y="17"/>
                  </a:lnTo>
                  <a:lnTo>
                    <a:pt x="1508" y="24"/>
                  </a:lnTo>
                  <a:lnTo>
                    <a:pt x="1570" y="24"/>
                  </a:lnTo>
                  <a:lnTo>
                    <a:pt x="1570" y="29"/>
                  </a:lnTo>
                  <a:lnTo>
                    <a:pt x="1632" y="29"/>
                  </a:lnTo>
                  <a:lnTo>
                    <a:pt x="1632" y="24"/>
                  </a:lnTo>
                  <a:lnTo>
                    <a:pt x="1643" y="24"/>
                  </a:lnTo>
                  <a:lnTo>
                    <a:pt x="1643" y="29"/>
                  </a:lnTo>
                  <a:lnTo>
                    <a:pt x="1652" y="29"/>
                  </a:lnTo>
                  <a:lnTo>
                    <a:pt x="1652" y="24"/>
                  </a:lnTo>
                  <a:lnTo>
                    <a:pt x="1671" y="24"/>
                  </a:lnTo>
                  <a:lnTo>
                    <a:pt x="1671" y="29"/>
                  </a:lnTo>
                  <a:lnTo>
                    <a:pt x="1714" y="29"/>
                  </a:lnTo>
                  <a:lnTo>
                    <a:pt x="1714" y="35"/>
                  </a:lnTo>
                  <a:lnTo>
                    <a:pt x="1792" y="35"/>
                  </a:lnTo>
                  <a:lnTo>
                    <a:pt x="1792" y="40"/>
                  </a:lnTo>
                  <a:lnTo>
                    <a:pt x="1906" y="40"/>
                  </a:lnTo>
                  <a:lnTo>
                    <a:pt x="1906" y="47"/>
                  </a:lnTo>
                  <a:lnTo>
                    <a:pt x="1916" y="47"/>
                  </a:lnTo>
                  <a:lnTo>
                    <a:pt x="1916" y="40"/>
                  </a:lnTo>
                  <a:lnTo>
                    <a:pt x="2017" y="40"/>
                  </a:lnTo>
                  <a:lnTo>
                    <a:pt x="2017" y="47"/>
                  </a:lnTo>
                  <a:lnTo>
                    <a:pt x="2060" y="47"/>
                  </a:lnTo>
                  <a:lnTo>
                    <a:pt x="2060" y="52"/>
                  </a:lnTo>
                  <a:lnTo>
                    <a:pt x="2070" y="52"/>
                  </a:lnTo>
                  <a:lnTo>
                    <a:pt x="2070" y="47"/>
                  </a:lnTo>
                  <a:lnTo>
                    <a:pt x="2089" y="47"/>
                  </a:lnTo>
                  <a:lnTo>
                    <a:pt x="2089" y="40"/>
                  </a:lnTo>
                  <a:lnTo>
                    <a:pt x="2142" y="40"/>
                  </a:lnTo>
                  <a:lnTo>
                    <a:pt x="2142" y="47"/>
                  </a:lnTo>
                  <a:lnTo>
                    <a:pt x="2176" y="47"/>
                  </a:lnTo>
                  <a:lnTo>
                    <a:pt x="2176" y="52"/>
                  </a:lnTo>
                  <a:lnTo>
                    <a:pt x="2228" y="52"/>
                  </a:lnTo>
                  <a:lnTo>
                    <a:pt x="2228" y="59"/>
                  </a:lnTo>
                  <a:lnTo>
                    <a:pt x="2368" y="59"/>
                  </a:lnTo>
                  <a:lnTo>
                    <a:pt x="2368" y="65"/>
                  </a:lnTo>
                  <a:lnTo>
                    <a:pt x="2378" y="65"/>
                  </a:lnTo>
                  <a:lnTo>
                    <a:pt x="2378" y="71"/>
                  </a:lnTo>
                  <a:lnTo>
                    <a:pt x="2387" y="71"/>
                  </a:lnTo>
                  <a:lnTo>
                    <a:pt x="2387" y="76"/>
                  </a:lnTo>
                  <a:lnTo>
                    <a:pt x="2405" y="76"/>
                  </a:lnTo>
                  <a:lnTo>
                    <a:pt x="2405" y="82"/>
                  </a:lnTo>
                  <a:lnTo>
                    <a:pt x="2411" y="82"/>
                  </a:lnTo>
                  <a:lnTo>
                    <a:pt x="2411" y="89"/>
                  </a:lnTo>
                  <a:lnTo>
                    <a:pt x="2420" y="89"/>
                  </a:lnTo>
                  <a:lnTo>
                    <a:pt x="2420" y="100"/>
                  </a:lnTo>
                  <a:lnTo>
                    <a:pt x="2425" y="100"/>
                  </a:lnTo>
                  <a:lnTo>
                    <a:pt x="2425" y="106"/>
                  </a:lnTo>
                  <a:lnTo>
                    <a:pt x="2431" y="106"/>
                  </a:lnTo>
                  <a:lnTo>
                    <a:pt x="2431" y="112"/>
                  </a:lnTo>
                  <a:lnTo>
                    <a:pt x="2435" y="112"/>
                  </a:lnTo>
                  <a:lnTo>
                    <a:pt x="2435" y="117"/>
                  </a:lnTo>
                  <a:lnTo>
                    <a:pt x="2440" y="117"/>
                  </a:lnTo>
                  <a:lnTo>
                    <a:pt x="2440" y="135"/>
                  </a:lnTo>
                  <a:lnTo>
                    <a:pt x="2445" y="135"/>
                  </a:lnTo>
                  <a:lnTo>
                    <a:pt x="2445" y="158"/>
                  </a:lnTo>
                  <a:lnTo>
                    <a:pt x="2449" y="158"/>
                  </a:lnTo>
                  <a:lnTo>
                    <a:pt x="2449" y="183"/>
                  </a:lnTo>
                  <a:lnTo>
                    <a:pt x="2454" y="183"/>
                  </a:lnTo>
                  <a:lnTo>
                    <a:pt x="2454" y="195"/>
                  </a:lnTo>
                  <a:lnTo>
                    <a:pt x="2459" y="195"/>
                  </a:lnTo>
                  <a:lnTo>
                    <a:pt x="2459" y="212"/>
                  </a:lnTo>
                  <a:lnTo>
                    <a:pt x="2464" y="212"/>
                  </a:lnTo>
                  <a:lnTo>
                    <a:pt x="2464" y="294"/>
                  </a:lnTo>
                  <a:lnTo>
                    <a:pt x="2459" y="294"/>
                  </a:lnTo>
                  <a:lnTo>
                    <a:pt x="2459" y="448"/>
                  </a:lnTo>
                  <a:lnTo>
                    <a:pt x="2454" y="448"/>
                  </a:lnTo>
                  <a:lnTo>
                    <a:pt x="2454" y="644"/>
                  </a:lnTo>
                  <a:lnTo>
                    <a:pt x="2449" y="644"/>
                  </a:lnTo>
                  <a:lnTo>
                    <a:pt x="2449" y="674"/>
                  </a:lnTo>
                  <a:lnTo>
                    <a:pt x="2454" y="674"/>
                  </a:lnTo>
                  <a:lnTo>
                    <a:pt x="2454" y="745"/>
                  </a:lnTo>
                  <a:lnTo>
                    <a:pt x="2449" y="745"/>
                  </a:lnTo>
                  <a:lnTo>
                    <a:pt x="2449" y="756"/>
                  </a:lnTo>
                  <a:lnTo>
                    <a:pt x="2454" y="756"/>
                  </a:lnTo>
                  <a:lnTo>
                    <a:pt x="2454" y="804"/>
                  </a:lnTo>
                  <a:lnTo>
                    <a:pt x="2449" y="804"/>
                  </a:lnTo>
                  <a:lnTo>
                    <a:pt x="2449" y="851"/>
                  </a:lnTo>
                  <a:lnTo>
                    <a:pt x="2454" y="851"/>
                  </a:lnTo>
                  <a:lnTo>
                    <a:pt x="2454" y="875"/>
                  </a:lnTo>
                  <a:lnTo>
                    <a:pt x="2449" y="875"/>
                  </a:lnTo>
                  <a:lnTo>
                    <a:pt x="2449" y="903"/>
                  </a:lnTo>
                  <a:lnTo>
                    <a:pt x="2445" y="903"/>
                  </a:lnTo>
                  <a:lnTo>
                    <a:pt x="2445" y="933"/>
                  </a:lnTo>
                  <a:lnTo>
                    <a:pt x="2449" y="933"/>
                  </a:lnTo>
                  <a:lnTo>
                    <a:pt x="2449" y="952"/>
                  </a:lnTo>
                  <a:lnTo>
                    <a:pt x="2445" y="952"/>
                  </a:lnTo>
                  <a:lnTo>
                    <a:pt x="2445" y="968"/>
                  </a:lnTo>
                  <a:lnTo>
                    <a:pt x="2449" y="968"/>
                  </a:lnTo>
                  <a:lnTo>
                    <a:pt x="2449" y="1028"/>
                  </a:lnTo>
                  <a:lnTo>
                    <a:pt x="2454" y="1028"/>
                  </a:lnTo>
                  <a:lnTo>
                    <a:pt x="2454" y="1039"/>
                  </a:lnTo>
                  <a:lnTo>
                    <a:pt x="2449" y="1039"/>
                  </a:lnTo>
                  <a:lnTo>
                    <a:pt x="2449" y="1069"/>
                  </a:lnTo>
                  <a:lnTo>
                    <a:pt x="2445" y="1069"/>
                  </a:lnTo>
                  <a:lnTo>
                    <a:pt x="2445" y="1081"/>
                  </a:lnTo>
                  <a:lnTo>
                    <a:pt x="2449" y="1081"/>
                  </a:lnTo>
                  <a:lnTo>
                    <a:pt x="2449" y="1129"/>
                  </a:lnTo>
                  <a:lnTo>
                    <a:pt x="2445" y="1129"/>
                  </a:lnTo>
                  <a:lnTo>
                    <a:pt x="2445" y="1141"/>
                  </a:lnTo>
                  <a:lnTo>
                    <a:pt x="2449" y="1141"/>
                  </a:lnTo>
                  <a:lnTo>
                    <a:pt x="2449" y="1240"/>
                  </a:lnTo>
                  <a:lnTo>
                    <a:pt x="2454" y="1240"/>
                  </a:lnTo>
                  <a:lnTo>
                    <a:pt x="2454" y="1329"/>
                  </a:lnTo>
                  <a:lnTo>
                    <a:pt x="2459" y="1329"/>
                  </a:lnTo>
                  <a:lnTo>
                    <a:pt x="2459" y="1418"/>
                  </a:lnTo>
                  <a:lnTo>
                    <a:pt x="2464" y="1418"/>
                  </a:lnTo>
                  <a:lnTo>
                    <a:pt x="2464" y="1435"/>
                  </a:lnTo>
                  <a:lnTo>
                    <a:pt x="2459" y="1435"/>
                  </a:lnTo>
                  <a:lnTo>
                    <a:pt x="2459" y="1566"/>
                  </a:lnTo>
                  <a:lnTo>
                    <a:pt x="2454" y="1566"/>
                  </a:lnTo>
                  <a:lnTo>
                    <a:pt x="2454" y="1690"/>
                  </a:lnTo>
                  <a:lnTo>
                    <a:pt x="2449" y="1690"/>
                  </a:lnTo>
                  <a:lnTo>
                    <a:pt x="2449" y="1713"/>
                  </a:lnTo>
                  <a:lnTo>
                    <a:pt x="2454" y="1713"/>
                  </a:lnTo>
                  <a:lnTo>
                    <a:pt x="2454" y="1772"/>
                  </a:lnTo>
                  <a:lnTo>
                    <a:pt x="2449" y="1772"/>
                  </a:lnTo>
                  <a:lnTo>
                    <a:pt x="2449" y="1802"/>
                  </a:lnTo>
                  <a:lnTo>
                    <a:pt x="2445" y="1802"/>
                  </a:lnTo>
                  <a:lnTo>
                    <a:pt x="2445" y="1856"/>
                  </a:lnTo>
                  <a:lnTo>
                    <a:pt x="2449" y="1856"/>
                  </a:lnTo>
                  <a:lnTo>
                    <a:pt x="2449" y="1867"/>
                  </a:lnTo>
                  <a:lnTo>
                    <a:pt x="2445" y="1867"/>
                  </a:lnTo>
                  <a:lnTo>
                    <a:pt x="2445" y="1968"/>
                  </a:lnTo>
                  <a:lnTo>
                    <a:pt x="2440" y="1968"/>
                  </a:lnTo>
                  <a:lnTo>
                    <a:pt x="2440" y="1985"/>
                  </a:lnTo>
                  <a:lnTo>
                    <a:pt x="2445" y="1985"/>
                  </a:lnTo>
                  <a:lnTo>
                    <a:pt x="2445" y="2003"/>
                  </a:lnTo>
                  <a:lnTo>
                    <a:pt x="2440" y="2003"/>
                  </a:lnTo>
                  <a:lnTo>
                    <a:pt x="2440" y="2045"/>
                  </a:lnTo>
                  <a:lnTo>
                    <a:pt x="2445" y="2045"/>
                  </a:lnTo>
                  <a:lnTo>
                    <a:pt x="2445" y="2068"/>
                  </a:lnTo>
                  <a:lnTo>
                    <a:pt x="2440" y="2068"/>
                  </a:lnTo>
                  <a:lnTo>
                    <a:pt x="2440" y="2080"/>
                  </a:lnTo>
                  <a:lnTo>
                    <a:pt x="2445" y="2080"/>
                  </a:lnTo>
                  <a:lnTo>
                    <a:pt x="2445" y="2204"/>
                  </a:lnTo>
                  <a:lnTo>
                    <a:pt x="2449" y="2204"/>
                  </a:lnTo>
                  <a:lnTo>
                    <a:pt x="2449" y="2252"/>
                  </a:lnTo>
                  <a:lnTo>
                    <a:pt x="2445" y="2252"/>
                  </a:lnTo>
                  <a:lnTo>
                    <a:pt x="2445" y="2264"/>
                  </a:lnTo>
                  <a:lnTo>
                    <a:pt x="2440" y="2264"/>
                  </a:lnTo>
                  <a:lnTo>
                    <a:pt x="2440" y="2275"/>
                  </a:lnTo>
                  <a:lnTo>
                    <a:pt x="2445" y="2275"/>
                  </a:lnTo>
                  <a:lnTo>
                    <a:pt x="2445" y="2523"/>
                  </a:lnTo>
                  <a:lnTo>
                    <a:pt x="2449" y="2523"/>
                  </a:lnTo>
                  <a:lnTo>
                    <a:pt x="2449" y="2536"/>
                  </a:lnTo>
                  <a:lnTo>
                    <a:pt x="2445" y="2536"/>
                  </a:lnTo>
                  <a:lnTo>
                    <a:pt x="2445" y="2648"/>
                  </a:lnTo>
                  <a:lnTo>
                    <a:pt x="2449" y="2648"/>
                  </a:lnTo>
                  <a:lnTo>
                    <a:pt x="2449" y="2689"/>
                  </a:lnTo>
                  <a:lnTo>
                    <a:pt x="2454" y="2689"/>
                  </a:lnTo>
                  <a:lnTo>
                    <a:pt x="2454" y="2730"/>
                  </a:lnTo>
                  <a:lnTo>
                    <a:pt x="2449" y="2730"/>
                  </a:lnTo>
                  <a:lnTo>
                    <a:pt x="2449" y="2743"/>
                  </a:lnTo>
                  <a:lnTo>
                    <a:pt x="2431" y="2743"/>
                  </a:lnTo>
                  <a:lnTo>
                    <a:pt x="2431" y="2754"/>
                  </a:lnTo>
                  <a:lnTo>
                    <a:pt x="2411" y="2754"/>
                  </a:lnTo>
                  <a:lnTo>
                    <a:pt x="2411" y="2759"/>
                  </a:lnTo>
                  <a:lnTo>
                    <a:pt x="2405" y="2759"/>
                  </a:lnTo>
                  <a:lnTo>
                    <a:pt x="2405" y="2766"/>
                  </a:lnTo>
                  <a:lnTo>
                    <a:pt x="2382" y="2766"/>
                  </a:lnTo>
                  <a:lnTo>
                    <a:pt x="2382" y="2771"/>
                  </a:lnTo>
                  <a:lnTo>
                    <a:pt x="2348" y="2771"/>
                  </a:lnTo>
                  <a:lnTo>
                    <a:pt x="2348" y="2766"/>
                  </a:lnTo>
                  <a:lnTo>
                    <a:pt x="2267" y="2766"/>
                  </a:lnTo>
                  <a:lnTo>
                    <a:pt x="2267" y="2759"/>
                  </a:lnTo>
                  <a:lnTo>
                    <a:pt x="2233" y="2759"/>
                  </a:lnTo>
                  <a:lnTo>
                    <a:pt x="2233" y="2754"/>
                  </a:lnTo>
                  <a:lnTo>
                    <a:pt x="2176" y="2754"/>
                  </a:lnTo>
                  <a:lnTo>
                    <a:pt x="2176" y="2748"/>
                  </a:lnTo>
                  <a:lnTo>
                    <a:pt x="2117" y="2748"/>
                  </a:lnTo>
                  <a:lnTo>
                    <a:pt x="2117" y="2743"/>
                  </a:lnTo>
                  <a:lnTo>
                    <a:pt x="2055" y="2743"/>
                  </a:lnTo>
                  <a:lnTo>
                    <a:pt x="2055" y="2735"/>
                  </a:lnTo>
                  <a:lnTo>
                    <a:pt x="1983" y="2735"/>
                  </a:lnTo>
                  <a:lnTo>
                    <a:pt x="1983" y="2730"/>
                  </a:lnTo>
                  <a:lnTo>
                    <a:pt x="1959" y="2730"/>
                  </a:lnTo>
                  <a:lnTo>
                    <a:pt x="1959" y="2725"/>
                  </a:lnTo>
                  <a:lnTo>
                    <a:pt x="1906" y="2725"/>
                  </a:lnTo>
                  <a:lnTo>
                    <a:pt x="1906" y="2718"/>
                  </a:lnTo>
                  <a:lnTo>
                    <a:pt x="1863" y="2718"/>
                  </a:lnTo>
                  <a:lnTo>
                    <a:pt x="1863" y="2713"/>
                  </a:lnTo>
                  <a:lnTo>
                    <a:pt x="1839" y="2713"/>
                  </a:lnTo>
                  <a:lnTo>
                    <a:pt x="1839" y="2707"/>
                  </a:lnTo>
                  <a:lnTo>
                    <a:pt x="1820" y="2707"/>
                  </a:lnTo>
                  <a:lnTo>
                    <a:pt x="1820" y="2713"/>
                  </a:lnTo>
                  <a:lnTo>
                    <a:pt x="1757" y="2713"/>
                  </a:lnTo>
                  <a:lnTo>
                    <a:pt x="1757" y="2707"/>
                  </a:lnTo>
                  <a:lnTo>
                    <a:pt x="1695" y="2707"/>
                  </a:lnTo>
                  <a:lnTo>
                    <a:pt x="1695" y="2700"/>
                  </a:lnTo>
                  <a:lnTo>
                    <a:pt x="1671" y="2700"/>
                  </a:lnTo>
                  <a:lnTo>
                    <a:pt x="1671" y="2707"/>
                  </a:lnTo>
                  <a:lnTo>
                    <a:pt x="1643" y="2707"/>
                  </a:lnTo>
                  <a:lnTo>
                    <a:pt x="1643" y="2700"/>
                  </a:lnTo>
                  <a:lnTo>
                    <a:pt x="1503" y="2700"/>
                  </a:lnTo>
                  <a:lnTo>
                    <a:pt x="1503" y="2694"/>
                  </a:lnTo>
                  <a:lnTo>
                    <a:pt x="1451" y="2694"/>
                  </a:lnTo>
                  <a:lnTo>
                    <a:pt x="1451" y="2700"/>
                  </a:lnTo>
                  <a:lnTo>
                    <a:pt x="1407" y="2700"/>
                  </a:lnTo>
                  <a:lnTo>
                    <a:pt x="1407" y="2694"/>
                  </a:lnTo>
                  <a:lnTo>
                    <a:pt x="1369" y="2694"/>
                  </a:lnTo>
                  <a:lnTo>
                    <a:pt x="1369" y="2700"/>
                  </a:lnTo>
                  <a:lnTo>
                    <a:pt x="1355" y="2700"/>
                  </a:lnTo>
                  <a:lnTo>
                    <a:pt x="1355" y="2694"/>
                  </a:lnTo>
                  <a:lnTo>
                    <a:pt x="1339" y="2694"/>
                  </a:lnTo>
                  <a:lnTo>
                    <a:pt x="1339" y="2700"/>
                  </a:lnTo>
                  <a:lnTo>
                    <a:pt x="1267" y="2700"/>
                  </a:lnTo>
                  <a:lnTo>
                    <a:pt x="1267" y="2694"/>
                  </a:lnTo>
                  <a:lnTo>
                    <a:pt x="1244" y="2694"/>
                  </a:lnTo>
                  <a:lnTo>
                    <a:pt x="1244" y="2689"/>
                  </a:lnTo>
                  <a:lnTo>
                    <a:pt x="1171" y="2689"/>
                  </a:lnTo>
                  <a:lnTo>
                    <a:pt x="1171" y="2683"/>
                  </a:lnTo>
                  <a:lnTo>
                    <a:pt x="1090" y="2683"/>
                  </a:lnTo>
                  <a:lnTo>
                    <a:pt x="1090" y="2689"/>
                  </a:lnTo>
                  <a:lnTo>
                    <a:pt x="1004" y="2689"/>
                  </a:lnTo>
                  <a:lnTo>
                    <a:pt x="1004" y="2683"/>
                  </a:lnTo>
                  <a:lnTo>
                    <a:pt x="812" y="2683"/>
                  </a:lnTo>
                  <a:lnTo>
                    <a:pt x="812" y="2677"/>
                  </a:lnTo>
                  <a:lnTo>
                    <a:pt x="676" y="2677"/>
                  </a:lnTo>
                  <a:lnTo>
                    <a:pt x="676" y="2672"/>
                  </a:lnTo>
                  <a:lnTo>
                    <a:pt x="562" y="2672"/>
                  </a:lnTo>
                  <a:lnTo>
                    <a:pt x="562" y="2665"/>
                  </a:lnTo>
                  <a:lnTo>
                    <a:pt x="465" y="2665"/>
                  </a:lnTo>
                  <a:lnTo>
                    <a:pt x="465" y="2672"/>
                  </a:lnTo>
                  <a:lnTo>
                    <a:pt x="436" y="2672"/>
                  </a:lnTo>
                  <a:lnTo>
                    <a:pt x="436" y="2665"/>
                  </a:lnTo>
                  <a:lnTo>
                    <a:pt x="408" y="2665"/>
                  </a:lnTo>
                  <a:lnTo>
                    <a:pt x="408" y="2659"/>
                  </a:lnTo>
                  <a:lnTo>
                    <a:pt x="379" y="2659"/>
                  </a:lnTo>
                  <a:lnTo>
                    <a:pt x="379" y="2665"/>
                  </a:lnTo>
                  <a:lnTo>
                    <a:pt x="346" y="2665"/>
                  </a:lnTo>
                  <a:lnTo>
                    <a:pt x="346" y="2659"/>
                  </a:lnTo>
                  <a:lnTo>
                    <a:pt x="325" y="2659"/>
                  </a:lnTo>
                  <a:lnTo>
                    <a:pt x="325" y="2653"/>
                  </a:lnTo>
                  <a:lnTo>
                    <a:pt x="292" y="2653"/>
                  </a:lnTo>
                  <a:lnTo>
                    <a:pt x="292" y="2648"/>
                  </a:lnTo>
                  <a:lnTo>
                    <a:pt x="235" y="2648"/>
                  </a:lnTo>
                  <a:lnTo>
                    <a:pt x="235" y="2640"/>
                  </a:lnTo>
                  <a:lnTo>
                    <a:pt x="144" y="2640"/>
                  </a:lnTo>
                  <a:lnTo>
                    <a:pt x="144" y="2635"/>
                  </a:lnTo>
                  <a:lnTo>
                    <a:pt x="105" y="2635"/>
                  </a:lnTo>
                  <a:lnTo>
                    <a:pt x="105" y="2630"/>
                  </a:lnTo>
                  <a:lnTo>
                    <a:pt x="91" y="2630"/>
                  </a:lnTo>
                  <a:lnTo>
                    <a:pt x="91" y="2624"/>
                  </a:lnTo>
                  <a:lnTo>
                    <a:pt x="81" y="2624"/>
                  </a:lnTo>
                  <a:lnTo>
                    <a:pt x="81" y="2618"/>
                  </a:lnTo>
                  <a:lnTo>
                    <a:pt x="77" y="2618"/>
                  </a:lnTo>
                  <a:lnTo>
                    <a:pt x="77" y="2612"/>
                  </a:lnTo>
                  <a:lnTo>
                    <a:pt x="72" y="2612"/>
                  </a:lnTo>
                  <a:lnTo>
                    <a:pt x="72" y="2607"/>
                  </a:lnTo>
                  <a:lnTo>
                    <a:pt x="67" y="2607"/>
                  </a:lnTo>
                  <a:lnTo>
                    <a:pt x="67" y="2594"/>
                  </a:lnTo>
                  <a:lnTo>
                    <a:pt x="62" y="2594"/>
                  </a:lnTo>
                  <a:lnTo>
                    <a:pt x="62" y="2512"/>
                  </a:lnTo>
                  <a:lnTo>
                    <a:pt x="58" y="2512"/>
                  </a:lnTo>
                  <a:lnTo>
                    <a:pt x="58" y="2412"/>
                  </a:lnTo>
                  <a:lnTo>
                    <a:pt x="52" y="2412"/>
                  </a:lnTo>
                  <a:lnTo>
                    <a:pt x="52" y="2340"/>
                  </a:lnTo>
                  <a:lnTo>
                    <a:pt x="48" y="2340"/>
                  </a:lnTo>
                  <a:lnTo>
                    <a:pt x="48" y="2286"/>
                  </a:lnTo>
                  <a:lnTo>
                    <a:pt x="44" y="2286"/>
                  </a:lnTo>
                  <a:lnTo>
                    <a:pt x="44" y="2245"/>
                  </a:lnTo>
                  <a:lnTo>
                    <a:pt x="48" y="2245"/>
                  </a:lnTo>
                  <a:lnTo>
                    <a:pt x="48" y="2216"/>
                  </a:lnTo>
                  <a:lnTo>
                    <a:pt x="44" y="2216"/>
                  </a:lnTo>
                  <a:lnTo>
                    <a:pt x="44" y="2080"/>
                  </a:lnTo>
                  <a:lnTo>
                    <a:pt x="37" y="2080"/>
                  </a:lnTo>
                  <a:lnTo>
                    <a:pt x="37" y="2015"/>
                  </a:lnTo>
                  <a:lnTo>
                    <a:pt x="33" y="2015"/>
                  </a:lnTo>
                  <a:lnTo>
                    <a:pt x="33" y="1998"/>
                  </a:lnTo>
                  <a:lnTo>
                    <a:pt x="37" y="1998"/>
                  </a:lnTo>
                  <a:lnTo>
                    <a:pt x="37" y="1968"/>
                  </a:lnTo>
                  <a:lnTo>
                    <a:pt x="33" y="1968"/>
                  </a:lnTo>
                  <a:lnTo>
                    <a:pt x="33" y="1767"/>
                  </a:lnTo>
                  <a:lnTo>
                    <a:pt x="28" y="1767"/>
                  </a:lnTo>
                  <a:lnTo>
                    <a:pt x="28" y="1655"/>
                  </a:lnTo>
                  <a:lnTo>
                    <a:pt x="23" y="1655"/>
                  </a:lnTo>
                  <a:lnTo>
                    <a:pt x="23" y="1542"/>
                  </a:lnTo>
                  <a:lnTo>
                    <a:pt x="18" y="1542"/>
                  </a:lnTo>
                  <a:lnTo>
                    <a:pt x="18" y="1365"/>
                  </a:lnTo>
                  <a:lnTo>
                    <a:pt x="14" y="1365"/>
                  </a:lnTo>
                  <a:lnTo>
                    <a:pt x="14" y="1164"/>
                  </a:lnTo>
                  <a:lnTo>
                    <a:pt x="18" y="1164"/>
                  </a:lnTo>
                  <a:lnTo>
                    <a:pt x="18" y="1147"/>
                  </a:lnTo>
                  <a:lnTo>
                    <a:pt x="14" y="1147"/>
                  </a:lnTo>
                  <a:lnTo>
                    <a:pt x="14" y="968"/>
                  </a:lnTo>
                  <a:lnTo>
                    <a:pt x="9" y="968"/>
                  </a:lnTo>
                  <a:lnTo>
                    <a:pt x="9" y="886"/>
                  </a:lnTo>
                  <a:lnTo>
                    <a:pt x="4" y="886"/>
                  </a:lnTo>
                  <a:lnTo>
                    <a:pt x="4" y="525"/>
                  </a:lnTo>
                  <a:lnTo>
                    <a:pt x="0" y="525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30880" y="4164120"/>
              <a:ext cx="1246320" cy="1046160"/>
            </a:xfrm>
            <a:custGeom>
              <a:avLst/>
              <a:gdLst/>
              <a:ahLst/>
              <a:rect l="l" t="t" r="r" b="b"/>
              <a:pathLst>
                <a:path w="2353" h="2635">
                  <a:moveTo>
                    <a:pt x="0" y="356"/>
                  </a:moveTo>
                  <a:lnTo>
                    <a:pt x="6" y="356"/>
                  </a:lnTo>
                  <a:lnTo>
                    <a:pt x="6" y="188"/>
                  </a:lnTo>
                  <a:lnTo>
                    <a:pt x="10" y="188"/>
                  </a:lnTo>
                  <a:lnTo>
                    <a:pt x="10" y="147"/>
                  </a:lnTo>
                  <a:lnTo>
                    <a:pt x="15" y="147"/>
                  </a:lnTo>
                  <a:lnTo>
                    <a:pt x="15" y="130"/>
                  </a:lnTo>
                  <a:lnTo>
                    <a:pt x="25" y="130"/>
                  </a:lnTo>
                  <a:lnTo>
                    <a:pt x="25" y="123"/>
                  </a:lnTo>
                  <a:lnTo>
                    <a:pt x="29" y="123"/>
                  </a:lnTo>
                  <a:lnTo>
                    <a:pt x="29" y="118"/>
                  </a:lnTo>
                  <a:lnTo>
                    <a:pt x="39" y="118"/>
                  </a:lnTo>
                  <a:lnTo>
                    <a:pt x="39" y="112"/>
                  </a:lnTo>
                  <a:lnTo>
                    <a:pt x="43" y="112"/>
                  </a:lnTo>
                  <a:lnTo>
                    <a:pt x="43" y="106"/>
                  </a:lnTo>
                  <a:lnTo>
                    <a:pt x="48" y="106"/>
                  </a:lnTo>
                  <a:lnTo>
                    <a:pt x="48" y="82"/>
                  </a:lnTo>
                  <a:lnTo>
                    <a:pt x="53" y="82"/>
                  </a:lnTo>
                  <a:lnTo>
                    <a:pt x="53" y="76"/>
                  </a:lnTo>
                  <a:lnTo>
                    <a:pt x="63" y="76"/>
                  </a:lnTo>
                  <a:lnTo>
                    <a:pt x="63" y="70"/>
                  </a:lnTo>
                  <a:lnTo>
                    <a:pt x="87" y="70"/>
                  </a:lnTo>
                  <a:lnTo>
                    <a:pt x="87" y="65"/>
                  </a:lnTo>
                  <a:lnTo>
                    <a:pt x="92" y="65"/>
                  </a:lnTo>
                  <a:lnTo>
                    <a:pt x="92" y="60"/>
                  </a:lnTo>
                  <a:lnTo>
                    <a:pt x="102" y="60"/>
                  </a:lnTo>
                  <a:lnTo>
                    <a:pt x="102" y="52"/>
                  </a:lnTo>
                  <a:lnTo>
                    <a:pt x="110" y="52"/>
                  </a:lnTo>
                  <a:lnTo>
                    <a:pt x="110" y="47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59" y="41"/>
                  </a:lnTo>
                  <a:lnTo>
                    <a:pt x="159" y="35"/>
                  </a:lnTo>
                  <a:lnTo>
                    <a:pt x="177" y="35"/>
                  </a:lnTo>
                  <a:lnTo>
                    <a:pt x="177" y="29"/>
                  </a:lnTo>
                  <a:lnTo>
                    <a:pt x="250" y="29"/>
                  </a:lnTo>
                  <a:lnTo>
                    <a:pt x="250" y="24"/>
                  </a:lnTo>
                  <a:lnTo>
                    <a:pt x="280" y="24"/>
                  </a:lnTo>
                  <a:lnTo>
                    <a:pt x="280" y="29"/>
                  </a:lnTo>
                  <a:lnTo>
                    <a:pt x="289" y="29"/>
                  </a:lnTo>
                  <a:lnTo>
                    <a:pt x="289" y="24"/>
                  </a:lnTo>
                  <a:lnTo>
                    <a:pt x="317" y="24"/>
                  </a:lnTo>
                  <a:lnTo>
                    <a:pt x="317" y="17"/>
                  </a:lnTo>
                  <a:lnTo>
                    <a:pt x="428" y="17"/>
                  </a:lnTo>
                  <a:lnTo>
                    <a:pt x="428" y="11"/>
                  </a:lnTo>
                  <a:lnTo>
                    <a:pt x="528" y="11"/>
                  </a:lnTo>
                  <a:lnTo>
                    <a:pt x="528" y="6"/>
                  </a:lnTo>
                  <a:lnTo>
                    <a:pt x="568" y="6"/>
                  </a:lnTo>
                  <a:lnTo>
                    <a:pt x="568" y="0"/>
                  </a:lnTo>
                  <a:lnTo>
                    <a:pt x="591" y="0"/>
                  </a:lnTo>
                  <a:lnTo>
                    <a:pt x="591" y="6"/>
                  </a:lnTo>
                  <a:lnTo>
                    <a:pt x="750" y="6"/>
                  </a:lnTo>
                  <a:lnTo>
                    <a:pt x="750" y="11"/>
                  </a:lnTo>
                  <a:lnTo>
                    <a:pt x="768" y="11"/>
                  </a:lnTo>
                  <a:lnTo>
                    <a:pt x="768" y="17"/>
                  </a:lnTo>
                  <a:lnTo>
                    <a:pt x="1009" y="17"/>
                  </a:lnTo>
                  <a:lnTo>
                    <a:pt x="1009" y="11"/>
                  </a:lnTo>
                  <a:lnTo>
                    <a:pt x="1071" y="11"/>
                  </a:lnTo>
                  <a:lnTo>
                    <a:pt x="1071" y="6"/>
                  </a:lnTo>
                  <a:lnTo>
                    <a:pt x="1163" y="6"/>
                  </a:lnTo>
                  <a:lnTo>
                    <a:pt x="1163" y="0"/>
                  </a:lnTo>
                  <a:lnTo>
                    <a:pt x="1192" y="0"/>
                  </a:lnTo>
                  <a:lnTo>
                    <a:pt x="1192" y="6"/>
                  </a:lnTo>
                  <a:lnTo>
                    <a:pt x="1244" y="6"/>
                  </a:lnTo>
                  <a:lnTo>
                    <a:pt x="1244" y="11"/>
                  </a:lnTo>
                  <a:lnTo>
                    <a:pt x="1303" y="11"/>
                  </a:lnTo>
                  <a:lnTo>
                    <a:pt x="1303" y="6"/>
                  </a:lnTo>
                  <a:lnTo>
                    <a:pt x="1365" y="6"/>
                  </a:lnTo>
                  <a:lnTo>
                    <a:pt x="1365" y="11"/>
                  </a:lnTo>
                  <a:lnTo>
                    <a:pt x="1403" y="11"/>
                  </a:lnTo>
                  <a:lnTo>
                    <a:pt x="1403" y="17"/>
                  </a:lnTo>
                  <a:lnTo>
                    <a:pt x="1551" y="17"/>
                  </a:lnTo>
                  <a:lnTo>
                    <a:pt x="1551" y="24"/>
                  </a:lnTo>
                  <a:lnTo>
                    <a:pt x="1576" y="24"/>
                  </a:lnTo>
                  <a:lnTo>
                    <a:pt x="1576" y="17"/>
                  </a:lnTo>
                  <a:lnTo>
                    <a:pt x="1591" y="17"/>
                  </a:lnTo>
                  <a:lnTo>
                    <a:pt x="1591" y="24"/>
                  </a:lnTo>
                  <a:lnTo>
                    <a:pt x="1658" y="24"/>
                  </a:lnTo>
                  <a:lnTo>
                    <a:pt x="1658" y="29"/>
                  </a:lnTo>
                  <a:lnTo>
                    <a:pt x="1691" y="29"/>
                  </a:lnTo>
                  <a:lnTo>
                    <a:pt x="1691" y="35"/>
                  </a:lnTo>
                  <a:lnTo>
                    <a:pt x="1705" y="35"/>
                  </a:lnTo>
                  <a:lnTo>
                    <a:pt x="1705" y="29"/>
                  </a:lnTo>
                  <a:lnTo>
                    <a:pt x="1754" y="29"/>
                  </a:lnTo>
                  <a:lnTo>
                    <a:pt x="1754" y="35"/>
                  </a:lnTo>
                  <a:lnTo>
                    <a:pt x="1802" y="35"/>
                  </a:lnTo>
                  <a:lnTo>
                    <a:pt x="1802" y="41"/>
                  </a:lnTo>
                  <a:lnTo>
                    <a:pt x="1935" y="41"/>
                  </a:lnTo>
                  <a:lnTo>
                    <a:pt x="1935" y="35"/>
                  </a:lnTo>
                  <a:lnTo>
                    <a:pt x="2018" y="35"/>
                  </a:lnTo>
                  <a:lnTo>
                    <a:pt x="2018" y="41"/>
                  </a:lnTo>
                  <a:lnTo>
                    <a:pt x="2099" y="41"/>
                  </a:lnTo>
                  <a:lnTo>
                    <a:pt x="2099" y="47"/>
                  </a:lnTo>
                  <a:lnTo>
                    <a:pt x="2152" y="47"/>
                  </a:lnTo>
                  <a:lnTo>
                    <a:pt x="2152" y="52"/>
                  </a:lnTo>
                  <a:lnTo>
                    <a:pt x="2172" y="52"/>
                  </a:lnTo>
                  <a:lnTo>
                    <a:pt x="2172" y="60"/>
                  </a:lnTo>
                  <a:lnTo>
                    <a:pt x="2249" y="60"/>
                  </a:lnTo>
                  <a:lnTo>
                    <a:pt x="2249" y="52"/>
                  </a:lnTo>
                  <a:lnTo>
                    <a:pt x="2267" y="52"/>
                  </a:lnTo>
                  <a:lnTo>
                    <a:pt x="2267" y="60"/>
                  </a:lnTo>
                  <a:lnTo>
                    <a:pt x="2291" y="60"/>
                  </a:lnTo>
                  <a:lnTo>
                    <a:pt x="2291" y="65"/>
                  </a:lnTo>
                  <a:lnTo>
                    <a:pt x="2300" y="65"/>
                  </a:lnTo>
                  <a:lnTo>
                    <a:pt x="2300" y="70"/>
                  </a:lnTo>
                  <a:lnTo>
                    <a:pt x="2311" y="70"/>
                  </a:lnTo>
                  <a:lnTo>
                    <a:pt x="2311" y="76"/>
                  </a:lnTo>
                  <a:lnTo>
                    <a:pt x="2320" y="76"/>
                  </a:lnTo>
                  <a:lnTo>
                    <a:pt x="2320" y="82"/>
                  </a:lnTo>
                  <a:lnTo>
                    <a:pt x="2330" y="82"/>
                  </a:lnTo>
                  <a:lnTo>
                    <a:pt x="2330" y="88"/>
                  </a:lnTo>
                  <a:lnTo>
                    <a:pt x="2335" y="88"/>
                  </a:lnTo>
                  <a:lnTo>
                    <a:pt x="2335" y="101"/>
                  </a:lnTo>
                  <a:lnTo>
                    <a:pt x="2339" y="101"/>
                  </a:lnTo>
                  <a:lnTo>
                    <a:pt x="2339" y="112"/>
                  </a:lnTo>
                  <a:lnTo>
                    <a:pt x="2344" y="112"/>
                  </a:lnTo>
                  <a:lnTo>
                    <a:pt x="2344" y="130"/>
                  </a:lnTo>
                  <a:lnTo>
                    <a:pt x="2349" y="130"/>
                  </a:lnTo>
                  <a:lnTo>
                    <a:pt x="2349" y="171"/>
                  </a:lnTo>
                  <a:lnTo>
                    <a:pt x="2353" y="171"/>
                  </a:lnTo>
                  <a:lnTo>
                    <a:pt x="2353" y="253"/>
                  </a:lnTo>
                  <a:lnTo>
                    <a:pt x="2349" y="253"/>
                  </a:lnTo>
                  <a:lnTo>
                    <a:pt x="2349" y="266"/>
                  </a:lnTo>
                  <a:lnTo>
                    <a:pt x="2353" y="266"/>
                  </a:lnTo>
                  <a:lnTo>
                    <a:pt x="2353" y="324"/>
                  </a:lnTo>
                  <a:lnTo>
                    <a:pt x="2349" y="324"/>
                  </a:lnTo>
                  <a:lnTo>
                    <a:pt x="2349" y="437"/>
                  </a:lnTo>
                  <a:lnTo>
                    <a:pt x="2344" y="437"/>
                  </a:lnTo>
                  <a:lnTo>
                    <a:pt x="2344" y="497"/>
                  </a:lnTo>
                  <a:lnTo>
                    <a:pt x="2339" y="497"/>
                  </a:lnTo>
                  <a:lnTo>
                    <a:pt x="2339" y="508"/>
                  </a:lnTo>
                  <a:lnTo>
                    <a:pt x="2344" y="508"/>
                  </a:lnTo>
                  <a:lnTo>
                    <a:pt x="2344" y="531"/>
                  </a:lnTo>
                  <a:lnTo>
                    <a:pt x="2339" y="531"/>
                  </a:lnTo>
                  <a:lnTo>
                    <a:pt x="2339" y="739"/>
                  </a:lnTo>
                  <a:lnTo>
                    <a:pt x="2344" y="739"/>
                  </a:lnTo>
                  <a:lnTo>
                    <a:pt x="2344" y="780"/>
                  </a:lnTo>
                  <a:lnTo>
                    <a:pt x="2339" y="780"/>
                  </a:lnTo>
                  <a:lnTo>
                    <a:pt x="2339" y="1110"/>
                  </a:lnTo>
                  <a:lnTo>
                    <a:pt x="2344" y="1110"/>
                  </a:lnTo>
                  <a:lnTo>
                    <a:pt x="2344" y="1129"/>
                  </a:lnTo>
                  <a:lnTo>
                    <a:pt x="2339" y="1129"/>
                  </a:lnTo>
                  <a:lnTo>
                    <a:pt x="2339" y="1158"/>
                  </a:lnTo>
                  <a:lnTo>
                    <a:pt x="2344" y="1158"/>
                  </a:lnTo>
                  <a:lnTo>
                    <a:pt x="2344" y="1223"/>
                  </a:lnTo>
                  <a:lnTo>
                    <a:pt x="2349" y="1223"/>
                  </a:lnTo>
                  <a:lnTo>
                    <a:pt x="2349" y="1335"/>
                  </a:lnTo>
                  <a:lnTo>
                    <a:pt x="2353" y="1335"/>
                  </a:lnTo>
                  <a:lnTo>
                    <a:pt x="2353" y="1436"/>
                  </a:lnTo>
                  <a:lnTo>
                    <a:pt x="2349" y="1436"/>
                  </a:lnTo>
                  <a:lnTo>
                    <a:pt x="2349" y="1561"/>
                  </a:lnTo>
                  <a:lnTo>
                    <a:pt x="2344" y="1561"/>
                  </a:lnTo>
                  <a:lnTo>
                    <a:pt x="2344" y="1732"/>
                  </a:lnTo>
                  <a:lnTo>
                    <a:pt x="2339" y="1732"/>
                  </a:lnTo>
                  <a:lnTo>
                    <a:pt x="2339" y="1779"/>
                  </a:lnTo>
                  <a:lnTo>
                    <a:pt x="2335" y="1779"/>
                  </a:lnTo>
                  <a:lnTo>
                    <a:pt x="2335" y="1974"/>
                  </a:lnTo>
                  <a:lnTo>
                    <a:pt x="2330" y="1974"/>
                  </a:lnTo>
                  <a:lnTo>
                    <a:pt x="2330" y="2028"/>
                  </a:lnTo>
                  <a:lnTo>
                    <a:pt x="2335" y="2028"/>
                  </a:lnTo>
                  <a:lnTo>
                    <a:pt x="2335" y="2281"/>
                  </a:lnTo>
                  <a:lnTo>
                    <a:pt x="2330" y="2281"/>
                  </a:lnTo>
                  <a:lnTo>
                    <a:pt x="2330" y="2298"/>
                  </a:lnTo>
                  <a:lnTo>
                    <a:pt x="2335" y="2298"/>
                  </a:lnTo>
                  <a:lnTo>
                    <a:pt x="2335" y="2365"/>
                  </a:lnTo>
                  <a:lnTo>
                    <a:pt x="2330" y="2365"/>
                  </a:lnTo>
                  <a:lnTo>
                    <a:pt x="2330" y="2406"/>
                  </a:lnTo>
                  <a:lnTo>
                    <a:pt x="2335" y="2406"/>
                  </a:lnTo>
                  <a:lnTo>
                    <a:pt x="2335" y="2453"/>
                  </a:lnTo>
                  <a:lnTo>
                    <a:pt x="2330" y="2453"/>
                  </a:lnTo>
                  <a:lnTo>
                    <a:pt x="2330" y="2464"/>
                  </a:lnTo>
                  <a:lnTo>
                    <a:pt x="2335" y="2464"/>
                  </a:lnTo>
                  <a:lnTo>
                    <a:pt x="2335" y="2488"/>
                  </a:lnTo>
                  <a:lnTo>
                    <a:pt x="2330" y="2488"/>
                  </a:lnTo>
                  <a:lnTo>
                    <a:pt x="2330" y="2506"/>
                  </a:lnTo>
                  <a:lnTo>
                    <a:pt x="2335" y="2506"/>
                  </a:lnTo>
                  <a:lnTo>
                    <a:pt x="2335" y="2523"/>
                  </a:lnTo>
                  <a:lnTo>
                    <a:pt x="2330" y="2523"/>
                  </a:lnTo>
                  <a:lnTo>
                    <a:pt x="2330" y="2542"/>
                  </a:lnTo>
                  <a:lnTo>
                    <a:pt x="2335" y="2542"/>
                  </a:lnTo>
                  <a:lnTo>
                    <a:pt x="2335" y="2559"/>
                  </a:lnTo>
                  <a:lnTo>
                    <a:pt x="2330" y="2559"/>
                  </a:lnTo>
                  <a:lnTo>
                    <a:pt x="2330" y="2570"/>
                  </a:lnTo>
                  <a:lnTo>
                    <a:pt x="2335" y="2570"/>
                  </a:lnTo>
                  <a:lnTo>
                    <a:pt x="2335" y="2588"/>
                  </a:lnTo>
                  <a:lnTo>
                    <a:pt x="2330" y="2588"/>
                  </a:lnTo>
                  <a:lnTo>
                    <a:pt x="2330" y="2629"/>
                  </a:lnTo>
                  <a:lnTo>
                    <a:pt x="2311" y="2629"/>
                  </a:lnTo>
                  <a:lnTo>
                    <a:pt x="2311" y="2635"/>
                  </a:lnTo>
                  <a:lnTo>
                    <a:pt x="2300" y="2635"/>
                  </a:lnTo>
                  <a:lnTo>
                    <a:pt x="2300" y="2629"/>
                  </a:lnTo>
                  <a:lnTo>
                    <a:pt x="2258" y="2629"/>
                  </a:lnTo>
                  <a:lnTo>
                    <a:pt x="2258" y="2624"/>
                  </a:lnTo>
                  <a:lnTo>
                    <a:pt x="2209" y="2624"/>
                  </a:lnTo>
                  <a:lnTo>
                    <a:pt x="2209" y="2618"/>
                  </a:lnTo>
                  <a:lnTo>
                    <a:pt x="2200" y="2618"/>
                  </a:lnTo>
                  <a:lnTo>
                    <a:pt x="2200" y="2624"/>
                  </a:lnTo>
                  <a:lnTo>
                    <a:pt x="2172" y="2624"/>
                  </a:lnTo>
                  <a:lnTo>
                    <a:pt x="2172" y="2618"/>
                  </a:lnTo>
                  <a:lnTo>
                    <a:pt x="2124" y="2618"/>
                  </a:lnTo>
                  <a:lnTo>
                    <a:pt x="2124" y="2612"/>
                  </a:lnTo>
                  <a:lnTo>
                    <a:pt x="2099" y="2612"/>
                  </a:lnTo>
                  <a:lnTo>
                    <a:pt x="2099" y="2607"/>
                  </a:lnTo>
                  <a:lnTo>
                    <a:pt x="2056" y="2607"/>
                  </a:lnTo>
                  <a:lnTo>
                    <a:pt x="2056" y="2600"/>
                  </a:lnTo>
                  <a:lnTo>
                    <a:pt x="1989" y="2600"/>
                  </a:lnTo>
                  <a:lnTo>
                    <a:pt x="1989" y="2594"/>
                  </a:lnTo>
                  <a:lnTo>
                    <a:pt x="1955" y="2594"/>
                  </a:lnTo>
                  <a:lnTo>
                    <a:pt x="1955" y="2588"/>
                  </a:lnTo>
                  <a:lnTo>
                    <a:pt x="1926" y="2588"/>
                  </a:lnTo>
                  <a:lnTo>
                    <a:pt x="1926" y="2583"/>
                  </a:lnTo>
                  <a:lnTo>
                    <a:pt x="1849" y="2583"/>
                  </a:lnTo>
                  <a:lnTo>
                    <a:pt x="1849" y="2575"/>
                  </a:lnTo>
                  <a:lnTo>
                    <a:pt x="1817" y="2575"/>
                  </a:lnTo>
                  <a:lnTo>
                    <a:pt x="1817" y="2583"/>
                  </a:lnTo>
                  <a:lnTo>
                    <a:pt x="1773" y="2583"/>
                  </a:lnTo>
                  <a:lnTo>
                    <a:pt x="1773" y="2575"/>
                  </a:lnTo>
                  <a:lnTo>
                    <a:pt x="1580" y="2575"/>
                  </a:lnTo>
                  <a:lnTo>
                    <a:pt x="1580" y="2570"/>
                  </a:lnTo>
                  <a:lnTo>
                    <a:pt x="1307" y="2570"/>
                  </a:lnTo>
                  <a:lnTo>
                    <a:pt x="1307" y="2565"/>
                  </a:lnTo>
                  <a:lnTo>
                    <a:pt x="1282" y="2565"/>
                  </a:lnTo>
                  <a:lnTo>
                    <a:pt x="1282" y="2570"/>
                  </a:lnTo>
                  <a:lnTo>
                    <a:pt x="1268" y="2570"/>
                  </a:lnTo>
                  <a:lnTo>
                    <a:pt x="1268" y="2565"/>
                  </a:lnTo>
                  <a:lnTo>
                    <a:pt x="1143" y="2565"/>
                  </a:lnTo>
                  <a:lnTo>
                    <a:pt x="1143" y="2559"/>
                  </a:lnTo>
                  <a:lnTo>
                    <a:pt x="1062" y="2559"/>
                  </a:lnTo>
                  <a:lnTo>
                    <a:pt x="1062" y="2553"/>
                  </a:lnTo>
                  <a:lnTo>
                    <a:pt x="942" y="2553"/>
                  </a:lnTo>
                  <a:lnTo>
                    <a:pt x="942" y="2559"/>
                  </a:lnTo>
                  <a:lnTo>
                    <a:pt x="922" y="2559"/>
                  </a:lnTo>
                  <a:lnTo>
                    <a:pt x="922" y="2553"/>
                  </a:lnTo>
                  <a:lnTo>
                    <a:pt x="789" y="2553"/>
                  </a:lnTo>
                  <a:lnTo>
                    <a:pt x="789" y="2547"/>
                  </a:lnTo>
                  <a:lnTo>
                    <a:pt x="778" y="2547"/>
                  </a:lnTo>
                  <a:lnTo>
                    <a:pt x="778" y="2553"/>
                  </a:lnTo>
                  <a:lnTo>
                    <a:pt x="682" y="2553"/>
                  </a:lnTo>
                  <a:lnTo>
                    <a:pt x="682" y="2547"/>
                  </a:lnTo>
                  <a:lnTo>
                    <a:pt x="645" y="2547"/>
                  </a:lnTo>
                  <a:lnTo>
                    <a:pt x="645" y="2542"/>
                  </a:lnTo>
                  <a:lnTo>
                    <a:pt x="538" y="2542"/>
                  </a:lnTo>
                  <a:lnTo>
                    <a:pt x="538" y="2534"/>
                  </a:lnTo>
                  <a:lnTo>
                    <a:pt x="475" y="2534"/>
                  </a:lnTo>
                  <a:lnTo>
                    <a:pt x="475" y="2542"/>
                  </a:lnTo>
                  <a:lnTo>
                    <a:pt x="466" y="2542"/>
                  </a:lnTo>
                  <a:lnTo>
                    <a:pt x="466" y="2534"/>
                  </a:lnTo>
                  <a:lnTo>
                    <a:pt x="404" y="2534"/>
                  </a:lnTo>
                  <a:lnTo>
                    <a:pt x="404" y="2529"/>
                  </a:lnTo>
                  <a:lnTo>
                    <a:pt x="366" y="2529"/>
                  </a:lnTo>
                  <a:lnTo>
                    <a:pt x="366" y="2534"/>
                  </a:lnTo>
                  <a:lnTo>
                    <a:pt x="346" y="2534"/>
                  </a:lnTo>
                  <a:lnTo>
                    <a:pt x="346" y="2529"/>
                  </a:lnTo>
                  <a:lnTo>
                    <a:pt x="284" y="2529"/>
                  </a:lnTo>
                  <a:lnTo>
                    <a:pt x="284" y="2523"/>
                  </a:lnTo>
                  <a:lnTo>
                    <a:pt x="202" y="2523"/>
                  </a:lnTo>
                  <a:lnTo>
                    <a:pt x="202" y="2517"/>
                  </a:lnTo>
                  <a:lnTo>
                    <a:pt x="115" y="2517"/>
                  </a:lnTo>
                  <a:lnTo>
                    <a:pt x="115" y="2512"/>
                  </a:lnTo>
                  <a:lnTo>
                    <a:pt x="87" y="2512"/>
                  </a:lnTo>
                  <a:lnTo>
                    <a:pt x="87" y="2506"/>
                  </a:lnTo>
                  <a:lnTo>
                    <a:pt x="82" y="2506"/>
                  </a:lnTo>
                  <a:lnTo>
                    <a:pt x="82" y="2493"/>
                  </a:lnTo>
                  <a:lnTo>
                    <a:pt x="78" y="2493"/>
                  </a:lnTo>
                  <a:lnTo>
                    <a:pt x="78" y="2471"/>
                  </a:lnTo>
                  <a:lnTo>
                    <a:pt x="73" y="2471"/>
                  </a:lnTo>
                  <a:lnTo>
                    <a:pt x="73" y="2441"/>
                  </a:lnTo>
                  <a:lnTo>
                    <a:pt x="68" y="2441"/>
                  </a:lnTo>
                  <a:lnTo>
                    <a:pt x="68" y="2370"/>
                  </a:lnTo>
                  <a:lnTo>
                    <a:pt x="63" y="2370"/>
                  </a:lnTo>
                  <a:lnTo>
                    <a:pt x="63" y="2298"/>
                  </a:lnTo>
                  <a:lnTo>
                    <a:pt x="58" y="2298"/>
                  </a:lnTo>
                  <a:lnTo>
                    <a:pt x="58" y="2275"/>
                  </a:lnTo>
                  <a:lnTo>
                    <a:pt x="63" y="2275"/>
                  </a:lnTo>
                  <a:lnTo>
                    <a:pt x="63" y="2263"/>
                  </a:lnTo>
                  <a:lnTo>
                    <a:pt x="58" y="2263"/>
                  </a:lnTo>
                  <a:lnTo>
                    <a:pt x="58" y="2221"/>
                  </a:lnTo>
                  <a:lnTo>
                    <a:pt x="63" y="2221"/>
                  </a:lnTo>
                  <a:lnTo>
                    <a:pt x="63" y="2216"/>
                  </a:lnTo>
                  <a:lnTo>
                    <a:pt x="68" y="2216"/>
                  </a:lnTo>
                  <a:lnTo>
                    <a:pt x="68" y="2205"/>
                  </a:lnTo>
                  <a:lnTo>
                    <a:pt x="63" y="2205"/>
                  </a:lnTo>
                  <a:lnTo>
                    <a:pt x="63" y="2187"/>
                  </a:lnTo>
                  <a:lnTo>
                    <a:pt x="58" y="2187"/>
                  </a:lnTo>
                  <a:lnTo>
                    <a:pt x="58" y="2151"/>
                  </a:lnTo>
                  <a:lnTo>
                    <a:pt x="53" y="2151"/>
                  </a:lnTo>
                  <a:lnTo>
                    <a:pt x="53" y="2134"/>
                  </a:lnTo>
                  <a:lnTo>
                    <a:pt x="48" y="2134"/>
                  </a:lnTo>
                  <a:lnTo>
                    <a:pt x="48" y="2115"/>
                  </a:lnTo>
                  <a:lnTo>
                    <a:pt x="53" y="2115"/>
                  </a:lnTo>
                  <a:lnTo>
                    <a:pt x="53" y="2093"/>
                  </a:lnTo>
                  <a:lnTo>
                    <a:pt x="48" y="2093"/>
                  </a:lnTo>
                  <a:lnTo>
                    <a:pt x="48" y="2069"/>
                  </a:lnTo>
                  <a:lnTo>
                    <a:pt x="43" y="2069"/>
                  </a:lnTo>
                  <a:lnTo>
                    <a:pt x="43" y="1962"/>
                  </a:lnTo>
                  <a:lnTo>
                    <a:pt x="39" y="1962"/>
                  </a:lnTo>
                  <a:lnTo>
                    <a:pt x="39" y="1849"/>
                  </a:lnTo>
                  <a:lnTo>
                    <a:pt x="34" y="1849"/>
                  </a:lnTo>
                  <a:lnTo>
                    <a:pt x="34" y="1838"/>
                  </a:lnTo>
                  <a:lnTo>
                    <a:pt x="39" y="1838"/>
                  </a:lnTo>
                  <a:lnTo>
                    <a:pt x="39" y="1797"/>
                  </a:lnTo>
                  <a:lnTo>
                    <a:pt x="34" y="1797"/>
                  </a:lnTo>
                  <a:lnTo>
                    <a:pt x="34" y="1784"/>
                  </a:lnTo>
                  <a:lnTo>
                    <a:pt x="39" y="1784"/>
                  </a:lnTo>
                  <a:lnTo>
                    <a:pt x="39" y="1743"/>
                  </a:lnTo>
                  <a:lnTo>
                    <a:pt x="34" y="1743"/>
                  </a:lnTo>
                  <a:lnTo>
                    <a:pt x="34" y="1714"/>
                  </a:lnTo>
                  <a:lnTo>
                    <a:pt x="29" y="1714"/>
                  </a:lnTo>
                  <a:lnTo>
                    <a:pt x="29" y="1678"/>
                  </a:lnTo>
                  <a:lnTo>
                    <a:pt x="34" y="1678"/>
                  </a:lnTo>
                  <a:lnTo>
                    <a:pt x="34" y="1666"/>
                  </a:lnTo>
                  <a:lnTo>
                    <a:pt x="29" y="1666"/>
                  </a:lnTo>
                  <a:lnTo>
                    <a:pt x="29" y="1655"/>
                  </a:lnTo>
                  <a:lnTo>
                    <a:pt x="34" y="1655"/>
                  </a:lnTo>
                  <a:lnTo>
                    <a:pt x="34" y="1625"/>
                  </a:lnTo>
                  <a:lnTo>
                    <a:pt x="29" y="1625"/>
                  </a:lnTo>
                  <a:lnTo>
                    <a:pt x="29" y="1542"/>
                  </a:lnTo>
                  <a:lnTo>
                    <a:pt x="25" y="1542"/>
                  </a:lnTo>
                  <a:lnTo>
                    <a:pt x="25" y="1484"/>
                  </a:lnTo>
                  <a:lnTo>
                    <a:pt x="20" y="1484"/>
                  </a:lnTo>
                  <a:lnTo>
                    <a:pt x="20" y="1424"/>
                  </a:lnTo>
                  <a:lnTo>
                    <a:pt x="15" y="1424"/>
                  </a:lnTo>
                  <a:lnTo>
                    <a:pt x="15" y="1306"/>
                  </a:lnTo>
                  <a:lnTo>
                    <a:pt x="20" y="1306"/>
                  </a:lnTo>
                  <a:lnTo>
                    <a:pt x="20" y="1294"/>
                  </a:lnTo>
                  <a:lnTo>
                    <a:pt x="15" y="1294"/>
                  </a:lnTo>
                  <a:lnTo>
                    <a:pt x="15" y="1175"/>
                  </a:lnTo>
                  <a:lnTo>
                    <a:pt x="10" y="1175"/>
                  </a:lnTo>
                  <a:lnTo>
                    <a:pt x="10" y="1158"/>
                  </a:lnTo>
                  <a:lnTo>
                    <a:pt x="15" y="1158"/>
                  </a:lnTo>
                  <a:lnTo>
                    <a:pt x="15" y="963"/>
                  </a:lnTo>
                  <a:lnTo>
                    <a:pt x="10" y="963"/>
                  </a:lnTo>
                  <a:lnTo>
                    <a:pt x="10" y="862"/>
                  </a:lnTo>
                  <a:lnTo>
                    <a:pt x="6" y="862"/>
                  </a:lnTo>
                  <a:lnTo>
                    <a:pt x="6" y="802"/>
                  </a:lnTo>
                  <a:lnTo>
                    <a:pt x="10" y="802"/>
                  </a:lnTo>
                  <a:lnTo>
                    <a:pt x="10" y="792"/>
                  </a:lnTo>
                  <a:lnTo>
                    <a:pt x="6" y="792"/>
                  </a:lnTo>
                  <a:lnTo>
                    <a:pt x="6" y="691"/>
                  </a:lnTo>
                  <a:lnTo>
                    <a:pt x="0" y="691"/>
                  </a:lnTo>
                  <a:lnTo>
                    <a:pt x="0" y="680"/>
                  </a:lnTo>
                  <a:lnTo>
                    <a:pt x="6" y="680"/>
                  </a:lnTo>
                  <a:lnTo>
                    <a:pt x="6" y="667"/>
                  </a:lnTo>
                  <a:lnTo>
                    <a:pt x="0" y="667"/>
                  </a:lnTo>
                  <a:lnTo>
                    <a:pt x="0" y="656"/>
                  </a:lnTo>
                  <a:lnTo>
                    <a:pt x="6" y="656"/>
                  </a:lnTo>
                  <a:lnTo>
                    <a:pt x="6" y="615"/>
                  </a:lnTo>
                  <a:lnTo>
                    <a:pt x="0" y="615"/>
                  </a:lnTo>
                  <a:lnTo>
                    <a:pt x="0" y="561"/>
                  </a:lnTo>
                  <a:lnTo>
                    <a:pt x="6" y="561"/>
                  </a:lnTo>
                  <a:lnTo>
                    <a:pt x="6" y="549"/>
                  </a:lnTo>
                  <a:lnTo>
                    <a:pt x="0" y="549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2560" y="3735360"/>
              <a:ext cx="5040" cy="46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48320" y="2727360"/>
              <a:ext cx="1214640" cy="563400"/>
            </a:xfrm>
            <a:custGeom>
              <a:avLst/>
              <a:gdLst/>
              <a:ahLst/>
              <a:rect l="l" t="t" r="r" b="b"/>
              <a:pathLst>
                <a:path w="2295" h="1419">
                  <a:moveTo>
                    <a:pt x="0" y="1193"/>
                  </a:moveTo>
                  <a:lnTo>
                    <a:pt x="4" y="1193"/>
                  </a:lnTo>
                  <a:lnTo>
                    <a:pt x="4" y="1187"/>
                  </a:lnTo>
                  <a:lnTo>
                    <a:pt x="9" y="1187"/>
                  </a:lnTo>
                  <a:lnTo>
                    <a:pt x="9" y="1157"/>
                  </a:lnTo>
                  <a:lnTo>
                    <a:pt x="15" y="1157"/>
                  </a:lnTo>
                  <a:lnTo>
                    <a:pt x="15" y="1141"/>
                  </a:lnTo>
                  <a:lnTo>
                    <a:pt x="19" y="1141"/>
                  </a:lnTo>
                  <a:lnTo>
                    <a:pt x="19" y="1123"/>
                  </a:lnTo>
                  <a:lnTo>
                    <a:pt x="24" y="1123"/>
                  </a:lnTo>
                  <a:lnTo>
                    <a:pt x="24" y="1092"/>
                  </a:lnTo>
                  <a:lnTo>
                    <a:pt x="29" y="1092"/>
                  </a:lnTo>
                  <a:lnTo>
                    <a:pt x="29" y="1075"/>
                  </a:lnTo>
                  <a:lnTo>
                    <a:pt x="34" y="1075"/>
                  </a:lnTo>
                  <a:lnTo>
                    <a:pt x="34" y="1051"/>
                  </a:lnTo>
                  <a:lnTo>
                    <a:pt x="38" y="1051"/>
                  </a:lnTo>
                  <a:lnTo>
                    <a:pt x="38" y="1022"/>
                  </a:lnTo>
                  <a:lnTo>
                    <a:pt x="43" y="1022"/>
                  </a:lnTo>
                  <a:lnTo>
                    <a:pt x="43" y="987"/>
                  </a:lnTo>
                  <a:lnTo>
                    <a:pt x="48" y="987"/>
                  </a:lnTo>
                  <a:lnTo>
                    <a:pt x="48" y="964"/>
                  </a:lnTo>
                  <a:lnTo>
                    <a:pt x="52" y="964"/>
                  </a:lnTo>
                  <a:lnTo>
                    <a:pt x="52" y="946"/>
                  </a:lnTo>
                  <a:lnTo>
                    <a:pt x="57" y="946"/>
                  </a:lnTo>
                  <a:lnTo>
                    <a:pt x="57" y="898"/>
                  </a:lnTo>
                  <a:lnTo>
                    <a:pt x="62" y="898"/>
                  </a:lnTo>
                  <a:lnTo>
                    <a:pt x="62" y="880"/>
                  </a:lnTo>
                  <a:lnTo>
                    <a:pt x="66" y="880"/>
                  </a:lnTo>
                  <a:lnTo>
                    <a:pt x="66" y="839"/>
                  </a:lnTo>
                  <a:lnTo>
                    <a:pt x="71" y="839"/>
                  </a:lnTo>
                  <a:lnTo>
                    <a:pt x="71" y="803"/>
                  </a:lnTo>
                  <a:lnTo>
                    <a:pt x="76" y="803"/>
                  </a:lnTo>
                  <a:lnTo>
                    <a:pt x="76" y="757"/>
                  </a:lnTo>
                  <a:lnTo>
                    <a:pt x="81" y="757"/>
                  </a:lnTo>
                  <a:lnTo>
                    <a:pt x="81" y="727"/>
                  </a:lnTo>
                  <a:lnTo>
                    <a:pt x="85" y="727"/>
                  </a:lnTo>
                  <a:lnTo>
                    <a:pt x="85" y="692"/>
                  </a:lnTo>
                  <a:lnTo>
                    <a:pt x="91" y="692"/>
                  </a:lnTo>
                  <a:lnTo>
                    <a:pt x="91" y="673"/>
                  </a:lnTo>
                  <a:lnTo>
                    <a:pt x="96" y="673"/>
                  </a:lnTo>
                  <a:lnTo>
                    <a:pt x="96" y="643"/>
                  </a:lnTo>
                  <a:lnTo>
                    <a:pt x="101" y="643"/>
                  </a:lnTo>
                  <a:lnTo>
                    <a:pt x="101" y="619"/>
                  </a:lnTo>
                  <a:lnTo>
                    <a:pt x="105" y="619"/>
                  </a:lnTo>
                  <a:lnTo>
                    <a:pt x="105" y="592"/>
                  </a:lnTo>
                  <a:lnTo>
                    <a:pt x="110" y="592"/>
                  </a:lnTo>
                  <a:lnTo>
                    <a:pt x="110" y="567"/>
                  </a:lnTo>
                  <a:lnTo>
                    <a:pt x="115" y="567"/>
                  </a:lnTo>
                  <a:lnTo>
                    <a:pt x="115" y="532"/>
                  </a:lnTo>
                  <a:lnTo>
                    <a:pt x="119" y="532"/>
                  </a:lnTo>
                  <a:lnTo>
                    <a:pt x="119" y="515"/>
                  </a:lnTo>
                  <a:lnTo>
                    <a:pt x="125" y="515"/>
                  </a:lnTo>
                  <a:lnTo>
                    <a:pt x="125" y="485"/>
                  </a:lnTo>
                  <a:lnTo>
                    <a:pt x="129" y="485"/>
                  </a:lnTo>
                  <a:lnTo>
                    <a:pt x="129" y="437"/>
                  </a:lnTo>
                  <a:lnTo>
                    <a:pt x="134" y="437"/>
                  </a:lnTo>
                  <a:lnTo>
                    <a:pt x="134" y="413"/>
                  </a:lnTo>
                  <a:lnTo>
                    <a:pt x="139" y="413"/>
                  </a:lnTo>
                  <a:lnTo>
                    <a:pt x="139" y="378"/>
                  </a:lnTo>
                  <a:lnTo>
                    <a:pt x="144" y="378"/>
                  </a:lnTo>
                  <a:lnTo>
                    <a:pt x="144" y="360"/>
                  </a:lnTo>
                  <a:lnTo>
                    <a:pt x="148" y="360"/>
                  </a:lnTo>
                  <a:lnTo>
                    <a:pt x="148" y="319"/>
                  </a:lnTo>
                  <a:lnTo>
                    <a:pt x="152" y="319"/>
                  </a:lnTo>
                  <a:lnTo>
                    <a:pt x="152" y="284"/>
                  </a:lnTo>
                  <a:lnTo>
                    <a:pt x="159" y="284"/>
                  </a:lnTo>
                  <a:lnTo>
                    <a:pt x="159" y="247"/>
                  </a:lnTo>
                  <a:lnTo>
                    <a:pt x="163" y="247"/>
                  </a:lnTo>
                  <a:lnTo>
                    <a:pt x="163" y="224"/>
                  </a:lnTo>
                  <a:lnTo>
                    <a:pt x="168" y="224"/>
                  </a:lnTo>
                  <a:lnTo>
                    <a:pt x="168" y="189"/>
                  </a:lnTo>
                  <a:lnTo>
                    <a:pt x="173" y="189"/>
                  </a:lnTo>
                  <a:lnTo>
                    <a:pt x="173" y="171"/>
                  </a:lnTo>
                  <a:lnTo>
                    <a:pt x="178" y="171"/>
                  </a:lnTo>
                  <a:lnTo>
                    <a:pt x="178" y="148"/>
                  </a:lnTo>
                  <a:lnTo>
                    <a:pt x="182" y="148"/>
                  </a:lnTo>
                  <a:lnTo>
                    <a:pt x="182" y="129"/>
                  </a:lnTo>
                  <a:lnTo>
                    <a:pt x="187" y="129"/>
                  </a:lnTo>
                  <a:lnTo>
                    <a:pt x="187" y="111"/>
                  </a:lnTo>
                  <a:lnTo>
                    <a:pt x="192" y="111"/>
                  </a:lnTo>
                  <a:lnTo>
                    <a:pt x="192" y="88"/>
                  </a:lnTo>
                  <a:lnTo>
                    <a:pt x="196" y="88"/>
                  </a:lnTo>
                  <a:lnTo>
                    <a:pt x="196" y="70"/>
                  </a:lnTo>
                  <a:lnTo>
                    <a:pt x="201" y="70"/>
                  </a:lnTo>
                  <a:lnTo>
                    <a:pt x="201" y="47"/>
                  </a:lnTo>
                  <a:lnTo>
                    <a:pt x="206" y="47"/>
                  </a:lnTo>
                  <a:lnTo>
                    <a:pt x="206" y="18"/>
                  </a:lnTo>
                  <a:lnTo>
                    <a:pt x="211" y="18"/>
                  </a:lnTo>
                  <a:lnTo>
                    <a:pt x="211" y="12"/>
                  </a:lnTo>
                  <a:lnTo>
                    <a:pt x="215" y="12"/>
                  </a:lnTo>
                  <a:lnTo>
                    <a:pt x="215" y="5"/>
                  </a:lnTo>
                  <a:lnTo>
                    <a:pt x="225" y="5"/>
                  </a:lnTo>
                  <a:lnTo>
                    <a:pt x="225" y="0"/>
                  </a:lnTo>
                  <a:lnTo>
                    <a:pt x="249" y="0"/>
                  </a:lnTo>
                  <a:lnTo>
                    <a:pt x="249" y="12"/>
                  </a:lnTo>
                  <a:lnTo>
                    <a:pt x="255" y="12"/>
                  </a:lnTo>
                  <a:lnTo>
                    <a:pt x="255" y="18"/>
                  </a:lnTo>
                  <a:lnTo>
                    <a:pt x="259" y="18"/>
                  </a:lnTo>
                  <a:lnTo>
                    <a:pt x="259" y="24"/>
                  </a:lnTo>
                  <a:lnTo>
                    <a:pt x="264" y="24"/>
                  </a:lnTo>
                  <a:lnTo>
                    <a:pt x="264" y="59"/>
                  </a:lnTo>
                  <a:lnTo>
                    <a:pt x="259" y="59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94"/>
                  </a:lnTo>
                  <a:lnTo>
                    <a:pt x="249" y="94"/>
                  </a:lnTo>
                  <a:lnTo>
                    <a:pt x="249" y="111"/>
                  </a:lnTo>
                  <a:lnTo>
                    <a:pt x="245" y="111"/>
                  </a:lnTo>
                  <a:lnTo>
                    <a:pt x="245" y="129"/>
                  </a:lnTo>
                  <a:lnTo>
                    <a:pt x="240" y="129"/>
                  </a:lnTo>
                  <a:lnTo>
                    <a:pt x="240" y="148"/>
                  </a:lnTo>
                  <a:lnTo>
                    <a:pt x="236" y="148"/>
                  </a:lnTo>
                  <a:lnTo>
                    <a:pt x="236" y="153"/>
                  </a:lnTo>
                  <a:lnTo>
                    <a:pt x="229" y="153"/>
                  </a:lnTo>
                  <a:lnTo>
                    <a:pt x="229" y="165"/>
                  </a:lnTo>
                  <a:lnTo>
                    <a:pt x="225" y="165"/>
                  </a:lnTo>
                  <a:lnTo>
                    <a:pt x="225" y="183"/>
                  </a:lnTo>
                  <a:lnTo>
                    <a:pt x="221" y="183"/>
                  </a:lnTo>
                  <a:lnTo>
                    <a:pt x="221" y="211"/>
                  </a:lnTo>
                  <a:lnTo>
                    <a:pt x="215" y="211"/>
                  </a:lnTo>
                  <a:lnTo>
                    <a:pt x="215" y="241"/>
                  </a:lnTo>
                  <a:lnTo>
                    <a:pt x="211" y="241"/>
                  </a:lnTo>
                  <a:lnTo>
                    <a:pt x="211" y="271"/>
                  </a:lnTo>
                  <a:lnTo>
                    <a:pt x="206" y="271"/>
                  </a:lnTo>
                  <a:lnTo>
                    <a:pt x="206" y="306"/>
                  </a:lnTo>
                  <a:lnTo>
                    <a:pt x="201" y="306"/>
                  </a:lnTo>
                  <a:lnTo>
                    <a:pt x="201" y="325"/>
                  </a:lnTo>
                  <a:lnTo>
                    <a:pt x="196" y="325"/>
                  </a:lnTo>
                  <a:lnTo>
                    <a:pt x="196" y="355"/>
                  </a:lnTo>
                  <a:lnTo>
                    <a:pt x="192" y="355"/>
                  </a:lnTo>
                  <a:lnTo>
                    <a:pt x="192" y="390"/>
                  </a:lnTo>
                  <a:lnTo>
                    <a:pt x="187" y="390"/>
                  </a:lnTo>
                  <a:lnTo>
                    <a:pt x="187" y="407"/>
                  </a:lnTo>
                  <a:lnTo>
                    <a:pt x="182" y="407"/>
                  </a:lnTo>
                  <a:lnTo>
                    <a:pt x="182" y="448"/>
                  </a:lnTo>
                  <a:lnTo>
                    <a:pt x="178" y="448"/>
                  </a:lnTo>
                  <a:lnTo>
                    <a:pt x="178" y="502"/>
                  </a:lnTo>
                  <a:lnTo>
                    <a:pt x="173" y="502"/>
                  </a:lnTo>
                  <a:lnTo>
                    <a:pt x="173" y="561"/>
                  </a:lnTo>
                  <a:lnTo>
                    <a:pt x="168" y="561"/>
                  </a:lnTo>
                  <a:lnTo>
                    <a:pt x="168" y="584"/>
                  </a:lnTo>
                  <a:lnTo>
                    <a:pt x="163" y="584"/>
                  </a:lnTo>
                  <a:lnTo>
                    <a:pt x="163" y="597"/>
                  </a:lnTo>
                  <a:lnTo>
                    <a:pt x="159" y="597"/>
                  </a:lnTo>
                  <a:lnTo>
                    <a:pt x="159" y="651"/>
                  </a:lnTo>
                  <a:lnTo>
                    <a:pt x="152" y="651"/>
                  </a:lnTo>
                  <a:lnTo>
                    <a:pt x="152" y="668"/>
                  </a:lnTo>
                  <a:lnTo>
                    <a:pt x="148" y="668"/>
                  </a:lnTo>
                  <a:lnTo>
                    <a:pt x="148" y="692"/>
                  </a:lnTo>
                  <a:lnTo>
                    <a:pt x="144" y="692"/>
                  </a:lnTo>
                  <a:lnTo>
                    <a:pt x="144" y="727"/>
                  </a:lnTo>
                  <a:lnTo>
                    <a:pt x="139" y="727"/>
                  </a:lnTo>
                  <a:lnTo>
                    <a:pt x="139" y="768"/>
                  </a:lnTo>
                  <a:lnTo>
                    <a:pt x="134" y="768"/>
                  </a:lnTo>
                  <a:lnTo>
                    <a:pt x="134" y="798"/>
                  </a:lnTo>
                  <a:lnTo>
                    <a:pt x="129" y="798"/>
                  </a:lnTo>
                  <a:lnTo>
                    <a:pt x="129" y="803"/>
                  </a:lnTo>
                  <a:lnTo>
                    <a:pt x="125" y="803"/>
                  </a:lnTo>
                  <a:lnTo>
                    <a:pt x="125" y="856"/>
                  </a:lnTo>
                  <a:lnTo>
                    <a:pt x="119" y="856"/>
                  </a:lnTo>
                  <a:lnTo>
                    <a:pt x="119" y="893"/>
                  </a:lnTo>
                  <a:lnTo>
                    <a:pt x="115" y="893"/>
                  </a:lnTo>
                  <a:lnTo>
                    <a:pt x="115" y="910"/>
                  </a:lnTo>
                  <a:lnTo>
                    <a:pt x="110" y="910"/>
                  </a:lnTo>
                  <a:lnTo>
                    <a:pt x="110" y="957"/>
                  </a:lnTo>
                  <a:lnTo>
                    <a:pt x="105" y="957"/>
                  </a:lnTo>
                  <a:lnTo>
                    <a:pt x="105" y="975"/>
                  </a:lnTo>
                  <a:lnTo>
                    <a:pt x="101" y="975"/>
                  </a:lnTo>
                  <a:lnTo>
                    <a:pt x="101" y="992"/>
                  </a:lnTo>
                  <a:lnTo>
                    <a:pt x="96" y="992"/>
                  </a:lnTo>
                  <a:lnTo>
                    <a:pt x="96" y="1016"/>
                  </a:lnTo>
                  <a:lnTo>
                    <a:pt x="91" y="1016"/>
                  </a:lnTo>
                  <a:lnTo>
                    <a:pt x="91" y="1051"/>
                  </a:lnTo>
                  <a:lnTo>
                    <a:pt x="85" y="1051"/>
                  </a:lnTo>
                  <a:lnTo>
                    <a:pt x="85" y="1070"/>
                  </a:lnTo>
                  <a:lnTo>
                    <a:pt x="81" y="1070"/>
                  </a:lnTo>
                  <a:lnTo>
                    <a:pt x="81" y="1081"/>
                  </a:lnTo>
                  <a:lnTo>
                    <a:pt x="76" y="1081"/>
                  </a:lnTo>
                  <a:lnTo>
                    <a:pt x="76" y="1098"/>
                  </a:lnTo>
                  <a:lnTo>
                    <a:pt x="71" y="1098"/>
                  </a:lnTo>
                  <a:lnTo>
                    <a:pt x="71" y="1116"/>
                  </a:lnTo>
                  <a:lnTo>
                    <a:pt x="66" y="1116"/>
                  </a:lnTo>
                  <a:lnTo>
                    <a:pt x="66" y="1152"/>
                  </a:lnTo>
                  <a:lnTo>
                    <a:pt x="62" y="1152"/>
                  </a:lnTo>
                  <a:lnTo>
                    <a:pt x="62" y="1187"/>
                  </a:lnTo>
                  <a:lnTo>
                    <a:pt x="66" y="1187"/>
                  </a:lnTo>
                  <a:lnTo>
                    <a:pt x="66" y="1193"/>
                  </a:lnTo>
                  <a:lnTo>
                    <a:pt x="129" y="1193"/>
                  </a:lnTo>
                  <a:lnTo>
                    <a:pt x="129" y="1200"/>
                  </a:lnTo>
                  <a:lnTo>
                    <a:pt x="269" y="1200"/>
                  </a:lnTo>
                  <a:lnTo>
                    <a:pt x="269" y="1206"/>
                  </a:lnTo>
                  <a:lnTo>
                    <a:pt x="326" y="1206"/>
                  </a:lnTo>
                  <a:lnTo>
                    <a:pt x="326" y="1211"/>
                  </a:lnTo>
                  <a:lnTo>
                    <a:pt x="336" y="1211"/>
                  </a:lnTo>
                  <a:lnTo>
                    <a:pt x="336" y="1206"/>
                  </a:lnTo>
                  <a:lnTo>
                    <a:pt x="359" y="1206"/>
                  </a:lnTo>
                  <a:lnTo>
                    <a:pt x="359" y="1211"/>
                  </a:lnTo>
                  <a:lnTo>
                    <a:pt x="422" y="1211"/>
                  </a:lnTo>
                  <a:lnTo>
                    <a:pt x="422" y="1217"/>
                  </a:lnTo>
                  <a:lnTo>
                    <a:pt x="475" y="1217"/>
                  </a:lnTo>
                  <a:lnTo>
                    <a:pt x="475" y="1223"/>
                  </a:lnTo>
                  <a:lnTo>
                    <a:pt x="528" y="1223"/>
                  </a:lnTo>
                  <a:lnTo>
                    <a:pt x="528" y="1228"/>
                  </a:lnTo>
                  <a:lnTo>
                    <a:pt x="606" y="1228"/>
                  </a:lnTo>
                  <a:lnTo>
                    <a:pt x="606" y="1235"/>
                  </a:lnTo>
                  <a:lnTo>
                    <a:pt x="668" y="1235"/>
                  </a:lnTo>
                  <a:lnTo>
                    <a:pt x="668" y="1241"/>
                  </a:lnTo>
                  <a:lnTo>
                    <a:pt x="758" y="1241"/>
                  </a:lnTo>
                  <a:lnTo>
                    <a:pt x="758" y="1247"/>
                  </a:lnTo>
                  <a:lnTo>
                    <a:pt x="797" y="1247"/>
                  </a:lnTo>
                  <a:lnTo>
                    <a:pt x="797" y="1252"/>
                  </a:lnTo>
                  <a:lnTo>
                    <a:pt x="908" y="1252"/>
                  </a:lnTo>
                  <a:lnTo>
                    <a:pt x="908" y="1258"/>
                  </a:lnTo>
                  <a:lnTo>
                    <a:pt x="998" y="1258"/>
                  </a:lnTo>
                  <a:lnTo>
                    <a:pt x="998" y="1264"/>
                  </a:lnTo>
                  <a:lnTo>
                    <a:pt x="1052" y="1264"/>
                  </a:lnTo>
                  <a:lnTo>
                    <a:pt x="1052" y="1271"/>
                  </a:lnTo>
                  <a:lnTo>
                    <a:pt x="1109" y="1271"/>
                  </a:lnTo>
                  <a:lnTo>
                    <a:pt x="1109" y="1276"/>
                  </a:lnTo>
                  <a:lnTo>
                    <a:pt x="1161" y="1276"/>
                  </a:lnTo>
                  <a:lnTo>
                    <a:pt x="1161" y="1282"/>
                  </a:lnTo>
                  <a:lnTo>
                    <a:pt x="1205" y="1282"/>
                  </a:lnTo>
                  <a:lnTo>
                    <a:pt x="1205" y="1288"/>
                  </a:lnTo>
                  <a:lnTo>
                    <a:pt x="1263" y="1288"/>
                  </a:lnTo>
                  <a:lnTo>
                    <a:pt x="1263" y="1293"/>
                  </a:lnTo>
                  <a:lnTo>
                    <a:pt x="1296" y="1293"/>
                  </a:lnTo>
                  <a:lnTo>
                    <a:pt x="1296" y="1301"/>
                  </a:lnTo>
                  <a:lnTo>
                    <a:pt x="1340" y="1301"/>
                  </a:lnTo>
                  <a:lnTo>
                    <a:pt x="1340" y="1306"/>
                  </a:lnTo>
                  <a:lnTo>
                    <a:pt x="1398" y="1306"/>
                  </a:lnTo>
                  <a:lnTo>
                    <a:pt x="1398" y="1312"/>
                  </a:lnTo>
                  <a:lnTo>
                    <a:pt x="1537" y="1312"/>
                  </a:lnTo>
                  <a:lnTo>
                    <a:pt x="1537" y="1318"/>
                  </a:lnTo>
                  <a:lnTo>
                    <a:pt x="1642" y="1318"/>
                  </a:lnTo>
                  <a:lnTo>
                    <a:pt x="1642" y="1324"/>
                  </a:lnTo>
                  <a:lnTo>
                    <a:pt x="1671" y="1324"/>
                  </a:lnTo>
                  <a:lnTo>
                    <a:pt x="1671" y="1329"/>
                  </a:lnTo>
                  <a:lnTo>
                    <a:pt x="1681" y="1329"/>
                  </a:lnTo>
                  <a:lnTo>
                    <a:pt x="1681" y="1324"/>
                  </a:lnTo>
                  <a:lnTo>
                    <a:pt x="1696" y="1324"/>
                  </a:lnTo>
                  <a:lnTo>
                    <a:pt x="1696" y="1329"/>
                  </a:lnTo>
                  <a:lnTo>
                    <a:pt x="1738" y="1329"/>
                  </a:lnTo>
                  <a:lnTo>
                    <a:pt x="1738" y="1334"/>
                  </a:lnTo>
                  <a:lnTo>
                    <a:pt x="1777" y="1334"/>
                  </a:lnTo>
                  <a:lnTo>
                    <a:pt x="1777" y="1342"/>
                  </a:lnTo>
                  <a:lnTo>
                    <a:pt x="1902" y="1342"/>
                  </a:lnTo>
                  <a:lnTo>
                    <a:pt x="1902" y="1334"/>
                  </a:lnTo>
                  <a:lnTo>
                    <a:pt x="1926" y="1334"/>
                  </a:lnTo>
                  <a:lnTo>
                    <a:pt x="1926" y="1329"/>
                  </a:lnTo>
                  <a:lnTo>
                    <a:pt x="1930" y="1329"/>
                  </a:lnTo>
                  <a:lnTo>
                    <a:pt x="1930" y="1324"/>
                  </a:lnTo>
                  <a:lnTo>
                    <a:pt x="1944" y="1324"/>
                  </a:lnTo>
                  <a:lnTo>
                    <a:pt x="1944" y="1318"/>
                  </a:lnTo>
                  <a:lnTo>
                    <a:pt x="1959" y="1318"/>
                  </a:lnTo>
                  <a:lnTo>
                    <a:pt x="1959" y="1312"/>
                  </a:lnTo>
                  <a:lnTo>
                    <a:pt x="1970" y="1312"/>
                  </a:lnTo>
                  <a:lnTo>
                    <a:pt x="1970" y="1306"/>
                  </a:lnTo>
                  <a:lnTo>
                    <a:pt x="1984" y="1306"/>
                  </a:lnTo>
                  <a:lnTo>
                    <a:pt x="1984" y="1301"/>
                  </a:lnTo>
                  <a:lnTo>
                    <a:pt x="1998" y="1301"/>
                  </a:lnTo>
                  <a:lnTo>
                    <a:pt x="1998" y="1293"/>
                  </a:lnTo>
                  <a:lnTo>
                    <a:pt x="2007" y="1293"/>
                  </a:lnTo>
                  <a:lnTo>
                    <a:pt x="2007" y="1288"/>
                  </a:lnTo>
                  <a:lnTo>
                    <a:pt x="2012" y="1288"/>
                  </a:lnTo>
                  <a:lnTo>
                    <a:pt x="2012" y="1282"/>
                  </a:lnTo>
                  <a:lnTo>
                    <a:pt x="2026" y="1282"/>
                  </a:lnTo>
                  <a:lnTo>
                    <a:pt x="2026" y="1276"/>
                  </a:lnTo>
                  <a:lnTo>
                    <a:pt x="2031" y="1276"/>
                  </a:lnTo>
                  <a:lnTo>
                    <a:pt x="2031" y="1271"/>
                  </a:lnTo>
                  <a:lnTo>
                    <a:pt x="2036" y="1271"/>
                  </a:lnTo>
                  <a:lnTo>
                    <a:pt x="2036" y="1264"/>
                  </a:lnTo>
                  <a:lnTo>
                    <a:pt x="2047" y="1264"/>
                  </a:lnTo>
                  <a:lnTo>
                    <a:pt x="2047" y="1258"/>
                  </a:lnTo>
                  <a:lnTo>
                    <a:pt x="2056" y="1258"/>
                  </a:lnTo>
                  <a:lnTo>
                    <a:pt x="2056" y="1252"/>
                  </a:lnTo>
                  <a:lnTo>
                    <a:pt x="2065" y="1252"/>
                  </a:lnTo>
                  <a:lnTo>
                    <a:pt x="2065" y="1247"/>
                  </a:lnTo>
                  <a:lnTo>
                    <a:pt x="2074" y="1247"/>
                  </a:lnTo>
                  <a:lnTo>
                    <a:pt x="2074" y="1241"/>
                  </a:lnTo>
                  <a:lnTo>
                    <a:pt x="2080" y="1241"/>
                  </a:lnTo>
                  <a:lnTo>
                    <a:pt x="2080" y="1235"/>
                  </a:lnTo>
                  <a:lnTo>
                    <a:pt x="2084" y="1235"/>
                  </a:lnTo>
                  <a:lnTo>
                    <a:pt x="2084" y="1228"/>
                  </a:lnTo>
                  <a:lnTo>
                    <a:pt x="2089" y="1228"/>
                  </a:lnTo>
                  <a:lnTo>
                    <a:pt x="2089" y="1223"/>
                  </a:lnTo>
                  <a:lnTo>
                    <a:pt x="2094" y="1223"/>
                  </a:lnTo>
                  <a:lnTo>
                    <a:pt x="2094" y="1217"/>
                  </a:lnTo>
                  <a:lnTo>
                    <a:pt x="2098" y="1217"/>
                  </a:lnTo>
                  <a:lnTo>
                    <a:pt x="2098" y="1211"/>
                  </a:lnTo>
                  <a:lnTo>
                    <a:pt x="2108" y="1211"/>
                  </a:lnTo>
                  <a:lnTo>
                    <a:pt x="2108" y="1206"/>
                  </a:lnTo>
                  <a:lnTo>
                    <a:pt x="2112" y="1206"/>
                  </a:lnTo>
                  <a:lnTo>
                    <a:pt x="2112" y="1193"/>
                  </a:lnTo>
                  <a:lnTo>
                    <a:pt x="2123" y="1193"/>
                  </a:lnTo>
                  <a:lnTo>
                    <a:pt x="2123" y="1187"/>
                  </a:lnTo>
                  <a:lnTo>
                    <a:pt x="2128" y="1187"/>
                  </a:lnTo>
                  <a:lnTo>
                    <a:pt x="2128" y="1182"/>
                  </a:lnTo>
                  <a:lnTo>
                    <a:pt x="2132" y="1182"/>
                  </a:lnTo>
                  <a:lnTo>
                    <a:pt x="2132" y="1176"/>
                  </a:lnTo>
                  <a:lnTo>
                    <a:pt x="2137" y="1176"/>
                  </a:lnTo>
                  <a:lnTo>
                    <a:pt x="2137" y="1165"/>
                  </a:lnTo>
                  <a:lnTo>
                    <a:pt x="2142" y="1165"/>
                  </a:lnTo>
                  <a:lnTo>
                    <a:pt x="2142" y="1157"/>
                  </a:lnTo>
                  <a:lnTo>
                    <a:pt x="2147" y="1157"/>
                  </a:lnTo>
                  <a:lnTo>
                    <a:pt x="2147" y="1152"/>
                  </a:lnTo>
                  <a:lnTo>
                    <a:pt x="2151" y="1152"/>
                  </a:lnTo>
                  <a:lnTo>
                    <a:pt x="2151" y="1146"/>
                  </a:lnTo>
                  <a:lnTo>
                    <a:pt x="2156" y="1146"/>
                  </a:lnTo>
                  <a:lnTo>
                    <a:pt x="2156" y="1133"/>
                  </a:lnTo>
                  <a:lnTo>
                    <a:pt x="2161" y="1133"/>
                  </a:lnTo>
                  <a:lnTo>
                    <a:pt x="2161" y="1128"/>
                  </a:lnTo>
                  <a:lnTo>
                    <a:pt x="2165" y="1128"/>
                  </a:lnTo>
                  <a:lnTo>
                    <a:pt x="2165" y="1116"/>
                  </a:lnTo>
                  <a:lnTo>
                    <a:pt x="2170" y="1116"/>
                  </a:lnTo>
                  <a:lnTo>
                    <a:pt x="2170" y="1111"/>
                  </a:lnTo>
                  <a:lnTo>
                    <a:pt x="2175" y="1111"/>
                  </a:lnTo>
                  <a:lnTo>
                    <a:pt x="2175" y="1098"/>
                  </a:lnTo>
                  <a:lnTo>
                    <a:pt x="2180" y="1098"/>
                  </a:lnTo>
                  <a:lnTo>
                    <a:pt x="2180" y="1092"/>
                  </a:lnTo>
                  <a:lnTo>
                    <a:pt x="2184" y="1092"/>
                  </a:lnTo>
                  <a:lnTo>
                    <a:pt x="2184" y="1081"/>
                  </a:lnTo>
                  <a:lnTo>
                    <a:pt x="2191" y="1081"/>
                  </a:lnTo>
                  <a:lnTo>
                    <a:pt x="2191" y="1075"/>
                  </a:lnTo>
                  <a:lnTo>
                    <a:pt x="2195" y="1075"/>
                  </a:lnTo>
                  <a:lnTo>
                    <a:pt x="2195" y="1064"/>
                  </a:lnTo>
                  <a:lnTo>
                    <a:pt x="2199" y="1064"/>
                  </a:lnTo>
                  <a:lnTo>
                    <a:pt x="2199" y="1057"/>
                  </a:lnTo>
                  <a:lnTo>
                    <a:pt x="2205" y="1057"/>
                  </a:lnTo>
                  <a:lnTo>
                    <a:pt x="2205" y="1051"/>
                  </a:lnTo>
                  <a:lnTo>
                    <a:pt x="2209" y="1051"/>
                  </a:lnTo>
                  <a:lnTo>
                    <a:pt x="2209" y="1046"/>
                  </a:lnTo>
                  <a:lnTo>
                    <a:pt x="2214" y="1046"/>
                  </a:lnTo>
                  <a:lnTo>
                    <a:pt x="2214" y="1040"/>
                  </a:lnTo>
                  <a:lnTo>
                    <a:pt x="2218" y="1040"/>
                  </a:lnTo>
                  <a:lnTo>
                    <a:pt x="2218" y="1029"/>
                  </a:lnTo>
                  <a:lnTo>
                    <a:pt x="2224" y="1029"/>
                  </a:lnTo>
                  <a:lnTo>
                    <a:pt x="2224" y="1011"/>
                  </a:lnTo>
                  <a:lnTo>
                    <a:pt x="2228" y="1011"/>
                  </a:lnTo>
                  <a:lnTo>
                    <a:pt x="2228" y="992"/>
                  </a:lnTo>
                  <a:lnTo>
                    <a:pt x="2232" y="992"/>
                  </a:lnTo>
                  <a:lnTo>
                    <a:pt x="2232" y="980"/>
                  </a:lnTo>
                  <a:lnTo>
                    <a:pt x="2238" y="980"/>
                  </a:lnTo>
                  <a:lnTo>
                    <a:pt x="2238" y="969"/>
                  </a:lnTo>
                  <a:lnTo>
                    <a:pt x="2242" y="969"/>
                  </a:lnTo>
                  <a:lnTo>
                    <a:pt x="2242" y="951"/>
                  </a:lnTo>
                  <a:lnTo>
                    <a:pt x="2247" y="951"/>
                  </a:lnTo>
                  <a:lnTo>
                    <a:pt x="2247" y="928"/>
                  </a:lnTo>
                  <a:lnTo>
                    <a:pt x="2242" y="928"/>
                  </a:lnTo>
                  <a:lnTo>
                    <a:pt x="2242" y="915"/>
                  </a:lnTo>
                  <a:lnTo>
                    <a:pt x="2238" y="915"/>
                  </a:lnTo>
                  <a:lnTo>
                    <a:pt x="2238" y="898"/>
                  </a:lnTo>
                  <a:lnTo>
                    <a:pt x="2232" y="898"/>
                  </a:lnTo>
                  <a:lnTo>
                    <a:pt x="2232" y="886"/>
                  </a:lnTo>
                  <a:lnTo>
                    <a:pt x="2228" y="886"/>
                  </a:lnTo>
                  <a:lnTo>
                    <a:pt x="2228" y="874"/>
                  </a:lnTo>
                  <a:lnTo>
                    <a:pt x="2224" y="874"/>
                  </a:lnTo>
                  <a:lnTo>
                    <a:pt x="2224" y="869"/>
                  </a:lnTo>
                  <a:lnTo>
                    <a:pt x="2218" y="869"/>
                  </a:lnTo>
                  <a:lnTo>
                    <a:pt x="2218" y="861"/>
                  </a:lnTo>
                  <a:lnTo>
                    <a:pt x="2214" y="861"/>
                  </a:lnTo>
                  <a:lnTo>
                    <a:pt x="2214" y="845"/>
                  </a:lnTo>
                  <a:lnTo>
                    <a:pt x="2209" y="845"/>
                  </a:lnTo>
                  <a:lnTo>
                    <a:pt x="2209" y="839"/>
                  </a:lnTo>
                  <a:lnTo>
                    <a:pt x="2199" y="839"/>
                  </a:lnTo>
                  <a:lnTo>
                    <a:pt x="2199" y="833"/>
                  </a:lnTo>
                  <a:lnTo>
                    <a:pt x="2195" y="833"/>
                  </a:lnTo>
                  <a:lnTo>
                    <a:pt x="2195" y="828"/>
                  </a:lnTo>
                  <a:lnTo>
                    <a:pt x="2191" y="828"/>
                  </a:lnTo>
                  <a:lnTo>
                    <a:pt x="2191" y="820"/>
                  </a:lnTo>
                  <a:lnTo>
                    <a:pt x="2184" y="820"/>
                  </a:lnTo>
                  <a:lnTo>
                    <a:pt x="2184" y="815"/>
                  </a:lnTo>
                  <a:lnTo>
                    <a:pt x="2180" y="815"/>
                  </a:lnTo>
                  <a:lnTo>
                    <a:pt x="2180" y="810"/>
                  </a:lnTo>
                  <a:lnTo>
                    <a:pt x="2175" y="810"/>
                  </a:lnTo>
                  <a:lnTo>
                    <a:pt x="2175" y="803"/>
                  </a:lnTo>
                  <a:lnTo>
                    <a:pt x="2170" y="803"/>
                  </a:lnTo>
                  <a:lnTo>
                    <a:pt x="2170" y="798"/>
                  </a:lnTo>
                  <a:lnTo>
                    <a:pt x="2165" y="798"/>
                  </a:lnTo>
                  <a:lnTo>
                    <a:pt x="2165" y="792"/>
                  </a:lnTo>
                  <a:lnTo>
                    <a:pt x="2161" y="792"/>
                  </a:lnTo>
                  <a:lnTo>
                    <a:pt x="2161" y="787"/>
                  </a:lnTo>
                  <a:lnTo>
                    <a:pt x="2156" y="787"/>
                  </a:lnTo>
                  <a:lnTo>
                    <a:pt x="2156" y="779"/>
                  </a:lnTo>
                  <a:lnTo>
                    <a:pt x="2151" y="779"/>
                  </a:lnTo>
                  <a:lnTo>
                    <a:pt x="2151" y="774"/>
                  </a:lnTo>
                  <a:lnTo>
                    <a:pt x="2147" y="774"/>
                  </a:lnTo>
                  <a:lnTo>
                    <a:pt x="2147" y="768"/>
                  </a:lnTo>
                  <a:lnTo>
                    <a:pt x="2137" y="768"/>
                  </a:lnTo>
                  <a:lnTo>
                    <a:pt x="2137" y="762"/>
                  </a:lnTo>
                  <a:lnTo>
                    <a:pt x="2132" y="762"/>
                  </a:lnTo>
                  <a:lnTo>
                    <a:pt x="2132" y="757"/>
                  </a:lnTo>
                  <a:lnTo>
                    <a:pt x="2128" y="757"/>
                  </a:lnTo>
                  <a:lnTo>
                    <a:pt x="2128" y="750"/>
                  </a:lnTo>
                  <a:lnTo>
                    <a:pt x="2118" y="750"/>
                  </a:lnTo>
                  <a:lnTo>
                    <a:pt x="2118" y="744"/>
                  </a:lnTo>
                  <a:lnTo>
                    <a:pt x="2112" y="744"/>
                  </a:lnTo>
                  <a:lnTo>
                    <a:pt x="2112" y="738"/>
                  </a:lnTo>
                  <a:lnTo>
                    <a:pt x="2108" y="738"/>
                  </a:lnTo>
                  <a:lnTo>
                    <a:pt x="2108" y="733"/>
                  </a:lnTo>
                  <a:lnTo>
                    <a:pt x="2098" y="733"/>
                  </a:lnTo>
                  <a:lnTo>
                    <a:pt x="2098" y="727"/>
                  </a:lnTo>
                  <a:lnTo>
                    <a:pt x="2094" y="727"/>
                  </a:lnTo>
                  <a:lnTo>
                    <a:pt x="2094" y="720"/>
                  </a:lnTo>
                  <a:lnTo>
                    <a:pt x="2089" y="720"/>
                  </a:lnTo>
                  <a:lnTo>
                    <a:pt x="2089" y="714"/>
                  </a:lnTo>
                  <a:lnTo>
                    <a:pt x="2084" y="714"/>
                  </a:lnTo>
                  <a:lnTo>
                    <a:pt x="2084" y="709"/>
                  </a:lnTo>
                  <a:lnTo>
                    <a:pt x="2080" y="709"/>
                  </a:lnTo>
                  <a:lnTo>
                    <a:pt x="2080" y="703"/>
                  </a:lnTo>
                  <a:lnTo>
                    <a:pt x="2065" y="703"/>
                  </a:lnTo>
                  <a:lnTo>
                    <a:pt x="2065" y="697"/>
                  </a:lnTo>
                  <a:lnTo>
                    <a:pt x="2061" y="697"/>
                  </a:lnTo>
                  <a:lnTo>
                    <a:pt x="2061" y="684"/>
                  </a:lnTo>
                  <a:lnTo>
                    <a:pt x="2056" y="684"/>
                  </a:lnTo>
                  <a:lnTo>
                    <a:pt x="2056" y="679"/>
                  </a:lnTo>
                  <a:lnTo>
                    <a:pt x="2051" y="679"/>
                  </a:lnTo>
                  <a:lnTo>
                    <a:pt x="2051" y="673"/>
                  </a:lnTo>
                  <a:lnTo>
                    <a:pt x="2047" y="673"/>
                  </a:lnTo>
                  <a:lnTo>
                    <a:pt x="2047" y="668"/>
                  </a:lnTo>
                  <a:lnTo>
                    <a:pt x="2036" y="668"/>
                  </a:lnTo>
                  <a:lnTo>
                    <a:pt x="2036" y="660"/>
                  </a:lnTo>
                  <a:lnTo>
                    <a:pt x="2031" y="660"/>
                  </a:lnTo>
                  <a:lnTo>
                    <a:pt x="2031" y="651"/>
                  </a:lnTo>
                  <a:lnTo>
                    <a:pt x="2026" y="651"/>
                  </a:lnTo>
                  <a:lnTo>
                    <a:pt x="2026" y="643"/>
                  </a:lnTo>
                  <a:lnTo>
                    <a:pt x="2021" y="643"/>
                  </a:lnTo>
                  <a:lnTo>
                    <a:pt x="2021" y="638"/>
                  </a:lnTo>
                  <a:lnTo>
                    <a:pt x="2017" y="638"/>
                  </a:lnTo>
                  <a:lnTo>
                    <a:pt x="2017" y="632"/>
                  </a:lnTo>
                  <a:lnTo>
                    <a:pt x="2007" y="632"/>
                  </a:lnTo>
                  <a:lnTo>
                    <a:pt x="2007" y="626"/>
                  </a:lnTo>
                  <a:lnTo>
                    <a:pt x="2003" y="626"/>
                  </a:lnTo>
                  <a:lnTo>
                    <a:pt x="2003" y="619"/>
                  </a:lnTo>
                  <a:lnTo>
                    <a:pt x="1998" y="619"/>
                  </a:lnTo>
                  <a:lnTo>
                    <a:pt x="1998" y="614"/>
                  </a:lnTo>
                  <a:lnTo>
                    <a:pt x="1993" y="614"/>
                  </a:lnTo>
                  <a:lnTo>
                    <a:pt x="1993" y="608"/>
                  </a:lnTo>
                  <a:lnTo>
                    <a:pt x="1988" y="608"/>
                  </a:lnTo>
                  <a:lnTo>
                    <a:pt x="1988" y="602"/>
                  </a:lnTo>
                  <a:lnTo>
                    <a:pt x="1984" y="602"/>
                  </a:lnTo>
                  <a:lnTo>
                    <a:pt x="1984" y="597"/>
                  </a:lnTo>
                  <a:lnTo>
                    <a:pt x="1974" y="597"/>
                  </a:lnTo>
                  <a:lnTo>
                    <a:pt x="1974" y="592"/>
                  </a:lnTo>
                  <a:lnTo>
                    <a:pt x="1970" y="592"/>
                  </a:lnTo>
                  <a:lnTo>
                    <a:pt x="1970" y="584"/>
                  </a:lnTo>
                  <a:lnTo>
                    <a:pt x="1959" y="584"/>
                  </a:lnTo>
                  <a:lnTo>
                    <a:pt x="1959" y="579"/>
                  </a:lnTo>
                  <a:lnTo>
                    <a:pt x="1954" y="579"/>
                  </a:lnTo>
                  <a:lnTo>
                    <a:pt x="1954" y="573"/>
                  </a:lnTo>
                  <a:lnTo>
                    <a:pt x="1950" y="573"/>
                  </a:lnTo>
                  <a:lnTo>
                    <a:pt x="1950" y="561"/>
                  </a:lnTo>
                  <a:lnTo>
                    <a:pt x="1940" y="561"/>
                  </a:lnTo>
                  <a:lnTo>
                    <a:pt x="1940" y="556"/>
                  </a:lnTo>
                  <a:lnTo>
                    <a:pt x="1935" y="556"/>
                  </a:lnTo>
                  <a:lnTo>
                    <a:pt x="1935" y="549"/>
                  </a:lnTo>
                  <a:lnTo>
                    <a:pt x="1930" y="549"/>
                  </a:lnTo>
                  <a:lnTo>
                    <a:pt x="1930" y="543"/>
                  </a:lnTo>
                  <a:lnTo>
                    <a:pt x="1926" y="543"/>
                  </a:lnTo>
                  <a:lnTo>
                    <a:pt x="1926" y="538"/>
                  </a:lnTo>
                  <a:lnTo>
                    <a:pt x="1921" y="538"/>
                  </a:lnTo>
                  <a:lnTo>
                    <a:pt x="1921" y="532"/>
                  </a:lnTo>
                  <a:lnTo>
                    <a:pt x="1917" y="532"/>
                  </a:lnTo>
                  <a:lnTo>
                    <a:pt x="1917" y="526"/>
                  </a:lnTo>
                  <a:lnTo>
                    <a:pt x="1907" y="526"/>
                  </a:lnTo>
                  <a:lnTo>
                    <a:pt x="1907" y="519"/>
                  </a:lnTo>
                  <a:lnTo>
                    <a:pt x="1902" y="519"/>
                  </a:lnTo>
                  <a:lnTo>
                    <a:pt x="1902" y="515"/>
                  </a:lnTo>
                  <a:lnTo>
                    <a:pt x="1891" y="515"/>
                  </a:lnTo>
                  <a:lnTo>
                    <a:pt x="1891" y="507"/>
                  </a:lnTo>
                  <a:lnTo>
                    <a:pt x="1887" y="507"/>
                  </a:lnTo>
                  <a:lnTo>
                    <a:pt x="1887" y="502"/>
                  </a:lnTo>
                  <a:lnTo>
                    <a:pt x="1882" y="502"/>
                  </a:lnTo>
                  <a:lnTo>
                    <a:pt x="1882" y="496"/>
                  </a:lnTo>
                  <a:lnTo>
                    <a:pt x="1873" y="496"/>
                  </a:lnTo>
                  <a:lnTo>
                    <a:pt x="1873" y="491"/>
                  </a:lnTo>
                  <a:lnTo>
                    <a:pt x="1868" y="491"/>
                  </a:lnTo>
                  <a:lnTo>
                    <a:pt x="1868" y="485"/>
                  </a:lnTo>
                  <a:lnTo>
                    <a:pt x="1863" y="485"/>
                  </a:lnTo>
                  <a:lnTo>
                    <a:pt x="1863" y="478"/>
                  </a:lnTo>
                  <a:lnTo>
                    <a:pt x="1858" y="478"/>
                  </a:lnTo>
                  <a:lnTo>
                    <a:pt x="1858" y="473"/>
                  </a:lnTo>
                  <a:lnTo>
                    <a:pt x="1854" y="473"/>
                  </a:lnTo>
                  <a:lnTo>
                    <a:pt x="1854" y="466"/>
                  </a:lnTo>
                  <a:lnTo>
                    <a:pt x="1844" y="466"/>
                  </a:lnTo>
                  <a:lnTo>
                    <a:pt x="1844" y="461"/>
                  </a:lnTo>
                  <a:lnTo>
                    <a:pt x="1834" y="461"/>
                  </a:lnTo>
                  <a:lnTo>
                    <a:pt x="1834" y="455"/>
                  </a:lnTo>
                  <a:lnTo>
                    <a:pt x="1830" y="455"/>
                  </a:lnTo>
                  <a:lnTo>
                    <a:pt x="1830" y="448"/>
                  </a:lnTo>
                  <a:lnTo>
                    <a:pt x="1825" y="448"/>
                  </a:lnTo>
                  <a:lnTo>
                    <a:pt x="1825" y="443"/>
                  </a:lnTo>
                  <a:lnTo>
                    <a:pt x="1814" y="443"/>
                  </a:lnTo>
                  <a:lnTo>
                    <a:pt x="1814" y="437"/>
                  </a:lnTo>
                  <a:lnTo>
                    <a:pt x="1810" y="437"/>
                  </a:lnTo>
                  <a:lnTo>
                    <a:pt x="1810" y="431"/>
                  </a:lnTo>
                  <a:lnTo>
                    <a:pt x="1800" y="431"/>
                  </a:lnTo>
                  <a:lnTo>
                    <a:pt x="1800" y="425"/>
                  </a:lnTo>
                  <a:lnTo>
                    <a:pt x="1796" y="425"/>
                  </a:lnTo>
                  <a:lnTo>
                    <a:pt x="1796" y="420"/>
                  </a:lnTo>
                  <a:lnTo>
                    <a:pt x="1786" y="420"/>
                  </a:lnTo>
                  <a:lnTo>
                    <a:pt x="1786" y="413"/>
                  </a:lnTo>
                  <a:lnTo>
                    <a:pt x="1777" y="413"/>
                  </a:lnTo>
                  <a:lnTo>
                    <a:pt x="1777" y="407"/>
                  </a:lnTo>
                  <a:lnTo>
                    <a:pt x="1772" y="407"/>
                  </a:lnTo>
                  <a:lnTo>
                    <a:pt x="1772" y="401"/>
                  </a:lnTo>
                  <a:lnTo>
                    <a:pt x="1767" y="401"/>
                  </a:lnTo>
                  <a:lnTo>
                    <a:pt x="1767" y="396"/>
                  </a:lnTo>
                  <a:lnTo>
                    <a:pt x="1763" y="396"/>
                  </a:lnTo>
                  <a:lnTo>
                    <a:pt x="1763" y="390"/>
                  </a:lnTo>
                  <a:lnTo>
                    <a:pt x="1753" y="390"/>
                  </a:lnTo>
                  <a:lnTo>
                    <a:pt x="1753" y="383"/>
                  </a:lnTo>
                  <a:lnTo>
                    <a:pt x="1748" y="383"/>
                  </a:lnTo>
                  <a:lnTo>
                    <a:pt x="1748" y="378"/>
                  </a:lnTo>
                  <a:lnTo>
                    <a:pt x="1743" y="378"/>
                  </a:lnTo>
                  <a:lnTo>
                    <a:pt x="1743" y="372"/>
                  </a:lnTo>
                  <a:lnTo>
                    <a:pt x="1738" y="372"/>
                  </a:lnTo>
                  <a:lnTo>
                    <a:pt x="1738" y="366"/>
                  </a:lnTo>
                  <a:lnTo>
                    <a:pt x="1724" y="366"/>
                  </a:lnTo>
                  <a:lnTo>
                    <a:pt x="1724" y="360"/>
                  </a:lnTo>
                  <a:lnTo>
                    <a:pt x="1719" y="360"/>
                  </a:lnTo>
                  <a:lnTo>
                    <a:pt x="1719" y="355"/>
                  </a:lnTo>
                  <a:lnTo>
                    <a:pt x="1715" y="355"/>
                  </a:lnTo>
                  <a:lnTo>
                    <a:pt x="1715" y="347"/>
                  </a:lnTo>
                  <a:lnTo>
                    <a:pt x="1705" y="347"/>
                  </a:lnTo>
                  <a:lnTo>
                    <a:pt x="1705" y="342"/>
                  </a:lnTo>
                  <a:lnTo>
                    <a:pt x="1696" y="342"/>
                  </a:lnTo>
                  <a:lnTo>
                    <a:pt x="1696" y="337"/>
                  </a:lnTo>
                  <a:lnTo>
                    <a:pt x="1690" y="337"/>
                  </a:lnTo>
                  <a:lnTo>
                    <a:pt x="1690" y="330"/>
                  </a:lnTo>
                  <a:lnTo>
                    <a:pt x="1686" y="330"/>
                  </a:lnTo>
                  <a:lnTo>
                    <a:pt x="1686" y="325"/>
                  </a:lnTo>
                  <a:lnTo>
                    <a:pt x="1676" y="325"/>
                  </a:lnTo>
                  <a:lnTo>
                    <a:pt x="1676" y="319"/>
                  </a:lnTo>
                  <a:lnTo>
                    <a:pt x="1666" y="319"/>
                  </a:lnTo>
                  <a:lnTo>
                    <a:pt x="1666" y="314"/>
                  </a:lnTo>
                  <a:lnTo>
                    <a:pt x="1662" y="314"/>
                  </a:lnTo>
                  <a:lnTo>
                    <a:pt x="1662" y="306"/>
                  </a:lnTo>
                  <a:lnTo>
                    <a:pt x="1633" y="306"/>
                  </a:lnTo>
                  <a:lnTo>
                    <a:pt x="1633" y="301"/>
                  </a:lnTo>
                  <a:lnTo>
                    <a:pt x="1623" y="301"/>
                  </a:lnTo>
                  <a:lnTo>
                    <a:pt x="1623" y="295"/>
                  </a:lnTo>
                  <a:lnTo>
                    <a:pt x="1619" y="295"/>
                  </a:lnTo>
                  <a:lnTo>
                    <a:pt x="1619" y="289"/>
                  </a:lnTo>
                  <a:lnTo>
                    <a:pt x="1614" y="289"/>
                  </a:lnTo>
                  <a:lnTo>
                    <a:pt x="1614" y="277"/>
                  </a:lnTo>
                  <a:lnTo>
                    <a:pt x="1609" y="277"/>
                  </a:lnTo>
                  <a:lnTo>
                    <a:pt x="1609" y="260"/>
                  </a:lnTo>
                  <a:lnTo>
                    <a:pt x="1614" y="260"/>
                  </a:lnTo>
                  <a:lnTo>
                    <a:pt x="1614" y="254"/>
                  </a:lnTo>
                  <a:lnTo>
                    <a:pt x="1619" y="254"/>
                  </a:lnTo>
                  <a:lnTo>
                    <a:pt x="1619" y="236"/>
                  </a:lnTo>
                  <a:lnTo>
                    <a:pt x="1623" y="236"/>
                  </a:lnTo>
                  <a:lnTo>
                    <a:pt x="1623" y="230"/>
                  </a:lnTo>
                  <a:lnTo>
                    <a:pt x="1628" y="230"/>
                  </a:lnTo>
                  <a:lnTo>
                    <a:pt x="1628" y="224"/>
                  </a:lnTo>
                  <a:lnTo>
                    <a:pt x="1662" y="224"/>
                  </a:lnTo>
                  <a:lnTo>
                    <a:pt x="1662" y="230"/>
                  </a:lnTo>
                  <a:lnTo>
                    <a:pt x="1671" y="230"/>
                  </a:lnTo>
                  <a:lnTo>
                    <a:pt x="1671" y="236"/>
                  </a:lnTo>
                  <a:lnTo>
                    <a:pt x="1676" y="236"/>
                  </a:lnTo>
                  <a:lnTo>
                    <a:pt x="1676" y="241"/>
                  </a:lnTo>
                  <a:lnTo>
                    <a:pt x="1686" y="241"/>
                  </a:lnTo>
                  <a:lnTo>
                    <a:pt x="1686" y="247"/>
                  </a:lnTo>
                  <a:lnTo>
                    <a:pt x="1696" y="247"/>
                  </a:lnTo>
                  <a:lnTo>
                    <a:pt x="1696" y="254"/>
                  </a:lnTo>
                  <a:lnTo>
                    <a:pt x="1705" y="254"/>
                  </a:lnTo>
                  <a:lnTo>
                    <a:pt x="1705" y="260"/>
                  </a:lnTo>
                  <a:lnTo>
                    <a:pt x="1719" y="260"/>
                  </a:lnTo>
                  <a:lnTo>
                    <a:pt x="1719" y="265"/>
                  </a:lnTo>
                  <a:lnTo>
                    <a:pt x="1724" y="265"/>
                  </a:lnTo>
                  <a:lnTo>
                    <a:pt x="1724" y="271"/>
                  </a:lnTo>
                  <a:lnTo>
                    <a:pt x="1729" y="271"/>
                  </a:lnTo>
                  <a:lnTo>
                    <a:pt x="1729" y="277"/>
                  </a:lnTo>
                  <a:lnTo>
                    <a:pt x="1733" y="277"/>
                  </a:lnTo>
                  <a:lnTo>
                    <a:pt x="1733" y="284"/>
                  </a:lnTo>
                  <a:lnTo>
                    <a:pt x="1738" y="284"/>
                  </a:lnTo>
                  <a:lnTo>
                    <a:pt x="1738" y="289"/>
                  </a:lnTo>
                  <a:lnTo>
                    <a:pt x="1743" y="289"/>
                  </a:lnTo>
                  <a:lnTo>
                    <a:pt x="1743" y="295"/>
                  </a:lnTo>
                  <a:lnTo>
                    <a:pt x="1748" y="295"/>
                  </a:lnTo>
                  <a:lnTo>
                    <a:pt x="1748" y="301"/>
                  </a:lnTo>
                  <a:lnTo>
                    <a:pt x="1753" y="301"/>
                  </a:lnTo>
                  <a:lnTo>
                    <a:pt x="1753" y="314"/>
                  </a:lnTo>
                  <a:lnTo>
                    <a:pt x="1758" y="314"/>
                  </a:lnTo>
                  <a:lnTo>
                    <a:pt x="1758" y="319"/>
                  </a:lnTo>
                  <a:lnTo>
                    <a:pt x="1763" y="319"/>
                  </a:lnTo>
                  <a:lnTo>
                    <a:pt x="1763" y="325"/>
                  </a:lnTo>
                  <a:lnTo>
                    <a:pt x="1772" y="325"/>
                  </a:lnTo>
                  <a:lnTo>
                    <a:pt x="1772" y="330"/>
                  </a:lnTo>
                  <a:lnTo>
                    <a:pt x="1781" y="330"/>
                  </a:lnTo>
                  <a:lnTo>
                    <a:pt x="1781" y="337"/>
                  </a:lnTo>
                  <a:lnTo>
                    <a:pt x="1786" y="337"/>
                  </a:lnTo>
                  <a:lnTo>
                    <a:pt x="1786" y="342"/>
                  </a:lnTo>
                  <a:lnTo>
                    <a:pt x="1796" y="342"/>
                  </a:lnTo>
                  <a:lnTo>
                    <a:pt x="1796" y="347"/>
                  </a:lnTo>
                  <a:lnTo>
                    <a:pt x="1800" y="347"/>
                  </a:lnTo>
                  <a:lnTo>
                    <a:pt x="1800" y="355"/>
                  </a:lnTo>
                  <a:lnTo>
                    <a:pt x="1810" y="355"/>
                  </a:lnTo>
                  <a:lnTo>
                    <a:pt x="1810" y="360"/>
                  </a:lnTo>
                  <a:lnTo>
                    <a:pt x="1814" y="360"/>
                  </a:lnTo>
                  <a:lnTo>
                    <a:pt x="1814" y="366"/>
                  </a:lnTo>
                  <a:lnTo>
                    <a:pt x="1825" y="366"/>
                  </a:lnTo>
                  <a:lnTo>
                    <a:pt x="1825" y="372"/>
                  </a:lnTo>
                  <a:lnTo>
                    <a:pt x="1834" y="372"/>
                  </a:lnTo>
                  <a:lnTo>
                    <a:pt x="1834" y="378"/>
                  </a:lnTo>
                  <a:lnTo>
                    <a:pt x="1849" y="378"/>
                  </a:lnTo>
                  <a:lnTo>
                    <a:pt x="1849" y="390"/>
                  </a:lnTo>
                  <a:lnTo>
                    <a:pt x="1854" y="390"/>
                  </a:lnTo>
                  <a:lnTo>
                    <a:pt x="1854" y="401"/>
                  </a:lnTo>
                  <a:lnTo>
                    <a:pt x="1858" y="401"/>
                  </a:lnTo>
                  <a:lnTo>
                    <a:pt x="1858" y="407"/>
                  </a:lnTo>
                  <a:lnTo>
                    <a:pt x="1873" y="407"/>
                  </a:lnTo>
                  <a:lnTo>
                    <a:pt x="1873" y="413"/>
                  </a:lnTo>
                  <a:lnTo>
                    <a:pt x="1877" y="413"/>
                  </a:lnTo>
                  <a:lnTo>
                    <a:pt x="1877" y="420"/>
                  </a:lnTo>
                  <a:lnTo>
                    <a:pt x="1887" y="420"/>
                  </a:lnTo>
                  <a:lnTo>
                    <a:pt x="1887" y="425"/>
                  </a:lnTo>
                  <a:lnTo>
                    <a:pt x="1891" y="425"/>
                  </a:lnTo>
                  <a:lnTo>
                    <a:pt x="1891" y="431"/>
                  </a:lnTo>
                  <a:lnTo>
                    <a:pt x="1896" y="431"/>
                  </a:lnTo>
                  <a:lnTo>
                    <a:pt x="1896" y="437"/>
                  </a:lnTo>
                  <a:lnTo>
                    <a:pt x="1907" y="437"/>
                  </a:lnTo>
                  <a:lnTo>
                    <a:pt x="1907" y="443"/>
                  </a:lnTo>
                  <a:lnTo>
                    <a:pt x="1911" y="443"/>
                  </a:lnTo>
                  <a:lnTo>
                    <a:pt x="1911" y="448"/>
                  </a:lnTo>
                  <a:lnTo>
                    <a:pt x="1917" y="448"/>
                  </a:lnTo>
                  <a:lnTo>
                    <a:pt x="1917" y="455"/>
                  </a:lnTo>
                  <a:lnTo>
                    <a:pt x="1921" y="455"/>
                  </a:lnTo>
                  <a:lnTo>
                    <a:pt x="1921" y="461"/>
                  </a:lnTo>
                  <a:lnTo>
                    <a:pt x="1926" y="461"/>
                  </a:lnTo>
                  <a:lnTo>
                    <a:pt x="1926" y="466"/>
                  </a:lnTo>
                  <a:lnTo>
                    <a:pt x="1930" y="466"/>
                  </a:lnTo>
                  <a:lnTo>
                    <a:pt x="1930" y="473"/>
                  </a:lnTo>
                  <a:lnTo>
                    <a:pt x="1940" y="473"/>
                  </a:lnTo>
                  <a:lnTo>
                    <a:pt x="1940" y="478"/>
                  </a:lnTo>
                  <a:lnTo>
                    <a:pt x="1950" y="478"/>
                  </a:lnTo>
                  <a:lnTo>
                    <a:pt x="1950" y="485"/>
                  </a:lnTo>
                  <a:lnTo>
                    <a:pt x="1954" y="485"/>
                  </a:lnTo>
                  <a:lnTo>
                    <a:pt x="1954" y="491"/>
                  </a:lnTo>
                  <a:lnTo>
                    <a:pt x="1964" y="491"/>
                  </a:lnTo>
                  <a:lnTo>
                    <a:pt x="1964" y="496"/>
                  </a:lnTo>
                  <a:lnTo>
                    <a:pt x="1970" y="496"/>
                  </a:lnTo>
                  <a:lnTo>
                    <a:pt x="1970" y="502"/>
                  </a:lnTo>
                  <a:lnTo>
                    <a:pt x="1974" y="502"/>
                  </a:lnTo>
                  <a:lnTo>
                    <a:pt x="1974" y="507"/>
                  </a:lnTo>
                  <a:lnTo>
                    <a:pt x="1979" y="507"/>
                  </a:lnTo>
                  <a:lnTo>
                    <a:pt x="1979" y="515"/>
                  </a:lnTo>
                  <a:lnTo>
                    <a:pt x="1984" y="515"/>
                  </a:lnTo>
                  <a:lnTo>
                    <a:pt x="1984" y="519"/>
                  </a:lnTo>
                  <a:lnTo>
                    <a:pt x="1988" y="519"/>
                  </a:lnTo>
                  <a:lnTo>
                    <a:pt x="1988" y="526"/>
                  </a:lnTo>
                  <a:lnTo>
                    <a:pt x="1993" y="526"/>
                  </a:lnTo>
                  <a:lnTo>
                    <a:pt x="1993" y="532"/>
                  </a:lnTo>
                  <a:lnTo>
                    <a:pt x="1998" y="532"/>
                  </a:lnTo>
                  <a:lnTo>
                    <a:pt x="1998" y="538"/>
                  </a:lnTo>
                  <a:lnTo>
                    <a:pt x="2003" y="538"/>
                  </a:lnTo>
                  <a:lnTo>
                    <a:pt x="2003" y="543"/>
                  </a:lnTo>
                  <a:lnTo>
                    <a:pt x="2007" y="543"/>
                  </a:lnTo>
                  <a:lnTo>
                    <a:pt x="2007" y="549"/>
                  </a:lnTo>
                  <a:lnTo>
                    <a:pt x="2012" y="549"/>
                  </a:lnTo>
                  <a:lnTo>
                    <a:pt x="2012" y="556"/>
                  </a:lnTo>
                  <a:lnTo>
                    <a:pt x="2017" y="556"/>
                  </a:lnTo>
                  <a:lnTo>
                    <a:pt x="2017" y="561"/>
                  </a:lnTo>
                  <a:lnTo>
                    <a:pt x="2021" y="561"/>
                  </a:lnTo>
                  <a:lnTo>
                    <a:pt x="2021" y="567"/>
                  </a:lnTo>
                  <a:lnTo>
                    <a:pt x="2026" y="567"/>
                  </a:lnTo>
                  <a:lnTo>
                    <a:pt x="2026" y="573"/>
                  </a:lnTo>
                  <a:lnTo>
                    <a:pt x="2036" y="573"/>
                  </a:lnTo>
                  <a:lnTo>
                    <a:pt x="2036" y="579"/>
                  </a:lnTo>
                  <a:lnTo>
                    <a:pt x="2040" y="579"/>
                  </a:lnTo>
                  <a:lnTo>
                    <a:pt x="2040" y="584"/>
                  </a:lnTo>
                  <a:lnTo>
                    <a:pt x="2051" y="584"/>
                  </a:lnTo>
                  <a:lnTo>
                    <a:pt x="2051" y="592"/>
                  </a:lnTo>
                  <a:lnTo>
                    <a:pt x="2056" y="592"/>
                  </a:lnTo>
                  <a:lnTo>
                    <a:pt x="2056" y="602"/>
                  </a:lnTo>
                  <a:lnTo>
                    <a:pt x="2061" y="602"/>
                  </a:lnTo>
                  <a:lnTo>
                    <a:pt x="2061" y="608"/>
                  </a:lnTo>
                  <a:lnTo>
                    <a:pt x="2070" y="608"/>
                  </a:lnTo>
                  <a:lnTo>
                    <a:pt x="2070" y="614"/>
                  </a:lnTo>
                  <a:lnTo>
                    <a:pt x="2074" y="614"/>
                  </a:lnTo>
                  <a:lnTo>
                    <a:pt x="2074" y="619"/>
                  </a:lnTo>
                  <a:lnTo>
                    <a:pt x="2080" y="619"/>
                  </a:lnTo>
                  <a:lnTo>
                    <a:pt x="2080" y="626"/>
                  </a:lnTo>
                  <a:lnTo>
                    <a:pt x="2084" y="626"/>
                  </a:lnTo>
                  <a:lnTo>
                    <a:pt x="2084" y="632"/>
                  </a:lnTo>
                  <a:lnTo>
                    <a:pt x="2094" y="632"/>
                  </a:lnTo>
                  <a:lnTo>
                    <a:pt x="2094" y="643"/>
                  </a:lnTo>
                  <a:lnTo>
                    <a:pt x="2098" y="643"/>
                  </a:lnTo>
                  <a:lnTo>
                    <a:pt x="2098" y="651"/>
                  </a:lnTo>
                  <a:lnTo>
                    <a:pt x="2103" y="651"/>
                  </a:lnTo>
                  <a:lnTo>
                    <a:pt x="2103" y="656"/>
                  </a:lnTo>
                  <a:lnTo>
                    <a:pt x="2108" y="656"/>
                  </a:lnTo>
                  <a:lnTo>
                    <a:pt x="2108" y="660"/>
                  </a:lnTo>
                  <a:lnTo>
                    <a:pt x="2118" y="660"/>
                  </a:lnTo>
                  <a:lnTo>
                    <a:pt x="2118" y="668"/>
                  </a:lnTo>
                  <a:lnTo>
                    <a:pt x="2123" y="668"/>
                  </a:lnTo>
                  <a:lnTo>
                    <a:pt x="2123" y="673"/>
                  </a:lnTo>
                  <a:lnTo>
                    <a:pt x="2132" y="673"/>
                  </a:lnTo>
                  <a:lnTo>
                    <a:pt x="2132" y="679"/>
                  </a:lnTo>
                  <a:lnTo>
                    <a:pt x="2137" y="679"/>
                  </a:lnTo>
                  <a:lnTo>
                    <a:pt x="2137" y="684"/>
                  </a:lnTo>
                  <a:lnTo>
                    <a:pt x="2147" y="684"/>
                  </a:lnTo>
                  <a:lnTo>
                    <a:pt x="2147" y="692"/>
                  </a:lnTo>
                  <a:lnTo>
                    <a:pt x="2151" y="692"/>
                  </a:lnTo>
                  <a:lnTo>
                    <a:pt x="2151" y="697"/>
                  </a:lnTo>
                  <a:lnTo>
                    <a:pt x="2156" y="697"/>
                  </a:lnTo>
                  <a:lnTo>
                    <a:pt x="2156" y="709"/>
                  </a:lnTo>
                  <a:lnTo>
                    <a:pt x="2161" y="709"/>
                  </a:lnTo>
                  <a:lnTo>
                    <a:pt x="2161" y="714"/>
                  </a:lnTo>
                  <a:lnTo>
                    <a:pt x="2165" y="714"/>
                  </a:lnTo>
                  <a:lnTo>
                    <a:pt x="2165" y="720"/>
                  </a:lnTo>
                  <a:lnTo>
                    <a:pt x="2175" y="720"/>
                  </a:lnTo>
                  <a:lnTo>
                    <a:pt x="2175" y="727"/>
                  </a:lnTo>
                  <a:lnTo>
                    <a:pt x="2180" y="727"/>
                  </a:lnTo>
                  <a:lnTo>
                    <a:pt x="2180" y="733"/>
                  </a:lnTo>
                  <a:lnTo>
                    <a:pt x="2191" y="733"/>
                  </a:lnTo>
                  <a:lnTo>
                    <a:pt x="2191" y="738"/>
                  </a:lnTo>
                  <a:lnTo>
                    <a:pt x="2195" y="738"/>
                  </a:lnTo>
                  <a:lnTo>
                    <a:pt x="2195" y="744"/>
                  </a:lnTo>
                  <a:lnTo>
                    <a:pt x="2205" y="744"/>
                  </a:lnTo>
                  <a:lnTo>
                    <a:pt x="2205" y="757"/>
                  </a:lnTo>
                  <a:lnTo>
                    <a:pt x="2209" y="757"/>
                  </a:lnTo>
                  <a:lnTo>
                    <a:pt x="2209" y="762"/>
                  </a:lnTo>
                  <a:lnTo>
                    <a:pt x="2214" y="762"/>
                  </a:lnTo>
                  <a:lnTo>
                    <a:pt x="2214" y="768"/>
                  </a:lnTo>
                  <a:lnTo>
                    <a:pt x="2218" y="768"/>
                  </a:lnTo>
                  <a:lnTo>
                    <a:pt x="2218" y="779"/>
                  </a:lnTo>
                  <a:lnTo>
                    <a:pt x="2224" y="779"/>
                  </a:lnTo>
                  <a:lnTo>
                    <a:pt x="2224" y="787"/>
                  </a:lnTo>
                  <a:lnTo>
                    <a:pt x="2232" y="787"/>
                  </a:lnTo>
                  <a:lnTo>
                    <a:pt x="2232" y="792"/>
                  </a:lnTo>
                  <a:lnTo>
                    <a:pt x="2238" y="792"/>
                  </a:lnTo>
                  <a:lnTo>
                    <a:pt x="2238" y="798"/>
                  </a:lnTo>
                  <a:lnTo>
                    <a:pt x="2242" y="798"/>
                  </a:lnTo>
                  <a:lnTo>
                    <a:pt x="2242" y="803"/>
                  </a:lnTo>
                  <a:lnTo>
                    <a:pt x="2247" y="803"/>
                  </a:lnTo>
                  <a:lnTo>
                    <a:pt x="2247" y="815"/>
                  </a:lnTo>
                  <a:lnTo>
                    <a:pt x="2252" y="815"/>
                  </a:lnTo>
                  <a:lnTo>
                    <a:pt x="2252" y="820"/>
                  </a:lnTo>
                  <a:lnTo>
                    <a:pt x="2257" y="820"/>
                  </a:lnTo>
                  <a:lnTo>
                    <a:pt x="2257" y="833"/>
                  </a:lnTo>
                  <a:lnTo>
                    <a:pt x="2262" y="833"/>
                  </a:lnTo>
                  <a:lnTo>
                    <a:pt x="2262" y="839"/>
                  </a:lnTo>
                  <a:lnTo>
                    <a:pt x="2267" y="839"/>
                  </a:lnTo>
                  <a:lnTo>
                    <a:pt x="2267" y="851"/>
                  </a:lnTo>
                  <a:lnTo>
                    <a:pt x="2272" y="851"/>
                  </a:lnTo>
                  <a:lnTo>
                    <a:pt x="2272" y="856"/>
                  </a:lnTo>
                  <a:lnTo>
                    <a:pt x="2276" y="856"/>
                  </a:lnTo>
                  <a:lnTo>
                    <a:pt x="2276" y="874"/>
                  </a:lnTo>
                  <a:lnTo>
                    <a:pt x="2281" y="874"/>
                  </a:lnTo>
                  <a:lnTo>
                    <a:pt x="2281" y="893"/>
                  </a:lnTo>
                  <a:lnTo>
                    <a:pt x="2286" y="893"/>
                  </a:lnTo>
                  <a:lnTo>
                    <a:pt x="2286" y="910"/>
                  </a:lnTo>
                  <a:lnTo>
                    <a:pt x="2291" y="910"/>
                  </a:lnTo>
                  <a:lnTo>
                    <a:pt x="2291" y="946"/>
                  </a:lnTo>
                  <a:lnTo>
                    <a:pt x="2295" y="946"/>
                  </a:lnTo>
                  <a:lnTo>
                    <a:pt x="2295" y="975"/>
                  </a:lnTo>
                  <a:lnTo>
                    <a:pt x="2291" y="975"/>
                  </a:lnTo>
                  <a:lnTo>
                    <a:pt x="2291" y="987"/>
                  </a:lnTo>
                  <a:lnTo>
                    <a:pt x="2286" y="987"/>
                  </a:lnTo>
                  <a:lnTo>
                    <a:pt x="2286" y="999"/>
                  </a:lnTo>
                  <a:lnTo>
                    <a:pt x="2281" y="999"/>
                  </a:lnTo>
                  <a:lnTo>
                    <a:pt x="2281" y="1005"/>
                  </a:lnTo>
                  <a:lnTo>
                    <a:pt x="2276" y="1005"/>
                  </a:lnTo>
                  <a:lnTo>
                    <a:pt x="2276" y="1016"/>
                  </a:lnTo>
                  <a:lnTo>
                    <a:pt x="2272" y="1016"/>
                  </a:lnTo>
                  <a:lnTo>
                    <a:pt x="2272" y="1022"/>
                  </a:lnTo>
                  <a:lnTo>
                    <a:pt x="2267" y="1022"/>
                  </a:lnTo>
                  <a:lnTo>
                    <a:pt x="2267" y="1046"/>
                  </a:lnTo>
                  <a:lnTo>
                    <a:pt x="2262" y="1046"/>
                  </a:lnTo>
                  <a:lnTo>
                    <a:pt x="2262" y="1051"/>
                  </a:lnTo>
                  <a:lnTo>
                    <a:pt x="2257" y="1051"/>
                  </a:lnTo>
                  <a:lnTo>
                    <a:pt x="2257" y="1064"/>
                  </a:lnTo>
                  <a:lnTo>
                    <a:pt x="2252" y="1064"/>
                  </a:lnTo>
                  <a:lnTo>
                    <a:pt x="2252" y="1070"/>
                  </a:lnTo>
                  <a:lnTo>
                    <a:pt x="2247" y="1070"/>
                  </a:lnTo>
                  <a:lnTo>
                    <a:pt x="2247" y="1081"/>
                  </a:lnTo>
                  <a:lnTo>
                    <a:pt x="2242" y="1081"/>
                  </a:lnTo>
                  <a:lnTo>
                    <a:pt x="2242" y="1087"/>
                  </a:lnTo>
                  <a:lnTo>
                    <a:pt x="2238" y="1087"/>
                  </a:lnTo>
                  <a:lnTo>
                    <a:pt x="2238" y="1098"/>
                  </a:lnTo>
                  <a:lnTo>
                    <a:pt x="2232" y="1098"/>
                  </a:lnTo>
                  <a:lnTo>
                    <a:pt x="2232" y="1105"/>
                  </a:lnTo>
                  <a:lnTo>
                    <a:pt x="2228" y="1105"/>
                  </a:lnTo>
                  <a:lnTo>
                    <a:pt x="2228" y="1111"/>
                  </a:lnTo>
                  <a:lnTo>
                    <a:pt x="2224" y="1111"/>
                  </a:lnTo>
                  <a:lnTo>
                    <a:pt x="2224" y="1123"/>
                  </a:lnTo>
                  <a:lnTo>
                    <a:pt x="2218" y="1123"/>
                  </a:lnTo>
                  <a:lnTo>
                    <a:pt x="2218" y="1128"/>
                  </a:lnTo>
                  <a:lnTo>
                    <a:pt x="2214" y="1128"/>
                  </a:lnTo>
                  <a:lnTo>
                    <a:pt x="2214" y="1133"/>
                  </a:lnTo>
                  <a:lnTo>
                    <a:pt x="2209" y="1133"/>
                  </a:lnTo>
                  <a:lnTo>
                    <a:pt x="2209" y="1141"/>
                  </a:lnTo>
                  <a:lnTo>
                    <a:pt x="2205" y="1141"/>
                  </a:lnTo>
                  <a:lnTo>
                    <a:pt x="2205" y="1146"/>
                  </a:lnTo>
                  <a:lnTo>
                    <a:pt x="2199" y="1146"/>
                  </a:lnTo>
                  <a:lnTo>
                    <a:pt x="2199" y="1157"/>
                  </a:lnTo>
                  <a:lnTo>
                    <a:pt x="2195" y="1157"/>
                  </a:lnTo>
                  <a:lnTo>
                    <a:pt x="2195" y="1165"/>
                  </a:lnTo>
                  <a:lnTo>
                    <a:pt x="2191" y="1165"/>
                  </a:lnTo>
                  <a:lnTo>
                    <a:pt x="2191" y="1176"/>
                  </a:lnTo>
                  <a:lnTo>
                    <a:pt x="2184" y="1176"/>
                  </a:lnTo>
                  <a:lnTo>
                    <a:pt x="2184" y="1182"/>
                  </a:lnTo>
                  <a:lnTo>
                    <a:pt x="2180" y="1182"/>
                  </a:lnTo>
                  <a:lnTo>
                    <a:pt x="2180" y="1187"/>
                  </a:lnTo>
                  <a:lnTo>
                    <a:pt x="2175" y="1187"/>
                  </a:lnTo>
                  <a:lnTo>
                    <a:pt x="2175" y="1193"/>
                  </a:lnTo>
                  <a:lnTo>
                    <a:pt x="2170" y="1193"/>
                  </a:lnTo>
                  <a:lnTo>
                    <a:pt x="2170" y="1206"/>
                  </a:lnTo>
                  <a:lnTo>
                    <a:pt x="2165" y="1206"/>
                  </a:lnTo>
                  <a:lnTo>
                    <a:pt x="2165" y="1211"/>
                  </a:lnTo>
                  <a:lnTo>
                    <a:pt x="2161" y="1211"/>
                  </a:lnTo>
                  <a:lnTo>
                    <a:pt x="2161" y="1217"/>
                  </a:lnTo>
                  <a:lnTo>
                    <a:pt x="2156" y="1217"/>
                  </a:lnTo>
                  <a:lnTo>
                    <a:pt x="2156" y="1223"/>
                  </a:lnTo>
                  <a:lnTo>
                    <a:pt x="2151" y="1223"/>
                  </a:lnTo>
                  <a:lnTo>
                    <a:pt x="2151" y="1228"/>
                  </a:lnTo>
                  <a:lnTo>
                    <a:pt x="2147" y="1228"/>
                  </a:lnTo>
                  <a:lnTo>
                    <a:pt x="2147" y="1235"/>
                  </a:lnTo>
                  <a:lnTo>
                    <a:pt x="2142" y="1235"/>
                  </a:lnTo>
                  <a:lnTo>
                    <a:pt x="2142" y="1241"/>
                  </a:lnTo>
                  <a:lnTo>
                    <a:pt x="2137" y="1241"/>
                  </a:lnTo>
                  <a:lnTo>
                    <a:pt x="2137" y="1247"/>
                  </a:lnTo>
                  <a:lnTo>
                    <a:pt x="2132" y="1247"/>
                  </a:lnTo>
                  <a:lnTo>
                    <a:pt x="2132" y="1252"/>
                  </a:lnTo>
                  <a:lnTo>
                    <a:pt x="2128" y="1252"/>
                  </a:lnTo>
                  <a:lnTo>
                    <a:pt x="2128" y="1258"/>
                  </a:lnTo>
                  <a:lnTo>
                    <a:pt x="2123" y="1258"/>
                  </a:lnTo>
                  <a:lnTo>
                    <a:pt x="2123" y="1264"/>
                  </a:lnTo>
                  <a:lnTo>
                    <a:pt x="2118" y="1264"/>
                  </a:lnTo>
                  <a:lnTo>
                    <a:pt x="2118" y="1271"/>
                  </a:lnTo>
                  <a:lnTo>
                    <a:pt x="2112" y="1271"/>
                  </a:lnTo>
                  <a:lnTo>
                    <a:pt x="2112" y="1276"/>
                  </a:lnTo>
                  <a:lnTo>
                    <a:pt x="2108" y="1276"/>
                  </a:lnTo>
                  <a:lnTo>
                    <a:pt x="2108" y="1282"/>
                  </a:lnTo>
                  <a:lnTo>
                    <a:pt x="2098" y="1282"/>
                  </a:lnTo>
                  <a:lnTo>
                    <a:pt x="2098" y="1288"/>
                  </a:lnTo>
                  <a:lnTo>
                    <a:pt x="2084" y="1288"/>
                  </a:lnTo>
                  <a:lnTo>
                    <a:pt x="2084" y="1301"/>
                  </a:lnTo>
                  <a:lnTo>
                    <a:pt x="2074" y="1301"/>
                  </a:lnTo>
                  <a:lnTo>
                    <a:pt x="2074" y="1306"/>
                  </a:lnTo>
                  <a:lnTo>
                    <a:pt x="2070" y="1306"/>
                  </a:lnTo>
                  <a:lnTo>
                    <a:pt x="2070" y="1312"/>
                  </a:lnTo>
                  <a:lnTo>
                    <a:pt x="2065" y="1312"/>
                  </a:lnTo>
                  <a:lnTo>
                    <a:pt x="2065" y="1318"/>
                  </a:lnTo>
                  <a:lnTo>
                    <a:pt x="2061" y="1318"/>
                  </a:lnTo>
                  <a:lnTo>
                    <a:pt x="2061" y="1324"/>
                  </a:lnTo>
                  <a:lnTo>
                    <a:pt x="2056" y="1324"/>
                  </a:lnTo>
                  <a:lnTo>
                    <a:pt x="2056" y="1329"/>
                  </a:lnTo>
                  <a:lnTo>
                    <a:pt x="2051" y="1329"/>
                  </a:lnTo>
                  <a:lnTo>
                    <a:pt x="2051" y="1334"/>
                  </a:lnTo>
                  <a:lnTo>
                    <a:pt x="2047" y="1334"/>
                  </a:lnTo>
                  <a:lnTo>
                    <a:pt x="2047" y="1342"/>
                  </a:lnTo>
                  <a:lnTo>
                    <a:pt x="2036" y="1342"/>
                  </a:lnTo>
                  <a:lnTo>
                    <a:pt x="2036" y="1347"/>
                  </a:lnTo>
                  <a:lnTo>
                    <a:pt x="2031" y="1347"/>
                  </a:lnTo>
                  <a:lnTo>
                    <a:pt x="2031" y="1353"/>
                  </a:lnTo>
                  <a:lnTo>
                    <a:pt x="2021" y="1353"/>
                  </a:lnTo>
                  <a:lnTo>
                    <a:pt x="2021" y="1359"/>
                  </a:lnTo>
                  <a:lnTo>
                    <a:pt x="2012" y="1359"/>
                  </a:lnTo>
                  <a:lnTo>
                    <a:pt x="2012" y="1371"/>
                  </a:lnTo>
                  <a:lnTo>
                    <a:pt x="1998" y="1371"/>
                  </a:lnTo>
                  <a:lnTo>
                    <a:pt x="1998" y="1377"/>
                  </a:lnTo>
                  <a:lnTo>
                    <a:pt x="1988" y="1377"/>
                  </a:lnTo>
                  <a:lnTo>
                    <a:pt x="1988" y="1383"/>
                  </a:lnTo>
                  <a:lnTo>
                    <a:pt x="1984" y="1383"/>
                  </a:lnTo>
                  <a:lnTo>
                    <a:pt x="1984" y="1388"/>
                  </a:lnTo>
                  <a:lnTo>
                    <a:pt x="1974" y="1388"/>
                  </a:lnTo>
                  <a:lnTo>
                    <a:pt x="1974" y="1394"/>
                  </a:lnTo>
                  <a:lnTo>
                    <a:pt x="1954" y="1394"/>
                  </a:lnTo>
                  <a:lnTo>
                    <a:pt x="1954" y="1400"/>
                  </a:lnTo>
                  <a:lnTo>
                    <a:pt x="1930" y="1400"/>
                  </a:lnTo>
                  <a:lnTo>
                    <a:pt x="1930" y="1407"/>
                  </a:lnTo>
                  <a:lnTo>
                    <a:pt x="1882" y="1407"/>
                  </a:lnTo>
                  <a:lnTo>
                    <a:pt x="1882" y="1412"/>
                  </a:lnTo>
                  <a:lnTo>
                    <a:pt x="1854" y="1412"/>
                  </a:lnTo>
                  <a:lnTo>
                    <a:pt x="1854" y="1419"/>
                  </a:lnTo>
                  <a:lnTo>
                    <a:pt x="1814" y="1419"/>
                  </a:lnTo>
                  <a:lnTo>
                    <a:pt x="1814" y="1412"/>
                  </a:lnTo>
                  <a:lnTo>
                    <a:pt x="1767" y="1412"/>
                  </a:lnTo>
                  <a:lnTo>
                    <a:pt x="1767" y="1407"/>
                  </a:lnTo>
                  <a:lnTo>
                    <a:pt x="1715" y="1407"/>
                  </a:lnTo>
                  <a:lnTo>
                    <a:pt x="1715" y="1400"/>
                  </a:lnTo>
                  <a:lnTo>
                    <a:pt x="1696" y="1400"/>
                  </a:lnTo>
                  <a:lnTo>
                    <a:pt x="1696" y="1394"/>
                  </a:lnTo>
                  <a:lnTo>
                    <a:pt x="1619" y="1394"/>
                  </a:lnTo>
                  <a:lnTo>
                    <a:pt x="1619" y="1388"/>
                  </a:lnTo>
                  <a:lnTo>
                    <a:pt x="1542" y="1388"/>
                  </a:lnTo>
                  <a:lnTo>
                    <a:pt x="1542" y="1383"/>
                  </a:lnTo>
                  <a:lnTo>
                    <a:pt x="1459" y="1383"/>
                  </a:lnTo>
                  <a:lnTo>
                    <a:pt x="1459" y="1377"/>
                  </a:lnTo>
                  <a:lnTo>
                    <a:pt x="1445" y="1377"/>
                  </a:lnTo>
                  <a:lnTo>
                    <a:pt x="1445" y="1383"/>
                  </a:lnTo>
                  <a:lnTo>
                    <a:pt x="1436" y="1383"/>
                  </a:lnTo>
                  <a:lnTo>
                    <a:pt x="1436" y="1377"/>
                  </a:lnTo>
                  <a:lnTo>
                    <a:pt x="1349" y="1377"/>
                  </a:lnTo>
                  <a:lnTo>
                    <a:pt x="1349" y="1371"/>
                  </a:lnTo>
                  <a:lnTo>
                    <a:pt x="1301" y="1371"/>
                  </a:lnTo>
                  <a:lnTo>
                    <a:pt x="1301" y="1366"/>
                  </a:lnTo>
                  <a:lnTo>
                    <a:pt x="1263" y="1366"/>
                  </a:lnTo>
                  <a:lnTo>
                    <a:pt x="1263" y="1359"/>
                  </a:lnTo>
                  <a:lnTo>
                    <a:pt x="1215" y="1359"/>
                  </a:lnTo>
                  <a:lnTo>
                    <a:pt x="1215" y="1353"/>
                  </a:lnTo>
                  <a:lnTo>
                    <a:pt x="1167" y="1353"/>
                  </a:lnTo>
                  <a:lnTo>
                    <a:pt x="1167" y="1347"/>
                  </a:lnTo>
                  <a:lnTo>
                    <a:pt x="1133" y="1347"/>
                  </a:lnTo>
                  <a:lnTo>
                    <a:pt x="1133" y="1342"/>
                  </a:lnTo>
                  <a:lnTo>
                    <a:pt x="1089" y="1342"/>
                  </a:lnTo>
                  <a:lnTo>
                    <a:pt x="1089" y="1334"/>
                  </a:lnTo>
                  <a:lnTo>
                    <a:pt x="1013" y="1334"/>
                  </a:lnTo>
                  <a:lnTo>
                    <a:pt x="1013" y="1329"/>
                  </a:lnTo>
                  <a:lnTo>
                    <a:pt x="931" y="1329"/>
                  </a:lnTo>
                  <a:lnTo>
                    <a:pt x="931" y="1324"/>
                  </a:lnTo>
                  <a:lnTo>
                    <a:pt x="859" y="1324"/>
                  </a:lnTo>
                  <a:lnTo>
                    <a:pt x="859" y="1318"/>
                  </a:lnTo>
                  <a:lnTo>
                    <a:pt x="754" y="1318"/>
                  </a:lnTo>
                  <a:lnTo>
                    <a:pt x="754" y="1312"/>
                  </a:lnTo>
                  <a:lnTo>
                    <a:pt x="687" y="1312"/>
                  </a:lnTo>
                  <a:lnTo>
                    <a:pt x="687" y="1306"/>
                  </a:lnTo>
                  <a:lnTo>
                    <a:pt x="624" y="1306"/>
                  </a:lnTo>
                  <a:lnTo>
                    <a:pt x="624" y="1301"/>
                  </a:lnTo>
                  <a:lnTo>
                    <a:pt x="528" y="1301"/>
                  </a:lnTo>
                  <a:lnTo>
                    <a:pt x="528" y="1293"/>
                  </a:lnTo>
                  <a:lnTo>
                    <a:pt x="466" y="1293"/>
                  </a:lnTo>
                  <a:lnTo>
                    <a:pt x="466" y="1288"/>
                  </a:lnTo>
                  <a:lnTo>
                    <a:pt x="446" y="1288"/>
                  </a:lnTo>
                  <a:lnTo>
                    <a:pt x="446" y="1282"/>
                  </a:lnTo>
                  <a:lnTo>
                    <a:pt x="417" y="1282"/>
                  </a:lnTo>
                  <a:lnTo>
                    <a:pt x="417" y="1276"/>
                  </a:lnTo>
                  <a:lnTo>
                    <a:pt x="399" y="1276"/>
                  </a:lnTo>
                  <a:lnTo>
                    <a:pt x="399" y="1282"/>
                  </a:lnTo>
                  <a:lnTo>
                    <a:pt x="385" y="1282"/>
                  </a:lnTo>
                  <a:lnTo>
                    <a:pt x="385" y="1276"/>
                  </a:lnTo>
                  <a:lnTo>
                    <a:pt x="249" y="1276"/>
                  </a:lnTo>
                  <a:lnTo>
                    <a:pt x="249" y="1282"/>
                  </a:lnTo>
                  <a:lnTo>
                    <a:pt x="221" y="1282"/>
                  </a:lnTo>
                  <a:lnTo>
                    <a:pt x="221" y="1276"/>
                  </a:lnTo>
                  <a:lnTo>
                    <a:pt x="215" y="1276"/>
                  </a:lnTo>
                  <a:lnTo>
                    <a:pt x="215" y="1271"/>
                  </a:lnTo>
                  <a:lnTo>
                    <a:pt x="173" y="1271"/>
                  </a:lnTo>
                  <a:lnTo>
                    <a:pt x="173" y="1264"/>
                  </a:lnTo>
                  <a:lnTo>
                    <a:pt x="43" y="1264"/>
                  </a:lnTo>
                  <a:lnTo>
                    <a:pt x="43" y="1258"/>
                  </a:lnTo>
                  <a:lnTo>
                    <a:pt x="24" y="1258"/>
                  </a:lnTo>
                  <a:lnTo>
                    <a:pt x="24" y="1271"/>
                  </a:lnTo>
                  <a:lnTo>
                    <a:pt x="9" y="1271"/>
                  </a:lnTo>
                  <a:lnTo>
                    <a:pt x="9" y="1241"/>
                  </a:lnTo>
                  <a:lnTo>
                    <a:pt x="4" y="1241"/>
                  </a:lnTo>
                  <a:lnTo>
                    <a:pt x="4" y="1235"/>
                  </a:lnTo>
                  <a:lnTo>
                    <a:pt x="0" y="1235"/>
                  </a:lnTo>
                  <a:lnTo>
                    <a:pt x="0" y="119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23040" y="3849840"/>
              <a:ext cx="22320" cy="1404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17"/>
                  </a:moveTo>
                  <a:lnTo>
                    <a:pt x="9" y="17"/>
                  </a:lnTo>
                  <a:lnTo>
                    <a:pt x="9" y="12"/>
                  </a:lnTo>
                  <a:lnTo>
                    <a:pt x="19" y="12"/>
                  </a:lnTo>
                  <a:lnTo>
                    <a:pt x="19" y="6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43" y="12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24" y="17"/>
                  </a:lnTo>
                  <a:lnTo>
                    <a:pt x="24" y="23"/>
                  </a:lnTo>
                  <a:lnTo>
                    <a:pt x="14" y="23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9" y="34"/>
                  </a:lnTo>
                  <a:lnTo>
                    <a:pt x="0" y="3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81720" y="2808360"/>
              <a:ext cx="5040" cy="46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70640" y="2658960"/>
              <a:ext cx="978120" cy="309600"/>
            </a:xfrm>
            <a:custGeom>
              <a:avLst/>
              <a:gdLst/>
              <a:ahLst/>
              <a:rect l="l" t="t" r="r" b="b"/>
              <a:pathLst>
                <a:path w="1849" h="780">
                  <a:moveTo>
                    <a:pt x="0" y="24"/>
                  </a:moveTo>
                  <a:lnTo>
                    <a:pt x="5" y="24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43" y="5"/>
                  </a:lnTo>
                  <a:lnTo>
                    <a:pt x="43" y="13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63" y="18"/>
                  </a:lnTo>
                  <a:lnTo>
                    <a:pt x="63" y="24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71" y="29"/>
                  </a:lnTo>
                  <a:lnTo>
                    <a:pt x="71" y="36"/>
                  </a:lnTo>
                  <a:lnTo>
                    <a:pt x="82" y="36"/>
                  </a:lnTo>
                  <a:lnTo>
                    <a:pt x="82" y="41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91" y="46"/>
                  </a:lnTo>
                  <a:lnTo>
                    <a:pt x="91" y="54"/>
                  </a:lnTo>
                  <a:lnTo>
                    <a:pt x="97" y="54"/>
                  </a:lnTo>
                  <a:lnTo>
                    <a:pt x="97" y="59"/>
                  </a:lnTo>
                  <a:lnTo>
                    <a:pt x="101" y="59"/>
                  </a:lnTo>
                  <a:lnTo>
                    <a:pt x="101" y="65"/>
                  </a:lnTo>
                  <a:lnTo>
                    <a:pt x="111" y="65"/>
                  </a:lnTo>
                  <a:lnTo>
                    <a:pt x="111" y="71"/>
                  </a:lnTo>
                  <a:lnTo>
                    <a:pt x="115" y="71"/>
                  </a:lnTo>
                  <a:lnTo>
                    <a:pt x="115" y="78"/>
                  </a:lnTo>
                  <a:lnTo>
                    <a:pt x="125" y="78"/>
                  </a:lnTo>
                  <a:lnTo>
                    <a:pt x="125" y="83"/>
                  </a:lnTo>
                  <a:lnTo>
                    <a:pt x="130" y="83"/>
                  </a:lnTo>
                  <a:lnTo>
                    <a:pt x="130" y="89"/>
                  </a:lnTo>
                  <a:lnTo>
                    <a:pt x="134" y="89"/>
                  </a:lnTo>
                  <a:lnTo>
                    <a:pt x="134" y="95"/>
                  </a:lnTo>
                  <a:lnTo>
                    <a:pt x="139" y="95"/>
                  </a:lnTo>
                  <a:lnTo>
                    <a:pt x="139" y="100"/>
                  </a:lnTo>
                  <a:lnTo>
                    <a:pt x="144" y="100"/>
                  </a:lnTo>
                  <a:lnTo>
                    <a:pt x="144" y="106"/>
                  </a:lnTo>
                  <a:lnTo>
                    <a:pt x="153" y="106"/>
                  </a:lnTo>
                  <a:lnTo>
                    <a:pt x="153" y="112"/>
                  </a:lnTo>
                  <a:lnTo>
                    <a:pt x="159" y="112"/>
                  </a:lnTo>
                  <a:lnTo>
                    <a:pt x="159" y="119"/>
                  </a:lnTo>
                  <a:lnTo>
                    <a:pt x="164" y="119"/>
                  </a:lnTo>
                  <a:lnTo>
                    <a:pt x="164" y="124"/>
                  </a:lnTo>
                  <a:lnTo>
                    <a:pt x="174" y="124"/>
                  </a:lnTo>
                  <a:lnTo>
                    <a:pt x="174" y="130"/>
                  </a:lnTo>
                  <a:lnTo>
                    <a:pt x="183" y="130"/>
                  </a:lnTo>
                  <a:lnTo>
                    <a:pt x="183" y="136"/>
                  </a:lnTo>
                  <a:lnTo>
                    <a:pt x="197" y="136"/>
                  </a:lnTo>
                  <a:lnTo>
                    <a:pt x="197" y="142"/>
                  </a:lnTo>
                  <a:lnTo>
                    <a:pt x="201" y="142"/>
                  </a:lnTo>
                  <a:lnTo>
                    <a:pt x="201" y="147"/>
                  </a:lnTo>
                  <a:lnTo>
                    <a:pt x="211" y="147"/>
                  </a:lnTo>
                  <a:lnTo>
                    <a:pt x="211" y="154"/>
                  </a:lnTo>
                  <a:lnTo>
                    <a:pt x="221" y="154"/>
                  </a:lnTo>
                  <a:lnTo>
                    <a:pt x="221" y="160"/>
                  </a:lnTo>
                  <a:lnTo>
                    <a:pt x="227" y="160"/>
                  </a:lnTo>
                  <a:lnTo>
                    <a:pt x="227" y="165"/>
                  </a:lnTo>
                  <a:lnTo>
                    <a:pt x="236" y="165"/>
                  </a:lnTo>
                  <a:lnTo>
                    <a:pt x="236" y="172"/>
                  </a:lnTo>
                  <a:lnTo>
                    <a:pt x="245" y="172"/>
                  </a:lnTo>
                  <a:lnTo>
                    <a:pt x="245" y="177"/>
                  </a:lnTo>
                  <a:lnTo>
                    <a:pt x="255" y="177"/>
                  </a:lnTo>
                  <a:lnTo>
                    <a:pt x="255" y="184"/>
                  </a:lnTo>
                  <a:lnTo>
                    <a:pt x="260" y="184"/>
                  </a:lnTo>
                  <a:lnTo>
                    <a:pt x="260" y="190"/>
                  </a:lnTo>
                  <a:lnTo>
                    <a:pt x="269" y="190"/>
                  </a:lnTo>
                  <a:lnTo>
                    <a:pt x="269" y="196"/>
                  </a:lnTo>
                  <a:lnTo>
                    <a:pt x="278" y="196"/>
                  </a:lnTo>
                  <a:lnTo>
                    <a:pt x="278" y="201"/>
                  </a:lnTo>
                  <a:lnTo>
                    <a:pt x="288" y="201"/>
                  </a:lnTo>
                  <a:lnTo>
                    <a:pt x="288" y="206"/>
                  </a:lnTo>
                  <a:lnTo>
                    <a:pt x="297" y="206"/>
                  </a:lnTo>
                  <a:lnTo>
                    <a:pt x="297" y="214"/>
                  </a:lnTo>
                  <a:lnTo>
                    <a:pt x="308" y="214"/>
                  </a:lnTo>
                  <a:lnTo>
                    <a:pt x="308" y="219"/>
                  </a:lnTo>
                  <a:lnTo>
                    <a:pt x="318" y="219"/>
                  </a:lnTo>
                  <a:lnTo>
                    <a:pt x="318" y="225"/>
                  </a:lnTo>
                  <a:lnTo>
                    <a:pt x="322" y="225"/>
                  </a:lnTo>
                  <a:lnTo>
                    <a:pt x="322" y="231"/>
                  </a:lnTo>
                  <a:lnTo>
                    <a:pt x="337" y="231"/>
                  </a:lnTo>
                  <a:lnTo>
                    <a:pt x="337" y="237"/>
                  </a:lnTo>
                  <a:lnTo>
                    <a:pt x="346" y="237"/>
                  </a:lnTo>
                  <a:lnTo>
                    <a:pt x="346" y="242"/>
                  </a:lnTo>
                  <a:lnTo>
                    <a:pt x="355" y="242"/>
                  </a:lnTo>
                  <a:lnTo>
                    <a:pt x="355" y="249"/>
                  </a:lnTo>
                  <a:lnTo>
                    <a:pt x="369" y="249"/>
                  </a:lnTo>
                  <a:lnTo>
                    <a:pt x="369" y="255"/>
                  </a:lnTo>
                  <a:lnTo>
                    <a:pt x="389" y="255"/>
                  </a:lnTo>
                  <a:lnTo>
                    <a:pt x="389" y="260"/>
                  </a:lnTo>
                  <a:lnTo>
                    <a:pt x="399" y="260"/>
                  </a:lnTo>
                  <a:lnTo>
                    <a:pt x="399" y="266"/>
                  </a:lnTo>
                  <a:lnTo>
                    <a:pt x="413" y="266"/>
                  </a:lnTo>
                  <a:lnTo>
                    <a:pt x="413" y="272"/>
                  </a:lnTo>
                  <a:lnTo>
                    <a:pt x="427" y="272"/>
                  </a:lnTo>
                  <a:lnTo>
                    <a:pt x="427" y="278"/>
                  </a:lnTo>
                  <a:lnTo>
                    <a:pt x="441" y="278"/>
                  </a:lnTo>
                  <a:lnTo>
                    <a:pt x="441" y="283"/>
                  </a:lnTo>
                  <a:lnTo>
                    <a:pt x="452" y="283"/>
                  </a:lnTo>
                  <a:lnTo>
                    <a:pt x="452" y="291"/>
                  </a:lnTo>
                  <a:lnTo>
                    <a:pt x="456" y="291"/>
                  </a:lnTo>
                  <a:lnTo>
                    <a:pt x="456" y="296"/>
                  </a:lnTo>
                  <a:lnTo>
                    <a:pt x="466" y="296"/>
                  </a:lnTo>
                  <a:lnTo>
                    <a:pt x="466" y="301"/>
                  </a:lnTo>
                  <a:lnTo>
                    <a:pt x="475" y="301"/>
                  </a:lnTo>
                  <a:lnTo>
                    <a:pt x="475" y="307"/>
                  </a:lnTo>
                  <a:lnTo>
                    <a:pt x="495" y="307"/>
                  </a:lnTo>
                  <a:lnTo>
                    <a:pt x="495" y="313"/>
                  </a:lnTo>
                  <a:lnTo>
                    <a:pt x="514" y="313"/>
                  </a:lnTo>
                  <a:lnTo>
                    <a:pt x="514" y="320"/>
                  </a:lnTo>
                  <a:lnTo>
                    <a:pt x="519" y="320"/>
                  </a:lnTo>
                  <a:lnTo>
                    <a:pt x="519" y="325"/>
                  </a:lnTo>
                  <a:lnTo>
                    <a:pt x="533" y="325"/>
                  </a:lnTo>
                  <a:lnTo>
                    <a:pt x="533" y="332"/>
                  </a:lnTo>
                  <a:lnTo>
                    <a:pt x="548" y="332"/>
                  </a:lnTo>
                  <a:lnTo>
                    <a:pt x="548" y="337"/>
                  </a:lnTo>
                  <a:lnTo>
                    <a:pt x="558" y="337"/>
                  </a:lnTo>
                  <a:lnTo>
                    <a:pt x="558" y="343"/>
                  </a:lnTo>
                  <a:lnTo>
                    <a:pt x="567" y="343"/>
                  </a:lnTo>
                  <a:lnTo>
                    <a:pt x="567" y="350"/>
                  </a:lnTo>
                  <a:lnTo>
                    <a:pt x="581" y="350"/>
                  </a:lnTo>
                  <a:lnTo>
                    <a:pt x="581" y="355"/>
                  </a:lnTo>
                  <a:lnTo>
                    <a:pt x="596" y="355"/>
                  </a:lnTo>
                  <a:lnTo>
                    <a:pt x="596" y="361"/>
                  </a:lnTo>
                  <a:lnTo>
                    <a:pt x="611" y="361"/>
                  </a:lnTo>
                  <a:lnTo>
                    <a:pt x="611" y="367"/>
                  </a:lnTo>
                  <a:lnTo>
                    <a:pt x="619" y="367"/>
                  </a:lnTo>
                  <a:lnTo>
                    <a:pt x="619" y="372"/>
                  </a:lnTo>
                  <a:lnTo>
                    <a:pt x="629" y="372"/>
                  </a:lnTo>
                  <a:lnTo>
                    <a:pt x="629" y="378"/>
                  </a:lnTo>
                  <a:lnTo>
                    <a:pt x="653" y="378"/>
                  </a:lnTo>
                  <a:lnTo>
                    <a:pt x="653" y="383"/>
                  </a:lnTo>
                  <a:lnTo>
                    <a:pt x="673" y="383"/>
                  </a:lnTo>
                  <a:lnTo>
                    <a:pt x="673" y="391"/>
                  </a:lnTo>
                  <a:lnTo>
                    <a:pt x="682" y="391"/>
                  </a:lnTo>
                  <a:lnTo>
                    <a:pt x="682" y="396"/>
                  </a:lnTo>
                  <a:lnTo>
                    <a:pt x="692" y="396"/>
                  </a:lnTo>
                  <a:lnTo>
                    <a:pt x="692" y="402"/>
                  </a:lnTo>
                  <a:lnTo>
                    <a:pt x="702" y="402"/>
                  </a:lnTo>
                  <a:lnTo>
                    <a:pt x="702" y="408"/>
                  </a:lnTo>
                  <a:lnTo>
                    <a:pt x="720" y="408"/>
                  </a:lnTo>
                  <a:lnTo>
                    <a:pt x="720" y="413"/>
                  </a:lnTo>
                  <a:lnTo>
                    <a:pt x="725" y="413"/>
                  </a:lnTo>
                  <a:lnTo>
                    <a:pt x="725" y="419"/>
                  </a:lnTo>
                  <a:lnTo>
                    <a:pt x="740" y="419"/>
                  </a:lnTo>
                  <a:lnTo>
                    <a:pt x="740" y="426"/>
                  </a:lnTo>
                  <a:lnTo>
                    <a:pt x="750" y="426"/>
                  </a:lnTo>
                  <a:lnTo>
                    <a:pt x="750" y="432"/>
                  </a:lnTo>
                  <a:lnTo>
                    <a:pt x="769" y="432"/>
                  </a:lnTo>
                  <a:lnTo>
                    <a:pt x="769" y="437"/>
                  </a:lnTo>
                  <a:lnTo>
                    <a:pt x="783" y="437"/>
                  </a:lnTo>
                  <a:lnTo>
                    <a:pt x="783" y="443"/>
                  </a:lnTo>
                  <a:lnTo>
                    <a:pt x="807" y="443"/>
                  </a:lnTo>
                  <a:lnTo>
                    <a:pt x="807" y="449"/>
                  </a:lnTo>
                  <a:lnTo>
                    <a:pt x="826" y="449"/>
                  </a:lnTo>
                  <a:lnTo>
                    <a:pt x="826" y="456"/>
                  </a:lnTo>
                  <a:lnTo>
                    <a:pt x="850" y="456"/>
                  </a:lnTo>
                  <a:lnTo>
                    <a:pt x="850" y="461"/>
                  </a:lnTo>
                  <a:lnTo>
                    <a:pt x="865" y="461"/>
                  </a:lnTo>
                  <a:lnTo>
                    <a:pt x="865" y="467"/>
                  </a:lnTo>
                  <a:lnTo>
                    <a:pt x="880" y="467"/>
                  </a:lnTo>
                  <a:lnTo>
                    <a:pt x="880" y="473"/>
                  </a:lnTo>
                  <a:lnTo>
                    <a:pt x="899" y="473"/>
                  </a:lnTo>
                  <a:lnTo>
                    <a:pt x="899" y="478"/>
                  </a:lnTo>
                  <a:lnTo>
                    <a:pt x="913" y="478"/>
                  </a:lnTo>
                  <a:lnTo>
                    <a:pt x="913" y="486"/>
                  </a:lnTo>
                  <a:lnTo>
                    <a:pt x="917" y="486"/>
                  </a:lnTo>
                  <a:lnTo>
                    <a:pt x="917" y="491"/>
                  </a:lnTo>
                  <a:lnTo>
                    <a:pt x="936" y="491"/>
                  </a:lnTo>
                  <a:lnTo>
                    <a:pt x="936" y="497"/>
                  </a:lnTo>
                  <a:lnTo>
                    <a:pt x="956" y="497"/>
                  </a:lnTo>
                  <a:lnTo>
                    <a:pt x="956" y="502"/>
                  </a:lnTo>
                  <a:lnTo>
                    <a:pt x="970" y="502"/>
                  </a:lnTo>
                  <a:lnTo>
                    <a:pt x="970" y="509"/>
                  </a:lnTo>
                  <a:lnTo>
                    <a:pt x="985" y="509"/>
                  </a:lnTo>
                  <a:lnTo>
                    <a:pt x="985" y="514"/>
                  </a:lnTo>
                  <a:lnTo>
                    <a:pt x="999" y="514"/>
                  </a:lnTo>
                  <a:lnTo>
                    <a:pt x="999" y="519"/>
                  </a:lnTo>
                  <a:lnTo>
                    <a:pt x="1033" y="519"/>
                  </a:lnTo>
                  <a:lnTo>
                    <a:pt x="1033" y="527"/>
                  </a:lnTo>
                  <a:lnTo>
                    <a:pt x="1052" y="527"/>
                  </a:lnTo>
                  <a:lnTo>
                    <a:pt x="1052" y="532"/>
                  </a:lnTo>
                  <a:lnTo>
                    <a:pt x="1071" y="532"/>
                  </a:lnTo>
                  <a:lnTo>
                    <a:pt x="1071" y="538"/>
                  </a:lnTo>
                  <a:lnTo>
                    <a:pt x="1090" y="538"/>
                  </a:lnTo>
                  <a:lnTo>
                    <a:pt x="1090" y="544"/>
                  </a:lnTo>
                  <a:lnTo>
                    <a:pt x="1110" y="544"/>
                  </a:lnTo>
                  <a:lnTo>
                    <a:pt x="1110" y="550"/>
                  </a:lnTo>
                  <a:lnTo>
                    <a:pt x="1138" y="550"/>
                  </a:lnTo>
                  <a:lnTo>
                    <a:pt x="1138" y="555"/>
                  </a:lnTo>
                  <a:lnTo>
                    <a:pt x="1157" y="555"/>
                  </a:lnTo>
                  <a:lnTo>
                    <a:pt x="1157" y="562"/>
                  </a:lnTo>
                  <a:lnTo>
                    <a:pt x="1177" y="562"/>
                  </a:lnTo>
                  <a:lnTo>
                    <a:pt x="1177" y="568"/>
                  </a:lnTo>
                  <a:lnTo>
                    <a:pt x="1191" y="568"/>
                  </a:lnTo>
                  <a:lnTo>
                    <a:pt x="1191" y="573"/>
                  </a:lnTo>
                  <a:lnTo>
                    <a:pt x="1201" y="573"/>
                  </a:lnTo>
                  <a:lnTo>
                    <a:pt x="1201" y="579"/>
                  </a:lnTo>
                  <a:lnTo>
                    <a:pt x="1210" y="579"/>
                  </a:lnTo>
                  <a:lnTo>
                    <a:pt x="1210" y="585"/>
                  </a:lnTo>
                  <a:lnTo>
                    <a:pt x="1244" y="585"/>
                  </a:lnTo>
                  <a:lnTo>
                    <a:pt x="1244" y="592"/>
                  </a:lnTo>
                  <a:lnTo>
                    <a:pt x="1258" y="592"/>
                  </a:lnTo>
                  <a:lnTo>
                    <a:pt x="1258" y="597"/>
                  </a:lnTo>
                  <a:lnTo>
                    <a:pt x="1268" y="597"/>
                  </a:lnTo>
                  <a:lnTo>
                    <a:pt x="1268" y="603"/>
                  </a:lnTo>
                  <a:lnTo>
                    <a:pt x="1292" y="603"/>
                  </a:lnTo>
                  <a:lnTo>
                    <a:pt x="1292" y="609"/>
                  </a:lnTo>
                  <a:lnTo>
                    <a:pt x="1321" y="609"/>
                  </a:lnTo>
                  <a:lnTo>
                    <a:pt x="1321" y="615"/>
                  </a:lnTo>
                  <a:lnTo>
                    <a:pt x="1327" y="615"/>
                  </a:lnTo>
                  <a:lnTo>
                    <a:pt x="1327" y="620"/>
                  </a:lnTo>
                  <a:lnTo>
                    <a:pt x="1360" y="620"/>
                  </a:lnTo>
                  <a:lnTo>
                    <a:pt x="1360" y="627"/>
                  </a:lnTo>
                  <a:lnTo>
                    <a:pt x="1378" y="627"/>
                  </a:lnTo>
                  <a:lnTo>
                    <a:pt x="1378" y="633"/>
                  </a:lnTo>
                  <a:lnTo>
                    <a:pt x="1402" y="633"/>
                  </a:lnTo>
                  <a:lnTo>
                    <a:pt x="1402" y="638"/>
                  </a:lnTo>
                  <a:lnTo>
                    <a:pt x="1441" y="638"/>
                  </a:lnTo>
                  <a:lnTo>
                    <a:pt x="1441" y="645"/>
                  </a:lnTo>
                  <a:lnTo>
                    <a:pt x="1475" y="645"/>
                  </a:lnTo>
                  <a:lnTo>
                    <a:pt x="1475" y="650"/>
                  </a:lnTo>
                  <a:lnTo>
                    <a:pt x="1504" y="650"/>
                  </a:lnTo>
                  <a:lnTo>
                    <a:pt x="1504" y="657"/>
                  </a:lnTo>
                  <a:lnTo>
                    <a:pt x="1542" y="657"/>
                  </a:lnTo>
                  <a:lnTo>
                    <a:pt x="1542" y="663"/>
                  </a:lnTo>
                  <a:lnTo>
                    <a:pt x="1556" y="663"/>
                  </a:lnTo>
                  <a:lnTo>
                    <a:pt x="1556" y="668"/>
                  </a:lnTo>
                  <a:lnTo>
                    <a:pt x="1599" y="668"/>
                  </a:lnTo>
                  <a:lnTo>
                    <a:pt x="1599" y="674"/>
                  </a:lnTo>
                  <a:lnTo>
                    <a:pt x="1638" y="674"/>
                  </a:lnTo>
                  <a:lnTo>
                    <a:pt x="1638" y="679"/>
                  </a:lnTo>
                  <a:lnTo>
                    <a:pt x="1686" y="679"/>
                  </a:lnTo>
                  <a:lnTo>
                    <a:pt x="1686" y="687"/>
                  </a:lnTo>
                  <a:lnTo>
                    <a:pt x="1729" y="687"/>
                  </a:lnTo>
                  <a:lnTo>
                    <a:pt x="1729" y="691"/>
                  </a:lnTo>
                  <a:lnTo>
                    <a:pt x="1782" y="691"/>
                  </a:lnTo>
                  <a:lnTo>
                    <a:pt x="1782" y="698"/>
                  </a:lnTo>
                  <a:lnTo>
                    <a:pt x="1815" y="698"/>
                  </a:lnTo>
                  <a:lnTo>
                    <a:pt x="1815" y="691"/>
                  </a:lnTo>
                  <a:lnTo>
                    <a:pt x="1835" y="691"/>
                  </a:lnTo>
                  <a:lnTo>
                    <a:pt x="1835" y="698"/>
                  </a:lnTo>
                  <a:lnTo>
                    <a:pt x="1840" y="698"/>
                  </a:lnTo>
                  <a:lnTo>
                    <a:pt x="1840" y="715"/>
                  </a:lnTo>
                  <a:lnTo>
                    <a:pt x="1845" y="715"/>
                  </a:lnTo>
                  <a:lnTo>
                    <a:pt x="1845" y="728"/>
                  </a:lnTo>
                  <a:lnTo>
                    <a:pt x="1849" y="728"/>
                  </a:lnTo>
                  <a:lnTo>
                    <a:pt x="1849" y="745"/>
                  </a:lnTo>
                  <a:lnTo>
                    <a:pt x="1845" y="745"/>
                  </a:lnTo>
                  <a:lnTo>
                    <a:pt x="1845" y="756"/>
                  </a:lnTo>
                  <a:lnTo>
                    <a:pt x="1840" y="756"/>
                  </a:lnTo>
                  <a:lnTo>
                    <a:pt x="1840" y="764"/>
                  </a:lnTo>
                  <a:lnTo>
                    <a:pt x="1835" y="764"/>
                  </a:lnTo>
                  <a:lnTo>
                    <a:pt x="1835" y="769"/>
                  </a:lnTo>
                  <a:lnTo>
                    <a:pt x="1830" y="769"/>
                  </a:lnTo>
                  <a:lnTo>
                    <a:pt x="1830" y="774"/>
                  </a:lnTo>
                  <a:lnTo>
                    <a:pt x="1826" y="774"/>
                  </a:lnTo>
                  <a:lnTo>
                    <a:pt x="1826" y="780"/>
                  </a:lnTo>
                  <a:lnTo>
                    <a:pt x="1806" y="780"/>
                  </a:lnTo>
                  <a:lnTo>
                    <a:pt x="1806" y="774"/>
                  </a:lnTo>
                  <a:lnTo>
                    <a:pt x="1772" y="774"/>
                  </a:lnTo>
                  <a:lnTo>
                    <a:pt x="1772" y="769"/>
                  </a:lnTo>
                  <a:lnTo>
                    <a:pt x="1724" y="769"/>
                  </a:lnTo>
                  <a:lnTo>
                    <a:pt x="1724" y="764"/>
                  </a:lnTo>
                  <a:lnTo>
                    <a:pt x="1667" y="764"/>
                  </a:lnTo>
                  <a:lnTo>
                    <a:pt x="1667" y="756"/>
                  </a:lnTo>
                  <a:lnTo>
                    <a:pt x="1624" y="756"/>
                  </a:lnTo>
                  <a:lnTo>
                    <a:pt x="1624" y="751"/>
                  </a:lnTo>
                  <a:lnTo>
                    <a:pt x="1566" y="751"/>
                  </a:lnTo>
                  <a:lnTo>
                    <a:pt x="1566" y="745"/>
                  </a:lnTo>
                  <a:lnTo>
                    <a:pt x="1542" y="745"/>
                  </a:lnTo>
                  <a:lnTo>
                    <a:pt x="1542" y="739"/>
                  </a:lnTo>
                  <a:lnTo>
                    <a:pt x="1512" y="739"/>
                  </a:lnTo>
                  <a:lnTo>
                    <a:pt x="1512" y="733"/>
                  </a:lnTo>
                  <a:lnTo>
                    <a:pt x="1494" y="733"/>
                  </a:lnTo>
                  <a:lnTo>
                    <a:pt x="1494" y="728"/>
                  </a:lnTo>
                  <a:lnTo>
                    <a:pt x="1475" y="728"/>
                  </a:lnTo>
                  <a:lnTo>
                    <a:pt x="1475" y="721"/>
                  </a:lnTo>
                  <a:lnTo>
                    <a:pt x="1445" y="721"/>
                  </a:lnTo>
                  <a:lnTo>
                    <a:pt x="1445" y="715"/>
                  </a:lnTo>
                  <a:lnTo>
                    <a:pt x="1427" y="715"/>
                  </a:lnTo>
                  <a:lnTo>
                    <a:pt x="1427" y="710"/>
                  </a:lnTo>
                  <a:lnTo>
                    <a:pt x="1383" y="710"/>
                  </a:lnTo>
                  <a:lnTo>
                    <a:pt x="1383" y="704"/>
                  </a:lnTo>
                  <a:lnTo>
                    <a:pt x="1360" y="704"/>
                  </a:lnTo>
                  <a:lnTo>
                    <a:pt x="1360" y="698"/>
                  </a:lnTo>
                  <a:lnTo>
                    <a:pt x="1331" y="698"/>
                  </a:lnTo>
                  <a:lnTo>
                    <a:pt x="1331" y="691"/>
                  </a:lnTo>
                  <a:lnTo>
                    <a:pt x="1297" y="691"/>
                  </a:lnTo>
                  <a:lnTo>
                    <a:pt x="1297" y="687"/>
                  </a:lnTo>
                  <a:lnTo>
                    <a:pt x="1268" y="687"/>
                  </a:lnTo>
                  <a:lnTo>
                    <a:pt x="1268" y="679"/>
                  </a:lnTo>
                  <a:lnTo>
                    <a:pt x="1244" y="679"/>
                  </a:lnTo>
                  <a:lnTo>
                    <a:pt x="1244" y="674"/>
                  </a:lnTo>
                  <a:lnTo>
                    <a:pt x="1224" y="674"/>
                  </a:lnTo>
                  <a:lnTo>
                    <a:pt x="1224" y="668"/>
                  </a:lnTo>
                  <a:lnTo>
                    <a:pt x="1210" y="668"/>
                  </a:lnTo>
                  <a:lnTo>
                    <a:pt x="1210" y="663"/>
                  </a:lnTo>
                  <a:lnTo>
                    <a:pt x="1191" y="663"/>
                  </a:lnTo>
                  <a:lnTo>
                    <a:pt x="1191" y="657"/>
                  </a:lnTo>
                  <a:lnTo>
                    <a:pt x="1177" y="657"/>
                  </a:lnTo>
                  <a:lnTo>
                    <a:pt x="1177" y="650"/>
                  </a:lnTo>
                  <a:lnTo>
                    <a:pt x="1162" y="650"/>
                  </a:lnTo>
                  <a:lnTo>
                    <a:pt x="1162" y="645"/>
                  </a:lnTo>
                  <a:lnTo>
                    <a:pt x="1148" y="645"/>
                  </a:lnTo>
                  <a:lnTo>
                    <a:pt x="1148" y="638"/>
                  </a:lnTo>
                  <a:lnTo>
                    <a:pt x="1120" y="638"/>
                  </a:lnTo>
                  <a:lnTo>
                    <a:pt x="1120" y="633"/>
                  </a:lnTo>
                  <a:lnTo>
                    <a:pt x="1090" y="633"/>
                  </a:lnTo>
                  <a:lnTo>
                    <a:pt x="1090" y="627"/>
                  </a:lnTo>
                  <a:lnTo>
                    <a:pt x="1076" y="627"/>
                  </a:lnTo>
                  <a:lnTo>
                    <a:pt x="1076" y="620"/>
                  </a:lnTo>
                  <a:lnTo>
                    <a:pt x="1061" y="620"/>
                  </a:lnTo>
                  <a:lnTo>
                    <a:pt x="1061" y="615"/>
                  </a:lnTo>
                  <a:lnTo>
                    <a:pt x="1043" y="615"/>
                  </a:lnTo>
                  <a:lnTo>
                    <a:pt x="1043" y="609"/>
                  </a:lnTo>
                  <a:lnTo>
                    <a:pt x="1024" y="609"/>
                  </a:lnTo>
                  <a:lnTo>
                    <a:pt x="1024" y="603"/>
                  </a:lnTo>
                  <a:lnTo>
                    <a:pt x="1018" y="603"/>
                  </a:lnTo>
                  <a:lnTo>
                    <a:pt x="1018" y="597"/>
                  </a:lnTo>
                  <a:lnTo>
                    <a:pt x="999" y="597"/>
                  </a:lnTo>
                  <a:lnTo>
                    <a:pt x="999" y="592"/>
                  </a:lnTo>
                  <a:lnTo>
                    <a:pt x="980" y="592"/>
                  </a:lnTo>
                  <a:lnTo>
                    <a:pt x="980" y="585"/>
                  </a:lnTo>
                  <a:lnTo>
                    <a:pt x="961" y="585"/>
                  </a:lnTo>
                  <a:lnTo>
                    <a:pt x="961" y="579"/>
                  </a:lnTo>
                  <a:lnTo>
                    <a:pt x="942" y="579"/>
                  </a:lnTo>
                  <a:lnTo>
                    <a:pt x="942" y="573"/>
                  </a:lnTo>
                  <a:lnTo>
                    <a:pt x="922" y="573"/>
                  </a:lnTo>
                  <a:lnTo>
                    <a:pt x="922" y="568"/>
                  </a:lnTo>
                  <a:lnTo>
                    <a:pt x="908" y="568"/>
                  </a:lnTo>
                  <a:lnTo>
                    <a:pt x="908" y="562"/>
                  </a:lnTo>
                  <a:lnTo>
                    <a:pt x="894" y="562"/>
                  </a:lnTo>
                  <a:lnTo>
                    <a:pt x="894" y="555"/>
                  </a:lnTo>
                  <a:lnTo>
                    <a:pt x="880" y="555"/>
                  </a:lnTo>
                  <a:lnTo>
                    <a:pt x="880" y="550"/>
                  </a:lnTo>
                  <a:lnTo>
                    <a:pt x="855" y="550"/>
                  </a:lnTo>
                  <a:lnTo>
                    <a:pt x="855" y="544"/>
                  </a:lnTo>
                  <a:lnTo>
                    <a:pt x="836" y="544"/>
                  </a:lnTo>
                  <a:lnTo>
                    <a:pt x="836" y="538"/>
                  </a:lnTo>
                  <a:lnTo>
                    <a:pt x="817" y="538"/>
                  </a:lnTo>
                  <a:lnTo>
                    <a:pt x="817" y="532"/>
                  </a:lnTo>
                  <a:lnTo>
                    <a:pt x="792" y="532"/>
                  </a:lnTo>
                  <a:lnTo>
                    <a:pt x="792" y="527"/>
                  </a:lnTo>
                  <a:lnTo>
                    <a:pt x="787" y="527"/>
                  </a:lnTo>
                  <a:lnTo>
                    <a:pt x="787" y="519"/>
                  </a:lnTo>
                  <a:lnTo>
                    <a:pt x="769" y="519"/>
                  </a:lnTo>
                  <a:lnTo>
                    <a:pt x="769" y="514"/>
                  </a:lnTo>
                  <a:lnTo>
                    <a:pt x="754" y="514"/>
                  </a:lnTo>
                  <a:lnTo>
                    <a:pt x="754" y="509"/>
                  </a:lnTo>
                  <a:lnTo>
                    <a:pt x="750" y="509"/>
                  </a:lnTo>
                  <a:lnTo>
                    <a:pt x="750" y="502"/>
                  </a:lnTo>
                  <a:lnTo>
                    <a:pt x="736" y="502"/>
                  </a:lnTo>
                  <a:lnTo>
                    <a:pt x="736" y="497"/>
                  </a:lnTo>
                  <a:lnTo>
                    <a:pt x="720" y="497"/>
                  </a:lnTo>
                  <a:lnTo>
                    <a:pt x="720" y="491"/>
                  </a:lnTo>
                  <a:lnTo>
                    <a:pt x="706" y="491"/>
                  </a:lnTo>
                  <a:lnTo>
                    <a:pt x="706" y="486"/>
                  </a:lnTo>
                  <a:lnTo>
                    <a:pt x="692" y="486"/>
                  </a:lnTo>
                  <a:lnTo>
                    <a:pt x="692" y="478"/>
                  </a:lnTo>
                  <a:lnTo>
                    <a:pt x="682" y="478"/>
                  </a:lnTo>
                  <a:lnTo>
                    <a:pt x="682" y="473"/>
                  </a:lnTo>
                  <a:lnTo>
                    <a:pt x="673" y="473"/>
                  </a:lnTo>
                  <a:lnTo>
                    <a:pt x="673" y="467"/>
                  </a:lnTo>
                  <a:lnTo>
                    <a:pt x="648" y="467"/>
                  </a:lnTo>
                  <a:lnTo>
                    <a:pt x="648" y="461"/>
                  </a:lnTo>
                  <a:lnTo>
                    <a:pt x="644" y="461"/>
                  </a:lnTo>
                  <a:lnTo>
                    <a:pt x="644" y="456"/>
                  </a:lnTo>
                  <a:lnTo>
                    <a:pt x="634" y="456"/>
                  </a:lnTo>
                  <a:lnTo>
                    <a:pt x="634" y="449"/>
                  </a:lnTo>
                  <a:lnTo>
                    <a:pt x="619" y="449"/>
                  </a:lnTo>
                  <a:lnTo>
                    <a:pt x="619" y="443"/>
                  </a:lnTo>
                  <a:lnTo>
                    <a:pt x="606" y="443"/>
                  </a:lnTo>
                  <a:lnTo>
                    <a:pt x="606" y="437"/>
                  </a:lnTo>
                  <a:lnTo>
                    <a:pt x="592" y="437"/>
                  </a:lnTo>
                  <a:lnTo>
                    <a:pt x="592" y="432"/>
                  </a:lnTo>
                  <a:lnTo>
                    <a:pt x="585" y="432"/>
                  </a:lnTo>
                  <a:lnTo>
                    <a:pt x="585" y="426"/>
                  </a:lnTo>
                  <a:lnTo>
                    <a:pt x="576" y="426"/>
                  </a:lnTo>
                  <a:lnTo>
                    <a:pt x="576" y="419"/>
                  </a:lnTo>
                  <a:lnTo>
                    <a:pt x="567" y="419"/>
                  </a:lnTo>
                  <a:lnTo>
                    <a:pt x="567" y="413"/>
                  </a:lnTo>
                  <a:lnTo>
                    <a:pt x="552" y="413"/>
                  </a:lnTo>
                  <a:lnTo>
                    <a:pt x="552" y="408"/>
                  </a:lnTo>
                  <a:lnTo>
                    <a:pt x="538" y="408"/>
                  </a:lnTo>
                  <a:lnTo>
                    <a:pt x="538" y="402"/>
                  </a:lnTo>
                  <a:lnTo>
                    <a:pt x="524" y="402"/>
                  </a:lnTo>
                  <a:lnTo>
                    <a:pt x="524" y="396"/>
                  </a:lnTo>
                  <a:lnTo>
                    <a:pt x="509" y="396"/>
                  </a:lnTo>
                  <a:lnTo>
                    <a:pt x="509" y="391"/>
                  </a:lnTo>
                  <a:lnTo>
                    <a:pt x="499" y="391"/>
                  </a:lnTo>
                  <a:lnTo>
                    <a:pt x="499" y="383"/>
                  </a:lnTo>
                  <a:lnTo>
                    <a:pt x="485" y="383"/>
                  </a:lnTo>
                  <a:lnTo>
                    <a:pt x="485" y="378"/>
                  </a:lnTo>
                  <a:lnTo>
                    <a:pt x="475" y="378"/>
                  </a:lnTo>
                  <a:lnTo>
                    <a:pt x="475" y="372"/>
                  </a:lnTo>
                  <a:lnTo>
                    <a:pt x="466" y="372"/>
                  </a:lnTo>
                  <a:lnTo>
                    <a:pt x="466" y="367"/>
                  </a:lnTo>
                  <a:lnTo>
                    <a:pt x="441" y="367"/>
                  </a:lnTo>
                  <a:lnTo>
                    <a:pt x="441" y="361"/>
                  </a:lnTo>
                  <a:lnTo>
                    <a:pt x="437" y="361"/>
                  </a:lnTo>
                  <a:lnTo>
                    <a:pt x="437" y="355"/>
                  </a:lnTo>
                  <a:lnTo>
                    <a:pt x="422" y="355"/>
                  </a:lnTo>
                  <a:lnTo>
                    <a:pt x="422" y="350"/>
                  </a:lnTo>
                  <a:lnTo>
                    <a:pt x="413" y="350"/>
                  </a:lnTo>
                  <a:lnTo>
                    <a:pt x="413" y="343"/>
                  </a:lnTo>
                  <a:lnTo>
                    <a:pt x="408" y="343"/>
                  </a:lnTo>
                  <a:lnTo>
                    <a:pt x="408" y="337"/>
                  </a:lnTo>
                  <a:lnTo>
                    <a:pt x="399" y="337"/>
                  </a:lnTo>
                  <a:lnTo>
                    <a:pt x="399" y="332"/>
                  </a:lnTo>
                  <a:lnTo>
                    <a:pt x="385" y="332"/>
                  </a:lnTo>
                  <a:lnTo>
                    <a:pt x="385" y="325"/>
                  </a:lnTo>
                  <a:lnTo>
                    <a:pt x="369" y="325"/>
                  </a:lnTo>
                  <a:lnTo>
                    <a:pt x="369" y="320"/>
                  </a:lnTo>
                  <a:lnTo>
                    <a:pt x="355" y="320"/>
                  </a:lnTo>
                  <a:lnTo>
                    <a:pt x="355" y="313"/>
                  </a:lnTo>
                  <a:lnTo>
                    <a:pt x="341" y="313"/>
                  </a:lnTo>
                  <a:lnTo>
                    <a:pt x="341" y="307"/>
                  </a:lnTo>
                  <a:lnTo>
                    <a:pt x="331" y="307"/>
                  </a:lnTo>
                  <a:lnTo>
                    <a:pt x="331" y="301"/>
                  </a:lnTo>
                  <a:lnTo>
                    <a:pt x="327" y="301"/>
                  </a:lnTo>
                  <a:lnTo>
                    <a:pt x="327" y="296"/>
                  </a:lnTo>
                  <a:lnTo>
                    <a:pt x="313" y="296"/>
                  </a:lnTo>
                  <a:lnTo>
                    <a:pt x="313" y="291"/>
                  </a:lnTo>
                  <a:lnTo>
                    <a:pt x="304" y="291"/>
                  </a:lnTo>
                  <a:lnTo>
                    <a:pt x="304" y="283"/>
                  </a:lnTo>
                  <a:lnTo>
                    <a:pt x="293" y="283"/>
                  </a:lnTo>
                  <a:lnTo>
                    <a:pt x="293" y="278"/>
                  </a:lnTo>
                  <a:lnTo>
                    <a:pt x="283" y="278"/>
                  </a:lnTo>
                  <a:lnTo>
                    <a:pt x="283" y="272"/>
                  </a:lnTo>
                  <a:lnTo>
                    <a:pt x="274" y="272"/>
                  </a:lnTo>
                  <a:lnTo>
                    <a:pt x="274" y="266"/>
                  </a:lnTo>
                  <a:lnTo>
                    <a:pt x="264" y="266"/>
                  </a:lnTo>
                  <a:lnTo>
                    <a:pt x="264" y="260"/>
                  </a:lnTo>
                  <a:lnTo>
                    <a:pt x="255" y="260"/>
                  </a:lnTo>
                  <a:lnTo>
                    <a:pt x="255" y="255"/>
                  </a:lnTo>
                  <a:lnTo>
                    <a:pt x="245" y="255"/>
                  </a:lnTo>
                  <a:lnTo>
                    <a:pt x="245" y="249"/>
                  </a:lnTo>
                  <a:lnTo>
                    <a:pt x="236" y="249"/>
                  </a:lnTo>
                  <a:lnTo>
                    <a:pt x="236" y="242"/>
                  </a:lnTo>
                  <a:lnTo>
                    <a:pt x="227" y="242"/>
                  </a:lnTo>
                  <a:lnTo>
                    <a:pt x="227" y="237"/>
                  </a:lnTo>
                  <a:lnTo>
                    <a:pt x="216" y="237"/>
                  </a:lnTo>
                  <a:lnTo>
                    <a:pt x="216" y="231"/>
                  </a:lnTo>
                  <a:lnTo>
                    <a:pt x="207" y="231"/>
                  </a:lnTo>
                  <a:lnTo>
                    <a:pt x="207" y="225"/>
                  </a:lnTo>
                  <a:lnTo>
                    <a:pt x="197" y="225"/>
                  </a:lnTo>
                  <a:lnTo>
                    <a:pt x="197" y="219"/>
                  </a:lnTo>
                  <a:lnTo>
                    <a:pt x="187" y="219"/>
                  </a:lnTo>
                  <a:lnTo>
                    <a:pt x="187" y="214"/>
                  </a:lnTo>
                  <a:lnTo>
                    <a:pt x="178" y="214"/>
                  </a:lnTo>
                  <a:lnTo>
                    <a:pt x="178" y="206"/>
                  </a:lnTo>
                  <a:lnTo>
                    <a:pt x="174" y="206"/>
                  </a:lnTo>
                  <a:lnTo>
                    <a:pt x="174" y="201"/>
                  </a:lnTo>
                  <a:lnTo>
                    <a:pt x="168" y="201"/>
                  </a:lnTo>
                  <a:lnTo>
                    <a:pt x="168" y="196"/>
                  </a:lnTo>
                  <a:lnTo>
                    <a:pt x="159" y="196"/>
                  </a:lnTo>
                  <a:lnTo>
                    <a:pt x="159" y="190"/>
                  </a:lnTo>
                  <a:lnTo>
                    <a:pt x="153" y="190"/>
                  </a:lnTo>
                  <a:lnTo>
                    <a:pt x="153" y="184"/>
                  </a:lnTo>
                  <a:lnTo>
                    <a:pt x="148" y="184"/>
                  </a:lnTo>
                  <a:lnTo>
                    <a:pt x="148" y="177"/>
                  </a:lnTo>
                  <a:lnTo>
                    <a:pt x="139" y="177"/>
                  </a:lnTo>
                  <a:lnTo>
                    <a:pt x="139" y="172"/>
                  </a:lnTo>
                  <a:lnTo>
                    <a:pt x="134" y="172"/>
                  </a:lnTo>
                  <a:lnTo>
                    <a:pt x="134" y="165"/>
                  </a:lnTo>
                  <a:lnTo>
                    <a:pt x="130" y="165"/>
                  </a:lnTo>
                  <a:lnTo>
                    <a:pt x="130" y="160"/>
                  </a:lnTo>
                  <a:lnTo>
                    <a:pt x="125" y="160"/>
                  </a:lnTo>
                  <a:lnTo>
                    <a:pt x="125" y="154"/>
                  </a:lnTo>
                  <a:lnTo>
                    <a:pt x="115" y="154"/>
                  </a:lnTo>
                  <a:lnTo>
                    <a:pt x="115" y="147"/>
                  </a:lnTo>
                  <a:lnTo>
                    <a:pt x="111" y="147"/>
                  </a:lnTo>
                  <a:lnTo>
                    <a:pt x="111" y="142"/>
                  </a:lnTo>
                  <a:lnTo>
                    <a:pt x="101" y="142"/>
                  </a:lnTo>
                  <a:lnTo>
                    <a:pt x="101" y="136"/>
                  </a:lnTo>
                  <a:lnTo>
                    <a:pt x="97" y="136"/>
                  </a:lnTo>
                  <a:lnTo>
                    <a:pt x="97" y="130"/>
                  </a:lnTo>
                  <a:lnTo>
                    <a:pt x="87" y="130"/>
                  </a:lnTo>
                  <a:lnTo>
                    <a:pt x="87" y="124"/>
                  </a:lnTo>
                  <a:lnTo>
                    <a:pt x="71" y="124"/>
                  </a:lnTo>
                  <a:lnTo>
                    <a:pt x="71" y="119"/>
                  </a:lnTo>
                  <a:lnTo>
                    <a:pt x="67" y="119"/>
                  </a:lnTo>
                  <a:lnTo>
                    <a:pt x="67" y="106"/>
                  </a:lnTo>
                  <a:lnTo>
                    <a:pt x="57" y="106"/>
                  </a:lnTo>
                  <a:lnTo>
                    <a:pt x="57" y="100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48" y="95"/>
                  </a:lnTo>
                  <a:lnTo>
                    <a:pt x="48" y="89"/>
                  </a:lnTo>
                  <a:lnTo>
                    <a:pt x="43" y="89"/>
                  </a:lnTo>
                  <a:lnTo>
                    <a:pt x="43" y="83"/>
                  </a:lnTo>
                  <a:lnTo>
                    <a:pt x="34" y="83"/>
                  </a:lnTo>
                  <a:lnTo>
                    <a:pt x="34" y="78"/>
                  </a:lnTo>
                  <a:lnTo>
                    <a:pt x="29" y="78"/>
                  </a:lnTo>
                  <a:lnTo>
                    <a:pt x="29" y="71"/>
                  </a:lnTo>
                  <a:lnTo>
                    <a:pt x="24" y="71"/>
                  </a:lnTo>
                  <a:lnTo>
                    <a:pt x="24" y="65"/>
                  </a:lnTo>
                  <a:lnTo>
                    <a:pt x="15" y="65"/>
                  </a:lnTo>
                  <a:lnTo>
                    <a:pt x="15" y="59"/>
                  </a:lnTo>
                  <a:lnTo>
                    <a:pt x="10" y="59"/>
                  </a:lnTo>
                  <a:lnTo>
                    <a:pt x="10" y="54"/>
                  </a:lnTo>
                  <a:lnTo>
                    <a:pt x="5" y="54"/>
                  </a:lnTo>
                  <a:lnTo>
                    <a:pt x="5" y="46"/>
                  </a:lnTo>
                  <a:lnTo>
                    <a:pt x="0" y="4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51800" y="4697280"/>
              <a:ext cx="6480" cy="50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67640" y="3213000"/>
              <a:ext cx="704880" cy="2347920"/>
            </a:xfrm>
            <a:custGeom>
              <a:avLst/>
              <a:gdLst/>
              <a:ahLst/>
              <a:rect l="l" t="t" r="r" b="b"/>
              <a:pathLst>
                <a:path w="1331" h="5916">
                  <a:moveTo>
                    <a:pt x="5" y="3292"/>
                  </a:moveTo>
                  <a:lnTo>
                    <a:pt x="9" y="3292"/>
                  </a:lnTo>
                  <a:lnTo>
                    <a:pt x="9" y="3180"/>
                  </a:lnTo>
                  <a:lnTo>
                    <a:pt x="14" y="3180"/>
                  </a:lnTo>
                  <a:lnTo>
                    <a:pt x="14" y="3126"/>
                  </a:lnTo>
                  <a:lnTo>
                    <a:pt x="19" y="3126"/>
                  </a:lnTo>
                  <a:lnTo>
                    <a:pt x="19" y="2843"/>
                  </a:lnTo>
                  <a:lnTo>
                    <a:pt x="14" y="2843"/>
                  </a:lnTo>
                  <a:lnTo>
                    <a:pt x="14" y="2795"/>
                  </a:lnTo>
                  <a:lnTo>
                    <a:pt x="19" y="2795"/>
                  </a:lnTo>
                  <a:lnTo>
                    <a:pt x="19" y="2642"/>
                  </a:lnTo>
                  <a:lnTo>
                    <a:pt x="23" y="2642"/>
                  </a:lnTo>
                  <a:lnTo>
                    <a:pt x="23" y="2624"/>
                  </a:lnTo>
                  <a:lnTo>
                    <a:pt x="19" y="2624"/>
                  </a:lnTo>
                  <a:lnTo>
                    <a:pt x="19" y="2583"/>
                  </a:lnTo>
                  <a:lnTo>
                    <a:pt x="23" y="2583"/>
                  </a:lnTo>
                  <a:lnTo>
                    <a:pt x="23" y="2536"/>
                  </a:lnTo>
                  <a:lnTo>
                    <a:pt x="30" y="2536"/>
                  </a:lnTo>
                  <a:lnTo>
                    <a:pt x="30" y="2506"/>
                  </a:lnTo>
                  <a:lnTo>
                    <a:pt x="23" y="2506"/>
                  </a:lnTo>
                  <a:lnTo>
                    <a:pt x="23" y="2324"/>
                  </a:lnTo>
                  <a:lnTo>
                    <a:pt x="30" y="2324"/>
                  </a:lnTo>
                  <a:lnTo>
                    <a:pt x="30" y="2283"/>
                  </a:lnTo>
                  <a:lnTo>
                    <a:pt x="23" y="2283"/>
                  </a:lnTo>
                  <a:lnTo>
                    <a:pt x="23" y="2246"/>
                  </a:lnTo>
                  <a:lnTo>
                    <a:pt x="30" y="2246"/>
                  </a:lnTo>
                  <a:lnTo>
                    <a:pt x="30" y="1944"/>
                  </a:lnTo>
                  <a:lnTo>
                    <a:pt x="23" y="1944"/>
                  </a:lnTo>
                  <a:lnTo>
                    <a:pt x="23" y="1916"/>
                  </a:lnTo>
                  <a:lnTo>
                    <a:pt x="30" y="1916"/>
                  </a:lnTo>
                  <a:lnTo>
                    <a:pt x="30" y="1856"/>
                  </a:lnTo>
                  <a:lnTo>
                    <a:pt x="23" y="1856"/>
                  </a:lnTo>
                  <a:lnTo>
                    <a:pt x="23" y="1802"/>
                  </a:lnTo>
                  <a:lnTo>
                    <a:pt x="30" y="1802"/>
                  </a:lnTo>
                  <a:lnTo>
                    <a:pt x="30" y="1778"/>
                  </a:lnTo>
                  <a:lnTo>
                    <a:pt x="23" y="1778"/>
                  </a:lnTo>
                  <a:lnTo>
                    <a:pt x="23" y="1767"/>
                  </a:lnTo>
                  <a:lnTo>
                    <a:pt x="30" y="1767"/>
                  </a:lnTo>
                  <a:lnTo>
                    <a:pt x="30" y="1691"/>
                  </a:lnTo>
                  <a:lnTo>
                    <a:pt x="34" y="1691"/>
                  </a:lnTo>
                  <a:lnTo>
                    <a:pt x="34" y="1631"/>
                  </a:lnTo>
                  <a:lnTo>
                    <a:pt x="39" y="1631"/>
                  </a:lnTo>
                  <a:lnTo>
                    <a:pt x="39" y="1548"/>
                  </a:lnTo>
                  <a:lnTo>
                    <a:pt x="44" y="1548"/>
                  </a:lnTo>
                  <a:lnTo>
                    <a:pt x="44" y="1471"/>
                  </a:lnTo>
                  <a:lnTo>
                    <a:pt x="49" y="1471"/>
                  </a:lnTo>
                  <a:lnTo>
                    <a:pt x="49" y="1430"/>
                  </a:lnTo>
                  <a:lnTo>
                    <a:pt x="53" y="1430"/>
                  </a:lnTo>
                  <a:lnTo>
                    <a:pt x="53" y="1389"/>
                  </a:lnTo>
                  <a:lnTo>
                    <a:pt x="57" y="1389"/>
                  </a:lnTo>
                  <a:lnTo>
                    <a:pt x="57" y="1307"/>
                  </a:lnTo>
                  <a:lnTo>
                    <a:pt x="63" y="1307"/>
                  </a:lnTo>
                  <a:lnTo>
                    <a:pt x="63" y="1264"/>
                  </a:lnTo>
                  <a:lnTo>
                    <a:pt x="67" y="1264"/>
                  </a:lnTo>
                  <a:lnTo>
                    <a:pt x="67" y="1158"/>
                  </a:lnTo>
                  <a:lnTo>
                    <a:pt x="72" y="1158"/>
                  </a:lnTo>
                  <a:lnTo>
                    <a:pt x="72" y="1106"/>
                  </a:lnTo>
                  <a:lnTo>
                    <a:pt x="77" y="1106"/>
                  </a:lnTo>
                  <a:lnTo>
                    <a:pt x="77" y="1029"/>
                  </a:lnTo>
                  <a:lnTo>
                    <a:pt x="82" y="1029"/>
                  </a:lnTo>
                  <a:lnTo>
                    <a:pt x="82" y="999"/>
                  </a:lnTo>
                  <a:lnTo>
                    <a:pt x="77" y="999"/>
                  </a:lnTo>
                  <a:lnTo>
                    <a:pt x="77" y="987"/>
                  </a:lnTo>
                  <a:lnTo>
                    <a:pt x="82" y="987"/>
                  </a:lnTo>
                  <a:lnTo>
                    <a:pt x="82" y="864"/>
                  </a:lnTo>
                  <a:lnTo>
                    <a:pt x="91" y="864"/>
                  </a:lnTo>
                  <a:lnTo>
                    <a:pt x="91" y="856"/>
                  </a:lnTo>
                  <a:lnTo>
                    <a:pt x="96" y="856"/>
                  </a:lnTo>
                  <a:lnTo>
                    <a:pt x="96" y="851"/>
                  </a:lnTo>
                  <a:lnTo>
                    <a:pt x="101" y="851"/>
                  </a:lnTo>
                  <a:lnTo>
                    <a:pt x="101" y="845"/>
                  </a:lnTo>
                  <a:lnTo>
                    <a:pt x="111" y="845"/>
                  </a:lnTo>
                  <a:lnTo>
                    <a:pt x="111" y="834"/>
                  </a:lnTo>
                  <a:lnTo>
                    <a:pt x="116" y="834"/>
                  </a:lnTo>
                  <a:lnTo>
                    <a:pt x="116" y="828"/>
                  </a:lnTo>
                  <a:lnTo>
                    <a:pt x="126" y="828"/>
                  </a:lnTo>
                  <a:lnTo>
                    <a:pt x="126" y="821"/>
                  </a:lnTo>
                  <a:lnTo>
                    <a:pt x="130" y="821"/>
                  </a:lnTo>
                  <a:lnTo>
                    <a:pt x="130" y="815"/>
                  </a:lnTo>
                  <a:lnTo>
                    <a:pt x="134" y="815"/>
                  </a:lnTo>
                  <a:lnTo>
                    <a:pt x="134" y="810"/>
                  </a:lnTo>
                  <a:lnTo>
                    <a:pt x="140" y="810"/>
                  </a:lnTo>
                  <a:lnTo>
                    <a:pt x="140" y="804"/>
                  </a:lnTo>
                  <a:lnTo>
                    <a:pt x="144" y="804"/>
                  </a:lnTo>
                  <a:lnTo>
                    <a:pt x="144" y="791"/>
                  </a:lnTo>
                  <a:lnTo>
                    <a:pt x="153" y="791"/>
                  </a:lnTo>
                  <a:lnTo>
                    <a:pt x="153" y="786"/>
                  </a:lnTo>
                  <a:lnTo>
                    <a:pt x="158" y="786"/>
                  </a:lnTo>
                  <a:lnTo>
                    <a:pt x="158" y="780"/>
                  </a:lnTo>
                  <a:lnTo>
                    <a:pt x="163" y="780"/>
                  </a:lnTo>
                  <a:lnTo>
                    <a:pt x="163" y="774"/>
                  </a:lnTo>
                  <a:lnTo>
                    <a:pt x="167" y="774"/>
                  </a:lnTo>
                  <a:lnTo>
                    <a:pt x="167" y="769"/>
                  </a:lnTo>
                  <a:lnTo>
                    <a:pt x="178" y="769"/>
                  </a:lnTo>
                  <a:lnTo>
                    <a:pt x="178" y="761"/>
                  </a:lnTo>
                  <a:lnTo>
                    <a:pt x="183" y="761"/>
                  </a:lnTo>
                  <a:lnTo>
                    <a:pt x="183" y="750"/>
                  </a:lnTo>
                  <a:lnTo>
                    <a:pt x="188" y="750"/>
                  </a:lnTo>
                  <a:lnTo>
                    <a:pt x="188" y="745"/>
                  </a:lnTo>
                  <a:lnTo>
                    <a:pt x="202" y="745"/>
                  </a:lnTo>
                  <a:lnTo>
                    <a:pt x="202" y="738"/>
                  </a:lnTo>
                  <a:lnTo>
                    <a:pt x="207" y="738"/>
                  </a:lnTo>
                  <a:lnTo>
                    <a:pt x="207" y="733"/>
                  </a:lnTo>
                  <a:lnTo>
                    <a:pt x="211" y="733"/>
                  </a:lnTo>
                  <a:lnTo>
                    <a:pt x="211" y="728"/>
                  </a:lnTo>
                  <a:lnTo>
                    <a:pt x="216" y="728"/>
                  </a:lnTo>
                  <a:lnTo>
                    <a:pt x="216" y="720"/>
                  </a:lnTo>
                  <a:lnTo>
                    <a:pt x="225" y="720"/>
                  </a:lnTo>
                  <a:lnTo>
                    <a:pt x="225" y="715"/>
                  </a:lnTo>
                  <a:lnTo>
                    <a:pt x="235" y="715"/>
                  </a:lnTo>
                  <a:lnTo>
                    <a:pt x="235" y="709"/>
                  </a:lnTo>
                  <a:lnTo>
                    <a:pt x="240" y="709"/>
                  </a:lnTo>
                  <a:lnTo>
                    <a:pt x="240" y="703"/>
                  </a:lnTo>
                  <a:lnTo>
                    <a:pt x="245" y="703"/>
                  </a:lnTo>
                  <a:lnTo>
                    <a:pt x="245" y="697"/>
                  </a:lnTo>
                  <a:lnTo>
                    <a:pt x="260" y="697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4" y="687"/>
                  </a:lnTo>
                  <a:lnTo>
                    <a:pt x="274" y="687"/>
                  </a:lnTo>
                  <a:lnTo>
                    <a:pt x="274" y="679"/>
                  </a:lnTo>
                  <a:lnTo>
                    <a:pt x="284" y="679"/>
                  </a:lnTo>
                  <a:lnTo>
                    <a:pt x="284" y="674"/>
                  </a:lnTo>
                  <a:lnTo>
                    <a:pt x="288" y="674"/>
                  </a:lnTo>
                  <a:lnTo>
                    <a:pt x="288" y="668"/>
                  </a:lnTo>
                  <a:lnTo>
                    <a:pt x="297" y="668"/>
                  </a:lnTo>
                  <a:lnTo>
                    <a:pt x="297" y="662"/>
                  </a:lnTo>
                  <a:lnTo>
                    <a:pt x="303" y="662"/>
                  </a:lnTo>
                  <a:lnTo>
                    <a:pt x="303" y="657"/>
                  </a:lnTo>
                  <a:lnTo>
                    <a:pt x="307" y="657"/>
                  </a:lnTo>
                  <a:lnTo>
                    <a:pt x="307" y="650"/>
                  </a:lnTo>
                  <a:lnTo>
                    <a:pt x="318" y="650"/>
                  </a:lnTo>
                  <a:lnTo>
                    <a:pt x="318" y="644"/>
                  </a:lnTo>
                  <a:lnTo>
                    <a:pt x="322" y="644"/>
                  </a:lnTo>
                  <a:lnTo>
                    <a:pt x="322" y="638"/>
                  </a:lnTo>
                  <a:lnTo>
                    <a:pt x="332" y="638"/>
                  </a:lnTo>
                  <a:lnTo>
                    <a:pt x="332" y="633"/>
                  </a:lnTo>
                  <a:lnTo>
                    <a:pt x="341" y="633"/>
                  </a:lnTo>
                  <a:lnTo>
                    <a:pt x="341" y="627"/>
                  </a:lnTo>
                  <a:lnTo>
                    <a:pt x="346" y="627"/>
                  </a:lnTo>
                  <a:lnTo>
                    <a:pt x="346" y="620"/>
                  </a:lnTo>
                  <a:lnTo>
                    <a:pt x="351" y="620"/>
                  </a:lnTo>
                  <a:lnTo>
                    <a:pt x="351" y="615"/>
                  </a:lnTo>
                  <a:lnTo>
                    <a:pt x="360" y="615"/>
                  </a:lnTo>
                  <a:lnTo>
                    <a:pt x="360" y="603"/>
                  </a:lnTo>
                  <a:lnTo>
                    <a:pt x="370" y="603"/>
                  </a:lnTo>
                  <a:lnTo>
                    <a:pt x="370" y="597"/>
                  </a:lnTo>
                  <a:lnTo>
                    <a:pt x="380" y="597"/>
                  </a:lnTo>
                  <a:lnTo>
                    <a:pt x="380" y="592"/>
                  </a:lnTo>
                  <a:lnTo>
                    <a:pt x="384" y="592"/>
                  </a:lnTo>
                  <a:lnTo>
                    <a:pt x="384" y="584"/>
                  </a:lnTo>
                  <a:lnTo>
                    <a:pt x="394" y="584"/>
                  </a:lnTo>
                  <a:lnTo>
                    <a:pt x="394" y="579"/>
                  </a:lnTo>
                  <a:lnTo>
                    <a:pt x="399" y="579"/>
                  </a:lnTo>
                  <a:lnTo>
                    <a:pt x="399" y="574"/>
                  </a:lnTo>
                  <a:lnTo>
                    <a:pt x="408" y="574"/>
                  </a:lnTo>
                  <a:lnTo>
                    <a:pt x="408" y="568"/>
                  </a:lnTo>
                  <a:lnTo>
                    <a:pt x="418" y="568"/>
                  </a:lnTo>
                  <a:lnTo>
                    <a:pt x="418" y="562"/>
                  </a:lnTo>
                  <a:lnTo>
                    <a:pt x="428" y="562"/>
                  </a:lnTo>
                  <a:lnTo>
                    <a:pt x="428" y="556"/>
                  </a:lnTo>
                  <a:lnTo>
                    <a:pt x="437" y="556"/>
                  </a:lnTo>
                  <a:lnTo>
                    <a:pt x="437" y="551"/>
                  </a:lnTo>
                  <a:lnTo>
                    <a:pt x="442" y="551"/>
                  </a:lnTo>
                  <a:lnTo>
                    <a:pt x="442" y="543"/>
                  </a:lnTo>
                  <a:lnTo>
                    <a:pt x="451" y="543"/>
                  </a:lnTo>
                  <a:lnTo>
                    <a:pt x="451" y="538"/>
                  </a:lnTo>
                  <a:lnTo>
                    <a:pt x="462" y="538"/>
                  </a:lnTo>
                  <a:lnTo>
                    <a:pt x="462" y="532"/>
                  </a:lnTo>
                  <a:lnTo>
                    <a:pt x="471" y="532"/>
                  </a:lnTo>
                  <a:lnTo>
                    <a:pt x="471" y="526"/>
                  </a:lnTo>
                  <a:lnTo>
                    <a:pt x="476" y="526"/>
                  </a:lnTo>
                  <a:lnTo>
                    <a:pt x="476" y="521"/>
                  </a:lnTo>
                  <a:lnTo>
                    <a:pt x="481" y="521"/>
                  </a:lnTo>
                  <a:lnTo>
                    <a:pt x="481" y="514"/>
                  </a:lnTo>
                  <a:lnTo>
                    <a:pt x="490" y="514"/>
                  </a:lnTo>
                  <a:lnTo>
                    <a:pt x="490" y="508"/>
                  </a:lnTo>
                  <a:lnTo>
                    <a:pt x="495" y="508"/>
                  </a:lnTo>
                  <a:lnTo>
                    <a:pt x="495" y="502"/>
                  </a:lnTo>
                  <a:lnTo>
                    <a:pt x="499" y="502"/>
                  </a:lnTo>
                  <a:lnTo>
                    <a:pt x="499" y="497"/>
                  </a:lnTo>
                  <a:lnTo>
                    <a:pt x="509" y="497"/>
                  </a:lnTo>
                  <a:lnTo>
                    <a:pt x="509" y="491"/>
                  </a:lnTo>
                  <a:lnTo>
                    <a:pt x="514" y="491"/>
                  </a:lnTo>
                  <a:lnTo>
                    <a:pt x="514" y="484"/>
                  </a:lnTo>
                  <a:lnTo>
                    <a:pt x="518" y="484"/>
                  </a:lnTo>
                  <a:lnTo>
                    <a:pt x="518" y="478"/>
                  </a:lnTo>
                  <a:lnTo>
                    <a:pt x="524" y="478"/>
                  </a:lnTo>
                  <a:lnTo>
                    <a:pt x="524" y="473"/>
                  </a:lnTo>
                  <a:lnTo>
                    <a:pt x="532" y="473"/>
                  </a:lnTo>
                  <a:lnTo>
                    <a:pt x="532" y="467"/>
                  </a:lnTo>
                  <a:lnTo>
                    <a:pt x="538" y="467"/>
                  </a:lnTo>
                  <a:lnTo>
                    <a:pt x="538" y="461"/>
                  </a:lnTo>
                  <a:lnTo>
                    <a:pt x="548" y="461"/>
                  </a:lnTo>
                  <a:lnTo>
                    <a:pt x="548" y="456"/>
                  </a:lnTo>
                  <a:lnTo>
                    <a:pt x="552" y="456"/>
                  </a:lnTo>
                  <a:lnTo>
                    <a:pt x="552" y="450"/>
                  </a:lnTo>
                  <a:lnTo>
                    <a:pt x="562" y="450"/>
                  </a:lnTo>
                  <a:lnTo>
                    <a:pt x="562" y="443"/>
                  </a:lnTo>
                  <a:lnTo>
                    <a:pt x="572" y="443"/>
                  </a:lnTo>
                  <a:lnTo>
                    <a:pt x="572" y="437"/>
                  </a:lnTo>
                  <a:lnTo>
                    <a:pt x="576" y="437"/>
                  </a:lnTo>
                  <a:lnTo>
                    <a:pt x="576" y="432"/>
                  </a:lnTo>
                  <a:lnTo>
                    <a:pt x="581" y="432"/>
                  </a:lnTo>
                  <a:lnTo>
                    <a:pt x="581" y="425"/>
                  </a:lnTo>
                  <a:lnTo>
                    <a:pt x="591" y="425"/>
                  </a:lnTo>
                  <a:lnTo>
                    <a:pt x="591" y="420"/>
                  </a:lnTo>
                  <a:lnTo>
                    <a:pt x="595" y="420"/>
                  </a:lnTo>
                  <a:lnTo>
                    <a:pt x="595" y="415"/>
                  </a:lnTo>
                  <a:lnTo>
                    <a:pt x="600" y="415"/>
                  </a:lnTo>
                  <a:lnTo>
                    <a:pt x="600" y="407"/>
                  </a:lnTo>
                  <a:lnTo>
                    <a:pt x="605" y="407"/>
                  </a:lnTo>
                  <a:lnTo>
                    <a:pt x="605" y="402"/>
                  </a:lnTo>
                  <a:lnTo>
                    <a:pt x="610" y="402"/>
                  </a:lnTo>
                  <a:lnTo>
                    <a:pt x="610" y="396"/>
                  </a:lnTo>
                  <a:lnTo>
                    <a:pt x="620" y="396"/>
                  </a:lnTo>
                  <a:lnTo>
                    <a:pt x="620" y="391"/>
                  </a:lnTo>
                  <a:lnTo>
                    <a:pt x="625" y="391"/>
                  </a:lnTo>
                  <a:lnTo>
                    <a:pt x="625" y="383"/>
                  </a:lnTo>
                  <a:lnTo>
                    <a:pt x="629" y="383"/>
                  </a:lnTo>
                  <a:lnTo>
                    <a:pt x="629" y="378"/>
                  </a:lnTo>
                  <a:lnTo>
                    <a:pt x="639" y="378"/>
                  </a:lnTo>
                  <a:lnTo>
                    <a:pt x="639" y="372"/>
                  </a:lnTo>
                  <a:lnTo>
                    <a:pt x="644" y="372"/>
                  </a:lnTo>
                  <a:lnTo>
                    <a:pt x="644" y="366"/>
                  </a:lnTo>
                  <a:lnTo>
                    <a:pt x="653" y="366"/>
                  </a:lnTo>
                  <a:lnTo>
                    <a:pt x="653" y="361"/>
                  </a:lnTo>
                  <a:lnTo>
                    <a:pt x="658" y="361"/>
                  </a:lnTo>
                  <a:lnTo>
                    <a:pt x="658" y="348"/>
                  </a:lnTo>
                  <a:lnTo>
                    <a:pt x="668" y="348"/>
                  </a:lnTo>
                  <a:lnTo>
                    <a:pt x="668" y="342"/>
                  </a:lnTo>
                  <a:lnTo>
                    <a:pt x="677" y="342"/>
                  </a:lnTo>
                  <a:lnTo>
                    <a:pt x="677" y="337"/>
                  </a:lnTo>
                  <a:lnTo>
                    <a:pt x="682" y="337"/>
                  </a:lnTo>
                  <a:lnTo>
                    <a:pt x="682" y="331"/>
                  </a:lnTo>
                  <a:lnTo>
                    <a:pt x="688" y="331"/>
                  </a:lnTo>
                  <a:lnTo>
                    <a:pt x="688" y="325"/>
                  </a:lnTo>
                  <a:lnTo>
                    <a:pt x="696" y="325"/>
                  </a:lnTo>
                  <a:lnTo>
                    <a:pt x="696" y="320"/>
                  </a:lnTo>
                  <a:lnTo>
                    <a:pt x="706" y="320"/>
                  </a:lnTo>
                  <a:lnTo>
                    <a:pt x="706" y="313"/>
                  </a:lnTo>
                  <a:lnTo>
                    <a:pt x="716" y="313"/>
                  </a:lnTo>
                  <a:lnTo>
                    <a:pt x="716" y="307"/>
                  </a:lnTo>
                  <a:lnTo>
                    <a:pt x="721" y="307"/>
                  </a:lnTo>
                  <a:lnTo>
                    <a:pt x="721" y="301"/>
                  </a:lnTo>
                  <a:lnTo>
                    <a:pt x="725" y="301"/>
                  </a:lnTo>
                  <a:lnTo>
                    <a:pt x="725" y="296"/>
                  </a:lnTo>
                  <a:lnTo>
                    <a:pt x="730" y="296"/>
                  </a:lnTo>
                  <a:lnTo>
                    <a:pt x="730" y="289"/>
                  </a:lnTo>
                  <a:lnTo>
                    <a:pt x="735" y="289"/>
                  </a:lnTo>
                  <a:lnTo>
                    <a:pt x="735" y="284"/>
                  </a:lnTo>
                  <a:lnTo>
                    <a:pt x="744" y="284"/>
                  </a:lnTo>
                  <a:lnTo>
                    <a:pt x="744" y="277"/>
                  </a:lnTo>
                  <a:lnTo>
                    <a:pt x="749" y="277"/>
                  </a:lnTo>
                  <a:lnTo>
                    <a:pt x="749" y="272"/>
                  </a:lnTo>
                  <a:lnTo>
                    <a:pt x="759" y="272"/>
                  </a:lnTo>
                  <a:lnTo>
                    <a:pt x="759" y="266"/>
                  </a:lnTo>
                  <a:lnTo>
                    <a:pt x="765" y="266"/>
                  </a:lnTo>
                  <a:lnTo>
                    <a:pt x="765" y="260"/>
                  </a:lnTo>
                  <a:lnTo>
                    <a:pt x="774" y="260"/>
                  </a:lnTo>
                  <a:lnTo>
                    <a:pt x="774" y="255"/>
                  </a:lnTo>
                  <a:lnTo>
                    <a:pt x="778" y="255"/>
                  </a:lnTo>
                  <a:lnTo>
                    <a:pt x="778" y="247"/>
                  </a:lnTo>
                  <a:lnTo>
                    <a:pt x="792" y="247"/>
                  </a:lnTo>
                  <a:lnTo>
                    <a:pt x="792" y="242"/>
                  </a:lnTo>
                  <a:lnTo>
                    <a:pt x="798" y="242"/>
                  </a:lnTo>
                  <a:lnTo>
                    <a:pt x="798" y="237"/>
                  </a:lnTo>
                  <a:lnTo>
                    <a:pt x="807" y="237"/>
                  </a:lnTo>
                  <a:lnTo>
                    <a:pt x="807" y="230"/>
                  </a:lnTo>
                  <a:lnTo>
                    <a:pt x="812" y="230"/>
                  </a:lnTo>
                  <a:lnTo>
                    <a:pt x="812" y="225"/>
                  </a:lnTo>
                  <a:lnTo>
                    <a:pt x="821" y="225"/>
                  </a:lnTo>
                  <a:lnTo>
                    <a:pt x="821" y="219"/>
                  </a:lnTo>
                  <a:lnTo>
                    <a:pt x="826" y="219"/>
                  </a:lnTo>
                  <a:lnTo>
                    <a:pt x="826" y="214"/>
                  </a:lnTo>
                  <a:lnTo>
                    <a:pt x="836" y="214"/>
                  </a:lnTo>
                  <a:lnTo>
                    <a:pt x="836" y="207"/>
                  </a:lnTo>
                  <a:lnTo>
                    <a:pt x="846" y="207"/>
                  </a:lnTo>
                  <a:lnTo>
                    <a:pt x="846" y="201"/>
                  </a:lnTo>
                  <a:lnTo>
                    <a:pt x="860" y="201"/>
                  </a:lnTo>
                  <a:lnTo>
                    <a:pt x="860" y="196"/>
                  </a:lnTo>
                  <a:lnTo>
                    <a:pt x="869" y="196"/>
                  </a:lnTo>
                  <a:lnTo>
                    <a:pt x="869" y="189"/>
                  </a:lnTo>
                  <a:lnTo>
                    <a:pt x="874" y="189"/>
                  </a:lnTo>
                  <a:lnTo>
                    <a:pt x="874" y="184"/>
                  </a:lnTo>
                  <a:lnTo>
                    <a:pt x="883" y="184"/>
                  </a:lnTo>
                  <a:lnTo>
                    <a:pt x="883" y="177"/>
                  </a:lnTo>
                  <a:lnTo>
                    <a:pt x="888" y="177"/>
                  </a:lnTo>
                  <a:lnTo>
                    <a:pt x="888" y="171"/>
                  </a:lnTo>
                  <a:lnTo>
                    <a:pt x="899" y="171"/>
                  </a:lnTo>
                  <a:lnTo>
                    <a:pt x="899" y="165"/>
                  </a:lnTo>
                  <a:lnTo>
                    <a:pt x="908" y="165"/>
                  </a:lnTo>
                  <a:lnTo>
                    <a:pt x="908" y="160"/>
                  </a:lnTo>
                  <a:lnTo>
                    <a:pt x="917" y="160"/>
                  </a:lnTo>
                  <a:lnTo>
                    <a:pt x="917" y="154"/>
                  </a:lnTo>
                  <a:lnTo>
                    <a:pt x="932" y="154"/>
                  </a:lnTo>
                  <a:lnTo>
                    <a:pt x="932" y="148"/>
                  </a:lnTo>
                  <a:lnTo>
                    <a:pt x="936" y="148"/>
                  </a:lnTo>
                  <a:lnTo>
                    <a:pt x="936" y="143"/>
                  </a:lnTo>
                  <a:lnTo>
                    <a:pt x="946" y="143"/>
                  </a:lnTo>
                  <a:lnTo>
                    <a:pt x="946" y="136"/>
                  </a:lnTo>
                  <a:lnTo>
                    <a:pt x="950" y="136"/>
                  </a:lnTo>
                  <a:lnTo>
                    <a:pt x="950" y="130"/>
                  </a:lnTo>
                  <a:lnTo>
                    <a:pt x="965" y="130"/>
                  </a:lnTo>
                  <a:lnTo>
                    <a:pt x="965" y="124"/>
                  </a:lnTo>
                  <a:lnTo>
                    <a:pt x="976" y="124"/>
                  </a:lnTo>
                  <a:lnTo>
                    <a:pt x="976" y="119"/>
                  </a:lnTo>
                  <a:lnTo>
                    <a:pt x="985" y="119"/>
                  </a:lnTo>
                  <a:lnTo>
                    <a:pt x="985" y="111"/>
                  </a:lnTo>
                  <a:lnTo>
                    <a:pt x="994" y="111"/>
                  </a:lnTo>
                  <a:lnTo>
                    <a:pt x="994" y="106"/>
                  </a:lnTo>
                  <a:lnTo>
                    <a:pt x="1004" y="106"/>
                  </a:lnTo>
                  <a:lnTo>
                    <a:pt x="1004" y="101"/>
                  </a:lnTo>
                  <a:lnTo>
                    <a:pt x="1009" y="101"/>
                  </a:lnTo>
                  <a:lnTo>
                    <a:pt x="1009" y="95"/>
                  </a:lnTo>
                  <a:lnTo>
                    <a:pt x="1028" y="95"/>
                  </a:lnTo>
                  <a:lnTo>
                    <a:pt x="1028" y="89"/>
                  </a:lnTo>
                  <a:lnTo>
                    <a:pt x="1043" y="89"/>
                  </a:lnTo>
                  <a:lnTo>
                    <a:pt x="1043" y="83"/>
                  </a:lnTo>
                  <a:lnTo>
                    <a:pt x="1053" y="83"/>
                  </a:lnTo>
                  <a:lnTo>
                    <a:pt x="1053" y="78"/>
                  </a:lnTo>
                  <a:lnTo>
                    <a:pt x="1062" y="78"/>
                  </a:lnTo>
                  <a:lnTo>
                    <a:pt x="1062" y="70"/>
                  </a:lnTo>
                  <a:lnTo>
                    <a:pt x="1066" y="70"/>
                  </a:lnTo>
                  <a:lnTo>
                    <a:pt x="1066" y="65"/>
                  </a:lnTo>
                  <a:lnTo>
                    <a:pt x="1080" y="65"/>
                  </a:lnTo>
                  <a:lnTo>
                    <a:pt x="1080" y="59"/>
                  </a:lnTo>
                  <a:lnTo>
                    <a:pt x="1090" y="59"/>
                  </a:lnTo>
                  <a:lnTo>
                    <a:pt x="1090" y="53"/>
                  </a:lnTo>
                  <a:lnTo>
                    <a:pt x="1100" y="53"/>
                  </a:lnTo>
                  <a:lnTo>
                    <a:pt x="1100" y="48"/>
                  </a:lnTo>
                  <a:lnTo>
                    <a:pt x="1115" y="48"/>
                  </a:lnTo>
                  <a:lnTo>
                    <a:pt x="1115" y="41"/>
                  </a:lnTo>
                  <a:lnTo>
                    <a:pt x="1129" y="41"/>
                  </a:lnTo>
                  <a:lnTo>
                    <a:pt x="1129" y="35"/>
                  </a:lnTo>
                  <a:lnTo>
                    <a:pt x="1143" y="35"/>
                  </a:lnTo>
                  <a:lnTo>
                    <a:pt x="1143" y="29"/>
                  </a:lnTo>
                  <a:lnTo>
                    <a:pt x="1157" y="29"/>
                  </a:lnTo>
                  <a:lnTo>
                    <a:pt x="1157" y="24"/>
                  </a:lnTo>
                  <a:lnTo>
                    <a:pt x="1187" y="24"/>
                  </a:lnTo>
                  <a:lnTo>
                    <a:pt x="1187" y="18"/>
                  </a:lnTo>
                  <a:lnTo>
                    <a:pt x="1220" y="18"/>
                  </a:lnTo>
                  <a:lnTo>
                    <a:pt x="1220" y="12"/>
                  </a:lnTo>
                  <a:lnTo>
                    <a:pt x="1234" y="12"/>
                  </a:lnTo>
                  <a:lnTo>
                    <a:pt x="1234" y="5"/>
                  </a:lnTo>
                  <a:lnTo>
                    <a:pt x="1259" y="5"/>
                  </a:lnTo>
                  <a:lnTo>
                    <a:pt x="1259" y="0"/>
                  </a:lnTo>
                  <a:lnTo>
                    <a:pt x="1320" y="0"/>
                  </a:lnTo>
                  <a:lnTo>
                    <a:pt x="1320" y="5"/>
                  </a:lnTo>
                  <a:lnTo>
                    <a:pt x="1326" y="5"/>
                  </a:lnTo>
                  <a:lnTo>
                    <a:pt x="1326" y="12"/>
                  </a:lnTo>
                  <a:lnTo>
                    <a:pt x="1331" y="12"/>
                  </a:lnTo>
                  <a:lnTo>
                    <a:pt x="1331" y="53"/>
                  </a:lnTo>
                  <a:lnTo>
                    <a:pt x="1320" y="53"/>
                  </a:lnTo>
                  <a:lnTo>
                    <a:pt x="1320" y="59"/>
                  </a:lnTo>
                  <a:lnTo>
                    <a:pt x="1278" y="59"/>
                  </a:lnTo>
                  <a:lnTo>
                    <a:pt x="1278" y="65"/>
                  </a:lnTo>
                  <a:lnTo>
                    <a:pt x="1239" y="65"/>
                  </a:lnTo>
                  <a:lnTo>
                    <a:pt x="1239" y="70"/>
                  </a:lnTo>
                  <a:lnTo>
                    <a:pt x="1220" y="70"/>
                  </a:lnTo>
                  <a:lnTo>
                    <a:pt x="1220" y="78"/>
                  </a:lnTo>
                  <a:lnTo>
                    <a:pt x="1187" y="78"/>
                  </a:lnTo>
                  <a:lnTo>
                    <a:pt x="1187" y="83"/>
                  </a:lnTo>
                  <a:lnTo>
                    <a:pt x="1167" y="83"/>
                  </a:lnTo>
                  <a:lnTo>
                    <a:pt x="1167" y="89"/>
                  </a:lnTo>
                  <a:lnTo>
                    <a:pt x="1143" y="89"/>
                  </a:lnTo>
                  <a:lnTo>
                    <a:pt x="1143" y="95"/>
                  </a:lnTo>
                  <a:lnTo>
                    <a:pt x="1134" y="95"/>
                  </a:lnTo>
                  <a:lnTo>
                    <a:pt x="1134" y="101"/>
                  </a:lnTo>
                  <a:lnTo>
                    <a:pt x="1124" y="101"/>
                  </a:lnTo>
                  <a:lnTo>
                    <a:pt x="1124" y="106"/>
                  </a:lnTo>
                  <a:lnTo>
                    <a:pt x="1115" y="106"/>
                  </a:lnTo>
                  <a:lnTo>
                    <a:pt x="1115" y="111"/>
                  </a:lnTo>
                  <a:lnTo>
                    <a:pt x="1100" y="111"/>
                  </a:lnTo>
                  <a:lnTo>
                    <a:pt x="1100" y="119"/>
                  </a:lnTo>
                  <a:lnTo>
                    <a:pt x="1086" y="119"/>
                  </a:lnTo>
                  <a:lnTo>
                    <a:pt x="1086" y="124"/>
                  </a:lnTo>
                  <a:lnTo>
                    <a:pt x="1080" y="124"/>
                  </a:lnTo>
                  <a:lnTo>
                    <a:pt x="1080" y="130"/>
                  </a:lnTo>
                  <a:lnTo>
                    <a:pt x="1066" y="130"/>
                  </a:lnTo>
                  <a:lnTo>
                    <a:pt x="1066" y="136"/>
                  </a:lnTo>
                  <a:lnTo>
                    <a:pt x="1057" y="136"/>
                  </a:lnTo>
                  <a:lnTo>
                    <a:pt x="1057" y="143"/>
                  </a:lnTo>
                  <a:lnTo>
                    <a:pt x="1047" y="143"/>
                  </a:lnTo>
                  <a:lnTo>
                    <a:pt x="1047" y="148"/>
                  </a:lnTo>
                  <a:lnTo>
                    <a:pt x="1032" y="148"/>
                  </a:lnTo>
                  <a:lnTo>
                    <a:pt x="1032" y="154"/>
                  </a:lnTo>
                  <a:lnTo>
                    <a:pt x="1023" y="154"/>
                  </a:lnTo>
                  <a:lnTo>
                    <a:pt x="1023" y="160"/>
                  </a:lnTo>
                  <a:lnTo>
                    <a:pt x="1009" y="160"/>
                  </a:lnTo>
                  <a:lnTo>
                    <a:pt x="1009" y="165"/>
                  </a:lnTo>
                  <a:lnTo>
                    <a:pt x="999" y="165"/>
                  </a:lnTo>
                  <a:lnTo>
                    <a:pt x="999" y="171"/>
                  </a:lnTo>
                  <a:lnTo>
                    <a:pt x="990" y="171"/>
                  </a:lnTo>
                  <a:lnTo>
                    <a:pt x="990" y="177"/>
                  </a:lnTo>
                  <a:lnTo>
                    <a:pt x="985" y="177"/>
                  </a:lnTo>
                  <a:lnTo>
                    <a:pt x="985" y="184"/>
                  </a:lnTo>
                  <a:lnTo>
                    <a:pt x="976" y="184"/>
                  </a:lnTo>
                  <a:lnTo>
                    <a:pt x="976" y="189"/>
                  </a:lnTo>
                  <a:lnTo>
                    <a:pt x="965" y="189"/>
                  </a:lnTo>
                  <a:lnTo>
                    <a:pt x="965" y="196"/>
                  </a:lnTo>
                  <a:lnTo>
                    <a:pt x="950" y="196"/>
                  </a:lnTo>
                  <a:lnTo>
                    <a:pt x="950" y="201"/>
                  </a:lnTo>
                  <a:lnTo>
                    <a:pt x="946" y="201"/>
                  </a:lnTo>
                  <a:lnTo>
                    <a:pt x="946" y="207"/>
                  </a:lnTo>
                  <a:lnTo>
                    <a:pt x="936" y="207"/>
                  </a:lnTo>
                  <a:lnTo>
                    <a:pt x="936" y="214"/>
                  </a:lnTo>
                  <a:lnTo>
                    <a:pt x="932" y="214"/>
                  </a:lnTo>
                  <a:lnTo>
                    <a:pt x="932" y="219"/>
                  </a:lnTo>
                  <a:lnTo>
                    <a:pt x="922" y="219"/>
                  </a:lnTo>
                  <a:lnTo>
                    <a:pt x="922" y="225"/>
                  </a:lnTo>
                  <a:lnTo>
                    <a:pt x="913" y="225"/>
                  </a:lnTo>
                  <a:lnTo>
                    <a:pt x="913" y="230"/>
                  </a:lnTo>
                  <a:lnTo>
                    <a:pt x="903" y="230"/>
                  </a:lnTo>
                  <a:lnTo>
                    <a:pt x="903" y="237"/>
                  </a:lnTo>
                  <a:lnTo>
                    <a:pt x="893" y="237"/>
                  </a:lnTo>
                  <a:lnTo>
                    <a:pt x="893" y="242"/>
                  </a:lnTo>
                  <a:lnTo>
                    <a:pt x="883" y="242"/>
                  </a:lnTo>
                  <a:lnTo>
                    <a:pt x="883" y="247"/>
                  </a:lnTo>
                  <a:lnTo>
                    <a:pt x="874" y="247"/>
                  </a:lnTo>
                  <a:lnTo>
                    <a:pt x="874" y="255"/>
                  </a:lnTo>
                  <a:lnTo>
                    <a:pt x="869" y="255"/>
                  </a:lnTo>
                  <a:lnTo>
                    <a:pt x="869" y="260"/>
                  </a:lnTo>
                  <a:lnTo>
                    <a:pt x="860" y="260"/>
                  </a:lnTo>
                  <a:lnTo>
                    <a:pt x="860" y="266"/>
                  </a:lnTo>
                  <a:lnTo>
                    <a:pt x="855" y="266"/>
                  </a:lnTo>
                  <a:lnTo>
                    <a:pt x="855" y="272"/>
                  </a:lnTo>
                  <a:lnTo>
                    <a:pt x="840" y="272"/>
                  </a:lnTo>
                  <a:lnTo>
                    <a:pt x="840" y="277"/>
                  </a:lnTo>
                  <a:lnTo>
                    <a:pt x="831" y="277"/>
                  </a:lnTo>
                  <a:lnTo>
                    <a:pt x="831" y="284"/>
                  </a:lnTo>
                  <a:lnTo>
                    <a:pt x="826" y="284"/>
                  </a:lnTo>
                  <a:lnTo>
                    <a:pt x="826" y="289"/>
                  </a:lnTo>
                  <a:lnTo>
                    <a:pt x="816" y="289"/>
                  </a:lnTo>
                  <a:lnTo>
                    <a:pt x="816" y="296"/>
                  </a:lnTo>
                  <a:lnTo>
                    <a:pt x="812" y="296"/>
                  </a:lnTo>
                  <a:lnTo>
                    <a:pt x="812" y="301"/>
                  </a:lnTo>
                  <a:lnTo>
                    <a:pt x="802" y="301"/>
                  </a:lnTo>
                  <a:lnTo>
                    <a:pt x="802" y="307"/>
                  </a:lnTo>
                  <a:lnTo>
                    <a:pt x="798" y="307"/>
                  </a:lnTo>
                  <a:lnTo>
                    <a:pt x="798" y="313"/>
                  </a:lnTo>
                  <a:lnTo>
                    <a:pt x="788" y="313"/>
                  </a:lnTo>
                  <a:lnTo>
                    <a:pt x="788" y="320"/>
                  </a:lnTo>
                  <a:lnTo>
                    <a:pt x="783" y="320"/>
                  </a:lnTo>
                  <a:lnTo>
                    <a:pt x="783" y="325"/>
                  </a:lnTo>
                  <a:lnTo>
                    <a:pt x="774" y="325"/>
                  </a:lnTo>
                  <a:lnTo>
                    <a:pt x="774" y="331"/>
                  </a:lnTo>
                  <a:lnTo>
                    <a:pt x="769" y="331"/>
                  </a:lnTo>
                  <a:lnTo>
                    <a:pt x="769" y="337"/>
                  </a:lnTo>
                  <a:lnTo>
                    <a:pt x="765" y="337"/>
                  </a:lnTo>
                  <a:lnTo>
                    <a:pt x="765" y="342"/>
                  </a:lnTo>
                  <a:lnTo>
                    <a:pt x="755" y="342"/>
                  </a:lnTo>
                  <a:lnTo>
                    <a:pt x="755" y="348"/>
                  </a:lnTo>
                  <a:lnTo>
                    <a:pt x="749" y="348"/>
                  </a:lnTo>
                  <a:lnTo>
                    <a:pt x="749" y="355"/>
                  </a:lnTo>
                  <a:lnTo>
                    <a:pt x="744" y="355"/>
                  </a:lnTo>
                  <a:lnTo>
                    <a:pt x="744" y="361"/>
                  </a:lnTo>
                  <a:lnTo>
                    <a:pt x="739" y="361"/>
                  </a:lnTo>
                  <a:lnTo>
                    <a:pt x="739" y="366"/>
                  </a:lnTo>
                  <a:lnTo>
                    <a:pt x="730" y="366"/>
                  </a:lnTo>
                  <a:lnTo>
                    <a:pt x="730" y="372"/>
                  </a:lnTo>
                  <a:lnTo>
                    <a:pt x="725" y="372"/>
                  </a:lnTo>
                  <a:lnTo>
                    <a:pt x="725" y="378"/>
                  </a:lnTo>
                  <a:lnTo>
                    <a:pt x="711" y="378"/>
                  </a:lnTo>
                  <a:lnTo>
                    <a:pt x="711" y="383"/>
                  </a:lnTo>
                  <a:lnTo>
                    <a:pt x="706" y="383"/>
                  </a:lnTo>
                  <a:lnTo>
                    <a:pt x="706" y="396"/>
                  </a:lnTo>
                  <a:lnTo>
                    <a:pt x="696" y="396"/>
                  </a:lnTo>
                  <a:lnTo>
                    <a:pt x="696" y="402"/>
                  </a:lnTo>
                  <a:lnTo>
                    <a:pt x="688" y="402"/>
                  </a:lnTo>
                  <a:lnTo>
                    <a:pt x="688" y="407"/>
                  </a:lnTo>
                  <a:lnTo>
                    <a:pt x="682" y="407"/>
                  </a:lnTo>
                  <a:lnTo>
                    <a:pt x="682" y="415"/>
                  </a:lnTo>
                  <a:lnTo>
                    <a:pt x="672" y="415"/>
                  </a:lnTo>
                  <a:lnTo>
                    <a:pt x="672" y="420"/>
                  </a:lnTo>
                  <a:lnTo>
                    <a:pt x="668" y="420"/>
                  </a:lnTo>
                  <a:lnTo>
                    <a:pt x="668" y="425"/>
                  </a:lnTo>
                  <a:lnTo>
                    <a:pt x="658" y="425"/>
                  </a:lnTo>
                  <a:lnTo>
                    <a:pt x="658" y="432"/>
                  </a:lnTo>
                  <a:lnTo>
                    <a:pt x="653" y="432"/>
                  </a:lnTo>
                  <a:lnTo>
                    <a:pt x="653" y="437"/>
                  </a:lnTo>
                  <a:lnTo>
                    <a:pt x="644" y="437"/>
                  </a:lnTo>
                  <a:lnTo>
                    <a:pt x="644" y="443"/>
                  </a:lnTo>
                  <a:lnTo>
                    <a:pt x="639" y="443"/>
                  </a:lnTo>
                  <a:lnTo>
                    <a:pt x="639" y="450"/>
                  </a:lnTo>
                  <a:lnTo>
                    <a:pt x="634" y="450"/>
                  </a:lnTo>
                  <a:lnTo>
                    <a:pt x="634" y="456"/>
                  </a:lnTo>
                  <a:lnTo>
                    <a:pt x="625" y="456"/>
                  </a:lnTo>
                  <a:lnTo>
                    <a:pt x="625" y="467"/>
                  </a:lnTo>
                  <a:lnTo>
                    <a:pt x="615" y="467"/>
                  </a:lnTo>
                  <a:lnTo>
                    <a:pt x="615" y="473"/>
                  </a:lnTo>
                  <a:lnTo>
                    <a:pt x="610" y="473"/>
                  </a:lnTo>
                  <a:lnTo>
                    <a:pt x="610" y="478"/>
                  </a:lnTo>
                  <a:lnTo>
                    <a:pt x="605" y="478"/>
                  </a:lnTo>
                  <a:lnTo>
                    <a:pt x="605" y="484"/>
                  </a:lnTo>
                  <a:lnTo>
                    <a:pt x="600" y="484"/>
                  </a:lnTo>
                  <a:lnTo>
                    <a:pt x="600" y="491"/>
                  </a:lnTo>
                  <a:lnTo>
                    <a:pt x="591" y="491"/>
                  </a:lnTo>
                  <a:lnTo>
                    <a:pt x="591" y="497"/>
                  </a:lnTo>
                  <a:lnTo>
                    <a:pt x="581" y="497"/>
                  </a:lnTo>
                  <a:lnTo>
                    <a:pt x="581" y="502"/>
                  </a:lnTo>
                  <a:lnTo>
                    <a:pt x="576" y="502"/>
                  </a:lnTo>
                  <a:lnTo>
                    <a:pt x="576" y="508"/>
                  </a:lnTo>
                  <a:lnTo>
                    <a:pt x="566" y="508"/>
                  </a:lnTo>
                  <a:lnTo>
                    <a:pt x="566" y="514"/>
                  </a:lnTo>
                  <a:lnTo>
                    <a:pt x="562" y="514"/>
                  </a:lnTo>
                  <a:lnTo>
                    <a:pt x="562" y="521"/>
                  </a:lnTo>
                  <a:lnTo>
                    <a:pt x="558" y="521"/>
                  </a:lnTo>
                  <a:lnTo>
                    <a:pt x="558" y="526"/>
                  </a:lnTo>
                  <a:lnTo>
                    <a:pt x="548" y="526"/>
                  </a:lnTo>
                  <a:lnTo>
                    <a:pt x="548" y="532"/>
                  </a:lnTo>
                  <a:lnTo>
                    <a:pt x="543" y="532"/>
                  </a:lnTo>
                  <a:lnTo>
                    <a:pt x="543" y="538"/>
                  </a:lnTo>
                  <a:lnTo>
                    <a:pt x="532" y="538"/>
                  </a:lnTo>
                  <a:lnTo>
                    <a:pt x="532" y="543"/>
                  </a:lnTo>
                  <a:lnTo>
                    <a:pt x="528" y="543"/>
                  </a:lnTo>
                  <a:lnTo>
                    <a:pt x="528" y="551"/>
                  </a:lnTo>
                  <a:lnTo>
                    <a:pt x="518" y="551"/>
                  </a:lnTo>
                  <a:lnTo>
                    <a:pt x="518" y="556"/>
                  </a:lnTo>
                  <a:lnTo>
                    <a:pt x="514" y="556"/>
                  </a:lnTo>
                  <a:lnTo>
                    <a:pt x="514" y="562"/>
                  </a:lnTo>
                  <a:lnTo>
                    <a:pt x="504" y="562"/>
                  </a:lnTo>
                  <a:lnTo>
                    <a:pt x="504" y="568"/>
                  </a:lnTo>
                  <a:lnTo>
                    <a:pt x="499" y="568"/>
                  </a:lnTo>
                  <a:lnTo>
                    <a:pt x="499" y="574"/>
                  </a:lnTo>
                  <a:lnTo>
                    <a:pt x="495" y="574"/>
                  </a:lnTo>
                  <a:lnTo>
                    <a:pt x="495" y="579"/>
                  </a:lnTo>
                  <a:lnTo>
                    <a:pt x="485" y="579"/>
                  </a:lnTo>
                  <a:lnTo>
                    <a:pt x="485" y="584"/>
                  </a:lnTo>
                  <a:lnTo>
                    <a:pt x="481" y="584"/>
                  </a:lnTo>
                  <a:lnTo>
                    <a:pt x="481" y="592"/>
                  </a:lnTo>
                  <a:lnTo>
                    <a:pt x="471" y="592"/>
                  </a:lnTo>
                  <a:lnTo>
                    <a:pt x="471" y="597"/>
                  </a:lnTo>
                  <a:lnTo>
                    <a:pt x="467" y="597"/>
                  </a:lnTo>
                  <a:lnTo>
                    <a:pt x="467" y="603"/>
                  </a:lnTo>
                  <a:lnTo>
                    <a:pt x="456" y="603"/>
                  </a:lnTo>
                  <a:lnTo>
                    <a:pt x="456" y="609"/>
                  </a:lnTo>
                  <a:lnTo>
                    <a:pt x="447" y="609"/>
                  </a:lnTo>
                  <a:lnTo>
                    <a:pt x="447" y="615"/>
                  </a:lnTo>
                  <a:lnTo>
                    <a:pt x="442" y="615"/>
                  </a:lnTo>
                  <a:lnTo>
                    <a:pt x="442" y="620"/>
                  </a:lnTo>
                  <a:lnTo>
                    <a:pt x="433" y="620"/>
                  </a:lnTo>
                  <a:lnTo>
                    <a:pt x="433" y="627"/>
                  </a:lnTo>
                  <a:lnTo>
                    <a:pt x="428" y="627"/>
                  </a:lnTo>
                  <a:lnTo>
                    <a:pt x="428" y="633"/>
                  </a:lnTo>
                  <a:lnTo>
                    <a:pt x="418" y="633"/>
                  </a:lnTo>
                  <a:lnTo>
                    <a:pt x="418" y="638"/>
                  </a:lnTo>
                  <a:lnTo>
                    <a:pt x="414" y="638"/>
                  </a:lnTo>
                  <a:lnTo>
                    <a:pt x="414" y="644"/>
                  </a:lnTo>
                  <a:lnTo>
                    <a:pt x="408" y="644"/>
                  </a:lnTo>
                  <a:lnTo>
                    <a:pt x="408" y="650"/>
                  </a:lnTo>
                  <a:lnTo>
                    <a:pt x="399" y="650"/>
                  </a:lnTo>
                  <a:lnTo>
                    <a:pt x="399" y="657"/>
                  </a:lnTo>
                  <a:lnTo>
                    <a:pt x="390" y="657"/>
                  </a:lnTo>
                  <a:lnTo>
                    <a:pt x="390" y="662"/>
                  </a:lnTo>
                  <a:lnTo>
                    <a:pt x="384" y="662"/>
                  </a:lnTo>
                  <a:lnTo>
                    <a:pt x="384" y="668"/>
                  </a:lnTo>
                  <a:lnTo>
                    <a:pt x="374" y="668"/>
                  </a:lnTo>
                  <a:lnTo>
                    <a:pt x="374" y="674"/>
                  </a:lnTo>
                  <a:lnTo>
                    <a:pt x="370" y="674"/>
                  </a:lnTo>
                  <a:lnTo>
                    <a:pt x="370" y="679"/>
                  </a:lnTo>
                  <a:lnTo>
                    <a:pt x="365" y="679"/>
                  </a:lnTo>
                  <a:lnTo>
                    <a:pt x="365" y="687"/>
                  </a:lnTo>
                  <a:lnTo>
                    <a:pt x="355" y="687"/>
                  </a:lnTo>
                  <a:lnTo>
                    <a:pt x="355" y="692"/>
                  </a:lnTo>
                  <a:lnTo>
                    <a:pt x="351" y="692"/>
                  </a:lnTo>
                  <a:lnTo>
                    <a:pt x="351" y="697"/>
                  </a:lnTo>
                  <a:lnTo>
                    <a:pt x="346" y="697"/>
                  </a:lnTo>
                  <a:lnTo>
                    <a:pt x="346" y="703"/>
                  </a:lnTo>
                  <a:lnTo>
                    <a:pt x="337" y="703"/>
                  </a:lnTo>
                  <a:lnTo>
                    <a:pt x="337" y="709"/>
                  </a:lnTo>
                  <a:lnTo>
                    <a:pt x="327" y="709"/>
                  </a:lnTo>
                  <a:lnTo>
                    <a:pt x="327" y="715"/>
                  </a:lnTo>
                  <a:lnTo>
                    <a:pt x="318" y="715"/>
                  </a:lnTo>
                  <a:lnTo>
                    <a:pt x="318" y="720"/>
                  </a:lnTo>
                  <a:lnTo>
                    <a:pt x="307" y="720"/>
                  </a:lnTo>
                  <a:lnTo>
                    <a:pt x="307" y="728"/>
                  </a:lnTo>
                  <a:lnTo>
                    <a:pt x="303" y="728"/>
                  </a:lnTo>
                  <a:lnTo>
                    <a:pt x="303" y="733"/>
                  </a:lnTo>
                  <a:lnTo>
                    <a:pt x="297" y="733"/>
                  </a:lnTo>
                  <a:lnTo>
                    <a:pt x="297" y="738"/>
                  </a:lnTo>
                  <a:lnTo>
                    <a:pt x="293" y="738"/>
                  </a:lnTo>
                  <a:lnTo>
                    <a:pt x="293" y="745"/>
                  </a:lnTo>
                  <a:lnTo>
                    <a:pt x="288" y="745"/>
                  </a:lnTo>
                  <a:lnTo>
                    <a:pt x="288" y="750"/>
                  </a:lnTo>
                  <a:lnTo>
                    <a:pt x="284" y="750"/>
                  </a:lnTo>
                  <a:lnTo>
                    <a:pt x="284" y="756"/>
                  </a:lnTo>
                  <a:lnTo>
                    <a:pt x="274" y="756"/>
                  </a:lnTo>
                  <a:lnTo>
                    <a:pt x="274" y="761"/>
                  </a:lnTo>
                  <a:lnTo>
                    <a:pt x="269" y="761"/>
                  </a:lnTo>
                  <a:lnTo>
                    <a:pt x="269" y="769"/>
                  </a:lnTo>
                  <a:lnTo>
                    <a:pt x="264" y="769"/>
                  </a:lnTo>
                  <a:lnTo>
                    <a:pt x="264" y="774"/>
                  </a:lnTo>
                  <a:lnTo>
                    <a:pt x="250" y="774"/>
                  </a:lnTo>
                  <a:lnTo>
                    <a:pt x="250" y="780"/>
                  </a:lnTo>
                  <a:lnTo>
                    <a:pt x="245" y="780"/>
                  </a:lnTo>
                  <a:lnTo>
                    <a:pt x="245" y="786"/>
                  </a:lnTo>
                  <a:lnTo>
                    <a:pt x="235" y="786"/>
                  </a:lnTo>
                  <a:lnTo>
                    <a:pt x="235" y="791"/>
                  </a:lnTo>
                  <a:lnTo>
                    <a:pt x="225" y="791"/>
                  </a:lnTo>
                  <a:lnTo>
                    <a:pt x="225" y="804"/>
                  </a:lnTo>
                  <a:lnTo>
                    <a:pt x="221" y="804"/>
                  </a:lnTo>
                  <a:lnTo>
                    <a:pt x="221" y="810"/>
                  </a:lnTo>
                  <a:lnTo>
                    <a:pt x="216" y="810"/>
                  </a:lnTo>
                  <a:lnTo>
                    <a:pt x="216" y="815"/>
                  </a:lnTo>
                  <a:lnTo>
                    <a:pt x="211" y="815"/>
                  </a:lnTo>
                  <a:lnTo>
                    <a:pt x="211" y="821"/>
                  </a:lnTo>
                  <a:lnTo>
                    <a:pt x="207" y="821"/>
                  </a:lnTo>
                  <a:lnTo>
                    <a:pt x="207" y="828"/>
                  </a:lnTo>
                  <a:lnTo>
                    <a:pt x="197" y="828"/>
                  </a:lnTo>
                  <a:lnTo>
                    <a:pt x="197" y="834"/>
                  </a:lnTo>
                  <a:lnTo>
                    <a:pt x="188" y="834"/>
                  </a:lnTo>
                  <a:lnTo>
                    <a:pt x="188" y="839"/>
                  </a:lnTo>
                  <a:lnTo>
                    <a:pt x="183" y="839"/>
                  </a:lnTo>
                  <a:lnTo>
                    <a:pt x="183" y="845"/>
                  </a:lnTo>
                  <a:lnTo>
                    <a:pt x="178" y="845"/>
                  </a:lnTo>
                  <a:lnTo>
                    <a:pt x="178" y="851"/>
                  </a:lnTo>
                  <a:lnTo>
                    <a:pt x="174" y="851"/>
                  </a:lnTo>
                  <a:lnTo>
                    <a:pt x="174" y="864"/>
                  </a:lnTo>
                  <a:lnTo>
                    <a:pt x="167" y="864"/>
                  </a:lnTo>
                  <a:lnTo>
                    <a:pt x="167" y="869"/>
                  </a:lnTo>
                  <a:lnTo>
                    <a:pt x="163" y="869"/>
                  </a:lnTo>
                  <a:lnTo>
                    <a:pt x="163" y="875"/>
                  </a:lnTo>
                  <a:lnTo>
                    <a:pt x="158" y="875"/>
                  </a:lnTo>
                  <a:lnTo>
                    <a:pt x="158" y="880"/>
                  </a:lnTo>
                  <a:lnTo>
                    <a:pt x="153" y="880"/>
                  </a:lnTo>
                  <a:lnTo>
                    <a:pt x="153" y="887"/>
                  </a:lnTo>
                  <a:lnTo>
                    <a:pt x="148" y="887"/>
                  </a:lnTo>
                  <a:lnTo>
                    <a:pt x="148" y="897"/>
                  </a:lnTo>
                  <a:lnTo>
                    <a:pt x="144" y="897"/>
                  </a:lnTo>
                  <a:lnTo>
                    <a:pt x="144" y="934"/>
                  </a:lnTo>
                  <a:lnTo>
                    <a:pt x="140" y="934"/>
                  </a:lnTo>
                  <a:lnTo>
                    <a:pt x="140" y="951"/>
                  </a:lnTo>
                  <a:lnTo>
                    <a:pt x="134" y="951"/>
                  </a:lnTo>
                  <a:lnTo>
                    <a:pt x="134" y="1011"/>
                  </a:lnTo>
                  <a:lnTo>
                    <a:pt x="130" y="1011"/>
                  </a:lnTo>
                  <a:lnTo>
                    <a:pt x="130" y="1117"/>
                  </a:lnTo>
                  <a:lnTo>
                    <a:pt x="126" y="1117"/>
                  </a:lnTo>
                  <a:lnTo>
                    <a:pt x="126" y="1176"/>
                  </a:lnTo>
                  <a:lnTo>
                    <a:pt x="120" y="1176"/>
                  </a:lnTo>
                  <a:lnTo>
                    <a:pt x="120" y="1253"/>
                  </a:lnTo>
                  <a:lnTo>
                    <a:pt x="116" y="1253"/>
                  </a:lnTo>
                  <a:lnTo>
                    <a:pt x="116" y="1370"/>
                  </a:lnTo>
                  <a:lnTo>
                    <a:pt x="111" y="1370"/>
                  </a:lnTo>
                  <a:lnTo>
                    <a:pt x="111" y="1383"/>
                  </a:lnTo>
                  <a:lnTo>
                    <a:pt x="116" y="1383"/>
                  </a:lnTo>
                  <a:lnTo>
                    <a:pt x="116" y="1395"/>
                  </a:lnTo>
                  <a:lnTo>
                    <a:pt x="111" y="1395"/>
                  </a:lnTo>
                  <a:lnTo>
                    <a:pt x="111" y="1419"/>
                  </a:lnTo>
                  <a:lnTo>
                    <a:pt x="106" y="1419"/>
                  </a:lnTo>
                  <a:lnTo>
                    <a:pt x="106" y="1443"/>
                  </a:lnTo>
                  <a:lnTo>
                    <a:pt x="101" y="1443"/>
                  </a:lnTo>
                  <a:lnTo>
                    <a:pt x="101" y="1478"/>
                  </a:lnTo>
                  <a:lnTo>
                    <a:pt x="96" y="1478"/>
                  </a:lnTo>
                  <a:lnTo>
                    <a:pt x="96" y="1519"/>
                  </a:lnTo>
                  <a:lnTo>
                    <a:pt x="91" y="1519"/>
                  </a:lnTo>
                  <a:lnTo>
                    <a:pt x="91" y="1707"/>
                  </a:lnTo>
                  <a:lnTo>
                    <a:pt x="86" y="1707"/>
                  </a:lnTo>
                  <a:lnTo>
                    <a:pt x="86" y="1720"/>
                  </a:lnTo>
                  <a:lnTo>
                    <a:pt x="91" y="1720"/>
                  </a:lnTo>
                  <a:lnTo>
                    <a:pt x="91" y="1791"/>
                  </a:lnTo>
                  <a:lnTo>
                    <a:pt x="86" y="1791"/>
                  </a:lnTo>
                  <a:lnTo>
                    <a:pt x="86" y="1832"/>
                  </a:lnTo>
                  <a:lnTo>
                    <a:pt x="82" y="1832"/>
                  </a:lnTo>
                  <a:lnTo>
                    <a:pt x="82" y="1868"/>
                  </a:lnTo>
                  <a:lnTo>
                    <a:pt x="86" y="1868"/>
                  </a:lnTo>
                  <a:lnTo>
                    <a:pt x="86" y="1892"/>
                  </a:lnTo>
                  <a:lnTo>
                    <a:pt x="82" y="1892"/>
                  </a:lnTo>
                  <a:lnTo>
                    <a:pt x="82" y="1903"/>
                  </a:lnTo>
                  <a:lnTo>
                    <a:pt x="86" y="1903"/>
                  </a:lnTo>
                  <a:lnTo>
                    <a:pt x="86" y="1933"/>
                  </a:lnTo>
                  <a:lnTo>
                    <a:pt x="91" y="1933"/>
                  </a:lnTo>
                  <a:lnTo>
                    <a:pt x="91" y="1979"/>
                  </a:lnTo>
                  <a:lnTo>
                    <a:pt x="86" y="1979"/>
                  </a:lnTo>
                  <a:lnTo>
                    <a:pt x="86" y="2003"/>
                  </a:lnTo>
                  <a:lnTo>
                    <a:pt x="82" y="2003"/>
                  </a:lnTo>
                  <a:lnTo>
                    <a:pt x="82" y="2021"/>
                  </a:lnTo>
                  <a:lnTo>
                    <a:pt x="86" y="2021"/>
                  </a:lnTo>
                  <a:lnTo>
                    <a:pt x="86" y="2069"/>
                  </a:lnTo>
                  <a:lnTo>
                    <a:pt x="91" y="2069"/>
                  </a:lnTo>
                  <a:lnTo>
                    <a:pt x="91" y="2164"/>
                  </a:lnTo>
                  <a:lnTo>
                    <a:pt x="86" y="2164"/>
                  </a:lnTo>
                  <a:lnTo>
                    <a:pt x="86" y="2205"/>
                  </a:lnTo>
                  <a:lnTo>
                    <a:pt x="82" y="2205"/>
                  </a:lnTo>
                  <a:lnTo>
                    <a:pt x="82" y="2283"/>
                  </a:lnTo>
                  <a:lnTo>
                    <a:pt x="77" y="2283"/>
                  </a:lnTo>
                  <a:lnTo>
                    <a:pt x="77" y="2316"/>
                  </a:lnTo>
                  <a:lnTo>
                    <a:pt x="72" y="2316"/>
                  </a:lnTo>
                  <a:lnTo>
                    <a:pt x="72" y="2329"/>
                  </a:lnTo>
                  <a:lnTo>
                    <a:pt x="77" y="2329"/>
                  </a:lnTo>
                  <a:lnTo>
                    <a:pt x="77" y="2359"/>
                  </a:lnTo>
                  <a:lnTo>
                    <a:pt x="72" y="2359"/>
                  </a:lnTo>
                  <a:lnTo>
                    <a:pt x="72" y="2400"/>
                  </a:lnTo>
                  <a:lnTo>
                    <a:pt x="77" y="2400"/>
                  </a:lnTo>
                  <a:lnTo>
                    <a:pt x="77" y="2435"/>
                  </a:lnTo>
                  <a:lnTo>
                    <a:pt x="72" y="2435"/>
                  </a:lnTo>
                  <a:lnTo>
                    <a:pt x="72" y="2588"/>
                  </a:lnTo>
                  <a:lnTo>
                    <a:pt x="77" y="2588"/>
                  </a:lnTo>
                  <a:lnTo>
                    <a:pt x="77" y="2737"/>
                  </a:lnTo>
                  <a:lnTo>
                    <a:pt x="72" y="2737"/>
                  </a:lnTo>
                  <a:lnTo>
                    <a:pt x="72" y="2931"/>
                  </a:lnTo>
                  <a:lnTo>
                    <a:pt x="67" y="2931"/>
                  </a:lnTo>
                  <a:lnTo>
                    <a:pt x="67" y="2966"/>
                  </a:lnTo>
                  <a:lnTo>
                    <a:pt x="72" y="2966"/>
                  </a:lnTo>
                  <a:lnTo>
                    <a:pt x="72" y="2979"/>
                  </a:lnTo>
                  <a:lnTo>
                    <a:pt x="67" y="2979"/>
                  </a:lnTo>
                  <a:lnTo>
                    <a:pt x="67" y="2991"/>
                  </a:lnTo>
                  <a:lnTo>
                    <a:pt x="72" y="2991"/>
                  </a:lnTo>
                  <a:lnTo>
                    <a:pt x="72" y="3003"/>
                  </a:lnTo>
                  <a:lnTo>
                    <a:pt x="67" y="3003"/>
                  </a:lnTo>
                  <a:lnTo>
                    <a:pt x="67" y="3020"/>
                  </a:lnTo>
                  <a:lnTo>
                    <a:pt x="72" y="3020"/>
                  </a:lnTo>
                  <a:lnTo>
                    <a:pt x="72" y="3126"/>
                  </a:lnTo>
                  <a:lnTo>
                    <a:pt x="67" y="3126"/>
                  </a:lnTo>
                  <a:lnTo>
                    <a:pt x="67" y="3316"/>
                  </a:lnTo>
                  <a:lnTo>
                    <a:pt x="72" y="3316"/>
                  </a:lnTo>
                  <a:lnTo>
                    <a:pt x="72" y="3357"/>
                  </a:lnTo>
                  <a:lnTo>
                    <a:pt x="67" y="3357"/>
                  </a:lnTo>
                  <a:lnTo>
                    <a:pt x="67" y="3381"/>
                  </a:lnTo>
                  <a:lnTo>
                    <a:pt x="72" y="3381"/>
                  </a:lnTo>
                  <a:lnTo>
                    <a:pt x="72" y="3416"/>
                  </a:lnTo>
                  <a:lnTo>
                    <a:pt x="67" y="3416"/>
                  </a:lnTo>
                  <a:lnTo>
                    <a:pt x="67" y="3499"/>
                  </a:lnTo>
                  <a:lnTo>
                    <a:pt x="63" y="3499"/>
                  </a:lnTo>
                  <a:lnTo>
                    <a:pt x="63" y="3510"/>
                  </a:lnTo>
                  <a:lnTo>
                    <a:pt x="67" y="3510"/>
                  </a:lnTo>
                  <a:lnTo>
                    <a:pt x="67" y="3583"/>
                  </a:lnTo>
                  <a:lnTo>
                    <a:pt x="63" y="3583"/>
                  </a:lnTo>
                  <a:lnTo>
                    <a:pt x="63" y="3641"/>
                  </a:lnTo>
                  <a:lnTo>
                    <a:pt x="57" y="3641"/>
                  </a:lnTo>
                  <a:lnTo>
                    <a:pt x="57" y="3653"/>
                  </a:lnTo>
                  <a:lnTo>
                    <a:pt x="53" y="3653"/>
                  </a:lnTo>
                  <a:lnTo>
                    <a:pt x="53" y="3683"/>
                  </a:lnTo>
                  <a:lnTo>
                    <a:pt x="57" y="3683"/>
                  </a:lnTo>
                  <a:lnTo>
                    <a:pt x="57" y="3753"/>
                  </a:lnTo>
                  <a:lnTo>
                    <a:pt x="63" y="3753"/>
                  </a:lnTo>
                  <a:lnTo>
                    <a:pt x="63" y="3783"/>
                  </a:lnTo>
                  <a:lnTo>
                    <a:pt x="57" y="3783"/>
                  </a:lnTo>
                  <a:lnTo>
                    <a:pt x="57" y="3801"/>
                  </a:lnTo>
                  <a:lnTo>
                    <a:pt x="63" y="3801"/>
                  </a:lnTo>
                  <a:lnTo>
                    <a:pt x="63" y="3961"/>
                  </a:lnTo>
                  <a:lnTo>
                    <a:pt x="67" y="3961"/>
                  </a:lnTo>
                  <a:lnTo>
                    <a:pt x="67" y="4025"/>
                  </a:lnTo>
                  <a:lnTo>
                    <a:pt x="63" y="4025"/>
                  </a:lnTo>
                  <a:lnTo>
                    <a:pt x="63" y="4037"/>
                  </a:lnTo>
                  <a:lnTo>
                    <a:pt x="67" y="4037"/>
                  </a:lnTo>
                  <a:lnTo>
                    <a:pt x="67" y="4143"/>
                  </a:lnTo>
                  <a:lnTo>
                    <a:pt x="63" y="4143"/>
                  </a:lnTo>
                  <a:lnTo>
                    <a:pt x="63" y="4156"/>
                  </a:lnTo>
                  <a:lnTo>
                    <a:pt x="67" y="4156"/>
                  </a:lnTo>
                  <a:lnTo>
                    <a:pt x="67" y="4225"/>
                  </a:lnTo>
                  <a:lnTo>
                    <a:pt x="63" y="4225"/>
                  </a:lnTo>
                  <a:lnTo>
                    <a:pt x="63" y="4238"/>
                  </a:lnTo>
                  <a:lnTo>
                    <a:pt x="67" y="4238"/>
                  </a:lnTo>
                  <a:lnTo>
                    <a:pt x="67" y="4374"/>
                  </a:lnTo>
                  <a:lnTo>
                    <a:pt x="72" y="4374"/>
                  </a:lnTo>
                  <a:lnTo>
                    <a:pt x="72" y="4403"/>
                  </a:lnTo>
                  <a:lnTo>
                    <a:pt x="67" y="4403"/>
                  </a:lnTo>
                  <a:lnTo>
                    <a:pt x="67" y="4434"/>
                  </a:lnTo>
                  <a:lnTo>
                    <a:pt x="72" y="4434"/>
                  </a:lnTo>
                  <a:lnTo>
                    <a:pt x="72" y="4444"/>
                  </a:lnTo>
                  <a:lnTo>
                    <a:pt x="67" y="4444"/>
                  </a:lnTo>
                  <a:lnTo>
                    <a:pt x="67" y="4735"/>
                  </a:lnTo>
                  <a:lnTo>
                    <a:pt x="72" y="4735"/>
                  </a:lnTo>
                  <a:lnTo>
                    <a:pt x="72" y="4817"/>
                  </a:lnTo>
                  <a:lnTo>
                    <a:pt x="67" y="4817"/>
                  </a:lnTo>
                  <a:lnTo>
                    <a:pt x="67" y="4829"/>
                  </a:lnTo>
                  <a:lnTo>
                    <a:pt x="72" y="4829"/>
                  </a:lnTo>
                  <a:lnTo>
                    <a:pt x="72" y="4883"/>
                  </a:lnTo>
                  <a:lnTo>
                    <a:pt x="67" y="4883"/>
                  </a:lnTo>
                  <a:lnTo>
                    <a:pt x="67" y="4929"/>
                  </a:lnTo>
                  <a:lnTo>
                    <a:pt x="72" y="4929"/>
                  </a:lnTo>
                  <a:lnTo>
                    <a:pt x="72" y="4983"/>
                  </a:lnTo>
                  <a:lnTo>
                    <a:pt x="67" y="4983"/>
                  </a:lnTo>
                  <a:lnTo>
                    <a:pt x="67" y="5029"/>
                  </a:lnTo>
                  <a:lnTo>
                    <a:pt x="72" y="5029"/>
                  </a:lnTo>
                  <a:lnTo>
                    <a:pt x="72" y="5094"/>
                  </a:lnTo>
                  <a:lnTo>
                    <a:pt x="77" y="5094"/>
                  </a:lnTo>
                  <a:lnTo>
                    <a:pt x="77" y="5143"/>
                  </a:lnTo>
                  <a:lnTo>
                    <a:pt x="82" y="5143"/>
                  </a:lnTo>
                  <a:lnTo>
                    <a:pt x="82" y="5178"/>
                  </a:lnTo>
                  <a:lnTo>
                    <a:pt x="86" y="5178"/>
                  </a:lnTo>
                  <a:lnTo>
                    <a:pt x="86" y="5249"/>
                  </a:lnTo>
                  <a:lnTo>
                    <a:pt x="91" y="5249"/>
                  </a:lnTo>
                  <a:lnTo>
                    <a:pt x="91" y="5302"/>
                  </a:lnTo>
                  <a:lnTo>
                    <a:pt x="96" y="5302"/>
                  </a:lnTo>
                  <a:lnTo>
                    <a:pt x="96" y="5407"/>
                  </a:lnTo>
                  <a:lnTo>
                    <a:pt x="91" y="5407"/>
                  </a:lnTo>
                  <a:lnTo>
                    <a:pt x="91" y="5420"/>
                  </a:lnTo>
                  <a:lnTo>
                    <a:pt x="96" y="5420"/>
                  </a:lnTo>
                  <a:lnTo>
                    <a:pt x="96" y="5480"/>
                  </a:lnTo>
                  <a:lnTo>
                    <a:pt x="101" y="5480"/>
                  </a:lnTo>
                  <a:lnTo>
                    <a:pt x="101" y="5533"/>
                  </a:lnTo>
                  <a:lnTo>
                    <a:pt x="106" y="5533"/>
                  </a:lnTo>
                  <a:lnTo>
                    <a:pt x="106" y="5543"/>
                  </a:lnTo>
                  <a:lnTo>
                    <a:pt x="101" y="5543"/>
                  </a:lnTo>
                  <a:lnTo>
                    <a:pt x="101" y="5567"/>
                  </a:lnTo>
                  <a:lnTo>
                    <a:pt x="106" y="5567"/>
                  </a:lnTo>
                  <a:lnTo>
                    <a:pt x="106" y="5627"/>
                  </a:lnTo>
                  <a:lnTo>
                    <a:pt x="111" y="5627"/>
                  </a:lnTo>
                  <a:lnTo>
                    <a:pt x="111" y="5674"/>
                  </a:lnTo>
                  <a:lnTo>
                    <a:pt x="116" y="5674"/>
                  </a:lnTo>
                  <a:lnTo>
                    <a:pt x="116" y="5703"/>
                  </a:lnTo>
                  <a:lnTo>
                    <a:pt x="120" y="5703"/>
                  </a:lnTo>
                  <a:lnTo>
                    <a:pt x="120" y="5757"/>
                  </a:lnTo>
                  <a:lnTo>
                    <a:pt x="126" y="5757"/>
                  </a:lnTo>
                  <a:lnTo>
                    <a:pt x="126" y="5793"/>
                  </a:lnTo>
                  <a:lnTo>
                    <a:pt x="120" y="5793"/>
                  </a:lnTo>
                  <a:lnTo>
                    <a:pt x="120" y="5804"/>
                  </a:lnTo>
                  <a:lnTo>
                    <a:pt x="126" y="5804"/>
                  </a:lnTo>
                  <a:lnTo>
                    <a:pt x="126" y="5828"/>
                  </a:lnTo>
                  <a:lnTo>
                    <a:pt x="130" y="5828"/>
                  </a:lnTo>
                  <a:lnTo>
                    <a:pt x="130" y="5851"/>
                  </a:lnTo>
                  <a:lnTo>
                    <a:pt x="126" y="5851"/>
                  </a:lnTo>
                  <a:lnTo>
                    <a:pt x="126" y="5863"/>
                  </a:lnTo>
                  <a:lnTo>
                    <a:pt x="130" y="5863"/>
                  </a:lnTo>
                  <a:lnTo>
                    <a:pt x="130" y="5888"/>
                  </a:lnTo>
                  <a:lnTo>
                    <a:pt x="126" y="5888"/>
                  </a:lnTo>
                  <a:lnTo>
                    <a:pt x="126" y="5910"/>
                  </a:lnTo>
                  <a:lnTo>
                    <a:pt x="120" y="5910"/>
                  </a:lnTo>
                  <a:lnTo>
                    <a:pt x="120" y="5916"/>
                  </a:lnTo>
                  <a:lnTo>
                    <a:pt x="106" y="5916"/>
                  </a:lnTo>
                  <a:lnTo>
                    <a:pt x="106" y="5910"/>
                  </a:lnTo>
                  <a:lnTo>
                    <a:pt x="101" y="5910"/>
                  </a:lnTo>
                  <a:lnTo>
                    <a:pt x="101" y="5905"/>
                  </a:lnTo>
                  <a:lnTo>
                    <a:pt x="72" y="5905"/>
                  </a:lnTo>
                  <a:lnTo>
                    <a:pt x="72" y="5899"/>
                  </a:lnTo>
                  <a:lnTo>
                    <a:pt x="67" y="5899"/>
                  </a:lnTo>
                  <a:lnTo>
                    <a:pt x="67" y="5888"/>
                  </a:lnTo>
                  <a:lnTo>
                    <a:pt x="63" y="5888"/>
                  </a:lnTo>
                  <a:lnTo>
                    <a:pt x="57" y="5793"/>
                  </a:lnTo>
                  <a:lnTo>
                    <a:pt x="23" y="4439"/>
                  </a:lnTo>
                  <a:lnTo>
                    <a:pt x="23" y="4421"/>
                  </a:lnTo>
                  <a:lnTo>
                    <a:pt x="19" y="4421"/>
                  </a:lnTo>
                  <a:lnTo>
                    <a:pt x="19" y="4255"/>
                  </a:lnTo>
                  <a:lnTo>
                    <a:pt x="14" y="4255"/>
                  </a:lnTo>
                  <a:lnTo>
                    <a:pt x="14" y="4238"/>
                  </a:lnTo>
                  <a:lnTo>
                    <a:pt x="19" y="4238"/>
                  </a:lnTo>
                  <a:lnTo>
                    <a:pt x="19" y="4137"/>
                  </a:lnTo>
                  <a:lnTo>
                    <a:pt x="14" y="4137"/>
                  </a:lnTo>
                  <a:lnTo>
                    <a:pt x="14" y="4020"/>
                  </a:lnTo>
                  <a:lnTo>
                    <a:pt x="9" y="4020"/>
                  </a:lnTo>
                  <a:lnTo>
                    <a:pt x="9" y="3955"/>
                  </a:lnTo>
                  <a:lnTo>
                    <a:pt x="14" y="3955"/>
                  </a:lnTo>
                  <a:lnTo>
                    <a:pt x="14" y="3925"/>
                  </a:lnTo>
                  <a:lnTo>
                    <a:pt x="9" y="3925"/>
                  </a:lnTo>
                  <a:lnTo>
                    <a:pt x="9" y="3907"/>
                  </a:lnTo>
                  <a:lnTo>
                    <a:pt x="14" y="3907"/>
                  </a:lnTo>
                  <a:lnTo>
                    <a:pt x="14" y="3884"/>
                  </a:lnTo>
                  <a:lnTo>
                    <a:pt x="9" y="3884"/>
                  </a:lnTo>
                  <a:lnTo>
                    <a:pt x="9" y="3776"/>
                  </a:lnTo>
                  <a:lnTo>
                    <a:pt x="5" y="3776"/>
                  </a:lnTo>
                  <a:lnTo>
                    <a:pt x="5" y="3683"/>
                  </a:lnTo>
                  <a:lnTo>
                    <a:pt x="0" y="3683"/>
                  </a:lnTo>
                  <a:lnTo>
                    <a:pt x="0" y="3599"/>
                  </a:lnTo>
                  <a:lnTo>
                    <a:pt x="5" y="3599"/>
                  </a:lnTo>
                  <a:lnTo>
                    <a:pt x="9" y="3583"/>
                  </a:lnTo>
                  <a:lnTo>
                    <a:pt x="0" y="3583"/>
                  </a:lnTo>
                  <a:lnTo>
                    <a:pt x="5" y="329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85000" y="3090960"/>
              <a:ext cx="306360" cy="206280"/>
            </a:xfrm>
            <a:custGeom>
              <a:avLst/>
              <a:gdLst/>
              <a:ahLst/>
              <a:rect l="l" t="t" r="r" b="b"/>
              <a:pathLst>
                <a:path w="581" h="522">
                  <a:moveTo>
                    <a:pt x="0" y="492"/>
                  </a:moveTo>
                  <a:lnTo>
                    <a:pt x="4" y="492"/>
                  </a:lnTo>
                  <a:lnTo>
                    <a:pt x="4" y="462"/>
                  </a:lnTo>
                  <a:lnTo>
                    <a:pt x="9" y="462"/>
                  </a:lnTo>
                  <a:lnTo>
                    <a:pt x="9" y="438"/>
                  </a:lnTo>
                  <a:lnTo>
                    <a:pt x="14" y="438"/>
                  </a:lnTo>
                  <a:lnTo>
                    <a:pt x="14" y="414"/>
                  </a:lnTo>
                  <a:lnTo>
                    <a:pt x="19" y="414"/>
                  </a:lnTo>
                  <a:lnTo>
                    <a:pt x="19" y="386"/>
                  </a:lnTo>
                  <a:lnTo>
                    <a:pt x="24" y="386"/>
                  </a:lnTo>
                  <a:lnTo>
                    <a:pt x="24" y="356"/>
                  </a:lnTo>
                  <a:lnTo>
                    <a:pt x="29" y="356"/>
                  </a:lnTo>
                  <a:lnTo>
                    <a:pt x="29" y="332"/>
                  </a:lnTo>
                  <a:lnTo>
                    <a:pt x="34" y="332"/>
                  </a:lnTo>
                  <a:lnTo>
                    <a:pt x="34" y="320"/>
                  </a:lnTo>
                  <a:lnTo>
                    <a:pt x="39" y="320"/>
                  </a:lnTo>
                  <a:lnTo>
                    <a:pt x="39" y="291"/>
                  </a:lnTo>
                  <a:lnTo>
                    <a:pt x="43" y="291"/>
                  </a:lnTo>
                  <a:lnTo>
                    <a:pt x="43" y="285"/>
                  </a:lnTo>
                  <a:lnTo>
                    <a:pt x="48" y="285"/>
                  </a:lnTo>
                  <a:lnTo>
                    <a:pt x="48" y="255"/>
                  </a:lnTo>
                  <a:lnTo>
                    <a:pt x="53" y="255"/>
                  </a:lnTo>
                  <a:lnTo>
                    <a:pt x="53" y="218"/>
                  </a:lnTo>
                  <a:lnTo>
                    <a:pt x="57" y="218"/>
                  </a:lnTo>
                  <a:lnTo>
                    <a:pt x="57" y="183"/>
                  </a:lnTo>
                  <a:lnTo>
                    <a:pt x="63" y="183"/>
                  </a:lnTo>
                  <a:lnTo>
                    <a:pt x="63" y="125"/>
                  </a:lnTo>
                  <a:lnTo>
                    <a:pt x="67" y="125"/>
                  </a:lnTo>
                  <a:lnTo>
                    <a:pt x="67" y="65"/>
                  </a:lnTo>
                  <a:lnTo>
                    <a:pt x="72" y="65"/>
                  </a:lnTo>
                  <a:lnTo>
                    <a:pt x="72" y="54"/>
                  </a:lnTo>
                  <a:lnTo>
                    <a:pt x="86" y="54"/>
                  </a:lnTo>
                  <a:lnTo>
                    <a:pt x="86" y="49"/>
                  </a:lnTo>
                  <a:lnTo>
                    <a:pt x="90" y="49"/>
                  </a:lnTo>
                  <a:lnTo>
                    <a:pt x="90" y="31"/>
                  </a:lnTo>
                  <a:lnTo>
                    <a:pt x="97" y="31"/>
                  </a:lnTo>
                  <a:lnTo>
                    <a:pt x="97" y="24"/>
                  </a:lnTo>
                  <a:lnTo>
                    <a:pt x="149" y="24"/>
                  </a:lnTo>
                  <a:lnTo>
                    <a:pt x="149" y="19"/>
                  </a:lnTo>
                  <a:lnTo>
                    <a:pt x="163" y="19"/>
                  </a:lnTo>
                  <a:lnTo>
                    <a:pt x="163" y="13"/>
                  </a:lnTo>
                  <a:lnTo>
                    <a:pt x="183" y="13"/>
                  </a:lnTo>
                  <a:lnTo>
                    <a:pt x="183" y="6"/>
                  </a:lnTo>
                  <a:lnTo>
                    <a:pt x="212" y="6"/>
                  </a:lnTo>
                  <a:lnTo>
                    <a:pt x="212" y="0"/>
                  </a:lnTo>
                  <a:lnTo>
                    <a:pt x="283" y="0"/>
                  </a:lnTo>
                  <a:lnTo>
                    <a:pt x="283" y="6"/>
                  </a:lnTo>
                  <a:lnTo>
                    <a:pt x="345" y="6"/>
                  </a:lnTo>
                  <a:lnTo>
                    <a:pt x="345" y="13"/>
                  </a:lnTo>
                  <a:lnTo>
                    <a:pt x="399" y="13"/>
                  </a:lnTo>
                  <a:lnTo>
                    <a:pt x="399" y="19"/>
                  </a:lnTo>
                  <a:lnTo>
                    <a:pt x="490" y="19"/>
                  </a:lnTo>
                  <a:lnTo>
                    <a:pt x="490" y="24"/>
                  </a:lnTo>
                  <a:lnTo>
                    <a:pt x="528" y="24"/>
                  </a:lnTo>
                  <a:lnTo>
                    <a:pt x="528" y="31"/>
                  </a:lnTo>
                  <a:lnTo>
                    <a:pt x="557" y="31"/>
                  </a:lnTo>
                  <a:lnTo>
                    <a:pt x="557" y="36"/>
                  </a:lnTo>
                  <a:lnTo>
                    <a:pt x="567" y="36"/>
                  </a:lnTo>
                  <a:lnTo>
                    <a:pt x="567" y="42"/>
                  </a:lnTo>
                  <a:lnTo>
                    <a:pt x="571" y="42"/>
                  </a:lnTo>
                  <a:lnTo>
                    <a:pt x="571" y="49"/>
                  </a:lnTo>
                  <a:lnTo>
                    <a:pt x="577" y="49"/>
                  </a:lnTo>
                  <a:lnTo>
                    <a:pt x="577" y="54"/>
                  </a:lnTo>
                  <a:lnTo>
                    <a:pt x="581" y="54"/>
                  </a:lnTo>
                  <a:lnTo>
                    <a:pt x="581" y="84"/>
                  </a:lnTo>
                  <a:lnTo>
                    <a:pt x="567" y="84"/>
                  </a:lnTo>
                  <a:lnTo>
                    <a:pt x="567" y="96"/>
                  </a:lnTo>
                  <a:lnTo>
                    <a:pt x="562" y="96"/>
                  </a:lnTo>
                  <a:lnTo>
                    <a:pt x="562" y="107"/>
                  </a:lnTo>
                  <a:lnTo>
                    <a:pt x="553" y="107"/>
                  </a:lnTo>
                  <a:lnTo>
                    <a:pt x="553" y="114"/>
                  </a:lnTo>
                  <a:lnTo>
                    <a:pt x="544" y="114"/>
                  </a:lnTo>
                  <a:lnTo>
                    <a:pt x="544" y="119"/>
                  </a:lnTo>
                  <a:lnTo>
                    <a:pt x="523" y="119"/>
                  </a:lnTo>
                  <a:lnTo>
                    <a:pt x="523" y="125"/>
                  </a:lnTo>
                  <a:lnTo>
                    <a:pt x="518" y="125"/>
                  </a:lnTo>
                  <a:lnTo>
                    <a:pt x="518" y="131"/>
                  </a:lnTo>
                  <a:lnTo>
                    <a:pt x="509" y="131"/>
                  </a:lnTo>
                  <a:lnTo>
                    <a:pt x="509" y="136"/>
                  </a:lnTo>
                  <a:lnTo>
                    <a:pt x="504" y="136"/>
                  </a:lnTo>
                  <a:lnTo>
                    <a:pt x="504" y="142"/>
                  </a:lnTo>
                  <a:lnTo>
                    <a:pt x="495" y="142"/>
                  </a:lnTo>
                  <a:lnTo>
                    <a:pt x="495" y="149"/>
                  </a:lnTo>
                  <a:lnTo>
                    <a:pt x="485" y="149"/>
                  </a:lnTo>
                  <a:lnTo>
                    <a:pt x="485" y="155"/>
                  </a:lnTo>
                  <a:lnTo>
                    <a:pt x="471" y="155"/>
                  </a:lnTo>
                  <a:lnTo>
                    <a:pt x="471" y="160"/>
                  </a:lnTo>
                  <a:lnTo>
                    <a:pt x="467" y="160"/>
                  </a:lnTo>
                  <a:lnTo>
                    <a:pt x="467" y="166"/>
                  </a:lnTo>
                  <a:lnTo>
                    <a:pt x="456" y="166"/>
                  </a:lnTo>
                  <a:lnTo>
                    <a:pt x="456" y="172"/>
                  </a:lnTo>
                  <a:lnTo>
                    <a:pt x="451" y="172"/>
                  </a:lnTo>
                  <a:lnTo>
                    <a:pt x="451" y="177"/>
                  </a:lnTo>
                  <a:lnTo>
                    <a:pt x="441" y="177"/>
                  </a:lnTo>
                  <a:lnTo>
                    <a:pt x="441" y="183"/>
                  </a:lnTo>
                  <a:lnTo>
                    <a:pt x="432" y="183"/>
                  </a:lnTo>
                  <a:lnTo>
                    <a:pt x="432" y="190"/>
                  </a:lnTo>
                  <a:lnTo>
                    <a:pt x="427" y="190"/>
                  </a:lnTo>
                  <a:lnTo>
                    <a:pt x="427" y="196"/>
                  </a:lnTo>
                  <a:lnTo>
                    <a:pt x="418" y="196"/>
                  </a:lnTo>
                  <a:lnTo>
                    <a:pt x="418" y="201"/>
                  </a:lnTo>
                  <a:lnTo>
                    <a:pt x="408" y="201"/>
                  </a:lnTo>
                  <a:lnTo>
                    <a:pt x="408" y="208"/>
                  </a:lnTo>
                  <a:lnTo>
                    <a:pt x="399" y="208"/>
                  </a:lnTo>
                  <a:lnTo>
                    <a:pt x="399" y="213"/>
                  </a:lnTo>
                  <a:lnTo>
                    <a:pt x="394" y="213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89" y="226"/>
                  </a:lnTo>
                  <a:lnTo>
                    <a:pt x="379" y="226"/>
                  </a:lnTo>
                  <a:lnTo>
                    <a:pt x="379" y="231"/>
                  </a:lnTo>
                  <a:lnTo>
                    <a:pt x="374" y="231"/>
                  </a:lnTo>
                  <a:lnTo>
                    <a:pt x="374" y="237"/>
                  </a:lnTo>
                  <a:lnTo>
                    <a:pt x="365" y="237"/>
                  </a:lnTo>
                  <a:lnTo>
                    <a:pt x="365" y="242"/>
                  </a:lnTo>
                  <a:lnTo>
                    <a:pt x="360" y="242"/>
                  </a:lnTo>
                  <a:lnTo>
                    <a:pt x="360" y="250"/>
                  </a:lnTo>
                  <a:lnTo>
                    <a:pt x="355" y="250"/>
                  </a:lnTo>
                  <a:lnTo>
                    <a:pt x="355" y="255"/>
                  </a:lnTo>
                  <a:lnTo>
                    <a:pt x="345" y="255"/>
                  </a:lnTo>
                  <a:lnTo>
                    <a:pt x="345" y="261"/>
                  </a:lnTo>
                  <a:lnTo>
                    <a:pt x="337" y="261"/>
                  </a:lnTo>
                  <a:lnTo>
                    <a:pt x="337" y="267"/>
                  </a:lnTo>
                  <a:lnTo>
                    <a:pt x="331" y="267"/>
                  </a:lnTo>
                  <a:lnTo>
                    <a:pt x="331" y="272"/>
                  </a:lnTo>
                  <a:lnTo>
                    <a:pt x="322" y="272"/>
                  </a:lnTo>
                  <a:lnTo>
                    <a:pt x="322" y="278"/>
                  </a:lnTo>
                  <a:lnTo>
                    <a:pt x="311" y="278"/>
                  </a:lnTo>
                  <a:lnTo>
                    <a:pt x="311" y="285"/>
                  </a:lnTo>
                  <a:lnTo>
                    <a:pt x="303" y="285"/>
                  </a:lnTo>
                  <a:lnTo>
                    <a:pt x="303" y="291"/>
                  </a:lnTo>
                  <a:lnTo>
                    <a:pt x="297" y="291"/>
                  </a:lnTo>
                  <a:lnTo>
                    <a:pt x="297" y="296"/>
                  </a:lnTo>
                  <a:lnTo>
                    <a:pt x="293" y="296"/>
                  </a:lnTo>
                  <a:lnTo>
                    <a:pt x="293" y="302"/>
                  </a:lnTo>
                  <a:lnTo>
                    <a:pt x="288" y="302"/>
                  </a:lnTo>
                  <a:lnTo>
                    <a:pt x="288" y="308"/>
                  </a:lnTo>
                  <a:lnTo>
                    <a:pt x="283" y="308"/>
                  </a:lnTo>
                  <a:lnTo>
                    <a:pt x="283" y="313"/>
                  </a:lnTo>
                  <a:lnTo>
                    <a:pt x="278" y="313"/>
                  </a:lnTo>
                  <a:lnTo>
                    <a:pt x="278" y="320"/>
                  </a:lnTo>
                  <a:lnTo>
                    <a:pt x="274" y="320"/>
                  </a:lnTo>
                  <a:lnTo>
                    <a:pt x="274" y="326"/>
                  </a:lnTo>
                  <a:lnTo>
                    <a:pt x="264" y="326"/>
                  </a:lnTo>
                  <a:lnTo>
                    <a:pt x="264" y="332"/>
                  </a:lnTo>
                  <a:lnTo>
                    <a:pt x="260" y="332"/>
                  </a:lnTo>
                  <a:lnTo>
                    <a:pt x="260" y="337"/>
                  </a:lnTo>
                  <a:lnTo>
                    <a:pt x="250" y="337"/>
                  </a:lnTo>
                  <a:lnTo>
                    <a:pt x="250" y="343"/>
                  </a:lnTo>
                  <a:lnTo>
                    <a:pt x="246" y="343"/>
                  </a:lnTo>
                  <a:lnTo>
                    <a:pt x="246" y="356"/>
                  </a:lnTo>
                  <a:lnTo>
                    <a:pt x="235" y="356"/>
                  </a:lnTo>
                  <a:lnTo>
                    <a:pt x="235" y="361"/>
                  </a:lnTo>
                  <a:lnTo>
                    <a:pt x="230" y="361"/>
                  </a:lnTo>
                  <a:lnTo>
                    <a:pt x="230" y="367"/>
                  </a:lnTo>
                  <a:lnTo>
                    <a:pt x="226" y="367"/>
                  </a:lnTo>
                  <a:lnTo>
                    <a:pt x="226" y="373"/>
                  </a:lnTo>
                  <a:lnTo>
                    <a:pt x="221" y="373"/>
                  </a:lnTo>
                  <a:lnTo>
                    <a:pt x="221" y="378"/>
                  </a:lnTo>
                  <a:lnTo>
                    <a:pt x="212" y="378"/>
                  </a:lnTo>
                  <a:lnTo>
                    <a:pt x="212" y="386"/>
                  </a:lnTo>
                  <a:lnTo>
                    <a:pt x="202" y="386"/>
                  </a:lnTo>
                  <a:lnTo>
                    <a:pt x="202" y="391"/>
                  </a:lnTo>
                  <a:lnTo>
                    <a:pt x="197" y="391"/>
                  </a:lnTo>
                  <a:lnTo>
                    <a:pt x="197" y="397"/>
                  </a:lnTo>
                  <a:lnTo>
                    <a:pt x="187" y="397"/>
                  </a:lnTo>
                  <a:lnTo>
                    <a:pt x="187" y="403"/>
                  </a:lnTo>
                  <a:lnTo>
                    <a:pt x="183" y="403"/>
                  </a:lnTo>
                  <a:lnTo>
                    <a:pt x="183" y="409"/>
                  </a:lnTo>
                  <a:lnTo>
                    <a:pt x="173" y="409"/>
                  </a:lnTo>
                  <a:lnTo>
                    <a:pt x="173" y="414"/>
                  </a:lnTo>
                  <a:lnTo>
                    <a:pt x="169" y="414"/>
                  </a:lnTo>
                  <a:lnTo>
                    <a:pt x="169" y="419"/>
                  </a:lnTo>
                  <a:lnTo>
                    <a:pt x="159" y="419"/>
                  </a:lnTo>
                  <a:lnTo>
                    <a:pt x="159" y="427"/>
                  </a:lnTo>
                  <a:lnTo>
                    <a:pt x="153" y="427"/>
                  </a:lnTo>
                  <a:lnTo>
                    <a:pt x="153" y="432"/>
                  </a:lnTo>
                  <a:lnTo>
                    <a:pt x="144" y="432"/>
                  </a:lnTo>
                  <a:lnTo>
                    <a:pt x="144" y="438"/>
                  </a:lnTo>
                  <a:lnTo>
                    <a:pt x="139" y="438"/>
                  </a:lnTo>
                  <a:lnTo>
                    <a:pt x="139" y="444"/>
                  </a:lnTo>
                  <a:lnTo>
                    <a:pt x="130" y="444"/>
                  </a:lnTo>
                  <a:lnTo>
                    <a:pt x="130" y="451"/>
                  </a:lnTo>
                  <a:lnTo>
                    <a:pt x="120" y="451"/>
                  </a:lnTo>
                  <a:lnTo>
                    <a:pt x="120" y="456"/>
                  </a:lnTo>
                  <a:lnTo>
                    <a:pt x="116" y="456"/>
                  </a:lnTo>
                  <a:lnTo>
                    <a:pt x="116" y="462"/>
                  </a:lnTo>
                  <a:lnTo>
                    <a:pt x="111" y="462"/>
                  </a:lnTo>
                  <a:lnTo>
                    <a:pt x="111" y="468"/>
                  </a:lnTo>
                  <a:lnTo>
                    <a:pt x="101" y="468"/>
                  </a:lnTo>
                  <a:lnTo>
                    <a:pt x="101" y="473"/>
                  </a:lnTo>
                  <a:lnTo>
                    <a:pt x="97" y="473"/>
                  </a:lnTo>
                  <a:lnTo>
                    <a:pt x="97" y="479"/>
                  </a:lnTo>
                  <a:lnTo>
                    <a:pt x="90" y="479"/>
                  </a:lnTo>
                  <a:lnTo>
                    <a:pt x="90" y="485"/>
                  </a:lnTo>
                  <a:lnTo>
                    <a:pt x="86" y="485"/>
                  </a:lnTo>
                  <a:lnTo>
                    <a:pt x="86" y="497"/>
                  </a:lnTo>
                  <a:lnTo>
                    <a:pt x="82" y="497"/>
                  </a:lnTo>
                  <a:lnTo>
                    <a:pt x="82" y="504"/>
                  </a:lnTo>
                  <a:lnTo>
                    <a:pt x="76" y="504"/>
                  </a:lnTo>
                  <a:lnTo>
                    <a:pt x="76" y="509"/>
                  </a:lnTo>
                  <a:lnTo>
                    <a:pt x="72" y="509"/>
                  </a:lnTo>
                  <a:lnTo>
                    <a:pt x="72" y="515"/>
                  </a:lnTo>
                  <a:lnTo>
                    <a:pt x="57" y="515"/>
                  </a:lnTo>
                  <a:lnTo>
                    <a:pt x="57" y="522"/>
                  </a:lnTo>
                  <a:lnTo>
                    <a:pt x="29" y="522"/>
                  </a:lnTo>
                  <a:lnTo>
                    <a:pt x="29" y="515"/>
                  </a:lnTo>
                  <a:lnTo>
                    <a:pt x="9" y="515"/>
                  </a:lnTo>
                  <a:lnTo>
                    <a:pt x="9" y="509"/>
                  </a:lnTo>
                  <a:lnTo>
                    <a:pt x="4" y="509"/>
                  </a:lnTo>
                  <a:lnTo>
                    <a:pt x="4" y="504"/>
                  </a:lnTo>
                  <a:lnTo>
                    <a:pt x="0" y="504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8480" y="3110040"/>
              <a:ext cx="230040" cy="156960"/>
            </a:xfrm>
            <a:custGeom>
              <a:avLst/>
              <a:gdLst/>
              <a:ahLst/>
              <a:rect l="l" t="t" r="r" b="b"/>
              <a:pathLst>
                <a:path w="437" h="395">
                  <a:moveTo>
                    <a:pt x="0" y="348"/>
                  </a:moveTo>
                  <a:lnTo>
                    <a:pt x="4" y="348"/>
                  </a:lnTo>
                  <a:lnTo>
                    <a:pt x="4" y="324"/>
                  </a:lnTo>
                  <a:lnTo>
                    <a:pt x="9" y="324"/>
                  </a:lnTo>
                  <a:lnTo>
                    <a:pt x="9" y="312"/>
                  </a:lnTo>
                  <a:lnTo>
                    <a:pt x="13" y="312"/>
                  </a:lnTo>
                  <a:lnTo>
                    <a:pt x="13" y="294"/>
                  </a:lnTo>
                  <a:lnTo>
                    <a:pt x="19" y="294"/>
                  </a:lnTo>
                  <a:lnTo>
                    <a:pt x="19" y="277"/>
                  </a:lnTo>
                  <a:lnTo>
                    <a:pt x="23" y="277"/>
                  </a:lnTo>
                  <a:lnTo>
                    <a:pt x="23" y="229"/>
                  </a:lnTo>
                  <a:lnTo>
                    <a:pt x="27" y="229"/>
                  </a:lnTo>
                  <a:lnTo>
                    <a:pt x="27" y="206"/>
                  </a:lnTo>
                  <a:lnTo>
                    <a:pt x="34" y="206"/>
                  </a:lnTo>
                  <a:lnTo>
                    <a:pt x="34" y="193"/>
                  </a:lnTo>
                  <a:lnTo>
                    <a:pt x="38" y="193"/>
                  </a:lnTo>
                  <a:lnTo>
                    <a:pt x="38" y="123"/>
                  </a:lnTo>
                  <a:lnTo>
                    <a:pt x="43" y="123"/>
                  </a:lnTo>
                  <a:lnTo>
                    <a:pt x="43" y="47"/>
                  </a:lnTo>
                  <a:lnTo>
                    <a:pt x="48" y="47"/>
                  </a:lnTo>
                  <a:lnTo>
                    <a:pt x="48" y="35"/>
                  </a:lnTo>
                  <a:lnTo>
                    <a:pt x="53" y="35"/>
                  </a:lnTo>
                  <a:lnTo>
                    <a:pt x="53" y="28"/>
                  </a:lnTo>
                  <a:lnTo>
                    <a:pt x="71" y="28"/>
                  </a:lnTo>
                  <a:lnTo>
                    <a:pt x="71" y="23"/>
                  </a:lnTo>
                  <a:lnTo>
                    <a:pt x="86" y="23"/>
                  </a:lnTo>
                  <a:lnTo>
                    <a:pt x="86" y="16"/>
                  </a:lnTo>
                  <a:lnTo>
                    <a:pt x="110" y="16"/>
                  </a:lnTo>
                  <a:lnTo>
                    <a:pt x="110" y="11"/>
                  </a:lnTo>
                  <a:lnTo>
                    <a:pt x="130" y="11"/>
                  </a:lnTo>
                  <a:lnTo>
                    <a:pt x="130" y="5"/>
                  </a:lnTo>
                  <a:lnTo>
                    <a:pt x="153" y="5"/>
                  </a:lnTo>
                  <a:lnTo>
                    <a:pt x="153" y="0"/>
                  </a:lnTo>
                  <a:lnTo>
                    <a:pt x="248" y="0"/>
                  </a:lnTo>
                  <a:lnTo>
                    <a:pt x="248" y="5"/>
                  </a:lnTo>
                  <a:lnTo>
                    <a:pt x="311" y="5"/>
                  </a:lnTo>
                  <a:lnTo>
                    <a:pt x="311" y="11"/>
                  </a:lnTo>
                  <a:lnTo>
                    <a:pt x="364" y="11"/>
                  </a:lnTo>
                  <a:lnTo>
                    <a:pt x="364" y="16"/>
                  </a:lnTo>
                  <a:lnTo>
                    <a:pt x="437" y="16"/>
                  </a:lnTo>
                  <a:lnTo>
                    <a:pt x="437" y="35"/>
                  </a:lnTo>
                  <a:lnTo>
                    <a:pt x="427" y="35"/>
                  </a:lnTo>
                  <a:lnTo>
                    <a:pt x="427" y="41"/>
                  </a:lnTo>
                  <a:lnTo>
                    <a:pt x="412" y="41"/>
                  </a:lnTo>
                  <a:lnTo>
                    <a:pt x="412" y="47"/>
                  </a:lnTo>
                  <a:lnTo>
                    <a:pt x="408" y="47"/>
                  </a:lnTo>
                  <a:lnTo>
                    <a:pt x="408" y="52"/>
                  </a:lnTo>
                  <a:lnTo>
                    <a:pt x="404" y="52"/>
                  </a:lnTo>
                  <a:lnTo>
                    <a:pt x="404" y="58"/>
                  </a:lnTo>
                  <a:lnTo>
                    <a:pt x="393" y="58"/>
                  </a:lnTo>
                  <a:lnTo>
                    <a:pt x="393" y="65"/>
                  </a:lnTo>
                  <a:lnTo>
                    <a:pt x="384" y="65"/>
                  </a:lnTo>
                  <a:lnTo>
                    <a:pt x="384" y="70"/>
                  </a:lnTo>
                  <a:lnTo>
                    <a:pt x="378" y="70"/>
                  </a:lnTo>
                  <a:lnTo>
                    <a:pt x="378" y="76"/>
                  </a:lnTo>
                  <a:lnTo>
                    <a:pt x="374" y="76"/>
                  </a:lnTo>
                  <a:lnTo>
                    <a:pt x="374" y="82"/>
                  </a:lnTo>
                  <a:lnTo>
                    <a:pt x="364" y="82"/>
                  </a:lnTo>
                  <a:lnTo>
                    <a:pt x="364" y="87"/>
                  </a:lnTo>
                  <a:lnTo>
                    <a:pt x="355" y="87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50" y="100"/>
                  </a:lnTo>
                  <a:lnTo>
                    <a:pt x="336" y="100"/>
                  </a:lnTo>
                  <a:lnTo>
                    <a:pt x="336" y="106"/>
                  </a:lnTo>
                  <a:lnTo>
                    <a:pt x="331" y="106"/>
                  </a:lnTo>
                  <a:lnTo>
                    <a:pt x="331" y="111"/>
                  </a:lnTo>
                  <a:lnTo>
                    <a:pt x="321" y="111"/>
                  </a:lnTo>
                  <a:lnTo>
                    <a:pt x="321" y="117"/>
                  </a:lnTo>
                  <a:lnTo>
                    <a:pt x="316" y="117"/>
                  </a:lnTo>
                  <a:lnTo>
                    <a:pt x="316" y="128"/>
                  </a:lnTo>
                  <a:lnTo>
                    <a:pt x="297" y="128"/>
                  </a:lnTo>
                  <a:lnTo>
                    <a:pt x="297" y="134"/>
                  </a:lnTo>
                  <a:lnTo>
                    <a:pt x="292" y="134"/>
                  </a:lnTo>
                  <a:lnTo>
                    <a:pt x="292" y="141"/>
                  </a:lnTo>
                  <a:lnTo>
                    <a:pt x="288" y="141"/>
                  </a:lnTo>
                  <a:lnTo>
                    <a:pt x="288" y="147"/>
                  </a:lnTo>
                  <a:lnTo>
                    <a:pt x="278" y="147"/>
                  </a:lnTo>
                  <a:lnTo>
                    <a:pt x="278" y="152"/>
                  </a:lnTo>
                  <a:lnTo>
                    <a:pt x="274" y="152"/>
                  </a:lnTo>
                  <a:lnTo>
                    <a:pt x="274" y="159"/>
                  </a:lnTo>
                  <a:lnTo>
                    <a:pt x="264" y="159"/>
                  </a:lnTo>
                  <a:lnTo>
                    <a:pt x="264" y="164"/>
                  </a:lnTo>
                  <a:lnTo>
                    <a:pt x="254" y="164"/>
                  </a:lnTo>
                  <a:lnTo>
                    <a:pt x="254" y="169"/>
                  </a:lnTo>
                  <a:lnTo>
                    <a:pt x="248" y="169"/>
                  </a:lnTo>
                  <a:lnTo>
                    <a:pt x="248" y="177"/>
                  </a:lnTo>
                  <a:lnTo>
                    <a:pt x="240" y="177"/>
                  </a:lnTo>
                  <a:lnTo>
                    <a:pt x="240" y="182"/>
                  </a:lnTo>
                  <a:lnTo>
                    <a:pt x="234" y="182"/>
                  </a:lnTo>
                  <a:lnTo>
                    <a:pt x="234" y="188"/>
                  </a:lnTo>
                  <a:lnTo>
                    <a:pt x="230" y="188"/>
                  </a:lnTo>
                  <a:lnTo>
                    <a:pt x="230" y="193"/>
                  </a:lnTo>
                  <a:lnTo>
                    <a:pt x="220" y="193"/>
                  </a:lnTo>
                  <a:lnTo>
                    <a:pt x="220" y="201"/>
                  </a:lnTo>
                  <a:lnTo>
                    <a:pt x="215" y="201"/>
                  </a:lnTo>
                  <a:lnTo>
                    <a:pt x="215" y="206"/>
                  </a:lnTo>
                  <a:lnTo>
                    <a:pt x="211" y="206"/>
                  </a:lnTo>
                  <a:lnTo>
                    <a:pt x="211" y="212"/>
                  </a:lnTo>
                  <a:lnTo>
                    <a:pt x="201" y="212"/>
                  </a:lnTo>
                  <a:lnTo>
                    <a:pt x="201" y="218"/>
                  </a:lnTo>
                  <a:lnTo>
                    <a:pt x="197" y="218"/>
                  </a:lnTo>
                  <a:lnTo>
                    <a:pt x="197" y="223"/>
                  </a:lnTo>
                  <a:lnTo>
                    <a:pt x="192" y="223"/>
                  </a:lnTo>
                  <a:lnTo>
                    <a:pt x="192" y="229"/>
                  </a:lnTo>
                  <a:lnTo>
                    <a:pt x="183" y="229"/>
                  </a:lnTo>
                  <a:lnTo>
                    <a:pt x="183" y="236"/>
                  </a:lnTo>
                  <a:lnTo>
                    <a:pt x="178" y="236"/>
                  </a:lnTo>
                  <a:lnTo>
                    <a:pt x="178" y="242"/>
                  </a:lnTo>
                  <a:lnTo>
                    <a:pt x="172" y="242"/>
                  </a:lnTo>
                  <a:lnTo>
                    <a:pt x="172" y="247"/>
                  </a:lnTo>
                  <a:lnTo>
                    <a:pt x="163" y="247"/>
                  </a:lnTo>
                  <a:lnTo>
                    <a:pt x="163" y="253"/>
                  </a:lnTo>
                  <a:lnTo>
                    <a:pt x="158" y="253"/>
                  </a:lnTo>
                  <a:lnTo>
                    <a:pt x="158" y="259"/>
                  </a:lnTo>
                  <a:lnTo>
                    <a:pt x="153" y="259"/>
                  </a:lnTo>
                  <a:lnTo>
                    <a:pt x="153" y="264"/>
                  </a:lnTo>
                  <a:lnTo>
                    <a:pt x="149" y="264"/>
                  </a:lnTo>
                  <a:lnTo>
                    <a:pt x="149" y="271"/>
                  </a:lnTo>
                  <a:lnTo>
                    <a:pt x="139" y="271"/>
                  </a:lnTo>
                  <a:lnTo>
                    <a:pt x="139" y="277"/>
                  </a:lnTo>
                  <a:lnTo>
                    <a:pt x="130" y="277"/>
                  </a:lnTo>
                  <a:lnTo>
                    <a:pt x="130" y="283"/>
                  </a:lnTo>
                  <a:lnTo>
                    <a:pt x="124" y="283"/>
                  </a:lnTo>
                  <a:lnTo>
                    <a:pt x="124" y="288"/>
                  </a:lnTo>
                  <a:lnTo>
                    <a:pt x="120" y="288"/>
                  </a:lnTo>
                  <a:lnTo>
                    <a:pt x="120" y="294"/>
                  </a:lnTo>
                  <a:lnTo>
                    <a:pt x="110" y="294"/>
                  </a:lnTo>
                  <a:lnTo>
                    <a:pt x="110" y="300"/>
                  </a:lnTo>
                  <a:lnTo>
                    <a:pt x="106" y="300"/>
                  </a:lnTo>
                  <a:lnTo>
                    <a:pt x="106" y="307"/>
                  </a:lnTo>
                  <a:lnTo>
                    <a:pt x="100" y="307"/>
                  </a:lnTo>
                  <a:lnTo>
                    <a:pt x="100" y="312"/>
                  </a:lnTo>
                  <a:lnTo>
                    <a:pt x="96" y="312"/>
                  </a:lnTo>
                  <a:lnTo>
                    <a:pt x="96" y="318"/>
                  </a:lnTo>
                  <a:lnTo>
                    <a:pt x="86" y="318"/>
                  </a:lnTo>
                  <a:lnTo>
                    <a:pt x="86" y="324"/>
                  </a:lnTo>
                  <a:lnTo>
                    <a:pt x="81" y="324"/>
                  </a:lnTo>
                  <a:lnTo>
                    <a:pt x="81" y="329"/>
                  </a:lnTo>
                  <a:lnTo>
                    <a:pt x="71" y="329"/>
                  </a:lnTo>
                  <a:lnTo>
                    <a:pt x="71" y="337"/>
                  </a:lnTo>
                  <a:lnTo>
                    <a:pt x="67" y="337"/>
                  </a:lnTo>
                  <a:lnTo>
                    <a:pt x="67" y="342"/>
                  </a:lnTo>
                  <a:lnTo>
                    <a:pt x="62" y="342"/>
                  </a:lnTo>
                  <a:lnTo>
                    <a:pt x="62" y="348"/>
                  </a:lnTo>
                  <a:lnTo>
                    <a:pt x="53" y="348"/>
                  </a:lnTo>
                  <a:lnTo>
                    <a:pt x="53" y="354"/>
                  </a:lnTo>
                  <a:lnTo>
                    <a:pt x="48" y="354"/>
                  </a:lnTo>
                  <a:lnTo>
                    <a:pt x="48" y="360"/>
                  </a:lnTo>
                  <a:lnTo>
                    <a:pt x="43" y="360"/>
                  </a:lnTo>
                  <a:lnTo>
                    <a:pt x="43" y="365"/>
                  </a:lnTo>
                  <a:lnTo>
                    <a:pt x="34" y="365"/>
                  </a:lnTo>
                  <a:lnTo>
                    <a:pt x="34" y="370"/>
                  </a:lnTo>
                  <a:lnTo>
                    <a:pt x="23" y="370"/>
                  </a:lnTo>
                  <a:lnTo>
                    <a:pt x="23" y="378"/>
                  </a:lnTo>
                  <a:lnTo>
                    <a:pt x="19" y="378"/>
                  </a:lnTo>
                  <a:lnTo>
                    <a:pt x="19" y="383"/>
                  </a:lnTo>
                  <a:lnTo>
                    <a:pt x="13" y="383"/>
                  </a:lnTo>
                  <a:lnTo>
                    <a:pt x="13" y="389"/>
                  </a:lnTo>
                  <a:lnTo>
                    <a:pt x="9" y="389"/>
                  </a:lnTo>
                  <a:lnTo>
                    <a:pt x="9" y="395"/>
                  </a:lnTo>
                  <a:lnTo>
                    <a:pt x="4" y="395"/>
                  </a:lnTo>
                  <a:lnTo>
                    <a:pt x="4" y="389"/>
                  </a:lnTo>
                  <a:lnTo>
                    <a:pt x="0" y="389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17680" y="1581120"/>
              <a:ext cx="139680" cy="168480"/>
            </a:xfrm>
            <a:custGeom>
              <a:avLst/>
              <a:gdLst/>
              <a:ahLst/>
              <a:rect l="l" t="t" r="r" b="b"/>
              <a:pathLst>
                <a:path w="264" h="424">
                  <a:moveTo>
                    <a:pt x="0" y="424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26" y="1"/>
                  </a:lnTo>
                  <a:lnTo>
                    <a:pt x="140" y="1"/>
                  </a:lnTo>
                  <a:lnTo>
                    <a:pt x="153" y="1"/>
                  </a:lnTo>
                  <a:lnTo>
                    <a:pt x="164" y="3"/>
                  </a:lnTo>
                  <a:lnTo>
                    <a:pt x="174" y="3"/>
                  </a:lnTo>
                  <a:lnTo>
                    <a:pt x="182" y="4"/>
                  </a:lnTo>
                  <a:lnTo>
                    <a:pt x="189" y="5"/>
                  </a:lnTo>
                  <a:lnTo>
                    <a:pt x="194" y="8"/>
                  </a:lnTo>
                  <a:lnTo>
                    <a:pt x="201" y="10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8" y="28"/>
                  </a:lnTo>
                  <a:lnTo>
                    <a:pt x="234" y="34"/>
                  </a:lnTo>
                  <a:lnTo>
                    <a:pt x="239" y="41"/>
                  </a:lnTo>
                  <a:lnTo>
                    <a:pt x="244" y="49"/>
                  </a:lnTo>
                  <a:lnTo>
                    <a:pt x="249" y="56"/>
                  </a:lnTo>
                  <a:lnTo>
                    <a:pt x="253" y="66"/>
                  </a:lnTo>
                  <a:lnTo>
                    <a:pt x="256" y="75"/>
                  </a:lnTo>
                  <a:lnTo>
                    <a:pt x="259" y="85"/>
                  </a:lnTo>
                  <a:lnTo>
                    <a:pt x="261" y="96"/>
                  </a:lnTo>
                  <a:lnTo>
                    <a:pt x="262" y="107"/>
                  </a:lnTo>
                  <a:lnTo>
                    <a:pt x="263" y="119"/>
                  </a:lnTo>
                  <a:lnTo>
                    <a:pt x="264" y="131"/>
                  </a:lnTo>
                  <a:lnTo>
                    <a:pt x="263" y="141"/>
                  </a:lnTo>
                  <a:lnTo>
                    <a:pt x="263" y="150"/>
                  </a:lnTo>
                  <a:lnTo>
                    <a:pt x="262" y="159"/>
                  </a:lnTo>
                  <a:lnTo>
                    <a:pt x="261" y="167"/>
                  </a:lnTo>
                  <a:lnTo>
                    <a:pt x="259" y="175"/>
                  </a:lnTo>
                  <a:lnTo>
                    <a:pt x="257" y="182"/>
                  </a:lnTo>
                  <a:lnTo>
                    <a:pt x="255" y="190"/>
                  </a:lnTo>
                  <a:lnTo>
                    <a:pt x="252" y="197"/>
                  </a:lnTo>
                  <a:lnTo>
                    <a:pt x="249" y="204"/>
                  </a:lnTo>
                  <a:lnTo>
                    <a:pt x="246" y="210"/>
                  </a:lnTo>
                  <a:lnTo>
                    <a:pt x="243" y="215"/>
                  </a:lnTo>
                  <a:lnTo>
                    <a:pt x="239" y="221"/>
                  </a:lnTo>
                  <a:lnTo>
                    <a:pt x="236" y="226"/>
                  </a:lnTo>
                  <a:lnTo>
                    <a:pt x="232" y="230"/>
                  </a:lnTo>
                  <a:lnTo>
                    <a:pt x="228" y="235"/>
                  </a:lnTo>
                  <a:lnTo>
                    <a:pt x="223" y="238"/>
                  </a:lnTo>
                  <a:lnTo>
                    <a:pt x="219" y="242"/>
                  </a:lnTo>
                  <a:lnTo>
                    <a:pt x="214" y="246"/>
                  </a:lnTo>
                  <a:lnTo>
                    <a:pt x="209" y="248"/>
                  </a:lnTo>
                  <a:lnTo>
                    <a:pt x="205" y="251"/>
                  </a:lnTo>
                  <a:lnTo>
                    <a:pt x="200" y="253"/>
                  </a:lnTo>
                  <a:lnTo>
                    <a:pt x="196" y="256"/>
                  </a:lnTo>
                  <a:lnTo>
                    <a:pt x="191" y="257"/>
                  </a:lnTo>
                  <a:lnTo>
                    <a:pt x="187" y="258"/>
                  </a:lnTo>
                  <a:lnTo>
                    <a:pt x="180" y="260"/>
                  </a:lnTo>
                  <a:lnTo>
                    <a:pt x="173" y="261"/>
                  </a:lnTo>
                  <a:lnTo>
                    <a:pt x="165" y="262"/>
                  </a:lnTo>
                  <a:lnTo>
                    <a:pt x="157" y="263"/>
                  </a:lnTo>
                  <a:lnTo>
                    <a:pt x="148" y="263"/>
                  </a:lnTo>
                  <a:lnTo>
                    <a:pt x="137" y="265"/>
                  </a:lnTo>
                  <a:lnTo>
                    <a:pt x="126" y="265"/>
                  </a:lnTo>
                  <a:lnTo>
                    <a:pt x="115" y="265"/>
                  </a:lnTo>
                  <a:lnTo>
                    <a:pt x="69" y="265"/>
                  </a:lnTo>
                  <a:lnTo>
                    <a:pt x="69" y="424"/>
                  </a:lnTo>
                  <a:lnTo>
                    <a:pt x="0" y="424"/>
                  </a:lnTo>
                  <a:close/>
                  <a:moveTo>
                    <a:pt x="69" y="72"/>
                  </a:moveTo>
                  <a:lnTo>
                    <a:pt x="69" y="192"/>
                  </a:lnTo>
                  <a:lnTo>
                    <a:pt x="108" y="192"/>
                  </a:lnTo>
                  <a:lnTo>
                    <a:pt x="117" y="192"/>
                  </a:lnTo>
                  <a:lnTo>
                    <a:pt x="126" y="192"/>
                  </a:lnTo>
                  <a:lnTo>
                    <a:pt x="134" y="192"/>
                  </a:lnTo>
                  <a:lnTo>
                    <a:pt x="141" y="191"/>
                  </a:lnTo>
                  <a:lnTo>
                    <a:pt x="149" y="190"/>
                  </a:lnTo>
                  <a:lnTo>
                    <a:pt x="154" y="189"/>
                  </a:lnTo>
                  <a:lnTo>
                    <a:pt x="159" y="187"/>
                  </a:lnTo>
                  <a:lnTo>
                    <a:pt x="163" y="186"/>
                  </a:lnTo>
                  <a:lnTo>
                    <a:pt x="166" y="185"/>
                  </a:lnTo>
                  <a:lnTo>
                    <a:pt x="169" y="182"/>
                  </a:lnTo>
                  <a:lnTo>
                    <a:pt x="172" y="180"/>
                  </a:lnTo>
                  <a:lnTo>
                    <a:pt x="175" y="177"/>
                  </a:lnTo>
                  <a:lnTo>
                    <a:pt x="178" y="175"/>
                  </a:lnTo>
                  <a:lnTo>
                    <a:pt x="180" y="172"/>
                  </a:lnTo>
                  <a:lnTo>
                    <a:pt x="182" y="169"/>
                  </a:lnTo>
                  <a:lnTo>
                    <a:pt x="184" y="165"/>
                  </a:lnTo>
                  <a:lnTo>
                    <a:pt x="186" y="161"/>
                  </a:lnTo>
                  <a:lnTo>
                    <a:pt x="188" y="157"/>
                  </a:lnTo>
                  <a:lnTo>
                    <a:pt x="189" y="154"/>
                  </a:lnTo>
                  <a:lnTo>
                    <a:pt x="190" y="150"/>
                  </a:lnTo>
                  <a:lnTo>
                    <a:pt x="191" y="146"/>
                  </a:lnTo>
                  <a:lnTo>
                    <a:pt x="191" y="141"/>
                  </a:lnTo>
                  <a:lnTo>
                    <a:pt x="192" y="137"/>
                  </a:lnTo>
                  <a:lnTo>
                    <a:pt x="192" y="132"/>
                  </a:lnTo>
                  <a:lnTo>
                    <a:pt x="192" y="126"/>
                  </a:lnTo>
                  <a:lnTo>
                    <a:pt x="191" y="121"/>
                  </a:lnTo>
                  <a:lnTo>
                    <a:pt x="190" y="116"/>
                  </a:lnTo>
                  <a:lnTo>
                    <a:pt x="189" y="111"/>
                  </a:lnTo>
                  <a:lnTo>
                    <a:pt x="188" y="106"/>
                  </a:lnTo>
                  <a:lnTo>
                    <a:pt x="186" y="102"/>
                  </a:lnTo>
                  <a:lnTo>
                    <a:pt x="184" y="97"/>
                  </a:lnTo>
                  <a:lnTo>
                    <a:pt x="181" y="94"/>
                  </a:lnTo>
                  <a:lnTo>
                    <a:pt x="178" y="90"/>
                  </a:lnTo>
                  <a:lnTo>
                    <a:pt x="175" y="87"/>
                  </a:lnTo>
                  <a:lnTo>
                    <a:pt x="172" y="85"/>
                  </a:lnTo>
                  <a:lnTo>
                    <a:pt x="169" y="81"/>
                  </a:lnTo>
                  <a:lnTo>
                    <a:pt x="165" y="80"/>
                  </a:lnTo>
                  <a:lnTo>
                    <a:pt x="161" y="77"/>
                  </a:lnTo>
                  <a:lnTo>
                    <a:pt x="158" y="76"/>
                  </a:lnTo>
                  <a:lnTo>
                    <a:pt x="154" y="75"/>
                  </a:lnTo>
                  <a:lnTo>
                    <a:pt x="150" y="75"/>
                  </a:lnTo>
                  <a:lnTo>
                    <a:pt x="146" y="74"/>
                  </a:lnTo>
                  <a:lnTo>
                    <a:pt x="140" y="74"/>
                  </a:lnTo>
                  <a:lnTo>
                    <a:pt x="134" y="74"/>
                  </a:lnTo>
                  <a:lnTo>
                    <a:pt x="127" y="72"/>
                  </a:lnTo>
                  <a:lnTo>
                    <a:pt x="120" y="72"/>
                  </a:lnTo>
                  <a:lnTo>
                    <a:pt x="112" y="72"/>
                  </a:lnTo>
                  <a:lnTo>
                    <a:pt x="103" y="72"/>
                  </a:lnTo>
                  <a:lnTo>
                    <a:pt x="69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79680" y="1579680"/>
              <a:ext cx="176040" cy="172800"/>
            </a:xfrm>
            <a:custGeom>
              <a:avLst/>
              <a:gdLst/>
              <a:ahLst/>
              <a:rect l="l" t="t" r="r" b="b"/>
              <a:pathLst>
                <a:path w="334" h="438">
                  <a:moveTo>
                    <a:pt x="0" y="221"/>
                  </a:moveTo>
                  <a:lnTo>
                    <a:pt x="0" y="206"/>
                  </a:lnTo>
                  <a:lnTo>
                    <a:pt x="1" y="190"/>
                  </a:lnTo>
                  <a:lnTo>
                    <a:pt x="2" y="176"/>
                  </a:lnTo>
                  <a:lnTo>
                    <a:pt x="4" y="162"/>
                  </a:lnTo>
                  <a:lnTo>
                    <a:pt x="6" y="148"/>
                  </a:lnTo>
                  <a:lnTo>
                    <a:pt x="9" y="136"/>
                  </a:lnTo>
                  <a:lnTo>
                    <a:pt x="12" y="123"/>
                  </a:lnTo>
                  <a:lnTo>
                    <a:pt x="16" y="112"/>
                  </a:lnTo>
                  <a:lnTo>
                    <a:pt x="19" y="105"/>
                  </a:lnTo>
                  <a:lnTo>
                    <a:pt x="22" y="97"/>
                  </a:lnTo>
                  <a:lnTo>
                    <a:pt x="25" y="90"/>
                  </a:lnTo>
                  <a:lnTo>
                    <a:pt x="29" y="82"/>
                  </a:lnTo>
                  <a:lnTo>
                    <a:pt x="33" y="75"/>
                  </a:lnTo>
                  <a:lnTo>
                    <a:pt x="38" y="67"/>
                  </a:lnTo>
                  <a:lnTo>
                    <a:pt x="42" y="61"/>
                  </a:lnTo>
                  <a:lnTo>
                    <a:pt x="47" y="55"/>
                  </a:lnTo>
                  <a:lnTo>
                    <a:pt x="53" y="49"/>
                  </a:lnTo>
                  <a:lnTo>
                    <a:pt x="58" y="42"/>
                  </a:lnTo>
                  <a:lnTo>
                    <a:pt x="64" y="37"/>
                  </a:lnTo>
                  <a:lnTo>
                    <a:pt x="69" y="32"/>
                  </a:lnTo>
                  <a:lnTo>
                    <a:pt x="75" y="27"/>
                  </a:lnTo>
                  <a:lnTo>
                    <a:pt x="80" y="24"/>
                  </a:lnTo>
                  <a:lnTo>
                    <a:pt x="86" y="20"/>
                  </a:lnTo>
                  <a:lnTo>
                    <a:pt x="92" y="16"/>
                  </a:lnTo>
                  <a:lnTo>
                    <a:pt x="100" y="12"/>
                  </a:lnTo>
                  <a:lnTo>
                    <a:pt x="109" y="9"/>
                  </a:lnTo>
                  <a:lnTo>
                    <a:pt x="117" y="6"/>
                  </a:lnTo>
                  <a:lnTo>
                    <a:pt x="127" y="4"/>
                  </a:lnTo>
                  <a:lnTo>
                    <a:pt x="137" y="2"/>
                  </a:lnTo>
                  <a:lnTo>
                    <a:pt x="146" y="1"/>
                  </a:lnTo>
                  <a:lnTo>
                    <a:pt x="156" y="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03" y="4"/>
                  </a:lnTo>
                  <a:lnTo>
                    <a:pt x="219" y="7"/>
                  </a:lnTo>
                  <a:lnTo>
                    <a:pt x="235" y="14"/>
                  </a:lnTo>
                  <a:lnTo>
                    <a:pt x="249" y="22"/>
                  </a:lnTo>
                  <a:lnTo>
                    <a:pt x="263" y="32"/>
                  </a:lnTo>
                  <a:lnTo>
                    <a:pt x="277" y="44"/>
                  </a:lnTo>
                  <a:lnTo>
                    <a:pt x="289" y="57"/>
                  </a:lnTo>
                  <a:lnTo>
                    <a:pt x="299" y="72"/>
                  </a:lnTo>
                  <a:lnTo>
                    <a:pt x="308" y="90"/>
                  </a:lnTo>
                  <a:lnTo>
                    <a:pt x="316" y="107"/>
                  </a:lnTo>
                  <a:lnTo>
                    <a:pt x="322" y="127"/>
                  </a:lnTo>
                  <a:lnTo>
                    <a:pt x="327" y="148"/>
                  </a:lnTo>
                  <a:lnTo>
                    <a:pt x="331" y="171"/>
                  </a:lnTo>
                  <a:lnTo>
                    <a:pt x="333" y="195"/>
                  </a:lnTo>
                  <a:lnTo>
                    <a:pt x="334" y="219"/>
                  </a:lnTo>
                  <a:lnTo>
                    <a:pt x="333" y="244"/>
                  </a:lnTo>
                  <a:lnTo>
                    <a:pt x="331" y="268"/>
                  </a:lnTo>
                  <a:lnTo>
                    <a:pt x="327" y="289"/>
                  </a:lnTo>
                  <a:lnTo>
                    <a:pt x="322" y="311"/>
                  </a:lnTo>
                  <a:lnTo>
                    <a:pt x="316" y="331"/>
                  </a:lnTo>
                  <a:lnTo>
                    <a:pt x="308" y="348"/>
                  </a:lnTo>
                  <a:lnTo>
                    <a:pt x="299" y="364"/>
                  </a:lnTo>
                  <a:lnTo>
                    <a:pt x="289" y="380"/>
                  </a:lnTo>
                  <a:lnTo>
                    <a:pt x="277" y="393"/>
                  </a:lnTo>
                  <a:lnTo>
                    <a:pt x="264" y="405"/>
                  </a:lnTo>
                  <a:lnTo>
                    <a:pt x="250" y="415"/>
                  </a:lnTo>
                  <a:lnTo>
                    <a:pt x="236" y="423"/>
                  </a:lnTo>
                  <a:lnTo>
                    <a:pt x="220" y="429"/>
                  </a:lnTo>
                  <a:lnTo>
                    <a:pt x="204" y="434"/>
                  </a:lnTo>
                  <a:lnTo>
                    <a:pt x="186" y="437"/>
                  </a:lnTo>
                  <a:lnTo>
                    <a:pt x="167" y="438"/>
                  </a:lnTo>
                  <a:lnTo>
                    <a:pt x="149" y="437"/>
                  </a:lnTo>
                  <a:lnTo>
                    <a:pt x="131" y="434"/>
                  </a:lnTo>
                  <a:lnTo>
                    <a:pt x="114" y="429"/>
                  </a:lnTo>
                  <a:lnTo>
                    <a:pt x="98" y="423"/>
                  </a:lnTo>
                  <a:lnTo>
                    <a:pt x="84" y="415"/>
                  </a:lnTo>
                  <a:lnTo>
                    <a:pt x="70" y="405"/>
                  </a:lnTo>
                  <a:lnTo>
                    <a:pt x="57" y="394"/>
                  </a:lnTo>
                  <a:lnTo>
                    <a:pt x="45" y="380"/>
                  </a:lnTo>
                  <a:lnTo>
                    <a:pt x="34" y="365"/>
                  </a:lnTo>
                  <a:lnTo>
                    <a:pt x="25" y="348"/>
                  </a:lnTo>
                  <a:lnTo>
                    <a:pt x="18" y="331"/>
                  </a:lnTo>
                  <a:lnTo>
                    <a:pt x="11" y="312"/>
                  </a:lnTo>
                  <a:lnTo>
                    <a:pt x="6" y="291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close/>
                  <a:moveTo>
                    <a:pt x="72" y="218"/>
                  </a:moveTo>
                  <a:lnTo>
                    <a:pt x="72" y="236"/>
                  </a:lnTo>
                  <a:lnTo>
                    <a:pt x="73" y="252"/>
                  </a:lnTo>
                  <a:lnTo>
                    <a:pt x="75" y="267"/>
                  </a:lnTo>
                  <a:lnTo>
                    <a:pt x="78" y="282"/>
                  </a:lnTo>
                  <a:lnTo>
                    <a:pt x="82" y="294"/>
                  </a:lnTo>
                  <a:lnTo>
                    <a:pt x="87" y="307"/>
                  </a:lnTo>
                  <a:lnTo>
                    <a:pt x="92" y="318"/>
                  </a:lnTo>
                  <a:lnTo>
                    <a:pt x="98" y="328"/>
                  </a:lnTo>
                  <a:lnTo>
                    <a:pt x="105" y="337"/>
                  </a:lnTo>
                  <a:lnTo>
                    <a:pt x="113" y="344"/>
                  </a:lnTo>
                  <a:lnTo>
                    <a:pt x="120" y="351"/>
                  </a:lnTo>
                  <a:lnTo>
                    <a:pt x="130" y="356"/>
                  </a:lnTo>
                  <a:lnTo>
                    <a:pt x="138" y="359"/>
                  </a:lnTo>
                  <a:lnTo>
                    <a:pt x="147" y="362"/>
                  </a:lnTo>
                  <a:lnTo>
                    <a:pt x="157" y="364"/>
                  </a:lnTo>
                  <a:lnTo>
                    <a:pt x="167" y="364"/>
                  </a:lnTo>
                  <a:lnTo>
                    <a:pt x="177" y="364"/>
                  </a:lnTo>
                  <a:lnTo>
                    <a:pt x="187" y="362"/>
                  </a:lnTo>
                  <a:lnTo>
                    <a:pt x="196" y="359"/>
                  </a:lnTo>
                  <a:lnTo>
                    <a:pt x="205" y="356"/>
                  </a:lnTo>
                  <a:lnTo>
                    <a:pt x="214" y="351"/>
                  </a:lnTo>
                  <a:lnTo>
                    <a:pt x="221" y="344"/>
                  </a:lnTo>
                  <a:lnTo>
                    <a:pt x="229" y="337"/>
                  </a:lnTo>
                  <a:lnTo>
                    <a:pt x="235" y="328"/>
                  </a:lnTo>
                  <a:lnTo>
                    <a:pt x="242" y="318"/>
                  </a:lnTo>
                  <a:lnTo>
                    <a:pt x="247" y="307"/>
                  </a:lnTo>
                  <a:lnTo>
                    <a:pt x="251" y="294"/>
                  </a:lnTo>
                  <a:lnTo>
                    <a:pt x="255" y="282"/>
                  </a:lnTo>
                  <a:lnTo>
                    <a:pt x="258" y="267"/>
                  </a:lnTo>
                  <a:lnTo>
                    <a:pt x="260" y="252"/>
                  </a:lnTo>
                  <a:lnTo>
                    <a:pt x="261" y="234"/>
                  </a:lnTo>
                  <a:lnTo>
                    <a:pt x="262" y="217"/>
                  </a:lnTo>
                  <a:lnTo>
                    <a:pt x="261" y="200"/>
                  </a:lnTo>
                  <a:lnTo>
                    <a:pt x="260" y="183"/>
                  </a:lnTo>
                  <a:lnTo>
                    <a:pt x="258" y="168"/>
                  </a:lnTo>
                  <a:lnTo>
                    <a:pt x="255" y="153"/>
                  </a:lnTo>
                  <a:lnTo>
                    <a:pt x="252" y="141"/>
                  </a:lnTo>
                  <a:lnTo>
                    <a:pt x="247" y="128"/>
                  </a:lnTo>
                  <a:lnTo>
                    <a:pt x="242" y="118"/>
                  </a:lnTo>
                  <a:lnTo>
                    <a:pt x="236" y="108"/>
                  </a:lnTo>
                  <a:lnTo>
                    <a:pt x="229" y="100"/>
                  </a:lnTo>
                  <a:lnTo>
                    <a:pt x="222" y="92"/>
                  </a:lnTo>
                  <a:lnTo>
                    <a:pt x="215" y="86"/>
                  </a:lnTo>
                  <a:lnTo>
                    <a:pt x="206" y="81"/>
                  </a:lnTo>
                  <a:lnTo>
                    <a:pt x="198" y="77"/>
                  </a:lnTo>
                  <a:lnTo>
                    <a:pt x="187" y="75"/>
                  </a:lnTo>
                  <a:lnTo>
                    <a:pt x="177" y="74"/>
                  </a:lnTo>
                  <a:lnTo>
                    <a:pt x="167" y="72"/>
                  </a:lnTo>
                  <a:lnTo>
                    <a:pt x="157" y="74"/>
                  </a:lnTo>
                  <a:lnTo>
                    <a:pt x="147" y="75"/>
                  </a:lnTo>
                  <a:lnTo>
                    <a:pt x="138" y="77"/>
                  </a:lnTo>
                  <a:lnTo>
                    <a:pt x="129" y="82"/>
                  </a:lnTo>
                  <a:lnTo>
                    <a:pt x="119" y="87"/>
                  </a:lnTo>
                  <a:lnTo>
                    <a:pt x="112" y="93"/>
                  </a:lnTo>
                  <a:lnTo>
                    <a:pt x="104" y="101"/>
                  </a:lnTo>
                  <a:lnTo>
                    <a:pt x="98" y="108"/>
                  </a:lnTo>
                  <a:lnTo>
                    <a:pt x="92" y="118"/>
                  </a:lnTo>
                  <a:lnTo>
                    <a:pt x="86" y="130"/>
                  </a:lnTo>
                  <a:lnTo>
                    <a:pt x="82" y="141"/>
                  </a:lnTo>
                  <a:lnTo>
                    <a:pt x="78" y="155"/>
                  </a:lnTo>
                  <a:lnTo>
                    <a:pt x="75" y="168"/>
                  </a:lnTo>
                  <a:lnTo>
                    <a:pt x="73" y="185"/>
                  </a:lnTo>
                  <a:lnTo>
                    <a:pt x="72" y="201"/>
                  </a:lnTo>
                  <a:lnTo>
                    <a:pt x="72" y="2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85960" y="1581120"/>
              <a:ext cx="144720" cy="168480"/>
            </a:xfrm>
            <a:custGeom>
              <a:avLst/>
              <a:gdLst/>
              <a:ahLst/>
              <a:rect l="l" t="t" r="r" b="b"/>
              <a:pathLst>
                <a:path w="273" h="424">
                  <a:moveTo>
                    <a:pt x="0" y="424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209" y="283"/>
                  </a:lnTo>
                  <a:lnTo>
                    <a:pt x="209" y="0"/>
                  </a:lnTo>
                  <a:lnTo>
                    <a:pt x="273" y="0"/>
                  </a:lnTo>
                  <a:lnTo>
                    <a:pt x="273" y="424"/>
                  </a:lnTo>
                  <a:lnTo>
                    <a:pt x="204" y="424"/>
                  </a:lnTo>
                  <a:lnTo>
                    <a:pt x="65" y="149"/>
                  </a:lnTo>
                  <a:lnTo>
                    <a:pt x="65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55880" y="1581120"/>
              <a:ext cx="144360" cy="168480"/>
            </a:xfrm>
            <a:custGeom>
              <a:avLst/>
              <a:gdLst/>
              <a:ahLst/>
              <a:rect l="l" t="t" r="r" b="b"/>
              <a:pathLst>
                <a:path w="272" h="424">
                  <a:moveTo>
                    <a:pt x="101" y="424"/>
                  </a:moveTo>
                  <a:lnTo>
                    <a:pt x="101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72" y="0"/>
                  </a:lnTo>
                  <a:lnTo>
                    <a:pt x="272" y="72"/>
                  </a:lnTo>
                  <a:lnTo>
                    <a:pt x="171" y="72"/>
                  </a:lnTo>
                  <a:lnTo>
                    <a:pt x="171" y="424"/>
                  </a:lnTo>
                  <a:lnTo>
                    <a:pt x="101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4360" y="1581120"/>
              <a:ext cx="139680" cy="168480"/>
            </a:xfrm>
            <a:custGeom>
              <a:avLst/>
              <a:gdLst/>
              <a:ahLst/>
              <a:rect l="l" t="t" r="r" b="b"/>
              <a:pathLst>
                <a:path w="262" h="424">
                  <a:moveTo>
                    <a:pt x="0" y="424"/>
                  </a:moveTo>
                  <a:lnTo>
                    <a:pt x="0" y="0"/>
                  </a:lnTo>
                  <a:lnTo>
                    <a:pt x="256" y="0"/>
                  </a:lnTo>
                  <a:lnTo>
                    <a:pt x="256" y="72"/>
                  </a:lnTo>
                  <a:lnTo>
                    <a:pt x="69" y="72"/>
                  </a:lnTo>
                  <a:lnTo>
                    <a:pt x="69" y="166"/>
                  </a:lnTo>
                  <a:lnTo>
                    <a:pt x="242" y="166"/>
                  </a:lnTo>
                  <a:lnTo>
                    <a:pt x="242" y="237"/>
                  </a:lnTo>
                  <a:lnTo>
                    <a:pt x="69" y="237"/>
                  </a:lnTo>
                  <a:lnTo>
                    <a:pt x="69" y="353"/>
                  </a:lnTo>
                  <a:lnTo>
                    <a:pt x="262" y="353"/>
                  </a:lnTo>
                  <a:lnTo>
                    <a:pt x="262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79760" y="1582560"/>
              <a:ext cx="1597320" cy="3747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60760" y="1682640"/>
              <a:ext cx="184320" cy="187560"/>
            </a:xfrm>
            <a:custGeom>
              <a:avLst/>
              <a:gdLst/>
              <a:ahLst/>
              <a:rect l="l" t="t" r="r" b="b"/>
              <a:pathLst>
                <a:path w="348" h="473">
                  <a:moveTo>
                    <a:pt x="292" y="377"/>
                  </a:moveTo>
                  <a:lnTo>
                    <a:pt x="299" y="382"/>
                  </a:lnTo>
                  <a:lnTo>
                    <a:pt x="306" y="388"/>
                  </a:lnTo>
                  <a:lnTo>
                    <a:pt x="312" y="393"/>
                  </a:lnTo>
                  <a:lnTo>
                    <a:pt x="319" y="396"/>
                  </a:lnTo>
                  <a:lnTo>
                    <a:pt x="326" y="401"/>
                  </a:lnTo>
                  <a:lnTo>
                    <a:pt x="333" y="405"/>
                  </a:lnTo>
                  <a:lnTo>
                    <a:pt x="340" y="409"/>
                  </a:lnTo>
                  <a:lnTo>
                    <a:pt x="348" y="413"/>
                  </a:lnTo>
                  <a:lnTo>
                    <a:pt x="322" y="473"/>
                  </a:lnTo>
                  <a:lnTo>
                    <a:pt x="318" y="471"/>
                  </a:lnTo>
                  <a:lnTo>
                    <a:pt x="315" y="470"/>
                  </a:lnTo>
                  <a:lnTo>
                    <a:pt x="311" y="468"/>
                  </a:lnTo>
                  <a:lnTo>
                    <a:pt x="307" y="466"/>
                  </a:lnTo>
                  <a:lnTo>
                    <a:pt x="303" y="464"/>
                  </a:lnTo>
                  <a:lnTo>
                    <a:pt x="299" y="461"/>
                  </a:lnTo>
                  <a:lnTo>
                    <a:pt x="296" y="459"/>
                  </a:lnTo>
                  <a:lnTo>
                    <a:pt x="291" y="456"/>
                  </a:lnTo>
                  <a:lnTo>
                    <a:pt x="290" y="456"/>
                  </a:lnTo>
                  <a:lnTo>
                    <a:pt x="287" y="454"/>
                  </a:lnTo>
                  <a:lnTo>
                    <a:pt x="283" y="450"/>
                  </a:lnTo>
                  <a:lnTo>
                    <a:pt x="278" y="446"/>
                  </a:lnTo>
                  <a:lnTo>
                    <a:pt x="272" y="441"/>
                  </a:lnTo>
                  <a:lnTo>
                    <a:pt x="264" y="435"/>
                  </a:lnTo>
                  <a:lnTo>
                    <a:pt x="255" y="428"/>
                  </a:lnTo>
                  <a:lnTo>
                    <a:pt x="245" y="419"/>
                  </a:lnTo>
                  <a:lnTo>
                    <a:pt x="237" y="424"/>
                  </a:lnTo>
                  <a:lnTo>
                    <a:pt x="228" y="428"/>
                  </a:lnTo>
                  <a:lnTo>
                    <a:pt x="218" y="430"/>
                  </a:lnTo>
                  <a:lnTo>
                    <a:pt x="209" y="433"/>
                  </a:lnTo>
                  <a:lnTo>
                    <a:pt x="200" y="435"/>
                  </a:lnTo>
                  <a:lnTo>
                    <a:pt x="190" y="436"/>
                  </a:lnTo>
                  <a:lnTo>
                    <a:pt x="180" y="438"/>
                  </a:lnTo>
                  <a:lnTo>
                    <a:pt x="170" y="438"/>
                  </a:lnTo>
                  <a:lnTo>
                    <a:pt x="151" y="436"/>
                  </a:lnTo>
                  <a:lnTo>
                    <a:pt x="132" y="434"/>
                  </a:lnTo>
                  <a:lnTo>
                    <a:pt x="115" y="429"/>
                  </a:lnTo>
                  <a:lnTo>
                    <a:pt x="100" y="423"/>
                  </a:lnTo>
                  <a:lnTo>
                    <a:pt x="85" y="415"/>
                  </a:lnTo>
                  <a:lnTo>
                    <a:pt x="70" y="405"/>
                  </a:lnTo>
                  <a:lnTo>
                    <a:pt x="57" y="394"/>
                  </a:lnTo>
                  <a:lnTo>
                    <a:pt x="46" y="380"/>
                  </a:lnTo>
                  <a:lnTo>
                    <a:pt x="35" y="365"/>
                  </a:lnTo>
                  <a:lnTo>
                    <a:pt x="26" y="348"/>
                  </a:lnTo>
                  <a:lnTo>
                    <a:pt x="19" y="330"/>
                  </a:lnTo>
                  <a:lnTo>
                    <a:pt x="12" y="310"/>
                  </a:lnTo>
                  <a:lnTo>
                    <a:pt x="8" y="290"/>
                  </a:lnTo>
                  <a:lnTo>
                    <a:pt x="4" y="268"/>
                  </a:lnTo>
                  <a:lnTo>
                    <a:pt x="1" y="244"/>
                  </a:lnTo>
                  <a:lnTo>
                    <a:pt x="0" y="218"/>
                  </a:lnTo>
                  <a:lnTo>
                    <a:pt x="1" y="193"/>
                  </a:lnTo>
                  <a:lnTo>
                    <a:pt x="4" y="169"/>
                  </a:lnTo>
                  <a:lnTo>
                    <a:pt x="8" y="147"/>
                  </a:lnTo>
                  <a:lnTo>
                    <a:pt x="12" y="126"/>
                  </a:lnTo>
                  <a:lnTo>
                    <a:pt x="19" y="107"/>
                  </a:lnTo>
                  <a:lnTo>
                    <a:pt x="26" y="88"/>
                  </a:lnTo>
                  <a:lnTo>
                    <a:pt x="35" y="72"/>
                  </a:lnTo>
                  <a:lnTo>
                    <a:pt x="46" y="57"/>
                  </a:lnTo>
                  <a:lnTo>
                    <a:pt x="57" y="43"/>
                  </a:lnTo>
                  <a:lnTo>
                    <a:pt x="70" y="32"/>
                  </a:lnTo>
                  <a:lnTo>
                    <a:pt x="85" y="22"/>
                  </a:lnTo>
                  <a:lnTo>
                    <a:pt x="99" y="13"/>
                  </a:lnTo>
                  <a:lnTo>
                    <a:pt x="115" y="7"/>
                  </a:lnTo>
                  <a:lnTo>
                    <a:pt x="131" y="3"/>
                  </a:lnTo>
                  <a:lnTo>
                    <a:pt x="150" y="0"/>
                  </a:lnTo>
                  <a:lnTo>
                    <a:pt x="169" y="0"/>
                  </a:lnTo>
                  <a:lnTo>
                    <a:pt x="187" y="0"/>
                  </a:lnTo>
                  <a:lnTo>
                    <a:pt x="204" y="3"/>
                  </a:lnTo>
                  <a:lnTo>
                    <a:pt x="222" y="7"/>
                  </a:lnTo>
                  <a:lnTo>
                    <a:pt x="237" y="13"/>
                  </a:lnTo>
                  <a:lnTo>
                    <a:pt x="252" y="22"/>
                  </a:lnTo>
                  <a:lnTo>
                    <a:pt x="265" y="32"/>
                  </a:lnTo>
                  <a:lnTo>
                    <a:pt x="278" y="43"/>
                  </a:lnTo>
                  <a:lnTo>
                    <a:pt x="289" y="57"/>
                  </a:lnTo>
                  <a:lnTo>
                    <a:pt x="301" y="72"/>
                  </a:lnTo>
                  <a:lnTo>
                    <a:pt x="310" y="88"/>
                  </a:lnTo>
                  <a:lnTo>
                    <a:pt x="317" y="107"/>
                  </a:lnTo>
                  <a:lnTo>
                    <a:pt x="324" y="126"/>
                  </a:lnTo>
                  <a:lnTo>
                    <a:pt x="328" y="147"/>
                  </a:lnTo>
                  <a:lnTo>
                    <a:pt x="332" y="169"/>
                  </a:lnTo>
                  <a:lnTo>
                    <a:pt x="334" y="193"/>
                  </a:lnTo>
                  <a:lnTo>
                    <a:pt x="335" y="218"/>
                  </a:lnTo>
                  <a:lnTo>
                    <a:pt x="334" y="232"/>
                  </a:lnTo>
                  <a:lnTo>
                    <a:pt x="334" y="246"/>
                  </a:lnTo>
                  <a:lnTo>
                    <a:pt x="333" y="258"/>
                  </a:lnTo>
                  <a:lnTo>
                    <a:pt x="332" y="270"/>
                  </a:lnTo>
                  <a:lnTo>
                    <a:pt x="330" y="282"/>
                  </a:lnTo>
                  <a:lnTo>
                    <a:pt x="328" y="293"/>
                  </a:lnTo>
                  <a:lnTo>
                    <a:pt x="325" y="304"/>
                  </a:lnTo>
                  <a:lnTo>
                    <a:pt x="322" y="315"/>
                  </a:lnTo>
                  <a:lnTo>
                    <a:pt x="320" y="323"/>
                  </a:lnTo>
                  <a:lnTo>
                    <a:pt x="317" y="330"/>
                  </a:lnTo>
                  <a:lnTo>
                    <a:pt x="314" y="339"/>
                  </a:lnTo>
                  <a:lnTo>
                    <a:pt x="310" y="347"/>
                  </a:lnTo>
                  <a:lnTo>
                    <a:pt x="306" y="354"/>
                  </a:lnTo>
                  <a:lnTo>
                    <a:pt x="302" y="362"/>
                  </a:lnTo>
                  <a:lnTo>
                    <a:pt x="298" y="369"/>
                  </a:lnTo>
                  <a:lnTo>
                    <a:pt x="292" y="377"/>
                  </a:lnTo>
                  <a:close/>
                  <a:moveTo>
                    <a:pt x="236" y="328"/>
                  </a:moveTo>
                  <a:lnTo>
                    <a:pt x="240" y="323"/>
                  </a:lnTo>
                  <a:lnTo>
                    <a:pt x="243" y="318"/>
                  </a:lnTo>
                  <a:lnTo>
                    <a:pt x="245" y="313"/>
                  </a:lnTo>
                  <a:lnTo>
                    <a:pt x="248" y="307"/>
                  </a:lnTo>
                  <a:lnTo>
                    <a:pt x="250" y="300"/>
                  </a:lnTo>
                  <a:lnTo>
                    <a:pt x="253" y="294"/>
                  </a:lnTo>
                  <a:lnTo>
                    <a:pt x="255" y="288"/>
                  </a:lnTo>
                  <a:lnTo>
                    <a:pt x="256" y="282"/>
                  </a:lnTo>
                  <a:lnTo>
                    <a:pt x="258" y="274"/>
                  </a:lnTo>
                  <a:lnTo>
                    <a:pt x="259" y="267"/>
                  </a:lnTo>
                  <a:lnTo>
                    <a:pt x="260" y="259"/>
                  </a:lnTo>
                  <a:lnTo>
                    <a:pt x="261" y="252"/>
                  </a:lnTo>
                  <a:lnTo>
                    <a:pt x="262" y="244"/>
                  </a:lnTo>
                  <a:lnTo>
                    <a:pt x="262" y="236"/>
                  </a:lnTo>
                  <a:lnTo>
                    <a:pt x="263" y="227"/>
                  </a:lnTo>
                  <a:lnTo>
                    <a:pt x="263" y="218"/>
                  </a:lnTo>
                  <a:lnTo>
                    <a:pt x="262" y="201"/>
                  </a:lnTo>
                  <a:lnTo>
                    <a:pt x="261" y="184"/>
                  </a:lnTo>
                  <a:lnTo>
                    <a:pt x="259" y="168"/>
                  </a:lnTo>
                  <a:lnTo>
                    <a:pt x="256" y="154"/>
                  </a:lnTo>
                  <a:lnTo>
                    <a:pt x="253" y="141"/>
                  </a:lnTo>
                  <a:lnTo>
                    <a:pt x="248" y="129"/>
                  </a:lnTo>
                  <a:lnTo>
                    <a:pt x="243" y="118"/>
                  </a:lnTo>
                  <a:lnTo>
                    <a:pt x="237" y="108"/>
                  </a:lnTo>
                  <a:lnTo>
                    <a:pt x="230" y="101"/>
                  </a:lnTo>
                  <a:lnTo>
                    <a:pt x="223" y="93"/>
                  </a:lnTo>
                  <a:lnTo>
                    <a:pt x="214" y="87"/>
                  </a:lnTo>
                  <a:lnTo>
                    <a:pt x="206" y="82"/>
                  </a:lnTo>
                  <a:lnTo>
                    <a:pt x="197" y="77"/>
                  </a:lnTo>
                  <a:lnTo>
                    <a:pt x="188" y="75"/>
                  </a:lnTo>
                  <a:lnTo>
                    <a:pt x="178" y="73"/>
                  </a:lnTo>
                  <a:lnTo>
                    <a:pt x="168" y="72"/>
                  </a:lnTo>
                  <a:lnTo>
                    <a:pt x="158" y="73"/>
                  </a:lnTo>
                  <a:lnTo>
                    <a:pt x="147" y="75"/>
                  </a:lnTo>
                  <a:lnTo>
                    <a:pt x="138" y="77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3" y="93"/>
                  </a:lnTo>
                  <a:lnTo>
                    <a:pt x="106" y="101"/>
                  </a:lnTo>
                  <a:lnTo>
                    <a:pt x="99" y="108"/>
                  </a:lnTo>
                  <a:lnTo>
                    <a:pt x="93" y="118"/>
                  </a:lnTo>
                  <a:lnTo>
                    <a:pt x="88" y="129"/>
                  </a:lnTo>
                  <a:lnTo>
                    <a:pt x="83" y="141"/>
                  </a:lnTo>
                  <a:lnTo>
                    <a:pt x="79" y="154"/>
                  </a:lnTo>
                  <a:lnTo>
                    <a:pt x="77" y="168"/>
                  </a:lnTo>
                  <a:lnTo>
                    <a:pt x="74" y="184"/>
                  </a:lnTo>
                  <a:lnTo>
                    <a:pt x="72" y="201"/>
                  </a:lnTo>
                  <a:lnTo>
                    <a:pt x="72" y="218"/>
                  </a:lnTo>
                  <a:lnTo>
                    <a:pt x="72" y="237"/>
                  </a:lnTo>
                  <a:lnTo>
                    <a:pt x="74" y="253"/>
                  </a:lnTo>
                  <a:lnTo>
                    <a:pt x="77" y="269"/>
                  </a:lnTo>
                  <a:lnTo>
                    <a:pt x="79" y="283"/>
                  </a:lnTo>
                  <a:lnTo>
                    <a:pt x="83" y="297"/>
                  </a:lnTo>
                  <a:lnTo>
                    <a:pt x="88" y="309"/>
                  </a:lnTo>
                  <a:lnTo>
                    <a:pt x="93" y="320"/>
                  </a:lnTo>
                  <a:lnTo>
                    <a:pt x="99" y="329"/>
                  </a:lnTo>
                  <a:lnTo>
                    <a:pt x="106" y="338"/>
                  </a:lnTo>
                  <a:lnTo>
                    <a:pt x="113" y="345"/>
                  </a:lnTo>
                  <a:lnTo>
                    <a:pt x="121" y="352"/>
                  </a:lnTo>
                  <a:lnTo>
                    <a:pt x="129" y="358"/>
                  </a:lnTo>
                  <a:lnTo>
                    <a:pt x="137" y="362"/>
                  </a:lnTo>
                  <a:lnTo>
                    <a:pt x="146" y="364"/>
                  </a:lnTo>
                  <a:lnTo>
                    <a:pt x="156" y="365"/>
                  </a:lnTo>
                  <a:lnTo>
                    <a:pt x="166" y="367"/>
                  </a:lnTo>
                  <a:lnTo>
                    <a:pt x="170" y="367"/>
                  </a:lnTo>
                  <a:lnTo>
                    <a:pt x="173" y="367"/>
                  </a:lnTo>
                  <a:lnTo>
                    <a:pt x="177" y="365"/>
                  </a:lnTo>
                  <a:lnTo>
                    <a:pt x="180" y="365"/>
                  </a:lnTo>
                  <a:lnTo>
                    <a:pt x="184" y="364"/>
                  </a:lnTo>
                  <a:lnTo>
                    <a:pt x="187" y="363"/>
                  </a:lnTo>
                  <a:lnTo>
                    <a:pt x="191" y="362"/>
                  </a:lnTo>
                  <a:lnTo>
                    <a:pt x="194" y="360"/>
                  </a:lnTo>
                  <a:lnTo>
                    <a:pt x="189" y="357"/>
                  </a:lnTo>
                  <a:lnTo>
                    <a:pt x="184" y="353"/>
                  </a:lnTo>
                  <a:lnTo>
                    <a:pt x="178" y="349"/>
                  </a:lnTo>
                  <a:lnTo>
                    <a:pt x="173" y="345"/>
                  </a:lnTo>
                  <a:lnTo>
                    <a:pt x="168" y="342"/>
                  </a:lnTo>
                  <a:lnTo>
                    <a:pt x="162" y="339"/>
                  </a:lnTo>
                  <a:lnTo>
                    <a:pt x="157" y="337"/>
                  </a:lnTo>
                  <a:lnTo>
                    <a:pt x="152" y="334"/>
                  </a:lnTo>
                  <a:lnTo>
                    <a:pt x="171" y="285"/>
                  </a:lnTo>
                  <a:lnTo>
                    <a:pt x="179" y="289"/>
                  </a:lnTo>
                  <a:lnTo>
                    <a:pt x="188" y="293"/>
                  </a:lnTo>
                  <a:lnTo>
                    <a:pt x="196" y="298"/>
                  </a:lnTo>
                  <a:lnTo>
                    <a:pt x="204" y="303"/>
                  </a:lnTo>
                  <a:lnTo>
                    <a:pt x="212" y="309"/>
                  </a:lnTo>
                  <a:lnTo>
                    <a:pt x="220" y="314"/>
                  </a:lnTo>
                  <a:lnTo>
                    <a:pt x="229" y="322"/>
                  </a:lnTo>
                  <a:lnTo>
                    <a:pt x="236" y="3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65600" y="1684440"/>
              <a:ext cx="146160" cy="171360"/>
            </a:xfrm>
            <a:custGeom>
              <a:avLst/>
              <a:gdLst/>
              <a:ahLst/>
              <a:rect l="l" t="t" r="r" b="b"/>
              <a:pathLst>
                <a:path w="275" h="432">
                  <a:moveTo>
                    <a:pt x="0" y="0"/>
                  </a:moveTo>
                  <a:lnTo>
                    <a:pt x="70" y="0"/>
                  </a:lnTo>
                  <a:lnTo>
                    <a:pt x="70" y="230"/>
                  </a:lnTo>
                  <a:lnTo>
                    <a:pt x="70" y="243"/>
                  </a:lnTo>
                  <a:lnTo>
                    <a:pt x="70" y="254"/>
                  </a:lnTo>
                  <a:lnTo>
                    <a:pt x="70" y="266"/>
                  </a:lnTo>
                  <a:lnTo>
                    <a:pt x="70" y="274"/>
                  </a:lnTo>
                  <a:lnTo>
                    <a:pt x="71" y="283"/>
                  </a:lnTo>
                  <a:lnTo>
                    <a:pt x="71" y="291"/>
                  </a:lnTo>
                  <a:lnTo>
                    <a:pt x="72" y="296"/>
                  </a:lnTo>
                  <a:lnTo>
                    <a:pt x="72" y="301"/>
                  </a:lnTo>
                  <a:lnTo>
                    <a:pt x="73" y="307"/>
                  </a:lnTo>
                  <a:lnTo>
                    <a:pt x="75" y="313"/>
                  </a:lnTo>
                  <a:lnTo>
                    <a:pt x="77" y="319"/>
                  </a:lnTo>
                  <a:lnTo>
                    <a:pt x="80" y="324"/>
                  </a:lnTo>
                  <a:lnTo>
                    <a:pt x="82" y="329"/>
                  </a:lnTo>
                  <a:lnTo>
                    <a:pt x="86" y="334"/>
                  </a:lnTo>
                  <a:lnTo>
                    <a:pt x="89" y="338"/>
                  </a:lnTo>
                  <a:lnTo>
                    <a:pt x="93" y="343"/>
                  </a:lnTo>
                  <a:lnTo>
                    <a:pt x="97" y="347"/>
                  </a:lnTo>
                  <a:lnTo>
                    <a:pt x="102" y="349"/>
                  </a:lnTo>
                  <a:lnTo>
                    <a:pt x="107" y="352"/>
                  </a:lnTo>
                  <a:lnTo>
                    <a:pt x="113" y="354"/>
                  </a:lnTo>
                  <a:lnTo>
                    <a:pt x="119" y="357"/>
                  </a:lnTo>
                  <a:lnTo>
                    <a:pt x="126" y="358"/>
                  </a:lnTo>
                  <a:lnTo>
                    <a:pt x="132" y="358"/>
                  </a:lnTo>
                  <a:lnTo>
                    <a:pt x="139" y="358"/>
                  </a:lnTo>
                  <a:lnTo>
                    <a:pt x="146" y="358"/>
                  </a:lnTo>
                  <a:lnTo>
                    <a:pt x="153" y="358"/>
                  </a:lnTo>
                  <a:lnTo>
                    <a:pt x="159" y="357"/>
                  </a:lnTo>
                  <a:lnTo>
                    <a:pt x="165" y="354"/>
                  </a:lnTo>
                  <a:lnTo>
                    <a:pt x="170" y="353"/>
                  </a:lnTo>
                  <a:lnTo>
                    <a:pt x="175" y="351"/>
                  </a:lnTo>
                  <a:lnTo>
                    <a:pt x="179" y="347"/>
                  </a:lnTo>
                  <a:lnTo>
                    <a:pt x="183" y="343"/>
                  </a:lnTo>
                  <a:lnTo>
                    <a:pt x="187" y="339"/>
                  </a:lnTo>
                  <a:lnTo>
                    <a:pt x="190" y="336"/>
                  </a:lnTo>
                  <a:lnTo>
                    <a:pt x="193" y="332"/>
                  </a:lnTo>
                  <a:lnTo>
                    <a:pt x="196" y="327"/>
                  </a:lnTo>
                  <a:lnTo>
                    <a:pt x="198" y="322"/>
                  </a:lnTo>
                  <a:lnTo>
                    <a:pt x="200" y="317"/>
                  </a:lnTo>
                  <a:lnTo>
                    <a:pt x="201" y="312"/>
                  </a:lnTo>
                  <a:lnTo>
                    <a:pt x="202" y="307"/>
                  </a:lnTo>
                  <a:lnTo>
                    <a:pt x="203" y="301"/>
                  </a:lnTo>
                  <a:lnTo>
                    <a:pt x="204" y="294"/>
                  </a:lnTo>
                  <a:lnTo>
                    <a:pt x="204" y="287"/>
                  </a:lnTo>
                  <a:lnTo>
                    <a:pt x="205" y="278"/>
                  </a:lnTo>
                  <a:lnTo>
                    <a:pt x="205" y="268"/>
                  </a:lnTo>
                  <a:lnTo>
                    <a:pt x="205" y="258"/>
                  </a:lnTo>
                  <a:lnTo>
                    <a:pt x="205" y="247"/>
                  </a:lnTo>
                  <a:lnTo>
                    <a:pt x="205" y="235"/>
                  </a:lnTo>
                  <a:lnTo>
                    <a:pt x="205" y="0"/>
                  </a:lnTo>
                  <a:lnTo>
                    <a:pt x="275" y="0"/>
                  </a:lnTo>
                  <a:lnTo>
                    <a:pt x="275" y="223"/>
                  </a:lnTo>
                  <a:lnTo>
                    <a:pt x="275" y="242"/>
                  </a:lnTo>
                  <a:lnTo>
                    <a:pt x="274" y="258"/>
                  </a:lnTo>
                  <a:lnTo>
                    <a:pt x="274" y="274"/>
                  </a:lnTo>
                  <a:lnTo>
                    <a:pt x="273" y="288"/>
                  </a:lnTo>
                  <a:lnTo>
                    <a:pt x="273" y="301"/>
                  </a:lnTo>
                  <a:lnTo>
                    <a:pt x="272" y="312"/>
                  </a:lnTo>
                  <a:lnTo>
                    <a:pt x="271" y="322"/>
                  </a:lnTo>
                  <a:lnTo>
                    <a:pt x="269" y="331"/>
                  </a:lnTo>
                  <a:lnTo>
                    <a:pt x="268" y="338"/>
                  </a:lnTo>
                  <a:lnTo>
                    <a:pt x="265" y="346"/>
                  </a:lnTo>
                  <a:lnTo>
                    <a:pt x="263" y="353"/>
                  </a:lnTo>
                  <a:lnTo>
                    <a:pt x="260" y="361"/>
                  </a:lnTo>
                  <a:lnTo>
                    <a:pt x="258" y="367"/>
                  </a:lnTo>
                  <a:lnTo>
                    <a:pt x="255" y="373"/>
                  </a:lnTo>
                  <a:lnTo>
                    <a:pt x="251" y="378"/>
                  </a:lnTo>
                  <a:lnTo>
                    <a:pt x="248" y="384"/>
                  </a:lnTo>
                  <a:lnTo>
                    <a:pt x="244" y="389"/>
                  </a:lnTo>
                  <a:lnTo>
                    <a:pt x="240" y="394"/>
                  </a:lnTo>
                  <a:lnTo>
                    <a:pt x="235" y="399"/>
                  </a:lnTo>
                  <a:lnTo>
                    <a:pt x="230" y="404"/>
                  </a:lnTo>
                  <a:lnTo>
                    <a:pt x="225" y="408"/>
                  </a:lnTo>
                  <a:lnTo>
                    <a:pt x="220" y="412"/>
                  </a:lnTo>
                  <a:lnTo>
                    <a:pt x="214" y="415"/>
                  </a:lnTo>
                  <a:lnTo>
                    <a:pt x="208" y="419"/>
                  </a:lnTo>
                  <a:lnTo>
                    <a:pt x="201" y="422"/>
                  </a:lnTo>
                  <a:lnTo>
                    <a:pt x="193" y="424"/>
                  </a:lnTo>
                  <a:lnTo>
                    <a:pt x="186" y="427"/>
                  </a:lnTo>
                  <a:lnTo>
                    <a:pt x="178" y="428"/>
                  </a:lnTo>
                  <a:lnTo>
                    <a:pt x="170" y="429"/>
                  </a:lnTo>
                  <a:lnTo>
                    <a:pt x="161" y="430"/>
                  </a:lnTo>
                  <a:lnTo>
                    <a:pt x="151" y="432"/>
                  </a:lnTo>
                  <a:lnTo>
                    <a:pt x="141" y="432"/>
                  </a:lnTo>
                  <a:lnTo>
                    <a:pt x="130" y="432"/>
                  </a:lnTo>
                  <a:lnTo>
                    <a:pt x="118" y="430"/>
                  </a:lnTo>
                  <a:lnTo>
                    <a:pt x="107" y="429"/>
                  </a:lnTo>
                  <a:lnTo>
                    <a:pt x="98" y="428"/>
                  </a:lnTo>
                  <a:lnTo>
                    <a:pt x="89" y="427"/>
                  </a:lnTo>
                  <a:lnTo>
                    <a:pt x="81" y="424"/>
                  </a:lnTo>
                  <a:lnTo>
                    <a:pt x="73" y="420"/>
                  </a:lnTo>
                  <a:lnTo>
                    <a:pt x="67" y="418"/>
                  </a:lnTo>
                  <a:lnTo>
                    <a:pt x="61" y="414"/>
                  </a:lnTo>
                  <a:lnTo>
                    <a:pt x="55" y="410"/>
                  </a:lnTo>
                  <a:lnTo>
                    <a:pt x="48" y="405"/>
                  </a:lnTo>
                  <a:lnTo>
                    <a:pt x="43" y="402"/>
                  </a:lnTo>
                  <a:lnTo>
                    <a:pt x="38" y="397"/>
                  </a:lnTo>
                  <a:lnTo>
                    <a:pt x="34" y="392"/>
                  </a:lnTo>
                  <a:lnTo>
                    <a:pt x="30" y="387"/>
                  </a:lnTo>
                  <a:lnTo>
                    <a:pt x="26" y="381"/>
                  </a:lnTo>
                  <a:lnTo>
                    <a:pt x="22" y="376"/>
                  </a:lnTo>
                  <a:lnTo>
                    <a:pt x="19" y="369"/>
                  </a:lnTo>
                  <a:lnTo>
                    <a:pt x="16" y="364"/>
                  </a:lnTo>
                  <a:lnTo>
                    <a:pt x="14" y="358"/>
                  </a:lnTo>
                  <a:lnTo>
                    <a:pt x="12" y="352"/>
                  </a:lnTo>
                  <a:lnTo>
                    <a:pt x="10" y="347"/>
                  </a:lnTo>
                  <a:lnTo>
                    <a:pt x="8" y="341"/>
                  </a:lnTo>
                  <a:lnTo>
                    <a:pt x="7" y="334"/>
                  </a:lnTo>
                  <a:lnTo>
                    <a:pt x="5" y="324"/>
                  </a:lnTo>
                  <a:lnTo>
                    <a:pt x="4" y="313"/>
                  </a:lnTo>
                  <a:lnTo>
                    <a:pt x="3" y="302"/>
                  </a:lnTo>
                  <a:lnTo>
                    <a:pt x="2" y="289"/>
                  </a:lnTo>
                  <a:lnTo>
                    <a:pt x="1" y="274"/>
                  </a:lnTo>
                  <a:lnTo>
                    <a:pt x="0" y="259"/>
                  </a:lnTo>
                  <a:lnTo>
                    <a:pt x="0" y="243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49920" y="1684440"/>
              <a:ext cx="36360" cy="1699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11840" y="1682640"/>
              <a:ext cx="147600" cy="173160"/>
            </a:xfrm>
            <a:custGeom>
              <a:avLst/>
              <a:gdLst/>
              <a:ahLst/>
              <a:rect l="l" t="t" r="r" b="b"/>
              <a:pathLst>
                <a:path w="280" h="438">
                  <a:moveTo>
                    <a:pt x="0" y="293"/>
                  </a:moveTo>
                  <a:lnTo>
                    <a:pt x="67" y="284"/>
                  </a:lnTo>
                  <a:lnTo>
                    <a:pt x="69" y="294"/>
                  </a:lnTo>
                  <a:lnTo>
                    <a:pt x="71" y="304"/>
                  </a:lnTo>
                  <a:lnTo>
                    <a:pt x="74" y="313"/>
                  </a:lnTo>
                  <a:lnTo>
                    <a:pt x="76" y="320"/>
                  </a:lnTo>
                  <a:lnTo>
                    <a:pt x="80" y="328"/>
                  </a:lnTo>
                  <a:lnTo>
                    <a:pt x="83" y="334"/>
                  </a:lnTo>
                  <a:lnTo>
                    <a:pt x="87" y="340"/>
                  </a:lnTo>
                  <a:lnTo>
                    <a:pt x="93" y="345"/>
                  </a:lnTo>
                  <a:lnTo>
                    <a:pt x="98" y="350"/>
                  </a:lnTo>
                  <a:lnTo>
                    <a:pt x="103" y="354"/>
                  </a:lnTo>
                  <a:lnTo>
                    <a:pt x="108" y="358"/>
                  </a:lnTo>
                  <a:lnTo>
                    <a:pt x="114" y="360"/>
                  </a:lnTo>
                  <a:lnTo>
                    <a:pt x="121" y="363"/>
                  </a:lnTo>
                  <a:lnTo>
                    <a:pt x="128" y="364"/>
                  </a:lnTo>
                  <a:lnTo>
                    <a:pt x="135" y="365"/>
                  </a:lnTo>
                  <a:lnTo>
                    <a:pt x="143" y="365"/>
                  </a:lnTo>
                  <a:lnTo>
                    <a:pt x="151" y="365"/>
                  </a:lnTo>
                  <a:lnTo>
                    <a:pt x="158" y="364"/>
                  </a:lnTo>
                  <a:lnTo>
                    <a:pt x="166" y="363"/>
                  </a:lnTo>
                  <a:lnTo>
                    <a:pt x="173" y="362"/>
                  </a:lnTo>
                  <a:lnTo>
                    <a:pt x="179" y="359"/>
                  </a:lnTo>
                  <a:lnTo>
                    <a:pt x="184" y="355"/>
                  </a:lnTo>
                  <a:lnTo>
                    <a:pt x="189" y="352"/>
                  </a:lnTo>
                  <a:lnTo>
                    <a:pt x="193" y="348"/>
                  </a:lnTo>
                  <a:lnTo>
                    <a:pt x="197" y="344"/>
                  </a:lnTo>
                  <a:lnTo>
                    <a:pt x="201" y="339"/>
                  </a:lnTo>
                  <a:lnTo>
                    <a:pt x="204" y="334"/>
                  </a:lnTo>
                  <a:lnTo>
                    <a:pt x="206" y="329"/>
                  </a:lnTo>
                  <a:lnTo>
                    <a:pt x="208" y="324"/>
                  </a:lnTo>
                  <a:lnTo>
                    <a:pt x="209" y="318"/>
                  </a:lnTo>
                  <a:lnTo>
                    <a:pt x="210" y="313"/>
                  </a:lnTo>
                  <a:lnTo>
                    <a:pt x="210" y="307"/>
                  </a:lnTo>
                  <a:lnTo>
                    <a:pt x="210" y="303"/>
                  </a:lnTo>
                  <a:lnTo>
                    <a:pt x="210" y="300"/>
                  </a:lnTo>
                  <a:lnTo>
                    <a:pt x="209" y="297"/>
                  </a:lnTo>
                  <a:lnTo>
                    <a:pt x="208" y="293"/>
                  </a:lnTo>
                  <a:lnTo>
                    <a:pt x="207" y="290"/>
                  </a:lnTo>
                  <a:lnTo>
                    <a:pt x="206" y="287"/>
                  </a:lnTo>
                  <a:lnTo>
                    <a:pt x="205" y="284"/>
                  </a:lnTo>
                  <a:lnTo>
                    <a:pt x="203" y="282"/>
                  </a:lnTo>
                  <a:lnTo>
                    <a:pt x="201" y="279"/>
                  </a:lnTo>
                  <a:lnTo>
                    <a:pt x="199" y="277"/>
                  </a:lnTo>
                  <a:lnTo>
                    <a:pt x="196" y="274"/>
                  </a:lnTo>
                  <a:lnTo>
                    <a:pt x="193" y="272"/>
                  </a:lnTo>
                  <a:lnTo>
                    <a:pt x="190" y="269"/>
                  </a:lnTo>
                  <a:lnTo>
                    <a:pt x="187" y="267"/>
                  </a:lnTo>
                  <a:lnTo>
                    <a:pt x="183" y="265"/>
                  </a:lnTo>
                  <a:lnTo>
                    <a:pt x="178" y="263"/>
                  </a:lnTo>
                  <a:lnTo>
                    <a:pt x="175" y="262"/>
                  </a:lnTo>
                  <a:lnTo>
                    <a:pt x="171" y="260"/>
                  </a:lnTo>
                  <a:lnTo>
                    <a:pt x="165" y="258"/>
                  </a:lnTo>
                  <a:lnTo>
                    <a:pt x="158" y="255"/>
                  </a:lnTo>
                  <a:lnTo>
                    <a:pt x="150" y="253"/>
                  </a:lnTo>
                  <a:lnTo>
                    <a:pt x="142" y="250"/>
                  </a:lnTo>
                  <a:lnTo>
                    <a:pt x="133" y="248"/>
                  </a:lnTo>
                  <a:lnTo>
                    <a:pt x="123" y="244"/>
                  </a:lnTo>
                  <a:lnTo>
                    <a:pt x="109" y="241"/>
                  </a:lnTo>
                  <a:lnTo>
                    <a:pt x="97" y="236"/>
                  </a:lnTo>
                  <a:lnTo>
                    <a:pt x="85" y="231"/>
                  </a:lnTo>
                  <a:lnTo>
                    <a:pt x="75" y="226"/>
                  </a:lnTo>
                  <a:lnTo>
                    <a:pt x="65" y="221"/>
                  </a:lnTo>
                  <a:lnTo>
                    <a:pt x="57" y="214"/>
                  </a:lnTo>
                  <a:lnTo>
                    <a:pt x="50" y="209"/>
                  </a:lnTo>
                  <a:lnTo>
                    <a:pt x="44" y="203"/>
                  </a:lnTo>
                  <a:lnTo>
                    <a:pt x="37" y="194"/>
                  </a:lnTo>
                  <a:lnTo>
                    <a:pt x="31" y="184"/>
                  </a:lnTo>
                  <a:lnTo>
                    <a:pt x="25" y="174"/>
                  </a:lnTo>
                  <a:lnTo>
                    <a:pt x="21" y="164"/>
                  </a:lnTo>
                  <a:lnTo>
                    <a:pt x="16" y="153"/>
                  </a:lnTo>
                  <a:lnTo>
                    <a:pt x="14" y="142"/>
                  </a:lnTo>
                  <a:lnTo>
                    <a:pt x="12" y="129"/>
                  </a:lnTo>
                  <a:lnTo>
                    <a:pt x="12" y="117"/>
                  </a:lnTo>
                  <a:lnTo>
                    <a:pt x="12" y="109"/>
                  </a:lnTo>
                  <a:lnTo>
                    <a:pt x="13" y="102"/>
                  </a:lnTo>
                  <a:lnTo>
                    <a:pt x="14" y="93"/>
                  </a:lnTo>
                  <a:lnTo>
                    <a:pt x="16" y="86"/>
                  </a:lnTo>
                  <a:lnTo>
                    <a:pt x="18" y="78"/>
                  </a:lnTo>
                  <a:lnTo>
                    <a:pt x="21" y="71"/>
                  </a:lnTo>
                  <a:lnTo>
                    <a:pt x="24" y="65"/>
                  </a:lnTo>
                  <a:lnTo>
                    <a:pt x="28" y="57"/>
                  </a:lnTo>
                  <a:lnTo>
                    <a:pt x="31" y="50"/>
                  </a:lnTo>
                  <a:lnTo>
                    <a:pt x="36" y="43"/>
                  </a:lnTo>
                  <a:lnTo>
                    <a:pt x="40" y="37"/>
                  </a:lnTo>
                  <a:lnTo>
                    <a:pt x="46" y="32"/>
                  </a:lnTo>
                  <a:lnTo>
                    <a:pt x="51" y="27"/>
                  </a:lnTo>
                  <a:lnTo>
                    <a:pt x="57" y="22"/>
                  </a:lnTo>
                  <a:lnTo>
                    <a:pt x="63" y="18"/>
                  </a:lnTo>
                  <a:lnTo>
                    <a:pt x="70" y="13"/>
                  </a:lnTo>
                  <a:lnTo>
                    <a:pt x="77" y="11"/>
                  </a:lnTo>
                  <a:lnTo>
                    <a:pt x="85" y="7"/>
                  </a:lnTo>
                  <a:lnTo>
                    <a:pt x="93" y="5"/>
                  </a:lnTo>
                  <a:lnTo>
                    <a:pt x="102" y="3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53" y="0"/>
                  </a:lnTo>
                  <a:lnTo>
                    <a:pt x="169" y="1"/>
                  </a:lnTo>
                  <a:lnTo>
                    <a:pt x="182" y="5"/>
                  </a:lnTo>
                  <a:lnTo>
                    <a:pt x="195" y="8"/>
                  </a:lnTo>
                  <a:lnTo>
                    <a:pt x="206" y="13"/>
                  </a:lnTo>
                  <a:lnTo>
                    <a:pt x="217" y="18"/>
                  </a:lnTo>
                  <a:lnTo>
                    <a:pt x="227" y="26"/>
                  </a:lnTo>
                  <a:lnTo>
                    <a:pt x="235" y="35"/>
                  </a:lnTo>
                  <a:lnTo>
                    <a:pt x="244" y="43"/>
                  </a:lnTo>
                  <a:lnTo>
                    <a:pt x="250" y="53"/>
                  </a:lnTo>
                  <a:lnTo>
                    <a:pt x="256" y="63"/>
                  </a:lnTo>
                  <a:lnTo>
                    <a:pt x="261" y="75"/>
                  </a:lnTo>
                  <a:lnTo>
                    <a:pt x="265" y="87"/>
                  </a:lnTo>
                  <a:lnTo>
                    <a:pt x="267" y="100"/>
                  </a:lnTo>
                  <a:lnTo>
                    <a:pt x="269" y="113"/>
                  </a:lnTo>
                  <a:lnTo>
                    <a:pt x="270" y="128"/>
                  </a:lnTo>
                  <a:lnTo>
                    <a:pt x="201" y="132"/>
                  </a:lnTo>
                  <a:lnTo>
                    <a:pt x="199" y="123"/>
                  </a:lnTo>
                  <a:lnTo>
                    <a:pt x="198" y="116"/>
                  </a:lnTo>
                  <a:lnTo>
                    <a:pt x="196" y="109"/>
                  </a:lnTo>
                  <a:lnTo>
                    <a:pt x="194" y="103"/>
                  </a:lnTo>
                  <a:lnTo>
                    <a:pt x="191" y="98"/>
                  </a:lnTo>
                  <a:lnTo>
                    <a:pt x="188" y="93"/>
                  </a:lnTo>
                  <a:lnTo>
                    <a:pt x="185" y="88"/>
                  </a:lnTo>
                  <a:lnTo>
                    <a:pt x="182" y="85"/>
                  </a:lnTo>
                  <a:lnTo>
                    <a:pt x="178" y="81"/>
                  </a:lnTo>
                  <a:lnTo>
                    <a:pt x="174" y="78"/>
                  </a:lnTo>
                  <a:lnTo>
                    <a:pt x="169" y="76"/>
                  </a:lnTo>
                  <a:lnTo>
                    <a:pt x="163" y="73"/>
                  </a:lnTo>
                  <a:lnTo>
                    <a:pt x="157" y="72"/>
                  </a:lnTo>
                  <a:lnTo>
                    <a:pt x="151" y="71"/>
                  </a:lnTo>
                  <a:lnTo>
                    <a:pt x="144" y="71"/>
                  </a:lnTo>
                  <a:lnTo>
                    <a:pt x="137" y="70"/>
                  </a:lnTo>
                  <a:lnTo>
                    <a:pt x="130" y="71"/>
                  </a:lnTo>
                  <a:lnTo>
                    <a:pt x="123" y="71"/>
                  </a:lnTo>
                  <a:lnTo>
                    <a:pt x="117" y="72"/>
                  </a:lnTo>
                  <a:lnTo>
                    <a:pt x="111" y="73"/>
                  </a:lnTo>
                  <a:lnTo>
                    <a:pt x="105" y="76"/>
                  </a:lnTo>
                  <a:lnTo>
                    <a:pt x="100" y="78"/>
                  </a:lnTo>
                  <a:lnTo>
                    <a:pt x="95" y="82"/>
                  </a:lnTo>
                  <a:lnTo>
                    <a:pt x="89" y="86"/>
                  </a:lnTo>
                  <a:lnTo>
                    <a:pt x="87" y="88"/>
                  </a:lnTo>
                  <a:lnTo>
                    <a:pt x="85" y="91"/>
                  </a:lnTo>
                  <a:lnTo>
                    <a:pt x="83" y="93"/>
                  </a:lnTo>
                  <a:lnTo>
                    <a:pt x="81" y="97"/>
                  </a:lnTo>
                  <a:lnTo>
                    <a:pt x="80" y="101"/>
                  </a:lnTo>
                  <a:lnTo>
                    <a:pt x="79" y="103"/>
                  </a:lnTo>
                  <a:lnTo>
                    <a:pt x="79" y="108"/>
                  </a:lnTo>
                  <a:lnTo>
                    <a:pt x="78" y="112"/>
                  </a:lnTo>
                  <a:lnTo>
                    <a:pt x="79" y="116"/>
                  </a:lnTo>
                  <a:lnTo>
                    <a:pt x="79" y="119"/>
                  </a:lnTo>
                  <a:lnTo>
                    <a:pt x="80" y="122"/>
                  </a:lnTo>
                  <a:lnTo>
                    <a:pt x="81" y="126"/>
                  </a:lnTo>
                  <a:lnTo>
                    <a:pt x="82" y="128"/>
                  </a:lnTo>
                  <a:lnTo>
                    <a:pt x="84" y="132"/>
                  </a:lnTo>
                  <a:lnTo>
                    <a:pt x="86" y="134"/>
                  </a:lnTo>
                  <a:lnTo>
                    <a:pt x="89" y="137"/>
                  </a:lnTo>
                  <a:lnTo>
                    <a:pt x="93" y="141"/>
                  </a:lnTo>
                  <a:lnTo>
                    <a:pt x="98" y="144"/>
                  </a:lnTo>
                  <a:lnTo>
                    <a:pt x="105" y="148"/>
                  </a:lnTo>
                  <a:lnTo>
                    <a:pt x="112" y="152"/>
                  </a:lnTo>
                  <a:lnTo>
                    <a:pt x="120" y="154"/>
                  </a:lnTo>
                  <a:lnTo>
                    <a:pt x="130" y="158"/>
                  </a:lnTo>
                  <a:lnTo>
                    <a:pt x="141" y="162"/>
                  </a:lnTo>
                  <a:lnTo>
                    <a:pt x="153" y="166"/>
                  </a:lnTo>
                  <a:lnTo>
                    <a:pt x="166" y="169"/>
                  </a:lnTo>
                  <a:lnTo>
                    <a:pt x="177" y="173"/>
                  </a:lnTo>
                  <a:lnTo>
                    <a:pt x="188" y="177"/>
                  </a:lnTo>
                  <a:lnTo>
                    <a:pt x="197" y="181"/>
                  </a:lnTo>
                  <a:lnTo>
                    <a:pt x="206" y="184"/>
                  </a:lnTo>
                  <a:lnTo>
                    <a:pt x="214" y="188"/>
                  </a:lnTo>
                  <a:lnTo>
                    <a:pt x="221" y="192"/>
                  </a:lnTo>
                  <a:lnTo>
                    <a:pt x="228" y="196"/>
                  </a:lnTo>
                  <a:lnTo>
                    <a:pt x="234" y="201"/>
                  </a:lnTo>
                  <a:lnTo>
                    <a:pt x="240" y="204"/>
                  </a:lnTo>
                  <a:lnTo>
                    <a:pt x="245" y="209"/>
                  </a:lnTo>
                  <a:lnTo>
                    <a:pt x="250" y="214"/>
                  </a:lnTo>
                  <a:lnTo>
                    <a:pt x="255" y="221"/>
                  </a:lnTo>
                  <a:lnTo>
                    <a:pt x="259" y="227"/>
                  </a:lnTo>
                  <a:lnTo>
                    <a:pt x="263" y="233"/>
                  </a:lnTo>
                  <a:lnTo>
                    <a:pt x="266" y="239"/>
                  </a:lnTo>
                  <a:lnTo>
                    <a:pt x="269" y="247"/>
                  </a:lnTo>
                  <a:lnTo>
                    <a:pt x="272" y="254"/>
                  </a:lnTo>
                  <a:lnTo>
                    <a:pt x="275" y="262"/>
                  </a:lnTo>
                  <a:lnTo>
                    <a:pt x="276" y="270"/>
                  </a:lnTo>
                  <a:lnTo>
                    <a:pt x="278" y="278"/>
                  </a:lnTo>
                  <a:lnTo>
                    <a:pt x="279" y="288"/>
                  </a:lnTo>
                  <a:lnTo>
                    <a:pt x="280" y="297"/>
                  </a:lnTo>
                  <a:lnTo>
                    <a:pt x="280" y="307"/>
                  </a:lnTo>
                  <a:lnTo>
                    <a:pt x="280" y="315"/>
                  </a:lnTo>
                  <a:lnTo>
                    <a:pt x="279" y="325"/>
                  </a:lnTo>
                  <a:lnTo>
                    <a:pt x="278" y="334"/>
                  </a:lnTo>
                  <a:lnTo>
                    <a:pt x="276" y="342"/>
                  </a:lnTo>
                  <a:lnTo>
                    <a:pt x="274" y="350"/>
                  </a:lnTo>
                  <a:lnTo>
                    <a:pt x="271" y="359"/>
                  </a:lnTo>
                  <a:lnTo>
                    <a:pt x="267" y="367"/>
                  </a:lnTo>
                  <a:lnTo>
                    <a:pt x="264" y="375"/>
                  </a:lnTo>
                  <a:lnTo>
                    <a:pt x="259" y="383"/>
                  </a:lnTo>
                  <a:lnTo>
                    <a:pt x="255" y="390"/>
                  </a:lnTo>
                  <a:lnTo>
                    <a:pt x="250" y="396"/>
                  </a:lnTo>
                  <a:lnTo>
                    <a:pt x="244" y="403"/>
                  </a:lnTo>
                  <a:lnTo>
                    <a:pt x="238" y="409"/>
                  </a:lnTo>
                  <a:lnTo>
                    <a:pt x="231" y="414"/>
                  </a:lnTo>
                  <a:lnTo>
                    <a:pt x="224" y="418"/>
                  </a:lnTo>
                  <a:lnTo>
                    <a:pt x="217" y="423"/>
                  </a:lnTo>
                  <a:lnTo>
                    <a:pt x="209" y="426"/>
                  </a:lnTo>
                  <a:lnTo>
                    <a:pt x="201" y="429"/>
                  </a:lnTo>
                  <a:lnTo>
                    <a:pt x="192" y="431"/>
                  </a:lnTo>
                  <a:lnTo>
                    <a:pt x="183" y="434"/>
                  </a:lnTo>
                  <a:lnTo>
                    <a:pt x="174" y="435"/>
                  </a:lnTo>
                  <a:lnTo>
                    <a:pt x="163" y="436"/>
                  </a:lnTo>
                  <a:lnTo>
                    <a:pt x="153" y="438"/>
                  </a:lnTo>
                  <a:lnTo>
                    <a:pt x="142" y="438"/>
                  </a:lnTo>
                  <a:lnTo>
                    <a:pt x="126" y="438"/>
                  </a:lnTo>
                  <a:lnTo>
                    <a:pt x="111" y="435"/>
                  </a:lnTo>
                  <a:lnTo>
                    <a:pt x="98" y="433"/>
                  </a:lnTo>
                  <a:lnTo>
                    <a:pt x="84" y="429"/>
                  </a:lnTo>
                  <a:lnTo>
                    <a:pt x="72" y="424"/>
                  </a:lnTo>
                  <a:lnTo>
                    <a:pt x="61" y="416"/>
                  </a:lnTo>
                  <a:lnTo>
                    <a:pt x="51" y="409"/>
                  </a:lnTo>
                  <a:lnTo>
                    <a:pt x="42" y="400"/>
                  </a:lnTo>
                  <a:lnTo>
                    <a:pt x="34" y="392"/>
                  </a:lnTo>
                  <a:lnTo>
                    <a:pt x="26" y="380"/>
                  </a:lnTo>
                  <a:lnTo>
                    <a:pt x="20" y="368"/>
                  </a:lnTo>
                  <a:lnTo>
                    <a:pt x="13" y="355"/>
                  </a:lnTo>
                  <a:lnTo>
                    <a:pt x="9" y="342"/>
                  </a:lnTo>
                  <a:lnTo>
                    <a:pt x="5" y="325"/>
                  </a:lnTo>
                  <a:lnTo>
                    <a:pt x="2" y="309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78520" y="1684440"/>
              <a:ext cx="144360" cy="169920"/>
            </a:xfrm>
            <a:custGeom>
              <a:avLst/>
              <a:gdLst/>
              <a:ahLst/>
              <a:rect l="l" t="t" r="r" b="b"/>
              <a:pathLst>
                <a:path w="273" h="424">
                  <a:moveTo>
                    <a:pt x="102" y="424"/>
                  </a:moveTo>
                  <a:lnTo>
                    <a:pt x="10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73" y="0"/>
                  </a:lnTo>
                  <a:lnTo>
                    <a:pt x="273" y="72"/>
                  </a:lnTo>
                  <a:lnTo>
                    <a:pt x="172" y="72"/>
                  </a:lnTo>
                  <a:lnTo>
                    <a:pt x="172" y="424"/>
                  </a:lnTo>
                  <a:lnTo>
                    <a:pt x="102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46640" y="1684440"/>
              <a:ext cx="138240" cy="169920"/>
            </a:xfrm>
            <a:custGeom>
              <a:avLst/>
              <a:gdLst/>
              <a:ahLst/>
              <a:rect l="l" t="t" r="r" b="b"/>
              <a:pathLst>
                <a:path w="262" h="424">
                  <a:moveTo>
                    <a:pt x="0" y="424"/>
                  </a:moveTo>
                  <a:lnTo>
                    <a:pt x="0" y="0"/>
                  </a:lnTo>
                  <a:lnTo>
                    <a:pt x="254" y="0"/>
                  </a:lnTo>
                  <a:lnTo>
                    <a:pt x="254" y="72"/>
                  </a:lnTo>
                  <a:lnTo>
                    <a:pt x="69" y="72"/>
                  </a:lnTo>
                  <a:lnTo>
                    <a:pt x="69" y="166"/>
                  </a:lnTo>
                  <a:lnTo>
                    <a:pt x="242" y="166"/>
                  </a:lnTo>
                  <a:lnTo>
                    <a:pt x="242" y="237"/>
                  </a:lnTo>
                  <a:lnTo>
                    <a:pt x="69" y="237"/>
                  </a:lnTo>
                  <a:lnTo>
                    <a:pt x="69" y="353"/>
                  </a:lnTo>
                  <a:lnTo>
                    <a:pt x="262" y="353"/>
                  </a:lnTo>
                  <a:lnTo>
                    <a:pt x="262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16560" y="1685880"/>
              <a:ext cx="128520" cy="168480"/>
            </a:xfrm>
            <a:custGeom>
              <a:avLst/>
              <a:gdLst/>
              <a:ahLst/>
              <a:rect l="l" t="t" r="r" b="b"/>
              <a:pathLst>
                <a:path w="243" h="420">
                  <a:moveTo>
                    <a:pt x="0" y="42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349"/>
                  </a:lnTo>
                  <a:lnTo>
                    <a:pt x="243" y="349"/>
                  </a:lnTo>
                  <a:lnTo>
                    <a:pt x="243" y="42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72080" y="1685880"/>
              <a:ext cx="128520" cy="168480"/>
            </a:xfrm>
            <a:custGeom>
              <a:avLst/>
              <a:gdLst/>
              <a:ahLst/>
              <a:rect l="l" t="t" r="r" b="b"/>
              <a:pathLst>
                <a:path w="243" h="420">
                  <a:moveTo>
                    <a:pt x="0" y="42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349"/>
                  </a:lnTo>
                  <a:lnTo>
                    <a:pt x="243" y="349"/>
                  </a:lnTo>
                  <a:lnTo>
                    <a:pt x="243" y="42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19680" y="1682640"/>
              <a:ext cx="177840" cy="173160"/>
            </a:xfrm>
            <a:custGeom>
              <a:avLst/>
              <a:gdLst/>
              <a:ahLst/>
              <a:rect l="l" t="t" r="r" b="b"/>
              <a:pathLst>
                <a:path w="335" h="438">
                  <a:moveTo>
                    <a:pt x="0" y="221"/>
                  </a:moveTo>
                  <a:lnTo>
                    <a:pt x="0" y="206"/>
                  </a:lnTo>
                  <a:lnTo>
                    <a:pt x="1" y="189"/>
                  </a:lnTo>
                  <a:lnTo>
                    <a:pt x="2" y="176"/>
                  </a:lnTo>
                  <a:lnTo>
                    <a:pt x="4" y="162"/>
                  </a:lnTo>
                  <a:lnTo>
                    <a:pt x="6" y="148"/>
                  </a:lnTo>
                  <a:lnTo>
                    <a:pt x="9" y="136"/>
                  </a:lnTo>
                  <a:lnTo>
                    <a:pt x="12" y="123"/>
                  </a:lnTo>
                  <a:lnTo>
                    <a:pt x="17" y="112"/>
                  </a:lnTo>
                  <a:lnTo>
                    <a:pt x="20" y="104"/>
                  </a:lnTo>
                  <a:lnTo>
                    <a:pt x="23" y="97"/>
                  </a:lnTo>
                  <a:lnTo>
                    <a:pt x="27" y="90"/>
                  </a:lnTo>
                  <a:lnTo>
                    <a:pt x="30" y="82"/>
                  </a:lnTo>
                  <a:lnTo>
                    <a:pt x="34" y="75"/>
                  </a:lnTo>
                  <a:lnTo>
                    <a:pt x="39" y="67"/>
                  </a:lnTo>
                  <a:lnTo>
                    <a:pt x="43" y="61"/>
                  </a:lnTo>
                  <a:lnTo>
                    <a:pt x="48" y="55"/>
                  </a:lnTo>
                  <a:lnTo>
                    <a:pt x="53" y="48"/>
                  </a:lnTo>
                  <a:lnTo>
                    <a:pt x="59" y="42"/>
                  </a:lnTo>
                  <a:lnTo>
                    <a:pt x="64" y="37"/>
                  </a:lnTo>
                  <a:lnTo>
                    <a:pt x="69" y="32"/>
                  </a:lnTo>
                  <a:lnTo>
                    <a:pt x="75" y="27"/>
                  </a:lnTo>
                  <a:lnTo>
                    <a:pt x="81" y="23"/>
                  </a:lnTo>
                  <a:lnTo>
                    <a:pt x="87" y="20"/>
                  </a:lnTo>
                  <a:lnTo>
                    <a:pt x="93" y="16"/>
                  </a:lnTo>
                  <a:lnTo>
                    <a:pt x="101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7" y="3"/>
                  </a:lnTo>
                  <a:lnTo>
                    <a:pt x="137" y="2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3" y="3"/>
                  </a:lnTo>
                  <a:lnTo>
                    <a:pt x="220" y="7"/>
                  </a:lnTo>
                  <a:lnTo>
                    <a:pt x="236" y="13"/>
                  </a:lnTo>
                  <a:lnTo>
                    <a:pt x="251" y="22"/>
                  </a:lnTo>
                  <a:lnTo>
                    <a:pt x="264" y="32"/>
                  </a:lnTo>
                  <a:lnTo>
                    <a:pt x="277" y="43"/>
                  </a:lnTo>
                  <a:lnTo>
                    <a:pt x="289" y="57"/>
                  </a:lnTo>
                  <a:lnTo>
                    <a:pt x="299" y="72"/>
                  </a:lnTo>
                  <a:lnTo>
                    <a:pt x="309" y="90"/>
                  </a:lnTo>
                  <a:lnTo>
                    <a:pt x="317" y="107"/>
                  </a:lnTo>
                  <a:lnTo>
                    <a:pt x="323" y="127"/>
                  </a:lnTo>
                  <a:lnTo>
                    <a:pt x="328" y="148"/>
                  </a:lnTo>
                  <a:lnTo>
                    <a:pt x="332" y="169"/>
                  </a:lnTo>
                  <a:lnTo>
                    <a:pt x="334" y="194"/>
                  </a:lnTo>
                  <a:lnTo>
                    <a:pt x="335" y="219"/>
                  </a:lnTo>
                  <a:lnTo>
                    <a:pt x="334" y="244"/>
                  </a:lnTo>
                  <a:lnTo>
                    <a:pt x="332" y="268"/>
                  </a:lnTo>
                  <a:lnTo>
                    <a:pt x="328" y="289"/>
                  </a:lnTo>
                  <a:lnTo>
                    <a:pt x="323" y="310"/>
                  </a:lnTo>
                  <a:lnTo>
                    <a:pt x="317" y="330"/>
                  </a:lnTo>
                  <a:lnTo>
                    <a:pt x="309" y="348"/>
                  </a:lnTo>
                  <a:lnTo>
                    <a:pt x="299" y="364"/>
                  </a:lnTo>
                  <a:lnTo>
                    <a:pt x="289" y="379"/>
                  </a:lnTo>
                  <a:lnTo>
                    <a:pt x="277" y="393"/>
                  </a:lnTo>
                  <a:lnTo>
                    <a:pt x="265" y="405"/>
                  </a:lnTo>
                  <a:lnTo>
                    <a:pt x="251" y="415"/>
                  </a:lnTo>
                  <a:lnTo>
                    <a:pt x="237" y="423"/>
                  </a:lnTo>
                  <a:lnTo>
                    <a:pt x="220" y="429"/>
                  </a:lnTo>
                  <a:lnTo>
                    <a:pt x="204" y="434"/>
                  </a:lnTo>
                  <a:lnTo>
                    <a:pt x="187" y="436"/>
                  </a:lnTo>
                  <a:lnTo>
                    <a:pt x="168" y="438"/>
                  </a:lnTo>
                  <a:lnTo>
                    <a:pt x="149" y="436"/>
                  </a:lnTo>
                  <a:lnTo>
                    <a:pt x="131" y="434"/>
                  </a:lnTo>
                  <a:lnTo>
                    <a:pt x="115" y="429"/>
                  </a:lnTo>
                  <a:lnTo>
                    <a:pt x="99" y="423"/>
                  </a:lnTo>
                  <a:lnTo>
                    <a:pt x="84" y="415"/>
                  </a:lnTo>
                  <a:lnTo>
                    <a:pt x="70" y="405"/>
                  </a:lnTo>
                  <a:lnTo>
                    <a:pt x="58" y="394"/>
                  </a:lnTo>
                  <a:lnTo>
                    <a:pt x="46" y="380"/>
                  </a:lnTo>
                  <a:lnTo>
                    <a:pt x="35" y="365"/>
                  </a:lnTo>
                  <a:lnTo>
                    <a:pt x="26" y="348"/>
                  </a:lnTo>
                  <a:lnTo>
                    <a:pt x="19" y="330"/>
                  </a:lnTo>
                  <a:lnTo>
                    <a:pt x="11" y="312"/>
                  </a:lnTo>
                  <a:lnTo>
                    <a:pt x="6" y="290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close/>
                  <a:moveTo>
                    <a:pt x="72" y="218"/>
                  </a:moveTo>
                  <a:lnTo>
                    <a:pt x="72" y="236"/>
                  </a:lnTo>
                  <a:lnTo>
                    <a:pt x="73" y="252"/>
                  </a:lnTo>
                  <a:lnTo>
                    <a:pt x="76" y="267"/>
                  </a:lnTo>
                  <a:lnTo>
                    <a:pt x="78" y="282"/>
                  </a:lnTo>
                  <a:lnTo>
                    <a:pt x="82" y="294"/>
                  </a:lnTo>
                  <a:lnTo>
                    <a:pt x="88" y="307"/>
                  </a:lnTo>
                  <a:lnTo>
                    <a:pt x="93" y="318"/>
                  </a:lnTo>
                  <a:lnTo>
                    <a:pt x="99" y="328"/>
                  </a:lnTo>
                  <a:lnTo>
                    <a:pt x="106" y="337"/>
                  </a:lnTo>
                  <a:lnTo>
                    <a:pt x="114" y="344"/>
                  </a:lnTo>
                  <a:lnTo>
                    <a:pt x="121" y="350"/>
                  </a:lnTo>
                  <a:lnTo>
                    <a:pt x="130" y="355"/>
                  </a:lnTo>
                  <a:lnTo>
                    <a:pt x="138" y="359"/>
                  </a:lnTo>
                  <a:lnTo>
                    <a:pt x="148" y="362"/>
                  </a:lnTo>
                  <a:lnTo>
                    <a:pt x="157" y="364"/>
                  </a:lnTo>
                  <a:lnTo>
                    <a:pt x="168" y="364"/>
                  </a:lnTo>
                  <a:lnTo>
                    <a:pt x="178" y="364"/>
                  </a:lnTo>
                  <a:lnTo>
                    <a:pt x="188" y="362"/>
                  </a:lnTo>
                  <a:lnTo>
                    <a:pt x="197" y="359"/>
                  </a:lnTo>
                  <a:lnTo>
                    <a:pt x="205" y="355"/>
                  </a:lnTo>
                  <a:lnTo>
                    <a:pt x="214" y="350"/>
                  </a:lnTo>
                  <a:lnTo>
                    <a:pt x="221" y="344"/>
                  </a:lnTo>
                  <a:lnTo>
                    <a:pt x="229" y="337"/>
                  </a:lnTo>
                  <a:lnTo>
                    <a:pt x="236" y="328"/>
                  </a:lnTo>
                  <a:lnTo>
                    <a:pt x="243" y="318"/>
                  </a:lnTo>
                  <a:lnTo>
                    <a:pt x="248" y="307"/>
                  </a:lnTo>
                  <a:lnTo>
                    <a:pt x="252" y="294"/>
                  </a:lnTo>
                  <a:lnTo>
                    <a:pt x="256" y="282"/>
                  </a:lnTo>
                  <a:lnTo>
                    <a:pt x="259" y="267"/>
                  </a:lnTo>
                  <a:lnTo>
                    <a:pt x="261" y="252"/>
                  </a:lnTo>
                  <a:lnTo>
                    <a:pt x="262" y="234"/>
                  </a:lnTo>
                  <a:lnTo>
                    <a:pt x="263" y="217"/>
                  </a:lnTo>
                  <a:lnTo>
                    <a:pt x="262" y="199"/>
                  </a:lnTo>
                  <a:lnTo>
                    <a:pt x="261" y="183"/>
                  </a:lnTo>
                  <a:lnTo>
                    <a:pt x="259" y="168"/>
                  </a:lnTo>
                  <a:lnTo>
                    <a:pt x="256" y="153"/>
                  </a:lnTo>
                  <a:lnTo>
                    <a:pt x="253" y="141"/>
                  </a:lnTo>
                  <a:lnTo>
                    <a:pt x="248" y="128"/>
                  </a:lnTo>
                  <a:lnTo>
                    <a:pt x="243" y="118"/>
                  </a:lnTo>
                  <a:lnTo>
                    <a:pt x="237" y="108"/>
                  </a:lnTo>
                  <a:lnTo>
                    <a:pt x="230" y="100"/>
                  </a:lnTo>
                  <a:lnTo>
                    <a:pt x="222" y="92"/>
                  </a:lnTo>
                  <a:lnTo>
                    <a:pt x="215" y="86"/>
                  </a:lnTo>
                  <a:lnTo>
                    <a:pt x="206" y="81"/>
                  </a:lnTo>
                  <a:lnTo>
                    <a:pt x="198" y="77"/>
                  </a:lnTo>
                  <a:lnTo>
                    <a:pt x="188" y="75"/>
                  </a:lnTo>
                  <a:lnTo>
                    <a:pt x="178" y="73"/>
                  </a:lnTo>
                  <a:lnTo>
                    <a:pt x="168" y="72"/>
                  </a:lnTo>
                  <a:lnTo>
                    <a:pt x="157" y="73"/>
                  </a:lnTo>
                  <a:lnTo>
                    <a:pt x="147" y="75"/>
                  </a:lnTo>
                  <a:lnTo>
                    <a:pt x="138" y="77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3" y="93"/>
                  </a:lnTo>
                  <a:lnTo>
                    <a:pt x="105" y="101"/>
                  </a:lnTo>
                  <a:lnTo>
                    <a:pt x="99" y="108"/>
                  </a:lnTo>
                  <a:lnTo>
                    <a:pt x="93" y="118"/>
                  </a:lnTo>
                  <a:lnTo>
                    <a:pt x="87" y="129"/>
                  </a:lnTo>
                  <a:lnTo>
                    <a:pt x="82" y="141"/>
                  </a:lnTo>
                  <a:lnTo>
                    <a:pt x="78" y="154"/>
                  </a:lnTo>
                  <a:lnTo>
                    <a:pt x="75" y="168"/>
                  </a:lnTo>
                  <a:lnTo>
                    <a:pt x="73" y="184"/>
                  </a:lnTo>
                  <a:lnTo>
                    <a:pt x="72" y="201"/>
                  </a:lnTo>
                  <a:lnTo>
                    <a:pt x="72" y="2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9240" y="4102200"/>
              <a:ext cx="102960" cy="115920"/>
            </a:xfrm>
            <a:custGeom>
              <a:avLst/>
              <a:gdLst/>
              <a:ahLst/>
              <a:rect l="l" t="t" r="r" b="b"/>
              <a:pathLst>
                <a:path w="194" h="293">
                  <a:moveTo>
                    <a:pt x="169" y="293"/>
                  </a:moveTo>
                  <a:lnTo>
                    <a:pt x="0" y="110"/>
                  </a:lnTo>
                  <a:lnTo>
                    <a:pt x="27" y="93"/>
                  </a:lnTo>
                  <a:lnTo>
                    <a:pt x="146" y="229"/>
                  </a:lnTo>
                  <a:lnTo>
                    <a:pt x="149" y="234"/>
                  </a:lnTo>
                  <a:lnTo>
                    <a:pt x="153" y="237"/>
                  </a:lnTo>
                  <a:lnTo>
                    <a:pt x="156" y="241"/>
                  </a:lnTo>
                  <a:lnTo>
                    <a:pt x="159" y="245"/>
                  </a:lnTo>
                  <a:lnTo>
                    <a:pt x="162" y="248"/>
                  </a:lnTo>
                  <a:lnTo>
                    <a:pt x="166" y="252"/>
                  </a:lnTo>
                  <a:lnTo>
                    <a:pt x="168" y="256"/>
                  </a:lnTo>
                  <a:lnTo>
                    <a:pt x="171" y="260"/>
                  </a:lnTo>
                  <a:lnTo>
                    <a:pt x="170" y="255"/>
                  </a:lnTo>
                  <a:lnTo>
                    <a:pt x="170" y="250"/>
                  </a:lnTo>
                  <a:lnTo>
                    <a:pt x="169" y="243"/>
                  </a:lnTo>
                  <a:lnTo>
                    <a:pt x="168" y="239"/>
                  </a:lnTo>
                  <a:lnTo>
                    <a:pt x="167" y="232"/>
                  </a:lnTo>
                  <a:lnTo>
                    <a:pt x="167" y="227"/>
                  </a:lnTo>
                  <a:lnTo>
                    <a:pt x="166" y="222"/>
                  </a:lnTo>
                  <a:lnTo>
                    <a:pt x="166" y="216"/>
                  </a:lnTo>
                  <a:lnTo>
                    <a:pt x="146" y="16"/>
                  </a:lnTo>
                  <a:lnTo>
                    <a:pt x="171" y="0"/>
                  </a:lnTo>
                  <a:lnTo>
                    <a:pt x="194" y="277"/>
                  </a:lnTo>
                  <a:lnTo>
                    <a:pt x="169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87520" y="4091040"/>
              <a:ext cx="63720" cy="96840"/>
            </a:xfrm>
            <a:custGeom>
              <a:avLst/>
              <a:gdLst/>
              <a:ahLst/>
              <a:rect l="l" t="t" r="r" b="b"/>
              <a:pathLst>
                <a:path w="120" h="245">
                  <a:moveTo>
                    <a:pt x="14" y="48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37" y="33"/>
                  </a:lnTo>
                  <a:lnTo>
                    <a:pt x="14" y="48"/>
                  </a:lnTo>
                  <a:close/>
                  <a:moveTo>
                    <a:pt x="97" y="245"/>
                  </a:moveTo>
                  <a:lnTo>
                    <a:pt x="27" y="79"/>
                  </a:lnTo>
                  <a:lnTo>
                    <a:pt x="50" y="64"/>
                  </a:lnTo>
                  <a:lnTo>
                    <a:pt x="120" y="231"/>
                  </a:lnTo>
                  <a:lnTo>
                    <a:pt x="97" y="2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280" y="4086360"/>
              <a:ext cx="92160" cy="83880"/>
            </a:xfrm>
            <a:custGeom>
              <a:avLst/>
              <a:gdLst/>
              <a:ahLst/>
              <a:rect l="l" t="t" r="r" b="b"/>
              <a:pathLst>
                <a:path w="174" h="209">
                  <a:moveTo>
                    <a:pt x="137" y="143"/>
                  </a:moveTo>
                  <a:lnTo>
                    <a:pt x="135" y="148"/>
                  </a:lnTo>
                  <a:lnTo>
                    <a:pt x="133" y="153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26" y="167"/>
                  </a:lnTo>
                  <a:lnTo>
                    <a:pt x="124" y="171"/>
                  </a:lnTo>
                  <a:lnTo>
                    <a:pt x="122" y="174"/>
                  </a:lnTo>
                  <a:lnTo>
                    <a:pt x="119" y="177"/>
                  </a:lnTo>
                  <a:lnTo>
                    <a:pt x="117" y="181"/>
                  </a:lnTo>
                  <a:lnTo>
                    <a:pt x="115" y="183"/>
                  </a:lnTo>
                  <a:lnTo>
                    <a:pt x="112" y="187"/>
                  </a:lnTo>
                  <a:lnTo>
                    <a:pt x="109" y="189"/>
                  </a:lnTo>
                  <a:lnTo>
                    <a:pt x="106" y="192"/>
                  </a:lnTo>
                  <a:lnTo>
                    <a:pt x="103" y="194"/>
                  </a:lnTo>
                  <a:lnTo>
                    <a:pt x="100" y="197"/>
                  </a:lnTo>
                  <a:lnTo>
                    <a:pt x="97" y="199"/>
                  </a:lnTo>
                  <a:lnTo>
                    <a:pt x="91" y="202"/>
                  </a:lnTo>
                  <a:lnTo>
                    <a:pt x="86" y="204"/>
                  </a:lnTo>
                  <a:lnTo>
                    <a:pt x="81" y="207"/>
                  </a:lnTo>
                  <a:lnTo>
                    <a:pt x="76" y="208"/>
                  </a:lnTo>
                  <a:lnTo>
                    <a:pt x="71" y="209"/>
                  </a:lnTo>
                  <a:lnTo>
                    <a:pt x="66" y="209"/>
                  </a:lnTo>
                  <a:lnTo>
                    <a:pt x="62" y="208"/>
                  </a:lnTo>
                  <a:lnTo>
                    <a:pt x="56" y="208"/>
                  </a:lnTo>
                  <a:lnTo>
                    <a:pt x="52" y="206"/>
                  </a:lnTo>
                  <a:lnTo>
                    <a:pt x="48" y="203"/>
                  </a:lnTo>
                  <a:lnTo>
                    <a:pt x="45" y="201"/>
                  </a:lnTo>
                  <a:lnTo>
                    <a:pt x="41" y="198"/>
                  </a:lnTo>
                  <a:lnTo>
                    <a:pt x="38" y="194"/>
                  </a:lnTo>
                  <a:lnTo>
                    <a:pt x="35" y="191"/>
                  </a:lnTo>
                  <a:lnTo>
                    <a:pt x="33" y="186"/>
                  </a:lnTo>
                  <a:lnTo>
                    <a:pt x="30" y="181"/>
                  </a:lnTo>
                  <a:lnTo>
                    <a:pt x="29" y="178"/>
                  </a:lnTo>
                  <a:lnTo>
                    <a:pt x="28" y="174"/>
                  </a:lnTo>
                  <a:lnTo>
                    <a:pt x="27" y="172"/>
                  </a:lnTo>
                  <a:lnTo>
                    <a:pt x="27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9"/>
                  </a:lnTo>
                  <a:lnTo>
                    <a:pt x="26" y="156"/>
                  </a:lnTo>
                  <a:lnTo>
                    <a:pt x="26" y="152"/>
                  </a:lnTo>
                  <a:lnTo>
                    <a:pt x="26" y="149"/>
                  </a:lnTo>
                  <a:lnTo>
                    <a:pt x="26" y="146"/>
                  </a:lnTo>
                  <a:lnTo>
                    <a:pt x="27" y="143"/>
                  </a:lnTo>
                  <a:lnTo>
                    <a:pt x="28" y="141"/>
                  </a:lnTo>
                  <a:lnTo>
                    <a:pt x="28" y="137"/>
                  </a:lnTo>
                  <a:lnTo>
                    <a:pt x="29" y="134"/>
                  </a:lnTo>
                  <a:lnTo>
                    <a:pt x="30" y="132"/>
                  </a:lnTo>
                  <a:lnTo>
                    <a:pt x="32" y="130"/>
                  </a:lnTo>
                  <a:lnTo>
                    <a:pt x="33" y="127"/>
                  </a:lnTo>
                  <a:lnTo>
                    <a:pt x="34" y="125"/>
                  </a:lnTo>
                  <a:lnTo>
                    <a:pt x="36" y="122"/>
                  </a:lnTo>
                  <a:lnTo>
                    <a:pt x="38" y="120"/>
                  </a:lnTo>
                  <a:lnTo>
                    <a:pt x="39" y="117"/>
                  </a:lnTo>
                  <a:lnTo>
                    <a:pt x="41" y="115"/>
                  </a:lnTo>
                  <a:lnTo>
                    <a:pt x="43" y="112"/>
                  </a:lnTo>
                  <a:lnTo>
                    <a:pt x="44" y="111"/>
                  </a:lnTo>
                  <a:lnTo>
                    <a:pt x="46" y="108"/>
                  </a:lnTo>
                  <a:lnTo>
                    <a:pt x="48" y="107"/>
                  </a:lnTo>
                  <a:lnTo>
                    <a:pt x="50" y="105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9" y="97"/>
                  </a:lnTo>
                  <a:lnTo>
                    <a:pt x="62" y="95"/>
                  </a:lnTo>
                  <a:lnTo>
                    <a:pt x="68" y="90"/>
                  </a:lnTo>
                  <a:lnTo>
                    <a:pt x="74" y="85"/>
                  </a:lnTo>
                  <a:lnTo>
                    <a:pt x="79" y="80"/>
                  </a:lnTo>
                  <a:lnTo>
                    <a:pt x="84" y="75"/>
                  </a:lnTo>
                  <a:lnTo>
                    <a:pt x="88" y="71"/>
                  </a:lnTo>
                  <a:lnTo>
                    <a:pt x="92" y="66"/>
                  </a:lnTo>
                  <a:lnTo>
                    <a:pt x="96" y="62"/>
                  </a:lnTo>
                  <a:lnTo>
                    <a:pt x="99" y="58"/>
                  </a:lnTo>
                  <a:lnTo>
                    <a:pt x="98" y="57"/>
                  </a:lnTo>
                  <a:lnTo>
                    <a:pt x="98" y="56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4" y="47"/>
                  </a:lnTo>
                  <a:lnTo>
                    <a:pt x="92" y="43"/>
                  </a:lnTo>
                  <a:lnTo>
                    <a:pt x="90" y="41"/>
                  </a:lnTo>
                  <a:lnTo>
                    <a:pt x="88" y="38"/>
                  </a:lnTo>
                  <a:lnTo>
                    <a:pt x="86" y="36"/>
                  </a:lnTo>
                  <a:lnTo>
                    <a:pt x="84" y="33"/>
                  </a:lnTo>
                  <a:lnTo>
                    <a:pt x="81" y="32"/>
                  </a:lnTo>
                  <a:lnTo>
                    <a:pt x="79" y="31"/>
                  </a:lnTo>
                  <a:lnTo>
                    <a:pt x="76" y="31"/>
                  </a:lnTo>
                  <a:lnTo>
                    <a:pt x="72" y="30"/>
                  </a:lnTo>
                  <a:lnTo>
                    <a:pt x="69" y="31"/>
                  </a:lnTo>
                  <a:lnTo>
                    <a:pt x="65" y="31"/>
                  </a:lnTo>
                  <a:lnTo>
                    <a:pt x="62" y="32"/>
                  </a:lnTo>
                  <a:lnTo>
                    <a:pt x="58" y="33"/>
                  </a:lnTo>
                  <a:lnTo>
                    <a:pt x="53" y="36"/>
                  </a:lnTo>
                  <a:lnTo>
                    <a:pt x="48" y="38"/>
                  </a:lnTo>
                  <a:lnTo>
                    <a:pt x="45" y="41"/>
                  </a:lnTo>
                  <a:lnTo>
                    <a:pt x="41" y="43"/>
                  </a:lnTo>
                  <a:lnTo>
                    <a:pt x="38" y="46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5"/>
                  </a:lnTo>
                  <a:lnTo>
                    <a:pt x="29" y="58"/>
                  </a:lnTo>
                  <a:lnTo>
                    <a:pt x="28" y="61"/>
                  </a:lnTo>
                  <a:lnTo>
                    <a:pt x="27" y="63"/>
                  </a:lnTo>
                  <a:lnTo>
                    <a:pt x="26" y="67"/>
                  </a:lnTo>
                  <a:lnTo>
                    <a:pt x="25" y="71"/>
                  </a:lnTo>
                  <a:lnTo>
                    <a:pt x="25" y="75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6" y="88"/>
                  </a:lnTo>
                  <a:lnTo>
                    <a:pt x="27" y="92"/>
                  </a:lnTo>
                  <a:lnTo>
                    <a:pt x="3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8"/>
                  </a:lnTo>
                  <a:lnTo>
                    <a:pt x="2" y="65"/>
                  </a:lnTo>
                  <a:lnTo>
                    <a:pt x="3" y="61"/>
                  </a:lnTo>
                  <a:lnTo>
                    <a:pt x="4" y="57"/>
                  </a:lnTo>
                  <a:lnTo>
                    <a:pt x="5" y="53"/>
                  </a:lnTo>
                  <a:lnTo>
                    <a:pt x="7" y="50"/>
                  </a:lnTo>
                  <a:lnTo>
                    <a:pt x="9" y="46"/>
                  </a:lnTo>
                  <a:lnTo>
                    <a:pt x="12" y="42"/>
                  </a:lnTo>
                  <a:lnTo>
                    <a:pt x="14" y="38"/>
                  </a:lnTo>
                  <a:lnTo>
                    <a:pt x="17" y="35"/>
                  </a:lnTo>
                  <a:lnTo>
                    <a:pt x="20" y="31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2" y="13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9" y="5"/>
                  </a:lnTo>
                  <a:lnTo>
                    <a:pt x="63" y="2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3"/>
                  </a:lnTo>
                  <a:lnTo>
                    <a:pt x="98" y="5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3" y="10"/>
                  </a:lnTo>
                  <a:lnTo>
                    <a:pt x="105" y="12"/>
                  </a:lnTo>
                  <a:lnTo>
                    <a:pt x="107" y="15"/>
                  </a:lnTo>
                  <a:lnTo>
                    <a:pt x="109" y="17"/>
                  </a:lnTo>
                  <a:lnTo>
                    <a:pt x="110" y="18"/>
                  </a:lnTo>
                  <a:lnTo>
                    <a:pt x="111" y="21"/>
                  </a:lnTo>
                  <a:lnTo>
                    <a:pt x="112" y="23"/>
                  </a:lnTo>
                  <a:lnTo>
                    <a:pt x="114" y="27"/>
                  </a:lnTo>
                  <a:lnTo>
                    <a:pt x="115" y="30"/>
                  </a:lnTo>
                  <a:lnTo>
                    <a:pt x="117" y="33"/>
                  </a:lnTo>
                  <a:lnTo>
                    <a:pt x="119" y="38"/>
                  </a:lnTo>
                  <a:lnTo>
                    <a:pt x="121" y="42"/>
                  </a:lnTo>
                  <a:lnTo>
                    <a:pt x="137" y="80"/>
                  </a:lnTo>
                  <a:lnTo>
                    <a:pt x="141" y="90"/>
                  </a:lnTo>
                  <a:lnTo>
                    <a:pt x="145" y="98"/>
                  </a:lnTo>
                  <a:lnTo>
                    <a:pt x="148" y="106"/>
                  </a:lnTo>
                  <a:lnTo>
                    <a:pt x="151" y="112"/>
                  </a:lnTo>
                  <a:lnTo>
                    <a:pt x="154" y="117"/>
                  </a:lnTo>
                  <a:lnTo>
                    <a:pt x="156" y="122"/>
                  </a:lnTo>
                  <a:lnTo>
                    <a:pt x="158" y="126"/>
                  </a:lnTo>
                  <a:lnTo>
                    <a:pt x="160" y="130"/>
                  </a:lnTo>
                  <a:lnTo>
                    <a:pt x="161" y="131"/>
                  </a:lnTo>
                  <a:lnTo>
                    <a:pt x="163" y="133"/>
                  </a:lnTo>
                  <a:lnTo>
                    <a:pt x="164" y="136"/>
                  </a:lnTo>
                  <a:lnTo>
                    <a:pt x="166" y="138"/>
                  </a:lnTo>
                  <a:lnTo>
                    <a:pt x="168" y="139"/>
                  </a:lnTo>
                  <a:lnTo>
                    <a:pt x="170" y="142"/>
                  </a:lnTo>
                  <a:lnTo>
                    <a:pt x="172" y="143"/>
                  </a:lnTo>
                  <a:lnTo>
                    <a:pt x="174" y="146"/>
                  </a:lnTo>
                  <a:lnTo>
                    <a:pt x="150" y="161"/>
                  </a:lnTo>
                  <a:lnTo>
                    <a:pt x="148" y="158"/>
                  </a:lnTo>
                  <a:lnTo>
                    <a:pt x="146" y="157"/>
                  </a:lnTo>
                  <a:lnTo>
                    <a:pt x="145" y="154"/>
                  </a:lnTo>
                  <a:lnTo>
                    <a:pt x="143" y="153"/>
                  </a:lnTo>
                  <a:lnTo>
                    <a:pt x="141" y="151"/>
                  </a:lnTo>
                  <a:lnTo>
                    <a:pt x="140" y="148"/>
                  </a:lnTo>
                  <a:lnTo>
                    <a:pt x="138" y="146"/>
                  </a:lnTo>
                  <a:lnTo>
                    <a:pt x="137" y="143"/>
                  </a:lnTo>
                  <a:close/>
                  <a:moveTo>
                    <a:pt x="108" y="81"/>
                  </a:moveTo>
                  <a:lnTo>
                    <a:pt x="105" y="85"/>
                  </a:lnTo>
                  <a:lnTo>
                    <a:pt x="102" y="88"/>
                  </a:lnTo>
                  <a:lnTo>
                    <a:pt x="99" y="92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1" y="111"/>
                  </a:lnTo>
                  <a:lnTo>
                    <a:pt x="75" y="116"/>
                  </a:lnTo>
                  <a:lnTo>
                    <a:pt x="72" y="118"/>
                  </a:lnTo>
                  <a:lnTo>
                    <a:pt x="69" y="121"/>
                  </a:lnTo>
                  <a:lnTo>
                    <a:pt x="67" y="123"/>
                  </a:lnTo>
                  <a:lnTo>
                    <a:pt x="64" y="126"/>
                  </a:lnTo>
                  <a:lnTo>
                    <a:pt x="62" y="128"/>
                  </a:lnTo>
                  <a:lnTo>
                    <a:pt x="61" y="131"/>
                  </a:lnTo>
                  <a:lnTo>
                    <a:pt x="59" y="132"/>
                  </a:lnTo>
                  <a:lnTo>
                    <a:pt x="58" y="134"/>
                  </a:lnTo>
                  <a:lnTo>
                    <a:pt x="56" y="136"/>
                  </a:lnTo>
                  <a:lnTo>
                    <a:pt x="55" y="137"/>
                  </a:lnTo>
                  <a:lnTo>
                    <a:pt x="54" y="139"/>
                  </a:lnTo>
                  <a:lnTo>
                    <a:pt x="53" y="141"/>
                  </a:lnTo>
                  <a:lnTo>
                    <a:pt x="53" y="143"/>
                  </a:lnTo>
                  <a:lnTo>
                    <a:pt x="52" y="144"/>
                  </a:lnTo>
                  <a:lnTo>
                    <a:pt x="52" y="147"/>
                  </a:lnTo>
                  <a:lnTo>
                    <a:pt x="52" y="149"/>
                  </a:lnTo>
                  <a:lnTo>
                    <a:pt x="52" y="151"/>
                  </a:lnTo>
                  <a:lnTo>
                    <a:pt x="52" y="153"/>
                  </a:lnTo>
                  <a:lnTo>
                    <a:pt x="52" y="154"/>
                  </a:lnTo>
                  <a:lnTo>
                    <a:pt x="52" y="157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3" y="163"/>
                  </a:lnTo>
                  <a:lnTo>
                    <a:pt x="54" y="164"/>
                  </a:lnTo>
                  <a:lnTo>
                    <a:pt x="55" y="167"/>
                  </a:lnTo>
                  <a:lnTo>
                    <a:pt x="58" y="169"/>
                  </a:lnTo>
                  <a:lnTo>
                    <a:pt x="59" y="172"/>
                  </a:lnTo>
                  <a:lnTo>
                    <a:pt x="61" y="173"/>
                  </a:lnTo>
                  <a:lnTo>
                    <a:pt x="63" y="176"/>
                  </a:lnTo>
                  <a:lnTo>
                    <a:pt x="65" y="177"/>
                  </a:lnTo>
                  <a:lnTo>
                    <a:pt x="67" y="178"/>
                  </a:lnTo>
                  <a:lnTo>
                    <a:pt x="70" y="179"/>
                  </a:lnTo>
                  <a:lnTo>
                    <a:pt x="72" y="179"/>
                  </a:lnTo>
                  <a:lnTo>
                    <a:pt x="75" y="179"/>
                  </a:lnTo>
                  <a:lnTo>
                    <a:pt x="78" y="179"/>
                  </a:lnTo>
                  <a:lnTo>
                    <a:pt x="81" y="179"/>
                  </a:lnTo>
                  <a:lnTo>
                    <a:pt x="84" y="178"/>
                  </a:lnTo>
                  <a:lnTo>
                    <a:pt x="87" y="177"/>
                  </a:lnTo>
                  <a:lnTo>
                    <a:pt x="90" y="176"/>
                  </a:lnTo>
                  <a:lnTo>
                    <a:pt x="93" y="173"/>
                  </a:lnTo>
                  <a:lnTo>
                    <a:pt x="96" y="171"/>
                  </a:lnTo>
                  <a:lnTo>
                    <a:pt x="99" y="169"/>
                  </a:lnTo>
                  <a:lnTo>
                    <a:pt x="102" y="166"/>
                  </a:lnTo>
                  <a:lnTo>
                    <a:pt x="105" y="163"/>
                  </a:lnTo>
                  <a:lnTo>
                    <a:pt x="107" y="161"/>
                  </a:lnTo>
                  <a:lnTo>
                    <a:pt x="109" y="158"/>
                  </a:lnTo>
                  <a:lnTo>
                    <a:pt x="111" y="154"/>
                  </a:lnTo>
                  <a:lnTo>
                    <a:pt x="113" y="151"/>
                  </a:lnTo>
                  <a:lnTo>
                    <a:pt x="115" y="148"/>
                  </a:lnTo>
                  <a:lnTo>
                    <a:pt x="116" y="144"/>
                  </a:lnTo>
                  <a:lnTo>
                    <a:pt x="118" y="141"/>
                  </a:lnTo>
                  <a:lnTo>
                    <a:pt x="119" y="137"/>
                  </a:lnTo>
                  <a:lnTo>
                    <a:pt x="119" y="133"/>
                  </a:lnTo>
                  <a:lnTo>
                    <a:pt x="120" y="130"/>
                  </a:lnTo>
                  <a:lnTo>
                    <a:pt x="120" y="126"/>
                  </a:lnTo>
                  <a:lnTo>
                    <a:pt x="120" y="122"/>
                  </a:lnTo>
                  <a:lnTo>
                    <a:pt x="120" y="118"/>
                  </a:lnTo>
                  <a:lnTo>
                    <a:pt x="120" y="116"/>
                  </a:lnTo>
                  <a:lnTo>
                    <a:pt x="119" y="112"/>
                  </a:lnTo>
                  <a:lnTo>
                    <a:pt x="118" y="108"/>
                  </a:lnTo>
                  <a:lnTo>
                    <a:pt x="117" y="105"/>
                  </a:lnTo>
                  <a:lnTo>
                    <a:pt x="115" y="101"/>
                  </a:lnTo>
                  <a:lnTo>
                    <a:pt x="114" y="96"/>
                  </a:lnTo>
                  <a:lnTo>
                    <a:pt x="112" y="91"/>
                  </a:lnTo>
                  <a:lnTo>
                    <a:pt x="10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33680" y="4002120"/>
              <a:ext cx="115920" cy="115920"/>
            </a:xfrm>
            <a:custGeom>
              <a:avLst/>
              <a:gdLst/>
              <a:ahLst/>
              <a:rect l="l" t="t" r="r" b="b"/>
              <a:pathLst>
                <a:path w="219" h="292">
                  <a:moveTo>
                    <a:pt x="97" y="292"/>
                  </a:moveTo>
                  <a:lnTo>
                    <a:pt x="0" y="62"/>
                  </a:lnTo>
                  <a:lnTo>
                    <a:pt x="64" y="21"/>
                  </a:lnTo>
                  <a:lnTo>
                    <a:pt x="69" y="18"/>
                  </a:lnTo>
                  <a:lnTo>
                    <a:pt x="74" y="15"/>
                  </a:lnTo>
                  <a:lnTo>
                    <a:pt x="79" y="13"/>
                  </a:lnTo>
                  <a:lnTo>
                    <a:pt x="83" y="10"/>
                  </a:lnTo>
                  <a:lnTo>
                    <a:pt x="88" y="8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1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9" y="1"/>
                  </a:lnTo>
                  <a:lnTo>
                    <a:pt x="133" y="3"/>
                  </a:lnTo>
                  <a:lnTo>
                    <a:pt x="138" y="4"/>
                  </a:lnTo>
                  <a:lnTo>
                    <a:pt x="143" y="6"/>
                  </a:lnTo>
                  <a:lnTo>
                    <a:pt x="148" y="9"/>
                  </a:lnTo>
                  <a:lnTo>
                    <a:pt x="153" y="11"/>
                  </a:lnTo>
                  <a:lnTo>
                    <a:pt x="158" y="15"/>
                  </a:lnTo>
                  <a:lnTo>
                    <a:pt x="163" y="19"/>
                  </a:lnTo>
                  <a:lnTo>
                    <a:pt x="168" y="23"/>
                  </a:lnTo>
                  <a:lnTo>
                    <a:pt x="172" y="28"/>
                  </a:lnTo>
                  <a:lnTo>
                    <a:pt x="177" y="33"/>
                  </a:lnTo>
                  <a:lnTo>
                    <a:pt x="181" y="38"/>
                  </a:lnTo>
                  <a:lnTo>
                    <a:pt x="185" y="44"/>
                  </a:lnTo>
                  <a:lnTo>
                    <a:pt x="188" y="50"/>
                  </a:lnTo>
                  <a:lnTo>
                    <a:pt x="192" y="56"/>
                  </a:lnTo>
                  <a:lnTo>
                    <a:pt x="196" y="62"/>
                  </a:lnTo>
                  <a:lnTo>
                    <a:pt x="199" y="70"/>
                  </a:lnTo>
                  <a:lnTo>
                    <a:pt x="202" y="77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9" y="96"/>
                  </a:lnTo>
                  <a:lnTo>
                    <a:pt x="211" y="102"/>
                  </a:lnTo>
                  <a:lnTo>
                    <a:pt x="213" y="109"/>
                  </a:lnTo>
                  <a:lnTo>
                    <a:pt x="214" y="115"/>
                  </a:lnTo>
                  <a:lnTo>
                    <a:pt x="216" y="121"/>
                  </a:lnTo>
                  <a:lnTo>
                    <a:pt x="217" y="127"/>
                  </a:lnTo>
                  <a:lnTo>
                    <a:pt x="217" y="132"/>
                  </a:lnTo>
                  <a:lnTo>
                    <a:pt x="218" y="139"/>
                  </a:lnTo>
                  <a:lnTo>
                    <a:pt x="219" y="144"/>
                  </a:lnTo>
                  <a:lnTo>
                    <a:pt x="219" y="150"/>
                  </a:lnTo>
                  <a:lnTo>
                    <a:pt x="219" y="155"/>
                  </a:lnTo>
                  <a:lnTo>
                    <a:pt x="219" y="160"/>
                  </a:lnTo>
                  <a:lnTo>
                    <a:pt x="219" y="164"/>
                  </a:lnTo>
                  <a:lnTo>
                    <a:pt x="218" y="169"/>
                  </a:lnTo>
                  <a:lnTo>
                    <a:pt x="217" y="174"/>
                  </a:lnTo>
                  <a:lnTo>
                    <a:pt x="217" y="177"/>
                  </a:lnTo>
                  <a:lnTo>
                    <a:pt x="216" y="182"/>
                  </a:lnTo>
                  <a:lnTo>
                    <a:pt x="215" y="186"/>
                  </a:lnTo>
                  <a:lnTo>
                    <a:pt x="214" y="190"/>
                  </a:lnTo>
                  <a:lnTo>
                    <a:pt x="213" y="194"/>
                  </a:lnTo>
                  <a:lnTo>
                    <a:pt x="211" y="197"/>
                  </a:lnTo>
                  <a:lnTo>
                    <a:pt x="210" y="201"/>
                  </a:lnTo>
                  <a:lnTo>
                    <a:pt x="208" y="203"/>
                  </a:lnTo>
                  <a:lnTo>
                    <a:pt x="207" y="207"/>
                  </a:lnTo>
                  <a:lnTo>
                    <a:pt x="205" y="211"/>
                  </a:lnTo>
                  <a:lnTo>
                    <a:pt x="203" y="213"/>
                  </a:lnTo>
                  <a:lnTo>
                    <a:pt x="200" y="217"/>
                  </a:lnTo>
                  <a:lnTo>
                    <a:pt x="198" y="220"/>
                  </a:lnTo>
                  <a:lnTo>
                    <a:pt x="196" y="223"/>
                  </a:lnTo>
                  <a:lnTo>
                    <a:pt x="193" y="226"/>
                  </a:lnTo>
                  <a:lnTo>
                    <a:pt x="190" y="230"/>
                  </a:lnTo>
                  <a:lnTo>
                    <a:pt x="187" y="232"/>
                  </a:lnTo>
                  <a:lnTo>
                    <a:pt x="184" y="235"/>
                  </a:lnTo>
                  <a:lnTo>
                    <a:pt x="180" y="238"/>
                  </a:lnTo>
                  <a:lnTo>
                    <a:pt x="177" y="241"/>
                  </a:lnTo>
                  <a:lnTo>
                    <a:pt x="173" y="243"/>
                  </a:lnTo>
                  <a:lnTo>
                    <a:pt x="169" y="247"/>
                  </a:lnTo>
                  <a:lnTo>
                    <a:pt x="164" y="250"/>
                  </a:lnTo>
                  <a:lnTo>
                    <a:pt x="97" y="292"/>
                  </a:lnTo>
                  <a:close/>
                  <a:moveTo>
                    <a:pt x="110" y="250"/>
                  </a:moveTo>
                  <a:lnTo>
                    <a:pt x="150" y="223"/>
                  </a:lnTo>
                  <a:lnTo>
                    <a:pt x="154" y="221"/>
                  </a:lnTo>
                  <a:lnTo>
                    <a:pt x="158" y="218"/>
                  </a:lnTo>
                  <a:lnTo>
                    <a:pt x="162" y="215"/>
                  </a:lnTo>
                  <a:lnTo>
                    <a:pt x="166" y="212"/>
                  </a:lnTo>
                  <a:lnTo>
                    <a:pt x="170" y="210"/>
                  </a:lnTo>
                  <a:lnTo>
                    <a:pt x="173" y="207"/>
                  </a:lnTo>
                  <a:lnTo>
                    <a:pt x="175" y="203"/>
                  </a:lnTo>
                  <a:lnTo>
                    <a:pt x="178" y="201"/>
                  </a:lnTo>
                  <a:lnTo>
                    <a:pt x="180" y="199"/>
                  </a:lnTo>
                  <a:lnTo>
                    <a:pt x="182" y="196"/>
                  </a:lnTo>
                  <a:lnTo>
                    <a:pt x="183" y="194"/>
                  </a:lnTo>
                  <a:lnTo>
                    <a:pt x="185" y="190"/>
                  </a:lnTo>
                  <a:lnTo>
                    <a:pt x="186" y="187"/>
                  </a:lnTo>
                  <a:lnTo>
                    <a:pt x="187" y="185"/>
                  </a:lnTo>
                  <a:lnTo>
                    <a:pt x="188" y="181"/>
                  </a:lnTo>
                  <a:lnTo>
                    <a:pt x="189" y="179"/>
                  </a:lnTo>
                  <a:lnTo>
                    <a:pt x="190" y="175"/>
                  </a:lnTo>
                  <a:lnTo>
                    <a:pt x="191" y="170"/>
                  </a:lnTo>
                  <a:lnTo>
                    <a:pt x="191" y="166"/>
                  </a:lnTo>
                  <a:lnTo>
                    <a:pt x="192" y="161"/>
                  </a:lnTo>
                  <a:lnTo>
                    <a:pt x="192" y="156"/>
                  </a:lnTo>
                  <a:lnTo>
                    <a:pt x="192" y="151"/>
                  </a:lnTo>
                  <a:lnTo>
                    <a:pt x="191" y="146"/>
                  </a:lnTo>
                  <a:lnTo>
                    <a:pt x="191" y="141"/>
                  </a:lnTo>
                  <a:lnTo>
                    <a:pt x="190" y="135"/>
                  </a:lnTo>
                  <a:lnTo>
                    <a:pt x="189" y="130"/>
                  </a:lnTo>
                  <a:lnTo>
                    <a:pt x="187" y="124"/>
                  </a:lnTo>
                  <a:lnTo>
                    <a:pt x="186" y="119"/>
                  </a:lnTo>
                  <a:lnTo>
                    <a:pt x="184" y="112"/>
                  </a:lnTo>
                  <a:lnTo>
                    <a:pt x="182" y="106"/>
                  </a:lnTo>
                  <a:lnTo>
                    <a:pt x="180" y="100"/>
                  </a:lnTo>
                  <a:lnTo>
                    <a:pt x="177" y="94"/>
                  </a:lnTo>
                  <a:lnTo>
                    <a:pt x="173" y="85"/>
                  </a:lnTo>
                  <a:lnTo>
                    <a:pt x="169" y="76"/>
                  </a:lnTo>
                  <a:lnTo>
                    <a:pt x="164" y="70"/>
                  </a:lnTo>
                  <a:lnTo>
                    <a:pt x="160" y="62"/>
                  </a:lnTo>
                  <a:lnTo>
                    <a:pt x="156" y="57"/>
                  </a:lnTo>
                  <a:lnTo>
                    <a:pt x="152" y="53"/>
                  </a:lnTo>
                  <a:lnTo>
                    <a:pt x="148" y="48"/>
                  </a:lnTo>
                  <a:lnTo>
                    <a:pt x="143" y="44"/>
                  </a:lnTo>
                  <a:lnTo>
                    <a:pt x="139" y="41"/>
                  </a:lnTo>
                  <a:lnTo>
                    <a:pt x="135" y="39"/>
                  </a:lnTo>
                  <a:lnTo>
                    <a:pt x="130" y="36"/>
                  </a:lnTo>
                  <a:lnTo>
                    <a:pt x="126" y="35"/>
                  </a:lnTo>
                  <a:lnTo>
                    <a:pt x="122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106" y="34"/>
                  </a:lnTo>
                  <a:lnTo>
                    <a:pt x="103" y="35"/>
                  </a:lnTo>
                  <a:lnTo>
                    <a:pt x="99" y="36"/>
                  </a:lnTo>
                  <a:lnTo>
                    <a:pt x="95" y="38"/>
                  </a:lnTo>
                  <a:lnTo>
                    <a:pt x="90" y="40"/>
                  </a:lnTo>
                  <a:lnTo>
                    <a:pt x="85" y="43"/>
                  </a:lnTo>
                  <a:lnTo>
                    <a:pt x="80" y="45"/>
                  </a:lnTo>
                  <a:lnTo>
                    <a:pt x="75" y="49"/>
                  </a:lnTo>
                  <a:lnTo>
                    <a:pt x="36" y="74"/>
                  </a:lnTo>
                  <a:lnTo>
                    <a:pt x="110" y="2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3760" y="3943440"/>
              <a:ext cx="125280" cy="12528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96" y="317"/>
                  </a:moveTo>
                  <a:lnTo>
                    <a:pt x="0" y="86"/>
                  </a:lnTo>
                  <a:lnTo>
                    <a:pt x="135" y="0"/>
                  </a:lnTo>
                  <a:lnTo>
                    <a:pt x="146" y="28"/>
                  </a:lnTo>
                  <a:lnTo>
                    <a:pt x="35" y="97"/>
                  </a:lnTo>
                  <a:lnTo>
                    <a:pt x="65" y="169"/>
                  </a:lnTo>
                  <a:lnTo>
                    <a:pt x="168" y="102"/>
                  </a:lnTo>
                  <a:lnTo>
                    <a:pt x="180" y="130"/>
                  </a:lnTo>
                  <a:lnTo>
                    <a:pt x="77" y="195"/>
                  </a:lnTo>
                  <a:lnTo>
                    <a:pt x="109" y="273"/>
                  </a:lnTo>
                  <a:lnTo>
                    <a:pt x="224" y="200"/>
                  </a:lnTo>
                  <a:lnTo>
                    <a:pt x="236" y="227"/>
                  </a:lnTo>
                  <a:lnTo>
                    <a:pt x="96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24120" y="3927600"/>
              <a:ext cx="114480" cy="96840"/>
            </a:xfrm>
            <a:custGeom>
              <a:avLst/>
              <a:gdLst/>
              <a:ahLst/>
              <a:rect l="l" t="t" r="r" b="b"/>
              <a:pathLst>
                <a:path w="214" h="246">
                  <a:moveTo>
                    <a:pt x="98" y="246"/>
                  </a:moveTo>
                  <a:lnTo>
                    <a:pt x="0" y="16"/>
                  </a:lnTo>
                  <a:lnTo>
                    <a:pt x="26" y="0"/>
                  </a:lnTo>
                  <a:lnTo>
                    <a:pt x="111" y="203"/>
                  </a:lnTo>
                  <a:lnTo>
                    <a:pt x="203" y="145"/>
                  </a:lnTo>
                  <a:lnTo>
                    <a:pt x="214" y="171"/>
                  </a:lnTo>
                  <a:lnTo>
                    <a:pt x="98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40040" y="3871800"/>
              <a:ext cx="112680" cy="96840"/>
            </a:xfrm>
            <a:custGeom>
              <a:avLst/>
              <a:gdLst/>
              <a:ahLst/>
              <a:rect l="l" t="t" r="r" b="b"/>
              <a:pathLst>
                <a:path w="214" h="246">
                  <a:moveTo>
                    <a:pt x="98" y="246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111" y="202"/>
                  </a:lnTo>
                  <a:lnTo>
                    <a:pt x="203" y="144"/>
                  </a:lnTo>
                  <a:lnTo>
                    <a:pt x="214" y="171"/>
                  </a:lnTo>
                  <a:lnTo>
                    <a:pt x="98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4800" y="3821040"/>
              <a:ext cx="104760" cy="115920"/>
            </a:xfrm>
            <a:custGeom>
              <a:avLst/>
              <a:gdLst/>
              <a:ahLst/>
              <a:rect l="l" t="t" r="r" b="b"/>
              <a:pathLst>
                <a:path w="200" h="293">
                  <a:moveTo>
                    <a:pt x="25" y="293"/>
                  </a:moveTo>
                  <a:lnTo>
                    <a:pt x="0" y="17"/>
                  </a:lnTo>
                  <a:lnTo>
                    <a:pt x="26" y="0"/>
                  </a:lnTo>
                  <a:lnTo>
                    <a:pt x="200" y="181"/>
                  </a:lnTo>
                  <a:lnTo>
                    <a:pt x="171" y="198"/>
                  </a:lnTo>
                  <a:lnTo>
                    <a:pt x="121" y="143"/>
                  </a:lnTo>
                  <a:lnTo>
                    <a:pt x="42" y="193"/>
                  </a:lnTo>
                  <a:lnTo>
                    <a:pt x="51" y="275"/>
                  </a:lnTo>
                  <a:lnTo>
                    <a:pt x="25" y="293"/>
                  </a:lnTo>
                  <a:close/>
                  <a:moveTo>
                    <a:pt x="38" y="163"/>
                  </a:moveTo>
                  <a:lnTo>
                    <a:pt x="102" y="123"/>
                  </a:lnTo>
                  <a:lnTo>
                    <a:pt x="56" y="72"/>
                  </a:lnTo>
                  <a:lnTo>
                    <a:pt x="51" y="66"/>
                  </a:lnTo>
                  <a:lnTo>
                    <a:pt x="46" y="61"/>
                  </a:lnTo>
                  <a:lnTo>
                    <a:pt x="41" y="56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1"/>
                  </a:lnTo>
                  <a:lnTo>
                    <a:pt x="25" y="37"/>
                  </a:lnTo>
                  <a:lnTo>
                    <a:pt x="22" y="32"/>
                  </a:lnTo>
                  <a:lnTo>
                    <a:pt x="24" y="38"/>
                  </a:lnTo>
                  <a:lnTo>
                    <a:pt x="25" y="45"/>
                  </a:lnTo>
                  <a:lnTo>
                    <a:pt x="26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9" y="70"/>
                  </a:lnTo>
                  <a:lnTo>
                    <a:pt x="30" y="77"/>
                  </a:lnTo>
                  <a:lnTo>
                    <a:pt x="31" y="83"/>
                  </a:lnTo>
                  <a:lnTo>
                    <a:pt x="38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89440" y="3762360"/>
              <a:ext cx="102960" cy="115920"/>
            </a:xfrm>
            <a:custGeom>
              <a:avLst/>
              <a:gdLst/>
              <a:ahLst/>
              <a:rect l="l" t="t" r="r" b="b"/>
              <a:pathLst>
                <a:path w="195" h="294">
                  <a:moveTo>
                    <a:pt x="169" y="294"/>
                  </a:moveTo>
                  <a:lnTo>
                    <a:pt x="0" y="109"/>
                  </a:lnTo>
                  <a:lnTo>
                    <a:pt x="26" y="93"/>
                  </a:lnTo>
                  <a:lnTo>
                    <a:pt x="145" y="229"/>
                  </a:lnTo>
                  <a:lnTo>
                    <a:pt x="149" y="232"/>
                  </a:lnTo>
                  <a:lnTo>
                    <a:pt x="152" y="236"/>
                  </a:lnTo>
                  <a:lnTo>
                    <a:pt x="156" y="240"/>
                  </a:lnTo>
                  <a:lnTo>
                    <a:pt x="159" y="245"/>
                  </a:lnTo>
                  <a:lnTo>
                    <a:pt x="162" y="249"/>
                  </a:lnTo>
                  <a:lnTo>
                    <a:pt x="165" y="252"/>
                  </a:lnTo>
                  <a:lnTo>
                    <a:pt x="168" y="256"/>
                  </a:lnTo>
                  <a:lnTo>
                    <a:pt x="171" y="260"/>
                  </a:lnTo>
                  <a:lnTo>
                    <a:pt x="170" y="255"/>
                  </a:lnTo>
                  <a:lnTo>
                    <a:pt x="169" y="249"/>
                  </a:lnTo>
                  <a:lnTo>
                    <a:pt x="168" y="244"/>
                  </a:lnTo>
                  <a:lnTo>
                    <a:pt x="168" y="237"/>
                  </a:lnTo>
                  <a:lnTo>
                    <a:pt x="167" y="232"/>
                  </a:lnTo>
                  <a:lnTo>
                    <a:pt x="166" y="227"/>
                  </a:lnTo>
                  <a:lnTo>
                    <a:pt x="166" y="221"/>
                  </a:lnTo>
                  <a:lnTo>
                    <a:pt x="165" y="216"/>
                  </a:lnTo>
                  <a:lnTo>
                    <a:pt x="145" y="17"/>
                  </a:lnTo>
                  <a:lnTo>
                    <a:pt x="170" y="0"/>
                  </a:lnTo>
                  <a:lnTo>
                    <a:pt x="195" y="277"/>
                  </a:lnTo>
                  <a:lnTo>
                    <a:pt x="169" y="2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03560" y="3727440"/>
              <a:ext cx="111240" cy="106200"/>
            </a:xfrm>
            <a:custGeom>
              <a:avLst/>
              <a:gdLst/>
              <a:ahLst/>
              <a:rect l="l" t="t" r="r" b="b"/>
              <a:pathLst>
                <a:path w="209" h="267">
                  <a:moveTo>
                    <a:pt x="16" y="194"/>
                  </a:moveTo>
                  <a:lnTo>
                    <a:pt x="11" y="180"/>
                  </a:lnTo>
                  <a:lnTo>
                    <a:pt x="6" y="166"/>
                  </a:lnTo>
                  <a:lnTo>
                    <a:pt x="3" y="153"/>
                  </a:lnTo>
                  <a:lnTo>
                    <a:pt x="1" y="139"/>
                  </a:lnTo>
                  <a:lnTo>
                    <a:pt x="0" y="126"/>
                  </a:lnTo>
                  <a:lnTo>
                    <a:pt x="0" y="113"/>
                  </a:lnTo>
                  <a:lnTo>
                    <a:pt x="1" y="100"/>
                  </a:lnTo>
                  <a:lnTo>
                    <a:pt x="4" y="88"/>
                  </a:lnTo>
                  <a:lnTo>
                    <a:pt x="7" y="76"/>
                  </a:lnTo>
                  <a:lnTo>
                    <a:pt x="11" y="65"/>
                  </a:lnTo>
                  <a:lnTo>
                    <a:pt x="16" y="55"/>
                  </a:lnTo>
                  <a:lnTo>
                    <a:pt x="22" y="45"/>
                  </a:lnTo>
                  <a:lnTo>
                    <a:pt x="28" y="36"/>
                  </a:lnTo>
                  <a:lnTo>
                    <a:pt x="37" y="29"/>
                  </a:lnTo>
                  <a:lnTo>
                    <a:pt x="45" y="21"/>
                  </a:lnTo>
                  <a:lnTo>
                    <a:pt x="55" y="14"/>
                  </a:lnTo>
                  <a:lnTo>
                    <a:pt x="61" y="10"/>
                  </a:lnTo>
                  <a:lnTo>
                    <a:pt x="67" y="8"/>
                  </a:lnTo>
                  <a:lnTo>
                    <a:pt x="74" y="5"/>
                  </a:lnTo>
                  <a:lnTo>
                    <a:pt x="80" y="3"/>
                  </a:lnTo>
                  <a:lnTo>
                    <a:pt x="87" y="2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4" y="7"/>
                  </a:lnTo>
                  <a:lnTo>
                    <a:pt x="140" y="9"/>
                  </a:lnTo>
                  <a:lnTo>
                    <a:pt x="146" y="13"/>
                  </a:lnTo>
                  <a:lnTo>
                    <a:pt x="151" y="18"/>
                  </a:lnTo>
                  <a:lnTo>
                    <a:pt x="157" y="23"/>
                  </a:lnTo>
                  <a:lnTo>
                    <a:pt x="162" y="28"/>
                  </a:lnTo>
                  <a:lnTo>
                    <a:pt x="167" y="33"/>
                  </a:lnTo>
                  <a:lnTo>
                    <a:pt x="172" y="39"/>
                  </a:lnTo>
                  <a:lnTo>
                    <a:pt x="178" y="46"/>
                  </a:lnTo>
                  <a:lnTo>
                    <a:pt x="182" y="53"/>
                  </a:lnTo>
                  <a:lnTo>
                    <a:pt x="187" y="60"/>
                  </a:lnTo>
                  <a:lnTo>
                    <a:pt x="191" y="69"/>
                  </a:lnTo>
                  <a:lnTo>
                    <a:pt x="194" y="76"/>
                  </a:lnTo>
                  <a:lnTo>
                    <a:pt x="198" y="85"/>
                  </a:lnTo>
                  <a:lnTo>
                    <a:pt x="201" y="94"/>
                  </a:lnTo>
                  <a:lnTo>
                    <a:pt x="203" y="103"/>
                  </a:lnTo>
                  <a:lnTo>
                    <a:pt x="205" y="111"/>
                  </a:lnTo>
                  <a:lnTo>
                    <a:pt x="207" y="120"/>
                  </a:lnTo>
                  <a:lnTo>
                    <a:pt x="208" y="129"/>
                  </a:lnTo>
                  <a:lnTo>
                    <a:pt x="209" y="138"/>
                  </a:lnTo>
                  <a:lnTo>
                    <a:pt x="209" y="146"/>
                  </a:lnTo>
                  <a:lnTo>
                    <a:pt x="209" y="155"/>
                  </a:lnTo>
                  <a:lnTo>
                    <a:pt x="208" y="164"/>
                  </a:lnTo>
                  <a:lnTo>
                    <a:pt x="207" y="172"/>
                  </a:lnTo>
                  <a:lnTo>
                    <a:pt x="205" y="180"/>
                  </a:lnTo>
                  <a:lnTo>
                    <a:pt x="203" y="187"/>
                  </a:lnTo>
                  <a:lnTo>
                    <a:pt x="201" y="195"/>
                  </a:lnTo>
                  <a:lnTo>
                    <a:pt x="198" y="202"/>
                  </a:lnTo>
                  <a:lnTo>
                    <a:pt x="194" y="210"/>
                  </a:lnTo>
                  <a:lnTo>
                    <a:pt x="191" y="216"/>
                  </a:lnTo>
                  <a:lnTo>
                    <a:pt x="186" y="222"/>
                  </a:lnTo>
                  <a:lnTo>
                    <a:pt x="182" y="229"/>
                  </a:lnTo>
                  <a:lnTo>
                    <a:pt x="177" y="234"/>
                  </a:lnTo>
                  <a:lnTo>
                    <a:pt x="171" y="240"/>
                  </a:lnTo>
                  <a:lnTo>
                    <a:pt x="166" y="244"/>
                  </a:lnTo>
                  <a:lnTo>
                    <a:pt x="160" y="249"/>
                  </a:lnTo>
                  <a:lnTo>
                    <a:pt x="155" y="252"/>
                  </a:lnTo>
                  <a:lnTo>
                    <a:pt x="148" y="256"/>
                  </a:lnTo>
                  <a:lnTo>
                    <a:pt x="141" y="260"/>
                  </a:lnTo>
                  <a:lnTo>
                    <a:pt x="135" y="262"/>
                  </a:lnTo>
                  <a:lnTo>
                    <a:pt x="128" y="265"/>
                  </a:lnTo>
                  <a:lnTo>
                    <a:pt x="122" y="266"/>
                  </a:lnTo>
                  <a:lnTo>
                    <a:pt x="115" y="267"/>
                  </a:lnTo>
                  <a:lnTo>
                    <a:pt x="108" y="267"/>
                  </a:lnTo>
                  <a:lnTo>
                    <a:pt x="100" y="267"/>
                  </a:lnTo>
                  <a:lnTo>
                    <a:pt x="94" y="266"/>
                  </a:lnTo>
                  <a:lnTo>
                    <a:pt x="87" y="265"/>
                  </a:lnTo>
                  <a:lnTo>
                    <a:pt x="81" y="262"/>
                  </a:lnTo>
                  <a:lnTo>
                    <a:pt x="75" y="260"/>
                  </a:lnTo>
                  <a:lnTo>
                    <a:pt x="69" y="257"/>
                  </a:lnTo>
                  <a:lnTo>
                    <a:pt x="63" y="254"/>
                  </a:lnTo>
                  <a:lnTo>
                    <a:pt x="57" y="249"/>
                  </a:lnTo>
                  <a:lnTo>
                    <a:pt x="52" y="245"/>
                  </a:lnTo>
                  <a:lnTo>
                    <a:pt x="46" y="239"/>
                  </a:lnTo>
                  <a:lnTo>
                    <a:pt x="41" y="234"/>
                  </a:lnTo>
                  <a:lnTo>
                    <a:pt x="37" y="227"/>
                  </a:lnTo>
                  <a:lnTo>
                    <a:pt x="32" y="221"/>
                  </a:lnTo>
                  <a:lnTo>
                    <a:pt x="27" y="215"/>
                  </a:lnTo>
                  <a:lnTo>
                    <a:pt x="23" y="209"/>
                  </a:lnTo>
                  <a:lnTo>
                    <a:pt x="19" y="201"/>
                  </a:lnTo>
                  <a:lnTo>
                    <a:pt x="16" y="194"/>
                  </a:lnTo>
                  <a:close/>
                  <a:moveTo>
                    <a:pt x="43" y="177"/>
                  </a:moveTo>
                  <a:lnTo>
                    <a:pt x="47" y="187"/>
                  </a:lnTo>
                  <a:lnTo>
                    <a:pt x="52" y="197"/>
                  </a:lnTo>
                  <a:lnTo>
                    <a:pt x="57" y="205"/>
                  </a:lnTo>
                  <a:lnTo>
                    <a:pt x="62" y="212"/>
                  </a:lnTo>
                  <a:lnTo>
                    <a:pt x="68" y="219"/>
                  </a:lnTo>
                  <a:lnTo>
                    <a:pt x="74" y="224"/>
                  </a:lnTo>
                  <a:lnTo>
                    <a:pt x="81" y="229"/>
                  </a:lnTo>
                  <a:lnTo>
                    <a:pt x="88" y="232"/>
                  </a:lnTo>
                  <a:lnTo>
                    <a:pt x="95" y="235"/>
                  </a:lnTo>
                  <a:lnTo>
                    <a:pt x="102" y="236"/>
                  </a:lnTo>
                  <a:lnTo>
                    <a:pt x="109" y="237"/>
                  </a:lnTo>
                  <a:lnTo>
                    <a:pt x="116" y="236"/>
                  </a:lnTo>
                  <a:lnTo>
                    <a:pt x="123" y="236"/>
                  </a:lnTo>
                  <a:lnTo>
                    <a:pt x="130" y="234"/>
                  </a:lnTo>
                  <a:lnTo>
                    <a:pt x="137" y="231"/>
                  </a:lnTo>
                  <a:lnTo>
                    <a:pt x="144" y="226"/>
                  </a:lnTo>
                  <a:lnTo>
                    <a:pt x="150" y="222"/>
                  </a:lnTo>
                  <a:lnTo>
                    <a:pt x="156" y="216"/>
                  </a:lnTo>
                  <a:lnTo>
                    <a:pt x="161" y="211"/>
                  </a:lnTo>
                  <a:lnTo>
                    <a:pt x="166" y="205"/>
                  </a:lnTo>
                  <a:lnTo>
                    <a:pt x="170" y="197"/>
                  </a:lnTo>
                  <a:lnTo>
                    <a:pt x="174" y="190"/>
                  </a:lnTo>
                  <a:lnTo>
                    <a:pt x="178" y="181"/>
                  </a:lnTo>
                  <a:lnTo>
                    <a:pt x="180" y="174"/>
                  </a:lnTo>
                  <a:lnTo>
                    <a:pt x="181" y="164"/>
                  </a:lnTo>
                  <a:lnTo>
                    <a:pt x="182" y="155"/>
                  </a:lnTo>
                  <a:lnTo>
                    <a:pt x="182" y="145"/>
                  </a:lnTo>
                  <a:lnTo>
                    <a:pt x="181" y="135"/>
                  </a:lnTo>
                  <a:lnTo>
                    <a:pt x="179" y="125"/>
                  </a:lnTo>
                  <a:lnTo>
                    <a:pt x="177" y="115"/>
                  </a:lnTo>
                  <a:lnTo>
                    <a:pt x="172" y="104"/>
                  </a:lnTo>
                  <a:lnTo>
                    <a:pt x="168" y="93"/>
                  </a:lnTo>
                  <a:lnTo>
                    <a:pt x="165" y="86"/>
                  </a:lnTo>
                  <a:lnTo>
                    <a:pt x="162" y="80"/>
                  </a:lnTo>
                  <a:lnTo>
                    <a:pt x="159" y="74"/>
                  </a:lnTo>
                  <a:lnTo>
                    <a:pt x="155" y="68"/>
                  </a:lnTo>
                  <a:lnTo>
                    <a:pt x="152" y="63"/>
                  </a:lnTo>
                  <a:lnTo>
                    <a:pt x="148" y="58"/>
                  </a:lnTo>
                  <a:lnTo>
                    <a:pt x="144" y="53"/>
                  </a:lnTo>
                  <a:lnTo>
                    <a:pt x="140" y="49"/>
                  </a:lnTo>
                  <a:lnTo>
                    <a:pt x="136" y="45"/>
                  </a:lnTo>
                  <a:lnTo>
                    <a:pt x="132" y="41"/>
                  </a:lnTo>
                  <a:lnTo>
                    <a:pt x="127" y="39"/>
                  </a:lnTo>
                  <a:lnTo>
                    <a:pt x="123" y="36"/>
                  </a:lnTo>
                  <a:lnTo>
                    <a:pt x="118" y="34"/>
                  </a:lnTo>
                  <a:lnTo>
                    <a:pt x="114" y="33"/>
                  </a:lnTo>
                  <a:lnTo>
                    <a:pt x="109" y="31"/>
                  </a:lnTo>
                  <a:lnTo>
                    <a:pt x="103" y="31"/>
                  </a:lnTo>
                  <a:lnTo>
                    <a:pt x="99" y="30"/>
                  </a:lnTo>
                  <a:lnTo>
                    <a:pt x="94" y="30"/>
                  </a:lnTo>
                  <a:lnTo>
                    <a:pt x="89" y="31"/>
                  </a:lnTo>
                  <a:lnTo>
                    <a:pt x="84" y="33"/>
                  </a:lnTo>
                  <a:lnTo>
                    <a:pt x="80" y="34"/>
                  </a:lnTo>
                  <a:lnTo>
                    <a:pt x="75" y="35"/>
                  </a:lnTo>
                  <a:lnTo>
                    <a:pt x="70" y="38"/>
                  </a:lnTo>
                  <a:lnTo>
                    <a:pt x="66" y="40"/>
                  </a:lnTo>
                  <a:lnTo>
                    <a:pt x="59" y="45"/>
                  </a:lnTo>
                  <a:lnTo>
                    <a:pt x="54" y="50"/>
                  </a:lnTo>
                  <a:lnTo>
                    <a:pt x="49" y="55"/>
                  </a:lnTo>
                  <a:lnTo>
                    <a:pt x="44" y="61"/>
                  </a:lnTo>
                  <a:lnTo>
                    <a:pt x="40" y="69"/>
                  </a:lnTo>
                  <a:lnTo>
                    <a:pt x="36" y="75"/>
                  </a:lnTo>
                  <a:lnTo>
                    <a:pt x="33" y="84"/>
                  </a:lnTo>
                  <a:lnTo>
                    <a:pt x="29" y="91"/>
                  </a:lnTo>
                  <a:lnTo>
                    <a:pt x="27" y="100"/>
                  </a:lnTo>
                  <a:lnTo>
                    <a:pt x="27" y="110"/>
                  </a:lnTo>
                  <a:lnTo>
                    <a:pt x="27" y="120"/>
                  </a:lnTo>
                  <a:lnTo>
                    <a:pt x="28" y="130"/>
                  </a:lnTo>
                  <a:lnTo>
                    <a:pt x="30" y="141"/>
                  </a:lnTo>
                  <a:lnTo>
                    <a:pt x="34" y="154"/>
                  </a:lnTo>
                  <a:lnTo>
                    <a:pt x="38" y="165"/>
                  </a:lnTo>
                  <a:lnTo>
                    <a:pt x="43" y="1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8960" y="3675240"/>
              <a:ext cx="137880" cy="120600"/>
            </a:xfrm>
            <a:custGeom>
              <a:avLst/>
              <a:gdLst/>
              <a:ahLst/>
              <a:rect l="l" t="t" r="r" b="b"/>
              <a:pathLst>
                <a:path w="261" h="302">
                  <a:moveTo>
                    <a:pt x="96" y="302"/>
                  </a:moveTo>
                  <a:lnTo>
                    <a:pt x="0" y="71"/>
                  </a:lnTo>
                  <a:lnTo>
                    <a:pt x="82" y="19"/>
                  </a:lnTo>
                  <a:lnTo>
                    <a:pt x="88" y="15"/>
                  </a:lnTo>
                  <a:lnTo>
                    <a:pt x="94" y="11"/>
                  </a:lnTo>
                  <a:lnTo>
                    <a:pt x="100" y="9"/>
                  </a:lnTo>
                  <a:lnTo>
                    <a:pt x="105" y="6"/>
                  </a:lnTo>
                  <a:lnTo>
                    <a:pt x="110" y="4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1" y="3"/>
                  </a:lnTo>
                  <a:lnTo>
                    <a:pt x="146" y="5"/>
                  </a:lnTo>
                  <a:lnTo>
                    <a:pt x="149" y="8"/>
                  </a:lnTo>
                  <a:lnTo>
                    <a:pt x="153" y="10"/>
                  </a:lnTo>
                  <a:lnTo>
                    <a:pt x="156" y="12"/>
                  </a:lnTo>
                  <a:lnTo>
                    <a:pt x="160" y="15"/>
                  </a:lnTo>
                  <a:lnTo>
                    <a:pt x="163" y="19"/>
                  </a:lnTo>
                  <a:lnTo>
                    <a:pt x="166" y="22"/>
                  </a:lnTo>
                  <a:lnTo>
                    <a:pt x="168" y="26"/>
                  </a:lnTo>
                  <a:lnTo>
                    <a:pt x="171" y="30"/>
                  </a:lnTo>
                  <a:lnTo>
                    <a:pt x="173" y="35"/>
                  </a:lnTo>
                  <a:lnTo>
                    <a:pt x="175" y="39"/>
                  </a:lnTo>
                  <a:lnTo>
                    <a:pt x="177" y="45"/>
                  </a:lnTo>
                  <a:lnTo>
                    <a:pt x="179" y="51"/>
                  </a:lnTo>
                  <a:lnTo>
                    <a:pt x="180" y="57"/>
                  </a:lnTo>
                  <a:lnTo>
                    <a:pt x="181" y="64"/>
                  </a:lnTo>
                  <a:lnTo>
                    <a:pt x="182" y="70"/>
                  </a:lnTo>
                  <a:lnTo>
                    <a:pt x="181" y="76"/>
                  </a:lnTo>
                  <a:lnTo>
                    <a:pt x="181" y="82"/>
                  </a:lnTo>
                  <a:lnTo>
                    <a:pt x="180" y="89"/>
                  </a:lnTo>
                  <a:lnTo>
                    <a:pt x="178" y="95"/>
                  </a:lnTo>
                  <a:lnTo>
                    <a:pt x="175" y="101"/>
                  </a:lnTo>
                  <a:lnTo>
                    <a:pt x="173" y="107"/>
                  </a:lnTo>
                  <a:lnTo>
                    <a:pt x="169" y="112"/>
                  </a:lnTo>
                  <a:lnTo>
                    <a:pt x="165" y="119"/>
                  </a:lnTo>
                  <a:lnTo>
                    <a:pt x="160" y="125"/>
                  </a:lnTo>
                  <a:lnTo>
                    <a:pt x="155" y="130"/>
                  </a:lnTo>
                  <a:lnTo>
                    <a:pt x="149" y="135"/>
                  </a:lnTo>
                  <a:lnTo>
                    <a:pt x="152" y="135"/>
                  </a:lnTo>
                  <a:lnTo>
                    <a:pt x="155" y="135"/>
                  </a:lnTo>
                  <a:lnTo>
                    <a:pt x="158" y="135"/>
                  </a:lnTo>
                  <a:lnTo>
                    <a:pt x="160" y="136"/>
                  </a:lnTo>
                  <a:lnTo>
                    <a:pt x="162" y="136"/>
                  </a:lnTo>
                  <a:lnTo>
                    <a:pt x="165" y="136"/>
                  </a:lnTo>
                  <a:lnTo>
                    <a:pt x="167" y="136"/>
                  </a:lnTo>
                  <a:lnTo>
                    <a:pt x="169" y="137"/>
                  </a:lnTo>
                  <a:lnTo>
                    <a:pt x="173" y="139"/>
                  </a:lnTo>
                  <a:lnTo>
                    <a:pt x="177" y="140"/>
                  </a:lnTo>
                  <a:lnTo>
                    <a:pt x="181" y="142"/>
                  </a:lnTo>
                  <a:lnTo>
                    <a:pt x="185" y="145"/>
                  </a:lnTo>
                  <a:lnTo>
                    <a:pt x="189" y="146"/>
                  </a:lnTo>
                  <a:lnTo>
                    <a:pt x="193" y="149"/>
                  </a:lnTo>
                  <a:lnTo>
                    <a:pt x="197" y="152"/>
                  </a:lnTo>
                  <a:lnTo>
                    <a:pt x="202" y="155"/>
                  </a:lnTo>
                  <a:lnTo>
                    <a:pt x="261" y="196"/>
                  </a:lnTo>
                  <a:lnTo>
                    <a:pt x="230" y="216"/>
                  </a:lnTo>
                  <a:lnTo>
                    <a:pt x="185" y="185"/>
                  </a:lnTo>
                  <a:lnTo>
                    <a:pt x="180" y="181"/>
                  </a:lnTo>
                  <a:lnTo>
                    <a:pt x="176" y="178"/>
                  </a:lnTo>
                  <a:lnTo>
                    <a:pt x="171" y="175"/>
                  </a:lnTo>
                  <a:lnTo>
                    <a:pt x="167" y="172"/>
                  </a:lnTo>
                  <a:lnTo>
                    <a:pt x="164" y="170"/>
                  </a:lnTo>
                  <a:lnTo>
                    <a:pt x="160" y="167"/>
                  </a:lnTo>
                  <a:lnTo>
                    <a:pt x="157" y="166"/>
                  </a:lnTo>
                  <a:lnTo>
                    <a:pt x="154" y="163"/>
                  </a:lnTo>
                  <a:lnTo>
                    <a:pt x="151" y="162"/>
                  </a:lnTo>
                  <a:lnTo>
                    <a:pt x="148" y="161"/>
                  </a:lnTo>
                  <a:lnTo>
                    <a:pt x="146" y="160"/>
                  </a:lnTo>
                  <a:lnTo>
                    <a:pt x="144" y="158"/>
                  </a:lnTo>
                  <a:lnTo>
                    <a:pt x="140" y="158"/>
                  </a:lnTo>
                  <a:lnTo>
                    <a:pt x="138" y="157"/>
                  </a:lnTo>
                  <a:lnTo>
                    <a:pt x="136" y="157"/>
                  </a:lnTo>
                  <a:lnTo>
                    <a:pt x="134" y="157"/>
                  </a:lnTo>
                  <a:lnTo>
                    <a:pt x="132" y="156"/>
                  </a:lnTo>
                  <a:lnTo>
                    <a:pt x="131" y="156"/>
                  </a:lnTo>
                  <a:lnTo>
                    <a:pt x="129" y="156"/>
                  </a:lnTo>
                  <a:lnTo>
                    <a:pt x="127" y="156"/>
                  </a:lnTo>
                  <a:lnTo>
                    <a:pt x="125" y="157"/>
                  </a:lnTo>
                  <a:lnTo>
                    <a:pt x="124" y="157"/>
                  </a:lnTo>
                  <a:lnTo>
                    <a:pt x="122" y="157"/>
                  </a:lnTo>
                  <a:lnTo>
                    <a:pt x="121" y="157"/>
                  </a:lnTo>
                  <a:lnTo>
                    <a:pt x="119" y="158"/>
                  </a:lnTo>
                  <a:lnTo>
                    <a:pt x="118" y="158"/>
                  </a:lnTo>
                  <a:lnTo>
                    <a:pt x="116" y="160"/>
                  </a:lnTo>
                  <a:lnTo>
                    <a:pt x="115" y="161"/>
                  </a:lnTo>
                  <a:lnTo>
                    <a:pt x="113" y="161"/>
                  </a:lnTo>
                  <a:lnTo>
                    <a:pt x="111" y="162"/>
                  </a:lnTo>
                  <a:lnTo>
                    <a:pt x="109" y="163"/>
                  </a:lnTo>
                  <a:lnTo>
                    <a:pt x="107" y="166"/>
                  </a:lnTo>
                  <a:lnTo>
                    <a:pt x="78" y="183"/>
                  </a:lnTo>
                  <a:lnTo>
                    <a:pt x="121" y="286"/>
                  </a:lnTo>
                  <a:lnTo>
                    <a:pt x="96" y="302"/>
                  </a:lnTo>
                  <a:close/>
                  <a:moveTo>
                    <a:pt x="66" y="157"/>
                  </a:moveTo>
                  <a:lnTo>
                    <a:pt x="120" y="124"/>
                  </a:lnTo>
                  <a:lnTo>
                    <a:pt x="124" y="121"/>
                  </a:lnTo>
                  <a:lnTo>
                    <a:pt x="127" y="119"/>
                  </a:lnTo>
                  <a:lnTo>
                    <a:pt x="131" y="115"/>
                  </a:lnTo>
                  <a:lnTo>
                    <a:pt x="134" y="112"/>
                  </a:lnTo>
                  <a:lnTo>
                    <a:pt x="137" y="110"/>
                  </a:lnTo>
                  <a:lnTo>
                    <a:pt x="140" y="107"/>
                  </a:lnTo>
                  <a:lnTo>
                    <a:pt x="142" y="105"/>
                  </a:lnTo>
                  <a:lnTo>
                    <a:pt x="145" y="102"/>
                  </a:lnTo>
                  <a:lnTo>
                    <a:pt x="147" y="100"/>
                  </a:lnTo>
                  <a:lnTo>
                    <a:pt x="148" y="97"/>
                  </a:lnTo>
                  <a:lnTo>
                    <a:pt x="150" y="94"/>
                  </a:lnTo>
                  <a:lnTo>
                    <a:pt x="151" y="91"/>
                  </a:lnTo>
                  <a:lnTo>
                    <a:pt x="152" y="89"/>
                  </a:lnTo>
                  <a:lnTo>
                    <a:pt x="153" y="85"/>
                  </a:lnTo>
                  <a:lnTo>
                    <a:pt x="153" y="82"/>
                  </a:lnTo>
                  <a:lnTo>
                    <a:pt x="154" y="79"/>
                  </a:lnTo>
                  <a:lnTo>
                    <a:pt x="154" y="76"/>
                  </a:lnTo>
                  <a:lnTo>
                    <a:pt x="154" y="72"/>
                  </a:lnTo>
                  <a:lnTo>
                    <a:pt x="154" y="70"/>
                  </a:lnTo>
                  <a:lnTo>
                    <a:pt x="153" y="67"/>
                  </a:lnTo>
                  <a:lnTo>
                    <a:pt x="153" y="64"/>
                  </a:lnTo>
                  <a:lnTo>
                    <a:pt x="152" y="61"/>
                  </a:lnTo>
                  <a:lnTo>
                    <a:pt x="151" y="59"/>
                  </a:lnTo>
                  <a:lnTo>
                    <a:pt x="150" y="55"/>
                  </a:lnTo>
                  <a:lnTo>
                    <a:pt x="148" y="51"/>
                  </a:lnTo>
                  <a:lnTo>
                    <a:pt x="146" y="47"/>
                  </a:lnTo>
                  <a:lnTo>
                    <a:pt x="144" y="45"/>
                  </a:lnTo>
                  <a:lnTo>
                    <a:pt x="140" y="42"/>
                  </a:lnTo>
                  <a:lnTo>
                    <a:pt x="138" y="40"/>
                  </a:lnTo>
                  <a:lnTo>
                    <a:pt x="135" y="37"/>
                  </a:lnTo>
                  <a:lnTo>
                    <a:pt x="132" y="36"/>
                  </a:lnTo>
                  <a:lnTo>
                    <a:pt x="128" y="35"/>
                  </a:lnTo>
                  <a:lnTo>
                    <a:pt x="125" y="34"/>
                  </a:lnTo>
                  <a:lnTo>
                    <a:pt x="121" y="34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08" y="36"/>
                  </a:lnTo>
                  <a:lnTo>
                    <a:pt x="104" y="37"/>
                  </a:lnTo>
                  <a:lnTo>
                    <a:pt x="99" y="40"/>
                  </a:lnTo>
                  <a:lnTo>
                    <a:pt x="94" y="44"/>
                  </a:lnTo>
                  <a:lnTo>
                    <a:pt x="35" y="81"/>
                  </a:lnTo>
                  <a:lnTo>
                    <a:pt x="6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09840" y="3627360"/>
              <a:ext cx="111240" cy="10656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17" y="195"/>
                  </a:moveTo>
                  <a:lnTo>
                    <a:pt x="12" y="180"/>
                  </a:lnTo>
                  <a:lnTo>
                    <a:pt x="8" y="166"/>
                  </a:lnTo>
                  <a:lnTo>
                    <a:pt x="4" y="152"/>
                  </a:lnTo>
                  <a:lnTo>
                    <a:pt x="1" y="138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1" y="101"/>
                  </a:lnTo>
                  <a:lnTo>
                    <a:pt x="5" y="89"/>
                  </a:lnTo>
                  <a:lnTo>
                    <a:pt x="8" y="77"/>
                  </a:lnTo>
                  <a:lnTo>
                    <a:pt x="12" y="66"/>
                  </a:lnTo>
                  <a:lnTo>
                    <a:pt x="17" y="56"/>
                  </a:lnTo>
                  <a:lnTo>
                    <a:pt x="23" y="46"/>
                  </a:lnTo>
                  <a:lnTo>
                    <a:pt x="29" y="37"/>
                  </a:lnTo>
                  <a:lnTo>
                    <a:pt x="37" y="29"/>
                  </a:lnTo>
                  <a:lnTo>
                    <a:pt x="45" y="21"/>
                  </a:lnTo>
                  <a:lnTo>
                    <a:pt x="55" y="15"/>
                  </a:lnTo>
                  <a:lnTo>
                    <a:pt x="61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5"/>
                  </a:lnTo>
                  <a:lnTo>
                    <a:pt x="134" y="6"/>
                  </a:lnTo>
                  <a:lnTo>
                    <a:pt x="140" y="10"/>
                  </a:lnTo>
                  <a:lnTo>
                    <a:pt x="146" y="14"/>
                  </a:lnTo>
                  <a:lnTo>
                    <a:pt x="152" y="17"/>
                  </a:lnTo>
                  <a:lnTo>
                    <a:pt x="158" y="22"/>
                  </a:lnTo>
                  <a:lnTo>
                    <a:pt x="163" y="27"/>
                  </a:lnTo>
                  <a:lnTo>
                    <a:pt x="169" y="34"/>
                  </a:lnTo>
                  <a:lnTo>
                    <a:pt x="173" y="40"/>
                  </a:lnTo>
                  <a:lnTo>
                    <a:pt x="178" y="46"/>
                  </a:lnTo>
                  <a:lnTo>
                    <a:pt x="183" y="54"/>
                  </a:lnTo>
                  <a:lnTo>
                    <a:pt x="187" y="61"/>
                  </a:lnTo>
                  <a:lnTo>
                    <a:pt x="191" y="69"/>
                  </a:lnTo>
                  <a:lnTo>
                    <a:pt x="194" y="77"/>
                  </a:lnTo>
                  <a:lnTo>
                    <a:pt x="198" y="86"/>
                  </a:lnTo>
                  <a:lnTo>
                    <a:pt x="201" y="95"/>
                  </a:lnTo>
                  <a:lnTo>
                    <a:pt x="203" y="104"/>
                  </a:lnTo>
                  <a:lnTo>
                    <a:pt x="205" y="112"/>
                  </a:lnTo>
                  <a:lnTo>
                    <a:pt x="207" y="121"/>
                  </a:lnTo>
                  <a:lnTo>
                    <a:pt x="208" y="130"/>
                  </a:lnTo>
                  <a:lnTo>
                    <a:pt x="209" y="138"/>
                  </a:lnTo>
                  <a:lnTo>
                    <a:pt x="209" y="147"/>
                  </a:lnTo>
                  <a:lnTo>
                    <a:pt x="209" y="156"/>
                  </a:lnTo>
                  <a:lnTo>
                    <a:pt x="208" y="165"/>
                  </a:lnTo>
                  <a:lnTo>
                    <a:pt x="207" y="172"/>
                  </a:lnTo>
                  <a:lnTo>
                    <a:pt x="206" y="181"/>
                  </a:lnTo>
                  <a:lnTo>
                    <a:pt x="203" y="188"/>
                  </a:lnTo>
                  <a:lnTo>
                    <a:pt x="201" y="196"/>
                  </a:lnTo>
                  <a:lnTo>
                    <a:pt x="198" y="202"/>
                  </a:lnTo>
                  <a:lnTo>
                    <a:pt x="194" y="210"/>
                  </a:lnTo>
                  <a:lnTo>
                    <a:pt x="191" y="217"/>
                  </a:lnTo>
                  <a:lnTo>
                    <a:pt x="186" y="223"/>
                  </a:lnTo>
                  <a:lnTo>
                    <a:pt x="182" y="228"/>
                  </a:lnTo>
                  <a:lnTo>
                    <a:pt x="177" y="235"/>
                  </a:lnTo>
                  <a:lnTo>
                    <a:pt x="172" y="240"/>
                  </a:lnTo>
                  <a:lnTo>
                    <a:pt x="167" y="245"/>
                  </a:lnTo>
                  <a:lnTo>
                    <a:pt x="161" y="248"/>
                  </a:lnTo>
                  <a:lnTo>
                    <a:pt x="156" y="253"/>
                  </a:lnTo>
                  <a:lnTo>
                    <a:pt x="149" y="257"/>
                  </a:lnTo>
                  <a:lnTo>
                    <a:pt x="142" y="260"/>
                  </a:lnTo>
                  <a:lnTo>
                    <a:pt x="135" y="263"/>
                  </a:lnTo>
                  <a:lnTo>
                    <a:pt x="128" y="265"/>
                  </a:lnTo>
                  <a:lnTo>
                    <a:pt x="122" y="267"/>
                  </a:lnTo>
                  <a:lnTo>
                    <a:pt x="115" y="267"/>
                  </a:lnTo>
                  <a:lnTo>
                    <a:pt x="108" y="268"/>
                  </a:lnTo>
                  <a:lnTo>
                    <a:pt x="102" y="267"/>
                  </a:lnTo>
                  <a:lnTo>
                    <a:pt x="95" y="267"/>
                  </a:lnTo>
                  <a:lnTo>
                    <a:pt x="88" y="265"/>
                  </a:lnTo>
                  <a:lnTo>
                    <a:pt x="82" y="263"/>
                  </a:lnTo>
                  <a:lnTo>
                    <a:pt x="75" y="261"/>
                  </a:lnTo>
                  <a:lnTo>
                    <a:pt x="69" y="257"/>
                  </a:lnTo>
                  <a:lnTo>
                    <a:pt x="63" y="253"/>
                  </a:lnTo>
                  <a:lnTo>
                    <a:pt x="57" y="250"/>
                  </a:lnTo>
                  <a:lnTo>
                    <a:pt x="52" y="245"/>
                  </a:lnTo>
                  <a:lnTo>
                    <a:pt x="46" y="240"/>
                  </a:lnTo>
                  <a:lnTo>
                    <a:pt x="41" y="233"/>
                  </a:lnTo>
                  <a:lnTo>
                    <a:pt x="37" y="228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4" y="208"/>
                  </a:lnTo>
                  <a:lnTo>
                    <a:pt x="21" y="202"/>
                  </a:lnTo>
                  <a:lnTo>
                    <a:pt x="17" y="195"/>
                  </a:lnTo>
                  <a:close/>
                  <a:moveTo>
                    <a:pt x="43" y="178"/>
                  </a:moveTo>
                  <a:lnTo>
                    <a:pt x="47" y="188"/>
                  </a:lnTo>
                  <a:lnTo>
                    <a:pt x="52" y="197"/>
                  </a:lnTo>
                  <a:lnTo>
                    <a:pt x="57" y="206"/>
                  </a:lnTo>
                  <a:lnTo>
                    <a:pt x="63" y="212"/>
                  </a:lnTo>
                  <a:lnTo>
                    <a:pt x="68" y="218"/>
                  </a:lnTo>
                  <a:lnTo>
                    <a:pt x="75" y="225"/>
                  </a:lnTo>
                  <a:lnTo>
                    <a:pt x="82" y="228"/>
                  </a:lnTo>
                  <a:lnTo>
                    <a:pt x="89" y="232"/>
                  </a:lnTo>
                  <a:lnTo>
                    <a:pt x="96" y="235"/>
                  </a:lnTo>
                  <a:lnTo>
                    <a:pt x="103" y="237"/>
                  </a:lnTo>
                  <a:lnTo>
                    <a:pt x="110" y="237"/>
                  </a:lnTo>
                  <a:lnTo>
                    <a:pt x="116" y="237"/>
                  </a:lnTo>
                  <a:lnTo>
                    <a:pt x="123" y="236"/>
                  </a:lnTo>
                  <a:lnTo>
                    <a:pt x="130" y="233"/>
                  </a:lnTo>
                  <a:lnTo>
                    <a:pt x="137" y="231"/>
                  </a:lnTo>
                  <a:lnTo>
                    <a:pt x="144" y="227"/>
                  </a:lnTo>
                  <a:lnTo>
                    <a:pt x="151" y="222"/>
                  </a:lnTo>
                  <a:lnTo>
                    <a:pt x="157" y="217"/>
                  </a:lnTo>
                  <a:lnTo>
                    <a:pt x="163" y="211"/>
                  </a:lnTo>
                  <a:lnTo>
                    <a:pt x="167" y="205"/>
                  </a:lnTo>
                  <a:lnTo>
                    <a:pt x="171" y="197"/>
                  </a:lnTo>
                  <a:lnTo>
                    <a:pt x="175" y="190"/>
                  </a:lnTo>
                  <a:lnTo>
                    <a:pt x="178" y="182"/>
                  </a:lnTo>
                  <a:lnTo>
                    <a:pt x="180" y="173"/>
                  </a:lnTo>
                  <a:lnTo>
                    <a:pt x="181" y="165"/>
                  </a:lnTo>
                  <a:lnTo>
                    <a:pt x="182" y="155"/>
                  </a:lnTo>
                  <a:lnTo>
                    <a:pt x="182" y="146"/>
                  </a:lnTo>
                  <a:lnTo>
                    <a:pt x="181" y="136"/>
                  </a:lnTo>
                  <a:lnTo>
                    <a:pt x="179" y="126"/>
                  </a:lnTo>
                  <a:lnTo>
                    <a:pt x="177" y="115"/>
                  </a:lnTo>
                  <a:lnTo>
                    <a:pt x="173" y="105"/>
                  </a:lnTo>
                  <a:lnTo>
                    <a:pt x="169" y="94"/>
                  </a:lnTo>
                  <a:lnTo>
                    <a:pt x="166" y="86"/>
                  </a:lnTo>
                  <a:lnTo>
                    <a:pt x="163" y="80"/>
                  </a:lnTo>
                  <a:lnTo>
                    <a:pt x="160" y="74"/>
                  </a:lnTo>
                  <a:lnTo>
                    <a:pt x="156" y="69"/>
                  </a:lnTo>
                  <a:lnTo>
                    <a:pt x="153" y="64"/>
                  </a:lnTo>
                  <a:lnTo>
                    <a:pt x="149" y="59"/>
                  </a:lnTo>
                  <a:lnTo>
                    <a:pt x="144" y="54"/>
                  </a:lnTo>
                  <a:lnTo>
                    <a:pt x="140" y="50"/>
                  </a:lnTo>
                  <a:lnTo>
                    <a:pt x="136" y="46"/>
                  </a:lnTo>
                  <a:lnTo>
                    <a:pt x="132" y="42"/>
                  </a:lnTo>
                  <a:lnTo>
                    <a:pt x="128" y="40"/>
                  </a:lnTo>
                  <a:lnTo>
                    <a:pt x="123" y="37"/>
                  </a:lnTo>
                  <a:lnTo>
                    <a:pt x="119" y="35"/>
                  </a:lnTo>
                  <a:lnTo>
                    <a:pt x="114" y="34"/>
                  </a:lnTo>
                  <a:lnTo>
                    <a:pt x="109" y="32"/>
                  </a:lnTo>
                  <a:lnTo>
                    <a:pt x="104" y="31"/>
                  </a:lnTo>
                  <a:lnTo>
                    <a:pt x="100" y="31"/>
                  </a:lnTo>
                  <a:lnTo>
                    <a:pt x="95" y="31"/>
                  </a:lnTo>
                  <a:lnTo>
                    <a:pt x="90" y="31"/>
                  </a:lnTo>
                  <a:lnTo>
                    <a:pt x="85" y="32"/>
                  </a:lnTo>
                  <a:lnTo>
                    <a:pt x="81" y="34"/>
                  </a:lnTo>
                  <a:lnTo>
                    <a:pt x="75" y="36"/>
                  </a:lnTo>
                  <a:lnTo>
                    <a:pt x="70" y="39"/>
                  </a:lnTo>
                  <a:lnTo>
                    <a:pt x="66" y="41"/>
                  </a:lnTo>
                  <a:lnTo>
                    <a:pt x="60" y="45"/>
                  </a:lnTo>
                  <a:lnTo>
                    <a:pt x="54" y="50"/>
                  </a:lnTo>
                  <a:lnTo>
                    <a:pt x="49" y="56"/>
                  </a:lnTo>
                  <a:lnTo>
                    <a:pt x="44" y="62"/>
                  </a:lnTo>
                  <a:lnTo>
                    <a:pt x="40" y="69"/>
                  </a:lnTo>
                  <a:lnTo>
                    <a:pt x="36" y="76"/>
                  </a:lnTo>
                  <a:lnTo>
                    <a:pt x="33" y="84"/>
                  </a:lnTo>
                  <a:lnTo>
                    <a:pt x="30" y="92"/>
                  </a:lnTo>
                  <a:lnTo>
                    <a:pt x="29" y="101"/>
                  </a:lnTo>
                  <a:lnTo>
                    <a:pt x="28" y="110"/>
                  </a:lnTo>
                  <a:lnTo>
                    <a:pt x="28" y="120"/>
                  </a:lnTo>
                  <a:lnTo>
                    <a:pt x="29" y="131"/>
                  </a:lnTo>
                  <a:lnTo>
                    <a:pt x="31" y="142"/>
                  </a:lnTo>
                  <a:lnTo>
                    <a:pt x="34" y="153"/>
                  </a:lnTo>
                  <a:lnTo>
                    <a:pt x="38" y="166"/>
                  </a:lnTo>
                  <a:lnTo>
                    <a:pt x="43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98880" y="1509840"/>
              <a:ext cx="368280" cy="66600"/>
            </a:xfrm>
            <a:custGeom>
              <a:avLst/>
              <a:gdLst/>
              <a:ahLst/>
              <a:rect l="l" t="t" r="r" b="b"/>
              <a:pathLst>
                <a:path w="695" h="166">
                  <a:moveTo>
                    <a:pt x="3" y="34"/>
                  </a:moveTo>
                  <a:lnTo>
                    <a:pt x="0" y="69"/>
                  </a:lnTo>
                  <a:lnTo>
                    <a:pt x="689" y="166"/>
                  </a:lnTo>
                  <a:lnTo>
                    <a:pt x="695" y="98"/>
                  </a:lnTo>
                  <a:lnTo>
                    <a:pt x="7" y="0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13200" y="1442880"/>
              <a:ext cx="176040" cy="162000"/>
            </a:xfrm>
            <a:custGeom>
              <a:avLst/>
              <a:gdLst/>
              <a:ahLst/>
              <a:rect l="l" t="t" r="r" b="b"/>
              <a:pathLst>
                <a:path w="332" h="408">
                  <a:moveTo>
                    <a:pt x="147" y="407"/>
                  </a:moveTo>
                  <a:lnTo>
                    <a:pt x="147" y="407"/>
                  </a:lnTo>
                  <a:lnTo>
                    <a:pt x="143" y="405"/>
                  </a:lnTo>
                  <a:lnTo>
                    <a:pt x="139" y="404"/>
                  </a:lnTo>
                  <a:lnTo>
                    <a:pt x="135" y="404"/>
                  </a:lnTo>
                  <a:lnTo>
                    <a:pt x="131" y="403"/>
                  </a:lnTo>
                  <a:lnTo>
                    <a:pt x="127" y="402"/>
                  </a:lnTo>
                  <a:lnTo>
                    <a:pt x="123" y="400"/>
                  </a:lnTo>
                  <a:lnTo>
                    <a:pt x="119" y="399"/>
                  </a:lnTo>
                  <a:lnTo>
                    <a:pt x="115" y="398"/>
                  </a:lnTo>
                  <a:lnTo>
                    <a:pt x="111" y="395"/>
                  </a:lnTo>
                  <a:lnTo>
                    <a:pt x="107" y="394"/>
                  </a:lnTo>
                  <a:lnTo>
                    <a:pt x="103" y="392"/>
                  </a:lnTo>
                  <a:lnTo>
                    <a:pt x="100" y="390"/>
                  </a:lnTo>
                  <a:lnTo>
                    <a:pt x="95" y="388"/>
                  </a:lnTo>
                  <a:lnTo>
                    <a:pt x="92" y="385"/>
                  </a:lnTo>
                  <a:lnTo>
                    <a:pt x="88" y="383"/>
                  </a:lnTo>
                  <a:lnTo>
                    <a:pt x="84" y="382"/>
                  </a:lnTo>
                  <a:lnTo>
                    <a:pt x="81" y="379"/>
                  </a:lnTo>
                  <a:lnTo>
                    <a:pt x="78" y="375"/>
                  </a:lnTo>
                  <a:lnTo>
                    <a:pt x="74" y="373"/>
                  </a:lnTo>
                  <a:lnTo>
                    <a:pt x="71" y="370"/>
                  </a:lnTo>
                  <a:lnTo>
                    <a:pt x="68" y="368"/>
                  </a:lnTo>
                  <a:lnTo>
                    <a:pt x="65" y="364"/>
                  </a:lnTo>
                  <a:lnTo>
                    <a:pt x="62" y="362"/>
                  </a:lnTo>
                  <a:lnTo>
                    <a:pt x="59" y="358"/>
                  </a:lnTo>
                  <a:lnTo>
                    <a:pt x="56" y="355"/>
                  </a:lnTo>
                  <a:lnTo>
                    <a:pt x="53" y="352"/>
                  </a:lnTo>
                  <a:lnTo>
                    <a:pt x="50" y="348"/>
                  </a:lnTo>
                  <a:lnTo>
                    <a:pt x="47" y="345"/>
                  </a:lnTo>
                  <a:lnTo>
                    <a:pt x="44" y="342"/>
                  </a:lnTo>
                  <a:lnTo>
                    <a:pt x="42" y="338"/>
                  </a:lnTo>
                  <a:lnTo>
                    <a:pt x="39" y="334"/>
                  </a:lnTo>
                  <a:lnTo>
                    <a:pt x="37" y="330"/>
                  </a:lnTo>
                  <a:lnTo>
                    <a:pt x="34" y="327"/>
                  </a:lnTo>
                  <a:lnTo>
                    <a:pt x="32" y="322"/>
                  </a:lnTo>
                  <a:lnTo>
                    <a:pt x="30" y="318"/>
                  </a:lnTo>
                  <a:lnTo>
                    <a:pt x="28" y="314"/>
                  </a:lnTo>
                  <a:lnTo>
                    <a:pt x="26" y="310"/>
                  </a:lnTo>
                  <a:lnTo>
                    <a:pt x="24" y="305"/>
                  </a:lnTo>
                  <a:lnTo>
                    <a:pt x="21" y="302"/>
                  </a:lnTo>
                  <a:lnTo>
                    <a:pt x="19" y="297"/>
                  </a:lnTo>
                  <a:lnTo>
                    <a:pt x="17" y="293"/>
                  </a:lnTo>
                  <a:lnTo>
                    <a:pt x="15" y="288"/>
                  </a:lnTo>
                  <a:lnTo>
                    <a:pt x="14" y="284"/>
                  </a:lnTo>
                  <a:lnTo>
                    <a:pt x="12" y="279"/>
                  </a:lnTo>
                  <a:lnTo>
                    <a:pt x="11" y="274"/>
                  </a:lnTo>
                  <a:lnTo>
                    <a:pt x="9" y="271"/>
                  </a:lnTo>
                  <a:lnTo>
                    <a:pt x="8" y="266"/>
                  </a:lnTo>
                  <a:lnTo>
                    <a:pt x="7" y="261"/>
                  </a:lnTo>
                  <a:lnTo>
                    <a:pt x="6" y="256"/>
                  </a:lnTo>
                  <a:lnTo>
                    <a:pt x="5" y="251"/>
                  </a:lnTo>
                  <a:lnTo>
                    <a:pt x="4" y="246"/>
                  </a:lnTo>
                  <a:lnTo>
                    <a:pt x="3" y="242"/>
                  </a:lnTo>
                  <a:lnTo>
                    <a:pt x="2" y="237"/>
                  </a:lnTo>
                  <a:lnTo>
                    <a:pt x="2" y="232"/>
                  </a:lnTo>
                  <a:lnTo>
                    <a:pt x="1" y="227"/>
                  </a:lnTo>
                  <a:lnTo>
                    <a:pt x="1" y="221"/>
                  </a:lnTo>
                  <a:lnTo>
                    <a:pt x="1" y="216"/>
                  </a:lnTo>
                  <a:lnTo>
                    <a:pt x="0" y="211"/>
                  </a:lnTo>
                  <a:lnTo>
                    <a:pt x="0" y="206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1" y="191"/>
                  </a:lnTo>
                  <a:lnTo>
                    <a:pt x="1" y="186"/>
                  </a:lnTo>
                  <a:lnTo>
                    <a:pt x="1" y="179"/>
                  </a:lnTo>
                  <a:lnTo>
                    <a:pt x="1" y="179"/>
                  </a:lnTo>
                  <a:lnTo>
                    <a:pt x="2" y="174"/>
                  </a:lnTo>
                  <a:lnTo>
                    <a:pt x="3" y="169"/>
                  </a:lnTo>
                  <a:lnTo>
                    <a:pt x="3" y="164"/>
                  </a:lnTo>
                  <a:lnTo>
                    <a:pt x="4" y="159"/>
                  </a:lnTo>
                  <a:lnTo>
                    <a:pt x="5" y="154"/>
                  </a:lnTo>
                  <a:lnTo>
                    <a:pt x="6" y="149"/>
                  </a:lnTo>
                  <a:lnTo>
                    <a:pt x="7" y="144"/>
                  </a:lnTo>
                  <a:lnTo>
                    <a:pt x="9" y="139"/>
                  </a:lnTo>
                  <a:lnTo>
                    <a:pt x="10" y="134"/>
                  </a:lnTo>
                  <a:lnTo>
                    <a:pt x="11" y="129"/>
                  </a:lnTo>
                  <a:lnTo>
                    <a:pt x="13" y="126"/>
                  </a:lnTo>
                  <a:lnTo>
                    <a:pt x="14" y="121"/>
                  </a:lnTo>
                  <a:lnTo>
                    <a:pt x="16" y="116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2" y="103"/>
                  </a:lnTo>
                  <a:lnTo>
                    <a:pt x="25" y="98"/>
                  </a:lnTo>
                  <a:lnTo>
                    <a:pt x="27" y="95"/>
                  </a:lnTo>
                  <a:lnTo>
                    <a:pt x="29" y="90"/>
                  </a:lnTo>
                  <a:lnTo>
                    <a:pt x="31" y="86"/>
                  </a:lnTo>
                  <a:lnTo>
                    <a:pt x="33" y="82"/>
                  </a:lnTo>
                  <a:lnTo>
                    <a:pt x="36" y="78"/>
                  </a:lnTo>
                  <a:lnTo>
                    <a:pt x="38" y="75"/>
                  </a:lnTo>
                  <a:lnTo>
                    <a:pt x="41" y="71"/>
                  </a:lnTo>
                  <a:lnTo>
                    <a:pt x="43" y="67"/>
                  </a:lnTo>
                  <a:lnTo>
                    <a:pt x="46" y="63"/>
                  </a:lnTo>
                  <a:lnTo>
                    <a:pt x="49" y="60"/>
                  </a:lnTo>
                  <a:lnTo>
                    <a:pt x="52" y="56"/>
                  </a:lnTo>
                  <a:lnTo>
                    <a:pt x="54" y="53"/>
                  </a:lnTo>
                  <a:lnTo>
                    <a:pt x="57" y="50"/>
                  </a:lnTo>
                  <a:lnTo>
                    <a:pt x="60" y="46"/>
                  </a:lnTo>
                  <a:lnTo>
                    <a:pt x="63" y="43"/>
                  </a:lnTo>
                  <a:lnTo>
                    <a:pt x="66" y="41"/>
                  </a:lnTo>
                  <a:lnTo>
                    <a:pt x="70" y="37"/>
                  </a:lnTo>
                  <a:lnTo>
                    <a:pt x="73" y="35"/>
                  </a:lnTo>
                  <a:lnTo>
                    <a:pt x="76" y="32"/>
                  </a:lnTo>
                  <a:lnTo>
                    <a:pt x="79" y="30"/>
                  </a:lnTo>
                  <a:lnTo>
                    <a:pt x="83" y="27"/>
                  </a:lnTo>
                  <a:lnTo>
                    <a:pt x="86" y="25"/>
                  </a:lnTo>
                  <a:lnTo>
                    <a:pt x="90" y="22"/>
                  </a:lnTo>
                  <a:lnTo>
                    <a:pt x="93" y="20"/>
                  </a:lnTo>
                  <a:lnTo>
                    <a:pt x="98" y="17"/>
                  </a:lnTo>
                  <a:lnTo>
                    <a:pt x="101" y="16"/>
                  </a:lnTo>
                  <a:lnTo>
                    <a:pt x="105" y="13"/>
                  </a:lnTo>
                  <a:lnTo>
                    <a:pt x="109" y="12"/>
                  </a:lnTo>
                  <a:lnTo>
                    <a:pt x="112" y="11"/>
                  </a:lnTo>
                  <a:lnTo>
                    <a:pt x="116" y="8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5"/>
                  </a:lnTo>
                  <a:lnTo>
                    <a:pt x="132" y="3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4" y="1"/>
                  </a:lnTo>
                  <a:lnTo>
                    <a:pt x="148" y="1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6" y="1"/>
                  </a:lnTo>
                  <a:lnTo>
                    <a:pt x="186" y="1"/>
                  </a:lnTo>
                  <a:lnTo>
                    <a:pt x="190" y="1"/>
                  </a:lnTo>
                  <a:lnTo>
                    <a:pt x="194" y="2"/>
                  </a:lnTo>
                  <a:lnTo>
                    <a:pt x="198" y="3"/>
                  </a:lnTo>
                  <a:lnTo>
                    <a:pt x="202" y="3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4" y="8"/>
                  </a:lnTo>
                  <a:lnTo>
                    <a:pt x="218" y="10"/>
                  </a:lnTo>
                  <a:lnTo>
                    <a:pt x="222" y="11"/>
                  </a:lnTo>
                  <a:lnTo>
                    <a:pt x="226" y="12"/>
                  </a:lnTo>
                  <a:lnTo>
                    <a:pt x="229" y="15"/>
                  </a:lnTo>
                  <a:lnTo>
                    <a:pt x="233" y="17"/>
                  </a:lnTo>
                  <a:lnTo>
                    <a:pt x="237" y="18"/>
                  </a:lnTo>
                  <a:lnTo>
                    <a:pt x="240" y="21"/>
                  </a:lnTo>
                  <a:lnTo>
                    <a:pt x="245" y="23"/>
                  </a:lnTo>
                  <a:lnTo>
                    <a:pt x="248" y="26"/>
                  </a:lnTo>
                  <a:lnTo>
                    <a:pt x="252" y="28"/>
                  </a:lnTo>
                  <a:lnTo>
                    <a:pt x="255" y="31"/>
                  </a:lnTo>
                  <a:lnTo>
                    <a:pt x="258" y="33"/>
                  </a:lnTo>
                  <a:lnTo>
                    <a:pt x="262" y="36"/>
                  </a:lnTo>
                  <a:lnTo>
                    <a:pt x="265" y="40"/>
                  </a:lnTo>
                  <a:lnTo>
                    <a:pt x="268" y="42"/>
                  </a:lnTo>
                  <a:lnTo>
                    <a:pt x="271" y="45"/>
                  </a:lnTo>
                  <a:lnTo>
                    <a:pt x="274" y="48"/>
                  </a:lnTo>
                  <a:lnTo>
                    <a:pt x="277" y="51"/>
                  </a:lnTo>
                  <a:lnTo>
                    <a:pt x="280" y="55"/>
                  </a:lnTo>
                  <a:lnTo>
                    <a:pt x="283" y="58"/>
                  </a:lnTo>
                  <a:lnTo>
                    <a:pt x="286" y="62"/>
                  </a:lnTo>
                  <a:lnTo>
                    <a:pt x="288" y="66"/>
                  </a:lnTo>
                  <a:lnTo>
                    <a:pt x="291" y="68"/>
                  </a:lnTo>
                  <a:lnTo>
                    <a:pt x="293" y="72"/>
                  </a:lnTo>
                  <a:lnTo>
                    <a:pt x="296" y="77"/>
                  </a:lnTo>
                  <a:lnTo>
                    <a:pt x="298" y="81"/>
                  </a:lnTo>
                  <a:lnTo>
                    <a:pt x="301" y="85"/>
                  </a:lnTo>
                  <a:lnTo>
                    <a:pt x="303" y="88"/>
                  </a:lnTo>
                  <a:lnTo>
                    <a:pt x="305" y="92"/>
                  </a:lnTo>
                  <a:lnTo>
                    <a:pt x="307" y="97"/>
                  </a:lnTo>
                  <a:lnTo>
                    <a:pt x="309" y="101"/>
                  </a:lnTo>
                  <a:lnTo>
                    <a:pt x="311" y="105"/>
                  </a:lnTo>
                  <a:lnTo>
                    <a:pt x="314" y="110"/>
                  </a:lnTo>
                  <a:lnTo>
                    <a:pt x="316" y="113"/>
                  </a:lnTo>
                  <a:lnTo>
                    <a:pt x="318" y="118"/>
                  </a:lnTo>
                  <a:lnTo>
                    <a:pt x="319" y="123"/>
                  </a:lnTo>
                  <a:lnTo>
                    <a:pt x="321" y="127"/>
                  </a:lnTo>
                  <a:lnTo>
                    <a:pt x="322" y="132"/>
                  </a:lnTo>
                  <a:lnTo>
                    <a:pt x="323" y="137"/>
                  </a:lnTo>
                  <a:lnTo>
                    <a:pt x="325" y="141"/>
                  </a:lnTo>
                  <a:lnTo>
                    <a:pt x="326" y="146"/>
                  </a:lnTo>
                  <a:lnTo>
                    <a:pt x="327" y="151"/>
                  </a:lnTo>
                  <a:lnTo>
                    <a:pt x="328" y="156"/>
                  </a:lnTo>
                  <a:lnTo>
                    <a:pt x="329" y="161"/>
                  </a:lnTo>
                  <a:lnTo>
                    <a:pt x="330" y="166"/>
                  </a:lnTo>
                  <a:lnTo>
                    <a:pt x="330" y="171"/>
                  </a:lnTo>
                  <a:lnTo>
                    <a:pt x="331" y="176"/>
                  </a:lnTo>
                  <a:lnTo>
                    <a:pt x="331" y="181"/>
                  </a:lnTo>
                  <a:lnTo>
                    <a:pt x="332" y="186"/>
                  </a:lnTo>
                  <a:lnTo>
                    <a:pt x="332" y="191"/>
                  </a:lnTo>
                  <a:lnTo>
                    <a:pt x="332" y="196"/>
                  </a:lnTo>
                  <a:lnTo>
                    <a:pt x="332" y="201"/>
                  </a:lnTo>
                  <a:lnTo>
                    <a:pt x="332" y="206"/>
                  </a:lnTo>
                  <a:lnTo>
                    <a:pt x="332" y="211"/>
                  </a:lnTo>
                  <a:lnTo>
                    <a:pt x="332" y="217"/>
                  </a:lnTo>
                  <a:lnTo>
                    <a:pt x="332" y="222"/>
                  </a:lnTo>
                  <a:lnTo>
                    <a:pt x="331" y="227"/>
                  </a:lnTo>
                  <a:lnTo>
                    <a:pt x="331" y="227"/>
                  </a:lnTo>
                  <a:lnTo>
                    <a:pt x="331" y="232"/>
                  </a:lnTo>
                  <a:lnTo>
                    <a:pt x="330" y="237"/>
                  </a:lnTo>
                  <a:lnTo>
                    <a:pt x="329" y="242"/>
                  </a:lnTo>
                  <a:lnTo>
                    <a:pt x="329" y="247"/>
                  </a:lnTo>
                  <a:lnTo>
                    <a:pt x="328" y="252"/>
                  </a:lnTo>
                  <a:lnTo>
                    <a:pt x="327" y="257"/>
                  </a:lnTo>
                  <a:lnTo>
                    <a:pt x="326" y="262"/>
                  </a:lnTo>
                  <a:lnTo>
                    <a:pt x="324" y="267"/>
                  </a:lnTo>
                  <a:lnTo>
                    <a:pt x="323" y="272"/>
                  </a:lnTo>
                  <a:lnTo>
                    <a:pt x="322" y="277"/>
                  </a:lnTo>
                  <a:lnTo>
                    <a:pt x="320" y="282"/>
                  </a:lnTo>
                  <a:lnTo>
                    <a:pt x="318" y="285"/>
                  </a:lnTo>
                  <a:lnTo>
                    <a:pt x="317" y="290"/>
                  </a:lnTo>
                  <a:lnTo>
                    <a:pt x="315" y="295"/>
                  </a:lnTo>
                  <a:lnTo>
                    <a:pt x="312" y="299"/>
                  </a:lnTo>
                  <a:lnTo>
                    <a:pt x="310" y="304"/>
                  </a:lnTo>
                  <a:lnTo>
                    <a:pt x="308" y="308"/>
                  </a:lnTo>
                  <a:lnTo>
                    <a:pt x="306" y="312"/>
                  </a:lnTo>
                  <a:lnTo>
                    <a:pt x="304" y="317"/>
                  </a:lnTo>
                  <a:lnTo>
                    <a:pt x="302" y="320"/>
                  </a:lnTo>
                  <a:lnTo>
                    <a:pt x="299" y="324"/>
                  </a:lnTo>
                  <a:lnTo>
                    <a:pt x="297" y="328"/>
                  </a:lnTo>
                  <a:lnTo>
                    <a:pt x="295" y="332"/>
                  </a:lnTo>
                  <a:lnTo>
                    <a:pt x="292" y="337"/>
                  </a:lnTo>
                  <a:lnTo>
                    <a:pt x="289" y="339"/>
                  </a:lnTo>
                  <a:lnTo>
                    <a:pt x="287" y="343"/>
                  </a:lnTo>
                  <a:lnTo>
                    <a:pt x="284" y="347"/>
                  </a:lnTo>
                  <a:lnTo>
                    <a:pt x="281" y="350"/>
                  </a:lnTo>
                  <a:lnTo>
                    <a:pt x="278" y="354"/>
                  </a:lnTo>
                  <a:lnTo>
                    <a:pt x="275" y="357"/>
                  </a:lnTo>
                  <a:lnTo>
                    <a:pt x="272" y="360"/>
                  </a:lnTo>
                  <a:lnTo>
                    <a:pt x="269" y="363"/>
                  </a:lnTo>
                  <a:lnTo>
                    <a:pt x="266" y="367"/>
                  </a:lnTo>
                  <a:lnTo>
                    <a:pt x="263" y="369"/>
                  </a:lnTo>
                  <a:lnTo>
                    <a:pt x="260" y="372"/>
                  </a:lnTo>
                  <a:lnTo>
                    <a:pt x="257" y="374"/>
                  </a:lnTo>
                  <a:lnTo>
                    <a:pt x="253" y="378"/>
                  </a:lnTo>
                  <a:lnTo>
                    <a:pt x="250" y="380"/>
                  </a:lnTo>
                  <a:lnTo>
                    <a:pt x="247" y="382"/>
                  </a:lnTo>
                  <a:lnTo>
                    <a:pt x="243" y="384"/>
                  </a:lnTo>
                  <a:lnTo>
                    <a:pt x="239" y="387"/>
                  </a:lnTo>
                  <a:lnTo>
                    <a:pt x="235" y="389"/>
                  </a:lnTo>
                  <a:lnTo>
                    <a:pt x="231" y="390"/>
                  </a:lnTo>
                  <a:lnTo>
                    <a:pt x="228" y="393"/>
                  </a:lnTo>
                  <a:lnTo>
                    <a:pt x="224" y="394"/>
                  </a:lnTo>
                  <a:lnTo>
                    <a:pt x="220" y="397"/>
                  </a:lnTo>
                  <a:lnTo>
                    <a:pt x="217" y="398"/>
                  </a:lnTo>
                  <a:lnTo>
                    <a:pt x="213" y="399"/>
                  </a:lnTo>
                  <a:lnTo>
                    <a:pt x="209" y="400"/>
                  </a:lnTo>
                  <a:lnTo>
                    <a:pt x="205" y="402"/>
                  </a:lnTo>
                  <a:lnTo>
                    <a:pt x="201" y="403"/>
                  </a:lnTo>
                  <a:lnTo>
                    <a:pt x="197" y="404"/>
                  </a:lnTo>
                  <a:lnTo>
                    <a:pt x="193" y="405"/>
                  </a:lnTo>
                  <a:lnTo>
                    <a:pt x="189" y="405"/>
                  </a:lnTo>
                  <a:lnTo>
                    <a:pt x="185" y="407"/>
                  </a:lnTo>
                  <a:lnTo>
                    <a:pt x="181" y="407"/>
                  </a:lnTo>
                  <a:lnTo>
                    <a:pt x="177" y="407"/>
                  </a:lnTo>
                  <a:lnTo>
                    <a:pt x="173" y="408"/>
                  </a:lnTo>
                  <a:lnTo>
                    <a:pt x="169" y="408"/>
                  </a:lnTo>
                  <a:lnTo>
                    <a:pt x="164" y="408"/>
                  </a:lnTo>
                  <a:lnTo>
                    <a:pt x="160" y="408"/>
                  </a:lnTo>
                  <a:lnTo>
                    <a:pt x="155" y="407"/>
                  </a:lnTo>
                  <a:lnTo>
                    <a:pt x="151" y="407"/>
                  </a:lnTo>
                  <a:lnTo>
                    <a:pt x="147" y="407"/>
                  </a:lnTo>
                  <a:lnTo>
                    <a:pt x="166" y="203"/>
                  </a:lnTo>
                  <a:lnTo>
                    <a:pt x="147" y="4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640" y="2717640"/>
              <a:ext cx="146160" cy="173160"/>
            </a:xfrm>
            <a:custGeom>
              <a:avLst/>
              <a:gdLst/>
              <a:ahLst/>
              <a:rect l="l" t="t" r="r" b="b"/>
              <a:pathLst>
                <a:path w="274" h="438">
                  <a:moveTo>
                    <a:pt x="0" y="295"/>
                  </a:moveTo>
                  <a:lnTo>
                    <a:pt x="43" y="290"/>
                  </a:lnTo>
                  <a:lnTo>
                    <a:pt x="44" y="299"/>
                  </a:lnTo>
                  <a:lnTo>
                    <a:pt x="45" y="306"/>
                  </a:lnTo>
                  <a:lnTo>
                    <a:pt x="46" y="312"/>
                  </a:lnTo>
                  <a:lnTo>
                    <a:pt x="48" y="320"/>
                  </a:lnTo>
                  <a:lnTo>
                    <a:pt x="50" y="326"/>
                  </a:lnTo>
                  <a:lnTo>
                    <a:pt x="52" y="332"/>
                  </a:lnTo>
                  <a:lnTo>
                    <a:pt x="54" y="337"/>
                  </a:lnTo>
                  <a:lnTo>
                    <a:pt x="57" y="342"/>
                  </a:lnTo>
                  <a:lnTo>
                    <a:pt x="60" y="347"/>
                  </a:lnTo>
                  <a:lnTo>
                    <a:pt x="63" y="352"/>
                  </a:lnTo>
                  <a:lnTo>
                    <a:pt x="68" y="357"/>
                  </a:lnTo>
                  <a:lnTo>
                    <a:pt x="72" y="361"/>
                  </a:lnTo>
                  <a:lnTo>
                    <a:pt x="76" y="365"/>
                  </a:lnTo>
                  <a:lnTo>
                    <a:pt x="81" y="369"/>
                  </a:lnTo>
                  <a:lnTo>
                    <a:pt x="86" y="372"/>
                  </a:lnTo>
                  <a:lnTo>
                    <a:pt x="92" y="376"/>
                  </a:lnTo>
                  <a:lnTo>
                    <a:pt x="98" y="379"/>
                  </a:lnTo>
                  <a:lnTo>
                    <a:pt x="104" y="381"/>
                  </a:lnTo>
                  <a:lnTo>
                    <a:pt x="110" y="384"/>
                  </a:lnTo>
                  <a:lnTo>
                    <a:pt x="117" y="385"/>
                  </a:lnTo>
                  <a:lnTo>
                    <a:pt x="123" y="386"/>
                  </a:lnTo>
                  <a:lnTo>
                    <a:pt x="130" y="387"/>
                  </a:lnTo>
                  <a:lnTo>
                    <a:pt x="137" y="389"/>
                  </a:lnTo>
                  <a:lnTo>
                    <a:pt x="145" y="389"/>
                  </a:lnTo>
                  <a:lnTo>
                    <a:pt x="151" y="389"/>
                  </a:lnTo>
                  <a:lnTo>
                    <a:pt x="158" y="387"/>
                  </a:lnTo>
                  <a:lnTo>
                    <a:pt x="164" y="387"/>
                  </a:lnTo>
                  <a:lnTo>
                    <a:pt x="169" y="386"/>
                  </a:lnTo>
                  <a:lnTo>
                    <a:pt x="175" y="385"/>
                  </a:lnTo>
                  <a:lnTo>
                    <a:pt x="180" y="382"/>
                  </a:lnTo>
                  <a:lnTo>
                    <a:pt x="185" y="381"/>
                  </a:lnTo>
                  <a:lnTo>
                    <a:pt x="191" y="379"/>
                  </a:lnTo>
                  <a:lnTo>
                    <a:pt x="195" y="376"/>
                  </a:lnTo>
                  <a:lnTo>
                    <a:pt x="200" y="374"/>
                  </a:lnTo>
                  <a:lnTo>
                    <a:pt x="204" y="371"/>
                  </a:lnTo>
                  <a:lnTo>
                    <a:pt x="208" y="367"/>
                  </a:lnTo>
                  <a:lnTo>
                    <a:pt x="212" y="364"/>
                  </a:lnTo>
                  <a:lnTo>
                    <a:pt x="215" y="360"/>
                  </a:lnTo>
                  <a:lnTo>
                    <a:pt x="218" y="356"/>
                  </a:lnTo>
                  <a:lnTo>
                    <a:pt x="221" y="352"/>
                  </a:lnTo>
                  <a:lnTo>
                    <a:pt x="223" y="349"/>
                  </a:lnTo>
                  <a:lnTo>
                    <a:pt x="225" y="344"/>
                  </a:lnTo>
                  <a:lnTo>
                    <a:pt x="227" y="340"/>
                  </a:lnTo>
                  <a:lnTo>
                    <a:pt x="228" y="335"/>
                  </a:lnTo>
                  <a:lnTo>
                    <a:pt x="229" y="331"/>
                  </a:lnTo>
                  <a:lnTo>
                    <a:pt x="230" y="326"/>
                  </a:lnTo>
                  <a:lnTo>
                    <a:pt x="230" y="321"/>
                  </a:lnTo>
                  <a:lnTo>
                    <a:pt x="231" y="316"/>
                  </a:lnTo>
                  <a:lnTo>
                    <a:pt x="230" y="311"/>
                  </a:lnTo>
                  <a:lnTo>
                    <a:pt x="230" y="306"/>
                  </a:lnTo>
                  <a:lnTo>
                    <a:pt x="229" y="302"/>
                  </a:lnTo>
                  <a:lnTo>
                    <a:pt x="228" y="297"/>
                  </a:lnTo>
                  <a:lnTo>
                    <a:pt x="227" y="294"/>
                  </a:lnTo>
                  <a:lnTo>
                    <a:pt x="225" y="289"/>
                  </a:lnTo>
                  <a:lnTo>
                    <a:pt x="223" y="285"/>
                  </a:lnTo>
                  <a:lnTo>
                    <a:pt x="221" y="281"/>
                  </a:lnTo>
                  <a:lnTo>
                    <a:pt x="219" y="277"/>
                  </a:lnTo>
                  <a:lnTo>
                    <a:pt x="216" y="274"/>
                  </a:lnTo>
                  <a:lnTo>
                    <a:pt x="213" y="271"/>
                  </a:lnTo>
                  <a:lnTo>
                    <a:pt x="208" y="267"/>
                  </a:lnTo>
                  <a:lnTo>
                    <a:pt x="204" y="265"/>
                  </a:lnTo>
                  <a:lnTo>
                    <a:pt x="200" y="261"/>
                  </a:lnTo>
                  <a:lnTo>
                    <a:pt x="195" y="259"/>
                  </a:lnTo>
                  <a:lnTo>
                    <a:pt x="190" y="256"/>
                  </a:lnTo>
                  <a:lnTo>
                    <a:pt x="186" y="255"/>
                  </a:lnTo>
                  <a:lnTo>
                    <a:pt x="181" y="252"/>
                  </a:lnTo>
                  <a:lnTo>
                    <a:pt x="175" y="250"/>
                  </a:lnTo>
                  <a:lnTo>
                    <a:pt x="168" y="248"/>
                  </a:lnTo>
                  <a:lnTo>
                    <a:pt x="160" y="245"/>
                  </a:lnTo>
                  <a:lnTo>
                    <a:pt x="150" y="243"/>
                  </a:lnTo>
                  <a:lnTo>
                    <a:pt x="140" y="239"/>
                  </a:lnTo>
                  <a:lnTo>
                    <a:pt x="128" y="236"/>
                  </a:lnTo>
                  <a:lnTo>
                    <a:pt x="117" y="233"/>
                  </a:lnTo>
                  <a:lnTo>
                    <a:pt x="106" y="229"/>
                  </a:lnTo>
                  <a:lnTo>
                    <a:pt x="97" y="225"/>
                  </a:lnTo>
                  <a:lnTo>
                    <a:pt x="88" y="223"/>
                  </a:lnTo>
                  <a:lnTo>
                    <a:pt x="81" y="219"/>
                  </a:lnTo>
                  <a:lnTo>
                    <a:pt x="74" y="215"/>
                  </a:lnTo>
                  <a:lnTo>
                    <a:pt x="68" y="213"/>
                  </a:lnTo>
                  <a:lnTo>
                    <a:pt x="62" y="209"/>
                  </a:lnTo>
                  <a:lnTo>
                    <a:pt x="56" y="205"/>
                  </a:lnTo>
                  <a:lnTo>
                    <a:pt x="50" y="201"/>
                  </a:lnTo>
                  <a:lnTo>
                    <a:pt x="45" y="196"/>
                  </a:lnTo>
                  <a:lnTo>
                    <a:pt x="40" y="191"/>
                  </a:lnTo>
                  <a:lnTo>
                    <a:pt x="36" y="186"/>
                  </a:lnTo>
                  <a:lnTo>
                    <a:pt x="32" y="181"/>
                  </a:lnTo>
                  <a:lnTo>
                    <a:pt x="28" y="175"/>
                  </a:lnTo>
                  <a:lnTo>
                    <a:pt x="25" y="170"/>
                  </a:lnTo>
                  <a:lnTo>
                    <a:pt x="22" y="164"/>
                  </a:lnTo>
                  <a:lnTo>
                    <a:pt x="20" y="158"/>
                  </a:lnTo>
                  <a:lnTo>
                    <a:pt x="18" y="151"/>
                  </a:lnTo>
                  <a:lnTo>
                    <a:pt x="16" y="145"/>
                  </a:lnTo>
                  <a:lnTo>
                    <a:pt x="15" y="138"/>
                  </a:lnTo>
                  <a:lnTo>
                    <a:pt x="14" y="131"/>
                  </a:lnTo>
                  <a:lnTo>
                    <a:pt x="14" y="124"/>
                  </a:lnTo>
                  <a:lnTo>
                    <a:pt x="13" y="116"/>
                  </a:lnTo>
                  <a:lnTo>
                    <a:pt x="14" y="109"/>
                  </a:lnTo>
                  <a:lnTo>
                    <a:pt x="14" y="102"/>
                  </a:lnTo>
                  <a:lnTo>
                    <a:pt x="15" y="94"/>
                  </a:lnTo>
                  <a:lnTo>
                    <a:pt x="17" y="87"/>
                  </a:lnTo>
                  <a:lnTo>
                    <a:pt x="19" y="79"/>
                  </a:lnTo>
                  <a:lnTo>
                    <a:pt x="22" y="72"/>
                  </a:lnTo>
                  <a:lnTo>
                    <a:pt x="25" y="64"/>
                  </a:lnTo>
                  <a:lnTo>
                    <a:pt x="28" y="57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41" y="38"/>
                  </a:lnTo>
                  <a:lnTo>
                    <a:pt x="46" y="33"/>
                  </a:lnTo>
                  <a:lnTo>
                    <a:pt x="51" y="28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79" y="12"/>
                  </a:lnTo>
                  <a:lnTo>
                    <a:pt x="86" y="8"/>
                  </a:lnTo>
                  <a:lnTo>
                    <a:pt x="94" y="5"/>
                  </a:lnTo>
                  <a:lnTo>
                    <a:pt x="101" y="4"/>
                  </a:lnTo>
                  <a:lnTo>
                    <a:pt x="109" y="2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0"/>
                  </a:lnTo>
                  <a:lnTo>
                    <a:pt x="153" y="2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9" y="7"/>
                  </a:lnTo>
                  <a:lnTo>
                    <a:pt x="187" y="9"/>
                  </a:lnTo>
                  <a:lnTo>
                    <a:pt x="194" y="12"/>
                  </a:lnTo>
                  <a:lnTo>
                    <a:pt x="202" y="15"/>
                  </a:lnTo>
                  <a:lnTo>
                    <a:pt x="209" y="19"/>
                  </a:lnTo>
                  <a:lnTo>
                    <a:pt x="216" y="24"/>
                  </a:lnTo>
                  <a:lnTo>
                    <a:pt x="222" y="29"/>
                  </a:lnTo>
                  <a:lnTo>
                    <a:pt x="228" y="34"/>
                  </a:lnTo>
                  <a:lnTo>
                    <a:pt x="233" y="40"/>
                  </a:lnTo>
                  <a:lnTo>
                    <a:pt x="238" y="47"/>
                  </a:lnTo>
                  <a:lnTo>
                    <a:pt x="243" y="53"/>
                  </a:lnTo>
                  <a:lnTo>
                    <a:pt x="247" y="60"/>
                  </a:lnTo>
                  <a:lnTo>
                    <a:pt x="251" y="68"/>
                  </a:lnTo>
                  <a:lnTo>
                    <a:pt x="254" y="75"/>
                  </a:lnTo>
                  <a:lnTo>
                    <a:pt x="257" y="83"/>
                  </a:lnTo>
                  <a:lnTo>
                    <a:pt x="259" y="92"/>
                  </a:lnTo>
                  <a:lnTo>
                    <a:pt x="261" y="100"/>
                  </a:lnTo>
                  <a:lnTo>
                    <a:pt x="262" y="109"/>
                  </a:lnTo>
                  <a:lnTo>
                    <a:pt x="263" y="118"/>
                  </a:lnTo>
                  <a:lnTo>
                    <a:pt x="264" y="126"/>
                  </a:lnTo>
                  <a:lnTo>
                    <a:pt x="221" y="131"/>
                  </a:lnTo>
                  <a:lnTo>
                    <a:pt x="219" y="121"/>
                  </a:lnTo>
                  <a:lnTo>
                    <a:pt x="218" y="111"/>
                  </a:lnTo>
                  <a:lnTo>
                    <a:pt x="216" y="104"/>
                  </a:lnTo>
                  <a:lnTo>
                    <a:pt x="213" y="95"/>
                  </a:lnTo>
                  <a:lnTo>
                    <a:pt x="209" y="88"/>
                  </a:lnTo>
                  <a:lnTo>
                    <a:pt x="205" y="82"/>
                  </a:lnTo>
                  <a:lnTo>
                    <a:pt x="201" y="75"/>
                  </a:lnTo>
                  <a:lnTo>
                    <a:pt x="196" y="70"/>
                  </a:lnTo>
                  <a:lnTo>
                    <a:pt x="191" y="65"/>
                  </a:lnTo>
                  <a:lnTo>
                    <a:pt x="185" y="62"/>
                  </a:lnTo>
                  <a:lnTo>
                    <a:pt x="178" y="58"/>
                  </a:lnTo>
                  <a:lnTo>
                    <a:pt x="171" y="55"/>
                  </a:lnTo>
                  <a:lnTo>
                    <a:pt x="163" y="53"/>
                  </a:lnTo>
                  <a:lnTo>
                    <a:pt x="155" y="50"/>
                  </a:lnTo>
                  <a:lnTo>
                    <a:pt x="146" y="50"/>
                  </a:lnTo>
                  <a:lnTo>
                    <a:pt x="136" y="49"/>
                  </a:lnTo>
                  <a:lnTo>
                    <a:pt x="126" y="50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101" y="54"/>
                  </a:lnTo>
                  <a:lnTo>
                    <a:pt x="93" y="57"/>
                  </a:lnTo>
                  <a:lnTo>
                    <a:pt x="87" y="60"/>
                  </a:lnTo>
                  <a:lnTo>
                    <a:pt x="81" y="64"/>
                  </a:lnTo>
                  <a:lnTo>
                    <a:pt x="76" y="68"/>
                  </a:lnTo>
                  <a:lnTo>
                    <a:pt x="72" y="73"/>
                  </a:lnTo>
                  <a:lnTo>
                    <a:pt x="68" y="78"/>
                  </a:lnTo>
                  <a:lnTo>
                    <a:pt x="64" y="83"/>
                  </a:lnTo>
                  <a:lnTo>
                    <a:pt x="61" y="89"/>
                  </a:lnTo>
                  <a:lnTo>
                    <a:pt x="59" y="94"/>
                  </a:lnTo>
                  <a:lnTo>
                    <a:pt x="58" y="100"/>
                  </a:lnTo>
                  <a:lnTo>
                    <a:pt x="57" y="106"/>
                  </a:lnTo>
                  <a:lnTo>
                    <a:pt x="57" y="113"/>
                  </a:lnTo>
                  <a:lnTo>
                    <a:pt x="57" y="119"/>
                  </a:lnTo>
                  <a:lnTo>
                    <a:pt x="57" y="124"/>
                  </a:lnTo>
                  <a:lnTo>
                    <a:pt x="59" y="129"/>
                  </a:lnTo>
                  <a:lnTo>
                    <a:pt x="60" y="134"/>
                  </a:lnTo>
                  <a:lnTo>
                    <a:pt x="62" y="139"/>
                  </a:lnTo>
                  <a:lnTo>
                    <a:pt x="64" y="143"/>
                  </a:lnTo>
                  <a:lnTo>
                    <a:pt x="68" y="146"/>
                  </a:lnTo>
                  <a:lnTo>
                    <a:pt x="71" y="151"/>
                  </a:lnTo>
                  <a:lnTo>
                    <a:pt x="75" y="155"/>
                  </a:lnTo>
                  <a:lnTo>
                    <a:pt x="80" y="158"/>
                  </a:lnTo>
                  <a:lnTo>
                    <a:pt x="86" y="161"/>
                  </a:lnTo>
                  <a:lnTo>
                    <a:pt x="94" y="166"/>
                  </a:lnTo>
                  <a:lnTo>
                    <a:pt x="103" y="170"/>
                  </a:lnTo>
                  <a:lnTo>
                    <a:pt x="114" y="174"/>
                  </a:lnTo>
                  <a:lnTo>
                    <a:pt x="126" y="178"/>
                  </a:lnTo>
                  <a:lnTo>
                    <a:pt x="140" y="181"/>
                  </a:lnTo>
                  <a:lnTo>
                    <a:pt x="153" y="185"/>
                  </a:lnTo>
                  <a:lnTo>
                    <a:pt x="165" y="189"/>
                  </a:lnTo>
                  <a:lnTo>
                    <a:pt x="176" y="193"/>
                  </a:lnTo>
                  <a:lnTo>
                    <a:pt x="186" y="195"/>
                  </a:lnTo>
                  <a:lnTo>
                    <a:pt x="195" y="199"/>
                  </a:lnTo>
                  <a:lnTo>
                    <a:pt x="203" y="203"/>
                  </a:lnTo>
                  <a:lnTo>
                    <a:pt x="209" y="205"/>
                  </a:lnTo>
                  <a:lnTo>
                    <a:pt x="216" y="208"/>
                  </a:lnTo>
                  <a:lnTo>
                    <a:pt x="223" y="213"/>
                  </a:lnTo>
                  <a:lnTo>
                    <a:pt x="230" y="218"/>
                  </a:lnTo>
                  <a:lnTo>
                    <a:pt x="236" y="223"/>
                  </a:lnTo>
                  <a:lnTo>
                    <a:pt x="242" y="228"/>
                  </a:lnTo>
                  <a:lnTo>
                    <a:pt x="247" y="233"/>
                  </a:lnTo>
                  <a:lnTo>
                    <a:pt x="252" y="239"/>
                  </a:lnTo>
                  <a:lnTo>
                    <a:pt x="256" y="245"/>
                  </a:lnTo>
                  <a:lnTo>
                    <a:pt x="260" y="251"/>
                  </a:lnTo>
                  <a:lnTo>
                    <a:pt x="263" y="257"/>
                  </a:lnTo>
                  <a:lnTo>
                    <a:pt x="266" y="265"/>
                  </a:lnTo>
                  <a:lnTo>
                    <a:pt x="268" y="272"/>
                  </a:lnTo>
                  <a:lnTo>
                    <a:pt x="270" y="280"/>
                  </a:lnTo>
                  <a:lnTo>
                    <a:pt x="272" y="287"/>
                  </a:lnTo>
                  <a:lnTo>
                    <a:pt x="273" y="295"/>
                  </a:lnTo>
                  <a:lnTo>
                    <a:pt x="274" y="304"/>
                  </a:lnTo>
                  <a:lnTo>
                    <a:pt x="274" y="311"/>
                  </a:lnTo>
                  <a:lnTo>
                    <a:pt x="274" y="320"/>
                  </a:lnTo>
                  <a:lnTo>
                    <a:pt x="273" y="329"/>
                  </a:lnTo>
                  <a:lnTo>
                    <a:pt x="272" y="336"/>
                  </a:lnTo>
                  <a:lnTo>
                    <a:pt x="270" y="345"/>
                  </a:lnTo>
                  <a:lnTo>
                    <a:pt x="268" y="352"/>
                  </a:lnTo>
                  <a:lnTo>
                    <a:pt x="265" y="360"/>
                  </a:lnTo>
                  <a:lnTo>
                    <a:pt x="262" y="367"/>
                  </a:lnTo>
                  <a:lnTo>
                    <a:pt x="258" y="375"/>
                  </a:lnTo>
                  <a:lnTo>
                    <a:pt x="254" y="382"/>
                  </a:lnTo>
                  <a:lnTo>
                    <a:pt x="250" y="390"/>
                  </a:lnTo>
                  <a:lnTo>
                    <a:pt x="245" y="396"/>
                  </a:lnTo>
                  <a:lnTo>
                    <a:pt x="239" y="402"/>
                  </a:lnTo>
                  <a:lnTo>
                    <a:pt x="234" y="407"/>
                  </a:lnTo>
                  <a:lnTo>
                    <a:pt x="227" y="412"/>
                  </a:lnTo>
                  <a:lnTo>
                    <a:pt x="221" y="417"/>
                  </a:lnTo>
                  <a:lnTo>
                    <a:pt x="214" y="422"/>
                  </a:lnTo>
                  <a:lnTo>
                    <a:pt x="205" y="426"/>
                  </a:lnTo>
                  <a:lnTo>
                    <a:pt x="198" y="430"/>
                  </a:lnTo>
                  <a:lnTo>
                    <a:pt x="190" y="432"/>
                  </a:lnTo>
                  <a:lnTo>
                    <a:pt x="182" y="435"/>
                  </a:lnTo>
                  <a:lnTo>
                    <a:pt x="173" y="436"/>
                  </a:lnTo>
                  <a:lnTo>
                    <a:pt x="165" y="437"/>
                  </a:lnTo>
                  <a:lnTo>
                    <a:pt x="156" y="438"/>
                  </a:lnTo>
                  <a:lnTo>
                    <a:pt x="147" y="438"/>
                  </a:lnTo>
                  <a:lnTo>
                    <a:pt x="135" y="438"/>
                  </a:lnTo>
                  <a:lnTo>
                    <a:pt x="124" y="437"/>
                  </a:lnTo>
                  <a:lnTo>
                    <a:pt x="114" y="436"/>
                  </a:lnTo>
                  <a:lnTo>
                    <a:pt x="104" y="435"/>
                  </a:lnTo>
                  <a:lnTo>
                    <a:pt x="94" y="432"/>
                  </a:lnTo>
                  <a:lnTo>
                    <a:pt x="85" y="430"/>
                  </a:lnTo>
                  <a:lnTo>
                    <a:pt x="77" y="426"/>
                  </a:lnTo>
                  <a:lnTo>
                    <a:pt x="69" y="422"/>
                  </a:lnTo>
                  <a:lnTo>
                    <a:pt x="60" y="417"/>
                  </a:lnTo>
                  <a:lnTo>
                    <a:pt x="53" y="412"/>
                  </a:lnTo>
                  <a:lnTo>
                    <a:pt x="46" y="407"/>
                  </a:lnTo>
                  <a:lnTo>
                    <a:pt x="40" y="401"/>
                  </a:lnTo>
                  <a:lnTo>
                    <a:pt x="34" y="395"/>
                  </a:lnTo>
                  <a:lnTo>
                    <a:pt x="29" y="387"/>
                  </a:lnTo>
                  <a:lnTo>
                    <a:pt x="24" y="380"/>
                  </a:lnTo>
                  <a:lnTo>
                    <a:pt x="19" y="371"/>
                  </a:lnTo>
                  <a:lnTo>
                    <a:pt x="15" y="362"/>
                  </a:lnTo>
                  <a:lnTo>
                    <a:pt x="11" y="354"/>
                  </a:lnTo>
                  <a:lnTo>
                    <a:pt x="8" y="345"/>
                  </a:lnTo>
                  <a:lnTo>
                    <a:pt x="5" y="335"/>
                  </a:lnTo>
                  <a:lnTo>
                    <a:pt x="3" y="326"/>
                  </a:lnTo>
                  <a:lnTo>
                    <a:pt x="2" y="316"/>
                  </a:lnTo>
                  <a:lnTo>
                    <a:pt x="1" y="306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7080" y="2724120"/>
              <a:ext cx="65160" cy="165240"/>
            </a:xfrm>
            <a:custGeom>
              <a:avLst/>
              <a:gdLst/>
              <a:ahLst/>
              <a:rect l="l" t="t" r="r" b="b"/>
              <a:pathLst>
                <a:path w="122" h="419">
                  <a:moveTo>
                    <a:pt x="115" y="368"/>
                  </a:moveTo>
                  <a:lnTo>
                    <a:pt x="122" y="414"/>
                  </a:lnTo>
                  <a:lnTo>
                    <a:pt x="117" y="415"/>
                  </a:lnTo>
                  <a:lnTo>
                    <a:pt x="112" y="415"/>
                  </a:lnTo>
                  <a:lnTo>
                    <a:pt x="108" y="416"/>
                  </a:lnTo>
                  <a:lnTo>
                    <a:pt x="104" y="418"/>
                  </a:lnTo>
                  <a:lnTo>
                    <a:pt x="100" y="418"/>
                  </a:lnTo>
                  <a:lnTo>
                    <a:pt x="97" y="418"/>
                  </a:lnTo>
                  <a:lnTo>
                    <a:pt x="93" y="419"/>
                  </a:lnTo>
                  <a:lnTo>
                    <a:pt x="90" y="419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8"/>
                  </a:lnTo>
                  <a:lnTo>
                    <a:pt x="69" y="416"/>
                  </a:lnTo>
                  <a:lnTo>
                    <a:pt x="65" y="415"/>
                  </a:lnTo>
                  <a:lnTo>
                    <a:pt x="61" y="414"/>
                  </a:lnTo>
                  <a:lnTo>
                    <a:pt x="58" y="411"/>
                  </a:lnTo>
                  <a:lnTo>
                    <a:pt x="54" y="409"/>
                  </a:lnTo>
                  <a:lnTo>
                    <a:pt x="51" y="408"/>
                  </a:lnTo>
                  <a:lnTo>
                    <a:pt x="47" y="405"/>
                  </a:lnTo>
                  <a:lnTo>
                    <a:pt x="45" y="401"/>
                  </a:lnTo>
                  <a:lnTo>
                    <a:pt x="43" y="399"/>
                  </a:lnTo>
                  <a:lnTo>
                    <a:pt x="41" y="396"/>
                  </a:lnTo>
                  <a:lnTo>
                    <a:pt x="39" y="393"/>
                  </a:lnTo>
                  <a:lnTo>
                    <a:pt x="37" y="389"/>
                  </a:lnTo>
                  <a:lnTo>
                    <a:pt x="36" y="385"/>
                  </a:lnTo>
                  <a:lnTo>
                    <a:pt x="34" y="381"/>
                  </a:lnTo>
                  <a:lnTo>
                    <a:pt x="33" y="377"/>
                  </a:lnTo>
                  <a:lnTo>
                    <a:pt x="33" y="370"/>
                  </a:lnTo>
                  <a:lnTo>
                    <a:pt x="32" y="363"/>
                  </a:lnTo>
                  <a:lnTo>
                    <a:pt x="31" y="355"/>
                  </a:lnTo>
                  <a:lnTo>
                    <a:pt x="31" y="345"/>
                  </a:lnTo>
                  <a:lnTo>
                    <a:pt x="31" y="335"/>
                  </a:lnTo>
                  <a:lnTo>
                    <a:pt x="31" y="324"/>
                  </a:lnTo>
                  <a:lnTo>
                    <a:pt x="31" y="148"/>
                  </a:lnTo>
                  <a:lnTo>
                    <a:pt x="0" y="148"/>
                  </a:lnTo>
                  <a:lnTo>
                    <a:pt x="0" y="107"/>
                  </a:lnTo>
                  <a:lnTo>
                    <a:pt x="31" y="107"/>
                  </a:lnTo>
                  <a:lnTo>
                    <a:pt x="31" y="31"/>
                  </a:lnTo>
                  <a:lnTo>
                    <a:pt x="73" y="0"/>
                  </a:lnTo>
                  <a:lnTo>
                    <a:pt x="73" y="107"/>
                  </a:lnTo>
                  <a:lnTo>
                    <a:pt x="115" y="107"/>
                  </a:lnTo>
                  <a:lnTo>
                    <a:pt x="115" y="148"/>
                  </a:lnTo>
                  <a:lnTo>
                    <a:pt x="73" y="148"/>
                  </a:lnTo>
                  <a:lnTo>
                    <a:pt x="73" y="328"/>
                  </a:lnTo>
                  <a:lnTo>
                    <a:pt x="73" y="333"/>
                  </a:lnTo>
                  <a:lnTo>
                    <a:pt x="73" y="338"/>
                  </a:lnTo>
                  <a:lnTo>
                    <a:pt x="73" y="342"/>
                  </a:lnTo>
                  <a:lnTo>
                    <a:pt x="74" y="345"/>
                  </a:lnTo>
                  <a:lnTo>
                    <a:pt x="74" y="349"/>
                  </a:lnTo>
                  <a:lnTo>
                    <a:pt x="74" y="352"/>
                  </a:lnTo>
                  <a:lnTo>
                    <a:pt x="75" y="354"/>
                  </a:lnTo>
                  <a:lnTo>
                    <a:pt x="75" y="355"/>
                  </a:lnTo>
                  <a:lnTo>
                    <a:pt x="76" y="358"/>
                  </a:lnTo>
                  <a:lnTo>
                    <a:pt x="76" y="359"/>
                  </a:lnTo>
                  <a:lnTo>
                    <a:pt x="77" y="360"/>
                  </a:lnTo>
                  <a:lnTo>
                    <a:pt x="78" y="362"/>
                  </a:lnTo>
                  <a:lnTo>
                    <a:pt x="79" y="363"/>
                  </a:lnTo>
                  <a:lnTo>
                    <a:pt x="80" y="364"/>
                  </a:lnTo>
                  <a:lnTo>
                    <a:pt x="81" y="365"/>
                  </a:lnTo>
                  <a:lnTo>
                    <a:pt x="82" y="367"/>
                  </a:lnTo>
                  <a:lnTo>
                    <a:pt x="84" y="367"/>
                  </a:lnTo>
                  <a:lnTo>
                    <a:pt x="85" y="368"/>
                  </a:lnTo>
                  <a:lnTo>
                    <a:pt x="87" y="368"/>
                  </a:lnTo>
                  <a:lnTo>
                    <a:pt x="88" y="369"/>
                  </a:lnTo>
                  <a:lnTo>
                    <a:pt x="90" y="369"/>
                  </a:lnTo>
                  <a:lnTo>
                    <a:pt x="92" y="369"/>
                  </a:lnTo>
                  <a:lnTo>
                    <a:pt x="94" y="370"/>
                  </a:lnTo>
                  <a:lnTo>
                    <a:pt x="97" y="370"/>
                  </a:lnTo>
                  <a:lnTo>
                    <a:pt x="98" y="370"/>
                  </a:lnTo>
                  <a:lnTo>
                    <a:pt x="100" y="370"/>
                  </a:lnTo>
                  <a:lnTo>
                    <a:pt x="102" y="369"/>
                  </a:lnTo>
                  <a:lnTo>
                    <a:pt x="105" y="369"/>
                  </a:lnTo>
                  <a:lnTo>
                    <a:pt x="107" y="369"/>
                  </a:lnTo>
                  <a:lnTo>
                    <a:pt x="110" y="369"/>
                  </a:lnTo>
                  <a:lnTo>
                    <a:pt x="112" y="368"/>
                  </a:lnTo>
                  <a:lnTo>
                    <a:pt x="115" y="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9880" y="2763720"/>
              <a:ext cx="71280" cy="123840"/>
            </a:xfrm>
            <a:custGeom>
              <a:avLst/>
              <a:gdLst/>
              <a:ahLst/>
              <a:rect l="l" t="t" r="r" b="b"/>
              <a:pathLst>
                <a:path w="136" h="313">
                  <a:moveTo>
                    <a:pt x="0" y="313"/>
                  </a:moveTo>
                  <a:lnTo>
                    <a:pt x="0" y="6"/>
                  </a:lnTo>
                  <a:lnTo>
                    <a:pt x="39" y="6"/>
                  </a:lnTo>
                  <a:lnTo>
                    <a:pt x="39" y="53"/>
                  </a:lnTo>
                  <a:lnTo>
                    <a:pt x="42" y="45"/>
                  </a:lnTo>
                  <a:lnTo>
                    <a:pt x="46" y="38"/>
                  </a:lnTo>
                  <a:lnTo>
                    <a:pt x="49" y="31"/>
                  </a:lnTo>
                  <a:lnTo>
                    <a:pt x="53" y="26"/>
                  </a:lnTo>
                  <a:lnTo>
                    <a:pt x="56" y="21"/>
                  </a:lnTo>
                  <a:lnTo>
                    <a:pt x="59" y="16"/>
                  </a:lnTo>
                  <a:lnTo>
                    <a:pt x="62" y="12"/>
                  </a:lnTo>
                  <a:lnTo>
                    <a:pt x="65" y="10"/>
                  </a:lnTo>
                  <a:lnTo>
                    <a:pt x="69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4" y="3"/>
                  </a:lnTo>
                  <a:lnTo>
                    <a:pt x="120" y="6"/>
                  </a:lnTo>
                  <a:lnTo>
                    <a:pt x="125" y="8"/>
                  </a:lnTo>
                  <a:lnTo>
                    <a:pt x="131" y="12"/>
                  </a:lnTo>
                  <a:lnTo>
                    <a:pt x="136" y="16"/>
                  </a:lnTo>
                  <a:lnTo>
                    <a:pt x="122" y="65"/>
                  </a:lnTo>
                  <a:lnTo>
                    <a:pt x="118" y="62"/>
                  </a:lnTo>
                  <a:lnTo>
                    <a:pt x="114" y="60"/>
                  </a:lnTo>
                  <a:lnTo>
                    <a:pt x="110" y="57"/>
                  </a:lnTo>
                  <a:lnTo>
                    <a:pt x="105" y="56"/>
                  </a:lnTo>
                  <a:lnTo>
                    <a:pt x="102" y="55"/>
                  </a:lnTo>
                  <a:lnTo>
                    <a:pt x="98" y="53"/>
                  </a:lnTo>
                  <a:lnTo>
                    <a:pt x="94" y="53"/>
                  </a:lnTo>
                  <a:lnTo>
                    <a:pt x="90" y="53"/>
                  </a:lnTo>
                  <a:lnTo>
                    <a:pt x="87" y="53"/>
                  </a:lnTo>
                  <a:lnTo>
                    <a:pt x="83" y="53"/>
                  </a:lnTo>
                  <a:lnTo>
                    <a:pt x="80" y="55"/>
                  </a:lnTo>
                  <a:lnTo>
                    <a:pt x="77" y="56"/>
                  </a:lnTo>
                  <a:lnTo>
                    <a:pt x="74" y="57"/>
                  </a:lnTo>
                  <a:lnTo>
                    <a:pt x="71" y="58"/>
                  </a:lnTo>
                  <a:lnTo>
                    <a:pt x="68" y="61"/>
                  </a:lnTo>
                  <a:lnTo>
                    <a:pt x="66" y="63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8" y="72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3" y="83"/>
                  </a:lnTo>
                  <a:lnTo>
                    <a:pt x="51" y="87"/>
                  </a:lnTo>
                  <a:lnTo>
                    <a:pt x="50" y="92"/>
                  </a:lnTo>
                  <a:lnTo>
                    <a:pt x="48" y="98"/>
                  </a:lnTo>
                  <a:lnTo>
                    <a:pt x="47" y="106"/>
                  </a:lnTo>
                  <a:lnTo>
                    <a:pt x="46" y="113"/>
                  </a:lnTo>
                  <a:lnTo>
                    <a:pt x="45" y="121"/>
                  </a:lnTo>
                  <a:lnTo>
                    <a:pt x="44" y="128"/>
                  </a:lnTo>
                  <a:lnTo>
                    <a:pt x="44" y="137"/>
                  </a:lnTo>
                  <a:lnTo>
                    <a:pt x="43" y="144"/>
                  </a:lnTo>
                  <a:lnTo>
                    <a:pt x="43" y="152"/>
                  </a:lnTo>
                  <a:lnTo>
                    <a:pt x="43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7640" y="2763720"/>
              <a:ext cx="120600" cy="127080"/>
            </a:xfrm>
            <a:custGeom>
              <a:avLst/>
              <a:gdLst/>
              <a:ahLst/>
              <a:rect l="l" t="t" r="r" b="b"/>
              <a:pathLst>
                <a:path w="229" h="320">
                  <a:moveTo>
                    <a:pt x="176" y="276"/>
                  </a:moveTo>
                  <a:lnTo>
                    <a:pt x="171" y="282"/>
                  </a:lnTo>
                  <a:lnTo>
                    <a:pt x="165" y="287"/>
                  </a:lnTo>
                  <a:lnTo>
                    <a:pt x="159" y="292"/>
                  </a:lnTo>
                  <a:lnTo>
                    <a:pt x="154" y="297"/>
                  </a:lnTo>
                  <a:lnTo>
                    <a:pt x="148" y="300"/>
                  </a:lnTo>
                  <a:lnTo>
                    <a:pt x="143" y="304"/>
                  </a:lnTo>
                  <a:lnTo>
                    <a:pt x="137" y="308"/>
                  </a:lnTo>
                  <a:lnTo>
                    <a:pt x="132" y="310"/>
                  </a:lnTo>
                  <a:lnTo>
                    <a:pt x="126" y="313"/>
                  </a:lnTo>
                  <a:lnTo>
                    <a:pt x="121" y="314"/>
                  </a:lnTo>
                  <a:lnTo>
                    <a:pt x="115" y="317"/>
                  </a:lnTo>
                  <a:lnTo>
                    <a:pt x="110" y="318"/>
                  </a:lnTo>
                  <a:lnTo>
                    <a:pt x="103" y="319"/>
                  </a:lnTo>
                  <a:lnTo>
                    <a:pt x="97" y="319"/>
                  </a:lnTo>
                  <a:lnTo>
                    <a:pt x="91" y="320"/>
                  </a:lnTo>
                  <a:lnTo>
                    <a:pt x="85" y="320"/>
                  </a:lnTo>
                  <a:lnTo>
                    <a:pt x="75" y="320"/>
                  </a:lnTo>
                  <a:lnTo>
                    <a:pt x="66" y="319"/>
                  </a:lnTo>
                  <a:lnTo>
                    <a:pt x="57" y="317"/>
                  </a:lnTo>
                  <a:lnTo>
                    <a:pt x="49" y="314"/>
                  </a:lnTo>
                  <a:lnTo>
                    <a:pt x="41" y="310"/>
                  </a:lnTo>
                  <a:lnTo>
                    <a:pt x="34" y="307"/>
                  </a:lnTo>
                  <a:lnTo>
                    <a:pt x="27" y="302"/>
                  </a:lnTo>
                  <a:lnTo>
                    <a:pt x="22" y="295"/>
                  </a:lnTo>
                  <a:lnTo>
                    <a:pt x="16" y="289"/>
                  </a:lnTo>
                  <a:lnTo>
                    <a:pt x="12" y="282"/>
                  </a:lnTo>
                  <a:lnTo>
                    <a:pt x="8" y="276"/>
                  </a:lnTo>
                  <a:lnTo>
                    <a:pt x="5" y="268"/>
                  </a:lnTo>
                  <a:lnTo>
                    <a:pt x="3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22"/>
                  </a:lnTo>
                  <a:lnTo>
                    <a:pt x="1" y="216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4" y="201"/>
                  </a:lnTo>
                  <a:lnTo>
                    <a:pt x="6" y="196"/>
                  </a:lnTo>
                  <a:lnTo>
                    <a:pt x="8" y="191"/>
                  </a:lnTo>
                  <a:lnTo>
                    <a:pt x="10" y="187"/>
                  </a:lnTo>
                  <a:lnTo>
                    <a:pt x="12" y="182"/>
                  </a:lnTo>
                  <a:lnTo>
                    <a:pt x="15" y="178"/>
                  </a:lnTo>
                  <a:lnTo>
                    <a:pt x="17" y="174"/>
                  </a:lnTo>
                  <a:lnTo>
                    <a:pt x="20" y="171"/>
                  </a:lnTo>
                  <a:lnTo>
                    <a:pt x="23" y="167"/>
                  </a:lnTo>
                  <a:lnTo>
                    <a:pt x="26" y="164"/>
                  </a:lnTo>
                  <a:lnTo>
                    <a:pt x="29" y="161"/>
                  </a:lnTo>
                  <a:lnTo>
                    <a:pt x="33" y="158"/>
                  </a:lnTo>
                  <a:lnTo>
                    <a:pt x="37" y="156"/>
                  </a:lnTo>
                  <a:lnTo>
                    <a:pt x="41" y="153"/>
                  </a:lnTo>
                  <a:lnTo>
                    <a:pt x="45" y="151"/>
                  </a:lnTo>
                  <a:lnTo>
                    <a:pt x="48" y="149"/>
                  </a:lnTo>
                  <a:lnTo>
                    <a:pt x="52" y="147"/>
                  </a:lnTo>
                  <a:lnTo>
                    <a:pt x="56" y="146"/>
                  </a:lnTo>
                  <a:lnTo>
                    <a:pt x="61" y="144"/>
                  </a:lnTo>
                  <a:lnTo>
                    <a:pt x="64" y="143"/>
                  </a:lnTo>
                  <a:lnTo>
                    <a:pt x="67" y="142"/>
                  </a:lnTo>
                  <a:lnTo>
                    <a:pt x="71" y="141"/>
                  </a:lnTo>
                  <a:lnTo>
                    <a:pt x="76" y="141"/>
                  </a:lnTo>
                  <a:lnTo>
                    <a:pt x="81" y="139"/>
                  </a:lnTo>
                  <a:lnTo>
                    <a:pt x="86" y="138"/>
                  </a:lnTo>
                  <a:lnTo>
                    <a:pt x="92" y="137"/>
                  </a:lnTo>
                  <a:lnTo>
                    <a:pt x="98" y="136"/>
                  </a:lnTo>
                  <a:lnTo>
                    <a:pt x="111" y="134"/>
                  </a:lnTo>
                  <a:lnTo>
                    <a:pt x="122" y="132"/>
                  </a:lnTo>
                  <a:lnTo>
                    <a:pt x="133" y="131"/>
                  </a:lnTo>
                  <a:lnTo>
                    <a:pt x="142" y="128"/>
                  </a:lnTo>
                  <a:lnTo>
                    <a:pt x="151" y="126"/>
                  </a:lnTo>
                  <a:lnTo>
                    <a:pt x="159" y="123"/>
                  </a:lnTo>
                  <a:lnTo>
                    <a:pt x="167" y="121"/>
                  </a:lnTo>
                  <a:lnTo>
                    <a:pt x="173" y="118"/>
                  </a:lnTo>
                  <a:lnTo>
                    <a:pt x="173" y="116"/>
                  </a:lnTo>
                  <a:lnTo>
                    <a:pt x="173" y="113"/>
                  </a:lnTo>
                  <a:lnTo>
                    <a:pt x="173" y="112"/>
                  </a:lnTo>
                  <a:lnTo>
                    <a:pt x="173" y="110"/>
                  </a:lnTo>
                  <a:lnTo>
                    <a:pt x="173" y="108"/>
                  </a:lnTo>
                  <a:lnTo>
                    <a:pt x="173" y="107"/>
                  </a:lnTo>
                  <a:lnTo>
                    <a:pt x="173" y="106"/>
                  </a:lnTo>
                  <a:lnTo>
                    <a:pt x="173" y="105"/>
                  </a:lnTo>
                  <a:lnTo>
                    <a:pt x="173" y="97"/>
                  </a:lnTo>
                  <a:lnTo>
                    <a:pt x="172" y="90"/>
                  </a:lnTo>
                  <a:lnTo>
                    <a:pt x="172" y="83"/>
                  </a:lnTo>
                  <a:lnTo>
                    <a:pt x="170" y="78"/>
                  </a:lnTo>
                  <a:lnTo>
                    <a:pt x="169" y="72"/>
                  </a:lnTo>
                  <a:lnTo>
                    <a:pt x="167" y="67"/>
                  </a:lnTo>
                  <a:lnTo>
                    <a:pt x="164" y="63"/>
                  </a:lnTo>
                  <a:lnTo>
                    <a:pt x="161" y="60"/>
                  </a:lnTo>
                  <a:lnTo>
                    <a:pt x="157" y="56"/>
                  </a:lnTo>
                  <a:lnTo>
                    <a:pt x="152" y="52"/>
                  </a:lnTo>
                  <a:lnTo>
                    <a:pt x="147" y="50"/>
                  </a:lnTo>
                  <a:lnTo>
                    <a:pt x="142" y="47"/>
                  </a:lnTo>
                  <a:lnTo>
                    <a:pt x="135" y="45"/>
                  </a:lnTo>
                  <a:lnTo>
                    <a:pt x="129" y="43"/>
                  </a:lnTo>
                  <a:lnTo>
                    <a:pt x="122" y="42"/>
                  </a:lnTo>
                  <a:lnTo>
                    <a:pt x="114" y="42"/>
                  </a:lnTo>
                  <a:lnTo>
                    <a:pt x="106" y="42"/>
                  </a:lnTo>
                  <a:lnTo>
                    <a:pt x="99" y="43"/>
                  </a:lnTo>
                  <a:lnTo>
                    <a:pt x="93" y="45"/>
                  </a:lnTo>
                  <a:lnTo>
                    <a:pt x="87" y="46"/>
                  </a:lnTo>
                  <a:lnTo>
                    <a:pt x="82" y="47"/>
                  </a:lnTo>
                  <a:lnTo>
                    <a:pt x="77" y="50"/>
                  </a:lnTo>
                  <a:lnTo>
                    <a:pt x="73" y="52"/>
                  </a:lnTo>
                  <a:lnTo>
                    <a:pt x="69" y="55"/>
                  </a:lnTo>
                  <a:lnTo>
                    <a:pt x="66" y="58"/>
                  </a:lnTo>
                  <a:lnTo>
                    <a:pt x="63" y="63"/>
                  </a:lnTo>
                  <a:lnTo>
                    <a:pt x="60" y="67"/>
                  </a:lnTo>
                  <a:lnTo>
                    <a:pt x="57" y="73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0" y="93"/>
                  </a:lnTo>
                  <a:lnTo>
                    <a:pt x="49" y="101"/>
                  </a:lnTo>
                  <a:lnTo>
                    <a:pt x="7" y="93"/>
                  </a:lnTo>
                  <a:lnTo>
                    <a:pt x="8" y="86"/>
                  </a:lnTo>
                  <a:lnTo>
                    <a:pt x="10" y="78"/>
                  </a:lnTo>
                  <a:lnTo>
                    <a:pt x="12" y="71"/>
                  </a:lnTo>
                  <a:lnTo>
                    <a:pt x="14" y="65"/>
                  </a:lnTo>
                  <a:lnTo>
                    <a:pt x="17" y="58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5" y="41"/>
                  </a:lnTo>
                  <a:lnTo>
                    <a:pt x="29" y="36"/>
                  </a:lnTo>
                  <a:lnTo>
                    <a:pt x="32" y="32"/>
                  </a:lnTo>
                  <a:lnTo>
                    <a:pt x="37" y="27"/>
                  </a:lnTo>
                  <a:lnTo>
                    <a:pt x="42" y="23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7" y="13"/>
                  </a:lnTo>
                  <a:lnTo>
                    <a:pt x="63" y="10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2" y="3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3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8" y="2"/>
                  </a:lnTo>
                  <a:lnTo>
                    <a:pt x="155" y="3"/>
                  </a:lnTo>
                  <a:lnTo>
                    <a:pt x="161" y="5"/>
                  </a:lnTo>
                  <a:lnTo>
                    <a:pt x="166" y="6"/>
                  </a:lnTo>
                  <a:lnTo>
                    <a:pt x="171" y="8"/>
                  </a:lnTo>
                  <a:lnTo>
                    <a:pt x="176" y="11"/>
                  </a:lnTo>
                  <a:lnTo>
                    <a:pt x="181" y="13"/>
                  </a:lnTo>
                  <a:lnTo>
                    <a:pt x="185" y="16"/>
                  </a:lnTo>
                  <a:lnTo>
                    <a:pt x="189" y="18"/>
                  </a:lnTo>
                  <a:lnTo>
                    <a:pt x="193" y="22"/>
                  </a:lnTo>
                  <a:lnTo>
                    <a:pt x="196" y="25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3"/>
                  </a:lnTo>
                  <a:lnTo>
                    <a:pt x="209" y="47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4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5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6" y="107"/>
                  </a:lnTo>
                  <a:lnTo>
                    <a:pt x="216" y="116"/>
                  </a:lnTo>
                  <a:lnTo>
                    <a:pt x="216" y="184"/>
                  </a:lnTo>
                  <a:lnTo>
                    <a:pt x="216" y="202"/>
                  </a:lnTo>
                  <a:lnTo>
                    <a:pt x="216" y="218"/>
                  </a:lnTo>
                  <a:lnTo>
                    <a:pt x="217" y="232"/>
                  </a:lnTo>
                  <a:lnTo>
                    <a:pt x="217" y="244"/>
                  </a:lnTo>
                  <a:lnTo>
                    <a:pt x="217" y="254"/>
                  </a:lnTo>
                  <a:lnTo>
                    <a:pt x="218" y="263"/>
                  </a:lnTo>
                  <a:lnTo>
                    <a:pt x="218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0" y="285"/>
                  </a:lnTo>
                  <a:lnTo>
                    <a:pt x="222" y="290"/>
                  </a:lnTo>
                  <a:lnTo>
                    <a:pt x="223" y="295"/>
                  </a:lnTo>
                  <a:lnTo>
                    <a:pt x="224" y="300"/>
                  </a:lnTo>
                  <a:lnTo>
                    <a:pt x="226" y="304"/>
                  </a:lnTo>
                  <a:lnTo>
                    <a:pt x="227" y="309"/>
                  </a:lnTo>
                  <a:lnTo>
                    <a:pt x="229" y="313"/>
                  </a:lnTo>
                  <a:lnTo>
                    <a:pt x="186" y="313"/>
                  </a:lnTo>
                  <a:lnTo>
                    <a:pt x="184" y="309"/>
                  </a:lnTo>
                  <a:lnTo>
                    <a:pt x="183" y="305"/>
                  </a:lnTo>
                  <a:lnTo>
                    <a:pt x="182" y="300"/>
                  </a:lnTo>
                  <a:lnTo>
                    <a:pt x="179" y="295"/>
                  </a:lnTo>
                  <a:lnTo>
                    <a:pt x="178" y="290"/>
                  </a:lnTo>
                  <a:lnTo>
                    <a:pt x="178" y="285"/>
                  </a:lnTo>
                  <a:lnTo>
                    <a:pt x="177" y="280"/>
                  </a:lnTo>
                  <a:lnTo>
                    <a:pt x="176" y="276"/>
                  </a:lnTo>
                  <a:close/>
                  <a:moveTo>
                    <a:pt x="173" y="159"/>
                  </a:moveTo>
                  <a:lnTo>
                    <a:pt x="167" y="162"/>
                  </a:lnTo>
                  <a:lnTo>
                    <a:pt x="160" y="164"/>
                  </a:lnTo>
                  <a:lnTo>
                    <a:pt x="153" y="167"/>
                  </a:lnTo>
                  <a:lnTo>
                    <a:pt x="145" y="169"/>
                  </a:lnTo>
                  <a:lnTo>
                    <a:pt x="136" y="172"/>
                  </a:lnTo>
                  <a:lnTo>
                    <a:pt x="126" y="174"/>
                  </a:lnTo>
                  <a:lnTo>
                    <a:pt x="116" y="177"/>
                  </a:lnTo>
                  <a:lnTo>
                    <a:pt x="104" y="179"/>
                  </a:lnTo>
                  <a:lnTo>
                    <a:pt x="98" y="181"/>
                  </a:lnTo>
                  <a:lnTo>
                    <a:pt x="92" y="181"/>
                  </a:lnTo>
                  <a:lnTo>
                    <a:pt x="87" y="182"/>
                  </a:lnTo>
                  <a:lnTo>
                    <a:pt x="82" y="184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0" y="188"/>
                  </a:lnTo>
                  <a:lnTo>
                    <a:pt x="68" y="189"/>
                  </a:lnTo>
                  <a:lnTo>
                    <a:pt x="65" y="191"/>
                  </a:lnTo>
                  <a:lnTo>
                    <a:pt x="62" y="192"/>
                  </a:lnTo>
                  <a:lnTo>
                    <a:pt x="60" y="194"/>
                  </a:lnTo>
                  <a:lnTo>
                    <a:pt x="58" y="197"/>
                  </a:lnTo>
                  <a:lnTo>
                    <a:pt x="56" y="198"/>
                  </a:lnTo>
                  <a:lnTo>
                    <a:pt x="54" y="201"/>
                  </a:lnTo>
                  <a:lnTo>
                    <a:pt x="53" y="203"/>
                  </a:lnTo>
                  <a:lnTo>
                    <a:pt x="51" y="206"/>
                  </a:lnTo>
                  <a:lnTo>
                    <a:pt x="50" y="209"/>
                  </a:lnTo>
                  <a:lnTo>
                    <a:pt x="48" y="212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6" y="221"/>
                  </a:lnTo>
                  <a:lnTo>
                    <a:pt x="46" y="224"/>
                  </a:lnTo>
                  <a:lnTo>
                    <a:pt x="45" y="228"/>
                  </a:lnTo>
                  <a:lnTo>
                    <a:pt x="45" y="231"/>
                  </a:lnTo>
                  <a:lnTo>
                    <a:pt x="45" y="236"/>
                  </a:lnTo>
                  <a:lnTo>
                    <a:pt x="46" y="241"/>
                  </a:lnTo>
                  <a:lnTo>
                    <a:pt x="47" y="246"/>
                  </a:lnTo>
                  <a:lnTo>
                    <a:pt x="48" y="251"/>
                  </a:lnTo>
                  <a:lnTo>
                    <a:pt x="50" y="254"/>
                  </a:lnTo>
                  <a:lnTo>
                    <a:pt x="52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1" y="269"/>
                  </a:lnTo>
                  <a:lnTo>
                    <a:pt x="65" y="272"/>
                  </a:lnTo>
                  <a:lnTo>
                    <a:pt x="69" y="274"/>
                  </a:lnTo>
                  <a:lnTo>
                    <a:pt x="73" y="276"/>
                  </a:lnTo>
                  <a:lnTo>
                    <a:pt x="78" y="278"/>
                  </a:lnTo>
                  <a:lnTo>
                    <a:pt x="83" y="279"/>
                  </a:lnTo>
                  <a:lnTo>
                    <a:pt x="89" y="279"/>
                  </a:lnTo>
                  <a:lnTo>
                    <a:pt x="95" y="279"/>
                  </a:lnTo>
                  <a:lnTo>
                    <a:pt x="101" y="279"/>
                  </a:lnTo>
                  <a:lnTo>
                    <a:pt x="108" y="279"/>
                  </a:lnTo>
                  <a:lnTo>
                    <a:pt x="113" y="278"/>
                  </a:lnTo>
                  <a:lnTo>
                    <a:pt x="119" y="277"/>
                  </a:lnTo>
                  <a:lnTo>
                    <a:pt x="124" y="274"/>
                  </a:lnTo>
                  <a:lnTo>
                    <a:pt x="129" y="272"/>
                  </a:lnTo>
                  <a:lnTo>
                    <a:pt x="134" y="269"/>
                  </a:lnTo>
                  <a:lnTo>
                    <a:pt x="139" y="267"/>
                  </a:lnTo>
                  <a:lnTo>
                    <a:pt x="143" y="263"/>
                  </a:lnTo>
                  <a:lnTo>
                    <a:pt x="147" y="259"/>
                  </a:lnTo>
                  <a:lnTo>
                    <a:pt x="151" y="256"/>
                  </a:lnTo>
                  <a:lnTo>
                    <a:pt x="155" y="251"/>
                  </a:lnTo>
                  <a:lnTo>
                    <a:pt x="158" y="246"/>
                  </a:lnTo>
                  <a:lnTo>
                    <a:pt x="161" y="241"/>
                  </a:lnTo>
                  <a:lnTo>
                    <a:pt x="164" y="236"/>
                  </a:lnTo>
                  <a:lnTo>
                    <a:pt x="166" y="231"/>
                  </a:lnTo>
                  <a:lnTo>
                    <a:pt x="168" y="226"/>
                  </a:lnTo>
                  <a:lnTo>
                    <a:pt x="169" y="221"/>
                  </a:lnTo>
                  <a:lnTo>
                    <a:pt x="170" y="214"/>
                  </a:lnTo>
                  <a:lnTo>
                    <a:pt x="171" y="208"/>
                  </a:lnTo>
                  <a:lnTo>
                    <a:pt x="172" y="202"/>
                  </a:lnTo>
                  <a:lnTo>
                    <a:pt x="173" y="194"/>
                  </a:lnTo>
                  <a:lnTo>
                    <a:pt x="173" y="187"/>
                  </a:lnTo>
                  <a:lnTo>
                    <a:pt x="173" y="178"/>
                  </a:lnTo>
                  <a:lnTo>
                    <a:pt x="173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760" y="2719440"/>
              <a:ext cx="114480" cy="171360"/>
            </a:xfrm>
            <a:custGeom>
              <a:avLst/>
              <a:gdLst/>
              <a:ahLst/>
              <a:rect l="l" t="t" r="r" b="b"/>
              <a:pathLst>
                <a:path w="216" h="430">
                  <a:moveTo>
                    <a:pt x="176" y="423"/>
                  </a:moveTo>
                  <a:lnTo>
                    <a:pt x="176" y="384"/>
                  </a:lnTo>
                  <a:lnTo>
                    <a:pt x="170" y="395"/>
                  </a:lnTo>
                  <a:lnTo>
                    <a:pt x="163" y="404"/>
                  </a:lnTo>
                  <a:lnTo>
                    <a:pt x="156" y="413"/>
                  </a:lnTo>
                  <a:lnTo>
                    <a:pt x="148" y="419"/>
                  </a:lnTo>
                  <a:lnTo>
                    <a:pt x="139" y="424"/>
                  </a:lnTo>
                  <a:lnTo>
                    <a:pt x="128" y="428"/>
                  </a:lnTo>
                  <a:lnTo>
                    <a:pt x="118" y="429"/>
                  </a:lnTo>
                  <a:lnTo>
                    <a:pt x="107" y="430"/>
                  </a:lnTo>
                  <a:lnTo>
                    <a:pt x="99" y="430"/>
                  </a:lnTo>
                  <a:lnTo>
                    <a:pt x="92" y="429"/>
                  </a:lnTo>
                  <a:lnTo>
                    <a:pt x="85" y="428"/>
                  </a:lnTo>
                  <a:lnTo>
                    <a:pt x="78" y="425"/>
                  </a:lnTo>
                  <a:lnTo>
                    <a:pt x="72" y="423"/>
                  </a:lnTo>
                  <a:lnTo>
                    <a:pt x="65" y="419"/>
                  </a:lnTo>
                  <a:lnTo>
                    <a:pt x="59" y="414"/>
                  </a:lnTo>
                  <a:lnTo>
                    <a:pt x="51" y="410"/>
                  </a:lnTo>
                  <a:lnTo>
                    <a:pt x="45" y="404"/>
                  </a:lnTo>
                  <a:lnTo>
                    <a:pt x="40" y="399"/>
                  </a:lnTo>
                  <a:lnTo>
                    <a:pt x="35" y="393"/>
                  </a:lnTo>
                  <a:lnTo>
                    <a:pt x="30" y="386"/>
                  </a:lnTo>
                  <a:lnTo>
                    <a:pt x="25" y="378"/>
                  </a:lnTo>
                  <a:lnTo>
                    <a:pt x="21" y="371"/>
                  </a:lnTo>
                  <a:lnTo>
                    <a:pt x="17" y="362"/>
                  </a:lnTo>
                  <a:lnTo>
                    <a:pt x="13" y="353"/>
                  </a:lnTo>
                  <a:lnTo>
                    <a:pt x="10" y="344"/>
                  </a:lnTo>
                  <a:lnTo>
                    <a:pt x="7" y="334"/>
                  </a:lnTo>
                  <a:lnTo>
                    <a:pt x="5" y="324"/>
                  </a:lnTo>
                  <a:lnTo>
                    <a:pt x="3" y="314"/>
                  </a:lnTo>
                  <a:lnTo>
                    <a:pt x="2" y="304"/>
                  </a:lnTo>
                  <a:lnTo>
                    <a:pt x="1" y="293"/>
                  </a:lnTo>
                  <a:lnTo>
                    <a:pt x="0" y="282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1" y="237"/>
                  </a:lnTo>
                  <a:lnTo>
                    <a:pt x="3" y="226"/>
                  </a:lnTo>
                  <a:lnTo>
                    <a:pt x="4" y="216"/>
                  </a:lnTo>
                  <a:lnTo>
                    <a:pt x="7" y="206"/>
                  </a:lnTo>
                  <a:lnTo>
                    <a:pt x="9" y="196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70"/>
                  </a:lnTo>
                  <a:lnTo>
                    <a:pt x="23" y="161"/>
                  </a:lnTo>
                  <a:lnTo>
                    <a:pt x="27" y="153"/>
                  </a:lnTo>
                  <a:lnTo>
                    <a:pt x="32" y="147"/>
                  </a:lnTo>
                  <a:lnTo>
                    <a:pt x="37" y="141"/>
                  </a:lnTo>
                  <a:lnTo>
                    <a:pt x="43" y="135"/>
                  </a:lnTo>
                  <a:lnTo>
                    <a:pt x="49" y="130"/>
                  </a:lnTo>
                  <a:lnTo>
                    <a:pt x="55" y="125"/>
                  </a:lnTo>
                  <a:lnTo>
                    <a:pt x="62" y="121"/>
                  </a:lnTo>
                  <a:lnTo>
                    <a:pt x="69" y="117"/>
                  </a:lnTo>
                  <a:lnTo>
                    <a:pt x="76" y="115"/>
                  </a:lnTo>
                  <a:lnTo>
                    <a:pt x="83" y="112"/>
                  </a:lnTo>
                  <a:lnTo>
                    <a:pt x="90" y="111"/>
                  </a:lnTo>
                  <a:lnTo>
                    <a:pt x="97" y="110"/>
                  </a:lnTo>
                  <a:lnTo>
                    <a:pt x="105" y="110"/>
                  </a:lnTo>
                  <a:lnTo>
                    <a:pt x="110" y="110"/>
                  </a:lnTo>
                  <a:lnTo>
                    <a:pt x="116" y="110"/>
                  </a:lnTo>
                  <a:lnTo>
                    <a:pt x="121" y="111"/>
                  </a:lnTo>
                  <a:lnTo>
                    <a:pt x="126" y="112"/>
                  </a:lnTo>
                  <a:lnTo>
                    <a:pt x="132" y="113"/>
                  </a:lnTo>
                  <a:lnTo>
                    <a:pt x="136" y="116"/>
                  </a:lnTo>
                  <a:lnTo>
                    <a:pt x="141" y="118"/>
                  </a:lnTo>
                  <a:lnTo>
                    <a:pt x="145" y="121"/>
                  </a:lnTo>
                  <a:lnTo>
                    <a:pt x="150" y="123"/>
                  </a:lnTo>
                  <a:lnTo>
                    <a:pt x="154" y="127"/>
                  </a:lnTo>
                  <a:lnTo>
                    <a:pt x="157" y="131"/>
                  </a:lnTo>
                  <a:lnTo>
                    <a:pt x="161" y="135"/>
                  </a:lnTo>
                  <a:lnTo>
                    <a:pt x="165" y="138"/>
                  </a:lnTo>
                  <a:lnTo>
                    <a:pt x="168" y="142"/>
                  </a:lnTo>
                  <a:lnTo>
                    <a:pt x="171" y="147"/>
                  </a:lnTo>
                  <a:lnTo>
                    <a:pt x="174" y="151"/>
                  </a:lnTo>
                  <a:lnTo>
                    <a:pt x="174" y="0"/>
                  </a:lnTo>
                  <a:lnTo>
                    <a:pt x="216" y="0"/>
                  </a:lnTo>
                  <a:lnTo>
                    <a:pt x="216" y="423"/>
                  </a:lnTo>
                  <a:lnTo>
                    <a:pt x="176" y="423"/>
                  </a:lnTo>
                  <a:close/>
                  <a:moveTo>
                    <a:pt x="43" y="269"/>
                  </a:moveTo>
                  <a:lnTo>
                    <a:pt x="43" y="284"/>
                  </a:lnTo>
                  <a:lnTo>
                    <a:pt x="44" y="298"/>
                  </a:lnTo>
                  <a:lnTo>
                    <a:pt x="45" y="311"/>
                  </a:lnTo>
                  <a:lnTo>
                    <a:pt x="48" y="322"/>
                  </a:lnTo>
                  <a:lnTo>
                    <a:pt x="50" y="332"/>
                  </a:lnTo>
                  <a:lnTo>
                    <a:pt x="54" y="342"/>
                  </a:lnTo>
                  <a:lnTo>
                    <a:pt x="59" y="351"/>
                  </a:lnTo>
                  <a:lnTo>
                    <a:pt x="63" y="358"/>
                  </a:lnTo>
                  <a:lnTo>
                    <a:pt x="69" y="366"/>
                  </a:lnTo>
                  <a:lnTo>
                    <a:pt x="74" y="371"/>
                  </a:lnTo>
                  <a:lnTo>
                    <a:pt x="79" y="376"/>
                  </a:lnTo>
                  <a:lnTo>
                    <a:pt x="85" y="381"/>
                  </a:lnTo>
                  <a:lnTo>
                    <a:pt x="91" y="383"/>
                  </a:lnTo>
                  <a:lnTo>
                    <a:pt x="97" y="386"/>
                  </a:lnTo>
                  <a:lnTo>
                    <a:pt x="104" y="387"/>
                  </a:lnTo>
                  <a:lnTo>
                    <a:pt x="111" y="388"/>
                  </a:lnTo>
                  <a:lnTo>
                    <a:pt x="117" y="387"/>
                  </a:lnTo>
                  <a:lnTo>
                    <a:pt x="124" y="386"/>
                  </a:lnTo>
                  <a:lnTo>
                    <a:pt x="131" y="383"/>
                  </a:lnTo>
                  <a:lnTo>
                    <a:pt x="137" y="381"/>
                  </a:lnTo>
                  <a:lnTo>
                    <a:pt x="142" y="377"/>
                  </a:lnTo>
                  <a:lnTo>
                    <a:pt x="148" y="372"/>
                  </a:lnTo>
                  <a:lnTo>
                    <a:pt x="153" y="366"/>
                  </a:lnTo>
                  <a:lnTo>
                    <a:pt x="158" y="359"/>
                  </a:lnTo>
                  <a:lnTo>
                    <a:pt x="162" y="352"/>
                  </a:lnTo>
                  <a:lnTo>
                    <a:pt x="166" y="344"/>
                  </a:lnTo>
                  <a:lnTo>
                    <a:pt x="170" y="334"/>
                  </a:lnTo>
                  <a:lnTo>
                    <a:pt x="172" y="324"/>
                  </a:lnTo>
                  <a:lnTo>
                    <a:pt x="174" y="313"/>
                  </a:lnTo>
                  <a:lnTo>
                    <a:pt x="176" y="301"/>
                  </a:lnTo>
                  <a:lnTo>
                    <a:pt x="177" y="288"/>
                  </a:lnTo>
                  <a:lnTo>
                    <a:pt x="177" y="274"/>
                  </a:lnTo>
                  <a:lnTo>
                    <a:pt x="177" y="259"/>
                  </a:lnTo>
                  <a:lnTo>
                    <a:pt x="176" y="244"/>
                  </a:lnTo>
                  <a:lnTo>
                    <a:pt x="174" y="232"/>
                  </a:lnTo>
                  <a:lnTo>
                    <a:pt x="172" y="220"/>
                  </a:lnTo>
                  <a:lnTo>
                    <a:pt x="169" y="208"/>
                  </a:lnTo>
                  <a:lnTo>
                    <a:pt x="166" y="198"/>
                  </a:lnTo>
                  <a:lnTo>
                    <a:pt x="162" y="190"/>
                  </a:lnTo>
                  <a:lnTo>
                    <a:pt x="158" y="182"/>
                  </a:lnTo>
                  <a:lnTo>
                    <a:pt x="153" y="175"/>
                  </a:lnTo>
                  <a:lnTo>
                    <a:pt x="147" y="168"/>
                  </a:lnTo>
                  <a:lnTo>
                    <a:pt x="142" y="163"/>
                  </a:lnTo>
                  <a:lnTo>
                    <a:pt x="136" y="160"/>
                  </a:lnTo>
                  <a:lnTo>
                    <a:pt x="129" y="157"/>
                  </a:lnTo>
                  <a:lnTo>
                    <a:pt x="122" y="155"/>
                  </a:lnTo>
                  <a:lnTo>
                    <a:pt x="116" y="153"/>
                  </a:lnTo>
                  <a:lnTo>
                    <a:pt x="109" y="152"/>
                  </a:lnTo>
                  <a:lnTo>
                    <a:pt x="102" y="153"/>
                  </a:lnTo>
                  <a:lnTo>
                    <a:pt x="95" y="155"/>
                  </a:lnTo>
                  <a:lnTo>
                    <a:pt x="89" y="156"/>
                  </a:lnTo>
                  <a:lnTo>
                    <a:pt x="83" y="160"/>
                  </a:lnTo>
                  <a:lnTo>
                    <a:pt x="77" y="163"/>
                  </a:lnTo>
                  <a:lnTo>
                    <a:pt x="72" y="168"/>
                  </a:lnTo>
                  <a:lnTo>
                    <a:pt x="67" y="175"/>
                  </a:lnTo>
                  <a:lnTo>
                    <a:pt x="62" y="181"/>
                  </a:lnTo>
                  <a:lnTo>
                    <a:pt x="57" y="188"/>
                  </a:lnTo>
                  <a:lnTo>
                    <a:pt x="53" y="197"/>
                  </a:lnTo>
                  <a:lnTo>
                    <a:pt x="50" y="207"/>
                  </a:lnTo>
                  <a:lnTo>
                    <a:pt x="47" y="217"/>
                  </a:lnTo>
                  <a:lnTo>
                    <a:pt x="45" y="230"/>
                  </a:lnTo>
                  <a:lnTo>
                    <a:pt x="44" y="242"/>
                  </a:lnTo>
                  <a:lnTo>
                    <a:pt x="43" y="256"/>
                  </a:lnTo>
                  <a:lnTo>
                    <a:pt x="43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0240" y="2763720"/>
              <a:ext cx="122040" cy="127080"/>
            </a:xfrm>
            <a:custGeom>
              <a:avLst/>
              <a:gdLst/>
              <a:ahLst/>
              <a:rect l="l" t="t" r="r" b="b"/>
              <a:pathLst>
                <a:path w="231" h="320">
                  <a:moveTo>
                    <a:pt x="178" y="276"/>
                  </a:moveTo>
                  <a:lnTo>
                    <a:pt x="172" y="282"/>
                  </a:lnTo>
                  <a:lnTo>
                    <a:pt x="167" y="287"/>
                  </a:lnTo>
                  <a:lnTo>
                    <a:pt x="161" y="292"/>
                  </a:lnTo>
                  <a:lnTo>
                    <a:pt x="155" y="297"/>
                  </a:lnTo>
                  <a:lnTo>
                    <a:pt x="149" y="300"/>
                  </a:lnTo>
                  <a:lnTo>
                    <a:pt x="143" y="304"/>
                  </a:lnTo>
                  <a:lnTo>
                    <a:pt x="138" y="308"/>
                  </a:lnTo>
                  <a:lnTo>
                    <a:pt x="133" y="310"/>
                  </a:lnTo>
                  <a:lnTo>
                    <a:pt x="127" y="313"/>
                  </a:lnTo>
                  <a:lnTo>
                    <a:pt x="122" y="314"/>
                  </a:lnTo>
                  <a:lnTo>
                    <a:pt x="116" y="317"/>
                  </a:lnTo>
                  <a:lnTo>
                    <a:pt x="110" y="318"/>
                  </a:lnTo>
                  <a:lnTo>
                    <a:pt x="105" y="319"/>
                  </a:lnTo>
                  <a:lnTo>
                    <a:pt x="99" y="319"/>
                  </a:lnTo>
                  <a:lnTo>
                    <a:pt x="93" y="320"/>
                  </a:lnTo>
                  <a:lnTo>
                    <a:pt x="87" y="320"/>
                  </a:lnTo>
                  <a:lnTo>
                    <a:pt x="76" y="320"/>
                  </a:lnTo>
                  <a:lnTo>
                    <a:pt x="66" y="319"/>
                  </a:lnTo>
                  <a:lnTo>
                    <a:pt x="58" y="317"/>
                  </a:lnTo>
                  <a:lnTo>
                    <a:pt x="50" y="314"/>
                  </a:lnTo>
                  <a:lnTo>
                    <a:pt x="42" y="310"/>
                  </a:lnTo>
                  <a:lnTo>
                    <a:pt x="35" y="307"/>
                  </a:lnTo>
                  <a:lnTo>
                    <a:pt x="29" y="302"/>
                  </a:lnTo>
                  <a:lnTo>
                    <a:pt x="23" y="295"/>
                  </a:lnTo>
                  <a:lnTo>
                    <a:pt x="18" y="289"/>
                  </a:lnTo>
                  <a:lnTo>
                    <a:pt x="14" y="282"/>
                  </a:lnTo>
                  <a:lnTo>
                    <a:pt x="10" y="276"/>
                  </a:lnTo>
                  <a:lnTo>
                    <a:pt x="6" y="268"/>
                  </a:lnTo>
                  <a:lnTo>
                    <a:pt x="4" y="259"/>
                  </a:lnTo>
                  <a:lnTo>
                    <a:pt x="2" y="251"/>
                  </a:lnTo>
                  <a:lnTo>
                    <a:pt x="1" y="242"/>
                  </a:lnTo>
                  <a:lnTo>
                    <a:pt x="0" y="232"/>
                  </a:lnTo>
                  <a:lnTo>
                    <a:pt x="1" y="227"/>
                  </a:lnTo>
                  <a:lnTo>
                    <a:pt x="1" y="222"/>
                  </a:lnTo>
                  <a:lnTo>
                    <a:pt x="2" y="216"/>
                  </a:lnTo>
                  <a:lnTo>
                    <a:pt x="3" y="211"/>
                  </a:lnTo>
                  <a:lnTo>
                    <a:pt x="4" y="206"/>
                  </a:lnTo>
                  <a:lnTo>
                    <a:pt x="5" y="201"/>
                  </a:lnTo>
                  <a:lnTo>
                    <a:pt x="7" y="196"/>
                  </a:lnTo>
                  <a:lnTo>
                    <a:pt x="10" y="191"/>
                  </a:lnTo>
                  <a:lnTo>
                    <a:pt x="12" y="187"/>
                  </a:lnTo>
                  <a:lnTo>
                    <a:pt x="14" y="182"/>
                  </a:lnTo>
                  <a:lnTo>
                    <a:pt x="17" y="178"/>
                  </a:lnTo>
                  <a:lnTo>
                    <a:pt x="19" y="174"/>
                  </a:lnTo>
                  <a:lnTo>
                    <a:pt x="22" y="171"/>
                  </a:lnTo>
                  <a:lnTo>
                    <a:pt x="25" y="167"/>
                  </a:lnTo>
                  <a:lnTo>
                    <a:pt x="28" y="164"/>
                  </a:lnTo>
                  <a:lnTo>
                    <a:pt x="31" y="161"/>
                  </a:lnTo>
                  <a:lnTo>
                    <a:pt x="35" y="158"/>
                  </a:lnTo>
                  <a:lnTo>
                    <a:pt x="38" y="156"/>
                  </a:lnTo>
                  <a:lnTo>
                    <a:pt x="42" y="153"/>
                  </a:lnTo>
                  <a:lnTo>
                    <a:pt x="45" y="151"/>
                  </a:lnTo>
                  <a:lnTo>
                    <a:pt x="49" y="149"/>
                  </a:lnTo>
                  <a:lnTo>
                    <a:pt x="53" y="147"/>
                  </a:lnTo>
                  <a:lnTo>
                    <a:pt x="57" y="146"/>
                  </a:lnTo>
                  <a:lnTo>
                    <a:pt x="61" y="144"/>
                  </a:lnTo>
                  <a:lnTo>
                    <a:pt x="65" y="143"/>
                  </a:lnTo>
                  <a:lnTo>
                    <a:pt x="68" y="142"/>
                  </a:lnTo>
                  <a:lnTo>
                    <a:pt x="72" y="141"/>
                  </a:lnTo>
                  <a:lnTo>
                    <a:pt x="77" y="141"/>
                  </a:lnTo>
                  <a:lnTo>
                    <a:pt x="82" y="139"/>
                  </a:lnTo>
                  <a:lnTo>
                    <a:pt x="88" y="138"/>
                  </a:lnTo>
                  <a:lnTo>
                    <a:pt x="93" y="137"/>
                  </a:lnTo>
                  <a:lnTo>
                    <a:pt x="99" y="136"/>
                  </a:lnTo>
                  <a:lnTo>
                    <a:pt x="112" y="134"/>
                  </a:lnTo>
                  <a:lnTo>
                    <a:pt x="123" y="132"/>
                  </a:lnTo>
                  <a:lnTo>
                    <a:pt x="133" y="131"/>
                  </a:lnTo>
                  <a:lnTo>
                    <a:pt x="143" y="128"/>
                  </a:lnTo>
                  <a:lnTo>
                    <a:pt x="152" y="126"/>
                  </a:lnTo>
                  <a:lnTo>
                    <a:pt x="161" y="123"/>
                  </a:lnTo>
                  <a:lnTo>
                    <a:pt x="168" y="121"/>
                  </a:lnTo>
                  <a:lnTo>
                    <a:pt x="175" y="118"/>
                  </a:lnTo>
                  <a:lnTo>
                    <a:pt x="175" y="116"/>
                  </a:lnTo>
                  <a:lnTo>
                    <a:pt x="175" y="113"/>
                  </a:lnTo>
                  <a:lnTo>
                    <a:pt x="175" y="112"/>
                  </a:lnTo>
                  <a:lnTo>
                    <a:pt x="175" y="110"/>
                  </a:lnTo>
                  <a:lnTo>
                    <a:pt x="175" y="108"/>
                  </a:lnTo>
                  <a:lnTo>
                    <a:pt x="175" y="107"/>
                  </a:lnTo>
                  <a:lnTo>
                    <a:pt x="175" y="106"/>
                  </a:lnTo>
                  <a:lnTo>
                    <a:pt x="175" y="105"/>
                  </a:lnTo>
                  <a:lnTo>
                    <a:pt x="175" y="97"/>
                  </a:lnTo>
                  <a:lnTo>
                    <a:pt x="174" y="90"/>
                  </a:lnTo>
                  <a:lnTo>
                    <a:pt x="173" y="83"/>
                  </a:lnTo>
                  <a:lnTo>
                    <a:pt x="172" y="78"/>
                  </a:lnTo>
                  <a:lnTo>
                    <a:pt x="170" y="72"/>
                  </a:lnTo>
                  <a:lnTo>
                    <a:pt x="168" y="67"/>
                  </a:lnTo>
                  <a:lnTo>
                    <a:pt x="166" y="63"/>
                  </a:lnTo>
                  <a:lnTo>
                    <a:pt x="163" y="60"/>
                  </a:lnTo>
                  <a:lnTo>
                    <a:pt x="159" y="56"/>
                  </a:lnTo>
                  <a:lnTo>
                    <a:pt x="154" y="52"/>
                  </a:lnTo>
                  <a:lnTo>
                    <a:pt x="148" y="50"/>
                  </a:lnTo>
                  <a:lnTo>
                    <a:pt x="142" y="47"/>
                  </a:lnTo>
                  <a:lnTo>
                    <a:pt x="136" y="45"/>
                  </a:lnTo>
                  <a:lnTo>
                    <a:pt x="129" y="43"/>
                  </a:lnTo>
                  <a:lnTo>
                    <a:pt x="122" y="42"/>
                  </a:lnTo>
                  <a:lnTo>
                    <a:pt x="115" y="42"/>
                  </a:lnTo>
                  <a:lnTo>
                    <a:pt x="108" y="42"/>
                  </a:lnTo>
                  <a:lnTo>
                    <a:pt x="101" y="43"/>
                  </a:lnTo>
                  <a:lnTo>
                    <a:pt x="95" y="45"/>
                  </a:lnTo>
                  <a:lnTo>
                    <a:pt x="89" y="46"/>
                  </a:lnTo>
                  <a:lnTo>
                    <a:pt x="84" y="47"/>
                  </a:lnTo>
                  <a:lnTo>
                    <a:pt x="78" y="50"/>
                  </a:lnTo>
                  <a:lnTo>
                    <a:pt x="74" y="52"/>
                  </a:lnTo>
                  <a:lnTo>
                    <a:pt x="70" y="55"/>
                  </a:lnTo>
                  <a:lnTo>
                    <a:pt x="67" y="58"/>
                  </a:lnTo>
                  <a:lnTo>
                    <a:pt x="64" y="63"/>
                  </a:lnTo>
                  <a:lnTo>
                    <a:pt x="61" y="67"/>
                  </a:lnTo>
                  <a:lnTo>
                    <a:pt x="58" y="73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1" y="93"/>
                  </a:lnTo>
                  <a:lnTo>
                    <a:pt x="49" y="101"/>
                  </a:lnTo>
                  <a:lnTo>
                    <a:pt x="9" y="93"/>
                  </a:lnTo>
                  <a:lnTo>
                    <a:pt x="10" y="86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6" y="65"/>
                  </a:lnTo>
                  <a:lnTo>
                    <a:pt x="18" y="58"/>
                  </a:lnTo>
                  <a:lnTo>
                    <a:pt x="21" y="52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30" y="36"/>
                  </a:lnTo>
                  <a:lnTo>
                    <a:pt x="34" y="32"/>
                  </a:lnTo>
                  <a:lnTo>
                    <a:pt x="38" y="27"/>
                  </a:lnTo>
                  <a:lnTo>
                    <a:pt x="43" y="23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8" y="13"/>
                  </a:lnTo>
                  <a:lnTo>
                    <a:pt x="64" y="10"/>
                  </a:lnTo>
                  <a:lnTo>
                    <a:pt x="70" y="7"/>
                  </a:lnTo>
                  <a:lnTo>
                    <a:pt x="76" y="6"/>
                  </a:lnTo>
                  <a:lnTo>
                    <a:pt x="84" y="3"/>
                  </a:lnTo>
                  <a:lnTo>
                    <a:pt x="91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3" y="1"/>
                  </a:lnTo>
                  <a:lnTo>
                    <a:pt x="149" y="2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6"/>
                  </a:lnTo>
                  <a:lnTo>
                    <a:pt x="173" y="8"/>
                  </a:lnTo>
                  <a:lnTo>
                    <a:pt x="178" y="11"/>
                  </a:lnTo>
                  <a:lnTo>
                    <a:pt x="182" y="13"/>
                  </a:lnTo>
                  <a:lnTo>
                    <a:pt x="186" y="16"/>
                  </a:lnTo>
                  <a:lnTo>
                    <a:pt x="190" y="18"/>
                  </a:lnTo>
                  <a:lnTo>
                    <a:pt x="193" y="22"/>
                  </a:lnTo>
                  <a:lnTo>
                    <a:pt x="197" y="25"/>
                  </a:lnTo>
                  <a:lnTo>
                    <a:pt x="199" y="28"/>
                  </a:lnTo>
                  <a:lnTo>
                    <a:pt x="202" y="32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8" y="43"/>
                  </a:lnTo>
                  <a:lnTo>
                    <a:pt x="210" y="47"/>
                  </a:lnTo>
                  <a:lnTo>
                    <a:pt x="211" y="52"/>
                  </a:lnTo>
                  <a:lnTo>
                    <a:pt x="213" y="57"/>
                  </a:lnTo>
                  <a:lnTo>
                    <a:pt x="214" y="62"/>
                  </a:lnTo>
                  <a:lnTo>
                    <a:pt x="215" y="67"/>
                  </a:lnTo>
                  <a:lnTo>
                    <a:pt x="215" y="71"/>
                  </a:lnTo>
                  <a:lnTo>
                    <a:pt x="216" y="76"/>
                  </a:lnTo>
                  <a:lnTo>
                    <a:pt x="216" y="81"/>
                  </a:lnTo>
                  <a:lnTo>
                    <a:pt x="216" y="86"/>
                  </a:lnTo>
                  <a:lnTo>
                    <a:pt x="217" y="92"/>
                  </a:lnTo>
                  <a:lnTo>
                    <a:pt x="217" y="100"/>
                  </a:lnTo>
                  <a:lnTo>
                    <a:pt x="217" y="107"/>
                  </a:lnTo>
                  <a:lnTo>
                    <a:pt x="217" y="116"/>
                  </a:lnTo>
                  <a:lnTo>
                    <a:pt x="217" y="184"/>
                  </a:lnTo>
                  <a:lnTo>
                    <a:pt x="217" y="202"/>
                  </a:lnTo>
                  <a:lnTo>
                    <a:pt x="217" y="218"/>
                  </a:lnTo>
                  <a:lnTo>
                    <a:pt x="217" y="232"/>
                  </a:lnTo>
                  <a:lnTo>
                    <a:pt x="218" y="244"/>
                  </a:lnTo>
                  <a:lnTo>
                    <a:pt x="218" y="254"/>
                  </a:lnTo>
                  <a:lnTo>
                    <a:pt x="218" y="263"/>
                  </a:lnTo>
                  <a:lnTo>
                    <a:pt x="219" y="271"/>
                  </a:lnTo>
                  <a:lnTo>
                    <a:pt x="220" y="277"/>
                  </a:lnTo>
                  <a:lnTo>
                    <a:pt x="220" y="282"/>
                  </a:lnTo>
                  <a:lnTo>
                    <a:pt x="221" y="285"/>
                  </a:lnTo>
                  <a:lnTo>
                    <a:pt x="222" y="290"/>
                  </a:lnTo>
                  <a:lnTo>
                    <a:pt x="224" y="295"/>
                  </a:lnTo>
                  <a:lnTo>
                    <a:pt x="226" y="300"/>
                  </a:lnTo>
                  <a:lnTo>
                    <a:pt x="228" y="304"/>
                  </a:lnTo>
                  <a:lnTo>
                    <a:pt x="229" y="309"/>
                  </a:lnTo>
                  <a:lnTo>
                    <a:pt x="231" y="313"/>
                  </a:lnTo>
                  <a:lnTo>
                    <a:pt x="187" y="313"/>
                  </a:lnTo>
                  <a:lnTo>
                    <a:pt x="185" y="309"/>
                  </a:lnTo>
                  <a:lnTo>
                    <a:pt x="184" y="305"/>
                  </a:lnTo>
                  <a:lnTo>
                    <a:pt x="182" y="300"/>
                  </a:lnTo>
                  <a:lnTo>
                    <a:pt x="181" y="295"/>
                  </a:lnTo>
                  <a:lnTo>
                    <a:pt x="180" y="290"/>
                  </a:lnTo>
                  <a:lnTo>
                    <a:pt x="179" y="285"/>
                  </a:lnTo>
                  <a:lnTo>
                    <a:pt x="179" y="280"/>
                  </a:lnTo>
                  <a:lnTo>
                    <a:pt x="178" y="276"/>
                  </a:lnTo>
                  <a:close/>
                  <a:moveTo>
                    <a:pt x="175" y="159"/>
                  </a:moveTo>
                  <a:lnTo>
                    <a:pt x="169" y="162"/>
                  </a:lnTo>
                  <a:lnTo>
                    <a:pt x="162" y="164"/>
                  </a:lnTo>
                  <a:lnTo>
                    <a:pt x="154" y="167"/>
                  </a:lnTo>
                  <a:lnTo>
                    <a:pt x="145" y="169"/>
                  </a:lnTo>
                  <a:lnTo>
                    <a:pt x="136" y="172"/>
                  </a:lnTo>
                  <a:lnTo>
                    <a:pt x="127" y="174"/>
                  </a:lnTo>
                  <a:lnTo>
                    <a:pt x="117" y="177"/>
                  </a:lnTo>
                  <a:lnTo>
                    <a:pt x="106" y="179"/>
                  </a:lnTo>
                  <a:lnTo>
                    <a:pt x="99" y="181"/>
                  </a:lnTo>
                  <a:lnTo>
                    <a:pt x="94" y="181"/>
                  </a:lnTo>
                  <a:lnTo>
                    <a:pt x="88" y="182"/>
                  </a:lnTo>
                  <a:lnTo>
                    <a:pt x="84" y="184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8"/>
                  </a:lnTo>
                  <a:lnTo>
                    <a:pt x="68" y="189"/>
                  </a:lnTo>
                  <a:lnTo>
                    <a:pt x="66" y="191"/>
                  </a:lnTo>
                  <a:lnTo>
                    <a:pt x="63" y="192"/>
                  </a:lnTo>
                  <a:lnTo>
                    <a:pt x="61" y="194"/>
                  </a:lnTo>
                  <a:lnTo>
                    <a:pt x="59" y="197"/>
                  </a:lnTo>
                  <a:lnTo>
                    <a:pt x="57" y="198"/>
                  </a:lnTo>
                  <a:lnTo>
                    <a:pt x="55" y="201"/>
                  </a:lnTo>
                  <a:lnTo>
                    <a:pt x="53" y="203"/>
                  </a:lnTo>
                  <a:lnTo>
                    <a:pt x="52" y="206"/>
                  </a:lnTo>
                  <a:lnTo>
                    <a:pt x="50" y="209"/>
                  </a:lnTo>
                  <a:lnTo>
                    <a:pt x="49" y="212"/>
                  </a:lnTo>
                  <a:lnTo>
                    <a:pt x="48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6" y="224"/>
                  </a:lnTo>
                  <a:lnTo>
                    <a:pt x="46" y="228"/>
                  </a:lnTo>
                  <a:lnTo>
                    <a:pt x="46" y="231"/>
                  </a:lnTo>
                  <a:lnTo>
                    <a:pt x="46" y="236"/>
                  </a:lnTo>
                  <a:lnTo>
                    <a:pt x="47" y="241"/>
                  </a:lnTo>
                  <a:lnTo>
                    <a:pt x="48" y="246"/>
                  </a:lnTo>
                  <a:lnTo>
                    <a:pt x="49" y="251"/>
                  </a:lnTo>
                  <a:lnTo>
                    <a:pt x="51" y="254"/>
                  </a:lnTo>
                  <a:lnTo>
                    <a:pt x="53" y="258"/>
                  </a:lnTo>
                  <a:lnTo>
                    <a:pt x="56" y="262"/>
                  </a:lnTo>
                  <a:lnTo>
                    <a:pt x="59" y="266"/>
                  </a:lnTo>
                  <a:lnTo>
                    <a:pt x="62" y="269"/>
                  </a:lnTo>
                  <a:lnTo>
                    <a:pt x="66" y="272"/>
                  </a:lnTo>
                  <a:lnTo>
                    <a:pt x="70" y="274"/>
                  </a:lnTo>
                  <a:lnTo>
                    <a:pt x="74" y="276"/>
                  </a:lnTo>
                  <a:lnTo>
                    <a:pt x="79" y="278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7" y="279"/>
                  </a:lnTo>
                  <a:lnTo>
                    <a:pt x="102" y="279"/>
                  </a:lnTo>
                  <a:lnTo>
                    <a:pt x="108" y="279"/>
                  </a:lnTo>
                  <a:lnTo>
                    <a:pt x="114" y="278"/>
                  </a:lnTo>
                  <a:lnTo>
                    <a:pt x="119" y="277"/>
                  </a:lnTo>
                  <a:lnTo>
                    <a:pt x="125" y="274"/>
                  </a:lnTo>
                  <a:lnTo>
                    <a:pt x="130" y="272"/>
                  </a:lnTo>
                  <a:lnTo>
                    <a:pt x="135" y="269"/>
                  </a:lnTo>
                  <a:lnTo>
                    <a:pt x="139" y="267"/>
                  </a:lnTo>
                  <a:lnTo>
                    <a:pt x="144" y="263"/>
                  </a:lnTo>
                  <a:lnTo>
                    <a:pt x="148" y="259"/>
                  </a:lnTo>
                  <a:lnTo>
                    <a:pt x="152" y="256"/>
                  </a:lnTo>
                  <a:lnTo>
                    <a:pt x="157" y="251"/>
                  </a:lnTo>
                  <a:lnTo>
                    <a:pt x="160" y="246"/>
                  </a:lnTo>
                  <a:lnTo>
                    <a:pt x="163" y="241"/>
                  </a:lnTo>
                  <a:lnTo>
                    <a:pt x="166" y="236"/>
                  </a:lnTo>
                  <a:lnTo>
                    <a:pt x="168" y="231"/>
                  </a:lnTo>
                  <a:lnTo>
                    <a:pt x="170" y="226"/>
                  </a:lnTo>
                  <a:lnTo>
                    <a:pt x="171" y="221"/>
                  </a:lnTo>
                  <a:lnTo>
                    <a:pt x="172" y="214"/>
                  </a:lnTo>
                  <a:lnTo>
                    <a:pt x="173" y="208"/>
                  </a:lnTo>
                  <a:lnTo>
                    <a:pt x="174" y="202"/>
                  </a:lnTo>
                  <a:lnTo>
                    <a:pt x="174" y="194"/>
                  </a:lnTo>
                  <a:lnTo>
                    <a:pt x="175" y="187"/>
                  </a:lnTo>
                  <a:lnTo>
                    <a:pt x="175" y="178"/>
                  </a:lnTo>
                  <a:lnTo>
                    <a:pt x="175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20920" y="2763720"/>
              <a:ext cx="114120" cy="171720"/>
            </a:xfrm>
            <a:custGeom>
              <a:avLst/>
              <a:gdLst/>
              <a:ahLst/>
              <a:rect l="l" t="t" r="r" b="b"/>
              <a:pathLst>
                <a:path w="217" h="431">
                  <a:moveTo>
                    <a:pt x="0" y="431"/>
                  </a:moveTo>
                  <a:lnTo>
                    <a:pt x="0" y="6"/>
                  </a:lnTo>
                  <a:lnTo>
                    <a:pt x="39" y="6"/>
                  </a:lnTo>
                  <a:lnTo>
                    <a:pt x="39" y="46"/>
                  </a:lnTo>
                  <a:lnTo>
                    <a:pt x="43" y="41"/>
                  </a:lnTo>
                  <a:lnTo>
                    <a:pt x="46" y="35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58" y="21"/>
                  </a:lnTo>
                  <a:lnTo>
                    <a:pt x="62" y="17"/>
                  </a:lnTo>
                  <a:lnTo>
                    <a:pt x="66" y="15"/>
                  </a:lnTo>
                  <a:lnTo>
                    <a:pt x="70" y="11"/>
                  </a:lnTo>
                  <a:lnTo>
                    <a:pt x="74" y="8"/>
                  </a:lnTo>
                  <a:lnTo>
                    <a:pt x="79" y="6"/>
                  </a:lnTo>
                  <a:lnTo>
                    <a:pt x="83" y="3"/>
                  </a:lnTo>
                  <a:lnTo>
                    <a:pt x="88" y="2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1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48" y="7"/>
                  </a:lnTo>
                  <a:lnTo>
                    <a:pt x="155" y="11"/>
                  </a:lnTo>
                  <a:lnTo>
                    <a:pt x="161" y="15"/>
                  </a:lnTo>
                  <a:lnTo>
                    <a:pt x="167" y="20"/>
                  </a:lnTo>
                  <a:lnTo>
                    <a:pt x="174" y="25"/>
                  </a:lnTo>
                  <a:lnTo>
                    <a:pt x="180" y="31"/>
                  </a:lnTo>
                  <a:lnTo>
                    <a:pt x="185" y="37"/>
                  </a:lnTo>
                  <a:lnTo>
                    <a:pt x="190" y="43"/>
                  </a:lnTo>
                  <a:lnTo>
                    <a:pt x="194" y="51"/>
                  </a:lnTo>
                  <a:lnTo>
                    <a:pt x="198" y="60"/>
                  </a:lnTo>
                  <a:lnTo>
                    <a:pt x="202" y="67"/>
                  </a:lnTo>
                  <a:lnTo>
                    <a:pt x="205" y="77"/>
                  </a:lnTo>
                  <a:lnTo>
                    <a:pt x="208" y="86"/>
                  </a:lnTo>
                  <a:lnTo>
                    <a:pt x="210" y="96"/>
                  </a:lnTo>
                  <a:lnTo>
                    <a:pt x="212" y="106"/>
                  </a:lnTo>
                  <a:lnTo>
                    <a:pt x="214" y="116"/>
                  </a:lnTo>
                  <a:lnTo>
                    <a:pt x="215" y="126"/>
                  </a:lnTo>
                  <a:lnTo>
                    <a:pt x="216" y="136"/>
                  </a:lnTo>
                  <a:lnTo>
                    <a:pt x="217" y="147"/>
                  </a:lnTo>
                  <a:lnTo>
                    <a:pt x="217" y="157"/>
                  </a:lnTo>
                  <a:lnTo>
                    <a:pt x="217" y="169"/>
                  </a:lnTo>
                  <a:lnTo>
                    <a:pt x="216" y="181"/>
                  </a:lnTo>
                  <a:lnTo>
                    <a:pt x="215" y="192"/>
                  </a:lnTo>
                  <a:lnTo>
                    <a:pt x="214" y="202"/>
                  </a:lnTo>
                  <a:lnTo>
                    <a:pt x="212" y="213"/>
                  </a:lnTo>
                  <a:lnTo>
                    <a:pt x="209" y="223"/>
                  </a:lnTo>
                  <a:lnTo>
                    <a:pt x="207" y="233"/>
                  </a:lnTo>
                  <a:lnTo>
                    <a:pt x="203" y="242"/>
                  </a:lnTo>
                  <a:lnTo>
                    <a:pt x="200" y="252"/>
                  </a:lnTo>
                  <a:lnTo>
                    <a:pt x="196" y="261"/>
                  </a:lnTo>
                  <a:lnTo>
                    <a:pt x="192" y="268"/>
                  </a:lnTo>
                  <a:lnTo>
                    <a:pt x="187" y="276"/>
                  </a:lnTo>
                  <a:lnTo>
                    <a:pt x="182" y="283"/>
                  </a:lnTo>
                  <a:lnTo>
                    <a:pt x="176" y="289"/>
                  </a:lnTo>
                  <a:lnTo>
                    <a:pt x="169" y="295"/>
                  </a:lnTo>
                  <a:lnTo>
                    <a:pt x="163" y="300"/>
                  </a:lnTo>
                  <a:lnTo>
                    <a:pt x="157" y="305"/>
                  </a:lnTo>
                  <a:lnTo>
                    <a:pt x="150" y="309"/>
                  </a:lnTo>
                  <a:lnTo>
                    <a:pt x="143" y="313"/>
                  </a:lnTo>
                  <a:lnTo>
                    <a:pt x="137" y="315"/>
                  </a:lnTo>
                  <a:lnTo>
                    <a:pt x="130" y="318"/>
                  </a:lnTo>
                  <a:lnTo>
                    <a:pt x="123" y="319"/>
                  </a:lnTo>
                  <a:lnTo>
                    <a:pt x="116" y="320"/>
                  </a:lnTo>
                  <a:lnTo>
                    <a:pt x="109" y="320"/>
                  </a:lnTo>
                  <a:lnTo>
                    <a:pt x="104" y="320"/>
                  </a:lnTo>
                  <a:lnTo>
                    <a:pt x="98" y="319"/>
                  </a:lnTo>
                  <a:lnTo>
                    <a:pt x="93" y="319"/>
                  </a:lnTo>
                  <a:lnTo>
                    <a:pt x="88" y="318"/>
                  </a:lnTo>
                  <a:lnTo>
                    <a:pt x="83" y="315"/>
                  </a:lnTo>
                  <a:lnTo>
                    <a:pt x="79" y="314"/>
                  </a:lnTo>
                  <a:lnTo>
                    <a:pt x="75" y="312"/>
                  </a:lnTo>
                  <a:lnTo>
                    <a:pt x="70" y="309"/>
                  </a:lnTo>
                  <a:lnTo>
                    <a:pt x="66" y="307"/>
                  </a:lnTo>
                  <a:lnTo>
                    <a:pt x="62" y="303"/>
                  </a:lnTo>
                  <a:lnTo>
                    <a:pt x="59" y="300"/>
                  </a:lnTo>
                  <a:lnTo>
                    <a:pt x="55" y="297"/>
                  </a:lnTo>
                  <a:lnTo>
                    <a:pt x="52" y="293"/>
                  </a:lnTo>
                  <a:lnTo>
                    <a:pt x="49" y="289"/>
                  </a:lnTo>
                  <a:lnTo>
                    <a:pt x="46" y="285"/>
                  </a:lnTo>
                  <a:lnTo>
                    <a:pt x="43" y="282"/>
                  </a:lnTo>
                  <a:lnTo>
                    <a:pt x="43" y="431"/>
                  </a:lnTo>
                  <a:lnTo>
                    <a:pt x="0" y="431"/>
                  </a:lnTo>
                  <a:close/>
                  <a:moveTo>
                    <a:pt x="39" y="162"/>
                  </a:moveTo>
                  <a:lnTo>
                    <a:pt x="39" y="176"/>
                  </a:lnTo>
                  <a:lnTo>
                    <a:pt x="40" y="189"/>
                  </a:lnTo>
                  <a:lnTo>
                    <a:pt x="42" y="202"/>
                  </a:lnTo>
                  <a:lnTo>
                    <a:pt x="44" y="213"/>
                  </a:lnTo>
                  <a:lnTo>
                    <a:pt x="47" y="223"/>
                  </a:lnTo>
                  <a:lnTo>
                    <a:pt x="50" y="233"/>
                  </a:lnTo>
                  <a:lnTo>
                    <a:pt x="54" y="242"/>
                  </a:lnTo>
                  <a:lnTo>
                    <a:pt x="58" y="249"/>
                  </a:lnTo>
                  <a:lnTo>
                    <a:pt x="63" y="256"/>
                  </a:lnTo>
                  <a:lnTo>
                    <a:pt x="69" y="262"/>
                  </a:lnTo>
                  <a:lnTo>
                    <a:pt x="74" y="267"/>
                  </a:lnTo>
                  <a:lnTo>
                    <a:pt x="80" y="271"/>
                  </a:lnTo>
                  <a:lnTo>
                    <a:pt x="86" y="273"/>
                  </a:lnTo>
                  <a:lnTo>
                    <a:pt x="92" y="276"/>
                  </a:lnTo>
                  <a:lnTo>
                    <a:pt x="98" y="277"/>
                  </a:lnTo>
                  <a:lnTo>
                    <a:pt x="106" y="278"/>
                  </a:lnTo>
                  <a:lnTo>
                    <a:pt x="113" y="277"/>
                  </a:lnTo>
                  <a:lnTo>
                    <a:pt x="119" y="276"/>
                  </a:lnTo>
                  <a:lnTo>
                    <a:pt x="126" y="273"/>
                  </a:lnTo>
                  <a:lnTo>
                    <a:pt x="132" y="271"/>
                  </a:lnTo>
                  <a:lnTo>
                    <a:pt x="138" y="266"/>
                  </a:lnTo>
                  <a:lnTo>
                    <a:pt x="143" y="261"/>
                  </a:lnTo>
                  <a:lnTo>
                    <a:pt x="149" y="256"/>
                  </a:lnTo>
                  <a:lnTo>
                    <a:pt x="154" y="248"/>
                  </a:lnTo>
                  <a:lnTo>
                    <a:pt x="158" y="241"/>
                  </a:lnTo>
                  <a:lnTo>
                    <a:pt x="162" y="232"/>
                  </a:lnTo>
                  <a:lnTo>
                    <a:pt x="166" y="222"/>
                  </a:lnTo>
                  <a:lnTo>
                    <a:pt x="168" y="211"/>
                  </a:lnTo>
                  <a:lnTo>
                    <a:pt x="172" y="199"/>
                  </a:lnTo>
                  <a:lnTo>
                    <a:pt x="173" y="186"/>
                  </a:lnTo>
                  <a:lnTo>
                    <a:pt x="174" y="172"/>
                  </a:lnTo>
                  <a:lnTo>
                    <a:pt x="174" y="157"/>
                  </a:lnTo>
                  <a:lnTo>
                    <a:pt x="174" y="143"/>
                  </a:lnTo>
                  <a:lnTo>
                    <a:pt x="173" y="130"/>
                  </a:lnTo>
                  <a:lnTo>
                    <a:pt x="172" y="117"/>
                  </a:lnTo>
                  <a:lnTo>
                    <a:pt x="169" y="106"/>
                  </a:lnTo>
                  <a:lnTo>
                    <a:pt x="166" y="96"/>
                  </a:lnTo>
                  <a:lnTo>
                    <a:pt x="163" y="86"/>
                  </a:lnTo>
                  <a:lnTo>
                    <a:pt x="159" y="77"/>
                  </a:lnTo>
                  <a:lnTo>
                    <a:pt x="154" y="70"/>
                  </a:lnTo>
                  <a:lnTo>
                    <a:pt x="149" y="62"/>
                  </a:lnTo>
                  <a:lnTo>
                    <a:pt x="144" y="56"/>
                  </a:lnTo>
                  <a:lnTo>
                    <a:pt x="139" y="51"/>
                  </a:lnTo>
                  <a:lnTo>
                    <a:pt x="133" y="47"/>
                  </a:lnTo>
                  <a:lnTo>
                    <a:pt x="127" y="45"/>
                  </a:lnTo>
                  <a:lnTo>
                    <a:pt x="121" y="42"/>
                  </a:lnTo>
                  <a:lnTo>
                    <a:pt x="114" y="41"/>
                  </a:lnTo>
                  <a:lnTo>
                    <a:pt x="108" y="40"/>
                  </a:lnTo>
                  <a:lnTo>
                    <a:pt x="101" y="41"/>
                  </a:lnTo>
                  <a:lnTo>
                    <a:pt x="94" y="42"/>
                  </a:lnTo>
                  <a:lnTo>
                    <a:pt x="88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57"/>
                  </a:lnTo>
                  <a:lnTo>
                    <a:pt x="65" y="63"/>
                  </a:lnTo>
                  <a:lnTo>
                    <a:pt x="60" y="71"/>
                  </a:lnTo>
                  <a:lnTo>
                    <a:pt x="55" y="80"/>
                  </a:lnTo>
                  <a:lnTo>
                    <a:pt x="51" y="88"/>
                  </a:lnTo>
                  <a:lnTo>
                    <a:pt x="47" y="98"/>
                  </a:lnTo>
                  <a:lnTo>
                    <a:pt x="44" y="110"/>
                  </a:lnTo>
                  <a:lnTo>
                    <a:pt x="42" y="121"/>
                  </a:lnTo>
                  <a:lnTo>
                    <a:pt x="40" y="133"/>
                  </a:lnTo>
                  <a:lnTo>
                    <a:pt x="40" y="147"/>
                  </a:lnTo>
                  <a:lnTo>
                    <a:pt x="39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62040" y="2763720"/>
              <a:ext cx="71640" cy="123840"/>
            </a:xfrm>
            <a:custGeom>
              <a:avLst/>
              <a:gdLst/>
              <a:ahLst/>
              <a:rect l="l" t="t" r="r" b="b"/>
              <a:pathLst>
                <a:path w="136" h="313">
                  <a:moveTo>
                    <a:pt x="0" y="313"/>
                  </a:moveTo>
                  <a:lnTo>
                    <a:pt x="0" y="6"/>
                  </a:lnTo>
                  <a:lnTo>
                    <a:pt x="37" y="6"/>
                  </a:lnTo>
                  <a:lnTo>
                    <a:pt x="37" y="53"/>
                  </a:lnTo>
                  <a:lnTo>
                    <a:pt x="41" y="45"/>
                  </a:lnTo>
                  <a:lnTo>
                    <a:pt x="44" y="38"/>
                  </a:lnTo>
                  <a:lnTo>
                    <a:pt x="49" y="31"/>
                  </a:lnTo>
                  <a:lnTo>
                    <a:pt x="52" y="26"/>
                  </a:lnTo>
                  <a:lnTo>
                    <a:pt x="55" y="21"/>
                  </a:lnTo>
                  <a:lnTo>
                    <a:pt x="59" y="16"/>
                  </a:lnTo>
                  <a:lnTo>
                    <a:pt x="62" y="12"/>
                  </a:lnTo>
                  <a:lnTo>
                    <a:pt x="65" y="10"/>
                  </a:lnTo>
                  <a:lnTo>
                    <a:pt x="68" y="7"/>
                  </a:lnTo>
                  <a:lnTo>
                    <a:pt x="71" y="5"/>
                  </a:lnTo>
                  <a:lnTo>
                    <a:pt x="74" y="3"/>
                  </a:lnTo>
                  <a:lnTo>
                    <a:pt x="78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2"/>
                  </a:lnTo>
                  <a:lnTo>
                    <a:pt x="113" y="3"/>
                  </a:lnTo>
                  <a:lnTo>
                    <a:pt x="118" y="6"/>
                  </a:lnTo>
                  <a:lnTo>
                    <a:pt x="125" y="8"/>
                  </a:lnTo>
                  <a:lnTo>
                    <a:pt x="130" y="12"/>
                  </a:lnTo>
                  <a:lnTo>
                    <a:pt x="136" y="16"/>
                  </a:lnTo>
                  <a:lnTo>
                    <a:pt x="120" y="65"/>
                  </a:lnTo>
                  <a:lnTo>
                    <a:pt x="116" y="62"/>
                  </a:lnTo>
                  <a:lnTo>
                    <a:pt x="113" y="60"/>
                  </a:lnTo>
                  <a:lnTo>
                    <a:pt x="109" y="57"/>
                  </a:lnTo>
                  <a:lnTo>
                    <a:pt x="105" y="56"/>
                  </a:lnTo>
                  <a:lnTo>
                    <a:pt x="101" y="55"/>
                  </a:lnTo>
                  <a:lnTo>
                    <a:pt x="97" y="53"/>
                  </a:lnTo>
                  <a:lnTo>
                    <a:pt x="93" y="53"/>
                  </a:lnTo>
                  <a:lnTo>
                    <a:pt x="90" y="53"/>
                  </a:lnTo>
                  <a:lnTo>
                    <a:pt x="86" y="53"/>
                  </a:lnTo>
                  <a:lnTo>
                    <a:pt x="83" y="53"/>
                  </a:lnTo>
                  <a:lnTo>
                    <a:pt x="80" y="55"/>
                  </a:lnTo>
                  <a:lnTo>
                    <a:pt x="77" y="56"/>
                  </a:lnTo>
                  <a:lnTo>
                    <a:pt x="74" y="57"/>
                  </a:lnTo>
                  <a:lnTo>
                    <a:pt x="71" y="58"/>
                  </a:lnTo>
                  <a:lnTo>
                    <a:pt x="68" y="61"/>
                  </a:lnTo>
                  <a:lnTo>
                    <a:pt x="65" y="63"/>
                  </a:lnTo>
                  <a:lnTo>
                    <a:pt x="62" y="66"/>
                  </a:lnTo>
                  <a:lnTo>
                    <a:pt x="60" y="70"/>
                  </a:lnTo>
                  <a:lnTo>
                    <a:pt x="58" y="72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2" y="83"/>
                  </a:lnTo>
                  <a:lnTo>
                    <a:pt x="51" y="87"/>
                  </a:lnTo>
                  <a:lnTo>
                    <a:pt x="50" y="92"/>
                  </a:lnTo>
                  <a:lnTo>
                    <a:pt x="47" y="98"/>
                  </a:lnTo>
                  <a:lnTo>
                    <a:pt x="45" y="106"/>
                  </a:lnTo>
                  <a:lnTo>
                    <a:pt x="44" y="113"/>
                  </a:lnTo>
                  <a:lnTo>
                    <a:pt x="43" y="121"/>
                  </a:lnTo>
                  <a:lnTo>
                    <a:pt x="43" y="128"/>
                  </a:lnTo>
                  <a:lnTo>
                    <a:pt x="42" y="137"/>
                  </a:lnTo>
                  <a:lnTo>
                    <a:pt x="42" y="144"/>
                  </a:lnTo>
                  <a:lnTo>
                    <a:pt x="42" y="152"/>
                  </a:lnTo>
                  <a:lnTo>
                    <a:pt x="42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38360" y="2763720"/>
              <a:ext cx="123840" cy="127080"/>
            </a:xfrm>
            <a:custGeom>
              <a:avLst/>
              <a:gdLst/>
              <a:ahLst/>
              <a:rect l="l" t="t" r="r" b="b"/>
              <a:pathLst>
                <a:path w="233" h="320">
                  <a:moveTo>
                    <a:pt x="0" y="159"/>
                  </a:moveTo>
                  <a:lnTo>
                    <a:pt x="0" y="139"/>
                  </a:lnTo>
                  <a:lnTo>
                    <a:pt x="2" y="120"/>
                  </a:lnTo>
                  <a:lnTo>
                    <a:pt x="5" y="102"/>
                  </a:lnTo>
                  <a:lnTo>
                    <a:pt x="9" y="86"/>
                  </a:lnTo>
                  <a:lnTo>
                    <a:pt x="15" y="71"/>
                  </a:lnTo>
                  <a:lnTo>
                    <a:pt x="21" y="57"/>
                  </a:lnTo>
                  <a:lnTo>
                    <a:pt x="29" y="45"/>
                  </a:lnTo>
                  <a:lnTo>
                    <a:pt x="38" y="33"/>
                  </a:lnTo>
                  <a:lnTo>
                    <a:pt x="46" y="26"/>
                  </a:lnTo>
                  <a:lnTo>
                    <a:pt x="56" y="18"/>
                  </a:lnTo>
                  <a:lnTo>
                    <a:pt x="65" y="12"/>
                  </a:lnTo>
                  <a:lnTo>
                    <a:pt x="74" y="7"/>
                  </a:lnTo>
                  <a:lnTo>
                    <a:pt x="84" y="5"/>
                  </a:lnTo>
                  <a:lnTo>
                    <a:pt x="94" y="1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1" y="2"/>
                  </a:lnTo>
                  <a:lnTo>
                    <a:pt x="153" y="5"/>
                  </a:lnTo>
                  <a:lnTo>
                    <a:pt x="163" y="10"/>
                  </a:lnTo>
                  <a:lnTo>
                    <a:pt x="173" y="16"/>
                  </a:lnTo>
                  <a:lnTo>
                    <a:pt x="183" y="22"/>
                  </a:lnTo>
                  <a:lnTo>
                    <a:pt x="192" y="31"/>
                  </a:lnTo>
                  <a:lnTo>
                    <a:pt x="201" y="41"/>
                  </a:lnTo>
                  <a:lnTo>
                    <a:pt x="209" y="52"/>
                  </a:lnTo>
                  <a:lnTo>
                    <a:pt x="215" y="63"/>
                  </a:lnTo>
                  <a:lnTo>
                    <a:pt x="221" y="76"/>
                  </a:lnTo>
                  <a:lnTo>
                    <a:pt x="225" y="91"/>
                  </a:lnTo>
                  <a:lnTo>
                    <a:pt x="229" y="105"/>
                  </a:lnTo>
                  <a:lnTo>
                    <a:pt x="231" y="121"/>
                  </a:lnTo>
                  <a:lnTo>
                    <a:pt x="233" y="138"/>
                  </a:lnTo>
                  <a:lnTo>
                    <a:pt x="233" y="156"/>
                  </a:lnTo>
                  <a:lnTo>
                    <a:pt x="233" y="169"/>
                  </a:lnTo>
                  <a:lnTo>
                    <a:pt x="232" y="183"/>
                  </a:lnTo>
                  <a:lnTo>
                    <a:pt x="231" y="197"/>
                  </a:lnTo>
                  <a:lnTo>
                    <a:pt x="230" y="208"/>
                  </a:lnTo>
                  <a:lnTo>
                    <a:pt x="228" y="219"/>
                  </a:lnTo>
                  <a:lnTo>
                    <a:pt x="225" y="231"/>
                  </a:lnTo>
                  <a:lnTo>
                    <a:pt x="222" y="239"/>
                  </a:lnTo>
                  <a:lnTo>
                    <a:pt x="219" y="249"/>
                  </a:lnTo>
                  <a:lnTo>
                    <a:pt x="215" y="257"/>
                  </a:lnTo>
                  <a:lnTo>
                    <a:pt x="211" y="264"/>
                  </a:lnTo>
                  <a:lnTo>
                    <a:pt x="207" y="272"/>
                  </a:lnTo>
                  <a:lnTo>
                    <a:pt x="202" y="279"/>
                  </a:lnTo>
                  <a:lnTo>
                    <a:pt x="196" y="285"/>
                  </a:lnTo>
                  <a:lnTo>
                    <a:pt x="189" y="292"/>
                  </a:lnTo>
                  <a:lnTo>
                    <a:pt x="183" y="297"/>
                  </a:lnTo>
                  <a:lnTo>
                    <a:pt x="177" y="302"/>
                  </a:lnTo>
                  <a:lnTo>
                    <a:pt x="170" y="305"/>
                  </a:lnTo>
                  <a:lnTo>
                    <a:pt x="163" y="309"/>
                  </a:lnTo>
                  <a:lnTo>
                    <a:pt x="156" y="313"/>
                  </a:lnTo>
                  <a:lnTo>
                    <a:pt x="148" y="315"/>
                  </a:lnTo>
                  <a:lnTo>
                    <a:pt x="141" y="318"/>
                  </a:lnTo>
                  <a:lnTo>
                    <a:pt x="133" y="319"/>
                  </a:lnTo>
                  <a:lnTo>
                    <a:pt x="125" y="320"/>
                  </a:lnTo>
                  <a:lnTo>
                    <a:pt x="116" y="320"/>
                  </a:lnTo>
                  <a:lnTo>
                    <a:pt x="104" y="319"/>
                  </a:lnTo>
                  <a:lnTo>
                    <a:pt x="92" y="318"/>
                  </a:lnTo>
                  <a:lnTo>
                    <a:pt x="80" y="314"/>
                  </a:lnTo>
                  <a:lnTo>
                    <a:pt x="69" y="310"/>
                  </a:lnTo>
                  <a:lnTo>
                    <a:pt x="59" y="304"/>
                  </a:lnTo>
                  <a:lnTo>
                    <a:pt x="50" y="297"/>
                  </a:lnTo>
                  <a:lnTo>
                    <a:pt x="40" y="288"/>
                  </a:lnTo>
                  <a:lnTo>
                    <a:pt x="32" y="279"/>
                  </a:lnTo>
                  <a:lnTo>
                    <a:pt x="24" y="268"/>
                  </a:lnTo>
                  <a:lnTo>
                    <a:pt x="18" y="256"/>
                  </a:lnTo>
                  <a:lnTo>
                    <a:pt x="12" y="243"/>
                  </a:lnTo>
                  <a:lnTo>
                    <a:pt x="8" y="228"/>
                  </a:lnTo>
                  <a:lnTo>
                    <a:pt x="4" y="213"/>
                  </a:lnTo>
                  <a:lnTo>
                    <a:pt x="2" y="197"/>
                  </a:lnTo>
                  <a:lnTo>
                    <a:pt x="0" y="178"/>
                  </a:lnTo>
                  <a:lnTo>
                    <a:pt x="0" y="159"/>
                  </a:lnTo>
                  <a:close/>
                  <a:moveTo>
                    <a:pt x="43" y="159"/>
                  </a:moveTo>
                  <a:lnTo>
                    <a:pt x="43" y="174"/>
                  </a:lnTo>
                  <a:lnTo>
                    <a:pt x="44" y="187"/>
                  </a:lnTo>
                  <a:lnTo>
                    <a:pt x="46" y="199"/>
                  </a:lnTo>
                  <a:lnTo>
                    <a:pt x="49" y="212"/>
                  </a:lnTo>
                  <a:lnTo>
                    <a:pt x="52" y="222"/>
                  </a:lnTo>
                  <a:lnTo>
                    <a:pt x="55" y="232"/>
                  </a:lnTo>
                  <a:lnTo>
                    <a:pt x="59" y="241"/>
                  </a:lnTo>
                  <a:lnTo>
                    <a:pt x="64" y="248"/>
                  </a:lnTo>
                  <a:lnTo>
                    <a:pt x="70" y="256"/>
                  </a:lnTo>
                  <a:lnTo>
                    <a:pt x="75" y="261"/>
                  </a:lnTo>
                  <a:lnTo>
                    <a:pt x="81" y="266"/>
                  </a:lnTo>
                  <a:lnTo>
                    <a:pt x="88" y="271"/>
                  </a:lnTo>
                  <a:lnTo>
                    <a:pt x="94" y="273"/>
                  </a:lnTo>
                  <a:lnTo>
                    <a:pt x="101" y="276"/>
                  </a:lnTo>
                  <a:lnTo>
                    <a:pt x="109" y="277"/>
                  </a:lnTo>
                  <a:lnTo>
                    <a:pt x="116" y="278"/>
                  </a:lnTo>
                  <a:lnTo>
                    <a:pt x="125" y="277"/>
                  </a:lnTo>
                  <a:lnTo>
                    <a:pt x="132" y="276"/>
                  </a:lnTo>
                  <a:lnTo>
                    <a:pt x="139" y="273"/>
                  </a:lnTo>
                  <a:lnTo>
                    <a:pt x="146" y="271"/>
                  </a:lnTo>
                  <a:lnTo>
                    <a:pt x="152" y="266"/>
                  </a:lnTo>
                  <a:lnTo>
                    <a:pt x="158" y="261"/>
                  </a:lnTo>
                  <a:lnTo>
                    <a:pt x="164" y="256"/>
                  </a:lnTo>
                  <a:lnTo>
                    <a:pt x="169" y="248"/>
                  </a:lnTo>
                  <a:lnTo>
                    <a:pt x="174" y="241"/>
                  </a:lnTo>
                  <a:lnTo>
                    <a:pt x="178" y="232"/>
                  </a:lnTo>
                  <a:lnTo>
                    <a:pt x="181" y="222"/>
                  </a:lnTo>
                  <a:lnTo>
                    <a:pt x="184" y="211"/>
                  </a:lnTo>
                  <a:lnTo>
                    <a:pt x="187" y="199"/>
                  </a:lnTo>
                  <a:lnTo>
                    <a:pt x="188" y="187"/>
                  </a:lnTo>
                  <a:lnTo>
                    <a:pt x="189" y="173"/>
                  </a:lnTo>
                  <a:lnTo>
                    <a:pt x="189" y="158"/>
                  </a:lnTo>
                  <a:lnTo>
                    <a:pt x="189" y="144"/>
                  </a:lnTo>
                  <a:lnTo>
                    <a:pt x="188" y="131"/>
                  </a:lnTo>
                  <a:lnTo>
                    <a:pt x="187" y="120"/>
                  </a:lnTo>
                  <a:lnTo>
                    <a:pt x="184" y="108"/>
                  </a:lnTo>
                  <a:lnTo>
                    <a:pt x="181" y="97"/>
                  </a:lnTo>
                  <a:lnTo>
                    <a:pt x="178" y="88"/>
                  </a:lnTo>
                  <a:lnTo>
                    <a:pt x="174" y="80"/>
                  </a:lnTo>
                  <a:lnTo>
                    <a:pt x="169" y="72"/>
                  </a:lnTo>
                  <a:lnTo>
                    <a:pt x="163" y="65"/>
                  </a:lnTo>
                  <a:lnTo>
                    <a:pt x="158" y="58"/>
                  </a:lnTo>
                  <a:lnTo>
                    <a:pt x="152" y="53"/>
                  </a:lnTo>
                  <a:lnTo>
                    <a:pt x="145" y="50"/>
                  </a:lnTo>
                  <a:lnTo>
                    <a:pt x="139" y="47"/>
                  </a:lnTo>
                  <a:lnTo>
                    <a:pt x="132" y="45"/>
                  </a:lnTo>
                  <a:lnTo>
                    <a:pt x="125" y="43"/>
                  </a:lnTo>
                  <a:lnTo>
                    <a:pt x="116" y="42"/>
                  </a:lnTo>
                  <a:lnTo>
                    <a:pt x="109" y="43"/>
                  </a:lnTo>
                  <a:lnTo>
                    <a:pt x="101" y="45"/>
                  </a:lnTo>
                  <a:lnTo>
                    <a:pt x="94" y="47"/>
                  </a:lnTo>
                  <a:lnTo>
                    <a:pt x="88" y="50"/>
                  </a:lnTo>
                  <a:lnTo>
                    <a:pt x="81" y="53"/>
                  </a:lnTo>
                  <a:lnTo>
                    <a:pt x="75" y="58"/>
                  </a:lnTo>
                  <a:lnTo>
                    <a:pt x="70" y="65"/>
                  </a:lnTo>
                  <a:lnTo>
                    <a:pt x="64" y="72"/>
                  </a:lnTo>
                  <a:lnTo>
                    <a:pt x="59" y="80"/>
                  </a:lnTo>
                  <a:lnTo>
                    <a:pt x="55" y="88"/>
                  </a:lnTo>
                  <a:lnTo>
                    <a:pt x="52" y="98"/>
                  </a:lnTo>
                  <a:lnTo>
                    <a:pt x="49" y="108"/>
                  </a:lnTo>
                  <a:lnTo>
                    <a:pt x="46" y="120"/>
                  </a:lnTo>
                  <a:lnTo>
                    <a:pt x="44" y="132"/>
                  </a:lnTo>
                  <a:lnTo>
                    <a:pt x="43" y="146"/>
                  </a:lnTo>
                  <a:lnTo>
                    <a:pt x="43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74800" y="2765520"/>
              <a:ext cx="122400" cy="122040"/>
            </a:xfrm>
            <a:custGeom>
              <a:avLst/>
              <a:gdLst/>
              <a:ahLst/>
              <a:rect l="l" t="t" r="r" b="b"/>
              <a:pathLst>
                <a:path w="230" h="307">
                  <a:moveTo>
                    <a:pt x="96" y="307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99" y="185"/>
                  </a:lnTo>
                  <a:lnTo>
                    <a:pt x="101" y="192"/>
                  </a:lnTo>
                  <a:lnTo>
                    <a:pt x="103" y="200"/>
                  </a:lnTo>
                  <a:lnTo>
                    <a:pt x="105" y="207"/>
                  </a:lnTo>
                  <a:lnTo>
                    <a:pt x="107" y="215"/>
                  </a:lnTo>
                  <a:lnTo>
                    <a:pt x="109" y="222"/>
                  </a:lnTo>
                  <a:lnTo>
                    <a:pt x="111" y="230"/>
                  </a:lnTo>
                  <a:lnTo>
                    <a:pt x="113" y="238"/>
                  </a:lnTo>
                  <a:lnTo>
                    <a:pt x="115" y="246"/>
                  </a:lnTo>
                  <a:lnTo>
                    <a:pt x="116" y="240"/>
                  </a:lnTo>
                  <a:lnTo>
                    <a:pt x="118" y="233"/>
                  </a:lnTo>
                  <a:lnTo>
                    <a:pt x="119" y="227"/>
                  </a:lnTo>
                  <a:lnTo>
                    <a:pt x="121" y="220"/>
                  </a:lnTo>
                  <a:lnTo>
                    <a:pt x="123" y="212"/>
                  </a:lnTo>
                  <a:lnTo>
                    <a:pt x="125" y="205"/>
                  </a:lnTo>
                  <a:lnTo>
                    <a:pt x="128" y="196"/>
                  </a:lnTo>
                  <a:lnTo>
                    <a:pt x="130" y="187"/>
                  </a:lnTo>
                  <a:lnTo>
                    <a:pt x="186" y="0"/>
                  </a:lnTo>
                  <a:lnTo>
                    <a:pt x="230" y="0"/>
                  </a:lnTo>
                  <a:lnTo>
                    <a:pt x="134" y="307"/>
                  </a:lnTo>
                  <a:lnTo>
                    <a:pt x="96" y="3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3320" y="2865600"/>
              <a:ext cx="25560" cy="21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719440"/>
              <a:ext cx="114480" cy="171360"/>
            </a:xfrm>
            <a:custGeom>
              <a:avLst/>
              <a:gdLst/>
              <a:ahLst/>
              <a:rect l="l" t="t" r="r" b="b"/>
              <a:pathLst>
                <a:path w="217" h="430">
                  <a:moveTo>
                    <a:pt x="178" y="423"/>
                  </a:moveTo>
                  <a:lnTo>
                    <a:pt x="178" y="384"/>
                  </a:lnTo>
                  <a:lnTo>
                    <a:pt x="171" y="395"/>
                  </a:lnTo>
                  <a:lnTo>
                    <a:pt x="164" y="404"/>
                  </a:lnTo>
                  <a:lnTo>
                    <a:pt x="156" y="413"/>
                  </a:lnTo>
                  <a:lnTo>
                    <a:pt x="148" y="419"/>
                  </a:lnTo>
                  <a:lnTo>
                    <a:pt x="139" y="424"/>
                  </a:lnTo>
                  <a:lnTo>
                    <a:pt x="129" y="428"/>
                  </a:lnTo>
                  <a:lnTo>
                    <a:pt x="119" y="429"/>
                  </a:lnTo>
                  <a:lnTo>
                    <a:pt x="108" y="430"/>
                  </a:lnTo>
                  <a:lnTo>
                    <a:pt x="100" y="430"/>
                  </a:lnTo>
                  <a:lnTo>
                    <a:pt x="93" y="429"/>
                  </a:lnTo>
                  <a:lnTo>
                    <a:pt x="86" y="428"/>
                  </a:lnTo>
                  <a:lnTo>
                    <a:pt x="79" y="425"/>
                  </a:lnTo>
                  <a:lnTo>
                    <a:pt x="72" y="423"/>
                  </a:lnTo>
                  <a:lnTo>
                    <a:pt x="66" y="419"/>
                  </a:lnTo>
                  <a:lnTo>
                    <a:pt x="59" y="414"/>
                  </a:lnTo>
                  <a:lnTo>
                    <a:pt x="53" y="410"/>
                  </a:lnTo>
                  <a:lnTo>
                    <a:pt x="47" y="404"/>
                  </a:lnTo>
                  <a:lnTo>
                    <a:pt x="41" y="399"/>
                  </a:lnTo>
                  <a:lnTo>
                    <a:pt x="36" y="393"/>
                  </a:lnTo>
                  <a:lnTo>
                    <a:pt x="30" y="386"/>
                  </a:lnTo>
                  <a:lnTo>
                    <a:pt x="25" y="378"/>
                  </a:lnTo>
                  <a:lnTo>
                    <a:pt x="21" y="371"/>
                  </a:lnTo>
                  <a:lnTo>
                    <a:pt x="17" y="362"/>
                  </a:lnTo>
                  <a:lnTo>
                    <a:pt x="14" y="353"/>
                  </a:lnTo>
                  <a:lnTo>
                    <a:pt x="10" y="344"/>
                  </a:lnTo>
                  <a:lnTo>
                    <a:pt x="8" y="334"/>
                  </a:lnTo>
                  <a:lnTo>
                    <a:pt x="5" y="324"/>
                  </a:lnTo>
                  <a:lnTo>
                    <a:pt x="3" y="314"/>
                  </a:lnTo>
                  <a:lnTo>
                    <a:pt x="2" y="304"/>
                  </a:lnTo>
                  <a:lnTo>
                    <a:pt x="1" y="293"/>
                  </a:lnTo>
                  <a:lnTo>
                    <a:pt x="0" y="282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1" y="248"/>
                  </a:lnTo>
                  <a:lnTo>
                    <a:pt x="2" y="237"/>
                  </a:lnTo>
                  <a:lnTo>
                    <a:pt x="3" y="226"/>
                  </a:lnTo>
                  <a:lnTo>
                    <a:pt x="5" y="216"/>
                  </a:lnTo>
                  <a:lnTo>
                    <a:pt x="7" y="206"/>
                  </a:lnTo>
                  <a:lnTo>
                    <a:pt x="9" y="196"/>
                  </a:lnTo>
                  <a:lnTo>
                    <a:pt x="12" y="187"/>
                  </a:lnTo>
                  <a:lnTo>
                    <a:pt x="16" y="177"/>
                  </a:lnTo>
                  <a:lnTo>
                    <a:pt x="19" y="170"/>
                  </a:lnTo>
                  <a:lnTo>
                    <a:pt x="23" y="161"/>
                  </a:lnTo>
                  <a:lnTo>
                    <a:pt x="28" y="153"/>
                  </a:lnTo>
                  <a:lnTo>
                    <a:pt x="34" y="147"/>
                  </a:lnTo>
                  <a:lnTo>
                    <a:pt x="39" y="141"/>
                  </a:lnTo>
                  <a:lnTo>
                    <a:pt x="44" y="135"/>
                  </a:lnTo>
                  <a:lnTo>
                    <a:pt x="50" y="130"/>
                  </a:lnTo>
                  <a:lnTo>
                    <a:pt x="56" y="125"/>
                  </a:lnTo>
                  <a:lnTo>
                    <a:pt x="63" y="121"/>
                  </a:lnTo>
                  <a:lnTo>
                    <a:pt x="69" y="117"/>
                  </a:lnTo>
                  <a:lnTo>
                    <a:pt x="76" y="115"/>
                  </a:lnTo>
                  <a:lnTo>
                    <a:pt x="83" y="112"/>
                  </a:lnTo>
                  <a:lnTo>
                    <a:pt x="90" y="111"/>
                  </a:lnTo>
                  <a:lnTo>
                    <a:pt x="98" y="110"/>
                  </a:lnTo>
                  <a:lnTo>
                    <a:pt x="106" y="110"/>
                  </a:lnTo>
                  <a:lnTo>
                    <a:pt x="112" y="110"/>
                  </a:lnTo>
                  <a:lnTo>
                    <a:pt x="117" y="110"/>
                  </a:lnTo>
                  <a:lnTo>
                    <a:pt x="122" y="111"/>
                  </a:lnTo>
                  <a:lnTo>
                    <a:pt x="127" y="112"/>
                  </a:lnTo>
                  <a:lnTo>
                    <a:pt x="132" y="113"/>
                  </a:lnTo>
                  <a:lnTo>
                    <a:pt x="137" y="116"/>
                  </a:lnTo>
                  <a:lnTo>
                    <a:pt x="141" y="118"/>
                  </a:lnTo>
                  <a:lnTo>
                    <a:pt x="146" y="121"/>
                  </a:lnTo>
                  <a:lnTo>
                    <a:pt x="150" y="123"/>
                  </a:lnTo>
                  <a:lnTo>
                    <a:pt x="154" y="127"/>
                  </a:lnTo>
                  <a:lnTo>
                    <a:pt x="158" y="131"/>
                  </a:lnTo>
                  <a:lnTo>
                    <a:pt x="162" y="135"/>
                  </a:lnTo>
                  <a:lnTo>
                    <a:pt x="165" y="138"/>
                  </a:lnTo>
                  <a:lnTo>
                    <a:pt x="168" y="142"/>
                  </a:lnTo>
                  <a:lnTo>
                    <a:pt x="171" y="147"/>
                  </a:lnTo>
                  <a:lnTo>
                    <a:pt x="174" y="151"/>
                  </a:lnTo>
                  <a:lnTo>
                    <a:pt x="174" y="0"/>
                  </a:lnTo>
                  <a:lnTo>
                    <a:pt x="217" y="0"/>
                  </a:lnTo>
                  <a:lnTo>
                    <a:pt x="217" y="423"/>
                  </a:lnTo>
                  <a:lnTo>
                    <a:pt x="178" y="423"/>
                  </a:lnTo>
                  <a:close/>
                  <a:moveTo>
                    <a:pt x="44" y="269"/>
                  </a:moveTo>
                  <a:lnTo>
                    <a:pt x="44" y="284"/>
                  </a:lnTo>
                  <a:lnTo>
                    <a:pt x="45" y="298"/>
                  </a:lnTo>
                  <a:lnTo>
                    <a:pt x="47" y="311"/>
                  </a:lnTo>
                  <a:lnTo>
                    <a:pt x="49" y="322"/>
                  </a:lnTo>
                  <a:lnTo>
                    <a:pt x="52" y="332"/>
                  </a:lnTo>
                  <a:lnTo>
                    <a:pt x="55" y="342"/>
                  </a:lnTo>
                  <a:lnTo>
                    <a:pt x="59" y="351"/>
                  </a:lnTo>
                  <a:lnTo>
                    <a:pt x="64" y="358"/>
                  </a:lnTo>
                  <a:lnTo>
                    <a:pt x="69" y="366"/>
                  </a:lnTo>
                  <a:lnTo>
                    <a:pt x="74" y="371"/>
                  </a:lnTo>
                  <a:lnTo>
                    <a:pt x="80" y="376"/>
                  </a:lnTo>
                  <a:lnTo>
                    <a:pt x="86" y="381"/>
                  </a:lnTo>
                  <a:lnTo>
                    <a:pt x="92" y="383"/>
                  </a:lnTo>
                  <a:lnTo>
                    <a:pt x="98" y="386"/>
                  </a:lnTo>
                  <a:lnTo>
                    <a:pt x="104" y="387"/>
                  </a:lnTo>
                  <a:lnTo>
                    <a:pt x="112" y="388"/>
                  </a:lnTo>
                  <a:lnTo>
                    <a:pt x="119" y="387"/>
                  </a:lnTo>
                  <a:lnTo>
                    <a:pt x="125" y="386"/>
                  </a:lnTo>
                  <a:lnTo>
                    <a:pt x="131" y="383"/>
                  </a:lnTo>
                  <a:lnTo>
                    <a:pt x="137" y="381"/>
                  </a:lnTo>
                  <a:lnTo>
                    <a:pt x="143" y="377"/>
                  </a:lnTo>
                  <a:lnTo>
                    <a:pt x="148" y="372"/>
                  </a:lnTo>
                  <a:lnTo>
                    <a:pt x="153" y="366"/>
                  </a:lnTo>
                  <a:lnTo>
                    <a:pt x="158" y="359"/>
                  </a:lnTo>
                  <a:lnTo>
                    <a:pt x="163" y="352"/>
                  </a:lnTo>
                  <a:lnTo>
                    <a:pt x="167" y="344"/>
                  </a:lnTo>
                  <a:lnTo>
                    <a:pt x="170" y="334"/>
                  </a:lnTo>
                  <a:lnTo>
                    <a:pt x="173" y="324"/>
                  </a:lnTo>
                  <a:lnTo>
                    <a:pt x="175" y="313"/>
                  </a:lnTo>
                  <a:lnTo>
                    <a:pt x="176" y="301"/>
                  </a:lnTo>
                  <a:lnTo>
                    <a:pt x="178" y="288"/>
                  </a:lnTo>
                  <a:lnTo>
                    <a:pt x="179" y="274"/>
                  </a:lnTo>
                  <a:lnTo>
                    <a:pt x="178" y="259"/>
                  </a:lnTo>
                  <a:lnTo>
                    <a:pt x="176" y="244"/>
                  </a:lnTo>
                  <a:lnTo>
                    <a:pt x="175" y="232"/>
                  </a:lnTo>
                  <a:lnTo>
                    <a:pt x="173" y="220"/>
                  </a:lnTo>
                  <a:lnTo>
                    <a:pt x="170" y="208"/>
                  </a:lnTo>
                  <a:lnTo>
                    <a:pt x="167" y="198"/>
                  </a:lnTo>
                  <a:lnTo>
                    <a:pt x="163" y="190"/>
                  </a:lnTo>
                  <a:lnTo>
                    <a:pt x="158" y="182"/>
                  </a:lnTo>
                  <a:lnTo>
                    <a:pt x="153" y="175"/>
                  </a:lnTo>
                  <a:lnTo>
                    <a:pt x="148" y="168"/>
                  </a:lnTo>
                  <a:lnTo>
                    <a:pt x="142" y="163"/>
                  </a:lnTo>
                  <a:lnTo>
                    <a:pt x="136" y="160"/>
                  </a:lnTo>
                  <a:lnTo>
                    <a:pt x="130" y="157"/>
                  </a:lnTo>
                  <a:lnTo>
                    <a:pt x="124" y="155"/>
                  </a:lnTo>
                  <a:lnTo>
                    <a:pt x="117" y="153"/>
                  </a:lnTo>
                  <a:lnTo>
                    <a:pt x="110" y="152"/>
                  </a:lnTo>
                  <a:lnTo>
                    <a:pt x="102" y="153"/>
                  </a:lnTo>
                  <a:lnTo>
                    <a:pt x="96" y="155"/>
                  </a:lnTo>
                  <a:lnTo>
                    <a:pt x="90" y="156"/>
                  </a:lnTo>
                  <a:lnTo>
                    <a:pt x="84" y="160"/>
                  </a:lnTo>
                  <a:lnTo>
                    <a:pt x="78" y="163"/>
                  </a:lnTo>
                  <a:lnTo>
                    <a:pt x="73" y="168"/>
                  </a:lnTo>
                  <a:lnTo>
                    <a:pt x="67" y="175"/>
                  </a:lnTo>
                  <a:lnTo>
                    <a:pt x="63" y="181"/>
                  </a:lnTo>
                  <a:lnTo>
                    <a:pt x="58" y="188"/>
                  </a:lnTo>
                  <a:lnTo>
                    <a:pt x="54" y="197"/>
                  </a:lnTo>
                  <a:lnTo>
                    <a:pt x="51" y="207"/>
                  </a:lnTo>
                  <a:lnTo>
                    <a:pt x="49" y="217"/>
                  </a:lnTo>
                  <a:lnTo>
                    <a:pt x="47" y="230"/>
                  </a:lnTo>
                  <a:lnTo>
                    <a:pt x="45" y="242"/>
                  </a:lnTo>
                  <a:lnTo>
                    <a:pt x="44" y="256"/>
                  </a:lnTo>
                  <a:lnTo>
                    <a:pt x="44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73320" y="2763720"/>
              <a:ext cx="120600" cy="127080"/>
            </a:xfrm>
            <a:custGeom>
              <a:avLst/>
              <a:gdLst/>
              <a:ahLst/>
              <a:rect l="l" t="t" r="r" b="b"/>
              <a:pathLst>
                <a:path w="230" h="320">
                  <a:moveTo>
                    <a:pt x="177" y="276"/>
                  </a:moveTo>
                  <a:lnTo>
                    <a:pt x="171" y="282"/>
                  </a:lnTo>
                  <a:lnTo>
                    <a:pt x="165" y="287"/>
                  </a:lnTo>
                  <a:lnTo>
                    <a:pt x="159" y="292"/>
                  </a:lnTo>
                  <a:lnTo>
                    <a:pt x="154" y="297"/>
                  </a:lnTo>
                  <a:lnTo>
                    <a:pt x="148" y="300"/>
                  </a:lnTo>
                  <a:lnTo>
                    <a:pt x="143" y="304"/>
                  </a:lnTo>
                  <a:lnTo>
                    <a:pt x="137" y="308"/>
                  </a:lnTo>
                  <a:lnTo>
                    <a:pt x="132" y="310"/>
                  </a:lnTo>
                  <a:lnTo>
                    <a:pt x="127" y="313"/>
                  </a:lnTo>
                  <a:lnTo>
                    <a:pt x="120" y="314"/>
                  </a:lnTo>
                  <a:lnTo>
                    <a:pt x="114" y="317"/>
                  </a:lnTo>
                  <a:lnTo>
                    <a:pt x="109" y="318"/>
                  </a:lnTo>
                  <a:lnTo>
                    <a:pt x="103" y="319"/>
                  </a:lnTo>
                  <a:lnTo>
                    <a:pt x="97" y="319"/>
                  </a:lnTo>
                  <a:lnTo>
                    <a:pt x="91" y="320"/>
                  </a:lnTo>
                  <a:lnTo>
                    <a:pt x="85" y="320"/>
                  </a:lnTo>
                  <a:lnTo>
                    <a:pt x="75" y="320"/>
                  </a:lnTo>
                  <a:lnTo>
                    <a:pt x="66" y="319"/>
                  </a:lnTo>
                  <a:lnTo>
                    <a:pt x="57" y="317"/>
                  </a:lnTo>
                  <a:lnTo>
                    <a:pt x="48" y="314"/>
                  </a:lnTo>
                  <a:lnTo>
                    <a:pt x="41" y="310"/>
                  </a:lnTo>
                  <a:lnTo>
                    <a:pt x="34" y="307"/>
                  </a:lnTo>
                  <a:lnTo>
                    <a:pt x="27" y="302"/>
                  </a:lnTo>
                  <a:lnTo>
                    <a:pt x="22" y="295"/>
                  </a:lnTo>
                  <a:lnTo>
                    <a:pt x="17" y="289"/>
                  </a:lnTo>
                  <a:lnTo>
                    <a:pt x="12" y="282"/>
                  </a:lnTo>
                  <a:lnTo>
                    <a:pt x="8" y="276"/>
                  </a:lnTo>
                  <a:lnTo>
                    <a:pt x="5" y="268"/>
                  </a:lnTo>
                  <a:lnTo>
                    <a:pt x="3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22"/>
                  </a:lnTo>
                  <a:lnTo>
                    <a:pt x="1" y="216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5" y="201"/>
                  </a:lnTo>
                  <a:lnTo>
                    <a:pt x="6" y="196"/>
                  </a:lnTo>
                  <a:lnTo>
                    <a:pt x="8" y="191"/>
                  </a:lnTo>
                  <a:lnTo>
                    <a:pt x="10" y="187"/>
                  </a:lnTo>
                  <a:lnTo>
                    <a:pt x="13" y="182"/>
                  </a:lnTo>
                  <a:lnTo>
                    <a:pt x="15" y="178"/>
                  </a:lnTo>
                  <a:lnTo>
                    <a:pt x="18" y="174"/>
                  </a:lnTo>
                  <a:lnTo>
                    <a:pt x="20" y="171"/>
                  </a:lnTo>
                  <a:lnTo>
                    <a:pt x="23" y="167"/>
                  </a:lnTo>
                  <a:lnTo>
                    <a:pt x="26" y="164"/>
                  </a:lnTo>
                  <a:lnTo>
                    <a:pt x="30" y="161"/>
                  </a:lnTo>
                  <a:lnTo>
                    <a:pt x="33" y="158"/>
                  </a:lnTo>
                  <a:lnTo>
                    <a:pt x="37" y="156"/>
                  </a:lnTo>
                  <a:lnTo>
                    <a:pt x="40" y="153"/>
                  </a:lnTo>
                  <a:lnTo>
                    <a:pt x="44" y="151"/>
                  </a:lnTo>
                  <a:lnTo>
                    <a:pt x="48" y="149"/>
                  </a:lnTo>
                  <a:lnTo>
                    <a:pt x="52" y="147"/>
                  </a:lnTo>
                  <a:lnTo>
                    <a:pt x="57" y="146"/>
                  </a:lnTo>
                  <a:lnTo>
                    <a:pt x="61" y="144"/>
                  </a:lnTo>
                  <a:lnTo>
                    <a:pt x="64" y="143"/>
                  </a:lnTo>
                  <a:lnTo>
                    <a:pt x="68" y="142"/>
                  </a:lnTo>
                  <a:lnTo>
                    <a:pt x="72" y="141"/>
                  </a:lnTo>
                  <a:lnTo>
                    <a:pt x="76" y="141"/>
                  </a:lnTo>
                  <a:lnTo>
                    <a:pt x="81" y="139"/>
                  </a:lnTo>
                  <a:lnTo>
                    <a:pt x="86" y="138"/>
                  </a:lnTo>
                  <a:lnTo>
                    <a:pt x="92" y="137"/>
                  </a:lnTo>
                  <a:lnTo>
                    <a:pt x="98" y="136"/>
                  </a:lnTo>
                  <a:lnTo>
                    <a:pt x="110" y="134"/>
                  </a:lnTo>
                  <a:lnTo>
                    <a:pt x="121" y="132"/>
                  </a:lnTo>
                  <a:lnTo>
                    <a:pt x="133" y="131"/>
                  </a:lnTo>
                  <a:lnTo>
                    <a:pt x="143" y="128"/>
                  </a:lnTo>
                  <a:lnTo>
                    <a:pt x="152" y="126"/>
                  </a:lnTo>
                  <a:lnTo>
                    <a:pt x="160" y="123"/>
                  </a:lnTo>
                  <a:lnTo>
                    <a:pt x="167" y="121"/>
                  </a:lnTo>
                  <a:lnTo>
                    <a:pt x="173" y="118"/>
                  </a:lnTo>
                  <a:lnTo>
                    <a:pt x="173" y="116"/>
                  </a:lnTo>
                  <a:lnTo>
                    <a:pt x="173" y="113"/>
                  </a:lnTo>
                  <a:lnTo>
                    <a:pt x="173" y="112"/>
                  </a:lnTo>
                  <a:lnTo>
                    <a:pt x="173" y="110"/>
                  </a:lnTo>
                  <a:lnTo>
                    <a:pt x="173" y="108"/>
                  </a:lnTo>
                  <a:lnTo>
                    <a:pt x="173" y="107"/>
                  </a:lnTo>
                  <a:lnTo>
                    <a:pt x="173" y="106"/>
                  </a:lnTo>
                  <a:lnTo>
                    <a:pt x="173" y="105"/>
                  </a:lnTo>
                  <a:lnTo>
                    <a:pt x="173" y="97"/>
                  </a:lnTo>
                  <a:lnTo>
                    <a:pt x="173" y="90"/>
                  </a:lnTo>
                  <a:lnTo>
                    <a:pt x="172" y="83"/>
                  </a:lnTo>
                  <a:lnTo>
                    <a:pt x="170" y="78"/>
                  </a:lnTo>
                  <a:lnTo>
                    <a:pt x="169" y="72"/>
                  </a:lnTo>
                  <a:lnTo>
                    <a:pt x="167" y="67"/>
                  </a:lnTo>
                  <a:lnTo>
                    <a:pt x="164" y="63"/>
                  </a:lnTo>
                  <a:lnTo>
                    <a:pt x="162" y="60"/>
                  </a:lnTo>
                  <a:lnTo>
                    <a:pt x="157" y="56"/>
                  </a:lnTo>
                  <a:lnTo>
                    <a:pt x="153" y="52"/>
                  </a:lnTo>
                  <a:lnTo>
                    <a:pt x="147" y="50"/>
                  </a:lnTo>
                  <a:lnTo>
                    <a:pt x="142" y="47"/>
                  </a:lnTo>
                  <a:lnTo>
                    <a:pt x="136" y="45"/>
                  </a:lnTo>
                  <a:lnTo>
                    <a:pt x="129" y="43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6" y="42"/>
                  </a:lnTo>
                  <a:lnTo>
                    <a:pt x="99" y="43"/>
                  </a:lnTo>
                  <a:lnTo>
                    <a:pt x="93" y="45"/>
                  </a:lnTo>
                  <a:lnTo>
                    <a:pt x="88" y="46"/>
                  </a:lnTo>
                  <a:lnTo>
                    <a:pt x="82" y="47"/>
                  </a:lnTo>
                  <a:lnTo>
                    <a:pt x="78" y="50"/>
                  </a:lnTo>
                  <a:lnTo>
                    <a:pt x="73" y="52"/>
                  </a:lnTo>
                  <a:lnTo>
                    <a:pt x="70" y="55"/>
                  </a:lnTo>
                  <a:lnTo>
                    <a:pt x="66" y="58"/>
                  </a:lnTo>
                  <a:lnTo>
                    <a:pt x="63" y="63"/>
                  </a:lnTo>
                  <a:lnTo>
                    <a:pt x="60" y="67"/>
                  </a:lnTo>
                  <a:lnTo>
                    <a:pt x="57" y="73"/>
                  </a:lnTo>
                  <a:lnTo>
                    <a:pt x="55" y="80"/>
                  </a:lnTo>
                  <a:lnTo>
                    <a:pt x="52" y="86"/>
                  </a:lnTo>
                  <a:lnTo>
                    <a:pt x="50" y="93"/>
                  </a:lnTo>
                  <a:lnTo>
                    <a:pt x="48" y="101"/>
                  </a:lnTo>
                  <a:lnTo>
                    <a:pt x="7" y="93"/>
                  </a:lnTo>
                  <a:lnTo>
                    <a:pt x="9" y="86"/>
                  </a:lnTo>
                  <a:lnTo>
                    <a:pt x="10" y="78"/>
                  </a:lnTo>
                  <a:lnTo>
                    <a:pt x="12" y="71"/>
                  </a:lnTo>
                  <a:lnTo>
                    <a:pt x="14" y="65"/>
                  </a:lnTo>
                  <a:lnTo>
                    <a:pt x="17" y="58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5" y="41"/>
                  </a:lnTo>
                  <a:lnTo>
                    <a:pt x="29" y="36"/>
                  </a:lnTo>
                  <a:lnTo>
                    <a:pt x="32" y="32"/>
                  </a:lnTo>
                  <a:lnTo>
                    <a:pt x="37" y="27"/>
                  </a:lnTo>
                  <a:lnTo>
                    <a:pt x="41" y="23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3"/>
                  </a:lnTo>
                  <a:lnTo>
                    <a:pt x="63" y="10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2" y="3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2"/>
                  </a:lnTo>
                  <a:lnTo>
                    <a:pt x="155" y="3"/>
                  </a:lnTo>
                  <a:lnTo>
                    <a:pt x="161" y="5"/>
                  </a:lnTo>
                  <a:lnTo>
                    <a:pt x="166" y="6"/>
                  </a:lnTo>
                  <a:lnTo>
                    <a:pt x="171" y="8"/>
                  </a:lnTo>
                  <a:lnTo>
                    <a:pt x="176" y="11"/>
                  </a:lnTo>
                  <a:lnTo>
                    <a:pt x="180" y="13"/>
                  </a:lnTo>
                  <a:lnTo>
                    <a:pt x="185" y="16"/>
                  </a:lnTo>
                  <a:lnTo>
                    <a:pt x="188" y="18"/>
                  </a:lnTo>
                  <a:lnTo>
                    <a:pt x="192" y="22"/>
                  </a:lnTo>
                  <a:lnTo>
                    <a:pt x="195" y="25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7" y="43"/>
                  </a:lnTo>
                  <a:lnTo>
                    <a:pt x="209" y="47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4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6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6" y="107"/>
                  </a:lnTo>
                  <a:lnTo>
                    <a:pt x="216" y="116"/>
                  </a:lnTo>
                  <a:lnTo>
                    <a:pt x="216" y="184"/>
                  </a:lnTo>
                  <a:lnTo>
                    <a:pt x="216" y="202"/>
                  </a:lnTo>
                  <a:lnTo>
                    <a:pt x="216" y="218"/>
                  </a:lnTo>
                  <a:lnTo>
                    <a:pt x="217" y="232"/>
                  </a:lnTo>
                  <a:lnTo>
                    <a:pt x="217" y="244"/>
                  </a:lnTo>
                  <a:lnTo>
                    <a:pt x="217" y="254"/>
                  </a:lnTo>
                  <a:lnTo>
                    <a:pt x="218" y="263"/>
                  </a:lnTo>
                  <a:lnTo>
                    <a:pt x="218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1" y="285"/>
                  </a:lnTo>
                  <a:lnTo>
                    <a:pt x="222" y="290"/>
                  </a:lnTo>
                  <a:lnTo>
                    <a:pt x="223" y="295"/>
                  </a:lnTo>
                  <a:lnTo>
                    <a:pt x="224" y="300"/>
                  </a:lnTo>
                  <a:lnTo>
                    <a:pt x="226" y="304"/>
                  </a:lnTo>
                  <a:lnTo>
                    <a:pt x="228" y="309"/>
                  </a:lnTo>
                  <a:lnTo>
                    <a:pt x="230" y="313"/>
                  </a:lnTo>
                  <a:lnTo>
                    <a:pt x="185" y="313"/>
                  </a:lnTo>
                  <a:lnTo>
                    <a:pt x="183" y="309"/>
                  </a:lnTo>
                  <a:lnTo>
                    <a:pt x="182" y="305"/>
                  </a:lnTo>
                  <a:lnTo>
                    <a:pt x="181" y="300"/>
                  </a:lnTo>
                  <a:lnTo>
                    <a:pt x="180" y="295"/>
                  </a:lnTo>
                  <a:lnTo>
                    <a:pt x="179" y="290"/>
                  </a:lnTo>
                  <a:lnTo>
                    <a:pt x="178" y="285"/>
                  </a:lnTo>
                  <a:lnTo>
                    <a:pt x="177" y="280"/>
                  </a:lnTo>
                  <a:lnTo>
                    <a:pt x="177" y="276"/>
                  </a:lnTo>
                  <a:close/>
                  <a:moveTo>
                    <a:pt x="173" y="159"/>
                  </a:moveTo>
                  <a:lnTo>
                    <a:pt x="167" y="162"/>
                  </a:lnTo>
                  <a:lnTo>
                    <a:pt x="160" y="164"/>
                  </a:lnTo>
                  <a:lnTo>
                    <a:pt x="153" y="167"/>
                  </a:lnTo>
                  <a:lnTo>
                    <a:pt x="145" y="169"/>
                  </a:lnTo>
                  <a:lnTo>
                    <a:pt x="136" y="172"/>
                  </a:lnTo>
                  <a:lnTo>
                    <a:pt x="126" y="174"/>
                  </a:lnTo>
                  <a:lnTo>
                    <a:pt x="115" y="177"/>
                  </a:lnTo>
                  <a:lnTo>
                    <a:pt x="104" y="179"/>
                  </a:lnTo>
                  <a:lnTo>
                    <a:pt x="98" y="181"/>
                  </a:lnTo>
                  <a:lnTo>
                    <a:pt x="92" y="181"/>
                  </a:lnTo>
                  <a:lnTo>
                    <a:pt x="87" y="182"/>
                  </a:lnTo>
                  <a:lnTo>
                    <a:pt x="82" y="184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8"/>
                  </a:lnTo>
                  <a:lnTo>
                    <a:pt x="68" y="189"/>
                  </a:lnTo>
                  <a:lnTo>
                    <a:pt x="65" y="191"/>
                  </a:lnTo>
                  <a:lnTo>
                    <a:pt x="63" y="192"/>
                  </a:lnTo>
                  <a:lnTo>
                    <a:pt x="60" y="194"/>
                  </a:lnTo>
                  <a:lnTo>
                    <a:pt x="58" y="197"/>
                  </a:lnTo>
                  <a:lnTo>
                    <a:pt x="56" y="198"/>
                  </a:lnTo>
                  <a:lnTo>
                    <a:pt x="54" y="201"/>
                  </a:lnTo>
                  <a:lnTo>
                    <a:pt x="52" y="203"/>
                  </a:lnTo>
                  <a:lnTo>
                    <a:pt x="50" y="206"/>
                  </a:lnTo>
                  <a:lnTo>
                    <a:pt x="49" y="209"/>
                  </a:lnTo>
                  <a:lnTo>
                    <a:pt x="48" y="212"/>
                  </a:lnTo>
                  <a:lnTo>
                    <a:pt x="47" y="214"/>
                  </a:lnTo>
                  <a:lnTo>
                    <a:pt x="46" y="218"/>
                  </a:lnTo>
                  <a:lnTo>
                    <a:pt x="45" y="221"/>
                  </a:lnTo>
                  <a:lnTo>
                    <a:pt x="45" y="224"/>
                  </a:lnTo>
                  <a:lnTo>
                    <a:pt x="44" y="228"/>
                  </a:lnTo>
                  <a:lnTo>
                    <a:pt x="44" y="231"/>
                  </a:lnTo>
                  <a:lnTo>
                    <a:pt x="45" y="236"/>
                  </a:lnTo>
                  <a:lnTo>
                    <a:pt x="45" y="241"/>
                  </a:lnTo>
                  <a:lnTo>
                    <a:pt x="46" y="246"/>
                  </a:lnTo>
                  <a:lnTo>
                    <a:pt x="48" y="251"/>
                  </a:lnTo>
                  <a:lnTo>
                    <a:pt x="49" y="254"/>
                  </a:lnTo>
                  <a:lnTo>
                    <a:pt x="52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1" y="269"/>
                  </a:lnTo>
                  <a:lnTo>
                    <a:pt x="65" y="272"/>
                  </a:lnTo>
                  <a:lnTo>
                    <a:pt x="69" y="274"/>
                  </a:lnTo>
                  <a:lnTo>
                    <a:pt x="74" y="276"/>
                  </a:lnTo>
                  <a:lnTo>
                    <a:pt x="78" y="278"/>
                  </a:lnTo>
                  <a:lnTo>
                    <a:pt x="84" y="279"/>
                  </a:lnTo>
                  <a:lnTo>
                    <a:pt x="89" y="279"/>
                  </a:lnTo>
                  <a:lnTo>
                    <a:pt x="95" y="279"/>
                  </a:lnTo>
                  <a:lnTo>
                    <a:pt x="101" y="279"/>
                  </a:lnTo>
                  <a:lnTo>
                    <a:pt x="107" y="279"/>
                  </a:lnTo>
                  <a:lnTo>
                    <a:pt x="112" y="278"/>
                  </a:lnTo>
                  <a:lnTo>
                    <a:pt x="118" y="277"/>
                  </a:lnTo>
                  <a:lnTo>
                    <a:pt x="123" y="274"/>
                  </a:lnTo>
                  <a:lnTo>
                    <a:pt x="129" y="272"/>
                  </a:lnTo>
                  <a:lnTo>
                    <a:pt x="134" y="269"/>
                  </a:lnTo>
                  <a:lnTo>
                    <a:pt x="139" y="267"/>
                  </a:lnTo>
                  <a:lnTo>
                    <a:pt x="143" y="263"/>
                  </a:lnTo>
                  <a:lnTo>
                    <a:pt x="148" y="259"/>
                  </a:lnTo>
                  <a:lnTo>
                    <a:pt x="152" y="256"/>
                  </a:lnTo>
                  <a:lnTo>
                    <a:pt x="155" y="251"/>
                  </a:lnTo>
                  <a:lnTo>
                    <a:pt x="158" y="246"/>
                  </a:lnTo>
                  <a:lnTo>
                    <a:pt x="161" y="241"/>
                  </a:lnTo>
                  <a:lnTo>
                    <a:pt x="164" y="236"/>
                  </a:lnTo>
                  <a:lnTo>
                    <a:pt x="166" y="231"/>
                  </a:lnTo>
                  <a:lnTo>
                    <a:pt x="168" y="226"/>
                  </a:lnTo>
                  <a:lnTo>
                    <a:pt x="169" y="221"/>
                  </a:lnTo>
                  <a:lnTo>
                    <a:pt x="171" y="214"/>
                  </a:lnTo>
                  <a:lnTo>
                    <a:pt x="171" y="208"/>
                  </a:lnTo>
                  <a:lnTo>
                    <a:pt x="172" y="202"/>
                  </a:lnTo>
                  <a:lnTo>
                    <a:pt x="173" y="194"/>
                  </a:lnTo>
                  <a:lnTo>
                    <a:pt x="173" y="187"/>
                  </a:lnTo>
                  <a:lnTo>
                    <a:pt x="173" y="178"/>
                  </a:lnTo>
                  <a:lnTo>
                    <a:pt x="173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2880" y="2982960"/>
              <a:ext cx="137880" cy="168120"/>
            </a:xfrm>
            <a:custGeom>
              <a:avLst/>
              <a:gdLst/>
              <a:ahLst/>
              <a:rect l="l" t="t" r="r" b="b"/>
              <a:pathLst>
                <a:path w="263" h="425">
                  <a:moveTo>
                    <a:pt x="0" y="425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2"/>
                  </a:lnTo>
                  <a:lnTo>
                    <a:pt x="167" y="2"/>
                  </a:lnTo>
                  <a:lnTo>
                    <a:pt x="173" y="3"/>
                  </a:lnTo>
                  <a:lnTo>
                    <a:pt x="178" y="3"/>
                  </a:lnTo>
                  <a:lnTo>
                    <a:pt x="182" y="4"/>
                  </a:lnTo>
                  <a:lnTo>
                    <a:pt x="189" y="5"/>
                  </a:lnTo>
                  <a:lnTo>
                    <a:pt x="194" y="8"/>
                  </a:lnTo>
                  <a:lnTo>
                    <a:pt x="200" y="9"/>
                  </a:lnTo>
                  <a:lnTo>
                    <a:pt x="206" y="12"/>
                  </a:lnTo>
                  <a:lnTo>
                    <a:pt x="211" y="14"/>
                  </a:lnTo>
                  <a:lnTo>
                    <a:pt x="215" y="18"/>
                  </a:lnTo>
                  <a:lnTo>
                    <a:pt x="220" y="20"/>
                  </a:lnTo>
                  <a:lnTo>
                    <a:pt x="224" y="24"/>
                  </a:lnTo>
                  <a:lnTo>
                    <a:pt x="229" y="28"/>
                  </a:lnTo>
                  <a:lnTo>
                    <a:pt x="233" y="31"/>
                  </a:lnTo>
                  <a:lnTo>
                    <a:pt x="237" y="36"/>
                  </a:lnTo>
                  <a:lnTo>
                    <a:pt x="241" y="41"/>
                  </a:lnTo>
                  <a:lnTo>
                    <a:pt x="244" y="46"/>
                  </a:lnTo>
                  <a:lnTo>
                    <a:pt x="247" y="53"/>
                  </a:lnTo>
                  <a:lnTo>
                    <a:pt x="250" y="59"/>
                  </a:lnTo>
                  <a:lnTo>
                    <a:pt x="253" y="65"/>
                  </a:lnTo>
                  <a:lnTo>
                    <a:pt x="255" y="71"/>
                  </a:lnTo>
                  <a:lnTo>
                    <a:pt x="257" y="79"/>
                  </a:lnTo>
                  <a:lnTo>
                    <a:pt x="259" y="85"/>
                  </a:lnTo>
                  <a:lnTo>
                    <a:pt x="260" y="93"/>
                  </a:lnTo>
                  <a:lnTo>
                    <a:pt x="262" y="100"/>
                  </a:lnTo>
                  <a:lnTo>
                    <a:pt x="262" y="108"/>
                  </a:lnTo>
                  <a:lnTo>
                    <a:pt x="263" y="115"/>
                  </a:lnTo>
                  <a:lnTo>
                    <a:pt x="263" y="123"/>
                  </a:lnTo>
                  <a:lnTo>
                    <a:pt x="263" y="136"/>
                  </a:lnTo>
                  <a:lnTo>
                    <a:pt x="261" y="149"/>
                  </a:lnTo>
                  <a:lnTo>
                    <a:pt x="259" y="161"/>
                  </a:lnTo>
                  <a:lnTo>
                    <a:pt x="256" y="172"/>
                  </a:lnTo>
                  <a:lnTo>
                    <a:pt x="252" y="184"/>
                  </a:lnTo>
                  <a:lnTo>
                    <a:pt x="247" y="195"/>
                  </a:lnTo>
                  <a:lnTo>
                    <a:pt x="242" y="205"/>
                  </a:lnTo>
                  <a:lnTo>
                    <a:pt x="235" y="214"/>
                  </a:lnTo>
                  <a:lnTo>
                    <a:pt x="227" y="222"/>
                  </a:lnTo>
                  <a:lnTo>
                    <a:pt x="218" y="231"/>
                  </a:lnTo>
                  <a:lnTo>
                    <a:pt x="207" y="237"/>
                  </a:lnTo>
                  <a:lnTo>
                    <a:pt x="196" y="242"/>
                  </a:lnTo>
                  <a:lnTo>
                    <a:pt x="183" y="246"/>
                  </a:lnTo>
                  <a:lnTo>
                    <a:pt x="168" y="250"/>
                  </a:lnTo>
                  <a:lnTo>
                    <a:pt x="151" y="251"/>
                  </a:lnTo>
                  <a:lnTo>
                    <a:pt x="134" y="251"/>
                  </a:lnTo>
                  <a:lnTo>
                    <a:pt x="46" y="251"/>
                  </a:lnTo>
                  <a:lnTo>
                    <a:pt x="46" y="425"/>
                  </a:lnTo>
                  <a:lnTo>
                    <a:pt x="0" y="425"/>
                  </a:lnTo>
                  <a:close/>
                  <a:moveTo>
                    <a:pt x="46" y="201"/>
                  </a:moveTo>
                  <a:lnTo>
                    <a:pt x="135" y="201"/>
                  </a:lnTo>
                  <a:lnTo>
                    <a:pt x="145" y="201"/>
                  </a:lnTo>
                  <a:lnTo>
                    <a:pt x="155" y="200"/>
                  </a:lnTo>
                  <a:lnTo>
                    <a:pt x="165" y="199"/>
                  </a:lnTo>
                  <a:lnTo>
                    <a:pt x="173" y="196"/>
                  </a:lnTo>
                  <a:lnTo>
                    <a:pt x="180" y="194"/>
                  </a:lnTo>
                  <a:lnTo>
                    <a:pt x="187" y="190"/>
                  </a:lnTo>
                  <a:lnTo>
                    <a:pt x="192" y="186"/>
                  </a:lnTo>
                  <a:lnTo>
                    <a:pt x="197" y="181"/>
                  </a:lnTo>
                  <a:lnTo>
                    <a:pt x="202" y="176"/>
                  </a:lnTo>
                  <a:lnTo>
                    <a:pt x="205" y="170"/>
                  </a:lnTo>
                  <a:lnTo>
                    <a:pt x="208" y="164"/>
                  </a:lnTo>
                  <a:lnTo>
                    <a:pt x="211" y="158"/>
                  </a:lnTo>
                  <a:lnTo>
                    <a:pt x="213" y="150"/>
                  </a:lnTo>
                  <a:lnTo>
                    <a:pt x="214" y="141"/>
                  </a:lnTo>
                  <a:lnTo>
                    <a:pt x="215" y="134"/>
                  </a:lnTo>
                  <a:lnTo>
                    <a:pt x="216" y="124"/>
                  </a:lnTo>
                  <a:lnTo>
                    <a:pt x="215" y="118"/>
                  </a:lnTo>
                  <a:lnTo>
                    <a:pt x="215" y="111"/>
                  </a:lnTo>
                  <a:lnTo>
                    <a:pt x="214" y="105"/>
                  </a:lnTo>
                  <a:lnTo>
                    <a:pt x="213" y="100"/>
                  </a:lnTo>
                  <a:lnTo>
                    <a:pt x="211" y="94"/>
                  </a:lnTo>
                  <a:lnTo>
                    <a:pt x="210" y="89"/>
                  </a:lnTo>
                  <a:lnTo>
                    <a:pt x="207" y="84"/>
                  </a:lnTo>
                  <a:lnTo>
                    <a:pt x="205" y="79"/>
                  </a:lnTo>
                  <a:lnTo>
                    <a:pt x="202" y="74"/>
                  </a:lnTo>
                  <a:lnTo>
                    <a:pt x="199" y="70"/>
                  </a:lnTo>
                  <a:lnTo>
                    <a:pt x="196" y="66"/>
                  </a:lnTo>
                  <a:lnTo>
                    <a:pt x="192" y="63"/>
                  </a:lnTo>
                  <a:lnTo>
                    <a:pt x="189" y="60"/>
                  </a:lnTo>
                  <a:lnTo>
                    <a:pt x="185" y="58"/>
                  </a:lnTo>
                  <a:lnTo>
                    <a:pt x="181" y="55"/>
                  </a:lnTo>
                  <a:lnTo>
                    <a:pt x="176" y="54"/>
                  </a:lnTo>
                  <a:lnTo>
                    <a:pt x="173" y="53"/>
                  </a:lnTo>
                  <a:lnTo>
                    <a:pt x="170" y="53"/>
                  </a:lnTo>
                  <a:lnTo>
                    <a:pt x="165" y="51"/>
                  </a:lnTo>
                  <a:lnTo>
                    <a:pt x="159" y="51"/>
                  </a:lnTo>
                  <a:lnTo>
                    <a:pt x="154" y="50"/>
                  </a:lnTo>
                  <a:lnTo>
                    <a:pt x="148" y="50"/>
                  </a:lnTo>
                  <a:lnTo>
                    <a:pt x="141" y="50"/>
                  </a:lnTo>
                  <a:lnTo>
                    <a:pt x="134" y="50"/>
                  </a:lnTo>
                  <a:lnTo>
                    <a:pt x="46" y="50"/>
                  </a:lnTo>
                  <a:lnTo>
                    <a:pt x="46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71640" y="3025800"/>
              <a:ext cx="122040" cy="127080"/>
            </a:xfrm>
            <a:custGeom>
              <a:avLst/>
              <a:gdLst/>
              <a:ahLst/>
              <a:rect l="l" t="t" r="r" b="b"/>
              <a:pathLst>
                <a:path w="231" h="321">
                  <a:moveTo>
                    <a:pt x="185" y="215"/>
                  </a:moveTo>
                  <a:lnTo>
                    <a:pt x="229" y="222"/>
                  </a:lnTo>
                  <a:lnTo>
                    <a:pt x="227" y="233"/>
                  </a:lnTo>
                  <a:lnTo>
                    <a:pt x="222" y="243"/>
                  </a:lnTo>
                  <a:lnTo>
                    <a:pt x="218" y="255"/>
                  </a:lnTo>
                  <a:lnTo>
                    <a:pt x="214" y="263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8"/>
                  </a:lnTo>
                  <a:lnTo>
                    <a:pt x="191" y="295"/>
                  </a:lnTo>
                  <a:lnTo>
                    <a:pt x="184" y="301"/>
                  </a:lnTo>
                  <a:lnTo>
                    <a:pt x="176" y="306"/>
                  </a:lnTo>
                  <a:lnTo>
                    <a:pt x="168" y="311"/>
                  </a:lnTo>
                  <a:lnTo>
                    <a:pt x="159" y="315"/>
                  </a:lnTo>
                  <a:lnTo>
                    <a:pt x="149" y="317"/>
                  </a:lnTo>
                  <a:lnTo>
                    <a:pt x="140" y="320"/>
                  </a:lnTo>
                  <a:lnTo>
                    <a:pt x="130" y="321"/>
                  </a:lnTo>
                  <a:lnTo>
                    <a:pt x="119" y="321"/>
                  </a:lnTo>
                  <a:lnTo>
                    <a:pt x="106" y="321"/>
                  </a:lnTo>
                  <a:lnTo>
                    <a:pt x="94" y="318"/>
                  </a:lnTo>
                  <a:lnTo>
                    <a:pt x="82" y="315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50" y="297"/>
                  </a:lnTo>
                  <a:lnTo>
                    <a:pt x="41" y="290"/>
                  </a:lnTo>
                  <a:lnTo>
                    <a:pt x="33" y="280"/>
                  </a:lnTo>
                  <a:lnTo>
                    <a:pt x="25" y="268"/>
                  </a:lnTo>
                  <a:lnTo>
                    <a:pt x="19" y="257"/>
                  </a:lnTo>
                  <a:lnTo>
                    <a:pt x="13" y="243"/>
                  </a:lnTo>
                  <a:lnTo>
                    <a:pt x="9" y="230"/>
                  </a:lnTo>
                  <a:lnTo>
                    <a:pt x="4" y="215"/>
                  </a:lnTo>
                  <a:lnTo>
                    <a:pt x="2" y="198"/>
                  </a:lnTo>
                  <a:lnTo>
                    <a:pt x="1" y="181"/>
                  </a:lnTo>
                  <a:lnTo>
                    <a:pt x="0" y="164"/>
                  </a:lnTo>
                  <a:lnTo>
                    <a:pt x="1" y="144"/>
                  </a:lnTo>
                  <a:lnTo>
                    <a:pt x="2" y="126"/>
                  </a:lnTo>
                  <a:lnTo>
                    <a:pt x="6" y="110"/>
                  </a:lnTo>
                  <a:lnTo>
                    <a:pt x="9" y="94"/>
                  </a:lnTo>
                  <a:lnTo>
                    <a:pt x="14" y="80"/>
                  </a:lnTo>
                  <a:lnTo>
                    <a:pt x="19" y="66"/>
                  </a:lnTo>
                  <a:lnTo>
                    <a:pt x="25" y="54"/>
                  </a:lnTo>
                  <a:lnTo>
                    <a:pt x="33" y="43"/>
                  </a:lnTo>
                  <a:lnTo>
                    <a:pt x="41" y="33"/>
                  </a:lnTo>
                  <a:lnTo>
                    <a:pt x="50" y="24"/>
                  </a:lnTo>
                  <a:lnTo>
                    <a:pt x="60" y="16"/>
                  </a:lnTo>
                  <a:lnTo>
                    <a:pt x="70" y="10"/>
                  </a:lnTo>
                  <a:lnTo>
                    <a:pt x="81" y="6"/>
                  </a:lnTo>
                  <a:lnTo>
                    <a:pt x="93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1" y="3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3" y="16"/>
                  </a:lnTo>
                  <a:lnTo>
                    <a:pt x="182" y="24"/>
                  </a:lnTo>
                  <a:lnTo>
                    <a:pt x="190" y="33"/>
                  </a:lnTo>
                  <a:lnTo>
                    <a:pt x="199" y="41"/>
                  </a:lnTo>
                  <a:lnTo>
                    <a:pt x="206" y="52"/>
                  </a:lnTo>
                  <a:lnTo>
                    <a:pt x="212" y="65"/>
                  </a:lnTo>
                  <a:lnTo>
                    <a:pt x="218" y="79"/>
                  </a:lnTo>
                  <a:lnTo>
                    <a:pt x="222" y="92"/>
                  </a:lnTo>
                  <a:lnTo>
                    <a:pt x="226" y="107"/>
                  </a:lnTo>
                  <a:lnTo>
                    <a:pt x="229" y="124"/>
                  </a:lnTo>
                  <a:lnTo>
                    <a:pt x="230" y="141"/>
                  </a:lnTo>
                  <a:lnTo>
                    <a:pt x="231" y="160"/>
                  </a:lnTo>
                  <a:lnTo>
                    <a:pt x="231" y="161"/>
                  </a:lnTo>
                  <a:lnTo>
                    <a:pt x="231" y="162"/>
                  </a:lnTo>
                  <a:lnTo>
                    <a:pt x="231" y="164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1" y="170"/>
                  </a:lnTo>
                  <a:lnTo>
                    <a:pt x="231" y="171"/>
                  </a:lnTo>
                  <a:lnTo>
                    <a:pt x="231" y="174"/>
                  </a:lnTo>
                  <a:lnTo>
                    <a:pt x="44" y="174"/>
                  </a:lnTo>
                  <a:lnTo>
                    <a:pt x="45" y="186"/>
                  </a:lnTo>
                  <a:lnTo>
                    <a:pt x="46" y="197"/>
                  </a:lnTo>
                  <a:lnTo>
                    <a:pt x="48" y="208"/>
                  </a:lnTo>
                  <a:lnTo>
                    <a:pt x="51" y="218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2" y="245"/>
                  </a:lnTo>
                  <a:lnTo>
                    <a:pt x="67" y="251"/>
                  </a:lnTo>
                  <a:lnTo>
                    <a:pt x="72" y="257"/>
                  </a:lnTo>
                  <a:lnTo>
                    <a:pt x="79" y="263"/>
                  </a:lnTo>
                  <a:lnTo>
                    <a:pt x="85" y="267"/>
                  </a:lnTo>
                  <a:lnTo>
                    <a:pt x="91" y="271"/>
                  </a:lnTo>
                  <a:lnTo>
                    <a:pt x="98" y="275"/>
                  </a:lnTo>
                  <a:lnTo>
                    <a:pt x="105" y="276"/>
                  </a:lnTo>
                  <a:lnTo>
                    <a:pt x="112" y="277"/>
                  </a:lnTo>
                  <a:lnTo>
                    <a:pt x="119" y="278"/>
                  </a:lnTo>
                  <a:lnTo>
                    <a:pt x="125" y="278"/>
                  </a:lnTo>
                  <a:lnTo>
                    <a:pt x="131" y="277"/>
                  </a:lnTo>
                  <a:lnTo>
                    <a:pt x="136" y="276"/>
                  </a:lnTo>
                  <a:lnTo>
                    <a:pt x="141" y="275"/>
                  </a:lnTo>
                  <a:lnTo>
                    <a:pt x="146" y="272"/>
                  </a:lnTo>
                  <a:lnTo>
                    <a:pt x="151" y="270"/>
                  </a:lnTo>
                  <a:lnTo>
                    <a:pt x="155" y="267"/>
                  </a:lnTo>
                  <a:lnTo>
                    <a:pt x="160" y="263"/>
                  </a:lnTo>
                  <a:lnTo>
                    <a:pt x="164" y="258"/>
                  </a:lnTo>
                  <a:lnTo>
                    <a:pt x="167" y="255"/>
                  </a:lnTo>
                  <a:lnTo>
                    <a:pt x="171" y="250"/>
                  </a:lnTo>
                  <a:lnTo>
                    <a:pt x="174" y="243"/>
                  </a:lnTo>
                  <a:lnTo>
                    <a:pt x="177" y="237"/>
                  </a:lnTo>
                  <a:lnTo>
                    <a:pt x="180" y="231"/>
                  </a:lnTo>
                  <a:lnTo>
                    <a:pt x="183" y="223"/>
                  </a:lnTo>
                  <a:lnTo>
                    <a:pt x="185" y="215"/>
                  </a:lnTo>
                  <a:close/>
                  <a:moveTo>
                    <a:pt x="46" y="131"/>
                  </a:moveTo>
                  <a:lnTo>
                    <a:pt x="186" y="131"/>
                  </a:lnTo>
                  <a:lnTo>
                    <a:pt x="185" y="121"/>
                  </a:lnTo>
                  <a:lnTo>
                    <a:pt x="184" y="112"/>
                  </a:lnTo>
                  <a:lnTo>
                    <a:pt x="182" y="105"/>
                  </a:lnTo>
                  <a:lnTo>
                    <a:pt x="181" y="97"/>
                  </a:lnTo>
                  <a:lnTo>
                    <a:pt x="178" y="90"/>
                  </a:lnTo>
                  <a:lnTo>
                    <a:pt x="176" y="84"/>
                  </a:lnTo>
                  <a:lnTo>
                    <a:pt x="173" y="77"/>
                  </a:lnTo>
                  <a:lnTo>
                    <a:pt x="170" y="72"/>
                  </a:lnTo>
                  <a:lnTo>
                    <a:pt x="165" y="66"/>
                  </a:lnTo>
                  <a:lnTo>
                    <a:pt x="159" y="60"/>
                  </a:lnTo>
                  <a:lnTo>
                    <a:pt x="153" y="55"/>
                  </a:lnTo>
                  <a:lnTo>
                    <a:pt x="146" y="50"/>
                  </a:lnTo>
                  <a:lnTo>
                    <a:pt x="140" y="48"/>
                  </a:lnTo>
                  <a:lnTo>
                    <a:pt x="133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10" y="43"/>
                  </a:lnTo>
                  <a:lnTo>
                    <a:pt x="104" y="44"/>
                  </a:lnTo>
                  <a:lnTo>
                    <a:pt x="97" y="46"/>
                  </a:lnTo>
                  <a:lnTo>
                    <a:pt x="91" y="49"/>
                  </a:lnTo>
                  <a:lnTo>
                    <a:pt x="85" y="52"/>
                  </a:lnTo>
                  <a:lnTo>
                    <a:pt x="79" y="56"/>
                  </a:lnTo>
                  <a:lnTo>
                    <a:pt x="73" y="61"/>
                  </a:lnTo>
                  <a:lnTo>
                    <a:pt x="68" y="66"/>
                  </a:lnTo>
                  <a:lnTo>
                    <a:pt x="63" y="72"/>
                  </a:lnTo>
                  <a:lnTo>
                    <a:pt x="59" y="80"/>
                  </a:lnTo>
                  <a:lnTo>
                    <a:pt x="56" y="87"/>
                  </a:lnTo>
                  <a:lnTo>
                    <a:pt x="53" y="95"/>
                  </a:lnTo>
                  <a:lnTo>
                    <a:pt x="50" y="104"/>
                  </a:lnTo>
                  <a:lnTo>
                    <a:pt x="49" y="112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12760" y="3025800"/>
              <a:ext cx="115920" cy="174600"/>
            </a:xfrm>
            <a:custGeom>
              <a:avLst/>
              <a:gdLst/>
              <a:ahLst/>
              <a:rect l="l" t="t" r="r" b="b"/>
              <a:pathLst>
                <a:path w="220" h="438">
                  <a:moveTo>
                    <a:pt x="8" y="340"/>
                  </a:moveTo>
                  <a:lnTo>
                    <a:pt x="50" y="347"/>
                  </a:lnTo>
                  <a:lnTo>
                    <a:pt x="50" y="352"/>
                  </a:lnTo>
                  <a:lnTo>
                    <a:pt x="52" y="358"/>
                  </a:lnTo>
                  <a:lnTo>
                    <a:pt x="53" y="363"/>
                  </a:lnTo>
                  <a:lnTo>
                    <a:pt x="55" y="367"/>
                  </a:lnTo>
                  <a:lnTo>
                    <a:pt x="56" y="371"/>
                  </a:lnTo>
                  <a:lnTo>
                    <a:pt x="59" y="374"/>
                  </a:lnTo>
                  <a:lnTo>
                    <a:pt x="61" y="378"/>
                  </a:lnTo>
                  <a:lnTo>
                    <a:pt x="64" y="381"/>
                  </a:lnTo>
                  <a:lnTo>
                    <a:pt x="68" y="384"/>
                  </a:lnTo>
                  <a:lnTo>
                    <a:pt x="72" y="387"/>
                  </a:lnTo>
                  <a:lnTo>
                    <a:pt x="77" y="389"/>
                  </a:lnTo>
                  <a:lnTo>
                    <a:pt x="82" y="392"/>
                  </a:lnTo>
                  <a:lnTo>
                    <a:pt x="88" y="393"/>
                  </a:lnTo>
                  <a:lnTo>
                    <a:pt x="93" y="394"/>
                  </a:lnTo>
                  <a:lnTo>
                    <a:pt x="100" y="396"/>
                  </a:lnTo>
                  <a:lnTo>
                    <a:pt x="107" y="396"/>
                  </a:lnTo>
                  <a:lnTo>
                    <a:pt x="114" y="396"/>
                  </a:lnTo>
                  <a:lnTo>
                    <a:pt x="121" y="394"/>
                  </a:lnTo>
                  <a:lnTo>
                    <a:pt x="127" y="393"/>
                  </a:lnTo>
                  <a:lnTo>
                    <a:pt x="133" y="392"/>
                  </a:lnTo>
                  <a:lnTo>
                    <a:pt x="138" y="389"/>
                  </a:lnTo>
                  <a:lnTo>
                    <a:pt x="143" y="387"/>
                  </a:lnTo>
                  <a:lnTo>
                    <a:pt x="148" y="384"/>
                  </a:lnTo>
                  <a:lnTo>
                    <a:pt x="152" y="381"/>
                  </a:lnTo>
                  <a:lnTo>
                    <a:pt x="156" y="377"/>
                  </a:lnTo>
                  <a:lnTo>
                    <a:pt x="159" y="373"/>
                  </a:lnTo>
                  <a:lnTo>
                    <a:pt x="162" y="368"/>
                  </a:lnTo>
                  <a:lnTo>
                    <a:pt x="165" y="363"/>
                  </a:lnTo>
                  <a:lnTo>
                    <a:pt x="168" y="358"/>
                  </a:lnTo>
                  <a:lnTo>
                    <a:pt x="170" y="353"/>
                  </a:lnTo>
                  <a:lnTo>
                    <a:pt x="172" y="347"/>
                  </a:lnTo>
                  <a:lnTo>
                    <a:pt x="173" y="341"/>
                  </a:lnTo>
                  <a:lnTo>
                    <a:pt x="175" y="336"/>
                  </a:lnTo>
                  <a:lnTo>
                    <a:pt x="176" y="331"/>
                  </a:lnTo>
                  <a:lnTo>
                    <a:pt x="176" y="323"/>
                  </a:lnTo>
                  <a:lnTo>
                    <a:pt x="177" y="316"/>
                  </a:lnTo>
                  <a:lnTo>
                    <a:pt x="177" y="307"/>
                  </a:lnTo>
                  <a:lnTo>
                    <a:pt x="177" y="297"/>
                  </a:lnTo>
                  <a:lnTo>
                    <a:pt x="177" y="286"/>
                  </a:lnTo>
                  <a:lnTo>
                    <a:pt x="177" y="273"/>
                  </a:lnTo>
                  <a:lnTo>
                    <a:pt x="169" y="283"/>
                  </a:lnTo>
                  <a:lnTo>
                    <a:pt x="162" y="291"/>
                  </a:lnTo>
                  <a:lnTo>
                    <a:pt x="154" y="298"/>
                  </a:lnTo>
                  <a:lnTo>
                    <a:pt x="146" y="303"/>
                  </a:lnTo>
                  <a:lnTo>
                    <a:pt x="137" y="308"/>
                  </a:lnTo>
                  <a:lnTo>
                    <a:pt x="128" y="312"/>
                  </a:lnTo>
                  <a:lnTo>
                    <a:pt x="118" y="313"/>
                  </a:lnTo>
                  <a:lnTo>
                    <a:pt x="108" y="315"/>
                  </a:lnTo>
                  <a:lnTo>
                    <a:pt x="95" y="313"/>
                  </a:lnTo>
                  <a:lnTo>
                    <a:pt x="83" y="311"/>
                  </a:lnTo>
                  <a:lnTo>
                    <a:pt x="72" y="307"/>
                  </a:lnTo>
                  <a:lnTo>
                    <a:pt x="62" y="302"/>
                  </a:lnTo>
                  <a:lnTo>
                    <a:pt x="53" y="296"/>
                  </a:lnTo>
                  <a:lnTo>
                    <a:pt x="44" y="288"/>
                  </a:lnTo>
                  <a:lnTo>
                    <a:pt x="36" y="278"/>
                  </a:lnTo>
                  <a:lnTo>
                    <a:pt x="28" y="268"/>
                  </a:lnTo>
                  <a:lnTo>
                    <a:pt x="21" y="257"/>
                  </a:lnTo>
                  <a:lnTo>
                    <a:pt x="15" y="245"/>
                  </a:lnTo>
                  <a:lnTo>
                    <a:pt x="11" y="231"/>
                  </a:lnTo>
                  <a:lnTo>
                    <a:pt x="7" y="218"/>
                  </a:lnTo>
                  <a:lnTo>
                    <a:pt x="4" y="203"/>
                  </a:lnTo>
                  <a:lnTo>
                    <a:pt x="2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0" y="147"/>
                  </a:lnTo>
                  <a:lnTo>
                    <a:pt x="1" y="137"/>
                  </a:lnTo>
                  <a:lnTo>
                    <a:pt x="2" y="126"/>
                  </a:lnTo>
                  <a:lnTo>
                    <a:pt x="3" y="116"/>
                  </a:lnTo>
                  <a:lnTo>
                    <a:pt x="5" y="106"/>
                  </a:lnTo>
                  <a:lnTo>
                    <a:pt x="7" y="96"/>
                  </a:lnTo>
                  <a:lnTo>
                    <a:pt x="10" y="87"/>
                  </a:lnTo>
                  <a:lnTo>
                    <a:pt x="13" y="77"/>
                  </a:lnTo>
                  <a:lnTo>
                    <a:pt x="16" y="69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8" y="45"/>
                  </a:lnTo>
                  <a:lnTo>
                    <a:pt x="34" y="38"/>
                  </a:lnTo>
                  <a:lnTo>
                    <a:pt x="39" y="31"/>
                  </a:lnTo>
                  <a:lnTo>
                    <a:pt x="45" y="25"/>
                  </a:lnTo>
                  <a:lnTo>
                    <a:pt x="51" y="20"/>
                  </a:lnTo>
                  <a:lnTo>
                    <a:pt x="57" y="15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7" y="5"/>
                  </a:lnTo>
                  <a:lnTo>
                    <a:pt x="84" y="3"/>
                  </a:lnTo>
                  <a:lnTo>
                    <a:pt x="92" y="1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39" y="6"/>
                  </a:lnTo>
                  <a:lnTo>
                    <a:pt x="148" y="11"/>
                  </a:lnTo>
                  <a:lnTo>
                    <a:pt x="157" y="18"/>
                  </a:lnTo>
                  <a:lnTo>
                    <a:pt x="165" y="25"/>
                  </a:lnTo>
                  <a:lnTo>
                    <a:pt x="173" y="34"/>
                  </a:lnTo>
                  <a:lnTo>
                    <a:pt x="181" y="44"/>
                  </a:lnTo>
                  <a:lnTo>
                    <a:pt x="181" y="6"/>
                  </a:lnTo>
                  <a:lnTo>
                    <a:pt x="220" y="6"/>
                  </a:lnTo>
                  <a:lnTo>
                    <a:pt x="220" y="272"/>
                  </a:lnTo>
                  <a:lnTo>
                    <a:pt x="220" y="290"/>
                  </a:lnTo>
                  <a:lnTo>
                    <a:pt x="219" y="306"/>
                  </a:lnTo>
                  <a:lnTo>
                    <a:pt x="218" y="321"/>
                  </a:lnTo>
                  <a:lnTo>
                    <a:pt x="217" y="333"/>
                  </a:lnTo>
                  <a:lnTo>
                    <a:pt x="215" y="346"/>
                  </a:lnTo>
                  <a:lnTo>
                    <a:pt x="213" y="357"/>
                  </a:lnTo>
                  <a:lnTo>
                    <a:pt x="211" y="366"/>
                  </a:lnTo>
                  <a:lnTo>
                    <a:pt x="208" y="374"/>
                  </a:lnTo>
                  <a:lnTo>
                    <a:pt x="205" y="381"/>
                  </a:lnTo>
                  <a:lnTo>
                    <a:pt x="201" y="388"/>
                  </a:lnTo>
                  <a:lnTo>
                    <a:pt x="197" y="394"/>
                  </a:lnTo>
                  <a:lnTo>
                    <a:pt x="193" y="401"/>
                  </a:lnTo>
                  <a:lnTo>
                    <a:pt x="188" y="407"/>
                  </a:lnTo>
                  <a:lnTo>
                    <a:pt x="183" y="412"/>
                  </a:lnTo>
                  <a:lnTo>
                    <a:pt x="177" y="417"/>
                  </a:lnTo>
                  <a:lnTo>
                    <a:pt x="170" y="422"/>
                  </a:lnTo>
                  <a:lnTo>
                    <a:pt x="163" y="426"/>
                  </a:lnTo>
                  <a:lnTo>
                    <a:pt x="157" y="429"/>
                  </a:lnTo>
                  <a:lnTo>
                    <a:pt x="149" y="432"/>
                  </a:lnTo>
                  <a:lnTo>
                    <a:pt x="142" y="434"/>
                  </a:lnTo>
                  <a:lnTo>
                    <a:pt x="134" y="436"/>
                  </a:lnTo>
                  <a:lnTo>
                    <a:pt x="125" y="438"/>
                  </a:lnTo>
                  <a:lnTo>
                    <a:pt x="117" y="438"/>
                  </a:lnTo>
                  <a:lnTo>
                    <a:pt x="107" y="438"/>
                  </a:lnTo>
                  <a:lnTo>
                    <a:pt x="96" y="438"/>
                  </a:lnTo>
                  <a:lnTo>
                    <a:pt x="85" y="437"/>
                  </a:lnTo>
                  <a:lnTo>
                    <a:pt x="76" y="436"/>
                  </a:lnTo>
                  <a:lnTo>
                    <a:pt x="67" y="432"/>
                  </a:lnTo>
                  <a:lnTo>
                    <a:pt x="58" y="429"/>
                  </a:lnTo>
                  <a:lnTo>
                    <a:pt x="50" y="424"/>
                  </a:lnTo>
                  <a:lnTo>
                    <a:pt x="42" y="419"/>
                  </a:lnTo>
                  <a:lnTo>
                    <a:pt x="35" y="414"/>
                  </a:lnTo>
                  <a:lnTo>
                    <a:pt x="28" y="407"/>
                  </a:lnTo>
                  <a:lnTo>
                    <a:pt x="23" y="399"/>
                  </a:lnTo>
                  <a:lnTo>
                    <a:pt x="18" y="392"/>
                  </a:lnTo>
                  <a:lnTo>
                    <a:pt x="14" y="383"/>
                  </a:lnTo>
                  <a:lnTo>
                    <a:pt x="11" y="373"/>
                  </a:lnTo>
                  <a:lnTo>
                    <a:pt x="9" y="363"/>
                  </a:lnTo>
                  <a:lnTo>
                    <a:pt x="8" y="352"/>
                  </a:lnTo>
                  <a:lnTo>
                    <a:pt x="8" y="340"/>
                  </a:lnTo>
                  <a:close/>
                  <a:moveTo>
                    <a:pt x="44" y="155"/>
                  </a:moveTo>
                  <a:lnTo>
                    <a:pt x="44" y="170"/>
                  </a:lnTo>
                  <a:lnTo>
                    <a:pt x="45" y="184"/>
                  </a:lnTo>
                  <a:lnTo>
                    <a:pt x="46" y="196"/>
                  </a:lnTo>
                  <a:lnTo>
                    <a:pt x="48" y="207"/>
                  </a:lnTo>
                  <a:lnTo>
                    <a:pt x="51" y="217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3" y="243"/>
                  </a:lnTo>
                  <a:lnTo>
                    <a:pt x="68" y="250"/>
                  </a:lnTo>
                  <a:lnTo>
                    <a:pt x="73" y="255"/>
                  </a:lnTo>
                  <a:lnTo>
                    <a:pt x="79" y="260"/>
                  </a:lnTo>
                  <a:lnTo>
                    <a:pt x="85" y="263"/>
                  </a:lnTo>
                  <a:lnTo>
                    <a:pt x="91" y="267"/>
                  </a:lnTo>
                  <a:lnTo>
                    <a:pt x="97" y="270"/>
                  </a:lnTo>
                  <a:lnTo>
                    <a:pt x="105" y="271"/>
                  </a:lnTo>
                  <a:lnTo>
                    <a:pt x="112" y="271"/>
                  </a:lnTo>
                  <a:lnTo>
                    <a:pt x="119" y="271"/>
                  </a:lnTo>
                  <a:lnTo>
                    <a:pt x="126" y="270"/>
                  </a:lnTo>
                  <a:lnTo>
                    <a:pt x="132" y="267"/>
                  </a:lnTo>
                  <a:lnTo>
                    <a:pt x="139" y="263"/>
                  </a:lnTo>
                  <a:lnTo>
                    <a:pt x="144" y="260"/>
                  </a:lnTo>
                  <a:lnTo>
                    <a:pt x="150" y="256"/>
                  </a:lnTo>
                  <a:lnTo>
                    <a:pt x="155" y="250"/>
                  </a:lnTo>
                  <a:lnTo>
                    <a:pt x="160" y="243"/>
                  </a:lnTo>
                  <a:lnTo>
                    <a:pt x="165" y="236"/>
                  </a:lnTo>
                  <a:lnTo>
                    <a:pt x="169" y="227"/>
                  </a:lnTo>
                  <a:lnTo>
                    <a:pt x="172" y="218"/>
                  </a:lnTo>
                  <a:lnTo>
                    <a:pt x="176" y="207"/>
                  </a:lnTo>
                  <a:lnTo>
                    <a:pt x="178" y="196"/>
                  </a:lnTo>
                  <a:lnTo>
                    <a:pt x="180" y="185"/>
                  </a:lnTo>
                  <a:lnTo>
                    <a:pt x="180" y="171"/>
                  </a:lnTo>
                  <a:lnTo>
                    <a:pt x="181" y="156"/>
                  </a:lnTo>
                  <a:lnTo>
                    <a:pt x="180" y="142"/>
                  </a:lnTo>
                  <a:lnTo>
                    <a:pt x="179" y="130"/>
                  </a:lnTo>
                  <a:lnTo>
                    <a:pt x="178" y="119"/>
                  </a:lnTo>
                  <a:lnTo>
                    <a:pt x="176" y="107"/>
                  </a:lnTo>
                  <a:lnTo>
                    <a:pt x="172" y="97"/>
                  </a:lnTo>
                  <a:lnTo>
                    <a:pt x="168" y="87"/>
                  </a:lnTo>
                  <a:lnTo>
                    <a:pt x="164" y="79"/>
                  </a:lnTo>
                  <a:lnTo>
                    <a:pt x="160" y="71"/>
                  </a:lnTo>
                  <a:lnTo>
                    <a:pt x="155" y="65"/>
                  </a:lnTo>
                  <a:lnTo>
                    <a:pt x="149" y="59"/>
                  </a:lnTo>
                  <a:lnTo>
                    <a:pt x="144" y="54"/>
                  </a:lnTo>
                  <a:lnTo>
                    <a:pt x="138" y="50"/>
                  </a:lnTo>
                  <a:lnTo>
                    <a:pt x="131" y="48"/>
                  </a:lnTo>
                  <a:lnTo>
                    <a:pt x="125" y="45"/>
                  </a:lnTo>
                  <a:lnTo>
                    <a:pt x="118" y="44"/>
                  </a:lnTo>
                  <a:lnTo>
                    <a:pt x="111" y="43"/>
                  </a:lnTo>
                  <a:lnTo>
                    <a:pt x="105" y="44"/>
                  </a:lnTo>
                  <a:lnTo>
                    <a:pt x="97" y="45"/>
                  </a:lnTo>
                  <a:lnTo>
                    <a:pt x="91" y="48"/>
                  </a:lnTo>
                  <a:lnTo>
                    <a:pt x="85" y="50"/>
                  </a:lnTo>
                  <a:lnTo>
                    <a:pt x="79" y="54"/>
                  </a:lnTo>
                  <a:lnTo>
                    <a:pt x="73" y="59"/>
                  </a:lnTo>
                  <a:lnTo>
                    <a:pt x="68" y="65"/>
                  </a:lnTo>
                  <a:lnTo>
                    <a:pt x="63" y="71"/>
                  </a:lnTo>
                  <a:lnTo>
                    <a:pt x="59" y="79"/>
                  </a:lnTo>
                  <a:lnTo>
                    <a:pt x="55" y="87"/>
                  </a:lnTo>
                  <a:lnTo>
                    <a:pt x="51" y="96"/>
                  </a:lnTo>
                  <a:lnTo>
                    <a:pt x="49" y="106"/>
                  </a:lnTo>
                  <a:lnTo>
                    <a:pt x="46" y="117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4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54240" y="3025800"/>
              <a:ext cx="123840" cy="127080"/>
            </a:xfrm>
            <a:custGeom>
              <a:avLst/>
              <a:gdLst/>
              <a:ahLst/>
              <a:rect l="l" t="t" r="r" b="b"/>
              <a:pathLst>
                <a:path w="234" h="321">
                  <a:moveTo>
                    <a:pt x="0" y="160"/>
                  </a:moveTo>
                  <a:lnTo>
                    <a:pt x="1" y="140"/>
                  </a:lnTo>
                  <a:lnTo>
                    <a:pt x="2" y="120"/>
                  </a:lnTo>
                  <a:lnTo>
                    <a:pt x="5" y="102"/>
                  </a:lnTo>
                  <a:lnTo>
                    <a:pt x="10" y="86"/>
                  </a:lnTo>
                  <a:lnTo>
                    <a:pt x="15" y="71"/>
                  </a:lnTo>
                  <a:lnTo>
                    <a:pt x="22" y="57"/>
                  </a:lnTo>
                  <a:lnTo>
                    <a:pt x="29" y="45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5" y="14"/>
                  </a:lnTo>
                  <a:lnTo>
                    <a:pt x="74" y="9"/>
                  </a:lnTo>
                  <a:lnTo>
                    <a:pt x="84" y="5"/>
                  </a:lnTo>
                  <a:lnTo>
                    <a:pt x="95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30" y="0"/>
                  </a:lnTo>
                  <a:lnTo>
                    <a:pt x="142" y="3"/>
                  </a:lnTo>
                  <a:lnTo>
                    <a:pt x="153" y="6"/>
                  </a:lnTo>
                  <a:lnTo>
                    <a:pt x="164" y="10"/>
                  </a:lnTo>
                  <a:lnTo>
                    <a:pt x="174" y="16"/>
                  </a:lnTo>
                  <a:lnTo>
                    <a:pt x="183" y="24"/>
                  </a:lnTo>
                  <a:lnTo>
                    <a:pt x="192" y="31"/>
                  </a:lnTo>
                  <a:lnTo>
                    <a:pt x="201" y="41"/>
                  </a:lnTo>
                  <a:lnTo>
                    <a:pt x="209" y="52"/>
                  </a:lnTo>
                  <a:lnTo>
                    <a:pt x="216" y="64"/>
                  </a:lnTo>
                  <a:lnTo>
                    <a:pt x="221" y="77"/>
                  </a:lnTo>
                  <a:lnTo>
                    <a:pt x="226" y="91"/>
                  </a:lnTo>
                  <a:lnTo>
                    <a:pt x="229" y="106"/>
                  </a:lnTo>
                  <a:lnTo>
                    <a:pt x="232" y="121"/>
                  </a:lnTo>
                  <a:lnTo>
                    <a:pt x="233" y="139"/>
                  </a:lnTo>
                  <a:lnTo>
                    <a:pt x="234" y="156"/>
                  </a:lnTo>
                  <a:lnTo>
                    <a:pt x="233" y="171"/>
                  </a:lnTo>
                  <a:lnTo>
                    <a:pt x="233" y="184"/>
                  </a:lnTo>
                  <a:lnTo>
                    <a:pt x="232" y="197"/>
                  </a:lnTo>
                  <a:lnTo>
                    <a:pt x="230" y="208"/>
                  </a:lnTo>
                  <a:lnTo>
                    <a:pt x="228" y="220"/>
                  </a:lnTo>
                  <a:lnTo>
                    <a:pt x="226" y="231"/>
                  </a:lnTo>
                  <a:lnTo>
                    <a:pt x="223" y="241"/>
                  </a:lnTo>
                  <a:lnTo>
                    <a:pt x="219" y="250"/>
                  </a:lnTo>
                  <a:lnTo>
                    <a:pt x="216" y="257"/>
                  </a:lnTo>
                  <a:lnTo>
                    <a:pt x="212" y="266"/>
                  </a:lnTo>
                  <a:lnTo>
                    <a:pt x="207" y="272"/>
                  </a:lnTo>
                  <a:lnTo>
                    <a:pt x="202" y="280"/>
                  </a:lnTo>
                  <a:lnTo>
                    <a:pt x="197" y="286"/>
                  </a:lnTo>
                  <a:lnTo>
                    <a:pt x="190" y="292"/>
                  </a:lnTo>
                  <a:lnTo>
                    <a:pt x="184" y="297"/>
                  </a:lnTo>
                  <a:lnTo>
                    <a:pt x="177" y="302"/>
                  </a:lnTo>
                  <a:lnTo>
                    <a:pt x="170" y="307"/>
                  </a:lnTo>
                  <a:lnTo>
                    <a:pt x="163" y="311"/>
                  </a:lnTo>
                  <a:lnTo>
                    <a:pt x="156" y="313"/>
                  </a:lnTo>
                  <a:lnTo>
                    <a:pt x="149" y="316"/>
                  </a:lnTo>
                  <a:lnTo>
                    <a:pt x="141" y="318"/>
                  </a:lnTo>
                  <a:lnTo>
                    <a:pt x="133" y="320"/>
                  </a:lnTo>
                  <a:lnTo>
                    <a:pt x="126" y="321"/>
                  </a:lnTo>
                  <a:lnTo>
                    <a:pt x="117" y="321"/>
                  </a:lnTo>
                  <a:lnTo>
                    <a:pt x="104" y="321"/>
                  </a:lnTo>
                  <a:lnTo>
                    <a:pt x="92" y="318"/>
                  </a:lnTo>
                  <a:lnTo>
                    <a:pt x="81" y="315"/>
                  </a:lnTo>
                  <a:lnTo>
                    <a:pt x="70" y="311"/>
                  </a:lnTo>
                  <a:lnTo>
                    <a:pt x="60" y="305"/>
                  </a:lnTo>
                  <a:lnTo>
                    <a:pt x="49" y="297"/>
                  </a:lnTo>
                  <a:lnTo>
                    <a:pt x="40" y="290"/>
                  </a:lnTo>
                  <a:lnTo>
                    <a:pt x="32" y="280"/>
                  </a:lnTo>
                  <a:lnTo>
                    <a:pt x="25" y="268"/>
                  </a:lnTo>
                  <a:lnTo>
                    <a:pt x="18" y="257"/>
                  </a:lnTo>
                  <a:lnTo>
                    <a:pt x="13" y="243"/>
                  </a:lnTo>
                  <a:lnTo>
                    <a:pt x="8" y="230"/>
                  </a:lnTo>
                  <a:lnTo>
                    <a:pt x="5" y="213"/>
                  </a:lnTo>
                  <a:lnTo>
                    <a:pt x="2" y="197"/>
                  </a:lnTo>
                  <a:lnTo>
                    <a:pt x="1" y="180"/>
                  </a:lnTo>
                  <a:lnTo>
                    <a:pt x="0" y="160"/>
                  </a:lnTo>
                  <a:close/>
                  <a:moveTo>
                    <a:pt x="43" y="160"/>
                  </a:moveTo>
                  <a:lnTo>
                    <a:pt x="43" y="175"/>
                  </a:lnTo>
                  <a:lnTo>
                    <a:pt x="44" y="189"/>
                  </a:lnTo>
                  <a:lnTo>
                    <a:pt x="46" y="201"/>
                  </a:lnTo>
                  <a:lnTo>
                    <a:pt x="48" y="212"/>
                  </a:lnTo>
                  <a:lnTo>
                    <a:pt x="52" y="222"/>
                  </a:lnTo>
                  <a:lnTo>
                    <a:pt x="56" y="232"/>
                  </a:lnTo>
                  <a:lnTo>
                    <a:pt x="60" y="241"/>
                  </a:lnTo>
                  <a:lnTo>
                    <a:pt x="65" y="248"/>
                  </a:lnTo>
                  <a:lnTo>
                    <a:pt x="70" y="256"/>
                  </a:lnTo>
                  <a:lnTo>
                    <a:pt x="76" y="262"/>
                  </a:lnTo>
                  <a:lnTo>
                    <a:pt x="82" y="267"/>
                  </a:lnTo>
                  <a:lnTo>
                    <a:pt x="88" y="271"/>
                  </a:lnTo>
                  <a:lnTo>
                    <a:pt x="95" y="275"/>
                  </a:lnTo>
                  <a:lnTo>
                    <a:pt x="102" y="276"/>
                  </a:lnTo>
                  <a:lnTo>
                    <a:pt x="109" y="277"/>
                  </a:lnTo>
                  <a:lnTo>
                    <a:pt x="117" y="278"/>
                  </a:lnTo>
                  <a:lnTo>
                    <a:pt x="125" y="277"/>
                  </a:lnTo>
                  <a:lnTo>
                    <a:pt x="132" y="276"/>
                  </a:lnTo>
                  <a:lnTo>
                    <a:pt x="139" y="273"/>
                  </a:lnTo>
                  <a:lnTo>
                    <a:pt x="146" y="271"/>
                  </a:lnTo>
                  <a:lnTo>
                    <a:pt x="152" y="267"/>
                  </a:lnTo>
                  <a:lnTo>
                    <a:pt x="158" y="262"/>
                  </a:lnTo>
                  <a:lnTo>
                    <a:pt x="164" y="256"/>
                  </a:lnTo>
                  <a:lnTo>
                    <a:pt x="169" y="248"/>
                  </a:lnTo>
                  <a:lnTo>
                    <a:pt x="174" y="241"/>
                  </a:lnTo>
                  <a:lnTo>
                    <a:pt x="178" y="232"/>
                  </a:lnTo>
                  <a:lnTo>
                    <a:pt x="182" y="222"/>
                  </a:lnTo>
                  <a:lnTo>
                    <a:pt x="185" y="211"/>
                  </a:lnTo>
                  <a:lnTo>
                    <a:pt x="187" y="200"/>
                  </a:lnTo>
                  <a:lnTo>
                    <a:pt x="189" y="187"/>
                  </a:lnTo>
                  <a:lnTo>
                    <a:pt x="189" y="174"/>
                  </a:lnTo>
                  <a:lnTo>
                    <a:pt x="190" y="159"/>
                  </a:lnTo>
                  <a:lnTo>
                    <a:pt x="189" y="145"/>
                  </a:lnTo>
                  <a:lnTo>
                    <a:pt x="189" y="132"/>
                  </a:lnTo>
                  <a:lnTo>
                    <a:pt x="187" y="120"/>
                  </a:lnTo>
                  <a:lnTo>
                    <a:pt x="185" y="109"/>
                  </a:lnTo>
                  <a:lnTo>
                    <a:pt x="182" y="99"/>
                  </a:lnTo>
                  <a:lnTo>
                    <a:pt x="178" y="89"/>
                  </a:lnTo>
                  <a:lnTo>
                    <a:pt x="174" y="80"/>
                  </a:lnTo>
                  <a:lnTo>
                    <a:pt x="169" y="72"/>
                  </a:lnTo>
                  <a:lnTo>
                    <a:pt x="164" y="65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6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09" y="44"/>
                  </a:lnTo>
                  <a:lnTo>
                    <a:pt x="102" y="45"/>
                  </a:lnTo>
                  <a:lnTo>
                    <a:pt x="95" y="48"/>
                  </a:lnTo>
                  <a:lnTo>
                    <a:pt x="88" y="50"/>
                  </a:lnTo>
                  <a:lnTo>
                    <a:pt x="82" y="55"/>
                  </a:lnTo>
                  <a:lnTo>
                    <a:pt x="76" y="60"/>
                  </a:lnTo>
                  <a:lnTo>
                    <a:pt x="70" y="65"/>
                  </a:lnTo>
                  <a:lnTo>
                    <a:pt x="65" y="72"/>
                  </a:lnTo>
                  <a:lnTo>
                    <a:pt x="60" y="80"/>
                  </a:lnTo>
                  <a:lnTo>
                    <a:pt x="56" y="89"/>
                  </a:lnTo>
                  <a:lnTo>
                    <a:pt x="52" y="99"/>
                  </a:lnTo>
                  <a:lnTo>
                    <a:pt x="48" y="109"/>
                  </a:lnTo>
                  <a:lnTo>
                    <a:pt x="46" y="120"/>
                  </a:lnTo>
                  <a:lnTo>
                    <a:pt x="44" y="132"/>
                  </a:lnTo>
                  <a:lnTo>
                    <a:pt x="43" y="146"/>
                  </a:lnTo>
                  <a:lnTo>
                    <a:pt x="4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95360" y="3025800"/>
              <a:ext cx="115920" cy="174600"/>
            </a:xfrm>
            <a:custGeom>
              <a:avLst/>
              <a:gdLst/>
              <a:ahLst/>
              <a:rect l="l" t="t" r="r" b="b"/>
              <a:pathLst>
                <a:path w="220" h="438">
                  <a:moveTo>
                    <a:pt x="9" y="340"/>
                  </a:moveTo>
                  <a:lnTo>
                    <a:pt x="49" y="347"/>
                  </a:lnTo>
                  <a:lnTo>
                    <a:pt x="50" y="352"/>
                  </a:lnTo>
                  <a:lnTo>
                    <a:pt x="51" y="358"/>
                  </a:lnTo>
                  <a:lnTo>
                    <a:pt x="53" y="363"/>
                  </a:lnTo>
                  <a:lnTo>
                    <a:pt x="54" y="367"/>
                  </a:lnTo>
                  <a:lnTo>
                    <a:pt x="56" y="371"/>
                  </a:lnTo>
                  <a:lnTo>
                    <a:pt x="58" y="374"/>
                  </a:lnTo>
                  <a:lnTo>
                    <a:pt x="61" y="378"/>
                  </a:lnTo>
                  <a:lnTo>
                    <a:pt x="64" y="381"/>
                  </a:lnTo>
                  <a:lnTo>
                    <a:pt x="68" y="384"/>
                  </a:lnTo>
                  <a:lnTo>
                    <a:pt x="72" y="387"/>
                  </a:lnTo>
                  <a:lnTo>
                    <a:pt x="78" y="389"/>
                  </a:lnTo>
                  <a:lnTo>
                    <a:pt x="83" y="392"/>
                  </a:lnTo>
                  <a:lnTo>
                    <a:pt x="88" y="393"/>
                  </a:lnTo>
                  <a:lnTo>
                    <a:pt x="94" y="394"/>
                  </a:lnTo>
                  <a:lnTo>
                    <a:pt x="100" y="396"/>
                  </a:lnTo>
                  <a:lnTo>
                    <a:pt x="107" y="396"/>
                  </a:lnTo>
                  <a:lnTo>
                    <a:pt x="114" y="396"/>
                  </a:lnTo>
                  <a:lnTo>
                    <a:pt x="121" y="394"/>
                  </a:lnTo>
                  <a:lnTo>
                    <a:pt x="127" y="393"/>
                  </a:lnTo>
                  <a:lnTo>
                    <a:pt x="133" y="392"/>
                  </a:lnTo>
                  <a:lnTo>
                    <a:pt x="138" y="389"/>
                  </a:lnTo>
                  <a:lnTo>
                    <a:pt x="143" y="387"/>
                  </a:lnTo>
                  <a:lnTo>
                    <a:pt x="149" y="384"/>
                  </a:lnTo>
                  <a:lnTo>
                    <a:pt x="153" y="381"/>
                  </a:lnTo>
                  <a:lnTo>
                    <a:pt x="157" y="377"/>
                  </a:lnTo>
                  <a:lnTo>
                    <a:pt x="160" y="373"/>
                  </a:lnTo>
                  <a:lnTo>
                    <a:pt x="163" y="368"/>
                  </a:lnTo>
                  <a:lnTo>
                    <a:pt x="166" y="363"/>
                  </a:lnTo>
                  <a:lnTo>
                    <a:pt x="168" y="358"/>
                  </a:lnTo>
                  <a:lnTo>
                    <a:pt x="171" y="353"/>
                  </a:lnTo>
                  <a:lnTo>
                    <a:pt x="172" y="347"/>
                  </a:lnTo>
                  <a:lnTo>
                    <a:pt x="174" y="341"/>
                  </a:lnTo>
                  <a:lnTo>
                    <a:pt x="175" y="336"/>
                  </a:lnTo>
                  <a:lnTo>
                    <a:pt x="175" y="331"/>
                  </a:lnTo>
                  <a:lnTo>
                    <a:pt x="176" y="323"/>
                  </a:lnTo>
                  <a:lnTo>
                    <a:pt x="176" y="316"/>
                  </a:lnTo>
                  <a:lnTo>
                    <a:pt x="177" y="307"/>
                  </a:lnTo>
                  <a:lnTo>
                    <a:pt x="177" y="297"/>
                  </a:lnTo>
                  <a:lnTo>
                    <a:pt x="177" y="286"/>
                  </a:lnTo>
                  <a:lnTo>
                    <a:pt x="177" y="273"/>
                  </a:lnTo>
                  <a:lnTo>
                    <a:pt x="170" y="283"/>
                  </a:lnTo>
                  <a:lnTo>
                    <a:pt x="163" y="291"/>
                  </a:lnTo>
                  <a:lnTo>
                    <a:pt x="155" y="298"/>
                  </a:lnTo>
                  <a:lnTo>
                    <a:pt x="145" y="303"/>
                  </a:lnTo>
                  <a:lnTo>
                    <a:pt x="137" y="308"/>
                  </a:lnTo>
                  <a:lnTo>
                    <a:pt x="127" y="312"/>
                  </a:lnTo>
                  <a:lnTo>
                    <a:pt x="118" y="313"/>
                  </a:lnTo>
                  <a:lnTo>
                    <a:pt x="108" y="315"/>
                  </a:lnTo>
                  <a:lnTo>
                    <a:pt x="96" y="313"/>
                  </a:lnTo>
                  <a:lnTo>
                    <a:pt x="84" y="311"/>
                  </a:lnTo>
                  <a:lnTo>
                    <a:pt x="72" y="307"/>
                  </a:lnTo>
                  <a:lnTo>
                    <a:pt x="62" y="302"/>
                  </a:lnTo>
                  <a:lnTo>
                    <a:pt x="52" y="296"/>
                  </a:lnTo>
                  <a:lnTo>
                    <a:pt x="44" y="288"/>
                  </a:lnTo>
                  <a:lnTo>
                    <a:pt x="36" y="278"/>
                  </a:lnTo>
                  <a:lnTo>
                    <a:pt x="28" y="268"/>
                  </a:lnTo>
                  <a:lnTo>
                    <a:pt x="22" y="257"/>
                  </a:lnTo>
                  <a:lnTo>
                    <a:pt x="16" y="245"/>
                  </a:lnTo>
                  <a:lnTo>
                    <a:pt x="11" y="231"/>
                  </a:lnTo>
                  <a:lnTo>
                    <a:pt x="7" y="218"/>
                  </a:lnTo>
                  <a:lnTo>
                    <a:pt x="4" y="203"/>
                  </a:lnTo>
                  <a:lnTo>
                    <a:pt x="2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0" y="147"/>
                  </a:lnTo>
                  <a:lnTo>
                    <a:pt x="0" y="137"/>
                  </a:lnTo>
                  <a:lnTo>
                    <a:pt x="2" y="126"/>
                  </a:lnTo>
                  <a:lnTo>
                    <a:pt x="4" y="116"/>
                  </a:lnTo>
                  <a:lnTo>
                    <a:pt x="5" y="106"/>
                  </a:lnTo>
                  <a:lnTo>
                    <a:pt x="8" y="96"/>
                  </a:lnTo>
                  <a:lnTo>
                    <a:pt x="10" y="87"/>
                  </a:lnTo>
                  <a:lnTo>
                    <a:pt x="13" y="77"/>
                  </a:lnTo>
                  <a:lnTo>
                    <a:pt x="17" y="69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9" y="45"/>
                  </a:lnTo>
                  <a:lnTo>
                    <a:pt x="34" y="38"/>
                  </a:lnTo>
                  <a:lnTo>
                    <a:pt x="39" y="31"/>
                  </a:lnTo>
                  <a:lnTo>
                    <a:pt x="44" y="25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8" y="5"/>
                  </a:lnTo>
                  <a:lnTo>
                    <a:pt x="85" y="3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39" y="6"/>
                  </a:lnTo>
                  <a:lnTo>
                    <a:pt x="149" y="11"/>
                  </a:lnTo>
                  <a:lnTo>
                    <a:pt x="158" y="18"/>
                  </a:lnTo>
                  <a:lnTo>
                    <a:pt x="166" y="25"/>
                  </a:lnTo>
                  <a:lnTo>
                    <a:pt x="174" y="34"/>
                  </a:lnTo>
                  <a:lnTo>
                    <a:pt x="181" y="44"/>
                  </a:lnTo>
                  <a:lnTo>
                    <a:pt x="181" y="6"/>
                  </a:lnTo>
                  <a:lnTo>
                    <a:pt x="220" y="6"/>
                  </a:lnTo>
                  <a:lnTo>
                    <a:pt x="220" y="272"/>
                  </a:lnTo>
                  <a:lnTo>
                    <a:pt x="220" y="290"/>
                  </a:lnTo>
                  <a:lnTo>
                    <a:pt x="220" y="306"/>
                  </a:lnTo>
                  <a:lnTo>
                    <a:pt x="219" y="321"/>
                  </a:lnTo>
                  <a:lnTo>
                    <a:pt x="217" y="333"/>
                  </a:lnTo>
                  <a:lnTo>
                    <a:pt x="215" y="346"/>
                  </a:lnTo>
                  <a:lnTo>
                    <a:pt x="213" y="357"/>
                  </a:lnTo>
                  <a:lnTo>
                    <a:pt x="210" y="366"/>
                  </a:lnTo>
                  <a:lnTo>
                    <a:pt x="208" y="374"/>
                  </a:lnTo>
                  <a:lnTo>
                    <a:pt x="205" y="381"/>
                  </a:lnTo>
                  <a:lnTo>
                    <a:pt x="201" y="388"/>
                  </a:lnTo>
                  <a:lnTo>
                    <a:pt x="197" y="394"/>
                  </a:lnTo>
                  <a:lnTo>
                    <a:pt x="193" y="401"/>
                  </a:lnTo>
                  <a:lnTo>
                    <a:pt x="188" y="407"/>
                  </a:lnTo>
                  <a:lnTo>
                    <a:pt x="183" y="412"/>
                  </a:lnTo>
                  <a:lnTo>
                    <a:pt x="177" y="417"/>
                  </a:lnTo>
                  <a:lnTo>
                    <a:pt x="171" y="422"/>
                  </a:lnTo>
                  <a:lnTo>
                    <a:pt x="164" y="426"/>
                  </a:lnTo>
                  <a:lnTo>
                    <a:pt x="157" y="429"/>
                  </a:lnTo>
                  <a:lnTo>
                    <a:pt x="150" y="432"/>
                  </a:lnTo>
                  <a:lnTo>
                    <a:pt x="141" y="434"/>
                  </a:lnTo>
                  <a:lnTo>
                    <a:pt x="133" y="436"/>
                  </a:lnTo>
                  <a:lnTo>
                    <a:pt x="125" y="438"/>
                  </a:lnTo>
                  <a:lnTo>
                    <a:pt x="116" y="438"/>
                  </a:lnTo>
                  <a:lnTo>
                    <a:pt x="107" y="438"/>
                  </a:lnTo>
                  <a:lnTo>
                    <a:pt x="96" y="438"/>
                  </a:lnTo>
                  <a:lnTo>
                    <a:pt x="86" y="437"/>
                  </a:lnTo>
                  <a:lnTo>
                    <a:pt x="77" y="436"/>
                  </a:lnTo>
                  <a:lnTo>
                    <a:pt x="66" y="432"/>
                  </a:lnTo>
                  <a:lnTo>
                    <a:pt x="58" y="429"/>
                  </a:lnTo>
                  <a:lnTo>
                    <a:pt x="50" y="424"/>
                  </a:lnTo>
                  <a:lnTo>
                    <a:pt x="42" y="419"/>
                  </a:lnTo>
                  <a:lnTo>
                    <a:pt x="35" y="414"/>
                  </a:lnTo>
                  <a:lnTo>
                    <a:pt x="29" y="407"/>
                  </a:lnTo>
                  <a:lnTo>
                    <a:pt x="23" y="399"/>
                  </a:lnTo>
                  <a:lnTo>
                    <a:pt x="19" y="392"/>
                  </a:lnTo>
                  <a:lnTo>
                    <a:pt x="15" y="383"/>
                  </a:lnTo>
                  <a:lnTo>
                    <a:pt x="12" y="373"/>
                  </a:lnTo>
                  <a:lnTo>
                    <a:pt x="10" y="363"/>
                  </a:lnTo>
                  <a:lnTo>
                    <a:pt x="9" y="352"/>
                  </a:lnTo>
                  <a:lnTo>
                    <a:pt x="9" y="340"/>
                  </a:lnTo>
                  <a:close/>
                  <a:moveTo>
                    <a:pt x="43" y="155"/>
                  </a:moveTo>
                  <a:lnTo>
                    <a:pt x="44" y="170"/>
                  </a:lnTo>
                  <a:lnTo>
                    <a:pt x="45" y="184"/>
                  </a:lnTo>
                  <a:lnTo>
                    <a:pt x="46" y="196"/>
                  </a:lnTo>
                  <a:lnTo>
                    <a:pt x="48" y="207"/>
                  </a:lnTo>
                  <a:lnTo>
                    <a:pt x="51" y="217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3" y="243"/>
                  </a:lnTo>
                  <a:lnTo>
                    <a:pt x="68" y="250"/>
                  </a:lnTo>
                  <a:lnTo>
                    <a:pt x="74" y="255"/>
                  </a:lnTo>
                  <a:lnTo>
                    <a:pt x="79" y="260"/>
                  </a:lnTo>
                  <a:lnTo>
                    <a:pt x="85" y="263"/>
                  </a:lnTo>
                  <a:lnTo>
                    <a:pt x="92" y="267"/>
                  </a:lnTo>
                  <a:lnTo>
                    <a:pt x="98" y="270"/>
                  </a:lnTo>
                  <a:lnTo>
                    <a:pt x="105" y="271"/>
                  </a:lnTo>
                  <a:lnTo>
                    <a:pt x="112" y="271"/>
                  </a:lnTo>
                  <a:lnTo>
                    <a:pt x="119" y="271"/>
                  </a:lnTo>
                  <a:lnTo>
                    <a:pt x="126" y="270"/>
                  </a:lnTo>
                  <a:lnTo>
                    <a:pt x="132" y="267"/>
                  </a:lnTo>
                  <a:lnTo>
                    <a:pt x="138" y="263"/>
                  </a:lnTo>
                  <a:lnTo>
                    <a:pt x="144" y="260"/>
                  </a:lnTo>
                  <a:lnTo>
                    <a:pt x="151" y="256"/>
                  </a:lnTo>
                  <a:lnTo>
                    <a:pt x="156" y="250"/>
                  </a:lnTo>
                  <a:lnTo>
                    <a:pt x="161" y="243"/>
                  </a:lnTo>
                  <a:lnTo>
                    <a:pt x="166" y="236"/>
                  </a:lnTo>
                  <a:lnTo>
                    <a:pt x="170" y="227"/>
                  </a:lnTo>
                  <a:lnTo>
                    <a:pt x="173" y="218"/>
                  </a:lnTo>
                  <a:lnTo>
                    <a:pt x="176" y="207"/>
                  </a:lnTo>
                  <a:lnTo>
                    <a:pt x="178" y="196"/>
                  </a:lnTo>
                  <a:lnTo>
                    <a:pt x="179" y="185"/>
                  </a:lnTo>
                  <a:lnTo>
                    <a:pt x="180" y="171"/>
                  </a:lnTo>
                  <a:lnTo>
                    <a:pt x="180" y="156"/>
                  </a:lnTo>
                  <a:lnTo>
                    <a:pt x="180" y="142"/>
                  </a:lnTo>
                  <a:lnTo>
                    <a:pt x="179" y="130"/>
                  </a:lnTo>
                  <a:lnTo>
                    <a:pt x="178" y="119"/>
                  </a:lnTo>
                  <a:lnTo>
                    <a:pt x="175" y="107"/>
                  </a:lnTo>
                  <a:lnTo>
                    <a:pt x="173" y="97"/>
                  </a:lnTo>
                  <a:lnTo>
                    <a:pt x="169" y="87"/>
                  </a:lnTo>
                  <a:lnTo>
                    <a:pt x="165" y="79"/>
                  </a:lnTo>
                  <a:lnTo>
                    <a:pt x="160" y="71"/>
                  </a:lnTo>
                  <a:lnTo>
                    <a:pt x="155" y="65"/>
                  </a:lnTo>
                  <a:lnTo>
                    <a:pt x="150" y="59"/>
                  </a:lnTo>
                  <a:lnTo>
                    <a:pt x="143" y="54"/>
                  </a:lnTo>
                  <a:lnTo>
                    <a:pt x="137" y="50"/>
                  </a:lnTo>
                  <a:lnTo>
                    <a:pt x="131" y="48"/>
                  </a:lnTo>
                  <a:lnTo>
                    <a:pt x="125" y="45"/>
                  </a:lnTo>
                  <a:lnTo>
                    <a:pt x="118" y="44"/>
                  </a:lnTo>
                  <a:lnTo>
                    <a:pt x="111" y="43"/>
                  </a:lnTo>
                  <a:lnTo>
                    <a:pt x="104" y="44"/>
                  </a:lnTo>
                  <a:lnTo>
                    <a:pt x="98" y="45"/>
                  </a:lnTo>
                  <a:lnTo>
                    <a:pt x="91" y="48"/>
                  </a:lnTo>
                  <a:lnTo>
                    <a:pt x="85" y="50"/>
                  </a:lnTo>
                  <a:lnTo>
                    <a:pt x="80" y="54"/>
                  </a:lnTo>
                  <a:lnTo>
                    <a:pt x="74" y="59"/>
                  </a:lnTo>
                  <a:lnTo>
                    <a:pt x="68" y="65"/>
                  </a:lnTo>
                  <a:lnTo>
                    <a:pt x="63" y="71"/>
                  </a:lnTo>
                  <a:lnTo>
                    <a:pt x="58" y="79"/>
                  </a:lnTo>
                  <a:lnTo>
                    <a:pt x="54" y="87"/>
                  </a:lnTo>
                  <a:lnTo>
                    <a:pt x="51" y="96"/>
                  </a:lnTo>
                  <a:lnTo>
                    <a:pt x="48" y="106"/>
                  </a:lnTo>
                  <a:lnTo>
                    <a:pt x="46" y="117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3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4760" y="3025800"/>
              <a:ext cx="108000" cy="12528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0" y="315"/>
                  </a:moveTo>
                  <a:lnTo>
                    <a:pt x="0" y="6"/>
                  </a:lnTo>
                  <a:lnTo>
                    <a:pt x="39" y="6"/>
                  </a:lnTo>
                  <a:lnTo>
                    <a:pt x="39" y="50"/>
                  </a:lnTo>
                  <a:lnTo>
                    <a:pt x="46" y="39"/>
                  </a:lnTo>
                  <a:lnTo>
                    <a:pt x="54" y="29"/>
                  </a:lnTo>
                  <a:lnTo>
                    <a:pt x="63" y="20"/>
                  </a:lnTo>
                  <a:lnTo>
                    <a:pt x="72" y="13"/>
                  </a:lnTo>
                  <a:lnTo>
                    <a:pt x="83" y="8"/>
                  </a:lnTo>
                  <a:lnTo>
                    <a:pt x="94" y="3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4" y="1"/>
                  </a:lnTo>
                  <a:lnTo>
                    <a:pt x="140" y="3"/>
                  </a:lnTo>
                  <a:lnTo>
                    <a:pt x="145" y="4"/>
                  </a:lnTo>
                  <a:lnTo>
                    <a:pt x="150" y="5"/>
                  </a:lnTo>
                  <a:lnTo>
                    <a:pt x="155" y="8"/>
                  </a:lnTo>
                  <a:lnTo>
                    <a:pt x="160" y="10"/>
                  </a:lnTo>
                  <a:lnTo>
                    <a:pt x="165" y="13"/>
                  </a:lnTo>
                  <a:lnTo>
                    <a:pt x="169" y="15"/>
                  </a:lnTo>
                  <a:lnTo>
                    <a:pt x="173" y="19"/>
                  </a:lnTo>
                  <a:lnTo>
                    <a:pt x="176" y="21"/>
                  </a:lnTo>
                  <a:lnTo>
                    <a:pt x="180" y="25"/>
                  </a:lnTo>
                  <a:lnTo>
                    <a:pt x="183" y="29"/>
                  </a:lnTo>
                  <a:lnTo>
                    <a:pt x="186" y="33"/>
                  </a:lnTo>
                  <a:lnTo>
                    <a:pt x="188" y="36"/>
                  </a:lnTo>
                  <a:lnTo>
                    <a:pt x="190" y="40"/>
                  </a:lnTo>
                  <a:lnTo>
                    <a:pt x="192" y="45"/>
                  </a:lnTo>
                  <a:lnTo>
                    <a:pt x="194" y="49"/>
                  </a:lnTo>
                  <a:lnTo>
                    <a:pt x="196" y="54"/>
                  </a:lnTo>
                  <a:lnTo>
                    <a:pt x="198" y="59"/>
                  </a:lnTo>
                  <a:lnTo>
                    <a:pt x="199" y="64"/>
                  </a:lnTo>
                  <a:lnTo>
                    <a:pt x="200" y="69"/>
                  </a:lnTo>
                  <a:lnTo>
                    <a:pt x="201" y="75"/>
                  </a:lnTo>
                  <a:lnTo>
                    <a:pt x="202" y="79"/>
                  </a:lnTo>
                  <a:lnTo>
                    <a:pt x="202" y="84"/>
                  </a:lnTo>
                  <a:lnTo>
                    <a:pt x="202" y="89"/>
                  </a:lnTo>
                  <a:lnTo>
                    <a:pt x="203" y="95"/>
                  </a:lnTo>
                  <a:lnTo>
                    <a:pt x="203" y="101"/>
                  </a:lnTo>
                  <a:lnTo>
                    <a:pt x="203" y="109"/>
                  </a:lnTo>
                  <a:lnTo>
                    <a:pt x="203" y="116"/>
                  </a:lnTo>
                  <a:lnTo>
                    <a:pt x="203" y="125"/>
                  </a:lnTo>
                  <a:lnTo>
                    <a:pt x="203" y="315"/>
                  </a:lnTo>
                  <a:lnTo>
                    <a:pt x="162" y="315"/>
                  </a:lnTo>
                  <a:lnTo>
                    <a:pt x="162" y="127"/>
                  </a:lnTo>
                  <a:lnTo>
                    <a:pt x="162" y="120"/>
                  </a:lnTo>
                  <a:lnTo>
                    <a:pt x="161" y="112"/>
                  </a:lnTo>
                  <a:lnTo>
                    <a:pt x="161" y="106"/>
                  </a:lnTo>
                  <a:lnTo>
                    <a:pt x="160" y="100"/>
                  </a:lnTo>
                  <a:lnTo>
                    <a:pt x="160" y="94"/>
                  </a:lnTo>
                  <a:lnTo>
                    <a:pt x="159" y="89"/>
                  </a:lnTo>
                  <a:lnTo>
                    <a:pt x="158" y="84"/>
                  </a:lnTo>
                  <a:lnTo>
                    <a:pt x="157" y="80"/>
                  </a:lnTo>
                  <a:lnTo>
                    <a:pt x="155" y="76"/>
                  </a:lnTo>
                  <a:lnTo>
                    <a:pt x="154" y="72"/>
                  </a:lnTo>
                  <a:lnTo>
                    <a:pt x="151" y="69"/>
                  </a:lnTo>
                  <a:lnTo>
                    <a:pt x="149" y="65"/>
                  </a:lnTo>
                  <a:lnTo>
                    <a:pt x="147" y="62"/>
                  </a:lnTo>
                  <a:lnTo>
                    <a:pt x="144" y="60"/>
                  </a:lnTo>
                  <a:lnTo>
                    <a:pt x="142" y="57"/>
                  </a:lnTo>
                  <a:lnTo>
                    <a:pt x="139" y="55"/>
                  </a:lnTo>
                  <a:lnTo>
                    <a:pt x="135" y="52"/>
                  </a:lnTo>
                  <a:lnTo>
                    <a:pt x="132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1" y="46"/>
                  </a:lnTo>
                  <a:lnTo>
                    <a:pt x="118" y="45"/>
                  </a:lnTo>
                  <a:lnTo>
                    <a:pt x="114" y="45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6"/>
                  </a:lnTo>
                  <a:lnTo>
                    <a:pt x="90" y="48"/>
                  </a:lnTo>
                  <a:lnTo>
                    <a:pt x="85" y="50"/>
                  </a:lnTo>
                  <a:lnTo>
                    <a:pt x="78" y="54"/>
                  </a:lnTo>
                  <a:lnTo>
                    <a:pt x="73" y="57"/>
                  </a:lnTo>
                  <a:lnTo>
                    <a:pt x="67" y="61"/>
                  </a:lnTo>
                  <a:lnTo>
                    <a:pt x="62" y="66"/>
                  </a:lnTo>
                  <a:lnTo>
                    <a:pt x="58" y="72"/>
                  </a:lnTo>
                  <a:lnTo>
                    <a:pt x="54" y="79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6" y="107"/>
                  </a:lnTo>
                  <a:lnTo>
                    <a:pt x="44" y="119"/>
                  </a:lnTo>
                  <a:lnTo>
                    <a:pt x="43" y="132"/>
                  </a:lnTo>
                  <a:lnTo>
                    <a:pt x="43" y="146"/>
                  </a:lnTo>
                  <a:lnTo>
                    <a:pt x="43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79400" y="3025800"/>
              <a:ext cx="122400" cy="1270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77" y="276"/>
                  </a:moveTo>
                  <a:lnTo>
                    <a:pt x="171" y="282"/>
                  </a:lnTo>
                  <a:lnTo>
                    <a:pt x="165" y="287"/>
                  </a:lnTo>
                  <a:lnTo>
                    <a:pt x="160" y="292"/>
                  </a:lnTo>
                  <a:lnTo>
                    <a:pt x="154" y="297"/>
                  </a:lnTo>
                  <a:lnTo>
                    <a:pt x="149" y="301"/>
                  </a:lnTo>
                  <a:lnTo>
                    <a:pt x="143" y="305"/>
                  </a:lnTo>
                  <a:lnTo>
                    <a:pt x="138" y="308"/>
                  </a:lnTo>
                  <a:lnTo>
                    <a:pt x="132" y="311"/>
                  </a:lnTo>
                  <a:lnTo>
                    <a:pt x="127" y="313"/>
                  </a:lnTo>
                  <a:lnTo>
                    <a:pt x="121" y="316"/>
                  </a:lnTo>
                  <a:lnTo>
                    <a:pt x="115" y="317"/>
                  </a:lnTo>
                  <a:lnTo>
                    <a:pt x="109" y="318"/>
                  </a:lnTo>
                  <a:lnTo>
                    <a:pt x="103" y="320"/>
                  </a:lnTo>
                  <a:lnTo>
                    <a:pt x="97" y="321"/>
                  </a:lnTo>
                  <a:lnTo>
                    <a:pt x="91" y="321"/>
                  </a:lnTo>
                  <a:lnTo>
                    <a:pt x="85" y="321"/>
                  </a:lnTo>
                  <a:lnTo>
                    <a:pt x="75" y="321"/>
                  </a:lnTo>
                  <a:lnTo>
                    <a:pt x="66" y="320"/>
                  </a:lnTo>
                  <a:lnTo>
                    <a:pt x="57" y="317"/>
                  </a:lnTo>
                  <a:lnTo>
                    <a:pt x="49" y="315"/>
                  </a:lnTo>
                  <a:lnTo>
                    <a:pt x="41" y="311"/>
                  </a:lnTo>
                  <a:lnTo>
                    <a:pt x="34" y="307"/>
                  </a:lnTo>
                  <a:lnTo>
                    <a:pt x="28" y="302"/>
                  </a:lnTo>
                  <a:lnTo>
                    <a:pt x="22" y="296"/>
                  </a:lnTo>
                  <a:lnTo>
                    <a:pt x="17" y="290"/>
                  </a:lnTo>
                  <a:lnTo>
                    <a:pt x="12" y="283"/>
                  </a:lnTo>
                  <a:lnTo>
                    <a:pt x="9" y="276"/>
                  </a:lnTo>
                  <a:lnTo>
                    <a:pt x="6" y="268"/>
                  </a:lnTo>
                  <a:lnTo>
                    <a:pt x="3" y="260"/>
                  </a:lnTo>
                  <a:lnTo>
                    <a:pt x="2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1" y="222"/>
                  </a:lnTo>
                  <a:lnTo>
                    <a:pt x="1" y="217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5" y="201"/>
                  </a:lnTo>
                  <a:lnTo>
                    <a:pt x="6" y="196"/>
                  </a:lnTo>
                  <a:lnTo>
                    <a:pt x="8" y="192"/>
                  </a:lnTo>
                  <a:lnTo>
                    <a:pt x="11" y="187"/>
                  </a:lnTo>
                  <a:lnTo>
                    <a:pt x="13" y="184"/>
                  </a:lnTo>
                  <a:lnTo>
                    <a:pt x="15" y="179"/>
                  </a:lnTo>
                  <a:lnTo>
                    <a:pt x="18" y="175"/>
                  </a:lnTo>
                  <a:lnTo>
                    <a:pt x="21" y="171"/>
                  </a:lnTo>
                  <a:lnTo>
                    <a:pt x="24" y="169"/>
                  </a:lnTo>
                  <a:lnTo>
                    <a:pt x="27" y="165"/>
                  </a:lnTo>
                  <a:lnTo>
                    <a:pt x="30" y="162"/>
                  </a:lnTo>
                  <a:lnTo>
                    <a:pt x="33" y="159"/>
                  </a:lnTo>
                  <a:lnTo>
                    <a:pt x="37" y="156"/>
                  </a:lnTo>
                  <a:lnTo>
                    <a:pt x="40" y="154"/>
                  </a:lnTo>
                  <a:lnTo>
                    <a:pt x="45" y="152"/>
                  </a:lnTo>
                  <a:lnTo>
                    <a:pt x="49" y="150"/>
                  </a:lnTo>
                  <a:lnTo>
                    <a:pt x="53" y="149"/>
                  </a:lnTo>
                  <a:lnTo>
                    <a:pt x="57" y="146"/>
                  </a:lnTo>
                  <a:lnTo>
                    <a:pt x="61" y="145"/>
                  </a:lnTo>
                  <a:lnTo>
                    <a:pt x="64" y="144"/>
                  </a:lnTo>
                  <a:lnTo>
                    <a:pt x="68" y="142"/>
                  </a:lnTo>
                  <a:lnTo>
                    <a:pt x="72" y="142"/>
                  </a:lnTo>
                  <a:lnTo>
                    <a:pt x="76" y="141"/>
                  </a:lnTo>
                  <a:lnTo>
                    <a:pt x="81" y="140"/>
                  </a:lnTo>
                  <a:lnTo>
                    <a:pt x="86" y="139"/>
                  </a:lnTo>
                  <a:lnTo>
                    <a:pt x="92" y="137"/>
                  </a:lnTo>
                  <a:lnTo>
                    <a:pt x="98" y="137"/>
                  </a:lnTo>
                  <a:lnTo>
                    <a:pt x="110" y="135"/>
                  </a:lnTo>
                  <a:lnTo>
                    <a:pt x="123" y="134"/>
                  </a:lnTo>
                  <a:lnTo>
                    <a:pt x="133" y="131"/>
                  </a:lnTo>
                  <a:lnTo>
                    <a:pt x="143" y="129"/>
                  </a:lnTo>
                  <a:lnTo>
                    <a:pt x="152" y="126"/>
                  </a:lnTo>
                  <a:lnTo>
                    <a:pt x="160" y="124"/>
                  </a:lnTo>
                  <a:lnTo>
                    <a:pt x="167" y="121"/>
                  </a:lnTo>
                  <a:lnTo>
                    <a:pt x="173" y="119"/>
                  </a:lnTo>
                  <a:lnTo>
                    <a:pt x="173" y="116"/>
                  </a:lnTo>
                  <a:lnTo>
                    <a:pt x="174" y="114"/>
                  </a:lnTo>
                  <a:lnTo>
                    <a:pt x="174" y="112"/>
                  </a:lnTo>
                  <a:lnTo>
                    <a:pt x="174" y="110"/>
                  </a:lnTo>
                  <a:lnTo>
                    <a:pt x="174" y="109"/>
                  </a:lnTo>
                  <a:lnTo>
                    <a:pt x="174" y="107"/>
                  </a:lnTo>
                  <a:lnTo>
                    <a:pt x="174" y="106"/>
                  </a:lnTo>
                  <a:lnTo>
                    <a:pt x="174" y="105"/>
                  </a:lnTo>
                  <a:lnTo>
                    <a:pt x="173" y="97"/>
                  </a:lnTo>
                  <a:lnTo>
                    <a:pt x="173" y="91"/>
                  </a:lnTo>
                  <a:lnTo>
                    <a:pt x="172" y="84"/>
                  </a:lnTo>
                  <a:lnTo>
                    <a:pt x="171" y="79"/>
                  </a:lnTo>
                  <a:lnTo>
                    <a:pt x="169" y="72"/>
                  </a:lnTo>
                  <a:lnTo>
                    <a:pt x="167" y="69"/>
                  </a:lnTo>
                  <a:lnTo>
                    <a:pt x="165" y="64"/>
                  </a:lnTo>
                  <a:lnTo>
                    <a:pt x="162" y="61"/>
                  </a:lnTo>
                  <a:lnTo>
                    <a:pt x="158" y="56"/>
                  </a:lnTo>
                  <a:lnTo>
                    <a:pt x="153" y="52"/>
                  </a:lnTo>
                  <a:lnTo>
                    <a:pt x="148" y="50"/>
                  </a:lnTo>
                  <a:lnTo>
                    <a:pt x="142" y="48"/>
                  </a:lnTo>
                  <a:lnTo>
                    <a:pt x="136" y="45"/>
                  </a:lnTo>
                  <a:lnTo>
                    <a:pt x="129" y="44"/>
                  </a:lnTo>
                  <a:lnTo>
                    <a:pt x="122" y="44"/>
                  </a:lnTo>
                  <a:lnTo>
                    <a:pt x="113" y="43"/>
                  </a:lnTo>
                  <a:lnTo>
                    <a:pt x="106" y="44"/>
                  </a:lnTo>
                  <a:lnTo>
                    <a:pt x="100" y="44"/>
                  </a:lnTo>
                  <a:lnTo>
                    <a:pt x="93" y="45"/>
                  </a:lnTo>
                  <a:lnTo>
                    <a:pt x="88" y="46"/>
                  </a:lnTo>
                  <a:lnTo>
                    <a:pt x="83" y="48"/>
                  </a:lnTo>
                  <a:lnTo>
                    <a:pt x="78" y="50"/>
                  </a:lnTo>
                  <a:lnTo>
                    <a:pt x="74" y="52"/>
                  </a:lnTo>
                  <a:lnTo>
                    <a:pt x="70" y="56"/>
                  </a:lnTo>
                  <a:lnTo>
                    <a:pt x="66" y="60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8" y="74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1" y="94"/>
                  </a:lnTo>
                  <a:lnTo>
                    <a:pt x="49" y="101"/>
                  </a:lnTo>
                  <a:lnTo>
                    <a:pt x="7" y="95"/>
                  </a:lnTo>
                  <a:lnTo>
                    <a:pt x="9" y="86"/>
                  </a:lnTo>
                  <a:lnTo>
                    <a:pt x="11" y="79"/>
                  </a:lnTo>
                  <a:lnTo>
                    <a:pt x="13" y="71"/>
                  </a:lnTo>
                  <a:lnTo>
                    <a:pt x="15" y="65"/>
                  </a:lnTo>
                  <a:lnTo>
                    <a:pt x="17" y="59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6" y="41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8" y="14"/>
                  </a:lnTo>
                  <a:lnTo>
                    <a:pt x="63" y="11"/>
                  </a:lnTo>
                  <a:lnTo>
                    <a:pt x="70" y="9"/>
                  </a:lnTo>
                  <a:lnTo>
                    <a:pt x="76" y="6"/>
                  </a:lnTo>
                  <a:lnTo>
                    <a:pt x="83" y="4"/>
                  </a:lnTo>
                  <a:lnTo>
                    <a:pt x="89" y="3"/>
                  </a:lnTo>
                  <a:lnTo>
                    <a:pt x="97" y="1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3"/>
                  </a:lnTo>
                  <a:lnTo>
                    <a:pt x="155" y="4"/>
                  </a:lnTo>
                  <a:lnTo>
                    <a:pt x="161" y="5"/>
                  </a:lnTo>
                  <a:lnTo>
                    <a:pt x="166" y="8"/>
                  </a:lnTo>
                  <a:lnTo>
                    <a:pt x="172" y="9"/>
                  </a:lnTo>
                  <a:lnTo>
                    <a:pt x="176" y="11"/>
                  </a:lnTo>
                  <a:lnTo>
                    <a:pt x="181" y="14"/>
                  </a:lnTo>
                  <a:lnTo>
                    <a:pt x="185" y="16"/>
                  </a:lnTo>
                  <a:lnTo>
                    <a:pt x="190" y="20"/>
                  </a:lnTo>
                  <a:lnTo>
                    <a:pt x="193" y="23"/>
                  </a:lnTo>
                  <a:lnTo>
                    <a:pt x="196" y="26"/>
                  </a:lnTo>
                  <a:lnTo>
                    <a:pt x="199" y="29"/>
                  </a:lnTo>
                  <a:lnTo>
                    <a:pt x="202" y="33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8" y="44"/>
                  </a:lnTo>
                  <a:lnTo>
                    <a:pt x="209" y="49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5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6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7" y="107"/>
                  </a:lnTo>
                  <a:lnTo>
                    <a:pt x="217" y="116"/>
                  </a:lnTo>
                  <a:lnTo>
                    <a:pt x="217" y="185"/>
                  </a:lnTo>
                  <a:lnTo>
                    <a:pt x="217" y="202"/>
                  </a:lnTo>
                  <a:lnTo>
                    <a:pt x="217" y="218"/>
                  </a:lnTo>
                  <a:lnTo>
                    <a:pt x="217" y="232"/>
                  </a:lnTo>
                  <a:lnTo>
                    <a:pt x="217" y="245"/>
                  </a:lnTo>
                  <a:lnTo>
                    <a:pt x="218" y="255"/>
                  </a:lnTo>
                  <a:lnTo>
                    <a:pt x="218" y="265"/>
                  </a:lnTo>
                  <a:lnTo>
                    <a:pt x="219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1" y="287"/>
                  </a:lnTo>
                  <a:lnTo>
                    <a:pt x="222" y="291"/>
                  </a:lnTo>
                  <a:lnTo>
                    <a:pt x="223" y="296"/>
                  </a:lnTo>
                  <a:lnTo>
                    <a:pt x="225" y="301"/>
                  </a:lnTo>
                  <a:lnTo>
                    <a:pt x="226" y="305"/>
                  </a:lnTo>
                  <a:lnTo>
                    <a:pt x="228" y="310"/>
                  </a:lnTo>
                  <a:lnTo>
                    <a:pt x="230" y="315"/>
                  </a:lnTo>
                  <a:lnTo>
                    <a:pt x="185" y="315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1" y="301"/>
                  </a:lnTo>
                  <a:lnTo>
                    <a:pt x="180" y="296"/>
                  </a:lnTo>
                  <a:lnTo>
                    <a:pt x="179" y="292"/>
                  </a:lnTo>
                  <a:lnTo>
                    <a:pt x="178" y="287"/>
                  </a:lnTo>
                  <a:lnTo>
                    <a:pt x="177" y="281"/>
                  </a:lnTo>
                  <a:lnTo>
                    <a:pt x="177" y="276"/>
                  </a:lnTo>
                  <a:close/>
                  <a:moveTo>
                    <a:pt x="173" y="160"/>
                  </a:moveTo>
                  <a:lnTo>
                    <a:pt x="167" y="162"/>
                  </a:lnTo>
                  <a:lnTo>
                    <a:pt x="161" y="165"/>
                  </a:lnTo>
                  <a:lnTo>
                    <a:pt x="153" y="169"/>
                  </a:lnTo>
                  <a:lnTo>
                    <a:pt x="145" y="171"/>
                  </a:lnTo>
                  <a:lnTo>
                    <a:pt x="136" y="174"/>
                  </a:lnTo>
                  <a:lnTo>
                    <a:pt x="127" y="175"/>
                  </a:lnTo>
                  <a:lnTo>
                    <a:pt x="115" y="177"/>
                  </a:lnTo>
                  <a:lnTo>
                    <a:pt x="104" y="180"/>
                  </a:lnTo>
                  <a:lnTo>
                    <a:pt x="98" y="181"/>
                  </a:lnTo>
                  <a:lnTo>
                    <a:pt x="92" y="182"/>
                  </a:lnTo>
                  <a:lnTo>
                    <a:pt x="87" y="184"/>
                  </a:lnTo>
                  <a:lnTo>
                    <a:pt x="82" y="185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9"/>
                  </a:lnTo>
                  <a:lnTo>
                    <a:pt x="68" y="190"/>
                  </a:lnTo>
                  <a:lnTo>
                    <a:pt x="65" y="191"/>
                  </a:lnTo>
                  <a:lnTo>
                    <a:pt x="63" y="194"/>
                  </a:lnTo>
                  <a:lnTo>
                    <a:pt x="61" y="195"/>
                  </a:lnTo>
                  <a:lnTo>
                    <a:pt x="58" y="197"/>
                  </a:lnTo>
                  <a:lnTo>
                    <a:pt x="56" y="200"/>
                  </a:lnTo>
                  <a:lnTo>
                    <a:pt x="55" y="201"/>
                  </a:lnTo>
                  <a:lnTo>
                    <a:pt x="53" y="205"/>
                  </a:lnTo>
                  <a:lnTo>
                    <a:pt x="51" y="207"/>
                  </a:lnTo>
                  <a:lnTo>
                    <a:pt x="50" y="210"/>
                  </a:lnTo>
                  <a:lnTo>
                    <a:pt x="49" y="212"/>
                  </a:lnTo>
                  <a:lnTo>
                    <a:pt x="48" y="216"/>
                  </a:lnTo>
                  <a:lnTo>
                    <a:pt x="47" y="218"/>
                  </a:lnTo>
                  <a:lnTo>
                    <a:pt x="46" y="222"/>
                  </a:lnTo>
                  <a:lnTo>
                    <a:pt x="46" y="225"/>
                  </a:lnTo>
                  <a:lnTo>
                    <a:pt x="46" y="228"/>
                  </a:lnTo>
                  <a:lnTo>
                    <a:pt x="46" y="231"/>
                  </a:lnTo>
                  <a:lnTo>
                    <a:pt x="46" y="237"/>
                  </a:lnTo>
                  <a:lnTo>
                    <a:pt x="46" y="241"/>
                  </a:lnTo>
                  <a:lnTo>
                    <a:pt x="47" y="246"/>
                  </a:lnTo>
                  <a:lnTo>
                    <a:pt x="49" y="251"/>
                  </a:lnTo>
                  <a:lnTo>
                    <a:pt x="51" y="255"/>
                  </a:lnTo>
                  <a:lnTo>
                    <a:pt x="53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2" y="270"/>
                  </a:lnTo>
                  <a:lnTo>
                    <a:pt x="65" y="272"/>
                  </a:lnTo>
                  <a:lnTo>
                    <a:pt x="69" y="275"/>
                  </a:lnTo>
                  <a:lnTo>
                    <a:pt x="74" y="277"/>
                  </a:lnTo>
                  <a:lnTo>
                    <a:pt x="79" y="278"/>
                  </a:lnTo>
                  <a:lnTo>
                    <a:pt x="84" y="280"/>
                  </a:lnTo>
                  <a:lnTo>
                    <a:pt x="89" y="280"/>
                  </a:lnTo>
                  <a:lnTo>
                    <a:pt x="95" y="280"/>
                  </a:lnTo>
                  <a:lnTo>
                    <a:pt x="101" y="280"/>
                  </a:lnTo>
                  <a:lnTo>
                    <a:pt x="107" y="280"/>
                  </a:lnTo>
                  <a:lnTo>
                    <a:pt x="113" y="278"/>
                  </a:lnTo>
                  <a:lnTo>
                    <a:pt x="119" y="277"/>
                  </a:lnTo>
                  <a:lnTo>
                    <a:pt x="124" y="275"/>
                  </a:lnTo>
                  <a:lnTo>
                    <a:pt x="129" y="272"/>
                  </a:lnTo>
                  <a:lnTo>
                    <a:pt x="134" y="270"/>
                  </a:lnTo>
                  <a:lnTo>
                    <a:pt x="139" y="267"/>
                  </a:lnTo>
                  <a:lnTo>
                    <a:pt x="144" y="263"/>
                  </a:lnTo>
                  <a:lnTo>
                    <a:pt x="148" y="260"/>
                  </a:lnTo>
                  <a:lnTo>
                    <a:pt x="152" y="256"/>
                  </a:lnTo>
                  <a:lnTo>
                    <a:pt x="155" y="251"/>
                  </a:lnTo>
                  <a:lnTo>
                    <a:pt x="159" y="247"/>
                  </a:lnTo>
                  <a:lnTo>
                    <a:pt x="162" y="242"/>
                  </a:lnTo>
                  <a:lnTo>
                    <a:pt x="164" y="236"/>
                  </a:lnTo>
                  <a:lnTo>
                    <a:pt x="167" y="231"/>
                  </a:lnTo>
                  <a:lnTo>
                    <a:pt x="168" y="226"/>
                  </a:lnTo>
                  <a:lnTo>
                    <a:pt x="170" y="221"/>
                  </a:lnTo>
                  <a:lnTo>
                    <a:pt x="171" y="216"/>
                  </a:lnTo>
                  <a:lnTo>
                    <a:pt x="172" y="210"/>
                  </a:lnTo>
                  <a:lnTo>
                    <a:pt x="172" y="202"/>
                  </a:lnTo>
                  <a:lnTo>
                    <a:pt x="173" y="195"/>
                  </a:lnTo>
                  <a:lnTo>
                    <a:pt x="173" y="187"/>
                  </a:lnTo>
                  <a:lnTo>
                    <a:pt x="173" y="179"/>
                  </a:lnTo>
                  <a:lnTo>
                    <a:pt x="17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0880" y="3025800"/>
              <a:ext cx="115920" cy="174600"/>
            </a:xfrm>
            <a:custGeom>
              <a:avLst/>
              <a:gdLst/>
              <a:ahLst/>
              <a:rect l="l" t="t" r="r" b="b"/>
              <a:pathLst>
                <a:path w="220" h="438">
                  <a:moveTo>
                    <a:pt x="9" y="340"/>
                  </a:moveTo>
                  <a:lnTo>
                    <a:pt x="49" y="347"/>
                  </a:lnTo>
                  <a:lnTo>
                    <a:pt x="50" y="352"/>
                  </a:lnTo>
                  <a:lnTo>
                    <a:pt x="51" y="358"/>
                  </a:lnTo>
                  <a:lnTo>
                    <a:pt x="52" y="363"/>
                  </a:lnTo>
                  <a:lnTo>
                    <a:pt x="54" y="367"/>
                  </a:lnTo>
                  <a:lnTo>
                    <a:pt x="56" y="371"/>
                  </a:lnTo>
                  <a:lnTo>
                    <a:pt x="58" y="374"/>
                  </a:lnTo>
                  <a:lnTo>
                    <a:pt x="60" y="378"/>
                  </a:lnTo>
                  <a:lnTo>
                    <a:pt x="63" y="381"/>
                  </a:lnTo>
                  <a:lnTo>
                    <a:pt x="68" y="384"/>
                  </a:lnTo>
                  <a:lnTo>
                    <a:pt x="73" y="387"/>
                  </a:lnTo>
                  <a:lnTo>
                    <a:pt x="77" y="389"/>
                  </a:lnTo>
                  <a:lnTo>
                    <a:pt x="83" y="392"/>
                  </a:lnTo>
                  <a:lnTo>
                    <a:pt x="88" y="393"/>
                  </a:lnTo>
                  <a:lnTo>
                    <a:pt x="94" y="394"/>
                  </a:lnTo>
                  <a:lnTo>
                    <a:pt x="100" y="396"/>
                  </a:lnTo>
                  <a:lnTo>
                    <a:pt x="107" y="396"/>
                  </a:lnTo>
                  <a:lnTo>
                    <a:pt x="114" y="396"/>
                  </a:lnTo>
                  <a:lnTo>
                    <a:pt x="120" y="394"/>
                  </a:lnTo>
                  <a:lnTo>
                    <a:pt x="126" y="393"/>
                  </a:lnTo>
                  <a:lnTo>
                    <a:pt x="132" y="392"/>
                  </a:lnTo>
                  <a:lnTo>
                    <a:pt x="138" y="389"/>
                  </a:lnTo>
                  <a:lnTo>
                    <a:pt x="144" y="387"/>
                  </a:lnTo>
                  <a:lnTo>
                    <a:pt x="148" y="384"/>
                  </a:lnTo>
                  <a:lnTo>
                    <a:pt x="152" y="381"/>
                  </a:lnTo>
                  <a:lnTo>
                    <a:pt x="156" y="377"/>
                  </a:lnTo>
                  <a:lnTo>
                    <a:pt x="160" y="373"/>
                  </a:lnTo>
                  <a:lnTo>
                    <a:pt x="163" y="368"/>
                  </a:lnTo>
                  <a:lnTo>
                    <a:pt x="166" y="363"/>
                  </a:lnTo>
                  <a:lnTo>
                    <a:pt x="168" y="358"/>
                  </a:lnTo>
                  <a:lnTo>
                    <a:pt x="170" y="353"/>
                  </a:lnTo>
                  <a:lnTo>
                    <a:pt x="172" y="347"/>
                  </a:lnTo>
                  <a:lnTo>
                    <a:pt x="174" y="341"/>
                  </a:lnTo>
                  <a:lnTo>
                    <a:pt x="174" y="336"/>
                  </a:lnTo>
                  <a:lnTo>
                    <a:pt x="175" y="331"/>
                  </a:lnTo>
                  <a:lnTo>
                    <a:pt x="176" y="323"/>
                  </a:lnTo>
                  <a:lnTo>
                    <a:pt x="176" y="316"/>
                  </a:lnTo>
                  <a:lnTo>
                    <a:pt x="176" y="307"/>
                  </a:lnTo>
                  <a:lnTo>
                    <a:pt x="177" y="297"/>
                  </a:lnTo>
                  <a:lnTo>
                    <a:pt x="177" y="286"/>
                  </a:lnTo>
                  <a:lnTo>
                    <a:pt x="177" y="273"/>
                  </a:lnTo>
                  <a:lnTo>
                    <a:pt x="170" y="283"/>
                  </a:lnTo>
                  <a:lnTo>
                    <a:pt x="162" y="291"/>
                  </a:lnTo>
                  <a:lnTo>
                    <a:pt x="154" y="298"/>
                  </a:lnTo>
                  <a:lnTo>
                    <a:pt x="146" y="303"/>
                  </a:lnTo>
                  <a:lnTo>
                    <a:pt x="136" y="308"/>
                  </a:lnTo>
                  <a:lnTo>
                    <a:pt x="127" y="312"/>
                  </a:lnTo>
                  <a:lnTo>
                    <a:pt x="118" y="313"/>
                  </a:lnTo>
                  <a:lnTo>
                    <a:pt x="108" y="315"/>
                  </a:lnTo>
                  <a:lnTo>
                    <a:pt x="95" y="313"/>
                  </a:lnTo>
                  <a:lnTo>
                    <a:pt x="84" y="311"/>
                  </a:lnTo>
                  <a:lnTo>
                    <a:pt x="73" y="307"/>
                  </a:lnTo>
                  <a:lnTo>
                    <a:pt x="61" y="302"/>
                  </a:lnTo>
                  <a:lnTo>
                    <a:pt x="52" y="296"/>
                  </a:lnTo>
                  <a:lnTo>
                    <a:pt x="43" y="288"/>
                  </a:lnTo>
                  <a:lnTo>
                    <a:pt x="35" y="278"/>
                  </a:lnTo>
                  <a:lnTo>
                    <a:pt x="28" y="268"/>
                  </a:lnTo>
                  <a:lnTo>
                    <a:pt x="21" y="257"/>
                  </a:lnTo>
                  <a:lnTo>
                    <a:pt x="16" y="245"/>
                  </a:lnTo>
                  <a:lnTo>
                    <a:pt x="11" y="231"/>
                  </a:lnTo>
                  <a:lnTo>
                    <a:pt x="7" y="218"/>
                  </a:lnTo>
                  <a:lnTo>
                    <a:pt x="4" y="203"/>
                  </a:lnTo>
                  <a:lnTo>
                    <a:pt x="2" y="190"/>
                  </a:lnTo>
                  <a:lnTo>
                    <a:pt x="1" y="175"/>
                  </a:lnTo>
                  <a:lnTo>
                    <a:pt x="0" y="159"/>
                  </a:lnTo>
                  <a:lnTo>
                    <a:pt x="0" y="147"/>
                  </a:lnTo>
                  <a:lnTo>
                    <a:pt x="1" y="137"/>
                  </a:lnTo>
                  <a:lnTo>
                    <a:pt x="2" y="126"/>
                  </a:lnTo>
                  <a:lnTo>
                    <a:pt x="3" y="116"/>
                  </a:lnTo>
                  <a:lnTo>
                    <a:pt x="5" y="106"/>
                  </a:lnTo>
                  <a:lnTo>
                    <a:pt x="7" y="96"/>
                  </a:lnTo>
                  <a:lnTo>
                    <a:pt x="10" y="87"/>
                  </a:lnTo>
                  <a:lnTo>
                    <a:pt x="13" y="77"/>
                  </a:lnTo>
                  <a:lnTo>
                    <a:pt x="16" y="69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9" y="45"/>
                  </a:lnTo>
                  <a:lnTo>
                    <a:pt x="33" y="38"/>
                  </a:lnTo>
                  <a:lnTo>
                    <a:pt x="38" y="31"/>
                  </a:lnTo>
                  <a:lnTo>
                    <a:pt x="44" y="25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7" y="5"/>
                  </a:lnTo>
                  <a:lnTo>
                    <a:pt x="84" y="3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9" y="3"/>
                  </a:lnTo>
                  <a:lnTo>
                    <a:pt x="138" y="6"/>
                  </a:lnTo>
                  <a:lnTo>
                    <a:pt x="148" y="11"/>
                  </a:lnTo>
                  <a:lnTo>
                    <a:pt x="157" y="18"/>
                  </a:lnTo>
                  <a:lnTo>
                    <a:pt x="165" y="25"/>
                  </a:lnTo>
                  <a:lnTo>
                    <a:pt x="173" y="34"/>
                  </a:lnTo>
                  <a:lnTo>
                    <a:pt x="181" y="44"/>
                  </a:lnTo>
                  <a:lnTo>
                    <a:pt x="181" y="6"/>
                  </a:lnTo>
                  <a:lnTo>
                    <a:pt x="220" y="6"/>
                  </a:lnTo>
                  <a:lnTo>
                    <a:pt x="220" y="272"/>
                  </a:lnTo>
                  <a:lnTo>
                    <a:pt x="220" y="290"/>
                  </a:lnTo>
                  <a:lnTo>
                    <a:pt x="219" y="306"/>
                  </a:lnTo>
                  <a:lnTo>
                    <a:pt x="218" y="321"/>
                  </a:lnTo>
                  <a:lnTo>
                    <a:pt x="217" y="333"/>
                  </a:lnTo>
                  <a:lnTo>
                    <a:pt x="215" y="346"/>
                  </a:lnTo>
                  <a:lnTo>
                    <a:pt x="213" y="357"/>
                  </a:lnTo>
                  <a:lnTo>
                    <a:pt x="210" y="366"/>
                  </a:lnTo>
                  <a:lnTo>
                    <a:pt x="207" y="374"/>
                  </a:lnTo>
                  <a:lnTo>
                    <a:pt x="204" y="381"/>
                  </a:lnTo>
                  <a:lnTo>
                    <a:pt x="201" y="388"/>
                  </a:lnTo>
                  <a:lnTo>
                    <a:pt x="197" y="394"/>
                  </a:lnTo>
                  <a:lnTo>
                    <a:pt x="192" y="401"/>
                  </a:lnTo>
                  <a:lnTo>
                    <a:pt x="187" y="407"/>
                  </a:lnTo>
                  <a:lnTo>
                    <a:pt x="182" y="412"/>
                  </a:lnTo>
                  <a:lnTo>
                    <a:pt x="176" y="417"/>
                  </a:lnTo>
                  <a:lnTo>
                    <a:pt x="170" y="422"/>
                  </a:lnTo>
                  <a:lnTo>
                    <a:pt x="164" y="426"/>
                  </a:lnTo>
                  <a:lnTo>
                    <a:pt x="157" y="429"/>
                  </a:lnTo>
                  <a:lnTo>
                    <a:pt x="150" y="432"/>
                  </a:lnTo>
                  <a:lnTo>
                    <a:pt x="142" y="434"/>
                  </a:lnTo>
                  <a:lnTo>
                    <a:pt x="133" y="436"/>
                  </a:lnTo>
                  <a:lnTo>
                    <a:pt x="125" y="438"/>
                  </a:lnTo>
                  <a:lnTo>
                    <a:pt x="116" y="438"/>
                  </a:lnTo>
                  <a:lnTo>
                    <a:pt x="107" y="438"/>
                  </a:lnTo>
                  <a:lnTo>
                    <a:pt x="96" y="438"/>
                  </a:lnTo>
                  <a:lnTo>
                    <a:pt x="86" y="437"/>
                  </a:lnTo>
                  <a:lnTo>
                    <a:pt x="76" y="436"/>
                  </a:lnTo>
                  <a:lnTo>
                    <a:pt x="66" y="432"/>
                  </a:lnTo>
                  <a:lnTo>
                    <a:pt x="57" y="429"/>
                  </a:lnTo>
                  <a:lnTo>
                    <a:pt x="49" y="424"/>
                  </a:lnTo>
                  <a:lnTo>
                    <a:pt x="42" y="419"/>
                  </a:lnTo>
                  <a:lnTo>
                    <a:pt x="35" y="414"/>
                  </a:lnTo>
                  <a:lnTo>
                    <a:pt x="28" y="407"/>
                  </a:lnTo>
                  <a:lnTo>
                    <a:pt x="23" y="399"/>
                  </a:lnTo>
                  <a:lnTo>
                    <a:pt x="18" y="392"/>
                  </a:lnTo>
                  <a:lnTo>
                    <a:pt x="15" y="383"/>
                  </a:lnTo>
                  <a:lnTo>
                    <a:pt x="12" y="373"/>
                  </a:lnTo>
                  <a:lnTo>
                    <a:pt x="10" y="363"/>
                  </a:lnTo>
                  <a:lnTo>
                    <a:pt x="9" y="352"/>
                  </a:lnTo>
                  <a:lnTo>
                    <a:pt x="9" y="340"/>
                  </a:lnTo>
                  <a:close/>
                  <a:moveTo>
                    <a:pt x="43" y="155"/>
                  </a:moveTo>
                  <a:lnTo>
                    <a:pt x="43" y="170"/>
                  </a:lnTo>
                  <a:lnTo>
                    <a:pt x="44" y="184"/>
                  </a:lnTo>
                  <a:lnTo>
                    <a:pt x="46" y="196"/>
                  </a:lnTo>
                  <a:lnTo>
                    <a:pt x="48" y="207"/>
                  </a:lnTo>
                  <a:lnTo>
                    <a:pt x="51" y="217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2" y="243"/>
                  </a:lnTo>
                  <a:lnTo>
                    <a:pt x="68" y="250"/>
                  </a:lnTo>
                  <a:lnTo>
                    <a:pt x="74" y="255"/>
                  </a:lnTo>
                  <a:lnTo>
                    <a:pt x="79" y="260"/>
                  </a:lnTo>
                  <a:lnTo>
                    <a:pt x="85" y="263"/>
                  </a:lnTo>
                  <a:lnTo>
                    <a:pt x="91" y="267"/>
                  </a:lnTo>
                  <a:lnTo>
                    <a:pt x="98" y="270"/>
                  </a:lnTo>
                  <a:lnTo>
                    <a:pt x="104" y="271"/>
                  </a:lnTo>
                  <a:lnTo>
                    <a:pt x="111" y="271"/>
                  </a:lnTo>
                  <a:lnTo>
                    <a:pt x="119" y="271"/>
                  </a:lnTo>
                  <a:lnTo>
                    <a:pt x="125" y="270"/>
                  </a:lnTo>
                  <a:lnTo>
                    <a:pt x="132" y="267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0" y="256"/>
                  </a:lnTo>
                  <a:lnTo>
                    <a:pt x="156" y="250"/>
                  </a:lnTo>
                  <a:lnTo>
                    <a:pt x="161" y="243"/>
                  </a:lnTo>
                  <a:lnTo>
                    <a:pt x="165" y="236"/>
                  </a:lnTo>
                  <a:lnTo>
                    <a:pt x="169" y="227"/>
                  </a:lnTo>
                  <a:lnTo>
                    <a:pt x="172" y="218"/>
                  </a:lnTo>
                  <a:lnTo>
                    <a:pt x="175" y="207"/>
                  </a:lnTo>
                  <a:lnTo>
                    <a:pt x="177" y="196"/>
                  </a:lnTo>
                  <a:lnTo>
                    <a:pt x="179" y="185"/>
                  </a:lnTo>
                  <a:lnTo>
                    <a:pt x="180" y="171"/>
                  </a:lnTo>
                  <a:lnTo>
                    <a:pt x="180" y="156"/>
                  </a:lnTo>
                  <a:lnTo>
                    <a:pt x="180" y="142"/>
                  </a:lnTo>
                  <a:lnTo>
                    <a:pt x="179" y="130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2" y="97"/>
                  </a:lnTo>
                  <a:lnTo>
                    <a:pt x="169" y="87"/>
                  </a:lnTo>
                  <a:lnTo>
                    <a:pt x="165" y="79"/>
                  </a:lnTo>
                  <a:lnTo>
                    <a:pt x="160" y="71"/>
                  </a:lnTo>
                  <a:lnTo>
                    <a:pt x="155" y="65"/>
                  </a:lnTo>
                  <a:lnTo>
                    <a:pt x="150" y="59"/>
                  </a:lnTo>
                  <a:lnTo>
                    <a:pt x="144" y="54"/>
                  </a:lnTo>
                  <a:lnTo>
                    <a:pt x="137" y="50"/>
                  </a:lnTo>
                  <a:lnTo>
                    <a:pt x="131" y="48"/>
                  </a:lnTo>
                  <a:lnTo>
                    <a:pt x="124" y="45"/>
                  </a:lnTo>
                  <a:lnTo>
                    <a:pt x="118" y="44"/>
                  </a:lnTo>
                  <a:lnTo>
                    <a:pt x="111" y="43"/>
                  </a:lnTo>
                  <a:lnTo>
                    <a:pt x="104" y="44"/>
                  </a:lnTo>
                  <a:lnTo>
                    <a:pt x="97" y="45"/>
                  </a:lnTo>
                  <a:lnTo>
                    <a:pt x="91" y="48"/>
                  </a:lnTo>
                  <a:lnTo>
                    <a:pt x="85" y="50"/>
                  </a:lnTo>
                  <a:lnTo>
                    <a:pt x="79" y="54"/>
                  </a:lnTo>
                  <a:lnTo>
                    <a:pt x="74" y="59"/>
                  </a:lnTo>
                  <a:lnTo>
                    <a:pt x="68" y="65"/>
                  </a:lnTo>
                  <a:lnTo>
                    <a:pt x="62" y="71"/>
                  </a:lnTo>
                  <a:lnTo>
                    <a:pt x="58" y="79"/>
                  </a:lnTo>
                  <a:lnTo>
                    <a:pt x="54" y="87"/>
                  </a:lnTo>
                  <a:lnTo>
                    <a:pt x="51" y="96"/>
                  </a:lnTo>
                  <a:lnTo>
                    <a:pt x="48" y="106"/>
                  </a:lnTo>
                  <a:lnTo>
                    <a:pt x="46" y="117"/>
                  </a:lnTo>
                  <a:lnTo>
                    <a:pt x="44" y="129"/>
                  </a:lnTo>
                  <a:lnTo>
                    <a:pt x="43" y="141"/>
                  </a:lnTo>
                  <a:lnTo>
                    <a:pt x="43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62000" y="3025800"/>
              <a:ext cx="122400" cy="1270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78" y="276"/>
                  </a:moveTo>
                  <a:lnTo>
                    <a:pt x="172" y="282"/>
                  </a:lnTo>
                  <a:lnTo>
                    <a:pt x="166" y="287"/>
                  </a:lnTo>
                  <a:lnTo>
                    <a:pt x="159" y="292"/>
                  </a:lnTo>
                  <a:lnTo>
                    <a:pt x="154" y="297"/>
                  </a:lnTo>
                  <a:lnTo>
                    <a:pt x="148" y="301"/>
                  </a:lnTo>
                  <a:lnTo>
                    <a:pt x="143" y="305"/>
                  </a:lnTo>
                  <a:lnTo>
                    <a:pt x="137" y="308"/>
                  </a:lnTo>
                  <a:lnTo>
                    <a:pt x="132" y="311"/>
                  </a:lnTo>
                  <a:lnTo>
                    <a:pt x="127" y="313"/>
                  </a:lnTo>
                  <a:lnTo>
                    <a:pt x="121" y="316"/>
                  </a:lnTo>
                  <a:lnTo>
                    <a:pt x="115" y="317"/>
                  </a:lnTo>
                  <a:lnTo>
                    <a:pt x="110" y="318"/>
                  </a:lnTo>
                  <a:lnTo>
                    <a:pt x="104" y="320"/>
                  </a:lnTo>
                  <a:lnTo>
                    <a:pt x="98" y="321"/>
                  </a:lnTo>
                  <a:lnTo>
                    <a:pt x="92" y="321"/>
                  </a:lnTo>
                  <a:lnTo>
                    <a:pt x="85" y="321"/>
                  </a:lnTo>
                  <a:lnTo>
                    <a:pt x="75" y="321"/>
                  </a:lnTo>
                  <a:lnTo>
                    <a:pt x="66" y="320"/>
                  </a:lnTo>
                  <a:lnTo>
                    <a:pt x="57" y="317"/>
                  </a:lnTo>
                  <a:lnTo>
                    <a:pt x="49" y="315"/>
                  </a:lnTo>
                  <a:lnTo>
                    <a:pt x="42" y="311"/>
                  </a:lnTo>
                  <a:lnTo>
                    <a:pt x="35" y="307"/>
                  </a:lnTo>
                  <a:lnTo>
                    <a:pt x="28" y="302"/>
                  </a:lnTo>
                  <a:lnTo>
                    <a:pt x="23" y="296"/>
                  </a:lnTo>
                  <a:lnTo>
                    <a:pt x="18" y="290"/>
                  </a:lnTo>
                  <a:lnTo>
                    <a:pt x="12" y="283"/>
                  </a:lnTo>
                  <a:lnTo>
                    <a:pt x="8" y="276"/>
                  </a:lnTo>
                  <a:lnTo>
                    <a:pt x="5" y="268"/>
                  </a:lnTo>
                  <a:lnTo>
                    <a:pt x="3" y="260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222"/>
                  </a:lnTo>
                  <a:lnTo>
                    <a:pt x="1" y="217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5" y="201"/>
                  </a:lnTo>
                  <a:lnTo>
                    <a:pt x="6" y="196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3" y="184"/>
                  </a:lnTo>
                  <a:lnTo>
                    <a:pt x="16" y="179"/>
                  </a:lnTo>
                  <a:lnTo>
                    <a:pt x="19" y="175"/>
                  </a:lnTo>
                  <a:lnTo>
                    <a:pt x="21" y="171"/>
                  </a:lnTo>
                  <a:lnTo>
                    <a:pt x="24" y="169"/>
                  </a:lnTo>
                  <a:lnTo>
                    <a:pt x="27" y="165"/>
                  </a:lnTo>
                  <a:lnTo>
                    <a:pt x="31" y="162"/>
                  </a:lnTo>
                  <a:lnTo>
                    <a:pt x="34" y="159"/>
                  </a:lnTo>
                  <a:lnTo>
                    <a:pt x="38" y="156"/>
                  </a:lnTo>
                  <a:lnTo>
                    <a:pt x="41" y="154"/>
                  </a:lnTo>
                  <a:lnTo>
                    <a:pt x="45" y="152"/>
                  </a:lnTo>
                  <a:lnTo>
                    <a:pt x="49" y="150"/>
                  </a:lnTo>
                  <a:lnTo>
                    <a:pt x="53" y="149"/>
                  </a:lnTo>
                  <a:lnTo>
                    <a:pt x="57" y="146"/>
                  </a:lnTo>
                  <a:lnTo>
                    <a:pt x="61" y="145"/>
                  </a:lnTo>
                  <a:lnTo>
                    <a:pt x="64" y="144"/>
                  </a:lnTo>
                  <a:lnTo>
                    <a:pt x="68" y="142"/>
                  </a:lnTo>
                  <a:lnTo>
                    <a:pt x="72" y="142"/>
                  </a:lnTo>
                  <a:lnTo>
                    <a:pt x="76" y="141"/>
                  </a:lnTo>
                  <a:lnTo>
                    <a:pt x="81" y="140"/>
                  </a:lnTo>
                  <a:lnTo>
                    <a:pt x="86" y="139"/>
                  </a:lnTo>
                  <a:lnTo>
                    <a:pt x="93" y="137"/>
                  </a:lnTo>
                  <a:lnTo>
                    <a:pt x="99" y="137"/>
                  </a:lnTo>
                  <a:lnTo>
                    <a:pt x="111" y="135"/>
                  </a:lnTo>
                  <a:lnTo>
                    <a:pt x="122" y="134"/>
                  </a:lnTo>
                  <a:lnTo>
                    <a:pt x="133" y="131"/>
                  </a:lnTo>
                  <a:lnTo>
                    <a:pt x="143" y="129"/>
                  </a:lnTo>
                  <a:lnTo>
                    <a:pt x="151" y="126"/>
                  </a:lnTo>
                  <a:lnTo>
                    <a:pt x="161" y="124"/>
                  </a:lnTo>
                  <a:lnTo>
                    <a:pt x="168" y="121"/>
                  </a:lnTo>
                  <a:lnTo>
                    <a:pt x="174" y="119"/>
                  </a:lnTo>
                  <a:lnTo>
                    <a:pt x="174" y="116"/>
                  </a:lnTo>
                  <a:lnTo>
                    <a:pt x="174" y="114"/>
                  </a:lnTo>
                  <a:lnTo>
                    <a:pt x="174" y="112"/>
                  </a:lnTo>
                  <a:lnTo>
                    <a:pt x="174" y="110"/>
                  </a:lnTo>
                  <a:lnTo>
                    <a:pt x="174" y="109"/>
                  </a:lnTo>
                  <a:lnTo>
                    <a:pt x="174" y="107"/>
                  </a:lnTo>
                  <a:lnTo>
                    <a:pt x="174" y="106"/>
                  </a:lnTo>
                  <a:lnTo>
                    <a:pt x="174" y="105"/>
                  </a:lnTo>
                  <a:lnTo>
                    <a:pt x="174" y="97"/>
                  </a:lnTo>
                  <a:lnTo>
                    <a:pt x="174" y="91"/>
                  </a:lnTo>
                  <a:lnTo>
                    <a:pt x="173" y="84"/>
                  </a:lnTo>
                  <a:lnTo>
                    <a:pt x="171" y="79"/>
                  </a:lnTo>
                  <a:lnTo>
                    <a:pt x="170" y="72"/>
                  </a:lnTo>
                  <a:lnTo>
                    <a:pt x="168" y="69"/>
                  </a:lnTo>
                  <a:lnTo>
                    <a:pt x="165" y="64"/>
                  </a:lnTo>
                  <a:lnTo>
                    <a:pt x="163" y="61"/>
                  </a:lnTo>
                  <a:lnTo>
                    <a:pt x="157" y="56"/>
                  </a:lnTo>
                  <a:lnTo>
                    <a:pt x="153" y="52"/>
                  </a:lnTo>
                  <a:lnTo>
                    <a:pt x="147" y="50"/>
                  </a:lnTo>
                  <a:lnTo>
                    <a:pt x="142" y="48"/>
                  </a:lnTo>
                  <a:lnTo>
                    <a:pt x="135" y="45"/>
                  </a:lnTo>
                  <a:lnTo>
                    <a:pt x="129" y="44"/>
                  </a:lnTo>
                  <a:lnTo>
                    <a:pt x="122" y="44"/>
                  </a:lnTo>
                  <a:lnTo>
                    <a:pt x="114" y="43"/>
                  </a:lnTo>
                  <a:lnTo>
                    <a:pt x="107" y="44"/>
                  </a:lnTo>
                  <a:lnTo>
                    <a:pt x="100" y="44"/>
                  </a:lnTo>
                  <a:lnTo>
                    <a:pt x="94" y="45"/>
                  </a:lnTo>
                  <a:lnTo>
                    <a:pt x="87" y="46"/>
                  </a:lnTo>
                  <a:lnTo>
                    <a:pt x="82" y="48"/>
                  </a:lnTo>
                  <a:lnTo>
                    <a:pt x="78" y="50"/>
                  </a:lnTo>
                  <a:lnTo>
                    <a:pt x="73" y="52"/>
                  </a:lnTo>
                  <a:lnTo>
                    <a:pt x="70" y="56"/>
                  </a:lnTo>
                  <a:lnTo>
                    <a:pt x="66" y="60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7" y="74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1" y="94"/>
                  </a:lnTo>
                  <a:lnTo>
                    <a:pt x="49" y="101"/>
                  </a:lnTo>
                  <a:lnTo>
                    <a:pt x="7" y="95"/>
                  </a:lnTo>
                  <a:lnTo>
                    <a:pt x="9" y="86"/>
                  </a:lnTo>
                  <a:lnTo>
                    <a:pt x="10" y="79"/>
                  </a:lnTo>
                  <a:lnTo>
                    <a:pt x="12" y="71"/>
                  </a:lnTo>
                  <a:lnTo>
                    <a:pt x="14" y="65"/>
                  </a:lnTo>
                  <a:lnTo>
                    <a:pt x="18" y="59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6" y="41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7" y="14"/>
                  </a:lnTo>
                  <a:lnTo>
                    <a:pt x="63" y="11"/>
                  </a:lnTo>
                  <a:lnTo>
                    <a:pt x="69" y="9"/>
                  </a:lnTo>
                  <a:lnTo>
                    <a:pt x="76" y="6"/>
                  </a:lnTo>
                  <a:lnTo>
                    <a:pt x="82" y="4"/>
                  </a:lnTo>
                  <a:lnTo>
                    <a:pt x="90" y="3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3"/>
                  </a:lnTo>
                  <a:lnTo>
                    <a:pt x="155" y="4"/>
                  </a:lnTo>
                  <a:lnTo>
                    <a:pt x="162" y="5"/>
                  </a:lnTo>
                  <a:lnTo>
                    <a:pt x="167" y="8"/>
                  </a:lnTo>
                  <a:lnTo>
                    <a:pt x="172" y="9"/>
                  </a:lnTo>
                  <a:lnTo>
                    <a:pt x="177" y="11"/>
                  </a:lnTo>
                  <a:lnTo>
                    <a:pt x="181" y="14"/>
                  </a:lnTo>
                  <a:lnTo>
                    <a:pt x="186" y="16"/>
                  </a:lnTo>
                  <a:lnTo>
                    <a:pt x="189" y="20"/>
                  </a:lnTo>
                  <a:lnTo>
                    <a:pt x="193" y="23"/>
                  </a:lnTo>
                  <a:lnTo>
                    <a:pt x="196" y="26"/>
                  </a:lnTo>
                  <a:lnTo>
                    <a:pt x="199" y="29"/>
                  </a:lnTo>
                  <a:lnTo>
                    <a:pt x="201" y="33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7" y="44"/>
                  </a:lnTo>
                  <a:lnTo>
                    <a:pt x="209" y="49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4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5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6" y="107"/>
                  </a:lnTo>
                  <a:lnTo>
                    <a:pt x="216" y="116"/>
                  </a:lnTo>
                  <a:lnTo>
                    <a:pt x="216" y="185"/>
                  </a:lnTo>
                  <a:lnTo>
                    <a:pt x="216" y="202"/>
                  </a:lnTo>
                  <a:lnTo>
                    <a:pt x="216" y="218"/>
                  </a:lnTo>
                  <a:lnTo>
                    <a:pt x="217" y="232"/>
                  </a:lnTo>
                  <a:lnTo>
                    <a:pt x="217" y="245"/>
                  </a:lnTo>
                  <a:lnTo>
                    <a:pt x="217" y="255"/>
                  </a:lnTo>
                  <a:lnTo>
                    <a:pt x="218" y="265"/>
                  </a:lnTo>
                  <a:lnTo>
                    <a:pt x="218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1" y="287"/>
                  </a:lnTo>
                  <a:lnTo>
                    <a:pt x="222" y="291"/>
                  </a:lnTo>
                  <a:lnTo>
                    <a:pt x="223" y="296"/>
                  </a:lnTo>
                  <a:lnTo>
                    <a:pt x="224" y="301"/>
                  </a:lnTo>
                  <a:lnTo>
                    <a:pt x="226" y="305"/>
                  </a:lnTo>
                  <a:lnTo>
                    <a:pt x="228" y="310"/>
                  </a:lnTo>
                  <a:lnTo>
                    <a:pt x="230" y="315"/>
                  </a:lnTo>
                  <a:lnTo>
                    <a:pt x="186" y="315"/>
                  </a:lnTo>
                  <a:lnTo>
                    <a:pt x="184" y="310"/>
                  </a:lnTo>
                  <a:lnTo>
                    <a:pt x="183" y="306"/>
                  </a:lnTo>
                  <a:lnTo>
                    <a:pt x="182" y="301"/>
                  </a:lnTo>
                  <a:lnTo>
                    <a:pt x="181" y="296"/>
                  </a:lnTo>
                  <a:lnTo>
                    <a:pt x="180" y="292"/>
                  </a:lnTo>
                  <a:lnTo>
                    <a:pt x="179" y="287"/>
                  </a:lnTo>
                  <a:lnTo>
                    <a:pt x="178" y="281"/>
                  </a:lnTo>
                  <a:lnTo>
                    <a:pt x="178" y="276"/>
                  </a:lnTo>
                  <a:close/>
                  <a:moveTo>
                    <a:pt x="174" y="160"/>
                  </a:moveTo>
                  <a:lnTo>
                    <a:pt x="168" y="162"/>
                  </a:lnTo>
                  <a:lnTo>
                    <a:pt x="161" y="165"/>
                  </a:lnTo>
                  <a:lnTo>
                    <a:pt x="153" y="169"/>
                  </a:lnTo>
                  <a:lnTo>
                    <a:pt x="145" y="171"/>
                  </a:lnTo>
                  <a:lnTo>
                    <a:pt x="136" y="174"/>
                  </a:lnTo>
                  <a:lnTo>
                    <a:pt x="126" y="175"/>
                  </a:lnTo>
                  <a:lnTo>
                    <a:pt x="116" y="177"/>
                  </a:lnTo>
                  <a:lnTo>
                    <a:pt x="105" y="180"/>
                  </a:lnTo>
                  <a:lnTo>
                    <a:pt x="99" y="181"/>
                  </a:lnTo>
                  <a:lnTo>
                    <a:pt x="93" y="182"/>
                  </a:lnTo>
                  <a:lnTo>
                    <a:pt x="87" y="184"/>
                  </a:lnTo>
                  <a:lnTo>
                    <a:pt x="82" y="185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9"/>
                  </a:lnTo>
                  <a:lnTo>
                    <a:pt x="68" y="190"/>
                  </a:lnTo>
                  <a:lnTo>
                    <a:pt x="65" y="191"/>
                  </a:lnTo>
                  <a:lnTo>
                    <a:pt x="63" y="194"/>
                  </a:lnTo>
                  <a:lnTo>
                    <a:pt x="60" y="195"/>
                  </a:lnTo>
                  <a:lnTo>
                    <a:pt x="58" y="197"/>
                  </a:lnTo>
                  <a:lnTo>
                    <a:pt x="56" y="200"/>
                  </a:lnTo>
                  <a:lnTo>
                    <a:pt x="54" y="201"/>
                  </a:lnTo>
                  <a:lnTo>
                    <a:pt x="53" y="205"/>
                  </a:lnTo>
                  <a:lnTo>
                    <a:pt x="51" y="207"/>
                  </a:lnTo>
                  <a:lnTo>
                    <a:pt x="50" y="210"/>
                  </a:lnTo>
                  <a:lnTo>
                    <a:pt x="49" y="212"/>
                  </a:lnTo>
                  <a:lnTo>
                    <a:pt x="48" y="216"/>
                  </a:lnTo>
                  <a:lnTo>
                    <a:pt x="47" y="218"/>
                  </a:lnTo>
                  <a:lnTo>
                    <a:pt x="46" y="222"/>
                  </a:lnTo>
                  <a:lnTo>
                    <a:pt x="46" y="225"/>
                  </a:lnTo>
                  <a:lnTo>
                    <a:pt x="45" y="228"/>
                  </a:lnTo>
                  <a:lnTo>
                    <a:pt x="45" y="231"/>
                  </a:lnTo>
                  <a:lnTo>
                    <a:pt x="46" y="237"/>
                  </a:lnTo>
                  <a:lnTo>
                    <a:pt x="46" y="241"/>
                  </a:lnTo>
                  <a:lnTo>
                    <a:pt x="47" y="246"/>
                  </a:lnTo>
                  <a:lnTo>
                    <a:pt x="49" y="251"/>
                  </a:lnTo>
                  <a:lnTo>
                    <a:pt x="50" y="255"/>
                  </a:lnTo>
                  <a:lnTo>
                    <a:pt x="52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1" y="270"/>
                  </a:lnTo>
                  <a:lnTo>
                    <a:pt x="65" y="272"/>
                  </a:lnTo>
                  <a:lnTo>
                    <a:pt x="69" y="275"/>
                  </a:lnTo>
                  <a:lnTo>
                    <a:pt x="74" y="277"/>
                  </a:lnTo>
                  <a:lnTo>
                    <a:pt x="78" y="278"/>
                  </a:lnTo>
                  <a:lnTo>
                    <a:pt x="84" y="280"/>
                  </a:lnTo>
                  <a:lnTo>
                    <a:pt x="90" y="280"/>
                  </a:lnTo>
                  <a:lnTo>
                    <a:pt x="96" y="280"/>
                  </a:lnTo>
                  <a:lnTo>
                    <a:pt x="102" y="280"/>
                  </a:lnTo>
                  <a:lnTo>
                    <a:pt x="108" y="280"/>
                  </a:lnTo>
                  <a:lnTo>
                    <a:pt x="113" y="278"/>
                  </a:lnTo>
                  <a:lnTo>
                    <a:pt x="119" y="277"/>
                  </a:lnTo>
                  <a:lnTo>
                    <a:pt x="124" y="275"/>
                  </a:lnTo>
                  <a:lnTo>
                    <a:pt x="129" y="272"/>
                  </a:lnTo>
                  <a:lnTo>
                    <a:pt x="134" y="270"/>
                  </a:lnTo>
                  <a:lnTo>
                    <a:pt x="139" y="267"/>
                  </a:lnTo>
                  <a:lnTo>
                    <a:pt x="143" y="263"/>
                  </a:lnTo>
                  <a:lnTo>
                    <a:pt x="148" y="260"/>
                  </a:lnTo>
                  <a:lnTo>
                    <a:pt x="151" y="256"/>
                  </a:lnTo>
                  <a:lnTo>
                    <a:pt x="155" y="251"/>
                  </a:lnTo>
                  <a:lnTo>
                    <a:pt x="158" y="247"/>
                  </a:lnTo>
                  <a:lnTo>
                    <a:pt x="162" y="242"/>
                  </a:lnTo>
                  <a:lnTo>
                    <a:pt x="165" y="236"/>
                  </a:lnTo>
                  <a:lnTo>
                    <a:pt x="167" y="231"/>
                  </a:lnTo>
                  <a:lnTo>
                    <a:pt x="169" y="226"/>
                  </a:lnTo>
                  <a:lnTo>
                    <a:pt x="170" y="221"/>
                  </a:lnTo>
                  <a:lnTo>
                    <a:pt x="172" y="216"/>
                  </a:lnTo>
                  <a:lnTo>
                    <a:pt x="172" y="210"/>
                  </a:lnTo>
                  <a:lnTo>
                    <a:pt x="173" y="202"/>
                  </a:lnTo>
                  <a:lnTo>
                    <a:pt x="174" y="195"/>
                  </a:lnTo>
                  <a:lnTo>
                    <a:pt x="174" y="187"/>
                  </a:lnTo>
                  <a:lnTo>
                    <a:pt x="174" y="179"/>
                  </a:lnTo>
                  <a:lnTo>
                    <a:pt x="174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280" y="3289320"/>
              <a:ext cx="123840" cy="127080"/>
            </a:xfrm>
            <a:custGeom>
              <a:avLst/>
              <a:gdLst/>
              <a:ahLst/>
              <a:rect l="l" t="t" r="r" b="b"/>
              <a:pathLst>
                <a:path w="233" h="321">
                  <a:moveTo>
                    <a:pt x="0" y="161"/>
                  </a:moveTo>
                  <a:lnTo>
                    <a:pt x="0" y="140"/>
                  </a:lnTo>
                  <a:lnTo>
                    <a:pt x="2" y="121"/>
                  </a:lnTo>
                  <a:lnTo>
                    <a:pt x="5" y="103"/>
                  </a:lnTo>
                  <a:lnTo>
                    <a:pt x="9" y="87"/>
                  </a:lnTo>
                  <a:lnTo>
                    <a:pt x="15" y="72"/>
                  </a:lnTo>
                  <a:lnTo>
                    <a:pt x="22" y="58"/>
                  </a:lnTo>
                  <a:lnTo>
                    <a:pt x="30" y="45"/>
                  </a:lnTo>
                  <a:lnTo>
                    <a:pt x="39" y="34"/>
                  </a:lnTo>
                  <a:lnTo>
                    <a:pt x="47" y="27"/>
                  </a:lnTo>
                  <a:lnTo>
                    <a:pt x="55" y="19"/>
                  </a:lnTo>
                  <a:lnTo>
                    <a:pt x="65" y="14"/>
                  </a:lnTo>
                  <a:lnTo>
                    <a:pt x="74" y="9"/>
                  </a:lnTo>
                  <a:lnTo>
                    <a:pt x="84" y="5"/>
                  </a:lnTo>
                  <a:lnTo>
                    <a:pt x="95" y="3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7"/>
                  </a:lnTo>
                  <a:lnTo>
                    <a:pt x="163" y="10"/>
                  </a:lnTo>
                  <a:lnTo>
                    <a:pt x="174" y="17"/>
                  </a:lnTo>
                  <a:lnTo>
                    <a:pt x="184" y="24"/>
                  </a:lnTo>
                  <a:lnTo>
                    <a:pt x="193" y="33"/>
                  </a:lnTo>
                  <a:lnTo>
                    <a:pt x="201" y="42"/>
                  </a:lnTo>
                  <a:lnTo>
                    <a:pt x="209" y="53"/>
                  </a:lnTo>
                  <a:lnTo>
                    <a:pt x="215" y="65"/>
                  </a:lnTo>
                  <a:lnTo>
                    <a:pt x="221" y="78"/>
                  </a:lnTo>
                  <a:lnTo>
                    <a:pt x="225" y="92"/>
                  </a:lnTo>
                  <a:lnTo>
                    <a:pt x="229" y="107"/>
                  </a:lnTo>
                  <a:lnTo>
                    <a:pt x="231" y="121"/>
                  </a:lnTo>
                  <a:lnTo>
                    <a:pt x="233" y="139"/>
                  </a:lnTo>
                  <a:lnTo>
                    <a:pt x="233" y="156"/>
                  </a:lnTo>
                  <a:lnTo>
                    <a:pt x="233" y="171"/>
                  </a:lnTo>
                  <a:lnTo>
                    <a:pt x="232" y="185"/>
                  </a:lnTo>
                  <a:lnTo>
                    <a:pt x="231" y="198"/>
                  </a:lnTo>
                  <a:lnTo>
                    <a:pt x="230" y="210"/>
                  </a:lnTo>
                  <a:lnTo>
                    <a:pt x="228" y="221"/>
                  </a:lnTo>
                  <a:lnTo>
                    <a:pt x="225" y="231"/>
                  </a:lnTo>
                  <a:lnTo>
                    <a:pt x="222" y="241"/>
                  </a:lnTo>
                  <a:lnTo>
                    <a:pt x="219" y="250"/>
                  </a:lnTo>
                  <a:lnTo>
                    <a:pt x="215" y="259"/>
                  </a:lnTo>
                  <a:lnTo>
                    <a:pt x="211" y="266"/>
                  </a:lnTo>
                  <a:lnTo>
                    <a:pt x="207" y="274"/>
                  </a:lnTo>
                  <a:lnTo>
                    <a:pt x="202" y="280"/>
                  </a:lnTo>
                  <a:lnTo>
                    <a:pt x="196" y="286"/>
                  </a:lnTo>
                  <a:lnTo>
                    <a:pt x="190" y="292"/>
                  </a:lnTo>
                  <a:lnTo>
                    <a:pt x="184" y="297"/>
                  </a:lnTo>
                  <a:lnTo>
                    <a:pt x="178" y="302"/>
                  </a:lnTo>
                  <a:lnTo>
                    <a:pt x="171" y="307"/>
                  </a:lnTo>
                  <a:lnTo>
                    <a:pt x="163" y="311"/>
                  </a:lnTo>
                  <a:lnTo>
                    <a:pt x="155" y="314"/>
                  </a:lnTo>
                  <a:lnTo>
                    <a:pt x="148" y="317"/>
                  </a:lnTo>
                  <a:lnTo>
                    <a:pt x="141" y="319"/>
                  </a:lnTo>
                  <a:lnTo>
                    <a:pt x="133" y="320"/>
                  </a:lnTo>
                  <a:lnTo>
                    <a:pt x="125" y="321"/>
                  </a:lnTo>
                  <a:lnTo>
                    <a:pt x="117" y="321"/>
                  </a:lnTo>
                  <a:lnTo>
                    <a:pt x="105" y="321"/>
                  </a:lnTo>
                  <a:lnTo>
                    <a:pt x="92" y="319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1" y="290"/>
                  </a:lnTo>
                  <a:lnTo>
                    <a:pt x="33" y="280"/>
                  </a:lnTo>
                  <a:lnTo>
                    <a:pt x="25" y="269"/>
                  </a:lnTo>
                  <a:lnTo>
                    <a:pt x="18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4"/>
                  </a:lnTo>
                  <a:lnTo>
                    <a:pt x="2" y="198"/>
                  </a:lnTo>
                  <a:lnTo>
                    <a:pt x="0" y="180"/>
                  </a:lnTo>
                  <a:lnTo>
                    <a:pt x="0" y="161"/>
                  </a:lnTo>
                  <a:close/>
                  <a:moveTo>
                    <a:pt x="44" y="161"/>
                  </a:moveTo>
                  <a:lnTo>
                    <a:pt x="44" y="175"/>
                  </a:lnTo>
                  <a:lnTo>
                    <a:pt x="45" y="189"/>
                  </a:lnTo>
                  <a:lnTo>
                    <a:pt x="47" y="201"/>
                  </a:lnTo>
                  <a:lnTo>
                    <a:pt x="49" y="213"/>
                  </a:lnTo>
                  <a:lnTo>
                    <a:pt x="52" y="223"/>
                  </a:lnTo>
                  <a:lnTo>
                    <a:pt x="55" y="233"/>
                  </a:lnTo>
                  <a:lnTo>
                    <a:pt x="59" y="241"/>
                  </a:lnTo>
                  <a:lnTo>
                    <a:pt x="64" y="249"/>
                  </a:lnTo>
                  <a:lnTo>
                    <a:pt x="70" y="256"/>
                  </a:lnTo>
                  <a:lnTo>
                    <a:pt x="75" y="262"/>
                  </a:lnTo>
                  <a:lnTo>
                    <a:pt x="81" y="267"/>
                  </a:lnTo>
                  <a:lnTo>
                    <a:pt x="88" y="271"/>
                  </a:lnTo>
                  <a:lnTo>
                    <a:pt x="95" y="275"/>
                  </a:lnTo>
                  <a:lnTo>
                    <a:pt x="102" y="277"/>
                  </a:lnTo>
                  <a:lnTo>
                    <a:pt x="109" y="279"/>
                  </a:lnTo>
                  <a:lnTo>
                    <a:pt x="117" y="279"/>
                  </a:lnTo>
                  <a:lnTo>
                    <a:pt x="125" y="279"/>
                  </a:lnTo>
                  <a:lnTo>
                    <a:pt x="132" y="277"/>
                  </a:lnTo>
                  <a:lnTo>
                    <a:pt x="139" y="275"/>
                  </a:lnTo>
                  <a:lnTo>
                    <a:pt x="146" y="271"/>
                  </a:lnTo>
                  <a:lnTo>
                    <a:pt x="152" y="267"/>
                  </a:lnTo>
                  <a:lnTo>
                    <a:pt x="158" y="262"/>
                  </a:lnTo>
                  <a:lnTo>
                    <a:pt x="164" y="256"/>
                  </a:lnTo>
                  <a:lnTo>
                    <a:pt x="170" y="249"/>
                  </a:lnTo>
                  <a:lnTo>
                    <a:pt x="175" y="241"/>
                  </a:lnTo>
                  <a:lnTo>
                    <a:pt x="179" y="233"/>
                  </a:lnTo>
                  <a:lnTo>
                    <a:pt x="182" y="223"/>
                  </a:lnTo>
                  <a:lnTo>
                    <a:pt x="185" y="213"/>
                  </a:lnTo>
                  <a:lnTo>
                    <a:pt x="188" y="200"/>
                  </a:lnTo>
                  <a:lnTo>
                    <a:pt x="189" y="188"/>
                  </a:lnTo>
                  <a:lnTo>
                    <a:pt x="190" y="174"/>
                  </a:lnTo>
                  <a:lnTo>
                    <a:pt x="190" y="159"/>
                  </a:lnTo>
                  <a:lnTo>
                    <a:pt x="190" y="145"/>
                  </a:lnTo>
                  <a:lnTo>
                    <a:pt x="189" y="133"/>
                  </a:lnTo>
                  <a:lnTo>
                    <a:pt x="188" y="120"/>
                  </a:lnTo>
                  <a:lnTo>
                    <a:pt x="185" y="109"/>
                  </a:lnTo>
                  <a:lnTo>
                    <a:pt x="182" y="99"/>
                  </a:lnTo>
                  <a:lnTo>
                    <a:pt x="179" y="89"/>
                  </a:lnTo>
                  <a:lnTo>
                    <a:pt x="175" y="80"/>
                  </a:lnTo>
                  <a:lnTo>
                    <a:pt x="170" y="73"/>
                  </a:lnTo>
                  <a:lnTo>
                    <a:pt x="163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5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4"/>
                  </a:lnTo>
                  <a:lnTo>
                    <a:pt x="109" y="44"/>
                  </a:lnTo>
                  <a:lnTo>
                    <a:pt x="102" y="45"/>
                  </a:lnTo>
                  <a:lnTo>
                    <a:pt x="95" y="48"/>
                  </a:lnTo>
                  <a:lnTo>
                    <a:pt x="88" y="50"/>
                  </a:lnTo>
                  <a:lnTo>
                    <a:pt x="81" y="55"/>
                  </a:lnTo>
                  <a:lnTo>
                    <a:pt x="75" y="60"/>
                  </a:lnTo>
                  <a:lnTo>
                    <a:pt x="70" y="67"/>
                  </a:lnTo>
                  <a:lnTo>
                    <a:pt x="64" y="73"/>
                  </a:lnTo>
                  <a:lnTo>
                    <a:pt x="59" y="80"/>
                  </a:lnTo>
                  <a:lnTo>
                    <a:pt x="55" y="89"/>
                  </a:lnTo>
                  <a:lnTo>
                    <a:pt x="52" y="99"/>
                  </a:lnTo>
                  <a:lnTo>
                    <a:pt x="49" y="109"/>
                  </a:lnTo>
                  <a:lnTo>
                    <a:pt x="47" y="121"/>
                  </a:lnTo>
                  <a:lnTo>
                    <a:pt x="45" y="134"/>
                  </a:lnTo>
                  <a:lnTo>
                    <a:pt x="44" y="146"/>
                  </a:lnTo>
                  <a:lnTo>
                    <a:pt x="44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9280" y="3241800"/>
              <a:ext cx="145800" cy="174600"/>
            </a:xfrm>
            <a:custGeom>
              <a:avLst/>
              <a:gdLst/>
              <a:ahLst/>
              <a:rect l="l" t="t" r="r" b="b"/>
              <a:pathLst>
                <a:path w="275" h="439">
                  <a:moveTo>
                    <a:pt x="0" y="296"/>
                  </a:moveTo>
                  <a:lnTo>
                    <a:pt x="43" y="291"/>
                  </a:lnTo>
                  <a:lnTo>
                    <a:pt x="43" y="298"/>
                  </a:lnTo>
                  <a:lnTo>
                    <a:pt x="45" y="306"/>
                  </a:lnTo>
                  <a:lnTo>
                    <a:pt x="46" y="313"/>
                  </a:lnTo>
                  <a:lnTo>
                    <a:pt x="49" y="320"/>
                  </a:lnTo>
                  <a:lnTo>
                    <a:pt x="50" y="326"/>
                  </a:lnTo>
                  <a:lnTo>
                    <a:pt x="53" y="332"/>
                  </a:lnTo>
                  <a:lnTo>
                    <a:pt x="55" y="337"/>
                  </a:lnTo>
                  <a:lnTo>
                    <a:pt x="58" y="343"/>
                  </a:lnTo>
                  <a:lnTo>
                    <a:pt x="61" y="348"/>
                  </a:lnTo>
                  <a:lnTo>
                    <a:pt x="64" y="352"/>
                  </a:lnTo>
                  <a:lnTo>
                    <a:pt x="68" y="357"/>
                  </a:lnTo>
                  <a:lnTo>
                    <a:pt x="72" y="361"/>
                  </a:lnTo>
                  <a:lnTo>
                    <a:pt x="76" y="366"/>
                  </a:lnTo>
                  <a:lnTo>
                    <a:pt x="81" y="370"/>
                  </a:lnTo>
                  <a:lnTo>
                    <a:pt x="86" y="373"/>
                  </a:lnTo>
                  <a:lnTo>
                    <a:pt x="92" y="376"/>
                  </a:lnTo>
                  <a:lnTo>
                    <a:pt x="98" y="378"/>
                  </a:lnTo>
                  <a:lnTo>
                    <a:pt x="104" y="382"/>
                  </a:lnTo>
                  <a:lnTo>
                    <a:pt x="110" y="383"/>
                  </a:lnTo>
                  <a:lnTo>
                    <a:pt x="116" y="386"/>
                  </a:lnTo>
                  <a:lnTo>
                    <a:pt x="124" y="387"/>
                  </a:lnTo>
                  <a:lnTo>
                    <a:pt x="131" y="388"/>
                  </a:lnTo>
                  <a:lnTo>
                    <a:pt x="138" y="388"/>
                  </a:lnTo>
                  <a:lnTo>
                    <a:pt x="145" y="388"/>
                  </a:lnTo>
                  <a:lnTo>
                    <a:pt x="151" y="388"/>
                  </a:lnTo>
                  <a:lnTo>
                    <a:pt x="157" y="388"/>
                  </a:lnTo>
                  <a:lnTo>
                    <a:pt x="163" y="387"/>
                  </a:lnTo>
                  <a:lnTo>
                    <a:pt x="169" y="386"/>
                  </a:lnTo>
                  <a:lnTo>
                    <a:pt x="175" y="384"/>
                  </a:lnTo>
                  <a:lnTo>
                    <a:pt x="180" y="383"/>
                  </a:lnTo>
                  <a:lnTo>
                    <a:pt x="185" y="381"/>
                  </a:lnTo>
                  <a:lnTo>
                    <a:pt x="190" y="379"/>
                  </a:lnTo>
                  <a:lnTo>
                    <a:pt x="196" y="377"/>
                  </a:lnTo>
                  <a:lnTo>
                    <a:pt x="200" y="373"/>
                  </a:lnTo>
                  <a:lnTo>
                    <a:pt x="205" y="371"/>
                  </a:lnTo>
                  <a:lnTo>
                    <a:pt x="208" y="367"/>
                  </a:lnTo>
                  <a:lnTo>
                    <a:pt x="212" y="365"/>
                  </a:lnTo>
                  <a:lnTo>
                    <a:pt x="215" y="361"/>
                  </a:lnTo>
                  <a:lnTo>
                    <a:pt x="218" y="357"/>
                  </a:lnTo>
                  <a:lnTo>
                    <a:pt x="221" y="353"/>
                  </a:lnTo>
                  <a:lnTo>
                    <a:pt x="223" y="348"/>
                  </a:lnTo>
                  <a:lnTo>
                    <a:pt x="225" y="345"/>
                  </a:lnTo>
                  <a:lnTo>
                    <a:pt x="226" y="340"/>
                  </a:lnTo>
                  <a:lnTo>
                    <a:pt x="228" y="336"/>
                  </a:lnTo>
                  <a:lnTo>
                    <a:pt x="229" y="331"/>
                  </a:lnTo>
                  <a:lnTo>
                    <a:pt x="230" y="326"/>
                  </a:lnTo>
                  <a:lnTo>
                    <a:pt x="230" y="321"/>
                  </a:lnTo>
                  <a:lnTo>
                    <a:pt x="230" y="317"/>
                  </a:lnTo>
                  <a:lnTo>
                    <a:pt x="230" y="312"/>
                  </a:lnTo>
                  <a:lnTo>
                    <a:pt x="230" y="307"/>
                  </a:lnTo>
                  <a:lnTo>
                    <a:pt x="229" y="302"/>
                  </a:lnTo>
                  <a:lnTo>
                    <a:pt x="228" y="298"/>
                  </a:lnTo>
                  <a:lnTo>
                    <a:pt x="227" y="293"/>
                  </a:lnTo>
                  <a:lnTo>
                    <a:pt x="225" y="290"/>
                  </a:lnTo>
                  <a:lnTo>
                    <a:pt x="223" y="286"/>
                  </a:lnTo>
                  <a:lnTo>
                    <a:pt x="221" y="282"/>
                  </a:lnTo>
                  <a:lnTo>
                    <a:pt x="218" y="278"/>
                  </a:lnTo>
                  <a:lnTo>
                    <a:pt x="216" y="275"/>
                  </a:lnTo>
                  <a:lnTo>
                    <a:pt x="212" y="271"/>
                  </a:lnTo>
                  <a:lnTo>
                    <a:pt x="209" y="268"/>
                  </a:lnTo>
                  <a:lnTo>
                    <a:pt x="205" y="265"/>
                  </a:lnTo>
                  <a:lnTo>
                    <a:pt x="200" y="262"/>
                  </a:lnTo>
                  <a:lnTo>
                    <a:pt x="195" y="260"/>
                  </a:lnTo>
                  <a:lnTo>
                    <a:pt x="189" y="257"/>
                  </a:lnTo>
                  <a:lnTo>
                    <a:pt x="185" y="255"/>
                  </a:lnTo>
                  <a:lnTo>
                    <a:pt x="180" y="253"/>
                  </a:lnTo>
                  <a:lnTo>
                    <a:pt x="174" y="251"/>
                  </a:lnTo>
                  <a:lnTo>
                    <a:pt x="167" y="248"/>
                  </a:lnTo>
                  <a:lnTo>
                    <a:pt x="159" y="246"/>
                  </a:lnTo>
                  <a:lnTo>
                    <a:pt x="150" y="242"/>
                  </a:lnTo>
                  <a:lnTo>
                    <a:pt x="140" y="240"/>
                  </a:lnTo>
                  <a:lnTo>
                    <a:pt x="129" y="236"/>
                  </a:lnTo>
                  <a:lnTo>
                    <a:pt x="117" y="232"/>
                  </a:lnTo>
                  <a:lnTo>
                    <a:pt x="106" y="229"/>
                  </a:lnTo>
                  <a:lnTo>
                    <a:pt x="97" y="226"/>
                  </a:lnTo>
                  <a:lnTo>
                    <a:pt x="88" y="222"/>
                  </a:lnTo>
                  <a:lnTo>
                    <a:pt x="80" y="219"/>
                  </a:lnTo>
                  <a:lnTo>
                    <a:pt x="73" y="216"/>
                  </a:lnTo>
                  <a:lnTo>
                    <a:pt x="67" y="212"/>
                  </a:lnTo>
                  <a:lnTo>
                    <a:pt x="62" y="210"/>
                  </a:lnTo>
                  <a:lnTo>
                    <a:pt x="56" y="205"/>
                  </a:lnTo>
                  <a:lnTo>
                    <a:pt x="51" y="201"/>
                  </a:lnTo>
                  <a:lnTo>
                    <a:pt x="45" y="196"/>
                  </a:lnTo>
                  <a:lnTo>
                    <a:pt x="40" y="191"/>
                  </a:lnTo>
                  <a:lnTo>
                    <a:pt x="36" y="186"/>
                  </a:lnTo>
                  <a:lnTo>
                    <a:pt x="32" y="181"/>
                  </a:lnTo>
                  <a:lnTo>
                    <a:pt x="28" y="176"/>
                  </a:lnTo>
                  <a:lnTo>
                    <a:pt x="25" y="170"/>
                  </a:lnTo>
                  <a:lnTo>
                    <a:pt x="22" y="164"/>
                  </a:lnTo>
                  <a:lnTo>
                    <a:pt x="20" y="157"/>
                  </a:lnTo>
                  <a:lnTo>
                    <a:pt x="18" y="151"/>
                  </a:lnTo>
                  <a:lnTo>
                    <a:pt x="16" y="145"/>
                  </a:lnTo>
                  <a:lnTo>
                    <a:pt x="15" y="139"/>
                  </a:lnTo>
                  <a:lnTo>
                    <a:pt x="14" y="131"/>
                  </a:lnTo>
                  <a:lnTo>
                    <a:pt x="13" y="125"/>
                  </a:lnTo>
                  <a:lnTo>
                    <a:pt x="13" y="117"/>
                  </a:lnTo>
                  <a:lnTo>
                    <a:pt x="13" y="109"/>
                  </a:lnTo>
                  <a:lnTo>
                    <a:pt x="14" y="101"/>
                  </a:lnTo>
                  <a:lnTo>
                    <a:pt x="15" y="94"/>
                  </a:lnTo>
                  <a:lnTo>
                    <a:pt x="17" y="86"/>
                  </a:lnTo>
                  <a:lnTo>
                    <a:pt x="19" y="79"/>
                  </a:lnTo>
                  <a:lnTo>
                    <a:pt x="21" y="71"/>
                  </a:lnTo>
                  <a:lnTo>
                    <a:pt x="24" y="64"/>
                  </a:lnTo>
                  <a:lnTo>
                    <a:pt x="28" y="58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41" y="39"/>
                  </a:lnTo>
                  <a:lnTo>
                    <a:pt x="46" y="33"/>
                  </a:lnTo>
                  <a:lnTo>
                    <a:pt x="52" y="28"/>
                  </a:lnTo>
                  <a:lnTo>
                    <a:pt x="58" y="23"/>
                  </a:lnTo>
                  <a:lnTo>
                    <a:pt x="65" y="19"/>
                  </a:lnTo>
                  <a:lnTo>
                    <a:pt x="71" y="15"/>
                  </a:lnTo>
                  <a:lnTo>
                    <a:pt x="78" y="11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101" y="4"/>
                  </a:lnTo>
                  <a:lnTo>
                    <a:pt x="109" y="3"/>
                  </a:lnTo>
                  <a:lnTo>
                    <a:pt x="117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8" y="6"/>
                  </a:lnTo>
                  <a:lnTo>
                    <a:pt x="186" y="9"/>
                  </a:lnTo>
                  <a:lnTo>
                    <a:pt x="195" y="13"/>
                  </a:lnTo>
                  <a:lnTo>
                    <a:pt x="202" y="15"/>
                  </a:lnTo>
                  <a:lnTo>
                    <a:pt x="209" y="20"/>
                  </a:lnTo>
                  <a:lnTo>
                    <a:pt x="216" y="24"/>
                  </a:lnTo>
                  <a:lnTo>
                    <a:pt x="222" y="29"/>
                  </a:lnTo>
                  <a:lnTo>
                    <a:pt x="228" y="34"/>
                  </a:lnTo>
                  <a:lnTo>
                    <a:pt x="233" y="40"/>
                  </a:lnTo>
                  <a:lnTo>
                    <a:pt x="238" y="46"/>
                  </a:lnTo>
                  <a:lnTo>
                    <a:pt x="243" y="53"/>
                  </a:lnTo>
                  <a:lnTo>
                    <a:pt x="247" y="60"/>
                  </a:lnTo>
                  <a:lnTo>
                    <a:pt x="250" y="68"/>
                  </a:lnTo>
                  <a:lnTo>
                    <a:pt x="254" y="75"/>
                  </a:lnTo>
                  <a:lnTo>
                    <a:pt x="256" y="84"/>
                  </a:lnTo>
                  <a:lnTo>
                    <a:pt x="259" y="91"/>
                  </a:lnTo>
                  <a:lnTo>
                    <a:pt x="260" y="100"/>
                  </a:lnTo>
                  <a:lnTo>
                    <a:pt x="262" y="109"/>
                  </a:lnTo>
                  <a:lnTo>
                    <a:pt x="263" y="117"/>
                  </a:lnTo>
                  <a:lnTo>
                    <a:pt x="263" y="127"/>
                  </a:lnTo>
                  <a:lnTo>
                    <a:pt x="220" y="131"/>
                  </a:lnTo>
                  <a:lnTo>
                    <a:pt x="219" y="121"/>
                  </a:lnTo>
                  <a:lnTo>
                    <a:pt x="217" y="112"/>
                  </a:lnTo>
                  <a:lnTo>
                    <a:pt x="215" y="104"/>
                  </a:lnTo>
                  <a:lnTo>
                    <a:pt x="213" y="96"/>
                  </a:lnTo>
                  <a:lnTo>
                    <a:pt x="209" y="89"/>
                  </a:lnTo>
                  <a:lnTo>
                    <a:pt x="206" y="83"/>
                  </a:lnTo>
                  <a:lnTo>
                    <a:pt x="201" y="76"/>
                  </a:lnTo>
                  <a:lnTo>
                    <a:pt x="197" y="70"/>
                  </a:lnTo>
                  <a:lnTo>
                    <a:pt x="190" y="65"/>
                  </a:lnTo>
                  <a:lnTo>
                    <a:pt x="184" y="61"/>
                  </a:lnTo>
                  <a:lnTo>
                    <a:pt x="178" y="58"/>
                  </a:lnTo>
                  <a:lnTo>
                    <a:pt x="171" y="55"/>
                  </a:lnTo>
                  <a:lnTo>
                    <a:pt x="163" y="53"/>
                  </a:lnTo>
                  <a:lnTo>
                    <a:pt x="155" y="51"/>
                  </a:lnTo>
                  <a:lnTo>
                    <a:pt x="146" y="50"/>
                  </a:lnTo>
                  <a:lnTo>
                    <a:pt x="137" y="50"/>
                  </a:lnTo>
                  <a:lnTo>
                    <a:pt x="127" y="50"/>
                  </a:lnTo>
                  <a:lnTo>
                    <a:pt x="117" y="51"/>
                  </a:lnTo>
                  <a:lnTo>
                    <a:pt x="108" y="53"/>
                  </a:lnTo>
                  <a:lnTo>
                    <a:pt x="100" y="55"/>
                  </a:lnTo>
                  <a:lnTo>
                    <a:pt x="93" y="58"/>
                  </a:lnTo>
                  <a:lnTo>
                    <a:pt x="87" y="60"/>
                  </a:lnTo>
                  <a:lnTo>
                    <a:pt x="81" y="64"/>
                  </a:lnTo>
                  <a:lnTo>
                    <a:pt x="76" y="69"/>
                  </a:lnTo>
                  <a:lnTo>
                    <a:pt x="72" y="74"/>
                  </a:lnTo>
                  <a:lnTo>
                    <a:pt x="68" y="79"/>
                  </a:lnTo>
                  <a:lnTo>
                    <a:pt x="65" y="84"/>
                  </a:lnTo>
                  <a:lnTo>
                    <a:pt x="62" y="89"/>
                  </a:lnTo>
                  <a:lnTo>
                    <a:pt x="60" y="95"/>
                  </a:lnTo>
                  <a:lnTo>
                    <a:pt x="59" y="101"/>
                  </a:lnTo>
                  <a:lnTo>
                    <a:pt x="58" y="107"/>
                  </a:lnTo>
                  <a:lnTo>
                    <a:pt x="57" y="114"/>
                  </a:lnTo>
                  <a:lnTo>
                    <a:pt x="58" y="119"/>
                  </a:lnTo>
                  <a:lnTo>
                    <a:pt x="58" y="125"/>
                  </a:lnTo>
                  <a:lnTo>
                    <a:pt x="59" y="130"/>
                  </a:lnTo>
                  <a:lnTo>
                    <a:pt x="61" y="135"/>
                  </a:lnTo>
                  <a:lnTo>
                    <a:pt x="63" y="139"/>
                  </a:lnTo>
                  <a:lnTo>
                    <a:pt x="65" y="144"/>
                  </a:lnTo>
                  <a:lnTo>
                    <a:pt x="68" y="147"/>
                  </a:lnTo>
                  <a:lnTo>
                    <a:pt x="71" y="151"/>
                  </a:lnTo>
                  <a:lnTo>
                    <a:pt x="75" y="155"/>
                  </a:lnTo>
                  <a:lnTo>
                    <a:pt x="80" y="159"/>
                  </a:lnTo>
                  <a:lnTo>
                    <a:pt x="86" y="162"/>
                  </a:lnTo>
                  <a:lnTo>
                    <a:pt x="94" y="166"/>
                  </a:lnTo>
                  <a:lnTo>
                    <a:pt x="103" y="170"/>
                  </a:lnTo>
                  <a:lnTo>
                    <a:pt x="114" y="174"/>
                  </a:lnTo>
                  <a:lnTo>
                    <a:pt x="126" y="177"/>
                  </a:lnTo>
                  <a:lnTo>
                    <a:pt x="139" y="181"/>
                  </a:lnTo>
                  <a:lnTo>
                    <a:pt x="153" y="185"/>
                  </a:lnTo>
                  <a:lnTo>
                    <a:pt x="165" y="189"/>
                  </a:lnTo>
                  <a:lnTo>
                    <a:pt x="176" y="192"/>
                  </a:lnTo>
                  <a:lnTo>
                    <a:pt x="186" y="196"/>
                  </a:lnTo>
                  <a:lnTo>
                    <a:pt x="195" y="199"/>
                  </a:lnTo>
                  <a:lnTo>
                    <a:pt x="203" y="202"/>
                  </a:lnTo>
                  <a:lnTo>
                    <a:pt x="210" y="205"/>
                  </a:lnTo>
                  <a:lnTo>
                    <a:pt x="216" y="209"/>
                  </a:lnTo>
                  <a:lnTo>
                    <a:pt x="223" y="212"/>
                  </a:lnTo>
                  <a:lnTo>
                    <a:pt x="229" y="217"/>
                  </a:lnTo>
                  <a:lnTo>
                    <a:pt x="236" y="222"/>
                  </a:lnTo>
                  <a:lnTo>
                    <a:pt x="241" y="227"/>
                  </a:lnTo>
                  <a:lnTo>
                    <a:pt x="247" y="233"/>
                  </a:lnTo>
                  <a:lnTo>
                    <a:pt x="251" y="238"/>
                  </a:lnTo>
                  <a:lnTo>
                    <a:pt x="256" y="245"/>
                  </a:lnTo>
                  <a:lnTo>
                    <a:pt x="259" y="251"/>
                  </a:lnTo>
                  <a:lnTo>
                    <a:pt x="263" y="258"/>
                  </a:lnTo>
                  <a:lnTo>
                    <a:pt x="267" y="265"/>
                  </a:lnTo>
                  <a:lnTo>
                    <a:pt x="269" y="272"/>
                  </a:lnTo>
                  <a:lnTo>
                    <a:pt x="271" y="280"/>
                  </a:lnTo>
                  <a:lnTo>
                    <a:pt x="273" y="287"/>
                  </a:lnTo>
                  <a:lnTo>
                    <a:pt x="274" y="296"/>
                  </a:lnTo>
                  <a:lnTo>
                    <a:pt x="274" y="303"/>
                  </a:lnTo>
                  <a:lnTo>
                    <a:pt x="275" y="312"/>
                  </a:lnTo>
                  <a:lnTo>
                    <a:pt x="274" y="321"/>
                  </a:lnTo>
                  <a:lnTo>
                    <a:pt x="274" y="328"/>
                  </a:lnTo>
                  <a:lnTo>
                    <a:pt x="272" y="337"/>
                  </a:lnTo>
                  <a:lnTo>
                    <a:pt x="271" y="345"/>
                  </a:lnTo>
                  <a:lnTo>
                    <a:pt x="268" y="352"/>
                  </a:lnTo>
                  <a:lnTo>
                    <a:pt x="266" y="361"/>
                  </a:lnTo>
                  <a:lnTo>
                    <a:pt x="262" y="368"/>
                  </a:lnTo>
                  <a:lnTo>
                    <a:pt x="258" y="376"/>
                  </a:lnTo>
                  <a:lnTo>
                    <a:pt x="254" y="383"/>
                  </a:lnTo>
                  <a:lnTo>
                    <a:pt x="249" y="389"/>
                  </a:lnTo>
                  <a:lnTo>
                    <a:pt x="244" y="396"/>
                  </a:lnTo>
                  <a:lnTo>
                    <a:pt x="239" y="402"/>
                  </a:lnTo>
                  <a:lnTo>
                    <a:pt x="233" y="408"/>
                  </a:lnTo>
                  <a:lnTo>
                    <a:pt x="227" y="413"/>
                  </a:lnTo>
                  <a:lnTo>
                    <a:pt x="220" y="418"/>
                  </a:lnTo>
                  <a:lnTo>
                    <a:pt x="213" y="422"/>
                  </a:lnTo>
                  <a:lnTo>
                    <a:pt x="206" y="426"/>
                  </a:lnTo>
                  <a:lnTo>
                    <a:pt x="198" y="429"/>
                  </a:lnTo>
                  <a:lnTo>
                    <a:pt x="190" y="432"/>
                  </a:lnTo>
                  <a:lnTo>
                    <a:pt x="182" y="434"/>
                  </a:lnTo>
                  <a:lnTo>
                    <a:pt x="173" y="437"/>
                  </a:lnTo>
                  <a:lnTo>
                    <a:pt x="165" y="438"/>
                  </a:lnTo>
                  <a:lnTo>
                    <a:pt x="156" y="438"/>
                  </a:lnTo>
                  <a:lnTo>
                    <a:pt x="147" y="439"/>
                  </a:lnTo>
                  <a:lnTo>
                    <a:pt x="136" y="438"/>
                  </a:lnTo>
                  <a:lnTo>
                    <a:pt x="125" y="438"/>
                  </a:lnTo>
                  <a:lnTo>
                    <a:pt x="113" y="437"/>
                  </a:lnTo>
                  <a:lnTo>
                    <a:pt x="104" y="434"/>
                  </a:lnTo>
                  <a:lnTo>
                    <a:pt x="94" y="432"/>
                  </a:lnTo>
                  <a:lnTo>
                    <a:pt x="85" y="429"/>
                  </a:lnTo>
                  <a:lnTo>
                    <a:pt x="77" y="426"/>
                  </a:lnTo>
                  <a:lnTo>
                    <a:pt x="69" y="422"/>
                  </a:lnTo>
                  <a:lnTo>
                    <a:pt x="61" y="418"/>
                  </a:lnTo>
                  <a:lnTo>
                    <a:pt x="54" y="413"/>
                  </a:lnTo>
                  <a:lnTo>
                    <a:pt x="46" y="407"/>
                  </a:lnTo>
                  <a:lnTo>
                    <a:pt x="40" y="401"/>
                  </a:lnTo>
                  <a:lnTo>
                    <a:pt x="34" y="394"/>
                  </a:lnTo>
                  <a:lnTo>
                    <a:pt x="28" y="387"/>
                  </a:lnTo>
                  <a:lnTo>
                    <a:pt x="23" y="379"/>
                  </a:lnTo>
                  <a:lnTo>
                    <a:pt x="19" y="372"/>
                  </a:lnTo>
                  <a:lnTo>
                    <a:pt x="15" y="363"/>
                  </a:lnTo>
                  <a:lnTo>
                    <a:pt x="11" y="355"/>
                  </a:lnTo>
                  <a:lnTo>
                    <a:pt x="8" y="345"/>
                  </a:lnTo>
                  <a:lnTo>
                    <a:pt x="5" y="336"/>
                  </a:lnTo>
                  <a:lnTo>
                    <a:pt x="3" y="326"/>
                  </a:lnTo>
                  <a:lnTo>
                    <a:pt x="2" y="316"/>
                  </a:lnTo>
                  <a:lnTo>
                    <a:pt x="1" y="30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7400" y="3289320"/>
              <a:ext cx="120600" cy="127080"/>
            </a:xfrm>
            <a:custGeom>
              <a:avLst/>
              <a:gdLst/>
              <a:ahLst/>
              <a:rect l="l" t="t" r="r" b="b"/>
              <a:pathLst>
                <a:path w="229" h="321">
                  <a:moveTo>
                    <a:pt x="177" y="276"/>
                  </a:moveTo>
                  <a:lnTo>
                    <a:pt x="171" y="282"/>
                  </a:lnTo>
                  <a:lnTo>
                    <a:pt x="166" y="287"/>
                  </a:lnTo>
                  <a:lnTo>
                    <a:pt x="159" y="294"/>
                  </a:lnTo>
                  <a:lnTo>
                    <a:pt x="153" y="297"/>
                  </a:lnTo>
                  <a:lnTo>
                    <a:pt x="148" y="301"/>
                  </a:lnTo>
                  <a:lnTo>
                    <a:pt x="142" y="305"/>
                  </a:lnTo>
                  <a:lnTo>
                    <a:pt x="137" y="309"/>
                  </a:lnTo>
                  <a:lnTo>
                    <a:pt x="132" y="311"/>
                  </a:lnTo>
                  <a:lnTo>
                    <a:pt x="126" y="314"/>
                  </a:lnTo>
                  <a:lnTo>
                    <a:pt x="121" y="316"/>
                  </a:lnTo>
                  <a:lnTo>
                    <a:pt x="115" y="317"/>
                  </a:lnTo>
                  <a:lnTo>
                    <a:pt x="109" y="319"/>
                  </a:lnTo>
                  <a:lnTo>
                    <a:pt x="104" y="320"/>
                  </a:lnTo>
                  <a:lnTo>
                    <a:pt x="98" y="321"/>
                  </a:lnTo>
                  <a:lnTo>
                    <a:pt x="91" y="321"/>
                  </a:lnTo>
                  <a:lnTo>
                    <a:pt x="85" y="321"/>
                  </a:lnTo>
                  <a:lnTo>
                    <a:pt x="75" y="321"/>
                  </a:lnTo>
                  <a:lnTo>
                    <a:pt x="65" y="320"/>
                  </a:lnTo>
                  <a:lnTo>
                    <a:pt x="57" y="319"/>
                  </a:lnTo>
                  <a:lnTo>
                    <a:pt x="49" y="315"/>
                  </a:lnTo>
                  <a:lnTo>
                    <a:pt x="41" y="312"/>
                  </a:lnTo>
                  <a:lnTo>
                    <a:pt x="34" y="307"/>
                  </a:lnTo>
                  <a:lnTo>
                    <a:pt x="28" y="302"/>
                  </a:lnTo>
                  <a:lnTo>
                    <a:pt x="22" y="296"/>
                  </a:lnTo>
                  <a:lnTo>
                    <a:pt x="16" y="290"/>
                  </a:lnTo>
                  <a:lnTo>
                    <a:pt x="12" y="284"/>
                  </a:lnTo>
                  <a:lnTo>
                    <a:pt x="8" y="276"/>
                  </a:lnTo>
                  <a:lnTo>
                    <a:pt x="5" y="269"/>
                  </a:lnTo>
                  <a:lnTo>
                    <a:pt x="3" y="260"/>
                  </a:lnTo>
                  <a:lnTo>
                    <a:pt x="1" y="253"/>
                  </a:lnTo>
                  <a:lnTo>
                    <a:pt x="0" y="243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3"/>
                  </a:lnTo>
                  <a:lnTo>
                    <a:pt x="1" y="218"/>
                  </a:lnTo>
                  <a:lnTo>
                    <a:pt x="2" y="213"/>
                  </a:lnTo>
                  <a:lnTo>
                    <a:pt x="3" y="206"/>
                  </a:lnTo>
                  <a:lnTo>
                    <a:pt x="4" y="201"/>
                  </a:lnTo>
                  <a:lnTo>
                    <a:pt x="6" y="198"/>
                  </a:lnTo>
                  <a:lnTo>
                    <a:pt x="8" y="193"/>
                  </a:lnTo>
                  <a:lnTo>
                    <a:pt x="10" y="188"/>
                  </a:lnTo>
                  <a:lnTo>
                    <a:pt x="12" y="184"/>
                  </a:lnTo>
                  <a:lnTo>
                    <a:pt x="15" y="179"/>
                  </a:lnTo>
                  <a:lnTo>
                    <a:pt x="17" y="175"/>
                  </a:lnTo>
                  <a:lnTo>
                    <a:pt x="21" y="171"/>
                  </a:lnTo>
                  <a:lnTo>
                    <a:pt x="24" y="169"/>
                  </a:lnTo>
                  <a:lnTo>
                    <a:pt x="27" y="165"/>
                  </a:lnTo>
                  <a:lnTo>
                    <a:pt x="30" y="163"/>
                  </a:lnTo>
                  <a:lnTo>
                    <a:pt x="34" y="160"/>
                  </a:lnTo>
                  <a:lnTo>
                    <a:pt x="37" y="158"/>
                  </a:lnTo>
                  <a:lnTo>
                    <a:pt x="41" y="155"/>
                  </a:lnTo>
                  <a:lnTo>
                    <a:pt x="44" y="153"/>
                  </a:lnTo>
                  <a:lnTo>
                    <a:pt x="48" y="150"/>
                  </a:lnTo>
                  <a:lnTo>
                    <a:pt x="52" y="149"/>
                  </a:lnTo>
                  <a:lnTo>
                    <a:pt x="56" y="146"/>
                  </a:lnTo>
                  <a:lnTo>
                    <a:pt x="60" y="145"/>
                  </a:lnTo>
                  <a:lnTo>
                    <a:pt x="64" y="144"/>
                  </a:lnTo>
                  <a:lnTo>
                    <a:pt x="67" y="144"/>
                  </a:lnTo>
                  <a:lnTo>
                    <a:pt x="71" y="143"/>
                  </a:lnTo>
                  <a:lnTo>
                    <a:pt x="76" y="141"/>
                  </a:lnTo>
                  <a:lnTo>
                    <a:pt x="80" y="140"/>
                  </a:lnTo>
                  <a:lnTo>
                    <a:pt x="86" y="139"/>
                  </a:lnTo>
                  <a:lnTo>
                    <a:pt x="91" y="139"/>
                  </a:lnTo>
                  <a:lnTo>
                    <a:pt x="98" y="138"/>
                  </a:lnTo>
                  <a:lnTo>
                    <a:pt x="111" y="135"/>
                  </a:lnTo>
                  <a:lnTo>
                    <a:pt x="122" y="134"/>
                  </a:lnTo>
                  <a:lnTo>
                    <a:pt x="132" y="131"/>
                  </a:lnTo>
                  <a:lnTo>
                    <a:pt x="142" y="129"/>
                  </a:lnTo>
                  <a:lnTo>
                    <a:pt x="151" y="126"/>
                  </a:lnTo>
                  <a:lnTo>
                    <a:pt x="159" y="125"/>
                  </a:lnTo>
                  <a:lnTo>
                    <a:pt x="167" y="123"/>
                  </a:lnTo>
                  <a:lnTo>
                    <a:pt x="174" y="120"/>
                  </a:lnTo>
                  <a:lnTo>
                    <a:pt x="174" y="116"/>
                  </a:lnTo>
                  <a:lnTo>
                    <a:pt x="174" y="115"/>
                  </a:lnTo>
                  <a:lnTo>
                    <a:pt x="174" y="113"/>
                  </a:lnTo>
                  <a:lnTo>
                    <a:pt x="174" y="112"/>
                  </a:lnTo>
                  <a:lnTo>
                    <a:pt x="174" y="109"/>
                  </a:lnTo>
                  <a:lnTo>
                    <a:pt x="174" y="108"/>
                  </a:lnTo>
                  <a:lnTo>
                    <a:pt x="174" y="107"/>
                  </a:lnTo>
                  <a:lnTo>
                    <a:pt x="174" y="107"/>
                  </a:lnTo>
                  <a:lnTo>
                    <a:pt x="174" y="99"/>
                  </a:lnTo>
                  <a:lnTo>
                    <a:pt x="173" y="92"/>
                  </a:lnTo>
                  <a:lnTo>
                    <a:pt x="172" y="85"/>
                  </a:lnTo>
                  <a:lnTo>
                    <a:pt x="171" y="79"/>
                  </a:lnTo>
                  <a:lnTo>
                    <a:pt x="169" y="74"/>
                  </a:lnTo>
                  <a:lnTo>
                    <a:pt x="167" y="69"/>
                  </a:lnTo>
                  <a:lnTo>
                    <a:pt x="164" y="65"/>
                  </a:lnTo>
                  <a:lnTo>
                    <a:pt x="161" y="62"/>
                  </a:lnTo>
                  <a:lnTo>
                    <a:pt x="157" y="57"/>
                  </a:lnTo>
                  <a:lnTo>
                    <a:pt x="152" y="54"/>
                  </a:lnTo>
                  <a:lnTo>
                    <a:pt x="147" y="50"/>
                  </a:lnTo>
                  <a:lnTo>
                    <a:pt x="141" y="48"/>
                  </a:lnTo>
                  <a:lnTo>
                    <a:pt x="135" y="47"/>
                  </a:lnTo>
                  <a:lnTo>
                    <a:pt x="128" y="44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07" y="44"/>
                  </a:lnTo>
                  <a:lnTo>
                    <a:pt x="100" y="44"/>
                  </a:lnTo>
                  <a:lnTo>
                    <a:pt x="94" y="45"/>
                  </a:lnTo>
                  <a:lnTo>
                    <a:pt x="87" y="47"/>
                  </a:lnTo>
                  <a:lnTo>
                    <a:pt x="82" y="49"/>
                  </a:lnTo>
                  <a:lnTo>
                    <a:pt x="77" y="50"/>
                  </a:lnTo>
                  <a:lnTo>
                    <a:pt x="73" y="53"/>
                  </a:lnTo>
                  <a:lnTo>
                    <a:pt x="69" y="57"/>
                  </a:lnTo>
                  <a:lnTo>
                    <a:pt x="66" y="60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7" y="74"/>
                  </a:lnTo>
                  <a:lnTo>
                    <a:pt x="55" y="80"/>
                  </a:lnTo>
                  <a:lnTo>
                    <a:pt x="52" y="87"/>
                  </a:lnTo>
                  <a:lnTo>
                    <a:pt x="50" y="94"/>
                  </a:lnTo>
                  <a:lnTo>
                    <a:pt x="48" y="102"/>
                  </a:lnTo>
                  <a:lnTo>
                    <a:pt x="7" y="95"/>
                  </a:lnTo>
                  <a:lnTo>
                    <a:pt x="8" y="87"/>
                  </a:lnTo>
                  <a:lnTo>
                    <a:pt x="10" y="79"/>
                  </a:lnTo>
                  <a:lnTo>
                    <a:pt x="12" y="73"/>
                  </a:lnTo>
                  <a:lnTo>
                    <a:pt x="14" y="65"/>
                  </a:lnTo>
                  <a:lnTo>
                    <a:pt x="16" y="59"/>
                  </a:lnTo>
                  <a:lnTo>
                    <a:pt x="19" y="53"/>
                  </a:lnTo>
                  <a:lnTo>
                    <a:pt x="23" y="48"/>
                  </a:lnTo>
                  <a:lnTo>
                    <a:pt x="26" y="43"/>
                  </a:lnTo>
                  <a:lnTo>
                    <a:pt x="29" y="38"/>
                  </a:lnTo>
                  <a:lnTo>
                    <a:pt x="33" y="33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52" y="18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9" y="9"/>
                  </a:lnTo>
                  <a:lnTo>
                    <a:pt x="75" y="7"/>
                  </a:lnTo>
                  <a:lnTo>
                    <a:pt x="82" y="4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5" y="2"/>
                  </a:lnTo>
                  <a:lnTo>
                    <a:pt x="142" y="2"/>
                  </a:lnTo>
                  <a:lnTo>
                    <a:pt x="148" y="3"/>
                  </a:lnTo>
                  <a:lnTo>
                    <a:pt x="154" y="4"/>
                  </a:lnTo>
                  <a:lnTo>
                    <a:pt x="160" y="5"/>
                  </a:lnTo>
                  <a:lnTo>
                    <a:pt x="167" y="8"/>
                  </a:lnTo>
                  <a:lnTo>
                    <a:pt x="172" y="9"/>
                  </a:lnTo>
                  <a:lnTo>
                    <a:pt x="177" y="12"/>
                  </a:lnTo>
                  <a:lnTo>
                    <a:pt x="181" y="14"/>
                  </a:lnTo>
                  <a:lnTo>
                    <a:pt x="185" y="18"/>
                  </a:lnTo>
                  <a:lnTo>
                    <a:pt x="189" y="20"/>
                  </a:lnTo>
                  <a:lnTo>
                    <a:pt x="192" y="23"/>
                  </a:lnTo>
                  <a:lnTo>
                    <a:pt x="196" y="27"/>
                  </a:lnTo>
                  <a:lnTo>
                    <a:pt x="198" y="29"/>
                  </a:lnTo>
                  <a:lnTo>
                    <a:pt x="201" y="33"/>
                  </a:lnTo>
                  <a:lnTo>
                    <a:pt x="203" y="37"/>
                  </a:lnTo>
                  <a:lnTo>
                    <a:pt x="205" y="40"/>
                  </a:lnTo>
                  <a:lnTo>
                    <a:pt x="207" y="44"/>
                  </a:lnTo>
                  <a:lnTo>
                    <a:pt x="209" y="49"/>
                  </a:lnTo>
                  <a:lnTo>
                    <a:pt x="210" y="54"/>
                  </a:lnTo>
                  <a:lnTo>
                    <a:pt x="212" y="58"/>
                  </a:lnTo>
                  <a:lnTo>
                    <a:pt x="213" y="63"/>
                  </a:lnTo>
                  <a:lnTo>
                    <a:pt x="214" y="69"/>
                  </a:lnTo>
                  <a:lnTo>
                    <a:pt x="214" y="72"/>
                  </a:lnTo>
                  <a:lnTo>
                    <a:pt x="215" y="77"/>
                  </a:lnTo>
                  <a:lnTo>
                    <a:pt x="215" y="82"/>
                  </a:lnTo>
                  <a:lnTo>
                    <a:pt x="215" y="87"/>
                  </a:lnTo>
                  <a:lnTo>
                    <a:pt x="216" y="94"/>
                  </a:lnTo>
                  <a:lnTo>
                    <a:pt x="216" y="100"/>
                  </a:lnTo>
                  <a:lnTo>
                    <a:pt x="216" y="108"/>
                  </a:lnTo>
                  <a:lnTo>
                    <a:pt x="216" y="116"/>
                  </a:lnTo>
                  <a:lnTo>
                    <a:pt x="216" y="186"/>
                  </a:lnTo>
                  <a:lnTo>
                    <a:pt x="216" y="203"/>
                  </a:lnTo>
                  <a:lnTo>
                    <a:pt x="216" y="219"/>
                  </a:lnTo>
                  <a:lnTo>
                    <a:pt x="216" y="233"/>
                  </a:lnTo>
                  <a:lnTo>
                    <a:pt x="217" y="245"/>
                  </a:lnTo>
                  <a:lnTo>
                    <a:pt x="217" y="256"/>
                  </a:lnTo>
                  <a:lnTo>
                    <a:pt x="217" y="265"/>
                  </a:lnTo>
                  <a:lnTo>
                    <a:pt x="218" y="272"/>
                  </a:lnTo>
                  <a:lnTo>
                    <a:pt x="219" y="277"/>
                  </a:lnTo>
                  <a:lnTo>
                    <a:pt x="219" y="282"/>
                  </a:lnTo>
                  <a:lnTo>
                    <a:pt x="220" y="287"/>
                  </a:lnTo>
                  <a:lnTo>
                    <a:pt x="221" y="292"/>
                  </a:lnTo>
                  <a:lnTo>
                    <a:pt x="223" y="296"/>
                  </a:lnTo>
                  <a:lnTo>
                    <a:pt x="224" y="301"/>
                  </a:lnTo>
                  <a:lnTo>
                    <a:pt x="226" y="306"/>
                  </a:lnTo>
                  <a:lnTo>
                    <a:pt x="227" y="310"/>
                  </a:lnTo>
                  <a:lnTo>
                    <a:pt x="229" y="315"/>
                  </a:lnTo>
                  <a:lnTo>
                    <a:pt x="186" y="315"/>
                  </a:lnTo>
                  <a:lnTo>
                    <a:pt x="184" y="310"/>
                  </a:lnTo>
                  <a:lnTo>
                    <a:pt x="183" y="306"/>
                  </a:lnTo>
                  <a:lnTo>
                    <a:pt x="181" y="301"/>
                  </a:lnTo>
                  <a:lnTo>
                    <a:pt x="180" y="297"/>
                  </a:lnTo>
                  <a:lnTo>
                    <a:pt x="179" y="292"/>
                  </a:lnTo>
                  <a:lnTo>
                    <a:pt x="178" y="287"/>
                  </a:lnTo>
                  <a:lnTo>
                    <a:pt x="178" y="282"/>
                  </a:lnTo>
                  <a:lnTo>
                    <a:pt x="177" y="276"/>
                  </a:lnTo>
                  <a:close/>
                  <a:moveTo>
                    <a:pt x="174" y="160"/>
                  </a:moveTo>
                  <a:lnTo>
                    <a:pt x="168" y="163"/>
                  </a:lnTo>
                  <a:lnTo>
                    <a:pt x="160" y="166"/>
                  </a:lnTo>
                  <a:lnTo>
                    <a:pt x="153" y="169"/>
                  </a:lnTo>
                  <a:lnTo>
                    <a:pt x="144" y="171"/>
                  </a:lnTo>
                  <a:lnTo>
                    <a:pt x="135" y="174"/>
                  </a:lnTo>
                  <a:lnTo>
                    <a:pt x="126" y="176"/>
                  </a:lnTo>
                  <a:lnTo>
                    <a:pt x="116" y="178"/>
                  </a:lnTo>
                  <a:lnTo>
                    <a:pt x="105" y="180"/>
                  </a:lnTo>
                  <a:lnTo>
                    <a:pt x="98" y="181"/>
                  </a:lnTo>
                  <a:lnTo>
                    <a:pt x="92" y="183"/>
                  </a:lnTo>
                  <a:lnTo>
                    <a:pt x="86" y="184"/>
                  </a:lnTo>
                  <a:lnTo>
                    <a:pt x="82" y="185"/>
                  </a:lnTo>
                  <a:lnTo>
                    <a:pt x="77" y="186"/>
                  </a:lnTo>
                  <a:lnTo>
                    <a:pt x="74" y="188"/>
                  </a:lnTo>
                  <a:lnTo>
                    <a:pt x="70" y="189"/>
                  </a:lnTo>
                  <a:lnTo>
                    <a:pt x="67" y="190"/>
                  </a:lnTo>
                  <a:lnTo>
                    <a:pt x="65" y="193"/>
                  </a:lnTo>
                  <a:lnTo>
                    <a:pt x="62" y="194"/>
                  </a:lnTo>
                  <a:lnTo>
                    <a:pt x="60" y="195"/>
                  </a:lnTo>
                  <a:lnTo>
                    <a:pt x="58" y="198"/>
                  </a:lnTo>
                  <a:lnTo>
                    <a:pt x="56" y="200"/>
                  </a:lnTo>
                  <a:lnTo>
                    <a:pt x="54" y="203"/>
                  </a:lnTo>
                  <a:lnTo>
                    <a:pt x="52" y="205"/>
                  </a:lnTo>
                  <a:lnTo>
                    <a:pt x="51" y="208"/>
                  </a:lnTo>
                  <a:lnTo>
                    <a:pt x="49" y="210"/>
                  </a:lnTo>
                  <a:lnTo>
                    <a:pt x="48" y="213"/>
                  </a:lnTo>
                  <a:lnTo>
                    <a:pt x="47" y="216"/>
                  </a:lnTo>
                  <a:lnTo>
                    <a:pt x="46" y="219"/>
                  </a:lnTo>
                  <a:lnTo>
                    <a:pt x="46" y="223"/>
                  </a:lnTo>
                  <a:lnTo>
                    <a:pt x="45" y="225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5" y="238"/>
                  </a:lnTo>
                  <a:lnTo>
                    <a:pt x="46" y="243"/>
                  </a:lnTo>
                  <a:lnTo>
                    <a:pt x="47" y="246"/>
                  </a:lnTo>
                  <a:lnTo>
                    <a:pt x="48" y="251"/>
                  </a:lnTo>
                  <a:lnTo>
                    <a:pt x="50" y="255"/>
                  </a:lnTo>
                  <a:lnTo>
                    <a:pt x="52" y="260"/>
                  </a:lnTo>
                  <a:lnTo>
                    <a:pt x="55" y="264"/>
                  </a:lnTo>
                  <a:lnTo>
                    <a:pt x="58" y="267"/>
                  </a:lnTo>
                  <a:lnTo>
                    <a:pt x="61" y="270"/>
                  </a:lnTo>
                  <a:lnTo>
                    <a:pt x="65" y="272"/>
                  </a:lnTo>
                  <a:lnTo>
                    <a:pt x="69" y="275"/>
                  </a:lnTo>
                  <a:lnTo>
                    <a:pt x="73" y="277"/>
                  </a:lnTo>
                  <a:lnTo>
                    <a:pt x="78" y="279"/>
                  </a:lnTo>
                  <a:lnTo>
                    <a:pt x="83" y="280"/>
                  </a:lnTo>
                  <a:lnTo>
                    <a:pt x="89" y="280"/>
                  </a:lnTo>
                  <a:lnTo>
                    <a:pt x="96" y="281"/>
                  </a:lnTo>
                  <a:lnTo>
                    <a:pt x="102" y="280"/>
                  </a:lnTo>
                  <a:lnTo>
                    <a:pt x="107" y="280"/>
                  </a:lnTo>
                  <a:lnTo>
                    <a:pt x="113" y="279"/>
                  </a:lnTo>
                  <a:lnTo>
                    <a:pt x="118" y="277"/>
                  </a:lnTo>
                  <a:lnTo>
                    <a:pt x="124" y="276"/>
                  </a:lnTo>
                  <a:lnTo>
                    <a:pt x="129" y="274"/>
                  </a:lnTo>
                  <a:lnTo>
                    <a:pt x="134" y="271"/>
                  </a:lnTo>
                  <a:lnTo>
                    <a:pt x="138" y="267"/>
                  </a:lnTo>
                  <a:lnTo>
                    <a:pt x="143" y="264"/>
                  </a:lnTo>
                  <a:lnTo>
                    <a:pt x="147" y="260"/>
                  </a:lnTo>
                  <a:lnTo>
                    <a:pt x="151" y="256"/>
                  </a:lnTo>
                  <a:lnTo>
                    <a:pt x="155" y="253"/>
                  </a:lnTo>
                  <a:lnTo>
                    <a:pt x="158" y="248"/>
                  </a:lnTo>
                  <a:lnTo>
                    <a:pt x="161" y="243"/>
                  </a:lnTo>
                  <a:lnTo>
                    <a:pt x="164" y="238"/>
                  </a:lnTo>
                  <a:lnTo>
                    <a:pt x="167" y="231"/>
                  </a:lnTo>
                  <a:lnTo>
                    <a:pt x="169" y="226"/>
                  </a:lnTo>
                  <a:lnTo>
                    <a:pt x="170" y="221"/>
                  </a:lnTo>
                  <a:lnTo>
                    <a:pt x="171" y="216"/>
                  </a:lnTo>
                  <a:lnTo>
                    <a:pt x="172" y="210"/>
                  </a:lnTo>
                  <a:lnTo>
                    <a:pt x="173" y="203"/>
                  </a:lnTo>
                  <a:lnTo>
                    <a:pt x="173" y="195"/>
                  </a:lnTo>
                  <a:lnTo>
                    <a:pt x="174" y="188"/>
                  </a:lnTo>
                  <a:lnTo>
                    <a:pt x="174" y="180"/>
                  </a:lnTo>
                  <a:lnTo>
                    <a:pt x="174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6800" y="3289320"/>
              <a:ext cx="106200" cy="12384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0" y="315"/>
                  </a:moveTo>
                  <a:lnTo>
                    <a:pt x="0" y="8"/>
                  </a:lnTo>
                  <a:lnTo>
                    <a:pt x="38" y="8"/>
                  </a:lnTo>
                  <a:lnTo>
                    <a:pt x="38" y="52"/>
                  </a:lnTo>
                  <a:lnTo>
                    <a:pt x="45" y="39"/>
                  </a:lnTo>
                  <a:lnTo>
                    <a:pt x="53" y="29"/>
                  </a:lnTo>
                  <a:lnTo>
                    <a:pt x="62" y="20"/>
                  </a:lnTo>
                  <a:lnTo>
                    <a:pt x="71" y="13"/>
                  </a:lnTo>
                  <a:lnTo>
                    <a:pt x="81" y="8"/>
                  </a:lnTo>
                  <a:lnTo>
                    <a:pt x="92" y="4"/>
                  </a:lnTo>
                  <a:lnTo>
                    <a:pt x="105" y="2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8" y="2"/>
                  </a:lnTo>
                  <a:lnTo>
                    <a:pt x="134" y="2"/>
                  </a:lnTo>
                  <a:lnTo>
                    <a:pt x="139" y="3"/>
                  </a:lnTo>
                  <a:lnTo>
                    <a:pt x="144" y="4"/>
                  </a:lnTo>
                  <a:lnTo>
                    <a:pt x="149" y="7"/>
                  </a:lnTo>
                  <a:lnTo>
                    <a:pt x="154" y="8"/>
                  </a:lnTo>
                  <a:lnTo>
                    <a:pt x="158" y="10"/>
                  </a:lnTo>
                  <a:lnTo>
                    <a:pt x="163" y="13"/>
                  </a:lnTo>
                  <a:lnTo>
                    <a:pt x="167" y="15"/>
                  </a:lnTo>
                  <a:lnTo>
                    <a:pt x="171" y="19"/>
                  </a:lnTo>
                  <a:lnTo>
                    <a:pt x="176" y="22"/>
                  </a:lnTo>
                  <a:lnTo>
                    <a:pt x="179" y="25"/>
                  </a:lnTo>
                  <a:lnTo>
                    <a:pt x="182" y="29"/>
                  </a:lnTo>
                  <a:lnTo>
                    <a:pt x="185" y="33"/>
                  </a:lnTo>
                  <a:lnTo>
                    <a:pt x="187" y="37"/>
                  </a:lnTo>
                  <a:lnTo>
                    <a:pt x="189" y="40"/>
                  </a:lnTo>
                  <a:lnTo>
                    <a:pt x="191" y="45"/>
                  </a:lnTo>
                  <a:lnTo>
                    <a:pt x="193" y="49"/>
                  </a:lnTo>
                  <a:lnTo>
                    <a:pt x="195" y="54"/>
                  </a:lnTo>
                  <a:lnTo>
                    <a:pt x="197" y="59"/>
                  </a:lnTo>
                  <a:lnTo>
                    <a:pt x="198" y="64"/>
                  </a:lnTo>
                  <a:lnTo>
                    <a:pt x="199" y="69"/>
                  </a:lnTo>
                  <a:lnTo>
                    <a:pt x="200" y="75"/>
                  </a:lnTo>
                  <a:lnTo>
                    <a:pt x="201" y="79"/>
                  </a:lnTo>
                  <a:lnTo>
                    <a:pt x="201" y="84"/>
                  </a:lnTo>
                  <a:lnTo>
                    <a:pt x="202" y="89"/>
                  </a:lnTo>
                  <a:lnTo>
                    <a:pt x="202" y="95"/>
                  </a:lnTo>
                  <a:lnTo>
                    <a:pt x="202" y="102"/>
                  </a:lnTo>
                  <a:lnTo>
                    <a:pt x="202" y="109"/>
                  </a:lnTo>
                  <a:lnTo>
                    <a:pt x="202" y="116"/>
                  </a:lnTo>
                  <a:lnTo>
                    <a:pt x="203" y="125"/>
                  </a:lnTo>
                  <a:lnTo>
                    <a:pt x="203" y="315"/>
                  </a:lnTo>
                  <a:lnTo>
                    <a:pt x="160" y="315"/>
                  </a:lnTo>
                  <a:lnTo>
                    <a:pt x="160" y="128"/>
                  </a:lnTo>
                  <a:lnTo>
                    <a:pt x="160" y="120"/>
                  </a:lnTo>
                  <a:lnTo>
                    <a:pt x="159" y="113"/>
                  </a:lnTo>
                  <a:lnTo>
                    <a:pt x="159" y="107"/>
                  </a:lnTo>
                  <a:lnTo>
                    <a:pt x="159" y="100"/>
                  </a:lnTo>
                  <a:lnTo>
                    <a:pt x="158" y="94"/>
                  </a:lnTo>
                  <a:lnTo>
                    <a:pt x="157" y="89"/>
                  </a:lnTo>
                  <a:lnTo>
                    <a:pt x="156" y="84"/>
                  </a:lnTo>
                  <a:lnTo>
                    <a:pt x="155" y="80"/>
                  </a:lnTo>
                  <a:lnTo>
                    <a:pt x="154" y="77"/>
                  </a:lnTo>
                  <a:lnTo>
                    <a:pt x="152" y="73"/>
                  </a:lnTo>
                  <a:lnTo>
                    <a:pt x="150" y="69"/>
                  </a:lnTo>
                  <a:lnTo>
                    <a:pt x="148" y="67"/>
                  </a:lnTo>
                  <a:lnTo>
                    <a:pt x="146" y="63"/>
                  </a:lnTo>
                  <a:lnTo>
                    <a:pt x="143" y="60"/>
                  </a:lnTo>
                  <a:lnTo>
                    <a:pt x="141" y="58"/>
                  </a:lnTo>
                  <a:lnTo>
                    <a:pt x="138" y="55"/>
                  </a:lnTo>
                  <a:lnTo>
                    <a:pt x="134" y="53"/>
                  </a:lnTo>
                  <a:lnTo>
                    <a:pt x="131" y="50"/>
                  </a:lnTo>
                  <a:lnTo>
                    <a:pt x="128" y="49"/>
                  </a:lnTo>
                  <a:lnTo>
                    <a:pt x="124" y="48"/>
                  </a:lnTo>
                  <a:lnTo>
                    <a:pt x="120" y="47"/>
                  </a:lnTo>
                  <a:lnTo>
                    <a:pt x="117" y="47"/>
                  </a:lnTo>
                  <a:lnTo>
                    <a:pt x="113" y="45"/>
                  </a:lnTo>
                  <a:lnTo>
                    <a:pt x="109" y="45"/>
                  </a:lnTo>
                  <a:lnTo>
                    <a:pt x="102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3" y="50"/>
                  </a:lnTo>
                  <a:lnTo>
                    <a:pt x="77" y="54"/>
                  </a:lnTo>
                  <a:lnTo>
                    <a:pt x="72" y="58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57" y="73"/>
                  </a:lnTo>
                  <a:lnTo>
                    <a:pt x="53" y="79"/>
                  </a:lnTo>
                  <a:lnTo>
                    <a:pt x="50" y="88"/>
                  </a:lnTo>
                  <a:lnTo>
                    <a:pt x="47" y="98"/>
                  </a:lnTo>
                  <a:lnTo>
                    <a:pt x="45" y="108"/>
                  </a:lnTo>
                  <a:lnTo>
                    <a:pt x="43" y="120"/>
                  </a:lnTo>
                  <a:lnTo>
                    <a:pt x="43" y="133"/>
                  </a:lnTo>
                  <a:lnTo>
                    <a:pt x="42" y="146"/>
                  </a:lnTo>
                  <a:lnTo>
                    <a:pt x="42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1000" y="3244680"/>
              <a:ext cx="136440" cy="168480"/>
            </a:xfrm>
            <a:custGeom>
              <a:avLst/>
              <a:gdLst/>
              <a:ahLst/>
              <a:rect l="l" t="t" r="r" b="b"/>
              <a:pathLst>
                <a:path w="259" h="424">
                  <a:moveTo>
                    <a:pt x="0" y="424"/>
                  </a:moveTo>
                  <a:lnTo>
                    <a:pt x="0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8" y="1"/>
                  </a:lnTo>
                  <a:lnTo>
                    <a:pt x="156" y="1"/>
                  </a:lnTo>
                  <a:lnTo>
                    <a:pt x="164" y="3"/>
                  </a:lnTo>
                  <a:lnTo>
                    <a:pt x="172" y="5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2"/>
                  </a:lnTo>
                  <a:lnTo>
                    <a:pt x="197" y="16"/>
                  </a:lnTo>
                  <a:lnTo>
                    <a:pt x="204" y="20"/>
                  </a:lnTo>
                  <a:lnTo>
                    <a:pt x="209" y="25"/>
                  </a:lnTo>
                  <a:lnTo>
                    <a:pt x="214" y="28"/>
                  </a:lnTo>
                  <a:lnTo>
                    <a:pt x="218" y="35"/>
                  </a:lnTo>
                  <a:lnTo>
                    <a:pt x="222" y="40"/>
                  </a:lnTo>
                  <a:lnTo>
                    <a:pt x="226" y="46"/>
                  </a:lnTo>
                  <a:lnTo>
                    <a:pt x="230" y="52"/>
                  </a:lnTo>
                  <a:lnTo>
                    <a:pt x="233" y="58"/>
                  </a:lnTo>
                  <a:lnTo>
                    <a:pt x="235" y="66"/>
                  </a:lnTo>
                  <a:lnTo>
                    <a:pt x="238" y="72"/>
                  </a:lnTo>
                  <a:lnTo>
                    <a:pt x="240" y="79"/>
                  </a:lnTo>
                  <a:lnTo>
                    <a:pt x="241" y="87"/>
                  </a:lnTo>
                  <a:lnTo>
                    <a:pt x="242" y="93"/>
                  </a:lnTo>
                  <a:lnTo>
                    <a:pt x="243" y="101"/>
                  </a:lnTo>
                  <a:lnTo>
                    <a:pt x="243" y="108"/>
                  </a:lnTo>
                  <a:lnTo>
                    <a:pt x="243" y="114"/>
                  </a:lnTo>
                  <a:lnTo>
                    <a:pt x="242" y="122"/>
                  </a:lnTo>
                  <a:lnTo>
                    <a:pt x="241" y="128"/>
                  </a:lnTo>
                  <a:lnTo>
                    <a:pt x="240" y="134"/>
                  </a:lnTo>
                  <a:lnTo>
                    <a:pt x="238" y="141"/>
                  </a:lnTo>
                  <a:lnTo>
                    <a:pt x="236" y="147"/>
                  </a:lnTo>
                  <a:lnTo>
                    <a:pt x="234" y="153"/>
                  </a:lnTo>
                  <a:lnTo>
                    <a:pt x="231" y="159"/>
                  </a:lnTo>
                  <a:lnTo>
                    <a:pt x="228" y="166"/>
                  </a:lnTo>
                  <a:lnTo>
                    <a:pt x="224" y="171"/>
                  </a:lnTo>
                  <a:lnTo>
                    <a:pt x="220" y="176"/>
                  </a:lnTo>
                  <a:lnTo>
                    <a:pt x="216" y="181"/>
                  </a:lnTo>
                  <a:lnTo>
                    <a:pt x="212" y="186"/>
                  </a:lnTo>
                  <a:lnTo>
                    <a:pt x="207" y="191"/>
                  </a:lnTo>
                  <a:lnTo>
                    <a:pt x="200" y="194"/>
                  </a:lnTo>
                  <a:lnTo>
                    <a:pt x="194" y="198"/>
                  </a:lnTo>
                  <a:lnTo>
                    <a:pt x="202" y="201"/>
                  </a:lnTo>
                  <a:lnTo>
                    <a:pt x="210" y="204"/>
                  </a:lnTo>
                  <a:lnTo>
                    <a:pt x="216" y="209"/>
                  </a:lnTo>
                  <a:lnTo>
                    <a:pt x="223" y="213"/>
                  </a:lnTo>
                  <a:lnTo>
                    <a:pt x="228" y="218"/>
                  </a:lnTo>
                  <a:lnTo>
                    <a:pt x="234" y="224"/>
                  </a:lnTo>
                  <a:lnTo>
                    <a:pt x="238" y="230"/>
                  </a:lnTo>
                  <a:lnTo>
                    <a:pt x="243" y="237"/>
                  </a:lnTo>
                  <a:lnTo>
                    <a:pt x="247" y="243"/>
                  </a:lnTo>
                  <a:lnTo>
                    <a:pt x="250" y="250"/>
                  </a:lnTo>
                  <a:lnTo>
                    <a:pt x="253" y="258"/>
                  </a:lnTo>
                  <a:lnTo>
                    <a:pt x="255" y="267"/>
                  </a:lnTo>
                  <a:lnTo>
                    <a:pt x="257" y="274"/>
                  </a:lnTo>
                  <a:lnTo>
                    <a:pt x="258" y="283"/>
                  </a:lnTo>
                  <a:lnTo>
                    <a:pt x="259" y="292"/>
                  </a:lnTo>
                  <a:lnTo>
                    <a:pt x="259" y="300"/>
                  </a:lnTo>
                  <a:lnTo>
                    <a:pt x="259" y="308"/>
                  </a:lnTo>
                  <a:lnTo>
                    <a:pt x="259" y="315"/>
                  </a:lnTo>
                  <a:lnTo>
                    <a:pt x="258" y="323"/>
                  </a:lnTo>
                  <a:lnTo>
                    <a:pt x="257" y="329"/>
                  </a:lnTo>
                  <a:lnTo>
                    <a:pt x="255" y="337"/>
                  </a:lnTo>
                  <a:lnTo>
                    <a:pt x="254" y="343"/>
                  </a:lnTo>
                  <a:lnTo>
                    <a:pt x="252" y="349"/>
                  </a:lnTo>
                  <a:lnTo>
                    <a:pt x="249" y="357"/>
                  </a:lnTo>
                  <a:lnTo>
                    <a:pt x="247" y="363"/>
                  </a:lnTo>
                  <a:lnTo>
                    <a:pt x="244" y="368"/>
                  </a:lnTo>
                  <a:lnTo>
                    <a:pt x="241" y="374"/>
                  </a:lnTo>
                  <a:lnTo>
                    <a:pt x="238" y="379"/>
                  </a:lnTo>
                  <a:lnTo>
                    <a:pt x="235" y="384"/>
                  </a:lnTo>
                  <a:lnTo>
                    <a:pt x="231" y="388"/>
                  </a:lnTo>
                  <a:lnTo>
                    <a:pt x="228" y="391"/>
                  </a:lnTo>
                  <a:lnTo>
                    <a:pt x="224" y="395"/>
                  </a:lnTo>
                  <a:lnTo>
                    <a:pt x="220" y="399"/>
                  </a:lnTo>
                  <a:lnTo>
                    <a:pt x="216" y="401"/>
                  </a:lnTo>
                  <a:lnTo>
                    <a:pt x="212" y="405"/>
                  </a:lnTo>
                  <a:lnTo>
                    <a:pt x="208" y="408"/>
                  </a:lnTo>
                  <a:lnTo>
                    <a:pt x="202" y="410"/>
                  </a:lnTo>
                  <a:lnTo>
                    <a:pt x="197" y="413"/>
                  </a:lnTo>
                  <a:lnTo>
                    <a:pt x="192" y="415"/>
                  </a:lnTo>
                  <a:lnTo>
                    <a:pt x="186" y="416"/>
                  </a:lnTo>
                  <a:lnTo>
                    <a:pt x="180" y="418"/>
                  </a:lnTo>
                  <a:lnTo>
                    <a:pt x="174" y="420"/>
                  </a:lnTo>
                  <a:lnTo>
                    <a:pt x="168" y="421"/>
                  </a:lnTo>
                  <a:lnTo>
                    <a:pt x="161" y="421"/>
                  </a:lnTo>
                  <a:lnTo>
                    <a:pt x="154" y="423"/>
                  </a:lnTo>
                  <a:lnTo>
                    <a:pt x="147" y="423"/>
                  </a:lnTo>
                  <a:lnTo>
                    <a:pt x="139" y="424"/>
                  </a:lnTo>
                  <a:lnTo>
                    <a:pt x="131" y="424"/>
                  </a:lnTo>
                  <a:lnTo>
                    <a:pt x="0" y="424"/>
                  </a:lnTo>
                  <a:close/>
                  <a:moveTo>
                    <a:pt x="45" y="178"/>
                  </a:moveTo>
                  <a:lnTo>
                    <a:pt x="119" y="178"/>
                  </a:lnTo>
                  <a:lnTo>
                    <a:pt x="126" y="178"/>
                  </a:lnTo>
                  <a:lnTo>
                    <a:pt x="134" y="178"/>
                  </a:lnTo>
                  <a:lnTo>
                    <a:pt x="140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6" y="176"/>
                  </a:lnTo>
                  <a:lnTo>
                    <a:pt x="160" y="174"/>
                  </a:lnTo>
                  <a:lnTo>
                    <a:pt x="163" y="173"/>
                  </a:lnTo>
                  <a:lnTo>
                    <a:pt x="167" y="171"/>
                  </a:lnTo>
                  <a:lnTo>
                    <a:pt x="171" y="169"/>
                  </a:lnTo>
                  <a:lnTo>
                    <a:pt x="175" y="167"/>
                  </a:lnTo>
                  <a:lnTo>
                    <a:pt x="178" y="164"/>
                  </a:lnTo>
                  <a:lnTo>
                    <a:pt x="181" y="162"/>
                  </a:lnTo>
                  <a:lnTo>
                    <a:pt x="184" y="158"/>
                  </a:lnTo>
                  <a:lnTo>
                    <a:pt x="187" y="156"/>
                  </a:lnTo>
                  <a:lnTo>
                    <a:pt x="189" y="152"/>
                  </a:lnTo>
                  <a:lnTo>
                    <a:pt x="191" y="148"/>
                  </a:lnTo>
                  <a:lnTo>
                    <a:pt x="193" y="144"/>
                  </a:lnTo>
                  <a:lnTo>
                    <a:pt x="194" y="139"/>
                  </a:lnTo>
                  <a:lnTo>
                    <a:pt x="195" y="136"/>
                  </a:lnTo>
                  <a:lnTo>
                    <a:pt x="196" y="131"/>
                  </a:lnTo>
                  <a:lnTo>
                    <a:pt x="197" y="126"/>
                  </a:lnTo>
                  <a:lnTo>
                    <a:pt x="197" y="121"/>
                  </a:lnTo>
                  <a:lnTo>
                    <a:pt x="198" y="114"/>
                  </a:lnTo>
                  <a:lnTo>
                    <a:pt x="197" y="109"/>
                  </a:lnTo>
                  <a:lnTo>
                    <a:pt x="197" y="104"/>
                  </a:lnTo>
                  <a:lnTo>
                    <a:pt x="196" y="99"/>
                  </a:lnTo>
                  <a:lnTo>
                    <a:pt x="196" y="94"/>
                  </a:lnTo>
                  <a:lnTo>
                    <a:pt x="194" y="91"/>
                  </a:lnTo>
                  <a:lnTo>
                    <a:pt x="193" y="86"/>
                  </a:lnTo>
                  <a:lnTo>
                    <a:pt x="191" y="82"/>
                  </a:lnTo>
                  <a:lnTo>
                    <a:pt x="190" y="77"/>
                  </a:lnTo>
                  <a:lnTo>
                    <a:pt x="187" y="73"/>
                  </a:lnTo>
                  <a:lnTo>
                    <a:pt x="185" y="71"/>
                  </a:lnTo>
                  <a:lnTo>
                    <a:pt x="182" y="67"/>
                  </a:lnTo>
                  <a:lnTo>
                    <a:pt x="180" y="65"/>
                  </a:lnTo>
                  <a:lnTo>
                    <a:pt x="177" y="62"/>
                  </a:lnTo>
                  <a:lnTo>
                    <a:pt x="173" y="60"/>
                  </a:lnTo>
                  <a:lnTo>
                    <a:pt x="170" y="57"/>
                  </a:lnTo>
                  <a:lnTo>
                    <a:pt x="166" y="56"/>
                  </a:lnTo>
                  <a:lnTo>
                    <a:pt x="162" y="55"/>
                  </a:lnTo>
                  <a:lnTo>
                    <a:pt x="157" y="53"/>
                  </a:lnTo>
                  <a:lnTo>
                    <a:pt x="152" y="52"/>
                  </a:lnTo>
                  <a:lnTo>
                    <a:pt x="146" y="51"/>
                  </a:lnTo>
                  <a:lnTo>
                    <a:pt x="139" y="51"/>
                  </a:lnTo>
                  <a:lnTo>
                    <a:pt x="132" y="50"/>
                  </a:lnTo>
                  <a:lnTo>
                    <a:pt x="122" y="50"/>
                  </a:lnTo>
                  <a:lnTo>
                    <a:pt x="114" y="50"/>
                  </a:lnTo>
                  <a:lnTo>
                    <a:pt x="45" y="50"/>
                  </a:lnTo>
                  <a:lnTo>
                    <a:pt x="45" y="178"/>
                  </a:lnTo>
                  <a:close/>
                  <a:moveTo>
                    <a:pt x="45" y="374"/>
                  </a:moveTo>
                  <a:lnTo>
                    <a:pt x="131" y="374"/>
                  </a:lnTo>
                  <a:lnTo>
                    <a:pt x="137" y="374"/>
                  </a:lnTo>
                  <a:lnTo>
                    <a:pt x="141" y="374"/>
                  </a:lnTo>
                  <a:lnTo>
                    <a:pt x="146" y="373"/>
                  </a:lnTo>
                  <a:lnTo>
                    <a:pt x="150" y="373"/>
                  </a:lnTo>
                  <a:lnTo>
                    <a:pt x="154" y="373"/>
                  </a:lnTo>
                  <a:lnTo>
                    <a:pt x="157" y="373"/>
                  </a:lnTo>
                  <a:lnTo>
                    <a:pt x="160" y="371"/>
                  </a:lnTo>
                  <a:lnTo>
                    <a:pt x="162" y="371"/>
                  </a:lnTo>
                  <a:lnTo>
                    <a:pt x="166" y="370"/>
                  </a:lnTo>
                  <a:lnTo>
                    <a:pt x="169" y="369"/>
                  </a:lnTo>
                  <a:lnTo>
                    <a:pt x="173" y="368"/>
                  </a:lnTo>
                  <a:lnTo>
                    <a:pt x="176" y="367"/>
                  </a:lnTo>
                  <a:lnTo>
                    <a:pt x="179" y="365"/>
                  </a:lnTo>
                  <a:lnTo>
                    <a:pt x="182" y="364"/>
                  </a:lnTo>
                  <a:lnTo>
                    <a:pt x="185" y="362"/>
                  </a:lnTo>
                  <a:lnTo>
                    <a:pt x="188" y="360"/>
                  </a:lnTo>
                  <a:lnTo>
                    <a:pt x="190" y="358"/>
                  </a:lnTo>
                  <a:lnTo>
                    <a:pt x="193" y="355"/>
                  </a:lnTo>
                  <a:lnTo>
                    <a:pt x="195" y="353"/>
                  </a:lnTo>
                  <a:lnTo>
                    <a:pt x="197" y="350"/>
                  </a:lnTo>
                  <a:lnTo>
                    <a:pt x="199" y="347"/>
                  </a:lnTo>
                  <a:lnTo>
                    <a:pt x="201" y="344"/>
                  </a:lnTo>
                  <a:lnTo>
                    <a:pt x="204" y="340"/>
                  </a:lnTo>
                  <a:lnTo>
                    <a:pt x="206" y="337"/>
                  </a:lnTo>
                  <a:lnTo>
                    <a:pt x="208" y="333"/>
                  </a:lnTo>
                  <a:lnTo>
                    <a:pt x="209" y="328"/>
                  </a:lnTo>
                  <a:lnTo>
                    <a:pt x="210" y="324"/>
                  </a:lnTo>
                  <a:lnTo>
                    <a:pt x="211" y="320"/>
                  </a:lnTo>
                  <a:lnTo>
                    <a:pt x="212" y="315"/>
                  </a:lnTo>
                  <a:lnTo>
                    <a:pt x="212" y="310"/>
                  </a:lnTo>
                  <a:lnTo>
                    <a:pt x="213" y="305"/>
                  </a:lnTo>
                  <a:lnTo>
                    <a:pt x="213" y="300"/>
                  </a:lnTo>
                  <a:lnTo>
                    <a:pt x="213" y="295"/>
                  </a:lnTo>
                  <a:lnTo>
                    <a:pt x="212" y="289"/>
                  </a:lnTo>
                  <a:lnTo>
                    <a:pt x="211" y="284"/>
                  </a:lnTo>
                  <a:lnTo>
                    <a:pt x="210" y="279"/>
                  </a:lnTo>
                  <a:lnTo>
                    <a:pt x="209" y="273"/>
                  </a:lnTo>
                  <a:lnTo>
                    <a:pt x="207" y="269"/>
                  </a:lnTo>
                  <a:lnTo>
                    <a:pt x="205" y="264"/>
                  </a:lnTo>
                  <a:lnTo>
                    <a:pt x="202" y="259"/>
                  </a:lnTo>
                  <a:lnTo>
                    <a:pt x="199" y="255"/>
                  </a:lnTo>
                  <a:lnTo>
                    <a:pt x="197" y="252"/>
                  </a:lnTo>
                  <a:lnTo>
                    <a:pt x="194" y="248"/>
                  </a:lnTo>
                  <a:lnTo>
                    <a:pt x="190" y="244"/>
                  </a:lnTo>
                  <a:lnTo>
                    <a:pt x="187" y="242"/>
                  </a:lnTo>
                  <a:lnTo>
                    <a:pt x="183" y="239"/>
                  </a:lnTo>
                  <a:lnTo>
                    <a:pt x="179" y="237"/>
                  </a:lnTo>
                  <a:lnTo>
                    <a:pt x="175" y="234"/>
                  </a:lnTo>
                  <a:lnTo>
                    <a:pt x="170" y="233"/>
                  </a:lnTo>
                  <a:lnTo>
                    <a:pt x="165" y="232"/>
                  </a:lnTo>
                  <a:lnTo>
                    <a:pt x="160" y="230"/>
                  </a:lnTo>
                  <a:lnTo>
                    <a:pt x="154" y="229"/>
                  </a:lnTo>
                  <a:lnTo>
                    <a:pt x="147" y="229"/>
                  </a:lnTo>
                  <a:lnTo>
                    <a:pt x="141" y="228"/>
                  </a:lnTo>
                  <a:lnTo>
                    <a:pt x="133" y="228"/>
                  </a:lnTo>
                  <a:lnTo>
                    <a:pt x="124" y="228"/>
                  </a:lnTo>
                  <a:lnTo>
                    <a:pt x="45" y="228"/>
                  </a:lnTo>
                  <a:lnTo>
                    <a:pt x="45" y="3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11200" y="3289320"/>
              <a:ext cx="120600" cy="1270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84" y="215"/>
                  </a:moveTo>
                  <a:lnTo>
                    <a:pt x="228" y="223"/>
                  </a:lnTo>
                  <a:lnTo>
                    <a:pt x="226" y="234"/>
                  </a:lnTo>
                  <a:lnTo>
                    <a:pt x="222" y="245"/>
                  </a:lnTo>
                  <a:lnTo>
                    <a:pt x="218" y="255"/>
                  </a:lnTo>
                  <a:lnTo>
                    <a:pt x="214" y="264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9"/>
                  </a:lnTo>
                  <a:lnTo>
                    <a:pt x="191" y="295"/>
                  </a:lnTo>
                  <a:lnTo>
                    <a:pt x="183" y="301"/>
                  </a:lnTo>
                  <a:lnTo>
                    <a:pt x="175" y="307"/>
                  </a:lnTo>
                  <a:lnTo>
                    <a:pt x="167" y="311"/>
                  </a:lnTo>
                  <a:lnTo>
                    <a:pt x="158" y="315"/>
                  </a:lnTo>
                  <a:lnTo>
                    <a:pt x="149" y="317"/>
                  </a:lnTo>
                  <a:lnTo>
                    <a:pt x="140" y="320"/>
                  </a:lnTo>
                  <a:lnTo>
                    <a:pt x="130" y="321"/>
                  </a:lnTo>
                  <a:lnTo>
                    <a:pt x="119" y="321"/>
                  </a:lnTo>
                  <a:lnTo>
                    <a:pt x="105" y="321"/>
                  </a:lnTo>
                  <a:lnTo>
                    <a:pt x="93" y="319"/>
                  </a:lnTo>
                  <a:lnTo>
                    <a:pt x="81" y="316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0" y="290"/>
                  </a:lnTo>
                  <a:lnTo>
                    <a:pt x="32" y="280"/>
                  </a:lnTo>
                  <a:lnTo>
                    <a:pt x="24" y="269"/>
                  </a:lnTo>
                  <a:lnTo>
                    <a:pt x="18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5"/>
                  </a:lnTo>
                  <a:lnTo>
                    <a:pt x="2" y="199"/>
                  </a:lnTo>
                  <a:lnTo>
                    <a:pt x="0" y="181"/>
                  </a:lnTo>
                  <a:lnTo>
                    <a:pt x="0" y="164"/>
                  </a:lnTo>
                  <a:lnTo>
                    <a:pt x="0" y="145"/>
                  </a:lnTo>
                  <a:lnTo>
                    <a:pt x="2" y="126"/>
                  </a:lnTo>
                  <a:lnTo>
                    <a:pt x="4" y="110"/>
                  </a:lnTo>
                  <a:lnTo>
                    <a:pt x="8" y="95"/>
                  </a:lnTo>
                  <a:lnTo>
                    <a:pt x="12" y="80"/>
                  </a:lnTo>
                  <a:lnTo>
                    <a:pt x="18" y="67"/>
                  </a:lnTo>
                  <a:lnTo>
                    <a:pt x="24" y="54"/>
                  </a:lnTo>
                  <a:lnTo>
                    <a:pt x="32" y="43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0" y="17"/>
                  </a:lnTo>
                  <a:lnTo>
                    <a:pt x="70" y="12"/>
                  </a:lnTo>
                  <a:lnTo>
                    <a:pt x="80" y="7"/>
                  </a:lnTo>
                  <a:lnTo>
                    <a:pt x="92" y="3"/>
                  </a:lnTo>
                  <a:lnTo>
                    <a:pt x="103" y="2"/>
                  </a:lnTo>
                  <a:lnTo>
                    <a:pt x="116" y="0"/>
                  </a:lnTo>
                  <a:lnTo>
                    <a:pt x="129" y="2"/>
                  </a:lnTo>
                  <a:lnTo>
                    <a:pt x="140" y="3"/>
                  </a:lnTo>
                  <a:lnTo>
                    <a:pt x="151" y="7"/>
                  </a:lnTo>
                  <a:lnTo>
                    <a:pt x="162" y="10"/>
                  </a:lnTo>
                  <a:lnTo>
                    <a:pt x="172" y="17"/>
                  </a:lnTo>
                  <a:lnTo>
                    <a:pt x="181" y="24"/>
                  </a:lnTo>
                  <a:lnTo>
                    <a:pt x="190" y="33"/>
                  </a:lnTo>
                  <a:lnTo>
                    <a:pt x="199" y="43"/>
                  </a:lnTo>
                  <a:lnTo>
                    <a:pt x="206" y="53"/>
                  </a:lnTo>
                  <a:lnTo>
                    <a:pt x="212" y="65"/>
                  </a:lnTo>
                  <a:lnTo>
                    <a:pt x="218" y="79"/>
                  </a:lnTo>
                  <a:lnTo>
                    <a:pt x="222" y="93"/>
                  </a:lnTo>
                  <a:lnTo>
                    <a:pt x="225" y="108"/>
                  </a:lnTo>
                  <a:lnTo>
                    <a:pt x="228" y="124"/>
                  </a:lnTo>
                  <a:lnTo>
                    <a:pt x="229" y="141"/>
                  </a:lnTo>
                  <a:lnTo>
                    <a:pt x="230" y="160"/>
                  </a:lnTo>
                  <a:lnTo>
                    <a:pt x="230" y="161"/>
                  </a:lnTo>
                  <a:lnTo>
                    <a:pt x="230" y="163"/>
                  </a:lnTo>
                  <a:lnTo>
                    <a:pt x="230" y="165"/>
                  </a:lnTo>
                  <a:lnTo>
                    <a:pt x="230" y="166"/>
                  </a:lnTo>
                  <a:lnTo>
                    <a:pt x="230" y="168"/>
                  </a:lnTo>
                  <a:lnTo>
                    <a:pt x="230" y="170"/>
                  </a:lnTo>
                  <a:lnTo>
                    <a:pt x="230" y="173"/>
                  </a:lnTo>
                  <a:lnTo>
                    <a:pt x="230" y="174"/>
                  </a:lnTo>
                  <a:lnTo>
                    <a:pt x="43" y="174"/>
                  </a:lnTo>
                  <a:lnTo>
                    <a:pt x="45" y="186"/>
                  </a:lnTo>
                  <a:lnTo>
                    <a:pt x="46" y="198"/>
                  </a:lnTo>
                  <a:lnTo>
                    <a:pt x="48" y="209"/>
                  </a:lnTo>
                  <a:lnTo>
                    <a:pt x="51" y="219"/>
                  </a:lnTo>
                  <a:lnTo>
                    <a:pt x="54" y="229"/>
                  </a:lnTo>
                  <a:lnTo>
                    <a:pt x="58" y="236"/>
                  </a:lnTo>
                  <a:lnTo>
                    <a:pt x="62" y="245"/>
                  </a:lnTo>
                  <a:lnTo>
                    <a:pt x="67" y="251"/>
                  </a:lnTo>
                  <a:lnTo>
                    <a:pt x="72" y="258"/>
                  </a:lnTo>
                  <a:lnTo>
                    <a:pt x="78" y="264"/>
                  </a:lnTo>
                  <a:lnTo>
                    <a:pt x="84" y="269"/>
                  </a:lnTo>
                  <a:lnTo>
                    <a:pt x="90" y="272"/>
                  </a:lnTo>
                  <a:lnTo>
                    <a:pt x="97" y="275"/>
                  </a:lnTo>
                  <a:lnTo>
                    <a:pt x="104" y="277"/>
                  </a:lnTo>
                  <a:lnTo>
                    <a:pt x="111" y="279"/>
                  </a:lnTo>
                  <a:lnTo>
                    <a:pt x="119" y="279"/>
                  </a:lnTo>
                  <a:lnTo>
                    <a:pt x="125" y="279"/>
                  </a:lnTo>
                  <a:lnTo>
                    <a:pt x="130" y="277"/>
                  </a:lnTo>
                  <a:lnTo>
                    <a:pt x="136" y="276"/>
                  </a:lnTo>
                  <a:lnTo>
                    <a:pt x="141" y="275"/>
                  </a:lnTo>
                  <a:lnTo>
                    <a:pt x="145" y="272"/>
                  </a:lnTo>
                  <a:lnTo>
                    <a:pt x="150" y="270"/>
                  </a:lnTo>
                  <a:lnTo>
                    <a:pt x="154" y="267"/>
                  </a:lnTo>
                  <a:lnTo>
                    <a:pt x="159" y="264"/>
                  </a:lnTo>
                  <a:lnTo>
                    <a:pt x="163" y="260"/>
                  </a:lnTo>
                  <a:lnTo>
                    <a:pt x="166" y="255"/>
                  </a:lnTo>
                  <a:lnTo>
                    <a:pt x="170" y="250"/>
                  </a:lnTo>
                  <a:lnTo>
                    <a:pt x="173" y="244"/>
                  </a:lnTo>
                  <a:lnTo>
                    <a:pt x="176" y="238"/>
                  </a:lnTo>
                  <a:lnTo>
                    <a:pt x="179" y="231"/>
                  </a:lnTo>
                  <a:lnTo>
                    <a:pt x="182" y="224"/>
                  </a:lnTo>
                  <a:lnTo>
                    <a:pt x="184" y="215"/>
                  </a:lnTo>
                  <a:close/>
                  <a:moveTo>
                    <a:pt x="46" y="131"/>
                  </a:moveTo>
                  <a:lnTo>
                    <a:pt x="185" y="131"/>
                  </a:lnTo>
                  <a:lnTo>
                    <a:pt x="184" y="123"/>
                  </a:lnTo>
                  <a:lnTo>
                    <a:pt x="183" y="113"/>
                  </a:lnTo>
                  <a:lnTo>
                    <a:pt x="181" y="105"/>
                  </a:lnTo>
                  <a:lnTo>
                    <a:pt x="179" y="98"/>
                  </a:lnTo>
                  <a:lnTo>
                    <a:pt x="177" y="90"/>
                  </a:lnTo>
                  <a:lnTo>
                    <a:pt x="175" y="84"/>
                  </a:lnTo>
                  <a:lnTo>
                    <a:pt x="172" y="79"/>
                  </a:lnTo>
                  <a:lnTo>
                    <a:pt x="169" y="73"/>
                  </a:lnTo>
                  <a:lnTo>
                    <a:pt x="164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6" y="50"/>
                  </a:lnTo>
                  <a:lnTo>
                    <a:pt x="140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6" y="43"/>
                  </a:lnTo>
                  <a:lnTo>
                    <a:pt x="109" y="44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8" y="57"/>
                  </a:lnTo>
                  <a:lnTo>
                    <a:pt x="73" y="62"/>
                  </a:lnTo>
                  <a:lnTo>
                    <a:pt x="68" y="68"/>
                  </a:lnTo>
                  <a:lnTo>
                    <a:pt x="63" y="74"/>
                  </a:lnTo>
                  <a:lnTo>
                    <a:pt x="59" y="80"/>
                  </a:lnTo>
                  <a:lnTo>
                    <a:pt x="56" y="88"/>
                  </a:lnTo>
                  <a:lnTo>
                    <a:pt x="53" y="95"/>
                  </a:lnTo>
                  <a:lnTo>
                    <a:pt x="50" y="104"/>
                  </a:lnTo>
                  <a:lnTo>
                    <a:pt x="49" y="113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60600" y="3289320"/>
              <a:ext cx="106200" cy="12384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0" y="315"/>
                  </a:moveTo>
                  <a:lnTo>
                    <a:pt x="0" y="8"/>
                  </a:lnTo>
                  <a:lnTo>
                    <a:pt x="37" y="8"/>
                  </a:lnTo>
                  <a:lnTo>
                    <a:pt x="37" y="52"/>
                  </a:lnTo>
                  <a:lnTo>
                    <a:pt x="44" y="39"/>
                  </a:lnTo>
                  <a:lnTo>
                    <a:pt x="53" y="29"/>
                  </a:lnTo>
                  <a:lnTo>
                    <a:pt x="62" y="20"/>
                  </a:lnTo>
                  <a:lnTo>
                    <a:pt x="71" y="13"/>
                  </a:lnTo>
                  <a:lnTo>
                    <a:pt x="82" y="8"/>
                  </a:lnTo>
                  <a:lnTo>
                    <a:pt x="93" y="4"/>
                  </a:lnTo>
                  <a:lnTo>
                    <a:pt x="104" y="2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8" y="2"/>
                  </a:lnTo>
                  <a:lnTo>
                    <a:pt x="134" y="2"/>
                  </a:lnTo>
                  <a:lnTo>
                    <a:pt x="139" y="3"/>
                  </a:lnTo>
                  <a:lnTo>
                    <a:pt x="144" y="4"/>
                  </a:lnTo>
                  <a:lnTo>
                    <a:pt x="149" y="7"/>
                  </a:lnTo>
                  <a:lnTo>
                    <a:pt x="154" y="8"/>
                  </a:lnTo>
                  <a:lnTo>
                    <a:pt x="158" y="10"/>
                  </a:lnTo>
                  <a:lnTo>
                    <a:pt x="163" y="13"/>
                  </a:lnTo>
                  <a:lnTo>
                    <a:pt x="167" y="15"/>
                  </a:lnTo>
                  <a:lnTo>
                    <a:pt x="171" y="19"/>
                  </a:lnTo>
                  <a:lnTo>
                    <a:pt x="175" y="22"/>
                  </a:lnTo>
                  <a:lnTo>
                    <a:pt x="178" y="25"/>
                  </a:lnTo>
                  <a:lnTo>
                    <a:pt x="181" y="29"/>
                  </a:lnTo>
                  <a:lnTo>
                    <a:pt x="184" y="33"/>
                  </a:lnTo>
                  <a:lnTo>
                    <a:pt x="186" y="37"/>
                  </a:lnTo>
                  <a:lnTo>
                    <a:pt x="189" y="40"/>
                  </a:lnTo>
                  <a:lnTo>
                    <a:pt x="191" y="45"/>
                  </a:lnTo>
                  <a:lnTo>
                    <a:pt x="193" y="49"/>
                  </a:lnTo>
                  <a:lnTo>
                    <a:pt x="194" y="54"/>
                  </a:lnTo>
                  <a:lnTo>
                    <a:pt x="196" y="59"/>
                  </a:lnTo>
                  <a:lnTo>
                    <a:pt x="198" y="64"/>
                  </a:lnTo>
                  <a:lnTo>
                    <a:pt x="199" y="69"/>
                  </a:lnTo>
                  <a:lnTo>
                    <a:pt x="200" y="75"/>
                  </a:lnTo>
                  <a:lnTo>
                    <a:pt x="201" y="79"/>
                  </a:lnTo>
                  <a:lnTo>
                    <a:pt x="201" y="84"/>
                  </a:lnTo>
                  <a:lnTo>
                    <a:pt x="202" y="89"/>
                  </a:lnTo>
                  <a:lnTo>
                    <a:pt x="202" y="95"/>
                  </a:lnTo>
                  <a:lnTo>
                    <a:pt x="202" y="102"/>
                  </a:lnTo>
                  <a:lnTo>
                    <a:pt x="203" y="109"/>
                  </a:lnTo>
                  <a:lnTo>
                    <a:pt x="203" y="116"/>
                  </a:lnTo>
                  <a:lnTo>
                    <a:pt x="203" y="125"/>
                  </a:lnTo>
                  <a:lnTo>
                    <a:pt x="203" y="315"/>
                  </a:lnTo>
                  <a:lnTo>
                    <a:pt x="160" y="315"/>
                  </a:lnTo>
                  <a:lnTo>
                    <a:pt x="160" y="128"/>
                  </a:lnTo>
                  <a:lnTo>
                    <a:pt x="160" y="120"/>
                  </a:lnTo>
                  <a:lnTo>
                    <a:pt x="160" y="113"/>
                  </a:lnTo>
                  <a:lnTo>
                    <a:pt x="159" y="107"/>
                  </a:lnTo>
                  <a:lnTo>
                    <a:pt x="159" y="100"/>
                  </a:lnTo>
                  <a:lnTo>
                    <a:pt x="158" y="94"/>
                  </a:lnTo>
                  <a:lnTo>
                    <a:pt x="157" y="89"/>
                  </a:lnTo>
                  <a:lnTo>
                    <a:pt x="156" y="84"/>
                  </a:lnTo>
                  <a:lnTo>
                    <a:pt x="155" y="80"/>
                  </a:lnTo>
                  <a:lnTo>
                    <a:pt x="154" y="77"/>
                  </a:lnTo>
                  <a:lnTo>
                    <a:pt x="152" y="73"/>
                  </a:lnTo>
                  <a:lnTo>
                    <a:pt x="150" y="69"/>
                  </a:lnTo>
                  <a:lnTo>
                    <a:pt x="148" y="67"/>
                  </a:lnTo>
                  <a:lnTo>
                    <a:pt x="146" y="63"/>
                  </a:lnTo>
                  <a:lnTo>
                    <a:pt x="144" y="60"/>
                  </a:lnTo>
                  <a:lnTo>
                    <a:pt x="141" y="58"/>
                  </a:lnTo>
                  <a:lnTo>
                    <a:pt x="138" y="55"/>
                  </a:lnTo>
                  <a:lnTo>
                    <a:pt x="135" y="53"/>
                  </a:lnTo>
                  <a:lnTo>
                    <a:pt x="131" y="50"/>
                  </a:lnTo>
                  <a:lnTo>
                    <a:pt x="128" y="49"/>
                  </a:lnTo>
                  <a:lnTo>
                    <a:pt x="123" y="48"/>
                  </a:lnTo>
                  <a:lnTo>
                    <a:pt x="120" y="47"/>
                  </a:lnTo>
                  <a:lnTo>
                    <a:pt x="116" y="47"/>
                  </a:lnTo>
                  <a:lnTo>
                    <a:pt x="112" y="45"/>
                  </a:lnTo>
                  <a:lnTo>
                    <a:pt x="108" y="45"/>
                  </a:lnTo>
                  <a:lnTo>
                    <a:pt x="101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3" y="50"/>
                  </a:lnTo>
                  <a:lnTo>
                    <a:pt x="77" y="54"/>
                  </a:lnTo>
                  <a:lnTo>
                    <a:pt x="72" y="58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57" y="73"/>
                  </a:lnTo>
                  <a:lnTo>
                    <a:pt x="53" y="79"/>
                  </a:lnTo>
                  <a:lnTo>
                    <a:pt x="49" y="88"/>
                  </a:lnTo>
                  <a:lnTo>
                    <a:pt x="46" y="98"/>
                  </a:lnTo>
                  <a:lnTo>
                    <a:pt x="44" y="108"/>
                  </a:lnTo>
                  <a:lnTo>
                    <a:pt x="43" y="120"/>
                  </a:lnTo>
                  <a:lnTo>
                    <a:pt x="42" y="133"/>
                  </a:lnTo>
                  <a:lnTo>
                    <a:pt x="41" y="146"/>
                  </a:lnTo>
                  <a:lnTo>
                    <a:pt x="41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93800" y="3289320"/>
              <a:ext cx="122400" cy="1270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85" y="215"/>
                  </a:moveTo>
                  <a:lnTo>
                    <a:pt x="228" y="223"/>
                  </a:lnTo>
                  <a:lnTo>
                    <a:pt x="225" y="234"/>
                  </a:lnTo>
                  <a:lnTo>
                    <a:pt x="222" y="245"/>
                  </a:lnTo>
                  <a:lnTo>
                    <a:pt x="218" y="255"/>
                  </a:lnTo>
                  <a:lnTo>
                    <a:pt x="214" y="264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9"/>
                  </a:lnTo>
                  <a:lnTo>
                    <a:pt x="190" y="295"/>
                  </a:lnTo>
                  <a:lnTo>
                    <a:pt x="183" y="301"/>
                  </a:lnTo>
                  <a:lnTo>
                    <a:pt x="176" y="307"/>
                  </a:lnTo>
                  <a:lnTo>
                    <a:pt x="168" y="311"/>
                  </a:lnTo>
                  <a:lnTo>
                    <a:pt x="158" y="315"/>
                  </a:lnTo>
                  <a:lnTo>
                    <a:pt x="149" y="317"/>
                  </a:lnTo>
                  <a:lnTo>
                    <a:pt x="139" y="320"/>
                  </a:lnTo>
                  <a:lnTo>
                    <a:pt x="129" y="321"/>
                  </a:lnTo>
                  <a:lnTo>
                    <a:pt x="119" y="321"/>
                  </a:lnTo>
                  <a:lnTo>
                    <a:pt x="106" y="321"/>
                  </a:lnTo>
                  <a:lnTo>
                    <a:pt x="93" y="319"/>
                  </a:lnTo>
                  <a:lnTo>
                    <a:pt x="81" y="316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1" y="290"/>
                  </a:lnTo>
                  <a:lnTo>
                    <a:pt x="32" y="280"/>
                  </a:lnTo>
                  <a:lnTo>
                    <a:pt x="25" y="269"/>
                  </a:lnTo>
                  <a:lnTo>
                    <a:pt x="19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5"/>
                  </a:lnTo>
                  <a:lnTo>
                    <a:pt x="2" y="199"/>
                  </a:lnTo>
                  <a:lnTo>
                    <a:pt x="0" y="181"/>
                  </a:lnTo>
                  <a:lnTo>
                    <a:pt x="0" y="164"/>
                  </a:lnTo>
                  <a:lnTo>
                    <a:pt x="0" y="145"/>
                  </a:lnTo>
                  <a:lnTo>
                    <a:pt x="2" y="126"/>
                  </a:lnTo>
                  <a:lnTo>
                    <a:pt x="4" y="110"/>
                  </a:lnTo>
                  <a:lnTo>
                    <a:pt x="8" y="95"/>
                  </a:lnTo>
                  <a:lnTo>
                    <a:pt x="12" y="80"/>
                  </a:lnTo>
                  <a:lnTo>
                    <a:pt x="19" y="67"/>
                  </a:lnTo>
                  <a:lnTo>
                    <a:pt x="25" y="54"/>
                  </a:lnTo>
                  <a:lnTo>
                    <a:pt x="33" y="43"/>
                  </a:lnTo>
                  <a:lnTo>
                    <a:pt x="41" y="33"/>
                  </a:lnTo>
                  <a:lnTo>
                    <a:pt x="50" y="24"/>
                  </a:lnTo>
                  <a:lnTo>
                    <a:pt x="59" y="17"/>
                  </a:lnTo>
                  <a:lnTo>
                    <a:pt x="69" y="12"/>
                  </a:lnTo>
                  <a:lnTo>
                    <a:pt x="80" y="7"/>
                  </a:lnTo>
                  <a:lnTo>
                    <a:pt x="92" y="3"/>
                  </a:lnTo>
                  <a:lnTo>
                    <a:pt x="104" y="2"/>
                  </a:lnTo>
                  <a:lnTo>
                    <a:pt x="117" y="0"/>
                  </a:lnTo>
                  <a:lnTo>
                    <a:pt x="129" y="2"/>
                  </a:lnTo>
                  <a:lnTo>
                    <a:pt x="140" y="3"/>
                  </a:lnTo>
                  <a:lnTo>
                    <a:pt x="151" y="7"/>
                  </a:lnTo>
                  <a:lnTo>
                    <a:pt x="163" y="10"/>
                  </a:lnTo>
                  <a:lnTo>
                    <a:pt x="172" y="17"/>
                  </a:lnTo>
                  <a:lnTo>
                    <a:pt x="182" y="24"/>
                  </a:lnTo>
                  <a:lnTo>
                    <a:pt x="190" y="33"/>
                  </a:lnTo>
                  <a:lnTo>
                    <a:pt x="198" y="43"/>
                  </a:lnTo>
                  <a:lnTo>
                    <a:pt x="206" y="53"/>
                  </a:lnTo>
                  <a:lnTo>
                    <a:pt x="212" y="65"/>
                  </a:lnTo>
                  <a:lnTo>
                    <a:pt x="217" y="79"/>
                  </a:lnTo>
                  <a:lnTo>
                    <a:pt x="222" y="93"/>
                  </a:lnTo>
                  <a:lnTo>
                    <a:pt x="225" y="108"/>
                  </a:lnTo>
                  <a:lnTo>
                    <a:pt x="228" y="124"/>
                  </a:lnTo>
                  <a:lnTo>
                    <a:pt x="229" y="141"/>
                  </a:lnTo>
                  <a:lnTo>
                    <a:pt x="230" y="160"/>
                  </a:lnTo>
                  <a:lnTo>
                    <a:pt x="230" y="161"/>
                  </a:lnTo>
                  <a:lnTo>
                    <a:pt x="230" y="163"/>
                  </a:lnTo>
                  <a:lnTo>
                    <a:pt x="230" y="165"/>
                  </a:lnTo>
                  <a:lnTo>
                    <a:pt x="230" y="166"/>
                  </a:lnTo>
                  <a:lnTo>
                    <a:pt x="229" y="168"/>
                  </a:lnTo>
                  <a:lnTo>
                    <a:pt x="229" y="170"/>
                  </a:lnTo>
                  <a:lnTo>
                    <a:pt x="229" y="173"/>
                  </a:lnTo>
                  <a:lnTo>
                    <a:pt x="229" y="174"/>
                  </a:lnTo>
                  <a:lnTo>
                    <a:pt x="44" y="174"/>
                  </a:lnTo>
                  <a:lnTo>
                    <a:pt x="45" y="186"/>
                  </a:lnTo>
                  <a:lnTo>
                    <a:pt x="46" y="198"/>
                  </a:lnTo>
                  <a:lnTo>
                    <a:pt x="48" y="209"/>
                  </a:lnTo>
                  <a:lnTo>
                    <a:pt x="51" y="219"/>
                  </a:lnTo>
                  <a:lnTo>
                    <a:pt x="54" y="229"/>
                  </a:lnTo>
                  <a:lnTo>
                    <a:pt x="58" y="236"/>
                  </a:lnTo>
                  <a:lnTo>
                    <a:pt x="62" y="245"/>
                  </a:lnTo>
                  <a:lnTo>
                    <a:pt x="67" y="251"/>
                  </a:lnTo>
                  <a:lnTo>
                    <a:pt x="72" y="258"/>
                  </a:lnTo>
                  <a:lnTo>
                    <a:pt x="78" y="264"/>
                  </a:lnTo>
                  <a:lnTo>
                    <a:pt x="84" y="269"/>
                  </a:lnTo>
                  <a:lnTo>
                    <a:pt x="91" y="272"/>
                  </a:lnTo>
                  <a:lnTo>
                    <a:pt x="98" y="275"/>
                  </a:lnTo>
                  <a:lnTo>
                    <a:pt x="104" y="277"/>
                  </a:lnTo>
                  <a:lnTo>
                    <a:pt x="112" y="279"/>
                  </a:lnTo>
                  <a:lnTo>
                    <a:pt x="119" y="279"/>
                  </a:lnTo>
                  <a:lnTo>
                    <a:pt x="125" y="279"/>
                  </a:lnTo>
                  <a:lnTo>
                    <a:pt x="130" y="277"/>
                  </a:lnTo>
                  <a:lnTo>
                    <a:pt x="135" y="276"/>
                  </a:lnTo>
                  <a:lnTo>
                    <a:pt x="140" y="275"/>
                  </a:lnTo>
                  <a:lnTo>
                    <a:pt x="145" y="272"/>
                  </a:lnTo>
                  <a:lnTo>
                    <a:pt x="150" y="270"/>
                  </a:lnTo>
                  <a:lnTo>
                    <a:pt x="154" y="267"/>
                  </a:lnTo>
                  <a:lnTo>
                    <a:pt x="158" y="264"/>
                  </a:lnTo>
                  <a:lnTo>
                    <a:pt x="163" y="260"/>
                  </a:lnTo>
                  <a:lnTo>
                    <a:pt x="167" y="255"/>
                  </a:lnTo>
                  <a:lnTo>
                    <a:pt x="171" y="250"/>
                  </a:lnTo>
                  <a:lnTo>
                    <a:pt x="174" y="244"/>
                  </a:lnTo>
                  <a:lnTo>
                    <a:pt x="177" y="238"/>
                  </a:lnTo>
                  <a:lnTo>
                    <a:pt x="180" y="231"/>
                  </a:lnTo>
                  <a:lnTo>
                    <a:pt x="183" y="224"/>
                  </a:lnTo>
                  <a:lnTo>
                    <a:pt x="185" y="215"/>
                  </a:lnTo>
                  <a:close/>
                  <a:moveTo>
                    <a:pt x="46" y="131"/>
                  </a:moveTo>
                  <a:lnTo>
                    <a:pt x="186" y="131"/>
                  </a:lnTo>
                  <a:lnTo>
                    <a:pt x="185" y="123"/>
                  </a:lnTo>
                  <a:lnTo>
                    <a:pt x="184" y="113"/>
                  </a:lnTo>
                  <a:lnTo>
                    <a:pt x="182" y="105"/>
                  </a:lnTo>
                  <a:lnTo>
                    <a:pt x="180" y="98"/>
                  </a:lnTo>
                  <a:lnTo>
                    <a:pt x="178" y="90"/>
                  </a:lnTo>
                  <a:lnTo>
                    <a:pt x="176" y="84"/>
                  </a:lnTo>
                  <a:lnTo>
                    <a:pt x="173" y="79"/>
                  </a:lnTo>
                  <a:lnTo>
                    <a:pt x="170" y="73"/>
                  </a:lnTo>
                  <a:lnTo>
                    <a:pt x="165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6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10" y="44"/>
                  </a:lnTo>
                  <a:lnTo>
                    <a:pt x="103" y="45"/>
                  </a:lnTo>
                  <a:lnTo>
                    <a:pt x="97" y="47"/>
                  </a:lnTo>
                  <a:lnTo>
                    <a:pt x="91" y="49"/>
                  </a:lnTo>
                  <a:lnTo>
                    <a:pt x="84" y="53"/>
                  </a:lnTo>
                  <a:lnTo>
                    <a:pt x="78" y="57"/>
                  </a:lnTo>
                  <a:lnTo>
                    <a:pt x="73" y="62"/>
                  </a:lnTo>
                  <a:lnTo>
                    <a:pt x="68" y="68"/>
                  </a:lnTo>
                  <a:lnTo>
                    <a:pt x="63" y="74"/>
                  </a:lnTo>
                  <a:lnTo>
                    <a:pt x="59" y="80"/>
                  </a:lnTo>
                  <a:lnTo>
                    <a:pt x="56" y="88"/>
                  </a:lnTo>
                  <a:lnTo>
                    <a:pt x="53" y="95"/>
                  </a:lnTo>
                  <a:lnTo>
                    <a:pt x="50" y="104"/>
                  </a:lnTo>
                  <a:lnTo>
                    <a:pt x="48" y="113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35280" y="3244680"/>
              <a:ext cx="114120" cy="171720"/>
            </a:xfrm>
            <a:custGeom>
              <a:avLst/>
              <a:gdLst/>
              <a:ahLst/>
              <a:rect l="l" t="t" r="r" b="b"/>
              <a:pathLst>
                <a:path w="217" h="430">
                  <a:moveTo>
                    <a:pt x="177" y="424"/>
                  </a:moveTo>
                  <a:lnTo>
                    <a:pt x="177" y="385"/>
                  </a:lnTo>
                  <a:lnTo>
                    <a:pt x="171" y="395"/>
                  </a:lnTo>
                  <a:lnTo>
                    <a:pt x="164" y="405"/>
                  </a:lnTo>
                  <a:lnTo>
                    <a:pt x="157" y="413"/>
                  </a:lnTo>
                  <a:lnTo>
                    <a:pt x="148" y="419"/>
                  </a:lnTo>
                  <a:lnTo>
                    <a:pt x="139" y="424"/>
                  </a:lnTo>
                  <a:lnTo>
                    <a:pt x="130" y="428"/>
                  </a:lnTo>
                  <a:lnTo>
                    <a:pt x="119" y="430"/>
                  </a:lnTo>
                  <a:lnTo>
                    <a:pt x="107" y="430"/>
                  </a:lnTo>
                  <a:lnTo>
                    <a:pt x="100" y="430"/>
                  </a:lnTo>
                  <a:lnTo>
                    <a:pt x="93" y="429"/>
                  </a:lnTo>
                  <a:lnTo>
                    <a:pt x="86" y="428"/>
                  </a:lnTo>
                  <a:lnTo>
                    <a:pt x="79" y="425"/>
                  </a:lnTo>
                  <a:lnTo>
                    <a:pt x="72" y="423"/>
                  </a:lnTo>
                  <a:lnTo>
                    <a:pt x="66" y="419"/>
                  </a:lnTo>
                  <a:lnTo>
                    <a:pt x="59" y="415"/>
                  </a:lnTo>
                  <a:lnTo>
                    <a:pt x="53" y="410"/>
                  </a:lnTo>
                  <a:lnTo>
                    <a:pt x="47" y="405"/>
                  </a:lnTo>
                  <a:lnTo>
                    <a:pt x="42" y="399"/>
                  </a:lnTo>
                  <a:lnTo>
                    <a:pt x="35" y="393"/>
                  </a:lnTo>
                  <a:lnTo>
                    <a:pt x="30" y="386"/>
                  </a:lnTo>
                  <a:lnTo>
                    <a:pt x="26" y="379"/>
                  </a:lnTo>
                  <a:lnTo>
                    <a:pt x="21" y="371"/>
                  </a:lnTo>
                  <a:lnTo>
                    <a:pt x="18" y="363"/>
                  </a:lnTo>
                  <a:lnTo>
                    <a:pt x="14" y="354"/>
                  </a:lnTo>
                  <a:lnTo>
                    <a:pt x="11" y="344"/>
                  </a:lnTo>
                  <a:lnTo>
                    <a:pt x="8" y="335"/>
                  </a:lnTo>
                  <a:lnTo>
                    <a:pt x="6" y="325"/>
                  </a:lnTo>
                  <a:lnTo>
                    <a:pt x="4" y="315"/>
                  </a:lnTo>
                  <a:lnTo>
                    <a:pt x="2" y="304"/>
                  </a:lnTo>
                  <a:lnTo>
                    <a:pt x="1" y="293"/>
                  </a:lnTo>
                  <a:lnTo>
                    <a:pt x="1" y="282"/>
                  </a:lnTo>
                  <a:lnTo>
                    <a:pt x="0" y="270"/>
                  </a:lnTo>
                  <a:lnTo>
                    <a:pt x="1" y="259"/>
                  </a:lnTo>
                  <a:lnTo>
                    <a:pt x="1" y="248"/>
                  </a:lnTo>
                  <a:lnTo>
                    <a:pt x="2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6"/>
                  </a:lnTo>
                  <a:lnTo>
                    <a:pt x="10" y="197"/>
                  </a:lnTo>
                  <a:lnTo>
                    <a:pt x="13" y="187"/>
                  </a:lnTo>
                  <a:lnTo>
                    <a:pt x="16" y="178"/>
                  </a:lnTo>
                  <a:lnTo>
                    <a:pt x="20" y="169"/>
                  </a:lnTo>
                  <a:lnTo>
                    <a:pt x="24" y="162"/>
                  </a:lnTo>
                  <a:lnTo>
                    <a:pt x="28" y="154"/>
                  </a:lnTo>
                  <a:lnTo>
                    <a:pt x="33" y="147"/>
                  </a:lnTo>
                  <a:lnTo>
                    <a:pt x="38" y="141"/>
                  </a:lnTo>
                  <a:lnTo>
                    <a:pt x="45" y="134"/>
                  </a:lnTo>
                  <a:lnTo>
                    <a:pt x="51" y="129"/>
                  </a:lnTo>
                  <a:lnTo>
                    <a:pt x="57" y="124"/>
                  </a:lnTo>
                  <a:lnTo>
                    <a:pt x="63" y="121"/>
                  </a:lnTo>
                  <a:lnTo>
                    <a:pt x="70" y="117"/>
                  </a:lnTo>
                  <a:lnTo>
                    <a:pt x="77" y="114"/>
                  </a:lnTo>
                  <a:lnTo>
                    <a:pt x="84" y="112"/>
                  </a:lnTo>
                  <a:lnTo>
                    <a:pt x="91" y="111"/>
                  </a:lnTo>
                  <a:lnTo>
                    <a:pt x="98" y="109"/>
                  </a:lnTo>
                  <a:lnTo>
                    <a:pt x="106" y="109"/>
                  </a:lnTo>
                  <a:lnTo>
                    <a:pt x="111" y="109"/>
                  </a:lnTo>
                  <a:lnTo>
                    <a:pt x="117" y="111"/>
                  </a:lnTo>
                  <a:lnTo>
                    <a:pt x="122" y="111"/>
                  </a:lnTo>
                  <a:lnTo>
                    <a:pt x="128" y="112"/>
                  </a:lnTo>
                  <a:lnTo>
                    <a:pt x="132" y="114"/>
                  </a:lnTo>
                  <a:lnTo>
                    <a:pt x="137" y="116"/>
                  </a:lnTo>
                  <a:lnTo>
                    <a:pt x="142" y="118"/>
                  </a:lnTo>
                  <a:lnTo>
                    <a:pt x="146" y="121"/>
                  </a:lnTo>
                  <a:lnTo>
                    <a:pt x="150" y="124"/>
                  </a:lnTo>
                  <a:lnTo>
                    <a:pt x="154" y="128"/>
                  </a:lnTo>
                  <a:lnTo>
                    <a:pt x="158" y="131"/>
                  </a:lnTo>
                  <a:lnTo>
                    <a:pt x="162" y="134"/>
                  </a:lnTo>
                  <a:lnTo>
                    <a:pt x="165" y="138"/>
                  </a:lnTo>
                  <a:lnTo>
                    <a:pt x="169" y="143"/>
                  </a:lnTo>
                  <a:lnTo>
                    <a:pt x="172" y="147"/>
                  </a:lnTo>
                  <a:lnTo>
                    <a:pt x="174" y="152"/>
                  </a:lnTo>
                  <a:lnTo>
                    <a:pt x="174" y="0"/>
                  </a:lnTo>
                  <a:lnTo>
                    <a:pt x="217" y="0"/>
                  </a:lnTo>
                  <a:lnTo>
                    <a:pt x="217" y="424"/>
                  </a:lnTo>
                  <a:lnTo>
                    <a:pt x="177" y="424"/>
                  </a:lnTo>
                  <a:close/>
                  <a:moveTo>
                    <a:pt x="44" y="270"/>
                  </a:moveTo>
                  <a:lnTo>
                    <a:pt x="45" y="284"/>
                  </a:lnTo>
                  <a:lnTo>
                    <a:pt x="46" y="298"/>
                  </a:lnTo>
                  <a:lnTo>
                    <a:pt x="47" y="310"/>
                  </a:lnTo>
                  <a:lnTo>
                    <a:pt x="49" y="322"/>
                  </a:lnTo>
                  <a:lnTo>
                    <a:pt x="52" y="333"/>
                  </a:lnTo>
                  <a:lnTo>
                    <a:pt x="55" y="342"/>
                  </a:lnTo>
                  <a:lnTo>
                    <a:pt x="60" y="350"/>
                  </a:lnTo>
                  <a:lnTo>
                    <a:pt x="64" y="359"/>
                  </a:lnTo>
                  <a:lnTo>
                    <a:pt x="69" y="365"/>
                  </a:lnTo>
                  <a:lnTo>
                    <a:pt x="75" y="371"/>
                  </a:lnTo>
                  <a:lnTo>
                    <a:pt x="80" y="376"/>
                  </a:lnTo>
                  <a:lnTo>
                    <a:pt x="86" y="380"/>
                  </a:lnTo>
                  <a:lnTo>
                    <a:pt x="92" y="384"/>
                  </a:lnTo>
                  <a:lnTo>
                    <a:pt x="98" y="386"/>
                  </a:lnTo>
                  <a:lnTo>
                    <a:pt x="105" y="388"/>
                  </a:lnTo>
                  <a:lnTo>
                    <a:pt x="111" y="388"/>
                  </a:lnTo>
                  <a:lnTo>
                    <a:pt x="119" y="388"/>
                  </a:lnTo>
                  <a:lnTo>
                    <a:pt x="125" y="386"/>
                  </a:lnTo>
                  <a:lnTo>
                    <a:pt x="132" y="384"/>
                  </a:lnTo>
                  <a:lnTo>
                    <a:pt x="138" y="380"/>
                  </a:lnTo>
                  <a:lnTo>
                    <a:pt x="143" y="376"/>
                  </a:lnTo>
                  <a:lnTo>
                    <a:pt x="149" y="371"/>
                  </a:lnTo>
                  <a:lnTo>
                    <a:pt x="154" y="367"/>
                  </a:lnTo>
                  <a:lnTo>
                    <a:pt x="159" y="360"/>
                  </a:lnTo>
                  <a:lnTo>
                    <a:pt x="163" y="353"/>
                  </a:lnTo>
                  <a:lnTo>
                    <a:pt x="167" y="344"/>
                  </a:lnTo>
                  <a:lnTo>
                    <a:pt x="170" y="335"/>
                  </a:lnTo>
                  <a:lnTo>
                    <a:pt x="173" y="324"/>
                  </a:lnTo>
                  <a:lnTo>
                    <a:pt x="175" y="314"/>
                  </a:lnTo>
                  <a:lnTo>
                    <a:pt x="177" y="302"/>
                  </a:lnTo>
                  <a:lnTo>
                    <a:pt x="178" y="288"/>
                  </a:lnTo>
                  <a:lnTo>
                    <a:pt x="178" y="274"/>
                  </a:lnTo>
                  <a:lnTo>
                    <a:pt x="178" y="259"/>
                  </a:lnTo>
                  <a:lnTo>
                    <a:pt x="177" y="245"/>
                  </a:lnTo>
                  <a:lnTo>
                    <a:pt x="175" y="232"/>
                  </a:lnTo>
                  <a:lnTo>
                    <a:pt x="173" y="221"/>
                  </a:lnTo>
                  <a:lnTo>
                    <a:pt x="170" y="209"/>
                  </a:lnTo>
                  <a:lnTo>
                    <a:pt x="167" y="199"/>
                  </a:lnTo>
                  <a:lnTo>
                    <a:pt x="163" y="191"/>
                  </a:lnTo>
                  <a:lnTo>
                    <a:pt x="158" y="182"/>
                  </a:lnTo>
                  <a:lnTo>
                    <a:pt x="153" y="176"/>
                  </a:lnTo>
                  <a:lnTo>
                    <a:pt x="148" y="169"/>
                  </a:lnTo>
                  <a:lnTo>
                    <a:pt x="143" y="164"/>
                  </a:lnTo>
                  <a:lnTo>
                    <a:pt x="137" y="161"/>
                  </a:lnTo>
                  <a:lnTo>
                    <a:pt x="131" y="157"/>
                  </a:lnTo>
                  <a:lnTo>
                    <a:pt x="124" y="154"/>
                  </a:lnTo>
                  <a:lnTo>
                    <a:pt x="117" y="153"/>
                  </a:lnTo>
                  <a:lnTo>
                    <a:pt x="109" y="153"/>
                  </a:lnTo>
                  <a:lnTo>
                    <a:pt x="103" y="153"/>
                  </a:lnTo>
                  <a:lnTo>
                    <a:pt x="96" y="154"/>
                  </a:lnTo>
                  <a:lnTo>
                    <a:pt x="90" y="157"/>
                  </a:lnTo>
                  <a:lnTo>
                    <a:pt x="84" y="159"/>
                  </a:lnTo>
                  <a:lnTo>
                    <a:pt x="78" y="163"/>
                  </a:lnTo>
                  <a:lnTo>
                    <a:pt x="73" y="168"/>
                  </a:lnTo>
                  <a:lnTo>
                    <a:pt x="68" y="174"/>
                  </a:lnTo>
                  <a:lnTo>
                    <a:pt x="63" y="181"/>
                  </a:lnTo>
                  <a:lnTo>
                    <a:pt x="59" y="188"/>
                  </a:lnTo>
                  <a:lnTo>
                    <a:pt x="55" y="197"/>
                  </a:lnTo>
                  <a:lnTo>
                    <a:pt x="52" y="207"/>
                  </a:lnTo>
                  <a:lnTo>
                    <a:pt x="49" y="218"/>
                  </a:lnTo>
                  <a:lnTo>
                    <a:pt x="47" y="229"/>
                  </a:lnTo>
                  <a:lnTo>
                    <a:pt x="45" y="242"/>
                  </a:lnTo>
                  <a:lnTo>
                    <a:pt x="45" y="255"/>
                  </a:lnTo>
                  <a:lnTo>
                    <a:pt x="44" y="2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76400" y="3289320"/>
              <a:ext cx="122400" cy="1270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85" y="215"/>
                  </a:moveTo>
                  <a:lnTo>
                    <a:pt x="229" y="223"/>
                  </a:lnTo>
                  <a:lnTo>
                    <a:pt x="226" y="234"/>
                  </a:lnTo>
                  <a:lnTo>
                    <a:pt x="223" y="245"/>
                  </a:lnTo>
                  <a:lnTo>
                    <a:pt x="219" y="255"/>
                  </a:lnTo>
                  <a:lnTo>
                    <a:pt x="214" y="264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9"/>
                  </a:lnTo>
                  <a:lnTo>
                    <a:pt x="190" y="295"/>
                  </a:lnTo>
                  <a:lnTo>
                    <a:pt x="183" y="301"/>
                  </a:lnTo>
                  <a:lnTo>
                    <a:pt x="175" y="307"/>
                  </a:lnTo>
                  <a:lnTo>
                    <a:pt x="167" y="311"/>
                  </a:lnTo>
                  <a:lnTo>
                    <a:pt x="159" y="315"/>
                  </a:lnTo>
                  <a:lnTo>
                    <a:pt x="150" y="317"/>
                  </a:lnTo>
                  <a:lnTo>
                    <a:pt x="140" y="320"/>
                  </a:lnTo>
                  <a:lnTo>
                    <a:pt x="129" y="321"/>
                  </a:lnTo>
                  <a:lnTo>
                    <a:pt x="119" y="321"/>
                  </a:lnTo>
                  <a:lnTo>
                    <a:pt x="106" y="321"/>
                  </a:lnTo>
                  <a:lnTo>
                    <a:pt x="93" y="319"/>
                  </a:lnTo>
                  <a:lnTo>
                    <a:pt x="81" y="316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49" y="299"/>
                  </a:lnTo>
                  <a:lnTo>
                    <a:pt x="40" y="290"/>
                  </a:lnTo>
                  <a:lnTo>
                    <a:pt x="32" y="280"/>
                  </a:lnTo>
                  <a:lnTo>
                    <a:pt x="25" y="269"/>
                  </a:lnTo>
                  <a:lnTo>
                    <a:pt x="18" y="258"/>
                  </a:lnTo>
                  <a:lnTo>
                    <a:pt x="13" y="244"/>
                  </a:lnTo>
                  <a:lnTo>
                    <a:pt x="8" y="230"/>
                  </a:lnTo>
                  <a:lnTo>
                    <a:pt x="5" y="215"/>
                  </a:lnTo>
                  <a:lnTo>
                    <a:pt x="2" y="199"/>
                  </a:lnTo>
                  <a:lnTo>
                    <a:pt x="1" y="181"/>
                  </a:lnTo>
                  <a:lnTo>
                    <a:pt x="0" y="164"/>
                  </a:lnTo>
                  <a:lnTo>
                    <a:pt x="1" y="145"/>
                  </a:lnTo>
                  <a:lnTo>
                    <a:pt x="2" y="126"/>
                  </a:lnTo>
                  <a:lnTo>
                    <a:pt x="5" y="110"/>
                  </a:lnTo>
                  <a:lnTo>
                    <a:pt x="8" y="95"/>
                  </a:lnTo>
                  <a:lnTo>
                    <a:pt x="13" y="80"/>
                  </a:lnTo>
                  <a:lnTo>
                    <a:pt x="18" y="67"/>
                  </a:lnTo>
                  <a:lnTo>
                    <a:pt x="25" y="54"/>
                  </a:lnTo>
                  <a:lnTo>
                    <a:pt x="32" y="43"/>
                  </a:lnTo>
                  <a:lnTo>
                    <a:pt x="41" y="33"/>
                  </a:lnTo>
                  <a:lnTo>
                    <a:pt x="50" y="24"/>
                  </a:lnTo>
                  <a:lnTo>
                    <a:pt x="59" y="17"/>
                  </a:lnTo>
                  <a:lnTo>
                    <a:pt x="70" y="12"/>
                  </a:lnTo>
                  <a:lnTo>
                    <a:pt x="81" y="7"/>
                  </a:lnTo>
                  <a:lnTo>
                    <a:pt x="92" y="3"/>
                  </a:lnTo>
                  <a:lnTo>
                    <a:pt x="104" y="2"/>
                  </a:lnTo>
                  <a:lnTo>
                    <a:pt x="116" y="0"/>
                  </a:lnTo>
                  <a:lnTo>
                    <a:pt x="128" y="2"/>
                  </a:lnTo>
                  <a:lnTo>
                    <a:pt x="141" y="3"/>
                  </a:lnTo>
                  <a:lnTo>
                    <a:pt x="152" y="7"/>
                  </a:lnTo>
                  <a:lnTo>
                    <a:pt x="162" y="10"/>
                  </a:lnTo>
                  <a:lnTo>
                    <a:pt x="172" y="17"/>
                  </a:lnTo>
                  <a:lnTo>
                    <a:pt x="181" y="24"/>
                  </a:lnTo>
                  <a:lnTo>
                    <a:pt x="190" y="33"/>
                  </a:lnTo>
                  <a:lnTo>
                    <a:pt x="198" y="43"/>
                  </a:lnTo>
                  <a:lnTo>
                    <a:pt x="205" y="53"/>
                  </a:lnTo>
                  <a:lnTo>
                    <a:pt x="213" y="65"/>
                  </a:lnTo>
                  <a:lnTo>
                    <a:pt x="218" y="79"/>
                  </a:lnTo>
                  <a:lnTo>
                    <a:pt x="223" y="93"/>
                  </a:lnTo>
                  <a:lnTo>
                    <a:pt x="226" y="108"/>
                  </a:lnTo>
                  <a:lnTo>
                    <a:pt x="228" y="124"/>
                  </a:lnTo>
                  <a:lnTo>
                    <a:pt x="230" y="141"/>
                  </a:lnTo>
                  <a:lnTo>
                    <a:pt x="230" y="160"/>
                  </a:lnTo>
                  <a:lnTo>
                    <a:pt x="230" y="161"/>
                  </a:lnTo>
                  <a:lnTo>
                    <a:pt x="230" y="163"/>
                  </a:lnTo>
                  <a:lnTo>
                    <a:pt x="230" y="165"/>
                  </a:lnTo>
                  <a:lnTo>
                    <a:pt x="230" y="166"/>
                  </a:lnTo>
                  <a:lnTo>
                    <a:pt x="230" y="168"/>
                  </a:lnTo>
                  <a:lnTo>
                    <a:pt x="230" y="170"/>
                  </a:lnTo>
                  <a:lnTo>
                    <a:pt x="230" y="173"/>
                  </a:lnTo>
                  <a:lnTo>
                    <a:pt x="230" y="174"/>
                  </a:lnTo>
                  <a:lnTo>
                    <a:pt x="44" y="174"/>
                  </a:lnTo>
                  <a:lnTo>
                    <a:pt x="44" y="186"/>
                  </a:lnTo>
                  <a:lnTo>
                    <a:pt x="46" y="198"/>
                  </a:lnTo>
                  <a:lnTo>
                    <a:pt x="48" y="209"/>
                  </a:lnTo>
                  <a:lnTo>
                    <a:pt x="50" y="219"/>
                  </a:lnTo>
                  <a:lnTo>
                    <a:pt x="54" y="229"/>
                  </a:lnTo>
                  <a:lnTo>
                    <a:pt x="57" y="236"/>
                  </a:lnTo>
                  <a:lnTo>
                    <a:pt x="63" y="245"/>
                  </a:lnTo>
                  <a:lnTo>
                    <a:pt x="68" y="251"/>
                  </a:lnTo>
                  <a:lnTo>
                    <a:pt x="73" y="258"/>
                  </a:lnTo>
                  <a:lnTo>
                    <a:pt x="78" y="264"/>
                  </a:lnTo>
                  <a:lnTo>
                    <a:pt x="84" y="269"/>
                  </a:lnTo>
                  <a:lnTo>
                    <a:pt x="91" y="272"/>
                  </a:lnTo>
                  <a:lnTo>
                    <a:pt x="97" y="275"/>
                  </a:lnTo>
                  <a:lnTo>
                    <a:pt x="104" y="277"/>
                  </a:lnTo>
                  <a:lnTo>
                    <a:pt x="111" y="279"/>
                  </a:lnTo>
                  <a:lnTo>
                    <a:pt x="119" y="279"/>
                  </a:lnTo>
                  <a:lnTo>
                    <a:pt x="125" y="279"/>
                  </a:lnTo>
                  <a:lnTo>
                    <a:pt x="130" y="277"/>
                  </a:lnTo>
                  <a:lnTo>
                    <a:pt x="136" y="276"/>
                  </a:lnTo>
                  <a:lnTo>
                    <a:pt x="141" y="275"/>
                  </a:lnTo>
                  <a:lnTo>
                    <a:pt x="146" y="272"/>
                  </a:lnTo>
                  <a:lnTo>
                    <a:pt x="151" y="270"/>
                  </a:lnTo>
                  <a:lnTo>
                    <a:pt x="155" y="267"/>
                  </a:lnTo>
                  <a:lnTo>
                    <a:pt x="159" y="264"/>
                  </a:lnTo>
                  <a:lnTo>
                    <a:pt x="163" y="260"/>
                  </a:lnTo>
                  <a:lnTo>
                    <a:pt x="167" y="255"/>
                  </a:lnTo>
                  <a:lnTo>
                    <a:pt x="170" y="250"/>
                  </a:lnTo>
                  <a:lnTo>
                    <a:pt x="174" y="244"/>
                  </a:lnTo>
                  <a:lnTo>
                    <a:pt x="177" y="238"/>
                  </a:lnTo>
                  <a:lnTo>
                    <a:pt x="180" y="231"/>
                  </a:lnTo>
                  <a:lnTo>
                    <a:pt x="182" y="224"/>
                  </a:lnTo>
                  <a:lnTo>
                    <a:pt x="185" y="215"/>
                  </a:lnTo>
                  <a:close/>
                  <a:moveTo>
                    <a:pt x="46" y="131"/>
                  </a:moveTo>
                  <a:lnTo>
                    <a:pt x="185" y="131"/>
                  </a:lnTo>
                  <a:lnTo>
                    <a:pt x="184" y="123"/>
                  </a:lnTo>
                  <a:lnTo>
                    <a:pt x="183" y="113"/>
                  </a:lnTo>
                  <a:lnTo>
                    <a:pt x="182" y="105"/>
                  </a:lnTo>
                  <a:lnTo>
                    <a:pt x="180" y="98"/>
                  </a:lnTo>
                  <a:lnTo>
                    <a:pt x="178" y="90"/>
                  </a:lnTo>
                  <a:lnTo>
                    <a:pt x="175" y="84"/>
                  </a:lnTo>
                  <a:lnTo>
                    <a:pt x="173" y="79"/>
                  </a:lnTo>
                  <a:lnTo>
                    <a:pt x="170" y="73"/>
                  </a:lnTo>
                  <a:lnTo>
                    <a:pt x="164" y="67"/>
                  </a:lnTo>
                  <a:lnTo>
                    <a:pt x="159" y="60"/>
                  </a:lnTo>
                  <a:lnTo>
                    <a:pt x="153" y="55"/>
                  </a:lnTo>
                  <a:lnTo>
                    <a:pt x="147" y="50"/>
                  </a:lnTo>
                  <a:lnTo>
                    <a:pt x="140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10" y="44"/>
                  </a:lnTo>
                  <a:lnTo>
                    <a:pt x="103" y="45"/>
                  </a:lnTo>
                  <a:lnTo>
                    <a:pt x="97" y="47"/>
                  </a:lnTo>
                  <a:lnTo>
                    <a:pt x="90" y="49"/>
                  </a:lnTo>
                  <a:lnTo>
                    <a:pt x="85" y="53"/>
                  </a:lnTo>
                  <a:lnTo>
                    <a:pt x="79" y="57"/>
                  </a:lnTo>
                  <a:lnTo>
                    <a:pt x="74" y="62"/>
                  </a:lnTo>
                  <a:lnTo>
                    <a:pt x="69" y="68"/>
                  </a:lnTo>
                  <a:lnTo>
                    <a:pt x="64" y="74"/>
                  </a:lnTo>
                  <a:lnTo>
                    <a:pt x="59" y="80"/>
                  </a:lnTo>
                  <a:lnTo>
                    <a:pt x="55" y="88"/>
                  </a:lnTo>
                  <a:lnTo>
                    <a:pt x="52" y="95"/>
                  </a:lnTo>
                  <a:lnTo>
                    <a:pt x="50" y="104"/>
                  </a:lnTo>
                  <a:lnTo>
                    <a:pt x="48" y="113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12840" y="3249720"/>
              <a:ext cx="65160" cy="164880"/>
            </a:xfrm>
            <a:custGeom>
              <a:avLst/>
              <a:gdLst/>
              <a:ahLst/>
              <a:rect l="l" t="t" r="r" b="b"/>
              <a:pathLst>
                <a:path w="122" h="418">
                  <a:moveTo>
                    <a:pt x="116" y="366"/>
                  </a:moveTo>
                  <a:lnTo>
                    <a:pt x="122" y="413"/>
                  </a:lnTo>
                  <a:lnTo>
                    <a:pt x="118" y="414"/>
                  </a:lnTo>
                  <a:lnTo>
                    <a:pt x="114" y="415"/>
                  </a:lnTo>
                  <a:lnTo>
                    <a:pt x="110" y="416"/>
                  </a:lnTo>
                  <a:lnTo>
                    <a:pt x="106" y="416"/>
                  </a:lnTo>
                  <a:lnTo>
                    <a:pt x="102" y="416"/>
                  </a:lnTo>
                  <a:lnTo>
                    <a:pt x="98" y="418"/>
                  </a:lnTo>
                  <a:lnTo>
                    <a:pt x="94" y="418"/>
                  </a:lnTo>
                  <a:lnTo>
                    <a:pt x="90" y="418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6"/>
                  </a:lnTo>
                  <a:lnTo>
                    <a:pt x="70" y="415"/>
                  </a:lnTo>
                  <a:lnTo>
                    <a:pt x="65" y="414"/>
                  </a:lnTo>
                  <a:lnTo>
                    <a:pt x="61" y="413"/>
                  </a:lnTo>
                  <a:lnTo>
                    <a:pt x="58" y="410"/>
                  </a:lnTo>
                  <a:lnTo>
                    <a:pt x="55" y="409"/>
                  </a:lnTo>
                  <a:lnTo>
                    <a:pt x="52" y="406"/>
                  </a:lnTo>
                  <a:lnTo>
                    <a:pt x="49" y="404"/>
                  </a:lnTo>
                  <a:lnTo>
                    <a:pt x="46" y="401"/>
                  </a:lnTo>
                  <a:lnTo>
                    <a:pt x="44" y="398"/>
                  </a:lnTo>
                  <a:lnTo>
                    <a:pt x="42" y="395"/>
                  </a:lnTo>
                  <a:lnTo>
                    <a:pt x="40" y="391"/>
                  </a:lnTo>
                  <a:lnTo>
                    <a:pt x="38" y="389"/>
                  </a:lnTo>
                  <a:lnTo>
                    <a:pt x="37" y="385"/>
                  </a:lnTo>
                  <a:lnTo>
                    <a:pt x="36" y="381"/>
                  </a:lnTo>
                  <a:lnTo>
                    <a:pt x="35" y="375"/>
                  </a:lnTo>
                  <a:lnTo>
                    <a:pt x="34" y="369"/>
                  </a:lnTo>
                  <a:lnTo>
                    <a:pt x="33" y="363"/>
                  </a:lnTo>
                  <a:lnTo>
                    <a:pt x="33" y="354"/>
                  </a:lnTo>
                  <a:lnTo>
                    <a:pt x="32" y="345"/>
                  </a:lnTo>
                  <a:lnTo>
                    <a:pt x="32" y="335"/>
                  </a:lnTo>
                  <a:lnTo>
                    <a:pt x="32" y="324"/>
                  </a:lnTo>
                  <a:lnTo>
                    <a:pt x="32" y="147"/>
                  </a:lnTo>
                  <a:lnTo>
                    <a:pt x="0" y="147"/>
                  </a:lnTo>
                  <a:lnTo>
                    <a:pt x="0" y="107"/>
                  </a:lnTo>
                  <a:lnTo>
                    <a:pt x="32" y="107"/>
                  </a:lnTo>
                  <a:lnTo>
                    <a:pt x="32" y="31"/>
                  </a:lnTo>
                  <a:lnTo>
                    <a:pt x="73" y="0"/>
                  </a:lnTo>
                  <a:lnTo>
                    <a:pt x="73" y="107"/>
                  </a:lnTo>
                  <a:lnTo>
                    <a:pt x="116" y="107"/>
                  </a:lnTo>
                  <a:lnTo>
                    <a:pt x="116" y="147"/>
                  </a:lnTo>
                  <a:lnTo>
                    <a:pt x="73" y="147"/>
                  </a:lnTo>
                  <a:lnTo>
                    <a:pt x="73" y="327"/>
                  </a:lnTo>
                  <a:lnTo>
                    <a:pt x="73" y="332"/>
                  </a:lnTo>
                  <a:lnTo>
                    <a:pt x="74" y="337"/>
                  </a:lnTo>
                  <a:lnTo>
                    <a:pt x="74" y="342"/>
                  </a:lnTo>
                  <a:lnTo>
                    <a:pt x="74" y="345"/>
                  </a:lnTo>
                  <a:lnTo>
                    <a:pt x="74" y="348"/>
                  </a:lnTo>
                  <a:lnTo>
                    <a:pt x="75" y="352"/>
                  </a:lnTo>
                  <a:lnTo>
                    <a:pt x="75" y="353"/>
                  </a:lnTo>
                  <a:lnTo>
                    <a:pt x="76" y="355"/>
                  </a:lnTo>
                  <a:lnTo>
                    <a:pt x="76" y="357"/>
                  </a:lnTo>
                  <a:lnTo>
                    <a:pt x="77" y="358"/>
                  </a:lnTo>
                  <a:lnTo>
                    <a:pt x="78" y="359"/>
                  </a:lnTo>
                  <a:lnTo>
                    <a:pt x="78" y="360"/>
                  </a:lnTo>
                  <a:lnTo>
                    <a:pt x="79" y="361"/>
                  </a:lnTo>
                  <a:lnTo>
                    <a:pt x="80" y="363"/>
                  </a:lnTo>
                  <a:lnTo>
                    <a:pt x="82" y="364"/>
                  </a:lnTo>
                  <a:lnTo>
                    <a:pt x="83" y="365"/>
                  </a:lnTo>
                  <a:lnTo>
                    <a:pt x="84" y="366"/>
                  </a:lnTo>
                  <a:lnTo>
                    <a:pt x="85" y="366"/>
                  </a:lnTo>
                  <a:lnTo>
                    <a:pt x="87" y="368"/>
                  </a:lnTo>
                  <a:lnTo>
                    <a:pt x="89" y="368"/>
                  </a:lnTo>
                  <a:lnTo>
                    <a:pt x="91" y="369"/>
                  </a:lnTo>
                  <a:lnTo>
                    <a:pt x="94" y="369"/>
                  </a:lnTo>
                  <a:lnTo>
                    <a:pt x="96" y="369"/>
                  </a:lnTo>
                  <a:lnTo>
                    <a:pt x="98" y="369"/>
                  </a:lnTo>
                  <a:lnTo>
                    <a:pt x="100" y="369"/>
                  </a:lnTo>
                  <a:lnTo>
                    <a:pt x="102" y="369"/>
                  </a:lnTo>
                  <a:lnTo>
                    <a:pt x="104" y="369"/>
                  </a:lnTo>
                  <a:lnTo>
                    <a:pt x="106" y="369"/>
                  </a:lnTo>
                  <a:lnTo>
                    <a:pt x="108" y="368"/>
                  </a:lnTo>
                  <a:lnTo>
                    <a:pt x="111" y="368"/>
                  </a:lnTo>
                  <a:lnTo>
                    <a:pt x="114" y="368"/>
                  </a:lnTo>
                  <a:lnTo>
                    <a:pt x="116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84480" y="3249720"/>
              <a:ext cx="65160" cy="164880"/>
            </a:xfrm>
            <a:custGeom>
              <a:avLst/>
              <a:gdLst/>
              <a:ahLst/>
              <a:rect l="l" t="t" r="r" b="b"/>
              <a:pathLst>
                <a:path w="122" h="418">
                  <a:moveTo>
                    <a:pt x="116" y="366"/>
                  </a:moveTo>
                  <a:lnTo>
                    <a:pt x="122" y="413"/>
                  </a:lnTo>
                  <a:lnTo>
                    <a:pt x="118" y="414"/>
                  </a:lnTo>
                  <a:lnTo>
                    <a:pt x="114" y="415"/>
                  </a:lnTo>
                  <a:lnTo>
                    <a:pt x="110" y="416"/>
                  </a:lnTo>
                  <a:lnTo>
                    <a:pt x="106" y="416"/>
                  </a:lnTo>
                  <a:lnTo>
                    <a:pt x="101" y="416"/>
                  </a:lnTo>
                  <a:lnTo>
                    <a:pt x="97" y="418"/>
                  </a:lnTo>
                  <a:lnTo>
                    <a:pt x="93" y="418"/>
                  </a:lnTo>
                  <a:lnTo>
                    <a:pt x="90" y="418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6"/>
                  </a:lnTo>
                  <a:lnTo>
                    <a:pt x="70" y="415"/>
                  </a:lnTo>
                  <a:lnTo>
                    <a:pt x="65" y="414"/>
                  </a:lnTo>
                  <a:lnTo>
                    <a:pt x="61" y="413"/>
                  </a:lnTo>
                  <a:lnTo>
                    <a:pt x="58" y="410"/>
                  </a:lnTo>
                  <a:lnTo>
                    <a:pt x="55" y="409"/>
                  </a:lnTo>
                  <a:lnTo>
                    <a:pt x="51" y="406"/>
                  </a:lnTo>
                  <a:lnTo>
                    <a:pt x="49" y="404"/>
                  </a:lnTo>
                  <a:lnTo>
                    <a:pt x="46" y="401"/>
                  </a:lnTo>
                  <a:lnTo>
                    <a:pt x="44" y="398"/>
                  </a:lnTo>
                  <a:lnTo>
                    <a:pt x="42" y="395"/>
                  </a:lnTo>
                  <a:lnTo>
                    <a:pt x="40" y="391"/>
                  </a:lnTo>
                  <a:lnTo>
                    <a:pt x="38" y="389"/>
                  </a:lnTo>
                  <a:lnTo>
                    <a:pt x="37" y="385"/>
                  </a:lnTo>
                  <a:lnTo>
                    <a:pt x="36" y="381"/>
                  </a:lnTo>
                  <a:lnTo>
                    <a:pt x="35" y="375"/>
                  </a:lnTo>
                  <a:lnTo>
                    <a:pt x="34" y="369"/>
                  </a:lnTo>
                  <a:lnTo>
                    <a:pt x="33" y="363"/>
                  </a:lnTo>
                  <a:lnTo>
                    <a:pt x="33" y="354"/>
                  </a:lnTo>
                  <a:lnTo>
                    <a:pt x="32" y="345"/>
                  </a:lnTo>
                  <a:lnTo>
                    <a:pt x="32" y="335"/>
                  </a:lnTo>
                  <a:lnTo>
                    <a:pt x="32" y="324"/>
                  </a:lnTo>
                  <a:lnTo>
                    <a:pt x="32" y="147"/>
                  </a:lnTo>
                  <a:lnTo>
                    <a:pt x="0" y="147"/>
                  </a:lnTo>
                  <a:lnTo>
                    <a:pt x="0" y="107"/>
                  </a:lnTo>
                  <a:lnTo>
                    <a:pt x="32" y="107"/>
                  </a:lnTo>
                  <a:lnTo>
                    <a:pt x="32" y="31"/>
                  </a:lnTo>
                  <a:lnTo>
                    <a:pt x="73" y="0"/>
                  </a:lnTo>
                  <a:lnTo>
                    <a:pt x="73" y="107"/>
                  </a:lnTo>
                  <a:lnTo>
                    <a:pt x="116" y="107"/>
                  </a:lnTo>
                  <a:lnTo>
                    <a:pt x="116" y="147"/>
                  </a:lnTo>
                  <a:lnTo>
                    <a:pt x="73" y="147"/>
                  </a:lnTo>
                  <a:lnTo>
                    <a:pt x="73" y="327"/>
                  </a:lnTo>
                  <a:lnTo>
                    <a:pt x="73" y="332"/>
                  </a:lnTo>
                  <a:lnTo>
                    <a:pt x="73" y="337"/>
                  </a:lnTo>
                  <a:lnTo>
                    <a:pt x="74" y="342"/>
                  </a:lnTo>
                  <a:lnTo>
                    <a:pt x="74" y="345"/>
                  </a:lnTo>
                  <a:lnTo>
                    <a:pt x="74" y="348"/>
                  </a:lnTo>
                  <a:lnTo>
                    <a:pt x="75" y="352"/>
                  </a:lnTo>
                  <a:lnTo>
                    <a:pt x="75" y="353"/>
                  </a:lnTo>
                  <a:lnTo>
                    <a:pt x="75" y="355"/>
                  </a:lnTo>
                  <a:lnTo>
                    <a:pt x="76" y="357"/>
                  </a:lnTo>
                  <a:lnTo>
                    <a:pt x="77" y="358"/>
                  </a:lnTo>
                  <a:lnTo>
                    <a:pt x="78" y="359"/>
                  </a:lnTo>
                  <a:lnTo>
                    <a:pt x="78" y="360"/>
                  </a:lnTo>
                  <a:lnTo>
                    <a:pt x="79" y="361"/>
                  </a:lnTo>
                  <a:lnTo>
                    <a:pt x="80" y="363"/>
                  </a:lnTo>
                  <a:lnTo>
                    <a:pt x="81" y="364"/>
                  </a:lnTo>
                  <a:lnTo>
                    <a:pt x="83" y="365"/>
                  </a:lnTo>
                  <a:lnTo>
                    <a:pt x="84" y="366"/>
                  </a:lnTo>
                  <a:lnTo>
                    <a:pt x="85" y="366"/>
                  </a:lnTo>
                  <a:lnTo>
                    <a:pt x="87" y="368"/>
                  </a:lnTo>
                  <a:lnTo>
                    <a:pt x="89" y="368"/>
                  </a:lnTo>
                  <a:lnTo>
                    <a:pt x="91" y="369"/>
                  </a:lnTo>
                  <a:lnTo>
                    <a:pt x="93" y="369"/>
                  </a:lnTo>
                  <a:lnTo>
                    <a:pt x="95" y="369"/>
                  </a:lnTo>
                  <a:lnTo>
                    <a:pt x="97" y="369"/>
                  </a:lnTo>
                  <a:lnTo>
                    <a:pt x="99" y="369"/>
                  </a:lnTo>
                  <a:lnTo>
                    <a:pt x="101" y="369"/>
                  </a:lnTo>
                  <a:lnTo>
                    <a:pt x="104" y="369"/>
                  </a:lnTo>
                  <a:lnTo>
                    <a:pt x="106" y="369"/>
                  </a:lnTo>
                  <a:lnTo>
                    <a:pt x="108" y="368"/>
                  </a:lnTo>
                  <a:lnTo>
                    <a:pt x="111" y="368"/>
                  </a:lnTo>
                  <a:lnTo>
                    <a:pt x="113" y="368"/>
                  </a:lnTo>
                  <a:lnTo>
                    <a:pt x="116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59000" y="3289320"/>
              <a:ext cx="123840" cy="127080"/>
            </a:xfrm>
            <a:custGeom>
              <a:avLst/>
              <a:gdLst/>
              <a:ahLst/>
              <a:rect l="l" t="t" r="r" b="b"/>
              <a:pathLst>
                <a:path w="233" h="321">
                  <a:moveTo>
                    <a:pt x="0" y="161"/>
                  </a:moveTo>
                  <a:lnTo>
                    <a:pt x="0" y="140"/>
                  </a:lnTo>
                  <a:lnTo>
                    <a:pt x="2" y="121"/>
                  </a:lnTo>
                  <a:lnTo>
                    <a:pt x="5" y="103"/>
                  </a:lnTo>
                  <a:lnTo>
                    <a:pt x="9" y="87"/>
                  </a:lnTo>
                  <a:lnTo>
                    <a:pt x="14" y="72"/>
                  </a:lnTo>
                  <a:lnTo>
                    <a:pt x="21" y="58"/>
                  </a:lnTo>
                  <a:lnTo>
                    <a:pt x="29" y="45"/>
                  </a:lnTo>
                  <a:lnTo>
                    <a:pt x="39" y="34"/>
                  </a:lnTo>
                  <a:lnTo>
                    <a:pt x="47" y="27"/>
                  </a:lnTo>
                  <a:lnTo>
                    <a:pt x="55" y="19"/>
                  </a:lnTo>
                  <a:lnTo>
                    <a:pt x="64" y="14"/>
                  </a:lnTo>
                  <a:lnTo>
                    <a:pt x="74" y="9"/>
                  </a:lnTo>
                  <a:lnTo>
                    <a:pt x="84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9" y="2"/>
                  </a:lnTo>
                  <a:lnTo>
                    <a:pt x="141" y="3"/>
                  </a:lnTo>
                  <a:lnTo>
                    <a:pt x="152" y="7"/>
                  </a:lnTo>
                  <a:lnTo>
                    <a:pt x="163" y="10"/>
                  </a:lnTo>
                  <a:lnTo>
                    <a:pt x="173" y="17"/>
                  </a:lnTo>
                  <a:lnTo>
                    <a:pt x="184" y="24"/>
                  </a:lnTo>
                  <a:lnTo>
                    <a:pt x="193" y="33"/>
                  </a:lnTo>
                  <a:lnTo>
                    <a:pt x="201" y="42"/>
                  </a:lnTo>
                  <a:lnTo>
                    <a:pt x="208" y="53"/>
                  </a:lnTo>
                  <a:lnTo>
                    <a:pt x="215" y="65"/>
                  </a:lnTo>
                  <a:lnTo>
                    <a:pt x="221" y="78"/>
                  </a:lnTo>
                  <a:lnTo>
                    <a:pt x="225" y="92"/>
                  </a:lnTo>
                  <a:lnTo>
                    <a:pt x="229" y="107"/>
                  </a:lnTo>
                  <a:lnTo>
                    <a:pt x="231" y="121"/>
                  </a:lnTo>
                  <a:lnTo>
                    <a:pt x="233" y="139"/>
                  </a:lnTo>
                  <a:lnTo>
                    <a:pt x="233" y="156"/>
                  </a:lnTo>
                  <a:lnTo>
                    <a:pt x="233" y="171"/>
                  </a:lnTo>
                  <a:lnTo>
                    <a:pt x="232" y="185"/>
                  </a:lnTo>
                  <a:lnTo>
                    <a:pt x="231" y="198"/>
                  </a:lnTo>
                  <a:lnTo>
                    <a:pt x="230" y="210"/>
                  </a:lnTo>
                  <a:lnTo>
                    <a:pt x="228" y="221"/>
                  </a:lnTo>
                  <a:lnTo>
                    <a:pt x="225" y="231"/>
                  </a:lnTo>
                  <a:lnTo>
                    <a:pt x="222" y="241"/>
                  </a:lnTo>
                  <a:lnTo>
                    <a:pt x="219" y="250"/>
                  </a:lnTo>
                  <a:lnTo>
                    <a:pt x="215" y="259"/>
                  </a:lnTo>
                  <a:lnTo>
                    <a:pt x="211" y="266"/>
                  </a:lnTo>
                  <a:lnTo>
                    <a:pt x="206" y="274"/>
                  </a:lnTo>
                  <a:lnTo>
                    <a:pt x="201" y="280"/>
                  </a:lnTo>
                  <a:lnTo>
                    <a:pt x="196" y="286"/>
                  </a:lnTo>
                  <a:lnTo>
                    <a:pt x="190" y="292"/>
                  </a:lnTo>
                  <a:lnTo>
                    <a:pt x="184" y="297"/>
                  </a:lnTo>
                  <a:lnTo>
                    <a:pt x="176" y="302"/>
                  </a:lnTo>
                  <a:lnTo>
                    <a:pt x="170" y="307"/>
                  </a:lnTo>
                  <a:lnTo>
                    <a:pt x="162" y="311"/>
                  </a:lnTo>
                  <a:lnTo>
                    <a:pt x="155" y="314"/>
                  </a:lnTo>
                  <a:lnTo>
                    <a:pt x="148" y="317"/>
                  </a:lnTo>
                  <a:lnTo>
                    <a:pt x="140" y="319"/>
                  </a:lnTo>
                  <a:lnTo>
                    <a:pt x="133" y="320"/>
                  </a:lnTo>
                  <a:lnTo>
                    <a:pt x="125" y="321"/>
                  </a:lnTo>
                  <a:lnTo>
                    <a:pt x="117" y="321"/>
                  </a:lnTo>
                  <a:lnTo>
                    <a:pt x="103" y="321"/>
                  </a:lnTo>
                  <a:lnTo>
                    <a:pt x="91" y="319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1" y="290"/>
                  </a:lnTo>
                  <a:lnTo>
                    <a:pt x="31" y="280"/>
                  </a:lnTo>
                  <a:lnTo>
                    <a:pt x="24" y="269"/>
                  </a:lnTo>
                  <a:lnTo>
                    <a:pt x="17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4"/>
                  </a:lnTo>
                  <a:lnTo>
                    <a:pt x="2" y="198"/>
                  </a:lnTo>
                  <a:lnTo>
                    <a:pt x="0" y="180"/>
                  </a:lnTo>
                  <a:lnTo>
                    <a:pt x="0" y="161"/>
                  </a:lnTo>
                  <a:close/>
                  <a:moveTo>
                    <a:pt x="43" y="161"/>
                  </a:moveTo>
                  <a:lnTo>
                    <a:pt x="44" y="175"/>
                  </a:lnTo>
                  <a:lnTo>
                    <a:pt x="45" y="189"/>
                  </a:lnTo>
                  <a:lnTo>
                    <a:pt x="46" y="201"/>
                  </a:lnTo>
                  <a:lnTo>
                    <a:pt x="49" y="213"/>
                  </a:lnTo>
                  <a:lnTo>
                    <a:pt x="51" y="223"/>
                  </a:lnTo>
                  <a:lnTo>
                    <a:pt x="55" y="233"/>
                  </a:lnTo>
                  <a:lnTo>
                    <a:pt x="59" y="241"/>
                  </a:lnTo>
                  <a:lnTo>
                    <a:pt x="64" y="249"/>
                  </a:lnTo>
                  <a:lnTo>
                    <a:pt x="69" y="256"/>
                  </a:lnTo>
                  <a:lnTo>
                    <a:pt x="75" y="262"/>
                  </a:lnTo>
                  <a:lnTo>
                    <a:pt x="81" y="267"/>
                  </a:lnTo>
                  <a:lnTo>
                    <a:pt x="87" y="271"/>
                  </a:lnTo>
                  <a:lnTo>
                    <a:pt x="94" y="275"/>
                  </a:lnTo>
                  <a:lnTo>
                    <a:pt x="101" y="277"/>
                  </a:lnTo>
                  <a:lnTo>
                    <a:pt x="109" y="279"/>
                  </a:lnTo>
                  <a:lnTo>
                    <a:pt x="117" y="279"/>
                  </a:lnTo>
                  <a:lnTo>
                    <a:pt x="125" y="279"/>
                  </a:lnTo>
                  <a:lnTo>
                    <a:pt x="132" y="277"/>
                  </a:lnTo>
                  <a:lnTo>
                    <a:pt x="139" y="275"/>
                  </a:lnTo>
                  <a:lnTo>
                    <a:pt x="145" y="271"/>
                  </a:lnTo>
                  <a:lnTo>
                    <a:pt x="152" y="267"/>
                  </a:lnTo>
                  <a:lnTo>
                    <a:pt x="158" y="262"/>
                  </a:lnTo>
                  <a:lnTo>
                    <a:pt x="163" y="256"/>
                  </a:lnTo>
                  <a:lnTo>
                    <a:pt x="169" y="249"/>
                  </a:lnTo>
                  <a:lnTo>
                    <a:pt x="174" y="241"/>
                  </a:lnTo>
                  <a:lnTo>
                    <a:pt x="178" y="233"/>
                  </a:lnTo>
                  <a:lnTo>
                    <a:pt x="182" y="223"/>
                  </a:lnTo>
                  <a:lnTo>
                    <a:pt x="185" y="213"/>
                  </a:lnTo>
                  <a:lnTo>
                    <a:pt x="187" y="200"/>
                  </a:lnTo>
                  <a:lnTo>
                    <a:pt x="189" y="188"/>
                  </a:lnTo>
                  <a:lnTo>
                    <a:pt x="190" y="174"/>
                  </a:lnTo>
                  <a:lnTo>
                    <a:pt x="190" y="159"/>
                  </a:lnTo>
                  <a:lnTo>
                    <a:pt x="190" y="145"/>
                  </a:lnTo>
                  <a:lnTo>
                    <a:pt x="189" y="133"/>
                  </a:lnTo>
                  <a:lnTo>
                    <a:pt x="187" y="120"/>
                  </a:lnTo>
                  <a:lnTo>
                    <a:pt x="185" y="109"/>
                  </a:lnTo>
                  <a:lnTo>
                    <a:pt x="182" y="99"/>
                  </a:lnTo>
                  <a:lnTo>
                    <a:pt x="178" y="89"/>
                  </a:lnTo>
                  <a:lnTo>
                    <a:pt x="173" y="80"/>
                  </a:lnTo>
                  <a:lnTo>
                    <a:pt x="169" y="73"/>
                  </a:lnTo>
                  <a:lnTo>
                    <a:pt x="163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5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4"/>
                  </a:lnTo>
                  <a:lnTo>
                    <a:pt x="109" y="44"/>
                  </a:lnTo>
                  <a:lnTo>
                    <a:pt x="101" y="45"/>
                  </a:lnTo>
                  <a:lnTo>
                    <a:pt x="94" y="48"/>
                  </a:lnTo>
                  <a:lnTo>
                    <a:pt x="87" y="50"/>
                  </a:lnTo>
                  <a:lnTo>
                    <a:pt x="81" y="55"/>
                  </a:lnTo>
                  <a:lnTo>
                    <a:pt x="75" y="60"/>
                  </a:lnTo>
                  <a:lnTo>
                    <a:pt x="69" y="67"/>
                  </a:lnTo>
                  <a:lnTo>
                    <a:pt x="64" y="73"/>
                  </a:lnTo>
                  <a:lnTo>
                    <a:pt x="59" y="80"/>
                  </a:lnTo>
                  <a:lnTo>
                    <a:pt x="55" y="89"/>
                  </a:lnTo>
                  <a:lnTo>
                    <a:pt x="51" y="99"/>
                  </a:lnTo>
                  <a:lnTo>
                    <a:pt x="49" y="109"/>
                  </a:lnTo>
                  <a:lnTo>
                    <a:pt x="46" y="121"/>
                  </a:lnTo>
                  <a:lnTo>
                    <a:pt x="45" y="134"/>
                  </a:lnTo>
                  <a:lnTo>
                    <a:pt x="44" y="146"/>
                  </a:lnTo>
                  <a:lnTo>
                    <a:pt x="43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95400" y="2144880"/>
              <a:ext cx="189000" cy="501480"/>
            </a:xfrm>
            <a:custGeom>
              <a:avLst/>
              <a:gdLst/>
              <a:ahLst/>
              <a:rect l="l" t="t" r="r" b="b"/>
              <a:pathLst>
                <a:path w="357" h="1264">
                  <a:moveTo>
                    <a:pt x="331" y="10"/>
                  </a:moveTo>
                  <a:lnTo>
                    <a:pt x="303" y="0"/>
                  </a:lnTo>
                  <a:lnTo>
                    <a:pt x="0" y="1244"/>
                  </a:lnTo>
                  <a:lnTo>
                    <a:pt x="54" y="1264"/>
                  </a:lnTo>
                  <a:lnTo>
                    <a:pt x="357" y="19"/>
                  </a:lnTo>
                  <a:lnTo>
                    <a:pt x="33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79640" y="1995480"/>
              <a:ext cx="174600" cy="185760"/>
            </a:xfrm>
            <a:custGeom>
              <a:avLst/>
              <a:gdLst/>
              <a:ahLst/>
              <a:rect l="l" t="t" r="r" b="b"/>
              <a:pathLst>
                <a:path w="330" h="467">
                  <a:moveTo>
                    <a:pt x="264" y="0"/>
                  </a:moveTo>
                  <a:lnTo>
                    <a:pt x="0" y="346"/>
                  </a:lnTo>
                  <a:lnTo>
                    <a:pt x="330" y="467"/>
                  </a:lnTo>
                  <a:lnTo>
                    <a:pt x="264" y="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92360" y="2408400"/>
              <a:ext cx="122400" cy="11556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104" y="283"/>
                  </a:moveTo>
                  <a:lnTo>
                    <a:pt x="116" y="243"/>
                  </a:lnTo>
                  <a:lnTo>
                    <a:pt x="120" y="245"/>
                  </a:lnTo>
                  <a:lnTo>
                    <a:pt x="124" y="246"/>
                  </a:lnTo>
                  <a:lnTo>
                    <a:pt x="127" y="246"/>
                  </a:lnTo>
                  <a:lnTo>
                    <a:pt x="131" y="247"/>
                  </a:lnTo>
                  <a:lnTo>
                    <a:pt x="134" y="246"/>
                  </a:lnTo>
                  <a:lnTo>
                    <a:pt x="138" y="246"/>
                  </a:lnTo>
                  <a:lnTo>
                    <a:pt x="141" y="246"/>
                  </a:lnTo>
                  <a:lnTo>
                    <a:pt x="144" y="245"/>
                  </a:lnTo>
                  <a:lnTo>
                    <a:pt x="147" y="243"/>
                  </a:lnTo>
                  <a:lnTo>
                    <a:pt x="151" y="241"/>
                  </a:lnTo>
                  <a:lnTo>
                    <a:pt x="154" y="238"/>
                  </a:lnTo>
                  <a:lnTo>
                    <a:pt x="157" y="236"/>
                  </a:lnTo>
                  <a:lnTo>
                    <a:pt x="160" y="233"/>
                  </a:lnTo>
                  <a:lnTo>
                    <a:pt x="164" y="230"/>
                  </a:lnTo>
                  <a:lnTo>
                    <a:pt x="168" y="226"/>
                  </a:lnTo>
                  <a:lnTo>
                    <a:pt x="171" y="222"/>
                  </a:lnTo>
                  <a:lnTo>
                    <a:pt x="175" y="217"/>
                  </a:lnTo>
                  <a:lnTo>
                    <a:pt x="178" y="212"/>
                  </a:lnTo>
                  <a:lnTo>
                    <a:pt x="181" y="207"/>
                  </a:lnTo>
                  <a:lnTo>
                    <a:pt x="184" y="202"/>
                  </a:lnTo>
                  <a:lnTo>
                    <a:pt x="186" y="196"/>
                  </a:lnTo>
                  <a:lnTo>
                    <a:pt x="189" y="190"/>
                  </a:lnTo>
                  <a:lnTo>
                    <a:pt x="192" y="185"/>
                  </a:lnTo>
                  <a:lnTo>
                    <a:pt x="194" y="177"/>
                  </a:lnTo>
                  <a:lnTo>
                    <a:pt x="196" y="172"/>
                  </a:lnTo>
                  <a:lnTo>
                    <a:pt x="198" y="166"/>
                  </a:lnTo>
                  <a:lnTo>
                    <a:pt x="200" y="161"/>
                  </a:lnTo>
                  <a:lnTo>
                    <a:pt x="201" y="155"/>
                  </a:lnTo>
                  <a:lnTo>
                    <a:pt x="202" y="150"/>
                  </a:lnTo>
                  <a:lnTo>
                    <a:pt x="203" y="145"/>
                  </a:lnTo>
                  <a:lnTo>
                    <a:pt x="204" y="140"/>
                  </a:lnTo>
                  <a:lnTo>
                    <a:pt x="205" y="135"/>
                  </a:lnTo>
                  <a:lnTo>
                    <a:pt x="205" y="130"/>
                  </a:lnTo>
                  <a:lnTo>
                    <a:pt x="206" y="125"/>
                  </a:lnTo>
                  <a:lnTo>
                    <a:pt x="206" y="120"/>
                  </a:lnTo>
                  <a:lnTo>
                    <a:pt x="206" y="116"/>
                  </a:lnTo>
                  <a:lnTo>
                    <a:pt x="205" y="112"/>
                  </a:lnTo>
                  <a:lnTo>
                    <a:pt x="205" y="107"/>
                  </a:lnTo>
                  <a:lnTo>
                    <a:pt x="204" y="105"/>
                  </a:lnTo>
                  <a:lnTo>
                    <a:pt x="203" y="101"/>
                  </a:lnTo>
                  <a:lnTo>
                    <a:pt x="202" y="97"/>
                  </a:lnTo>
                  <a:lnTo>
                    <a:pt x="201" y="95"/>
                  </a:lnTo>
                  <a:lnTo>
                    <a:pt x="199" y="92"/>
                  </a:lnTo>
                  <a:lnTo>
                    <a:pt x="198" y="90"/>
                  </a:lnTo>
                  <a:lnTo>
                    <a:pt x="196" y="87"/>
                  </a:lnTo>
                  <a:lnTo>
                    <a:pt x="194" y="86"/>
                  </a:lnTo>
                  <a:lnTo>
                    <a:pt x="192" y="85"/>
                  </a:lnTo>
                  <a:lnTo>
                    <a:pt x="190" y="84"/>
                  </a:lnTo>
                  <a:lnTo>
                    <a:pt x="188" y="82"/>
                  </a:lnTo>
                  <a:lnTo>
                    <a:pt x="186" y="81"/>
                  </a:lnTo>
                  <a:lnTo>
                    <a:pt x="183" y="81"/>
                  </a:lnTo>
                  <a:lnTo>
                    <a:pt x="181" y="80"/>
                  </a:lnTo>
                  <a:lnTo>
                    <a:pt x="179" y="80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71" y="82"/>
                  </a:lnTo>
                  <a:lnTo>
                    <a:pt x="169" y="84"/>
                  </a:lnTo>
                  <a:lnTo>
                    <a:pt x="166" y="86"/>
                  </a:lnTo>
                  <a:lnTo>
                    <a:pt x="163" y="87"/>
                  </a:lnTo>
                  <a:lnTo>
                    <a:pt x="160" y="90"/>
                  </a:lnTo>
                  <a:lnTo>
                    <a:pt x="158" y="94"/>
                  </a:lnTo>
                  <a:lnTo>
                    <a:pt x="155" y="96"/>
                  </a:lnTo>
                  <a:lnTo>
                    <a:pt x="152" y="100"/>
                  </a:lnTo>
                  <a:lnTo>
                    <a:pt x="149" y="104"/>
                  </a:lnTo>
                  <a:lnTo>
                    <a:pt x="147" y="107"/>
                  </a:lnTo>
                  <a:lnTo>
                    <a:pt x="145" y="111"/>
                  </a:lnTo>
                  <a:lnTo>
                    <a:pt x="142" y="116"/>
                  </a:lnTo>
                  <a:lnTo>
                    <a:pt x="138" y="121"/>
                  </a:lnTo>
                  <a:lnTo>
                    <a:pt x="134" y="129"/>
                  </a:lnTo>
                  <a:lnTo>
                    <a:pt x="130" y="136"/>
                  </a:lnTo>
                  <a:lnTo>
                    <a:pt x="125" y="145"/>
                  </a:lnTo>
                  <a:lnTo>
                    <a:pt x="120" y="154"/>
                  </a:lnTo>
                  <a:lnTo>
                    <a:pt x="115" y="162"/>
                  </a:lnTo>
                  <a:lnTo>
                    <a:pt x="110" y="171"/>
                  </a:lnTo>
                  <a:lnTo>
                    <a:pt x="105" y="178"/>
                  </a:lnTo>
                  <a:lnTo>
                    <a:pt x="101" y="186"/>
                  </a:lnTo>
                  <a:lnTo>
                    <a:pt x="97" y="192"/>
                  </a:lnTo>
                  <a:lnTo>
                    <a:pt x="92" y="197"/>
                  </a:lnTo>
                  <a:lnTo>
                    <a:pt x="88" y="202"/>
                  </a:lnTo>
                  <a:lnTo>
                    <a:pt x="85" y="206"/>
                  </a:lnTo>
                  <a:lnTo>
                    <a:pt x="82" y="211"/>
                  </a:lnTo>
                  <a:lnTo>
                    <a:pt x="78" y="215"/>
                  </a:lnTo>
                  <a:lnTo>
                    <a:pt x="74" y="217"/>
                  </a:lnTo>
                  <a:lnTo>
                    <a:pt x="70" y="221"/>
                  </a:lnTo>
                  <a:lnTo>
                    <a:pt x="67" y="223"/>
                  </a:lnTo>
                  <a:lnTo>
                    <a:pt x="63" y="226"/>
                  </a:lnTo>
                  <a:lnTo>
                    <a:pt x="59" y="227"/>
                  </a:lnTo>
                  <a:lnTo>
                    <a:pt x="56" y="228"/>
                  </a:lnTo>
                  <a:lnTo>
                    <a:pt x="52" y="230"/>
                  </a:lnTo>
                  <a:lnTo>
                    <a:pt x="49" y="231"/>
                  </a:lnTo>
                  <a:lnTo>
                    <a:pt x="45" y="231"/>
                  </a:lnTo>
                  <a:lnTo>
                    <a:pt x="42" y="231"/>
                  </a:lnTo>
                  <a:lnTo>
                    <a:pt x="38" y="230"/>
                  </a:lnTo>
                  <a:lnTo>
                    <a:pt x="35" y="230"/>
                  </a:lnTo>
                  <a:lnTo>
                    <a:pt x="32" y="228"/>
                  </a:lnTo>
                  <a:lnTo>
                    <a:pt x="28" y="226"/>
                  </a:lnTo>
                  <a:lnTo>
                    <a:pt x="25" y="225"/>
                  </a:lnTo>
                  <a:lnTo>
                    <a:pt x="21" y="221"/>
                  </a:lnTo>
                  <a:lnTo>
                    <a:pt x="18" y="218"/>
                  </a:lnTo>
                  <a:lnTo>
                    <a:pt x="15" y="215"/>
                  </a:lnTo>
                  <a:lnTo>
                    <a:pt x="12" y="211"/>
                  </a:lnTo>
                  <a:lnTo>
                    <a:pt x="10" y="207"/>
                  </a:lnTo>
                  <a:lnTo>
                    <a:pt x="7" y="202"/>
                  </a:lnTo>
                  <a:lnTo>
                    <a:pt x="5" y="198"/>
                  </a:lnTo>
                  <a:lnTo>
                    <a:pt x="4" y="192"/>
                  </a:lnTo>
                  <a:lnTo>
                    <a:pt x="2" y="187"/>
                  </a:lnTo>
                  <a:lnTo>
                    <a:pt x="1" y="181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49"/>
                  </a:lnTo>
                  <a:lnTo>
                    <a:pt x="2" y="141"/>
                  </a:lnTo>
                  <a:lnTo>
                    <a:pt x="3" y="134"/>
                  </a:lnTo>
                  <a:lnTo>
                    <a:pt x="4" y="126"/>
                  </a:lnTo>
                  <a:lnTo>
                    <a:pt x="6" y="119"/>
                  </a:lnTo>
                  <a:lnTo>
                    <a:pt x="8" y="111"/>
                  </a:lnTo>
                  <a:lnTo>
                    <a:pt x="10" y="104"/>
                  </a:lnTo>
                  <a:lnTo>
                    <a:pt x="12" y="96"/>
                  </a:lnTo>
                  <a:lnTo>
                    <a:pt x="15" y="89"/>
                  </a:lnTo>
                  <a:lnTo>
                    <a:pt x="18" y="80"/>
                  </a:lnTo>
                  <a:lnTo>
                    <a:pt x="21" y="72"/>
                  </a:lnTo>
                  <a:lnTo>
                    <a:pt x="26" y="65"/>
                  </a:lnTo>
                  <a:lnTo>
                    <a:pt x="29" y="57"/>
                  </a:lnTo>
                  <a:lnTo>
                    <a:pt x="33" y="50"/>
                  </a:lnTo>
                  <a:lnTo>
                    <a:pt x="37" y="44"/>
                  </a:lnTo>
                  <a:lnTo>
                    <a:pt x="41" y="37"/>
                  </a:lnTo>
                  <a:lnTo>
                    <a:pt x="45" y="32"/>
                  </a:lnTo>
                  <a:lnTo>
                    <a:pt x="49" y="26"/>
                  </a:lnTo>
                  <a:lnTo>
                    <a:pt x="53" y="21"/>
                  </a:lnTo>
                  <a:lnTo>
                    <a:pt x="57" y="17"/>
                  </a:lnTo>
                  <a:lnTo>
                    <a:pt x="62" y="14"/>
                  </a:lnTo>
                  <a:lnTo>
                    <a:pt x="66" y="10"/>
                  </a:lnTo>
                  <a:lnTo>
                    <a:pt x="70" y="8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1"/>
                  </a:lnTo>
                  <a:lnTo>
                    <a:pt x="111" y="3"/>
                  </a:lnTo>
                  <a:lnTo>
                    <a:pt x="116" y="5"/>
                  </a:lnTo>
                  <a:lnTo>
                    <a:pt x="103" y="45"/>
                  </a:lnTo>
                  <a:lnTo>
                    <a:pt x="99" y="44"/>
                  </a:lnTo>
                  <a:lnTo>
                    <a:pt x="93" y="42"/>
                  </a:lnTo>
                  <a:lnTo>
                    <a:pt x="88" y="42"/>
                  </a:lnTo>
                  <a:lnTo>
                    <a:pt x="84" y="42"/>
                  </a:lnTo>
                  <a:lnTo>
                    <a:pt x="80" y="44"/>
                  </a:lnTo>
                  <a:lnTo>
                    <a:pt x="75" y="46"/>
                  </a:lnTo>
                  <a:lnTo>
                    <a:pt x="71" y="47"/>
                  </a:lnTo>
                  <a:lnTo>
                    <a:pt x="67" y="51"/>
                  </a:lnTo>
                  <a:lnTo>
                    <a:pt x="63" y="55"/>
                  </a:lnTo>
                  <a:lnTo>
                    <a:pt x="60" y="59"/>
                  </a:lnTo>
                  <a:lnTo>
                    <a:pt x="56" y="64"/>
                  </a:lnTo>
                  <a:lnTo>
                    <a:pt x="52" y="70"/>
                  </a:lnTo>
                  <a:lnTo>
                    <a:pt x="49" y="76"/>
                  </a:lnTo>
                  <a:lnTo>
                    <a:pt x="45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09"/>
                  </a:lnTo>
                  <a:lnTo>
                    <a:pt x="33" y="117"/>
                  </a:lnTo>
                  <a:lnTo>
                    <a:pt x="31" y="125"/>
                  </a:lnTo>
                  <a:lnTo>
                    <a:pt x="29" y="132"/>
                  </a:lnTo>
                  <a:lnTo>
                    <a:pt x="28" y="140"/>
                  </a:lnTo>
                  <a:lnTo>
                    <a:pt x="27" y="146"/>
                  </a:lnTo>
                  <a:lnTo>
                    <a:pt x="27" y="152"/>
                  </a:lnTo>
                  <a:lnTo>
                    <a:pt x="27" y="157"/>
                  </a:lnTo>
                  <a:lnTo>
                    <a:pt x="28" y="163"/>
                  </a:lnTo>
                  <a:lnTo>
                    <a:pt x="29" y="167"/>
                  </a:lnTo>
                  <a:lnTo>
                    <a:pt x="30" y="172"/>
                  </a:lnTo>
                  <a:lnTo>
                    <a:pt x="32" y="176"/>
                  </a:lnTo>
                  <a:lnTo>
                    <a:pt x="34" y="178"/>
                  </a:lnTo>
                  <a:lnTo>
                    <a:pt x="36" y="182"/>
                  </a:lnTo>
                  <a:lnTo>
                    <a:pt x="38" y="185"/>
                  </a:lnTo>
                  <a:lnTo>
                    <a:pt x="41" y="186"/>
                  </a:lnTo>
                  <a:lnTo>
                    <a:pt x="44" y="187"/>
                  </a:lnTo>
                  <a:lnTo>
                    <a:pt x="46" y="188"/>
                  </a:lnTo>
                  <a:lnTo>
                    <a:pt x="49" y="188"/>
                  </a:lnTo>
                  <a:lnTo>
                    <a:pt x="51" y="188"/>
                  </a:lnTo>
                  <a:lnTo>
                    <a:pt x="54" y="188"/>
                  </a:lnTo>
                  <a:lnTo>
                    <a:pt x="57" y="187"/>
                  </a:lnTo>
                  <a:lnTo>
                    <a:pt x="59" y="186"/>
                  </a:lnTo>
                  <a:lnTo>
                    <a:pt x="62" y="183"/>
                  </a:lnTo>
                  <a:lnTo>
                    <a:pt x="65" y="181"/>
                  </a:lnTo>
                  <a:lnTo>
                    <a:pt x="68" y="177"/>
                  </a:lnTo>
                  <a:lnTo>
                    <a:pt x="72" y="172"/>
                  </a:lnTo>
                  <a:lnTo>
                    <a:pt x="77" y="166"/>
                  </a:lnTo>
                  <a:lnTo>
                    <a:pt x="81" y="158"/>
                  </a:lnTo>
                  <a:lnTo>
                    <a:pt x="86" y="151"/>
                  </a:lnTo>
                  <a:lnTo>
                    <a:pt x="92" y="141"/>
                  </a:lnTo>
                  <a:lnTo>
                    <a:pt x="99" y="130"/>
                  </a:lnTo>
                  <a:lnTo>
                    <a:pt x="105" y="119"/>
                  </a:lnTo>
                  <a:lnTo>
                    <a:pt x="111" y="109"/>
                  </a:lnTo>
                  <a:lnTo>
                    <a:pt x="116" y="100"/>
                  </a:lnTo>
                  <a:lnTo>
                    <a:pt x="121" y="92"/>
                  </a:lnTo>
                  <a:lnTo>
                    <a:pt x="125" y="85"/>
                  </a:lnTo>
                  <a:lnTo>
                    <a:pt x="129" y="79"/>
                  </a:lnTo>
                  <a:lnTo>
                    <a:pt x="133" y="74"/>
                  </a:lnTo>
                  <a:lnTo>
                    <a:pt x="136" y="69"/>
                  </a:lnTo>
                  <a:lnTo>
                    <a:pt x="140" y="64"/>
                  </a:lnTo>
                  <a:lnTo>
                    <a:pt x="145" y="59"/>
                  </a:lnTo>
                  <a:lnTo>
                    <a:pt x="149" y="54"/>
                  </a:lnTo>
                  <a:lnTo>
                    <a:pt x="153" y="50"/>
                  </a:lnTo>
                  <a:lnTo>
                    <a:pt x="157" y="47"/>
                  </a:lnTo>
                  <a:lnTo>
                    <a:pt x="162" y="44"/>
                  </a:lnTo>
                  <a:lnTo>
                    <a:pt x="166" y="42"/>
                  </a:lnTo>
                  <a:lnTo>
                    <a:pt x="171" y="40"/>
                  </a:lnTo>
                  <a:lnTo>
                    <a:pt x="175" y="39"/>
                  </a:lnTo>
                  <a:lnTo>
                    <a:pt x="179" y="37"/>
                  </a:lnTo>
                  <a:lnTo>
                    <a:pt x="183" y="37"/>
                  </a:lnTo>
                  <a:lnTo>
                    <a:pt x="187" y="37"/>
                  </a:lnTo>
                  <a:lnTo>
                    <a:pt x="191" y="39"/>
                  </a:lnTo>
                  <a:lnTo>
                    <a:pt x="195" y="39"/>
                  </a:lnTo>
                  <a:lnTo>
                    <a:pt x="199" y="41"/>
                  </a:lnTo>
                  <a:lnTo>
                    <a:pt x="202" y="42"/>
                  </a:lnTo>
                  <a:lnTo>
                    <a:pt x="206" y="45"/>
                  </a:lnTo>
                  <a:lnTo>
                    <a:pt x="209" y="47"/>
                  </a:lnTo>
                  <a:lnTo>
                    <a:pt x="213" y="51"/>
                  </a:lnTo>
                  <a:lnTo>
                    <a:pt x="216" y="55"/>
                  </a:lnTo>
                  <a:lnTo>
                    <a:pt x="219" y="59"/>
                  </a:lnTo>
                  <a:lnTo>
                    <a:pt x="221" y="62"/>
                  </a:lnTo>
                  <a:lnTo>
                    <a:pt x="223" y="67"/>
                  </a:lnTo>
                  <a:lnTo>
                    <a:pt x="226" y="72"/>
                  </a:lnTo>
                  <a:lnTo>
                    <a:pt x="228" y="79"/>
                  </a:lnTo>
                  <a:lnTo>
                    <a:pt x="229" y="85"/>
                  </a:lnTo>
                  <a:lnTo>
                    <a:pt x="230" y="90"/>
                  </a:lnTo>
                  <a:lnTo>
                    <a:pt x="231" y="97"/>
                  </a:lnTo>
                  <a:lnTo>
                    <a:pt x="232" y="104"/>
                  </a:lnTo>
                  <a:lnTo>
                    <a:pt x="232" y="110"/>
                  </a:lnTo>
                  <a:lnTo>
                    <a:pt x="232" y="117"/>
                  </a:lnTo>
                  <a:lnTo>
                    <a:pt x="232" y="125"/>
                  </a:lnTo>
                  <a:lnTo>
                    <a:pt x="231" y="132"/>
                  </a:lnTo>
                  <a:lnTo>
                    <a:pt x="230" y="141"/>
                  </a:lnTo>
                  <a:lnTo>
                    <a:pt x="229" y="149"/>
                  </a:lnTo>
                  <a:lnTo>
                    <a:pt x="227" y="156"/>
                  </a:lnTo>
                  <a:lnTo>
                    <a:pt x="225" y="165"/>
                  </a:lnTo>
                  <a:lnTo>
                    <a:pt x="223" y="172"/>
                  </a:lnTo>
                  <a:lnTo>
                    <a:pt x="220" y="181"/>
                  </a:lnTo>
                  <a:lnTo>
                    <a:pt x="217" y="188"/>
                  </a:lnTo>
                  <a:lnTo>
                    <a:pt x="213" y="198"/>
                  </a:lnTo>
                  <a:lnTo>
                    <a:pt x="209" y="208"/>
                  </a:lnTo>
                  <a:lnTo>
                    <a:pt x="205" y="217"/>
                  </a:lnTo>
                  <a:lnTo>
                    <a:pt x="201" y="226"/>
                  </a:lnTo>
                  <a:lnTo>
                    <a:pt x="197" y="233"/>
                  </a:lnTo>
                  <a:lnTo>
                    <a:pt x="193" y="241"/>
                  </a:lnTo>
                  <a:lnTo>
                    <a:pt x="189" y="248"/>
                  </a:lnTo>
                  <a:lnTo>
                    <a:pt x="184" y="255"/>
                  </a:lnTo>
                  <a:lnTo>
                    <a:pt x="180" y="260"/>
                  </a:lnTo>
                  <a:lnTo>
                    <a:pt x="175" y="266"/>
                  </a:lnTo>
                  <a:lnTo>
                    <a:pt x="170" y="270"/>
                  </a:lnTo>
                  <a:lnTo>
                    <a:pt x="165" y="275"/>
                  </a:lnTo>
                  <a:lnTo>
                    <a:pt x="160" y="278"/>
                  </a:lnTo>
                  <a:lnTo>
                    <a:pt x="155" y="281"/>
                  </a:lnTo>
                  <a:lnTo>
                    <a:pt x="150" y="283"/>
                  </a:lnTo>
                  <a:lnTo>
                    <a:pt x="144" y="286"/>
                  </a:lnTo>
                  <a:lnTo>
                    <a:pt x="139" y="287"/>
                  </a:lnTo>
                  <a:lnTo>
                    <a:pt x="134" y="288"/>
                  </a:lnTo>
                  <a:lnTo>
                    <a:pt x="129" y="290"/>
                  </a:lnTo>
                  <a:lnTo>
                    <a:pt x="124" y="290"/>
                  </a:lnTo>
                  <a:lnTo>
                    <a:pt x="119" y="288"/>
                  </a:lnTo>
                  <a:lnTo>
                    <a:pt x="114" y="287"/>
                  </a:lnTo>
                  <a:lnTo>
                    <a:pt x="109" y="286"/>
                  </a:lnTo>
                  <a:lnTo>
                    <a:pt x="104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5920" y="2390760"/>
              <a:ext cx="22320" cy="2232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26" y="57"/>
                  </a:moveTo>
                  <a:lnTo>
                    <a:pt x="0" y="42"/>
                  </a:lnTo>
                  <a:lnTo>
                    <a:pt x="16" y="0"/>
                  </a:lnTo>
                  <a:lnTo>
                    <a:pt x="42" y="15"/>
                  </a:lnTo>
                  <a:lnTo>
                    <a:pt x="26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71920" y="2247840"/>
              <a:ext cx="122040" cy="114480"/>
            </a:xfrm>
            <a:custGeom>
              <a:avLst/>
              <a:gdLst/>
              <a:ahLst/>
              <a:rect l="l" t="t" r="r" b="b"/>
              <a:pathLst>
                <a:path w="232" h="289">
                  <a:moveTo>
                    <a:pt x="104" y="284"/>
                  </a:moveTo>
                  <a:lnTo>
                    <a:pt x="116" y="244"/>
                  </a:lnTo>
                  <a:lnTo>
                    <a:pt x="120" y="245"/>
                  </a:lnTo>
                  <a:lnTo>
                    <a:pt x="124" y="246"/>
                  </a:lnTo>
                  <a:lnTo>
                    <a:pt x="127" y="246"/>
                  </a:lnTo>
                  <a:lnTo>
                    <a:pt x="131" y="246"/>
                  </a:lnTo>
                  <a:lnTo>
                    <a:pt x="134" y="246"/>
                  </a:lnTo>
                  <a:lnTo>
                    <a:pt x="137" y="246"/>
                  </a:lnTo>
                  <a:lnTo>
                    <a:pt x="141" y="245"/>
                  </a:lnTo>
                  <a:lnTo>
                    <a:pt x="144" y="244"/>
                  </a:lnTo>
                  <a:lnTo>
                    <a:pt x="147" y="243"/>
                  </a:lnTo>
                  <a:lnTo>
                    <a:pt x="150" y="241"/>
                  </a:lnTo>
                  <a:lnTo>
                    <a:pt x="154" y="239"/>
                  </a:lnTo>
                  <a:lnTo>
                    <a:pt x="157" y="236"/>
                  </a:lnTo>
                  <a:lnTo>
                    <a:pt x="160" y="234"/>
                  </a:lnTo>
                  <a:lnTo>
                    <a:pt x="164" y="230"/>
                  </a:lnTo>
                  <a:lnTo>
                    <a:pt x="168" y="226"/>
                  </a:lnTo>
                  <a:lnTo>
                    <a:pt x="171" y="221"/>
                  </a:lnTo>
                  <a:lnTo>
                    <a:pt x="174" y="218"/>
                  </a:lnTo>
                  <a:lnTo>
                    <a:pt x="177" y="213"/>
                  </a:lnTo>
                  <a:lnTo>
                    <a:pt x="180" y="208"/>
                  </a:lnTo>
                  <a:lnTo>
                    <a:pt x="183" y="201"/>
                  </a:lnTo>
                  <a:lnTo>
                    <a:pt x="186" y="196"/>
                  </a:lnTo>
                  <a:lnTo>
                    <a:pt x="189" y="190"/>
                  </a:lnTo>
                  <a:lnTo>
                    <a:pt x="191" y="184"/>
                  </a:lnTo>
                  <a:lnTo>
                    <a:pt x="194" y="178"/>
                  </a:lnTo>
                  <a:lnTo>
                    <a:pt x="196" y="171"/>
                  </a:lnTo>
                  <a:lnTo>
                    <a:pt x="198" y="166"/>
                  </a:lnTo>
                  <a:lnTo>
                    <a:pt x="199" y="160"/>
                  </a:lnTo>
                  <a:lnTo>
                    <a:pt x="201" y="155"/>
                  </a:lnTo>
                  <a:lnTo>
                    <a:pt x="202" y="150"/>
                  </a:lnTo>
                  <a:lnTo>
                    <a:pt x="203" y="144"/>
                  </a:lnTo>
                  <a:lnTo>
                    <a:pt x="204" y="139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6" y="120"/>
                  </a:lnTo>
                  <a:lnTo>
                    <a:pt x="205" y="115"/>
                  </a:lnTo>
                  <a:lnTo>
                    <a:pt x="205" y="112"/>
                  </a:lnTo>
                  <a:lnTo>
                    <a:pt x="205" y="108"/>
                  </a:lnTo>
                  <a:lnTo>
                    <a:pt x="204" y="104"/>
                  </a:lnTo>
                  <a:lnTo>
                    <a:pt x="203" y="102"/>
                  </a:lnTo>
                  <a:lnTo>
                    <a:pt x="202" y="98"/>
                  </a:lnTo>
                  <a:lnTo>
                    <a:pt x="200" y="95"/>
                  </a:lnTo>
                  <a:lnTo>
                    <a:pt x="199" y="93"/>
                  </a:lnTo>
                  <a:lnTo>
                    <a:pt x="197" y="90"/>
                  </a:lnTo>
                  <a:lnTo>
                    <a:pt x="196" y="88"/>
                  </a:lnTo>
                  <a:lnTo>
                    <a:pt x="194" y="87"/>
                  </a:lnTo>
                  <a:lnTo>
                    <a:pt x="192" y="84"/>
                  </a:lnTo>
                  <a:lnTo>
                    <a:pt x="190" y="83"/>
                  </a:lnTo>
                  <a:lnTo>
                    <a:pt x="188" y="82"/>
                  </a:lnTo>
                  <a:lnTo>
                    <a:pt x="185" y="82"/>
                  </a:lnTo>
                  <a:lnTo>
                    <a:pt x="183" y="80"/>
                  </a:lnTo>
                  <a:lnTo>
                    <a:pt x="181" y="80"/>
                  </a:lnTo>
                  <a:lnTo>
                    <a:pt x="178" y="80"/>
                  </a:lnTo>
                  <a:lnTo>
                    <a:pt x="176" y="80"/>
                  </a:lnTo>
                  <a:lnTo>
                    <a:pt x="174" y="82"/>
                  </a:lnTo>
                  <a:lnTo>
                    <a:pt x="171" y="83"/>
                  </a:lnTo>
                  <a:lnTo>
                    <a:pt x="169" y="84"/>
                  </a:lnTo>
                  <a:lnTo>
                    <a:pt x="166" y="85"/>
                  </a:lnTo>
                  <a:lnTo>
                    <a:pt x="164" y="88"/>
                  </a:lnTo>
                  <a:lnTo>
                    <a:pt x="160" y="90"/>
                  </a:lnTo>
                  <a:lnTo>
                    <a:pt x="157" y="93"/>
                  </a:lnTo>
                  <a:lnTo>
                    <a:pt x="155" y="97"/>
                  </a:lnTo>
                  <a:lnTo>
                    <a:pt x="152" y="100"/>
                  </a:lnTo>
                  <a:lnTo>
                    <a:pt x="149" y="104"/>
                  </a:lnTo>
                  <a:lnTo>
                    <a:pt x="147" y="107"/>
                  </a:lnTo>
                  <a:lnTo>
                    <a:pt x="144" y="112"/>
                  </a:lnTo>
                  <a:lnTo>
                    <a:pt x="141" y="115"/>
                  </a:lnTo>
                  <a:lnTo>
                    <a:pt x="138" y="122"/>
                  </a:lnTo>
                  <a:lnTo>
                    <a:pt x="134" y="128"/>
                  </a:lnTo>
                  <a:lnTo>
                    <a:pt x="130" y="135"/>
                  </a:lnTo>
                  <a:lnTo>
                    <a:pt x="125" y="144"/>
                  </a:lnTo>
                  <a:lnTo>
                    <a:pt x="120" y="154"/>
                  </a:lnTo>
                  <a:lnTo>
                    <a:pt x="114" y="163"/>
                  </a:lnTo>
                  <a:lnTo>
                    <a:pt x="109" y="171"/>
                  </a:lnTo>
                  <a:lnTo>
                    <a:pt x="105" y="179"/>
                  </a:lnTo>
                  <a:lnTo>
                    <a:pt x="100" y="186"/>
                  </a:lnTo>
                  <a:lnTo>
                    <a:pt x="96" y="193"/>
                  </a:lnTo>
                  <a:lnTo>
                    <a:pt x="93" y="198"/>
                  </a:lnTo>
                  <a:lnTo>
                    <a:pt x="88" y="203"/>
                  </a:lnTo>
                  <a:lnTo>
                    <a:pt x="85" y="206"/>
                  </a:lnTo>
                  <a:lnTo>
                    <a:pt x="81" y="210"/>
                  </a:lnTo>
                  <a:lnTo>
                    <a:pt x="78" y="214"/>
                  </a:lnTo>
                  <a:lnTo>
                    <a:pt x="74" y="218"/>
                  </a:lnTo>
                  <a:lnTo>
                    <a:pt x="70" y="221"/>
                  </a:lnTo>
                  <a:lnTo>
                    <a:pt x="66" y="224"/>
                  </a:lnTo>
                  <a:lnTo>
                    <a:pt x="63" y="225"/>
                  </a:lnTo>
                  <a:lnTo>
                    <a:pt x="59" y="228"/>
                  </a:lnTo>
                  <a:lnTo>
                    <a:pt x="56" y="229"/>
                  </a:lnTo>
                  <a:lnTo>
                    <a:pt x="52" y="230"/>
                  </a:lnTo>
                  <a:lnTo>
                    <a:pt x="48" y="230"/>
                  </a:lnTo>
                  <a:lnTo>
                    <a:pt x="45" y="231"/>
                  </a:lnTo>
                  <a:lnTo>
                    <a:pt x="41" y="230"/>
                  </a:lnTo>
                  <a:lnTo>
                    <a:pt x="38" y="230"/>
                  </a:lnTo>
                  <a:lnTo>
                    <a:pt x="35" y="229"/>
                  </a:lnTo>
                  <a:lnTo>
                    <a:pt x="31" y="228"/>
                  </a:lnTo>
                  <a:lnTo>
                    <a:pt x="28" y="226"/>
                  </a:lnTo>
                  <a:lnTo>
                    <a:pt x="25" y="224"/>
                  </a:lnTo>
                  <a:lnTo>
                    <a:pt x="21" y="221"/>
                  </a:lnTo>
                  <a:lnTo>
                    <a:pt x="18" y="219"/>
                  </a:lnTo>
                  <a:lnTo>
                    <a:pt x="14" y="215"/>
                  </a:lnTo>
                  <a:lnTo>
                    <a:pt x="12" y="211"/>
                  </a:lnTo>
                  <a:lnTo>
                    <a:pt x="9" y="208"/>
                  </a:lnTo>
                  <a:lnTo>
                    <a:pt x="7" y="203"/>
                  </a:lnTo>
                  <a:lnTo>
                    <a:pt x="5" y="198"/>
                  </a:lnTo>
                  <a:lnTo>
                    <a:pt x="3" y="193"/>
                  </a:lnTo>
                  <a:lnTo>
                    <a:pt x="2" y="188"/>
                  </a:lnTo>
                  <a:lnTo>
                    <a:pt x="1" y="181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0" y="149"/>
                  </a:lnTo>
                  <a:lnTo>
                    <a:pt x="1" y="141"/>
                  </a:lnTo>
                  <a:lnTo>
                    <a:pt x="2" y="134"/>
                  </a:lnTo>
                  <a:lnTo>
                    <a:pt x="4" y="127"/>
                  </a:lnTo>
                  <a:lnTo>
                    <a:pt x="5" y="119"/>
                  </a:lnTo>
                  <a:lnTo>
                    <a:pt x="7" y="112"/>
                  </a:lnTo>
                  <a:lnTo>
                    <a:pt x="10" y="104"/>
                  </a:lnTo>
                  <a:lnTo>
                    <a:pt x="12" y="97"/>
                  </a:lnTo>
                  <a:lnTo>
                    <a:pt x="15" y="88"/>
                  </a:lnTo>
                  <a:lnTo>
                    <a:pt x="19" y="80"/>
                  </a:lnTo>
                  <a:lnTo>
                    <a:pt x="22" y="72"/>
                  </a:lnTo>
                  <a:lnTo>
                    <a:pt x="26" y="64"/>
                  </a:lnTo>
                  <a:lnTo>
                    <a:pt x="29" y="57"/>
                  </a:lnTo>
                  <a:lnTo>
                    <a:pt x="33" y="50"/>
                  </a:lnTo>
                  <a:lnTo>
                    <a:pt x="37" y="44"/>
                  </a:lnTo>
                  <a:lnTo>
                    <a:pt x="41" y="38"/>
                  </a:lnTo>
                  <a:lnTo>
                    <a:pt x="45" y="32"/>
                  </a:lnTo>
                  <a:lnTo>
                    <a:pt x="49" y="27"/>
                  </a:lnTo>
                  <a:lnTo>
                    <a:pt x="53" y="22"/>
                  </a:lnTo>
                  <a:lnTo>
                    <a:pt x="57" y="18"/>
                  </a:lnTo>
                  <a:lnTo>
                    <a:pt x="61" y="13"/>
                  </a:lnTo>
                  <a:lnTo>
                    <a:pt x="66" y="10"/>
                  </a:lnTo>
                  <a:lnTo>
                    <a:pt x="70" y="7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2"/>
                  </a:lnTo>
                  <a:lnTo>
                    <a:pt x="111" y="3"/>
                  </a:lnTo>
                  <a:lnTo>
                    <a:pt x="115" y="5"/>
                  </a:lnTo>
                  <a:lnTo>
                    <a:pt x="103" y="45"/>
                  </a:lnTo>
                  <a:lnTo>
                    <a:pt x="98" y="43"/>
                  </a:lnTo>
                  <a:lnTo>
                    <a:pt x="94" y="43"/>
                  </a:lnTo>
                  <a:lnTo>
                    <a:pt x="88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5" y="45"/>
                  </a:lnTo>
                  <a:lnTo>
                    <a:pt x="71" y="48"/>
                  </a:lnTo>
                  <a:lnTo>
                    <a:pt x="67" y="50"/>
                  </a:lnTo>
                  <a:lnTo>
                    <a:pt x="63" y="54"/>
                  </a:lnTo>
                  <a:lnTo>
                    <a:pt x="59" y="59"/>
                  </a:lnTo>
                  <a:lnTo>
                    <a:pt x="56" y="64"/>
                  </a:lnTo>
                  <a:lnTo>
                    <a:pt x="52" y="69"/>
                  </a:lnTo>
                  <a:lnTo>
                    <a:pt x="48" y="75"/>
                  </a:lnTo>
                  <a:lnTo>
                    <a:pt x="45" y="83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8"/>
                  </a:lnTo>
                  <a:lnTo>
                    <a:pt x="33" y="117"/>
                  </a:lnTo>
                  <a:lnTo>
                    <a:pt x="30" y="125"/>
                  </a:lnTo>
                  <a:lnTo>
                    <a:pt x="29" y="133"/>
                  </a:lnTo>
                  <a:lnTo>
                    <a:pt x="28" y="139"/>
                  </a:lnTo>
                  <a:lnTo>
                    <a:pt x="27" y="146"/>
                  </a:lnTo>
                  <a:lnTo>
                    <a:pt x="27" y="153"/>
                  </a:lnTo>
                  <a:lnTo>
                    <a:pt x="27" y="158"/>
                  </a:lnTo>
                  <a:lnTo>
                    <a:pt x="28" y="163"/>
                  </a:lnTo>
                  <a:lnTo>
                    <a:pt x="29" y="168"/>
                  </a:lnTo>
                  <a:lnTo>
                    <a:pt x="30" y="171"/>
                  </a:lnTo>
                  <a:lnTo>
                    <a:pt x="31" y="175"/>
                  </a:lnTo>
                  <a:lnTo>
                    <a:pt x="33" y="179"/>
                  </a:lnTo>
                  <a:lnTo>
                    <a:pt x="35" y="181"/>
                  </a:lnTo>
                  <a:lnTo>
                    <a:pt x="38" y="184"/>
                  </a:lnTo>
                  <a:lnTo>
                    <a:pt x="41" y="186"/>
                  </a:lnTo>
                  <a:lnTo>
                    <a:pt x="43" y="188"/>
                  </a:lnTo>
                  <a:lnTo>
                    <a:pt x="46" y="188"/>
                  </a:lnTo>
                  <a:lnTo>
                    <a:pt x="49" y="189"/>
                  </a:lnTo>
                  <a:lnTo>
                    <a:pt x="51" y="189"/>
                  </a:lnTo>
                  <a:lnTo>
                    <a:pt x="54" y="188"/>
                  </a:lnTo>
                  <a:lnTo>
                    <a:pt x="56" y="186"/>
                  </a:lnTo>
                  <a:lnTo>
                    <a:pt x="59" y="185"/>
                  </a:lnTo>
                  <a:lnTo>
                    <a:pt x="62" y="184"/>
                  </a:lnTo>
                  <a:lnTo>
                    <a:pt x="65" y="181"/>
                  </a:lnTo>
                  <a:lnTo>
                    <a:pt x="68" y="178"/>
                  </a:lnTo>
                  <a:lnTo>
                    <a:pt x="72" y="173"/>
                  </a:lnTo>
                  <a:lnTo>
                    <a:pt x="76" y="166"/>
                  </a:lnTo>
                  <a:lnTo>
                    <a:pt x="81" y="159"/>
                  </a:lnTo>
                  <a:lnTo>
                    <a:pt x="86" y="150"/>
                  </a:lnTo>
                  <a:lnTo>
                    <a:pt x="93" y="140"/>
                  </a:lnTo>
                  <a:lnTo>
                    <a:pt x="99" y="130"/>
                  </a:lnTo>
                  <a:lnTo>
                    <a:pt x="105" y="119"/>
                  </a:lnTo>
                  <a:lnTo>
                    <a:pt x="111" y="109"/>
                  </a:lnTo>
                  <a:lnTo>
                    <a:pt x="116" y="100"/>
                  </a:lnTo>
                  <a:lnTo>
                    <a:pt x="121" y="92"/>
                  </a:lnTo>
                  <a:lnTo>
                    <a:pt x="125" y="84"/>
                  </a:lnTo>
                  <a:lnTo>
                    <a:pt x="129" y="78"/>
                  </a:lnTo>
                  <a:lnTo>
                    <a:pt x="133" y="73"/>
                  </a:lnTo>
                  <a:lnTo>
                    <a:pt x="136" y="69"/>
                  </a:lnTo>
                  <a:lnTo>
                    <a:pt x="140" y="63"/>
                  </a:lnTo>
                  <a:lnTo>
                    <a:pt x="144" y="59"/>
                  </a:lnTo>
                  <a:lnTo>
                    <a:pt x="149" y="54"/>
                  </a:lnTo>
                  <a:lnTo>
                    <a:pt x="153" y="50"/>
                  </a:lnTo>
                  <a:lnTo>
                    <a:pt x="157" y="47"/>
                  </a:lnTo>
                  <a:lnTo>
                    <a:pt x="162" y="44"/>
                  </a:lnTo>
                  <a:lnTo>
                    <a:pt x="167" y="42"/>
                  </a:lnTo>
                  <a:lnTo>
                    <a:pt x="171" y="40"/>
                  </a:lnTo>
                  <a:lnTo>
                    <a:pt x="175" y="39"/>
                  </a:lnTo>
                  <a:lnTo>
                    <a:pt x="179" y="38"/>
                  </a:lnTo>
                  <a:lnTo>
                    <a:pt x="183" y="38"/>
                  </a:lnTo>
                  <a:lnTo>
                    <a:pt x="187" y="38"/>
                  </a:lnTo>
                  <a:lnTo>
                    <a:pt x="191" y="38"/>
                  </a:lnTo>
                  <a:lnTo>
                    <a:pt x="194" y="39"/>
                  </a:lnTo>
                  <a:lnTo>
                    <a:pt x="198" y="40"/>
                  </a:lnTo>
                  <a:lnTo>
                    <a:pt x="202" y="43"/>
                  </a:lnTo>
                  <a:lnTo>
                    <a:pt x="206" y="45"/>
                  </a:lnTo>
                  <a:lnTo>
                    <a:pt x="209" y="48"/>
                  </a:lnTo>
                  <a:lnTo>
                    <a:pt x="212" y="50"/>
                  </a:lnTo>
                  <a:lnTo>
                    <a:pt x="215" y="54"/>
                  </a:lnTo>
                  <a:lnTo>
                    <a:pt x="218" y="58"/>
                  </a:lnTo>
                  <a:lnTo>
                    <a:pt x="221" y="63"/>
                  </a:lnTo>
                  <a:lnTo>
                    <a:pt x="223" y="68"/>
                  </a:lnTo>
                  <a:lnTo>
                    <a:pt x="225" y="73"/>
                  </a:lnTo>
                  <a:lnTo>
                    <a:pt x="227" y="78"/>
                  </a:lnTo>
                  <a:lnTo>
                    <a:pt x="229" y="84"/>
                  </a:lnTo>
                  <a:lnTo>
                    <a:pt x="230" y="90"/>
                  </a:lnTo>
                  <a:lnTo>
                    <a:pt x="231" y="97"/>
                  </a:lnTo>
                  <a:lnTo>
                    <a:pt x="232" y="104"/>
                  </a:lnTo>
                  <a:lnTo>
                    <a:pt x="232" y="110"/>
                  </a:lnTo>
                  <a:lnTo>
                    <a:pt x="232" y="118"/>
                  </a:lnTo>
                  <a:lnTo>
                    <a:pt x="231" y="125"/>
                  </a:lnTo>
                  <a:lnTo>
                    <a:pt x="231" y="133"/>
                  </a:lnTo>
                  <a:lnTo>
                    <a:pt x="230" y="140"/>
                  </a:lnTo>
                  <a:lnTo>
                    <a:pt x="228" y="149"/>
                  </a:lnTo>
                  <a:lnTo>
                    <a:pt x="227" y="156"/>
                  </a:lnTo>
                  <a:lnTo>
                    <a:pt x="225" y="164"/>
                  </a:lnTo>
                  <a:lnTo>
                    <a:pt x="222" y="173"/>
                  </a:lnTo>
                  <a:lnTo>
                    <a:pt x="220" y="180"/>
                  </a:lnTo>
                  <a:lnTo>
                    <a:pt x="217" y="189"/>
                  </a:lnTo>
                  <a:lnTo>
                    <a:pt x="213" y="199"/>
                  </a:lnTo>
                  <a:lnTo>
                    <a:pt x="209" y="209"/>
                  </a:lnTo>
                  <a:lnTo>
                    <a:pt x="205" y="218"/>
                  </a:lnTo>
                  <a:lnTo>
                    <a:pt x="201" y="226"/>
                  </a:lnTo>
                  <a:lnTo>
                    <a:pt x="197" y="234"/>
                  </a:lnTo>
                  <a:lnTo>
                    <a:pt x="193" y="241"/>
                  </a:lnTo>
                  <a:lnTo>
                    <a:pt x="188" y="248"/>
                  </a:lnTo>
                  <a:lnTo>
                    <a:pt x="184" y="254"/>
                  </a:lnTo>
                  <a:lnTo>
                    <a:pt x="179" y="260"/>
                  </a:lnTo>
                  <a:lnTo>
                    <a:pt x="175" y="265"/>
                  </a:lnTo>
                  <a:lnTo>
                    <a:pt x="170" y="270"/>
                  </a:lnTo>
                  <a:lnTo>
                    <a:pt x="165" y="274"/>
                  </a:lnTo>
                  <a:lnTo>
                    <a:pt x="159" y="277"/>
                  </a:lnTo>
                  <a:lnTo>
                    <a:pt x="154" y="281"/>
                  </a:lnTo>
                  <a:lnTo>
                    <a:pt x="149" y="284"/>
                  </a:lnTo>
                  <a:lnTo>
                    <a:pt x="144" y="286"/>
                  </a:lnTo>
                  <a:lnTo>
                    <a:pt x="139" y="287"/>
                  </a:lnTo>
                  <a:lnTo>
                    <a:pt x="134" y="289"/>
                  </a:lnTo>
                  <a:lnTo>
                    <a:pt x="129" y="289"/>
                  </a:lnTo>
                  <a:lnTo>
                    <a:pt x="124" y="289"/>
                  </a:lnTo>
                  <a:lnTo>
                    <a:pt x="119" y="289"/>
                  </a:lnTo>
                  <a:lnTo>
                    <a:pt x="114" y="287"/>
                  </a:lnTo>
                  <a:lnTo>
                    <a:pt x="109" y="285"/>
                  </a:lnTo>
                  <a:lnTo>
                    <a:pt x="104" y="2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05120" y="2228760"/>
              <a:ext cx="22320" cy="2376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26" y="59"/>
                  </a:moveTo>
                  <a:lnTo>
                    <a:pt x="0" y="44"/>
                  </a:lnTo>
                  <a:lnTo>
                    <a:pt x="15" y="0"/>
                  </a:lnTo>
                  <a:lnTo>
                    <a:pt x="42" y="15"/>
                  </a:lnTo>
                  <a:lnTo>
                    <a:pt x="2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86040" y="2060640"/>
              <a:ext cx="108000" cy="100080"/>
            </a:xfrm>
            <a:custGeom>
              <a:avLst/>
              <a:gdLst/>
              <a:ahLst/>
              <a:rect l="l" t="t" r="r" b="b"/>
              <a:pathLst>
                <a:path w="203" h="253">
                  <a:moveTo>
                    <a:pt x="189" y="144"/>
                  </a:moveTo>
                  <a:lnTo>
                    <a:pt x="143" y="119"/>
                  </a:lnTo>
                  <a:lnTo>
                    <a:pt x="94" y="253"/>
                  </a:lnTo>
                  <a:lnTo>
                    <a:pt x="72" y="240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35" y="69"/>
                  </a:lnTo>
                  <a:lnTo>
                    <a:pt x="151" y="27"/>
                  </a:lnTo>
                  <a:lnTo>
                    <a:pt x="173" y="39"/>
                  </a:lnTo>
                  <a:lnTo>
                    <a:pt x="157" y="81"/>
                  </a:lnTo>
                  <a:lnTo>
                    <a:pt x="203" y="107"/>
                  </a:lnTo>
                  <a:lnTo>
                    <a:pt x="189" y="144"/>
                  </a:lnTo>
                  <a:close/>
                  <a:moveTo>
                    <a:pt x="122" y="107"/>
                  </a:moveTo>
                  <a:lnTo>
                    <a:pt x="36" y="58"/>
                  </a:lnTo>
                  <a:lnTo>
                    <a:pt x="85" y="203"/>
                  </a:lnTo>
                  <a:lnTo>
                    <a:pt x="12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20960" y="1962000"/>
              <a:ext cx="114480" cy="98640"/>
            </a:xfrm>
            <a:custGeom>
              <a:avLst/>
              <a:gdLst/>
              <a:ahLst/>
              <a:rect l="l" t="t" r="r" b="b"/>
              <a:pathLst>
                <a:path w="215" h="249">
                  <a:moveTo>
                    <a:pt x="125" y="245"/>
                  </a:moveTo>
                  <a:lnTo>
                    <a:pt x="136" y="207"/>
                  </a:lnTo>
                  <a:lnTo>
                    <a:pt x="140" y="209"/>
                  </a:lnTo>
                  <a:lnTo>
                    <a:pt x="144" y="210"/>
                  </a:lnTo>
                  <a:lnTo>
                    <a:pt x="148" y="210"/>
                  </a:lnTo>
                  <a:lnTo>
                    <a:pt x="152" y="209"/>
                  </a:lnTo>
                  <a:lnTo>
                    <a:pt x="155" y="209"/>
                  </a:lnTo>
                  <a:lnTo>
                    <a:pt x="159" y="207"/>
                  </a:lnTo>
                  <a:lnTo>
                    <a:pt x="162" y="205"/>
                  </a:lnTo>
                  <a:lnTo>
                    <a:pt x="165" y="204"/>
                  </a:lnTo>
                  <a:lnTo>
                    <a:pt x="168" y="201"/>
                  </a:lnTo>
                  <a:lnTo>
                    <a:pt x="172" y="199"/>
                  </a:lnTo>
                  <a:lnTo>
                    <a:pt x="174" y="195"/>
                  </a:lnTo>
                  <a:lnTo>
                    <a:pt x="177" y="191"/>
                  </a:lnTo>
                  <a:lnTo>
                    <a:pt x="179" y="187"/>
                  </a:lnTo>
                  <a:lnTo>
                    <a:pt x="181" y="184"/>
                  </a:lnTo>
                  <a:lnTo>
                    <a:pt x="184" y="179"/>
                  </a:lnTo>
                  <a:lnTo>
                    <a:pt x="186" y="174"/>
                  </a:lnTo>
                  <a:lnTo>
                    <a:pt x="187" y="170"/>
                  </a:lnTo>
                  <a:lnTo>
                    <a:pt x="188" y="165"/>
                  </a:lnTo>
                  <a:lnTo>
                    <a:pt x="189" y="161"/>
                  </a:lnTo>
                  <a:lnTo>
                    <a:pt x="190" y="157"/>
                  </a:lnTo>
                  <a:lnTo>
                    <a:pt x="191" y="152"/>
                  </a:lnTo>
                  <a:lnTo>
                    <a:pt x="191" y="149"/>
                  </a:lnTo>
                  <a:lnTo>
                    <a:pt x="192" y="145"/>
                  </a:lnTo>
                  <a:lnTo>
                    <a:pt x="192" y="141"/>
                  </a:lnTo>
                  <a:lnTo>
                    <a:pt x="192" y="136"/>
                  </a:lnTo>
                  <a:lnTo>
                    <a:pt x="191" y="132"/>
                  </a:lnTo>
                  <a:lnTo>
                    <a:pt x="191" y="129"/>
                  </a:lnTo>
                  <a:lnTo>
                    <a:pt x="190" y="125"/>
                  </a:lnTo>
                  <a:lnTo>
                    <a:pt x="190" y="123"/>
                  </a:lnTo>
                  <a:lnTo>
                    <a:pt x="189" y="119"/>
                  </a:lnTo>
                  <a:lnTo>
                    <a:pt x="188" y="115"/>
                  </a:lnTo>
                  <a:lnTo>
                    <a:pt x="187" y="111"/>
                  </a:lnTo>
                  <a:lnTo>
                    <a:pt x="185" y="109"/>
                  </a:lnTo>
                  <a:lnTo>
                    <a:pt x="184" y="105"/>
                  </a:lnTo>
                  <a:lnTo>
                    <a:pt x="182" y="101"/>
                  </a:lnTo>
                  <a:lnTo>
                    <a:pt x="180" y="99"/>
                  </a:lnTo>
                  <a:lnTo>
                    <a:pt x="178" y="95"/>
                  </a:lnTo>
                  <a:lnTo>
                    <a:pt x="175" y="91"/>
                  </a:lnTo>
                  <a:lnTo>
                    <a:pt x="172" y="89"/>
                  </a:lnTo>
                  <a:lnTo>
                    <a:pt x="170" y="85"/>
                  </a:lnTo>
                  <a:lnTo>
                    <a:pt x="166" y="81"/>
                  </a:lnTo>
                  <a:lnTo>
                    <a:pt x="163" y="79"/>
                  </a:lnTo>
                  <a:lnTo>
                    <a:pt x="159" y="75"/>
                  </a:lnTo>
                  <a:lnTo>
                    <a:pt x="156" y="73"/>
                  </a:lnTo>
                  <a:lnTo>
                    <a:pt x="153" y="70"/>
                  </a:lnTo>
                  <a:lnTo>
                    <a:pt x="149" y="68"/>
                  </a:lnTo>
                  <a:lnTo>
                    <a:pt x="146" y="65"/>
                  </a:lnTo>
                  <a:lnTo>
                    <a:pt x="142" y="63"/>
                  </a:lnTo>
                  <a:lnTo>
                    <a:pt x="142" y="63"/>
                  </a:lnTo>
                  <a:lnTo>
                    <a:pt x="141" y="63"/>
                  </a:lnTo>
                  <a:lnTo>
                    <a:pt x="141" y="63"/>
                  </a:lnTo>
                  <a:lnTo>
                    <a:pt x="140" y="63"/>
                  </a:lnTo>
                  <a:lnTo>
                    <a:pt x="140" y="61"/>
                  </a:lnTo>
                  <a:lnTo>
                    <a:pt x="139" y="61"/>
                  </a:lnTo>
                  <a:lnTo>
                    <a:pt x="138" y="61"/>
                  </a:lnTo>
                  <a:lnTo>
                    <a:pt x="138" y="61"/>
                  </a:lnTo>
                  <a:lnTo>
                    <a:pt x="139" y="65"/>
                  </a:lnTo>
                  <a:lnTo>
                    <a:pt x="141" y="70"/>
                  </a:lnTo>
                  <a:lnTo>
                    <a:pt x="142" y="75"/>
                  </a:lnTo>
                  <a:lnTo>
                    <a:pt x="143" y="80"/>
                  </a:lnTo>
                  <a:lnTo>
                    <a:pt x="143" y="85"/>
                  </a:lnTo>
                  <a:lnTo>
                    <a:pt x="144" y="90"/>
                  </a:lnTo>
                  <a:lnTo>
                    <a:pt x="144" y="96"/>
                  </a:lnTo>
                  <a:lnTo>
                    <a:pt x="144" y="103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43" y="120"/>
                  </a:lnTo>
                  <a:lnTo>
                    <a:pt x="142" y="125"/>
                  </a:lnTo>
                  <a:lnTo>
                    <a:pt x="141" y="131"/>
                  </a:lnTo>
                  <a:lnTo>
                    <a:pt x="139" y="137"/>
                  </a:lnTo>
                  <a:lnTo>
                    <a:pt x="138" y="142"/>
                  </a:lnTo>
                  <a:lnTo>
                    <a:pt x="136" y="149"/>
                  </a:lnTo>
                  <a:lnTo>
                    <a:pt x="132" y="157"/>
                  </a:lnTo>
                  <a:lnTo>
                    <a:pt x="128" y="166"/>
                  </a:lnTo>
                  <a:lnTo>
                    <a:pt x="123" y="174"/>
                  </a:lnTo>
                  <a:lnTo>
                    <a:pt x="118" y="181"/>
                  </a:lnTo>
                  <a:lnTo>
                    <a:pt x="113" y="187"/>
                  </a:lnTo>
                  <a:lnTo>
                    <a:pt x="107" y="194"/>
                  </a:lnTo>
                  <a:lnTo>
                    <a:pt x="101" y="199"/>
                  </a:lnTo>
                  <a:lnTo>
                    <a:pt x="94" y="204"/>
                  </a:lnTo>
                  <a:lnTo>
                    <a:pt x="87" y="207"/>
                  </a:lnTo>
                  <a:lnTo>
                    <a:pt x="81" y="210"/>
                  </a:lnTo>
                  <a:lnTo>
                    <a:pt x="74" y="211"/>
                  </a:lnTo>
                  <a:lnTo>
                    <a:pt x="67" y="212"/>
                  </a:lnTo>
                  <a:lnTo>
                    <a:pt x="60" y="211"/>
                  </a:lnTo>
                  <a:lnTo>
                    <a:pt x="53" y="210"/>
                  </a:lnTo>
                  <a:lnTo>
                    <a:pt x="46" y="207"/>
                  </a:lnTo>
                  <a:lnTo>
                    <a:pt x="39" y="204"/>
                  </a:lnTo>
                  <a:lnTo>
                    <a:pt x="33" y="200"/>
                  </a:lnTo>
                  <a:lnTo>
                    <a:pt x="26" y="195"/>
                  </a:lnTo>
                  <a:lnTo>
                    <a:pt x="20" y="189"/>
                  </a:lnTo>
                  <a:lnTo>
                    <a:pt x="15" y="182"/>
                  </a:lnTo>
                  <a:lnTo>
                    <a:pt x="11" y="175"/>
                  </a:lnTo>
                  <a:lnTo>
                    <a:pt x="7" y="167"/>
                  </a:lnTo>
                  <a:lnTo>
                    <a:pt x="4" y="160"/>
                  </a:lnTo>
                  <a:lnTo>
                    <a:pt x="2" y="150"/>
                  </a:lnTo>
                  <a:lnTo>
                    <a:pt x="1" y="141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1" y="111"/>
                  </a:lnTo>
                  <a:lnTo>
                    <a:pt x="2" y="101"/>
                  </a:lnTo>
                  <a:lnTo>
                    <a:pt x="4" y="91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3" y="64"/>
                  </a:lnTo>
                  <a:lnTo>
                    <a:pt x="16" y="56"/>
                  </a:lnTo>
                  <a:lnTo>
                    <a:pt x="19" y="50"/>
                  </a:lnTo>
                  <a:lnTo>
                    <a:pt x="23" y="44"/>
                  </a:lnTo>
                  <a:lnTo>
                    <a:pt x="28" y="38"/>
                  </a:lnTo>
                  <a:lnTo>
                    <a:pt x="32" y="33"/>
                  </a:lnTo>
                  <a:lnTo>
                    <a:pt x="36" y="26"/>
                  </a:lnTo>
                  <a:lnTo>
                    <a:pt x="41" y="21"/>
                  </a:lnTo>
                  <a:lnTo>
                    <a:pt x="46" y="18"/>
                  </a:lnTo>
                  <a:lnTo>
                    <a:pt x="51" y="14"/>
                  </a:lnTo>
                  <a:lnTo>
                    <a:pt x="56" y="10"/>
                  </a:lnTo>
                  <a:lnTo>
                    <a:pt x="61" y="6"/>
                  </a:lnTo>
                  <a:lnTo>
                    <a:pt x="66" y="4"/>
                  </a:lnTo>
                  <a:lnTo>
                    <a:pt x="72" y="3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0" y="4"/>
                  </a:lnTo>
                  <a:lnTo>
                    <a:pt x="118" y="6"/>
                  </a:lnTo>
                  <a:lnTo>
                    <a:pt x="125" y="9"/>
                  </a:lnTo>
                  <a:lnTo>
                    <a:pt x="134" y="13"/>
                  </a:lnTo>
                  <a:lnTo>
                    <a:pt x="142" y="18"/>
                  </a:lnTo>
                  <a:lnTo>
                    <a:pt x="151" y="23"/>
                  </a:lnTo>
                  <a:lnTo>
                    <a:pt x="159" y="28"/>
                  </a:lnTo>
                  <a:lnTo>
                    <a:pt x="166" y="34"/>
                  </a:lnTo>
                  <a:lnTo>
                    <a:pt x="174" y="39"/>
                  </a:lnTo>
                  <a:lnTo>
                    <a:pt x="181" y="45"/>
                  </a:lnTo>
                  <a:lnTo>
                    <a:pt x="186" y="51"/>
                  </a:lnTo>
                  <a:lnTo>
                    <a:pt x="192" y="58"/>
                  </a:lnTo>
                  <a:lnTo>
                    <a:pt x="196" y="64"/>
                  </a:lnTo>
                  <a:lnTo>
                    <a:pt x="200" y="70"/>
                  </a:lnTo>
                  <a:lnTo>
                    <a:pt x="203" y="76"/>
                  </a:lnTo>
                  <a:lnTo>
                    <a:pt x="207" y="83"/>
                  </a:lnTo>
                  <a:lnTo>
                    <a:pt x="209" y="90"/>
                  </a:lnTo>
                  <a:lnTo>
                    <a:pt x="211" y="98"/>
                  </a:lnTo>
                  <a:lnTo>
                    <a:pt x="213" y="105"/>
                  </a:lnTo>
                  <a:lnTo>
                    <a:pt x="214" y="113"/>
                  </a:lnTo>
                  <a:lnTo>
                    <a:pt x="215" y="120"/>
                  </a:lnTo>
                  <a:lnTo>
                    <a:pt x="215" y="127"/>
                  </a:lnTo>
                  <a:lnTo>
                    <a:pt x="215" y="136"/>
                  </a:lnTo>
                  <a:lnTo>
                    <a:pt x="214" y="144"/>
                  </a:lnTo>
                  <a:lnTo>
                    <a:pt x="213" y="152"/>
                  </a:lnTo>
                  <a:lnTo>
                    <a:pt x="212" y="160"/>
                  </a:lnTo>
                  <a:lnTo>
                    <a:pt x="210" y="169"/>
                  </a:lnTo>
                  <a:lnTo>
                    <a:pt x="207" y="177"/>
                  </a:lnTo>
                  <a:lnTo>
                    <a:pt x="204" y="186"/>
                  </a:lnTo>
                  <a:lnTo>
                    <a:pt x="201" y="195"/>
                  </a:lnTo>
                  <a:lnTo>
                    <a:pt x="197" y="202"/>
                  </a:lnTo>
                  <a:lnTo>
                    <a:pt x="193" y="210"/>
                  </a:lnTo>
                  <a:lnTo>
                    <a:pt x="189" y="217"/>
                  </a:lnTo>
                  <a:lnTo>
                    <a:pt x="185" y="222"/>
                  </a:lnTo>
                  <a:lnTo>
                    <a:pt x="180" y="229"/>
                  </a:lnTo>
                  <a:lnTo>
                    <a:pt x="175" y="234"/>
                  </a:lnTo>
                  <a:lnTo>
                    <a:pt x="170" y="237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3" y="246"/>
                  </a:lnTo>
                  <a:lnTo>
                    <a:pt x="148" y="247"/>
                  </a:lnTo>
                  <a:lnTo>
                    <a:pt x="142" y="249"/>
                  </a:lnTo>
                  <a:lnTo>
                    <a:pt x="136" y="249"/>
                  </a:lnTo>
                  <a:lnTo>
                    <a:pt x="131" y="247"/>
                  </a:lnTo>
                  <a:lnTo>
                    <a:pt x="125" y="245"/>
                  </a:lnTo>
                  <a:close/>
                  <a:moveTo>
                    <a:pt x="98" y="43"/>
                  </a:moveTo>
                  <a:lnTo>
                    <a:pt x="92" y="40"/>
                  </a:lnTo>
                  <a:lnTo>
                    <a:pt x="87" y="39"/>
                  </a:lnTo>
                  <a:lnTo>
                    <a:pt x="82" y="38"/>
                  </a:lnTo>
                  <a:lnTo>
                    <a:pt x="77" y="38"/>
                  </a:lnTo>
                  <a:lnTo>
                    <a:pt x="73" y="38"/>
                  </a:lnTo>
                  <a:lnTo>
                    <a:pt x="68" y="39"/>
                  </a:lnTo>
                  <a:lnTo>
                    <a:pt x="64" y="40"/>
                  </a:lnTo>
                  <a:lnTo>
                    <a:pt x="59" y="43"/>
                  </a:lnTo>
                  <a:lnTo>
                    <a:pt x="55" y="45"/>
                  </a:lnTo>
                  <a:lnTo>
                    <a:pt x="51" y="49"/>
                  </a:lnTo>
                  <a:lnTo>
                    <a:pt x="47" y="53"/>
                  </a:lnTo>
                  <a:lnTo>
                    <a:pt x="43" y="56"/>
                  </a:lnTo>
                  <a:lnTo>
                    <a:pt x="40" y="61"/>
                  </a:lnTo>
                  <a:lnTo>
                    <a:pt x="37" y="66"/>
                  </a:lnTo>
                  <a:lnTo>
                    <a:pt x="34" y="71"/>
                  </a:lnTo>
                  <a:lnTo>
                    <a:pt x="32" y="78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7" y="96"/>
                  </a:lnTo>
                  <a:lnTo>
                    <a:pt x="27" y="103"/>
                  </a:lnTo>
                  <a:lnTo>
                    <a:pt x="26" y="109"/>
                  </a:lnTo>
                  <a:lnTo>
                    <a:pt x="27" y="115"/>
                  </a:lnTo>
                  <a:lnTo>
                    <a:pt x="27" y="123"/>
                  </a:lnTo>
                  <a:lnTo>
                    <a:pt x="29" y="129"/>
                  </a:lnTo>
                  <a:lnTo>
                    <a:pt x="30" y="135"/>
                  </a:lnTo>
                  <a:lnTo>
                    <a:pt x="32" y="140"/>
                  </a:lnTo>
                  <a:lnTo>
                    <a:pt x="35" y="146"/>
                  </a:lnTo>
                  <a:lnTo>
                    <a:pt x="38" y="151"/>
                  </a:lnTo>
                  <a:lnTo>
                    <a:pt x="41" y="155"/>
                  </a:lnTo>
                  <a:lnTo>
                    <a:pt x="45" y="159"/>
                  </a:lnTo>
                  <a:lnTo>
                    <a:pt x="50" y="162"/>
                  </a:lnTo>
                  <a:lnTo>
                    <a:pt x="54" y="166"/>
                  </a:lnTo>
                  <a:lnTo>
                    <a:pt x="59" y="167"/>
                  </a:lnTo>
                  <a:lnTo>
                    <a:pt x="63" y="170"/>
                  </a:lnTo>
                  <a:lnTo>
                    <a:pt x="68" y="170"/>
                  </a:lnTo>
                  <a:lnTo>
                    <a:pt x="72" y="171"/>
                  </a:lnTo>
                  <a:lnTo>
                    <a:pt x="77" y="170"/>
                  </a:lnTo>
                  <a:lnTo>
                    <a:pt x="81" y="169"/>
                  </a:lnTo>
                  <a:lnTo>
                    <a:pt x="86" y="167"/>
                  </a:lnTo>
                  <a:lnTo>
                    <a:pt x="90" y="165"/>
                  </a:lnTo>
                  <a:lnTo>
                    <a:pt x="95" y="161"/>
                  </a:lnTo>
                  <a:lnTo>
                    <a:pt x="100" y="159"/>
                  </a:lnTo>
                  <a:lnTo>
                    <a:pt x="103" y="154"/>
                  </a:lnTo>
                  <a:lnTo>
                    <a:pt x="107" y="150"/>
                  </a:lnTo>
                  <a:lnTo>
                    <a:pt x="110" y="145"/>
                  </a:lnTo>
                  <a:lnTo>
                    <a:pt x="113" y="140"/>
                  </a:lnTo>
                  <a:lnTo>
                    <a:pt x="116" y="134"/>
                  </a:lnTo>
                  <a:lnTo>
                    <a:pt x="119" y="127"/>
                  </a:lnTo>
                  <a:lnTo>
                    <a:pt x="121" y="121"/>
                  </a:lnTo>
                  <a:lnTo>
                    <a:pt x="122" y="115"/>
                  </a:lnTo>
                  <a:lnTo>
                    <a:pt x="124" y="109"/>
                  </a:lnTo>
                  <a:lnTo>
                    <a:pt x="124" y="103"/>
                  </a:lnTo>
                  <a:lnTo>
                    <a:pt x="125" y="96"/>
                  </a:lnTo>
                  <a:lnTo>
                    <a:pt x="125" y="90"/>
                  </a:lnTo>
                  <a:lnTo>
                    <a:pt x="124" y="84"/>
                  </a:lnTo>
                  <a:lnTo>
                    <a:pt x="123" y="78"/>
                  </a:lnTo>
                  <a:lnTo>
                    <a:pt x="122" y="73"/>
                  </a:lnTo>
                  <a:lnTo>
                    <a:pt x="120" y="68"/>
                  </a:lnTo>
                  <a:lnTo>
                    <a:pt x="117" y="63"/>
                  </a:lnTo>
                  <a:lnTo>
                    <a:pt x="114" y="58"/>
                  </a:lnTo>
                  <a:lnTo>
                    <a:pt x="111" y="54"/>
                  </a:lnTo>
                  <a:lnTo>
                    <a:pt x="107" y="50"/>
                  </a:lnTo>
                  <a:lnTo>
                    <a:pt x="103" y="46"/>
                  </a:lnTo>
                  <a:lnTo>
                    <a:pt x="98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70280" y="1865160"/>
              <a:ext cx="114480" cy="98640"/>
            </a:xfrm>
            <a:custGeom>
              <a:avLst/>
              <a:gdLst/>
              <a:ahLst/>
              <a:rect l="l" t="t" r="r" b="b"/>
              <a:pathLst>
                <a:path w="216" h="248">
                  <a:moveTo>
                    <a:pt x="92" y="2"/>
                  </a:moveTo>
                  <a:lnTo>
                    <a:pt x="80" y="41"/>
                  </a:lnTo>
                  <a:lnTo>
                    <a:pt x="75" y="41"/>
                  </a:lnTo>
                  <a:lnTo>
                    <a:pt x="72" y="41"/>
                  </a:lnTo>
                  <a:lnTo>
                    <a:pt x="68" y="41"/>
                  </a:lnTo>
                  <a:lnTo>
                    <a:pt x="65" y="41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6" y="44"/>
                  </a:lnTo>
                  <a:lnTo>
                    <a:pt x="54" y="45"/>
                  </a:lnTo>
                  <a:lnTo>
                    <a:pt x="50" y="47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40" y="57"/>
                  </a:lnTo>
                  <a:lnTo>
                    <a:pt x="37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30" y="76"/>
                  </a:lnTo>
                  <a:lnTo>
                    <a:pt x="29" y="81"/>
                  </a:lnTo>
                  <a:lnTo>
                    <a:pt x="27" y="86"/>
                  </a:lnTo>
                  <a:lnTo>
                    <a:pt x="26" y="90"/>
                  </a:lnTo>
                  <a:lnTo>
                    <a:pt x="26" y="95"/>
                  </a:lnTo>
                  <a:lnTo>
                    <a:pt x="25" y="98"/>
                  </a:lnTo>
                  <a:lnTo>
                    <a:pt x="25" y="103"/>
                  </a:lnTo>
                  <a:lnTo>
                    <a:pt x="25" y="107"/>
                  </a:lnTo>
                  <a:lnTo>
                    <a:pt x="25" y="112"/>
                  </a:lnTo>
                  <a:lnTo>
                    <a:pt x="25" y="117"/>
                  </a:lnTo>
                  <a:lnTo>
                    <a:pt x="26" y="122"/>
                  </a:lnTo>
                  <a:lnTo>
                    <a:pt x="27" y="128"/>
                  </a:lnTo>
                  <a:lnTo>
                    <a:pt x="29" y="133"/>
                  </a:lnTo>
                  <a:lnTo>
                    <a:pt x="31" y="138"/>
                  </a:lnTo>
                  <a:lnTo>
                    <a:pt x="33" y="143"/>
                  </a:lnTo>
                  <a:lnTo>
                    <a:pt x="35" y="148"/>
                  </a:lnTo>
                  <a:lnTo>
                    <a:pt x="38" y="153"/>
                  </a:lnTo>
                  <a:lnTo>
                    <a:pt x="41" y="158"/>
                  </a:lnTo>
                  <a:lnTo>
                    <a:pt x="45" y="162"/>
                  </a:lnTo>
                  <a:lnTo>
                    <a:pt x="49" y="167"/>
                  </a:lnTo>
                  <a:lnTo>
                    <a:pt x="54" y="171"/>
                  </a:lnTo>
                  <a:lnTo>
                    <a:pt x="59" y="176"/>
                  </a:lnTo>
                  <a:lnTo>
                    <a:pt x="64" y="180"/>
                  </a:lnTo>
                  <a:lnTo>
                    <a:pt x="71" y="185"/>
                  </a:lnTo>
                  <a:lnTo>
                    <a:pt x="79" y="188"/>
                  </a:lnTo>
                  <a:lnTo>
                    <a:pt x="76" y="183"/>
                  </a:lnTo>
                  <a:lnTo>
                    <a:pt x="74" y="178"/>
                  </a:lnTo>
                  <a:lnTo>
                    <a:pt x="73" y="172"/>
                  </a:lnTo>
                  <a:lnTo>
                    <a:pt x="72" y="167"/>
                  </a:lnTo>
                  <a:lnTo>
                    <a:pt x="71" y="162"/>
                  </a:lnTo>
                  <a:lnTo>
                    <a:pt x="71" y="156"/>
                  </a:lnTo>
                  <a:lnTo>
                    <a:pt x="71" y="151"/>
                  </a:lnTo>
                  <a:lnTo>
                    <a:pt x="71" y="145"/>
                  </a:lnTo>
                  <a:lnTo>
                    <a:pt x="71" y="138"/>
                  </a:lnTo>
                  <a:lnTo>
                    <a:pt x="72" y="133"/>
                  </a:lnTo>
                  <a:lnTo>
                    <a:pt x="73" y="127"/>
                  </a:lnTo>
                  <a:lnTo>
                    <a:pt x="74" y="122"/>
                  </a:lnTo>
                  <a:lnTo>
                    <a:pt x="75" y="116"/>
                  </a:lnTo>
                  <a:lnTo>
                    <a:pt x="76" y="111"/>
                  </a:lnTo>
                  <a:lnTo>
                    <a:pt x="79" y="105"/>
                  </a:lnTo>
                  <a:lnTo>
                    <a:pt x="81" y="100"/>
                  </a:lnTo>
                  <a:lnTo>
                    <a:pt x="84" y="91"/>
                  </a:lnTo>
                  <a:lnTo>
                    <a:pt x="89" y="82"/>
                  </a:lnTo>
                  <a:lnTo>
                    <a:pt x="93" y="75"/>
                  </a:lnTo>
                  <a:lnTo>
                    <a:pt x="98" y="67"/>
                  </a:lnTo>
                  <a:lnTo>
                    <a:pt x="103" y="61"/>
                  </a:lnTo>
                  <a:lnTo>
                    <a:pt x="109" y="55"/>
                  </a:lnTo>
                  <a:lnTo>
                    <a:pt x="115" y="50"/>
                  </a:lnTo>
                  <a:lnTo>
                    <a:pt x="121" y="45"/>
                  </a:lnTo>
                  <a:lnTo>
                    <a:pt x="128" y="41"/>
                  </a:lnTo>
                  <a:lnTo>
                    <a:pt x="135" y="39"/>
                  </a:lnTo>
                  <a:lnTo>
                    <a:pt x="142" y="37"/>
                  </a:lnTo>
                  <a:lnTo>
                    <a:pt x="148" y="36"/>
                  </a:lnTo>
                  <a:lnTo>
                    <a:pt x="156" y="36"/>
                  </a:lnTo>
                  <a:lnTo>
                    <a:pt x="163" y="39"/>
                  </a:lnTo>
                  <a:lnTo>
                    <a:pt x="169" y="40"/>
                  </a:lnTo>
                  <a:lnTo>
                    <a:pt x="176" y="44"/>
                  </a:lnTo>
                  <a:lnTo>
                    <a:pt x="181" y="46"/>
                  </a:lnTo>
                  <a:lnTo>
                    <a:pt x="185" y="50"/>
                  </a:lnTo>
                  <a:lnTo>
                    <a:pt x="189" y="52"/>
                  </a:lnTo>
                  <a:lnTo>
                    <a:pt x="192" y="56"/>
                  </a:lnTo>
                  <a:lnTo>
                    <a:pt x="196" y="61"/>
                  </a:lnTo>
                  <a:lnTo>
                    <a:pt x="199" y="65"/>
                  </a:lnTo>
                  <a:lnTo>
                    <a:pt x="202" y="70"/>
                  </a:lnTo>
                  <a:lnTo>
                    <a:pt x="205" y="75"/>
                  </a:lnTo>
                  <a:lnTo>
                    <a:pt x="207" y="81"/>
                  </a:lnTo>
                  <a:lnTo>
                    <a:pt x="209" y="86"/>
                  </a:lnTo>
                  <a:lnTo>
                    <a:pt x="211" y="92"/>
                  </a:lnTo>
                  <a:lnTo>
                    <a:pt x="213" y="97"/>
                  </a:lnTo>
                  <a:lnTo>
                    <a:pt x="214" y="103"/>
                  </a:lnTo>
                  <a:lnTo>
                    <a:pt x="215" y="110"/>
                  </a:lnTo>
                  <a:lnTo>
                    <a:pt x="215" y="116"/>
                  </a:lnTo>
                  <a:lnTo>
                    <a:pt x="216" y="122"/>
                  </a:lnTo>
                  <a:lnTo>
                    <a:pt x="215" y="130"/>
                  </a:lnTo>
                  <a:lnTo>
                    <a:pt x="215" y="136"/>
                  </a:lnTo>
                  <a:lnTo>
                    <a:pt x="214" y="142"/>
                  </a:lnTo>
                  <a:lnTo>
                    <a:pt x="213" y="150"/>
                  </a:lnTo>
                  <a:lnTo>
                    <a:pt x="212" y="156"/>
                  </a:lnTo>
                  <a:lnTo>
                    <a:pt x="210" y="163"/>
                  </a:lnTo>
                  <a:lnTo>
                    <a:pt x="208" y="170"/>
                  </a:lnTo>
                  <a:lnTo>
                    <a:pt x="206" y="177"/>
                  </a:lnTo>
                  <a:lnTo>
                    <a:pt x="201" y="188"/>
                  </a:lnTo>
                  <a:lnTo>
                    <a:pt x="196" y="198"/>
                  </a:lnTo>
                  <a:lnTo>
                    <a:pt x="190" y="208"/>
                  </a:lnTo>
                  <a:lnTo>
                    <a:pt x="184" y="217"/>
                  </a:lnTo>
                  <a:lnTo>
                    <a:pt x="178" y="224"/>
                  </a:lnTo>
                  <a:lnTo>
                    <a:pt x="171" y="231"/>
                  </a:lnTo>
                  <a:lnTo>
                    <a:pt x="164" y="237"/>
                  </a:lnTo>
                  <a:lnTo>
                    <a:pt x="156" y="242"/>
                  </a:lnTo>
                  <a:lnTo>
                    <a:pt x="147" y="246"/>
                  </a:lnTo>
                  <a:lnTo>
                    <a:pt x="138" y="248"/>
                  </a:lnTo>
                  <a:lnTo>
                    <a:pt x="128" y="248"/>
                  </a:lnTo>
                  <a:lnTo>
                    <a:pt x="119" y="248"/>
                  </a:lnTo>
                  <a:lnTo>
                    <a:pt x="108" y="246"/>
                  </a:lnTo>
                  <a:lnTo>
                    <a:pt x="97" y="242"/>
                  </a:lnTo>
                  <a:lnTo>
                    <a:pt x="86" y="237"/>
                  </a:lnTo>
                  <a:lnTo>
                    <a:pt x="73" y="231"/>
                  </a:lnTo>
                  <a:lnTo>
                    <a:pt x="60" y="223"/>
                  </a:lnTo>
                  <a:lnTo>
                    <a:pt x="48" y="215"/>
                  </a:lnTo>
                  <a:lnTo>
                    <a:pt x="38" y="206"/>
                  </a:lnTo>
                  <a:lnTo>
                    <a:pt x="29" y="196"/>
                  </a:lnTo>
                  <a:lnTo>
                    <a:pt x="21" y="186"/>
                  </a:lnTo>
                  <a:lnTo>
                    <a:pt x="14" y="176"/>
                  </a:lnTo>
                  <a:lnTo>
                    <a:pt x="9" y="165"/>
                  </a:lnTo>
                  <a:lnTo>
                    <a:pt x="4" y="153"/>
                  </a:lnTo>
                  <a:lnTo>
                    <a:pt x="2" y="142"/>
                  </a:lnTo>
                  <a:lnTo>
                    <a:pt x="1" y="132"/>
                  </a:lnTo>
                  <a:lnTo>
                    <a:pt x="0" y="121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4" y="87"/>
                  </a:lnTo>
                  <a:lnTo>
                    <a:pt x="8" y="75"/>
                  </a:lnTo>
                  <a:lnTo>
                    <a:pt x="12" y="64"/>
                  </a:lnTo>
                  <a:lnTo>
                    <a:pt x="15" y="55"/>
                  </a:lnTo>
                  <a:lnTo>
                    <a:pt x="19" y="46"/>
                  </a:lnTo>
                  <a:lnTo>
                    <a:pt x="23" y="39"/>
                  </a:lnTo>
                  <a:lnTo>
                    <a:pt x="27" y="32"/>
                  </a:lnTo>
                  <a:lnTo>
                    <a:pt x="32" y="26"/>
                  </a:lnTo>
                  <a:lnTo>
                    <a:pt x="36" y="20"/>
                  </a:lnTo>
                  <a:lnTo>
                    <a:pt x="41" y="15"/>
                  </a:lnTo>
                  <a:lnTo>
                    <a:pt x="46" y="11"/>
                  </a:lnTo>
                  <a:lnTo>
                    <a:pt x="52" y="7"/>
                  </a:lnTo>
                  <a:lnTo>
                    <a:pt x="57" y="5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2" y="2"/>
                  </a:lnTo>
                  <a:close/>
                  <a:moveTo>
                    <a:pt x="117" y="203"/>
                  </a:moveTo>
                  <a:lnTo>
                    <a:pt x="120" y="205"/>
                  </a:lnTo>
                  <a:lnTo>
                    <a:pt x="123" y="206"/>
                  </a:lnTo>
                  <a:lnTo>
                    <a:pt x="126" y="207"/>
                  </a:lnTo>
                  <a:lnTo>
                    <a:pt x="129" y="208"/>
                  </a:lnTo>
                  <a:lnTo>
                    <a:pt x="133" y="208"/>
                  </a:lnTo>
                  <a:lnTo>
                    <a:pt x="136" y="208"/>
                  </a:lnTo>
                  <a:lnTo>
                    <a:pt x="139" y="208"/>
                  </a:lnTo>
                  <a:lnTo>
                    <a:pt x="143" y="208"/>
                  </a:lnTo>
                  <a:lnTo>
                    <a:pt x="146" y="207"/>
                  </a:lnTo>
                  <a:lnTo>
                    <a:pt x="151" y="207"/>
                  </a:lnTo>
                  <a:lnTo>
                    <a:pt x="154" y="206"/>
                  </a:lnTo>
                  <a:lnTo>
                    <a:pt x="157" y="203"/>
                  </a:lnTo>
                  <a:lnTo>
                    <a:pt x="160" y="202"/>
                  </a:lnTo>
                  <a:lnTo>
                    <a:pt x="163" y="200"/>
                  </a:lnTo>
                  <a:lnTo>
                    <a:pt x="166" y="197"/>
                  </a:lnTo>
                  <a:lnTo>
                    <a:pt x="169" y="195"/>
                  </a:lnTo>
                  <a:lnTo>
                    <a:pt x="172" y="192"/>
                  </a:lnTo>
                  <a:lnTo>
                    <a:pt x="174" y="188"/>
                  </a:lnTo>
                  <a:lnTo>
                    <a:pt x="177" y="185"/>
                  </a:lnTo>
                  <a:lnTo>
                    <a:pt x="179" y="182"/>
                  </a:lnTo>
                  <a:lnTo>
                    <a:pt x="181" y="178"/>
                  </a:lnTo>
                  <a:lnTo>
                    <a:pt x="183" y="175"/>
                  </a:lnTo>
                  <a:lnTo>
                    <a:pt x="185" y="171"/>
                  </a:lnTo>
                  <a:lnTo>
                    <a:pt x="186" y="167"/>
                  </a:lnTo>
                  <a:lnTo>
                    <a:pt x="188" y="161"/>
                  </a:lnTo>
                  <a:lnTo>
                    <a:pt x="190" y="155"/>
                  </a:lnTo>
                  <a:lnTo>
                    <a:pt x="191" y="148"/>
                  </a:lnTo>
                  <a:lnTo>
                    <a:pt x="191" y="142"/>
                  </a:lnTo>
                  <a:lnTo>
                    <a:pt x="192" y="137"/>
                  </a:lnTo>
                  <a:lnTo>
                    <a:pt x="191" y="131"/>
                  </a:lnTo>
                  <a:lnTo>
                    <a:pt x="191" y="125"/>
                  </a:lnTo>
                  <a:lnTo>
                    <a:pt x="189" y="118"/>
                  </a:lnTo>
                  <a:lnTo>
                    <a:pt x="188" y="113"/>
                  </a:lnTo>
                  <a:lnTo>
                    <a:pt x="186" y="107"/>
                  </a:lnTo>
                  <a:lnTo>
                    <a:pt x="183" y="102"/>
                  </a:lnTo>
                  <a:lnTo>
                    <a:pt x="180" y="97"/>
                  </a:lnTo>
                  <a:lnTo>
                    <a:pt x="177" y="93"/>
                  </a:lnTo>
                  <a:lnTo>
                    <a:pt x="173" y="90"/>
                  </a:lnTo>
                  <a:lnTo>
                    <a:pt x="168" y="86"/>
                  </a:lnTo>
                  <a:lnTo>
                    <a:pt x="164" y="83"/>
                  </a:lnTo>
                  <a:lnTo>
                    <a:pt x="159" y="81"/>
                  </a:lnTo>
                  <a:lnTo>
                    <a:pt x="154" y="79"/>
                  </a:lnTo>
                  <a:lnTo>
                    <a:pt x="148" y="77"/>
                  </a:lnTo>
                  <a:lnTo>
                    <a:pt x="143" y="77"/>
                  </a:lnTo>
                  <a:lnTo>
                    <a:pt x="139" y="77"/>
                  </a:lnTo>
                  <a:lnTo>
                    <a:pt x="134" y="79"/>
                  </a:lnTo>
                  <a:lnTo>
                    <a:pt x="130" y="80"/>
                  </a:lnTo>
                  <a:lnTo>
                    <a:pt x="125" y="82"/>
                  </a:lnTo>
                  <a:lnTo>
                    <a:pt x="121" y="86"/>
                  </a:lnTo>
                  <a:lnTo>
                    <a:pt x="117" y="88"/>
                  </a:lnTo>
                  <a:lnTo>
                    <a:pt x="113" y="92"/>
                  </a:lnTo>
                  <a:lnTo>
                    <a:pt x="110" y="97"/>
                  </a:lnTo>
                  <a:lnTo>
                    <a:pt x="107" y="102"/>
                  </a:lnTo>
                  <a:lnTo>
                    <a:pt x="104" y="107"/>
                  </a:lnTo>
                  <a:lnTo>
                    <a:pt x="101" y="112"/>
                  </a:lnTo>
                  <a:lnTo>
                    <a:pt x="99" y="118"/>
                  </a:lnTo>
                  <a:lnTo>
                    <a:pt x="96" y="125"/>
                  </a:lnTo>
                  <a:lnTo>
                    <a:pt x="95" y="132"/>
                  </a:lnTo>
                  <a:lnTo>
                    <a:pt x="93" y="138"/>
                  </a:lnTo>
                  <a:lnTo>
                    <a:pt x="93" y="145"/>
                  </a:lnTo>
                  <a:lnTo>
                    <a:pt x="92" y="151"/>
                  </a:lnTo>
                  <a:lnTo>
                    <a:pt x="92" y="157"/>
                  </a:lnTo>
                  <a:lnTo>
                    <a:pt x="93" y="162"/>
                  </a:lnTo>
                  <a:lnTo>
                    <a:pt x="94" y="168"/>
                  </a:lnTo>
                  <a:lnTo>
                    <a:pt x="95" y="175"/>
                  </a:lnTo>
                  <a:lnTo>
                    <a:pt x="97" y="180"/>
                  </a:lnTo>
                  <a:lnTo>
                    <a:pt x="99" y="185"/>
                  </a:lnTo>
                  <a:lnTo>
                    <a:pt x="102" y="190"/>
                  </a:lnTo>
                  <a:lnTo>
                    <a:pt x="105" y="193"/>
                  </a:lnTo>
                  <a:lnTo>
                    <a:pt x="109" y="197"/>
                  </a:lnTo>
                  <a:lnTo>
                    <a:pt x="113" y="201"/>
                  </a:lnTo>
                  <a:lnTo>
                    <a:pt x="117" y="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2200" y="3460680"/>
              <a:ext cx="125280" cy="100080"/>
            </a:xfrm>
            <a:custGeom>
              <a:avLst/>
              <a:gdLst/>
              <a:ahLst/>
              <a:rect l="l" t="t" r="r" b="b"/>
              <a:pathLst>
                <a:path w="237" h="255">
                  <a:moveTo>
                    <a:pt x="222" y="255"/>
                  </a:moveTo>
                  <a:lnTo>
                    <a:pt x="0" y="200"/>
                  </a:lnTo>
                  <a:lnTo>
                    <a:pt x="16" y="169"/>
                  </a:lnTo>
                  <a:lnTo>
                    <a:pt x="175" y="214"/>
                  </a:lnTo>
                  <a:lnTo>
                    <a:pt x="180" y="215"/>
                  </a:lnTo>
                  <a:lnTo>
                    <a:pt x="185" y="216"/>
                  </a:lnTo>
                  <a:lnTo>
                    <a:pt x="189" y="217"/>
                  </a:lnTo>
                  <a:lnTo>
                    <a:pt x="193" y="220"/>
                  </a:lnTo>
                  <a:lnTo>
                    <a:pt x="198" y="221"/>
                  </a:lnTo>
                  <a:lnTo>
                    <a:pt x="202" y="222"/>
                  </a:lnTo>
                  <a:lnTo>
                    <a:pt x="206" y="224"/>
                  </a:lnTo>
                  <a:lnTo>
                    <a:pt x="210" y="225"/>
                  </a:lnTo>
                  <a:lnTo>
                    <a:pt x="207" y="221"/>
                  </a:lnTo>
                  <a:lnTo>
                    <a:pt x="204" y="217"/>
                  </a:lnTo>
                  <a:lnTo>
                    <a:pt x="201" y="212"/>
                  </a:lnTo>
                  <a:lnTo>
                    <a:pt x="198" y="209"/>
                  </a:lnTo>
                  <a:lnTo>
                    <a:pt x="196" y="204"/>
                  </a:lnTo>
                  <a:lnTo>
                    <a:pt x="193" y="200"/>
                  </a:lnTo>
                  <a:lnTo>
                    <a:pt x="190" y="195"/>
                  </a:lnTo>
                  <a:lnTo>
                    <a:pt x="187" y="191"/>
                  </a:lnTo>
                  <a:lnTo>
                    <a:pt x="88" y="30"/>
                  </a:lnTo>
                  <a:lnTo>
                    <a:pt x="105" y="0"/>
                  </a:lnTo>
                  <a:lnTo>
                    <a:pt x="237" y="226"/>
                  </a:lnTo>
                  <a:lnTo>
                    <a:pt x="222" y="2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60880" y="3443400"/>
              <a:ext cx="101520" cy="64800"/>
            </a:xfrm>
            <a:custGeom>
              <a:avLst/>
              <a:gdLst/>
              <a:ahLst/>
              <a:rect l="l" t="t" r="r" b="b"/>
              <a:pathLst>
                <a:path w="190" h="165">
                  <a:moveTo>
                    <a:pt x="24" y="46"/>
                  </a:moveTo>
                  <a:lnTo>
                    <a:pt x="0" y="26"/>
                  </a:lnTo>
                  <a:lnTo>
                    <a:pt x="13" y="0"/>
                  </a:lnTo>
                  <a:lnTo>
                    <a:pt x="38" y="18"/>
                  </a:lnTo>
                  <a:lnTo>
                    <a:pt x="24" y="46"/>
                  </a:lnTo>
                  <a:close/>
                  <a:moveTo>
                    <a:pt x="176" y="165"/>
                  </a:moveTo>
                  <a:lnTo>
                    <a:pt x="48" y="64"/>
                  </a:lnTo>
                  <a:lnTo>
                    <a:pt x="62" y="37"/>
                  </a:lnTo>
                  <a:lnTo>
                    <a:pt x="190" y="139"/>
                  </a:lnTo>
                  <a:lnTo>
                    <a:pt x="17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13080" y="3397320"/>
              <a:ext cx="98640" cy="81000"/>
            </a:xfrm>
            <a:custGeom>
              <a:avLst/>
              <a:gdLst/>
              <a:ahLst/>
              <a:rect l="l" t="t" r="r" b="b"/>
              <a:pathLst>
                <a:path w="184" h="202">
                  <a:moveTo>
                    <a:pt x="150" y="96"/>
                  </a:moveTo>
                  <a:lnTo>
                    <a:pt x="151" y="102"/>
                  </a:lnTo>
                  <a:lnTo>
                    <a:pt x="151" y="107"/>
                  </a:lnTo>
                  <a:lnTo>
                    <a:pt x="151" y="112"/>
                  </a:lnTo>
                  <a:lnTo>
                    <a:pt x="151" y="117"/>
                  </a:lnTo>
                  <a:lnTo>
                    <a:pt x="151" y="122"/>
                  </a:lnTo>
                  <a:lnTo>
                    <a:pt x="151" y="127"/>
                  </a:lnTo>
                  <a:lnTo>
                    <a:pt x="150" y="132"/>
                  </a:lnTo>
                  <a:lnTo>
                    <a:pt x="150" y="136"/>
                  </a:lnTo>
                  <a:lnTo>
                    <a:pt x="149" y="140"/>
                  </a:lnTo>
                  <a:lnTo>
                    <a:pt x="148" y="145"/>
                  </a:lnTo>
                  <a:lnTo>
                    <a:pt x="147" y="148"/>
                  </a:lnTo>
                  <a:lnTo>
                    <a:pt x="145" y="153"/>
                  </a:lnTo>
                  <a:lnTo>
                    <a:pt x="144" y="157"/>
                  </a:lnTo>
                  <a:lnTo>
                    <a:pt x="142" y="161"/>
                  </a:lnTo>
                  <a:lnTo>
                    <a:pt x="141" y="165"/>
                  </a:lnTo>
                  <a:lnTo>
                    <a:pt x="139" y="168"/>
                  </a:lnTo>
                  <a:lnTo>
                    <a:pt x="135" y="175"/>
                  </a:lnTo>
                  <a:lnTo>
                    <a:pt x="132" y="181"/>
                  </a:lnTo>
                  <a:lnTo>
                    <a:pt x="128" y="186"/>
                  </a:lnTo>
                  <a:lnTo>
                    <a:pt x="124" y="190"/>
                  </a:lnTo>
                  <a:lnTo>
                    <a:pt x="120" y="193"/>
                  </a:lnTo>
                  <a:lnTo>
                    <a:pt x="116" y="197"/>
                  </a:lnTo>
                  <a:lnTo>
                    <a:pt x="112" y="200"/>
                  </a:lnTo>
                  <a:lnTo>
                    <a:pt x="108" y="201"/>
                  </a:lnTo>
                  <a:lnTo>
                    <a:pt x="103" y="202"/>
                  </a:lnTo>
                  <a:lnTo>
                    <a:pt x="98" y="202"/>
                  </a:lnTo>
                  <a:lnTo>
                    <a:pt x="94" y="202"/>
                  </a:lnTo>
                  <a:lnTo>
                    <a:pt x="90" y="202"/>
                  </a:lnTo>
                  <a:lnTo>
                    <a:pt x="86" y="201"/>
                  </a:lnTo>
                  <a:lnTo>
                    <a:pt x="82" y="200"/>
                  </a:lnTo>
                  <a:lnTo>
                    <a:pt x="78" y="197"/>
                  </a:lnTo>
                  <a:lnTo>
                    <a:pt x="74" y="195"/>
                  </a:lnTo>
                  <a:lnTo>
                    <a:pt x="71" y="192"/>
                  </a:lnTo>
                  <a:lnTo>
                    <a:pt x="69" y="190"/>
                  </a:lnTo>
                  <a:lnTo>
                    <a:pt x="67" y="188"/>
                  </a:lnTo>
                  <a:lnTo>
                    <a:pt x="66" y="186"/>
                  </a:lnTo>
                  <a:lnTo>
                    <a:pt x="64" y="183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9" y="175"/>
                  </a:lnTo>
                  <a:lnTo>
                    <a:pt x="58" y="172"/>
                  </a:lnTo>
                  <a:lnTo>
                    <a:pt x="57" y="170"/>
                  </a:lnTo>
                  <a:lnTo>
                    <a:pt x="56" y="167"/>
                  </a:lnTo>
                  <a:lnTo>
                    <a:pt x="56" y="163"/>
                  </a:lnTo>
                  <a:lnTo>
                    <a:pt x="55" y="161"/>
                  </a:lnTo>
                  <a:lnTo>
                    <a:pt x="55" y="157"/>
                  </a:lnTo>
                  <a:lnTo>
                    <a:pt x="54" y="155"/>
                  </a:lnTo>
                  <a:lnTo>
                    <a:pt x="54" y="151"/>
                  </a:lnTo>
                  <a:lnTo>
                    <a:pt x="54" y="148"/>
                  </a:lnTo>
                  <a:lnTo>
                    <a:pt x="54" y="146"/>
                  </a:lnTo>
                  <a:lnTo>
                    <a:pt x="54" y="142"/>
                  </a:lnTo>
                  <a:lnTo>
                    <a:pt x="55" y="140"/>
                  </a:lnTo>
                  <a:lnTo>
                    <a:pt x="55" y="136"/>
                  </a:lnTo>
                  <a:lnTo>
                    <a:pt x="56" y="133"/>
                  </a:lnTo>
                  <a:lnTo>
                    <a:pt x="56" y="130"/>
                  </a:lnTo>
                  <a:lnTo>
                    <a:pt x="57" y="127"/>
                  </a:lnTo>
                  <a:lnTo>
                    <a:pt x="58" y="125"/>
                  </a:lnTo>
                  <a:lnTo>
                    <a:pt x="58" y="121"/>
                  </a:lnTo>
                  <a:lnTo>
                    <a:pt x="59" y="119"/>
                  </a:lnTo>
                  <a:lnTo>
                    <a:pt x="60" y="116"/>
                  </a:lnTo>
                  <a:lnTo>
                    <a:pt x="62" y="112"/>
                  </a:lnTo>
                  <a:lnTo>
                    <a:pt x="63" y="109"/>
                  </a:lnTo>
                  <a:lnTo>
                    <a:pt x="64" y="105"/>
                  </a:lnTo>
                  <a:lnTo>
                    <a:pt x="66" y="100"/>
                  </a:lnTo>
                  <a:lnTo>
                    <a:pt x="69" y="92"/>
                  </a:lnTo>
                  <a:lnTo>
                    <a:pt x="72" y="84"/>
                  </a:lnTo>
                  <a:lnTo>
                    <a:pt x="75" y="76"/>
                  </a:lnTo>
                  <a:lnTo>
                    <a:pt x="77" y="70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2" y="51"/>
                  </a:lnTo>
                  <a:lnTo>
                    <a:pt x="83" y="46"/>
                  </a:lnTo>
                  <a:lnTo>
                    <a:pt x="82" y="46"/>
                  </a:lnTo>
                  <a:lnTo>
                    <a:pt x="81" y="45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79" y="44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4" y="40"/>
                  </a:lnTo>
                  <a:lnTo>
                    <a:pt x="71" y="37"/>
                  </a:lnTo>
                  <a:lnTo>
                    <a:pt x="68" y="36"/>
                  </a:lnTo>
                  <a:lnTo>
                    <a:pt x="65" y="35"/>
                  </a:lnTo>
                  <a:lnTo>
                    <a:pt x="63" y="34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49" y="37"/>
                  </a:lnTo>
                  <a:lnTo>
                    <a:pt x="46" y="40"/>
                  </a:lnTo>
                  <a:lnTo>
                    <a:pt x="43" y="44"/>
                  </a:lnTo>
                  <a:lnTo>
                    <a:pt x="40" y="46"/>
                  </a:lnTo>
                  <a:lnTo>
                    <a:pt x="38" y="50"/>
                  </a:lnTo>
                  <a:lnTo>
                    <a:pt x="34" y="55"/>
                  </a:lnTo>
                  <a:lnTo>
                    <a:pt x="31" y="60"/>
                  </a:lnTo>
                  <a:lnTo>
                    <a:pt x="29" y="64"/>
                  </a:lnTo>
                  <a:lnTo>
                    <a:pt x="27" y="69"/>
                  </a:lnTo>
                  <a:lnTo>
                    <a:pt x="25" y="72"/>
                  </a:lnTo>
                  <a:lnTo>
                    <a:pt x="24" y="77"/>
                  </a:lnTo>
                  <a:lnTo>
                    <a:pt x="23" y="81"/>
                  </a:lnTo>
                  <a:lnTo>
                    <a:pt x="23" y="85"/>
                  </a:lnTo>
                  <a:lnTo>
                    <a:pt x="22" y="89"/>
                  </a:lnTo>
                  <a:lnTo>
                    <a:pt x="22" y="91"/>
                  </a:lnTo>
                  <a:lnTo>
                    <a:pt x="23" y="95"/>
                  </a:lnTo>
                  <a:lnTo>
                    <a:pt x="23" y="99"/>
                  </a:lnTo>
                  <a:lnTo>
                    <a:pt x="24" y="102"/>
                  </a:lnTo>
                  <a:lnTo>
                    <a:pt x="26" y="105"/>
                  </a:lnTo>
                  <a:lnTo>
                    <a:pt x="27" y="109"/>
                  </a:lnTo>
                  <a:lnTo>
                    <a:pt x="29" y="112"/>
                  </a:lnTo>
                  <a:lnTo>
                    <a:pt x="32" y="116"/>
                  </a:lnTo>
                  <a:lnTo>
                    <a:pt x="34" y="120"/>
                  </a:lnTo>
                  <a:lnTo>
                    <a:pt x="18" y="143"/>
                  </a:lnTo>
                  <a:lnTo>
                    <a:pt x="15" y="140"/>
                  </a:lnTo>
                  <a:lnTo>
                    <a:pt x="13" y="137"/>
                  </a:lnTo>
                  <a:lnTo>
                    <a:pt x="10" y="133"/>
                  </a:lnTo>
                  <a:lnTo>
                    <a:pt x="8" y="130"/>
                  </a:lnTo>
                  <a:lnTo>
                    <a:pt x="6" y="126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2" y="115"/>
                  </a:lnTo>
                  <a:lnTo>
                    <a:pt x="1" y="111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2" y="81"/>
                  </a:lnTo>
                  <a:lnTo>
                    <a:pt x="3" y="76"/>
                  </a:lnTo>
                  <a:lnTo>
                    <a:pt x="4" y="71"/>
                  </a:lnTo>
                  <a:lnTo>
                    <a:pt x="5" y="66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11" y="51"/>
                  </a:lnTo>
                  <a:lnTo>
                    <a:pt x="13" y="46"/>
                  </a:lnTo>
                  <a:lnTo>
                    <a:pt x="15" y="41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3" y="27"/>
                  </a:lnTo>
                  <a:lnTo>
                    <a:pt x="26" y="24"/>
                  </a:lnTo>
                  <a:lnTo>
                    <a:pt x="28" y="20"/>
                  </a:lnTo>
                  <a:lnTo>
                    <a:pt x="31" y="17"/>
                  </a:lnTo>
                  <a:lnTo>
                    <a:pt x="34" y="14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9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7" y="5"/>
                  </a:lnTo>
                  <a:lnTo>
                    <a:pt x="79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4"/>
                  </a:lnTo>
                  <a:lnTo>
                    <a:pt x="92" y="16"/>
                  </a:lnTo>
                  <a:lnTo>
                    <a:pt x="96" y="19"/>
                  </a:lnTo>
                  <a:lnTo>
                    <a:pt x="125" y="41"/>
                  </a:lnTo>
                  <a:lnTo>
                    <a:pt x="132" y="47"/>
                  </a:lnTo>
                  <a:lnTo>
                    <a:pt x="139" y="52"/>
                  </a:lnTo>
                  <a:lnTo>
                    <a:pt x="145" y="56"/>
                  </a:lnTo>
                  <a:lnTo>
                    <a:pt x="150" y="60"/>
                  </a:lnTo>
                  <a:lnTo>
                    <a:pt x="154" y="64"/>
                  </a:lnTo>
                  <a:lnTo>
                    <a:pt x="158" y="66"/>
                  </a:lnTo>
                  <a:lnTo>
                    <a:pt x="162" y="69"/>
                  </a:lnTo>
                  <a:lnTo>
                    <a:pt x="164" y="70"/>
                  </a:lnTo>
                  <a:lnTo>
                    <a:pt x="166" y="71"/>
                  </a:lnTo>
                  <a:lnTo>
                    <a:pt x="169" y="72"/>
                  </a:lnTo>
                  <a:lnTo>
                    <a:pt x="171" y="72"/>
                  </a:lnTo>
                  <a:lnTo>
                    <a:pt x="173" y="74"/>
                  </a:lnTo>
                  <a:lnTo>
                    <a:pt x="175" y="74"/>
                  </a:lnTo>
                  <a:lnTo>
                    <a:pt x="178" y="75"/>
                  </a:lnTo>
                  <a:lnTo>
                    <a:pt x="181" y="75"/>
                  </a:lnTo>
                  <a:lnTo>
                    <a:pt x="184" y="75"/>
                  </a:lnTo>
                  <a:lnTo>
                    <a:pt x="168" y="104"/>
                  </a:lnTo>
                  <a:lnTo>
                    <a:pt x="166" y="102"/>
                  </a:lnTo>
                  <a:lnTo>
                    <a:pt x="164" y="102"/>
                  </a:lnTo>
                  <a:lnTo>
                    <a:pt x="162" y="101"/>
                  </a:lnTo>
                  <a:lnTo>
                    <a:pt x="159" y="101"/>
                  </a:lnTo>
                  <a:lnTo>
                    <a:pt x="157" y="100"/>
                  </a:lnTo>
                  <a:lnTo>
                    <a:pt x="155" y="99"/>
                  </a:lnTo>
                  <a:lnTo>
                    <a:pt x="152" y="97"/>
                  </a:lnTo>
                  <a:lnTo>
                    <a:pt x="150" y="96"/>
                  </a:lnTo>
                  <a:close/>
                  <a:moveTo>
                    <a:pt x="100" y="60"/>
                  </a:moveTo>
                  <a:lnTo>
                    <a:pt x="99" y="65"/>
                  </a:lnTo>
                  <a:lnTo>
                    <a:pt x="98" y="70"/>
                  </a:lnTo>
                  <a:lnTo>
                    <a:pt x="97" y="76"/>
                  </a:lnTo>
                  <a:lnTo>
                    <a:pt x="95" y="82"/>
                  </a:lnTo>
                  <a:lnTo>
                    <a:pt x="93" y="89"/>
                  </a:lnTo>
                  <a:lnTo>
                    <a:pt x="91" y="95"/>
                  </a:lnTo>
                  <a:lnTo>
                    <a:pt x="88" y="102"/>
                  </a:lnTo>
                  <a:lnTo>
                    <a:pt x="86" y="110"/>
                  </a:lnTo>
                  <a:lnTo>
                    <a:pt x="84" y="115"/>
                  </a:lnTo>
                  <a:lnTo>
                    <a:pt x="83" y="119"/>
                  </a:lnTo>
                  <a:lnTo>
                    <a:pt x="81" y="122"/>
                  </a:lnTo>
                  <a:lnTo>
                    <a:pt x="80" y="126"/>
                  </a:lnTo>
                  <a:lnTo>
                    <a:pt x="80" y="130"/>
                  </a:lnTo>
                  <a:lnTo>
                    <a:pt x="79" y="132"/>
                  </a:lnTo>
                  <a:lnTo>
                    <a:pt x="78" y="135"/>
                  </a:lnTo>
                  <a:lnTo>
                    <a:pt x="78" y="137"/>
                  </a:lnTo>
                  <a:lnTo>
                    <a:pt x="78" y="140"/>
                  </a:lnTo>
                  <a:lnTo>
                    <a:pt x="78" y="141"/>
                  </a:lnTo>
                  <a:lnTo>
                    <a:pt x="78" y="143"/>
                  </a:lnTo>
                  <a:lnTo>
                    <a:pt x="78" y="146"/>
                  </a:lnTo>
                  <a:lnTo>
                    <a:pt x="78" y="147"/>
                  </a:lnTo>
                  <a:lnTo>
                    <a:pt x="78" y="150"/>
                  </a:lnTo>
                  <a:lnTo>
                    <a:pt x="79" y="151"/>
                  </a:lnTo>
                  <a:lnTo>
                    <a:pt x="79" y="153"/>
                  </a:lnTo>
                  <a:lnTo>
                    <a:pt x="80" y="155"/>
                  </a:lnTo>
                  <a:lnTo>
                    <a:pt x="81" y="157"/>
                  </a:lnTo>
                  <a:lnTo>
                    <a:pt x="82" y="158"/>
                  </a:lnTo>
                  <a:lnTo>
                    <a:pt x="83" y="160"/>
                  </a:lnTo>
                  <a:lnTo>
                    <a:pt x="84" y="161"/>
                  </a:lnTo>
                  <a:lnTo>
                    <a:pt x="85" y="162"/>
                  </a:lnTo>
                  <a:lnTo>
                    <a:pt x="86" y="163"/>
                  </a:lnTo>
                  <a:lnTo>
                    <a:pt x="88" y="165"/>
                  </a:lnTo>
                  <a:lnTo>
                    <a:pt x="90" y="167"/>
                  </a:lnTo>
                  <a:lnTo>
                    <a:pt x="92" y="167"/>
                  </a:lnTo>
                  <a:lnTo>
                    <a:pt x="94" y="168"/>
                  </a:lnTo>
                  <a:lnTo>
                    <a:pt x="97" y="170"/>
                  </a:lnTo>
                  <a:lnTo>
                    <a:pt x="99" y="170"/>
                  </a:lnTo>
                  <a:lnTo>
                    <a:pt x="101" y="170"/>
                  </a:lnTo>
                  <a:lnTo>
                    <a:pt x="104" y="168"/>
                  </a:lnTo>
                  <a:lnTo>
                    <a:pt x="106" y="168"/>
                  </a:lnTo>
                  <a:lnTo>
                    <a:pt x="110" y="167"/>
                  </a:lnTo>
                  <a:lnTo>
                    <a:pt x="112" y="166"/>
                  </a:lnTo>
                  <a:lnTo>
                    <a:pt x="114" y="163"/>
                  </a:lnTo>
                  <a:lnTo>
                    <a:pt x="117" y="162"/>
                  </a:lnTo>
                  <a:lnTo>
                    <a:pt x="119" y="160"/>
                  </a:lnTo>
                  <a:lnTo>
                    <a:pt x="121" y="156"/>
                  </a:lnTo>
                  <a:lnTo>
                    <a:pt x="123" y="153"/>
                  </a:lnTo>
                  <a:lnTo>
                    <a:pt x="125" y="150"/>
                  </a:lnTo>
                  <a:lnTo>
                    <a:pt x="127" y="145"/>
                  </a:lnTo>
                  <a:lnTo>
                    <a:pt x="129" y="141"/>
                  </a:lnTo>
                  <a:lnTo>
                    <a:pt x="130" y="137"/>
                  </a:lnTo>
                  <a:lnTo>
                    <a:pt x="131" y="133"/>
                  </a:lnTo>
                  <a:lnTo>
                    <a:pt x="132" y="130"/>
                  </a:lnTo>
                  <a:lnTo>
                    <a:pt x="133" y="126"/>
                  </a:lnTo>
                  <a:lnTo>
                    <a:pt x="134" y="121"/>
                  </a:lnTo>
                  <a:lnTo>
                    <a:pt x="134" y="117"/>
                  </a:lnTo>
                  <a:lnTo>
                    <a:pt x="134" y="114"/>
                  </a:lnTo>
                  <a:lnTo>
                    <a:pt x="134" y="110"/>
                  </a:lnTo>
                  <a:lnTo>
                    <a:pt x="133" y="106"/>
                  </a:lnTo>
                  <a:lnTo>
                    <a:pt x="133" y="102"/>
                  </a:lnTo>
                  <a:lnTo>
                    <a:pt x="132" y="99"/>
                  </a:lnTo>
                  <a:lnTo>
                    <a:pt x="131" y="95"/>
                  </a:lnTo>
                  <a:lnTo>
                    <a:pt x="130" y="91"/>
                  </a:lnTo>
                  <a:lnTo>
                    <a:pt x="128" y="87"/>
                  </a:lnTo>
                  <a:lnTo>
                    <a:pt x="127" y="85"/>
                  </a:lnTo>
                  <a:lnTo>
                    <a:pt x="125" y="82"/>
                  </a:lnTo>
                  <a:lnTo>
                    <a:pt x="123" y="80"/>
                  </a:lnTo>
                  <a:lnTo>
                    <a:pt x="121" y="77"/>
                  </a:lnTo>
                  <a:lnTo>
                    <a:pt x="118" y="75"/>
                  </a:lnTo>
                  <a:lnTo>
                    <a:pt x="115" y="72"/>
                  </a:lnTo>
                  <a:lnTo>
                    <a:pt x="112" y="69"/>
                  </a:lnTo>
                  <a:lnTo>
                    <a:pt x="109" y="66"/>
                  </a:lnTo>
                  <a:lnTo>
                    <a:pt x="10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65640" y="3265560"/>
              <a:ext cx="112680" cy="100080"/>
            </a:xfrm>
            <a:custGeom>
              <a:avLst/>
              <a:gdLst/>
              <a:ahLst/>
              <a:rect l="l" t="t" r="r" b="b"/>
              <a:pathLst>
                <a:path w="215" h="252">
                  <a:moveTo>
                    <a:pt x="167" y="82"/>
                  </a:moveTo>
                  <a:lnTo>
                    <a:pt x="188" y="58"/>
                  </a:lnTo>
                  <a:lnTo>
                    <a:pt x="193" y="66"/>
                  </a:lnTo>
                  <a:lnTo>
                    <a:pt x="198" y="74"/>
                  </a:lnTo>
                  <a:lnTo>
                    <a:pt x="203" y="83"/>
                  </a:lnTo>
                  <a:lnTo>
                    <a:pt x="206" y="91"/>
                  </a:lnTo>
                  <a:lnTo>
                    <a:pt x="209" y="99"/>
                  </a:lnTo>
                  <a:lnTo>
                    <a:pt x="212" y="108"/>
                  </a:lnTo>
                  <a:lnTo>
                    <a:pt x="214" y="117"/>
                  </a:lnTo>
                  <a:lnTo>
                    <a:pt x="215" y="126"/>
                  </a:lnTo>
                  <a:lnTo>
                    <a:pt x="215" y="134"/>
                  </a:lnTo>
                  <a:lnTo>
                    <a:pt x="215" y="143"/>
                  </a:lnTo>
                  <a:lnTo>
                    <a:pt x="214" y="152"/>
                  </a:lnTo>
                  <a:lnTo>
                    <a:pt x="212" y="161"/>
                  </a:lnTo>
                  <a:lnTo>
                    <a:pt x="210" y="169"/>
                  </a:lnTo>
                  <a:lnTo>
                    <a:pt x="207" y="178"/>
                  </a:lnTo>
                  <a:lnTo>
                    <a:pt x="204" y="187"/>
                  </a:lnTo>
                  <a:lnTo>
                    <a:pt x="200" y="195"/>
                  </a:lnTo>
                  <a:lnTo>
                    <a:pt x="195" y="204"/>
                  </a:lnTo>
                  <a:lnTo>
                    <a:pt x="191" y="212"/>
                  </a:lnTo>
                  <a:lnTo>
                    <a:pt x="186" y="218"/>
                  </a:lnTo>
                  <a:lnTo>
                    <a:pt x="181" y="225"/>
                  </a:lnTo>
                  <a:lnTo>
                    <a:pt x="176" y="230"/>
                  </a:lnTo>
                  <a:lnTo>
                    <a:pt x="170" y="235"/>
                  </a:lnTo>
                  <a:lnTo>
                    <a:pt x="165" y="240"/>
                  </a:lnTo>
                  <a:lnTo>
                    <a:pt x="159" y="243"/>
                  </a:lnTo>
                  <a:lnTo>
                    <a:pt x="152" y="247"/>
                  </a:lnTo>
                  <a:lnTo>
                    <a:pt x="146" y="249"/>
                  </a:lnTo>
                  <a:lnTo>
                    <a:pt x="140" y="250"/>
                  </a:lnTo>
                  <a:lnTo>
                    <a:pt x="134" y="252"/>
                  </a:lnTo>
                  <a:lnTo>
                    <a:pt x="128" y="252"/>
                  </a:lnTo>
                  <a:lnTo>
                    <a:pt x="121" y="252"/>
                  </a:lnTo>
                  <a:lnTo>
                    <a:pt x="114" y="252"/>
                  </a:lnTo>
                  <a:lnTo>
                    <a:pt x="108" y="250"/>
                  </a:lnTo>
                  <a:lnTo>
                    <a:pt x="101" y="249"/>
                  </a:lnTo>
                  <a:lnTo>
                    <a:pt x="94" y="247"/>
                  </a:lnTo>
                  <a:lnTo>
                    <a:pt x="87" y="244"/>
                  </a:lnTo>
                  <a:lnTo>
                    <a:pt x="79" y="242"/>
                  </a:lnTo>
                  <a:lnTo>
                    <a:pt x="73" y="238"/>
                  </a:lnTo>
                  <a:lnTo>
                    <a:pt x="66" y="234"/>
                  </a:lnTo>
                  <a:lnTo>
                    <a:pt x="60" y="229"/>
                  </a:lnTo>
                  <a:lnTo>
                    <a:pt x="54" y="224"/>
                  </a:lnTo>
                  <a:lnTo>
                    <a:pt x="47" y="219"/>
                  </a:lnTo>
                  <a:lnTo>
                    <a:pt x="41" y="213"/>
                  </a:lnTo>
                  <a:lnTo>
                    <a:pt x="35" y="207"/>
                  </a:lnTo>
                  <a:lnTo>
                    <a:pt x="30" y="200"/>
                  </a:lnTo>
                  <a:lnTo>
                    <a:pt x="25" y="194"/>
                  </a:lnTo>
                  <a:lnTo>
                    <a:pt x="20" y="188"/>
                  </a:lnTo>
                  <a:lnTo>
                    <a:pt x="16" y="180"/>
                  </a:lnTo>
                  <a:lnTo>
                    <a:pt x="13" y="173"/>
                  </a:lnTo>
                  <a:lnTo>
                    <a:pt x="8" y="167"/>
                  </a:lnTo>
                  <a:lnTo>
                    <a:pt x="6" y="159"/>
                  </a:lnTo>
                  <a:lnTo>
                    <a:pt x="4" y="151"/>
                  </a:lnTo>
                  <a:lnTo>
                    <a:pt x="2" y="143"/>
                  </a:lnTo>
                  <a:lnTo>
                    <a:pt x="1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2"/>
                  </a:lnTo>
                  <a:lnTo>
                    <a:pt x="0" y="103"/>
                  </a:lnTo>
                  <a:lnTo>
                    <a:pt x="1" y="96"/>
                  </a:lnTo>
                  <a:lnTo>
                    <a:pt x="3" y="88"/>
                  </a:lnTo>
                  <a:lnTo>
                    <a:pt x="5" y="81"/>
                  </a:lnTo>
                  <a:lnTo>
                    <a:pt x="7" y="73"/>
                  </a:lnTo>
                  <a:lnTo>
                    <a:pt x="11" y="66"/>
                  </a:lnTo>
                  <a:lnTo>
                    <a:pt x="14" y="58"/>
                  </a:lnTo>
                  <a:lnTo>
                    <a:pt x="17" y="51"/>
                  </a:lnTo>
                  <a:lnTo>
                    <a:pt x="22" y="42"/>
                  </a:lnTo>
                  <a:lnTo>
                    <a:pt x="26" y="36"/>
                  </a:lnTo>
                  <a:lnTo>
                    <a:pt x="31" y="28"/>
                  </a:lnTo>
                  <a:lnTo>
                    <a:pt x="36" y="23"/>
                  </a:lnTo>
                  <a:lnTo>
                    <a:pt x="41" y="18"/>
                  </a:lnTo>
                  <a:lnTo>
                    <a:pt x="47" y="13"/>
                  </a:lnTo>
                  <a:lnTo>
                    <a:pt x="53" y="10"/>
                  </a:lnTo>
                  <a:lnTo>
                    <a:pt x="59" y="6"/>
                  </a:lnTo>
                  <a:lnTo>
                    <a:pt x="65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2"/>
                  </a:lnTo>
                  <a:lnTo>
                    <a:pt x="113" y="5"/>
                  </a:lnTo>
                  <a:lnTo>
                    <a:pt x="104" y="37"/>
                  </a:lnTo>
                  <a:lnTo>
                    <a:pt x="99" y="36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2" y="33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8" y="36"/>
                  </a:lnTo>
                  <a:lnTo>
                    <a:pt x="64" y="37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9" y="48"/>
                  </a:lnTo>
                  <a:lnTo>
                    <a:pt x="46" y="52"/>
                  </a:lnTo>
                  <a:lnTo>
                    <a:pt x="43" y="57"/>
                  </a:lnTo>
                  <a:lnTo>
                    <a:pt x="40" y="62"/>
                  </a:lnTo>
                  <a:lnTo>
                    <a:pt x="37" y="67"/>
                  </a:lnTo>
                  <a:lnTo>
                    <a:pt x="34" y="73"/>
                  </a:lnTo>
                  <a:lnTo>
                    <a:pt x="31" y="79"/>
                  </a:lnTo>
                  <a:lnTo>
                    <a:pt x="29" y="86"/>
                  </a:lnTo>
                  <a:lnTo>
                    <a:pt x="27" y="92"/>
                  </a:lnTo>
                  <a:lnTo>
                    <a:pt x="26" y="98"/>
                  </a:lnTo>
                  <a:lnTo>
                    <a:pt x="25" y="104"/>
                  </a:lnTo>
                  <a:lnTo>
                    <a:pt x="25" y="111"/>
                  </a:lnTo>
                  <a:lnTo>
                    <a:pt x="25" y="117"/>
                  </a:lnTo>
                  <a:lnTo>
                    <a:pt x="25" y="123"/>
                  </a:lnTo>
                  <a:lnTo>
                    <a:pt x="26" y="128"/>
                  </a:lnTo>
                  <a:lnTo>
                    <a:pt x="27" y="134"/>
                  </a:lnTo>
                  <a:lnTo>
                    <a:pt x="29" y="141"/>
                  </a:lnTo>
                  <a:lnTo>
                    <a:pt x="31" y="146"/>
                  </a:lnTo>
                  <a:lnTo>
                    <a:pt x="33" y="151"/>
                  </a:lnTo>
                  <a:lnTo>
                    <a:pt x="36" y="156"/>
                  </a:lnTo>
                  <a:lnTo>
                    <a:pt x="39" y="161"/>
                  </a:lnTo>
                  <a:lnTo>
                    <a:pt x="42" y="166"/>
                  </a:lnTo>
                  <a:lnTo>
                    <a:pt x="45" y="171"/>
                  </a:lnTo>
                  <a:lnTo>
                    <a:pt x="49" y="175"/>
                  </a:lnTo>
                  <a:lnTo>
                    <a:pt x="53" y="179"/>
                  </a:lnTo>
                  <a:lnTo>
                    <a:pt x="56" y="183"/>
                  </a:lnTo>
                  <a:lnTo>
                    <a:pt x="60" y="188"/>
                  </a:lnTo>
                  <a:lnTo>
                    <a:pt x="65" y="192"/>
                  </a:lnTo>
                  <a:lnTo>
                    <a:pt x="69" y="194"/>
                  </a:lnTo>
                  <a:lnTo>
                    <a:pt x="74" y="199"/>
                  </a:lnTo>
                  <a:lnTo>
                    <a:pt x="80" y="203"/>
                  </a:lnTo>
                  <a:lnTo>
                    <a:pt x="86" y="207"/>
                  </a:lnTo>
                  <a:lnTo>
                    <a:pt x="92" y="209"/>
                  </a:lnTo>
                  <a:lnTo>
                    <a:pt x="97" y="212"/>
                  </a:lnTo>
                  <a:lnTo>
                    <a:pt x="102" y="214"/>
                  </a:lnTo>
                  <a:lnTo>
                    <a:pt x="108" y="217"/>
                  </a:lnTo>
                  <a:lnTo>
                    <a:pt x="113" y="218"/>
                  </a:lnTo>
                  <a:lnTo>
                    <a:pt x="118" y="219"/>
                  </a:lnTo>
                  <a:lnTo>
                    <a:pt x="123" y="219"/>
                  </a:lnTo>
                  <a:lnTo>
                    <a:pt x="128" y="219"/>
                  </a:lnTo>
                  <a:lnTo>
                    <a:pt x="133" y="219"/>
                  </a:lnTo>
                  <a:lnTo>
                    <a:pt x="137" y="218"/>
                  </a:lnTo>
                  <a:lnTo>
                    <a:pt x="142" y="217"/>
                  </a:lnTo>
                  <a:lnTo>
                    <a:pt x="146" y="214"/>
                  </a:lnTo>
                  <a:lnTo>
                    <a:pt x="151" y="212"/>
                  </a:lnTo>
                  <a:lnTo>
                    <a:pt x="156" y="209"/>
                  </a:lnTo>
                  <a:lnTo>
                    <a:pt x="160" y="207"/>
                  </a:lnTo>
                  <a:lnTo>
                    <a:pt x="164" y="203"/>
                  </a:lnTo>
                  <a:lnTo>
                    <a:pt x="167" y="199"/>
                  </a:lnTo>
                  <a:lnTo>
                    <a:pt x="170" y="195"/>
                  </a:lnTo>
                  <a:lnTo>
                    <a:pt x="173" y="192"/>
                  </a:lnTo>
                  <a:lnTo>
                    <a:pt x="176" y="187"/>
                  </a:lnTo>
                  <a:lnTo>
                    <a:pt x="179" y="182"/>
                  </a:lnTo>
                  <a:lnTo>
                    <a:pt x="182" y="175"/>
                  </a:lnTo>
                  <a:lnTo>
                    <a:pt x="184" y="169"/>
                  </a:lnTo>
                  <a:lnTo>
                    <a:pt x="186" y="163"/>
                  </a:lnTo>
                  <a:lnTo>
                    <a:pt x="188" y="157"/>
                  </a:lnTo>
                  <a:lnTo>
                    <a:pt x="189" y="151"/>
                  </a:lnTo>
                  <a:lnTo>
                    <a:pt x="189" y="144"/>
                  </a:lnTo>
                  <a:lnTo>
                    <a:pt x="189" y="138"/>
                  </a:lnTo>
                  <a:lnTo>
                    <a:pt x="189" y="132"/>
                  </a:lnTo>
                  <a:lnTo>
                    <a:pt x="188" y="126"/>
                  </a:lnTo>
                  <a:lnTo>
                    <a:pt x="186" y="119"/>
                  </a:lnTo>
                  <a:lnTo>
                    <a:pt x="185" y="113"/>
                  </a:lnTo>
                  <a:lnTo>
                    <a:pt x="182" y="107"/>
                  </a:lnTo>
                  <a:lnTo>
                    <a:pt x="179" y="101"/>
                  </a:lnTo>
                  <a:lnTo>
                    <a:pt x="176" y="94"/>
                  </a:lnTo>
                  <a:lnTo>
                    <a:pt x="172" y="88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5760" y="3174840"/>
              <a:ext cx="114480" cy="101880"/>
            </a:xfrm>
            <a:custGeom>
              <a:avLst/>
              <a:gdLst/>
              <a:ahLst/>
              <a:rect l="l" t="t" r="r" b="b"/>
              <a:pathLst>
                <a:path w="217" h="258">
                  <a:moveTo>
                    <a:pt x="57" y="236"/>
                  </a:moveTo>
                  <a:lnTo>
                    <a:pt x="47" y="227"/>
                  </a:lnTo>
                  <a:lnTo>
                    <a:pt x="36" y="217"/>
                  </a:lnTo>
                  <a:lnTo>
                    <a:pt x="28" y="207"/>
                  </a:lnTo>
                  <a:lnTo>
                    <a:pt x="21" y="197"/>
                  </a:lnTo>
                  <a:lnTo>
                    <a:pt x="15" y="187"/>
                  </a:lnTo>
                  <a:lnTo>
                    <a:pt x="10" y="176"/>
                  </a:lnTo>
                  <a:lnTo>
                    <a:pt x="6" y="165"/>
                  </a:lnTo>
                  <a:lnTo>
                    <a:pt x="3" y="152"/>
                  </a:lnTo>
                  <a:lnTo>
                    <a:pt x="1" y="140"/>
                  </a:lnTo>
                  <a:lnTo>
                    <a:pt x="0" y="127"/>
                  </a:lnTo>
                  <a:lnTo>
                    <a:pt x="0" y="116"/>
                  </a:lnTo>
                  <a:lnTo>
                    <a:pt x="1" y="104"/>
                  </a:lnTo>
                  <a:lnTo>
                    <a:pt x="4" y="93"/>
                  </a:lnTo>
                  <a:lnTo>
                    <a:pt x="7" y="80"/>
                  </a:lnTo>
                  <a:lnTo>
                    <a:pt x="11" y="69"/>
                  </a:lnTo>
                  <a:lnTo>
                    <a:pt x="17" y="58"/>
                  </a:lnTo>
                  <a:lnTo>
                    <a:pt x="21" y="50"/>
                  </a:lnTo>
                  <a:lnTo>
                    <a:pt x="25" y="43"/>
                  </a:lnTo>
                  <a:lnTo>
                    <a:pt x="29" y="36"/>
                  </a:lnTo>
                  <a:lnTo>
                    <a:pt x="34" y="31"/>
                  </a:lnTo>
                  <a:lnTo>
                    <a:pt x="39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5"/>
                  </a:lnTo>
                  <a:lnTo>
                    <a:pt x="76" y="4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6" y="1"/>
                  </a:lnTo>
                  <a:lnTo>
                    <a:pt x="123" y="4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3" y="13"/>
                  </a:lnTo>
                  <a:lnTo>
                    <a:pt x="150" y="16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1"/>
                  </a:lnTo>
                  <a:lnTo>
                    <a:pt x="175" y="36"/>
                  </a:lnTo>
                  <a:lnTo>
                    <a:pt x="181" y="43"/>
                  </a:lnTo>
                  <a:lnTo>
                    <a:pt x="187" y="49"/>
                  </a:lnTo>
                  <a:lnTo>
                    <a:pt x="192" y="55"/>
                  </a:lnTo>
                  <a:lnTo>
                    <a:pt x="197" y="63"/>
                  </a:lnTo>
                  <a:lnTo>
                    <a:pt x="201" y="70"/>
                  </a:lnTo>
                  <a:lnTo>
                    <a:pt x="205" y="76"/>
                  </a:lnTo>
                  <a:lnTo>
                    <a:pt x="208" y="85"/>
                  </a:lnTo>
                  <a:lnTo>
                    <a:pt x="211" y="93"/>
                  </a:lnTo>
                  <a:lnTo>
                    <a:pt x="213" y="100"/>
                  </a:lnTo>
                  <a:lnTo>
                    <a:pt x="215" y="108"/>
                  </a:lnTo>
                  <a:lnTo>
                    <a:pt x="216" y="116"/>
                  </a:lnTo>
                  <a:lnTo>
                    <a:pt x="217" y="124"/>
                  </a:lnTo>
                  <a:lnTo>
                    <a:pt x="217" y="132"/>
                  </a:lnTo>
                  <a:lnTo>
                    <a:pt x="217" y="140"/>
                  </a:lnTo>
                  <a:lnTo>
                    <a:pt x="216" y="149"/>
                  </a:lnTo>
                  <a:lnTo>
                    <a:pt x="215" y="156"/>
                  </a:lnTo>
                  <a:lnTo>
                    <a:pt x="214" y="165"/>
                  </a:lnTo>
                  <a:lnTo>
                    <a:pt x="212" y="172"/>
                  </a:lnTo>
                  <a:lnTo>
                    <a:pt x="210" y="180"/>
                  </a:lnTo>
                  <a:lnTo>
                    <a:pt x="207" y="187"/>
                  </a:lnTo>
                  <a:lnTo>
                    <a:pt x="204" y="195"/>
                  </a:lnTo>
                  <a:lnTo>
                    <a:pt x="201" y="202"/>
                  </a:lnTo>
                  <a:lnTo>
                    <a:pt x="196" y="210"/>
                  </a:lnTo>
                  <a:lnTo>
                    <a:pt x="192" y="216"/>
                  </a:lnTo>
                  <a:lnTo>
                    <a:pt x="187" y="222"/>
                  </a:lnTo>
                  <a:lnTo>
                    <a:pt x="182" y="229"/>
                  </a:lnTo>
                  <a:lnTo>
                    <a:pt x="176" y="234"/>
                  </a:lnTo>
                  <a:lnTo>
                    <a:pt x="171" y="239"/>
                  </a:lnTo>
                  <a:lnTo>
                    <a:pt x="165" y="244"/>
                  </a:lnTo>
                  <a:lnTo>
                    <a:pt x="159" y="247"/>
                  </a:lnTo>
                  <a:lnTo>
                    <a:pt x="153" y="251"/>
                  </a:lnTo>
                  <a:lnTo>
                    <a:pt x="147" y="254"/>
                  </a:lnTo>
                  <a:lnTo>
                    <a:pt x="141" y="256"/>
                  </a:lnTo>
                  <a:lnTo>
                    <a:pt x="134" y="257"/>
                  </a:lnTo>
                  <a:lnTo>
                    <a:pt x="128" y="258"/>
                  </a:lnTo>
                  <a:lnTo>
                    <a:pt x="121" y="258"/>
                  </a:lnTo>
                  <a:lnTo>
                    <a:pt x="115" y="258"/>
                  </a:lnTo>
                  <a:lnTo>
                    <a:pt x="107" y="258"/>
                  </a:lnTo>
                  <a:lnTo>
                    <a:pt x="100" y="257"/>
                  </a:lnTo>
                  <a:lnTo>
                    <a:pt x="94" y="255"/>
                  </a:lnTo>
                  <a:lnTo>
                    <a:pt x="87" y="254"/>
                  </a:lnTo>
                  <a:lnTo>
                    <a:pt x="81" y="251"/>
                  </a:lnTo>
                  <a:lnTo>
                    <a:pt x="75" y="247"/>
                  </a:lnTo>
                  <a:lnTo>
                    <a:pt x="69" y="245"/>
                  </a:lnTo>
                  <a:lnTo>
                    <a:pt x="63" y="240"/>
                  </a:lnTo>
                  <a:lnTo>
                    <a:pt x="57" y="236"/>
                  </a:lnTo>
                  <a:close/>
                  <a:moveTo>
                    <a:pt x="73" y="206"/>
                  </a:moveTo>
                  <a:lnTo>
                    <a:pt x="80" y="212"/>
                  </a:lnTo>
                  <a:lnTo>
                    <a:pt x="88" y="217"/>
                  </a:lnTo>
                  <a:lnTo>
                    <a:pt x="96" y="221"/>
                  </a:lnTo>
                  <a:lnTo>
                    <a:pt x="103" y="224"/>
                  </a:lnTo>
                  <a:lnTo>
                    <a:pt x="111" y="226"/>
                  </a:lnTo>
                  <a:lnTo>
                    <a:pt x="119" y="226"/>
                  </a:lnTo>
                  <a:lnTo>
                    <a:pt x="127" y="226"/>
                  </a:lnTo>
                  <a:lnTo>
                    <a:pt x="134" y="225"/>
                  </a:lnTo>
                  <a:lnTo>
                    <a:pt x="141" y="222"/>
                  </a:lnTo>
                  <a:lnTo>
                    <a:pt x="148" y="220"/>
                  </a:lnTo>
                  <a:lnTo>
                    <a:pt x="154" y="216"/>
                  </a:lnTo>
                  <a:lnTo>
                    <a:pt x="160" y="212"/>
                  </a:lnTo>
                  <a:lnTo>
                    <a:pt x="166" y="206"/>
                  </a:lnTo>
                  <a:lnTo>
                    <a:pt x="171" y="201"/>
                  </a:lnTo>
                  <a:lnTo>
                    <a:pt x="175" y="194"/>
                  </a:lnTo>
                  <a:lnTo>
                    <a:pt x="180" y="186"/>
                  </a:lnTo>
                  <a:lnTo>
                    <a:pt x="183" y="177"/>
                  </a:lnTo>
                  <a:lnTo>
                    <a:pt x="187" y="170"/>
                  </a:lnTo>
                  <a:lnTo>
                    <a:pt x="190" y="161"/>
                  </a:lnTo>
                  <a:lnTo>
                    <a:pt x="191" y="152"/>
                  </a:lnTo>
                  <a:lnTo>
                    <a:pt x="192" y="144"/>
                  </a:lnTo>
                  <a:lnTo>
                    <a:pt x="192" y="135"/>
                  </a:lnTo>
                  <a:lnTo>
                    <a:pt x="191" y="126"/>
                  </a:lnTo>
                  <a:lnTo>
                    <a:pt x="190" y="117"/>
                  </a:lnTo>
                  <a:lnTo>
                    <a:pt x="187" y="109"/>
                  </a:lnTo>
                  <a:lnTo>
                    <a:pt x="183" y="100"/>
                  </a:lnTo>
                  <a:lnTo>
                    <a:pt x="179" y="93"/>
                  </a:lnTo>
                  <a:lnTo>
                    <a:pt x="175" y="84"/>
                  </a:lnTo>
                  <a:lnTo>
                    <a:pt x="169" y="76"/>
                  </a:lnTo>
                  <a:lnTo>
                    <a:pt x="163" y="69"/>
                  </a:lnTo>
                  <a:lnTo>
                    <a:pt x="155" y="63"/>
                  </a:lnTo>
                  <a:lnTo>
                    <a:pt x="147" y="55"/>
                  </a:lnTo>
                  <a:lnTo>
                    <a:pt x="142" y="51"/>
                  </a:lnTo>
                  <a:lnTo>
                    <a:pt x="137" y="48"/>
                  </a:lnTo>
                  <a:lnTo>
                    <a:pt x="132" y="44"/>
                  </a:lnTo>
                  <a:lnTo>
                    <a:pt x="126" y="41"/>
                  </a:lnTo>
                  <a:lnTo>
                    <a:pt x="121" y="39"/>
                  </a:lnTo>
                  <a:lnTo>
                    <a:pt x="116" y="38"/>
                  </a:lnTo>
                  <a:lnTo>
                    <a:pt x="110" y="35"/>
                  </a:lnTo>
                  <a:lnTo>
                    <a:pt x="105" y="34"/>
                  </a:lnTo>
                  <a:lnTo>
                    <a:pt x="99" y="34"/>
                  </a:lnTo>
                  <a:lnTo>
                    <a:pt x="94" y="34"/>
                  </a:lnTo>
                  <a:lnTo>
                    <a:pt x="89" y="34"/>
                  </a:lnTo>
                  <a:lnTo>
                    <a:pt x="85" y="34"/>
                  </a:lnTo>
                  <a:lnTo>
                    <a:pt x="80" y="35"/>
                  </a:lnTo>
                  <a:lnTo>
                    <a:pt x="75" y="36"/>
                  </a:lnTo>
                  <a:lnTo>
                    <a:pt x="71" y="39"/>
                  </a:lnTo>
                  <a:lnTo>
                    <a:pt x="66" y="41"/>
                  </a:lnTo>
                  <a:lnTo>
                    <a:pt x="62" y="44"/>
                  </a:lnTo>
                  <a:lnTo>
                    <a:pt x="58" y="48"/>
                  </a:lnTo>
                  <a:lnTo>
                    <a:pt x="54" y="50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4" y="63"/>
                  </a:lnTo>
                  <a:lnTo>
                    <a:pt x="39" y="68"/>
                  </a:lnTo>
                  <a:lnTo>
                    <a:pt x="37" y="73"/>
                  </a:lnTo>
                  <a:lnTo>
                    <a:pt x="33" y="81"/>
                  </a:lnTo>
                  <a:lnTo>
                    <a:pt x="30" y="89"/>
                  </a:lnTo>
                  <a:lnTo>
                    <a:pt x="28" y="96"/>
                  </a:lnTo>
                  <a:lnTo>
                    <a:pt x="26" y="105"/>
                  </a:lnTo>
                  <a:lnTo>
                    <a:pt x="25" y="114"/>
                  </a:lnTo>
                  <a:lnTo>
                    <a:pt x="25" y="121"/>
                  </a:lnTo>
                  <a:lnTo>
                    <a:pt x="25" y="130"/>
                  </a:lnTo>
                  <a:lnTo>
                    <a:pt x="26" y="139"/>
                  </a:lnTo>
                  <a:lnTo>
                    <a:pt x="28" y="149"/>
                  </a:lnTo>
                  <a:lnTo>
                    <a:pt x="31" y="157"/>
                  </a:lnTo>
                  <a:lnTo>
                    <a:pt x="35" y="165"/>
                  </a:lnTo>
                  <a:lnTo>
                    <a:pt x="40" y="174"/>
                  </a:lnTo>
                  <a:lnTo>
                    <a:pt x="48" y="182"/>
                  </a:lnTo>
                  <a:lnTo>
                    <a:pt x="55" y="190"/>
                  </a:lnTo>
                  <a:lnTo>
                    <a:pt x="63" y="199"/>
                  </a:lnTo>
                  <a:lnTo>
                    <a:pt x="73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73640" y="3083040"/>
              <a:ext cx="147600" cy="114120"/>
            </a:xfrm>
            <a:custGeom>
              <a:avLst/>
              <a:gdLst/>
              <a:ahLst/>
              <a:rect l="l" t="t" r="r" b="b"/>
              <a:pathLst>
                <a:path w="278" h="288">
                  <a:moveTo>
                    <a:pt x="178" y="288"/>
                  </a:moveTo>
                  <a:lnTo>
                    <a:pt x="0" y="149"/>
                  </a:lnTo>
                  <a:lnTo>
                    <a:pt x="51" y="53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2" y="33"/>
                  </a:lnTo>
                  <a:lnTo>
                    <a:pt x="65" y="28"/>
                  </a:lnTo>
                  <a:lnTo>
                    <a:pt x="69" y="23"/>
                  </a:lnTo>
                  <a:lnTo>
                    <a:pt x="72" y="19"/>
                  </a:lnTo>
                  <a:lnTo>
                    <a:pt x="75" y="15"/>
                  </a:lnTo>
                  <a:lnTo>
                    <a:pt x="78" y="11"/>
                  </a:lnTo>
                  <a:lnTo>
                    <a:pt x="82" y="9"/>
                  </a:lnTo>
                  <a:lnTo>
                    <a:pt x="85" y="6"/>
                  </a:lnTo>
                  <a:lnTo>
                    <a:pt x="88" y="5"/>
                  </a:lnTo>
                  <a:lnTo>
                    <a:pt x="92" y="3"/>
                  </a:lnTo>
                  <a:lnTo>
                    <a:pt x="97" y="3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9" y="0"/>
                  </a:lnTo>
                  <a:lnTo>
                    <a:pt x="113" y="1"/>
                  </a:lnTo>
                  <a:lnTo>
                    <a:pt x="117" y="1"/>
                  </a:lnTo>
                  <a:lnTo>
                    <a:pt x="121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52" y="25"/>
                  </a:lnTo>
                  <a:lnTo>
                    <a:pt x="155" y="30"/>
                  </a:lnTo>
                  <a:lnTo>
                    <a:pt x="157" y="35"/>
                  </a:lnTo>
                  <a:lnTo>
                    <a:pt x="160" y="41"/>
                  </a:lnTo>
                  <a:lnTo>
                    <a:pt x="162" y="46"/>
                  </a:lnTo>
                  <a:lnTo>
                    <a:pt x="163" y="53"/>
                  </a:lnTo>
                  <a:lnTo>
                    <a:pt x="164" y="59"/>
                  </a:lnTo>
                  <a:lnTo>
                    <a:pt x="165" y="66"/>
                  </a:lnTo>
                  <a:lnTo>
                    <a:pt x="165" y="72"/>
                  </a:lnTo>
                  <a:lnTo>
                    <a:pt x="164" y="80"/>
                  </a:lnTo>
                  <a:lnTo>
                    <a:pt x="163" y="87"/>
                  </a:lnTo>
                  <a:lnTo>
                    <a:pt x="161" y="95"/>
                  </a:lnTo>
                  <a:lnTo>
                    <a:pt x="159" y="104"/>
                  </a:lnTo>
                  <a:lnTo>
                    <a:pt x="156" y="112"/>
                  </a:lnTo>
                  <a:lnTo>
                    <a:pt x="158" y="110"/>
                  </a:lnTo>
                  <a:lnTo>
                    <a:pt x="161" y="109"/>
                  </a:lnTo>
                  <a:lnTo>
                    <a:pt x="163" y="107"/>
                  </a:lnTo>
                  <a:lnTo>
                    <a:pt x="165" y="105"/>
                  </a:lnTo>
                  <a:lnTo>
                    <a:pt x="168" y="104"/>
                  </a:lnTo>
                  <a:lnTo>
                    <a:pt x="170" y="104"/>
                  </a:lnTo>
                  <a:lnTo>
                    <a:pt x="172" y="102"/>
                  </a:lnTo>
                  <a:lnTo>
                    <a:pt x="174" y="101"/>
                  </a:lnTo>
                  <a:lnTo>
                    <a:pt x="178" y="100"/>
                  </a:lnTo>
                  <a:lnTo>
                    <a:pt x="182" y="99"/>
                  </a:lnTo>
                  <a:lnTo>
                    <a:pt x="187" y="99"/>
                  </a:lnTo>
                  <a:lnTo>
                    <a:pt x="191" y="97"/>
                  </a:lnTo>
                  <a:lnTo>
                    <a:pt x="196" y="97"/>
                  </a:lnTo>
                  <a:lnTo>
                    <a:pt x="200" y="96"/>
                  </a:lnTo>
                  <a:lnTo>
                    <a:pt x="205" y="96"/>
                  </a:lnTo>
                  <a:lnTo>
                    <a:pt x="210" y="96"/>
                  </a:lnTo>
                  <a:lnTo>
                    <a:pt x="278" y="96"/>
                  </a:lnTo>
                  <a:lnTo>
                    <a:pt x="259" y="132"/>
                  </a:lnTo>
                  <a:lnTo>
                    <a:pt x="207" y="132"/>
                  </a:lnTo>
                  <a:lnTo>
                    <a:pt x="202" y="132"/>
                  </a:lnTo>
                  <a:lnTo>
                    <a:pt x="197" y="132"/>
                  </a:lnTo>
                  <a:lnTo>
                    <a:pt x="192" y="132"/>
                  </a:lnTo>
                  <a:lnTo>
                    <a:pt x="187" y="132"/>
                  </a:lnTo>
                  <a:lnTo>
                    <a:pt x="183" y="134"/>
                  </a:lnTo>
                  <a:lnTo>
                    <a:pt x="179" y="134"/>
                  </a:lnTo>
                  <a:lnTo>
                    <a:pt x="176" y="134"/>
                  </a:lnTo>
                  <a:lnTo>
                    <a:pt x="172" y="134"/>
                  </a:lnTo>
                  <a:lnTo>
                    <a:pt x="169" y="135"/>
                  </a:lnTo>
                  <a:lnTo>
                    <a:pt x="165" y="135"/>
                  </a:lnTo>
                  <a:lnTo>
                    <a:pt x="163" y="135"/>
                  </a:lnTo>
                  <a:lnTo>
                    <a:pt x="160" y="136"/>
                  </a:lnTo>
                  <a:lnTo>
                    <a:pt x="158" y="137"/>
                  </a:lnTo>
                  <a:lnTo>
                    <a:pt x="156" y="137"/>
                  </a:lnTo>
                  <a:lnTo>
                    <a:pt x="154" y="139"/>
                  </a:lnTo>
                  <a:lnTo>
                    <a:pt x="152" y="140"/>
                  </a:lnTo>
                  <a:lnTo>
                    <a:pt x="150" y="140"/>
                  </a:lnTo>
                  <a:lnTo>
                    <a:pt x="149" y="141"/>
                  </a:lnTo>
                  <a:lnTo>
                    <a:pt x="147" y="142"/>
                  </a:lnTo>
                  <a:lnTo>
                    <a:pt x="146" y="144"/>
                  </a:lnTo>
                  <a:lnTo>
                    <a:pt x="145" y="145"/>
                  </a:lnTo>
                  <a:lnTo>
                    <a:pt x="143" y="146"/>
                  </a:lnTo>
                  <a:lnTo>
                    <a:pt x="142" y="147"/>
                  </a:lnTo>
                  <a:lnTo>
                    <a:pt x="141" y="149"/>
                  </a:lnTo>
                  <a:lnTo>
                    <a:pt x="140" y="150"/>
                  </a:lnTo>
                  <a:lnTo>
                    <a:pt x="139" y="151"/>
                  </a:lnTo>
                  <a:lnTo>
                    <a:pt x="138" y="154"/>
                  </a:lnTo>
                  <a:lnTo>
                    <a:pt x="137" y="155"/>
                  </a:lnTo>
                  <a:lnTo>
                    <a:pt x="136" y="157"/>
                  </a:lnTo>
                  <a:lnTo>
                    <a:pt x="134" y="159"/>
                  </a:lnTo>
                  <a:lnTo>
                    <a:pt x="133" y="161"/>
                  </a:lnTo>
                  <a:lnTo>
                    <a:pt x="132" y="165"/>
                  </a:lnTo>
                  <a:lnTo>
                    <a:pt x="114" y="197"/>
                  </a:lnTo>
                  <a:lnTo>
                    <a:pt x="193" y="260"/>
                  </a:lnTo>
                  <a:lnTo>
                    <a:pt x="178" y="288"/>
                  </a:lnTo>
                  <a:close/>
                  <a:moveTo>
                    <a:pt x="93" y="182"/>
                  </a:moveTo>
                  <a:lnTo>
                    <a:pt x="126" y="120"/>
                  </a:lnTo>
                  <a:lnTo>
                    <a:pt x="129" y="115"/>
                  </a:lnTo>
                  <a:lnTo>
                    <a:pt x="131" y="110"/>
                  </a:lnTo>
                  <a:lnTo>
                    <a:pt x="133" y="106"/>
                  </a:lnTo>
                  <a:lnTo>
                    <a:pt x="134" y="101"/>
                  </a:lnTo>
                  <a:lnTo>
                    <a:pt x="136" y="97"/>
                  </a:lnTo>
                  <a:lnTo>
                    <a:pt x="137" y="94"/>
                  </a:lnTo>
                  <a:lnTo>
                    <a:pt x="138" y="90"/>
                  </a:lnTo>
                  <a:lnTo>
                    <a:pt x="139" y="86"/>
                  </a:lnTo>
                  <a:lnTo>
                    <a:pt x="139" y="82"/>
                  </a:lnTo>
                  <a:lnTo>
                    <a:pt x="140" y="79"/>
                  </a:lnTo>
                  <a:lnTo>
                    <a:pt x="140" y="76"/>
                  </a:lnTo>
                  <a:lnTo>
                    <a:pt x="140" y="72"/>
                  </a:lnTo>
                  <a:lnTo>
                    <a:pt x="139" y="70"/>
                  </a:lnTo>
                  <a:lnTo>
                    <a:pt x="139" y="66"/>
                  </a:lnTo>
                  <a:lnTo>
                    <a:pt x="138" y="64"/>
                  </a:lnTo>
                  <a:lnTo>
                    <a:pt x="137" y="61"/>
                  </a:lnTo>
                  <a:lnTo>
                    <a:pt x="136" y="57"/>
                  </a:lnTo>
                  <a:lnTo>
                    <a:pt x="135" y="55"/>
                  </a:lnTo>
                  <a:lnTo>
                    <a:pt x="133" y="53"/>
                  </a:lnTo>
                  <a:lnTo>
                    <a:pt x="132" y="50"/>
                  </a:lnTo>
                  <a:lnTo>
                    <a:pt x="130" y="48"/>
                  </a:lnTo>
                  <a:lnTo>
                    <a:pt x="128" y="46"/>
                  </a:lnTo>
                  <a:lnTo>
                    <a:pt x="126" y="44"/>
                  </a:lnTo>
                  <a:lnTo>
                    <a:pt x="124" y="43"/>
                  </a:lnTo>
                  <a:lnTo>
                    <a:pt x="121" y="40"/>
                  </a:lnTo>
                  <a:lnTo>
                    <a:pt x="118" y="39"/>
                  </a:lnTo>
                  <a:lnTo>
                    <a:pt x="115" y="38"/>
                  </a:lnTo>
                  <a:lnTo>
                    <a:pt x="112" y="36"/>
                  </a:lnTo>
                  <a:lnTo>
                    <a:pt x="108" y="36"/>
                  </a:lnTo>
                  <a:lnTo>
                    <a:pt x="105" y="36"/>
                  </a:lnTo>
                  <a:lnTo>
                    <a:pt x="102" y="36"/>
                  </a:lnTo>
                  <a:lnTo>
                    <a:pt x="98" y="38"/>
                  </a:lnTo>
                  <a:lnTo>
                    <a:pt x="95" y="39"/>
                  </a:lnTo>
                  <a:lnTo>
                    <a:pt x="90" y="41"/>
                  </a:lnTo>
                  <a:lnTo>
                    <a:pt x="87" y="44"/>
                  </a:lnTo>
                  <a:lnTo>
                    <a:pt x="84" y="48"/>
                  </a:lnTo>
                  <a:lnTo>
                    <a:pt x="80" y="51"/>
                  </a:lnTo>
                  <a:lnTo>
                    <a:pt x="77" y="55"/>
                  </a:lnTo>
                  <a:lnTo>
                    <a:pt x="74" y="61"/>
                  </a:lnTo>
                  <a:lnTo>
                    <a:pt x="71" y="66"/>
                  </a:lnTo>
                  <a:lnTo>
                    <a:pt x="36" y="136"/>
                  </a:lnTo>
                  <a:lnTo>
                    <a:pt x="93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33760" y="2994120"/>
              <a:ext cx="147600" cy="114120"/>
            </a:xfrm>
            <a:custGeom>
              <a:avLst/>
              <a:gdLst/>
              <a:ahLst/>
              <a:rect l="l" t="t" r="r" b="b"/>
              <a:pathLst>
                <a:path w="278" h="288">
                  <a:moveTo>
                    <a:pt x="177" y="288"/>
                  </a:moveTo>
                  <a:lnTo>
                    <a:pt x="0" y="149"/>
                  </a:lnTo>
                  <a:lnTo>
                    <a:pt x="50" y="53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2" y="33"/>
                  </a:lnTo>
                  <a:lnTo>
                    <a:pt x="65" y="28"/>
                  </a:lnTo>
                  <a:lnTo>
                    <a:pt x="69" y="23"/>
                  </a:lnTo>
                  <a:lnTo>
                    <a:pt x="72" y="19"/>
                  </a:lnTo>
                  <a:lnTo>
                    <a:pt x="75" y="15"/>
                  </a:lnTo>
                  <a:lnTo>
                    <a:pt x="78" y="11"/>
                  </a:lnTo>
                  <a:lnTo>
                    <a:pt x="81" y="9"/>
                  </a:lnTo>
                  <a:lnTo>
                    <a:pt x="85" y="6"/>
                  </a:lnTo>
                  <a:lnTo>
                    <a:pt x="88" y="5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6" y="1"/>
                  </a:lnTo>
                  <a:lnTo>
                    <a:pt x="119" y="3"/>
                  </a:lnTo>
                  <a:lnTo>
                    <a:pt x="123" y="4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9" y="13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51" y="25"/>
                  </a:lnTo>
                  <a:lnTo>
                    <a:pt x="155" y="30"/>
                  </a:lnTo>
                  <a:lnTo>
                    <a:pt x="157" y="35"/>
                  </a:lnTo>
                  <a:lnTo>
                    <a:pt x="160" y="40"/>
                  </a:lnTo>
                  <a:lnTo>
                    <a:pt x="162" y="46"/>
                  </a:lnTo>
                  <a:lnTo>
                    <a:pt x="163" y="53"/>
                  </a:lnTo>
                  <a:lnTo>
                    <a:pt x="164" y="59"/>
                  </a:lnTo>
                  <a:lnTo>
                    <a:pt x="164" y="66"/>
                  </a:lnTo>
                  <a:lnTo>
                    <a:pt x="164" y="73"/>
                  </a:lnTo>
                  <a:lnTo>
                    <a:pt x="164" y="80"/>
                  </a:lnTo>
                  <a:lnTo>
                    <a:pt x="162" y="88"/>
                  </a:lnTo>
                  <a:lnTo>
                    <a:pt x="161" y="95"/>
                  </a:lnTo>
                  <a:lnTo>
                    <a:pt x="158" y="104"/>
                  </a:lnTo>
                  <a:lnTo>
                    <a:pt x="156" y="113"/>
                  </a:lnTo>
                  <a:lnTo>
                    <a:pt x="158" y="110"/>
                  </a:lnTo>
                  <a:lnTo>
                    <a:pt x="160" y="109"/>
                  </a:lnTo>
                  <a:lnTo>
                    <a:pt x="163" y="106"/>
                  </a:lnTo>
                  <a:lnTo>
                    <a:pt x="165" y="105"/>
                  </a:lnTo>
                  <a:lnTo>
                    <a:pt x="167" y="104"/>
                  </a:lnTo>
                  <a:lnTo>
                    <a:pt x="169" y="104"/>
                  </a:lnTo>
                  <a:lnTo>
                    <a:pt x="171" y="103"/>
                  </a:lnTo>
                  <a:lnTo>
                    <a:pt x="173" y="101"/>
                  </a:lnTo>
                  <a:lnTo>
                    <a:pt x="177" y="100"/>
                  </a:lnTo>
                  <a:lnTo>
                    <a:pt x="181" y="99"/>
                  </a:lnTo>
                  <a:lnTo>
                    <a:pt x="186" y="99"/>
                  </a:lnTo>
                  <a:lnTo>
                    <a:pt x="190" y="98"/>
                  </a:lnTo>
                  <a:lnTo>
                    <a:pt x="194" y="98"/>
                  </a:lnTo>
                  <a:lnTo>
                    <a:pt x="200" y="96"/>
                  </a:lnTo>
                  <a:lnTo>
                    <a:pt x="205" y="96"/>
                  </a:lnTo>
                  <a:lnTo>
                    <a:pt x="210" y="96"/>
                  </a:lnTo>
                  <a:lnTo>
                    <a:pt x="278" y="96"/>
                  </a:lnTo>
                  <a:lnTo>
                    <a:pt x="258" y="132"/>
                  </a:lnTo>
                  <a:lnTo>
                    <a:pt x="207" y="132"/>
                  </a:lnTo>
                  <a:lnTo>
                    <a:pt x="202" y="132"/>
                  </a:lnTo>
                  <a:lnTo>
                    <a:pt x="195" y="132"/>
                  </a:lnTo>
                  <a:lnTo>
                    <a:pt x="191" y="132"/>
                  </a:lnTo>
                  <a:lnTo>
                    <a:pt x="186" y="132"/>
                  </a:lnTo>
                  <a:lnTo>
                    <a:pt x="182" y="132"/>
                  </a:lnTo>
                  <a:lnTo>
                    <a:pt x="178" y="134"/>
                  </a:lnTo>
                  <a:lnTo>
                    <a:pt x="174" y="134"/>
                  </a:lnTo>
                  <a:lnTo>
                    <a:pt x="171" y="134"/>
                  </a:lnTo>
                  <a:lnTo>
                    <a:pt x="168" y="135"/>
                  </a:lnTo>
                  <a:lnTo>
                    <a:pt x="165" y="135"/>
                  </a:lnTo>
                  <a:lnTo>
                    <a:pt x="163" y="135"/>
                  </a:lnTo>
                  <a:lnTo>
                    <a:pt x="160" y="136"/>
                  </a:lnTo>
                  <a:lnTo>
                    <a:pt x="158" y="136"/>
                  </a:lnTo>
                  <a:lnTo>
                    <a:pt x="156" y="137"/>
                  </a:lnTo>
                  <a:lnTo>
                    <a:pt x="154" y="139"/>
                  </a:lnTo>
                  <a:lnTo>
                    <a:pt x="152" y="139"/>
                  </a:lnTo>
                  <a:lnTo>
                    <a:pt x="150" y="140"/>
                  </a:lnTo>
                  <a:lnTo>
                    <a:pt x="149" y="141"/>
                  </a:lnTo>
                  <a:lnTo>
                    <a:pt x="147" y="142"/>
                  </a:lnTo>
                  <a:lnTo>
                    <a:pt x="146" y="144"/>
                  </a:lnTo>
                  <a:lnTo>
                    <a:pt x="144" y="145"/>
                  </a:lnTo>
                  <a:lnTo>
                    <a:pt x="143" y="146"/>
                  </a:lnTo>
                  <a:lnTo>
                    <a:pt x="142" y="147"/>
                  </a:lnTo>
                  <a:lnTo>
                    <a:pt x="141" y="149"/>
                  </a:lnTo>
                  <a:lnTo>
                    <a:pt x="140" y="150"/>
                  </a:lnTo>
                  <a:lnTo>
                    <a:pt x="139" y="151"/>
                  </a:lnTo>
                  <a:lnTo>
                    <a:pt x="138" y="152"/>
                  </a:lnTo>
                  <a:lnTo>
                    <a:pt x="137" y="155"/>
                  </a:lnTo>
                  <a:lnTo>
                    <a:pt x="135" y="157"/>
                  </a:lnTo>
                  <a:lnTo>
                    <a:pt x="134" y="159"/>
                  </a:lnTo>
                  <a:lnTo>
                    <a:pt x="133" y="161"/>
                  </a:lnTo>
                  <a:lnTo>
                    <a:pt x="131" y="164"/>
                  </a:lnTo>
                  <a:lnTo>
                    <a:pt x="113" y="197"/>
                  </a:lnTo>
                  <a:lnTo>
                    <a:pt x="192" y="260"/>
                  </a:lnTo>
                  <a:lnTo>
                    <a:pt x="177" y="288"/>
                  </a:lnTo>
                  <a:close/>
                  <a:moveTo>
                    <a:pt x="93" y="181"/>
                  </a:moveTo>
                  <a:lnTo>
                    <a:pt x="126" y="120"/>
                  </a:lnTo>
                  <a:lnTo>
                    <a:pt x="128" y="115"/>
                  </a:lnTo>
                  <a:lnTo>
                    <a:pt x="131" y="110"/>
                  </a:lnTo>
                  <a:lnTo>
                    <a:pt x="133" y="106"/>
                  </a:lnTo>
                  <a:lnTo>
                    <a:pt x="134" y="101"/>
                  </a:lnTo>
                  <a:lnTo>
                    <a:pt x="136" y="98"/>
                  </a:lnTo>
                  <a:lnTo>
                    <a:pt x="137" y="94"/>
                  </a:lnTo>
                  <a:lnTo>
                    <a:pt x="138" y="90"/>
                  </a:lnTo>
                  <a:lnTo>
                    <a:pt x="139" y="86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40" y="76"/>
                  </a:lnTo>
                  <a:lnTo>
                    <a:pt x="139" y="73"/>
                  </a:lnTo>
                  <a:lnTo>
                    <a:pt x="139" y="70"/>
                  </a:lnTo>
                  <a:lnTo>
                    <a:pt x="139" y="66"/>
                  </a:lnTo>
                  <a:lnTo>
                    <a:pt x="138" y="64"/>
                  </a:lnTo>
                  <a:lnTo>
                    <a:pt x="137" y="60"/>
                  </a:lnTo>
                  <a:lnTo>
                    <a:pt x="136" y="58"/>
                  </a:lnTo>
                  <a:lnTo>
                    <a:pt x="134" y="55"/>
                  </a:lnTo>
                  <a:lnTo>
                    <a:pt x="133" y="53"/>
                  </a:lnTo>
                  <a:lnTo>
                    <a:pt x="132" y="50"/>
                  </a:lnTo>
                  <a:lnTo>
                    <a:pt x="130" y="48"/>
                  </a:lnTo>
                  <a:lnTo>
                    <a:pt x="128" y="46"/>
                  </a:lnTo>
                  <a:lnTo>
                    <a:pt x="126" y="44"/>
                  </a:lnTo>
                  <a:lnTo>
                    <a:pt x="123" y="43"/>
                  </a:lnTo>
                  <a:lnTo>
                    <a:pt x="120" y="40"/>
                  </a:lnTo>
                  <a:lnTo>
                    <a:pt x="117" y="39"/>
                  </a:lnTo>
                  <a:lnTo>
                    <a:pt x="114" y="38"/>
                  </a:lnTo>
                  <a:lnTo>
                    <a:pt x="110" y="36"/>
                  </a:lnTo>
                  <a:lnTo>
                    <a:pt x="107" y="36"/>
                  </a:lnTo>
                  <a:lnTo>
                    <a:pt x="104" y="36"/>
                  </a:lnTo>
                  <a:lnTo>
                    <a:pt x="100" y="36"/>
                  </a:lnTo>
                  <a:lnTo>
                    <a:pt x="97" y="38"/>
                  </a:lnTo>
                  <a:lnTo>
                    <a:pt x="94" y="39"/>
                  </a:lnTo>
                  <a:lnTo>
                    <a:pt x="90" y="41"/>
                  </a:lnTo>
                  <a:lnTo>
                    <a:pt x="87" y="44"/>
                  </a:lnTo>
                  <a:lnTo>
                    <a:pt x="84" y="48"/>
                  </a:lnTo>
                  <a:lnTo>
                    <a:pt x="80" y="51"/>
                  </a:lnTo>
                  <a:lnTo>
                    <a:pt x="77" y="55"/>
                  </a:lnTo>
                  <a:lnTo>
                    <a:pt x="74" y="61"/>
                  </a:lnTo>
                  <a:lnTo>
                    <a:pt x="71" y="66"/>
                  </a:lnTo>
                  <a:lnTo>
                    <a:pt x="34" y="136"/>
                  </a:lnTo>
                  <a:lnTo>
                    <a:pt x="93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95680" y="2952720"/>
              <a:ext cx="101880" cy="66600"/>
            </a:xfrm>
            <a:custGeom>
              <a:avLst/>
              <a:gdLst/>
              <a:ahLst/>
              <a:rect l="l" t="t" r="r" b="b"/>
              <a:pathLst>
                <a:path w="193" h="168">
                  <a:moveTo>
                    <a:pt x="178" y="168"/>
                  </a:moveTo>
                  <a:lnTo>
                    <a:pt x="0" y="29"/>
                  </a:lnTo>
                  <a:lnTo>
                    <a:pt x="16" y="0"/>
                  </a:lnTo>
                  <a:lnTo>
                    <a:pt x="193" y="139"/>
                  </a:lnTo>
                  <a:lnTo>
                    <a:pt x="178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18000" y="2876400"/>
              <a:ext cx="125280" cy="111240"/>
            </a:xfrm>
            <a:custGeom>
              <a:avLst/>
              <a:gdLst/>
              <a:ahLst/>
              <a:rect l="l" t="t" r="r" b="b"/>
              <a:pathLst>
                <a:path w="238" h="279">
                  <a:moveTo>
                    <a:pt x="177" y="279"/>
                  </a:moveTo>
                  <a:lnTo>
                    <a:pt x="0" y="139"/>
                  </a:lnTo>
                  <a:lnTo>
                    <a:pt x="38" y="64"/>
                  </a:lnTo>
                  <a:lnTo>
                    <a:pt x="43" y="58"/>
                  </a:lnTo>
                  <a:lnTo>
                    <a:pt x="46" y="53"/>
                  </a:lnTo>
                  <a:lnTo>
                    <a:pt x="49" y="47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7" y="34"/>
                  </a:lnTo>
                  <a:lnTo>
                    <a:pt x="59" y="30"/>
                  </a:lnTo>
                  <a:lnTo>
                    <a:pt x="62" y="28"/>
                  </a:lnTo>
                  <a:lnTo>
                    <a:pt x="65" y="24"/>
                  </a:lnTo>
                  <a:lnTo>
                    <a:pt x="69" y="20"/>
                  </a:lnTo>
                  <a:lnTo>
                    <a:pt x="72" y="17"/>
                  </a:lnTo>
                  <a:lnTo>
                    <a:pt x="76" y="14"/>
                  </a:lnTo>
                  <a:lnTo>
                    <a:pt x="79" y="12"/>
                  </a:lnTo>
                  <a:lnTo>
                    <a:pt x="83" y="9"/>
                  </a:lnTo>
                  <a:lnTo>
                    <a:pt x="87" y="7"/>
                  </a:lnTo>
                  <a:lnTo>
                    <a:pt x="91" y="5"/>
                  </a:lnTo>
                  <a:lnTo>
                    <a:pt x="96" y="4"/>
                  </a:lnTo>
                  <a:lnTo>
                    <a:pt x="101" y="2"/>
                  </a:lnTo>
                  <a:lnTo>
                    <a:pt x="106" y="2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4" y="2"/>
                  </a:lnTo>
                  <a:lnTo>
                    <a:pt x="129" y="2"/>
                  </a:lnTo>
                  <a:lnTo>
                    <a:pt x="135" y="3"/>
                  </a:lnTo>
                  <a:lnTo>
                    <a:pt x="141" y="5"/>
                  </a:lnTo>
                  <a:lnTo>
                    <a:pt x="146" y="7"/>
                  </a:lnTo>
                  <a:lnTo>
                    <a:pt x="152" y="9"/>
                  </a:lnTo>
                  <a:lnTo>
                    <a:pt x="158" y="13"/>
                  </a:lnTo>
                  <a:lnTo>
                    <a:pt x="163" y="15"/>
                  </a:lnTo>
                  <a:lnTo>
                    <a:pt x="169" y="19"/>
                  </a:lnTo>
                  <a:lnTo>
                    <a:pt x="175" y="24"/>
                  </a:lnTo>
                  <a:lnTo>
                    <a:pt x="181" y="28"/>
                  </a:lnTo>
                  <a:lnTo>
                    <a:pt x="187" y="32"/>
                  </a:lnTo>
                  <a:lnTo>
                    <a:pt x="191" y="37"/>
                  </a:lnTo>
                  <a:lnTo>
                    <a:pt x="196" y="40"/>
                  </a:lnTo>
                  <a:lnTo>
                    <a:pt x="200" y="44"/>
                  </a:lnTo>
                  <a:lnTo>
                    <a:pt x="204" y="49"/>
                  </a:lnTo>
                  <a:lnTo>
                    <a:pt x="208" y="53"/>
                  </a:lnTo>
                  <a:lnTo>
                    <a:pt x="211" y="58"/>
                  </a:lnTo>
                  <a:lnTo>
                    <a:pt x="214" y="62"/>
                  </a:lnTo>
                  <a:lnTo>
                    <a:pt x="217" y="67"/>
                  </a:lnTo>
                  <a:lnTo>
                    <a:pt x="220" y="72"/>
                  </a:lnTo>
                  <a:lnTo>
                    <a:pt x="223" y="75"/>
                  </a:lnTo>
                  <a:lnTo>
                    <a:pt x="225" y="80"/>
                  </a:lnTo>
                  <a:lnTo>
                    <a:pt x="227" y="84"/>
                  </a:lnTo>
                  <a:lnTo>
                    <a:pt x="229" y="89"/>
                  </a:lnTo>
                  <a:lnTo>
                    <a:pt x="231" y="93"/>
                  </a:lnTo>
                  <a:lnTo>
                    <a:pt x="232" y="98"/>
                  </a:lnTo>
                  <a:lnTo>
                    <a:pt x="233" y="102"/>
                  </a:lnTo>
                  <a:lnTo>
                    <a:pt x="234" y="105"/>
                  </a:lnTo>
                  <a:lnTo>
                    <a:pt x="235" y="110"/>
                  </a:lnTo>
                  <a:lnTo>
                    <a:pt x="236" y="114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8" y="125"/>
                  </a:lnTo>
                  <a:lnTo>
                    <a:pt x="238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7" y="141"/>
                  </a:lnTo>
                  <a:lnTo>
                    <a:pt x="237" y="145"/>
                  </a:lnTo>
                  <a:lnTo>
                    <a:pt x="236" y="150"/>
                  </a:lnTo>
                  <a:lnTo>
                    <a:pt x="235" y="154"/>
                  </a:lnTo>
                  <a:lnTo>
                    <a:pt x="234" y="159"/>
                  </a:lnTo>
                  <a:lnTo>
                    <a:pt x="233" y="163"/>
                  </a:lnTo>
                  <a:lnTo>
                    <a:pt x="232" y="168"/>
                  </a:lnTo>
                  <a:lnTo>
                    <a:pt x="230" y="171"/>
                  </a:lnTo>
                  <a:lnTo>
                    <a:pt x="229" y="176"/>
                  </a:lnTo>
                  <a:lnTo>
                    <a:pt x="227" y="181"/>
                  </a:lnTo>
                  <a:lnTo>
                    <a:pt x="225" y="185"/>
                  </a:lnTo>
                  <a:lnTo>
                    <a:pt x="223" y="190"/>
                  </a:lnTo>
                  <a:lnTo>
                    <a:pt x="221" y="195"/>
                  </a:lnTo>
                  <a:lnTo>
                    <a:pt x="218" y="200"/>
                  </a:lnTo>
                  <a:lnTo>
                    <a:pt x="177" y="279"/>
                  </a:lnTo>
                  <a:close/>
                  <a:moveTo>
                    <a:pt x="171" y="234"/>
                  </a:moveTo>
                  <a:lnTo>
                    <a:pt x="196" y="188"/>
                  </a:lnTo>
                  <a:lnTo>
                    <a:pt x="199" y="181"/>
                  </a:lnTo>
                  <a:lnTo>
                    <a:pt x="201" y="176"/>
                  </a:lnTo>
                  <a:lnTo>
                    <a:pt x="203" y="171"/>
                  </a:lnTo>
                  <a:lnTo>
                    <a:pt x="205" y="168"/>
                  </a:lnTo>
                  <a:lnTo>
                    <a:pt x="207" y="163"/>
                  </a:lnTo>
                  <a:lnTo>
                    <a:pt x="208" y="159"/>
                  </a:lnTo>
                  <a:lnTo>
                    <a:pt x="209" y="154"/>
                  </a:lnTo>
                  <a:lnTo>
                    <a:pt x="210" y="150"/>
                  </a:lnTo>
                  <a:lnTo>
                    <a:pt x="211" y="146"/>
                  </a:lnTo>
                  <a:lnTo>
                    <a:pt x="211" y="144"/>
                  </a:lnTo>
                  <a:lnTo>
                    <a:pt x="212" y="140"/>
                  </a:lnTo>
                  <a:lnTo>
                    <a:pt x="212" y="137"/>
                  </a:lnTo>
                  <a:lnTo>
                    <a:pt x="212" y="133"/>
                  </a:lnTo>
                  <a:lnTo>
                    <a:pt x="212" y="130"/>
                  </a:lnTo>
                  <a:lnTo>
                    <a:pt x="211" y="127"/>
                  </a:lnTo>
                  <a:lnTo>
                    <a:pt x="211" y="124"/>
                  </a:lnTo>
                  <a:lnTo>
                    <a:pt x="210" y="119"/>
                  </a:lnTo>
                  <a:lnTo>
                    <a:pt x="209" y="115"/>
                  </a:lnTo>
                  <a:lnTo>
                    <a:pt x="208" y="112"/>
                  </a:lnTo>
                  <a:lnTo>
                    <a:pt x="206" y="107"/>
                  </a:lnTo>
                  <a:lnTo>
                    <a:pt x="204" y="103"/>
                  </a:lnTo>
                  <a:lnTo>
                    <a:pt x="202" y="99"/>
                  </a:lnTo>
                  <a:lnTo>
                    <a:pt x="200" y="94"/>
                  </a:lnTo>
                  <a:lnTo>
                    <a:pt x="197" y="90"/>
                  </a:lnTo>
                  <a:lnTo>
                    <a:pt x="194" y="87"/>
                  </a:lnTo>
                  <a:lnTo>
                    <a:pt x="191" y="82"/>
                  </a:lnTo>
                  <a:lnTo>
                    <a:pt x="188" y="78"/>
                  </a:lnTo>
                  <a:lnTo>
                    <a:pt x="183" y="74"/>
                  </a:lnTo>
                  <a:lnTo>
                    <a:pt x="179" y="69"/>
                  </a:lnTo>
                  <a:lnTo>
                    <a:pt x="175" y="65"/>
                  </a:lnTo>
                  <a:lnTo>
                    <a:pt x="170" y="62"/>
                  </a:lnTo>
                  <a:lnTo>
                    <a:pt x="165" y="58"/>
                  </a:lnTo>
                  <a:lnTo>
                    <a:pt x="159" y="53"/>
                  </a:lnTo>
                  <a:lnTo>
                    <a:pt x="152" y="48"/>
                  </a:lnTo>
                  <a:lnTo>
                    <a:pt x="146" y="44"/>
                  </a:lnTo>
                  <a:lnTo>
                    <a:pt x="140" y="40"/>
                  </a:lnTo>
                  <a:lnTo>
                    <a:pt x="134" y="38"/>
                  </a:lnTo>
                  <a:lnTo>
                    <a:pt x="128" y="37"/>
                  </a:lnTo>
                  <a:lnTo>
                    <a:pt x="123" y="35"/>
                  </a:lnTo>
                  <a:lnTo>
                    <a:pt x="117" y="35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2" y="37"/>
                  </a:lnTo>
                  <a:lnTo>
                    <a:pt x="98" y="38"/>
                  </a:lnTo>
                  <a:lnTo>
                    <a:pt x="94" y="39"/>
                  </a:lnTo>
                  <a:lnTo>
                    <a:pt x="90" y="42"/>
                  </a:lnTo>
                  <a:lnTo>
                    <a:pt x="86" y="44"/>
                  </a:lnTo>
                  <a:lnTo>
                    <a:pt x="83" y="47"/>
                  </a:lnTo>
                  <a:lnTo>
                    <a:pt x="80" y="49"/>
                  </a:lnTo>
                  <a:lnTo>
                    <a:pt x="78" y="52"/>
                  </a:lnTo>
                  <a:lnTo>
                    <a:pt x="75" y="55"/>
                  </a:lnTo>
                  <a:lnTo>
                    <a:pt x="72" y="59"/>
                  </a:lnTo>
                  <a:lnTo>
                    <a:pt x="69" y="64"/>
                  </a:lnTo>
                  <a:lnTo>
                    <a:pt x="66" y="69"/>
                  </a:lnTo>
                  <a:lnTo>
                    <a:pt x="63" y="75"/>
                  </a:lnTo>
                  <a:lnTo>
                    <a:pt x="60" y="82"/>
                  </a:lnTo>
                  <a:lnTo>
                    <a:pt x="35" y="127"/>
                  </a:lnTo>
                  <a:lnTo>
                    <a:pt x="171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92520" y="2782800"/>
              <a:ext cx="115920" cy="10332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57" y="236"/>
                  </a:moveTo>
                  <a:lnTo>
                    <a:pt x="47" y="228"/>
                  </a:lnTo>
                  <a:lnTo>
                    <a:pt x="36" y="218"/>
                  </a:lnTo>
                  <a:lnTo>
                    <a:pt x="28" y="208"/>
                  </a:lnTo>
                  <a:lnTo>
                    <a:pt x="21" y="198"/>
                  </a:lnTo>
                  <a:lnTo>
                    <a:pt x="15" y="188"/>
                  </a:lnTo>
                  <a:lnTo>
                    <a:pt x="10" y="176"/>
                  </a:lnTo>
                  <a:lnTo>
                    <a:pt x="6" y="164"/>
                  </a:lnTo>
                  <a:lnTo>
                    <a:pt x="3" y="153"/>
                  </a:lnTo>
                  <a:lnTo>
                    <a:pt x="1" y="140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1" y="104"/>
                  </a:lnTo>
                  <a:lnTo>
                    <a:pt x="4" y="93"/>
                  </a:lnTo>
                  <a:lnTo>
                    <a:pt x="7" y="80"/>
                  </a:lnTo>
                  <a:lnTo>
                    <a:pt x="11" y="69"/>
                  </a:lnTo>
                  <a:lnTo>
                    <a:pt x="17" y="58"/>
                  </a:lnTo>
                  <a:lnTo>
                    <a:pt x="21" y="50"/>
                  </a:lnTo>
                  <a:lnTo>
                    <a:pt x="25" y="43"/>
                  </a:lnTo>
                  <a:lnTo>
                    <a:pt x="30" y="37"/>
                  </a:lnTo>
                  <a:lnTo>
                    <a:pt x="34" y="30"/>
                  </a:lnTo>
                  <a:lnTo>
                    <a:pt x="39" y="25"/>
                  </a:lnTo>
                  <a:lnTo>
                    <a:pt x="46" y="20"/>
                  </a:lnTo>
                  <a:lnTo>
                    <a:pt x="51" y="17"/>
                  </a:lnTo>
                  <a:lnTo>
                    <a:pt x="57" y="12"/>
                  </a:lnTo>
                  <a:lnTo>
                    <a:pt x="63" y="9"/>
                  </a:lnTo>
                  <a:lnTo>
                    <a:pt x="69" y="5"/>
                  </a:lnTo>
                  <a:lnTo>
                    <a:pt x="76" y="3"/>
                  </a:lnTo>
                  <a:lnTo>
                    <a:pt x="82" y="2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6" y="2"/>
                  </a:lnTo>
                  <a:lnTo>
                    <a:pt x="123" y="4"/>
                  </a:lnTo>
                  <a:lnTo>
                    <a:pt x="130" y="7"/>
                  </a:lnTo>
                  <a:lnTo>
                    <a:pt x="136" y="9"/>
                  </a:lnTo>
                  <a:lnTo>
                    <a:pt x="143" y="12"/>
                  </a:lnTo>
                  <a:lnTo>
                    <a:pt x="150" y="17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2"/>
                  </a:lnTo>
                  <a:lnTo>
                    <a:pt x="175" y="37"/>
                  </a:lnTo>
                  <a:lnTo>
                    <a:pt x="181" y="43"/>
                  </a:lnTo>
                  <a:lnTo>
                    <a:pt x="186" y="49"/>
                  </a:lnTo>
                  <a:lnTo>
                    <a:pt x="192" y="55"/>
                  </a:lnTo>
                  <a:lnTo>
                    <a:pt x="197" y="63"/>
                  </a:lnTo>
                  <a:lnTo>
                    <a:pt x="201" y="69"/>
                  </a:lnTo>
                  <a:lnTo>
                    <a:pt x="205" y="77"/>
                  </a:lnTo>
                  <a:lnTo>
                    <a:pt x="208" y="84"/>
                  </a:lnTo>
                  <a:lnTo>
                    <a:pt x="211" y="93"/>
                  </a:lnTo>
                  <a:lnTo>
                    <a:pt x="213" y="100"/>
                  </a:lnTo>
                  <a:lnTo>
                    <a:pt x="215" y="108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7" y="131"/>
                  </a:lnTo>
                  <a:lnTo>
                    <a:pt x="217" y="140"/>
                  </a:lnTo>
                  <a:lnTo>
                    <a:pt x="216" y="149"/>
                  </a:lnTo>
                  <a:lnTo>
                    <a:pt x="215" y="156"/>
                  </a:lnTo>
                  <a:lnTo>
                    <a:pt x="214" y="164"/>
                  </a:lnTo>
                  <a:lnTo>
                    <a:pt x="212" y="173"/>
                  </a:lnTo>
                  <a:lnTo>
                    <a:pt x="210" y="180"/>
                  </a:lnTo>
                  <a:lnTo>
                    <a:pt x="207" y="188"/>
                  </a:lnTo>
                  <a:lnTo>
                    <a:pt x="204" y="195"/>
                  </a:lnTo>
                  <a:lnTo>
                    <a:pt x="201" y="201"/>
                  </a:lnTo>
                  <a:lnTo>
                    <a:pt x="197" y="209"/>
                  </a:lnTo>
                  <a:lnTo>
                    <a:pt x="192" y="216"/>
                  </a:lnTo>
                  <a:lnTo>
                    <a:pt x="188" y="223"/>
                  </a:lnTo>
                  <a:lnTo>
                    <a:pt x="182" y="229"/>
                  </a:lnTo>
                  <a:lnTo>
                    <a:pt x="177" y="234"/>
                  </a:lnTo>
                  <a:lnTo>
                    <a:pt x="171" y="239"/>
                  </a:lnTo>
                  <a:lnTo>
                    <a:pt x="165" y="244"/>
                  </a:lnTo>
                  <a:lnTo>
                    <a:pt x="160" y="247"/>
                  </a:lnTo>
                  <a:lnTo>
                    <a:pt x="153" y="251"/>
                  </a:lnTo>
                  <a:lnTo>
                    <a:pt x="147" y="254"/>
                  </a:lnTo>
                  <a:lnTo>
                    <a:pt x="141" y="256"/>
                  </a:lnTo>
                  <a:lnTo>
                    <a:pt x="134" y="257"/>
                  </a:lnTo>
                  <a:lnTo>
                    <a:pt x="128" y="259"/>
                  </a:lnTo>
                  <a:lnTo>
                    <a:pt x="121" y="259"/>
                  </a:lnTo>
                  <a:lnTo>
                    <a:pt x="115" y="259"/>
                  </a:lnTo>
                  <a:lnTo>
                    <a:pt x="107" y="259"/>
                  </a:lnTo>
                  <a:lnTo>
                    <a:pt x="100" y="257"/>
                  </a:lnTo>
                  <a:lnTo>
                    <a:pt x="94" y="255"/>
                  </a:lnTo>
                  <a:lnTo>
                    <a:pt x="87" y="254"/>
                  </a:lnTo>
                  <a:lnTo>
                    <a:pt x="81" y="251"/>
                  </a:lnTo>
                  <a:lnTo>
                    <a:pt x="75" y="247"/>
                  </a:lnTo>
                  <a:lnTo>
                    <a:pt x="69" y="244"/>
                  </a:lnTo>
                  <a:lnTo>
                    <a:pt x="63" y="240"/>
                  </a:lnTo>
                  <a:lnTo>
                    <a:pt x="57" y="236"/>
                  </a:lnTo>
                  <a:close/>
                  <a:moveTo>
                    <a:pt x="73" y="206"/>
                  </a:moveTo>
                  <a:lnTo>
                    <a:pt x="81" y="213"/>
                  </a:lnTo>
                  <a:lnTo>
                    <a:pt x="88" y="218"/>
                  </a:lnTo>
                  <a:lnTo>
                    <a:pt x="96" y="221"/>
                  </a:lnTo>
                  <a:lnTo>
                    <a:pt x="104" y="224"/>
                  </a:lnTo>
                  <a:lnTo>
                    <a:pt x="111" y="225"/>
                  </a:lnTo>
                  <a:lnTo>
                    <a:pt x="120" y="226"/>
                  </a:lnTo>
                  <a:lnTo>
                    <a:pt x="127" y="226"/>
                  </a:lnTo>
                  <a:lnTo>
                    <a:pt x="134" y="225"/>
                  </a:lnTo>
                  <a:lnTo>
                    <a:pt x="141" y="223"/>
                  </a:lnTo>
                  <a:lnTo>
                    <a:pt x="148" y="220"/>
                  </a:lnTo>
                  <a:lnTo>
                    <a:pt x="154" y="216"/>
                  </a:lnTo>
                  <a:lnTo>
                    <a:pt x="160" y="213"/>
                  </a:lnTo>
                  <a:lnTo>
                    <a:pt x="166" y="206"/>
                  </a:lnTo>
                  <a:lnTo>
                    <a:pt x="171" y="200"/>
                  </a:lnTo>
                  <a:lnTo>
                    <a:pt x="175" y="194"/>
                  </a:lnTo>
                  <a:lnTo>
                    <a:pt x="180" y="186"/>
                  </a:lnTo>
                  <a:lnTo>
                    <a:pt x="184" y="178"/>
                  </a:lnTo>
                  <a:lnTo>
                    <a:pt x="188" y="170"/>
                  </a:lnTo>
                  <a:lnTo>
                    <a:pt x="190" y="161"/>
                  </a:lnTo>
                  <a:lnTo>
                    <a:pt x="191" y="153"/>
                  </a:lnTo>
                  <a:lnTo>
                    <a:pt x="192" y="144"/>
                  </a:lnTo>
                  <a:lnTo>
                    <a:pt x="192" y="135"/>
                  </a:lnTo>
                  <a:lnTo>
                    <a:pt x="191" y="126"/>
                  </a:lnTo>
                  <a:lnTo>
                    <a:pt x="190" y="118"/>
                  </a:lnTo>
                  <a:lnTo>
                    <a:pt x="188" y="109"/>
                  </a:lnTo>
                  <a:lnTo>
                    <a:pt x="183" y="100"/>
                  </a:lnTo>
                  <a:lnTo>
                    <a:pt x="180" y="93"/>
                  </a:lnTo>
                  <a:lnTo>
                    <a:pt x="175" y="84"/>
                  </a:lnTo>
                  <a:lnTo>
                    <a:pt x="169" y="77"/>
                  </a:lnTo>
                  <a:lnTo>
                    <a:pt x="163" y="69"/>
                  </a:lnTo>
                  <a:lnTo>
                    <a:pt x="156" y="62"/>
                  </a:lnTo>
                  <a:lnTo>
                    <a:pt x="148" y="55"/>
                  </a:lnTo>
                  <a:lnTo>
                    <a:pt x="142" y="52"/>
                  </a:lnTo>
                  <a:lnTo>
                    <a:pt x="137" y="48"/>
                  </a:lnTo>
                  <a:lnTo>
                    <a:pt x="132" y="44"/>
                  </a:lnTo>
                  <a:lnTo>
                    <a:pt x="126" y="42"/>
                  </a:lnTo>
                  <a:lnTo>
                    <a:pt x="121" y="39"/>
                  </a:lnTo>
                  <a:lnTo>
                    <a:pt x="116" y="37"/>
                  </a:lnTo>
                  <a:lnTo>
                    <a:pt x="110" y="35"/>
                  </a:lnTo>
                  <a:lnTo>
                    <a:pt x="105" y="34"/>
                  </a:lnTo>
                  <a:lnTo>
                    <a:pt x="100" y="34"/>
                  </a:lnTo>
                  <a:lnTo>
                    <a:pt x="95" y="34"/>
                  </a:lnTo>
                  <a:lnTo>
                    <a:pt x="90" y="34"/>
                  </a:lnTo>
                  <a:lnTo>
                    <a:pt x="85" y="34"/>
                  </a:lnTo>
                  <a:lnTo>
                    <a:pt x="80" y="35"/>
                  </a:lnTo>
                  <a:lnTo>
                    <a:pt x="75" y="37"/>
                  </a:lnTo>
                  <a:lnTo>
                    <a:pt x="71" y="39"/>
                  </a:lnTo>
                  <a:lnTo>
                    <a:pt x="66" y="42"/>
                  </a:lnTo>
                  <a:lnTo>
                    <a:pt x="62" y="44"/>
                  </a:lnTo>
                  <a:lnTo>
                    <a:pt x="58" y="47"/>
                  </a:lnTo>
                  <a:lnTo>
                    <a:pt x="54" y="50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7" y="73"/>
                  </a:lnTo>
                  <a:lnTo>
                    <a:pt x="33" y="80"/>
                  </a:lnTo>
                  <a:lnTo>
                    <a:pt x="30" y="89"/>
                  </a:lnTo>
                  <a:lnTo>
                    <a:pt x="28" y="96"/>
                  </a:lnTo>
                  <a:lnTo>
                    <a:pt x="26" y="105"/>
                  </a:lnTo>
                  <a:lnTo>
                    <a:pt x="25" y="114"/>
                  </a:lnTo>
                  <a:lnTo>
                    <a:pt x="25" y="121"/>
                  </a:lnTo>
                  <a:lnTo>
                    <a:pt x="26" y="130"/>
                  </a:lnTo>
                  <a:lnTo>
                    <a:pt x="27" y="139"/>
                  </a:lnTo>
                  <a:lnTo>
                    <a:pt x="28" y="148"/>
                  </a:lnTo>
                  <a:lnTo>
                    <a:pt x="31" y="156"/>
                  </a:lnTo>
                  <a:lnTo>
                    <a:pt x="36" y="165"/>
                  </a:lnTo>
                  <a:lnTo>
                    <a:pt x="41" y="174"/>
                  </a:lnTo>
                  <a:lnTo>
                    <a:pt x="48" y="183"/>
                  </a:lnTo>
                  <a:lnTo>
                    <a:pt x="55" y="190"/>
                  </a:lnTo>
                  <a:lnTo>
                    <a:pt x="63" y="199"/>
                  </a:lnTo>
                  <a:lnTo>
                    <a:pt x="73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1840" y="2681280"/>
              <a:ext cx="141120" cy="123840"/>
            </a:xfrm>
            <a:custGeom>
              <a:avLst/>
              <a:gdLst/>
              <a:ahLst/>
              <a:rect l="l" t="t" r="r" b="b"/>
              <a:pathLst>
                <a:path w="267" h="312">
                  <a:moveTo>
                    <a:pt x="178" y="312"/>
                  </a:moveTo>
                  <a:lnTo>
                    <a:pt x="0" y="172"/>
                  </a:lnTo>
                  <a:lnTo>
                    <a:pt x="15" y="142"/>
                  </a:lnTo>
                  <a:lnTo>
                    <a:pt x="214" y="137"/>
                  </a:lnTo>
                  <a:lnTo>
                    <a:pt x="75" y="27"/>
                  </a:lnTo>
                  <a:lnTo>
                    <a:pt x="89" y="0"/>
                  </a:lnTo>
                  <a:lnTo>
                    <a:pt x="267" y="140"/>
                  </a:lnTo>
                  <a:lnTo>
                    <a:pt x="252" y="170"/>
                  </a:lnTo>
                  <a:lnTo>
                    <a:pt x="53" y="175"/>
                  </a:lnTo>
                  <a:lnTo>
                    <a:pt x="192" y="283"/>
                  </a:lnTo>
                  <a:lnTo>
                    <a:pt x="178" y="3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03760" y="2649600"/>
              <a:ext cx="101520" cy="66600"/>
            </a:xfrm>
            <a:custGeom>
              <a:avLst/>
              <a:gdLst/>
              <a:ahLst/>
              <a:rect l="l" t="t" r="r" b="b"/>
              <a:pathLst>
                <a:path w="191" h="169">
                  <a:moveTo>
                    <a:pt x="177" y="169"/>
                  </a:moveTo>
                  <a:lnTo>
                    <a:pt x="0" y="30"/>
                  </a:lnTo>
                  <a:lnTo>
                    <a:pt x="14" y="0"/>
                  </a:lnTo>
                  <a:lnTo>
                    <a:pt x="191" y="140"/>
                  </a:lnTo>
                  <a:lnTo>
                    <a:pt x="177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9240" y="4383000"/>
              <a:ext cx="102960" cy="1177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172" y="294"/>
                  </a:moveTo>
                  <a:lnTo>
                    <a:pt x="0" y="111"/>
                  </a:lnTo>
                  <a:lnTo>
                    <a:pt x="27" y="94"/>
                  </a:lnTo>
                  <a:lnTo>
                    <a:pt x="147" y="229"/>
                  </a:lnTo>
                  <a:lnTo>
                    <a:pt x="150" y="233"/>
                  </a:lnTo>
                  <a:lnTo>
                    <a:pt x="154" y="238"/>
                  </a:lnTo>
                  <a:lnTo>
                    <a:pt x="158" y="241"/>
                  </a:lnTo>
                  <a:lnTo>
                    <a:pt x="161" y="245"/>
                  </a:lnTo>
                  <a:lnTo>
                    <a:pt x="164" y="249"/>
                  </a:lnTo>
                  <a:lnTo>
                    <a:pt x="168" y="253"/>
                  </a:lnTo>
                  <a:lnTo>
                    <a:pt x="170" y="256"/>
                  </a:lnTo>
                  <a:lnTo>
                    <a:pt x="173" y="260"/>
                  </a:lnTo>
                  <a:lnTo>
                    <a:pt x="172" y="255"/>
                  </a:lnTo>
                  <a:lnTo>
                    <a:pt x="172" y="249"/>
                  </a:lnTo>
                  <a:lnTo>
                    <a:pt x="171" y="244"/>
                  </a:lnTo>
                  <a:lnTo>
                    <a:pt x="170" y="239"/>
                  </a:lnTo>
                  <a:lnTo>
                    <a:pt x="169" y="233"/>
                  </a:lnTo>
                  <a:lnTo>
                    <a:pt x="169" y="228"/>
                  </a:lnTo>
                  <a:lnTo>
                    <a:pt x="168" y="221"/>
                  </a:lnTo>
                  <a:lnTo>
                    <a:pt x="167" y="216"/>
                  </a:lnTo>
                  <a:lnTo>
                    <a:pt x="145" y="17"/>
                  </a:lnTo>
                  <a:lnTo>
                    <a:pt x="171" y="0"/>
                  </a:lnTo>
                  <a:lnTo>
                    <a:pt x="196" y="277"/>
                  </a:lnTo>
                  <a:lnTo>
                    <a:pt x="172" y="2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56080" y="4373640"/>
              <a:ext cx="65160" cy="96840"/>
            </a:xfrm>
            <a:custGeom>
              <a:avLst/>
              <a:gdLst/>
              <a:ahLst/>
              <a:rect l="l" t="t" r="r" b="b"/>
              <a:pathLst>
                <a:path w="122" h="244">
                  <a:moveTo>
                    <a:pt x="14" y="48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37" y="33"/>
                  </a:lnTo>
                  <a:lnTo>
                    <a:pt x="14" y="48"/>
                  </a:lnTo>
                  <a:close/>
                  <a:moveTo>
                    <a:pt x="99" y="244"/>
                  </a:moveTo>
                  <a:lnTo>
                    <a:pt x="27" y="79"/>
                  </a:lnTo>
                  <a:lnTo>
                    <a:pt x="51" y="64"/>
                  </a:lnTo>
                  <a:lnTo>
                    <a:pt x="122" y="229"/>
                  </a:lnTo>
                  <a:lnTo>
                    <a:pt x="99" y="2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08280" y="4367160"/>
              <a:ext cx="92160" cy="82440"/>
            </a:xfrm>
            <a:custGeom>
              <a:avLst/>
              <a:gdLst/>
              <a:ahLst/>
              <a:rect l="l" t="t" r="r" b="b"/>
              <a:pathLst>
                <a:path w="175" h="210">
                  <a:moveTo>
                    <a:pt x="137" y="143"/>
                  </a:moveTo>
                  <a:lnTo>
                    <a:pt x="135" y="148"/>
                  </a:lnTo>
                  <a:lnTo>
                    <a:pt x="134" y="152"/>
                  </a:lnTo>
                  <a:lnTo>
                    <a:pt x="132" y="157"/>
                  </a:lnTo>
                  <a:lnTo>
                    <a:pt x="130" y="162"/>
                  </a:lnTo>
                  <a:lnTo>
                    <a:pt x="128" y="166"/>
                  </a:lnTo>
                  <a:lnTo>
                    <a:pt x="126" y="170"/>
                  </a:lnTo>
                  <a:lnTo>
                    <a:pt x="123" y="174"/>
                  </a:lnTo>
                  <a:lnTo>
                    <a:pt x="121" y="177"/>
                  </a:lnTo>
                  <a:lnTo>
                    <a:pt x="119" y="181"/>
                  </a:lnTo>
                  <a:lnTo>
                    <a:pt x="116" y="184"/>
                  </a:lnTo>
                  <a:lnTo>
                    <a:pt x="114" y="186"/>
                  </a:lnTo>
                  <a:lnTo>
                    <a:pt x="111" y="190"/>
                  </a:lnTo>
                  <a:lnTo>
                    <a:pt x="108" y="192"/>
                  </a:lnTo>
                  <a:lnTo>
                    <a:pt x="105" y="195"/>
                  </a:lnTo>
                  <a:lnTo>
                    <a:pt x="102" y="197"/>
                  </a:lnTo>
                  <a:lnTo>
                    <a:pt x="99" y="200"/>
                  </a:lnTo>
                  <a:lnTo>
                    <a:pt x="93" y="202"/>
                  </a:lnTo>
                  <a:lnTo>
                    <a:pt x="87" y="205"/>
                  </a:lnTo>
                  <a:lnTo>
                    <a:pt x="82" y="207"/>
                  </a:lnTo>
                  <a:lnTo>
                    <a:pt x="77" y="209"/>
                  </a:lnTo>
                  <a:lnTo>
                    <a:pt x="72" y="210"/>
                  </a:lnTo>
                  <a:lnTo>
                    <a:pt x="67" y="210"/>
                  </a:lnTo>
                  <a:lnTo>
                    <a:pt x="63" y="210"/>
                  </a:lnTo>
                  <a:lnTo>
                    <a:pt x="58" y="209"/>
                  </a:lnTo>
                  <a:lnTo>
                    <a:pt x="54" y="206"/>
                  </a:lnTo>
                  <a:lnTo>
                    <a:pt x="50" y="205"/>
                  </a:lnTo>
                  <a:lnTo>
                    <a:pt x="46" y="202"/>
                  </a:lnTo>
                  <a:lnTo>
                    <a:pt x="43" y="199"/>
                  </a:lnTo>
                  <a:lnTo>
                    <a:pt x="40" y="195"/>
                  </a:lnTo>
                  <a:lnTo>
                    <a:pt x="37" y="191"/>
                  </a:lnTo>
                  <a:lnTo>
                    <a:pt x="34" y="187"/>
                  </a:lnTo>
                  <a:lnTo>
                    <a:pt x="32" y="182"/>
                  </a:lnTo>
                  <a:lnTo>
                    <a:pt x="31" y="179"/>
                  </a:lnTo>
                  <a:lnTo>
                    <a:pt x="30" y="176"/>
                  </a:lnTo>
                  <a:lnTo>
                    <a:pt x="29" y="172"/>
                  </a:lnTo>
                  <a:lnTo>
                    <a:pt x="28" y="170"/>
                  </a:lnTo>
                  <a:lnTo>
                    <a:pt x="28" y="166"/>
                  </a:lnTo>
                  <a:lnTo>
                    <a:pt x="27" y="164"/>
                  </a:lnTo>
                  <a:lnTo>
                    <a:pt x="27" y="160"/>
                  </a:lnTo>
                  <a:lnTo>
                    <a:pt x="27" y="156"/>
                  </a:lnTo>
                  <a:lnTo>
                    <a:pt x="27" y="154"/>
                  </a:lnTo>
                  <a:lnTo>
                    <a:pt x="27" y="150"/>
                  </a:lnTo>
                  <a:lnTo>
                    <a:pt x="28" y="148"/>
                  </a:lnTo>
                  <a:lnTo>
                    <a:pt x="28" y="145"/>
                  </a:lnTo>
                  <a:lnTo>
                    <a:pt x="29" y="141"/>
                  </a:lnTo>
                  <a:lnTo>
                    <a:pt x="30" y="139"/>
                  </a:lnTo>
                  <a:lnTo>
                    <a:pt x="31" y="136"/>
                  </a:lnTo>
                  <a:lnTo>
                    <a:pt x="32" y="133"/>
                  </a:lnTo>
                  <a:lnTo>
                    <a:pt x="33" y="130"/>
                  </a:lnTo>
                  <a:lnTo>
                    <a:pt x="34" y="128"/>
                  </a:lnTo>
                  <a:lnTo>
                    <a:pt x="36" y="125"/>
                  </a:lnTo>
                  <a:lnTo>
                    <a:pt x="37" y="123"/>
                  </a:lnTo>
                  <a:lnTo>
                    <a:pt x="39" y="120"/>
                  </a:lnTo>
                  <a:lnTo>
                    <a:pt x="40" y="118"/>
                  </a:lnTo>
                  <a:lnTo>
                    <a:pt x="42" y="115"/>
                  </a:lnTo>
                  <a:lnTo>
                    <a:pt x="44" y="113"/>
                  </a:lnTo>
                  <a:lnTo>
                    <a:pt x="45" y="111"/>
                  </a:lnTo>
                  <a:lnTo>
                    <a:pt x="47" y="110"/>
                  </a:lnTo>
                  <a:lnTo>
                    <a:pt x="49" y="108"/>
                  </a:lnTo>
                  <a:lnTo>
                    <a:pt x="51" y="105"/>
                  </a:lnTo>
                  <a:lnTo>
                    <a:pt x="54" y="103"/>
                  </a:lnTo>
                  <a:lnTo>
                    <a:pt x="56" y="101"/>
                  </a:lnTo>
                  <a:lnTo>
                    <a:pt x="59" y="98"/>
                  </a:lnTo>
                  <a:lnTo>
                    <a:pt x="62" y="95"/>
                  </a:lnTo>
                  <a:lnTo>
                    <a:pt x="68" y="90"/>
                  </a:lnTo>
                  <a:lnTo>
                    <a:pt x="74" y="85"/>
                  </a:lnTo>
                  <a:lnTo>
                    <a:pt x="79" y="80"/>
                  </a:lnTo>
                  <a:lnTo>
                    <a:pt x="84" y="75"/>
                  </a:lnTo>
                  <a:lnTo>
                    <a:pt x="88" y="71"/>
                  </a:lnTo>
                  <a:lnTo>
                    <a:pt x="93" y="66"/>
                  </a:lnTo>
                  <a:lnTo>
                    <a:pt x="96" y="63"/>
                  </a:lnTo>
                  <a:lnTo>
                    <a:pt x="99" y="59"/>
                  </a:lnTo>
                  <a:lnTo>
                    <a:pt x="99" y="58"/>
                  </a:lnTo>
                  <a:lnTo>
                    <a:pt x="98" y="56"/>
                  </a:lnTo>
                  <a:lnTo>
                    <a:pt x="98" y="55"/>
                  </a:lnTo>
                  <a:lnTo>
                    <a:pt x="97" y="54"/>
                  </a:lnTo>
                  <a:lnTo>
                    <a:pt x="97" y="54"/>
                  </a:lnTo>
                  <a:lnTo>
                    <a:pt x="97" y="53"/>
                  </a:lnTo>
                  <a:lnTo>
                    <a:pt x="96" y="53"/>
                  </a:lnTo>
                  <a:lnTo>
                    <a:pt x="96" y="51"/>
                  </a:lnTo>
                  <a:lnTo>
                    <a:pt x="94" y="48"/>
                  </a:lnTo>
                  <a:lnTo>
                    <a:pt x="91" y="44"/>
                  </a:lnTo>
                  <a:lnTo>
                    <a:pt x="89" y="41"/>
                  </a:lnTo>
                  <a:lnTo>
                    <a:pt x="87" y="38"/>
                  </a:lnTo>
                  <a:lnTo>
                    <a:pt x="85" y="36"/>
                  </a:lnTo>
                  <a:lnTo>
                    <a:pt x="83" y="34"/>
                  </a:lnTo>
                  <a:lnTo>
                    <a:pt x="81" y="33"/>
                  </a:lnTo>
                  <a:lnTo>
                    <a:pt x="78" y="31"/>
                  </a:lnTo>
                  <a:lnTo>
                    <a:pt x="75" y="31"/>
                  </a:lnTo>
                  <a:lnTo>
                    <a:pt x="72" y="31"/>
                  </a:lnTo>
                  <a:lnTo>
                    <a:pt x="68" y="31"/>
                  </a:lnTo>
                  <a:lnTo>
                    <a:pt x="65" y="31"/>
                  </a:lnTo>
                  <a:lnTo>
                    <a:pt x="61" y="33"/>
                  </a:lnTo>
                  <a:lnTo>
                    <a:pt x="57" y="35"/>
                  </a:lnTo>
                  <a:lnTo>
                    <a:pt x="53" y="36"/>
                  </a:lnTo>
                  <a:lnTo>
                    <a:pt x="49" y="39"/>
                  </a:lnTo>
                  <a:lnTo>
                    <a:pt x="45" y="41"/>
                  </a:lnTo>
                  <a:lnTo>
                    <a:pt x="42" y="45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3" y="53"/>
                  </a:lnTo>
                  <a:lnTo>
                    <a:pt x="31" y="56"/>
                  </a:lnTo>
                  <a:lnTo>
                    <a:pt x="30" y="59"/>
                  </a:lnTo>
                  <a:lnTo>
                    <a:pt x="28" y="61"/>
                  </a:lnTo>
                  <a:lnTo>
                    <a:pt x="27" y="65"/>
                  </a:lnTo>
                  <a:lnTo>
                    <a:pt x="27" y="69"/>
                  </a:lnTo>
                  <a:lnTo>
                    <a:pt x="26" y="71"/>
                  </a:lnTo>
                  <a:lnTo>
                    <a:pt x="26" y="76"/>
                  </a:lnTo>
                  <a:lnTo>
                    <a:pt x="26" y="80"/>
                  </a:lnTo>
                  <a:lnTo>
                    <a:pt x="26" y="84"/>
                  </a:lnTo>
                  <a:lnTo>
                    <a:pt x="27" y="89"/>
                  </a:lnTo>
                  <a:lnTo>
                    <a:pt x="28" y="94"/>
                  </a:lnTo>
                  <a:lnTo>
                    <a:pt x="3" y="105"/>
                  </a:lnTo>
                  <a:lnTo>
                    <a:pt x="2" y="100"/>
                  </a:lnTo>
                  <a:lnTo>
                    <a:pt x="1" y="95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59"/>
                  </a:lnTo>
                  <a:lnTo>
                    <a:pt x="5" y="54"/>
                  </a:lnTo>
                  <a:lnTo>
                    <a:pt x="7" y="51"/>
                  </a:lnTo>
                  <a:lnTo>
                    <a:pt x="9" y="48"/>
                  </a:lnTo>
                  <a:lnTo>
                    <a:pt x="11" y="44"/>
                  </a:lnTo>
                  <a:lnTo>
                    <a:pt x="13" y="40"/>
                  </a:lnTo>
                  <a:lnTo>
                    <a:pt x="16" y="36"/>
                  </a:lnTo>
                  <a:lnTo>
                    <a:pt x="19" y="33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3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42" y="14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4" y="6"/>
                  </a:lnTo>
                  <a:lnTo>
                    <a:pt x="58" y="5"/>
                  </a:lnTo>
                  <a:lnTo>
                    <a:pt x="62" y="4"/>
                  </a:lnTo>
                  <a:lnTo>
                    <a:pt x="65" y="3"/>
                  </a:lnTo>
                  <a:lnTo>
                    <a:pt x="69" y="2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4" y="3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100" y="6"/>
                  </a:lnTo>
                  <a:lnTo>
                    <a:pt x="102" y="9"/>
                  </a:lnTo>
                  <a:lnTo>
                    <a:pt x="104" y="10"/>
                  </a:lnTo>
                  <a:lnTo>
                    <a:pt x="105" y="13"/>
                  </a:lnTo>
                  <a:lnTo>
                    <a:pt x="107" y="15"/>
                  </a:lnTo>
                  <a:lnTo>
                    <a:pt x="109" y="18"/>
                  </a:lnTo>
                  <a:lnTo>
                    <a:pt x="110" y="19"/>
                  </a:lnTo>
                  <a:lnTo>
                    <a:pt x="111" y="21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30"/>
                  </a:lnTo>
                  <a:lnTo>
                    <a:pt x="117" y="34"/>
                  </a:lnTo>
                  <a:lnTo>
                    <a:pt x="119" y="38"/>
                  </a:lnTo>
                  <a:lnTo>
                    <a:pt x="121" y="43"/>
                  </a:lnTo>
                  <a:lnTo>
                    <a:pt x="137" y="80"/>
                  </a:lnTo>
                  <a:lnTo>
                    <a:pt x="141" y="89"/>
                  </a:lnTo>
                  <a:lnTo>
                    <a:pt x="145" y="98"/>
                  </a:lnTo>
                  <a:lnTo>
                    <a:pt x="148" y="105"/>
                  </a:lnTo>
                  <a:lnTo>
                    <a:pt x="151" y="111"/>
                  </a:lnTo>
                  <a:lnTo>
                    <a:pt x="154" y="118"/>
                  </a:lnTo>
                  <a:lnTo>
                    <a:pt x="156" y="121"/>
                  </a:lnTo>
                  <a:lnTo>
                    <a:pt x="158" y="125"/>
                  </a:lnTo>
                  <a:lnTo>
                    <a:pt x="160" y="129"/>
                  </a:lnTo>
                  <a:lnTo>
                    <a:pt x="161" y="131"/>
                  </a:lnTo>
                  <a:lnTo>
                    <a:pt x="163" y="133"/>
                  </a:lnTo>
                  <a:lnTo>
                    <a:pt x="164" y="135"/>
                  </a:lnTo>
                  <a:lnTo>
                    <a:pt x="167" y="138"/>
                  </a:lnTo>
                  <a:lnTo>
                    <a:pt x="169" y="139"/>
                  </a:lnTo>
                  <a:lnTo>
                    <a:pt x="171" y="141"/>
                  </a:lnTo>
                  <a:lnTo>
                    <a:pt x="173" y="143"/>
                  </a:lnTo>
                  <a:lnTo>
                    <a:pt x="175" y="145"/>
                  </a:lnTo>
                  <a:lnTo>
                    <a:pt x="150" y="160"/>
                  </a:lnTo>
                  <a:lnTo>
                    <a:pt x="149" y="159"/>
                  </a:lnTo>
                  <a:lnTo>
                    <a:pt x="147" y="156"/>
                  </a:lnTo>
                  <a:lnTo>
                    <a:pt x="145" y="155"/>
                  </a:lnTo>
                  <a:lnTo>
                    <a:pt x="143" y="152"/>
                  </a:lnTo>
                  <a:lnTo>
                    <a:pt x="142" y="150"/>
                  </a:lnTo>
                  <a:lnTo>
                    <a:pt x="140" y="148"/>
                  </a:lnTo>
                  <a:lnTo>
                    <a:pt x="139" y="145"/>
                  </a:lnTo>
                  <a:lnTo>
                    <a:pt x="137" y="143"/>
                  </a:lnTo>
                  <a:close/>
                  <a:moveTo>
                    <a:pt x="109" y="81"/>
                  </a:moveTo>
                  <a:lnTo>
                    <a:pt x="106" y="85"/>
                  </a:lnTo>
                  <a:lnTo>
                    <a:pt x="103" y="89"/>
                  </a:lnTo>
                  <a:lnTo>
                    <a:pt x="100" y="93"/>
                  </a:lnTo>
                  <a:lnTo>
                    <a:pt x="96" y="98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1" y="111"/>
                  </a:lnTo>
                  <a:lnTo>
                    <a:pt x="75" y="116"/>
                  </a:lnTo>
                  <a:lnTo>
                    <a:pt x="72" y="119"/>
                  </a:lnTo>
                  <a:lnTo>
                    <a:pt x="69" y="121"/>
                  </a:lnTo>
                  <a:lnTo>
                    <a:pt x="67" y="124"/>
                  </a:lnTo>
                  <a:lnTo>
                    <a:pt x="65" y="126"/>
                  </a:lnTo>
                  <a:lnTo>
                    <a:pt x="63" y="129"/>
                  </a:lnTo>
                  <a:lnTo>
                    <a:pt x="61" y="131"/>
                  </a:lnTo>
                  <a:lnTo>
                    <a:pt x="59" y="133"/>
                  </a:lnTo>
                  <a:lnTo>
                    <a:pt x="58" y="135"/>
                  </a:lnTo>
                  <a:lnTo>
                    <a:pt x="57" y="136"/>
                  </a:lnTo>
                  <a:lnTo>
                    <a:pt x="56" y="139"/>
                  </a:lnTo>
                  <a:lnTo>
                    <a:pt x="55" y="140"/>
                  </a:lnTo>
                  <a:lnTo>
                    <a:pt x="55" y="143"/>
                  </a:lnTo>
                  <a:lnTo>
                    <a:pt x="54" y="144"/>
                  </a:lnTo>
                  <a:lnTo>
                    <a:pt x="54" y="146"/>
                  </a:lnTo>
                  <a:lnTo>
                    <a:pt x="53" y="148"/>
                  </a:lnTo>
                  <a:lnTo>
                    <a:pt x="53" y="150"/>
                  </a:lnTo>
                  <a:lnTo>
                    <a:pt x="53" y="152"/>
                  </a:lnTo>
                  <a:lnTo>
                    <a:pt x="53" y="154"/>
                  </a:lnTo>
                  <a:lnTo>
                    <a:pt x="53" y="156"/>
                  </a:lnTo>
                  <a:lnTo>
                    <a:pt x="53" y="157"/>
                  </a:lnTo>
                  <a:lnTo>
                    <a:pt x="54" y="160"/>
                  </a:lnTo>
                  <a:lnTo>
                    <a:pt x="54" y="161"/>
                  </a:lnTo>
                  <a:lnTo>
                    <a:pt x="55" y="164"/>
                  </a:lnTo>
                  <a:lnTo>
                    <a:pt x="56" y="165"/>
                  </a:lnTo>
                  <a:lnTo>
                    <a:pt x="57" y="167"/>
                  </a:lnTo>
                  <a:lnTo>
                    <a:pt x="58" y="170"/>
                  </a:lnTo>
                  <a:lnTo>
                    <a:pt x="60" y="172"/>
                  </a:lnTo>
                  <a:lnTo>
                    <a:pt x="62" y="175"/>
                  </a:lnTo>
                  <a:lnTo>
                    <a:pt x="64" y="176"/>
                  </a:lnTo>
                  <a:lnTo>
                    <a:pt x="66" y="177"/>
                  </a:lnTo>
                  <a:lnTo>
                    <a:pt x="68" y="179"/>
                  </a:lnTo>
                  <a:lnTo>
                    <a:pt x="71" y="180"/>
                  </a:lnTo>
                  <a:lnTo>
                    <a:pt x="73" y="180"/>
                  </a:lnTo>
                  <a:lnTo>
                    <a:pt x="76" y="180"/>
                  </a:lnTo>
                  <a:lnTo>
                    <a:pt x="78" y="180"/>
                  </a:lnTo>
                  <a:lnTo>
                    <a:pt x="81" y="180"/>
                  </a:lnTo>
                  <a:lnTo>
                    <a:pt x="84" y="179"/>
                  </a:lnTo>
                  <a:lnTo>
                    <a:pt x="87" y="177"/>
                  </a:lnTo>
                  <a:lnTo>
                    <a:pt x="90" y="176"/>
                  </a:lnTo>
                  <a:lnTo>
                    <a:pt x="95" y="174"/>
                  </a:lnTo>
                  <a:lnTo>
                    <a:pt x="98" y="171"/>
                  </a:lnTo>
                  <a:lnTo>
                    <a:pt x="101" y="169"/>
                  </a:lnTo>
                  <a:lnTo>
                    <a:pt x="104" y="166"/>
                  </a:lnTo>
                  <a:lnTo>
                    <a:pt x="106" y="164"/>
                  </a:lnTo>
                  <a:lnTo>
                    <a:pt x="109" y="161"/>
                  </a:lnTo>
                  <a:lnTo>
                    <a:pt x="111" y="157"/>
                  </a:lnTo>
                  <a:lnTo>
                    <a:pt x="113" y="155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8" y="144"/>
                  </a:lnTo>
                  <a:lnTo>
                    <a:pt x="119" y="141"/>
                  </a:lnTo>
                  <a:lnTo>
                    <a:pt x="120" y="138"/>
                  </a:lnTo>
                  <a:lnTo>
                    <a:pt x="121" y="134"/>
                  </a:lnTo>
                  <a:lnTo>
                    <a:pt x="121" y="130"/>
                  </a:lnTo>
                  <a:lnTo>
                    <a:pt x="121" y="126"/>
                  </a:lnTo>
                  <a:lnTo>
                    <a:pt x="121" y="123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0" y="113"/>
                  </a:lnTo>
                  <a:lnTo>
                    <a:pt x="119" y="109"/>
                  </a:lnTo>
                  <a:lnTo>
                    <a:pt x="118" y="105"/>
                  </a:lnTo>
                  <a:lnTo>
                    <a:pt x="116" y="100"/>
                  </a:lnTo>
                  <a:lnTo>
                    <a:pt x="115" y="96"/>
                  </a:lnTo>
                  <a:lnTo>
                    <a:pt x="113" y="91"/>
                  </a:lnTo>
                  <a:lnTo>
                    <a:pt x="109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01880" y="4267080"/>
              <a:ext cx="130320" cy="130320"/>
            </a:xfrm>
            <a:custGeom>
              <a:avLst/>
              <a:gdLst/>
              <a:ahLst/>
              <a:rect l="l" t="t" r="r" b="b"/>
              <a:pathLst>
                <a:path w="245" h="326">
                  <a:moveTo>
                    <a:pt x="98" y="326"/>
                  </a:moveTo>
                  <a:lnTo>
                    <a:pt x="0" y="97"/>
                  </a:lnTo>
                  <a:lnTo>
                    <a:pt x="25" y="80"/>
                  </a:lnTo>
                  <a:lnTo>
                    <a:pt x="200" y="196"/>
                  </a:lnTo>
                  <a:lnTo>
                    <a:pt x="122" y="17"/>
                  </a:lnTo>
                  <a:lnTo>
                    <a:pt x="146" y="0"/>
                  </a:lnTo>
                  <a:lnTo>
                    <a:pt x="245" y="230"/>
                  </a:lnTo>
                  <a:lnTo>
                    <a:pt x="220" y="246"/>
                  </a:lnTo>
                  <a:lnTo>
                    <a:pt x="44" y="130"/>
                  </a:lnTo>
                  <a:lnTo>
                    <a:pt x="122" y="310"/>
                  </a:lnTo>
                  <a:lnTo>
                    <a:pt x="98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7520" y="4235400"/>
              <a:ext cx="108000" cy="117360"/>
            </a:xfrm>
            <a:custGeom>
              <a:avLst/>
              <a:gdLst/>
              <a:ahLst/>
              <a:rect l="l" t="t" r="r" b="b"/>
              <a:pathLst>
                <a:path w="202" h="293">
                  <a:moveTo>
                    <a:pt x="28" y="293"/>
                  </a:moveTo>
                  <a:lnTo>
                    <a:pt x="0" y="17"/>
                  </a:lnTo>
                  <a:lnTo>
                    <a:pt x="26" y="0"/>
                  </a:lnTo>
                  <a:lnTo>
                    <a:pt x="202" y="179"/>
                  </a:lnTo>
                  <a:lnTo>
                    <a:pt x="173" y="198"/>
                  </a:lnTo>
                  <a:lnTo>
                    <a:pt x="122" y="142"/>
                  </a:lnTo>
                  <a:lnTo>
                    <a:pt x="45" y="193"/>
                  </a:lnTo>
                  <a:lnTo>
                    <a:pt x="54" y="275"/>
                  </a:lnTo>
                  <a:lnTo>
                    <a:pt x="28" y="293"/>
                  </a:lnTo>
                  <a:close/>
                  <a:moveTo>
                    <a:pt x="41" y="164"/>
                  </a:moveTo>
                  <a:lnTo>
                    <a:pt x="103" y="123"/>
                  </a:lnTo>
                  <a:lnTo>
                    <a:pt x="57" y="72"/>
                  </a:lnTo>
                  <a:lnTo>
                    <a:pt x="52" y="67"/>
                  </a:lnTo>
                  <a:lnTo>
                    <a:pt x="47" y="61"/>
                  </a:lnTo>
                  <a:lnTo>
                    <a:pt x="43" y="56"/>
                  </a:lnTo>
                  <a:lnTo>
                    <a:pt x="37" y="51"/>
                  </a:lnTo>
                  <a:lnTo>
                    <a:pt x="33" y="46"/>
                  </a:lnTo>
                  <a:lnTo>
                    <a:pt x="30" y="42"/>
                  </a:lnTo>
                  <a:lnTo>
                    <a:pt x="26" y="37"/>
                  </a:lnTo>
                  <a:lnTo>
                    <a:pt x="23" y="33"/>
                  </a:lnTo>
                  <a:lnTo>
                    <a:pt x="24" y="40"/>
                  </a:lnTo>
                  <a:lnTo>
                    <a:pt x="26" y="46"/>
                  </a:lnTo>
                  <a:lnTo>
                    <a:pt x="27" y="52"/>
                  </a:lnTo>
                  <a:lnTo>
                    <a:pt x="28" y="58"/>
                  </a:lnTo>
                  <a:lnTo>
                    <a:pt x="29" y="64"/>
                  </a:lnTo>
                  <a:lnTo>
                    <a:pt x="30" y="71"/>
                  </a:lnTo>
                  <a:lnTo>
                    <a:pt x="31" y="77"/>
                  </a:lnTo>
                  <a:lnTo>
                    <a:pt x="32" y="83"/>
                  </a:lnTo>
                  <a:lnTo>
                    <a:pt x="41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0880" y="4176720"/>
              <a:ext cx="123840" cy="128520"/>
            </a:xfrm>
            <a:custGeom>
              <a:avLst/>
              <a:gdLst/>
              <a:ahLst/>
              <a:rect l="l" t="t" r="r" b="b"/>
              <a:pathLst>
                <a:path w="235" h="323">
                  <a:moveTo>
                    <a:pt x="88" y="323"/>
                  </a:moveTo>
                  <a:lnTo>
                    <a:pt x="76" y="295"/>
                  </a:lnTo>
                  <a:lnTo>
                    <a:pt x="107" y="86"/>
                  </a:lnTo>
                  <a:lnTo>
                    <a:pt x="108" y="81"/>
                  </a:lnTo>
                  <a:lnTo>
                    <a:pt x="109" y="75"/>
                  </a:lnTo>
                  <a:lnTo>
                    <a:pt x="110" y="70"/>
                  </a:lnTo>
                  <a:lnTo>
                    <a:pt x="111" y="65"/>
                  </a:lnTo>
                  <a:lnTo>
                    <a:pt x="112" y="60"/>
                  </a:lnTo>
                  <a:lnTo>
                    <a:pt x="113" y="55"/>
                  </a:lnTo>
                  <a:lnTo>
                    <a:pt x="114" y="51"/>
                  </a:lnTo>
                  <a:lnTo>
                    <a:pt x="115" y="46"/>
                  </a:lnTo>
                  <a:lnTo>
                    <a:pt x="12" y="115"/>
                  </a:lnTo>
                  <a:lnTo>
                    <a:pt x="0" y="87"/>
                  </a:lnTo>
                  <a:lnTo>
                    <a:pt x="132" y="0"/>
                  </a:lnTo>
                  <a:lnTo>
                    <a:pt x="145" y="28"/>
                  </a:lnTo>
                  <a:lnTo>
                    <a:pt x="109" y="255"/>
                  </a:lnTo>
                  <a:lnTo>
                    <a:pt x="104" y="277"/>
                  </a:lnTo>
                  <a:lnTo>
                    <a:pt x="223" y="200"/>
                  </a:lnTo>
                  <a:lnTo>
                    <a:pt x="235" y="227"/>
                  </a:lnTo>
                  <a:lnTo>
                    <a:pt x="88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73680" y="4135320"/>
              <a:ext cx="125280" cy="128880"/>
            </a:xfrm>
            <a:custGeom>
              <a:avLst/>
              <a:gdLst/>
              <a:ahLst/>
              <a:rect l="l" t="t" r="r" b="b"/>
              <a:pathLst>
                <a:path w="235" h="323">
                  <a:moveTo>
                    <a:pt x="88" y="323"/>
                  </a:moveTo>
                  <a:lnTo>
                    <a:pt x="76" y="296"/>
                  </a:lnTo>
                  <a:lnTo>
                    <a:pt x="107" y="86"/>
                  </a:lnTo>
                  <a:lnTo>
                    <a:pt x="108" y="81"/>
                  </a:lnTo>
                  <a:lnTo>
                    <a:pt x="109" y="76"/>
                  </a:lnTo>
                  <a:lnTo>
                    <a:pt x="110" y="70"/>
                  </a:lnTo>
                  <a:lnTo>
                    <a:pt x="111" y="65"/>
                  </a:lnTo>
                  <a:lnTo>
                    <a:pt x="112" y="60"/>
                  </a:lnTo>
                  <a:lnTo>
                    <a:pt x="112" y="56"/>
                  </a:lnTo>
                  <a:lnTo>
                    <a:pt x="113" y="51"/>
                  </a:lnTo>
                  <a:lnTo>
                    <a:pt x="114" y="46"/>
                  </a:lnTo>
                  <a:lnTo>
                    <a:pt x="11" y="115"/>
                  </a:lnTo>
                  <a:lnTo>
                    <a:pt x="0" y="87"/>
                  </a:lnTo>
                  <a:lnTo>
                    <a:pt x="133" y="0"/>
                  </a:lnTo>
                  <a:lnTo>
                    <a:pt x="144" y="27"/>
                  </a:lnTo>
                  <a:lnTo>
                    <a:pt x="108" y="255"/>
                  </a:lnTo>
                  <a:lnTo>
                    <a:pt x="104" y="278"/>
                  </a:lnTo>
                  <a:lnTo>
                    <a:pt x="223" y="200"/>
                  </a:lnTo>
                  <a:lnTo>
                    <a:pt x="235" y="227"/>
                  </a:lnTo>
                  <a:lnTo>
                    <a:pt x="88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86360" y="4106880"/>
              <a:ext cx="106200" cy="11592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27" y="292"/>
                  </a:moveTo>
                  <a:lnTo>
                    <a:pt x="0" y="17"/>
                  </a:lnTo>
                  <a:lnTo>
                    <a:pt x="26" y="0"/>
                  </a:lnTo>
                  <a:lnTo>
                    <a:pt x="200" y="178"/>
                  </a:lnTo>
                  <a:lnTo>
                    <a:pt x="173" y="197"/>
                  </a:lnTo>
                  <a:lnTo>
                    <a:pt x="121" y="142"/>
                  </a:lnTo>
                  <a:lnTo>
                    <a:pt x="43" y="192"/>
                  </a:lnTo>
                  <a:lnTo>
                    <a:pt x="53" y="276"/>
                  </a:lnTo>
                  <a:lnTo>
                    <a:pt x="27" y="292"/>
                  </a:lnTo>
                  <a:close/>
                  <a:moveTo>
                    <a:pt x="40" y="163"/>
                  </a:moveTo>
                  <a:lnTo>
                    <a:pt x="103" y="122"/>
                  </a:lnTo>
                  <a:lnTo>
                    <a:pt x="56" y="71"/>
                  </a:lnTo>
                  <a:lnTo>
                    <a:pt x="51" y="66"/>
                  </a:lnTo>
                  <a:lnTo>
                    <a:pt x="46" y="60"/>
                  </a:lnTo>
                  <a:lnTo>
                    <a:pt x="41" y="55"/>
                  </a:lnTo>
                  <a:lnTo>
                    <a:pt x="37" y="50"/>
                  </a:lnTo>
                  <a:lnTo>
                    <a:pt x="33" y="46"/>
                  </a:lnTo>
                  <a:lnTo>
                    <a:pt x="29" y="41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24" y="39"/>
                  </a:lnTo>
                  <a:lnTo>
                    <a:pt x="25" y="45"/>
                  </a:lnTo>
                  <a:lnTo>
                    <a:pt x="26" y="51"/>
                  </a:lnTo>
                  <a:lnTo>
                    <a:pt x="28" y="57"/>
                  </a:lnTo>
                  <a:lnTo>
                    <a:pt x="29" y="64"/>
                  </a:lnTo>
                  <a:lnTo>
                    <a:pt x="30" y="70"/>
                  </a:lnTo>
                  <a:lnTo>
                    <a:pt x="30" y="76"/>
                  </a:lnTo>
                  <a:lnTo>
                    <a:pt x="31" y="82"/>
                  </a:lnTo>
                  <a:lnTo>
                    <a:pt x="40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51160" y="4051440"/>
              <a:ext cx="138240" cy="120600"/>
            </a:xfrm>
            <a:custGeom>
              <a:avLst/>
              <a:gdLst/>
              <a:ahLst/>
              <a:rect l="l" t="t" r="r" b="b"/>
              <a:pathLst>
                <a:path w="263" h="302">
                  <a:moveTo>
                    <a:pt x="99" y="302"/>
                  </a:moveTo>
                  <a:lnTo>
                    <a:pt x="0" y="74"/>
                  </a:lnTo>
                  <a:lnTo>
                    <a:pt x="83" y="19"/>
                  </a:lnTo>
                  <a:lnTo>
                    <a:pt x="89" y="15"/>
                  </a:lnTo>
                  <a:lnTo>
                    <a:pt x="95" y="13"/>
                  </a:lnTo>
                  <a:lnTo>
                    <a:pt x="100" y="9"/>
                  </a:lnTo>
                  <a:lnTo>
                    <a:pt x="105" y="7"/>
                  </a:lnTo>
                  <a:lnTo>
                    <a:pt x="110" y="5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3" y="2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38" y="2"/>
                  </a:lnTo>
                  <a:lnTo>
                    <a:pt x="142" y="3"/>
                  </a:lnTo>
                  <a:lnTo>
                    <a:pt x="145" y="5"/>
                  </a:lnTo>
                  <a:lnTo>
                    <a:pt x="149" y="7"/>
                  </a:lnTo>
                  <a:lnTo>
                    <a:pt x="153" y="9"/>
                  </a:lnTo>
                  <a:lnTo>
                    <a:pt x="157" y="12"/>
                  </a:lnTo>
                  <a:lnTo>
                    <a:pt x="160" y="15"/>
                  </a:lnTo>
                  <a:lnTo>
                    <a:pt x="163" y="18"/>
                  </a:lnTo>
                  <a:lnTo>
                    <a:pt x="166" y="22"/>
                  </a:lnTo>
                  <a:lnTo>
                    <a:pt x="169" y="25"/>
                  </a:lnTo>
                  <a:lnTo>
                    <a:pt x="171" y="30"/>
                  </a:lnTo>
                  <a:lnTo>
                    <a:pt x="174" y="34"/>
                  </a:lnTo>
                  <a:lnTo>
                    <a:pt x="176" y="39"/>
                  </a:lnTo>
                  <a:lnTo>
                    <a:pt x="178" y="45"/>
                  </a:lnTo>
                  <a:lnTo>
                    <a:pt x="180" y="52"/>
                  </a:lnTo>
                  <a:lnTo>
                    <a:pt x="181" y="57"/>
                  </a:lnTo>
                  <a:lnTo>
                    <a:pt x="182" y="63"/>
                  </a:lnTo>
                  <a:lnTo>
                    <a:pt x="183" y="69"/>
                  </a:lnTo>
                  <a:lnTo>
                    <a:pt x="183" y="75"/>
                  </a:lnTo>
                  <a:lnTo>
                    <a:pt x="182" y="81"/>
                  </a:lnTo>
                  <a:lnTo>
                    <a:pt x="181" y="88"/>
                  </a:lnTo>
                  <a:lnTo>
                    <a:pt x="179" y="94"/>
                  </a:lnTo>
                  <a:lnTo>
                    <a:pt x="177" y="100"/>
                  </a:lnTo>
                  <a:lnTo>
                    <a:pt x="174" y="106"/>
                  </a:lnTo>
                  <a:lnTo>
                    <a:pt x="171" y="113"/>
                  </a:lnTo>
                  <a:lnTo>
                    <a:pt x="166" y="119"/>
                  </a:lnTo>
                  <a:lnTo>
                    <a:pt x="162" y="124"/>
                  </a:lnTo>
                  <a:lnTo>
                    <a:pt x="157" y="130"/>
                  </a:lnTo>
                  <a:lnTo>
                    <a:pt x="150" y="135"/>
                  </a:lnTo>
                  <a:lnTo>
                    <a:pt x="153" y="135"/>
                  </a:lnTo>
                  <a:lnTo>
                    <a:pt x="157" y="135"/>
                  </a:lnTo>
                  <a:lnTo>
                    <a:pt x="159" y="135"/>
                  </a:lnTo>
                  <a:lnTo>
                    <a:pt x="162" y="135"/>
                  </a:lnTo>
                  <a:lnTo>
                    <a:pt x="164" y="135"/>
                  </a:lnTo>
                  <a:lnTo>
                    <a:pt x="166" y="136"/>
                  </a:lnTo>
                  <a:lnTo>
                    <a:pt x="168" y="136"/>
                  </a:lnTo>
                  <a:lnTo>
                    <a:pt x="170" y="136"/>
                  </a:lnTo>
                  <a:lnTo>
                    <a:pt x="174" y="139"/>
                  </a:lnTo>
                  <a:lnTo>
                    <a:pt x="178" y="140"/>
                  </a:lnTo>
                  <a:lnTo>
                    <a:pt x="182" y="141"/>
                  </a:lnTo>
                  <a:lnTo>
                    <a:pt x="186" y="144"/>
                  </a:lnTo>
                  <a:lnTo>
                    <a:pt x="191" y="146"/>
                  </a:lnTo>
                  <a:lnTo>
                    <a:pt x="195" y="149"/>
                  </a:lnTo>
                  <a:lnTo>
                    <a:pt x="199" y="151"/>
                  </a:lnTo>
                  <a:lnTo>
                    <a:pt x="203" y="154"/>
                  </a:lnTo>
                  <a:lnTo>
                    <a:pt x="263" y="195"/>
                  </a:lnTo>
                  <a:lnTo>
                    <a:pt x="232" y="215"/>
                  </a:lnTo>
                  <a:lnTo>
                    <a:pt x="187" y="184"/>
                  </a:lnTo>
                  <a:lnTo>
                    <a:pt x="182" y="180"/>
                  </a:lnTo>
                  <a:lnTo>
                    <a:pt x="178" y="178"/>
                  </a:lnTo>
                  <a:lnTo>
                    <a:pt x="173" y="175"/>
                  </a:lnTo>
                  <a:lnTo>
                    <a:pt x="169" y="173"/>
                  </a:lnTo>
                  <a:lnTo>
                    <a:pt x="166" y="170"/>
                  </a:lnTo>
                  <a:lnTo>
                    <a:pt x="162" y="168"/>
                  </a:lnTo>
                  <a:lnTo>
                    <a:pt x="159" y="165"/>
                  </a:lnTo>
                  <a:lnTo>
                    <a:pt x="156" y="164"/>
                  </a:lnTo>
                  <a:lnTo>
                    <a:pt x="152" y="163"/>
                  </a:lnTo>
                  <a:lnTo>
                    <a:pt x="149" y="161"/>
                  </a:lnTo>
                  <a:lnTo>
                    <a:pt x="147" y="160"/>
                  </a:lnTo>
                  <a:lnTo>
                    <a:pt x="144" y="159"/>
                  </a:lnTo>
                  <a:lnTo>
                    <a:pt x="142" y="159"/>
                  </a:lnTo>
                  <a:lnTo>
                    <a:pt x="140" y="158"/>
                  </a:lnTo>
                  <a:lnTo>
                    <a:pt x="138" y="158"/>
                  </a:lnTo>
                  <a:lnTo>
                    <a:pt x="136" y="156"/>
                  </a:lnTo>
                  <a:lnTo>
                    <a:pt x="134" y="156"/>
                  </a:lnTo>
                  <a:lnTo>
                    <a:pt x="132" y="156"/>
                  </a:lnTo>
                  <a:lnTo>
                    <a:pt x="131" y="156"/>
                  </a:lnTo>
                  <a:lnTo>
                    <a:pt x="129" y="156"/>
                  </a:lnTo>
                  <a:lnTo>
                    <a:pt x="127" y="158"/>
                  </a:lnTo>
                  <a:lnTo>
                    <a:pt x="126" y="158"/>
                  </a:lnTo>
                  <a:lnTo>
                    <a:pt x="124" y="158"/>
                  </a:lnTo>
                  <a:lnTo>
                    <a:pt x="122" y="158"/>
                  </a:lnTo>
                  <a:lnTo>
                    <a:pt x="121" y="159"/>
                  </a:lnTo>
                  <a:lnTo>
                    <a:pt x="120" y="159"/>
                  </a:lnTo>
                  <a:lnTo>
                    <a:pt x="118" y="160"/>
                  </a:lnTo>
                  <a:lnTo>
                    <a:pt x="117" y="161"/>
                  </a:lnTo>
                  <a:lnTo>
                    <a:pt x="115" y="163"/>
                  </a:lnTo>
                  <a:lnTo>
                    <a:pt x="113" y="163"/>
                  </a:lnTo>
                  <a:lnTo>
                    <a:pt x="111" y="165"/>
                  </a:lnTo>
                  <a:lnTo>
                    <a:pt x="108" y="166"/>
                  </a:lnTo>
                  <a:lnTo>
                    <a:pt x="79" y="185"/>
                  </a:lnTo>
                  <a:lnTo>
                    <a:pt x="124" y="286"/>
                  </a:lnTo>
                  <a:lnTo>
                    <a:pt x="99" y="302"/>
                  </a:lnTo>
                  <a:close/>
                  <a:moveTo>
                    <a:pt x="68" y="159"/>
                  </a:moveTo>
                  <a:lnTo>
                    <a:pt x="121" y="124"/>
                  </a:lnTo>
                  <a:lnTo>
                    <a:pt x="125" y="121"/>
                  </a:lnTo>
                  <a:lnTo>
                    <a:pt x="129" y="119"/>
                  </a:lnTo>
                  <a:lnTo>
                    <a:pt x="132" y="115"/>
                  </a:lnTo>
                  <a:lnTo>
                    <a:pt x="136" y="113"/>
                  </a:lnTo>
                  <a:lnTo>
                    <a:pt x="138" y="110"/>
                  </a:lnTo>
                  <a:lnTo>
                    <a:pt x="141" y="108"/>
                  </a:lnTo>
                  <a:lnTo>
                    <a:pt x="143" y="105"/>
                  </a:lnTo>
                  <a:lnTo>
                    <a:pt x="145" y="103"/>
                  </a:lnTo>
                  <a:lnTo>
                    <a:pt x="147" y="100"/>
                  </a:lnTo>
                  <a:lnTo>
                    <a:pt x="149" y="96"/>
                  </a:lnTo>
                  <a:lnTo>
                    <a:pt x="150" y="94"/>
                  </a:lnTo>
                  <a:lnTo>
                    <a:pt x="151" y="91"/>
                  </a:lnTo>
                  <a:lnTo>
                    <a:pt x="152" y="88"/>
                  </a:lnTo>
                  <a:lnTo>
                    <a:pt x="153" y="85"/>
                  </a:lnTo>
                  <a:lnTo>
                    <a:pt x="153" y="83"/>
                  </a:lnTo>
                  <a:lnTo>
                    <a:pt x="155" y="79"/>
                  </a:lnTo>
                  <a:lnTo>
                    <a:pt x="155" y="76"/>
                  </a:lnTo>
                  <a:lnTo>
                    <a:pt x="155" y="73"/>
                  </a:lnTo>
                  <a:lnTo>
                    <a:pt x="155" y="70"/>
                  </a:lnTo>
                  <a:lnTo>
                    <a:pt x="153" y="67"/>
                  </a:lnTo>
                  <a:lnTo>
                    <a:pt x="153" y="64"/>
                  </a:lnTo>
                  <a:lnTo>
                    <a:pt x="152" y="62"/>
                  </a:lnTo>
                  <a:lnTo>
                    <a:pt x="151" y="58"/>
                  </a:lnTo>
                  <a:lnTo>
                    <a:pt x="150" y="55"/>
                  </a:lnTo>
                  <a:lnTo>
                    <a:pt x="148" y="52"/>
                  </a:lnTo>
                  <a:lnTo>
                    <a:pt x="146" y="48"/>
                  </a:lnTo>
                  <a:lnTo>
                    <a:pt x="144" y="45"/>
                  </a:lnTo>
                  <a:lnTo>
                    <a:pt x="141" y="42"/>
                  </a:lnTo>
                  <a:lnTo>
                    <a:pt x="138" y="40"/>
                  </a:lnTo>
                  <a:lnTo>
                    <a:pt x="136" y="38"/>
                  </a:lnTo>
                  <a:lnTo>
                    <a:pt x="132" y="37"/>
                  </a:lnTo>
                  <a:lnTo>
                    <a:pt x="129" y="35"/>
                  </a:lnTo>
                  <a:lnTo>
                    <a:pt x="125" y="34"/>
                  </a:lnTo>
                  <a:lnTo>
                    <a:pt x="122" y="34"/>
                  </a:lnTo>
                  <a:lnTo>
                    <a:pt x="118" y="34"/>
                  </a:lnTo>
                  <a:lnTo>
                    <a:pt x="114" y="35"/>
                  </a:lnTo>
                  <a:lnTo>
                    <a:pt x="109" y="37"/>
                  </a:lnTo>
                  <a:lnTo>
                    <a:pt x="105" y="39"/>
                  </a:lnTo>
                  <a:lnTo>
                    <a:pt x="100" y="42"/>
                  </a:lnTo>
                  <a:lnTo>
                    <a:pt x="95" y="44"/>
                  </a:lnTo>
                  <a:lnTo>
                    <a:pt x="36" y="83"/>
                  </a:lnTo>
                  <a:lnTo>
                    <a:pt x="68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51240" y="4024440"/>
              <a:ext cx="65160" cy="9684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99" y="245"/>
                  </a:moveTo>
                  <a:lnTo>
                    <a:pt x="0" y="17"/>
                  </a:lnTo>
                  <a:lnTo>
                    <a:pt x="25" y="0"/>
                  </a:lnTo>
                  <a:lnTo>
                    <a:pt x="124" y="229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00560" y="3983040"/>
              <a:ext cx="111240" cy="106200"/>
            </a:xfrm>
            <a:custGeom>
              <a:avLst/>
              <a:gdLst/>
              <a:ahLst/>
              <a:rect l="l" t="t" r="r" b="b"/>
              <a:pathLst>
                <a:path w="209" h="267">
                  <a:moveTo>
                    <a:pt x="18" y="195"/>
                  </a:moveTo>
                  <a:lnTo>
                    <a:pt x="11" y="181"/>
                  </a:lnTo>
                  <a:lnTo>
                    <a:pt x="7" y="167"/>
                  </a:lnTo>
                  <a:lnTo>
                    <a:pt x="4" y="154"/>
                  </a:lnTo>
                  <a:lnTo>
                    <a:pt x="1" y="140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1" y="102"/>
                  </a:lnTo>
                  <a:lnTo>
                    <a:pt x="3" y="90"/>
                  </a:lnTo>
                  <a:lnTo>
                    <a:pt x="6" y="78"/>
                  </a:lnTo>
                  <a:lnTo>
                    <a:pt x="10" y="68"/>
                  </a:lnTo>
                  <a:lnTo>
                    <a:pt x="16" y="56"/>
                  </a:lnTo>
                  <a:lnTo>
                    <a:pt x="22" y="48"/>
                  </a:lnTo>
                  <a:lnTo>
                    <a:pt x="29" y="38"/>
                  </a:lnTo>
                  <a:lnTo>
                    <a:pt x="36" y="30"/>
                  </a:lnTo>
                  <a:lnTo>
                    <a:pt x="45" y="23"/>
                  </a:lnTo>
                  <a:lnTo>
                    <a:pt x="54" y="15"/>
                  </a:lnTo>
                  <a:lnTo>
                    <a:pt x="60" y="11"/>
                  </a:lnTo>
                  <a:lnTo>
                    <a:pt x="67" y="8"/>
                  </a:lnTo>
                  <a:lnTo>
                    <a:pt x="73" y="5"/>
                  </a:lnTo>
                  <a:lnTo>
                    <a:pt x="80" y="3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9" y="9"/>
                  </a:lnTo>
                  <a:lnTo>
                    <a:pt x="145" y="13"/>
                  </a:lnTo>
                  <a:lnTo>
                    <a:pt x="150" y="18"/>
                  </a:lnTo>
                  <a:lnTo>
                    <a:pt x="156" y="21"/>
                  </a:lnTo>
                  <a:lnTo>
                    <a:pt x="163" y="28"/>
                  </a:lnTo>
                  <a:lnTo>
                    <a:pt x="168" y="33"/>
                  </a:lnTo>
                  <a:lnTo>
                    <a:pt x="173" y="39"/>
                  </a:lnTo>
                  <a:lnTo>
                    <a:pt x="177" y="45"/>
                  </a:lnTo>
                  <a:lnTo>
                    <a:pt x="182" y="53"/>
                  </a:lnTo>
                  <a:lnTo>
                    <a:pt x="186" y="60"/>
                  </a:lnTo>
                  <a:lnTo>
                    <a:pt x="190" y="68"/>
                  </a:lnTo>
                  <a:lnTo>
                    <a:pt x="194" y="76"/>
                  </a:lnTo>
                  <a:lnTo>
                    <a:pt x="198" y="85"/>
                  </a:lnTo>
                  <a:lnTo>
                    <a:pt x="201" y="94"/>
                  </a:lnTo>
                  <a:lnTo>
                    <a:pt x="203" y="102"/>
                  </a:lnTo>
                  <a:lnTo>
                    <a:pt x="205" y="111"/>
                  </a:lnTo>
                  <a:lnTo>
                    <a:pt x="207" y="120"/>
                  </a:lnTo>
                  <a:lnTo>
                    <a:pt x="208" y="129"/>
                  </a:lnTo>
                  <a:lnTo>
                    <a:pt x="209" y="137"/>
                  </a:lnTo>
                  <a:lnTo>
                    <a:pt x="209" y="146"/>
                  </a:lnTo>
                  <a:lnTo>
                    <a:pt x="209" y="155"/>
                  </a:lnTo>
                  <a:lnTo>
                    <a:pt x="209" y="162"/>
                  </a:lnTo>
                  <a:lnTo>
                    <a:pt x="208" y="171"/>
                  </a:lnTo>
                  <a:lnTo>
                    <a:pt x="206" y="179"/>
                  </a:lnTo>
                  <a:lnTo>
                    <a:pt x="204" y="186"/>
                  </a:lnTo>
                  <a:lnTo>
                    <a:pt x="202" y="194"/>
                  </a:lnTo>
                  <a:lnTo>
                    <a:pt x="199" y="201"/>
                  </a:lnTo>
                  <a:lnTo>
                    <a:pt x="195" y="209"/>
                  </a:lnTo>
                  <a:lnTo>
                    <a:pt x="191" y="215"/>
                  </a:lnTo>
                  <a:lnTo>
                    <a:pt x="187" y="222"/>
                  </a:lnTo>
                  <a:lnTo>
                    <a:pt x="183" y="227"/>
                  </a:lnTo>
                  <a:lnTo>
                    <a:pt x="178" y="234"/>
                  </a:lnTo>
                  <a:lnTo>
                    <a:pt x="173" y="239"/>
                  </a:lnTo>
                  <a:lnTo>
                    <a:pt x="168" y="244"/>
                  </a:lnTo>
                  <a:lnTo>
                    <a:pt x="163" y="248"/>
                  </a:lnTo>
                  <a:lnTo>
                    <a:pt x="156" y="252"/>
                  </a:lnTo>
                  <a:lnTo>
                    <a:pt x="149" y="256"/>
                  </a:lnTo>
                  <a:lnTo>
                    <a:pt x="143" y="260"/>
                  </a:lnTo>
                  <a:lnTo>
                    <a:pt x="136" y="262"/>
                  </a:lnTo>
                  <a:lnTo>
                    <a:pt x="130" y="265"/>
                  </a:lnTo>
                  <a:lnTo>
                    <a:pt x="123" y="266"/>
                  </a:lnTo>
                  <a:lnTo>
                    <a:pt x="116" y="267"/>
                  </a:lnTo>
                  <a:lnTo>
                    <a:pt x="110" y="267"/>
                  </a:lnTo>
                  <a:lnTo>
                    <a:pt x="103" y="267"/>
                  </a:lnTo>
                  <a:lnTo>
                    <a:pt x="96" y="267"/>
                  </a:lnTo>
                  <a:lnTo>
                    <a:pt x="90" y="265"/>
                  </a:lnTo>
                  <a:lnTo>
                    <a:pt x="82" y="263"/>
                  </a:lnTo>
                  <a:lnTo>
                    <a:pt x="76" y="261"/>
                  </a:lnTo>
                  <a:lnTo>
                    <a:pt x="70" y="257"/>
                  </a:lnTo>
                  <a:lnTo>
                    <a:pt x="64" y="255"/>
                  </a:lnTo>
                  <a:lnTo>
                    <a:pt x="58" y="250"/>
                  </a:lnTo>
                  <a:lnTo>
                    <a:pt x="53" y="245"/>
                  </a:lnTo>
                  <a:lnTo>
                    <a:pt x="47" y="240"/>
                  </a:lnTo>
                  <a:lnTo>
                    <a:pt x="42" y="235"/>
                  </a:lnTo>
                  <a:lnTo>
                    <a:pt x="38" y="229"/>
                  </a:lnTo>
                  <a:lnTo>
                    <a:pt x="33" y="222"/>
                  </a:lnTo>
                  <a:lnTo>
                    <a:pt x="29" y="216"/>
                  </a:lnTo>
                  <a:lnTo>
                    <a:pt x="25" y="210"/>
                  </a:lnTo>
                  <a:lnTo>
                    <a:pt x="21" y="202"/>
                  </a:lnTo>
                  <a:lnTo>
                    <a:pt x="18" y="195"/>
                  </a:lnTo>
                  <a:close/>
                  <a:moveTo>
                    <a:pt x="43" y="179"/>
                  </a:moveTo>
                  <a:lnTo>
                    <a:pt x="48" y="189"/>
                  </a:lnTo>
                  <a:lnTo>
                    <a:pt x="53" y="197"/>
                  </a:lnTo>
                  <a:lnTo>
                    <a:pt x="58" y="206"/>
                  </a:lnTo>
                  <a:lnTo>
                    <a:pt x="63" y="214"/>
                  </a:lnTo>
                  <a:lnTo>
                    <a:pt x="69" y="220"/>
                  </a:lnTo>
                  <a:lnTo>
                    <a:pt x="75" y="225"/>
                  </a:lnTo>
                  <a:lnTo>
                    <a:pt x="82" y="229"/>
                  </a:lnTo>
                  <a:lnTo>
                    <a:pt x="90" y="232"/>
                  </a:lnTo>
                  <a:lnTo>
                    <a:pt x="97" y="235"/>
                  </a:lnTo>
                  <a:lnTo>
                    <a:pt x="104" y="236"/>
                  </a:lnTo>
                  <a:lnTo>
                    <a:pt x="110" y="237"/>
                  </a:lnTo>
                  <a:lnTo>
                    <a:pt x="117" y="237"/>
                  </a:lnTo>
                  <a:lnTo>
                    <a:pt x="124" y="236"/>
                  </a:lnTo>
                  <a:lnTo>
                    <a:pt x="131" y="234"/>
                  </a:lnTo>
                  <a:lnTo>
                    <a:pt x="138" y="231"/>
                  </a:lnTo>
                  <a:lnTo>
                    <a:pt x="145" y="226"/>
                  </a:lnTo>
                  <a:lnTo>
                    <a:pt x="151" y="221"/>
                  </a:lnTo>
                  <a:lnTo>
                    <a:pt x="157" y="216"/>
                  </a:lnTo>
                  <a:lnTo>
                    <a:pt x="163" y="210"/>
                  </a:lnTo>
                  <a:lnTo>
                    <a:pt x="168" y="204"/>
                  </a:lnTo>
                  <a:lnTo>
                    <a:pt x="172" y="197"/>
                  </a:lnTo>
                  <a:lnTo>
                    <a:pt x="175" y="190"/>
                  </a:lnTo>
                  <a:lnTo>
                    <a:pt x="178" y="181"/>
                  </a:lnTo>
                  <a:lnTo>
                    <a:pt x="180" y="172"/>
                  </a:lnTo>
                  <a:lnTo>
                    <a:pt x="182" y="164"/>
                  </a:lnTo>
                  <a:lnTo>
                    <a:pt x="182" y="154"/>
                  </a:lnTo>
                  <a:lnTo>
                    <a:pt x="182" y="145"/>
                  </a:lnTo>
                  <a:lnTo>
                    <a:pt x="181" y="135"/>
                  </a:lnTo>
                  <a:lnTo>
                    <a:pt x="179" y="125"/>
                  </a:lnTo>
                  <a:lnTo>
                    <a:pt x="177" y="114"/>
                  </a:lnTo>
                  <a:lnTo>
                    <a:pt x="173" y="104"/>
                  </a:lnTo>
                  <a:lnTo>
                    <a:pt x="169" y="93"/>
                  </a:lnTo>
                  <a:lnTo>
                    <a:pt x="166" y="86"/>
                  </a:lnTo>
                  <a:lnTo>
                    <a:pt x="163" y="79"/>
                  </a:lnTo>
                  <a:lnTo>
                    <a:pt x="158" y="74"/>
                  </a:lnTo>
                  <a:lnTo>
                    <a:pt x="155" y="68"/>
                  </a:lnTo>
                  <a:lnTo>
                    <a:pt x="151" y="63"/>
                  </a:lnTo>
                  <a:lnTo>
                    <a:pt x="148" y="58"/>
                  </a:lnTo>
                  <a:lnTo>
                    <a:pt x="144" y="53"/>
                  </a:lnTo>
                  <a:lnTo>
                    <a:pt x="140" y="49"/>
                  </a:lnTo>
                  <a:lnTo>
                    <a:pt x="135" y="45"/>
                  </a:lnTo>
                  <a:lnTo>
                    <a:pt x="131" y="41"/>
                  </a:lnTo>
                  <a:lnTo>
                    <a:pt x="127" y="39"/>
                  </a:lnTo>
                  <a:lnTo>
                    <a:pt x="122" y="36"/>
                  </a:lnTo>
                  <a:lnTo>
                    <a:pt x="118" y="35"/>
                  </a:lnTo>
                  <a:lnTo>
                    <a:pt x="113" y="33"/>
                  </a:lnTo>
                  <a:lnTo>
                    <a:pt x="108" y="31"/>
                  </a:lnTo>
                  <a:lnTo>
                    <a:pt x="104" y="31"/>
                  </a:lnTo>
                  <a:lnTo>
                    <a:pt x="99" y="31"/>
                  </a:lnTo>
                  <a:lnTo>
                    <a:pt x="94" y="31"/>
                  </a:lnTo>
                  <a:lnTo>
                    <a:pt x="89" y="31"/>
                  </a:lnTo>
                  <a:lnTo>
                    <a:pt x="84" y="33"/>
                  </a:lnTo>
                  <a:lnTo>
                    <a:pt x="79" y="34"/>
                  </a:lnTo>
                  <a:lnTo>
                    <a:pt x="74" y="36"/>
                  </a:lnTo>
                  <a:lnTo>
                    <a:pt x="70" y="39"/>
                  </a:lnTo>
                  <a:lnTo>
                    <a:pt x="65" y="41"/>
                  </a:lnTo>
                  <a:lnTo>
                    <a:pt x="59" y="46"/>
                  </a:lnTo>
                  <a:lnTo>
                    <a:pt x="53" y="51"/>
                  </a:lnTo>
                  <a:lnTo>
                    <a:pt x="48" y="56"/>
                  </a:lnTo>
                  <a:lnTo>
                    <a:pt x="43" y="63"/>
                  </a:lnTo>
                  <a:lnTo>
                    <a:pt x="39" y="70"/>
                  </a:lnTo>
                  <a:lnTo>
                    <a:pt x="36" y="76"/>
                  </a:lnTo>
                  <a:lnTo>
                    <a:pt x="33" y="85"/>
                  </a:lnTo>
                  <a:lnTo>
                    <a:pt x="30" y="93"/>
                  </a:lnTo>
                  <a:lnTo>
                    <a:pt x="28" y="102"/>
                  </a:lnTo>
                  <a:lnTo>
                    <a:pt x="28" y="111"/>
                  </a:lnTo>
                  <a:lnTo>
                    <a:pt x="28" y="121"/>
                  </a:lnTo>
                  <a:lnTo>
                    <a:pt x="29" y="131"/>
                  </a:lnTo>
                  <a:lnTo>
                    <a:pt x="31" y="142"/>
                  </a:lnTo>
                  <a:lnTo>
                    <a:pt x="34" y="155"/>
                  </a:lnTo>
                  <a:lnTo>
                    <a:pt x="38" y="166"/>
                  </a:lnTo>
                  <a:lnTo>
                    <a:pt x="43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38880" y="4871880"/>
              <a:ext cx="117360" cy="73080"/>
            </a:xfrm>
            <a:custGeom>
              <a:avLst/>
              <a:gdLst/>
              <a:ahLst/>
              <a:rect l="l" t="t" r="r" b="b"/>
              <a:pathLst>
                <a:path w="223" h="183">
                  <a:moveTo>
                    <a:pt x="223" y="80"/>
                  </a:moveTo>
                  <a:lnTo>
                    <a:pt x="24" y="183"/>
                  </a:lnTo>
                  <a:lnTo>
                    <a:pt x="20" y="155"/>
                  </a:lnTo>
                  <a:lnTo>
                    <a:pt x="165" y="85"/>
                  </a:lnTo>
                  <a:lnTo>
                    <a:pt x="170" y="82"/>
                  </a:lnTo>
                  <a:lnTo>
                    <a:pt x="174" y="80"/>
                  </a:lnTo>
                  <a:lnTo>
                    <a:pt x="178" y="78"/>
                  </a:lnTo>
                  <a:lnTo>
                    <a:pt x="182" y="76"/>
                  </a:lnTo>
                  <a:lnTo>
                    <a:pt x="187" y="75"/>
                  </a:lnTo>
                  <a:lnTo>
                    <a:pt x="191" y="72"/>
                  </a:lnTo>
                  <a:lnTo>
                    <a:pt x="195" y="71"/>
                  </a:lnTo>
                  <a:lnTo>
                    <a:pt x="199" y="70"/>
                  </a:lnTo>
                  <a:lnTo>
                    <a:pt x="194" y="68"/>
                  </a:lnTo>
                  <a:lnTo>
                    <a:pt x="190" y="68"/>
                  </a:lnTo>
                  <a:lnTo>
                    <a:pt x="186" y="67"/>
                  </a:lnTo>
                  <a:lnTo>
                    <a:pt x="180" y="66"/>
                  </a:lnTo>
                  <a:lnTo>
                    <a:pt x="176" y="66"/>
                  </a:lnTo>
                  <a:lnTo>
                    <a:pt x="171" y="65"/>
                  </a:lnTo>
                  <a:lnTo>
                    <a:pt x="167" y="63"/>
                  </a:lnTo>
                  <a:lnTo>
                    <a:pt x="163" y="62"/>
                  </a:lnTo>
                  <a:lnTo>
                    <a:pt x="4" y="27"/>
                  </a:lnTo>
                  <a:lnTo>
                    <a:pt x="0" y="0"/>
                  </a:lnTo>
                  <a:lnTo>
                    <a:pt x="220" y="53"/>
                  </a:lnTo>
                  <a:lnTo>
                    <a:pt x="223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35640" y="4846680"/>
              <a:ext cx="112680" cy="19080"/>
            </a:xfrm>
            <a:custGeom>
              <a:avLst/>
              <a:gdLst/>
              <a:ahLst/>
              <a:rect l="l" t="t" r="r" b="b"/>
              <a:pathLst>
                <a:path w="212" h="50">
                  <a:moveTo>
                    <a:pt x="32" y="46"/>
                  </a:moveTo>
                  <a:lnTo>
                    <a:pt x="3" y="50"/>
                  </a:lnTo>
                  <a:lnTo>
                    <a:pt x="0" y="25"/>
                  </a:lnTo>
                  <a:lnTo>
                    <a:pt x="29" y="21"/>
                  </a:lnTo>
                  <a:lnTo>
                    <a:pt x="32" y="46"/>
                  </a:lnTo>
                  <a:close/>
                  <a:moveTo>
                    <a:pt x="212" y="25"/>
                  </a:moveTo>
                  <a:lnTo>
                    <a:pt x="61" y="42"/>
                  </a:lnTo>
                  <a:lnTo>
                    <a:pt x="58" y="19"/>
                  </a:lnTo>
                  <a:lnTo>
                    <a:pt x="209" y="0"/>
                  </a:lnTo>
                  <a:lnTo>
                    <a:pt x="21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56160" y="4781520"/>
              <a:ext cx="87480" cy="5724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32" y="32"/>
                  </a:moveTo>
                  <a:lnTo>
                    <a:pt x="136" y="36"/>
                  </a:lnTo>
                  <a:lnTo>
                    <a:pt x="139" y="38"/>
                  </a:lnTo>
                  <a:lnTo>
                    <a:pt x="142" y="42"/>
                  </a:lnTo>
                  <a:lnTo>
                    <a:pt x="144" y="45"/>
                  </a:lnTo>
                  <a:lnTo>
                    <a:pt x="147" y="48"/>
                  </a:lnTo>
                  <a:lnTo>
                    <a:pt x="150" y="51"/>
                  </a:lnTo>
                  <a:lnTo>
                    <a:pt x="152" y="53"/>
                  </a:lnTo>
                  <a:lnTo>
                    <a:pt x="154" y="57"/>
                  </a:lnTo>
                  <a:lnTo>
                    <a:pt x="155" y="60"/>
                  </a:lnTo>
                  <a:lnTo>
                    <a:pt x="157" y="63"/>
                  </a:lnTo>
                  <a:lnTo>
                    <a:pt x="158" y="66"/>
                  </a:lnTo>
                  <a:lnTo>
                    <a:pt x="159" y="70"/>
                  </a:lnTo>
                  <a:lnTo>
                    <a:pt x="160" y="73"/>
                  </a:lnTo>
                  <a:lnTo>
                    <a:pt x="161" y="76"/>
                  </a:lnTo>
                  <a:lnTo>
                    <a:pt x="162" y="80"/>
                  </a:lnTo>
                  <a:lnTo>
                    <a:pt x="162" y="83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0"/>
                  </a:lnTo>
                  <a:lnTo>
                    <a:pt x="162" y="105"/>
                  </a:lnTo>
                  <a:lnTo>
                    <a:pt x="161" y="110"/>
                  </a:lnTo>
                  <a:lnTo>
                    <a:pt x="159" y="113"/>
                  </a:lnTo>
                  <a:lnTo>
                    <a:pt x="157" y="117"/>
                  </a:lnTo>
                  <a:lnTo>
                    <a:pt x="155" y="121"/>
                  </a:lnTo>
                  <a:lnTo>
                    <a:pt x="152" y="124"/>
                  </a:lnTo>
                  <a:lnTo>
                    <a:pt x="149" y="128"/>
                  </a:lnTo>
                  <a:lnTo>
                    <a:pt x="145" y="131"/>
                  </a:lnTo>
                  <a:lnTo>
                    <a:pt x="142" y="132"/>
                  </a:lnTo>
                  <a:lnTo>
                    <a:pt x="138" y="134"/>
                  </a:lnTo>
                  <a:lnTo>
                    <a:pt x="134" y="136"/>
                  </a:lnTo>
                  <a:lnTo>
                    <a:pt x="129" y="137"/>
                  </a:lnTo>
                  <a:lnTo>
                    <a:pt x="125" y="138"/>
                  </a:lnTo>
                  <a:lnTo>
                    <a:pt x="122" y="138"/>
                  </a:lnTo>
                  <a:lnTo>
                    <a:pt x="120" y="138"/>
                  </a:lnTo>
                  <a:lnTo>
                    <a:pt x="117" y="138"/>
                  </a:lnTo>
                  <a:lnTo>
                    <a:pt x="114" y="138"/>
                  </a:lnTo>
                  <a:lnTo>
                    <a:pt x="112" y="137"/>
                  </a:lnTo>
                  <a:lnTo>
                    <a:pt x="109" y="137"/>
                  </a:lnTo>
                  <a:lnTo>
                    <a:pt x="107" y="136"/>
                  </a:lnTo>
                  <a:lnTo>
                    <a:pt x="104" y="136"/>
                  </a:lnTo>
                  <a:lnTo>
                    <a:pt x="102" y="134"/>
                  </a:lnTo>
                  <a:lnTo>
                    <a:pt x="100" y="133"/>
                  </a:lnTo>
                  <a:lnTo>
                    <a:pt x="97" y="132"/>
                  </a:lnTo>
                  <a:lnTo>
                    <a:pt x="95" y="131"/>
                  </a:lnTo>
                  <a:lnTo>
                    <a:pt x="93" y="129"/>
                  </a:lnTo>
                  <a:lnTo>
                    <a:pt x="92" y="128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7" y="123"/>
                  </a:lnTo>
                  <a:lnTo>
                    <a:pt x="85" y="121"/>
                  </a:lnTo>
                  <a:lnTo>
                    <a:pt x="84" y="118"/>
                  </a:lnTo>
                  <a:lnTo>
                    <a:pt x="82" y="117"/>
                  </a:lnTo>
                  <a:lnTo>
                    <a:pt x="81" y="115"/>
                  </a:lnTo>
                  <a:lnTo>
                    <a:pt x="80" y="112"/>
                  </a:lnTo>
                  <a:lnTo>
                    <a:pt x="79" y="111"/>
                  </a:lnTo>
                  <a:lnTo>
                    <a:pt x="77" y="108"/>
                  </a:lnTo>
                  <a:lnTo>
                    <a:pt x="77" y="106"/>
                  </a:lnTo>
                  <a:lnTo>
                    <a:pt x="75" y="105"/>
                  </a:lnTo>
                  <a:lnTo>
                    <a:pt x="74" y="102"/>
                  </a:lnTo>
                  <a:lnTo>
                    <a:pt x="73" y="100"/>
                  </a:lnTo>
                  <a:lnTo>
                    <a:pt x="73" y="96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70" y="87"/>
                  </a:lnTo>
                  <a:lnTo>
                    <a:pt x="68" y="80"/>
                  </a:lnTo>
                  <a:lnTo>
                    <a:pt x="66" y="73"/>
                  </a:lnTo>
                  <a:lnTo>
                    <a:pt x="64" y="67"/>
                  </a:lnTo>
                  <a:lnTo>
                    <a:pt x="62" y="61"/>
                  </a:lnTo>
                  <a:lnTo>
                    <a:pt x="61" y="56"/>
                  </a:lnTo>
                  <a:lnTo>
                    <a:pt x="59" y="52"/>
                  </a:lnTo>
                  <a:lnTo>
                    <a:pt x="57" y="47"/>
                  </a:lnTo>
                  <a:lnTo>
                    <a:pt x="55" y="45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52" y="45"/>
                  </a:lnTo>
                  <a:lnTo>
                    <a:pt x="51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46"/>
                  </a:lnTo>
                  <a:lnTo>
                    <a:pt x="42" y="46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9" y="52"/>
                  </a:lnTo>
                  <a:lnTo>
                    <a:pt x="28" y="55"/>
                  </a:lnTo>
                  <a:lnTo>
                    <a:pt x="26" y="57"/>
                  </a:lnTo>
                  <a:lnTo>
                    <a:pt x="25" y="60"/>
                  </a:lnTo>
                  <a:lnTo>
                    <a:pt x="24" y="63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2" y="75"/>
                  </a:lnTo>
                  <a:lnTo>
                    <a:pt x="23" y="78"/>
                  </a:lnTo>
                  <a:lnTo>
                    <a:pt x="23" y="83"/>
                  </a:lnTo>
                  <a:lnTo>
                    <a:pt x="24" y="87"/>
                  </a:lnTo>
                  <a:lnTo>
                    <a:pt x="24" y="91"/>
                  </a:lnTo>
                  <a:lnTo>
                    <a:pt x="25" y="95"/>
                  </a:lnTo>
                  <a:lnTo>
                    <a:pt x="27" y="98"/>
                  </a:lnTo>
                  <a:lnTo>
                    <a:pt x="28" y="101"/>
                  </a:lnTo>
                  <a:lnTo>
                    <a:pt x="29" y="103"/>
                  </a:lnTo>
                  <a:lnTo>
                    <a:pt x="31" y="106"/>
                  </a:lnTo>
                  <a:lnTo>
                    <a:pt x="33" y="108"/>
                  </a:lnTo>
                  <a:lnTo>
                    <a:pt x="35" y="110"/>
                  </a:lnTo>
                  <a:lnTo>
                    <a:pt x="37" y="112"/>
                  </a:lnTo>
                  <a:lnTo>
                    <a:pt x="39" y="113"/>
                  </a:lnTo>
                  <a:lnTo>
                    <a:pt x="42" y="115"/>
                  </a:lnTo>
                  <a:lnTo>
                    <a:pt x="45" y="116"/>
                  </a:lnTo>
                  <a:lnTo>
                    <a:pt x="49" y="116"/>
                  </a:lnTo>
                  <a:lnTo>
                    <a:pt x="52" y="117"/>
                  </a:lnTo>
                  <a:lnTo>
                    <a:pt x="56" y="117"/>
                  </a:lnTo>
                  <a:lnTo>
                    <a:pt x="56" y="142"/>
                  </a:lnTo>
                  <a:lnTo>
                    <a:pt x="52" y="142"/>
                  </a:lnTo>
                  <a:lnTo>
                    <a:pt x="48" y="141"/>
                  </a:lnTo>
                  <a:lnTo>
                    <a:pt x="45" y="141"/>
                  </a:lnTo>
                  <a:lnTo>
                    <a:pt x="41" y="139"/>
                  </a:lnTo>
                  <a:lnTo>
                    <a:pt x="38" y="138"/>
                  </a:lnTo>
                  <a:lnTo>
                    <a:pt x="35" y="137"/>
                  </a:lnTo>
                  <a:lnTo>
                    <a:pt x="32" y="136"/>
                  </a:lnTo>
                  <a:lnTo>
                    <a:pt x="29" y="134"/>
                  </a:lnTo>
                  <a:lnTo>
                    <a:pt x="26" y="132"/>
                  </a:lnTo>
                  <a:lnTo>
                    <a:pt x="24" y="131"/>
                  </a:lnTo>
                  <a:lnTo>
                    <a:pt x="21" y="128"/>
                  </a:lnTo>
                  <a:lnTo>
                    <a:pt x="19" y="126"/>
                  </a:lnTo>
                  <a:lnTo>
                    <a:pt x="17" y="123"/>
                  </a:lnTo>
                  <a:lnTo>
                    <a:pt x="15" y="121"/>
                  </a:lnTo>
                  <a:lnTo>
                    <a:pt x="13" y="118"/>
                  </a:lnTo>
                  <a:lnTo>
                    <a:pt x="11" y="115"/>
                  </a:lnTo>
                  <a:lnTo>
                    <a:pt x="9" y="111"/>
                  </a:lnTo>
                  <a:lnTo>
                    <a:pt x="8" y="107"/>
                  </a:lnTo>
                  <a:lnTo>
                    <a:pt x="6" y="103"/>
                  </a:lnTo>
                  <a:lnTo>
                    <a:pt x="5" y="100"/>
                  </a:lnTo>
                  <a:lnTo>
                    <a:pt x="4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2" y="48"/>
                  </a:lnTo>
                  <a:lnTo>
                    <a:pt x="4" y="46"/>
                  </a:lnTo>
                  <a:lnTo>
                    <a:pt x="5" y="43"/>
                  </a:lnTo>
                  <a:lnTo>
                    <a:pt x="6" y="41"/>
                  </a:lnTo>
                  <a:lnTo>
                    <a:pt x="7" y="38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0"/>
                  </a:lnTo>
                  <a:lnTo>
                    <a:pt x="51" y="20"/>
                  </a:lnTo>
                  <a:lnTo>
                    <a:pt x="85" y="16"/>
                  </a:lnTo>
                  <a:lnTo>
                    <a:pt x="94" y="15"/>
                  </a:lnTo>
                  <a:lnTo>
                    <a:pt x="101" y="13"/>
                  </a:lnTo>
                  <a:lnTo>
                    <a:pt x="108" y="12"/>
                  </a:lnTo>
                  <a:lnTo>
                    <a:pt x="114" y="11"/>
                  </a:lnTo>
                  <a:lnTo>
                    <a:pt x="119" y="11"/>
                  </a:lnTo>
                  <a:lnTo>
                    <a:pt x="124" y="10"/>
                  </a:lnTo>
                  <a:lnTo>
                    <a:pt x="127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4" y="7"/>
                  </a:lnTo>
                  <a:lnTo>
                    <a:pt x="136" y="6"/>
                  </a:lnTo>
                  <a:lnTo>
                    <a:pt x="139" y="5"/>
                  </a:lnTo>
                  <a:lnTo>
                    <a:pt x="141" y="3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7" y="0"/>
                  </a:lnTo>
                  <a:lnTo>
                    <a:pt x="151" y="26"/>
                  </a:lnTo>
                  <a:lnTo>
                    <a:pt x="149" y="27"/>
                  </a:lnTo>
                  <a:lnTo>
                    <a:pt x="146" y="27"/>
                  </a:lnTo>
                  <a:lnTo>
                    <a:pt x="144" y="28"/>
                  </a:lnTo>
                  <a:lnTo>
                    <a:pt x="142" y="30"/>
                  </a:lnTo>
                  <a:lnTo>
                    <a:pt x="140" y="31"/>
                  </a:lnTo>
                  <a:lnTo>
                    <a:pt x="137" y="31"/>
                  </a:lnTo>
                  <a:lnTo>
                    <a:pt x="135" y="32"/>
                  </a:lnTo>
                  <a:lnTo>
                    <a:pt x="132" y="32"/>
                  </a:lnTo>
                  <a:close/>
                  <a:moveTo>
                    <a:pt x="75" y="42"/>
                  </a:moveTo>
                  <a:lnTo>
                    <a:pt x="78" y="45"/>
                  </a:lnTo>
                  <a:lnTo>
                    <a:pt x="80" y="48"/>
                  </a:lnTo>
                  <a:lnTo>
                    <a:pt x="82" y="53"/>
                  </a:lnTo>
                  <a:lnTo>
                    <a:pt x="84" y="57"/>
                  </a:lnTo>
                  <a:lnTo>
                    <a:pt x="85" y="63"/>
                  </a:lnTo>
                  <a:lnTo>
                    <a:pt x="87" y="68"/>
                  </a:lnTo>
                  <a:lnTo>
                    <a:pt x="89" y="75"/>
                  </a:lnTo>
                  <a:lnTo>
                    <a:pt x="91" y="81"/>
                  </a:lnTo>
                  <a:lnTo>
                    <a:pt x="92" y="85"/>
                  </a:lnTo>
                  <a:lnTo>
                    <a:pt x="93" y="87"/>
                  </a:lnTo>
                  <a:lnTo>
                    <a:pt x="94" y="91"/>
                  </a:lnTo>
                  <a:lnTo>
                    <a:pt x="95" y="93"/>
                  </a:lnTo>
                  <a:lnTo>
                    <a:pt x="96" y="96"/>
                  </a:lnTo>
                  <a:lnTo>
                    <a:pt x="97" y="98"/>
                  </a:lnTo>
                  <a:lnTo>
                    <a:pt x="98" y="100"/>
                  </a:lnTo>
                  <a:lnTo>
                    <a:pt x="99" y="101"/>
                  </a:lnTo>
                  <a:lnTo>
                    <a:pt x="100" y="102"/>
                  </a:lnTo>
                  <a:lnTo>
                    <a:pt x="101" y="105"/>
                  </a:lnTo>
                  <a:lnTo>
                    <a:pt x="102" y="106"/>
                  </a:lnTo>
                  <a:lnTo>
                    <a:pt x="103" y="106"/>
                  </a:lnTo>
                  <a:lnTo>
                    <a:pt x="104" y="107"/>
                  </a:lnTo>
                  <a:lnTo>
                    <a:pt x="106" y="108"/>
                  </a:lnTo>
                  <a:lnTo>
                    <a:pt x="107" y="110"/>
                  </a:lnTo>
                  <a:lnTo>
                    <a:pt x="108" y="110"/>
                  </a:lnTo>
                  <a:lnTo>
                    <a:pt x="110" y="111"/>
                  </a:lnTo>
                  <a:lnTo>
                    <a:pt x="111" y="111"/>
                  </a:lnTo>
                  <a:lnTo>
                    <a:pt x="113" y="112"/>
                  </a:lnTo>
                  <a:lnTo>
                    <a:pt x="114" y="112"/>
                  </a:lnTo>
                  <a:lnTo>
                    <a:pt x="116" y="112"/>
                  </a:lnTo>
                  <a:lnTo>
                    <a:pt x="118" y="112"/>
                  </a:lnTo>
                  <a:lnTo>
                    <a:pt x="119" y="112"/>
                  </a:lnTo>
                  <a:lnTo>
                    <a:pt x="121" y="112"/>
                  </a:lnTo>
                  <a:lnTo>
                    <a:pt x="123" y="111"/>
                  </a:lnTo>
                  <a:lnTo>
                    <a:pt x="126" y="111"/>
                  </a:lnTo>
                  <a:lnTo>
                    <a:pt x="128" y="110"/>
                  </a:lnTo>
                  <a:lnTo>
                    <a:pt x="130" y="108"/>
                  </a:lnTo>
                  <a:lnTo>
                    <a:pt x="132" y="107"/>
                  </a:lnTo>
                  <a:lnTo>
                    <a:pt x="134" y="106"/>
                  </a:lnTo>
                  <a:lnTo>
                    <a:pt x="135" y="105"/>
                  </a:lnTo>
                  <a:lnTo>
                    <a:pt x="137" y="102"/>
                  </a:lnTo>
                  <a:lnTo>
                    <a:pt x="138" y="100"/>
                  </a:lnTo>
                  <a:lnTo>
                    <a:pt x="139" y="98"/>
                  </a:lnTo>
                  <a:lnTo>
                    <a:pt x="140" y="96"/>
                  </a:lnTo>
                  <a:lnTo>
                    <a:pt x="141" y="92"/>
                  </a:lnTo>
                  <a:lnTo>
                    <a:pt x="141" y="90"/>
                  </a:lnTo>
                  <a:lnTo>
                    <a:pt x="141" y="87"/>
                  </a:lnTo>
                  <a:lnTo>
                    <a:pt x="141" y="83"/>
                  </a:lnTo>
                  <a:lnTo>
                    <a:pt x="141" y="80"/>
                  </a:lnTo>
                  <a:lnTo>
                    <a:pt x="140" y="76"/>
                  </a:lnTo>
                  <a:lnTo>
                    <a:pt x="139" y="73"/>
                  </a:lnTo>
                  <a:lnTo>
                    <a:pt x="138" y="70"/>
                  </a:lnTo>
                  <a:lnTo>
                    <a:pt x="137" y="67"/>
                  </a:lnTo>
                  <a:lnTo>
                    <a:pt x="136" y="63"/>
                  </a:lnTo>
                  <a:lnTo>
                    <a:pt x="134" y="61"/>
                  </a:lnTo>
                  <a:lnTo>
                    <a:pt x="133" y="58"/>
                  </a:lnTo>
                  <a:lnTo>
                    <a:pt x="131" y="56"/>
                  </a:lnTo>
                  <a:lnTo>
                    <a:pt x="129" y="53"/>
                  </a:lnTo>
                  <a:lnTo>
                    <a:pt x="127" y="51"/>
                  </a:lnTo>
                  <a:lnTo>
                    <a:pt x="125" y="48"/>
                  </a:lnTo>
                  <a:lnTo>
                    <a:pt x="122" y="47"/>
                  </a:lnTo>
                  <a:lnTo>
                    <a:pt x="120" y="45"/>
                  </a:lnTo>
                  <a:lnTo>
                    <a:pt x="117" y="43"/>
                  </a:lnTo>
                  <a:lnTo>
                    <a:pt x="114" y="42"/>
                  </a:lnTo>
                  <a:lnTo>
                    <a:pt x="111" y="41"/>
                  </a:lnTo>
                  <a:lnTo>
                    <a:pt x="109" y="41"/>
                  </a:lnTo>
                  <a:lnTo>
                    <a:pt x="106" y="40"/>
                  </a:lnTo>
                  <a:lnTo>
                    <a:pt x="103" y="40"/>
                  </a:lnTo>
                  <a:lnTo>
                    <a:pt x="100" y="40"/>
                  </a:lnTo>
                  <a:lnTo>
                    <a:pt x="97" y="40"/>
                  </a:lnTo>
                  <a:lnTo>
                    <a:pt x="93" y="40"/>
                  </a:lnTo>
                  <a:lnTo>
                    <a:pt x="90" y="40"/>
                  </a:lnTo>
                  <a:lnTo>
                    <a:pt x="86" y="41"/>
                  </a:lnTo>
                  <a:lnTo>
                    <a:pt x="75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0080" y="4676760"/>
              <a:ext cx="115920" cy="7128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220" y="154"/>
                  </a:moveTo>
                  <a:lnTo>
                    <a:pt x="11" y="180"/>
                  </a:lnTo>
                  <a:lnTo>
                    <a:pt x="2" y="111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1" y="70"/>
                  </a:lnTo>
                  <a:lnTo>
                    <a:pt x="2" y="66"/>
                  </a:lnTo>
                  <a:lnTo>
                    <a:pt x="3" y="63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8" y="50"/>
                  </a:lnTo>
                  <a:lnTo>
                    <a:pt x="10" y="48"/>
                  </a:lnTo>
                  <a:lnTo>
                    <a:pt x="12" y="44"/>
                  </a:lnTo>
                  <a:lnTo>
                    <a:pt x="15" y="39"/>
                  </a:lnTo>
                  <a:lnTo>
                    <a:pt x="18" y="35"/>
                  </a:lnTo>
                  <a:lnTo>
                    <a:pt x="23" y="31"/>
                  </a:lnTo>
                  <a:lnTo>
                    <a:pt x="27" y="28"/>
                  </a:lnTo>
                  <a:lnTo>
                    <a:pt x="31" y="25"/>
                  </a:lnTo>
                  <a:lnTo>
                    <a:pt x="35" y="21"/>
                  </a:lnTo>
                  <a:lnTo>
                    <a:pt x="40" y="19"/>
                  </a:lnTo>
                  <a:lnTo>
                    <a:pt x="45" y="16"/>
                  </a:lnTo>
                  <a:lnTo>
                    <a:pt x="50" y="14"/>
                  </a:lnTo>
                  <a:lnTo>
                    <a:pt x="55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5"/>
                  </a:lnTo>
                  <a:lnTo>
                    <a:pt x="79" y="4"/>
                  </a:lnTo>
                  <a:lnTo>
                    <a:pt x="86" y="3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1"/>
                  </a:lnTo>
                  <a:lnTo>
                    <a:pt x="131" y="1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5" y="4"/>
                  </a:lnTo>
                  <a:lnTo>
                    <a:pt x="149" y="5"/>
                  </a:lnTo>
                  <a:lnTo>
                    <a:pt x="153" y="6"/>
                  </a:lnTo>
                  <a:lnTo>
                    <a:pt x="157" y="8"/>
                  </a:lnTo>
                  <a:lnTo>
                    <a:pt x="161" y="9"/>
                  </a:lnTo>
                  <a:lnTo>
                    <a:pt x="166" y="10"/>
                  </a:lnTo>
                  <a:lnTo>
                    <a:pt x="169" y="13"/>
                  </a:lnTo>
                  <a:lnTo>
                    <a:pt x="172" y="14"/>
                  </a:lnTo>
                  <a:lnTo>
                    <a:pt x="175" y="15"/>
                  </a:lnTo>
                  <a:lnTo>
                    <a:pt x="178" y="18"/>
                  </a:lnTo>
                  <a:lnTo>
                    <a:pt x="181" y="19"/>
                  </a:lnTo>
                  <a:lnTo>
                    <a:pt x="183" y="21"/>
                  </a:lnTo>
                  <a:lnTo>
                    <a:pt x="186" y="24"/>
                  </a:lnTo>
                  <a:lnTo>
                    <a:pt x="188" y="26"/>
                  </a:lnTo>
                  <a:lnTo>
                    <a:pt x="190" y="28"/>
                  </a:lnTo>
                  <a:lnTo>
                    <a:pt x="192" y="30"/>
                  </a:lnTo>
                  <a:lnTo>
                    <a:pt x="194" y="33"/>
                  </a:lnTo>
                  <a:lnTo>
                    <a:pt x="196" y="35"/>
                  </a:lnTo>
                  <a:lnTo>
                    <a:pt x="197" y="38"/>
                  </a:lnTo>
                  <a:lnTo>
                    <a:pt x="199" y="41"/>
                  </a:lnTo>
                  <a:lnTo>
                    <a:pt x="200" y="44"/>
                  </a:lnTo>
                  <a:lnTo>
                    <a:pt x="202" y="48"/>
                  </a:lnTo>
                  <a:lnTo>
                    <a:pt x="203" y="50"/>
                  </a:lnTo>
                  <a:lnTo>
                    <a:pt x="205" y="54"/>
                  </a:lnTo>
                  <a:lnTo>
                    <a:pt x="206" y="58"/>
                  </a:lnTo>
                  <a:lnTo>
                    <a:pt x="207" y="61"/>
                  </a:lnTo>
                  <a:lnTo>
                    <a:pt x="208" y="65"/>
                  </a:lnTo>
                  <a:lnTo>
                    <a:pt x="209" y="69"/>
                  </a:lnTo>
                  <a:lnTo>
                    <a:pt x="210" y="74"/>
                  </a:lnTo>
                  <a:lnTo>
                    <a:pt x="210" y="78"/>
                  </a:lnTo>
                  <a:lnTo>
                    <a:pt x="211" y="83"/>
                  </a:lnTo>
                  <a:lnTo>
                    <a:pt x="220" y="154"/>
                  </a:lnTo>
                  <a:close/>
                  <a:moveTo>
                    <a:pt x="193" y="131"/>
                  </a:moveTo>
                  <a:lnTo>
                    <a:pt x="187" y="88"/>
                  </a:lnTo>
                  <a:lnTo>
                    <a:pt x="186" y="84"/>
                  </a:lnTo>
                  <a:lnTo>
                    <a:pt x="186" y="79"/>
                  </a:lnTo>
                  <a:lnTo>
                    <a:pt x="185" y="75"/>
                  </a:lnTo>
                  <a:lnTo>
                    <a:pt x="184" y="70"/>
                  </a:lnTo>
                  <a:lnTo>
                    <a:pt x="183" y="68"/>
                  </a:lnTo>
                  <a:lnTo>
                    <a:pt x="182" y="64"/>
                  </a:lnTo>
                  <a:lnTo>
                    <a:pt x="181" y="60"/>
                  </a:lnTo>
                  <a:lnTo>
                    <a:pt x="179" y="58"/>
                  </a:lnTo>
                  <a:lnTo>
                    <a:pt x="178" y="55"/>
                  </a:lnTo>
                  <a:lnTo>
                    <a:pt x="176" y="53"/>
                  </a:lnTo>
                  <a:lnTo>
                    <a:pt x="175" y="50"/>
                  </a:lnTo>
                  <a:lnTo>
                    <a:pt x="173" y="48"/>
                  </a:lnTo>
                  <a:lnTo>
                    <a:pt x="172" y="46"/>
                  </a:lnTo>
                  <a:lnTo>
                    <a:pt x="170" y="44"/>
                  </a:lnTo>
                  <a:lnTo>
                    <a:pt x="168" y="43"/>
                  </a:lnTo>
                  <a:lnTo>
                    <a:pt x="166" y="41"/>
                  </a:lnTo>
                  <a:lnTo>
                    <a:pt x="162" y="39"/>
                  </a:lnTo>
                  <a:lnTo>
                    <a:pt x="159" y="38"/>
                  </a:lnTo>
                  <a:lnTo>
                    <a:pt x="156" y="35"/>
                  </a:lnTo>
                  <a:lnTo>
                    <a:pt x="153" y="34"/>
                  </a:lnTo>
                  <a:lnTo>
                    <a:pt x="149" y="33"/>
                  </a:lnTo>
                  <a:lnTo>
                    <a:pt x="145" y="31"/>
                  </a:lnTo>
                  <a:lnTo>
                    <a:pt x="141" y="30"/>
                  </a:lnTo>
                  <a:lnTo>
                    <a:pt x="137" y="30"/>
                  </a:lnTo>
                  <a:lnTo>
                    <a:pt x="133" y="29"/>
                  </a:lnTo>
                  <a:lnTo>
                    <a:pt x="128" y="29"/>
                  </a:lnTo>
                  <a:lnTo>
                    <a:pt x="124" y="28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3" y="29"/>
                  </a:lnTo>
                  <a:lnTo>
                    <a:pt x="97" y="29"/>
                  </a:lnTo>
                  <a:lnTo>
                    <a:pt x="88" y="30"/>
                  </a:lnTo>
                  <a:lnTo>
                    <a:pt x="81" y="31"/>
                  </a:lnTo>
                  <a:lnTo>
                    <a:pt x="74" y="34"/>
                  </a:lnTo>
                  <a:lnTo>
                    <a:pt x="68" y="35"/>
                  </a:lnTo>
                  <a:lnTo>
                    <a:pt x="62" y="38"/>
                  </a:lnTo>
                  <a:lnTo>
                    <a:pt x="57" y="40"/>
                  </a:lnTo>
                  <a:lnTo>
                    <a:pt x="52" y="43"/>
                  </a:lnTo>
                  <a:lnTo>
                    <a:pt x="48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7" y="55"/>
                  </a:lnTo>
                  <a:lnTo>
                    <a:pt x="35" y="59"/>
                  </a:lnTo>
                  <a:lnTo>
                    <a:pt x="32" y="63"/>
                  </a:lnTo>
                  <a:lnTo>
                    <a:pt x="30" y="66"/>
                  </a:lnTo>
                  <a:lnTo>
                    <a:pt x="29" y="70"/>
                  </a:lnTo>
                  <a:lnTo>
                    <a:pt x="28" y="74"/>
                  </a:lnTo>
                  <a:lnTo>
                    <a:pt x="27" y="76"/>
                  </a:lnTo>
                  <a:lnTo>
                    <a:pt x="27" y="80"/>
                  </a:lnTo>
                  <a:lnTo>
                    <a:pt x="26" y="84"/>
                  </a:lnTo>
                  <a:lnTo>
                    <a:pt x="26" y="88"/>
                  </a:lnTo>
                  <a:lnTo>
                    <a:pt x="26" y="93"/>
                  </a:lnTo>
                  <a:lnTo>
                    <a:pt x="27" y="97"/>
                  </a:lnTo>
                  <a:lnTo>
                    <a:pt x="27" y="102"/>
                  </a:lnTo>
                  <a:lnTo>
                    <a:pt x="28" y="107"/>
                  </a:lnTo>
                  <a:lnTo>
                    <a:pt x="33" y="150"/>
                  </a:lnTo>
                  <a:lnTo>
                    <a:pt x="193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92800" y="4599000"/>
              <a:ext cx="120600" cy="68400"/>
            </a:xfrm>
            <a:custGeom>
              <a:avLst/>
              <a:gdLst/>
              <a:ahLst/>
              <a:rect l="l" t="t" r="r" b="b"/>
              <a:pathLst>
                <a:path w="228" h="175">
                  <a:moveTo>
                    <a:pt x="228" y="150"/>
                  </a:moveTo>
                  <a:lnTo>
                    <a:pt x="19" y="175"/>
                  </a:lnTo>
                  <a:lnTo>
                    <a:pt x="0" y="30"/>
                  </a:lnTo>
                  <a:lnTo>
                    <a:pt x="25" y="27"/>
                  </a:lnTo>
                  <a:lnTo>
                    <a:pt x="40" y="145"/>
                  </a:lnTo>
                  <a:lnTo>
                    <a:pt x="104" y="137"/>
                  </a:lnTo>
                  <a:lnTo>
                    <a:pt x="90" y="27"/>
                  </a:lnTo>
                  <a:lnTo>
                    <a:pt x="114" y="24"/>
                  </a:lnTo>
                  <a:lnTo>
                    <a:pt x="129" y="135"/>
                  </a:lnTo>
                  <a:lnTo>
                    <a:pt x="200" y="126"/>
                  </a:lnTo>
                  <a:lnTo>
                    <a:pt x="183" y="4"/>
                  </a:lnTo>
                  <a:lnTo>
                    <a:pt x="209" y="0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88120" y="4535640"/>
              <a:ext cx="112680" cy="58680"/>
            </a:xfrm>
            <a:custGeom>
              <a:avLst/>
              <a:gdLst/>
              <a:ahLst/>
              <a:rect l="l" t="t" r="r" b="b"/>
              <a:pathLst>
                <a:path w="212" h="150">
                  <a:moveTo>
                    <a:pt x="212" y="125"/>
                  </a:moveTo>
                  <a:lnTo>
                    <a:pt x="3" y="150"/>
                  </a:lnTo>
                  <a:lnTo>
                    <a:pt x="0" y="124"/>
                  </a:lnTo>
                  <a:lnTo>
                    <a:pt x="183" y="101"/>
                  </a:lnTo>
                  <a:lnTo>
                    <a:pt x="170" y="4"/>
                  </a:lnTo>
                  <a:lnTo>
                    <a:pt x="195" y="0"/>
                  </a:lnTo>
                  <a:lnTo>
                    <a:pt x="212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76960" y="4473720"/>
              <a:ext cx="112680" cy="60120"/>
            </a:xfrm>
            <a:custGeom>
              <a:avLst/>
              <a:gdLst/>
              <a:ahLst/>
              <a:rect l="l" t="t" r="r" b="b"/>
              <a:pathLst>
                <a:path w="213" h="149">
                  <a:moveTo>
                    <a:pt x="213" y="124"/>
                  </a:moveTo>
                  <a:lnTo>
                    <a:pt x="4" y="149"/>
                  </a:lnTo>
                  <a:lnTo>
                    <a:pt x="0" y="123"/>
                  </a:lnTo>
                  <a:lnTo>
                    <a:pt x="185" y="101"/>
                  </a:lnTo>
                  <a:lnTo>
                    <a:pt x="172" y="2"/>
                  </a:lnTo>
                  <a:lnTo>
                    <a:pt x="196" y="0"/>
                  </a:lnTo>
                  <a:lnTo>
                    <a:pt x="213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2560" y="4395960"/>
              <a:ext cx="117360" cy="74520"/>
            </a:xfrm>
            <a:custGeom>
              <a:avLst/>
              <a:gdLst/>
              <a:ahLst/>
              <a:rect l="l" t="t" r="r" b="b"/>
              <a:pathLst>
                <a:path w="222" h="186">
                  <a:moveTo>
                    <a:pt x="222" y="186"/>
                  </a:moveTo>
                  <a:lnTo>
                    <a:pt x="3" y="134"/>
                  </a:lnTo>
                  <a:lnTo>
                    <a:pt x="0" y="106"/>
                  </a:lnTo>
                  <a:lnTo>
                    <a:pt x="198" y="0"/>
                  </a:lnTo>
                  <a:lnTo>
                    <a:pt x="202" y="30"/>
                  </a:lnTo>
                  <a:lnTo>
                    <a:pt x="141" y="61"/>
                  </a:lnTo>
                  <a:lnTo>
                    <a:pt x="152" y="143"/>
                  </a:lnTo>
                  <a:lnTo>
                    <a:pt x="219" y="158"/>
                  </a:lnTo>
                  <a:lnTo>
                    <a:pt x="222" y="186"/>
                  </a:lnTo>
                  <a:close/>
                  <a:moveTo>
                    <a:pt x="129" y="139"/>
                  </a:moveTo>
                  <a:lnTo>
                    <a:pt x="120" y="71"/>
                  </a:lnTo>
                  <a:lnTo>
                    <a:pt x="65" y="99"/>
                  </a:lnTo>
                  <a:lnTo>
                    <a:pt x="59" y="102"/>
                  </a:lnTo>
                  <a:lnTo>
                    <a:pt x="53" y="104"/>
                  </a:lnTo>
                  <a:lnTo>
                    <a:pt x="48" y="108"/>
                  </a:lnTo>
                  <a:lnTo>
                    <a:pt x="42" y="111"/>
                  </a:lnTo>
                  <a:lnTo>
                    <a:pt x="36" y="112"/>
                  </a:lnTo>
                  <a:lnTo>
                    <a:pt x="32" y="114"/>
                  </a:lnTo>
                  <a:lnTo>
                    <a:pt x="27" y="117"/>
                  </a:lnTo>
                  <a:lnTo>
                    <a:pt x="23" y="118"/>
                  </a:lnTo>
                  <a:lnTo>
                    <a:pt x="28" y="118"/>
                  </a:lnTo>
                  <a:lnTo>
                    <a:pt x="33" y="119"/>
                  </a:lnTo>
                  <a:lnTo>
                    <a:pt x="39" y="119"/>
                  </a:lnTo>
                  <a:lnTo>
                    <a:pt x="44" y="121"/>
                  </a:lnTo>
                  <a:lnTo>
                    <a:pt x="50" y="122"/>
                  </a:lnTo>
                  <a:lnTo>
                    <a:pt x="55" y="122"/>
                  </a:lnTo>
                  <a:lnTo>
                    <a:pt x="60" y="123"/>
                  </a:lnTo>
                  <a:lnTo>
                    <a:pt x="65" y="124"/>
                  </a:lnTo>
                  <a:lnTo>
                    <a:pt x="12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7000" y="4302000"/>
              <a:ext cx="119160" cy="73080"/>
            </a:xfrm>
            <a:custGeom>
              <a:avLst/>
              <a:gdLst/>
              <a:ahLst/>
              <a:rect l="l" t="t" r="r" b="b"/>
              <a:pathLst>
                <a:path w="223" h="182">
                  <a:moveTo>
                    <a:pt x="223" y="80"/>
                  </a:moveTo>
                  <a:lnTo>
                    <a:pt x="25" y="182"/>
                  </a:lnTo>
                  <a:lnTo>
                    <a:pt x="21" y="153"/>
                  </a:lnTo>
                  <a:lnTo>
                    <a:pt x="166" y="83"/>
                  </a:lnTo>
                  <a:lnTo>
                    <a:pt x="170" y="81"/>
                  </a:lnTo>
                  <a:lnTo>
                    <a:pt x="174" y="80"/>
                  </a:lnTo>
                  <a:lnTo>
                    <a:pt x="178" y="77"/>
                  </a:lnTo>
                  <a:lnTo>
                    <a:pt x="182" y="76"/>
                  </a:lnTo>
                  <a:lnTo>
                    <a:pt x="186" y="73"/>
                  </a:lnTo>
                  <a:lnTo>
                    <a:pt x="190" y="72"/>
                  </a:lnTo>
                  <a:lnTo>
                    <a:pt x="194" y="71"/>
                  </a:lnTo>
                  <a:lnTo>
                    <a:pt x="198" y="68"/>
                  </a:lnTo>
                  <a:lnTo>
                    <a:pt x="194" y="68"/>
                  </a:lnTo>
                  <a:lnTo>
                    <a:pt x="189" y="67"/>
                  </a:lnTo>
                  <a:lnTo>
                    <a:pt x="185" y="67"/>
                  </a:lnTo>
                  <a:lnTo>
                    <a:pt x="181" y="66"/>
                  </a:lnTo>
                  <a:lnTo>
                    <a:pt x="176" y="65"/>
                  </a:lnTo>
                  <a:lnTo>
                    <a:pt x="172" y="65"/>
                  </a:lnTo>
                  <a:lnTo>
                    <a:pt x="167" y="63"/>
                  </a:lnTo>
                  <a:lnTo>
                    <a:pt x="163" y="6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219" y="52"/>
                  </a:lnTo>
                  <a:lnTo>
                    <a:pt x="223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34120" y="4270320"/>
              <a:ext cx="112680" cy="20520"/>
            </a:xfrm>
            <a:custGeom>
              <a:avLst/>
              <a:gdLst/>
              <a:ahLst/>
              <a:rect l="l" t="t" r="r" b="b"/>
              <a:pathLst>
                <a:path w="212" h="51">
                  <a:moveTo>
                    <a:pt x="212" y="26"/>
                  </a:moveTo>
                  <a:lnTo>
                    <a:pt x="3" y="51"/>
                  </a:lnTo>
                  <a:lnTo>
                    <a:pt x="0" y="25"/>
                  </a:lnTo>
                  <a:lnTo>
                    <a:pt x="209" y="0"/>
                  </a:lnTo>
                  <a:lnTo>
                    <a:pt x="21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21160" y="4203720"/>
              <a:ext cx="115920" cy="65160"/>
            </a:xfrm>
            <a:custGeom>
              <a:avLst/>
              <a:gdLst/>
              <a:ahLst/>
              <a:rect l="l" t="t" r="r" b="b"/>
              <a:pathLst>
                <a:path w="221" h="161">
                  <a:moveTo>
                    <a:pt x="221" y="70"/>
                  </a:moveTo>
                  <a:lnTo>
                    <a:pt x="36" y="92"/>
                  </a:lnTo>
                  <a:lnTo>
                    <a:pt x="46" y="158"/>
                  </a:lnTo>
                  <a:lnTo>
                    <a:pt x="21" y="161"/>
                  </a:lnTo>
                  <a:lnTo>
                    <a:pt x="0" y="2"/>
                  </a:lnTo>
                  <a:lnTo>
                    <a:pt x="24" y="0"/>
                  </a:lnTo>
                  <a:lnTo>
                    <a:pt x="33" y="66"/>
                  </a:lnTo>
                  <a:lnTo>
                    <a:pt x="218" y="43"/>
                  </a:lnTo>
                  <a:lnTo>
                    <a:pt x="221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08560" y="4137120"/>
              <a:ext cx="117360" cy="63360"/>
            </a:xfrm>
            <a:custGeom>
              <a:avLst/>
              <a:gdLst/>
              <a:ahLst/>
              <a:rect l="l" t="t" r="r" b="b"/>
              <a:pathLst>
                <a:path w="221" h="161">
                  <a:moveTo>
                    <a:pt x="221" y="71"/>
                  </a:moveTo>
                  <a:lnTo>
                    <a:pt x="36" y="92"/>
                  </a:lnTo>
                  <a:lnTo>
                    <a:pt x="45" y="158"/>
                  </a:lnTo>
                  <a:lnTo>
                    <a:pt x="20" y="161"/>
                  </a:lnTo>
                  <a:lnTo>
                    <a:pt x="0" y="4"/>
                  </a:lnTo>
                  <a:lnTo>
                    <a:pt x="24" y="0"/>
                  </a:lnTo>
                  <a:lnTo>
                    <a:pt x="33" y="66"/>
                  </a:lnTo>
                  <a:lnTo>
                    <a:pt x="217" y="43"/>
                  </a:lnTo>
                  <a:lnTo>
                    <a:pt x="221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9200" y="4051440"/>
              <a:ext cx="114120" cy="75960"/>
            </a:xfrm>
            <a:custGeom>
              <a:avLst/>
              <a:gdLst/>
              <a:ahLst/>
              <a:rect l="l" t="t" r="r" b="b"/>
              <a:pathLst>
                <a:path w="218" h="192">
                  <a:moveTo>
                    <a:pt x="124" y="191"/>
                  </a:moveTo>
                  <a:lnTo>
                    <a:pt x="112" y="192"/>
                  </a:lnTo>
                  <a:lnTo>
                    <a:pt x="100" y="192"/>
                  </a:lnTo>
                  <a:lnTo>
                    <a:pt x="89" y="192"/>
                  </a:lnTo>
                  <a:lnTo>
                    <a:pt x="77" y="190"/>
                  </a:lnTo>
                  <a:lnTo>
                    <a:pt x="67" y="187"/>
                  </a:lnTo>
                  <a:lnTo>
                    <a:pt x="57" y="184"/>
                  </a:lnTo>
                  <a:lnTo>
                    <a:pt x="48" y="180"/>
                  </a:lnTo>
                  <a:lnTo>
                    <a:pt x="40" y="175"/>
                  </a:lnTo>
                  <a:lnTo>
                    <a:pt x="32" y="169"/>
                  </a:lnTo>
                  <a:lnTo>
                    <a:pt x="25" y="161"/>
                  </a:lnTo>
                  <a:lnTo>
                    <a:pt x="19" y="155"/>
                  </a:lnTo>
                  <a:lnTo>
                    <a:pt x="14" y="146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2" y="119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2" y="76"/>
                  </a:lnTo>
                  <a:lnTo>
                    <a:pt x="3" y="70"/>
                  </a:lnTo>
                  <a:lnTo>
                    <a:pt x="5" y="64"/>
                  </a:lnTo>
                  <a:lnTo>
                    <a:pt x="8" y="58"/>
                  </a:lnTo>
                  <a:lnTo>
                    <a:pt x="11" y="51"/>
                  </a:lnTo>
                  <a:lnTo>
                    <a:pt x="15" y="46"/>
                  </a:lnTo>
                  <a:lnTo>
                    <a:pt x="19" y="41"/>
                  </a:lnTo>
                  <a:lnTo>
                    <a:pt x="23" y="36"/>
                  </a:lnTo>
                  <a:lnTo>
                    <a:pt x="27" y="31"/>
                  </a:lnTo>
                  <a:lnTo>
                    <a:pt x="32" y="26"/>
                  </a:lnTo>
                  <a:lnTo>
                    <a:pt x="37" y="23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4" y="13"/>
                  </a:lnTo>
                  <a:lnTo>
                    <a:pt x="61" y="10"/>
                  </a:lnTo>
                  <a:lnTo>
                    <a:pt x="67" y="8"/>
                  </a:lnTo>
                  <a:lnTo>
                    <a:pt x="74" y="5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1"/>
                  </a:lnTo>
                  <a:lnTo>
                    <a:pt x="141" y="3"/>
                  </a:lnTo>
                  <a:lnTo>
                    <a:pt x="148" y="4"/>
                  </a:lnTo>
                  <a:lnTo>
                    <a:pt x="155" y="6"/>
                  </a:lnTo>
                  <a:lnTo>
                    <a:pt x="162" y="9"/>
                  </a:lnTo>
                  <a:lnTo>
                    <a:pt x="168" y="11"/>
                  </a:lnTo>
                  <a:lnTo>
                    <a:pt x="174" y="15"/>
                  </a:lnTo>
                  <a:lnTo>
                    <a:pt x="179" y="18"/>
                  </a:lnTo>
                  <a:lnTo>
                    <a:pt x="185" y="23"/>
                  </a:lnTo>
                  <a:lnTo>
                    <a:pt x="189" y="26"/>
                  </a:lnTo>
                  <a:lnTo>
                    <a:pt x="194" y="31"/>
                  </a:lnTo>
                  <a:lnTo>
                    <a:pt x="198" y="36"/>
                  </a:lnTo>
                  <a:lnTo>
                    <a:pt x="202" y="41"/>
                  </a:lnTo>
                  <a:lnTo>
                    <a:pt x="205" y="46"/>
                  </a:lnTo>
                  <a:lnTo>
                    <a:pt x="208" y="53"/>
                  </a:lnTo>
                  <a:lnTo>
                    <a:pt x="210" y="59"/>
                  </a:lnTo>
                  <a:lnTo>
                    <a:pt x="213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17" y="82"/>
                  </a:lnTo>
                  <a:lnTo>
                    <a:pt x="218" y="90"/>
                  </a:lnTo>
                  <a:lnTo>
                    <a:pt x="218" y="97"/>
                  </a:lnTo>
                  <a:lnTo>
                    <a:pt x="218" y="104"/>
                  </a:lnTo>
                  <a:lnTo>
                    <a:pt x="217" y="110"/>
                  </a:lnTo>
                  <a:lnTo>
                    <a:pt x="216" y="116"/>
                  </a:lnTo>
                  <a:lnTo>
                    <a:pt x="214" y="122"/>
                  </a:lnTo>
                  <a:lnTo>
                    <a:pt x="212" y="129"/>
                  </a:lnTo>
                  <a:lnTo>
                    <a:pt x="209" y="135"/>
                  </a:lnTo>
                  <a:lnTo>
                    <a:pt x="206" y="141"/>
                  </a:lnTo>
                  <a:lnTo>
                    <a:pt x="203" y="146"/>
                  </a:lnTo>
                  <a:lnTo>
                    <a:pt x="199" y="151"/>
                  </a:lnTo>
                  <a:lnTo>
                    <a:pt x="195" y="156"/>
                  </a:lnTo>
                  <a:lnTo>
                    <a:pt x="191" y="161"/>
                  </a:lnTo>
                  <a:lnTo>
                    <a:pt x="186" y="166"/>
                  </a:lnTo>
                  <a:lnTo>
                    <a:pt x="181" y="170"/>
                  </a:lnTo>
                  <a:lnTo>
                    <a:pt x="175" y="174"/>
                  </a:lnTo>
                  <a:lnTo>
                    <a:pt x="170" y="177"/>
                  </a:lnTo>
                  <a:lnTo>
                    <a:pt x="164" y="180"/>
                  </a:lnTo>
                  <a:lnTo>
                    <a:pt x="157" y="182"/>
                  </a:lnTo>
                  <a:lnTo>
                    <a:pt x="151" y="185"/>
                  </a:lnTo>
                  <a:lnTo>
                    <a:pt x="144" y="187"/>
                  </a:lnTo>
                  <a:lnTo>
                    <a:pt x="138" y="189"/>
                  </a:lnTo>
                  <a:lnTo>
                    <a:pt x="131" y="190"/>
                  </a:lnTo>
                  <a:lnTo>
                    <a:pt x="124" y="191"/>
                  </a:lnTo>
                  <a:close/>
                  <a:moveTo>
                    <a:pt x="121" y="164"/>
                  </a:moveTo>
                  <a:lnTo>
                    <a:pt x="130" y="162"/>
                  </a:lnTo>
                  <a:lnTo>
                    <a:pt x="139" y="161"/>
                  </a:lnTo>
                  <a:lnTo>
                    <a:pt x="147" y="159"/>
                  </a:lnTo>
                  <a:lnTo>
                    <a:pt x="154" y="155"/>
                  </a:lnTo>
                  <a:lnTo>
                    <a:pt x="162" y="151"/>
                  </a:lnTo>
                  <a:lnTo>
                    <a:pt x="168" y="147"/>
                  </a:lnTo>
                  <a:lnTo>
                    <a:pt x="173" y="142"/>
                  </a:lnTo>
                  <a:lnTo>
                    <a:pt x="178" y="137"/>
                  </a:lnTo>
                  <a:lnTo>
                    <a:pt x="183" y="131"/>
                  </a:lnTo>
                  <a:lnTo>
                    <a:pt x="186" y="126"/>
                  </a:lnTo>
                  <a:lnTo>
                    <a:pt x="189" y="120"/>
                  </a:lnTo>
                  <a:lnTo>
                    <a:pt x="192" y="114"/>
                  </a:lnTo>
                  <a:lnTo>
                    <a:pt x="193" y="107"/>
                  </a:lnTo>
                  <a:lnTo>
                    <a:pt x="194" y="100"/>
                  </a:lnTo>
                  <a:lnTo>
                    <a:pt x="194" y="94"/>
                  </a:lnTo>
                  <a:lnTo>
                    <a:pt x="194" y="86"/>
                  </a:lnTo>
                  <a:lnTo>
                    <a:pt x="192" y="79"/>
                  </a:lnTo>
                  <a:lnTo>
                    <a:pt x="190" y="73"/>
                  </a:lnTo>
                  <a:lnTo>
                    <a:pt x="188" y="65"/>
                  </a:lnTo>
                  <a:lnTo>
                    <a:pt x="185" y="60"/>
                  </a:lnTo>
                  <a:lnTo>
                    <a:pt x="181" y="54"/>
                  </a:lnTo>
                  <a:lnTo>
                    <a:pt x="176" y="49"/>
                  </a:lnTo>
                  <a:lnTo>
                    <a:pt x="171" y="44"/>
                  </a:lnTo>
                  <a:lnTo>
                    <a:pt x="166" y="40"/>
                  </a:lnTo>
                  <a:lnTo>
                    <a:pt x="159" y="36"/>
                  </a:lnTo>
                  <a:lnTo>
                    <a:pt x="151" y="33"/>
                  </a:lnTo>
                  <a:lnTo>
                    <a:pt x="144" y="30"/>
                  </a:lnTo>
                  <a:lnTo>
                    <a:pt x="136" y="29"/>
                  </a:lnTo>
                  <a:lnTo>
                    <a:pt x="128" y="28"/>
                  </a:lnTo>
                  <a:lnTo>
                    <a:pt x="119" y="26"/>
                  </a:lnTo>
                  <a:lnTo>
                    <a:pt x="110" y="28"/>
                  </a:lnTo>
                  <a:lnTo>
                    <a:pt x="101" y="28"/>
                  </a:lnTo>
                  <a:lnTo>
                    <a:pt x="94" y="29"/>
                  </a:lnTo>
                  <a:lnTo>
                    <a:pt x="88" y="30"/>
                  </a:lnTo>
                  <a:lnTo>
                    <a:pt x="82" y="31"/>
                  </a:lnTo>
                  <a:lnTo>
                    <a:pt x="76" y="33"/>
                  </a:lnTo>
                  <a:lnTo>
                    <a:pt x="71" y="35"/>
                  </a:lnTo>
                  <a:lnTo>
                    <a:pt x="66" y="36"/>
                  </a:lnTo>
                  <a:lnTo>
                    <a:pt x="61" y="39"/>
                  </a:lnTo>
                  <a:lnTo>
                    <a:pt x="57" y="41"/>
                  </a:lnTo>
                  <a:lnTo>
                    <a:pt x="52" y="44"/>
                  </a:lnTo>
                  <a:lnTo>
                    <a:pt x="48" y="48"/>
                  </a:lnTo>
                  <a:lnTo>
                    <a:pt x="45" y="50"/>
                  </a:lnTo>
                  <a:lnTo>
                    <a:pt x="41" y="54"/>
                  </a:lnTo>
                  <a:lnTo>
                    <a:pt x="38" y="58"/>
                  </a:lnTo>
                  <a:lnTo>
                    <a:pt x="36" y="61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4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5" y="87"/>
                  </a:lnTo>
                  <a:lnTo>
                    <a:pt x="25" y="91"/>
                  </a:lnTo>
                  <a:lnTo>
                    <a:pt x="25" y="96"/>
                  </a:lnTo>
                  <a:lnTo>
                    <a:pt x="25" y="101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8" y="120"/>
                  </a:lnTo>
                  <a:lnTo>
                    <a:pt x="31" y="126"/>
                  </a:lnTo>
                  <a:lnTo>
                    <a:pt x="33" y="131"/>
                  </a:lnTo>
                  <a:lnTo>
                    <a:pt x="37" y="137"/>
                  </a:lnTo>
                  <a:lnTo>
                    <a:pt x="41" y="142"/>
                  </a:lnTo>
                  <a:lnTo>
                    <a:pt x="46" y="147"/>
                  </a:lnTo>
                  <a:lnTo>
                    <a:pt x="51" y="152"/>
                  </a:lnTo>
                  <a:lnTo>
                    <a:pt x="57" y="156"/>
                  </a:lnTo>
                  <a:lnTo>
                    <a:pt x="64" y="159"/>
                  </a:lnTo>
                  <a:lnTo>
                    <a:pt x="72" y="162"/>
                  </a:lnTo>
                  <a:lnTo>
                    <a:pt x="80" y="164"/>
                  </a:lnTo>
                  <a:lnTo>
                    <a:pt x="90" y="165"/>
                  </a:lnTo>
                  <a:lnTo>
                    <a:pt x="100" y="165"/>
                  </a:lnTo>
                  <a:lnTo>
                    <a:pt x="110" y="165"/>
                  </a:lnTo>
                  <a:lnTo>
                    <a:pt x="121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84800" y="3963960"/>
              <a:ext cx="117360" cy="79560"/>
            </a:xfrm>
            <a:custGeom>
              <a:avLst/>
              <a:gdLst/>
              <a:ahLst/>
              <a:rect l="l" t="t" r="r" b="b"/>
              <a:pathLst>
                <a:path w="222" h="201">
                  <a:moveTo>
                    <a:pt x="222" y="176"/>
                  </a:moveTo>
                  <a:lnTo>
                    <a:pt x="13" y="201"/>
                  </a:lnTo>
                  <a:lnTo>
                    <a:pt x="2" y="112"/>
                  </a:lnTo>
                  <a:lnTo>
                    <a:pt x="1" y="106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1" y="79"/>
                  </a:lnTo>
                  <a:lnTo>
                    <a:pt x="1" y="75"/>
                  </a:lnTo>
                  <a:lnTo>
                    <a:pt x="2" y="71"/>
                  </a:lnTo>
                  <a:lnTo>
                    <a:pt x="3" y="67"/>
                  </a:lnTo>
                  <a:lnTo>
                    <a:pt x="5" y="64"/>
                  </a:lnTo>
                  <a:lnTo>
                    <a:pt x="6" y="61"/>
                  </a:lnTo>
                  <a:lnTo>
                    <a:pt x="8" y="57"/>
                  </a:lnTo>
                  <a:lnTo>
                    <a:pt x="10" y="55"/>
                  </a:lnTo>
                  <a:lnTo>
                    <a:pt x="13" y="52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9"/>
                  </a:lnTo>
                  <a:lnTo>
                    <a:pt x="37" y="37"/>
                  </a:lnTo>
                  <a:lnTo>
                    <a:pt x="42" y="36"/>
                  </a:lnTo>
                  <a:lnTo>
                    <a:pt x="46" y="35"/>
                  </a:lnTo>
                  <a:lnTo>
                    <a:pt x="50" y="35"/>
                  </a:lnTo>
                  <a:lnTo>
                    <a:pt x="55" y="34"/>
                  </a:lnTo>
                  <a:lnTo>
                    <a:pt x="60" y="34"/>
                  </a:lnTo>
                  <a:lnTo>
                    <a:pt x="65" y="35"/>
                  </a:lnTo>
                  <a:lnTo>
                    <a:pt x="70" y="35"/>
                  </a:lnTo>
                  <a:lnTo>
                    <a:pt x="75" y="36"/>
                  </a:lnTo>
                  <a:lnTo>
                    <a:pt x="80" y="39"/>
                  </a:lnTo>
                  <a:lnTo>
                    <a:pt x="84" y="41"/>
                  </a:lnTo>
                  <a:lnTo>
                    <a:pt x="88" y="44"/>
                  </a:lnTo>
                  <a:lnTo>
                    <a:pt x="93" y="47"/>
                  </a:lnTo>
                  <a:lnTo>
                    <a:pt x="96" y="51"/>
                  </a:lnTo>
                  <a:lnTo>
                    <a:pt x="100" y="55"/>
                  </a:lnTo>
                  <a:lnTo>
                    <a:pt x="103" y="60"/>
                  </a:lnTo>
                  <a:lnTo>
                    <a:pt x="106" y="65"/>
                  </a:lnTo>
                  <a:lnTo>
                    <a:pt x="109" y="71"/>
                  </a:lnTo>
                  <a:lnTo>
                    <a:pt x="112" y="77"/>
                  </a:lnTo>
                  <a:lnTo>
                    <a:pt x="114" y="84"/>
                  </a:lnTo>
                  <a:lnTo>
                    <a:pt x="115" y="81"/>
                  </a:lnTo>
                  <a:lnTo>
                    <a:pt x="116" y="79"/>
                  </a:lnTo>
                  <a:lnTo>
                    <a:pt x="117" y="76"/>
                  </a:lnTo>
                  <a:lnTo>
                    <a:pt x="118" y="74"/>
                  </a:lnTo>
                  <a:lnTo>
                    <a:pt x="119" y="72"/>
                  </a:lnTo>
                  <a:lnTo>
                    <a:pt x="120" y="70"/>
                  </a:lnTo>
                  <a:lnTo>
                    <a:pt x="121" y="69"/>
                  </a:lnTo>
                  <a:lnTo>
                    <a:pt x="122" y="66"/>
                  </a:lnTo>
                  <a:lnTo>
                    <a:pt x="125" y="64"/>
                  </a:lnTo>
                  <a:lnTo>
                    <a:pt x="127" y="60"/>
                  </a:lnTo>
                  <a:lnTo>
                    <a:pt x="130" y="57"/>
                  </a:lnTo>
                  <a:lnTo>
                    <a:pt x="133" y="54"/>
                  </a:lnTo>
                  <a:lnTo>
                    <a:pt x="136" y="51"/>
                  </a:lnTo>
                  <a:lnTo>
                    <a:pt x="140" y="47"/>
                  </a:lnTo>
                  <a:lnTo>
                    <a:pt x="143" y="45"/>
                  </a:lnTo>
                  <a:lnTo>
                    <a:pt x="147" y="41"/>
                  </a:lnTo>
                  <a:lnTo>
                    <a:pt x="199" y="0"/>
                  </a:lnTo>
                  <a:lnTo>
                    <a:pt x="204" y="32"/>
                  </a:lnTo>
                  <a:lnTo>
                    <a:pt x="163" y="65"/>
                  </a:lnTo>
                  <a:lnTo>
                    <a:pt x="159" y="67"/>
                  </a:lnTo>
                  <a:lnTo>
                    <a:pt x="155" y="71"/>
                  </a:lnTo>
                  <a:lnTo>
                    <a:pt x="152" y="74"/>
                  </a:lnTo>
                  <a:lnTo>
                    <a:pt x="148" y="77"/>
                  </a:lnTo>
                  <a:lnTo>
                    <a:pt x="145" y="80"/>
                  </a:lnTo>
                  <a:lnTo>
                    <a:pt x="142" y="82"/>
                  </a:lnTo>
                  <a:lnTo>
                    <a:pt x="140" y="85"/>
                  </a:lnTo>
                  <a:lnTo>
                    <a:pt x="137" y="87"/>
                  </a:lnTo>
                  <a:lnTo>
                    <a:pt x="135" y="90"/>
                  </a:lnTo>
                  <a:lnTo>
                    <a:pt x="133" y="91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9" y="97"/>
                  </a:lnTo>
                  <a:lnTo>
                    <a:pt x="127" y="99"/>
                  </a:lnTo>
                  <a:lnTo>
                    <a:pt x="126" y="101"/>
                  </a:lnTo>
                  <a:lnTo>
                    <a:pt x="125" y="102"/>
                  </a:lnTo>
                  <a:lnTo>
                    <a:pt x="125" y="104"/>
                  </a:lnTo>
                  <a:lnTo>
                    <a:pt x="124" y="105"/>
                  </a:lnTo>
                  <a:lnTo>
                    <a:pt x="123" y="107"/>
                  </a:lnTo>
                  <a:lnTo>
                    <a:pt x="123" y="109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4"/>
                  </a:lnTo>
                  <a:lnTo>
                    <a:pt x="122" y="115"/>
                  </a:lnTo>
                  <a:lnTo>
                    <a:pt x="121" y="116"/>
                  </a:lnTo>
                  <a:lnTo>
                    <a:pt x="121" y="117"/>
                  </a:lnTo>
                  <a:lnTo>
                    <a:pt x="121" y="120"/>
                  </a:lnTo>
                  <a:lnTo>
                    <a:pt x="122" y="121"/>
                  </a:lnTo>
                  <a:lnTo>
                    <a:pt x="122" y="122"/>
                  </a:lnTo>
                  <a:lnTo>
                    <a:pt x="122" y="125"/>
                  </a:lnTo>
                  <a:lnTo>
                    <a:pt x="122" y="127"/>
                  </a:lnTo>
                  <a:lnTo>
                    <a:pt x="122" y="130"/>
                  </a:lnTo>
                  <a:lnTo>
                    <a:pt x="126" y="161"/>
                  </a:lnTo>
                  <a:lnTo>
                    <a:pt x="219" y="150"/>
                  </a:lnTo>
                  <a:lnTo>
                    <a:pt x="222" y="176"/>
                  </a:lnTo>
                  <a:close/>
                  <a:moveTo>
                    <a:pt x="102" y="163"/>
                  </a:moveTo>
                  <a:lnTo>
                    <a:pt x="94" y="106"/>
                  </a:lnTo>
                  <a:lnTo>
                    <a:pt x="94" y="102"/>
                  </a:lnTo>
                  <a:lnTo>
                    <a:pt x="93" y="99"/>
                  </a:lnTo>
                  <a:lnTo>
                    <a:pt x="92" y="94"/>
                  </a:lnTo>
                  <a:lnTo>
                    <a:pt x="91" y="91"/>
                  </a:lnTo>
                  <a:lnTo>
                    <a:pt x="90" y="87"/>
                  </a:lnTo>
                  <a:lnTo>
                    <a:pt x="89" y="84"/>
                  </a:lnTo>
                  <a:lnTo>
                    <a:pt x="88" y="81"/>
                  </a:lnTo>
                  <a:lnTo>
                    <a:pt x="87" y="79"/>
                  </a:lnTo>
                  <a:lnTo>
                    <a:pt x="86" y="76"/>
                  </a:lnTo>
                  <a:lnTo>
                    <a:pt x="84" y="74"/>
                  </a:lnTo>
                  <a:lnTo>
                    <a:pt x="82" y="72"/>
                  </a:lnTo>
                  <a:lnTo>
                    <a:pt x="81" y="70"/>
                  </a:lnTo>
                  <a:lnTo>
                    <a:pt x="79" y="69"/>
                  </a:lnTo>
                  <a:lnTo>
                    <a:pt x="77" y="67"/>
                  </a:lnTo>
                  <a:lnTo>
                    <a:pt x="75" y="66"/>
                  </a:lnTo>
                  <a:lnTo>
                    <a:pt x="72" y="65"/>
                  </a:lnTo>
                  <a:lnTo>
                    <a:pt x="70" y="64"/>
                  </a:lnTo>
                  <a:lnTo>
                    <a:pt x="68" y="62"/>
                  </a:lnTo>
                  <a:lnTo>
                    <a:pt x="65" y="62"/>
                  </a:lnTo>
                  <a:lnTo>
                    <a:pt x="63" y="62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0" y="62"/>
                  </a:lnTo>
                  <a:lnTo>
                    <a:pt x="46" y="64"/>
                  </a:lnTo>
                  <a:lnTo>
                    <a:pt x="43" y="65"/>
                  </a:lnTo>
                  <a:lnTo>
                    <a:pt x="40" y="66"/>
                  </a:lnTo>
                  <a:lnTo>
                    <a:pt x="37" y="67"/>
                  </a:lnTo>
                  <a:lnTo>
                    <a:pt x="34" y="70"/>
                  </a:lnTo>
                  <a:lnTo>
                    <a:pt x="32" y="72"/>
                  </a:lnTo>
                  <a:lnTo>
                    <a:pt x="30" y="75"/>
                  </a:lnTo>
                  <a:lnTo>
                    <a:pt x="28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4" y="89"/>
                  </a:lnTo>
                  <a:lnTo>
                    <a:pt x="24" y="94"/>
                  </a:lnTo>
                  <a:lnTo>
                    <a:pt x="24" y="99"/>
                  </a:lnTo>
                  <a:lnTo>
                    <a:pt x="24" y="104"/>
                  </a:lnTo>
                  <a:lnTo>
                    <a:pt x="24" y="109"/>
                  </a:lnTo>
                  <a:lnTo>
                    <a:pt x="33" y="172"/>
                  </a:lnTo>
                  <a:lnTo>
                    <a:pt x="102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75440" y="3940200"/>
              <a:ext cx="112680" cy="20520"/>
            </a:xfrm>
            <a:custGeom>
              <a:avLst/>
              <a:gdLst/>
              <a:ahLst/>
              <a:rect l="l" t="t" r="r" b="b"/>
              <a:pathLst>
                <a:path w="213" h="51">
                  <a:moveTo>
                    <a:pt x="213" y="26"/>
                  </a:moveTo>
                  <a:lnTo>
                    <a:pt x="4" y="51"/>
                  </a:lnTo>
                  <a:lnTo>
                    <a:pt x="0" y="25"/>
                  </a:lnTo>
                  <a:lnTo>
                    <a:pt x="209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65720" y="3857760"/>
              <a:ext cx="119160" cy="72720"/>
            </a:xfrm>
            <a:custGeom>
              <a:avLst/>
              <a:gdLst/>
              <a:ahLst/>
              <a:rect l="l" t="t" r="r" b="b"/>
              <a:pathLst>
                <a:path w="224" h="186">
                  <a:moveTo>
                    <a:pt x="224" y="186"/>
                  </a:moveTo>
                  <a:lnTo>
                    <a:pt x="5" y="135"/>
                  </a:lnTo>
                  <a:lnTo>
                    <a:pt x="0" y="106"/>
                  </a:lnTo>
                  <a:lnTo>
                    <a:pt x="199" y="0"/>
                  </a:lnTo>
                  <a:lnTo>
                    <a:pt x="202" y="30"/>
                  </a:lnTo>
                  <a:lnTo>
                    <a:pt x="142" y="60"/>
                  </a:lnTo>
                  <a:lnTo>
                    <a:pt x="154" y="143"/>
                  </a:lnTo>
                  <a:lnTo>
                    <a:pt x="220" y="158"/>
                  </a:lnTo>
                  <a:lnTo>
                    <a:pt x="224" y="186"/>
                  </a:lnTo>
                  <a:close/>
                  <a:moveTo>
                    <a:pt x="130" y="138"/>
                  </a:moveTo>
                  <a:lnTo>
                    <a:pt x="121" y="71"/>
                  </a:lnTo>
                  <a:lnTo>
                    <a:pt x="66" y="100"/>
                  </a:lnTo>
                  <a:lnTo>
                    <a:pt x="60" y="102"/>
                  </a:lnTo>
                  <a:lnTo>
                    <a:pt x="54" y="105"/>
                  </a:lnTo>
                  <a:lnTo>
                    <a:pt x="48" y="107"/>
                  </a:lnTo>
                  <a:lnTo>
                    <a:pt x="43" y="110"/>
                  </a:lnTo>
                  <a:lnTo>
                    <a:pt x="38" y="112"/>
                  </a:lnTo>
                  <a:lnTo>
                    <a:pt x="33" y="115"/>
                  </a:lnTo>
                  <a:lnTo>
                    <a:pt x="29" y="117"/>
                  </a:lnTo>
                  <a:lnTo>
                    <a:pt x="25" y="119"/>
                  </a:lnTo>
                  <a:lnTo>
                    <a:pt x="30" y="119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5" y="121"/>
                  </a:lnTo>
                  <a:lnTo>
                    <a:pt x="50" y="121"/>
                  </a:lnTo>
                  <a:lnTo>
                    <a:pt x="55" y="122"/>
                  </a:lnTo>
                  <a:lnTo>
                    <a:pt x="60" y="124"/>
                  </a:lnTo>
                  <a:lnTo>
                    <a:pt x="66" y="125"/>
                  </a:lnTo>
                  <a:lnTo>
                    <a:pt x="13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48360" y="2235240"/>
              <a:ext cx="125280" cy="100080"/>
            </a:xfrm>
            <a:custGeom>
              <a:avLst/>
              <a:gdLst/>
              <a:ahLst/>
              <a:rect l="l" t="t" r="r" b="b"/>
              <a:pathLst>
                <a:path w="238" h="251">
                  <a:moveTo>
                    <a:pt x="0" y="221"/>
                  </a:moveTo>
                  <a:lnTo>
                    <a:pt x="137" y="0"/>
                  </a:lnTo>
                  <a:lnTo>
                    <a:pt x="154" y="33"/>
                  </a:lnTo>
                  <a:lnTo>
                    <a:pt x="51" y="187"/>
                  </a:lnTo>
                  <a:lnTo>
                    <a:pt x="48" y="192"/>
                  </a:lnTo>
                  <a:lnTo>
                    <a:pt x="45" y="197"/>
                  </a:lnTo>
                  <a:lnTo>
                    <a:pt x="42" y="201"/>
                  </a:lnTo>
                  <a:lnTo>
                    <a:pt x="39" y="205"/>
                  </a:lnTo>
                  <a:lnTo>
                    <a:pt x="36" y="210"/>
                  </a:lnTo>
                  <a:lnTo>
                    <a:pt x="33" y="214"/>
                  </a:lnTo>
                  <a:lnTo>
                    <a:pt x="30" y="217"/>
                  </a:lnTo>
                  <a:lnTo>
                    <a:pt x="27" y="221"/>
                  </a:lnTo>
                  <a:lnTo>
                    <a:pt x="32" y="220"/>
                  </a:lnTo>
                  <a:lnTo>
                    <a:pt x="36" y="219"/>
                  </a:lnTo>
                  <a:lnTo>
                    <a:pt x="40" y="217"/>
                  </a:lnTo>
                  <a:lnTo>
                    <a:pt x="45" y="216"/>
                  </a:lnTo>
                  <a:lnTo>
                    <a:pt x="49" y="215"/>
                  </a:lnTo>
                  <a:lnTo>
                    <a:pt x="53" y="214"/>
                  </a:lnTo>
                  <a:lnTo>
                    <a:pt x="58" y="212"/>
                  </a:lnTo>
                  <a:lnTo>
                    <a:pt x="62" y="211"/>
                  </a:lnTo>
                  <a:lnTo>
                    <a:pt x="222" y="174"/>
                  </a:lnTo>
                  <a:lnTo>
                    <a:pt x="238" y="204"/>
                  </a:lnTo>
                  <a:lnTo>
                    <a:pt x="15" y="25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3280" y="2322360"/>
              <a:ext cx="102960" cy="65160"/>
            </a:xfrm>
            <a:custGeom>
              <a:avLst/>
              <a:gdLst/>
              <a:ahLst/>
              <a:rect l="l" t="t" r="r" b="b"/>
              <a:pathLst>
                <a:path w="193" h="162">
                  <a:moveTo>
                    <a:pt x="154" y="19"/>
                  </a:moveTo>
                  <a:lnTo>
                    <a:pt x="180" y="0"/>
                  </a:lnTo>
                  <a:lnTo>
                    <a:pt x="193" y="27"/>
                  </a:lnTo>
                  <a:lnTo>
                    <a:pt x="168" y="46"/>
                  </a:lnTo>
                  <a:lnTo>
                    <a:pt x="154" y="19"/>
                  </a:lnTo>
                  <a:close/>
                  <a:moveTo>
                    <a:pt x="0" y="135"/>
                  </a:moveTo>
                  <a:lnTo>
                    <a:pt x="130" y="37"/>
                  </a:lnTo>
                  <a:lnTo>
                    <a:pt x="144" y="65"/>
                  </a:lnTo>
                  <a:lnTo>
                    <a:pt x="14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07040" y="2371680"/>
              <a:ext cx="90360" cy="85680"/>
            </a:xfrm>
            <a:custGeom>
              <a:avLst/>
              <a:gdLst/>
              <a:ahLst/>
              <a:rect l="l" t="t" r="r" b="b"/>
              <a:pathLst>
                <a:path w="170" h="219">
                  <a:moveTo>
                    <a:pt x="58" y="173"/>
                  </a:moveTo>
                  <a:lnTo>
                    <a:pt x="54" y="170"/>
                  </a:lnTo>
                  <a:lnTo>
                    <a:pt x="50" y="169"/>
                  </a:lnTo>
                  <a:lnTo>
                    <a:pt x="46" y="166"/>
                  </a:lnTo>
                  <a:lnTo>
                    <a:pt x="42" y="164"/>
                  </a:lnTo>
                  <a:lnTo>
                    <a:pt x="38" y="161"/>
                  </a:lnTo>
                  <a:lnTo>
                    <a:pt x="34" y="160"/>
                  </a:lnTo>
                  <a:lnTo>
                    <a:pt x="31" y="158"/>
                  </a:lnTo>
                  <a:lnTo>
                    <a:pt x="29" y="154"/>
                  </a:lnTo>
                  <a:lnTo>
                    <a:pt x="26" y="151"/>
                  </a:lnTo>
                  <a:lnTo>
                    <a:pt x="23" y="149"/>
                  </a:lnTo>
                  <a:lnTo>
                    <a:pt x="21" y="145"/>
                  </a:lnTo>
                  <a:lnTo>
                    <a:pt x="18" y="143"/>
                  </a:lnTo>
                  <a:lnTo>
                    <a:pt x="16" y="139"/>
                  </a:lnTo>
                  <a:lnTo>
                    <a:pt x="14" y="135"/>
                  </a:lnTo>
                  <a:lnTo>
                    <a:pt x="12" y="131"/>
                  </a:lnTo>
                  <a:lnTo>
                    <a:pt x="10" y="128"/>
                  </a:lnTo>
                  <a:lnTo>
                    <a:pt x="7" y="121"/>
                  </a:lnTo>
                  <a:lnTo>
                    <a:pt x="4" y="115"/>
                  </a:lnTo>
                  <a:lnTo>
                    <a:pt x="2" y="109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3" y="69"/>
                  </a:lnTo>
                  <a:lnTo>
                    <a:pt x="5" y="64"/>
                  </a:lnTo>
                  <a:lnTo>
                    <a:pt x="7" y="59"/>
                  </a:lnTo>
                  <a:lnTo>
                    <a:pt x="9" y="55"/>
                  </a:lnTo>
                  <a:lnTo>
                    <a:pt x="13" y="52"/>
                  </a:lnTo>
                  <a:lnTo>
                    <a:pt x="16" y="48"/>
                  </a:lnTo>
                  <a:lnTo>
                    <a:pt x="20" y="45"/>
                  </a:lnTo>
                  <a:lnTo>
                    <a:pt x="22" y="43"/>
                  </a:lnTo>
                  <a:lnTo>
                    <a:pt x="25" y="42"/>
                  </a:lnTo>
                  <a:lnTo>
                    <a:pt x="27" y="40"/>
                  </a:lnTo>
                  <a:lnTo>
                    <a:pt x="29" y="39"/>
                  </a:lnTo>
                  <a:lnTo>
                    <a:pt x="32" y="39"/>
                  </a:lnTo>
                  <a:lnTo>
                    <a:pt x="34" y="38"/>
                  </a:lnTo>
                  <a:lnTo>
                    <a:pt x="37" y="38"/>
                  </a:lnTo>
                  <a:lnTo>
                    <a:pt x="40" y="37"/>
                  </a:lnTo>
                  <a:lnTo>
                    <a:pt x="43" y="37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51" y="38"/>
                  </a:lnTo>
                  <a:lnTo>
                    <a:pt x="53" y="39"/>
                  </a:lnTo>
                  <a:lnTo>
                    <a:pt x="55" y="39"/>
                  </a:lnTo>
                  <a:lnTo>
                    <a:pt x="58" y="40"/>
                  </a:lnTo>
                  <a:lnTo>
                    <a:pt x="60" y="42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7" y="47"/>
                  </a:lnTo>
                  <a:lnTo>
                    <a:pt x="69" y="48"/>
                  </a:lnTo>
                  <a:lnTo>
                    <a:pt x="71" y="49"/>
                  </a:lnTo>
                  <a:lnTo>
                    <a:pt x="73" y="52"/>
                  </a:lnTo>
                  <a:lnTo>
                    <a:pt x="75" y="54"/>
                  </a:lnTo>
                  <a:lnTo>
                    <a:pt x="77" y="55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1" y="62"/>
                  </a:lnTo>
                  <a:lnTo>
                    <a:pt x="83" y="64"/>
                  </a:lnTo>
                  <a:lnTo>
                    <a:pt x="85" y="68"/>
                  </a:lnTo>
                  <a:lnTo>
                    <a:pt x="87" y="70"/>
                  </a:lnTo>
                  <a:lnTo>
                    <a:pt x="89" y="74"/>
                  </a:lnTo>
                  <a:lnTo>
                    <a:pt x="92" y="78"/>
                  </a:lnTo>
                  <a:lnTo>
                    <a:pt x="96" y="85"/>
                  </a:lnTo>
                  <a:lnTo>
                    <a:pt x="101" y="92"/>
                  </a:lnTo>
                  <a:lnTo>
                    <a:pt x="105" y="98"/>
                  </a:lnTo>
                  <a:lnTo>
                    <a:pt x="109" y="104"/>
                  </a:lnTo>
                  <a:lnTo>
                    <a:pt x="114" y="109"/>
                  </a:lnTo>
                  <a:lnTo>
                    <a:pt x="117" y="113"/>
                  </a:lnTo>
                  <a:lnTo>
                    <a:pt x="121" y="116"/>
                  </a:lnTo>
                  <a:lnTo>
                    <a:pt x="124" y="120"/>
                  </a:lnTo>
                  <a:lnTo>
                    <a:pt x="125" y="119"/>
                  </a:lnTo>
                  <a:lnTo>
                    <a:pt x="126" y="119"/>
                  </a:lnTo>
                  <a:lnTo>
                    <a:pt x="127" y="118"/>
                  </a:lnTo>
                  <a:lnTo>
                    <a:pt x="128" y="118"/>
                  </a:lnTo>
                  <a:lnTo>
                    <a:pt x="128" y="118"/>
                  </a:lnTo>
                  <a:lnTo>
                    <a:pt x="129" y="116"/>
                  </a:lnTo>
                  <a:lnTo>
                    <a:pt x="129" y="116"/>
                  </a:lnTo>
                  <a:lnTo>
                    <a:pt x="130" y="116"/>
                  </a:lnTo>
                  <a:lnTo>
                    <a:pt x="133" y="114"/>
                  </a:lnTo>
                  <a:lnTo>
                    <a:pt x="136" y="111"/>
                  </a:lnTo>
                  <a:lnTo>
                    <a:pt x="138" y="109"/>
                  </a:lnTo>
                  <a:lnTo>
                    <a:pt x="140" y="105"/>
                  </a:lnTo>
                  <a:lnTo>
                    <a:pt x="142" y="103"/>
                  </a:lnTo>
                  <a:lnTo>
                    <a:pt x="143" y="100"/>
                  </a:lnTo>
                  <a:lnTo>
                    <a:pt x="144" y="98"/>
                  </a:lnTo>
                  <a:lnTo>
                    <a:pt x="145" y="94"/>
                  </a:lnTo>
                  <a:lnTo>
                    <a:pt x="145" y="90"/>
                  </a:lnTo>
                  <a:lnTo>
                    <a:pt x="145" y="87"/>
                  </a:lnTo>
                  <a:lnTo>
                    <a:pt x="145" y="82"/>
                  </a:lnTo>
                  <a:lnTo>
                    <a:pt x="144" y="77"/>
                  </a:lnTo>
                  <a:lnTo>
                    <a:pt x="143" y="73"/>
                  </a:lnTo>
                  <a:lnTo>
                    <a:pt x="141" y="68"/>
                  </a:lnTo>
                  <a:lnTo>
                    <a:pt x="139" y="63"/>
                  </a:lnTo>
                  <a:lnTo>
                    <a:pt x="137" y="58"/>
                  </a:lnTo>
                  <a:lnTo>
                    <a:pt x="135" y="53"/>
                  </a:lnTo>
                  <a:lnTo>
                    <a:pt x="132" y="49"/>
                  </a:lnTo>
                  <a:lnTo>
                    <a:pt x="130" y="45"/>
                  </a:lnTo>
                  <a:lnTo>
                    <a:pt x="127" y="42"/>
                  </a:lnTo>
                  <a:lnTo>
                    <a:pt x="125" y="39"/>
                  </a:lnTo>
                  <a:lnTo>
                    <a:pt x="123" y="37"/>
                  </a:lnTo>
                  <a:lnTo>
                    <a:pt x="120" y="35"/>
                  </a:lnTo>
                  <a:lnTo>
                    <a:pt x="118" y="33"/>
                  </a:lnTo>
                  <a:lnTo>
                    <a:pt x="115" y="33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1" y="5"/>
                  </a:lnTo>
                  <a:lnTo>
                    <a:pt x="85" y="4"/>
                  </a:lnTo>
                  <a:lnTo>
                    <a:pt x="89" y="3"/>
                  </a:lnTo>
                  <a:lnTo>
                    <a:pt x="92" y="2"/>
                  </a:lnTo>
                  <a:lnTo>
                    <a:pt x="96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2" y="5"/>
                  </a:lnTo>
                  <a:lnTo>
                    <a:pt x="125" y="7"/>
                  </a:lnTo>
                  <a:lnTo>
                    <a:pt x="128" y="9"/>
                  </a:lnTo>
                  <a:lnTo>
                    <a:pt x="132" y="12"/>
                  </a:lnTo>
                  <a:lnTo>
                    <a:pt x="135" y="15"/>
                  </a:lnTo>
                  <a:lnTo>
                    <a:pt x="138" y="18"/>
                  </a:lnTo>
                  <a:lnTo>
                    <a:pt x="141" y="22"/>
                  </a:lnTo>
                  <a:lnTo>
                    <a:pt x="143" y="25"/>
                  </a:lnTo>
                  <a:lnTo>
                    <a:pt x="146" y="29"/>
                  </a:lnTo>
                  <a:lnTo>
                    <a:pt x="149" y="34"/>
                  </a:lnTo>
                  <a:lnTo>
                    <a:pt x="152" y="38"/>
                  </a:lnTo>
                  <a:lnTo>
                    <a:pt x="154" y="43"/>
                  </a:lnTo>
                  <a:lnTo>
                    <a:pt x="157" y="48"/>
                  </a:lnTo>
                  <a:lnTo>
                    <a:pt x="159" y="53"/>
                  </a:lnTo>
                  <a:lnTo>
                    <a:pt x="161" y="58"/>
                  </a:lnTo>
                  <a:lnTo>
                    <a:pt x="163" y="63"/>
                  </a:lnTo>
                  <a:lnTo>
                    <a:pt x="165" y="68"/>
                  </a:lnTo>
                  <a:lnTo>
                    <a:pt x="166" y="72"/>
                  </a:lnTo>
                  <a:lnTo>
                    <a:pt x="168" y="77"/>
                  </a:lnTo>
                  <a:lnTo>
                    <a:pt x="169" y="80"/>
                  </a:lnTo>
                  <a:lnTo>
                    <a:pt x="169" y="84"/>
                  </a:lnTo>
                  <a:lnTo>
                    <a:pt x="170" y="88"/>
                  </a:lnTo>
                  <a:lnTo>
                    <a:pt x="170" y="92"/>
                  </a:lnTo>
                  <a:lnTo>
                    <a:pt x="170" y="95"/>
                  </a:lnTo>
                  <a:lnTo>
                    <a:pt x="170" y="99"/>
                  </a:lnTo>
                  <a:lnTo>
                    <a:pt x="170" y="102"/>
                  </a:lnTo>
                  <a:lnTo>
                    <a:pt x="170" y="105"/>
                  </a:lnTo>
                  <a:lnTo>
                    <a:pt x="169" y="108"/>
                  </a:lnTo>
                  <a:lnTo>
                    <a:pt x="169" y="110"/>
                  </a:lnTo>
                  <a:lnTo>
                    <a:pt x="168" y="113"/>
                  </a:lnTo>
                  <a:lnTo>
                    <a:pt x="167" y="115"/>
                  </a:lnTo>
                  <a:lnTo>
                    <a:pt x="166" y="118"/>
                  </a:lnTo>
                  <a:lnTo>
                    <a:pt x="165" y="120"/>
                  </a:lnTo>
                  <a:lnTo>
                    <a:pt x="163" y="123"/>
                  </a:lnTo>
                  <a:lnTo>
                    <a:pt x="162" y="125"/>
                  </a:lnTo>
                  <a:lnTo>
                    <a:pt x="160" y="128"/>
                  </a:lnTo>
                  <a:lnTo>
                    <a:pt x="158" y="130"/>
                  </a:lnTo>
                  <a:lnTo>
                    <a:pt x="157" y="131"/>
                  </a:lnTo>
                  <a:lnTo>
                    <a:pt x="155" y="134"/>
                  </a:lnTo>
                  <a:lnTo>
                    <a:pt x="153" y="135"/>
                  </a:lnTo>
                  <a:lnTo>
                    <a:pt x="151" y="138"/>
                  </a:lnTo>
                  <a:lnTo>
                    <a:pt x="148" y="139"/>
                  </a:lnTo>
                  <a:lnTo>
                    <a:pt x="145" y="141"/>
                  </a:lnTo>
                  <a:lnTo>
                    <a:pt x="142" y="144"/>
                  </a:lnTo>
                  <a:lnTo>
                    <a:pt x="139" y="146"/>
                  </a:lnTo>
                  <a:lnTo>
                    <a:pt x="109" y="169"/>
                  </a:lnTo>
                  <a:lnTo>
                    <a:pt x="101" y="174"/>
                  </a:lnTo>
                  <a:lnTo>
                    <a:pt x="95" y="179"/>
                  </a:lnTo>
                  <a:lnTo>
                    <a:pt x="89" y="184"/>
                  </a:lnTo>
                  <a:lnTo>
                    <a:pt x="84" y="188"/>
                  </a:lnTo>
                  <a:lnTo>
                    <a:pt x="80" y="191"/>
                  </a:lnTo>
                  <a:lnTo>
                    <a:pt x="76" y="195"/>
                  </a:lnTo>
                  <a:lnTo>
                    <a:pt x="73" y="198"/>
                  </a:lnTo>
                  <a:lnTo>
                    <a:pt x="71" y="200"/>
                  </a:lnTo>
                  <a:lnTo>
                    <a:pt x="69" y="201"/>
                  </a:lnTo>
                  <a:lnTo>
                    <a:pt x="67" y="204"/>
                  </a:lnTo>
                  <a:lnTo>
                    <a:pt x="66" y="206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3"/>
                  </a:lnTo>
                  <a:lnTo>
                    <a:pt x="60" y="215"/>
                  </a:lnTo>
                  <a:lnTo>
                    <a:pt x="59" y="219"/>
                  </a:lnTo>
                  <a:lnTo>
                    <a:pt x="45" y="190"/>
                  </a:lnTo>
                  <a:lnTo>
                    <a:pt x="46" y="188"/>
                  </a:lnTo>
                  <a:lnTo>
                    <a:pt x="48" y="185"/>
                  </a:lnTo>
                  <a:lnTo>
                    <a:pt x="49" y="183"/>
                  </a:lnTo>
                  <a:lnTo>
                    <a:pt x="51" y="181"/>
                  </a:lnTo>
                  <a:lnTo>
                    <a:pt x="52" y="179"/>
                  </a:lnTo>
                  <a:lnTo>
                    <a:pt x="54" y="176"/>
                  </a:lnTo>
                  <a:lnTo>
                    <a:pt x="56" y="175"/>
                  </a:lnTo>
                  <a:lnTo>
                    <a:pt x="58" y="173"/>
                  </a:lnTo>
                  <a:close/>
                  <a:moveTo>
                    <a:pt x="106" y="133"/>
                  </a:moveTo>
                  <a:lnTo>
                    <a:pt x="103" y="130"/>
                  </a:lnTo>
                  <a:lnTo>
                    <a:pt x="99" y="126"/>
                  </a:lnTo>
                  <a:lnTo>
                    <a:pt x="96" y="123"/>
                  </a:lnTo>
                  <a:lnTo>
                    <a:pt x="92" y="118"/>
                  </a:lnTo>
                  <a:lnTo>
                    <a:pt x="88" y="113"/>
                  </a:lnTo>
                  <a:lnTo>
                    <a:pt x="84" y="108"/>
                  </a:lnTo>
                  <a:lnTo>
                    <a:pt x="80" y="102"/>
                  </a:lnTo>
                  <a:lnTo>
                    <a:pt x="76" y="95"/>
                  </a:lnTo>
                  <a:lnTo>
                    <a:pt x="73" y="92"/>
                  </a:lnTo>
                  <a:lnTo>
                    <a:pt x="71" y="88"/>
                  </a:lnTo>
                  <a:lnTo>
                    <a:pt x="69" y="85"/>
                  </a:lnTo>
                  <a:lnTo>
                    <a:pt x="67" y="83"/>
                  </a:lnTo>
                  <a:lnTo>
                    <a:pt x="65" y="80"/>
                  </a:lnTo>
                  <a:lnTo>
                    <a:pt x="63" y="78"/>
                  </a:lnTo>
                  <a:lnTo>
                    <a:pt x="62" y="77"/>
                  </a:lnTo>
                  <a:lnTo>
                    <a:pt x="60" y="75"/>
                  </a:lnTo>
                  <a:lnTo>
                    <a:pt x="59" y="74"/>
                  </a:lnTo>
                  <a:lnTo>
                    <a:pt x="57" y="73"/>
                  </a:lnTo>
                  <a:lnTo>
                    <a:pt x="56" y="72"/>
                  </a:lnTo>
                  <a:lnTo>
                    <a:pt x="54" y="70"/>
                  </a:lnTo>
                  <a:lnTo>
                    <a:pt x="52" y="70"/>
                  </a:lnTo>
                  <a:lnTo>
                    <a:pt x="51" y="70"/>
                  </a:lnTo>
                  <a:lnTo>
                    <a:pt x="49" y="69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0"/>
                  </a:lnTo>
                  <a:lnTo>
                    <a:pt x="39" y="70"/>
                  </a:lnTo>
                  <a:lnTo>
                    <a:pt x="37" y="72"/>
                  </a:lnTo>
                  <a:lnTo>
                    <a:pt x="36" y="73"/>
                  </a:lnTo>
                  <a:lnTo>
                    <a:pt x="35" y="74"/>
                  </a:lnTo>
                  <a:lnTo>
                    <a:pt x="32" y="75"/>
                  </a:lnTo>
                  <a:lnTo>
                    <a:pt x="31" y="77"/>
                  </a:lnTo>
                  <a:lnTo>
                    <a:pt x="29" y="79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5" y="87"/>
                  </a:lnTo>
                  <a:lnTo>
                    <a:pt x="25" y="90"/>
                  </a:lnTo>
                  <a:lnTo>
                    <a:pt x="24" y="93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4" y="103"/>
                  </a:lnTo>
                  <a:lnTo>
                    <a:pt x="25" y="107"/>
                  </a:lnTo>
                  <a:lnTo>
                    <a:pt x="25" y="110"/>
                  </a:lnTo>
                  <a:lnTo>
                    <a:pt x="27" y="114"/>
                  </a:lnTo>
                  <a:lnTo>
                    <a:pt x="28" y="118"/>
                  </a:lnTo>
                  <a:lnTo>
                    <a:pt x="30" y="121"/>
                  </a:lnTo>
                  <a:lnTo>
                    <a:pt x="32" y="125"/>
                  </a:lnTo>
                  <a:lnTo>
                    <a:pt x="34" y="129"/>
                  </a:lnTo>
                  <a:lnTo>
                    <a:pt x="36" y="131"/>
                  </a:lnTo>
                  <a:lnTo>
                    <a:pt x="39" y="135"/>
                  </a:lnTo>
                  <a:lnTo>
                    <a:pt x="42" y="138"/>
                  </a:lnTo>
                  <a:lnTo>
                    <a:pt x="45" y="140"/>
                  </a:lnTo>
                  <a:lnTo>
                    <a:pt x="47" y="143"/>
                  </a:lnTo>
                  <a:lnTo>
                    <a:pt x="50" y="145"/>
                  </a:lnTo>
                  <a:lnTo>
                    <a:pt x="53" y="146"/>
                  </a:lnTo>
                  <a:lnTo>
                    <a:pt x="56" y="149"/>
                  </a:lnTo>
                  <a:lnTo>
                    <a:pt x="59" y="150"/>
                  </a:lnTo>
                  <a:lnTo>
                    <a:pt x="62" y="150"/>
                  </a:lnTo>
                  <a:lnTo>
                    <a:pt x="65" y="151"/>
                  </a:lnTo>
                  <a:lnTo>
                    <a:pt x="68" y="151"/>
                  </a:lnTo>
                  <a:lnTo>
                    <a:pt x="71" y="151"/>
                  </a:lnTo>
                  <a:lnTo>
                    <a:pt x="74" y="151"/>
                  </a:lnTo>
                  <a:lnTo>
                    <a:pt x="76" y="151"/>
                  </a:lnTo>
                  <a:lnTo>
                    <a:pt x="79" y="150"/>
                  </a:lnTo>
                  <a:lnTo>
                    <a:pt x="82" y="149"/>
                  </a:lnTo>
                  <a:lnTo>
                    <a:pt x="85" y="148"/>
                  </a:lnTo>
                  <a:lnTo>
                    <a:pt x="88" y="146"/>
                  </a:lnTo>
                  <a:lnTo>
                    <a:pt x="91" y="144"/>
                  </a:lnTo>
                  <a:lnTo>
                    <a:pt x="94" y="141"/>
                  </a:lnTo>
                  <a:lnTo>
                    <a:pt x="98" y="139"/>
                  </a:lnTo>
                  <a:lnTo>
                    <a:pt x="106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88040" y="2444760"/>
              <a:ext cx="125280" cy="98280"/>
            </a:xfrm>
            <a:custGeom>
              <a:avLst/>
              <a:gdLst/>
              <a:ahLst/>
              <a:rect l="l" t="t" r="r" b="b"/>
              <a:pathLst>
                <a:path w="237" h="249">
                  <a:moveTo>
                    <a:pt x="0" y="219"/>
                  </a:moveTo>
                  <a:lnTo>
                    <a:pt x="137" y="0"/>
                  </a:lnTo>
                  <a:lnTo>
                    <a:pt x="153" y="31"/>
                  </a:lnTo>
                  <a:lnTo>
                    <a:pt x="51" y="186"/>
                  </a:lnTo>
                  <a:lnTo>
                    <a:pt x="48" y="191"/>
                  </a:lnTo>
                  <a:lnTo>
                    <a:pt x="45" y="196"/>
                  </a:lnTo>
                  <a:lnTo>
                    <a:pt x="42" y="200"/>
                  </a:lnTo>
                  <a:lnTo>
                    <a:pt x="39" y="205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29" y="216"/>
                  </a:lnTo>
                  <a:lnTo>
                    <a:pt x="26" y="219"/>
                  </a:lnTo>
                  <a:lnTo>
                    <a:pt x="31" y="218"/>
                  </a:lnTo>
                  <a:lnTo>
                    <a:pt x="36" y="217"/>
                  </a:lnTo>
                  <a:lnTo>
                    <a:pt x="40" y="216"/>
                  </a:lnTo>
                  <a:lnTo>
                    <a:pt x="45" y="214"/>
                  </a:lnTo>
                  <a:lnTo>
                    <a:pt x="49" y="213"/>
                  </a:lnTo>
                  <a:lnTo>
                    <a:pt x="54" y="212"/>
                  </a:lnTo>
                  <a:lnTo>
                    <a:pt x="58" y="211"/>
                  </a:lnTo>
                  <a:lnTo>
                    <a:pt x="62" y="210"/>
                  </a:lnTo>
                  <a:lnTo>
                    <a:pt x="222" y="172"/>
                  </a:lnTo>
                  <a:lnTo>
                    <a:pt x="237" y="202"/>
                  </a:lnTo>
                  <a:lnTo>
                    <a:pt x="14" y="24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6200" y="2536920"/>
              <a:ext cx="102960" cy="6516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35"/>
                  </a:moveTo>
                  <a:lnTo>
                    <a:pt x="180" y="0"/>
                  </a:lnTo>
                  <a:lnTo>
                    <a:pt x="194" y="30"/>
                  </a:lnTo>
                  <a:lnTo>
                    <a:pt x="14" y="16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62560" y="2562120"/>
              <a:ext cx="122400" cy="93600"/>
            </a:xfrm>
            <a:custGeom>
              <a:avLst/>
              <a:gdLst/>
              <a:ahLst/>
              <a:rect l="l" t="t" r="r" b="b"/>
              <a:pathLst>
                <a:path w="230" h="237">
                  <a:moveTo>
                    <a:pt x="0" y="207"/>
                  </a:moveTo>
                  <a:lnTo>
                    <a:pt x="158" y="88"/>
                  </a:lnTo>
                  <a:lnTo>
                    <a:pt x="123" y="16"/>
                  </a:lnTo>
                  <a:lnTo>
                    <a:pt x="144" y="0"/>
                  </a:lnTo>
                  <a:lnTo>
                    <a:pt x="230" y="175"/>
                  </a:lnTo>
                  <a:lnTo>
                    <a:pt x="209" y="191"/>
                  </a:lnTo>
                  <a:lnTo>
                    <a:pt x="173" y="117"/>
                  </a:lnTo>
                  <a:lnTo>
                    <a:pt x="14" y="23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1880" y="2637000"/>
              <a:ext cx="122040" cy="93600"/>
            </a:xfrm>
            <a:custGeom>
              <a:avLst/>
              <a:gdLst/>
              <a:ahLst/>
              <a:rect l="l" t="t" r="r" b="b"/>
              <a:pathLst>
                <a:path w="230" h="236">
                  <a:moveTo>
                    <a:pt x="0" y="207"/>
                  </a:moveTo>
                  <a:lnTo>
                    <a:pt x="158" y="89"/>
                  </a:lnTo>
                  <a:lnTo>
                    <a:pt x="123" y="15"/>
                  </a:lnTo>
                  <a:lnTo>
                    <a:pt x="144" y="0"/>
                  </a:lnTo>
                  <a:lnTo>
                    <a:pt x="230" y="175"/>
                  </a:lnTo>
                  <a:lnTo>
                    <a:pt x="209" y="191"/>
                  </a:lnTo>
                  <a:lnTo>
                    <a:pt x="174" y="118"/>
                  </a:lnTo>
                  <a:lnTo>
                    <a:pt x="14" y="236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38880" y="2720880"/>
              <a:ext cx="77760" cy="5076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05" y="19"/>
                  </a:moveTo>
                  <a:lnTo>
                    <a:pt x="131" y="0"/>
                  </a:lnTo>
                  <a:lnTo>
                    <a:pt x="146" y="30"/>
                  </a:lnTo>
                  <a:lnTo>
                    <a:pt x="121" y="49"/>
                  </a:lnTo>
                  <a:lnTo>
                    <a:pt x="105" y="19"/>
                  </a:lnTo>
                  <a:close/>
                  <a:moveTo>
                    <a:pt x="0" y="98"/>
                  </a:moveTo>
                  <a:lnTo>
                    <a:pt x="25" y="79"/>
                  </a:lnTo>
                  <a:lnTo>
                    <a:pt x="41" y="109"/>
                  </a:lnTo>
                  <a:lnTo>
                    <a:pt x="15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00800" y="2763720"/>
              <a:ext cx="125280" cy="10008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0" y="221"/>
                  </a:moveTo>
                  <a:lnTo>
                    <a:pt x="136" y="0"/>
                  </a:lnTo>
                  <a:lnTo>
                    <a:pt x="153" y="31"/>
                  </a:lnTo>
                  <a:lnTo>
                    <a:pt x="50" y="187"/>
                  </a:lnTo>
                  <a:lnTo>
                    <a:pt x="47" y="192"/>
                  </a:lnTo>
                  <a:lnTo>
                    <a:pt x="44" y="196"/>
                  </a:lnTo>
                  <a:lnTo>
                    <a:pt x="41" y="201"/>
                  </a:lnTo>
                  <a:lnTo>
                    <a:pt x="38" y="204"/>
                  </a:lnTo>
                  <a:lnTo>
                    <a:pt x="35" y="208"/>
                  </a:lnTo>
                  <a:lnTo>
                    <a:pt x="32" y="213"/>
                  </a:lnTo>
                  <a:lnTo>
                    <a:pt x="29" y="217"/>
                  </a:lnTo>
                  <a:lnTo>
                    <a:pt x="27" y="221"/>
                  </a:lnTo>
                  <a:lnTo>
                    <a:pt x="31" y="219"/>
                  </a:lnTo>
                  <a:lnTo>
                    <a:pt x="35" y="218"/>
                  </a:lnTo>
                  <a:lnTo>
                    <a:pt x="39" y="216"/>
                  </a:lnTo>
                  <a:lnTo>
                    <a:pt x="44" y="214"/>
                  </a:lnTo>
                  <a:lnTo>
                    <a:pt x="48" y="213"/>
                  </a:lnTo>
                  <a:lnTo>
                    <a:pt x="53" y="212"/>
                  </a:lnTo>
                  <a:lnTo>
                    <a:pt x="57" y="212"/>
                  </a:lnTo>
                  <a:lnTo>
                    <a:pt x="61" y="211"/>
                  </a:lnTo>
                  <a:lnTo>
                    <a:pt x="222" y="172"/>
                  </a:lnTo>
                  <a:lnTo>
                    <a:pt x="237" y="202"/>
                  </a:lnTo>
                  <a:lnTo>
                    <a:pt x="14" y="25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38960" y="2854440"/>
              <a:ext cx="136440" cy="118800"/>
            </a:xfrm>
            <a:custGeom>
              <a:avLst/>
              <a:gdLst/>
              <a:ahLst/>
              <a:rect l="l" t="t" r="r" b="b"/>
              <a:pathLst>
                <a:path w="258" h="300">
                  <a:moveTo>
                    <a:pt x="0" y="135"/>
                  </a:moveTo>
                  <a:lnTo>
                    <a:pt x="179" y="0"/>
                  </a:lnTo>
                  <a:lnTo>
                    <a:pt x="258" y="161"/>
                  </a:lnTo>
                  <a:lnTo>
                    <a:pt x="237" y="176"/>
                  </a:lnTo>
                  <a:lnTo>
                    <a:pt x="172" y="45"/>
                  </a:lnTo>
                  <a:lnTo>
                    <a:pt x="117" y="86"/>
                  </a:lnTo>
                  <a:lnTo>
                    <a:pt x="178" y="210"/>
                  </a:lnTo>
                  <a:lnTo>
                    <a:pt x="157" y="225"/>
                  </a:lnTo>
                  <a:lnTo>
                    <a:pt x="96" y="102"/>
                  </a:lnTo>
                  <a:lnTo>
                    <a:pt x="35" y="149"/>
                  </a:lnTo>
                  <a:lnTo>
                    <a:pt x="102" y="285"/>
                  </a:lnTo>
                  <a:lnTo>
                    <a:pt x="81" y="30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92600" y="2935440"/>
              <a:ext cx="141480" cy="123840"/>
            </a:xfrm>
            <a:custGeom>
              <a:avLst/>
              <a:gdLst/>
              <a:ahLst/>
              <a:rect l="l" t="t" r="r" b="b"/>
              <a:pathLst>
                <a:path w="266" h="309">
                  <a:moveTo>
                    <a:pt x="0" y="134"/>
                  </a:moveTo>
                  <a:lnTo>
                    <a:pt x="179" y="0"/>
                  </a:lnTo>
                  <a:lnTo>
                    <a:pt x="195" y="30"/>
                  </a:lnTo>
                  <a:lnTo>
                    <a:pt x="111" y="252"/>
                  </a:lnTo>
                  <a:lnTo>
                    <a:pt x="251" y="147"/>
                  </a:lnTo>
                  <a:lnTo>
                    <a:pt x="266" y="174"/>
                  </a:lnTo>
                  <a:lnTo>
                    <a:pt x="85" y="309"/>
                  </a:lnTo>
                  <a:lnTo>
                    <a:pt x="71" y="279"/>
                  </a:lnTo>
                  <a:lnTo>
                    <a:pt x="155" y="57"/>
                  </a:lnTo>
                  <a:lnTo>
                    <a:pt x="13" y="163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5651640" y="3024360"/>
            <a:ext cx="136440" cy="118800"/>
          </a:xfrm>
          <a:custGeom>
            <a:avLst/>
            <a:gdLst/>
            <a:ahLst/>
            <a:rect l="l" t="t" r="r" b="b"/>
            <a:pathLst>
              <a:path w="258" h="301">
                <a:moveTo>
                  <a:pt x="0" y="135"/>
                </a:moveTo>
                <a:lnTo>
                  <a:pt x="179" y="0"/>
                </a:lnTo>
                <a:lnTo>
                  <a:pt x="258" y="161"/>
                </a:lnTo>
                <a:lnTo>
                  <a:pt x="237" y="176"/>
                </a:lnTo>
                <a:lnTo>
                  <a:pt x="172" y="46"/>
                </a:lnTo>
                <a:lnTo>
                  <a:pt x="117" y="87"/>
                </a:lnTo>
                <a:lnTo>
                  <a:pt x="178" y="210"/>
                </a:lnTo>
                <a:lnTo>
                  <a:pt x="157" y="225"/>
                </a:lnTo>
                <a:lnTo>
                  <a:pt x="96" y="102"/>
                </a:lnTo>
                <a:lnTo>
                  <a:pt x="35" y="149"/>
                </a:lnTo>
                <a:lnTo>
                  <a:pt x="102" y="285"/>
                </a:lnTo>
                <a:lnTo>
                  <a:pt x="81" y="301"/>
                </a:lnTo>
                <a:lnTo>
                  <a:pt x="0" y="1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9680" y="3098880"/>
            <a:ext cx="123840" cy="93600"/>
          </a:xfrm>
          <a:custGeom>
            <a:avLst/>
            <a:gdLst/>
            <a:ahLst/>
            <a:rect l="l" t="t" r="r" b="b"/>
            <a:pathLst>
              <a:path w="232" h="237">
                <a:moveTo>
                  <a:pt x="0" y="208"/>
                </a:moveTo>
                <a:lnTo>
                  <a:pt x="160" y="89"/>
                </a:lnTo>
                <a:lnTo>
                  <a:pt x="123" y="16"/>
                </a:lnTo>
                <a:lnTo>
                  <a:pt x="144" y="0"/>
                </a:lnTo>
                <a:lnTo>
                  <a:pt x="232" y="175"/>
                </a:lnTo>
                <a:lnTo>
                  <a:pt x="210" y="192"/>
                </a:lnTo>
                <a:lnTo>
                  <a:pt x="174" y="118"/>
                </a:lnTo>
                <a:lnTo>
                  <a:pt x="16" y="237"/>
                </a:lnTo>
                <a:lnTo>
                  <a:pt x="0" y="20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70440" y="3192480"/>
            <a:ext cx="114480" cy="103320"/>
          </a:xfrm>
          <a:custGeom>
            <a:avLst/>
            <a:gdLst/>
            <a:ahLst/>
            <a:rect l="l" t="t" r="r" b="b"/>
            <a:pathLst>
              <a:path w="217" h="260">
                <a:moveTo>
                  <a:pt x="53" y="25"/>
                </a:moveTo>
                <a:lnTo>
                  <a:pt x="65" y="18"/>
                </a:lnTo>
                <a:lnTo>
                  <a:pt x="76" y="11"/>
                </a:lnTo>
                <a:lnTo>
                  <a:pt x="86" y="6"/>
                </a:lnTo>
                <a:lnTo>
                  <a:pt x="97" y="3"/>
                </a:lnTo>
                <a:lnTo>
                  <a:pt x="107" y="1"/>
                </a:lnTo>
                <a:lnTo>
                  <a:pt x="118" y="0"/>
                </a:lnTo>
                <a:lnTo>
                  <a:pt x="128" y="0"/>
                </a:lnTo>
                <a:lnTo>
                  <a:pt x="139" y="3"/>
                </a:lnTo>
                <a:lnTo>
                  <a:pt x="148" y="6"/>
                </a:lnTo>
                <a:lnTo>
                  <a:pt x="157" y="10"/>
                </a:lnTo>
                <a:lnTo>
                  <a:pt x="166" y="16"/>
                </a:lnTo>
                <a:lnTo>
                  <a:pt x="174" y="23"/>
                </a:lnTo>
                <a:lnTo>
                  <a:pt x="181" y="30"/>
                </a:lnTo>
                <a:lnTo>
                  <a:pt x="188" y="39"/>
                </a:lnTo>
                <a:lnTo>
                  <a:pt x="195" y="49"/>
                </a:lnTo>
                <a:lnTo>
                  <a:pt x="201" y="60"/>
                </a:lnTo>
                <a:lnTo>
                  <a:pt x="204" y="67"/>
                </a:lnTo>
                <a:lnTo>
                  <a:pt x="207" y="76"/>
                </a:lnTo>
                <a:lnTo>
                  <a:pt x="211" y="84"/>
                </a:lnTo>
                <a:lnTo>
                  <a:pt x="213" y="91"/>
                </a:lnTo>
                <a:lnTo>
                  <a:pt x="215" y="100"/>
                </a:lnTo>
                <a:lnTo>
                  <a:pt x="216" y="107"/>
                </a:lnTo>
                <a:lnTo>
                  <a:pt x="217" y="116"/>
                </a:lnTo>
                <a:lnTo>
                  <a:pt x="217" y="125"/>
                </a:lnTo>
                <a:lnTo>
                  <a:pt x="217" y="132"/>
                </a:lnTo>
                <a:lnTo>
                  <a:pt x="216" y="141"/>
                </a:lnTo>
                <a:lnTo>
                  <a:pt x="215" y="149"/>
                </a:lnTo>
                <a:lnTo>
                  <a:pt x="213" y="156"/>
                </a:lnTo>
                <a:lnTo>
                  <a:pt x="211" y="165"/>
                </a:lnTo>
                <a:lnTo>
                  <a:pt x="209" y="172"/>
                </a:lnTo>
                <a:lnTo>
                  <a:pt x="205" y="180"/>
                </a:lnTo>
                <a:lnTo>
                  <a:pt x="202" y="187"/>
                </a:lnTo>
                <a:lnTo>
                  <a:pt x="198" y="194"/>
                </a:lnTo>
                <a:lnTo>
                  <a:pt x="193" y="201"/>
                </a:lnTo>
                <a:lnTo>
                  <a:pt x="189" y="207"/>
                </a:lnTo>
                <a:lnTo>
                  <a:pt x="184" y="213"/>
                </a:lnTo>
                <a:lnTo>
                  <a:pt x="178" y="220"/>
                </a:lnTo>
                <a:lnTo>
                  <a:pt x="173" y="225"/>
                </a:lnTo>
                <a:lnTo>
                  <a:pt x="167" y="231"/>
                </a:lnTo>
                <a:lnTo>
                  <a:pt x="160" y="236"/>
                </a:lnTo>
                <a:lnTo>
                  <a:pt x="153" y="241"/>
                </a:lnTo>
                <a:lnTo>
                  <a:pt x="147" y="245"/>
                </a:lnTo>
                <a:lnTo>
                  <a:pt x="140" y="248"/>
                </a:lnTo>
                <a:lnTo>
                  <a:pt x="132" y="252"/>
                </a:lnTo>
                <a:lnTo>
                  <a:pt x="125" y="255"/>
                </a:lnTo>
                <a:lnTo>
                  <a:pt x="118" y="256"/>
                </a:lnTo>
                <a:lnTo>
                  <a:pt x="111" y="258"/>
                </a:lnTo>
                <a:lnTo>
                  <a:pt x="104" y="258"/>
                </a:lnTo>
                <a:lnTo>
                  <a:pt x="97" y="260"/>
                </a:lnTo>
                <a:lnTo>
                  <a:pt x="91" y="258"/>
                </a:lnTo>
                <a:lnTo>
                  <a:pt x="84" y="258"/>
                </a:lnTo>
                <a:lnTo>
                  <a:pt x="78" y="256"/>
                </a:lnTo>
                <a:lnTo>
                  <a:pt x="71" y="255"/>
                </a:lnTo>
                <a:lnTo>
                  <a:pt x="65" y="252"/>
                </a:lnTo>
                <a:lnTo>
                  <a:pt x="58" y="248"/>
                </a:lnTo>
                <a:lnTo>
                  <a:pt x="52" y="245"/>
                </a:lnTo>
                <a:lnTo>
                  <a:pt x="47" y="241"/>
                </a:lnTo>
                <a:lnTo>
                  <a:pt x="41" y="236"/>
                </a:lnTo>
                <a:lnTo>
                  <a:pt x="36" y="231"/>
                </a:lnTo>
                <a:lnTo>
                  <a:pt x="31" y="225"/>
                </a:lnTo>
                <a:lnTo>
                  <a:pt x="27" y="220"/>
                </a:lnTo>
                <a:lnTo>
                  <a:pt x="23" y="213"/>
                </a:lnTo>
                <a:lnTo>
                  <a:pt x="19" y="206"/>
                </a:lnTo>
                <a:lnTo>
                  <a:pt x="15" y="200"/>
                </a:lnTo>
                <a:lnTo>
                  <a:pt x="12" y="191"/>
                </a:lnTo>
                <a:lnTo>
                  <a:pt x="8" y="184"/>
                </a:lnTo>
                <a:lnTo>
                  <a:pt x="6" y="176"/>
                </a:lnTo>
                <a:lnTo>
                  <a:pt x="4" y="167"/>
                </a:lnTo>
                <a:lnTo>
                  <a:pt x="2" y="159"/>
                </a:lnTo>
                <a:lnTo>
                  <a:pt x="1" y="151"/>
                </a:lnTo>
                <a:lnTo>
                  <a:pt x="0" y="142"/>
                </a:lnTo>
                <a:lnTo>
                  <a:pt x="0" y="134"/>
                </a:lnTo>
                <a:lnTo>
                  <a:pt x="0" y="126"/>
                </a:lnTo>
                <a:lnTo>
                  <a:pt x="1" y="117"/>
                </a:lnTo>
                <a:lnTo>
                  <a:pt x="2" y="110"/>
                </a:lnTo>
                <a:lnTo>
                  <a:pt x="4" y="101"/>
                </a:lnTo>
                <a:lnTo>
                  <a:pt x="6" y="94"/>
                </a:lnTo>
                <a:lnTo>
                  <a:pt x="8" y="86"/>
                </a:lnTo>
                <a:lnTo>
                  <a:pt x="11" y="79"/>
                </a:lnTo>
                <a:lnTo>
                  <a:pt x="15" y="71"/>
                </a:lnTo>
                <a:lnTo>
                  <a:pt x="19" y="65"/>
                </a:lnTo>
                <a:lnTo>
                  <a:pt x="23" y="59"/>
                </a:lnTo>
                <a:lnTo>
                  <a:pt x="27" y="53"/>
                </a:lnTo>
                <a:lnTo>
                  <a:pt x="32" y="46"/>
                </a:lnTo>
                <a:lnTo>
                  <a:pt x="37" y="40"/>
                </a:lnTo>
                <a:lnTo>
                  <a:pt x="42" y="35"/>
                </a:lnTo>
                <a:lnTo>
                  <a:pt x="47" y="30"/>
                </a:lnTo>
                <a:lnTo>
                  <a:pt x="53" y="25"/>
                </a:lnTo>
                <a:close/>
                <a:moveTo>
                  <a:pt x="68" y="56"/>
                </a:moveTo>
                <a:lnTo>
                  <a:pt x="60" y="63"/>
                </a:lnTo>
                <a:lnTo>
                  <a:pt x="53" y="69"/>
                </a:lnTo>
                <a:lnTo>
                  <a:pt x="47" y="76"/>
                </a:lnTo>
                <a:lnTo>
                  <a:pt x="41" y="84"/>
                </a:lnTo>
                <a:lnTo>
                  <a:pt x="37" y="91"/>
                </a:lnTo>
                <a:lnTo>
                  <a:pt x="33" y="99"/>
                </a:lnTo>
                <a:lnTo>
                  <a:pt x="30" y="107"/>
                </a:lnTo>
                <a:lnTo>
                  <a:pt x="27" y="116"/>
                </a:lnTo>
                <a:lnTo>
                  <a:pt x="26" y="125"/>
                </a:lnTo>
                <a:lnTo>
                  <a:pt x="25" y="134"/>
                </a:lnTo>
                <a:lnTo>
                  <a:pt x="25" y="142"/>
                </a:lnTo>
                <a:lnTo>
                  <a:pt x="25" y="151"/>
                </a:lnTo>
                <a:lnTo>
                  <a:pt x="27" y="159"/>
                </a:lnTo>
                <a:lnTo>
                  <a:pt x="29" y="167"/>
                </a:lnTo>
                <a:lnTo>
                  <a:pt x="32" y="176"/>
                </a:lnTo>
                <a:lnTo>
                  <a:pt x="35" y="184"/>
                </a:lnTo>
                <a:lnTo>
                  <a:pt x="39" y="192"/>
                </a:lnTo>
                <a:lnTo>
                  <a:pt x="44" y="199"/>
                </a:lnTo>
                <a:lnTo>
                  <a:pt x="49" y="205"/>
                </a:lnTo>
                <a:lnTo>
                  <a:pt x="54" y="211"/>
                </a:lnTo>
                <a:lnTo>
                  <a:pt x="60" y="215"/>
                </a:lnTo>
                <a:lnTo>
                  <a:pt x="68" y="218"/>
                </a:lnTo>
                <a:lnTo>
                  <a:pt x="74" y="222"/>
                </a:lnTo>
                <a:lnTo>
                  <a:pt x="81" y="225"/>
                </a:lnTo>
                <a:lnTo>
                  <a:pt x="89" y="226"/>
                </a:lnTo>
                <a:lnTo>
                  <a:pt x="96" y="226"/>
                </a:lnTo>
                <a:lnTo>
                  <a:pt x="104" y="225"/>
                </a:lnTo>
                <a:lnTo>
                  <a:pt x="112" y="223"/>
                </a:lnTo>
                <a:lnTo>
                  <a:pt x="120" y="220"/>
                </a:lnTo>
                <a:lnTo>
                  <a:pt x="128" y="216"/>
                </a:lnTo>
                <a:lnTo>
                  <a:pt x="137" y="211"/>
                </a:lnTo>
                <a:lnTo>
                  <a:pt x="146" y="206"/>
                </a:lnTo>
                <a:lnTo>
                  <a:pt x="151" y="201"/>
                </a:lnTo>
                <a:lnTo>
                  <a:pt x="156" y="197"/>
                </a:lnTo>
                <a:lnTo>
                  <a:pt x="160" y="192"/>
                </a:lnTo>
                <a:lnTo>
                  <a:pt x="165" y="187"/>
                </a:lnTo>
                <a:lnTo>
                  <a:pt x="169" y="184"/>
                </a:lnTo>
                <a:lnTo>
                  <a:pt x="172" y="179"/>
                </a:lnTo>
                <a:lnTo>
                  <a:pt x="176" y="172"/>
                </a:lnTo>
                <a:lnTo>
                  <a:pt x="179" y="167"/>
                </a:lnTo>
                <a:lnTo>
                  <a:pt x="182" y="162"/>
                </a:lnTo>
                <a:lnTo>
                  <a:pt x="184" y="157"/>
                </a:lnTo>
                <a:lnTo>
                  <a:pt x="186" y="151"/>
                </a:lnTo>
                <a:lnTo>
                  <a:pt x="188" y="145"/>
                </a:lnTo>
                <a:lnTo>
                  <a:pt x="189" y="140"/>
                </a:lnTo>
                <a:lnTo>
                  <a:pt x="190" y="134"/>
                </a:lnTo>
                <a:lnTo>
                  <a:pt x="191" y="127"/>
                </a:lnTo>
                <a:lnTo>
                  <a:pt x="191" y="122"/>
                </a:lnTo>
                <a:lnTo>
                  <a:pt x="191" y="116"/>
                </a:lnTo>
                <a:lnTo>
                  <a:pt x="190" y="110"/>
                </a:lnTo>
                <a:lnTo>
                  <a:pt x="190" y="104"/>
                </a:lnTo>
                <a:lnTo>
                  <a:pt x="189" y="99"/>
                </a:lnTo>
                <a:lnTo>
                  <a:pt x="187" y="92"/>
                </a:lnTo>
                <a:lnTo>
                  <a:pt x="185" y="86"/>
                </a:lnTo>
                <a:lnTo>
                  <a:pt x="183" y="81"/>
                </a:lnTo>
                <a:lnTo>
                  <a:pt x="181" y="76"/>
                </a:lnTo>
                <a:lnTo>
                  <a:pt x="177" y="69"/>
                </a:lnTo>
                <a:lnTo>
                  <a:pt x="172" y="61"/>
                </a:lnTo>
                <a:lnTo>
                  <a:pt x="167" y="55"/>
                </a:lnTo>
                <a:lnTo>
                  <a:pt x="162" y="50"/>
                </a:lnTo>
                <a:lnTo>
                  <a:pt x="157" y="45"/>
                </a:lnTo>
                <a:lnTo>
                  <a:pt x="151" y="41"/>
                </a:lnTo>
                <a:lnTo>
                  <a:pt x="144" y="38"/>
                </a:lnTo>
                <a:lnTo>
                  <a:pt x="137" y="35"/>
                </a:lnTo>
                <a:lnTo>
                  <a:pt x="129" y="34"/>
                </a:lnTo>
                <a:lnTo>
                  <a:pt x="122" y="33"/>
                </a:lnTo>
                <a:lnTo>
                  <a:pt x="114" y="34"/>
                </a:lnTo>
                <a:lnTo>
                  <a:pt x="105" y="35"/>
                </a:lnTo>
                <a:lnTo>
                  <a:pt x="97" y="39"/>
                </a:lnTo>
                <a:lnTo>
                  <a:pt x="88" y="44"/>
                </a:lnTo>
                <a:lnTo>
                  <a:pt x="78" y="49"/>
                </a:lnTo>
                <a:lnTo>
                  <a:pt x="68" y="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51600" y="4589640"/>
            <a:ext cx="111240" cy="142560"/>
          </a:xfrm>
          <a:custGeom>
            <a:avLst/>
            <a:gdLst/>
            <a:ahLst/>
            <a:rect l="l" t="t" r="r" b="b"/>
            <a:pathLst>
              <a:path w="212" h="361">
                <a:moveTo>
                  <a:pt x="212" y="201"/>
                </a:moveTo>
                <a:lnTo>
                  <a:pt x="3" y="361"/>
                </a:lnTo>
                <a:lnTo>
                  <a:pt x="3" y="305"/>
                </a:lnTo>
                <a:lnTo>
                  <a:pt x="155" y="196"/>
                </a:lnTo>
                <a:lnTo>
                  <a:pt x="159" y="193"/>
                </a:lnTo>
                <a:lnTo>
                  <a:pt x="163" y="190"/>
                </a:lnTo>
                <a:lnTo>
                  <a:pt x="168" y="187"/>
                </a:lnTo>
                <a:lnTo>
                  <a:pt x="172" y="185"/>
                </a:lnTo>
                <a:lnTo>
                  <a:pt x="176" y="182"/>
                </a:lnTo>
                <a:lnTo>
                  <a:pt x="180" y="180"/>
                </a:lnTo>
                <a:lnTo>
                  <a:pt x="185" y="177"/>
                </a:lnTo>
                <a:lnTo>
                  <a:pt x="189" y="175"/>
                </a:lnTo>
                <a:lnTo>
                  <a:pt x="185" y="172"/>
                </a:lnTo>
                <a:lnTo>
                  <a:pt x="180" y="170"/>
                </a:lnTo>
                <a:lnTo>
                  <a:pt x="176" y="167"/>
                </a:lnTo>
                <a:lnTo>
                  <a:pt x="171" y="165"/>
                </a:lnTo>
                <a:lnTo>
                  <a:pt x="167" y="162"/>
                </a:lnTo>
                <a:lnTo>
                  <a:pt x="163" y="160"/>
                </a:lnTo>
                <a:lnTo>
                  <a:pt x="158" y="157"/>
                </a:lnTo>
                <a:lnTo>
                  <a:pt x="154" y="155"/>
                </a:lnTo>
                <a:lnTo>
                  <a:pt x="0" y="52"/>
                </a:lnTo>
                <a:lnTo>
                  <a:pt x="0" y="0"/>
                </a:lnTo>
                <a:lnTo>
                  <a:pt x="212" y="147"/>
                </a:lnTo>
                <a:lnTo>
                  <a:pt x="212" y="20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49800" y="4554360"/>
            <a:ext cx="113040" cy="223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30" y="54"/>
                </a:moveTo>
                <a:lnTo>
                  <a:pt x="1" y="55"/>
                </a:lnTo>
                <a:lnTo>
                  <a:pt x="0" y="6"/>
                </a:lnTo>
                <a:lnTo>
                  <a:pt x="29" y="5"/>
                </a:lnTo>
                <a:lnTo>
                  <a:pt x="30" y="54"/>
                </a:lnTo>
                <a:close/>
                <a:moveTo>
                  <a:pt x="211" y="47"/>
                </a:moveTo>
                <a:lnTo>
                  <a:pt x="59" y="52"/>
                </a:lnTo>
                <a:lnTo>
                  <a:pt x="58" y="5"/>
                </a:lnTo>
                <a:lnTo>
                  <a:pt x="211" y="0"/>
                </a:lnTo>
                <a:lnTo>
                  <a:pt x="211" y="4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78600" y="4427640"/>
            <a:ext cx="84240" cy="104760"/>
          </a:xfrm>
          <a:custGeom>
            <a:avLst/>
            <a:gdLst/>
            <a:ahLst/>
            <a:rect l="l" t="t" r="r" b="b"/>
            <a:pathLst>
              <a:path w="160" h="265">
                <a:moveTo>
                  <a:pt x="137" y="61"/>
                </a:moveTo>
                <a:lnTo>
                  <a:pt x="140" y="68"/>
                </a:lnTo>
                <a:lnTo>
                  <a:pt x="142" y="74"/>
                </a:lnTo>
                <a:lnTo>
                  <a:pt x="145" y="80"/>
                </a:lnTo>
                <a:lnTo>
                  <a:pt x="147" y="88"/>
                </a:lnTo>
                <a:lnTo>
                  <a:pt x="149" y="94"/>
                </a:lnTo>
                <a:lnTo>
                  <a:pt x="151" y="100"/>
                </a:lnTo>
                <a:lnTo>
                  <a:pt x="153" y="106"/>
                </a:lnTo>
                <a:lnTo>
                  <a:pt x="154" y="113"/>
                </a:lnTo>
                <a:lnTo>
                  <a:pt x="156" y="119"/>
                </a:lnTo>
                <a:lnTo>
                  <a:pt x="157" y="125"/>
                </a:lnTo>
                <a:lnTo>
                  <a:pt x="157" y="131"/>
                </a:lnTo>
                <a:lnTo>
                  <a:pt x="158" y="138"/>
                </a:lnTo>
                <a:lnTo>
                  <a:pt x="159" y="145"/>
                </a:lnTo>
                <a:lnTo>
                  <a:pt x="159" y="151"/>
                </a:lnTo>
                <a:lnTo>
                  <a:pt x="160" y="159"/>
                </a:lnTo>
                <a:lnTo>
                  <a:pt x="160" y="165"/>
                </a:lnTo>
                <a:lnTo>
                  <a:pt x="160" y="177"/>
                </a:lnTo>
                <a:lnTo>
                  <a:pt x="159" y="187"/>
                </a:lnTo>
                <a:lnTo>
                  <a:pt x="158" y="197"/>
                </a:lnTo>
                <a:lnTo>
                  <a:pt x="157" y="207"/>
                </a:lnTo>
                <a:lnTo>
                  <a:pt x="155" y="216"/>
                </a:lnTo>
                <a:lnTo>
                  <a:pt x="153" y="224"/>
                </a:lnTo>
                <a:lnTo>
                  <a:pt x="151" y="231"/>
                </a:lnTo>
                <a:lnTo>
                  <a:pt x="148" y="239"/>
                </a:lnTo>
                <a:lnTo>
                  <a:pt x="145" y="245"/>
                </a:lnTo>
                <a:lnTo>
                  <a:pt x="142" y="250"/>
                </a:lnTo>
                <a:lnTo>
                  <a:pt x="138" y="254"/>
                </a:lnTo>
                <a:lnTo>
                  <a:pt x="135" y="257"/>
                </a:lnTo>
                <a:lnTo>
                  <a:pt x="130" y="261"/>
                </a:lnTo>
                <a:lnTo>
                  <a:pt x="126" y="262"/>
                </a:lnTo>
                <a:lnTo>
                  <a:pt x="121" y="264"/>
                </a:lnTo>
                <a:lnTo>
                  <a:pt x="117" y="265"/>
                </a:lnTo>
                <a:lnTo>
                  <a:pt x="114" y="265"/>
                </a:lnTo>
                <a:lnTo>
                  <a:pt x="111" y="264"/>
                </a:lnTo>
                <a:lnTo>
                  <a:pt x="109" y="264"/>
                </a:lnTo>
                <a:lnTo>
                  <a:pt x="106" y="262"/>
                </a:lnTo>
                <a:lnTo>
                  <a:pt x="103" y="261"/>
                </a:lnTo>
                <a:lnTo>
                  <a:pt x="101" y="260"/>
                </a:lnTo>
                <a:lnTo>
                  <a:pt x="99" y="257"/>
                </a:lnTo>
                <a:lnTo>
                  <a:pt x="96" y="256"/>
                </a:lnTo>
                <a:lnTo>
                  <a:pt x="94" y="254"/>
                </a:lnTo>
                <a:lnTo>
                  <a:pt x="92" y="251"/>
                </a:lnTo>
                <a:lnTo>
                  <a:pt x="90" y="247"/>
                </a:lnTo>
                <a:lnTo>
                  <a:pt x="88" y="245"/>
                </a:lnTo>
                <a:lnTo>
                  <a:pt x="86" y="242"/>
                </a:lnTo>
                <a:lnTo>
                  <a:pt x="84" y="239"/>
                </a:lnTo>
                <a:lnTo>
                  <a:pt x="83" y="235"/>
                </a:lnTo>
                <a:lnTo>
                  <a:pt x="81" y="231"/>
                </a:lnTo>
                <a:lnTo>
                  <a:pt x="80" y="227"/>
                </a:lnTo>
                <a:lnTo>
                  <a:pt x="79" y="224"/>
                </a:lnTo>
                <a:lnTo>
                  <a:pt x="78" y="219"/>
                </a:lnTo>
                <a:lnTo>
                  <a:pt x="76" y="215"/>
                </a:lnTo>
                <a:lnTo>
                  <a:pt x="75" y="210"/>
                </a:lnTo>
                <a:lnTo>
                  <a:pt x="74" y="206"/>
                </a:lnTo>
                <a:lnTo>
                  <a:pt x="74" y="201"/>
                </a:lnTo>
                <a:lnTo>
                  <a:pt x="73" y="196"/>
                </a:lnTo>
                <a:lnTo>
                  <a:pt x="72" y="192"/>
                </a:lnTo>
                <a:lnTo>
                  <a:pt x="72" y="189"/>
                </a:lnTo>
                <a:lnTo>
                  <a:pt x="71" y="184"/>
                </a:lnTo>
                <a:lnTo>
                  <a:pt x="71" y="179"/>
                </a:lnTo>
                <a:lnTo>
                  <a:pt x="70" y="174"/>
                </a:lnTo>
                <a:lnTo>
                  <a:pt x="70" y="167"/>
                </a:lnTo>
                <a:lnTo>
                  <a:pt x="69" y="161"/>
                </a:lnTo>
                <a:lnTo>
                  <a:pt x="69" y="154"/>
                </a:lnTo>
                <a:lnTo>
                  <a:pt x="67" y="140"/>
                </a:lnTo>
                <a:lnTo>
                  <a:pt x="66" y="126"/>
                </a:lnTo>
                <a:lnTo>
                  <a:pt x="65" y="114"/>
                </a:lnTo>
                <a:lnTo>
                  <a:pt x="64" y="103"/>
                </a:lnTo>
                <a:lnTo>
                  <a:pt x="63" y="93"/>
                </a:lnTo>
                <a:lnTo>
                  <a:pt x="62" y="84"/>
                </a:lnTo>
                <a:lnTo>
                  <a:pt x="59" y="75"/>
                </a:lnTo>
                <a:lnTo>
                  <a:pt x="58" y="68"/>
                </a:lnTo>
                <a:lnTo>
                  <a:pt x="57" y="68"/>
                </a:lnTo>
                <a:lnTo>
                  <a:pt x="56" y="68"/>
                </a:lnTo>
                <a:lnTo>
                  <a:pt x="55" y="68"/>
                </a:lnTo>
                <a:lnTo>
                  <a:pt x="54" y="68"/>
                </a:lnTo>
                <a:lnTo>
                  <a:pt x="53" y="68"/>
                </a:lnTo>
                <a:lnTo>
                  <a:pt x="52" y="68"/>
                </a:lnTo>
                <a:lnTo>
                  <a:pt x="52" y="68"/>
                </a:lnTo>
                <a:lnTo>
                  <a:pt x="51" y="68"/>
                </a:lnTo>
                <a:lnTo>
                  <a:pt x="48" y="68"/>
                </a:lnTo>
                <a:lnTo>
                  <a:pt x="44" y="69"/>
                </a:lnTo>
                <a:lnTo>
                  <a:pt x="41" y="70"/>
                </a:lnTo>
                <a:lnTo>
                  <a:pt x="38" y="71"/>
                </a:lnTo>
                <a:lnTo>
                  <a:pt x="35" y="74"/>
                </a:lnTo>
                <a:lnTo>
                  <a:pt x="33" y="76"/>
                </a:lnTo>
                <a:lnTo>
                  <a:pt x="31" y="79"/>
                </a:lnTo>
                <a:lnTo>
                  <a:pt x="29" y="83"/>
                </a:lnTo>
                <a:lnTo>
                  <a:pt x="27" y="88"/>
                </a:lnTo>
                <a:lnTo>
                  <a:pt x="26" y="93"/>
                </a:lnTo>
                <a:lnTo>
                  <a:pt x="24" y="99"/>
                </a:lnTo>
                <a:lnTo>
                  <a:pt x="23" y="105"/>
                </a:lnTo>
                <a:lnTo>
                  <a:pt x="22" y="113"/>
                </a:lnTo>
                <a:lnTo>
                  <a:pt x="22" y="120"/>
                </a:lnTo>
                <a:lnTo>
                  <a:pt x="21" y="129"/>
                </a:lnTo>
                <a:lnTo>
                  <a:pt x="21" y="138"/>
                </a:lnTo>
                <a:lnTo>
                  <a:pt x="22" y="146"/>
                </a:lnTo>
                <a:lnTo>
                  <a:pt x="22" y="154"/>
                </a:lnTo>
                <a:lnTo>
                  <a:pt x="22" y="160"/>
                </a:lnTo>
                <a:lnTo>
                  <a:pt x="23" y="167"/>
                </a:lnTo>
                <a:lnTo>
                  <a:pt x="24" y="174"/>
                </a:lnTo>
                <a:lnTo>
                  <a:pt x="25" y="179"/>
                </a:lnTo>
                <a:lnTo>
                  <a:pt x="27" y="184"/>
                </a:lnTo>
                <a:lnTo>
                  <a:pt x="28" y="187"/>
                </a:lnTo>
                <a:lnTo>
                  <a:pt x="30" y="191"/>
                </a:lnTo>
                <a:lnTo>
                  <a:pt x="32" y="195"/>
                </a:lnTo>
                <a:lnTo>
                  <a:pt x="34" y="199"/>
                </a:lnTo>
                <a:lnTo>
                  <a:pt x="37" y="201"/>
                </a:lnTo>
                <a:lnTo>
                  <a:pt x="40" y="205"/>
                </a:lnTo>
                <a:lnTo>
                  <a:pt x="43" y="207"/>
                </a:lnTo>
                <a:lnTo>
                  <a:pt x="47" y="209"/>
                </a:lnTo>
                <a:lnTo>
                  <a:pt x="51" y="211"/>
                </a:lnTo>
                <a:lnTo>
                  <a:pt x="48" y="259"/>
                </a:lnTo>
                <a:lnTo>
                  <a:pt x="44" y="257"/>
                </a:lnTo>
                <a:lnTo>
                  <a:pt x="40" y="255"/>
                </a:lnTo>
                <a:lnTo>
                  <a:pt x="36" y="252"/>
                </a:lnTo>
                <a:lnTo>
                  <a:pt x="33" y="250"/>
                </a:lnTo>
                <a:lnTo>
                  <a:pt x="30" y="247"/>
                </a:lnTo>
                <a:lnTo>
                  <a:pt x="27" y="245"/>
                </a:lnTo>
                <a:lnTo>
                  <a:pt x="24" y="241"/>
                </a:lnTo>
                <a:lnTo>
                  <a:pt x="22" y="239"/>
                </a:lnTo>
                <a:lnTo>
                  <a:pt x="19" y="235"/>
                </a:lnTo>
                <a:lnTo>
                  <a:pt x="17" y="230"/>
                </a:lnTo>
                <a:lnTo>
                  <a:pt x="15" y="225"/>
                </a:lnTo>
                <a:lnTo>
                  <a:pt x="13" y="220"/>
                </a:lnTo>
                <a:lnTo>
                  <a:pt x="11" y="215"/>
                </a:lnTo>
                <a:lnTo>
                  <a:pt x="9" y="209"/>
                </a:lnTo>
                <a:lnTo>
                  <a:pt x="8" y="202"/>
                </a:lnTo>
                <a:lnTo>
                  <a:pt x="6" y="196"/>
                </a:lnTo>
                <a:lnTo>
                  <a:pt x="5" y="189"/>
                </a:lnTo>
                <a:lnTo>
                  <a:pt x="4" y="181"/>
                </a:lnTo>
                <a:lnTo>
                  <a:pt x="3" y="174"/>
                </a:lnTo>
                <a:lnTo>
                  <a:pt x="2" y="166"/>
                </a:lnTo>
                <a:lnTo>
                  <a:pt x="1" y="157"/>
                </a:lnTo>
                <a:lnTo>
                  <a:pt x="1" y="149"/>
                </a:lnTo>
                <a:lnTo>
                  <a:pt x="0" y="140"/>
                </a:lnTo>
                <a:lnTo>
                  <a:pt x="0" y="131"/>
                </a:lnTo>
                <a:lnTo>
                  <a:pt x="0" y="123"/>
                </a:lnTo>
                <a:lnTo>
                  <a:pt x="0" y="114"/>
                </a:lnTo>
                <a:lnTo>
                  <a:pt x="1" y="105"/>
                </a:lnTo>
                <a:lnTo>
                  <a:pt x="1" y="98"/>
                </a:lnTo>
                <a:lnTo>
                  <a:pt x="2" y="91"/>
                </a:lnTo>
                <a:lnTo>
                  <a:pt x="2" y="84"/>
                </a:lnTo>
                <a:lnTo>
                  <a:pt x="3" y="78"/>
                </a:lnTo>
                <a:lnTo>
                  <a:pt x="4" y="71"/>
                </a:lnTo>
                <a:lnTo>
                  <a:pt x="5" y="66"/>
                </a:lnTo>
                <a:lnTo>
                  <a:pt x="6" y="61"/>
                </a:lnTo>
                <a:lnTo>
                  <a:pt x="8" y="56"/>
                </a:lnTo>
                <a:lnTo>
                  <a:pt x="9" y="51"/>
                </a:lnTo>
                <a:lnTo>
                  <a:pt x="11" y="48"/>
                </a:lnTo>
                <a:lnTo>
                  <a:pt x="12" y="44"/>
                </a:lnTo>
                <a:lnTo>
                  <a:pt x="14" y="40"/>
                </a:lnTo>
                <a:lnTo>
                  <a:pt x="15" y="38"/>
                </a:lnTo>
                <a:lnTo>
                  <a:pt x="17" y="35"/>
                </a:lnTo>
                <a:lnTo>
                  <a:pt x="19" y="33"/>
                </a:lnTo>
                <a:lnTo>
                  <a:pt x="21" y="30"/>
                </a:lnTo>
                <a:lnTo>
                  <a:pt x="23" y="28"/>
                </a:lnTo>
                <a:lnTo>
                  <a:pt x="25" y="26"/>
                </a:lnTo>
                <a:lnTo>
                  <a:pt x="27" y="25"/>
                </a:lnTo>
                <a:lnTo>
                  <a:pt x="30" y="23"/>
                </a:lnTo>
                <a:lnTo>
                  <a:pt x="32" y="21"/>
                </a:lnTo>
                <a:lnTo>
                  <a:pt x="34" y="21"/>
                </a:lnTo>
                <a:lnTo>
                  <a:pt x="36" y="20"/>
                </a:lnTo>
                <a:lnTo>
                  <a:pt x="39" y="20"/>
                </a:lnTo>
                <a:lnTo>
                  <a:pt x="42" y="20"/>
                </a:lnTo>
                <a:lnTo>
                  <a:pt x="45" y="19"/>
                </a:lnTo>
                <a:lnTo>
                  <a:pt x="48" y="19"/>
                </a:lnTo>
                <a:lnTo>
                  <a:pt x="52" y="19"/>
                </a:lnTo>
                <a:lnTo>
                  <a:pt x="56" y="19"/>
                </a:lnTo>
                <a:lnTo>
                  <a:pt x="91" y="18"/>
                </a:lnTo>
                <a:lnTo>
                  <a:pt x="99" y="18"/>
                </a:lnTo>
                <a:lnTo>
                  <a:pt x="107" y="16"/>
                </a:lnTo>
                <a:lnTo>
                  <a:pt x="114" y="16"/>
                </a:lnTo>
                <a:lnTo>
                  <a:pt x="120" y="16"/>
                </a:lnTo>
                <a:lnTo>
                  <a:pt x="125" y="15"/>
                </a:lnTo>
                <a:lnTo>
                  <a:pt x="130" y="15"/>
                </a:lnTo>
                <a:lnTo>
                  <a:pt x="134" y="14"/>
                </a:lnTo>
                <a:lnTo>
                  <a:pt x="137" y="13"/>
                </a:lnTo>
                <a:lnTo>
                  <a:pt x="139" y="11"/>
                </a:lnTo>
                <a:lnTo>
                  <a:pt x="141" y="11"/>
                </a:lnTo>
                <a:lnTo>
                  <a:pt x="144" y="10"/>
                </a:lnTo>
                <a:lnTo>
                  <a:pt x="146" y="8"/>
                </a:lnTo>
                <a:lnTo>
                  <a:pt x="148" y="6"/>
                </a:lnTo>
                <a:lnTo>
                  <a:pt x="150" y="4"/>
                </a:lnTo>
                <a:lnTo>
                  <a:pt x="153" y="3"/>
                </a:lnTo>
                <a:lnTo>
                  <a:pt x="155" y="0"/>
                </a:lnTo>
                <a:lnTo>
                  <a:pt x="155" y="50"/>
                </a:lnTo>
                <a:lnTo>
                  <a:pt x="153" y="53"/>
                </a:lnTo>
                <a:lnTo>
                  <a:pt x="151" y="54"/>
                </a:lnTo>
                <a:lnTo>
                  <a:pt x="149" y="56"/>
                </a:lnTo>
                <a:lnTo>
                  <a:pt x="147" y="58"/>
                </a:lnTo>
                <a:lnTo>
                  <a:pt x="144" y="59"/>
                </a:lnTo>
                <a:lnTo>
                  <a:pt x="142" y="59"/>
                </a:lnTo>
                <a:lnTo>
                  <a:pt x="139" y="60"/>
                </a:lnTo>
                <a:lnTo>
                  <a:pt x="137" y="61"/>
                </a:lnTo>
                <a:close/>
                <a:moveTo>
                  <a:pt x="79" y="66"/>
                </a:moveTo>
                <a:lnTo>
                  <a:pt x="80" y="74"/>
                </a:lnTo>
                <a:lnTo>
                  <a:pt x="82" y="81"/>
                </a:lnTo>
                <a:lnTo>
                  <a:pt x="83" y="90"/>
                </a:lnTo>
                <a:lnTo>
                  <a:pt x="84" y="100"/>
                </a:lnTo>
                <a:lnTo>
                  <a:pt x="86" y="110"/>
                </a:lnTo>
                <a:lnTo>
                  <a:pt x="87" y="121"/>
                </a:lnTo>
                <a:lnTo>
                  <a:pt x="88" y="133"/>
                </a:lnTo>
                <a:lnTo>
                  <a:pt x="89" y="146"/>
                </a:lnTo>
                <a:lnTo>
                  <a:pt x="90" y="152"/>
                </a:lnTo>
                <a:lnTo>
                  <a:pt x="91" y="160"/>
                </a:lnTo>
                <a:lnTo>
                  <a:pt x="91" y="166"/>
                </a:lnTo>
                <a:lnTo>
                  <a:pt x="92" y="171"/>
                </a:lnTo>
                <a:lnTo>
                  <a:pt x="93" y="176"/>
                </a:lnTo>
                <a:lnTo>
                  <a:pt x="93" y="181"/>
                </a:lnTo>
                <a:lnTo>
                  <a:pt x="94" y="185"/>
                </a:lnTo>
                <a:lnTo>
                  <a:pt x="95" y="187"/>
                </a:lnTo>
                <a:lnTo>
                  <a:pt x="96" y="191"/>
                </a:lnTo>
                <a:lnTo>
                  <a:pt x="96" y="194"/>
                </a:lnTo>
                <a:lnTo>
                  <a:pt x="97" y="196"/>
                </a:lnTo>
                <a:lnTo>
                  <a:pt x="98" y="199"/>
                </a:lnTo>
                <a:lnTo>
                  <a:pt x="99" y="201"/>
                </a:lnTo>
                <a:lnTo>
                  <a:pt x="101" y="202"/>
                </a:lnTo>
                <a:lnTo>
                  <a:pt x="102" y="205"/>
                </a:lnTo>
                <a:lnTo>
                  <a:pt x="103" y="206"/>
                </a:lnTo>
                <a:lnTo>
                  <a:pt x="105" y="209"/>
                </a:lnTo>
                <a:lnTo>
                  <a:pt x="106" y="210"/>
                </a:lnTo>
                <a:lnTo>
                  <a:pt x="108" y="211"/>
                </a:lnTo>
                <a:lnTo>
                  <a:pt x="109" y="211"/>
                </a:lnTo>
                <a:lnTo>
                  <a:pt x="111" y="212"/>
                </a:lnTo>
                <a:lnTo>
                  <a:pt x="112" y="212"/>
                </a:lnTo>
                <a:lnTo>
                  <a:pt x="114" y="212"/>
                </a:lnTo>
                <a:lnTo>
                  <a:pt x="115" y="212"/>
                </a:lnTo>
                <a:lnTo>
                  <a:pt x="118" y="212"/>
                </a:lnTo>
                <a:lnTo>
                  <a:pt x="120" y="212"/>
                </a:lnTo>
                <a:lnTo>
                  <a:pt x="123" y="211"/>
                </a:lnTo>
                <a:lnTo>
                  <a:pt x="125" y="209"/>
                </a:lnTo>
                <a:lnTo>
                  <a:pt x="127" y="207"/>
                </a:lnTo>
                <a:lnTo>
                  <a:pt x="129" y="204"/>
                </a:lnTo>
                <a:lnTo>
                  <a:pt x="131" y="201"/>
                </a:lnTo>
                <a:lnTo>
                  <a:pt x="133" y="197"/>
                </a:lnTo>
                <a:lnTo>
                  <a:pt x="135" y="194"/>
                </a:lnTo>
                <a:lnTo>
                  <a:pt x="136" y="190"/>
                </a:lnTo>
                <a:lnTo>
                  <a:pt x="137" y="185"/>
                </a:lnTo>
                <a:lnTo>
                  <a:pt x="138" y="180"/>
                </a:lnTo>
                <a:lnTo>
                  <a:pt x="139" y="174"/>
                </a:lnTo>
                <a:lnTo>
                  <a:pt x="139" y="167"/>
                </a:lnTo>
                <a:lnTo>
                  <a:pt x="140" y="161"/>
                </a:lnTo>
                <a:lnTo>
                  <a:pt x="140" y="155"/>
                </a:lnTo>
                <a:lnTo>
                  <a:pt x="139" y="147"/>
                </a:lnTo>
                <a:lnTo>
                  <a:pt x="139" y="141"/>
                </a:lnTo>
                <a:lnTo>
                  <a:pt x="139" y="135"/>
                </a:lnTo>
                <a:lnTo>
                  <a:pt x="138" y="129"/>
                </a:lnTo>
                <a:lnTo>
                  <a:pt x="137" y="123"/>
                </a:lnTo>
                <a:lnTo>
                  <a:pt x="136" y="116"/>
                </a:lnTo>
                <a:lnTo>
                  <a:pt x="134" y="110"/>
                </a:lnTo>
                <a:lnTo>
                  <a:pt x="133" y="105"/>
                </a:lnTo>
                <a:lnTo>
                  <a:pt x="130" y="100"/>
                </a:lnTo>
                <a:lnTo>
                  <a:pt x="128" y="95"/>
                </a:lnTo>
                <a:lnTo>
                  <a:pt x="126" y="90"/>
                </a:lnTo>
                <a:lnTo>
                  <a:pt x="124" y="86"/>
                </a:lnTo>
                <a:lnTo>
                  <a:pt x="122" y="83"/>
                </a:lnTo>
                <a:lnTo>
                  <a:pt x="119" y="79"/>
                </a:lnTo>
                <a:lnTo>
                  <a:pt x="117" y="76"/>
                </a:lnTo>
                <a:lnTo>
                  <a:pt x="114" y="74"/>
                </a:lnTo>
                <a:lnTo>
                  <a:pt x="112" y="71"/>
                </a:lnTo>
                <a:lnTo>
                  <a:pt x="109" y="70"/>
                </a:lnTo>
                <a:lnTo>
                  <a:pt x="106" y="69"/>
                </a:lnTo>
                <a:lnTo>
                  <a:pt x="103" y="68"/>
                </a:lnTo>
                <a:lnTo>
                  <a:pt x="100" y="68"/>
                </a:lnTo>
                <a:lnTo>
                  <a:pt x="96" y="66"/>
                </a:lnTo>
                <a:lnTo>
                  <a:pt x="92" y="66"/>
                </a:lnTo>
                <a:lnTo>
                  <a:pt x="88" y="66"/>
                </a:lnTo>
                <a:lnTo>
                  <a:pt x="79" y="6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46920" y="4200480"/>
            <a:ext cx="112680" cy="142920"/>
          </a:xfrm>
          <a:custGeom>
            <a:avLst/>
            <a:gdLst/>
            <a:ahLst/>
            <a:rect l="l" t="t" r="r" b="b"/>
            <a:pathLst>
              <a:path w="212" h="362">
                <a:moveTo>
                  <a:pt x="212" y="354"/>
                </a:moveTo>
                <a:lnTo>
                  <a:pt x="1" y="362"/>
                </a:lnTo>
                <a:lnTo>
                  <a:pt x="0" y="193"/>
                </a:lnTo>
                <a:lnTo>
                  <a:pt x="0" y="178"/>
                </a:lnTo>
                <a:lnTo>
                  <a:pt x="0" y="164"/>
                </a:lnTo>
                <a:lnTo>
                  <a:pt x="0" y="151"/>
                </a:lnTo>
                <a:lnTo>
                  <a:pt x="1" y="139"/>
                </a:lnTo>
                <a:lnTo>
                  <a:pt x="1" y="128"/>
                </a:lnTo>
                <a:lnTo>
                  <a:pt x="2" y="118"/>
                </a:lnTo>
                <a:lnTo>
                  <a:pt x="3" y="110"/>
                </a:lnTo>
                <a:lnTo>
                  <a:pt x="4" y="102"/>
                </a:lnTo>
                <a:lnTo>
                  <a:pt x="6" y="95"/>
                </a:lnTo>
                <a:lnTo>
                  <a:pt x="8" y="88"/>
                </a:lnTo>
                <a:lnTo>
                  <a:pt x="10" y="82"/>
                </a:lnTo>
                <a:lnTo>
                  <a:pt x="12" y="76"/>
                </a:lnTo>
                <a:lnTo>
                  <a:pt x="15" y="70"/>
                </a:lnTo>
                <a:lnTo>
                  <a:pt x="17" y="65"/>
                </a:lnTo>
                <a:lnTo>
                  <a:pt x="20" y="60"/>
                </a:lnTo>
                <a:lnTo>
                  <a:pt x="24" y="55"/>
                </a:lnTo>
                <a:lnTo>
                  <a:pt x="27" y="51"/>
                </a:lnTo>
                <a:lnTo>
                  <a:pt x="31" y="47"/>
                </a:lnTo>
                <a:lnTo>
                  <a:pt x="35" y="45"/>
                </a:lnTo>
                <a:lnTo>
                  <a:pt x="39" y="42"/>
                </a:lnTo>
                <a:lnTo>
                  <a:pt x="43" y="40"/>
                </a:lnTo>
                <a:lnTo>
                  <a:pt x="49" y="38"/>
                </a:lnTo>
                <a:lnTo>
                  <a:pt x="53" y="37"/>
                </a:lnTo>
                <a:lnTo>
                  <a:pt x="57" y="37"/>
                </a:lnTo>
                <a:lnTo>
                  <a:pt x="63" y="37"/>
                </a:lnTo>
                <a:lnTo>
                  <a:pt x="69" y="38"/>
                </a:lnTo>
                <a:lnTo>
                  <a:pt x="74" y="40"/>
                </a:lnTo>
                <a:lnTo>
                  <a:pt x="79" y="42"/>
                </a:lnTo>
                <a:lnTo>
                  <a:pt x="84" y="46"/>
                </a:lnTo>
                <a:lnTo>
                  <a:pt x="88" y="51"/>
                </a:lnTo>
                <a:lnTo>
                  <a:pt x="92" y="56"/>
                </a:lnTo>
                <a:lnTo>
                  <a:pt x="96" y="62"/>
                </a:lnTo>
                <a:lnTo>
                  <a:pt x="100" y="68"/>
                </a:lnTo>
                <a:lnTo>
                  <a:pt x="103" y="76"/>
                </a:lnTo>
                <a:lnTo>
                  <a:pt x="106" y="85"/>
                </a:lnTo>
                <a:lnTo>
                  <a:pt x="109" y="93"/>
                </a:lnTo>
                <a:lnTo>
                  <a:pt x="111" y="103"/>
                </a:lnTo>
                <a:lnTo>
                  <a:pt x="113" y="115"/>
                </a:lnTo>
                <a:lnTo>
                  <a:pt x="115" y="127"/>
                </a:lnTo>
                <a:lnTo>
                  <a:pt x="116" y="139"/>
                </a:lnTo>
                <a:lnTo>
                  <a:pt x="118" y="133"/>
                </a:lnTo>
                <a:lnTo>
                  <a:pt x="121" y="127"/>
                </a:lnTo>
                <a:lnTo>
                  <a:pt x="123" y="121"/>
                </a:lnTo>
                <a:lnTo>
                  <a:pt x="125" y="115"/>
                </a:lnTo>
                <a:lnTo>
                  <a:pt x="127" y="110"/>
                </a:lnTo>
                <a:lnTo>
                  <a:pt x="130" y="105"/>
                </a:lnTo>
                <a:lnTo>
                  <a:pt x="132" y="100"/>
                </a:lnTo>
                <a:lnTo>
                  <a:pt x="134" y="96"/>
                </a:lnTo>
                <a:lnTo>
                  <a:pt x="137" y="91"/>
                </a:lnTo>
                <a:lnTo>
                  <a:pt x="140" y="86"/>
                </a:lnTo>
                <a:lnTo>
                  <a:pt x="143" y="81"/>
                </a:lnTo>
                <a:lnTo>
                  <a:pt x="147" y="76"/>
                </a:lnTo>
                <a:lnTo>
                  <a:pt x="152" y="70"/>
                </a:lnTo>
                <a:lnTo>
                  <a:pt x="156" y="63"/>
                </a:lnTo>
                <a:lnTo>
                  <a:pt x="162" y="57"/>
                </a:lnTo>
                <a:lnTo>
                  <a:pt x="168" y="50"/>
                </a:lnTo>
                <a:lnTo>
                  <a:pt x="209" y="0"/>
                </a:lnTo>
                <a:lnTo>
                  <a:pt x="209" y="95"/>
                </a:lnTo>
                <a:lnTo>
                  <a:pt x="164" y="154"/>
                </a:lnTo>
                <a:lnTo>
                  <a:pt x="158" y="162"/>
                </a:lnTo>
                <a:lnTo>
                  <a:pt x="153" y="168"/>
                </a:lnTo>
                <a:lnTo>
                  <a:pt x="148" y="174"/>
                </a:lnTo>
                <a:lnTo>
                  <a:pt x="144" y="181"/>
                </a:lnTo>
                <a:lnTo>
                  <a:pt x="141" y="186"/>
                </a:lnTo>
                <a:lnTo>
                  <a:pt x="138" y="191"/>
                </a:lnTo>
                <a:lnTo>
                  <a:pt x="135" y="194"/>
                </a:lnTo>
                <a:lnTo>
                  <a:pt x="134" y="197"/>
                </a:lnTo>
                <a:lnTo>
                  <a:pt x="132" y="199"/>
                </a:lnTo>
                <a:lnTo>
                  <a:pt x="131" y="203"/>
                </a:lnTo>
                <a:lnTo>
                  <a:pt x="130" y="206"/>
                </a:lnTo>
                <a:lnTo>
                  <a:pt x="128" y="209"/>
                </a:lnTo>
                <a:lnTo>
                  <a:pt x="127" y="212"/>
                </a:lnTo>
                <a:lnTo>
                  <a:pt x="127" y="216"/>
                </a:lnTo>
                <a:lnTo>
                  <a:pt x="126" y="218"/>
                </a:lnTo>
                <a:lnTo>
                  <a:pt x="125" y="222"/>
                </a:lnTo>
                <a:lnTo>
                  <a:pt x="125" y="224"/>
                </a:lnTo>
                <a:lnTo>
                  <a:pt x="124" y="228"/>
                </a:lnTo>
                <a:lnTo>
                  <a:pt x="124" y="233"/>
                </a:lnTo>
                <a:lnTo>
                  <a:pt x="124" y="238"/>
                </a:lnTo>
                <a:lnTo>
                  <a:pt x="123" y="243"/>
                </a:lnTo>
                <a:lnTo>
                  <a:pt x="123" y="249"/>
                </a:lnTo>
                <a:lnTo>
                  <a:pt x="123" y="254"/>
                </a:lnTo>
                <a:lnTo>
                  <a:pt x="123" y="262"/>
                </a:lnTo>
                <a:lnTo>
                  <a:pt x="123" y="278"/>
                </a:lnTo>
                <a:lnTo>
                  <a:pt x="211" y="274"/>
                </a:lnTo>
                <a:lnTo>
                  <a:pt x="212" y="354"/>
                </a:lnTo>
                <a:close/>
                <a:moveTo>
                  <a:pt x="89" y="279"/>
                </a:moveTo>
                <a:lnTo>
                  <a:pt x="89" y="219"/>
                </a:lnTo>
                <a:lnTo>
                  <a:pt x="89" y="206"/>
                </a:lnTo>
                <a:lnTo>
                  <a:pt x="88" y="194"/>
                </a:lnTo>
                <a:lnTo>
                  <a:pt x="88" y="183"/>
                </a:lnTo>
                <a:lnTo>
                  <a:pt x="88" y="173"/>
                </a:lnTo>
                <a:lnTo>
                  <a:pt x="87" y="164"/>
                </a:lnTo>
                <a:lnTo>
                  <a:pt x="87" y="158"/>
                </a:lnTo>
                <a:lnTo>
                  <a:pt x="86" y="152"/>
                </a:lnTo>
                <a:lnTo>
                  <a:pt x="86" y="148"/>
                </a:lnTo>
                <a:lnTo>
                  <a:pt x="85" y="144"/>
                </a:lnTo>
                <a:lnTo>
                  <a:pt x="84" y="142"/>
                </a:lnTo>
                <a:lnTo>
                  <a:pt x="83" y="138"/>
                </a:lnTo>
                <a:lnTo>
                  <a:pt x="82" y="136"/>
                </a:lnTo>
                <a:lnTo>
                  <a:pt x="81" y="133"/>
                </a:lnTo>
                <a:lnTo>
                  <a:pt x="79" y="131"/>
                </a:lnTo>
                <a:lnTo>
                  <a:pt x="78" y="128"/>
                </a:lnTo>
                <a:lnTo>
                  <a:pt x="77" y="126"/>
                </a:lnTo>
                <a:lnTo>
                  <a:pt x="75" y="125"/>
                </a:lnTo>
                <a:lnTo>
                  <a:pt x="73" y="123"/>
                </a:lnTo>
                <a:lnTo>
                  <a:pt x="71" y="122"/>
                </a:lnTo>
                <a:lnTo>
                  <a:pt x="69" y="121"/>
                </a:lnTo>
                <a:lnTo>
                  <a:pt x="67" y="120"/>
                </a:lnTo>
                <a:lnTo>
                  <a:pt x="65" y="120"/>
                </a:lnTo>
                <a:lnTo>
                  <a:pt x="63" y="118"/>
                </a:lnTo>
                <a:lnTo>
                  <a:pt x="61" y="118"/>
                </a:lnTo>
                <a:lnTo>
                  <a:pt x="58" y="120"/>
                </a:lnTo>
                <a:lnTo>
                  <a:pt x="56" y="120"/>
                </a:lnTo>
                <a:lnTo>
                  <a:pt x="54" y="121"/>
                </a:lnTo>
                <a:lnTo>
                  <a:pt x="51" y="122"/>
                </a:lnTo>
                <a:lnTo>
                  <a:pt x="49" y="123"/>
                </a:lnTo>
                <a:lnTo>
                  <a:pt x="48" y="126"/>
                </a:lnTo>
                <a:lnTo>
                  <a:pt x="45" y="127"/>
                </a:lnTo>
                <a:lnTo>
                  <a:pt x="43" y="130"/>
                </a:lnTo>
                <a:lnTo>
                  <a:pt x="42" y="133"/>
                </a:lnTo>
                <a:lnTo>
                  <a:pt x="40" y="136"/>
                </a:lnTo>
                <a:lnTo>
                  <a:pt x="39" y="139"/>
                </a:lnTo>
                <a:lnTo>
                  <a:pt x="38" y="143"/>
                </a:lnTo>
                <a:lnTo>
                  <a:pt x="37" y="147"/>
                </a:lnTo>
                <a:lnTo>
                  <a:pt x="36" y="151"/>
                </a:lnTo>
                <a:lnTo>
                  <a:pt x="36" y="156"/>
                </a:lnTo>
                <a:lnTo>
                  <a:pt x="35" y="161"/>
                </a:lnTo>
                <a:lnTo>
                  <a:pt x="35" y="163"/>
                </a:lnTo>
                <a:lnTo>
                  <a:pt x="35" y="167"/>
                </a:lnTo>
                <a:lnTo>
                  <a:pt x="35" y="173"/>
                </a:lnTo>
                <a:lnTo>
                  <a:pt x="35" y="179"/>
                </a:lnTo>
                <a:lnTo>
                  <a:pt x="35" y="187"/>
                </a:lnTo>
                <a:lnTo>
                  <a:pt x="35" y="197"/>
                </a:lnTo>
                <a:lnTo>
                  <a:pt x="35" y="207"/>
                </a:lnTo>
                <a:lnTo>
                  <a:pt x="35" y="218"/>
                </a:lnTo>
                <a:lnTo>
                  <a:pt x="36" y="280"/>
                </a:lnTo>
                <a:lnTo>
                  <a:pt x="89" y="2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43680" y="4040280"/>
            <a:ext cx="114120" cy="150840"/>
          </a:xfrm>
          <a:custGeom>
            <a:avLst/>
            <a:gdLst/>
            <a:ahLst/>
            <a:rect l="l" t="t" r="r" b="b"/>
            <a:pathLst>
              <a:path w="218" h="382">
                <a:moveTo>
                  <a:pt x="112" y="382"/>
                </a:moveTo>
                <a:lnTo>
                  <a:pt x="104" y="382"/>
                </a:lnTo>
                <a:lnTo>
                  <a:pt x="97" y="382"/>
                </a:lnTo>
                <a:lnTo>
                  <a:pt x="89" y="381"/>
                </a:lnTo>
                <a:lnTo>
                  <a:pt x="83" y="378"/>
                </a:lnTo>
                <a:lnTo>
                  <a:pt x="76" y="377"/>
                </a:lnTo>
                <a:lnTo>
                  <a:pt x="70" y="373"/>
                </a:lnTo>
                <a:lnTo>
                  <a:pt x="64" y="371"/>
                </a:lnTo>
                <a:lnTo>
                  <a:pt x="58" y="366"/>
                </a:lnTo>
                <a:lnTo>
                  <a:pt x="53" y="363"/>
                </a:lnTo>
                <a:lnTo>
                  <a:pt x="50" y="360"/>
                </a:lnTo>
                <a:lnTo>
                  <a:pt x="46" y="355"/>
                </a:lnTo>
                <a:lnTo>
                  <a:pt x="42" y="351"/>
                </a:lnTo>
                <a:lnTo>
                  <a:pt x="39" y="346"/>
                </a:lnTo>
                <a:lnTo>
                  <a:pt x="35" y="341"/>
                </a:lnTo>
                <a:lnTo>
                  <a:pt x="32" y="336"/>
                </a:lnTo>
                <a:lnTo>
                  <a:pt x="29" y="331"/>
                </a:lnTo>
                <a:lnTo>
                  <a:pt x="25" y="325"/>
                </a:lnTo>
                <a:lnTo>
                  <a:pt x="23" y="318"/>
                </a:lnTo>
                <a:lnTo>
                  <a:pt x="20" y="312"/>
                </a:lnTo>
                <a:lnTo>
                  <a:pt x="17" y="306"/>
                </a:lnTo>
                <a:lnTo>
                  <a:pt x="15" y="300"/>
                </a:lnTo>
                <a:lnTo>
                  <a:pt x="13" y="293"/>
                </a:lnTo>
                <a:lnTo>
                  <a:pt x="11" y="287"/>
                </a:lnTo>
                <a:lnTo>
                  <a:pt x="9" y="280"/>
                </a:lnTo>
                <a:lnTo>
                  <a:pt x="7" y="271"/>
                </a:lnTo>
                <a:lnTo>
                  <a:pt x="6" y="261"/>
                </a:lnTo>
                <a:lnTo>
                  <a:pt x="4" y="251"/>
                </a:lnTo>
                <a:lnTo>
                  <a:pt x="3" y="241"/>
                </a:lnTo>
                <a:lnTo>
                  <a:pt x="2" y="230"/>
                </a:lnTo>
                <a:lnTo>
                  <a:pt x="1" y="219"/>
                </a:lnTo>
                <a:lnTo>
                  <a:pt x="1" y="207"/>
                </a:lnTo>
                <a:lnTo>
                  <a:pt x="0" y="195"/>
                </a:lnTo>
                <a:lnTo>
                  <a:pt x="1" y="174"/>
                </a:lnTo>
                <a:lnTo>
                  <a:pt x="2" y="154"/>
                </a:lnTo>
                <a:lnTo>
                  <a:pt x="4" y="135"/>
                </a:lnTo>
                <a:lnTo>
                  <a:pt x="7" y="116"/>
                </a:lnTo>
                <a:lnTo>
                  <a:pt x="11" y="100"/>
                </a:lnTo>
                <a:lnTo>
                  <a:pt x="15" y="84"/>
                </a:lnTo>
                <a:lnTo>
                  <a:pt x="21" y="69"/>
                </a:lnTo>
                <a:lnTo>
                  <a:pt x="28" y="55"/>
                </a:lnTo>
                <a:lnTo>
                  <a:pt x="35" y="43"/>
                </a:lnTo>
                <a:lnTo>
                  <a:pt x="43" y="31"/>
                </a:lnTo>
                <a:lnTo>
                  <a:pt x="52" y="23"/>
                </a:lnTo>
                <a:lnTo>
                  <a:pt x="62" y="14"/>
                </a:lnTo>
                <a:lnTo>
                  <a:pt x="72" y="9"/>
                </a:lnTo>
                <a:lnTo>
                  <a:pt x="83" y="4"/>
                </a:lnTo>
                <a:lnTo>
                  <a:pt x="95" y="1"/>
                </a:lnTo>
                <a:lnTo>
                  <a:pt x="107" y="0"/>
                </a:lnTo>
                <a:lnTo>
                  <a:pt x="120" y="0"/>
                </a:lnTo>
                <a:lnTo>
                  <a:pt x="132" y="3"/>
                </a:lnTo>
                <a:lnTo>
                  <a:pt x="143" y="6"/>
                </a:lnTo>
                <a:lnTo>
                  <a:pt x="153" y="11"/>
                </a:lnTo>
                <a:lnTo>
                  <a:pt x="163" y="19"/>
                </a:lnTo>
                <a:lnTo>
                  <a:pt x="172" y="28"/>
                </a:lnTo>
                <a:lnTo>
                  <a:pt x="180" y="38"/>
                </a:lnTo>
                <a:lnTo>
                  <a:pt x="187" y="49"/>
                </a:lnTo>
                <a:lnTo>
                  <a:pt x="194" y="63"/>
                </a:lnTo>
                <a:lnTo>
                  <a:pt x="201" y="78"/>
                </a:lnTo>
                <a:lnTo>
                  <a:pt x="206" y="93"/>
                </a:lnTo>
                <a:lnTo>
                  <a:pt x="210" y="109"/>
                </a:lnTo>
                <a:lnTo>
                  <a:pt x="214" y="127"/>
                </a:lnTo>
                <a:lnTo>
                  <a:pt x="216" y="146"/>
                </a:lnTo>
                <a:lnTo>
                  <a:pt x="217" y="166"/>
                </a:lnTo>
                <a:lnTo>
                  <a:pt x="218" y="187"/>
                </a:lnTo>
                <a:lnTo>
                  <a:pt x="218" y="209"/>
                </a:lnTo>
                <a:lnTo>
                  <a:pt x="217" y="229"/>
                </a:lnTo>
                <a:lnTo>
                  <a:pt x="215" y="249"/>
                </a:lnTo>
                <a:lnTo>
                  <a:pt x="212" y="266"/>
                </a:lnTo>
                <a:lnTo>
                  <a:pt x="208" y="283"/>
                </a:lnTo>
                <a:lnTo>
                  <a:pt x="203" y="300"/>
                </a:lnTo>
                <a:lnTo>
                  <a:pt x="197" y="315"/>
                </a:lnTo>
                <a:lnTo>
                  <a:pt x="190" y="328"/>
                </a:lnTo>
                <a:lnTo>
                  <a:pt x="183" y="341"/>
                </a:lnTo>
                <a:lnTo>
                  <a:pt x="175" y="351"/>
                </a:lnTo>
                <a:lnTo>
                  <a:pt x="166" y="361"/>
                </a:lnTo>
                <a:lnTo>
                  <a:pt x="157" y="368"/>
                </a:lnTo>
                <a:lnTo>
                  <a:pt x="147" y="375"/>
                </a:lnTo>
                <a:lnTo>
                  <a:pt x="136" y="378"/>
                </a:lnTo>
                <a:lnTo>
                  <a:pt x="124" y="381"/>
                </a:lnTo>
                <a:lnTo>
                  <a:pt x="112" y="382"/>
                </a:lnTo>
                <a:close/>
                <a:moveTo>
                  <a:pt x="110" y="301"/>
                </a:moveTo>
                <a:lnTo>
                  <a:pt x="118" y="300"/>
                </a:lnTo>
                <a:lnTo>
                  <a:pt x="126" y="298"/>
                </a:lnTo>
                <a:lnTo>
                  <a:pt x="135" y="296"/>
                </a:lnTo>
                <a:lnTo>
                  <a:pt x="142" y="292"/>
                </a:lnTo>
                <a:lnTo>
                  <a:pt x="148" y="287"/>
                </a:lnTo>
                <a:lnTo>
                  <a:pt x="154" y="282"/>
                </a:lnTo>
                <a:lnTo>
                  <a:pt x="159" y="275"/>
                </a:lnTo>
                <a:lnTo>
                  <a:pt x="164" y="267"/>
                </a:lnTo>
                <a:lnTo>
                  <a:pt x="168" y="260"/>
                </a:lnTo>
                <a:lnTo>
                  <a:pt x="172" y="251"/>
                </a:lnTo>
                <a:lnTo>
                  <a:pt x="175" y="242"/>
                </a:lnTo>
                <a:lnTo>
                  <a:pt x="177" y="232"/>
                </a:lnTo>
                <a:lnTo>
                  <a:pt x="179" y="222"/>
                </a:lnTo>
                <a:lnTo>
                  <a:pt x="180" y="211"/>
                </a:lnTo>
                <a:lnTo>
                  <a:pt x="181" y="200"/>
                </a:lnTo>
                <a:lnTo>
                  <a:pt x="181" y="189"/>
                </a:lnTo>
                <a:lnTo>
                  <a:pt x="181" y="177"/>
                </a:lnTo>
                <a:lnTo>
                  <a:pt x="180" y="166"/>
                </a:lnTo>
                <a:lnTo>
                  <a:pt x="178" y="155"/>
                </a:lnTo>
                <a:lnTo>
                  <a:pt x="176" y="145"/>
                </a:lnTo>
                <a:lnTo>
                  <a:pt x="174" y="136"/>
                </a:lnTo>
                <a:lnTo>
                  <a:pt x="171" y="127"/>
                </a:lnTo>
                <a:lnTo>
                  <a:pt x="167" y="119"/>
                </a:lnTo>
                <a:lnTo>
                  <a:pt x="162" y="111"/>
                </a:lnTo>
                <a:lnTo>
                  <a:pt x="158" y="104"/>
                </a:lnTo>
                <a:lnTo>
                  <a:pt x="152" y="98"/>
                </a:lnTo>
                <a:lnTo>
                  <a:pt x="146" y="93"/>
                </a:lnTo>
                <a:lnTo>
                  <a:pt x="140" y="89"/>
                </a:lnTo>
                <a:lnTo>
                  <a:pt x="133" y="86"/>
                </a:lnTo>
                <a:lnTo>
                  <a:pt x="124" y="84"/>
                </a:lnTo>
                <a:lnTo>
                  <a:pt x="116" y="83"/>
                </a:lnTo>
                <a:lnTo>
                  <a:pt x="107" y="83"/>
                </a:lnTo>
                <a:lnTo>
                  <a:pt x="98" y="83"/>
                </a:lnTo>
                <a:lnTo>
                  <a:pt x="90" y="85"/>
                </a:lnTo>
                <a:lnTo>
                  <a:pt x="83" y="88"/>
                </a:lnTo>
                <a:lnTo>
                  <a:pt x="76" y="91"/>
                </a:lnTo>
                <a:lnTo>
                  <a:pt x="70" y="95"/>
                </a:lnTo>
                <a:lnTo>
                  <a:pt x="64" y="100"/>
                </a:lnTo>
                <a:lnTo>
                  <a:pt x="59" y="106"/>
                </a:lnTo>
                <a:lnTo>
                  <a:pt x="53" y="114"/>
                </a:lnTo>
                <a:lnTo>
                  <a:pt x="49" y="121"/>
                </a:lnTo>
                <a:lnTo>
                  <a:pt x="46" y="130"/>
                </a:lnTo>
                <a:lnTo>
                  <a:pt x="43" y="139"/>
                </a:lnTo>
                <a:lnTo>
                  <a:pt x="40" y="149"/>
                </a:lnTo>
                <a:lnTo>
                  <a:pt x="38" y="159"/>
                </a:lnTo>
                <a:lnTo>
                  <a:pt x="37" y="170"/>
                </a:lnTo>
                <a:lnTo>
                  <a:pt x="36" y="181"/>
                </a:lnTo>
                <a:lnTo>
                  <a:pt x="36" y="194"/>
                </a:lnTo>
                <a:lnTo>
                  <a:pt x="37" y="205"/>
                </a:lnTo>
                <a:lnTo>
                  <a:pt x="38" y="217"/>
                </a:lnTo>
                <a:lnTo>
                  <a:pt x="39" y="227"/>
                </a:lnTo>
                <a:lnTo>
                  <a:pt x="41" y="237"/>
                </a:lnTo>
                <a:lnTo>
                  <a:pt x="44" y="247"/>
                </a:lnTo>
                <a:lnTo>
                  <a:pt x="47" y="256"/>
                </a:lnTo>
                <a:lnTo>
                  <a:pt x="51" y="265"/>
                </a:lnTo>
                <a:lnTo>
                  <a:pt x="56" y="272"/>
                </a:lnTo>
                <a:lnTo>
                  <a:pt x="61" y="278"/>
                </a:lnTo>
                <a:lnTo>
                  <a:pt x="66" y="285"/>
                </a:lnTo>
                <a:lnTo>
                  <a:pt x="72" y="290"/>
                </a:lnTo>
                <a:lnTo>
                  <a:pt x="78" y="293"/>
                </a:lnTo>
                <a:lnTo>
                  <a:pt x="85" y="297"/>
                </a:lnTo>
                <a:lnTo>
                  <a:pt x="93" y="300"/>
                </a:lnTo>
                <a:lnTo>
                  <a:pt x="101" y="301"/>
                </a:lnTo>
                <a:lnTo>
                  <a:pt x="110" y="30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41880" y="3862440"/>
            <a:ext cx="112680" cy="154080"/>
          </a:xfrm>
          <a:custGeom>
            <a:avLst/>
            <a:gdLst/>
            <a:ahLst/>
            <a:rect l="l" t="t" r="r" b="b"/>
            <a:pathLst>
              <a:path w="214" h="388">
                <a:moveTo>
                  <a:pt x="214" y="380"/>
                </a:moveTo>
                <a:lnTo>
                  <a:pt x="4" y="388"/>
                </a:lnTo>
                <a:lnTo>
                  <a:pt x="3" y="268"/>
                </a:lnTo>
                <a:lnTo>
                  <a:pt x="146" y="192"/>
                </a:lnTo>
                <a:lnTo>
                  <a:pt x="1" y="126"/>
                </a:lnTo>
                <a:lnTo>
                  <a:pt x="0" y="6"/>
                </a:lnTo>
                <a:lnTo>
                  <a:pt x="211" y="0"/>
                </a:lnTo>
                <a:lnTo>
                  <a:pt x="211" y="73"/>
                </a:lnTo>
                <a:lnTo>
                  <a:pt x="45" y="78"/>
                </a:lnTo>
                <a:lnTo>
                  <a:pt x="212" y="152"/>
                </a:lnTo>
                <a:lnTo>
                  <a:pt x="213" y="228"/>
                </a:lnTo>
                <a:lnTo>
                  <a:pt x="47" y="312"/>
                </a:lnTo>
                <a:lnTo>
                  <a:pt x="214" y="307"/>
                </a:lnTo>
                <a:lnTo>
                  <a:pt x="214" y="38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40440" y="3689280"/>
            <a:ext cx="112680" cy="158760"/>
          </a:xfrm>
          <a:custGeom>
            <a:avLst/>
            <a:gdLst/>
            <a:ahLst/>
            <a:rect l="l" t="t" r="r" b="b"/>
            <a:pathLst>
              <a:path w="212" h="397">
                <a:moveTo>
                  <a:pt x="209" y="0"/>
                </a:moveTo>
                <a:lnTo>
                  <a:pt x="210" y="88"/>
                </a:lnTo>
                <a:lnTo>
                  <a:pt x="162" y="124"/>
                </a:lnTo>
                <a:lnTo>
                  <a:pt x="163" y="281"/>
                </a:lnTo>
                <a:lnTo>
                  <a:pt x="212" y="312"/>
                </a:lnTo>
                <a:lnTo>
                  <a:pt x="212" y="397"/>
                </a:lnTo>
                <a:lnTo>
                  <a:pt x="0" y="250"/>
                </a:lnTo>
                <a:lnTo>
                  <a:pt x="0" y="166"/>
                </a:lnTo>
                <a:lnTo>
                  <a:pt x="209" y="0"/>
                </a:lnTo>
                <a:close/>
                <a:moveTo>
                  <a:pt x="126" y="150"/>
                </a:moveTo>
                <a:lnTo>
                  <a:pt x="48" y="207"/>
                </a:lnTo>
                <a:lnTo>
                  <a:pt x="127" y="257"/>
                </a:lnTo>
                <a:lnTo>
                  <a:pt x="126" y="1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81600" y="2417760"/>
            <a:ext cx="101520" cy="108000"/>
          </a:xfrm>
          <a:custGeom>
            <a:avLst/>
            <a:gdLst/>
            <a:ahLst/>
            <a:rect l="l" t="t" r="r" b="b"/>
            <a:pathLst>
              <a:path w="192" h="271">
                <a:moveTo>
                  <a:pt x="100" y="271"/>
                </a:moveTo>
                <a:lnTo>
                  <a:pt x="0" y="23"/>
                </a:lnTo>
                <a:lnTo>
                  <a:pt x="29" y="19"/>
                </a:lnTo>
                <a:lnTo>
                  <a:pt x="98" y="200"/>
                </a:lnTo>
                <a:lnTo>
                  <a:pt x="100" y="206"/>
                </a:lnTo>
                <a:lnTo>
                  <a:pt x="102" y="211"/>
                </a:lnTo>
                <a:lnTo>
                  <a:pt x="103" y="216"/>
                </a:lnTo>
                <a:lnTo>
                  <a:pt x="105" y="221"/>
                </a:lnTo>
                <a:lnTo>
                  <a:pt x="107" y="226"/>
                </a:lnTo>
                <a:lnTo>
                  <a:pt x="109" y="231"/>
                </a:lnTo>
                <a:lnTo>
                  <a:pt x="110" y="236"/>
                </a:lnTo>
                <a:lnTo>
                  <a:pt x="113" y="241"/>
                </a:lnTo>
                <a:lnTo>
                  <a:pt x="114" y="236"/>
                </a:lnTo>
                <a:lnTo>
                  <a:pt x="114" y="230"/>
                </a:lnTo>
                <a:lnTo>
                  <a:pt x="115" y="225"/>
                </a:lnTo>
                <a:lnTo>
                  <a:pt x="116" y="220"/>
                </a:lnTo>
                <a:lnTo>
                  <a:pt x="117" y="214"/>
                </a:lnTo>
                <a:lnTo>
                  <a:pt x="118" y="209"/>
                </a:lnTo>
                <a:lnTo>
                  <a:pt x="120" y="204"/>
                </a:lnTo>
                <a:lnTo>
                  <a:pt x="121" y="198"/>
                </a:lnTo>
                <a:lnTo>
                  <a:pt x="163" y="4"/>
                </a:lnTo>
                <a:lnTo>
                  <a:pt x="192" y="0"/>
                </a:lnTo>
                <a:lnTo>
                  <a:pt x="129" y="269"/>
                </a:lnTo>
                <a:lnTo>
                  <a:pt x="100" y="2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91040" y="2416320"/>
            <a:ext cx="23760" cy="102960"/>
          </a:xfrm>
          <a:custGeom>
            <a:avLst/>
            <a:gdLst/>
            <a:ahLst/>
            <a:rect l="l" t="t" r="r" b="b"/>
            <a:pathLst>
              <a:path w="44" h="261">
                <a:moveTo>
                  <a:pt x="3" y="38"/>
                </a:moveTo>
                <a:lnTo>
                  <a:pt x="0" y="2"/>
                </a:lnTo>
                <a:lnTo>
                  <a:pt x="25" y="0"/>
                </a:lnTo>
                <a:lnTo>
                  <a:pt x="28" y="36"/>
                </a:lnTo>
                <a:lnTo>
                  <a:pt x="3" y="38"/>
                </a:lnTo>
                <a:close/>
                <a:moveTo>
                  <a:pt x="19" y="261"/>
                </a:moveTo>
                <a:lnTo>
                  <a:pt x="5" y="73"/>
                </a:lnTo>
                <a:lnTo>
                  <a:pt x="31" y="71"/>
                </a:lnTo>
                <a:lnTo>
                  <a:pt x="44" y="258"/>
                </a:lnTo>
                <a:lnTo>
                  <a:pt x="19" y="2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29200" y="2438280"/>
            <a:ext cx="75960" cy="77760"/>
          </a:xfrm>
          <a:custGeom>
            <a:avLst/>
            <a:gdLst/>
            <a:ahLst/>
            <a:rect l="l" t="t" r="r" b="b"/>
            <a:pathLst>
              <a:path w="145" h="198">
                <a:moveTo>
                  <a:pt x="111" y="164"/>
                </a:moveTo>
                <a:lnTo>
                  <a:pt x="108" y="168"/>
                </a:lnTo>
                <a:lnTo>
                  <a:pt x="105" y="172"/>
                </a:lnTo>
                <a:lnTo>
                  <a:pt x="101" y="176"/>
                </a:lnTo>
                <a:lnTo>
                  <a:pt x="98" y="178"/>
                </a:lnTo>
                <a:lnTo>
                  <a:pt x="95" y="181"/>
                </a:lnTo>
                <a:lnTo>
                  <a:pt x="92" y="184"/>
                </a:lnTo>
                <a:lnTo>
                  <a:pt x="89" y="186"/>
                </a:lnTo>
                <a:lnTo>
                  <a:pt x="85" y="188"/>
                </a:lnTo>
                <a:lnTo>
                  <a:pt x="82" y="191"/>
                </a:lnTo>
                <a:lnTo>
                  <a:pt x="79" y="192"/>
                </a:lnTo>
                <a:lnTo>
                  <a:pt x="76" y="193"/>
                </a:lnTo>
                <a:lnTo>
                  <a:pt x="72" y="194"/>
                </a:lnTo>
                <a:lnTo>
                  <a:pt x="69" y="196"/>
                </a:lnTo>
                <a:lnTo>
                  <a:pt x="65" y="197"/>
                </a:lnTo>
                <a:lnTo>
                  <a:pt x="62" y="197"/>
                </a:lnTo>
                <a:lnTo>
                  <a:pt x="58" y="198"/>
                </a:lnTo>
                <a:lnTo>
                  <a:pt x="52" y="198"/>
                </a:lnTo>
                <a:lnTo>
                  <a:pt x="45" y="198"/>
                </a:lnTo>
                <a:lnTo>
                  <a:pt x="40" y="197"/>
                </a:lnTo>
                <a:lnTo>
                  <a:pt x="35" y="197"/>
                </a:lnTo>
                <a:lnTo>
                  <a:pt x="30" y="194"/>
                </a:lnTo>
                <a:lnTo>
                  <a:pt x="26" y="193"/>
                </a:lnTo>
                <a:lnTo>
                  <a:pt x="22" y="191"/>
                </a:lnTo>
                <a:lnTo>
                  <a:pt x="18" y="187"/>
                </a:lnTo>
                <a:lnTo>
                  <a:pt x="14" y="183"/>
                </a:lnTo>
                <a:lnTo>
                  <a:pt x="11" y="179"/>
                </a:lnTo>
                <a:lnTo>
                  <a:pt x="9" y="176"/>
                </a:lnTo>
                <a:lnTo>
                  <a:pt x="7" y="171"/>
                </a:lnTo>
                <a:lnTo>
                  <a:pt x="5" y="166"/>
                </a:lnTo>
                <a:lnTo>
                  <a:pt x="3" y="161"/>
                </a:lnTo>
                <a:lnTo>
                  <a:pt x="2" y="156"/>
                </a:lnTo>
                <a:lnTo>
                  <a:pt x="2" y="149"/>
                </a:lnTo>
                <a:lnTo>
                  <a:pt x="2" y="147"/>
                </a:lnTo>
                <a:lnTo>
                  <a:pt x="2" y="143"/>
                </a:lnTo>
                <a:lnTo>
                  <a:pt x="2" y="139"/>
                </a:lnTo>
                <a:lnTo>
                  <a:pt x="2" y="137"/>
                </a:lnTo>
                <a:lnTo>
                  <a:pt x="2" y="133"/>
                </a:lnTo>
                <a:lnTo>
                  <a:pt x="3" y="131"/>
                </a:lnTo>
                <a:lnTo>
                  <a:pt x="4" y="127"/>
                </a:lnTo>
                <a:lnTo>
                  <a:pt x="5" y="124"/>
                </a:lnTo>
                <a:lnTo>
                  <a:pt x="6" y="122"/>
                </a:lnTo>
                <a:lnTo>
                  <a:pt x="7" y="118"/>
                </a:lnTo>
                <a:lnTo>
                  <a:pt x="8" y="116"/>
                </a:lnTo>
                <a:lnTo>
                  <a:pt x="10" y="113"/>
                </a:lnTo>
                <a:lnTo>
                  <a:pt x="11" y="111"/>
                </a:lnTo>
                <a:lnTo>
                  <a:pt x="13" y="108"/>
                </a:lnTo>
                <a:lnTo>
                  <a:pt x="15" y="107"/>
                </a:lnTo>
                <a:lnTo>
                  <a:pt x="17" y="104"/>
                </a:lnTo>
                <a:lnTo>
                  <a:pt x="19" y="103"/>
                </a:lnTo>
                <a:lnTo>
                  <a:pt x="21" y="101"/>
                </a:lnTo>
                <a:lnTo>
                  <a:pt x="23" y="99"/>
                </a:lnTo>
                <a:lnTo>
                  <a:pt x="25" y="97"/>
                </a:lnTo>
                <a:lnTo>
                  <a:pt x="27" y="96"/>
                </a:lnTo>
                <a:lnTo>
                  <a:pt x="29" y="94"/>
                </a:lnTo>
                <a:lnTo>
                  <a:pt x="32" y="93"/>
                </a:lnTo>
                <a:lnTo>
                  <a:pt x="34" y="92"/>
                </a:lnTo>
                <a:lnTo>
                  <a:pt x="36" y="91"/>
                </a:lnTo>
                <a:lnTo>
                  <a:pt x="38" y="91"/>
                </a:lnTo>
                <a:lnTo>
                  <a:pt x="41" y="89"/>
                </a:lnTo>
                <a:lnTo>
                  <a:pt x="43" y="88"/>
                </a:lnTo>
                <a:lnTo>
                  <a:pt x="46" y="88"/>
                </a:lnTo>
                <a:lnTo>
                  <a:pt x="49" y="87"/>
                </a:lnTo>
                <a:lnTo>
                  <a:pt x="54" y="86"/>
                </a:lnTo>
                <a:lnTo>
                  <a:pt x="57" y="84"/>
                </a:lnTo>
                <a:lnTo>
                  <a:pt x="65" y="83"/>
                </a:lnTo>
                <a:lnTo>
                  <a:pt x="72" y="81"/>
                </a:lnTo>
                <a:lnTo>
                  <a:pt x="78" y="78"/>
                </a:lnTo>
                <a:lnTo>
                  <a:pt x="84" y="77"/>
                </a:lnTo>
                <a:lnTo>
                  <a:pt x="89" y="75"/>
                </a:lnTo>
                <a:lnTo>
                  <a:pt x="94" y="72"/>
                </a:lnTo>
                <a:lnTo>
                  <a:pt x="98" y="71"/>
                </a:lnTo>
                <a:lnTo>
                  <a:pt x="102" y="68"/>
                </a:lnTo>
                <a:lnTo>
                  <a:pt x="102" y="67"/>
                </a:lnTo>
                <a:lnTo>
                  <a:pt x="102" y="66"/>
                </a:lnTo>
                <a:lnTo>
                  <a:pt x="102" y="65"/>
                </a:lnTo>
                <a:lnTo>
                  <a:pt x="102" y="63"/>
                </a:lnTo>
                <a:lnTo>
                  <a:pt x="101" y="62"/>
                </a:lnTo>
                <a:lnTo>
                  <a:pt x="101" y="62"/>
                </a:lnTo>
                <a:lnTo>
                  <a:pt x="101" y="61"/>
                </a:lnTo>
                <a:lnTo>
                  <a:pt x="101" y="61"/>
                </a:lnTo>
                <a:lnTo>
                  <a:pt x="101" y="56"/>
                </a:lnTo>
                <a:lnTo>
                  <a:pt x="100" y="51"/>
                </a:lnTo>
                <a:lnTo>
                  <a:pt x="99" y="47"/>
                </a:lnTo>
                <a:lnTo>
                  <a:pt x="98" y="45"/>
                </a:lnTo>
                <a:lnTo>
                  <a:pt x="97" y="41"/>
                </a:lnTo>
                <a:lnTo>
                  <a:pt x="96" y="38"/>
                </a:lnTo>
                <a:lnTo>
                  <a:pt x="94" y="36"/>
                </a:lnTo>
                <a:lnTo>
                  <a:pt x="92" y="33"/>
                </a:lnTo>
                <a:lnTo>
                  <a:pt x="89" y="32"/>
                </a:lnTo>
                <a:lnTo>
                  <a:pt x="86" y="30"/>
                </a:lnTo>
                <a:lnTo>
                  <a:pt x="83" y="28"/>
                </a:lnTo>
                <a:lnTo>
                  <a:pt x="79" y="27"/>
                </a:lnTo>
                <a:lnTo>
                  <a:pt x="76" y="27"/>
                </a:lnTo>
                <a:lnTo>
                  <a:pt x="71" y="26"/>
                </a:lnTo>
                <a:lnTo>
                  <a:pt x="67" y="26"/>
                </a:lnTo>
                <a:lnTo>
                  <a:pt x="62" y="27"/>
                </a:lnTo>
                <a:lnTo>
                  <a:pt x="58" y="27"/>
                </a:lnTo>
                <a:lnTo>
                  <a:pt x="54" y="28"/>
                </a:lnTo>
                <a:lnTo>
                  <a:pt x="49" y="30"/>
                </a:lnTo>
                <a:lnTo>
                  <a:pt x="46" y="30"/>
                </a:lnTo>
                <a:lnTo>
                  <a:pt x="43" y="32"/>
                </a:lnTo>
                <a:lnTo>
                  <a:pt x="40" y="33"/>
                </a:lnTo>
                <a:lnTo>
                  <a:pt x="38" y="36"/>
                </a:lnTo>
                <a:lnTo>
                  <a:pt x="36" y="37"/>
                </a:lnTo>
                <a:lnTo>
                  <a:pt x="34" y="40"/>
                </a:lnTo>
                <a:lnTo>
                  <a:pt x="32" y="42"/>
                </a:lnTo>
                <a:lnTo>
                  <a:pt x="30" y="46"/>
                </a:lnTo>
                <a:lnTo>
                  <a:pt x="29" y="50"/>
                </a:lnTo>
                <a:lnTo>
                  <a:pt x="28" y="53"/>
                </a:lnTo>
                <a:lnTo>
                  <a:pt x="27" y="57"/>
                </a:lnTo>
                <a:lnTo>
                  <a:pt x="26" y="62"/>
                </a:lnTo>
                <a:lnTo>
                  <a:pt x="25" y="67"/>
                </a:lnTo>
                <a:lnTo>
                  <a:pt x="0" y="65"/>
                </a:lnTo>
                <a:lnTo>
                  <a:pt x="0" y="61"/>
                </a:lnTo>
                <a:lnTo>
                  <a:pt x="1" y="56"/>
                </a:lnTo>
                <a:lnTo>
                  <a:pt x="2" y="51"/>
                </a:lnTo>
                <a:lnTo>
                  <a:pt x="3" y="47"/>
                </a:lnTo>
                <a:lnTo>
                  <a:pt x="4" y="42"/>
                </a:lnTo>
                <a:lnTo>
                  <a:pt x="6" y="38"/>
                </a:lnTo>
                <a:lnTo>
                  <a:pt x="7" y="35"/>
                </a:lnTo>
                <a:lnTo>
                  <a:pt x="9" y="32"/>
                </a:lnTo>
                <a:lnTo>
                  <a:pt x="10" y="28"/>
                </a:lnTo>
                <a:lnTo>
                  <a:pt x="13" y="26"/>
                </a:lnTo>
                <a:lnTo>
                  <a:pt x="15" y="22"/>
                </a:lnTo>
                <a:lnTo>
                  <a:pt x="17" y="20"/>
                </a:lnTo>
                <a:lnTo>
                  <a:pt x="20" y="17"/>
                </a:lnTo>
                <a:lnTo>
                  <a:pt x="23" y="15"/>
                </a:lnTo>
                <a:lnTo>
                  <a:pt x="26" y="12"/>
                </a:lnTo>
                <a:lnTo>
                  <a:pt x="30" y="11"/>
                </a:lnTo>
                <a:lnTo>
                  <a:pt x="33" y="8"/>
                </a:lnTo>
                <a:lnTo>
                  <a:pt x="37" y="7"/>
                </a:lnTo>
                <a:lnTo>
                  <a:pt x="41" y="5"/>
                </a:lnTo>
                <a:lnTo>
                  <a:pt x="45" y="3"/>
                </a:lnTo>
                <a:lnTo>
                  <a:pt x="49" y="2"/>
                </a:lnTo>
                <a:lnTo>
                  <a:pt x="55" y="1"/>
                </a:lnTo>
                <a:lnTo>
                  <a:pt x="59" y="1"/>
                </a:lnTo>
                <a:lnTo>
                  <a:pt x="64" y="0"/>
                </a:lnTo>
                <a:lnTo>
                  <a:pt x="69" y="0"/>
                </a:lnTo>
                <a:lnTo>
                  <a:pt x="73" y="0"/>
                </a:lnTo>
                <a:lnTo>
                  <a:pt x="78" y="0"/>
                </a:lnTo>
                <a:lnTo>
                  <a:pt x="82" y="0"/>
                </a:lnTo>
                <a:lnTo>
                  <a:pt x="85" y="0"/>
                </a:lnTo>
                <a:lnTo>
                  <a:pt x="89" y="0"/>
                </a:lnTo>
                <a:lnTo>
                  <a:pt x="93" y="1"/>
                </a:lnTo>
                <a:lnTo>
                  <a:pt x="96" y="2"/>
                </a:lnTo>
                <a:lnTo>
                  <a:pt x="99" y="3"/>
                </a:lnTo>
                <a:lnTo>
                  <a:pt x="102" y="5"/>
                </a:lnTo>
                <a:lnTo>
                  <a:pt x="104" y="6"/>
                </a:lnTo>
                <a:lnTo>
                  <a:pt x="107" y="7"/>
                </a:lnTo>
                <a:lnTo>
                  <a:pt x="109" y="8"/>
                </a:lnTo>
                <a:lnTo>
                  <a:pt x="111" y="11"/>
                </a:lnTo>
                <a:lnTo>
                  <a:pt x="113" y="12"/>
                </a:lnTo>
                <a:lnTo>
                  <a:pt x="114" y="13"/>
                </a:lnTo>
                <a:lnTo>
                  <a:pt x="116" y="16"/>
                </a:lnTo>
                <a:lnTo>
                  <a:pt x="117" y="18"/>
                </a:lnTo>
                <a:lnTo>
                  <a:pt x="119" y="21"/>
                </a:lnTo>
                <a:lnTo>
                  <a:pt x="120" y="23"/>
                </a:lnTo>
                <a:lnTo>
                  <a:pt x="121" y="26"/>
                </a:lnTo>
                <a:lnTo>
                  <a:pt x="122" y="28"/>
                </a:lnTo>
                <a:lnTo>
                  <a:pt x="124" y="32"/>
                </a:lnTo>
                <a:lnTo>
                  <a:pt x="125" y="35"/>
                </a:lnTo>
                <a:lnTo>
                  <a:pt x="125" y="37"/>
                </a:lnTo>
                <a:lnTo>
                  <a:pt x="126" y="40"/>
                </a:lnTo>
                <a:lnTo>
                  <a:pt x="126" y="42"/>
                </a:lnTo>
                <a:lnTo>
                  <a:pt x="127" y="46"/>
                </a:lnTo>
                <a:lnTo>
                  <a:pt x="127" y="50"/>
                </a:lnTo>
                <a:lnTo>
                  <a:pt x="128" y="55"/>
                </a:lnTo>
                <a:lnTo>
                  <a:pt x="128" y="58"/>
                </a:lnTo>
                <a:lnTo>
                  <a:pt x="128" y="63"/>
                </a:lnTo>
                <a:lnTo>
                  <a:pt x="131" y="106"/>
                </a:lnTo>
                <a:lnTo>
                  <a:pt x="132" y="117"/>
                </a:lnTo>
                <a:lnTo>
                  <a:pt x="133" y="126"/>
                </a:lnTo>
                <a:lnTo>
                  <a:pt x="134" y="134"/>
                </a:lnTo>
                <a:lnTo>
                  <a:pt x="135" y="142"/>
                </a:lnTo>
                <a:lnTo>
                  <a:pt x="135" y="148"/>
                </a:lnTo>
                <a:lnTo>
                  <a:pt x="136" y="154"/>
                </a:lnTo>
                <a:lnTo>
                  <a:pt x="137" y="158"/>
                </a:lnTo>
                <a:lnTo>
                  <a:pt x="137" y="162"/>
                </a:lnTo>
                <a:lnTo>
                  <a:pt x="138" y="164"/>
                </a:lnTo>
                <a:lnTo>
                  <a:pt x="139" y="167"/>
                </a:lnTo>
                <a:lnTo>
                  <a:pt x="140" y="171"/>
                </a:lnTo>
                <a:lnTo>
                  <a:pt x="140" y="173"/>
                </a:lnTo>
                <a:lnTo>
                  <a:pt x="142" y="176"/>
                </a:lnTo>
                <a:lnTo>
                  <a:pt x="143" y="178"/>
                </a:lnTo>
                <a:lnTo>
                  <a:pt x="144" y="181"/>
                </a:lnTo>
                <a:lnTo>
                  <a:pt x="145" y="183"/>
                </a:lnTo>
                <a:lnTo>
                  <a:pt x="118" y="187"/>
                </a:lnTo>
                <a:lnTo>
                  <a:pt x="117" y="184"/>
                </a:lnTo>
                <a:lnTo>
                  <a:pt x="116" y="182"/>
                </a:lnTo>
                <a:lnTo>
                  <a:pt x="115" y="179"/>
                </a:lnTo>
                <a:lnTo>
                  <a:pt x="114" y="176"/>
                </a:lnTo>
                <a:lnTo>
                  <a:pt x="113" y="173"/>
                </a:lnTo>
                <a:lnTo>
                  <a:pt x="112" y="171"/>
                </a:lnTo>
                <a:lnTo>
                  <a:pt x="112" y="167"/>
                </a:lnTo>
                <a:lnTo>
                  <a:pt x="111" y="164"/>
                </a:lnTo>
                <a:close/>
                <a:moveTo>
                  <a:pt x="104" y="93"/>
                </a:moveTo>
                <a:lnTo>
                  <a:pt x="100" y="96"/>
                </a:lnTo>
                <a:lnTo>
                  <a:pt x="96" y="98"/>
                </a:lnTo>
                <a:lnTo>
                  <a:pt x="92" y="99"/>
                </a:lnTo>
                <a:lnTo>
                  <a:pt x="87" y="102"/>
                </a:lnTo>
                <a:lnTo>
                  <a:pt x="82" y="104"/>
                </a:lnTo>
                <a:lnTo>
                  <a:pt x="76" y="106"/>
                </a:lnTo>
                <a:lnTo>
                  <a:pt x="70" y="108"/>
                </a:lnTo>
                <a:lnTo>
                  <a:pt x="63" y="111"/>
                </a:lnTo>
                <a:lnTo>
                  <a:pt x="59" y="111"/>
                </a:lnTo>
                <a:lnTo>
                  <a:pt x="56" y="112"/>
                </a:lnTo>
                <a:lnTo>
                  <a:pt x="53" y="113"/>
                </a:lnTo>
                <a:lnTo>
                  <a:pt x="49" y="114"/>
                </a:lnTo>
                <a:lnTo>
                  <a:pt x="46" y="116"/>
                </a:lnTo>
                <a:lnTo>
                  <a:pt x="44" y="117"/>
                </a:lnTo>
                <a:lnTo>
                  <a:pt x="42" y="118"/>
                </a:lnTo>
                <a:lnTo>
                  <a:pt x="40" y="119"/>
                </a:lnTo>
                <a:lnTo>
                  <a:pt x="39" y="121"/>
                </a:lnTo>
                <a:lnTo>
                  <a:pt x="37" y="122"/>
                </a:lnTo>
                <a:lnTo>
                  <a:pt x="36" y="123"/>
                </a:lnTo>
                <a:lnTo>
                  <a:pt x="35" y="124"/>
                </a:lnTo>
                <a:lnTo>
                  <a:pt x="34" y="126"/>
                </a:lnTo>
                <a:lnTo>
                  <a:pt x="33" y="127"/>
                </a:lnTo>
                <a:lnTo>
                  <a:pt x="32" y="128"/>
                </a:lnTo>
                <a:lnTo>
                  <a:pt x="31" y="131"/>
                </a:lnTo>
                <a:lnTo>
                  <a:pt x="30" y="132"/>
                </a:lnTo>
                <a:lnTo>
                  <a:pt x="30" y="134"/>
                </a:lnTo>
                <a:lnTo>
                  <a:pt x="29" y="136"/>
                </a:lnTo>
                <a:lnTo>
                  <a:pt x="29" y="138"/>
                </a:lnTo>
                <a:lnTo>
                  <a:pt x="29" y="139"/>
                </a:lnTo>
                <a:lnTo>
                  <a:pt x="29" y="142"/>
                </a:lnTo>
                <a:lnTo>
                  <a:pt x="29" y="144"/>
                </a:lnTo>
                <a:lnTo>
                  <a:pt x="29" y="146"/>
                </a:lnTo>
                <a:lnTo>
                  <a:pt x="29" y="149"/>
                </a:lnTo>
                <a:lnTo>
                  <a:pt x="30" y="152"/>
                </a:lnTo>
                <a:lnTo>
                  <a:pt x="30" y="154"/>
                </a:lnTo>
                <a:lnTo>
                  <a:pt x="32" y="157"/>
                </a:lnTo>
                <a:lnTo>
                  <a:pt x="33" y="159"/>
                </a:lnTo>
                <a:lnTo>
                  <a:pt x="34" y="162"/>
                </a:lnTo>
                <a:lnTo>
                  <a:pt x="36" y="164"/>
                </a:lnTo>
                <a:lnTo>
                  <a:pt x="38" y="166"/>
                </a:lnTo>
                <a:lnTo>
                  <a:pt x="40" y="168"/>
                </a:lnTo>
                <a:lnTo>
                  <a:pt x="43" y="169"/>
                </a:lnTo>
                <a:lnTo>
                  <a:pt x="45" y="171"/>
                </a:lnTo>
                <a:lnTo>
                  <a:pt x="48" y="172"/>
                </a:lnTo>
                <a:lnTo>
                  <a:pt x="52" y="172"/>
                </a:lnTo>
                <a:lnTo>
                  <a:pt x="55" y="172"/>
                </a:lnTo>
                <a:lnTo>
                  <a:pt x="58" y="172"/>
                </a:lnTo>
                <a:lnTo>
                  <a:pt x="62" y="172"/>
                </a:lnTo>
                <a:lnTo>
                  <a:pt x="66" y="172"/>
                </a:lnTo>
                <a:lnTo>
                  <a:pt x="69" y="171"/>
                </a:lnTo>
                <a:lnTo>
                  <a:pt x="73" y="169"/>
                </a:lnTo>
                <a:lnTo>
                  <a:pt x="76" y="168"/>
                </a:lnTo>
                <a:lnTo>
                  <a:pt x="79" y="167"/>
                </a:lnTo>
                <a:lnTo>
                  <a:pt x="82" y="166"/>
                </a:lnTo>
                <a:lnTo>
                  <a:pt x="85" y="163"/>
                </a:lnTo>
                <a:lnTo>
                  <a:pt x="88" y="161"/>
                </a:lnTo>
                <a:lnTo>
                  <a:pt x="90" y="158"/>
                </a:lnTo>
                <a:lnTo>
                  <a:pt x="93" y="156"/>
                </a:lnTo>
                <a:lnTo>
                  <a:pt x="95" y="153"/>
                </a:lnTo>
                <a:lnTo>
                  <a:pt x="97" y="151"/>
                </a:lnTo>
                <a:lnTo>
                  <a:pt x="99" y="147"/>
                </a:lnTo>
                <a:lnTo>
                  <a:pt x="100" y="144"/>
                </a:lnTo>
                <a:lnTo>
                  <a:pt x="102" y="141"/>
                </a:lnTo>
                <a:lnTo>
                  <a:pt x="103" y="137"/>
                </a:lnTo>
                <a:lnTo>
                  <a:pt x="104" y="134"/>
                </a:lnTo>
                <a:lnTo>
                  <a:pt x="104" y="131"/>
                </a:lnTo>
                <a:lnTo>
                  <a:pt x="105" y="127"/>
                </a:lnTo>
                <a:lnTo>
                  <a:pt x="105" y="123"/>
                </a:lnTo>
                <a:lnTo>
                  <a:pt x="105" y="119"/>
                </a:lnTo>
                <a:lnTo>
                  <a:pt x="105" y="114"/>
                </a:lnTo>
                <a:lnTo>
                  <a:pt x="105" y="111"/>
                </a:lnTo>
                <a:lnTo>
                  <a:pt x="105" y="104"/>
                </a:lnTo>
                <a:lnTo>
                  <a:pt x="104" y="9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7720" y="2397240"/>
            <a:ext cx="106200" cy="106200"/>
          </a:xfrm>
          <a:custGeom>
            <a:avLst/>
            <a:gdLst/>
            <a:ahLst/>
            <a:rect l="l" t="t" r="r" b="b"/>
            <a:pathLst>
              <a:path w="202" h="268">
                <a:moveTo>
                  <a:pt x="108" y="162"/>
                </a:moveTo>
                <a:lnTo>
                  <a:pt x="106" y="132"/>
                </a:lnTo>
                <a:lnTo>
                  <a:pt x="195" y="122"/>
                </a:lnTo>
                <a:lnTo>
                  <a:pt x="202" y="217"/>
                </a:lnTo>
                <a:lnTo>
                  <a:pt x="197" y="223"/>
                </a:lnTo>
                <a:lnTo>
                  <a:pt x="192" y="228"/>
                </a:lnTo>
                <a:lnTo>
                  <a:pt x="188" y="233"/>
                </a:lnTo>
                <a:lnTo>
                  <a:pt x="183" y="237"/>
                </a:lnTo>
                <a:lnTo>
                  <a:pt x="178" y="242"/>
                </a:lnTo>
                <a:lnTo>
                  <a:pt x="173" y="246"/>
                </a:lnTo>
                <a:lnTo>
                  <a:pt x="167" y="250"/>
                </a:lnTo>
                <a:lnTo>
                  <a:pt x="161" y="252"/>
                </a:lnTo>
                <a:lnTo>
                  <a:pt x="156" y="256"/>
                </a:lnTo>
                <a:lnTo>
                  <a:pt x="151" y="258"/>
                </a:lnTo>
                <a:lnTo>
                  <a:pt x="146" y="261"/>
                </a:lnTo>
                <a:lnTo>
                  <a:pt x="140" y="262"/>
                </a:lnTo>
                <a:lnTo>
                  <a:pt x="135" y="265"/>
                </a:lnTo>
                <a:lnTo>
                  <a:pt x="129" y="266"/>
                </a:lnTo>
                <a:lnTo>
                  <a:pt x="124" y="267"/>
                </a:lnTo>
                <a:lnTo>
                  <a:pt x="118" y="267"/>
                </a:lnTo>
                <a:lnTo>
                  <a:pt x="111" y="268"/>
                </a:lnTo>
                <a:lnTo>
                  <a:pt x="103" y="268"/>
                </a:lnTo>
                <a:lnTo>
                  <a:pt x="95" y="268"/>
                </a:lnTo>
                <a:lnTo>
                  <a:pt x="88" y="267"/>
                </a:lnTo>
                <a:lnTo>
                  <a:pt x="81" y="266"/>
                </a:lnTo>
                <a:lnTo>
                  <a:pt x="74" y="263"/>
                </a:lnTo>
                <a:lnTo>
                  <a:pt x="67" y="261"/>
                </a:lnTo>
                <a:lnTo>
                  <a:pt x="61" y="257"/>
                </a:lnTo>
                <a:lnTo>
                  <a:pt x="54" y="255"/>
                </a:lnTo>
                <a:lnTo>
                  <a:pt x="48" y="250"/>
                </a:lnTo>
                <a:lnTo>
                  <a:pt x="43" y="246"/>
                </a:lnTo>
                <a:lnTo>
                  <a:pt x="37" y="241"/>
                </a:lnTo>
                <a:lnTo>
                  <a:pt x="32" y="235"/>
                </a:lnTo>
                <a:lnTo>
                  <a:pt x="28" y="228"/>
                </a:lnTo>
                <a:lnTo>
                  <a:pt x="22" y="222"/>
                </a:lnTo>
                <a:lnTo>
                  <a:pt x="19" y="215"/>
                </a:lnTo>
                <a:lnTo>
                  <a:pt x="15" y="207"/>
                </a:lnTo>
                <a:lnTo>
                  <a:pt x="12" y="200"/>
                </a:lnTo>
                <a:lnTo>
                  <a:pt x="9" y="192"/>
                </a:lnTo>
                <a:lnTo>
                  <a:pt x="7" y="184"/>
                </a:lnTo>
                <a:lnTo>
                  <a:pt x="5" y="175"/>
                </a:lnTo>
                <a:lnTo>
                  <a:pt x="3" y="166"/>
                </a:lnTo>
                <a:lnTo>
                  <a:pt x="2" y="157"/>
                </a:lnTo>
                <a:lnTo>
                  <a:pt x="1" y="147"/>
                </a:lnTo>
                <a:lnTo>
                  <a:pt x="0" y="139"/>
                </a:lnTo>
                <a:lnTo>
                  <a:pt x="0" y="129"/>
                </a:lnTo>
                <a:lnTo>
                  <a:pt x="1" y="120"/>
                </a:lnTo>
                <a:lnTo>
                  <a:pt x="1" y="111"/>
                </a:lnTo>
                <a:lnTo>
                  <a:pt x="2" y="102"/>
                </a:lnTo>
                <a:lnTo>
                  <a:pt x="4" y="94"/>
                </a:lnTo>
                <a:lnTo>
                  <a:pt x="6" y="85"/>
                </a:lnTo>
                <a:lnTo>
                  <a:pt x="8" y="76"/>
                </a:lnTo>
                <a:lnTo>
                  <a:pt x="11" y="67"/>
                </a:lnTo>
                <a:lnTo>
                  <a:pt x="14" y="60"/>
                </a:lnTo>
                <a:lnTo>
                  <a:pt x="18" y="52"/>
                </a:lnTo>
                <a:lnTo>
                  <a:pt x="21" y="46"/>
                </a:lnTo>
                <a:lnTo>
                  <a:pt x="27" y="39"/>
                </a:lnTo>
                <a:lnTo>
                  <a:pt x="31" y="34"/>
                </a:lnTo>
                <a:lnTo>
                  <a:pt x="36" y="28"/>
                </a:lnTo>
                <a:lnTo>
                  <a:pt x="42" y="24"/>
                </a:lnTo>
                <a:lnTo>
                  <a:pt x="48" y="19"/>
                </a:lnTo>
                <a:lnTo>
                  <a:pt x="54" y="15"/>
                </a:lnTo>
                <a:lnTo>
                  <a:pt x="60" y="11"/>
                </a:lnTo>
                <a:lnTo>
                  <a:pt x="67" y="9"/>
                </a:lnTo>
                <a:lnTo>
                  <a:pt x="73" y="6"/>
                </a:lnTo>
                <a:lnTo>
                  <a:pt x="80" y="4"/>
                </a:lnTo>
                <a:lnTo>
                  <a:pt x="88" y="3"/>
                </a:lnTo>
                <a:lnTo>
                  <a:pt x="95" y="1"/>
                </a:lnTo>
                <a:lnTo>
                  <a:pt x="102" y="0"/>
                </a:lnTo>
                <a:lnTo>
                  <a:pt x="107" y="0"/>
                </a:lnTo>
                <a:lnTo>
                  <a:pt x="113" y="0"/>
                </a:lnTo>
                <a:lnTo>
                  <a:pt x="118" y="1"/>
                </a:lnTo>
                <a:lnTo>
                  <a:pt x="123" y="1"/>
                </a:lnTo>
                <a:lnTo>
                  <a:pt x="128" y="3"/>
                </a:lnTo>
                <a:lnTo>
                  <a:pt x="133" y="4"/>
                </a:lnTo>
                <a:lnTo>
                  <a:pt x="138" y="5"/>
                </a:lnTo>
                <a:lnTo>
                  <a:pt x="142" y="8"/>
                </a:lnTo>
                <a:lnTo>
                  <a:pt x="146" y="10"/>
                </a:lnTo>
                <a:lnTo>
                  <a:pt x="151" y="11"/>
                </a:lnTo>
                <a:lnTo>
                  <a:pt x="155" y="15"/>
                </a:lnTo>
                <a:lnTo>
                  <a:pt x="158" y="18"/>
                </a:lnTo>
                <a:lnTo>
                  <a:pt x="162" y="20"/>
                </a:lnTo>
                <a:lnTo>
                  <a:pt x="165" y="24"/>
                </a:lnTo>
                <a:lnTo>
                  <a:pt x="168" y="28"/>
                </a:lnTo>
                <a:lnTo>
                  <a:pt x="172" y="31"/>
                </a:lnTo>
                <a:lnTo>
                  <a:pt x="174" y="36"/>
                </a:lnTo>
                <a:lnTo>
                  <a:pt x="177" y="40"/>
                </a:lnTo>
                <a:lnTo>
                  <a:pt x="179" y="45"/>
                </a:lnTo>
                <a:lnTo>
                  <a:pt x="182" y="50"/>
                </a:lnTo>
                <a:lnTo>
                  <a:pt x="184" y="56"/>
                </a:lnTo>
                <a:lnTo>
                  <a:pt x="186" y="61"/>
                </a:lnTo>
                <a:lnTo>
                  <a:pt x="188" y="67"/>
                </a:lnTo>
                <a:lnTo>
                  <a:pt x="163" y="79"/>
                </a:lnTo>
                <a:lnTo>
                  <a:pt x="161" y="75"/>
                </a:lnTo>
                <a:lnTo>
                  <a:pt x="159" y="70"/>
                </a:lnTo>
                <a:lnTo>
                  <a:pt x="158" y="66"/>
                </a:lnTo>
                <a:lnTo>
                  <a:pt x="156" y="62"/>
                </a:lnTo>
                <a:lnTo>
                  <a:pt x="154" y="59"/>
                </a:lnTo>
                <a:lnTo>
                  <a:pt x="152" y="55"/>
                </a:lnTo>
                <a:lnTo>
                  <a:pt x="151" y="52"/>
                </a:lnTo>
                <a:lnTo>
                  <a:pt x="149" y="50"/>
                </a:lnTo>
                <a:lnTo>
                  <a:pt x="147" y="47"/>
                </a:lnTo>
                <a:lnTo>
                  <a:pt x="144" y="45"/>
                </a:lnTo>
                <a:lnTo>
                  <a:pt x="142" y="43"/>
                </a:lnTo>
                <a:lnTo>
                  <a:pt x="140" y="40"/>
                </a:lnTo>
                <a:lnTo>
                  <a:pt x="137" y="39"/>
                </a:lnTo>
                <a:lnTo>
                  <a:pt x="134" y="36"/>
                </a:lnTo>
                <a:lnTo>
                  <a:pt x="131" y="35"/>
                </a:lnTo>
                <a:lnTo>
                  <a:pt x="128" y="34"/>
                </a:lnTo>
                <a:lnTo>
                  <a:pt x="124" y="33"/>
                </a:lnTo>
                <a:lnTo>
                  <a:pt x="121" y="31"/>
                </a:lnTo>
                <a:lnTo>
                  <a:pt x="117" y="31"/>
                </a:lnTo>
                <a:lnTo>
                  <a:pt x="114" y="30"/>
                </a:lnTo>
                <a:lnTo>
                  <a:pt x="110" y="30"/>
                </a:lnTo>
                <a:lnTo>
                  <a:pt x="106" y="30"/>
                </a:lnTo>
                <a:lnTo>
                  <a:pt x="103" y="30"/>
                </a:lnTo>
                <a:lnTo>
                  <a:pt x="99" y="30"/>
                </a:lnTo>
                <a:lnTo>
                  <a:pt x="93" y="31"/>
                </a:lnTo>
                <a:lnTo>
                  <a:pt x="89" y="31"/>
                </a:lnTo>
                <a:lnTo>
                  <a:pt x="84" y="33"/>
                </a:lnTo>
                <a:lnTo>
                  <a:pt x="80" y="34"/>
                </a:lnTo>
                <a:lnTo>
                  <a:pt x="76" y="35"/>
                </a:lnTo>
                <a:lnTo>
                  <a:pt x="73" y="38"/>
                </a:lnTo>
                <a:lnTo>
                  <a:pt x="69" y="39"/>
                </a:lnTo>
                <a:lnTo>
                  <a:pt x="66" y="41"/>
                </a:lnTo>
                <a:lnTo>
                  <a:pt x="63" y="44"/>
                </a:lnTo>
                <a:lnTo>
                  <a:pt x="60" y="46"/>
                </a:lnTo>
                <a:lnTo>
                  <a:pt x="57" y="49"/>
                </a:lnTo>
                <a:lnTo>
                  <a:pt x="54" y="51"/>
                </a:lnTo>
                <a:lnTo>
                  <a:pt x="51" y="54"/>
                </a:lnTo>
                <a:lnTo>
                  <a:pt x="49" y="56"/>
                </a:lnTo>
                <a:lnTo>
                  <a:pt x="47" y="60"/>
                </a:lnTo>
                <a:lnTo>
                  <a:pt x="45" y="62"/>
                </a:lnTo>
                <a:lnTo>
                  <a:pt x="43" y="66"/>
                </a:lnTo>
                <a:lnTo>
                  <a:pt x="42" y="69"/>
                </a:lnTo>
                <a:lnTo>
                  <a:pt x="40" y="72"/>
                </a:lnTo>
                <a:lnTo>
                  <a:pt x="38" y="75"/>
                </a:lnTo>
                <a:lnTo>
                  <a:pt x="37" y="79"/>
                </a:lnTo>
                <a:lnTo>
                  <a:pt x="36" y="82"/>
                </a:lnTo>
                <a:lnTo>
                  <a:pt x="35" y="86"/>
                </a:lnTo>
                <a:lnTo>
                  <a:pt x="34" y="90"/>
                </a:lnTo>
                <a:lnTo>
                  <a:pt x="32" y="96"/>
                </a:lnTo>
                <a:lnTo>
                  <a:pt x="31" y="102"/>
                </a:lnTo>
                <a:lnTo>
                  <a:pt x="30" y="109"/>
                </a:lnTo>
                <a:lnTo>
                  <a:pt x="30" y="115"/>
                </a:lnTo>
                <a:lnTo>
                  <a:pt x="29" y="122"/>
                </a:lnTo>
                <a:lnTo>
                  <a:pt x="29" y="129"/>
                </a:lnTo>
                <a:lnTo>
                  <a:pt x="29" y="135"/>
                </a:lnTo>
                <a:lnTo>
                  <a:pt x="30" y="142"/>
                </a:lnTo>
                <a:lnTo>
                  <a:pt x="31" y="151"/>
                </a:lnTo>
                <a:lnTo>
                  <a:pt x="32" y="159"/>
                </a:lnTo>
                <a:lnTo>
                  <a:pt x="33" y="166"/>
                </a:lnTo>
                <a:lnTo>
                  <a:pt x="35" y="174"/>
                </a:lnTo>
                <a:lnTo>
                  <a:pt x="36" y="181"/>
                </a:lnTo>
                <a:lnTo>
                  <a:pt x="39" y="187"/>
                </a:lnTo>
                <a:lnTo>
                  <a:pt x="41" y="193"/>
                </a:lnTo>
                <a:lnTo>
                  <a:pt x="44" y="198"/>
                </a:lnTo>
                <a:lnTo>
                  <a:pt x="47" y="205"/>
                </a:lnTo>
                <a:lnTo>
                  <a:pt x="50" y="210"/>
                </a:lnTo>
                <a:lnTo>
                  <a:pt x="53" y="213"/>
                </a:lnTo>
                <a:lnTo>
                  <a:pt x="57" y="217"/>
                </a:lnTo>
                <a:lnTo>
                  <a:pt x="61" y="221"/>
                </a:lnTo>
                <a:lnTo>
                  <a:pt x="65" y="225"/>
                </a:lnTo>
                <a:lnTo>
                  <a:pt x="69" y="227"/>
                </a:lnTo>
                <a:lnTo>
                  <a:pt x="74" y="230"/>
                </a:lnTo>
                <a:lnTo>
                  <a:pt x="79" y="232"/>
                </a:lnTo>
                <a:lnTo>
                  <a:pt x="83" y="235"/>
                </a:lnTo>
                <a:lnTo>
                  <a:pt x="88" y="236"/>
                </a:lnTo>
                <a:lnTo>
                  <a:pt x="93" y="236"/>
                </a:lnTo>
                <a:lnTo>
                  <a:pt x="99" y="237"/>
                </a:lnTo>
                <a:lnTo>
                  <a:pt x="104" y="237"/>
                </a:lnTo>
                <a:lnTo>
                  <a:pt x="109" y="237"/>
                </a:lnTo>
                <a:lnTo>
                  <a:pt x="114" y="237"/>
                </a:lnTo>
                <a:lnTo>
                  <a:pt x="119" y="236"/>
                </a:lnTo>
                <a:lnTo>
                  <a:pt x="123" y="236"/>
                </a:lnTo>
                <a:lnTo>
                  <a:pt x="127" y="235"/>
                </a:lnTo>
                <a:lnTo>
                  <a:pt x="132" y="233"/>
                </a:lnTo>
                <a:lnTo>
                  <a:pt x="136" y="231"/>
                </a:lnTo>
                <a:lnTo>
                  <a:pt x="140" y="230"/>
                </a:lnTo>
                <a:lnTo>
                  <a:pt x="144" y="227"/>
                </a:lnTo>
                <a:lnTo>
                  <a:pt x="148" y="225"/>
                </a:lnTo>
                <a:lnTo>
                  <a:pt x="152" y="222"/>
                </a:lnTo>
                <a:lnTo>
                  <a:pt x="156" y="220"/>
                </a:lnTo>
                <a:lnTo>
                  <a:pt x="159" y="217"/>
                </a:lnTo>
                <a:lnTo>
                  <a:pt x="163" y="213"/>
                </a:lnTo>
                <a:lnTo>
                  <a:pt x="166" y="211"/>
                </a:lnTo>
                <a:lnTo>
                  <a:pt x="168" y="208"/>
                </a:lnTo>
                <a:lnTo>
                  <a:pt x="172" y="206"/>
                </a:lnTo>
                <a:lnTo>
                  <a:pt x="174" y="203"/>
                </a:lnTo>
                <a:lnTo>
                  <a:pt x="170" y="155"/>
                </a:lnTo>
                <a:lnTo>
                  <a:pt x="108" y="16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76880" y="2387520"/>
            <a:ext cx="109440" cy="108000"/>
          </a:xfrm>
          <a:custGeom>
            <a:avLst/>
            <a:gdLst/>
            <a:ahLst/>
            <a:rect l="l" t="t" r="r" b="b"/>
            <a:pathLst>
              <a:path w="205" h="271">
                <a:moveTo>
                  <a:pt x="20" y="271"/>
                </a:moveTo>
                <a:lnTo>
                  <a:pt x="0" y="12"/>
                </a:lnTo>
                <a:lnTo>
                  <a:pt x="94" y="1"/>
                </a:lnTo>
                <a:lnTo>
                  <a:pt x="101" y="1"/>
                </a:lnTo>
                <a:lnTo>
                  <a:pt x="107" y="1"/>
                </a:lnTo>
                <a:lnTo>
                  <a:pt x="113" y="0"/>
                </a:lnTo>
                <a:lnTo>
                  <a:pt x="118" y="1"/>
                </a:lnTo>
                <a:lnTo>
                  <a:pt x="123" y="1"/>
                </a:lnTo>
                <a:lnTo>
                  <a:pt x="128" y="1"/>
                </a:lnTo>
                <a:lnTo>
                  <a:pt x="133" y="2"/>
                </a:lnTo>
                <a:lnTo>
                  <a:pt x="136" y="4"/>
                </a:lnTo>
                <a:lnTo>
                  <a:pt x="140" y="5"/>
                </a:lnTo>
                <a:lnTo>
                  <a:pt x="144" y="7"/>
                </a:lnTo>
                <a:lnTo>
                  <a:pt x="147" y="10"/>
                </a:lnTo>
                <a:lnTo>
                  <a:pt x="150" y="12"/>
                </a:lnTo>
                <a:lnTo>
                  <a:pt x="153" y="15"/>
                </a:lnTo>
                <a:lnTo>
                  <a:pt x="156" y="19"/>
                </a:lnTo>
                <a:lnTo>
                  <a:pt x="159" y="21"/>
                </a:lnTo>
                <a:lnTo>
                  <a:pt x="162" y="26"/>
                </a:lnTo>
                <a:lnTo>
                  <a:pt x="165" y="30"/>
                </a:lnTo>
                <a:lnTo>
                  <a:pt x="167" y="35"/>
                </a:lnTo>
                <a:lnTo>
                  <a:pt x="169" y="39"/>
                </a:lnTo>
                <a:lnTo>
                  <a:pt x="170" y="44"/>
                </a:lnTo>
                <a:lnTo>
                  <a:pt x="171" y="49"/>
                </a:lnTo>
                <a:lnTo>
                  <a:pt x="172" y="54"/>
                </a:lnTo>
                <a:lnTo>
                  <a:pt x="173" y="59"/>
                </a:lnTo>
                <a:lnTo>
                  <a:pt x="174" y="64"/>
                </a:lnTo>
                <a:lnTo>
                  <a:pt x="174" y="70"/>
                </a:lnTo>
                <a:lnTo>
                  <a:pt x="174" y="77"/>
                </a:lnTo>
                <a:lnTo>
                  <a:pt x="173" y="83"/>
                </a:lnTo>
                <a:lnTo>
                  <a:pt x="172" y="90"/>
                </a:lnTo>
                <a:lnTo>
                  <a:pt x="170" y="95"/>
                </a:lnTo>
                <a:lnTo>
                  <a:pt x="168" y="101"/>
                </a:lnTo>
                <a:lnTo>
                  <a:pt x="166" y="106"/>
                </a:lnTo>
                <a:lnTo>
                  <a:pt x="163" y="111"/>
                </a:lnTo>
                <a:lnTo>
                  <a:pt x="158" y="116"/>
                </a:lnTo>
                <a:lnTo>
                  <a:pt x="154" y="121"/>
                </a:lnTo>
                <a:lnTo>
                  <a:pt x="150" y="125"/>
                </a:lnTo>
                <a:lnTo>
                  <a:pt x="145" y="128"/>
                </a:lnTo>
                <a:lnTo>
                  <a:pt x="139" y="132"/>
                </a:lnTo>
                <a:lnTo>
                  <a:pt x="133" y="136"/>
                </a:lnTo>
                <a:lnTo>
                  <a:pt x="127" y="138"/>
                </a:lnTo>
                <a:lnTo>
                  <a:pt x="120" y="141"/>
                </a:lnTo>
                <a:lnTo>
                  <a:pt x="122" y="142"/>
                </a:lnTo>
                <a:lnTo>
                  <a:pt x="125" y="143"/>
                </a:lnTo>
                <a:lnTo>
                  <a:pt x="127" y="145"/>
                </a:lnTo>
                <a:lnTo>
                  <a:pt x="130" y="146"/>
                </a:lnTo>
                <a:lnTo>
                  <a:pt x="132" y="147"/>
                </a:lnTo>
                <a:lnTo>
                  <a:pt x="134" y="148"/>
                </a:lnTo>
                <a:lnTo>
                  <a:pt x="135" y="150"/>
                </a:lnTo>
                <a:lnTo>
                  <a:pt x="137" y="151"/>
                </a:lnTo>
                <a:lnTo>
                  <a:pt x="140" y="155"/>
                </a:lnTo>
                <a:lnTo>
                  <a:pt x="144" y="158"/>
                </a:lnTo>
                <a:lnTo>
                  <a:pt x="147" y="162"/>
                </a:lnTo>
                <a:lnTo>
                  <a:pt x="150" y="166"/>
                </a:lnTo>
                <a:lnTo>
                  <a:pt x="153" y="170"/>
                </a:lnTo>
                <a:lnTo>
                  <a:pt x="156" y="173"/>
                </a:lnTo>
                <a:lnTo>
                  <a:pt x="159" y="178"/>
                </a:lnTo>
                <a:lnTo>
                  <a:pt x="163" y="183"/>
                </a:lnTo>
                <a:lnTo>
                  <a:pt x="205" y="249"/>
                </a:lnTo>
                <a:lnTo>
                  <a:pt x="170" y="253"/>
                </a:lnTo>
                <a:lnTo>
                  <a:pt x="138" y="202"/>
                </a:lnTo>
                <a:lnTo>
                  <a:pt x="134" y="197"/>
                </a:lnTo>
                <a:lnTo>
                  <a:pt x="131" y="192"/>
                </a:lnTo>
                <a:lnTo>
                  <a:pt x="128" y="188"/>
                </a:lnTo>
                <a:lnTo>
                  <a:pt x="125" y="183"/>
                </a:lnTo>
                <a:lnTo>
                  <a:pt x="123" y="180"/>
                </a:lnTo>
                <a:lnTo>
                  <a:pt x="120" y="176"/>
                </a:lnTo>
                <a:lnTo>
                  <a:pt x="118" y="172"/>
                </a:lnTo>
                <a:lnTo>
                  <a:pt x="115" y="170"/>
                </a:lnTo>
                <a:lnTo>
                  <a:pt x="113" y="167"/>
                </a:lnTo>
                <a:lnTo>
                  <a:pt x="111" y="165"/>
                </a:lnTo>
                <a:lnTo>
                  <a:pt x="109" y="162"/>
                </a:lnTo>
                <a:lnTo>
                  <a:pt x="107" y="160"/>
                </a:lnTo>
                <a:lnTo>
                  <a:pt x="105" y="158"/>
                </a:lnTo>
                <a:lnTo>
                  <a:pt x="104" y="156"/>
                </a:lnTo>
                <a:lnTo>
                  <a:pt x="102" y="155"/>
                </a:lnTo>
                <a:lnTo>
                  <a:pt x="100" y="153"/>
                </a:lnTo>
                <a:lnTo>
                  <a:pt x="99" y="152"/>
                </a:lnTo>
                <a:lnTo>
                  <a:pt x="97" y="152"/>
                </a:lnTo>
                <a:lnTo>
                  <a:pt x="95" y="151"/>
                </a:lnTo>
                <a:lnTo>
                  <a:pt x="94" y="151"/>
                </a:lnTo>
                <a:lnTo>
                  <a:pt x="92" y="150"/>
                </a:lnTo>
                <a:lnTo>
                  <a:pt x="90" y="150"/>
                </a:lnTo>
                <a:lnTo>
                  <a:pt x="89" y="148"/>
                </a:lnTo>
                <a:lnTo>
                  <a:pt x="86" y="148"/>
                </a:lnTo>
                <a:lnTo>
                  <a:pt x="85" y="148"/>
                </a:lnTo>
                <a:lnTo>
                  <a:pt x="84" y="148"/>
                </a:lnTo>
                <a:lnTo>
                  <a:pt x="82" y="148"/>
                </a:lnTo>
                <a:lnTo>
                  <a:pt x="80" y="148"/>
                </a:lnTo>
                <a:lnTo>
                  <a:pt x="78" y="148"/>
                </a:lnTo>
                <a:lnTo>
                  <a:pt x="76" y="148"/>
                </a:lnTo>
                <a:lnTo>
                  <a:pt x="73" y="148"/>
                </a:lnTo>
                <a:lnTo>
                  <a:pt x="71" y="148"/>
                </a:lnTo>
                <a:lnTo>
                  <a:pt x="39" y="152"/>
                </a:lnTo>
                <a:lnTo>
                  <a:pt x="48" y="267"/>
                </a:lnTo>
                <a:lnTo>
                  <a:pt x="20" y="271"/>
                </a:lnTo>
                <a:close/>
                <a:moveTo>
                  <a:pt x="37" y="123"/>
                </a:moveTo>
                <a:lnTo>
                  <a:pt x="97" y="116"/>
                </a:lnTo>
                <a:lnTo>
                  <a:pt x="101" y="116"/>
                </a:lnTo>
                <a:lnTo>
                  <a:pt x="106" y="115"/>
                </a:lnTo>
                <a:lnTo>
                  <a:pt x="110" y="113"/>
                </a:lnTo>
                <a:lnTo>
                  <a:pt x="113" y="113"/>
                </a:lnTo>
                <a:lnTo>
                  <a:pt x="117" y="112"/>
                </a:lnTo>
                <a:lnTo>
                  <a:pt x="120" y="111"/>
                </a:lnTo>
                <a:lnTo>
                  <a:pt x="123" y="110"/>
                </a:lnTo>
                <a:lnTo>
                  <a:pt x="126" y="108"/>
                </a:lnTo>
                <a:lnTo>
                  <a:pt x="128" y="106"/>
                </a:lnTo>
                <a:lnTo>
                  <a:pt x="131" y="105"/>
                </a:lnTo>
                <a:lnTo>
                  <a:pt x="133" y="102"/>
                </a:lnTo>
                <a:lnTo>
                  <a:pt x="135" y="101"/>
                </a:lnTo>
                <a:lnTo>
                  <a:pt x="136" y="98"/>
                </a:lnTo>
                <a:lnTo>
                  <a:pt x="138" y="96"/>
                </a:lnTo>
                <a:lnTo>
                  <a:pt x="139" y="93"/>
                </a:lnTo>
                <a:lnTo>
                  <a:pt x="141" y="91"/>
                </a:lnTo>
                <a:lnTo>
                  <a:pt x="142" y="87"/>
                </a:lnTo>
                <a:lnTo>
                  <a:pt x="143" y="85"/>
                </a:lnTo>
                <a:lnTo>
                  <a:pt x="143" y="82"/>
                </a:lnTo>
                <a:lnTo>
                  <a:pt x="144" y="78"/>
                </a:lnTo>
                <a:lnTo>
                  <a:pt x="144" y="76"/>
                </a:lnTo>
                <a:lnTo>
                  <a:pt x="145" y="73"/>
                </a:lnTo>
                <a:lnTo>
                  <a:pt x="145" y="70"/>
                </a:lnTo>
                <a:lnTo>
                  <a:pt x="145" y="67"/>
                </a:lnTo>
                <a:lnTo>
                  <a:pt x="144" y="62"/>
                </a:lnTo>
                <a:lnTo>
                  <a:pt x="143" y="59"/>
                </a:lnTo>
                <a:lnTo>
                  <a:pt x="142" y="54"/>
                </a:lnTo>
                <a:lnTo>
                  <a:pt x="141" y="50"/>
                </a:lnTo>
                <a:lnTo>
                  <a:pt x="139" y="47"/>
                </a:lnTo>
                <a:lnTo>
                  <a:pt x="137" y="44"/>
                </a:lnTo>
                <a:lnTo>
                  <a:pt x="134" y="41"/>
                </a:lnTo>
                <a:lnTo>
                  <a:pt x="132" y="37"/>
                </a:lnTo>
                <a:lnTo>
                  <a:pt x="129" y="36"/>
                </a:lnTo>
                <a:lnTo>
                  <a:pt x="125" y="34"/>
                </a:lnTo>
                <a:lnTo>
                  <a:pt x="121" y="32"/>
                </a:lnTo>
                <a:lnTo>
                  <a:pt x="117" y="31"/>
                </a:lnTo>
                <a:lnTo>
                  <a:pt x="113" y="30"/>
                </a:lnTo>
                <a:lnTo>
                  <a:pt x="108" y="30"/>
                </a:lnTo>
                <a:lnTo>
                  <a:pt x="103" y="30"/>
                </a:lnTo>
                <a:lnTo>
                  <a:pt x="97" y="30"/>
                </a:lnTo>
                <a:lnTo>
                  <a:pt x="31" y="37"/>
                </a:lnTo>
                <a:lnTo>
                  <a:pt x="37" y="12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87760" y="2379600"/>
            <a:ext cx="103320" cy="108000"/>
          </a:xfrm>
          <a:custGeom>
            <a:avLst/>
            <a:gdLst/>
            <a:ahLst/>
            <a:rect l="l" t="t" r="r" b="b"/>
            <a:pathLst>
              <a:path w="196" h="270">
                <a:moveTo>
                  <a:pt x="0" y="270"/>
                </a:moveTo>
                <a:lnTo>
                  <a:pt x="61" y="3"/>
                </a:lnTo>
                <a:lnTo>
                  <a:pt x="91" y="0"/>
                </a:lnTo>
                <a:lnTo>
                  <a:pt x="196" y="248"/>
                </a:lnTo>
                <a:lnTo>
                  <a:pt x="164" y="252"/>
                </a:lnTo>
                <a:lnTo>
                  <a:pt x="134" y="176"/>
                </a:lnTo>
                <a:lnTo>
                  <a:pt x="47" y="186"/>
                </a:lnTo>
                <a:lnTo>
                  <a:pt x="30" y="267"/>
                </a:lnTo>
                <a:lnTo>
                  <a:pt x="0" y="270"/>
                </a:lnTo>
                <a:close/>
                <a:moveTo>
                  <a:pt x="53" y="157"/>
                </a:moveTo>
                <a:lnTo>
                  <a:pt x="124" y="149"/>
                </a:lnTo>
                <a:lnTo>
                  <a:pt x="96" y="81"/>
                </a:lnTo>
                <a:lnTo>
                  <a:pt x="93" y="73"/>
                </a:lnTo>
                <a:lnTo>
                  <a:pt x="90" y="66"/>
                </a:lnTo>
                <a:lnTo>
                  <a:pt x="87" y="58"/>
                </a:lnTo>
                <a:lnTo>
                  <a:pt x="85" y="52"/>
                </a:lnTo>
                <a:lnTo>
                  <a:pt x="83" y="46"/>
                </a:lnTo>
                <a:lnTo>
                  <a:pt x="81" y="40"/>
                </a:lnTo>
                <a:lnTo>
                  <a:pt x="79" y="33"/>
                </a:lnTo>
                <a:lnTo>
                  <a:pt x="77" y="28"/>
                </a:lnTo>
                <a:lnTo>
                  <a:pt x="77" y="35"/>
                </a:lnTo>
                <a:lnTo>
                  <a:pt x="76" y="41"/>
                </a:lnTo>
                <a:lnTo>
                  <a:pt x="75" y="47"/>
                </a:lnTo>
                <a:lnTo>
                  <a:pt x="74" y="53"/>
                </a:lnTo>
                <a:lnTo>
                  <a:pt x="73" y="60"/>
                </a:lnTo>
                <a:lnTo>
                  <a:pt x="72" y="67"/>
                </a:lnTo>
                <a:lnTo>
                  <a:pt x="71" y="73"/>
                </a:lnTo>
                <a:lnTo>
                  <a:pt x="70" y="80"/>
                </a:lnTo>
                <a:lnTo>
                  <a:pt x="53" y="1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92520" y="2365200"/>
            <a:ext cx="115920" cy="113040"/>
          </a:xfrm>
          <a:custGeom>
            <a:avLst/>
            <a:gdLst/>
            <a:ahLst/>
            <a:rect l="l" t="t" r="r" b="b"/>
            <a:pathLst>
              <a:path w="220" h="280">
                <a:moveTo>
                  <a:pt x="19" y="280"/>
                </a:moveTo>
                <a:lnTo>
                  <a:pt x="0" y="23"/>
                </a:lnTo>
                <a:lnTo>
                  <a:pt x="41" y="18"/>
                </a:lnTo>
                <a:lnTo>
                  <a:pt x="105" y="196"/>
                </a:lnTo>
                <a:lnTo>
                  <a:pt x="107" y="201"/>
                </a:lnTo>
                <a:lnTo>
                  <a:pt x="109" y="207"/>
                </a:lnTo>
                <a:lnTo>
                  <a:pt x="111" y="212"/>
                </a:lnTo>
                <a:lnTo>
                  <a:pt x="112" y="217"/>
                </a:lnTo>
                <a:lnTo>
                  <a:pt x="114" y="222"/>
                </a:lnTo>
                <a:lnTo>
                  <a:pt x="115" y="226"/>
                </a:lnTo>
                <a:lnTo>
                  <a:pt x="117" y="229"/>
                </a:lnTo>
                <a:lnTo>
                  <a:pt x="119" y="232"/>
                </a:lnTo>
                <a:lnTo>
                  <a:pt x="119" y="228"/>
                </a:lnTo>
                <a:lnTo>
                  <a:pt x="120" y="224"/>
                </a:lnTo>
                <a:lnTo>
                  <a:pt x="121" y="219"/>
                </a:lnTo>
                <a:lnTo>
                  <a:pt x="122" y="214"/>
                </a:lnTo>
                <a:lnTo>
                  <a:pt x="123" y="209"/>
                </a:lnTo>
                <a:lnTo>
                  <a:pt x="124" y="203"/>
                </a:lnTo>
                <a:lnTo>
                  <a:pt x="125" y="197"/>
                </a:lnTo>
                <a:lnTo>
                  <a:pt x="127" y="189"/>
                </a:lnTo>
                <a:lnTo>
                  <a:pt x="163" y="5"/>
                </a:lnTo>
                <a:lnTo>
                  <a:pt x="201" y="0"/>
                </a:lnTo>
                <a:lnTo>
                  <a:pt x="220" y="258"/>
                </a:lnTo>
                <a:lnTo>
                  <a:pt x="193" y="262"/>
                </a:lnTo>
                <a:lnTo>
                  <a:pt x="176" y="46"/>
                </a:lnTo>
                <a:lnTo>
                  <a:pt x="132" y="268"/>
                </a:lnTo>
                <a:lnTo>
                  <a:pt x="106" y="270"/>
                </a:lnTo>
                <a:lnTo>
                  <a:pt x="29" y="58"/>
                </a:lnTo>
                <a:lnTo>
                  <a:pt x="47" y="278"/>
                </a:lnTo>
                <a:lnTo>
                  <a:pt x="19" y="28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22840" y="2359080"/>
            <a:ext cx="90360" cy="106200"/>
          </a:xfrm>
          <a:custGeom>
            <a:avLst/>
            <a:gdLst/>
            <a:ahLst/>
            <a:rect l="l" t="t" r="r" b="b"/>
            <a:pathLst>
              <a:path w="169" h="267">
                <a:moveTo>
                  <a:pt x="0" y="190"/>
                </a:moveTo>
                <a:lnTo>
                  <a:pt x="27" y="184"/>
                </a:lnTo>
                <a:lnTo>
                  <a:pt x="28" y="189"/>
                </a:lnTo>
                <a:lnTo>
                  <a:pt x="29" y="194"/>
                </a:lnTo>
                <a:lnTo>
                  <a:pt x="30" y="197"/>
                </a:lnTo>
                <a:lnTo>
                  <a:pt x="31" y="201"/>
                </a:lnTo>
                <a:lnTo>
                  <a:pt x="33" y="205"/>
                </a:lnTo>
                <a:lnTo>
                  <a:pt x="34" y="209"/>
                </a:lnTo>
                <a:lnTo>
                  <a:pt x="36" y="212"/>
                </a:lnTo>
                <a:lnTo>
                  <a:pt x="38" y="215"/>
                </a:lnTo>
                <a:lnTo>
                  <a:pt x="40" y="217"/>
                </a:lnTo>
                <a:lnTo>
                  <a:pt x="42" y="220"/>
                </a:lnTo>
                <a:lnTo>
                  <a:pt x="45" y="222"/>
                </a:lnTo>
                <a:lnTo>
                  <a:pt x="47" y="225"/>
                </a:lnTo>
                <a:lnTo>
                  <a:pt x="50" y="227"/>
                </a:lnTo>
                <a:lnTo>
                  <a:pt x="53" y="229"/>
                </a:lnTo>
                <a:lnTo>
                  <a:pt x="57" y="231"/>
                </a:lnTo>
                <a:lnTo>
                  <a:pt x="60" y="232"/>
                </a:lnTo>
                <a:lnTo>
                  <a:pt x="64" y="234"/>
                </a:lnTo>
                <a:lnTo>
                  <a:pt x="68" y="235"/>
                </a:lnTo>
                <a:lnTo>
                  <a:pt x="72" y="236"/>
                </a:lnTo>
                <a:lnTo>
                  <a:pt x="76" y="236"/>
                </a:lnTo>
                <a:lnTo>
                  <a:pt x="80" y="237"/>
                </a:lnTo>
                <a:lnTo>
                  <a:pt x="84" y="237"/>
                </a:lnTo>
                <a:lnTo>
                  <a:pt x="89" y="237"/>
                </a:lnTo>
                <a:lnTo>
                  <a:pt x="93" y="236"/>
                </a:lnTo>
                <a:lnTo>
                  <a:pt x="97" y="236"/>
                </a:lnTo>
                <a:lnTo>
                  <a:pt x="101" y="235"/>
                </a:lnTo>
                <a:lnTo>
                  <a:pt x="105" y="235"/>
                </a:lnTo>
                <a:lnTo>
                  <a:pt x="108" y="234"/>
                </a:lnTo>
                <a:lnTo>
                  <a:pt x="111" y="232"/>
                </a:lnTo>
                <a:lnTo>
                  <a:pt x="115" y="231"/>
                </a:lnTo>
                <a:lnTo>
                  <a:pt x="118" y="230"/>
                </a:lnTo>
                <a:lnTo>
                  <a:pt x="121" y="227"/>
                </a:lnTo>
                <a:lnTo>
                  <a:pt x="123" y="226"/>
                </a:lnTo>
                <a:lnTo>
                  <a:pt x="126" y="224"/>
                </a:lnTo>
                <a:lnTo>
                  <a:pt x="128" y="221"/>
                </a:lnTo>
                <a:lnTo>
                  <a:pt x="131" y="220"/>
                </a:lnTo>
                <a:lnTo>
                  <a:pt x="133" y="217"/>
                </a:lnTo>
                <a:lnTo>
                  <a:pt x="134" y="215"/>
                </a:lnTo>
                <a:lnTo>
                  <a:pt x="136" y="212"/>
                </a:lnTo>
                <a:lnTo>
                  <a:pt x="137" y="210"/>
                </a:lnTo>
                <a:lnTo>
                  <a:pt x="138" y="207"/>
                </a:lnTo>
                <a:lnTo>
                  <a:pt x="139" y="204"/>
                </a:lnTo>
                <a:lnTo>
                  <a:pt x="140" y="201"/>
                </a:lnTo>
                <a:lnTo>
                  <a:pt x="141" y="199"/>
                </a:lnTo>
                <a:lnTo>
                  <a:pt x="141" y="196"/>
                </a:lnTo>
                <a:lnTo>
                  <a:pt x="142" y="192"/>
                </a:lnTo>
                <a:lnTo>
                  <a:pt x="142" y="190"/>
                </a:lnTo>
                <a:lnTo>
                  <a:pt x="141" y="186"/>
                </a:lnTo>
                <a:lnTo>
                  <a:pt x="141" y="184"/>
                </a:lnTo>
                <a:lnTo>
                  <a:pt x="141" y="181"/>
                </a:lnTo>
                <a:lnTo>
                  <a:pt x="140" y="179"/>
                </a:lnTo>
                <a:lnTo>
                  <a:pt x="139" y="175"/>
                </a:lnTo>
                <a:lnTo>
                  <a:pt x="138" y="172"/>
                </a:lnTo>
                <a:lnTo>
                  <a:pt x="137" y="171"/>
                </a:lnTo>
                <a:lnTo>
                  <a:pt x="136" y="169"/>
                </a:lnTo>
                <a:lnTo>
                  <a:pt x="134" y="166"/>
                </a:lnTo>
                <a:lnTo>
                  <a:pt x="133" y="164"/>
                </a:lnTo>
                <a:lnTo>
                  <a:pt x="131" y="162"/>
                </a:lnTo>
                <a:lnTo>
                  <a:pt x="129" y="160"/>
                </a:lnTo>
                <a:lnTo>
                  <a:pt x="126" y="159"/>
                </a:lnTo>
                <a:lnTo>
                  <a:pt x="124" y="157"/>
                </a:lnTo>
                <a:lnTo>
                  <a:pt x="121" y="156"/>
                </a:lnTo>
                <a:lnTo>
                  <a:pt x="118" y="154"/>
                </a:lnTo>
                <a:lnTo>
                  <a:pt x="115" y="152"/>
                </a:lnTo>
                <a:lnTo>
                  <a:pt x="112" y="152"/>
                </a:lnTo>
                <a:lnTo>
                  <a:pt x="109" y="151"/>
                </a:lnTo>
                <a:lnTo>
                  <a:pt x="105" y="150"/>
                </a:lnTo>
                <a:lnTo>
                  <a:pt x="101" y="150"/>
                </a:lnTo>
                <a:lnTo>
                  <a:pt x="96" y="149"/>
                </a:lnTo>
                <a:lnTo>
                  <a:pt x="90" y="147"/>
                </a:lnTo>
                <a:lnTo>
                  <a:pt x="83" y="146"/>
                </a:lnTo>
                <a:lnTo>
                  <a:pt x="76" y="145"/>
                </a:lnTo>
                <a:lnTo>
                  <a:pt x="69" y="144"/>
                </a:lnTo>
                <a:lnTo>
                  <a:pt x="62" y="142"/>
                </a:lnTo>
                <a:lnTo>
                  <a:pt x="56" y="141"/>
                </a:lnTo>
                <a:lnTo>
                  <a:pt x="51" y="139"/>
                </a:lnTo>
                <a:lnTo>
                  <a:pt x="46" y="138"/>
                </a:lnTo>
                <a:lnTo>
                  <a:pt x="42" y="136"/>
                </a:lnTo>
                <a:lnTo>
                  <a:pt x="38" y="135"/>
                </a:lnTo>
                <a:lnTo>
                  <a:pt x="35" y="134"/>
                </a:lnTo>
                <a:lnTo>
                  <a:pt x="31" y="131"/>
                </a:lnTo>
                <a:lnTo>
                  <a:pt x="27" y="129"/>
                </a:lnTo>
                <a:lnTo>
                  <a:pt x="24" y="126"/>
                </a:lnTo>
                <a:lnTo>
                  <a:pt x="21" y="124"/>
                </a:lnTo>
                <a:lnTo>
                  <a:pt x="18" y="121"/>
                </a:lnTo>
                <a:lnTo>
                  <a:pt x="15" y="119"/>
                </a:lnTo>
                <a:lnTo>
                  <a:pt x="12" y="115"/>
                </a:lnTo>
                <a:lnTo>
                  <a:pt x="10" y="111"/>
                </a:lnTo>
                <a:lnTo>
                  <a:pt x="8" y="109"/>
                </a:lnTo>
                <a:lnTo>
                  <a:pt x="6" y="105"/>
                </a:lnTo>
                <a:lnTo>
                  <a:pt x="5" y="101"/>
                </a:lnTo>
                <a:lnTo>
                  <a:pt x="3" y="98"/>
                </a:lnTo>
                <a:lnTo>
                  <a:pt x="2" y="94"/>
                </a:lnTo>
                <a:lnTo>
                  <a:pt x="1" y="89"/>
                </a:lnTo>
                <a:lnTo>
                  <a:pt x="1" y="85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6"/>
                </a:lnTo>
                <a:lnTo>
                  <a:pt x="1" y="61"/>
                </a:lnTo>
                <a:lnTo>
                  <a:pt x="2" y="56"/>
                </a:lnTo>
                <a:lnTo>
                  <a:pt x="3" y="53"/>
                </a:lnTo>
                <a:lnTo>
                  <a:pt x="5" y="48"/>
                </a:lnTo>
                <a:lnTo>
                  <a:pt x="6" y="43"/>
                </a:lnTo>
                <a:lnTo>
                  <a:pt x="8" y="39"/>
                </a:lnTo>
                <a:lnTo>
                  <a:pt x="11" y="34"/>
                </a:lnTo>
                <a:lnTo>
                  <a:pt x="14" y="30"/>
                </a:lnTo>
                <a:lnTo>
                  <a:pt x="17" y="26"/>
                </a:lnTo>
                <a:lnTo>
                  <a:pt x="20" y="23"/>
                </a:lnTo>
                <a:lnTo>
                  <a:pt x="24" y="20"/>
                </a:lnTo>
                <a:lnTo>
                  <a:pt x="28" y="16"/>
                </a:lnTo>
                <a:lnTo>
                  <a:pt x="31" y="14"/>
                </a:lnTo>
                <a:lnTo>
                  <a:pt x="36" y="11"/>
                </a:lnTo>
                <a:lnTo>
                  <a:pt x="40" y="9"/>
                </a:lnTo>
                <a:lnTo>
                  <a:pt x="44" y="8"/>
                </a:lnTo>
                <a:lnTo>
                  <a:pt x="49" y="5"/>
                </a:lnTo>
                <a:lnTo>
                  <a:pt x="54" y="4"/>
                </a:lnTo>
                <a:lnTo>
                  <a:pt x="59" y="3"/>
                </a:lnTo>
                <a:lnTo>
                  <a:pt x="64" y="1"/>
                </a:lnTo>
                <a:lnTo>
                  <a:pt x="69" y="1"/>
                </a:lnTo>
                <a:lnTo>
                  <a:pt x="74" y="0"/>
                </a:lnTo>
                <a:lnTo>
                  <a:pt x="80" y="0"/>
                </a:lnTo>
                <a:lnTo>
                  <a:pt x="85" y="0"/>
                </a:lnTo>
                <a:lnTo>
                  <a:pt x="92" y="0"/>
                </a:lnTo>
                <a:lnTo>
                  <a:pt x="97" y="1"/>
                </a:lnTo>
                <a:lnTo>
                  <a:pt x="102" y="3"/>
                </a:lnTo>
                <a:lnTo>
                  <a:pt x="106" y="4"/>
                </a:lnTo>
                <a:lnTo>
                  <a:pt x="111" y="5"/>
                </a:lnTo>
                <a:lnTo>
                  <a:pt x="115" y="8"/>
                </a:lnTo>
                <a:lnTo>
                  <a:pt x="120" y="10"/>
                </a:lnTo>
                <a:lnTo>
                  <a:pt x="124" y="13"/>
                </a:lnTo>
                <a:lnTo>
                  <a:pt x="127" y="15"/>
                </a:lnTo>
                <a:lnTo>
                  <a:pt x="131" y="19"/>
                </a:lnTo>
                <a:lnTo>
                  <a:pt x="134" y="21"/>
                </a:lnTo>
                <a:lnTo>
                  <a:pt x="137" y="25"/>
                </a:lnTo>
                <a:lnTo>
                  <a:pt x="140" y="30"/>
                </a:lnTo>
                <a:lnTo>
                  <a:pt x="143" y="34"/>
                </a:lnTo>
                <a:lnTo>
                  <a:pt x="145" y="39"/>
                </a:lnTo>
                <a:lnTo>
                  <a:pt x="147" y="43"/>
                </a:lnTo>
                <a:lnTo>
                  <a:pt x="149" y="48"/>
                </a:lnTo>
                <a:lnTo>
                  <a:pt x="150" y="53"/>
                </a:lnTo>
                <a:lnTo>
                  <a:pt x="151" y="58"/>
                </a:lnTo>
                <a:lnTo>
                  <a:pt x="152" y="64"/>
                </a:lnTo>
                <a:lnTo>
                  <a:pt x="153" y="69"/>
                </a:lnTo>
                <a:lnTo>
                  <a:pt x="127" y="75"/>
                </a:lnTo>
                <a:lnTo>
                  <a:pt x="126" y="69"/>
                </a:lnTo>
                <a:lnTo>
                  <a:pt x="125" y="64"/>
                </a:lnTo>
                <a:lnTo>
                  <a:pt x="123" y="59"/>
                </a:lnTo>
                <a:lnTo>
                  <a:pt x="121" y="54"/>
                </a:lnTo>
                <a:lnTo>
                  <a:pt x="119" y="49"/>
                </a:lnTo>
                <a:lnTo>
                  <a:pt x="116" y="45"/>
                </a:lnTo>
                <a:lnTo>
                  <a:pt x="113" y="43"/>
                </a:lnTo>
                <a:lnTo>
                  <a:pt x="110" y="39"/>
                </a:lnTo>
                <a:lnTo>
                  <a:pt x="107" y="36"/>
                </a:lnTo>
                <a:lnTo>
                  <a:pt x="103" y="35"/>
                </a:lnTo>
                <a:lnTo>
                  <a:pt x="99" y="33"/>
                </a:lnTo>
                <a:lnTo>
                  <a:pt x="94" y="31"/>
                </a:lnTo>
                <a:lnTo>
                  <a:pt x="89" y="31"/>
                </a:lnTo>
                <a:lnTo>
                  <a:pt x="83" y="30"/>
                </a:lnTo>
                <a:lnTo>
                  <a:pt x="78" y="30"/>
                </a:lnTo>
                <a:lnTo>
                  <a:pt x="72" y="31"/>
                </a:lnTo>
                <a:lnTo>
                  <a:pt x="66" y="31"/>
                </a:lnTo>
                <a:lnTo>
                  <a:pt x="61" y="33"/>
                </a:lnTo>
                <a:lnTo>
                  <a:pt x="55" y="34"/>
                </a:lnTo>
                <a:lnTo>
                  <a:pt x="51" y="36"/>
                </a:lnTo>
                <a:lnTo>
                  <a:pt x="47" y="39"/>
                </a:lnTo>
                <a:lnTo>
                  <a:pt x="43" y="40"/>
                </a:lnTo>
                <a:lnTo>
                  <a:pt x="40" y="44"/>
                </a:lnTo>
                <a:lnTo>
                  <a:pt x="37" y="46"/>
                </a:lnTo>
                <a:lnTo>
                  <a:pt x="34" y="50"/>
                </a:lnTo>
                <a:lnTo>
                  <a:pt x="32" y="53"/>
                </a:lnTo>
                <a:lnTo>
                  <a:pt x="31" y="56"/>
                </a:lnTo>
                <a:lnTo>
                  <a:pt x="29" y="60"/>
                </a:lnTo>
                <a:lnTo>
                  <a:pt x="28" y="64"/>
                </a:lnTo>
                <a:lnTo>
                  <a:pt x="28" y="68"/>
                </a:lnTo>
                <a:lnTo>
                  <a:pt x="27" y="71"/>
                </a:lnTo>
                <a:lnTo>
                  <a:pt x="27" y="75"/>
                </a:lnTo>
                <a:lnTo>
                  <a:pt x="28" y="79"/>
                </a:lnTo>
                <a:lnTo>
                  <a:pt x="28" y="81"/>
                </a:lnTo>
                <a:lnTo>
                  <a:pt x="29" y="85"/>
                </a:lnTo>
                <a:lnTo>
                  <a:pt x="30" y="88"/>
                </a:lnTo>
                <a:lnTo>
                  <a:pt x="32" y="90"/>
                </a:lnTo>
                <a:lnTo>
                  <a:pt x="33" y="93"/>
                </a:lnTo>
                <a:lnTo>
                  <a:pt x="35" y="95"/>
                </a:lnTo>
                <a:lnTo>
                  <a:pt x="37" y="98"/>
                </a:lnTo>
                <a:lnTo>
                  <a:pt x="40" y="99"/>
                </a:lnTo>
                <a:lnTo>
                  <a:pt x="43" y="101"/>
                </a:lnTo>
                <a:lnTo>
                  <a:pt x="47" y="103"/>
                </a:lnTo>
                <a:lnTo>
                  <a:pt x="52" y="105"/>
                </a:lnTo>
                <a:lnTo>
                  <a:pt x="58" y="106"/>
                </a:lnTo>
                <a:lnTo>
                  <a:pt x="64" y="108"/>
                </a:lnTo>
                <a:lnTo>
                  <a:pt x="72" y="109"/>
                </a:lnTo>
                <a:lnTo>
                  <a:pt x="80" y="111"/>
                </a:lnTo>
                <a:lnTo>
                  <a:pt x="89" y="113"/>
                </a:lnTo>
                <a:lnTo>
                  <a:pt x="96" y="114"/>
                </a:lnTo>
                <a:lnTo>
                  <a:pt x="103" y="115"/>
                </a:lnTo>
                <a:lnTo>
                  <a:pt x="110" y="116"/>
                </a:lnTo>
                <a:lnTo>
                  <a:pt x="115" y="118"/>
                </a:lnTo>
                <a:lnTo>
                  <a:pt x="120" y="119"/>
                </a:lnTo>
                <a:lnTo>
                  <a:pt x="124" y="120"/>
                </a:lnTo>
                <a:lnTo>
                  <a:pt x="128" y="123"/>
                </a:lnTo>
                <a:lnTo>
                  <a:pt x="132" y="124"/>
                </a:lnTo>
                <a:lnTo>
                  <a:pt x="137" y="126"/>
                </a:lnTo>
                <a:lnTo>
                  <a:pt x="141" y="129"/>
                </a:lnTo>
                <a:lnTo>
                  <a:pt x="144" y="133"/>
                </a:lnTo>
                <a:lnTo>
                  <a:pt x="148" y="135"/>
                </a:lnTo>
                <a:lnTo>
                  <a:pt x="151" y="139"/>
                </a:lnTo>
                <a:lnTo>
                  <a:pt x="154" y="141"/>
                </a:lnTo>
                <a:lnTo>
                  <a:pt x="156" y="145"/>
                </a:lnTo>
                <a:lnTo>
                  <a:pt x="160" y="149"/>
                </a:lnTo>
                <a:lnTo>
                  <a:pt x="162" y="152"/>
                </a:lnTo>
                <a:lnTo>
                  <a:pt x="164" y="157"/>
                </a:lnTo>
                <a:lnTo>
                  <a:pt x="165" y="161"/>
                </a:lnTo>
                <a:lnTo>
                  <a:pt x="166" y="166"/>
                </a:lnTo>
                <a:lnTo>
                  <a:pt x="167" y="171"/>
                </a:lnTo>
                <a:lnTo>
                  <a:pt x="168" y="176"/>
                </a:lnTo>
                <a:lnTo>
                  <a:pt x="169" y="181"/>
                </a:lnTo>
                <a:lnTo>
                  <a:pt x="169" y="186"/>
                </a:lnTo>
                <a:lnTo>
                  <a:pt x="169" y="191"/>
                </a:lnTo>
                <a:lnTo>
                  <a:pt x="168" y="196"/>
                </a:lnTo>
                <a:lnTo>
                  <a:pt x="168" y="201"/>
                </a:lnTo>
                <a:lnTo>
                  <a:pt x="167" y="206"/>
                </a:lnTo>
                <a:lnTo>
                  <a:pt x="166" y="211"/>
                </a:lnTo>
                <a:lnTo>
                  <a:pt x="164" y="216"/>
                </a:lnTo>
                <a:lnTo>
                  <a:pt x="162" y="221"/>
                </a:lnTo>
                <a:lnTo>
                  <a:pt x="160" y="226"/>
                </a:lnTo>
                <a:lnTo>
                  <a:pt x="156" y="230"/>
                </a:lnTo>
                <a:lnTo>
                  <a:pt x="154" y="235"/>
                </a:lnTo>
                <a:lnTo>
                  <a:pt x="151" y="239"/>
                </a:lnTo>
                <a:lnTo>
                  <a:pt x="147" y="242"/>
                </a:lnTo>
                <a:lnTo>
                  <a:pt x="144" y="246"/>
                </a:lnTo>
                <a:lnTo>
                  <a:pt x="140" y="249"/>
                </a:lnTo>
                <a:lnTo>
                  <a:pt x="136" y="252"/>
                </a:lnTo>
                <a:lnTo>
                  <a:pt x="132" y="255"/>
                </a:lnTo>
                <a:lnTo>
                  <a:pt x="127" y="257"/>
                </a:lnTo>
                <a:lnTo>
                  <a:pt x="123" y="260"/>
                </a:lnTo>
                <a:lnTo>
                  <a:pt x="118" y="262"/>
                </a:lnTo>
                <a:lnTo>
                  <a:pt x="113" y="264"/>
                </a:lnTo>
                <a:lnTo>
                  <a:pt x="108" y="265"/>
                </a:lnTo>
                <a:lnTo>
                  <a:pt x="102" y="266"/>
                </a:lnTo>
                <a:lnTo>
                  <a:pt x="97" y="267"/>
                </a:lnTo>
                <a:lnTo>
                  <a:pt x="90" y="267"/>
                </a:lnTo>
                <a:lnTo>
                  <a:pt x="82" y="267"/>
                </a:lnTo>
                <a:lnTo>
                  <a:pt x="76" y="267"/>
                </a:lnTo>
                <a:lnTo>
                  <a:pt x="70" y="267"/>
                </a:lnTo>
                <a:lnTo>
                  <a:pt x="64" y="266"/>
                </a:lnTo>
                <a:lnTo>
                  <a:pt x="59" y="266"/>
                </a:lnTo>
                <a:lnTo>
                  <a:pt x="53" y="264"/>
                </a:lnTo>
                <a:lnTo>
                  <a:pt x="48" y="262"/>
                </a:lnTo>
                <a:lnTo>
                  <a:pt x="43" y="260"/>
                </a:lnTo>
                <a:lnTo>
                  <a:pt x="39" y="257"/>
                </a:lnTo>
                <a:lnTo>
                  <a:pt x="34" y="255"/>
                </a:lnTo>
                <a:lnTo>
                  <a:pt x="30" y="251"/>
                </a:lnTo>
                <a:lnTo>
                  <a:pt x="26" y="247"/>
                </a:lnTo>
                <a:lnTo>
                  <a:pt x="23" y="244"/>
                </a:lnTo>
                <a:lnTo>
                  <a:pt x="19" y="240"/>
                </a:lnTo>
                <a:lnTo>
                  <a:pt x="16" y="235"/>
                </a:lnTo>
                <a:lnTo>
                  <a:pt x="12" y="230"/>
                </a:lnTo>
                <a:lnTo>
                  <a:pt x="10" y="225"/>
                </a:lnTo>
                <a:lnTo>
                  <a:pt x="7" y="220"/>
                </a:lnTo>
                <a:lnTo>
                  <a:pt x="5" y="214"/>
                </a:lnTo>
                <a:lnTo>
                  <a:pt x="4" y="209"/>
                </a:lnTo>
                <a:lnTo>
                  <a:pt x="2" y="202"/>
                </a:lnTo>
                <a:lnTo>
                  <a:pt x="1" y="196"/>
                </a:lnTo>
                <a:lnTo>
                  <a:pt x="0" y="1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26160" y="2349360"/>
            <a:ext cx="99720" cy="106560"/>
          </a:xfrm>
          <a:custGeom>
            <a:avLst/>
            <a:gdLst/>
            <a:ahLst/>
            <a:rect l="l" t="t" r="r" b="b"/>
            <a:pathLst>
              <a:path w="190" h="268">
                <a:moveTo>
                  <a:pt x="161" y="165"/>
                </a:moveTo>
                <a:lnTo>
                  <a:pt x="190" y="170"/>
                </a:lnTo>
                <a:lnTo>
                  <a:pt x="189" y="182"/>
                </a:lnTo>
                <a:lnTo>
                  <a:pt x="187" y="192"/>
                </a:lnTo>
                <a:lnTo>
                  <a:pt x="184" y="200"/>
                </a:lnTo>
                <a:lnTo>
                  <a:pt x="180" y="209"/>
                </a:lnTo>
                <a:lnTo>
                  <a:pt x="176" y="218"/>
                </a:lnTo>
                <a:lnTo>
                  <a:pt x="172" y="225"/>
                </a:lnTo>
                <a:lnTo>
                  <a:pt x="168" y="232"/>
                </a:lnTo>
                <a:lnTo>
                  <a:pt x="163" y="239"/>
                </a:lnTo>
                <a:lnTo>
                  <a:pt x="158" y="244"/>
                </a:lnTo>
                <a:lnTo>
                  <a:pt x="152" y="249"/>
                </a:lnTo>
                <a:lnTo>
                  <a:pt x="146" y="254"/>
                </a:lnTo>
                <a:lnTo>
                  <a:pt x="139" y="258"/>
                </a:lnTo>
                <a:lnTo>
                  <a:pt x="133" y="262"/>
                </a:lnTo>
                <a:lnTo>
                  <a:pt x="126" y="264"/>
                </a:lnTo>
                <a:lnTo>
                  <a:pt x="118" y="265"/>
                </a:lnTo>
                <a:lnTo>
                  <a:pt x="109" y="267"/>
                </a:lnTo>
                <a:lnTo>
                  <a:pt x="101" y="268"/>
                </a:lnTo>
                <a:lnTo>
                  <a:pt x="93" y="268"/>
                </a:lnTo>
                <a:lnTo>
                  <a:pt x="86" y="268"/>
                </a:lnTo>
                <a:lnTo>
                  <a:pt x="78" y="267"/>
                </a:lnTo>
                <a:lnTo>
                  <a:pt x="72" y="264"/>
                </a:lnTo>
                <a:lnTo>
                  <a:pt x="65" y="263"/>
                </a:lnTo>
                <a:lnTo>
                  <a:pt x="59" y="259"/>
                </a:lnTo>
                <a:lnTo>
                  <a:pt x="53" y="257"/>
                </a:lnTo>
                <a:lnTo>
                  <a:pt x="48" y="253"/>
                </a:lnTo>
                <a:lnTo>
                  <a:pt x="43" y="248"/>
                </a:lnTo>
                <a:lnTo>
                  <a:pt x="37" y="243"/>
                </a:lnTo>
                <a:lnTo>
                  <a:pt x="32" y="238"/>
                </a:lnTo>
                <a:lnTo>
                  <a:pt x="28" y="232"/>
                </a:lnTo>
                <a:lnTo>
                  <a:pt x="24" y="225"/>
                </a:lnTo>
                <a:lnTo>
                  <a:pt x="20" y="218"/>
                </a:lnTo>
                <a:lnTo>
                  <a:pt x="17" y="210"/>
                </a:lnTo>
                <a:lnTo>
                  <a:pt x="14" y="203"/>
                </a:lnTo>
                <a:lnTo>
                  <a:pt x="11" y="195"/>
                </a:lnTo>
                <a:lnTo>
                  <a:pt x="8" y="187"/>
                </a:lnTo>
                <a:lnTo>
                  <a:pt x="6" y="178"/>
                </a:lnTo>
                <a:lnTo>
                  <a:pt x="4" y="169"/>
                </a:lnTo>
                <a:lnTo>
                  <a:pt x="3" y="161"/>
                </a:lnTo>
                <a:lnTo>
                  <a:pt x="2" y="152"/>
                </a:lnTo>
                <a:lnTo>
                  <a:pt x="1" y="143"/>
                </a:lnTo>
                <a:lnTo>
                  <a:pt x="0" y="133"/>
                </a:lnTo>
                <a:lnTo>
                  <a:pt x="0" y="123"/>
                </a:lnTo>
                <a:lnTo>
                  <a:pt x="0" y="114"/>
                </a:lnTo>
                <a:lnTo>
                  <a:pt x="1" y="104"/>
                </a:lnTo>
                <a:lnTo>
                  <a:pt x="2" y="96"/>
                </a:lnTo>
                <a:lnTo>
                  <a:pt x="4" y="87"/>
                </a:lnTo>
                <a:lnTo>
                  <a:pt x="6" y="79"/>
                </a:lnTo>
                <a:lnTo>
                  <a:pt x="8" y="71"/>
                </a:lnTo>
                <a:lnTo>
                  <a:pt x="11" y="63"/>
                </a:lnTo>
                <a:lnTo>
                  <a:pt x="14" y="56"/>
                </a:lnTo>
                <a:lnTo>
                  <a:pt x="17" y="49"/>
                </a:lnTo>
                <a:lnTo>
                  <a:pt x="21" y="43"/>
                </a:lnTo>
                <a:lnTo>
                  <a:pt x="25" y="37"/>
                </a:lnTo>
                <a:lnTo>
                  <a:pt x="30" y="32"/>
                </a:lnTo>
                <a:lnTo>
                  <a:pt x="35" y="26"/>
                </a:lnTo>
                <a:lnTo>
                  <a:pt x="41" y="22"/>
                </a:lnTo>
                <a:lnTo>
                  <a:pt x="46" y="17"/>
                </a:lnTo>
                <a:lnTo>
                  <a:pt x="52" y="13"/>
                </a:lnTo>
                <a:lnTo>
                  <a:pt x="58" y="10"/>
                </a:lnTo>
                <a:lnTo>
                  <a:pt x="64" y="7"/>
                </a:lnTo>
                <a:lnTo>
                  <a:pt x="70" y="5"/>
                </a:lnTo>
                <a:lnTo>
                  <a:pt x="76" y="2"/>
                </a:lnTo>
                <a:lnTo>
                  <a:pt x="83" y="1"/>
                </a:lnTo>
                <a:lnTo>
                  <a:pt x="90" y="0"/>
                </a:lnTo>
                <a:lnTo>
                  <a:pt x="97" y="0"/>
                </a:lnTo>
                <a:lnTo>
                  <a:pt x="105" y="0"/>
                </a:lnTo>
                <a:lnTo>
                  <a:pt x="113" y="1"/>
                </a:lnTo>
                <a:lnTo>
                  <a:pt x="120" y="2"/>
                </a:lnTo>
                <a:lnTo>
                  <a:pt x="126" y="3"/>
                </a:lnTo>
                <a:lnTo>
                  <a:pt x="133" y="7"/>
                </a:lnTo>
                <a:lnTo>
                  <a:pt x="139" y="10"/>
                </a:lnTo>
                <a:lnTo>
                  <a:pt x="144" y="13"/>
                </a:lnTo>
                <a:lnTo>
                  <a:pt x="150" y="18"/>
                </a:lnTo>
                <a:lnTo>
                  <a:pt x="155" y="23"/>
                </a:lnTo>
                <a:lnTo>
                  <a:pt x="160" y="29"/>
                </a:lnTo>
                <a:lnTo>
                  <a:pt x="164" y="36"/>
                </a:lnTo>
                <a:lnTo>
                  <a:pt x="168" y="42"/>
                </a:lnTo>
                <a:lnTo>
                  <a:pt x="172" y="49"/>
                </a:lnTo>
                <a:lnTo>
                  <a:pt x="175" y="57"/>
                </a:lnTo>
                <a:lnTo>
                  <a:pt x="178" y="66"/>
                </a:lnTo>
                <a:lnTo>
                  <a:pt x="152" y="77"/>
                </a:lnTo>
                <a:lnTo>
                  <a:pt x="149" y="71"/>
                </a:lnTo>
                <a:lnTo>
                  <a:pt x="147" y="64"/>
                </a:lnTo>
                <a:lnTo>
                  <a:pt x="144" y="58"/>
                </a:lnTo>
                <a:lnTo>
                  <a:pt x="141" y="53"/>
                </a:lnTo>
                <a:lnTo>
                  <a:pt x="138" y="49"/>
                </a:lnTo>
                <a:lnTo>
                  <a:pt x="135" y="44"/>
                </a:lnTo>
                <a:lnTo>
                  <a:pt x="131" y="42"/>
                </a:lnTo>
                <a:lnTo>
                  <a:pt x="128" y="38"/>
                </a:lnTo>
                <a:lnTo>
                  <a:pt x="124" y="36"/>
                </a:lnTo>
                <a:lnTo>
                  <a:pt x="120" y="33"/>
                </a:lnTo>
                <a:lnTo>
                  <a:pt x="116" y="32"/>
                </a:lnTo>
                <a:lnTo>
                  <a:pt x="112" y="31"/>
                </a:lnTo>
                <a:lnTo>
                  <a:pt x="106" y="29"/>
                </a:lnTo>
                <a:lnTo>
                  <a:pt x="101" y="29"/>
                </a:lnTo>
                <a:lnTo>
                  <a:pt x="96" y="29"/>
                </a:lnTo>
                <a:lnTo>
                  <a:pt x="91" y="29"/>
                </a:lnTo>
                <a:lnTo>
                  <a:pt x="86" y="31"/>
                </a:lnTo>
                <a:lnTo>
                  <a:pt x="80" y="32"/>
                </a:lnTo>
                <a:lnTo>
                  <a:pt x="75" y="33"/>
                </a:lnTo>
                <a:lnTo>
                  <a:pt x="70" y="36"/>
                </a:lnTo>
                <a:lnTo>
                  <a:pt x="65" y="38"/>
                </a:lnTo>
                <a:lnTo>
                  <a:pt x="61" y="41"/>
                </a:lnTo>
                <a:lnTo>
                  <a:pt x="56" y="44"/>
                </a:lnTo>
                <a:lnTo>
                  <a:pt x="53" y="48"/>
                </a:lnTo>
                <a:lnTo>
                  <a:pt x="49" y="52"/>
                </a:lnTo>
                <a:lnTo>
                  <a:pt x="46" y="57"/>
                </a:lnTo>
                <a:lnTo>
                  <a:pt x="43" y="62"/>
                </a:lnTo>
                <a:lnTo>
                  <a:pt x="40" y="67"/>
                </a:lnTo>
                <a:lnTo>
                  <a:pt x="37" y="72"/>
                </a:lnTo>
                <a:lnTo>
                  <a:pt x="35" y="77"/>
                </a:lnTo>
                <a:lnTo>
                  <a:pt x="33" y="83"/>
                </a:lnTo>
                <a:lnTo>
                  <a:pt x="32" y="89"/>
                </a:lnTo>
                <a:lnTo>
                  <a:pt x="31" y="96"/>
                </a:lnTo>
                <a:lnTo>
                  <a:pt x="30" y="102"/>
                </a:lnTo>
                <a:lnTo>
                  <a:pt x="29" y="108"/>
                </a:lnTo>
                <a:lnTo>
                  <a:pt x="29" y="114"/>
                </a:lnTo>
                <a:lnTo>
                  <a:pt x="29" y="121"/>
                </a:lnTo>
                <a:lnTo>
                  <a:pt x="29" y="127"/>
                </a:lnTo>
                <a:lnTo>
                  <a:pt x="29" y="133"/>
                </a:lnTo>
                <a:lnTo>
                  <a:pt x="29" y="139"/>
                </a:lnTo>
                <a:lnTo>
                  <a:pt x="30" y="148"/>
                </a:lnTo>
                <a:lnTo>
                  <a:pt x="31" y="156"/>
                </a:lnTo>
                <a:lnTo>
                  <a:pt x="32" y="163"/>
                </a:lnTo>
                <a:lnTo>
                  <a:pt x="33" y="170"/>
                </a:lnTo>
                <a:lnTo>
                  <a:pt x="35" y="177"/>
                </a:lnTo>
                <a:lnTo>
                  <a:pt x="37" y="183"/>
                </a:lnTo>
                <a:lnTo>
                  <a:pt x="40" y="190"/>
                </a:lnTo>
                <a:lnTo>
                  <a:pt x="42" y="195"/>
                </a:lnTo>
                <a:lnTo>
                  <a:pt x="45" y="202"/>
                </a:lnTo>
                <a:lnTo>
                  <a:pt x="47" y="207"/>
                </a:lnTo>
                <a:lnTo>
                  <a:pt x="50" y="212"/>
                </a:lnTo>
                <a:lnTo>
                  <a:pt x="53" y="217"/>
                </a:lnTo>
                <a:lnTo>
                  <a:pt x="57" y="220"/>
                </a:lnTo>
                <a:lnTo>
                  <a:pt x="61" y="224"/>
                </a:lnTo>
                <a:lnTo>
                  <a:pt x="64" y="227"/>
                </a:lnTo>
                <a:lnTo>
                  <a:pt x="69" y="230"/>
                </a:lnTo>
                <a:lnTo>
                  <a:pt x="73" y="233"/>
                </a:lnTo>
                <a:lnTo>
                  <a:pt x="77" y="234"/>
                </a:lnTo>
                <a:lnTo>
                  <a:pt x="82" y="235"/>
                </a:lnTo>
                <a:lnTo>
                  <a:pt x="86" y="237"/>
                </a:lnTo>
                <a:lnTo>
                  <a:pt x="91" y="238"/>
                </a:lnTo>
                <a:lnTo>
                  <a:pt x="95" y="238"/>
                </a:lnTo>
                <a:lnTo>
                  <a:pt x="100" y="238"/>
                </a:lnTo>
                <a:lnTo>
                  <a:pt x="105" y="238"/>
                </a:lnTo>
                <a:lnTo>
                  <a:pt x="111" y="237"/>
                </a:lnTo>
                <a:lnTo>
                  <a:pt x="117" y="235"/>
                </a:lnTo>
                <a:lnTo>
                  <a:pt x="122" y="234"/>
                </a:lnTo>
                <a:lnTo>
                  <a:pt x="127" y="232"/>
                </a:lnTo>
                <a:lnTo>
                  <a:pt x="131" y="229"/>
                </a:lnTo>
                <a:lnTo>
                  <a:pt x="135" y="225"/>
                </a:lnTo>
                <a:lnTo>
                  <a:pt x="140" y="222"/>
                </a:lnTo>
                <a:lnTo>
                  <a:pt x="143" y="217"/>
                </a:lnTo>
                <a:lnTo>
                  <a:pt x="147" y="212"/>
                </a:lnTo>
                <a:lnTo>
                  <a:pt x="150" y="207"/>
                </a:lnTo>
                <a:lnTo>
                  <a:pt x="153" y="202"/>
                </a:lnTo>
                <a:lnTo>
                  <a:pt x="155" y="195"/>
                </a:lnTo>
                <a:lnTo>
                  <a:pt x="157" y="188"/>
                </a:lnTo>
                <a:lnTo>
                  <a:pt x="159" y="182"/>
                </a:lnTo>
                <a:lnTo>
                  <a:pt x="160" y="173"/>
                </a:lnTo>
                <a:lnTo>
                  <a:pt x="161" y="1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40280" y="2344680"/>
            <a:ext cx="23760" cy="104760"/>
          </a:xfrm>
          <a:custGeom>
            <a:avLst/>
            <a:gdLst/>
            <a:ahLst/>
            <a:rect l="l" t="t" r="r" b="b"/>
            <a:pathLst>
              <a:path w="47" h="262">
                <a:moveTo>
                  <a:pt x="19" y="262"/>
                </a:moveTo>
                <a:lnTo>
                  <a:pt x="0" y="4"/>
                </a:lnTo>
                <a:lnTo>
                  <a:pt x="27" y="0"/>
                </a:lnTo>
                <a:lnTo>
                  <a:pt x="47" y="258"/>
                </a:lnTo>
                <a:lnTo>
                  <a:pt x="19" y="26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00360" y="3157560"/>
            <a:ext cx="122400" cy="108000"/>
          </a:xfrm>
          <a:custGeom>
            <a:avLst/>
            <a:gdLst/>
            <a:ahLst/>
            <a:rect l="l" t="t" r="r" b="b"/>
            <a:pathLst>
              <a:path w="232" h="271">
                <a:moveTo>
                  <a:pt x="0" y="243"/>
                </a:moveTo>
                <a:lnTo>
                  <a:pt x="109" y="0"/>
                </a:lnTo>
                <a:lnTo>
                  <a:pt x="128" y="27"/>
                </a:lnTo>
                <a:lnTo>
                  <a:pt x="46" y="201"/>
                </a:lnTo>
                <a:lnTo>
                  <a:pt x="44" y="206"/>
                </a:lnTo>
                <a:lnTo>
                  <a:pt x="41" y="211"/>
                </a:lnTo>
                <a:lnTo>
                  <a:pt x="39" y="216"/>
                </a:lnTo>
                <a:lnTo>
                  <a:pt x="37" y="221"/>
                </a:lnTo>
                <a:lnTo>
                  <a:pt x="33" y="226"/>
                </a:lnTo>
                <a:lnTo>
                  <a:pt x="31" y="229"/>
                </a:lnTo>
                <a:lnTo>
                  <a:pt x="29" y="234"/>
                </a:lnTo>
                <a:lnTo>
                  <a:pt x="26" y="238"/>
                </a:lnTo>
                <a:lnTo>
                  <a:pt x="30" y="236"/>
                </a:lnTo>
                <a:lnTo>
                  <a:pt x="34" y="234"/>
                </a:lnTo>
                <a:lnTo>
                  <a:pt x="40" y="232"/>
                </a:lnTo>
                <a:lnTo>
                  <a:pt x="44" y="229"/>
                </a:lnTo>
                <a:lnTo>
                  <a:pt x="48" y="228"/>
                </a:lnTo>
                <a:lnTo>
                  <a:pt x="52" y="226"/>
                </a:lnTo>
                <a:lnTo>
                  <a:pt x="56" y="223"/>
                </a:lnTo>
                <a:lnTo>
                  <a:pt x="60" y="222"/>
                </a:lnTo>
                <a:lnTo>
                  <a:pt x="214" y="154"/>
                </a:lnTo>
                <a:lnTo>
                  <a:pt x="232" y="181"/>
                </a:lnTo>
                <a:lnTo>
                  <a:pt x="18" y="271"/>
                </a:lnTo>
                <a:lnTo>
                  <a:pt x="0" y="2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43200" y="3235320"/>
            <a:ext cx="93600" cy="76320"/>
          </a:xfrm>
          <a:custGeom>
            <a:avLst/>
            <a:gdLst/>
            <a:ahLst/>
            <a:rect l="l" t="t" r="r" b="b"/>
            <a:pathLst>
              <a:path w="178" h="191">
                <a:moveTo>
                  <a:pt x="138" y="24"/>
                </a:moveTo>
                <a:lnTo>
                  <a:pt x="160" y="0"/>
                </a:lnTo>
                <a:lnTo>
                  <a:pt x="178" y="24"/>
                </a:lnTo>
                <a:lnTo>
                  <a:pt x="154" y="47"/>
                </a:lnTo>
                <a:lnTo>
                  <a:pt x="138" y="24"/>
                </a:lnTo>
                <a:close/>
                <a:moveTo>
                  <a:pt x="0" y="166"/>
                </a:moveTo>
                <a:lnTo>
                  <a:pt x="117" y="46"/>
                </a:lnTo>
                <a:lnTo>
                  <a:pt x="133" y="70"/>
                </a:lnTo>
                <a:lnTo>
                  <a:pt x="16" y="191"/>
                </a:lnTo>
                <a:lnTo>
                  <a:pt x="0" y="16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70200" y="3286080"/>
            <a:ext cx="90720" cy="88920"/>
          </a:xfrm>
          <a:custGeom>
            <a:avLst/>
            <a:gdLst/>
            <a:ahLst/>
            <a:rect l="l" t="t" r="r" b="b"/>
            <a:pathLst>
              <a:path w="170" h="225">
                <a:moveTo>
                  <a:pt x="68" y="180"/>
                </a:moveTo>
                <a:lnTo>
                  <a:pt x="64" y="179"/>
                </a:lnTo>
                <a:lnTo>
                  <a:pt x="59" y="177"/>
                </a:lnTo>
                <a:lnTo>
                  <a:pt x="55" y="176"/>
                </a:lnTo>
                <a:lnTo>
                  <a:pt x="51" y="175"/>
                </a:lnTo>
                <a:lnTo>
                  <a:pt x="48" y="172"/>
                </a:lnTo>
                <a:lnTo>
                  <a:pt x="43" y="171"/>
                </a:lnTo>
                <a:lnTo>
                  <a:pt x="40" y="169"/>
                </a:lnTo>
                <a:lnTo>
                  <a:pt x="37" y="167"/>
                </a:lnTo>
                <a:lnTo>
                  <a:pt x="34" y="165"/>
                </a:lnTo>
                <a:lnTo>
                  <a:pt x="31" y="162"/>
                </a:lnTo>
                <a:lnTo>
                  <a:pt x="28" y="160"/>
                </a:lnTo>
                <a:lnTo>
                  <a:pt x="25" y="157"/>
                </a:lnTo>
                <a:lnTo>
                  <a:pt x="22" y="155"/>
                </a:lnTo>
                <a:lnTo>
                  <a:pt x="20" y="151"/>
                </a:lnTo>
                <a:lnTo>
                  <a:pt x="17" y="147"/>
                </a:lnTo>
                <a:lnTo>
                  <a:pt x="15" y="145"/>
                </a:lnTo>
                <a:lnTo>
                  <a:pt x="11" y="139"/>
                </a:lnTo>
                <a:lnTo>
                  <a:pt x="8" y="132"/>
                </a:lnTo>
                <a:lnTo>
                  <a:pt x="5" y="126"/>
                </a:lnTo>
                <a:lnTo>
                  <a:pt x="3" y="121"/>
                </a:lnTo>
                <a:lnTo>
                  <a:pt x="1" y="115"/>
                </a:lnTo>
                <a:lnTo>
                  <a:pt x="0" y="110"/>
                </a:lnTo>
                <a:lnTo>
                  <a:pt x="0" y="104"/>
                </a:lnTo>
                <a:lnTo>
                  <a:pt x="0" y="99"/>
                </a:lnTo>
                <a:lnTo>
                  <a:pt x="0" y="93"/>
                </a:lnTo>
                <a:lnTo>
                  <a:pt x="1" y="88"/>
                </a:lnTo>
                <a:lnTo>
                  <a:pt x="2" y="83"/>
                </a:lnTo>
                <a:lnTo>
                  <a:pt x="4" y="78"/>
                </a:lnTo>
                <a:lnTo>
                  <a:pt x="6" y="73"/>
                </a:lnTo>
                <a:lnTo>
                  <a:pt x="8" y="69"/>
                </a:lnTo>
                <a:lnTo>
                  <a:pt x="11" y="65"/>
                </a:lnTo>
                <a:lnTo>
                  <a:pt x="15" y="60"/>
                </a:lnTo>
                <a:lnTo>
                  <a:pt x="17" y="59"/>
                </a:lnTo>
                <a:lnTo>
                  <a:pt x="19" y="56"/>
                </a:lnTo>
                <a:lnTo>
                  <a:pt x="21" y="55"/>
                </a:lnTo>
                <a:lnTo>
                  <a:pt x="23" y="54"/>
                </a:lnTo>
                <a:lnTo>
                  <a:pt x="26" y="53"/>
                </a:lnTo>
                <a:lnTo>
                  <a:pt x="28" y="51"/>
                </a:lnTo>
                <a:lnTo>
                  <a:pt x="31" y="50"/>
                </a:lnTo>
                <a:lnTo>
                  <a:pt x="33" y="49"/>
                </a:lnTo>
                <a:lnTo>
                  <a:pt x="36" y="49"/>
                </a:lnTo>
                <a:lnTo>
                  <a:pt x="38" y="49"/>
                </a:lnTo>
                <a:lnTo>
                  <a:pt x="41" y="48"/>
                </a:lnTo>
                <a:lnTo>
                  <a:pt x="43" y="48"/>
                </a:lnTo>
                <a:lnTo>
                  <a:pt x="46" y="49"/>
                </a:lnTo>
                <a:lnTo>
                  <a:pt x="49" y="49"/>
                </a:lnTo>
                <a:lnTo>
                  <a:pt x="52" y="49"/>
                </a:lnTo>
                <a:lnTo>
                  <a:pt x="54" y="50"/>
                </a:lnTo>
                <a:lnTo>
                  <a:pt x="56" y="51"/>
                </a:lnTo>
                <a:lnTo>
                  <a:pt x="59" y="53"/>
                </a:lnTo>
                <a:lnTo>
                  <a:pt x="61" y="53"/>
                </a:lnTo>
                <a:lnTo>
                  <a:pt x="63" y="54"/>
                </a:lnTo>
                <a:lnTo>
                  <a:pt x="66" y="56"/>
                </a:lnTo>
                <a:lnTo>
                  <a:pt x="68" y="58"/>
                </a:lnTo>
                <a:lnTo>
                  <a:pt x="70" y="59"/>
                </a:lnTo>
                <a:lnTo>
                  <a:pt x="72" y="61"/>
                </a:lnTo>
                <a:lnTo>
                  <a:pt x="74" y="63"/>
                </a:lnTo>
                <a:lnTo>
                  <a:pt x="76" y="64"/>
                </a:lnTo>
                <a:lnTo>
                  <a:pt x="78" y="66"/>
                </a:lnTo>
                <a:lnTo>
                  <a:pt x="80" y="69"/>
                </a:lnTo>
                <a:lnTo>
                  <a:pt x="82" y="70"/>
                </a:lnTo>
                <a:lnTo>
                  <a:pt x="84" y="74"/>
                </a:lnTo>
                <a:lnTo>
                  <a:pt x="87" y="76"/>
                </a:lnTo>
                <a:lnTo>
                  <a:pt x="90" y="79"/>
                </a:lnTo>
                <a:lnTo>
                  <a:pt x="95" y="86"/>
                </a:lnTo>
                <a:lnTo>
                  <a:pt x="100" y="91"/>
                </a:lnTo>
                <a:lnTo>
                  <a:pt x="105" y="98"/>
                </a:lnTo>
                <a:lnTo>
                  <a:pt x="110" y="101"/>
                </a:lnTo>
                <a:lnTo>
                  <a:pt x="114" y="106"/>
                </a:lnTo>
                <a:lnTo>
                  <a:pt x="118" y="110"/>
                </a:lnTo>
                <a:lnTo>
                  <a:pt x="123" y="113"/>
                </a:lnTo>
                <a:lnTo>
                  <a:pt x="127" y="116"/>
                </a:lnTo>
                <a:lnTo>
                  <a:pt x="128" y="115"/>
                </a:lnTo>
                <a:lnTo>
                  <a:pt x="129" y="114"/>
                </a:lnTo>
                <a:lnTo>
                  <a:pt x="129" y="113"/>
                </a:lnTo>
                <a:lnTo>
                  <a:pt x="130" y="113"/>
                </a:lnTo>
                <a:lnTo>
                  <a:pt x="131" y="111"/>
                </a:lnTo>
                <a:lnTo>
                  <a:pt x="131" y="111"/>
                </a:lnTo>
                <a:lnTo>
                  <a:pt x="132" y="111"/>
                </a:lnTo>
                <a:lnTo>
                  <a:pt x="132" y="110"/>
                </a:lnTo>
                <a:lnTo>
                  <a:pt x="135" y="108"/>
                </a:lnTo>
                <a:lnTo>
                  <a:pt x="137" y="104"/>
                </a:lnTo>
                <a:lnTo>
                  <a:pt x="139" y="101"/>
                </a:lnTo>
                <a:lnTo>
                  <a:pt x="141" y="98"/>
                </a:lnTo>
                <a:lnTo>
                  <a:pt x="142" y="95"/>
                </a:lnTo>
                <a:lnTo>
                  <a:pt x="143" y="93"/>
                </a:lnTo>
                <a:lnTo>
                  <a:pt x="144" y="89"/>
                </a:lnTo>
                <a:lnTo>
                  <a:pt x="144" y="86"/>
                </a:lnTo>
                <a:lnTo>
                  <a:pt x="144" y="81"/>
                </a:lnTo>
                <a:lnTo>
                  <a:pt x="143" y="78"/>
                </a:lnTo>
                <a:lnTo>
                  <a:pt x="142" y="74"/>
                </a:lnTo>
                <a:lnTo>
                  <a:pt x="141" y="69"/>
                </a:lnTo>
                <a:lnTo>
                  <a:pt x="139" y="65"/>
                </a:lnTo>
                <a:lnTo>
                  <a:pt x="137" y="60"/>
                </a:lnTo>
                <a:lnTo>
                  <a:pt x="135" y="56"/>
                </a:lnTo>
                <a:lnTo>
                  <a:pt x="132" y="51"/>
                </a:lnTo>
                <a:lnTo>
                  <a:pt x="129" y="48"/>
                </a:lnTo>
                <a:lnTo>
                  <a:pt x="126" y="44"/>
                </a:lnTo>
                <a:lnTo>
                  <a:pt x="123" y="40"/>
                </a:lnTo>
                <a:lnTo>
                  <a:pt x="121" y="38"/>
                </a:lnTo>
                <a:lnTo>
                  <a:pt x="117" y="35"/>
                </a:lnTo>
                <a:lnTo>
                  <a:pt x="114" y="34"/>
                </a:lnTo>
                <a:lnTo>
                  <a:pt x="112" y="33"/>
                </a:lnTo>
                <a:lnTo>
                  <a:pt x="109" y="31"/>
                </a:lnTo>
                <a:lnTo>
                  <a:pt x="106" y="30"/>
                </a:lnTo>
                <a:lnTo>
                  <a:pt x="104" y="30"/>
                </a:lnTo>
                <a:lnTo>
                  <a:pt x="101" y="30"/>
                </a:lnTo>
                <a:lnTo>
                  <a:pt x="98" y="31"/>
                </a:lnTo>
                <a:lnTo>
                  <a:pt x="94" y="31"/>
                </a:lnTo>
                <a:lnTo>
                  <a:pt x="91" y="33"/>
                </a:lnTo>
                <a:lnTo>
                  <a:pt x="87" y="35"/>
                </a:lnTo>
                <a:lnTo>
                  <a:pt x="84" y="36"/>
                </a:lnTo>
                <a:lnTo>
                  <a:pt x="70" y="10"/>
                </a:lnTo>
                <a:lnTo>
                  <a:pt x="74" y="8"/>
                </a:lnTo>
                <a:lnTo>
                  <a:pt x="77" y="6"/>
                </a:lnTo>
                <a:lnTo>
                  <a:pt x="81" y="4"/>
                </a:lnTo>
                <a:lnTo>
                  <a:pt x="84" y="3"/>
                </a:lnTo>
                <a:lnTo>
                  <a:pt x="88" y="1"/>
                </a:lnTo>
                <a:lnTo>
                  <a:pt x="91" y="1"/>
                </a:lnTo>
                <a:lnTo>
                  <a:pt x="94" y="0"/>
                </a:lnTo>
                <a:lnTo>
                  <a:pt x="97" y="0"/>
                </a:lnTo>
                <a:lnTo>
                  <a:pt x="100" y="0"/>
                </a:lnTo>
                <a:lnTo>
                  <a:pt x="104" y="0"/>
                </a:lnTo>
                <a:lnTo>
                  <a:pt x="107" y="1"/>
                </a:lnTo>
                <a:lnTo>
                  <a:pt x="110" y="3"/>
                </a:lnTo>
                <a:lnTo>
                  <a:pt x="113" y="4"/>
                </a:lnTo>
                <a:lnTo>
                  <a:pt x="117" y="5"/>
                </a:lnTo>
                <a:lnTo>
                  <a:pt x="121" y="8"/>
                </a:lnTo>
                <a:lnTo>
                  <a:pt x="124" y="9"/>
                </a:lnTo>
                <a:lnTo>
                  <a:pt x="128" y="13"/>
                </a:lnTo>
                <a:lnTo>
                  <a:pt x="131" y="15"/>
                </a:lnTo>
                <a:lnTo>
                  <a:pt x="134" y="18"/>
                </a:lnTo>
                <a:lnTo>
                  <a:pt x="138" y="21"/>
                </a:lnTo>
                <a:lnTo>
                  <a:pt x="141" y="25"/>
                </a:lnTo>
                <a:lnTo>
                  <a:pt x="144" y="29"/>
                </a:lnTo>
                <a:lnTo>
                  <a:pt x="147" y="34"/>
                </a:lnTo>
                <a:lnTo>
                  <a:pt x="150" y="38"/>
                </a:lnTo>
                <a:lnTo>
                  <a:pt x="153" y="43"/>
                </a:lnTo>
                <a:lnTo>
                  <a:pt x="156" y="46"/>
                </a:lnTo>
                <a:lnTo>
                  <a:pt x="159" y="51"/>
                </a:lnTo>
                <a:lnTo>
                  <a:pt x="161" y="55"/>
                </a:lnTo>
                <a:lnTo>
                  <a:pt x="163" y="60"/>
                </a:lnTo>
                <a:lnTo>
                  <a:pt x="164" y="64"/>
                </a:lnTo>
                <a:lnTo>
                  <a:pt x="166" y="68"/>
                </a:lnTo>
                <a:lnTo>
                  <a:pt x="167" y="71"/>
                </a:lnTo>
                <a:lnTo>
                  <a:pt x="168" y="75"/>
                </a:lnTo>
                <a:lnTo>
                  <a:pt x="169" y="79"/>
                </a:lnTo>
                <a:lnTo>
                  <a:pt x="170" y="83"/>
                </a:lnTo>
                <a:lnTo>
                  <a:pt x="170" y="85"/>
                </a:lnTo>
                <a:lnTo>
                  <a:pt x="170" y="89"/>
                </a:lnTo>
                <a:lnTo>
                  <a:pt x="170" y="91"/>
                </a:lnTo>
                <a:lnTo>
                  <a:pt x="170" y="95"/>
                </a:lnTo>
                <a:lnTo>
                  <a:pt x="170" y="98"/>
                </a:lnTo>
                <a:lnTo>
                  <a:pt x="169" y="100"/>
                </a:lnTo>
                <a:lnTo>
                  <a:pt x="169" y="103"/>
                </a:lnTo>
                <a:lnTo>
                  <a:pt x="168" y="105"/>
                </a:lnTo>
                <a:lnTo>
                  <a:pt x="167" y="109"/>
                </a:lnTo>
                <a:lnTo>
                  <a:pt x="166" y="111"/>
                </a:lnTo>
                <a:lnTo>
                  <a:pt x="165" y="114"/>
                </a:lnTo>
                <a:lnTo>
                  <a:pt x="163" y="116"/>
                </a:lnTo>
                <a:lnTo>
                  <a:pt x="162" y="119"/>
                </a:lnTo>
                <a:lnTo>
                  <a:pt x="161" y="121"/>
                </a:lnTo>
                <a:lnTo>
                  <a:pt x="159" y="122"/>
                </a:lnTo>
                <a:lnTo>
                  <a:pt x="157" y="125"/>
                </a:lnTo>
                <a:lnTo>
                  <a:pt x="155" y="127"/>
                </a:lnTo>
                <a:lnTo>
                  <a:pt x="153" y="130"/>
                </a:lnTo>
                <a:lnTo>
                  <a:pt x="150" y="132"/>
                </a:lnTo>
                <a:lnTo>
                  <a:pt x="148" y="136"/>
                </a:lnTo>
                <a:lnTo>
                  <a:pt x="145" y="139"/>
                </a:lnTo>
                <a:lnTo>
                  <a:pt x="118" y="166"/>
                </a:lnTo>
                <a:lnTo>
                  <a:pt x="111" y="174"/>
                </a:lnTo>
                <a:lnTo>
                  <a:pt x="105" y="180"/>
                </a:lnTo>
                <a:lnTo>
                  <a:pt x="100" y="185"/>
                </a:lnTo>
                <a:lnTo>
                  <a:pt x="96" y="190"/>
                </a:lnTo>
                <a:lnTo>
                  <a:pt x="92" y="195"/>
                </a:lnTo>
                <a:lnTo>
                  <a:pt x="89" y="199"/>
                </a:lnTo>
                <a:lnTo>
                  <a:pt x="86" y="201"/>
                </a:lnTo>
                <a:lnTo>
                  <a:pt x="84" y="204"/>
                </a:lnTo>
                <a:lnTo>
                  <a:pt x="83" y="206"/>
                </a:lnTo>
                <a:lnTo>
                  <a:pt x="81" y="209"/>
                </a:lnTo>
                <a:lnTo>
                  <a:pt x="80" y="211"/>
                </a:lnTo>
                <a:lnTo>
                  <a:pt x="79" y="214"/>
                </a:lnTo>
                <a:lnTo>
                  <a:pt x="78" y="216"/>
                </a:lnTo>
                <a:lnTo>
                  <a:pt x="76" y="219"/>
                </a:lnTo>
                <a:lnTo>
                  <a:pt x="75" y="222"/>
                </a:lnTo>
                <a:lnTo>
                  <a:pt x="75" y="225"/>
                </a:lnTo>
                <a:lnTo>
                  <a:pt x="57" y="200"/>
                </a:lnTo>
                <a:lnTo>
                  <a:pt x="58" y="197"/>
                </a:lnTo>
                <a:lnTo>
                  <a:pt x="59" y="195"/>
                </a:lnTo>
                <a:lnTo>
                  <a:pt x="61" y="192"/>
                </a:lnTo>
                <a:lnTo>
                  <a:pt x="62" y="190"/>
                </a:lnTo>
                <a:lnTo>
                  <a:pt x="63" y="187"/>
                </a:lnTo>
                <a:lnTo>
                  <a:pt x="65" y="185"/>
                </a:lnTo>
                <a:lnTo>
                  <a:pt x="66" y="182"/>
                </a:lnTo>
                <a:lnTo>
                  <a:pt x="68" y="180"/>
                </a:lnTo>
                <a:close/>
                <a:moveTo>
                  <a:pt x="110" y="131"/>
                </a:moveTo>
                <a:lnTo>
                  <a:pt x="107" y="130"/>
                </a:lnTo>
                <a:lnTo>
                  <a:pt x="103" y="126"/>
                </a:lnTo>
                <a:lnTo>
                  <a:pt x="99" y="124"/>
                </a:lnTo>
                <a:lnTo>
                  <a:pt x="95" y="120"/>
                </a:lnTo>
                <a:lnTo>
                  <a:pt x="91" y="115"/>
                </a:lnTo>
                <a:lnTo>
                  <a:pt x="86" y="110"/>
                </a:lnTo>
                <a:lnTo>
                  <a:pt x="81" y="105"/>
                </a:lnTo>
                <a:lnTo>
                  <a:pt x="76" y="100"/>
                </a:lnTo>
                <a:lnTo>
                  <a:pt x="73" y="96"/>
                </a:lnTo>
                <a:lnTo>
                  <a:pt x="71" y="94"/>
                </a:lnTo>
                <a:lnTo>
                  <a:pt x="68" y="91"/>
                </a:lnTo>
                <a:lnTo>
                  <a:pt x="66" y="89"/>
                </a:lnTo>
                <a:lnTo>
                  <a:pt x="64" y="88"/>
                </a:lnTo>
                <a:lnTo>
                  <a:pt x="62" y="85"/>
                </a:lnTo>
                <a:lnTo>
                  <a:pt x="60" y="84"/>
                </a:lnTo>
                <a:lnTo>
                  <a:pt x="58" y="83"/>
                </a:lnTo>
                <a:lnTo>
                  <a:pt x="56" y="81"/>
                </a:lnTo>
                <a:lnTo>
                  <a:pt x="55" y="81"/>
                </a:lnTo>
                <a:lnTo>
                  <a:pt x="53" y="80"/>
                </a:lnTo>
                <a:lnTo>
                  <a:pt x="52" y="80"/>
                </a:lnTo>
                <a:lnTo>
                  <a:pt x="50" y="80"/>
                </a:lnTo>
                <a:lnTo>
                  <a:pt x="48" y="80"/>
                </a:lnTo>
                <a:lnTo>
                  <a:pt x="46" y="80"/>
                </a:lnTo>
                <a:lnTo>
                  <a:pt x="44" y="80"/>
                </a:lnTo>
                <a:lnTo>
                  <a:pt x="43" y="80"/>
                </a:lnTo>
                <a:lnTo>
                  <a:pt x="41" y="80"/>
                </a:lnTo>
                <a:lnTo>
                  <a:pt x="40" y="81"/>
                </a:lnTo>
                <a:lnTo>
                  <a:pt x="38" y="81"/>
                </a:lnTo>
                <a:lnTo>
                  <a:pt x="37" y="83"/>
                </a:lnTo>
                <a:lnTo>
                  <a:pt x="35" y="84"/>
                </a:lnTo>
                <a:lnTo>
                  <a:pt x="34" y="85"/>
                </a:lnTo>
                <a:lnTo>
                  <a:pt x="33" y="86"/>
                </a:lnTo>
                <a:lnTo>
                  <a:pt x="31" y="89"/>
                </a:lnTo>
                <a:lnTo>
                  <a:pt x="29" y="90"/>
                </a:lnTo>
                <a:lnTo>
                  <a:pt x="28" y="93"/>
                </a:lnTo>
                <a:lnTo>
                  <a:pt x="27" y="95"/>
                </a:lnTo>
                <a:lnTo>
                  <a:pt x="26" y="99"/>
                </a:lnTo>
                <a:lnTo>
                  <a:pt x="25" y="101"/>
                </a:lnTo>
                <a:lnTo>
                  <a:pt x="25" y="104"/>
                </a:lnTo>
                <a:lnTo>
                  <a:pt x="25" y="108"/>
                </a:lnTo>
                <a:lnTo>
                  <a:pt x="25" y="110"/>
                </a:lnTo>
                <a:lnTo>
                  <a:pt x="25" y="114"/>
                </a:lnTo>
                <a:lnTo>
                  <a:pt x="26" y="118"/>
                </a:lnTo>
                <a:lnTo>
                  <a:pt x="27" y="120"/>
                </a:lnTo>
                <a:lnTo>
                  <a:pt x="28" y="124"/>
                </a:lnTo>
                <a:lnTo>
                  <a:pt x="30" y="127"/>
                </a:lnTo>
                <a:lnTo>
                  <a:pt x="32" y="131"/>
                </a:lnTo>
                <a:lnTo>
                  <a:pt x="34" y="134"/>
                </a:lnTo>
                <a:lnTo>
                  <a:pt x="36" y="137"/>
                </a:lnTo>
                <a:lnTo>
                  <a:pt x="39" y="141"/>
                </a:lnTo>
                <a:lnTo>
                  <a:pt x="42" y="144"/>
                </a:lnTo>
                <a:lnTo>
                  <a:pt x="44" y="146"/>
                </a:lnTo>
                <a:lnTo>
                  <a:pt x="48" y="149"/>
                </a:lnTo>
                <a:lnTo>
                  <a:pt x="51" y="150"/>
                </a:lnTo>
                <a:lnTo>
                  <a:pt x="54" y="152"/>
                </a:lnTo>
                <a:lnTo>
                  <a:pt x="57" y="154"/>
                </a:lnTo>
                <a:lnTo>
                  <a:pt x="60" y="155"/>
                </a:lnTo>
                <a:lnTo>
                  <a:pt x="63" y="156"/>
                </a:lnTo>
                <a:lnTo>
                  <a:pt x="66" y="157"/>
                </a:lnTo>
                <a:lnTo>
                  <a:pt x="69" y="157"/>
                </a:lnTo>
                <a:lnTo>
                  <a:pt x="72" y="157"/>
                </a:lnTo>
                <a:lnTo>
                  <a:pt x="75" y="157"/>
                </a:lnTo>
                <a:lnTo>
                  <a:pt x="78" y="156"/>
                </a:lnTo>
                <a:lnTo>
                  <a:pt x="81" y="156"/>
                </a:lnTo>
                <a:lnTo>
                  <a:pt x="84" y="155"/>
                </a:lnTo>
                <a:lnTo>
                  <a:pt x="86" y="154"/>
                </a:lnTo>
                <a:lnTo>
                  <a:pt x="89" y="152"/>
                </a:lnTo>
                <a:lnTo>
                  <a:pt x="91" y="150"/>
                </a:lnTo>
                <a:lnTo>
                  <a:pt x="94" y="147"/>
                </a:lnTo>
                <a:lnTo>
                  <a:pt x="97" y="145"/>
                </a:lnTo>
                <a:lnTo>
                  <a:pt x="100" y="142"/>
                </a:lnTo>
                <a:lnTo>
                  <a:pt x="103" y="139"/>
                </a:lnTo>
                <a:lnTo>
                  <a:pt x="110" y="13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49760" y="3352680"/>
            <a:ext cx="133200" cy="84240"/>
          </a:xfrm>
          <a:custGeom>
            <a:avLst/>
            <a:gdLst/>
            <a:ahLst/>
            <a:rect l="l" t="t" r="r" b="b"/>
            <a:pathLst>
              <a:path w="252" h="210">
                <a:moveTo>
                  <a:pt x="0" y="166"/>
                </a:moveTo>
                <a:lnTo>
                  <a:pt x="161" y="0"/>
                </a:lnTo>
                <a:lnTo>
                  <a:pt x="252" y="133"/>
                </a:lnTo>
                <a:lnTo>
                  <a:pt x="234" y="153"/>
                </a:lnTo>
                <a:lnTo>
                  <a:pt x="160" y="46"/>
                </a:lnTo>
                <a:lnTo>
                  <a:pt x="110" y="97"/>
                </a:lnTo>
                <a:lnTo>
                  <a:pt x="174" y="190"/>
                </a:lnTo>
                <a:lnTo>
                  <a:pt x="155" y="210"/>
                </a:lnTo>
                <a:lnTo>
                  <a:pt x="91" y="117"/>
                </a:lnTo>
                <a:lnTo>
                  <a:pt x="18" y="193"/>
                </a:lnTo>
                <a:lnTo>
                  <a:pt x="0" y="16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13120" y="3422520"/>
            <a:ext cx="93600" cy="76320"/>
          </a:xfrm>
          <a:custGeom>
            <a:avLst/>
            <a:gdLst/>
            <a:ahLst/>
            <a:rect l="l" t="t" r="r" b="b"/>
            <a:pathLst>
              <a:path w="179" h="194">
                <a:moveTo>
                  <a:pt x="0" y="167"/>
                </a:moveTo>
                <a:lnTo>
                  <a:pt x="161" y="0"/>
                </a:lnTo>
                <a:lnTo>
                  <a:pt x="179" y="26"/>
                </a:lnTo>
                <a:lnTo>
                  <a:pt x="18" y="194"/>
                </a:lnTo>
                <a:lnTo>
                  <a:pt x="0" y="16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38680" y="3449520"/>
            <a:ext cx="95040" cy="115920"/>
          </a:xfrm>
          <a:custGeom>
            <a:avLst/>
            <a:gdLst/>
            <a:ahLst/>
            <a:rect l="l" t="t" r="r" b="b"/>
            <a:pathLst>
              <a:path w="179" h="291">
                <a:moveTo>
                  <a:pt x="0" y="167"/>
                </a:moveTo>
                <a:lnTo>
                  <a:pt x="160" y="0"/>
                </a:lnTo>
                <a:lnTo>
                  <a:pt x="179" y="26"/>
                </a:lnTo>
                <a:lnTo>
                  <a:pt x="37" y="174"/>
                </a:lnTo>
                <a:lnTo>
                  <a:pt x="104" y="271"/>
                </a:lnTo>
                <a:lnTo>
                  <a:pt x="84" y="291"/>
                </a:lnTo>
                <a:lnTo>
                  <a:pt x="0" y="16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9440" y="3510000"/>
            <a:ext cx="139680" cy="123840"/>
          </a:xfrm>
          <a:custGeom>
            <a:avLst/>
            <a:gdLst/>
            <a:ahLst/>
            <a:rect l="l" t="t" r="r" b="b"/>
            <a:pathLst>
              <a:path w="266" h="312">
                <a:moveTo>
                  <a:pt x="0" y="156"/>
                </a:moveTo>
                <a:lnTo>
                  <a:pt x="20" y="135"/>
                </a:lnTo>
                <a:lnTo>
                  <a:pt x="192" y="130"/>
                </a:lnTo>
                <a:lnTo>
                  <a:pt x="196" y="130"/>
                </a:lnTo>
                <a:lnTo>
                  <a:pt x="201" y="130"/>
                </a:lnTo>
                <a:lnTo>
                  <a:pt x="205" y="130"/>
                </a:lnTo>
                <a:lnTo>
                  <a:pt x="209" y="130"/>
                </a:lnTo>
                <a:lnTo>
                  <a:pt x="213" y="130"/>
                </a:lnTo>
                <a:lnTo>
                  <a:pt x="218" y="130"/>
                </a:lnTo>
                <a:lnTo>
                  <a:pt x="222" y="130"/>
                </a:lnTo>
                <a:lnTo>
                  <a:pt x="226" y="131"/>
                </a:lnTo>
                <a:lnTo>
                  <a:pt x="150" y="20"/>
                </a:lnTo>
                <a:lnTo>
                  <a:pt x="169" y="0"/>
                </a:lnTo>
                <a:lnTo>
                  <a:pt x="266" y="142"/>
                </a:lnTo>
                <a:lnTo>
                  <a:pt x="247" y="162"/>
                </a:lnTo>
                <a:lnTo>
                  <a:pt x="59" y="166"/>
                </a:lnTo>
                <a:lnTo>
                  <a:pt x="39" y="166"/>
                </a:lnTo>
                <a:lnTo>
                  <a:pt x="126" y="293"/>
                </a:lnTo>
                <a:lnTo>
                  <a:pt x="107" y="312"/>
                </a:lnTo>
                <a:lnTo>
                  <a:pt x="0" y="1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57480" y="3581280"/>
            <a:ext cx="93960" cy="76320"/>
          </a:xfrm>
          <a:custGeom>
            <a:avLst/>
            <a:gdLst/>
            <a:ahLst/>
            <a:rect l="l" t="t" r="r" b="b"/>
            <a:pathLst>
              <a:path w="179" h="193">
                <a:moveTo>
                  <a:pt x="0" y="167"/>
                </a:moveTo>
                <a:lnTo>
                  <a:pt x="162" y="0"/>
                </a:lnTo>
                <a:lnTo>
                  <a:pt x="179" y="26"/>
                </a:lnTo>
                <a:lnTo>
                  <a:pt x="19" y="193"/>
                </a:lnTo>
                <a:lnTo>
                  <a:pt x="0" y="16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6680" y="3852720"/>
            <a:ext cx="98640" cy="106560"/>
          </a:xfrm>
          <a:custGeom>
            <a:avLst/>
            <a:gdLst/>
            <a:ahLst/>
            <a:rect l="l" t="t" r="r" b="b"/>
            <a:pathLst>
              <a:path w="187" h="268">
                <a:moveTo>
                  <a:pt x="22" y="209"/>
                </a:moveTo>
                <a:lnTo>
                  <a:pt x="46" y="197"/>
                </a:lnTo>
                <a:lnTo>
                  <a:pt x="48" y="202"/>
                </a:lnTo>
                <a:lnTo>
                  <a:pt x="49" y="206"/>
                </a:lnTo>
                <a:lnTo>
                  <a:pt x="51" y="209"/>
                </a:lnTo>
                <a:lnTo>
                  <a:pt x="53" y="213"/>
                </a:lnTo>
                <a:lnTo>
                  <a:pt x="55" y="216"/>
                </a:lnTo>
                <a:lnTo>
                  <a:pt x="57" y="219"/>
                </a:lnTo>
                <a:lnTo>
                  <a:pt x="60" y="222"/>
                </a:lnTo>
                <a:lnTo>
                  <a:pt x="62" y="224"/>
                </a:lnTo>
                <a:lnTo>
                  <a:pt x="64" y="227"/>
                </a:lnTo>
                <a:lnTo>
                  <a:pt x="67" y="228"/>
                </a:lnTo>
                <a:lnTo>
                  <a:pt x="70" y="231"/>
                </a:lnTo>
                <a:lnTo>
                  <a:pt x="74" y="232"/>
                </a:lnTo>
                <a:lnTo>
                  <a:pt x="77" y="233"/>
                </a:lnTo>
                <a:lnTo>
                  <a:pt x="80" y="234"/>
                </a:lnTo>
                <a:lnTo>
                  <a:pt x="84" y="236"/>
                </a:lnTo>
                <a:lnTo>
                  <a:pt x="88" y="236"/>
                </a:lnTo>
                <a:lnTo>
                  <a:pt x="92" y="236"/>
                </a:lnTo>
                <a:lnTo>
                  <a:pt x="96" y="236"/>
                </a:lnTo>
                <a:lnTo>
                  <a:pt x="100" y="236"/>
                </a:lnTo>
                <a:lnTo>
                  <a:pt x="104" y="236"/>
                </a:lnTo>
                <a:lnTo>
                  <a:pt x="108" y="234"/>
                </a:lnTo>
                <a:lnTo>
                  <a:pt x="112" y="234"/>
                </a:lnTo>
                <a:lnTo>
                  <a:pt x="116" y="233"/>
                </a:lnTo>
                <a:lnTo>
                  <a:pt x="120" y="231"/>
                </a:lnTo>
                <a:lnTo>
                  <a:pt x="124" y="229"/>
                </a:lnTo>
                <a:lnTo>
                  <a:pt x="127" y="228"/>
                </a:lnTo>
                <a:lnTo>
                  <a:pt x="131" y="226"/>
                </a:lnTo>
                <a:lnTo>
                  <a:pt x="134" y="224"/>
                </a:lnTo>
                <a:lnTo>
                  <a:pt x="137" y="222"/>
                </a:lnTo>
                <a:lnTo>
                  <a:pt x="140" y="219"/>
                </a:lnTo>
                <a:lnTo>
                  <a:pt x="142" y="217"/>
                </a:lnTo>
                <a:lnTo>
                  <a:pt x="146" y="214"/>
                </a:lnTo>
                <a:lnTo>
                  <a:pt x="148" y="212"/>
                </a:lnTo>
                <a:lnTo>
                  <a:pt x="151" y="209"/>
                </a:lnTo>
                <a:lnTo>
                  <a:pt x="153" y="207"/>
                </a:lnTo>
                <a:lnTo>
                  <a:pt x="154" y="204"/>
                </a:lnTo>
                <a:lnTo>
                  <a:pt x="156" y="202"/>
                </a:lnTo>
                <a:lnTo>
                  <a:pt x="157" y="199"/>
                </a:lnTo>
                <a:lnTo>
                  <a:pt x="158" y="196"/>
                </a:lnTo>
                <a:lnTo>
                  <a:pt x="159" y="193"/>
                </a:lnTo>
                <a:lnTo>
                  <a:pt x="160" y="189"/>
                </a:lnTo>
                <a:lnTo>
                  <a:pt x="160" y="187"/>
                </a:lnTo>
                <a:lnTo>
                  <a:pt x="161" y="184"/>
                </a:lnTo>
                <a:lnTo>
                  <a:pt x="161" y="181"/>
                </a:lnTo>
                <a:lnTo>
                  <a:pt x="161" y="178"/>
                </a:lnTo>
                <a:lnTo>
                  <a:pt x="161" y="176"/>
                </a:lnTo>
                <a:lnTo>
                  <a:pt x="160" y="172"/>
                </a:lnTo>
                <a:lnTo>
                  <a:pt x="159" y="169"/>
                </a:lnTo>
                <a:lnTo>
                  <a:pt x="159" y="167"/>
                </a:lnTo>
                <a:lnTo>
                  <a:pt x="158" y="164"/>
                </a:lnTo>
                <a:lnTo>
                  <a:pt x="157" y="162"/>
                </a:lnTo>
                <a:lnTo>
                  <a:pt x="155" y="159"/>
                </a:lnTo>
                <a:lnTo>
                  <a:pt x="154" y="157"/>
                </a:lnTo>
                <a:lnTo>
                  <a:pt x="152" y="154"/>
                </a:lnTo>
                <a:lnTo>
                  <a:pt x="151" y="153"/>
                </a:lnTo>
                <a:lnTo>
                  <a:pt x="149" y="152"/>
                </a:lnTo>
                <a:lnTo>
                  <a:pt x="147" y="149"/>
                </a:lnTo>
                <a:lnTo>
                  <a:pt x="144" y="148"/>
                </a:lnTo>
                <a:lnTo>
                  <a:pt x="141" y="147"/>
                </a:lnTo>
                <a:lnTo>
                  <a:pt x="139" y="146"/>
                </a:lnTo>
                <a:lnTo>
                  <a:pt x="136" y="146"/>
                </a:lnTo>
                <a:lnTo>
                  <a:pt x="133" y="144"/>
                </a:lnTo>
                <a:lnTo>
                  <a:pt x="130" y="144"/>
                </a:lnTo>
                <a:lnTo>
                  <a:pt x="126" y="144"/>
                </a:lnTo>
                <a:lnTo>
                  <a:pt x="124" y="143"/>
                </a:lnTo>
                <a:lnTo>
                  <a:pt x="121" y="143"/>
                </a:lnTo>
                <a:lnTo>
                  <a:pt x="117" y="143"/>
                </a:lnTo>
                <a:lnTo>
                  <a:pt x="112" y="144"/>
                </a:lnTo>
                <a:lnTo>
                  <a:pt x="107" y="144"/>
                </a:lnTo>
                <a:lnTo>
                  <a:pt x="101" y="144"/>
                </a:lnTo>
                <a:lnTo>
                  <a:pt x="95" y="146"/>
                </a:lnTo>
                <a:lnTo>
                  <a:pt x="88" y="146"/>
                </a:lnTo>
                <a:lnTo>
                  <a:pt x="81" y="147"/>
                </a:lnTo>
                <a:lnTo>
                  <a:pt x="74" y="147"/>
                </a:lnTo>
                <a:lnTo>
                  <a:pt x="67" y="147"/>
                </a:lnTo>
                <a:lnTo>
                  <a:pt x="62" y="147"/>
                </a:lnTo>
                <a:lnTo>
                  <a:pt x="57" y="147"/>
                </a:lnTo>
                <a:lnTo>
                  <a:pt x="52" y="147"/>
                </a:lnTo>
                <a:lnTo>
                  <a:pt x="48" y="146"/>
                </a:lnTo>
                <a:lnTo>
                  <a:pt x="45" y="146"/>
                </a:lnTo>
                <a:lnTo>
                  <a:pt x="41" y="144"/>
                </a:lnTo>
                <a:lnTo>
                  <a:pt x="37" y="143"/>
                </a:lnTo>
                <a:lnTo>
                  <a:pt x="33" y="142"/>
                </a:lnTo>
                <a:lnTo>
                  <a:pt x="30" y="140"/>
                </a:lnTo>
                <a:lnTo>
                  <a:pt x="27" y="138"/>
                </a:lnTo>
                <a:lnTo>
                  <a:pt x="24" y="136"/>
                </a:lnTo>
                <a:lnTo>
                  <a:pt x="21" y="133"/>
                </a:lnTo>
                <a:lnTo>
                  <a:pt x="18" y="131"/>
                </a:lnTo>
                <a:lnTo>
                  <a:pt x="15" y="128"/>
                </a:lnTo>
                <a:lnTo>
                  <a:pt x="13" y="125"/>
                </a:lnTo>
                <a:lnTo>
                  <a:pt x="11" y="122"/>
                </a:lnTo>
                <a:lnTo>
                  <a:pt x="9" y="118"/>
                </a:lnTo>
                <a:lnTo>
                  <a:pt x="7" y="115"/>
                </a:lnTo>
                <a:lnTo>
                  <a:pt x="6" y="111"/>
                </a:lnTo>
                <a:lnTo>
                  <a:pt x="4" y="107"/>
                </a:lnTo>
                <a:lnTo>
                  <a:pt x="3" y="103"/>
                </a:lnTo>
                <a:lnTo>
                  <a:pt x="2" y="98"/>
                </a:lnTo>
                <a:lnTo>
                  <a:pt x="0" y="93"/>
                </a:lnTo>
                <a:lnTo>
                  <a:pt x="0" y="88"/>
                </a:lnTo>
                <a:lnTo>
                  <a:pt x="0" y="85"/>
                </a:lnTo>
                <a:lnTo>
                  <a:pt x="0" y="80"/>
                </a:lnTo>
                <a:lnTo>
                  <a:pt x="0" y="75"/>
                </a:lnTo>
                <a:lnTo>
                  <a:pt x="2" y="70"/>
                </a:lnTo>
                <a:lnTo>
                  <a:pt x="3" y="65"/>
                </a:lnTo>
                <a:lnTo>
                  <a:pt x="4" y="60"/>
                </a:lnTo>
                <a:lnTo>
                  <a:pt x="6" y="55"/>
                </a:lnTo>
                <a:lnTo>
                  <a:pt x="7" y="51"/>
                </a:lnTo>
                <a:lnTo>
                  <a:pt x="10" y="46"/>
                </a:lnTo>
                <a:lnTo>
                  <a:pt x="12" y="42"/>
                </a:lnTo>
                <a:lnTo>
                  <a:pt x="15" y="38"/>
                </a:lnTo>
                <a:lnTo>
                  <a:pt x="18" y="33"/>
                </a:lnTo>
                <a:lnTo>
                  <a:pt x="21" y="30"/>
                </a:lnTo>
                <a:lnTo>
                  <a:pt x="25" y="26"/>
                </a:lnTo>
                <a:lnTo>
                  <a:pt x="29" y="23"/>
                </a:lnTo>
                <a:lnTo>
                  <a:pt x="33" y="20"/>
                </a:lnTo>
                <a:lnTo>
                  <a:pt x="37" y="17"/>
                </a:lnTo>
                <a:lnTo>
                  <a:pt x="41" y="15"/>
                </a:lnTo>
                <a:lnTo>
                  <a:pt x="46" y="12"/>
                </a:lnTo>
                <a:lnTo>
                  <a:pt x="51" y="10"/>
                </a:lnTo>
                <a:lnTo>
                  <a:pt x="56" y="7"/>
                </a:lnTo>
                <a:lnTo>
                  <a:pt x="61" y="5"/>
                </a:lnTo>
                <a:lnTo>
                  <a:pt x="66" y="3"/>
                </a:lnTo>
                <a:lnTo>
                  <a:pt x="72" y="2"/>
                </a:lnTo>
                <a:lnTo>
                  <a:pt x="78" y="1"/>
                </a:lnTo>
                <a:lnTo>
                  <a:pt x="83" y="1"/>
                </a:lnTo>
                <a:lnTo>
                  <a:pt x="88" y="0"/>
                </a:lnTo>
                <a:lnTo>
                  <a:pt x="93" y="1"/>
                </a:lnTo>
                <a:lnTo>
                  <a:pt x="98" y="1"/>
                </a:lnTo>
                <a:lnTo>
                  <a:pt x="102" y="1"/>
                </a:lnTo>
                <a:lnTo>
                  <a:pt x="107" y="2"/>
                </a:lnTo>
                <a:lnTo>
                  <a:pt x="111" y="3"/>
                </a:lnTo>
                <a:lnTo>
                  <a:pt x="115" y="6"/>
                </a:lnTo>
                <a:lnTo>
                  <a:pt x="119" y="8"/>
                </a:lnTo>
                <a:lnTo>
                  <a:pt x="123" y="11"/>
                </a:lnTo>
                <a:lnTo>
                  <a:pt x="127" y="13"/>
                </a:lnTo>
                <a:lnTo>
                  <a:pt x="130" y="16"/>
                </a:lnTo>
                <a:lnTo>
                  <a:pt x="133" y="20"/>
                </a:lnTo>
                <a:lnTo>
                  <a:pt x="136" y="23"/>
                </a:lnTo>
                <a:lnTo>
                  <a:pt x="139" y="28"/>
                </a:lnTo>
                <a:lnTo>
                  <a:pt x="142" y="32"/>
                </a:lnTo>
                <a:lnTo>
                  <a:pt x="144" y="37"/>
                </a:lnTo>
                <a:lnTo>
                  <a:pt x="147" y="41"/>
                </a:lnTo>
                <a:lnTo>
                  <a:pt x="149" y="46"/>
                </a:lnTo>
                <a:lnTo>
                  <a:pt x="151" y="52"/>
                </a:lnTo>
                <a:lnTo>
                  <a:pt x="125" y="63"/>
                </a:lnTo>
                <a:lnTo>
                  <a:pt x="123" y="58"/>
                </a:lnTo>
                <a:lnTo>
                  <a:pt x="121" y="53"/>
                </a:lnTo>
                <a:lnTo>
                  <a:pt x="118" y="50"/>
                </a:lnTo>
                <a:lnTo>
                  <a:pt x="116" y="45"/>
                </a:lnTo>
                <a:lnTo>
                  <a:pt x="113" y="42"/>
                </a:lnTo>
                <a:lnTo>
                  <a:pt x="109" y="38"/>
                </a:lnTo>
                <a:lnTo>
                  <a:pt x="106" y="36"/>
                </a:lnTo>
                <a:lnTo>
                  <a:pt x="102" y="33"/>
                </a:lnTo>
                <a:lnTo>
                  <a:pt x="99" y="32"/>
                </a:lnTo>
                <a:lnTo>
                  <a:pt x="95" y="31"/>
                </a:lnTo>
                <a:lnTo>
                  <a:pt x="90" y="31"/>
                </a:lnTo>
                <a:lnTo>
                  <a:pt x="86" y="31"/>
                </a:lnTo>
                <a:lnTo>
                  <a:pt x="81" y="31"/>
                </a:lnTo>
                <a:lnTo>
                  <a:pt x="76" y="32"/>
                </a:lnTo>
                <a:lnTo>
                  <a:pt x="70" y="33"/>
                </a:lnTo>
                <a:lnTo>
                  <a:pt x="64" y="36"/>
                </a:lnTo>
                <a:lnTo>
                  <a:pt x="58" y="38"/>
                </a:lnTo>
                <a:lnTo>
                  <a:pt x="53" y="41"/>
                </a:lnTo>
                <a:lnTo>
                  <a:pt x="48" y="43"/>
                </a:lnTo>
                <a:lnTo>
                  <a:pt x="44" y="46"/>
                </a:lnTo>
                <a:lnTo>
                  <a:pt x="40" y="50"/>
                </a:lnTo>
                <a:lnTo>
                  <a:pt x="37" y="53"/>
                </a:lnTo>
                <a:lnTo>
                  <a:pt x="34" y="57"/>
                </a:lnTo>
                <a:lnTo>
                  <a:pt x="32" y="61"/>
                </a:lnTo>
                <a:lnTo>
                  <a:pt x="30" y="65"/>
                </a:lnTo>
                <a:lnTo>
                  <a:pt x="29" y="68"/>
                </a:lnTo>
                <a:lnTo>
                  <a:pt x="28" y="72"/>
                </a:lnTo>
                <a:lnTo>
                  <a:pt x="27" y="76"/>
                </a:lnTo>
                <a:lnTo>
                  <a:pt x="27" y="80"/>
                </a:lnTo>
                <a:lnTo>
                  <a:pt x="27" y="83"/>
                </a:lnTo>
                <a:lnTo>
                  <a:pt x="27" y="87"/>
                </a:lnTo>
                <a:lnTo>
                  <a:pt x="28" y="91"/>
                </a:lnTo>
                <a:lnTo>
                  <a:pt x="29" y="93"/>
                </a:lnTo>
                <a:lnTo>
                  <a:pt x="30" y="97"/>
                </a:lnTo>
                <a:lnTo>
                  <a:pt x="31" y="100"/>
                </a:lnTo>
                <a:lnTo>
                  <a:pt x="33" y="102"/>
                </a:lnTo>
                <a:lnTo>
                  <a:pt x="35" y="105"/>
                </a:lnTo>
                <a:lnTo>
                  <a:pt x="37" y="106"/>
                </a:lnTo>
                <a:lnTo>
                  <a:pt x="39" y="108"/>
                </a:lnTo>
                <a:lnTo>
                  <a:pt x="41" y="110"/>
                </a:lnTo>
                <a:lnTo>
                  <a:pt x="44" y="111"/>
                </a:lnTo>
                <a:lnTo>
                  <a:pt x="48" y="112"/>
                </a:lnTo>
                <a:lnTo>
                  <a:pt x="52" y="112"/>
                </a:lnTo>
                <a:lnTo>
                  <a:pt x="57" y="113"/>
                </a:lnTo>
                <a:lnTo>
                  <a:pt x="63" y="113"/>
                </a:lnTo>
                <a:lnTo>
                  <a:pt x="70" y="113"/>
                </a:lnTo>
                <a:lnTo>
                  <a:pt x="78" y="112"/>
                </a:lnTo>
                <a:lnTo>
                  <a:pt x="86" y="112"/>
                </a:lnTo>
                <a:lnTo>
                  <a:pt x="94" y="111"/>
                </a:lnTo>
                <a:lnTo>
                  <a:pt x="102" y="110"/>
                </a:lnTo>
                <a:lnTo>
                  <a:pt x="109" y="110"/>
                </a:lnTo>
                <a:lnTo>
                  <a:pt x="115" y="110"/>
                </a:lnTo>
                <a:lnTo>
                  <a:pt x="121" y="110"/>
                </a:lnTo>
                <a:lnTo>
                  <a:pt x="126" y="110"/>
                </a:lnTo>
                <a:lnTo>
                  <a:pt x="130" y="110"/>
                </a:lnTo>
                <a:lnTo>
                  <a:pt x="134" y="110"/>
                </a:lnTo>
                <a:lnTo>
                  <a:pt x="139" y="111"/>
                </a:lnTo>
                <a:lnTo>
                  <a:pt x="143" y="112"/>
                </a:lnTo>
                <a:lnTo>
                  <a:pt x="149" y="113"/>
                </a:lnTo>
                <a:lnTo>
                  <a:pt x="153" y="116"/>
                </a:lnTo>
                <a:lnTo>
                  <a:pt x="157" y="117"/>
                </a:lnTo>
                <a:lnTo>
                  <a:pt x="160" y="120"/>
                </a:lnTo>
                <a:lnTo>
                  <a:pt x="164" y="122"/>
                </a:lnTo>
                <a:lnTo>
                  <a:pt x="167" y="125"/>
                </a:lnTo>
                <a:lnTo>
                  <a:pt x="170" y="128"/>
                </a:lnTo>
                <a:lnTo>
                  <a:pt x="172" y="132"/>
                </a:lnTo>
                <a:lnTo>
                  <a:pt x="175" y="135"/>
                </a:lnTo>
                <a:lnTo>
                  <a:pt x="177" y="140"/>
                </a:lnTo>
                <a:lnTo>
                  <a:pt x="179" y="143"/>
                </a:lnTo>
                <a:lnTo>
                  <a:pt x="181" y="147"/>
                </a:lnTo>
                <a:lnTo>
                  <a:pt x="183" y="152"/>
                </a:lnTo>
                <a:lnTo>
                  <a:pt x="184" y="157"/>
                </a:lnTo>
                <a:lnTo>
                  <a:pt x="185" y="162"/>
                </a:lnTo>
                <a:lnTo>
                  <a:pt x="186" y="167"/>
                </a:lnTo>
                <a:lnTo>
                  <a:pt x="186" y="172"/>
                </a:lnTo>
                <a:lnTo>
                  <a:pt x="187" y="177"/>
                </a:lnTo>
                <a:lnTo>
                  <a:pt x="187" y="182"/>
                </a:lnTo>
                <a:lnTo>
                  <a:pt x="186" y="187"/>
                </a:lnTo>
                <a:lnTo>
                  <a:pt x="185" y="192"/>
                </a:lnTo>
                <a:lnTo>
                  <a:pt x="184" y="198"/>
                </a:lnTo>
                <a:lnTo>
                  <a:pt x="183" y="203"/>
                </a:lnTo>
                <a:lnTo>
                  <a:pt x="182" y="208"/>
                </a:lnTo>
                <a:lnTo>
                  <a:pt x="180" y="213"/>
                </a:lnTo>
                <a:lnTo>
                  <a:pt x="177" y="217"/>
                </a:lnTo>
                <a:lnTo>
                  <a:pt x="175" y="222"/>
                </a:lnTo>
                <a:lnTo>
                  <a:pt x="172" y="227"/>
                </a:lnTo>
                <a:lnTo>
                  <a:pt x="169" y="231"/>
                </a:lnTo>
                <a:lnTo>
                  <a:pt x="165" y="236"/>
                </a:lnTo>
                <a:lnTo>
                  <a:pt x="162" y="239"/>
                </a:lnTo>
                <a:lnTo>
                  <a:pt x="158" y="243"/>
                </a:lnTo>
                <a:lnTo>
                  <a:pt x="154" y="247"/>
                </a:lnTo>
                <a:lnTo>
                  <a:pt x="149" y="249"/>
                </a:lnTo>
                <a:lnTo>
                  <a:pt x="144" y="252"/>
                </a:lnTo>
                <a:lnTo>
                  <a:pt x="139" y="256"/>
                </a:lnTo>
                <a:lnTo>
                  <a:pt x="134" y="258"/>
                </a:lnTo>
                <a:lnTo>
                  <a:pt x="129" y="259"/>
                </a:lnTo>
                <a:lnTo>
                  <a:pt x="122" y="262"/>
                </a:lnTo>
                <a:lnTo>
                  <a:pt x="116" y="264"/>
                </a:lnTo>
                <a:lnTo>
                  <a:pt x="109" y="266"/>
                </a:lnTo>
                <a:lnTo>
                  <a:pt x="103" y="267"/>
                </a:lnTo>
                <a:lnTo>
                  <a:pt x="98" y="268"/>
                </a:lnTo>
                <a:lnTo>
                  <a:pt x="92" y="268"/>
                </a:lnTo>
                <a:lnTo>
                  <a:pt x="86" y="268"/>
                </a:lnTo>
                <a:lnTo>
                  <a:pt x="81" y="268"/>
                </a:lnTo>
                <a:lnTo>
                  <a:pt x="76" y="267"/>
                </a:lnTo>
                <a:lnTo>
                  <a:pt x="70" y="266"/>
                </a:lnTo>
                <a:lnTo>
                  <a:pt x="65" y="264"/>
                </a:lnTo>
                <a:lnTo>
                  <a:pt x="61" y="262"/>
                </a:lnTo>
                <a:lnTo>
                  <a:pt x="56" y="259"/>
                </a:lnTo>
                <a:lnTo>
                  <a:pt x="52" y="257"/>
                </a:lnTo>
                <a:lnTo>
                  <a:pt x="48" y="253"/>
                </a:lnTo>
                <a:lnTo>
                  <a:pt x="44" y="249"/>
                </a:lnTo>
                <a:lnTo>
                  <a:pt x="41" y="246"/>
                </a:lnTo>
                <a:lnTo>
                  <a:pt x="37" y="242"/>
                </a:lnTo>
                <a:lnTo>
                  <a:pt x="34" y="237"/>
                </a:lnTo>
                <a:lnTo>
                  <a:pt x="31" y="232"/>
                </a:lnTo>
                <a:lnTo>
                  <a:pt x="28" y="227"/>
                </a:lnTo>
                <a:lnTo>
                  <a:pt x="26" y="222"/>
                </a:lnTo>
                <a:lnTo>
                  <a:pt x="24" y="216"/>
                </a:lnTo>
                <a:lnTo>
                  <a:pt x="22" y="20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91160" y="3825720"/>
            <a:ext cx="100080" cy="114480"/>
          </a:xfrm>
          <a:custGeom>
            <a:avLst/>
            <a:gdLst/>
            <a:ahLst/>
            <a:rect l="l" t="t" r="r" b="b"/>
            <a:pathLst>
              <a:path w="188" h="289">
                <a:moveTo>
                  <a:pt x="0" y="289"/>
                </a:moveTo>
                <a:lnTo>
                  <a:pt x="14" y="12"/>
                </a:lnTo>
                <a:lnTo>
                  <a:pt x="42" y="0"/>
                </a:lnTo>
                <a:lnTo>
                  <a:pt x="188" y="215"/>
                </a:lnTo>
                <a:lnTo>
                  <a:pt x="158" y="226"/>
                </a:lnTo>
                <a:lnTo>
                  <a:pt x="115" y="161"/>
                </a:lnTo>
                <a:lnTo>
                  <a:pt x="31" y="194"/>
                </a:lnTo>
                <a:lnTo>
                  <a:pt x="28" y="277"/>
                </a:lnTo>
                <a:lnTo>
                  <a:pt x="0" y="289"/>
                </a:lnTo>
                <a:close/>
                <a:moveTo>
                  <a:pt x="32" y="164"/>
                </a:moveTo>
                <a:lnTo>
                  <a:pt x="100" y="138"/>
                </a:lnTo>
                <a:lnTo>
                  <a:pt x="61" y="78"/>
                </a:lnTo>
                <a:lnTo>
                  <a:pt x="57" y="70"/>
                </a:lnTo>
                <a:lnTo>
                  <a:pt x="53" y="64"/>
                </a:lnTo>
                <a:lnTo>
                  <a:pt x="49" y="58"/>
                </a:lnTo>
                <a:lnTo>
                  <a:pt x="45" y="53"/>
                </a:lnTo>
                <a:lnTo>
                  <a:pt x="42" y="47"/>
                </a:lnTo>
                <a:lnTo>
                  <a:pt x="39" y="42"/>
                </a:lnTo>
                <a:lnTo>
                  <a:pt x="36" y="37"/>
                </a:lnTo>
                <a:lnTo>
                  <a:pt x="34" y="32"/>
                </a:lnTo>
                <a:lnTo>
                  <a:pt x="34" y="38"/>
                </a:lnTo>
                <a:lnTo>
                  <a:pt x="35" y="44"/>
                </a:lnTo>
                <a:lnTo>
                  <a:pt x="35" y="50"/>
                </a:lnTo>
                <a:lnTo>
                  <a:pt x="35" y="58"/>
                </a:lnTo>
                <a:lnTo>
                  <a:pt x="35" y="64"/>
                </a:lnTo>
                <a:lnTo>
                  <a:pt x="35" y="70"/>
                </a:lnTo>
                <a:lnTo>
                  <a:pt x="35" y="76"/>
                </a:lnTo>
                <a:lnTo>
                  <a:pt x="35" y="83"/>
                </a:lnTo>
                <a:lnTo>
                  <a:pt x="32" y="16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67120" y="3784680"/>
            <a:ext cx="108000" cy="115920"/>
          </a:xfrm>
          <a:custGeom>
            <a:avLst/>
            <a:gdLst/>
            <a:ahLst/>
            <a:rect l="l" t="t" r="r" b="b"/>
            <a:pathLst>
              <a:path w="203" h="289">
                <a:moveTo>
                  <a:pt x="132" y="10"/>
                </a:moveTo>
                <a:lnTo>
                  <a:pt x="159" y="0"/>
                </a:lnTo>
                <a:lnTo>
                  <a:pt x="195" y="142"/>
                </a:lnTo>
                <a:lnTo>
                  <a:pt x="197" y="152"/>
                </a:lnTo>
                <a:lnTo>
                  <a:pt x="199" y="161"/>
                </a:lnTo>
                <a:lnTo>
                  <a:pt x="201" y="168"/>
                </a:lnTo>
                <a:lnTo>
                  <a:pt x="202" y="177"/>
                </a:lnTo>
                <a:lnTo>
                  <a:pt x="203" y="184"/>
                </a:lnTo>
                <a:lnTo>
                  <a:pt x="203" y="192"/>
                </a:lnTo>
                <a:lnTo>
                  <a:pt x="203" y="198"/>
                </a:lnTo>
                <a:lnTo>
                  <a:pt x="203" y="204"/>
                </a:lnTo>
                <a:lnTo>
                  <a:pt x="203" y="211"/>
                </a:lnTo>
                <a:lnTo>
                  <a:pt x="202" y="217"/>
                </a:lnTo>
                <a:lnTo>
                  <a:pt x="201" y="222"/>
                </a:lnTo>
                <a:lnTo>
                  <a:pt x="199" y="228"/>
                </a:lnTo>
                <a:lnTo>
                  <a:pt x="197" y="233"/>
                </a:lnTo>
                <a:lnTo>
                  <a:pt x="194" y="239"/>
                </a:lnTo>
                <a:lnTo>
                  <a:pt x="191" y="244"/>
                </a:lnTo>
                <a:lnTo>
                  <a:pt x="188" y="249"/>
                </a:lnTo>
                <a:lnTo>
                  <a:pt x="184" y="254"/>
                </a:lnTo>
                <a:lnTo>
                  <a:pt x="180" y="259"/>
                </a:lnTo>
                <a:lnTo>
                  <a:pt x="175" y="264"/>
                </a:lnTo>
                <a:lnTo>
                  <a:pt x="170" y="268"/>
                </a:lnTo>
                <a:lnTo>
                  <a:pt x="165" y="272"/>
                </a:lnTo>
                <a:lnTo>
                  <a:pt x="159" y="276"/>
                </a:lnTo>
                <a:lnTo>
                  <a:pt x="152" y="279"/>
                </a:lnTo>
                <a:lnTo>
                  <a:pt x="144" y="282"/>
                </a:lnTo>
                <a:lnTo>
                  <a:pt x="137" y="284"/>
                </a:lnTo>
                <a:lnTo>
                  <a:pt x="131" y="287"/>
                </a:lnTo>
                <a:lnTo>
                  <a:pt x="124" y="288"/>
                </a:lnTo>
                <a:lnTo>
                  <a:pt x="118" y="289"/>
                </a:lnTo>
                <a:lnTo>
                  <a:pt x="112" y="289"/>
                </a:lnTo>
                <a:lnTo>
                  <a:pt x="107" y="289"/>
                </a:lnTo>
                <a:lnTo>
                  <a:pt x="101" y="289"/>
                </a:lnTo>
                <a:lnTo>
                  <a:pt x="96" y="288"/>
                </a:lnTo>
                <a:lnTo>
                  <a:pt x="91" y="287"/>
                </a:lnTo>
                <a:lnTo>
                  <a:pt x="86" y="284"/>
                </a:lnTo>
                <a:lnTo>
                  <a:pt x="81" y="282"/>
                </a:lnTo>
                <a:lnTo>
                  <a:pt x="77" y="279"/>
                </a:lnTo>
                <a:lnTo>
                  <a:pt x="72" y="276"/>
                </a:lnTo>
                <a:lnTo>
                  <a:pt x="68" y="272"/>
                </a:lnTo>
                <a:lnTo>
                  <a:pt x="64" y="268"/>
                </a:lnTo>
                <a:lnTo>
                  <a:pt x="61" y="263"/>
                </a:lnTo>
                <a:lnTo>
                  <a:pt x="57" y="258"/>
                </a:lnTo>
                <a:lnTo>
                  <a:pt x="54" y="252"/>
                </a:lnTo>
                <a:lnTo>
                  <a:pt x="51" y="246"/>
                </a:lnTo>
                <a:lnTo>
                  <a:pt x="48" y="238"/>
                </a:lnTo>
                <a:lnTo>
                  <a:pt x="45" y="231"/>
                </a:lnTo>
                <a:lnTo>
                  <a:pt x="43" y="223"/>
                </a:lnTo>
                <a:lnTo>
                  <a:pt x="40" y="214"/>
                </a:lnTo>
                <a:lnTo>
                  <a:pt x="37" y="204"/>
                </a:lnTo>
                <a:lnTo>
                  <a:pt x="0" y="62"/>
                </a:lnTo>
                <a:lnTo>
                  <a:pt x="27" y="51"/>
                </a:lnTo>
                <a:lnTo>
                  <a:pt x="64" y="193"/>
                </a:lnTo>
                <a:lnTo>
                  <a:pt x="66" y="202"/>
                </a:lnTo>
                <a:lnTo>
                  <a:pt x="68" y="208"/>
                </a:lnTo>
                <a:lnTo>
                  <a:pt x="70" y="216"/>
                </a:lnTo>
                <a:lnTo>
                  <a:pt x="72" y="221"/>
                </a:lnTo>
                <a:lnTo>
                  <a:pt x="75" y="227"/>
                </a:lnTo>
                <a:lnTo>
                  <a:pt x="77" y="232"/>
                </a:lnTo>
                <a:lnTo>
                  <a:pt x="79" y="236"/>
                </a:lnTo>
                <a:lnTo>
                  <a:pt x="81" y="239"/>
                </a:lnTo>
                <a:lnTo>
                  <a:pt x="84" y="242"/>
                </a:lnTo>
                <a:lnTo>
                  <a:pt x="86" y="246"/>
                </a:lnTo>
                <a:lnTo>
                  <a:pt x="89" y="248"/>
                </a:lnTo>
                <a:lnTo>
                  <a:pt x="91" y="251"/>
                </a:lnTo>
                <a:lnTo>
                  <a:pt x="94" y="252"/>
                </a:lnTo>
                <a:lnTo>
                  <a:pt x="97" y="254"/>
                </a:lnTo>
                <a:lnTo>
                  <a:pt x="100" y="256"/>
                </a:lnTo>
                <a:lnTo>
                  <a:pt x="104" y="257"/>
                </a:lnTo>
                <a:lnTo>
                  <a:pt x="107" y="257"/>
                </a:lnTo>
                <a:lnTo>
                  <a:pt x="111" y="257"/>
                </a:lnTo>
                <a:lnTo>
                  <a:pt x="115" y="258"/>
                </a:lnTo>
                <a:lnTo>
                  <a:pt x="118" y="257"/>
                </a:lnTo>
                <a:lnTo>
                  <a:pt x="122" y="257"/>
                </a:lnTo>
                <a:lnTo>
                  <a:pt x="126" y="256"/>
                </a:lnTo>
                <a:lnTo>
                  <a:pt x="130" y="254"/>
                </a:lnTo>
                <a:lnTo>
                  <a:pt x="134" y="253"/>
                </a:lnTo>
                <a:lnTo>
                  <a:pt x="141" y="251"/>
                </a:lnTo>
                <a:lnTo>
                  <a:pt x="149" y="247"/>
                </a:lnTo>
                <a:lnTo>
                  <a:pt x="154" y="243"/>
                </a:lnTo>
                <a:lnTo>
                  <a:pt x="159" y="239"/>
                </a:lnTo>
                <a:lnTo>
                  <a:pt x="163" y="236"/>
                </a:lnTo>
                <a:lnTo>
                  <a:pt x="167" y="231"/>
                </a:lnTo>
                <a:lnTo>
                  <a:pt x="170" y="226"/>
                </a:lnTo>
                <a:lnTo>
                  <a:pt x="173" y="221"/>
                </a:lnTo>
                <a:lnTo>
                  <a:pt x="174" y="214"/>
                </a:lnTo>
                <a:lnTo>
                  <a:pt x="175" y="208"/>
                </a:lnTo>
                <a:lnTo>
                  <a:pt x="176" y="201"/>
                </a:lnTo>
                <a:lnTo>
                  <a:pt x="176" y="193"/>
                </a:lnTo>
                <a:lnTo>
                  <a:pt x="175" y="184"/>
                </a:lnTo>
                <a:lnTo>
                  <a:pt x="173" y="174"/>
                </a:lnTo>
                <a:lnTo>
                  <a:pt x="171" y="165"/>
                </a:lnTo>
                <a:lnTo>
                  <a:pt x="169" y="153"/>
                </a:lnTo>
                <a:lnTo>
                  <a:pt x="132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75120" y="3760920"/>
            <a:ext cx="127080" cy="114120"/>
          </a:xfrm>
          <a:custGeom>
            <a:avLst/>
            <a:gdLst/>
            <a:ahLst/>
            <a:rect l="l" t="t" r="r" b="b"/>
            <a:pathLst>
              <a:path w="242" h="291">
                <a:moveTo>
                  <a:pt x="64" y="291"/>
                </a:moveTo>
                <a:lnTo>
                  <a:pt x="0" y="44"/>
                </a:lnTo>
                <a:lnTo>
                  <a:pt x="90" y="10"/>
                </a:lnTo>
                <a:lnTo>
                  <a:pt x="97" y="8"/>
                </a:lnTo>
                <a:lnTo>
                  <a:pt x="103" y="5"/>
                </a:lnTo>
                <a:lnTo>
                  <a:pt x="108" y="4"/>
                </a:lnTo>
                <a:lnTo>
                  <a:pt x="114" y="3"/>
                </a:lnTo>
                <a:lnTo>
                  <a:pt x="119" y="2"/>
                </a:lnTo>
                <a:lnTo>
                  <a:pt x="124" y="0"/>
                </a:lnTo>
                <a:lnTo>
                  <a:pt x="128" y="0"/>
                </a:lnTo>
                <a:lnTo>
                  <a:pt x="132" y="0"/>
                </a:lnTo>
                <a:lnTo>
                  <a:pt x="136" y="2"/>
                </a:lnTo>
                <a:lnTo>
                  <a:pt x="140" y="2"/>
                </a:lnTo>
                <a:lnTo>
                  <a:pt x="143" y="3"/>
                </a:lnTo>
                <a:lnTo>
                  <a:pt x="147" y="5"/>
                </a:lnTo>
                <a:lnTo>
                  <a:pt x="150" y="7"/>
                </a:lnTo>
                <a:lnTo>
                  <a:pt x="154" y="9"/>
                </a:lnTo>
                <a:lnTo>
                  <a:pt x="157" y="12"/>
                </a:lnTo>
                <a:lnTo>
                  <a:pt x="160" y="15"/>
                </a:lnTo>
                <a:lnTo>
                  <a:pt x="164" y="19"/>
                </a:lnTo>
                <a:lnTo>
                  <a:pt x="167" y="23"/>
                </a:lnTo>
                <a:lnTo>
                  <a:pt x="169" y="27"/>
                </a:lnTo>
                <a:lnTo>
                  <a:pt x="172" y="30"/>
                </a:lnTo>
                <a:lnTo>
                  <a:pt x="174" y="35"/>
                </a:lnTo>
                <a:lnTo>
                  <a:pt x="176" y="39"/>
                </a:lnTo>
                <a:lnTo>
                  <a:pt x="177" y="44"/>
                </a:lnTo>
                <a:lnTo>
                  <a:pt x="179" y="49"/>
                </a:lnTo>
                <a:lnTo>
                  <a:pt x="180" y="55"/>
                </a:lnTo>
                <a:lnTo>
                  <a:pt x="181" y="63"/>
                </a:lnTo>
                <a:lnTo>
                  <a:pt x="182" y="69"/>
                </a:lnTo>
                <a:lnTo>
                  <a:pt x="182" y="75"/>
                </a:lnTo>
                <a:lnTo>
                  <a:pt x="181" y="82"/>
                </a:lnTo>
                <a:lnTo>
                  <a:pt x="180" y="88"/>
                </a:lnTo>
                <a:lnTo>
                  <a:pt x="178" y="93"/>
                </a:lnTo>
                <a:lnTo>
                  <a:pt x="176" y="99"/>
                </a:lnTo>
                <a:lnTo>
                  <a:pt x="174" y="105"/>
                </a:lnTo>
                <a:lnTo>
                  <a:pt x="171" y="110"/>
                </a:lnTo>
                <a:lnTo>
                  <a:pt x="167" y="115"/>
                </a:lnTo>
                <a:lnTo>
                  <a:pt x="163" y="120"/>
                </a:lnTo>
                <a:lnTo>
                  <a:pt x="157" y="125"/>
                </a:lnTo>
                <a:lnTo>
                  <a:pt x="152" y="130"/>
                </a:lnTo>
                <a:lnTo>
                  <a:pt x="146" y="134"/>
                </a:lnTo>
                <a:lnTo>
                  <a:pt x="139" y="139"/>
                </a:lnTo>
                <a:lnTo>
                  <a:pt x="142" y="139"/>
                </a:lnTo>
                <a:lnTo>
                  <a:pt x="145" y="140"/>
                </a:lnTo>
                <a:lnTo>
                  <a:pt x="147" y="140"/>
                </a:lnTo>
                <a:lnTo>
                  <a:pt x="150" y="141"/>
                </a:lnTo>
                <a:lnTo>
                  <a:pt x="152" y="141"/>
                </a:lnTo>
                <a:lnTo>
                  <a:pt x="154" y="143"/>
                </a:lnTo>
                <a:lnTo>
                  <a:pt x="156" y="144"/>
                </a:lnTo>
                <a:lnTo>
                  <a:pt x="158" y="145"/>
                </a:lnTo>
                <a:lnTo>
                  <a:pt x="163" y="146"/>
                </a:lnTo>
                <a:lnTo>
                  <a:pt x="167" y="149"/>
                </a:lnTo>
                <a:lnTo>
                  <a:pt x="170" y="153"/>
                </a:lnTo>
                <a:lnTo>
                  <a:pt x="174" y="155"/>
                </a:lnTo>
                <a:lnTo>
                  <a:pt x="178" y="158"/>
                </a:lnTo>
                <a:lnTo>
                  <a:pt x="182" y="161"/>
                </a:lnTo>
                <a:lnTo>
                  <a:pt x="185" y="165"/>
                </a:lnTo>
                <a:lnTo>
                  <a:pt x="189" y="169"/>
                </a:lnTo>
                <a:lnTo>
                  <a:pt x="242" y="223"/>
                </a:lnTo>
                <a:lnTo>
                  <a:pt x="208" y="235"/>
                </a:lnTo>
                <a:lnTo>
                  <a:pt x="169" y="195"/>
                </a:lnTo>
                <a:lnTo>
                  <a:pt x="164" y="190"/>
                </a:lnTo>
                <a:lnTo>
                  <a:pt x="159" y="186"/>
                </a:lnTo>
                <a:lnTo>
                  <a:pt x="156" y="183"/>
                </a:lnTo>
                <a:lnTo>
                  <a:pt x="152" y="179"/>
                </a:lnTo>
                <a:lnTo>
                  <a:pt x="149" y="176"/>
                </a:lnTo>
                <a:lnTo>
                  <a:pt x="146" y="173"/>
                </a:lnTo>
                <a:lnTo>
                  <a:pt x="143" y="170"/>
                </a:lnTo>
                <a:lnTo>
                  <a:pt x="140" y="168"/>
                </a:lnTo>
                <a:lnTo>
                  <a:pt x="137" y="166"/>
                </a:lnTo>
                <a:lnTo>
                  <a:pt x="135" y="164"/>
                </a:lnTo>
                <a:lnTo>
                  <a:pt x="133" y="163"/>
                </a:lnTo>
                <a:lnTo>
                  <a:pt x="130" y="160"/>
                </a:lnTo>
                <a:lnTo>
                  <a:pt x="128" y="159"/>
                </a:lnTo>
                <a:lnTo>
                  <a:pt x="126" y="159"/>
                </a:lnTo>
                <a:lnTo>
                  <a:pt x="124" y="158"/>
                </a:lnTo>
                <a:lnTo>
                  <a:pt x="122" y="156"/>
                </a:lnTo>
                <a:lnTo>
                  <a:pt x="121" y="156"/>
                </a:lnTo>
                <a:lnTo>
                  <a:pt x="119" y="155"/>
                </a:lnTo>
                <a:lnTo>
                  <a:pt x="117" y="155"/>
                </a:lnTo>
                <a:lnTo>
                  <a:pt x="116" y="155"/>
                </a:lnTo>
                <a:lnTo>
                  <a:pt x="114" y="155"/>
                </a:lnTo>
                <a:lnTo>
                  <a:pt x="112" y="155"/>
                </a:lnTo>
                <a:lnTo>
                  <a:pt x="111" y="155"/>
                </a:lnTo>
                <a:lnTo>
                  <a:pt x="109" y="155"/>
                </a:lnTo>
                <a:lnTo>
                  <a:pt x="108" y="155"/>
                </a:lnTo>
                <a:lnTo>
                  <a:pt x="106" y="155"/>
                </a:lnTo>
                <a:lnTo>
                  <a:pt x="105" y="156"/>
                </a:lnTo>
                <a:lnTo>
                  <a:pt x="103" y="156"/>
                </a:lnTo>
                <a:lnTo>
                  <a:pt x="101" y="156"/>
                </a:lnTo>
                <a:lnTo>
                  <a:pt x="99" y="158"/>
                </a:lnTo>
                <a:lnTo>
                  <a:pt x="96" y="159"/>
                </a:lnTo>
                <a:lnTo>
                  <a:pt x="94" y="160"/>
                </a:lnTo>
                <a:lnTo>
                  <a:pt x="63" y="171"/>
                </a:lnTo>
                <a:lnTo>
                  <a:pt x="91" y="281"/>
                </a:lnTo>
                <a:lnTo>
                  <a:pt x="64" y="291"/>
                </a:lnTo>
                <a:close/>
                <a:moveTo>
                  <a:pt x="55" y="143"/>
                </a:moveTo>
                <a:lnTo>
                  <a:pt x="113" y="121"/>
                </a:lnTo>
                <a:lnTo>
                  <a:pt x="117" y="119"/>
                </a:lnTo>
                <a:lnTo>
                  <a:pt x="121" y="118"/>
                </a:lnTo>
                <a:lnTo>
                  <a:pt x="125" y="115"/>
                </a:lnTo>
                <a:lnTo>
                  <a:pt x="128" y="114"/>
                </a:lnTo>
                <a:lnTo>
                  <a:pt x="132" y="111"/>
                </a:lnTo>
                <a:lnTo>
                  <a:pt x="135" y="109"/>
                </a:lnTo>
                <a:lnTo>
                  <a:pt x="137" y="108"/>
                </a:lnTo>
                <a:lnTo>
                  <a:pt x="140" y="105"/>
                </a:lnTo>
                <a:lnTo>
                  <a:pt x="142" y="103"/>
                </a:lnTo>
                <a:lnTo>
                  <a:pt x="144" y="100"/>
                </a:lnTo>
                <a:lnTo>
                  <a:pt x="145" y="98"/>
                </a:lnTo>
                <a:lnTo>
                  <a:pt x="147" y="95"/>
                </a:lnTo>
                <a:lnTo>
                  <a:pt x="148" y="93"/>
                </a:lnTo>
                <a:lnTo>
                  <a:pt x="149" y="90"/>
                </a:lnTo>
                <a:lnTo>
                  <a:pt x="150" y="88"/>
                </a:lnTo>
                <a:lnTo>
                  <a:pt x="151" y="84"/>
                </a:lnTo>
                <a:lnTo>
                  <a:pt x="152" y="82"/>
                </a:lnTo>
                <a:lnTo>
                  <a:pt x="152" y="78"/>
                </a:lnTo>
                <a:lnTo>
                  <a:pt x="152" y="75"/>
                </a:lnTo>
                <a:lnTo>
                  <a:pt x="152" y="72"/>
                </a:lnTo>
                <a:lnTo>
                  <a:pt x="152" y="69"/>
                </a:lnTo>
                <a:lnTo>
                  <a:pt x="152" y="67"/>
                </a:lnTo>
                <a:lnTo>
                  <a:pt x="151" y="63"/>
                </a:lnTo>
                <a:lnTo>
                  <a:pt x="151" y="60"/>
                </a:lnTo>
                <a:lnTo>
                  <a:pt x="150" y="55"/>
                </a:lnTo>
                <a:lnTo>
                  <a:pt x="148" y="52"/>
                </a:lnTo>
                <a:lnTo>
                  <a:pt x="146" y="48"/>
                </a:lnTo>
                <a:lnTo>
                  <a:pt x="144" y="45"/>
                </a:lnTo>
                <a:lnTo>
                  <a:pt x="142" y="42"/>
                </a:lnTo>
                <a:lnTo>
                  <a:pt x="139" y="39"/>
                </a:lnTo>
                <a:lnTo>
                  <a:pt x="136" y="37"/>
                </a:lnTo>
                <a:lnTo>
                  <a:pt x="133" y="35"/>
                </a:lnTo>
                <a:lnTo>
                  <a:pt x="130" y="34"/>
                </a:lnTo>
                <a:lnTo>
                  <a:pt x="126" y="33"/>
                </a:lnTo>
                <a:lnTo>
                  <a:pt x="122" y="32"/>
                </a:lnTo>
                <a:lnTo>
                  <a:pt x="118" y="32"/>
                </a:lnTo>
                <a:lnTo>
                  <a:pt x="113" y="33"/>
                </a:lnTo>
                <a:lnTo>
                  <a:pt x="109" y="33"/>
                </a:lnTo>
                <a:lnTo>
                  <a:pt x="104" y="35"/>
                </a:lnTo>
                <a:lnTo>
                  <a:pt x="98" y="37"/>
                </a:lnTo>
                <a:lnTo>
                  <a:pt x="35" y="62"/>
                </a:lnTo>
                <a:lnTo>
                  <a:pt x="55" y="1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91040" y="3727440"/>
            <a:ext cx="108000" cy="106200"/>
          </a:xfrm>
          <a:custGeom>
            <a:avLst/>
            <a:gdLst/>
            <a:ahLst/>
            <a:rect l="l" t="t" r="r" b="b"/>
            <a:pathLst>
              <a:path w="206" h="269">
                <a:moveTo>
                  <a:pt x="8" y="176"/>
                </a:moveTo>
                <a:lnTo>
                  <a:pt x="4" y="160"/>
                </a:lnTo>
                <a:lnTo>
                  <a:pt x="2" y="146"/>
                </a:lnTo>
                <a:lnTo>
                  <a:pt x="1" y="131"/>
                </a:lnTo>
                <a:lnTo>
                  <a:pt x="0" y="119"/>
                </a:lnTo>
                <a:lnTo>
                  <a:pt x="1" y="105"/>
                </a:lnTo>
                <a:lnTo>
                  <a:pt x="3" y="93"/>
                </a:lnTo>
                <a:lnTo>
                  <a:pt x="6" y="80"/>
                </a:lnTo>
                <a:lnTo>
                  <a:pt x="10" y="69"/>
                </a:lnTo>
                <a:lnTo>
                  <a:pt x="14" y="58"/>
                </a:lnTo>
                <a:lnTo>
                  <a:pt x="21" y="48"/>
                </a:lnTo>
                <a:lnTo>
                  <a:pt x="27" y="39"/>
                </a:lnTo>
                <a:lnTo>
                  <a:pt x="34" y="30"/>
                </a:lnTo>
                <a:lnTo>
                  <a:pt x="42" y="24"/>
                </a:lnTo>
                <a:lnTo>
                  <a:pt x="51" y="17"/>
                </a:lnTo>
                <a:lnTo>
                  <a:pt x="60" y="12"/>
                </a:lnTo>
                <a:lnTo>
                  <a:pt x="70" y="7"/>
                </a:lnTo>
                <a:lnTo>
                  <a:pt x="77" y="4"/>
                </a:lnTo>
                <a:lnTo>
                  <a:pt x="84" y="3"/>
                </a:lnTo>
                <a:lnTo>
                  <a:pt x="91" y="2"/>
                </a:lnTo>
                <a:lnTo>
                  <a:pt x="98" y="0"/>
                </a:lnTo>
                <a:lnTo>
                  <a:pt x="105" y="0"/>
                </a:lnTo>
                <a:lnTo>
                  <a:pt x="112" y="2"/>
                </a:lnTo>
                <a:lnTo>
                  <a:pt x="118" y="2"/>
                </a:lnTo>
                <a:lnTo>
                  <a:pt x="125" y="4"/>
                </a:lnTo>
                <a:lnTo>
                  <a:pt x="131" y="7"/>
                </a:lnTo>
                <a:lnTo>
                  <a:pt x="137" y="9"/>
                </a:lnTo>
                <a:lnTo>
                  <a:pt x="143" y="12"/>
                </a:lnTo>
                <a:lnTo>
                  <a:pt x="149" y="15"/>
                </a:lnTo>
                <a:lnTo>
                  <a:pt x="155" y="20"/>
                </a:lnTo>
                <a:lnTo>
                  <a:pt x="161" y="25"/>
                </a:lnTo>
                <a:lnTo>
                  <a:pt x="166" y="30"/>
                </a:lnTo>
                <a:lnTo>
                  <a:pt x="171" y="36"/>
                </a:lnTo>
                <a:lnTo>
                  <a:pt x="175" y="43"/>
                </a:lnTo>
                <a:lnTo>
                  <a:pt x="180" y="49"/>
                </a:lnTo>
                <a:lnTo>
                  <a:pt x="184" y="56"/>
                </a:lnTo>
                <a:lnTo>
                  <a:pt x="187" y="64"/>
                </a:lnTo>
                <a:lnTo>
                  <a:pt x="191" y="71"/>
                </a:lnTo>
                <a:lnTo>
                  <a:pt x="194" y="80"/>
                </a:lnTo>
                <a:lnTo>
                  <a:pt x="197" y="89"/>
                </a:lnTo>
                <a:lnTo>
                  <a:pt x="199" y="98"/>
                </a:lnTo>
                <a:lnTo>
                  <a:pt x="201" y="108"/>
                </a:lnTo>
                <a:lnTo>
                  <a:pt x="203" y="116"/>
                </a:lnTo>
                <a:lnTo>
                  <a:pt x="204" y="125"/>
                </a:lnTo>
                <a:lnTo>
                  <a:pt x="205" y="135"/>
                </a:lnTo>
                <a:lnTo>
                  <a:pt x="206" y="144"/>
                </a:lnTo>
                <a:lnTo>
                  <a:pt x="206" y="153"/>
                </a:lnTo>
                <a:lnTo>
                  <a:pt x="205" y="161"/>
                </a:lnTo>
                <a:lnTo>
                  <a:pt x="204" y="170"/>
                </a:lnTo>
                <a:lnTo>
                  <a:pt x="203" y="179"/>
                </a:lnTo>
                <a:lnTo>
                  <a:pt x="201" y="186"/>
                </a:lnTo>
                <a:lnTo>
                  <a:pt x="199" y="194"/>
                </a:lnTo>
                <a:lnTo>
                  <a:pt x="196" y="201"/>
                </a:lnTo>
                <a:lnTo>
                  <a:pt x="193" y="209"/>
                </a:lnTo>
                <a:lnTo>
                  <a:pt x="190" y="216"/>
                </a:lnTo>
                <a:lnTo>
                  <a:pt x="186" y="222"/>
                </a:lnTo>
                <a:lnTo>
                  <a:pt x="181" y="229"/>
                </a:lnTo>
                <a:lnTo>
                  <a:pt x="176" y="234"/>
                </a:lnTo>
                <a:lnTo>
                  <a:pt x="172" y="240"/>
                </a:lnTo>
                <a:lnTo>
                  <a:pt x="166" y="245"/>
                </a:lnTo>
                <a:lnTo>
                  <a:pt x="161" y="249"/>
                </a:lnTo>
                <a:lnTo>
                  <a:pt x="154" y="254"/>
                </a:lnTo>
                <a:lnTo>
                  <a:pt x="148" y="256"/>
                </a:lnTo>
                <a:lnTo>
                  <a:pt x="142" y="260"/>
                </a:lnTo>
                <a:lnTo>
                  <a:pt x="136" y="262"/>
                </a:lnTo>
                <a:lnTo>
                  <a:pt x="129" y="265"/>
                </a:lnTo>
                <a:lnTo>
                  <a:pt x="122" y="267"/>
                </a:lnTo>
                <a:lnTo>
                  <a:pt x="115" y="269"/>
                </a:lnTo>
                <a:lnTo>
                  <a:pt x="108" y="269"/>
                </a:lnTo>
                <a:lnTo>
                  <a:pt x="102" y="269"/>
                </a:lnTo>
                <a:lnTo>
                  <a:pt x="95" y="269"/>
                </a:lnTo>
                <a:lnTo>
                  <a:pt x="87" y="267"/>
                </a:lnTo>
                <a:lnTo>
                  <a:pt x="81" y="266"/>
                </a:lnTo>
                <a:lnTo>
                  <a:pt x="74" y="264"/>
                </a:lnTo>
                <a:lnTo>
                  <a:pt x="68" y="261"/>
                </a:lnTo>
                <a:lnTo>
                  <a:pt x="62" y="257"/>
                </a:lnTo>
                <a:lnTo>
                  <a:pt x="56" y="254"/>
                </a:lnTo>
                <a:lnTo>
                  <a:pt x="51" y="249"/>
                </a:lnTo>
                <a:lnTo>
                  <a:pt x="46" y="244"/>
                </a:lnTo>
                <a:lnTo>
                  <a:pt x="41" y="239"/>
                </a:lnTo>
                <a:lnTo>
                  <a:pt x="36" y="232"/>
                </a:lnTo>
                <a:lnTo>
                  <a:pt x="31" y="226"/>
                </a:lnTo>
                <a:lnTo>
                  <a:pt x="27" y="220"/>
                </a:lnTo>
                <a:lnTo>
                  <a:pt x="23" y="214"/>
                </a:lnTo>
                <a:lnTo>
                  <a:pt x="20" y="206"/>
                </a:lnTo>
                <a:lnTo>
                  <a:pt x="16" y="199"/>
                </a:lnTo>
                <a:lnTo>
                  <a:pt x="12" y="191"/>
                </a:lnTo>
                <a:lnTo>
                  <a:pt x="10" y="184"/>
                </a:lnTo>
                <a:lnTo>
                  <a:pt x="8" y="176"/>
                </a:lnTo>
                <a:close/>
                <a:moveTo>
                  <a:pt x="36" y="165"/>
                </a:moveTo>
                <a:lnTo>
                  <a:pt x="39" y="176"/>
                </a:lnTo>
                <a:lnTo>
                  <a:pt x="42" y="186"/>
                </a:lnTo>
                <a:lnTo>
                  <a:pt x="46" y="195"/>
                </a:lnTo>
                <a:lnTo>
                  <a:pt x="51" y="204"/>
                </a:lnTo>
                <a:lnTo>
                  <a:pt x="56" y="211"/>
                </a:lnTo>
                <a:lnTo>
                  <a:pt x="61" y="217"/>
                </a:lnTo>
                <a:lnTo>
                  <a:pt x="67" y="224"/>
                </a:lnTo>
                <a:lnTo>
                  <a:pt x="73" y="229"/>
                </a:lnTo>
                <a:lnTo>
                  <a:pt x="79" y="232"/>
                </a:lnTo>
                <a:lnTo>
                  <a:pt x="86" y="235"/>
                </a:lnTo>
                <a:lnTo>
                  <a:pt x="94" y="237"/>
                </a:lnTo>
                <a:lnTo>
                  <a:pt x="101" y="239"/>
                </a:lnTo>
                <a:lnTo>
                  <a:pt x="107" y="239"/>
                </a:lnTo>
                <a:lnTo>
                  <a:pt x="114" y="239"/>
                </a:lnTo>
                <a:lnTo>
                  <a:pt x="122" y="237"/>
                </a:lnTo>
                <a:lnTo>
                  <a:pt x="129" y="235"/>
                </a:lnTo>
                <a:lnTo>
                  <a:pt x="136" y="231"/>
                </a:lnTo>
                <a:lnTo>
                  <a:pt x="142" y="227"/>
                </a:lnTo>
                <a:lnTo>
                  <a:pt x="149" y="222"/>
                </a:lnTo>
                <a:lnTo>
                  <a:pt x="154" y="217"/>
                </a:lnTo>
                <a:lnTo>
                  <a:pt x="159" y="211"/>
                </a:lnTo>
                <a:lnTo>
                  <a:pt x="165" y="205"/>
                </a:lnTo>
                <a:lnTo>
                  <a:pt x="168" y="197"/>
                </a:lnTo>
                <a:lnTo>
                  <a:pt x="172" y="190"/>
                </a:lnTo>
                <a:lnTo>
                  <a:pt x="175" y="181"/>
                </a:lnTo>
                <a:lnTo>
                  <a:pt x="177" y="171"/>
                </a:lnTo>
                <a:lnTo>
                  <a:pt x="178" y="163"/>
                </a:lnTo>
                <a:lnTo>
                  <a:pt x="178" y="153"/>
                </a:lnTo>
                <a:lnTo>
                  <a:pt x="178" y="143"/>
                </a:lnTo>
                <a:lnTo>
                  <a:pt x="177" y="131"/>
                </a:lnTo>
                <a:lnTo>
                  <a:pt x="175" y="120"/>
                </a:lnTo>
                <a:lnTo>
                  <a:pt x="172" y="109"/>
                </a:lnTo>
                <a:lnTo>
                  <a:pt x="170" y="101"/>
                </a:lnTo>
                <a:lnTo>
                  <a:pt x="168" y="94"/>
                </a:lnTo>
                <a:lnTo>
                  <a:pt x="166" y="88"/>
                </a:lnTo>
                <a:lnTo>
                  <a:pt x="163" y="81"/>
                </a:lnTo>
                <a:lnTo>
                  <a:pt x="159" y="75"/>
                </a:lnTo>
                <a:lnTo>
                  <a:pt x="156" y="69"/>
                </a:lnTo>
                <a:lnTo>
                  <a:pt x="153" y="64"/>
                </a:lnTo>
                <a:lnTo>
                  <a:pt x="150" y="59"/>
                </a:lnTo>
                <a:lnTo>
                  <a:pt x="146" y="54"/>
                </a:lnTo>
                <a:lnTo>
                  <a:pt x="142" y="50"/>
                </a:lnTo>
                <a:lnTo>
                  <a:pt x="138" y="46"/>
                </a:lnTo>
                <a:lnTo>
                  <a:pt x="134" y="43"/>
                </a:lnTo>
                <a:lnTo>
                  <a:pt x="130" y="40"/>
                </a:lnTo>
                <a:lnTo>
                  <a:pt x="126" y="38"/>
                </a:lnTo>
                <a:lnTo>
                  <a:pt x="121" y="35"/>
                </a:lnTo>
                <a:lnTo>
                  <a:pt x="117" y="34"/>
                </a:lnTo>
                <a:lnTo>
                  <a:pt x="112" y="33"/>
                </a:lnTo>
                <a:lnTo>
                  <a:pt x="107" y="31"/>
                </a:lnTo>
                <a:lnTo>
                  <a:pt x="103" y="30"/>
                </a:lnTo>
                <a:lnTo>
                  <a:pt x="98" y="30"/>
                </a:lnTo>
                <a:lnTo>
                  <a:pt x="93" y="31"/>
                </a:lnTo>
                <a:lnTo>
                  <a:pt x="87" y="31"/>
                </a:lnTo>
                <a:lnTo>
                  <a:pt x="82" y="34"/>
                </a:lnTo>
                <a:lnTo>
                  <a:pt x="77" y="35"/>
                </a:lnTo>
                <a:lnTo>
                  <a:pt x="71" y="38"/>
                </a:lnTo>
                <a:lnTo>
                  <a:pt x="64" y="41"/>
                </a:lnTo>
                <a:lnTo>
                  <a:pt x="58" y="46"/>
                </a:lnTo>
                <a:lnTo>
                  <a:pt x="53" y="51"/>
                </a:lnTo>
                <a:lnTo>
                  <a:pt x="48" y="56"/>
                </a:lnTo>
                <a:lnTo>
                  <a:pt x="43" y="64"/>
                </a:lnTo>
                <a:lnTo>
                  <a:pt x="39" y="70"/>
                </a:lnTo>
                <a:lnTo>
                  <a:pt x="36" y="78"/>
                </a:lnTo>
                <a:lnTo>
                  <a:pt x="33" y="86"/>
                </a:lnTo>
                <a:lnTo>
                  <a:pt x="30" y="95"/>
                </a:lnTo>
                <a:lnTo>
                  <a:pt x="29" y="105"/>
                </a:lnTo>
                <a:lnTo>
                  <a:pt x="29" y="115"/>
                </a:lnTo>
                <a:lnTo>
                  <a:pt x="29" y="128"/>
                </a:lnTo>
                <a:lnTo>
                  <a:pt x="30" y="139"/>
                </a:lnTo>
                <a:lnTo>
                  <a:pt x="33" y="151"/>
                </a:lnTo>
                <a:lnTo>
                  <a:pt x="36" y="1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78400" y="3691080"/>
            <a:ext cx="573120" cy="48960"/>
          </a:xfrm>
          <a:custGeom>
            <a:avLst/>
            <a:gdLst/>
            <a:ahLst/>
            <a:rect l="l" t="t" r="r" b="b"/>
            <a:pathLst>
              <a:path w="1084" h="126">
                <a:moveTo>
                  <a:pt x="1084" y="63"/>
                </a:moveTo>
                <a:lnTo>
                  <a:pt x="1032" y="0"/>
                </a:lnTo>
                <a:lnTo>
                  <a:pt x="0" y="0"/>
                </a:lnTo>
                <a:lnTo>
                  <a:pt x="0" y="126"/>
                </a:lnTo>
                <a:lnTo>
                  <a:pt x="1032" y="126"/>
                </a:lnTo>
                <a:lnTo>
                  <a:pt x="981" y="63"/>
                </a:lnTo>
                <a:lnTo>
                  <a:pt x="1084" y="63"/>
                </a:lnTo>
                <a:lnTo>
                  <a:pt x="1084" y="0"/>
                </a:lnTo>
                <a:lnTo>
                  <a:pt x="1032" y="0"/>
                </a:lnTo>
                <a:lnTo>
                  <a:pt x="1084" y="6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97520" y="3716280"/>
            <a:ext cx="54000" cy="309600"/>
          </a:xfrm>
          <a:custGeom>
            <a:avLst/>
            <a:gdLst/>
            <a:ahLst/>
            <a:rect l="l" t="t" r="r" b="b"/>
            <a:pathLst>
              <a:path w="103" h="780">
                <a:moveTo>
                  <a:pt x="51" y="780"/>
                </a:moveTo>
                <a:lnTo>
                  <a:pt x="103" y="717"/>
                </a:lnTo>
                <a:lnTo>
                  <a:pt x="103" y="0"/>
                </a:lnTo>
                <a:lnTo>
                  <a:pt x="0" y="0"/>
                </a:lnTo>
                <a:lnTo>
                  <a:pt x="0" y="717"/>
                </a:lnTo>
                <a:lnTo>
                  <a:pt x="51" y="654"/>
                </a:lnTo>
                <a:lnTo>
                  <a:pt x="51" y="780"/>
                </a:lnTo>
                <a:lnTo>
                  <a:pt x="103" y="780"/>
                </a:lnTo>
                <a:lnTo>
                  <a:pt x="103" y="717"/>
                </a:lnTo>
                <a:lnTo>
                  <a:pt x="51" y="78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51400" y="3975120"/>
            <a:ext cx="573120" cy="50760"/>
          </a:xfrm>
          <a:custGeom>
            <a:avLst/>
            <a:gdLst/>
            <a:ahLst/>
            <a:rect l="l" t="t" r="r" b="b"/>
            <a:pathLst>
              <a:path w="1084" h="126">
                <a:moveTo>
                  <a:pt x="0" y="63"/>
                </a:moveTo>
                <a:lnTo>
                  <a:pt x="52" y="126"/>
                </a:lnTo>
                <a:lnTo>
                  <a:pt x="1084" y="126"/>
                </a:lnTo>
                <a:lnTo>
                  <a:pt x="1084" y="0"/>
                </a:lnTo>
                <a:lnTo>
                  <a:pt x="52" y="0"/>
                </a:lnTo>
                <a:lnTo>
                  <a:pt x="103" y="63"/>
                </a:lnTo>
                <a:lnTo>
                  <a:pt x="0" y="63"/>
                </a:lnTo>
                <a:lnTo>
                  <a:pt x="0" y="126"/>
                </a:lnTo>
                <a:lnTo>
                  <a:pt x="52" y="126"/>
                </a:lnTo>
                <a:lnTo>
                  <a:pt x="0" y="6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51400" y="3691080"/>
            <a:ext cx="54000" cy="309600"/>
          </a:xfrm>
          <a:custGeom>
            <a:avLst/>
            <a:gdLst/>
            <a:ahLst/>
            <a:rect l="l" t="t" r="r" b="b"/>
            <a:pathLst>
              <a:path w="103" h="780">
                <a:moveTo>
                  <a:pt x="52" y="0"/>
                </a:moveTo>
                <a:lnTo>
                  <a:pt x="0" y="63"/>
                </a:lnTo>
                <a:lnTo>
                  <a:pt x="0" y="780"/>
                </a:lnTo>
                <a:lnTo>
                  <a:pt x="103" y="780"/>
                </a:lnTo>
                <a:lnTo>
                  <a:pt x="103" y="63"/>
                </a:lnTo>
                <a:lnTo>
                  <a:pt x="52" y="126"/>
                </a:lnTo>
                <a:lnTo>
                  <a:pt x="52" y="0"/>
                </a:lnTo>
                <a:lnTo>
                  <a:pt x="0" y="0"/>
                </a:lnTo>
                <a:lnTo>
                  <a:pt x="0" y="63"/>
                </a:lnTo>
                <a:lnTo>
                  <a:pt x="5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74080" y="585720"/>
            <a:ext cx="164880" cy="168480"/>
          </a:xfrm>
          <a:custGeom>
            <a:avLst/>
            <a:gdLst/>
            <a:ahLst/>
            <a:rect l="l" t="t" r="r" b="b"/>
            <a:pathLst>
              <a:path w="311" h="424">
                <a:moveTo>
                  <a:pt x="0" y="424"/>
                </a:moveTo>
                <a:lnTo>
                  <a:pt x="0" y="0"/>
                </a:lnTo>
                <a:lnTo>
                  <a:pt x="147" y="0"/>
                </a:lnTo>
                <a:lnTo>
                  <a:pt x="160" y="0"/>
                </a:lnTo>
                <a:lnTo>
                  <a:pt x="173" y="1"/>
                </a:lnTo>
                <a:lnTo>
                  <a:pt x="184" y="2"/>
                </a:lnTo>
                <a:lnTo>
                  <a:pt x="195" y="3"/>
                </a:lnTo>
                <a:lnTo>
                  <a:pt x="204" y="5"/>
                </a:lnTo>
                <a:lnTo>
                  <a:pt x="212" y="6"/>
                </a:lnTo>
                <a:lnTo>
                  <a:pt x="220" y="8"/>
                </a:lnTo>
                <a:lnTo>
                  <a:pt x="227" y="11"/>
                </a:lnTo>
                <a:lnTo>
                  <a:pt x="233" y="15"/>
                </a:lnTo>
                <a:lnTo>
                  <a:pt x="239" y="18"/>
                </a:lnTo>
                <a:lnTo>
                  <a:pt x="245" y="22"/>
                </a:lnTo>
                <a:lnTo>
                  <a:pt x="250" y="27"/>
                </a:lnTo>
                <a:lnTo>
                  <a:pt x="255" y="32"/>
                </a:lnTo>
                <a:lnTo>
                  <a:pt x="259" y="38"/>
                </a:lnTo>
                <a:lnTo>
                  <a:pt x="263" y="45"/>
                </a:lnTo>
                <a:lnTo>
                  <a:pt x="267" y="52"/>
                </a:lnTo>
                <a:lnTo>
                  <a:pt x="271" y="60"/>
                </a:lnTo>
                <a:lnTo>
                  <a:pt x="274" y="67"/>
                </a:lnTo>
                <a:lnTo>
                  <a:pt x="276" y="75"/>
                </a:lnTo>
                <a:lnTo>
                  <a:pt x="278" y="83"/>
                </a:lnTo>
                <a:lnTo>
                  <a:pt x="280" y="92"/>
                </a:lnTo>
                <a:lnTo>
                  <a:pt x="281" y="101"/>
                </a:lnTo>
                <a:lnTo>
                  <a:pt x="282" y="110"/>
                </a:lnTo>
                <a:lnTo>
                  <a:pt x="282" y="118"/>
                </a:lnTo>
                <a:lnTo>
                  <a:pt x="282" y="131"/>
                </a:lnTo>
                <a:lnTo>
                  <a:pt x="281" y="142"/>
                </a:lnTo>
                <a:lnTo>
                  <a:pt x="279" y="152"/>
                </a:lnTo>
                <a:lnTo>
                  <a:pt x="276" y="162"/>
                </a:lnTo>
                <a:lnTo>
                  <a:pt x="273" y="172"/>
                </a:lnTo>
                <a:lnTo>
                  <a:pt x="269" y="181"/>
                </a:lnTo>
                <a:lnTo>
                  <a:pt x="265" y="189"/>
                </a:lnTo>
                <a:lnTo>
                  <a:pt x="260" y="198"/>
                </a:lnTo>
                <a:lnTo>
                  <a:pt x="254" y="206"/>
                </a:lnTo>
                <a:lnTo>
                  <a:pt x="247" y="212"/>
                </a:lnTo>
                <a:lnTo>
                  <a:pt x="240" y="218"/>
                </a:lnTo>
                <a:lnTo>
                  <a:pt x="231" y="223"/>
                </a:lnTo>
                <a:lnTo>
                  <a:pt x="222" y="228"/>
                </a:lnTo>
                <a:lnTo>
                  <a:pt x="212" y="232"/>
                </a:lnTo>
                <a:lnTo>
                  <a:pt x="202" y="234"/>
                </a:lnTo>
                <a:lnTo>
                  <a:pt x="191" y="237"/>
                </a:lnTo>
                <a:lnTo>
                  <a:pt x="197" y="241"/>
                </a:lnTo>
                <a:lnTo>
                  <a:pt x="202" y="246"/>
                </a:lnTo>
                <a:lnTo>
                  <a:pt x="207" y="249"/>
                </a:lnTo>
                <a:lnTo>
                  <a:pt x="212" y="254"/>
                </a:lnTo>
                <a:lnTo>
                  <a:pt x="216" y="258"/>
                </a:lnTo>
                <a:lnTo>
                  <a:pt x="220" y="263"/>
                </a:lnTo>
                <a:lnTo>
                  <a:pt x="224" y="268"/>
                </a:lnTo>
                <a:lnTo>
                  <a:pt x="228" y="273"/>
                </a:lnTo>
                <a:lnTo>
                  <a:pt x="232" y="278"/>
                </a:lnTo>
                <a:lnTo>
                  <a:pt x="237" y="284"/>
                </a:lnTo>
                <a:lnTo>
                  <a:pt x="241" y="292"/>
                </a:lnTo>
                <a:lnTo>
                  <a:pt x="246" y="299"/>
                </a:lnTo>
                <a:lnTo>
                  <a:pt x="251" y="308"/>
                </a:lnTo>
                <a:lnTo>
                  <a:pt x="256" y="318"/>
                </a:lnTo>
                <a:lnTo>
                  <a:pt x="262" y="329"/>
                </a:lnTo>
                <a:lnTo>
                  <a:pt x="268" y="342"/>
                </a:lnTo>
                <a:lnTo>
                  <a:pt x="311" y="424"/>
                </a:lnTo>
                <a:lnTo>
                  <a:pt x="227" y="424"/>
                </a:lnTo>
                <a:lnTo>
                  <a:pt x="177" y="332"/>
                </a:lnTo>
                <a:lnTo>
                  <a:pt x="171" y="320"/>
                </a:lnTo>
                <a:lnTo>
                  <a:pt x="165" y="309"/>
                </a:lnTo>
                <a:lnTo>
                  <a:pt x="159" y="299"/>
                </a:lnTo>
                <a:lnTo>
                  <a:pt x="154" y="292"/>
                </a:lnTo>
                <a:lnTo>
                  <a:pt x="149" y="284"/>
                </a:lnTo>
                <a:lnTo>
                  <a:pt x="146" y="278"/>
                </a:lnTo>
                <a:lnTo>
                  <a:pt x="143" y="273"/>
                </a:lnTo>
                <a:lnTo>
                  <a:pt x="140" y="269"/>
                </a:lnTo>
                <a:lnTo>
                  <a:pt x="137" y="267"/>
                </a:lnTo>
                <a:lnTo>
                  <a:pt x="135" y="263"/>
                </a:lnTo>
                <a:lnTo>
                  <a:pt x="132" y="260"/>
                </a:lnTo>
                <a:lnTo>
                  <a:pt x="130" y="258"/>
                </a:lnTo>
                <a:lnTo>
                  <a:pt x="127" y="257"/>
                </a:lnTo>
                <a:lnTo>
                  <a:pt x="125" y="254"/>
                </a:lnTo>
                <a:lnTo>
                  <a:pt x="122" y="253"/>
                </a:lnTo>
                <a:lnTo>
                  <a:pt x="119" y="252"/>
                </a:lnTo>
                <a:lnTo>
                  <a:pt x="116" y="251"/>
                </a:lnTo>
                <a:lnTo>
                  <a:pt x="113" y="249"/>
                </a:lnTo>
                <a:lnTo>
                  <a:pt x="109" y="249"/>
                </a:lnTo>
                <a:lnTo>
                  <a:pt x="105" y="248"/>
                </a:lnTo>
                <a:lnTo>
                  <a:pt x="101" y="248"/>
                </a:lnTo>
                <a:lnTo>
                  <a:pt x="96" y="247"/>
                </a:lnTo>
                <a:lnTo>
                  <a:pt x="89" y="247"/>
                </a:lnTo>
                <a:lnTo>
                  <a:pt x="84" y="247"/>
                </a:lnTo>
                <a:lnTo>
                  <a:pt x="70" y="247"/>
                </a:lnTo>
                <a:lnTo>
                  <a:pt x="70" y="424"/>
                </a:lnTo>
                <a:lnTo>
                  <a:pt x="0" y="424"/>
                </a:lnTo>
                <a:close/>
                <a:moveTo>
                  <a:pt x="70" y="179"/>
                </a:moveTo>
                <a:lnTo>
                  <a:pt x="122" y="179"/>
                </a:lnTo>
                <a:lnTo>
                  <a:pt x="133" y="179"/>
                </a:lnTo>
                <a:lnTo>
                  <a:pt x="144" y="179"/>
                </a:lnTo>
                <a:lnTo>
                  <a:pt x="153" y="178"/>
                </a:lnTo>
                <a:lnTo>
                  <a:pt x="162" y="178"/>
                </a:lnTo>
                <a:lnTo>
                  <a:pt x="170" y="177"/>
                </a:lnTo>
                <a:lnTo>
                  <a:pt x="176" y="177"/>
                </a:lnTo>
                <a:lnTo>
                  <a:pt x="181" y="176"/>
                </a:lnTo>
                <a:lnTo>
                  <a:pt x="184" y="174"/>
                </a:lnTo>
                <a:lnTo>
                  <a:pt x="187" y="173"/>
                </a:lnTo>
                <a:lnTo>
                  <a:pt x="190" y="171"/>
                </a:lnTo>
                <a:lnTo>
                  <a:pt x="193" y="169"/>
                </a:lnTo>
                <a:lnTo>
                  <a:pt x="195" y="167"/>
                </a:lnTo>
                <a:lnTo>
                  <a:pt x="197" y="164"/>
                </a:lnTo>
                <a:lnTo>
                  <a:pt x="200" y="162"/>
                </a:lnTo>
                <a:lnTo>
                  <a:pt x="202" y="159"/>
                </a:lnTo>
                <a:lnTo>
                  <a:pt x="203" y="156"/>
                </a:lnTo>
                <a:lnTo>
                  <a:pt x="205" y="153"/>
                </a:lnTo>
                <a:lnTo>
                  <a:pt x="206" y="149"/>
                </a:lnTo>
                <a:lnTo>
                  <a:pt x="208" y="146"/>
                </a:lnTo>
                <a:lnTo>
                  <a:pt x="209" y="142"/>
                </a:lnTo>
                <a:lnTo>
                  <a:pt x="209" y="138"/>
                </a:lnTo>
                <a:lnTo>
                  <a:pt x="210" y="133"/>
                </a:lnTo>
                <a:lnTo>
                  <a:pt x="210" y="129"/>
                </a:lnTo>
                <a:lnTo>
                  <a:pt x="210" y="124"/>
                </a:lnTo>
                <a:lnTo>
                  <a:pt x="210" y="119"/>
                </a:lnTo>
                <a:lnTo>
                  <a:pt x="210" y="114"/>
                </a:lnTo>
                <a:lnTo>
                  <a:pt x="209" y="110"/>
                </a:lnTo>
                <a:lnTo>
                  <a:pt x="208" y="105"/>
                </a:lnTo>
                <a:lnTo>
                  <a:pt x="207" y="101"/>
                </a:lnTo>
                <a:lnTo>
                  <a:pt x="205" y="97"/>
                </a:lnTo>
                <a:lnTo>
                  <a:pt x="203" y="93"/>
                </a:lnTo>
                <a:lnTo>
                  <a:pt x="201" y="90"/>
                </a:lnTo>
                <a:lnTo>
                  <a:pt x="199" y="87"/>
                </a:lnTo>
                <a:lnTo>
                  <a:pt x="196" y="83"/>
                </a:lnTo>
                <a:lnTo>
                  <a:pt x="193" y="81"/>
                </a:lnTo>
                <a:lnTo>
                  <a:pt x="190" y="80"/>
                </a:lnTo>
                <a:lnTo>
                  <a:pt x="187" y="77"/>
                </a:lnTo>
                <a:lnTo>
                  <a:pt x="183" y="76"/>
                </a:lnTo>
                <a:lnTo>
                  <a:pt x="179" y="75"/>
                </a:lnTo>
                <a:lnTo>
                  <a:pt x="175" y="73"/>
                </a:lnTo>
                <a:lnTo>
                  <a:pt x="173" y="73"/>
                </a:lnTo>
                <a:lnTo>
                  <a:pt x="169" y="72"/>
                </a:lnTo>
                <a:lnTo>
                  <a:pt x="164" y="72"/>
                </a:lnTo>
                <a:lnTo>
                  <a:pt x="158" y="72"/>
                </a:lnTo>
                <a:lnTo>
                  <a:pt x="151" y="72"/>
                </a:lnTo>
                <a:lnTo>
                  <a:pt x="143" y="72"/>
                </a:lnTo>
                <a:lnTo>
                  <a:pt x="134" y="72"/>
                </a:lnTo>
                <a:lnTo>
                  <a:pt x="124" y="72"/>
                </a:lnTo>
                <a:lnTo>
                  <a:pt x="70" y="72"/>
                </a:lnTo>
                <a:lnTo>
                  <a:pt x="70" y="1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58040" y="585720"/>
            <a:ext cx="144360" cy="171360"/>
          </a:xfrm>
          <a:custGeom>
            <a:avLst/>
            <a:gdLst/>
            <a:ahLst/>
            <a:rect l="l" t="t" r="r" b="b"/>
            <a:pathLst>
              <a:path w="275" h="431">
                <a:moveTo>
                  <a:pt x="0" y="0"/>
                </a:moveTo>
                <a:lnTo>
                  <a:pt x="70" y="0"/>
                </a:lnTo>
                <a:lnTo>
                  <a:pt x="70" y="229"/>
                </a:lnTo>
                <a:lnTo>
                  <a:pt x="70" y="243"/>
                </a:lnTo>
                <a:lnTo>
                  <a:pt x="70" y="254"/>
                </a:lnTo>
                <a:lnTo>
                  <a:pt x="70" y="265"/>
                </a:lnTo>
                <a:lnTo>
                  <a:pt x="70" y="274"/>
                </a:lnTo>
                <a:lnTo>
                  <a:pt x="71" y="283"/>
                </a:lnTo>
                <a:lnTo>
                  <a:pt x="71" y="290"/>
                </a:lnTo>
                <a:lnTo>
                  <a:pt x="72" y="295"/>
                </a:lnTo>
                <a:lnTo>
                  <a:pt x="72" y="300"/>
                </a:lnTo>
                <a:lnTo>
                  <a:pt x="74" y="307"/>
                </a:lnTo>
                <a:lnTo>
                  <a:pt x="75" y="313"/>
                </a:lnTo>
                <a:lnTo>
                  <a:pt x="77" y="319"/>
                </a:lnTo>
                <a:lnTo>
                  <a:pt x="80" y="324"/>
                </a:lnTo>
                <a:lnTo>
                  <a:pt x="83" y="329"/>
                </a:lnTo>
                <a:lnTo>
                  <a:pt x="86" y="334"/>
                </a:lnTo>
                <a:lnTo>
                  <a:pt x="89" y="338"/>
                </a:lnTo>
                <a:lnTo>
                  <a:pt x="93" y="342"/>
                </a:lnTo>
                <a:lnTo>
                  <a:pt x="98" y="345"/>
                </a:lnTo>
                <a:lnTo>
                  <a:pt x="102" y="349"/>
                </a:lnTo>
                <a:lnTo>
                  <a:pt x="108" y="352"/>
                </a:lnTo>
                <a:lnTo>
                  <a:pt x="114" y="354"/>
                </a:lnTo>
                <a:lnTo>
                  <a:pt x="120" y="355"/>
                </a:lnTo>
                <a:lnTo>
                  <a:pt x="126" y="357"/>
                </a:lnTo>
                <a:lnTo>
                  <a:pt x="133" y="358"/>
                </a:lnTo>
                <a:lnTo>
                  <a:pt x="140" y="358"/>
                </a:lnTo>
                <a:lnTo>
                  <a:pt x="147" y="358"/>
                </a:lnTo>
                <a:lnTo>
                  <a:pt x="153" y="357"/>
                </a:lnTo>
                <a:lnTo>
                  <a:pt x="159" y="355"/>
                </a:lnTo>
                <a:lnTo>
                  <a:pt x="165" y="354"/>
                </a:lnTo>
                <a:lnTo>
                  <a:pt x="170" y="352"/>
                </a:lnTo>
                <a:lnTo>
                  <a:pt x="175" y="349"/>
                </a:lnTo>
                <a:lnTo>
                  <a:pt x="181" y="347"/>
                </a:lnTo>
                <a:lnTo>
                  <a:pt x="185" y="343"/>
                </a:lnTo>
                <a:lnTo>
                  <a:pt x="188" y="339"/>
                </a:lnTo>
                <a:lnTo>
                  <a:pt x="191" y="335"/>
                </a:lnTo>
                <a:lnTo>
                  <a:pt x="194" y="330"/>
                </a:lnTo>
                <a:lnTo>
                  <a:pt x="196" y="327"/>
                </a:lnTo>
                <a:lnTo>
                  <a:pt x="199" y="322"/>
                </a:lnTo>
                <a:lnTo>
                  <a:pt x="200" y="317"/>
                </a:lnTo>
                <a:lnTo>
                  <a:pt x="201" y="312"/>
                </a:lnTo>
                <a:lnTo>
                  <a:pt x="202" y="307"/>
                </a:lnTo>
                <a:lnTo>
                  <a:pt x="203" y="300"/>
                </a:lnTo>
                <a:lnTo>
                  <a:pt x="204" y="294"/>
                </a:lnTo>
                <a:lnTo>
                  <a:pt x="204" y="287"/>
                </a:lnTo>
                <a:lnTo>
                  <a:pt x="205" y="278"/>
                </a:lnTo>
                <a:lnTo>
                  <a:pt x="205" y="268"/>
                </a:lnTo>
                <a:lnTo>
                  <a:pt x="205" y="258"/>
                </a:lnTo>
                <a:lnTo>
                  <a:pt x="205" y="247"/>
                </a:lnTo>
                <a:lnTo>
                  <a:pt x="205" y="234"/>
                </a:lnTo>
                <a:lnTo>
                  <a:pt x="205" y="0"/>
                </a:lnTo>
                <a:lnTo>
                  <a:pt x="275" y="0"/>
                </a:lnTo>
                <a:lnTo>
                  <a:pt x="275" y="223"/>
                </a:lnTo>
                <a:lnTo>
                  <a:pt x="275" y="241"/>
                </a:lnTo>
                <a:lnTo>
                  <a:pt x="275" y="258"/>
                </a:lnTo>
                <a:lnTo>
                  <a:pt x="274" y="274"/>
                </a:lnTo>
                <a:lnTo>
                  <a:pt x="274" y="288"/>
                </a:lnTo>
                <a:lnTo>
                  <a:pt x="273" y="300"/>
                </a:lnTo>
                <a:lnTo>
                  <a:pt x="272" y="312"/>
                </a:lnTo>
                <a:lnTo>
                  <a:pt x="271" y="322"/>
                </a:lnTo>
                <a:lnTo>
                  <a:pt x="269" y="330"/>
                </a:lnTo>
                <a:lnTo>
                  <a:pt x="268" y="338"/>
                </a:lnTo>
                <a:lnTo>
                  <a:pt x="266" y="345"/>
                </a:lnTo>
                <a:lnTo>
                  <a:pt x="264" y="353"/>
                </a:lnTo>
                <a:lnTo>
                  <a:pt x="262" y="359"/>
                </a:lnTo>
                <a:lnTo>
                  <a:pt x="259" y="367"/>
                </a:lnTo>
                <a:lnTo>
                  <a:pt x="256" y="373"/>
                </a:lnTo>
                <a:lnTo>
                  <a:pt x="253" y="378"/>
                </a:lnTo>
                <a:lnTo>
                  <a:pt x="248" y="384"/>
                </a:lnTo>
                <a:lnTo>
                  <a:pt x="244" y="389"/>
                </a:lnTo>
                <a:lnTo>
                  <a:pt x="240" y="394"/>
                </a:lnTo>
                <a:lnTo>
                  <a:pt x="235" y="399"/>
                </a:lnTo>
                <a:lnTo>
                  <a:pt x="230" y="403"/>
                </a:lnTo>
                <a:lnTo>
                  <a:pt x="225" y="408"/>
                </a:lnTo>
                <a:lnTo>
                  <a:pt x="220" y="411"/>
                </a:lnTo>
                <a:lnTo>
                  <a:pt x="214" y="415"/>
                </a:lnTo>
                <a:lnTo>
                  <a:pt x="208" y="418"/>
                </a:lnTo>
                <a:lnTo>
                  <a:pt x="202" y="421"/>
                </a:lnTo>
                <a:lnTo>
                  <a:pt x="195" y="424"/>
                </a:lnTo>
                <a:lnTo>
                  <a:pt x="187" y="426"/>
                </a:lnTo>
                <a:lnTo>
                  <a:pt x="179" y="428"/>
                </a:lnTo>
                <a:lnTo>
                  <a:pt x="170" y="429"/>
                </a:lnTo>
                <a:lnTo>
                  <a:pt x="161" y="430"/>
                </a:lnTo>
                <a:lnTo>
                  <a:pt x="151" y="431"/>
                </a:lnTo>
                <a:lnTo>
                  <a:pt x="142" y="431"/>
                </a:lnTo>
                <a:lnTo>
                  <a:pt x="130" y="431"/>
                </a:lnTo>
                <a:lnTo>
                  <a:pt x="119" y="430"/>
                </a:lnTo>
                <a:lnTo>
                  <a:pt x="108" y="429"/>
                </a:lnTo>
                <a:lnTo>
                  <a:pt x="98" y="428"/>
                </a:lnTo>
                <a:lnTo>
                  <a:pt x="89" y="425"/>
                </a:lnTo>
                <a:lnTo>
                  <a:pt x="81" y="423"/>
                </a:lnTo>
                <a:lnTo>
                  <a:pt x="73" y="420"/>
                </a:lnTo>
                <a:lnTo>
                  <a:pt x="67" y="416"/>
                </a:lnTo>
                <a:lnTo>
                  <a:pt x="61" y="414"/>
                </a:lnTo>
                <a:lnTo>
                  <a:pt x="55" y="409"/>
                </a:lnTo>
                <a:lnTo>
                  <a:pt x="49" y="405"/>
                </a:lnTo>
                <a:lnTo>
                  <a:pt x="44" y="402"/>
                </a:lnTo>
                <a:lnTo>
                  <a:pt x="40" y="397"/>
                </a:lnTo>
                <a:lnTo>
                  <a:pt x="35" y="392"/>
                </a:lnTo>
                <a:lnTo>
                  <a:pt x="30" y="387"/>
                </a:lnTo>
                <a:lnTo>
                  <a:pt x="26" y="380"/>
                </a:lnTo>
                <a:lnTo>
                  <a:pt x="23" y="375"/>
                </a:lnTo>
                <a:lnTo>
                  <a:pt x="19" y="369"/>
                </a:lnTo>
                <a:lnTo>
                  <a:pt x="17" y="364"/>
                </a:lnTo>
                <a:lnTo>
                  <a:pt x="14" y="358"/>
                </a:lnTo>
                <a:lnTo>
                  <a:pt x="12" y="352"/>
                </a:lnTo>
                <a:lnTo>
                  <a:pt x="10" y="345"/>
                </a:lnTo>
                <a:lnTo>
                  <a:pt x="8" y="340"/>
                </a:lnTo>
                <a:lnTo>
                  <a:pt x="7" y="334"/>
                </a:lnTo>
                <a:lnTo>
                  <a:pt x="5" y="324"/>
                </a:lnTo>
                <a:lnTo>
                  <a:pt x="4" y="313"/>
                </a:lnTo>
                <a:lnTo>
                  <a:pt x="3" y="302"/>
                </a:lnTo>
                <a:lnTo>
                  <a:pt x="2" y="289"/>
                </a:lnTo>
                <a:lnTo>
                  <a:pt x="1" y="274"/>
                </a:lnTo>
                <a:lnTo>
                  <a:pt x="1" y="259"/>
                </a:lnTo>
                <a:lnTo>
                  <a:pt x="0" y="243"/>
                </a:lnTo>
                <a:lnTo>
                  <a:pt x="0" y="226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42360" y="585720"/>
            <a:ext cx="152280" cy="168480"/>
          </a:xfrm>
          <a:custGeom>
            <a:avLst/>
            <a:gdLst/>
            <a:ahLst/>
            <a:rect l="l" t="t" r="r" b="b"/>
            <a:pathLst>
              <a:path w="289" h="424">
                <a:moveTo>
                  <a:pt x="0" y="0"/>
                </a:moveTo>
                <a:lnTo>
                  <a:pt x="138" y="0"/>
                </a:lnTo>
                <a:lnTo>
                  <a:pt x="148" y="0"/>
                </a:lnTo>
                <a:lnTo>
                  <a:pt x="157" y="0"/>
                </a:lnTo>
                <a:lnTo>
                  <a:pt x="166" y="1"/>
                </a:lnTo>
                <a:lnTo>
                  <a:pt x="173" y="1"/>
                </a:lnTo>
                <a:lnTo>
                  <a:pt x="181" y="2"/>
                </a:lnTo>
                <a:lnTo>
                  <a:pt x="187" y="2"/>
                </a:lnTo>
                <a:lnTo>
                  <a:pt x="194" y="3"/>
                </a:lnTo>
                <a:lnTo>
                  <a:pt x="199" y="5"/>
                </a:lnTo>
                <a:lnTo>
                  <a:pt x="204" y="6"/>
                </a:lnTo>
                <a:lnTo>
                  <a:pt x="209" y="7"/>
                </a:lnTo>
                <a:lnTo>
                  <a:pt x="214" y="8"/>
                </a:lnTo>
                <a:lnTo>
                  <a:pt x="218" y="11"/>
                </a:lnTo>
                <a:lnTo>
                  <a:pt x="223" y="13"/>
                </a:lnTo>
                <a:lnTo>
                  <a:pt x="227" y="16"/>
                </a:lnTo>
                <a:lnTo>
                  <a:pt x="231" y="18"/>
                </a:lnTo>
                <a:lnTo>
                  <a:pt x="235" y="22"/>
                </a:lnTo>
                <a:lnTo>
                  <a:pt x="239" y="25"/>
                </a:lnTo>
                <a:lnTo>
                  <a:pt x="242" y="28"/>
                </a:lnTo>
                <a:lnTo>
                  <a:pt x="246" y="33"/>
                </a:lnTo>
                <a:lnTo>
                  <a:pt x="249" y="37"/>
                </a:lnTo>
                <a:lnTo>
                  <a:pt x="252" y="42"/>
                </a:lnTo>
                <a:lnTo>
                  <a:pt x="255" y="47"/>
                </a:lnTo>
                <a:lnTo>
                  <a:pt x="258" y="52"/>
                </a:lnTo>
                <a:lnTo>
                  <a:pt x="261" y="57"/>
                </a:lnTo>
                <a:lnTo>
                  <a:pt x="263" y="63"/>
                </a:lnTo>
                <a:lnTo>
                  <a:pt x="266" y="68"/>
                </a:lnTo>
                <a:lnTo>
                  <a:pt x="268" y="75"/>
                </a:lnTo>
                <a:lnTo>
                  <a:pt x="270" y="81"/>
                </a:lnTo>
                <a:lnTo>
                  <a:pt x="271" y="87"/>
                </a:lnTo>
                <a:lnTo>
                  <a:pt x="272" y="93"/>
                </a:lnTo>
                <a:lnTo>
                  <a:pt x="272" y="100"/>
                </a:lnTo>
                <a:lnTo>
                  <a:pt x="272" y="107"/>
                </a:lnTo>
                <a:lnTo>
                  <a:pt x="272" y="114"/>
                </a:lnTo>
                <a:lnTo>
                  <a:pt x="272" y="121"/>
                </a:lnTo>
                <a:lnTo>
                  <a:pt x="271" y="128"/>
                </a:lnTo>
                <a:lnTo>
                  <a:pt x="269" y="136"/>
                </a:lnTo>
                <a:lnTo>
                  <a:pt x="267" y="142"/>
                </a:lnTo>
                <a:lnTo>
                  <a:pt x="265" y="148"/>
                </a:lnTo>
                <a:lnTo>
                  <a:pt x="262" y="156"/>
                </a:lnTo>
                <a:lnTo>
                  <a:pt x="259" y="162"/>
                </a:lnTo>
                <a:lnTo>
                  <a:pt x="255" y="167"/>
                </a:lnTo>
                <a:lnTo>
                  <a:pt x="252" y="173"/>
                </a:lnTo>
                <a:lnTo>
                  <a:pt x="248" y="178"/>
                </a:lnTo>
                <a:lnTo>
                  <a:pt x="243" y="183"/>
                </a:lnTo>
                <a:lnTo>
                  <a:pt x="239" y="188"/>
                </a:lnTo>
                <a:lnTo>
                  <a:pt x="234" y="192"/>
                </a:lnTo>
                <a:lnTo>
                  <a:pt x="229" y="196"/>
                </a:lnTo>
                <a:lnTo>
                  <a:pt x="224" y="198"/>
                </a:lnTo>
                <a:lnTo>
                  <a:pt x="231" y="202"/>
                </a:lnTo>
                <a:lnTo>
                  <a:pt x="238" y="206"/>
                </a:lnTo>
                <a:lnTo>
                  <a:pt x="245" y="209"/>
                </a:lnTo>
                <a:lnTo>
                  <a:pt x="251" y="214"/>
                </a:lnTo>
                <a:lnTo>
                  <a:pt x="257" y="219"/>
                </a:lnTo>
                <a:lnTo>
                  <a:pt x="262" y="224"/>
                </a:lnTo>
                <a:lnTo>
                  <a:pt x="268" y="231"/>
                </a:lnTo>
                <a:lnTo>
                  <a:pt x="272" y="237"/>
                </a:lnTo>
                <a:lnTo>
                  <a:pt x="276" y="244"/>
                </a:lnTo>
                <a:lnTo>
                  <a:pt x="280" y="252"/>
                </a:lnTo>
                <a:lnTo>
                  <a:pt x="283" y="259"/>
                </a:lnTo>
                <a:lnTo>
                  <a:pt x="285" y="267"/>
                </a:lnTo>
                <a:lnTo>
                  <a:pt x="287" y="274"/>
                </a:lnTo>
                <a:lnTo>
                  <a:pt x="288" y="283"/>
                </a:lnTo>
                <a:lnTo>
                  <a:pt x="289" y="292"/>
                </a:lnTo>
                <a:lnTo>
                  <a:pt x="289" y="300"/>
                </a:lnTo>
                <a:lnTo>
                  <a:pt x="289" y="308"/>
                </a:lnTo>
                <a:lnTo>
                  <a:pt x="288" y="315"/>
                </a:lnTo>
                <a:lnTo>
                  <a:pt x="288" y="323"/>
                </a:lnTo>
                <a:lnTo>
                  <a:pt x="286" y="329"/>
                </a:lnTo>
                <a:lnTo>
                  <a:pt x="285" y="337"/>
                </a:lnTo>
                <a:lnTo>
                  <a:pt x="283" y="344"/>
                </a:lnTo>
                <a:lnTo>
                  <a:pt x="281" y="350"/>
                </a:lnTo>
                <a:lnTo>
                  <a:pt x="278" y="358"/>
                </a:lnTo>
                <a:lnTo>
                  <a:pt x="275" y="364"/>
                </a:lnTo>
                <a:lnTo>
                  <a:pt x="272" y="370"/>
                </a:lnTo>
                <a:lnTo>
                  <a:pt x="269" y="377"/>
                </a:lnTo>
                <a:lnTo>
                  <a:pt x="266" y="382"/>
                </a:lnTo>
                <a:lnTo>
                  <a:pt x="261" y="387"/>
                </a:lnTo>
                <a:lnTo>
                  <a:pt x="257" y="392"/>
                </a:lnTo>
                <a:lnTo>
                  <a:pt x="252" y="397"/>
                </a:lnTo>
                <a:lnTo>
                  <a:pt x="248" y="402"/>
                </a:lnTo>
                <a:lnTo>
                  <a:pt x="243" y="405"/>
                </a:lnTo>
                <a:lnTo>
                  <a:pt x="238" y="408"/>
                </a:lnTo>
                <a:lnTo>
                  <a:pt x="233" y="411"/>
                </a:lnTo>
                <a:lnTo>
                  <a:pt x="227" y="414"/>
                </a:lnTo>
                <a:lnTo>
                  <a:pt x="221" y="416"/>
                </a:lnTo>
                <a:lnTo>
                  <a:pt x="215" y="418"/>
                </a:lnTo>
                <a:lnTo>
                  <a:pt x="209" y="420"/>
                </a:lnTo>
                <a:lnTo>
                  <a:pt x="202" y="421"/>
                </a:lnTo>
                <a:lnTo>
                  <a:pt x="197" y="421"/>
                </a:lnTo>
                <a:lnTo>
                  <a:pt x="189" y="421"/>
                </a:lnTo>
                <a:lnTo>
                  <a:pt x="181" y="423"/>
                </a:lnTo>
                <a:lnTo>
                  <a:pt x="172" y="423"/>
                </a:lnTo>
                <a:lnTo>
                  <a:pt x="160" y="423"/>
                </a:lnTo>
                <a:lnTo>
                  <a:pt x="148" y="424"/>
                </a:lnTo>
                <a:lnTo>
                  <a:pt x="134" y="424"/>
                </a:lnTo>
                <a:lnTo>
                  <a:pt x="117" y="424"/>
                </a:lnTo>
                <a:lnTo>
                  <a:pt x="0" y="424"/>
                </a:lnTo>
                <a:lnTo>
                  <a:pt x="0" y="0"/>
                </a:lnTo>
                <a:close/>
                <a:moveTo>
                  <a:pt x="70" y="71"/>
                </a:moveTo>
                <a:lnTo>
                  <a:pt x="70" y="168"/>
                </a:lnTo>
                <a:lnTo>
                  <a:pt x="115" y="168"/>
                </a:lnTo>
                <a:lnTo>
                  <a:pt x="126" y="168"/>
                </a:lnTo>
                <a:lnTo>
                  <a:pt x="134" y="168"/>
                </a:lnTo>
                <a:lnTo>
                  <a:pt x="142" y="168"/>
                </a:lnTo>
                <a:lnTo>
                  <a:pt x="149" y="168"/>
                </a:lnTo>
                <a:lnTo>
                  <a:pt x="154" y="168"/>
                </a:lnTo>
                <a:lnTo>
                  <a:pt x="159" y="168"/>
                </a:lnTo>
                <a:lnTo>
                  <a:pt x="163" y="167"/>
                </a:lnTo>
                <a:lnTo>
                  <a:pt x="166" y="167"/>
                </a:lnTo>
                <a:lnTo>
                  <a:pt x="170" y="167"/>
                </a:lnTo>
                <a:lnTo>
                  <a:pt x="174" y="166"/>
                </a:lnTo>
                <a:lnTo>
                  <a:pt x="178" y="164"/>
                </a:lnTo>
                <a:lnTo>
                  <a:pt x="182" y="162"/>
                </a:lnTo>
                <a:lnTo>
                  <a:pt x="185" y="159"/>
                </a:lnTo>
                <a:lnTo>
                  <a:pt x="188" y="158"/>
                </a:lnTo>
                <a:lnTo>
                  <a:pt x="191" y="154"/>
                </a:lnTo>
                <a:lnTo>
                  <a:pt x="195" y="152"/>
                </a:lnTo>
                <a:lnTo>
                  <a:pt x="197" y="148"/>
                </a:lnTo>
                <a:lnTo>
                  <a:pt x="199" y="146"/>
                </a:lnTo>
                <a:lnTo>
                  <a:pt x="201" y="142"/>
                </a:lnTo>
                <a:lnTo>
                  <a:pt x="202" y="137"/>
                </a:lnTo>
                <a:lnTo>
                  <a:pt x="203" y="133"/>
                </a:lnTo>
                <a:lnTo>
                  <a:pt x="204" y="128"/>
                </a:lnTo>
                <a:lnTo>
                  <a:pt x="204" y="123"/>
                </a:lnTo>
                <a:lnTo>
                  <a:pt x="205" y="118"/>
                </a:lnTo>
                <a:lnTo>
                  <a:pt x="204" y="114"/>
                </a:lnTo>
                <a:lnTo>
                  <a:pt x="204" y="110"/>
                </a:lnTo>
                <a:lnTo>
                  <a:pt x="203" y="105"/>
                </a:lnTo>
                <a:lnTo>
                  <a:pt x="202" y="101"/>
                </a:lnTo>
                <a:lnTo>
                  <a:pt x="201" y="97"/>
                </a:lnTo>
                <a:lnTo>
                  <a:pt x="200" y="93"/>
                </a:lnTo>
                <a:lnTo>
                  <a:pt x="198" y="90"/>
                </a:lnTo>
                <a:lnTo>
                  <a:pt x="196" y="87"/>
                </a:lnTo>
                <a:lnTo>
                  <a:pt x="194" y="85"/>
                </a:lnTo>
                <a:lnTo>
                  <a:pt x="190" y="81"/>
                </a:lnTo>
                <a:lnTo>
                  <a:pt x="187" y="80"/>
                </a:lnTo>
                <a:lnTo>
                  <a:pt x="184" y="77"/>
                </a:lnTo>
                <a:lnTo>
                  <a:pt x="181" y="76"/>
                </a:lnTo>
                <a:lnTo>
                  <a:pt x="177" y="73"/>
                </a:lnTo>
                <a:lnTo>
                  <a:pt x="173" y="73"/>
                </a:lnTo>
                <a:lnTo>
                  <a:pt x="169" y="72"/>
                </a:lnTo>
                <a:lnTo>
                  <a:pt x="166" y="72"/>
                </a:lnTo>
                <a:lnTo>
                  <a:pt x="162" y="71"/>
                </a:lnTo>
                <a:lnTo>
                  <a:pt x="156" y="71"/>
                </a:lnTo>
                <a:lnTo>
                  <a:pt x="149" y="71"/>
                </a:lnTo>
                <a:lnTo>
                  <a:pt x="141" y="71"/>
                </a:lnTo>
                <a:lnTo>
                  <a:pt x="132" y="71"/>
                </a:lnTo>
                <a:lnTo>
                  <a:pt x="122" y="71"/>
                </a:lnTo>
                <a:lnTo>
                  <a:pt x="110" y="71"/>
                </a:lnTo>
                <a:lnTo>
                  <a:pt x="70" y="71"/>
                </a:lnTo>
                <a:close/>
                <a:moveTo>
                  <a:pt x="70" y="239"/>
                </a:moveTo>
                <a:lnTo>
                  <a:pt x="70" y="353"/>
                </a:lnTo>
                <a:lnTo>
                  <a:pt x="135" y="353"/>
                </a:lnTo>
                <a:lnTo>
                  <a:pt x="143" y="353"/>
                </a:lnTo>
                <a:lnTo>
                  <a:pt x="151" y="353"/>
                </a:lnTo>
                <a:lnTo>
                  <a:pt x="159" y="352"/>
                </a:lnTo>
                <a:lnTo>
                  <a:pt x="165" y="352"/>
                </a:lnTo>
                <a:lnTo>
                  <a:pt x="170" y="352"/>
                </a:lnTo>
                <a:lnTo>
                  <a:pt x="175" y="352"/>
                </a:lnTo>
                <a:lnTo>
                  <a:pt x="179" y="350"/>
                </a:lnTo>
                <a:lnTo>
                  <a:pt x="182" y="350"/>
                </a:lnTo>
                <a:lnTo>
                  <a:pt x="185" y="349"/>
                </a:lnTo>
                <a:lnTo>
                  <a:pt x="189" y="348"/>
                </a:lnTo>
                <a:lnTo>
                  <a:pt x="193" y="345"/>
                </a:lnTo>
                <a:lnTo>
                  <a:pt x="196" y="344"/>
                </a:lnTo>
                <a:lnTo>
                  <a:pt x="200" y="342"/>
                </a:lnTo>
                <a:lnTo>
                  <a:pt x="202" y="339"/>
                </a:lnTo>
                <a:lnTo>
                  <a:pt x="205" y="337"/>
                </a:lnTo>
                <a:lnTo>
                  <a:pt x="208" y="333"/>
                </a:lnTo>
                <a:lnTo>
                  <a:pt x="210" y="329"/>
                </a:lnTo>
                <a:lnTo>
                  <a:pt x="212" y="325"/>
                </a:lnTo>
                <a:lnTo>
                  <a:pt x="213" y="322"/>
                </a:lnTo>
                <a:lnTo>
                  <a:pt x="215" y="317"/>
                </a:lnTo>
                <a:lnTo>
                  <a:pt x="216" y="313"/>
                </a:lnTo>
                <a:lnTo>
                  <a:pt x="217" y="308"/>
                </a:lnTo>
                <a:lnTo>
                  <a:pt x="217" y="303"/>
                </a:lnTo>
                <a:lnTo>
                  <a:pt x="217" y="297"/>
                </a:lnTo>
                <a:lnTo>
                  <a:pt x="217" y="292"/>
                </a:lnTo>
                <a:lnTo>
                  <a:pt x="217" y="288"/>
                </a:lnTo>
                <a:lnTo>
                  <a:pt x="216" y="283"/>
                </a:lnTo>
                <a:lnTo>
                  <a:pt x="215" y="279"/>
                </a:lnTo>
                <a:lnTo>
                  <a:pt x="214" y="275"/>
                </a:lnTo>
                <a:lnTo>
                  <a:pt x="213" y="272"/>
                </a:lnTo>
                <a:lnTo>
                  <a:pt x="211" y="268"/>
                </a:lnTo>
                <a:lnTo>
                  <a:pt x="210" y="264"/>
                </a:lnTo>
                <a:lnTo>
                  <a:pt x="208" y="262"/>
                </a:lnTo>
                <a:lnTo>
                  <a:pt x="206" y="258"/>
                </a:lnTo>
                <a:lnTo>
                  <a:pt x="203" y="256"/>
                </a:lnTo>
                <a:lnTo>
                  <a:pt x="201" y="253"/>
                </a:lnTo>
                <a:lnTo>
                  <a:pt x="198" y="251"/>
                </a:lnTo>
                <a:lnTo>
                  <a:pt x="195" y="249"/>
                </a:lnTo>
                <a:lnTo>
                  <a:pt x="191" y="247"/>
                </a:lnTo>
                <a:lnTo>
                  <a:pt x="187" y="246"/>
                </a:lnTo>
                <a:lnTo>
                  <a:pt x="183" y="244"/>
                </a:lnTo>
                <a:lnTo>
                  <a:pt x="178" y="243"/>
                </a:lnTo>
                <a:lnTo>
                  <a:pt x="172" y="242"/>
                </a:lnTo>
                <a:lnTo>
                  <a:pt x="165" y="241"/>
                </a:lnTo>
                <a:lnTo>
                  <a:pt x="157" y="241"/>
                </a:lnTo>
                <a:lnTo>
                  <a:pt x="148" y="239"/>
                </a:lnTo>
                <a:lnTo>
                  <a:pt x="138" y="239"/>
                </a:lnTo>
                <a:lnTo>
                  <a:pt x="126" y="239"/>
                </a:lnTo>
                <a:lnTo>
                  <a:pt x="70" y="2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26320" y="585720"/>
            <a:ext cx="138240" cy="168480"/>
          </a:xfrm>
          <a:custGeom>
            <a:avLst/>
            <a:gdLst/>
            <a:ahLst/>
            <a:rect l="l" t="t" r="r" b="b"/>
            <a:pathLst>
              <a:path w="261" h="424">
                <a:moveTo>
                  <a:pt x="0" y="424"/>
                </a:moveTo>
                <a:lnTo>
                  <a:pt x="0" y="0"/>
                </a:lnTo>
                <a:lnTo>
                  <a:pt x="255" y="0"/>
                </a:lnTo>
                <a:lnTo>
                  <a:pt x="255" y="72"/>
                </a:lnTo>
                <a:lnTo>
                  <a:pt x="70" y="72"/>
                </a:lnTo>
                <a:lnTo>
                  <a:pt x="70" y="166"/>
                </a:lnTo>
                <a:lnTo>
                  <a:pt x="242" y="166"/>
                </a:lnTo>
                <a:lnTo>
                  <a:pt x="242" y="237"/>
                </a:lnTo>
                <a:lnTo>
                  <a:pt x="70" y="237"/>
                </a:lnTo>
                <a:lnTo>
                  <a:pt x="70" y="353"/>
                </a:lnTo>
                <a:lnTo>
                  <a:pt x="261" y="353"/>
                </a:lnTo>
                <a:lnTo>
                  <a:pt x="261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96240" y="585720"/>
            <a:ext cx="163440" cy="168480"/>
          </a:xfrm>
          <a:custGeom>
            <a:avLst/>
            <a:gdLst/>
            <a:ahLst/>
            <a:rect l="l" t="t" r="r" b="b"/>
            <a:pathLst>
              <a:path w="309" h="424">
                <a:moveTo>
                  <a:pt x="0" y="424"/>
                </a:moveTo>
                <a:lnTo>
                  <a:pt x="0" y="0"/>
                </a:lnTo>
                <a:lnTo>
                  <a:pt x="146" y="0"/>
                </a:lnTo>
                <a:lnTo>
                  <a:pt x="159" y="0"/>
                </a:lnTo>
                <a:lnTo>
                  <a:pt x="171" y="1"/>
                </a:lnTo>
                <a:lnTo>
                  <a:pt x="184" y="2"/>
                </a:lnTo>
                <a:lnTo>
                  <a:pt x="194" y="3"/>
                </a:lnTo>
                <a:lnTo>
                  <a:pt x="204" y="5"/>
                </a:lnTo>
                <a:lnTo>
                  <a:pt x="212" y="6"/>
                </a:lnTo>
                <a:lnTo>
                  <a:pt x="220" y="8"/>
                </a:lnTo>
                <a:lnTo>
                  <a:pt x="226" y="11"/>
                </a:lnTo>
                <a:lnTo>
                  <a:pt x="232" y="15"/>
                </a:lnTo>
                <a:lnTo>
                  <a:pt x="238" y="18"/>
                </a:lnTo>
                <a:lnTo>
                  <a:pt x="243" y="22"/>
                </a:lnTo>
                <a:lnTo>
                  <a:pt x="249" y="27"/>
                </a:lnTo>
                <a:lnTo>
                  <a:pt x="254" y="32"/>
                </a:lnTo>
                <a:lnTo>
                  <a:pt x="259" y="38"/>
                </a:lnTo>
                <a:lnTo>
                  <a:pt x="263" y="45"/>
                </a:lnTo>
                <a:lnTo>
                  <a:pt x="267" y="52"/>
                </a:lnTo>
                <a:lnTo>
                  <a:pt x="270" y="60"/>
                </a:lnTo>
                <a:lnTo>
                  <a:pt x="273" y="67"/>
                </a:lnTo>
                <a:lnTo>
                  <a:pt x="276" y="75"/>
                </a:lnTo>
                <a:lnTo>
                  <a:pt x="278" y="83"/>
                </a:lnTo>
                <a:lnTo>
                  <a:pt x="279" y="92"/>
                </a:lnTo>
                <a:lnTo>
                  <a:pt x="281" y="101"/>
                </a:lnTo>
                <a:lnTo>
                  <a:pt x="281" y="110"/>
                </a:lnTo>
                <a:lnTo>
                  <a:pt x="282" y="118"/>
                </a:lnTo>
                <a:lnTo>
                  <a:pt x="281" y="131"/>
                </a:lnTo>
                <a:lnTo>
                  <a:pt x="280" y="142"/>
                </a:lnTo>
                <a:lnTo>
                  <a:pt x="278" y="152"/>
                </a:lnTo>
                <a:lnTo>
                  <a:pt x="276" y="162"/>
                </a:lnTo>
                <a:lnTo>
                  <a:pt x="273" y="172"/>
                </a:lnTo>
                <a:lnTo>
                  <a:pt x="269" y="181"/>
                </a:lnTo>
                <a:lnTo>
                  <a:pt x="264" y="189"/>
                </a:lnTo>
                <a:lnTo>
                  <a:pt x="259" y="198"/>
                </a:lnTo>
                <a:lnTo>
                  <a:pt x="253" y="206"/>
                </a:lnTo>
                <a:lnTo>
                  <a:pt x="245" y="212"/>
                </a:lnTo>
                <a:lnTo>
                  <a:pt x="238" y="218"/>
                </a:lnTo>
                <a:lnTo>
                  <a:pt x="230" y="223"/>
                </a:lnTo>
                <a:lnTo>
                  <a:pt x="221" y="228"/>
                </a:lnTo>
                <a:lnTo>
                  <a:pt x="212" y="232"/>
                </a:lnTo>
                <a:lnTo>
                  <a:pt x="202" y="234"/>
                </a:lnTo>
                <a:lnTo>
                  <a:pt x="191" y="237"/>
                </a:lnTo>
                <a:lnTo>
                  <a:pt x="196" y="241"/>
                </a:lnTo>
                <a:lnTo>
                  <a:pt x="201" y="246"/>
                </a:lnTo>
                <a:lnTo>
                  <a:pt x="206" y="249"/>
                </a:lnTo>
                <a:lnTo>
                  <a:pt x="211" y="254"/>
                </a:lnTo>
                <a:lnTo>
                  <a:pt x="216" y="258"/>
                </a:lnTo>
                <a:lnTo>
                  <a:pt x="220" y="263"/>
                </a:lnTo>
                <a:lnTo>
                  <a:pt x="224" y="268"/>
                </a:lnTo>
                <a:lnTo>
                  <a:pt x="228" y="273"/>
                </a:lnTo>
                <a:lnTo>
                  <a:pt x="231" y="278"/>
                </a:lnTo>
                <a:lnTo>
                  <a:pt x="235" y="284"/>
                </a:lnTo>
                <a:lnTo>
                  <a:pt x="240" y="292"/>
                </a:lnTo>
                <a:lnTo>
                  <a:pt x="245" y="299"/>
                </a:lnTo>
                <a:lnTo>
                  <a:pt x="251" y="308"/>
                </a:lnTo>
                <a:lnTo>
                  <a:pt x="256" y="318"/>
                </a:lnTo>
                <a:lnTo>
                  <a:pt x="262" y="329"/>
                </a:lnTo>
                <a:lnTo>
                  <a:pt x="268" y="342"/>
                </a:lnTo>
                <a:lnTo>
                  <a:pt x="309" y="424"/>
                </a:lnTo>
                <a:lnTo>
                  <a:pt x="226" y="424"/>
                </a:lnTo>
                <a:lnTo>
                  <a:pt x="177" y="332"/>
                </a:lnTo>
                <a:lnTo>
                  <a:pt x="169" y="320"/>
                </a:lnTo>
                <a:lnTo>
                  <a:pt x="163" y="309"/>
                </a:lnTo>
                <a:lnTo>
                  <a:pt x="158" y="299"/>
                </a:lnTo>
                <a:lnTo>
                  <a:pt x="153" y="292"/>
                </a:lnTo>
                <a:lnTo>
                  <a:pt x="149" y="284"/>
                </a:lnTo>
                <a:lnTo>
                  <a:pt x="145" y="278"/>
                </a:lnTo>
                <a:lnTo>
                  <a:pt x="142" y="273"/>
                </a:lnTo>
                <a:lnTo>
                  <a:pt x="139" y="269"/>
                </a:lnTo>
                <a:lnTo>
                  <a:pt x="137" y="267"/>
                </a:lnTo>
                <a:lnTo>
                  <a:pt x="134" y="263"/>
                </a:lnTo>
                <a:lnTo>
                  <a:pt x="132" y="260"/>
                </a:lnTo>
                <a:lnTo>
                  <a:pt x="129" y="258"/>
                </a:lnTo>
                <a:lnTo>
                  <a:pt x="127" y="257"/>
                </a:lnTo>
                <a:lnTo>
                  <a:pt x="124" y="254"/>
                </a:lnTo>
                <a:lnTo>
                  <a:pt x="121" y="253"/>
                </a:lnTo>
                <a:lnTo>
                  <a:pt x="119" y="252"/>
                </a:lnTo>
                <a:lnTo>
                  <a:pt x="116" y="251"/>
                </a:lnTo>
                <a:lnTo>
                  <a:pt x="112" y="249"/>
                </a:lnTo>
                <a:lnTo>
                  <a:pt x="109" y="249"/>
                </a:lnTo>
                <a:lnTo>
                  <a:pt x="105" y="248"/>
                </a:lnTo>
                <a:lnTo>
                  <a:pt x="99" y="248"/>
                </a:lnTo>
                <a:lnTo>
                  <a:pt x="94" y="247"/>
                </a:lnTo>
                <a:lnTo>
                  <a:pt x="89" y="247"/>
                </a:lnTo>
                <a:lnTo>
                  <a:pt x="83" y="247"/>
                </a:lnTo>
                <a:lnTo>
                  <a:pt x="69" y="247"/>
                </a:lnTo>
                <a:lnTo>
                  <a:pt x="69" y="424"/>
                </a:lnTo>
                <a:lnTo>
                  <a:pt x="0" y="424"/>
                </a:lnTo>
                <a:close/>
                <a:moveTo>
                  <a:pt x="69" y="179"/>
                </a:moveTo>
                <a:lnTo>
                  <a:pt x="121" y="179"/>
                </a:lnTo>
                <a:lnTo>
                  <a:pt x="133" y="179"/>
                </a:lnTo>
                <a:lnTo>
                  <a:pt x="143" y="179"/>
                </a:lnTo>
                <a:lnTo>
                  <a:pt x="153" y="178"/>
                </a:lnTo>
                <a:lnTo>
                  <a:pt x="161" y="178"/>
                </a:lnTo>
                <a:lnTo>
                  <a:pt x="168" y="177"/>
                </a:lnTo>
                <a:lnTo>
                  <a:pt x="174" y="177"/>
                </a:lnTo>
                <a:lnTo>
                  <a:pt x="180" y="176"/>
                </a:lnTo>
                <a:lnTo>
                  <a:pt x="184" y="174"/>
                </a:lnTo>
                <a:lnTo>
                  <a:pt x="187" y="173"/>
                </a:lnTo>
                <a:lnTo>
                  <a:pt x="189" y="171"/>
                </a:lnTo>
                <a:lnTo>
                  <a:pt x="192" y="169"/>
                </a:lnTo>
                <a:lnTo>
                  <a:pt x="195" y="167"/>
                </a:lnTo>
                <a:lnTo>
                  <a:pt x="197" y="164"/>
                </a:lnTo>
                <a:lnTo>
                  <a:pt x="199" y="162"/>
                </a:lnTo>
                <a:lnTo>
                  <a:pt x="201" y="159"/>
                </a:lnTo>
                <a:lnTo>
                  <a:pt x="203" y="156"/>
                </a:lnTo>
                <a:lnTo>
                  <a:pt x="205" y="153"/>
                </a:lnTo>
                <a:lnTo>
                  <a:pt x="206" y="149"/>
                </a:lnTo>
                <a:lnTo>
                  <a:pt x="207" y="146"/>
                </a:lnTo>
                <a:lnTo>
                  <a:pt x="208" y="142"/>
                </a:lnTo>
                <a:lnTo>
                  <a:pt x="209" y="138"/>
                </a:lnTo>
                <a:lnTo>
                  <a:pt x="209" y="133"/>
                </a:lnTo>
                <a:lnTo>
                  <a:pt x="210" y="129"/>
                </a:lnTo>
                <a:lnTo>
                  <a:pt x="210" y="124"/>
                </a:lnTo>
                <a:lnTo>
                  <a:pt x="210" y="119"/>
                </a:lnTo>
                <a:lnTo>
                  <a:pt x="209" y="114"/>
                </a:lnTo>
                <a:lnTo>
                  <a:pt x="209" y="110"/>
                </a:lnTo>
                <a:lnTo>
                  <a:pt x="208" y="105"/>
                </a:lnTo>
                <a:lnTo>
                  <a:pt x="206" y="101"/>
                </a:lnTo>
                <a:lnTo>
                  <a:pt x="205" y="97"/>
                </a:lnTo>
                <a:lnTo>
                  <a:pt x="203" y="93"/>
                </a:lnTo>
                <a:lnTo>
                  <a:pt x="201" y="90"/>
                </a:lnTo>
                <a:lnTo>
                  <a:pt x="198" y="87"/>
                </a:lnTo>
                <a:lnTo>
                  <a:pt x="196" y="83"/>
                </a:lnTo>
                <a:lnTo>
                  <a:pt x="193" y="81"/>
                </a:lnTo>
                <a:lnTo>
                  <a:pt x="190" y="80"/>
                </a:lnTo>
                <a:lnTo>
                  <a:pt x="186" y="77"/>
                </a:lnTo>
                <a:lnTo>
                  <a:pt x="183" y="76"/>
                </a:lnTo>
                <a:lnTo>
                  <a:pt x="179" y="75"/>
                </a:lnTo>
                <a:lnTo>
                  <a:pt x="174" y="73"/>
                </a:lnTo>
                <a:lnTo>
                  <a:pt x="171" y="73"/>
                </a:lnTo>
                <a:lnTo>
                  <a:pt x="168" y="72"/>
                </a:lnTo>
                <a:lnTo>
                  <a:pt x="163" y="72"/>
                </a:lnTo>
                <a:lnTo>
                  <a:pt x="157" y="72"/>
                </a:lnTo>
                <a:lnTo>
                  <a:pt x="150" y="72"/>
                </a:lnTo>
                <a:lnTo>
                  <a:pt x="143" y="72"/>
                </a:lnTo>
                <a:lnTo>
                  <a:pt x="134" y="72"/>
                </a:lnTo>
                <a:lnTo>
                  <a:pt x="124" y="72"/>
                </a:lnTo>
                <a:lnTo>
                  <a:pt x="69" y="72"/>
                </a:lnTo>
                <a:lnTo>
                  <a:pt x="69" y="1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66160" y="585720"/>
            <a:ext cx="144360" cy="168480"/>
          </a:xfrm>
          <a:custGeom>
            <a:avLst/>
            <a:gdLst/>
            <a:ahLst/>
            <a:rect l="l" t="t" r="r" b="b"/>
            <a:pathLst>
              <a:path w="273" h="424">
                <a:moveTo>
                  <a:pt x="102" y="424"/>
                </a:moveTo>
                <a:lnTo>
                  <a:pt x="102" y="72"/>
                </a:lnTo>
                <a:lnTo>
                  <a:pt x="0" y="72"/>
                </a:lnTo>
                <a:lnTo>
                  <a:pt x="0" y="0"/>
                </a:lnTo>
                <a:lnTo>
                  <a:pt x="273" y="0"/>
                </a:lnTo>
                <a:lnTo>
                  <a:pt x="273" y="72"/>
                </a:lnTo>
                <a:lnTo>
                  <a:pt x="171" y="72"/>
                </a:lnTo>
                <a:lnTo>
                  <a:pt x="171" y="424"/>
                </a:lnTo>
                <a:lnTo>
                  <a:pt x="102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34280" y="585720"/>
            <a:ext cx="36720" cy="1684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86440" y="1373040"/>
            <a:ext cx="127080" cy="168480"/>
          </a:xfrm>
          <a:custGeom>
            <a:avLst/>
            <a:gdLst/>
            <a:ahLst/>
            <a:rect l="l" t="t" r="r" b="b"/>
            <a:pathLst>
              <a:path w="238" h="424">
                <a:moveTo>
                  <a:pt x="150" y="424"/>
                </a:moveTo>
                <a:lnTo>
                  <a:pt x="150" y="322"/>
                </a:lnTo>
                <a:lnTo>
                  <a:pt x="0" y="322"/>
                </a:lnTo>
                <a:lnTo>
                  <a:pt x="0" y="275"/>
                </a:lnTo>
                <a:lnTo>
                  <a:pt x="157" y="0"/>
                </a:lnTo>
                <a:lnTo>
                  <a:pt x="191" y="0"/>
                </a:lnTo>
                <a:lnTo>
                  <a:pt x="191" y="275"/>
                </a:lnTo>
                <a:lnTo>
                  <a:pt x="238" y="275"/>
                </a:lnTo>
                <a:lnTo>
                  <a:pt x="238" y="322"/>
                </a:lnTo>
                <a:lnTo>
                  <a:pt x="191" y="322"/>
                </a:lnTo>
                <a:lnTo>
                  <a:pt x="191" y="424"/>
                </a:lnTo>
                <a:lnTo>
                  <a:pt x="150" y="424"/>
                </a:lnTo>
                <a:close/>
                <a:moveTo>
                  <a:pt x="150" y="275"/>
                </a:moveTo>
                <a:lnTo>
                  <a:pt x="150" y="84"/>
                </a:lnTo>
                <a:lnTo>
                  <a:pt x="41" y="275"/>
                </a:lnTo>
                <a:lnTo>
                  <a:pt x="150" y="27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35840" y="1373040"/>
            <a:ext cx="119160" cy="171720"/>
          </a:xfrm>
          <a:custGeom>
            <a:avLst/>
            <a:gdLst/>
            <a:ahLst/>
            <a:rect l="l" t="t" r="r" b="b"/>
            <a:pathLst>
              <a:path w="227" h="433">
                <a:moveTo>
                  <a:pt x="221" y="106"/>
                </a:moveTo>
                <a:lnTo>
                  <a:pt x="179" y="109"/>
                </a:lnTo>
                <a:lnTo>
                  <a:pt x="177" y="102"/>
                </a:lnTo>
                <a:lnTo>
                  <a:pt x="176" y="96"/>
                </a:lnTo>
                <a:lnTo>
                  <a:pt x="174" y="89"/>
                </a:lnTo>
                <a:lnTo>
                  <a:pt x="172" y="83"/>
                </a:lnTo>
                <a:lnTo>
                  <a:pt x="170" y="78"/>
                </a:lnTo>
                <a:lnTo>
                  <a:pt x="168" y="73"/>
                </a:lnTo>
                <a:lnTo>
                  <a:pt x="166" y="69"/>
                </a:lnTo>
                <a:lnTo>
                  <a:pt x="163" y="66"/>
                </a:lnTo>
                <a:lnTo>
                  <a:pt x="159" y="59"/>
                </a:lnTo>
                <a:lnTo>
                  <a:pt x="154" y="56"/>
                </a:lnTo>
                <a:lnTo>
                  <a:pt x="149" y="52"/>
                </a:lnTo>
                <a:lnTo>
                  <a:pt x="144" y="48"/>
                </a:lnTo>
                <a:lnTo>
                  <a:pt x="139" y="46"/>
                </a:lnTo>
                <a:lnTo>
                  <a:pt x="132" y="44"/>
                </a:lnTo>
                <a:lnTo>
                  <a:pt x="126" y="43"/>
                </a:lnTo>
                <a:lnTo>
                  <a:pt x="120" y="43"/>
                </a:lnTo>
                <a:lnTo>
                  <a:pt x="115" y="43"/>
                </a:lnTo>
                <a:lnTo>
                  <a:pt x="111" y="43"/>
                </a:lnTo>
                <a:lnTo>
                  <a:pt x="106" y="44"/>
                </a:lnTo>
                <a:lnTo>
                  <a:pt x="102" y="47"/>
                </a:lnTo>
                <a:lnTo>
                  <a:pt x="97" y="48"/>
                </a:lnTo>
                <a:lnTo>
                  <a:pt x="93" y="51"/>
                </a:lnTo>
                <a:lnTo>
                  <a:pt x="89" y="53"/>
                </a:lnTo>
                <a:lnTo>
                  <a:pt x="85" y="57"/>
                </a:lnTo>
                <a:lnTo>
                  <a:pt x="81" y="62"/>
                </a:lnTo>
                <a:lnTo>
                  <a:pt x="76" y="67"/>
                </a:lnTo>
                <a:lnTo>
                  <a:pt x="72" y="73"/>
                </a:lnTo>
                <a:lnTo>
                  <a:pt x="68" y="79"/>
                </a:lnTo>
                <a:lnTo>
                  <a:pt x="64" y="86"/>
                </a:lnTo>
                <a:lnTo>
                  <a:pt x="59" y="93"/>
                </a:lnTo>
                <a:lnTo>
                  <a:pt x="56" y="101"/>
                </a:lnTo>
                <a:lnTo>
                  <a:pt x="53" y="109"/>
                </a:lnTo>
                <a:lnTo>
                  <a:pt x="51" y="118"/>
                </a:lnTo>
                <a:lnTo>
                  <a:pt x="48" y="128"/>
                </a:lnTo>
                <a:lnTo>
                  <a:pt x="46" y="139"/>
                </a:lnTo>
                <a:lnTo>
                  <a:pt x="45" y="151"/>
                </a:lnTo>
                <a:lnTo>
                  <a:pt x="43" y="163"/>
                </a:lnTo>
                <a:lnTo>
                  <a:pt x="42" y="177"/>
                </a:lnTo>
                <a:lnTo>
                  <a:pt x="42" y="192"/>
                </a:lnTo>
                <a:lnTo>
                  <a:pt x="41" y="207"/>
                </a:lnTo>
                <a:lnTo>
                  <a:pt x="45" y="200"/>
                </a:lnTo>
                <a:lnTo>
                  <a:pt x="49" y="194"/>
                </a:lnTo>
                <a:lnTo>
                  <a:pt x="54" y="188"/>
                </a:lnTo>
                <a:lnTo>
                  <a:pt x="58" y="182"/>
                </a:lnTo>
                <a:lnTo>
                  <a:pt x="64" y="177"/>
                </a:lnTo>
                <a:lnTo>
                  <a:pt x="69" y="173"/>
                </a:lnTo>
                <a:lnTo>
                  <a:pt x="74" y="168"/>
                </a:lnTo>
                <a:lnTo>
                  <a:pt x="79" y="164"/>
                </a:lnTo>
                <a:lnTo>
                  <a:pt x="85" y="162"/>
                </a:lnTo>
                <a:lnTo>
                  <a:pt x="90" y="158"/>
                </a:lnTo>
                <a:lnTo>
                  <a:pt x="96" y="157"/>
                </a:lnTo>
                <a:lnTo>
                  <a:pt x="102" y="154"/>
                </a:lnTo>
                <a:lnTo>
                  <a:pt x="107" y="153"/>
                </a:lnTo>
                <a:lnTo>
                  <a:pt x="113" y="152"/>
                </a:lnTo>
                <a:lnTo>
                  <a:pt x="119" y="151"/>
                </a:lnTo>
                <a:lnTo>
                  <a:pt x="125" y="151"/>
                </a:lnTo>
                <a:lnTo>
                  <a:pt x="136" y="152"/>
                </a:lnTo>
                <a:lnTo>
                  <a:pt x="146" y="153"/>
                </a:lnTo>
                <a:lnTo>
                  <a:pt x="156" y="157"/>
                </a:lnTo>
                <a:lnTo>
                  <a:pt x="165" y="160"/>
                </a:lnTo>
                <a:lnTo>
                  <a:pt x="173" y="165"/>
                </a:lnTo>
                <a:lnTo>
                  <a:pt x="182" y="172"/>
                </a:lnTo>
                <a:lnTo>
                  <a:pt x="189" y="180"/>
                </a:lnTo>
                <a:lnTo>
                  <a:pt x="197" y="189"/>
                </a:lnTo>
                <a:lnTo>
                  <a:pt x="204" y="199"/>
                </a:lnTo>
                <a:lnTo>
                  <a:pt x="211" y="209"/>
                </a:lnTo>
                <a:lnTo>
                  <a:pt x="216" y="220"/>
                </a:lnTo>
                <a:lnTo>
                  <a:pt x="220" y="233"/>
                </a:lnTo>
                <a:lnTo>
                  <a:pt x="223" y="245"/>
                </a:lnTo>
                <a:lnTo>
                  <a:pt x="225" y="259"/>
                </a:lnTo>
                <a:lnTo>
                  <a:pt x="227" y="273"/>
                </a:lnTo>
                <a:lnTo>
                  <a:pt x="227" y="288"/>
                </a:lnTo>
                <a:lnTo>
                  <a:pt x="227" y="298"/>
                </a:lnTo>
                <a:lnTo>
                  <a:pt x="226" y="308"/>
                </a:lnTo>
                <a:lnTo>
                  <a:pt x="225" y="318"/>
                </a:lnTo>
                <a:lnTo>
                  <a:pt x="224" y="326"/>
                </a:lnTo>
                <a:lnTo>
                  <a:pt x="222" y="335"/>
                </a:lnTo>
                <a:lnTo>
                  <a:pt x="220" y="345"/>
                </a:lnTo>
                <a:lnTo>
                  <a:pt x="217" y="354"/>
                </a:lnTo>
                <a:lnTo>
                  <a:pt x="213" y="363"/>
                </a:lnTo>
                <a:lnTo>
                  <a:pt x="210" y="370"/>
                </a:lnTo>
                <a:lnTo>
                  <a:pt x="205" y="379"/>
                </a:lnTo>
                <a:lnTo>
                  <a:pt x="201" y="386"/>
                </a:lnTo>
                <a:lnTo>
                  <a:pt x="196" y="393"/>
                </a:lnTo>
                <a:lnTo>
                  <a:pt x="191" y="399"/>
                </a:lnTo>
                <a:lnTo>
                  <a:pt x="186" y="405"/>
                </a:lnTo>
                <a:lnTo>
                  <a:pt x="180" y="410"/>
                </a:lnTo>
                <a:lnTo>
                  <a:pt x="175" y="415"/>
                </a:lnTo>
                <a:lnTo>
                  <a:pt x="168" y="419"/>
                </a:lnTo>
                <a:lnTo>
                  <a:pt x="162" y="423"/>
                </a:lnTo>
                <a:lnTo>
                  <a:pt x="156" y="426"/>
                </a:lnTo>
                <a:lnTo>
                  <a:pt x="149" y="429"/>
                </a:lnTo>
                <a:lnTo>
                  <a:pt x="142" y="430"/>
                </a:lnTo>
                <a:lnTo>
                  <a:pt x="134" y="431"/>
                </a:lnTo>
                <a:lnTo>
                  <a:pt x="126" y="433"/>
                </a:lnTo>
                <a:lnTo>
                  <a:pt x="119" y="433"/>
                </a:lnTo>
                <a:lnTo>
                  <a:pt x="106" y="433"/>
                </a:lnTo>
                <a:lnTo>
                  <a:pt x="94" y="430"/>
                </a:lnTo>
                <a:lnTo>
                  <a:pt x="83" y="426"/>
                </a:lnTo>
                <a:lnTo>
                  <a:pt x="72" y="421"/>
                </a:lnTo>
                <a:lnTo>
                  <a:pt x="60" y="414"/>
                </a:lnTo>
                <a:lnTo>
                  <a:pt x="51" y="406"/>
                </a:lnTo>
                <a:lnTo>
                  <a:pt x="41" y="396"/>
                </a:lnTo>
                <a:lnTo>
                  <a:pt x="33" y="385"/>
                </a:lnTo>
                <a:lnTo>
                  <a:pt x="25" y="373"/>
                </a:lnTo>
                <a:lnTo>
                  <a:pt x="18" y="358"/>
                </a:lnTo>
                <a:lnTo>
                  <a:pt x="13" y="340"/>
                </a:lnTo>
                <a:lnTo>
                  <a:pt x="8" y="321"/>
                </a:lnTo>
                <a:lnTo>
                  <a:pt x="5" y="302"/>
                </a:lnTo>
                <a:lnTo>
                  <a:pt x="2" y="279"/>
                </a:lnTo>
                <a:lnTo>
                  <a:pt x="1" y="254"/>
                </a:lnTo>
                <a:lnTo>
                  <a:pt x="0" y="228"/>
                </a:lnTo>
                <a:lnTo>
                  <a:pt x="1" y="198"/>
                </a:lnTo>
                <a:lnTo>
                  <a:pt x="2" y="170"/>
                </a:lnTo>
                <a:lnTo>
                  <a:pt x="5" y="144"/>
                </a:lnTo>
                <a:lnTo>
                  <a:pt x="9" y="122"/>
                </a:lnTo>
                <a:lnTo>
                  <a:pt x="14" y="101"/>
                </a:lnTo>
                <a:lnTo>
                  <a:pt x="20" y="81"/>
                </a:lnTo>
                <a:lnTo>
                  <a:pt x="28" y="63"/>
                </a:lnTo>
                <a:lnTo>
                  <a:pt x="36" y="48"/>
                </a:lnTo>
                <a:lnTo>
                  <a:pt x="45" y="37"/>
                </a:lnTo>
                <a:lnTo>
                  <a:pt x="54" y="27"/>
                </a:lnTo>
                <a:lnTo>
                  <a:pt x="64" y="19"/>
                </a:lnTo>
                <a:lnTo>
                  <a:pt x="75" y="12"/>
                </a:lnTo>
                <a:lnTo>
                  <a:pt x="86" y="7"/>
                </a:lnTo>
                <a:lnTo>
                  <a:pt x="97" y="3"/>
                </a:lnTo>
                <a:lnTo>
                  <a:pt x="110" y="1"/>
                </a:lnTo>
                <a:lnTo>
                  <a:pt x="123" y="0"/>
                </a:lnTo>
                <a:lnTo>
                  <a:pt x="133" y="1"/>
                </a:lnTo>
                <a:lnTo>
                  <a:pt x="143" y="2"/>
                </a:lnTo>
                <a:lnTo>
                  <a:pt x="152" y="5"/>
                </a:lnTo>
                <a:lnTo>
                  <a:pt x="160" y="7"/>
                </a:lnTo>
                <a:lnTo>
                  <a:pt x="168" y="11"/>
                </a:lnTo>
                <a:lnTo>
                  <a:pt x="176" y="16"/>
                </a:lnTo>
                <a:lnTo>
                  <a:pt x="183" y="22"/>
                </a:lnTo>
                <a:lnTo>
                  <a:pt x="190" y="28"/>
                </a:lnTo>
                <a:lnTo>
                  <a:pt x="196" y="36"/>
                </a:lnTo>
                <a:lnTo>
                  <a:pt x="201" y="43"/>
                </a:lnTo>
                <a:lnTo>
                  <a:pt x="206" y="52"/>
                </a:lnTo>
                <a:lnTo>
                  <a:pt x="211" y="62"/>
                </a:lnTo>
                <a:lnTo>
                  <a:pt x="215" y="72"/>
                </a:lnTo>
                <a:lnTo>
                  <a:pt x="217" y="82"/>
                </a:lnTo>
                <a:lnTo>
                  <a:pt x="220" y="93"/>
                </a:lnTo>
                <a:lnTo>
                  <a:pt x="221" y="106"/>
                </a:lnTo>
                <a:close/>
                <a:moveTo>
                  <a:pt x="48" y="288"/>
                </a:moveTo>
                <a:lnTo>
                  <a:pt x="48" y="295"/>
                </a:lnTo>
                <a:lnTo>
                  <a:pt x="49" y="302"/>
                </a:lnTo>
                <a:lnTo>
                  <a:pt x="49" y="308"/>
                </a:lnTo>
                <a:lnTo>
                  <a:pt x="50" y="315"/>
                </a:lnTo>
                <a:lnTo>
                  <a:pt x="52" y="321"/>
                </a:lnTo>
                <a:lnTo>
                  <a:pt x="53" y="328"/>
                </a:lnTo>
                <a:lnTo>
                  <a:pt x="55" y="334"/>
                </a:lnTo>
                <a:lnTo>
                  <a:pt x="57" y="340"/>
                </a:lnTo>
                <a:lnTo>
                  <a:pt x="60" y="346"/>
                </a:lnTo>
                <a:lnTo>
                  <a:pt x="63" y="351"/>
                </a:lnTo>
                <a:lnTo>
                  <a:pt x="66" y="356"/>
                </a:lnTo>
                <a:lnTo>
                  <a:pt x="69" y="361"/>
                </a:lnTo>
                <a:lnTo>
                  <a:pt x="72" y="366"/>
                </a:lnTo>
                <a:lnTo>
                  <a:pt x="76" y="370"/>
                </a:lnTo>
                <a:lnTo>
                  <a:pt x="80" y="374"/>
                </a:lnTo>
                <a:lnTo>
                  <a:pt x="84" y="378"/>
                </a:lnTo>
                <a:lnTo>
                  <a:pt x="88" y="380"/>
                </a:lnTo>
                <a:lnTo>
                  <a:pt x="92" y="383"/>
                </a:lnTo>
                <a:lnTo>
                  <a:pt x="96" y="385"/>
                </a:lnTo>
                <a:lnTo>
                  <a:pt x="101" y="388"/>
                </a:lnTo>
                <a:lnTo>
                  <a:pt x="105" y="389"/>
                </a:lnTo>
                <a:lnTo>
                  <a:pt x="109" y="389"/>
                </a:lnTo>
                <a:lnTo>
                  <a:pt x="114" y="390"/>
                </a:lnTo>
                <a:lnTo>
                  <a:pt x="118" y="390"/>
                </a:lnTo>
                <a:lnTo>
                  <a:pt x="125" y="390"/>
                </a:lnTo>
                <a:lnTo>
                  <a:pt x="131" y="389"/>
                </a:lnTo>
                <a:lnTo>
                  <a:pt x="138" y="386"/>
                </a:lnTo>
                <a:lnTo>
                  <a:pt x="144" y="384"/>
                </a:lnTo>
                <a:lnTo>
                  <a:pt x="149" y="380"/>
                </a:lnTo>
                <a:lnTo>
                  <a:pt x="155" y="375"/>
                </a:lnTo>
                <a:lnTo>
                  <a:pt x="160" y="370"/>
                </a:lnTo>
                <a:lnTo>
                  <a:pt x="165" y="364"/>
                </a:lnTo>
                <a:lnTo>
                  <a:pt x="169" y="356"/>
                </a:lnTo>
                <a:lnTo>
                  <a:pt x="173" y="349"/>
                </a:lnTo>
                <a:lnTo>
                  <a:pt x="176" y="341"/>
                </a:lnTo>
                <a:lnTo>
                  <a:pt x="179" y="333"/>
                </a:lnTo>
                <a:lnTo>
                  <a:pt x="181" y="323"/>
                </a:lnTo>
                <a:lnTo>
                  <a:pt x="182" y="313"/>
                </a:lnTo>
                <a:lnTo>
                  <a:pt x="183" y="303"/>
                </a:lnTo>
                <a:lnTo>
                  <a:pt x="184" y="292"/>
                </a:lnTo>
                <a:lnTo>
                  <a:pt x="183" y="280"/>
                </a:lnTo>
                <a:lnTo>
                  <a:pt x="182" y="270"/>
                </a:lnTo>
                <a:lnTo>
                  <a:pt x="181" y="262"/>
                </a:lnTo>
                <a:lnTo>
                  <a:pt x="179" y="252"/>
                </a:lnTo>
                <a:lnTo>
                  <a:pt x="176" y="244"/>
                </a:lnTo>
                <a:lnTo>
                  <a:pt x="173" y="235"/>
                </a:lnTo>
                <a:lnTo>
                  <a:pt x="169" y="229"/>
                </a:lnTo>
                <a:lnTo>
                  <a:pt x="165" y="222"/>
                </a:lnTo>
                <a:lnTo>
                  <a:pt x="160" y="217"/>
                </a:lnTo>
                <a:lnTo>
                  <a:pt x="155" y="210"/>
                </a:lnTo>
                <a:lnTo>
                  <a:pt x="149" y="207"/>
                </a:lnTo>
                <a:lnTo>
                  <a:pt x="144" y="203"/>
                </a:lnTo>
                <a:lnTo>
                  <a:pt x="138" y="200"/>
                </a:lnTo>
                <a:lnTo>
                  <a:pt x="130" y="198"/>
                </a:lnTo>
                <a:lnTo>
                  <a:pt x="124" y="197"/>
                </a:lnTo>
                <a:lnTo>
                  <a:pt x="117" y="197"/>
                </a:lnTo>
                <a:lnTo>
                  <a:pt x="110" y="197"/>
                </a:lnTo>
                <a:lnTo>
                  <a:pt x="103" y="198"/>
                </a:lnTo>
                <a:lnTo>
                  <a:pt x="97" y="200"/>
                </a:lnTo>
                <a:lnTo>
                  <a:pt x="90" y="203"/>
                </a:lnTo>
                <a:lnTo>
                  <a:pt x="85" y="207"/>
                </a:lnTo>
                <a:lnTo>
                  <a:pt x="79" y="210"/>
                </a:lnTo>
                <a:lnTo>
                  <a:pt x="74" y="217"/>
                </a:lnTo>
                <a:lnTo>
                  <a:pt x="69" y="222"/>
                </a:lnTo>
                <a:lnTo>
                  <a:pt x="64" y="229"/>
                </a:lnTo>
                <a:lnTo>
                  <a:pt x="59" y="235"/>
                </a:lnTo>
                <a:lnTo>
                  <a:pt x="56" y="243"/>
                </a:lnTo>
                <a:lnTo>
                  <a:pt x="53" y="252"/>
                </a:lnTo>
                <a:lnTo>
                  <a:pt x="51" y="260"/>
                </a:lnTo>
                <a:lnTo>
                  <a:pt x="49" y="269"/>
                </a:lnTo>
                <a:lnTo>
                  <a:pt x="48" y="278"/>
                </a:lnTo>
                <a:lnTo>
                  <a:pt x="48" y="2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76960" y="1373040"/>
            <a:ext cx="119160" cy="171720"/>
          </a:xfrm>
          <a:custGeom>
            <a:avLst/>
            <a:gdLst/>
            <a:ahLst/>
            <a:rect l="l" t="t" r="r" b="b"/>
            <a:pathLst>
              <a:path w="224" h="433">
                <a:moveTo>
                  <a:pt x="0" y="217"/>
                </a:moveTo>
                <a:lnTo>
                  <a:pt x="0" y="198"/>
                </a:lnTo>
                <a:lnTo>
                  <a:pt x="0" y="180"/>
                </a:lnTo>
                <a:lnTo>
                  <a:pt x="1" y="164"/>
                </a:lnTo>
                <a:lnTo>
                  <a:pt x="3" y="149"/>
                </a:lnTo>
                <a:lnTo>
                  <a:pt x="5" y="134"/>
                </a:lnTo>
                <a:lnTo>
                  <a:pt x="7" y="121"/>
                </a:lnTo>
                <a:lnTo>
                  <a:pt x="9" y="108"/>
                </a:lnTo>
                <a:lnTo>
                  <a:pt x="13" y="96"/>
                </a:lnTo>
                <a:lnTo>
                  <a:pt x="16" y="84"/>
                </a:lnTo>
                <a:lnTo>
                  <a:pt x="20" y="74"/>
                </a:lnTo>
                <a:lnTo>
                  <a:pt x="24" y="64"/>
                </a:lnTo>
                <a:lnTo>
                  <a:pt x="29" y="56"/>
                </a:lnTo>
                <a:lnTo>
                  <a:pt x="33" y="47"/>
                </a:lnTo>
                <a:lnTo>
                  <a:pt x="38" y="38"/>
                </a:lnTo>
                <a:lnTo>
                  <a:pt x="44" y="32"/>
                </a:lnTo>
                <a:lnTo>
                  <a:pt x="50" y="24"/>
                </a:lnTo>
                <a:lnTo>
                  <a:pt x="56" y="19"/>
                </a:lnTo>
                <a:lnTo>
                  <a:pt x="63" y="15"/>
                </a:lnTo>
                <a:lnTo>
                  <a:pt x="70" y="10"/>
                </a:lnTo>
                <a:lnTo>
                  <a:pt x="78" y="6"/>
                </a:lnTo>
                <a:lnTo>
                  <a:pt x="86" y="3"/>
                </a:lnTo>
                <a:lnTo>
                  <a:pt x="95" y="2"/>
                </a:lnTo>
                <a:lnTo>
                  <a:pt x="103" y="1"/>
                </a:lnTo>
                <a:lnTo>
                  <a:pt x="112" y="0"/>
                </a:lnTo>
                <a:lnTo>
                  <a:pt x="119" y="1"/>
                </a:lnTo>
                <a:lnTo>
                  <a:pt x="126" y="1"/>
                </a:lnTo>
                <a:lnTo>
                  <a:pt x="132" y="2"/>
                </a:lnTo>
                <a:lnTo>
                  <a:pt x="138" y="3"/>
                </a:lnTo>
                <a:lnTo>
                  <a:pt x="144" y="6"/>
                </a:lnTo>
                <a:lnTo>
                  <a:pt x="150" y="8"/>
                </a:lnTo>
                <a:lnTo>
                  <a:pt x="155" y="11"/>
                </a:lnTo>
                <a:lnTo>
                  <a:pt x="161" y="13"/>
                </a:lnTo>
                <a:lnTo>
                  <a:pt x="166" y="17"/>
                </a:lnTo>
                <a:lnTo>
                  <a:pt x="171" y="22"/>
                </a:lnTo>
                <a:lnTo>
                  <a:pt x="176" y="26"/>
                </a:lnTo>
                <a:lnTo>
                  <a:pt x="180" y="31"/>
                </a:lnTo>
                <a:lnTo>
                  <a:pt x="184" y="36"/>
                </a:lnTo>
                <a:lnTo>
                  <a:pt x="188" y="41"/>
                </a:lnTo>
                <a:lnTo>
                  <a:pt x="192" y="47"/>
                </a:lnTo>
                <a:lnTo>
                  <a:pt x="196" y="53"/>
                </a:lnTo>
                <a:lnTo>
                  <a:pt x="199" y="61"/>
                </a:lnTo>
                <a:lnTo>
                  <a:pt x="202" y="67"/>
                </a:lnTo>
                <a:lnTo>
                  <a:pt x="205" y="74"/>
                </a:lnTo>
                <a:lnTo>
                  <a:pt x="208" y="82"/>
                </a:lnTo>
                <a:lnTo>
                  <a:pt x="210" y="91"/>
                </a:lnTo>
                <a:lnTo>
                  <a:pt x="212" y="98"/>
                </a:lnTo>
                <a:lnTo>
                  <a:pt x="215" y="107"/>
                </a:lnTo>
                <a:lnTo>
                  <a:pt x="217" y="117"/>
                </a:lnTo>
                <a:lnTo>
                  <a:pt x="218" y="127"/>
                </a:lnTo>
                <a:lnTo>
                  <a:pt x="220" y="137"/>
                </a:lnTo>
                <a:lnTo>
                  <a:pt x="221" y="148"/>
                </a:lnTo>
                <a:lnTo>
                  <a:pt x="222" y="160"/>
                </a:lnTo>
                <a:lnTo>
                  <a:pt x="223" y="173"/>
                </a:lnTo>
                <a:lnTo>
                  <a:pt x="224" y="187"/>
                </a:lnTo>
                <a:lnTo>
                  <a:pt x="224" y="202"/>
                </a:lnTo>
                <a:lnTo>
                  <a:pt x="224" y="217"/>
                </a:lnTo>
                <a:lnTo>
                  <a:pt x="224" y="235"/>
                </a:lnTo>
                <a:lnTo>
                  <a:pt x="223" y="252"/>
                </a:lnTo>
                <a:lnTo>
                  <a:pt x="223" y="269"/>
                </a:lnTo>
                <a:lnTo>
                  <a:pt x="221" y="284"/>
                </a:lnTo>
                <a:lnTo>
                  <a:pt x="219" y="299"/>
                </a:lnTo>
                <a:lnTo>
                  <a:pt x="217" y="313"/>
                </a:lnTo>
                <a:lnTo>
                  <a:pt x="215" y="325"/>
                </a:lnTo>
                <a:lnTo>
                  <a:pt x="212" y="338"/>
                </a:lnTo>
                <a:lnTo>
                  <a:pt x="209" y="348"/>
                </a:lnTo>
                <a:lnTo>
                  <a:pt x="205" y="359"/>
                </a:lnTo>
                <a:lnTo>
                  <a:pt x="201" y="369"/>
                </a:lnTo>
                <a:lnTo>
                  <a:pt x="197" y="378"/>
                </a:lnTo>
                <a:lnTo>
                  <a:pt x="192" y="386"/>
                </a:lnTo>
                <a:lnTo>
                  <a:pt x="187" y="394"/>
                </a:lnTo>
                <a:lnTo>
                  <a:pt x="181" y="401"/>
                </a:lnTo>
                <a:lnTo>
                  <a:pt x="175" y="408"/>
                </a:lnTo>
                <a:lnTo>
                  <a:pt x="169" y="414"/>
                </a:lnTo>
                <a:lnTo>
                  <a:pt x="162" y="419"/>
                </a:lnTo>
                <a:lnTo>
                  <a:pt x="154" y="424"/>
                </a:lnTo>
                <a:lnTo>
                  <a:pt x="147" y="426"/>
                </a:lnTo>
                <a:lnTo>
                  <a:pt x="139" y="430"/>
                </a:lnTo>
                <a:lnTo>
                  <a:pt x="130" y="431"/>
                </a:lnTo>
                <a:lnTo>
                  <a:pt x="122" y="433"/>
                </a:lnTo>
                <a:lnTo>
                  <a:pt x="112" y="433"/>
                </a:lnTo>
                <a:lnTo>
                  <a:pt x="100" y="433"/>
                </a:lnTo>
                <a:lnTo>
                  <a:pt x="89" y="430"/>
                </a:lnTo>
                <a:lnTo>
                  <a:pt x="78" y="426"/>
                </a:lnTo>
                <a:lnTo>
                  <a:pt x="68" y="423"/>
                </a:lnTo>
                <a:lnTo>
                  <a:pt x="58" y="416"/>
                </a:lnTo>
                <a:lnTo>
                  <a:pt x="50" y="409"/>
                </a:lnTo>
                <a:lnTo>
                  <a:pt x="42" y="399"/>
                </a:lnTo>
                <a:lnTo>
                  <a:pt x="34" y="389"/>
                </a:lnTo>
                <a:lnTo>
                  <a:pt x="26" y="375"/>
                </a:lnTo>
                <a:lnTo>
                  <a:pt x="20" y="359"/>
                </a:lnTo>
                <a:lnTo>
                  <a:pt x="14" y="340"/>
                </a:lnTo>
                <a:lnTo>
                  <a:pt x="8" y="319"/>
                </a:lnTo>
                <a:lnTo>
                  <a:pt x="4" y="297"/>
                </a:lnTo>
                <a:lnTo>
                  <a:pt x="2" y="273"/>
                </a:lnTo>
                <a:lnTo>
                  <a:pt x="0" y="245"/>
                </a:lnTo>
                <a:lnTo>
                  <a:pt x="0" y="217"/>
                </a:lnTo>
                <a:close/>
                <a:moveTo>
                  <a:pt x="44" y="217"/>
                </a:moveTo>
                <a:lnTo>
                  <a:pt x="44" y="242"/>
                </a:lnTo>
                <a:lnTo>
                  <a:pt x="45" y="264"/>
                </a:lnTo>
                <a:lnTo>
                  <a:pt x="46" y="285"/>
                </a:lnTo>
                <a:lnTo>
                  <a:pt x="48" y="304"/>
                </a:lnTo>
                <a:lnTo>
                  <a:pt x="51" y="320"/>
                </a:lnTo>
                <a:lnTo>
                  <a:pt x="55" y="334"/>
                </a:lnTo>
                <a:lnTo>
                  <a:pt x="59" y="346"/>
                </a:lnTo>
                <a:lnTo>
                  <a:pt x="63" y="355"/>
                </a:lnTo>
                <a:lnTo>
                  <a:pt x="68" y="364"/>
                </a:lnTo>
                <a:lnTo>
                  <a:pt x="74" y="371"/>
                </a:lnTo>
                <a:lnTo>
                  <a:pt x="79" y="376"/>
                </a:lnTo>
                <a:lnTo>
                  <a:pt x="86" y="381"/>
                </a:lnTo>
                <a:lnTo>
                  <a:pt x="92" y="385"/>
                </a:lnTo>
                <a:lnTo>
                  <a:pt x="99" y="388"/>
                </a:lnTo>
                <a:lnTo>
                  <a:pt x="105" y="390"/>
                </a:lnTo>
                <a:lnTo>
                  <a:pt x="112" y="390"/>
                </a:lnTo>
                <a:lnTo>
                  <a:pt x="119" y="390"/>
                </a:lnTo>
                <a:lnTo>
                  <a:pt x="126" y="388"/>
                </a:lnTo>
                <a:lnTo>
                  <a:pt x="133" y="385"/>
                </a:lnTo>
                <a:lnTo>
                  <a:pt x="139" y="381"/>
                </a:lnTo>
                <a:lnTo>
                  <a:pt x="145" y="376"/>
                </a:lnTo>
                <a:lnTo>
                  <a:pt x="150" y="370"/>
                </a:lnTo>
                <a:lnTo>
                  <a:pt x="157" y="364"/>
                </a:lnTo>
                <a:lnTo>
                  <a:pt x="162" y="355"/>
                </a:lnTo>
                <a:lnTo>
                  <a:pt x="166" y="345"/>
                </a:lnTo>
                <a:lnTo>
                  <a:pt x="170" y="334"/>
                </a:lnTo>
                <a:lnTo>
                  <a:pt x="174" y="320"/>
                </a:lnTo>
                <a:lnTo>
                  <a:pt x="176" y="304"/>
                </a:lnTo>
                <a:lnTo>
                  <a:pt x="179" y="285"/>
                </a:lnTo>
                <a:lnTo>
                  <a:pt x="180" y="264"/>
                </a:lnTo>
                <a:lnTo>
                  <a:pt x="181" y="242"/>
                </a:lnTo>
                <a:lnTo>
                  <a:pt x="181" y="217"/>
                </a:lnTo>
                <a:lnTo>
                  <a:pt x="181" y="192"/>
                </a:lnTo>
                <a:lnTo>
                  <a:pt x="180" y="169"/>
                </a:lnTo>
                <a:lnTo>
                  <a:pt x="179" y="148"/>
                </a:lnTo>
                <a:lnTo>
                  <a:pt x="176" y="129"/>
                </a:lnTo>
                <a:lnTo>
                  <a:pt x="174" y="113"/>
                </a:lnTo>
                <a:lnTo>
                  <a:pt x="170" y="99"/>
                </a:lnTo>
                <a:lnTo>
                  <a:pt x="166" y="87"/>
                </a:lnTo>
                <a:lnTo>
                  <a:pt x="162" y="78"/>
                </a:lnTo>
                <a:lnTo>
                  <a:pt x="157" y="69"/>
                </a:lnTo>
                <a:lnTo>
                  <a:pt x="150" y="63"/>
                </a:lnTo>
                <a:lnTo>
                  <a:pt x="145" y="57"/>
                </a:lnTo>
                <a:lnTo>
                  <a:pt x="139" y="52"/>
                </a:lnTo>
                <a:lnTo>
                  <a:pt x="133" y="48"/>
                </a:lnTo>
                <a:lnTo>
                  <a:pt x="126" y="46"/>
                </a:lnTo>
                <a:lnTo>
                  <a:pt x="119" y="43"/>
                </a:lnTo>
                <a:lnTo>
                  <a:pt x="112" y="43"/>
                </a:lnTo>
                <a:lnTo>
                  <a:pt x="105" y="43"/>
                </a:lnTo>
                <a:lnTo>
                  <a:pt x="98" y="46"/>
                </a:lnTo>
                <a:lnTo>
                  <a:pt x="92" y="47"/>
                </a:lnTo>
                <a:lnTo>
                  <a:pt x="86" y="51"/>
                </a:lnTo>
                <a:lnTo>
                  <a:pt x="80" y="56"/>
                </a:lnTo>
                <a:lnTo>
                  <a:pt x="74" y="61"/>
                </a:lnTo>
                <a:lnTo>
                  <a:pt x="70" y="67"/>
                </a:lnTo>
                <a:lnTo>
                  <a:pt x="65" y="73"/>
                </a:lnTo>
                <a:lnTo>
                  <a:pt x="60" y="84"/>
                </a:lnTo>
                <a:lnTo>
                  <a:pt x="56" y="97"/>
                </a:lnTo>
                <a:lnTo>
                  <a:pt x="52" y="112"/>
                </a:lnTo>
                <a:lnTo>
                  <a:pt x="49" y="129"/>
                </a:lnTo>
                <a:lnTo>
                  <a:pt x="47" y="148"/>
                </a:lnTo>
                <a:lnTo>
                  <a:pt x="45" y="169"/>
                </a:lnTo>
                <a:lnTo>
                  <a:pt x="44" y="192"/>
                </a:lnTo>
                <a:lnTo>
                  <a:pt x="44" y="2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16640" y="1373040"/>
            <a:ext cx="120960" cy="168480"/>
          </a:xfrm>
          <a:custGeom>
            <a:avLst/>
            <a:gdLst/>
            <a:ahLst/>
            <a:rect l="l" t="t" r="r" b="b"/>
            <a:pathLst>
              <a:path w="228" h="426">
                <a:moveTo>
                  <a:pt x="228" y="375"/>
                </a:moveTo>
                <a:lnTo>
                  <a:pt x="228" y="426"/>
                </a:lnTo>
                <a:lnTo>
                  <a:pt x="0" y="426"/>
                </a:lnTo>
                <a:lnTo>
                  <a:pt x="0" y="421"/>
                </a:lnTo>
                <a:lnTo>
                  <a:pt x="0" y="416"/>
                </a:lnTo>
                <a:lnTo>
                  <a:pt x="1" y="411"/>
                </a:lnTo>
                <a:lnTo>
                  <a:pt x="1" y="408"/>
                </a:lnTo>
                <a:lnTo>
                  <a:pt x="2" y="403"/>
                </a:lnTo>
                <a:lnTo>
                  <a:pt x="3" y="399"/>
                </a:lnTo>
                <a:lnTo>
                  <a:pt x="4" y="394"/>
                </a:lnTo>
                <a:lnTo>
                  <a:pt x="5" y="390"/>
                </a:lnTo>
                <a:lnTo>
                  <a:pt x="7" y="383"/>
                </a:lnTo>
                <a:lnTo>
                  <a:pt x="10" y="375"/>
                </a:lnTo>
                <a:lnTo>
                  <a:pt x="13" y="368"/>
                </a:lnTo>
                <a:lnTo>
                  <a:pt x="16" y="361"/>
                </a:lnTo>
                <a:lnTo>
                  <a:pt x="20" y="354"/>
                </a:lnTo>
                <a:lnTo>
                  <a:pt x="24" y="348"/>
                </a:lnTo>
                <a:lnTo>
                  <a:pt x="28" y="340"/>
                </a:lnTo>
                <a:lnTo>
                  <a:pt x="33" y="333"/>
                </a:lnTo>
                <a:lnTo>
                  <a:pt x="39" y="326"/>
                </a:lnTo>
                <a:lnTo>
                  <a:pt x="44" y="319"/>
                </a:lnTo>
                <a:lnTo>
                  <a:pt x="50" y="311"/>
                </a:lnTo>
                <a:lnTo>
                  <a:pt x="57" y="303"/>
                </a:lnTo>
                <a:lnTo>
                  <a:pt x="64" y="295"/>
                </a:lnTo>
                <a:lnTo>
                  <a:pt x="71" y="287"/>
                </a:lnTo>
                <a:lnTo>
                  <a:pt x="79" y="278"/>
                </a:lnTo>
                <a:lnTo>
                  <a:pt x="88" y="269"/>
                </a:lnTo>
                <a:lnTo>
                  <a:pt x="101" y="255"/>
                </a:lnTo>
                <a:lnTo>
                  <a:pt x="115" y="242"/>
                </a:lnTo>
                <a:lnTo>
                  <a:pt x="126" y="230"/>
                </a:lnTo>
                <a:lnTo>
                  <a:pt x="136" y="218"/>
                </a:lnTo>
                <a:lnTo>
                  <a:pt x="144" y="208"/>
                </a:lnTo>
                <a:lnTo>
                  <a:pt x="152" y="197"/>
                </a:lnTo>
                <a:lnTo>
                  <a:pt x="159" y="188"/>
                </a:lnTo>
                <a:lnTo>
                  <a:pt x="164" y="179"/>
                </a:lnTo>
                <a:lnTo>
                  <a:pt x="169" y="170"/>
                </a:lnTo>
                <a:lnTo>
                  <a:pt x="173" y="163"/>
                </a:lnTo>
                <a:lnTo>
                  <a:pt x="176" y="156"/>
                </a:lnTo>
                <a:lnTo>
                  <a:pt x="179" y="147"/>
                </a:lnTo>
                <a:lnTo>
                  <a:pt x="181" y="139"/>
                </a:lnTo>
                <a:lnTo>
                  <a:pt x="182" y="132"/>
                </a:lnTo>
                <a:lnTo>
                  <a:pt x="184" y="124"/>
                </a:lnTo>
                <a:lnTo>
                  <a:pt x="184" y="117"/>
                </a:lnTo>
                <a:lnTo>
                  <a:pt x="184" y="109"/>
                </a:lnTo>
                <a:lnTo>
                  <a:pt x="182" y="102"/>
                </a:lnTo>
                <a:lnTo>
                  <a:pt x="181" y="94"/>
                </a:lnTo>
                <a:lnTo>
                  <a:pt x="179" y="88"/>
                </a:lnTo>
                <a:lnTo>
                  <a:pt x="177" y="82"/>
                </a:lnTo>
                <a:lnTo>
                  <a:pt x="174" y="76"/>
                </a:lnTo>
                <a:lnTo>
                  <a:pt x="170" y="69"/>
                </a:lnTo>
                <a:lnTo>
                  <a:pt x="166" y="64"/>
                </a:lnTo>
                <a:lnTo>
                  <a:pt x="161" y="59"/>
                </a:lnTo>
                <a:lnTo>
                  <a:pt x="156" y="56"/>
                </a:lnTo>
                <a:lnTo>
                  <a:pt x="151" y="52"/>
                </a:lnTo>
                <a:lnTo>
                  <a:pt x="145" y="48"/>
                </a:lnTo>
                <a:lnTo>
                  <a:pt x="139" y="46"/>
                </a:lnTo>
                <a:lnTo>
                  <a:pt x="133" y="44"/>
                </a:lnTo>
                <a:lnTo>
                  <a:pt x="126" y="43"/>
                </a:lnTo>
                <a:lnTo>
                  <a:pt x="119" y="43"/>
                </a:lnTo>
                <a:lnTo>
                  <a:pt x="112" y="43"/>
                </a:lnTo>
                <a:lnTo>
                  <a:pt x="104" y="44"/>
                </a:lnTo>
                <a:lnTo>
                  <a:pt x="98" y="47"/>
                </a:lnTo>
                <a:lnTo>
                  <a:pt x="91" y="49"/>
                </a:lnTo>
                <a:lnTo>
                  <a:pt x="86" y="52"/>
                </a:lnTo>
                <a:lnTo>
                  <a:pt x="80" y="56"/>
                </a:lnTo>
                <a:lnTo>
                  <a:pt x="75" y="61"/>
                </a:lnTo>
                <a:lnTo>
                  <a:pt x="70" y="66"/>
                </a:lnTo>
                <a:lnTo>
                  <a:pt x="66" y="72"/>
                </a:lnTo>
                <a:lnTo>
                  <a:pt x="62" y="78"/>
                </a:lnTo>
                <a:lnTo>
                  <a:pt x="59" y="86"/>
                </a:lnTo>
                <a:lnTo>
                  <a:pt x="57" y="93"/>
                </a:lnTo>
                <a:lnTo>
                  <a:pt x="55" y="101"/>
                </a:lnTo>
                <a:lnTo>
                  <a:pt x="53" y="109"/>
                </a:lnTo>
                <a:lnTo>
                  <a:pt x="52" y="118"/>
                </a:lnTo>
                <a:lnTo>
                  <a:pt x="52" y="128"/>
                </a:lnTo>
                <a:lnTo>
                  <a:pt x="8" y="123"/>
                </a:lnTo>
                <a:lnTo>
                  <a:pt x="10" y="108"/>
                </a:lnTo>
                <a:lnTo>
                  <a:pt x="12" y="94"/>
                </a:lnTo>
                <a:lnTo>
                  <a:pt x="15" y="82"/>
                </a:lnTo>
                <a:lnTo>
                  <a:pt x="19" y="69"/>
                </a:lnTo>
                <a:lnTo>
                  <a:pt x="23" y="59"/>
                </a:lnTo>
                <a:lnTo>
                  <a:pt x="28" y="49"/>
                </a:lnTo>
                <a:lnTo>
                  <a:pt x="34" y="39"/>
                </a:lnTo>
                <a:lnTo>
                  <a:pt x="42" y="32"/>
                </a:lnTo>
                <a:lnTo>
                  <a:pt x="50" y="24"/>
                </a:lnTo>
                <a:lnTo>
                  <a:pt x="58" y="18"/>
                </a:lnTo>
                <a:lnTo>
                  <a:pt x="67" y="12"/>
                </a:lnTo>
                <a:lnTo>
                  <a:pt x="76" y="8"/>
                </a:lnTo>
                <a:lnTo>
                  <a:pt x="86" y="5"/>
                </a:lnTo>
                <a:lnTo>
                  <a:pt x="96" y="2"/>
                </a:lnTo>
                <a:lnTo>
                  <a:pt x="108" y="1"/>
                </a:lnTo>
                <a:lnTo>
                  <a:pt x="120" y="0"/>
                </a:lnTo>
                <a:lnTo>
                  <a:pt x="132" y="1"/>
                </a:lnTo>
                <a:lnTo>
                  <a:pt x="144" y="2"/>
                </a:lnTo>
                <a:lnTo>
                  <a:pt x="154" y="5"/>
                </a:lnTo>
                <a:lnTo>
                  <a:pt x="164" y="8"/>
                </a:lnTo>
                <a:lnTo>
                  <a:pt x="174" y="13"/>
                </a:lnTo>
                <a:lnTo>
                  <a:pt x="182" y="19"/>
                </a:lnTo>
                <a:lnTo>
                  <a:pt x="191" y="26"/>
                </a:lnTo>
                <a:lnTo>
                  <a:pt x="199" y="34"/>
                </a:lnTo>
                <a:lnTo>
                  <a:pt x="205" y="43"/>
                </a:lnTo>
                <a:lnTo>
                  <a:pt x="211" y="52"/>
                </a:lnTo>
                <a:lnTo>
                  <a:pt x="216" y="62"/>
                </a:lnTo>
                <a:lnTo>
                  <a:pt x="220" y="72"/>
                </a:lnTo>
                <a:lnTo>
                  <a:pt x="223" y="83"/>
                </a:lnTo>
                <a:lnTo>
                  <a:pt x="226" y="94"/>
                </a:lnTo>
                <a:lnTo>
                  <a:pt x="227" y="106"/>
                </a:lnTo>
                <a:lnTo>
                  <a:pt x="227" y="118"/>
                </a:lnTo>
                <a:lnTo>
                  <a:pt x="227" y="124"/>
                </a:lnTo>
                <a:lnTo>
                  <a:pt x="227" y="131"/>
                </a:lnTo>
                <a:lnTo>
                  <a:pt x="226" y="137"/>
                </a:lnTo>
                <a:lnTo>
                  <a:pt x="225" y="143"/>
                </a:lnTo>
                <a:lnTo>
                  <a:pt x="224" y="149"/>
                </a:lnTo>
                <a:lnTo>
                  <a:pt x="223" y="156"/>
                </a:lnTo>
                <a:lnTo>
                  <a:pt x="221" y="162"/>
                </a:lnTo>
                <a:lnTo>
                  <a:pt x="219" y="168"/>
                </a:lnTo>
                <a:lnTo>
                  <a:pt x="217" y="174"/>
                </a:lnTo>
                <a:lnTo>
                  <a:pt x="214" y="180"/>
                </a:lnTo>
                <a:lnTo>
                  <a:pt x="211" y="187"/>
                </a:lnTo>
                <a:lnTo>
                  <a:pt x="208" y="193"/>
                </a:lnTo>
                <a:lnTo>
                  <a:pt x="204" y="199"/>
                </a:lnTo>
                <a:lnTo>
                  <a:pt x="200" y="207"/>
                </a:lnTo>
                <a:lnTo>
                  <a:pt x="196" y="213"/>
                </a:lnTo>
                <a:lnTo>
                  <a:pt x="191" y="219"/>
                </a:lnTo>
                <a:lnTo>
                  <a:pt x="186" y="227"/>
                </a:lnTo>
                <a:lnTo>
                  <a:pt x="179" y="234"/>
                </a:lnTo>
                <a:lnTo>
                  <a:pt x="172" y="243"/>
                </a:lnTo>
                <a:lnTo>
                  <a:pt x="165" y="252"/>
                </a:lnTo>
                <a:lnTo>
                  <a:pt x="156" y="262"/>
                </a:lnTo>
                <a:lnTo>
                  <a:pt x="147" y="272"/>
                </a:lnTo>
                <a:lnTo>
                  <a:pt x="137" y="283"/>
                </a:lnTo>
                <a:lnTo>
                  <a:pt x="126" y="294"/>
                </a:lnTo>
                <a:lnTo>
                  <a:pt x="117" y="304"/>
                </a:lnTo>
                <a:lnTo>
                  <a:pt x="108" y="313"/>
                </a:lnTo>
                <a:lnTo>
                  <a:pt x="101" y="320"/>
                </a:lnTo>
                <a:lnTo>
                  <a:pt x="94" y="328"/>
                </a:lnTo>
                <a:lnTo>
                  <a:pt x="89" y="334"/>
                </a:lnTo>
                <a:lnTo>
                  <a:pt x="84" y="339"/>
                </a:lnTo>
                <a:lnTo>
                  <a:pt x="80" y="344"/>
                </a:lnTo>
                <a:lnTo>
                  <a:pt x="77" y="348"/>
                </a:lnTo>
                <a:lnTo>
                  <a:pt x="74" y="351"/>
                </a:lnTo>
                <a:lnTo>
                  <a:pt x="72" y="355"/>
                </a:lnTo>
                <a:lnTo>
                  <a:pt x="69" y="358"/>
                </a:lnTo>
                <a:lnTo>
                  <a:pt x="67" y="361"/>
                </a:lnTo>
                <a:lnTo>
                  <a:pt x="65" y="365"/>
                </a:lnTo>
                <a:lnTo>
                  <a:pt x="63" y="369"/>
                </a:lnTo>
                <a:lnTo>
                  <a:pt x="61" y="373"/>
                </a:lnTo>
                <a:lnTo>
                  <a:pt x="59" y="375"/>
                </a:lnTo>
                <a:lnTo>
                  <a:pt x="228" y="37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59560" y="1373040"/>
            <a:ext cx="120600" cy="171720"/>
          </a:xfrm>
          <a:custGeom>
            <a:avLst/>
            <a:gdLst/>
            <a:ahLst/>
            <a:rect l="l" t="t" r="r" b="b"/>
            <a:pathLst>
              <a:path w="227" h="433">
                <a:moveTo>
                  <a:pt x="221" y="106"/>
                </a:moveTo>
                <a:lnTo>
                  <a:pt x="178" y="109"/>
                </a:lnTo>
                <a:lnTo>
                  <a:pt x="177" y="102"/>
                </a:lnTo>
                <a:lnTo>
                  <a:pt x="175" y="96"/>
                </a:lnTo>
                <a:lnTo>
                  <a:pt x="174" y="89"/>
                </a:lnTo>
                <a:lnTo>
                  <a:pt x="172" y="83"/>
                </a:lnTo>
                <a:lnTo>
                  <a:pt x="170" y="78"/>
                </a:lnTo>
                <a:lnTo>
                  <a:pt x="167" y="73"/>
                </a:lnTo>
                <a:lnTo>
                  <a:pt x="165" y="69"/>
                </a:lnTo>
                <a:lnTo>
                  <a:pt x="163" y="66"/>
                </a:lnTo>
                <a:lnTo>
                  <a:pt x="158" y="59"/>
                </a:lnTo>
                <a:lnTo>
                  <a:pt x="154" y="56"/>
                </a:lnTo>
                <a:lnTo>
                  <a:pt x="149" y="52"/>
                </a:lnTo>
                <a:lnTo>
                  <a:pt x="144" y="48"/>
                </a:lnTo>
                <a:lnTo>
                  <a:pt x="138" y="46"/>
                </a:lnTo>
                <a:lnTo>
                  <a:pt x="133" y="44"/>
                </a:lnTo>
                <a:lnTo>
                  <a:pt x="126" y="43"/>
                </a:lnTo>
                <a:lnTo>
                  <a:pt x="120" y="43"/>
                </a:lnTo>
                <a:lnTo>
                  <a:pt x="115" y="43"/>
                </a:lnTo>
                <a:lnTo>
                  <a:pt x="110" y="43"/>
                </a:lnTo>
                <a:lnTo>
                  <a:pt x="106" y="44"/>
                </a:lnTo>
                <a:lnTo>
                  <a:pt x="101" y="47"/>
                </a:lnTo>
                <a:lnTo>
                  <a:pt x="97" y="48"/>
                </a:lnTo>
                <a:lnTo>
                  <a:pt x="93" y="51"/>
                </a:lnTo>
                <a:lnTo>
                  <a:pt x="89" y="53"/>
                </a:lnTo>
                <a:lnTo>
                  <a:pt x="85" y="57"/>
                </a:lnTo>
                <a:lnTo>
                  <a:pt x="80" y="62"/>
                </a:lnTo>
                <a:lnTo>
                  <a:pt x="76" y="67"/>
                </a:lnTo>
                <a:lnTo>
                  <a:pt x="71" y="73"/>
                </a:lnTo>
                <a:lnTo>
                  <a:pt x="67" y="79"/>
                </a:lnTo>
                <a:lnTo>
                  <a:pt x="64" y="86"/>
                </a:lnTo>
                <a:lnTo>
                  <a:pt x="60" y="93"/>
                </a:lnTo>
                <a:lnTo>
                  <a:pt x="57" y="101"/>
                </a:lnTo>
                <a:lnTo>
                  <a:pt x="53" y="109"/>
                </a:lnTo>
                <a:lnTo>
                  <a:pt x="50" y="118"/>
                </a:lnTo>
                <a:lnTo>
                  <a:pt x="48" y="128"/>
                </a:lnTo>
                <a:lnTo>
                  <a:pt x="46" y="139"/>
                </a:lnTo>
                <a:lnTo>
                  <a:pt x="44" y="151"/>
                </a:lnTo>
                <a:lnTo>
                  <a:pt x="43" y="163"/>
                </a:lnTo>
                <a:lnTo>
                  <a:pt x="42" y="177"/>
                </a:lnTo>
                <a:lnTo>
                  <a:pt x="41" y="192"/>
                </a:lnTo>
                <a:lnTo>
                  <a:pt x="41" y="207"/>
                </a:lnTo>
                <a:lnTo>
                  <a:pt x="45" y="200"/>
                </a:lnTo>
                <a:lnTo>
                  <a:pt x="49" y="194"/>
                </a:lnTo>
                <a:lnTo>
                  <a:pt x="53" y="188"/>
                </a:lnTo>
                <a:lnTo>
                  <a:pt x="59" y="182"/>
                </a:lnTo>
                <a:lnTo>
                  <a:pt x="64" y="177"/>
                </a:lnTo>
                <a:lnTo>
                  <a:pt x="68" y="173"/>
                </a:lnTo>
                <a:lnTo>
                  <a:pt x="74" y="168"/>
                </a:lnTo>
                <a:lnTo>
                  <a:pt x="79" y="164"/>
                </a:lnTo>
                <a:lnTo>
                  <a:pt x="84" y="162"/>
                </a:lnTo>
                <a:lnTo>
                  <a:pt x="90" y="158"/>
                </a:lnTo>
                <a:lnTo>
                  <a:pt x="96" y="157"/>
                </a:lnTo>
                <a:lnTo>
                  <a:pt x="101" y="154"/>
                </a:lnTo>
                <a:lnTo>
                  <a:pt x="107" y="153"/>
                </a:lnTo>
                <a:lnTo>
                  <a:pt x="113" y="152"/>
                </a:lnTo>
                <a:lnTo>
                  <a:pt x="119" y="151"/>
                </a:lnTo>
                <a:lnTo>
                  <a:pt x="125" y="151"/>
                </a:lnTo>
                <a:lnTo>
                  <a:pt x="136" y="152"/>
                </a:lnTo>
                <a:lnTo>
                  <a:pt x="146" y="153"/>
                </a:lnTo>
                <a:lnTo>
                  <a:pt x="155" y="157"/>
                </a:lnTo>
                <a:lnTo>
                  <a:pt x="164" y="160"/>
                </a:lnTo>
                <a:lnTo>
                  <a:pt x="173" y="165"/>
                </a:lnTo>
                <a:lnTo>
                  <a:pt x="181" y="172"/>
                </a:lnTo>
                <a:lnTo>
                  <a:pt x="189" y="180"/>
                </a:lnTo>
                <a:lnTo>
                  <a:pt x="197" y="189"/>
                </a:lnTo>
                <a:lnTo>
                  <a:pt x="204" y="199"/>
                </a:lnTo>
                <a:lnTo>
                  <a:pt x="210" y="209"/>
                </a:lnTo>
                <a:lnTo>
                  <a:pt x="215" y="220"/>
                </a:lnTo>
                <a:lnTo>
                  <a:pt x="220" y="233"/>
                </a:lnTo>
                <a:lnTo>
                  <a:pt x="223" y="245"/>
                </a:lnTo>
                <a:lnTo>
                  <a:pt x="225" y="259"/>
                </a:lnTo>
                <a:lnTo>
                  <a:pt x="226" y="273"/>
                </a:lnTo>
                <a:lnTo>
                  <a:pt x="227" y="288"/>
                </a:lnTo>
                <a:lnTo>
                  <a:pt x="227" y="298"/>
                </a:lnTo>
                <a:lnTo>
                  <a:pt x="226" y="308"/>
                </a:lnTo>
                <a:lnTo>
                  <a:pt x="225" y="318"/>
                </a:lnTo>
                <a:lnTo>
                  <a:pt x="223" y="326"/>
                </a:lnTo>
                <a:lnTo>
                  <a:pt x="222" y="335"/>
                </a:lnTo>
                <a:lnTo>
                  <a:pt x="219" y="345"/>
                </a:lnTo>
                <a:lnTo>
                  <a:pt x="216" y="354"/>
                </a:lnTo>
                <a:lnTo>
                  <a:pt x="213" y="363"/>
                </a:lnTo>
                <a:lnTo>
                  <a:pt x="209" y="370"/>
                </a:lnTo>
                <a:lnTo>
                  <a:pt x="206" y="379"/>
                </a:lnTo>
                <a:lnTo>
                  <a:pt x="200" y="386"/>
                </a:lnTo>
                <a:lnTo>
                  <a:pt x="196" y="393"/>
                </a:lnTo>
                <a:lnTo>
                  <a:pt x="191" y="399"/>
                </a:lnTo>
                <a:lnTo>
                  <a:pt x="186" y="405"/>
                </a:lnTo>
                <a:lnTo>
                  <a:pt x="180" y="410"/>
                </a:lnTo>
                <a:lnTo>
                  <a:pt x="174" y="415"/>
                </a:lnTo>
                <a:lnTo>
                  <a:pt x="168" y="419"/>
                </a:lnTo>
                <a:lnTo>
                  <a:pt x="162" y="423"/>
                </a:lnTo>
                <a:lnTo>
                  <a:pt x="155" y="426"/>
                </a:lnTo>
                <a:lnTo>
                  <a:pt x="149" y="429"/>
                </a:lnTo>
                <a:lnTo>
                  <a:pt x="142" y="430"/>
                </a:lnTo>
                <a:lnTo>
                  <a:pt x="134" y="431"/>
                </a:lnTo>
                <a:lnTo>
                  <a:pt x="126" y="433"/>
                </a:lnTo>
                <a:lnTo>
                  <a:pt x="119" y="433"/>
                </a:lnTo>
                <a:lnTo>
                  <a:pt x="106" y="433"/>
                </a:lnTo>
                <a:lnTo>
                  <a:pt x="94" y="430"/>
                </a:lnTo>
                <a:lnTo>
                  <a:pt x="82" y="426"/>
                </a:lnTo>
                <a:lnTo>
                  <a:pt x="71" y="421"/>
                </a:lnTo>
                <a:lnTo>
                  <a:pt x="61" y="414"/>
                </a:lnTo>
                <a:lnTo>
                  <a:pt x="50" y="406"/>
                </a:lnTo>
                <a:lnTo>
                  <a:pt x="41" y="396"/>
                </a:lnTo>
                <a:lnTo>
                  <a:pt x="33" y="385"/>
                </a:lnTo>
                <a:lnTo>
                  <a:pt x="25" y="373"/>
                </a:lnTo>
                <a:lnTo>
                  <a:pt x="18" y="358"/>
                </a:lnTo>
                <a:lnTo>
                  <a:pt x="12" y="340"/>
                </a:lnTo>
                <a:lnTo>
                  <a:pt x="8" y="321"/>
                </a:lnTo>
                <a:lnTo>
                  <a:pt x="4" y="302"/>
                </a:lnTo>
                <a:lnTo>
                  <a:pt x="2" y="279"/>
                </a:lnTo>
                <a:lnTo>
                  <a:pt x="0" y="254"/>
                </a:lnTo>
                <a:lnTo>
                  <a:pt x="0" y="228"/>
                </a:lnTo>
                <a:lnTo>
                  <a:pt x="0" y="198"/>
                </a:lnTo>
                <a:lnTo>
                  <a:pt x="2" y="170"/>
                </a:lnTo>
                <a:lnTo>
                  <a:pt x="5" y="144"/>
                </a:lnTo>
                <a:lnTo>
                  <a:pt x="9" y="122"/>
                </a:lnTo>
                <a:lnTo>
                  <a:pt x="14" y="101"/>
                </a:lnTo>
                <a:lnTo>
                  <a:pt x="20" y="81"/>
                </a:lnTo>
                <a:lnTo>
                  <a:pt x="27" y="63"/>
                </a:lnTo>
                <a:lnTo>
                  <a:pt x="36" y="48"/>
                </a:lnTo>
                <a:lnTo>
                  <a:pt x="44" y="37"/>
                </a:lnTo>
                <a:lnTo>
                  <a:pt x="53" y="27"/>
                </a:lnTo>
                <a:lnTo>
                  <a:pt x="64" y="19"/>
                </a:lnTo>
                <a:lnTo>
                  <a:pt x="74" y="12"/>
                </a:lnTo>
                <a:lnTo>
                  <a:pt x="85" y="7"/>
                </a:lnTo>
                <a:lnTo>
                  <a:pt x="97" y="3"/>
                </a:lnTo>
                <a:lnTo>
                  <a:pt x="109" y="1"/>
                </a:lnTo>
                <a:lnTo>
                  <a:pt x="123" y="0"/>
                </a:lnTo>
                <a:lnTo>
                  <a:pt x="133" y="1"/>
                </a:lnTo>
                <a:lnTo>
                  <a:pt x="143" y="2"/>
                </a:lnTo>
                <a:lnTo>
                  <a:pt x="151" y="5"/>
                </a:lnTo>
                <a:lnTo>
                  <a:pt x="160" y="7"/>
                </a:lnTo>
                <a:lnTo>
                  <a:pt x="168" y="11"/>
                </a:lnTo>
                <a:lnTo>
                  <a:pt x="175" y="16"/>
                </a:lnTo>
                <a:lnTo>
                  <a:pt x="183" y="22"/>
                </a:lnTo>
                <a:lnTo>
                  <a:pt x="189" y="28"/>
                </a:lnTo>
                <a:lnTo>
                  <a:pt x="195" y="36"/>
                </a:lnTo>
                <a:lnTo>
                  <a:pt x="202" y="43"/>
                </a:lnTo>
                <a:lnTo>
                  <a:pt x="206" y="52"/>
                </a:lnTo>
                <a:lnTo>
                  <a:pt x="211" y="62"/>
                </a:lnTo>
                <a:lnTo>
                  <a:pt x="214" y="72"/>
                </a:lnTo>
                <a:lnTo>
                  <a:pt x="217" y="82"/>
                </a:lnTo>
                <a:lnTo>
                  <a:pt x="219" y="93"/>
                </a:lnTo>
                <a:lnTo>
                  <a:pt x="221" y="106"/>
                </a:lnTo>
                <a:close/>
                <a:moveTo>
                  <a:pt x="48" y="288"/>
                </a:moveTo>
                <a:lnTo>
                  <a:pt x="48" y="295"/>
                </a:lnTo>
                <a:lnTo>
                  <a:pt x="48" y="302"/>
                </a:lnTo>
                <a:lnTo>
                  <a:pt x="49" y="308"/>
                </a:lnTo>
                <a:lnTo>
                  <a:pt x="50" y="315"/>
                </a:lnTo>
                <a:lnTo>
                  <a:pt x="51" y="321"/>
                </a:lnTo>
                <a:lnTo>
                  <a:pt x="53" y="328"/>
                </a:lnTo>
                <a:lnTo>
                  <a:pt x="55" y="334"/>
                </a:lnTo>
                <a:lnTo>
                  <a:pt x="58" y="340"/>
                </a:lnTo>
                <a:lnTo>
                  <a:pt x="60" y="346"/>
                </a:lnTo>
                <a:lnTo>
                  <a:pt x="63" y="351"/>
                </a:lnTo>
                <a:lnTo>
                  <a:pt x="66" y="356"/>
                </a:lnTo>
                <a:lnTo>
                  <a:pt x="69" y="361"/>
                </a:lnTo>
                <a:lnTo>
                  <a:pt x="72" y="366"/>
                </a:lnTo>
                <a:lnTo>
                  <a:pt x="76" y="370"/>
                </a:lnTo>
                <a:lnTo>
                  <a:pt x="79" y="374"/>
                </a:lnTo>
                <a:lnTo>
                  <a:pt x="83" y="378"/>
                </a:lnTo>
                <a:lnTo>
                  <a:pt x="87" y="380"/>
                </a:lnTo>
                <a:lnTo>
                  <a:pt x="92" y="383"/>
                </a:lnTo>
                <a:lnTo>
                  <a:pt x="96" y="385"/>
                </a:lnTo>
                <a:lnTo>
                  <a:pt x="100" y="388"/>
                </a:lnTo>
                <a:lnTo>
                  <a:pt x="105" y="389"/>
                </a:lnTo>
                <a:lnTo>
                  <a:pt x="109" y="389"/>
                </a:lnTo>
                <a:lnTo>
                  <a:pt x="113" y="390"/>
                </a:lnTo>
                <a:lnTo>
                  <a:pt x="118" y="390"/>
                </a:lnTo>
                <a:lnTo>
                  <a:pt x="124" y="390"/>
                </a:lnTo>
                <a:lnTo>
                  <a:pt x="132" y="389"/>
                </a:lnTo>
                <a:lnTo>
                  <a:pt x="138" y="386"/>
                </a:lnTo>
                <a:lnTo>
                  <a:pt x="143" y="384"/>
                </a:lnTo>
                <a:lnTo>
                  <a:pt x="149" y="380"/>
                </a:lnTo>
                <a:lnTo>
                  <a:pt x="154" y="375"/>
                </a:lnTo>
                <a:lnTo>
                  <a:pt x="159" y="370"/>
                </a:lnTo>
                <a:lnTo>
                  <a:pt x="164" y="364"/>
                </a:lnTo>
                <a:lnTo>
                  <a:pt x="169" y="356"/>
                </a:lnTo>
                <a:lnTo>
                  <a:pt x="173" y="349"/>
                </a:lnTo>
                <a:lnTo>
                  <a:pt x="176" y="341"/>
                </a:lnTo>
                <a:lnTo>
                  <a:pt x="178" y="333"/>
                </a:lnTo>
                <a:lnTo>
                  <a:pt x="181" y="323"/>
                </a:lnTo>
                <a:lnTo>
                  <a:pt x="182" y="313"/>
                </a:lnTo>
                <a:lnTo>
                  <a:pt x="183" y="303"/>
                </a:lnTo>
                <a:lnTo>
                  <a:pt x="183" y="292"/>
                </a:lnTo>
                <a:lnTo>
                  <a:pt x="183" y="280"/>
                </a:lnTo>
                <a:lnTo>
                  <a:pt x="182" y="270"/>
                </a:lnTo>
                <a:lnTo>
                  <a:pt x="181" y="262"/>
                </a:lnTo>
                <a:lnTo>
                  <a:pt x="179" y="252"/>
                </a:lnTo>
                <a:lnTo>
                  <a:pt x="176" y="244"/>
                </a:lnTo>
                <a:lnTo>
                  <a:pt x="173" y="235"/>
                </a:lnTo>
                <a:lnTo>
                  <a:pt x="169" y="229"/>
                </a:lnTo>
                <a:lnTo>
                  <a:pt x="164" y="222"/>
                </a:lnTo>
                <a:lnTo>
                  <a:pt x="160" y="217"/>
                </a:lnTo>
                <a:lnTo>
                  <a:pt x="155" y="210"/>
                </a:lnTo>
                <a:lnTo>
                  <a:pt x="149" y="207"/>
                </a:lnTo>
                <a:lnTo>
                  <a:pt x="143" y="203"/>
                </a:lnTo>
                <a:lnTo>
                  <a:pt x="137" y="200"/>
                </a:lnTo>
                <a:lnTo>
                  <a:pt x="131" y="198"/>
                </a:lnTo>
                <a:lnTo>
                  <a:pt x="123" y="197"/>
                </a:lnTo>
                <a:lnTo>
                  <a:pt x="116" y="197"/>
                </a:lnTo>
                <a:lnTo>
                  <a:pt x="109" y="197"/>
                </a:lnTo>
                <a:lnTo>
                  <a:pt x="103" y="198"/>
                </a:lnTo>
                <a:lnTo>
                  <a:pt x="96" y="200"/>
                </a:lnTo>
                <a:lnTo>
                  <a:pt x="90" y="203"/>
                </a:lnTo>
                <a:lnTo>
                  <a:pt x="84" y="207"/>
                </a:lnTo>
                <a:lnTo>
                  <a:pt x="79" y="210"/>
                </a:lnTo>
                <a:lnTo>
                  <a:pt x="73" y="217"/>
                </a:lnTo>
                <a:lnTo>
                  <a:pt x="68" y="222"/>
                </a:lnTo>
                <a:lnTo>
                  <a:pt x="64" y="229"/>
                </a:lnTo>
                <a:lnTo>
                  <a:pt x="60" y="235"/>
                </a:lnTo>
                <a:lnTo>
                  <a:pt x="55" y="243"/>
                </a:lnTo>
                <a:lnTo>
                  <a:pt x="52" y="252"/>
                </a:lnTo>
                <a:lnTo>
                  <a:pt x="50" y="260"/>
                </a:lnTo>
                <a:lnTo>
                  <a:pt x="49" y="269"/>
                </a:lnTo>
                <a:lnTo>
                  <a:pt x="48" y="278"/>
                </a:lnTo>
                <a:lnTo>
                  <a:pt x="48" y="2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74120" y="1370160"/>
            <a:ext cx="177480" cy="183960"/>
          </a:xfrm>
          <a:custGeom>
            <a:avLst/>
            <a:gdLst/>
            <a:ahLst/>
            <a:rect l="l" t="t" r="r" b="b"/>
            <a:pathLst>
              <a:path w="336" h="464">
                <a:moveTo>
                  <a:pt x="278" y="385"/>
                </a:moveTo>
                <a:lnTo>
                  <a:pt x="285" y="391"/>
                </a:lnTo>
                <a:lnTo>
                  <a:pt x="293" y="398"/>
                </a:lnTo>
                <a:lnTo>
                  <a:pt x="300" y="404"/>
                </a:lnTo>
                <a:lnTo>
                  <a:pt x="309" y="409"/>
                </a:lnTo>
                <a:lnTo>
                  <a:pt x="316" y="414"/>
                </a:lnTo>
                <a:lnTo>
                  <a:pt x="323" y="418"/>
                </a:lnTo>
                <a:lnTo>
                  <a:pt x="330" y="421"/>
                </a:lnTo>
                <a:lnTo>
                  <a:pt x="336" y="425"/>
                </a:lnTo>
                <a:lnTo>
                  <a:pt x="323" y="464"/>
                </a:lnTo>
                <a:lnTo>
                  <a:pt x="314" y="459"/>
                </a:lnTo>
                <a:lnTo>
                  <a:pt x="304" y="454"/>
                </a:lnTo>
                <a:lnTo>
                  <a:pt x="295" y="449"/>
                </a:lnTo>
                <a:lnTo>
                  <a:pt x="286" y="443"/>
                </a:lnTo>
                <a:lnTo>
                  <a:pt x="276" y="436"/>
                </a:lnTo>
                <a:lnTo>
                  <a:pt x="267" y="429"/>
                </a:lnTo>
                <a:lnTo>
                  <a:pt x="258" y="420"/>
                </a:lnTo>
                <a:lnTo>
                  <a:pt x="249" y="411"/>
                </a:lnTo>
                <a:lnTo>
                  <a:pt x="240" y="418"/>
                </a:lnTo>
                <a:lnTo>
                  <a:pt x="229" y="424"/>
                </a:lnTo>
                <a:lnTo>
                  <a:pt x="219" y="428"/>
                </a:lnTo>
                <a:lnTo>
                  <a:pt x="208" y="431"/>
                </a:lnTo>
                <a:lnTo>
                  <a:pt x="198" y="434"/>
                </a:lnTo>
                <a:lnTo>
                  <a:pt x="187" y="436"/>
                </a:lnTo>
                <a:lnTo>
                  <a:pt x="176" y="438"/>
                </a:lnTo>
                <a:lnTo>
                  <a:pt x="165" y="438"/>
                </a:lnTo>
                <a:lnTo>
                  <a:pt x="152" y="438"/>
                </a:lnTo>
                <a:lnTo>
                  <a:pt x="141" y="436"/>
                </a:lnTo>
                <a:lnTo>
                  <a:pt x="130" y="434"/>
                </a:lnTo>
                <a:lnTo>
                  <a:pt x="120" y="431"/>
                </a:lnTo>
                <a:lnTo>
                  <a:pt x="109" y="428"/>
                </a:lnTo>
                <a:lnTo>
                  <a:pt x="99" y="423"/>
                </a:lnTo>
                <a:lnTo>
                  <a:pt x="90" y="416"/>
                </a:lnTo>
                <a:lnTo>
                  <a:pt x="79" y="410"/>
                </a:lnTo>
                <a:lnTo>
                  <a:pt x="70" y="403"/>
                </a:lnTo>
                <a:lnTo>
                  <a:pt x="61" y="395"/>
                </a:lnTo>
                <a:lnTo>
                  <a:pt x="53" y="386"/>
                </a:lnTo>
                <a:lnTo>
                  <a:pt x="46" y="376"/>
                </a:lnTo>
                <a:lnTo>
                  <a:pt x="39" y="366"/>
                </a:lnTo>
                <a:lnTo>
                  <a:pt x="32" y="356"/>
                </a:lnTo>
                <a:lnTo>
                  <a:pt x="27" y="344"/>
                </a:lnTo>
                <a:lnTo>
                  <a:pt x="21" y="333"/>
                </a:lnTo>
                <a:lnTo>
                  <a:pt x="16" y="319"/>
                </a:lnTo>
                <a:lnTo>
                  <a:pt x="11" y="307"/>
                </a:lnTo>
                <a:lnTo>
                  <a:pt x="8" y="293"/>
                </a:lnTo>
                <a:lnTo>
                  <a:pt x="5" y="279"/>
                </a:lnTo>
                <a:lnTo>
                  <a:pt x="3" y="264"/>
                </a:lnTo>
                <a:lnTo>
                  <a:pt x="1" y="249"/>
                </a:lnTo>
                <a:lnTo>
                  <a:pt x="0" y="234"/>
                </a:lnTo>
                <a:lnTo>
                  <a:pt x="0" y="219"/>
                </a:lnTo>
                <a:lnTo>
                  <a:pt x="0" y="203"/>
                </a:lnTo>
                <a:lnTo>
                  <a:pt x="1" y="188"/>
                </a:lnTo>
                <a:lnTo>
                  <a:pt x="3" y="173"/>
                </a:lnTo>
                <a:lnTo>
                  <a:pt x="5" y="159"/>
                </a:lnTo>
                <a:lnTo>
                  <a:pt x="8" y="144"/>
                </a:lnTo>
                <a:lnTo>
                  <a:pt x="11" y="131"/>
                </a:lnTo>
                <a:lnTo>
                  <a:pt x="17" y="118"/>
                </a:lnTo>
                <a:lnTo>
                  <a:pt x="21" y="104"/>
                </a:lnTo>
                <a:lnTo>
                  <a:pt x="27" y="92"/>
                </a:lnTo>
                <a:lnTo>
                  <a:pt x="33" y="81"/>
                </a:lnTo>
                <a:lnTo>
                  <a:pt x="39" y="69"/>
                </a:lnTo>
                <a:lnTo>
                  <a:pt x="46" y="59"/>
                </a:lnTo>
                <a:lnTo>
                  <a:pt x="54" y="49"/>
                </a:lnTo>
                <a:lnTo>
                  <a:pt x="62" y="41"/>
                </a:lnTo>
                <a:lnTo>
                  <a:pt x="70" y="33"/>
                </a:lnTo>
                <a:lnTo>
                  <a:pt x="79" y="26"/>
                </a:lnTo>
                <a:lnTo>
                  <a:pt x="90" y="20"/>
                </a:lnTo>
                <a:lnTo>
                  <a:pt x="100" y="15"/>
                </a:lnTo>
                <a:lnTo>
                  <a:pt x="110" y="10"/>
                </a:lnTo>
                <a:lnTo>
                  <a:pt x="120" y="6"/>
                </a:lnTo>
                <a:lnTo>
                  <a:pt x="131" y="3"/>
                </a:lnTo>
                <a:lnTo>
                  <a:pt x="142" y="1"/>
                </a:lnTo>
                <a:lnTo>
                  <a:pt x="153" y="0"/>
                </a:lnTo>
                <a:lnTo>
                  <a:pt x="166" y="0"/>
                </a:lnTo>
                <a:lnTo>
                  <a:pt x="177" y="0"/>
                </a:lnTo>
                <a:lnTo>
                  <a:pt x="189" y="1"/>
                </a:lnTo>
                <a:lnTo>
                  <a:pt x="200" y="3"/>
                </a:lnTo>
                <a:lnTo>
                  <a:pt x="210" y="6"/>
                </a:lnTo>
                <a:lnTo>
                  <a:pt x="221" y="11"/>
                </a:lnTo>
                <a:lnTo>
                  <a:pt x="231" y="15"/>
                </a:lnTo>
                <a:lnTo>
                  <a:pt x="242" y="21"/>
                </a:lnTo>
                <a:lnTo>
                  <a:pt x="251" y="27"/>
                </a:lnTo>
                <a:lnTo>
                  <a:pt x="261" y="34"/>
                </a:lnTo>
                <a:lnTo>
                  <a:pt x="269" y="43"/>
                </a:lnTo>
                <a:lnTo>
                  <a:pt x="277" y="51"/>
                </a:lnTo>
                <a:lnTo>
                  <a:pt x="285" y="61"/>
                </a:lnTo>
                <a:lnTo>
                  <a:pt x="292" y="71"/>
                </a:lnTo>
                <a:lnTo>
                  <a:pt x="298" y="82"/>
                </a:lnTo>
                <a:lnTo>
                  <a:pt x="304" y="93"/>
                </a:lnTo>
                <a:lnTo>
                  <a:pt x="310" y="106"/>
                </a:lnTo>
                <a:lnTo>
                  <a:pt x="315" y="118"/>
                </a:lnTo>
                <a:lnTo>
                  <a:pt x="319" y="132"/>
                </a:lnTo>
                <a:lnTo>
                  <a:pt x="322" y="144"/>
                </a:lnTo>
                <a:lnTo>
                  <a:pt x="325" y="159"/>
                </a:lnTo>
                <a:lnTo>
                  <a:pt x="327" y="173"/>
                </a:lnTo>
                <a:lnTo>
                  <a:pt x="329" y="188"/>
                </a:lnTo>
                <a:lnTo>
                  <a:pt x="330" y="203"/>
                </a:lnTo>
                <a:lnTo>
                  <a:pt x="330" y="219"/>
                </a:lnTo>
                <a:lnTo>
                  <a:pt x="330" y="232"/>
                </a:lnTo>
                <a:lnTo>
                  <a:pt x="329" y="244"/>
                </a:lnTo>
                <a:lnTo>
                  <a:pt x="328" y="257"/>
                </a:lnTo>
                <a:lnTo>
                  <a:pt x="327" y="268"/>
                </a:lnTo>
                <a:lnTo>
                  <a:pt x="325" y="280"/>
                </a:lnTo>
                <a:lnTo>
                  <a:pt x="323" y="292"/>
                </a:lnTo>
                <a:lnTo>
                  <a:pt x="320" y="302"/>
                </a:lnTo>
                <a:lnTo>
                  <a:pt x="317" y="313"/>
                </a:lnTo>
                <a:lnTo>
                  <a:pt x="314" y="323"/>
                </a:lnTo>
                <a:lnTo>
                  <a:pt x="310" y="333"/>
                </a:lnTo>
                <a:lnTo>
                  <a:pt x="306" y="343"/>
                </a:lnTo>
                <a:lnTo>
                  <a:pt x="300" y="351"/>
                </a:lnTo>
                <a:lnTo>
                  <a:pt x="295" y="360"/>
                </a:lnTo>
                <a:lnTo>
                  <a:pt x="290" y="369"/>
                </a:lnTo>
                <a:lnTo>
                  <a:pt x="284" y="378"/>
                </a:lnTo>
                <a:lnTo>
                  <a:pt x="278" y="385"/>
                </a:lnTo>
                <a:close/>
                <a:moveTo>
                  <a:pt x="178" y="314"/>
                </a:moveTo>
                <a:lnTo>
                  <a:pt x="187" y="318"/>
                </a:lnTo>
                <a:lnTo>
                  <a:pt x="196" y="321"/>
                </a:lnTo>
                <a:lnTo>
                  <a:pt x="205" y="325"/>
                </a:lnTo>
                <a:lnTo>
                  <a:pt x="213" y="330"/>
                </a:lnTo>
                <a:lnTo>
                  <a:pt x="221" y="336"/>
                </a:lnTo>
                <a:lnTo>
                  <a:pt x="228" y="341"/>
                </a:lnTo>
                <a:lnTo>
                  <a:pt x="236" y="348"/>
                </a:lnTo>
                <a:lnTo>
                  <a:pt x="243" y="354"/>
                </a:lnTo>
                <a:lnTo>
                  <a:pt x="252" y="343"/>
                </a:lnTo>
                <a:lnTo>
                  <a:pt x="260" y="329"/>
                </a:lnTo>
                <a:lnTo>
                  <a:pt x="267" y="314"/>
                </a:lnTo>
                <a:lnTo>
                  <a:pt x="273" y="298"/>
                </a:lnTo>
                <a:lnTo>
                  <a:pt x="277" y="280"/>
                </a:lnTo>
                <a:lnTo>
                  <a:pt x="280" y="260"/>
                </a:lnTo>
                <a:lnTo>
                  <a:pt x="282" y="240"/>
                </a:lnTo>
                <a:lnTo>
                  <a:pt x="282" y="219"/>
                </a:lnTo>
                <a:lnTo>
                  <a:pt x="282" y="205"/>
                </a:lnTo>
                <a:lnTo>
                  <a:pt x="282" y="194"/>
                </a:lnTo>
                <a:lnTo>
                  <a:pt x="280" y="182"/>
                </a:lnTo>
                <a:lnTo>
                  <a:pt x="279" y="170"/>
                </a:lnTo>
                <a:lnTo>
                  <a:pt x="277" y="159"/>
                </a:lnTo>
                <a:lnTo>
                  <a:pt x="275" y="148"/>
                </a:lnTo>
                <a:lnTo>
                  <a:pt x="272" y="138"/>
                </a:lnTo>
                <a:lnTo>
                  <a:pt x="268" y="128"/>
                </a:lnTo>
                <a:lnTo>
                  <a:pt x="265" y="119"/>
                </a:lnTo>
                <a:lnTo>
                  <a:pt x="261" y="111"/>
                </a:lnTo>
                <a:lnTo>
                  <a:pt x="256" y="102"/>
                </a:lnTo>
                <a:lnTo>
                  <a:pt x="251" y="94"/>
                </a:lnTo>
                <a:lnTo>
                  <a:pt x="246" y="87"/>
                </a:lnTo>
                <a:lnTo>
                  <a:pt x="240" y="81"/>
                </a:lnTo>
                <a:lnTo>
                  <a:pt x="234" y="74"/>
                </a:lnTo>
                <a:lnTo>
                  <a:pt x="226" y="69"/>
                </a:lnTo>
                <a:lnTo>
                  <a:pt x="220" y="64"/>
                </a:lnTo>
                <a:lnTo>
                  <a:pt x="213" y="59"/>
                </a:lnTo>
                <a:lnTo>
                  <a:pt x="205" y="56"/>
                </a:lnTo>
                <a:lnTo>
                  <a:pt x="198" y="53"/>
                </a:lnTo>
                <a:lnTo>
                  <a:pt x="190" y="51"/>
                </a:lnTo>
                <a:lnTo>
                  <a:pt x="182" y="49"/>
                </a:lnTo>
                <a:lnTo>
                  <a:pt x="174" y="48"/>
                </a:lnTo>
                <a:lnTo>
                  <a:pt x="166" y="48"/>
                </a:lnTo>
                <a:lnTo>
                  <a:pt x="153" y="48"/>
                </a:lnTo>
                <a:lnTo>
                  <a:pt x="141" y="51"/>
                </a:lnTo>
                <a:lnTo>
                  <a:pt x="130" y="53"/>
                </a:lnTo>
                <a:lnTo>
                  <a:pt x="119" y="58"/>
                </a:lnTo>
                <a:lnTo>
                  <a:pt x="109" y="64"/>
                </a:lnTo>
                <a:lnTo>
                  <a:pt x="99" y="72"/>
                </a:lnTo>
                <a:lnTo>
                  <a:pt x="90" y="81"/>
                </a:lnTo>
                <a:lnTo>
                  <a:pt x="80" y="91"/>
                </a:lnTo>
                <a:lnTo>
                  <a:pt x="73" y="102"/>
                </a:lnTo>
                <a:lnTo>
                  <a:pt x="66" y="114"/>
                </a:lnTo>
                <a:lnTo>
                  <a:pt x="60" y="129"/>
                </a:lnTo>
                <a:lnTo>
                  <a:pt x="56" y="144"/>
                </a:lnTo>
                <a:lnTo>
                  <a:pt x="52" y="161"/>
                </a:lnTo>
                <a:lnTo>
                  <a:pt x="49" y="179"/>
                </a:lnTo>
                <a:lnTo>
                  <a:pt x="48" y="198"/>
                </a:lnTo>
                <a:lnTo>
                  <a:pt x="47" y="219"/>
                </a:lnTo>
                <a:lnTo>
                  <a:pt x="48" y="239"/>
                </a:lnTo>
                <a:lnTo>
                  <a:pt x="49" y="258"/>
                </a:lnTo>
                <a:lnTo>
                  <a:pt x="52" y="275"/>
                </a:lnTo>
                <a:lnTo>
                  <a:pt x="55" y="292"/>
                </a:lnTo>
                <a:lnTo>
                  <a:pt x="60" y="308"/>
                </a:lnTo>
                <a:lnTo>
                  <a:pt x="66" y="321"/>
                </a:lnTo>
                <a:lnTo>
                  <a:pt x="72" y="334"/>
                </a:lnTo>
                <a:lnTo>
                  <a:pt x="80" y="345"/>
                </a:lnTo>
                <a:lnTo>
                  <a:pt x="90" y="356"/>
                </a:lnTo>
                <a:lnTo>
                  <a:pt x="99" y="365"/>
                </a:lnTo>
                <a:lnTo>
                  <a:pt x="108" y="373"/>
                </a:lnTo>
                <a:lnTo>
                  <a:pt x="118" y="379"/>
                </a:lnTo>
                <a:lnTo>
                  <a:pt x="129" y="384"/>
                </a:lnTo>
                <a:lnTo>
                  <a:pt x="140" y="388"/>
                </a:lnTo>
                <a:lnTo>
                  <a:pt x="152" y="389"/>
                </a:lnTo>
                <a:lnTo>
                  <a:pt x="166" y="390"/>
                </a:lnTo>
                <a:lnTo>
                  <a:pt x="172" y="390"/>
                </a:lnTo>
                <a:lnTo>
                  <a:pt x="178" y="389"/>
                </a:lnTo>
                <a:lnTo>
                  <a:pt x="184" y="389"/>
                </a:lnTo>
                <a:lnTo>
                  <a:pt x="189" y="388"/>
                </a:lnTo>
                <a:lnTo>
                  <a:pt x="195" y="385"/>
                </a:lnTo>
                <a:lnTo>
                  <a:pt x="200" y="384"/>
                </a:lnTo>
                <a:lnTo>
                  <a:pt x="206" y="381"/>
                </a:lnTo>
                <a:lnTo>
                  <a:pt x="211" y="379"/>
                </a:lnTo>
                <a:lnTo>
                  <a:pt x="206" y="375"/>
                </a:lnTo>
                <a:lnTo>
                  <a:pt x="201" y="371"/>
                </a:lnTo>
                <a:lnTo>
                  <a:pt x="195" y="368"/>
                </a:lnTo>
                <a:lnTo>
                  <a:pt x="190" y="364"/>
                </a:lnTo>
                <a:lnTo>
                  <a:pt x="184" y="361"/>
                </a:lnTo>
                <a:lnTo>
                  <a:pt x="178" y="359"/>
                </a:lnTo>
                <a:lnTo>
                  <a:pt x="173" y="356"/>
                </a:lnTo>
                <a:lnTo>
                  <a:pt x="167" y="354"/>
                </a:lnTo>
                <a:lnTo>
                  <a:pt x="178" y="3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80400" y="1373040"/>
            <a:ext cx="142920" cy="171720"/>
          </a:xfrm>
          <a:custGeom>
            <a:avLst/>
            <a:gdLst/>
            <a:ahLst/>
            <a:rect l="l" t="t" r="r" b="b"/>
            <a:pathLst>
              <a:path w="270" h="431">
                <a:moveTo>
                  <a:pt x="225" y="0"/>
                </a:moveTo>
                <a:lnTo>
                  <a:pt x="270" y="0"/>
                </a:lnTo>
                <a:lnTo>
                  <a:pt x="270" y="245"/>
                </a:lnTo>
                <a:lnTo>
                  <a:pt x="270" y="261"/>
                </a:lnTo>
                <a:lnTo>
                  <a:pt x="270" y="275"/>
                </a:lnTo>
                <a:lnTo>
                  <a:pt x="269" y="290"/>
                </a:lnTo>
                <a:lnTo>
                  <a:pt x="267" y="302"/>
                </a:lnTo>
                <a:lnTo>
                  <a:pt x="266" y="314"/>
                </a:lnTo>
                <a:lnTo>
                  <a:pt x="264" y="326"/>
                </a:lnTo>
                <a:lnTo>
                  <a:pt x="261" y="337"/>
                </a:lnTo>
                <a:lnTo>
                  <a:pt x="259" y="346"/>
                </a:lnTo>
                <a:lnTo>
                  <a:pt x="255" y="356"/>
                </a:lnTo>
                <a:lnTo>
                  <a:pt x="252" y="364"/>
                </a:lnTo>
                <a:lnTo>
                  <a:pt x="247" y="372"/>
                </a:lnTo>
                <a:lnTo>
                  <a:pt x="242" y="381"/>
                </a:lnTo>
                <a:lnTo>
                  <a:pt x="237" y="388"/>
                </a:lnTo>
                <a:lnTo>
                  <a:pt x="231" y="394"/>
                </a:lnTo>
                <a:lnTo>
                  <a:pt x="224" y="402"/>
                </a:lnTo>
                <a:lnTo>
                  <a:pt x="217" y="407"/>
                </a:lnTo>
                <a:lnTo>
                  <a:pt x="209" y="413"/>
                </a:lnTo>
                <a:lnTo>
                  <a:pt x="200" y="418"/>
                </a:lnTo>
                <a:lnTo>
                  <a:pt x="191" y="422"/>
                </a:lnTo>
                <a:lnTo>
                  <a:pt x="181" y="426"/>
                </a:lnTo>
                <a:lnTo>
                  <a:pt x="171" y="428"/>
                </a:lnTo>
                <a:lnTo>
                  <a:pt x="160" y="429"/>
                </a:lnTo>
                <a:lnTo>
                  <a:pt x="148" y="431"/>
                </a:lnTo>
                <a:lnTo>
                  <a:pt x="137" y="431"/>
                </a:lnTo>
                <a:lnTo>
                  <a:pt x="124" y="431"/>
                </a:lnTo>
                <a:lnTo>
                  <a:pt x="113" y="429"/>
                </a:lnTo>
                <a:lnTo>
                  <a:pt x="102" y="428"/>
                </a:lnTo>
                <a:lnTo>
                  <a:pt x="92" y="426"/>
                </a:lnTo>
                <a:lnTo>
                  <a:pt x="83" y="423"/>
                </a:lnTo>
                <a:lnTo>
                  <a:pt x="74" y="419"/>
                </a:lnTo>
                <a:lnTo>
                  <a:pt x="65" y="416"/>
                </a:lnTo>
                <a:lnTo>
                  <a:pt x="56" y="411"/>
                </a:lnTo>
                <a:lnTo>
                  <a:pt x="49" y="406"/>
                </a:lnTo>
                <a:lnTo>
                  <a:pt x="42" y="399"/>
                </a:lnTo>
                <a:lnTo>
                  <a:pt x="36" y="393"/>
                </a:lnTo>
                <a:lnTo>
                  <a:pt x="30" y="386"/>
                </a:lnTo>
                <a:lnTo>
                  <a:pt x="25" y="378"/>
                </a:lnTo>
                <a:lnTo>
                  <a:pt x="21" y="369"/>
                </a:lnTo>
                <a:lnTo>
                  <a:pt x="17" y="361"/>
                </a:lnTo>
                <a:lnTo>
                  <a:pt x="13" y="351"/>
                </a:lnTo>
                <a:lnTo>
                  <a:pt x="10" y="341"/>
                </a:lnTo>
                <a:lnTo>
                  <a:pt x="7" y="329"/>
                </a:lnTo>
                <a:lnTo>
                  <a:pt x="5" y="318"/>
                </a:lnTo>
                <a:lnTo>
                  <a:pt x="3" y="304"/>
                </a:lnTo>
                <a:lnTo>
                  <a:pt x="2" y="291"/>
                </a:lnTo>
                <a:lnTo>
                  <a:pt x="1" y="277"/>
                </a:lnTo>
                <a:lnTo>
                  <a:pt x="0" y="261"/>
                </a:lnTo>
                <a:lnTo>
                  <a:pt x="0" y="245"/>
                </a:lnTo>
                <a:lnTo>
                  <a:pt x="0" y="0"/>
                </a:lnTo>
                <a:lnTo>
                  <a:pt x="45" y="0"/>
                </a:lnTo>
                <a:lnTo>
                  <a:pt x="45" y="245"/>
                </a:lnTo>
                <a:lnTo>
                  <a:pt x="45" y="258"/>
                </a:lnTo>
                <a:lnTo>
                  <a:pt x="46" y="271"/>
                </a:lnTo>
                <a:lnTo>
                  <a:pt x="46" y="282"/>
                </a:lnTo>
                <a:lnTo>
                  <a:pt x="47" y="292"/>
                </a:lnTo>
                <a:lnTo>
                  <a:pt x="48" y="302"/>
                </a:lnTo>
                <a:lnTo>
                  <a:pt x="50" y="311"/>
                </a:lnTo>
                <a:lnTo>
                  <a:pt x="51" y="319"/>
                </a:lnTo>
                <a:lnTo>
                  <a:pt x="53" y="326"/>
                </a:lnTo>
                <a:lnTo>
                  <a:pt x="56" y="332"/>
                </a:lnTo>
                <a:lnTo>
                  <a:pt x="59" y="338"/>
                </a:lnTo>
                <a:lnTo>
                  <a:pt x="62" y="344"/>
                </a:lnTo>
                <a:lnTo>
                  <a:pt x="65" y="349"/>
                </a:lnTo>
                <a:lnTo>
                  <a:pt x="69" y="354"/>
                </a:lnTo>
                <a:lnTo>
                  <a:pt x="73" y="358"/>
                </a:lnTo>
                <a:lnTo>
                  <a:pt x="78" y="362"/>
                </a:lnTo>
                <a:lnTo>
                  <a:pt x="83" y="366"/>
                </a:lnTo>
                <a:lnTo>
                  <a:pt x="88" y="369"/>
                </a:lnTo>
                <a:lnTo>
                  <a:pt x="93" y="372"/>
                </a:lnTo>
                <a:lnTo>
                  <a:pt x="99" y="374"/>
                </a:lnTo>
                <a:lnTo>
                  <a:pt x="105" y="377"/>
                </a:lnTo>
                <a:lnTo>
                  <a:pt x="111" y="378"/>
                </a:lnTo>
                <a:lnTo>
                  <a:pt x="118" y="379"/>
                </a:lnTo>
                <a:lnTo>
                  <a:pt x="124" y="381"/>
                </a:lnTo>
                <a:lnTo>
                  <a:pt x="133" y="381"/>
                </a:lnTo>
                <a:lnTo>
                  <a:pt x="145" y="381"/>
                </a:lnTo>
                <a:lnTo>
                  <a:pt x="156" y="378"/>
                </a:lnTo>
                <a:lnTo>
                  <a:pt x="166" y="377"/>
                </a:lnTo>
                <a:lnTo>
                  <a:pt x="175" y="373"/>
                </a:lnTo>
                <a:lnTo>
                  <a:pt x="183" y="369"/>
                </a:lnTo>
                <a:lnTo>
                  <a:pt x="191" y="364"/>
                </a:lnTo>
                <a:lnTo>
                  <a:pt x="198" y="359"/>
                </a:lnTo>
                <a:lnTo>
                  <a:pt x="204" y="352"/>
                </a:lnTo>
                <a:lnTo>
                  <a:pt x="209" y="344"/>
                </a:lnTo>
                <a:lnTo>
                  <a:pt x="213" y="336"/>
                </a:lnTo>
                <a:lnTo>
                  <a:pt x="217" y="324"/>
                </a:lnTo>
                <a:lnTo>
                  <a:pt x="220" y="312"/>
                </a:lnTo>
                <a:lnTo>
                  <a:pt x="222" y="297"/>
                </a:lnTo>
                <a:lnTo>
                  <a:pt x="224" y="281"/>
                </a:lnTo>
                <a:lnTo>
                  <a:pt x="225" y="263"/>
                </a:lnTo>
                <a:lnTo>
                  <a:pt x="225" y="245"/>
                </a:lnTo>
                <a:lnTo>
                  <a:pt x="22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69400" y="1373040"/>
            <a:ext cx="23760" cy="1684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26280" y="1370160"/>
            <a:ext cx="146160" cy="174600"/>
          </a:xfrm>
          <a:custGeom>
            <a:avLst/>
            <a:gdLst/>
            <a:ahLst/>
            <a:rect l="l" t="t" r="r" b="b"/>
            <a:pathLst>
              <a:path w="274" h="438">
                <a:moveTo>
                  <a:pt x="0" y="294"/>
                </a:moveTo>
                <a:lnTo>
                  <a:pt x="43" y="290"/>
                </a:lnTo>
                <a:lnTo>
                  <a:pt x="44" y="298"/>
                </a:lnTo>
                <a:lnTo>
                  <a:pt x="45" y="305"/>
                </a:lnTo>
                <a:lnTo>
                  <a:pt x="46" y="313"/>
                </a:lnTo>
                <a:lnTo>
                  <a:pt x="48" y="319"/>
                </a:lnTo>
                <a:lnTo>
                  <a:pt x="50" y="325"/>
                </a:lnTo>
                <a:lnTo>
                  <a:pt x="52" y="331"/>
                </a:lnTo>
                <a:lnTo>
                  <a:pt x="54" y="336"/>
                </a:lnTo>
                <a:lnTo>
                  <a:pt x="57" y="343"/>
                </a:lnTo>
                <a:lnTo>
                  <a:pt x="60" y="348"/>
                </a:lnTo>
                <a:lnTo>
                  <a:pt x="63" y="351"/>
                </a:lnTo>
                <a:lnTo>
                  <a:pt x="67" y="356"/>
                </a:lnTo>
                <a:lnTo>
                  <a:pt x="71" y="360"/>
                </a:lnTo>
                <a:lnTo>
                  <a:pt x="76" y="365"/>
                </a:lnTo>
                <a:lnTo>
                  <a:pt x="80" y="369"/>
                </a:lnTo>
                <a:lnTo>
                  <a:pt x="86" y="371"/>
                </a:lnTo>
                <a:lnTo>
                  <a:pt x="91" y="375"/>
                </a:lnTo>
                <a:lnTo>
                  <a:pt x="97" y="378"/>
                </a:lnTo>
                <a:lnTo>
                  <a:pt x="104" y="380"/>
                </a:lnTo>
                <a:lnTo>
                  <a:pt x="110" y="383"/>
                </a:lnTo>
                <a:lnTo>
                  <a:pt x="117" y="385"/>
                </a:lnTo>
                <a:lnTo>
                  <a:pt x="124" y="386"/>
                </a:lnTo>
                <a:lnTo>
                  <a:pt x="130" y="386"/>
                </a:lnTo>
                <a:lnTo>
                  <a:pt x="137" y="388"/>
                </a:lnTo>
                <a:lnTo>
                  <a:pt x="144" y="388"/>
                </a:lnTo>
                <a:lnTo>
                  <a:pt x="151" y="388"/>
                </a:lnTo>
                <a:lnTo>
                  <a:pt x="157" y="388"/>
                </a:lnTo>
                <a:lnTo>
                  <a:pt x="163" y="386"/>
                </a:lnTo>
                <a:lnTo>
                  <a:pt x="169" y="385"/>
                </a:lnTo>
                <a:lnTo>
                  <a:pt x="175" y="384"/>
                </a:lnTo>
                <a:lnTo>
                  <a:pt x="181" y="383"/>
                </a:lnTo>
                <a:lnTo>
                  <a:pt x="186" y="380"/>
                </a:lnTo>
                <a:lnTo>
                  <a:pt x="191" y="378"/>
                </a:lnTo>
                <a:lnTo>
                  <a:pt x="196" y="375"/>
                </a:lnTo>
                <a:lnTo>
                  <a:pt x="200" y="373"/>
                </a:lnTo>
                <a:lnTo>
                  <a:pt x="204" y="370"/>
                </a:lnTo>
                <a:lnTo>
                  <a:pt x="208" y="366"/>
                </a:lnTo>
                <a:lnTo>
                  <a:pt x="212" y="364"/>
                </a:lnTo>
                <a:lnTo>
                  <a:pt x="215" y="360"/>
                </a:lnTo>
                <a:lnTo>
                  <a:pt x="218" y="356"/>
                </a:lnTo>
                <a:lnTo>
                  <a:pt x="220" y="351"/>
                </a:lnTo>
                <a:lnTo>
                  <a:pt x="222" y="348"/>
                </a:lnTo>
                <a:lnTo>
                  <a:pt x="224" y="344"/>
                </a:lnTo>
                <a:lnTo>
                  <a:pt x="226" y="339"/>
                </a:lnTo>
                <a:lnTo>
                  <a:pt x="227" y="334"/>
                </a:lnTo>
                <a:lnTo>
                  <a:pt x="228" y="330"/>
                </a:lnTo>
                <a:lnTo>
                  <a:pt x="229" y="325"/>
                </a:lnTo>
                <a:lnTo>
                  <a:pt x="230" y="320"/>
                </a:lnTo>
                <a:lnTo>
                  <a:pt x="230" y="315"/>
                </a:lnTo>
                <a:lnTo>
                  <a:pt x="230" y="310"/>
                </a:lnTo>
                <a:lnTo>
                  <a:pt x="229" y="307"/>
                </a:lnTo>
                <a:lnTo>
                  <a:pt x="229" y="302"/>
                </a:lnTo>
                <a:lnTo>
                  <a:pt x="227" y="297"/>
                </a:lnTo>
                <a:lnTo>
                  <a:pt x="226" y="293"/>
                </a:lnTo>
                <a:lnTo>
                  <a:pt x="225" y="289"/>
                </a:lnTo>
                <a:lnTo>
                  <a:pt x="223" y="284"/>
                </a:lnTo>
                <a:lnTo>
                  <a:pt x="220" y="280"/>
                </a:lnTo>
                <a:lnTo>
                  <a:pt x="218" y="277"/>
                </a:lnTo>
                <a:lnTo>
                  <a:pt x="215" y="274"/>
                </a:lnTo>
                <a:lnTo>
                  <a:pt x="212" y="270"/>
                </a:lnTo>
                <a:lnTo>
                  <a:pt x="208" y="267"/>
                </a:lnTo>
                <a:lnTo>
                  <a:pt x="204" y="264"/>
                </a:lnTo>
                <a:lnTo>
                  <a:pt x="200" y="262"/>
                </a:lnTo>
                <a:lnTo>
                  <a:pt x="195" y="258"/>
                </a:lnTo>
                <a:lnTo>
                  <a:pt x="190" y="255"/>
                </a:lnTo>
                <a:lnTo>
                  <a:pt x="186" y="254"/>
                </a:lnTo>
                <a:lnTo>
                  <a:pt x="181" y="252"/>
                </a:lnTo>
                <a:lnTo>
                  <a:pt x="175" y="250"/>
                </a:lnTo>
                <a:lnTo>
                  <a:pt x="167" y="248"/>
                </a:lnTo>
                <a:lnTo>
                  <a:pt x="159" y="244"/>
                </a:lnTo>
                <a:lnTo>
                  <a:pt x="150" y="242"/>
                </a:lnTo>
                <a:lnTo>
                  <a:pt x="140" y="239"/>
                </a:lnTo>
                <a:lnTo>
                  <a:pt x="128" y="235"/>
                </a:lnTo>
                <a:lnTo>
                  <a:pt x="117" y="232"/>
                </a:lnTo>
                <a:lnTo>
                  <a:pt x="107" y="228"/>
                </a:lnTo>
                <a:lnTo>
                  <a:pt x="96" y="225"/>
                </a:lnTo>
                <a:lnTo>
                  <a:pt x="88" y="222"/>
                </a:lnTo>
                <a:lnTo>
                  <a:pt x="80" y="218"/>
                </a:lnTo>
                <a:lnTo>
                  <a:pt x="73" y="215"/>
                </a:lnTo>
                <a:lnTo>
                  <a:pt x="67" y="212"/>
                </a:lnTo>
                <a:lnTo>
                  <a:pt x="62" y="209"/>
                </a:lnTo>
                <a:lnTo>
                  <a:pt x="56" y="204"/>
                </a:lnTo>
                <a:lnTo>
                  <a:pt x="50" y="200"/>
                </a:lnTo>
                <a:lnTo>
                  <a:pt x="45" y="195"/>
                </a:lnTo>
                <a:lnTo>
                  <a:pt x="41" y="190"/>
                </a:lnTo>
                <a:lnTo>
                  <a:pt x="36" y="185"/>
                </a:lnTo>
                <a:lnTo>
                  <a:pt x="32" y="180"/>
                </a:lnTo>
                <a:lnTo>
                  <a:pt x="29" y="175"/>
                </a:lnTo>
                <a:lnTo>
                  <a:pt x="25" y="169"/>
                </a:lnTo>
                <a:lnTo>
                  <a:pt x="22" y="163"/>
                </a:lnTo>
                <a:lnTo>
                  <a:pt x="19" y="157"/>
                </a:lnTo>
                <a:lnTo>
                  <a:pt x="17" y="151"/>
                </a:lnTo>
                <a:lnTo>
                  <a:pt x="16" y="144"/>
                </a:lnTo>
                <a:lnTo>
                  <a:pt x="14" y="138"/>
                </a:lnTo>
                <a:lnTo>
                  <a:pt x="13" y="131"/>
                </a:lnTo>
                <a:lnTo>
                  <a:pt x="13" y="123"/>
                </a:lnTo>
                <a:lnTo>
                  <a:pt x="13" y="117"/>
                </a:lnTo>
                <a:lnTo>
                  <a:pt x="13" y="108"/>
                </a:lnTo>
                <a:lnTo>
                  <a:pt x="14" y="101"/>
                </a:lnTo>
                <a:lnTo>
                  <a:pt x="15" y="93"/>
                </a:lnTo>
                <a:lnTo>
                  <a:pt x="16" y="86"/>
                </a:lnTo>
                <a:lnTo>
                  <a:pt x="18" y="78"/>
                </a:lnTo>
                <a:lnTo>
                  <a:pt x="21" y="71"/>
                </a:lnTo>
                <a:lnTo>
                  <a:pt x="24" y="63"/>
                </a:lnTo>
                <a:lnTo>
                  <a:pt x="28" y="57"/>
                </a:lnTo>
                <a:lnTo>
                  <a:pt x="32" y="49"/>
                </a:lnTo>
                <a:lnTo>
                  <a:pt x="36" y="43"/>
                </a:lnTo>
                <a:lnTo>
                  <a:pt x="41" y="37"/>
                </a:lnTo>
                <a:lnTo>
                  <a:pt x="46" y="32"/>
                </a:lnTo>
                <a:lnTo>
                  <a:pt x="52" y="27"/>
                </a:lnTo>
                <a:lnTo>
                  <a:pt x="58" y="22"/>
                </a:lnTo>
                <a:lnTo>
                  <a:pt x="64" y="18"/>
                </a:lnTo>
                <a:lnTo>
                  <a:pt x="71" y="15"/>
                </a:lnTo>
                <a:lnTo>
                  <a:pt x="78" y="11"/>
                </a:lnTo>
                <a:lnTo>
                  <a:pt x="85" y="8"/>
                </a:lnTo>
                <a:lnTo>
                  <a:pt x="93" y="6"/>
                </a:lnTo>
                <a:lnTo>
                  <a:pt x="102" y="3"/>
                </a:lnTo>
                <a:lnTo>
                  <a:pt x="109" y="2"/>
                </a:lnTo>
                <a:lnTo>
                  <a:pt x="117" y="1"/>
                </a:lnTo>
                <a:lnTo>
                  <a:pt x="126" y="0"/>
                </a:lnTo>
                <a:lnTo>
                  <a:pt x="134" y="0"/>
                </a:lnTo>
                <a:lnTo>
                  <a:pt x="144" y="0"/>
                </a:lnTo>
                <a:lnTo>
                  <a:pt x="153" y="1"/>
                </a:lnTo>
                <a:lnTo>
                  <a:pt x="161" y="2"/>
                </a:lnTo>
                <a:lnTo>
                  <a:pt x="170" y="3"/>
                </a:lnTo>
                <a:lnTo>
                  <a:pt x="179" y="6"/>
                </a:lnTo>
                <a:lnTo>
                  <a:pt x="187" y="8"/>
                </a:lnTo>
                <a:lnTo>
                  <a:pt x="195" y="11"/>
                </a:lnTo>
                <a:lnTo>
                  <a:pt x="202" y="15"/>
                </a:lnTo>
                <a:lnTo>
                  <a:pt x="209" y="18"/>
                </a:lnTo>
                <a:lnTo>
                  <a:pt x="215" y="23"/>
                </a:lnTo>
                <a:lnTo>
                  <a:pt x="222" y="28"/>
                </a:lnTo>
                <a:lnTo>
                  <a:pt x="227" y="33"/>
                </a:lnTo>
                <a:lnTo>
                  <a:pt x="233" y="39"/>
                </a:lnTo>
                <a:lnTo>
                  <a:pt x="238" y="46"/>
                </a:lnTo>
                <a:lnTo>
                  <a:pt x="242" y="52"/>
                </a:lnTo>
                <a:lnTo>
                  <a:pt x="247" y="59"/>
                </a:lnTo>
                <a:lnTo>
                  <a:pt x="251" y="67"/>
                </a:lnTo>
                <a:lnTo>
                  <a:pt x="254" y="74"/>
                </a:lnTo>
                <a:lnTo>
                  <a:pt x="257" y="83"/>
                </a:lnTo>
                <a:lnTo>
                  <a:pt x="259" y="91"/>
                </a:lnTo>
                <a:lnTo>
                  <a:pt x="261" y="99"/>
                </a:lnTo>
                <a:lnTo>
                  <a:pt x="262" y="108"/>
                </a:lnTo>
                <a:lnTo>
                  <a:pt x="263" y="117"/>
                </a:lnTo>
                <a:lnTo>
                  <a:pt x="264" y="127"/>
                </a:lnTo>
                <a:lnTo>
                  <a:pt x="220" y="131"/>
                </a:lnTo>
                <a:lnTo>
                  <a:pt x="219" y="121"/>
                </a:lnTo>
                <a:lnTo>
                  <a:pt x="217" y="112"/>
                </a:lnTo>
                <a:lnTo>
                  <a:pt x="215" y="103"/>
                </a:lnTo>
                <a:lnTo>
                  <a:pt x="212" y="96"/>
                </a:lnTo>
                <a:lnTo>
                  <a:pt x="209" y="88"/>
                </a:lnTo>
                <a:lnTo>
                  <a:pt x="205" y="81"/>
                </a:lnTo>
                <a:lnTo>
                  <a:pt x="201" y="76"/>
                </a:lnTo>
                <a:lnTo>
                  <a:pt x="196" y="69"/>
                </a:lnTo>
                <a:lnTo>
                  <a:pt x="191" y="64"/>
                </a:lnTo>
                <a:lnTo>
                  <a:pt x="185" y="61"/>
                </a:lnTo>
                <a:lnTo>
                  <a:pt x="179" y="57"/>
                </a:lnTo>
                <a:lnTo>
                  <a:pt x="170" y="54"/>
                </a:lnTo>
                <a:lnTo>
                  <a:pt x="163" y="52"/>
                </a:lnTo>
                <a:lnTo>
                  <a:pt x="154" y="51"/>
                </a:lnTo>
                <a:lnTo>
                  <a:pt x="146" y="49"/>
                </a:lnTo>
                <a:lnTo>
                  <a:pt x="136" y="49"/>
                </a:lnTo>
                <a:lnTo>
                  <a:pt x="126" y="49"/>
                </a:lnTo>
                <a:lnTo>
                  <a:pt x="117" y="51"/>
                </a:lnTo>
                <a:lnTo>
                  <a:pt x="109" y="52"/>
                </a:lnTo>
                <a:lnTo>
                  <a:pt x="101" y="53"/>
                </a:lnTo>
                <a:lnTo>
                  <a:pt x="93" y="57"/>
                </a:lnTo>
                <a:lnTo>
                  <a:pt x="86" y="59"/>
                </a:lnTo>
                <a:lnTo>
                  <a:pt x="81" y="63"/>
                </a:lnTo>
                <a:lnTo>
                  <a:pt x="76" y="68"/>
                </a:lnTo>
                <a:lnTo>
                  <a:pt x="71" y="72"/>
                </a:lnTo>
                <a:lnTo>
                  <a:pt x="67" y="78"/>
                </a:lnTo>
                <a:lnTo>
                  <a:pt x="64" y="83"/>
                </a:lnTo>
                <a:lnTo>
                  <a:pt x="62" y="88"/>
                </a:lnTo>
                <a:lnTo>
                  <a:pt x="60" y="94"/>
                </a:lnTo>
                <a:lnTo>
                  <a:pt x="58" y="101"/>
                </a:lnTo>
                <a:lnTo>
                  <a:pt x="57" y="106"/>
                </a:lnTo>
                <a:lnTo>
                  <a:pt x="57" y="113"/>
                </a:lnTo>
                <a:lnTo>
                  <a:pt x="57" y="118"/>
                </a:lnTo>
                <a:lnTo>
                  <a:pt x="58" y="123"/>
                </a:lnTo>
                <a:lnTo>
                  <a:pt x="59" y="129"/>
                </a:lnTo>
                <a:lnTo>
                  <a:pt x="60" y="133"/>
                </a:lnTo>
                <a:lnTo>
                  <a:pt x="62" y="138"/>
                </a:lnTo>
                <a:lnTo>
                  <a:pt x="64" y="142"/>
                </a:lnTo>
                <a:lnTo>
                  <a:pt x="67" y="147"/>
                </a:lnTo>
                <a:lnTo>
                  <a:pt x="70" y="151"/>
                </a:lnTo>
                <a:lnTo>
                  <a:pt x="74" y="154"/>
                </a:lnTo>
                <a:lnTo>
                  <a:pt x="79" y="158"/>
                </a:lnTo>
                <a:lnTo>
                  <a:pt x="86" y="162"/>
                </a:lnTo>
                <a:lnTo>
                  <a:pt x="94" y="165"/>
                </a:lnTo>
                <a:lnTo>
                  <a:pt x="104" y="169"/>
                </a:lnTo>
                <a:lnTo>
                  <a:pt x="114" y="173"/>
                </a:lnTo>
                <a:lnTo>
                  <a:pt x="126" y="177"/>
                </a:lnTo>
                <a:lnTo>
                  <a:pt x="139" y="180"/>
                </a:lnTo>
                <a:lnTo>
                  <a:pt x="152" y="184"/>
                </a:lnTo>
                <a:lnTo>
                  <a:pt x="164" y="188"/>
                </a:lnTo>
                <a:lnTo>
                  <a:pt x="176" y="192"/>
                </a:lnTo>
                <a:lnTo>
                  <a:pt x="186" y="195"/>
                </a:lnTo>
                <a:lnTo>
                  <a:pt x="195" y="198"/>
                </a:lnTo>
                <a:lnTo>
                  <a:pt x="203" y="202"/>
                </a:lnTo>
                <a:lnTo>
                  <a:pt x="210" y="204"/>
                </a:lnTo>
                <a:lnTo>
                  <a:pt x="215" y="208"/>
                </a:lnTo>
                <a:lnTo>
                  <a:pt x="222" y="212"/>
                </a:lnTo>
                <a:lnTo>
                  <a:pt x="229" y="217"/>
                </a:lnTo>
                <a:lnTo>
                  <a:pt x="235" y="222"/>
                </a:lnTo>
                <a:lnTo>
                  <a:pt x="241" y="227"/>
                </a:lnTo>
                <a:lnTo>
                  <a:pt x="247" y="233"/>
                </a:lnTo>
                <a:lnTo>
                  <a:pt x="252" y="238"/>
                </a:lnTo>
                <a:lnTo>
                  <a:pt x="256" y="244"/>
                </a:lnTo>
                <a:lnTo>
                  <a:pt x="260" y="250"/>
                </a:lnTo>
                <a:lnTo>
                  <a:pt x="263" y="258"/>
                </a:lnTo>
                <a:lnTo>
                  <a:pt x="266" y="264"/>
                </a:lnTo>
                <a:lnTo>
                  <a:pt x="269" y="272"/>
                </a:lnTo>
                <a:lnTo>
                  <a:pt x="271" y="279"/>
                </a:lnTo>
                <a:lnTo>
                  <a:pt x="272" y="287"/>
                </a:lnTo>
                <a:lnTo>
                  <a:pt x="273" y="294"/>
                </a:lnTo>
                <a:lnTo>
                  <a:pt x="274" y="303"/>
                </a:lnTo>
                <a:lnTo>
                  <a:pt x="274" y="311"/>
                </a:lnTo>
                <a:lnTo>
                  <a:pt x="274" y="319"/>
                </a:lnTo>
                <a:lnTo>
                  <a:pt x="273" y="328"/>
                </a:lnTo>
                <a:lnTo>
                  <a:pt x="272" y="336"/>
                </a:lnTo>
                <a:lnTo>
                  <a:pt x="270" y="344"/>
                </a:lnTo>
                <a:lnTo>
                  <a:pt x="268" y="351"/>
                </a:lnTo>
                <a:lnTo>
                  <a:pt x="265" y="360"/>
                </a:lnTo>
                <a:lnTo>
                  <a:pt x="262" y="368"/>
                </a:lnTo>
                <a:lnTo>
                  <a:pt x="259" y="375"/>
                </a:lnTo>
                <a:lnTo>
                  <a:pt x="254" y="383"/>
                </a:lnTo>
                <a:lnTo>
                  <a:pt x="250" y="389"/>
                </a:lnTo>
                <a:lnTo>
                  <a:pt x="244" y="395"/>
                </a:lnTo>
                <a:lnTo>
                  <a:pt x="239" y="401"/>
                </a:lnTo>
                <a:lnTo>
                  <a:pt x="233" y="408"/>
                </a:lnTo>
                <a:lnTo>
                  <a:pt x="227" y="413"/>
                </a:lnTo>
                <a:lnTo>
                  <a:pt x="220" y="418"/>
                </a:lnTo>
                <a:lnTo>
                  <a:pt x="213" y="421"/>
                </a:lnTo>
                <a:lnTo>
                  <a:pt x="206" y="425"/>
                </a:lnTo>
                <a:lnTo>
                  <a:pt x="198" y="429"/>
                </a:lnTo>
                <a:lnTo>
                  <a:pt x="190" y="431"/>
                </a:lnTo>
                <a:lnTo>
                  <a:pt x="182" y="434"/>
                </a:lnTo>
                <a:lnTo>
                  <a:pt x="174" y="435"/>
                </a:lnTo>
                <a:lnTo>
                  <a:pt x="164" y="438"/>
                </a:lnTo>
                <a:lnTo>
                  <a:pt x="156" y="438"/>
                </a:lnTo>
                <a:lnTo>
                  <a:pt x="147" y="438"/>
                </a:lnTo>
                <a:lnTo>
                  <a:pt x="135" y="438"/>
                </a:lnTo>
                <a:lnTo>
                  <a:pt x="124" y="438"/>
                </a:lnTo>
                <a:lnTo>
                  <a:pt x="114" y="435"/>
                </a:lnTo>
                <a:lnTo>
                  <a:pt x="104" y="434"/>
                </a:lnTo>
                <a:lnTo>
                  <a:pt x="94" y="431"/>
                </a:lnTo>
                <a:lnTo>
                  <a:pt x="85" y="429"/>
                </a:lnTo>
                <a:lnTo>
                  <a:pt x="76" y="425"/>
                </a:lnTo>
                <a:lnTo>
                  <a:pt x="68" y="421"/>
                </a:lnTo>
                <a:lnTo>
                  <a:pt x="61" y="416"/>
                </a:lnTo>
                <a:lnTo>
                  <a:pt x="54" y="411"/>
                </a:lnTo>
                <a:lnTo>
                  <a:pt x="47" y="406"/>
                </a:lnTo>
                <a:lnTo>
                  <a:pt x="40" y="400"/>
                </a:lnTo>
                <a:lnTo>
                  <a:pt x="35" y="394"/>
                </a:lnTo>
                <a:lnTo>
                  <a:pt x="29" y="386"/>
                </a:lnTo>
                <a:lnTo>
                  <a:pt x="23" y="379"/>
                </a:lnTo>
                <a:lnTo>
                  <a:pt x="18" y="370"/>
                </a:lnTo>
                <a:lnTo>
                  <a:pt x="14" y="363"/>
                </a:lnTo>
                <a:lnTo>
                  <a:pt x="11" y="354"/>
                </a:lnTo>
                <a:lnTo>
                  <a:pt x="7" y="344"/>
                </a:lnTo>
                <a:lnTo>
                  <a:pt x="5" y="335"/>
                </a:lnTo>
                <a:lnTo>
                  <a:pt x="3" y="325"/>
                </a:lnTo>
                <a:lnTo>
                  <a:pt x="1" y="315"/>
                </a:lnTo>
                <a:lnTo>
                  <a:pt x="0" y="305"/>
                </a:lnTo>
                <a:lnTo>
                  <a:pt x="0" y="29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91520" y="1373040"/>
            <a:ext cx="144360" cy="168480"/>
          </a:xfrm>
          <a:custGeom>
            <a:avLst/>
            <a:gdLst/>
            <a:ahLst/>
            <a:rect l="l" t="t" r="r" b="b"/>
            <a:pathLst>
              <a:path w="273" h="424">
                <a:moveTo>
                  <a:pt x="114" y="424"/>
                </a:moveTo>
                <a:lnTo>
                  <a:pt x="114" y="50"/>
                </a:lnTo>
                <a:lnTo>
                  <a:pt x="0" y="50"/>
                </a:lnTo>
                <a:lnTo>
                  <a:pt x="0" y="0"/>
                </a:lnTo>
                <a:lnTo>
                  <a:pt x="273" y="0"/>
                </a:lnTo>
                <a:lnTo>
                  <a:pt x="273" y="50"/>
                </a:lnTo>
                <a:lnTo>
                  <a:pt x="160" y="50"/>
                </a:lnTo>
                <a:lnTo>
                  <a:pt x="160" y="424"/>
                </a:lnTo>
                <a:lnTo>
                  <a:pt x="114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461440" y="1373040"/>
            <a:ext cx="135000" cy="168480"/>
          </a:xfrm>
          <a:custGeom>
            <a:avLst/>
            <a:gdLst/>
            <a:ahLst/>
            <a:rect l="l" t="t" r="r" b="b"/>
            <a:pathLst>
              <a:path w="257" h="424">
                <a:moveTo>
                  <a:pt x="0" y="424"/>
                </a:moveTo>
                <a:lnTo>
                  <a:pt x="0" y="0"/>
                </a:lnTo>
                <a:lnTo>
                  <a:pt x="249" y="0"/>
                </a:lnTo>
                <a:lnTo>
                  <a:pt x="249" y="50"/>
                </a:lnTo>
                <a:lnTo>
                  <a:pt x="45" y="50"/>
                </a:lnTo>
                <a:lnTo>
                  <a:pt x="45" y="180"/>
                </a:lnTo>
                <a:lnTo>
                  <a:pt x="236" y="180"/>
                </a:lnTo>
                <a:lnTo>
                  <a:pt x="236" y="230"/>
                </a:lnTo>
                <a:lnTo>
                  <a:pt x="45" y="230"/>
                </a:lnTo>
                <a:lnTo>
                  <a:pt x="45" y="373"/>
                </a:lnTo>
                <a:lnTo>
                  <a:pt x="257" y="373"/>
                </a:lnTo>
                <a:lnTo>
                  <a:pt x="257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629560" y="1373040"/>
            <a:ext cx="112680" cy="168480"/>
          </a:xfrm>
          <a:custGeom>
            <a:avLst/>
            <a:gdLst/>
            <a:ahLst/>
            <a:rect l="l" t="t" r="r" b="b"/>
            <a:pathLst>
              <a:path w="215" h="424">
                <a:moveTo>
                  <a:pt x="0" y="424"/>
                </a:moveTo>
                <a:lnTo>
                  <a:pt x="0" y="0"/>
                </a:lnTo>
                <a:lnTo>
                  <a:pt x="46" y="0"/>
                </a:lnTo>
                <a:lnTo>
                  <a:pt x="46" y="373"/>
                </a:lnTo>
                <a:lnTo>
                  <a:pt x="215" y="373"/>
                </a:lnTo>
                <a:lnTo>
                  <a:pt x="215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71040" y="1373040"/>
            <a:ext cx="114120" cy="168480"/>
          </a:xfrm>
          <a:custGeom>
            <a:avLst/>
            <a:gdLst/>
            <a:ahLst/>
            <a:rect l="l" t="t" r="r" b="b"/>
            <a:pathLst>
              <a:path w="215" h="424">
                <a:moveTo>
                  <a:pt x="0" y="424"/>
                </a:moveTo>
                <a:lnTo>
                  <a:pt x="0" y="0"/>
                </a:lnTo>
                <a:lnTo>
                  <a:pt x="46" y="0"/>
                </a:lnTo>
                <a:lnTo>
                  <a:pt x="46" y="373"/>
                </a:lnTo>
                <a:lnTo>
                  <a:pt x="215" y="373"/>
                </a:lnTo>
                <a:lnTo>
                  <a:pt x="215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906040" y="1370160"/>
            <a:ext cx="174600" cy="174600"/>
          </a:xfrm>
          <a:custGeom>
            <a:avLst/>
            <a:gdLst/>
            <a:ahLst/>
            <a:rect l="l" t="t" r="r" b="b"/>
            <a:pathLst>
              <a:path w="330" h="438">
                <a:moveTo>
                  <a:pt x="0" y="224"/>
                </a:moveTo>
                <a:lnTo>
                  <a:pt x="1" y="199"/>
                </a:lnTo>
                <a:lnTo>
                  <a:pt x="3" y="174"/>
                </a:lnTo>
                <a:lnTo>
                  <a:pt x="8" y="152"/>
                </a:lnTo>
                <a:lnTo>
                  <a:pt x="12" y="131"/>
                </a:lnTo>
                <a:lnTo>
                  <a:pt x="19" y="111"/>
                </a:lnTo>
                <a:lnTo>
                  <a:pt x="27" y="92"/>
                </a:lnTo>
                <a:lnTo>
                  <a:pt x="36" y="74"/>
                </a:lnTo>
                <a:lnTo>
                  <a:pt x="47" y="59"/>
                </a:lnTo>
                <a:lnTo>
                  <a:pt x="58" y="44"/>
                </a:lnTo>
                <a:lnTo>
                  <a:pt x="71" y="33"/>
                </a:lnTo>
                <a:lnTo>
                  <a:pt x="85" y="23"/>
                </a:lnTo>
                <a:lnTo>
                  <a:pt x="100" y="15"/>
                </a:lnTo>
                <a:lnTo>
                  <a:pt x="115" y="8"/>
                </a:lnTo>
                <a:lnTo>
                  <a:pt x="131" y="3"/>
                </a:lnTo>
                <a:lnTo>
                  <a:pt x="147" y="1"/>
                </a:lnTo>
                <a:lnTo>
                  <a:pt x="166" y="0"/>
                </a:lnTo>
                <a:lnTo>
                  <a:pt x="177" y="0"/>
                </a:lnTo>
                <a:lnTo>
                  <a:pt x="189" y="1"/>
                </a:lnTo>
                <a:lnTo>
                  <a:pt x="200" y="3"/>
                </a:lnTo>
                <a:lnTo>
                  <a:pt x="211" y="6"/>
                </a:lnTo>
                <a:lnTo>
                  <a:pt x="222" y="11"/>
                </a:lnTo>
                <a:lnTo>
                  <a:pt x="232" y="15"/>
                </a:lnTo>
                <a:lnTo>
                  <a:pt x="242" y="21"/>
                </a:lnTo>
                <a:lnTo>
                  <a:pt x="252" y="27"/>
                </a:lnTo>
                <a:lnTo>
                  <a:pt x="261" y="34"/>
                </a:lnTo>
                <a:lnTo>
                  <a:pt x="269" y="43"/>
                </a:lnTo>
                <a:lnTo>
                  <a:pt x="277" y="52"/>
                </a:lnTo>
                <a:lnTo>
                  <a:pt x="285" y="61"/>
                </a:lnTo>
                <a:lnTo>
                  <a:pt x="292" y="71"/>
                </a:lnTo>
                <a:lnTo>
                  <a:pt x="299" y="82"/>
                </a:lnTo>
                <a:lnTo>
                  <a:pt x="305" y="93"/>
                </a:lnTo>
                <a:lnTo>
                  <a:pt x="310" y="106"/>
                </a:lnTo>
                <a:lnTo>
                  <a:pt x="315" y="118"/>
                </a:lnTo>
                <a:lnTo>
                  <a:pt x="319" y="132"/>
                </a:lnTo>
                <a:lnTo>
                  <a:pt x="322" y="146"/>
                </a:lnTo>
                <a:lnTo>
                  <a:pt x="325" y="159"/>
                </a:lnTo>
                <a:lnTo>
                  <a:pt x="327" y="173"/>
                </a:lnTo>
                <a:lnTo>
                  <a:pt x="329" y="188"/>
                </a:lnTo>
                <a:lnTo>
                  <a:pt x="330" y="204"/>
                </a:lnTo>
                <a:lnTo>
                  <a:pt x="330" y="219"/>
                </a:lnTo>
                <a:lnTo>
                  <a:pt x="330" y="235"/>
                </a:lnTo>
                <a:lnTo>
                  <a:pt x="329" y="250"/>
                </a:lnTo>
                <a:lnTo>
                  <a:pt x="327" y="265"/>
                </a:lnTo>
                <a:lnTo>
                  <a:pt x="325" y="280"/>
                </a:lnTo>
                <a:lnTo>
                  <a:pt x="322" y="295"/>
                </a:lnTo>
                <a:lnTo>
                  <a:pt x="318" y="309"/>
                </a:lnTo>
                <a:lnTo>
                  <a:pt x="314" y="321"/>
                </a:lnTo>
                <a:lnTo>
                  <a:pt x="309" y="335"/>
                </a:lnTo>
                <a:lnTo>
                  <a:pt x="304" y="348"/>
                </a:lnTo>
                <a:lnTo>
                  <a:pt x="298" y="359"/>
                </a:lnTo>
                <a:lnTo>
                  <a:pt x="290" y="369"/>
                </a:lnTo>
                <a:lnTo>
                  <a:pt x="283" y="379"/>
                </a:lnTo>
                <a:lnTo>
                  <a:pt x="275" y="389"/>
                </a:lnTo>
                <a:lnTo>
                  <a:pt x="267" y="398"/>
                </a:lnTo>
                <a:lnTo>
                  <a:pt x="258" y="405"/>
                </a:lnTo>
                <a:lnTo>
                  <a:pt x="249" y="411"/>
                </a:lnTo>
                <a:lnTo>
                  <a:pt x="239" y="418"/>
                </a:lnTo>
                <a:lnTo>
                  <a:pt x="230" y="424"/>
                </a:lnTo>
                <a:lnTo>
                  <a:pt x="219" y="428"/>
                </a:lnTo>
                <a:lnTo>
                  <a:pt x="208" y="431"/>
                </a:lnTo>
                <a:lnTo>
                  <a:pt x="198" y="434"/>
                </a:lnTo>
                <a:lnTo>
                  <a:pt x="187" y="436"/>
                </a:lnTo>
                <a:lnTo>
                  <a:pt x="177" y="438"/>
                </a:lnTo>
                <a:lnTo>
                  <a:pt x="166" y="438"/>
                </a:lnTo>
                <a:lnTo>
                  <a:pt x="154" y="438"/>
                </a:lnTo>
                <a:lnTo>
                  <a:pt x="141" y="436"/>
                </a:lnTo>
                <a:lnTo>
                  <a:pt x="130" y="434"/>
                </a:lnTo>
                <a:lnTo>
                  <a:pt x="119" y="431"/>
                </a:lnTo>
                <a:lnTo>
                  <a:pt x="109" y="426"/>
                </a:lnTo>
                <a:lnTo>
                  <a:pt x="98" y="421"/>
                </a:lnTo>
                <a:lnTo>
                  <a:pt x="88" y="416"/>
                </a:lnTo>
                <a:lnTo>
                  <a:pt x="79" y="409"/>
                </a:lnTo>
                <a:lnTo>
                  <a:pt x="69" y="401"/>
                </a:lnTo>
                <a:lnTo>
                  <a:pt x="60" y="394"/>
                </a:lnTo>
                <a:lnTo>
                  <a:pt x="52" y="384"/>
                </a:lnTo>
                <a:lnTo>
                  <a:pt x="45" y="375"/>
                </a:lnTo>
                <a:lnTo>
                  <a:pt x="38" y="365"/>
                </a:lnTo>
                <a:lnTo>
                  <a:pt x="31" y="354"/>
                </a:lnTo>
                <a:lnTo>
                  <a:pt x="26" y="343"/>
                </a:lnTo>
                <a:lnTo>
                  <a:pt x="21" y="330"/>
                </a:lnTo>
                <a:lnTo>
                  <a:pt x="16" y="318"/>
                </a:lnTo>
                <a:lnTo>
                  <a:pt x="12" y="305"/>
                </a:lnTo>
                <a:lnTo>
                  <a:pt x="9" y="292"/>
                </a:lnTo>
                <a:lnTo>
                  <a:pt x="6" y="279"/>
                </a:lnTo>
                <a:lnTo>
                  <a:pt x="3" y="265"/>
                </a:lnTo>
                <a:lnTo>
                  <a:pt x="1" y="252"/>
                </a:lnTo>
                <a:lnTo>
                  <a:pt x="0" y="238"/>
                </a:lnTo>
                <a:lnTo>
                  <a:pt x="0" y="224"/>
                </a:lnTo>
                <a:close/>
                <a:moveTo>
                  <a:pt x="47" y="225"/>
                </a:moveTo>
                <a:lnTo>
                  <a:pt x="48" y="244"/>
                </a:lnTo>
                <a:lnTo>
                  <a:pt x="50" y="262"/>
                </a:lnTo>
                <a:lnTo>
                  <a:pt x="52" y="278"/>
                </a:lnTo>
                <a:lnTo>
                  <a:pt x="56" y="294"/>
                </a:lnTo>
                <a:lnTo>
                  <a:pt x="60" y="308"/>
                </a:lnTo>
                <a:lnTo>
                  <a:pt x="66" y="321"/>
                </a:lnTo>
                <a:lnTo>
                  <a:pt x="73" y="334"/>
                </a:lnTo>
                <a:lnTo>
                  <a:pt x="81" y="346"/>
                </a:lnTo>
                <a:lnTo>
                  <a:pt x="90" y="356"/>
                </a:lnTo>
                <a:lnTo>
                  <a:pt x="99" y="365"/>
                </a:lnTo>
                <a:lnTo>
                  <a:pt x="109" y="373"/>
                </a:lnTo>
                <a:lnTo>
                  <a:pt x="119" y="379"/>
                </a:lnTo>
                <a:lnTo>
                  <a:pt x="129" y="384"/>
                </a:lnTo>
                <a:lnTo>
                  <a:pt x="141" y="388"/>
                </a:lnTo>
                <a:lnTo>
                  <a:pt x="153" y="389"/>
                </a:lnTo>
                <a:lnTo>
                  <a:pt x="165" y="390"/>
                </a:lnTo>
                <a:lnTo>
                  <a:pt x="178" y="389"/>
                </a:lnTo>
                <a:lnTo>
                  <a:pt x="190" y="388"/>
                </a:lnTo>
                <a:lnTo>
                  <a:pt x="201" y="384"/>
                </a:lnTo>
                <a:lnTo>
                  <a:pt x="212" y="379"/>
                </a:lnTo>
                <a:lnTo>
                  <a:pt x="223" y="373"/>
                </a:lnTo>
                <a:lnTo>
                  <a:pt x="232" y="365"/>
                </a:lnTo>
                <a:lnTo>
                  <a:pt x="241" y="356"/>
                </a:lnTo>
                <a:lnTo>
                  <a:pt x="250" y="345"/>
                </a:lnTo>
                <a:lnTo>
                  <a:pt x="258" y="334"/>
                </a:lnTo>
                <a:lnTo>
                  <a:pt x="264" y="321"/>
                </a:lnTo>
                <a:lnTo>
                  <a:pt x="270" y="307"/>
                </a:lnTo>
                <a:lnTo>
                  <a:pt x="274" y="292"/>
                </a:lnTo>
                <a:lnTo>
                  <a:pt x="278" y="275"/>
                </a:lnTo>
                <a:lnTo>
                  <a:pt x="281" y="258"/>
                </a:lnTo>
                <a:lnTo>
                  <a:pt x="282" y="239"/>
                </a:lnTo>
                <a:lnTo>
                  <a:pt x="283" y="219"/>
                </a:lnTo>
                <a:lnTo>
                  <a:pt x="282" y="207"/>
                </a:lnTo>
                <a:lnTo>
                  <a:pt x="282" y="194"/>
                </a:lnTo>
                <a:lnTo>
                  <a:pt x="281" y="182"/>
                </a:lnTo>
                <a:lnTo>
                  <a:pt x="279" y="170"/>
                </a:lnTo>
                <a:lnTo>
                  <a:pt x="277" y="159"/>
                </a:lnTo>
                <a:lnTo>
                  <a:pt x="275" y="149"/>
                </a:lnTo>
                <a:lnTo>
                  <a:pt x="272" y="138"/>
                </a:lnTo>
                <a:lnTo>
                  <a:pt x="269" y="129"/>
                </a:lnTo>
                <a:lnTo>
                  <a:pt x="265" y="119"/>
                </a:lnTo>
                <a:lnTo>
                  <a:pt x="261" y="111"/>
                </a:lnTo>
                <a:lnTo>
                  <a:pt x="256" y="102"/>
                </a:lnTo>
                <a:lnTo>
                  <a:pt x="251" y="94"/>
                </a:lnTo>
                <a:lnTo>
                  <a:pt x="246" y="87"/>
                </a:lnTo>
                <a:lnTo>
                  <a:pt x="240" y="81"/>
                </a:lnTo>
                <a:lnTo>
                  <a:pt x="234" y="74"/>
                </a:lnTo>
                <a:lnTo>
                  <a:pt x="228" y="69"/>
                </a:lnTo>
                <a:lnTo>
                  <a:pt x="220" y="64"/>
                </a:lnTo>
                <a:lnTo>
                  <a:pt x="213" y="59"/>
                </a:lnTo>
                <a:lnTo>
                  <a:pt x="205" y="56"/>
                </a:lnTo>
                <a:lnTo>
                  <a:pt x="198" y="53"/>
                </a:lnTo>
                <a:lnTo>
                  <a:pt x="190" y="51"/>
                </a:lnTo>
                <a:lnTo>
                  <a:pt x="182" y="49"/>
                </a:lnTo>
                <a:lnTo>
                  <a:pt x="174" y="48"/>
                </a:lnTo>
                <a:lnTo>
                  <a:pt x="166" y="48"/>
                </a:lnTo>
                <a:lnTo>
                  <a:pt x="154" y="48"/>
                </a:lnTo>
                <a:lnTo>
                  <a:pt x="142" y="51"/>
                </a:lnTo>
                <a:lnTo>
                  <a:pt x="131" y="53"/>
                </a:lnTo>
                <a:lnTo>
                  <a:pt x="121" y="58"/>
                </a:lnTo>
                <a:lnTo>
                  <a:pt x="111" y="63"/>
                </a:lnTo>
                <a:lnTo>
                  <a:pt x="101" y="71"/>
                </a:lnTo>
                <a:lnTo>
                  <a:pt x="92" y="79"/>
                </a:lnTo>
                <a:lnTo>
                  <a:pt x="83" y="88"/>
                </a:lnTo>
                <a:lnTo>
                  <a:pt x="74" y="99"/>
                </a:lnTo>
                <a:lnTo>
                  <a:pt x="67" y="112"/>
                </a:lnTo>
                <a:lnTo>
                  <a:pt x="61" y="127"/>
                </a:lnTo>
                <a:lnTo>
                  <a:pt x="56" y="143"/>
                </a:lnTo>
                <a:lnTo>
                  <a:pt x="52" y="161"/>
                </a:lnTo>
                <a:lnTo>
                  <a:pt x="50" y="180"/>
                </a:lnTo>
                <a:lnTo>
                  <a:pt x="48" y="202"/>
                </a:lnTo>
                <a:lnTo>
                  <a:pt x="47" y="2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88280" y="1636560"/>
            <a:ext cx="174600" cy="168480"/>
          </a:xfrm>
          <a:custGeom>
            <a:avLst/>
            <a:gdLst/>
            <a:ahLst/>
            <a:rect l="l" t="t" r="r" b="b"/>
            <a:pathLst>
              <a:path w="329" h="425">
                <a:moveTo>
                  <a:pt x="0" y="425"/>
                </a:moveTo>
                <a:lnTo>
                  <a:pt x="0" y="0"/>
                </a:lnTo>
                <a:lnTo>
                  <a:pt x="69" y="0"/>
                </a:lnTo>
                <a:lnTo>
                  <a:pt x="151" y="301"/>
                </a:lnTo>
                <a:lnTo>
                  <a:pt x="153" y="311"/>
                </a:lnTo>
                <a:lnTo>
                  <a:pt x="156" y="320"/>
                </a:lnTo>
                <a:lnTo>
                  <a:pt x="158" y="329"/>
                </a:lnTo>
                <a:lnTo>
                  <a:pt x="160" y="337"/>
                </a:lnTo>
                <a:lnTo>
                  <a:pt x="162" y="345"/>
                </a:lnTo>
                <a:lnTo>
                  <a:pt x="164" y="351"/>
                </a:lnTo>
                <a:lnTo>
                  <a:pt x="165" y="357"/>
                </a:lnTo>
                <a:lnTo>
                  <a:pt x="167" y="364"/>
                </a:lnTo>
                <a:lnTo>
                  <a:pt x="168" y="357"/>
                </a:lnTo>
                <a:lnTo>
                  <a:pt x="170" y="351"/>
                </a:lnTo>
                <a:lnTo>
                  <a:pt x="172" y="344"/>
                </a:lnTo>
                <a:lnTo>
                  <a:pt x="174" y="335"/>
                </a:lnTo>
                <a:lnTo>
                  <a:pt x="177" y="326"/>
                </a:lnTo>
                <a:lnTo>
                  <a:pt x="179" y="316"/>
                </a:lnTo>
                <a:lnTo>
                  <a:pt x="182" y="306"/>
                </a:lnTo>
                <a:lnTo>
                  <a:pt x="185" y="295"/>
                </a:lnTo>
                <a:lnTo>
                  <a:pt x="268" y="0"/>
                </a:lnTo>
                <a:lnTo>
                  <a:pt x="329" y="0"/>
                </a:lnTo>
                <a:lnTo>
                  <a:pt x="329" y="425"/>
                </a:lnTo>
                <a:lnTo>
                  <a:pt x="285" y="425"/>
                </a:lnTo>
                <a:lnTo>
                  <a:pt x="285" y="69"/>
                </a:lnTo>
                <a:lnTo>
                  <a:pt x="185" y="425"/>
                </a:lnTo>
                <a:lnTo>
                  <a:pt x="144" y="425"/>
                </a:lnTo>
                <a:lnTo>
                  <a:pt x="44" y="64"/>
                </a:lnTo>
                <a:lnTo>
                  <a:pt x="44" y="425"/>
                </a:lnTo>
                <a:lnTo>
                  <a:pt x="0" y="4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81960" y="1636560"/>
            <a:ext cx="169920" cy="168480"/>
          </a:xfrm>
          <a:custGeom>
            <a:avLst/>
            <a:gdLst/>
            <a:ahLst/>
            <a:rect l="l" t="t" r="r" b="b"/>
            <a:pathLst>
              <a:path w="322" h="425">
                <a:moveTo>
                  <a:pt x="0" y="425"/>
                </a:moveTo>
                <a:lnTo>
                  <a:pt x="132" y="0"/>
                </a:lnTo>
                <a:lnTo>
                  <a:pt x="181" y="0"/>
                </a:lnTo>
                <a:lnTo>
                  <a:pt x="322" y="425"/>
                </a:lnTo>
                <a:lnTo>
                  <a:pt x="271" y="425"/>
                </a:lnTo>
                <a:lnTo>
                  <a:pt x="230" y="296"/>
                </a:lnTo>
                <a:lnTo>
                  <a:pt x="86" y="296"/>
                </a:lnTo>
                <a:lnTo>
                  <a:pt x="49" y="425"/>
                </a:lnTo>
                <a:lnTo>
                  <a:pt x="0" y="425"/>
                </a:lnTo>
                <a:close/>
                <a:moveTo>
                  <a:pt x="99" y="250"/>
                </a:moveTo>
                <a:lnTo>
                  <a:pt x="216" y="250"/>
                </a:lnTo>
                <a:lnTo>
                  <a:pt x="180" y="133"/>
                </a:lnTo>
                <a:lnTo>
                  <a:pt x="176" y="120"/>
                </a:lnTo>
                <a:lnTo>
                  <a:pt x="172" y="108"/>
                </a:lnTo>
                <a:lnTo>
                  <a:pt x="169" y="95"/>
                </a:lnTo>
                <a:lnTo>
                  <a:pt x="166" y="84"/>
                </a:lnTo>
                <a:lnTo>
                  <a:pt x="163" y="74"/>
                </a:lnTo>
                <a:lnTo>
                  <a:pt x="160" y="64"/>
                </a:lnTo>
                <a:lnTo>
                  <a:pt x="158" y="54"/>
                </a:lnTo>
                <a:lnTo>
                  <a:pt x="156" y="45"/>
                </a:lnTo>
                <a:lnTo>
                  <a:pt x="154" y="55"/>
                </a:lnTo>
                <a:lnTo>
                  <a:pt x="152" y="65"/>
                </a:lnTo>
                <a:lnTo>
                  <a:pt x="150" y="75"/>
                </a:lnTo>
                <a:lnTo>
                  <a:pt x="148" y="85"/>
                </a:lnTo>
                <a:lnTo>
                  <a:pt x="145" y="95"/>
                </a:lnTo>
                <a:lnTo>
                  <a:pt x="143" y="106"/>
                </a:lnTo>
                <a:lnTo>
                  <a:pt x="140" y="116"/>
                </a:lnTo>
                <a:lnTo>
                  <a:pt x="137" y="126"/>
                </a:lnTo>
                <a:lnTo>
                  <a:pt x="99" y="2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770960" y="1636560"/>
            <a:ext cx="144360" cy="168480"/>
          </a:xfrm>
          <a:custGeom>
            <a:avLst/>
            <a:gdLst/>
            <a:ahLst/>
            <a:rect l="l" t="t" r="r" b="b"/>
            <a:pathLst>
              <a:path w="272" h="425">
                <a:moveTo>
                  <a:pt x="0" y="425"/>
                </a:moveTo>
                <a:lnTo>
                  <a:pt x="0" y="0"/>
                </a:lnTo>
                <a:lnTo>
                  <a:pt x="46" y="0"/>
                </a:lnTo>
                <a:lnTo>
                  <a:pt x="228" y="334"/>
                </a:lnTo>
                <a:lnTo>
                  <a:pt x="228" y="0"/>
                </a:lnTo>
                <a:lnTo>
                  <a:pt x="272" y="0"/>
                </a:lnTo>
                <a:lnTo>
                  <a:pt x="272" y="425"/>
                </a:lnTo>
                <a:lnTo>
                  <a:pt x="225" y="425"/>
                </a:lnTo>
                <a:lnTo>
                  <a:pt x="43" y="91"/>
                </a:lnTo>
                <a:lnTo>
                  <a:pt x="43" y="425"/>
                </a:lnTo>
                <a:lnTo>
                  <a:pt x="0" y="4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42320" y="1636560"/>
            <a:ext cx="144360" cy="168480"/>
          </a:xfrm>
          <a:custGeom>
            <a:avLst/>
            <a:gdLst/>
            <a:ahLst/>
            <a:rect l="l" t="t" r="r" b="b"/>
            <a:pathLst>
              <a:path w="273" h="425">
                <a:moveTo>
                  <a:pt x="114" y="425"/>
                </a:moveTo>
                <a:lnTo>
                  <a:pt x="114" y="50"/>
                </a:lnTo>
                <a:lnTo>
                  <a:pt x="0" y="50"/>
                </a:lnTo>
                <a:lnTo>
                  <a:pt x="0" y="0"/>
                </a:lnTo>
                <a:lnTo>
                  <a:pt x="273" y="0"/>
                </a:lnTo>
                <a:lnTo>
                  <a:pt x="273" y="50"/>
                </a:lnTo>
                <a:lnTo>
                  <a:pt x="159" y="50"/>
                </a:lnTo>
                <a:lnTo>
                  <a:pt x="159" y="425"/>
                </a:lnTo>
                <a:lnTo>
                  <a:pt x="114" y="4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9280" y="1633680"/>
            <a:ext cx="174600" cy="174600"/>
          </a:xfrm>
          <a:custGeom>
            <a:avLst/>
            <a:gdLst/>
            <a:ahLst/>
            <a:rect l="l" t="t" r="r" b="b"/>
            <a:pathLst>
              <a:path w="330" h="439">
                <a:moveTo>
                  <a:pt x="0" y="225"/>
                </a:moveTo>
                <a:lnTo>
                  <a:pt x="1" y="200"/>
                </a:lnTo>
                <a:lnTo>
                  <a:pt x="3" y="175"/>
                </a:lnTo>
                <a:lnTo>
                  <a:pt x="7" y="152"/>
                </a:lnTo>
                <a:lnTo>
                  <a:pt x="13" y="131"/>
                </a:lnTo>
                <a:lnTo>
                  <a:pt x="19" y="111"/>
                </a:lnTo>
                <a:lnTo>
                  <a:pt x="27" y="92"/>
                </a:lnTo>
                <a:lnTo>
                  <a:pt x="36" y="75"/>
                </a:lnTo>
                <a:lnTo>
                  <a:pt x="47" y="60"/>
                </a:lnTo>
                <a:lnTo>
                  <a:pt x="58" y="46"/>
                </a:lnTo>
                <a:lnTo>
                  <a:pt x="71" y="34"/>
                </a:lnTo>
                <a:lnTo>
                  <a:pt x="85" y="24"/>
                </a:lnTo>
                <a:lnTo>
                  <a:pt x="100" y="15"/>
                </a:lnTo>
                <a:lnTo>
                  <a:pt x="115" y="9"/>
                </a:lnTo>
                <a:lnTo>
                  <a:pt x="131" y="4"/>
                </a:lnTo>
                <a:lnTo>
                  <a:pt x="147" y="1"/>
                </a:lnTo>
                <a:lnTo>
                  <a:pt x="166" y="0"/>
                </a:lnTo>
                <a:lnTo>
                  <a:pt x="178" y="0"/>
                </a:lnTo>
                <a:lnTo>
                  <a:pt x="189" y="1"/>
                </a:lnTo>
                <a:lnTo>
                  <a:pt x="200" y="4"/>
                </a:lnTo>
                <a:lnTo>
                  <a:pt x="211" y="7"/>
                </a:lnTo>
                <a:lnTo>
                  <a:pt x="221" y="11"/>
                </a:lnTo>
                <a:lnTo>
                  <a:pt x="232" y="16"/>
                </a:lnTo>
                <a:lnTo>
                  <a:pt x="242" y="21"/>
                </a:lnTo>
                <a:lnTo>
                  <a:pt x="252" y="29"/>
                </a:lnTo>
                <a:lnTo>
                  <a:pt x="261" y="35"/>
                </a:lnTo>
                <a:lnTo>
                  <a:pt x="269" y="44"/>
                </a:lnTo>
                <a:lnTo>
                  <a:pt x="277" y="52"/>
                </a:lnTo>
                <a:lnTo>
                  <a:pt x="285" y="61"/>
                </a:lnTo>
                <a:lnTo>
                  <a:pt x="292" y="72"/>
                </a:lnTo>
                <a:lnTo>
                  <a:pt x="299" y="82"/>
                </a:lnTo>
                <a:lnTo>
                  <a:pt x="305" y="93"/>
                </a:lnTo>
                <a:lnTo>
                  <a:pt x="310" y="106"/>
                </a:lnTo>
                <a:lnTo>
                  <a:pt x="315" y="118"/>
                </a:lnTo>
                <a:lnTo>
                  <a:pt x="319" y="132"/>
                </a:lnTo>
                <a:lnTo>
                  <a:pt x="322" y="146"/>
                </a:lnTo>
                <a:lnTo>
                  <a:pt x="325" y="160"/>
                </a:lnTo>
                <a:lnTo>
                  <a:pt x="327" y="175"/>
                </a:lnTo>
                <a:lnTo>
                  <a:pt x="329" y="190"/>
                </a:lnTo>
                <a:lnTo>
                  <a:pt x="330" y="205"/>
                </a:lnTo>
                <a:lnTo>
                  <a:pt x="330" y="220"/>
                </a:lnTo>
                <a:lnTo>
                  <a:pt x="330" y="236"/>
                </a:lnTo>
                <a:lnTo>
                  <a:pt x="329" y="252"/>
                </a:lnTo>
                <a:lnTo>
                  <a:pt x="327" y="267"/>
                </a:lnTo>
                <a:lnTo>
                  <a:pt x="325" y="281"/>
                </a:lnTo>
                <a:lnTo>
                  <a:pt x="322" y="296"/>
                </a:lnTo>
                <a:lnTo>
                  <a:pt x="318" y="309"/>
                </a:lnTo>
                <a:lnTo>
                  <a:pt x="314" y="322"/>
                </a:lnTo>
                <a:lnTo>
                  <a:pt x="309" y="336"/>
                </a:lnTo>
                <a:lnTo>
                  <a:pt x="304" y="348"/>
                </a:lnTo>
                <a:lnTo>
                  <a:pt x="297" y="359"/>
                </a:lnTo>
                <a:lnTo>
                  <a:pt x="290" y="371"/>
                </a:lnTo>
                <a:lnTo>
                  <a:pt x="283" y="380"/>
                </a:lnTo>
                <a:lnTo>
                  <a:pt x="275" y="389"/>
                </a:lnTo>
                <a:lnTo>
                  <a:pt x="267" y="398"/>
                </a:lnTo>
                <a:lnTo>
                  <a:pt x="258" y="405"/>
                </a:lnTo>
                <a:lnTo>
                  <a:pt x="249" y="413"/>
                </a:lnTo>
                <a:lnTo>
                  <a:pt x="239" y="419"/>
                </a:lnTo>
                <a:lnTo>
                  <a:pt x="230" y="424"/>
                </a:lnTo>
                <a:lnTo>
                  <a:pt x="219" y="428"/>
                </a:lnTo>
                <a:lnTo>
                  <a:pt x="208" y="432"/>
                </a:lnTo>
                <a:lnTo>
                  <a:pt x="198" y="435"/>
                </a:lnTo>
                <a:lnTo>
                  <a:pt x="187" y="437"/>
                </a:lnTo>
                <a:lnTo>
                  <a:pt x="177" y="438"/>
                </a:lnTo>
                <a:lnTo>
                  <a:pt x="166" y="439"/>
                </a:lnTo>
                <a:lnTo>
                  <a:pt x="154" y="438"/>
                </a:lnTo>
                <a:lnTo>
                  <a:pt x="141" y="437"/>
                </a:lnTo>
                <a:lnTo>
                  <a:pt x="130" y="434"/>
                </a:lnTo>
                <a:lnTo>
                  <a:pt x="119" y="432"/>
                </a:lnTo>
                <a:lnTo>
                  <a:pt x="109" y="428"/>
                </a:lnTo>
                <a:lnTo>
                  <a:pt x="98" y="423"/>
                </a:lnTo>
                <a:lnTo>
                  <a:pt x="89" y="417"/>
                </a:lnTo>
                <a:lnTo>
                  <a:pt x="78" y="409"/>
                </a:lnTo>
                <a:lnTo>
                  <a:pt x="69" y="402"/>
                </a:lnTo>
                <a:lnTo>
                  <a:pt x="60" y="394"/>
                </a:lnTo>
                <a:lnTo>
                  <a:pt x="52" y="385"/>
                </a:lnTo>
                <a:lnTo>
                  <a:pt x="45" y="375"/>
                </a:lnTo>
                <a:lnTo>
                  <a:pt x="38" y="366"/>
                </a:lnTo>
                <a:lnTo>
                  <a:pt x="32" y="354"/>
                </a:lnTo>
                <a:lnTo>
                  <a:pt x="26" y="343"/>
                </a:lnTo>
                <a:lnTo>
                  <a:pt x="21" y="331"/>
                </a:lnTo>
                <a:lnTo>
                  <a:pt x="16" y="318"/>
                </a:lnTo>
                <a:lnTo>
                  <a:pt x="12" y="306"/>
                </a:lnTo>
                <a:lnTo>
                  <a:pt x="9" y="292"/>
                </a:lnTo>
                <a:lnTo>
                  <a:pt x="5" y="279"/>
                </a:lnTo>
                <a:lnTo>
                  <a:pt x="3" y="266"/>
                </a:lnTo>
                <a:lnTo>
                  <a:pt x="1" y="252"/>
                </a:lnTo>
                <a:lnTo>
                  <a:pt x="1" y="238"/>
                </a:lnTo>
                <a:lnTo>
                  <a:pt x="0" y="225"/>
                </a:lnTo>
                <a:close/>
                <a:moveTo>
                  <a:pt x="48" y="226"/>
                </a:moveTo>
                <a:lnTo>
                  <a:pt x="48" y="244"/>
                </a:lnTo>
                <a:lnTo>
                  <a:pt x="50" y="262"/>
                </a:lnTo>
                <a:lnTo>
                  <a:pt x="52" y="278"/>
                </a:lnTo>
                <a:lnTo>
                  <a:pt x="56" y="294"/>
                </a:lnTo>
                <a:lnTo>
                  <a:pt x="60" y="309"/>
                </a:lnTo>
                <a:lnTo>
                  <a:pt x="66" y="322"/>
                </a:lnTo>
                <a:lnTo>
                  <a:pt x="73" y="336"/>
                </a:lnTo>
                <a:lnTo>
                  <a:pt x="82" y="347"/>
                </a:lnTo>
                <a:lnTo>
                  <a:pt x="90" y="357"/>
                </a:lnTo>
                <a:lnTo>
                  <a:pt x="99" y="366"/>
                </a:lnTo>
                <a:lnTo>
                  <a:pt x="109" y="373"/>
                </a:lnTo>
                <a:lnTo>
                  <a:pt x="119" y="379"/>
                </a:lnTo>
                <a:lnTo>
                  <a:pt x="129" y="384"/>
                </a:lnTo>
                <a:lnTo>
                  <a:pt x="141" y="388"/>
                </a:lnTo>
                <a:lnTo>
                  <a:pt x="152" y="390"/>
                </a:lnTo>
                <a:lnTo>
                  <a:pt x="165" y="390"/>
                </a:lnTo>
                <a:lnTo>
                  <a:pt x="178" y="390"/>
                </a:lnTo>
                <a:lnTo>
                  <a:pt x="190" y="388"/>
                </a:lnTo>
                <a:lnTo>
                  <a:pt x="201" y="384"/>
                </a:lnTo>
                <a:lnTo>
                  <a:pt x="212" y="379"/>
                </a:lnTo>
                <a:lnTo>
                  <a:pt x="222" y="373"/>
                </a:lnTo>
                <a:lnTo>
                  <a:pt x="232" y="366"/>
                </a:lnTo>
                <a:lnTo>
                  <a:pt x="241" y="357"/>
                </a:lnTo>
                <a:lnTo>
                  <a:pt x="250" y="346"/>
                </a:lnTo>
                <a:lnTo>
                  <a:pt x="258" y="334"/>
                </a:lnTo>
                <a:lnTo>
                  <a:pt x="264" y="322"/>
                </a:lnTo>
                <a:lnTo>
                  <a:pt x="270" y="307"/>
                </a:lnTo>
                <a:lnTo>
                  <a:pt x="275" y="292"/>
                </a:lnTo>
                <a:lnTo>
                  <a:pt x="278" y="276"/>
                </a:lnTo>
                <a:lnTo>
                  <a:pt x="281" y="258"/>
                </a:lnTo>
                <a:lnTo>
                  <a:pt x="282" y="239"/>
                </a:lnTo>
                <a:lnTo>
                  <a:pt x="283" y="220"/>
                </a:lnTo>
                <a:lnTo>
                  <a:pt x="283" y="207"/>
                </a:lnTo>
                <a:lnTo>
                  <a:pt x="282" y="195"/>
                </a:lnTo>
                <a:lnTo>
                  <a:pt x="281" y="183"/>
                </a:lnTo>
                <a:lnTo>
                  <a:pt x="279" y="171"/>
                </a:lnTo>
                <a:lnTo>
                  <a:pt x="277" y="160"/>
                </a:lnTo>
                <a:lnTo>
                  <a:pt x="275" y="150"/>
                </a:lnTo>
                <a:lnTo>
                  <a:pt x="272" y="140"/>
                </a:lnTo>
                <a:lnTo>
                  <a:pt x="269" y="130"/>
                </a:lnTo>
                <a:lnTo>
                  <a:pt x="265" y="120"/>
                </a:lnTo>
                <a:lnTo>
                  <a:pt x="261" y="111"/>
                </a:lnTo>
                <a:lnTo>
                  <a:pt x="256" y="102"/>
                </a:lnTo>
                <a:lnTo>
                  <a:pt x="251" y="95"/>
                </a:lnTo>
                <a:lnTo>
                  <a:pt x="246" y="87"/>
                </a:lnTo>
                <a:lnTo>
                  <a:pt x="240" y="81"/>
                </a:lnTo>
                <a:lnTo>
                  <a:pt x="234" y="75"/>
                </a:lnTo>
                <a:lnTo>
                  <a:pt x="228" y="70"/>
                </a:lnTo>
                <a:lnTo>
                  <a:pt x="220" y="65"/>
                </a:lnTo>
                <a:lnTo>
                  <a:pt x="213" y="60"/>
                </a:lnTo>
                <a:lnTo>
                  <a:pt x="206" y="56"/>
                </a:lnTo>
                <a:lnTo>
                  <a:pt x="198" y="54"/>
                </a:lnTo>
                <a:lnTo>
                  <a:pt x="190" y="51"/>
                </a:lnTo>
                <a:lnTo>
                  <a:pt x="183" y="50"/>
                </a:lnTo>
                <a:lnTo>
                  <a:pt x="174" y="49"/>
                </a:lnTo>
                <a:lnTo>
                  <a:pt x="166" y="49"/>
                </a:lnTo>
                <a:lnTo>
                  <a:pt x="154" y="49"/>
                </a:lnTo>
                <a:lnTo>
                  <a:pt x="142" y="51"/>
                </a:lnTo>
                <a:lnTo>
                  <a:pt x="131" y="54"/>
                </a:lnTo>
                <a:lnTo>
                  <a:pt x="121" y="59"/>
                </a:lnTo>
                <a:lnTo>
                  <a:pt x="111" y="65"/>
                </a:lnTo>
                <a:lnTo>
                  <a:pt x="101" y="71"/>
                </a:lnTo>
                <a:lnTo>
                  <a:pt x="92" y="80"/>
                </a:lnTo>
                <a:lnTo>
                  <a:pt x="83" y="90"/>
                </a:lnTo>
                <a:lnTo>
                  <a:pt x="74" y="100"/>
                </a:lnTo>
                <a:lnTo>
                  <a:pt x="67" y="113"/>
                </a:lnTo>
                <a:lnTo>
                  <a:pt x="61" y="127"/>
                </a:lnTo>
                <a:lnTo>
                  <a:pt x="56" y="143"/>
                </a:lnTo>
                <a:lnTo>
                  <a:pt x="52" y="162"/>
                </a:lnTo>
                <a:lnTo>
                  <a:pt x="50" y="181"/>
                </a:lnTo>
                <a:lnTo>
                  <a:pt x="48" y="203"/>
                </a:lnTo>
                <a:lnTo>
                  <a:pt x="48" y="22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86840" y="1636560"/>
            <a:ext cx="166680" cy="168480"/>
          </a:xfrm>
          <a:custGeom>
            <a:avLst/>
            <a:gdLst/>
            <a:ahLst/>
            <a:rect l="l" t="t" r="r" b="b"/>
            <a:pathLst>
              <a:path w="315" h="425">
                <a:moveTo>
                  <a:pt x="133" y="425"/>
                </a:moveTo>
                <a:lnTo>
                  <a:pt x="0" y="0"/>
                </a:lnTo>
                <a:lnTo>
                  <a:pt x="49" y="0"/>
                </a:lnTo>
                <a:lnTo>
                  <a:pt x="139" y="309"/>
                </a:lnTo>
                <a:lnTo>
                  <a:pt x="141" y="317"/>
                </a:lnTo>
                <a:lnTo>
                  <a:pt x="144" y="326"/>
                </a:lnTo>
                <a:lnTo>
                  <a:pt x="146" y="336"/>
                </a:lnTo>
                <a:lnTo>
                  <a:pt x="148" y="345"/>
                </a:lnTo>
                <a:lnTo>
                  <a:pt x="150" y="352"/>
                </a:lnTo>
                <a:lnTo>
                  <a:pt x="153" y="361"/>
                </a:lnTo>
                <a:lnTo>
                  <a:pt x="155" y="370"/>
                </a:lnTo>
                <a:lnTo>
                  <a:pt x="156" y="377"/>
                </a:lnTo>
                <a:lnTo>
                  <a:pt x="158" y="370"/>
                </a:lnTo>
                <a:lnTo>
                  <a:pt x="160" y="361"/>
                </a:lnTo>
                <a:lnTo>
                  <a:pt x="164" y="352"/>
                </a:lnTo>
                <a:lnTo>
                  <a:pt x="166" y="344"/>
                </a:lnTo>
                <a:lnTo>
                  <a:pt x="168" y="335"/>
                </a:lnTo>
                <a:lnTo>
                  <a:pt x="171" y="326"/>
                </a:lnTo>
                <a:lnTo>
                  <a:pt x="173" y="317"/>
                </a:lnTo>
                <a:lnTo>
                  <a:pt x="176" y="309"/>
                </a:lnTo>
                <a:lnTo>
                  <a:pt x="268" y="0"/>
                </a:lnTo>
                <a:lnTo>
                  <a:pt x="315" y="0"/>
                </a:lnTo>
                <a:lnTo>
                  <a:pt x="180" y="425"/>
                </a:lnTo>
                <a:lnTo>
                  <a:pt x="133" y="4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435880" y="1636560"/>
            <a:ext cx="169920" cy="168480"/>
          </a:xfrm>
          <a:custGeom>
            <a:avLst/>
            <a:gdLst/>
            <a:ahLst/>
            <a:rect l="l" t="t" r="r" b="b"/>
            <a:pathLst>
              <a:path w="323" h="425">
                <a:moveTo>
                  <a:pt x="0" y="425"/>
                </a:moveTo>
                <a:lnTo>
                  <a:pt x="133" y="0"/>
                </a:lnTo>
                <a:lnTo>
                  <a:pt x="182" y="0"/>
                </a:lnTo>
                <a:lnTo>
                  <a:pt x="323" y="425"/>
                </a:lnTo>
                <a:lnTo>
                  <a:pt x="271" y="425"/>
                </a:lnTo>
                <a:lnTo>
                  <a:pt x="230" y="296"/>
                </a:lnTo>
                <a:lnTo>
                  <a:pt x="86" y="296"/>
                </a:lnTo>
                <a:lnTo>
                  <a:pt x="49" y="425"/>
                </a:lnTo>
                <a:lnTo>
                  <a:pt x="0" y="425"/>
                </a:lnTo>
                <a:close/>
                <a:moveTo>
                  <a:pt x="100" y="250"/>
                </a:moveTo>
                <a:lnTo>
                  <a:pt x="216" y="250"/>
                </a:lnTo>
                <a:lnTo>
                  <a:pt x="181" y="133"/>
                </a:lnTo>
                <a:lnTo>
                  <a:pt x="177" y="120"/>
                </a:lnTo>
                <a:lnTo>
                  <a:pt x="173" y="108"/>
                </a:lnTo>
                <a:lnTo>
                  <a:pt x="170" y="95"/>
                </a:lnTo>
                <a:lnTo>
                  <a:pt x="166" y="84"/>
                </a:lnTo>
                <a:lnTo>
                  <a:pt x="163" y="74"/>
                </a:lnTo>
                <a:lnTo>
                  <a:pt x="160" y="64"/>
                </a:lnTo>
                <a:lnTo>
                  <a:pt x="158" y="54"/>
                </a:lnTo>
                <a:lnTo>
                  <a:pt x="156" y="45"/>
                </a:lnTo>
                <a:lnTo>
                  <a:pt x="154" y="55"/>
                </a:lnTo>
                <a:lnTo>
                  <a:pt x="152" y="65"/>
                </a:lnTo>
                <a:lnTo>
                  <a:pt x="150" y="75"/>
                </a:lnTo>
                <a:lnTo>
                  <a:pt x="148" y="85"/>
                </a:lnTo>
                <a:lnTo>
                  <a:pt x="146" y="95"/>
                </a:lnTo>
                <a:lnTo>
                  <a:pt x="143" y="106"/>
                </a:lnTo>
                <a:lnTo>
                  <a:pt x="140" y="116"/>
                </a:lnTo>
                <a:lnTo>
                  <a:pt x="137" y="126"/>
                </a:lnTo>
                <a:lnTo>
                  <a:pt x="100" y="2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66040" y="639720"/>
            <a:ext cx="96840" cy="115920"/>
          </a:xfrm>
          <a:custGeom>
            <a:avLst/>
            <a:gdLst/>
            <a:ahLst/>
            <a:rect l="l" t="t" r="r" b="b"/>
            <a:pathLst>
              <a:path w="183" h="292">
                <a:moveTo>
                  <a:pt x="0" y="196"/>
                </a:moveTo>
                <a:lnTo>
                  <a:pt x="29" y="193"/>
                </a:lnTo>
                <a:lnTo>
                  <a:pt x="30" y="198"/>
                </a:lnTo>
                <a:lnTo>
                  <a:pt x="30" y="203"/>
                </a:lnTo>
                <a:lnTo>
                  <a:pt x="31" y="208"/>
                </a:lnTo>
                <a:lnTo>
                  <a:pt x="32" y="212"/>
                </a:lnTo>
                <a:lnTo>
                  <a:pt x="34" y="217"/>
                </a:lnTo>
                <a:lnTo>
                  <a:pt x="35" y="221"/>
                </a:lnTo>
                <a:lnTo>
                  <a:pt x="37" y="225"/>
                </a:lnTo>
                <a:lnTo>
                  <a:pt x="38" y="228"/>
                </a:lnTo>
                <a:lnTo>
                  <a:pt x="40" y="231"/>
                </a:lnTo>
                <a:lnTo>
                  <a:pt x="42" y="235"/>
                </a:lnTo>
                <a:lnTo>
                  <a:pt x="45" y="237"/>
                </a:lnTo>
                <a:lnTo>
                  <a:pt x="48" y="240"/>
                </a:lnTo>
                <a:lnTo>
                  <a:pt x="51" y="243"/>
                </a:lnTo>
                <a:lnTo>
                  <a:pt x="54" y="246"/>
                </a:lnTo>
                <a:lnTo>
                  <a:pt x="57" y="247"/>
                </a:lnTo>
                <a:lnTo>
                  <a:pt x="61" y="250"/>
                </a:lnTo>
                <a:lnTo>
                  <a:pt x="65" y="252"/>
                </a:lnTo>
                <a:lnTo>
                  <a:pt x="69" y="253"/>
                </a:lnTo>
                <a:lnTo>
                  <a:pt x="73" y="255"/>
                </a:lnTo>
                <a:lnTo>
                  <a:pt x="77" y="256"/>
                </a:lnTo>
                <a:lnTo>
                  <a:pt x="82" y="257"/>
                </a:lnTo>
                <a:lnTo>
                  <a:pt x="87" y="258"/>
                </a:lnTo>
                <a:lnTo>
                  <a:pt x="92" y="258"/>
                </a:lnTo>
                <a:lnTo>
                  <a:pt x="97" y="258"/>
                </a:lnTo>
                <a:lnTo>
                  <a:pt x="101" y="258"/>
                </a:lnTo>
                <a:lnTo>
                  <a:pt x="105" y="258"/>
                </a:lnTo>
                <a:lnTo>
                  <a:pt x="109" y="257"/>
                </a:lnTo>
                <a:lnTo>
                  <a:pt x="113" y="257"/>
                </a:lnTo>
                <a:lnTo>
                  <a:pt x="117" y="256"/>
                </a:lnTo>
                <a:lnTo>
                  <a:pt x="120" y="255"/>
                </a:lnTo>
                <a:lnTo>
                  <a:pt x="124" y="253"/>
                </a:lnTo>
                <a:lnTo>
                  <a:pt x="127" y="252"/>
                </a:lnTo>
                <a:lnTo>
                  <a:pt x="130" y="251"/>
                </a:lnTo>
                <a:lnTo>
                  <a:pt x="133" y="248"/>
                </a:lnTo>
                <a:lnTo>
                  <a:pt x="136" y="246"/>
                </a:lnTo>
                <a:lnTo>
                  <a:pt x="139" y="245"/>
                </a:lnTo>
                <a:lnTo>
                  <a:pt x="141" y="242"/>
                </a:lnTo>
                <a:lnTo>
                  <a:pt x="143" y="240"/>
                </a:lnTo>
                <a:lnTo>
                  <a:pt x="145" y="237"/>
                </a:lnTo>
                <a:lnTo>
                  <a:pt x="147" y="235"/>
                </a:lnTo>
                <a:lnTo>
                  <a:pt x="148" y="232"/>
                </a:lnTo>
                <a:lnTo>
                  <a:pt x="149" y="228"/>
                </a:lnTo>
                <a:lnTo>
                  <a:pt x="151" y="226"/>
                </a:lnTo>
                <a:lnTo>
                  <a:pt x="151" y="223"/>
                </a:lnTo>
                <a:lnTo>
                  <a:pt x="152" y="220"/>
                </a:lnTo>
                <a:lnTo>
                  <a:pt x="153" y="217"/>
                </a:lnTo>
                <a:lnTo>
                  <a:pt x="153" y="213"/>
                </a:lnTo>
                <a:lnTo>
                  <a:pt x="153" y="210"/>
                </a:lnTo>
                <a:lnTo>
                  <a:pt x="153" y="207"/>
                </a:lnTo>
                <a:lnTo>
                  <a:pt x="153" y="203"/>
                </a:lnTo>
                <a:lnTo>
                  <a:pt x="152" y="201"/>
                </a:lnTo>
                <a:lnTo>
                  <a:pt x="152" y="197"/>
                </a:lnTo>
                <a:lnTo>
                  <a:pt x="151" y="195"/>
                </a:lnTo>
                <a:lnTo>
                  <a:pt x="150" y="192"/>
                </a:lnTo>
                <a:lnTo>
                  <a:pt x="148" y="190"/>
                </a:lnTo>
                <a:lnTo>
                  <a:pt x="147" y="187"/>
                </a:lnTo>
                <a:lnTo>
                  <a:pt x="145" y="185"/>
                </a:lnTo>
                <a:lnTo>
                  <a:pt x="143" y="182"/>
                </a:lnTo>
                <a:lnTo>
                  <a:pt x="141" y="180"/>
                </a:lnTo>
                <a:lnTo>
                  <a:pt x="139" y="178"/>
                </a:lnTo>
                <a:lnTo>
                  <a:pt x="136" y="176"/>
                </a:lnTo>
                <a:lnTo>
                  <a:pt x="133" y="173"/>
                </a:lnTo>
                <a:lnTo>
                  <a:pt x="130" y="172"/>
                </a:lnTo>
                <a:lnTo>
                  <a:pt x="126" y="171"/>
                </a:lnTo>
                <a:lnTo>
                  <a:pt x="124" y="170"/>
                </a:lnTo>
                <a:lnTo>
                  <a:pt x="121" y="167"/>
                </a:lnTo>
                <a:lnTo>
                  <a:pt x="117" y="166"/>
                </a:lnTo>
                <a:lnTo>
                  <a:pt x="112" y="165"/>
                </a:lnTo>
                <a:lnTo>
                  <a:pt x="106" y="163"/>
                </a:lnTo>
                <a:lnTo>
                  <a:pt x="100" y="161"/>
                </a:lnTo>
                <a:lnTo>
                  <a:pt x="94" y="158"/>
                </a:lnTo>
                <a:lnTo>
                  <a:pt x="86" y="156"/>
                </a:lnTo>
                <a:lnTo>
                  <a:pt x="78" y="155"/>
                </a:lnTo>
                <a:lnTo>
                  <a:pt x="71" y="152"/>
                </a:lnTo>
                <a:lnTo>
                  <a:pt x="64" y="150"/>
                </a:lnTo>
                <a:lnTo>
                  <a:pt x="59" y="147"/>
                </a:lnTo>
                <a:lnTo>
                  <a:pt x="53" y="145"/>
                </a:lnTo>
                <a:lnTo>
                  <a:pt x="49" y="143"/>
                </a:lnTo>
                <a:lnTo>
                  <a:pt x="45" y="141"/>
                </a:lnTo>
                <a:lnTo>
                  <a:pt x="41" y="138"/>
                </a:lnTo>
                <a:lnTo>
                  <a:pt x="38" y="136"/>
                </a:lnTo>
                <a:lnTo>
                  <a:pt x="34" y="133"/>
                </a:lnTo>
                <a:lnTo>
                  <a:pt x="30" y="130"/>
                </a:lnTo>
                <a:lnTo>
                  <a:pt x="27" y="127"/>
                </a:lnTo>
                <a:lnTo>
                  <a:pt x="24" y="123"/>
                </a:lnTo>
                <a:lnTo>
                  <a:pt x="22" y="120"/>
                </a:lnTo>
                <a:lnTo>
                  <a:pt x="19" y="116"/>
                </a:lnTo>
                <a:lnTo>
                  <a:pt x="17" y="112"/>
                </a:lnTo>
                <a:lnTo>
                  <a:pt x="15" y="109"/>
                </a:lnTo>
                <a:lnTo>
                  <a:pt x="14" y="105"/>
                </a:lnTo>
                <a:lnTo>
                  <a:pt x="12" y="100"/>
                </a:lnTo>
                <a:lnTo>
                  <a:pt x="10" y="96"/>
                </a:lnTo>
                <a:lnTo>
                  <a:pt x="9" y="91"/>
                </a:lnTo>
                <a:lnTo>
                  <a:pt x="9" y="87"/>
                </a:lnTo>
                <a:lnTo>
                  <a:pt x="8" y="82"/>
                </a:lnTo>
                <a:lnTo>
                  <a:pt x="8" y="77"/>
                </a:lnTo>
                <a:lnTo>
                  <a:pt x="8" y="72"/>
                </a:lnTo>
                <a:lnTo>
                  <a:pt x="9" y="67"/>
                </a:lnTo>
                <a:lnTo>
                  <a:pt x="10" y="61"/>
                </a:lnTo>
                <a:lnTo>
                  <a:pt x="12" y="56"/>
                </a:lnTo>
                <a:lnTo>
                  <a:pt x="13" y="51"/>
                </a:lnTo>
                <a:lnTo>
                  <a:pt x="15" y="47"/>
                </a:lnTo>
                <a:lnTo>
                  <a:pt x="17" y="42"/>
                </a:lnTo>
                <a:lnTo>
                  <a:pt x="19" y="37"/>
                </a:lnTo>
                <a:lnTo>
                  <a:pt x="22" y="32"/>
                </a:lnTo>
                <a:lnTo>
                  <a:pt x="24" y="29"/>
                </a:lnTo>
                <a:lnTo>
                  <a:pt x="28" y="25"/>
                </a:lnTo>
                <a:lnTo>
                  <a:pt x="31" y="21"/>
                </a:lnTo>
                <a:lnTo>
                  <a:pt x="35" y="17"/>
                </a:lnTo>
                <a:lnTo>
                  <a:pt x="39" y="15"/>
                </a:lnTo>
                <a:lnTo>
                  <a:pt x="43" y="11"/>
                </a:lnTo>
                <a:lnTo>
                  <a:pt x="47" y="9"/>
                </a:lnTo>
                <a:lnTo>
                  <a:pt x="52" y="7"/>
                </a:lnTo>
                <a:lnTo>
                  <a:pt x="57" y="5"/>
                </a:lnTo>
                <a:lnTo>
                  <a:pt x="62" y="4"/>
                </a:lnTo>
                <a:lnTo>
                  <a:pt x="67" y="2"/>
                </a:lnTo>
                <a:lnTo>
                  <a:pt x="72" y="1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1"/>
                </a:lnTo>
                <a:lnTo>
                  <a:pt x="114" y="2"/>
                </a:lnTo>
                <a:lnTo>
                  <a:pt x="119" y="4"/>
                </a:lnTo>
                <a:lnTo>
                  <a:pt x="124" y="5"/>
                </a:lnTo>
                <a:lnTo>
                  <a:pt x="130" y="7"/>
                </a:lnTo>
                <a:lnTo>
                  <a:pt x="134" y="10"/>
                </a:lnTo>
                <a:lnTo>
                  <a:pt x="139" y="12"/>
                </a:lnTo>
                <a:lnTo>
                  <a:pt x="144" y="15"/>
                </a:lnTo>
                <a:lnTo>
                  <a:pt x="148" y="19"/>
                </a:lnTo>
                <a:lnTo>
                  <a:pt x="151" y="22"/>
                </a:lnTo>
                <a:lnTo>
                  <a:pt x="155" y="26"/>
                </a:lnTo>
                <a:lnTo>
                  <a:pt x="159" y="30"/>
                </a:lnTo>
                <a:lnTo>
                  <a:pt x="162" y="35"/>
                </a:lnTo>
                <a:lnTo>
                  <a:pt x="165" y="40"/>
                </a:lnTo>
                <a:lnTo>
                  <a:pt x="167" y="45"/>
                </a:lnTo>
                <a:lnTo>
                  <a:pt x="170" y="50"/>
                </a:lnTo>
                <a:lnTo>
                  <a:pt x="171" y="55"/>
                </a:lnTo>
                <a:lnTo>
                  <a:pt x="173" y="60"/>
                </a:lnTo>
                <a:lnTo>
                  <a:pt x="174" y="66"/>
                </a:lnTo>
                <a:lnTo>
                  <a:pt x="175" y="72"/>
                </a:lnTo>
                <a:lnTo>
                  <a:pt x="176" y="77"/>
                </a:lnTo>
                <a:lnTo>
                  <a:pt x="176" y="84"/>
                </a:lnTo>
                <a:lnTo>
                  <a:pt x="146" y="86"/>
                </a:lnTo>
                <a:lnTo>
                  <a:pt x="146" y="80"/>
                </a:lnTo>
                <a:lnTo>
                  <a:pt x="145" y="74"/>
                </a:lnTo>
                <a:lnTo>
                  <a:pt x="143" y="69"/>
                </a:lnTo>
                <a:lnTo>
                  <a:pt x="141" y="64"/>
                </a:lnTo>
                <a:lnTo>
                  <a:pt x="139" y="59"/>
                </a:lnTo>
                <a:lnTo>
                  <a:pt x="137" y="54"/>
                </a:lnTo>
                <a:lnTo>
                  <a:pt x="134" y="50"/>
                </a:lnTo>
                <a:lnTo>
                  <a:pt x="131" y="46"/>
                </a:lnTo>
                <a:lnTo>
                  <a:pt x="127" y="42"/>
                </a:lnTo>
                <a:lnTo>
                  <a:pt x="123" y="40"/>
                </a:lnTo>
                <a:lnTo>
                  <a:pt x="119" y="37"/>
                </a:lnTo>
                <a:lnTo>
                  <a:pt x="114" y="36"/>
                </a:lnTo>
                <a:lnTo>
                  <a:pt x="109" y="35"/>
                </a:lnTo>
                <a:lnTo>
                  <a:pt x="104" y="34"/>
                </a:lnTo>
                <a:lnTo>
                  <a:pt x="98" y="32"/>
                </a:lnTo>
                <a:lnTo>
                  <a:pt x="91" y="32"/>
                </a:lnTo>
                <a:lnTo>
                  <a:pt x="85" y="32"/>
                </a:lnTo>
                <a:lnTo>
                  <a:pt x="78" y="34"/>
                </a:lnTo>
                <a:lnTo>
                  <a:pt x="72" y="34"/>
                </a:lnTo>
                <a:lnTo>
                  <a:pt x="67" y="36"/>
                </a:lnTo>
                <a:lnTo>
                  <a:pt x="62" y="37"/>
                </a:lnTo>
                <a:lnTo>
                  <a:pt x="58" y="40"/>
                </a:lnTo>
                <a:lnTo>
                  <a:pt x="54" y="42"/>
                </a:lnTo>
                <a:lnTo>
                  <a:pt x="51" y="45"/>
                </a:lnTo>
                <a:lnTo>
                  <a:pt x="48" y="49"/>
                </a:lnTo>
                <a:lnTo>
                  <a:pt x="45" y="51"/>
                </a:lnTo>
                <a:lnTo>
                  <a:pt x="43" y="55"/>
                </a:lnTo>
                <a:lnTo>
                  <a:pt x="41" y="59"/>
                </a:lnTo>
                <a:lnTo>
                  <a:pt x="40" y="62"/>
                </a:lnTo>
                <a:lnTo>
                  <a:pt x="39" y="66"/>
                </a:lnTo>
                <a:lnTo>
                  <a:pt x="38" y="71"/>
                </a:lnTo>
                <a:lnTo>
                  <a:pt x="38" y="75"/>
                </a:lnTo>
                <a:lnTo>
                  <a:pt x="38" y="79"/>
                </a:lnTo>
                <a:lnTo>
                  <a:pt x="39" y="82"/>
                </a:lnTo>
                <a:lnTo>
                  <a:pt x="39" y="86"/>
                </a:lnTo>
                <a:lnTo>
                  <a:pt x="40" y="89"/>
                </a:lnTo>
                <a:lnTo>
                  <a:pt x="42" y="92"/>
                </a:lnTo>
                <a:lnTo>
                  <a:pt x="43" y="95"/>
                </a:lnTo>
                <a:lnTo>
                  <a:pt x="45" y="97"/>
                </a:lnTo>
                <a:lnTo>
                  <a:pt x="47" y="100"/>
                </a:lnTo>
                <a:lnTo>
                  <a:pt x="50" y="102"/>
                </a:lnTo>
                <a:lnTo>
                  <a:pt x="53" y="105"/>
                </a:lnTo>
                <a:lnTo>
                  <a:pt x="57" y="107"/>
                </a:lnTo>
                <a:lnTo>
                  <a:pt x="63" y="110"/>
                </a:lnTo>
                <a:lnTo>
                  <a:pt x="69" y="112"/>
                </a:lnTo>
                <a:lnTo>
                  <a:pt x="76" y="115"/>
                </a:lnTo>
                <a:lnTo>
                  <a:pt x="84" y="117"/>
                </a:lnTo>
                <a:lnTo>
                  <a:pt x="93" y="120"/>
                </a:lnTo>
                <a:lnTo>
                  <a:pt x="102" y="122"/>
                </a:lnTo>
                <a:lnTo>
                  <a:pt x="110" y="125"/>
                </a:lnTo>
                <a:lnTo>
                  <a:pt x="117" y="127"/>
                </a:lnTo>
                <a:lnTo>
                  <a:pt x="124" y="130"/>
                </a:lnTo>
                <a:lnTo>
                  <a:pt x="130" y="132"/>
                </a:lnTo>
                <a:lnTo>
                  <a:pt x="135" y="133"/>
                </a:lnTo>
                <a:lnTo>
                  <a:pt x="140" y="136"/>
                </a:lnTo>
                <a:lnTo>
                  <a:pt x="143" y="138"/>
                </a:lnTo>
                <a:lnTo>
                  <a:pt x="148" y="141"/>
                </a:lnTo>
                <a:lnTo>
                  <a:pt x="153" y="145"/>
                </a:lnTo>
                <a:lnTo>
                  <a:pt x="158" y="147"/>
                </a:lnTo>
                <a:lnTo>
                  <a:pt x="162" y="151"/>
                </a:lnTo>
                <a:lnTo>
                  <a:pt x="165" y="155"/>
                </a:lnTo>
                <a:lnTo>
                  <a:pt x="168" y="158"/>
                </a:lnTo>
                <a:lnTo>
                  <a:pt x="171" y="162"/>
                </a:lnTo>
                <a:lnTo>
                  <a:pt x="174" y="167"/>
                </a:lnTo>
                <a:lnTo>
                  <a:pt x="176" y="171"/>
                </a:lnTo>
                <a:lnTo>
                  <a:pt x="178" y="176"/>
                </a:lnTo>
                <a:lnTo>
                  <a:pt x="179" y="181"/>
                </a:lnTo>
                <a:lnTo>
                  <a:pt x="181" y="186"/>
                </a:lnTo>
                <a:lnTo>
                  <a:pt x="182" y="191"/>
                </a:lnTo>
                <a:lnTo>
                  <a:pt x="182" y="196"/>
                </a:lnTo>
                <a:lnTo>
                  <a:pt x="183" y="202"/>
                </a:lnTo>
                <a:lnTo>
                  <a:pt x="183" y="207"/>
                </a:lnTo>
                <a:lnTo>
                  <a:pt x="183" y="212"/>
                </a:lnTo>
                <a:lnTo>
                  <a:pt x="182" y="218"/>
                </a:lnTo>
                <a:lnTo>
                  <a:pt x="181" y="223"/>
                </a:lnTo>
                <a:lnTo>
                  <a:pt x="180" y="230"/>
                </a:lnTo>
                <a:lnTo>
                  <a:pt x="179" y="235"/>
                </a:lnTo>
                <a:lnTo>
                  <a:pt x="177" y="240"/>
                </a:lnTo>
                <a:lnTo>
                  <a:pt x="175" y="245"/>
                </a:lnTo>
                <a:lnTo>
                  <a:pt x="173" y="250"/>
                </a:lnTo>
                <a:lnTo>
                  <a:pt x="170" y="255"/>
                </a:lnTo>
                <a:lnTo>
                  <a:pt x="167" y="260"/>
                </a:lnTo>
                <a:lnTo>
                  <a:pt x="164" y="263"/>
                </a:lnTo>
                <a:lnTo>
                  <a:pt x="160" y="267"/>
                </a:lnTo>
                <a:lnTo>
                  <a:pt x="155" y="271"/>
                </a:lnTo>
                <a:lnTo>
                  <a:pt x="151" y="274"/>
                </a:lnTo>
                <a:lnTo>
                  <a:pt x="147" y="278"/>
                </a:lnTo>
                <a:lnTo>
                  <a:pt x="142" y="281"/>
                </a:lnTo>
                <a:lnTo>
                  <a:pt x="137" y="283"/>
                </a:lnTo>
                <a:lnTo>
                  <a:pt x="132" y="286"/>
                </a:lnTo>
                <a:lnTo>
                  <a:pt x="127" y="287"/>
                </a:lnTo>
                <a:lnTo>
                  <a:pt x="121" y="289"/>
                </a:lnTo>
                <a:lnTo>
                  <a:pt x="116" y="291"/>
                </a:lnTo>
                <a:lnTo>
                  <a:pt x="110" y="291"/>
                </a:lnTo>
                <a:lnTo>
                  <a:pt x="104" y="292"/>
                </a:lnTo>
                <a:lnTo>
                  <a:pt x="98" y="292"/>
                </a:lnTo>
                <a:lnTo>
                  <a:pt x="91" y="292"/>
                </a:lnTo>
                <a:lnTo>
                  <a:pt x="82" y="291"/>
                </a:lnTo>
                <a:lnTo>
                  <a:pt x="76" y="291"/>
                </a:lnTo>
                <a:lnTo>
                  <a:pt x="69" y="289"/>
                </a:lnTo>
                <a:lnTo>
                  <a:pt x="63" y="287"/>
                </a:lnTo>
                <a:lnTo>
                  <a:pt x="57" y="286"/>
                </a:lnTo>
                <a:lnTo>
                  <a:pt x="51" y="283"/>
                </a:lnTo>
                <a:lnTo>
                  <a:pt x="46" y="281"/>
                </a:lnTo>
                <a:lnTo>
                  <a:pt x="41" y="277"/>
                </a:lnTo>
                <a:lnTo>
                  <a:pt x="36" y="274"/>
                </a:lnTo>
                <a:lnTo>
                  <a:pt x="31" y="271"/>
                </a:lnTo>
                <a:lnTo>
                  <a:pt x="27" y="267"/>
                </a:lnTo>
                <a:lnTo>
                  <a:pt x="23" y="262"/>
                </a:lnTo>
                <a:lnTo>
                  <a:pt x="20" y="257"/>
                </a:lnTo>
                <a:lnTo>
                  <a:pt x="16" y="252"/>
                </a:lnTo>
                <a:lnTo>
                  <a:pt x="13" y="247"/>
                </a:lnTo>
                <a:lnTo>
                  <a:pt x="9" y="241"/>
                </a:lnTo>
                <a:lnTo>
                  <a:pt x="7" y="236"/>
                </a:lnTo>
                <a:lnTo>
                  <a:pt x="5" y="230"/>
                </a:lnTo>
                <a:lnTo>
                  <a:pt x="3" y="223"/>
                </a:lnTo>
                <a:lnTo>
                  <a:pt x="2" y="217"/>
                </a:lnTo>
                <a:lnTo>
                  <a:pt x="1" y="210"/>
                </a:lnTo>
                <a:lnTo>
                  <a:pt x="0" y="203"/>
                </a:lnTo>
                <a:lnTo>
                  <a:pt x="0" y="19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486640" y="738360"/>
            <a:ext cx="17640" cy="158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29480" y="671400"/>
            <a:ext cx="76320" cy="114480"/>
          </a:xfrm>
          <a:custGeom>
            <a:avLst/>
            <a:gdLst/>
            <a:ahLst/>
            <a:rect l="l" t="t" r="r" b="b"/>
            <a:pathLst>
              <a:path w="145" h="289">
                <a:moveTo>
                  <a:pt x="0" y="289"/>
                </a:moveTo>
                <a:lnTo>
                  <a:pt x="0" y="5"/>
                </a:lnTo>
                <a:lnTo>
                  <a:pt x="26" y="5"/>
                </a:lnTo>
                <a:lnTo>
                  <a:pt x="26" y="32"/>
                </a:lnTo>
                <a:lnTo>
                  <a:pt x="28" y="28"/>
                </a:lnTo>
                <a:lnTo>
                  <a:pt x="30" y="24"/>
                </a:lnTo>
                <a:lnTo>
                  <a:pt x="33" y="22"/>
                </a:lnTo>
                <a:lnTo>
                  <a:pt x="35" y="18"/>
                </a:lnTo>
                <a:lnTo>
                  <a:pt x="38" y="15"/>
                </a:lnTo>
                <a:lnTo>
                  <a:pt x="40" y="13"/>
                </a:lnTo>
                <a:lnTo>
                  <a:pt x="43" y="10"/>
                </a:lnTo>
                <a:lnTo>
                  <a:pt x="46" y="8"/>
                </a:lnTo>
                <a:lnTo>
                  <a:pt x="49" y="7"/>
                </a:lnTo>
                <a:lnTo>
                  <a:pt x="52" y="5"/>
                </a:lnTo>
                <a:lnTo>
                  <a:pt x="55" y="4"/>
                </a:lnTo>
                <a:lnTo>
                  <a:pt x="58" y="3"/>
                </a:lnTo>
                <a:lnTo>
                  <a:pt x="62" y="2"/>
                </a:lnTo>
                <a:lnTo>
                  <a:pt x="66" y="2"/>
                </a:lnTo>
                <a:lnTo>
                  <a:pt x="70" y="0"/>
                </a:lnTo>
                <a:lnTo>
                  <a:pt x="74" y="0"/>
                </a:lnTo>
                <a:lnTo>
                  <a:pt x="79" y="0"/>
                </a:lnTo>
                <a:lnTo>
                  <a:pt x="84" y="2"/>
                </a:lnTo>
                <a:lnTo>
                  <a:pt x="89" y="3"/>
                </a:lnTo>
                <a:lnTo>
                  <a:pt x="94" y="4"/>
                </a:lnTo>
                <a:lnTo>
                  <a:pt x="99" y="5"/>
                </a:lnTo>
                <a:lnTo>
                  <a:pt x="103" y="8"/>
                </a:lnTo>
                <a:lnTo>
                  <a:pt x="107" y="10"/>
                </a:lnTo>
                <a:lnTo>
                  <a:pt x="111" y="14"/>
                </a:lnTo>
                <a:lnTo>
                  <a:pt x="115" y="18"/>
                </a:lnTo>
                <a:lnTo>
                  <a:pt x="119" y="22"/>
                </a:lnTo>
                <a:lnTo>
                  <a:pt x="122" y="25"/>
                </a:lnTo>
                <a:lnTo>
                  <a:pt x="125" y="30"/>
                </a:lnTo>
                <a:lnTo>
                  <a:pt x="128" y="35"/>
                </a:lnTo>
                <a:lnTo>
                  <a:pt x="131" y="40"/>
                </a:lnTo>
                <a:lnTo>
                  <a:pt x="133" y="46"/>
                </a:lnTo>
                <a:lnTo>
                  <a:pt x="137" y="53"/>
                </a:lnTo>
                <a:lnTo>
                  <a:pt x="138" y="58"/>
                </a:lnTo>
                <a:lnTo>
                  <a:pt x="140" y="65"/>
                </a:lnTo>
                <a:lnTo>
                  <a:pt x="142" y="71"/>
                </a:lnTo>
                <a:lnTo>
                  <a:pt x="143" y="78"/>
                </a:lnTo>
                <a:lnTo>
                  <a:pt x="144" y="85"/>
                </a:lnTo>
                <a:lnTo>
                  <a:pt x="144" y="91"/>
                </a:lnTo>
                <a:lnTo>
                  <a:pt x="145" y="99"/>
                </a:lnTo>
                <a:lnTo>
                  <a:pt x="145" y="106"/>
                </a:lnTo>
                <a:lnTo>
                  <a:pt x="145" y="114"/>
                </a:lnTo>
                <a:lnTo>
                  <a:pt x="144" y="121"/>
                </a:lnTo>
                <a:lnTo>
                  <a:pt x="143" y="129"/>
                </a:lnTo>
                <a:lnTo>
                  <a:pt x="142" y="136"/>
                </a:lnTo>
                <a:lnTo>
                  <a:pt x="141" y="143"/>
                </a:lnTo>
                <a:lnTo>
                  <a:pt x="140" y="150"/>
                </a:lnTo>
                <a:lnTo>
                  <a:pt x="138" y="156"/>
                </a:lnTo>
                <a:lnTo>
                  <a:pt x="135" y="163"/>
                </a:lnTo>
                <a:lnTo>
                  <a:pt x="132" y="169"/>
                </a:lnTo>
                <a:lnTo>
                  <a:pt x="130" y="175"/>
                </a:lnTo>
                <a:lnTo>
                  <a:pt x="127" y="180"/>
                </a:lnTo>
                <a:lnTo>
                  <a:pt x="124" y="185"/>
                </a:lnTo>
                <a:lnTo>
                  <a:pt x="120" y="190"/>
                </a:lnTo>
                <a:lnTo>
                  <a:pt x="117" y="194"/>
                </a:lnTo>
                <a:lnTo>
                  <a:pt x="113" y="197"/>
                </a:lnTo>
                <a:lnTo>
                  <a:pt x="108" y="201"/>
                </a:lnTo>
                <a:lnTo>
                  <a:pt x="104" y="204"/>
                </a:lnTo>
                <a:lnTo>
                  <a:pt x="100" y="207"/>
                </a:lnTo>
                <a:lnTo>
                  <a:pt x="95" y="209"/>
                </a:lnTo>
                <a:lnTo>
                  <a:pt x="91" y="211"/>
                </a:lnTo>
                <a:lnTo>
                  <a:pt x="86" y="212"/>
                </a:lnTo>
                <a:lnTo>
                  <a:pt x="82" y="214"/>
                </a:lnTo>
                <a:lnTo>
                  <a:pt x="77" y="214"/>
                </a:lnTo>
                <a:lnTo>
                  <a:pt x="72" y="215"/>
                </a:lnTo>
                <a:lnTo>
                  <a:pt x="69" y="215"/>
                </a:lnTo>
                <a:lnTo>
                  <a:pt x="65" y="214"/>
                </a:lnTo>
                <a:lnTo>
                  <a:pt x="61" y="214"/>
                </a:lnTo>
                <a:lnTo>
                  <a:pt x="58" y="212"/>
                </a:lnTo>
                <a:lnTo>
                  <a:pt x="55" y="211"/>
                </a:lnTo>
                <a:lnTo>
                  <a:pt x="52" y="210"/>
                </a:lnTo>
                <a:lnTo>
                  <a:pt x="49" y="209"/>
                </a:lnTo>
                <a:lnTo>
                  <a:pt x="46" y="207"/>
                </a:lnTo>
                <a:lnTo>
                  <a:pt x="44" y="205"/>
                </a:lnTo>
                <a:lnTo>
                  <a:pt x="41" y="204"/>
                </a:lnTo>
                <a:lnTo>
                  <a:pt x="38" y="201"/>
                </a:lnTo>
                <a:lnTo>
                  <a:pt x="36" y="199"/>
                </a:lnTo>
                <a:lnTo>
                  <a:pt x="34" y="196"/>
                </a:lnTo>
                <a:lnTo>
                  <a:pt x="32" y="194"/>
                </a:lnTo>
                <a:lnTo>
                  <a:pt x="30" y="191"/>
                </a:lnTo>
                <a:lnTo>
                  <a:pt x="28" y="189"/>
                </a:lnTo>
                <a:lnTo>
                  <a:pt x="28" y="289"/>
                </a:lnTo>
                <a:lnTo>
                  <a:pt x="0" y="289"/>
                </a:lnTo>
                <a:close/>
                <a:moveTo>
                  <a:pt x="25" y="109"/>
                </a:moveTo>
                <a:lnTo>
                  <a:pt x="26" y="119"/>
                </a:lnTo>
                <a:lnTo>
                  <a:pt x="26" y="128"/>
                </a:lnTo>
                <a:lnTo>
                  <a:pt x="27" y="135"/>
                </a:lnTo>
                <a:lnTo>
                  <a:pt x="29" y="143"/>
                </a:lnTo>
                <a:lnTo>
                  <a:pt x="30" y="150"/>
                </a:lnTo>
                <a:lnTo>
                  <a:pt x="33" y="156"/>
                </a:lnTo>
                <a:lnTo>
                  <a:pt x="35" y="163"/>
                </a:lnTo>
                <a:lnTo>
                  <a:pt x="38" y="168"/>
                </a:lnTo>
                <a:lnTo>
                  <a:pt x="42" y="171"/>
                </a:lnTo>
                <a:lnTo>
                  <a:pt x="45" y="175"/>
                </a:lnTo>
                <a:lnTo>
                  <a:pt x="49" y="179"/>
                </a:lnTo>
                <a:lnTo>
                  <a:pt x="52" y="181"/>
                </a:lnTo>
                <a:lnTo>
                  <a:pt x="56" y="184"/>
                </a:lnTo>
                <a:lnTo>
                  <a:pt x="61" y="185"/>
                </a:lnTo>
                <a:lnTo>
                  <a:pt x="66" y="186"/>
                </a:lnTo>
                <a:lnTo>
                  <a:pt x="70" y="186"/>
                </a:lnTo>
                <a:lnTo>
                  <a:pt x="75" y="186"/>
                </a:lnTo>
                <a:lnTo>
                  <a:pt x="79" y="185"/>
                </a:lnTo>
                <a:lnTo>
                  <a:pt x="83" y="184"/>
                </a:lnTo>
                <a:lnTo>
                  <a:pt x="88" y="181"/>
                </a:lnTo>
                <a:lnTo>
                  <a:pt x="91" y="179"/>
                </a:lnTo>
                <a:lnTo>
                  <a:pt x="95" y="175"/>
                </a:lnTo>
                <a:lnTo>
                  <a:pt x="99" y="171"/>
                </a:lnTo>
                <a:lnTo>
                  <a:pt x="102" y="166"/>
                </a:lnTo>
                <a:lnTo>
                  <a:pt x="105" y="161"/>
                </a:lnTo>
                <a:lnTo>
                  <a:pt x="108" y="155"/>
                </a:lnTo>
                <a:lnTo>
                  <a:pt x="110" y="149"/>
                </a:lnTo>
                <a:lnTo>
                  <a:pt x="112" y="141"/>
                </a:lnTo>
                <a:lnTo>
                  <a:pt x="113" y="134"/>
                </a:lnTo>
                <a:lnTo>
                  <a:pt x="114" y="125"/>
                </a:lnTo>
                <a:lnTo>
                  <a:pt x="115" y="115"/>
                </a:lnTo>
                <a:lnTo>
                  <a:pt x="115" y="106"/>
                </a:lnTo>
                <a:lnTo>
                  <a:pt x="115" y="96"/>
                </a:lnTo>
                <a:lnTo>
                  <a:pt x="114" y="88"/>
                </a:lnTo>
                <a:lnTo>
                  <a:pt x="113" y="79"/>
                </a:lnTo>
                <a:lnTo>
                  <a:pt x="112" y="71"/>
                </a:lnTo>
                <a:lnTo>
                  <a:pt x="110" y="64"/>
                </a:lnTo>
                <a:lnTo>
                  <a:pt x="108" y="58"/>
                </a:lnTo>
                <a:lnTo>
                  <a:pt x="105" y="53"/>
                </a:lnTo>
                <a:lnTo>
                  <a:pt x="102" y="48"/>
                </a:lnTo>
                <a:lnTo>
                  <a:pt x="99" y="43"/>
                </a:lnTo>
                <a:lnTo>
                  <a:pt x="96" y="39"/>
                </a:lnTo>
                <a:lnTo>
                  <a:pt x="92" y="35"/>
                </a:lnTo>
                <a:lnTo>
                  <a:pt x="88" y="33"/>
                </a:lnTo>
                <a:lnTo>
                  <a:pt x="84" y="30"/>
                </a:lnTo>
                <a:lnTo>
                  <a:pt x="80" y="29"/>
                </a:lnTo>
                <a:lnTo>
                  <a:pt x="76" y="28"/>
                </a:lnTo>
                <a:lnTo>
                  <a:pt x="72" y="28"/>
                </a:lnTo>
                <a:lnTo>
                  <a:pt x="67" y="28"/>
                </a:lnTo>
                <a:lnTo>
                  <a:pt x="62" y="29"/>
                </a:lnTo>
                <a:lnTo>
                  <a:pt x="58" y="30"/>
                </a:lnTo>
                <a:lnTo>
                  <a:pt x="54" y="33"/>
                </a:lnTo>
                <a:lnTo>
                  <a:pt x="50" y="35"/>
                </a:lnTo>
                <a:lnTo>
                  <a:pt x="46" y="39"/>
                </a:lnTo>
                <a:lnTo>
                  <a:pt x="43" y="44"/>
                </a:lnTo>
                <a:lnTo>
                  <a:pt x="39" y="49"/>
                </a:lnTo>
                <a:lnTo>
                  <a:pt x="36" y="54"/>
                </a:lnTo>
                <a:lnTo>
                  <a:pt x="33" y="60"/>
                </a:lnTo>
                <a:lnTo>
                  <a:pt x="31" y="66"/>
                </a:lnTo>
                <a:lnTo>
                  <a:pt x="29" y="74"/>
                </a:lnTo>
                <a:lnTo>
                  <a:pt x="27" y="81"/>
                </a:lnTo>
                <a:lnTo>
                  <a:pt x="26" y="90"/>
                </a:lnTo>
                <a:lnTo>
                  <a:pt x="26" y="99"/>
                </a:lnTo>
                <a:lnTo>
                  <a:pt x="25" y="10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628120" y="738360"/>
            <a:ext cx="17280" cy="158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659800" y="641520"/>
            <a:ext cx="114480" cy="112680"/>
          </a:xfrm>
          <a:custGeom>
            <a:avLst/>
            <a:gdLst/>
            <a:ahLst/>
            <a:rect l="l" t="t" r="r" b="b"/>
            <a:pathLst>
              <a:path w="215" h="283">
                <a:moveTo>
                  <a:pt x="0" y="283"/>
                </a:moveTo>
                <a:lnTo>
                  <a:pt x="88" y="0"/>
                </a:lnTo>
                <a:lnTo>
                  <a:pt x="121" y="0"/>
                </a:lnTo>
                <a:lnTo>
                  <a:pt x="215" y="283"/>
                </a:lnTo>
                <a:lnTo>
                  <a:pt x="181" y="283"/>
                </a:lnTo>
                <a:lnTo>
                  <a:pt x="153" y="197"/>
                </a:lnTo>
                <a:lnTo>
                  <a:pt x="58" y="197"/>
                </a:lnTo>
                <a:lnTo>
                  <a:pt x="32" y="283"/>
                </a:lnTo>
                <a:lnTo>
                  <a:pt x="0" y="283"/>
                </a:lnTo>
                <a:close/>
                <a:moveTo>
                  <a:pt x="66" y="167"/>
                </a:moveTo>
                <a:lnTo>
                  <a:pt x="144" y="167"/>
                </a:lnTo>
                <a:lnTo>
                  <a:pt x="120" y="88"/>
                </a:lnTo>
                <a:lnTo>
                  <a:pt x="118" y="80"/>
                </a:lnTo>
                <a:lnTo>
                  <a:pt x="115" y="72"/>
                </a:lnTo>
                <a:lnTo>
                  <a:pt x="113" y="63"/>
                </a:lnTo>
                <a:lnTo>
                  <a:pt x="111" y="56"/>
                </a:lnTo>
                <a:lnTo>
                  <a:pt x="109" y="50"/>
                </a:lnTo>
                <a:lnTo>
                  <a:pt x="106" y="42"/>
                </a:lnTo>
                <a:lnTo>
                  <a:pt x="105" y="36"/>
                </a:lnTo>
                <a:lnTo>
                  <a:pt x="103" y="30"/>
                </a:lnTo>
                <a:lnTo>
                  <a:pt x="102" y="37"/>
                </a:lnTo>
                <a:lnTo>
                  <a:pt x="101" y="43"/>
                </a:lnTo>
                <a:lnTo>
                  <a:pt x="100" y="51"/>
                </a:lnTo>
                <a:lnTo>
                  <a:pt x="98" y="57"/>
                </a:lnTo>
                <a:lnTo>
                  <a:pt x="96" y="63"/>
                </a:lnTo>
                <a:lnTo>
                  <a:pt x="95" y="71"/>
                </a:lnTo>
                <a:lnTo>
                  <a:pt x="93" y="77"/>
                </a:lnTo>
                <a:lnTo>
                  <a:pt x="91" y="85"/>
                </a:lnTo>
                <a:lnTo>
                  <a:pt x="66" y="16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788320" y="738360"/>
            <a:ext cx="17640" cy="158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21520" y="846000"/>
            <a:ext cx="146160" cy="173160"/>
          </a:xfrm>
          <a:custGeom>
            <a:avLst/>
            <a:gdLst/>
            <a:ahLst/>
            <a:rect l="l" t="t" r="r" b="b"/>
            <a:pathLst>
              <a:path w="274" h="438">
                <a:moveTo>
                  <a:pt x="0" y="294"/>
                </a:moveTo>
                <a:lnTo>
                  <a:pt x="42" y="289"/>
                </a:lnTo>
                <a:lnTo>
                  <a:pt x="44" y="298"/>
                </a:lnTo>
                <a:lnTo>
                  <a:pt x="45" y="304"/>
                </a:lnTo>
                <a:lnTo>
                  <a:pt x="47" y="312"/>
                </a:lnTo>
                <a:lnTo>
                  <a:pt x="48" y="318"/>
                </a:lnTo>
                <a:lnTo>
                  <a:pt x="50" y="326"/>
                </a:lnTo>
                <a:lnTo>
                  <a:pt x="52" y="330"/>
                </a:lnTo>
                <a:lnTo>
                  <a:pt x="55" y="337"/>
                </a:lnTo>
                <a:lnTo>
                  <a:pt x="57" y="342"/>
                </a:lnTo>
                <a:lnTo>
                  <a:pt x="60" y="347"/>
                </a:lnTo>
                <a:lnTo>
                  <a:pt x="63" y="352"/>
                </a:lnTo>
                <a:lnTo>
                  <a:pt x="67" y="357"/>
                </a:lnTo>
                <a:lnTo>
                  <a:pt x="71" y="360"/>
                </a:lnTo>
                <a:lnTo>
                  <a:pt x="76" y="364"/>
                </a:lnTo>
                <a:lnTo>
                  <a:pt x="81" y="368"/>
                </a:lnTo>
                <a:lnTo>
                  <a:pt x="86" y="372"/>
                </a:lnTo>
                <a:lnTo>
                  <a:pt x="91" y="375"/>
                </a:lnTo>
                <a:lnTo>
                  <a:pt x="97" y="378"/>
                </a:lnTo>
                <a:lnTo>
                  <a:pt x="103" y="380"/>
                </a:lnTo>
                <a:lnTo>
                  <a:pt x="110" y="383"/>
                </a:lnTo>
                <a:lnTo>
                  <a:pt x="117" y="384"/>
                </a:lnTo>
                <a:lnTo>
                  <a:pt x="124" y="385"/>
                </a:lnTo>
                <a:lnTo>
                  <a:pt x="130" y="387"/>
                </a:lnTo>
                <a:lnTo>
                  <a:pt x="137" y="387"/>
                </a:lnTo>
                <a:lnTo>
                  <a:pt x="144" y="388"/>
                </a:lnTo>
                <a:lnTo>
                  <a:pt x="151" y="387"/>
                </a:lnTo>
                <a:lnTo>
                  <a:pt x="157" y="387"/>
                </a:lnTo>
                <a:lnTo>
                  <a:pt x="163" y="387"/>
                </a:lnTo>
                <a:lnTo>
                  <a:pt x="169" y="385"/>
                </a:lnTo>
                <a:lnTo>
                  <a:pt x="174" y="384"/>
                </a:lnTo>
                <a:lnTo>
                  <a:pt x="180" y="382"/>
                </a:lnTo>
                <a:lnTo>
                  <a:pt x="185" y="380"/>
                </a:lnTo>
                <a:lnTo>
                  <a:pt x="191" y="378"/>
                </a:lnTo>
                <a:lnTo>
                  <a:pt x="196" y="375"/>
                </a:lnTo>
                <a:lnTo>
                  <a:pt x="200" y="373"/>
                </a:lnTo>
                <a:lnTo>
                  <a:pt x="204" y="369"/>
                </a:lnTo>
                <a:lnTo>
                  <a:pt x="208" y="367"/>
                </a:lnTo>
                <a:lnTo>
                  <a:pt x="212" y="363"/>
                </a:lnTo>
                <a:lnTo>
                  <a:pt x="215" y="359"/>
                </a:lnTo>
                <a:lnTo>
                  <a:pt x="218" y="355"/>
                </a:lnTo>
                <a:lnTo>
                  <a:pt x="220" y="352"/>
                </a:lnTo>
                <a:lnTo>
                  <a:pt x="222" y="348"/>
                </a:lnTo>
                <a:lnTo>
                  <a:pt x="224" y="343"/>
                </a:lnTo>
                <a:lnTo>
                  <a:pt x="226" y="339"/>
                </a:lnTo>
                <a:lnTo>
                  <a:pt x="227" y="334"/>
                </a:lnTo>
                <a:lnTo>
                  <a:pt x="228" y="329"/>
                </a:lnTo>
                <a:lnTo>
                  <a:pt x="229" y="326"/>
                </a:lnTo>
                <a:lnTo>
                  <a:pt x="230" y="321"/>
                </a:lnTo>
                <a:lnTo>
                  <a:pt x="230" y="316"/>
                </a:lnTo>
                <a:lnTo>
                  <a:pt x="230" y="311"/>
                </a:lnTo>
                <a:lnTo>
                  <a:pt x="229" y="306"/>
                </a:lnTo>
                <a:lnTo>
                  <a:pt x="229" y="302"/>
                </a:lnTo>
                <a:lnTo>
                  <a:pt x="228" y="297"/>
                </a:lnTo>
                <a:lnTo>
                  <a:pt x="226" y="293"/>
                </a:lnTo>
                <a:lnTo>
                  <a:pt x="225" y="288"/>
                </a:lnTo>
                <a:lnTo>
                  <a:pt x="223" y="284"/>
                </a:lnTo>
                <a:lnTo>
                  <a:pt x="221" y="281"/>
                </a:lnTo>
                <a:lnTo>
                  <a:pt x="218" y="277"/>
                </a:lnTo>
                <a:lnTo>
                  <a:pt x="215" y="273"/>
                </a:lnTo>
                <a:lnTo>
                  <a:pt x="212" y="271"/>
                </a:lnTo>
                <a:lnTo>
                  <a:pt x="208" y="267"/>
                </a:lnTo>
                <a:lnTo>
                  <a:pt x="204" y="264"/>
                </a:lnTo>
                <a:lnTo>
                  <a:pt x="200" y="261"/>
                </a:lnTo>
                <a:lnTo>
                  <a:pt x="195" y="258"/>
                </a:lnTo>
                <a:lnTo>
                  <a:pt x="190" y="256"/>
                </a:lnTo>
                <a:lnTo>
                  <a:pt x="185" y="254"/>
                </a:lnTo>
                <a:lnTo>
                  <a:pt x="180" y="252"/>
                </a:lnTo>
                <a:lnTo>
                  <a:pt x="174" y="249"/>
                </a:lnTo>
                <a:lnTo>
                  <a:pt x="167" y="247"/>
                </a:lnTo>
                <a:lnTo>
                  <a:pt x="159" y="244"/>
                </a:lnTo>
                <a:lnTo>
                  <a:pt x="150" y="242"/>
                </a:lnTo>
                <a:lnTo>
                  <a:pt x="140" y="238"/>
                </a:lnTo>
                <a:lnTo>
                  <a:pt x="128" y="234"/>
                </a:lnTo>
                <a:lnTo>
                  <a:pt x="117" y="232"/>
                </a:lnTo>
                <a:lnTo>
                  <a:pt x="106" y="228"/>
                </a:lnTo>
                <a:lnTo>
                  <a:pt x="96" y="224"/>
                </a:lnTo>
                <a:lnTo>
                  <a:pt x="88" y="221"/>
                </a:lnTo>
                <a:lnTo>
                  <a:pt x="80" y="218"/>
                </a:lnTo>
                <a:lnTo>
                  <a:pt x="73" y="214"/>
                </a:lnTo>
                <a:lnTo>
                  <a:pt x="67" y="212"/>
                </a:lnTo>
                <a:lnTo>
                  <a:pt x="62" y="208"/>
                </a:lnTo>
                <a:lnTo>
                  <a:pt x="56" y="204"/>
                </a:lnTo>
                <a:lnTo>
                  <a:pt x="51" y="199"/>
                </a:lnTo>
                <a:lnTo>
                  <a:pt x="45" y="196"/>
                </a:lnTo>
                <a:lnTo>
                  <a:pt x="40" y="191"/>
                </a:lnTo>
                <a:lnTo>
                  <a:pt x="35" y="186"/>
                </a:lnTo>
                <a:lnTo>
                  <a:pt x="31" y="181"/>
                </a:lnTo>
                <a:lnTo>
                  <a:pt x="28" y="175"/>
                </a:lnTo>
                <a:lnTo>
                  <a:pt x="25" y="170"/>
                </a:lnTo>
                <a:lnTo>
                  <a:pt x="22" y="163"/>
                </a:lnTo>
                <a:lnTo>
                  <a:pt x="19" y="157"/>
                </a:lnTo>
                <a:lnTo>
                  <a:pt x="17" y="151"/>
                </a:lnTo>
                <a:lnTo>
                  <a:pt x="16" y="145"/>
                </a:lnTo>
                <a:lnTo>
                  <a:pt x="14" y="137"/>
                </a:lnTo>
                <a:lnTo>
                  <a:pt x="13" y="131"/>
                </a:lnTo>
                <a:lnTo>
                  <a:pt x="13" y="123"/>
                </a:lnTo>
                <a:lnTo>
                  <a:pt x="13" y="116"/>
                </a:lnTo>
                <a:lnTo>
                  <a:pt x="13" y="108"/>
                </a:lnTo>
                <a:lnTo>
                  <a:pt x="14" y="101"/>
                </a:lnTo>
                <a:lnTo>
                  <a:pt x="15" y="92"/>
                </a:lnTo>
                <a:lnTo>
                  <a:pt x="16" y="85"/>
                </a:lnTo>
                <a:lnTo>
                  <a:pt x="18" y="77"/>
                </a:lnTo>
                <a:lnTo>
                  <a:pt x="21" y="71"/>
                </a:lnTo>
                <a:lnTo>
                  <a:pt x="24" y="63"/>
                </a:lnTo>
                <a:lnTo>
                  <a:pt x="27" y="56"/>
                </a:lnTo>
                <a:lnTo>
                  <a:pt x="31" y="50"/>
                </a:lnTo>
                <a:lnTo>
                  <a:pt x="35" y="43"/>
                </a:lnTo>
                <a:lnTo>
                  <a:pt x="40" y="37"/>
                </a:lnTo>
                <a:lnTo>
                  <a:pt x="46" y="32"/>
                </a:lnTo>
                <a:lnTo>
                  <a:pt x="52" y="26"/>
                </a:lnTo>
                <a:lnTo>
                  <a:pt x="58" y="22"/>
                </a:lnTo>
                <a:lnTo>
                  <a:pt x="64" y="17"/>
                </a:lnTo>
                <a:lnTo>
                  <a:pt x="71" y="14"/>
                </a:lnTo>
                <a:lnTo>
                  <a:pt x="78" y="11"/>
                </a:lnTo>
                <a:lnTo>
                  <a:pt x="85" y="7"/>
                </a:lnTo>
                <a:lnTo>
                  <a:pt x="93" y="5"/>
                </a:lnTo>
                <a:lnTo>
                  <a:pt x="101" y="4"/>
                </a:lnTo>
                <a:lnTo>
                  <a:pt x="108" y="1"/>
                </a:lnTo>
                <a:lnTo>
                  <a:pt x="118" y="0"/>
                </a:lnTo>
                <a:lnTo>
                  <a:pt x="126" y="0"/>
                </a:lnTo>
                <a:lnTo>
                  <a:pt x="134" y="0"/>
                </a:lnTo>
                <a:lnTo>
                  <a:pt x="144" y="0"/>
                </a:lnTo>
                <a:lnTo>
                  <a:pt x="153" y="0"/>
                </a:lnTo>
                <a:lnTo>
                  <a:pt x="161" y="1"/>
                </a:lnTo>
                <a:lnTo>
                  <a:pt x="170" y="4"/>
                </a:lnTo>
                <a:lnTo>
                  <a:pt x="178" y="5"/>
                </a:lnTo>
                <a:lnTo>
                  <a:pt x="186" y="9"/>
                </a:lnTo>
                <a:lnTo>
                  <a:pt x="195" y="11"/>
                </a:lnTo>
                <a:lnTo>
                  <a:pt x="202" y="15"/>
                </a:lnTo>
                <a:lnTo>
                  <a:pt x="209" y="19"/>
                </a:lnTo>
                <a:lnTo>
                  <a:pt x="216" y="24"/>
                </a:lnTo>
                <a:lnTo>
                  <a:pt x="222" y="29"/>
                </a:lnTo>
                <a:lnTo>
                  <a:pt x="227" y="34"/>
                </a:lnTo>
                <a:lnTo>
                  <a:pt x="233" y="40"/>
                </a:lnTo>
                <a:lnTo>
                  <a:pt x="238" y="46"/>
                </a:lnTo>
                <a:lnTo>
                  <a:pt x="242" y="52"/>
                </a:lnTo>
                <a:lnTo>
                  <a:pt x="246" y="60"/>
                </a:lnTo>
                <a:lnTo>
                  <a:pt x="250" y="67"/>
                </a:lnTo>
                <a:lnTo>
                  <a:pt x="253" y="75"/>
                </a:lnTo>
                <a:lnTo>
                  <a:pt x="256" y="82"/>
                </a:lnTo>
                <a:lnTo>
                  <a:pt x="258" y="91"/>
                </a:lnTo>
                <a:lnTo>
                  <a:pt x="260" y="100"/>
                </a:lnTo>
                <a:lnTo>
                  <a:pt x="263" y="108"/>
                </a:lnTo>
                <a:lnTo>
                  <a:pt x="263" y="117"/>
                </a:lnTo>
                <a:lnTo>
                  <a:pt x="264" y="126"/>
                </a:lnTo>
                <a:lnTo>
                  <a:pt x="220" y="130"/>
                </a:lnTo>
                <a:lnTo>
                  <a:pt x="219" y="121"/>
                </a:lnTo>
                <a:lnTo>
                  <a:pt x="217" y="111"/>
                </a:lnTo>
                <a:lnTo>
                  <a:pt x="215" y="102"/>
                </a:lnTo>
                <a:lnTo>
                  <a:pt x="212" y="95"/>
                </a:lnTo>
                <a:lnTo>
                  <a:pt x="209" y="87"/>
                </a:lnTo>
                <a:lnTo>
                  <a:pt x="205" y="81"/>
                </a:lnTo>
                <a:lnTo>
                  <a:pt x="201" y="75"/>
                </a:lnTo>
                <a:lnTo>
                  <a:pt x="196" y="70"/>
                </a:lnTo>
                <a:lnTo>
                  <a:pt x="191" y="65"/>
                </a:lnTo>
                <a:lnTo>
                  <a:pt x="184" y="61"/>
                </a:lnTo>
                <a:lnTo>
                  <a:pt x="178" y="57"/>
                </a:lnTo>
                <a:lnTo>
                  <a:pt x="171" y="53"/>
                </a:lnTo>
                <a:lnTo>
                  <a:pt x="163" y="52"/>
                </a:lnTo>
                <a:lnTo>
                  <a:pt x="155" y="50"/>
                </a:lnTo>
                <a:lnTo>
                  <a:pt x="146" y="50"/>
                </a:lnTo>
                <a:lnTo>
                  <a:pt x="136" y="48"/>
                </a:lnTo>
                <a:lnTo>
                  <a:pt x="126" y="50"/>
                </a:lnTo>
                <a:lnTo>
                  <a:pt x="117" y="50"/>
                </a:lnTo>
                <a:lnTo>
                  <a:pt x="108" y="51"/>
                </a:lnTo>
                <a:lnTo>
                  <a:pt x="100" y="53"/>
                </a:lnTo>
                <a:lnTo>
                  <a:pt x="93" y="56"/>
                </a:lnTo>
                <a:lnTo>
                  <a:pt x="86" y="60"/>
                </a:lnTo>
                <a:lnTo>
                  <a:pt x="81" y="63"/>
                </a:lnTo>
                <a:lnTo>
                  <a:pt x="76" y="67"/>
                </a:lnTo>
                <a:lnTo>
                  <a:pt x="71" y="72"/>
                </a:lnTo>
                <a:lnTo>
                  <a:pt x="68" y="77"/>
                </a:lnTo>
                <a:lnTo>
                  <a:pt x="64" y="82"/>
                </a:lnTo>
                <a:lnTo>
                  <a:pt x="62" y="88"/>
                </a:lnTo>
                <a:lnTo>
                  <a:pt x="60" y="93"/>
                </a:lnTo>
                <a:lnTo>
                  <a:pt x="58" y="100"/>
                </a:lnTo>
                <a:lnTo>
                  <a:pt x="57" y="106"/>
                </a:lnTo>
                <a:lnTo>
                  <a:pt x="57" y="112"/>
                </a:lnTo>
                <a:lnTo>
                  <a:pt x="57" y="118"/>
                </a:lnTo>
                <a:lnTo>
                  <a:pt x="58" y="123"/>
                </a:lnTo>
                <a:lnTo>
                  <a:pt x="59" y="128"/>
                </a:lnTo>
                <a:lnTo>
                  <a:pt x="60" y="133"/>
                </a:lnTo>
                <a:lnTo>
                  <a:pt x="62" y="138"/>
                </a:lnTo>
                <a:lnTo>
                  <a:pt x="64" y="142"/>
                </a:lnTo>
                <a:lnTo>
                  <a:pt x="67" y="146"/>
                </a:lnTo>
                <a:lnTo>
                  <a:pt x="70" y="150"/>
                </a:lnTo>
                <a:lnTo>
                  <a:pt x="74" y="153"/>
                </a:lnTo>
                <a:lnTo>
                  <a:pt x="79" y="157"/>
                </a:lnTo>
                <a:lnTo>
                  <a:pt x="86" y="161"/>
                </a:lnTo>
                <a:lnTo>
                  <a:pt x="94" y="165"/>
                </a:lnTo>
                <a:lnTo>
                  <a:pt x="103" y="168"/>
                </a:lnTo>
                <a:lnTo>
                  <a:pt x="113" y="172"/>
                </a:lnTo>
                <a:lnTo>
                  <a:pt x="126" y="177"/>
                </a:lnTo>
                <a:lnTo>
                  <a:pt x="139" y="181"/>
                </a:lnTo>
                <a:lnTo>
                  <a:pt x="152" y="184"/>
                </a:lnTo>
                <a:lnTo>
                  <a:pt x="164" y="188"/>
                </a:lnTo>
                <a:lnTo>
                  <a:pt x="175" y="191"/>
                </a:lnTo>
                <a:lnTo>
                  <a:pt x="185" y="194"/>
                </a:lnTo>
                <a:lnTo>
                  <a:pt x="195" y="198"/>
                </a:lnTo>
                <a:lnTo>
                  <a:pt x="203" y="201"/>
                </a:lnTo>
                <a:lnTo>
                  <a:pt x="210" y="204"/>
                </a:lnTo>
                <a:lnTo>
                  <a:pt x="215" y="207"/>
                </a:lnTo>
                <a:lnTo>
                  <a:pt x="222" y="212"/>
                </a:lnTo>
                <a:lnTo>
                  <a:pt x="229" y="217"/>
                </a:lnTo>
                <a:lnTo>
                  <a:pt x="235" y="222"/>
                </a:lnTo>
                <a:lnTo>
                  <a:pt x="241" y="227"/>
                </a:lnTo>
                <a:lnTo>
                  <a:pt x="246" y="232"/>
                </a:lnTo>
                <a:lnTo>
                  <a:pt x="251" y="238"/>
                </a:lnTo>
                <a:lnTo>
                  <a:pt x="255" y="244"/>
                </a:lnTo>
                <a:lnTo>
                  <a:pt x="259" y="251"/>
                </a:lnTo>
                <a:lnTo>
                  <a:pt x="263" y="257"/>
                </a:lnTo>
                <a:lnTo>
                  <a:pt x="266" y="264"/>
                </a:lnTo>
                <a:lnTo>
                  <a:pt x="269" y="272"/>
                </a:lnTo>
                <a:lnTo>
                  <a:pt x="271" y="278"/>
                </a:lnTo>
                <a:lnTo>
                  <a:pt x="272" y="287"/>
                </a:lnTo>
                <a:lnTo>
                  <a:pt x="273" y="294"/>
                </a:lnTo>
                <a:lnTo>
                  <a:pt x="274" y="302"/>
                </a:lnTo>
                <a:lnTo>
                  <a:pt x="274" y="311"/>
                </a:lnTo>
                <a:lnTo>
                  <a:pt x="274" y="319"/>
                </a:lnTo>
                <a:lnTo>
                  <a:pt x="273" y="328"/>
                </a:lnTo>
                <a:lnTo>
                  <a:pt x="272" y="335"/>
                </a:lnTo>
                <a:lnTo>
                  <a:pt x="270" y="344"/>
                </a:lnTo>
                <a:lnTo>
                  <a:pt x="268" y="352"/>
                </a:lnTo>
                <a:lnTo>
                  <a:pt x="265" y="359"/>
                </a:lnTo>
                <a:lnTo>
                  <a:pt x="262" y="367"/>
                </a:lnTo>
                <a:lnTo>
                  <a:pt x="258" y="374"/>
                </a:lnTo>
                <a:lnTo>
                  <a:pt x="254" y="382"/>
                </a:lnTo>
                <a:lnTo>
                  <a:pt x="249" y="389"/>
                </a:lnTo>
                <a:lnTo>
                  <a:pt x="244" y="395"/>
                </a:lnTo>
                <a:lnTo>
                  <a:pt x="239" y="402"/>
                </a:lnTo>
                <a:lnTo>
                  <a:pt x="233" y="407"/>
                </a:lnTo>
                <a:lnTo>
                  <a:pt x="227" y="412"/>
                </a:lnTo>
                <a:lnTo>
                  <a:pt x="220" y="417"/>
                </a:lnTo>
                <a:lnTo>
                  <a:pt x="213" y="422"/>
                </a:lnTo>
                <a:lnTo>
                  <a:pt x="206" y="425"/>
                </a:lnTo>
                <a:lnTo>
                  <a:pt x="198" y="428"/>
                </a:lnTo>
                <a:lnTo>
                  <a:pt x="190" y="432"/>
                </a:lnTo>
                <a:lnTo>
                  <a:pt x="181" y="434"/>
                </a:lnTo>
                <a:lnTo>
                  <a:pt x="173" y="435"/>
                </a:lnTo>
                <a:lnTo>
                  <a:pt x="164" y="437"/>
                </a:lnTo>
                <a:lnTo>
                  <a:pt x="156" y="438"/>
                </a:lnTo>
                <a:lnTo>
                  <a:pt x="147" y="438"/>
                </a:lnTo>
                <a:lnTo>
                  <a:pt x="135" y="438"/>
                </a:lnTo>
                <a:lnTo>
                  <a:pt x="124" y="437"/>
                </a:lnTo>
                <a:lnTo>
                  <a:pt x="113" y="435"/>
                </a:lnTo>
                <a:lnTo>
                  <a:pt x="103" y="434"/>
                </a:lnTo>
                <a:lnTo>
                  <a:pt x="94" y="432"/>
                </a:lnTo>
                <a:lnTo>
                  <a:pt x="85" y="428"/>
                </a:lnTo>
                <a:lnTo>
                  <a:pt x="76" y="425"/>
                </a:lnTo>
                <a:lnTo>
                  <a:pt x="68" y="420"/>
                </a:lnTo>
                <a:lnTo>
                  <a:pt x="61" y="417"/>
                </a:lnTo>
                <a:lnTo>
                  <a:pt x="54" y="412"/>
                </a:lnTo>
                <a:lnTo>
                  <a:pt x="47" y="407"/>
                </a:lnTo>
                <a:lnTo>
                  <a:pt x="39" y="400"/>
                </a:lnTo>
                <a:lnTo>
                  <a:pt x="34" y="393"/>
                </a:lnTo>
                <a:lnTo>
                  <a:pt x="28" y="387"/>
                </a:lnTo>
                <a:lnTo>
                  <a:pt x="23" y="379"/>
                </a:lnTo>
                <a:lnTo>
                  <a:pt x="18" y="370"/>
                </a:lnTo>
                <a:lnTo>
                  <a:pt x="14" y="362"/>
                </a:lnTo>
                <a:lnTo>
                  <a:pt x="11" y="353"/>
                </a:lnTo>
                <a:lnTo>
                  <a:pt x="7" y="344"/>
                </a:lnTo>
                <a:lnTo>
                  <a:pt x="5" y="334"/>
                </a:lnTo>
                <a:lnTo>
                  <a:pt x="3" y="326"/>
                </a:lnTo>
                <a:lnTo>
                  <a:pt x="1" y="316"/>
                </a:lnTo>
                <a:lnTo>
                  <a:pt x="0" y="304"/>
                </a:lnTo>
                <a:lnTo>
                  <a:pt x="0" y="29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00800" y="847800"/>
            <a:ext cx="135000" cy="168120"/>
          </a:xfrm>
          <a:custGeom>
            <a:avLst/>
            <a:gdLst/>
            <a:ahLst/>
            <a:rect l="l" t="t" r="r" b="b"/>
            <a:pathLst>
              <a:path w="256" h="424">
                <a:moveTo>
                  <a:pt x="0" y="424"/>
                </a:moveTo>
                <a:lnTo>
                  <a:pt x="0" y="0"/>
                </a:lnTo>
                <a:lnTo>
                  <a:pt x="248" y="0"/>
                </a:lnTo>
                <a:lnTo>
                  <a:pt x="248" y="51"/>
                </a:lnTo>
                <a:lnTo>
                  <a:pt x="44" y="51"/>
                </a:lnTo>
                <a:lnTo>
                  <a:pt x="44" y="181"/>
                </a:lnTo>
                <a:lnTo>
                  <a:pt x="235" y="181"/>
                </a:lnTo>
                <a:lnTo>
                  <a:pt x="235" y="230"/>
                </a:lnTo>
                <a:lnTo>
                  <a:pt x="44" y="230"/>
                </a:lnTo>
                <a:lnTo>
                  <a:pt x="44" y="374"/>
                </a:lnTo>
                <a:lnTo>
                  <a:pt x="256" y="374"/>
                </a:lnTo>
                <a:lnTo>
                  <a:pt x="256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69280" y="847800"/>
            <a:ext cx="150840" cy="168120"/>
          </a:xfrm>
          <a:custGeom>
            <a:avLst/>
            <a:gdLst/>
            <a:ahLst/>
            <a:rect l="l" t="t" r="r" b="b"/>
            <a:pathLst>
              <a:path w="285" h="424">
                <a:moveTo>
                  <a:pt x="0" y="424"/>
                </a:moveTo>
                <a:lnTo>
                  <a:pt x="0" y="0"/>
                </a:lnTo>
                <a:lnTo>
                  <a:pt x="119" y="0"/>
                </a:lnTo>
                <a:lnTo>
                  <a:pt x="129" y="1"/>
                </a:lnTo>
                <a:lnTo>
                  <a:pt x="138" y="1"/>
                </a:lnTo>
                <a:lnTo>
                  <a:pt x="146" y="1"/>
                </a:lnTo>
                <a:lnTo>
                  <a:pt x="154" y="3"/>
                </a:lnTo>
                <a:lnTo>
                  <a:pt x="161" y="3"/>
                </a:lnTo>
                <a:lnTo>
                  <a:pt x="168" y="4"/>
                </a:lnTo>
                <a:lnTo>
                  <a:pt x="174" y="5"/>
                </a:lnTo>
                <a:lnTo>
                  <a:pt x="180" y="6"/>
                </a:lnTo>
                <a:lnTo>
                  <a:pt x="188" y="9"/>
                </a:lnTo>
                <a:lnTo>
                  <a:pt x="195" y="11"/>
                </a:lnTo>
                <a:lnTo>
                  <a:pt x="201" y="15"/>
                </a:lnTo>
                <a:lnTo>
                  <a:pt x="208" y="19"/>
                </a:lnTo>
                <a:lnTo>
                  <a:pt x="214" y="23"/>
                </a:lnTo>
                <a:lnTo>
                  <a:pt x="220" y="28"/>
                </a:lnTo>
                <a:lnTo>
                  <a:pt x="225" y="31"/>
                </a:lnTo>
                <a:lnTo>
                  <a:pt x="230" y="37"/>
                </a:lnTo>
                <a:lnTo>
                  <a:pt x="237" y="45"/>
                </a:lnTo>
                <a:lnTo>
                  <a:pt x="243" y="52"/>
                </a:lnTo>
                <a:lnTo>
                  <a:pt x="249" y="60"/>
                </a:lnTo>
                <a:lnTo>
                  <a:pt x="254" y="70"/>
                </a:lnTo>
                <a:lnTo>
                  <a:pt x="260" y="79"/>
                </a:lnTo>
                <a:lnTo>
                  <a:pt x="264" y="89"/>
                </a:lnTo>
                <a:lnTo>
                  <a:pt x="268" y="99"/>
                </a:lnTo>
                <a:lnTo>
                  <a:pt x="272" y="110"/>
                </a:lnTo>
                <a:lnTo>
                  <a:pt x="275" y="121"/>
                </a:lnTo>
                <a:lnTo>
                  <a:pt x="277" y="132"/>
                </a:lnTo>
                <a:lnTo>
                  <a:pt x="280" y="145"/>
                </a:lnTo>
                <a:lnTo>
                  <a:pt x="282" y="157"/>
                </a:lnTo>
                <a:lnTo>
                  <a:pt x="283" y="170"/>
                </a:lnTo>
                <a:lnTo>
                  <a:pt x="284" y="182"/>
                </a:lnTo>
                <a:lnTo>
                  <a:pt x="285" y="196"/>
                </a:lnTo>
                <a:lnTo>
                  <a:pt x="285" y="210"/>
                </a:lnTo>
                <a:lnTo>
                  <a:pt x="285" y="222"/>
                </a:lnTo>
                <a:lnTo>
                  <a:pt x="284" y="233"/>
                </a:lnTo>
                <a:lnTo>
                  <a:pt x="284" y="245"/>
                </a:lnTo>
                <a:lnTo>
                  <a:pt x="283" y="256"/>
                </a:lnTo>
                <a:lnTo>
                  <a:pt x="281" y="266"/>
                </a:lnTo>
                <a:lnTo>
                  <a:pt x="280" y="277"/>
                </a:lnTo>
                <a:lnTo>
                  <a:pt x="278" y="286"/>
                </a:lnTo>
                <a:lnTo>
                  <a:pt x="276" y="296"/>
                </a:lnTo>
                <a:lnTo>
                  <a:pt x="274" y="305"/>
                </a:lnTo>
                <a:lnTo>
                  <a:pt x="271" y="313"/>
                </a:lnTo>
                <a:lnTo>
                  <a:pt x="268" y="322"/>
                </a:lnTo>
                <a:lnTo>
                  <a:pt x="266" y="329"/>
                </a:lnTo>
                <a:lnTo>
                  <a:pt x="263" y="337"/>
                </a:lnTo>
                <a:lnTo>
                  <a:pt x="260" y="344"/>
                </a:lnTo>
                <a:lnTo>
                  <a:pt x="256" y="351"/>
                </a:lnTo>
                <a:lnTo>
                  <a:pt x="252" y="358"/>
                </a:lnTo>
                <a:lnTo>
                  <a:pt x="248" y="363"/>
                </a:lnTo>
                <a:lnTo>
                  <a:pt x="245" y="369"/>
                </a:lnTo>
                <a:lnTo>
                  <a:pt x="241" y="374"/>
                </a:lnTo>
                <a:lnTo>
                  <a:pt x="237" y="379"/>
                </a:lnTo>
                <a:lnTo>
                  <a:pt x="233" y="384"/>
                </a:lnTo>
                <a:lnTo>
                  <a:pt x="229" y="388"/>
                </a:lnTo>
                <a:lnTo>
                  <a:pt x="225" y="392"/>
                </a:lnTo>
                <a:lnTo>
                  <a:pt x="221" y="396"/>
                </a:lnTo>
                <a:lnTo>
                  <a:pt x="217" y="399"/>
                </a:lnTo>
                <a:lnTo>
                  <a:pt x="212" y="403"/>
                </a:lnTo>
                <a:lnTo>
                  <a:pt x="207" y="406"/>
                </a:lnTo>
                <a:lnTo>
                  <a:pt x="202" y="408"/>
                </a:lnTo>
                <a:lnTo>
                  <a:pt x="197" y="411"/>
                </a:lnTo>
                <a:lnTo>
                  <a:pt x="192" y="413"/>
                </a:lnTo>
                <a:lnTo>
                  <a:pt x="186" y="416"/>
                </a:lnTo>
                <a:lnTo>
                  <a:pt x="179" y="417"/>
                </a:lnTo>
                <a:lnTo>
                  <a:pt x="173" y="419"/>
                </a:lnTo>
                <a:lnTo>
                  <a:pt x="167" y="421"/>
                </a:lnTo>
                <a:lnTo>
                  <a:pt x="160" y="422"/>
                </a:lnTo>
                <a:lnTo>
                  <a:pt x="154" y="423"/>
                </a:lnTo>
                <a:lnTo>
                  <a:pt x="147" y="423"/>
                </a:lnTo>
                <a:lnTo>
                  <a:pt x="140" y="424"/>
                </a:lnTo>
                <a:lnTo>
                  <a:pt x="132" y="424"/>
                </a:lnTo>
                <a:lnTo>
                  <a:pt x="125" y="424"/>
                </a:lnTo>
                <a:lnTo>
                  <a:pt x="0" y="424"/>
                </a:lnTo>
                <a:close/>
                <a:moveTo>
                  <a:pt x="46" y="374"/>
                </a:moveTo>
                <a:lnTo>
                  <a:pt x="120" y="374"/>
                </a:lnTo>
                <a:lnTo>
                  <a:pt x="128" y="374"/>
                </a:lnTo>
                <a:lnTo>
                  <a:pt x="135" y="374"/>
                </a:lnTo>
                <a:lnTo>
                  <a:pt x="143" y="373"/>
                </a:lnTo>
                <a:lnTo>
                  <a:pt x="150" y="373"/>
                </a:lnTo>
                <a:lnTo>
                  <a:pt x="156" y="372"/>
                </a:lnTo>
                <a:lnTo>
                  <a:pt x="162" y="371"/>
                </a:lnTo>
                <a:lnTo>
                  <a:pt x="167" y="368"/>
                </a:lnTo>
                <a:lnTo>
                  <a:pt x="172" y="367"/>
                </a:lnTo>
                <a:lnTo>
                  <a:pt x="177" y="364"/>
                </a:lnTo>
                <a:lnTo>
                  <a:pt x="181" y="362"/>
                </a:lnTo>
                <a:lnTo>
                  <a:pt x="187" y="359"/>
                </a:lnTo>
                <a:lnTo>
                  <a:pt x="191" y="357"/>
                </a:lnTo>
                <a:lnTo>
                  <a:pt x="194" y="354"/>
                </a:lnTo>
                <a:lnTo>
                  <a:pt x="198" y="352"/>
                </a:lnTo>
                <a:lnTo>
                  <a:pt x="201" y="348"/>
                </a:lnTo>
                <a:lnTo>
                  <a:pt x="204" y="344"/>
                </a:lnTo>
                <a:lnTo>
                  <a:pt x="208" y="339"/>
                </a:lnTo>
                <a:lnTo>
                  <a:pt x="211" y="334"/>
                </a:lnTo>
                <a:lnTo>
                  <a:pt x="215" y="328"/>
                </a:lnTo>
                <a:lnTo>
                  <a:pt x="218" y="321"/>
                </a:lnTo>
                <a:lnTo>
                  <a:pt x="221" y="315"/>
                </a:lnTo>
                <a:lnTo>
                  <a:pt x="224" y="307"/>
                </a:lnTo>
                <a:lnTo>
                  <a:pt x="226" y="300"/>
                </a:lnTo>
                <a:lnTo>
                  <a:pt x="229" y="291"/>
                </a:lnTo>
                <a:lnTo>
                  <a:pt x="231" y="282"/>
                </a:lnTo>
                <a:lnTo>
                  <a:pt x="233" y="273"/>
                </a:lnTo>
                <a:lnTo>
                  <a:pt x="234" y="263"/>
                </a:lnTo>
                <a:lnTo>
                  <a:pt x="235" y="253"/>
                </a:lnTo>
                <a:lnTo>
                  <a:pt x="236" y="243"/>
                </a:lnTo>
                <a:lnTo>
                  <a:pt x="237" y="232"/>
                </a:lnTo>
                <a:lnTo>
                  <a:pt x="238" y="221"/>
                </a:lnTo>
                <a:lnTo>
                  <a:pt x="238" y="210"/>
                </a:lnTo>
                <a:lnTo>
                  <a:pt x="237" y="193"/>
                </a:lnTo>
                <a:lnTo>
                  <a:pt x="237" y="178"/>
                </a:lnTo>
                <a:lnTo>
                  <a:pt x="235" y="164"/>
                </a:lnTo>
                <a:lnTo>
                  <a:pt x="233" y="151"/>
                </a:lnTo>
                <a:lnTo>
                  <a:pt x="231" y="139"/>
                </a:lnTo>
                <a:lnTo>
                  <a:pt x="228" y="127"/>
                </a:lnTo>
                <a:lnTo>
                  <a:pt x="224" y="116"/>
                </a:lnTo>
                <a:lnTo>
                  <a:pt x="220" y="107"/>
                </a:lnTo>
                <a:lnTo>
                  <a:pt x="216" y="99"/>
                </a:lnTo>
                <a:lnTo>
                  <a:pt x="211" y="91"/>
                </a:lnTo>
                <a:lnTo>
                  <a:pt x="206" y="84"/>
                </a:lnTo>
                <a:lnTo>
                  <a:pt x="201" y="77"/>
                </a:lnTo>
                <a:lnTo>
                  <a:pt x="195" y="71"/>
                </a:lnTo>
                <a:lnTo>
                  <a:pt x="190" y="67"/>
                </a:lnTo>
                <a:lnTo>
                  <a:pt x="184" y="62"/>
                </a:lnTo>
                <a:lnTo>
                  <a:pt x="177" y="59"/>
                </a:lnTo>
                <a:lnTo>
                  <a:pt x="172" y="57"/>
                </a:lnTo>
                <a:lnTo>
                  <a:pt x="166" y="55"/>
                </a:lnTo>
                <a:lnTo>
                  <a:pt x="160" y="54"/>
                </a:lnTo>
                <a:lnTo>
                  <a:pt x="153" y="52"/>
                </a:lnTo>
                <a:lnTo>
                  <a:pt x="145" y="52"/>
                </a:lnTo>
                <a:lnTo>
                  <a:pt x="137" y="51"/>
                </a:lnTo>
                <a:lnTo>
                  <a:pt x="128" y="51"/>
                </a:lnTo>
                <a:lnTo>
                  <a:pt x="118" y="51"/>
                </a:lnTo>
                <a:lnTo>
                  <a:pt x="46" y="51"/>
                </a:lnTo>
                <a:lnTo>
                  <a:pt x="46" y="37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55040" y="847800"/>
            <a:ext cx="135000" cy="168120"/>
          </a:xfrm>
          <a:custGeom>
            <a:avLst/>
            <a:gdLst/>
            <a:ahLst/>
            <a:rect l="l" t="t" r="r" b="b"/>
            <a:pathLst>
              <a:path w="256" h="424">
                <a:moveTo>
                  <a:pt x="0" y="424"/>
                </a:moveTo>
                <a:lnTo>
                  <a:pt x="0" y="0"/>
                </a:lnTo>
                <a:lnTo>
                  <a:pt x="248" y="0"/>
                </a:lnTo>
                <a:lnTo>
                  <a:pt x="248" y="51"/>
                </a:lnTo>
                <a:lnTo>
                  <a:pt x="45" y="51"/>
                </a:lnTo>
                <a:lnTo>
                  <a:pt x="45" y="181"/>
                </a:lnTo>
                <a:lnTo>
                  <a:pt x="236" y="181"/>
                </a:lnTo>
                <a:lnTo>
                  <a:pt x="236" y="230"/>
                </a:lnTo>
                <a:lnTo>
                  <a:pt x="45" y="230"/>
                </a:lnTo>
                <a:lnTo>
                  <a:pt x="45" y="374"/>
                </a:lnTo>
                <a:lnTo>
                  <a:pt x="256" y="374"/>
                </a:lnTo>
                <a:lnTo>
                  <a:pt x="256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93000" y="847800"/>
            <a:ext cx="114480" cy="168120"/>
          </a:xfrm>
          <a:custGeom>
            <a:avLst/>
            <a:gdLst/>
            <a:ahLst/>
            <a:rect l="l" t="t" r="r" b="b"/>
            <a:pathLst>
              <a:path w="216" h="424">
                <a:moveTo>
                  <a:pt x="0" y="424"/>
                </a:moveTo>
                <a:lnTo>
                  <a:pt x="0" y="0"/>
                </a:lnTo>
                <a:lnTo>
                  <a:pt x="46" y="0"/>
                </a:lnTo>
                <a:lnTo>
                  <a:pt x="46" y="374"/>
                </a:lnTo>
                <a:lnTo>
                  <a:pt x="216" y="374"/>
                </a:lnTo>
                <a:lnTo>
                  <a:pt x="216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35920" y="847800"/>
            <a:ext cx="136440" cy="168120"/>
          </a:xfrm>
          <a:custGeom>
            <a:avLst/>
            <a:gdLst/>
            <a:ahLst/>
            <a:rect l="l" t="t" r="r" b="b"/>
            <a:pathLst>
              <a:path w="257" h="424">
                <a:moveTo>
                  <a:pt x="0" y="424"/>
                </a:moveTo>
                <a:lnTo>
                  <a:pt x="0" y="0"/>
                </a:lnTo>
                <a:lnTo>
                  <a:pt x="249" y="0"/>
                </a:lnTo>
                <a:lnTo>
                  <a:pt x="249" y="51"/>
                </a:lnTo>
                <a:lnTo>
                  <a:pt x="45" y="51"/>
                </a:lnTo>
                <a:lnTo>
                  <a:pt x="45" y="181"/>
                </a:lnTo>
                <a:lnTo>
                  <a:pt x="236" y="181"/>
                </a:lnTo>
                <a:lnTo>
                  <a:pt x="236" y="230"/>
                </a:lnTo>
                <a:lnTo>
                  <a:pt x="45" y="230"/>
                </a:lnTo>
                <a:lnTo>
                  <a:pt x="45" y="374"/>
                </a:lnTo>
                <a:lnTo>
                  <a:pt x="257" y="374"/>
                </a:lnTo>
                <a:lnTo>
                  <a:pt x="257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99360" y="846000"/>
            <a:ext cx="168480" cy="173160"/>
          </a:xfrm>
          <a:custGeom>
            <a:avLst/>
            <a:gdLst/>
            <a:ahLst/>
            <a:rect l="l" t="t" r="r" b="b"/>
            <a:pathLst>
              <a:path w="319" h="438">
                <a:moveTo>
                  <a:pt x="173" y="264"/>
                </a:moveTo>
                <a:lnTo>
                  <a:pt x="173" y="214"/>
                </a:lnTo>
                <a:lnTo>
                  <a:pt x="319" y="214"/>
                </a:lnTo>
                <a:lnTo>
                  <a:pt x="319" y="372"/>
                </a:lnTo>
                <a:lnTo>
                  <a:pt x="310" y="379"/>
                </a:lnTo>
                <a:lnTo>
                  <a:pt x="302" y="387"/>
                </a:lnTo>
                <a:lnTo>
                  <a:pt x="293" y="394"/>
                </a:lnTo>
                <a:lnTo>
                  <a:pt x="285" y="400"/>
                </a:lnTo>
                <a:lnTo>
                  <a:pt x="276" y="407"/>
                </a:lnTo>
                <a:lnTo>
                  <a:pt x="268" y="412"/>
                </a:lnTo>
                <a:lnTo>
                  <a:pt x="259" y="417"/>
                </a:lnTo>
                <a:lnTo>
                  <a:pt x="249" y="422"/>
                </a:lnTo>
                <a:lnTo>
                  <a:pt x="240" y="425"/>
                </a:lnTo>
                <a:lnTo>
                  <a:pt x="231" y="428"/>
                </a:lnTo>
                <a:lnTo>
                  <a:pt x="223" y="432"/>
                </a:lnTo>
                <a:lnTo>
                  <a:pt x="214" y="434"/>
                </a:lnTo>
                <a:lnTo>
                  <a:pt x="204" y="435"/>
                </a:lnTo>
                <a:lnTo>
                  <a:pt x="195" y="437"/>
                </a:lnTo>
                <a:lnTo>
                  <a:pt x="186" y="438"/>
                </a:lnTo>
                <a:lnTo>
                  <a:pt x="176" y="438"/>
                </a:lnTo>
                <a:lnTo>
                  <a:pt x="164" y="438"/>
                </a:lnTo>
                <a:lnTo>
                  <a:pt x="151" y="437"/>
                </a:lnTo>
                <a:lnTo>
                  <a:pt x="140" y="434"/>
                </a:lnTo>
                <a:lnTo>
                  <a:pt x="128" y="432"/>
                </a:lnTo>
                <a:lnTo>
                  <a:pt x="117" y="428"/>
                </a:lnTo>
                <a:lnTo>
                  <a:pt x="105" y="423"/>
                </a:lnTo>
                <a:lnTo>
                  <a:pt x="94" y="418"/>
                </a:lnTo>
                <a:lnTo>
                  <a:pt x="84" y="410"/>
                </a:lnTo>
                <a:lnTo>
                  <a:pt x="74" y="404"/>
                </a:lnTo>
                <a:lnTo>
                  <a:pt x="65" y="397"/>
                </a:lnTo>
                <a:lnTo>
                  <a:pt x="56" y="388"/>
                </a:lnTo>
                <a:lnTo>
                  <a:pt x="48" y="378"/>
                </a:lnTo>
                <a:lnTo>
                  <a:pt x="41" y="368"/>
                </a:lnTo>
                <a:lnTo>
                  <a:pt x="33" y="358"/>
                </a:lnTo>
                <a:lnTo>
                  <a:pt x="27" y="345"/>
                </a:lnTo>
                <a:lnTo>
                  <a:pt x="21" y="334"/>
                </a:lnTo>
                <a:lnTo>
                  <a:pt x="16" y="321"/>
                </a:lnTo>
                <a:lnTo>
                  <a:pt x="12" y="308"/>
                </a:lnTo>
                <a:lnTo>
                  <a:pt x="8" y="294"/>
                </a:lnTo>
                <a:lnTo>
                  <a:pt x="6" y="281"/>
                </a:lnTo>
                <a:lnTo>
                  <a:pt x="3" y="266"/>
                </a:lnTo>
                <a:lnTo>
                  <a:pt x="2" y="251"/>
                </a:lnTo>
                <a:lnTo>
                  <a:pt x="1" y="236"/>
                </a:lnTo>
                <a:lnTo>
                  <a:pt x="0" y="221"/>
                </a:lnTo>
                <a:lnTo>
                  <a:pt x="1" y="206"/>
                </a:lnTo>
                <a:lnTo>
                  <a:pt x="2" y="191"/>
                </a:lnTo>
                <a:lnTo>
                  <a:pt x="3" y="176"/>
                </a:lnTo>
                <a:lnTo>
                  <a:pt x="6" y="161"/>
                </a:lnTo>
                <a:lnTo>
                  <a:pt x="8" y="147"/>
                </a:lnTo>
                <a:lnTo>
                  <a:pt x="12" y="132"/>
                </a:lnTo>
                <a:lnTo>
                  <a:pt x="16" y="118"/>
                </a:lnTo>
                <a:lnTo>
                  <a:pt x="21" y="105"/>
                </a:lnTo>
                <a:lnTo>
                  <a:pt x="27" y="92"/>
                </a:lnTo>
                <a:lnTo>
                  <a:pt x="33" y="80"/>
                </a:lnTo>
                <a:lnTo>
                  <a:pt x="40" y="68"/>
                </a:lnTo>
                <a:lnTo>
                  <a:pt x="47" y="58"/>
                </a:lnTo>
                <a:lnTo>
                  <a:pt x="55" y="48"/>
                </a:lnTo>
                <a:lnTo>
                  <a:pt x="63" y="40"/>
                </a:lnTo>
                <a:lnTo>
                  <a:pt x="72" y="32"/>
                </a:lnTo>
                <a:lnTo>
                  <a:pt x="82" y="25"/>
                </a:lnTo>
                <a:lnTo>
                  <a:pt x="92" y="20"/>
                </a:lnTo>
                <a:lnTo>
                  <a:pt x="102" y="14"/>
                </a:lnTo>
                <a:lnTo>
                  <a:pt x="114" y="10"/>
                </a:lnTo>
                <a:lnTo>
                  <a:pt x="125" y="6"/>
                </a:lnTo>
                <a:lnTo>
                  <a:pt x="136" y="4"/>
                </a:lnTo>
                <a:lnTo>
                  <a:pt x="148" y="1"/>
                </a:lnTo>
                <a:lnTo>
                  <a:pt x="160" y="0"/>
                </a:lnTo>
                <a:lnTo>
                  <a:pt x="172" y="0"/>
                </a:lnTo>
                <a:lnTo>
                  <a:pt x="183" y="0"/>
                </a:lnTo>
                <a:lnTo>
                  <a:pt x="191" y="0"/>
                </a:lnTo>
                <a:lnTo>
                  <a:pt x="200" y="1"/>
                </a:lnTo>
                <a:lnTo>
                  <a:pt x="209" y="4"/>
                </a:lnTo>
                <a:lnTo>
                  <a:pt x="217" y="5"/>
                </a:lnTo>
                <a:lnTo>
                  <a:pt x="225" y="7"/>
                </a:lnTo>
                <a:lnTo>
                  <a:pt x="232" y="11"/>
                </a:lnTo>
                <a:lnTo>
                  <a:pt x="240" y="15"/>
                </a:lnTo>
                <a:lnTo>
                  <a:pt x="247" y="19"/>
                </a:lnTo>
                <a:lnTo>
                  <a:pt x="255" y="22"/>
                </a:lnTo>
                <a:lnTo>
                  <a:pt x="262" y="27"/>
                </a:lnTo>
                <a:lnTo>
                  <a:pt x="268" y="32"/>
                </a:lnTo>
                <a:lnTo>
                  <a:pt x="273" y="37"/>
                </a:lnTo>
                <a:lnTo>
                  <a:pt x="278" y="43"/>
                </a:lnTo>
                <a:lnTo>
                  <a:pt x="283" y="50"/>
                </a:lnTo>
                <a:lnTo>
                  <a:pt x="288" y="56"/>
                </a:lnTo>
                <a:lnTo>
                  <a:pt x="292" y="62"/>
                </a:lnTo>
                <a:lnTo>
                  <a:pt x="296" y="70"/>
                </a:lnTo>
                <a:lnTo>
                  <a:pt x="299" y="78"/>
                </a:lnTo>
                <a:lnTo>
                  <a:pt x="303" y="86"/>
                </a:lnTo>
                <a:lnTo>
                  <a:pt x="306" y="96"/>
                </a:lnTo>
                <a:lnTo>
                  <a:pt x="309" y="105"/>
                </a:lnTo>
                <a:lnTo>
                  <a:pt x="311" y="115"/>
                </a:lnTo>
                <a:lnTo>
                  <a:pt x="314" y="125"/>
                </a:lnTo>
                <a:lnTo>
                  <a:pt x="273" y="140"/>
                </a:lnTo>
                <a:lnTo>
                  <a:pt x="271" y="131"/>
                </a:lnTo>
                <a:lnTo>
                  <a:pt x="269" y="123"/>
                </a:lnTo>
                <a:lnTo>
                  <a:pt x="267" y="117"/>
                </a:lnTo>
                <a:lnTo>
                  <a:pt x="264" y="110"/>
                </a:lnTo>
                <a:lnTo>
                  <a:pt x="262" y="103"/>
                </a:lnTo>
                <a:lnTo>
                  <a:pt x="259" y="98"/>
                </a:lnTo>
                <a:lnTo>
                  <a:pt x="257" y="93"/>
                </a:lnTo>
                <a:lnTo>
                  <a:pt x="254" y="88"/>
                </a:lnTo>
                <a:lnTo>
                  <a:pt x="250" y="83"/>
                </a:lnTo>
                <a:lnTo>
                  <a:pt x="247" y="80"/>
                </a:lnTo>
                <a:lnTo>
                  <a:pt x="243" y="75"/>
                </a:lnTo>
                <a:lnTo>
                  <a:pt x="239" y="71"/>
                </a:lnTo>
                <a:lnTo>
                  <a:pt x="235" y="68"/>
                </a:lnTo>
                <a:lnTo>
                  <a:pt x="230" y="65"/>
                </a:lnTo>
                <a:lnTo>
                  <a:pt x="226" y="61"/>
                </a:lnTo>
                <a:lnTo>
                  <a:pt x="220" y="58"/>
                </a:lnTo>
                <a:lnTo>
                  <a:pt x="215" y="56"/>
                </a:lnTo>
                <a:lnTo>
                  <a:pt x="210" y="53"/>
                </a:lnTo>
                <a:lnTo>
                  <a:pt x="204" y="52"/>
                </a:lnTo>
                <a:lnTo>
                  <a:pt x="198" y="50"/>
                </a:lnTo>
                <a:lnTo>
                  <a:pt x="192" y="48"/>
                </a:lnTo>
                <a:lnTo>
                  <a:pt x="186" y="48"/>
                </a:lnTo>
                <a:lnTo>
                  <a:pt x="179" y="47"/>
                </a:lnTo>
                <a:lnTo>
                  <a:pt x="173" y="47"/>
                </a:lnTo>
                <a:lnTo>
                  <a:pt x="165" y="47"/>
                </a:lnTo>
                <a:lnTo>
                  <a:pt x="158" y="48"/>
                </a:lnTo>
                <a:lnTo>
                  <a:pt x="151" y="48"/>
                </a:lnTo>
                <a:lnTo>
                  <a:pt x="144" y="50"/>
                </a:lnTo>
                <a:lnTo>
                  <a:pt x="137" y="52"/>
                </a:lnTo>
                <a:lnTo>
                  <a:pt x="131" y="53"/>
                </a:lnTo>
                <a:lnTo>
                  <a:pt x="125" y="56"/>
                </a:lnTo>
                <a:lnTo>
                  <a:pt x="119" y="60"/>
                </a:lnTo>
                <a:lnTo>
                  <a:pt x="114" y="62"/>
                </a:lnTo>
                <a:lnTo>
                  <a:pt x="109" y="66"/>
                </a:lnTo>
                <a:lnTo>
                  <a:pt x="103" y="68"/>
                </a:lnTo>
                <a:lnTo>
                  <a:pt x="98" y="72"/>
                </a:lnTo>
                <a:lnTo>
                  <a:pt x="94" y="77"/>
                </a:lnTo>
                <a:lnTo>
                  <a:pt x="90" y="81"/>
                </a:lnTo>
                <a:lnTo>
                  <a:pt x="86" y="85"/>
                </a:lnTo>
                <a:lnTo>
                  <a:pt x="82" y="90"/>
                </a:lnTo>
                <a:lnTo>
                  <a:pt x="79" y="95"/>
                </a:lnTo>
                <a:lnTo>
                  <a:pt x="76" y="100"/>
                </a:lnTo>
                <a:lnTo>
                  <a:pt x="73" y="105"/>
                </a:lnTo>
                <a:lnTo>
                  <a:pt x="70" y="110"/>
                </a:lnTo>
                <a:lnTo>
                  <a:pt x="67" y="115"/>
                </a:lnTo>
                <a:lnTo>
                  <a:pt x="65" y="121"/>
                </a:lnTo>
                <a:lnTo>
                  <a:pt x="63" y="126"/>
                </a:lnTo>
                <a:lnTo>
                  <a:pt x="61" y="132"/>
                </a:lnTo>
                <a:lnTo>
                  <a:pt x="58" y="142"/>
                </a:lnTo>
                <a:lnTo>
                  <a:pt x="55" y="152"/>
                </a:lnTo>
                <a:lnTo>
                  <a:pt x="53" y="162"/>
                </a:lnTo>
                <a:lnTo>
                  <a:pt x="51" y="173"/>
                </a:lnTo>
                <a:lnTo>
                  <a:pt x="49" y="183"/>
                </a:lnTo>
                <a:lnTo>
                  <a:pt x="48" y="194"/>
                </a:lnTo>
                <a:lnTo>
                  <a:pt x="48" y="206"/>
                </a:lnTo>
                <a:lnTo>
                  <a:pt x="48" y="217"/>
                </a:lnTo>
                <a:lnTo>
                  <a:pt x="48" y="231"/>
                </a:lnTo>
                <a:lnTo>
                  <a:pt x="49" y="244"/>
                </a:lnTo>
                <a:lnTo>
                  <a:pt x="50" y="257"/>
                </a:lnTo>
                <a:lnTo>
                  <a:pt x="52" y="269"/>
                </a:lnTo>
                <a:lnTo>
                  <a:pt x="54" y="281"/>
                </a:lnTo>
                <a:lnTo>
                  <a:pt x="56" y="292"/>
                </a:lnTo>
                <a:lnTo>
                  <a:pt x="60" y="302"/>
                </a:lnTo>
                <a:lnTo>
                  <a:pt x="63" y="312"/>
                </a:lnTo>
                <a:lnTo>
                  <a:pt x="67" y="322"/>
                </a:lnTo>
                <a:lnTo>
                  <a:pt x="72" y="329"/>
                </a:lnTo>
                <a:lnTo>
                  <a:pt x="77" y="338"/>
                </a:lnTo>
                <a:lnTo>
                  <a:pt x="83" y="345"/>
                </a:lnTo>
                <a:lnTo>
                  <a:pt x="88" y="352"/>
                </a:lnTo>
                <a:lnTo>
                  <a:pt x="95" y="358"/>
                </a:lnTo>
                <a:lnTo>
                  <a:pt x="102" y="364"/>
                </a:lnTo>
                <a:lnTo>
                  <a:pt x="110" y="369"/>
                </a:lnTo>
                <a:lnTo>
                  <a:pt x="117" y="373"/>
                </a:lnTo>
                <a:lnTo>
                  <a:pt x="125" y="377"/>
                </a:lnTo>
                <a:lnTo>
                  <a:pt x="133" y="380"/>
                </a:lnTo>
                <a:lnTo>
                  <a:pt x="141" y="383"/>
                </a:lnTo>
                <a:lnTo>
                  <a:pt x="149" y="384"/>
                </a:lnTo>
                <a:lnTo>
                  <a:pt x="157" y="387"/>
                </a:lnTo>
                <a:lnTo>
                  <a:pt x="165" y="387"/>
                </a:lnTo>
                <a:lnTo>
                  <a:pt x="173" y="387"/>
                </a:lnTo>
                <a:lnTo>
                  <a:pt x="182" y="387"/>
                </a:lnTo>
                <a:lnTo>
                  <a:pt x="189" y="387"/>
                </a:lnTo>
                <a:lnTo>
                  <a:pt x="196" y="385"/>
                </a:lnTo>
                <a:lnTo>
                  <a:pt x="203" y="384"/>
                </a:lnTo>
                <a:lnTo>
                  <a:pt x="210" y="382"/>
                </a:lnTo>
                <a:lnTo>
                  <a:pt x="217" y="379"/>
                </a:lnTo>
                <a:lnTo>
                  <a:pt x="224" y="377"/>
                </a:lnTo>
                <a:lnTo>
                  <a:pt x="231" y="373"/>
                </a:lnTo>
                <a:lnTo>
                  <a:pt x="238" y="369"/>
                </a:lnTo>
                <a:lnTo>
                  <a:pt x="244" y="365"/>
                </a:lnTo>
                <a:lnTo>
                  <a:pt x="250" y="363"/>
                </a:lnTo>
                <a:lnTo>
                  <a:pt x="257" y="359"/>
                </a:lnTo>
                <a:lnTo>
                  <a:pt x="262" y="355"/>
                </a:lnTo>
                <a:lnTo>
                  <a:pt x="266" y="350"/>
                </a:lnTo>
                <a:lnTo>
                  <a:pt x="271" y="347"/>
                </a:lnTo>
                <a:lnTo>
                  <a:pt x="275" y="343"/>
                </a:lnTo>
                <a:lnTo>
                  <a:pt x="275" y="264"/>
                </a:lnTo>
                <a:lnTo>
                  <a:pt x="173" y="26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83680" y="847800"/>
            <a:ext cx="171360" cy="168120"/>
          </a:xfrm>
          <a:custGeom>
            <a:avLst/>
            <a:gdLst/>
            <a:ahLst/>
            <a:rect l="l" t="t" r="r" b="b"/>
            <a:pathLst>
              <a:path w="322" h="424">
                <a:moveTo>
                  <a:pt x="0" y="424"/>
                </a:moveTo>
                <a:lnTo>
                  <a:pt x="132" y="0"/>
                </a:lnTo>
                <a:lnTo>
                  <a:pt x="181" y="0"/>
                </a:lnTo>
                <a:lnTo>
                  <a:pt x="322" y="424"/>
                </a:lnTo>
                <a:lnTo>
                  <a:pt x="270" y="424"/>
                </a:lnTo>
                <a:lnTo>
                  <a:pt x="230" y="296"/>
                </a:lnTo>
                <a:lnTo>
                  <a:pt x="86" y="296"/>
                </a:lnTo>
                <a:lnTo>
                  <a:pt x="47" y="424"/>
                </a:lnTo>
                <a:lnTo>
                  <a:pt x="0" y="424"/>
                </a:lnTo>
                <a:close/>
                <a:moveTo>
                  <a:pt x="99" y="251"/>
                </a:moveTo>
                <a:lnTo>
                  <a:pt x="216" y="251"/>
                </a:lnTo>
                <a:lnTo>
                  <a:pt x="179" y="134"/>
                </a:lnTo>
                <a:lnTo>
                  <a:pt x="175" y="120"/>
                </a:lnTo>
                <a:lnTo>
                  <a:pt x="172" y="107"/>
                </a:lnTo>
                <a:lnTo>
                  <a:pt x="168" y="96"/>
                </a:lnTo>
                <a:lnTo>
                  <a:pt x="165" y="85"/>
                </a:lnTo>
                <a:lnTo>
                  <a:pt x="162" y="74"/>
                </a:lnTo>
                <a:lnTo>
                  <a:pt x="160" y="64"/>
                </a:lnTo>
                <a:lnTo>
                  <a:pt x="157" y="54"/>
                </a:lnTo>
                <a:lnTo>
                  <a:pt x="155" y="45"/>
                </a:lnTo>
                <a:lnTo>
                  <a:pt x="154" y="55"/>
                </a:lnTo>
                <a:lnTo>
                  <a:pt x="152" y="65"/>
                </a:lnTo>
                <a:lnTo>
                  <a:pt x="150" y="76"/>
                </a:lnTo>
                <a:lnTo>
                  <a:pt x="147" y="86"/>
                </a:lnTo>
                <a:lnTo>
                  <a:pt x="145" y="96"/>
                </a:lnTo>
                <a:lnTo>
                  <a:pt x="143" y="106"/>
                </a:lnTo>
                <a:lnTo>
                  <a:pt x="140" y="116"/>
                </a:lnTo>
                <a:lnTo>
                  <a:pt x="137" y="126"/>
                </a:lnTo>
                <a:lnTo>
                  <a:pt x="99" y="2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72680" y="847800"/>
            <a:ext cx="114120" cy="168120"/>
          </a:xfrm>
          <a:custGeom>
            <a:avLst/>
            <a:gdLst/>
            <a:ahLst/>
            <a:rect l="l" t="t" r="r" b="b"/>
            <a:pathLst>
              <a:path w="215" h="424">
                <a:moveTo>
                  <a:pt x="0" y="424"/>
                </a:moveTo>
                <a:lnTo>
                  <a:pt x="0" y="0"/>
                </a:lnTo>
                <a:lnTo>
                  <a:pt x="45" y="0"/>
                </a:lnTo>
                <a:lnTo>
                  <a:pt x="45" y="374"/>
                </a:lnTo>
                <a:lnTo>
                  <a:pt x="215" y="374"/>
                </a:lnTo>
                <a:lnTo>
                  <a:pt x="215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715240" y="847800"/>
            <a:ext cx="136800" cy="168120"/>
          </a:xfrm>
          <a:custGeom>
            <a:avLst/>
            <a:gdLst/>
            <a:ahLst/>
            <a:rect l="l" t="t" r="r" b="b"/>
            <a:pathLst>
              <a:path w="258" h="424">
                <a:moveTo>
                  <a:pt x="0" y="424"/>
                </a:moveTo>
                <a:lnTo>
                  <a:pt x="0" y="0"/>
                </a:lnTo>
                <a:lnTo>
                  <a:pt x="250" y="0"/>
                </a:lnTo>
                <a:lnTo>
                  <a:pt x="250" y="51"/>
                </a:lnTo>
                <a:lnTo>
                  <a:pt x="46" y="51"/>
                </a:lnTo>
                <a:lnTo>
                  <a:pt x="46" y="181"/>
                </a:lnTo>
                <a:lnTo>
                  <a:pt x="237" y="181"/>
                </a:lnTo>
                <a:lnTo>
                  <a:pt x="237" y="230"/>
                </a:lnTo>
                <a:lnTo>
                  <a:pt x="46" y="230"/>
                </a:lnTo>
                <a:lnTo>
                  <a:pt x="46" y="374"/>
                </a:lnTo>
                <a:lnTo>
                  <a:pt x="258" y="374"/>
                </a:lnTo>
                <a:lnTo>
                  <a:pt x="258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21680" y="1111320"/>
            <a:ext cx="160200" cy="168120"/>
          </a:xfrm>
          <a:custGeom>
            <a:avLst/>
            <a:gdLst/>
            <a:ahLst/>
            <a:rect l="l" t="t" r="r" b="b"/>
            <a:pathLst>
              <a:path w="305" h="423">
                <a:moveTo>
                  <a:pt x="67" y="423"/>
                </a:moveTo>
                <a:lnTo>
                  <a:pt x="0" y="0"/>
                </a:lnTo>
                <a:lnTo>
                  <a:pt x="45" y="0"/>
                </a:lnTo>
                <a:lnTo>
                  <a:pt x="85" y="252"/>
                </a:lnTo>
                <a:lnTo>
                  <a:pt x="87" y="269"/>
                </a:lnTo>
                <a:lnTo>
                  <a:pt x="90" y="284"/>
                </a:lnTo>
                <a:lnTo>
                  <a:pt x="92" y="300"/>
                </a:lnTo>
                <a:lnTo>
                  <a:pt x="94" y="314"/>
                </a:lnTo>
                <a:lnTo>
                  <a:pt x="95" y="328"/>
                </a:lnTo>
                <a:lnTo>
                  <a:pt x="97" y="340"/>
                </a:lnTo>
                <a:lnTo>
                  <a:pt x="98" y="352"/>
                </a:lnTo>
                <a:lnTo>
                  <a:pt x="99" y="363"/>
                </a:lnTo>
                <a:lnTo>
                  <a:pt x="105" y="350"/>
                </a:lnTo>
                <a:lnTo>
                  <a:pt x="110" y="338"/>
                </a:lnTo>
                <a:lnTo>
                  <a:pt x="115" y="325"/>
                </a:lnTo>
                <a:lnTo>
                  <a:pt x="119" y="314"/>
                </a:lnTo>
                <a:lnTo>
                  <a:pt x="123" y="304"/>
                </a:lnTo>
                <a:lnTo>
                  <a:pt x="127" y="294"/>
                </a:lnTo>
                <a:lnTo>
                  <a:pt x="131" y="285"/>
                </a:lnTo>
                <a:lnTo>
                  <a:pt x="135" y="277"/>
                </a:lnTo>
                <a:lnTo>
                  <a:pt x="258" y="0"/>
                </a:lnTo>
                <a:lnTo>
                  <a:pt x="305" y="0"/>
                </a:lnTo>
                <a:lnTo>
                  <a:pt x="116" y="423"/>
                </a:lnTo>
                <a:lnTo>
                  <a:pt x="67" y="42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62800" y="1111320"/>
            <a:ext cx="60480" cy="168120"/>
          </a:xfrm>
          <a:custGeom>
            <a:avLst/>
            <a:gdLst/>
            <a:ahLst/>
            <a:rect l="l" t="t" r="r" b="b"/>
            <a:pathLst>
              <a:path w="113" h="423">
                <a:moveTo>
                  <a:pt x="62" y="58"/>
                </a:moveTo>
                <a:lnTo>
                  <a:pt x="72" y="0"/>
                </a:lnTo>
                <a:lnTo>
                  <a:pt x="113" y="0"/>
                </a:lnTo>
                <a:lnTo>
                  <a:pt x="104" y="58"/>
                </a:lnTo>
                <a:lnTo>
                  <a:pt x="62" y="58"/>
                </a:lnTo>
                <a:close/>
                <a:moveTo>
                  <a:pt x="0" y="423"/>
                </a:moveTo>
                <a:lnTo>
                  <a:pt x="52" y="116"/>
                </a:lnTo>
                <a:lnTo>
                  <a:pt x="94" y="116"/>
                </a:lnTo>
                <a:lnTo>
                  <a:pt x="42" y="423"/>
                </a:lnTo>
                <a:lnTo>
                  <a:pt x="0" y="42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23280" y="1154160"/>
            <a:ext cx="122040" cy="128520"/>
          </a:xfrm>
          <a:custGeom>
            <a:avLst/>
            <a:gdLst/>
            <a:ahLst/>
            <a:rect l="l" t="t" r="r" b="b"/>
            <a:pathLst>
              <a:path w="233" h="321">
                <a:moveTo>
                  <a:pt x="164" y="276"/>
                </a:moveTo>
                <a:lnTo>
                  <a:pt x="158" y="281"/>
                </a:lnTo>
                <a:lnTo>
                  <a:pt x="152" y="287"/>
                </a:lnTo>
                <a:lnTo>
                  <a:pt x="146" y="291"/>
                </a:lnTo>
                <a:lnTo>
                  <a:pt x="141" y="296"/>
                </a:lnTo>
                <a:lnTo>
                  <a:pt x="136" y="300"/>
                </a:lnTo>
                <a:lnTo>
                  <a:pt x="131" y="304"/>
                </a:lnTo>
                <a:lnTo>
                  <a:pt x="126" y="307"/>
                </a:lnTo>
                <a:lnTo>
                  <a:pt x="121" y="310"/>
                </a:lnTo>
                <a:lnTo>
                  <a:pt x="116" y="312"/>
                </a:lnTo>
                <a:lnTo>
                  <a:pt x="110" y="315"/>
                </a:lnTo>
                <a:lnTo>
                  <a:pt x="105" y="317"/>
                </a:lnTo>
                <a:lnTo>
                  <a:pt x="100" y="319"/>
                </a:lnTo>
                <a:lnTo>
                  <a:pt x="94" y="320"/>
                </a:lnTo>
                <a:lnTo>
                  <a:pt x="89" y="320"/>
                </a:lnTo>
                <a:lnTo>
                  <a:pt x="82" y="321"/>
                </a:lnTo>
                <a:lnTo>
                  <a:pt x="77" y="321"/>
                </a:lnTo>
                <a:lnTo>
                  <a:pt x="68" y="321"/>
                </a:lnTo>
                <a:lnTo>
                  <a:pt x="60" y="320"/>
                </a:lnTo>
                <a:lnTo>
                  <a:pt x="53" y="317"/>
                </a:lnTo>
                <a:lnTo>
                  <a:pt x="46" y="315"/>
                </a:lnTo>
                <a:lnTo>
                  <a:pt x="39" y="311"/>
                </a:lnTo>
                <a:lnTo>
                  <a:pt x="33" y="307"/>
                </a:lnTo>
                <a:lnTo>
                  <a:pt x="27" y="302"/>
                </a:lnTo>
                <a:lnTo>
                  <a:pt x="22" y="296"/>
                </a:lnTo>
                <a:lnTo>
                  <a:pt x="17" y="290"/>
                </a:lnTo>
                <a:lnTo>
                  <a:pt x="12" y="282"/>
                </a:lnTo>
                <a:lnTo>
                  <a:pt x="8" y="275"/>
                </a:lnTo>
                <a:lnTo>
                  <a:pt x="5" y="268"/>
                </a:lnTo>
                <a:lnTo>
                  <a:pt x="3" y="259"/>
                </a:lnTo>
                <a:lnTo>
                  <a:pt x="1" y="251"/>
                </a:lnTo>
                <a:lnTo>
                  <a:pt x="0" y="241"/>
                </a:lnTo>
                <a:lnTo>
                  <a:pt x="0" y="233"/>
                </a:lnTo>
                <a:lnTo>
                  <a:pt x="0" y="225"/>
                </a:lnTo>
                <a:lnTo>
                  <a:pt x="0" y="220"/>
                </a:lnTo>
                <a:lnTo>
                  <a:pt x="1" y="214"/>
                </a:lnTo>
                <a:lnTo>
                  <a:pt x="2" y="208"/>
                </a:lnTo>
                <a:lnTo>
                  <a:pt x="3" y="203"/>
                </a:lnTo>
                <a:lnTo>
                  <a:pt x="5" y="196"/>
                </a:lnTo>
                <a:lnTo>
                  <a:pt x="7" y="191"/>
                </a:lnTo>
                <a:lnTo>
                  <a:pt x="9" y="186"/>
                </a:lnTo>
                <a:lnTo>
                  <a:pt x="13" y="181"/>
                </a:lnTo>
                <a:lnTo>
                  <a:pt x="15" y="178"/>
                </a:lnTo>
                <a:lnTo>
                  <a:pt x="18" y="173"/>
                </a:lnTo>
                <a:lnTo>
                  <a:pt x="21" y="169"/>
                </a:lnTo>
                <a:lnTo>
                  <a:pt x="24" y="165"/>
                </a:lnTo>
                <a:lnTo>
                  <a:pt x="28" y="161"/>
                </a:lnTo>
                <a:lnTo>
                  <a:pt x="31" y="158"/>
                </a:lnTo>
                <a:lnTo>
                  <a:pt x="35" y="155"/>
                </a:lnTo>
                <a:lnTo>
                  <a:pt x="39" y="151"/>
                </a:lnTo>
                <a:lnTo>
                  <a:pt x="43" y="149"/>
                </a:lnTo>
                <a:lnTo>
                  <a:pt x="48" y="146"/>
                </a:lnTo>
                <a:lnTo>
                  <a:pt x="52" y="144"/>
                </a:lnTo>
                <a:lnTo>
                  <a:pt x="57" y="143"/>
                </a:lnTo>
                <a:lnTo>
                  <a:pt x="62" y="140"/>
                </a:lnTo>
                <a:lnTo>
                  <a:pt x="68" y="139"/>
                </a:lnTo>
                <a:lnTo>
                  <a:pt x="73" y="138"/>
                </a:lnTo>
                <a:lnTo>
                  <a:pt x="77" y="136"/>
                </a:lnTo>
                <a:lnTo>
                  <a:pt x="82" y="135"/>
                </a:lnTo>
                <a:lnTo>
                  <a:pt x="88" y="135"/>
                </a:lnTo>
                <a:lnTo>
                  <a:pt x="95" y="134"/>
                </a:lnTo>
                <a:lnTo>
                  <a:pt x="102" y="134"/>
                </a:lnTo>
                <a:lnTo>
                  <a:pt x="110" y="133"/>
                </a:lnTo>
                <a:lnTo>
                  <a:pt x="118" y="133"/>
                </a:lnTo>
                <a:lnTo>
                  <a:pt x="128" y="131"/>
                </a:lnTo>
                <a:lnTo>
                  <a:pt x="137" y="131"/>
                </a:lnTo>
                <a:lnTo>
                  <a:pt x="146" y="130"/>
                </a:lnTo>
                <a:lnTo>
                  <a:pt x="154" y="129"/>
                </a:lnTo>
                <a:lnTo>
                  <a:pt x="163" y="128"/>
                </a:lnTo>
                <a:lnTo>
                  <a:pt x="169" y="127"/>
                </a:lnTo>
                <a:lnTo>
                  <a:pt x="175" y="125"/>
                </a:lnTo>
                <a:lnTo>
                  <a:pt x="181" y="124"/>
                </a:lnTo>
                <a:lnTo>
                  <a:pt x="185" y="122"/>
                </a:lnTo>
                <a:lnTo>
                  <a:pt x="186" y="117"/>
                </a:lnTo>
                <a:lnTo>
                  <a:pt x="187" y="112"/>
                </a:lnTo>
                <a:lnTo>
                  <a:pt x="188" y="107"/>
                </a:lnTo>
                <a:lnTo>
                  <a:pt x="189" y="102"/>
                </a:lnTo>
                <a:lnTo>
                  <a:pt x="190" y="98"/>
                </a:lnTo>
                <a:lnTo>
                  <a:pt x="190" y="94"/>
                </a:lnTo>
                <a:lnTo>
                  <a:pt x="190" y="89"/>
                </a:lnTo>
                <a:lnTo>
                  <a:pt x="190" y="85"/>
                </a:lnTo>
                <a:lnTo>
                  <a:pt x="190" y="82"/>
                </a:lnTo>
                <a:lnTo>
                  <a:pt x="190" y="78"/>
                </a:lnTo>
                <a:lnTo>
                  <a:pt x="189" y="73"/>
                </a:lnTo>
                <a:lnTo>
                  <a:pt x="188" y="69"/>
                </a:lnTo>
                <a:lnTo>
                  <a:pt x="186" y="67"/>
                </a:lnTo>
                <a:lnTo>
                  <a:pt x="184" y="63"/>
                </a:lnTo>
                <a:lnTo>
                  <a:pt x="182" y="60"/>
                </a:lnTo>
                <a:lnTo>
                  <a:pt x="180" y="58"/>
                </a:lnTo>
                <a:lnTo>
                  <a:pt x="176" y="54"/>
                </a:lnTo>
                <a:lnTo>
                  <a:pt x="171" y="52"/>
                </a:lnTo>
                <a:lnTo>
                  <a:pt x="167" y="49"/>
                </a:lnTo>
                <a:lnTo>
                  <a:pt x="162" y="47"/>
                </a:lnTo>
                <a:lnTo>
                  <a:pt x="156" y="45"/>
                </a:lnTo>
                <a:lnTo>
                  <a:pt x="149" y="44"/>
                </a:lnTo>
                <a:lnTo>
                  <a:pt x="143" y="43"/>
                </a:lnTo>
                <a:lnTo>
                  <a:pt x="136" y="43"/>
                </a:lnTo>
                <a:lnTo>
                  <a:pt x="129" y="43"/>
                </a:lnTo>
                <a:lnTo>
                  <a:pt x="123" y="44"/>
                </a:lnTo>
                <a:lnTo>
                  <a:pt x="117" y="45"/>
                </a:lnTo>
                <a:lnTo>
                  <a:pt x="112" y="47"/>
                </a:lnTo>
                <a:lnTo>
                  <a:pt x="107" y="49"/>
                </a:lnTo>
                <a:lnTo>
                  <a:pt x="102" y="52"/>
                </a:lnTo>
                <a:lnTo>
                  <a:pt x="97" y="54"/>
                </a:lnTo>
                <a:lnTo>
                  <a:pt x="93" y="58"/>
                </a:lnTo>
                <a:lnTo>
                  <a:pt x="89" y="62"/>
                </a:lnTo>
                <a:lnTo>
                  <a:pt x="85" y="65"/>
                </a:lnTo>
                <a:lnTo>
                  <a:pt x="80" y="70"/>
                </a:lnTo>
                <a:lnTo>
                  <a:pt x="77" y="75"/>
                </a:lnTo>
                <a:lnTo>
                  <a:pt x="74" y="80"/>
                </a:lnTo>
                <a:lnTo>
                  <a:pt x="72" y="87"/>
                </a:lnTo>
                <a:lnTo>
                  <a:pt x="69" y="93"/>
                </a:lnTo>
                <a:lnTo>
                  <a:pt x="67" y="99"/>
                </a:lnTo>
                <a:lnTo>
                  <a:pt x="25" y="94"/>
                </a:lnTo>
                <a:lnTo>
                  <a:pt x="28" y="83"/>
                </a:lnTo>
                <a:lnTo>
                  <a:pt x="32" y="73"/>
                </a:lnTo>
                <a:lnTo>
                  <a:pt x="37" y="63"/>
                </a:lnTo>
                <a:lnTo>
                  <a:pt x="42" y="54"/>
                </a:lnTo>
                <a:lnTo>
                  <a:pt x="47" y="45"/>
                </a:lnTo>
                <a:lnTo>
                  <a:pt x="53" y="38"/>
                </a:lnTo>
                <a:lnTo>
                  <a:pt x="59" y="30"/>
                </a:lnTo>
                <a:lnTo>
                  <a:pt x="66" y="24"/>
                </a:lnTo>
                <a:lnTo>
                  <a:pt x="73" y="19"/>
                </a:lnTo>
                <a:lnTo>
                  <a:pt x="81" y="14"/>
                </a:lnTo>
                <a:lnTo>
                  <a:pt x="90" y="9"/>
                </a:lnTo>
                <a:lnTo>
                  <a:pt x="99" y="7"/>
                </a:lnTo>
                <a:lnTo>
                  <a:pt x="108" y="3"/>
                </a:lnTo>
                <a:lnTo>
                  <a:pt x="117" y="2"/>
                </a:lnTo>
                <a:lnTo>
                  <a:pt x="127" y="0"/>
                </a:lnTo>
                <a:lnTo>
                  <a:pt x="138" y="0"/>
                </a:lnTo>
                <a:lnTo>
                  <a:pt x="149" y="0"/>
                </a:lnTo>
                <a:lnTo>
                  <a:pt x="161" y="2"/>
                </a:lnTo>
                <a:lnTo>
                  <a:pt x="171" y="4"/>
                </a:lnTo>
                <a:lnTo>
                  <a:pt x="180" y="7"/>
                </a:lnTo>
                <a:lnTo>
                  <a:pt x="189" y="10"/>
                </a:lnTo>
                <a:lnTo>
                  <a:pt x="197" y="15"/>
                </a:lnTo>
                <a:lnTo>
                  <a:pt x="204" y="20"/>
                </a:lnTo>
                <a:lnTo>
                  <a:pt x="211" y="28"/>
                </a:lnTo>
                <a:lnTo>
                  <a:pt x="216" y="33"/>
                </a:lnTo>
                <a:lnTo>
                  <a:pt x="220" y="38"/>
                </a:lnTo>
                <a:lnTo>
                  <a:pt x="224" y="44"/>
                </a:lnTo>
                <a:lnTo>
                  <a:pt x="227" y="50"/>
                </a:lnTo>
                <a:lnTo>
                  <a:pt x="230" y="58"/>
                </a:lnTo>
                <a:lnTo>
                  <a:pt x="231" y="64"/>
                </a:lnTo>
                <a:lnTo>
                  <a:pt x="232" y="72"/>
                </a:lnTo>
                <a:lnTo>
                  <a:pt x="233" y="80"/>
                </a:lnTo>
                <a:lnTo>
                  <a:pt x="233" y="87"/>
                </a:lnTo>
                <a:lnTo>
                  <a:pt x="232" y="93"/>
                </a:lnTo>
                <a:lnTo>
                  <a:pt x="232" y="99"/>
                </a:lnTo>
                <a:lnTo>
                  <a:pt x="231" y="107"/>
                </a:lnTo>
                <a:lnTo>
                  <a:pt x="230" y="114"/>
                </a:lnTo>
                <a:lnTo>
                  <a:pt x="229" y="122"/>
                </a:lnTo>
                <a:lnTo>
                  <a:pt x="227" y="129"/>
                </a:lnTo>
                <a:lnTo>
                  <a:pt x="226" y="136"/>
                </a:lnTo>
                <a:lnTo>
                  <a:pt x="212" y="214"/>
                </a:lnTo>
                <a:lnTo>
                  <a:pt x="211" y="223"/>
                </a:lnTo>
                <a:lnTo>
                  <a:pt x="209" y="230"/>
                </a:lnTo>
                <a:lnTo>
                  <a:pt x="208" y="239"/>
                </a:lnTo>
                <a:lnTo>
                  <a:pt x="207" y="246"/>
                </a:lnTo>
                <a:lnTo>
                  <a:pt x="207" y="254"/>
                </a:lnTo>
                <a:lnTo>
                  <a:pt x="206" y="260"/>
                </a:lnTo>
                <a:lnTo>
                  <a:pt x="206" y="266"/>
                </a:lnTo>
                <a:lnTo>
                  <a:pt x="206" y="273"/>
                </a:lnTo>
                <a:lnTo>
                  <a:pt x="206" y="276"/>
                </a:lnTo>
                <a:lnTo>
                  <a:pt x="206" y="280"/>
                </a:lnTo>
                <a:lnTo>
                  <a:pt x="206" y="285"/>
                </a:lnTo>
                <a:lnTo>
                  <a:pt x="207" y="290"/>
                </a:lnTo>
                <a:lnTo>
                  <a:pt x="208" y="295"/>
                </a:lnTo>
                <a:lnTo>
                  <a:pt x="209" y="301"/>
                </a:lnTo>
                <a:lnTo>
                  <a:pt x="210" y="307"/>
                </a:lnTo>
                <a:lnTo>
                  <a:pt x="211" y="314"/>
                </a:lnTo>
                <a:lnTo>
                  <a:pt x="168" y="314"/>
                </a:lnTo>
                <a:lnTo>
                  <a:pt x="168" y="310"/>
                </a:lnTo>
                <a:lnTo>
                  <a:pt x="167" y="306"/>
                </a:lnTo>
                <a:lnTo>
                  <a:pt x="166" y="301"/>
                </a:lnTo>
                <a:lnTo>
                  <a:pt x="165" y="297"/>
                </a:lnTo>
                <a:lnTo>
                  <a:pt x="165" y="292"/>
                </a:lnTo>
                <a:lnTo>
                  <a:pt x="164" y="287"/>
                </a:lnTo>
                <a:lnTo>
                  <a:pt x="164" y="281"/>
                </a:lnTo>
                <a:lnTo>
                  <a:pt x="164" y="276"/>
                </a:lnTo>
                <a:close/>
                <a:moveTo>
                  <a:pt x="179" y="159"/>
                </a:moveTo>
                <a:lnTo>
                  <a:pt x="177" y="160"/>
                </a:lnTo>
                <a:lnTo>
                  <a:pt x="175" y="160"/>
                </a:lnTo>
                <a:lnTo>
                  <a:pt x="172" y="161"/>
                </a:lnTo>
                <a:lnTo>
                  <a:pt x="170" y="163"/>
                </a:lnTo>
                <a:lnTo>
                  <a:pt x="168" y="163"/>
                </a:lnTo>
                <a:lnTo>
                  <a:pt x="165" y="164"/>
                </a:lnTo>
                <a:lnTo>
                  <a:pt x="163" y="165"/>
                </a:lnTo>
                <a:lnTo>
                  <a:pt x="160" y="165"/>
                </a:lnTo>
                <a:lnTo>
                  <a:pt x="157" y="165"/>
                </a:lnTo>
                <a:lnTo>
                  <a:pt x="153" y="166"/>
                </a:lnTo>
                <a:lnTo>
                  <a:pt x="150" y="166"/>
                </a:lnTo>
                <a:lnTo>
                  <a:pt x="146" y="168"/>
                </a:lnTo>
                <a:lnTo>
                  <a:pt x="141" y="168"/>
                </a:lnTo>
                <a:lnTo>
                  <a:pt x="136" y="169"/>
                </a:lnTo>
                <a:lnTo>
                  <a:pt x="131" y="169"/>
                </a:lnTo>
                <a:lnTo>
                  <a:pt x="125" y="170"/>
                </a:lnTo>
                <a:lnTo>
                  <a:pt x="117" y="171"/>
                </a:lnTo>
                <a:lnTo>
                  <a:pt x="109" y="173"/>
                </a:lnTo>
                <a:lnTo>
                  <a:pt x="101" y="174"/>
                </a:lnTo>
                <a:lnTo>
                  <a:pt x="94" y="175"/>
                </a:lnTo>
                <a:lnTo>
                  <a:pt x="88" y="176"/>
                </a:lnTo>
                <a:lnTo>
                  <a:pt x="82" y="178"/>
                </a:lnTo>
                <a:lnTo>
                  <a:pt x="77" y="179"/>
                </a:lnTo>
                <a:lnTo>
                  <a:pt x="73" y="180"/>
                </a:lnTo>
                <a:lnTo>
                  <a:pt x="69" y="183"/>
                </a:lnTo>
                <a:lnTo>
                  <a:pt x="66" y="184"/>
                </a:lnTo>
                <a:lnTo>
                  <a:pt x="63" y="186"/>
                </a:lnTo>
                <a:lnTo>
                  <a:pt x="60" y="189"/>
                </a:lnTo>
                <a:lnTo>
                  <a:pt x="57" y="191"/>
                </a:lnTo>
                <a:lnTo>
                  <a:pt x="54" y="194"/>
                </a:lnTo>
                <a:lnTo>
                  <a:pt x="52" y="196"/>
                </a:lnTo>
                <a:lnTo>
                  <a:pt x="50" y="200"/>
                </a:lnTo>
                <a:lnTo>
                  <a:pt x="48" y="204"/>
                </a:lnTo>
                <a:lnTo>
                  <a:pt x="47" y="208"/>
                </a:lnTo>
                <a:lnTo>
                  <a:pt x="45" y="211"/>
                </a:lnTo>
                <a:lnTo>
                  <a:pt x="44" y="215"/>
                </a:lnTo>
                <a:lnTo>
                  <a:pt x="44" y="219"/>
                </a:lnTo>
                <a:lnTo>
                  <a:pt x="43" y="223"/>
                </a:lnTo>
                <a:lnTo>
                  <a:pt x="43" y="226"/>
                </a:lnTo>
                <a:lnTo>
                  <a:pt x="42" y="230"/>
                </a:lnTo>
                <a:lnTo>
                  <a:pt x="43" y="235"/>
                </a:lnTo>
                <a:lnTo>
                  <a:pt x="43" y="241"/>
                </a:lnTo>
                <a:lnTo>
                  <a:pt x="44" y="246"/>
                </a:lnTo>
                <a:lnTo>
                  <a:pt x="45" y="250"/>
                </a:lnTo>
                <a:lnTo>
                  <a:pt x="47" y="255"/>
                </a:lnTo>
                <a:lnTo>
                  <a:pt x="49" y="259"/>
                </a:lnTo>
                <a:lnTo>
                  <a:pt x="52" y="263"/>
                </a:lnTo>
                <a:lnTo>
                  <a:pt x="55" y="266"/>
                </a:lnTo>
                <a:lnTo>
                  <a:pt x="58" y="270"/>
                </a:lnTo>
                <a:lnTo>
                  <a:pt x="61" y="273"/>
                </a:lnTo>
                <a:lnTo>
                  <a:pt x="65" y="275"/>
                </a:lnTo>
                <a:lnTo>
                  <a:pt x="69" y="277"/>
                </a:lnTo>
                <a:lnTo>
                  <a:pt x="74" y="279"/>
                </a:lnTo>
                <a:lnTo>
                  <a:pt x="79" y="280"/>
                </a:lnTo>
                <a:lnTo>
                  <a:pt x="85" y="280"/>
                </a:lnTo>
                <a:lnTo>
                  <a:pt x="90" y="280"/>
                </a:lnTo>
                <a:lnTo>
                  <a:pt x="95" y="280"/>
                </a:lnTo>
                <a:lnTo>
                  <a:pt x="101" y="280"/>
                </a:lnTo>
                <a:lnTo>
                  <a:pt x="106" y="279"/>
                </a:lnTo>
                <a:lnTo>
                  <a:pt x="111" y="277"/>
                </a:lnTo>
                <a:lnTo>
                  <a:pt x="116" y="275"/>
                </a:lnTo>
                <a:lnTo>
                  <a:pt x="121" y="273"/>
                </a:lnTo>
                <a:lnTo>
                  <a:pt x="126" y="270"/>
                </a:lnTo>
                <a:lnTo>
                  <a:pt x="130" y="266"/>
                </a:lnTo>
                <a:lnTo>
                  <a:pt x="135" y="264"/>
                </a:lnTo>
                <a:lnTo>
                  <a:pt x="139" y="259"/>
                </a:lnTo>
                <a:lnTo>
                  <a:pt x="144" y="255"/>
                </a:lnTo>
                <a:lnTo>
                  <a:pt x="148" y="250"/>
                </a:lnTo>
                <a:lnTo>
                  <a:pt x="151" y="245"/>
                </a:lnTo>
                <a:lnTo>
                  <a:pt x="156" y="240"/>
                </a:lnTo>
                <a:lnTo>
                  <a:pt x="159" y="235"/>
                </a:lnTo>
                <a:lnTo>
                  <a:pt x="162" y="229"/>
                </a:lnTo>
                <a:lnTo>
                  <a:pt x="164" y="223"/>
                </a:lnTo>
                <a:lnTo>
                  <a:pt x="167" y="215"/>
                </a:lnTo>
                <a:lnTo>
                  <a:pt x="169" y="208"/>
                </a:lnTo>
                <a:lnTo>
                  <a:pt x="172" y="199"/>
                </a:lnTo>
                <a:lnTo>
                  <a:pt x="174" y="190"/>
                </a:lnTo>
                <a:lnTo>
                  <a:pt x="176" y="180"/>
                </a:lnTo>
                <a:lnTo>
                  <a:pt x="177" y="170"/>
                </a:lnTo>
                <a:lnTo>
                  <a:pt x="179" y="1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36040" y="1111320"/>
            <a:ext cx="172800" cy="168120"/>
          </a:xfrm>
          <a:custGeom>
            <a:avLst/>
            <a:gdLst/>
            <a:ahLst/>
            <a:rect l="l" t="t" r="r" b="b"/>
            <a:pathLst>
              <a:path w="328" h="423">
                <a:moveTo>
                  <a:pt x="0" y="423"/>
                </a:moveTo>
                <a:lnTo>
                  <a:pt x="72" y="0"/>
                </a:lnTo>
                <a:lnTo>
                  <a:pt x="217" y="0"/>
                </a:lnTo>
                <a:lnTo>
                  <a:pt x="227" y="0"/>
                </a:lnTo>
                <a:lnTo>
                  <a:pt x="236" y="0"/>
                </a:lnTo>
                <a:lnTo>
                  <a:pt x="245" y="1"/>
                </a:lnTo>
                <a:lnTo>
                  <a:pt x="254" y="1"/>
                </a:lnTo>
                <a:lnTo>
                  <a:pt x="262" y="2"/>
                </a:lnTo>
                <a:lnTo>
                  <a:pt x="269" y="5"/>
                </a:lnTo>
                <a:lnTo>
                  <a:pt x="276" y="6"/>
                </a:lnTo>
                <a:lnTo>
                  <a:pt x="282" y="8"/>
                </a:lnTo>
                <a:lnTo>
                  <a:pt x="287" y="11"/>
                </a:lnTo>
                <a:lnTo>
                  <a:pt x="292" y="13"/>
                </a:lnTo>
                <a:lnTo>
                  <a:pt x="297" y="17"/>
                </a:lnTo>
                <a:lnTo>
                  <a:pt x="301" y="21"/>
                </a:lnTo>
                <a:lnTo>
                  <a:pt x="305" y="25"/>
                </a:lnTo>
                <a:lnTo>
                  <a:pt x="309" y="30"/>
                </a:lnTo>
                <a:lnTo>
                  <a:pt x="312" y="36"/>
                </a:lnTo>
                <a:lnTo>
                  <a:pt x="316" y="41"/>
                </a:lnTo>
                <a:lnTo>
                  <a:pt x="319" y="47"/>
                </a:lnTo>
                <a:lnTo>
                  <a:pt x="321" y="55"/>
                </a:lnTo>
                <a:lnTo>
                  <a:pt x="323" y="61"/>
                </a:lnTo>
                <a:lnTo>
                  <a:pt x="325" y="68"/>
                </a:lnTo>
                <a:lnTo>
                  <a:pt x="326" y="77"/>
                </a:lnTo>
                <a:lnTo>
                  <a:pt x="327" y="85"/>
                </a:lnTo>
                <a:lnTo>
                  <a:pt x="328" y="93"/>
                </a:lnTo>
                <a:lnTo>
                  <a:pt x="328" y="102"/>
                </a:lnTo>
                <a:lnTo>
                  <a:pt x="328" y="116"/>
                </a:lnTo>
                <a:lnTo>
                  <a:pt x="326" y="127"/>
                </a:lnTo>
                <a:lnTo>
                  <a:pt x="324" y="139"/>
                </a:lnTo>
                <a:lnTo>
                  <a:pt x="321" y="149"/>
                </a:lnTo>
                <a:lnTo>
                  <a:pt x="318" y="161"/>
                </a:lnTo>
                <a:lnTo>
                  <a:pt x="313" y="171"/>
                </a:lnTo>
                <a:lnTo>
                  <a:pt x="307" y="179"/>
                </a:lnTo>
                <a:lnTo>
                  <a:pt x="301" y="188"/>
                </a:lnTo>
                <a:lnTo>
                  <a:pt x="294" y="197"/>
                </a:lnTo>
                <a:lnTo>
                  <a:pt x="285" y="204"/>
                </a:lnTo>
                <a:lnTo>
                  <a:pt x="276" y="211"/>
                </a:lnTo>
                <a:lnTo>
                  <a:pt x="266" y="217"/>
                </a:lnTo>
                <a:lnTo>
                  <a:pt x="253" y="222"/>
                </a:lnTo>
                <a:lnTo>
                  <a:pt x="241" y="226"/>
                </a:lnTo>
                <a:lnTo>
                  <a:pt x="227" y="229"/>
                </a:lnTo>
                <a:lnTo>
                  <a:pt x="212" y="233"/>
                </a:lnTo>
                <a:lnTo>
                  <a:pt x="217" y="237"/>
                </a:lnTo>
                <a:lnTo>
                  <a:pt x="221" y="240"/>
                </a:lnTo>
                <a:lnTo>
                  <a:pt x="225" y="245"/>
                </a:lnTo>
                <a:lnTo>
                  <a:pt x="229" y="249"/>
                </a:lnTo>
                <a:lnTo>
                  <a:pt x="232" y="254"/>
                </a:lnTo>
                <a:lnTo>
                  <a:pt x="235" y="258"/>
                </a:lnTo>
                <a:lnTo>
                  <a:pt x="238" y="262"/>
                </a:lnTo>
                <a:lnTo>
                  <a:pt x="240" y="267"/>
                </a:lnTo>
                <a:lnTo>
                  <a:pt x="246" y="275"/>
                </a:lnTo>
                <a:lnTo>
                  <a:pt x="251" y="285"/>
                </a:lnTo>
                <a:lnTo>
                  <a:pt x="255" y="294"/>
                </a:lnTo>
                <a:lnTo>
                  <a:pt x="261" y="304"/>
                </a:lnTo>
                <a:lnTo>
                  <a:pt x="265" y="314"/>
                </a:lnTo>
                <a:lnTo>
                  <a:pt x="269" y="324"/>
                </a:lnTo>
                <a:lnTo>
                  <a:pt x="272" y="333"/>
                </a:lnTo>
                <a:lnTo>
                  <a:pt x="276" y="343"/>
                </a:lnTo>
                <a:lnTo>
                  <a:pt x="302" y="423"/>
                </a:lnTo>
                <a:lnTo>
                  <a:pt x="250" y="423"/>
                </a:lnTo>
                <a:lnTo>
                  <a:pt x="226" y="344"/>
                </a:lnTo>
                <a:lnTo>
                  <a:pt x="222" y="334"/>
                </a:lnTo>
                <a:lnTo>
                  <a:pt x="219" y="324"/>
                </a:lnTo>
                <a:lnTo>
                  <a:pt x="215" y="314"/>
                </a:lnTo>
                <a:lnTo>
                  <a:pt x="211" y="304"/>
                </a:lnTo>
                <a:lnTo>
                  <a:pt x="208" y="295"/>
                </a:lnTo>
                <a:lnTo>
                  <a:pt x="204" y="287"/>
                </a:lnTo>
                <a:lnTo>
                  <a:pt x="200" y="278"/>
                </a:lnTo>
                <a:lnTo>
                  <a:pt x="196" y="270"/>
                </a:lnTo>
                <a:lnTo>
                  <a:pt x="193" y="265"/>
                </a:lnTo>
                <a:lnTo>
                  <a:pt x="190" y="260"/>
                </a:lnTo>
                <a:lnTo>
                  <a:pt x="186" y="255"/>
                </a:lnTo>
                <a:lnTo>
                  <a:pt x="183" y="252"/>
                </a:lnTo>
                <a:lnTo>
                  <a:pt x="180" y="249"/>
                </a:lnTo>
                <a:lnTo>
                  <a:pt x="177" y="245"/>
                </a:lnTo>
                <a:lnTo>
                  <a:pt x="174" y="244"/>
                </a:lnTo>
                <a:lnTo>
                  <a:pt x="171" y="242"/>
                </a:lnTo>
                <a:lnTo>
                  <a:pt x="168" y="240"/>
                </a:lnTo>
                <a:lnTo>
                  <a:pt x="164" y="239"/>
                </a:lnTo>
                <a:lnTo>
                  <a:pt x="160" y="238"/>
                </a:lnTo>
                <a:lnTo>
                  <a:pt x="155" y="237"/>
                </a:lnTo>
                <a:lnTo>
                  <a:pt x="150" y="236"/>
                </a:lnTo>
                <a:lnTo>
                  <a:pt x="144" y="236"/>
                </a:lnTo>
                <a:lnTo>
                  <a:pt x="138" y="236"/>
                </a:lnTo>
                <a:lnTo>
                  <a:pt x="132" y="236"/>
                </a:lnTo>
                <a:lnTo>
                  <a:pt x="78" y="236"/>
                </a:lnTo>
                <a:lnTo>
                  <a:pt x="46" y="423"/>
                </a:lnTo>
                <a:lnTo>
                  <a:pt x="0" y="423"/>
                </a:lnTo>
                <a:close/>
                <a:moveTo>
                  <a:pt x="86" y="189"/>
                </a:moveTo>
                <a:lnTo>
                  <a:pt x="149" y="189"/>
                </a:lnTo>
                <a:lnTo>
                  <a:pt x="160" y="189"/>
                </a:lnTo>
                <a:lnTo>
                  <a:pt x="169" y="189"/>
                </a:lnTo>
                <a:lnTo>
                  <a:pt x="178" y="189"/>
                </a:lnTo>
                <a:lnTo>
                  <a:pt x="185" y="188"/>
                </a:lnTo>
                <a:lnTo>
                  <a:pt x="193" y="188"/>
                </a:lnTo>
                <a:lnTo>
                  <a:pt x="199" y="188"/>
                </a:lnTo>
                <a:lnTo>
                  <a:pt x="203" y="188"/>
                </a:lnTo>
                <a:lnTo>
                  <a:pt x="207" y="187"/>
                </a:lnTo>
                <a:lnTo>
                  <a:pt x="213" y="187"/>
                </a:lnTo>
                <a:lnTo>
                  <a:pt x="219" y="186"/>
                </a:lnTo>
                <a:lnTo>
                  <a:pt x="225" y="184"/>
                </a:lnTo>
                <a:lnTo>
                  <a:pt x="231" y="182"/>
                </a:lnTo>
                <a:lnTo>
                  <a:pt x="236" y="181"/>
                </a:lnTo>
                <a:lnTo>
                  <a:pt x="240" y="178"/>
                </a:lnTo>
                <a:lnTo>
                  <a:pt x="245" y="176"/>
                </a:lnTo>
                <a:lnTo>
                  <a:pt x="249" y="173"/>
                </a:lnTo>
                <a:lnTo>
                  <a:pt x="253" y="171"/>
                </a:lnTo>
                <a:lnTo>
                  <a:pt x="257" y="167"/>
                </a:lnTo>
                <a:lnTo>
                  <a:pt x="262" y="163"/>
                </a:lnTo>
                <a:lnTo>
                  <a:pt x="265" y="159"/>
                </a:lnTo>
                <a:lnTo>
                  <a:pt x="268" y="156"/>
                </a:lnTo>
                <a:lnTo>
                  <a:pt x="271" y="152"/>
                </a:lnTo>
                <a:lnTo>
                  <a:pt x="273" y="147"/>
                </a:lnTo>
                <a:lnTo>
                  <a:pt x="276" y="143"/>
                </a:lnTo>
                <a:lnTo>
                  <a:pt x="278" y="138"/>
                </a:lnTo>
                <a:lnTo>
                  <a:pt x="280" y="133"/>
                </a:lnTo>
                <a:lnTo>
                  <a:pt x="281" y="128"/>
                </a:lnTo>
                <a:lnTo>
                  <a:pt x="283" y="123"/>
                </a:lnTo>
                <a:lnTo>
                  <a:pt x="284" y="118"/>
                </a:lnTo>
                <a:lnTo>
                  <a:pt x="284" y="112"/>
                </a:lnTo>
                <a:lnTo>
                  <a:pt x="285" y="107"/>
                </a:lnTo>
                <a:lnTo>
                  <a:pt x="285" y="102"/>
                </a:lnTo>
                <a:lnTo>
                  <a:pt x="285" y="97"/>
                </a:lnTo>
                <a:lnTo>
                  <a:pt x="284" y="92"/>
                </a:lnTo>
                <a:lnTo>
                  <a:pt x="284" y="88"/>
                </a:lnTo>
                <a:lnTo>
                  <a:pt x="283" y="85"/>
                </a:lnTo>
                <a:lnTo>
                  <a:pt x="282" y="81"/>
                </a:lnTo>
                <a:lnTo>
                  <a:pt x="281" y="77"/>
                </a:lnTo>
                <a:lnTo>
                  <a:pt x="280" y="73"/>
                </a:lnTo>
                <a:lnTo>
                  <a:pt x="278" y="70"/>
                </a:lnTo>
                <a:lnTo>
                  <a:pt x="276" y="66"/>
                </a:lnTo>
                <a:lnTo>
                  <a:pt x="274" y="63"/>
                </a:lnTo>
                <a:lnTo>
                  <a:pt x="272" y="61"/>
                </a:lnTo>
                <a:lnTo>
                  <a:pt x="270" y="58"/>
                </a:lnTo>
                <a:lnTo>
                  <a:pt x="268" y="56"/>
                </a:lnTo>
                <a:lnTo>
                  <a:pt x="266" y="53"/>
                </a:lnTo>
                <a:lnTo>
                  <a:pt x="263" y="52"/>
                </a:lnTo>
                <a:lnTo>
                  <a:pt x="260" y="51"/>
                </a:lnTo>
                <a:lnTo>
                  <a:pt x="256" y="50"/>
                </a:lnTo>
                <a:lnTo>
                  <a:pt x="253" y="48"/>
                </a:lnTo>
                <a:lnTo>
                  <a:pt x="249" y="48"/>
                </a:lnTo>
                <a:lnTo>
                  <a:pt x="245" y="47"/>
                </a:lnTo>
                <a:lnTo>
                  <a:pt x="240" y="47"/>
                </a:lnTo>
                <a:lnTo>
                  <a:pt x="235" y="46"/>
                </a:lnTo>
                <a:lnTo>
                  <a:pt x="229" y="46"/>
                </a:lnTo>
                <a:lnTo>
                  <a:pt x="222" y="46"/>
                </a:lnTo>
                <a:lnTo>
                  <a:pt x="110" y="46"/>
                </a:lnTo>
                <a:lnTo>
                  <a:pt x="86" y="18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920000" y="1154160"/>
            <a:ext cx="125280" cy="12852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0" y="198"/>
                </a:moveTo>
                <a:lnTo>
                  <a:pt x="0" y="175"/>
                </a:lnTo>
                <a:lnTo>
                  <a:pt x="2" y="154"/>
                </a:lnTo>
                <a:lnTo>
                  <a:pt x="5" y="134"/>
                </a:lnTo>
                <a:lnTo>
                  <a:pt x="10" y="115"/>
                </a:lnTo>
                <a:lnTo>
                  <a:pt x="16" y="98"/>
                </a:lnTo>
                <a:lnTo>
                  <a:pt x="23" y="80"/>
                </a:lnTo>
                <a:lnTo>
                  <a:pt x="32" y="64"/>
                </a:lnTo>
                <a:lnTo>
                  <a:pt x="42" y="49"/>
                </a:lnTo>
                <a:lnTo>
                  <a:pt x="51" y="38"/>
                </a:lnTo>
                <a:lnTo>
                  <a:pt x="62" y="28"/>
                </a:lnTo>
                <a:lnTo>
                  <a:pt x="72" y="19"/>
                </a:lnTo>
                <a:lnTo>
                  <a:pt x="83" y="12"/>
                </a:lnTo>
                <a:lnTo>
                  <a:pt x="95" y="7"/>
                </a:lnTo>
                <a:lnTo>
                  <a:pt x="108" y="3"/>
                </a:lnTo>
                <a:lnTo>
                  <a:pt x="121" y="0"/>
                </a:lnTo>
                <a:lnTo>
                  <a:pt x="136" y="0"/>
                </a:lnTo>
                <a:lnTo>
                  <a:pt x="147" y="0"/>
                </a:lnTo>
                <a:lnTo>
                  <a:pt x="157" y="2"/>
                </a:lnTo>
                <a:lnTo>
                  <a:pt x="167" y="5"/>
                </a:lnTo>
                <a:lnTo>
                  <a:pt x="176" y="9"/>
                </a:lnTo>
                <a:lnTo>
                  <a:pt x="185" y="14"/>
                </a:lnTo>
                <a:lnTo>
                  <a:pt x="193" y="19"/>
                </a:lnTo>
                <a:lnTo>
                  <a:pt x="201" y="27"/>
                </a:lnTo>
                <a:lnTo>
                  <a:pt x="208" y="35"/>
                </a:lnTo>
                <a:lnTo>
                  <a:pt x="215" y="44"/>
                </a:lnTo>
                <a:lnTo>
                  <a:pt x="220" y="54"/>
                </a:lnTo>
                <a:lnTo>
                  <a:pt x="225" y="64"/>
                </a:lnTo>
                <a:lnTo>
                  <a:pt x="229" y="75"/>
                </a:lnTo>
                <a:lnTo>
                  <a:pt x="232" y="88"/>
                </a:lnTo>
                <a:lnTo>
                  <a:pt x="234" y="100"/>
                </a:lnTo>
                <a:lnTo>
                  <a:pt x="235" y="114"/>
                </a:lnTo>
                <a:lnTo>
                  <a:pt x="236" y="129"/>
                </a:lnTo>
                <a:lnTo>
                  <a:pt x="235" y="141"/>
                </a:lnTo>
                <a:lnTo>
                  <a:pt x="235" y="154"/>
                </a:lnTo>
                <a:lnTo>
                  <a:pt x="233" y="168"/>
                </a:lnTo>
                <a:lnTo>
                  <a:pt x="231" y="180"/>
                </a:lnTo>
                <a:lnTo>
                  <a:pt x="229" y="191"/>
                </a:lnTo>
                <a:lnTo>
                  <a:pt x="226" y="204"/>
                </a:lnTo>
                <a:lnTo>
                  <a:pt x="222" y="215"/>
                </a:lnTo>
                <a:lnTo>
                  <a:pt x="218" y="228"/>
                </a:lnTo>
                <a:lnTo>
                  <a:pt x="214" y="238"/>
                </a:lnTo>
                <a:lnTo>
                  <a:pt x="209" y="249"/>
                </a:lnTo>
                <a:lnTo>
                  <a:pt x="204" y="258"/>
                </a:lnTo>
                <a:lnTo>
                  <a:pt x="197" y="268"/>
                </a:lnTo>
                <a:lnTo>
                  <a:pt x="190" y="275"/>
                </a:lnTo>
                <a:lnTo>
                  <a:pt x="184" y="284"/>
                </a:lnTo>
                <a:lnTo>
                  <a:pt x="176" y="290"/>
                </a:lnTo>
                <a:lnTo>
                  <a:pt x="169" y="296"/>
                </a:lnTo>
                <a:lnTo>
                  <a:pt x="161" y="302"/>
                </a:lnTo>
                <a:lnTo>
                  <a:pt x="153" y="307"/>
                </a:lnTo>
                <a:lnTo>
                  <a:pt x="145" y="311"/>
                </a:lnTo>
                <a:lnTo>
                  <a:pt x="136" y="315"/>
                </a:lnTo>
                <a:lnTo>
                  <a:pt x="127" y="317"/>
                </a:lnTo>
                <a:lnTo>
                  <a:pt x="118" y="320"/>
                </a:lnTo>
                <a:lnTo>
                  <a:pt x="110" y="321"/>
                </a:lnTo>
                <a:lnTo>
                  <a:pt x="101" y="321"/>
                </a:lnTo>
                <a:lnTo>
                  <a:pt x="94" y="321"/>
                </a:lnTo>
                <a:lnTo>
                  <a:pt x="87" y="320"/>
                </a:lnTo>
                <a:lnTo>
                  <a:pt x="80" y="319"/>
                </a:lnTo>
                <a:lnTo>
                  <a:pt x="74" y="317"/>
                </a:lnTo>
                <a:lnTo>
                  <a:pt x="67" y="315"/>
                </a:lnTo>
                <a:lnTo>
                  <a:pt x="61" y="312"/>
                </a:lnTo>
                <a:lnTo>
                  <a:pt x="54" y="310"/>
                </a:lnTo>
                <a:lnTo>
                  <a:pt x="48" y="306"/>
                </a:lnTo>
                <a:lnTo>
                  <a:pt x="42" y="301"/>
                </a:lnTo>
                <a:lnTo>
                  <a:pt x="37" y="297"/>
                </a:lnTo>
                <a:lnTo>
                  <a:pt x="32" y="292"/>
                </a:lnTo>
                <a:lnTo>
                  <a:pt x="27" y="287"/>
                </a:lnTo>
                <a:lnTo>
                  <a:pt x="23" y="281"/>
                </a:lnTo>
                <a:lnTo>
                  <a:pt x="19" y="276"/>
                </a:lnTo>
                <a:lnTo>
                  <a:pt x="15" y="269"/>
                </a:lnTo>
                <a:lnTo>
                  <a:pt x="12" y="263"/>
                </a:lnTo>
                <a:lnTo>
                  <a:pt x="9" y="255"/>
                </a:lnTo>
                <a:lnTo>
                  <a:pt x="7" y="248"/>
                </a:lnTo>
                <a:lnTo>
                  <a:pt x="4" y="240"/>
                </a:lnTo>
                <a:lnTo>
                  <a:pt x="3" y="233"/>
                </a:lnTo>
                <a:lnTo>
                  <a:pt x="1" y="224"/>
                </a:lnTo>
                <a:lnTo>
                  <a:pt x="0" y="215"/>
                </a:lnTo>
                <a:lnTo>
                  <a:pt x="0" y="206"/>
                </a:lnTo>
                <a:lnTo>
                  <a:pt x="0" y="198"/>
                </a:lnTo>
                <a:close/>
                <a:moveTo>
                  <a:pt x="41" y="193"/>
                </a:moveTo>
                <a:lnTo>
                  <a:pt x="42" y="203"/>
                </a:lnTo>
                <a:lnTo>
                  <a:pt x="42" y="213"/>
                </a:lnTo>
                <a:lnTo>
                  <a:pt x="44" y="223"/>
                </a:lnTo>
                <a:lnTo>
                  <a:pt x="46" y="230"/>
                </a:lnTo>
                <a:lnTo>
                  <a:pt x="48" y="239"/>
                </a:lnTo>
                <a:lnTo>
                  <a:pt x="51" y="246"/>
                </a:lnTo>
                <a:lnTo>
                  <a:pt x="54" y="253"/>
                </a:lnTo>
                <a:lnTo>
                  <a:pt x="59" y="259"/>
                </a:lnTo>
                <a:lnTo>
                  <a:pt x="63" y="264"/>
                </a:lnTo>
                <a:lnTo>
                  <a:pt x="68" y="268"/>
                </a:lnTo>
                <a:lnTo>
                  <a:pt x="73" y="271"/>
                </a:lnTo>
                <a:lnTo>
                  <a:pt x="78" y="275"/>
                </a:lnTo>
                <a:lnTo>
                  <a:pt x="84" y="277"/>
                </a:lnTo>
                <a:lnTo>
                  <a:pt x="89" y="279"/>
                </a:lnTo>
                <a:lnTo>
                  <a:pt x="95" y="280"/>
                </a:lnTo>
                <a:lnTo>
                  <a:pt x="102" y="280"/>
                </a:lnTo>
                <a:lnTo>
                  <a:pt x="105" y="280"/>
                </a:lnTo>
                <a:lnTo>
                  <a:pt x="108" y="280"/>
                </a:lnTo>
                <a:lnTo>
                  <a:pt x="112" y="280"/>
                </a:lnTo>
                <a:lnTo>
                  <a:pt x="115" y="279"/>
                </a:lnTo>
                <a:lnTo>
                  <a:pt x="118" y="277"/>
                </a:lnTo>
                <a:lnTo>
                  <a:pt x="122" y="276"/>
                </a:lnTo>
                <a:lnTo>
                  <a:pt x="125" y="275"/>
                </a:lnTo>
                <a:lnTo>
                  <a:pt x="129" y="274"/>
                </a:lnTo>
                <a:lnTo>
                  <a:pt x="132" y="273"/>
                </a:lnTo>
                <a:lnTo>
                  <a:pt x="136" y="270"/>
                </a:lnTo>
                <a:lnTo>
                  <a:pt x="139" y="268"/>
                </a:lnTo>
                <a:lnTo>
                  <a:pt x="142" y="265"/>
                </a:lnTo>
                <a:lnTo>
                  <a:pt x="145" y="263"/>
                </a:lnTo>
                <a:lnTo>
                  <a:pt x="148" y="260"/>
                </a:lnTo>
                <a:lnTo>
                  <a:pt x="151" y="256"/>
                </a:lnTo>
                <a:lnTo>
                  <a:pt x="154" y="253"/>
                </a:lnTo>
                <a:lnTo>
                  <a:pt x="157" y="250"/>
                </a:lnTo>
                <a:lnTo>
                  <a:pt x="159" y="246"/>
                </a:lnTo>
                <a:lnTo>
                  <a:pt x="162" y="243"/>
                </a:lnTo>
                <a:lnTo>
                  <a:pt x="164" y="239"/>
                </a:lnTo>
                <a:lnTo>
                  <a:pt x="167" y="234"/>
                </a:lnTo>
                <a:lnTo>
                  <a:pt x="169" y="230"/>
                </a:lnTo>
                <a:lnTo>
                  <a:pt x="171" y="226"/>
                </a:lnTo>
                <a:lnTo>
                  <a:pt x="173" y="221"/>
                </a:lnTo>
                <a:lnTo>
                  <a:pt x="175" y="218"/>
                </a:lnTo>
                <a:lnTo>
                  <a:pt x="177" y="213"/>
                </a:lnTo>
                <a:lnTo>
                  <a:pt x="179" y="208"/>
                </a:lnTo>
                <a:lnTo>
                  <a:pt x="180" y="203"/>
                </a:lnTo>
                <a:lnTo>
                  <a:pt x="182" y="198"/>
                </a:lnTo>
                <a:lnTo>
                  <a:pt x="183" y="194"/>
                </a:lnTo>
                <a:lnTo>
                  <a:pt x="185" y="188"/>
                </a:lnTo>
                <a:lnTo>
                  <a:pt x="186" y="183"/>
                </a:lnTo>
                <a:lnTo>
                  <a:pt x="188" y="176"/>
                </a:lnTo>
                <a:lnTo>
                  <a:pt x="189" y="169"/>
                </a:lnTo>
                <a:lnTo>
                  <a:pt x="190" y="161"/>
                </a:lnTo>
                <a:lnTo>
                  <a:pt x="191" y="155"/>
                </a:lnTo>
                <a:lnTo>
                  <a:pt x="192" y="148"/>
                </a:lnTo>
                <a:lnTo>
                  <a:pt x="193" y="141"/>
                </a:lnTo>
                <a:lnTo>
                  <a:pt x="193" y="135"/>
                </a:lnTo>
                <a:lnTo>
                  <a:pt x="193" y="128"/>
                </a:lnTo>
                <a:lnTo>
                  <a:pt x="193" y="118"/>
                </a:lnTo>
                <a:lnTo>
                  <a:pt x="192" y="109"/>
                </a:lnTo>
                <a:lnTo>
                  <a:pt x="191" y="99"/>
                </a:lnTo>
                <a:lnTo>
                  <a:pt x="189" y="92"/>
                </a:lnTo>
                <a:lnTo>
                  <a:pt x="187" y="83"/>
                </a:lnTo>
                <a:lnTo>
                  <a:pt x="184" y="77"/>
                </a:lnTo>
                <a:lnTo>
                  <a:pt x="180" y="69"/>
                </a:lnTo>
                <a:lnTo>
                  <a:pt x="176" y="64"/>
                </a:lnTo>
                <a:lnTo>
                  <a:pt x="172" y="58"/>
                </a:lnTo>
                <a:lnTo>
                  <a:pt x="167" y="54"/>
                </a:lnTo>
                <a:lnTo>
                  <a:pt x="163" y="49"/>
                </a:lnTo>
                <a:lnTo>
                  <a:pt x="157" y="47"/>
                </a:lnTo>
                <a:lnTo>
                  <a:pt x="152" y="44"/>
                </a:lnTo>
                <a:lnTo>
                  <a:pt x="146" y="42"/>
                </a:lnTo>
                <a:lnTo>
                  <a:pt x="140" y="40"/>
                </a:lnTo>
                <a:lnTo>
                  <a:pt x="134" y="40"/>
                </a:lnTo>
                <a:lnTo>
                  <a:pt x="129" y="40"/>
                </a:lnTo>
                <a:lnTo>
                  <a:pt x="123" y="42"/>
                </a:lnTo>
                <a:lnTo>
                  <a:pt x="119" y="42"/>
                </a:lnTo>
                <a:lnTo>
                  <a:pt x="114" y="44"/>
                </a:lnTo>
                <a:lnTo>
                  <a:pt x="110" y="45"/>
                </a:lnTo>
                <a:lnTo>
                  <a:pt x="105" y="47"/>
                </a:lnTo>
                <a:lnTo>
                  <a:pt x="101" y="49"/>
                </a:lnTo>
                <a:lnTo>
                  <a:pt x="97" y="53"/>
                </a:lnTo>
                <a:lnTo>
                  <a:pt x="93" y="55"/>
                </a:lnTo>
                <a:lnTo>
                  <a:pt x="89" y="59"/>
                </a:lnTo>
                <a:lnTo>
                  <a:pt x="85" y="63"/>
                </a:lnTo>
                <a:lnTo>
                  <a:pt x="82" y="67"/>
                </a:lnTo>
                <a:lnTo>
                  <a:pt x="78" y="72"/>
                </a:lnTo>
                <a:lnTo>
                  <a:pt x="75" y="75"/>
                </a:lnTo>
                <a:lnTo>
                  <a:pt x="71" y="82"/>
                </a:lnTo>
                <a:lnTo>
                  <a:pt x="68" y="87"/>
                </a:lnTo>
                <a:lnTo>
                  <a:pt x="65" y="93"/>
                </a:lnTo>
                <a:lnTo>
                  <a:pt x="62" y="98"/>
                </a:lnTo>
                <a:lnTo>
                  <a:pt x="59" y="104"/>
                </a:lnTo>
                <a:lnTo>
                  <a:pt x="57" y="112"/>
                </a:lnTo>
                <a:lnTo>
                  <a:pt x="53" y="118"/>
                </a:lnTo>
                <a:lnTo>
                  <a:pt x="51" y="124"/>
                </a:lnTo>
                <a:lnTo>
                  <a:pt x="49" y="131"/>
                </a:lnTo>
                <a:lnTo>
                  <a:pt x="48" y="139"/>
                </a:lnTo>
                <a:lnTo>
                  <a:pt x="46" y="146"/>
                </a:lnTo>
                <a:lnTo>
                  <a:pt x="45" y="154"/>
                </a:lnTo>
                <a:lnTo>
                  <a:pt x="44" y="160"/>
                </a:lnTo>
                <a:lnTo>
                  <a:pt x="43" y="168"/>
                </a:lnTo>
                <a:lnTo>
                  <a:pt x="42" y="174"/>
                </a:lnTo>
                <a:lnTo>
                  <a:pt x="42" y="180"/>
                </a:lnTo>
                <a:lnTo>
                  <a:pt x="42" y="186"/>
                </a:lnTo>
                <a:lnTo>
                  <a:pt x="41" y="19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58240" y="1154160"/>
            <a:ext cx="198360" cy="125280"/>
          </a:xfrm>
          <a:custGeom>
            <a:avLst/>
            <a:gdLst/>
            <a:ahLst/>
            <a:rect l="l" t="t" r="r" b="b"/>
            <a:pathLst>
              <a:path w="375" h="314">
                <a:moveTo>
                  <a:pt x="0" y="314"/>
                </a:moveTo>
                <a:lnTo>
                  <a:pt x="52" y="7"/>
                </a:lnTo>
                <a:lnTo>
                  <a:pt x="95" y="7"/>
                </a:lnTo>
                <a:lnTo>
                  <a:pt x="87" y="58"/>
                </a:lnTo>
                <a:lnTo>
                  <a:pt x="92" y="50"/>
                </a:lnTo>
                <a:lnTo>
                  <a:pt x="98" y="43"/>
                </a:lnTo>
                <a:lnTo>
                  <a:pt x="103" y="35"/>
                </a:lnTo>
                <a:lnTo>
                  <a:pt x="109" y="30"/>
                </a:lnTo>
                <a:lnTo>
                  <a:pt x="114" y="24"/>
                </a:lnTo>
                <a:lnTo>
                  <a:pt x="119" y="20"/>
                </a:lnTo>
                <a:lnTo>
                  <a:pt x="124" y="15"/>
                </a:lnTo>
                <a:lnTo>
                  <a:pt x="128" y="13"/>
                </a:lnTo>
                <a:lnTo>
                  <a:pt x="133" y="9"/>
                </a:lnTo>
                <a:lnTo>
                  <a:pt x="138" y="7"/>
                </a:lnTo>
                <a:lnTo>
                  <a:pt x="143" y="5"/>
                </a:lnTo>
                <a:lnTo>
                  <a:pt x="148" y="3"/>
                </a:lnTo>
                <a:lnTo>
                  <a:pt x="153" y="2"/>
                </a:lnTo>
                <a:lnTo>
                  <a:pt x="159" y="0"/>
                </a:lnTo>
                <a:lnTo>
                  <a:pt x="164" y="0"/>
                </a:lnTo>
                <a:lnTo>
                  <a:pt x="169" y="0"/>
                </a:lnTo>
                <a:lnTo>
                  <a:pt x="175" y="0"/>
                </a:lnTo>
                <a:lnTo>
                  <a:pt x="180" y="0"/>
                </a:lnTo>
                <a:lnTo>
                  <a:pt x="186" y="2"/>
                </a:lnTo>
                <a:lnTo>
                  <a:pt x="190" y="4"/>
                </a:lnTo>
                <a:lnTo>
                  <a:pt x="195" y="5"/>
                </a:lnTo>
                <a:lnTo>
                  <a:pt x="200" y="9"/>
                </a:lnTo>
                <a:lnTo>
                  <a:pt x="204" y="12"/>
                </a:lnTo>
                <a:lnTo>
                  <a:pt x="208" y="15"/>
                </a:lnTo>
                <a:lnTo>
                  <a:pt x="211" y="19"/>
                </a:lnTo>
                <a:lnTo>
                  <a:pt x="215" y="24"/>
                </a:lnTo>
                <a:lnTo>
                  <a:pt x="218" y="28"/>
                </a:lnTo>
                <a:lnTo>
                  <a:pt x="220" y="33"/>
                </a:lnTo>
                <a:lnTo>
                  <a:pt x="223" y="39"/>
                </a:lnTo>
                <a:lnTo>
                  <a:pt x="225" y="45"/>
                </a:lnTo>
                <a:lnTo>
                  <a:pt x="227" y="52"/>
                </a:lnTo>
                <a:lnTo>
                  <a:pt x="228" y="58"/>
                </a:lnTo>
                <a:lnTo>
                  <a:pt x="234" y="50"/>
                </a:lnTo>
                <a:lnTo>
                  <a:pt x="239" y="44"/>
                </a:lnTo>
                <a:lnTo>
                  <a:pt x="243" y="38"/>
                </a:lnTo>
                <a:lnTo>
                  <a:pt x="248" y="33"/>
                </a:lnTo>
                <a:lnTo>
                  <a:pt x="253" y="27"/>
                </a:lnTo>
                <a:lnTo>
                  <a:pt x="258" y="23"/>
                </a:lnTo>
                <a:lnTo>
                  <a:pt x="263" y="18"/>
                </a:lnTo>
                <a:lnTo>
                  <a:pt x="268" y="14"/>
                </a:lnTo>
                <a:lnTo>
                  <a:pt x="274" y="10"/>
                </a:lnTo>
                <a:lnTo>
                  <a:pt x="279" y="8"/>
                </a:lnTo>
                <a:lnTo>
                  <a:pt x="284" y="5"/>
                </a:lnTo>
                <a:lnTo>
                  <a:pt x="290" y="4"/>
                </a:lnTo>
                <a:lnTo>
                  <a:pt x="295" y="2"/>
                </a:lnTo>
                <a:lnTo>
                  <a:pt x="301" y="0"/>
                </a:lnTo>
                <a:lnTo>
                  <a:pt x="307" y="0"/>
                </a:lnTo>
                <a:lnTo>
                  <a:pt x="313" y="0"/>
                </a:lnTo>
                <a:lnTo>
                  <a:pt x="321" y="0"/>
                </a:lnTo>
                <a:lnTo>
                  <a:pt x="328" y="2"/>
                </a:lnTo>
                <a:lnTo>
                  <a:pt x="334" y="3"/>
                </a:lnTo>
                <a:lnTo>
                  <a:pt x="340" y="4"/>
                </a:lnTo>
                <a:lnTo>
                  <a:pt x="346" y="7"/>
                </a:lnTo>
                <a:lnTo>
                  <a:pt x="351" y="10"/>
                </a:lnTo>
                <a:lnTo>
                  <a:pt x="355" y="14"/>
                </a:lnTo>
                <a:lnTo>
                  <a:pt x="359" y="18"/>
                </a:lnTo>
                <a:lnTo>
                  <a:pt x="363" y="23"/>
                </a:lnTo>
                <a:lnTo>
                  <a:pt x="366" y="28"/>
                </a:lnTo>
                <a:lnTo>
                  <a:pt x="369" y="34"/>
                </a:lnTo>
                <a:lnTo>
                  <a:pt x="371" y="40"/>
                </a:lnTo>
                <a:lnTo>
                  <a:pt x="373" y="47"/>
                </a:lnTo>
                <a:lnTo>
                  <a:pt x="374" y="54"/>
                </a:lnTo>
                <a:lnTo>
                  <a:pt x="375" y="62"/>
                </a:lnTo>
                <a:lnTo>
                  <a:pt x="375" y="69"/>
                </a:lnTo>
                <a:lnTo>
                  <a:pt x="375" y="73"/>
                </a:lnTo>
                <a:lnTo>
                  <a:pt x="375" y="78"/>
                </a:lnTo>
                <a:lnTo>
                  <a:pt x="374" y="83"/>
                </a:lnTo>
                <a:lnTo>
                  <a:pt x="374" y="88"/>
                </a:lnTo>
                <a:lnTo>
                  <a:pt x="373" y="94"/>
                </a:lnTo>
                <a:lnTo>
                  <a:pt x="372" y="102"/>
                </a:lnTo>
                <a:lnTo>
                  <a:pt x="371" y="109"/>
                </a:lnTo>
                <a:lnTo>
                  <a:pt x="370" y="117"/>
                </a:lnTo>
                <a:lnTo>
                  <a:pt x="336" y="314"/>
                </a:lnTo>
                <a:lnTo>
                  <a:pt x="293" y="314"/>
                </a:lnTo>
                <a:lnTo>
                  <a:pt x="328" y="112"/>
                </a:lnTo>
                <a:lnTo>
                  <a:pt x="329" y="105"/>
                </a:lnTo>
                <a:lnTo>
                  <a:pt x="330" y="99"/>
                </a:lnTo>
                <a:lnTo>
                  <a:pt x="331" y="94"/>
                </a:lnTo>
                <a:lnTo>
                  <a:pt x="332" y="90"/>
                </a:lnTo>
                <a:lnTo>
                  <a:pt x="332" y="85"/>
                </a:lnTo>
                <a:lnTo>
                  <a:pt x="332" y="82"/>
                </a:lnTo>
                <a:lnTo>
                  <a:pt x="333" y="79"/>
                </a:lnTo>
                <a:lnTo>
                  <a:pt x="333" y="75"/>
                </a:lnTo>
                <a:lnTo>
                  <a:pt x="333" y="72"/>
                </a:lnTo>
                <a:lnTo>
                  <a:pt x="332" y="68"/>
                </a:lnTo>
                <a:lnTo>
                  <a:pt x="332" y="65"/>
                </a:lnTo>
                <a:lnTo>
                  <a:pt x="331" y="62"/>
                </a:lnTo>
                <a:lnTo>
                  <a:pt x="330" y="59"/>
                </a:lnTo>
                <a:lnTo>
                  <a:pt x="328" y="57"/>
                </a:lnTo>
                <a:lnTo>
                  <a:pt x="327" y="54"/>
                </a:lnTo>
                <a:lnTo>
                  <a:pt x="325" y="52"/>
                </a:lnTo>
                <a:lnTo>
                  <a:pt x="323" y="50"/>
                </a:lnTo>
                <a:lnTo>
                  <a:pt x="321" y="48"/>
                </a:lnTo>
                <a:lnTo>
                  <a:pt x="318" y="47"/>
                </a:lnTo>
                <a:lnTo>
                  <a:pt x="316" y="45"/>
                </a:lnTo>
                <a:lnTo>
                  <a:pt x="313" y="44"/>
                </a:lnTo>
                <a:lnTo>
                  <a:pt x="310" y="44"/>
                </a:lnTo>
                <a:lnTo>
                  <a:pt x="307" y="43"/>
                </a:lnTo>
                <a:lnTo>
                  <a:pt x="302" y="43"/>
                </a:lnTo>
                <a:lnTo>
                  <a:pt x="298" y="43"/>
                </a:lnTo>
                <a:lnTo>
                  <a:pt x="293" y="44"/>
                </a:lnTo>
                <a:lnTo>
                  <a:pt x="288" y="45"/>
                </a:lnTo>
                <a:lnTo>
                  <a:pt x="283" y="47"/>
                </a:lnTo>
                <a:lnTo>
                  <a:pt x="279" y="49"/>
                </a:lnTo>
                <a:lnTo>
                  <a:pt x="274" y="52"/>
                </a:lnTo>
                <a:lnTo>
                  <a:pt x="269" y="54"/>
                </a:lnTo>
                <a:lnTo>
                  <a:pt x="264" y="58"/>
                </a:lnTo>
                <a:lnTo>
                  <a:pt x="259" y="62"/>
                </a:lnTo>
                <a:lnTo>
                  <a:pt x="255" y="65"/>
                </a:lnTo>
                <a:lnTo>
                  <a:pt x="251" y="69"/>
                </a:lnTo>
                <a:lnTo>
                  <a:pt x="247" y="74"/>
                </a:lnTo>
                <a:lnTo>
                  <a:pt x="243" y="79"/>
                </a:lnTo>
                <a:lnTo>
                  <a:pt x="240" y="84"/>
                </a:lnTo>
                <a:lnTo>
                  <a:pt x="237" y="89"/>
                </a:lnTo>
                <a:lnTo>
                  <a:pt x="234" y="94"/>
                </a:lnTo>
                <a:lnTo>
                  <a:pt x="230" y="100"/>
                </a:lnTo>
                <a:lnTo>
                  <a:pt x="228" y="108"/>
                </a:lnTo>
                <a:lnTo>
                  <a:pt x="225" y="115"/>
                </a:lnTo>
                <a:lnTo>
                  <a:pt x="223" y="124"/>
                </a:lnTo>
                <a:lnTo>
                  <a:pt x="221" y="133"/>
                </a:lnTo>
                <a:lnTo>
                  <a:pt x="218" y="143"/>
                </a:lnTo>
                <a:lnTo>
                  <a:pt x="216" y="154"/>
                </a:lnTo>
                <a:lnTo>
                  <a:pt x="214" y="165"/>
                </a:lnTo>
                <a:lnTo>
                  <a:pt x="189" y="314"/>
                </a:lnTo>
                <a:lnTo>
                  <a:pt x="146" y="314"/>
                </a:lnTo>
                <a:lnTo>
                  <a:pt x="182" y="107"/>
                </a:lnTo>
                <a:lnTo>
                  <a:pt x="183" y="102"/>
                </a:lnTo>
                <a:lnTo>
                  <a:pt x="184" y="97"/>
                </a:lnTo>
                <a:lnTo>
                  <a:pt x="184" y="93"/>
                </a:lnTo>
                <a:lnTo>
                  <a:pt x="185" y="89"/>
                </a:lnTo>
                <a:lnTo>
                  <a:pt x="185" y="85"/>
                </a:lnTo>
                <a:lnTo>
                  <a:pt x="185" y="82"/>
                </a:lnTo>
                <a:lnTo>
                  <a:pt x="186" y="79"/>
                </a:lnTo>
                <a:lnTo>
                  <a:pt x="186" y="77"/>
                </a:lnTo>
                <a:lnTo>
                  <a:pt x="185" y="73"/>
                </a:lnTo>
                <a:lnTo>
                  <a:pt x="185" y="69"/>
                </a:lnTo>
                <a:lnTo>
                  <a:pt x="185" y="67"/>
                </a:lnTo>
                <a:lnTo>
                  <a:pt x="184" y="63"/>
                </a:lnTo>
                <a:lnTo>
                  <a:pt x="183" y="60"/>
                </a:lnTo>
                <a:lnTo>
                  <a:pt x="181" y="58"/>
                </a:lnTo>
                <a:lnTo>
                  <a:pt x="180" y="55"/>
                </a:lnTo>
                <a:lnTo>
                  <a:pt x="178" y="53"/>
                </a:lnTo>
                <a:lnTo>
                  <a:pt x="176" y="50"/>
                </a:lnTo>
                <a:lnTo>
                  <a:pt x="174" y="48"/>
                </a:lnTo>
                <a:lnTo>
                  <a:pt x="172" y="47"/>
                </a:lnTo>
                <a:lnTo>
                  <a:pt x="169" y="45"/>
                </a:lnTo>
                <a:lnTo>
                  <a:pt x="167" y="44"/>
                </a:lnTo>
                <a:lnTo>
                  <a:pt x="164" y="44"/>
                </a:lnTo>
                <a:lnTo>
                  <a:pt x="161" y="43"/>
                </a:lnTo>
                <a:lnTo>
                  <a:pt x="157" y="43"/>
                </a:lnTo>
                <a:lnTo>
                  <a:pt x="153" y="43"/>
                </a:lnTo>
                <a:lnTo>
                  <a:pt x="148" y="44"/>
                </a:lnTo>
                <a:lnTo>
                  <a:pt x="144" y="45"/>
                </a:lnTo>
                <a:lnTo>
                  <a:pt x="139" y="47"/>
                </a:lnTo>
                <a:lnTo>
                  <a:pt x="134" y="49"/>
                </a:lnTo>
                <a:lnTo>
                  <a:pt x="130" y="52"/>
                </a:lnTo>
                <a:lnTo>
                  <a:pt x="125" y="54"/>
                </a:lnTo>
                <a:lnTo>
                  <a:pt x="120" y="58"/>
                </a:lnTo>
                <a:lnTo>
                  <a:pt x="115" y="62"/>
                </a:lnTo>
                <a:lnTo>
                  <a:pt x="111" y="65"/>
                </a:lnTo>
                <a:lnTo>
                  <a:pt x="106" y="69"/>
                </a:lnTo>
                <a:lnTo>
                  <a:pt x="102" y="74"/>
                </a:lnTo>
                <a:lnTo>
                  <a:pt x="98" y="79"/>
                </a:lnTo>
                <a:lnTo>
                  <a:pt x="95" y="85"/>
                </a:lnTo>
                <a:lnTo>
                  <a:pt x="91" y="90"/>
                </a:lnTo>
                <a:lnTo>
                  <a:pt x="88" y="97"/>
                </a:lnTo>
                <a:lnTo>
                  <a:pt x="84" y="104"/>
                </a:lnTo>
                <a:lnTo>
                  <a:pt x="81" y="110"/>
                </a:lnTo>
                <a:lnTo>
                  <a:pt x="79" y="119"/>
                </a:lnTo>
                <a:lnTo>
                  <a:pt x="76" y="128"/>
                </a:lnTo>
                <a:lnTo>
                  <a:pt x="74" y="136"/>
                </a:lnTo>
                <a:lnTo>
                  <a:pt x="71" y="146"/>
                </a:lnTo>
                <a:lnTo>
                  <a:pt x="69" y="158"/>
                </a:lnTo>
                <a:lnTo>
                  <a:pt x="67" y="169"/>
                </a:lnTo>
                <a:lnTo>
                  <a:pt x="43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72440" y="1154160"/>
            <a:ext cx="122400" cy="128520"/>
          </a:xfrm>
          <a:custGeom>
            <a:avLst/>
            <a:gdLst/>
            <a:ahLst/>
            <a:rect l="l" t="t" r="r" b="b"/>
            <a:pathLst>
              <a:path w="232" h="321">
                <a:moveTo>
                  <a:pt x="163" y="276"/>
                </a:moveTo>
                <a:lnTo>
                  <a:pt x="158" y="281"/>
                </a:lnTo>
                <a:lnTo>
                  <a:pt x="152" y="287"/>
                </a:lnTo>
                <a:lnTo>
                  <a:pt x="147" y="291"/>
                </a:lnTo>
                <a:lnTo>
                  <a:pt x="142" y="296"/>
                </a:lnTo>
                <a:lnTo>
                  <a:pt x="137" y="300"/>
                </a:lnTo>
                <a:lnTo>
                  <a:pt x="131" y="304"/>
                </a:lnTo>
                <a:lnTo>
                  <a:pt x="126" y="307"/>
                </a:lnTo>
                <a:lnTo>
                  <a:pt x="121" y="310"/>
                </a:lnTo>
                <a:lnTo>
                  <a:pt x="116" y="312"/>
                </a:lnTo>
                <a:lnTo>
                  <a:pt x="110" y="315"/>
                </a:lnTo>
                <a:lnTo>
                  <a:pt x="105" y="317"/>
                </a:lnTo>
                <a:lnTo>
                  <a:pt x="99" y="319"/>
                </a:lnTo>
                <a:lnTo>
                  <a:pt x="94" y="320"/>
                </a:lnTo>
                <a:lnTo>
                  <a:pt x="89" y="320"/>
                </a:lnTo>
                <a:lnTo>
                  <a:pt x="83" y="321"/>
                </a:lnTo>
                <a:lnTo>
                  <a:pt x="77" y="321"/>
                </a:lnTo>
                <a:lnTo>
                  <a:pt x="69" y="321"/>
                </a:lnTo>
                <a:lnTo>
                  <a:pt x="61" y="320"/>
                </a:lnTo>
                <a:lnTo>
                  <a:pt x="54" y="317"/>
                </a:lnTo>
                <a:lnTo>
                  <a:pt x="46" y="315"/>
                </a:lnTo>
                <a:lnTo>
                  <a:pt x="39" y="311"/>
                </a:lnTo>
                <a:lnTo>
                  <a:pt x="33" y="307"/>
                </a:lnTo>
                <a:lnTo>
                  <a:pt x="27" y="302"/>
                </a:lnTo>
                <a:lnTo>
                  <a:pt x="21" y="296"/>
                </a:lnTo>
                <a:lnTo>
                  <a:pt x="16" y="290"/>
                </a:lnTo>
                <a:lnTo>
                  <a:pt x="12" y="282"/>
                </a:lnTo>
                <a:lnTo>
                  <a:pt x="9" y="275"/>
                </a:lnTo>
                <a:lnTo>
                  <a:pt x="6" y="268"/>
                </a:lnTo>
                <a:lnTo>
                  <a:pt x="3" y="259"/>
                </a:lnTo>
                <a:lnTo>
                  <a:pt x="2" y="251"/>
                </a:lnTo>
                <a:lnTo>
                  <a:pt x="1" y="241"/>
                </a:lnTo>
                <a:lnTo>
                  <a:pt x="0" y="233"/>
                </a:lnTo>
                <a:lnTo>
                  <a:pt x="1" y="225"/>
                </a:lnTo>
                <a:lnTo>
                  <a:pt x="1" y="220"/>
                </a:lnTo>
                <a:lnTo>
                  <a:pt x="2" y="214"/>
                </a:lnTo>
                <a:lnTo>
                  <a:pt x="3" y="208"/>
                </a:lnTo>
                <a:lnTo>
                  <a:pt x="4" y="203"/>
                </a:lnTo>
                <a:lnTo>
                  <a:pt x="6" y="196"/>
                </a:lnTo>
                <a:lnTo>
                  <a:pt x="8" y="191"/>
                </a:lnTo>
                <a:lnTo>
                  <a:pt x="10" y="186"/>
                </a:lnTo>
                <a:lnTo>
                  <a:pt x="12" y="181"/>
                </a:lnTo>
                <a:lnTo>
                  <a:pt x="15" y="178"/>
                </a:lnTo>
                <a:lnTo>
                  <a:pt x="18" y="173"/>
                </a:lnTo>
                <a:lnTo>
                  <a:pt x="21" y="169"/>
                </a:lnTo>
                <a:lnTo>
                  <a:pt x="24" y="165"/>
                </a:lnTo>
                <a:lnTo>
                  <a:pt x="27" y="161"/>
                </a:lnTo>
                <a:lnTo>
                  <a:pt x="31" y="158"/>
                </a:lnTo>
                <a:lnTo>
                  <a:pt x="35" y="155"/>
                </a:lnTo>
                <a:lnTo>
                  <a:pt x="39" y="151"/>
                </a:lnTo>
                <a:lnTo>
                  <a:pt x="44" y="149"/>
                </a:lnTo>
                <a:lnTo>
                  <a:pt x="48" y="146"/>
                </a:lnTo>
                <a:lnTo>
                  <a:pt x="53" y="144"/>
                </a:lnTo>
                <a:lnTo>
                  <a:pt x="58" y="143"/>
                </a:lnTo>
                <a:lnTo>
                  <a:pt x="63" y="140"/>
                </a:lnTo>
                <a:lnTo>
                  <a:pt x="68" y="139"/>
                </a:lnTo>
                <a:lnTo>
                  <a:pt x="74" y="138"/>
                </a:lnTo>
                <a:lnTo>
                  <a:pt x="78" y="136"/>
                </a:lnTo>
                <a:lnTo>
                  <a:pt x="82" y="135"/>
                </a:lnTo>
                <a:lnTo>
                  <a:pt x="88" y="135"/>
                </a:lnTo>
                <a:lnTo>
                  <a:pt x="94" y="134"/>
                </a:lnTo>
                <a:lnTo>
                  <a:pt x="101" y="134"/>
                </a:lnTo>
                <a:lnTo>
                  <a:pt x="109" y="133"/>
                </a:lnTo>
                <a:lnTo>
                  <a:pt x="119" y="133"/>
                </a:lnTo>
                <a:lnTo>
                  <a:pt x="128" y="131"/>
                </a:lnTo>
                <a:lnTo>
                  <a:pt x="138" y="131"/>
                </a:lnTo>
                <a:lnTo>
                  <a:pt x="147" y="130"/>
                </a:lnTo>
                <a:lnTo>
                  <a:pt x="155" y="129"/>
                </a:lnTo>
                <a:lnTo>
                  <a:pt x="162" y="128"/>
                </a:lnTo>
                <a:lnTo>
                  <a:pt x="169" y="127"/>
                </a:lnTo>
                <a:lnTo>
                  <a:pt x="175" y="125"/>
                </a:lnTo>
                <a:lnTo>
                  <a:pt x="180" y="124"/>
                </a:lnTo>
                <a:lnTo>
                  <a:pt x="185" y="122"/>
                </a:lnTo>
                <a:lnTo>
                  <a:pt x="186" y="117"/>
                </a:lnTo>
                <a:lnTo>
                  <a:pt x="188" y="112"/>
                </a:lnTo>
                <a:lnTo>
                  <a:pt x="189" y="107"/>
                </a:lnTo>
                <a:lnTo>
                  <a:pt x="190" y="102"/>
                </a:lnTo>
                <a:lnTo>
                  <a:pt x="190" y="98"/>
                </a:lnTo>
                <a:lnTo>
                  <a:pt x="191" y="94"/>
                </a:lnTo>
                <a:lnTo>
                  <a:pt x="191" y="89"/>
                </a:lnTo>
                <a:lnTo>
                  <a:pt x="191" y="85"/>
                </a:lnTo>
                <a:lnTo>
                  <a:pt x="191" y="82"/>
                </a:lnTo>
                <a:lnTo>
                  <a:pt x="190" y="78"/>
                </a:lnTo>
                <a:lnTo>
                  <a:pt x="189" y="73"/>
                </a:lnTo>
                <a:lnTo>
                  <a:pt x="188" y="69"/>
                </a:lnTo>
                <a:lnTo>
                  <a:pt x="186" y="67"/>
                </a:lnTo>
                <a:lnTo>
                  <a:pt x="184" y="63"/>
                </a:lnTo>
                <a:lnTo>
                  <a:pt x="182" y="60"/>
                </a:lnTo>
                <a:lnTo>
                  <a:pt x="179" y="58"/>
                </a:lnTo>
                <a:lnTo>
                  <a:pt x="175" y="54"/>
                </a:lnTo>
                <a:lnTo>
                  <a:pt x="171" y="52"/>
                </a:lnTo>
                <a:lnTo>
                  <a:pt x="166" y="49"/>
                </a:lnTo>
                <a:lnTo>
                  <a:pt x="161" y="47"/>
                </a:lnTo>
                <a:lnTo>
                  <a:pt x="156" y="45"/>
                </a:lnTo>
                <a:lnTo>
                  <a:pt x="150" y="44"/>
                </a:lnTo>
                <a:lnTo>
                  <a:pt x="143" y="43"/>
                </a:lnTo>
                <a:lnTo>
                  <a:pt x="137" y="43"/>
                </a:lnTo>
                <a:lnTo>
                  <a:pt x="130" y="43"/>
                </a:lnTo>
                <a:lnTo>
                  <a:pt x="124" y="44"/>
                </a:lnTo>
                <a:lnTo>
                  <a:pt x="118" y="45"/>
                </a:lnTo>
                <a:lnTo>
                  <a:pt x="112" y="47"/>
                </a:lnTo>
                <a:lnTo>
                  <a:pt x="106" y="49"/>
                </a:lnTo>
                <a:lnTo>
                  <a:pt x="101" y="52"/>
                </a:lnTo>
                <a:lnTo>
                  <a:pt x="97" y="54"/>
                </a:lnTo>
                <a:lnTo>
                  <a:pt x="92" y="58"/>
                </a:lnTo>
                <a:lnTo>
                  <a:pt x="88" y="62"/>
                </a:lnTo>
                <a:lnTo>
                  <a:pt x="85" y="65"/>
                </a:lnTo>
                <a:lnTo>
                  <a:pt x="81" y="70"/>
                </a:lnTo>
                <a:lnTo>
                  <a:pt x="78" y="75"/>
                </a:lnTo>
                <a:lnTo>
                  <a:pt x="75" y="80"/>
                </a:lnTo>
                <a:lnTo>
                  <a:pt x="72" y="87"/>
                </a:lnTo>
                <a:lnTo>
                  <a:pt x="70" y="93"/>
                </a:lnTo>
                <a:lnTo>
                  <a:pt x="68" y="99"/>
                </a:lnTo>
                <a:lnTo>
                  <a:pt x="24" y="94"/>
                </a:lnTo>
                <a:lnTo>
                  <a:pt x="28" y="83"/>
                </a:lnTo>
                <a:lnTo>
                  <a:pt x="32" y="73"/>
                </a:lnTo>
                <a:lnTo>
                  <a:pt x="36" y="63"/>
                </a:lnTo>
                <a:lnTo>
                  <a:pt x="41" y="54"/>
                </a:lnTo>
                <a:lnTo>
                  <a:pt x="48" y="45"/>
                </a:lnTo>
                <a:lnTo>
                  <a:pt x="54" y="38"/>
                </a:lnTo>
                <a:lnTo>
                  <a:pt x="60" y="30"/>
                </a:lnTo>
                <a:lnTo>
                  <a:pt x="67" y="24"/>
                </a:lnTo>
                <a:lnTo>
                  <a:pt x="74" y="19"/>
                </a:lnTo>
                <a:lnTo>
                  <a:pt x="82" y="14"/>
                </a:lnTo>
                <a:lnTo>
                  <a:pt x="90" y="9"/>
                </a:lnTo>
                <a:lnTo>
                  <a:pt x="98" y="7"/>
                </a:lnTo>
                <a:lnTo>
                  <a:pt x="108" y="3"/>
                </a:lnTo>
                <a:lnTo>
                  <a:pt x="118" y="2"/>
                </a:lnTo>
                <a:lnTo>
                  <a:pt x="128" y="0"/>
                </a:lnTo>
                <a:lnTo>
                  <a:pt x="139" y="0"/>
                </a:lnTo>
                <a:lnTo>
                  <a:pt x="150" y="0"/>
                </a:lnTo>
                <a:lnTo>
                  <a:pt x="160" y="2"/>
                </a:lnTo>
                <a:lnTo>
                  <a:pt x="170" y="4"/>
                </a:lnTo>
                <a:lnTo>
                  <a:pt x="180" y="7"/>
                </a:lnTo>
                <a:lnTo>
                  <a:pt x="189" y="10"/>
                </a:lnTo>
                <a:lnTo>
                  <a:pt x="197" y="15"/>
                </a:lnTo>
                <a:lnTo>
                  <a:pt x="205" y="20"/>
                </a:lnTo>
                <a:lnTo>
                  <a:pt x="212" y="28"/>
                </a:lnTo>
                <a:lnTo>
                  <a:pt x="217" y="33"/>
                </a:lnTo>
                <a:lnTo>
                  <a:pt x="221" y="38"/>
                </a:lnTo>
                <a:lnTo>
                  <a:pt x="224" y="44"/>
                </a:lnTo>
                <a:lnTo>
                  <a:pt x="227" y="50"/>
                </a:lnTo>
                <a:lnTo>
                  <a:pt x="229" y="58"/>
                </a:lnTo>
                <a:lnTo>
                  <a:pt x="231" y="64"/>
                </a:lnTo>
                <a:lnTo>
                  <a:pt x="232" y="72"/>
                </a:lnTo>
                <a:lnTo>
                  <a:pt x="232" y="80"/>
                </a:lnTo>
                <a:lnTo>
                  <a:pt x="232" y="87"/>
                </a:lnTo>
                <a:lnTo>
                  <a:pt x="232" y="93"/>
                </a:lnTo>
                <a:lnTo>
                  <a:pt x="232" y="99"/>
                </a:lnTo>
                <a:lnTo>
                  <a:pt x="231" y="107"/>
                </a:lnTo>
                <a:lnTo>
                  <a:pt x="230" y="114"/>
                </a:lnTo>
                <a:lnTo>
                  <a:pt x="229" y="122"/>
                </a:lnTo>
                <a:lnTo>
                  <a:pt x="228" y="129"/>
                </a:lnTo>
                <a:lnTo>
                  <a:pt x="227" y="136"/>
                </a:lnTo>
                <a:lnTo>
                  <a:pt x="213" y="214"/>
                </a:lnTo>
                <a:lnTo>
                  <a:pt x="211" y="223"/>
                </a:lnTo>
                <a:lnTo>
                  <a:pt x="210" y="230"/>
                </a:lnTo>
                <a:lnTo>
                  <a:pt x="209" y="239"/>
                </a:lnTo>
                <a:lnTo>
                  <a:pt x="208" y="246"/>
                </a:lnTo>
                <a:lnTo>
                  <a:pt x="207" y="254"/>
                </a:lnTo>
                <a:lnTo>
                  <a:pt x="207" y="260"/>
                </a:lnTo>
                <a:lnTo>
                  <a:pt x="207" y="266"/>
                </a:lnTo>
                <a:lnTo>
                  <a:pt x="206" y="273"/>
                </a:lnTo>
                <a:lnTo>
                  <a:pt x="206" y="276"/>
                </a:lnTo>
                <a:lnTo>
                  <a:pt x="207" y="280"/>
                </a:lnTo>
                <a:lnTo>
                  <a:pt x="207" y="285"/>
                </a:lnTo>
                <a:lnTo>
                  <a:pt x="208" y="290"/>
                </a:lnTo>
                <a:lnTo>
                  <a:pt x="208" y="295"/>
                </a:lnTo>
                <a:lnTo>
                  <a:pt x="209" y="301"/>
                </a:lnTo>
                <a:lnTo>
                  <a:pt x="210" y="307"/>
                </a:lnTo>
                <a:lnTo>
                  <a:pt x="212" y="314"/>
                </a:lnTo>
                <a:lnTo>
                  <a:pt x="168" y="314"/>
                </a:lnTo>
                <a:lnTo>
                  <a:pt x="167" y="310"/>
                </a:lnTo>
                <a:lnTo>
                  <a:pt x="166" y="306"/>
                </a:lnTo>
                <a:lnTo>
                  <a:pt x="166" y="301"/>
                </a:lnTo>
                <a:lnTo>
                  <a:pt x="165" y="297"/>
                </a:lnTo>
                <a:lnTo>
                  <a:pt x="165" y="292"/>
                </a:lnTo>
                <a:lnTo>
                  <a:pt x="164" y="287"/>
                </a:lnTo>
                <a:lnTo>
                  <a:pt x="164" y="281"/>
                </a:lnTo>
                <a:lnTo>
                  <a:pt x="163" y="276"/>
                </a:lnTo>
                <a:close/>
                <a:moveTo>
                  <a:pt x="179" y="159"/>
                </a:moveTo>
                <a:lnTo>
                  <a:pt x="177" y="160"/>
                </a:lnTo>
                <a:lnTo>
                  <a:pt x="174" y="160"/>
                </a:lnTo>
                <a:lnTo>
                  <a:pt x="172" y="161"/>
                </a:lnTo>
                <a:lnTo>
                  <a:pt x="170" y="163"/>
                </a:lnTo>
                <a:lnTo>
                  <a:pt x="167" y="163"/>
                </a:lnTo>
                <a:lnTo>
                  <a:pt x="165" y="164"/>
                </a:lnTo>
                <a:lnTo>
                  <a:pt x="162" y="165"/>
                </a:lnTo>
                <a:lnTo>
                  <a:pt x="160" y="165"/>
                </a:lnTo>
                <a:lnTo>
                  <a:pt x="157" y="165"/>
                </a:lnTo>
                <a:lnTo>
                  <a:pt x="154" y="166"/>
                </a:lnTo>
                <a:lnTo>
                  <a:pt x="150" y="166"/>
                </a:lnTo>
                <a:lnTo>
                  <a:pt x="146" y="168"/>
                </a:lnTo>
                <a:lnTo>
                  <a:pt x="142" y="168"/>
                </a:lnTo>
                <a:lnTo>
                  <a:pt x="137" y="169"/>
                </a:lnTo>
                <a:lnTo>
                  <a:pt x="132" y="169"/>
                </a:lnTo>
                <a:lnTo>
                  <a:pt x="126" y="170"/>
                </a:lnTo>
                <a:lnTo>
                  <a:pt x="117" y="171"/>
                </a:lnTo>
                <a:lnTo>
                  <a:pt x="108" y="173"/>
                </a:lnTo>
                <a:lnTo>
                  <a:pt x="101" y="174"/>
                </a:lnTo>
                <a:lnTo>
                  <a:pt x="94" y="175"/>
                </a:lnTo>
                <a:lnTo>
                  <a:pt x="88" y="176"/>
                </a:lnTo>
                <a:lnTo>
                  <a:pt x="82" y="178"/>
                </a:lnTo>
                <a:lnTo>
                  <a:pt x="78" y="179"/>
                </a:lnTo>
                <a:lnTo>
                  <a:pt x="74" y="180"/>
                </a:lnTo>
                <a:lnTo>
                  <a:pt x="70" y="183"/>
                </a:lnTo>
                <a:lnTo>
                  <a:pt x="66" y="184"/>
                </a:lnTo>
                <a:lnTo>
                  <a:pt x="63" y="186"/>
                </a:lnTo>
                <a:lnTo>
                  <a:pt x="60" y="189"/>
                </a:lnTo>
                <a:lnTo>
                  <a:pt x="58" y="191"/>
                </a:lnTo>
                <a:lnTo>
                  <a:pt x="55" y="194"/>
                </a:lnTo>
                <a:lnTo>
                  <a:pt x="53" y="196"/>
                </a:lnTo>
                <a:lnTo>
                  <a:pt x="51" y="200"/>
                </a:lnTo>
                <a:lnTo>
                  <a:pt x="49" y="204"/>
                </a:lnTo>
                <a:lnTo>
                  <a:pt x="47" y="208"/>
                </a:lnTo>
                <a:lnTo>
                  <a:pt x="46" y="211"/>
                </a:lnTo>
                <a:lnTo>
                  <a:pt x="45" y="215"/>
                </a:lnTo>
                <a:lnTo>
                  <a:pt x="44" y="219"/>
                </a:lnTo>
                <a:lnTo>
                  <a:pt x="44" y="223"/>
                </a:lnTo>
                <a:lnTo>
                  <a:pt x="43" y="226"/>
                </a:lnTo>
                <a:lnTo>
                  <a:pt x="43" y="230"/>
                </a:lnTo>
                <a:lnTo>
                  <a:pt x="43" y="235"/>
                </a:lnTo>
                <a:lnTo>
                  <a:pt x="44" y="241"/>
                </a:lnTo>
                <a:lnTo>
                  <a:pt x="45" y="246"/>
                </a:lnTo>
                <a:lnTo>
                  <a:pt x="46" y="250"/>
                </a:lnTo>
                <a:lnTo>
                  <a:pt x="48" y="255"/>
                </a:lnTo>
                <a:lnTo>
                  <a:pt x="50" y="259"/>
                </a:lnTo>
                <a:lnTo>
                  <a:pt x="52" y="263"/>
                </a:lnTo>
                <a:lnTo>
                  <a:pt x="55" y="266"/>
                </a:lnTo>
                <a:lnTo>
                  <a:pt x="58" y="270"/>
                </a:lnTo>
                <a:lnTo>
                  <a:pt x="62" y="273"/>
                </a:lnTo>
                <a:lnTo>
                  <a:pt x="66" y="275"/>
                </a:lnTo>
                <a:lnTo>
                  <a:pt x="70" y="277"/>
                </a:lnTo>
                <a:lnTo>
                  <a:pt x="75" y="279"/>
                </a:lnTo>
                <a:lnTo>
                  <a:pt x="79" y="280"/>
                </a:lnTo>
                <a:lnTo>
                  <a:pt x="84" y="280"/>
                </a:lnTo>
                <a:lnTo>
                  <a:pt x="90" y="280"/>
                </a:lnTo>
                <a:lnTo>
                  <a:pt x="95" y="280"/>
                </a:lnTo>
                <a:lnTo>
                  <a:pt x="100" y="280"/>
                </a:lnTo>
                <a:lnTo>
                  <a:pt x="105" y="279"/>
                </a:lnTo>
                <a:lnTo>
                  <a:pt x="110" y="277"/>
                </a:lnTo>
                <a:lnTo>
                  <a:pt x="116" y="275"/>
                </a:lnTo>
                <a:lnTo>
                  <a:pt x="121" y="273"/>
                </a:lnTo>
                <a:lnTo>
                  <a:pt x="126" y="270"/>
                </a:lnTo>
                <a:lnTo>
                  <a:pt x="131" y="266"/>
                </a:lnTo>
                <a:lnTo>
                  <a:pt x="136" y="264"/>
                </a:lnTo>
                <a:lnTo>
                  <a:pt x="140" y="259"/>
                </a:lnTo>
                <a:lnTo>
                  <a:pt x="144" y="255"/>
                </a:lnTo>
                <a:lnTo>
                  <a:pt x="148" y="250"/>
                </a:lnTo>
                <a:lnTo>
                  <a:pt x="152" y="245"/>
                </a:lnTo>
                <a:lnTo>
                  <a:pt x="155" y="240"/>
                </a:lnTo>
                <a:lnTo>
                  <a:pt x="158" y="235"/>
                </a:lnTo>
                <a:lnTo>
                  <a:pt x="161" y="229"/>
                </a:lnTo>
                <a:lnTo>
                  <a:pt x="164" y="223"/>
                </a:lnTo>
                <a:lnTo>
                  <a:pt x="167" y="215"/>
                </a:lnTo>
                <a:lnTo>
                  <a:pt x="169" y="208"/>
                </a:lnTo>
                <a:lnTo>
                  <a:pt x="171" y="199"/>
                </a:lnTo>
                <a:lnTo>
                  <a:pt x="173" y="190"/>
                </a:lnTo>
                <a:lnTo>
                  <a:pt x="175" y="180"/>
                </a:lnTo>
                <a:lnTo>
                  <a:pt x="177" y="170"/>
                </a:lnTo>
                <a:lnTo>
                  <a:pt x="179" y="1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08880" y="1255680"/>
            <a:ext cx="38160" cy="57240"/>
          </a:xfrm>
          <a:custGeom>
            <a:avLst/>
            <a:gdLst/>
            <a:ahLst/>
            <a:rect l="l" t="t" r="r" b="b"/>
            <a:pathLst>
              <a:path w="73" h="145">
                <a:moveTo>
                  <a:pt x="15" y="59"/>
                </a:moveTo>
                <a:lnTo>
                  <a:pt x="25" y="0"/>
                </a:lnTo>
                <a:lnTo>
                  <a:pt x="73" y="0"/>
                </a:lnTo>
                <a:lnTo>
                  <a:pt x="64" y="51"/>
                </a:lnTo>
                <a:lnTo>
                  <a:pt x="62" y="62"/>
                </a:lnTo>
                <a:lnTo>
                  <a:pt x="60" y="74"/>
                </a:lnTo>
                <a:lnTo>
                  <a:pt x="57" y="84"/>
                </a:lnTo>
                <a:lnTo>
                  <a:pt x="54" y="92"/>
                </a:lnTo>
                <a:lnTo>
                  <a:pt x="51" y="100"/>
                </a:lnTo>
                <a:lnTo>
                  <a:pt x="48" y="107"/>
                </a:lnTo>
                <a:lnTo>
                  <a:pt x="44" y="114"/>
                </a:lnTo>
                <a:lnTo>
                  <a:pt x="40" y="120"/>
                </a:lnTo>
                <a:lnTo>
                  <a:pt x="36" y="125"/>
                </a:lnTo>
                <a:lnTo>
                  <a:pt x="31" y="130"/>
                </a:lnTo>
                <a:lnTo>
                  <a:pt x="27" y="134"/>
                </a:lnTo>
                <a:lnTo>
                  <a:pt x="22" y="137"/>
                </a:lnTo>
                <a:lnTo>
                  <a:pt x="17" y="140"/>
                </a:lnTo>
                <a:lnTo>
                  <a:pt x="12" y="142"/>
                </a:lnTo>
                <a:lnTo>
                  <a:pt x="6" y="144"/>
                </a:lnTo>
                <a:lnTo>
                  <a:pt x="0" y="145"/>
                </a:lnTo>
                <a:lnTo>
                  <a:pt x="5" y="122"/>
                </a:lnTo>
                <a:lnTo>
                  <a:pt x="11" y="119"/>
                </a:lnTo>
                <a:lnTo>
                  <a:pt x="17" y="115"/>
                </a:lnTo>
                <a:lnTo>
                  <a:pt x="23" y="109"/>
                </a:lnTo>
                <a:lnTo>
                  <a:pt x="28" y="101"/>
                </a:lnTo>
                <a:lnTo>
                  <a:pt x="32" y="92"/>
                </a:lnTo>
                <a:lnTo>
                  <a:pt x="36" y="82"/>
                </a:lnTo>
                <a:lnTo>
                  <a:pt x="39" y="71"/>
                </a:lnTo>
                <a:lnTo>
                  <a:pt x="41" y="59"/>
                </a:lnTo>
                <a:lnTo>
                  <a:pt x="15" y="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564400" y="1109520"/>
            <a:ext cx="123840" cy="173160"/>
          </a:xfrm>
          <a:custGeom>
            <a:avLst/>
            <a:gdLst/>
            <a:ahLst/>
            <a:rect l="l" t="t" r="r" b="b"/>
            <a:pathLst>
              <a:path w="235" h="433">
                <a:moveTo>
                  <a:pt x="72" y="194"/>
                </a:moveTo>
                <a:lnTo>
                  <a:pt x="67" y="190"/>
                </a:lnTo>
                <a:lnTo>
                  <a:pt x="62" y="186"/>
                </a:lnTo>
                <a:lnTo>
                  <a:pt x="58" y="182"/>
                </a:lnTo>
                <a:lnTo>
                  <a:pt x="55" y="179"/>
                </a:lnTo>
                <a:lnTo>
                  <a:pt x="51" y="174"/>
                </a:lnTo>
                <a:lnTo>
                  <a:pt x="48" y="170"/>
                </a:lnTo>
                <a:lnTo>
                  <a:pt x="45" y="165"/>
                </a:lnTo>
                <a:lnTo>
                  <a:pt x="43" y="160"/>
                </a:lnTo>
                <a:lnTo>
                  <a:pt x="41" y="155"/>
                </a:lnTo>
                <a:lnTo>
                  <a:pt x="39" y="150"/>
                </a:lnTo>
                <a:lnTo>
                  <a:pt x="37" y="144"/>
                </a:lnTo>
                <a:lnTo>
                  <a:pt x="36" y="139"/>
                </a:lnTo>
                <a:lnTo>
                  <a:pt x="35" y="132"/>
                </a:lnTo>
                <a:lnTo>
                  <a:pt x="34" y="127"/>
                </a:lnTo>
                <a:lnTo>
                  <a:pt x="33" y="121"/>
                </a:lnTo>
                <a:lnTo>
                  <a:pt x="33" y="116"/>
                </a:lnTo>
                <a:lnTo>
                  <a:pt x="34" y="106"/>
                </a:lnTo>
                <a:lnTo>
                  <a:pt x="35" y="97"/>
                </a:lnTo>
                <a:lnTo>
                  <a:pt x="36" y="88"/>
                </a:lnTo>
                <a:lnTo>
                  <a:pt x="39" y="79"/>
                </a:lnTo>
                <a:lnTo>
                  <a:pt x="42" y="70"/>
                </a:lnTo>
                <a:lnTo>
                  <a:pt x="46" y="61"/>
                </a:lnTo>
                <a:lnTo>
                  <a:pt x="50" y="53"/>
                </a:lnTo>
                <a:lnTo>
                  <a:pt x="56" y="45"/>
                </a:lnTo>
                <a:lnTo>
                  <a:pt x="63" y="34"/>
                </a:lnTo>
                <a:lnTo>
                  <a:pt x="73" y="25"/>
                </a:lnTo>
                <a:lnTo>
                  <a:pt x="82" y="18"/>
                </a:lnTo>
                <a:lnTo>
                  <a:pt x="92" y="11"/>
                </a:lnTo>
                <a:lnTo>
                  <a:pt x="102" y="6"/>
                </a:lnTo>
                <a:lnTo>
                  <a:pt x="113" y="3"/>
                </a:lnTo>
                <a:lnTo>
                  <a:pt x="125" y="1"/>
                </a:lnTo>
                <a:lnTo>
                  <a:pt x="137" y="0"/>
                </a:lnTo>
                <a:lnTo>
                  <a:pt x="149" y="1"/>
                </a:lnTo>
                <a:lnTo>
                  <a:pt x="159" y="3"/>
                </a:lnTo>
                <a:lnTo>
                  <a:pt x="169" y="5"/>
                </a:lnTo>
                <a:lnTo>
                  <a:pt x="178" y="8"/>
                </a:lnTo>
                <a:lnTo>
                  <a:pt x="187" y="13"/>
                </a:lnTo>
                <a:lnTo>
                  <a:pt x="194" y="18"/>
                </a:lnTo>
                <a:lnTo>
                  <a:pt x="202" y="24"/>
                </a:lnTo>
                <a:lnTo>
                  <a:pt x="208" y="30"/>
                </a:lnTo>
                <a:lnTo>
                  <a:pt x="216" y="38"/>
                </a:lnTo>
                <a:lnTo>
                  <a:pt x="221" y="46"/>
                </a:lnTo>
                <a:lnTo>
                  <a:pt x="225" y="55"/>
                </a:lnTo>
                <a:lnTo>
                  <a:pt x="229" y="64"/>
                </a:lnTo>
                <a:lnTo>
                  <a:pt x="232" y="73"/>
                </a:lnTo>
                <a:lnTo>
                  <a:pt x="234" y="83"/>
                </a:lnTo>
                <a:lnTo>
                  <a:pt x="235" y="93"/>
                </a:lnTo>
                <a:lnTo>
                  <a:pt x="235" y="104"/>
                </a:lnTo>
                <a:lnTo>
                  <a:pt x="235" y="111"/>
                </a:lnTo>
                <a:lnTo>
                  <a:pt x="234" y="119"/>
                </a:lnTo>
                <a:lnTo>
                  <a:pt x="233" y="126"/>
                </a:lnTo>
                <a:lnTo>
                  <a:pt x="232" y="134"/>
                </a:lnTo>
                <a:lnTo>
                  <a:pt x="230" y="140"/>
                </a:lnTo>
                <a:lnTo>
                  <a:pt x="227" y="146"/>
                </a:lnTo>
                <a:lnTo>
                  <a:pt x="225" y="154"/>
                </a:lnTo>
                <a:lnTo>
                  <a:pt x="221" y="160"/>
                </a:lnTo>
                <a:lnTo>
                  <a:pt x="218" y="166"/>
                </a:lnTo>
                <a:lnTo>
                  <a:pt x="212" y="171"/>
                </a:lnTo>
                <a:lnTo>
                  <a:pt x="208" y="177"/>
                </a:lnTo>
                <a:lnTo>
                  <a:pt x="202" y="182"/>
                </a:lnTo>
                <a:lnTo>
                  <a:pt x="197" y="186"/>
                </a:lnTo>
                <a:lnTo>
                  <a:pt x="191" y="191"/>
                </a:lnTo>
                <a:lnTo>
                  <a:pt x="184" y="195"/>
                </a:lnTo>
                <a:lnTo>
                  <a:pt x="177" y="199"/>
                </a:lnTo>
                <a:lnTo>
                  <a:pt x="182" y="204"/>
                </a:lnTo>
                <a:lnTo>
                  <a:pt x="186" y="207"/>
                </a:lnTo>
                <a:lnTo>
                  <a:pt x="190" y="211"/>
                </a:lnTo>
                <a:lnTo>
                  <a:pt x="194" y="216"/>
                </a:lnTo>
                <a:lnTo>
                  <a:pt x="198" y="220"/>
                </a:lnTo>
                <a:lnTo>
                  <a:pt x="201" y="225"/>
                </a:lnTo>
                <a:lnTo>
                  <a:pt x="204" y="229"/>
                </a:lnTo>
                <a:lnTo>
                  <a:pt x="206" y="234"/>
                </a:lnTo>
                <a:lnTo>
                  <a:pt x="209" y="239"/>
                </a:lnTo>
                <a:lnTo>
                  <a:pt x="211" y="245"/>
                </a:lnTo>
                <a:lnTo>
                  <a:pt x="213" y="252"/>
                </a:lnTo>
                <a:lnTo>
                  <a:pt x="214" y="258"/>
                </a:lnTo>
                <a:lnTo>
                  <a:pt x="217" y="265"/>
                </a:lnTo>
                <a:lnTo>
                  <a:pt x="218" y="272"/>
                </a:lnTo>
                <a:lnTo>
                  <a:pt x="218" y="280"/>
                </a:lnTo>
                <a:lnTo>
                  <a:pt x="218" y="287"/>
                </a:lnTo>
                <a:lnTo>
                  <a:pt x="218" y="302"/>
                </a:lnTo>
                <a:lnTo>
                  <a:pt x="216" y="316"/>
                </a:lnTo>
                <a:lnTo>
                  <a:pt x="213" y="328"/>
                </a:lnTo>
                <a:lnTo>
                  <a:pt x="209" y="342"/>
                </a:lnTo>
                <a:lnTo>
                  <a:pt x="205" y="355"/>
                </a:lnTo>
                <a:lnTo>
                  <a:pt x="199" y="366"/>
                </a:lnTo>
                <a:lnTo>
                  <a:pt x="193" y="378"/>
                </a:lnTo>
                <a:lnTo>
                  <a:pt x="185" y="389"/>
                </a:lnTo>
                <a:lnTo>
                  <a:pt x="177" y="399"/>
                </a:lnTo>
                <a:lnTo>
                  <a:pt x="167" y="408"/>
                </a:lnTo>
                <a:lnTo>
                  <a:pt x="158" y="416"/>
                </a:lnTo>
                <a:lnTo>
                  <a:pt x="147" y="422"/>
                </a:lnTo>
                <a:lnTo>
                  <a:pt x="135" y="427"/>
                </a:lnTo>
                <a:lnTo>
                  <a:pt x="123" y="431"/>
                </a:lnTo>
                <a:lnTo>
                  <a:pt x="111" y="433"/>
                </a:lnTo>
                <a:lnTo>
                  <a:pt x="98" y="433"/>
                </a:lnTo>
                <a:lnTo>
                  <a:pt x="87" y="433"/>
                </a:lnTo>
                <a:lnTo>
                  <a:pt x="77" y="432"/>
                </a:lnTo>
                <a:lnTo>
                  <a:pt x="67" y="429"/>
                </a:lnTo>
                <a:lnTo>
                  <a:pt x="58" y="426"/>
                </a:lnTo>
                <a:lnTo>
                  <a:pt x="49" y="421"/>
                </a:lnTo>
                <a:lnTo>
                  <a:pt x="41" y="416"/>
                </a:lnTo>
                <a:lnTo>
                  <a:pt x="34" y="408"/>
                </a:lnTo>
                <a:lnTo>
                  <a:pt x="27" y="401"/>
                </a:lnTo>
                <a:lnTo>
                  <a:pt x="21" y="392"/>
                </a:lnTo>
                <a:lnTo>
                  <a:pt x="15" y="383"/>
                </a:lnTo>
                <a:lnTo>
                  <a:pt x="10" y="373"/>
                </a:lnTo>
                <a:lnTo>
                  <a:pt x="7" y="363"/>
                </a:lnTo>
                <a:lnTo>
                  <a:pt x="4" y="353"/>
                </a:lnTo>
                <a:lnTo>
                  <a:pt x="1" y="342"/>
                </a:lnTo>
                <a:lnTo>
                  <a:pt x="0" y="331"/>
                </a:lnTo>
                <a:lnTo>
                  <a:pt x="0" y="318"/>
                </a:lnTo>
                <a:lnTo>
                  <a:pt x="0" y="307"/>
                </a:lnTo>
                <a:lnTo>
                  <a:pt x="1" y="296"/>
                </a:lnTo>
                <a:lnTo>
                  <a:pt x="2" y="285"/>
                </a:lnTo>
                <a:lnTo>
                  <a:pt x="5" y="275"/>
                </a:lnTo>
                <a:lnTo>
                  <a:pt x="7" y="265"/>
                </a:lnTo>
                <a:lnTo>
                  <a:pt x="11" y="256"/>
                </a:lnTo>
                <a:lnTo>
                  <a:pt x="14" y="247"/>
                </a:lnTo>
                <a:lnTo>
                  <a:pt x="19" y="239"/>
                </a:lnTo>
                <a:lnTo>
                  <a:pt x="24" y="230"/>
                </a:lnTo>
                <a:lnTo>
                  <a:pt x="29" y="224"/>
                </a:lnTo>
                <a:lnTo>
                  <a:pt x="35" y="216"/>
                </a:lnTo>
                <a:lnTo>
                  <a:pt x="42" y="210"/>
                </a:lnTo>
                <a:lnTo>
                  <a:pt x="48" y="205"/>
                </a:lnTo>
                <a:lnTo>
                  <a:pt x="56" y="200"/>
                </a:lnTo>
                <a:lnTo>
                  <a:pt x="63" y="196"/>
                </a:lnTo>
                <a:lnTo>
                  <a:pt x="72" y="194"/>
                </a:lnTo>
                <a:close/>
                <a:moveTo>
                  <a:pt x="76" y="119"/>
                </a:moveTo>
                <a:lnTo>
                  <a:pt x="76" y="125"/>
                </a:lnTo>
                <a:lnTo>
                  <a:pt x="77" y="131"/>
                </a:lnTo>
                <a:lnTo>
                  <a:pt x="78" y="137"/>
                </a:lnTo>
                <a:lnTo>
                  <a:pt x="79" y="142"/>
                </a:lnTo>
                <a:lnTo>
                  <a:pt x="81" y="147"/>
                </a:lnTo>
                <a:lnTo>
                  <a:pt x="84" y="152"/>
                </a:lnTo>
                <a:lnTo>
                  <a:pt x="86" y="157"/>
                </a:lnTo>
                <a:lnTo>
                  <a:pt x="90" y="162"/>
                </a:lnTo>
                <a:lnTo>
                  <a:pt x="93" y="166"/>
                </a:lnTo>
                <a:lnTo>
                  <a:pt x="97" y="170"/>
                </a:lnTo>
                <a:lnTo>
                  <a:pt x="102" y="172"/>
                </a:lnTo>
                <a:lnTo>
                  <a:pt x="106" y="175"/>
                </a:lnTo>
                <a:lnTo>
                  <a:pt x="111" y="176"/>
                </a:lnTo>
                <a:lnTo>
                  <a:pt x="117" y="177"/>
                </a:lnTo>
                <a:lnTo>
                  <a:pt x="122" y="179"/>
                </a:lnTo>
                <a:lnTo>
                  <a:pt x="128" y="179"/>
                </a:lnTo>
                <a:lnTo>
                  <a:pt x="135" y="179"/>
                </a:lnTo>
                <a:lnTo>
                  <a:pt x="142" y="177"/>
                </a:lnTo>
                <a:lnTo>
                  <a:pt x="149" y="176"/>
                </a:lnTo>
                <a:lnTo>
                  <a:pt x="155" y="174"/>
                </a:lnTo>
                <a:lnTo>
                  <a:pt x="161" y="170"/>
                </a:lnTo>
                <a:lnTo>
                  <a:pt x="166" y="166"/>
                </a:lnTo>
                <a:lnTo>
                  <a:pt x="171" y="162"/>
                </a:lnTo>
                <a:lnTo>
                  <a:pt x="176" y="157"/>
                </a:lnTo>
                <a:lnTo>
                  <a:pt x="180" y="151"/>
                </a:lnTo>
                <a:lnTo>
                  <a:pt x="184" y="145"/>
                </a:lnTo>
                <a:lnTo>
                  <a:pt x="187" y="139"/>
                </a:lnTo>
                <a:lnTo>
                  <a:pt x="189" y="132"/>
                </a:lnTo>
                <a:lnTo>
                  <a:pt x="191" y="126"/>
                </a:lnTo>
                <a:lnTo>
                  <a:pt x="193" y="119"/>
                </a:lnTo>
                <a:lnTo>
                  <a:pt x="194" y="111"/>
                </a:lnTo>
                <a:lnTo>
                  <a:pt x="194" y="104"/>
                </a:lnTo>
                <a:lnTo>
                  <a:pt x="194" y="96"/>
                </a:lnTo>
                <a:lnTo>
                  <a:pt x="193" y="90"/>
                </a:lnTo>
                <a:lnTo>
                  <a:pt x="192" y="84"/>
                </a:lnTo>
                <a:lnTo>
                  <a:pt x="190" y="79"/>
                </a:lnTo>
                <a:lnTo>
                  <a:pt x="188" y="74"/>
                </a:lnTo>
                <a:lnTo>
                  <a:pt x="186" y="69"/>
                </a:lnTo>
                <a:lnTo>
                  <a:pt x="183" y="64"/>
                </a:lnTo>
                <a:lnTo>
                  <a:pt x="180" y="59"/>
                </a:lnTo>
                <a:lnTo>
                  <a:pt x="176" y="55"/>
                </a:lnTo>
                <a:lnTo>
                  <a:pt x="172" y="51"/>
                </a:lnTo>
                <a:lnTo>
                  <a:pt x="168" y="49"/>
                </a:lnTo>
                <a:lnTo>
                  <a:pt x="163" y="46"/>
                </a:lnTo>
                <a:lnTo>
                  <a:pt x="158" y="45"/>
                </a:lnTo>
                <a:lnTo>
                  <a:pt x="153" y="44"/>
                </a:lnTo>
                <a:lnTo>
                  <a:pt x="147" y="43"/>
                </a:lnTo>
                <a:lnTo>
                  <a:pt x="140" y="43"/>
                </a:lnTo>
                <a:lnTo>
                  <a:pt x="136" y="43"/>
                </a:lnTo>
                <a:lnTo>
                  <a:pt x="131" y="43"/>
                </a:lnTo>
                <a:lnTo>
                  <a:pt x="127" y="44"/>
                </a:lnTo>
                <a:lnTo>
                  <a:pt x="122" y="45"/>
                </a:lnTo>
                <a:lnTo>
                  <a:pt x="118" y="46"/>
                </a:lnTo>
                <a:lnTo>
                  <a:pt x="114" y="49"/>
                </a:lnTo>
                <a:lnTo>
                  <a:pt x="110" y="50"/>
                </a:lnTo>
                <a:lnTo>
                  <a:pt x="106" y="53"/>
                </a:lnTo>
                <a:lnTo>
                  <a:pt x="102" y="56"/>
                </a:lnTo>
                <a:lnTo>
                  <a:pt x="99" y="59"/>
                </a:lnTo>
                <a:lnTo>
                  <a:pt x="96" y="63"/>
                </a:lnTo>
                <a:lnTo>
                  <a:pt x="93" y="66"/>
                </a:lnTo>
                <a:lnTo>
                  <a:pt x="90" y="70"/>
                </a:lnTo>
                <a:lnTo>
                  <a:pt x="87" y="74"/>
                </a:lnTo>
                <a:lnTo>
                  <a:pt x="85" y="78"/>
                </a:lnTo>
                <a:lnTo>
                  <a:pt x="83" y="83"/>
                </a:lnTo>
                <a:lnTo>
                  <a:pt x="81" y="86"/>
                </a:lnTo>
                <a:lnTo>
                  <a:pt x="80" y="91"/>
                </a:lnTo>
                <a:lnTo>
                  <a:pt x="79" y="96"/>
                </a:lnTo>
                <a:lnTo>
                  <a:pt x="78" y="100"/>
                </a:lnTo>
                <a:lnTo>
                  <a:pt x="77" y="105"/>
                </a:lnTo>
                <a:lnTo>
                  <a:pt x="76" y="109"/>
                </a:lnTo>
                <a:lnTo>
                  <a:pt x="76" y="114"/>
                </a:lnTo>
                <a:lnTo>
                  <a:pt x="76" y="119"/>
                </a:lnTo>
                <a:close/>
                <a:moveTo>
                  <a:pt x="42" y="322"/>
                </a:moveTo>
                <a:lnTo>
                  <a:pt x="42" y="327"/>
                </a:lnTo>
                <a:lnTo>
                  <a:pt x="42" y="331"/>
                </a:lnTo>
                <a:lnTo>
                  <a:pt x="43" y="336"/>
                </a:lnTo>
                <a:lnTo>
                  <a:pt x="44" y="340"/>
                </a:lnTo>
                <a:lnTo>
                  <a:pt x="45" y="345"/>
                </a:lnTo>
                <a:lnTo>
                  <a:pt x="46" y="348"/>
                </a:lnTo>
                <a:lnTo>
                  <a:pt x="47" y="352"/>
                </a:lnTo>
                <a:lnTo>
                  <a:pt x="49" y="357"/>
                </a:lnTo>
                <a:lnTo>
                  <a:pt x="51" y="361"/>
                </a:lnTo>
                <a:lnTo>
                  <a:pt x="53" y="365"/>
                </a:lnTo>
                <a:lnTo>
                  <a:pt x="55" y="368"/>
                </a:lnTo>
                <a:lnTo>
                  <a:pt x="57" y="371"/>
                </a:lnTo>
                <a:lnTo>
                  <a:pt x="60" y="375"/>
                </a:lnTo>
                <a:lnTo>
                  <a:pt x="63" y="377"/>
                </a:lnTo>
                <a:lnTo>
                  <a:pt x="66" y="380"/>
                </a:lnTo>
                <a:lnTo>
                  <a:pt x="70" y="382"/>
                </a:lnTo>
                <a:lnTo>
                  <a:pt x="74" y="385"/>
                </a:lnTo>
                <a:lnTo>
                  <a:pt x="78" y="387"/>
                </a:lnTo>
                <a:lnTo>
                  <a:pt x="81" y="388"/>
                </a:lnTo>
                <a:lnTo>
                  <a:pt x="85" y="389"/>
                </a:lnTo>
                <a:lnTo>
                  <a:pt x="89" y="391"/>
                </a:lnTo>
                <a:lnTo>
                  <a:pt x="94" y="391"/>
                </a:lnTo>
                <a:lnTo>
                  <a:pt x="98" y="392"/>
                </a:lnTo>
                <a:lnTo>
                  <a:pt x="102" y="392"/>
                </a:lnTo>
                <a:lnTo>
                  <a:pt x="111" y="391"/>
                </a:lnTo>
                <a:lnTo>
                  <a:pt x="118" y="389"/>
                </a:lnTo>
                <a:lnTo>
                  <a:pt x="126" y="386"/>
                </a:lnTo>
                <a:lnTo>
                  <a:pt x="133" y="382"/>
                </a:lnTo>
                <a:lnTo>
                  <a:pt x="140" y="376"/>
                </a:lnTo>
                <a:lnTo>
                  <a:pt x="147" y="370"/>
                </a:lnTo>
                <a:lnTo>
                  <a:pt x="153" y="361"/>
                </a:lnTo>
                <a:lnTo>
                  <a:pt x="158" y="352"/>
                </a:lnTo>
                <a:lnTo>
                  <a:pt x="162" y="343"/>
                </a:lnTo>
                <a:lnTo>
                  <a:pt x="166" y="336"/>
                </a:lnTo>
                <a:lnTo>
                  <a:pt x="169" y="327"/>
                </a:lnTo>
                <a:lnTo>
                  <a:pt x="171" y="320"/>
                </a:lnTo>
                <a:lnTo>
                  <a:pt x="173" y="311"/>
                </a:lnTo>
                <a:lnTo>
                  <a:pt x="174" y="302"/>
                </a:lnTo>
                <a:lnTo>
                  <a:pt x="175" y="293"/>
                </a:lnTo>
                <a:lnTo>
                  <a:pt x="175" y="285"/>
                </a:lnTo>
                <a:lnTo>
                  <a:pt x="175" y="277"/>
                </a:lnTo>
                <a:lnTo>
                  <a:pt x="174" y="271"/>
                </a:lnTo>
                <a:lnTo>
                  <a:pt x="173" y="263"/>
                </a:lnTo>
                <a:lnTo>
                  <a:pt x="171" y="257"/>
                </a:lnTo>
                <a:lnTo>
                  <a:pt x="169" y="252"/>
                </a:lnTo>
                <a:lnTo>
                  <a:pt x="166" y="246"/>
                </a:lnTo>
                <a:lnTo>
                  <a:pt x="163" y="241"/>
                </a:lnTo>
                <a:lnTo>
                  <a:pt x="160" y="236"/>
                </a:lnTo>
                <a:lnTo>
                  <a:pt x="156" y="232"/>
                </a:lnTo>
                <a:lnTo>
                  <a:pt x="151" y="229"/>
                </a:lnTo>
                <a:lnTo>
                  <a:pt x="147" y="225"/>
                </a:lnTo>
                <a:lnTo>
                  <a:pt x="141" y="222"/>
                </a:lnTo>
                <a:lnTo>
                  <a:pt x="136" y="220"/>
                </a:lnTo>
                <a:lnTo>
                  <a:pt x="130" y="219"/>
                </a:lnTo>
                <a:lnTo>
                  <a:pt x="124" y="217"/>
                </a:lnTo>
                <a:lnTo>
                  <a:pt x="118" y="217"/>
                </a:lnTo>
                <a:lnTo>
                  <a:pt x="111" y="217"/>
                </a:lnTo>
                <a:lnTo>
                  <a:pt x="103" y="220"/>
                </a:lnTo>
                <a:lnTo>
                  <a:pt x="96" y="221"/>
                </a:lnTo>
                <a:lnTo>
                  <a:pt x="89" y="225"/>
                </a:lnTo>
                <a:lnTo>
                  <a:pt x="83" y="229"/>
                </a:lnTo>
                <a:lnTo>
                  <a:pt x="76" y="234"/>
                </a:lnTo>
                <a:lnTo>
                  <a:pt x="69" y="240"/>
                </a:lnTo>
                <a:lnTo>
                  <a:pt x="64" y="246"/>
                </a:lnTo>
                <a:lnTo>
                  <a:pt x="59" y="255"/>
                </a:lnTo>
                <a:lnTo>
                  <a:pt x="54" y="262"/>
                </a:lnTo>
                <a:lnTo>
                  <a:pt x="50" y="271"/>
                </a:lnTo>
                <a:lnTo>
                  <a:pt x="47" y="280"/>
                </a:lnTo>
                <a:lnTo>
                  <a:pt x="45" y="290"/>
                </a:lnTo>
                <a:lnTo>
                  <a:pt x="43" y="301"/>
                </a:lnTo>
                <a:lnTo>
                  <a:pt x="42" y="311"/>
                </a:lnTo>
                <a:lnTo>
                  <a:pt x="42" y="3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1038240"/>
            <a:ext cx="1754280" cy="93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64120" y="2610000"/>
            <a:ext cx="551160" cy="815760"/>
          </a:xfrm>
          <a:custGeom>
            <a:avLst/>
            <a:gdLst/>
            <a:ahLst/>
            <a:rect l="l" t="t" r="r" b="b"/>
            <a:pathLst>
              <a:path w="1041" h="2056">
                <a:moveTo>
                  <a:pt x="24" y="2037"/>
                </a:moveTo>
                <a:lnTo>
                  <a:pt x="48" y="2056"/>
                </a:lnTo>
                <a:lnTo>
                  <a:pt x="1041" y="35"/>
                </a:lnTo>
                <a:lnTo>
                  <a:pt x="993" y="0"/>
                </a:lnTo>
                <a:lnTo>
                  <a:pt x="0" y="2020"/>
                </a:lnTo>
                <a:lnTo>
                  <a:pt x="24" y="203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16600" y="3363840"/>
            <a:ext cx="120600" cy="109440"/>
          </a:xfrm>
          <a:custGeom>
            <a:avLst/>
            <a:gdLst/>
            <a:ahLst/>
            <a:rect l="l" t="t" r="r" b="b"/>
            <a:pathLst>
              <a:path w="226" h="276">
                <a:moveTo>
                  <a:pt x="209" y="210"/>
                </a:moveTo>
                <a:lnTo>
                  <a:pt x="209" y="210"/>
                </a:lnTo>
                <a:lnTo>
                  <a:pt x="207" y="212"/>
                </a:lnTo>
                <a:lnTo>
                  <a:pt x="206" y="216"/>
                </a:lnTo>
                <a:lnTo>
                  <a:pt x="204" y="218"/>
                </a:lnTo>
                <a:lnTo>
                  <a:pt x="203" y="221"/>
                </a:lnTo>
                <a:lnTo>
                  <a:pt x="201" y="223"/>
                </a:lnTo>
                <a:lnTo>
                  <a:pt x="199" y="227"/>
                </a:lnTo>
                <a:lnTo>
                  <a:pt x="197" y="230"/>
                </a:lnTo>
                <a:lnTo>
                  <a:pt x="195" y="232"/>
                </a:lnTo>
                <a:lnTo>
                  <a:pt x="194" y="235"/>
                </a:lnTo>
                <a:lnTo>
                  <a:pt x="192" y="237"/>
                </a:lnTo>
                <a:lnTo>
                  <a:pt x="190" y="240"/>
                </a:lnTo>
                <a:lnTo>
                  <a:pt x="188" y="241"/>
                </a:lnTo>
                <a:lnTo>
                  <a:pt x="186" y="243"/>
                </a:lnTo>
                <a:lnTo>
                  <a:pt x="183" y="246"/>
                </a:lnTo>
                <a:lnTo>
                  <a:pt x="181" y="248"/>
                </a:lnTo>
                <a:lnTo>
                  <a:pt x="179" y="250"/>
                </a:lnTo>
                <a:lnTo>
                  <a:pt x="177" y="252"/>
                </a:lnTo>
                <a:lnTo>
                  <a:pt x="175" y="253"/>
                </a:lnTo>
                <a:lnTo>
                  <a:pt x="172" y="256"/>
                </a:lnTo>
                <a:lnTo>
                  <a:pt x="170" y="257"/>
                </a:lnTo>
                <a:lnTo>
                  <a:pt x="168" y="258"/>
                </a:lnTo>
                <a:lnTo>
                  <a:pt x="165" y="261"/>
                </a:lnTo>
                <a:lnTo>
                  <a:pt x="163" y="262"/>
                </a:lnTo>
                <a:lnTo>
                  <a:pt x="161" y="263"/>
                </a:lnTo>
                <a:lnTo>
                  <a:pt x="158" y="265"/>
                </a:lnTo>
                <a:lnTo>
                  <a:pt x="156" y="266"/>
                </a:lnTo>
                <a:lnTo>
                  <a:pt x="153" y="267"/>
                </a:lnTo>
                <a:lnTo>
                  <a:pt x="151" y="268"/>
                </a:lnTo>
                <a:lnTo>
                  <a:pt x="148" y="270"/>
                </a:lnTo>
                <a:lnTo>
                  <a:pt x="145" y="271"/>
                </a:lnTo>
                <a:lnTo>
                  <a:pt x="142" y="271"/>
                </a:lnTo>
                <a:lnTo>
                  <a:pt x="139" y="272"/>
                </a:lnTo>
                <a:lnTo>
                  <a:pt x="137" y="273"/>
                </a:lnTo>
                <a:lnTo>
                  <a:pt x="134" y="273"/>
                </a:lnTo>
                <a:lnTo>
                  <a:pt x="132" y="275"/>
                </a:lnTo>
                <a:lnTo>
                  <a:pt x="129" y="275"/>
                </a:lnTo>
                <a:lnTo>
                  <a:pt x="126" y="275"/>
                </a:lnTo>
                <a:lnTo>
                  <a:pt x="124" y="276"/>
                </a:lnTo>
                <a:lnTo>
                  <a:pt x="121" y="276"/>
                </a:lnTo>
                <a:lnTo>
                  <a:pt x="118" y="276"/>
                </a:lnTo>
                <a:lnTo>
                  <a:pt x="116" y="276"/>
                </a:lnTo>
                <a:lnTo>
                  <a:pt x="113" y="276"/>
                </a:lnTo>
                <a:lnTo>
                  <a:pt x="110" y="276"/>
                </a:lnTo>
                <a:lnTo>
                  <a:pt x="108" y="276"/>
                </a:lnTo>
                <a:lnTo>
                  <a:pt x="105" y="276"/>
                </a:lnTo>
                <a:lnTo>
                  <a:pt x="102" y="276"/>
                </a:lnTo>
                <a:lnTo>
                  <a:pt x="100" y="275"/>
                </a:lnTo>
                <a:lnTo>
                  <a:pt x="97" y="275"/>
                </a:lnTo>
                <a:lnTo>
                  <a:pt x="94" y="275"/>
                </a:lnTo>
                <a:lnTo>
                  <a:pt x="92" y="273"/>
                </a:lnTo>
                <a:lnTo>
                  <a:pt x="89" y="273"/>
                </a:lnTo>
                <a:lnTo>
                  <a:pt x="86" y="272"/>
                </a:lnTo>
                <a:lnTo>
                  <a:pt x="84" y="271"/>
                </a:lnTo>
                <a:lnTo>
                  <a:pt x="81" y="271"/>
                </a:lnTo>
                <a:lnTo>
                  <a:pt x="78" y="270"/>
                </a:lnTo>
                <a:lnTo>
                  <a:pt x="76" y="268"/>
                </a:lnTo>
                <a:lnTo>
                  <a:pt x="72" y="267"/>
                </a:lnTo>
                <a:lnTo>
                  <a:pt x="70" y="266"/>
                </a:lnTo>
                <a:lnTo>
                  <a:pt x="67" y="265"/>
                </a:lnTo>
                <a:lnTo>
                  <a:pt x="65" y="263"/>
                </a:lnTo>
                <a:lnTo>
                  <a:pt x="62" y="261"/>
                </a:lnTo>
                <a:lnTo>
                  <a:pt x="60" y="260"/>
                </a:lnTo>
                <a:lnTo>
                  <a:pt x="57" y="258"/>
                </a:lnTo>
                <a:lnTo>
                  <a:pt x="55" y="256"/>
                </a:lnTo>
                <a:lnTo>
                  <a:pt x="55" y="256"/>
                </a:lnTo>
                <a:lnTo>
                  <a:pt x="52" y="255"/>
                </a:lnTo>
                <a:lnTo>
                  <a:pt x="50" y="252"/>
                </a:lnTo>
                <a:lnTo>
                  <a:pt x="47" y="251"/>
                </a:lnTo>
                <a:lnTo>
                  <a:pt x="45" y="248"/>
                </a:lnTo>
                <a:lnTo>
                  <a:pt x="43" y="246"/>
                </a:lnTo>
                <a:lnTo>
                  <a:pt x="41" y="243"/>
                </a:lnTo>
                <a:lnTo>
                  <a:pt x="39" y="242"/>
                </a:lnTo>
                <a:lnTo>
                  <a:pt x="37" y="240"/>
                </a:lnTo>
                <a:lnTo>
                  <a:pt x="35" y="237"/>
                </a:lnTo>
                <a:lnTo>
                  <a:pt x="33" y="235"/>
                </a:lnTo>
                <a:lnTo>
                  <a:pt x="31" y="232"/>
                </a:lnTo>
                <a:lnTo>
                  <a:pt x="29" y="230"/>
                </a:lnTo>
                <a:lnTo>
                  <a:pt x="27" y="227"/>
                </a:lnTo>
                <a:lnTo>
                  <a:pt x="25" y="225"/>
                </a:lnTo>
                <a:lnTo>
                  <a:pt x="24" y="222"/>
                </a:lnTo>
                <a:lnTo>
                  <a:pt x="22" y="220"/>
                </a:lnTo>
                <a:lnTo>
                  <a:pt x="21" y="216"/>
                </a:lnTo>
                <a:lnTo>
                  <a:pt x="19" y="214"/>
                </a:lnTo>
                <a:lnTo>
                  <a:pt x="18" y="211"/>
                </a:lnTo>
                <a:lnTo>
                  <a:pt x="16" y="207"/>
                </a:lnTo>
                <a:lnTo>
                  <a:pt x="15" y="205"/>
                </a:lnTo>
                <a:lnTo>
                  <a:pt x="14" y="202"/>
                </a:lnTo>
                <a:lnTo>
                  <a:pt x="13" y="199"/>
                </a:lnTo>
                <a:lnTo>
                  <a:pt x="11" y="196"/>
                </a:lnTo>
                <a:lnTo>
                  <a:pt x="10" y="194"/>
                </a:lnTo>
                <a:lnTo>
                  <a:pt x="9" y="190"/>
                </a:lnTo>
                <a:lnTo>
                  <a:pt x="8" y="187"/>
                </a:lnTo>
                <a:lnTo>
                  <a:pt x="7" y="184"/>
                </a:lnTo>
                <a:lnTo>
                  <a:pt x="7" y="181"/>
                </a:lnTo>
                <a:lnTo>
                  <a:pt x="6" y="177"/>
                </a:lnTo>
                <a:lnTo>
                  <a:pt x="5" y="174"/>
                </a:lnTo>
                <a:lnTo>
                  <a:pt x="4" y="171"/>
                </a:lnTo>
                <a:lnTo>
                  <a:pt x="4" y="167"/>
                </a:lnTo>
                <a:lnTo>
                  <a:pt x="2" y="165"/>
                </a:lnTo>
                <a:lnTo>
                  <a:pt x="2" y="161"/>
                </a:lnTo>
                <a:lnTo>
                  <a:pt x="1" y="157"/>
                </a:lnTo>
                <a:lnTo>
                  <a:pt x="1" y="155"/>
                </a:lnTo>
                <a:lnTo>
                  <a:pt x="1" y="151"/>
                </a:lnTo>
                <a:lnTo>
                  <a:pt x="0" y="147"/>
                </a:lnTo>
                <a:lnTo>
                  <a:pt x="0" y="145"/>
                </a:lnTo>
                <a:lnTo>
                  <a:pt x="0" y="141"/>
                </a:lnTo>
                <a:lnTo>
                  <a:pt x="0" y="137"/>
                </a:lnTo>
                <a:lnTo>
                  <a:pt x="0" y="135"/>
                </a:lnTo>
                <a:lnTo>
                  <a:pt x="0" y="131"/>
                </a:lnTo>
                <a:lnTo>
                  <a:pt x="0" y="127"/>
                </a:lnTo>
                <a:lnTo>
                  <a:pt x="1" y="125"/>
                </a:lnTo>
                <a:lnTo>
                  <a:pt x="1" y="121"/>
                </a:lnTo>
                <a:lnTo>
                  <a:pt x="1" y="117"/>
                </a:lnTo>
                <a:lnTo>
                  <a:pt x="2" y="115"/>
                </a:lnTo>
                <a:lnTo>
                  <a:pt x="2" y="111"/>
                </a:lnTo>
                <a:lnTo>
                  <a:pt x="4" y="107"/>
                </a:lnTo>
                <a:lnTo>
                  <a:pt x="4" y="105"/>
                </a:lnTo>
                <a:lnTo>
                  <a:pt x="5" y="101"/>
                </a:lnTo>
                <a:lnTo>
                  <a:pt x="6" y="97"/>
                </a:lnTo>
                <a:lnTo>
                  <a:pt x="7" y="95"/>
                </a:lnTo>
                <a:lnTo>
                  <a:pt x="7" y="91"/>
                </a:lnTo>
                <a:lnTo>
                  <a:pt x="8" y="89"/>
                </a:lnTo>
                <a:lnTo>
                  <a:pt x="9" y="85"/>
                </a:lnTo>
                <a:lnTo>
                  <a:pt x="11" y="82"/>
                </a:lnTo>
                <a:lnTo>
                  <a:pt x="12" y="79"/>
                </a:lnTo>
                <a:lnTo>
                  <a:pt x="13" y="75"/>
                </a:lnTo>
                <a:lnTo>
                  <a:pt x="14" y="72"/>
                </a:lnTo>
                <a:lnTo>
                  <a:pt x="16" y="69"/>
                </a:lnTo>
                <a:lnTo>
                  <a:pt x="17" y="66"/>
                </a:lnTo>
                <a:lnTo>
                  <a:pt x="17" y="66"/>
                </a:lnTo>
                <a:lnTo>
                  <a:pt x="19" y="64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5" y="51"/>
                </a:lnTo>
                <a:lnTo>
                  <a:pt x="27" y="49"/>
                </a:lnTo>
                <a:lnTo>
                  <a:pt x="29" y="46"/>
                </a:lnTo>
                <a:lnTo>
                  <a:pt x="31" y="44"/>
                </a:lnTo>
                <a:lnTo>
                  <a:pt x="32" y="41"/>
                </a:lnTo>
                <a:lnTo>
                  <a:pt x="34" y="39"/>
                </a:lnTo>
                <a:lnTo>
                  <a:pt x="36" y="36"/>
                </a:lnTo>
                <a:lnTo>
                  <a:pt x="38" y="34"/>
                </a:lnTo>
                <a:lnTo>
                  <a:pt x="40" y="33"/>
                </a:lnTo>
                <a:lnTo>
                  <a:pt x="43" y="30"/>
                </a:lnTo>
                <a:lnTo>
                  <a:pt x="45" y="28"/>
                </a:lnTo>
                <a:lnTo>
                  <a:pt x="47" y="26"/>
                </a:lnTo>
                <a:lnTo>
                  <a:pt x="49" y="24"/>
                </a:lnTo>
                <a:lnTo>
                  <a:pt x="51" y="23"/>
                </a:lnTo>
                <a:lnTo>
                  <a:pt x="54" y="20"/>
                </a:lnTo>
                <a:lnTo>
                  <a:pt x="56" y="19"/>
                </a:lnTo>
                <a:lnTo>
                  <a:pt x="58" y="16"/>
                </a:lnTo>
                <a:lnTo>
                  <a:pt x="61" y="15"/>
                </a:lnTo>
                <a:lnTo>
                  <a:pt x="63" y="14"/>
                </a:lnTo>
                <a:lnTo>
                  <a:pt x="65" y="13"/>
                </a:lnTo>
                <a:lnTo>
                  <a:pt x="68" y="11"/>
                </a:lnTo>
                <a:lnTo>
                  <a:pt x="70" y="10"/>
                </a:lnTo>
                <a:lnTo>
                  <a:pt x="73" y="9"/>
                </a:lnTo>
                <a:lnTo>
                  <a:pt x="76" y="8"/>
                </a:lnTo>
                <a:lnTo>
                  <a:pt x="79" y="6"/>
                </a:lnTo>
                <a:lnTo>
                  <a:pt x="81" y="5"/>
                </a:lnTo>
                <a:lnTo>
                  <a:pt x="84" y="4"/>
                </a:lnTo>
                <a:lnTo>
                  <a:pt x="86" y="4"/>
                </a:lnTo>
                <a:lnTo>
                  <a:pt x="89" y="3"/>
                </a:lnTo>
                <a:lnTo>
                  <a:pt x="92" y="3"/>
                </a:lnTo>
                <a:lnTo>
                  <a:pt x="94" y="1"/>
                </a:lnTo>
                <a:lnTo>
                  <a:pt x="97" y="1"/>
                </a:lnTo>
                <a:lnTo>
                  <a:pt x="100" y="0"/>
                </a:lnTo>
                <a:lnTo>
                  <a:pt x="102" y="0"/>
                </a:lnTo>
                <a:lnTo>
                  <a:pt x="105" y="0"/>
                </a:lnTo>
                <a:lnTo>
                  <a:pt x="108" y="0"/>
                </a:lnTo>
                <a:lnTo>
                  <a:pt x="110" y="0"/>
                </a:lnTo>
                <a:lnTo>
                  <a:pt x="113" y="0"/>
                </a:lnTo>
                <a:lnTo>
                  <a:pt x="116" y="0"/>
                </a:lnTo>
                <a:lnTo>
                  <a:pt x="118" y="0"/>
                </a:lnTo>
                <a:lnTo>
                  <a:pt x="121" y="0"/>
                </a:lnTo>
                <a:lnTo>
                  <a:pt x="124" y="0"/>
                </a:lnTo>
                <a:lnTo>
                  <a:pt x="126" y="0"/>
                </a:lnTo>
                <a:lnTo>
                  <a:pt x="129" y="1"/>
                </a:lnTo>
                <a:lnTo>
                  <a:pt x="132" y="1"/>
                </a:lnTo>
                <a:lnTo>
                  <a:pt x="134" y="3"/>
                </a:lnTo>
                <a:lnTo>
                  <a:pt x="137" y="3"/>
                </a:lnTo>
                <a:lnTo>
                  <a:pt x="140" y="4"/>
                </a:lnTo>
                <a:lnTo>
                  <a:pt x="142" y="4"/>
                </a:lnTo>
                <a:lnTo>
                  <a:pt x="145" y="5"/>
                </a:lnTo>
                <a:lnTo>
                  <a:pt x="148" y="6"/>
                </a:lnTo>
                <a:lnTo>
                  <a:pt x="151" y="8"/>
                </a:lnTo>
                <a:lnTo>
                  <a:pt x="154" y="9"/>
                </a:lnTo>
                <a:lnTo>
                  <a:pt x="156" y="10"/>
                </a:lnTo>
                <a:lnTo>
                  <a:pt x="159" y="11"/>
                </a:lnTo>
                <a:lnTo>
                  <a:pt x="161" y="13"/>
                </a:lnTo>
                <a:lnTo>
                  <a:pt x="164" y="14"/>
                </a:lnTo>
                <a:lnTo>
                  <a:pt x="166" y="16"/>
                </a:lnTo>
                <a:lnTo>
                  <a:pt x="169" y="18"/>
                </a:lnTo>
                <a:lnTo>
                  <a:pt x="171" y="19"/>
                </a:lnTo>
                <a:lnTo>
                  <a:pt x="171" y="19"/>
                </a:lnTo>
                <a:lnTo>
                  <a:pt x="174" y="21"/>
                </a:lnTo>
                <a:lnTo>
                  <a:pt x="176" y="24"/>
                </a:lnTo>
                <a:lnTo>
                  <a:pt x="178" y="25"/>
                </a:lnTo>
                <a:lnTo>
                  <a:pt x="181" y="28"/>
                </a:lnTo>
                <a:lnTo>
                  <a:pt x="183" y="30"/>
                </a:lnTo>
                <a:lnTo>
                  <a:pt x="185" y="31"/>
                </a:lnTo>
                <a:lnTo>
                  <a:pt x="187" y="34"/>
                </a:lnTo>
                <a:lnTo>
                  <a:pt x="189" y="36"/>
                </a:lnTo>
                <a:lnTo>
                  <a:pt x="191" y="39"/>
                </a:lnTo>
                <a:lnTo>
                  <a:pt x="193" y="41"/>
                </a:lnTo>
                <a:lnTo>
                  <a:pt x="195" y="44"/>
                </a:lnTo>
                <a:lnTo>
                  <a:pt x="197" y="46"/>
                </a:lnTo>
                <a:lnTo>
                  <a:pt x="199" y="49"/>
                </a:lnTo>
                <a:lnTo>
                  <a:pt x="200" y="51"/>
                </a:lnTo>
                <a:lnTo>
                  <a:pt x="202" y="54"/>
                </a:lnTo>
                <a:lnTo>
                  <a:pt x="204" y="56"/>
                </a:lnTo>
                <a:lnTo>
                  <a:pt x="205" y="60"/>
                </a:lnTo>
                <a:lnTo>
                  <a:pt x="207" y="63"/>
                </a:lnTo>
                <a:lnTo>
                  <a:pt x="208" y="65"/>
                </a:lnTo>
                <a:lnTo>
                  <a:pt x="210" y="68"/>
                </a:lnTo>
                <a:lnTo>
                  <a:pt x="211" y="71"/>
                </a:lnTo>
                <a:lnTo>
                  <a:pt x="212" y="74"/>
                </a:lnTo>
                <a:lnTo>
                  <a:pt x="213" y="76"/>
                </a:lnTo>
                <a:lnTo>
                  <a:pt x="215" y="80"/>
                </a:lnTo>
                <a:lnTo>
                  <a:pt x="216" y="82"/>
                </a:lnTo>
                <a:lnTo>
                  <a:pt x="217" y="86"/>
                </a:lnTo>
                <a:lnTo>
                  <a:pt x="218" y="89"/>
                </a:lnTo>
                <a:lnTo>
                  <a:pt x="219" y="92"/>
                </a:lnTo>
                <a:lnTo>
                  <a:pt x="219" y="95"/>
                </a:lnTo>
                <a:lnTo>
                  <a:pt x="221" y="99"/>
                </a:lnTo>
                <a:lnTo>
                  <a:pt x="222" y="101"/>
                </a:lnTo>
                <a:lnTo>
                  <a:pt x="223" y="105"/>
                </a:lnTo>
                <a:lnTo>
                  <a:pt x="223" y="109"/>
                </a:lnTo>
                <a:lnTo>
                  <a:pt x="224" y="111"/>
                </a:lnTo>
                <a:lnTo>
                  <a:pt x="224" y="115"/>
                </a:lnTo>
                <a:lnTo>
                  <a:pt x="225" y="117"/>
                </a:lnTo>
                <a:lnTo>
                  <a:pt x="225" y="121"/>
                </a:lnTo>
                <a:lnTo>
                  <a:pt x="225" y="125"/>
                </a:lnTo>
                <a:lnTo>
                  <a:pt x="225" y="127"/>
                </a:lnTo>
                <a:lnTo>
                  <a:pt x="226" y="131"/>
                </a:lnTo>
                <a:lnTo>
                  <a:pt x="226" y="135"/>
                </a:lnTo>
                <a:lnTo>
                  <a:pt x="226" y="137"/>
                </a:lnTo>
                <a:lnTo>
                  <a:pt x="226" y="141"/>
                </a:lnTo>
                <a:lnTo>
                  <a:pt x="226" y="145"/>
                </a:lnTo>
                <a:lnTo>
                  <a:pt x="226" y="147"/>
                </a:lnTo>
                <a:lnTo>
                  <a:pt x="225" y="151"/>
                </a:lnTo>
                <a:lnTo>
                  <a:pt x="225" y="155"/>
                </a:lnTo>
                <a:lnTo>
                  <a:pt x="225" y="157"/>
                </a:lnTo>
                <a:lnTo>
                  <a:pt x="224" y="161"/>
                </a:lnTo>
                <a:lnTo>
                  <a:pt x="224" y="165"/>
                </a:lnTo>
                <a:lnTo>
                  <a:pt x="223" y="167"/>
                </a:lnTo>
                <a:lnTo>
                  <a:pt x="223" y="171"/>
                </a:lnTo>
                <a:lnTo>
                  <a:pt x="222" y="175"/>
                </a:lnTo>
                <a:lnTo>
                  <a:pt x="221" y="177"/>
                </a:lnTo>
                <a:lnTo>
                  <a:pt x="219" y="181"/>
                </a:lnTo>
                <a:lnTo>
                  <a:pt x="218" y="185"/>
                </a:lnTo>
                <a:lnTo>
                  <a:pt x="218" y="187"/>
                </a:lnTo>
                <a:lnTo>
                  <a:pt x="216" y="191"/>
                </a:lnTo>
                <a:lnTo>
                  <a:pt x="215" y="194"/>
                </a:lnTo>
                <a:lnTo>
                  <a:pt x="214" y="197"/>
                </a:lnTo>
                <a:lnTo>
                  <a:pt x="213" y="200"/>
                </a:lnTo>
                <a:lnTo>
                  <a:pt x="212" y="204"/>
                </a:lnTo>
                <a:lnTo>
                  <a:pt x="210" y="206"/>
                </a:lnTo>
                <a:lnTo>
                  <a:pt x="209" y="210"/>
                </a:lnTo>
                <a:lnTo>
                  <a:pt x="113" y="137"/>
                </a:lnTo>
                <a:lnTo>
                  <a:pt x="209" y="2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92720" y="1390680"/>
            <a:ext cx="160200" cy="174600"/>
          </a:xfrm>
          <a:custGeom>
            <a:avLst/>
            <a:gdLst/>
            <a:ahLst/>
            <a:rect l="l" t="t" r="r" b="b"/>
            <a:pathLst>
              <a:path w="304" h="438">
                <a:moveTo>
                  <a:pt x="258" y="282"/>
                </a:moveTo>
                <a:lnTo>
                  <a:pt x="304" y="297"/>
                </a:lnTo>
                <a:lnTo>
                  <a:pt x="300" y="313"/>
                </a:lnTo>
                <a:lnTo>
                  <a:pt x="296" y="329"/>
                </a:lnTo>
                <a:lnTo>
                  <a:pt x="290" y="344"/>
                </a:lnTo>
                <a:lnTo>
                  <a:pt x="284" y="358"/>
                </a:lnTo>
                <a:lnTo>
                  <a:pt x="278" y="371"/>
                </a:lnTo>
                <a:lnTo>
                  <a:pt x="269" y="382"/>
                </a:lnTo>
                <a:lnTo>
                  <a:pt x="261" y="393"/>
                </a:lnTo>
                <a:lnTo>
                  <a:pt x="252" y="402"/>
                </a:lnTo>
                <a:lnTo>
                  <a:pt x="243" y="410"/>
                </a:lnTo>
                <a:lnTo>
                  <a:pt x="233" y="418"/>
                </a:lnTo>
                <a:lnTo>
                  <a:pt x="222" y="424"/>
                </a:lnTo>
                <a:lnTo>
                  <a:pt x="211" y="429"/>
                </a:lnTo>
                <a:lnTo>
                  <a:pt x="199" y="433"/>
                </a:lnTo>
                <a:lnTo>
                  <a:pt x="187" y="435"/>
                </a:lnTo>
                <a:lnTo>
                  <a:pt x="174" y="438"/>
                </a:lnTo>
                <a:lnTo>
                  <a:pt x="161" y="438"/>
                </a:lnTo>
                <a:lnTo>
                  <a:pt x="148" y="438"/>
                </a:lnTo>
                <a:lnTo>
                  <a:pt x="135" y="437"/>
                </a:lnTo>
                <a:lnTo>
                  <a:pt x="122" y="434"/>
                </a:lnTo>
                <a:lnTo>
                  <a:pt x="111" y="432"/>
                </a:lnTo>
                <a:lnTo>
                  <a:pt x="100" y="428"/>
                </a:lnTo>
                <a:lnTo>
                  <a:pt x="90" y="423"/>
                </a:lnTo>
                <a:lnTo>
                  <a:pt x="80" y="417"/>
                </a:lnTo>
                <a:lnTo>
                  <a:pt x="71" y="410"/>
                </a:lnTo>
                <a:lnTo>
                  <a:pt x="63" y="403"/>
                </a:lnTo>
                <a:lnTo>
                  <a:pt x="54" y="396"/>
                </a:lnTo>
                <a:lnTo>
                  <a:pt x="47" y="386"/>
                </a:lnTo>
                <a:lnTo>
                  <a:pt x="40" y="377"/>
                </a:lnTo>
                <a:lnTo>
                  <a:pt x="33" y="366"/>
                </a:lnTo>
                <a:lnTo>
                  <a:pt x="28" y="354"/>
                </a:lnTo>
                <a:lnTo>
                  <a:pt x="22" y="342"/>
                </a:lnTo>
                <a:lnTo>
                  <a:pt x="18" y="329"/>
                </a:lnTo>
                <a:lnTo>
                  <a:pt x="13" y="316"/>
                </a:lnTo>
                <a:lnTo>
                  <a:pt x="10" y="303"/>
                </a:lnTo>
                <a:lnTo>
                  <a:pt x="7" y="288"/>
                </a:lnTo>
                <a:lnTo>
                  <a:pt x="4" y="274"/>
                </a:lnTo>
                <a:lnTo>
                  <a:pt x="2" y="261"/>
                </a:lnTo>
                <a:lnTo>
                  <a:pt x="1" y="246"/>
                </a:lnTo>
                <a:lnTo>
                  <a:pt x="0" y="231"/>
                </a:lnTo>
                <a:lnTo>
                  <a:pt x="0" y="216"/>
                </a:lnTo>
                <a:lnTo>
                  <a:pt x="0" y="200"/>
                </a:lnTo>
                <a:lnTo>
                  <a:pt x="1" y="183"/>
                </a:lnTo>
                <a:lnTo>
                  <a:pt x="3" y="168"/>
                </a:lnTo>
                <a:lnTo>
                  <a:pt x="5" y="153"/>
                </a:lnTo>
                <a:lnTo>
                  <a:pt x="8" y="140"/>
                </a:lnTo>
                <a:lnTo>
                  <a:pt x="11" y="126"/>
                </a:lnTo>
                <a:lnTo>
                  <a:pt x="15" y="113"/>
                </a:lnTo>
                <a:lnTo>
                  <a:pt x="20" y="101"/>
                </a:lnTo>
                <a:lnTo>
                  <a:pt x="25" y="89"/>
                </a:lnTo>
                <a:lnTo>
                  <a:pt x="31" y="77"/>
                </a:lnTo>
                <a:lnTo>
                  <a:pt x="38" y="67"/>
                </a:lnTo>
                <a:lnTo>
                  <a:pt x="45" y="57"/>
                </a:lnTo>
                <a:lnTo>
                  <a:pt x="52" y="49"/>
                </a:lnTo>
                <a:lnTo>
                  <a:pt x="61" y="40"/>
                </a:lnTo>
                <a:lnTo>
                  <a:pt x="70" y="32"/>
                </a:lnTo>
                <a:lnTo>
                  <a:pt x="79" y="25"/>
                </a:lnTo>
                <a:lnTo>
                  <a:pt x="88" y="20"/>
                </a:lnTo>
                <a:lnTo>
                  <a:pt x="98" y="15"/>
                </a:lnTo>
                <a:lnTo>
                  <a:pt x="108" y="10"/>
                </a:lnTo>
                <a:lnTo>
                  <a:pt x="118" y="6"/>
                </a:lnTo>
                <a:lnTo>
                  <a:pt x="128" y="4"/>
                </a:lnTo>
                <a:lnTo>
                  <a:pt x="140" y="1"/>
                </a:lnTo>
                <a:lnTo>
                  <a:pt x="151" y="0"/>
                </a:lnTo>
                <a:lnTo>
                  <a:pt x="162" y="0"/>
                </a:lnTo>
                <a:lnTo>
                  <a:pt x="175" y="0"/>
                </a:lnTo>
                <a:lnTo>
                  <a:pt x="187" y="2"/>
                </a:lnTo>
                <a:lnTo>
                  <a:pt x="198" y="5"/>
                </a:lnTo>
                <a:lnTo>
                  <a:pt x="210" y="7"/>
                </a:lnTo>
                <a:lnTo>
                  <a:pt x="220" y="12"/>
                </a:lnTo>
                <a:lnTo>
                  <a:pt x="230" y="19"/>
                </a:lnTo>
                <a:lnTo>
                  <a:pt x="240" y="25"/>
                </a:lnTo>
                <a:lnTo>
                  <a:pt x="249" y="32"/>
                </a:lnTo>
                <a:lnTo>
                  <a:pt x="257" y="41"/>
                </a:lnTo>
                <a:lnTo>
                  <a:pt x="265" y="50"/>
                </a:lnTo>
                <a:lnTo>
                  <a:pt x="272" y="60"/>
                </a:lnTo>
                <a:lnTo>
                  <a:pt x="279" y="71"/>
                </a:lnTo>
                <a:lnTo>
                  <a:pt x="285" y="84"/>
                </a:lnTo>
                <a:lnTo>
                  <a:pt x="290" y="96"/>
                </a:lnTo>
                <a:lnTo>
                  <a:pt x="294" y="110"/>
                </a:lnTo>
                <a:lnTo>
                  <a:pt x="298" y="123"/>
                </a:lnTo>
                <a:lnTo>
                  <a:pt x="253" y="136"/>
                </a:lnTo>
                <a:lnTo>
                  <a:pt x="250" y="125"/>
                </a:lnTo>
                <a:lnTo>
                  <a:pt x="246" y="115"/>
                </a:lnTo>
                <a:lnTo>
                  <a:pt x="243" y="105"/>
                </a:lnTo>
                <a:lnTo>
                  <a:pt x="238" y="96"/>
                </a:lnTo>
                <a:lnTo>
                  <a:pt x="234" y="89"/>
                </a:lnTo>
                <a:lnTo>
                  <a:pt x="229" y="81"/>
                </a:lnTo>
                <a:lnTo>
                  <a:pt x="224" y="75"/>
                </a:lnTo>
                <a:lnTo>
                  <a:pt x="219" y="69"/>
                </a:lnTo>
                <a:lnTo>
                  <a:pt x="213" y="64"/>
                </a:lnTo>
                <a:lnTo>
                  <a:pt x="207" y="60"/>
                </a:lnTo>
                <a:lnTo>
                  <a:pt x="199" y="56"/>
                </a:lnTo>
                <a:lnTo>
                  <a:pt x="192" y="54"/>
                </a:lnTo>
                <a:lnTo>
                  <a:pt x="185" y="51"/>
                </a:lnTo>
                <a:lnTo>
                  <a:pt x="177" y="49"/>
                </a:lnTo>
                <a:lnTo>
                  <a:pt x="169" y="49"/>
                </a:lnTo>
                <a:lnTo>
                  <a:pt x="161" y="47"/>
                </a:lnTo>
                <a:lnTo>
                  <a:pt x="152" y="49"/>
                </a:lnTo>
                <a:lnTo>
                  <a:pt x="142" y="50"/>
                </a:lnTo>
                <a:lnTo>
                  <a:pt x="134" y="51"/>
                </a:lnTo>
                <a:lnTo>
                  <a:pt x="124" y="54"/>
                </a:lnTo>
                <a:lnTo>
                  <a:pt x="116" y="57"/>
                </a:lnTo>
                <a:lnTo>
                  <a:pt x="109" y="61"/>
                </a:lnTo>
                <a:lnTo>
                  <a:pt x="101" y="66"/>
                </a:lnTo>
                <a:lnTo>
                  <a:pt x="95" y="71"/>
                </a:lnTo>
                <a:lnTo>
                  <a:pt x="88" y="77"/>
                </a:lnTo>
                <a:lnTo>
                  <a:pt x="82" y="84"/>
                </a:lnTo>
                <a:lnTo>
                  <a:pt x="77" y="91"/>
                </a:lnTo>
                <a:lnTo>
                  <a:pt x="72" y="99"/>
                </a:lnTo>
                <a:lnTo>
                  <a:pt x="68" y="107"/>
                </a:lnTo>
                <a:lnTo>
                  <a:pt x="64" y="116"/>
                </a:lnTo>
                <a:lnTo>
                  <a:pt x="61" y="125"/>
                </a:lnTo>
                <a:lnTo>
                  <a:pt x="57" y="135"/>
                </a:lnTo>
                <a:lnTo>
                  <a:pt x="54" y="145"/>
                </a:lnTo>
                <a:lnTo>
                  <a:pt x="52" y="155"/>
                </a:lnTo>
                <a:lnTo>
                  <a:pt x="50" y="165"/>
                </a:lnTo>
                <a:lnTo>
                  <a:pt x="49" y="175"/>
                </a:lnTo>
                <a:lnTo>
                  <a:pt x="48" y="185"/>
                </a:lnTo>
                <a:lnTo>
                  <a:pt x="47" y="195"/>
                </a:lnTo>
                <a:lnTo>
                  <a:pt x="46" y="205"/>
                </a:lnTo>
                <a:lnTo>
                  <a:pt x="46" y="216"/>
                </a:lnTo>
                <a:lnTo>
                  <a:pt x="46" y="230"/>
                </a:lnTo>
                <a:lnTo>
                  <a:pt x="47" y="242"/>
                </a:lnTo>
                <a:lnTo>
                  <a:pt x="48" y="255"/>
                </a:lnTo>
                <a:lnTo>
                  <a:pt x="49" y="266"/>
                </a:lnTo>
                <a:lnTo>
                  <a:pt x="51" y="278"/>
                </a:lnTo>
                <a:lnTo>
                  <a:pt x="53" y="289"/>
                </a:lnTo>
                <a:lnTo>
                  <a:pt x="56" y="299"/>
                </a:lnTo>
                <a:lnTo>
                  <a:pt x="60" y="311"/>
                </a:lnTo>
                <a:lnTo>
                  <a:pt x="63" y="319"/>
                </a:lnTo>
                <a:lnTo>
                  <a:pt x="67" y="329"/>
                </a:lnTo>
                <a:lnTo>
                  <a:pt x="71" y="337"/>
                </a:lnTo>
                <a:lnTo>
                  <a:pt x="76" y="346"/>
                </a:lnTo>
                <a:lnTo>
                  <a:pt x="81" y="353"/>
                </a:lnTo>
                <a:lnTo>
                  <a:pt x="86" y="359"/>
                </a:lnTo>
                <a:lnTo>
                  <a:pt x="93" y="366"/>
                </a:lnTo>
                <a:lnTo>
                  <a:pt x="99" y="371"/>
                </a:lnTo>
                <a:lnTo>
                  <a:pt x="106" y="376"/>
                </a:lnTo>
                <a:lnTo>
                  <a:pt x="113" y="379"/>
                </a:lnTo>
                <a:lnTo>
                  <a:pt x="120" y="383"/>
                </a:lnTo>
                <a:lnTo>
                  <a:pt x="127" y="386"/>
                </a:lnTo>
                <a:lnTo>
                  <a:pt x="135" y="388"/>
                </a:lnTo>
                <a:lnTo>
                  <a:pt x="142" y="389"/>
                </a:lnTo>
                <a:lnTo>
                  <a:pt x="150" y="391"/>
                </a:lnTo>
                <a:lnTo>
                  <a:pt x="158" y="391"/>
                </a:lnTo>
                <a:lnTo>
                  <a:pt x="167" y="389"/>
                </a:lnTo>
                <a:lnTo>
                  <a:pt x="176" y="388"/>
                </a:lnTo>
                <a:lnTo>
                  <a:pt x="184" y="387"/>
                </a:lnTo>
                <a:lnTo>
                  <a:pt x="193" y="383"/>
                </a:lnTo>
                <a:lnTo>
                  <a:pt x="200" y="379"/>
                </a:lnTo>
                <a:lnTo>
                  <a:pt x="209" y="376"/>
                </a:lnTo>
                <a:lnTo>
                  <a:pt x="216" y="369"/>
                </a:lnTo>
                <a:lnTo>
                  <a:pt x="223" y="363"/>
                </a:lnTo>
                <a:lnTo>
                  <a:pt x="229" y="356"/>
                </a:lnTo>
                <a:lnTo>
                  <a:pt x="235" y="348"/>
                </a:lnTo>
                <a:lnTo>
                  <a:pt x="240" y="339"/>
                </a:lnTo>
                <a:lnTo>
                  <a:pt x="245" y="329"/>
                </a:lnTo>
                <a:lnTo>
                  <a:pt x="249" y="319"/>
                </a:lnTo>
                <a:lnTo>
                  <a:pt x="252" y="307"/>
                </a:lnTo>
                <a:lnTo>
                  <a:pt x="255" y="296"/>
                </a:lnTo>
                <a:lnTo>
                  <a:pt x="258" y="2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1438200"/>
            <a:ext cx="122400" cy="127080"/>
          </a:xfrm>
          <a:custGeom>
            <a:avLst/>
            <a:gdLst/>
            <a:ahLst/>
            <a:rect l="l" t="t" r="r" b="b"/>
            <a:pathLst>
              <a:path w="231" h="321">
                <a:moveTo>
                  <a:pt x="178" y="276"/>
                </a:moveTo>
                <a:lnTo>
                  <a:pt x="172" y="282"/>
                </a:lnTo>
                <a:lnTo>
                  <a:pt x="166" y="287"/>
                </a:lnTo>
                <a:lnTo>
                  <a:pt x="160" y="292"/>
                </a:lnTo>
                <a:lnTo>
                  <a:pt x="155" y="297"/>
                </a:lnTo>
                <a:lnTo>
                  <a:pt x="148" y="301"/>
                </a:lnTo>
                <a:lnTo>
                  <a:pt x="143" y="305"/>
                </a:lnTo>
                <a:lnTo>
                  <a:pt x="137" y="308"/>
                </a:lnTo>
                <a:lnTo>
                  <a:pt x="132" y="311"/>
                </a:lnTo>
                <a:lnTo>
                  <a:pt x="127" y="313"/>
                </a:lnTo>
                <a:lnTo>
                  <a:pt x="121" y="315"/>
                </a:lnTo>
                <a:lnTo>
                  <a:pt x="115" y="317"/>
                </a:lnTo>
                <a:lnTo>
                  <a:pt x="110" y="318"/>
                </a:lnTo>
                <a:lnTo>
                  <a:pt x="104" y="320"/>
                </a:lnTo>
                <a:lnTo>
                  <a:pt x="98" y="321"/>
                </a:lnTo>
                <a:lnTo>
                  <a:pt x="92" y="321"/>
                </a:lnTo>
                <a:lnTo>
                  <a:pt x="86" y="321"/>
                </a:lnTo>
                <a:lnTo>
                  <a:pt x="75" y="321"/>
                </a:lnTo>
                <a:lnTo>
                  <a:pt x="66" y="320"/>
                </a:lnTo>
                <a:lnTo>
                  <a:pt x="57" y="317"/>
                </a:lnTo>
                <a:lnTo>
                  <a:pt x="49" y="315"/>
                </a:lnTo>
                <a:lnTo>
                  <a:pt x="42" y="311"/>
                </a:lnTo>
                <a:lnTo>
                  <a:pt x="35" y="307"/>
                </a:lnTo>
                <a:lnTo>
                  <a:pt x="28" y="302"/>
                </a:lnTo>
                <a:lnTo>
                  <a:pt x="23" y="296"/>
                </a:lnTo>
                <a:lnTo>
                  <a:pt x="18" y="290"/>
                </a:lnTo>
                <a:lnTo>
                  <a:pt x="13" y="284"/>
                </a:lnTo>
                <a:lnTo>
                  <a:pt x="8" y="276"/>
                </a:lnTo>
                <a:lnTo>
                  <a:pt x="5" y="269"/>
                </a:lnTo>
                <a:lnTo>
                  <a:pt x="3" y="260"/>
                </a:lnTo>
                <a:lnTo>
                  <a:pt x="1" y="251"/>
                </a:lnTo>
                <a:lnTo>
                  <a:pt x="0" y="242"/>
                </a:lnTo>
                <a:lnTo>
                  <a:pt x="0" y="234"/>
                </a:lnTo>
                <a:lnTo>
                  <a:pt x="0" y="227"/>
                </a:lnTo>
                <a:lnTo>
                  <a:pt x="0" y="222"/>
                </a:lnTo>
                <a:lnTo>
                  <a:pt x="1" y="216"/>
                </a:lnTo>
                <a:lnTo>
                  <a:pt x="2" y="211"/>
                </a:lnTo>
                <a:lnTo>
                  <a:pt x="3" y="206"/>
                </a:lnTo>
                <a:lnTo>
                  <a:pt x="4" y="201"/>
                </a:lnTo>
                <a:lnTo>
                  <a:pt x="6" y="196"/>
                </a:lnTo>
                <a:lnTo>
                  <a:pt x="8" y="192"/>
                </a:lnTo>
                <a:lnTo>
                  <a:pt x="11" y="187"/>
                </a:lnTo>
                <a:lnTo>
                  <a:pt x="14" y="182"/>
                </a:lnTo>
                <a:lnTo>
                  <a:pt x="16" y="179"/>
                </a:lnTo>
                <a:lnTo>
                  <a:pt x="19" y="175"/>
                </a:lnTo>
                <a:lnTo>
                  <a:pt x="21" y="171"/>
                </a:lnTo>
                <a:lnTo>
                  <a:pt x="24" y="167"/>
                </a:lnTo>
                <a:lnTo>
                  <a:pt x="27" y="165"/>
                </a:lnTo>
                <a:lnTo>
                  <a:pt x="31" y="162"/>
                </a:lnTo>
                <a:lnTo>
                  <a:pt x="34" y="159"/>
                </a:lnTo>
                <a:lnTo>
                  <a:pt x="38" y="156"/>
                </a:lnTo>
                <a:lnTo>
                  <a:pt x="41" y="154"/>
                </a:lnTo>
                <a:lnTo>
                  <a:pt x="45" y="152"/>
                </a:lnTo>
                <a:lnTo>
                  <a:pt x="49" y="150"/>
                </a:lnTo>
                <a:lnTo>
                  <a:pt x="53" y="149"/>
                </a:lnTo>
                <a:lnTo>
                  <a:pt x="57" y="146"/>
                </a:lnTo>
                <a:lnTo>
                  <a:pt x="61" y="145"/>
                </a:lnTo>
                <a:lnTo>
                  <a:pt x="64" y="144"/>
                </a:lnTo>
                <a:lnTo>
                  <a:pt x="68" y="142"/>
                </a:lnTo>
                <a:lnTo>
                  <a:pt x="72" y="142"/>
                </a:lnTo>
                <a:lnTo>
                  <a:pt x="76" y="141"/>
                </a:lnTo>
                <a:lnTo>
                  <a:pt x="82" y="140"/>
                </a:lnTo>
                <a:lnTo>
                  <a:pt x="87" y="139"/>
                </a:lnTo>
                <a:lnTo>
                  <a:pt x="93" y="138"/>
                </a:lnTo>
                <a:lnTo>
                  <a:pt x="99" y="138"/>
                </a:lnTo>
                <a:lnTo>
                  <a:pt x="111" y="135"/>
                </a:lnTo>
                <a:lnTo>
                  <a:pt x="122" y="134"/>
                </a:lnTo>
                <a:lnTo>
                  <a:pt x="133" y="131"/>
                </a:lnTo>
                <a:lnTo>
                  <a:pt x="143" y="129"/>
                </a:lnTo>
                <a:lnTo>
                  <a:pt x="151" y="126"/>
                </a:lnTo>
                <a:lnTo>
                  <a:pt x="161" y="124"/>
                </a:lnTo>
                <a:lnTo>
                  <a:pt x="168" y="121"/>
                </a:lnTo>
                <a:lnTo>
                  <a:pt x="174" y="119"/>
                </a:lnTo>
                <a:lnTo>
                  <a:pt x="174" y="116"/>
                </a:lnTo>
                <a:lnTo>
                  <a:pt x="174" y="114"/>
                </a:lnTo>
                <a:lnTo>
                  <a:pt x="174" y="113"/>
                </a:lnTo>
                <a:lnTo>
                  <a:pt x="174" y="110"/>
                </a:lnTo>
                <a:lnTo>
                  <a:pt x="174" y="109"/>
                </a:lnTo>
                <a:lnTo>
                  <a:pt x="174" y="108"/>
                </a:lnTo>
                <a:lnTo>
                  <a:pt x="174" y="106"/>
                </a:lnTo>
                <a:lnTo>
                  <a:pt x="174" y="105"/>
                </a:lnTo>
                <a:lnTo>
                  <a:pt x="174" y="98"/>
                </a:lnTo>
                <a:lnTo>
                  <a:pt x="174" y="91"/>
                </a:lnTo>
                <a:lnTo>
                  <a:pt x="173" y="84"/>
                </a:lnTo>
                <a:lnTo>
                  <a:pt x="171" y="79"/>
                </a:lnTo>
                <a:lnTo>
                  <a:pt x="170" y="73"/>
                </a:lnTo>
                <a:lnTo>
                  <a:pt x="168" y="69"/>
                </a:lnTo>
                <a:lnTo>
                  <a:pt x="165" y="64"/>
                </a:lnTo>
                <a:lnTo>
                  <a:pt x="163" y="61"/>
                </a:lnTo>
                <a:lnTo>
                  <a:pt x="158" y="56"/>
                </a:lnTo>
                <a:lnTo>
                  <a:pt x="154" y="53"/>
                </a:lnTo>
                <a:lnTo>
                  <a:pt x="147" y="50"/>
                </a:lnTo>
                <a:lnTo>
                  <a:pt x="142" y="48"/>
                </a:lnTo>
                <a:lnTo>
                  <a:pt x="135" y="45"/>
                </a:lnTo>
                <a:lnTo>
                  <a:pt x="129" y="44"/>
                </a:lnTo>
                <a:lnTo>
                  <a:pt x="122" y="44"/>
                </a:lnTo>
                <a:lnTo>
                  <a:pt x="114" y="43"/>
                </a:lnTo>
                <a:lnTo>
                  <a:pt x="107" y="44"/>
                </a:lnTo>
                <a:lnTo>
                  <a:pt x="100" y="44"/>
                </a:lnTo>
                <a:lnTo>
                  <a:pt x="94" y="45"/>
                </a:lnTo>
                <a:lnTo>
                  <a:pt x="88" y="46"/>
                </a:lnTo>
                <a:lnTo>
                  <a:pt x="83" y="48"/>
                </a:lnTo>
                <a:lnTo>
                  <a:pt x="78" y="50"/>
                </a:lnTo>
                <a:lnTo>
                  <a:pt x="73" y="53"/>
                </a:lnTo>
                <a:lnTo>
                  <a:pt x="70" y="56"/>
                </a:lnTo>
                <a:lnTo>
                  <a:pt x="66" y="59"/>
                </a:lnTo>
                <a:lnTo>
                  <a:pt x="63" y="64"/>
                </a:lnTo>
                <a:lnTo>
                  <a:pt x="60" y="69"/>
                </a:lnTo>
                <a:lnTo>
                  <a:pt x="57" y="74"/>
                </a:lnTo>
                <a:lnTo>
                  <a:pt x="55" y="80"/>
                </a:lnTo>
                <a:lnTo>
                  <a:pt x="53" y="86"/>
                </a:lnTo>
                <a:lnTo>
                  <a:pt x="51" y="94"/>
                </a:lnTo>
                <a:lnTo>
                  <a:pt x="49" y="101"/>
                </a:lnTo>
                <a:lnTo>
                  <a:pt x="7" y="95"/>
                </a:lnTo>
                <a:lnTo>
                  <a:pt x="10" y="86"/>
                </a:lnTo>
                <a:lnTo>
                  <a:pt x="11" y="79"/>
                </a:lnTo>
                <a:lnTo>
                  <a:pt x="13" y="71"/>
                </a:lnTo>
                <a:lnTo>
                  <a:pt x="15" y="65"/>
                </a:lnTo>
                <a:lnTo>
                  <a:pt x="18" y="59"/>
                </a:lnTo>
                <a:lnTo>
                  <a:pt x="20" y="53"/>
                </a:lnTo>
                <a:lnTo>
                  <a:pt x="23" y="48"/>
                </a:lnTo>
                <a:lnTo>
                  <a:pt x="26" y="41"/>
                </a:lnTo>
                <a:lnTo>
                  <a:pt x="30" y="36"/>
                </a:lnTo>
                <a:lnTo>
                  <a:pt x="33" y="33"/>
                </a:lnTo>
                <a:lnTo>
                  <a:pt x="37" y="28"/>
                </a:lnTo>
                <a:lnTo>
                  <a:pt x="42" y="24"/>
                </a:lnTo>
                <a:lnTo>
                  <a:pt x="47" y="20"/>
                </a:lnTo>
                <a:lnTo>
                  <a:pt x="52" y="16"/>
                </a:lnTo>
                <a:lnTo>
                  <a:pt x="57" y="14"/>
                </a:lnTo>
                <a:lnTo>
                  <a:pt x="63" y="11"/>
                </a:lnTo>
                <a:lnTo>
                  <a:pt x="69" y="8"/>
                </a:lnTo>
                <a:lnTo>
                  <a:pt x="76" y="6"/>
                </a:lnTo>
                <a:lnTo>
                  <a:pt x="83" y="4"/>
                </a:lnTo>
                <a:lnTo>
                  <a:pt x="90" y="3"/>
                </a:lnTo>
                <a:lnTo>
                  <a:pt x="97" y="1"/>
                </a:lnTo>
                <a:lnTo>
                  <a:pt x="105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35" y="0"/>
                </a:lnTo>
                <a:lnTo>
                  <a:pt x="142" y="1"/>
                </a:lnTo>
                <a:lnTo>
                  <a:pt x="149" y="3"/>
                </a:lnTo>
                <a:lnTo>
                  <a:pt x="156" y="4"/>
                </a:lnTo>
                <a:lnTo>
                  <a:pt x="162" y="5"/>
                </a:lnTo>
                <a:lnTo>
                  <a:pt x="167" y="8"/>
                </a:lnTo>
                <a:lnTo>
                  <a:pt x="172" y="9"/>
                </a:lnTo>
                <a:lnTo>
                  <a:pt x="177" y="11"/>
                </a:lnTo>
                <a:lnTo>
                  <a:pt x="181" y="14"/>
                </a:lnTo>
                <a:lnTo>
                  <a:pt x="186" y="16"/>
                </a:lnTo>
                <a:lnTo>
                  <a:pt x="189" y="20"/>
                </a:lnTo>
                <a:lnTo>
                  <a:pt x="193" y="23"/>
                </a:lnTo>
                <a:lnTo>
                  <a:pt x="196" y="26"/>
                </a:lnTo>
                <a:lnTo>
                  <a:pt x="199" y="29"/>
                </a:lnTo>
                <a:lnTo>
                  <a:pt x="201" y="33"/>
                </a:lnTo>
                <a:lnTo>
                  <a:pt x="203" y="36"/>
                </a:lnTo>
                <a:lnTo>
                  <a:pt x="206" y="40"/>
                </a:lnTo>
                <a:lnTo>
                  <a:pt x="207" y="44"/>
                </a:lnTo>
                <a:lnTo>
                  <a:pt x="209" y="49"/>
                </a:lnTo>
                <a:lnTo>
                  <a:pt x="211" y="53"/>
                </a:lnTo>
                <a:lnTo>
                  <a:pt x="212" y="58"/>
                </a:lnTo>
                <a:lnTo>
                  <a:pt x="213" y="63"/>
                </a:lnTo>
                <a:lnTo>
                  <a:pt x="214" y="68"/>
                </a:lnTo>
                <a:lnTo>
                  <a:pt x="215" y="71"/>
                </a:lnTo>
                <a:lnTo>
                  <a:pt x="215" y="76"/>
                </a:lnTo>
                <a:lnTo>
                  <a:pt x="215" y="81"/>
                </a:lnTo>
                <a:lnTo>
                  <a:pt x="216" y="86"/>
                </a:lnTo>
                <a:lnTo>
                  <a:pt x="216" y="93"/>
                </a:lnTo>
                <a:lnTo>
                  <a:pt x="216" y="100"/>
                </a:lnTo>
                <a:lnTo>
                  <a:pt x="216" y="108"/>
                </a:lnTo>
                <a:lnTo>
                  <a:pt x="216" y="116"/>
                </a:lnTo>
                <a:lnTo>
                  <a:pt x="216" y="185"/>
                </a:lnTo>
                <a:lnTo>
                  <a:pt x="216" y="202"/>
                </a:lnTo>
                <a:lnTo>
                  <a:pt x="216" y="219"/>
                </a:lnTo>
                <a:lnTo>
                  <a:pt x="217" y="232"/>
                </a:lnTo>
                <a:lnTo>
                  <a:pt x="217" y="245"/>
                </a:lnTo>
                <a:lnTo>
                  <a:pt x="217" y="255"/>
                </a:lnTo>
                <a:lnTo>
                  <a:pt x="218" y="265"/>
                </a:lnTo>
                <a:lnTo>
                  <a:pt x="218" y="271"/>
                </a:lnTo>
                <a:lnTo>
                  <a:pt x="219" y="277"/>
                </a:lnTo>
                <a:lnTo>
                  <a:pt x="220" y="282"/>
                </a:lnTo>
                <a:lnTo>
                  <a:pt x="221" y="287"/>
                </a:lnTo>
                <a:lnTo>
                  <a:pt x="222" y="291"/>
                </a:lnTo>
                <a:lnTo>
                  <a:pt x="223" y="296"/>
                </a:lnTo>
                <a:lnTo>
                  <a:pt x="224" y="301"/>
                </a:lnTo>
                <a:lnTo>
                  <a:pt x="227" y="305"/>
                </a:lnTo>
                <a:lnTo>
                  <a:pt x="229" y="310"/>
                </a:lnTo>
                <a:lnTo>
                  <a:pt x="231" y="313"/>
                </a:lnTo>
                <a:lnTo>
                  <a:pt x="186" y="313"/>
                </a:lnTo>
                <a:lnTo>
                  <a:pt x="184" y="310"/>
                </a:lnTo>
                <a:lnTo>
                  <a:pt x="183" y="306"/>
                </a:lnTo>
                <a:lnTo>
                  <a:pt x="182" y="301"/>
                </a:lnTo>
                <a:lnTo>
                  <a:pt x="181" y="296"/>
                </a:lnTo>
                <a:lnTo>
                  <a:pt x="180" y="292"/>
                </a:lnTo>
                <a:lnTo>
                  <a:pt x="179" y="287"/>
                </a:lnTo>
                <a:lnTo>
                  <a:pt x="178" y="281"/>
                </a:lnTo>
                <a:lnTo>
                  <a:pt x="178" y="276"/>
                </a:lnTo>
                <a:close/>
                <a:moveTo>
                  <a:pt x="174" y="160"/>
                </a:moveTo>
                <a:lnTo>
                  <a:pt x="168" y="162"/>
                </a:lnTo>
                <a:lnTo>
                  <a:pt x="161" y="165"/>
                </a:lnTo>
                <a:lnTo>
                  <a:pt x="154" y="169"/>
                </a:lnTo>
                <a:lnTo>
                  <a:pt x="145" y="171"/>
                </a:lnTo>
                <a:lnTo>
                  <a:pt x="136" y="174"/>
                </a:lnTo>
                <a:lnTo>
                  <a:pt x="126" y="175"/>
                </a:lnTo>
                <a:lnTo>
                  <a:pt x="116" y="177"/>
                </a:lnTo>
                <a:lnTo>
                  <a:pt x="105" y="180"/>
                </a:lnTo>
                <a:lnTo>
                  <a:pt x="99" y="181"/>
                </a:lnTo>
                <a:lnTo>
                  <a:pt x="93" y="182"/>
                </a:lnTo>
                <a:lnTo>
                  <a:pt x="88" y="184"/>
                </a:lnTo>
                <a:lnTo>
                  <a:pt x="83" y="185"/>
                </a:lnTo>
                <a:lnTo>
                  <a:pt x="78" y="186"/>
                </a:lnTo>
                <a:lnTo>
                  <a:pt x="74" y="187"/>
                </a:lnTo>
                <a:lnTo>
                  <a:pt x="71" y="189"/>
                </a:lnTo>
                <a:lnTo>
                  <a:pt x="68" y="190"/>
                </a:lnTo>
                <a:lnTo>
                  <a:pt x="65" y="191"/>
                </a:lnTo>
                <a:lnTo>
                  <a:pt x="63" y="194"/>
                </a:lnTo>
                <a:lnTo>
                  <a:pt x="60" y="195"/>
                </a:lnTo>
                <a:lnTo>
                  <a:pt x="58" y="197"/>
                </a:lnTo>
                <a:lnTo>
                  <a:pt x="56" y="200"/>
                </a:lnTo>
                <a:lnTo>
                  <a:pt x="54" y="201"/>
                </a:lnTo>
                <a:lnTo>
                  <a:pt x="53" y="204"/>
                </a:lnTo>
                <a:lnTo>
                  <a:pt x="51" y="207"/>
                </a:lnTo>
                <a:lnTo>
                  <a:pt x="50" y="210"/>
                </a:lnTo>
                <a:lnTo>
                  <a:pt x="49" y="212"/>
                </a:lnTo>
                <a:lnTo>
                  <a:pt x="48" y="216"/>
                </a:lnTo>
                <a:lnTo>
                  <a:pt x="47" y="219"/>
                </a:lnTo>
                <a:lnTo>
                  <a:pt x="46" y="222"/>
                </a:lnTo>
                <a:lnTo>
                  <a:pt x="46" y="225"/>
                </a:lnTo>
                <a:lnTo>
                  <a:pt x="45" y="229"/>
                </a:lnTo>
                <a:lnTo>
                  <a:pt x="45" y="231"/>
                </a:lnTo>
                <a:lnTo>
                  <a:pt x="46" y="237"/>
                </a:lnTo>
                <a:lnTo>
                  <a:pt x="46" y="241"/>
                </a:lnTo>
                <a:lnTo>
                  <a:pt x="47" y="246"/>
                </a:lnTo>
                <a:lnTo>
                  <a:pt x="49" y="251"/>
                </a:lnTo>
                <a:lnTo>
                  <a:pt x="50" y="255"/>
                </a:lnTo>
                <a:lnTo>
                  <a:pt x="52" y="259"/>
                </a:lnTo>
                <a:lnTo>
                  <a:pt x="55" y="262"/>
                </a:lnTo>
                <a:lnTo>
                  <a:pt x="58" y="266"/>
                </a:lnTo>
                <a:lnTo>
                  <a:pt x="61" y="270"/>
                </a:lnTo>
                <a:lnTo>
                  <a:pt x="65" y="272"/>
                </a:lnTo>
                <a:lnTo>
                  <a:pt x="69" y="275"/>
                </a:lnTo>
                <a:lnTo>
                  <a:pt x="74" y="277"/>
                </a:lnTo>
                <a:lnTo>
                  <a:pt x="78" y="279"/>
                </a:lnTo>
                <a:lnTo>
                  <a:pt x="85" y="280"/>
                </a:lnTo>
                <a:lnTo>
                  <a:pt x="90" y="280"/>
                </a:lnTo>
                <a:lnTo>
                  <a:pt x="96" y="280"/>
                </a:lnTo>
                <a:lnTo>
                  <a:pt x="102" y="280"/>
                </a:lnTo>
                <a:lnTo>
                  <a:pt x="108" y="280"/>
                </a:lnTo>
                <a:lnTo>
                  <a:pt x="113" y="279"/>
                </a:lnTo>
                <a:lnTo>
                  <a:pt x="119" y="277"/>
                </a:lnTo>
                <a:lnTo>
                  <a:pt x="124" y="275"/>
                </a:lnTo>
                <a:lnTo>
                  <a:pt x="129" y="272"/>
                </a:lnTo>
                <a:lnTo>
                  <a:pt x="134" y="270"/>
                </a:lnTo>
                <a:lnTo>
                  <a:pt x="139" y="267"/>
                </a:lnTo>
                <a:lnTo>
                  <a:pt x="143" y="264"/>
                </a:lnTo>
                <a:lnTo>
                  <a:pt x="148" y="260"/>
                </a:lnTo>
                <a:lnTo>
                  <a:pt x="151" y="256"/>
                </a:lnTo>
                <a:lnTo>
                  <a:pt x="156" y="251"/>
                </a:lnTo>
                <a:lnTo>
                  <a:pt x="159" y="247"/>
                </a:lnTo>
                <a:lnTo>
                  <a:pt x="162" y="242"/>
                </a:lnTo>
                <a:lnTo>
                  <a:pt x="165" y="236"/>
                </a:lnTo>
                <a:lnTo>
                  <a:pt x="167" y="231"/>
                </a:lnTo>
                <a:lnTo>
                  <a:pt x="169" y="226"/>
                </a:lnTo>
                <a:lnTo>
                  <a:pt x="170" y="221"/>
                </a:lnTo>
                <a:lnTo>
                  <a:pt x="172" y="215"/>
                </a:lnTo>
                <a:lnTo>
                  <a:pt x="172" y="209"/>
                </a:lnTo>
                <a:lnTo>
                  <a:pt x="173" y="202"/>
                </a:lnTo>
                <a:lnTo>
                  <a:pt x="174" y="195"/>
                </a:lnTo>
                <a:lnTo>
                  <a:pt x="174" y="187"/>
                </a:lnTo>
                <a:lnTo>
                  <a:pt x="174" y="179"/>
                </a:lnTo>
                <a:lnTo>
                  <a:pt x="174" y="1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21400" y="1438200"/>
            <a:ext cx="71280" cy="123840"/>
          </a:xfrm>
          <a:custGeom>
            <a:avLst/>
            <a:gdLst/>
            <a:ahLst/>
            <a:rect l="l" t="t" r="r" b="b"/>
            <a:pathLst>
              <a:path w="136" h="313">
                <a:moveTo>
                  <a:pt x="0" y="313"/>
                </a:moveTo>
                <a:lnTo>
                  <a:pt x="0" y="6"/>
                </a:lnTo>
                <a:lnTo>
                  <a:pt x="39" y="6"/>
                </a:lnTo>
                <a:lnTo>
                  <a:pt x="39" y="54"/>
                </a:lnTo>
                <a:lnTo>
                  <a:pt x="42" y="45"/>
                </a:lnTo>
                <a:lnTo>
                  <a:pt x="46" y="39"/>
                </a:lnTo>
                <a:lnTo>
                  <a:pt x="49" y="33"/>
                </a:lnTo>
                <a:lnTo>
                  <a:pt x="53" y="26"/>
                </a:lnTo>
                <a:lnTo>
                  <a:pt x="56" y="21"/>
                </a:lnTo>
                <a:lnTo>
                  <a:pt x="59" y="16"/>
                </a:lnTo>
                <a:lnTo>
                  <a:pt x="62" y="14"/>
                </a:lnTo>
                <a:lnTo>
                  <a:pt x="66" y="10"/>
                </a:lnTo>
                <a:lnTo>
                  <a:pt x="69" y="8"/>
                </a:lnTo>
                <a:lnTo>
                  <a:pt x="72" y="6"/>
                </a:lnTo>
                <a:lnTo>
                  <a:pt x="75" y="4"/>
                </a:lnTo>
                <a:lnTo>
                  <a:pt x="78" y="3"/>
                </a:lnTo>
                <a:lnTo>
                  <a:pt x="82" y="1"/>
                </a:lnTo>
                <a:lnTo>
                  <a:pt x="85" y="0"/>
                </a:lnTo>
                <a:lnTo>
                  <a:pt x="89" y="0"/>
                </a:lnTo>
                <a:lnTo>
                  <a:pt x="93" y="0"/>
                </a:lnTo>
                <a:lnTo>
                  <a:pt x="99" y="0"/>
                </a:lnTo>
                <a:lnTo>
                  <a:pt x="104" y="1"/>
                </a:lnTo>
                <a:lnTo>
                  <a:pt x="109" y="3"/>
                </a:lnTo>
                <a:lnTo>
                  <a:pt x="115" y="4"/>
                </a:lnTo>
                <a:lnTo>
                  <a:pt x="120" y="6"/>
                </a:lnTo>
                <a:lnTo>
                  <a:pt x="125" y="9"/>
                </a:lnTo>
                <a:lnTo>
                  <a:pt x="131" y="13"/>
                </a:lnTo>
                <a:lnTo>
                  <a:pt x="136" y="16"/>
                </a:lnTo>
                <a:lnTo>
                  <a:pt x="122" y="65"/>
                </a:lnTo>
                <a:lnTo>
                  <a:pt x="118" y="63"/>
                </a:lnTo>
                <a:lnTo>
                  <a:pt x="114" y="60"/>
                </a:lnTo>
                <a:lnTo>
                  <a:pt x="110" y="58"/>
                </a:lnTo>
                <a:lnTo>
                  <a:pt x="106" y="56"/>
                </a:lnTo>
                <a:lnTo>
                  <a:pt x="103" y="55"/>
                </a:lnTo>
                <a:lnTo>
                  <a:pt x="99" y="54"/>
                </a:lnTo>
                <a:lnTo>
                  <a:pt x="95" y="54"/>
                </a:lnTo>
                <a:lnTo>
                  <a:pt x="91" y="54"/>
                </a:lnTo>
                <a:lnTo>
                  <a:pt x="87" y="54"/>
                </a:lnTo>
                <a:lnTo>
                  <a:pt x="83" y="54"/>
                </a:lnTo>
                <a:lnTo>
                  <a:pt x="80" y="55"/>
                </a:lnTo>
                <a:lnTo>
                  <a:pt x="77" y="56"/>
                </a:lnTo>
                <a:lnTo>
                  <a:pt x="74" y="58"/>
                </a:lnTo>
                <a:lnTo>
                  <a:pt x="71" y="60"/>
                </a:lnTo>
                <a:lnTo>
                  <a:pt x="68" y="61"/>
                </a:lnTo>
                <a:lnTo>
                  <a:pt x="66" y="64"/>
                </a:lnTo>
                <a:lnTo>
                  <a:pt x="63" y="66"/>
                </a:lnTo>
                <a:lnTo>
                  <a:pt x="61" y="70"/>
                </a:lnTo>
                <a:lnTo>
                  <a:pt x="58" y="73"/>
                </a:lnTo>
                <a:lnTo>
                  <a:pt x="56" y="76"/>
                </a:lnTo>
                <a:lnTo>
                  <a:pt x="54" y="80"/>
                </a:lnTo>
                <a:lnTo>
                  <a:pt x="53" y="84"/>
                </a:lnTo>
                <a:lnTo>
                  <a:pt x="51" y="88"/>
                </a:lnTo>
                <a:lnTo>
                  <a:pt x="50" y="93"/>
                </a:lnTo>
                <a:lnTo>
                  <a:pt x="48" y="100"/>
                </a:lnTo>
                <a:lnTo>
                  <a:pt x="47" y="106"/>
                </a:lnTo>
                <a:lnTo>
                  <a:pt x="46" y="114"/>
                </a:lnTo>
                <a:lnTo>
                  <a:pt x="45" y="121"/>
                </a:lnTo>
                <a:lnTo>
                  <a:pt x="44" y="129"/>
                </a:lnTo>
                <a:lnTo>
                  <a:pt x="44" y="138"/>
                </a:lnTo>
                <a:lnTo>
                  <a:pt x="43" y="145"/>
                </a:lnTo>
                <a:lnTo>
                  <a:pt x="43" y="154"/>
                </a:lnTo>
                <a:lnTo>
                  <a:pt x="43" y="313"/>
                </a:lnTo>
                <a:lnTo>
                  <a:pt x="0" y="3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398600"/>
            <a:ext cx="65160" cy="165240"/>
          </a:xfrm>
          <a:custGeom>
            <a:avLst/>
            <a:gdLst/>
            <a:ahLst/>
            <a:rect l="l" t="t" r="r" b="b"/>
            <a:pathLst>
              <a:path w="122" h="419">
                <a:moveTo>
                  <a:pt x="116" y="368"/>
                </a:moveTo>
                <a:lnTo>
                  <a:pt x="122" y="414"/>
                </a:lnTo>
                <a:lnTo>
                  <a:pt x="118" y="416"/>
                </a:lnTo>
                <a:lnTo>
                  <a:pt x="113" y="417"/>
                </a:lnTo>
                <a:lnTo>
                  <a:pt x="109" y="417"/>
                </a:lnTo>
                <a:lnTo>
                  <a:pt x="105" y="418"/>
                </a:lnTo>
                <a:lnTo>
                  <a:pt x="101" y="418"/>
                </a:lnTo>
                <a:lnTo>
                  <a:pt x="98" y="419"/>
                </a:lnTo>
                <a:lnTo>
                  <a:pt x="93" y="419"/>
                </a:lnTo>
                <a:lnTo>
                  <a:pt x="90" y="419"/>
                </a:lnTo>
                <a:lnTo>
                  <a:pt x="84" y="419"/>
                </a:lnTo>
                <a:lnTo>
                  <a:pt x="79" y="418"/>
                </a:lnTo>
                <a:lnTo>
                  <a:pt x="74" y="418"/>
                </a:lnTo>
                <a:lnTo>
                  <a:pt x="69" y="417"/>
                </a:lnTo>
                <a:lnTo>
                  <a:pt x="65" y="416"/>
                </a:lnTo>
                <a:lnTo>
                  <a:pt x="61" y="414"/>
                </a:lnTo>
                <a:lnTo>
                  <a:pt x="58" y="412"/>
                </a:lnTo>
                <a:lnTo>
                  <a:pt x="54" y="411"/>
                </a:lnTo>
                <a:lnTo>
                  <a:pt x="51" y="408"/>
                </a:lnTo>
                <a:lnTo>
                  <a:pt x="48" y="406"/>
                </a:lnTo>
                <a:lnTo>
                  <a:pt x="46" y="403"/>
                </a:lnTo>
                <a:lnTo>
                  <a:pt x="44" y="399"/>
                </a:lnTo>
                <a:lnTo>
                  <a:pt x="42" y="397"/>
                </a:lnTo>
                <a:lnTo>
                  <a:pt x="40" y="393"/>
                </a:lnTo>
                <a:lnTo>
                  <a:pt x="38" y="391"/>
                </a:lnTo>
                <a:lnTo>
                  <a:pt x="37" y="387"/>
                </a:lnTo>
                <a:lnTo>
                  <a:pt x="35" y="382"/>
                </a:lnTo>
                <a:lnTo>
                  <a:pt x="34" y="377"/>
                </a:lnTo>
                <a:lnTo>
                  <a:pt x="34" y="371"/>
                </a:lnTo>
                <a:lnTo>
                  <a:pt x="33" y="365"/>
                </a:lnTo>
                <a:lnTo>
                  <a:pt x="32" y="356"/>
                </a:lnTo>
                <a:lnTo>
                  <a:pt x="32" y="347"/>
                </a:lnTo>
                <a:lnTo>
                  <a:pt x="32" y="336"/>
                </a:lnTo>
                <a:lnTo>
                  <a:pt x="32" y="325"/>
                </a:lnTo>
                <a:lnTo>
                  <a:pt x="32" y="149"/>
                </a:lnTo>
                <a:lnTo>
                  <a:pt x="0" y="149"/>
                </a:lnTo>
                <a:lnTo>
                  <a:pt x="0" y="107"/>
                </a:lnTo>
                <a:lnTo>
                  <a:pt x="32" y="107"/>
                </a:lnTo>
                <a:lnTo>
                  <a:pt x="32" y="31"/>
                </a:lnTo>
                <a:lnTo>
                  <a:pt x="73" y="0"/>
                </a:lnTo>
                <a:lnTo>
                  <a:pt x="73" y="107"/>
                </a:lnTo>
                <a:lnTo>
                  <a:pt x="116" y="107"/>
                </a:lnTo>
                <a:lnTo>
                  <a:pt x="116" y="149"/>
                </a:lnTo>
                <a:lnTo>
                  <a:pt x="73" y="149"/>
                </a:lnTo>
                <a:lnTo>
                  <a:pt x="73" y="328"/>
                </a:lnTo>
                <a:lnTo>
                  <a:pt x="73" y="333"/>
                </a:lnTo>
                <a:lnTo>
                  <a:pt x="73" y="338"/>
                </a:lnTo>
                <a:lnTo>
                  <a:pt x="73" y="342"/>
                </a:lnTo>
                <a:lnTo>
                  <a:pt x="74" y="346"/>
                </a:lnTo>
                <a:lnTo>
                  <a:pt x="74" y="350"/>
                </a:lnTo>
                <a:lnTo>
                  <a:pt x="74" y="352"/>
                </a:lnTo>
                <a:lnTo>
                  <a:pt x="75" y="355"/>
                </a:lnTo>
                <a:lnTo>
                  <a:pt x="75" y="357"/>
                </a:lnTo>
                <a:lnTo>
                  <a:pt x="76" y="358"/>
                </a:lnTo>
                <a:lnTo>
                  <a:pt x="76" y="360"/>
                </a:lnTo>
                <a:lnTo>
                  <a:pt x="77" y="361"/>
                </a:lnTo>
                <a:lnTo>
                  <a:pt x="78" y="362"/>
                </a:lnTo>
                <a:lnTo>
                  <a:pt x="79" y="363"/>
                </a:lnTo>
                <a:lnTo>
                  <a:pt x="80" y="365"/>
                </a:lnTo>
                <a:lnTo>
                  <a:pt x="81" y="366"/>
                </a:lnTo>
                <a:lnTo>
                  <a:pt x="82" y="367"/>
                </a:lnTo>
                <a:lnTo>
                  <a:pt x="84" y="368"/>
                </a:lnTo>
                <a:lnTo>
                  <a:pt x="85" y="368"/>
                </a:lnTo>
                <a:lnTo>
                  <a:pt x="87" y="370"/>
                </a:lnTo>
                <a:lnTo>
                  <a:pt x="88" y="370"/>
                </a:lnTo>
                <a:lnTo>
                  <a:pt x="90" y="370"/>
                </a:lnTo>
                <a:lnTo>
                  <a:pt x="92" y="371"/>
                </a:lnTo>
                <a:lnTo>
                  <a:pt x="94" y="371"/>
                </a:lnTo>
                <a:lnTo>
                  <a:pt x="98" y="371"/>
                </a:lnTo>
                <a:lnTo>
                  <a:pt x="99" y="371"/>
                </a:lnTo>
                <a:lnTo>
                  <a:pt x="101" y="371"/>
                </a:lnTo>
                <a:lnTo>
                  <a:pt x="104" y="371"/>
                </a:lnTo>
                <a:lnTo>
                  <a:pt x="106" y="370"/>
                </a:lnTo>
                <a:lnTo>
                  <a:pt x="108" y="370"/>
                </a:lnTo>
                <a:lnTo>
                  <a:pt x="111" y="370"/>
                </a:lnTo>
                <a:lnTo>
                  <a:pt x="113" y="370"/>
                </a:lnTo>
                <a:lnTo>
                  <a:pt x="116" y="36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70440" y="1438200"/>
            <a:ext cx="120600" cy="127080"/>
          </a:xfrm>
          <a:custGeom>
            <a:avLst/>
            <a:gdLst/>
            <a:ahLst/>
            <a:rect l="l" t="t" r="r" b="b"/>
            <a:pathLst>
              <a:path w="230" h="321">
                <a:moveTo>
                  <a:pt x="185" y="215"/>
                </a:moveTo>
                <a:lnTo>
                  <a:pt x="228" y="222"/>
                </a:lnTo>
                <a:lnTo>
                  <a:pt x="226" y="234"/>
                </a:lnTo>
                <a:lnTo>
                  <a:pt x="222" y="244"/>
                </a:lnTo>
                <a:lnTo>
                  <a:pt x="218" y="255"/>
                </a:lnTo>
                <a:lnTo>
                  <a:pt x="214" y="264"/>
                </a:lnTo>
                <a:lnTo>
                  <a:pt x="209" y="272"/>
                </a:lnTo>
                <a:lnTo>
                  <a:pt x="203" y="281"/>
                </a:lnTo>
                <a:lnTo>
                  <a:pt x="197" y="288"/>
                </a:lnTo>
                <a:lnTo>
                  <a:pt x="191" y="295"/>
                </a:lnTo>
                <a:lnTo>
                  <a:pt x="184" y="301"/>
                </a:lnTo>
                <a:lnTo>
                  <a:pt x="176" y="306"/>
                </a:lnTo>
                <a:lnTo>
                  <a:pt x="167" y="311"/>
                </a:lnTo>
                <a:lnTo>
                  <a:pt x="158" y="315"/>
                </a:lnTo>
                <a:lnTo>
                  <a:pt x="149" y="317"/>
                </a:lnTo>
                <a:lnTo>
                  <a:pt x="140" y="320"/>
                </a:lnTo>
                <a:lnTo>
                  <a:pt x="130" y="321"/>
                </a:lnTo>
                <a:lnTo>
                  <a:pt x="119" y="321"/>
                </a:lnTo>
                <a:lnTo>
                  <a:pt x="106" y="321"/>
                </a:lnTo>
                <a:lnTo>
                  <a:pt x="93" y="318"/>
                </a:lnTo>
                <a:lnTo>
                  <a:pt x="81" y="315"/>
                </a:lnTo>
                <a:lnTo>
                  <a:pt x="70" y="311"/>
                </a:lnTo>
                <a:lnTo>
                  <a:pt x="59" y="305"/>
                </a:lnTo>
                <a:lnTo>
                  <a:pt x="50" y="297"/>
                </a:lnTo>
                <a:lnTo>
                  <a:pt x="41" y="290"/>
                </a:lnTo>
                <a:lnTo>
                  <a:pt x="33" y="280"/>
                </a:lnTo>
                <a:lnTo>
                  <a:pt x="24" y="269"/>
                </a:lnTo>
                <a:lnTo>
                  <a:pt x="18" y="257"/>
                </a:lnTo>
                <a:lnTo>
                  <a:pt x="12" y="244"/>
                </a:lnTo>
                <a:lnTo>
                  <a:pt x="8" y="230"/>
                </a:lnTo>
                <a:lnTo>
                  <a:pt x="4" y="215"/>
                </a:lnTo>
                <a:lnTo>
                  <a:pt x="2" y="199"/>
                </a:lnTo>
                <a:lnTo>
                  <a:pt x="0" y="181"/>
                </a:lnTo>
                <a:lnTo>
                  <a:pt x="0" y="164"/>
                </a:lnTo>
                <a:lnTo>
                  <a:pt x="0" y="144"/>
                </a:lnTo>
                <a:lnTo>
                  <a:pt x="2" y="126"/>
                </a:lnTo>
                <a:lnTo>
                  <a:pt x="4" y="110"/>
                </a:lnTo>
                <a:lnTo>
                  <a:pt x="8" y="94"/>
                </a:lnTo>
                <a:lnTo>
                  <a:pt x="12" y="80"/>
                </a:lnTo>
                <a:lnTo>
                  <a:pt x="18" y="66"/>
                </a:lnTo>
                <a:lnTo>
                  <a:pt x="24" y="54"/>
                </a:lnTo>
                <a:lnTo>
                  <a:pt x="33" y="43"/>
                </a:lnTo>
                <a:lnTo>
                  <a:pt x="41" y="33"/>
                </a:lnTo>
                <a:lnTo>
                  <a:pt x="50" y="24"/>
                </a:lnTo>
                <a:lnTo>
                  <a:pt x="60" y="16"/>
                </a:lnTo>
                <a:lnTo>
                  <a:pt x="70" y="10"/>
                </a:lnTo>
                <a:lnTo>
                  <a:pt x="80" y="6"/>
                </a:lnTo>
                <a:lnTo>
                  <a:pt x="92" y="3"/>
                </a:lnTo>
                <a:lnTo>
                  <a:pt x="104" y="0"/>
                </a:lnTo>
                <a:lnTo>
                  <a:pt x="117" y="0"/>
                </a:lnTo>
                <a:lnTo>
                  <a:pt x="129" y="0"/>
                </a:lnTo>
                <a:lnTo>
                  <a:pt x="140" y="3"/>
                </a:lnTo>
                <a:lnTo>
                  <a:pt x="151" y="6"/>
                </a:lnTo>
                <a:lnTo>
                  <a:pt x="162" y="10"/>
                </a:lnTo>
                <a:lnTo>
                  <a:pt x="173" y="16"/>
                </a:lnTo>
                <a:lnTo>
                  <a:pt x="182" y="24"/>
                </a:lnTo>
                <a:lnTo>
                  <a:pt x="190" y="33"/>
                </a:lnTo>
                <a:lnTo>
                  <a:pt x="199" y="41"/>
                </a:lnTo>
                <a:lnTo>
                  <a:pt x="206" y="53"/>
                </a:lnTo>
                <a:lnTo>
                  <a:pt x="212" y="65"/>
                </a:lnTo>
                <a:lnTo>
                  <a:pt x="218" y="78"/>
                </a:lnTo>
                <a:lnTo>
                  <a:pt x="222" y="93"/>
                </a:lnTo>
                <a:lnTo>
                  <a:pt x="225" y="108"/>
                </a:lnTo>
                <a:lnTo>
                  <a:pt x="228" y="124"/>
                </a:lnTo>
                <a:lnTo>
                  <a:pt x="229" y="141"/>
                </a:lnTo>
                <a:lnTo>
                  <a:pt x="230" y="160"/>
                </a:lnTo>
                <a:lnTo>
                  <a:pt x="230" y="161"/>
                </a:lnTo>
                <a:lnTo>
                  <a:pt x="230" y="162"/>
                </a:lnTo>
                <a:lnTo>
                  <a:pt x="230" y="164"/>
                </a:lnTo>
                <a:lnTo>
                  <a:pt x="230" y="166"/>
                </a:lnTo>
                <a:lnTo>
                  <a:pt x="230" y="167"/>
                </a:lnTo>
                <a:lnTo>
                  <a:pt x="230" y="170"/>
                </a:lnTo>
                <a:lnTo>
                  <a:pt x="230" y="171"/>
                </a:lnTo>
                <a:lnTo>
                  <a:pt x="230" y="174"/>
                </a:lnTo>
                <a:lnTo>
                  <a:pt x="44" y="174"/>
                </a:lnTo>
                <a:lnTo>
                  <a:pt x="45" y="186"/>
                </a:lnTo>
                <a:lnTo>
                  <a:pt x="46" y="197"/>
                </a:lnTo>
                <a:lnTo>
                  <a:pt x="48" y="209"/>
                </a:lnTo>
                <a:lnTo>
                  <a:pt x="51" y="219"/>
                </a:lnTo>
                <a:lnTo>
                  <a:pt x="54" y="227"/>
                </a:lnTo>
                <a:lnTo>
                  <a:pt x="58" y="236"/>
                </a:lnTo>
                <a:lnTo>
                  <a:pt x="62" y="245"/>
                </a:lnTo>
                <a:lnTo>
                  <a:pt x="67" y="251"/>
                </a:lnTo>
                <a:lnTo>
                  <a:pt x="72" y="257"/>
                </a:lnTo>
                <a:lnTo>
                  <a:pt x="78" y="264"/>
                </a:lnTo>
                <a:lnTo>
                  <a:pt x="84" y="267"/>
                </a:lnTo>
                <a:lnTo>
                  <a:pt x="90" y="271"/>
                </a:lnTo>
                <a:lnTo>
                  <a:pt x="97" y="275"/>
                </a:lnTo>
                <a:lnTo>
                  <a:pt x="105" y="276"/>
                </a:lnTo>
                <a:lnTo>
                  <a:pt x="112" y="277"/>
                </a:lnTo>
                <a:lnTo>
                  <a:pt x="119" y="279"/>
                </a:lnTo>
                <a:lnTo>
                  <a:pt x="125" y="279"/>
                </a:lnTo>
                <a:lnTo>
                  <a:pt x="130" y="277"/>
                </a:lnTo>
                <a:lnTo>
                  <a:pt x="136" y="276"/>
                </a:lnTo>
                <a:lnTo>
                  <a:pt x="141" y="275"/>
                </a:lnTo>
                <a:lnTo>
                  <a:pt x="145" y="272"/>
                </a:lnTo>
                <a:lnTo>
                  <a:pt x="150" y="270"/>
                </a:lnTo>
                <a:lnTo>
                  <a:pt x="154" y="267"/>
                </a:lnTo>
                <a:lnTo>
                  <a:pt x="159" y="264"/>
                </a:lnTo>
                <a:lnTo>
                  <a:pt x="163" y="259"/>
                </a:lnTo>
                <a:lnTo>
                  <a:pt x="166" y="255"/>
                </a:lnTo>
                <a:lnTo>
                  <a:pt x="170" y="250"/>
                </a:lnTo>
                <a:lnTo>
                  <a:pt x="174" y="244"/>
                </a:lnTo>
                <a:lnTo>
                  <a:pt x="177" y="237"/>
                </a:lnTo>
                <a:lnTo>
                  <a:pt x="180" y="231"/>
                </a:lnTo>
                <a:lnTo>
                  <a:pt x="183" y="224"/>
                </a:lnTo>
                <a:lnTo>
                  <a:pt x="185" y="215"/>
                </a:lnTo>
                <a:close/>
                <a:moveTo>
                  <a:pt x="46" y="131"/>
                </a:moveTo>
                <a:lnTo>
                  <a:pt x="186" y="131"/>
                </a:lnTo>
                <a:lnTo>
                  <a:pt x="185" y="121"/>
                </a:lnTo>
                <a:lnTo>
                  <a:pt x="184" y="113"/>
                </a:lnTo>
                <a:lnTo>
                  <a:pt x="182" y="105"/>
                </a:lnTo>
                <a:lnTo>
                  <a:pt x="180" y="98"/>
                </a:lnTo>
                <a:lnTo>
                  <a:pt x="178" y="90"/>
                </a:lnTo>
                <a:lnTo>
                  <a:pt x="176" y="84"/>
                </a:lnTo>
                <a:lnTo>
                  <a:pt x="173" y="78"/>
                </a:lnTo>
                <a:lnTo>
                  <a:pt x="169" y="73"/>
                </a:lnTo>
                <a:lnTo>
                  <a:pt x="164" y="66"/>
                </a:lnTo>
                <a:lnTo>
                  <a:pt x="158" y="60"/>
                </a:lnTo>
                <a:lnTo>
                  <a:pt x="152" y="55"/>
                </a:lnTo>
                <a:lnTo>
                  <a:pt x="146" y="50"/>
                </a:lnTo>
                <a:lnTo>
                  <a:pt x="139" y="48"/>
                </a:lnTo>
                <a:lnTo>
                  <a:pt x="132" y="45"/>
                </a:lnTo>
                <a:lnTo>
                  <a:pt x="125" y="44"/>
                </a:lnTo>
                <a:lnTo>
                  <a:pt x="117" y="43"/>
                </a:lnTo>
                <a:lnTo>
                  <a:pt x="110" y="43"/>
                </a:lnTo>
                <a:lnTo>
                  <a:pt x="104" y="44"/>
                </a:lnTo>
                <a:lnTo>
                  <a:pt x="96" y="46"/>
                </a:lnTo>
                <a:lnTo>
                  <a:pt x="90" y="49"/>
                </a:lnTo>
                <a:lnTo>
                  <a:pt x="84" y="53"/>
                </a:lnTo>
                <a:lnTo>
                  <a:pt x="78" y="56"/>
                </a:lnTo>
                <a:lnTo>
                  <a:pt x="73" y="61"/>
                </a:lnTo>
                <a:lnTo>
                  <a:pt x="68" y="66"/>
                </a:lnTo>
                <a:lnTo>
                  <a:pt x="63" y="73"/>
                </a:lnTo>
                <a:lnTo>
                  <a:pt x="59" y="80"/>
                </a:lnTo>
                <a:lnTo>
                  <a:pt x="56" y="88"/>
                </a:lnTo>
                <a:lnTo>
                  <a:pt x="53" y="95"/>
                </a:lnTo>
                <a:lnTo>
                  <a:pt x="50" y="103"/>
                </a:lnTo>
                <a:lnTo>
                  <a:pt x="49" y="111"/>
                </a:lnTo>
                <a:lnTo>
                  <a:pt x="47" y="121"/>
                </a:lnTo>
                <a:lnTo>
                  <a:pt x="46" y="13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18040" y="1393920"/>
            <a:ext cx="23760" cy="168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75280" y="1393920"/>
            <a:ext cx="22320" cy="1681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24600" y="1438200"/>
            <a:ext cx="122040" cy="127080"/>
          </a:xfrm>
          <a:custGeom>
            <a:avLst/>
            <a:gdLst/>
            <a:ahLst/>
            <a:rect l="l" t="t" r="r" b="b"/>
            <a:pathLst>
              <a:path w="233" h="321">
                <a:moveTo>
                  <a:pt x="0" y="160"/>
                </a:moveTo>
                <a:lnTo>
                  <a:pt x="0" y="140"/>
                </a:lnTo>
                <a:lnTo>
                  <a:pt x="2" y="120"/>
                </a:lnTo>
                <a:lnTo>
                  <a:pt x="5" y="103"/>
                </a:lnTo>
                <a:lnTo>
                  <a:pt x="9" y="86"/>
                </a:lnTo>
                <a:lnTo>
                  <a:pt x="15" y="71"/>
                </a:lnTo>
                <a:lnTo>
                  <a:pt x="21" y="58"/>
                </a:lnTo>
                <a:lnTo>
                  <a:pt x="29" y="45"/>
                </a:lnTo>
                <a:lnTo>
                  <a:pt x="38" y="34"/>
                </a:lnTo>
                <a:lnTo>
                  <a:pt x="46" y="26"/>
                </a:lnTo>
                <a:lnTo>
                  <a:pt x="56" y="19"/>
                </a:lnTo>
                <a:lnTo>
                  <a:pt x="65" y="14"/>
                </a:lnTo>
                <a:lnTo>
                  <a:pt x="74" y="9"/>
                </a:lnTo>
                <a:lnTo>
                  <a:pt x="84" y="5"/>
                </a:lnTo>
                <a:lnTo>
                  <a:pt x="94" y="3"/>
                </a:lnTo>
                <a:lnTo>
                  <a:pt x="105" y="0"/>
                </a:lnTo>
                <a:lnTo>
                  <a:pt x="116" y="0"/>
                </a:lnTo>
                <a:lnTo>
                  <a:pt x="130" y="0"/>
                </a:lnTo>
                <a:lnTo>
                  <a:pt x="142" y="3"/>
                </a:lnTo>
                <a:lnTo>
                  <a:pt x="153" y="5"/>
                </a:lnTo>
                <a:lnTo>
                  <a:pt x="163" y="10"/>
                </a:lnTo>
                <a:lnTo>
                  <a:pt x="174" y="16"/>
                </a:lnTo>
                <a:lnTo>
                  <a:pt x="183" y="24"/>
                </a:lnTo>
                <a:lnTo>
                  <a:pt x="192" y="31"/>
                </a:lnTo>
                <a:lnTo>
                  <a:pt x="201" y="41"/>
                </a:lnTo>
                <a:lnTo>
                  <a:pt x="209" y="53"/>
                </a:lnTo>
                <a:lnTo>
                  <a:pt x="215" y="64"/>
                </a:lnTo>
                <a:lnTo>
                  <a:pt x="221" y="78"/>
                </a:lnTo>
                <a:lnTo>
                  <a:pt x="225" y="91"/>
                </a:lnTo>
                <a:lnTo>
                  <a:pt x="229" y="106"/>
                </a:lnTo>
                <a:lnTo>
                  <a:pt x="231" y="121"/>
                </a:lnTo>
                <a:lnTo>
                  <a:pt x="233" y="139"/>
                </a:lnTo>
                <a:lnTo>
                  <a:pt x="233" y="156"/>
                </a:lnTo>
                <a:lnTo>
                  <a:pt x="233" y="171"/>
                </a:lnTo>
                <a:lnTo>
                  <a:pt x="233" y="184"/>
                </a:lnTo>
                <a:lnTo>
                  <a:pt x="231" y="197"/>
                </a:lnTo>
                <a:lnTo>
                  <a:pt x="230" y="209"/>
                </a:lnTo>
                <a:lnTo>
                  <a:pt x="228" y="220"/>
                </a:lnTo>
                <a:lnTo>
                  <a:pt x="225" y="231"/>
                </a:lnTo>
                <a:lnTo>
                  <a:pt x="223" y="241"/>
                </a:lnTo>
                <a:lnTo>
                  <a:pt x="219" y="250"/>
                </a:lnTo>
                <a:lnTo>
                  <a:pt x="215" y="257"/>
                </a:lnTo>
                <a:lnTo>
                  <a:pt x="211" y="266"/>
                </a:lnTo>
                <a:lnTo>
                  <a:pt x="207" y="272"/>
                </a:lnTo>
                <a:lnTo>
                  <a:pt x="202" y="280"/>
                </a:lnTo>
                <a:lnTo>
                  <a:pt x="195" y="286"/>
                </a:lnTo>
                <a:lnTo>
                  <a:pt x="190" y="292"/>
                </a:lnTo>
                <a:lnTo>
                  <a:pt x="183" y="297"/>
                </a:lnTo>
                <a:lnTo>
                  <a:pt x="177" y="302"/>
                </a:lnTo>
                <a:lnTo>
                  <a:pt x="170" y="307"/>
                </a:lnTo>
                <a:lnTo>
                  <a:pt x="163" y="311"/>
                </a:lnTo>
                <a:lnTo>
                  <a:pt x="156" y="313"/>
                </a:lnTo>
                <a:lnTo>
                  <a:pt x="148" y="316"/>
                </a:lnTo>
                <a:lnTo>
                  <a:pt x="141" y="318"/>
                </a:lnTo>
                <a:lnTo>
                  <a:pt x="133" y="320"/>
                </a:lnTo>
                <a:lnTo>
                  <a:pt x="124" y="321"/>
                </a:lnTo>
                <a:lnTo>
                  <a:pt x="116" y="321"/>
                </a:lnTo>
                <a:lnTo>
                  <a:pt x="104" y="321"/>
                </a:lnTo>
                <a:lnTo>
                  <a:pt x="92" y="318"/>
                </a:lnTo>
                <a:lnTo>
                  <a:pt x="80" y="315"/>
                </a:lnTo>
                <a:lnTo>
                  <a:pt x="70" y="311"/>
                </a:lnTo>
                <a:lnTo>
                  <a:pt x="59" y="305"/>
                </a:lnTo>
                <a:lnTo>
                  <a:pt x="49" y="297"/>
                </a:lnTo>
                <a:lnTo>
                  <a:pt x="40" y="290"/>
                </a:lnTo>
                <a:lnTo>
                  <a:pt x="32" y="280"/>
                </a:lnTo>
                <a:lnTo>
                  <a:pt x="24" y="269"/>
                </a:lnTo>
                <a:lnTo>
                  <a:pt x="18" y="257"/>
                </a:lnTo>
                <a:lnTo>
                  <a:pt x="12" y="244"/>
                </a:lnTo>
                <a:lnTo>
                  <a:pt x="8" y="229"/>
                </a:lnTo>
                <a:lnTo>
                  <a:pt x="4" y="214"/>
                </a:lnTo>
                <a:lnTo>
                  <a:pt x="2" y="197"/>
                </a:lnTo>
                <a:lnTo>
                  <a:pt x="0" y="180"/>
                </a:lnTo>
                <a:lnTo>
                  <a:pt x="0" y="160"/>
                </a:lnTo>
                <a:close/>
                <a:moveTo>
                  <a:pt x="43" y="160"/>
                </a:moveTo>
                <a:lnTo>
                  <a:pt x="43" y="175"/>
                </a:lnTo>
                <a:lnTo>
                  <a:pt x="44" y="189"/>
                </a:lnTo>
                <a:lnTo>
                  <a:pt x="46" y="201"/>
                </a:lnTo>
                <a:lnTo>
                  <a:pt x="48" y="212"/>
                </a:lnTo>
                <a:lnTo>
                  <a:pt x="51" y="222"/>
                </a:lnTo>
                <a:lnTo>
                  <a:pt x="55" y="232"/>
                </a:lnTo>
                <a:lnTo>
                  <a:pt x="60" y="241"/>
                </a:lnTo>
                <a:lnTo>
                  <a:pt x="64" y="249"/>
                </a:lnTo>
                <a:lnTo>
                  <a:pt x="70" y="256"/>
                </a:lnTo>
                <a:lnTo>
                  <a:pt x="75" y="262"/>
                </a:lnTo>
                <a:lnTo>
                  <a:pt x="81" y="267"/>
                </a:lnTo>
                <a:lnTo>
                  <a:pt x="88" y="271"/>
                </a:lnTo>
                <a:lnTo>
                  <a:pt x="94" y="274"/>
                </a:lnTo>
                <a:lnTo>
                  <a:pt x="101" y="276"/>
                </a:lnTo>
                <a:lnTo>
                  <a:pt x="109" y="277"/>
                </a:lnTo>
                <a:lnTo>
                  <a:pt x="116" y="279"/>
                </a:lnTo>
                <a:lnTo>
                  <a:pt x="124" y="277"/>
                </a:lnTo>
                <a:lnTo>
                  <a:pt x="132" y="276"/>
                </a:lnTo>
                <a:lnTo>
                  <a:pt x="139" y="274"/>
                </a:lnTo>
                <a:lnTo>
                  <a:pt x="146" y="271"/>
                </a:lnTo>
                <a:lnTo>
                  <a:pt x="152" y="267"/>
                </a:lnTo>
                <a:lnTo>
                  <a:pt x="158" y="261"/>
                </a:lnTo>
                <a:lnTo>
                  <a:pt x="164" y="256"/>
                </a:lnTo>
                <a:lnTo>
                  <a:pt x="169" y="249"/>
                </a:lnTo>
                <a:lnTo>
                  <a:pt x="174" y="241"/>
                </a:lnTo>
                <a:lnTo>
                  <a:pt x="178" y="232"/>
                </a:lnTo>
                <a:lnTo>
                  <a:pt x="182" y="222"/>
                </a:lnTo>
                <a:lnTo>
                  <a:pt x="184" y="211"/>
                </a:lnTo>
                <a:lnTo>
                  <a:pt x="187" y="200"/>
                </a:lnTo>
                <a:lnTo>
                  <a:pt x="188" y="187"/>
                </a:lnTo>
                <a:lnTo>
                  <a:pt x="189" y="174"/>
                </a:lnTo>
                <a:lnTo>
                  <a:pt x="190" y="159"/>
                </a:lnTo>
                <a:lnTo>
                  <a:pt x="189" y="145"/>
                </a:lnTo>
                <a:lnTo>
                  <a:pt x="188" y="133"/>
                </a:lnTo>
                <a:lnTo>
                  <a:pt x="187" y="120"/>
                </a:lnTo>
                <a:lnTo>
                  <a:pt x="184" y="109"/>
                </a:lnTo>
                <a:lnTo>
                  <a:pt x="182" y="99"/>
                </a:lnTo>
                <a:lnTo>
                  <a:pt x="178" y="89"/>
                </a:lnTo>
                <a:lnTo>
                  <a:pt x="174" y="80"/>
                </a:lnTo>
                <a:lnTo>
                  <a:pt x="169" y="73"/>
                </a:lnTo>
                <a:lnTo>
                  <a:pt x="164" y="65"/>
                </a:lnTo>
                <a:lnTo>
                  <a:pt x="158" y="60"/>
                </a:lnTo>
                <a:lnTo>
                  <a:pt x="152" y="55"/>
                </a:lnTo>
                <a:lnTo>
                  <a:pt x="146" y="50"/>
                </a:lnTo>
                <a:lnTo>
                  <a:pt x="139" y="48"/>
                </a:lnTo>
                <a:lnTo>
                  <a:pt x="132" y="45"/>
                </a:lnTo>
                <a:lnTo>
                  <a:pt x="124" y="44"/>
                </a:lnTo>
                <a:lnTo>
                  <a:pt x="116" y="43"/>
                </a:lnTo>
                <a:lnTo>
                  <a:pt x="109" y="44"/>
                </a:lnTo>
                <a:lnTo>
                  <a:pt x="101" y="45"/>
                </a:lnTo>
                <a:lnTo>
                  <a:pt x="94" y="48"/>
                </a:lnTo>
                <a:lnTo>
                  <a:pt x="88" y="50"/>
                </a:lnTo>
                <a:lnTo>
                  <a:pt x="81" y="55"/>
                </a:lnTo>
                <a:lnTo>
                  <a:pt x="75" y="60"/>
                </a:lnTo>
                <a:lnTo>
                  <a:pt x="70" y="65"/>
                </a:lnTo>
                <a:lnTo>
                  <a:pt x="64" y="73"/>
                </a:lnTo>
                <a:lnTo>
                  <a:pt x="60" y="80"/>
                </a:lnTo>
                <a:lnTo>
                  <a:pt x="55" y="89"/>
                </a:lnTo>
                <a:lnTo>
                  <a:pt x="51" y="99"/>
                </a:lnTo>
                <a:lnTo>
                  <a:pt x="48" y="109"/>
                </a:lnTo>
                <a:lnTo>
                  <a:pt x="46" y="120"/>
                </a:lnTo>
                <a:lnTo>
                  <a:pt x="44" y="133"/>
                </a:lnTo>
                <a:lnTo>
                  <a:pt x="43" y="146"/>
                </a:lnTo>
                <a:lnTo>
                  <a:pt x="43" y="1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38400" y="1447920"/>
            <a:ext cx="160200" cy="344520"/>
          </a:xfrm>
          <a:custGeom>
            <a:avLst/>
            <a:gdLst/>
            <a:ahLst/>
            <a:rect l="l" t="t" r="r" b="b"/>
            <a:pathLst>
              <a:path w="305" h="868">
                <a:moveTo>
                  <a:pt x="286" y="9"/>
                </a:moveTo>
                <a:lnTo>
                  <a:pt x="267" y="0"/>
                </a:lnTo>
                <a:lnTo>
                  <a:pt x="0" y="849"/>
                </a:lnTo>
                <a:lnTo>
                  <a:pt x="38" y="868"/>
                </a:lnTo>
                <a:lnTo>
                  <a:pt x="305" y="18"/>
                </a:lnTo>
                <a:lnTo>
                  <a:pt x="286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03200" y="1387440"/>
            <a:ext cx="117720" cy="149400"/>
          </a:xfrm>
          <a:custGeom>
            <a:avLst/>
            <a:gdLst/>
            <a:ahLst/>
            <a:rect l="l" t="t" r="r" b="b"/>
            <a:pathLst>
              <a:path w="223" h="375">
                <a:moveTo>
                  <a:pt x="213" y="0"/>
                </a:moveTo>
                <a:lnTo>
                  <a:pt x="0" y="268"/>
                </a:lnTo>
                <a:lnTo>
                  <a:pt x="0" y="268"/>
                </a:lnTo>
                <a:lnTo>
                  <a:pt x="4" y="267"/>
                </a:lnTo>
                <a:lnTo>
                  <a:pt x="8" y="267"/>
                </a:lnTo>
                <a:lnTo>
                  <a:pt x="12" y="267"/>
                </a:lnTo>
                <a:lnTo>
                  <a:pt x="16" y="266"/>
                </a:lnTo>
                <a:lnTo>
                  <a:pt x="20" y="266"/>
                </a:lnTo>
                <a:lnTo>
                  <a:pt x="24" y="266"/>
                </a:lnTo>
                <a:lnTo>
                  <a:pt x="28" y="266"/>
                </a:lnTo>
                <a:lnTo>
                  <a:pt x="33" y="266"/>
                </a:lnTo>
                <a:lnTo>
                  <a:pt x="37" y="266"/>
                </a:lnTo>
                <a:lnTo>
                  <a:pt x="41" y="266"/>
                </a:lnTo>
                <a:lnTo>
                  <a:pt x="45" y="267"/>
                </a:lnTo>
                <a:lnTo>
                  <a:pt x="49" y="267"/>
                </a:lnTo>
                <a:lnTo>
                  <a:pt x="52" y="267"/>
                </a:lnTo>
                <a:lnTo>
                  <a:pt x="56" y="267"/>
                </a:lnTo>
                <a:lnTo>
                  <a:pt x="60" y="268"/>
                </a:lnTo>
                <a:lnTo>
                  <a:pt x="64" y="268"/>
                </a:lnTo>
                <a:lnTo>
                  <a:pt x="68" y="270"/>
                </a:lnTo>
                <a:lnTo>
                  <a:pt x="71" y="270"/>
                </a:lnTo>
                <a:lnTo>
                  <a:pt x="75" y="271"/>
                </a:lnTo>
                <a:lnTo>
                  <a:pt x="79" y="272"/>
                </a:lnTo>
                <a:lnTo>
                  <a:pt x="82" y="272"/>
                </a:lnTo>
                <a:lnTo>
                  <a:pt x="86" y="273"/>
                </a:lnTo>
                <a:lnTo>
                  <a:pt x="90" y="275"/>
                </a:lnTo>
                <a:lnTo>
                  <a:pt x="93" y="276"/>
                </a:lnTo>
                <a:lnTo>
                  <a:pt x="97" y="277"/>
                </a:lnTo>
                <a:lnTo>
                  <a:pt x="101" y="278"/>
                </a:lnTo>
                <a:lnTo>
                  <a:pt x="105" y="280"/>
                </a:lnTo>
                <a:lnTo>
                  <a:pt x="109" y="281"/>
                </a:lnTo>
                <a:lnTo>
                  <a:pt x="112" y="282"/>
                </a:lnTo>
                <a:lnTo>
                  <a:pt x="116" y="283"/>
                </a:lnTo>
                <a:lnTo>
                  <a:pt x="119" y="285"/>
                </a:lnTo>
                <a:lnTo>
                  <a:pt x="123" y="287"/>
                </a:lnTo>
                <a:lnTo>
                  <a:pt x="126" y="288"/>
                </a:lnTo>
                <a:lnTo>
                  <a:pt x="130" y="290"/>
                </a:lnTo>
                <a:lnTo>
                  <a:pt x="133" y="292"/>
                </a:lnTo>
                <a:lnTo>
                  <a:pt x="136" y="293"/>
                </a:lnTo>
                <a:lnTo>
                  <a:pt x="140" y="296"/>
                </a:lnTo>
                <a:lnTo>
                  <a:pt x="143" y="298"/>
                </a:lnTo>
                <a:lnTo>
                  <a:pt x="146" y="300"/>
                </a:lnTo>
                <a:lnTo>
                  <a:pt x="150" y="302"/>
                </a:lnTo>
                <a:lnTo>
                  <a:pt x="153" y="305"/>
                </a:lnTo>
                <a:lnTo>
                  <a:pt x="156" y="307"/>
                </a:lnTo>
                <a:lnTo>
                  <a:pt x="159" y="310"/>
                </a:lnTo>
                <a:lnTo>
                  <a:pt x="163" y="312"/>
                </a:lnTo>
                <a:lnTo>
                  <a:pt x="166" y="315"/>
                </a:lnTo>
                <a:lnTo>
                  <a:pt x="169" y="317"/>
                </a:lnTo>
                <a:lnTo>
                  <a:pt x="172" y="320"/>
                </a:lnTo>
                <a:lnTo>
                  <a:pt x="176" y="322"/>
                </a:lnTo>
                <a:lnTo>
                  <a:pt x="179" y="325"/>
                </a:lnTo>
                <a:lnTo>
                  <a:pt x="182" y="327"/>
                </a:lnTo>
                <a:lnTo>
                  <a:pt x="185" y="331"/>
                </a:lnTo>
                <a:lnTo>
                  <a:pt x="188" y="333"/>
                </a:lnTo>
                <a:lnTo>
                  <a:pt x="191" y="337"/>
                </a:lnTo>
                <a:lnTo>
                  <a:pt x="194" y="340"/>
                </a:lnTo>
                <a:lnTo>
                  <a:pt x="197" y="343"/>
                </a:lnTo>
                <a:lnTo>
                  <a:pt x="200" y="346"/>
                </a:lnTo>
                <a:lnTo>
                  <a:pt x="203" y="350"/>
                </a:lnTo>
                <a:lnTo>
                  <a:pt x="206" y="353"/>
                </a:lnTo>
                <a:lnTo>
                  <a:pt x="209" y="356"/>
                </a:lnTo>
                <a:lnTo>
                  <a:pt x="212" y="360"/>
                </a:lnTo>
                <a:lnTo>
                  <a:pt x="215" y="363"/>
                </a:lnTo>
                <a:lnTo>
                  <a:pt x="218" y="367"/>
                </a:lnTo>
                <a:lnTo>
                  <a:pt x="221" y="371"/>
                </a:lnTo>
                <a:lnTo>
                  <a:pt x="223" y="375"/>
                </a:lnTo>
                <a:lnTo>
                  <a:pt x="213" y="0"/>
                </a:lnTo>
                <a:lnTo>
                  <a:pt x="2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7120" y="984240"/>
            <a:ext cx="157320" cy="236520"/>
          </a:xfrm>
          <a:custGeom>
            <a:avLst/>
            <a:gdLst/>
            <a:ahLst/>
            <a:rect l="l" t="t" r="r" b="b"/>
            <a:pathLst>
              <a:path w="295" h="594">
                <a:moveTo>
                  <a:pt x="279" y="0"/>
                </a:moveTo>
                <a:lnTo>
                  <a:pt x="276" y="3"/>
                </a:lnTo>
                <a:lnTo>
                  <a:pt x="255" y="17"/>
                </a:lnTo>
                <a:lnTo>
                  <a:pt x="234" y="34"/>
                </a:lnTo>
                <a:lnTo>
                  <a:pt x="212" y="53"/>
                </a:lnTo>
                <a:lnTo>
                  <a:pt x="191" y="75"/>
                </a:lnTo>
                <a:lnTo>
                  <a:pt x="169" y="99"/>
                </a:lnTo>
                <a:lnTo>
                  <a:pt x="148" y="126"/>
                </a:lnTo>
                <a:lnTo>
                  <a:pt x="137" y="141"/>
                </a:lnTo>
                <a:lnTo>
                  <a:pt x="127" y="156"/>
                </a:lnTo>
                <a:lnTo>
                  <a:pt x="117" y="174"/>
                </a:lnTo>
                <a:lnTo>
                  <a:pt x="106" y="190"/>
                </a:lnTo>
                <a:lnTo>
                  <a:pt x="97" y="209"/>
                </a:lnTo>
                <a:lnTo>
                  <a:pt x="87" y="228"/>
                </a:lnTo>
                <a:lnTo>
                  <a:pt x="78" y="248"/>
                </a:lnTo>
                <a:lnTo>
                  <a:pt x="70" y="268"/>
                </a:lnTo>
                <a:lnTo>
                  <a:pt x="61" y="289"/>
                </a:lnTo>
                <a:lnTo>
                  <a:pt x="54" y="311"/>
                </a:lnTo>
                <a:lnTo>
                  <a:pt x="46" y="335"/>
                </a:lnTo>
                <a:lnTo>
                  <a:pt x="38" y="359"/>
                </a:lnTo>
                <a:lnTo>
                  <a:pt x="31" y="385"/>
                </a:lnTo>
                <a:lnTo>
                  <a:pt x="25" y="411"/>
                </a:lnTo>
                <a:lnTo>
                  <a:pt x="20" y="438"/>
                </a:lnTo>
                <a:lnTo>
                  <a:pt x="15" y="466"/>
                </a:lnTo>
                <a:lnTo>
                  <a:pt x="10" y="496"/>
                </a:lnTo>
                <a:lnTo>
                  <a:pt x="6" y="526"/>
                </a:lnTo>
                <a:lnTo>
                  <a:pt x="3" y="558"/>
                </a:lnTo>
                <a:lnTo>
                  <a:pt x="0" y="591"/>
                </a:lnTo>
                <a:lnTo>
                  <a:pt x="40" y="594"/>
                </a:lnTo>
                <a:lnTo>
                  <a:pt x="43" y="563"/>
                </a:lnTo>
                <a:lnTo>
                  <a:pt x="46" y="533"/>
                </a:lnTo>
                <a:lnTo>
                  <a:pt x="50" y="505"/>
                </a:lnTo>
                <a:lnTo>
                  <a:pt x="54" y="476"/>
                </a:lnTo>
                <a:lnTo>
                  <a:pt x="59" y="450"/>
                </a:lnTo>
                <a:lnTo>
                  <a:pt x="64" y="423"/>
                </a:lnTo>
                <a:lnTo>
                  <a:pt x="70" y="399"/>
                </a:lnTo>
                <a:lnTo>
                  <a:pt x="76" y="375"/>
                </a:lnTo>
                <a:lnTo>
                  <a:pt x="83" y="352"/>
                </a:lnTo>
                <a:lnTo>
                  <a:pt x="90" y="330"/>
                </a:lnTo>
                <a:lnTo>
                  <a:pt x="97" y="310"/>
                </a:lnTo>
                <a:lnTo>
                  <a:pt x="105" y="290"/>
                </a:lnTo>
                <a:lnTo>
                  <a:pt x="114" y="270"/>
                </a:lnTo>
                <a:lnTo>
                  <a:pt x="122" y="253"/>
                </a:lnTo>
                <a:lnTo>
                  <a:pt x="131" y="235"/>
                </a:lnTo>
                <a:lnTo>
                  <a:pt x="140" y="219"/>
                </a:lnTo>
                <a:lnTo>
                  <a:pt x="149" y="203"/>
                </a:lnTo>
                <a:lnTo>
                  <a:pt x="158" y="188"/>
                </a:lnTo>
                <a:lnTo>
                  <a:pt x="167" y="173"/>
                </a:lnTo>
                <a:lnTo>
                  <a:pt x="177" y="160"/>
                </a:lnTo>
                <a:lnTo>
                  <a:pt x="197" y="135"/>
                </a:lnTo>
                <a:lnTo>
                  <a:pt x="217" y="113"/>
                </a:lnTo>
                <a:lnTo>
                  <a:pt x="236" y="93"/>
                </a:lnTo>
                <a:lnTo>
                  <a:pt x="256" y="74"/>
                </a:lnTo>
                <a:lnTo>
                  <a:pt x="276" y="59"/>
                </a:lnTo>
                <a:lnTo>
                  <a:pt x="295" y="45"/>
                </a:lnTo>
                <a:lnTo>
                  <a:pt x="292" y="48"/>
                </a:lnTo>
                <a:lnTo>
                  <a:pt x="279" y="0"/>
                </a:lnTo>
                <a:lnTo>
                  <a:pt x="278" y="2"/>
                </a:lnTo>
                <a:lnTo>
                  <a:pt x="276" y="3"/>
                </a:lnTo>
                <a:lnTo>
                  <a:pt x="27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74720" y="966960"/>
            <a:ext cx="304920" cy="42840"/>
          </a:xfrm>
          <a:custGeom>
            <a:avLst/>
            <a:gdLst/>
            <a:ahLst/>
            <a:rect l="l" t="t" r="r" b="b"/>
            <a:pathLst>
              <a:path w="574" h="110">
                <a:moveTo>
                  <a:pt x="574" y="61"/>
                </a:moveTo>
                <a:lnTo>
                  <a:pt x="537" y="50"/>
                </a:lnTo>
                <a:lnTo>
                  <a:pt x="501" y="40"/>
                </a:lnTo>
                <a:lnTo>
                  <a:pt x="465" y="30"/>
                </a:lnTo>
                <a:lnTo>
                  <a:pt x="429" y="23"/>
                </a:lnTo>
                <a:lnTo>
                  <a:pt x="393" y="15"/>
                </a:lnTo>
                <a:lnTo>
                  <a:pt x="358" y="9"/>
                </a:lnTo>
                <a:lnTo>
                  <a:pt x="321" y="5"/>
                </a:lnTo>
                <a:lnTo>
                  <a:pt x="286" y="1"/>
                </a:lnTo>
                <a:lnTo>
                  <a:pt x="250" y="0"/>
                </a:lnTo>
                <a:lnTo>
                  <a:pt x="215" y="1"/>
                </a:lnTo>
                <a:lnTo>
                  <a:pt x="179" y="4"/>
                </a:lnTo>
                <a:lnTo>
                  <a:pt x="144" y="8"/>
                </a:lnTo>
                <a:lnTo>
                  <a:pt x="108" y="14"/>
                </a:lnTo>
                <a:lnTo>
                  <a:pt x="72" y="23"/>
                </a:lnTo>
                <a:lnTo>
                  <a:pt x="36" y="34"/>
                </a:lnTo>
                <a:lnTo>
                  <a:pt x="0" y="47"/>
                </a:lnTo>
                <a:lnTo>
                  <a:pt x="13" y="95"/>
                </a:lnTo>
                <a:lnTo>
                  <a:pt x="46" y="81"/>
                </a:lnTo>
                <a:lnTo>
                  <a:pt x="81" y="71"/>
                </a:lnTo>
                <a:lnTo>
                  <a:pt x="114" y="62"/>
                </a:lnTo>
                <a:lnTo>
                  <a:pt x="149" y="56"/>
                </a:lnTo>
                <a:lnTo>
                  <a:pt x="182" y="52"/>
                </a:lnTo>
                <a:lnTo>
                  <a:pt x="216" y="50"/>
                </a:lnTo>
                <a:lnTo>
                  <a:pt x="250" y="50"/>
                </a:lnTo>
                <a:lnTo>
                  <a:pt x="284" y="51"/>
                </a:lnTo>
                <a:lnTo>
                  <a:pt x="318" y="54"/>
                </a:lnTo>
                <a:lnTo>
                  <a:pt x="353" y="57"/>
                </a:lnTo>
                <a:lnTo>
                  <a:pt x="387" y="64"/>
                </a:lnTo>
                <a:lnTo>
                  <a:pt x="422" y="71"/>
                </a:lnTo>
                <a:lnTo>
                  <a:pt x="457" y="79"/>
                </a:lnTo>
                <a:lnTo>
                  <a:pt x="493" y="87"/>
                </a:lnTo>
                <a:lnTo>
                  <a:pt x="528" y="99"/>
                </a:lnTo>
                <a:lnTo>
                  <a:pt x="564" y="110"/>
                </a:lnTo>
                <a:lnTo>
                  <a:pt x="574" y="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9280" y="927000"/>
            <a:ext cx="158760" cy="112680"/>
          </a:xfrm>
          <a:custGeom>
            <a:avLst/>
            <a:gdLst/>
            <a:ahLst/>
            <a:rect l="l" t="t" r="r" b="b"/>
            <a:pathLst>
              <a:path w="301" h="286">
                <a:moveTo>
                  <a:pt x="301" y="229"/>
                </a:moveTo>
                <a:lnTo>
                  <a:pt x="60" y="0"/>
                </a:lnTo>
                <a:lnTo>
                  <a:pt x="60" y="0"/>
                </a:lnTo>
                <a:lnTo>
                  <a:pt x="61" y="5"/>
                </a:lnTo>
                <a:lnTo>
                  <a:pt x="62" y="10"/>
                </a:lnTo>
                <a:lnTo>
                  <a:pt x="62" y="15"/>
                </a:lnTo>
                <a:lnTo>
                  <a:pt x="63" y="20"/>
                </a:lnTo>
                <a:lnTo>
                  <a:pt x="64" y="25"/>
                </a:lnTo>
                <a:lnTo>
                  <a:pt x="64" y="30"/>
                </a:lnTo>
                <a:lnTo>
                  <a:pt x="65" y="35"/>
                </a:lnTo>
                <a:lnTo>
                  <a:pt x="65" y="39"/>
                </a:lnTo>
                <a:lnTo>
                  <a:pt x="65" y="44"/>
                </a:lnTo>
                <a:lnTo>
                  <a:pt x="66" y="49"/>
                </a:lnTo>
                <a:lnTo>
                  <a:pt x="66" y="54"/>
                </a:lnTo>
                <a:lnTo>
                  <a:pt x="66" y="59"/>
                </a:lnTo>
                <a:lnTo>
                  <a:pt x="66" y="64"/>
                </a:lnTo>
                <a:lnTo>
                  <a:pt x="67" y="69"/>
                </a:lnTo>
                <a:lnTo>
                  <a:pt x="67" y="74"/>
                </a:lnTo>
                <a:lnTo>
                  <a:pt x="67" y="78"/>
                </a:lnTo>
                <a:lnTo>
                  <a:pt x="67" y="83"/>
                </a:lnTo>
                <a:lnTo>
                  <a:pt x="66" y="88"/>
                </a:lnTo>
                <a:lnTo>
                  <a:pt x="66" y="93"/>
                </a:lnTo>
                <a:lnTo>
                  <a:pt x="66" y="98"/>
                </a:lnTo>
                <a:lnTo>
                  <a:pt x="66" y="101"/>
                </a:lnTo>
                <a:lnTo>
                  <a:pt x="65" y="106"/>
                </a:lnTo>
                <a:lnTo>
                  <a:pt x="65" y="111"/>
                </a:lnTo>
                <a:lnTo>
                  <a:pt x="65" y="115"/>
                </a:lnTo>
                <a:lnTo>
                  <a:pt x="64" y="120"/>
                </a:lnTo>
                <a:lnTo>
                  <a:pt x="64" y="125"/>
                </a:lnTo>
                <a:lnTo>
                  <a:pt x="63" y="129"/>
                </a:lnTo>
                <a:lnTo>
                  <a:pt x="62" y="134"/>
                </a:lnTo>
                <a:lnTo>
                  <a:pt x="61" y="139"/>
                </a:lnTo>
                <a:lnTo>
                  <a:pt x="61" y="142"/>
                </a:lnTo>
                <a:lnTo>
                  <a:pt x="60" y="147"/>
                </a:lnTo>
                <a:lnTo>
                  <a:pt x="59" y="151"/>
                </a:lnTo>
                <a:lnTo>
                  <a:pt x="58" y="156"/>
                </a:lnTo>
                <a:lnTo>
                  <a:pt x="57" y="161"/>
                </a:lnTo>
                <a:lnTo>
                  <a:pt x="56" y="165"/>
                </a:lnTo>
                <a:lnTo>
                  <a:pt x="55" y="170"/>
                </a:lnTo>
                <a:lnTo>
                  <a:pt x="54" y="174"/>
                </a:lnTo>
                <a:lnTo>
                  <a:pt x="52" y="179"/>
                </a:lnTo>
                <a:lnTo>
                  <a:pt x="51" y="182"/>
                </a:lnTo>
                <a:lnTo>
                  <a:pt x="50" y="187"/>
                </a:lnTo>
                <a:lnTo>
                  <a:pt x="48" y="191"/>
                </a:lnTo>
                <a:lnTo>
                  <a:pt x="47" y="196"/>
                </a:lnTo>
                <a:lnTo>
                  <a:pt x="45" y="200"/>
                </a:lnTo>
                <a:lnTo>
                  <a:pt x="44" y="204"/>
                </a:lnTo>
                <a:lnTo>
                  <a:pt x="42" y="209"/>
                </a:lnTo>
                <a:lnTo>
                  <a:pt x="41" y="212"/>
                </a:lnTo>
                <a:lnTo>
                  <a:pt x="39" y="217"/>
                </a:lnTo>
                <a:lnTo>
                  <a:pt x="37" y="221"/>
                </a:lnTo>
                <a:lnTo>
                  <a:pt x="35" y="225"/>
                </a:lnTo>
                <a:lnTo>
                  <a:pt x="33" y="230"/>
                </a:lnTo>
                <a:lnTo>
                  <a:pt x="31" y="234"/>
                </a:lnTo>
                <a:lnTo>
                  <a:pt x="29" y="237"/>
                </a:lnTo>
                <a:lnTo>
                  <a:pt x="27" y="241"/>
                </a:lnTo>
                <a:lnTo>
                  <a:pt x="25" y="246"/>
                </a:lnTo>
                <a:lnTo>
                  <a:pt x="23" y="250"/>
                </a:lnTo>
                <a:lnTo>
                  <a:pt x="21" y="254"/>
                </a:lnTo>
                <a:lnTo>
                  <a:pt x="18" y="257"/>
                </a:lnTo>
                <a:lnTo>
                  <a:pt x="16" y="262"/>
                </a:lnTo>
                <a:lnTo>
                  <a:pt x="14" y="266"/>
                </a:lnTo>
                <a:lnTo>
                  <a:pt x="11" y="270"/>
                </a:lnTo>
                <a:lnTo>
                  <a:pt x="8" y="273"/>
                </a:lnTo>
                <a:lnTo>
                  <a:pt x="5" y="277"/>
                </a:lnTo>
                <a:lnTo>
                  <a:pt x="2" y="281"/>
                </a:lnTo>
                <a:lnTo>
                  <a:pt x="0" y="286"/>
                </a:lnTo>
                <a:lnTo>
                  <a:pt x="301" y="229"/>
                </a:lnTo>
                <a:lnTo>
                  <a:pt x="301" y="2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65640" y="3486240"/>
            <a:ext cx="746280" cy="244440"/>
          </a:xfrm>
          <a:custGeom>
            <a:avLst/>
            <a:gdLst/>
            <a:ahLst/>
            <a:rect l="l" t="t" r="r" b="b"/>
            <a:pathLst>
              <a:path w="1410" h="617">
                <a:moveTo>
                  <a:pt x="1410" y="8"/>
                </a:moveTo>
                <a:lnTo>
                  <a:pt x="1408" y="8"/>
                </a:lnTo>
                <a:lnTo>
                  <a:pt x="1396" y="4"/>
                </a:lnTo>
                <a:lnTo>
                  <a:pt x="1384" y="1"/>
                </a:lnTo>
                <a:lnTo>
                  <a:pt x="1371" y="0"/>
                </a:lnTo>
                <a:lnTo>
                  <a:pt x="1358" y="0"/>
                </a:lnTo>
                <a:lnTo>
                  <a:pt x="1328" y="0"/>
                </a:lnTo>
                <a:lnTo>
                  <a:pt x="1296" y="4"/>
                </a:lnTo>
                <a:lnTo>
                  <a:pt x="1260" y="9"/>
                </a:lnTo>
                <a:lnTo>
                  <a:pt x="1223" y="16"/>
                </a:lnTo>
                <a:lnTo>
                  <a:pt x="1183" y="25"/>
                </a:lnTo>
                <a:lnTo>
                  <a:pt x="1142" y="36"/>
                </a:lnTo>
                <a:lnTo>
                  <a:pt x="1097" y="50"/>
                </a:lnTo>
                <a:lnTo>
                  <a:pt x="1051" y="64"/>
                </a:lnTo>
                <a:lnTo>
                  <a:pt x="1004" y="80"/>
                </a:lnTo>
                <a:lnTo>
                  <a:pt x="955" y="97"/>
                </a:lnTo>
                <a:lnTo>
                  <a:pt x="905" y="116"/>
                </a:lnTo>
                <a:lnTo>
                  <a:pt x="854" y="136"/>
                </a:lnTo>
                <a:lnTo>
                  <a:pt x="802" y="157"/>
                </a:lnTo>
                <a:lnTo>
                  <a:pt x="749" y="180"/>
                </a:lnTo>
                <a:lnTo>
                  <a:pt x="644" y="226"/>
                </a:lnTo>
                <a:lnTo>
                  <a:pt x="538" y="276"/>
                </a:lnTo>
                <a:lnTo>
                  <a:pt x="435" y="327"/>
                </a:lnTo>
                <a:lnTo>
                  <a:pt x="334" y="378"/>
                </a:lnTo>
                <a:lnTo>
                  <a:pt x="239" y="429"/>
                </a:lnTo>
                <a:lnTo>
                  <a:pt x="151" y="479"/>
                </a:lnTo>
                <a:lnTo>
                  <a:pt x="109" y="504"/>
                </a:lnTo>
                <a:lnTo>
                  <a:pt x="71" y="528"/>
                </a:lnTo>
                <a:lnTo>
                  <a:pt x="34" y="552"/>
                </a:lnTo>
                <a:lnTo>
                  <a:pt x="0" y="574"/>
                </a:lnTo>
                <a:lnTo>
                  <a:pt x="19" y="617"/>
                </a:lnTo>
                <a:lnTo>
                  <a:pt x="53" y="595"/>
                </a:lnTo>
                <a:lnTo>
                  <a:pt x="88" y="572"/>
                </a:lnTo>
                <a:lnTo>
                  <a:pt x="127" y="548"/>
                </a:lnTo>
                <a:lnTo>
                  <a:pt x="167" y="524"/>
                </a:lnTo>
                <a:lnTo>
                  <a:pt x="255" y="474"/>
                </a:lnTo>
                <a:lnTo>
                  <a:pt x="350" y="423"/>
                </a:lnTo>
                <a:lnTo>
                  <a:pt x="450" y="372"/>
                </a:lnTo>
                <a:lnTo>
                  <a:pt x="552" y="322"/>
                </a:lnTo>
                <a:lnTo>
                  <a:pt x="658" y="273"/>
                </a:lnTo>
                <a:lnTo>
                  <a:pt x="763" y="226"/>
                </a:lnTo>
                <a:lnTo>
                  <a:pt x="815" y="205"/>
                </a:lnTo>
                <a:lnTo>
                  <a:pt x="867" y="184"/>
                </a:lnTo>
                <a:lnTo>
                  <a:pt x="916" y="164"/>
                </a:lnTo>
                <a:lnTo>
                  <a:pt x="966" y="145"/>
                </a:lnTo>
                <a:lnTo>
                  <a:pt x="1015" y="127"/>
                </a:lnTo>
                <a:lnTo>
                  <a:pt x="1062" y="111"/>
                </a:lnTo>
                <a:lnTo>
                  <a:pt x="1107" y="97"/>
                </a:lnTo>
                <a:lnTo>
                  <a:pt x="1150" y="85"/>
                </a:lnTo>
                <a:lnTo>
                  <a:pt x="1191" y="74"/>
                </a:lnTo>
                <a:lnTo>
                  <a:pt x="1230" y="65"/>
                </a:lnTo>
                <a:lnTo>
                  <a:pt x="1266" y="57"/>
                </a:lnTo>
                <a:lnTo>
                  <a:pt x="1300" y="52"/>
                </a:lnTo>
                <a:lnTo>
                  <a:pt x="1330" y="50"/>
                </a:lnTo>
                <a:lnTo>
                  <a:pt x="1358" y="49"/>
                </a:lnTo>
                <a:lnTo>
                  <a:pt x="1369" y="50"/>
                </a:lnTo>
                <a:lnTo>
                  <a:pt x="1380" y="51"/>
                </a:lnTo>
                <a:lnTo>
                  <a:pt x="1390" y="52"/>
                </a:lnTo>
                <a:lnTo>
                  <a:pt x="1399" y="55"/>
                </a:lnTo>
                <a:lnTo>
                  <a:pt x="1396" y="54"/>
                </a:lnTo>
                <a:lnTo>
                  <a:pt x="1410" y="8"/>
                </a:lnTo>
                <a:lnTo>
                  <a:pt x="1409" y="8"/>
                </a:lnTo>
                <a:lnTo>
                  <a:pt x="1408" y="8"/>
                </a:lnTo>
                <a:lnTo>
                  <a:pt x="141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04000" y="3489480"/>
            <a:ext cx="152280" cy="164880"/>
          </a:xfrm>
          <a:custGeom>
            <a:avLst/>
            <a:gdLst/>
            <a:ahLst/>
            <a:rect l="l" t="t" r="r" b="b"/>
            <a:pathLst>
              <a:path w="287" h="416">
                <a:moveTo>
                  <a:pt x="287" y="399"/>
                </a:moveTo>
                <a:lnTo>
                  <a:pt x="278" y="369"/>
                </a:lnTo>
                <a:lnTo>
                  <a:pt x="268" y="338"/>
                </a:lnTo>
                <a:lnTo>
                  <a:pt x="258" y="308"/>
                </a:lnTo>
                <a:lnTo>
                  <a:pt x="246" y="278"/>
                </a:lnTo>
                <a:lnTo>
                  <a:pt x="233" y="248"/>
                </a:lnTo>
                <a:lnTo>
                  <a:pt x="219" y="219"/>
                </a:lnTo>
                <a:lnTo>
                  <a:pt x="205" y="190"/>
                </a:lnTo>
                <a:lnTo>
                  <a:pt x="189" y="164"/>
                </a:lnTo>
                <a:lnTo>
                  <a:pt x="171" y="138"/>
                </a:lnTo>
                <a:lnTo>
                  <a:pt x="153" y="113"/>
                </a:lnTo>
                <a:lnTo>
                  <a:pt x="134" y="89"/>
                </a:lnTo>
                <a:lnTo>
                  <a:pt x="113" y="68"/>
                </a:lnTo>
                <a:lnTo>
                  <a:pt x="90" y="48"/>
                </a:lnTo>
                <a:lnTo>
                  <a:pt x="67" y="30"/>
                </a:lnTo>
                <a:lnTo>
                  <a:pt x="54" y="21"/>
                </a:lnTo>
                <a:lnTo>
                  <a:pt x="42" y="13"/>
                </a:lnTo>
                <a:lnTo>
                  <a:pt x="27" y="6"/>
                </a:lnTo>
                <a:lnTo>
                  <a:pt x="14" y="0"/>
                </a:lnTo>
                <a:lnTo>
                  <a:pt x="0" y="46"/>
                </a:lnTo>
                <a:lnTo>
                  <a:pt x="12" y="52"/>
                </a:lnTo>
                <a:lnTo>
                  <a:pt x="24" y="58"/>
                </a:lnTo>
                <a:lnTo>
                  <a:pt x="36" y="64"/>
                </a:lnTo>
                <a:lnTo>
                  <a:pt x="47" y="72"/>
                </a:lnTo>
                <a:lnTo>
                  <a:pt x="68" y="88"/>
                </a:lnTo>
                <a:lnTo>
                  <a:pt x="88" y="107"/>
                </a:lnTo>
                <a:lnTo>
                  <a:pt x="107" y="126"/>
                </a:lnTo>
                <a:lnTo>
                  <a:pt x="125" y="147"/>
                </a:lnTo>
                <a:lnTo>
                  <a:pt x="141" y="169"/>
                </a:lnTo>
                <a:lnTo>
                  <a:pt x="157" y="193"/>
                </a:lnTo>
                <a:lnTo>
                  <a:pt x="171" y="219"/>
                </a:lnTo>
                <a:lnTo>
                  <a:pt x="185" y="245"/>
                </a:lnTo>
                <a:lnTo>
                  <a:pt x="198" y="272"/>
                </a:lnTo>
                <a:lnTo>
                  <a:pt x="210" y="299"/>
                </a:lnTo>
                <a:lnTo>
                  <a:pt x="221" y="328"/>
                </a:lnTo>
                <a:lnTo>
                  <a:pt x="231" y="358"/>
                </a:lnTo>
                <a:lnTo>
                  <a:pt x="240" y="386"/>
                </a:lnTo>
                <a:lnTo>
                  <a:pt x="250" y="416"/>
                </a:lnTo>
                <a:lnTo>
                  <a:pt x="287" y="39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61240" y="3567240"/>
            <a:ext cx="118800" cy="149040"/>
          </a:xfrm>
          <a:custGeom>
            <a:avLst/>
            <a:gdLst/>
            <a:ahLst/>
            <a:rect l="l" t="t" r="r" b="b"/>
            <a:pathLst>
              <a:path w="225" h="374">
                <a:moveTo>
                  <a:pt x="207" y="374"/>
                </a:moveTo>
                <a:lnTo>
                  <a:pt x="225" y="0"/>
                </a:lnTo>
                <a:lnTo>
                  <a:pt x="225" y="0"/>
                </a:lnTo>
                <a:lnTo>
                  <a:pt x="222" y="3"/>
                </a:lnTo>
                <a:lnTo>
                  <a:pt x="220" y="7"/>
                </a:lnTo>
                <a:lnTo>
                  <a:pt x="217" y="10"/>
                </a:lnTo>
                <a:lnTo>
                  <a:pt x="214" y="13"/>
                </a:lnTo>
                <a:lnTo>
                  <a:pt x="211" y="17"/>
                </a:lnTo>
                <a:lnTo>
                  <a:pt x="207" y="21"/>
                </a:lnTo>
                <a:lnTo>
                  <a:pt x="204" y="23"/>
                </a:lnTo>
                <a:lnTo>
                  <a:pt x="201" y="27"/>
                </a:lnTo>
                <a:lnTo>
                  <a:pt x="198" y="30"/>
                </a:lnTo>
                <a:lnTo>
                  <a:pt x="195" y="33"/>
                </a:lnTo>
                <a:lnTo>
                  <a:pt x="192" y="36"/>
                </a:lnTo>
                <a:lnTo>
                  <a:pt x="189" y="40"/>
                </a:lnTo>
                <a:lnTo>
                  <a:pt x="186" y="42"/>
                </a:lnTo>
                <a:lnTo>
                  <a:pt x="183" y="45"/>
                </a:lnTo>
                <a:lnTo>
                  <a:pt x="179" y="48"/>
                </a:lnTo>
                <a:lnTo>
                  <a:pt x="176" y="51"/>
                </a:lnTo>
                <a:lnTo>
                  <a:pt x="173" y="53"/>
                </a:lnTo>
                <a:lnTo>
                  <a:pt x="170" y="56"/>
                </a:lnTo>
                <a:lnTo>
                  <a:pt x="167" y="58"/>
                </a:lnTo>
                <a:lnTo>
                  <a:pt x="163" y="61"/>
                </a:lnTo>
                <a:lnTo>
                  <a:pt x="160" y="63"/>
                </a:lnTo>
                <a:lnTo>
                  <a:pt x="157" y="66"/>
                </a:lnTo>
                <a:lnTo>
                  <a:pt x="154" y="67"/>
                </a:lnTo>
                <a:lnTo>
                  <a:pt x="150" y="70"/>
                </a:lnTo>
                <a:lnTo>
                  <a:pt x="147" y="72"/>
                </a:lnTo>
                <a:lnTo>
                  <a:pt x="144" y="73"/>
                </a:lnTo>
                <a:lnTo>
                  <a:pt x="140" y="76"/>
                </a:lnTo>
                <a:lnTo>
                  <a:pt x="137" y="77"/>
                </a:lnTo>
                <a:lnTo>
                  <a:pt x="133" y="80"/>
                </a:lnTo>
                <a:lnTo>
                  <a:pt x="129" y="81"/>
                </a:lnTo>
                <a:lnTo>
                  <a:pt x="126" y="83"/>
                </a:lnTo>
                <a:lnTo>
                  <a:pt x="122" y="85"/>
                </a:lnTo>
                <a:lnTo>
                  <a:pt x="119" y="86"/>
                </a:lnTo>
                <a:lnTo>
                  <a:pt x="115" y="87"/>
                </a:lnTo>
                <a:lnTo>
                  <a:pt x="112" y="88"/>
                </a:lnTo>
                <a:lnTo>
                  <a:pt x="108" y="90"/>
                </a:lnTo>
                <a:lnTo>
                  <a:pt x="105" y="91"/>
                </a:lnTo>
                <a:lnTo>
                  <a:pt x="101" y="92"/>
                </a:lnTo>
                <a:lnTo>
                  <a:pt x="97" y="93"/>
                </a:lnTo>
                <a:lnTo>
                  <a:pt x="94" y="95"/>
                </a:lnTo>
                <a:lnTo>
                  <a:pt x="90" y="96"/>
                </a:lnTo>
                <a:lnTo>
                  <a:pt x="86" y="97"/>
                </a:lnTo>
                <a:lnTo>
                  <a:pt x="83" y="97"/>
                </a:lnTo>
                <a:lnTo>
                  <a:pt x="79" y="98"/>
                </a:lnTo>
                <a:lnTo>
                  <a:pt x="75" y="100"/>
                </a:lnTo>
                <a:lnTo>
                  <a:pt x="72" y="100"/>
                </a:lnTo>
                <a:lnTo>
                  <a:pt x="68" y="101"/>
                </a:lnTo>
                <a:lnTo>
                  <a:pt x="64" y="101"/>
                </a:lnTo>
                <a:lnTo>
                  <a:pt x="59" y="101"/>
                </a:lnTo>
                <a:lnTo>
                  <a:pt x="55" y="102"/>
                </a:lnTo>
                <a:lnTo>
                  <a:pt x="52" y="102"/>
                </a:lnTo>
                <a:lnTo>
                  <a:pt x="48" y="102"/>
                </a:lnTo>
                <a:lnTo>
                  <a:pt x="44" y="102"/>
                </a:lnTo>
                <a:lnTo>
                  <a:pt x="40" y="102"/>
                </a:lnTo>
                <a:lnTo>
                  <a:pt x="36" y="102"/>
                </a:lnTo>
                <a:lnTo>
                  <a:pt x="32" y="102"/>
                </a:lnTo>
                <a:lnTo>
                  <a:pt x="28" y="102"/>
                </a:lnTo>
                <a:lnTo>
                  <a:pt x="24" y="102"/>
                </a:lnTo>
                <a:lnTo>
                  <a:pt x="20" y="102"/>
                </a:lnTo>
                <a:lnTo>
                  <a:pt x="16" y="102"/>
                </a:lnTo>
                <a:lnTo>
                  <a:pt x="12" y="102"/>
                </a:lnTo>
                <a:lnTo>
                  <a:pt x="8" y="101"/>
                </a:lnTo>
                <a:lnTo>
                  <a:pt x="4" y="101"/>
                </a:lnTo>
                <a:lnTo>
                  <a:pt x="0" y="100"/>
                </a:lnTo>
                <a:lnTo>
                  <a:pt x="207" y="374"/>
                </a:lnTo>
                <a:lnTo>
                  <a:pt x="207" y="37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75160" y="1414440"/>
            <a:ext cx="277560" cy="112680"/>
          </a:xfrm>
          <a:custGeom>
            <a:avLst/>
            <a:gdLst/>
            <a:ahLst/>
            <a:rect l="l" t="t" r="r" b="b"/>
            <a:pathLst>
              <a:path w="525" h="282">
                <a:moveTo>
                  <a:pt x="525" y="249"/>
                </a:moveTo>
                <a:lnTo>
                  <a:pt x="518" y="241"/>
                </a:lnTo>
                <a:lnTo>
                  <a:pt x="498" y="226"/>
                </a:lnTo>
                <a:lnTo>
                  <a:pt x="478" y="211"/>
                </a:lnTo>
                <a:lnTo>
                  <a:pt x="457" y="196"/>
                </a:lnTo>
                <a:lnTo>
                  <a:pt x="434" y="182"/>
                </a:lnTo>
                <a:lnTo>
                  <a:pt x="411" y="168"/>
                </a:lnTo>
                <a:lnTo>
                  <a:pt x="386" y="155"/>
                </a:lnTo>
                <a:lnTo>
                  <a:pt x="359" y="141"/>
                </a:lnTo>
                <a:lnTo>
                  <a:pt x="331" y="126"/>
                </a:lnTo>
                <a:lnTo>
                  <a:pt x="301" y="112"/>
                </a:lnTo>
                <a:lnTo>
                  <a:pt x="268" y="98"/>
                </a:lnTo>
                <a:lnTo>
                  <a:pt x="233" y="83"/>
                </a:lnTo>
                <a:lnTo>
                  <a:pt x="194" y="67"/>
                </a:lnTo>
                <a:lnTo>
                  <a:pt x="110" y="36"/>
                </a:lnTo>
                <a:lnTo>
                  <a:pt x="11" y="0"/>
                </a:lnTo>
                <a:lnTo>
                  <a:pt x="0" y="47"/>
                </a:lnTo>
                <a:lnTo>
                  <a:pt x="98" y="82"/>
                </a:lnTo>
                <a:lnTo>
                  <a:pt x="183" y="115"/>
                </a:lnTo>
                <a:lnTo>
                  <a:pt x="220" y="130"/>
                </a:lnTo>
                <a:lnTo>
                  <a:pt x="255" y="145"/>
                </a:lnTo>
                <a:lnTo>
                  <a:pt x="287" y="158"/>
                </a:lnTo>
                <a:lnTo>
                  <a:pt x="317" y="172"/>
                </a:lnTo>
                <a:lnTo>
                  <a:pt x="344" y="186"/>
                </a:lnTo>
                <a:lnTo>
                  <a:pt x="370" y="199"/>
                </a:lnTo>
                <a:lnTo>
                  <a:pt x="394" y="212"/>
                </a:lnTo>
                <a:lnTo>
                  <a:pt x="417" y="226"/>
                </a:lnTo>
                <a:lnTo>
                  <a:pt x="437" y="239"/>
                </a:lnTo>
                <a:lnTo>
                  <a:pt x="458" y="253"/>
                </a:lnTo>
                <a:lnTo>
                  <a:pt x="477" y="267"/>
                </a:lnTo>
                <a:lnTo>
                  <a:pt x="496" y="282"/>
                </a:lnTo>
                <a:lnTo>
                  <a:pt x="489" y="273"/>
                </a:lnTo>
                <a:lnTo>
                  <a:pt x="525" y="249"/>
                </a:lnTo>
                <a:lnTo>
                  <a:pt x="522" y="244"/>
                </a:lnTo>
                <a:lnTo>
                  <a:pt x="518" y="241"/>
                </a:lnTo>
                <a:lnTo>
                  <a:pt x="525" y="24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33640" y="1514520"/>
            <a:ext cx="70200" cy="276120"/>
          </a:xfrm>
          <a:custGeom>
            <a:avLst/>
            <a:gdLst/>
            <a:ahLst/>
            <a:rect l="l" t="t" r="r" b="b"/>
            <a:pathLst>
              <a:path w="131" h="698">
                <a:moveTo>
                  <a:pt x="125" y="698"/>
                </a:moveTo>
                <a:lnTo>
                  <a:pt x="128" y="652"/>
                </a:lnTo>
                <a:lnTo>
                  <a:pt x="129" y="606"/>
                </a:lnTo>
                <a:lnTo>
                  <a:pt x="131" y="561"/>
                </a:lnTo>
                <a:lnTo>
                  <a:pt x="131" y="516"/>
                </a:lnTo>
                <a:lnTo>
                  <a:pt x="131" y="471"/>
                </a:lnTo>
                <a:lnTo>
                  <a:pt x="129" y="427"/>
                </a:lnTo>
                <a:lnTo>
                  <a:pt x="126" y="382"/>
                </a:lnTo>
                <a:lnTo>
                  <a:pt x="122" y="339"/>
                </a:lnTo>
                <a:lnTo>
                  <a:pt x="117" y="296"/>
                </a:lnTo>
                <a:lnTo>
                  <a:pt x="111" y="252"/>
                </a:lnTo>
                <a:lnTo>
                  <a:pt x="103" y="210"/>
                </a:lnTo>
                <a:lnTo>
                  <a:pt x="92" y="168"/>
                </a:lnTo>
                <a:lnTo>
                  <a:pt x="81" y="125"/>
                </a:lnTo>
                <a:lnTo>
                  <a:pt x="68" y="84"/>
                </a:lnTo>
                <a:lnTo>
                  <a:pt x="53" y="42"/>
                </a:lnTo>
                <a:lnTo>
                  <a:pt x="36" y="0"/>
                </a:lnTo>
                <a:lnTo>
                  <a:pt x="0" y="24"/>
                </a:lnTo>
                <a:lnTo>
                  <a:pt x="16" y="63"/>
                </a:lnTo>
                <a:lnTo>
                  <a:pt x="31" y="103"/>
                </a:lnTo>
                <a:lnTo>
                  <a:pt x="44" y="143"/>
                </a:lnTo>
                <a:lnTo>
                  <a:pt x="54" y="183"/>
                </a:lnTo>
                <a:lnTo>
                  <a:pt x="63" y="223"/>
                </a:lnTo>
                <a:lnTo>
                  <a:pt x="71" y="262"/>
                </a:lnTo>
                <a:lnTo>
                  <a:pt x="77" y="304"/>
                </a:lnTo>
                <a:lnTo>
                  <a:pt x="82" y="345"/>
                </a:lnTo>
                <a:lnTo>
                  <a:pt x="86" y="387"/>
                </a:lnTo>
                <a:lnTo>
                  <a:pt x="89" y="430"/>
                </a:lnTo>
                <a:lnTo>
                  <a:pt x="90" y="472"/>
                </a:lnTo>
                <a:lnTo>
                  <a:pt x="91" y="516"/>
                </a:lnTo>
                <a:lnTo>
                  <a:pt x="90" y="559"/>
                </a:lnTo>
                <a:lnTo>
                  <a:pt x="89" y="604"/>
                </a:lnTo>
                <a:lnTo>
                  <a:pt x="87" y="649"/>
                </a:lnTo>
                <a:lnTo>
                  <a:pt x="85" y="694"/>
                </a:lnTo>
                <a:lnTo>
                  <a:pt x="125" y="6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32200" y="1717560"/>
            <a:ext cx="127080" cy="141480"/>
          </a:xfrm>
          <a:custGeom>
            <a:avLst/>
            <a:gdLst/>
            <a:ahLst/>
            <a:rect l="l" t="t" r="r" b="b"/>
            <a:pathLst>
              <a:path w="239" h="356">
                <a:moveTo>
                  <a:pt x="98" y="356"/>
                </a:moveTo>
                <a:lnTo>
                  <a:pt x="239" y="24"/>
                </a:lnTo>
                <a:lnTo>
                  <a:pt x="239" y="24"/>
                </a:lnTo>
                <a:lnTo>
                  <a:pt x="235" y="25"/>
                </a:lnTo>
                <a:lnTo>
                  <a:pt x="231" y="28"/>
                </a:lnTo>
                <a:lnTo>
                  <a:pt x="228" y="29"/>
                </a:lnTo>
                <a:lnTo>
                  <a:pt x="224" y="30"/>
                </a:lnTo>
                <a:lnTo>
                  <a:pt x="220" y="33"/>
                </a:lnTo>
                <a:lnTo>
                  <a:pt x="216" y="34"/>
                </a:lnTo>
                <a:lnTo>
                  <a:pt x="212" y="35"/>
                </a:lnTo>
                <a:lnTo>
                  <a:pt x="208" y="36"/>
                </a:lnTo>
                <a:lnTo>
                  <a:pt x="205" y="38"/>
                </a:lnTo>
                <a:lnTo>
                  <a:pt x="201" y="39"/>
                </a:lnTo>
                <a:lnTo>
                  <a:pt x="197" y="40"/>
                </a:lnTo>
                <a:lnTo>
                  <a:pt x="193" y="41"/>
                </a:lnTo>
                <a:lnTo>
                  <a:pt x="190" y="43"/>
                </a:lnTo>
                <a:lnTo>
                  <a:pt x="186" y="44"/>
                </a:lnTo>
                <a:lnTo>
                  <a:pt x="182" y="45"/>
                </a:lnTo>
                <a:lnTo>
                  <a:pt x="178" y="45"/>
                </a:lnTo>
                <a:lnTo>
                  <a:pt x="173" y="46"/>
                </a:lnTo>
                <a:lnTo>
                  <a:pt x="170" y="46"/>
                </a:lnTo>
                <a:lnTo>
                  <a:pt x="166" y="48"/>
                </a:lnTo>
                <a:lnTo>
                  <a:pt x="162" y="48"/>
                </a:lnTo>
                <a:lnTo>
                  <a:pt x="158" y="49"/>
                </a:lnTo>
                <a:lnTo>
                  <a:pt x="155" y="49"/>
                </a:lnTo>
                <a:lnTo>
                  <a:pt x="151" y="49"/>
                </a:lnTo>
                <a:lnTo>
                  <a:pt x="147" y="50"/>
                </a:lnTo>
                <a:lnTo>
                  <a:pt x="144" y="50"/>
                </a:lnTo>
                <a:lnTo>
                  <a:pt x="140" y="50"/>
                </a:lnTo>
                <a:lnTo>
                  <a:pt x="136" y="50"/>
                </a:lnTo>
                <a:lnTo>
                  <a:pt x="132" y="50"/>
                </a:lnTo>
                <a:lnTo>
                  <a:pt x="129" y="50"/>
                </a:lnTo>
                <a:lnTo>
                  <a:pt x="125" y="50"/>
                </a:lnTo>
                <a:lnTo>
                  <a:pt x="121" y="49"/>
                </a:lnTo>
                <a:lnTo>
                  <a:pt x="118" y="49"/>
                </a:lnTo>
                <a:lnTo>
                  <a:pt x="114" y="49"/>
                </a:lnTo>
                <a:lnTo>
                  <a:pt x="110" y="48"/>
                </a:lnTo>
                <a:lnTo>
                  <a:pt x="107" y="48"/>
                </a:lnTo>
                <a:lnTo>
                  <a:pt x="102" y="48"/>
                </a:lnTo>
                <a:lnTo>
                  <a:pt x="98" y="46"/>
                </a:lnTo>
                <a:lnTo>
                  <a:pt x="95" y="45"/>
                </a:lnTo>
                <a:lnTo>
                  <a:pt x="91" y="45"/>
                </a:lnTo>
                <a:lnTo>
                  <a:pt x="87" y="44"/>
                </a:lnTo>
                <a:lnTo>
                  <a:pt x="84" y="43"/>
                </a:lnTo>
                <a:lnTo>
                  <a:pt x="80" y="41"/>
                </a:lnTo>
                <a:lnTo>
                  <a:pt x="76" y="41"/>
                </a:lnTo>
                <a:lnTo>
                  <a:pt x="73" y="40"/>
                </a:lnTo>
                <a:lnTo>
                  <a:pt x="69" y="39"/>
                </a:lnTo>
                <a:lnTo>
                  <a:pt x="65" y="36"/>
                </a:lnTo>
                <a:lnTo>
                  <a:pt x="62" y="35"/>
                </a:lnTo>
                <a:lnTo>
                  <a:pt x="58" y="34"/>
                </a:lnTo>
                <a:lnTo>
                  <a:pt x="54" y="33"/>
                </a:lnTo>
                <a:lnTo>
                  <a:pt x="51" y="31"/>
                </a:lnTo>
                <a:lnTo>
                  <a:pt x="47" y="29"/>
                </a:lnTo>
                <a:lnTo>
                  <a:pt x="44" y="28"/>
                </a:lnTo>
                <a:lnTo>
                  <a:pt x="40" y="25"/>
                </a:lnTo>
                <a:lnTo>
                  <a:pt x="36" y="24"/>
                </a:lnTo>
                <a:lnTo>
                  <a:pt x="33" y="21"/>
                </a:lnTo>
                <a:lnTo>
                  <a:pt x="28" y="20"/>
                </a:lnTo>
                <a:lnTo>
                  <a:pt x="25" y="18"/>
                </a:lnTo>
                <a:lnTo>
                  <a:pt x="21" y="15"/>
                </a:lnTo>
                <a:lnTo>
                  <a:pt x="18" y="13"/>
                </a:lnTo>
                <a:lnTo>
                  <a:pt x="14" y="12"/>
                </a:lnTo>
                <a:lnTo>
                  <a:pt x="10" y="9"/>
                </a:lnTo>
                <a:lnTo>
                  <a:pt x="7" y="7"/>
                </a:lnTo>
                <a:lnTo>
                  <a:pt x="3" y="4"/>
                </a:lnTo>
                <a:lnTo>
                  <a:pt x="0" y="0"/>
                </a:lnTo>
                <a:lnTo>
                  <a:pt x="98" y="356"/>
                </a:lnTo>
                <a:lnTo>
                  <a:pt x="98" y="3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56120" y="3691080"/>
            <a:ext cx="196920" cy="207720"/>
          </a:xfrm>
          <a:custGeom>
            <a:avLst/>
            <a:gdLst/>
            <a:ahLst/>
            <a:rect l="l" t="t" r="r" b="b"/>
            <a:pathLst>
              <a:path w="372" h="527">
                <a:moveTo>
                  <a:pt x="372" y="482"/>
                </a:moveTo>
                <a:lnTo>
                  <a:pt x="369" y="481"/>
                </a:lnTo>
                <a:lnTo>
                  <a:pt x="354" y="473"/>
                </a:lnTo>
                <a:lnTo>
                  <a:pt x="341" y="465"/>
                </a:lnTo>
                <a:lnTo>
                  <a:pt x="326" y="456"/>
                </a:lnTo>
                <a:lnTo>
                  <a:pt x="313" y="445"/>
                </a:lnTo>
                <a:lnTo>
                  <a:pt x="301" y="435"/>
                </a:lnTo>
                <a:lnTo>
                  <a:pt x="288" y="423"/>
                </a:lnTo>
                <a:lnTo>
                  <a:pt x="276" y="411"/>
                </a:lnTo>
                <a:lnTo>
                  <a:pt x="265" y="397"/>
                </a:lnTo>
                <a:lnTo>
                  <a:pt x="253" y="385"/>
                </a:lnTo>
                <a:lnTo>
                  <a:pt x="242" y="370"/>
                </a:lnTo>
                <a:lnTo>
                  <a:pt x="231" y="355"/>
                </a:lnTo>
                <a:lnTo>
                  <a:pt x="220" y="341"/>
                </a:lnTo>
                <a:lnTo>
                  <a:pt x="200" y="309"/>
                </a:lnTo>
                <a:lnTo>
                  <a:pt x="180" y="276"/>
                </a:lnTo>
                <a:lnTo>
                  <a:pt x="142" y="206"/>
                </a:lnTo>
                <a:lnTo>
                  <a:pt x="105" y="135"/>
                </a:lnTo>
                <a:lnTo>
                  <a:pt x="88" y="100"/>
                </a:lnTo>
                <a:lnTo>
                  <a:pt x="69" y="65"/>
                </a:lnTo>
                <a:lnTo>
                  <a:pt x="51" y="32"/>
                </a:lnTo>
                <a:lnTo>
                  <a:pt x="31" y="0"/>
                </a:lnTo>
                <a:lnTo>
                  <a:pt x="0" y="30"/>
                </a:lnTo>
                <a:lnTo>
                  <a:pt x="18" y="60"/>
                </a:lnTo>
                <a:lnTo>
                  <a:pt x="36" y="93"/>
                </a:lnTo>
                <a:lnTo>
                  <a:pt x="54" y="126"/>
                </a:lnTo>
                <a:lnTo>
                  <a:pt x="72" y="161"/>
                </a:lnTo>
                <a:lnTo>
                  <a:pt x="108" y="233"/>
                </a:lnTo>
                <a:lnTo>
                  <a:pt x="147" y="304"/>
                </a:lnTo>
                <a:lnTo>
                  <a:pt x="168" y="339"/>
                </a:lnTo>
                <a:lnTo>
                  <a:pt x="190" y="372"/>
                </a:lnTo>
                <a:lnTo>
                  <a:pt x="201" y="389"/>
                </a:lnTo>
                <a:lnTo>
                  <a:pt x="213" y="404"/>
                </a:lnTo>
                <a:lnTo>
                  <a:pt x="225" y="418"/>
                </a:lnTo>
                <a:lnTo>
                  <a:pt x="237" y="433"/>
                </a:lnTo>
                <a:lnTo>
                  <a:pt x="250" y="448"/>
                </a:lnTo>
                <a:lnTo>
                  <a:pt x="264" y="461"/>
                </a:lnTo>
                <a:lnTo>
                  <a:pt x="278" y="475"/>
                </a:lnTo>
                <a:lnTo>
                  <a:pt x="292" y="486"/>
                </a:lnTo>
                <a:lnTo>
                  <a:pt x="306" y="498"/>
                </a:lnTo>
                <a:lnTo>
                  <a:pt x="321" y="508"/>
                </a:lnTo>
                <a:lnTo>
                  <a:pt x="338" y="518"/>
                </a:lnTo>
                <a:lnTo>
                  <a:pt x="354" y="527"/>
                </a:lnTo>
                <a:lnTo>
                  <a:pt x="351" y="525"/>
                </a:lnTo>
                <a:lnTo>
                  <a:pt x="372" y="482"/>
                </a:lnTo>
                <a:lnTo>
                  <a:pt x="370" y="481"/>
                </a:lnTo>
                <a:lnTo>
                  <a:pt x="369" y="481"/>
                </a:lnTo>
                <a:lnTo>
                  <a:pt x="372" y="4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41880" y="3881520"/>
            <a:ext cx="264960" cy="66600"/>
          </a:xfrm>
          <a:custGeom>
            <a:avLst/>
            <a:gdLst/>
            <a:ahLst/>
            <a:rect l="l" t="t" r="r" b="b"/>
            <a:pathLst>
              <a:path w="503" h="169">
                <a:moveTo>
                  <a:pt x="498" y="111"/>
                </a:moveTo>
                <a:lnTo>
                  <a:pt x="467" y="116"/>
                </a:lnTo>
                <a:lnTo>
                  <a:pt x="437" y="119"/>
                </a:lnTo>
                <a:lnTo>
                  <a:pt x="405" y="120"/>
                </a:lnTo>
                <a:lnTo>
                  <a:pt x="374" y="120"/>
                </a:lnTo>
                <a:lnTo>
                  <a:pt x="342" y="117"/>
                </a:lnTo>
                <a:lnTo>
                  <a:pt x="311" y="115"/>
                </a:lnTo>
                <a:lnTo>
                  <a:pt x="280" y="110"/>
                </a:lnTo>
                <a:lnTo>
                  <a:pt x="249" y="104"/>
                </a:lnTo>
                <a:lnTo>
                  <a:pt x="218" y="96"/>
                </a:lnTo>
                <a:lnTo>
                  <a:pt x="187" y="86"/>
                </a:lnTo>
                <a:lnTo>
                  <a:pt x="158" y="76"/>
                </a:lnTo>
                <a:lnTo>
                  <a:pt x="129" y="64"/>
                </a:lnTo>
                <a:lnTo>
                  <a:pt x="100" y="50"/>
                </a:lnTo>
                <a:lnTo>
                  <a:pt x="73" y="35"/>
                </a:lnTo>
                <a:lnTo>
                  <a:pt x="46" y="19"/>
                </a:lnTo>
                <a:lnTo>
                  <a:pt x="21" y="0"/>
                </a:lnTo>
                <a:lnTo>
                  <a:pt x="0" y="43"/>
                </a:lnTo>
                <a:lnTo>
                  <a:pt x="27" y="61"/>
                </a:lnTo>
                <a:lnTo>
                  <a:pt x="56" y="80"/>
                </a:lnTo>
                <a:lnTo>
                  <a:pt x="85" y="95"/>
                </a:lnTo>
                <a:lnTo>
                  <a:pt x="115" y="110"/>
                </a:lnTo>
                <a:lnTo>
                  <a:pt x="146" y="122"/>
                </a:lnTo>
                <a:lnTo>
                  <a:pt x="177" y="134"/>
                </a:lnTo>
                <a:lnTo>
                  <a:pt x="210" y="144"/>
                </a:lnTo>
                <a:lnTo>
                  <a:pt x="242" y="152"/>
                </a:lnTo>
                <a:lnTo>
                  <a:pt x="275" y="159"/>
                </a:lnTo>
                <a:lnTo>
                  <a:pt x="307" y="164"/>
                </a:lnTo>
                <a:lnTo>
                  <a:pt x="340" y="167"/>
                </a:lnTo>
                <a:lnTo>
                  <a:pt x="373" y="169"/>
                </a:lnTo>
                <a:lnTo>
                  <a:pt x="406" y="169"/>
                </a:lnTo>
                <a:lnTo>
                  <a:pt x="439" y="167"/>
                </a:lnTo>
                <a:lnTo>
                  <a:pt x="471" y="165"/>
                </a:lnTo>
                <a:lnTo>
                  <a:pt x="503" y="160"/>
                </a:lnTo>
                <a:lnTo>
                  <a:pt x="498" y="1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24400" y="3886200"/>
            <a:ext cx="155520" cy="115920"/>
          </a:xfrm>
          <a:custGeom>
            <a:avLst/>
            <a:gdLst/>
            <a:ahLst/>
            <a:rect l="l" t="t" r="r" b="b"/>
            <a:pathLst>
              <a:path w="294" h="292">
                <a:moveTo>
                  <a:pt x="294" y="99"/>
                </a:moveTo>
                <a:lnTo>
                  <a:pt x="0" y="0"/>
                </a:lnTo>
                <a:lnTo>
                  <a:pt x="0" y="0"/>
                </a:lnTo>
                <a:lnTo>
                  <a:pt x="3" y="3"/>
                </a:lnTo>
                <a:lnTo>
                  <a:pt x="5" y="8"/>
                </a:lnTo>
                <a:lnTo>
                  <a:pt x="7" y="12"/>
                </a:lnTo>
                <a:lnTo>
                  <a:pt x="9" y="17"/>
                </a:lnTo>
                <a:lnTo>
                  <a:pt x="11" y="21"/>
                </a:lnTo>
                <a:lnTo>
                  <a:pt x="13" y="26"/>
                </a:lnTo>
                <a:lnTo>
                  <a:pt x="15" y="30"/>
                </a:lnTo>
                <a:lnTo>
                  <a:pt x="17" y="33"/>
                </a:lnTo>
                <a:lnTo>
                  <a:pt x="19" y="38"/>
                </a:lnTo>
                <a:lnTo>
                  <a:pt x="21" y="42"/>
                </a:lnTo>
                <a:lnTo>
                  <a:pt x="22" y="47"/>
                </a:lnTo>
                <a:lnTo>
                  <a:pt x="24" y="51"/>
                </a:lnTo>
                <a:lnTo>
                  <a:pt x="26" y="56"/>
                </a:lnTo>
                <a:lnTo>
                  <a:pt x="27" y="61"/>
                </a:lnTo>
                <a:lnTo>
                  <a:pt x="29" y="64"/>
                </a:lnTo>
                <a:lnTo>
                  <a:pt x="30" y="69"/>
                </a:lnTo>
                <a:lnTo>
                  <a:pt x="32" y="73"/>
                </a:lnTo>
                <a:lnTo>
                  <a:pt x="33" y="78"/>
                </a:lnTo>
                <a:lnTo>
                  <a:pt x="34" y="82"/>
                </a:lnTo>
                <a:lnTo>
                  <a:pt x="35" y="87"/>
                </a:lnTo>
                <a:lnTo>
                  <a:pt x="37" y="91"/>
                </a:lnTo>
                <a:lnTo>
                  <a:pt x="38" y="96"/>
                </a:lnTo>
                <a:lnTo>
                  <a:pt x="39" y="101"/>
                </a:lnTo>
                <a:lnTo>
                  <a:pt x="40" y="104"/>
                </a:lnTo>
                <a:lnTo>
                  <a:pt x="41" y="109"/>
                </a:lnTo>
                <a:lnTo>
                  <a:pt x="41" y="113"/>
                </a:lnTo>
                <a:lnTo>
                  <a:pt x="42" y="118"/>
                </a:lnTo>
                <a:lnTo>
                  <a:pt x="43" y="123"/>
                </a:lnTo>
                <a:lnTo>
                  <a:pt x="44" y="127"/>
                </a:lnTo>
                <a:lnTo>
                  <a:pt x="44" y="132"/>
                </a:lnTo>
                <a:lnTo>
                  <a:pt x="45" y="137"/>
                </a:lnTo>
                <a:lnTo>
                  <a:pt x="45" y="141"/>
                </a:lnTo>
                <a:lnTo>
                  <a:pt x="46" y="146"/>
                </a:lnTo>
                <a:lnTo>
                  <a:pt x="46" y="151"/>
                </a:lnTo>
                <a:lnTo>
                  <a:pt x="47" y="154"/>
                </a:lnTo>
                <a:lnTo>
                  <a:pt x="47" y="159"/>
                </a:lnTo>
                <a:lnTo>
                  <a:pt x="47" y="164"/>
                </a:lnTo>
                <a:lnTo>
                  <a:pt x="47" y="168"/>
                </a:lnTo>
                <a:lnTo>
                  <a:pt x="47" y="173"/>
                </a:lnTo>
                <a:lnTo>
                  <a:pt x="48" y="178"/>
                </a:lnTo>
                <a:lnTo>
                  <a:pt x="48" y="183"/>
                </a:lnTo>
                <a:lnTo>
                  <a:pt x="47" y="187"/>
                </a:lnTo>
                <a:lnTo>
                  <a:pt x="47" y="192"/>
                </a:lnTo>
                <a:lnTo>
                  <a:pt x="47" y="197"/>
                </a:lnTo>
                <a:lnTo>
                  <a:pt x="47" y="202"/>
                </a:lnTo>
                <a:lnTo>
                  <a:pt x="47" y="205"/>
                </a:lnTo>
                <a:lnTo>
                  <a:pt x="46" y="210"/>
                </a:lnTo>
                <a:lnTo>
                  <a:pt x="46" y="215"/>
                </a:lnTo>
                <a:lnTo>
                  <a:pt x="46" y="220"/>
                </a:lnTo>
                <a:lnTo>
                  <a:pt x="45" y="224"/>
                </a:lnTo>
                <a:lnTo>
                  <a:pt x="44" y="229"/>
                </a:lnTo>
                <a:lnTo>
                  <a:pt x="44" y="234"/>
                </a:lnTo>
                <a:lnTo>
                  <a:pt x="43" y="239"/>
                </a:lnTo>
                <a:lnTo>
                  <a:pt x="42" y="244"/>
                </a:lnTo>
                <a:lnTo>
                  <a:pt x="42" y="249"/>
                </a:lnTo>
                <a:lnTo>
                  <a:pt x="41" y="253"/>
                </a:lnTo>
                <a:lnTo>
                  <a:pt x="40" y="258"/>
                </a:lnTo>
                <a:lnTo>
                  <a:pt x="39" y="263"/>
                </a:lnTo>
                <a:lnTo>
                  <a:pt x="38" y="268"/>
                </a:lnTo>
                <a:lnTo>
                  <a:pt x="37" y="273"/>
                </a:lnTo>
                <a:lnTo>
                  <a:pt x="36" y="278"/>
                </a:lnTo>
                <a:lnTo>
                  <a:pt x="34" y="283"/>
                </a:lnTo>
                <a:lnTo>
                  <a:pt x="33" y="288"/>
                </a:lnTo>
                <a:lnTo>
                  <a:pt x="32" y="292"/>
                </a:lnTo>
                <a:lnTo>
                  <a:pt x="294" y="99"/>
                </a:lnTo>
                <a:lnTo>
                  <a:pt x="294" y="9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89440" y="5432400"/>
            <a:ext cx="1033560" cy="19080"/>
          </a:xfrm>
          <a:custGeom>
            <a:avLst/>
            <a:gdLst/>
            <a:ahLst/>
            <a:rect l="l" t="t" r="r" b="b"/>
            <a:pathLst>
              <a:path w="1952" h="50">
                <a:moveTo>
                  <a:pt x="1952" y="25"/>
                </a:moveTo>
                <a:lnTo>
                  <a:pt x="1933" y="0"/>
                </a:lnTo>
                <a:lnTo>
                  <a:pt x="0" y="0"/>
                </a:lnTo>
                <a:lnTo>
                  <a:pt x="0" y="50"/>
                </a:lnTo>
                <a:lnTo>
                  <a:pt x="1933" y="50"/>
                </a:lnTo>
                <a:lnTo>
                  <a:pt x="1913" y="25"/>
                </a:lnTo>
                <a:lnTo>
                  <a:pt x="1952" y="25"/>
                </a:lnTo>
                <a:lnTo>
                  <a:pt x="1952" y="0"/>
                </a:lnTo>
                <a:lnTo>
                  <a:pt x="1933" y="0"/>
                </a:lnTo>
                <a:lnTo>
                  <a:pt x="1952" y="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02480" y="5442120"/>
            <a:ext cx="20520" cy="306360"/>
          </a:xfrm>
          <a:custGeom>
            <a:avLst/>
            <a:gdLst/>
            <a:ahLst/>
            <a:rect l="l" t="t" r="r" b="b"/>
            <a:pathLst>
              <a:path w="39" h="774">
                <a:moveTo>
                  <a:pt x="20" y="774"/>
                </a:moveTo>
                <a:lnTo>
                  <a:pt x="39" y="750"/>
                </a:lnTo>
                <a:lnTo>
                  <a:pt x="39" y="0"/>
                </a:lnTo>
                <a:lnTo>
                  <a:pt x="0" y="0"/>
                </a:lnTo>
                <a:lnTo>
                  <a:pt x="0" y="750"/>
                </a:lnTo>
                <a:lnTo>
                  <a:pt x="20" y="725"/>
                </a:lnTo>
                <a:lnTo>
                  <a:pt x="20" y="774"/>
                </a:lnTo>
                <a:lnTo>
                  <a:pt x="39" y="774"/>
                </a:lnTo>
                <a:lnTo>
                  <a:pt x="39" y="750"/>
                </a:lnTo>
                <a:lnTo>
                  <a:pt x="20" y="77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678640" y="5729400"/>
            <a:ext cx="1033200" cy="19080"/>
          </a:xfrm>
          <a:custGeom>
            <a:avLst/>
            <a:gdLst/>
            <a:ahLst/>
            <a:rect l="l" t="t" r="r" b="b"/>
            <a:pathLst>
              <a:path w="1953" h="49">
                <a:moveTo>
                  <a:pt x="0" y="25"/>
                </a:moveTo>
                <a:lnTo>
                  <a:pt x="20" y="49"/>
                </a:lnTo>
                <a:lnTo>
                  <a:pt x="1953" y="49"/>
                </a:lnTo>
                <a:lnTo>
                  <a:pt x="1953" y="0"/>
                </a:lnTo>
                <a:lnTo>
                  <a:pt x="20" y="0"/>
                </a:lnTo>
                <a:lnTo>
                  <a:pt x="40" y="25"/>
                </a:lnTo>
                <a:lnTo>
                  <a:pt x="0" y="25"/>
                </a:lnTo>
                <a:lnTo>
                  <a:pt x="0" y="49"/>
                </a:lnTo>
                <a:lnTo>
                  <a:pt x="20" y="49"/>
                </a:lnTo>
                <a:lnTo>
                  <a:pt x="0" y="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78640" y="5432400"/>
            <a:ext cx="21960" cy="308160"/>
          </a:xfrm>
          <a:custGeom>
            <a:avLst/>
            <a:gdLst/>
            <a:ahLst/>
            <a:rect l="l" t="t" r="r" b="b"/>
            <a:pathLst>
              <a:path w="40" h="775">
                <a:moveTo>
                  <a:pt x="20" y="0"/>
                </a:moveTo>
                <a:lnTo>
                  <a:pt x="0" y="25"/>
                </a:lnTo>
                <a:lnTo>
                  <a:pt x="0" y="775"/>
                </a:lnTo>
                <a:lnTo>
                  <a:pt x="40" y="775"/>
                </a:lnTo>
                <a:lnTo>
                  <a:pt x="40" y="25"/>
                </a:lnTo>
                <a:lnTo>
                  <a:pt x="20" y="50"/>
                </a:lnTo>
                <a:lnTo>
                  <a:pt x="20" y="0"/>
                </a:lnTo>
                <a:lnTo>
                  <a:pt x="0" y="0"/>
                </a:lnTo>
                <a:lnTo>
                  <a:pt x="0" y="25"/>
                </a:lnTo>
                <a:lnTo>
                  <a:pt x="2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5440" y="5514840"/>
            <a:ext cx="128520" cy="166680"/>
          </a:xfrm>
          <a:custGeom>
            <a:avLst/>
            <a:gdLst/>
            <a:ahLst/>
            <a:rect l="l" t="t" r="r" b="b"/>
            <a:pathLst>
              <a:path w="243" h="421">
                <a:moveTo>
                  <a:pt x="0" y="421"/>
                </a:moveTo>
                <a:lnTo>
                  <a:pt x="66" y="0"/>
                </a:lnTo>
                <a:lnTo>
                  <a:pt x="243" y="0"/>
                </a:lnTo>
                <a:lnTo>
                  <a:pt x="236" y="39"/>
                </a:lnTo>
                <a:lnTo>
                  <a:pt x="93" y="39"/>
                </a:lnTo>
                <a:lnTo>
                  <a:pt x="70" y="189"/>
                </a:lnTo>
                <a:lnTo>
                  <a:pt x="212" y="189"/>
                </a:lnTo>
                <a:lnTo>
                  <a:pt x="206" y="227"/>
                </a:lnTo>
                <a:lnTo>
                  <a:pt x="64" y="227"/>
                </a:lnTo>
                <a:lnTo>
                  <a:pt x="34" y="421"/>
                </a:lnTo>
                <a:lnTo>
                  <a:pt x="0" y="4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29280" y="5514840"/>
            <a:ext cx="127080" cy="166680"/>
          </a:xfrm>
          <a:custGeom>
            <a:avLst/>
            <a:gdLst/>
            <a:ahLst/>
            <a:rect l="l" t="t" r="r" b="b"/>
            <a:pathLst>
              <a:path w="242" h="421">
                <a:moveTo>
                  <a:pt x="0" y="421"/>
                </a:moveTo>
                <a:lnTo>
                  <a:pt x="66" y="0"/>
                </a:lnTo>
                <a:lnTo>
                  <a:pt x="242" y="0"/>
                </a:lnTo>
                <a:lnTo>
                  <a:pt x="237" y="39"/>
                </a:lnTo>
                <a:lnTo>
                  <a:pt x="94" y="39"/>
                </a:lnTo>
                <a:lnTo>
                  <a:pt x="70" y="189"/>
                </a:lnTo>
                <a:lnTo>
                  <a:pt x="212" y="189"/>
                </a:lnTo>
                <a:lnTo>
                  <a:pt x="206" y="227"/>
                </a:lnTo>
                <a:lnTo>
                  <a:pt x="64" y="227"/>
                </a:lnTo>
                <a:lnTo>
                  <a:pt x="34" y="421"/>
                </a:lnTo>
                <a:lnTo>
                  <a:pt x="0" y="4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24680" y="5654520"/>
            <a:ext cx="21960" cy="27000"/>
          </a:xfrm>
          <a:custGeom>
            <a:avLst/>
            <a:gdLst/>
            <a:ahLst/>
            <a:rect l="l" t="t" r="r" b="b"/>
            <a:pathLst>
              <a:path w="43" h="68">
                <a:moveTo>
                  <a:pt x="0" y="68"/>
                </a:moveTo>
                <a:lnTo>
                  <a:pt x="10" y="0"/>
                </a:lnTo>
                <a:lnTo>
                  <a:pt x="43" y="0"/>
                </a:lnTo>
                <a:lnTo>
                  <a:pt x="33" y="68"/>
                </a:lnTo>
                <a:lnTo>
                  <a:pt x="0" y="6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83360" y="5511960"/>
            <a:ext cx="117360" cy="172800"/>
          </a:xfrm>
          <a:custGeom>
            <a:avLst/>
            <a:gdLst/>
            <a:ahLst/>
            <a:rect l="l" t="t" r="r" b="b"/>
            <a:pathLst>
              <a:path w="221" h="437">
                <a:moveTo>
                  <a:pt x="1" y="308"/>
                </a:moveTo>
                <a:lnTo>
                  <a:pt x="35" y="308"/>
                </a:lnTo>
                <a:lnTo>
                  <a:pt x="35" y="309"/>
                </a:lnTo>
                <a:lnTo>
                  <a:pt x="35" y="309"/>
                </a:lnTo>
                <a:lnTo>
                  <a:pt x="35" y="309"/>
                </a:lnTo>
                <a:lnTo>
                  <a:pt x="35" y="310"/>
                </a:lnTo>
                <a:lnTo>
                  <a:pt x="35" y="310"/>
                </a:lnTo>
                <a:lnTo>
                  <a:pt x="35" y="312"/>
                </a:lnTo>
                <a:lnTo>
                  <a:pt x="35" y="312"/>
                </a:lnTo>
                <a:lnTo>
                  <a:pt x="34" y="312"/>
                </a:lnTo>
                <a:lnTo>
                  <a:pt x="34" y="313"/>
                </a:lnTo>
                <a:lnTo>
                  <a:pt x="34" y="313"/>
                </a:lnTo>
                <a:lnTo>
                  <a:pt x="34" y="314"/>
                </a:lnTo>
                <a:lnTo>
                  <a:pt x="34" y="315"/>
                </a:lnTo>
                <a:lnTo>
                  <a:pt x="34" y="315"/>
                </a:lnTo>
                <a:lnTo>
                  <a:pt x="34" y="317"/>
                </a:lnTo>
                <a:lnTo>
                  <a:pt x="34" y="318"/>
                </a:lnTo>
                <a:lnTo>
                  <a:pt x="34" y="319"/>
                </a:lnTo>
                <a:lnTo>
                  <a:pt x="35" y="328"/>
                </a:lnTo>
                <a:lnTo>
                  <a:pt x="35" y="335"/>
                </a:lnTo>
                <a:lnTo>
                  <a:pt x="37" y="344"/>
                </a:lnTo>
                <a:lnTo>
                  <a:pt x="39" y="352"/>
                </a:lnTo>
                <a:lnTo>
                  <a:pt x="41" y="358"/>
                </a:lnTo>
                <a:lnTo>
                  <a:pt x="44" y="364"/>
                </a:lnTo>
                <a:lnTo>
                  <a:pt x="48" y="370"/>
                </a:lnTo>
                <a:lnTo>
                  <a:pt x="52" y="377"/>
                </a:lnTo>
                <a:lnTo>
                  <a:pt x="56" y="382"/>
                </a:lnTo>
                <a:lnTo>
                  <a:pt x="61" y="385"/>
                </a:lnTo>
                <a:lnTo>
                  <a:pt x="67" y="389"/>
                </a:lnTo>
                <a:lnTo>
                  <a:pt x="72" y="393"/>
                </a:lnTo>
                <a:lnTo>
                  <a:pt x="79" y="395"/>
                </a:lnTo>
                <a:lnTo>
                  <a:pt x="86" y="397"/>
                </a:lnTo>
                <a:lnTo>
                  <a:pt x="93" y="398"/>
                </a:lnTo>
                <a:lnTo>
                  <a:pt x="100" y="398"/>
                </a:lnTo>
                <a:lnTo>
                  <a:pt x="107" y="398"/>
                </a:lnTo>
                <a:lnTo>
                  <a:pt x="114" y="397"/>
                </a:lnTo>
                <a:lnTo>
                  <a:pt x="120" y="394"/>
                </a:lnTo>
                <a:lnTo>
                  <a:pt x="127" y="392"/>
                </a:lnTo>
                <a:lnTo>
                  <a:pt x="132" y="388"/>
                </a:lnTo>
                <a:lnTo>
                  <a:pt x="138" y="384"/>
                </a:lnTo>
                <a:lnTo>
                  <a:pt x="143" y="379"/>
                </a:lnTo>
                <a:lnTo>
                  <a:pt x="148" y="374"/>
                </a:lnTo>
                <a:lnTo>
                  <a:pt x="154" y="368"/>
                </a:lnTo>
                <a:lnTo>
                  <a:pt x="158" y="360"/>
                </a:lnTo>
                <a:lnTo>
                  <a:pt x="161" y="354"/>
                </a:lnTo>
                <a:lnTo>
                  <a:pt x="164" y="347"/>
                </a:lnTo>
                <a:lnTo>
                  <a:pt x="166" y="339"/>
                </a:lnTo>
                <a:lnTo>
                  <a:pt x="168" y="332"/>
                </a:lnTo>
                <a:lnTo>
                  <a:pt x="169" y="323"/>
                </a:lnTo>
                <a:lnTo>
                  <a:pt x="169" y="314"/>
                </a:lnTo>
                <a:lnTo>
                  <a:pt x="169" y="308"/>
                </a:lnTo>
                <a:lnTo>
                  <a:pt x="168" y="302"/>
                </a:lnTo>
                <a:lnTo>
                  <a:pt x="167" y="297"/>
                </a:lnTo>
                <a:lnTo>
                  <a:pt x="166" y="291"/>
                </a:lnTo>
                <a:lnTo>
                  <a:pt x="165" y="286"/>
                </a:lnTo>
                <a:lnTo>
                  <a:pt x="163" y="281"/>
                </a:lnTo>
                <a:lnTo>
                  <a:pt x="161" y="276"/>
                </a:lnTo>
                <a:lnTo>
                  <a:pt x="159" y="272"/>
                </a:lnTo>
                <a:lnTo>
                  <a:pt x="156" y="267"/>
                </a:lnTo>
                <a:lnTo>
                  <a:pt x="153" y="262"/>
                </a:lnTo>
                <a:lnTo>
                  <a:pt x="148" y="258"/>
                </a:lnTo>
                <a:lnTo>
                  <a:pt x="143" y="253"/>
                </a:lnTo>
                <a:lnTo>
                  <a:pt x="138" y="248"/>
                </a:lnTo>
                <a:lnTo>
                  <a:pt x="132" y="243"/>
                </a:lnTo>
                <a:lnTo>
                  <a:pt x="126" y="237"/>
                </a:lnTo>
                <a:lnTo>
                  <a:pt x="119" y="232"/>
                </a:lnTo>
                <a:lnTo>
                  <a:pt x="118" y="231"/>
                </a:lnTo>
                <a:lnTo>
                  <a:pt x="116" y="229"/>
                </a:lnTo>
                <a:lnTo>
                  <a:pt x="115" y="229"/>
                </a:lnTo>
                <a:lnTo>
                  <a:pt x="113" y="228"/>
                </a:lnTo>
                <a:lnTo>
                  <a:pt x="112" y="227"/>
                </a:lnTo>
                <a:lnTo>
                  <a:pt x="110" y="226"/>
                </a:lnTo>
                <a:lnTo>
                  <a:pt x="107" y="223"/>
                </a:lnTo>
                <a:lnTo>
                  <a:pt x="105" y="222"/>
                </a:lnTo>
                <a:lnTo>
                  <a:pt x="97" y="216"/>
                </a:lnTo>
                <a:lnTo>
                  <a:pt x="89" y="211"/>
                </a:lnTo>
                <a:lnTo>
                  <a:pt x="82" y="204"/>
                </a:lnTo>
                <a:lnTo>
                  <a:pt x="75" y="199"/>
                </a:lnTo>
                <a:lnTo>
                  <a:pt x="69" y="193"/>
                </a:lnTo>
                <a:lnTo>
                  <a:pt x="64" y="188"/>
                </a:lnTo>
                <a:lnTo>
                  <a:pt x="59" y="183"/>
                </a:lnTo>
                <a:lnTo>
                  <a:pt x="55" y="178"/>
                </a:lnTo>
                <a:lnTo>
                  <a:pt x="52" y="174"/>
                </a:lnTo>
                <a:lnTo>
                  <a:pt x="50" y="171"/>
                </a:lnTo>
                <a:lnTo>
                  <a:pt x="48" y="168"/>
                </a:lnTo>
                <a:lnTo>
                  <a:pt x="47" y="164"/>
                </a:lnTo>
                <a:lnTo>
                  <a:pt x="45" y="161"/>
                </a:lnTo>
                <a:lnTo>
                  <a:pt x="43" y="157"/>
                </a:lnTo>
                <a:lnTo>
                  <a:pt x="42" y="153"/>
                </a:lnTo>
                <a:lnTo>
                  <a:pt x="41" y="150"/>
                </a:lnTo>
                <a:lnTo>
                  <a:pt x="40" y="145"/>
                </a:lnTo>
                <a:lnTo>
                  <a:pt x="39" y="141"/>
                </a:lnTo>
                <a:lnTo>
                  <a:pt x="38" y="137"/>
                </a:lnTo>
                <a:lnTo>
                  <a:pt x="37" y="132"/>
                </a:lnTo>
                <a:lnTo>
                  <a:pt x="37" y="128"/>
                </a:lnTo>
                <a:lnTo>
                  <a:pt x="36" y="125"/>
                </a:lnTo>
                <a:lnTo>
                  <a:pt x="36" y="120"/>
                </a:lnTo>
                <a:lnTo>
                  <a:pt x="36" y="116"/>
                </a:lnTo>
                <a:lnTo>
                  <a:pt x="36" y="103"/>
                </a:lnTo>
                <a:lnTo>
                  <a:pt x="38" y="92"/>
                </a:lnTo>
                <a:lnTo>
                  <a:pt x="40" y="81"/>
                </a:lnTo>
                <a:lnTo>
                  <a:pt x="43" y="71"/>
                </a:lnTo>
                <a:lnTo>
                  <a:pt x="47" y="61"/>
                </a:lnTo>
                <a:lnTo>
                  <a:pt x="52" y="51"/>
                </a:lnTo>
                <a:lnTo>
                  <a:pt x="58" y="42"/>
                </a:lnTo>
                <a:lnTo>
                  <a:pt x="64" y="33"/>
                </a:lnTo>
                <a:lnTo>
                  <a:pt x="72" y="26"/>
                </a:lnTo>
                <a:lnTo>
                  <a:pt x="80" y="19"/>
                </a:lnTo>
                <a:lnTo>
                  <a:pt x="88" y="12"/>
                </a:lnTo>
                <a:lnTo>
                  <a:pt x="97" y="9"/>
                </a:lnTo>
                <a:lnTo>
                  <a:pt x="105" y="5"/>
                </a:lnTo>
                <a:lnTo>
                  <a:pt x="115" y="2"/>
                </a:lnTo>
                <a:lnTo>
                  <a:pt x="124" y="0"/>
                </a:lnTo>
                <a:lnTo>
                  <a:pt x="134" y="0"/>
                </a:lnTo>
                <a:lnTo>
                  <a:pt x="144" y="0"/>
                </a:lnTo>
                <a:lnTo>
                  <a:pt x="154" y="1"/>
                </a:lnTo>
                <a:lnTo>
                  <a:pt x="162" y="4"/>
                </a:lnTo>
                <a:lnTo>
                  <a:pt x="170" y="7"/>
                </a:lnTo>
                <a:lnTo>
                  <a:pt x="178" y="11"/>
                </a:lnTo>
                <a:lnTo>
                  <a:pt x="185" y="16"/>
                </a:lnTo>
                <a:lnTo>
                  <a:pt x="192" y="22"/>
                </a:lnTo>
                <a:lnTo>
                  <a:pt x="198" y="28"/>
                </a:lnTo>
                <a:lnTo>
                  <a:pt x="203" y="36"/>
                </a:lnTo>
                <a:lnTo>
                  <a:pt x="208" y="45"/>
                </a:lnTo>
                <a:lnTo>
                  <a:pt x="212" y="53"/>
                </a:lnTo>
                <a:lnTo>
                  <a:pt x="216" y="62"/>
                </a:lnTo>
                <a:lnTo>
                  <a:pt x="218" y="72"/>
                </a:lnTo>
                <a:lnTo>
                  <a:pt x="220" y="83"/>
                </a:lnTo>
                <a:lnTo>
                  <a:pt x="221" y="95"/>
                </a:lnTo>
                <a:lnTo>
                  <a:pt x="221" y="106"/>
                </a:lnTo>
                <a:lnTo>
                  <a:pt x="221" y="107"/>
                </a:lnTo>
                <a:lnTo>
                  <a:pt x="221" y="108"/>
                </a:lnTo>
                <a:lnTo>
                  <a:pt x="221" y="110"/>
                </a:lnTo>
                <a:lnTo>
                  <a:pt x="221" y="111"/>
                </a:lnTo>
                <a:lnTo>
                  <a:pt x="221" y="112"/>
                </a:lnTo>
                <a:lnTo>
                  <a:pt x="221" y="113"/>
                </a:lnTo>
                <a:lnTo>
                  <a:pt x="221" y="115"/>
                </a:lnTo>
                <a:lnTo>
                  <a:pt x="221" y="115"/>
                </a:lnTo>
                <a:lnTo>
                  <a:pt x="221" y="116"/>
                </a:lnTo>
                <a:lnTo>
                  <a:pt x="221" y="117"/>
                </a:lnTo>
                <a:lnTo>
                  <a:pt x="221" y="117"/>
                </a:lnTo>
                <a:lnTo>
                  <a:pt x="221" y="118"/>
                </a:lnTo>
                <a:lnTo>
                  <a:pt x="221" y="118"/>
                </a:lnTo>
                <a:lnTo>
                  <a:pt x="221" y="120"/>
                </a:lnTo>
                <a:lnTo>
                  <a:pt x="221" y="120"/>
                </a:lnTo>
                <a:lnTo>
                  <a:pt x="221" y="121"/>
                </a:lnTo>
                <a:lnTo>
                  <a:pt x="188" y="121"/>
                </a:lnTo>
                <a:lnTo>
                  <a:pt x="188" y="120"/>
                </a:lnTo>
                <a:lnTo>
                  <a:pt x="188" y="120"/>
                </a:lnTo>
                <a:lnTo>
                  <a:pt x="188" y="120"/>
                </a:lnTo>
                <a:lnTo>
                  <a:pt x="188" y="118"/>
                </a:lnTo>
                <a:lnTo>
                  <a:pt x="188" y="117"/>
                </a:lnTo>
                <a:lnTo>
                  <a:pt x="188" y="117"/>
                </a:lnTo>
                <a:lnTo>
                  <a:pt x="188" y="116"/>
                </a:lnTo>
                <a:lnTo>
                  <a:pt x="188" y="116"/>
                </a:lnTo>
                <a:lnTo>
                  <a:pt x="188" y="115"/>
                </a:lnTo>
                <a:lnTo>
                  <a:pt x="188" y="113"/>
                </a:lnTo>
                <a:lnTo>
                  <a:pt x="188" y="113"/>
                </a:lnTo>
                <a:lnTo>
                  <a:pt x="188" y="112"/>
                </a:lnTo>
                <a:lnTo>
                  <a:pt x="188" y="112"/>
                </a:lnTo>
                <a:lnTo>
                  <a:pt x="188" y="111"/>
                </a:lnTo>
                <a:lnTo>
                  <a:pt x="188" y="111"/>
                </a:lnTo>
                <a:lnTo>
                  <a:pt x="188" y="111"/>
                </a:lnTo>
                <a:lnTo>
                  <a:pt x="188" y="102"/>
                </a:lnTo>
                <a:lnTo>
                  <a:pt x="187" y="93"/>
                </a:lnTo>
                <a:lnTo>
                  <a:pt x="186" y="86"/>
                </a:lnTo>
                <a:lnTo>
                  <a:pt x="185" y="78"/>
                </a:lnTo>
                <a:lnTo>
                  <a:pt x="183" y="72"/>
                </a:lnTo>
                <a:lnTo>
                  <a:pt x="180" y="66"/>
                </a:lnTo>
                <a:lnTo>
                  <a:pt x="177" y="61"/>
                </a:lnTo>
                <a:lnTo>
                  <a:pt x="174" y="56"/>
                </a:lnTo>
                <a:lnTo>
                  <a:pt x="170" y="51"/>
                </a:lnTo>
                <a:lnTo>
                  <a:pt x="166" y="47"/>
                </a:lnTo>
                <a:lnTo>
                  <a:pt x="162" y="45"/>
                </a:lnTo>
                <a:lnTo>
                  <a:pt x="157" y="42"/>
                </a:lnTo>
                <a:lnTo>
                  <a:pt x="151" y="40"/>
                </a:lnTo>
                <a:lnTo>
                  <a:pt x="145" y="38"/>
                </a:lnTo>
                <a:lnTo>
                  <a:pt x="139" y="37"/>
                </a:lnTo>
                <a:lnTo>
                  <a:pt x="132" y="37"/>
                </a:lnTo>
                <a:lnTo>
                  <a:pt x="126" y="37"/>
                </a:lnTo>
                <a:lnTo>
                  <a:pt x="120" y="38"/>
                </a:lnTo>
                <a:lnTo>
                  <a:pt x="114" y="40"/>
                </a:lnTo>
                <a:lnTo>
                  <a:pt x="108" y="42"/>
                </a:lnTo>
                <a:lnTo>
                  <a:pt x="103" y="45"/>
                </a:lnTo>
                <a:lnTo>
                  <a:pt x="98" y="48"/>
                </a:lnTo>
                <a:lnTo>
                  <a:pt x="93" y="52"/>
                </a:lnTo>
                <a:lnTo>
                  <a:pt x="89" y="57"/>
                </a:lnTo>
                <a:lnTo>
                  <a:pt x="85" y="62"/>
                </a:lnTo>
                <a:lnTo>
                  <a:pt x="81" y="68"/>
                </a:lnTo>
                <a:lnTo>
                  <a:pt x="77" y="73"/>
                </a:lnTo>
                <a:lnTo>
                  <a:pt x="75" y="80"/>
                </a:lnTo>
                <a:lnTo>
                  <a:pt x="73" y="87"/>
                </a:lnTo>
                <a:lnTo>
                  <a:pt x="72" y="93"/>
                </a:lnTo>
                <a:lnTo>
                  <a:pt x="71" y="101"/>
                </a:lnTo>
                <a:lnTo>
                  <a:pt x="71" y="108"/>
                </a:lnTo>
                <a:lnTo>
                  <a:pt x="71" y="118"/>
                </a:lnTo>
                <a:lnTo>
                  <a:pt x="74" y="128"/>
                </a:lnTo>
                <a:lnTo>
                  <a:pt x="80" y="140"/>
                </a:lnTo>
                <a:lnTo>
                  <a:pt x="87" y="150"/>
                </a:lnTo>
                <a:lnTo>
                  <a:pt x="95" y="161"/>
                </a:lnTo>
                <a:lnTo>
                  <a:pt x="105" y="171"/>
                </a:lnTo>
                <a:lnTo>
                  <a:pt x="118" y="181"/>
                </a:lnTo>
                <a:lnTo>
                  <a:pt x="132" y="192"/>
                </a:lnTo>
                <a:lnTo>
                  <a:pt x="134" y="193"/>
                </a:lnTo>
                <a:lnTo>
                  <a:pt x="137" y="196"/>
                </a:lnTo>
                <a:lnTo>
                  <a:pt x="139" y="197"/>
                </a:lnTo>
                <a:lnTo>
                  <a:pt x="142" y="199"/>
                </a:lnTo>
                <a:lnTo>
                  <a:pt x="144" y="201"/>
                </a:lnTo>
                <a:lnTo>
                  <a:pt x="146" y="202"/>
                </a:lnTo>
                <a:lnTo>
                  <a:pt x="147" y="203"/>
                </a:lnTo>
                <a:lnTo>
                  <a:pt x="149" y="204"/>
                </a:lnTo>
                <a:lnTo>
                  <a:pt x="156" y="209"/>
                </a:lnTo>
                <a:lnTo>
                  <a:pt x="163" y="214"/>
                </a:lnTo>
                <a:lnTo>
                  <a:pt x="168" y="219"/>
                </a:lnTo>
                <a:lnTo>
                  <a:pt x="174" y="226"/>
                </a:lnTo>
                <a:lnTo>
                  <a:pt x="179" y="231"/>
                </a:lnTo>
                <a:lnTo>
                  <a:pt x="183" y="237"/>
                </a:lnTo>
                <a:lnTo>
                  <a:pt x="187" y="244"/>
                </a:lnTo>
                <a:lnTo>
                  <a:pt x="191" y="251"/>
                </a:lnTo>
                <a:lnTo>
                  <a:pt x="194" y="257"/>
                </a:lnTo>
                <a:lnTo>
                  <a:pt x="197" y="264"/>
                </a:lnTo>
                <a:lnTo>
                  <a:pt x="199" y="272"/>
                </a:lnTo>
                <a:lnTo>
                  <a:pt x="201" y="279"/>
                </a:lnTo>
                <a:lnTo>
                  <a:pt x="203" y="287"/>
                </a:lnTo>
                <a:lnTo>
                  <a:pt x="204" y="294"/>
                </a:lnTo>
                <a:lnTo>
                  <a:pt x="205" y="303"/>
                </a:lnTo>
                <a:lnTo>
                  <a:pt x="205" y="312"/>
                </a:lnTo>
                <a:lnTo>
                  <a:pt x="204" y="324"/>
                </a:lnTo>
                <a:lnTo>
                  <a:pt x="203" y="337"/>
                </a:lnTo>
                <a:lnTo>
                  <a:pt x="200" y="348"/>
                </a:lnTo>
                <a:lnTo>
                  <a:pt x="197" y="359"/>
                </a:lnTo>
                <a:lnTo>
                  <a:pt x="193" y="370"/>
                </a:lnTo>
                <a:lnTo>
                  <a:pt x="187" y="380"/>
                </a:lnTo>
                <a:lnTo>
                  <a:pt x="181" y="390"/>
                </a:lnTo>
                <a:lnTo>
                  <a:pt x="174" y="400"/>
                </a:lnTo>
                <a:lnTo>
                  <a:pt x="166" y="409"/>
                </a:lnTo>
                <a:lnTo>
                  <a:pt x="157" y="417"/>
                </a:lnTo>
                <a:lnTo>
                  <a:pt x="147" y="423"/>
                </a:lnTo>
                <a:lnTo>
                  <a:pt x="138" y="428"/>
                </a:lnTo>
                <a:lnTo>
                  <a:pt x="129" y="432"/>
                </a:lnTo>
                <a:lnTo>
                  <a:pt x="118" y="434"/>
                </a:lnTo>
                <a:lnTo>
                  <a:pt x="108" y="437"/>
                </a:lnTo>
                <a:lnTo>
                  <a:pt x="97" y="437"/>
                </a:lnTo>
                <a:lnTo>
                  <a:pt x="87" y="437"/>
                </a:lnTo>
                <a:lnTo>
                  <a:pt x="76" y="435"/>
                </a:lnTo>
                <a:lnTo>
                  <a:pt x="66" y="433"/>
                </a:lnTo>
                <a:lnTo>
                  <a:pt x="57" y="429"/>
                </a:lnTo>
                <a:lnTo>
                  <a:pt x="49" y="424"/>
                </a:lnTo>
                <a:lnTo>
                  <a:pt x="41" y="419"/>
                </a:lnTo>
                <a:lnTo>
                  <a:pt x="34" y="413"/>
                </a:lnTo>
                <a:lnTo>
                  <a:pt x="27" y="405"/>
                </a:lnTo>
                <a:lnTo>
                  <a:pt x="21" y="398"/>
                </a:lnTo>
                <a:lnTo>
                  <a:pt x="16" y="388"/>
                </a:lnTo>
                <a:lnTo>
                  <a:pt x="11" y="379"/>
                </a:lnTo>
                <a:lnTo>
                  <a:pt x="8" y="369"/>
                </a:lnTo>
                <a:lnTo>
                  <a:pt x="4" y="358"/>
                </a:lnTo>
                <a:lnTo>
                  <a:pt x="2" y="347"/>
                </a:lnTo>
                <a:lnTo>
                  <a:pt x="1" y="334"/>
                </a:lnTo>
                <a:lnTo>
                  <a:pt x="0" y="322"/>
                </a:lnTo>
                <a:lnTo>
                  <a:pt x="0" y="320"/>
                </a:lnTo>
                <a:lnTo>
                  <a:pt x="0" y="319"/>
                </a:lnTo>
                <a:lnTo>
                  <a:pt x="0" y="318"/>
                </a:lnTo>
                <a:lnTo>
                  <a:pt x="0" y="317"/>
                </a:lnTo>
                <a:lnTo>
                  <a:pt x="0" y="315"/>
                </a:lnTo>
                <a:lnTo>
                  <a:pt x="0" y="314"/>
                </a:lnTo>
                <a:lnTo>
                  <a:pt x="0" y="314"/>
                </a:lnTo>
                <a:lnTo>
                  <a:pt x="0" y="313"/>
                </a:lnTo>
                <a:lnTo>
                  <a:pt x="0" y="313"/>
                </a:lnTo>
                <a:lnTo>
                  <a:pt x="0" y="312"/>
                </a:lnTo>
                <a:lnTo>
                  <a:pt x="0" y="312"/>
                </a:lnTo>
                <a:lnTo>
                  <a:pt x="1" y="310"/>
                </a:lnTo>
                <a:lnTo>
                  <a:pt x="1" y="310"/>
                </a:lnTo>
                <a:lnTo>
                  <a:pt x="1" y="309"/>
                </a:lnTo>
                <a:lnTo>
                  <a:pt x="1" y="309"/>
                </a:lnTo>
                <a:lnTo>
                  <a:pt x="1" y="30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05400" y="5511960"/>
            <a:ext cx="117720" cy="172800"/>
          </a:xfrm>
          <a:custGeom>
            <a:avLst/>
            <a:gdLst/>
            <a:ahLst/>
            <a:rect l="l" t="t" r="r" b="b"/>
            <a:pathLst>
              <a:path w="221" h="437">
                <a:moveTo>
                  <a:pt x="0" y="308"/>
                </a:moveTo>
                <a:lnTo>
                  <a:pt x="33" y="308"/>
                </a:lnTo>
                <a:lnTo>
                  <a:pt x="33" y="309"/>
                </a:lnTo>
                <a:lnTo>
                  <a:pt x="33" y="309"/>
                </a:lnTo>
                <a:lnTo>
                  <a:pt x="33" y="309"/>
                </a:lnTo>
                <a:lnTo>
                  <a:pt x="33" y="310"/>
                </a:lnTo>
                <a:lnTo>
                  <a:pt x="33" y="310"/>
                </a:lnTo>
                <a:lnTo>
                  <a:pt x="33" y="312"/>
                </a:lnTo>
                <a:lnTo>
                  <a:pt x="33" y="312"/>
                </a:lnTo>
                <a:lnTo>
                  <a:pt x="33" y="312"/>
                </a:lnTo>
                <a:lnTo>
                  <a:pt x="33" y="313"/>
                </a:lnTo>
                <a:lnTo>
                  <a:pt x="33" y="313"/>
                </a:lnTo>
                <a:lnTo>
                  <a:pt x="33" y="314"/>
                </a:lnTo>
                <a:lnTo>
                  <a:pt x="33" y="315"/>
                </a:lnTo>
                <a:lnTo>
                  <a:pt x="33" y="315"/>
                </a:lnTo>
                <a:lnTo>
                  <a:pt x="33" y="317"/>
                </a:lnTo>
                <a:lnTo>
                  <a:pt x="33" y="318"/>
                </a:lnTo>
                <a:lnTo>
                  <a:pt x="33" y="319"/>
                </a:lnTo>
                <a:lnTo>
                  <a:pt x="33" y="328"/>
                </a:lnTo>
                <a:lnTo>
                  <a:pt x="34" y="335"/>
                </a:lnTo>
                <a:lnTo>
                  <a:pt x="35" y="344"/>
                </a:lnTo>
                <a:lnTo>
                  <a:pt x="37" y="352"/>
                </a:lnTo>
                <a:lnTo>
                  <a:pt x="40" y="358"/>
                </a:lnTo>
                <a:lnTo>
                  <a:pt x="43" y="364"/>
                </a:lnTo>
                <a:lnTo>
                  <a:pt x="46" y="370"/>
                </a:lnTo>
                <a:lnTo>
                  <a:pt x="50" y="377"/>
                </a:lnTo>
                <a:lnTo>
                  <a:pt x="55" y="382"/>
                </a:lnTo>
                <a:lnTo>
                  <a:pt x="60" y="385"/>
                </a:lnTo>
                <a:lnTo>
                  <a:pt x="66" y="389"/>
                </a:lnTo>
                <a:lnTo>
                  <a:pt x="72" y="393"/>
                </a:lnTo>
                <a:lnTo>
                  <a:pt x="78" y="395"/>
                </a:lnTo>
                <a:lnTo>
                  <a:pt x="84" y="397"/>
                </a:lnTo>
                <a:lnTo>
                  <a:pt x="91" y="398"/>
                </a:lnTo>
                <a:lnTo>
                  <a:pt x="98" y="398"/>
                </a:lnTo>
                <a:lnTo>
                  <a:pt x="105" y="398"/>
                </a:lnTo>
                <a:lnTo>
                  <a:pt x="112" y="397"/>
                </a:lnTo>
                <a:lnTo>
                  <a:pt x="119" y="394"/>
                </a:lnTo>
                <a:lnTo>
                  <a:pt x="125" y="392"/>
                </a:lnTo>
                <a:lnTo>
                  <a:pt x="131" y="388"/>
                </a:lnTo>
                <a:lnTo>
                  <a:pt x="136" y="384"/>
                </a:lnTo>
                <a:lnTo>
                  <a:pt x="143" y="379"/>
                </a:lnTo>
                <a:lnTo>
                  <a:pt x="148" y="374"/>
                </a:lnTo>
                <a:lnTo>
                  <a:pt x="152" y="368"/>
                </a:lnTo>
                <a:lnTo>
                  <a:pt x="156" y="360"/>
                </a:lnTo>
                <a:lnTo>
                  <a:pt x="160" y="354"/>
                </a:lnTo>
                <a:lnTo>
                  <a:pt x="162" y="347"/>
                </a:lnTo>
                <a:lnTo>
                  <a:pt x="165" y="339"/>
                </a:lnTo>
                <a:lnTo>
                  <a:pt x="166" y="332"/>
                </a:lnTo>
                <a:lnTo>
                  <a:pt x="167" y="323"/>
                </a:lnTo>
                <a:lnTo>
                  <a:pt x="167" y="314"/>
                </a:lnTo>
                <a:lnTo>
                  <a:pt x="167" y="308"/>
                </a:lnTo>
                <a:lnTo>
                  <a:pt x="167" y="302"/>
                </a:lnTo>
                <a:lnTo>
                  <a:pt x="166" y="297"/>
                </a:lnTo>
                <a:lnTo>
                  <a:pt x="165" y="291"/>
                </a:lnTo>
                <a:lnTo>
                  <a:pt x="163" y="286"/>
                </a:lnTo>
                <a:lnTo>
                  <a:pt x="162" y="281"/>
                </a:lnTo>
                <a:lnTo>
                  <a:pt x="160" y="276"/>
                </a:lnTo>
                <a:lnTo>
                  <a:pt x="157" y="272"/>
                </a:lnTo>
                <a:lnTo>
                  <a:pt x="155" y="267"/>
                </a:lnTo>
                <a:lnTo>
                  <a:pt x="151" y="262"/>
                </a:lnTo>
                <a:lnTo>
                  <a:pt x="147" y="258"/>
                </a:lnTo>
                <a:lnTo>
                  <a:pt x="143" y="253"/>
                </a:lnTo>
                <a:lnTo>
                  <a:pt x="136" y="248"/>
                </a:lnTo>
                <a:lnTo>
                  <a:pt x="131" y="243"/>
                </a:lnTo>
                <a:lnTo>
                  <a:pt x="124" y="237"/>
                </a:lnTo>
                <a:lnTo>
                  <a:pt x="117" y="232"/>
                </a:lnTo>
                <a:lnTo>
                  <a:pt x="116" y="231"/>
                </a:lnTo>
                <a:lnTo>
                  <a:pt x="115" y="229"/>
                </a:lnTo>
                <a:lnTo>
                  <a:pt x="113" y="229"/>
                </a:lnTo>
                <a:lnTo>
                  <a:pt x="112" y="228"/>
                </a:lnTo>
                <a:lnTo>
                  <a:pt x="110" y="227"/>
                </a:lnTo>
                <a:lnTo>
                  <a:pt x="108" y="226"/>
                </a:lnTo>
                <a:lnTo>
                  <a:pt x="106" y="223"/>
                </a:lnTo>
                <a:lnTo>
                  <a:pt x="103" y="222"/>
                </a:lnTo>
                <a:lnTo>
                  <a:pt x="95" y="216"/>
                </a:lnTo>
                <a:lnTo>
                  <a:pt x="88" y="211"/>
                </a:lnTo>
                <a:lnTo>
                  <a:pt x="81" y="204"/>
                </a:lnTo>
                <a:lnTo>
                  <a:pt x="74" y="199"/>
                </a:lnTo>
                <a:lnTo>
                  <a:pt x="68" y="193"/>
                </a:lnTo>
                <a:lnTo>
                  <a:pt x="62" y="188"/>
                </a:lnTo>
                <a:lnTo>
                  <a:pt x="57" y="183"/>
                </a:lnTo>
                <a:lnTo>
                  <a:pt x="53" y="178"/>
                </a:lnTo>
                <a:lnTo>
                  <a:pt x="51" y="174"/>
                </a:lnTo>
                <a:lnTo>
                  <a:pt x="49" y="171"/>
                </a:lnTo>
                <a:lnTo>
                  <a:pt x="47" y="168"/>
                </a:lnTo>
                <a:lnTo>
                  <a:pt x="45" y="164"/>
                </a:lnTo>
                <a:lnTo>
                  <a:pt x="43" y="161"/>
                </a:lnTo>
                <a:lnTo>
                  <a:pt x="42" y="157"/>
                </a:lnTo>
                <a:lnTo>
                  <a:pt x="40" y="153"/>
                </a:lnTo>
                <a:lnTo>
                  <a:pt x="39" y="150"/>
                </a:lnTo>
                <a:lnTo>
                  <a:pt x="38" y="145"/>
                </a:lnTo>
                <a:lnTo>
                  <a:pt x="37" y="141"/>
                </a:lnTo>
                <a:lnTo>
                  <a:pt x="36" y="137"/>
                </a:lnTo>
                <a:lnTo>
                  <a:pt x="36" y="132"/>
                </a:lnTo>
                <a:lnTo>
                  <a:pt x="35" y="128"/>
                </a:lnTo>
                <a:lnTo>
                  <a:pt x="35" y="125"/>
                </a:lnTo>
                <a:lnTo>
                  <a:pt x="34" y="120"/>
                </a:lnTo>
                <a:lnTo>
                  <a:pt x="34" y="116"/>
                </a:lnTo>
                <a:lnTo>
                  <a:pt x="35" y="103"/>
                </a:lnTo>
                <a:lnTo>
                  <a:pt x="36" y="92"/>
                </a:lnTo>
                <a:lnTo>
                  <a:pt x="38" y="81"/>
                </a:lnTo>
                <a:lnTo>
                  <a:pt x="41" y="71"/>
                </a:lnTo>
                <a:lnTo>
                  <a:pt x="45" y="61"/>
                </a:lnTo>
                <a:lnTo>
                  <a:pt x="50" y="51"/>
                </a:lnTo>
                <a:lnTo>
                  <a:pt x="56" y="42"/>
                </a:lnTo>
                <a:lnTo>
                  <a:pt x="63" y="33"/>
                </a:lnTo>
                <a:lnTo>
                  <a:pt x="71" y="26"/>
                </a:lnTo>
                <a:lnTo>
                  <a:pt x="79" y="19"/>
                </a:lnTo>
                <a:lnTo>
                  <a:pt x="87" y="12"/>
                </a:lnTo>
                <a:lnTo>
                  <a:pt x="95" y="9"/>
                </a:lnTo>
                <a:lnTo>
                  <a:pt x="104" y="5"/>
                </a:lnTo>
                <a:lnTo>
                  <a:pt x="113" y="2"/>
                </a:lnTo>
                <a:lnTo>
                  <a:pt x="123" y="0"/>
                </a:lnTo>
                <a:lnTo>
                  <a:pt x="132" y="0"/>
                </a:lnTo>
                <a:lnTo>
                  <a:pt x="143" y="0"/>
                </a:lnTo>
                <a:lnTo>
                  <a:pt x="152" y="1"/>
                </a:lnTo>
                <a:lnTo>
                  <a:pt x="160" y="4"/>
                </a:lnTo>
                <a:lnTo>
                  <a:pt x="169" y="7"/>
                </a:lnTo>
                <a:lnTo>
                  <a:pt x="176" y="11"/>
                </a:lnTo>
                <a:lnTo>
                  <a:pt x="183" y="16"/>
                </a:lnTo>
                <a:lnTo>
                  <a:pt x="190" y="22"/>
                </a:lnTo>
                <a:lnTo>
                  <a:pt x="196" y="28"/>
                </a:lnTo>
                <a:lnTo>
                  <a:pt x="202" y="36"/>
                </a:lnTo>
                <a:lnTo>
                  <a:pt x="207" y="45"/>
                </a:lnTo>
                <a:lnTo>
                  <a:pt x="212" y="53"/>
                </a:lnTo>
                <a:lnTo>
                  <a:pt x="215" y="62"/>
                </a:lnTo>
                <a:lnTo>
                  <a:pt x="218" y="72"/>
                </a:lnTo>
                <a:lnTo>
                  <a:pt x="219" y="83"/>
                </a:lnTo>
                <a:lnTo>
                  <a:pt x="220" y="95"/>
                </a:lnTo>
                <a:lnTo>
                  <a:pt x="221" y="106"/>
                </a:lnTo>
                <a:lnTo>
                  <a:pt x="221" y="107"/>
                </a:lnTo>
                <a:lnTo>
                  <a:pt x="221" y="108"/>
                </a:lnTo>
                <a:lnTo>
                  <a:pt x="221" y="110"/>
                </a:lnTo>
                <a:lnTo>
                  <a:pt x="221" y="111"/>
                </a:lnTo>
                <a:lnTo>
                  <a:pt x="221" y="112"/>
                </a:lnTo>
                <a:lnTo>
                  <a:pt x="221" y="113"/>
                </a:lnTo>
                <a:lnTo>
                  <a:pt x="221" y="115"/>
                </a:lnTo>
                <a:lnTo>
                  <a:pt x="221" y="115"/>
                </a:lnTo>
                <a:lnTo>
                  <a:pt x="221" y="116"/>
                </a:lnTo>
                <a:lnTo>
                  <a:pt x="221" y="117"/>
                </a:lnTo>
                <a:lnTo>
                  <a:pt x="221" y="117"/>
                </a:lnTo>
                <a:lnTo>
                  <a:pt x="221" y="118"/>
                </a:lnTo>
                <a:lnTo>
                  <a:pt x="221" y="118"/>
                </a:lnTo>
                <a:lnTo>
                  <a:pt x="221" y="120"/>
                </a:lnTo>
                <a:lnTo>
                  <a:pt x="220" y="120"/>
                </a:lnTo>
                <a:lnTo>
                  <a:pt x="220" y="121"/>
                </a:lnTo>
                <a:lnTo>
                  <a:pt x="186" y="121"/>
                </a:lnTo>
                <a:lnTo>
                  <a:pt x="186" y="120"/>
                </a:lnTo>
                <a:lnTo>
                  <a:pt x="186" y="120"/>
                </a:lnTo>
                <a:lnTo>
                  <a:pt x="186" y="120"/>
                </a:lnTo>
                <a:lnTo>
                  <a:pt x="186" y="118"/>
                </a:lnTo>
                <a:lnTo>
                  <a:pt x="186" y="117"/>
                </a:lnTo>
                <a:lnTo>
                  <a:pt x="186" y="117"/>
                </a:lnTo>
                <a:lnTo>
                  <a:pt x="186" y="116"/>
                </a:lnTo>
                <a:lnTo>
                  <a:pt x="186" y="116"/>
                </a:lnTo>
                <a:lnTo>
                  <a:pt x="187" y="115"/>
                </a:lnTo>
                <a:lnTo>
                  <a:pt x="187" y="113"/>
                </a:lnTo>
                <a:lnTo>
                  <a:pt x="187" y="113"/>
                </a:lnTo>
                <a:lnTo>
                  <a:pt x="187" y="112"/>
                </a:lnTo>
                <a:lnTo>
                  <a:pt x="187" y="112"/>
                </a:lnTo>
                <a:lnTo>
                  <a:pt x="187" y="111"/>
                </a:lnTo>
                <a:lnTo>
                  <a:pt x="187" y="111"/>
                </a:lnTo>
                <a:lnTo>
                  <a:pt x="187" y="111"/>
                </a:lnTo>
                <a:lnTo>
                  <a:pt x="186" y="102"/>
                </a:lnTo>
                <a:lnTo>
                  <a:pt x="186" y="93"/>
                </a:lnTo>
                <a:lnTo>
                  <a:pt x="185" y="86"/>
                </a:lnTo>
                <a:lnTo>
                  <a:pt x="183" y="78"/>
                </a:lnTo>
                <a:lnTo>
                  <a:pt x="181" y="72"/>
                </a:lnTo>
                <a:lnTo>
                  <a:pt x="179" y="66"/>
                </a:lnTo>
                <a:lnTo>
                  <a:pt x="176" y="61"/>
                </a:lnTo>
                <a:lnTo>
                  <a:pt x="172" y="56"/>
                </a:lnTo>
                <a:lnTo>
                  <a:pt x="169" y="51"/>
                </a:lnTo>
                <a:lnTo>
                  <a:pt x="165" y="47"/>
                </a:lnTo>
                <a:lnTo>
                  <a:pt x="160" y="45"/>
                </a:lnTo>
                <a:lnTo>
                  <a:pt x="155" y="42"/>
                </a:lnTo>
                <a:lnTo>
                  <a:pt x="150" y="40"/>
                </a:lnTo>
                <a:lnTo>
                  <a:pt x="144" y="38"/>
                </a:lnTo>
                <a:lnTo>
                  <a:pt x="138" y="37"/>
                </a:lnTo>
                <a:lnTo>
                  <a:pt x="131" y="37"/>
                </a:lnTo>
                <a:lnTo>
                  <a:pt x="124" y="37"/>
                </a:lnTo>
                <a:lnTo>
                  <a:pt x="118" y="38"/>
                </a:lnTo>
                <a:lnTo>
                  <a:pt x="112" y="40"/>
                </a:lnTo>
                <a:lnTo>
                  <a:pt x="107" y="42"/>
                </a:lnTo>
                <a:lnTo>
                  <a:pt x="101" y="45"/>
                </a:lnTo>
                <a:lnTo>
                  <a:pt x="96" y="48"/>
                </a:lnTo>
                <a:lnTo>
                  <a:pt x="92" y="52"/>
                </a:lnTo>
                <a:lnTo>
                  <a:pt x="87" y="57"/>
                </a:lnTo>
                <a:lnTo>
                  <a:pt x="83" y="62"/>
                </a:lnTo>
                <a:lnTo>
                  <a:pt x="80" y="68"/>
                </a:lnTo>
                <a:lnTo>
                  <a:pt x="77" y="73"/>
                </a:lnTo>
                <a:lnTo>
                  <a:pt x="74" y="80"/>
                </a:lnTo>
                <a:lnTo>
                  <a:pt x="72" y="87"/>
                </a:lnTo>
                <a:lnTo>
                  <a:pt x="71" y="93"/>
                </a:lnTo>
                <a:lnTo>
                  <a:pt x="70" y="101"/>
                </a:lnTo>
                <a:lnTo>
                  <a:pt x="70" y="108"/>
                </a:lnTo>
                <a:lnTo>
                  <a:pt x="71" y="118"/>
                </a:lnTo>
                <a:lnTo>
                  <a:pt x="74" y="128"/>
                </a:lnTo>
                <a:lnTo>
                  <a:pt x="78" y="140"/>
                </a:lnTo>
                <a:lnTo>
                  <a:pt x="85" y="150"/>
                </a:lnTo>
                <a:lnTo>
                  <a:pt x="93" y="161"/>
                </a:lnTo>
                <a:lnTo>
                  <a:pt x="104" y="171"/>
                </a:lnTo>
                <a:lnTo>
                  <a:pt x="116" y="181"/>
                </a:lnTo>
                <a:lnTo>
                  <a:pt x="130" y="192"/>
                </a:lnTo>
                <a:lnTo>
                  <a:pt x="133" y="193"/>
                </a:lnTo>
                <a:lnTo>
                  <a:pt x="135" y="196"/>
                </a:lnTo>
                <a:lnTo>
                  <a:pt x="139" y="197"/>
                </a:lnTo>
                <a:lnTo>
                  <a:pt x="141" y="199"/>
                </a:lnTo>
                <a:lnTo>
                  <a:pt x="143" y="201"/>
                </a:lnTo>
                <a:lnTo>
                  <a:pt x="145" y="202"/>
                </a:lnTo>
                <a:lnTo>
                  <a:pt x="147" y="203"/>
                </a:lnTo>
                <a:lnTo>
                  <a:pt x="148" y="204"/>
                </a:lnTo>
                <a:lnTo>
                  <a:pt x="155" y="209"/>
                </a:lnTo>
                <a:lnTo>
                  <a:pt x="161" y="214"/>
                </a:lnTo>
                <a:lnTo>
                  <a:pt x="167" y="219"/>
                </a:lnTo>
                <a:lnTo>
                  <a:pt x="172" y="226"/>
                </a:lnTo>
                <a:lnTo>
                  <a:pt x="177" y="231"/>
                </a:lnTo>
                <a:lnTo>
                  <a:pt x="181" y="237"/>
                </a:lnTo>
                <a:lnTo>
                  <a:pt x="186" y="244"/>
                </a:lnTo>
                <a:lnTo>
                  <a:pt x="189" y="251"/>
                </a:lnTo>
                <a:lnTo>
                  <a:pt x="193" y="257"/>
                </a:lnTo>
                <a:lnTo>
                  <a:pt x="195" y="264"/>
                </a:lnTo>
                <a:lnTo>
                  <a:pt x="198" y="272"/>
                </a:lnTo>
                <a:lnTo>
                  <a:pt x="200" y="279"/>
                </a:lnTo>
                <a:lnTo>
                  <a:pt x="201" y="287"/>
                </a:lnTo>
                <a:lnTo>
                  <a:pt x="202" y="294"/>
                </a:lnTo>
                <a:lnTo>
                  <a:pt x="203" y="303"/>
                </a:lnTo>
                <a:lnTo>
                  <a:pt x="203" y="312"/>
                </a:lnTo>
                <a:lnTo>
                  <a:pt x="203" y="324"/>
                </a:lnTo>
                <a:lnTo>
                  <a:pt x="201" y="337"/>
                </a:lnTo>
                <a:lnTo>
                  <a:pt x="199" y="348"/>
                </a:lnTo>
                <a:lnTo>
                  <a:pt x="195" y="359"/>
                </a:lnTo>
                <a:lnTo>
                  <a:pt x="191" y="370"/>
                </a:lnTo>
                <a:lnTo>
                  <a:pt x="186" y="380"/>
                </a:lnTo>
                <a:lnTo>
                  <a:pt x="179" y="390"/>
                </a:lnTo>
                <a:lnTo>
                  <a:pt x="172" y="400"/>
                </a:lnTo>
                <a:lnTo>
                  <a:pt x="164" y="409"/>
                </a:lnTo>
                <a:lnTo>
                  <a:pt x="156" y="417"/>
                </a:lnTo>
                <a:lnTo>
                  <a:pt x="147" y="423"/>
                </a:lnTo>
                <a:lnTo>
                  <a:pt x="138" y="428"/>
                </a:lnTo>
                <a:lnTo>
                  <a:pt x="127" y="432"/>
                </a:lnTo>
                <a:lnTo>
                  <a:pt x="117" y="434"/>
                </a:lnTo>
                <a:lnTo>
                  <a:pt x="106" y="437"/>
                </a:lnTo>
                <a:lnTo>
                  <a:pt x="96" y="437"/>
                </a:lnTo>
                <a:lnTo>
                  <a:pt x="85" y="437"/>
                </a:lnTo>
                <a:lnTo>
                  <a:pt x="75" y="435"/>
                </a:lnTo>
                <a:lnTo>
                  <a:pt x="65" y="433"/>
                </a:lnTo>
                <a:lnTo>
                  <a:pt x="55" y="429"/>
                </a:lnTo>
                <a:lnTo>
                  <a:pt x="47" y="424"/>
                </a:lnTo>
                <a:lnTo>
                  <a:pt x="39" y="419"/>
                </a:lnTo>
                <a:lnTo>
                  <a:pt x="32" y="413"/>
                </a:lnTo>
                <a:lnTo>
                  <a:pt x="25" y="405"/>
                </a:lnTo>
                <a:lnTo>
                  <a:pt x="19" y="398"/>
                </a:lnTo>
                <a:lnTo>
                  <a:pt x="14" y="388"/>
                </a:lnTo>
                <a:lnTo>
                  <a:pt x="10" y="379"/>
                </a:lnTo>
                <a:lnTo>
                  <a:pt x="6" y="369"/>
                </a:lnTo>
                <a:lnTo>
                  <a:pt x="3" y="358"/>
                </a:lnTo>
                <a:lnTo>
                  <a:pt x="1" y="347"/>
                </a:lnTo>
                <a:lnTo>
                  <a:pt x="0" y="334"/>
                </a:lnTo>
                <a:lnTo>
                  <a:pt x="0" y="322"/>
                </a:lnTo>
                <a:lnTo>
                  <a:pt x="0" y="320"/>
                </a:lnTo>
                <a:lnTo>
                  <a:pt x="0" y="319"/>
                </a:lnTo>
                <a:lnTo>
                  <a:pt x="0" y="318"/>
                </a:lnTo>
                <a:lnTo>
                  <a:pt x="0" y="317"/>
                </a:lnTo>
                <a:lnTo>
                  <a:pt x="0" y="315"/>
                </a:lnTo>
                <a:lnTo>
                  <a:pt x="0" y="314"/>
                </a:lnTo>
                <a:lnTo>
                  <a:pt x="0" y="314"/>
                </a:lnTo>
                <a:lnTo>
                  <a:pt x="0" y="313"/>
                </a:lnTo>
                <a:lnTo>
                  <a:pt x="0" y="313"/>
                </a:lnTo>
                <a:lnTo>
                  <a:pt x="0" y="312"/>
                </a:lnTo>
                <a:lnTo>
                  <a:pt x="0" y="312"/>
                </a:lnTo>
                <a:lnTo>
                  <a:pt x="0" y="310"/>
                </a:lnTo>
                <a:lnTo>
                  <a:pt x="0" y="310"/>
                </a:lnTo>
                <a:lnTo>
                  <a:pt x="0" y="309"/>
                </a:lnTo>
                <a:lnTo>
                  <a:pt x="0" y="309"/>
                </a:lnTo>
                <a:lnTo>
                  <a:pt x="0" y="30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38960" y="5654520"/>
            <a:ext cx="23760" cy="27000"/>
          </a:xfrm>
          <a:custGeom>
            <a:avLst/>
            <a:gdLst/>
            <a:ahLst/>
            <a:rect l="l" t="t" r="r" b="b"/>
            <a:pathLst>
              <a:path w="45" h="68">
                <a:moveTo>
                  <a:pt x="0" y="68"/>
                </a:moveTo>
                <a:lnTo>
                  <a:pt x="11" y="0"/>
                </a:lnTo>
                <a:lnTo>
                  <a:pt x="45" y="0"/>
                </a:lnTo>
                <a:lnTo>
                  <a:pt x="35" y="68"/>
                </a:lnTo>
                <a:lnTo>
                  <a:pt x="0" y="6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030560" y="4503600"/>
            <a:ext cx="600120" cy="458640"/>
            <a:chOff x="4030560" y="4503600"/>
            <a:chExt cx="600120" cy="458640"/>
          </a:xfrm>
        </p:grpSpPr>
        <p:sp>
          <p:nvSpPr>
            <p:cNvPr id="540" name=""/>
            <p:cNvSpPr/>
            <p:nvPr/>
          </p:nvSpPr>
          <p:spPr>
            <a:xfrm>
              <a:off x="4056120" y="4698720"/>
              <a:ext cx="79200" cy="210960"/>
            </a:xfrm>
            <a:custGeom>
              <a:avLst/>
              <a:gdLst/>
              <a:ahLst/>
              <a:rect l="l" t="t" r="r" b="b"/>
              <a:pathLst>
                <a:path w="151" h="532">
                  <a:moveTo>
                    <a:pt x="151" y="532"/>
                  </a:moveTo>
                  <a:lnTo>
                    <a:pt x="135" y="530"/>
                  </a:lnTo>
                  <a:lnTo>
                    <a:pt x="121" y="529"/>
                  </a:lnTo>
                  <a:lnTo>
                    <a:pt x="105" y="520"/>
                  </a:lnTo>
                  <a:lnTo>
                    <a:pt x="91" y="511"/>
                  </a:lnTo>
                  <a:lnTo>
                    <a:pt x="68" y="486"/>
                  </a:lnTo>
                  <a:lnTo>
                    <a:pt x="43" y="455"/>
                  </a:lnTo>
                  <a:lnTo>
                    <a:pt x="25" y="415"/>
                  </a:lnTo>
                  <a:lnTo>
                    <a:pt x="12" y="368"/>
                  </a:lnTo>
                  <a:lnTo>
                    <a:pt x="4" y="319"/>
                  </a:lnTo>
                  <a:lnTo>
                    <a:pt x="0" y="265"/>
                  </a:lnTo>
                  <a:lnTo>
                    <a:pt x="4" y="212"/>
                  </a:lnTo>
                  <a:lnTo>
                    <a:pt x="12" y="162"/>
                  </a:lnTo>
                  <a:lnTo>
                    <a:pt x="25" y="116"/>
                  </a:lnTo>
                  <a:lnTo>
                    <a:pt x="43" y="78"/>
                  </a:lnTo>
                  <a:lnTo>
                    <a:pt x="68" y="44"/>
                  </a:lnTo>
                  <a:lnTo>
                    <a:pt x="91" y="19"/>
                  </a:lnTo>
                  <a:lnTo>
                    <a:pt x="105" y="12"/>
                  </a:lnTo>
                  <a:lnTo>
                    <a:pt x="121" y="5"/>
                  </a:lnTo>
                  <a:lnTo>
                    <a:pt x="135" y="2"/>
                  </a:lnTo>
                  <a:lnTo>
                    <a:pt x="151" y="0"/>
                  </a:lnTo>
                </a:path>
              </a:pathLst>
            </a:custGeom>
            <a:noFill/>
            <a:ln w="936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30560" y="4687560"/>
              <a:ext cx="111240" cy="236520"/>
            </a:xfrm>
            <a:custGeom>
              <a:avLst/>
              <a:gdLst/>
              <a:ahLst/>
              <a:rect l="l" t="t" r="r" b="b"/>
              <a:pathLst>
                <a:path w="209" h="594">
                  <a:moveTo>
                    <a:pt x="207" y="0"/>
                  </a:moveTo>
                  <a:lnTo>
                    <a:pt x="0" y="0"/>
                  </a:lnTo>
                  <a:lnTo>
                    <a:pt x="23" y="9"/>
                  </a:lnTo>
                  <a:lnTo>
                    <a:pt x="35" y="17"/>
                  </a:lnTo>
                  <a:lnTo>
                    <a:pt x="46" y="24"/>
                  </a:lnTo>
                  <a:lnTo>
                    <a:pt x="60" y="34"/>
                  </a:lnTo>
                  <a:lnTo>
                    <a:pt x="69" y="46"/>
                  </a:lnTo>
                  <a:lnTo>
                    <a:pt x="77" y="56"/>
                  </a:lnTo>
                  <a:lnTo>
                    <a:pt x="87" y="71"/>
                  </a:lnTo>
                  <a:lnTo>
                    <a:pt x="91" y="81"/>
                  </a:lnTo>
                  <a:lnTo>
                    <a:pt x="97" y="98"/>
                  </a:lnTo>
                  <a:lnTo>
                    <a:pt x="103" y="113"/>
                  </a:lnTo>
                  <a:lnTo>
                    <a:pt x="111" y="130"/>
                  </a:lnTo>
                  <a:lnTo>
                    <a:pt x="116" y="145"/>
                  </a:lnTo>
                  <a:lnTo>
                    <a:pt x="120" y="163"/>
                  </a:lnTo>
                  <a:lnTo>
                    <a:pt x="153" y="356"/>
                  </a:lnTo>
                  <a:lnTo>
                    <a:pt x="167" y="437"/>
                  </a:lnTo>
                  <a:lnTo>
                    <a:pt x="175" y="488"/>
                  </a:lnTo>
                  <a:lnTo>
                    <a:pt x="185" y="543"/>
                  </a:lnTo>
                  <a:lnTo>
                    <a:pt x="201" y="594"/>
                  </a:lnTo>
                  <a:lnTo>
                    <a:pt x="209" y="594"/>
                  </a:lnTo>
                  <a:lnTo>
                    <a:pt x="207" y="0"/>
                  </a:lnTo>
                </a:path>
              </a:pathLst>
            </a:custGeom>
            <a:noFill/>
            <a:ln w="936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2680" y="4700160"/>
              <a:ext cx="79200" cy="211320"/>
            </a:xfrm>
            <a:custGeom>
              <a:avLst/>
              <a:gdLst/>
              <a:ahLst/>
              <a:rect l="l" t="t" r="r" b="b"/>
              <a:pathLst>
                <a:path w="151" h="530">
                  <a:moveTo>
                    <a:pt x="0" y="0"/>
                  </a:moveTo>
                  <a:lnTo>
                    <a:pt x="16" y="2"/>
                  </a:lnTo>
                  <a:lnTo>
                    <a:pt x="29" y="5"/>
                  </a:lnTo>
                  <a:lnTo>
                    <a:pt x="45" y="12"/>
                  </a:lnTo>
                  <a:lnTo>
                    <a:pt x="60" y="19"/>
                  </a:lnTo>
                  <a:lnTo>
                    <a:pt x="85" y="44"/>
                  </a:lnTo>
                  <a:lnTo>
                    <a:pt x="107" y="78"/>
                  </a:lnTo>
                  <a:lnTo>
                    <a:pt x="126" y="116"/>
                  </a:lnTo>
                  <a:lnTo>
                    <a:pt x="139" y="162"/>
                  </a:lnTo>
                  <a:lnTo>
                    <a:pt x="147" y="210"/>
                  </a:lnTo>
                  <a:lnTo>
                    <a:pt x="151" y="265"/>
                  </a:lnTo>
                  <a:lnTo>
                    <a:pt x="147" y="319"/>
                  </a:lnTo>
                  <a:lnTo>
                    <a:pt x="139" y="368"/>
                  </a:lnTo>
                  <a:lnTo>
                    <a:pt x="126" y="415"/>
                  </a:lnTo>
                  <a:lnTo>
                    <a:pt x="107" y="454"/>
                  </a:lnTo>
                  <a:lnTo>
                    <a:pt x="85" y="486"/>
                  </a:lnTo>
                  <a:lnTo>
                    <a:pt x="60" y="511"/>
                  </a:lnTo>
                  <a:lnTo>
                    <a:pt x="45" y="519"/>
                  </a:lnTo>
                  <a:lnTo>
                    <a:pt x="29" y="525"/>
                  </a:lnTo>
                  <a:lnTo>
                    <a:pt x="16" y="527"/>
                  </a:lnTo>
                  <a:lnTo>
                    <a:pt x="0" y="530"/>
                  </a:lnTo>
                </a:path>
              </a:pathLst>
            </a:custGeom>
            <a:noFill/>
            <a:ln w="936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18000" y="4689360"/>
              <a:ext cx="112680" cy="234720"/>
            </a:xfrm>
            <a:custGeom>
              <a:avLst/>
              <a:gdLst/>
              <a:ahLst/>
              <a:rect l="l" t="t" r="r" b="b"/>
              <a:pathLst>
                <a:path w="211" h="593">
                  <a:moveTo>
                    <a:pt x="2" y="0"/>
                  </a:moveTo>
                  <a:lnTo>
                    <a:pt x="211" y="0"/>
                  </a:lnTo>
                  <a:lnTo>
                    <a:pt x="187" y="9"/>
                  </a:lnTo>
                  <a:lnTo>
                    <a:pt x="173" y="15"/>
                  </a:lnTo>
                  <a:lnTo>
                    <a:pt x="163" y="25"/>
                  </a:lnTo>
                  <a:lnTo>
                    <a:pt x="151" y="35"/>
                  </a:lnTo>
                  <a:lnTo>
                    <a:pt x="142" y="45"/>
                  </a:lnTo>
                  <a:lnTo>
                    <a:pt x="131" y="57"/>
                  </a:lnTo>
                  <a:lnTo>
                    <a:pt x="123" y="70"/>
                  </a:lnTo>
                  <a:lnTo>
                    <a:pt x="117" y="82"/>
                  </a:lnTo>
                  <a:lnTo>
                    <a:pt x="111" y="96"/>
                  </a:lnTo>
                  <a:lnTo>
                    <a:pt x="105" y="111"/>
                  </a:lnTo>
                  <a:lnTo>
                    <a:pt x="99" y="131"/>
                  </a:lnTo>
                  <a:lnTo>
                    <a:pt x="95" y="146"/>
                  </a:lnTo>
                  <a:lnTo>
                    <a:pt x="89" y="160"/>
                  </a:lnTo>
                  <a:lnTo>
                    <a:pt x="55" y="354"/>
                  </a:lnTo>
                  <a:lnTo>
                    <a:pt x="43" y="436"/>
                  </a:lnTo>
                  <a:lnTo>
                    <a:pt x="35" y="489"/>
                  </a:lnTo>
                  <a:lnTo>
                    <a:pt x="24" y="543"/>
                  </a:lnTo>
                  <a:lnTo>
                    <a:pt x="10" y="593"/>
                  </a:lnTo>
                  <a:lnTo>
                    <a:pt x="0" y="593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4880" y="4503600"/>
              <a:ext cx="228600" cy="158760"/>
            </a:xfrm>
            <a:custGeom>
              <a:avLst/>
              <a:gdLst/>
              <a:ahLst/>
              <a:rect l="l" t="t" r="r" b="b"/>
              <a:pathLst>
                <a:path w="433" h="400">
                  <a:moveTo>
                    <a:pt x="140" y="400"/>
                  </a:moveTo>
                  <a:lnTo>
                    <a:pt x="140" y="312"/>
                  </a:lnTo>
                  <a:lnTo>
                    <a:pt x="53" y="312"/>
                  </a:lnTo>
                  <a:lnTo>
                    <a:pt x="43" y="307"/>
                  </a:lnTo>
                  <a:lnTo>
                    <a:pt x="35" y="304"/>
                  </a:lnTo>
                  <a:lnTo>
                    <a:pt x="27" y="299"/>
                  </a:lnTo>
                  <a:lnTo>
                    <a:pt x="20" y="292"/>
                  </a:lnTo>
                  <a:lnTo>
                    <a:pt x="12" y="282"/>
                  </a:lnTo>
                  <a:lnTo>
                    <a:pt x="6" y="272"/>
                  </a:lnTo>
                  <a:lnTo>
                    <a:pt x="4" y="264"/>
                  </a:lnTo>
                  <a:lnTo>
                    <a:pt x="0" y="252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4" y="216"/>
                  </a:lnTo>
                  <a:lnTo>
                    <a:pt x="10" y="203"/>
                  </a:lnTo>
                  <a:lnTo>
                    <a:pt x="18" y="193"/>
                  </a:lnTo>
                  <a:lnTo>
                    <a:pt x="26" y="181"/>
                  </a:lnTo>
                  <a:lnTo>
                    <a:pt x="35" y="173"/>
                  </a:lnTo>
                  <a:lnTo>
                    <a:pt x="43" y="166"/>
                  </a:lnTo>
                  <a:lnTo>
                    <a:pt x="51" y="164"/>
                  </a:lnTo>
                  <a:lnTo>
                    <a:pt x="142" y="164"/>
                  </a:lnTo>
                  <a:lnTo>
                    <a:pt x="142" y="86"/>
                  </a:lnTo>
                  <a:lnTo>
                    <a:pt x="144" y="76"/>
                  </a:lnTo>
                  <a:lnTo>
                    <a:pt x="150" y="61"/>
                  </a:lnTo>
                  <a:lnTo>
                    <a:pt x="154" y="51"/>
                  </a:lnTo>
                  <a:lnTo>
                    <a:pt x="163" y="36"/>
                  </a:lnTo>
                  <a:lnTo>
                    <a:pt x="171" y="26"/>
                  </a:lnTo>
                  <a:lnTo>
                    <a:pt x="181" y="16"/>
                  </a:lnTo>
                  <a:lnTo>
                    <a:pt x="189" y="12"/>
                  </a:lnTo>
                  <a:lnTo>
                    <a:pt x="202" y="5"/>
                  </a:lnTo>
                  <a:lnTo>
                    <a:pt x="214" y="0"/>
                  </a:lnTo>
                  <a:lnTo>
                    <a:pt x="225" y="0"/>
                  </a:lnTo>
                  <a:lnTo>
                    <a:pt x="239" y="5"/>
                  </a:lnTo>
                  <a:lnTo>
                    <a:pt x="251" y="10"/>
                  </a:lnTo>
                  <a:lnTo>
                    <a:pt x="261" y="16"/>
                  </a:lnTo>
                  <a:lnTo>
                    <a:pt x="271" y="26"/>
                  </a:lnTo>
                  <a:lnTo>
                    <a:pt x="283" y="38"/>
                  </a:lnTo>
                  <a:lnTo>
                    <a:pt x="291" y="51"/>
                  </a:lnTo>
                  <a:lnTo>
                    <a:pt x="295" y="61"/>
                  </a:lnTo>
                  <a:lnTo>
                    <a:pt x="299" y="76"/>
                  </a:lnTo>
                  <a:lnTo>
                    <a:pt x="301" y="89"/>
                  </a:lnTo>
                  <a:lnTo>
                    <a:pt x="301" y="161"/>
                  </a:lnTo>
                  <a:lnTo>
                    <a:pt x="385" y="161"/>
                  </a:lnTo>
                  <a:lnTo>
                    <a:pt x="393" y="166"/>
                  </a:lnTo>
                  <a:lnTo>
                    <a:pt x="400" y="173"/>
                  </a:lnTo>
                  <a:lnTo>
                    <a:pt x="410" y="181"/>
                  </a:lnTo>
                  <a:lnTo>
                    <a:pt x="418" y="191"/>
                  </a:lnTo>
                  <a:lnTo>
                    <a:pt x="425" y="201"/>
                  </a:lnTo>
                  <a:lnTo>
                    <a:pt x="431" y="213"/>
                  </a:lnTo>
                  <a:lnTo>
                    <a:pt x="433" y="225"/>
                  </a:lnTo>
                  <a:lnTo>
                    <a:pt x="433" y="238"/>
                  </a:lnTo>
                  <a:lnTo>
                    <a:pt x="433" y="252"/>
                  </a:lnTo>
                  <a:lnTo>
                    <a:pt x="431" y="262"/>
                  </a:lnTo>
                  <a:lnTo>
                    <a:pt x="425" y="274"/>
                  </a:lnTo>
                  <a:lnTo>
                    <a:pt x="418" y="287"/>
                  </a:lnTo>
                  <a:lnTo>
                    <a:pt x="410" y="297"/>
                  </a:lnTo>
                  <a:lnTo>
                    <a:pt x="400" y="302"/>
                  </a:lnTo>
                  <a:lnTo>
                    <a:pt x="383" y="312"/>
                  </a:lnTo>
                  <a:lnTo>
                    <a:pt x="301" y="312"/>
                  </a:lnTo>
                  <a:lnTo>
                    <a:pt x="301" y="400"/>
                  </a:lnTo>
                  <a:lnTo>
                    <a:pt x="140" y="400"/>
                  </a:lnTo>
                </a:path>
              </a:pathLst>
            </a:custGeom>
            <a:noFill/>
            <a:ln w="792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8760" y="4568400"/>
              <a:ext cx="65160" cy="6048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124" y="77"/>
                  </a:moveTo>
                  <a:lnTo>
                    <a:pt x="124" y="84"/>
                  </a:lnTo>
                  <a:lnTo>
                    <a:pt x="123" y="92"/>
                  </a:lnTo>
                  <a:lnTo>
                    <a:pt x="122" y="99"/>
                  </a:lnTo>
                  <a:lnTo>
                    <a:pt x="120" y="106"/>
                  </a:lnTo>
                  <a:lnTo>
                    <a:pt x="117" y="113"/>
                  </a:lnTo>
                  <a:lnTo>
                    <a:pt x="113" y="119"/>
                  </a:lnTo>
                  <a:lnTo>
                    <a:pt x="109" y="124"/>
                  </a:lnTo>
                  <a:lnTo>
                    <a:pt x="105" y="131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1" y="143"/>
                  </a:lnTo>
                  <a:lnTo>
                    <a:pt x="86" y="147"/>
                  </a:lnTo>
                  <a:lnTo>
                    <a:pt x="80" y="149"/>
                  </a:lnTo>
                  <a:lnTo>
                    <a:pt x="75" y="151"/>
                  </a:lnTo>
                  <a:lnTo>
                    <a:pt x="69" y="152"/>
                  </a:lnTo>
                  <a:lnTo>
                    <a:pt x="62" y="152"/>
                  </a:lnTo>
                  <a:lnTo>
                    <a:pt x="56" y="152"/>
                  </a:lnTo>
                  <a:lnTo>
                    <a:pt x="50" y="151"/>
                  </a:lnTo>
                  <a:lnTo>
                    <a:pt x="44" y="149"/>
                  </a:lnTo>
                  <a:lnTo>
                    <a:pt x="38" y="147"/>
                  </a:lnTo>
                  <a:lnTo>
                    <a:pt x="32" y="143"/>
                  </a:lnTo>
                  <a:lnTo>
                    <a:pt x="27" y="139"/>
                  </a:lnTo>
                  <a:lnTo>
                    <a:pt x="23" y="136"/>
                  </a:lnTo>
                  <a:lnTo>
                    <a:pt x="18" y="131"/>
                  </a:lnTo>
                  <a:lnTo>
                    <a:pt x="14" y="124"/>
                  </a:lnTo>
                  <a:lnTo>
                    <a:pt x="11" y="119"/>
                  </a:lnTo>
                  <a:lnTo>
                    <a:pt x="8" y="113"/>
                  </a:lnTo>
                  <a:lnTo>
                    <a:pt x="5" y="106"/>
                  </a:lnTo>
                  <a:lnTo>
                    <a:pt x="3" y="99"/>
                  </a:lnTo>
                  <a:lnTo>
                    <a:pt x="2" y="92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2" y="61"/>
                  </a:lnTo>
                  <a:lnTo>
                    <a:pt x="3" y="53"/>
                  </a:lnTo>
                  <a:lnTo>
                    <a:pt x="5" y="47"/>
                  </a:lnTo>
                  <a:lnTo>
                    <a:pt x="8" y="41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0" y="2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6" y="6"/>
                  </a:lnTo>
                  <a:lnTo>
                    <a:pt x="91" y="10"/>
                  </a:lnTo>
                  <a:lnTo>
                    <a:pt x="96" y="13"/>
                  </a:lnTo>
                  <a:lnTo>
                    <a:pt x="101" y="17"/>
                  </a:lnTo>
                  <a:lnTo>
                    <a:pt x="105" y="22"/>
                  </a:lnTo>
                  <a:lnTo>
                    <a:pt x="109" y="28"/>
                  </a:lnTo>
                  <a:lnTo>
                    <a:pt x="113" y="35"/>
                  </a:lnTo>
                  <a:lnTo>
                    <a:pt x="117" y="41"/>
                  </a:lnTo>
                  <a:lnTo>
                    <a:pt x="120" y="47"/>
                  </a:lnTo>
                  <a:lnTo>
                    <a:pt x="122" y="53"/>
                  </a:lnTo>
                  <a:lnTo>
                    <a:pt x="123" y="61"/>
                  </a:lnTo>
                  <a:lnTo>
                    <a:pt x="124" y="68"/>
                  </a:lnTo>
                  <a:lnTo>
                    <a:pt x="124" y="77"/>
                  </a:lnTo>
                </a:path>
              </a:pathLst>
            </a:custGeom>
            <a:noFill/>
            <a:ln w="936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33880" y="4651200"/>
              <a:ext cx="393480" cy="311040"/>
            </a:xfrm>
            <a:prstGeom prst="rect">
              <a:avLst/>
            </a:prstGeom>
            <a:noFill/>
            <a:ln w="936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92560" y="4671720"/>
              <a:ext cx="272880" cy="228600"/>
            </a:xfrm>
            <a:custGeom>
              <a:avLst/>
              <a:gdLst/>
              <a:ahLst/>
              <a:rect l="l" t="t" r="r" b="b"/>
              <a:pathLst>
                <a:path w="516" h="573">
                  <a:moveTo>
                    <a:pt x="0" y="198"/>
                  </a:moveTo>
                  <a:lnTo>
                    <a:pt x="3" y="180"/>
                  </a:lnTo>
                  <a:lnTo>
                    <a:pt x="7" y="160"/>
                  </a:lnTo>
                  <a:lnTo>
                    <a:pt x="12" y="143"/>
                  </a:lnTo>
                  <a:lnTo>
                    <a:pt x="20" y="126"/>
                  </a:lnTo>
                  <a:lnTo>
                    <a:pt x="29" y="114"/>
                  </a:lnTo>
                  <a:lnTo>
                    <a:pt x="37" y="101"/>
                  </a:lnTo>
                  <a:lnTo>
                    <a:pt x="47" y="86"/>
                  </a:lnTo>
                  <a:lnTo>
                    <a:pt x="61" y="74"/>
                  </a:lnTo>
                  <a:lnTo>
                    <a:pt x="76" y="59"/>
                  </a:lnTo>
                  <a:lnTo>
                    <a:pt x="96" y="48"/>
                  </a:lnTo>
                  <a:lnTo>
                    <a:pt x="117" y="35"/>
                  </a:lnTo>
                  <a:lnTo>
                    <a:pt x="140" y="25"/>
                  </a:lnTo>
                  <a:lnTo>
                    <a:pt x="162" y="15"/>
                  </a:lnTo>
                  <a:lnTo>
                    <a:pt x="189" y="10"/>
                  </a:lnTo>
                  <a:lnTo>
                    <a:pt x="212" y="3"/>
                  </a:lnTo>
                  <a:lnTo>
                    <a:pt x="230" y="3"/>
                  </a:lnTo>
                  <a:lnTo>
                    <a:pt x="253" y="0"/>
                  </a:lnTo>
                  <a:lnTo>
                    <a:pt x="276" y="0"/>
                  </a:lnTo>
                  <a:lnTo>
                    <a:pt x="292" y="3"/>
                  </a:lnTo>
                  <a:lnTo>
                    <a:pt x="312" y="5"/>
                  </a:lnTo>
                  <a:lnTo>
                    <a:pt x="332" y="10"/>
                  </a:lnTo>
                  <a:lnTo>
                    <a:pt x="352" y="15"/>
                  </a:lnTo>
                  <a:lnTo>
                    <a:pt x="372" y="23"/>
                  </a:lnTo>
                  <a:lnTo>
                    <a:pt x="388" y="30"/>
                  </a:lnTo>
                  <a:lnTo>
                    <a:pt x="408" y="40"/>
                  </a:lnTo>
                  <a:lnTo>
                    <a:pt x="422" y="49"/>
                  </a:lnTo>
                  <a:lnTo>
                    <a:pt x="432" y="57"/>
                  </a:lnTo>
                  <a:lnTo>
                    <a:pt x="444" y="67"/>
                  </a:lnTo>
                  <a:lnTo>
                    <a:pt x="455" y="77"/>
                  </a:lnTo>
                  <a:lnTo>
                    <a:pt x="468" y="89"/>
                  </a:lnTo>
                  <a:lnTo>
                    <a:pt x="480" y="104"/>
                  </a:lnTo>
                  <a:lnTo>
                    <a:pt x="488" y="119"/>
                  </a:lnTo>
                  <a:lnTo>
                    <a:pt x="496" y="131"/>
                  </a:lnTo>
                  <a:lnTo>
                    <a:pt x="502" y="143"/>
                  </a:lnTo>
                  <a:lnTo>
                    <a:pt x="508" y="155"/>
                  </a:lnTo>
                  <a:lnTo>
                    <a:pt x="512" y="168"/>
                  </a:lnTo>
                  <a:lnTo>
                    <a:pt x="516" y="185"/>
                  </a:lnTo>
                  <a:lnTo>
                    <a:pt x="516" y="573"/>
                  </a:lnTo>
                  <a:lnTo>
                    <a:pt x="3" y="571"/>
                  </a:lnTo>
                  <a:lnTo>
                    <a:pt x="0" y="198"/>
                  </a:lnTo>
                </a:path>
              </a:pathLst>
            </a:custGeom>
            <a:noFill/>
            <a:ln w="792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92560" y="4684320"/>
              <a:ext cx="272880" cy="227160"/>
            </a:xfrm>
            <a:custGeom>
              <a:avLst/>
              <a:gdLst/>
              <a:ahLst/>
              <a:rect l="l" t="t" r="r" b="b"/>
              <a:pathLst>
                <a:path w="516" h="574">
                  <a:moveTo>
                    <a:pt x="0" y="196"/>
                  </a:moveTo>
                  <a:lnTo>
                    <a:pt x="3" y="179"/>
                  </a:lnTo>
                  <a:lnTo>
                    <a:pt x="7" y="163"/>
                  </a:lnTo>
                  <a:lnTo>
                    <a:pt x="12" y="145"/>
                  </a:lnTo>
                  <a:lnTo>
                    <a:pt x="20" y="128"/>
                  </a:lnTo>
                  <a:lnTo>
                    <a:pt x="29" y="115"/>
                  </a:lnTo>
                  <a:lnTo>
                    <a:pt x="37" y="103"/>
                  </a:lnTo>
                  <a:lnTo>
                    <a:pt x="47" y="89"/>
                  </a:lnTo>
                  <a:lnTo>
                    <a:pt x="61" y="74"/>
                  </a:lnTo>
                  <a:lnTo>
                    <a:pt x="76" y="61"/>
                  </a:lnTo>
                  <a:lnTo>
                    <a:pt x="96" y="47"/>
                  </a:lnTo>
                  <a:lnTo>
                    <a:pt x="117" y="34"/>
                  </a:lnTo>
                  <a:lnTo>
                    <a:pt x="140" y="24"/>
                  </a:lnTo>
                  <a:lnTo>
                    <a:pt x="162" y="18"/>
                  </a:lnTo>
                  <a:lnTo>
                    <a:pt x="189" y="10"/>
                  </a:lnTo>
                  <a:lnTo>
                    <a:pt x="212" y="5"/>
                  </a:lnTo>
                  <a:lnTo>
                    <a:pt x="230" y="3"/>
                  </a:lnTo>
                  <a:lnTo>
                    <a:pt x="253" y="0"/>
                  </a:lnTo>
                  <a:lnTo>
                    <a:pt x="276" y="0"/>
                  </a:lnTo>
                  <a:lnTo>
                    <a:pt x="292" y="3"/>
                  </a:lnTo>
                  <a:lnTo>
                    <a:pt x="312" y="5"/>
                  </a:lnTo>
                  <a:lnTo>
                    <a:pt x="332" y="10"/>
                  </a:lnTo>
                  <a:lnTo>
                    <a:pt x="352" y="18"/>
                  </a:lnTo>
                  <a:lnTo>
                    <a:pt x="372" y="24"/>
                  </a:lnTo>
                  <a:lnTo>
                    <a:pt x="388" y="32"/>
                  </a:lnTo>
                  <a:lnTo>
                    <a:pt x="408" y="42"/>
                  </a:lnTo>
                  <a:lnTo>
                    <a:pt x="422" y="49"/>
                  </a:lnTo>
                  <a:lnTo>
                    <a:pt x="432" y="59"/>
                  </a:lnTo>
                  <a:lnTo>
                    <a:pt x="444" y="66"/>
                  </a:lnTo>
                  <a:lnTo>
                    <a:pt x="455" y="79"/>
                  </a:lnTo>
                  <a:lnTo>
                    <a:pt x="468" y="89"/>
                  </a:lnTo>
                  <a:lnTo>
                    <a:pt x="480" y="105"/>
                  </a:lnTo>
                  <a:lnTo>
                    <a:pt x="488" y="118"/>
                  </a:lnTo>
                  <a:lnTo>
                    <a:pt x="496" y="130"/>
                  </a:lnTo>
                  <a:lnTo>
                    <a:pt x="502" y="143"/>
                  </a:lnTo>
                  <a:lnTo>
                    <a:pt x="508" y="155"/>
                  </a:lnTo>
                  <a:lnTo>
                    <a:pt x="512" y="170"/>
                  </a:lnTo>
                  <a:lnTo>
                    <a:pt x="516" y="184"/>
                  </a:lnTo>
                  <a:lnTo>
                    <a:pt x="516" y="574"/>
                  </a:lnTo>
                  <a:lnTo>
                    <a:pt x="3" y="572"/>
                  </a:lnTo>
                  <a:lnTo>
                    <a:pt x="0" y="196"/>
                  </a:lnTo>
                </a:path>
              </a:pathLst>
            </a:custGeom>
            <a:noFill/>
            <a:ln w="792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11640" y="4694040"/>
              <a:ext cx="233280" cy="215640"/>
            </a:xfrm>
            <a:custGeom>
              <a:avLst/>
              <a:gdLst/>
              <a:ahLst/>
              <a:rect l="l" t="t" r="r" b="b"/>
              <a:pathLst>
                <a:path w="441" h="545">
                  <a:moveTo>
                    <a:pt x="441" y="273"/>
                  </a:moveTo>
                  <a:lnTo>
                    <a:pt x="441" y="287"/>
                  </a:lnTo>
                  <a:lnTo>
                    <a:pt x="440" y="301"/>
                  </a:lnTo>
                  <a:lnTo>
                    <a:pt x="438" y="315"/>
                  </a:lnTo>
                  <a:lnTo>
                    <a:pt x="437" y="328"/>
                  </a:lnTo>
                  <a:lnTo>
                    <a:pt x="434" y="341"/>
                  </a:lnTo>
                  <a:lnTo>
                    <a:pt x="431" y="354"/>
                  </a:lnTo>
                  <a:lnTo>
                    <a:pt x="428" y="367"/>
                  </a:lnTo>
                  <a:lnTo>
                    <a:pt x="423" y="379"/>
                  </a:lnTo>
                  <a:lnTo>
                    <a:pt x="418" y="391"/>
                  </a:lnTo>
                  <a:lnTo>
                    <a:pt x="414" y="403"/>
                  </a:lnTo>
                  <a:lnTo>
                    <a:pt x="408" y="414"/>
                  </a:lnTo>
                  <a:lnTo>
                    <a:pt x="403" y="426"/>
                  </a:lnTo>
                  <a:lnTo>
                    <a:pt x="390" y="447"/>
                  </a:lnTo>
                  <a:lnTo>
                    <a:pt x="376" y="465"/>
                  </a:lnTo>
                  <a:lnTo>
                    <a:pt x="361" y="483"/>
                  </a:lnTo>
                  <a:lnTo>
                    <a:pt x="343" y="499"/>
                  </a:lnTo>
                  <a:lnTo>
                    <a:pt x="334" y="507"/>
                  </a:lnTo>
                  <a:lnTo>
                    <a:pt x="325" y="513"/>
                  </a:lnTo>
                  <a:lnTo>
                    <a:pt x="316" y="519"/>
                  </a:lnTo>
                  <a:lnTo>
                    <a:pt x="306" y="524"/>
                  </a:lnTo>
                  <a:lnTo>
                    <a:pt x="296" y="529"/>
                  </a:lnTo>
                  <a:lnTo>
                    <a:pt x="286" y="533"/>
                  </a:lnTo>
                  <a:lnTo>
                    <a:pt x="275" y="537"/>
                  </a:lnTo>
                  <a:lnTo>
                    <a:pt x="265" y="540"/>
                  </a:lnTo>
                  <a:lnTo>
                    <a:pt x="254" y="543"/>
                  </a:lnTo>
                  <a:lnTo>
                    <a:pt x="243" y="544"/>
                  </a:lnTo>
                  <a:lnTo>
                    <a:pt x="232" y="545"/>
                  </a:lnTo>
                  <a:lnTo>
                    <a:pt x="221" y="545"/>
                  </a:lnTo>
                  <a:lnTo>
                    <a:pt x="210" y="545"/>
                  </a:lnTo>
                  <a:lnTo>
                    <a:pt x="198" y="544"/>
                  </a:lnTo>
                  <a:lnTo>
                    <a:pt x="187" y="543"/>
                  </a:lnTo>
                  <a:lnTo>
                    <a:pt x="177" y="540"/>
                  </a:lnTo>
                  <a:lnTo>
                    <a:pt x="166" y="537"/>
                  </a:lnTo>
                  <a:lnTo>
                    <a:pt x="156" y="533"/>
                  </a:lnTo>
                  <a:lnTo>
                    <a:pt x="146" y="529"/>
                  </a:lnTo>
                  <a:lnTo>
                    <a:pt x="136" y="524"/>
                  </a:lnTo>
                  <a:lnTo>
                    <a:pt x="125" y="519"/>
                  </a:lnTo>
                  <a:lnTo>
                    <a:pt x="116" y="513"/>
                  </a:lnTo>
                  <a:lnTo>
                    <a:pt x="107" y="507"/>
                  </a:lnTo>
                  <a:lnTo>
                    <a:pt x="98" y="499"/>
                  </a:lnTo>
                  <a:lnTo>
                    <a:pt x="89" y="492"/>
                  </a:lnTo>
                  <a:lnTo>
                    <a:pt x="81" y="483"/>
                  </a:lnTo>
                  <a:lnTo>
                    <a:pt x="73" y="474"/>
                  </a:lnTo>
                  <a:lnTo>
                    <a:pt x="65" y="465"/>
                  </a:lnTo>
                  <a:lnTo>
                    <a:pt x="57" y="457"/>
                  </a:lnTo>
                  <a:lnTo>
                    <a:pt x="50" y="447"/>
                  </a:lnTo>
                  <a:lnTo>
                    <a:pt x="44" y="436"/>
                  </a:lnTo>
                  <a:lnTo>
                    <a:pt x="37" y="426"/>
                  </a:lnTo>
                  <a:lnTo>
                    <a:pt x="32" y="414"/>
                  </a:lnTo>
                  <a:lnTo>
                    <a:pt x="26" y="403"/>
                  </a:lnTo>
                  <a:lnTo>
                    <a:pt x="22" y="391"/>
                  </a:lnTo>
                  <a:lnTo>
                    <a:pt x="17" y="379"/>
                  </a:lnTo>
                  <a:lnTo>
                    <a:pt x="13" y="367"/>
                  </a:lnTo>
                  <a:lnTo>
                    <a:pt x="10" y="354"/>
                  </a:lnTo>
                  <a:lnTo>
                    <a:pt x="7" y="341"/>
                  </a:lnTo>
                  <a:lnTo>
                    <a:pt x="4" y="328"/>
                  </a:lnTo>
                  <a:lnTo>
                    <a:pt x="2" y="315"/>
                  </a:lnTo>
                  <a:lnTo>
                    <a:pt x="1" y="301"/>
                  </a:lnTo>
                  <a:lnTo>
                    <a:pt x="0" y="287"/>
                  </a:lnTo>
                  <a:lnTo>
                    <a:pt x="0" y="273"/>
                  </a:lnTo>
                  <a:lnTo>
                    <a:pt x="0" y="260"/>
                  </a:lnTo>
                  <a:lnTo>
                    <a:pt x="1" y="246"/>
                  </a:lnTo>
                  <a:lnTo>
                    <a:pt x="2" y="232"/>
                  </a:lnTo>
                  <a:lnTo>
                    <a:pt x="4" y="218"/>
                  </a:lnTo>
                  <a:lnTo>
                    <a:pt x="7" y="206"/>
                  </a:lnTo>
                  <a:lnTo>
                    <a:pt x="10" y="192"/>
                  </a:lnTo>
                  <a:lnTo>
                    <a:pt x="13" y="180"/>
                  </a:lnTo>
                  <a:lnTo>
                    <a:pt x="17" y="167"/>
                  </a:lnTo>
                  <a:lnTo>
                    <a:pt x="22" y="155"/>
                  </a:lnTo>
                  <a:lnTo>
                    <a:pt x="26" y="144"/>
                  </a:lnTo>
                  <a:lnTo>
                    <a:pt x="32" y="132"/>
                  </a:lnTo>
                  <a:lnTo>
                    <a:pt x="37" y="121"/>
                  </a:lnTo>
                  <a:lnTo>
                    <a:pt x="44" y="110"/>
                  </a:lnTo>
                  <a:lnTo>
                    <a:pt x="50" y="100"/>
                  </a:lnTo>
                  <a:lnTo>
                    <a:pt x="57" y="90"/>
                  </a:lnTo>
                  <a:lnTo>
                    <a:pt x="65" y="81"/>
                  </a:lnTo>
                  <a:lnTo>
                    <a:pt x="81" y="64"/>
                  </a:lnTo>
                  <a:lnTo>
                    <a:pt x="98" y="47"/>
                  </a:lnTo>
                  <a:lnTo>
                    <a:pt x="107" y="40"/>
                  </a:lnTo>
                  <a:lnTo>
                    <a:pt x="116" y="34"/>
                  </a:lnTo>
                  <a:lnTo>
                    <a:pt x="125" y="27"/>
                  </a:lnTo>
                  <a:lnTo>
                    <a:pt x="136" y="23"/>
                  </a:lnTo>
                  <a:lnTo>
                    <a:pt x="146" y="18"/>
                  </a:lnTo>
                  <a:lnTo>
                    <a:pt x="156" y="13"/>
                  </a:lnTo>
                  <a:lnTo>
                    <a:pt x="166" y="9"/>
                  </a:lnTo>
                  <a:lnTo>
                    <a:pt x="177" y="6"/>
                  </a:lnTo>
                  <a:lnTo>
                    <a:pt x="187" y="4"/>
                  </a:lnTo>
                  <a:lnTo>
                    <a:pt x="198" y="3"/>
                  </a:lnTo>
                  <a:lnTo>
                    <a:pt x="210" y="1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3" y="3"/>
                  </a:lnTo>
                  <a:lnTo>
                    <a:pt x="254" y="4"/>
                  </a:lnTo>
                  <a:lnTo>
                    <a:pt x="265" y="6"/>
                  </a:lnTo>
                  <a:lnTo>
                    <a:pt x="275" y="9"/>
                  </a:lnTo>
                  <a:lnTo>
                    <a:pt x="286" y="13"/>
                  </a:lnTo>
                  <a:lnTo>
                    <a:pt x="296" y="18"/>
                  </a:lnTo>
                  <a:lnTo>
                    <a:pt x="306" y="23"/>
                  </a:lnTo>
                  <a:lnTo>
                    <a:pt x="316" y="27"/>
                  </a:lnTo>
                  <a:lnTo>
                    <a:pt x="325" y="34"/>
                  </a:lnTo>
                  <a:lnTo>
                    <a:pt x="334" y="40"/>
                  </a:lnTo>
                  <a:lnTo>
                    <a:pt x="343" y="47"/>
                  </a:lnTo>
                  <a:lnTo>
                    <a:pt x="361" y="64"/>
                  </a:lnTo>
                  <a:lnTo>
                    <a:pt x="376" y="81"/>
                  </a:lnTo>
                  <a:lnTo>
                    <a:pt x="390" y="100"/>
                  </a:lnTo>
                  <a:lnTo>
                    <a:pt x="403" y="121"/>
                  </a:lnTo>
                  <a:lnTo>
                    <a:pt x="408" y="132"/>
                  </a:lnTo>
                  <a:lnTo>
                    <a:pt x="414" y="144"/>
                  </a:lnTo>
                  <a:lnTo>
                    <a:pt x="418" y="155"/>
                  </a:lnTo>
                  <a:lnTo>
                    <a:pt x="423" y="167"/>
                  </a:lnTo>
                  <a:lnTo>
                    <a:pt x="428" y="180"/>
                  </a:lnTo>
                  <a:lnTo>
                    <a:pt x="431" y="192"/>
                  </a:lnTo>
                  <a:lnTo>
                    <a:pt x="434" y="206"/>
                  </a:lnTo>
                  <a:lnTo>
                    <a:pt x="437" y="218"/>
                  </a:lnTo>
                  <a:lnTo>
                    <a:pt x="438" y="232"/>
                  </a:lnTo>
                  <a:lnTo>
                    <a:pt x="440" y="246"/>
                  </a:lnTo>
                  <a:lnTo>
                    <a:pt x="441" y="260"/>
                  </a:lnTo>
                  <a:lnTo>
                    <a:pt x="441" y="273"/>
                  </a:lnTo>
                </a:path>
              </a:pathLst>
            </a:custGeom>
            <a:noFill/>
            <a:ln w="936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41600" y="4714560"/>
              <a:ext cx="28800" cy="2556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54" y="31"/>
                  </a:moveTo>
                  <a:lnTo>
                    <a:pt x="54" y="37"/>
                  </a:lnTo>
                  <a:lnTo>
                    <a:pt x="52" y="44"/>
                  </a:lnTo>
                  <a:lnTo>
                    <a:pt x="50" y="50"/>
                  </a:lnTo>
                  <a:lnTo>
                    <a:pt x="47" y="54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4" y="62"/>
                  </a:lnTo>
                  <a:lnTo>
                    <a:pt x="28" y="64"/>
                  </a:lnTo>
                  <a:lnTo>
                    <a:pt x="22" y="62"/>
                  </a:lnTo>
                  <a:lnTo>
                    <a:pt x="17" y="61"/>
                  </a:lnTo>
                  <a:lnTo>
                    <a:pt x="12" y="57"/>
                  </a:lnTo>
                  <a:lnTo>
                    <a:pt x="8" y="54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5" y="14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7" y="9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54" y="25"/>
                  </a:lnTo>
                  <a:lnTo>
                    <a:pt x="54" y="31"/>
                  </a:lnTo>
                </a:path>
              </a:pathLst>
            </a:custGeom>
            <a:noFill/>
            <a:ln w="792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62480" y="4730400"/>
              <a:ext cx="21960" cy="208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8"/>
                  </a:moveTo>
                  <a:lnTo>
                    <a:pt x="41" y="33"/>
                  </a:lnTo>
                  <a:lnTo>
                    <a:pt x="40" y="38"/>
                  </a:lnTo>
                  <a:lnTo>
                    <a:pt x="38" y="43"/>
                  </a:lnTo>
                  <a:lnTo>
                    <a:pt x="36" y="46"/>
                  </a:lnTo>
                  <a:lnTo>
                    <a:pt x="33" y="50"/>
                  </a:lnTo>
                  <a:lnTo>
                    <a:pt x="29" y="53"/>
                  </a:lnTo>
                  <a:lnTo>
                    <a:pt x="26" y="54"/>
                  </a:lnTo>
                  <a:lnTo>
                    <a:pt x="22" y="55"/>
                  </a:lnTo>
                  <a:lnTo>
                    <a:pt x="18" y="54"/>
                  </a:lnTo>
                  <a:lnTo>
                    <a:pt x="14" y="53"/>
                  </a:lnTo>
                  <a:lnTo>
                    <a:pt x="10" y="50"/>
                  </a:lnTo>
                  <a:lnTo>
                    <a:pt x="7" y="46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9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6" y="9"/>
                  </a:lnTo>
                  <a:lnTo>
                    <a:pt x="38" y="13"/>
                  </a:lnTo>
                  <a:lnTo>
                    <a:pt x="40" y="18"/>
                  </a:lnTo>
                  <a:lnTo>
                    <a:pt x="41" y="23"/>
                  </a:lnTo>
                  <a:lnTo>
                    <a:pt x="42" y="28"/>
                  </a:lnTo>
                </a:path>
              </a:pathLst>
            </a:custGeom>
            <a:noFill/>
            <a:ln w="792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230880" y="1790640"/>
            <a:ext cx="81000" cy="211320"/>
          </a:xfrm>
          <a:custGeom>
            <a:avLst/>
            <a:gdLst/>
            <a:ahLst/>
            <a:rect l="l" t="t" r="r" b="b"/>
            <a:pathLst>
              <a:path w="151" h="533">
                <a:moveTo>
                  <a:pt x="151" y="533"/>
                </a:moveTo>
                <a:lnTo>
                  <a:pt x="135" y="530"/>
                </a:lnTo>
                <a:lnTo>
                  <a:pt x="121" y="528"/>
                </a:lnTo>
                <a:lnTo>
                  <a:pt x="105" y="520"/>
                </a:lnTo>
                <a:lnTo>
                  <a:pt x="91" y="510"/>
                </a:lnTo>
                <a:lnTo>
                  <a:pt x="68" y="486"/>
                </a:lnTo>
                <a:lnTo>
                  <a:pt x="43" y="454"/>
                </a:lnTo>
                <a:lnTo>
                  <a:pt x="25" y="415"/>
                </a:lnTo>
                <a:lnTo>
                  <a:pt x="11" y="368"/>
                </a:lnTo>
                <a:lnTo>
                  <a:pt x="4" y="319"/>
                </a:lnTo>
                <a:lnTo>
                  <a:pt x="0" y="266"/>
                </a:lnTo>
                <a:lnTo>
                  <a:pt x="4" y="211"/>
                </a:lnTo>
                <a:lnTo>
                  <a:pt x="11" y="162"/>
                </a:lnTo>
                <a:lnTo>
                  <a:pt x="25" y="116"/>
                </a:lnTo>
                <a:lnTo>
                  <a:pt x="43" y="78"/>
                </a:lnTo>
                <a:lnTo>
                  <a:pt x="68" y="45"/>
                </a:lnTo>
                <a:lnTo>
                  <a:pt x="91" y="20"/>
                </a:lnTo>
                <a:lnTo>
                  <a:pt x="105" y="12"/>
                </a:lnTo>
                <a:lnTo>
                  <a:pt x="121" y="5"/>
                </a:lnTo>
                <a:lnTo>
                  <a:pt x="135" y="2"/>
                </a:lnTo>
                <a:lnTo>
                  <a:pt x="151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05680" y="1779480"/>
            <a:ext cx="110880" cy="236520"/>
          </a:xfrm>
          <a:custGeom>
            <a:avLst/>
            <a:gdLst/>
            <a:ahLst/>
            <a:rect l="l" t="t" r="r" b="b"/>
            <a:pathLst>
              <a:path w="210" h="595">
                <a:moveTo>
                  <a:pt x="208" y="0"/>
                </a:moveTo>
                <a:lnTo>
                  <a:pt x="0" y="0"/>
                </a:lnTo>
                <a:lnTo>
                  <a:pt x="24" y="10"/>
                </a:lnTo>
                <a:lnTo>
                  <a:pt x="36" y="18"/>
                </a:lnTo>
                <a:lnTo>
                  <a:pt x="47" y="25"/>
                </a:lnTo>
                <a:lnTo>
                  <a:pt x="60" y="35"/>
                </a:lnTo>
                <a:lnTo>
                  <a:pt x="70" y="48"/>
                </a:lnTo>
                <a:lnTo>
                  <a:pt x="78" y="58"/>
                </a:lnTo>
                <a:lnTo>
                  <a:pt x="88" y="73"/>
                </a:lnTo>
                <a:lnTo>
                  <a:pt x="92" y="81"/>
                </a:lnTo>
                <a:lnTo>
                  <a:pt x="98" y="99"/>
                </a:lnTo>
                <a:lnTo>
                  <a:pt x="104" y="114"/>
                </a:lnTo>
                <a:lnTo>
                  <a:pt x="113" y="131"/>
                </a:lnTo>
                <a:lnTo>
                  <a:pt x="117" y="146"/>
                </a:lnTo>
                <a:lnTo>
                  <a:pt x="120" y="162"/>
                </a:lnTo>
                <a:lnTo>
                  <a:pt x="154" y="357"/>
                </a:lnTo>
                <a:lnTo>
                  <a:pt x="168" y="438"/>
                </a:lnTo>
                <a:lnTo>
                  <a:pt x="176" y="489"/>
                </a:lnTo>
                <a:lnTo>
                  <a:pt x="186" y="543"/>
                </a:lnTo>
                <a:lnTo>
                  <a:pt x="202" y="595"/>
                </a:lnTo>
                <a:lnTo>
                  <a:pt x="210" y="595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97800" y="1792440"/>
            <a:ext cx="81000" cy="210960"/>
          </a:xfrm>
          <a:custGeom>
            <a:avLst/>
            <a:gdLst/>
            <a:ahLst/>
            <a:rect l="l" t="t" r="r" b="b"/>
            <a:pathLst>
              <a:path w="151" h="530">
                <a:moveTo>
                  <a:pt x="0" y="0"/>
                </a:moveTo>
                <a:lnTo>
                  <a:pt x="15" y="2"/>
                </a:lnTo>
                <a:lnTo>
                  <a:pt x="29" y="5"/>
                </a:lnTo>
                <a:lnTo>
                  <a:pt x="45" y="12"/>
                </a:lnTo>
                <a:lnTo>
                  <a:pt x="60" y="20"/>
                </a:lnTo>
                <a:lnTo>
                  <a:pt x="85" y="43"/>
                </a:lnTo>
                <a:lnTo>
                  <a:pt x="107" y="78"/>
                </a:lnTo>
                <a:lnTo>
                  <a:pt x="126" y="116"/>
                </a:lnTo>
                <a:lnTo>
                  <a:pt x="139" y="162"/>
                </a:lnTo>
                <a:lnTo>
                  <a:pt x="147" y="211"/>
                </a:lnTo>
                <a:lnTo>
                  <a:pt x="151" y="265"/>
                </a:lnTo>
                <a:lnTo>
                  <a:pt x="147" y="319"/>
                </a:lnTo>
                <a:lnTo>
                  <a:pt x="139" y="368"/>
                </a:lnTo>
                <a:lnTo>
                  <a:pt x="126" y="415"/>
                </a:lnTo>
                <a:lnTo>
                  <a:pt x="107" y="454"/>
                </a:lnTo>
                <a:lnTo>
                  <a:pt x="85" y="486"/>
                </a:lnTo>
                <a:lnTo>
                  <a:pt x="60" y="510"/>
                </a:lnTo>
                <a:lnTo>
                  <a:pt x="45" y="518"/>
                </a:lnTo>
                <a:lnTo>
                  <a:pt x="29" y="525"/>
                </a:lnTo>
                <a:lnTo>
                  <a:pt x="15" y="528"/>
                </a:lnTo>
                <a:lnTo>
                  <a:pt x="0" y="53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94560" y="1781280"/>
            <a:ext cx="110880" cy="234720"/>
          </a:xfrm>
          <a:custGeom>
            <a:avLst/>
            <a:gdLst/>
            <a:ahLst/>
            <a:rect l="l" t="t" r="r" b="b"/>
            <a:pathLst>
              <a:path w="211" h="593">
                <a:moveTo>
                  <a:pt x="2" y="0"/>
                </a:moveTo>
                <a:lnTo>
                  <a:pt x="211" y="0"/>
                </a:lnTo>
                <a:lnTo>
                  <a:pt x="187" y="8"/>
                </a:lnTo>
                <a:lnTo>
                  <a:pt x="173" y="15"/>
                </a:lnTo>
                <a:lnTo>
                  <a:pt x="163" y="25"/>
                </a:lnTo>
                <a:lnTo>
                  <a:pt x="151" y="35"/>
                </a:lnTo>
                <a:lnTo>
                  <a:pt x="141" y="45"/>
                </a:lnTo>
                <a:lnTo>
                  <a:pt x="132" y="58"/>
                </a:lnTo>
                <a:lnTo>
                  <a:pt x="123" y="69"/>
                </a:lnTo>
                <a:lnTo>
                  <a:pt x="117" y="81"/>
                </a:lnTo>
                <a:lnTo>
                  <a:pt x="111" y="96"/>
                </a:lnTo>
                <a:lnTo>
                  <a:pt x="105" y="111"/>
                </a:lnTo>
                <a:lnTo>
                  <a:pt x="99" y="131"/>
                </a:lnTo>
                <a:lnTo>
                  <a:pt x="95" y="146"/>
                </a:lnTo>
                <a:lnTo>
                  <a:pt x="89" y="160"/>
                </a:lnTo>
                <a:lnTo>
                  <a:pt x="55" y="355"/>
                </a:lnTo>
                <a:lnTo>
                  <a:pt x="43" y="436"/>
                </a:lnTo>
                <a:lnTo>
                  <a:pt x="35" y="489"/>
                </a:lnTo>
                <a:lnTo>
                  <a:pt x="23" y="543"/>
                </a:lnTo>
                <a:lnTo>
                  <a:pt x="10" y="593"/>
                </a:lnTo>
                <a:lnTo>
                  <a:pt x="0" y="593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0880" y="2341440"/>
            <a:ext cx="81000" cy="211320"/>
          </a:xfrm>
          <a:custGeom>
            <a:avLst/>
            <a:gdLst/>
            <a:ahLst/>
            <a:rect l="l" t="t" r="r" b="b"/>
            <a:pathLst>
              <a:path w="151" h="530">
                <a:moveTo>
                  <a:pt x="151" y="530"/>
                </a:moveTo>
                <a:lnTo>
                  <a:pt x="135" y="528"/>
                </a:lnTo>
                <a:lnTo>
                  <a:pt x="121" y="525"/>
                </a:lnTo>
                <a:lnTo>
                  <a:pt x="105" y="518"/>
                </a:lnTo>
                <a:lnTo>
                  <a:pt x="91" y="509"/>
                </a:lnTo>
                <a:lnTo>
                  <a:pt x="68" y="484"/>
                </a:lnTo>
                <a:lnTo>
                  <a:pt x="43" y="452"/>
                </a:lnTo>
                <a:lnTo>
                  <a:pt x="25" y="413"/>
                </a:lnTo>
                <a:lnTo>
                  <a:pt x="11" y="368"/>
                </a:lnTo>
                <a:lnTo>
                  <a:pt x="4" y="319"/>
                </a:lnTo>
                <a:lnTo>
                  <a:pt x="0" y="266"/>
                </a:lnTo>
                <a:lnTo>
                  <a:pt x="4" y="211"/>
                </a:lnTo>
                <a:lnTo>
                  <a:pt x="11" y="162"/>
                </a:lnTo>
                <a:lnTo>
                  <a:pt x="25" y="116"/>
                </a:lnTo>
                <a:lnTo>
                  <a:pt x="43" y="78"/>
                </a:lnTo>
                <a:lnTo>
                  <a:pt x="68" y="45"/>
                </a:lnTo>
                <a:lnTo>
                  <a:pt x="91" y="20"/>
                </a:lnTo>
                <a:lnTo>
                  <a:pt x="105" y="12"/>
                </a:lnTo>
                <a:lnTo>
                  <a:pt x="121" y="5"/>
                </a:lnTo>
                <a:lnTo>
                  <a:pt x="135" y="2"/>
                </a:lnTo>
                <a:lnTo>
                  <a:pt x="151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05680" y="2332080"/>
            <a:ext cx="110880" cy="235080"/>
          </a:xfrm>
          <a:custGeom>
            <a:avLst/>
            <a:gdLst/>
            <a:ahLst/>
            <a:rect l="l" t="t" r="r" b="b"/>
            <a:pathLst>
              <a:path w="210" h="593">
                <a:moveTo>
                  <a:pt x="208" y="0"/>
                </a:moveTo>
                <a:lnTo>
                  <a:pt x="0" y="0"/>
                </a:lnTo>
                <a:lnTo>
                  <a:pt x="24" y="8"/>
                </a:lnTo>
                <a:lnTo>
                  <a:pt x="36" y="15"/>
                </a:lnTo>
                <a:lnTo>
                  <a:pt x="47" y="23"/>
                </a:lnTo>
                <a:lnTo>
                  <a:pt x="60" y="35"/>
                </a:lnTo>
                <a:lnTo>
                  <a:pt x="70" y="45"/>
                </a:lnTo>
                <a:lnTo>
                  <a:pt x="78" y="58"/>
                </a:lnTo>
                <a:lnTo>
                  <a:pt x="88" y="70"/>
                </a:lnTo>
                <a:lnTo>
                  <a:pt x="92" y="79"/>
                </a:lnTo>
                <a:lnTo>
                  <a:pt x="98" y="96"/>
                </a:lnTo>
                <a:lnTo>
                  <a:pt x="104" y="111"/>
                </a:lnTo>
                <a:lnTo>
                  <a:pt x="113" y="129"/>
                </a:lnTo>
                <a:lnTo>
                  <a:pt x="117" y="144"/>
                </a:lnTo>
                <a:lnTo>
                  <a:pt x="120" y="160"/>
                </a:lnTo>
                <a:lnTo>
                  <a:pt x="154" y="355"/>
                </a:lnTo>
                <a:lnTo>
                  <a:pt x="168" y="436"/>
                </a:lnTo>
                <a:lnTo>
                  <a:pt x="176" y="490"/>
                </a:lnTo>
                <a:lnTo>
                  <a:pt x="186" y="543"/>
                </a:lnTo>
                <a:lnTo>
                  <a:pt x="202" y="593"/>
                </a:lnTo>
                <a:lnTo>
                  <a:pt x="210" y="593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97800" y="2343240"/>
            <a:ext cx="81000" cy="210960"/>
          </a:xfrm>
          <a:custGeom>
            <a:avLst/>
            <a:gdLst/>
            <a:ahLst/>
            <a:rect l="l" t="t" r="r" b="b"/>
            <a:pathLst>
              <a:path w="151" h="531">
                <a:moveTo>
                  <a:pt x="0" y="0"/>
                </a:moveTo>
                <a:lnTo>
                  <a:pt x="15" y="3"/>
                </a:lnTo>
                <a:lnTo>
                  <a:pt x="29" y="5"/>
                </a:lnTo>
                <a:lnTo>
                  <a:pt x="45" y="13"/>
                </a:lnTo>
                <a:lnTo>
                  <a:pt x="60" y="23"/>
                </a:lnTo>
                <a:lnTo>
                  <a:pt x="85" y="46"/>
                </a:lnTo>
                <a:lnTo>
                  <a:pt x="107" y="79"/>
                </a:lnTo>
                <a:lnTo>
                  <a:pt x="126" y="119"/>
                </a:lnTo>
                <a:lnTo>
                  <a:pt x="139" y="163"/>
                </a:lnTo>
                <a:lnTo>
                  <a:pt x="147" y="211"/>
                </a:lnTo>
                <a:lnTo>
                  <a:pt x="151" y="266"/>
                </a:lnTo>
                <a:lnTo>
                  <a:pt x="147" y="320"/>
                </a:lnTo>
                <a:lnTo>
                  <a:pt x="139" y="368"/>
                </a:lnTo>
                <a:lnTo>
                  <a:pt x="126" y="416"/>
                </a:lnTo>
                <a:lnTo>
                  <a:pt x="107" y="455"/>
                </a:lnTo>
                <a:lnTo>
                  <a:pt x="85" y="487"/>
                </a:lnTo>
                <a:lnTo>
                  <a:pt x="60" y="511"/>
                </a:lnTo>
                <a:lnTo>
                  <a:pt x="45" y="518"/>
                </a:lnTo>
                <a:lnTo>
                  <a:pt x="29" y="526"/>
                </a:lnTo>
                <a:lnTo>
                  <a:pt x="15" y="528"/>
                </a:lnTo>
                <a:lnTo>
                  <a:pt x="0" y="531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94560" y="2333520"/>
            <a:ext cx="110880" cy="233640"/>
          </a:xfrm>
          <a:custGeom>
            <a:avLst/>
            <a:gdLst/>
            <a:ahLst/>
            <a:rect l="l" t="t" r="r" b="b"/>
            <a:pathLst>
              <a:path w="211" h="591">
                <a:moveTo>
                  <a:pt x="2" y="0"/>
                </a:moveTo>
                <a:lnTo>
                  <a:pt x="211" y="0"/>
                </a:lnTo>
                <a:lnTo>
                  <a:pt x="187" y="8"/>
                </a:lnTo>
                <a:lnTo>
                  <a:pt x="173" y="15"/>
                </a:lnTo>
                <a:lnTo>
                  <a:pt x="163" y="23"/>
                </a:lnTo>
                <a:lnTo>
                  <a:pt x="151" y="33"/>
                </a:lnTo>
                <a:lnTo>
                  <a:pt x="141" y="45"/>
                </a:lnTo>
                <a:lnTo>
                  <a:pt x="132" y="58"/>
                </a:lnTo>
                <a:lnTo>
                  <a:pt x="123" y="68"/>
                </a:lnTo>
                <a:lnTo>
                  <a:pt x="117" y="79"/>
                </a:lnTo>
                <a:lnTo>
                  <a:pt x="111" y="94"/>
                </a:lnTo>
                <a:lnTo>
                  <a:pt x="105" y="111"/>
                </a:lnTo>
                <a:lnTo>
                  <a:pt x="99" y="129"/>
                </a:lnTo>
                <a:lnTo>
                  <a:pt x="95" y="144"/>
                </a:lnTo>
                <a:lnTo>
                  <a:pt x="89" y="158"/>
                </a:lnTo>
                <a:lnTo>
                  <a:pt x="55" y="355"/>
                </a:lnTo>
                <a:lnTo>
                  <a:pt x="43" y="436"/>
                </a:lnTo>
                <a:lnTo>
                  <a:pt x="35" y="487"/>
                </a:lnTo>
                <a:lnTo>
                  <a:pt x="23" y="541"/>
                </a:lnTo>
                <a:lnTo>
                  <a:pt x="10" y="591"/>
                </a:lnTo>
                <a:lnTo>
                  <a:pt x="0" y="591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30880" y="2065320"/>
            <a:ext cx="81000" cy="211320"/>
          </a:xfrm>
          <a:custGeom>
            <a:avLst/>
            <a:gdLst/>
            <a:ahLst/>
            <a:rect l="l" t="t" r="r" b="b"/>
            <a:pathLst>
              <a:path w="151" h="531">
                <a:moveTo>
                  <a:pt x="151" y="531"/>
                </a:moveTo>
                <a:lnTo>
                  <a:pt x="135" y="528"/>
                </a:lnTo>
                <a:lnTo>
                  <a:pt x="121" y="526"/>
                </a:lnTo>
                <a:lnTo>
                  <a:pt x="105" y="518"/>
                </a:lnTo>
                <a:lnTo>
                  <a:pt x="91" y="512"/>
                </a:lnTo>
                <a:lnTo>
                  <a:pt x="68" y="487"/>
                </a:lnTo>
                <a:lnTo>
                  <a:pt x="43" y="454"/>
                </a:lnTo>
                <a:lnTo>
                  <a:pt x="25" y="416"/>
                </a:lnTo>
                <a:lnTo>
                  <a:pt x="11" y="368"/>
                </a:lnTo>
                <a:lnTo>
                  <a:pt x="4" y="320"/>
                </a:lnTo>
                <a:lnTo>
                  <a:pt x="0" y="266"/>
                </a:lnTo>
                <a:lnTo>
                  <a:pt x="4" y="211"/>
                </a:lnTo>
                <a:lnTo>
                  <a:pt x="11" y="162"/>
                </a:lnTo>
                <a:lnTo>
                  <a:pt x="25" y="116"/>
                </a:lnTo>
                <a:lnTo>
                  <a:pt x="43" y="79"/>
                </a:lnTo>
                <a:lnTo>
                  <a:pt x="68" y="45"/>
                </a:lnTo>
                <a:lnTo>
                  <a:pt x="91" y="20"/>
                </a:lnTo>
                <a:lnTo>
                  <a:pt x="105" y="13"/>
                </a:lnTo>
                <a:lnTo>
                  <a:pt x="121" y="5"/>
                </a:lnTo>
                <a:lnTo>
                  <a:pt x="135" y="3"/>
                </a:lnTo>
                <a:lnTo>
                  <a:pt x="151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205680" y="2054160"/>
            <a:ext cx="110880" cy="235080"/>
          </a:xfrm>
          <a:custGeom>
            <a:avLst/>
            <a:gdLst/>
            <a:ahLst/>
            <a:rect l="l" t="t" r="r" b="b"/>
            <a:pathLst>
              <a:path w="210" h="593">
                <a:moveTo>
                  <a:pt x="208" y="0"/>
                </a:moveTo>
                <a:lnTo>
                  <a:pt x="0" y="0"/>
                </a:lnTo>
                <a:lnTo>
                  <a:pt x="24" y="7"/>
                </a:lnTo>
                <a:lnTo>
                  <a:pt x="36" y="17"/>
                </a:lnTo>
                <a:lnTo>
                  <a:pt x="47" y="25"/>
                </a:lnTo>
                <a:lnTo>
                  <a:pt x="60" y="35"/>
                </a:lnTo>
                <a:lnTo>
                  <a:pt x="70" y="45"/>
                </a:lnTo>
                <a:lnTo>
                  <a:pt x="78" y="57"/>
                </a:lnTo>
                <a:lnTo>
                  <a:pt x="88" y="70"/>
                </a:lnTo>
                <a:lnTo>
                  <a:pt x="92" y="81"/>
                </a:lnTo>
                <a:lnTo>
                  <a:pt x="98" y="96"/>
                </a:lnTo>
                <a:lnTo>
                  <a:pt x="104" y="113"/>
                </a:lnTo>
                <a:lnTo>
                  <a:pt x="113" y="131"/>
                </a:lnTo>
                <a:lnTo>
                  <a:pt x="117" y="146"/>
                </a:lnTo>
                <a:lnTo>
                  <a:pt x="120" y="160"/>
                </a:lnTo>
                <a:lnTo>
                  <a:pt x="154" y="357"/>
                </a:lnTo>
                <a:lnTo>
                  <a:pt x="168" y="435"/>
                </a:lnTo>
                <a:lnTo>
                  <a:pt x="176" y="489"/>
                </a:lnTo>
                <a:lnTo>
                  <a:pt x="186" y="543"/>
                </a:lnTo>
                <a:lnTo>
                  <a:pt x="202" y="593"/>
                </a:lnTo>
                <a:lnTo>
                  <a:pt x="210" y="593"/>
                </a:lnTo>
                <a:lnTo>
                  <a:pt x="208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2066760"/>
            <a:ext cx="81000" cy="211320"/>
          </a:xfrm>
          <a:custGeom>
            <a:avLst/>
            <a:gdLst/>
            <a:ahLst/>
            <a:rect l="l" t="t" r="r" b="b"/>
            <a:pathLst>
              <a:path w="151" h="533">
                <a:moveTo>
                  <a:pt x="0" y="0"/>
                </a:moveTo>
                <a:lnTo>
                  <a:pt x="15" y="2"/>
                </a:lnTo>
                <a:lnTo>
                  <a:pt x="29" y="5"/>
                </a:lnTo>
                <a:lnTo>
                  <a:pt x="45" y="12"/>
                </a:lnTo>
                <a:lnTo>
                  <a:pt x="60" y="22"/>
                </a:lnTo>
                <a:lnTo>
                  <a:pt x="85" y="46"/>
                </a:lnTo>
                <a:lnTo>
                  <a:pt x="107" y="78"/>
                </a:lnTo>
                <a:lnTo>
                  <a:pt x="126" y="118"/>
                </a:lnTo>
                <a:lnTo>
                  <a:pt x="139" y="164"/>
                </a:lnTo>
                <a:lnTo>
                  <a:pt x="147" y="213"/>
                </a:lnTo>
                <a:lnTo>
                  <a:pt x="151" y="268"/>
                </a:lnTo>
                <a:lnTo>
                  <a:pt x="147" y="322"/>
                </a:lnTo>
                <a:lnTo>
                  <a:pt x="139" y="370"/>
                </a:lnTo>
                <a:lnTo>
                  <a:pt x="126" y="415"/>
                </a:lnTo>
                <a:lnTo>
                  <a:pt x="107" y="454"/>
                </a:lnTo>
                <a:lnTo>
                  <a:pt x="85" y="486"/>
                </a:lnTo>
                <a:lnTo>
                  <a:pt x="60" y="510"/>
                </a:lnTo>
                <a:lnTo>
                  <a:pt x="45" y="520"/>
                </a:lnTo>
                <a:lnTo>
                  <a:pt x="29" y="528"/>
                </a:lnTo>
                <a:lnTo>
                  <a:pt x="15" y="530"/>
                </a:lnTo>
                <a:lnTo>
                  <a:pt x="0" y="533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94560" y="2055960"/>
            <a:ext cx="110880" cy="236520"/>
          </a:xfrm>
          <a:custGeom>
            <a:avLst/>
            <a:gdLst/>
            <a:ahLst/>
            <a:rect l="l" t="t" r="r" b="b"/>
            <a:pathLst>
              <a:path w="211" h="593">
                <a:moveTo>
                  <a:pt x="2" y="0"/>
                </a:moveTo>
                <a:lnTo>
                  <a:pt x="211" y="0"/>
                </a:lnTo>
                <a:lnTo>
                  <a:pt x="187" y="7"/>
                </a:lnTo>
                <a:lnTo>
                  <a:pt x="173" y="15"/>
                </a:lnTo>
                <a:lnTo>
                  <a:pt x="163" y="22"/>
                </a:lnTo>
                <a:lnTo>
                  <a:pt x="151" y="32"/>
                </a:lnTo>
                <a:lnTo>
                  <a:pt x="141" y="45"/>
                </a:lnTo>
                <a:lnTo>
                  <a:pt x="132" y="57"/>
                </a:lnTo>
                <a:lnTo>
                  <a:pt x="123" y="70"/>
                </a:lnTo>
                <a:lnTo>
                  <a:pt x="117" y="81"/>
                </a:lnTo>
                <a:lnTo>
                  <a:pt x="111" y="96"/>
                </a:lnTo>
                <a:lnTo>
                  <a:pt x="105" y="111"/>
                </a:lnTo>
                <a:lnTo>
                  <a:pt x="99" y="131"/>
                </a:lnTo>
                <a:lnTo>
                  <a:pt x="95" y="146"/>
                </a:lnTo>
                <a:lnTo>
                  <a:pt x="89" y="160"/>
                </a:lnTo>
                <a:lnTo>
                  <a:pt x="55" y="354"/>
                </a:lnTo>
                <a:lnTo>
                  <a:pt x="43" y="435"/>
                </a:lnTo>
                <a:lnTo>
                  <a:pt x="35" y="489"/>
                </a:lnTo>
                <a:lnTo>
                  <a:pt x="23" y="543"/>
                </a:lnTo>
                <a:lnTo>
                  <a:pt x="10" y="593"/>
                </a:lnTo>
                <a:lnTo>
                  <a:pt x="0" y="593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89640" y="1593720"/>
            <a:ext cx="228600" cy="160560"/>
          </a:xfrm>
          <a:custGeom>
            <a:avLst/>
            <a:gdLst/>
            <a:ahLst/>
            <a:rect l="l" t="t" r="r" b="b"/>
            <a:pathLst>
              <a:path w="433" h="400">
                <a:moveTo>
                  <a:pt x="140" y="400"/>
                </a:moveTo>
                <a:lnTo>
                  <a:pt x="140" y="312"/>
                </a:lnTo>
                <a:lnTo>
                  <a:pt x="54" y="312"/>
                </a:lnTo>
                <a:lnTo>
                  <a:pt x="43" y="308"/>
                </a:lnTo>
                <a:lnTo>
                  <a:pt x="35" y="305"/>
                </a:lnTo>
                <a:lnTo>
                  <a:pt x="27" y="300"/>
                </a:lnTo>
                <a:lnTo>
                  <a:pt x="20" y="293"/>
                </a:lnTo>
                <a:lnTo>
                  <a:pt x="12" y="283"/>
                </a:lnTo>
                <a:lnTo>
                  <a:pt x="6" y="273"/>
                </a:lnTo>
                <a:lnTo>
                  <a:pt x="4" y="265"/>
                </a:lnTo>
                <a:lnTo>
                  <a:pt x="0" y="253"/>
                </a:lnTo>
                <a:lnTo>
                  <a:pt x="0" y="240"/>
                </a:lnTo>
                <a:lnTo>
                  <a:pt x="0" y="232"/>
                </a:lnTo>
                <a:lnTo>
                  <a:pt x="4" y="217"/>
                </a:lnTo>
                <a:lnTo>
                  <a:pt x="10" y="204"/>
                </a:lnTo>
                <a:lnTo>
                  <a:pt x="18" y="194"/>
                </a:lnTo>
                <a:lnTo>
                  <a:pt x="25" y="182"/>
                </a:lnTo>
                <a:lnTo>
                  <a:pt x="35" y="174"/>
                </a:lnTo>
                <a:lnTo>
                  <a:pt x="43" y="167"/>
                </a:lnTo>
                <a:lnTo>
                  <a:pt x="52" y="164"/>
                </a:lnTo>
                <a:lnTo>
                  <a:pt x="142" y="164"/>
                </a:lnTo>
                <a:lnTo>
                  <a:pt x="142" y="86"/>
                </a:lnTo>
                <a:lnTo>
                  <a:pt x="144" y="77"/>
                </a:lnTo>
                <a:lnTo>
                  <a:pt x="149" y="62"/>
                </a:lnTo>
                <a:lnTo>
                  <a:pt x="153" y="52"/>
                </a:lnTo>
                <a:lnTo>
                  <a:pt x="163" y="37"/>
                </a:lnTo>
                <a:lnTo>
                  <a:pt x="171" y="27"/>
                </a:lnTo>
                <a:lnTo>
                  <a:pt x="181" y="17"/>
                </a:lnTo>
                <a:lnTo>
                  <a:pt x="189" y="12"/>
                </a:lnTo>
                <a:lnTo>
                  <a:pt x="202" y="5"/>
                </a:lnTo>
                <a:lnTo>
                  <a:pt x="213" y="0"/>
                </a:lnTo>
                <a:lnTo>
                  <a:pt x="225" y="0"/>
                </a:lnTo>
                <a:lnTo>
                  <a:pt x="239" y="5"/>
                </a:lnTo>
                <a:lnTo>
                  <a:pt x="251" y="10"/>
                </a:lnTo>
                <a:lnTo>
                  <a:pt x="261" y="17"/>
                </a:lnTo>
                <a:lnTo>
                  <a:pt x="272" y="27"/>
                </a:lnTo>
                <a:lnTo>
                  <a:pt x="283" y="39"/>
                </a:lnTo>
                <a:lnTo>
                  <a:pt x="291" y="52"/>
                </a:lnTo>
                <a:lnTo>
                  <a:pt x="295" y="62"/>
                </a:lnTo>
                <a:lnTo>
                  <a:pt x="299" y="77"/>
                </a:lnTo>
                <a:lnTo>
                  <a:pt x="301" y="91"/>
                </a:lnTo>
                <a:lnTo>
                  <a:pt x="301" y="162"/>
                </a:lnTo>
                <a:lnTo>
                  <a:pt x="385" y="162"/>
                </a:lnTo>
                <a:lnTo>
                  <a:pt x="393" y="167"/>
                </a:lnTo>
                <a:lnTo>
                  <a:pt x="400" y="174"/>
                </a:lnTo>
                <a:lnTo>
                  <a:pt x="410" y="182"/>
                </a:lnTo>
                <a:lnTo>
                  <a:pt x="419" y="192"/>
                </a:lnTo>
                <a:lnTo>
                  <a:pt x="425" y="202"/>
                </a:lnTo>
                <a:lnTo>
                  <a:pt x="431" y="214"/>
                </a:lnTo>
                <a:lnTo>
                  <a:pt x="433" y="227"/>
                </a:lnTo>
                <a:lnTo>
                  <a:pt x="433" y="238"/>
                </a:lnTo>
                <a:lnTo>
                  <a:pt x="433" y="253"/>
                </a:lnTo>
                <a:lnTo>
                  <a:pt x="431" y="263"/>
                </a:lnTo>
                <a:lnTo>
                  <a:pt x="425" y="275"/>
                </a:lnTo>
                <a:lnTo>
                  <a:pt x="419" y="288"/>
                </a:lnTo>
                <a:lnTo>
                  <a:pt x="410" y="298"/>
                </a:lnTo>
                <a:lnTo>
                  <a:pt x="400" y="303"/>
                </a:lnTo>
                <a:lnTo>
                  <a:pt x="383" y="312"/>
                </a:lnTo>
                <a:lnTo>
                  <a:pt x="301" y="312"/>
                </a:lnTo>
                <a:lnTo>
                  <a:pt x="301" y="400"/>
                </a:lnTo>
                <a:lnTo>
                  <a:pt x="140" y="400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73880" y="1660680"/>
            <a:ext cx="65160" cy="60120"/>
          </a:xfrm>
          <a:custGeom>
            <a:avLst/>
            <a:gdLst/>
            <a:ahLst/>
            <a:rect l="l" t="t" r="r" b="b"/>
            <a:pathLst>
              <a:path w="124" h="152">
                <a:moveTo>
                  <a:pt x="124" y="76"/>
                </a:moveTo>
                <a:lnTo>
                  <a:pt x="124" y="85"/>
                </a:lnTo>
                <a:lnTo>
                  <a:pt x="123" y="92"/>
                </a:lnTo>
                <a:lnTo>
                  <a:pt x="122" y="98"/>
                </a:lnTo>
                <a:lnTo>
                  <a:pt x="119" y="106"/>
                </a:lnTo>
                <a:lnTo>
                  <a:pt x="117" y="112"/>
                </a:lnTo>
                <a:lnTo>
                  <a:pt x="114" y="118"/>
                </a:lnTo>
                <a:lnTo>
                  <a:pt x="110" y="125"/>
                </a:lnTo>
                <a:lnTo>
                  <a:pt x="105" y="130"/>
                </a:lnTo>
                <a:lnTo>
                  <a:pt x="101" y="135"/>
                </a:lnTo>
                <a:lnTo>
                  <a:pt x="96" y="140"/>
                </a:lnTo>
                <a:lnTo>
                  <a:pt x="91" y="143"/>
                </a:lnTo>
                <a:lnTo>
                  <a:pt x="86" y="147"/>
                </a:lnTo>
                <a:lnTo>
                  <a:pt x="80" y="150"/>
                </a:lnTo>
                <a:lnTo>
                  <a:pt x="75" y="151"/>
                </a:lnTo>
                <a:lnTo>
                  <a:pt x="69" y="152"/>
                </a:lnTo>
                <a:lnTo>
                  <a:pt x="62" y="152"/>
                </a:lnTo>
                <a:lnTo>
                  <a:pt x="56" y="152"/>
                </a:lnTo>
                <a:lnTo>
                  <a:pt x="50" y="151"/>
                </a:lnTo>
                <a:lnTo>
                  <a:pt x="44" y="150"/>
                </a:lnTo>
                <a:lnTo>
                  <a:pt x="39" y="147"/>
                </a:lnTo>
                <a:lnTo>
                  <a:pt x="32" y="143"/>
                </a:lnTo>
                <a:lnTo>
                  <a:pt x="27" y="140"/>
                </a:lnTo>
                <a:lnTo>
                  <a:pt x="23" y="135"/>
                </a:lnTo>
                <a:lnTo>
                  <a:pt x="18" y="130"/>
                </a:lnTo>
                <a:lnTo>
                  <a:pt x="14" y="125"/>
                </a:lnTo>
                <a:lnTo>
                  <a:pt x="11" y="118"/>
                </a:lnTo>
                <a:lnTo>
                  <a:pt x="8" y="112"/>
                </a:lnTo>
                <a:lnTo>
                  <a:pt x="5" y="106"/>
                </a:lnTo>
                <a:lnTo>
                  <a:pt x="3" y="98"/>
                </a:lnTo>
                <a:lnTo>
                  <a:pt x="2" y="92"/>
                </a:lnTo>
                <a:lnTo>
                  <a:pt x="1" y="85"/>
                </a:lnTo>
                <a:lnTo>
                  <a:pt x="0" y="76"/>
                </a:lnTo>
                <a:lnTo>
                  <a:pt x="1" y="68"/>
                </a:lnTo>
                <a:lnTo>
                  <a:pt x="2" y="61"/>
                </a:lnTo>
                <a:lnTo>
                  <a:pt x="3" y="53"/>
                </a:lnTo>
                <a:lnTo>
                  <a:pt x="5" y="47"/>
                </a:lnTo>
                <a:lnTo>
                  <a:pt x="8" y="40"/>
                </a:lnTo>
                <a:lnTo>
                  <a:pt x="11" y="33"/>
                </a:lnTo>
                <a:lnTo>
                  <a:pt x="14" y="28"/>
                </a:lnTo>
                <a:lnTo>
                  <a:pt x="18" y="22"/>
                </a:lnTo>
                <a:lnTo>
                  <a:pt x="23" y="17"/>
                </a:lnTo>
                <a:lnTo>
                  <a:pt x="27" y="13"/>
                </a:lnTo>
                <a:lnTo>
                  <a:pt x="32" y="10"/>
                </a:lnTo>
                <a:lnTo>
                  <a:pt x="39" y="6"/>
                </a:lnTo>
                <a:lnTo>
                  <a:pt x="44" y="4"/>
                </a:lnTo>
                <a:lnTo>
                  <a:pt x="50" y="2"/>
                </a:lnTo>
                <a:lnTo>
                  <a:pt x="56" y="1"/>
                </a:lnTo>
                <a:lnTo>
                  <a:pt x="62" y="0"/>
                </a:lnTo>
                <a:lnTo>
                  <a:pt x="69" y="1"/>
                </a:lnTo>
                <a:lnTo>
                  <a:pt x="75" y="2"/>
                </a:lnTo>
                <a:lnTo>
                  <a:pt x="80" y="4"/>
                </a:lnTo>
                <a:lnTo>
                  <a:pt x="86" y="6"/>
                </a:lnTo>
                <a:lnTo>
                  <a:pt x="91" y="10"/>
                </a:lnTo>
                <a:lnTo>
                  <a:pt x="96" y="13"/>
                </a:lnTo>
                <a:lnTo>
                  <a:pt x="101" y="17"/>
                </a:lnTo>
                <a:lnTo>
                  <a:pt x="105" y="22"/>
                </a:lnTo>
                <a:lnTo>
                  <a:pt x="110" y="28"/>
                </a:lnTo>
                <a:lnTo>
                  <a:pt x="114" y="33"/>
                </a:lnTo>
                <a:lnTo>
                  <a:pt x="117" y="40"/>
                </a:lnTo>
                <a:lnTo>
                  <a:pt x="119" y="47"/>
                </a:lnTo>
                <a:lnTo>
                  <a:pt x="122" y="53"/>
                </a:lnTo>
                <a:lnTo>
                  <a:pt x="123" y="61"/>
                </a:lnTo>
                <a:lnTo>
                  <a:pt x="124" y="68"/>
                </a:lnTo>
                <a:lnTo>
                  <a:pt x="124" y="76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08640" y="1743120"/>
            <a:ext cx="393840" cy="861840"/>
          </a:xfrm>
          <a:prstGeom prst="rect">
            <a:avLst/>
          </a:prstGeom>
          <a:noFill/>
          <a:ln w="936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67320" y="1763640"/>
            <a:ext cx="273240" cy="228600"/>
          </a:xfrm>
          <a:custGeom>
            <a:avLst/>
            <a:gdLst/>
            <a:ahLst/>
            <a:rect l="l" t="t" r="r" b="b"/>
            <a:pathLst>
              <a:path w="515" h="572">
                <a:moveTo>
                  <a:pt x="0" y="195"/>
                </a:moveTo>
                <a:lnTo>
                  <a:pt x="2" y="179"/>
                </a:lnTo>
                <a:lnTo>
                  <a:pt x="6" y="159"/>
                </a:lnTo>
                <a:lnTo>
                  <a:pt x="12" y="142"/>
                </a:lnTo>
                <a:lnTo>
                  <a:pt x="21" y="124"/>
                </a:lnTo>
                <a:lnTo>
                  <a:pt x="29" y="112"/>
                </a:lnTo>
                <a:lnTo>
                  <a:pt x="37" y="101"/>
                </a:lnTo>
                <a:lnTo>
                  <a:pt x="47" y="86"/>
                </a:lnTo>
                <a:lnTo>
                  <a:pt x="61" y="73"/>
                </a:lnTo>
                <a:lnTo>
                  <a:pt x="76" y="58"/>
                </a:lnTo>
                <a:lnTo>
                  <a:pt x="97" y="46"/>
                </a:lnTo>
                <a:lnTo>
                  <a:pt x="117" y="35"/>
                </a:lnTo>
                <a:lnTo>
                  <a:pt x="140" y="25"/>
                </a:lnTo>
                <a:lnTo>
                  <a:pt x="162" y="15"/>
                </a:lnTo>
                <a:lnTo>
                  <a:pt x="188" y="10"/>
                </a:lnTo>
                <a:lnTo>
                  <a:pt x="212" y="2"/>
                </a:lnTo>
                <a:lnTo>
                  <a:pt x="230" y="2"/>
                </a:lnTo>
                <a:lnTo>
                  <a:pt x="252" y="0"/>
                </a:lnTo>
                <a:lnTo>
                  <a:pt x="276" y="0"/>
                </a:lnTo>
                <a:lnTo>
                  <a:pt x="292" y="2"/>
                </a:lnTo>
                <a:lnTo>
                  <a:pt x="313" y="5"/>
                </a:lnTo>
                <a:lnTo>
                  <a:pt x="332" y="10"/>
                </a:lnTo>
                <a:lnTo>
                  <a:pt x="352" y="15"/>
                </a:lnTo>
                <a:lnTo>
                  <a:pt x="372" y="22"/>
                </a:lnTo>
                <a:lnTo>
                  <a:pt x="388" y="30"/>
                </a:lnTo>
                <a:lnTo>
                  <a:pt x="408" y="38"/>
                </a:lnTo>
                <a:lnTo>
                  <a:pt x="422" y="48"/>
                </a:lnTo>
                <a:lnTo>
                  <a:pt x="432" y="56"/>
                </a:lnTo>
                <a:lnTo>
                  <a:pt x="443" y="66"/>
                </a:lnTo>
                <a:lnTo>
                  <a:pt x="456" y="76"/>
                </a:lnTo>
                <a:lnTo>
                  <a:pt x="468" y="88"/>
                </a:lnTo>
                <a:lnTo>
                  <a:pt x="480" y="103"/>
                </a:lnTo>
                <a:lnTo>
                  <a:pt x="488" y="117"/>
                </a:lnTo>
                <a:lnTo>
                  <a:pt x="496" y="129"/>
                </a:lnTo>
                <a:lnTo>
                  <a:pt x="501" y="142"/>
                </a:lnTo>
                <a:lnTo>
                  <a:pt x="507" y="154"/>
                </a:lnTo>
                <a:lnTo>
                  <a:pt x="511" y="167"/>
                </a:lnTo>
                <a:lnTo>
                  <a:pt x="515" y="184"/>
                </a:lnTo>
                <a:lnTo>
                  <a:pt x="515" y="572"/>
                </a:lnTo>
                <a:lnTo>
                  <a:pt x="2" y="570"/>
                </a:lnTo>
                <a:lnTo>
                  <a:pt x="0" y="195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67320" y="1776240"/>
            <a:ext cx="273240" cy="227160"/>
          </a:xfrm>
          <a:custGeom>
            <a:avLst/>
            <a:gdLst/>
            <a:ahLst/>
            <a:rect l="l" t="t" r="r" b="b"/>
            <a:pathLst>
              <a:path w="515" h="574">
                <a:moveTo>
                  <a:pt x="0" y="195"/>
                </a:moveTo>
                <a:lnTo>
                  <a:pt x="2" y="178"/>
                </a:lnTo>
                <a:lnTo>
                  <a:pt x="6" y="160"/>
                </a:lnTo>
                <a:lnTo>
                  <a:pt x="12" y="144"/>
                </a:lnTo>
                <a:lnTo>
                  <a:pt x="21" y="127"/>
                </a:lnTo>
                <a:lnTo>
                  <a:pt x="29" y="114"/>
                </a:lnTo>
                <a:lnTo>
                  <a:pt x="37" y="102"/>
                </a:lnTo>
                <a:lnTo>
                  <a:pt x="47" y="87"/>
                </a:lnTo>
                <a:lnTo>
                  <a:pt x="61" y="73"/>
                </a:lnTo>
                <a:lnTo>
                  <a:pt x="76" y="61"/>
                </a:lnTo>
                <a:lnTo>
                  <a:pt x="97" y="46"/>
                </a:lnTo>
                <a:lnTo>
                  <a:pt x="117" y="33"/>
                </a:lnTo>
                <a:lnTo>
                  <a:pt x="140" y="23"/>
                </a:lnTo>
                <a:lnTo>
                  <a:pt x="162" y="16"/>
                </a:lnTo>
                <a:lnTo>
                  <a:pt x="188" y="8"/>
                </a:lnTo>
                <a:lnTo>
                  <a:pt x="212" y="5"/>
                </a:lnTo>
                <a:lnTo>
                  <a:pt x="230" y="2"/>
                </a:lnTo>
                <a:lnTo>
                  <a:pt x="252" y="0"/>
                </a:lnTo>
                <a:lnTo>
                  <a:pt x="276" y="0"/>
                </a:lnTo>
                <a:lnTo>
                  <a:pt x="292" y="2"/>
                </a:lnTo>
                <a:lnTo>
                  <a:pt x="313" y="5"/>
                </a:lnTo>
                <a:lnTo>
                  <a:pt x="332" y="8"/>
                </a:lnTo>
                <a:lnTo>
                  <a:pt x="352" y="16"/>
                </a:lnTo>
                <a:lnTo>
                  <a:pt x="372" y="23"/>
                </a:lnTo>
                <a:lnTo>
                  <a:pt x="388" y="31"/>
                </a:lnTo>
                <a:lnTo>
                  <a:pt x="408" y="41"/>
                </a:lnTo>
                <a:lnTo>
                  <a:pt x="422" y="48"/>
                </a:lnTo>
                <a:lnTo>
                  <a:pt x="432" y="58"/>
                </a:lnTo>
                <a:lnTo>
                  <a:pt x="443" y="66"/>
                </a:lnTo>
                <a:lnTo>
                  <a:pt x="456" y="78"/>
                </a:lnTo>
                <a:lnTo>
                  <a:pt x="468" y="87"/>
                </a:lnTo>
                <a:lnTo>
                  <a:pt x="480" y="104"/>
                </a:lnTo>
                <a:lnTo>
                  <a:pt x="488" y="117"/>
                </a:lnTo>
                <a:lnTo>
                  <a:pt x="496" y="129"/>
                </a:lnTo>
                <a:lnTo>
                  <a:pt x="501" y="142"/>
                </a:lnTo>
                <a:lnTo>
                  <a:pt x="507" y="154"/>
                </a:lnTo>
                <a:lnTo>
                  <a:pt x="511" y="168"/>
                </a:lnTo>
                <a:lnTo>
                  <a:pt x="515" y="183"/>
                </a:lnTo>
                <a:lnTo>
                  <a:pt x="515" y="574"/>
                </a:lnTo>
                <a:lnTo>
                  <a:pt x="2" y="571"/>
                </a:lnTo>
                <a:lnTo>
                  <a:pt x="0" y="195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86400" y="1785960"/>
            <a:ext cx="233640" cy="216000"/>
          </a:xfrm>
          <a:custGeom>
            <a:avLst/>
            <a:gdLst/>
            <a:ahLst/>
            <a:rect l="l" t="t" r="r" b="b"/>
            <a:pathLst>
              <a:path w="441" h="546">
                <a:moveTo>
                  <a:pt x="441" y="274"/>
                </a:moveTo>
                <a:lnTo>
                  <a:pt x="441" y="287"/>
                </a:lnTo>
                <a:lnTo>
                  <a:pt x="440" y="301"/>
                </a:lnTo>
                <a:lnTo>
                  <a:pt x="438" y="315"/>
                </a:lnTo>
                <a:lnTo>
                  <a:pt x="436" y="328"/>
                </a:lnTo>
                <a:lnTo>
                  <a:pt x="434" y="341"/>
                </a:lnTo>
                <a:lnTo>
                  <a:pt x="431" y="353"/>
                </a:lnTo>
                <a:lnTo>
                  <a:pt x="428" y="367"/>
                </a:lnTo>
                <a:lnTo>
                  <a:pt x="424" y="380"/>
                </a:lnTo>
                <a:lnTo>
                  <a:pt x="418" y="391"/>
                </a:lnTo>
                <a:lnTo>
                  <a:pt x="413" y="403"/>
                </a:lnTo>
                <a:lnTo>
                  <a:pt x="408" y="415"/>
                </a:lnTo>
                <a:lnTo>
                  <a:pt x="403" y="426"/>
                </a:lnTo>
                <a:lnTo>
                  <a:pt x="390" y="446"/>
                </a:lnTo>
                <a:lnTo>
                  <a:pt x="376" y="466"/>
                </a:lnTo>
                <a:lnTo>
                  <a:pt x="361" y="483"/>
                </a:lnTo>
                <a:lnTo>
                  <a:pt x="343" y="499"/>
                </a:lnTo>
                <a:lnTo>
                  <a:pt x="334" y="506"/>
                </a:lnTo>
                <a:lnTo>
                  <a:pt x="325" y="513"/>
                </a:lnTo>
                <a:lnTo>
                  <a:pt x="316" y="519"/>
                </a:lnTo>
                <a:lnTo>
                  <a:pt x="306" y="524"/>
                </a:lnTo>
                <a:lnTo>
                  <a:pt x="296" y="529"/>
                </a:lnTo>
                <a:lnTo>
                  <a:pt x="286" y="533"/>
                </a:lnTo>
                <a:lnTo>
                  <a:pt x="276" y="537"/>
                </a:lnTo>
                <a:lnTo>
                  <a:pt x="265" y="541"/>
                </a:lnTo>
                <a:lnTo>
                  <a:pt x="254" y="543"/>
                </a:lnTo>
                <a:lnTo>
                  <a:pt x="243" y="544"/>
                </a:lnTo>
                <a:lnTo>
                  <a:pt x="232" y="546"/>
                </a:lnTo>
                <a:lnTo>
                  <a:pt x="221" y="546"/>
                </a:lnTo>
                <a:lnTo>
                  <a:pt x="210" y="546"/>
                </a:lnTo>
                <a:lnTo>
                  <a:pt x="198" y="544"/>
                </a:lnTo>
                <a:lnTo>
                  <a:pt x="187" y="543"/>
                </a:lnTo>
                <a:lnTo>
                  <a:pt x="177" y="541"/>
                </a:lnTo>
                <a:lnTo>
                  <a:pt x="166" y="537"/>
                </a:lnTo>
                <a:lnTo>
                  <a:pt x="156" y="533"/>
                </a:lnTo>
                <a:lnTo>
                  <a:pt x="146" y="529"/>
                </a:lnTo>
                <a:lnTo>
                  <a:pt x="136" y="524"/>
                </a:lnTo>
                <a:lnTo>
                  <a:pt x="125" y="519"/>
                </a:lnTo>
                <a:lnTo>
                  <a:pt x="116" y="513"/>
                </a:lnTo>
                <a:lnTo>
                  <a:pt x="106" y="506"/>
                </a:lnTo>
                <a:lnTo>
                  <a:pt x="98" y="499"/>
                </a:lnTo>
                <a:lnTo>
                  <a:pt x="89" y="492"/>
                </a:lnTo>
                <a:lnTo>
                  <a:pt x="81" y="483"/>
                </a:lnTo>
                <a:lnTo>
                  <a:pt x="73" y="474"/>
                </a:lnTo>
                <a:lnTo>
                  <a:pt x="65" y="466"/>
                </a:lnTo>
                <a:lnTo>
                  <a:pt x="58" y="456"/>
                </a:lnTo>
                <a:lnTo>
                  <a:pt x="50" y="446"/>
                </a:lnTo>
                <a:lnTo>
                  <a:pt x="44" y="436"/>
                </a:lnTo>
                <a:lnTo>
                  <a:pt x="37" y="426"/>
                </a:lnTo>
                <a:lnTo>
                  <a:pt x="32" y="415"/>
                </a:lnTo>
                <a:lnTo>
                  <a:pt x="26" y="403"/>
                </a:lnTo>
                <a:lnTo>
                  <a:pt x="22" y="391"/>
                </a:lnTo>
                <a:lnTo>
                  <a:pt x="17" y="380"/>
                </a:lnTo>
                <a:lnTo>
                  <a:pt x="13" y="367"/>
                </a:lnTo>
                <a:lnTo>
                  <a:pt x="10" y="353"/>
                </a:lnTo>
                <a:lnTo>
                  <a:pt x="7" y="341"/>
                </a:lnTo>
                <a:lnTo>
                  <a:pt x="4" y="328"/>
                </a:lnTo>
                <a:lnTo>
                  <a:pt x="2" y="315"/>
                </a:lnTo>
                <a:lnTo>
                  <a:pt x="1" y="301"/>
                </a:lnTo>
                <a:lnTo>
                  <a:pt x="0" y="287"/>
                </a:lnTo>
                <a:lnTo>
                  <a:pt x="0" y="274"/>
                </a:lnTo>
                <a:lnTo>
                  <a:pt x="0" y="260"/>
                </a:lnTo>
                <a:lnTo>
                  <a:pt x="1" y="245"/>
                </a:lnTo>
                <a:lnTo>
                  <a:pt x="2" y="232"/>
                </a:lnTo>
                <a:lnTo>
                  <a:pt x="4" y="219"/>
                </a:lnTo>
                <a:lnTo>
                  <a:pt x="7" y="205"/>
                </a:lnTo>
                <a:lnTo>
                  <a:pt x="10" y="192"/>
                </a:lnTo>
                <a:lnTo>
                  <a:pt x="13" y="180"/>
                </a:lnTo>
                <a:lnTo>
                  <a:pt x="17" y="167"/>
                </a:lnTo>
                <a:lnTo>
                  <a:pt x="22" y="155"/>
                </a:lnTo>
                <a:lnTo>
                  <a:pt x="26" y="144"/>
                </a:lnTo>
                <a:lnTo>
                  <a:pt x="32" y="133"/>
                </a:lnTo>
                <a:lnTo>
                  <a:pt x="37" y="121"/>
                </a:lnTo>
                <a:lnTo>
                  <a:pt x="44" y="110"/>
                </a:lnTo>
                <a:lnTo>
                  <a:pt x="50" y="100"/>
                </a:lnTo>
                <a:lnTo>
                  <a:pt x="58" y="90"/>
                </a:lnTo>
                <a:lnTo>
                  <a:pt x="65" y="80"/>
                </a:lnTo>
                <a:lnTo>
                  <a:pt x="81" y="63"/>
                </a:lnTo>
                <a:lnTo>
                  <a:pt x="98" y="48"/>
                </a:lnTo>
                <a:lnTo>
                  <a:pt x="106" y="40"/>
                </a:lnTo>
                <a:lnTo>
                  <a:pt x="116" y="34"/>
                </a:lnTo>
                <a:lnTo>
                  <a:pt x="125" y="28"/>
                </a:lnTo>
                <a:lnTo>
                  <a:pt x="136" y="23"/>
                </a:lnTo>
                <a:lnTo>
                  <a:pt x="146" y="18"/>
                </a:lnTo>
                <a:lnTo>
                  <a:pt x="156" y="13"/>
                </a:lnTo>
                <a:lnTo>
                  <a:pt x="166" y="9"/>
                </a:lnTo>
                <a:lnTo>
                  <a:pt x="177" y="6"/>
                </a:lnTo>
                <a:lnTo>
                  <a:pt x="187" y="4"/>
                </a:lnTo>
                <a:lnTo>
                  <a:pt x="198" y="1"/>
                </a:lnTo>
                <a:lnTo>
                  <a:pt x="210" y="1"/>
                </a:lnTo>
                <a:lnTo>
                  <a:pt x="221" y="0"/>
                </a:lnTo>
                <a:lnTo>
                  <a:pt x="232" y="1"/>
                </a:lnTo>
                <a:lnTo>
                  <a:pt x="243" y="1"/>
                </a:lnTo>
                <a:lnTo>
                  <a:pt x="254" y="4"/>
                </a:lnTo>
                <a:lnTo>
                  <a:pt x="265" y="6"/>
                </a:lnTo>
                <a:lnTo>
                  <a:pt x="276" y="9"/>
                </a:lnTo>
                <a:lnTo>
                  <a:pt x="286" y="13"/>
                </a:lnTo>
                <a:lnTo>
                  <a:pt x="296" y="18"/>
                </a:lnTo>
                <a:lnTo>
                  <a:pt x="306" y="23"/>
                </a:lnTo>
                <a:lnTo>
                  <a:pt x="316" y="28"/>
                </a:lnTo>
                <a:lnTo>
                  <a:pt x="325" y="34"/>
                </a:lnTo>
                <a:lnTo>
                  <a:pt x="334" y="40"/>
                </a:lnTo>
                <a:lnTo>
                  <a:pt x="343" y="48"/>
                </a:lnTo>
                <a:lnTo>
                  <a:pt x="361" y="63"/>
                </a:lnTo>
                <a:lnTo>
                  <a:pt x="376" y="80"/>
                </a:lnTo>
                <a:lnTo>
                  <a:pt x="390" y="100"/>
                </a:lnTo>
                <a:lnTo>
                  <a:pt x="403" y="121"/>
                </a:lnTo>
                <a:lnTo>
                  <a:pt x="408" y="133"/>
                </a:lnTo>
                <a:lnTo>
                  <a:pt x="413" y="144"/>
                </a:lnTo>
                <a:lnTo>
                  <a:pt x="418" y="155"/>
                </a:lnTo>
                <a:lnTo>
                  <a:pt x="424" y="167"/>
                </a:lnTo>
                <a:lnTo>
                  <a:pt x="428" y="180"/>
                </a:lnTo>
                <a:lnTo>
                  <a:pt x="431" y="192"/>
                </a:lnTo>
                <a:lnTo>
                  <a:pt x="434" y="205"/>
                </a:lnTo>
                <a:lnTo>
                  <a:pt x="436" y="219"/>
                </a:lnTo>
                <a:lnTo>
                  <a:pt x="438" y="232"/>
                </a:lnTo>
                <a:lnTo>
                  <a:pt x="440" y="245"/>
                </a:lnTo>
                <a:lnTo>
                  <a:pt x="441" y="260"/>
                </a:lnTo>
                <a:lnTo>
                  <a:pt x="441" y="274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16720" y="1808280"/>
            <a:ext cx="28440" cy="23760"/>
          </a:xfrm>
          <a:custGeom>
            <a:avLst/>
            <a:gdLst/>
            <a:ahLst/>
            <a:rect l="l" t="t" r="r" b="b"/>
            <a:pathLst>
              <a:path w="54" h="64">
                <a:moveTo>
                  <a:pt x="54" y="31"/>
                </a:moveTo>
                <a:lnTo>
                  <a:pt x="54" y="38"/>
                </a:lnTo>
                <a:lnTo>
                  <a:pt x="52" y="44"/>
                </a:lnTo>
                <a:lnTo>
                  <a:pt x="50" y="49"/>
                </a:lnTo>
                <a:lnTo>
                  <a:pt x="47" y="54"/>
                </a:lnTo>
                <a:lnTo>
                  <a:pt x="43" y="58"/>
                </a:lnTo>
                <a:lnTo>
                  <a:pt x="38" y="61"/>
                </a:lnTo>
                <a:lnTo>
                  <a:pt x="34" y="63"/>
                </a:lnTo>
                <a:lnTo>
                  <a:pt x="29" y="64"/>
                </a:lnTo>
                <a:lnTo>
                  <a:pt x="22" y="63"/>
                </a:lnTo>
                <a:lnTo>
                  <a:pt x="17" y="61"/>
                </a:lnTo>
                <a:lnTo>
                  <a:pt x="12" y="58"/>
                </a:lnTo>
                <a:lnTo>
                  <a:pt x="8" y="54"/>
                </a:lnTo>
                <a:lnTo>
                  <a:pt x="5" y="49"/>
                </a:lnTo>
                <a:lnTo>
                  <a:pt x="2" y="44"/>
                </a:lnTo>
                <a:lnTo>
                  <a:pt x="1" y="38"/>
                </a:lnTo>
                <a:lnTo>
                  <a:pt x="0" y="31"/>
                </a:lnTo>
                <a:lnTo>
                  <a:pt x="1" y="25"/>
                </a:lnTo>
                <a:lnTo>
                  <a:pt x="2" y="19"/>
                </a:lnTo>
                <a:lnTo>
                  <a:pt x="5" y="14"/>
                </a:lnTo>
                <a:lnTo>
                  <a:pt x="8" y="9"/>
                </a:lnTo>
                <a:lnTo>
                  <a:pt x="12" y="5"/>
                </a:lnTo>
                <a:lnTo>
                  <a:pt x="17" y="3"/>
                </a:lnTo>
                <a:lnTo>
                  <a:pt x="22" y="0"/>
                </a:lnTo>
                <a:lnTo>
                  <a:pt x="29" y="0"/>
                </a:lnTo>
                <a:lnTo>
                  <a:pt x="34" y="0"/>
                </a:lnTo>
                <a:lnTo>
                  <a:pt x="38" y="3"/>
                </a:lnTo>
                <a:lnTo>
                  <a:pt x="43" y="5"/>
                </a:lnTo>
                <a:lnTo>
                  <a:pt x="47" y="9"/>
                </a:lnTo>
                <a:lnTo>
                  <a:pt x="50" y="14"/>
                </a:lnTo>
                <a:lnTo>
                  <a:pt x="52" y="19"/>
                </a:lnTo>
                <a:lnTo>
                  <a:pt x="54" y="25"/>
                </a:lnTo>
                <a:lnTo>
                  <a:pt x="54" y="31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39040" y="1822320"/>
            <a:ext cx="21960" cy="20880"/>
          </a:xfrm>
          <a:custGeom>
            <a:avLst/>
            <a:gdLst/>
            <a:ahLst/>
            <a:rect l="l" t="t" r="r" b="b"/>
            <a:pathLst>
              <a:path w="42" h="54">
                <a:moveTo>
                  <a:pt x="42" y="28"/>
                </a:moveTo>
                <a:lnTo>
                  <a:pt x="41" y="33"/>
                </a:lnTo>
                <a:lnTo>
                  <a:pt x="40" y="38"/>
                </a:lnTo>
                <a:lnTo>
                  <a:pt x="38" y="43"/>
                </a:lnTo>
                <a:lnTo>
                  <a:pt x="36" y="46"/>
                </a:lnTo>
                <a:lnTo>
                  <a:pt x="33" y="50"/>
                </a:lnTo>
                <a:lnTo>
                  <a:pt x="29" y="53"/>
                </a:lnTo>
                <a:lnTo>
                  <a:pt x="26" y="54"/>
                </a:lnTo>
                <a:lnTo>
                  <a:pt x="22" y="54"/>
                </a:lnTo>
                <a:lnTo>
                  <a:pt x="18" y="54"/>
                </a:lnTo>
                <a:lnTo>
                  <a:pt x="14" y="53"/>
                </a:lnTo>
                <a:lnTo>
                  <a:pt x="10" y="50"/>
                </a:lnTo>
                <a:lnTo>
                  <a:pt x="7" y="46"/>
                </a:lnTo>
                <a:lnTo>
                  <a:pt x="4" y="43"/>
                </a:lnTo>
                <a:lnTo>
                  <a:pt x="2" y="38"/>
                </a:lnTo>
                <a:lnTo>
                  <a:pt x="1" y="33"/>
                </a:lnTo>
                <a:lnTo>
                  <a:pt x="0" y="28"/>
                </a:lnTo>
                <a:lnTo>
                  <a:pt x="1" y="22"/>
                </a:lnTo>
                <a:lnTo>
                  <a:pt x="2" y="17"/>
                </a:lnTo>
                <a:lnTo>
                  <a:pt x="4" y="13"/>
                </a:lnTo>
                <a:lnTo>
                  <a:pt x="7" y="8"/>
                </a:lnTo>
                <a:lnTo>
                  <a:pt x="10" y="5"/>
                </a:lnTo>
                <a:lnTo>
                  <a:pt x="14" y="3"/>
                </a:lnTo>
                <a:lnTo>
                  <a:pt x="18" y="2"/>
                </a:lnTo>
                <a:lnTo>
                  <a:pt x="22" y="0"/>
                </a:lnTo>
                <a:lnTo>
                  <a:pt x="26" y="2"/>
                </a:lnTo>
                <a:lnTo>
                  <a:pt x="29" y="3"/>
                </a:lnTo>
                <a:lnTo>
                  <a:pt x="33" y="5"/>
                </a:lnTo>
                <a:lnTo>
                  <a:pt x="36" y="8"/>
                </a:lnTo>
                <a:lnTo>
                  <a:pt x="38" y="13"/>
                </a:lnTo>
                <a:lnTo>
                  <a:pt x="40" y="17"/>
                </a:lnTo>
                <a:lnTo>
                  <a:pt x="41" y="22"/>
                </a:lnTo>
                <a:lnTo>
                  <a:pt x="42" y="28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61200" y="2052720"/>
            <a:ext cx="271440" cy="226800"/>
          </a:xfrm>
          <a:custGeom>
            <a:avLst/>
            <a:gdLst/>
            <a:ahLst/>
            <a:rect l="l" t="t" r="r" b="b"/>
            <a:pathLst>
              <a:path w="514" h="574">
                <a:moveTo>
                  <a:pt x="0" y="195"/>
                </a:moveTo>
                <a:lnTo>
                  <a:pt x="2" y="178"/>
                </a:lnTo>
                <a:lnTo>
                  <a:pt x="6" y="159"/>
                </a:lnTo>
                <a:lnTo>
                  <a:pt x="12" y="144"/>
                </a:lnTo>
                <a:lnTo>
                  <a:pt x="19" y="127"/>
                </a:lnTo>
                <a:lnTo>
                  <a:pt x="27" y="112"/>
                </a:lnTo>
                <a:lnTo>
                  <a:pt x="36" y="99"/>
                </a:lnTo>
                <a:lnTo>
                  <a:pt x="46" y="87"/>
                </a:lnTo>
                <a:lnTo>
                  <a:pt x="60" y="73"/>
                </a:lnTo>
                <a:lnTo>
                  <a:pt x="75" y="61"/>
                </a:lnTo>
                <a:lnTo>
                  <a:pt x="97" y="46"/>
                </a:lnTo>
                <a:lnTo>
                  <a:pt x="118" y="33"/>
                </a:lnTo>
                <a:lnTo>
                  <a:pt x="141" y="23"/>
                </a:lnTo>
                <a:lnTo>
                  <a:pt x="163" y="13"/>
                </a:lnTo>
                <a:lnTo>
                  <a:pt x="190" y="8"/>
                </a:lnTo>
                <a:lnTo>
                  <a:pt x="211" y="5"/>
                </a:lnTo>
                <a:lnTo>
                  <a:pt x="229" y="2"/>
                </a:lnTo>
                <a:lnTo>
                  <a:pt x="252" y="0"/>
                </a:lnTo>
                <a:lnTo>
                  <a:pt x="275" y="0"/>
                </a:lnTo>
                <a:lnTo>
                  <a:pt x="293" y="2"/>
                </a:lnTo>
                <a:lnTo>
                  <a:pt x="311" y="5"/>
                </a:lnTo>
                <a:lnTo>
                  <a:pt x="331" y="8"/>
                </a:lnTo>
                <a:lnTo>
                  <a:pt x="351" y="13"/>
                </a:lnTo>
                <a:lnTo>
                  <a:pt x="371" y="23"/>
                </a:lnTo>
                <a:lnTo>
                  <a:pt x="389" y="31"/>
                </a:lnTo>
                <a:lnTo>
                  <a:pt x="407" y="41"/>
                </a:lnTo>
                <a:lnTo>
                  <a:pt x="421" y="48"/>
                </a:lnTo>
                <a:lnTo>
                  <a:pt x="431" y="58"/>
                </a:lnTo>
                <a:lnTo>
                  <a:pt x="443" y="66"/>
                </a:lnTo>
                <a:lnTo>
                  <a:pt x="454" y="76"/>
                </a:lnTo>
                <a:lnTo>
                  <a:pt x="466" y="87"/>
                </a:lnTo>
                <a:lnTo>
                  <a:pt x="479" y="102"/>
                </a:lnTo>
                <a:lnTo>
                  <a:pt x="489" y="117"/>
                </a:lnTo>
                <a:lnTo>
                  <a:pt x="495" y="129"/>
                </a:lnTo>
                <a:lnTo>
                  <a:pt x="501" y="142"/>
                </a:lnTo>
                <a:lnTo>
                  <a:pt x="507" y="154"/>
                </a:lnTo>
                <a:lnTo>
                  <a:pt x="511" y="166"/>
                </a:lnTo>
                <a:lnTo>
                  <a:pt x="514" y="183"/>
                </a:lnTo>
                <a:lnTo>
                  <a:pt x="514" y="574"/>
                </a:lnTo>
                <a:lnTo>
                  <a:pt x="2" y="571"/>
                </a:lnTo>
                <a:lnTo>
                  <a:pt x="0" y="195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62640" y="2062080"/>
            <a:ext cx="271440" cy="227160"/>
          </a:xfrm>
          <a:custGeom>
            <a:avLst/>
            <a:gdLst/>
            <a:ahLst/>
            <a:rect l="l" t="t" r="r" b="b"/>
            <a:pathLst>
              <a:path w="514" h="573">
                <a:moveTo>
                  <a:pt x="0" y="197"/>
                </a:moveTo>
                <a:lnTo>
                  <a:pt x="0" y="180"/>
                </a:lnTo>
                <a:lnTo>
                  <a:pt x="4" y="160"/>
                </a:lnTo>
                <a:lnTo>
                  <a:pt x="10" y="143"/>
                </a:lnTo>
                <a:lnTo>
                  <a:pt x="19" y="129"/>
                </a:lnTo>
                <a:lnTo>
                  <a:pt x="25" y="114"/>
                </a:lnTo>
                <a:lnTo>
                  <a:pt x="36" y="101"/>
                </a:lnTo>
                <a:lnTo>
                  <a:pt x="46" y="86"/>
                </a:lnTo>
                <a:lnTo>
                  <a:pt x="58" y="74"/>
                </a:lnTo>
                <a:lnTo>
                  <a:pt x="75" y="61"/>
                </a:lnTo>
                <a:lnTo>
                  <a:pt x="95" y="48"/>
                </a:lnTo>
                <a:lnTo>
                  <a:pt x="116" y="35"/>
                </a:lnTo>
                <a:lnTo>
                  <a:pt x="139" y="25"/>
                </a:lnTo>
                <a:lnTo>
                  <a:pt x="163" y="15"/>
                </a:lnTo>
                <a:lnTo>
                  <a:pt x="188" y="10"/>
                </a:lnTo>
                <a:lnTo>
                  <a:pt x="209" y="5"/>
                </a:lnTo>
                <a:lnTo>
                  <a:pt x="229" y="3"/>
                </a:lnTo>
                <a:lnTo>
                  <a:pt x="252" y="0"/>
                </a:lnTo>
                <a:lnTo>
                  <a:pt x="273" y="0"/>
                </a:lnTo>
                <a:lnTo>
                  <a:pt x="291" y="3"/>
                </a:lnTo>
                <a:lnTo>
                  <a:pt x="309" y="5"/>
                </a:lnTo>
                <a:lnTo>
                  <a:pt x="331" y="10"/>
                </a:lnTo>
                <a:lnTo>
                  <a:pt x="349" y="15"/>
                </a:lnTo>
                <a:lnTo>
                  <a:pt x="369" y="23"/>
                </a:lnTo>
                <a:lnTo>
                  <a:pt x="387" y="33"/>
                </a:lnTo>
                <a:lnTo>
                  <a:pt x="405" y="43"/>
                </a:lnTo>
                <a:lnTo>
                  <a:pt x="419" y="50"/>
                </a:lnTo>
                <a:lnTo>
                  <a:pt x="431" y="59"/>
                </a:lnTo>
                <a:lnTo>
                  <a:pt x="443" y="66"/>
                </a:lnTo>
                <a:lnTo>
                  <a:pt x="454" y="76"/>
                </a:lnTo>
                <a:lnTo>
                  <a:pt x="467" y="89"/>
                </a:lnTo>
                <a:lnTo>
                  <a:pt x="477" y="104"/>
                </a:lnTo>
                <a:lnTo>
                  <a:pt x="487" y="119"/>
                </a:lnTo>
                <a:lnTo>
                  <a:pt x="495" y="131"/>
                </a:lnTo>
                <a:lnTo>
                  <a:pt x="501" y="143"/>
                </a:lnTo>
                <a:lnTo>
                  <a:pt x="505" y="155"/>
                </a:lnTo>
                <a:lnTo>
                  <a:pt x="509" y="167"/>
                </a:lnTo>
                <a:lnTo>
                  <a:pt x="514" y="185"/>
                </a:lnTo>
                <a:lnTo>
                  <a:pt x="514" y="573"/>
                </a:lnTo>
                <a:lnTo>
                  <a:pt x="0" y="571"/>
                </a:lnTo>
                <a:lnTo>
                  <a:pt x="0" y="197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380280" y="2071800"/>
            <a:ext cx="233280" cy="215640"/>
          </a:xfrm>
          <a:custGeom>
            <a:avLst/>
            <a:gdLst/>
            <a:ahLst/>
            <a:rect l="l" t="t" r="r" b="b"/>
            <a:pathLst>
              <a:path w="441" h="543">
                <a:moveTo>
                  <a:pt x="441" y="272"/>
                </a:moveTo>
                <a:lnTo>
                  <a:pt x="441" y="286"/>
                </a:lnTo>
                <a:lnTo>
                  <a:pt x="440" y="300"/>
                </a:lnTo>
                <a:lnTo>
                  <a:pt x="439" y="313"/>
                </a:lnTo>
                <a:lnTo>
                  <a:pt x="437" y="327"/>
                </a:lnTo>
                <a:lnTo>
                  <a:pt x="434" y="340"/>
                </a:lnTo>
                <a:lnTo>
                  <a:pt x="430" y="352"/>
                </a:lnTo>
                <a:lnTo>
                  <a:pt x="427" y="365"/>
                </a:lnTo>
                <a:lnTo>
                  <a:pt x="423" y="377"/>
                </a:lnTo>
                <a:lnTo>
                  <a:pt x="418" y="390"/>
                </a:lnTo>
                <a:lnTo>
                  <a:pt x="414" y="401"/>
                </a:lnTo>
                <a:lnTo>
                  <a:pt x="408" y="412"/>
                </a:lnTo>
                <a:lnTo>
                  <a:pt x="403" y="423"/>
                </a:lnTo>
                <a:lnTo>
                  <a:pt x="390" y="444"/>
                </a:lnTo>
                <a:lnTo>
                  <a:pt x="376" y="463"/>
                </a:lnTo>
                <a:lnTo>
                  <a:pt x="361" y="481"/>
                </a:lnTo>
                <a:lnTo>
                  <a:pt x="343" y="497"/>
                </a:lnTo>
                <a:lnTo>
                  <a:pt x="334" y="503"/>
                </a:lnTo>
                <a:lnTo>
                  <a:pt x="325" y="509"/>
                </a:lnTo>
                <a:lnTo>
                  <a:pt x="316" y="516"/>
                </a:lnTo>
                <a:lnTo>
                  <a:pt x="306" y="522"/>
                </a:lnTo>
                <a:lnTo>
                  <a:pt x="296" y="527"/>
                </a:lnTo>
                <a:lnTo>
                  <a:pt x="285" y="531"/>
                </a:lnTo>
                <a:lnTo>
                  <a:pt x="275" y="534"/>
                </a:lnTo>
                <a:lnTo>
                  <a:pt x="265" y="537"/>
                </a:lnTo>
                <a:lnTo>
                  <a:pt x="254" y="539"/>
                </a:lnTo>
                <a:lnTo>
                  <a:pt x="243" y="542"/>
                </a:lnTo>
                <a:lnTo>
                  <a:pt x="233" y="543"/>
                </a:lnTo>
                <a:lnTo>
                  <a:pt x="222" y="543"/>
                </a:lnTo>
                <a:lnTo>
                  <a:pt x="209" y="543"/>
                </a:lnTo>
                <a:lnTo>
                  <a:pt x="198" y="542"/>
                </a:lnTo>
                <a:lnTo>
                  <a:pt x="187" y="539"/>
                </a:lnTo>
                <a:lnTo>
                  <a:pt x="177" y="537"/>
                </a:lnTo>
                <a:lnTo>
                  <a:pt x="166" y="534"/>
                </a:lnTo>
                <a:lnTo>
                  <a:pt x="156" y="531"/>
                </a:lnTo>
                <a:lnTo>
                  <a:pt x="146" y="527"/>
                </a:lnTo>
                <a:lnTo>
                  <a:pt x="135" y="522"/>
                </a:lnTo>
                <a:lnTo>
                  <a:pt x="125" y="516"/>
                </a:lnTo>
                <a:lnTo>
                  <a:pt x="116" y="509"/>
                </a:lnTo>
                <a:lnTo>
                  <a:pt x="107" y="503"/>
                </a:lnTo>
                <a:lnTo>
                  <a:pt x="98" y="497"/>
                </a:lnTo>
                <a:lnTo>
                  <a:pt x="81" y="481"/>
                </a:lnTo>
                <a:lnTo>
                  <a:pt x="64" y="463"/>
                </a:lnTo>
                <a:lnTo>
                  <a:pt x="50" y="444"/>
                </a:lnTo>
                <a:lnTo>
                  <a:pt x="38" y="423"/>
                </a:lnTo>
                <a:lnTo>
                  <a:pt x="32" y="412"/>
                </a:lnTo>
                <a:lnTo>
                  <a:pt x="27" y="401"/>
                </a:lnTo>
                <a:lnTo>
                  <a:pt x="22" y="390"/>
                </a:lnTo>
                <a:lnTo>
                  <a:pt x="17" y="377"/>
                </a:lnTo>
                <a:lnTo>
                  <a:pt x="13" y="365"/>
                </a:lnTo>
                <a:lnTo>
                  <a:pt x="10" y="352"/>
                </a:lnTo>
                <a:lnTo>
                  <a:pt x="7" y="340"/>
                </a:lnTo>
                <a:lnTo>
                  <a:pt x="5" y="327"/>
                </a:lnTo>
                <a:lnTo>
                  <a:pt x="3" y="313"/>
                </a:lnTo>
                <a:lnTo>
                  <a:pt x="1" y="300"/>
                </a:lnTo>
                <a:lnTo>
                  <a:pt x="0" y="286"/>
                </a:lnTo>
                <a:lnTo>
                  <a:pt x="0" y="272"/>
                </a:lnTo>
                <a:lnTo>
                  <a:pt x="0" y="259"/>
                </a:lnTo>
                <a:lnTo>
                  <a:pt x="1" y="245"/>
                </a:lnTo>
                <a:lnTo>
                  <a:pt x="3" y="231"/>
                </a:lnTo>
                <a:lnTo>
                  <a:pt x="5" y="219"/>
                </a:lnTo>
                <a:lnTo>
                  <a:pt x="7" y="205"/>
                </a:lnTo>
                <a:lnTo>
                  <a:pt x="10" y="192"/>
                </a:lnTo>
                <a:lnTo>
                  <a:pt x="13" y="180"/>
                </a:lnTo>
                <a:lnTo>
                  <a:pt x="17" y="167"/>
                </a:lnTo>
                <a:lnTo>
                  <a:pt x="22" y="155"/>
                </a:lnTo>
                <a:lnTo>
                  <a:pt x="27" y="144"/>
                </a:lnTo>
                <a:lnTo>
                  <a:pt x="32" y="131"/>
                </a:lnTo>
                <a:lnTo>
                  <a:pt x="38" y="121"/>
                </a:lnTo>
                <a:lnTo>
                  <a:pt x="44" y="110"/>
                </a:lnTo>
                <a:lnTo>
                  <a:pt x="50" y="100"/>
                </a:lnTo>
                <a:lnTo>
                  <a:pt x="57" y="90"/>
                </a:lnTo>
                <a:lnTo>
                  <a:pt x="64" y="80"/>
                </a:lnTo>
                <a:lnTo>
                  <a:pt x="81" y="63"/>
                </a:lnTo>
                <a:lnTo>
                  <a:pt x="98" y="46"/>
                </a:lnTo>
                <a:lnTo>
                  <a:pt x="107" y="40"/>
                </a:lnTo>
                <a:lnTo>
                  <a:pt x="116" y="33"/>
                </a:lnTo>
                <a:lnTo>
                  <a:pt x="125" y="28"/>
                </a:lnTo>
                <a:lnTo>
                  <a:pt x="135" y="21"/>
                </a:lnTo>
                <a:lnTo>
                  <a:pt x="146" y="16"/>
                </a:lnTo>
                <a:lnTo>
                  <a:pt x="156" y="13"/>
                </a:lnTo>
                <a:lnTo>
                  <a:pt x="166" y="9"/>
                </a:lnTo>
                <a:lnTo>
                  <a:pt x="177" y="5"/>
                </a:lnTo>
                <a:lnTo>
                  <a:pt x="187" y="3"/>
                </a:lnTo>
                <a:lnTo>
                  <a:pt x="198" y="1"/>
                </a:lnTo>
                <a:lnTo>
                  <a:pt x="209" y="0"/>
                </a:lnTo>
                <a:lnTo>
                  <a:pt x="222" y="0"/>
                </a:lnTo>
                <a:lnTo>
                  <a:pt x="233" y="0"/>
                </a:lnTo>
                <a:lnTo>
                  <a:pt x="243" y="1"/>
                </a:lnTo>
                <a:lnTo>
                  <a:pt x="254" y="3"/>
                </a:lnTo>
                <a:lnTo>
                  <a:pt x="265" y="5"/>
                </a:lnTo>
                <a:lnTo>
                  <a:pt x="275" y="9"/>
                </a:lnTo>
                <a:lnTo>
                  <a:pt x="285" y="13"/>
                </a:lnTo>
                <a:lnTo>
                  <a:pt x="296" y="16"/>
                </a:lnTo>
                <a:lnTo>
                  <a:pt x="306" y="21"/>
                </a:lnTo>
                <a:lnTo>
                  <a:pt x="316" y="28"/>
                </a:lnTo>
                <a:lnTo>
                  <a:pt x="325" y="33"/>
                </a:lnTo>
                <a:lnTo>
                  <a:pt x="334" y="40"/>
                </a:lnTo>
                <a:lnTo>
                  <a:pt x="343" y="46"/>
                </a:lnTo>
                <a:lnTo>
                  <a:pt x="361" y="63"/>
                </a:lnTo>
                <a:lnTo>
                  <a:pt x="376" y="80"/>
                </a:lnTo>
                <a:lnTo>
                  <a:pt x="390" y="100"/>
                </a:lnTo>
                <a:lnTo>
                  <a:pt x="403" y="121"/>
                </a:lnTo>
                <a:lnTo>
                  <a:pt x="408" y="131"/>
                </a:lnTo>
                <a:lnTo>
                  <a:pt x="414" y="144"/>
                </a:lnTo>
                <a:lnTo>
                  <a:pt x="418" y="155"/>
                </a:lnTo>
                <a:lnTo>
                  <a:pt x="423" y="167"/>
                </a:lnTo>
                <a:lnTo>
                  <a:pt x="427" y="180"/>
                </a:lnTo>
                <a:lnTo>
                  <a:pt x="430" y="192"/>
                </a:lnTo>
                <a:lnTo>
                  <a:pt x="434" y="205"/>
                </a:lnTo>
                <a:lnTo>
                  <a:pt x="437" y="219"/>
                </a:lnTo>
                <a:lnTo>
                  <a:pt x="439" y="231"/>
                </a:lnTo>
                <a:lnTo>
                  <a:pt x="440" y="245"/>
                </a:lnTo>
                <a:lnTo>
                  <a:pt x="441" y="259"/>
                </a:lnTo>
                <a:lnTo>
                  <a:pt x="441" y="272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10240" y="2092320"/>
            <a:ext cx="28800" cy="25560"/>
          </a:xfrm>
          <a:custGeom>
            <a:avLst/>
            <a:gdLst/>
            <a:ahLst/>
            <a:rect l="l" t="t" r="r" b="b"/>
            <a:pathLst>
              <a:path w="54" h="67">
                <a:moveTo>
                  <a:pt x="54" y="35"/>
                </a:moveTo>
                <a:lnTo>
                  <a:pt x="54" y="42"/>
                </a:lnTo>
                <a:lnTo>
                  <a:pt x="52" y="48"/>
                </a:lnTo>
                <a:lnTo>
                  <a:pt x="50" y="53"/>
                </a:lnTo>
                <a:lnTo>
                  <a:pt x="47" y="58"/>
                </a:lnTo>
                <a:lnTo>
                  <a:pt x="43" y="62"/>
                </a:lnTo>
                <a:lnTo>
                  <a:pt x="38" y="64"/>
                </a:lnTo>
                <a:lnTo>
                  <a:pt x="33" y="67"/>
                </a:lnTo>
                <a:lnTo>
                  <a:pt x="28" y="67"/>
                </a:lnTo>
                <a:lnTo>
                  <a:pt x="22" y="67"/>
                </a:lnTo>
                <a:lnTo>
                  <a:pt x="17" y="64"/>
                </a:lnTo>
                <a:lnTo>
                  <a:pt x="12" y="62"/>
                </a:lnTo>
                <a:lnTo>
                  <a:pt x="8" y="58"/>
                </a:lnTo>
                <a:lnTo>
                  <a:pt x="5" y="53"/>
                </a:lnTo>
                <a:lnTo>
                  <a:pt x="2" y="48"/>
                </a:lnTo>
                <a:lnTo>
                  <a:pt x="1" y="42"/>
                </a:lnTo>
                <a:lnTo>
                  <a:pt x="0" y="35"/>
                </a:lnTo>
                <a:lnTo>
                  <a:pt x="1" y="28"/>
                </a:lnTo>
                <a:lnTo>
                  <a:pt x="2" y="22"/>
                </a:lnTo>
                <a:lnTo>
                  <a:pt x="5" y="15"/>
                </a:lnTo>
                <a:lnTo>
                  <a:pt x="8" y="10"/>
                </a:lnTo>
                <a:lnTo>
                  <a:pt x="12" y="7"/>
                </a:lnTo>
                <a:lnTo>
                  <a:pt x="17" y="3"/>
                </a:lnTo>
                <a:lnTo>
                  <a:pt x="22" y="2"/>
                </a:lnTo>
                <a:lnTo>
                  <a:pt x="28" y="0"/>
                </a:lnTo>
                <a:lnTo>
                  <a:pt x="33" y="2"/>
                </a:lnTo>
                <a:lnTo>
                  <a:pt x="38" y="3"/>
                </a:lnTo>
                <a:lnTo>
                  <a:pt x="43" y="7"/>
                </a:lnTo>
                <a:lnTo>
                  <a:pt x="47" y="10"/>
                </a:lnTo>
                <a:lnTo>
                  <a:pt x="50" y="15"/>
                </a:lnTo>
                <a:lnTo>
                  <a:pt x="52" y="22"/>
                </a:lnTo>
                <a:lnTo>
                  <a:pt x="54" y="28"/>
                </a:lnTo>
                <a:lnTo>
                  <a:pt x="54" y="35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532560" y="2108160"/>
            <a:ext cx="22320" cy="19080"/>
          </a:xfrm>
          <a:custGeom>
            <a:avLst/>
            <a:gdLst/>
            <a:ahLst/>
            <a:rect l="l" t="t" r="r" b="b"/>
            <a:pathLst>
              <a:path w="41" h="51">
                <a:moveTo>
                  <a:pt x="41" y="27"/>
                </a:moveTo>
                <a:lnTo>
                  <a:pt x="40" y="32"/>
                </a:lnTo>
                <a:lnTo>
                  <a:pt x="39" y="37"/>
                </a:lnTo>
                <a:lnTo>
                  <a:pt x="37" y="40"/>
                </a:lnTo>
                <a:lnTo>
                  <a:pt x="35" y="44"/>
                </a:lnTo>
                <a:lnTo>
                  <a:pt x="32" y="47"/>
                </a:lnTo>
                <a:lnTo>
                  <a:pt x="28" y="49"/>
                </a:lnTo>
                <a:lnTo>
                  <a:pt x="25" y="51"/>
                </a:lnTo>
                <a:lnTo>
                  <a:pt x="21" y="51"/>
                </a:lnTo>
                <a:lnTo>
                  <a:pt x="17" y="51"/>
                </a:lnTo>
                <a:lnTo>
                  <a:pt x="13" y="49"/>
                </a:lnTo>
                <a:lnTo>
                  <a:pt x="9" y="47"/>
                </a:lnTo>
                <a:lnTo>
                  <a:pt x="6" y="44"/>
                </a:lnTo>
                <a:lnTo>
                  <a:pt x="3" y="40"/>
                </a:lnTo>
                <a:lnTo>
                  <a:pt x="1" y="37"/>
                </a:lnTo>
                <a:lnTo>
                  <a:pt x="0" y="32"/>
                </a:lnTo>
                <a:lnTo>
                  <a:pt x="0" y="27"/>
                </a:lnTo>
                <a:lnTo>
                  <a:pt x="0" y="22"/>
                </a:lnTo>
                <a:lnTo>
                  <a:pt x="1" y="17"/>
                </a:lnTo>
                <a:lnTo>
                  <a:pt x="3" y="12"/>
                </a:lnTo>
                <a:lnTo>
                  <a:pt x="6" y="8"/>
                </a:lnTo>
                <a:lnTo>
                  <a:pt x="9" y="5"/>
                </a:lnTo>
                <a:lnTo>
                  <a:pt x="13" y="2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28" y="2"/>
                </a:lnTo>
                <a:lnTo>
                  <a:pt x="32" y="5"/>
                </a:lnTo>
                <a:lnTo>
                  <a:pt x="35" y="8"/>
                </a:lnTo>
                <a:lnTo>
                  <a:pt x="37" y="12"/>
                </a:lnTo>
                <a:lnTo>
                  <a:pt x="39" y="17"/>
                </a:lnTo>
                <a:lnTo>
                  <a:pt x="40" y="22"/>
                </a:lnTo>
                <a:lnTo>
                  <a:pt x="41" y="27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367320" y="2324160"/>
            <a:ext cx="271440" cy="226800"/>
          </a:xfrm>
          <a:custGeom>
            <a:avLst/>
            <a:gdLst/>
            <a:ahLst/>
            <a:rect l="l" t="t" r="r" b="b"/>
            <a:pathLst>
              <a:path w="514" h="571">
                <a:moveTo>
                  <a:pt x="0" y="196"/>
                </a:moveTo>
                <a:lnTo>
                  <a:pt x="1" y="178"/>
                </a:lnTo>
                <a:lnTo>
                  <a:pt x="5" y="159"/>
                </a:lnTo>
                <a:lnTo>
                  <a:pt x="11" y="142"/>
                </a:lnTo>
                <a:lnTo>
                  <a:pt x="19" y="124"/>
                </a:lnTo>
                <a:lnTo>
                  <a:pt x="28" y="112"/>
                </a:lnTo>
                <a:lnTo>
                  <a:pt x="36" y="99"/>
                </a:lnTo>
                <a:lnTo>
                  <a:pt x="46" y="86"/>
                </a:lnTo>
                <a:lnTo>
                  <a:pt x="60" y="73"/>
                </a:lnTo>
                <a:lnTo>
                  <a:pt x="77" y="61"/>
                </a:lnTo>
                <a:lnTo>
                  <a:pt x="98" y="46"/>
                </a:lnTo>
                <a:lnTo>
                  <a:pt x="118" y="33"/>
                </a:lnTo>
                <a:lnTo>
                  <a:pt x="141" y="23"/>
                </a:lnTo>
                <a:lnTo>
                  <a:pt x="163" y="16"/>
                </a:lnTo>
                <a:lnTo>
                  <a:pt x="189" y="10"/>
                </a:lnTo>
                <a:lnTo>
                  <a:pt x="211" y="5"/>
                </a:lnTo>
                <a:lnTo>
                  <a:pt x="231" y="2"/>
                </a:lnTo>
                <a:lnTo>
                  <a:pt x="253" y="0"/>
                </a:lnTo>
                <a:lnTo>
                  <a:pt x="275" y="0"/>
                </a:lnTo>
                <a:lnTo>
                  <a:pt x="293" y="2"/>
                </a:lnTo>
                <a:lnTo>
                  <a:pt x="312" y="5"/>
                </a:lnTo>
                <a:lnTo>
                  <a:pt x="333" y="12"/>
                </a:lnTo>
                <a:lnTo>
                  <a:pt x="351" y="16"/>
                </a:lnTo>
                <a:lnTo>
                  <a:pt x="371" y="23"/>
                </a:lnTo>
                <a:lnTo>
                  <a:pt x="389" y="31"/>
                </a:lnTo>
                <a:lnTo>
                  <a:pt x="407" y="41"/>
                </a:lnTo>
                <a:lnTo>
                  <a:pt x="421" y="48"/>
                </a:lnTo>
                <a:lnTo>
                  <a:pt x="433" y="58"/>
                </a:lnTo>
                <a:lnTo>
                  <a:pt x="442" y="66"/>
                </a:lnTo>
                <a:lnTo>
                  <a:pt x="457" y="78"/>
                </a:lnTo>
                <a:lnTo>
                  <a:pt x="467" y="88"/>
                </a:lnTo>
                <a:lnTo>
                  <a:pt x="479" y="102"/>
                </a:lnTo>
                <a:lnTo>
                  <a:pt x="489" y="117"/>
                </a:lnTo>
                <a:lnTo>
                  <a:pt x="495" y="129"/>
                </a:lnTo>
                <a:lnTo>
                  <a:pt x="502" y="142"/>
                </a:lnTo>
                <a:lnTo>
                  <a:pt x="506" y="154"/>
                </a:lnTo>
                <a:lnTo>
                  <a:pt x="510" y="167"/>
                </a:lnTo>
                <a:lnTo>
                  <a:pt x="514" y="183"/>
                </a:lnTo>
                <a:lnTo>
                  <a:pt x="514" y="571"/>
                </a:lnTo>
                <a:lnTo>
                  <a:pt x="1" y="569"/>
                </a:lnTo>
                <a:lnTo>
                  <a:pt x="0" y="196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67320" y="2332080"/>
            <a:ext cx="273240" cy="226800"/>
          </a:xfrm>
          <a:custGeom>
            <a:avLst/>
            <a:gdLst/>
            <a:ahLst/>
            <a:rect l="l" t="t" r="r" b="b"/>
            <a:pathLst>
              <a:path w="515" h="570">
                <a:moveTo>
                  <a:pt x="0" y="195"/>
                </a:moveTo>
                <a:lnTo>
                  <a:pt x="2" y="177"/>
                </a:lnTo>
                <a:lnTo>
                  <a:pt x="6" y="157"/>
                </a:lnTo>
                <a:lnTo>
                  <a:pt x="12" y="141"/>
                </a:lnTo>
                <a:lnTo>
                  <a:pt x="21" y="126"/>
                </a:lnTo>
                <a:lnTo>
                  <a:pt x="29" y="113"/>
                </a:lnTo>
                <a:lnTo>
                  <a:pt x="37" y="98"/>
                </a:lnTo>
                <a:lnTo>
                  <a:pt x="47" y="86"/>
                </a:lnTo>
                <a:lnTo>
                  <a:pt x="61" y="71"/>
                </a:lnTo>
                <a:lnTo>
                  <a:pt x="76" y="60"/>
                </a:lnTo>
                <a:lnTo>
                  <a:pt x="97" y="45"/>
                </a:lnTo>
                <a:lnTo>
                  <a:pt x="117" y="35"/>
                </a:lnTo>
                <a:lnTo>
                  <a:pt x="140" y="25"/>
                </a:lnTo>
                <a:lnTo>
                  <a:pt x="162" y="15"/>
                </a:lnTo>
                <a:lnTo>
                  <a:pt x="188" y="7"/>
                </a:lnTo>
                <a:lnTo>
                  <a:pt x="212" y="2"/>
                </a:lnTo>
                <a:lnTo>
                  <a:pt x="230" y="2"/>
                </a:lnTo>
                <a:lnTo>
                  <a:pt x="252" y="0"/>
                </a:lnTo>
                <a:lnTo>
                  <a:pt x="276" y="0"/>
                </a:lnTo>
                <a:lnTo>
                  <a:pt x="292" y="2"/>
                </a:lnTo>
                <a:lnTo>
                  <a:pt x="313" y="5"/>
                </a:lnTo>
                <a:lnTo>
                  <a:pt x="332" y="10"/>
                </a:lnTo>
                <a:lnTo>
                  <a:pt x="352" y="15"/>
                </a:lnTo>
                <a:lnTo>
                  <a:pt x="372" y="22"/>
                </a:lnTo>
                <a:lnTo>
                  <a:pt x="388" y="30"/>
                </a:lnTo>
                <a:lnTo>
                  <a:pt x="408" y="40"/>
                </a:lnTo>
                <a:lnTo>
                  <a:pt x="422" y="50"/>
                </a:lnTo>
                <a:lnTo>
                  <a:pt x="432" y="57"/>
                </a:lnTo>
                <a:lnTo>
                  <a:pt x="443" y="65"/>
                </a:lnTo>
                <a:lnTo>
                  <a:pt x="456" y="73"/>
                </a:lnTo>
                <a:lnTo>
                  <a:pt x="468" y="86"/>
                </a:lnTo>
                <a:lnTo>
                  <a:pt x="480" y="101"/>
                </a:lnTo>
                <a:lnTo>
                  <a:pt x="488" y="116"/>
                </a:lnTo>
                <a:lnTo>
                  <a:pt x="496" y="128"/>
                </a:lnTo>
                <a:lnTo>
                  <a:pt x="501" y="141"/>
                </a:lnTo>
                <a:lnTo>
                  <a:pt x="507" y="152"/>
                </a:lnTo>
                <a:lnTo>
                  <a:pt x="511" y="165"/>
                </a:lnTo>
                <a:lnTo>
                  <a:pt x="515" y="182"/>
                </a:lnTo>
                <a:lnTo>
                  <a:pt x="515" y="570"/>
                </a:lnTo>
                <a:lnTo>
                  <a:pt x="2" y="568"/>
                </a:lnTo>
                <a:lnTo>
                  <a:pt x="0" y="195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86400" y="2341440"/>
            <a:ext cx="233640" cy="216000"/>
          </a:xfrm>
          <a:custGeom>
            <a:avLst/>
            <a:gdLst/>
            <a:ahLst/>
            <a:rect l="l" t="t" r="r" b="b"/>
            <a:pathLst>
              <a:path w="441" h="540">
                <a:moveTo>
                  <a:pt x="441" y="271"/>
                </a:moveTo>
                <a:lnTo>
                  <a:pt x="441" y="284"/>
                </a:lnTo>
                <a:lnTo>
                  <a:pt x="440" y="298"/>
                </a:lnTo>
                <a:lnTo>
                  <a:pt x="438" y="312"/>
                </a:lnTo>
                <a:lnTo>
                  <a:pt x="436" y="324"/>
                </a:lnTo>
                <a:lnTo>
                  <a:pt x="434" y="338"/>
                </a:lnTo>
                <a:lnTo>
                  <a:pt x="431" y="350"/>
                </a:lnTo>
                <a:lnTo>
                  <a:pt x="428" y="363"/>
                </a:lnTo>
                <a:lnTo>
                  <a:pt x="424" y="375"/>
                </a:lnTo>
                <a:lnTo>
                  <a:pt x="418" y="388"/>
                </a:lnTo>
                <a:lnTo>
                  <a:pt x="413" y="399"/>
                </a:lnTo>
                <a:lnTo>
                  <a:pt x="408" y="410"/>
                </a:lnTo>
                <a:lnTo>
                  <a:pt x="403" y="422"/>
                </a:lnTo>
                <a:lnTo>
                  <a:pt x="390" y="443"/>
                </a:lnTo>
                <a:lnTo>
                  <a:pt x="376" y="462"/>
                </a:lnTo>
                <a:lnTo>
                  <a:pt x="361" y="479"/>
                </a:lnTo>
                <a:lnTo>
                  <a:pt x="343" y="494"/>
                </a:lnTo>
                <a:lnTo>
                  <a:pt x="334" y="501"/>
                </a:lnTo>
                <a:lnTo>
                  <a:pt x="325" y="508"/>
                </a:lnTo>
                <a:lnTo>
                  <a:pt x="316" y="514"/>
                </a:lnTo>
                <a:lnTo>
                  <a:pt x="306" y="519"/>
                </a:lnTo>
                <a:lnTo>
                  <a:pt x="296" y="524"/>
                </a:lnTo>
                <a:lnTo>
                  <a:pt x="286" y="528"/>
                </a:lnTo>
                <a:lnTo>
                  <a:pt x="276" y="531"/>
                </a:lnTo>
                <a:lnTo>
                  <a:pt x="265" y="535"/>
                </a:lnTo>
                <a:lnTo>
                  <a:pt x="254" y="538"/>
                </a:lnTo>
                <a:lnTo>
                  <a:pt x="243" y="539"/>
                </a:lnTo>
                <a:lnTo>
                  <a:pt x="232" y="540"/>
                </a:lnTo>
                <a:lnTo>
                  <a:pt x="221" y="540"/>
                </a:lnTo>
                <a:lnTo>
                  <a:pt x="210" y="540"/>
                </a:lnTo>
                <a:lnTo>
                  <a:pt x="198" y="539"/>
                </a:lnTo>
                <a:lnTo>
                  <a:pt x="187" y="538"/>
                </a:lnTo>
                <a:lnTo>
                  <a:pt x="177" y="535"/>
                </a:lnTo>
                <a:lnTo>
                  <a:pt x="166" y="531"/>
                </a:lnTo>
                <a:lnTo>
                  <a:pt x="156" y="528"/>
                </a:lnTo>
                <a:lnTo>
                  <a:pt x="146" y="524"/>
                </a:lnTo>
                <a:lnTo>
                  <a:pt x="136" y="519"/>
                </a:lnTo>
                <a:lnTo>
                  <a:pt x="125" y="514"/>
                </a:lnTo>
                <a:lnTo>
                  <a:pt x="116" y="508"/>
                </a:lnTo>
                <a:lnTo>
                  <a:pt x="106" y="501"/>
                </a:lnTo>
                <a:lnTo>
                  <a:pt x="98" y="494"/>
                </a:lnTo>
                <a:lnTo>
                  <a:pt x="89" y="486"/>
                </a:lnTo>
                <a:lnTo>
                  <a:pt x="81" y="479"/>
                </a:lnTo>
                <a:lnTo>
                  <a:pt x="73" y="470"/>
                </a:lnTo>
                <a:lnTo>
                  <a:pt x="65" y="462"/>
                </a:lnTo>
                <a:lnTo>
                  <a:pt x="58" y="452"/>
                </a:lnTo>
                <a:lnTo>
                  <a:pt x="50" y="443"/>
                </a:lnTo>
                <a:lnTo>
                  <a:pt x="44" y="432"/>
                </a:lnTo>
                <a:lnTo>
                  <a:pt x="37" y="422"/>
                </a:lnTo>
                <a:lnTo>
                  <a:pt x="32" y="410"/>
                </a:lnTo>
                <a:lnTo>
                  <a:pt x="26" y="399"/>
                </a:lnTo>
                <a:lnTo>
                  <a:pt x="22" y="388"/>
                </a:lnTo>
                <a:lnTo>
                  <a:pt x="17" y="375"/>
                </a:lnTo>
                <a:lnTo>
                  <a:pt x="13" y="363"/>
                </a:lnTo>
                <a:lnTo>
                  <a:pt x="10" y="350"/>
                </a:lnTo>
                <a:lnTo>
                  <a:pt x="7" y="338"/>
                </a:lnTo>
                <a:lnTo>
                  <a:pt x="4" y="324"/>
                </a:lnTo>
                <a:lnTo>
                  <a:pt x="2" y="312"/>
                </a:lnTo>
                <a:lnTo>
                  <a:pt x="1" y="298"/>
                </a:lnTo>
                <a:lnTo>
                  <a:pt x="0" y="284"/>
                </a:lnTo>
                <a:lnTo>
                  <a:pt x="0" y="271"/>
                </a:lnTo>
                <a:lnTo>
                  <a:pt x="0" y="256"/>
                </a:lnTo>
                <a:lnTo>
                  <a:pt x="1" y="242"/>
                </a:lnTo>
                <a:lnTo>
                  <a:pt x="2" y="229"/>
                </a:lnTo>
                <a:lnTo>
                  <a:pt x="4" y="216"/>
                </a:lnTo>
                <a:lnTo>
                  <a:pt x="7" y="202"/>
                </a:lnTo>
                <a:lnTo>
                  <a:pt x="10" y="189"/>
                </a:lnTo>
                <a:lnTo>
                  <a:pt x="13" y="177"/>
                </a:lnTo>
                <a:lnTo>
                  <a:pt x="17" y="165"/>
                </a:lnTo>
                <a:lnTo>
                  <a:pt x="22" y="153"/>
                </a:lnTo>
                <a:lnTo>
                  <a:pt x="26" y="141"/>
                </a:lnTo>
                <a:lnTo>
                  <a:pt x="32" y="130"/>
                </a:lnTo>
                <a:lnTo>
                  <a:pt x="37" y="118"/>
                </a:lnTo>
                <a:lnTo>
                  <a:pt x="44" y="108"/>
                </a:lnTo>
                <a:lnTo>
                  <a:pt x="50" y="98"/>
                </a:lnTo>
                <a:lnTo>
                  <a:pt x="58" y="88"/>
                </a:lnTo>
                <a:lnTo>
                  <a:pt x="65" y="78"/>
                </a:lnTo>
                <a:lnTo>
                  <a:pt x="81" y="61"/>
                </a:lnTo>
                <a:lnTo>
                  <a:pt x="98" y="46"/>
                </a:lnTo>
                <a:lnTo>
                  <a:pt x="106" y="38"/>
                </a:lnTo>
                <a:lnTo>
                  <a:pt x="116" y="32"/>
                </a:lnTo>
                <a:lnTo>
                  <a:pt x="125" y="26"/>
                </a:lnTo>
                <a:lnTo>
                  <a:pt x="136" y="21"/>
                </a:lnTo>
                <a:lnTo>
                  <a:pt x="146" y="16"/>
                </a:lnTo>
                <a:lnTo>
                  <a:pt x="156" y="12"/>
                </a:lnTo>
                <a:lnTo>
                  <a:pt x="166" y="9"/>
                </a:lnTo>
                <a:lnTo>
                  <a:pt x="177" y="5"/>
                </a:lnTo>
                <a:lnTo>
                  <a:pt x="187" y="4"/>
                </a:lnTo>
                <a:lnTo>
                  <a:pt x="198" y="1"/>
                </a:lnTo>
                <a:lnTo>
                  <a:pt x="210" y="0"/>
                </a:lnTo>
                <a:lnTo>
                  <a:pt x="221" y="0"/>
                </a:lnTo>
                <a:lnTo>
                  <a:pt x="232" y="0"/>
                </a:lnTo>
                <a:lnTo>
                  <a:pt x="243" y="1"/>
                </a:lnTo>
                <a:lnTo>
                  <a:pt x="254" y="4"/>
                </a:lnTo>
                <a:lnTo>
                  <a:pt x="265" y="5"/>
                </a:lnTo>
                <a:lnTo>
                  <a:pt x="276" y="9"/>
                </a:lnTo>
                <a:lnTo>
                  <a:pt x="286" y="12"/>
                </a:lnTo>
                <a:lnTo>
                  <a:pt x="296" y="16"/>
                </a:lnTo>
                <a:lnTo>
                  <a:pt x="306" y="21"/>
                </a:lnTo>
                <a:lnTo>
                  <a:pt x="316" y="26"/>
                </a:lnTo>
                <a:lnTo>
                  <a:pt x="325" y="32"/>
                </a:lnTo>
                <a:lnTo>
                  <a:pt x="334" y="38"/>
                </a:lnTo>
                <a:lnTo>
                  <a:pt x="343" y="46"/>
                </a:lnTo>
                <a:lnTo>
                  <a:pt x="361" y="61"/>
                </a:lnTo>
                <a:lnTo>
                  <a:pt x="376" y="78"/>
                </a:lnTo>
                <a:lnTo>
                  <a:pt x="390" y="98"/>
                </a:lnTo>
                <a:lnTo>
                  <a:pt x="403" y="118"/>
                </a:lnTo>
                <a:lnTo>
                  <a:pt x="408" y="130"/>
                </a:lnTo>
                <a:lnTo>
                  <a:pt x="413" y="141"/>
                </a:lnTo>
                <a:lnTo>
                  <a:pt x="418" y="153"/>
                </a:lnTo>
                <a:lnTo>
                  <a:pt x="424" y="165"/>
                </a:lnTo>
                <a:lnTo>
                  <a:pt x="428" y="177"/>
                </a:lnTo>
                <a:lnTo>
                  <a:pt x="431" y="189"/>
                </a:lnTo>
                <a:lnTo>
                  <a:pt x="434" y="202"/>
                </a:lnTo>
                <a:lnTo>
                  <a:pt x="436" y="216"/>
                </a:lnTo>
                <a:lnTo>
                  <a:pt x="438" y="229"/>
                </a:lnTo>
                <a:lnTo>
                  <a:pt x="440" y="242"/>
                </a:lnTo>
                <a:lnTo>
                  <a:pt x="441" y="256"/>
                </a:lnTo>
                <a:lnTo>
                  <a:pt x="441" y="271"/>
                </a:lnTo>
              </a:path>
            </a:pathLst>
          </a:custGeom>
          <a:noFill/>
          <a:ln w="936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16720" y="2362320"/>
            <a:ext cx="28440" cy="25200"/>
          </a:xfrm>
          <a:custGeom>
            <a:avLst/>
            <a:gdLst/>
            <a:ahLst/>
            <a:rect l="l" t="t" r="r" b="b"/>
            <a:pathLst>
              <a:path w="54" h="68">
                <a:moveTo>
                  <a:pt x="54" y="35"/>
                </a:moveTo>
                <a:lnTo>
                  <a:pt x="54" y="42"/>
                </a:lnTo>
                <a:lnTo>
                  <a:pt x="52" y="48"/>
                </a:lnTo>
                <a:lnTo>
                  <a:pt x="50" y="53"/>
                </a:lnTo>
                <a:lnTo>
                  <a:pt x="47" y="58"/>
                </a:lnTo>
                <a:lnTo>
                  <a:pt x="43" y="62"/>
                </a:lnTo>
                <a:lnTo>
                  <a:pt x="38" y="65"/>
                </a:lnTo>
                <a:lnTo>
                  <a:pt x="34" y="67"/>
                </a:lnTo>
                <a:lnTo>
                  <a:pt x="29" y="68"/>
                </a:lnTo>
                <a:lnTo>
                  <a:pt x="22" y="67"/>
                </a:lnTo>
                <a:lnTo>
                  <a:pt x="17" y="65"/>
                </a:lnTo>
                <a:lnTo>
                  <a:pt x="12" y="62"/>
                </a:lnTo>
                <a:lnTo>
                  <a:pt x="8" y="58"/>
                </a:lnTo>
                <a:lnTo>
                  <a:pt x="5" y="53"/>
                </a:lnTo>
                <a:lnTo>
                  <a:pt x="2" y="48"/>
                </a:lnTo>
                <a:lnTo>
                  <a:pt x="1" y="42"/>
                </a:lnTo>
                <a:lnTo>
                  <a:pt x="0" y="35"/>
                </a:lnTo>
                <a:lnTo>
                  <a:pt x="1" y="28"/>
                </a:lnTo>
                <a:lnTo>
                  <a:pt x="2" y="22"/>
                </a:lnTo>
                <a:lnTo>
                  <a:pt x="5" y="15"/>
                </a:lnTo>
                <a:lnTo>
                  <a:pt x="8" y="10"/>
                </a:lnTo>
                <a:lnTo>
                  <a:pt x="12" y="7"/>
                </a:lnTo>
                <a:lnTo>
                  <a:pt x="17" y="4"/>
                </a:lnTo>
                <a:lnTo>
                  <a:pt x="22" y="2"/>
                </a:lnTo>
                <a:lnTo>
                  <a:pt x="29" y="0"/>
                </a:lnTo>
                <a:lnTo>
                  <a:pt x="34" y="2"/>
                </a:lnTo>
                <a:lnTo>
                  <a:pt x="38" y="4"/>
                </a:lnTo>
                <a:lnTo>
                  <a:pt x="43" y="7"/>
                </a:lnTo>
                <a:lnTo>
                  <a:pt x="47" y="10"/>
                </a:lnTo>
                <a:lnTo>
                  <a:pt x="50" y="15"/>
                </a:lnTo>
                <a:lnTo>
                  <a:pt x="52" y="22"/>
                </a:lnTo>
                <a:lnTo>
                  <a:pt x="54" y="28"/>
                </a:lnTo>
                <a:lnTo>
                  <a:pt x="54" y="35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39040" y="2378160"/>
            <a:ext cx="21960" cy="19080"/>
          </a:xfrm>
          <a:custGeom>
            <a:avLst/>
            <a:gdLst/>
            <a:ahLst/>
            <a:rect l="l" t="t" r="r" b="b"/>
            <a:pathLst>
              <a:path w="42" h="52">
                <a:moveTo>
                  <a:pt x="42" y="28"/>
                </a:moveTo>
                <a:lnTo>
                  <a:pt x="41" y="32"/>
                </a:lnTo>
                <a:lnTo>
                  <a:pt x="40" y="37"/>
                </a:lnTo>
                <a:lnTo>
                  <a:pt x="38" y="40"/>
                </a:lnTo>
                <a:lnTo>
                  <a:pt x="36" y="44"/>
                </a:lnTo>
                <a:lnTo>
                  <a:pt x="33" y="48"/>
                </a:lnTo>
                <a:lnTo>
                  <a:pt x="29" y="50"/>
                </a:lnTo>
                <a:lnTo>
                  <a:pt x="26" y="52"/>
                </a:lnTo>
                <a:lnTo>
                  <a:pt x="22" y="52"/>
                </a:lnTo>
                <a:lnTo>
                  <a:pt x="18" y="52"/>
                </a:lnTo>
                <a:lnTo>
                  <a:pt x="14" y="50"/>
                </a:lnTo>
                <a:lnTo>
                  <a:pt x="10" y="48"/>
                </a:lnTo>
                <a:lnTo>
                  <a:pt x="7" y="44"/>
                </a:lnTo>
                <a:lnTo>
                  <a:pt x="4" y="40"/>
                </a:lnTo>
                <a:lnTo>
                  <a:pt x="2" y="37"/>
                </a:lnTo>
                <a:lnTo>
                  <a:pt x="1" y="32"/>
                </a:lnTo>
                <a:lnTo>
                  <a:pt x="0" y="28"/>
                </a:lnTo>
                <a:lnTo>
                  <a:pt x="1" y="22"/>
                </a:lnTo>
                <a:lnTo>
                  <a:pt x="2" y="17"/>
                </a:lnTo>
                <a:lnTo>
                  <a:pt x="4" y="13"/>
                </a:lnTo>
                <a:lnTo>
                  <a:pt x="7" y="8"/>
                </a:lnTo>
                <a:lnTo>
                  <a:pt x="10" y="5"/>
                </a:lnTo>
                <a:lnTo>
                  <a:pt x="14" y="3"/>
                </a:lnTo>
                <a:lnTo>
                  <a:pt x="18" y="0"/>
                </a:lnTo>
                <a:lnTo>
                  <a:pt x="22" y="0"/>
                </a:lnTo>
                <a:lnTo>
                  <a:pt x="26" y="0"/>
                </a:lnTo>
                <a:lnTo>
                  <a:pt x="29" y="3"/>
                </a:lnTo>
                <a:lnTo>
                  <a:pt x="33" y="5"/>
                </a:lnTo>
                <a:lnTo>
                  <a:pt x="36" y="8"/>
                </a:lnTo>
                <a:lnTo>
                  <a:pt x="38" y="13"/>
                </a:lnTo>
                <a:lnTo>
                  <a:pt x="40" y="17"/>
                </a:lnTo>
                <a:lnTo>
                  <a:pt x="41" y="22"/>
                </a:lnTo>
                <a:lnTo>
                  <a:pt x="42" y="28"/>
                </a:lnTo>
              </a:path>
            </a:pathLst>
          </a:custGeom>
          <a:noFill/>
          <a:ln w="792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357080" y="4043520"/>
            <a:ext cx="168120" cy="436320"/>
          </a:xfrm>
          <a:custGeom>
            <a:avLst/>
            <a:gdLst/>
            <a:ahLst/>
            <a:rect l="l" t="t" r="r" b="b"/>
            <a:pathLst>
              <a:path w="240" h="1349">
                <a:moveTo>
                  <a:pt x="28" y="6"/>
                </a:moveTo>
                <a:lnTo>
                  <a:pt x="0" y="13"/>
                </a:lnTo>
                <a:lnTo>
                  <a:pt x="185" y="1349"/>
                </a:lnTo>
                <a:lnTo>
                  <a:pt x="240" y="1337"/>
                </a:lnTo>
                <a:lnTo>
                  <a:pt x="55" y="0"/>
                </a:lnTo>
                <a:lnTo>
                  <a:pt x="28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81640" y="3990960"/>
            <a:ext cx="118800" cy="109440"/>
          </a:xfrm>
          <a:custGeom>
            <a:avLst/>
            <a:gdLst/>
            <a:ahLst/>
            <a:rect l="l" t="t" r="r" b="b"/>
            <a:pathLst>
              <a:path w="225" h="277">
                <a:moveTo>
                  <a:pt x="2" y="162"/>
                </a:moveTo>
                <a:lnTo>
                  <a:pt x="2" y="162"/>
                </a:lnTo>
                <a:lnTo>
                  <a:pt x="1" y="158"/>
                </a:lnTo>
                <a:lnTo>
                  <a:pt x="1" y="155"/>
                </a:lnTo>
                <a:lnTo>
                  <a:pt x="0" y="151"/>
                </a:lnTo>
                <a:lnTo>
                  <a:pt x="0" y="148"/>
                </a:lnTo>
                <a:lnTo>
                  <a:pt x="0" y="145"/>
                </a:lnTo>
                <a:lnTo>
                  <a:pt x="0" y="141"/>
                </a:lnTo>
                <a:lnTo>
                  <a:pt x="0" y="137"/>
                </a:lnTo>
                <a:lnTo>
                  <a:pt x="0" y="133"/>
                </a:lnTo>
                <a:lnTo>
                  <a:pt x="0" y="131"/>
                </a:lnTo>
                <a:lnTo>
                  <a:pt x="0" y="127"/>
                </a:lnTo>
                <a:lnTo>
                  <a:pt x="1" y="123"/>
                </a:lnTo>
                <a:lnTo>
                  <a:pt x="1" y="120"/>
                </a:lnTo>
                <a:lnTo>
                  <a:pt x="1" y="117"/>
                </a:lnTo>
                <a:lnTo>
                  <a:pt x="2" y="113"/>
                </a:lnTo>
                <a:lnTo>
                  <a:pt x="2" y="110"/>
                </a:lnTo>
                <a:lnTo>
                  <a:pt x="3" y="107"/>
                </a:lnTo>
                <a:lnTo>
                  <a:pt x="4" y="103"/>
                </a:lnTo>
                <a:lnTo>
                  <a:pt x="4" y="101"/>
                </a:lnTo>
                <a:lnTo>
                  <a:pt x="5" y="97"/>
                </a:lnTo>
                <a:lnTo>
                  <a:pt x="6" y="93"/>
                </a:lnTo>
                <a:lnTo>
                  <a:pt x="7" y="91"/>
                </a:lnTo>
                <a:lnTo>
                  <a:pt x="8" y="87"/>
                </a:lnTo>
                <a:lnTo>
                  <a:pt x="9" y="85"/>
                </a:lnTo>
                <a:lnTo>
                  <a:pt x="10" y="82"/>
                </a:lnTo>
                <a:lnTo>
                  <a:pt x="11" y="79"/>
                </a:lnTo>
                <a:lnTo>
                  <a:pt x="12" y="76"/>
                </a:lnTo>
                <a:lnTo>
                  <a:pt x="13" y="72"/>
                </a:lnTo>
                <a:lnTo>
                  <a:pt x="15" y="70"/>
                </a:lnTo>
                <a:lnTo>
                  <a:pt x="16" y="67"/>
                </a:lnTo>
                <a:lnTo>
                  <a:pt x="17" y="64"/>
                </a:lnTo>
                <a:lnTo>
                  <a:pt x="19" y="61"/>
                </a:lnTo>
                <a:lnTo>
                  <a:pt x="20" y="59"/>
                </a:lnTo>
                <a:lnTo>
                  <a:pt x="22" y="56"/>
                </a:lnTo>
                <a:lnTo>
                  <a:pt x="24" y="54"/>
                </a:lnTo>
                <a:lnTo>
                  <a:pt x="25" y="51"/>
                </a:lnTo>
                <a:lnTo>
                  <a:pt x="27" y="49"/>
                </a:lnTo>
                <a:lnTo>
                  <a:pt x="29" y="46"/>
                </a:lnTo>
                <a:lnTo>
                  <a:pt x="31" y="44"/>
                </a:lnTo>
                <a:lnTo>
                  <a:pt x="32" y="41"/>
                </a:lnTo>
                <a:lnTo>
                  <a:pt x="34" y="39"/>
                </a:lnTo>
                <a:lnTo>
                  <a:pt x="36" y="36"/>
                </a:lnTo>
                <a:lnTo>
                  <a:pt x="39" y="34"/>
                </a:lnTo>
                <a:lnTo>
                  <a:pt x="41" y="32"/>
                </a:lnTo>
                <a:lnTo>
                  <a:pt x="43" y="30"/>
                </a:lnTo>
                <a:lnTo>
                  <a:pt x="46" y="27"/>
                </a:lnTo>
                <a:lnTo>
                  <a:pt x="48" y="26"/>
                </a:lnTo>
                <a:lnTo>
                  <a:pt x="50" y="24"/>
                </a:lnTo>
                <a:lnTo>
                  <a:pt x="52" y="22"/>
                </a:lnTo>
                <a:lnTo>
                  <a:pt x="54" y="20"/>
                </a:lnTo>
                <a:lnTo>
                  <a:pt x="57" y="19"/>
                </a:lnTo>
                <a:lnTo>
                  <a:pt x="59" y="16"/>
                </a:lnTo>
                <a:lnTo>
                  <a:pt x="62" y="15"/>
                </a:lnTo>
                <a:lnTo>
                  <a:pt x="64" y="14"/>
                </a:lnTo>
                <a:lnTo>
                  <a:pt x="67" y="12"/>
                </a:lnTo>
                <a:lnTo>
                  <a:pt x="69" y="11"/>
                </a:lnTo>
                <a:lnTo>
                  <a:pt x="72" y="10"/>
                </a:lnTo>
                <a:lnTo>
                  <a:pt x="74" y="9"/>
                </a:lnTo>
                <a:lnTo>
                  <a:pt x="77" y="7"/>
                </a:lnTo>
                <a:lnTo>
                  <a:pt x="79" y="6"/>
                </a:lnTo>
                <a:lnTo>
                  <a:pt x="82" y="5"/>
                </a:lnTo>
                <a:lnTo>
                  <a:pt x="85" y="4"/>
                </a:lnTo>
                <a:lnTo>
                  <a:pt x="88" y="4"/>
                </a:lnTo>
                <a:lnTo>
                  <a:pt x="90" y="2"/>
                </a:lnTo>
                <a:lnTo>
                  <a:pt x="93" y="2"/>
                </a:lnTo>
                <a:lnTo>
                  <a:pt x="93" y="2"/>
                </a:lnTo>
                <a:lnTo>
                  <a:pt x="96" y="1"/>
                </a:lnTo>
                <a:lnTo>
                  <a:pt x="99" y="1"/>
                </a:lnTo>
                <a:lnTo>
                  <a:pt x="102" y="1"/>
                </a:lnTo>
                <a:lnTo>
                  <a:pt x="104" y="0"/>
                </a:lnTo>
                <a:lnTo>
                  <a:pt x="107" y="0"/>
                </a:lnTo>
                <a:lnTo>
                  <a:pt x="111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2" y="1"/>
                </a:lnTo>
                <a:lnTo>
                  <a:pt x="125" y="1"/>
                </a:lnTo>
                <a:lnTo>
                  <a:pt x="127" y="1"/>
                </a:lnTo>
                <a:lnTo>
                  <a:pt x="130" y="2"/>
                </a:lnTo>
                <a:lnTo>
                  <a:pt x="133" y="2"/>
                </a:lnTo>
                <a:lnTo>
                  <a:pt x="136" y="4"/>
                </a:lnTo>
                <a:lnTo>
                  <a:pt x="138" y="4"/>
                </a:lnTo>
                <a:lnTo>
                  <a:pt x="141" y="5"/>
                </a:lnTo>
                <a:lnTo>
                  <a:pt x="143" y="5"/>
                </a:lnTo>
                <a:lnTo>
                  <a:pt x="146" y="6"/>
                </a:lnTo>
                <a:lnTo>
                  <a:pt x="149" y="7"/>
                </a:lnTo>
                <a:lnTo>
                  <a:pt x="151" y="9"/>
                </a:lnTo>
                <a:lnTo>
                  <a:pt x="154" y="10"/>
                </a:lnTo>
                <a:lnTo>
                  <a:pt x="156" y="11"/>
                </a:lnTo>
                <a:lnTo>
                  <a:pt x="158" y="12"/>
                </a:lnTo>
                <a:lnTo>
                  <a:pt x="161" y="14"/>
                </a:lnTo>
                <a:lnTo>
                  <a:pt x="163" y="15"/>
                </a:lnTo>
                <a:lnTo>
                  <a:pt x="166" y="17"/>
                </a:lnTo>
                <a:lnTo>
                  <a:pt x="168" y="19"/>
                </a:lnTo>
                <a:lnTo>
                  <a:pt x="170" y="20"/>
                </a:lnTo>
                <a:lnTo>
                  <a:pt x="173" y="22"/>
                </a:lnTo>
                <a:lnTo>
                  <a:pt x="175" y="24"/>
                </a:lnTo>
                <a:lnTo>
                  <a:pt x="177" y="26"/>
                </a:lnTo>
                <a:lnTo>
                  <a:pt x="179" y="27"/>
                </a:lnTo>
                <a:lnTo>
                  <a:pt x="181" y="30"/>
                </a:lnTo>
                <a:lnTo>
                  <a:pt x="184" y="32"/>
                </a:lnTo>
                <a:lnTo>
                  <a:pt x="186" y="34"/>
                </a:lnTo>
                <a:lnTo>
                  <a:pt x="188" y="36"/>
                </a:lnTo>
                <a:lnTo>
                  <a:pt x="190" y="39"/>
                </a:lnTo>
                <a:lnTo>
                  <a:pt x="192" y="41"/>
                </a:lnTo>
                <a:lnTo>
                  <a:pt x="194" y="44"/>
                </a:lnTo>
                <a:lnTo>
                  <a:pt x="196" y="46"/>
                </a:lnTo>
                <a:lnTo>
                  <a:pt x="198" y="49"/>
                </a:lnTo>
                <a:lnTo>
                  <a:pt x="199" y="51"/>
                </a:lnTo>
                <a:lnTo>
                  <a:pt x="201" y="54"/>
                </a:lnTo>
                <a:lnTo>
                  <a:pt x="203" y="56"/>
                </a:lnTo>
                <a:lnTo>
                  <a:pt x="204" y="59"/>
                </a:lnTo>
                <a:lnTo>
                  <a:pt x="206" y="61"/>
                </a:lnTo>
                <a:lnTo>
                  <a:pt x="207" y="64"/>
                </a:lnTo>
                <a:lnTo>
                  <a:pt x="209" y="67"/>
                </a:lnTo>
                <a:lnTo>
                  <a:pt x="210" y="70"/>
                </a:lnTo>
                <a:lnTo>
                  <a:pt x="211" y="72"/>
                </a:lnTo>
                <a:lnTo>
                  <a:pt x="213" y="76"/>
                </a:lnTo>
                <a:lnTo>
                  <a:pt x="214" y="79"/>
                </a:lnTo>
                <a:lnTo>
                  <a:pt x="215" y="82"/>
                </a:lnTo>
                <a:lnTo>
                  <a:pt x="216" y="85"/>
                </a:lnTo>
                <a:lnTo>
                  <a:pt x="217" y="88"/>
                </a:lnTo>
                <a:lnTo>
                  <a:pt x="218" y="91"/>
                </a:lnTo>
                <a:lnTo>
                  <a:pt x="219" y="95"/>
                </a:lnTo>
                <a:lnTo>
                  <a:pt x="220" y="98"/>
                </a:lnTo>
                <a:lnTo>
                  <a:pt x="221" y="101"/>
                </a:lnTo>
                <a:lnTo>
                  <a:pt x="221" y="105"/>
                </a:lnTo>
                <a:lnTo>
                  <a:pt x="222" y="108"/>
                </a:lnTo>
                <a:lnTo>
                  <a:pt x="223" y="112"/>
                </a:lnTo>
                <a:lnTo>
                  <a:pt x="223" y="115"/>
                </a:lnTo>
                <a:lnTo>
                  <a:pt x="223" y="115"/>
                </a:lnTo>
                <a:lnTo>
                  <a:pt x="224" y="118"/>
                </a:lnTo>
                <a:lnTo>
                  <a:pt x="224" y="122"/>
                </a:lnTo>
                <a:lnTo>
                  <a:pt x="224" y="126"/>
                </a:lnTo>
                <a:lnTo>
                  <a:pt x="225" y="130"/>
                </a:lnTo>
                <a:lnTo>
                  <a:pt x="225" y="132"/>
                </a:lnTo>
                <a:lnTo>
                  <a:pt x="225" y="136"/>
                </a:lnTo>
                <a:lnTo>
                  <a:pt x="225" y="140"/>
                </a:lnTo>
                <a:lnTo>
                  <a:pt x="225" y="143"/>
                </a:lnTo>
                <a:lnTo>
                  <a:pt x="225" y="146"/>
                </a:lnTo>
                <a:lnTo>
                  <a:pt x="224" y="150"/>
                </a:lnTo>
                <a:lnTo>
                  <a:pt x="224" y="153"/>
                </a:lnTo>
                <a:lnTo>
                  <a:pt x="224" y="157"/>
                </a:lnTo>
                <a:lnTo>
                  <a:pt x="223" y="160"/>
                </a:lnTo>
                <a:lnTo>
                  <a:pt x="223" y="163"/>
                </a:lnTo>
                <a:lnTo>
                  <a:pt x="222" y="167"/>
                </a:lnTo>
                <a:lnTo>
                  <a:pt x="222" y="170"/>
                </a:lnTo>
                <a:lnTo>
                  <a:pt x="221" y="173"/>
                </a:lnTo>
                <a:lnTo>
                  <a:pt x="220" y="177"/>
                </a:lnTo>
                <a:lnTo>
                  <a:pt x="220" y="180"/>
                </a:lnTo>
                <a:lnTo>
                  <a:pt x="219" y="183"/>
                </a:lnTo>
                <a:lnTo>
                  <a:pt x="218" y="186"/>
                </a:lnTo>
                <a:lnTo>
                  <a:pt x="217" y="190"/>
                </a:lnTo>
                <a:lnTo>
                  <a:pt x="216" y="192"/>
                </a:lnTo>
                <a:lnTo>
                  <a:pt x="215" y="196"/>
                </a:lnTo>
                <a:lnTo>
                  <a:pt x="214" y="198"/>
                </a:lnTo>
                <a:lnTo>
                  <a:pt x="213" y="201"/>
                </a:lnTo>
                <a:lnTo>
                  <a:pt x="211" y="205"/>
                </a:lnTo>
                <a:lnTo>
                  <a:pt x="210" y="207"/>
                </a:lnTo>
                <a:lnTo>
                  <a:pt x="209" y="210"/>
                </a:lnTo>
                <a:lnTo>
                  <a:pt x="207" y="213"/>
                </a:lnTo>
                <a:lnTo>
                  <a:pt x="206" y="216"/>
                </a:lnTo>
                <a:lnTo>
                  <a:pt x="204" y="218"/>
                </a:lnTo>
                <a:lnTo>
                  <a:pt x="203" y="221"/>
                </a:lnTo>
                <a:lnTo>
                  <a:pt x="201" y="223"/>
                </a:lnTo>
                <a:lnTo>
                  <a:pt x="199" y="226"/>
                </a:lnTo>
                <a:lnTo>
                  <a:pt x="198" y="228"/>
                </a:lnTo>
                <a:lnTo>
                  <a:pt x="196" y="231"/>
                </a:lnTo>
                <a:lnTo>
                  <a:pt x="194" y="233"/>
                </a:lnTo>
                <a:lnTo>
                  <a:pt x="192" y="236"/>
                </a:lnTo>
                <a:lnTo>
                  <a:pt x="190" y="238"/>
                </a:lnTo>
                <a:lnTo>
                  <a:pt x="188" y="241"/>
                </a:lnTo>
                <a:lnTo>
                  <a:pt x="186" y="243"/>
                </a:lnTo>
                <a:lnTo>
                  <a:pt x="184" y="246"/>
                </a:lnTo>
                <a:lnTo>
                  <a:pt x="181" y="247"/>
                </a:lnTo>
                <a:lnTo>
                  <a:pt x="179" y="249"/>
                </a:lnTo>
                <a:lnTo>
                  <a:pt x="177" y="251"/>
                </a:lnTo>
                <a:lnTo>
                  <a:pt x="175" y="253"/>
                </a:lnTo>
                <a:lnTo>
                  <a:pt x="173" y="256"/>
                </a:lnTo>
                <a:lnTo>
                  <a:pt x="170" y="257"/>
                </a:lnTo>
                <a:lnTo>
                  <a:pt x="168" y="258"/>
                </a:lnTo>
                <a:lnTo>
                  <a:pt x="166" y="261"/>
                </a:lnTo>
                <a:lnTo>
                  <a:pt x="163" y="262"/>
                </a:lnTo>
                <a:lnTo>
                  <a:pt x="161" y="263"/>
                </a:lnTo>
                <a:lnTo>
                  <a:pt x="158" y="264"/>
                </a:lnTo>
                <a:lnTo>
                  <a:pt x="156" y="266"/>
                </a:lnTo>
                <a:lnTo>
                  <a:pt x="153" y="267"/>
                </a:lnTo>
                <a:lnTo>
                  <a:pt x="151" y="268"/>
                </a:lnTo>
                <a:lnTo>
                  <a:pt x="148" y="269"/>
                </a:lnTo>
                <a:lnTo>
                  <a:pt x="145" y="271"/>
                </a:lnTo>
                <a:lnTo>
                  <a:pt x="143" y="272"/>
                </a:lnTo>
                <a:lnTo>
                  <a:pt x="140" y="273"/>
                </a:lnTo>
                <a:lnTo>
                  <a:pt x="137" y="273"/>
                </a:lnTo>
                <a:lnTo>
                  <a:pt x="134" y="274"/>
                </a:lnTo>
                <a:lnTo>
                  <a:pt x="132" y="274"/>
                </a:lnTo>
                <a:lnTo>
                  <a:pt x="132" y="274"/>
                </a:lnTo>
                <a:lnTo>
                  <a:pt x="129" y="276"/>
                </a:lnTo>
                <a:lnTo>
                  <a:pt x="126" y="276"/>
                </a:lnTo>
                <a:lnTo>
                  <a:pt x="123" y="277"/>
                </a:lnTo>
                <a:lnTo>
                  <a:pt x="120" y="277"/>
                </a:lnTo>
                <a:lnTo>
                  <a:pt x="117" y="277"/>
                </a:lnTo>
                <a:lnTo>
                  <a:pt x="115" y="277"/>
                </a:lnTo>
                <a:lnTo>
                  <a:pt x="112" y="277"/>
                </a:lnTo>
                <a:lnTo>
                  <a:pt x="108" y="277"/>
                </a:lnTo>
                <a:lnTo>
                  <a:pt x="105" y="277"/>
                </a:lnTo>
                <a:lnTo>
                  <a:pt x="103" y="277"/>
                </a:lnTo>
                <a:lnTo>
                  <a:pt x="100" y="276"/>
                </a:lnTo>
                <a:lnTo>
                  <a:pt x="97" y="276"/>
                </a:lnTo>
                <a:lnTo>
                  <a:pt x="95" y="276"/>
                </a:lnTo>
                <a:lnTo>
                  <a:pt x="92" y="274"/>
                </a:lnTo>
                <a:lnTo>
                  <a:pt x="89" y="274"/>
                </a:lnTo>
                <a:lnTo>
                  <a:pt x="87" y="273"/>
                </a:lnTo>
                <a:lnTo>
                  <a:pt x="84" y="272"/>
                </a:lnTo>
                <a:lnTo>
                  <a:pt x="81" y="272"/>
                </a:lnTo>
                <a:lnTo>
                  <a:pt x="79" y="271"/>
                </a:lnTo>
                <a:lnTo>
                  <a:pt x="76" y="269"/>
                </a:lnTo>
                <a:lnTo>
                  <a:pt x="74" y="268"/>
                </a:lnTo>
                <a:lnTo>
                  <a:pt x="71" y="267"/>
                </a:lnTo>
                <a:lnTo>
                  <a:pt x="69" y="266"/>
                </a:lnTo>
                <a:lnTo>
                  <a:pt x="66" y="264"/>
                </a:lnTo>
                <a:lnTo>
                  <a:pt x="64" y="263"/>
                </a:lnTo>
                <a:lnTo>
                  <a:pt x="61" y="262"/>
                </a:lnTo>
                <a:lnTo>
                  <a:pt x="59" y="261"/>
                </a:lnTo>
                <a:lnTo>
                  <a:pt x="57" y="258"/>
                </a:lnTo>
                <a:lnTo>
                  <a:pt x="54" y="257"/>
                </a:lnTo>
                <a:lnTo>
                  <a:pt x="52" y="254"/>
                </a:lnTo>
                <a:lnTo>
                  <a:pt x="50" y="253"/>
                </a:lnTo>
                <a:lnTo>
                  <a:pt x="48" y="251"/>
                </a:lnTo>
                <a:lnTo>
                  <a:pt x="46" y="249"/>
                </a:lnTo>
                <a:lnTo>
                  <a:pt x="44" y="247"/>
                </a:lnTo>
                <a:lnTo>
                  <a:pt x="41" y="246"/>
                </a:lnTo>
                <a:lnTo>
                  <a:pt x="39" y="243"/>
                </a:lnTo>
                <a:lnTo>
                  <a:pt x="36" y="241"/>
                </a:lnTo>
                <a:lnTo>
                  <a:pt x="34" y="238"/>
                </a:lnTo>
                <a:lnTo>
                  <a:pt x="33" y="236"/>
                </a:lnTo>
                <a:lnTo>
                  <a:pt x="31" y="234"/>
                </a:lnTo>
                <a:lnTo>
                  <a:pt x="29" y="232"/>
                </a:lnTo>
                <a:lnTo>
                  <a:pt x="27" y="229"/>
                </a:lnTo>
                <a:lnTo>
                  <a:pt x="25" y="227"/>
                </a:lnTo>
                <a:lnTo>
                  <a:pt x="24" y="223"/>
                </a:lnTo>
                <a:lnTo>
                  <a:pt x="22" y="221"/>
                </a:lnTo>
                <a:lnTo>
                  <a:pt x="20" y="218"/>
                </a:lnTo>
                <a:lnTo>
                  <a:pt x="19" y="216"/>
                </a:lnTo>
                <a:lnTo>
                  <a:pt x="17" y="213"/>
                </a:lnTo>
                <a:lnTo>
                  <a:pt x="16" y="210"/>
                </a:lnTo>
                <a:lnTo>
                  <a:pt x="15" y="207"/>
                </a:lnTo>
                <a:lnTo>
                  <a:pt x="13" y="205"/>
                </a:lnTo>
                <a:lnTo>
                  <a:pt x="12" y="201"/>
                </a:lnTo>
                <a:lnTo>
                  <a:pt x="11" y="198"/>
                </a:lnTo>
                <a:lnTo>
                  <a:pt x="10" y="195"/>
                </a:lnTo>
                <a:lnTo>
                  <a:pt x="9" y="192"/>
                </a:lnTo>
                <a:lnTo>
                  <a:pt x="8" y="188"/>
                </a:lnTo>
                <a:lnTo>
                  <a:pt x="7" y="186"/>
                </a:lnTo>
                <a:lnTo>
                  <a:pt x="6" y="182"/>
                </a:lnTo>
                <a:lnTo>
                  <a:pt x="5" y="178"/>
                </a:lnTo>
                <a:lnTo>
                  <a:pt x="4" y="176"/>
                </a:lnTo>
                <a:lnTo>
                  <a:pt x="3" y="172"/>
                </a:lnTo>
                <a:lnTo>
                  <a:pt x="3" y="168"/>
                </a:lnTo>
                <a:lnTo>
                  <a:pt x="2" y="166"/>
                </a:lnTo>
                <a:lnTo>
                  <a:pt x="2" y="162"/>
                </a:lnTo>
                <a:lnTo>
                  <a:pt x="113" y="138"/>
                </a:lnTo>
                <a:lnTo>
                  <a:pt x="2" y="16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24640" y="1874880"/>
            <a:ext cx="888840" cy="1962000"/>
          </a:xfrm>
          <a:custGeom>
            <a:avLst/>
            <a:gdLst/>
            <a:ahLst/>
            <a:rect l="l" t="t" r="r" b="b"/>
            <a:pathLst>
              <a:path w="1681" h="4946">
                <a:moveTo>
                  <a:pt x="26" y="4934"/>
                </a:moveTo>
                <a:lnTo>
                  <a:pt x="52" y="4946"/>
                </a:lnTo>
                <a:lnTo>
                  <a:pt x="1681" y="26"/>
                </a:lnTo>
                <a:lnTo>
                  <a:pt x="1628" y="0"/>
                </a:lnTo>
                <a:lnTo>
                  <a:pt x="0" y="4920"/>
                </a:lnTo>
                <a:lnTo>
                  <a:pt x="26" y="493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72360" y="3672000"/>
            <a:ext cx="314280" cy="357120"/>
          </a:xfrm>
          <a:custGeom>
            <a:avLst/>
            <a:gdLst/>
            <a:ahLst/>
            <a:rect l="l" t="t" r="r" b="b"/>
            <a:pathLst>
              <a:path w="593" h="897">
                <a:moveTo>
                  <a:pt x="264" y="897"/>
                </a:moveTo>
                <a:lnTo>
                  <a:pt x="311" y="577"/>
                </a:lnTo>
                <a:lnTo>
                  <a:pt x="347" y="675"/>
                </a:lnTo>
                <a:lnTo>
                  <a:pt x="364" y="595"/>
                </a:lnTo>
                <a:lnTo>
                  <a:pt x="514" y="754"/>
                </a:lnTo>
                <a:lnTo>
                  <a:pt x="423" y="486"/>
                </a:lnTo>
                <a:lnTo>
                  <a:pt x="490" y="477"/>
                </a:lnTo>
                <a:lnTo>
                  <a:pt x="423" y="431"/>
                </a:lnTo>
                <a:lnTo>
                  <a:pt x="593" y="359"/>
                </a:lnTo>
                <a:lnTo>
                  <a:pt x="369" y="359"/>
                </a:lnTo>
                <a:lnTo>
                  <a:pt x="441" y="193"/>
                </a:lnTo>
                <a:lnTo>
                  <a:pt x="347" y="309"/>
                </a:lnTo>
                <a:lnTo>
                  <a:pt x="324" y="160"/>
                </a:lnTo>
                <a:lnTo>
                  <a:pt x="290" y="303"/>
                </a:lnTo>
                <a:lnTo>
                  <a:pt x="147" y="0"/>
                </a:lnTo>
                <a:lnTo>
                  <a:pt x="199" y="315"/>
                </a:lnTo>
                <a:lnTo>
                  <a:pt x="126" y="283"/>
                </a:lnTo>
                <a:lnTo>
                  <a:pt x="158" y="363"/>
                </a:lnTo>
                <a:lnTo>
                  <a:pt x="15" y="413"/>
                </a:lnTo>
                <a:lnTo>
                  <a:pt x="135" y="484"/>
                </a:lnTo>
                <a:lnTo>
                  <a:pt x="0" y="728"/>
                </a:lnTo>
                <a:lnTo>
                  <a:pt x="208" y="575"/>
                </a:lnTo>
                <a:lnTo>
                  <a:pt x="172" y="672"/>
                </a:lnTo>
                <a:lnTo>
                  <a:pt x="240" y="607"/>
                </a:lnTo>
                <a:lnTo>
                  <a:pt x="264" y="897"/>
                </a:lnTo>
                <a:lnTo>
                  <a:pt x="285" y="484"/>
                </a:lnTo>
                <a:lnTo>
                  <a:pt x="264" y="89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89240" y="1206360"/>
            <a:ext cx="128880" cy="114480"/>
          </a:xfrm>
          <a:custGeom>
            <a:avLst/>
            <a:gdLst/>
            <a:ahLst/>
            <a:rect l="l" t="t" r="r" b="b"/>
            <a:pathLst>
              <a:path w="242" h="290">
                <a:moveTo>
                  <a:pt x="52" y="261"/>
                </a:moveTo>
                <a:lnTo>
                  <a:pt x="78" y="234"/>
                </a:lnTo>
                <a:lnTo>
                  <a:pt x="80" y="238"/>
                </a:lnTo>
                <a:lnTo>
                  <a:pt x="83" y="240"/>
                </a:lnTo>
                <a:lnTo>
                  <a:pt x="86" y="243"/>
                </a:lnTo>
                <a:lnTo>
                  <a:pt x="89" y="245"/>
                </a:lnTo>
                <a:lnTo>
                  <a:pt x="92" y="248"/>
                </a:lnTo>
                <a:lnTo>
                  <a:pt x="95" y="249"/>
                </a:lnTo>
                <a:lnTo>
                  <a:pt x="98" y="250"/>
                </a:lnTo>
                <a:lnTo>
                  <a:pt x="102" y="251"/>
                </a:lnTo>
                <a:lnTo>
                  <a:pt x="105" y="253"/>
                </a:lnTo>
                <a:lnTo>
                  <a:pt x="109" y="253"/>
                </a:lnTo>
                <a:lnTo>
                  <a:pt x="112" y="253"/>
                </a:lnTo>
                <a:lnTo>
                  <a:pt x="116" y="253"/>
                </a:lnTo>
                <a:lnTo>
                  <a:pt x="120" y="251"/>
                </a:lnTo>
                <a:lnTo>
                  <a:pt x="125" y="251"/>
                </a:lnTo>
                <a:lnTo>
                  <a:pt x="130" y="250"/>
                </a:lnTo>
                <a:lnTo>
                  <a:pt x="134" y="248"/>
                </a:lnTo>
                <a:lnTo>
                  <a:pt x="139" y="246"/>
                </a:lnTo>
                <a:lnTo>
                  <a:pt x="144" y="244"/>
                </a:lnTo>
                <a:lnTo>
                  <a:pt x="148" y="241"/>
                </a:lnTo>
                <a:lnTo>
                  <a:pt x="153" y="239"/>
                </a:lnTo>
                <a:lnTo>
                  <a:pt x="158" y="235"/>
                </a:lnTo>
                <a:lnTo>
                  <a:pt x="162" y="231"/>
                </a:lnTo>
                <a:lnTo>
                  <a:pt x="167" y="228"/>
                </a:lnTo>
                <a:lnTo>
                  <a:pt x="172" y="224"/>
                </a:lnTo>
                <a:lnTo>
                  <a:pt x="176" y="220"/>
                </a:lnTo>
                <a:lnTo>
                  <a:pt x="179" y="216"/>
                </a:lnTo>
                <a:lnTo>
                  <a:pt x="183" y="213"/>
                </a:lnTo>
                <a:lnTo>
                  <a:pt x="187" y="209"/>
                </a:lnTo>
                <a:lnTo>
                  <a:pt x="190" y="205"/>
                </a:lnTo>
                <a:lnTo>
                  <a:pt x="193" y="200"/>
                </a:lnTo>
                <a:lnTo>
                  <a:pt x="197" y="196"/>
                </a:lnTo>
                <a:lnTo>
                  <a:pt x="199" y="193"/>
                </a:lnTo>
                <a:lnTo>
                  <a:pt x="202" y="189"/>
                </a:lnTo>
                <a:lnTo>
                  <a:pt x="204" y="185"/>
                </a:lnTo>
                <a:lnTo>
                  <a:pt x="205" y="180"/>
                </a:lnTo>
                <a:lnTo>
                  <a:pt x="207" y="176"/>
                </a:lnTo>
                <a:lnTo>
                  <a:pt x="208" y="173"/>
                </a:lnTo>
                <a:lnTo>
                  <a:pt x="209" y="169"/>
                </a:lnTo>
                <a:lnTo>
                  <a:pt x="210" y="166"/>
                </a:lnTo>
                <a:lnTo>
                  <a:pt x="211" y="163"/>
                </a:lnTo>
                <a:lnTo>
                  <a:pt x="211" y="159"/>
                </a:lnTo>
                <a:lnTo>
                  <a:pt x="211" y="155"/>
                </a:lnTo>
                <a:lnTo>
                  <a:pt x="211" y="153"/>
                </a:lnTo>
                <a:lnTo>
                  <a:pt x="210" y="150"/>
                </a:lnTo>
                <a:lnTo>
                  <a:pt x="210" y="146"/>
                </a:lnTo>
                <a:lnTo>
                  <a:pt x="209" y="144"/>
                </a:lnTo>
                <a:lnTo>
                  <a:pt x="208" y="142"/>
                </a:lnTo>
                <a:lnTo>
                  <a:pt x="206" y="139"/>
                </a:lnTo>
                <a:lnTo>
                  <a:pt x="205" y="137"/>
                </a:lnTo>
                <a:lnTo>
                  <a:pt x="203" y="134"/>
                </a:lnTo>
                <a:lnTo>
                  <a:pt x="201" y="133"/>
                </a:lnTo>
                <a:lnTo>
                  <a:pt x="200" y="132"/>
                </a:lnTo>
                <a:lnTo>
                  <a:pt x="197" y="129"/>
                </a:lnTo>
                <a:lnTo>
                  <a:pt x="194" y="129"/>
                </a:lnTo>
                <a:lnTo>
                  <a:pt x="192" y="128"/>
                </a:lnTo>
                <a:lnTo>
                  <a:pt x="189" y="127"/>
                </a:lnTo>
                <a:lnTo>
                  <a:pt x="187" y="127"/>
                </a:lnTo>
                <a:lnTo>
                  <a:pt x="184" y="127"/>
                </a:lnTo>
                <a:lnTo>
                  <a:pt x="181" y="127"/>
                </a:lnTo>
                <a:lnTo>
                  <a:pt x="178" y="128"/>
                </a:lnTo>
                <a:lnTo>
                  <a:pt x="174" y="128"/>
                </a:lnTo>
                <a:lnTo>
                  <a:pt x="170" y="129"/>
                </a:lnTo>
                <a:lnTo>
                  <a:pt x="167" y="130"/>
                </a:lnTo>
                <a:lnTo>
                  <a:pt x="162" y="133"/>
                </a:lnTo>
                <a:lnTo>
                  <a:pt x="159" y="134"/>
                </a:lnTo>
                <a:lnTo>
                  <a:pt x="156" y="135"/>
                </a:lnTo>
                <a:lnTo>
                  <a:pt x="151" y="138"/>
                </a:lnTo>
                <a:lnTo>
                  <a:pt x="146" y="142"/>
                </a:lnTo>
                <a:lnTo>
                  <a:pt x="140" y="144"/>
                </a:lnTo>
                <a:lnTo>
                  <a:pt x="133" y="148"/>
                </a:lnTo>
                <a:lnTo>
                  <a:pt x="126" y="153"/>
                </a:lnTo>
                <a:lnTo>
                  <a:pt x="116" y="158"/>
                </a:lnTo>
                <a:lnTo>
                  <a:pt x="108" y="163"/>
                </a:lnTo>
                <a:lnTo>
                  <a:pt x="100" y="166"/>
                </a:lnTo>
                <a:lnTo>
                  <a:pt x="93" y="170"/>
                </a:lnTo>
                <a:lnTo>
                  <a:pt x="87" y="174"/>
                </a:lnTo>
                <a:lnTo>
                  <a:pt x="81" y="176"/>
                </a:lnTo>
                <a:lnTo>
                  <a:pt x="75" y="179"/>
                </a:lnTo>
                <a:lnTo>
                  <a:pt x="71" y="181"/>
                </a:lnTo>
                <a:lnTo>
                  <a:pt x="66" y="183"/>
                </a:lnTo>
                <a:lnTo>
                  <a:pt x="61" y="184"/>
                </a:lnTo>
                <a:lnTo>
                  <a:pt x="57" y="185"/>
                </a:lnTo>
                <a:lnTo>
                  <a:pt x="52" y="186"/>
                </a:lnTo>
                <a:lnTo>
                  <a:pt x="47" y="186"/>
                </a:lnTo>
                <a:lnTo>
                  <a:pt x="42" y="186"/>
                </a:lnTo>
                <a:lnTo>
                  <a:pt x="38" y="186"/>
                </a:lnTo>
                <a:lnTo>
                  <a:pt x="34" y="185"/>
                </a:lnTo>
                <a:lnTo>
                  <a:pt x="31" y="184"/>
                </a:lnTo>
                <a:lnTo>
                  <a:pt x="27" y="183"/>
                </a:lnTo>
                <a:lnTo>
                  <a:pt x="24" y="181"/>
                </a:lnTo>
                <a:lnTo>
                  <a:pt x="21" y="179"/>
                </a:lnTo>
                <a:lnTo>
                  <a:pt x="18" y="178"/>
                </a:lnTo>
                <a:lnTo>
                  <a:pt x="15" y="175"/>
                </a:lnTo>
                <a:lnTo>
                  <a:pt x="12" y="171"/>
                </a:lnTo>
                <a:lnTo>
                  <a:pt x="10" y="169"/>
                </a:lnTo>
                <a:lnTo>
                  <a:pt x="8" y="165"/>
                </a:lnTo>
                <a:lnTo>
                  <a:pt x="6" y="161"/>
                </a:lnTo>
                <a:lnTo>
                  <a:pt x="4" y="156"/>
                </a:lnTo>
                <a:lnTo>
                  <a:pt x="2" y="153"/>
                </a:lnTo>
                <a:lnTo>
                  <a:pt x="1" y="148"/>
                </a:lnTo>
                <a:lnTo>
                  <a:pt x="0" y="143"/>
                </a:lnTo>
                <a:lnTo>
                  <a:pt x="0" y="138"/>
                </a:lnTo>
                <a:lnTo>
                  <a:pt x="0" y="133"/>
                </a:lnTo>
                <a:lnTo>
                  <a:pt x="0" y="127"/>
                </a:lnTo>
                <a:lnTo>
                  <a:pt x="1" y="122"/>
                </a:lnTo>
                <a:lnTo>
                  <a:pt x="2" y="115"/>
                </a:lnTo>
                <a:lnTo>
                  <a:pt x="3" y="110"/>
                </a:lnTo>
                <a:lnTo>
                  <a:pt x="5" y="104"/>
                </a:lnTo>
                <a:lnTo>
                  <a:pt x="7" y="99"/>
                </a:lnTo>
                <a:lnTo>
                  <a:pt x="9" y="93"/>
                </a:lnTo>
                <a:lnTo>
                  <a:pt x="12" y="87"/>
                </a:lnTo>
                <a:lnTo>
                  <a:pt x="15" y="82"/>
                </a:lnTo>
                <a:lnTo>
                  <a:pt x="19" y="75"/>
                </a:lnTo>
                <a:lnTo>
                  <a:pt x="23" y="69"/>
                </a:lnTo>
                <a:lnTo>
                  <a:pt x="27" y="64"/>
                </a:lnTo>
                <a:lnTo>
                  <a:pt x="31" y="58"/>
                </a:lnTo>
                <a:lnTo>
                  <a:pt x="36" y="53"/>
                </a:lnTo>
                <a:lnTo>
                  <a:pt x="41" y="48"/>
                </a:lnTo>
                <a:lnTo>
                  <a:pt x="46" y="43"/>
                </a:lnTo>
                <a:lnTo>
                  <a:pt x="53" y="38"/>
                </a:lnTo>
                <a:lnTo>
                  <a:pt x="59" y="32"/>
                </a:lnTo>
                <a:lnTo>
                  <a:pt x="65" y="27"/>
                </a:lnTo>
                <a:lnTo>
                  <a:pt x="71" y="23"/>
                </a:lnTo>
                <a:lnTo>
                  <a:pt x="77" y="19"/>
                </a:lnTo>
                <a:lnTo>
                  <a:pt x="83" y="15"/>
                </a:lnTo>
                <a:lnTo>
                  <a:pt x="88" y="12"/>
                </a:lnTo>
                <a:lnTo>
                  <a:pt x="94" y="9"/>
                </a:lnTo>
                <a:lnTo>
                  <a:pt x="100" y="7"/>
                </a:lnTo>
                <a:lnTo>
                  <a:pt x="106" y="4"/>
                </a:lnTo>
                <a:lnTo>
                  <a:pt x="111" y="3"/>
                </a:lnTo>
                <a:lnTo>
                  <a:pt x="117" y="2"/>
                </a:lnTo>
                <a:lnTo>
                  <a:pt x="122" y="0"/>
                </a:lnTo>
                <a:lnTo>
                  <a:pt x="128" y="0"/>
                </a:lnTo>
                <a:lnTo>
                  <a:pt x="133" y="0"/>
                </a:lnTo>
                <a:lnTo>
                  <a:pt x="138" y="2"/>
                </a:lnTo>
                <a:lnTo>
                  <a:pt x="143" y="3"/>
                </a:lnTo>
                <a:lnTo>
                  <a:pt x="147" y="4"/>
                </a:lnTo>
                <a:lnTo>
                  <a:pt x="151" y="5"/>
                </a:lnTo>
                <a:lnTo>
                  <a:pt x="155" y="8"/>
                </a:lnTo>
                <a:lnTo>
                  <a:pt x="159" y="10"/>
                </a:lnTo>
                <a:lnTo>
                  <a:pt x="163" y="14"/>
                </a:lnTo>
                <a:lnTo>
                  <a:pt x="166" y="18"/>
                </a:lnTo>
                <a:lnTo>
                  <a:pt x="169" y="22"/>
                </a:lnTo>
                <a:lnTo>
                  <a:pt x="172" y="25"/>
                </a:lnTo>
                <a:lnTo>
                  <a:pt x="146" y="53"/>
                </a:lnTo>
                <a:lnTo>
                  <a:pt x="142" y="49"/>
                </a:lnTo>
                <a:lnTo>
                  <a:pt x="139" y="45"/>
                </a:lnTo>
                <a:lnTo>
                  <a:pt x="135" y="42"/>
                </a:lnTo>
                <a:lnTo>
                  <a:pt x="131" y="40"/>
                </a:lnTo>
                <a:lnTo>
                  <a:pt x="127" y="38"/>
                </a:lnTo>
                <a:lnTo>
                  <a:pt x="121" y="37"/>
                </a:lnTo>
                <a:lnTo>
                  <a:pt x="117" y="37"/>
                </a:lnTo>
                <a:lnTo>
                  <a:pt x="112" y="37"/>
                </a:lnTo>
                <a:lnTo>
                  <a:pt x="107" y="37"/>
                </a:lnTo>
                <a:lnTo>
                  <a:pt x="102" y="39"/>
                </a:lnTo>
                <a:lnTo>
                  <a:pt x="97" y="40"/>
                </a:lnTo>
                <a:lnTo>
                  <a:pt x="92" y="43"/>
                </a:lnTo>
                <a:lnTo>
                  <a:pt x="86" y="47"/>
                </a:lnTo>
                <a:lnTo>
                  <a:pt x="80" y="50"/>
                </a:lnTo>
                <a:lnTo>
                  <a:pt x="74" y="55"/>
                </a:lnTo>
                <a:lnTo>
                  <a:pt x="68" y="60"/>
                </a:lnTo>
                <a:lnTo>
                  <a:pt x="62" y="67"/>
                </a:lnTo>
                <a:lnTo>
                  <a:pt x="56" y="73"/>
                </a:lnTo>
                <a:lnTo>
                  <a:pt x="50" y="78"/>
                </a:lnTo>
                <a:lnTo>
                  <a:pt x="46" y="84"/>
                </a:lnTo>
                <a:lnTo>
                  <a:pt x="42" y="89"/>
                </a:lnTo>
                <a:lnTo>
                  <a:pt x="38" y="94"/>
                </a:lnTo>
                <a:lnTo>
                  <a:pt x="36" y="100"/>
                </a:lnTo>
                <a:lnTo>
                  <a:pt x="34" y="105"/>
                </a:lnTo>
                <a:lnTo>
                  <a:pt x="32" y="110"/>
                </a:lnTo>
                <a:lnTo>
                  <a:pt x="31" y="114"/>
                </a:lnTo>
                <a:lnTo>
                  <a:pt x="31" y="119"/>
                </a:lnTo>
                <a:lnTo>
                  <a:pt x="31" y="123"/>
                </a:lnTo>
                <a:lnTo>
                  <a:pt x="31" y="128"/>
                </a:lnTo>
                <a:lnTo>
                  <a:pt x="32" y="132"/>
                </a:lnTo>
                <a:lnTo>
                  <a:pt x="33" y="135"/>
                </a:lnTo>
                <a:lnTo>
                  <a:pt x="35" y="138"/>
                </a:lnTo>
                <a:lnTo>
                  <a:pt x="36" y="140"/>
                </a:lnTo>
                <a:lnTo>
                  <a:pt x="38" y="143"/>
                </a:lnTo>
                <a:lnTo>
                  <a:pt x="41" y="145"/>
                </a:lnTo>
                <a:lnTo>
                  <a:pt x="43" y="146"/>
                </a:lnTo>
                <a:lnTo>
                  <a:pt x="45" y="148"/>
                </a:lnTo>
                <a:lnTo>
                  <a:pt x="48" y="149"/>
                </a:lnTo>
                <a:lnTo>
                  <a:pt x="52" y="149"/>
                </a:lnTo>
                <a:lnTo>
                  <a:pt x="55" y="149"/>
                </a:lnTo>
                <a:lnTo>
                  <a:pt x="59" y="149"/>
                </a:lnTo>
                <a:lnTo>
                  <a:pt x="63" y="148"/>
                </a:lnTo>
                <a:lnTo>
                  <a:pt x="68" y="145"/>
                </a:lnTo>
                <a:lnTo>
                  <a:pt x="74" y="143"/>
                </a:lnTo>
                <a:lnTo>
                  <a:pt x="81" y="139"/>
                </a:lnTo>
                <a:lnTo>
                  <a:pt x="89" y="135"/>
                </a:lnTo>
                <a:lnTo>
                  <a:pt x="98" y="130"/>
                </a:lnTo>
                <a:lnTo>
                  <a:pt x="108" y="124"/>
                </a:lnTo>
                <a:lnTo>
                  <a:pt x="117" y="119"/>
                </a:lnTo>
                <a:lnTo>
                  <a:pt x="127" y="113"/>
                </a:lnTo>
                <a:lnTo>
                  <a:pt x="135" y="109"/>
                </a:lnTo>
                <a:lnTo>
                  <a:pt x="143" y="104"/>
                </a:lnTo>
                <a:lnTo>
                  <a:pt x="149" y="102"/>
                </a:lnTo>
                <a:lnTo>
                  <a:pt x="155" y="98"/>
                </a:lnTo>
                <a:lnTo>
                  <a:pt x="160" y="95"/>
                </a:lnTo>
                <a:lnTo>
                  <a:pt x="165" y="94"/>
                </a:lnTo>
                <a:lnTo>
                  <a:pt x="171" y="92"/>
                </a:lnTo>
                <a:lnTo>
                  <a:pt x="177" y="90"/>
                </a:lnTo>
                <a:lnTo>
                  <a:pt x="182" y="89"/>
                </a:lnTo>
                <a:lnTo>
                  <a:pt x="187" y="88"/>
                </a:lnTo>
                <a:lnTo>
                  <a:pt x="192" y="88"/>
                </a:lnTo>
                <a:lnTo>
                  <a:pt x="198" y="88"/>
                </a:lnTo>
                <a:lnTo>
                  <a:pt x="202" y="89"/>
                </a:lnTo>
                <a:lnTo>
                  <a:pt x="207" y="89"/>
                </a:lnTo>
                <a:lnTo>
                  <a:pt x="211" y="92"/>
                </a:lnTo>
                <a:lnTo>
                  <a:pt x="215" y="93"/>
                </a:lnTo>
                <a:lnTo>
                  <a:pt x="218" y="95"/>
                </a:lnTo>
                <a:lnTo>
                  <a:pt x="222" y="98"/>
                </a:lnTo>
                <a:lnTo>
                  <a:pt x="225" y="100"/>
                </a:lnTo>
                <a:lnTo>
                  <a:pt x="228" y="104"/>
                </a:lnTo>
                <a:lnTo>
                  <a:pt x="231" y="108"/>
                </a:lnTo>
                <a:lnTo>
                  <a:pt x="233" y="112"/>
                </a:lnTo>
                <a:lnTo>
                  <a:pt x="235" y="115"/>
                </a:lnTo>
                <a:lnTo>
                  <a:pt x="237" y="120"/>
                </a:lnTo>
                <a:lnTo>
                  <a:pt x="239" y="125"/>
                </a:lnTo>
                <a:lnTo>
                  <a:pt x="240" y="130"/>
                </a:lnTo>
                <a:lnTo>
                  <a:pt x="241" y="135"/>
                </a:lnTo>
                <a:lnTo>
                  <a:pt x="241" y="140"/>
                </a:lnTo>
                <a:lnTo>
                  <a:pt x="242" y="146"/>
                </a:lnTo>
                <a:lnTo>
                  <a:pt x="241" y="151"/>
                </a:lnTo>
                <a:lnTo>
                  <a:pt x="241" y="158"/>
                </a:lnTo>
                <a:lnTo>
                  <a:pt x="240" y="164"/>
                </a:lnTo>
                <a:lnTo>
                  <a:pt x="238" y="170"/>
                </a:lnTo>
                <a:lnTo>
                  <a:pt x="237" y="176"/>
                </a:lnTo>
                <a:lnTo>
                  <a:pt x="235" y="183"/>
                </a:lnTo>
                <a:lnTo>
                  <a:pt x="232" y="189"/>
                </a:lnTo>
                <a:lnTo>
                  <a:pt x="229" y="195"/>
                </a:lnTo>
                <a:lnTo>
                  <a:pt x="226" y="201"/>
                </a:lnTo>
                <a:lnTo>
                  <a:pt x="222" y="208"/>
                </a:lnTo>
                <a:lnTo>
                  <a:pt x="218" y="214"/>
                </a:lnTo>
                <a:lnTo>
                  <a:pt x="214" y="219"/>
                </a:lnTo>
                <a:lnTo>
                  <a:pt x="209" y="225"/>
                </a:lnTo>
                <a:lnTo>
                  <a:pt x="205" y="231"/>
                </a:lnTo>
                <a:lnTo>
                  <a:pt x="200" y="236"/>
                </a:lnTo>
                <a:lnTo>
                  <a:pt x="193" y="243"/>
                </a:lnTo>
                <a:lnTo>
                  <a:pt x="187" y="248"/>
                </a:lnTo>
                <a:lnTo>
                  <a:pt x="180" y="254"/>
                </a:lnTo>
                <a:lnTo>
                  <a:pt x="173" y="260"/>
                </a:lnTo>
                <a:lnTo>
                  <a:pt x="166" y="265"/>
                </a:lnTo>
                <a:lnTo>
                  <a:pt x="159" y="270"/>
                </a:lnTo>
                <a:lnTo>
                  <a:pt x="152" y="275"/>
                </a:lnTo>
                <a:lnTo>
                  <a:pt x="145" y="279"/>
                </a:lnTo>
                <a:lnTo>
                  <a:pt x="139" y="281"/>
                </a:lnTo>
                <a:lnTo>
                  <a:pt x="133" y="284"/>
                </a:lnTo>
                <a:lnTo>
                  <a:pt x="126" y="286"/>
                </a:lnTo>
                <a:lnTo>
                  <a:pt x="119" y="289"/>
                </a:lnTo>
                <a:lnTo>
                  <a:pt x="113" y="289"/>
                </a:lnTo>
                <a:lnTo>
                  <a:pt x="108" y="290"/>
                </a:lnTo>
                <a:lnTo>
                  <a:pt x="102" y="290"/>
                </a:lnTo>
                <a:lnTo>
                  <a:pt x="96" y="290"/>
                </a:lnTo>
                <a:lnTo>
                  <a:pt x="91" y="289"/>
                </a:lnTo>
                <a:lnTo>
                  <a:pt x="85" y="288"/>
                </a:lnTo>
                <a:lnTo>
                  <a:pt x="80" y="286"/>
                </a:lnTo>
                <a:lnTo>
                  <a:pt x="75" y="284"/>
                </a:lnTo>
                <a:lnTo>
                  <a:pt x="71" y="281"/>
                </a:lnTo>
                <a:lnTo>
                  <a:pt x="66" y="278"/>
                </a:lnTo>
                <a:lnTo>
                  <a:pt x="62" y="274"/>
                </a:lnTo>
                <a:lnTo>
                  <a:pt x="58" y="270"/>
                </a:lnTo>
                <a:lnTo>
                  <a:pt x="55" y="266"/>
                </a:lnTo>
                <a:lnTo>
                  <a:pt x="52" y="2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46560" y="1236600"/>
            <a:ext cx="25560" cy="22320"/>
          </a:xfrm>
          <a:custGeom>
            <a:avLst/>
            <a:gdLst/>
            <a:ahLst/>
            <a:rect l="l" t="t" r="r" b="b"/>
            <a:pathLst>
              <a:path w="49" h="58">
                <a:moveTo>
                  <a:pt x="17" y="58"/>
                </a:moveTo>
                <a:lnTo>
                  <a:pt x="0" y="28"/>
                </a:lnTo>
                <a:lnTo>
                  <a:pt x="31" y="0"/>
                </a:lnTo>
                <a:lnTo>
                  <a:pt x="49" y="29"/>
                </a:lnTo>
                <a:lnTo>
                  <a:pt x="17" y="5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45120" y="1103400"/>
            <a:ext cx="128520" cy="114120"/>
          </a:xfrm>
          <a:custGeom>
            <a:avLst/>
            <a:gdLst/>
            <a:ahLst/>
            <a:rect l="l" t="t" r="r" b="b"/>
            <a:pathLst>
              <a:path w="241" h="291">
                <a:moveTo>
                  <a:pt x="51" y="261"/>
                </a:moveTo>
                <a:lnTo>
                  <a:pt x="78" y="234"/>
                </a:lnTo>
                <a:lnTo>
                  <a:pt x="80" y="238"/>
                </a:lnTo>
                <a:lnTo>
                  <a:pt x="83" y="240"/>
                </a:lnTo>
                <a:lnTo>
                  <a:pt x="86" y="244"/>
                </a:lnTo>
                <a:lnTo>
                  <a:pt x="89" y="245"/>
                </a:lnTo>
                <a:lnTo>
                  <a:pt x="92" y="248"/>
                </a:lnTo>
                <a:lnTo>
                  <a:pt x="95" y="250"/>
                </a:lnTo>
                <a:lnTo>
                  <a:pt x="98" y="251"/>
                </a:lnTo>
                <a:lnTo>
                  <a:pt x="102" y="253"/>
                </a:lnTo>
                <a:lnTo>
                  <a:pt x="105" y="253"/>
                </a:lnTo>
                <a:lnTo>
                  <a:pt x="108" y="253"/>
                </a:lnTo>
                <a:lnTo>
                  <a:pt x="112" y="253"/>
                </a:lnTo>
                <a:lnTo>
                  <a:pt x="116" y="253"/>
                </a:lnTo>
                <a:lnTo>
                  <a:pt x="121" y="253"/>
                </a:lnTo>
                <a:lnTo>
                  <a:pt x="125" y="251"/>
                </a:lnTo>
                <a:lnTo>
                  <a:pt x="130" y="250"/>
                </a:lnTo>
                <a:lnTo>
                  <a:pt x="134" y="249"/>
                </a:lnTo>
                <a:lnTo>
                  <a:pt x="139" y="246"/>
                </a:lnTo>
                <a:lnTo>
                  <a:pt x="143" y="244"/>
                </a:lnTo>
                <a:lnTo>
                  <a:pt x="148" y="241"/>
                </a:lnTo>
                <a:lnTo>
                  <a:pt x="153" y="239"/>
                </a:lnTo>
                <a:lnTo>
                  <a:pt x="157" y="235"/>
                </a:lnTo>
                <a:lnTo>
                  <a:pt x="162" y="233"/>
                </a:lnTo>
                <a:lnTo>
                  <a:pt x="167" y="228"/>
                </a:lnTo>
                <a:lnTo>
                  <a:pt x="171" y="224"/>
                </a:lnTo>
                <a:lnTo>
                  <a:pt x="175" y="220"/>
                </a:lnTo>
                <a:lnTo>
                  <a:pt x="179" y="216"/>
                </a:lnTo>
                <a:lnTo>
                  <a:pt x="183" y="213"/>
                </a:lnTo>
                <a:lnTo>
                  <a:pt x="186" y="209"/>
                </a:lnTo>
                <a:lnTo>
                  <a:pt x="190" y="205"/>
                </a:lnTo>
                <a:lnTo>
                  <a:pt x="194" y="201"/>
                </a:lnTo>
                <a:lnTo>
                  <a:pt x="196" y="196"/>
                </a:lnTo>
                <a:lnTo>
                  <a:pt x="199" y="193"/>
                </a:lnTo>
                <a:lnTo>
                  <a:pt x="201" y="189"/>
                </a:lnTo>
                <a:lnTo>
                  <a:pt x="204" y="185"/>
                </a:lnTo>
                <a:lnTo>
                  <a:pt x="205" y="181"/>
                </a:lnTo>
                <a:lnTo>
                  <a:pt x="207" y="178"/>
                </a:lnTo>
                <a:lnTo>
                  <a:pt x="208" y="174"/>
                </a:lnTo>
                <a:lnTo>
                  <a:pt x="209" y="170"/>
                </a:lnTo>
                <a:lnTo>
                  <a:pt x="210" y="166"/>
                </a:lnTo>
                <a:lnTo>
                  <a:pt x="211" y="163"/>
                </a:lnTo>
                <a:lnTo>
                  <a:pt x="211" y="159"/>
                </a:lnTo>
                <a:lnTo>
                  <a:pt x="211" y="156"/>
                </a:lnTo>
                <a:lnTo>
                  <a:pt x="211" y="153"/>
                </a:lnTo>
                <a:lnTo>
                  <a:pt x="210" y="150"/>
                </a:lnTo>
                <a:lnTo>
                  <a:pt x="210" y="148"/>
                </a:lnTo>
                <a:lnTo>
                  <a:pt x="209" y="144"/>
                </a:lnTo>
                <a:lnTo>
                  <a:pt x="208" y="141"/>
                </a:lnTo>
                <a:lnTo>
                  <a:pt x="206" y="139"/>
                </a:lnTo>
                <a:lnTo>
                  <a:pt x="205" y="136"/>
                </a:lnTo>
                <a:lnTo>
                  <a:pt x="203" y="135"/>
                </a:lnTo>
                <a:lnTo>
                  <a:pt x="201" y="133"/>
                </a:lnTo>
                <a:lnTo>
                  <a:pt x="199" y="131"/>
                </a:lnTo>
                <a:lnTo>
                  <a:pt x="197" y="130"/>
                </a:lnTo>
                <a:lnTo>
                  <a:pt x="195" y="129"/>
                </a:lnTo>
                <a:lnTo>
                  <a:pt x="193" y="128"/>
                </a:lnTo>
                <a:lnTo>
                  <a:pt x="189" y="128"/>
                </a:lnTo>
                <a:lnTo>
                  <a:pt x="187" y="126"/>
                </a:lnTo>
                <a:lnTo>
                  <a:pt x="184" y="126"/>
                </a:lnTo>
                <a:lnTo>
                  <a:pt x="181" y="128"/>
                </a:lnTo>
                <a:lnTo>
                  <a:pt x="177" y="128"/>
                </a:lnTo>
                <a:lnTo>
                  <a:pt x="174" y="129"/>
                </a:lnTo>
                <a:lnTo>
                  <a:pt x="170" y="130"/>
                </a:lnTo>
                <a:lnTo>
                  <a:pt x="166" y="131"/>
                </a:lnTo>
                <a:lnTo>
                  <a:pt x="162" y="133"/>
                </a:lnTo>
                <a:lnTo>
                  <a:pt x="159" y="134"/>
                </a:lnTo>
                <a:lnTo>
                  <a:pt x="156" y="136"/>
                </a:lnTo>
                <a:lnTo>
                  <a:pt x="151" y="139"/>
                </a:lnTo>
                <a:lnTo>
                  <a:pt x="146" y="141"/>
                </a:lnTo>
                <a:lnTo>
                  <a:pt x="140" y="145"/>
                </a:lnTo>
                <a:lnTo>
                  <a:pt x="133" y="149"/>
                </a:lnTo>
                <a:lnTo>
                  <a:pt x="126" y="153"/>
                </a:lnTo>
                <a:lnTo>
                  <a:pt x="116" y="158"/>
                </a:lnTo>
                <a:lnTo>
                  <a:pt x="108" y="163"/>
                </a:lnTo>
                <a:lnTo>
                  <a:pt x="100" y="168"/>
                </a:lnTo>
                <a:lnTo>
                  <a:pt x="93" y="171"/>
                </a:lnTo>
                <a:lnTo>
                  <a:pt x="87" y="174"/>
                </a:lnTo>
                <a:lnTo>
                  <a:pt x="81" y="178"/>
                </a:lnTo>
                <a:lnTo>
                  <a:pt x="75" y="180"/>
                </a:lnTo>
                <a:lnTo>
                  <a:pt x="71" y="181"/>
                </a:lnTo>
                <a:lnTo>
                  <a:pt x="66" y="183"/>
                </a:lnTo>
                <a:lnTo>
                  <a:pt x="61" y="184"/>
                </a:lnTo>
                <a:lnTo>
                  <a:pt x="57" y="185"/>
                </a:lnTo>
                <a:lnTo>
                  <a:pt x="52" y="186"/>
                </a:lnTo>
                <a:lnTo>
                  <a:pt x="48" y="186"/>
                </a:lnTo>
                <a:lnTo>
                  <a:pt x="42" y="186"/>
                </a:lnTo>
                <a:lnTo>
                  <a:pt x="38" y="186"/>
                </a:lnTo>
                <a:lnTo>
                  <a:pt x="34" y="185"/>
                </a:lnTo>
                <a:lnTo>
                  <a:pt x="31" y="185"/>
                </a:lnTo>
                <a:lnTo>
                  <a:pt x="27" y="184"/>
                </a:lnTo>
                <a:lnTo>
                  <a:pt x="24" y="181"/>
                </a:lnTo>
                <a:lnTo>
                  <a:pt x="21" y="180"/>
                </a:lnTo>
                <a:lnTo>
                  <a:pt x="18" y="178"/>
                </a:lnTo>
                <a:lnTo>
                  <a:pt x="15" y="175"/>
                </a:lnTo>
                <a:lnTo>
                  <a:pt x="12" y="173"/>
                </a:lnTo>
                <a:lnTo>
                  <a:pt x="10" y="169"/>
                </a:lnTo>
                <a:lnTo>
                  <a:pt x="8" y="165"/>
                </a:lnTo>
                <a:lnTo>
                  <a:pt x="6" y="161"/>
                </a:lnTo>
                <a:lnTo>
                  <a:pt x="4" y="158"/>
                </a:lnTo>
                <a:lnTo>
                  <a:pt x="2" y="153"/>
                </a:lnTo>
                <a:lnTo>
                  <a:pt x="1" y="148"/>
                </a:lnTo>
                <a:lnTo>
                  <a:pt x="0" y="143"/>
                </a:lnTo>
                <a:lnTo>
                  <a:pt x="0" y="138"/>
                </a:lnTo>
                <a:lnTo>
                  <a:pt x="0" y="133"/>
                </a:lnTo>
                <a:lnTo>
                  <a:pt x="0" y="128"/>
                </a:lnTo>
                <a:lnTo>
                  <a:pt x="0" y="121"/>
                </a:lnTo>
                <a:lnTo>
                  <a:pt x="1" y="116"/>
                </a:lnTo>
                <a:lnTo>
                  <a:pt x="3" y="110"/>
                </a:lnTo>
                <a:lnTo>
                  <a:pt x="4" y="104"/>
                </a:lnTo>
                <a:lnTo>
                  <a:pt x="7" y="99"/>
                </a:lnTo>
                <a:lnTo>
                  <a:pt x="9" y="93"/>
                </a:lnTo>
                <a:lnTo>
                  <a:pt x="12" y="88"/>
                </a:lnTo>
                <a:lnTo>
                  <a:pt x="15" y="82"/>
                </a:lnTo>
                <a:lnTo>
                  <a:pt x="19" y="75"/>
                </a:lnTo>
                <a:lnTo>
                  <a:pt x="23" y="70"/>
                </a:lnTo>
                <a:lnTo>
                  <a:pt x="27" y="64"/>
                </a:lnTo>
                <a:lnTo>
                  <a:pt x="31" y="59"/>
                </a:lnTo>
                <a:lnTo>
                  <a:pt x="36" y="53"/>
                </a:lnTo>
                <a:lnTo>
                  <a:pt x="41" y="48"/>
                </a:lnTo>
                <a:lnTo>
                  <a:pt x="46" y="43"/>
                </a:lnTo>
                <a:lnTo>
                  <a:pt x="52" y="38"/>
                </a:lnTo>
                <a:lnTo>
                  <a:pt x="59" y="33"/>
                </a:lnTo>
                <a:lnTo>
                  <a:pt x="65" y="28"/>
                </a:lnTo>
                <a:lnTo>
                  <a:pt x="71" y="23"/>
                </a:lnTo>
                <a:lnTo>
                  <a:pt x="77" y="19"/>
                </a:lnTo>
                <a:lnTo>
                  <a:pt x="82" y="15"/>
                </a:lnTo>
                <a:lnTo>
                  <a:pt x="88" y="12"/>
                </a:lnTo>
                <a:lnTo>
                  <a:pt x="94" y="9"/>
                </a:lnTo>
                <a:lnTo>
                  <a:pt x="100" y="7"/>
                </a:lnTo>
                <a:lnTo>
                  <a:pt x="106" y="4"/>
                </a:lnTo>
                <a:lnTo>
                  <a:pt x="111" y="3"/>
                </a:lnTo>
                <a:lnTo>
                  <a:pt x="117" y="2"/>
                </a:lnTo>
                <a:lnTo>
                  <a:pt x="123" y="0"/>
                </a:lnTo>
                <a:lnTo>
                  <a:pt x="128" y="0"/>
                </a:lnTo>
                <a:lnTo>
                  <a:pt x="133" y="0"/>
                </a:lnTo>
                <a:lnTo>
                  <a:pt x="138" y="2"/>
                </a:lnTo>
                <a:lnTo>
                  <a:pt x="142" y="3"/>
                </a:lnTo>
                <a:lnTo>
                  <a:pt x="147" y="4"/>
                </a:lnTo>
                <a:lnTo>
                  <a:pt x="151" y="7"/>
                </a:lnTo>
                <a:lnTo>
                  <a:pt x="155" y="9"/>
                </a:lnTo>
                <a:lnTo>
                  <a:pt x="159" y="12"/>
                </a:lnTo>
                <a:lnTo>
                  <a:pt x="163" y="14"/>
                </a:lnTo>
                <a:lnTo>
                  <a:pt x="166" y="18"/>
                </a:lnTo>
                <a:lnTo>
                  <a:pt x="169" y="22"/>
                </a:lnTo>
                <a:lnTo>
                  <a:pt x="172" y="27"/>
                </a:lnTo>
                <a:lnTo>
                  <a:pt x="146" y="53"/>
                </a:lnTo>
                <a:lnTo>
                  <a:pt x="142" y="49"/>
                </a:lnTo>
                <a:lnTo>
                  <a:pt x="138" y="45"/>
                </a:lnTo>
                <a:lnTo>
                  <a:pt x="135" y="43"/>
                </a:lnTo>
                <a:lnTo>
                  <a:pt x="131" y="40"/>
                </a:lnTo>
                <a:lnTo>
                  <a:pt x="126" y="39"/>
                </a:lnTo>
                <a:lnTo>
                  <a:pt x="122" y="38"/>
                </a:lnTo>
                <a:lnTo>
                  <a:pt x="117" y="37"/>
                </a:lnTo>
                <a:lnTo>
                  <a:pt x="112" y="37"/>
                </a:lnTo>
                <a:lnTo>
                  <a:pt x="107" y="38"/>
                </a:lnTo>
                <a:lnTo>
                  <a:pt x="102" y="39"/>
                </a:lnTo>
                <a:lnTo>
                  <a:pt x="97" y="42"/>
                </a:lnTo>
                <a:lnTo>
                  <a:pt x="92" y="44"/>
                </a:lnTo>
                <a:lnTo>
                  <a:pt x="86" y="47"/>
                </a:lnTo>
                <a:lnTo>
                  <a:pt x="80" y="52"/>
                </a:lnTo>
                <a:lnTo>
                  <a:pt x="74" y="55"/>
                </a:lnTo>
                <a:lnTo>
                  <a:pt x="68" y="62"/>
                </a:lnTo>
                <a:lnTo>
                  <a:pt x="62" y="67"/>
                </a:lnTo>
                <a:lnTo>
                  <a:pt x="56" y="73"/>
                </a:lnTo>
                <a:lnTo>
                  <a:pt x="51" y="79"/>
                </a:lnTo>
                <a:lnTo>
                  <a:pt x="45" y="84"/>
                </a:lnTo>
                <a:lnTo>
                  <a:pt x="42" y="89"/>
                </a:lnTo>
                <a:lnTo>
                  <a:pt x="38" y="95"/>
                </a:lnTo>
                <a:lnTo>
                  <a:pt x="36" y="100"/>
                </a:lnTo>
                <a:lnTo>
                  <a:pt x="34" y="105"/>
                </a:lnTo>
                <a:lnTo>
                  <a:pt x="32" y="110"/>
                </a:lnTo>
                <a:lnTo>
                  <a:pt x="31" y="115"/>
                </a:lnTo>
                <a:lnTo>
                  <a:pt x="31" y="119"/>
                </a:lnTo>
                <a:lnTo>
                  <a:pt x="31" y="124"/>
                </a:lnTo>
                <a:lnTo>
                  <a:pt x="31" y="128"/>
                </a:lnTo>
                <a:lnTo>
                  <a:pt x="32" y="131"/>
                </a:lnTo>
                <a:lnTo>
                  <a:pt x="33" y="135"/>
                </a:lnTo>
                <a:lnTo>
                  <a:pt x="35" y="139"/>
                </a:lnTo>
                <a:lnTo>
                  <a:pt x="36" y="141"/>
                </a:lnTo>
                <a:lnTo>
                  <a:pt x="38" y="143"/>
                </a:lnTo>
                <a:lnTo>
                  <a:pt x="40" y="145"/>
                </a:lnTo>
                <a:lnTo>
                  <a:pt x="43" y="146"/>
                </a:lnTo>
                <a:lnTo>
                  <a:pt x="45" y="148"/>
                </a:lnTo>
                <a:lnTo>
                  <a:pt x="49" y="149"/>
                </a:lnTo>
                <a:lnTo>
                  <a:pt x="52" y="149"/>
                </a:lnTo>
                <a:lnTo>
                  <a:pt x="55" y="149"/>
                </a:lnTo>
                <a:lnTo>
                  <a:pt x="59" y="149"/>
                </a:lnTo>
                <a:lnTo>
                  <a:pt x="63" y="148"/>
                </a:lnTo>
                <a:lnTo>
                  <a:pt x="68" y="145"/>
                </a:lnTo>
                <a:lnTo>
                  <a:pt x="74" y="143"/>
                </a:lnTo>
                <a:lnTo>
                  <a:pt x="81" y="139"/>
                </a:lnTo>
                <a:lnTo>
                  <a:pt x="89" y="135"/>
                </a:lnTo>
                <a:lnTo>
                  <a:pt x="98" y="130"/>
                </a:lnTo>
                <a:lnTo>
                  <a:pt x="107" y="125"/>
                </a:lnTo>
                <a:lnTo>
                  <a:pt x="117" y="119"/>
                </a:lnTo>
                <a:lnTo>
                  <a:pt x="127" y="114"/>
                </a:lnTo>
                <a:lnTo>
                  <a:pt x="135" y="109"/>
                </a:lnTo>
                <a:lnTo>
                  <a:pt x="142" y="105"/>
                </a:lnTo>
                <a:lnTo>
                  <a:pt x="149" y="102"/>
                </a:lnTo>
                <a:lnTo>
                  <a:pt x="155" y="99"/>
                </a:lnTo>
                <a:lnTo>
                  <a:pt x="160" y="97"/>
                </a:lnTo>
                <a:lnTo>
                  <a:pt x="165" y="94"/>
                </a:lnTo>
                <a:lnTo>
                  <a:pt x="171" y="93"/>
                </a:lnTo>
                <a:lnTo>
                  <a:pt x="176" y="90"/>
                </a:lnTo>
                <a:lnTo>
                  <a:pt x="182" y="89"/>
                </a:lnTo>
                <a:lnTo>
                  <a:pt x="187" y="89"/>
                </a:lnTo>
                <a:lnTo>
                  <a:pt x="193" y="89"/>
                </a:lnTo>
                <a:lnTo>
                  <a:pt x="198" y="89"/>
                </a:lnTo>
                <a:lnTo>
                  <a:pt x="202" y="89"/>
                </a:lnTo>
                <a:lnTo>
                  <a:pt x="207" y="90"/>
                </a:lnTo>
                <a:lnTo>
                  <a:pt x="211" y="92"/>
                </a:lnTo>
                <a:lnTo>
                  <a:pt x="214" y="93"/>
                </a:lnTo>
                <a:lnTo>
                  <a:pt x="218" y="95"/>
                </a:lnTo>
                <a:lnTo>
                  <a:pt x="221" y="98"/>
                </a:lnTo>
                <a:lnTo>
                  <a:pt x="225" y="100"/>
                </a:lnTo>
                <a:lnTo>
                  <a:pt x="228" y="104"/>
                </a:lnTo>
                <a:lnTo>
                  <a:pt x="230" y="108"/>
                </a:lnTo>
                <a:lnTo>
                  <a:pt x="233" y="112"/>
                </a:lnTo>
                <a:lnTo>
                  <a:pt x="235" y="116"/>
                </a:lnTo>
                <a:lnTo>
                  <a:pt x="237" y="120"/>
                </a:lnTo>
                <a:lnTo>
                  <a:pt x="239" y="125"/>
                </a:lnTo>
                <a:lnTo>
                  <a:pt x="240" y="130"/>
                </a:lnTo>
                <a:lnTo>
                  <a:pt x="241" y="135"/>
                </a:lnTo>
                <a:lnTo>
                  <a:pt x="241" y="140"/>
                </a:lnTo>
                <a:lnTo>
                  <a:pt x="241" y="146"/>
                </a:lnTo>
                <a:lnTo>
                  <a:pt x="241" y="153"/>
                </a:lnTo>
                <a:lnTo>
                  <a:pt x="241" y="159"/>
                </a:lnTo>
                <a:lnTo>
                  <a:pt x="240" y="164"/>
                </a:lnTo>
                <a:lnTo>
                  <a:pt x="238" y="170"/>
                </a:lnTo>
                <a:lnTo>
                  <a:pt x="237" y="176"/>
                </a:lnTo>
                <a:lnTo>
                  <a:pt x="235" y="183"/>
                </a:lnTo>
                <a:lnTo>
                  <a:pt x="232" y="189"/>
                </a:lnTo>
                <a:lnTo>
                  <a:pt x="229" y="195"/>
                </a:lnTo>
                <a:lnTo>
                  <a:pt x="226" y="201"/>
                </a:lnTo>
                <a:lnTo>
                  <a:pt x="222" y="208"/>
                </a:lnTo>
                <a:lnTo>
                  <a:pt x="218" y="214"/>
                </a:lnTo>
                <a:lnTo>
                  <a:pt x="214" y="220"/>
                </a:lnTo>
                <a:lnTo>
                  <a:pt x="209" y="225"/>
                </a:lnTo>
                <a:lnTo>
                  <a:pt x="205" y="231"/>
                </a:lnTo>
                <a:lnTo>
                  <a:pt x="199" y="238"/>
                </a:lnTo>
                <a:lnTo>
                  <a:pt x="194" y="243"/>
                </a:lnTo>
                <a:lnTo>
                  <a:pt x="187" y="248"/>
                </a:lnTo>
                <a:lnTo>
                  <a:pt x="180" y="254"/>
                </a:lnTo>
                <a:lnTo>
                  <a:pt x="173" y="260"/>
                </a:lnTo>
                <a:lnTo>
                  <a:pt x="166" y="265"/>
                </a:lnTo>
                <a:lnTo>
                  <a:pt x="159" y="270"/>
                </a:lnTo>
                <a:lnTo>
                  <a:pt x="152" y="275"/>
                </a:lnTo>
                <a:lnTo>
                  <a:pt x="145" y="279"/>
                </a:lnTo>
                <a:lnTo>
                  <a:pt x="139" y="281"/>
                </a:lnTo>
                <a:lnTo>
                  <a:pt x="132" y="285"/>
                </a:lnTo>
                <a:lnTo>
                  <a:pt x="126" y="286"/>
                </a:lnTo>
                <a:lnTo>
                  <a:pt x="119" y="289"/>
                </a:lnTo>
                <a:lnTo>
                  <a:pt x="113" y="290"/>
                </a:lnTo>
                <a:lnTo>
                  <a:pt x="107" y="290"/>
                </a:lnTo>
                <a:lnTo>
                  <a:pt x="102" y="291"/>
                </a:lnTo>
                <a:lnTo>
                  <a:pt x="96" y="290"/>
                </a:lnTo>
                <a:lnTo>
                  <a:pt x="91" y="290"/>
                </a:lnTo>
                <a:lnTo>
                  <a:pt x="85" y="289"/>
                </a:lnTo>
                <a:lnTo>
                  <a:pt x="80" y="286"/>
                </a:lnTo>
                <a:lnTo>
                  <a:pt x="75" y="284"/>
                </a:lnTo>
                <a:lnTo>
                  <a:pt x="71" y="281"/>
                </a:lnTo>
                <a:lnTo>
                  <a:pt x="66" y="279"/>
                </a:lnTo>
                <a:lnTo>
                  <a:pt x="62" y="275"/>
                </a:lnTo>
                <a:lnTo>
                  <a:pt x="58" y="271"/>
                </a:lnTo>
                <a:lnTo>
                  <a:pt x="55" y="266"/>
                </a:lnTo>
                <a:lnTo>
                  <a:pt x="51" y="2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02080" y="1131840"/>
            <a:ext cx="25560" cy="22320"/>
          </a:xfrm>
          <a:custGeom>
            <a:avLst/>
            <a:gdLst/>
            <a:ahLst/>
            <a:rect l="l" t="t" r="r" b="b"/>
            <a:pathLst>
              <a:path w="49" h="57">
                <a:moveTo>
                  <a:pt x="17" y="57"/>
                </a:moveTo>
                <a:lnTo>
                  <a:pt x="0" y="28"/>
                </a:lnTo>
                <a:lnTo>
                  <a:pt x="31" y="0"/>
                </a:lnTo>
                <a:lnTo>
                  <a:pt x="49" y="30"/>
                </a:lnTo>
                <a:lnTo>
                  <a:pt x="17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67240" y="974880"/>
            <a:ext cx="88920" cy="107640"/>
          </a:xfrm>
          <a:custGeom>
            <a:avLst/>
            <a:gdLst/>
            <a:ahLst/>
            <a:rect l="l" t="t" r="r" b="b"/>
            <a:pathLst>
              <a:path w="168" h="270">
                <a:moveTo>
                  <a:pt x="140" y="234"/>
                </a:moveTo>
                <a:lnTo>
                  <a:pt x="110" y="184"/>
                </a:lnTo>
                <a:lnTo>
                  <a:pt x="14" y="270"/>
                </a:lnTo>
                <a:lnTo>
                  <a:pt x="0" y="247"/>
                </a:lnTo>
                <a:lnTo>
                  <a:pt x="21" y="19"/>
                </a:lnTo>
                <a:lnTo>
                  <a:pt x="43" y="0"/>
                </a:lnTo>
                <a:lnTo>
                  <a:pt x="123" y="136"/>
                </a:lnTo>
                <a:lnTo>
                  <a:pt x="154" y="109"/>
                </a:lnTo>
                <a:lnTo>
                  <a:pt x="168" y="133"/>
                </a:lnTo>
                <a:lnTo>
                  <a:pt x="138" y="159"/>
                </a:lnTo>
                <a:lnTo>
                  <a:pt x="167" y="209"/>
                </a:lnTo>
                <a:lnTo>
                  <a:pt x="140" y="234"/>
                </a:lnTo>
                <a:close/>
                <a:moveTo>
                  <a:pt x="96" y="160"/>
                </a:moveTo>
                <a:lnTo>
                  <a:pt x="40" y="66"/>
                </a:lnTo>
                <a:lnTo>
                  <a:pt x="27" y="222"/>
                </a:lnTo>
                <a:lnTo>
                  <a:pt x="96" y="1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35640" y="919080"/>
            <a:ext cx="109440" cy="106560"/>
          </a:xfrm>
          <a:custGeom>
            <a:avLst/>
            <a:gdLst/>
            <a:ahLst/>
            <a:rect l="l" t="t" r="r" b="b"/>
            <a:pathLst>
              <a:path w="207" h="267">
                <a:moveTo>
                  <a:pt x="70" y="246"/>
                </a:moveTo>
                <a:lnTo>
                  <a:pt x="96" y="221"/>
                </a:lnTo>
                <a:lnTo>
                  <a:pt x="99" y="223"/>
                </a:lnTo>
                <a:lnTo>
                  <a:pt x="102" y="227"/>
                </a:lnTo>
                <a:lnTo>
                  <a:pt x="106" y="229"/>
                </a:lnTo>
                <a:lnTo>
                  <a:pt x="109" y="231"/>
                </a:lnTo>
                <a:lnTo>
                  <a:pt x="113" y="233"/>
                </a:lnTo>
                <a:lnTo>
                  <a:pt x="116" y="233"/>
                </a:lnTo>
                <a:lnTo>
                  <a:pt x="120" y="234"/>
                </a:lnTo>
                <a:lnTo>
                  <a:pt x="123" y="234"/>
                </a:lnTo>
                <a:lnTo>
                  <a:pt x="126" y="234"/>
                </a:lnTo>
                <a:lnTo>
                  <a:pt x="130" y="233"/>
                </a:lnTo>
                <a:lnTo>
                  <a:pt x="133" y="232"/>
                </a:lnTo>
                <a:lnTo>
                  <a:pt x="137" y="231"/>
                </a:lnTo>
                <a:lnTo>
                  <a:pt x="141" y="228"/>
                </a:lnTo>
                <a:lnTo>
                  <a:pt x="144" y="227"/>
                </a:lnTo>
                <a:lnTo>
                  <a:pt x="148" y="223"/>
                </a:lnTo>
                <a:lnTo>
                  <a:pt x="152" y="221"/>
                </a:lnTo>
                <a:lnTo>
                  <a:pt x="155" y="218"/>
                </a:lnTo>
                <a:lnTo>
                  <a:pt x="158" y="214"/>
                </a:lnTo>
                <a:lnTo>
                  <a:pt x="161" y="212"/>
                </a:lnTo>
                <a:lnTo>
                  <a:pt x="163" y="208"/>
                </a:lnTo>
                <a:lnTo>
                  <a:pt x="165" y="206"/>
                </a:lnTo>
                <a:lnTo>
                  <a:pt x="168" y="202"/>
                </a:lnTo>
                <a:lnTo>
                  <a:pt x="169" y="199"/>
                </a:lnTo>
                <a:lnTo>
                  <a:pt x="171" y="196"/>
                </a:lnTo>
                <a:lnTo>
                  <a:pt x="172" y="192"/>
                </a:lnTo>
                <a:lnTo>
                  <a:pt x="174" y="188"/>
                </a:lnTo>
                <a:lnTo>
                  <a:pt x="175" y="184"/>
                </a:lnTo>
                <a:lnTo>
                  <a:pt x="176" y="182"/>
                </a:lnTo>
                <a:lnTo>
                  <a:pt x="177" y="178"/>
                </a:lnTo>
                <a:lnTo>
                  <a:pt x="177" y="174"/>
                </a:lnTo>
                <a:lnTo>
                  <a:pt x="178" y="171"/>
                </a:lnTo>
                <a:lnTo>
                  <a:pt x="178" y="167"/>
                </a:lnTo>
                <a:lnTo>
                  <a:pt x="178" y="163"/>
                </a:lnTo>
                <a:lnTo>
                  <a:pt x="178" y="159"/>
                </a:lnTo>
                <a:lnTo>
                  <a:pt x="178" y="156"/>
                </a:lnTo>
                <a:lnTo>
                  <a:pt x="177" y="152"/>
                </a:lnTo>
                <a:lnTo>
                  <a:pt x="177" y="147"/>
                </a:lnTo>
                <a:lnTo>
                  <a:pt x="176" y="143"/>
                </a:lnTo>
                <a:lnTo>
                  <a:pt x="175" y="138"/>
                </a:lnTo>
                <a:lnTo>
                  <a:pt x="174" y="133"/>
                </a:lnTo>
                <a:lnTo>
                  <a:pt x="172" y="128"/>
                </a:lnTo>
                <a:lnTo>
                  <a:pt x="171" y="125"/>
                </a:lnTo>
                <a:lnTo>
                  <a:pt x="169" y="120"/>
                </a:lnTo>
                <a:lnTo>
                  <a:pt x="168" y="115"/>
                </a:lnTo>
                <a:lnTo>
                  <a:pt x="166" y="111"/>
                </a:lnTo>
                <a:lnTo>
                  <a:pt x="164" y="107"/>
                </a:lnTo>
                <a:lnTo>
                  <a:pt x="162" y="102"/>
                </a:lnTo>
                <a:lnTo>
                  <a:pt x="160" y="98"/>
                </a:lnTo>
                <a:lnTo>
                  <a:pt x="159" y="98"/>
                </a:lnTo>
                <a:lnTo>
                  <a:pt x="159" y="97"/>
                </a:lnTo>
                <a:lnTo>
                  <a:pt x="159" y="97"/>
                </a:lnTo>
                <a:lnTo>
                  <a:pt x="158" y="96"/>
                </a:lnTo>
                <a:lnTo>
                  <a:pt x="158" y="96"/>
                </a:lnTo>
                <a:lnTo>
                  <a:pt x="157" y="95"/>
                </a:lnTo>
                <a:lnTo>
                  <a:pt x="157" y="95"/>
                </a:lnTo>
                <a:lnTo>
                  <a:pt x="156" y="93"/>
                </a:lnTo>
                <a:lnTo>
                  <a:pt x="156" y="98"/>
                </a:lnTo>
                <a:lnTo>
                  <a:pt x="155" y="103"/>
                </a:lnTo>
                <a:lnTo>
                  <a:pt x="154" y="108"/>
                </a:lnTo>
                <a:lnTo>
                  <a:pt x="153" y="113"/>
                </a:lnTo>
                <a:lnTo>
                  <a:pt x="152" y="118"/>
                </a:lnTo>
                <a:lnTo>
                  <a:pt x="149" y="123"/>
                </a:lnTo>
                <a:lnTo>
                  <a:pt x="147" y="128"/>
                </a:lnTo>
                <a:lnTo>
                  <a:pt x="145" y="133"/>
                </a:lnTo>
                <a:lnTo>
                  <a:pt x="142" y="138"/>
                </a:lnTo>
                <a:lnTo>
                  <a:pt x="140" y="143"/>
                </a:lnTo>
                <a:lnTo>
                  <a:pt x="137" y="148"/>
                </a:lnTo>
                <a:lnTo>
                  <a:pt x="134" y="152"/>
                </a:lnTo>
                <a:lnTo>
                  <a:pt x="130" y="157"/>
                </a:lnTo>
                <a:lnTo>
                  <a:pt x="127" y="161"/>
                </a:lnTo>
                <a:lnTo>
                  <a:pt x="123" y="164"/>
                </a:lnTo>
                <a:lnTo>
                  <a:pt x="119" y="168"/>
                </a:lnTo>
                <a:lnTo>
                  <a:pt x="112" y="174"/>
                </a:lnTo>
                <a:lnTo>
                  <a:pt x="105" y="179"/>
                </a:lnTo>
                <a:lnTo>
                  <a:pt x="98" y="183"/>
                </a:lnTo>
                <a:lnTo>
                  <a:pt x="91" y="186"/>
                </a:lnTo>
                <a:lnTo>
                  <a:pt x="84" y="188"/>
                </a:lnTo>
                <a:lnTo>
                  <a:pt x="76" y="191"/>
                </a:lnTo>
                <a:lnTo>
                  <a:pt x="68" y="191"/>
                </a:lnTo>
                <a:lnTo>
                  <a:pt x="61" y="191"/>
                </a:lnTo>
                <a:lnTo>
                  <a:pt x="54" y="191"/>
                </a:lnTo>
                <a:lnTo>
                  <a:pt x="47" y="188"/>
                </a:lnTo>
                <a:lnTo>
                  <a:pt x="40" y="186"/>
                </a:lnTo>
                <a:lnTo>
                  <a:pt x="34" y="182"/>
                </a:lnTo>
                <a:lnTo>
                  <a:pt x="28" y="177"/>
                </a:lnTo>
                <a:lnTo>
                  <a:pt x="23" y="172"/>
                </a:lnTo>
                <a:lnTo>
                  <a:pt x="18" y="166"/>
                </a:lnTo>
                <a:lnTo>
                  <a:pt x="13" y="158"/>
                </a:lnTo>
                <a:lnTo>
                  <a:pt x="9" y="151"/>
                </a:lnTo>
                <a:lnTo>
                  <a:pt x="5" y="142"/>
                </a:lnTo>
                <a:lnTo>
                  <a:pt x="2" y="133"/>
                </a:lnTo>
                <a:lnTo>
                  <a:pt x="0" y="125"/>
                </a:lnTo>
                <a:lnTo>
                  <a:pt x="0" y="116"/>
                </a:lnTo>
                <a:lnTo>
                  <a:pt x="0" y="107"/>
                </a:lnTo>
                <a:lnTo>
                  <a:pt x="0" y="98"/>
                </a:lnTo>
                <a:lnTo>
                  <a:pt x="2" y="90"/>
                </a:lnTo>
                <a:lnTo>
                  <a:pt x="4" y="80"/>
                </a:lnTo>
                <a:lnTo>
                  <a:pt x="9" y="71"/>
                </a:lnTo>
                <a:lnTo>
                  <a:pt x="12" y="62"/>
                </a:lnTo>
                <a:lnTo>
                  <a:pt x="17" y="55"/>
                </a:lnTo>
                <a:lnTo>
                  <a:pt x="22" y="46"/>
                </a:lnTo>
                <a:lnTo>
                  <a:pt x="28" y="38"/>
                </a:lnTo>
                <a:lnTo>
                  <a:pt x="34" y="32"/>
                </a:lnTo>
                <a:lnTo>
                  <a:pt x="41" y="25"/>
                </a:lnTo>
                <a:lnTo>
                  <a:pt x="47" y="21"/>
                </a:lnTo>
                <a:lnTo>
                  <a:pt x="52" y="16"/>
                </a:lnTo>
                <a:lnTo>
                  <a:pt x="58" y="12"/>
                </a:lnTo>
                <a:lnTo>
                  <a:pt x="63" y="10"/>
                </a:lnTo>
                <a:lnTo>
                  <a:pt x="69" y="6"/>
                </a:lnTo>
                <a:lnTo>
                  <a:pt x="75" y="3"/>
                </a:lnTo>
                <a:lnTo>
                  <a:pt x="82" y="2"/>
                </a:lnTo>
                <a:lnTo>
                  <a:pt x="88" y="1"/>
                </a:lnTo>
                <a:lnTo>
                  <a:pt x="94" y="0"/>
                </a:lnTo>
                <a:lnTo>
                  <a:pt x="100" y="0"/>
                </a:lnTo>
                <a:lnTo>
                  <a:pt x="105" y="0"/>
                </a:lnTo>
                <a:lnTo>
                  <a:pt x="111" y="0"/>
                </a:lnTo>
                <a:lnTo>
                  <a:pt x="117" y="1"/>
                </a:lnTo>
                <a:lnTo>
                  <a:pt x="122" y="2"/>
                </a:lnTo>
                <a:lnTo>
                  <a:pt x="128" y="5"/>
                </a:lnTo>
                <a:lnTo>
                  <a:pt x="133" y="7"/>
                </a:lnTo>
                <a:lnTo>
                  <a:pt x="138" y="11"/>
                </a:lnTo>
                <a:lnTo>
                  <a:pt x="143" y="16"/>
                </a:lnTo>
                <a:lnTo>
                  <a:pt x="149" y="21"/>
                </a:lnTo>
                <a:lnTo>
                  <a:pt x="155" y="26"/>
                </a:lnTo>
                <a:lnTo>
                  <a:pt x="161" y="33"/>
                </a:lnTo>
                <a:lnTo>
                  <a:pt x="166" y="41"/>
                </a:lnTo>
                <a:lnTo>
                  <a:pt x="172" y="50"/>
                </a:lnTo>
                <a:lnTo>
                  <a:pt x="177" y="58"/>
                </a:lnTo>
                <a:lnTo>
                  <a:pt x="183" y="68"/>
                </a:lnTo>
                <a:lnTo>
                  <a:pt x="188" y="78"/>
                </a:lnTo>
                <a:lnTo>
                  <a:pt x="192" y="87"/>
                </a:lnTo>
                <a:lnTo>
                  <a:pt x="196" y="97"/>
                </a:lnTo>
                <a:lnTo>
                  <a:pt x="199" y="106"/>
                </a:lnTo>
                <a:lnTo>
                  <a:pt x="202" y="115"/>
                </a:lnTo>
                <a:lnTo>
                  <a:pt x="204" y="123"/>
                </a:lnTo>
                <a:lnTo>
                  <a:pt x="205" y="131"/>
                </a:lnTo>
                <a:lnTo>
                  <a:pt x="206" y="138"/>
                </a:lnTo>
                <a:lnTo>
                  <a:pt x="207" y="147"/>
                </a:lnTo>
                <a:lnTo>
                  <a:pt x="207" y="154"/>
                </a:lnTo>
                <a:lnTo>
                  <a:pt x="206" y="162"/>
                </a:lnTo>
                <a:lnTo>
                  <a:pt x="205" y="169"/>
                </a:lnTo>
                <a:lnTo>
                  <a:pt x="204" y="177"/>
                </a:lnTo>
                <a:lnTo>
                  <a:pt x="202" y="184"/>
                </a:lnTo>
                <a:lnTo>
                  <a:pt x="199" y="192"/>
                </a:lnTo>
                <a:lnTo>
                  <a:pt x="196" y="198"/>
                </a:lnTo>
                <a:lnTo>
                  <a:pt x="193" y="206"/>
                </a:lnTo>
                <a:lnTo>
                  <a:pt x="189" y="212"/>
                </a:lnTo>
                <a:lnTo>
                  <a:pt x="185" y="218"/>
                </a:lnTo>
                <a:lnTo>
                  <a:pt x="180" y="224"/>
                </a:lnTo>
                <a:lnTo>
                  <a:pt x="175" y="231"/>
                </a:lnTo>
                <a:lnTo>
                  <a:pt x="170" y="237"/>
                </a:lnTo>
                <a:lnTo>
                  <a:pt x="164" y="242"/>
                </a:lnTo>
                <a:lnTo>
                  <a:pt x="158" y="248"/>
                </a:lnTo>
                <a:lnTo>
                  <a:pt x="150" y="253"/>
                </a:lnTo>
                <a:lnTo>
                  <a:pt x="144" y="257"/>
                </a:lnTo>
                <a:lnTo>
                  <a:pt x="138" y="261"/>
                </a:lnTo>
                <a:lnTo>
                  <a:pt x="131" y="263"/>
                </a:lnTo>
                <a:lnTo>
                  <a:pt x="125" y="264"/>
                </a:lnTo>
                <a:lnTo>
                  <a:pt x="119" y="266"/>
                </a:lnTo>
                <a:lnTo>
                  <a:pt x="113" y="267"/>
                </a:lnTo>
                <a:lnTo>
                  <a:pt x="107" y="267"/>
                </a:lnTo>
                <a:lnTo>
                  <a:pt x="101" y="266"/>
                </a:lnTo>
                <a:lnTo>
                  <a:pt x="96" y="264"/>
                </a:lnTo>
                <a:lnTo>
                  <a:pt x="90" y="262"/>
                </a:lnTo>
                <a:lnTo>
                  <a:pt x="85" y="259"/>
                </a:lnTo>
                <a:lnTo>
                  <a:pt x="80" y="256"/>
                </a:lnTo>
                <a:lnTo>
                  <a:pt x="75" y="251"/>
                </a:lnTo>
                <a:lnTo>
                  <a:pt x="70" y="246"/>
                </a:lnTo>
                <a:close/>
                <a:moveTo>
                  <a:pt x="128" y="53"/>
                </a:moveTo>
                <a:lnTo>
                  <a:pt x="124" y="48"/>
                </a:lnTo>
                <a:lnTo>
                  <a:pt x="121" y="43"/>
                </a:lnTo>
                <a:lnTo>
                  <a:pt x="117" y="40"/>
                </a:lnTo>
                <a:lnTo>
                  <a:pt x="113" y="36"/>
                </a:lnTo>
                <a:lnTo>
                  <a:pt x="109" y="33"/>
                </a:lnTo>
                <a:lnTo>
                  <a:pt x="105" y="32"/>
                </a:lnTo>
                <a:lnTo>
                  <a:pt x="100" y="31"/>
                </a:lnTo>
                <a:lnTo>
                  <a:pt x="95" y="30"/>
                </a:lnTo>
                <a:lnTo>
                  <a:pt x="90" y="30"/>
                </a:lnTo>
                <a:lnTo>
                  <a:pt x="85" y="30"/>
                </a:lnTo>
                <a:lnTo>
                  <a:pt x="80" y="31"/>
                </a:lnTo>
                <a:lnTo>
                  <a:pt x="75" y="32"/>
                </a:lnTo>
                <a:lnTo>
                  <a:pt x="70" y="35"/>
                </a:lnTo>
                <a:lnTo>
                  <a:pt x="66" y="37"/>
                </a:lnTo>
                <a:lnTo>
                  <a:pt x="61" y="40"/>
                </a:lnTo>
                <a:lnTo>
                  <a:pt x="57" y="43"/>
                </a:lnTo>
                <a:lnTo>
                  <a:pt x="52" y="47"/>
                </a:lnTo>
                <a:lnTo>
                  <a:pt x="49" y="52"/>
                </a:lnTo>
                <a:lnTo>
                  <a:pt x="45" y="57"/>
                </a:lnTo>
                <a:lnTo>
                  <a:pt x="42" y="62"/>
                </a:lnTo>
                <a:lnTo>
                  <a:pt x="39" y="67"/>
                </a:lnTo>
                <a:lnTo>
                  <a:pt x="37" y="73"/>
                </a:lnTo>
                <a:lnTo>
                  <a:pt x="35" y="80"/>
                </a:lnTo>
                <a:lnTo>
                  <a:pt x="34" y="86"/>
                </a:lnTo>
                <a:lnTo>
                  <a:pt x="33" y="92"/>
                </a:lnTo>
                <a:lnTo>
                  <a:pt x="32" y="98"/>
                </a:lnTo>
                <a:lnTo>
                  <a:pt x="32" y="105"/>
                </a:lnTo>
                <a:lnTo>
                  <a:pt x="33" y="111"/>
                </a:lnTo>
                <a:lnTo>
                  <a:pt x="34" y="117"/>
                </a:lnTo>
                <a:lnTo>
                  <a:pt x="36" y="122"/>
                </a:lnTo>
                <a:lnTo>
                  <a:pt x="38" y="128"/>
                </a:lnTo>
                <a:lnTo>
                  <a:pt x="41" y="135"/>
                </a:lnTo>
                <a:lnTo>
                  <a:pt x="44" y="138"/>
                </a:lnTo>
                <a:lnTo>
                  <a:pt x="48" y="143"/>
                </a:lnTo>
                <a:lnTo>
                  <a:pt x="51" y="147"/>
                </a:lnTo>
                <a:lnTo>
                  <a:pt x="55" y="149"/>
                </a:lnTo>
                <a:lnTo>
                  <a:pt x="59" y="152"/>
                </a:lnTo>
                <a:lnTo>
                  <a:pt x="63" y="153"/>
                </a:lnTo>
                <a:lnTo>
                  <a:pt x="68" y="154"/>
                </a:lnTo>
                <a:lnTo>
                  <a:pt x="73" y="156"/>
                </a:lnTo>
                <a:lnTo>
                  <a:pt x="78" y="156"/>
                </a:lnTo>
                <a:lnTo>
                  <a:pt x="84" y="154"/>
                </a:lnTo>
                <a:lnTo>
                  <a:pt x="89" y="153"/>
                </a:lnTo>
                <a:lnTo>
                  <a:pt x="93" y="152"/>
                </a:lnTo>
                <a:lnTo>
                  <a:pt x="98" y="149"/>
                </a:lnTo>
                <a:lnTo>
                  <a:pt x="103" y="147"/>
                </a:lnTo>
                <a:lnTo>
                  <a:pt x="108" y="143"/>
                </a:lnTo>
                <a:lnTo>
                  <a:pt x="112" y="140"/>
                </a:lnTo>
                <a:lnTo>
                  <a:pt x="117" y="136"/>
                </a:lnTo>
                <a:lnTo>
                  <a:pt x="121" y="131"/>
                </a:lnTo>
                <a:lnTo>
                  <a:pt x="124" y="126"/>
                </a:lnTo>
                <a:lnTo>
                  <a:pt x="128" y="121"/>
                </a:lnTo>
                <a:lnTo>
                  <a:pt x="130" y="116"/>
                </a:lnTo>
                <a:lnTo>
                  <a:pt x="133" y="111"/>
                </a:lnTo>
                <a:lnTo>
                  <a:pt x="134" y="105"/>
                </a:lnTo>
                <a:lnTo>
                  <a:pt x="136" y="100"/>
                </a:lnTo>
                <a:lnTo>
                  <a:pt x="137" y="93"/>
                </a:lnTo>
                <a:lnTo>
                  <a:pt x="137" y="87"/>
                </a:lnTo>
                <a:lnTo>
                  <a:pt x="137" y="82"/>
                </a:lnTo>
                <a:lnTo>
                  <a:pt x="136" y="76"/>
                </a:lnTo>
                <a:lnTo>
                  <a:pt x="135" y="71"/>
                </a:lnTo>
                <a:lnTo>
                  <a:pt x="133" y="65"/>
                </a:lnTo>
                <a:lnTo>
                  <a:pt x="131" y="60"/>
                </a:lnTo>
                <a:lnTo>
                  <a:pt x="128" y="5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30680" y="855720"/>
            <a:ext cx="109440" cy="106200"/>
          </a:xfrm>
          <a:custGeom>
            <a:avLst/>
            <a:gdLst/>
            <a:ahLst/>
            <a:rect l="l" t="t" r="r" b="b"/>
            <a:pathLst>
              <a:path w="206" h="268">
                <a:moveTo>
                  <a:pt x="137" y="21"/>
                </a:moveTo>
                <a:lnTo>
                  <a:pt x="110" y="47"/>
                </a:lnTo>
                <a:lnTo>
                  <a:pt x="107" y="43"/>
                </a:lnTo>
                <a:lnTo>
                  <a:pt x="104" y="41"/>
                </a:lnTo>
                <a:lnTo>
                  <a:pt x="101" y="40"/>
                </a:lnTo>
                <a:lnTo>
                  <a:pt x="98" y="37"/>
                </a:lnTo>
                <a:lnTo>
                  <a:pt x="95" y="36"/>
                </a:lnTo>
                <a:lnTo>
                  <a:pt x="93" y="35"/>
                </a:lnTo>
                <a:lnTo>
                  <a:pt x="90" y="35"/>
                </a:lnTo>
                <a:lnTo>
                  <a:pt x="87" y="33"/>
                </a:lnTo>
                <a:lnTo>
                  <a:pt x="83" y="33"/>
                </a:lnTo>
                <a:lnTo>
                  <a:pt x="79" y="35"/>
                </a:lnTo>
                <a:lnTo>
                  <a:pt x="74" y="35"/>
                </a:lnTo>
                <a:lnTo>
                  <a:pt x="70" y="36"/>
                </a:lnTo>
                <a:lnTo>
                  <a:pt x="66" y="38"/>
                </a:lnTo>
                <a:lnTo>
                  <a:pt x="62" y="41"/>
                </a:lnTo>
                <a:lnTo>
                  <a:pt x="58" y="43"/>
                </a:lnTo>
                <a:lnTo>
                  <a:pt x="54" y="47"/>
                </a:lnTo>
                <a:lnTo>
                  <a:pt x="51" y="50"/>
                </a:lnTo>
                <a:lnTo>
                  <a:pt x="48" y="53"/>
                </a:lnTo>
                <a:lnTo>
                  <a:pt x="45" y="56"/>
                </a:lnTo>
                <a:lnTo>
                  <a:pt x="42" y="60"/>
                </a:lnTo>
                <a:lnTo>
                  <a:pt x="40" y="63"/>
                </a:lnTo>
                <a:lnTo>
                  <a:pt x="38" y="67"/>
                </a:lnTo>
                <a:lnTo>
                  <a:pt x="36" y="71"/>
                </a:lnTo>
                <a:lnTo>
                  <a:pt x="34" y="75"/>
                </a:lnTo>
                <a:lnTo>
                  <a:pt x="32" y="80"/>
                </a:lnTo>
                <a:lnTo>
                  <a:pt x="31" y="85"/>
                </a:lnTo>
                <a:lnTo>
                  <a:pt x="30" y="90"/>
                </a:lnTo>
                <a:lnTo>
                  <a:pt x="29" y="96"/>
                </a:lnTo>
                <a:lnTo>
                  <a:pt x="29" y="101"/>
                </a:lnTo>
                <a:lnTo>
                  <a:pt x="29" y="107"/>
                </a:lnTo>
                <a:lnTo>
                  <a:pt x="29" y="112"/>
                </a:lnTo>
                <a:lnTo>
                  <a:pt x="29" y="118"/>
                </a:lnTo>
                <a:lnTo>
                  <a:pt x="30" y="125"/>
                </a:lnTo>
                <a:lnTo>
                  <a:pt x="31" y="131"/>
                </a:lnTo>
                <a:lnTo>
                  <a:pt x="33" y="137"/>
                </a:lnTo>
                <a:lnTo>
                  <a:pt x="36" y="145"/>
                </a:lnTo>
                <a:lnTo>
                  <a:pt x="38" y="151"/>
                </a:lnTo>
                <a:lnTo>
                  <a:pt x="42" y="158"/>
                </a:lnTo>
                <a:lnTo>
                  <a:pt x="46" y="166"/>
                </a:lnTo>
                <a:lnTo>
                  <a:pt x="51" y="173"/>
                </a:lnTo>
                <a:lnTo>
                  <a:pt x="51" y="168"/>
                </a:lnTo>
                <a:lnTo>
                  <a:pt x="52" y="162"/>
                </a:lnTo>
                <a:lnTo>
                  <a:pt x="53" y="157"/>
                </a:lnTo>
                <a:lnTo>
                  <a:pt x="54" y="152"/>
                </a:lnTo>
                <a:lnTo>
                  <a:pt x="56" y="147"/>
                </a:lnTo>
                <a:lnTo>
                  <a:pt x="58" y="141"/>
                </a:lnTo>
                <a:lnTo>
                  <a:pt x="60" y="136"/>
                </a:lnTo>
                <a:lnTo>
                  <a:pt x="62" y="131"/>
                </a:lnTo>
                <a:lnTo>
                  <a:pt x="65" y="127"/>
                </a:lnTo>
                <a:lnTo>
                  <a:pt x="68" y="122"/>
                </a:lnTo>
                <a:lnTo>
                  <a:pt x="71" y="117"/>
                </a:lnTo>
                <a:lnTo>
                  <a:pt x="74" y="113"/>
                </a:lnTo>
                <a:lnTo>
                  <a:pt x="77" y="110"/>
                </a:lnTo>
                <a:lnTo>
                  <a:pt x="80" y="105"/>
                </a:lnTo>
                <a:lnTo>
                  <a:pt x="84" y="101"/>
                </a:lnTo>
                <a:lnTo>
                  <a:pt x="88" y="98"/>
                </a:lnTo>
                <a:lnTo>
                  <a:pt x="95" y="92"/>
                </a:lnTo>
                <a:lnTo>
                  <a:pt x="101" y="87"/>
                </a:lnTo>
                <a:lnTo>
                  <a:pt x="108" y="83"/>
                </a:lnTo>
                <a:lnTo>
                  <a:pt x="117" y="80"/>
                </a:lnTo>
                <a:lnTo>
                  <a:pt x="124" y="77"/>
                </a:lnTo>
                <a:lnTo>
                  <a:pt x="131" y="76"/>
                </a:lnTo>
                <a:lnTo>
                  <a:pt x="138" y="75"/>
                </a:lnTo>
                <a:lnTo>
                  <a:pt x="146" y="75"/>
                </a:lnTo>
                <a:lnTo>
                  <a:pt x="153" y="76"/>
                </a:lnTo>
                <a:lnTo>
                  <a:pt x="160" y="78"/>
                </a:lnTo>
                <a:lnTo>
                  <a:pt x="166" y="81"/>
                </a:lnTo>
                <a:lnTo>
                  <a:pt x="173" y="85"/>
                </a:lnTo>
                <a:lnTo>
                  <a:pt x="178" y="88"/>
                </a:lnTo>
                <a:lnTo>
                  <a:pt x="184" y="93"/>
                </a:lnTo>
                <a:lnTo>
                  <a:pt x="190" y="100"/>
                </a:lnTo>
                <a:lnTo>
                  <a:pt x="194" y="107"/>
                </a:lnTo>
                <a:lnTo>
                  <a:pt x="197" y="112"/>
                </a:lnTo>
                <a:lnTo>
                  <a:pt x="199" y="117"/>
                </a:lnTo>
                <a:lnTo>
                  <a:pt x="201" y="123"/>
                </a:lnTo>
                <a:lnTo>
                  <a:pt x="203" y="128"/>
                </a:lnTo>
                <a:lnTo>
                  <a:pt x="204" y="135"/>
                </a:lnTo>
                <a:lnTo>
                  <a:pt x="205" y="140"/>
                </a:lnTo>
                <a:lnTo>
                  <a:pt x="206" y="146"/>
                </a:lnTo>
                <a:lnTo>
                  <a:pt x="206" y="152"/>
                </a:lnTo>
                <a:lnTo>
                  <a:pt x="206" y="158"/>
                </a:lnTo>
                <a:lnTo>
                  <a:pt x="206" y="164"/>
                </a:lnTo>
                <a:lnTo>
                  <a:pt x="206" y="171"/>
                </a:lnTo>
                <a:lnTo>
                  <a:pt x="205" y="177"/>
                </a:lnTo>
                <a:lnTo>
                  <a:pt x="203" y="182"/>
                </a:lnTo>
                <a:lnTo>
                  <a:pt x="201" y="188"/>
                </a:lnTo>
                <a:lnTo>
                  <a:pt x="199" y="194"/>
                </a:lnTo>
                <a:lnTo>
                  <a:pt x="197" y="201"/>
                </a:lnTo>
                <a:lnTo>
                  <a:pt x="194" y="206"/>
                </a:lnTo>
                <a:lnTo>
                  <a:pt x="191" y="212"/>
                </a:lnTo>
                <a:lnTo>
                  <a:pt x="187" y="217"/>
                </a:lnTo>
                <a:lnTo>
                  <a:pt x="183" y="222"/>
                </a:lnTo>
                <a:lnTo>
                  <a:pt x="179" y="227"/>
                </a:lnTo>
                <a:lnTo>
                  <a:pt x="175" y="232"/>
                </a:lnTo>
                <a:lnTo>
                  <a:pt x="171" y="237"/>
                </a:lnTo>
                <a:lnTo>
                  <a:pt x="166" y="241"/>
                </a:lnTo>
                <a:lnTo>
                  <a:pt x="157" y="248"/>
                </a:lnTo>
                <a:lnTo>
                  <a:pt x="149" y="254"/>
                </a:lnTo>
                <a:lnTo>
                  <a:pt x="140" y="259"/>
                </a:lnTo>
                <a:lnTo>
                  <a:pt x="132" y="263"/>
                </a:lnTo>
                <a:lnTo>
                  <a:pt x="123" y="266"/>
                </a:lnTo>
                <a:lnTo>
                  <a:pt x="114" y="267"/>
                </a:lnTo>
                <a:lnTo>
                  <a:pt x="105" y="268"/>
                </a:lnTo>
                <a:lnTo>
                  <a:pt x="96" y="267"/>
                </a:lnTo>
                <a:lnTo>
                  <a:pt x="88" y="266"/>
                </a:lnTo>
                <a:lnTo>
                  <a:pt x="79" y="262"/>
                </a:lnTo>
                <a:lnTo>
                  <a:pt x="70" y="257"/>
                </a:lnTo>
                <a:lnTo>
                  <a:pt x="62" y="249"/>
                </a:lnTo>
                <a:lnTo>
                  <a:pt x="54" y="242"/>
                </a:lnTo>
                <a:lnTo>
                  <a:pt x="46" y="232"/>
                </a:lnTo>
                <a:lnTo>
                  <a:pt x="37" y="221"/>
                </a:lnTo>
                <a:lnTo>
                  <a:pt x="29" y="208"/>
                </a:lnTo>
                <a:lnTo>
                  <a:pt x="21" y="193"/>
                </a:lnTo>
                <a:lnTo>
                  <a:pt x="14" y="178"/>
                </a:lnTo>
                <a:lnTo>
                  <a:pt x="8" y="164"/>
                </a:lnTo>
                <a:lnTo>
                  <a:pt x="4" y="151"/>
                </a:lnTo>
                <a:lnTo>
                  <a:pt x="1" y="137"/>
                </a:lnTo>
                <a:lnTo>
                  <a:pt x="0" y="123"/>
                </a:lnTo>
                <a:lnTo>
                  <a:pt x="0" y="111"/>
                </a:lnTo>
                <a:lnTo>
                  <a:pt x="1" y="98"/>
                </a:lnTo>
                <a:lnTo>
                  <a:pt x="3" y="88"/>
                </a:lnTo>
                <a:lnTo>
                  <a:pt x="6" y="77"/>
                </a:lnTo>
                <a:lnTo>
                  <a:pt x="10" y="68"/>
                </a:lnTo>
                <a:lnTo>
                  <a:pt x="14" y="58"/>
                </a:lnTo>
                <a:lnTo>
                  <a:pt x="20" y="50"/>
                </a:lnTo>
                <a:lnTo>
                  <a:pt x="27" y="41"/>
                </a:lnTo>
                <a:lnTo>
                  <a:pt x="34" y="32"/>
                </a:lnTo>
                <a:lnTo>
                  <a:pt x="42" y="25"/>
                </a:lnTo>
                <a:lnTo>
                  <a:pt x="50" y="18"/>
                </a:lnTo>
                <a:lnTo>
                  <a:pt x="56" y="14"/>
                </a:lnTo>
                <a:lnTo>
                  <a:pt x="62" y="10"/>
                </a:lnTo>
                <a:lnTo>
                  <a:pt x="69" y="6"/>
                </a:lnTo>
                <a:lnTo>
                  <a:pt x="75" y="4"/>
                </a:lnTo>
                <a:lnTo>
                  <a:pt x="81" y="2"/>
                </a:lnTo>
                <a:lnTo>
                  <a:pt x="88" y="1"/>
                </a:lnTo>
                <a:lnTo>
                  <a:pt x="94" y="0"/>
                </a:lnTo>
                <a:lnTo>
                  <a:pt x="100" y="0"/>
                </a:lnTo>
                <a:lnTo>
                  <a:pt x="106" y="1"/>
                </a:lnTo>
                <a:lnTo>
                  <a:pt x="111" y="2"/>
                </a:lnTo>
                <a:lnTo>
                  <a:pt x="118" y="5"/>
                </a:lnTo>
                <a:lnTo>
                  <a:pt x="123" y="7"/>
                </a:lnTo>
                <a:lnTo>
                  <a:pt x="128" y="11"/>
                </a:lnTo>
                <a:lnTo>
                  <a:pt x="132" y="16"/>
                </a:lnTo>
                <a:lnTo>
                  <a:pt x="137" y="21"/>
                </a:lnTo>
                <a:close/>
                <a:moveTo>
                  <a:pt x="78" y="211"/>
                </a:moveTo>
                <a:lnTo>
                  <a:pt x="80" y="213"/>
                </a:lnTo>
                <a:lnTo>
                  <a:pt x="82" y="217"/>
                </a:lnTo>
                <a:lnTo>
                  <a:pt x="85" y="219"/>
                </a:lnTo>
                <a:lnTo>
                  <a:pt x="87" y="222"/>
                </a:lnTo>
                <a:lnTo>
                  <a:pt x="90" y="224"/>
                </a:lnTo>
                <a:lnTo>
                  <a:pt x="93" y="227"/>
                </a:lnTo>
                <a:lnTo>
                  <a:pt x="96" y="228"/>
                </a:lnTo>
                <a:lnTo>
                  <a:pt x="99" y="231"/>
                </a:lnTo>
                <a:lnTo>
                  <a:pt x="102" y="232"/>
                </a:lnTo>
                <a:lnTo>
                  <a:pt x="105" y="233"/>
                </a:lnTo>
                <a:lnTo>
                  <a:pt x="109" y="234"/>
                </a:lnTo>
                <a:lnTo>
                  <a:pt x="112" y="234"/>
                </a:lnTo>
                <a:lnTo>
                  <a:pt x="117" y="236"/>
                </a:lnTo>
                <a:lnTo>
                  <a:pt x="120" y="234"/>
                </a:lnTo>
                <a:lnTo>
                  <a:pt x="124" y="234"/>
                </a:lnTo>
                <a:lnTo>
                  <a:pt x="127" y="234"/>
                </a:lnTo>
                <a:lnTo>
                  <a:pt x="131" y="233"/>
                </a:lnTo>
                <a:lnTo>
                  <a:pt x="134" y="232"/>
                </a:lnTo>
                <a:lnTo>
                  <a:pt x="138" y="231"/>
                </a:lnTo>
                <a:lnTo>
                  <a:pt x="141" y="229"/>
                </a:lnTo>
                <a:lnTo>
                  <a:pt x="144" y="227"/>
                </a:lnTo>
                <a:lnTo>
                  <a:pt x="147" y="226"/>
                </a:lnTo>
                <a:lnTo>
                  <a:pt x="150" y="223"/>
                </a:lnTo>
                <a:lnTo>
                  <a:pt x="153" y="221"/>
                </a:lnTo>
                <a:lnTo>
                  <a:pt x="157" y="216"/>
                </a:lnTo>
                <a:lnTo>
                  <a:pt x="161" y="212"/>
                </a:lnTo>
                <a:lnTo>
                  <a:pt x="164" y="207"/>
                </a:lnTo>
                <a:lnTo>
                  <a:pt x="167" y="203"/>
                </a:lnTo>
                <a:lnTo>
                  <a:pt x="170" y="197"/>
                </a:lnTo>
                <a:lnTo>
                  <a:pt x="172" y="192"/>
                </a:lnTo>
                <a:lnTo>
                  <a:pt x="174" y="187"/>
                </a:lnTo>
                <a:lnTo>
                  <a:pt x="175" y="181"/>
                </a:lnTo>
                <a:lnTo>
                  <a:pt x="176" y="174"/>
                </a:lnTo>
                <a:lnTo>
                  <a:pt x="176" y="168"/>
                </a:lnTo>
                <a:lnTo>
                  <a:pt x="176" y="162"/>
                </a:lnTo>
                <a:lnTo>
                  <a:pt x="175" y="157"/>
                </a:lnTo>
                <a:lnTo>
                  <a:pt x="174" y="151"/>
                </a:lnTo>
                <a:lnTo>
                  <a:pt x="172" y="145"/>
                </a:lnTo>
                <a:lnTo>
                  <a:pt x="169" y="140"/>
                </a:lnTo>
                <a:lnTo>
                  <a:pt x="166" y="133"/>
                </a:lnTo>
                <a:lnTo>
                  <a:pt x="163" y="128"/>
                </a:lnTo>
                <a:lnTo>
                  <a:pt x="160" y="125"/>
                </a:lnTo>
                <a:lnTo>
                  <a:pt x="156" y="121"/>
                </a:lnTo>
                <a:lnTo>
                  <a:pt x="152" y="117"/>
                </a:lnTo>
                <a:lnTo>
                  <a:pt x="148" y="115"/>
                </a:lnTo>
                <a:lnTo>
                  <a:pt x="144" y="112"/>
                </a:lnTo>
                <a:lnTo>
                  <a:pt x="139" y="111"/>
                </a:lnTo>
                <a:lnTo>
                  <a:pt x="134" y="111"/>
                </a:lnTo>
                <a:lnTo>
                  <a:pt x="130" y="111"/>
                </a:lnTo>
                <a:lnTo>
                  <a:pt x="125" y="111"/>
                </a:lnTo>
                <a:lnTo>
                  <a:pt x="120" y="112"/>
                </a:lnTo>
                <a:lnTo>
                  <a:pt x="114" y="113"/>
                </a:lnTo>
                <a:lnTo>
                  <a:pt x="110" y="116"/>
                </a:lnTo>
                <a:lnTo>
                  <a:pt x="105" y="118"/>
                </a:lnTo>
                <a:lnTo>
                  <a:pt x="100" y="122"/>
                </a:lnTo>
                <a:lnTo>
                  <a:pt x="96" y="126"/>
                </a:lnTo>
                <a:lnTo>
                  <a:pt x="91" y="130"/>
                </a:lnTo>
                <a:lnTo>
                  <a:pt x="87" y="135"/>
                </a:lnTo>
                <a:lnTo>
                  <a:pt x="84" y="138"/>
                </a:lnTo>
                <a:lnTo>
                  <a:pt x="81" y="143"/>
                </a:lnTo>
                <a:lnTo>
                  <a:pt x="78" y="150"/>
                </a:lnTo>
                <a:lnTo>
                  <a:pt x="75" y="155"/>
                </a:lnTo>
                <a:lnTo>
                  <a:pt x="73" y="159"/>
                </a:lnTo>
                <a:lnTo>
                  <a:pt x="72" y="166"/>
                </a:lnTo>
                <a:lnTo>
                  <a:pt x="71" y="172"/>
                </a:lnTo>
                <a:lnTo>
                  <a:pt x="70" y="178"/>
                </a:lnTo>
                <a:lnTo>
                  <a:pt x="70" y="183"/>
                </a:lnTo>
                <a:lnTo>
                  <a:pt x="71" y="189"/>
                </a:lnTo>
                <a:lnTo>
                  <a:pt x="72" y="194"/>
                </a:lnTo>
                <a:lnTo>
                  <a:pt x="73" y="199"/>
                </a:lnTo>
                <a:lnTo>
                  <a:pt x="75" y="206"/>
                </a:lnTo>
                <a:lnTo>
                  <a:pt x="78" y="2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4440" y="228600"/>
            <a:ext cx="1398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.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4572000"/>
            <a:ext cx="2286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O DI QUIST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2133720"/>
            <a:ext cx="16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LL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V.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1295280" y="1828800"/>
            <a:ext cx="76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0120" y="6269040"/>
            <a:ext cx="2565000" cy="588960"/>
            <a:chOff x="330120" y="6269040"/>
            <a:chExt cx="2565000" cy="588960"/>
          </a:xfrm>
        </p:grpSpPr>
        <p:pic>
          <p:nvPicPr>
            <p:cNvPr id="598" name="ruberti%20scritta" descr=""/>
            <p:cNvPicPr/>
            <p:nvPr/>
          </p:nvPicPr>
          <p:blipFill>
            <a:blip r:embed="rId1"/>
            <a:stretch/>
          </p:blipFill>
          <p:spPr>
            <a:xfrm>
              <a:off x="862200" y="6514560"/>
              <a:ext cx="203292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Ruberti" descr=""/>
            <p:cNvPicPr/>
            <p:nvPr/>
          </p:nvPicPr>
          <p:blipFill>
            <a:blip r:embed="rId2"/>
            <a:stretch/>
          </p:blipFill>
          <p:spPr>
            <a:xfrm>
              <a:off x="330120" y="6269040"/>
              <a:ext cx="51624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"/>
          <p:cNvSpPr/>
          <p:nvPr/>
        </p:nvSpPr>
        <p:spPr>
          <a:xfrm>
            <a:off x="2971800" y="6405480"/>
            <a:ext cx="2641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a Roma,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026 Quistello (M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88000" y="6405480"/>
            <a:ext cx="2641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0376 627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 0376 627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98840" y="4907880"/>
            <a:ext cx="168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AFORO LAMPEGG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636040" y="45925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86480" y="3349800"/>
            <a:ext cx="65736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129520" y="308772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69240" y="3651480"/>
            <a:ext cx="1836720" cy="2432880"/>
          </a:xfrm>
          <a:prstGeom prst="rect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uberti 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STABILI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ia Basaglie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46026 Quiste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Manto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rezione Poggio Rusco (M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trada a Sx prima del passagg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 live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 rot="409800">
            <a:off x="5354280" y="2921040"/>
            <a:ext cx="104760" cy="347184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4440" y="228600"/>
            <a:ext cx="1398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.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30120" y="6072120"/>
            <a:ext cx="2565000" cy="588960"/>
            <a:chOff x="330120" y="6072120"/>
            <a:chExt cx="2565000" cy="588960"/>
          </a:xfrm>
        </p:grpSpPr>
        <p:pic>
          <p:nvPicPr>
            <p:cNvPr id="610" name="ruberti%20scritta" descr=""/>
            <p:cNvPicPr/>
            <p:nvPr/>
          </p:nvPicPr>
          <p:blipFill>
            <a:blip r:embed="rId1"/>
            <a:stretch/>
          </p:blipFill>
          <p:spPr>
            <a:xfrm>
              <a:off x="862200" y="6317640"/>
              <a:ext cx="203292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Ruberti" descr=""/>
            <p:cNvPicPr/>
            <p:nvPr/>
          </p:nvPicPr>
          <p:blipFill>
            <a:blip r:embed="rId2"/>
            <a:stretch/>
          </p:blipFill>
          <p:spPr>
            <a:xfrm>
              <a:off x="330120" y="6072120"/>
              <a:ext cx="51624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2" name=""/>
          <p:cNvGrpSpPr/>
          <p:nvPr/>
        </p:nvGrpSpPr>
        <p:grpSpPr>
          <a:xfrm>
            <a:off x="1085760" y="1414440"/>
            <a:ext cx="3867120" cy="3051360"/>
            <a:chOff x="1085760" y="1414440"/>
            <a:chExt cx="3867120" cy="3051360"/>
          </a:xfrm>
        </p:grpSpPr>
        <p:sp>
          <p:nvSpPr>
            <p:cNvPr id="613" name=""/>
            <p:cNvSpPr/>
            <p:nvPr/>
          </p:nvSpPr>
          <p:spPr>
            <a:xfrm>
              <a:off x="2307240" y="4460400"/>
              <a:ext cx="6120" cy="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30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4" y="13"/>
                  </a:lnTo>
                  <a:lnTo>
                    <a:pt x="18" y="13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66200" y="1414440"/>
              <a:ext cx="595800" cy="864000"/>
            </a:xfrm>
            <a:custGeom>
              <a:avLst/>
              <a:gdLst/>
              <a:ahLst/>
              <a:rect l="l" t="t" r="r" b="b"/>
              <a:pathLst>
                <a:path w="2292" h="4432">
                  <a:moveTo>
                    <a:pt x="0" y="4386"/>
                  </a:moveTo>
                  <a:lnTo>
                    <a:pt x="5" y="4386"/>
                  </a:lnTo>
                  <a:lnTo>
                    <a:pt x="5" y="4379"/>
                  </a:lnTo>
                  <a:lnTo>
                    <a:pt x="9" y="4379"/>
                  </a:lnTo>
                  <a:lnTo>
                    <a:pt x="9" y="4361"/>
                  </a:lnTo>
                  <a:lnTo>
                    <a:pt x="14" y="4361"/>
                  </a:lnTo>
                  <a:lnTo>
                    <a:pt x="14" y="4350"/>
                  </a:lnTo>
                  <a:lnTo>
                    <a:pt x="19" y="4350"/>
                  </a:lnTo>
                  <a:lnTo>
                    <a:pt x="19" y="4320"/>
                  </a:lnTo>
                  <a:lnTo>
                    <a:pt x="24" y="4320"/>
                  </a:lnTo>
                  <a:lnTo>
                    <a:pt x="24" y="4303"/>
                  </a:lnTo>
                  <a:lnTo>
                    <a:pt x="29" y="4303"/>
                  </a:lnTo>
                  <a:lnTo>
                    <a:pt x="29" y="4285"/>
                  </a:lnTo>
                  <a:lnTo>
                    <a:pt x="35" y="4285"/>
                  </a:lnTo>
                  <a:lnTo>
                    <a:pt x="35" y="4268"/>
                  </a:lnTo>
                  <a:lnTo>
                    <a:pt x="39" y="4268"/>
                  </a:lnTo>
                  <a:lnTo>
                    <a:pt x="39" y="4255"/>
                  </a:lnTo>
                  <a:lnTo>
                    <a:pt x="43" y="4255"/>
                  </a:lnTo>
                  <a:lnTo>
                    <a:pt x="43" y="4244"/>
                  </a:lnTo>
                  <a:lnTo>
                    <a:pt x="48" y="4244"/>
                  </a:lnTo>
                  <a:lnTo>
                    <a:pt x="48" y="4226"/>
                  </a:lnTo>
                  <a:lnTo>
                    <a:pt x="53" y="4226"/>
                  </a:lnTo>
                  <a:lnTo>
                    <a:pt x="53" y="4209"/>
                  </a:lnTo>
                  <a:lnTo>
                    <a:pt x="58" y="4209"/>
                  </a:lnTo>
                  <a:lnTo>
                    <a:pt x="58" y="4197"/>
                  </a:lnTo>
                  <a:lnTo>
                    <a:pt x="62" y="4197"/>
                  </a:lnTo>
                  <a:lnTo>
                    <a:pt x="62" y="4184"/>
                  </a:lnTo>
                  <a:lnTo>
                    <a:pt x="68" y="4184"/>
                  </a:lnTo>
                  <a:lnTo>
                    <a:pt x="68" y="4168"/>
                  </a:lnTo>
                  <a:lnTo>
                    <a:pt x="72" y="4168"/>
                  </a:lnTo>
                  <a:lnTo>
                    <a:pt x="72" y="4149"/>
                  </a:lnTo>
                  <a:lnTo>
                    <a:pt x="77" y="4149"/>
                  </a:lnTo>
                  <a:lnTo>
                    <a:pt x="77" y="4137"/>
                  </a:lnTo>
                  <a:lnTo>
                    <a:pt x="82" y="4137"/>
                  </a:lnTo>
                  <a:lnTo>
                    <a:pt x="82" y="4125"/>
                  </a:lnTo>
                  <a:lnTo>
                    <a:pt x="86" y="4125"/>
                  </a:lnTo>
                  <a:lnTo>
                    <a:pt x="86" y="4108"/>
                  </a:lnTo>
                  <a:lnTo>
                    <a:pt x="91" y="4108"/>
                  </a:lnTo>
                  <a:lnTo>
                    <a:pt x="91" y="4095"/>
                  </a:lnTo>
                  <a:lnTo>
                    <a:pt x="95" y="4095"/>
                  </a:lnTo>
                  <a:lnTo>
                    <a:pt x="95" y="4078"/>
                  </a:lnTo>
                  <a:lnTo>
                    <a:pt x="102" y="4078"/>
                  </a:lnTo>
                  <a:lnTo>
                    <a:pt x="102" y="4060"/>
                  </a:lnTo>
                  <a:lnTo>
                    <a:pt x="106" y="4060"/>
                  </a:lnTo>
                  <a:lnTo>
                    <a:pt x="106" y="4031"/>
                  </a:lnTo>
                  <a:lnTo>
                    <a:pt x="111" y="4031"/>
                  </a:lnTo>
                  <a:lnTo>
                    <a:pt x="111" y="4019"/>
                  </a:lnTo>
                  <a:lnTo>
                    <a:pt x="116" y="4019"/>
                  </a:lnTo>
                  <a:lnTo>
                    <a:pt x="116" y="4001"/>
                  </a:lnTo>
                  <a:lnTo>
                    <a:pt x="120" y="4001"/>
                  </a:lnTo>
                  <a:lnTo>
                    <a:pt x="120" y="3983"/>
                  </a:lnTo>
                  <a:lnTo>
                    <a:pt x="125" y="3983"/>
                  </a:lnTo>
                  <a:lnTo>
                    <a:pt x="125" y="3972"/>
                  </a:lnTo>
                  <a:lnTo>
                    <a:pt x="130" y="3972"/>
                  </a:lnTo>
                  <a:lnTo>
                    <a:pt x="130" y="3954"/>
                  </a:lnTo>
                  <a:lnTo>
                    <a:pt x="135" y="3954"/>
                  </a:lnTo>
                  <a:lnTo>
                    <a:pt x="135" y="3931"/>
                  </a:lnTo>
                  <a:lnTo>
                    <a:pt x="139" y="3931"/>
                  </a:lnTo>
                  <a:lnTo>
                    <a:pt x="139" y="3907"/>
                  </a:lnTo>
                  <a:lnTo>
                    <a:pt x="144" y="3907"/>
                  </a:lnTo>
                  <a:lnTo>
                    <a:pt x="144" y="3883"/>
                  </a:lnTo>
                  <a:lnTo>
                    <a:pt x="149" y="3883"/>
                  </a:lnTo>
                  <a:lnTo>
                    <a:pt x="149" y="3872"/>
                  </a:lnTo>
                  <a:lnTo>
                    <a:pt x="154" y="3872"/>
                  </a:lnTo>
                  <a:lnTo>
                    <a:pt x="154" y="3847"/>
                  </a:lnTo>
                  <a:lnTo>
                    <a:pt x="158" y="3847"/>
                  </a:lnTo>
                  <a:lnTo>
                    <a:pt x="158" y="3836"/>
                  </a:lnTo>
                  <a:lnTo>
                    <a:pt x="163" y="3836"/>
                  </a:lnTo>
                  <a:lnTo>
                    <a:pt x="163" y="3818"/>
                  </a:lnTo>
                  <a:lnTo>
                    <a:pt x="168" y="3818"/>
                  </a:lnTo>
                  <a:lnTo>
                    <a:pt x="168" y="3801"/>
                  </a:lnTo>
                  <a:lnTo>
                    <a:pt x="173" y="3801"/>
                  </a:lnTo>
                  <a:lnTo>
                    <a:pt x="173" y="3782"/>
                  </a:lnTo>
                  <a:lnTo>
                    <a:pt x="179" y="3782"/>
                  </a:lnTo>
                  <a:lnTo>
                    <a:pt x="179" y="3771"/>
                  </a:lnTo>
                  <a:lnTo>
                    <a:pt x="183" y="3771"/>
                  </a:lnTo>
                  <a:lnTo>
                    <a:pt x="183" y="3741"/>
                  </a:lnTo>
                  <a:lnTo>
                    <a:pt x="188" y="3741"/>
                  </a:lnTo>
                  <a:lnTo>
                    <a:pt x="188" y="3724"/>
                  </a:lnTo>
                  <a:lnTo>
                    <a:pt x="192" y="3724"/>
                  </a:lnTo>
                  <a:lnTo>
                    <a:pt x="192" y="3706"/>
                  </a:lnTo>
                  <a:lnTo>
                    <a:pt x="198" y="3706"/>
                  </a:lnTo>
                  <a:lnTo>
                    <a:pt x="198" y="3695"/>
                  </a:lnTo>
                  <a:lnTo>
                    <a:pt x="202" y="3695"/>
                  </a:lnTo>
                  <a:lnTo>
                    <a:pt x="202" y="3682"/>
                  </a:lnTo>
                  <a:lnTo>
                    <a:pt x="206" y="3682"/>
                  </a:lnTo>
                  <a:lnTo>
                    <a:pt x="206" y="3664"/>
                  </a:lnTo>
                  <a:lnTo>
                    <a:pt x="212" y="3664"/>
                  </a:lnTo>
                  <a:lnTo>
                    <a:pt x="212" y="3652"/>
                  </a:lnTo>
                  <a:lnTo>
                    <a:pt x="216" y="3652"/>
                  </a:lnTo>
                  <a:lnTo>
                    <a:pt x="216" y="3635"/>
                  </a:lnTo>
                  <a:lnTo>
                    <a:pt x="221" y="3635"/>
                  </a:lnTo>
                  <a:lnTo>
                    <a:pt x="221" y="3618"/>
                  </a:lnTo>
                  <a:lnTo>
                    <a:pt x="226" y="3618"/>
                  </a:lnTo>
                  <a:lnTo>
                    <a:pt x="226" y="3600"/>
                  </a:lnTo>
                  <a:lnTo>
                    <a:pt x="231" y="3600"/>
                  </a:lnTo>
                  <a:lnTo>
                    <a:pt x="231" y="3588"/>
                  </a:lnTo>
                  <a:lnTo>
                    <a:pt x="235" y="3588"/>
                  </a:lnTo>
                  <a:lnTo>
                    <a:pt x="235" y="3569"/>
                  </a:lnTo>
                  <a:lnTo>
                    <a:pt x="240" y="3569"/>
                  </a:lnTo>
                  <a:lnTo>
                    <a:pt x="240" y="3559"/>
                  </a:lnTo>
                  <a:lnTo>
                    <a:pt x="246" y="3559"/>
                  </a:lnTo>
                  <a:lnTo>
                    <a:pt x="246" y="3551"/>
                  </a:lnTo>
                  <a:lnTo>
                    <a:pt x="250" y="3551"/>
                  </a:lnTo>
                  <a:lnTo>
                    <a:pt x="250" y="3540"/>
                  </a:lnTo>
                  <a:lnTo>
                    <a:pt x="254" y="3540"/>
                  </a:lnTo>
                  <a:lnTo>
                    <a:pt x="254" y="3523"/>
                  </a:lnTo>
                  <a:lnTo>
                    <a:pt x="260" y="3523"/>
                  </a:lnTo>
                  <a:lnTo>
                    <a:pt x="260" y="3505"/>
                  </a:lnTo>
                  <a:lnTo>
                    <a:pt x="264" y="3505"/>
                  </a:lnTo>
                  <a:lnTo>
                    <a:pt x="264" y="3488"/>
                  </a:lnTo>
                  <a:lnTo>
                    <a:pt x="269" y="3488"/>
                  </a:lnTo>
                  <a:lnTo>
                    <a:pt x="269" y="3469"/>
                  </a:lnTo>
                  <a:lnTo>
                    <a:pt x="274" y="3469"/>
                  </a:lnTo>
                  <a:lnTo>
                    <a:pt x="274" y="3452"/>
                  </a:lnTo>
                  <a:lnTo>
                    <a:pt x="279" y="3452"/>
                  </a:lnTo>
                  <a:lnTo>
                    <a:pt x="279" y="3440"/>
                  </a:lnTo>
                  <a:lnTo>
                    <a:pt x="283" y="3440"/>
                  </a:lnTo>
                  <a:lnTo>
                    <a:pt x="283" y="3415"/>
                  </a:lnTo>
                  <a:lnTo>
                    <a:pt x="288" y="3415"/>
                  </a:lnTo>
                  <a:lnTo>
                    <a:pt x="288" y="3404"/>
                  </a:lnTo>
                  <a:lnTo>
                    <a:pt x="293" y="3404"/>
                  </a:lnTo>
                  <a:lnTo>
                    <a:pt x="293" y="3393"/>
                  </a:lnTo>
                  <a:lnTo>
                    <a:pt x="297" y="3393"/>
                  </a:lnTo>
                  <a:lnTo>
                    <a:pt x="297" y="3374"/>
                  </a:lnTo>
                  <a:lnTo>
                    <a:pt x="302" y="3374"/>
                  </a:lnTo>
                  <a:lnTo>
                    <a:pt x="302" y="3350"/>
                  </a:lnTo>
                  <a:lnTo>
                    <a:pt x="307" y="3350"/>
                  </a:lnTo>
                  <a:lnTo>
                    <a:pt x="307" y="3340"/>
                  </a:lnTo>
                  <a:lnTo>
                    <a:pt x="312" y="3340"/>
                  </a:lnTo>
                  <a:lnTo>
                    <a:pt x="312" y="3316"/>
                  </a:lnTo>
                  <a:lnTo>
                    <a:pt x="316" y="3316"/>
                  </a:lnTo>
                  <a:lnTo>
                    <a:pt x="316" y="3304"/>
                  </a:lnTo>
                  <a:lnTo>
                    <a:pt x="323" y="3304"/>
                  </a:lnTo>
                  <a:lnTo>
                    <a:pt x="323" y="3287"/>
                  </a:lnTo>
                  <a:lnTo>
                    <a:pt x="327" y="3287"/>
                  </a:lnTo>
                  <a:lnTo>
                    <a:pt x="327" y="3281"/>
                  </a:lnTo>
                  <a:lnTo>
                    <a:pt x="332" y="3281"/>
                  </a:lnTo>
                  <a:lnTo>
                    <a:pt x="332" y="3263"/>
                  </a:lnTo>
                  <a:lnTo>
                    <a:pt x="336" y="3263"/>
                  </a:lnTo>
                  <a:lnTo>
                    <a:pt x="336" y="3251"/>
                  </a:lnTo>
                  <a:lnTo>
                    <a:pt x="341" y="3251"/>
                  </a:lnTo>
                  <a:lnTo>
                    <a:pt x="341" y="3244"/>
                  </a:lnTo>
                  <a:lnTo>
                    <a:pt x="346" y="3244"/>
                  </a:lnTo>
                  <a:lnTo>
                    <a:pt x="346" y="3233"/>
                  </a:lnTo>
                  <a:lnTo>
                    <a:pt x="350" y="3233"/>
                  </a:lnTo>
                  <a:lnTo>
                    <a:pt x="350" y="3214"/>
                  </a:lnTo>
                  <a:lnTo>
                    <a:pt x="356" y="3214"/>
                  </a:lnTo>
                  <a:lnTo>
                    <a:pt x="356" y="3203"/>
                  </a:lnTo>
                  <a:lnTo>
                    <a:pt x="360" y="3203"/>
                  </a:lnTo>
                  <a:lnTo>
                    <a:pt x="360" y="3186"/>
                  </a:lnTo>
                  <a:lnTo>
                    <a:pt x="365" y="3186"/>
                  </a:lnTo>
                  <a:lnTo>
                    <a:pt x="365" y="3173"/>
                  </a:lnTo>
                  <a:lnTo>
                    <a:pt x="370" y="3173"/>
                  </a:lnTo>
                  <a:lnTo>
                    <a:pt x="370" y="3156"/>
                  </a:lnTo>
                  <a:lnTo>
                    <a:pt x="375" y="3156"/>
                  </a:lnTo>
                  <a:lnTo>
                    <a:pt x="375" y="3145"/>
                  </a:lnTo>
                  <a:lnTo>
                    <a:pt x="379" y="3145"/>
                  </a:lnTo>
                  <a:lnTo>
                    <a:pt x="379" y="3127"/>
                  </a:lnTo>
                  <a:lnTo>
                    <a:pt x="384" y="3127"/>
                  </a:lnTo>
                  <a:lnTo>
                    <a:pt x="384" y="3115"/>
                  </a:lnTo>
                  <a:lnTo>
                    <a:pt x="389" y="3115"/>
                  </a:lnTo>
                  <a:lnTo>
                    <a:pt x="389" y="3097"/>
                  </a:lnTo>
                  <a:lnTo>
                    <a:pt x="394" y="3097"/>
                  </a:lnTo>
                  <a:lnTo>
                    <a:pt x="394" y="3091"/>
                  </a:lnTo>
                  <a:lnTo>
                    <a:pt x="399" y="3091"/>
                  </a:lnTo>
                  <a:lnTo>
                    <a:pt x="399" y="3078"/>
                  </a:lnTo>
                  <a:lnTo>
                    <a:pt x="404" y="3078"/>
                  </a:lnTo>
                  <a:lnTo>
                    <a:pt x="404" y="3073"/>
                  </a:lnTo>
                  <a:lnTo>
                    <a:pt x="409" y="3073"/>
                  </a:lnTo>
                  <a:lnTo>
                    <a:pt x="409" y="3056"/>
                  </a:lnTo>
                  <a:lnTo>
                    <a:pt x="413" y="3056"/>
                  </a:lnTo>
                  <a:lnTo>
                    <a:pt x="413" y="3037"/>
                  </a:lnTo>
                  <a:lnTo>
                    <a:pt x="418" y="3037"/>
                  </a:lnTo>
                  <a:lnTo>
                    <a:pt x="418" y="3020"/>
                  </a:lnTo>
                  <a:lnTo>
                    <a:pt x="423" y="3020"/>
                  </a:lnTo>
                  <a:lnTo>
                    <a:pt x="423" y="3002"/>
                  </a:lnTo>
                  <a:lnTo>
                    <a:pt x="427" y="3002"/>
                  </a:lnTo>
                  <a:lnTo>
                    <a:pt x="427" y="2991"/>
                  </a:lnTo>
                  <a:lnTo>
                    <a:pt x="432" y="2991"/>
                  </a:lnTo>
                  <a:lnTo>
                    <a:pt x="432" y="2974"/>
                  </a:lnTo>
                  <a:lnTo>
                    <a:pt x="437" y="2974"/>
                  </a:lnTo>
                  <a:lnTo>
                    <a:pt x="437" y="2961"/>
                  </a:lnTo>
                  <a:lnTo>
                    <a:pt x="442" y="2961"/>
                  </a:lnTo>
                  <a:lnTo>
                    <a:pt x="442" y="2942"/>
                  </a:lnTo>
                  <a:lnTo>
                    <a:pt x="446" y="2942"/>
                  </a:lnTo>
                  <a:lnTo>
                    <a:pt x="446" y="2926"/>
                  </a:lnTo>
                  <a:lnTo>
                    <a:pt x="452" y="2926"/>
                  </a:lnTo>
                  <a:lnTo>
                    <a:pt x="452" y="2914"/>
                  </a:lnTo>
                  <a:lnTo>
                    <a:pt x="456" y="2914"/>
                  </a:lnTo>
                  <a:lnTo>
                    <a:pt x="456" y="2901"/>
                  </a:lnTo>
                  <a:lnTo>
                    <a:pt x="460" y="2901"/>
                  </a:lnTo>
                  <a:lnTo>
                    <a:pt x="460" y="2890"/>
                  </a:lnTo>
                  <a:lnTo>
                    <a:pt x="467" y="2890"/>
                  </a:lnTo>
                  <a:lnTo>
                    <a:pt x="467" y="2873"/>
                  </a:lnTo>
                  <a:lnTo>
                    <a:pt x="471" y="2873"/>
                  </a:lnTo>
                  <a:lnTo>
                    <a:pt x="471" y="2855"/>
                  </a:lnTo>
                  <a:lnTo>
                    <a:pt x="476" y="2855"/>
                  </a:lnTo>
                  <a:lnTo>
                    <a:pt x="476" y="2836"/>
                  </a:lnTo>
                  <a:lnTo>
                    <a:pt x="480" y="2836"/>
                  </a:lnTo>
                  <a:lnTo>
                    <a:pt x="480" y="2825"/>
                  </a:lnTo>
                  <a:lnTo>
                    <a:pt x="486" y="2825"/>
                  </a:lnTo>
                  <a:lnTo>
                    <a:pt x="486" y="2814"/>
                  </a:lnTo>
                  <a:lnTo>
                    <a:pt x="490" y="2814"/>
                  </a:lnTo>
                  <a:lnTo>
                    <a:pt x="490" y="2801"/>
                  </a:lnTo>
                  <a:lnTo>
                    <a:pt x="495" y="2801"/>
                  </a:lnTo>
                  <a:lnTo>
                    <a:pt x="495" y="2783"/>
                  </a:lnTo>
                  <a:lnTo>
                    <a:pt x="500" y="2783"/>
                  </a:lnTo>
                  <a:lnTo>
                    <a:pt x="500" y="2773"/>
                  </a:lnTo>
                  <a:lnTo>
                    <a:pt x="504" y="2773"/>
                  </a:lnTo>
                  <a:lnTo>
                    <a:pt x="504" y="2760"/>
                  </a:lnTo>
                  <a:lnTo>
                    <a:pt x="509" y="2760"/>
                  </a:lnTo>
                  <a:lnTo>
                    <a:pt x="509" y="2749"/>
                  </a:lnTo>
                  <a:lnTo>
                    <a:pt x="514" y="2749"/>
                  </a:lnTo>
                  <a:lnTo>
                    <a:pt x="514" y="2737"/>
                  </a:lnTo>
                  <a:lnTo>
                    <a:pt x="519" y="2737"/>
                  </a:lnTo>
                  <a:lnTo>
                    <a:pt x="519" y="2713"/>
                  </a:lnTo>
                  <a:lnTo>
                    <a:pt x="523" y="2713"/>
                  </a:lnTo>
                  <a:lnTo>
                    <a:pt x="523" y="2695"/>
                  </a:lnTo>
                  <a:lnTo>
                    <a:pt x="528" y="2695"/>
                  </a:lnTo>
                  <a:lnTo>
                    <a:pt x="528" y="2689"/>
                  </a:lnTo>
                  <a:lnTo>
                    <a:pt x="533" y="2689"/>
                  </a:lnTo>
                  <a:lnTo>
                    <a:pt x="533" y="2678"/>
                  </a:lnTo>
                  <a:lnTo>
                    <a:pt x="539" y="2678"/>
                  </a:lnTo>
                  <a:lnTo>
                    <a:pt x="539" y="2665"/>
                  </a:lnTo>
                  <a:lnTo>
                    <a:pt x="543" y="2665"/>
                  </a:lnTo>
                  <a:lnTo>
                    <a:pt x="543" y="2648"/>
                  </a:lnTo>
                  <a:lnTo>
                    <a:pt x="548" y="2648"/>
                  </a:lnTo>
                  <a:lnTo>
                    <a:pt x="548" y="2642"/>
                  </a:lnTo>
                  <a:lnTo>
                    <a:pt x="553" y="2642"/>
                  </a:lnTo>
                  <a:lnTo>
                    <a:pt x="553" y="2630"/>
                  </a:lnTo>
                  <a:lnTo>
                    <a:pt x="557" y="2630"/>
                  </a:lnTo>
                  <a:lnTo>
                    <a:pt x="557" y="2618"/>
                  </a:lnTo>
                  <a:lnTo>
                    <a:pt x="563" y="2618"/>
                  </a:lnTo>
                  <a:lnTo>
                    <a:pt x="563" y="2607"/>
                  </a:lnTo>
                  <a:lnTo>
                    <a:pt x="567" y="2607"/>
                  </a:lnTo>
                  <a:lnTo>
                    <a:pt x="567" y="2596"/>
                  </a:lnTo>
                  <a:lnTo>
                    <a:pt x="572" y="2596"/>
                  </a:lnTo>
                  <a:lnTo>
                    <a:pt x="572" y="2588"/>
                  </a:lnTo>
                  <a:lnTo>
                    <a:pt x="576" y="2588"/>
                  </a:lnTo>
                  <a:lnTo>
                    <a:pt x="576" y="2577"/>
                  </a:lnTo>
                  <a:lnTo>
                    <a:pt x="581" y="2577"/>
                  </a:lnTo>
                  <a:lnTo>
                    <a:pt x="581" y="2572"/>
                  </a:lnTo>
                  <a:lnTo>
                    <a:pt x="586" y="2572"/>
                  </a:lnTo>
                  <a:lnTo>
                    <a:pt x="586" y="2559"/>
                  </a:lnTo>
                  <a:lnTo>
                    <a:pt x="590" y="2559"/>
                  </a:lnTo>
                  <a:lnTo>
                    <a:pt x="590" y="2547"/>
                  </a:lnTo>
                  <a:lnTo>
                    <a:pt x="595" y="2547"/>
                  </a:lnTo>
                  <a:lnTo>
                    <a:pt x="595" y="2536"/>
                  </a:lnTo>
                  <a:lnTo>
                    <a:pt x="600" y="2536"/>
                  </a:lnTo>
                  <a:lnTo>
                    <a:pt x="600" y="2518"/>
                  </a:lnTo>
                  <a:lnTo>
                    <a:pt x="604" y="2518"/>
                  </a:lnTo>
                  <a:lnTo>
                    <a:pt x="604" y="2501"/>
                  </a:lnTo>
                  <a:lnTo>
                    <a:pt x="611" y="2501"/>
                  </a:lnTo>
                  <a:lnTo>
                    <a:pt x="611" y="2494"/>
                  </a:lnTo>
                  <a:lnTo>
                    <a:pt x="615" y="2494"/>
                  </a:lnTo>
                  <a:lnTo>
                    <a:pt x="615" y="2482"/>
                  </a:lnTo>
                  <a:lnTo>
                    <a:pt x="620" y="2482"/>
                  </a:lnTo>
                  <a:lnTo>
                    <a:pt x="620" y="2469"/>
                  </a:lnTo>
                  <a:lnTo>
                    <a:pt x="624" y="2469"/>
                  </a:lnTo>
                  <a:lnTo>
                    <a:pt x="624" y="2436"/>
                  </a:lnTo>
                  <a:lnTo>
                    <a:pt x="630" y="2436"/>
                  </a:lnTo>
                  <a:lnTo>
                    <a:pt x="630" y="2423"/>
                  </a:lnTo>
                  <a:lnTo>
                    <a:pt x="634" y="2423"/>
                  </a:lnTo>
                  <a:lnTo>
                    <a:pt x="634" y="2411"/>
                  </a:lnTo>
                  <a:lnTo>
                    <a:pt x="638" y="2411"/>
                  </a:lnTo>
                  <a:lnTo>
                    <a:pt x="638" y="2387"/>
                  </a:lnTo>
                  <a:lnTo>
                    <a:pt x="644" y="2387"/>
                  </a:lnTo>
                  <a:lnTo>
                    <a:pt x="644" y="2363"/>
                  </a:lnTo>
                  <a:lnTo>
                    <a:pt x="648" y="2363"/>
                  </a:lnTo>
                  <a:lnTo>
                    <a:pt x="648" y="2341"/>
                  </a:lnTo>
                  <a:lnTo>
                    <a:pt x="653" y="2341"/>
                  </a:lnTo>
                  <a:lnTo>
                    <a:pt x="653" y="2322"/>
                  </a:lnTo>
                  <a:lnTo>
                    <a:pt x="658" y="2322"/>
                  </a:lnTo>
                  <a:lnTo>
                    <a:pt x="658" y="2305"/>
                  </a:lnTo>
                  <a:lnTo>
                    <a:pt x="663" y="2305"/>
                  </a:lnTo>
                  <a:lnTo>
                    <a:pt x="663" y="2292"/>
                  </a:lnTo>
                  <a:lnTo>
                    <a:pt x="667" y="2292"/>
                  </a:lnTo>
                  <a:lnTo>
                    <a:pt x="667" y="2276"/>
                  </a:lnTo>
                  <a:lnTo>
                    <a:pt x="672" y="2276"/>
                  </a:lnTo>
                  <a:lnTo>
                    <a:pt x="672" y="2259"/>
                  </a:lnTo>
                  <a:lnTo>
                    <a:pt x="677" y="2259"/>
                  </a:lnTo>
                  <a:lnTo>
                    <a:pt x="677" y="2246"/>
                  </a:lnTo>
                  <a:lnTo>
                    <a:pt x="682" y="2246"/>
                  </a:lnTo>
                  <a:lnTo>
                    <a:pt x="682" y="2229"/>
                  </a:lnTo>
                  <a:lnTo>
                    <a:pt x="687" y="2229"/>
                  </a:lnTo>
                  <a:lnTo>
                    <a:pt x="687" y="2222"/>
                  </a:lnTo>
                  <a:lnTo>
                    <a:pt x="692" y="2222"/>
                  </a:lnTo>
                  <a:lnTo>
                    <a:pt x="692" y="2210"/>
                  </a:lnTo>
                  <a:lnTo>
                    <a:pt x="697" y="2210"/>
                  </a:lnTo>
                  <a:lnTo>
                    <a:pt x="697" y="2192"/>
                  </a:lnTo>
                  <a:lnTo>
                    <a:pt x="701" y="2192"/>
                  </a:lnTo>
                  <a:lnTo>
                    <a:pt x="701" y="2181"/>
                  </a:lnTo>
                  <a:lnTo>
                    <a:pt x="707" y="2181"/>
                  </a:lnTo>
                  <a:lnTo>
                    <a:pt x="707" y="2164"/>
                  </a:lnTo>
                  <a:lnTo>
                    <a:pt x="711" y="2164"/>
                  </a:lnTo>
                  <a:lnTo>
                    <a:pt x="711" y="2158"/>
                  </a:lnTo>
                  <a:lnTo>
                    <a:pt x="716" y="2158"/>
                  </a:lnTo>
                  <a:lnTo>
                    <a:pt x="716" y="2145"/>
                  </a:lnTo>
                  <a:lnTo>
                    <a:pt x="720" y="2145"/>
                  </a:lnTo>
                  <a:lnTo>
                    <a:pt x="720" y="2134"/>
                  </a:lnTo>
                  <a:lnTo>
                    <a:pt x="725" y="2134"/>
                  </a:lnTo>
                  <a:lnTo>
                    <a:pt x="725" y="2123"/>
                  </a:lnTo>
                  <a:lnTo>
                    <a:pt x="730" y="2123"/>
                  </a:lnTo>
                  <a:lnTo>
                    <a:pt x="730" y="2110"/>
                  </a:lnTo>
                  <a:lnTo>
                    <a:pt x="734" y="2110"/>
                  </a:lnTo>
                  <a:lnTo>
                    <a:pt x="734" y="2104"/>
                  </a:lnTo>
                  <a:lnTo>
                    <a:pt x="740" y="2104"/>
                  </a:lnTo>
                  <a:lnTo>
                    <a:pt x="740" y="2091"/>
                  </a:lnTo>
                  <a:lnTo>
                    <a:pt x="744" y="2091"/>
                  </a:lnTo>
                  <a:lnTo>
                    <a:pt x="744" y="2086"/>
                  </a:lnTo>
                  <a:lnTo>
                    <a:pt x="749" y="2086"/>
                  </a:lnTo>
                  <a:lnTo>
                    <a:pt x="749" y="2074"/>
                  </a:lnTo>
                  <a:lnTo>
                    <a:pt x="755" y="2074"/>
                  </a:lnTo>
                  <a:lnTo>
                    <a:pt x="755" y="2063"/>
                  </a:lnTo>
                  <a:lnTo>
                    <a:pt x="760" y="2063"/>
                  </a:lnTo>
                  <a:lnTo>
                    <a:pt x="760" y="2050"/>
                  </a:lnTo>
                  <a:lnTo>
                    <a:pt x="764" y="2050"/>
                  </a:lnTo>
                  <a:lnTo>
                    <a:pt x="764" y="2039"/>
                  </a:lnTo>
                  <a:lnTo>
                    <a:pt x="769" y="2039"/>
                  </a:lnTo>
                  <a:lnTo>
                    <a:pt x="769" y="2028"/>
                  </a:lnTo>
                  <a:lnTo>
                    <a:pt x="774" y="2028"/>
                  </a:lnTo>
                  <a:lnTo>
                    <a:pt x="774" y="2015"/>
                  </a:lnTo>
                  <a:lnTo>
                    <a:pt x="778" y="2015"/>
                  </a:lnTo>
                  <a:lnTo>
                    <a:pt x="778" y="2009"/>
                  </a:lnTo>
                  <a:lnTo>
                    <a:pt x="783" y="2009"/>
                  </a:lnTo>
                  <a:lnTo>
                    <a:pt x="783" y="1992"/>
                  </a:lnTo>
                  <a:lnTo>
                    <a:pt x="788" y="1992"/>
                  </a:lnTo>
                  <a:lnTo>
                    <a:pt x="788" y="1987"/>
                  </a:lnTo>
                  <a:lnTo>
                    <a:pt x="793" y="1987"/>
                  </a:lnTo>
                  <a:lnTo>
                    <a:pt x="793" y="1980"/>
                  </a:lnTo>
                  <a:lnTo>
                    <a:pt x="797" y="1980"/>
                  </a:lnTo>
                  <a:lnTo>
                    <a:pt x="797" y="1974"/>
                  </a:lnTo>
                  <a:lnTo>
                    <a:pt x="802" y="1974"/>
                  </a:lnTo>
                  <a:lnTo>
                    <a:pt x="802" y="1963"/>
                  </a:lnTo>
                  <a:lnTo>
                    <a:pt x="807" y="1963"/>
                  </a:lnTo>
                  <a:lnTo>
                    <a:pt x="807" y="1950"/>
                  </a:lnTo>
                  <a:lnTo>
                    <a:pt x="811" y="1950"/>
                  </a:lnTo>
                  <a:lnTo>
                    <a:pt x="811" y="1938"/>
                  </a:lnTo>
                  <a:lnTo>
                    <a:pt x="816" y="1938"/>
                  </a:lnTo>
                  <a:lnTo>
                    <a:pt x="816" y="1933"/>
                  </a:lnTo>
                  <a:lnTo>
                    <a:pt x="821" y="1933"/>
                  </a:lnTo>
                  <a:lnTo>
                    <a:pt x="821" y="1922"/>
                  </a:lnTo>
                  <a:lnTo>
                    <a:pt x="827" y="1922"/>
                  </a:lnTo>
                  <a:lnTo>
                    <a:pt x="827" y="1914"/>
                  </a:lnTo>
                  <a:lnTo>
                    <a:pt x="831" y="1914"/>
                  </a:lnTo>
                  <a:lnTo>
                    <a:pt x="831" y="1903"/>
                  </a:lnTo>
                  <a:lnTo>
                    <a:pt x="837" y="1903"/>
                  </a:lnTo>
                  <a:lnTo>
                    <a:pt x="837" y="1890"/>
                  </a:lnTo>
                  <a:lnTo>
                    <a:pt x="841" y="1890"/>
                  </a:lnTo>
                  <a:lnTo>
                    <a:pt x="841" y="1885"/>
                  </a:lnTo>
                  <a:lnTo>
                    <a:pt x="845" y="1885"/>
                  </a:lnTo>
                  <a:lnTo>
                    <a:pt x="845" y="1873"/>
                  </a:lnTo>
                  <a:lnTo>
                    <a:pt x="851" y="1873"/>
                  </a:lnTo>
                  <a:lnTo>
                    <a:pt x="851" y="1862"/>
                  </a:lnTo>
                  <a:lnTo>
                    <a:pt x="855" y="1862"/>
                  </a:lnTo>
                  <a:lnTo>
                    <a:pt x="855" y="1849"/>
                  </a:lnTo>
                  <a:lnTo>
                    <a:pt x="860" y="1849"/>
                  </a:lnTo>
                  <a:lnTo>
                    <a:pt x="860" y="1844"/>
                  </a:lnTo>
                  <a:lnTo>
                    <a:pt x="864" y="1844"/>
                  </a:lnTo>
                  <a:lnTo>
                    <a:pt x="864" y="1838"/>
                  </a:lnTo>
                  <a:lnTo>
                    <a:pt x="870" y="1838"/>
                  </a:lnTo>
                  <a:lnTo>
                    <a:pt x="870" y="1827"/>
                  </a:lnTo>
                  <a:lnTo>
                    <a:pt x="879" y="1827"/>
                  </a:lnTo>
                  <a:lnTo>
                    <a:pt x="879" y="1821"/>
                  </a:lnTo>
                  <a:lnTo>
                    <a:pt x="884" y="1821"/>
                  </a:lnTo>
                  <a:lnTo>
                    <a:pt x="884" y="1809"/>
                  </a:lnTo>
                  <a:lnTo>
                    <a:pt x="888" y="1809"/>
                  </a:lnTo>
                  <a:lnTo>
                    <a:pt x="888" y="1803"/>
                  </a:lnTo>
                  <a:lnTo>
                    <a:pt x="893" y="1803"/>
                  </a:lnTo>
                  <a:lnTo>
                    <a:pt x="893" y="1797"/>
                  </a:lnTo>
                  <a:lnTo>
                    <a:pt x="899" y="1797"/>
                  </a:lnTo>
                  <a:lnTo>
                    <a:pt x="899" y="1791"/>
                  </a:lnTo>
                  <a:lnTo>
                    <a:pt x="904" y="1791"/>
                  </a:lnTo>
                  <a:lnTo>
                    <a:pt x="904" y="1786"/>
                  </a:lnTo>
                  <a:lnTo>
                    <a:pt x="908" y="1786"/>
                  </a:lnTo>
                  <a:lnTo>
                    <a:pt x="908" y="1773"/>
                  </a:lnTo>
                  <a:lnTo>
                    <a:pt x="913" y="1773"/>
                  </a:lnTo>
                  <a:lnTo>
                    <a:pt x="913" y="1768"/>
                  </a:lnTo>
                  <a:lnTo>
                    <a:pt x="918" y="1768"/>
                  </a:lnTo>
                  <a:lnTo>
                    <a:pt x="918" y="1761"/>
                  </a:lnTo>
                  <a:lnTo>
                    <a:pt x="923" y="1761"/>
                  </a:lnTo>
                  <a:lnTo>
                    <a:pt x="923" y="1749"/>
                  </a:lnTo>
                  <a:lnTo>
                    <a:pt x="932" y="1749"/>
                  </a:lnTo>
                  <a:lnTo>
                    <a:pt x="932" y="1743"/>
                  </a:lnTo>
                  <a:lnTo>
                    <a:pt x="936" y="1743"/>
                  </a:lnTo>
                  <a:lnTo>
                    <a:pt x="936" y="1732"/>
                  </a:lnTo>
                  <a:lnTo>
                    <a:pt x="941" y="1732"/>
                  </a:lnTo>
                  <a:lnTo>
                    <a:pt x="941" y="1720"/>
                  </a:lnTo>
                  <a:lnTo>
                    <a:pt x="951" y="1720"/>
                  </a:lnTo>
                  <a:lnTo>
                    <a:pt x="951" y="1715"/>
                  </a:lnTo>
                  <a:lnTo>
                    <a:pt x="955" y="1715"/>
                  </a:lnTo>
                  <a:lnTo>
                    <a:pt x="955" y="1708"/>
                  </a:lnTo>
                  <a:lnTo>
                    <a:pt x="960" y="1708"/>
                  </a:lnTo>
                  <a:lnTo>
                    <a:pt x="960" y="1702"/>
                  </a:lnTo>
                  <a:lnTo>
                    <a:pt x="965" y="1702"/>
                  </a:lnTo>
                  <a:lnTo>
                    <a:pt x="965" y="1696"/>
                  </a:lnTo>
                  <a:lnTo>
                    <a:pt x="971" y="1696"/>
                  </a:lnTo>
                  <a:lnTo>
                    <a:pt x="971" y="1691"/>
                  </a:lnTo>
                  <a:lnTo>
                    <a:pt x="975" y="1691"/>
                  </a:lnTo>
                  <a:lnTo>
                    <a:pt x="975" y="1678"/>
                  </a:lnTo>
                  <a:lnTo>
                    <a:pt x="980" y="1678"/>
                  </a:lnTo>
                  <a:lnTo>
                    <a:pt x="980" y="1672"/>
                  </a:lnTo>
                  <a:lnTo>
                    <a:pt x="989" y="1672"/>
                  </a:lnTo>
                  <a:lnTo>
                    <a:pt x="989" y="1661"/>
                  </a:lnTo>
                  <a:lnTo>
                    <a:pt x="999" y="1661"/>
                  </a:lnTo>
                  <a:lnTo>
                    <a:pt x="999" y="1655"/>
                  </a:lnTo>
                  <a:lnTo>
                    <a:pt x="1004" y="1655"/>
                  </a:lnTo>
                  <a:lnTo>
                    <a:pt x="1004" y="1650"/>
                  </a:lnTo>
                  <a:lnTo>
                    <a:pt x="1008" y="1650"/>
                  </a:lnTo>
                  <a:lnTo>
                    <a:pt x="1008" y="1642"/>
                  </a:lnTo>
                  <a:lnTo>
                    <a:pt x="1014" y="1642"/>
                  </a:lnTo>
                  <a:lnTo>
                    <a:pt x="1014" y="1637"/>
                  </a:lnTo>
                  <a:lnTo>
                    <a:pt x="1018" y="1637"/>
                  </a:lnTo>
                  <a:lnTo>
                    <a:pt x="1018" y="1631"/>
                  </a:lnTo>
                  <a:lnTo>
                    <a:pt x="1028" y="1631"/>
                  </a:lnTo>
                  <a:lnTo>
                    <a:pt x="1028" y="1626"/>
                  </a:lnTo>
                  <a:lnTo>
                    <a:pt x="1032" y="1626"/>
                  </a:lnTo>
                  <a:lnTo>
                    <a:pt x="1032" y="1620"/>
                  </a:lnTo>
                  <a:lnTo>
                    <a:pt x="1043" y="1620"/>
                  </a:lnTo>
                  <a:lnTo>
                    <a:pt x="1043" y="1613"/>
                  </a:lnTo>
                  <a:lnTo>
                    <a:pt x="1048" y="1613"/>
                  </a:lnTo>
                  <a:lnTo>
                    <a:pt x="1048" y="1608"/>
                  </a:lnTo>
                  <a:lnTo>
                    <a:pt x="1052" y="1608"/>
                  </a:lnTo>
                  <a:lnTo>
                    <a:pt x="1052" y="1601"/>
                  </a:lnTo>
                  <a:lnTo>
                    <a:pt x="1062" y="1601"/>
                  </a:lnTo>
                  <a:lnTo>
                    <a:pt x="1062" y="1596"/>
                  </a:lnTo>
                  <a:lnTo>
                    <a:pt x="1066" y="1596"/>
                  </a:lnTo>
                  <a:lnTo>
                    <a:pt x="1066" y="1584"/>
                  </a:lnTo>
                  <a:lnTo>
                    <a:pt x="1076" y="1584"/>
                  </a:lnTo>
                  <a:lnTo>
                    <a:pt x="1076" y="1577"/>
                  </a:lnTo>
                  <a:lnTo>
                    <a:pt x="1081" y="1577"/>
                  </a:lnTo>
                  <a:lnTo>
                    <a:pt x="1081" y="1572"/>
                  </a:lnTo>
                  <a:lnTo>
                    <a:pt x="1085" y="1572"/>
                  </a:lnTo>
                  <a:lnTo>
                    <a:pt x="1085" y="1566"/>
                  </a:lnTo>
                  <a:lnTo>
                    <a:pt x="1091" y="1566"/>
                  </a:lnTo>
                  <a:lnTo>
                    <a:pt x="1091" y="1560"/>
                  </a:lnTo>
                  <a:lnTo>
                    <a:pt x="1099" y="1560"/>
                  </a:lnTo>
                  <a:lnTo>
                    <a:pt x="1099" y="1555"/>
                  </a:lnTo>
                  <a:lnTo>
                    <a:pt x="1104" y="1555"/>
                  </a:lnTo>
                  <a:lnTo>
                    <a:pt x="1104" y="1549"/>
                  </a:lnTo>
                  <a:lnTo>
                    <a:pt x="1115" y="1549"/>
                  </a:lnTo>
                  <a:lnTo>
                    <a:pt x="1115" y="1542"/>
                  </a:lnTo>
                  <a:lnTo>
                    <a:pt x="1125" y="1542"/>
                  </a:lnTo>
                  <a:lnTo>
                    <a:pt x="1125" y="1536"/>
                  </a:lnTo>
                  <a:lnTo>
                    <a:pt x="1129" y="1536"/>
                  </a:lnTo>
                  <a:lnTo>
                    <a:pt x="1129" y="1531"/>
                  </a:lnTo>
                  <a:lnTo>
                    <a:pt x="1134" y="1531"/>
                  </a:lnTo>
                  <a:lnTo>
                    <a:pt x="1134" y="1525"/>
                  </a:lnTo>
                  <a:lnTo>
                    <a:pt x="1143" y="1525"/>
                  </a:lnTo>
                  <a:lnTo>
                    <a:pt x="1143" y="1519"/>
                  </a:lnTo>
                  <a:lnTo>
                    <a:pt x="1158" y="1519"/>
                  </a:lnTo>
                  <a:lnTo>
                    <a:pt x="1158" y="1501"/>
                  </a:lnTo>
                  <a:lnTo>
                    <a:pt x="1162" y="1501"/>
                  </a:lnTo>
                  <a:lnTo>
                    <a:pt x="1162" y="1482"/>
                  </a:lnTo>
                  <a:lnTo>
                    <a:pt x="1167" y="1482"/>
                  </a:lnTo>
                  <a:lnTo>
                    <a:pt x="1167" y="1465"/>
                  </a:lnTo>
                  <a:lnTo>
                    <a:pt x="1172" y="1465"/>
                  </a:lnTo>
                  <a:lnTo>
                    <a:pt x="1172" y="1460"/>
                  </a:lnTo>
                  <a:lnTo>
                    <a:pt x="1177" y="1460"/>
                  </a:lnTo>
                  <a:lnTo>
                    <a:pt x="1177" y="1454"/>
                  </a:lnTo>
                  <a:lnTo>
                    <a:pt x="1181" y="1454"/>
                  </a:lnTo>
                  <a:lnTo>
                    <a:pt x="1181" y="1449"/>
                  </a:lnTo>
                  <a:lnTo>
                    <a:pt x="1187" y="1449"/>
                  </a:lnTo>
                  <a:lnTo>
                    <a:pt x="1187" y="1441"/>
                  </a:lnTo>
                  <a:lnTo>
                    <a:pt x="1192" y="1441"/>
                  </a:lnTo>
                  <a:lnTo>
                    <a:pt x="1192" y="1436"/>
                  </a:lnTo>
                  <a:lnTo>
                    <a:pt x="1201" y="1436"/>
                  </a:lnTo>
                  <a:lnTo>
                    <a:pt x="1201" y="1424"/>
                  </a:lnTo>
                  <a:lnTo>
                    <a:pt x="1206" y="1424"/>
                  </a:lnTo>
                  <a:lnTo>
                    <a:pt x="1206" y="1419"/>
                  </a:lnTo>
                  <a:lnTo>
                    <a:pt x="1211" y="1419"/>
                  </a:lnTo>
                  <a:lnTo>
                    <a:pt x="1211" y="1406"/>
                  </a:lnTo>
                  <a:lnTo>
                    <a:pt x="1215" y="1406"/>
                  </a:lnTo>
                  <a:lnTo>
                    <a:pt x="1215" y="1395"/>
                  </a:lnTo>
                  <a:lnTo>
                    <a:pt x="1221" y="1395"/>
                  </a:lnTo>
                  <a:lnTo>
                    <a:pt x="1221" y="1383"/>
                  </a:lnTo>
                  <a:lnTo>
                    <a:pt x="1225" y="1383"/>
                  </a:lnTo>
                  <a:lnTo>
                    <a:pt x="1225" y="1378"/>
                  </a:lnTo>
                  <a:lnTo>
                    <a:pt x="1229" y="1378"/>
                  </a:lnTo>
                  <a:lnTo>
                    <a:pt x="1229" y="1371"/>
                  </a:lnTo>
                  <a:lnTo>
                    <a:pt x="1235" y="1371"/>
                  </a:lnTo>
                  <a:lnTo>
                    <a:pt x="1235" y="1365"/>
                  </a:lnTo>
                  <a:lnTo>
                    <a:pt x="1244" y="1365"/>
                  </a:lnTo>
                  <a:lnTo>
                    <a:pt x="1244" y="1354"/>
                  </a:lnTo>
                  <a:lnTo>
                    <a:pt x="1248" y="1354"/>
                  </a:lnTo>
                  <a:lnTo>
                    <a:pt x="1248" y="1348"/>
                  </a:lnTo>
                  <a:lnTo>
                    <a:pt x="1254" y="1348"/>
                  </a:lnTo>
                  <a:lnTo>
                    <a:pt x="1254" y="1341"/>
                  </a:lnTo>
                  <a:lnTo>
                    <a:pt x="1258" y="1341"/>
                  </a:lnTo>
                  <a:lnTo>
                    <a:pt x="1258" y="1330"/>
                  </a:lnTo>
                  <a:lnTo>
                    <a:pt x="1264" y="1330"/>
                  </a:lnTo>
                  <a:lnTo>
                    <a:pt x="1264" y="1324"/>
                  </a:lnTo>
                  <a:lnTo>
                    <a:pt x="1269" y="1324"/>
                  </a:lnTo>
                  <a:lnTo>
                    <a:pt x="1269" y="1318"/>
                  </a:lnTo>
                  <a:lnTo>
                    <a:pt x="1273" y="1318"/>
                  </a:lnTo>
                  <a:lnTo>
                    <a:pt x="1273" y="1305"/>
                  </a:lnTo>
                  <a:lnTo>
                    <a:pt x="1277" y="1305"/>
                  </a:lnTo>
                  <a:lnTo>
                    <a:pt x="1277" y="1300"/>
                  </a:lnTo>
                  <a:lnTo>
                    <a:pt x="1283" y="1300"/>
                  </a:lnTo>
                  <a:lnTo>
                    <a:pt x="1283" y="1295"/>
                  </a:lnTo>
                  <a:lnTo>
                    <a:pt x="1287" y="1295"/>
                  </a:lnTo>
                  <a:lnTo>
                    <a:pt x="1287" y="1288"/>
                  </a:lnTo>
                  <a:lnTo>
                    <a:pt x="1292" y="1288"/>
                  </a:lnTo>
                  <a:lnTo>
                    <a:pt x="1292" y="1283"/>
                  </a:lnTo>
                  <a:lnTo>
                    <a:pt x="1297" y="1283"/>
                  </a:lnTo>
                  <a:lnTo>
                    <a:pt x="1297" y="1277"/>
                  </a:lnTo>
                  <a:lnTo>
                    <a:pt x="1302" y="1277"/>
                  </a:lnTo>
                  <a:lnTo>
                    <a:pt x="1302" y="1272"/>
                  </a:lnTo>
                  <a:lnTo>
                    <a:pt x="1306" y="1272"/>
                  </a:lnTo>
                  <a:lnTo>
                    <a:pt x="1306" y="1264"/>
                  </a:lnTo>
                  <a:lnTo>
                    <a:pt x="1311" y="1264"/>
                  </a:lnTo>
                  <a:lnTo>
                    <a:pt x="1311" y="1259"/>
                  </a:lnTo>
                  <a:lnTo>
                    <a:pt x="1316" y="1259"/>
                  </a:lnTo>
                  <a:lnTo>
                    <a:pt x="1316" y="1254"/>
                  </a:lnTo>
                  <a:lnTo>
                    <a:pt x="1320" y="1254"/>
                  </a:lnTo>
                  <a:lnTo>
                    <a:pt x="1320" y="1247"/>
                  </a:lnTo>
                  <a:lnTo>
                    <a:pt x="1325" y="1247"/>
                  </a:lnTo>
                  <a:lnTo>
                    <a:pt x="1325" y="1242"/>
                  </a:lnTo>
                  <a:lnTo>
                    <a:pt x="1330" y="1242"/>
                  </a:lnTo>
                  <a:lnTo>
                    <a:pt x="1330" y="1235"/>
                  </a:lnTo>
                  <a:lnTo>
                    <a:pt x="1336" y="1235"/>
                  </a:lnTo>
                  <a:lnTo>
                    <a:pt x="1336" y="1223"/>
                  </a:lnTo>
                  <a:lnTo>
                    <a:pt x="1340" y="1223"/>
                  </a:lnTo>
                  <a:lnTo>
                    <a:pt x="1340" y="1218"/>
                  </a:lnTo>
                  <a:lnTo>
                    <a:pt x="1345" y="1218"/>
                  </a:lnTo>
                  <a:lnTo>
                    <a:pt x="1345" y="1212"/>
                  </a:lnTo>
                  <a:lnTo>
                    <a:pt x="1350" y="1212"/>
                  </a:lnTo>
                  <a:lnTo>
                    <a:pt x="1350" y="1205"/>
                  </a:lnTo>
                  <a:lnTo>
                    <a:pt x="1355" y="1205"/>
                  </a:lnTo>
                  <a:lnTo>
                    <a:pt x="1355" y="1200"/>
                  </a:lnTo>
                  <a:lnTo>
                    <a:pt x="1359" y="1200"/>
                  </a:lnTo>
                  <a:lnTo>
                    <a:pt x="1359" y="1194"/>
                  </a:lnTo>
                  <a:lnTo>
                    <a:pt x="1364" y="1194"/>
                  </a:lnTo>
                  <a:lnTo>
                    <a:pt x="1364" y="1188"/>
                  </a:lnTo>
                  <a:lnTo>
                    <a:pt x="1369" y="1188"/>
                  </a:lnTo>
                  <a:lnTo>
                    <a:pt x="1369" y="1182"/>
                  </a:lnTo>
                  <a:lnTo>
                    <a:pt x="1373" y="1182"/>
                  </a:lnTo>
                  <a:lnTo>
                    <a:pt x="1373" y="1177"/>
                  </a:lnTo>
                  <a:lnTo>
                    <a:pt x="1379" y="1177"/>
                  </a:lnTo>
                  <a:lnTo>
                    <a:pt x="1379" y="1169"/>
                  </a:lnTo>
                  <a:lnTo>
                    <a:pt x="1383" y="1169"/>
                  </a:lnTo>
                  <a:lnTo>
                    <a:pt x="1383" y="1164"/>
                  </a:lnTo>
                  <a:lnTo>
                    <a:pt x="1388" y="1164"/>
                  </a:lnTo>
                  <a:lnTo>
                    <a:pt x="1388" y="1153"/>
                  </a:lnTo>
                  <a:lnTo>
                    <a:pt x="1392" y="1153"/>
                  </a:lnTo>
                  <a:lnTo>
                    <a:pt x="1392" y="1141"/>
                  </a:lnTo>
                  <a:lnTo>
                    <a:pt x="1398" y="1141"/>
                  </a:lnTo>
                  <a:lnTo>
                    <a:pt x="1398" y="1136"/>
                  </a:lnTo>
                  <a:lnTo>
                    <a:pt x="1402" y="1136"/>
                  </a:lnTo>
                  <a:lnTo>
                    <a:pt x="1402" y="1123"/>
                  </a:lnTo>
                  <a:lnTo>
                    <a:pt x="1407" y="1123"/>
                  </a:lnTo>
                  <a:lnTo>
                    <a:pt x="1407" y="1111"/>
                  </a:lnTo>
                  <a:lnTo>
                    <a:pt x="1413" y="1111"/>
                  </a:lnTo>
                  <a:lnTo>
                    <a:pt x="1413" y="1104"/>
                  </a:lnTo>
                  <a:lnTo>
                    <a:pt x="1417" y="1104"/>
                  </a:lnTo>
                  <a:lnTo>
                    <a:pt x="1417" y="1099"/>
                  </a:lnTo>
                  <a:lnTo>
                    <a:pt x="1422" y="1099"/>
                  </a:lnTo>
                  <a:lnTo>
                    <a:pt x="1422" y="1087"/>
                  </a:lnTo>
                  <a:lnTo>
                    <a:pt x="1427" y="1087"/>
                  </a:lnTo>
                  <a:lnTo>
                    <a:pt x="1427" y="1082"/>
                  </a:lnTo>
                  <a:lnTo>
                    <a:pt x="1432" y="1082"/>
                  </a:lnTo>
                  <a:lnTo>
                    <a:pt x="1432" y="1069"/>
                  </a:lnTo>
                  <a:lnTo>
                    <a:pt x="1436" y="1069"/>
                  </a:lnTo>
                  <a:lnTo>
                    <a:pt x="1436" y="1063"/>
                  </a:lnTo>
                  <a:lnTo>
                    <a:pt x="1441" y="1063"/>
                  </a:lnTo>
                  <a:lnTo>
                    <a:pt x="1441" y="1052"/>
                  </a:lnTo>
                  <a:lnTo>
                    <a:pt x="1446" y="1052"/>
                  </a:lnTo>
                  <a:lnTo>
                    <a:pt x="1446" y="1046"/>
                  </a:lnTo>
                  <a:lnTo>
                    <a:pt x="1450" y="1046"/>
                  </a:lnTo>
                  <a:lnTo>
                    <a:pt x="1450" y="1034"/>
                  </a:lnTo>
                  <a:lnTo>
                    <a:pt x="1455" y="1034"/>
                  </a:lnTo>
                  <a:lnTo>
                    <a:pt x="1455" y="1028"/>
                  </a:lnTo>
                  <a:lnTo>
                    <a:pt x="1460" y="1028"/>
                  </a:lnTo>
                  <a:lnTo>
                    <a:pt x="1460" y="1022"/>
                  </a:lnTo>
                  <a:lnTo>
                    <a:pt x="1465" y="1022"/>
                  </a:lnTo>
                  <a:lnTo>
                    <a:pt x="1465" y="1017"/>
                  </a:lnTo>
                  <a:lnTo>
                    <a:pt x="1469" y="1017"/>
                  </a:lnTo>
                  <a:lnTo>
                    <a:pt x="1469" y="1010"/>
                  </a:lnTo>
                  <a:lnTo>
                    <a:pt x="1475" y="1010"/>
                  </a:lnTo>
                  <a:lnTo>
                    <a:pt x="1475" y="1005"/>
                  </a:lnTo>
                  <a:lnTo>
                    <a:pt x="1480" y="1005"/>
                  </a:lnTo>
                  <a:lnTo>
                    <a:pt x="1480" y="1000"/>
                  </a:lnTo>
                  <a:lnTo>
                    <a:pt x="1484" y="1000"/>
                  </a:lnTo>
                  <a:lnTo>
                    <a:pt x="1484" y="992"/>
                  </a:lnTo>
                  <a:lnTo>
                    <a:pt x="1489" y="992"/>
                  </a:lnTo>
                  <a:lnTo>
                    <a:pt x="1489" y="987"/>
                  </a:lnTo>
                  <a:lnTo>
                    <a:pt x="1494" y="987"/>
                  </a:lnTo>
                  <a:lnTo>
                    <a:pt x="1494" y="982"/>
                  </a:lnTo>
                  <a:lnTo>
                    <a:pt x="1503" y="982"/>
                  </a:lnTo>
                  <a:lnTo>
                    <a:pt x="1503" y="976"/>
                  </a:lnTo>
                  <a:lnTo>
                    <a:pt x="1509" y="976"/>
                  </a:lnTo>
                  <a:lnTo>
                    <a:pt x="1509" y="970"/>
                  </a:lnTo>
                  <a:lnTo>
                    <a:pt x="1513" y="970"/>
                  </a:lnTo>
                  <a:lnTo>
                    <a:pt x="1513" y="958"/>
                  </a:lnTo>
                  <a:lnTo>
                    <a:pt x="1518" y="958"/>
                  </a:lnTo>
                  <a:lnTo>
                    <a:pt x="1518" y="951"/>
                  </a:lnTo>
                  <a:lnTo>
                    <a:pt x="1527" y="951"/>
                  </a:lnTo>
                  <a:lnTo>
                    <a:pt x="1527" y="940"/>
                  </a:lnTo>
                  <a:lnTo>
                    <a:pt x="1532" y="940"/>
                  </a:lnTo>
                  <a:lnTo>
                    <a:pt x="1532" y="933"/>
                  </a:lnTo>
                  <a:lnTo>
                    <a:pt x="1537" y="933"/>
                  </a:lnTo>
                  <a:lnTo>
                    <a:pt x="1537" y="928"/>
                  </a:lnTo>
                  <a:lnTo>
                    <a:pt x="1542" y="928"/>
                  </a:lnTo>
                  <a:lnTo>
                    <a:pt x="1542" y="916"/>
                  </a:lnTo>
                  <a:lnTo>
                    <a:pt x="1546" y="916"/>
                  </a:lnTo>
                  <a:lnTo>
                    <a:pt x="1546" y="910"/>
                  </a:lnTo>
                  <a:lnTo>
                    <a:pt x="1552" y="910"/>
                  </a:lnTo>
                  <a:lnTo>
                    <a:pt x="1552" y="905"/>
                  </a:lnTo>
                  <a:lnTo>
                    <a:pt x="1557" y="905"/>
                  </a:lnTo>
                  <a:lnTo>
                    <a:pt x="1557" y="898"/>
                  </a:lnTo>
                  <a:lnTo>
                    <a:pt x="1562" y="898"/>
                  </a:lnTo>
                  <a:lnTo>
                    <a:pt x="1562" y="892"/>
                  </a:lnTo>
                  <a:lnTo>
                    <a:pt x="1566" y="892"/>
                  </a:lnTo>
                  <a:lnTo>
                    <a:pt x="1566" y="881"/>
                  </a:lnTo>
                  <a:lnTo>
                    <a:pt x="1571" y="881"/>
                  </a:lnTo>
                  <a:lnTo>
                    <a:pt x="1571" y="875"/>
                  </a:lnTo>
                  <a:lnTo>
                    <a:pt x="1576" y="875"/>
                  </a:lnTo>
                  <a:lnTo>
                    <a:pt x="1576" y="869"/>
                  </a:lnTo>
                  <a:lnTo>
                    <a:pt x="1580" y="869"/>
                  </a:lnTo>
                  <a:lnTo>
                    <a:pt x="1580" y="864"/>
                  </a:lnTo>
                  <a:lnTo>
                    <a:pt x="1585" y="864"/>
                  </a:lnTo>
                  <a:lnTo>
                    <a:pt x="1585" y="851"/>
                  </a:lnTo>
                  <a:lnTo>
                    <a:pt x="1590" y="851"/>
                  </a:lnTo>
                  <a:lnTo>
                    <a:pt x="1590" y="845"/>
                  </a:lnTo>
                  <a:lnTo>
                    <a:pt x="1599" y="845"/>
                  </a:lnTo>
                  <a:lnTo>
                    <a:pt x="1599" y="834"/>
                  </a:lnTo>
                  <a:lnTo>
                    <a:pt x="1605" y="834"/>
                  </a:lnTo>
                  <a:lnTo>
                    <a:pt x="1605" y="827"/>
                  </a:lnTo>
                  <a:lnTo>
                    <a:pt x="1609" y="827"/>
                  </a:lnTo>
                  <a:lnTo>
                    <a:pt x="1609" y="822"/>
                  </a:lnTo>
                  <a:lnTo>
                    <a:pt x="1613" y="822"/>
                  </a:lnTo>
                  <a:lnTo>
                    <a:pt x="1613" y="815"/>
                  </a:lnTo>
                  <a:lnTo>
                    <a:pt x="1618" y="815"/>
                  </a:lnTo>
                  <a:lnTo>
                    <a:pt x="1618" y="810"/>
                  </a:lnTo>
                  <a:lnTo>
                    <a:pt x="1624" y="810"/>
                  </a:lnTo>
                  <a:lnTo>
                    <a:pt x="1624" y="799"/>
                  </a:lnTo>
                  <a:lnTo>
                    <a:pt x="1628" y="799"/>
                  </a:lnTo>
                  <a:lnTo>
                    <a:pt x="1628" y="791"/>
                  </a:lnTo>
                  <a:lnTo>
                    <a:pt x="1633" y="791"/>
                  </a:lnTo>
                  <a:lnTo>
                    <a:pt x="1633" y="786"/>
                  </a:lnTo>
                  <a:lnTo>
                    <a:pt x="1638" y="786"/>
                  </a:lnTo>
                  <a:lnTo>
                    <a:pt x="1638" y="774"/>
                  </a:lnTo>
                  <a:lnTo>
                    <a:pt x="1647" y="774"/>
                  </a:lnTo>
                  <a:lnTo>
                    <a:pt x="1647" y="769"/>
                  </a:lnTo>
                  <a:lnTo>
                    <a:pt x="1653" y="769"/>
                  </a:lnTo>
                  <a:lnTo>
                    <a:pt x="1653" y="756"/>
                  </a:lnTo>
                  <a:lnTo>
                    <a:pt x="1661" y="756"/>
                  </a:lnTo>
                  <a:lnTo>
                    <a:pt x="1661" y="750"/>
                  </a:lnTo>
                  <a:lnTo>
                    <a:pt x="1667" y="750"/>
                  </a:lnTo>
                  <a:lnTo>
                    <a:pt x="1667" y="745"/>
                  </a:lnTo>
                  <a:lnTo>
                    <a:pt x="1671" y="745"/>
                  </a:lnTo>
                  <a:lnTo>
                    <a:pt x="1671" y="739"/>
                  </a:lnTo>
                  <a:lnTo>
                    <a:pt x="1676" y="739"/>
                  </a:lnTo>
                  <a:lnTo>
                    <a:pt x="1676" y="732"/>
                  </a:lnTo>
                  <a:lnTo>
                    <a:pt x="1681" y="732"/>
                  </a:lnTo>
                  <a:lnTo>
                    <a:pt x="1681" y="727"/>
                  </a:lnTo>
                  <a:lnTo>
                    <a:pt x="1690" y="727"/>
                  </a:lnTo>
                  <a:lnTo>
                    <a:pt x="1690" y="721"/>
                  </a:lnTo>
                  <a:lnTo>
                    <a:pt x="1696" y="721"/>
                  </a:lnTo>
                  <a:lnTo>
                    <a:pt x="1696" y="715"/>
                  </a:lnTo>
                  <a:lnTo>
                    <a:pt x="1701" y="715"/>
                  </a:lnTo>
                  <a:lnTo>
                    <a:pt x="1701" y="709"/>
                  </a:lnTo>
                  <a:lnTo>
                    <a:pt x="1705" y="709"/>
                  </a:lnTo>
                  <a:lnTo>
                    <a:pt x="1705" y="704"/>
                  </a:lnTo>
                  <a:lnTo>
                    <a:pt x="1710" y="704"/>
                  </a:lnTo>
                  <a:lnTo>
                    <a:pt x="1710" y="696"/>
                  </a:lnTo>
                  <a:lnTo>
                    <a:pt x="1715" y="696"/>
                  </a:lnTo>
                  <a:lnTo>
                    <a:pt x="1715" y="691"/>
                  </a:lnTo>
                  <a:lnTo>
                    <a:pt x="1720" y="691"/>
                  </a:lnTo>
                  <a:lnTo>
                    <a:pt x="1720" y="685"/>
                  </a:lnTo>
                  <a:lnTo>
                    <a:pt x="1724" y="685"/>
                  </a:lnTo>
                  <a:lnTo>
                    <a:pt x="1724" y="680"/>
                  </a:lnTo>
                  <a:lnTo>
                    <a:pt x="1729" y="680"/>
                  </a:lnTo>
                  <a:lnTo>
                    <a:pt x="1729" y="674"/>
                  </a:lnTo>
                  <a:lnTo>
                    <a:pt x="1734" y="674"/>
                  </a:lnTo>
                  <a:lnTo>
                    <a:pt x="1734" y="668"/>
                  </a:lnTo>
                  <a:lnTo>
                    <a:pt x="1739" y="668"/>
                  </a:lnTo>
                  <a:lnTo>
                    <a:pt x="1739" y="663"/>
                  </a:lnTo>
                  <a:lnTo>
                    <a:pt x="1743" y="663"/>
                  </a:lnTo>
                  <a:lnTo>
                    <a:pt x="1743" y="655"/>
                  </a:lnTo>
                  <a:lnTo>
                    <a:pt x="1753" y="655"/>
                  </a:lnTo>
                  <a:lnTo>
                    <a:pt x="1753" y="650"/>
                  </a:lnTo>
                  <a:lnTo>
                    <a:pt x="1757" y="650"/>
                  </a:lnTo>
                  <a:lnTo>
                    <a:pt x="1757" y="638"/>
                  </a:lnTo>
                  <a:lnTo>
                    <a:pt x="1763" y="638"/>
                  </a:lnTo>
                  <a:lnTo>
                    <a:pt x="1763" y="633"/>
                  </a:lnTo>
                  <a:lnTo>
                    <a:pt x="1768" y="633"/>
                  </a:lnTo>
                  <a:lnTo>
                    <a:pt x="1768" y="626"/>
                  </a:lnTo>
                  <a:lnTo>
                    <a:pt x="1773" y="626"/>
                  </a:lnTo>
                  <a:lnTo>
                    <a:pt x="1773" y="620"/>
                  </a:lnTo>
                  <a:lnTo>
                    <a:pt x="1777" y="620"/>
                  </a:lnTo>
                  <a:lnTo>
                    <a:pt x="1777" y="609"/>
                  </a:lnTo>
                  <a:lnTo>
                    <a:pt x="1782" y="609"/>
                  </a:lnTo>
                  <a:lnTo>
                    <a:pt x="1782" y="603"/>
                  </a:lnTo>
                  <a:lnTo>
                    <a:pt x="1787" y="603"/>
                  </a:lnTo>
                  <a:lnTo>
                    <a:pt x="1787" y="596"/>
                  </a:lnTo>
                  <a:lnTo>
                    <a:pt x="1791" y="596"/>
                  </a:lnTo>
                  <a:lnTo>
                    <a:pt x="1791" y="590"/>
                  </a:lnTo>
                  <a:lnTo>
                    <a:pt x="1801" y="590"/>
                  </a:lnTo>
                  <a:lnTo>
                    <a:pt x="1801" y="585"/>
                  </a:lnTo>
                  <a:lnTo>
                    <a:pt x="1806" y="585"/>
                  </a:lnTo>
                  <a:lnTo>
                    <a:pt x="1806" y="579"/>
                  </a:lnTo>
                  <a:lnTo>
                    <a:pt x="1811" y="579"/>
                  </a:lnTo>
                  <a:lnTo>
                    <a:pt x="1811" y="573"/>
                  </a:lnTo>
                  <a:lnTo>
                    <a:pt x="1816" y="573"/>
                  </a:lnTo>
                  <a:lnTo>
                    <a:pt x="1816" y="568"/>
                  </a:lnTo>
                  <a:lnTo>
                    <a:pt x="1820" y="568"/>
                  </a:lnTo>
                  <a:lnTo>
                    <a:pt x="1820" y="562"/>
                  </a:lnTo>
                  <a:lnTo>
                    <a:pt x="1825" y="562"/>
                  </a:lnTo>
                  <a:lnTo>
                    <a:pt x="1825" y="555"/>
                  </a:lnTo>
                  <a:lnTo>
                    <a:pt x="1830" y="555"/>
                  </a:lnTo>
                  <a:lnTo>
                    <a:pt x="1830" y="550"/>
                  </a:lnTo>
                  <a:lnTo>
                    <a:pt x="1834" y="550"/>
                  </a:lnTo>
                  <a:lnTo>
                    <a:pt x="1834" y="538"/>
                  </a:lnTo>
                  <a:lnTo>
                    <a:pt x="1840" y="538"/>
                  </a:lnTo>
                  <a:lnTo>
                    <a:pt x="1840" y="532"/>
                  </a:lnTo>
                  <a:lnTo>
                    <a:pt x="1845" y="532"/>
                  </a:lnTo>
                  <a:lnTo>
                    <a:pt x="1845" y="527"/>
                  </a:lnTo>
                  <a:lnTo>
                    <a:pt x="1850" y="527"/>
                  </a:lnTo>
                  <a:lnTo>
                    <a:pt x="1850" y="519"/>
                  </a:lnTo>
                  <a:lnTo>
                    <a:pt x="1854" y="519"/>
                  </a:lnTo>
                  <a:lnTo>
                    <a:pt x="1854" y="514"/>
                  </a:lnTo>
                  <a:lnTo>
                    <a:pt x="1860" y="514"/>
                  </a:lnTo>
                  <a:lnTo>
                    <a:pt x="1860" y="509"/>
                  </a:lnTo>
                  <a:lnTo>
                    <a:pt x="1864" y="509"/>
                  </a:lnTo>
                  <a:lnTo>
                    <a:pt x="1864" y="503"/>
                  </a:lnTo>
                  <a:lnTo>
                    <a:pt x="1868" y="503"/>
                  </a:lnTo>
                  <a:lnTo>
                    <a:pt x="1868" y="497"/>
                  </a:lnTo>
                  <a:lnTo>
                    <a:pt x="1873" y="497"/>
                  </a:lnTo>
                  <a:lnTo>
                    <a:pt x="1873" y="490"/>
                  </a:lnTo>
                  <a:lnTo>
                    <a:pt x="1878" y="490"/>
                  </a:lnTo>
                  <a:lnTo>
                    <a:pt x="1878" y="485"/>
                  </a:lnTo>
                  <a:lnTo>
                    <a:pt x="1883" y="485"/>
                  </a:lnTo>
                  <a:lnTo>
                    <a:pt x="1883" y="478"/>
                  </a:lnTo>
                  <a:lnTo>
                    <a:pt x="1887" y="478"/>
                  </a:lnTo>
                  <a:lnTo>
                    <a:pt x="1887" y="473"/>
                  </a:lnTo>
                  <a:lnTo>
                    <a:pt x="1893" y="473"/>
                  </a:lnTo>
                  <a:lnTo>
                    <a:pt x="1893" y="468"/>
                  </a:lnTo>
                  <a:lnTo>
                    <a:pt x="1897" y="468"/>
                  </a:lnTo>
                  <a:lnTo>
                    <a:pt x="1897" y="455"/>
                  </a:lnTo>
                  <a:lnTo>
                    <a:pt x="1902" y="455"/>
                  </a:lnTo>
                  <a:lnTo>
                    <a:pt x="1902" y="449"/>
                  </a:lnTo>
                  <a:lnTo>
                    <a:pt x="1907" y="449"/>
                  </a:lnTo>
                  <a:lnTo>
                    <a:pt x="1907" y="437"/>
                  </a:lnTo>
                  <a:lnTo>
                    <a:pt x="1912" y="437"/>
                  </a:lnTo>
                  <a:lnTo>
                    <a:pt x="1912" y="432"/>
                  </a:lnTo>
                  <a:lnTo>
                    <a:pt x="1917" y="432"/>
                  </a:lnTo>
                  <a:lnTo>
                    <a:pt x="1917" y="426"/>
                  </a:lnTo>
                  <a:lnTo>
                    <a:pt x="1922" y="426"/>
                  </a:lnTo>
                  <a:lnTo>
                    <a:pt x="1922" y="419"/>
                  </a:lnTo>
                  <a:lnTo>
                    <a:pt x="1931" y="419"/>
                  </a:lnTo>
                  <a:lnTo>
                    <a:pt x="1931" y="408"/>
                  </a:lnTo>
                  <a:lnTo>
                    <a:pt x="1936" y="408"/>
                  </a:lnTo>
                  <a:lnTo>
                    <a:pt x="1936" y="402"/>
                  </a:lnTo>
                  <a:lnTo>
                    <a:pt x="1941" y="402"/>
                  </a:lnTo>
                  <a:lnTo>
                    <a:pt x="1941" y="396"/>
                  </a:lnTo>
                  <a:lnTo>
                    <a:pt x="1946" y="396"/>
                  </a:lnTo>
                  <a:lnTo>
                    <a:pt x="1946" y="391"/>
                  </a:lnTo>
                  <a:lnTo>
                    <a:pt x="1955" y="391"/>
                  </a:lnTo>
                  <a:lnTo>
                    <a:pt x="1955" y="378"/>
                  </a:lnTo>
                  <a:lnTo>
                    <a:pt x="1964" y="378"/>
                  </a:lnTo>
                  <a:lnTo>
                    <a:pt x="1964" y="367"/>
                  </a:lnTo>
                  <a:lnTo>
                    <a:pt x="1969" y="367"/>
                  </a:lnTo>
                  <a:lnTo>
                    <a:pt x="1969" y="361"/>
                  </a:lnTo>
                  <a:lnTo>
                    <a:pt x="1974" y="361"/>
                  </a:lnTo>
                  <a:lnTo>
                    <a:pt x="1974" y="354"/>
                  </a:lnTo>
                  <a:lnTo>
                    <a:pt x="1978" y="354"/>
                  </a:lnTo>
                  <a:lnTo>
                    <a:pt x="1978" y="349"/>
                  </a:lnTo>
                  <a:lnTo>
                    <a:pt x="1984" y="349"/>
                  </a:lnTo>
                  <a:lnTo>
                    <a:pt x="1984" y="342"/>
                  </a:lnTo>
                  <a:lnTo>
                    <a:pt x="1989" y="342"/>
                  </a:lnTo>
                  <a:lnTo>
                    <a:pt x="1989" y="337"/>
                  </a:lnTo>
                  <a:lnTo>
                    <a:pt x="1994" y="337"/>
                  </a:lnTo>
                  <a:lnTo>
                    <a:pt x="1994" y="331"/>
                  </a:lnTo>
                  <a:lnTo>
                    <a:pt x="1998" y="331"/>
                  </a:lnTo>
                  <a:lnTo>
                    <a:pt x="1998" y="326"/>
                  </a:lnTo>
                  <a:lnTo>
                    <a:pt x="2003" y="326"/>
                  </a:lnTo>
                  <a:lnTo>
                    <a:pt x="2003" y="318"/>
                  </a:lnTo>
                  <a:lnTo>
                    <a:pt x="2008" y="318"/>
                  </a:lnTo>
                  <a:lnTo>
                    <a:pt x="2008" y="313"/>
                  </a:lnTo>
                  <a:lnTo>
                    <a:pt x="2012" y="313"/>
                  </a:lnTo>
                  <a:lnTo>
                    <a:pt x="2012" y="308"/>
                  </a:lnTo>
                  <a:lnTo>
                    <a:pt x="2017" y="308"/>
                  </a:lnTo>
                  <a:lnTo>
                    <a:pt x="2017" y="301"/>
                  </a:lnTo>
                  <a:lnTo>
                    <a:pt x="2022" y="301"/>
                  </a:lnTo>
                  <a:lnTo>
                    <a:pt x="2022" y="296"/>
                  </a:lnTo>
                  <a:lnTo>
                    <a:pt x="2027" y="296"/>
                  </a:lnTo>
                  <a:lnTo>
                    <a:pt x="2027" y="290"/>
                  </a:lnTo>
                  <a:lnTo>
                    <a:pt x="2031" y="290"/>
                  </a:lnTo>
                  <a:lnTo>
                    <a:pt x="2031" y="283"/>
                  </a:lnTo>
                  <a:lnTo>
                    <a:pt x="2037" y="283"/>
                  </a:lnTo>
                  <a:lnTo>
                    <a:pt x="2037" y="277"/>
                  </a:lnTo>
                  <a:lnTo>
                    <a:pt x="2041" y="277"/>
                  </a:lnTo>
                  <a:lnTo>
                    <a:pt x="2041" y="272"/>
                  </a:lnTo>
                  <a:lnTo>
                    <a:pt x="2045" y="272"/>
                  </a:lnTo>
                  <a:lnTo>
                    <a:pt x="2045" y="266"/>
                  </a:lnTo>
                  <a:lnTo>
                    <a:pt x="2051" y="266"/>
                  </a:lnTo>
                  <a:lnTo>
                    <a:pt x="2051" y="255"/>
                  </a:lnTo>
                  <a:lnTo>
                    <a:pt x="2055" y="255"/>
                  </a:lnTo>
                  <a:lnTo>
                    <a:pt x="2055" y="248"/>
                  </a:lnTo>
                  <a:lnTo>
                    <a:pt x="2061" y="248"/>
                  </a:lnTo>
                  <a:lnTo>
                    <a:pt x="2061" y="242"/>
                  </a:lnTo>
                  <a:lnTo>
                    <a:pt x="2066" y="242"/>
                  </a:lnTo>
                  <a:lnTo>
                    <a:pt x="2066" y="236"/>
                  </a:lnTo>
                  <a:lnTo>
                    <a:pt x="2071" y="236"/>
                  </a:lnTo>
                  <a:lnTo>
                    <a:pt x="2071" y="223"/>
                  </a:lnTo>
                  <a:lnTo>
                    <a:pt x="2075" y="223"/>
                  </a:lnTo>
                  <a:lnTo>
                    <a:pt x="2075" y="218"/>
                  </a:lnTo>
                  <a:lnTo>
                    <a:pt x="2080" y="218"/>
                  </a:lnTo>
                  <a:lnTo>
                    <a:pt x="2080" y="213"/>
                  </a:lnTo>
                  <a:lnTo>
                    <a:pt x="2085" y="213"/>
                  </a:lnTo>
                  <a:lnTo>
                    <a:pt x="2085" y="201"/>
                  </a:lnTo>
                  <a:lnTo>
                    <a:pt x="2094" y="201"/>
                  </a:lnTo>
                  <a:lnTo>
                    <a:pt x="2094" y="195"/>
                  </a:lnTo>
                  <a:lnTo>
                    <a:pt x="2099" y="195"/>
                  </a:lnTo>
                  <a:lnTo>
                    <a:pt x="2099" y="190"/>
                  </a:lnTo>
                  <a:lnTo>
                    <a:pt x="2104" y="190"/>
                  </a:lnTo>
                  <a:lnTo>
                    <a:pt x="2104" y="182"/>
                  </a:lnTo>
                  <a:lnTo>
                    <a:pt x="2108" y="182"/>
                  </a:lnTo>
                  <a:lnTo>
                    <a:pt x="2108" y="177"/>
                  </a:lnTo>
                  <a:lnTo>
                    <a:pt x="2113" y="177"/>
                  </a:lnTo>
                  <a:lnTo>
                    <a:pt x="2113" y="171"/>
                  </a:lnTo>
                  <a:lnTo>
                    <a:pt x="2118" y="171"/>
                  </a:lnTo>
                  <a:lnTo>
                    <a:pt x="2118" y="165"/>
                  </a:lnTo>
                  <a:lnTo>
                    <a:pt x="2122" y="165"/>
                  </a:lnTo>
                  <a:lnTo>
                    <a:pt x="2122" y="160"/>
                  </a:lnTo>
                  <a:lnTo>
                    <a:pt x="2127" y="160"/>
                  </a:lnTo>
                  <a:lnTo>
                    <a:pt x="2127" y="153"/>
                  </a:lnTo>
                  <a:lnTo>
                    <a:pt x="2133" y="153"/>
                  </a:lnTo>
                  <a:lnTo>
                    <a:pt x="2133" y="142"/>
                  </a:lnTo>
                  <a:lnTo>
                    <a:pt x="2138" y="142"/>
                  </a:lnTo>
                  <a:lnTo>
                    <a:pt x="2138" y="136"/>
                  </a:lnTo>
                  <a:lnTo>
                    <a:pt x="2142" y="136"/>
                  </a:lnTo>
                  <a:lnTo>
                    <a:pt x="2142" y="131"/>
                  </a:lnTo>
                  <a:lnTo>
                    <a:pt x="2148" y="131"/>
                  </a:lnTo>
                  <a:lnTo>
                    <a:pt x="2148" y="124"/>
                  </a:lnTo>
                  <a:lnTo>
                    <a:pt x="2152" y="124"/>
                  </a:lnTo>
                  <a:lnTo>
                    <a:pt x="2152" y="119"/>
                  </a:lnTo>
                  <a:lnTo>
                    <a:pt x="2157" y="119"/>
                  </a:lnTo>
                  <a:lnTo>
                    <a:pt x="2157" y="112"/>
                  </a:lnTo>
                  <a:lnTo>
                    <a:pt x="2161" y="112"/>
                  </a:lnTo>
                  <a:lnTo>
                    <a:pt x="2161" y="106"/>
                  </a:lnTo>
                  <a:lnTo>
                    <a:pt x="2166" y="106"/>
                  </a:lnTo>
                  <a:lnTo>
                    <a:pt x="2166" y="101"/>
                  </a:lnTo>
                  <a:lnTo>
                    <a:pt x="2175" y="101"/>
                  </a:lnTo>
                  <a:lnTo>
                    <a:pt x="2175" y="95"/>
                  </a:lnTo>
                  <a:lnTo>
                    <a:pt x="2181" y="95"/>
                  </a:lnTo>
                  <a:lnTo>
                    <a:pt x="2181" y="89"/>
                  </a:lnTo>
                  <a:lnTo>
                    <a:pt x="2185" y="89"/>
                  </a:lnTo>
                  <a:lnTo>
                    <a:pt x="2185" y="82"/>
                  </a:lnTo>
                  <a:lnTo>
                    <a:pt x="2190" y="82"/>
                  </a:lnTo>
                  <a:lnTo>
                    <a:pt x="2190" y="71"/>
                  </a:lnTo>
                  <a:lnTo>
                    <a:pt x="2195" y="71"/>
                  </a:lnTo>
                  <a:lnTo>
                    <a:pt x="2195" y="65"/>
                  </a:lnTo>
                  <a:lnTo>
                    <a:pt x="2205" y="65"/>
                  </a:lnTo>
                  <a:lnTo>
                    <a:pt x="2205" y="54"/>
                  </a:lnTo>
                  <a:lnTo>
                    <a:pt x="2210" y="54"/>
                  </a:lnTo>
                  <a:lnTo>
                    <a:pt x="2210" y="47"/>
                  </a:lnTo>
                  <a:lnTo>
                    <a:pt x="2219" y="47"/>
                  </a:lnTo>
                  <a:lnTo>
                    <a:pt x="2219" y="41"/>
                  </a:lnTo>
                  <a:lnTo>
                    <a:pt x="2224" y="41"/>
                  </a:lnTo>
                  <a:lnTo>
                    <a:pt x="2224" y="36"/>
                  </a:lnTo>
                  <a:lnTo>
                    <a:pt x="2229" y="36"/>
                  </a:lnTo>
                  <a:lnTo>
                    <a:pt x="2229" y="30"/>
                  </a:lnTo>
                  <a:lnTo>
                    <a:pt x="2234" y="30"/>
                  </a:lnTo>
                  <a:lnTo>
                    <a:pt x="2234" y="24"/>
                  </a:lnTo>
                  <a:lnTo>
                    <a:pt x="2238" y="24"/>
                  </a:lnTo>
                  <a:lnTo>
                    <a:pt x="2238" y="17"/>
                  </a:lnTo>
                  <a:lnTo>
                    <a:pt x="2244" y="17"/>
                  </a:lnTo>
                  <a:lnTo>
                    <a:pt x="2244" y="5"/>
                  </a:lnTo>
                  <a:lnTo>
                    <a:pt x="2262" y="5"/>
                  </a:lnTo>
                  <a:lnTo>
                    <a:pt x="2262" y="0"/>
                  </a:lnTo>
                  <a:lnTo>
                    <a:pt x="2278" y="0"/>
                  </a:lnTo>
                  <a:lnTo>
                    <a:pt x="2278" y="5"/>
                  </a:lnTo>
                  <a:lnTo>
                    <a:pt x="2282" y="5"/>
                  </a:lnTo>
                  <a:lnTo>
                    <a:pt x="2282" y="12"/>
                  </a:lnTo>
                  <a:lnTo>
                    <a:pt x="2287" y="12"/>
                  </a:lnTo>
                  <a:lnTo>
                    <a:pt x="2287" y="17"/>
                  </a:lnTo>
                  <a:lnTo>
                    <a:pt x="2292" y="17"/>
                  </a:lnTo>
                  <a:lnTo>
                    <a:pt x="2292" y="36"/>
                  </a:lnTo>
                  <a:lnTo>
                    <a:pt x="2287" y="36"/>
                  </a:lnTo>
                  <a:lnTo>
                    <a:pt x="2287" y="47"/>
                  </a:lnTo>
                  <a:lnTo>
                    <a:pt x="2282" y="47"/>
                  </a:lnTo>
                  <a:lnTo>
                    <a:pt x="2282" y="54"/>
                  </a:lnTo>
                  <a:lnTo>
                    <a:pt x="2267" y="54"/>
                  </a:lnTo>
                  <a:lnTo>
                    <a:pt x="2267" y="59"/>
                  </a:lnTo>
                  <a:lnTo>
                    <a:pt x="2262" y="59"/>
                  </a:lnTo>
                  <a:lnTo>
                    <a:pt x="2262" y="65"/>
                  </a:lnTo>
                  <a:lnTo>
                    <a:pt x="2257" y="65"/>
                  </a:lnTo>
                  <a:lnTo>
                    <a:pt x="2257" y="71"/>
                  </a:lnTo>
                  <a:lnTo>
                    <a:pt x="2252" y="71"/>
                  </a:lnTo>
                  <a:lnTo>
                    <a:pt x="2252" y="82"/>
                  </a:lnTo>
                  <a:lnTo>
                    <a:pt x="2248" y="82"/>
                  </a:lnTo>
                  <a:lnTo>
                    <a:pt x="2248" y="89"/>
                  </a:lnTo>
                  <a:lnTo>
                    <a:pt x="2244" y="89"/>
                  </a:lnTo>
                  <a:lnTo>
                    <a:pt x="2244" y="101"/>
                  </a:lnTo>
                  <a:lnTo>
                    <a:pt x="2238" y="101"/>
                  </a:lnTo>
                  <a:lnTo>
                    <a:pt x="2238" y="106"/>
                  </a:lnTo>
                  <a:lnTo>
                    <a:pt x="2234" y="106"/>
                  </a:lnTo>
                  <a:lnTo>
                    <a:pt x="2234" y="112"/>
                  </a:lnTo>
                  <a:lnTo>
                    <a:pt x="2229" y="112"/>
                  </a:lnTo>
                  <a:lnTo>
                    <a:pt x="2229" y="119"/>
                  </a:lnTo>
                  <a:lnTo>
                    <a:pt x="2224" y="119"/>
                  </a:lnTo>
                  <a:lnTo>
                    <a:pt x="2224" y="124"/>
                  </a:lnTo>
                  <a:lnTo>
                    <a:pt x="2219" y="124"/>
                  </a:lnTo>
                  <a:lnTo>
                    <a:pt x="2219" y="136"/>
                  </a:lnTo>
                  <a:lnTo>
                    <a:pt x="2215" y="136"/>
                  </a:lnTo>
                  <a:lnTo>
                    <a:pt x="2215" y="142"/>
                  </a:lnTo>
                  <a:lnTo>
                    <a:pt x="2210" y="142"/>
                  </a:lnTo>
                  <a:lnTo>
                    <a:pt x="2210" y="147"/>
                  </a:lnTo>
                  <a:lnTo>
                    <a:pt x="2205" y="147"/>
                  </a:lnTo>
                  <a:lnTo>
                    <a:pt x="2205" y="153"/>
                  </a:lnTo>
                  <a:lnTo>
                    <a:pt x="2201" y="153"/>
                  </a:lnTo>
                  <a:lnTo>
                    <a:pt x="2201" y="160"/>
                  </a:lnTo>
                  <a:lnTo>
                    <a:pt x="2190" y="160"/>
                  </a:lnTo>
                  <a:lnTo>
                    <a:pt x="2190" y="165"/>
                  </a:lnTo>
                  <a:lnTo>
                    <a:pt x="2185" y="165"/>
                  </a:lnTo>
                  <a:lnTo>
                    <a:pt x="2185" y="171"/>
                  </a:lnTo>
                  <a:lnTo>
                    <a:pt x="2181" y="171"/>
                  </a:lnTo>
                  <a:lnTo>
                    <a:pt x="2181" y="182"/>
                  </a:lnTo>
                  <a:lnTo>
                    <a:pt x="2175" y="182"/>
                  </a:lnTo>
                  <a:lnTo>
                    <a:pt x="2175" y="190"/>
                  </a:lnTo>
                  <a:lnTo>
                    <a:pt x="2171" y="190"/>
                  </a:lnTo>
                  <a:lnTo>
                    <a:pt x="2171" y="195"/>
                  </a:lnTo>
                  <a:lnTo>
                    <a:pt x="2161" y="195"/>
                  </a:lnTo>
                  <a:lnTo>
                    <a:pt x="2161" y="201"/>
                  </a:lnTo>
                  <a:lnTo>
                    <a:pt x="2152" y="201"/>
                  </a:lnTo>
                  <a:lnTo>
                    <a:pt x="2152" y="213"/>
                  </a:lnTo>
                  <a:lnTo>
                    <a:pt x="2148" y="213"/>
                  </a:lnTo>
                  <a:lnTo>
                    <a:pt x="2148" y="218"/>
                  </a:lnTo>
                  <a:lnTo>
                    <a:pt x="2142" y="218"/>
                  </a:lnTo>
                  <a:lnTo>
                    <a:pt x="2142" y="223"/>
                  </a:lnTo>
                  <a:lnTo>
                    <a:pt x="2138" y="223"/>
                  </a:lnTo>
                  <a:lnTo>
                    <a:pt x="2138" y="236"/>
                  </a:lnTo>
                  <a:lnTo>
                    <a:pt x="2133" y="236"/>
                  </a:lnTo>
                  <a:lnTo>
                    <a:pt x="2133" y="242"/>
                  </a:lnTo>
                  <a:lnTo>
                    <a:pt x="2127" y="242"/>
                  </a:lnTo>
                  <a:lnTo>
                    <a:pt x="2127" y="248"/>
                  </a:lnTo>
                  <a:lnTo>
                    <a:pt x="2122" y="248"/>
                  </a:lnTo>
                  <a:lnTo>
                    <a:pt x="2122" y="260"/>
                  </a:lnTo>
                  <a:lnTo>
                    <a:pt x="2118" y="260"/>
                  </a:lnTo>
                  <a:lnTo>
                    <a:pt x="2118" y="266"/>
                  </a:lnTo>
                  <a:lnTo>
                    <a:pt x="2113" y="266"/>
                  </a:lnTo>
                  <a:lnTo>
                    <a:pt x="2113" y="272"/>
                  </a:lnTo>
                  <a:lnTo>
                    <a:pt x="2108" y="272"/>
                  </a:lnTo>
                  <a:lnTo>
                    <a:pt x="2108" y="277"/>
                  </a:lnTo>
                  <a:lnTo>
                    <a:pt x="2104" y="277"/>
                  </a:lnTo>
                  <a:lnTo>
                    <a:pt x="2104" y="283"/>
                  </a:lnTo>
                  <a:lnTo>
                    <a:pt x="2099" y="283"/>
                  </a:lnTo>
                  <a:lnTo>
                    <a:pt x="2099" y="290"/>
                  </a:lnTo>
                  <a:lnTo>
                    <a:pt x="2094" y="290"/>
                  </a:lnTo>
                  <a:lnTo>
                    <a:pt x="2094" y="296"/>
                  </a:lnTo>
                  <a:lnTo>
                    <a:pt x="2089" y="296"/>
                  </a:lnTo>
                  <a:lnTo>
                    <a:pt x="2089" y="301"/>
                  </a:lnTo>
                  <a:lnTo>
                    <a:pt x="2085" y="301"/>
                  </a:lnTo>
                  <a:lnTo>
                    <a:pt x="2085" y="308"/>
                  </a:lnTo>
                  <a:lnTo>
                    <a:pt x="2080" y="308"/>
                  </a:lnTo>
                  <a:lnTo>
                    <a:pt x="2080" y="313"/>
                  </a:lnTo>
                  <a:lnTo>
                    <a:pt x="2075" y="313"/>
                  </a:lnTo>
                  <a:lnTo>
                    <a:pt x="2075" y="318"/>
                  </a:lnTo>
                  <a:lnTo>
                    <a:pt x="2071" y="318"/>
                  </a:lnTo>
                  <a:lnTo>
                    <a:pt x="2071" y="326"/>
                  </a:lnTo>
                  <a:lnTo>
                    <a:pt x="2066" y="326"/>
                  </a:lnTo>
                  <a:lnTo>
                    <a:pt x="2066" y="331"/>
                  </a:lnTo>
                  <a:lnTo>
                    <a:pt x="2061" y="331"/>
                  </a:lnTo>
                  <a:lnTo>
                    <a:pt x="2061" y="337"/>
                  </a:lnTo>
                  <a:lnTo>
                    <a:pt x="2055" y="337"/>
                  </a:lnTo>
                  <a:lnTo>
                    <a:pt x="2055" y="349"/>
                  </a:lnTo>
                  <a:lnTo>
                    <a:pt x="2045" y="349"/>
                  </a:lnTo>
                  <a:lnTo>
                    <a:pt x="2045" y="361"/>
                  </a:lnTo>
                  <a:lnTo>
                    <a:pt x="2041" y="361"/>
                  </a:lnTo>
                  <a:lnTo>
                    <a:pt x="2041" y="367"/>
                  </a:lnTo>
                  <a:lnTo>
                    <a:pt x="2037" y="367"/>
                  </a:lnTo>
                  <a:lnTo>
                    <a:pt x="2037" y="372"/>
                  </a:lnTo>
                  <a:lnTo>
                    <a:pt x="2031" y="372"/>
                  </a:lnTo>
                  <a:lnTo>
                    <a:pt x="2031" y="378"/>
                  </a:lnTo>
                  <a:lnTo>
                    <a:pt x="2027" y="378"/>
                  </a:lnTo>
                  <a:lnTo>
                    <a:pt x="2027" y="384"/>
                  </a:lnTo>
                  <a:lnTo>
                    <a:pt x="2022" y="384"/>
                  </a:lnTo>
                  <a:lnTo>
                    <a:pt x="2022" y="391"/>
                  </a:lnTo>
                  <a:lnTo>
                    <a:pt x="2017" y="391"/>
                  </a:lnTo>
                  <a:lnTo>
                    <a:pt x="2017" y="396"/>
                  </a:lnTo>
                  <a:lnTo>
                    <a:pt x="2012" y="396"/>
                  </a:lnTo>
                  <a:lnTo>
                    <a:pt x="2012" y="402"/>
                  </a:lnTo>
                  <a:lnTo>
                    <a:pt x="2008" y="402"/>
                  </a:lnTo>
                  <a:lnTo>
                    <a:pt x="2008" y="408"/>
                  </a:lnTo>
                  <a:lnTo>
                    <a:pt x="2003" y="408"/>
                  </a:lnTo>
                  <a:lnTo>
                    <a:pt x="2003" y="414"/>
                  </a:lnTo>
                  <a:lnTo>
                    <a:pt x="1998" y="414"/>
                  </a:lnTo>
                  <a:lnTo>
                    <a:pt x="1998" y="426"/>
                  </a:lnTo>
                  <a:lnTo>
                    <a:pt x="1994" y="426"/>
                  </a:lnTo>
                  <a:lnTo>
                    <a:pt x="1994" y="432"/>
                  </a:lnTo>
                  <a:lnTo>
                    <a:pt x="1989" y="432"/>
                  </a:lnTo>
                  <a:lnTo>
                    <a:pt x="1989" y="437"/>
                  </a:lnTo>
                  <a:lnTo>
                    <a:pt x="1984" y="437"/>
                  </a:lnTo>
                  <a:lnTo>
                    <a:pt x="1984" y="443"/>
                  </a:lnTo>
                  <a:lnTo>
                    <a:pt x="1978" y="443"/>
                  </a:lnTo>
                  <a:lnTo>
                    <a:pt x="1978" y="449"/>
                  </a:lnTo>
                  <a:lnTo>
                    <a:pt x="1974" y="449"/>
                  </a:lnTo>
                  <a:lnTo>
                    <a:pt x="1974" y="455"/>
                  </a:lnTo>
                  <a:lnTo>
                    <a:pt x="1969" y="455"/>
                  </a:lnTo>
                  <a:lnTo>
                    <a:pt x="1969" y="468"/>
                  </a:lnTo>
                  <a:lnTo>
                    <a:pt x="1964" y="468"/>
                  </a:lnTo>
                  <a:lnTo>
                    <a:pt x="1964" y="473"/>
                  </a:lnTo>
                  <a:lnTo>
                    <a:pt x="1959" y="473"/>
                  </a:lnTo>
                  <a:lnTo>
                    <a:pt x="1959" y="478"/>
                  </a:lnTo>
                  <a:lnTo>
                    <a:pt x="1955" y="478"/>
                  </a:lnTo>
                  <a:lnTo>
                    <a:pt x="1955" y="485"/>
                  </a:lnTo>
                  <a:lnTo>
                    <a:pt x="1946" y="485"/>
                  </a:lnTo>
                  <a:lnTo>
                    <a:pt x="1946" y="490"/>
                  </a:lnTo>
                  <a:lnTo>
                    <a:pt x="1941" y="490"/>
                  </a:lnTo>
                  <a:lnTo>
                    <a:pt x="1941" y="497"/>
                  </a:lnTo>
                  <a:lnTo>
                    <a:pt x="1936" y="497"/>
                  </a:lnTo>
                  <a:lnTo>
                    <a:pt x="1936" y="503"/>
                  </a:lnTo>
                  <a:lnTo>
                    <a:pt x="1931" y="503"/>
                  </a:lnTo>
                  <a:lnTo>
                    <a:pt x="1931" y="509"/>
                  </a:lnTo>
                  <a:lnTo>
                    <a:pt x="1927" y="509"/>
                  </a:lnTo>
                  <a:lnTo>
                    <a:pt x="1927" y="514"/>
                  </a:lnTo>
                  <a:lnTo>
                    <a:pt x="1922" y="514"/>
                  </a:lnTo>
                  <a:lnTo>
                    <a:pt x="1922" y="519"/>
                  </a:lnTo>
                  <a:lnTo>
                    <a:pt x="1917" y="519"/>
                  </a:lnTo>
                  <a:lnTo>
                    <a:pt x="1917" y="527"/>
                  </a:lnTo>
                  <a:lnTo>
                    <a:pt x="1912" y="527"/>
                  </a:lnTo>
                  <a:lnTo>
                    <a:pt x="1912" y="532"/>
                  </a:lnTo>
                  <a:lnTo>
                    <a:pt x="1907" y="532"/>
                  </a:lnTo>
                  <a:lnTo>
                    <a:pt x="1907" y="538"/>
                  </a:lnTo>
                  <a:lnTo>
                    <a:pt x="1902" y="538"/>
                  </a:lnTo>
                  <a:lnTo>
                    <a:pt x="1902" y="544"/>
                  </a:lnTo>
                  <a:lnTo>
                    <a:pt x="1897" y="544"/>
                  </a:lnTo>
                  <a:lnTo>
                    <a:pt x="1897" y="550"/>
                  </a:lnTo>
                  <a:lnTo>
                    <a:pt x="1893" y="550"/>
                  </a:lnTo>
                  <a:lnTo>
                    <a:pt x="1893" y="562"/>
                  </a:lnTo>
                  <a:lnTo>
                    <a:pt x="1887" y="562"/>
                  </a:lnTo>
                  <a:lnTo>
                    <a:pt x="1887" y="568"/>
                  </a:lnTo>
                  <a:lnTo>
                    <a:pt x="1883" y="568"/>
                  </a:lnTo>
                  <a:lnTo>
                    <a:pt x="1883" y="573"/>
                  </a:lnTo>
                  <a:lnTo>
                    <a:pt x="1878" y="573"/>
                  </a:lnTo>
                  <a:lnTo>
                    <a:pt x="1878" y="579"/>
                  </a:lnTo>
                  <a:lnTo>
                    <a:pt x="1873" y="579"/>
                  </a:lnTo>
                  <a:lnTo>
                    <a:pt x="1873" y="585"/>
                  </a:lnTo>
                  <a:lnTo>
                    <a:pt x="1868" y="585"/>
                  </a:lnTo>
                  <a:lnTo>
                    <a:pt x="1868" y="590"/>
                  </a:lnTo>
                  <a:lnTo>
                    <a:pt x="1864" y="590"/>
                  </a:lnTo>
                  <a:lnTo>
                    <a:pt x="1864" y="603"/>
                  </a:lnTo>
                  <a:lnTo>
                    <a:pt x="1860" y="603"/>
                  </a:lnTo>
                  <a:lnTo>
                    <a:pt x="1860" y="609"/>
                  </a:lnTo>
                  <a:lnTo>
                    <a:pt x="1854" y="609"/>
                  </a:lnTo>
                  <a:lnTo>
                    <a:pt x="1854" y="614"/>
                  </a:lnTo>
                  <a:lnTo>
                    <a:pt x="1850" y="614"/>
                  </a:lnTo>
                  <a:lnTo>
                    <a:pt x="1850" y="620"/>
                  </a:lnTo>
                  <a:lnTo>
                    <a:pt x="1845" y="620"/>
                  </a:lnTo>
                  <a:lnTo>
                    <a:pt x="1845" y="626"/>
                  </a:lnTo>
                  <a:lnTo>
                    <a:pt x="1840" y="626"/>
                  </a:lnTo>
                  <a:lnTo>
                    <a:pt x="1840" y="638"/>
                  </a:lnTo>
                  <a:lnTo>
                    <a:pt x="1830" y="638"/>
                  </a:lnTo>
                  <a:lnTo>
                    <a:pt x="1830" y="650"/>
                  </a:lnTo>
                  <a:lnTo>
                    <a:pt x="1820" y="650"/>
                  </a:lnTo>
                  <a:lnTo>
                    <a:pt x="1820" y="655"/>
                  </a:lnTo>
                  <a:lnTo>
                    <a:pt x="1816" y="655"/>
                  </a:lnTo>
                  <a:lnTo>
                    <a:pt x="1816" y="663"/>
                  </a:lnTo>
                  <a:lnTo>
                    <a:pt x="1811" y="663"/>
                  </a:lnTo>
                  <a:lnTo>
                    <a:pt x="1811" y="668"/>
                  </a:lnTo>
                  <a:lnTo>
                    <a:pt x="1806" y="668"/>
                  </a:lnTo>
                  <a:lnTo>
                    <a:pt x="1806" y="674"/>
                  </a:lnTo>
                  <a:lnTo>
                    <a:pt x="1801" y="674"/>
                  </a:lnTo>
                  <a:lnTo>
                    <a:pt x="1801" y="680"/>
                  </a:lnTo>
                  <a:lnTo>
                    <a:pt x="1797" y="680"/>
                  </a:lnTo>
                  <a:lnTo>
                    <a:pt x="1797" y="685"/>
                  </a:lnTo>
                  <a:lnTo>
                    <a:pt x="1791" y="685"/>
                  </a:lnTo>
                  <a:lnTo>
                    <a:pt x="1791" y="691"/>
                  </a:lnTo>
                  <a:lnTo>
                    <a:pt x="1782" y="691"/>
                  </a:lnTo>
                  <a:lnTo>
                    <a:pt x="1782" y="696"/>
                  </a:lnTo>
                  <a:lnTo>
                    <a:pt x="1777" y="696"/>
                  </a:lnTo>
                  <a:lnTo>
                    <a:pt x="1777" y="704"/>
                  </a:lnTo>
                  <a:lnTo>
                    <a:pt x="1773" y="704"/>
                  </a:lnTo>
                  <a:lnTo>
                    <a:pt x="1773" y="709"/>
                  </a:lnTo>
                  <a:lnTo>
                    <a:pt x="1768" y="709"/>
                  </a:lnTo>
                  <a:lnTo>
                    <a:pt x="1768" y="715"/>
                  </a:lnTo>
                  <a:lnTo>
                    <a:pt x="1763" y="715"/>
                  </a:lnTo>
                  <a:lnTo>
                    <a:pt x="1763" y="721"/>
                  </a:lnTo>
                  <a:lnTo>
                    <a:pt x="1757" y="721"/>
                  </a:lnTo>
                  <a:lnTo>
                    <a:pt x="1757" y="732"/>
                  </a:lnTo>
                  <a:lnTo>
                    <a:pt x="1748" y="732"/>
                  </a:lnTo>
                  <a:lnTo>
                    <a:pt x="1748" y="739"/>
                  </a:lnTo>
                  <a:lnTo>
                    <a:pt x="1743" y="739"/>
                  </a:lnTo>
                  <a:lnTo>
                    <a:pt x="1743" y="745"/>
                  </a:lnTo>
                  <a:lnTo>
                    <a:pt x="1739" y="745"/>
                  </a:lnTo>
                  <a:lnTo>
                    <a:pt x="1739" y="750"/>
                  </a:lnTo>
                  <a:lnTo>
                    <a:pt x="1734" y="750"/>
                  </a:lnTo>
                  <a:lnTo>
                    <a:pt x="1734" y="756"/>
                  </a:lnTo>
                  <a:lnTo>
                    <a:pt x="1729" y="756"/>
                  </a:lnTo>
                  <a:lnTo>
                    <a:pt x="1729" y="762"/>
                  </a:lnTo>
                  <a:lnTo>
                    <a:pt x="1724" y="762"/>
                  </a:lnTo>
                  <a:lnTo>
                    <a:pt x="1724" y="769"/>
                  </a:lnTo>
                  <a:lnTo>
                    <a:pt x="1720" y="769"/>
                  </a:lnTo>
                  <a:lnTo>
                    <a:pt x="1720" y="774"/>
                  </a:lnTo>
                  <a:lnTo>
                    <a:pt x="1715" y="774"/>
                  </a:lnTo>
                  <a:lnTo>
                    <a:pt x="1715" y="781"/>
                  </a:lnTo>
                  <a:lnTo>
                    <a:pt x="1710" y="781"/>
                  </a:lnTo>
                  <a:lnTo>
                    <a:pt x="1710" y="786"/>
                  </a:lnTo>
                  <a:lnTo>
                    <a:pt x="1705" y="786"/>
                  </a:lnTo>
                  <a:lnTo>
                    <a:pt x="1705" y="791"/>
                  </a:lnTo>
                  <a:lnTo>
                    <a:pt x="1701" y="791"/>
                  </a:lnTo>
                  <a:lnTo>
                    <a:pt x="1701" y="799"/>
                  </a:lnTo>
                  <a:lnTo>
                    <a:pt x="1696" y="799"/>
                  </a:lnTo>
                  <a:lnTo>
                    <a:pt x="1696" y="804"/>
                  </a:lnTo>
                  <a:lnTo>
                    <a:pt x="1690" y="804"/>
                  </a:lnTo>
                  <a:lnTo>
                    <a:pt x="1690" y="810"/>
                  </a:lnTo>
                  <a:lnTo>
                    <a:pt x="1686" y="810"/>
                  </a:lnTo>
                  <a:lnTo>
                    <a:pt x="1686" y="815"/>
                  </a:lnTo>
                  <a:lnTo>
                    <a:pt x="1681" y="815"/>
                  </a:lnTo>
                  <a:lnTo>
                    <a:pt x="1681" y="822"/>
                  </a:lnTo>
                  <a:lnTo>
                    <a:pt x="1676" y="822"/>
                  </a:lnTo>
                  <a:lnTo>
                    <a:pt x="1676" y="834"/>
                  </a:lnTo>
                  <a:lnTo>
                    <a:pt x="1671" y="834"/>
                  </a:lnTo>
                  <a:lnTo>
                    <a:pt x="1671" y="840"/>
                  </a:lnTo>
                  <a:lnTo>
                    <a:pt x="1667" y="840"/>
                  </a:lnTo>
                  <a:lnTo>
                    <a:pt x="1667" y="845"/>
                  </a:lnTo>
                  <a:lnTo>
                    <a:pt x="1661" y="845"/>
                  </a:lnTo>
                  <a:lnTo>
                    <a:pt x="1661" y="851"/>
                  </a:lnTo>
                  <a:lnTo>
                    <a:pt x="1657" y="851"/>
                  </a:lnTo>
                  <a:lnTo>
                    <a:pt x="1657" y="857"/>
                  </a:lnTo>
                  <a:lnTo>
                    <a:pt x="1653" y="857"/>
                  </a:lnTo>
                  <a:lnTo>
                    <a:pt x="1653" y="864"/>
                  </a:lnTo>
                  <a:lnTo>
                    <a:pt x="1647" y="864"/>
                  </a:lnTo>
                  <a:lnTo>
                    <a:pt x="1647" y="869"/>
                  </a:lnTo>
                  <a:lnTo>
                    <a:pt x="1643" y="869"/>
                  </a:lnTo>
                  <a:lnTo>
                    <a:pt x="1643" y="875"/>
                  </a:lnTo>
                  <a:lnTo>
                    <a:pt x="1638" y="875"/>
                  </a:lnTo>
                  <a:lnTo>
                    <a:pt x="1638" y="881"/>
                  </a:lnTo>
                  <a:lnTo>
                    <a:pt x="1633" y="881"/>
                  </a:lnTo>
                  <a:lnTo>
                    <a:pt x="1633" y="887"/>
                  </a:lnTo>
                  <a:lnTo>
                    <a:pt x="1628" y="887"/>
                  </a:lnTo>
                  <a:lnTo>
                    <a:pt x="1628" y="892"/>
                  </a:lnTo>
                  <a:lnTo>
                    <a:pt x="1624" y="892"/>
                  </a:lnTo>
                  <a:lnTo>
                    <a:pt x="1624" y="898"/>
                  </a:lnTo>
                  <a:lnTo>
                    <a:pt x="1618" y="898"/>
                  </a:lnTo>
                  <a:lnTo>
                    <a:pt x="1618" y="905"/>
                  </a:lnTo>
                  <a:lnTo>
                    <a:pt x="1613" y="905"/>
                  </a:lnTo>
                  <a:lnTo>
                    <a:pt x="1613" y="910"/>
                  </a:lnTo>
                  <a:lnTo>
                    <a:pt x="1609" y="910"/>
                  </a:lnTo>
                  <a:lnTo>
                    <a:pt x="1609" y="916"/>
                  </a:lnTo>
                  <a:lnTo>
                    <a:pt x="1605" y="916"/>
                  </a:lnTo>
                  <a:lnTo>
                    <a:pt x="1605" y="922"/>
                  </a:lnTo>
                  <a:lnTo>
                    <a:pt x="1599" y="922"/>
                  </a:lnTo>
                  <a:lnTo>
                    <a:pt x="1599" y="928"/>
                  </a:lnTo>
                  <a:lnTo>
                    <a:pt x="1595" y="928"/>
                  </a:lnTo>
                  <a:lnTo>
                    <a:pt x="1595" y="933"/>
                  </a:lnTo>
                  <a:lnTo>
                    <a:pt x="1590" y="933"/>
                  </a:lnTo>
                  <a:lnTo>
                    <a:pt x="1590" y="946"/>
                  </a:lnTo>
                  <a:lnTo>
                    <a:pt x="1585" y="946"/>
                  </a:lnTo>
                  <a:lnTo>
                    <a:pt x="1585" y="951"/>
                  </a:lnTo>
                  <a:lnTo>
                    <a:pt x="1580" y="951"/>
                  </a:lnTo>
                  <a:lnTo>
                    <a:pt x="1580" y="958"/>
                  </a:lnTo>
                  <a:lnTo>
                    <a:pt x="1576" y="958"/>
                  </a:lnTo>
                  <a:lnTo>
                    <a:pt x="1576" y="963"/>
                  </a:lnTo>
                  <a:lnTo>
                    <a:pt x="1571" y="963"/>
                  </a:lnTo>
                  <a:lnTo>
                    <a:pt x="1571" y="976"/>
                  </a:lnTo>
                  <a:lnTo>
                    <a:pt x="1566" y="976"/>
                  </a:lnTo>
                  <a:lnTo>
                    <a:pt x="1566" y="982"/>
                  </a:lnTo>
                  <a:lnTo>
                    <a:pt x="1562" y="982"/>
                  </a:lnTo>
                  <a:lnTo>
                    <a:pt x="1562" y="987"/>
                  </a:lnTo>
                  <a:lnTo>
                    <a:pt x="1557" y="987"/>
                  </a:lnTo>
                  <a:lnTo>
                    <a:pt x="1557" y="992"/>
                  </a:lnTo>
                  <a:lnTo>
                    <a:pt x="1552" y="992"/>
                  </a:lnTo>
                  <a:lnTo>
                    <a:pt x="1552" y="1000"/>
                  </a:lnTo>
                  <a:lnTo>
                    <a:pt x="1546" y="1000"/>
                  </a:lnTo>
                  <a:lnTo>
                    <a:pt x="1546" y="1005"/>
                  </a:lnTo>
                  <a:lnTo>
                    <a:pt x="1542" y="1005"/>
                  </a:lnTo>
                  <a:lnTo>
                    <a:pt x="1542" y="1017"/>
                  </a:lnTo>
                  <a:lnTo>
                    <a:pt x="1537" y="1017"/>
                  </a:lnTo>
                  <a:lnTo>
                    <a:pt x="1537" y="1022"/>
                  </a:lnTo>
                  <a:lnTo>
                    <a:pt x="1527" y="1022"/>
                  </a:lnTo>
                  <a:lnTo>
                    <a:pt x="1527" y="1034"/>
                  </a:lnTo>
                  <a:lnTo>
                    <a:pt x="1523" y="1034"/>
                  </a:lnTo>
                  <a:lnTo>
                    <a:pt x="1523" y="1041"/>
                  </a:lnTo>
                  <a:lnTo>
                    <a:pt x="1518" y="1041"/>
                  </a:lnTo>
                  <a:lnTo>
                    <a:pt x="1518" y="1046"/>
                  </a:lnTo>
                  <a:lnTo>
                    <a:pt x="1509" y="1046"/>
                  </a:lnTo>
                  <a:lnTo>
                    <a:pt x="1509" y="1058"/>
                  </a:lnTo>
                  <a:lnTo>
                    <a:pt x="1503" y="1058"/>
                  </a:lnTo>
                  <a:lnTo>
                    <a:pt x="1503" y="1063"/>
                  </a:lnTo>
                  <a:lnTo>
                    <a:pt x="1499" y="1063"/>
                  </a:lnTo>
                  <a:lnTo>
                    <a:pt x="1499" y="1069"/>
                  </a:lnTo>
                  <a:lnTo>
                    <a:pt x="1494" y="1069"/>
                  </a:lnTo>
                  <a:lnTo>
                    <a:pt x="1494" y="1076"/>
                  </a:lnTo>
                  <a:lnTo>
                    <a:pt x="1489" y="1076"/>
                  </a:lnTo>
                  <a:lnTo>
                    <a:pt x="1489" y="1087"/>
                  </a:lnTo>
                  <a:lnTo>
                    <a:pt x="1484" y="1087"/>
                  </a:lnTo>
                  <a:lnTo>
                    <a:pt x="1484" y="1093"/>
                  </a:lnTo>
                  <a:lnTo>
                    <a:pt x="1480" y="1093"/>
                  </a:lnTo>
                  <a:lnTo>
                    <a:pt x="1480" y="1099"/>
                  </a:lnTo>
                  <a:lnTo>
                    <a:pt x="1475" y="1099"/>
                  </a:lnTo>
                  <a:lnTo>
                    <a:pt x="1475" y="1104"/>
                  </a:lnTo>
                  <a:lnTo>
                    <a:pt x="1469" y="1104"/>
                  </a:lnTo>
                  <a:lnTo>
                    <a:pt x="1469" y="1111"/>
                  </a:lnTo>
                  <a:lnTo>
                    <a:pt x="1465" y="1111"/>
                  </a:lnTo>
                  <a:lnTo>
                    <a:pt x="1465" y="1123"/>
                  </a:lnTo>
                  <a:lnTo>
                    <a:pt x="1460" y="1123"/>
                  </a:lnTo>
                  <a:lnTo>
                    <a:pt x="1460" y="1136"/>
                  </a:lnTo>
                  <a:lnTo>
                    <a:pt x="1455" y="1136"/>
                  </a:lnTo>
                  <a:lnTo>
                    <a:pt x="1455" y="1141"/>
                  </a:lnTo>
                  <a:lnTo>
                    <a:pt x="1450" y="1141"/>
                  </a:lnTo>
                  <a:lnTo>
                    <a:pt x="1450" y="1147"/>
                  </a:lnTo>
                  <a:lnTo>
                    <a:pt x="1446" y="1147"/>
                  </a:lnTo>
                  <a:lnTo>
                    <a:pt x="1446" y="1158"/>
                  </a:lnTo>
                  <a:lnTo>
                    <a:pt x="1441" y="1158"/>
                  </a:lnTo>
                  <a:lnTo>
                    <a:pt x="1441" y="1164"/>
                  </a:lnTo>
                  <a:lnTo>
                    <a:pt x="1436" y="1164"/>
                  </a:lnTo>
                  <a:lnTo>
                    <a:pt x="1436" y="1169"/>
                  </a:lnTo>
                  <a:lnTo>
                    <a:pt x="1432" y="1169"/>
                  </a:lnTo>
                  <a:lnTo>
                    <a:pt x="1432" y="1182"/>
                  </a:lnTo>
                  <a:lnTo>
                    <a:pt x="1427" y="1182"/>
                  </a:lnTo>
                  <a:lnTo>
                    <a:pt x="1427" y="1188"/>
                  </a:lnTo>
                  <a:lnTo>
                    <a:pt x="1422" y="1188"/>
                  </a:lnTo>
                  <a:lnTo>
                    <a:pt x="1422" y="1194"/>
                  </a:lnTo>
                  <a:lnTo>
                    <a:pt x="1417" y="1194"/>
                  </a:lnTo>
                  <a:lnTo>
                    <a:pt x="1417" y="1200"/>
                  </a:lnTo>
                  <a:lnTo>
                    <a:pt x="1413" y="1200"/>
                  </a:lnTo>
                  <a:lnTo>
                    <a:pt x="1413" y="1212"/>
                  </a:lnTo>
                  <a:lnTo>
                    <a:pt x="1407" y="1212"/>
                  </a:lnTo>
                  <a:lnTo>
                    <a:pt x="1407" y="1218"/>
                  </a:lnTo>
                  <a:lnTo>
                    <a:pt x="1402" y="1218"/>
                  </a:lnTo>
                  <a:lnTo>
                    <a:pt x="1402" y="1223"/>
                  </a:lnTo>
                  <a:lnTo>
                    <a:pt x="1398" y="1223"/>
                  </a:lnTo>
                  <a:lnTo>
                    <a:pt x="1398" y="1235"/>
                  </a:lnTo>
                  <a:lnTo>
                    <a:pt x="1392" y="1235"/>
                  </a:lnTo>
                  <a:lnTo>
                    <a:pt x="1392" y="1247"/>
                  </a:lnTo>
                  <a:lnTo>
                    <a:pt x="1388" y="1247"/>
                  </a:lnTo>
                  <a:lnTo>
                    <a:pt x="1388" y="1254"/>
                  </a:lnTo>
                  <a:lnTo>
                    <a:pt x="1383" y="1254"/>
                  </a:lnTo>
                  <a:lnTo>
                    <a:pt x="1383" y="1259"/>
                  </a:lnTo>
                  <a:lnTo>
                    <a:pt x="1379" y="1259"/>
                  </a:lnTo>
                  <a:lnTo>
                    <a:pt x="1379" y="1264"/>
                  </a:lnTo>
                  <a:lnTo>
                    <a:pt x="1373" y="1264"/>
                  </a:lnTo>
                  <a:lnTo>
                    <a:pt x="1373" y="1272"/>
                  </a:lnTo>
                  <a:lnTo>
                    <a:pt x="1369" y="1272"/>
                  </a:lnTo>
                  <a:lnTo>
                    <a:pt x="1369" y="1277"/>
                  </a:lnTo>
                  <a:lnTo>
                    <a:pt x="1364" y="1277"/>
                  </a:lnTo>
                  <a:lnTo>
                    <a:pt x="1364" y="1283"/>
                  </a:lnTo>
                  <a:lnTo>
                    <a:pt x="1359" y="1283"/>
                  </a:lnTo>
                  <a:lnTo>
                    <a:pt x="1359" y="1295"/>
                  </a:lnTo>
                  <a:lnTo>
                    <a:pt x="1355" y="1295"/>
                  </a:lnTo>
                  <a:lnTo>
                    <a:pt x="1355" y="1300"/>
                  </a:lnTo>
                  <a:lnTo>
                    <a:pt x="1345" y="1300"/>
                  </a:lnTo>
                  <a:lnTo>
                    <a:pt x="1345" y="1305"/>
                  </a:lnTo>
                  <a:lnTo>
                    <a:pt x="1340" y="1305"/>
                  </a:lnTo>
                  <a:lnTo>
                    <a:pt x="1340" y="1313"/>
                  </a:lnTo>
                  <a:lnTo>
                    <a:pt x="1336" y="1313"/>
                  </a:lnTo>
                  <a:lnTo>
                    <a:pt x="1336" y="1318"/>
                  </a:lnTo>
                  <a:lnTo>
                    <a:pt x="1325" y="1318"/>
                  </a:lnTo>
                  <a:lnTo>
                    <a:pt x="1325" y="1330"/>
                  </a:lnTo>
                  <a:lnTo>
                    <a:pt x="1320" y="1330"/>
                  </a:lnTo>
                  <a:lnTo>
                    <a:pt x="1320" y="1336"/>
                  </a:lnTo>
                  <a:lnTo>
                    <a:pt x="1316" y="1336"/>
                  </a:lnTo>
                  <a:lnTo>
                    <a:pt x="1316" y="1341"/>
                  </a:lnTo>
                  <a:lnTo>
                    <a:pt x="1311" y="1341"/>
                  </a:lnTo>
                  <a:lnTo>
                    <a:pt x="1311" y="1354"/>
                  </a:lnTo>
                  <a:lnTo>
                    <a:pt x="1306" y="1354"/>
                  </a:lnTo>
                  <a:lnTo>
                    <a:pt x="1306" y="1359"/>
                  </a:lnTo>
                  <a:lnTo>
                    <a:pt x="1302" y="1359"/>
                  </a:lnTo>
                  <a:lnTo>
                    <a:pt x="1302" y="1365"/>
                  </a:lnTo>
                  <a:lnTo>
                    <a:pt x="1297" y="1365"/>
                  </a:lnTo>
                  <a:lnTo>
                    <a:pt x="1297" y="1378"/>
                  </a:lnTo>
                  <a:lnTo>
                    <a:pt x="1292" y="1378"/>
                  </a:lnTo>
                  <a:lnTo>
                    <a:pt x="1292" y="1383"/>
                  </a:lnTo>
                  <a:lnTo>
                    <a:pt x="1287" y="1383"/>
                  </a:lnTo>
                  <a:lnTo>
                    <a:pt x="1287" y="1389"/>
                  </a:lnTo>
                  <a:lnTo>
                    <a:pt x="1283" y="1389"/>
                  </a:lnTo>
                  <a:lnTo>
                    <a:pt x="1283" y="1395"/>
                  </a:lnTo>
                  <a:lnTo>
                    <a:pt x="1277" y="1395"/>
                  </a:lnTo>
                  <a:lnTo>
                    <a:pt x="1277" y="1406"/>
                  </a:lnTo>
                  <a:lnTo>
                    <a:pt x="1273" y="1406"/>
                  </a:lnTo>
                  <a:lnTo>
                    <a:pt x="1273" y="1413"/>
                  </a:lnTo>
                  <a:lnTo>
                    <a:pt x="1269" y="1413"/>
                  </a:lnTo>
                  <a:lnTo>
                    <a:pt x="1269" y="1419"/>
                  </a:lnTo>
                  <a:lnTo>
                    <a:pt x="1264" y="1419"/>
                  </a:lnTo>
                  <a:lnTo>
                    <a:pt x="1264" y="1424"/>
                  </a:lnTo>
                  <a:lnTo>
                    <a:pt x="1258" y="1424"/>
                  </a:lnTo>
                  <a:lnTo>
                    <a:pt x="1258" y="1436"/>
                  </a:lnTo>
                  <a:lnTo>
                    <a:pt x="1254" y="1436"/>
                  </a:lnTo>
                  <a:lnTo>
                    <a:pt x="1254" y="1441"/>
                  </a:lnTo>
                  <a:lnTo>
                    <a:pt x="1248" y="1441"/>
                  </a:lnTo>
                  <a:lnTo>
                    <a:pt x="1248" y="1449"/>
                  </a:lnTo>
                  <a:lnTo>
                    <a:pt x="1244" y="1449"/>
                  </a:lnTo>
                  <a:lnTo>
                    <a:pt x="1244" y="1460"/>
                  </a:lnTo>
                  <a:lnTo>
                    <a:pt x="1239" y="1460"/>
                  </a:lnTo>
                  <a:lnTo>
                    <a:pt x="1239" y="1465"/>
                  </a:lnTo>
                  <a:lnTo>
                    <a:pt x="1235" y="1465"/>
                  </a:lnTo>
                  <a:lnTo>
                    <a:pt x="1235" y="1471"/>
                  </a:lnTo>
                  <a:lnTo>
                    <a:pt x="1229" y="1471"/>
                  </a:lnTo>
                  <a:lnTo>
                    <a:pt x="1229" y="1482"/>
                  </a:lnTo>
                  <a:lnTo>
                    <a:pt x="1225" y="1482"/>
                  </a:lnTo>
                  <a:lnTo>
                    <a:pt x="1225" y="1490"/>
                  </a:lnTo>
                  <a:lnTo>
                    <a:pt x="1221" y="1490"/>
                  </a:lnTo>
                  <a:lnTo>
                    <a:pt x="1221" y="1501"/>
                  </a:lnTo>
                  <a:lnTo>
                    <a:pt x="1215" y="1501"/>
                  </a:lnTo>
                  <a:lnTo>
                    <a:pt x="1215" y="1519"/>
                  </a:lnTo>
                  <a:lnTo>
                    <a:pt x="1211" y="1519"/>
                  </a:lnTo>
                  <a:lnTo>
                    <a:pt x="1211" y="1525"/>
                  </a:lnTo>
                  <a:lnTo>
                    <a:pt x="1206" y="1525"/>
                  </a:lnTo>
                  <a:lnTo>
                    <a:pt x="1206" y="1536"/>
                  </a:lnTo>
                  <a:lnTo>
                    <a:pt x="1196" y="1536"/>
                  </a:lnTo>
                  <a:lnTo>
                    <a:pt x="1196" y="1549"/>
                  </a:lnTo>
                  <a:lnTo>
                    <a:pt x="1192" y="1549"/>
                  </a:lnTo>
                  <a:lnTo>
                    <a:pt x="1192" y="1560"/>
                  </a:lnTo>
                  <a:lnTo>
                    <a:pt x="1181" y="1560"/>
                  </a:lnTo>
                  <a:lnTo>
                    <a:pt x="1181" y="1566"/>
                  </a:lnTo>
                  <a:lnTo>
                    <a:pt x="1172" y="1566"/>
                  </a:lnTo>
                  <a:lnTo>
                    <a:pt x="1172" y="1572"/>
                  </a:lnTo>
                  <a:lnTo>
                    <a:pt x="1162" y="1572"/>
                  </a:lnTo>
                  <a:lnTo>
                    <a:pt x="1162" y="1577"/>
                  </a:lnTo>
                  <a:lnTo>
                    <a:pt x="1153" y="1577"/>
                  </a:lnTo>
                  <a:lnTo>
                    <a:pt x="1153" y="1584"/>
                  </a:lnTo>
                  <a:lnTo>
                    <a:pt x="1143" y="1584"/>
                  </a:lnTo>
                  <a:lnTo>
                    <a:pt x="1143" y="1590"/>
                  </a:lnTo>
                  <a:lnTo>
                    <a:pt x="1134" y="1590"/>
                  </a:lnTo>
                  <a:lnTo>
                    <a:pt x="1134" y="1596"/>
                  </a:lnTo>
                  <a:lnTo>
                    <a:pt x="1125" y="1596"/>
                  </a:lnTo>
                  <a:lnTo>
                    <a:pt x="1125" y="1601"/>
                  </a:lnTo>
                  <a:lnTo>
                    <a:pt x="1119" y="1601"/>
                  </a:lnTo>
                  <a:lnTo>
                    <a:pt x="1119" y="1608"/>
                  </a:lnTo>
                  <a:lnTo>
                    <a:pt x="1115" y="1608"/>
                  </a:lnTo>
                  <a:lnTo>
                    <a:pt x="1115" y="1613"/>
                  </a:lnTo>
                  <a:lnTo>
                    <a:pt x="1109" y="1613"/>
                  </a:lnTo>
                  <a:lnTo>
                    <a:pt x="1109" y="1620"/>
                  </a:lnTo>
                  <a:lnTo>
                    <a:pt x="1104" y="1620"/>
                  </a:lnTo>
                  <a:lnTo>
                    <a:pt x="1104" y="1626"/>
                  </a:lnTo>
                  <a:lnTo>
                    <a:pt x="1099" y="1626"/>
                  </a:lnTo>
                  <a:lnTo>
                    <a:pt x="1099" y="1631"/>
                  </a:lnTo>
                  <a:lnTo>
                    <a:pt x="1095" y="1631"/>
                  </a:lnTo>
                  <a:lnTo>
                    <a:pt x="1095" y="1637"/>
                  </a:lnTo>
                  <a:lnTo>
                    <a:pt x="1081" y="1637"/>
                  </a:lnTo>
                  <a:lnTo>
                    <a:pt x="1081" y="1642"/>
                  </a:lnTo>
                  <a:lnTo>
                    <a:pt x="1076" y="1642"/>
                  </a:lnTo>
                  <a:lnTo>
                    <a:pt x="1076" y="1655"/>
                  </a:lnTo>
                  <a:lnTo>
                    <a:pt x="1066" y="1655"/>
                  </a:lnTo>
                  <a:lnTo>
                    <a:pt x="1066" y="1661"/>
                  </a:lnTo>
                  <a:lnTo>
                    <a:pt x="1062" y="1661"/>
                  </a:lnTo>
                  <a:lnTo>
                    <a:pt x="1062" y="1667"/>
                  </a:lnTo>
                  <a:lnTo>
                    <a:pt x="1057" y="1667"/>
                  </a:lnTo>
                  <a:lnTo>
                    <a:pt x="1057" y="1672"/>
                  </a:lnTo>
                  <a:lnTo>
                    <a:pt x="1052" y="1672"/>
                  </a:lnTo>
                  <a:lnTo>
                    <a:pt x="1052" y="1678"/>
                  </a:lnTo>
                  <a:lnTo>
                    <a:pt x="1048" y="1678"/>
                  </a:lnTo>
                  <a:lnTo>
                    <a:pt x="1048" y="1685"/>
                  </a:lnTo>
                  <a:lnTo>
                    <a:pt x="1043" y="1685"/>
                  </a:lnTo>
                  <a:lnTo>
                    <a:pt x="1043" y="1691"/>
                  </a:lnTo>
                  <a:lnTo>
                    <a:pt x="1032" y="1691"/>
                  </a:lnTo>
                  <a:lnTo>
                    <a:pt x="1032" y="1696"/>
                  </a:lnTo>
                  <a:lnTo>
                    <a:pt x="1028" y="1696"/>
                  </a:lnTo>
                  <a:lnTo>
                    <a:pt x="1028" y="1702"/>
                  </a:lnTo>
                  <a:lnTo>
                    <a:pt x="1022" y="1702"/>
                  </a:lnTo>
                  <a:lnTo>
                    <a:pt x="1022" y="1708"/>
                  </a:lnTo>
                  <a:lnTo>
                    <a:pt x="1014" y="1708"/>
                  </a:lnTo>
                  <a:lnTo>
                    <a:pt x="1014" y="1715"/>
                  </a:lnTo>
                  <a:lnTo>
                    <a:pt x="1008" y="1715"/>
                  </a:lnTo>
                  <a:lnTo>
                    <a:pt x="1008" y="1720"/>
                  </a:lnTo>
                  <a:lnTo>
                    <a:pt x="1004" y="1720"/>
                  </a:lnTo>
                  <a:lnTo>
                    <a:pt x="1004" y="1726"/>
                  </a:lnTo>
                  <a:lnTo>
                    <a:pt x="999" y="1726"/>
                  </a:lnTo>
                  <a:lnTo>
                    <a:pt x="999" y="1732"/>
                  </a:lnTo>
                  <a:lnTo>
                    <a:pt x="995" y="1732"/>
                  </a:lnTo>
                  <a:lnTo>
                    <a:pt x="995" y="1737"/>
                  </a:lnTo>
                  <a:lnTo>
                    <a:pt x="989" y="1737"/>
                  </a:lnTo>
                  <a:lnTo>
                    <a:pt x="989" y="1743"/>
                  </a:lnTo>
                  <a:lnTo>
                    <a:pt x="985" y="1743"/>
                  </a:lnTo>
                  <a:lnTo>
                    <a:pt x="985" y="1749"/>
                  </a:lnTo>
                  <a:lnTo>
                    <a:pt x="980" y="1749"/>
                  </a:lnTo>
                  <a:lnTo>
                    <a:pt x="980" y="1756"/>
                  </a:lnTo>
                  <a:lnTo>
                    <a:pt x="975" y="1756"/>
                  </a:lnTo>
                  <a:lnTo>
                    <a:pt x="975" y="1761"/>
                  </a:lnTo>
                  <a:lnTo>
                    <a:pt x="971" y="1761"/>
                  </a:lnTo>
                  <a:lnTo>
                    <a:pt x="971" y="1773"/>
                  </a:lnTo>
                  <a:lnTo>
                    <a:pt x="965" y="1773"/>
                  </a:lnTo>
                  <a:lnTo>
                    <a:pt x="965" y="1778"/>
                  </a:lnTo>
                  <a:lnTo>
                    <a:pt x="960" y="1778"/>
                  </a:lnTo>
                  <a:lnTo>
                    <a:pt x="960" y="1791"/>
                  </a:lnTo>
                  <a:lnTo>
                    <a:pt x="951" y="1791"/>
                  </a:lnTo>
                  <a:lnTo>
                    <a:pt x="951" y="1803"/>
                  </a:lnTo>
                  <a:lnTo>
                    <a:pt x="946" y="1803"/>
                  </a:lnTo>
                  <a:lnTo>
                    <a:pt x="946" y="1814"/>
                  </a:lnTo>
                  <a:lnTo>
                    <a:pt x="941" y="1814"/>
                  </a:lnTo>
                  <a:lnTo>
                    <a:pt x="941" y="1821"/>
                  </a:lnTo>
                  <a:lnTo>
                    <a:pt x="936" y="1821"/>
                  </a:lnTo>
                  <a:lnTo>
                    <a:pt x="936" y="1827"/>
                  </a:lnTo>
                  <a:lnTo>
                    <a:pt x="932" y="1827"/>
                  </a:lnTo>
                  <a:lnTo>
                    <a:pt x="932" y="1832"/>
                  </a:lnTo>
                  <a:lnTo>
                    <a:pt x="927" y="1832"/>
                  </a:lnTo>
                  <a:lnTo>
                    <a:pt x="927" y="1838"/>
                  </a:lnTo>
                  <a:lnTo>
                    <a:pt x="923" y="1838"/>
                  </a:lnTo>
                  <a:lnTo>
                    <a:pt x="923" y="1844"/>
                  </a:lnTo>
                  <a:lnTo>
                    <a:pt x="918" y="1844"/>
                  </a:lnTo>
                  <a:lnTo>
                    <a:pt x="918" y="1856"/>
                  </a:lnTo>
                  <a:lnTo>
                    <a:pt x="913" y="1856"/>
                  </a:lnTo>
                  <a:lnTo>
                    <a:pt x="913" y="1862"/>
                  </a:lnTo>
                  <a:lnTo>
                    <a:pt x="908" y="1862"/>
                  </a:lnTo>
                  <a:lnTo>
                    <a:pt x="908" y="1868"/>
                  </a:lnTo>
                  <a:lnTo>
                    <a:pt x="904" y="1868"/>
                  </a:lnTo>
                  <a:lnTo>
                    <a:pt x="904" y="1873"/>
                  </a:lnTo>
                  <a:lnTo>
                    <a:pt x="899" y="1873"/>
                  </a:lnTo>
                  <a:lnTo>
                    <a:pt x="899" y="1879"/>
                  </a:lnTo>
                  <a:lnTo>
                    <a:pt x="893" y="1879"/>
                  </a:lnTo>
                  <a:lnTo>
                    <a:pt x="893" y="1890"/>
                  </a:lnTo>
                  <a:lnTo>
                    <a:pt x="888" y="1890"/>
                  </a:lnTo>
                  <a:lnTo>
                    <a:pt x="888" y="1897"/>
                  </a:lnTo>
                  <a:lnTo>
                    <a:pt x="884" y="1897"/>
                  </a:lnTo>
                  <a:lnTo>
                    <a:pt x="884" y="1903"/>
                  </a:lnTo>
                  <a:lnTo>
                    <a:pt x="879" y="1903"/>
                  </a:lnTo>
                  <a:lnTo>
                    <a:pt x="879" y="1914"/>
                  </a:lnTo>
                  <a:lnTo>
                    <a:pt x="874" y="1914"/>
                  </a:lnTo>
                  <a:lnTo>
                    <a:pt x="874" y="1922"/>
                  </a:lnTo>
                  <a:lnTo>
                    <a:pt x="870" y="1922"/>
                  </a:lnTo>
                  <a:lnTo>
                    <a:pt x="870" y="1927"/>
                  </a:lnTo>
                  <a:lnTo>
                    <a:pt x="864" y="1927"/>
                  </a:lnTo>
                  <a:lnTo>
                    <a:pt x="864" y="1938"/>
                  </a:lnTo>
                  <a:lnTo>
                    <a:pt x="860" y="1938"/>
                  </a:lnTo>
                  <a:lnTo>
                    <a:pt x="860" y="1950"/>
                  </a:lnTo>
                  <a:lnTo>
                    <a:pt x="855" y="1950"/>
                  </a:lnTo>
                  <a:lnTo>
                    <a:pt x="855" y="1963"/>
                  </a:lnTo>
                  <a:lnTo>
                    <a:pt x="851" y="1963"/>
                  </a:lnTo>
                  <a:lnTo>
                    <a:pt x="851" y="1974"/>
                  </a:lnTo>
                  <a:lnTo>
                    <a:pt x="845" y="1974"/>
                  </a:lnTo>
                  <a:lnTo>
                    <a:pt x="845" y="1987"/>
                  </a:lnTo>
                  <a:lnTo>
                    <a:pt x="841" y="1987"/>
                  </a:lnTo>
                  <a:lnTo>
                    <a:pt x="841" y="1997"/>
                  </a:lnTo>
                  <a:lnTo>
                    <a:pt x="837" y="1997"/>
                  </a:lnTo>
                  <a:lnTo>
                    <a:pt x="837" y="2009"/>
                  </a:lnTo>
                  <a:lnTo>
                    <a:pt x="831" y="2009"/>
                  </a:lnTo>
                  <a:lnTo>
                    <a:pt x="831" y="2022"/>
                  </a:lnTo>
                  <a:lnTo>
                    <a:pt x="827" y="2022"/>
                  </a:lnTo>
                  <a:lnTo>
                    <a:pt x="827" y="2033"/>
                  </a:lnTo>
                  <a:lnTo>
                    <a:pt x="821" y="2033"/>
                  </a:lnTo>
                  <a:lnTo>
                    <a:pt x="821" y="2039"/>
                  </a:lnTo>
                  <a:lnTo>
                    <a:pt x="816" y="2039"/>
                  </a:lnTo>
                  <a:lnTo>
                    <a:pt x="816" y="2045"/>
                  </a:lnTo>
                  <a:lnTo>
                    <a:pt x="811" y="2045"/>
                  </a:lnTo>
                  <a:lnTo>
                    <a:pt x="811" y="2056"/>
                  </a:lnTo>
                  <a:lnTo>
                    <a:pt x="807" y="2056"/>
                  </a:lnTo>
                  <a:lnTo>
                    <a:pt x="807" y="2069"/>
                  </a:lnTo>
                  <a:lnTo>
                    <a:pt x="797" y="2069"/>
                  </a:lnTo>
                  <a:lnTo>
                    <a:pt x="797" y="2081"/>
                  </a:lnTo>
                  <a:lnTo>
                    <a:pt x="793" y="2081"/>
                  </a:lnTo>
                  <a:lnTo>
                    <a:pt x="793" y="2086"/>
                  </a:lnTo>
                  <a:lnTo>
                    <a:pt x="788" y="2086"/>
                  </a:lnTo>
                  <a:lnTo>
                    <a:pt x="788" y="2099"/>
                  </a:lnTo>
                  <a:lnTo>
                    <a:pt x="783" y="2099"/>
                  </a:lnTo>
                  <a:lnTo>
                    <a:pt x="783" y="2110"/>
                  </a:lnTo>
                  <a:lnTo>
                    <a:pt x="778" y="2110"/>
                  </a:lnTo>
                  <a:lnTo>
                    <a:pt x="778" y="2115"/>
                  </a:lnTo>
                  <a:lnTo>
                    <a:pt x="774" y="2115"/>
                  </a:lnTo>
                  <a:lnTo>
                    <a:pt x="774" y="2128"/>
                  </a:lnTo>
                  <a:lnTo>
                    <a:pt x="769" y="2128"/>
                  </a:lnTo>
                  <a:lnTo>
                    <a:pt x="769" y="2140"/>
                  </a:lnTo>
                  <a:lnTo>
                    <a:pt x="764" y="2140"/>
                  </a:lnTo>
                  <a:lnTo>
                    <a:pt x="764" y="2158"/>
                  </a:lnTo>
                  <a:lnTo>
                    <a:pt x="760" y="2158"/>
                  </a:lnTo>
                  <a:lnTo>
                    <a:pt x="760" y="2175"/>
                  </a:lnTo>
                  <a:lnTo>
                    <a:pt x="755" y="2175"/>
                  </a:lnTo>
                  <a:lnTo>
                    <a:pt x="755" y="2187"/>
                  </a:lnTo>
                  <a:lnTo>
                    <a:pt x="749" y="2187"/>
                  </a:lnTo>
                  <a:lnTo>
                    <a:pt x="749" y="2199"/>
                  </a:lnTo>
                  <a:lnTo>
                    <a:pt x="744" y="2199"/>
                  </a:lnTo>
                  <a:lnTo>
                    <a:pt x="744" y="2210"/>
                  </a:lnTo>
                  <a:lnTo>
                    <a:pt x="740" y="2210"/>
                  </a:lnTo>
                  <a:lnTo>
                    <a:pt x="740" y="2229"/>
                  </a:lnTo>
                  <a:lnTo>
                    <a:pt x="734" y="2229"/>
                  </a:lnTo>
                  <a:lnTo>
                    <a:pt x="734" y="2241"/>
                  </a:lnTo>
                  <a:lnTo>
                    <a:pt x="730" y="2241"/>
                  </a:lnTo>
                  <a:lnTo>
                    <a:pt x="730" y="2251"/>
                  </a:lnTo>
                  <a:lnTo>
                    <a:pt x="725" y="2251"/>
                  </a:lnTo>
                  <a:lnTo>
                    <a:pt x="725" y="2264"/>
                  </a:lnTo>
                  <a:lnTo>
                    <a:pt x="720" y="2264"/>
                  </a:lnTo>
                  <a:lnTo>
                    <a:pt x="720" y="2281"/>
                  </a:lnTo>
                  <a:lnTo>
                    <a:pt x="716" y="2281"/>
                  </a:lnTo>
                  <a:lnTo>
                    <a:pt x="716" y="2292"/>
                  </a:lnTo>
                  <a:lnTo>
                    <a:pt x="711" y="2292"/>
                  </a:lnTo>
                  <a:lnTo>
                    <a:pt x="711" y="2305"/>
                  </a:lnTo>
                  <a:lnTo>
                    <a:pt x="707" y="2305"/>
                  </a:lnTo>
                  <a:lnTo>
                    <a:pt x="707" y="2317"/>
                  </a:lnTo>
                  <a:lnTo>
                    <a:pt x="701" y="2317"/>
                  </a:lnTo>
                  <a:lnTo>
                    <a:pt x="701" y="2335"/>
                  </a:lnTo>
                  <a:lnTo>
                    <a:pt x="697" y="2335"/>
                  </a:lnTo>
                  <a:lnTo>
                    <a:pt x="697" y="2352"/>
                  </a:lnTo>
                  <a:lnTo>
                    <a:pt x="692" y="2352"/>
                  </a:lnTo>
                  <a:lnTo>
                    <a:pt x="692" y="2382"/>
                  </a:lnTo>
                  <a:lnTo>
                    <a:pt x="687" y="2382"/>
                  </a:lnTo>
                  <a:lnTo>
                    <a:pt x="687" y="2387"/>
                  </a:lnTo>
                  <a:lnTo>
                    <a:pt x="682" y="2387"/>
                  </a:lnTo>
                  <a:lnTo>
                    <a:pt x="682" y="2411"/>
                  </a:lnTo>
                  <a:lnTo>
                    <a:pt x="677" y="2411"/>
                  </a:lnTo>
                  <a:lnTo>
                    <a:pt x="677" y="2428"/>
                  </a:lnTo>
                  <a:lnTo>
                    <a:pt x="672" y="2428"/>
                  </a:lnTo>
                  <a:lnTo>
                    <a:pt x="672" y="2441"/>
                  </a:lnTo>
                  <a:lnTo>
                    <a:pt x="667" y="2441"/>
                  </a:lnTo>
                  <a:lnTo>
                    <a:pt x="667" y="2453"/>
                  </a:lnTo>
                  <a:lnTo>
                    <a:pt x="663" y="2453"/>
                  </a:lnTo>
                  <a:lnTo>
                    <a:pt x="663" y="2469"/>
                  </a:lnTo>
                  <a:lnTo>
                    <a:pt x="658" y="2469"/>
                  </a:lnTo>
                  <a:lnTo>
                    <a:pt x="658" y="2488"/>
                  </a:lnTo>
                  <a:lnTo>
                    <a:pt x="653" y="2488"/>
                  </a:lnTo>
                  <a:lnTo>
                    <a:pt x="653" y="2501"/>
                  </a:lnTo>
                  <a:lnTo>
                    <a:pt x="648" y="2501"/>
                  </a:lnTo>
                  <a:lnTo>
                    <a:pt x="648" y="2518"/>
                  </a:lnTo>
                  <a:lnTo>
                    <a:pt x="644" y="2518"/>
                  </a:lnTo>
                  <a:lnTo>
                    <a:pt x="644" y="2536"/>
                  </a:lnTo>
                  <a:lnTo>
                    <a:pt x="638" y="2536"/>
                  </a:lnTo>
                  <a:lnTo>
                    <a:pt x="638" y="2554"/>
                  </a:lnTo>
                  <a:lnTo>
                    <a:pt x="634" y="2554"/>
                  </a:lnTo>
                  <a:lnTo>
                    <a:pt x="634" y="2577"/>
                  </a:lnTo>
                  <a:lnTo>
                    <a:pt x="630" y="2577"/>
                  </a:lnTo>
                  <a:lnTo>
                    <a:pt x="630" y="2588"/>
                  </a:lnTo>
                  <a:lnTo>
                    <a:pt x="624" y="2588"/>
                  </a:lnTo>
                  <a:lnTo>
                    <a:pt x="624" y="2601"/>
                  </a:lnTo>
                  <a:lnTo>
                    <a:pt x="620" y="2601"/>
                  </a:lnTo>
                  <a:lnTo>
                    <a:pt x="620" y="2607"/>
                  </a:lnTo>
                  <a:lnTo>
                    <a:pt x="615" y="2607"/>
                  </a:lnTo>
                  <a:lnTo>
                    <a:pt x="615" y="2618"/>
                  </a:lnTo>
                  <a:lnTo>
                    <a:pt x="611" y="2618"/>
                  </a:lnTo>
                  <a:lnTo>
                    <a:pt x="611" y="2637"/>
                  </a:lnTo>
                  <a:lnTo>
                    <a:pt x="604" y="2637"/>
                  </a:lnTo>
                  <a:lnTo>
                    <a:pt x="604" y="2648"/>
                  </a:lnTo>
                  <a:lnTo>
                    <a:pt x="600" y="2648"/>
                  </a:lnTo>
                  <a:lnTo>
                    <a:pt x="600" y="2659"/>
                  </a:lnTo>
                  <a:lnTo>
                    <a:pt x="595" y="2659"/>
                  </a:lnTo>
                  <a:lnTo>
                    <a:pt x="595" y="2665"/>
                  </a:lnTo>
                  <a:lnTo>
                    <a:pt x="590" y="2665"/>
                  </a:lnTo>
                  <a:lnTo>
                    <a:pt x="590" y="2678"/>
                  </a:lnTo>
                  <a:lnTo>
                    <a:pt x="586" y="2678"/>
                  </a:lnTo>
                  <a:lnTo>
                    <a:pt x="586" y="2689"/>
                  </a:lnTo>
                  <a:lnTo>
                    <a:pt x="581" y="2689"/>
                  </a:lnTo>
                  <a:lnTo>
                    <a:pt x="581" y="2700"/>
                  </a:lnTo>
                  <a:lnTo>
                    <a:pt x="576" y="2700"/>
                  </a:lnTo>
                  <a:lnTo>
                    <a:pt x="576" y="2707"/>
                  </a:lnTo>
                  <a:lnTo>
                    <a:pt x="572" y="2707"/>
                  </a:lnTo>
                  <a:lnTo>
                    <a:pt x="572" y="2719"/>
                  </a:lnTo>
                  <a:lnTo>
                    <a:pt x="567" y="2719"/>
                  </a:lnTo>
                  <a:lnTo>
                    <a:pt x="567" y="2730"/>
                  </a:lnTo>
                  <a:lnTo>
                    <a:pt x="563" y="2730"/>
                  </a:lnTo>
                  <a:lnTo>
                    <a:pt x="563" y="2737"/>
                  </a:lnTo>
                  <a:lnTo>
                    <a:pt x="557" y="2737"/>
                  </a:lnTo>
                  <a:lnTo>
                    <a:pt x="557" y="2749"/>
                  </a:lnTo>
                  <a:lnTo>
                    <a:pt x="553" y="2749"/>
                  </a:lnTo>
                  <a:lnTo>
                    <a:pt x="553" y="2760"/>
                  </a:lnTo>
                  <a:lnTo>
                    <a:pt x="548" y="2760"/>
                  </a:lnTo>
                  <a:lnTo>
                    <a:pt x="548" y="2773"/>
                  </a:lnTo>
                  <a:lnTo>
                    <a:pt x="543" y="2773"/>
                  </a:lnTo>
                  <a:lnTo>
                    <a:pt x="543" y="2790"/>
                  </a:lnTo>
                  <a:lnTo>
                    <a:pt x="539" y="2790"/>
                  </a:lnTo>
                  <a:lnTo>
                    <a:pt x="539" y="2801"/>
                  </a:lnTo>
                  <a:lnTo>
                    <a:pt x="533" y="2801"/>
                  </a:lnTo>
                  <a:lnTo>
                    <a:pt x="533" y="2819"/>
                  </a:lnTo>
                  <a:lnTo>
                    <a:pt x="528" y="2819"/>
                  </a:lnTo>
                  <a:lnTo>
                    <a:pt x="528" y="2831"/>
                  </a:lnTo>
                  <a:lnTo>
                    <a:pt x="523" y="2831"/>
                  </a:lnTo>
                  <a:lnTo>
                    <a:pt x="523" y="2849"/>
                  </a:lnTo>
                  <a:lnTo>
                    <a:pt x="519" y="2849"/>
                  </a:lnTo>
                  <a:lnTo>
                    <a:pt x="519" y="2868"/>
                  </a:lnTo>
                  <a:lnTo>
                    <a:pt x="514" y="2868"/>
                  </a:lnTo>
                  <a:lnTo>
                    <a:pt x="514" y="2884"/>
                  </a:lnTo>
                  <a:lnTo>
                    <a:pt x="509" y="2884"/>
                  </a:lnTo>
                  <a:lnTo>
                    <a:pt x="509" y="2901"/>
                  </a:lnTo>
                  <a:lnTo>
                    <a:pt x="504" y="2901"/>
                  </a:lnTo>
                  <a:lnTo>
                    <a:pt x="504" y="2909"/>
                  </a:lnTo>
                  <a:lnTo>
                    <a:pt x="500" y="2909"/>
                  </a:lnTo>
                  <a:lnTo>
                    <a:pt x="500" y="2926"/>
                  </a:lnTo>
                  <a:lnTo>
                    <a:pt x="495" y="2926"/>
                  </a:lnTo>
                  <a:lnTo>
                    <a:pt x="495" y="2942"/>
                  </a:lnTo>
                  <a:lnTo>
                    <a:pt x="490" y="2942"/>
                  </a:lnTo>
                  <a:lnTo>
                    <a:pt x="490" y="2961"/>
                  </a:lnTo>
                  <a:lnTo>
                    <a:pt x="486" y="2961"/>
                  </a:lnTo>
                  <a:lnTo>
                    <a:pt x="486" y="2979"/>
                  </a:lnTo>
                  <a:lnTo>
                    <a:pt x="480" y="2979"/>
                  </a:lnTo>
                  <a:lnTo>
                    <a:pt x="480" y="2996"/>
                  </a:lnTo>
                  <a:lnTo>
                    <a:pt x="476" y="2996"/>
                  </a:lnTo>
                  <a:lnTo>
                    <a:pt x="476" y="3015"/>
                  </a:lnTo>
                  <a:lnTo>
                    <a:pt x="471" y="3015"/>
                  </a:lnTo>
                  <a:lnTo>
                    <a:pt x="471" y="3032"/>
                  </a:lnTo>
                  <a:lnTo>
                    <a:pt x="467" y="3032"/>
                  </a:lnTo>
                  <a:lnTo>
                    <a:pt x="467" y="3050"/>
                  </a:lnTo>
                  <a:lnTo>
                    <a:pt x="460" y="3050"/>
                  </a:lnTo>
                  <a:lnTo>
                    <a:pt x="460" y="3068"/>
                  </a:lnTo>
                  <a:lnTo>
                    <a:pt x="456" y="3068"/>
                  </a:lnTo>
                  <a:lnTo>
                    <a:pt x="456" y="3078"/>
                  </a:lnTo>
                  <a:lnTo>
                    <a:pt x="452" y="3078"/>
                  </a:lnTo>
                  <a:lnTo>
                    <a:pt x="452" y="3086"/>
                  </a:lnTo>
                  <a:lnTo>
                    <a:pt x="446" y="3086"/>
                  </a:lnTo>
                  <a:lnTo>
                    <a:pt x="446" y="3103"/>
                  </a:lnTo>
                  <a:lnTo>
                    <a:pt x="442" y="3103"/>
                  </a:lnTo>
                  <a:lnTo>
                    <a:pt x="442" y="3115"/>
                  </a:lnTo>
                  <a:lnTo>
                    <a:pt x="437" y="3115"/>
                  </a:lnTo>
                  <a:lnTo>
                    <a:pt x="437" y="3121"/>
                  </a:lnTo>
                  <a:lnTo>
                    <a:pt x="432" y="3121"/>
                  </a:lnTo>
                  <a:lnTo>
                    <a:pt x="432" y="3132"/>
                  </a:lnTo>
                  <a:lnTo>
                    <a:pt x="427" y="3132"/>
                  </a:lnTo>
                  <a:lnTo>
                    <a:pt x="427" y="3138"/>
                  </a:lnTo>
                  <a:lnTo>
                    <a:pt x="423" y="3138"/>
                  </a:lnTo>
                  <a:lnTo>
                    <a:pt x="423" y="3145"/>
                  </a:lnTo>
                  <a:lnTo>
                    <a:pt x="418" y="3145"/>
                  </a:lnTo>
                  <a:lnTo>
                    <a:pt x="418" y="3168"/>
                  </a:lnTo>
                  <a:lnTo>
                    <a:pt x="413" y="3168"/>
                  </a:lnTo>
                  <a:lnTo>
                    <a:pt x="413" y="3186"/>
                  </a:lnTo>
                  <a:lnTo>
                    <a:pt x="409" y="3186"/>
                  </a:lnTo>
                  <a:lnTo>
                    <a:pt x="409" y="3197"/>
                  </a:lnTo>
                  <a:lnTo>
                    <a:pt x="404" y="3197"/>
                  </a:lnTo>
                  <a:lnTo>
                    <a:pt x="404" y="3209"/>
                  </a:lnTo>
                  <a:lnTo>
                    <a:pt x="399" y="3209"/>
                  </a:lnTo>
                  <a:lnTo>
                    <a:pt x="399" y="3222"/>
                  </a:lnTo>
                  <a:lnTo>
                    <a:pt x="394" y="3222"/>
                  </a:lnTo>
                  <a:lnTo>
                    <a:pt x="394" y="3233"/>
                  </a:lnTo>
                  <a:lnTo>
                    <a:pt x="389" y="3233"/>
                  </a:lnTo>
                  <a:lnTo>
                    <a:pt x="389" y="3244"/>
                  </a:lnTo>
                  <a:lnTo>
                    <a:pt x="384" y="3244"/>
                  </a:lnTo>
                  <a:lnTo>
                    <a:pt x="384" y="3256"/>
                  </a:lnTo>
                  <a:lnTo>
                    <a:pt x="379" y="3256"/>
                  </a:lnTo>
                  <a:lnTo>
                    <a:pt x="379" y="3281"/>
                  </a:lnTo>
                  <a:lnTo>
                    <a:pt x="375" y="3281"/>
                  </a:lnTo>
                  <a:lnTo>
                    <a:pt x="375" y="3287"/>
                  </a:lnTo>
                  <a:lnTo>
                    <a:pt x="370" y="3287"/>
                  </a:lnTo>
                  <a:lnTo>
                    <a:pt x="370" y="3316"/>
                  </a:lnTo>
                  <a:lnTo>
                    <a:pt x="365" y="3316"/>
                  </a:lnTo>
                  <a:lnTo>
                    <a:pt x="365" y="3328"/>
                  </a:lnTo>
                  <a:lnTo>
                    <a:pt x="360" y="3328"/>
                  </a:lnTo>
                  <a:lnTo>
                    <a:pt x="360" y="3357"/>
                  </a:lnTo>
                  <a:lnTo>
                    <a:pt x="356" y="3357"/>
                  </a:lnTo>
                  <a:lnTo>
                    <a:pt x="356" y="3374"/>
                  </a:lnTo>
                  <a:lnTo>
                    <a:pt x="350" y="3374"/>
                  </a:lnTo>
                  <a:lnTo>
                    <a:pt x="350" y="3387"/>
                  </a:lnTo>
                  <a:lnTo>
                    <a:pt x="346" y="3387"/>
                  </a:lnTo>
                  <a:lnTo>
                    <a:pt x="346" y="3393"/>
                  </a:lnTo>
                  <a:lnTo>
                    <a:pt x="341" y="3393"/>
                  </a:lnTo>
                  <a:lnTo>
                    <a:pt x="341" y="3399"/>
                  </a:lnTo>
                  <a:lnTo>
                    <a:pt x="336" y="3399"/>
                  </a:lnTo>
                  <a:lnTo>
                    <a:pt x="336" y="3423"/>
                  </a:lnTo>
                  <a:lnTo>
                    <a:pt x="332" y="3423"/>
                  </a:lnTo>
                  <a:lnTo>
                    <a:pt x="332" y="3445"/>
                  </a:lnTo>
                  <a:lnTo>
                    <a:pt x="327" y="3445"/>
                  </a:lnTo>
                  <a:lnTo>
                    <a:pt x="327" y="3452"/>
                  </a:lnTo>
                  <a:lnTo>
                    <a:pt x="323" y="3452"/>
                  </a:lnTo>
                  <a:lnTo>
                    <a:pt x="323" y="3475"/>
                  </a:lnTo>
                  <a:lnTo>
                    <a:pt x="316" y="3475"/>
                  </a:lnTo>
                  <a:lnTo>
                    <a:pt x="316" y="3481"/>
                  </a:lnTo>
                  <a:lnTo>
                    <a:pt x="312" y="3481"/>
                  </a:lnTo>
                  <a:lnTo>
                    <a:pt x="312" y="3493"/>
                  </a:lnTo>
                  <a:lnTo>
                    <a:pt x="307" y="3493"/>
                  </a:lnTo>
                  <a:lnTo>
                    <a:pt x="307" y="3505"/>
                  </a:lnTo>
                  <a:lnTo>
                    <a:pt x="302" y="3505"/>
                  </a:lnTo>
                  <a:lnTo>
                    <a:pt x="302" y="3518"/>
                  </a:lnTo>
                  <a:lnTo>
                    <a:pt x="297" y="3518"/>
                  </a:lnTo>
                  <a:lnTo>
                    <a:pt x="297" y="3546"/>
                  </a:lnTo>
                  <a:lnTo>
                    <a:pt x="293" y="3546"/>
                  </a:lnTo>
                  <a:lnTo>
                    <a:pt x="293" y="3564"/>
                  </a:lnTo>
                  <a:lnTo>
                    <a:pt x="288" y="3564"/>
                  </a:lnTo>
                  <a:lnTo>
                    <a:pt x="288" y="3576"/>
                  </a:lnTo>
                  <a:lnTo>
                    <a:pt x="283" y="3576"/>
                  </a:lnTo>
                  <a:lnTo>
                    <a:pt x="283" y="3594"/>
                  </a:lnTo>
                  <a:lnTo>
                    <a:pt x="279" y="3594"/>
                  </a:lnTo>
                  <a:lnTo>
                    <a:pt x="279" y="3605"/>
                  </a:lnTo>
                  <a:lnTo>
                    <a:pt x="274" y="3605"/>
                  </a:lnTo>
                  <a:lnTo>
                    <a:pt x="274" y="3629"/>
                  </a:lnTo>
                  <a:lnTo>
                    <a:pt x="269" y="3629"/>
                  </a:lnTo>
                  <a:lnTo>
                    <a:pt x="269" y="3641"/>
                  </a:lnTo>
                  <a:lnTo>
                    <a:pt x="264" y="3641"/>
                  </a:lnTo>
                  <a:lnTo>
                    <a:pt x="264" y="3652"/>
                  </a:lnTo>
                  <a:lnTo>
                    <a:pt x="260" y="3652"/>
                  </a:lnTo>
                  <a:lnTo>
                    <a:pt x="260" y="3682"/>
                  </a:lnTo>
                  <a:lnTo>
                    <a:pt x="254" y="3682"/>
                  </a:lnTo>
                  <a:lnTo>
                    <a:pt x="254" y="3695"/>
                  </a:lnTo>
                  <a:lnTo>
                    <a:pt x="250" y="3695"/>
                  </a:lnTo>
                  <a:lnTo>
                    <a:pt x="250" y="3706"/>
                  </a:lnTo>
                  <a:lnTo>
                    <a:pt x="246" y="3706"/>
                  </a:lnTo>
                  <a:lnTo>
                    <a:pt x="246" y="3711"/>
                  </a:lnTo>
                  <a:lnTo>
                    <a:pt x="240" y="3711"/>
                  </a:lnTo>
                  <a:lnTo>
                    <a:pt x="240" y="3717"/>
                  </a:lnTo>
                  <a:lnTo>
                    <a:pt x="235" y="3717"/>
                  </a:lnTo>
                  <a:lnTo>
                    <a:pt x="235" y="3736"/>
                  </a:lnTo>
                  <a:lnTo>
                    <a:pt x="231" y="3736"/>
                  </a:lnTo>
                  <a:lnTo>
                    <a:pt x="231" y="3760"/>
                  </a:lnTo>
                  <a:lnTo>
                    <a:pt x="226" y="3760"/>
                  </a:lnTo>
                  <a:lnTo>
                    <a:pt x="226" y="3777"/>
                  </a:lnTo>
                  <a:lnTo>
                    <a:pt x="221" y="3777"/>
                  </a:lnTo>
                  <a:lnTo>
                    <a:pt x="221" y="3801"/>
                  </a:lnTo>
                  <a:lnTo>
                    <a:pt x="216" y="3801"/>
                  </a:lnTo>
                  <a:lnTo>
                    <a:pt x="216" y="3806"/>
                  </a:lnTo>
                  <a:lnTo>
                    <a:pt x="212" y="3806"/>
                  </a:lnTo>
                  <a:lnTo>
                    <a:pt x="212" y="3823"/>
                  </a:lnTo>
                  <a:lnTo>
                    <a:pt x="206" y="3823"/>
                  </a:lnTo>
                  <a:lnTo>
                    <a:pt x="206" y="3836"/>
                  </a:lnTo>
                  <a:lnTo>
                    <a:pt x="202" y="3836"/>
                  </a:lnTo>
                  <a:lnTo>
                    <a:pt x="202" y="3865"/>
                  </a:lnTo>
                  <a:lnTo>
                    <a:pt x="198" y="3865"/>
                  </a:lnTo>
                  <a:lnTo>
                    <a:pt x="198" y="3877"/>
                  </a:lnTo>
                  <a:lnTo>
                    <a:pt x="192" y="3877"/>
                  </a:lnTo>
                  <a:lnTo>
                    <a:pt x="192" y="3896"/>
                  </a:lnTo>
                  <a:lnTo>
                    <a:pt x="188" y="3896"/>
                  </a:lnTo>
                  <a:lnTo>
                    <a:pt x="188" y="3907"/>
                  </a:lnTo>
                  <a:lnTo>
                    <a:pt x="183" y="3907"/>
                  </a:lnTo>
                  <a:lnTo>
                    <a:pt x="183" y="3924"/>
                  </a:lnTo>
                  <a:lnTo>
                    <a:pt x="179" y="3924"/>
                  </a:lnTo>
                  <a:lnTo>
                    <a:pt x="179" y="3942"/>
                  </a:lnTo>
                  <a:lnTo>
                    <a:pt x="173" y="3942"/>
                  </a:lnTo>
                  <a:lnTo>
                    <a:pt x="173" y="3972"/>
                  </a:lnTo>
                  <a:lnTo>
                    <a:pt x="168" y="3972"/>
                  </a:lnTo>
                  <a:lnTo>
                    <a:pt x="168" y="3989"/>
                  </a:lnTo>
                  <a:lnTo>
                    <a:pt x="163" y="3989"/>
                  </a:lnTo>
                  <a:lnTo>
                    <a:pt x="163" y="4007"/>
                  </a:lnTo>
                  <a:lnTo>
                    <a:pt x="158" y="4007"/>
                  </a:lnTo>
                  <a:lnTo>
                    <a:pt x="158" y="4024"/>
                  </a:lnTo>
                  <a:lnTo>
                    <a:pt x="154" y="4024"/>
                  </a:lnTo>
                  <a:lnTo>
                    <a:pt x="154" y="4042"/>
                  </a:lnTo>
                  <a:lnTo>
                    <a:pt x="149" y="4042"/>
                  </a:lnTo>
                  <a:lnTo>
                    <a:pt x="149" y="4073"/>
                  </a:lnTo>
                  <a:lnTo>
                    <a:pt x="144" y="4073"/>
                  </a:lnTo>
                  <a:lnTo>
                    <a:pt x="144" y="4095"/>
                  </a:lnTo>
                  <a:lnTo>
                    <a:pt x="139" y="4095"/>
                  </a:lnTo>
                  <a:lnTo>
                    <a:pt x="139" y="4114"/>
                  </a:lnTo>
                  <a:lnTo>
                    <a:pt x="135" y="4114"/>
                  </a:lnTo>
                  <a:lnTo>
                    <a:pt x="135" y="4132"/>
                  </a:lnTo>
                  <a:lnTo>
                    <a:pt x="130" y="4132"/>
                  </a:lnTo>
                  <a:lnTo>
                    <a:pt x="130" y="4143"/>
                  </a:lnTo>
                  <a:lnTo>
                    <a:pt x="125" y="4143"/>
                  </a:lnTo>
                  <a:lnTo>
                    <a:pt x="125" y="4155"/>
                  </a:lnTo>
                  <a:lnTo>
                    <a:pt x="120" y="4155"/>
                  </a:lnTo>
                  <a:lnTo>
                    <a:pt x="120" y="4168"/>
                  </a:lnTo>
                  <a:lnTo>
                    <a:pt x="116" y="4168"/>
                  </a:lnTo>
                  <a:lnTo>
                    <a:pt x="116" y="4179"/>
                  </a:lnTo>
                  <a:lnTo>
                    <a:pt x="111" y="4179"/>
                  </a:lnTo>
                  <a:lnTo>
                    <a:pt x="111" y="4197"/>
                  </a:lnTo>
                  <a:lnTo>
                    <a:pt x="106" y="4197"/>
                  </a:lnTo>
                  <a:lnTo>
                    <a:pt x="106" y="4214"/>
                  </a:lnTo>
                  <a:lnTo>
                    <a:pt x="102" y="4214"/>
                  </a:lnTo>
                  <a:lnTo>
                    <a:pt x="102" y="4226"/>
                  </a:lnTo>
                  <a:lnTo>
                    <a:pt x="95" y="4226"/>
                  </a:lnTo>
                  <a:lnTo>
                    <a:pt x="95" y="4238"/>
                  </a:lnTo>
                  <a:lnTo>
                    <a:pt x="91" y="4238"/>
                  </a:lnTo>
                  <a:lnTo>
                    <a:pt x="91" y="4250"/>
                  </a:lnTo>
                  <a:lnTo>
                    <a:pt x="86" y="4250"/>
                  </a:lnTo>
                  <a:lnTo>
                    <a:pt x="86" y="4261"/>
                  </a:lnTo>
                  <a:lnTo>
                    <a:pt x="82" y="4261"/>
                  </a:lnTo>
                  <a:lnTo>
                    <a:pt x="82" y="4279"/>
                  </a:lnTo>
                  <a:lnTo>
                    <a:pt x="77" y="4279"/>
                  </a:lnTo>
                  <a:lnTo>
                    <a:pt x="77" y="4296"/>
                  </a:lnTo>
                  <a:lnTo>
                    <a:pt x="72" y="4296"/>
                  </a:lnTo>
                  <a:lnTo>
                    <a:pt x="72" y="4309"/>
                  </a:lnTo>
                  <a:lnTo>
                    <a:pt x="68" y="4309"/>
                  </a:lnTo>
                  <a:lnTo>
                    <a:pt x="68" y="4328"/>
                  </a:lnTo>
                  <a:lnTo>
                    <a:pt x="62" y="4328"/>
                  </a:lnTo>
                  <a:lnTo>
                    <a:pt x="62" y="4345"/>
                  </a:lnTo>
                  <a:lnTo>
                    <a:pt x="58" y="4345"/>
                  </a:lnTo>
                  <a:lnTo>
                    <a:pt x="58" y="4361"/>
                  </a:lnTo>
                  <a:lnTo>
                    <a:pt x="53" y="4361"/>
                  </a:lnTo>
                  <a:lnTo>
                    <a:pt x="53" y="4386"/>
                  </a:lnTo>
                  <a:lnTo>
                    <a:pt x="48" y="4386"/>
                  </a:lnTo>
                  <a:lnTo>
                    <a:pt x="48" y="4404"/>
                  </a:lnTo>
                  <a:lnTo>
                    <a:pt x="43" y="4404"/>
                  </a:lnTo>
                  <a:lnTo>
                    <a:pt x="43" y="4421"/>
                  </a:lnTo>
                  <a:lnTo>
                    <a:pt x="35" y="4421"/>
                  </a:lnTo>
                  <a:lnTo>
                    <a:pt x="35" y="4427"/>
                  </a:lnTo>
                  <a:lnTo>
                    <a:pt x="29" y="4427"/>
                  </a:lnTo>
                  <a:lnTo>
                    <a:pt x="29" y="4432"/>
                  </a:lnTo>
                  <a:lnTo>
                    <a:pt x="5" y="4432"/>
                  </a:lnTo>
                  <a:lnTo>
                    <a:pt x="5" y="4409"/>
                  </a:lnTo>
                  <a:lnTo>
                    <a:pt x="0" y="4409"/>
                  </a:lnTo>
                  <a:lnTo>
                    <a:pt x="0" y="438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60160" y="1829160"/>
              <a:ext cx="1200240" cy="827640"/>
            </a:xfrm>
            <a:custGeom>
              <a:avLst/>
              <a:gdLst/>
              <a:ahLst/>
              <a:rect l="l" t="t" r="r" b="b"/>
              <a:pathLst>
                <a:path w="4616" h="4244">
                  <a:moveTo>
                    <a:pt x="0" y="2513"/>
                  </a:moveTo>
                  <a:lnTo>
                    <a:pt x="5" y="2513"/>
                  </a:lnTo>
                  <a:lnTo>
                    <a:pt x="5" y="2505"/>
                  </a:lnTo>
                  <a:lnTo>
                    <a:pt x="10" y="2505"/>
                  </a:lnTo>
                  <a:lnTo>
                    <a:pt x="10" y="2488"/>
                  </a:lnTo>
                  <a:lnTo>
                    <a:pt x="15" y="2488"/>
                  </a:lnTo>
                  <a:lnTo>
                    <a:pt x="15" y="2470"/>
                  </a:lnTo>
                  <a:lnTo>
                    <a:pt x="19" y="2470"/>
                  </a:lnTo>
                  <a:lnTo>
                    <a:pt x="19" y="2459"/>
                  </a:lnTo>
                  <a:lnTo>
                    <a:pt x="24" y="2459"/>
                  </a:lnTo>
                  <a:lnTo>
                    <a:pt x="24" y="2440"/>
                  </a:lnTo>
                  <a:lnTo>
                    <a:pt x="29" y="2440"/>
                  </a:lnTo>
                  <a:lnTo>
                    <a:pt x="29" y="2428"/>
                  </a:lnTo>
                  <a:lnTo>
                    <a:pt x="34" y="2428"/>
                  </a:lnTo>
                  <a:lnTo>
                    <a:pt x="34" y="2418"/>
                  </a:lnTo>
                  <a:lnTo>
                    <a:pt x="39" y="2418"/>
                  </a:lnTo>
                  <a:lnTo>
                    <a:pt x="39" y="2405"/>
                  </a:lnTo>
                  <a:lnTo>
                    <a:pt x="44" y="2405"/>
                  </a:lnTo>
                  <a:lnTo>
                    <a:pt x="44" y="2394"/>
                  </a:lnTo>
                  <a:lnTo>
                    <a:pt x="49" y="2394"/>
                  </a:lnTo>
                  <a:lnTo>
                    <a:pt x="49" y="2369"/>
                  </a:lnTo>
                  <a:lnTo>
                    <a:pt x="53" y="2369"/>
                  </a:lnTo>
                  <a:lnTo>
                    <a:pt x="53" y="2352"/>
                  </a:lnTo>
                  <a:lnTo>
                    <a:pt x="58" y="2352"/>
                  </a:lnTo>
                  <a:lnTo>
                    <a:pt x="58" y="2334"/>
                  </a:lnTo>
                  <a:lnTo>
                    <a:pt x="63" y="2334"/>
                  </a:lnTo>
                  <a:lnTo>
                    <a:pt x="63" y="2317"/>
                  </a:lnTo>
                  <a:lnTo>
                    <a:pt x="67" y="2317"/>
                  </a:lnTo>
                  <a:lnTo>
                    <a:pt x="67" y="2304"/>
                  </a:lnTo>
                  <a:lnTo>
                    <a:pt x="72" y="2304"/>
                  </a:lnTo>
                  <a:lnTo>
                    <a:pt x="72" y="2299"/>
                  </a:lnTo>
                  <a:lnTo>
                    <a:pt x="77" y="2299"/>
                  </a:lnTo>
                  <a:lnTo>
                    <a:pt x="77" y="2281"/>
                  </a:lnTo>
                  <a:lnTo>
                    <a:pt x="82" y="2281"/>
                  </a:lnTo>
                  <a:lnTo>
                    <a:pt x="82" y="2268"/>
                  </a:lnTo>
                  <a:lnTo>
                    <a:pt x="86" y="2268"/>
                  </a:lnTo>
                  <a:lnTo>
                    <a:pt x="86" y="2258"/>
                  </a:lnTo>
                  <a:lnTo>
                    <a:pt x="92" y="2258"/>
                  </a:lnTo>
                  <a:lnTo>
                    <a:pt x="92" y="2246"/>
                  </a:lnTo>
                  <a:lnTo>
                    <a:pt x="96" y="2246"/>
                  </a:lnTo>
                  <a:lnTo>
                    <a:pt x="96" y="2233"/>
                  </a:lnTo>
                  <a:lnTo>
                    <a:pt x="100" y="2233"/>
                  </a:lnTo>
                  <a:lnTo>
                    <a:pt x="100" y="2217"/>
                  </a:lnTo>
                  <a:lnTo>
                    <a:pt x="107" y="2217"/>
                  </a:lnTo>
                  <a:lnTo>
                    <a:pt x="107" y="2192"/>
                  </a:lnTo>
                  <a:lnTo>
                    <a:pt x="111" y="2192"/>
                  </a:lnTo>
                  <a:lnTo>
                    <a:pt x="111" y="2175"/>
                  </a:lnTo>
                  <a:lnTo>
                    <a:pt x="116" y="2175"/>
                  </a:lnTo>
                  <a:lnTo>
                    <a:pt x="116" y="2151"/>
                  </a:lnTo>
                  <a:lnTo>
                    <a:pt x="120" y="2151"/>
                  </a:lnTo>
                  <a:lnTo>
                    <a:pt x="120" y="2133"/>
                  </a:lnTo>
                  <a:lnTo>
                    <a:pt x="126" y="2133"/>
                  </a:lnTo>
                  <a:lnTo>
                    <a:pt x="126" y="2116"/>
                  </a:lnTo>
                  <a:lnTo>
                    <a:pt x="130" y="2116"/>
                  </a:lnTo>
                  <a:lnTo>
                    <a:pt x="130" y="2110"/>
                  </a:lnTo>
                  <a:lnTo>
                    <a:pt x="135" y="2110"/>
                  </a:lnTo>
                  <a:lnTo>
                    <a:pt x="135" y="2074"/>
                  </a:lnTo>
                  <a:lnTo>
                    <a:pt x="140" y="2074"/>
                  </a:lnTo>
                  <a:lnTo>
                    <a:pt x="140" y="2062"/>
                  </a:lnTo>
                  <a:lnTo>
                    <a:pt x="144" y="2062"/>
                  </a:lnTo>
                  <a:lnTo>
                    <a:pt x="144" y="2040"/>
                  </a:lnTo>
                  <a:lnTo>
                    <a:pt x="149" y="2040"/>
                  </a:lnTo>
                  <a:lnTo>
                    <a:pt x="149" y="2032"/>
                  </a:lnTo>
                  <a:lnTo>
                    <a:pt x="154" y="2032"/>
                  </a:lnTo>
                  <a:lnTo>
                    <a:pt x="154" y="2015"/>
                  </a:lnTo>
                  <a:lnTo>
                    <a:pt x="159" y="2015"/>
                  </a:lnTo>
                  <a:lnTo>
                    <a:pt x="159" y="2004"/>
                  </a:lnTo>
                  <a:lnTo>
                    <a:pt x="163" y="2004"/>
                  </a:lnTo>
                  <a:lnTo>
                    <a:pt x="163" y="1991"/>
                  </a:lnTo>
                  <a:lnTo>
                    <a:pt x="168" y="1991"/>
                  </a:lnTo>
                  <a:lnTo>
                    <a:pt x="168" y="1980"/>
                  </a:lnTo>
                  <a:lnTo>
                    <a:pt x="173" y="1980"/>
                  </a:lnTo>
                  <a:lnTo>
                    <a:pt x="173" y="1962"/>
                  </a:lnTo>
                  <a:lnTo>
                    <a:pt x="179" y="1962"/>
                  </a:lnTo>
                  <a:lnTo>
                    <a:pt x="179" y="1945"/>
                  </a:lnTo>
                  <a:lnTo>
                    <a:pt x="183" y="1945"/>
                  </a:lnTo>
                  <a:lnTo>
                    <a:pt x="183" y="1932"/>
                  </a:lnTo>
                  <a:lnTo>
                    <a:pt x="188" y="1932"/>
                  </a:lnTo>
                  <a:lnTo>
                    <a:pt x="188" y="1909"/>
                  </a:lnTo>
                  <a:lnTo>
                    <a:pt x="193" y="1909"/>
                  </a:lnTo>
                  <a:lnTo>
                    <a:pt x="193" y="1896"/>
                  </a:lnTo>
                  <a:lnTo>
                    <a:pt x="197" y="1896"/>
                  </a:lnTo>
                  <a:lnTo>
                    <a:pt x="197" y="1885"/>
                  </a:lnTo>
                  <a:lnTo>
                    <a:pt x="203" y="1885"/>
                  </a:lnTo>
                  <a:lnTo>
                    <a:pt x="203" y="1868"/>
                  </a:lnTo>
                  <a:lnTo>
                    <a:pt x="207" y="1868"/>
                  </a:lnTo>
                  <a:lnTo>
                    <a:pt x="207" y="1855"/>
                  </a:lnTo>
                  <a:lnTo>
                    <a:pt x="212" y="1855"/>
                  </a:lnTo>
                  <a:lnTo>
                    <a:pt x="212" y="1838"/>
                  </a:lnTo>
                  <a:lnTo>
                    <a:pt x="216" y="1838"/>
                  </a:lnTo>
                  <a:lnTo>
                    <a:pt x="216" y="1820"/>
                  </a:lnTo>
                  <a:lnTo>
                    <a:pt x="221" y="1820"/>
                  </a:lnTo>
                  <a:lnTo>
                    <a:pt x="221" y="1809"/>
                  </a:lnTo>
                  <a:lnTo>
                    <a:pt x="226" y="1809"/>
                  </a:lnTo>
                  <a:lnTo>
                    <a:pt x="226" y="1796"/>
                  </a:lnTo>
                  <a:lnTo>
                    <a:pt x="230" y="1796"/>
                  </a:lnTo>
                  <a:lnTo>
                    <a:pt x="230" y="1785"/>
                  </a:lnTo>
                  <a:lnTo>
                    <a:pt x="235" y="1785"/>
                  </a:lnTo>
                  <a:lnTo>
                    <a:pt x="235" y="1773"/>
                  </a:lnTo>
                  <a:lnTo>
                    <a:pt x="240" y="1773"/>
                  </a:lnTo>
                  <a:lnTo>
                    <a:pt x="240" y="1760"/>
                  </a:lnTo>
                  <a:lnTo>
                    <a:pt x="244" y="1760"/>
                  </a:lnTo>
                  <a:lnTo>
                    <a:pt x="244" y="1744"/>
                  </a:lnTo>
                  <a:lnTo>
                    <a:pt x="251" y="1744"/>
                  </a:lnTo>
                  <a:lnTo>
                    <a:pt x="251" y="1727"/>
                  </a:lnTo>
                  <a:lnTo>
                    <a:pt x="255" y="1727"/>
                  </a:lnTo>
                  <a:lnTo>
                    <a:pt x="255" y="1714"/>
                  </a:lnTo>
                  <a:lnTo>
                    <a:pt x="260" y="1714"/>
                  </a:lnTo>
                  <a:lnTo>
                    <a:pt x="260" y="1695"/>
                  </a:lnTo>
                  <a:lnTo>
                    <a:pt x="264" y="1695"/>
                  </a:lnTo>
                  <a:lnTo>
                    <a:pt x="264" y="1685"/>
                  </a:lnTo>
                  <a:lnTo>
                    <a:pt x="270" y="1685"/>
                  </a:lnTo>
                  <a:lnTo>
                    <a:pt x="270" y="1667"/>
                  </a:lnTo>
                  <a:lnTo>
                    <a:pt x="274" y="1667"/>
                  </a:lnTo>
                  <a:lnTo>
                    <a:pt x="274" y="1654"/>
                  </a:lnTo>
                  <a:lnTo>
                    <a:pt x="278" y="1654"/>
                  </a:lnTo>
                  <a:lnTo>
                    <a:pt x="278" y="1637"/>
                  </a:lnTo>
                  <a:lnTo>
                    <a:pt x="284" y="1637"/>
                  </a:lnTo>
                  <a:lnTo>
                    <a:pt x="284" y="1619"/>
                  </a:lnTo>
                  <a:lnTo>
                    <a:pt x="288" y="1619"/>
                  </a:lnTo>
                  <a:lnTo>
                    <a:pt x="288" y="1601"/>
                  </a:lnTo>
                  <a:lnTo>
                    <a:pt x="293" y="1601"/>
                  </a:lnTo>
                  <a:lnTo>
                    <a:pt x="293" y="1583"/>
                  </a:lnTo>
                  <a:lnTo>
                    <a:pt x="298" y="1583"/>
                  </a:lnTo>
                  <a:lnTo>
                    <a:pt x="298" y="1559"/>
                  </a:lnTo>
                  <a:lnTo>
                    <a:pt x="303" y="1559"/>
                  </a:lnTo>
                  <a:lnTo>
                    <a:pt x="303" y="1542"/>
                  </a:lnTo>
                  <a:lnTo>
                    <a:pt x="307" y="1542"/>
                  </a:lnTo>
                  <a:lnTo>
                    <a:pt x="307" y="1524"/>
                  </a:lnTo>
                  <a:lnTo>
                    <a:pt x="312" y="1524"/>
                  </a:lnTo>
                  <a:lnTo>
                    <a:pt x="312" y="1507"/>
                  </a:lnTo>
                  <a:lnTo>
                    <a:pt x="317" y="1507"/>
                  </a:lnTo>
                  <a:lnTo>
                    <a:pt x="317" y="1482"/>
                  </a:lnTo>
                  <a:lnTo>
                    <a:pt x="322" y="1482"/>
                  </a:lnTo>
                  <a:lnTo>
                    <a:pt x="322" y="1472"/>
                  </a:lnTo>
                  <a:lnTo>
                    <a:pt x="327" y="1472"/>
                  </a:lnTo>
                  <a:lnTo>
                    <a:pt x="327" y="1448"/>
                  </a:lnTo>
                  <a:lnTo>
                    <a:pt x="332" y="1448"/>
                  </a:lnTo>
                  <a:lnTo>
                    <a:pt x="332" y="1423"/>
                  </a:lnTo>
                  <a:lnTo>
                    <a:pt x="337" y="1423"/>
                  </a:lnTo>
                  <a:lnTo>
                    <a:pt x="337" y="1412"/>
                  </a:lnTo>
                  <a:lnTo>
                    <a:pt x="341" y="1412"/>
                  </a:lnTo>
                  <a:lnTo>
                    <a:pt x="341" y="1390"/>
                  </a:lnTo>
                  <a:lnTo>
                    <a:pt x="347" y="1390"/>
                  </a:lnTo>
                  <a:lnTo>
                    <a:pt x="347" y="1377"/>
                  </a:lnTo>
                  <a:lnTo>
                    <a:pt x="351" y="1377"/>
                  </a:lnTo>
                  <a:lnTo>
                    <a:pt x="351" y="1353"/>
                  </a:lnTo>
                  <a:lnTo>
                    <a:pt x="356" y="1353"/>
                  </a:lnTo>
                  <a:lnTo>
                    <a:pt x="356" y="1341"/>
                  </a:lnTo>
                  <a:lnTo>
                    <a:pt x="360" y="1341"/>
                  </a:lnTo>
                  <a:lnTo>
                    <a:pt x="360" y="1324"/>
                  </a:lnTo>
                  <a:lnTo>
                    <a:pt x="365" y="1324"/>
                  </a:lnTo>
                  <a:lnTo>
                    <a:pt x="365" y="1306"/>
                  </a:lnTo>
                  <a:lnTo>
                    <a:pt x="370" y="1306"/>
                  </a:lnTo>
                  <a:lnTo>
                    <a:pt x="370" y="1287"/>
                  </a:lnTo>
                  <a:lnTo>
                    <a:pt x="374" y="1287"/>
                  </a:lnTo>
                  <a:lnTo>
                    <a:pt x="374" y="1271"/>
                  </a:lnTo>
                  <a:lnTo>
                    <a:pt x="380" y="1271"/>
                  </a:lnTo>
                  <a:lnTo>
                    <a:pt x="380" y="1259"/>
                  </a:lnTo>
                  <a:lnTo>
                    <a:pt x="384" y="1259"/>
                  </a:lnTo>
                  <a:lnTo>
                    <a:pt x="384" y="1246"/>
                  </a:lnTo>
                  <a:lnTo>
                    <a:pt x="389" y="1246"/>
                  </a:lnTo>
                  <a:lnTo>
                    <a:pt x="389" y="1235"/>
                  </a:lnTo>
                  <a:lnTo>
                    <a:pt x="395" y="1235"/>
                  </a:lnTo>
                  <a:lnTo>
                    <a:pt x="395" y="1217"/>
                  </a:lnTo>
                  <a:lnTo>
                    <a:pt x="400" y="1217"/>
                  </a:lnTo>
                  <a:lnTo>
                    <a:pt x="400" y="1194"/>
                  </a:lnTo>
                  <a:lnTo>
                    <a:pt x="404" y="1194"/>
                  </a:lnTo>
                  <a:lnTo>
                    <a:pt x="404" y="1176"/>
                  </a:lnTo>
                  <a:lnTo>
                    <a:pt x="409" y="1176"/>
                  </a:lnTo>
                  <a:lnTo>
                    <a:pt x="409" y="1164"/>
                  </a:lnTo>
                  <a:lnTo>
                    <a:pt x="414" y="1164"/>
                  </a:lnTo>
                  <a:lnTo>
                    <a:pt x="414" y="1135"/>
                  </a:lnTo>
                  <a:lnTo>
                    <a:pt x="418" y="1135"/>
                  </a:lnTo>
                  <a:lnTo>
                    <a:pt x="418" y="1110"/>
                  </a:lnTo>
                  <a:lnTo>
                    <a:pt x="423" y="1110"/>
                  </a:lnTo>
                  <a:lnTo>
                    <a:pt x="423" y="1094"/>
                  </a:lnTo>
                  <a:lnTo>
                    <a:pt x="428" y="1094"/>
                  </a:lnTo>
                  <a:lnTo>
                    <a:pt x="428" y="1069"/>
                  </a:lnTo>
                  <a:lnTo>
                    <a:pt x="433" y="1069"/>
                  </a:lnTo>
                  <a:lnTo>
                    <a:pt x="433" y="1058"/>
                  </a:lnTo>
                  <a:lnTo>
                    <a:pt x="437" y="1058"/>
                  </a:lnTo>
                  <a:lnTo>
                    <a:pt x="437" y="1045"/>
                  </a:lnTo>
                  <a:lnTo>
                    <a:pt x="442" y="1045"/>
                  </a:lnTo>
                  <a:lnTo>
                    <a:pt x="442" y="1028"/>
                  </a:lnTo>
                  <a:lnTo>
                    <a:pt x="447" y="1028"/>
                  </a:lnTo>
                  <a:lnTo>
                    <a:pt x="447" y="1010"/>
                  </a:lnTo>
                  <a:lnTo>
                    <a:pt x="451" y="1010"/>
                  </a:lnTo>
                  <a:lnTo>
                    <a:pt x="451" y="1004"/>
                  </a:lnTo>
                  <a:lnTo>
                    <a:pt x="456" y="1004"/>
                  </a:lnTo>
                  <a:lnTo>
                    <a:pt x="456" y="987"/>
                  </a:lnTo>
                  <a:lnTo>
                    <a:pt x="461" y="987"/>
                  </a:lnTo>
                  <a:lnTo>
                    <a:pt x="461" y="969"/>
                  </a:lnTo>
                  <a:lnTo>
                    <a:pt x="467" y="969"/>
                  </a:lnTo>
                  <a:lnTo>
                    <a:pt x="467" y="950"/>
                  </a:lnTo>
                  <a:lnTo>
                    <a:pt x="471" y="950"/>
                  </a:lnTo>
                  <a:lnTo>
                    <a:pt x="471" y="945"/>
                  </a:lnTo>
                  <a:lnTo>
                    <a:pt x="477" y="945"/>
                  </a:lnTo>
                  <a:lnTo>
                    <a:pt x="477" y="933"/>
                  </a:lnTo>
                  <a:lnTo>
                    <a:pt x="481" y="933"/>
                  </a:lnTo>
                  <a:lnTo>
                    <a:pt x="481" y="917"/>
                  </a:lnTo>
                  <a:lnTo>
                    <a:pt x="485" y="917"/>
                  </a:lnTo>
                  <a:lnTo>
                    <a:pt x="485" y="904"/>
                  </a:lnTo>
                  <a:lnTo>
                    <a:pt x="491" y="904"/>
                  </a:lnTo>
                  <a:lnTo>
                    <a:pt x="491" y="881"/>
                  </a:lnTo>
                  <a:lnTo>
                    <a:pt x="495" y="881"/>
                  </a:lnTo>
                  <a:lnTo>
                    <a:pt x="495" y="868"/>
                  </a:lnTo>
                  <a:lnTo>
                    <a:pt x="500" y="868"/>
                  </a:lnTo>
                  <a:lnTo>
                    <a:pt x="500" y="851"/>
                  </a:lnTo>
                  <a:lnTo>
                    <a:pt x="504" y="851"/>
                  </a:lnTo>
                  <a:lnTo>
                    <a:pt x="504" y="827"/>
                  </a:lnTo>
                  <a:lnTo>
                    <a:pt x="510" y="827"/>
                  </a:lnTo>
                  <a:lnTo>
                    <a:pt x="510" y="822"/>
                  </a:lnTo>
                  <a:lnTo>
                    <a:pt x="514" y="822"/>
                  </a:lnTo>
                  <a:lnTo>
                    <a:pt x="514" y="803"/>
                  </a:lnTo>
                  <a:lnTo>
                    <a:pt x="519" y="803"/>
                  </a:lnTo>
                  <a:lnTo>
                    <a:pt x="519" y="792"/>
                  </a:lnTo>
                  <a:lnTo>
                    <a:pt x="524" y="792"/>
                  </a:lnTo>
                  <a:lnTo>
                    <a:pt x="524" y="781"/>
                  </a:lnTo>
                  <a:lnTo>
                    <a:pt x="528" y="781"/>
                  </a:lnTo>
                  <a:lnTo>
                    <a:pt x="528" y="768"/>
                  </a:lnTo>
                  <a:lnTo>
                    <a:pt x="533" y="768"/>
                  </a:lnTo>
                  <a:lnTo>
                    <a:pt x="533" y="756"/>
                  </a:lnTo>
                  <a:lnTo>
                    <a:pt x="539" y="756"/>
                  </a:lnTo>
                  <a:lnTo>
                    <a:pt x="539" y="745"/>
                  </a:lnTo>
                  <a:lnTo>
                    <a:pt x="544" y="745"/>
                  </a:lnTo>
                  <a:lnTo>
                    <a:pt x="544" y="740"/>
                  </a:lnTo>
                  <a:lnTo>
                    <a:pt x="548" y="740"/>
                  </a:lnTo>
                  <a:lnTo>
                    <a:pt x="548" y="732"/>
                  </a:lnTo>
                  <a:lnTo>
                    <a:pt x="553" y="732"/>
                  </a:lnTo>
                  <a:lnTo>
                    <a:pt x="553" y="721"/>
                  </a:lnTo>
                  <a:lnTo>
                    <a:pt x="558" y="721"/>
                  </a:lnTo>
                  <a:lnTo>
                    <a:pt x="558" y="708"/>
                  </a:lnTo>
                  <a:lnTo>
                    <a:pt x="563" y="708"/>
                  </a:lnTo>
                  <a:lnTo>
                    <a:pt x="563" y="703"/>
                  </a:lnTo>
                  <a:lnTo>
                    <a:pt x="567" y="703"/>
                  </a:lnTo>
                  <a:lnTo>
                    <a:pt x="567" y="691"/>
                  </a:lnTo>
                  <a:lnTo>
                    <a:pt x="572" y="691"/>
                  </a:lnTo>
                  <a:lnTo>
                    <a:pt x="572" y="680"/>
                  </a:lnTo>
                  <a:lnTo>
                    <a:pt x="576" y="680"/>
                  </a:lnTo>
                  <a:lnTo>
                    <a:pt x="576" y="667"/>
                  </a:lnTo>
                  <a:lnTo>
                    <a:pt x="581" y="667"/>
                  </a:lnTo>
                  <a:lnTo>
                    <a:pt x="581" y="655"/>
                  </a:lnTo>
                  <a:lnTo>
                    <a:pt x="586" y="655"/>
                  </a:lnTo>
                  <a:lnTo>
                    <a:pt x="586" y="645"/>
                  </a:lnTo>
                  <a:lnTo>
                    <a:pt x="591" y="645"/>
                  </a:lnTo>
                  <a:lnTo>
                    <a:pt x="591" y="632"/>
                  </a:lnTo>
                  <a:lnTo>
                    <a:pt x="595" y="632"/>
                  </a:lnTo>
                  <a:lnTo>
                    <a:pt x="595" y="621"/>
                  </a:lnTo>
                  <a:lnTo>
                    <a:pt x="600" y="621"/>
                  </a:lnTo>
                  <a:lnTo>
                    <a:pt x="600" y="609"/>
                  </a:lnTo>
                  <a:lnTo>
                    <a:pt x="605" y="609"/>
                  </a:lnTo>
                  <a:lnTo>
                    <a:pt x="605" y="596"/>
                  </a:lnTo>
                  <a:lnTo>
                    <a:pt x="611" y="596"/>
                  </a:lnTo>
                  <a:lnTo>
                    <a:pt x="611" y="579"/>
                  </a:lnTo>
                  <a:lnTo>
                    <a:pt x="615" y="579"/>
                  </a:lnTo>
                  <a:lnTo>
                    <a:pt x="615" y="567"/>
                  </a:lnTo>
                  <a:lnTo>
                    <a:pt x="620" y="567"/>
                  </a:lnTo>
                  <a:lnTo>
                    <a:pt x="620" y="550"/>
                  </a:lnTo>
                  <a:lnTo>
                    <a:pt x="625" y="550"/>
                  </a:lnTo>
                  <a:lnTo>
                    <a:pt x="625" y="537"/>
                  </a:lnTo>
                  <a:lnTo>
                    <a:pt x="629" y="537"/>
                  </a:lnTo>
                  <a:lnTo>
                    <a:pt x="629" y="531"/>
                  </a:lnTo>
                  <a:lnTo>
                    <a:pt x="635" y="531"/>
                  </a:lnTo>
                  <a:lnTo>
                    <a:pt x="635" y="509"/>
                  </a:lnTo>
                  <a:lnTo>
                    <a:pt x="639" y="509"/>
                  </a:lnTo>
                  <a:lnTo>
                    <a:pt x="639" y="496"/>
                  </a:lnTo>
                  <a:lnTo>
                    <a:pt x="644" y="496"/>
                  </a:lnTo>
                  <a:lnTo>
                    <a:pt x="644" y="485"/>
                  </a:lnTo>
                  <a:lnTo>
                    <a:pt x="648" y="485"/>
                  </a:lnTo>
                  <a:lnTo>
                    <a:pt x="648" y="473"/>
                  </a:lnTo>
                  <a:lnTo>
                    <a:pt x="654" y="473"/>
                  </a:lnTo>
                  <a:lnTo>
                    <a:pt x="654" y="455"/>
                  </a:lnTo>
                  <a:lnTo>
                    <a:pt x="658" y="455"/>
                  </a:lnTo>
                  <a:lnTo>
                    <a:pt x="658" y="449"/>
                  </a:lnTo>
                  <a:lnTo>
                    <a:pt x="662" y="449"/>
                  </a:lnTo>
                  <a:lnTo>
                    <a:pt x="662" y="431"/>
                  </a:lnTo>
                  <a:lnTo>
                    <a:pt x="668" y="431"/>
                  </a:lnTo>
                  <a:lnTo>
                    <a:pt x="668" y="419"/>
                  </a:lnTo>
                  <a:lnTo>
                    <a:pt x="672" y="419"/>
                  </a:lnTo>
                  <a:lnTo>
                    <a:pt x="672" y="408"/>
                  </a:lnTo>
                  <a:lnTo>
                    <a:pt x="677" y="408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3" y="384"/>
                  </a:lnTo>
                  <a:lnTo>
                    <a:pt x="688" y="384"/>
                  </a:lnTo>
                  <a:lnTo>
                    <a:pt x="688" y="373"/>
                  </a:lnTo>
                  <a:lnTo>
                    <a:pt x="692" y="373"/>
                  </a:lnTo>
                  <a:lnTo>
                    <a:pt x="692" y="360"/>
                  </a:lnTo>
                  <a:lnTo>
                    <a:pt x="697" y="360"/>
                  </a:lnTo>
                  <a:lnTo>
                    <a:pt x="697" y="349"/>
                  </a:lnTo>
                  <a:lnTo>
                    <a:pt x="702" y="349"/>
                  </a:lnTo>
                  <a:lnTo>
                    <a:pt x="702" y="341"/>
                  </a:lnTo>
                  <a:lnTo>
                    <a:pt x="706" y="341"/>
                  </a:lnTo>
                  <a:lnTo>
                    <a:pt x="706" y="336"/>
                  </a:lnTo>
                  <a:lnTo>
                    <a:pt x="711" y="336"/>
                  </a:lnTo>
                  <a:lnTo>
                    <a:pt x="711" y="308"/>
                  </a:lnTo>
                  <a:lnTo>
                    <a:pt x="716" y="308"/>
                  </a:lnTo>
                  <a:lnTo>
                    <a:pt x="716" y="300"/>
                  </a:lnTo>
                  <a:lnTo>
                    <a:pt x="721" y="300"/>
                  </a:lnTo>
                  <a:lnTo>
                    <a:pt x="721" y="295"/>
                  </a:lnTo>
                  <a:lnTo>
                    <a:pt x="725" y="295"/>
                  </a:lnTo>
                  <a:lnTo>
                    <a:pt x="725" y="289"/>
                  </a:lnTo>
                  <a:lnTo>
                    <a:pt x="731" y="289"/>
                  </a:lnTo>
                  <a:lnTo>
                    <a:pt x="731" y="272"/>
                  </a:lnTo>
                  <a:lnTo>
                    <a:pt x="735" y="272"/>
                  </a:lnTo>
                  <a:lnTo>
                    <a:pt x="735" y="254"/>
                  </a:lnTo>
                  <a:lnTo>
                    <a:pt x="739" y="254"/>
                  </a:lnTo>
                  <a:lnTo>
                    <a:pt x="739" y="248"/>
                  </a:lnTo>
                  <a:lnTo>
                    <a:pt x="744" y="248"/>
                  </a:lnTo>
                  <a:lnTo>
                    <a:pt x="744" y="235"/>
                  </a:lnTo>
                  <a:lnTo>
                    <a:pt x="749" y="235"/>
                  </a:lnTo>
                  <a:lnTo>
                    <a:pt x="749" y="230"/>
                  </a:lnTo>
                  <a:lnTo>
                    <a:pt x="755" y="230"/>
                  </a:lnTo>
                  <a:lnTo>
                    <a:pt x="755" y="224"/>
                  </a:lnTo>
                  <a:lnTo>
                    <a:pt x="759" y="224"/>
                  </a:lnTo>
                  <a:lnTo>
                    <a:pt x="759" y="213"/>
                  </a:lnTo>
                  <a:lnTo>
                    <a:pt x="765" y="213"/>
                  </a:lnTo>
                  <a:lnTo>
                    <a:pt x="765" y="200"/>
                  </a:lnTo>
                  <a:lnTo>
                    <a:pt x="774" y="200"/>
                  </a:lnTo>
                  <a:lnTo>
                    <a:pt x="774" y="194"/>
                  </a:lnTo>
                  <a:lnTo>
                    <a:pt x="779" y="194"/>
                  </a:lnTo>
                  <a:lnTo>
                    <a:pt x="779" y="182"/>
                  </a:lnTo>
                  <a:lnTo>
                    <a:pt x="783" y="182"/>
                  </a:lnTo>
                  <a:lnTo>
                    <a:pt x="783" y="177"/>
                  </a:lnTo>
                  <a:lnTo>
                    <a:pt x="788" y="177"/>
                  </a:lnTo>
                  <a:lnTo>
                    <a:pt x="788" y="164"/>
                  </a:lnTo>
                  <a:lnTo>
                    <a:pt x="793" y="164"/>
                  </a:lnTo>
                  <a:lnTo>
                    <a:pt x="793" y="159"/>
                  </a:lnTo>
                  <a:lnTo>
                    <a:pt x="798" y="159"/>
                  </a:lnTo>
                  <a:lnTo>
                    <a:pt x="798" y="153"/>
                  </a:lnTo>
                  <a:lnTo>
                    <a:pt x="802" y="153"/>
                  </a:lnTo>
                  <a:lnTo>
                    <a:pt x="802" y="148"/>
                  </a:lnTo>
                  <a:lnTo>
                    <a:pt x="807" y="148"/>
                  </a:lnTo>
                  <a:lnTo>
                    <a:pt x="807" y="141"/>
                  </a:lnTo>
                  <a:lnTo>
                    <a:pt x="812" y="141"/>
                  </a:lnTo>
                  <a:lnTo>
                    <a:pt x="812" y="136"/>
                  </a:lnTo>
                  <a:lnTo>
                    <a:pt x="817" y="136"/>
                  </a:lnTo>
                  <a:lnTo>
                    <a:pt x="817" y="131"/>
                  </a:lnTo>
                  <a:lnTo>
                    <a:pt x="821" y="131"/>
                  </a:lnTo>
                  <a:lnTo>
                    <a:pt x="821" y="123"/>
                  </a:lnTo>
                  <a:lnTo>
                    <a:pt x="827" y="123"/>
                  </a:lnTo>
                  <a:lnTo>
                    <a:pt x="827" y="118"/>
                  </a:lnTo>
                  <a:lnTo>
                    <a:pt x="836" y="118"/>
                  </a:lnTo>
                  <a:lnTo>
                    <a:pt x="836" y="106"/>
                  </a:lnTo>
                  <a:lnTo>
                    <a:pt x="841" y="106"/>
                  </a:lnTo>
                  <a:lnTo>
                    <a:pt x="841" y="94"/>
                  </a:lnTo>
                  <a:lnTo>
                    <a:pt x="851" y="94"/>
                  </a:lnTo>
                  <a:lnTo>
                    <a:pt x="851" y="88"/>
                  </a:lnTo>
                  <a:lnTo>
                    <a:pt x="855" y="88"/>
                  </a:lnTo>
                  <a:lnTo>
                    <a:pt x="855" y="82"/>
                  </a:lnTo>
                  <a:lnTo>
                    <a:pt x="861" y="82"/>
                  </a:lnTo>
                  <a:lnTo>
                    <a:pt x="861" y="77"/>
                  </a:lnTo>
                  <a:lnTo>
                    <a:pt x="869" y="77"/>
                  </a:lnTo>
                  <a:lnTo>
                    <a:pt x="869" y="71"/>
                  </a:lnTo>
                  <a:lnTo>
                    <a:pt x="875" y="71"/>
                  </a:lnTo>
                  <a:lnTo>
                    <a:pt x="875" y="64"/>
                  </a:lnTo>
                  <a:lnTo>
                    <a:pt x="879" y="64"/>
                  </a:lnTo>
                  <a:lnTo>
                    <a:pt x="879" y="59"/>
                  </a:lnTo>
                  <a:lnTo>
                    <a:pt x="894" y="59"/>
                  </a:lnTo>
                  <a:lnTo>
                    <a:pt x="894" y="53"/>
                  </a:lnTo>
                  <a:lnTo>
                    <a:pt x="898" y="53"/>
                  </a:lnTo>
                  <a:lnTo>
                    <a:pt x="898" y="47"/>
                  </a:lnTo>
                  <a:lnTo>
                    <a:pt x="904" y="47"/>
                  </a:lnTo>
                  <a:lnTo>
                    <a:pt x="904" y="30"/>
                  </a:lnTo>
                  <a:lnTo>
                    <a:pt x="917" y="30"/>
                  </a:lnTo>
                  <a:lnTo>
                    <a:pt x="917" y="23"/>
                  </a:lnTo>
                  <a:lnTo>
                    <a:pt x="923" y="23"/>
                  </a:lnTo>
                  <a:lnTo>
                    <a:pt x="923" y="17"/>
                  </a:lnTo>
                  <a:lnTo>
                    <a:pt x="932" y="17"/>
                  </a:lnTo>
                  <a:lnTo>
                    <a:pt x="932" y="23"/>
                  </a:lnTo>
                  <a:lnTo>
                    <a:pt x="942" y="23"/>
                  </a:lnTo>
                  <a:lnTo>
                    <a:pt x="942" y="17"/>
                  </a:lnTo>
                  <a:lnTo>
                    <a:pt x="956" y="17"/>
                  </a:lnTo>
                  <a:lnTo>
                    <a:pt x="956" y="12"/>
                  </a:lnTo>
                  <a:lnTo>
                    <a:pt x="995" y="12"/>
                  </a:lnTo>
                  <a:lnTo>
                    <a:pt x="995" y="6"/>
                  </a:lnTo>
                  <a:lnTo>
                    <a:pt x="1013" y="6"/>
                  </a:lnTo>
                  <a:lnTo>
                    <a:pt x="1013" y="0"/>
                  </a:lnTo>
                  <a:lnTo>
                    <a:pt x="1038" y="0"/>
                  </a:lnTo>
                  <a:lnTo>
                    <a:pt x="1038" y="6"/>
                  </a:lnTo>
                  <a:lnTo>
                    <a:pt x="1047" y="6"/>
                  </a:lnTo>
                  <a:lnTo>
                    <a:pt x="1047" y="12"/>
                  </a:lnTo>
                  <a:lnTo>
                    <a:pt x="1053" y="12"/>
                  </a:lnTo>
                  <a:lnTo>
                    <a:pt x="1053" y="17"/>
                  </a:lnTo>
                  <a:lnTo>
                    <a:pt x="1072" y="17"/>
                  </a:lnTo>
                  <a:lnTo>
                    <a:pt x="1072" y="23"/>
                  </a:lnTo>
                  <a:lnTo>
                    <a:pt x="1105" y="23"/>
                  </a:lnTo>
                  <a:lnTo>
                    <a:pt x="1105" y="30"/>
                  </a:lnTo>
                  <a:lnTo>
                    <a:pt x="1186" y="30"/>
                  </a:lnTo>
                  <a:lnTo>
                    <a:pt x="1186" y="36"/>
                  </a:lnTo>
                  <a:lnTo>
                    <a:pt x="1211" y="36"/>
                  </a:lnTo>
                  <a:lnTo>
                    <a:pt x="1211" y="41"/>
                  </a:lnTo>
                  <a:lnTo>
                    <a:pt x="1245" y="41"/>
                  </a:lnTo>
                  <a:lnTo>
                    <a:pt x="1245" y="47"/>
                  </a:lnTo>
                  <a:lnTo>
                    <a:pt x="1278" y="47"/>
                  </a:lnTo>
                  <a:lnTo>
                    <a:pt x="1278" y="53"/>
                  </a:lnTo>
                  <a:lnTo>
                    <a:pt x="1301" y="53"/>
                  </a:lnTo>
                  <a:lnTo>
                    <a:pt x="1301" y="59"/>
                  </a:lnTo>
                  <a:lnTo>
                    <a:pt x="1350" y="59"/>
                  </a:lnTo>
                  <a:lnTo>
                    <a:pt x="1350" y="64"/>
                  </a:lnTo>
                  <a:lnTo>
                    <a:pt x="1388" y="64"/>
                  </a:lnTo>
                  <a:lnTo>
                    <a:pt x="1388" y="71"/>
                  </a:lnTo>
                  <a:lnTo>
                    <a:pt x="1403" y="71"/>
                  </a:lnTo>
                  <a:lnTo>
                    <a:pt x="1403" y="77"/>
                  </a:lnTo>
                  <a:lnTo>
                    <a:pt x="1413" y="77"/>
                  </a:lnTo>
                  <a:lnTo>
                    <a:pt x="1413" y="82"/>
                  </a:lnTo>
                  <a:lnTo>
                    <a:pt x="1427" y="82"/>
                  </a:lnTo>
                  <a:lnTo>
                    <a:pt x="1427" y="88"/>
                  </a:lnTo>
                  <a:lnTo>
                    <a:pt x="1490" y="88"/>
                  </a:lnTo>
                  <a:lnTo>
                    <a:pt x="1490" y="94"/>
                  </a:lnTo>
                  <a:lnTo>
                    <a:pt x="1494" y="94"/>
                  </a:lnTo>
                  <a:lnTo>
                    <a:pt x="1494" y="101"/>
                  </a:lnTo>
                  <a:lnTo>
                    <a:pt x="1513" y="101"/>
                  </a:lnTo>
                  <a:lnTo>
                    <a:pt x="1513" y="106"/>
                  </a:lnTo>
                  <a:lnTo>
                    <a:pt x="1537" y="106"/>
                  </a:lnTo>
                  <a:lnTo>
                    <a:pt x="1537" y="113"/>
                  </a:lnTo>
                  <a:lnTo>
                    <a:pt x="1562" y="113"/>
                  </a:lnTo>
                  <a:lnTo>
                    <a:pt x="1562" y="118"/>
                  </a:lnTo>
                  <a:lnTo>
                    <a:pt x="1576" y="118"/>
                  </a:lnTo>
                  <a:lnTo>
                    <a:pt x="1576" y="123"/>
                  </a:lnTo>
                  <a:lnTo>
                    <a:pt x="1614" y="123"/>
                  </a:lnTo>
                  <a:lnTo>
                    <a:pt x="1614" y="131"/>
                  </a:lnTo>
                  <a:lnTo>
                    <a:pt x="1624" y="131"/>
                  </a:lnTo>
                  <a:lnTo>
                    <a:pt x="1624" y="136"/>
                  </a:lnTo>
                  <a:lnTo>
                    <a:pt x="1652" y="136"/>
                  </a:lnTo>
                  <a:lnTo>
                    <a:pt x="1652" y="141"/>
                  </a:lnTo>
                  <a:lnTo>
                    <a:pt x="1677" y="141"/>
                  </a:lnTo>
                  <a:lnTo>
                    <a:pt x="1677" y="148"/>
                  </a:lnTo>
                  <a:lnTo>
                    <a:pt x="1691" y="148"/>
                  </a:lnTo>
                  <a:lnTo>
                    <a:pt x="1691" y="153"/>
                  </a:lnTo>
                  <a:lnTo>
                    <a:pt x="1706" y="153"/>
                  </a:lnTo>
                  <a:lnTo>
                    <a:pt x="1706" y="159"/>
                  </a:lnTo>
                  <a:lnTo>
                    <a:pt x="1729" y="159"/>
                  </a:lnTo>
                  <a:lnTo>
                    <a:pt x="1729" y="164"/>
                  </a:lnTo>
                  <a:lnTo>
                    <a:pt x="1748" y="164"/>
                  </a:lnTo>
                  <a:lnTo>
                    <a:pt x="1748" y="172"/>
                  </a:lnTo>
                  <a:lnTo>
                    <a:pt x="1762" y="172"/>
                  </a:lnTo>
                  <a:lnTo>
                    <a:pt x="1762" y="177"/>
                  </a:lnTo>
                  <a:lnTo>
                    <a:pt x="1788" y="177"/>
                  </a:lnTo>
                  <a:lnTo>
                    <a:pt x="1788" y="182"/>
                  </a:lnTo>
                  <a:lnTo>
                    <a:pt x="1801" y="182"/>
                  </a:lnTo>
                  <a:lnTo>
                    <a:pt x="1801" y="189"/>
                  </a:lnTo>
                  <a:lnTo>
                    <a:pt x="1830" y="189"/>
                  </a:lnTo>
                  <a:lnTo>
                    <a:pt x="1830" y="194"/>
                  </a:lnTo>
                  <a:lnTo>
                    <a:pt x="1841" y="194"/>
                  </a:lnTo>
                  <a:lnTo>
                    <a:pt x="1841" y="200"/>
                  </a:lnTo>
                  <a:lnTo>
                    <a:pt x="1859" y="200"/>
                  </a:lnTo>
                  <a:lnTo>
                    <a:pt x="1859" y="207"/>
                  </a:lnTo>
                  <a:lnTo>
                    <a:pt x="1869" y="207"/>
                  </a:lnTo>
                  <a:lnTo>
                    <a:pt x="1869" y="213"/>
                  </a:lnTo>
                  <a:lnTo>
                    <a:pt x="1888" y="213"/>
                  </a:lnTo>
                  <a:lnTo>
                    <a:pt x="1888" y="218"/>
                  </a:lnTo>
                  <a:lnTo>
                    <a:pt x="1902" y="218"/>
                  </a:lnTo>
                  <a:lnTo>
                    <a:pt x="1902" y="224"/>
                  </a:lnTo>
                  <a:lnTo>
                    <a:pt x="1918" y="224"/>
                  </a:lnTo>
                  <a:lnTo>
                    <a:pt x="1918" y="230"/>
                  </a:lnTo>
                  <a:lnTo>
                    <a:pt x="1932" y="230"/>
                  </a:lnTo>
                  <a:lnTo>
                    <a:pt x="1932" y="235"/>
                  </a:lnTo>
                  <a:lnTo>
                    <a:pt x="1950" y="235"/>
                  </a:lnTo>
                  <a:lnTo>
                    <a:pt x="1950" y="242"/>
                  </a:lnTo>
                  <a:lnTo>
                    <a:pt x="1959" y="242"/>
                  </a:lnTo>
                  <a:lnTo>
                    <a:pt x="1959" y="248"/>
                  </a:lnTo>
                  <a:lnTo>
                    <a:pt x="1979" y="248"/>
                  </a:lnTo>
                  <a:lnTo>
                    <a:pt x="1979" y="254"/>
                  </a:lnTo>
                  <a:lnTo>
                    <a:pt x="1994" y="254"/>
                  </a:lnTo>
                  <a:lnTo>
                    <a:pt x="1994" y="259"/>
                  </a:lnTo>
                  <a:lnTo>
                    <a:pt x="2003" y="259"/>
                  </a:lnTo>
                  <a:lnTo>
                    <a:pt x="2003" y="267"/>
                  </a:lnTo>
                  <a:lnTo>
                    <a:pt x="2027" y="267"/>
                  </a:lnTo>
                  <a:lnTo>
                    <a:pt x="2027" y="272"/>
                  </a:lnTo>
                  <a:lnTo>
                    <a:pt x="2036" y="272"/>
                  </a:lnTo>
                  <a:lnTo>
                    <a:pt x="2036" y="278"/>
                  </a:lnTo>
                  <a:lnTo>
                    <a:pt x="2066" y="278"/>
                  </a:lnTo>
                  <a:lnTo>
                    <a:pt x="2066" y="283"/>
                  </a:lnTo>
                  <a:lnTo>
                    <a:pt x="2085" y="283"/>
                  </a:lnTo>
                  <a:lnTo>
                    <a:pt x="2085" y="289"/>
                  </a:lnTo>
                  <a:lnTo>
                    <a:pt x="2103" y="289"/>
                  </a:lnTo>
                  <a:lnTo>
                    <a:pt x="2103" y="295"/>
                  </a:lnTo>
                  <a:lnTo>
                    <a:pt x="2118" y="295"/>
                  </a:lnTo>
                  <a:lnTo>
                    <a:pt x="2118" y="300"/>
                  </a:lnTo>
                  <a:lnTo>
                    <a:pt x="2143" y="300"/>
                  </a:lnTo>
                  <a:lnTo>
                    <a:pt x="2143" y="308"/>
                  </a:lnTo>
                  <a:lnTo>
                    <a:pt x="2162" y="308"/>
                  </a:lnTo>
                  <a:lnTo>
                    <a:pt x="2162" y="313"/>
                  </a:lnTo>
                  <a:lnTo>
                    <a:pt x="2181" y="313"/>
                  </a:lnTo>
                  <a:lnTo>
                    <a:pt x="2181" y="319"/>
                  </a:lnTo>
                  <a:lnTo>
                    <a:pt x="2195" y="319"/>
                  </a:lnTo>
                  <a:lnTo>
                    <a:pt x="2195" y="325"/>
                  </a:lnTo>
                  <a:lnTo>
                    <a:pt x="2206" y="325"/>
                  </a:lnTo>
                  <a:lnTo>
                    <a:pt x="2206" y="330"/>
                  </a:lnTo>
                  <a:lnTo>
                    <a:pt x="2225" y="330"/>
                  </a:lnTo>
                  <a:lnTo>
                    <a:pt x="2225" y="336"/>
                  </a:lnTo>
                  <a:lnTo>
                    <a:pt x="2239" y="336"/>
                  </a:lnTo>
                  <a:lnTo>
                    <a:pt x="2239" y="341"/>
                  </a:lnTo>
                  <a:lnTo>
                    <a:pt x="2248" y="341"/>
                  </a:lnTo>
                  <a:lnTo>
                    <a:pt x="2248" y="349"/>
                  </a:lnTo>
                  <a:lnTo>
                    <a:pt x="2268" y="349"/>
                  </a:lnTo>
                  <a:lnTo>
                    <a:pt x="2268" y="354"/>
                  </a:lnTo>
                  <a:lnTo>
                    <a:pt x="2282" y="354"/>
                  </a:lnTo>
                  <a:lnTo>
                    <a:pt x="2282" y="360"/>
                  </a:lnTo>
                  <a:lnTo>
                    <a:pt x="2291" y="360"/>
                  </a:lnTo>
                  <a:lnTo>
                    <a:pt x="2291" y="366"/>
                  </a:lnTo>
                  <a:lnTo>
                    <a:pt x="2306" y="366"/>
                  </a:lnTo>
                  <a:lnTo>
                    <a:pt x="2306" y="373"/>
                  </a:lnTo>
                  <a:lnTo>
                    <a:pt x="2310" y="373"/>
                  </a:lnTo>
                  <a:lnTo>
                    <a:pt x="2310" y="378"/>
                  </a:lnTo>
                  <a:lnTo>
                    <a:pt x="2320" y="378"/>
                  </a:lnTo>
                  <a:lnTo>
                    <a:pt x="2320" y="384"/>
                  </a:lnTo>
                  <a:lnTo>
                    <a:pt x="2330" y="384"/>
                  </a:lnTo>
                  <a:lnTo>
                    <a:pt x="2330" y="390"/>
                  </a:lnTo>
                  <a:lnTo>
                    <a:pt x="2339" y="390"/>
                  </a:lnTo>
                  <a:lnTo>
                    <a:pt x="2339" y="395"/>
                  </a:lnTo>
                  <a:lnTo>
                    <a:pt x="2354" y="395"/>
                  </a:lnTo>
                  <a:lnTo>
                    <a:pt x="2354" y="401"/>
                  </a:lnTo>
                  <a:lnTo>
                    <a:pt x="2373" y="401"/>
                  </a:lnTo>
                  <a:lnTo>
                    <a:pt x="2373" y="408"/>
                  </a:lnTo>
                  <a:lnTo>
                    <a:pt x="2383" y="408"/>
                  </a:lnTo>
                  <a:lnTo>
                    <a:pt x="2383" y="414"/>
                  </a:lnTo>
                  <a:lnTo>
                    <a:pt x="2397" y="414"/>
                  </a:lnTo>
                  <a:lnTo>
                    <a:pt x="2397" y="419"/>
                  </a:lnTo>
                  <a:lnTo>
                    <a:pt x="2421" y="419"/>
                  </a:lnTo>
                  <a:lnTo>
                    <a:pt x="2421" y="426"/>
                  </a:lnTo>
                  <a:lnTo>
                    <a:pt x="2440" y="426"/>
                  </a:lnTo>
                  <a:lnTo>
                    <a:pt x="2440" y="431"/>
                  </a:lnTo>
                  <a:lnTo>
                    <a:pt x="2450" y="431"/>
                  </a:lnTo>
                  <a:lnTo>
                    <a:pt x="2450" y="436"/>
                  </a:lnTo>
                  <a:lnTo>
                    <a:pt x="2460" y="436"/>
                  </a:lnTo>
                  <a:lnTo>
                    <a:pt x="2460" y="444"/>
                  </a:lnTo>
                  <a:lnTo>
                    <a:pt x="2479" y="444"/>
                  </a:lnTo>
                  <a:lnTo>
                    <a:pt x="2479" y="449"/>
                  </a:lnTo>
                  <a:lnTo>
                    <a:pt x="2498" y="449"/>
                  </a:lnTo>
                  <a:lnTo>
                    <a:pt x="2498" y="455"/>
                  </a:lnTo>
                  <a:lnTo>
                    <a:pt x="2513" y="455"/>
                  </a:lnTo>
                  <a:lnTo>
                    <a:pt x="2513" y="460"/>
                  </a:lnTo>
                  <a:lnTo>
                    <a:pt x="2531" y="460"/>
                  </a:lnTo>
                  <a:lnTo>
                    <a:pt x="2531" y="468"/>
                  </a:lnTo>
                  <a:lnTo>
                    <a:pt x="2546" y="468"/>
                  </a:lnTo>
                  <a:lnTo>
                    <a:pt x="2546" y="473"/>
                  </a:lnTo>
                  <a:lnTo>
                    <a:pt x="2560" y="473"/>
                  </a:lnTo>
                  <a:lnTo>
                    <a:pt x="2560" y="479"/>
                  </a:lnTo>
                  <a:lnTo>
                    <a:pt x="2575" y="479"/>
                  </a:lnTo>
                  <a:lnTo>
                    <a:pt x="2575" y="485"/>
                  </a:lnTo>
                  <a:lnTo>
                    <a:pt x="2599" y="485"/>
                  </a:lnTo>
                  <a:lnTo>
                    <a:pt x="2599" y="490"/>
                  </a:lnTo>
                  <a:lnTo>
                    <a:pt x="2613" y="490"/>
                  </a:lnTo>
                  <a:lnTo>
                    <a:pt x="2613" y="496"/>
                  </a:lnTo>
                  <a:lnTo>
                    <a:pt x="2631" y="496"/>
                  </a:lnTo>
                  <a:lnTo>
                    <a:pt x="2631" y="502"/>
                  </a:lnTo>
                  <a:lnTo>
                    <a:pt x="2647" y="502"/>
                  </a:lnTo>
                  <a:lnTo>
                    <a:pt x="2647" y="509"/>
                  </a:lnTo>
                  <a:lnTo>
                    <a:pt x="2661" y="509"/>
                  </a:lnTo>
                  <a:lnTo>
                    <a:pt x="2661" y="514"/>
                  </a:lnTo>
                  <a:lnTo>
                    <a:pt x="2680" y="514"/>
                  </a:lnTo>
                  <a:lnTo>
                    <a:pt x="2680" y="520"/>
                  </a:lnTo>
                  <a:lnTo>
                    <a:pt x="2700" y="520"/>
                  </a:lnTo>
                  <a:lnTo>
                    <a:pt x="2700" y="526"/>
                  </a:lnTo>
                  <a:lnTo>
                    <a:pt x="2719" y="526"/>
                  </a:lnTo>
                  <a:lnTo>
                    <a:pt x="2719" y="531"/>
                  </a:lnTo>
                  <a:lnTo>
                    <a:pt x="2734" y="531"/>
                  </a:lnTo>
                  <a:lnTo>
                    <a:pt x="2734" y="537"/>
                  </a:lnTo>
                  <a:lnTo>
                    <a:pt x="2752" y="537"/>
                  </a:lnTo>
                  <a:lnTo>
                    <a:pt x="2752" y="544"/>
                  </a:lnTo>
                  <a:lnTo>
                    <a:pt x="2767" y="544"/>
                  </a:lnTo>
                  <a:lnTo>
                    <a:pt x="2767" y="550"/>
                  </a:lnTo>
                  <a:lnTo>
                    <a:pt x="2781" y="550"/>
                  </a:lnTo>
                  <a:lnTo>
                    <a:pt x="2781" y="555"/>
                  </a:lnTo>
                  <a:lnTo>
                    <a:pt x="2801" y="555"/>
                  </a:lnTo>
                  <a:lnTo>
                    <a:pt x="2801" y="561"/>
                  </a:lnTo>
                  <a:lnTo>
                    <a:pt x="2824" y="561"/>
                  </a:lnTo>
                  <a:lnTo>
                    <a:pt x="2824" y="567"/>
                  </a:lnTo>
                  <a:lnTo>
                    <a:pt x="2844" y="567"/>
                  </a:lnTo>
                  <a:lnTo>
                    <a:pt x="2844" y="572"/>
                  </a:lnTo>
                  <a:lnTo>
                    <a:pt x="2868" y="572"/>
                  </a:lnTo>
                  <a:lnTo>
                    <a:pt x="2868" y="579"/>
                  </a:lnTo>
                  <a:lnTo>
                    <a:pt x="2887" y="579"/>
                  </a:lnTo>
                  <a:lnTo>
                    <a:pt x="2887" y="585"/>
                  </a:lnTo>
                  <a:lnTo>
                    <a:pt x="2911" y="585"/>
                  </a:lnTo>
                  <a:lnTo>
                    <a:pt x="2911" y="591"/>
                  </a:lnTo>
                  <a:lnTo>
                    <a:pt x="2931" y="591"/>
                  </a:lnTo>
                  <a:lnTo>
                    <a:pt x="2931" y="596"/>
                  </a:lnTo>
                  <a:lnTo>
                    <a:pt x="2959" y="596"/>
                  </a:lnTo>
                  <a:lnTo>
                    <a:pt x="2959" y="602"/>
                  </a:lnTo>
                  <a:lnTo>
                    <a:pt x="2997" y="602"/>
                  </a:lnTo>
                  <a:lnTo>
                    <a:pt x="2997" y="609"/>
                  </a:lnTo>
                  <a:lnTo>
                    <a:pt x="3026" y="609"/>
                  </a:lnTo>
                  <a:lnTo>
                    <a:pt x="3026" y="614"/>
                  </a:lnTo>
                  <a:lnTo>
                    <a:pt x="3041" y="614"/>
                  </a:lnTo>
                  <a:lnTo>
                    <a:pt x="3041" y="621"/>
                  </a:lnTo>
                  <a:lnTo>
                    <a:pt x="3059" y="621"/>
                  </a:lnTo>
                  <a:lnTo>
                    <a:pt x="3059" y="626"/>
                  </a:lnTo>
                  <a:lnTo>
                    <a:pt x="3069" y="626"/>
                  </a:lnTo>
                  <a:lnTo>
                    <a:pt x="3069" y="632"/>
                  </a:lnTo>
                  <a:lnTo>
                    <a:pt x="3098" y="632"/>
                  </a:lnTo>
                  <a:lnTo>
                    <a:pt x="3098" y="637"/>
                  </a:lnTo>
                  <a:lnTo>
                    <a:pt x="3112" y="637"/>
                  </a:lnTo>
                  <a:lnTo>
                    <a:pt x="3112" y="645"/>
                  </a:lnTo>
                  <a:lnTo>
                    <a:pt x="3126" y="645"/>
                  </a:lnTo>
                  <a:lnTo>
                    <a:pt x="3126" y="650"/>
                  </a:lnTo>
                  <a:lnTo>
                    <a:pt x="3147" y="650"/>
                  </a:lnTo>
                  <a:lnTo>
                    <a:pt x="3147" y="655"/>
                  </a:lnTo>
                  <a:lnTo>
                    <a:pt x="3161" y="655"/>
                  </a:lnTo>
                  <a:lnTo>
                    <a:pt x="3161" y="662"/>
                  </a:lnTo>
                  <a:lnTo>
                    <a:pt x="3180" y="662"/>
                  </a:lnTo>
                  <a:lnTo>
                    <a:pt x="3180" y="667"/>
                  </a:lnTo>
                  <a:lnTo>
                    <a:pt x="3199" y="667"/>
                  </a:lnTo>
                  <a:lnTo>
                    <a:pt x="3199" y="673"/>
                  </a:lnTo>
                  <a:lnTo>
                    <a:pt x="3219" y="673"/>
                  </a:lnTo>
                  <a:lnTo>
                    <a:pt x="3219" y="680"/>
                  </a:lnTo>
                  <a:lnTo>
                    <a:pt x="3238" y="680"/>
                  </a:lnTo>
                  <a:lnTo>
                    <a:pt x="3238" y="686"/>
                  </a:lnTo>
                  <a:lnTo>
                    <a:pt x="3256" y="686"/>
                  </a:lnTo>
                  <a:lnTo>
                    <a:pt x="3256" y="691"/>
                  </a:lnTo>
                  <a:lnTo>
                    <a:pt x="3285" y="691"/>
                  </a:lnTo>
                  <a:lnTo>
                    <a:pt x="3285" y="697"/>
                  </a:lnTo>
                  <a:lnTo>
                    <a:pt x="3305" y="697"/>
                  </a:lnTo>
                  <a:lnTo>
                    <a:pt x="3305" y="703"/>
                  </a:lnTo>
                  <a:lnTo>
                    <a:pt x="3319" y="703"/>
                  </a:lnTo>
                  <a:lnTo>
                    <a:pt x="3319" y="708"/>
                  </a:lnTo>
                  <a:lnTo>
                    <a:pt x="3338" y="708"/>
                  </a:lnTo>
                  <a:lnTo>
                    <a:pt x="3338" y="715"/>
                  </a:lnTo>
                  <a:lnTo>
                    <a:pt x="3367" y="715"/>
                  </a:lnTo>
                  <a:lnTo>
                    <a:pt x="3367" y="721"/>
                  </a:lnTo>
                  <a:lnTo>
                    <a:pt x="3382" y="721"/>
                  </a:lnTo>
                  <a:lnTo>
                    <a:pt x="3382" y="727"/>
                  </a:lnTo>
                  <a:lnTo>
                    <a:pt x="3387" y="727"/>
                  </a:lnTo>
                  <a:lnTo>
                    <a:pt x="3387" y="732"/>
                  </a:lnTo>
                  <a:lnTo>
                    <a:pt x="3396" y="732"/>
                  </a:lnTo>
                  <a:lnTo>
                    <a:pt x="3396" y="740"/>
                  </a:lnTo>
                  <a:lnTo>
                    <a:pt x="3406" y="740"/>
                  </a:lnTo>
                  <a:lnTo>
                    <a:pt x="3406" y="745"/>
                  </a:lnTo>
                  <a:lnTo>
                    <a:pt x="3415" y="745"/>
                  </a:lnTo>
                  <a:lnTo>
                    <a:pt x="3415" y="750"/>
                  </a:lnTo>
                  <a:lnTo>
                    <a:pt x="3429" y="750"/>
                  </a:lnTo>
                  <a:lnTo>
                    <a:pt x="3429" y="756"/>
                  </a:lnTo>
                  <a:lnTo>
                    <a:pt x="3444" y="756"/>
                  </a:lnTo>
                  <a:lnTo>
                    <a:pt x="3444" y="762"/>
                  </a:lnTo>
                  <a:lnTo>
                    <a:pt x="3463" y="762"/>
                  </a:lnTo>
                  <a:lnTo>
                    <a:pt x="3463" y="768"/>
                  </a:lnTo>
                  <a:lnTo>
                    <a:pt x="3473" y="768"/>
                  </a:lnTo>
                  <a:lnTo>
                    <a:pt x="3473" y="773"/>
                  </a:lnTo>
                  <a:lnTo>
                    <a:pt x="3482" y="773"/>
                  </a:lnTo>
                  <a:lnTo>
                    <a:pt x="3482" y="781"/>
                  </a:lnTo>
                  <a:lnTo>
                    <a:pt x="3507" y="781"/>
                  </a:lnTo>
                  <a:lnTo>
                    <a:pt x="3507" y="786"/>
                  </a:lnTo>
                  <a:lnTo>
                    <a:pt x="3526" y="786"/>
                  </a:lnTo>
                  <a:lnTo>
                    <a:pt x="3526" y="792"/>
                  </a:lnTo>
                  <a:lnTo>
                    <a:pt x="3545" y="792"/>
                  </a:lnTo>
                  <a:lnTo>
                    <a:pt x="3545" y="798"/>
                  </a:lnTo>
                  <a:lnTo>
                    <a:pt x="3559" y="798"/>
                  </a:lnTo>
                  <a:lnTo>
                    <a:pt x="3559" y="803"/>
                  </a:lnTo>
                  <a:lnTo>
                    <a:pt x="3593" y="803"/>
                  </a:lnTo>
                  <a:lnTo>
                    <a:pt x="3593" y="809"/>
                  </a:lnTo>
                  <a:lnTo>
                    <a:pt x="3613" y="809"/>
                  </a:lnTo>
                  <a:lnTo>
                    <a:pt x="3613" y="814"/>
                  </a:lnTo>
                  <a:lnTo>
                    <a:pt x="3622" y="814"/>
                  </a:lnTo>
                  <a:lnTo>
                    <a:pt x="3622" y="822"/>
                  </a:lnTo>
                  <a:lnTo>
                    <a:pt x="3636" y="822"/>
                  </a:lnTo>
                  <a:lnTo>
                    <a:pt x="3636" y="827"/>
                  </a:lnTo>
                  <a:lnTo>
                    <a:pt x="3656" y="827"/>
                  </a:lnTo>
                  <a:lnTo>
                    <a:pt x="3656" y="833"/>
                  </a:lnTo>
                  <a:lnTo>
                    <a:pt x="3680" y="833"/>
                  </a:lnTo>
                  <a:lnTo>
                    <a:pt x="3680" y="839"/>
                  </a:lnTo>
                  <a:lnTo>
                    <a:pt x="3688" y="839"/>
                  </a:lnTo>
                  <a:lnTo>
                    <a:pt x="3688" y="846"/>
                  </a:lnTo>
                  <a:lnTo>
                    <a:pt x="3698" y="846"/>
                  </a:lnTo>
                  <a:lnTo>
                    <a:pt x="3698" y="851"/>
                  </a:lnTo>
                  <a:lnTo>
                    <a:pt x="3703" y="851"/>
                  </a:lnTo>
                  <a:lnTo>
                    <a:pt x="3703" y="857"/>
                  </a:lnTo>
                  <a:lnTo>
                    <a:pt x="3717" y="857"/>
                  </a:lnTo>
                  <a:lnTo>
                    <a:pt x="3717" y="863"/>
                  </a:lnTo>
                  <a:lnTo>
                    <a:pt x="3742" y="863"/>
                  </a:lnTo>
                  <a:lnTo>
                    <a:pt x="3742" y="868"/>
                  </a:lnTo>
                  <a:lnTo>
                    <a:pt x="3761" y="868"/>
                  </a:lnTo>
                  <a:lnTo>
                    <a:pt x="3761" y="874"/>
                  </a:lnTo>
                  <a:lnTo>
                    <a:pt x="3780" y="874"/>
                  </a:lnTo>
                  <a:lnTo>
                    <a:pt x="3780" y="881"/>
                  </a:lnTo>
                  <a:lnTo>
                    <a:pt x="3794" y="881"/>
                  </a:lnTo>
                  <a:lnTo>
                    <a:pt x="3794" y="887"/>
                  </a:lnTo>
                  <a:lnTo>
                    <a:pt x="3805" y="887"/>
                  </a:lnTo>
                  <a:lnTo>
                    <a:pt x="3805" y="892"/>
                  </a:lnTo>
                  <a:lnTo>
                    <a:pt x="3814" y="892"/>
                  </a:lnTo>
                  <a:lnTo>
                    <a:pt x="3814" y="899"/>
                  </a:lnTo>
                  <a:lnTo>
                    <a:pt x="3838" y="899"/>
                  </a:lnTo>
                  <a:lnTo>
                    <a:pt x="3838" y="904"/>
                  </a:lnTo>
                  <a:lnTo>
                    <a:pt x="3843" y="904"/>
                  </a:lnTo>
                  <a:lnTo>
                    <a:pt x="3843" y="909"/>
                  </a:lnTo>
                  <a:lnTo>
                    <a:pt x="3866" y="909"/>
                  </a:lnTo>
                  <a:lnTo>
                    <a:pt x="3866" y="917"/>
                  </a:lnTo>
                  <a:lnTo>
                    <a:pt x="3915" y="917"/>
                  </a:lnTo>
                  <a:lnTo>
                    <a:pt x="3915" y="922"/>
                  </a:lnTo>
                  <a:lnTo>
                    <a:pt x="3934" y="922"/>
                  </a:lnTo>
                  <a:lnTo>
                    <a:pt x="3934" y="928"/>
                  </a:lnTo>
                  <a:lnTo>
                    <a:pt x="3949" y="928"/>
                  </a:lnTo>
                  <a:lnTo>
                    <a:pt x="3949" y="933"/>
                  </a:lnTo>
                  <a:lnTo>
                    <a:pt x="3968" y="933"/>
                  </a:lnTo>
                  <a:lnTo>
                    <a:pt x="3968" y="940"/>
                  </a:lnTo>
                  <a:lnTo>
                    <a:pt x="3991" y="940"/>
                  </a:lnTo>
                  <a:lnTo>
                    <a:pt x="3991" y="945"/>
                  </a:lnTo>
                  <a:lnTo>
                    <a:pt x="4011" y="945"/>
                  </a:lnTo>
                  <a:lnTo>
                    <a:pt x="4011" y="950"/>
                  </a:lnTo>
                  <a:lnTo>
                    <a:pt x="4021" y="950"/>
                  </a:lnTo>
                  <a:lnTo>
                    <a:pt x="4021" y="958"/>
                  </a:lnTo>
                  <a:lnTo>
                    <a:pt x="4035" y="958"/>
                  </a:lnTo>
                  <a:lnTo>
                    <a:pt x="4035" y="963"/>
                  </a:lnTo>
                  <a:lnTo>
                    <a:pt x="4045" y="963"/>
                  </a:lnTo>
                  <a:lnTo>
                    <a:pt x="4045" y="969"/>
                  </a:lnTo>
                  <a:lnTo>
                    <a:pt x="4059" y="969"/>
                  </a:lnTo>
                  <a:lnTo>
                    <a:pt x="4059" y="975"/>
                  </a:lnTo>
                  <a:lnTo>
                    <a:pt x="4068" y="975"/>
                  </a:lnTo>
                  <a:lnTo>
                    <a:pt x="4068" y="982"/>
                  </a:lnTo>
                  <a:lnTo>
                    <a:pt x="4072" y="982"/>
                  </a:lnTo>
                  <a:lnTo>
                    <a:pt x="4072" y="987"/>
                  </a:lnTo>
                  <a:lnTo>
                    <a:pt x="4082" y="987"/>
                  </a:lnTo>
                  <a:lnTo>
                    <a:pt x="4082" y="993"/>
                  </a:lnTo>
                  <a:lnTo>
                    <a:pt x="4098" y="993"/>
                  </a:lnTo>
                  <a:lnTo>
                    <a:pt x="4098" y="999"/>
                  </a:lnTo>
                  <a:lnTo>
                    <a:pt x="4116" y="999"/>
                  </a:lnTo>
                  <a:lnTo>
                    <a:pt x="4116" y="1004"/>
                  </a:lnTo>
                  <a:lnTo>
                    <a:pt x="4131" y="1004"/>
                  </a:lnTo>
                  <a:lnTo>
                    <a:pt x="4131" y="1010"/>
                  </a:lnTo>
                  <a:lnTo>
                    <a:pt x="4141" y="1010"/>
                  </a:lnTo>
                  <a:lnTo>
                    <a:pt x="4141" y="1017"/>
                  </a:lnTo>
                  <a:lnTo>
                    <a:pt x="4149" y="1017"/>
                  </a:lnTo>
                  <a:lnTo>
                    <a:pt x="4149" y="1022"/>
                  </a:lnTo>
                  <a:lnTo>
                    <a:pt x="4169" y="1022"/>
                  </a:lnTo>
                  <a:lnTo>
                    <a:pt x="4169" y="1028"/>
                  </a:lnTo>
                  <a:lnTo>
                    <a:pt x="4189" y="1028"/>
                  </a:lnTo>
                  <a:lnTo>
                    <a:pt x="4189" y="1034"/>
                  </a:lnTo>
                  <a:lnTo>
                    <a:pt x="4208" y="1034"/>
                  </a:lnTo>
                  <a:lnTo>
                    <a:pt x="4208" y="1040"/>
                  </a:lnTo>
                  <a:lnTo>
                    <a:pt x="4222" y="1040"/>
                  </a:lnTo>
                  <a:lnTo>
                    <a:pt x="4222" y="1045"/>
                  </a:lnTo>
                  <a:lnTo>
                    <a:pt x="4237" y="1045"/>
                  </a:lnTo>
                  <a:lnTo>
                    <a:pt x="4237" y="1052"/>
                  </a:lnTo>
                  <a:lnTo>
                    <a:pt x="4246" y="1052"/>
                  </a:lnTo>
                  <a:lnTo>
                    <a:pt x="4246" y="1058"/>
                  </a:lnTo>
                  <a:lnTo>
                    <a:pt x="4261" y="1058"/>
                  </a:lnTo>
                  <a:lnTo>
                    <a:pt x="4261" y="1063"/>
                  </a:lnTo>
                  <a:lnTo>
                    <a:pt x="4275" y="1063"/>
                  </a:lnTo>
                  <a:lnTo>
                    <a:pt x="4275" y="1069"/>
                  </a:lnTo>
                  <a:lnTo>
                    <a:pt x="4294" y="1069"/>
                  </a:lnTo>
                  <a:lnTo>
                    <a:pt x="4294" y="1075"/>
                  </a:lnTo>
                  <a:lnTo>
                    <a:pt x="4305" y="1075"/>
                  </a:lnTo>
                  <a:lnTo>
                    <a:pt x="4305" y="1081"/>
                  </a:lnTo>
                  <a:lnTo>
                    <a:pt x="4319" y="1081"/>
                  </a:lnTo>
                  <a:lnTo>
                    <a:pt x="4319" y="1086"/>
                  </a:lnTo>
                  <a:lnTo>
                    <a:pt x="4333" y="1086"/>
                  </a:lnTo>
                  <a:lnTo>
                    <a:pt x="4333" y="1094"/>
                  </a:lnTo>
                  <a:lnTo>
                    <a:pt x="4347" y="1094"/>
                  </a:lnTo>
                  <a:lnTo>
                    <a:pt x="4347" y="1099"/>
                  </a:lnTo>
                  <a:lnTo>
                    <a:pt x="4370" y="1099"/>
                  </a:lnTo>
                  <a:lnTo>
                    <a:pt x="4370" y="1105"/>
                  </a:lnTo>
                  <a:lnTo>
                    <a:pt x="4386" y="1105"/>
                  </a:lnTo>
                  <a:lnTo>
                    <a:pt x="4386" y="1110"/>
                  </a:lnTo>
                  <a:lnTo>
                    <a:pt x="4396" y="1110"/>
                  </a:lnTo>
                  <a:lnTo>
                    <a:pt x="4396" y="1116"/>
                  </a:lnTo>
                  <a:lnTo>
                    <a:pt x="4414" y="1116"/>
                  </a:lnTo>
                  <a:lnTo>
                    <a:pt x="4414" y="1123"/>
                  </a:lnTo>
                  <a:lnTo>
                    <a:pt x="4419" y="1123"/>
                  </a:lnTo>
                  <a:lnTo>
                    <a:pt x="4419" y="1128"/>
                  </a:lnTo>
                  <a:lnTo>
                    <a:pt x="4443" y="1128"/>
                  </a:lnTo>
                  <a:lnTo>
                    <a:pt x="4443" y="1135"/>
                  </a:lnTo>
                  <a:lnTo>
                    <a:pt x="4447" y="1135"/>
                  </a:lnTo>
                  <a:lnTo>
                    <a:pt x="4447" y="1140"/>
                  </a:lnTo>
                  <a:lnTo>
                    <a:pt x="4463" y="1140"/>
                  </a:lnTo>
                  <a:lnTo>
                    <a:pt x="4463" y="1146"/>
                  </a:lnTo>
                  <a:lnTo>
                    <a:pt x="4472" y="1146"/>
                  </a:lnTo>
                  <a:lnTo>
                    <a:pt x="4472" y="1153"/>
                  </a:lnTo>
                  <a:lnTo>
                    <a:pt x="4482" y="1153"/>
                  </a:lnTo>
                  <a:lnTo>
                    <a:pt x="4482" y="1159"/>
                  </a:lnTo>
                  <a:lnTo>
                    <a:pt x="4500" y="1159"/>
                  </a:lnTo>
                  <a:lnTo>
                    <a:pt x="4500" y="1164"/>
                  </a:lnTo>
                  <a:lnTo>
                    <a:pt x="4515" y="1164"/>
                  </a:lnTo>
                  <a:lnTo>
                    <a:pt x="4515" y="1170"/>
                  </a:lnTo>
                  <a:lnTo>
                    <a:pt x="4530" y="1170"/>
                  </a:lnTo>
                  <a:lnTo>
                    <a:pt x="4530" y="1176"/>
                  </a:lnTo>
                  <a:lnTo>
                    <a:pt x="4544" y="1176"/>
                  </a:lnTo>
                  <a:lnTo>
                    <a:pt x="4544" y="1181"/>
                  </a:lnTo>
                  <a:lnTo>
                    <a:pt x="4559" y="1181"/>
                  </a:lnTo>
                  <a:lnTo>
                    <a:pt x="4559" y="1188"/>
                  </a:lnTo>
                  <a:lnTo>
                    <a:pt x="4563" y="1188"/>
                  </a:lnTo>
                  <a:lnTo>
                    <a:pt x="4563" y="1194"/>
                  </a:lnTo>
                  <a:lnTo>
                    <a:pt x="4573" y="1194"/>
                  </a:lnTo>
                  <a:lnTo>
                    <a:pt x="4573" y="1200"/>
                  </a:lnTo>
                  <a:lnTo>
                    <a:pt x="4577" y="1200"/>
                  </a:lnTo>
                  <a:lnTo>
                    <a:pt x="4577" y="1205"/>
                  </a:lnTo>
                  <a:lnTo>
                    <a:pt x="4592" y="1205"/>
                  </a:lnTo>
                  <a:lnTo>
                    <a:pt x="4592" y="1217"/>
                  </a:lnTo>
                  <a:lnTo>
                    <a:pt x="4597" y="1217"/>
                  </a:lnTo>
                  <a:lnTo>
                    <a:pt x="4597" y="1222"/>
                  </a:lnTo>
                  <a:lnTo>
                    <a:pt x="4602" y="1222"/>
                  </a:lnTo>
                  <a:lnTo>
                    <a:pt x="4602" y="1235"/>
                  </a:lnTo>
                  <a:lnTo>
                    <a:pt x="4607" y="1235"/>
                  </a:lnTo>
                  <a:lnTo>
                    <a:pt x="4607" y="1241"/>
                  </a:lnTo>
                  <a:lnTo>
                    <a:pt x="4612" y="1241"/>
                  </a:lnTo>
                  <a:lnTo>
                    <a:pt x="4612" y="1259"/>
                  </a:lnTo>
                  <a:lnTo>
                    <a:pt x="4616" y="1259"/>
                  </a:lnTo>
                  <a:lnTo>
                    <a:pt x="4616" y="1287"/>
                  </a:lnTo>
                  <a:lnTo>
                    <a:pt x="4612" y="1287"/>
                  </a:lnTo>
                  <a:lnTo>
                    <a:pt x="4612" y="1312"/>
                  </a:lnTo>
                  <a:lnTo>
                    <a:pt x="4607" y="1312"/>
                  </a:lnTo>
                  <a:lnTo>
                    <a:pt x="4607" y="1324"/>
                  </a:lnTo>
                  <a:lnTo>
                    <a:pt x="4602" y="1324"/>
                  </a:lnTo>
                  <a:lnTo>
                    <a:pt x="4602" y="1336"/>
                  </a:lnTo>
                  <a:lnTo>
                    <a:pt x="4597" y="1336"/>
                  </a:lnTo>
                  <a:lnTo>
                    <a:pt x="4597" y="1341"/>
                  </a:lnTo>
                  <a:lnTo>
                    <a:pt x="4592" y="1341"/>
                  </a:lnTo>
                  <a:lnTo>
                    <a:pt x="4592" y="1353"/>
                  </a:lnTo>
                  <a:lnTo>
                    <a:pt x="4587" y="1353"/>
                  </a:lnTo>
                  <a:lnTo>
                    <a:pt x="4587" y="1365"/>
                  </a:lnTo>
                  <a:lnTo>
                    <a:pt x="4582" y="1365"/>
                  </a:lnTo>
                  <a:lnTo>
                    <a:pt x="4582" y="1377"/>
                  </a:lnTo>
                  <a:lnTo>
                    <a:pt x="4577" y="1377"/>
                  </a:lnTo>
                  <a:lnTo>
                    <a:pt x="4577" y="1390"/>
                  </a:lnTo>
                  <a:lnTo>
                    <a:pt x="4573" y="1390"/>
                  </a:lnTo>
                  <a:lnTo>
                    <a:pt x="4573" y="1395"/>
                  </a:lnTo>
                  <a:lnTo>
                    <a:pt x="4568" y="1395"/>
                  </a:lnTo>
                  <a:lnTo>
                    <a:pt x="4568" y="1401"/>
                  </a:lnTo>
                  <a:lnTo>
                    <a:pt x="4563" y="1401"/>
                  </a:lnTo>
                  <a:lnTo>
                    <a:pt x="4563" y="1423"/>
                  </a:lnTo>
                  <a:lnTo>
                    <a:pt x="4559" y="1423"/>
                  </a:lnTo>
                  <a:lnTo>
                    <a:pt x="4559" y="1431"/>
                  </a:lnTo>
                  <a:lnTo>
                    <a:pt x="4553" y="1431"/>
                  </a:lnTo>
                  <a:lnTo>
                    <a:pt x="4553" y="1448"/>
                  </a:lnTo>
                  <a:lnTo>
                    <a:pt x="4549" y="1448"/>
                  </a:lnTo>
                  <a:lnTo>
                    <a:pt x="4549" y="1466"/>
                  </a:lnTo>
                  <a:lnTo>
                    <a:pt x="4544" y="1466"/>
                  </a:lnTo>
                  <a:lnTo>
                    <a:pt x="4544" y="1477"/>
                  </a:lnTo>
                  <a:lnTo>
                    <a:pt x="4540" y="1477"/>
                  </a:lnTo>
                  <a:lnTo>
                    <a:pt x="4540" y="1490"/>
                  </a:lnTo>
                  <a:lnTo>
                    <a:pt x="4534" y="1490"/>
                  </a:lnTo>
                  <a:lnTo>
                    <a:pt x="4534" y="1507"/>
                  </a:lnTo>
                  <a:lnTo>
                    <a:pt x="4530" y="1507"/>
                  </a:lnTo>
                  <a:lnTo>
                    <a:pt x="4530" y="1518"/>
                  </a:lnTo>
                  <a:lnTo>
                    <a:pt x="4526" y="1518"/>
                  </a:lnTo>
                  <a:lnTo>
                    <a:pt x="4526" y="1536"/>
                  </a:lnTo>
                  <a:lnTo>
                    <a:pt x="4515" y="1536"/>
                  </a:lnTo>
                  <a:lnTo>
                    <a:pt x="4515" y="1548"/>
                  </a:lnTo>
                  <a:lnTo>
                    <a:pt x="4510" y="1548"/>
                  </a:lnTo>
                  <a:lnTo>
                    <a:pt x="4510" y="1559"/>
                  </a:lnTo>
                  <a:lnTo>
                    <a:pt x="4505" y="1559"/>
                  </a:lnTo>
                  <a:lnTo>
                    <a:pt x="4505" y="1583"/>
                  </a:lnTo>
                  <a:lnTo>
                    <a:pt x="4500" y="1583"/>
                  </a:lnTo>
                  <a:lnTo>
                    <a:pt x="4500" y="1596"/>
                  </a:lnTo>
                  <a:lnTo>
                    <a:pt x="4496" y="1596"/>
                  </a:lnTo>
                  <a:lnTo>
                    <a:pt x="4496" y="1608"/>
                  </a:lnTo>
                  <a:lnTo>
                    <a:pt x="4491" y="1608"/>
                  </a:lnTo>
                  <a:lnTo>
                    <a:pt x="4491" y="1626"/>
                  </a:lnTo>
                  <a:lnTo>
                    <a:pt x="4486" y="1626"/>
                  </a:lnTo>
                  <a:lnTo>
                    <a:pt x="4486" y="1637"/>
                  </a:lnTo>
                  <a:lnTo>
                    <a:pt x="4482" y="1637"/>
                  </a:lnTo>
                  <a:lnTo>
                    <a:pt x="4482" y="1649"/>
                  </a:lnTo>
                  <a:lnTo>
                    <a:pt x="4477" y="1649"/>
                  </a:lnTo>
                  <a:lnTo>
                    <a:pt x="4477" y="1660"/>
                  </a:lnTo>
                  <a:lnTo>
                    <a:pt x="4472" y="1660"/>
                  </a:lnTo>
                  <a:lnTo>
                    <a:pt x="4472" y="1673"/>
                  </a:lnTo>
                  <a:lnTo>
                    <a:pt x="4467" y="1673"/>
                  </a:lnTo>
                  <a:lnTo>
                    <a:pt x="4467" y="1690"/>
                  </a:lnTo>
                  <a:lnTo>
                    <a:pt x="4463" y="1690"/>
                  </a:lnTo>
                  <a:lnTo>
                    <a:pt x="4463" y="1695"/>
                  </a:lnTo>
                  <a:lnTo>
                    <a:pt x="4457" y="1695"/>
                  </a:lnTo>
                  <a:lnTo>
                    <a:pt x="4457" y="1708"/>
                  </a:lnTo>
                  <a:lnTo>
                    <a:pt x="4453" y="1708"/>
                  </a:lnTo>
                  <a:lnTo>
                    <a:pt x="4453" y="1714"/>
                  </a:lnTo>
                  <a:lnTo>
                    <a:pt x="4447" y="1714"/>
                  </a:lnTo>
                  <a:lnTo>
                    <a:pt x="4447" y="1732"/>
                  </a:lnTo>
                  <a:lnTo>
                    <a:pt x="4443" y="1732"/>
                  </a:lnTo>
                  <a:lnTo>
                    <a:pt x="4443" y="1737"/>
                  </a:lnTo>
                  <a:lnTo>
                    <a:pt x="4438" y="1737"/>
                  </a:lnTo>
                  <a:lnTo>
                    <a:pt x="4438" y="1749"/>
                  </a:lnTo>
                  <a:lnTo>
                    <a:pt x="4433" y="1749"/>
                  </a:lnTo>
                  <a:lnTo>
                    <a:pt x="4433" y="1768"/>
                  </a:lnTo>
                  <a:lnTo>
                    <a:pt x="4429" y="1768"/>
                  </a:lnTo>
                  <a:lnTo>
                    <a:pt x="4429" y="1790"/>
                  </a:lnTo>
                  <a:lnTo>
                    <a:pt x="4423" y="1790"/>
                  </a:lnTo>
                  <a:lnTo>
                    <a:pt x="4423" y="1796"/>
                  </a:lnTo>
                  <a:lnTo>
                    <a:pt x="4419" y="1796"/>
                  </a:lnTo>
                  <a:lnTo>
                    <a:pt x="4419" y="1809"/>
                  </a:lnTo>
                  <a:lnTo>
                    <a:pt x="4414" y="1809"/>
                  </a:lnTo>
                  <a:lnTo>
                    <a:pt x="4414" y="1820"/>
                  </a:lnTo>
                  <a:lnTo>
                    <a:pt x="4409" y="1820"/>
                  </a:lnTo>
                  <a:lnTo>
                    <a:pt x="4409" y="1831"/>
                  </a:lnTo>
                  <a:lnTo>
                    <a:pt x="4405" y="1831"/>
                  </a:lnTo>
                  <a:lnTo>
                    <a:pt x="4405" y="1849"/>
                  </a:lnTo>
                  <a:lnTo>
                    <a:pt x="4400" y="1849"/>
                  </a:lnTo>
                  <a:lnTo>
                    <a:pt x="4400" y="1861"/>
                  </a:lnTo>
                  <a:lnTo>
                    <a:pt x="4396" y="1861"/>
                  </a:lnTo>
                  <a:lnTo>
                    <a:pt x="4396" y="1885"/>
                  </a:lnTo>
                  <a:lnTo>
                    <a:pt x="4390" y="1885"/>
                  </a:lnTo>
                  <a:lnTo>
                    <a:pt x="4390" y="1891"/>
                  </a:lnTo>
                  <a:lnTo>
                    <a:pt x="4386" y="1891"/>
                  </a:lnTo>
                  <a:lnTo>
                    <a:pt x="4386" y="1909"/>
                  </a:lnTo>
                  <a:lnTo>
                    <a:pt x="4381" y="1909"/>
                  </a:lnTo>
                  <a:lnTo>
                    <a:pt x="4381" y="1926"/>
                  </a:lnTo>
                  <a:lnTo>
                    <a:pt x="4376" y="1926"/>
                  </a:lnTo>
                  <a:lnTo>
                    <a:pt x="4376" y="1932"/>
                  </a:lnTo>
                  <a:lnTo>
                    <a:pt x="4370" y="1932"/>
                  </a:lnTo>
                  <a:lnTo>
                    <a:pt x="4370" y="1950"/>
                  </a:lnTo>
                  <a:lnTo>
                    <a:pt x="4366" y="1950"/>
                  </a:lnTo>
                  <a:lnTo>
                    <a:pt x="4366" y="1955"/>
                  </a:lnTo>
                  <a:lnTo>
                    <a:pt x="4361" y="1955"/>
                  </a:lnTo>
                  <a:lnTo>
                    <a:pt x="4361" y="1974"/>
                  </a:lnTo>
                  <a:lnTo>
                    <a:pt x="4356" y="1974"/>
                  </a:lnTo>
                  <a:lnTo>
                    <a:pt x="4356" y="1986"/>
                  </a:lnTo>
                  <a:lnTo>
                    <a:pt x="4352" y="1986"/>
                  </a:lnTo>
                  <a:lnTo>
                    <a:pt x="4352" y="2004"/>
                  </a:lnTo>
                  <a:lnTo>
                    <a:pt x="4347" y="2004"/>
                  </a:lnTo>
                  <a:lnTo>
                    <a:pt x="4347" y="2009"/>
                  </a:lnTo>
                  <a:lnTo>
                    <a:pt x="4342" y="2009"/>
                  </a:lnTo>
                  <a:lnTo>
                    <a:pt x="4342" y="2027"/>
                  </a:lnTo>
                  <a:lnTo>
                    <a:pt x="4338" y="2027"/>
                  </a:lnTo>
                  <a:lnTo>
                    <a:pt x="4338" y="2040"/>
                  </a:lnTo>
                  <a:lnTo>
                    <a:pt x="4333" y="2040"/>
                  </a:lnTo>
                  <a:lnTo>
                    <a:pt x="4333" y="2056"/>
                  </a:lnTo>
                  <a:lnTo>
                    <a:pt x="4328" y="2056"/>
                  </a:lnTo>
                  <a:lnTo>
                    <a:pt x="4328" y="2062"/>
                  </a:lnTo>
                  <a:lnTo>
                    <a:pt x="4323" y="2062"/>
                  </a:lnTo>
                  <a:lnTo>
                    <a:pt x="4323" y="2086"/>
                  </a:lnTo>
                  <a:lnTo>
                    <a:pt x="4319" y="2086"/>
                  </a:lnTo>
                  <a:lnTo>
                    <a:pt x="4319" y="2092"/>
                  </a:lnTo>
                  <a:lnTo>
                    <a:pt x="4313" y="2092"/>
                  </a:lnTo>
                  <a:lnTo>
                    <a:pt x="4313" y="2103"/>
                  </a:lnTo>
                  <a:lnTo>
                    <a:pt x="4309" y="2103"/>
                  </a:lnTo>
                  <a:lnTo>
                    <a:pt x="4309" y="2122"/>
                  </a:lnTo>
                  <a:lnTo>
                    <a:pt x="4305" y="2122"/>
                  </a:lnTo>
                  <a:lnTo>
                    <a:pt x="4305" y="2140"/>
                  </a:lnTo>
                  <a:lnTo>
                    <a:pt x="4299" y="2140"/>
                  </a:lnTo>
                  <a:lnTo>
                    <a:pt x="4299" y="2157"/>
                  </a:lnTo>
                  <a:lnTo>
                    <a:pt x="4294" y="2157"/>
                  </a:lnTo>
                  <a:lnTo>
                    <a:pt x="4294" y="2175"/>
                  </a:lnTo>
                  <a:lnTo>
                    <a:pt x="4289" y="2175"/>
                  </a:lnTo>
                  <a:lnTo>
                    <a:pt x="4289" y="2181"/>
                  </a:lnTo>
                  <a:lnTo>
                    <a:pt x="4285" y="2181"/>
                  </a:lnTo>
                  <a:lnTo>
                    <a:pt x="4285" y="2187"/>
                  </a:lnTo>
                  <a:lnTo>
                    <a:pt x="4279" y="2187"/>
                  </a:lnTo>
                  <a:lnTo>
                    <a:pt x="4279" y="2210"/>
                  </a:lnTo>
                  <a:lnTo>
                    <a:pt x="4275" y="2210"/>
                  </a:lnTo>
                  <a:lnTo>
                    <a:pt x="4275" y="2217"/>
                  </a:lnTo>
                  <a:lnTo>
                    <a:pt x="4271" y="2217"/>
                  </a:lnTo>
                  <a:lnTo>
                    <a:pt x="4271" y="2233"/>
                  </a:lnTo>
                  <a:lnTo>
                    <a:pt x="4265" y="2233"/>
                  </a:lnTo>
                  <a:lnTo>
                    <a:pt x="4265" y="2246"/>
                  </a:lnTo>
                  <a:lnTo>
                    <a:pt x="4261" y="2246"/>
                  </a:lnTo>
                  <a:lnTo>
                    <a:pt x="4261" y="2258"/>
                  </a:lnTo>
                  <a:lnTo>
                    <a:pt x="4256" y="2258"/>
                  </a:lnTo>
                  <a:lnTo>
                    <a:pt x="4256" y="2276"/>
                  </a:lnTo>
                  <a:lnTo>
                    <a:pt x="4251" y="2276"/>
                  </a:lnTo>
                  <a:lnTo>
                    <a:pt x="4251" y="2293"/>
                  </a:lnTo>
                  <a:lnTo>
                    <a:pt x="4246" y="2293"/>
                  </a:lnTo>
                  <a:lnTo>
                    <a:pt x="4246" y="2299"/>
                  </a:lnTo>
                  <a:lnTo>
                    <a:pt x="4237" y="2299"/>
                  </a:lnTo>
                  <a:lnTo>
                    <a:pt x="4237" y="2317"/>
                  </a:lnTo>
                  <a:lnTo>
                    <a:pt x="4232" y="2317"/>
                  </a:lnTo>
                  <a:lnTo>
                    <a:pt x="4232" y="2322"/>
                  </a:lnTo>
                  <a:lnTo>
                    <a:pt x="4227" y="2322"/>
                  </a:lnTo>
                  <a:lnTo>
                    <a:pt x="4227" y="2341"/>
                  </a:lnTo>
                  <a:lnTo>
                    <a:pt x="4222" y="2341"/>
                  </a:lnTo>
                  <a:lnTo>
                    <a:pt x="4222" y="2346"/>
                  </a:lnTo>
                  <a:lnTo>
                    <a:pt x="4217" y="2346"/>
                  </a:lnTo>
                  <a:lnTo>
                    <a:pt x="4217" y="2352"/>
                  </a:lnTo>
                  <a:lnTo>
                    <a:pt x="4212" y="2352"/>
                  </a:lnTo>
                  <a:lnTo>
                    <a:pt x="4212" y="2364"/>
                  </a:lnTo>
                  <a:lnTo>
                    <a:pt x="4208" y="2364"/>
                  </a:lnTo>
                  <a:lnTo>
                    <a:pt x="4208" y="2375"/>
                  </a:lnTo>
                  <a:lnTo>
                    <a:pt x="4203" y="2375"/>
                  </a:lnTo>
                  <a:lnTo>
                    <a:pt x="4203" y="2387"/>
                  </a:lnTo>
                  <a:lnTo>
                    <a:pt x="4198" y="2387"/>
                  </a:lnTo>
                  <a:lnTo>
                    <a:pt x="4198" y="2399"/>
                  </a:lnTo>
                  <a:lnTo>
                    <a:pt x="4193" y="2399"/>
                  </a:lnTo>
                  <a:lnTo>
                    <a:pt x="4193" y="2410"/>
                  </a:lnTo>
                  <a:lnTo>
                    <a:pt x="4189" y="2410"/>
                  </a:lnTo>
                  <a:lnTo>
                    <a:pt x="4189" y="2418"/>
                  </a:lnTo>
                  <a:lnTo>
                    <a:pt x="4184" y="2418"/>
                  </a:lnTo>
                  <a:lnTo>
                    <a:pt x="4184" y="2423"/>
                  </a:lnTo>
                  <a:lnTo>
                    <a:pt x="4179" y="2423"/>
                  </a:lnTo>
                  <a:lnTo>
                    <a:pt x="4179" y="2453"/>
                  </a:lnTo>
                  <a:lnTo>
                    <a:pt x="4175" y="2453"/>
                  </a:lnTo>
                  <a:lnTo>
                    <a:pt x="4175" y="2459"/>
                  </a:lnTo>
                  <a:lnTo>
                    <a:pt x="4165" y="2459"/>
                  </a:lnTo>
                  <a:lnTo>
                    <a:pt x="4165" y="2470"/>
                  </a:lnTo>
                  <a:lnTo>
                    <a:pt x="4160" y="2470"/>
                  </a:lnTo>
                  <a:lnTo>
                    <a:pt x="4160" y="2482"/>
                  </a:lnTo>
                  <a:lnTo>
                    <a:pt x="4155" y="2482"/>
                  </a:lnTo>
                  <a:lnTo>
                    <a:pt x="4155" y="2488"/>
                  </a:lnTo>
                  <a:lnTo>
                    <a:pt x="4149" y="2488"/>
                  </a:lnTo>
                  <a:lnTo>
                    <a:pt x="4149" y="2500"/>
                  </a:lnTo>
                  <a:lnTo>
                    <a:pt x="4145" y="2500"/>
                  </a:lnTo>
                  <a:lnTo>
                    <a:pt x="4145" y="2505"/>
                  </a:lnTo>
                  <a:lnTo>
                    <a:pt x="4141" y="2505"/>
                  </a:lnTo>
                  <a:lnTo>
                    <a:pt x="4141" y="2518"/>
                  </a:lnTo>
                  <a:lnTo>
                    <a:pt x="4135" y="2518"/>
                  </a:lnTo>
                  <a:lnTo>
                    <a:pt x="4135" y="2541"/>
                  </a:lnTo>
                  <a:lnTo>
                    <a:pt x="4126" y="2541"/>
                  </a:lnTo>
                  <a:lnTo>
                    <a:pt x="4126" y="2546"/>
                  </a:lnTo>
                  <a:lnTo>
                    <a:pt x="4121" y="2546"/>
                  </a:lnTo>
                  <a:lnTo>
                    <a:pt x="4121" y="2559"/>
                  </a:lnTo>
                  <a:lnTo>
                    <a:pt x="4116" y="2559"/>
                  </a:lnTo>
                  <a:lnTo>
                    <a:pt x="4116" y="2576"/>
                  </a:lnTo>
                  <a:lnTo>
                    <a:pt x="4112" y="2576"/>
                  </a:lnTo>
                  <a:lnTo>
                    <a:pt x="4112" y="2583"/>
                  </a:lnTo>
                  <a:lnTo>
                    <a:pt x="4107" y="2583"/>
                  </a:lnTo>
                  <a:lnTo>
                    <a:pt x="4107" y="2589"/>
                  </a:lnTo>
                  <a:lnTo>
                    <a:pt x="4102" y="2589"/>
                  </a:lnTo>
                  <a:lnTo>
                    <a:pt x="4102" y="2600"/>
                  </a:lnTo>
                  <a:lnTo>
                    <a:pt x="4098" y="2600"/>
                  </a:lnTo>
                  <a:lnTo>
                    <a:pt x="4098" y="2624"/>
                  </a:lnTo>
                  <a:lnTo>
                    <a:pt x="4093" y="2624"/>
                  </a:lnTo>
                  <a:lnTo>
                    <a:pt x="4093" y="2654"/>
                  </a:lnTo>
                  <a:lnTo>
                    <a:pt x="4088" y="2654"/>
                  </a:lnTo>
                  <a:lnTo>
                    <a:pt x="4088" y="2660"/>
                  </a:lnTo>
                  <a:lnTo>
                    <a:pt x="4082" y="2660"/>
                  </a:lnTo>
                  <a:lnTo>
                    <a:pt x="4082" y="2677"/>
                  </a:lnTo>
                  <a:lnTo>
                    <a:pt x="4072" y="2677"/>
                  </a:lnTo>
                  <a:lnTo>
                    <a:pt x="4072" y="2682"/>
                  </a:lnTo>
                  <a:lnTo>
                    <a:pt x="4068" y="2682"/>
                  </a:lnTo>
                  <a:lnTo>
                    <a:pt x="4068" y="2700"/>
                  </a:lnTo>
                  <a:lnTo>
                    <a:pt x="4064" y="2700"/>
                  </a:lnTo>
                  <a:lnTo>
                    <a:pt x="4064" y="2706"/>
                  </a:lnTo>
                  <a:lnTo>
                    <a:pt x="4059" y="2706"/>
                  </a:lnTo>
                  <a:lnTo>
                    <a:pt x="4059" y="2712"/>
                  </a:lnTo>
                  <a:lnTo>
                    <a:pt x="4054" y="2712"/>
                  </a:lnTo>
                  <a:lnTo>
                    <a:pt x="4054" y="2724"/>
                  </a:lnTo>
                  <a:lnTo>
                    <a:pt x="4049" y="2724"/>
                  </a:lnTo>
                  <a:lnTo>
                    <a:pt x="4049" y="2731"/>
                  </a:lnTo>
                  <a:lnTo>
                    <a:pt x="4045" y="2731"/>
                  </a:lnTo>
                  <a:lnTo>
                    <a:pt x="4045" y="2736"/>
                  </a:lnTo>
                  <a:lnTo>
                    <a:pt x="4035" y="2736"/>
                  </a:lnTo>
                  <a:lnTo>
                    <a:pt x="4035" y="2760"/>
                  </a:lnTo>
                  <a:lnTo>
                    <a:pt x="4030" y="2760"/>
                  </a:lnTo>
                  <a:lnTo>
                    <a:pt x="4030" y="2777"/>
                  </a:lnTo>
                  <a:lnTo>
                    <a:pt x="4021" y="2777"/>
                  </a:lnTo>
                  <a:lnTo>
                    <a:pt x="4021" y="2784"/>
                  </a:lnTo>
                  <a:lnTo>
                    <a:pt x="4016" y="2784"/>
                  </a:lnTo>
                  <a:lnTo>
                    <a:pt x="4016" y="2795"/>
                  </a:lnTo>
                  <a:lnTo>
                    <a:pt x="4011" y="2795"/>
                  </a:lnTo>
                  <a:lnTo>
                    <a:pt x="4011" y="2807"/>
                  </a:lnTo>
                  <a:lnTo>
                    <a:pt x="4005" y="2807"/>
                  </a:lnTo>
                  <a:lnTo>
                    <a:pt x="4005" y="2831"/>
                  </a:lnTo>
                  <a:lnTo>
                    <a:pt x="4001" y="2831"/>
                  </a:lnTo>
                  <a:lnTo>
                    <a:pt x="4001" y="2842"/>
                  </a:lnTo>
                  <a:lnTo>
                    <a:pt x="3997" y="2842"/>
                  </a:lnTo>
                  <a:lnTo>
                    <a:pt x="3997" y="2855"/>
                  </a:lnTo>
                  <a:lnTo>
                    <a:pt x="3991" y="2855"/>
                  </a:lnTo>
                  <a:lnTo>
                    <a:pt x="3991" y="2872"/>
                  </a:lnTo>
                  <a:lnTo>
                    <a:pt x="3987" y="2872"/>
                  </a:lnTo>
                  <a:lnTo>
                    <a:pt x="3987" y="2883"/>
                  </a:lnTo>
                  <a:lnTo>
                    <a:pt x="3982" y="2883"/>
                  </a:lnTo>
                  <a:lnTo>
                    <a:pt x="3982" y="2908"/>
                  </a:lnTo>
                  <a:lnTo>
                    <a:pt x="3977" y="2908"/>
                  </a:lnTo>
                  <a:lnTo>
                    <a:pt x="3977" y="2920"/>
                  </a:lnTo>
                  <a:lnTo>
                    <a:pt x="3972" y="2920"/>
                  </a:lnTo>
                  <a:lnTo>
                    <a:pt x="3972" y="2932"/>
                  </a:lnTo>
                  <a:lnTo>
                    <a:pt x="3968" y="2932"/>
                  </a:lnTo>
                  <a:lnTo>
                    <a:pt x="3968" y="2961"/>
                  </a:lnTo>
                  <a:lnTo>
                    <a:pt x="3963" y="2961"/>
                  </a:lnTo>
                  <a:lnTo>
                    <a:pt x="3963" y="2967"/>
                  </a:lnTo>
                  <a:lnTo>
                    <a:pt x="3958" y="2967"/>
                  </a:lnTo>
                  <a:lnTo>
                    <a:pt x="3958" y="2986"/>
                  </a:lnTo>
                  <a:lnTo>
                    <a:pt x="3954" y="2986"/>
                  </a:lnTo>
                  <a:lnTo>
                    <a:pt x="3954" y="3002"/>
                  </a:lnTo>
                  <a:lnTo>
                    <a:pt x="3949" y="3002"/>
                  </a:lnTo>
                  <a:lnTo>
                    <a:pt x="3949" y="3014"/>
                  </a:lnTo>
                  <a:lnTo>
                    <a:pt x="3944" y="3014"/>
                  </a:lnTo>
                  <a:lnTo>
                    <a:pt x="3944" y="3062"/>
                  </a:lnTo>
                  <a:lnTo>
                    <a:pt x="3938" y="3062"/>
                  </a:lnTo>
                  <a:lnTo>
                    <a:pt x="3938" y="3068"/>
                  </a:lnTo>
                  <a:lnTo>
                    <a:pt x="3934" y="3068"/>
                  </a:lnTo>
                  <a:lnTo>
                    <a:pt x="3934" y="3079"/>
                  </a:lnTo>
                  <a:lnTo>
                    <a:pt x="3929" y="3079"/>
                  </a:lnTo>
                  <a:lnTo>
                    <a:pt x="3929" y="3092"/>
                  </a:lnTo>
                  <a:lnTo>
                    <a:pt x="3924" y="3092"/>
                  </a:lnTo>
                  <a:lnTo>
                    <a:pt x="3924" y="3097"/>
                  </a:lnTo>
                  <a:lnTo>
                    <a:pt x="3920" y="3097"/>
                  </a:lnTo>
                  <a:lnTo>
                    <a:pt x="3920" y="3108"/>
                  </a:lnTo>
                  <a:lnTo>
                    <a:pt x="3915" y="3108"/>
                  </a:lnTo>
                  <a:lnTo>
                    <a:pt x="3915" y="3127"/>
                  </a:lnTo>
                  <a:lnTo>
                    <a:pt x="3910" y="3127"/>
                  </a:lnTo>
                  <a:lnTo>
                    <a:pt x="3910" y="3138"/>
                  </a:lnTo>
                  <a:lnTo>
                    <a:pt x="3905" y="3138"/>
                  </a:lnTo>
                  <a:lnTo>
                    <a:pt x="3905" y="3144"/>
                  </a:lnTo>
                  <a:lnTo>
                    <a:pt x="3901" y="3144"/>
                  </a:lnTo>
                  <a:lnTo>
                    <a:pt x="3901" y="3150"/>
                  </a:lnTo>
                  <a:lnTo>
                    <a:pt x="3895" y="3150"/>
                  </a:lnTo>
                  <a:lnTo>
                    <a:pt x="3895" y="3155"/>
                  </a:lnTo>
                  <a:lnTo>
                    <a:pt x="3887" y="3155"/>
                  </a:lnTo>
                  <a:lnTo>
                    <a:pt x="3887" y="3162"/>
                  </a:lnTo>
                  <a:lnTo>
                    <a:pt x="3881" y="3162"/>
                  </a:lnTo>
                  <a:lnTo>
                    <a:pt x="3881" y="3168"/>
                  </a:lnTo>
                  <a:lnTo>
                    <a:pt x="3877" y="3168"/>
                  </a:lnTo>
                  <a:lnTo>
                    <a:pt x="3877" y="3185"/>
                  </a:lnTo>
                  <a:lnTo>
                    <a:pt x="3872" y="3185"/>
                  </a:lnTo>
                  <a:lnTo>
                    <a:pt x="3872" y="3197"/>
                  </a:lnTo>
                  <a:lnTo>
                    <a:pt x="3866" y="3197"/>
                  </a:lnTo>
                  <a:lnTo>
                    <a:pt x="3866" y="3204"/>
                  </a:lnTo>
                  <a:lnTo>
                    <a:pt x="3861" y="3204"/>
                  </a:lnTo>
                  <a:lnTo>
                    <a:pt x="3861" y="3222"/>
                  </a:lnTo>
                  <a:lnTo>
                    <a:pt x="3857" y="3222"/>
                  </a:lnTo>
                  <a:lnTo>
                    <a:pt x="3857" y="3233"/>
                  </a:lnTo>
                  <a:lnTo>
                    <a:pt x="3852" y="3233"/>
                  </a:lnTo>
                  <a:lnTo>
                    <a:pt x="3852" y="3250"/>
                  </a:lnTo>
                  <a:lnTo>
                    <a:pt x="3847" y="3250"/>
                  </a:lnTo>
                  <a:lnTo>
                    <a:pt x="3847" y="3255"/>
                  </a:lnTo>
                  <a:lnTo>
                    <a:pt x="3843" y="3255"/>
                  </a:lnTo>
                  <a:lnTo>
                    <a:pt x="3843" y="3268"/>
                  </a:lnTo>
                  <a:lnTo>
                    <a:pt x="3838" y="3268"/>
                  </a:lnTo>
                  <a:lnTo>
                    <a:pt x="3838" y="3274"/>
                  </a:lnTo>
                  <a:lnTo>
                    <a:pt x="3833" y="3274"/>
                  </a:lnTo>
                  <a:lnTo>
                    <a:pt x="3833" y="3280"/>
                  </a:lnTo>
                  <a:lnTo>
                    <a:pt x="3828" y="3280"/>
                  </a:lnTo>
                  <a:lnTo>
                    <a:pt x="3828" y="3286"/>
                  </a:lnTo>
                  <a:lnTo>
                    <a:pt x="3824" y="3286"/>
                  </a:lnTo>
                  <a:lnTo>
                    <a:pt x="3824" y="3291"/>
                  </a:lnTo>
                  <a:lnTo>
                    <a:pt x="3819" y="3291"/>
                  </a:lnTo>
                  <a:lnTo>
                    <a:pt x="3819" y="3304"/>
                  </a:lnTo>
                  <a:lnTo>
                    <a:pt x="3809" y="3304"/>
                  </a:lnTo>
                  <a:lnTo>
                    <a:pt x="3809" y="3309"/>
                  </a:lnTo>
                  <a:lnTo>
                    <a:pt x="3805" y="3309"/>
                  </a:lnTo>
                  <a:lnTo>
                    <a:pt x="3805" y="3321"/>
                  </a:lnTo>
                  <a:lnTo>
                    <a:pt x="3800" y="3321"/>
                  </a:lnTo>
                  <a:lnTo>
                    <a:pt x="3800" y="3328"/>
                  </a:lnTo>
                  <a:lnTo>
                    <a:pt x="3794" y="3328"/>
                  </a:lnTo>
                  <a:lnTo>
                    <a:pt x="3794" y="3333"/>
                  </a:lnTo>
                  <a:lnTo>
                    <a:pt x="3790" y="3333"/>
                  </a:lnTo>
                  <a:lnTo>
                    <a:pt x="3790" y="3340"/>
                  </a:lnTo>
                  <a:lnTo>
                    <a:pt x="3784" y="3340"/>
                  </a:lnTo>
                  <a:lnTo>
                    <a:pt x="3784" y="3345"/>
                  </a:lnTo>
                  <a:lnTo>
                    <a:pt x="3780" y="3345"/>
                  </a:lnTo>
                  <a:lnTo>
                    <a:pt x="3780" y="3351"/>
                  </a:lnTo>
                  <a:lnTo>
                    <a:pt x="3775" y="3351"/>
                  </a:lnTo>
                  <a:lnTo>
                    <a:pt x="3775" y="3363"/>
                  </a:lnTo>
                  <a:lnTo>
                    <a:pt x="3771" y="3363"/>
                  </a:lnTo>
                  <a:lnTo>
                    <a:pt x="3771" y="3369"/>
                  </a:lnTo>
                  <a:lnTo>
                    <a:pt x="3765" y="3369"/>
                  </a:lnTo>
                  <a:lnTo>
                    <a:pt x="3765" y="3381"/>
                  </a:lnTo>
                  <a:lnTo>
                    <a:pt x="3751" y="3381"/>
                  </a:lnTo>
                  <a:lnTo>
                    <a:pt x="3751" y="3392"/>
                  </a:lnTo>
                  <a:lnTo>
                    <a:pt x="3737" y="3392"/>
                  </a:lnTo>
                  <a:lnTo>
                    <a:pt x="3737" y="3399"/>
                  </a:lnTo>
                  <a:lnTo>
                    <a:pt x="3732" y="3399"/>
                  </a:lnTo>
                  <a:lnTo>
                    <a:pt x="3732" y="3405"/>
                  </a:lnTo>
                  <a:lnTo>
                    <a:pt x="3728" y="3405"/>
                  </a:lnTo>
                  <a:lnTo>
                    <a:pt x="3728" y="3410"/>
                  </a:lnTo>
                  <a:lnTo>
                    <a:pt x="3722" y="3410"/>
                  </a:lnTo>
                  <a:lnTo>
                    <a:pt x="3722" y="3416"/>
                  </a:lnTo>
                  <a:lnTo>
                    <a:pt x="3713" y="3416"/>
                  </a:lnTo>
                  <a:lnTo>
                    <a:pt x="3713" y="3427"/>
                  </a:lnTo>
                  <a:lnTo>
                    <a:pt x="3708" y="3427"/>
                  </a:lnTo>
                  <a:lnTo>
                    <a:pt x="3708" y="3434"/>
                  </a:lnTo>
                  <a:lnTo>
                    <a:pt x="3703" y="3434"/>
                  </a:lnTo>
                  <a:lnTo>
                    <a:pt x="3703" y="3440"/>
                  </a:lnTo>
                  <a:lnTo>
                    <a:pt x="3698" y="3440"/>
                  </a:lnTo>
                  <a:lnTo>
                    <a:pt x="3698" y="3451"/>
                  </a:lnTo>
                  <a:lnTo>
                    <a:pt x="3694" y="3451"/>
                  </a:lnTo>
                  <a:lnTo>
                    <a:pt x="3694" y="3459"/>
                  </a:lnTo>
                  <a:lnTo>
                    <a:pt x="3688" y="3459"/>
                  </a:lnTo>
                  <a:lnTo>
                    <a:pt x="3688" y="3469"/>
                  </a:lnTo>
                  <a:lnTo>
                    <a:pt x="3670" y="3469"/>
                  </a:lnTo>
                  <a:lnTo>
                    <a:pt x="3670" y="3481"/>
                  </a:lnTo>
                  <a:lnTo>
                    <a:pt x="3665" y="3481"/>
                  </a:lnTo>
                  <a:lnTo>
                    <a:pt x="3665" y="3487"/>
                  </a:lnTo>
                  <a:lnTo>
                    <a:pt x="3661" y="3487"/>
                  </a:lnTo>
                  <a:lnTo>
                    <a:pt x="3661" y="3492"/>
                  </a:lnTo>
                  <a:lnTo>
                    <a:pt x="3656" y="3492"/>
                  </a:lnTo>
                  <a:lnTo>
                    <a:pt x="3656" y="3500"/>
                  </a:lnTo>
                  <a:lnTo>
                    <a:pt x="3650" y="3500"/>
                  </a:lnTo>
                  <a:lnTo>
                    <a:pt x="3650" y="3505"/>
                  </a:lnTo>
                  <a:lnTo>
                    <a:pt x="3640" y="3505"/>
                  </a:lnTo>
                  <a:lnTo>
                    <a:pt x="3640" y="3510"/>
                  </a:lnTo>
                  <a:lnTo>
                    <a:pt x="3632" y="3510"/>
                  </a:lnTo>
                  <a:lnTo>
                    <a:pt x="3632" y="3517"/>
                  </a:lnTo>
                  <a:lnTo>
                    <a:pt x="3627" y="3517"/>
                  </a:lnTo>
                  <a:lnTo>
                    <a:pt x="3627" y="3522"/>
                  </a:lnTo>
                  <a:lnTo>
                    <a:pt x="3622" y="3522"/>
                  </a:lnTo>
                  <a:lnTo>
                    <a:pt x="3622" y="3527"/>
                  </a:lnTo>
                  <a:lnTo>
                    <a:pt x="3617" y="3527"/>
                  </a:lnTo>
                  <a:lnTo>
                    <a:pt x="3617" y="3535"/>
                  </a:lnTo>
                  <a:lnTo>
                    <a:pt x="3613" y="3535"/>
                  </a:lnTo>
                  <a:lnTo>
                    <a:pt x="3613" y="3546"/>
                  </a:lnTo>
                  <a:lnTo>
                    <a:pt x="3603" y="3546"/>
                  </a:lnTo>
                  <a:lnTo>
                    <a:pt x="3603" y="3551"/>
                  </a:lnTo>
                  <a:lnTo>
                    <a:pt x="3598" y="3551"/>
                  </a:lnTo>
                  <a:lnTo>
                    <a:pt x="3598" y="3563"/>
                  </a:lnTo>
                  <a:lnTo>
                    <a:pt x="3589" y="3563"/>
                  </a:lnTo>
                  <a:lnTo>
                    <a:pt x="3589" y="3576"/>
                  </a:lnTo>
                  <a:lnTo>
                    <a:pt x="3573" y="3576"/>
                  </a:lnTo>
                  <a:lnTo>
                    <a:pt x="3573" y="3581"/>
                  </a:lnTo>
                  <a:lnTo>
                    <a:pt x="3569" y="3581"/>
                  </a:lnTo>
                  <a:lnTo>
                    <a:pt x="3569" y="3587"/>
                  </a:lnTo>
                  <a:lnTo>
                    <a:pt x="3559" y="3587"/>
                  </a:lnTo>
                  <a:lnTo>
                    <a:pt x="3559" y="3593"/>
                  </a:lnTo>
                  <a:lnTo>
                    <a:pt x="3550" y="3593"/>
                  </a:lnTo>
                  <a:lnTo>
                    <a:pt x="3550" y="3611"/>
                  </a:lnTo>
                  <a:lnTo>
                    <a:pt x="3540" y="3611"/>
                  </a:lnTo>
                  <a:lnTo>
                    <a:pt x="3540" y="3622"/>
                  </a:lnTo>
                  <a:lnTo>
                    <a:pt x="3526" y="3622"/>
                  </a:lnTo>
                  <a:lnTo>
                    <a:pt x="3526" y="3628"/>
                  </a:lnTo>
                  <a:lnTo>
                    <a:pt x="3521" y="3628"/>
                  </a:lnTo>
                  <a:lnTo>
                    <a:pt x="3521" y="3635"/>
                  </a:lnTo>
                  <a:lnTo>
                    <a:pt x="3517" y="3635"/>
                  </a:lnTo>
                  <a:lnTo>
                    <a:pt x="3517" y="3641"/>
                  </a:lnTo>
                  <a:lnTo>
                    <a:pt x="3507" y="3641"/>
                  </a:lnTo>
                  <a:lnTo>
                    <a:pt x="3507" y="3646"/>
                  </a:lnTo>
                  <a:lnTo>
                    <a:pt x="3502" y="3646"/>
                  </a:lnTo>
                  <a:lnTo>
                    <a:pt x="3502" y="3652"/>
                  </a:lnTo>
                  <a:lnTo>
                    <a:pt x="3496" y="3652"/>
                  </a:lnTo>
                  <a:lnTo>
                    <a:pt x="3496" y="3658"/>
                  </a:lnTo>
                  <a:lnTo>
                    <a:pt x="3492" y="3658"/>
                  </a:lnTo>
                  <a:lnTo>
                    <a:pt x="3492" y="3669"/>
                  </a:lnTo>
                  <a:lnTo>
                    <a:pt x="3487" y="3669"/>
                  </a:lnTo>
                  <a:lnTo>
                    <a:pt x="3487" y="3676"/>
                  </a:lnTo>
                  <a:lnTo>
                    <a:pt x="3482" y="3676"/>
                  </a:lnTo>
                  <a:lnTo>
                    <a:pt x="3482" y="3682"/>
                  </a:lnTo>
                  <a:lnTo>
                    <a:pt x="3477" y="3682"/>
                  </a:lnTo>
                  <a:lnTo>
                    <a:pt x="3477" y="3687"/>
                  </a:lnTo>
                  <a:lnTo>
                    <a:pt x="3473" y="3687"/>
                  </a:lnTo>
                  <a:lnTo>
                    <a:pt x="3473" y="3694"/>
                  </a:lnTo>
                  <a:lnTo>
                    <a:pt x="3468" y="3694"/>
                  </a:lnTo>
                  <a:lnTo>
                    <a:pt x="3468" y="3699"/>
                  </a:lnTo>
                  <a:lnTo>
                    <a:pt x="3463" y="3699"/>
                  </a:lnTo>
                  <a:lnTo>
                    <a:pt x="3463" y="3706"/>
                  </a:lnTo>
                  <a:lnTo>
                    <a:pt x="3449" y="3706"/>
                  </a:lnTo>
                  <a:lnTo>
                    <a:pt x="3449" y="3712"/>
                  </a:lnTo>
                  <a:lnTo>
                    <a:pt x="3444" y="3712"/>
                  </a:lnTo>
                  <a:lnTo>
                    <a:pt x="3444" y="3718"/>
                  </a:lnTo>
                  <a:lnTo>
                    <a:pt x="3435" y="3718"/>
                  </a:lnTo>
                  <a:lnTo>
                    <a:pt x="3435" y="3723"/>
                  </a:lnTo>
                  <a:lnTo>
                    <a:pt x="3420" y="3723"/>
                  </a:lnTo>
                  <a:lnTo>
                    <a:pt x="3420" y="3728"/>
                  </a:lnTo>
                  <a:lnTo>
                    <a:pt x="3415" y="3728"/>
                  </a:lnTo>
                  <a:lnTo>
                    <a:pt x="3415" y="3741"/>
                  </a:lnTo>
                  <a:lnTo>
                    <a:pt x="3410" y="3741"/>
                  </a:lnTo>
                  <a:lnTo>
                    <a:pt x="3410" y="3747"/>
                  </a:lnTo>
                  <a:lnTo>
                    <a:pt x="3406" y="3747"/>
                  </a:lnTo>
                  <a:lnTo>
                    <a:pt x="3406" y="3753"/>
                  </a:lnTo>
                  <a:lnTo>
                    <a:pt x="3396" y="3753"/>
                  </a:lnTo>
                  <a:lnTo>
                    <a:pt x="3396" y="3759"/>
                  </a:lnTo>
                  <a:lnTo>
                    <a:pt x="3391" y="3759"/>
                  </a:lnTo>
                  <a:lnTo>
                    <a:pt x="3391" y="3764"/>
                  </a:lnTo>
                  <a:lnTo>
                    <a:pt x="3387" y="3764"/>
                  </a:lnTo>
                  <a:lnTo>
                    <a:pt x="3387" y="3771"/>
                  </a:lnTo>
                  <a:lnTo>
                    <a:pt x="3382" y="3771"/>
                  </a:lnTo>
                  <a:lnTo>
                    <a:pt x="3382" y="3777"/>
                  </a:lnTo>
                  <a:lnTo>
                    <a:pt x="3373" y="3777"/>
                  </a:lnTo>
                  <a:lnTo>
                    <a:pt x="3373" y="3782"/>
                  </a:lnTo>
                  <a:lnTo>
                    <a:pt x="3363" y="3782"/>
                  </a:lnTo>
                  <a:lnTo>
                    <a:pt x="3363" y="3794"/>
                  </a:lnTo>
                  <a:lnTo>
                    <a:pt x="3357" y="3794"/>
                  </a:lnTo>
                  <a:lnTo>
                    <a:pt x="3357" y="3801"/>
                  </a:lnTo>
                  <a:lnTo>
                    <a:pt x="3352" y="3801"/>
                  </a:lnTo>
                  <a:lnTo>
                    <a:pt x="3352" y="3806"/>
                  </a:lnTo>
                  <a:lnTo>
                    <a:pt x="3347" y="3806"/>
                  </a:lnTo>
                  <a:lnTo>
                    <a:pt x="3347" y="3813"/>
                  </a:lnTo>
                  <a:lnTo>
                    <a:pt x="3343" y="3813"/>
                  </a:lnTo>
                  <a:lnTo>
                    <a:pt x="3343" y="3818"/>
                  </a:lnTo>
                  <a:lnTo>
                    <a:pt x="3338" y="3818"/>
                  </a:lnTo>
                  <a:lnTo>
                    <a:pt x="3338" y="3824"/>
                  </a:lnTo>
                  <a:lnTo>
                    <a:pt x="3329" y="3824"/>
                  </a:lnTo>
                  <a:lnTo>
                    <a:pt x="3329" y="3829"/>
                  </a:lnTo>
                  <a:lnTo>
                    <a:pt x="3324" y="3829"/>
                  </a:lnTo>
                  <a:lnTo>
                    <a:pt x="3324" y="3835"/>
                  </a:lnTo>
                  <a:lnTo>
                    <a:pt x="3314" y="3835"/>
                  </a:lnTo>
                  <a:lnTo>
                    <a:pt x="3314" y="3847"/>
                  </a:lnTo>
                  <a:lnTo>
                    <a:pt x="3296" y="3847"/>
                  </a:lnTo>
                  <a:lnTo>
                    <a:pt x="3296" y="3854"/>
                  </a:lnTo>
                  <a:lnTo>
                    <a:pt x="3291" y="3854"/>
                  </a:lnTo>
                  <a:lnTo>
                    <a:pt x="3291" y="3859"/>
                  </a:lnTo>
                  <a:lnTo>
                    <a:pt x="3285" y="3859"/>
                  </a:lnTo>
                  <a:lnTo>
                    <a:pt x="3285" y="3865"/>
                  </a:lnTo>
                  <a:lnTo>
                    <a:pt x="3276" y="3865"/>
                  </a:lnTo>
                  <a:lnTo>
                    <a:pt x="3276" y="3872"/>
                  </a:lnTo>
                  <a:lnTo>
                    <a:pt x="3271" y="3872"/>
                  </a:lnTo>
                  <a:lnTo>
                    <a:pt x="3271" y="3877"/>
                  </a:lnTo>
                  <a:lnTo>
                    <a:pt x="3266" y="3877"/>
                  </a:lnTo>
                  <a:lnTo>
                    <a:pt x="3266" y="3883"/>
                  </a:lnTo>
                  <a:lnTo>
                    <a:pt x="3262" y="3883"/>
                  </a:lnTo>
                  <a:lnTo>
                    <a:pt x="3262" y="3889"/>
                  </a:lnTo>
                  <a:lnTo>
                    <a:pt x="3252" y="3889"/>
                  </a:lnTo>
                  <a:lnTo>
                    <a:pt x="3252" y="3895"/>
                  </a:lnTo>
                  <a:lnTo>
                    <a:pt x="3248" y="3895"/>
                  </a:lnTo>
                  <a:lnTo>
                    <a:pt x="3248" y="3900"/>
                  </a:lnTo>
                  <a:lnTo>
                    <a:pt x="3243" y="3900"/>
                  </a:lnTo>
                  <a:lnTo>
                    <a:pt x="3243" y="3907"/>
                  </a:lnTo>
                  <a:lnTo>
                    <a:pt x="3238" y="3907"/>
                  </a:lnTo>
                  <a:lnTo>
                    <a:pt x="3238" y="3913"/>
                  </a:lnTo>
                  <a:lnTo>
                    <a:pt x="3233" y="3913"/>
                  </a:lnTo>
                  <a:lnTo>
                    <a:pt x="3233" y="3919"/>
                  </a:lnTo>
                  <a:lnTo>
                    <a:pt x="3223" y="3919"/>
                  </a:lnTo>
                  <a:lnTo>
                    <a:pt x="3223" y="3924"/>
                  </a:lnTo>
                  <a:lnTo>
                    <a:pt x="3213" y="3924"/>
                  </a:lnTo>
                  <a:lnTo>
                    <a:pt x="3213" y="3937"/>
                  </a:lnTo>
                  <a:lnTo>
                    <a:pt x="3199" y="3937"/>
                  </a:lnTo>
                  <a:lnTo>
                    <a:pt x="3199" y="3942"/>
                  </a:lnTo>
                  <a:lnTo>
                    <a:pt x="3194" y="3942"/>
                  </a:lnTo>
                  <a:lnTo>
                    <a:pt x="3194" y="3948"/>
                  </a:lnTo>
                  <a:lnTo>
                    <a:pt x="3189" y="3948"/>
                  </a:lnTo>
                  <a:lnTo>
                    <a:pt x="3189" y="3954"/>
                  </a:lnTo>
                  <a:lnTo>
                    <a:pt x="3185" y="3954"/>
                  </a:lnTo>
                  <a:lnTo>
                    <a:pt x="3185" y="3959"/>
                  </a:lnTo>
                  <a:lnTo>
                    <a:pt x="3175" y="3959"/>
                  </a:lnTo>
                  <a:lnTo>
                    <a:pt x="3175" y="3965"/>
                  </a:lnTo>
                  <a:lnTo>
                    <a:pt x="3170" y="3965"/>
                  </a:lnTo>
                  <a:lnTo>
                    <a:pt x="3170" y="3971"/>
                  </a:lnTo>
                  <a:lnTo>
                    <a:pt x="3166" y="3971"/>
                  </a:lnTo>
                  <a:lnTo>
                    <a:pt x="3166" y="3978"/>
                  </a:lnTo>
                  <a:lnTo>
                    <a:pt x="3161" y="3978"/>
                  </a:lnTo>
                  <a:lnTo>
                    <a:pt x="3161" y="3983"/>
                  </a:lnTo>
                  <a:lnTo>
                    <a:pt x="3156" y="3983"/>
                  </a:lnTo>
                  <a:lnTo>
                    <a:pt x="3156" y="3989"/>
                  </a:lnTo>
                  <a:lnTo>
                    <a:pt x="3152" y="3989"/>
                  </a:lnTo>
                  <a:lnTo>
                    <a:pt x="3152" y="3995"/>
                  </a:lnTo>
                  <a:lnTo>
                    <a:pt x="3147" y="3995"/>
                  </a:lnTo>
                  <a:lnTo>
                    <a:pt x="3147" y="4000"/>
                  </a:lnTo>
                  <a:lnTo>
                    <a:pt x="3141" y="4000"/>
                  </a:lnTo>
                  <a:lnTo>
                    <a:pt x="3141" y="4008"/>
                  </a:lnTo>
                  <a:lnTo>
                    <a:pt x="3136" y="4008"/>
                  </a:lnTo>
                  <a:lnTo>
                    <a:pt x="3136" y="4013"/>
                  </a:lnTo>
                  <a:lnTo>
                    <a:pt x="3126" y="4013"/>
                  </a:lnTo>
                  <a:lnTo>
                    <a:pt x="3126" y="4019"/>
                  </a:lnTo>
                  <a:lnTo>
                    <a:pt x="3122" y="4019"/>
                  </a:lnTo>
                  <a:lnTo>
                    <a:pt x="3122" y="4024"/>
                  </a:lnTo>
                  <a:lnTo>
                    <a:pt x="3118" y="4024"/>
                  </a:lnTo>
                  <a:lnTo>
                    <a:pt x="3118" y="4031"/>
                  </a:lnTo>
                  <a:lnTo>
                    <a:pt x="3112" y="4031"/>
                  </a:lnTo>
                  <a:lnTo>
                    <a:pt x="3112" y="4036"/>
                  </a:lnTo>
                  <a:lnTo>
                    <a:pt x="3108" y="4036"/>
                  </a:lnTo>
                  <a:lnTo>
                    <a:pt x="3108" y="4049"/>
                  </a:lnTo>
                  <a:lnTo>
                    <a:pt x="3103" y="4049"/>
                  </a:lnTo>
                  <a:lnTo>
                    <a:pt x="3103" y="4054"/>
                  </a:lnTo>
                  <a:lnTo>
                    <a:pt x="3098" y="4054"/>
                  </a:lnTo>
                  <a:lnTo>
                    <a:pt x="3098" y="4060"/>
                  </a:lnTo>
                  <a:lnTo>
                    <a:pt x="3093" y="4060"/>
                  </a:lnTo>
                  <a:lnTo>
                    <a:pt x="3093" y="4066"/>
                  </a:lnTo>
                  <a:lnTo>
                    <a:pt x="3089" y="4066"/>
                  </a:lnTo>
                  <a:lnTo>
                    <a:pt x="3089" y="4073"/>
                  </a:lnTo>
                  <a:lnTo>
                    <a:pt x="3079" y="4073"/>
                  </a:lnTo>
                  <a:lnTo>
                    <a:pt x="3079" y="4078"/>
                  </a:lnTo>
                  <a:lnTo>
                    <a:pt x="3075" y="4078"/>
                  </a:lnTo>
                  <a:lnTo>
                    <a:pt x="3075" y="4084"/>
                  </a:lnTo>
                  <a:lnTo>
                    <a:pt x="3069" y="4084"/>
                  </a:lnTo>
                  <a:lnTo>
                    <a:pt x="3069" y="4090"/>
                  </a:lnTo>
                  <a:lnTo>
                    <a:pt x="3064" y="4090"/>
                  </a:lnTo>
                  <a:lnTo>
                    <a:pt x="3064" y="4095"/>
                  </a:lnTo>
                  <a:lnTo>
                    <a:pt x="3055" y="4095"/>
                  </a:lnTo>
                  <a:lnTo>
                    <a:pt x="3055" y="4101"/>
                  </a:lnTo>
                  <a:lnTo>
                    <a:pt x="3050" y="4101"/>
                  </a:lnTo>
                  <a:lnTo>
                    <a:pt x="3050" y="4107"/>
                  </a:lnTo>
                  <a:lnTo>
                    <a:pt x="3045" y="4107"/>
                  </a:lnTo>
                  <a:lnTo>
                    <a:pt x="3045" y="4114"/>
                  </a:lnTo>
                  <a:lnTo>
                    <a:pt x="3041" y="4114"/>
                  </a:lnTo>
                  <a:lnTo>
                    <a:pt x="3041" y="4125"/>
                  </a:lnTo>
                  <a:lnTo>
                    <a:pt x="3036" y="4125"/>
                  </a:lnTo>
                  <a:lnTo>
                    <a:pt x="3036" y="4131"/>
                  </a:lnTo>
                  <a:lnTo>
                    <a:pt x="3031" y="4131"/>
                  </a:lnTo>
                  <a:lnTo>
                    <a:pt x="3031" y="4137"/>
                  </a:lnTo>
                  <a:lnTo>
                    <a:pt x="3026" y="4137"/>
                  </a:lnTo>
                  <a:lnTo>
                    <a:pt x="3026" y="4142"/>
                  </a:lnTo>
                  <a:lnTo>
                    <a:pt x="3016" y="4142"/>
                  </a:lnTo>
                  <a:lnTo>
                    <a:pt x="3016" y="4155"/>
                  </a:lnTo>
                  <a:lnTo>
                    <a:pt x="3012" y="4155"/>
                  </a:lnTo>
                  <a:lnTo>
                    <a:pt x="3012" y="4160"/>
                  </a:lnTo>
                  <a:lnTo>
                    <a:pt x="3003" y="4160"/>
                  </a:lnTo>
                  <a:lnTo>
                    <a:pt x="3003" y="4172"/>
                  </a:lnTo>
                  <a:lnTo>
                    <a:pt x="2997" y="4172"/>
                  </a:lnTo>
                  <a:lnTo>
                    <a:pt x="2997" y="4179"/>
                  </a:lnTo>
                  <a:lnTo>
                    <a:pt x="2988" y="4179"/>
                  </a:lnTo>
                  <a:lnTo>
                    <a:pt x="2988" y="4185"/>
                  </a:lnTo>
                  <a:lnTo>
                    <a:pt x="2978" y="4185"/>
                  </a:lnTo>
                  <a:lnTo>
                    <a:pt x="2978" y="4191"/>
                  </a:lnTo>
                  <a:lnTo>
                    <a:pt x="2964" y="4191"/>
                  </a:lnTo>
                  <a:lnTo>
                    <a:pt x="2964" y="4196"/>
                  </a:lnTo>
                  <a:lnTo>
                    <a:pt x="2959" y="4196"/>
                  </a:lnTo>
                  <a:lnTo>
                    <a:pt x="2959" y="4209"/>
                  </a:lnTo>
                  <a:lnTo>
                    <a:pt x="2954" y="4209"/>
                  </a:lnTo>
                  <a:lnTo>
                    <a:pt x="2954" y="4214"/>
                  </a:lnTo>
                  <a:lnTo>
                    <a:pt x="2950" y="4214"/>
                  </a:lnTo>
                  <a:lnTo>
                    <a:pt x="2950" y="4226"/>
                  </a:lnTo>
                  <a:lnTo>
                    <a:pt x="2945" y="4226"/>
                  </a:lnTo>
                  <a:lnTo>
                    <a:pt x="2945" y="4232"/>
                  </a:lnTo>
                  <a:lnTo>
                    <a:pt x="2941" y="4232"/>
                  </a:lnTo>
                  <a:lnTo>
                    <a:pt x="2941" y="4237"/>
                  </a:lnTo>
                  <a:lnTo>
                    <a:pt x="2931" y="4237"/>
                  </a:lnTo>
                  <a:lnTo>
                    <a:pt x="2931" y="4244"/>
                  </a:lnTo>
                  <a:lnTo>
                    <a:pt x="2906" y="4244"/>
                  </a:lnTo>
                  <a:lnTo>
                    <a:pt x="2906" y="4237"/>
                  </a:lnTo>
                  <a:lnTo>
                    <a:pt x="2897" y="4237"/>
                  </a:lnTo>
                  <a:lnTo>
                    <a:pt x="2897" y="4232"/>
                  </a:lnTo>
                  <a:lnTo>
                    <a:pt x="2892" y="4232"/>
                  </a:lnTo>
                  <a:lnTo>
                    <a:pt x="2892" y="4226"/>
                  </a:lnTo>
                  <a:lnTo>
                    <a:pt x="2887" y="4226"/>
                  </a:lnTo>
                  <a:lnTo>
                    <a:pt x="2887" y="4209"/>
                  </a:lnTo>
                  <a:lnTo>
                    <a:pt x="2892" y="4209"/>
                  </a:lnTo>
                  <a:lnTo>
                    <a:pt x="2892" y="4201"/>
                  </a:lnTo>
                  <a:lnTo>
                    <a:pt x="2897" y="4201"/>
                  </a:lnTo>
                  <a:lnTo>
                    <a:pt x="2897" y="4196"/>
                  </a:lnTo>
                  <a:lnTo>
                    <a:pt x="2901" y="4196"/>
                  </a:lnTo>
                  <a:lnTo>
                    <a:pt x="2901" y="4191"/>
                  </a:lnTo>
                  <a:lnTo>
                    <a:pt x="2906" y="4191"/>
                  </a:lnTo>
                  <a:lnTo>
                    <a:pt x="2906" y="4185"/>
                  </a:lnTo>
                  <a:lnTo>
                    <a:pt x="2911" y="4185"/>
                  </a:lnTo>
                  <a:lnTo>
                    <a:pt x="2911" y="4179"/>
                  </a:lnTo>
                  <a:lnTo>
                    <a:pt x="2915" y="4179"/>
                  </a:lnTo>
                  <a:lnTo>
                    <a:pt x="2915" y="4172"/>
                  </a:lnTo>
                  <a:lnTo>
                    <a:pt x="2920" y="4172"/>
                  </a:lnTo>
                  <a:lnTo>
                    <a:pt x="2920" y="4167"/>
                  </a:lnTo>
                  <a:lnTo>
                    <a:pt x="2925" y="4167"/>
                  </a:lnTo>
                  <a:lnTo>
                    <a:pt x="2925" y="4160"/>
                  </a:lnTo>
                  <a:lnTo>
                    <a:pt x="2931" y="4160"/>
                  </a:lnTo>
                  <a:lnTo>
                    <a:pt x="2931" y="4155"/>
                  </a:lnTo>
                  <a:lnTo>
                    <a:pt x="2935" y="4155"/>
                  </a:lnTo>
                  <a:lnTo>
                    <a:pt x="2935" y="4149"/>
                  </a:lnTo>
                  <a:lnTo>
                    <a:pt x="2941" y="4149"/>
                  </a:lnTo>
                  <a:lnTo>
                    <a:pt x="2941" y="4142"/>
                  </a:lnTo>
                  <a:lnTo>
                    <a:pt x="2950" y="4142"/>
                  </a:lnTo>
                  <a:lnTo>
                    <a:pt x="2950" y="4131"/>
                  </a:lnTo>
                  <a:lnTo>
                    <a:pt x="2959" y="4131"/>
                  </a:lnTo>
                  <a:lnTo>
                    <a:pt x="2959" y="4125"/>
                  </a:lnTo>
                  <a:lnTo>
                    <a:pt x="2964" y="4125"/>
                  </a:lnTo>
                  <a:lnTo>
                    <a:pt x="2964" y="4119"/>
                  </a:lnTo>
                  <a:lnTo>
                    <a:pt x="2973" y="4119"/>
                  </a:lnTo>
                  <a:lnTo>
                    <a:pt x="2973" y="4114"/>
                  </a:lnTo>
                  <a:lnTo>
                    <a:pt x="2978" y="4114"/>
                  </a:lnTo>
                  <a:lnTo>
                    <a:pt x="2978" y="4107"/>
                  </a:lnTo>
                  <a:lnTo>
                    <a:pt x="2982" y="4107"/>
                  </a:lnTo>
                  <a:lnTo>
                    <a:pt x="2982" y="4101"/>
                  </a:lnTo>
                  <a:lnTo>
                    <a:pt x="2988" y="4101"/>
                  </a:lnTo>
                  <a:lnTo>
                    <a:pt x="2988" y="4095"/>
                  </a:lnTo>
                  <a:lnTo>
                    <a:pt x="2997" y="4095"/>
                  </a:lnTo>
                  <a:lnTo>
                    <a:pt x="2997" y="4090"/>
                  </a:lnTo>
                  <a:lnTo>
                    <a:pt x="3003" y="4090"/>
                  </a:lnTo>
                  <a:lnTo>
                    <a:pt x="3003" y="4084"/>
                  </a:lnTo>
                  <a:lnTo>
                    <a:pt x="3007" y="4084"/>
                  </a:lnTo>
                  <a:lnTo>
                    <a:pt x="3007" y="4078"/>
                  </a:lnTo>
                  <a:lnTo>
                    <a:pt x="3016" y="4078"/>
                  </a:lnTo>
                  <a:lnTo>
                    <a:pt x="3016" y="4073"/>
                  </a:lnTo>
                  <a:lnTo>
                    <a:pt x="3022" y="4073"/>
                  </a:lnTo>
                  <a:lnTo>
                    <a:pt x="3022" y="4066"/>
                  </a:lnTo>
                  <a:lnTo>
                    <a:pt x="3026" y="4066"/>
                  </a:lnTo>
                  <a:lnTo>
                    <a:pt x="3026" y="4054"/>
                  </a:lnTo>
                  <a:lnTo>
                    <a:pt x="3031" y="4054"/>
                  </a:lnTo>
                  <a:lnTo>
                    <a:pt x="3031" y="4049"/>
                  </a:lnTo>
                  <a:lnTo>
                    <a:pt x="3036" y="4049"/>
                  </a:lnTo>
                  <a:lnTo>
                    <a:pt x="3036" y="4041"/>
                  </a:lnTo>
                  <a:lnTo>
                    <a:pt x="3041" y="4041"/>
                  </a:lnTo>
                  <a:lnTo>
                    <a:pt x="3041" y="4036"/>
                  </a:lnTo>
                  <a:lnTo>
                    <a:pt x="3045" y="4036"/>
                  </a:lnTo>
                  <a:lnTo>
                    <a:pt x="3045" y="4031"/>
                  </a:lnTo>
                  <a:lnTo>
                    <a:pt x="3050" y="4031"/>
                  </a:lnTo>
                  <a:lnTo>
                    <a:pt x="3050" y="4024"/>
                  </a:lnTo>
                  <a:lnTo>
                    <a:pt x="3055" y="4024"/>
                  </a:lnTo>
                  <a:lnTo>
                    <a:pt x="3055" y="4019"/>
                  </a:lnTo>
                  <a:lnTo>
                    <a:pt x="3059" y="4019"/>
                  </a:lnTo>
                  <a:lnTo>
                    <a:pt x="3059" y="4013"/>
                  </a:lnTo>
                  <a:lnTo>
                    <a:pt x="3064" y="4013"/>
                  </a:lnTo>
                  <a:lnTo>
                    <a:pt x="3064" y="4008"/>
                  </a:lnTo>
                  <a:lnTo>
                    <a:pt x="3069" y="4008"/>
                  </a:lnTo>
                  <a:lnTo>
                    <a:pt x="3069" y="4000"/>
                  </a:lnTo>
                  <a:lnTo>
                    <a:pt x="3075" y="4000"/>
                  </a:lnTo>
                  <a:lnTo>
                    <a:pt x="3075" y="3995"/>
                  </a:lnTo>
                  <a:lnTo>
                    <a:pt x="3079" y="3995"/>
                  </a:lnTo>
                  <a:lnTo>
                    <a:pt x="3079" y="3983"/>
                  </a:lnTo>
                  <a:lnTo>
                    <a:pt x="3085" y="3983"/>
                  </a:lnTo>
                  <a:lnTo>
                    <a:pt x="3085" y="3978"/>
                  </a:lnTo>
                  <a:lnTo>
                    <a:pt x="3089" y="3978"/>
                  </a:lnTo>
                  <a:lnTo>
                    <a:pt x="3089" y="3971"/>
                  </a:lnTo>
                  <a:lnTo>
                    <a:pt x="3098" y="3971"/>
                  </a:lnTo>
                  <a:lnTo>
                    <a:pt x="3098" y="3965"/>
                  </a:lnTo>
                  <a:lnTo>
                    <a:pt x="3103" y="3965"/>
                  </a:lnTo>
                  <a:lnTo>
                    <a:pt x="3103" y="3959"/>
                  </a:lnTo>
                  <a:lnTo>
                    <a:pt x="3108" y="3959"/>
                  </a:lnTo>
                  <a:lnTo>
                    <a:pt x="3108" y="3954"/>
                  </a:lnTo>
                  <a:lnTo>
                    <a:pt x="3112" y="3954"/>
                  </a:lnTo>
                  <a:lnTo>
                    <a:pt x="3112" y="3948"/>
                  </a:lnTo>
                  <a:lnTo>
                    <a:pt x="3118" y="3948"/>
                  </a:lnTo>
                  <a:lnTo>
                    <a:pt x="3118" y="3942"/>
                  </a:lnTo>
                  <a:lnTo>
                    <a:pt x="3126" y="3942"/>
                  </a:lnTo>
                  <a:lnTo>
                    <a:pt x="3126" y="3937"/>
                  </a:lnTo>
                  <a:lnTo>
                    <a:pt x="3132" y="3937"/>
                  </a:lnTo>
                  <a:lnTo>
                    <a:pt x="3132" y="3930"/>
                  </a:lnTo>
                  <a:lnTo>
                    <a:pt x="3136" y="3930"/>
                  </a:lnTo>
                  <a:lnTo>
                    <a:pt x="3136" y="3924"/>
                  </a:lnTo>
                  <a:lnTo>
                    <a:pt x="3147" y="3924"/>
                  </a:lnTo>
                  <a:lnTo>
                    <a:pt x="3147" y="3919"/>
                  </a:lnTo>
                  <a:lnTo>
                    <a:pt x="3152" y="3919"/>
                  </a:lnTo>
                  <a:lnTo>
                    <a:pt x="3152" y="3913"/>
                  </a:lnTo>
                  <a:lnTo>
                    <a:pt x="3161" y="3913"/>
                  </a:lnTo>
                  <a:lnTo>
                    <a:pt x="3161" y="3907"/>
                  </a:lnTo>
                  <a:lnTo>
                    <a:pt x="3166" y="3907"/>
                  </a:lnTo>
                  <a:lnTo>
                    <a:pt x="3166" y="3900"/>
                  </a:lnTo>
                  <a:lnTo>
                    <a:pt x="3175" y="3900"/>
                  </a:lnTo>
                  <a:lnTo>
                    <a:pt x="3175" y="3895"/>
                  </a:lnTo>
                  <a:lnTo>
                    <a:pt x="3185" y="3895"/>
                  </a:lnTo>
                  <a:lnTo>
                    <a:pt x="3185" y="3883"/>
                  </a:lnTo>
                  <a:lnTo>
                    <a:pt x="3189" y="3883"/>
                  </a:lnTo>
                  <a:lnTo>
                    <a:pt x="3189" y="3877"/>
                  </a:lnTo>
                  <a:lnTo>
                    <a:pt x="3194" y="3877"/>
                  </a:lnTo>
                  <a:lnTo>
                    <a:pt x="3194" y="3872"/>
                  </a:lnTo>
                  <a:lnTo>
                    <a:pt x="3204" y="3872"/>
                  </a:lnTo>
                  <a:lnTo>
                    <a:pt x="3204" y="3865"/>
                  </a:lnTo>
                  <a:lnTo>
                    <a:pt x="3208" y="3865"/>
                  </a:lnTo>
                  <a:lnTo>
                    <a:pt x="3208" y="3859"/>
                  </a:lnTo>
                  <a:lnTo>
                    <a:pt x="3219" y="3859"/>
                  </a:lnTo>
                  <a:lnTo>
                    <a:pt x="3219" y="3847"/>
                  </a:lnTo>
                  <a:lnTo>
                    <a:pt x="3229" y="3847"/>
                  </a:lnTo>
                  <a:lnTo>
                    <a:pt x="3229" y="3835"/>
                  </a:lnTo>
                  <a:lnTo>
                    <a:pt x="3238" y="3835"/>
                  </a:lnTo>
                  <a:lnTo>
                    <a:pt x="3238" y="3829"/>
                  </a:lnTo>
                  <a:lnTo>
                    <a:pt x="3243" y="3829"/>
                  </a:lnTo>
                  <a:lnTo>
                    <a:pt x="3243" y="3824"/>
                  </a:lnTo>
                  <a:lnTo>
                    <a:pt x="3248" y="3824"/>
                  </a:lnTo>
                  <a:lnTo>
                    <a:pt x="3248" y="3818"/>
                  </a:lnTo>
                  <a:lnTo>
                    <a:pt x="3252" y="3818"/>
                  </a:lnTo>
                  <a:lnTo>
                    <a:pt x="3252" y="3813"/>
                  </a:lnTo>
                  <a:lnTo>
                    <a:pt x="3262" y="3813"/>
                  </a:lnTo>
                  <a:lnTo>
                    <a:pt x="3262" y="3806"/>
                  </a:lnTo>
                  <a:lnTo>
                    <a:pt x="3271" y="3806"/>
                  </a:lnTo>
                  <a:lnTo>
                    <a:pt x="3271" y="3801"/>
                  </a:lnTo>
                  <a:lnTo>
                    <a:pt x="3276" y="3801"/>
                  </a:lnTo>
                  <a:lnTo>
                    <a:pt x="3276" y="3794"/>
                  </a:lnTo>
                  <a:lnTo>
                    <a:pt x="3281" y="3794"/>
                  </a:lnTo>
                  <a:lnTo>
                    <a:pt x="3281" y="3788"/>
                  </a:lnTo>
                  <a:lnTo>
                    <a:pt x="3285" y="3788"/>
                  </a:lnTo>
                  <a:lnTo>
                    <a:pt x="3285" y="3782"/>
                  </a:lnTo>
                  <a:lnTo>
                    <a:pt x="3296" y="3782"/>
                  </a:lnTo>
                  <a:lnTo>
                    <a:pt x="3296" y="3777"/>
                  </a:lnTo>
                  <a:lnTo>
                    <a:pt x="3300" y="3777"/>
                  </a:lnTo>
                  <a:lnTo>
                    <a:pt x="3300" y="3771"/>
                  </a:lnTo>
                  <a:lnTo>
                    <a:pt x="3314" y="3771"/>
                  </a:lnTo>
                  <a:lnTo>
                    <a:pt x="3314" y="3764"/>
                  </a:lnTo>
                  <a:lnTo>
                    <a:pt x="3324" y="3764"/>
                  </a:lnTo>
                  <a:lnTo>
                    <a:pt x="3324" y="3759"/>
                  </a:lnTo>
                  <a:lnTo>
                    <a:pt x="3329" y="3759"/>
                  </a:lnTo>
                  <a:lnTo>
                    <a:pt x="3329" y="3747"/>
                  </a:lnTo>
                  <a:lnTo>
                    <a:pt x="3333" y="3747"/>
                  </a:lnTo>
                  <a:lnTo>
                    <a:pt x="3333" y="3741"/>
                  </a:lnTo>
                  <a:lnTo>
                    <a:pt x="3338" y="3741"/>
                  </a:lnTo>
                  <a:lnTo>
                    <a:pt x="3338" y="3736"/>
                  </a:lnTo>
                  <a:lnTo>
                    <a:pt x="3343" y="3736"/>
                  </a:lnTo>
                  <a:lnTo>
                    <a:pt x="3343" y="3728"/>
                  </a:lnTo>
                  <a:lnTo>
                    <a:pt x="3347" y="3728"/>
                  </a:lnTo>
                  <a:lnTo>
                    <a:pt x="3347" y="3723"/>
                  </a:lnTo>
                  <a:lnTo>
                    <a:pt x="3352" y="3723"/>
                  </a:lnTo>
                  <a:lnTo>
                    <a:pt x="3352" y="3718"/>
                  </a:lnTo>
                  <a:lnTo>
                    <a:pt x="3357" y="3718"/>
                  </a:lnTo>
                  <a:lnTo>
                    <a:pt x="3357" y="3712"/>
                  </a:lnTo>
                  <a:lnTo>
                    <a:pt x="3363" y="3712"/>
                  </a:lnTo>
                  <a:lnTo>
                    <a:pt x="3363" y="3706"/>
                  </a:lnTo>
                  <a:lnTo>
                    <a:pt x="3373" y="3706"/>
                  </a:lnTo>
                  <a:lnTo>
                    <a:pt x="3373" y="3699"/>
                  </a:lnTo>
                  <a:lnTo>
                    <a:pt x="3377" y="3699"/>
                  </a:lnTo>
                  <a:lnTo>
                    <a:pt x="3377" y="3694"/>
                  </a:lnTo>
                  <a:lnTo>
                    <a:pt x="3382" y="3694"/>
                  </a:lnTo>
                  <a:lnTo>
                    <a:pt x="3382" y="3687"/>
                  </a:lnTo>
                  <a:lnTo>
                    <a:pt x="3387" y="3687"/>
                  </a:lnTo>
                  <a:lnTo>
                    <a:pt x="3387" y="3682"/>
                  </a:lnTo>
                  <a:lnTo>
                    <a:pt x="3391" y="3682"/>
                  </a:lnTo>
                  <a:lnTo>
                    <a:pt x="3391" y="3676"/>
                  </a:lnTo>
                  <a:lnTo>
                    <a:pt x="3396" y="3676"/>
                  </a:lnTo>
                  <a:lnTo>
                    <a:pt x="3396" y="3669"/>
                  </a:lnTo>
                  <a:lnTo>
                    <a:pt x="3406" y="3669"/>
                  </a:lnTo>
                  <a:lnTo>
                    <a:pt x="3406" y="3665"/>
                  </a:lnTo>
                  <a:lnTo>
                    <a:pt x="3410" y="3665"/>
                  </a:lnTo>
                  <a:lnTo>
                    <a:pt x="3410" y="3658"/>
                  </a:lnTo>
                  <a:lnTo>
                    <a:pt x="3415" y="3658"/>
                  </a:lnTo>
                  <a:lnTo>
                    <a:pt x="3415" y="3652"/>
                  </a:lnTo>
                  <a:lnTo>
                    <a:pt x="3420" y="3652"/>
                  </a:lnTo>
                  <a:lnTo>
                    <a:pt x="3420" y="3646"/>
                  </a:lnTo>
                  <a:lnTo>
                    <a:pt x="3424" y="3646"/>
                  </a:lnTo>
                  <a:lnTo>
                    <a:pt x="3424" y="3641"/>
                  </a:lnTo>
                  <a:lnTo>
                    <a:pt x="3435" y="3641"/>
                  </a:lnTo>
                  <a:lnTo>
                    <a:pt x="3435" y="3635"/>
                  </a:lnTo>
                  <a:lnTo>
                    <a:pt x="3444" y="3635"/>
                  </a:lnTo>
                  <a:lnTo>
                    <a:pt x="3444" y="3628"/>
                  </a:lnTo>
                  <a:lnTo>
                    <a:pt x="3449" y="3628"/>
                  </a:lnTo>
                  <a:lnTo>
                    <a:pt x="3449" y="3622"/>
                  </a:lnTo>
                  <a:lnTo>
                    <a:pt x="3459" y="3622"/>
                  </a:lnTo>
                  <a:lnTo>
                    <a:pt x="3459" y="3617"/>
                  </a:lnTo>
                  <a:lnTo>
                    <a:pt x="3463" y="3617"/>
                  </a:lnTo>
                  <a:lnTo>
                    <a:pt x="3463" y="3611"/>
                  </a:lnTo>
                  <a:lnTo>
                    <a:pt x="3473" y="3611"/>
                  </a:lnTo>
                  <a:lnTo>
                    <a:pt x="3473" y="3605"/>
                  </a:lnTo>
                  <a:lnTo>
                    <a:pt x="3477" y="3605"/>
                  </a:lnTo>
                  <a:lnTo>
                    <a:pt x="3477" y="3600"/>
                  </a:lnTo>
                  <a:lnTo>
                    <a:pt x="3482" y="3600"/>
                  </a:lnTo>
                  <a:lnTo>
                    <a:pt x="3482" y="3593"/>
                  </a:lnTo>
                  <a:lnTo>
                    <a:pt x="3487" y="3593"/>
                  </a:lnTo>
                  <a:lnTo>
                    <a:pt x="3487" y="3587"/>
                  </a:lnTo>
                  <a:lnTo>
                    <a:pt x="3492" y="3587"/>
                  </a:lnTo>
                  <a:lnTo>
                    <a:pt x="3492" y="3581"/>
                  </a:lnTo>
                  <a:lnTo>
                    <a:pt x="3496" y="3581"/>
                  </a:lnTo>
                  <a:lnTo>
                    <a:pt x="3496" y="3570"/>
                  </a:lnTo>
                  <a:lnTo>
                    <a:pt x="3507" y="3570"/>
                  </a:lnTo>
                  <a:lnTo>
                    <a:pt x="3507" y="3563"/>
                  </a:lnTo>
                  <a:lnTo>
                    <a:pt x="3517" y="3563"/>
                  </a:lnTo>
                  <a:lnTo>
                    <a:pt x="3517" y="3558"/>
                  </a:lnTo>
                  <a:lnTo>
                    <a:pt x="3521" y="3558"/>
                  </a:lnTo>
                  <a:lnTo>
                    <a:pt x="3521" y="3551"/>
                  </a:lnTo>
                  <a:lnTo>
                    <a:pt x="3531" y="3551"/>
                  </a:lnTo>
                  <a:lnTo>
                    <a:pt x="3531" y="3546"/>
                  </a:lnTo>
                  <a:lnTo>
                    <a:pt x="3536" y="3546"/>
                  </a:lnTo>
                  <a:lnTo>
                    <a:pt x="3536" y="3540"/>
                  </a:lnTo>
                  <a:lnTo>
                    <a:pt x="3540" y="3540"/>
                  </a:lnTo>
                  <a:lnTo>
                    <a:pt x="3540" y="3535"/>
                  </a:lnTo>
                  <a:lnTo>
                    <a:pt x="3545" y="3535"/>
                  </a:lnTo>
                  <a:lnTo>
                    <a:pt x="3545" y="3522"/>
                  </a:lnTo>
                  <a:lnTo>
                    <a:pt x="3550" y="3522"/>
                  </a:lnTo>
                  <a:lnTo>
                    <a:pt x="3550" y="3517"/>
                  </a:lnTo>
                  <a:lnTo>
                    <a:pt x="3554" y="3517"/>
                  </a:lnTo>
                  <a:lnTo>
                    <a:pt x="3554" y="3510"/>
                  </a:lnTo>
                  <a:lnTo>
                    <a:pt x="3559" y="3510"/>
                  </a:lnTo>
                  <a:lnTo>
                    <a:pt x="3559" y="3505"/>
                  </a:lnTo>
                  <a:lnTo>
                    <a:pt x="3569" y="3505"/>
                  </a:lnTo>
                  <a:lnTo>
                    <a:pt x="3569" y="3500"/>
                  </a:lnTo>
                  <a:lnTo>
                    <a:pt x="3573" y="3500"/>
                  </a:lnTo>
                  <a:lnTo>
                    <a:pt x="3573" y="3492"/>
                  </a:lnTo>
                  <a:lnTo>
                    <a:pt x="3578" y="3492"/>
                  </a:lnTo>
                  <a:lnTo>
                    <a:pt x="3578" y="3487"/>
                  </a:lnTo>
                  <a:lnTo>
                    <a:pt x="3589" y="3487"/>
                  </a:lnTo>
                  <a:lnTo>
                    <a:pt x="3589" y="3481"/>
                  </a:lnTo>
                  <a:lnTo>
                    <a:pt x="3593" y="3481"/>
                  </a:lnTo>
                  <a:lnTo>
                    <a:pt x="3593" y="3475"/>
                  </a:lnTo>
                  <a:lnTo>
                    <a:pt x="3603" y="3475"/>
                  </a:lnTo>
                  <a:lnTo>
                    <a:pt x="3603" y="3469"/>
                  </a:lnTo>
                  <a:lnTo>
                    <a:pt x="3607" y="3469"/>
                  </a:lnTo>
                  <a:lnTo>
                    <a:pt x="3607" y="3459"/>
                  </a:lnTo>
                  <a:lnTo>
                    <a:pt x="3613" y="3459"/>
                  </a:lnTo>
                  <a:lnTo>
                    <a:pt x="3613" y="3451"/>
                  </a:lnTo>
                  <a:lnTo>
                    <a:pt x="3617" y="3451"/>
                  </a:lnTo>
                  <a:lnTo>
                    <a:pt x="3617" y="3446"/>
                  </a:lnTo>
                  <a:lnTo>
                    <a:pt x="3622" y="3446"/>
                  </a:lnTo>
                  <a:lnTo>
                    <a:pt x="3622" y="3440"/>
                  </a:lnTo>
                  <a:lnTo>
                    <a:pt x="3627" y="3440"/>
                  </a:lnTo>
                  <a:lnTo>
                    <a:pt x="3627" y="3434"/>
                  </a:lnTo>
                  <a:lnTo>
                    <a:pt x="3632" y="3434"/>
                  </a:lnTo>
                  <a:lnTo>
                    <a:pt x="3632" y="3422"/>
                  </a:lnTo>
                  <a:lnTo>
                    <a:pt x="3640" y="3422"/>
                  </a:lnTo>
                  <a:lnTo>
                    <a:pt x="3640" y="3416"/>
                  </a:lnTo>
                  <a:lnTo>
                    <a:pt x="3646" y="3416"/>
                  </a:lnTo>
                  <a:lnTo>
                    <a:pt x="3646" y="3410"/>
                  </a:lnTo>
                  <a:lnTo>
                    <a:pt x="3650" y="3410"/>
                  </a:lnTo>
                  <a:lnTo>
                    <a:pt x="3650" y="3405"/>
                  </a:lnTo>
                  <a:lnTo>
                    <a:pt x="3656" y="3405"/>
                  </a:lnTo>
                  <a:lnTo>
                    <a:pt x="3656" y="3399"/>
                  </a:lnTo>
                  <a:lnTo>
                    <a:pt x="3661" y="3399"/>
                  </a:lnTo>
                  <a:lnTo>
                    <a:pt x="3661" y="3392"/>
                  </a:lnTo>
                  <a:lnTo>
                    <a:pt x="3665" y="3392"/>
                  </a:lnTo>
                  <a:lnTo>
                    <a:pt x="3665" y="3386"/>
                  </a:lnTo>
                  <a:lnTo>
                    <a:pt x="3675" y="3386"/>
                  </a:lnTo>
                  <a:lnTo>
                    <a:pt x="3675" y="3381"/>
                  </a:lnTo>
                  <a:lnTo>
                    <a:pt x="3680" y="3381"/>
                  </a:lnTo>
                  <a:lnTo>
                    <a:pt x="3680" y="3374"/>
                  </a:lnTo>
                  <a:lnTo>
                    <a:pt x="3684" y="3374"/>
                  </a:lnTo>
                  <a:lnTo>
                    <a:pt x="3684" y="3369"/>
                  </a:lnTo>
                  <a:lnTo>
                    <a:pt x="3688" y="3369"/>
                  </a:lnTo>
                  <a:lnTo>
                    <a:pt x="3688" y="3363"/>
                  </a:lnTo>
                  <a:lnTo>
                    <a:pt x="3694" y="3363"/>
                  </a:lnTo>
                  <a:lnTo>
                    <a:pt x="3694" y="3351"/>
                  </a:lnTo>
                  <a:lnTo>
                    <a:pt x="3698" y="3351"/>
                  </a:lnTo>
                  <a:lnTo>
                    <a:pt x="3698" y="3345"/>
                  </a:lnTo>
                  <a:lnTo>
                    <a:pt x="3708" y="3345"/>
                  </a:lnTo>
                  <a:lnTo>
                    <a:pt x="3708" y="3340"/>
                  </a:lnTo>
                  <a:lnTo>
                    <a:pt x="3713" y="3340"/>
                  </a:lnTo>
                  <a:lnTo>
                    <a:pt x="3713" y="3333"/>
                  </a:lnTo>
                  <a:lnTo>
                    <a:pt x="3717" y="3333"/>
                  </a:lnTo>
                  <a:lnTo>
                    <a:pt x="3717" y="3328"/>
                  </a:lnTo>
                  <a:lnTo>
                    <a:pt x="3722" y="3328"/>
                  </a:lnTo>
                  <a:lnTo>
                    <a:pt x="3722" y="3321"/>
                  </a:lnTo>
                  <a:lnTo>
                    <a:pt x="3732" y="3321"/>
                  </a:lnTo>
                  <a:lnTo>
                    <a:pt x="3732" y="3315"/>
                  </a:lnTo>
                  <a:lnTo>
                    <a:pt x="3737" y="3315"/>
                  </a:lnTo>
                  <a:lnTo>
                    <a:pt x="3737" y="3309"/>
                  </a:lnTo>
                  <a:lnTo>
                    <a:pt x="3742" y="3309"/>
                  </a:lnTo>
                  <a:lnTo>
                    <a:pt x="3742" y="3304"/>
                  </a:lnTo>
                  <a:lnTo>
                    <a:pt x="3751" y="3304"/>
                  </a:lnTo>
                  <a:lnTo>
                    <a:pt x="3751" y="3298"/>
                  </a:lnTo>
                  <a:lnTo>
                    <a:pt x="3757" y="3298"/>
                  </a:lnTo>
                  <a:lnTo>
                    <a:pt x="3757" y="3291"/>
                  </a:lnTo>
                  <a:lnTo>
                    <a:pt x="3761" y="3291"/>
                  </a:lnTo>
                  <a:lnTo>
                    <a:pt x="3761" y="3280"/>
                  </a:lnTo>
                  <a:lnTo>
                    <a:pt x="3771" y="3280"/>
                  </a:lnTo>
                  <a:lnTo>
                    <a:pt x="3771" y="3274"/>
                  </a:lnTo>
                  <a:lnTo>
                    <a:pt x="3775" y="3274"/>
                  </a:lnTo>
                  <a:lnTo>
                    <a:pt x="3775" y="3263"/>
                  </a:lnTo>
                  <a:lnTo>
                    <a:pt x="3780" y="3263"/>
                  </a:lnTo>
                  <a:lnTo>
                    <a:pt x="3780" y="3255"/>
                  </a:lnTo>
                  <a:lnTo>
                    <a:pt x="3784" y="3255"/>
                  </a:lnTo>
                  <a:lnTo>
                    <a:pt x="3784" y="3250"/>
                  </a:lnTo>
                  <a:lnTo>
                    <a:pt x="3790" y="3250"/>
                  </a:lnTo>
                  <a:lnTo>
                    <a:pt x="3790" y="3245"/>
                  </a:lnTo>
                  <a:lnTo>
                    <a:pt x="3794" y="3245"/>
                  </a:lnTo>
                  <a:lnTo>
                    <a:pt x="3794" y="3239"/>
                  </a:lnTo>
                  <a:lnTo>
                    <a:pt x="3800" y="3239"/>
                  </a:lnTo>
                  <a:lnTo>
                    <a:pt x="3800" y="3227"/>
                  </a:lnTo>
                  <a:lnTo>
                    <a:pt x="3805" y="3227"/>
                  </a:lnTo>
                  <a:lnTo>
                    <a:pt x="3805" y="3214"/>
                  </a:lnTo>
                  <a:lnTo>
                    <a:pt x="3809" y="3214"/>
                  </a:lnTo>
                  <a:lnTo>
                    <a:pt x="3809" y="3204"/>
                  </a:lnTo>
                  <a:lnTo>
                    <a:pt x="3814" y="3204"/>
                  </a:lnTo>
                  <a:lnTo>
                    <a:pt x="3814" y="3179"/>
                  </a:lnTo>
                  <a:lnTo>
                    <a:pt x="3819" y="3179"/>
                  </a:lnTo>
                  <a:lnTo>
                    <a:pt x="3819" y="3173"/>
                  </a:lnTo>
                  <a:lnTo>
                    <a:pt x="3824" y="3173"/>
                  </a:lnTo>
                  <a:lnTo>
                    <a:pt x="3824" y="3168"/>
                  </a:lnTo>
                  <a:lnTo>
                    <a:pt x="3828" y="3168"/>
                  </a:lnTo>
                  <a:lnTo>
                    <a:pt x="3828" y="3162"/>
                  </a:lnTo>
                  <a:lnTo>
                    <a:pt x="3833" y="3162"/>
                  </a:lnTo>
                  <a:lnTo>
                    <a:pt x="3833" y="3138"/>
                  </a:lnTo>
                  <a:lnTo>
                    <a:pt x="3838" y="3138"/>
                  </a:lnTo>
                  <a:lnTo>
                    <a:pt x="3838" y="3132"/>
                  </a:lnTo>
                  <a:lnTo>
                    <a:pt x="3843" y="3132"/>
                  </a:lnTo>
                  <a:lnTo>
                    <a:pt x="3843" y="3108"/>
                  </a:lnTo>
                  <a:lnTo>
                    <a:pt x="3847" y="3108"/>
                  </a:lnTo>
                  <a:lnTo>
                    <a:pt x="3847" y="3092"/>
                  </a:lnTo>
                  <a:lnTo>
                    <a:pt x="3852" y="3092"/>
                  </a:lnTo>
                  <a:lnTo>
                    <a:pt x="3852" y="3079"/>
                  </a:lnTo>
                  <a:lnTo>
                    <a:pt x="3857" y="3079"/>
                  </a:lnTo>
                  <a:lnTo>
                    <a:pt x="3857" y="3062"/>
                  </a:lnTo>
                  <a:lnTo>
                    <a:pt x="3861" y="3062"/>
                  </a:lnTo>
                  <a:lnTo>
                    <a:pt x="3861" y="3044"/>
                  </a:lnTo>
                  <a:lnTo>
                    <a:pt x="3866" y="3044"/>
                  </a:lnTo>
                  <a:lnTo>
                    <a:pt x="3866" y="3019"/>
                  </a:lnTo>
                  <a:lnTo>
                    <a:pt x="3872" y="3019"/>
                  </a:lnTo>
                  <a:lnTo>
                    <a:pt x="3872" y="3008"/>
                  </a:lnTo>
                  <a:lnTo>
                    <a:pt x="3877" y="3008"/>
                  </a:lnTo>
                  <a:lnTo>
                    <a:pt x="3877" y="2996"/>
                  </a:lnTo>
                  <a:lnTo>
                    <a:pt x="3887" y="2996"/>
                  </a:lnTo>
                  <a:lnTo>
                    <a:pt x="3887" y="2986"/>
                  </a:lnTo>
                  <a:lnTo>
                    <a:pt x="3891" y="2986"/>
                  </a:lnTo>
                  <a:lnTo>
                    <a:pt x="3891" y="2973"/>
                  </a:lnTo>
                  <a:lnTo>
                    <a:pt x="3895" y="2973"/>
                  </a:lnTo>
                  <a:lnTo>
                    <a:pt x="3895" y="2967"/>
                  </a:lnTo>
                  <a:lnTo>
                    <a:pt x="3901" y="2967"/>
                  </a:lnTo>
                  <a:lnTo>
                    <a:pt x="3901" y="2954"/>
                  </a:lnTo>
                  <a:lnTo>
                    <a:pt x="3905" y="2954"/>
                  </a:lnTo>
                  <a:lnTo>
                    <a:pt x="3905" y="2949"/>
                  </a:lnTo>
                  <a:lnTo>
                    <a:pt x="3910" y="2949"/>
                  </a:lnTo>
                  <a:lnTo>
                    <a:pt x="3910" y="2932"/>
                  </a:lnTo>
                  <a:lnTo>
                    <a:pt x="3915" y="2932"/>
                  </a:lnTo>
                  <a:lnTo>
                    <a:pt x="3915" y="2926"/>
                  </a:lnTo>
                  <a:lnTo>
                    <a:pt x="3920" y="2926"/>
                  </a:lnTo>
                  <a:lnTo>
                    <a:pt x="3920" y="2908"/>
                  </a:lnTo>
                  <a:lnTo>
                    <a:pt x="3929" y="2908"/>
                  </a:lnTo>
                  <a:lnTo>
                    <a:pt x="3929" y="2896"/>
                  </a:lnTo>
                  <a:lnTo>
                    <a:pt x="3934" y="2896"/>
                  </a:lnTo>
                  <a:lnTo>
                    <a:pt x="3934" y="2883"/>
                  </a:lnTo>
                  <a:lnTo>
                    <a:pt x="3938" y="2883"/>
                  </a:lnTo>
                  <a:lnTo>
                    <a:pt x="3938" y="2872"/>
                  </a:lnTo>
                  <a:lnTo>
                    <a:pt x="3944" y="2872"/>
                  </a:lnTo>
                  <a:lnTo>
                    <a:pt x="3944" y="2855"/>
                  </a:lnTo>
                  <a:lnTo>
                    <a:pt x="3949" y="2855"/>
                  </a:lnTo>
                  <a:lnTo>
                    <a:pt x="3949" y="2842"/>
                  </a:lnTo>
                  <a:lnTo>
                    <a:pt x="3954" y="2842"/>
                  </a:lnTo>
                  <a:lnTo>
                    <a:pt x="3954" y="2836"/>
                  </a:lnTo>
                  <a:lnTo>
                    <a:pt x="3958" y="2836"/>
                  </a:lnTo>
                  <a:lnTo>
                    <a:pt x="3958" y="2818"/>
                  </a:lnTo>
                  <a:lnTo>
                    <a:pt x="3963" y="2818"/>
                  </a:lnTo>
                  <a:lnTo>
                    <a:pt x="3963" y="2801"/>
                  </a:lnTo>
                  <a:lnTo>
                    <a:pt x="3968" y="2801"/>
                  </a:lnTo>
                  <a:lnTo>
                    <a:pt x="3968" y="2784"/>
                  </a:lnTo>
                  <a:lnTo>
                    <a:pt x="3972" y="2784"/>
                  </a:lnTo>
                  <a:lnTo>
                    <a:pt x="3972" y="2777"/>
                  </a:lnTo>
                  <a:lnTo>
                    <a:pt x="3977" y="2777"/>
                  </a:lnTo>
                  <a:lnTo>
                    <a:pt x="3977" y="2766"/>
                  </a:lnTo>
                  <a:lnTo>
                    <a:pt x="3982" y="2766"/>
                  </a:lnTo>
                  <a:lnTo>
                    <a:pt x="3982" y="2760"/>
                  </a:lnTo>
                  <a:lnTo>
                    <a:pt x="3987" y="2760"/>
                  </a:lnTo>
                  <a:lnTo>
                    <a:pt x="3987" y="2741"/>
                  </a:lnTo>
                  <a:lnTo>
                    <a:pt x="3991" y="2741"/>
                  </a:lnTo>
                  <a:lnTo>
                    <a:pt x="3991" y="2731"/>
                  </a:lnTo>
                  <a:lnTo>
                    <a:pt x="3997" y="2731"/>
                  </a:lnTo>
                  <a:lnTo>
                    <a:pt x="3997" y="2724"/>
                  </a:lnTo>
                  <a:lnTo>
                    <a:pt x="4001" y="2724"/>
                  </a:lnTo>
                  <a:lnTo>
                    <a:pt x="4001" y="2719"/>
                  </a:lnTo>
                  <a:lnTo>
                    <a:pt x="4005" y="2719"/>
                  </a:lnTo>
                  <a:lnTo>
                    <a:pt x="4005" y="2712"/>
                  </a:lnTo>
                  <a:lnTo>
                    <a:pt x="4011" y="2712"/>
                  </a:lnTo>
                  <a:lnTo>
                    <a:pt x="4011" y="2700"/>
                  </a:lnTo>
                  <a:lnTo>
                    <a:pt x="4016" y="2700"/>
                  </a:lnTo>
                  <a:lnTo>
                    <a:pt x="4016" y="2689"/>
                  </a:lnTo>
                  <a:lnTo>
                    <a:pt x="4021" y="2689"/>
                  </a:lnTo>
                  <a:lnTo>
                    <a:pt x="4021" y="2672"/>
                  </a:lnTo>
                  <a:lnTo>
                    <a:pt x="4025" y="2672"/>
                  </a:lnTo>
                  <a:lnTo>
                    <a:pt x="4025" y="2660"/>
                  </a:lnTo>
                  <a:lnTo>
                    <a:pt x="4030" y="2660"/>
                  </a:lnTo>
                  <a:lnTo>
                    <a:pt x="4030" y="2648"/>
                  </a:lnTo>
                  <a:lnTo>
                    <a:pt x="4035" y="2648"/>
                  </a:lnTo>
                  <a:lnTo>
                    <a:pt x="4035" y="2636"/>
                  </a:lnTo>
                  <a:lnTo>
                    <a:pt x="4039" y="2636"/>
                  </a:lnTo>
                  <a:lnTo>
                    <a:pt x="4039" y="2630"/>
                  </a:lnTo>
                  <a:lnTo>
                    <a:pt x="4045" y="2630"/>
                  </a:lnTo>
                  <a:lnTo>
                    <a:pt x="4045" y="2619"/>
                  </a:lnTo>
                  <a:lnTo>
                    <a:pt x="4049" y="2619"/>
                  </a:lnTo>
                  <a:lnTo>
                    <a:pt x="4049" y="2613"/>
                  </a:lnTo>
                  <a:lnTo>
                    <a:pt x="4054" y="2613"/>
                  </a:lnTo>
                  <a:lnTo>
                    <a:pt x="4054" y="2606"/>
                  </a:lnTo>
                  <a:lnTo>
                    <a:pt x="4059" y="2606"/>
                  </a:lnTo>
                  <a:lnTo>
                    <a:pt x="4059" y="2595"/>
                  </a:lnTo>
                  <a:lnTo>
                    <a:pt x="4064" y="2595"/>
                  </a:lnTo>
                  <a:lnTo>
                    <a:pt x="4064" y="2589"/>
                  </a:lnTo>
                  <a:lnTo>
                    <a:pt x="4068" y="2589"/>
                  </a:lnTo>
                  <a:lnTo>
                    <a:pt x="4068" y="2576"/>
                  </a:lnTo>
                  <a:lnTo>
                    <a:pt x="4072" y="2576"/>
                  </a:lnTo>
                  <a:lnTo>
                    <a:pt x="4072" y="2559"/>
                  </a:lnTo>
                  <a:lnTo>
                    <a:pt x="4078" y="2559"/>
                  </a:lnTo>
                  <a:lnTo>
                    <a:pt x="4078" y="2541"/>
                  </a:lnTo>
                  <a:lnTo>
                    <a:pt x="4082" y="2541"/>
                  </a:lnTo>
                  <a:lnTo>
                    <a:pt x="4082" y="2529"/>
                  </a:lnTo>
                  <a:lnTo>
                    <a:pt x="4088" y="2529"/>
                  </a:lnTo>
                  <a:lnTo>
                    <a:pt x="4088" y="2523"/>
                  </a:lnTo>
                  <a:lnTo>
                    <a:pt x="4093" y="2523"/>
                  </a:lnTo>
                  <a:lnTo>
                    <a:pt x="4093" y="2513"/>
                  </a:lnTo>
                  <a:lnTo>
                    <a:pt x="4098" y="2513"/>
                  </a:lnTo>
                  <a:lnTo>
                    <a:pt x="4098" y="2500"/>
                  </a:lnTo>
                  <a:lnTo>
                    <a:pt x="4102" y="2500"/>
                  </a:lnTo>
                  <a:lnTo>
                    <a:pt x="4102" y="2488"/>
                  </a:lnTo>
                  <a:lnTo>
                    <a:pt x="4107" y="2488"/>
                  </a:lnTo>
                  <a:lnTo>
                    <a:pt x="4107" y="2482"/>
                  </a:lnTo>
                  <a:lnTo>
                    <a:pt x="4112" y="2482"/>
                  </a:lnTo>
                  <a:lnTo>
                    <a:pt x="4112" y="2464"/>
                  </a:lnTo>
                  <a:lnTo>
                    <a:pt x="4116" y="2464"/>
                  </a:lnTo>
                  <a:lnTo>
                    <a:pt x="4116" y="2459"/>
                  </a:lnTo>
                  <a:lnTo>
                    <a:pt x="4121" y="2459"/>
                  </a:lnTo>
                  <a:lnTo>
                    <a:pt x="4121" y="2447"/>
                  </a:lnTo>
                  <a:lnTo>
                    <a:pt x="4126" y="2447"/>
                  </a:lnTo>
                  <a:lnTo>
                    <a:pt x="4126" y="2440"/>
                  </a:lnTo>
                  <a:lnTo>
                    <a:pt x="4131" y="2440"/>
                  </a:lnTo>
                  <a:lnTo>
                    <a:pt x="4131" y="2428"/>
                  </a:lnTo>
                  <a:lnTo>
                    <a:pt x="4135" y="2428"/>
                  </a:lnTo>
                  <a:lnTo>
                    <a:pt x="4135" y="2418"/>
                  </a:lnTo>
                  <a:lnTo>
                    <a:pt x="4141" y="2418"/>
                  </a:lnTo>
                  <a:lnTo>
                    <a:pt x="4141" y="2410"/>
                  </a:lnTo>
                  <a:lnTo>
                    <a:pt x="4145" y="2410"/>
                  </a:lnTo>
                  <a:lnTo>
                    <a:pt x="4145" y="2399"/>
                  </a:lnTo>
                  <a:lnTo>
                    <a:pt x="4149" y="2399"/>
                  </a:lnTo>
                  <a:lnTo>
                    <a:pt x="4149" y="2387"/>
                  </a:lnTo>
                  <a:lnTo>
                    <a:pt x="4155" y="2387"/>
                  </a:lnTo>
                  <a:lnTo>
                    <a:pt x="4155" y="2375"/>
                  </a:lnTo>
                  <a:lnTo>
                    <a:pt x="4160" y="2375"/>
                  </a:lnTo>
                  <a:lnTo>
                    <a:pt x="4160" y="2369"/>
                  </a:lnTo>
                  <a:lnTo>
                    <a:pt x="4165" y="2369"/>
                  </a:lnTo>
                  <a:lnTo>
                    <a:pt x="4165" y="2352"/>
                  </a:lnTo>
                  <a:lnTo>
                    <a:pt x="4169" y="2352"/>
                  </a:lnTo>
                  <a:lnTo>
                    <a:pt x="4169" y="2341"/>
                  </a:lnTo>
                  <a:lnTo>
                    <a:pt x="4175" y="2341"/>
                  </a:lnTo>
                  <a:lnTo>
                    <a:pt x="4175" y="2328"/>
                  </a:lnTo>
                  <a:lnTo>
                    <a:pt x="4179" y="2328"/>
                  </a:lnTo>
                  <a:lnTo>
                    <a:pt x="4179" y="2322"/>
                  </a:lnTo>
                  <a:lnTo>
                    <a:pt x="4184" y="2322"/>
                  </a:lnTo>
                  <a:lnTo>
                    <a:pt x="4184" y="2311"/>
                  </a:lnTo>
                  <a:lnTo>
                    <a:pt x="4189" y="2311"/>
                  </a:lnTo>
                  <a:lnTo>
                    <a:pt x="4189" y="2299"/>
                  </a:lnTo>
                  <a:lnTo>
                    <a:pt x="4193" y="2299"/>
                  </a:lnTo>
                  <a:lnTo>
                    <a:pt x="4193" y="2293"/>
                  </a:lnTo>
                  <a:lnTo>
                    <a:pt x="4198" y="2293"/>
                  </a:lnTo>
                  <a:lnTo>
                    <a:pt x="4198" y="2276"/>
                  </a:lnTo>
                  <a:lnTo>
                    <a:pt x="4203" y="2276"/>
                  </a:lnTo>
                  <a:lnTo>
                    <a:pt x="4203" y="2263"/>
                  </a:lnTo>
                  <a:lnTo>
                    <a:pt x="4208" y="2263"/>
                  </a:lnTo>
                  <a:lnTo>
                    <a:pt x="4208" y="2251"/>
                  </a:lnTo>
                  <a:lnTo>
                    <a:pt x="4212" y="2251"/>
                  </a:lnTo>
                  <a:lnTo>
                    <a:pt x="4212" y="2241"/>
                  </a:lnTo>
                  <a:lnTo>
                    <a:pt x="4217" y="2241"/>
                  </a:lnTo>
                  <a:lnTo>
                    <a:pt x="4217" y="2228"/>
                  </a:lnTo>
                  <a:lnTo>
                    <a:pt x="4222" y="2228"/>
                  </a:lnTo>
                  <a:lnTo>
                    <a:pt x="4222" y="2217"/>
                  </a:lnTo>
                  <a:lnTo>
                    <a:pt x="4227" y="2217"/>
                  </a:lnTo>
                  <a:lnTo>
                    <a:pt x="4227" y="2205"/>
                  </a:lnTo>
                  <a:lnTo>
                    <a:pt x="4232" y="2205"/>
                  </a:lnTo>
                  <a:lnTo>
                    <a:pt x="4232" y="2200"/>
                  </a:lnTo>
                  <a:lnTo>
                    <a:pt x="4237" y="2200"/>
                  </a:lnTo>
                  <a:lnTo>
                    <a:pt x="4237" y="2181"/>
                  </a:lnTo>
                  <a:lnTo>
                    <a:pt x="4242" y="2181"/>
                  </a:lnTo>
                  <a:lnTo>
                    <a:pt x="4242" y="2175"/>
                  </a:lnTo>
                  <a:lnTo>
                    <a:pt x="4246" y="2175"/>
                  </a:lnTo>
                  <a:lnTo>
                    <a:pt x="4246" y="2157"/>
                  </a:lnTo>
                  <a:lnTo>
                    <a:pt x="4251" y="2157"/>
                  </a:lnTo>
                  <a:lnTo>
                    <a:pt x="4251" y="2146"/>
                  </a:lnTo>
                  <a:lnTo>
                    <a:pt x="4256" y="2146"/>
                  </a:lnTo>
                  <a:lnTo>
                    <a:pt x="4256" y="2133"/>
                  </a:lnTo>
                  <a:lnTo>
                    <a:pt x="4261" y="2133"/>
                  </a:lnTo>
                  <a:lnTo>
                    <a:pt x="4261" y="2122"/>
                  </a:lnTo>
                  <a:lnTo>
                    <a:pt x="4265" y="2122"/>
                  </a:lnTo>
                  <a:lnTo>
                    <a:pt x="4265" y="2103"/>
                  </a:lnTo>
                  <a:lnTo>
                    <a:pt x="4271" y="2103"/>
                  </a:lnTo>
                  <a:lnTo>
                    <a:pt x="4271" y="2092"/>
                  </a:lnTo>
                  <a:lnTo>
                    <a:pt x="4275" y="2092"/>
                  </a:lnTo>
                  <a:lnTo>
                    <a:pt x="4275" y="2069"/>
                  </a:lnTo>
                  <a:lnTo>
                    <a:pt x="4279" y="2069"/>
                  </a:lnTo>
                  <a:lnTo>
                    <a:pt x="4279" y="2062"/>
                  </a:lnTo>
                  <a:lnTo>
                    <a:pt x="4285" y="2062"/>
                  </a:lnTo>
                  <a:lnTo>
                    <a:pt x="4285" y="2045"/>
                  </a:lnTo>
                  <a:lnTo>
                    <a:pt x="4289" y="2045"/>
                  </a:lnTo>
                  <a:lnTo>
                    <a:pt x="4289" y="2032"/>
                  </a:lnTo>
                  <a:lnTo>
                    <a:pt x="4294" y="2032"/>
                  </a:lnTo>
                  <a:lnTo>
                    <a:pt x="4294" y="2021"/>
                  </a:lnTo>
                  <a:lnTo>
                    <a:pt x="4299" y="2021"/>
                  </a:lnTo>
                  <a:lnTo>
                    <a:pt x="4299" y="2004"/>
                  </a:lnTo>
                  <a:lnTo>
                    <a:pt x="4305" y="2004"/>
                  </a:lnTo>
                  <a:lnTo>
                    <a:pt x="4305" y="1980"/>
                  </a:lnTo>
                  <a:lnTo>
                    <a:pt x="4309" y="1980"/>
                  </a:lnTo>
                  <a:lnTo>
                    <a:pt x="4309" y="1974"/>
                  </a:lnTo>
                  <a:lnTo>
                    <a:pt x="4313" y="1974"/>
                  </a:lnTo>
                  <a:lnTo>
                    <a:pt x="4313" y="1955"/>
                  </a:lnTo>
                  <a:lnTo>
                    <a:pt x="4319" y="1955"/>
                  </a:lnTo>
                  <a:lnTo>
                    <a:pt x="4319" y="1939"/>
                  </a:lnTo>
                  <a:lnTo>
                    <a:pt x="4323" y="1939"/>
                  </a:lnTo>
                  <a:lnTo>
                    <a:pt x="4323" y="1921"/>
                  </a:lnTo>
                  <a:lnTo>
                    <a:pt x="4328" y="1921"/>
                  </a:lnTo>
                  <a:lnTo>
                    <a:pt x="4328" y="1909"/>
                  </a:lnTo>
                  <a:lnTo>
                    <a:pt x="4333" y="1909"/>
                  </a:lnTo>
                  <a:lnTo>
                    <a:pt x="4333" y="1891"/>
                  </a:lnTo>
                  <a:lnTo>
                    <a:pt x="4338" y="1891"/>
                  </a:lnTo>
                  <a:lnTo>
                    <a:pt x="4338" y="1873"/>
                  </a:lnTo>
                  <a:lnTo>
                    <a:pt x="4342" y="1873"/>
                  </a:lnTo>
                  <a:lnTo>
                    <a:pt x="4342" y="1861"/>
                  </a:lnTo>
                  <a:lnTo>
                    <a:pt x="4347" y="1861"/>
                  </a:lnTo>
                  <a:lnTo>
                    <a:pt x="4347" y="1844"/>
                  </a:lnTo>
                  <a:lnTo>
                    <a:pt x="4352" y="1844"/>
                  </a:lnTo>
                  <a:lnTo>
                    <a:pt x="4352" y="1826"/>
                  </a:lnTo>
                  <a:lnTo>
                    <a:pt x="4356" y="1826"/>
                  </a:lnTo>
                  <a:lnTo>
                    <a:pt x="4356" y="1814"/>
                  </a:lnTo>
                  <a:lnTo>
                    <a:pt x="4361" y="1814"/>
                  </a:lnTo>
                  <a:lnTo>
                    <a:pt x="4361" y="1803"/>
                  </a:lnTo>
                  <a:lnTo>
                    <a:pt x="4366" y="1803"/>
                  </a:lnTo>
                  <a:lnTo>
                    <a:pt x="4366" y="1790"/>
                  </a:lnTo>
                  <a:lnTo>
                    <a:pt x="4370" y="1790"/>
                  </a:lnTo>
                  <a:lnTo>
                    <a:pt x="4370" y="1779"/>
                  </a:lnTo>
                  <a:lnTo>
                    <a:pt x="4376" y="1779"/>
                  </a:lnTo>
                  <a:lnTo>
                    <a:pt x="4376" y="1768"/>
                  </a:lnTo>
                  <a:lnTo>
                    <a:pt x="4381" y="1768"/>
                  </a:lnTo>
                  <a:lnTo>
                    <a:pt x="4381" y="1755"/>
                  </a:lnTo>
                  <a:lnTo>
                    <a:pt x="4386" y="1755"/>
                  </a:lnTo>
                  <a:lnTo>
                    <a:pt x="4386" y="1749"/>
                  </a:lnTo>
                  <a:lnTo>
                    <a:pt x="4390" y="1749"/>
                  </a:lnTo>
                  <a:lnTo>
                    <a:pt x="4390" y="1737"/>
                  </a:lnTo>
                  <a:lnTo>
                    <a:pt x="4396" y="1737"/>
                  </a:lnTo>
                  <a:lnTo>
                    <a:pt x="4396" y="1732"/>
                  </a:lnTo>
                  <a:lnTo>
                    <a:pt x="4400" y="1732"/>
                  </a:lnTo>
                  <a:lnTo>
                    <a:pt x="4400" y="1719"/>
                  </a:lnTo>
                  <a:lnTo>
                    <a:pt x="4405" y="1719"/>
                  </a:lnTo>
                  <a:lnTo>
                    <a:pt x="4405" y="1714"/>
                  </a:lnTo>
                  <a:lnTo>
                    <a:pt x="4409" y="1714"/>
                  </a:lnTo>
                  <a:lnTo>
                    <a:pt x="4409" y="1702"/>
                  </a:lnTo>
                  <a:lnTo>
                    <a:pt x="4414" y="1702"/>
                  </a:lnTo>
                  <a:lnTo>
                    <a:pt x="4414" y="1690"/>
                  </a:lnTo>
                  <a:lnTo>
                    <a:pt x="4419" y="1690"/>
                  </a:lnTo>
                  <a:lnTo>
                    <a:pt x="4419" y="1678"/>
                  </a:lnTo>
                  <a:lnTo>
                    <a:pt x="4423" y="1678"/>
                  </a:lnTo>
                  <a:lnTo>
                    <a:pt x="4423" y="1667"/>
                  </a:lnTo>
                  <a:lnTo>
                    <a:pt x="4429" y="1667"/>
                  </a:lnTo>
                  <a:lnTo>
                    <a:pt x="4429" y="1654"/>
                  </a:lnTo>
                  <a:lnTo>
                    <a:pt x="4433" y="1654"/>
                  </a:lnTo>
                  <a:lnTo>
                    <a:pt x="4433" y="1643"/>
                  </a:lnTo>
                  <a:lnTo>
                    <a:pt x="4438" y="1643"/>
                  </a:lnTo>
                  <a:lnTo>
                    <a:pt x="4438" y="1626"/>
                  </a:lnTo>
                  <a:lnTo>
                    <a:pt x="4443" y="1626"/>
                  </a:lnTo>
                  <a:lnTo>
                    <a:pt x="4443" y="1613"/>
                  </a:lnTo>
                  <a:lnTo>
                    <a:pt x="4447" y="1613"/>
                  </a:lnTo>
                  <a:lnTo>
                    <a:pt x="4447" y="1596"/>
                  </a:lnTo>
                  <a:lnTo>
                    <a:pt x="4453" y="1596"/>
                  </a:lnTo>
                  <a:lnTo>
                    <a:pt x="4453" y="1572"/>
                  </a:lnTo>
                  <a:lnTo>
                    <a:pt x="4457" y="1572"/>
                  </a:lnTo>
                  <a:lnTo>
                    <a:pt x="4457" y="1559"/>
                  </a:lnTo>
                  <a:lnTo>
                    <a:pt x="4463" y="1559"/>
                  </a:lnTo>
                  <a:lnTo>
                    <a:pt x="4463" y="1548"/>
                  </a:lnTo>
                  <a:lnTo>
                    <a:pt x="4467" y="1548"/>
                  </a:lnTo>
                  <a:lnTo>
                    <a:pt x="4467" y="1536"/>
                  </a:lnTo>
                  <a:lnTo>
                    <a:pt x="4472" y="1536"/>
                  </a:lnTo>
                  <a:lnTo>
                    <a:pt x="4472" y="1518"/>
                  </a:lnTo>
                  <a:lnTo>
                    <a:pt x="4477" y="1518"/>
                  </a:lnTo>
                  <a:lnTo>
                    <a:pt x="4477" y="1507"/>
                  </a:lnTo>
                  <a:lnTo>
                    <a:pt x="4482" y="1507"/>
                  </a:lnTo>
                  <a:lnTo>
                    <a:pt x="4482" y="1494"/>
                  </a:lnTo>
                  <a:lnTo>
                    <a:pt x="4486" y="1494"/>
                  </a:lnTo>
                  <a:lnTo>
                    <a:pt x="4486" y="1482"/>
                  </a:lnTo>
                  <a:lnTo>
                    <a:pt x="4491" y="1482"/>
                  </a:lnTo>
                  <a:lnTo>
                    <a:pt x="4491" y="1472"/>
                  </a:lnTo>
                  <a:lnTo>
                    <a:pt x="4496" y="1472"/>
                  </a:lnTo>
                  <a:lnTo>
                    <a:pt x="4496" y="1453"/>
                  </a:lnTo>
                  <a:lnTo>
                    <a:pt x="4500" y="1453"/>
                  </a:lnTo>
                  <a:lnTo>
                    <a:pt x="4500" y="1448"/>
                  </a:lnTo>
                  <a:lnTo>
                    <a:pt x="4505" y="1448"/>
                  </a:lnTo>
                  <a:lnTo>
                    <a:pt x="4505" y="1436"/>
                  </a:lnTo>
                  <a:lnTo>
                    <a:pt x="4510" y="1436"/>
                  </a:lnTo>
                  <a:lnTo>
                    <a:pt x="4510" y="1418"/>
                  </a:lnTo>
                  <a:lnTo>
                    <a:pt x="4515" y="1418"/>
                  </a:lnTo>
                  <a:lnTo>
                    <a:pt x="4515" y="1406"/>
                  </a:lnTo>
                  <a:lnTo>
                    <a:pt x="4519" y="1406"/>
                  </a:lnTo>
                  <a:lnTo>
                    <a:pt x="4519" y="1395"/>
                  </a:lnTo>
                  <a:lnTo>
                    <a:pt x="4526" y="1395"/>
                  </a:lnTo>
                  <a:lnTo>
                    <a:pt x="4526" y="1390"/>
                  </a:lnTo>
                  <a:lnTo>
                    <a:pt x="4530" y="1390"/>
                  </a:lnTo>
                  <a:lnTo>
                    <a:pt x="4530" y="1371"/>
                  </a:lnTo>
                  <a:lnTo>
                    <a:pt x="4534" y="1371"/>
                  </a:lnTo>
                  <a:lnTo>
                    <a:pt x="4534" y="1360"/>
                  </a:lnTo>
                  <a:lnTo>
                    <a:pt x="4540" y="1360"/>
                  </a:lnTo>
                  <a:lnTo>
                    <a:pt x="4540" y="1347"/>
                  </a:lnTo>
                  <a:lnTo>
                    <a:pt x="4544" y="1347"/>
                  </a:lnTo>
                  <a:lnTo>
                    <a:pt x="4544" y="1336"/>
                  </a:lnTo>
                  <a:lnTo>
                    <a:pt x="4549" y="1336"/>
                  </a:lnTo>
                  <a:lnTo>
                    <a:pt x="4549" y="1330"/>
                  </a:lnTo>
                  <a:lnTo>
                    <a:pt x="4553" y="1330"/>
                  </a:lnTo>
                  <a:lnTo>
                    <a:pt x="4553" y="1317"/>
                  </a:lnTo>
                  <a:lnTo>
                    <a:pt x="4559" y="1317"/>
                  </a:lnTo>
                  <a:lnTo>
                    <a:pt x="4559" y="1282"/>
                  </a:lnTo>
                  <a:lnTo>
                    <a:pt x="4553" y="1282"/>
                  </a:lnTo>
                  <a:lnTo>
                    <a:pt x="4553" y="1271"/>
                  </a:lnTo>
                  <a:lnTo>
                    <a:pt x="4549" y="1271"/>
                  </a:lnTo>
                  <a:lnTo>
                    <a:pt x="4549" y="1259"/>
                  </a:lnTo>
                  <a:lnTo>
                    <a:pt x="4540" y="1259"/>
                  </a:lnTo>
                  <a:lnTo>
                    <a:pt x="4540" y="1254"/>
                  </a:lnTo>
                  <a:lnTo>
                    <a:pt x="4534" y="1254"/>
                  </a:lnTo>
                  <a:lnTo>
                    <a:pt x="4534" y="1246"/>
                  </a:lnTo>
                  <a:lnTo>
                    <a:pt x="4519" y="1246"/>
                  </a:lnTo>
                  <a:lnTo>
                    <a:pt x="4519" y="1241"/>
                  </a:lnTo>
                  <a:lnTo>
                    <a:pt x="4515" y="1241"/>
                  </a:lnTo>
                  <a:lnTo>
                    <a:pt x="4515" y="1235"/>
                  </a:lnTo>
                  <a:lnTo>
                    <a:pt x="4505" y="1235"/>
                  </a:lnTo>
                  <a:lnTo>
                    <a:pt x="4505" y="1229"/>
                  </a:lnTo>
                  <a:lnTo>
                    <a:pt x="4500" y="1229"/>
                  </a:lnTo>
                  <a:lnTo>
                    <a:pt x="4500" y="1222"/>
                  </a:lnTo>
                  <a:lnTo>
                    <a:pt x="4486" y="1222"/>
                  </a:lnTo>
                  <a:lnTo>
                    <a:pt x="4486" y="1217"/>
                  </a:lnTo>
                  <a:lnTo>
                    <a:pt x="4472" y="1217"/>
                  </a:lnTo>
                  <a:lnTo>
                    <a:pt x="4472" y="1212"/>
                  </a:lnTo>
                  <a:lnTo>
                    <a:pt x="4457" y="1212"/>
                  </a:lnTo>
                  <a:lnTo>
                    <a:pt x="4457" y="1205"/>
                  </a:lnTo>
                  <a:lnTo>
                    <a:pt x="4447" y="1205"/>
                  </a:lnTo>
                  <a:lnTo>
                    <a:pt x="4447" y="1200"/>
                  </a:lnTo>
                  <a:lnTo>
                    <a:pt x="4438" y="1200"/>
                  </a:lnTo>
                  <a:lnTo>
                    <a:pt x="4438" y="1194"/>
                  </a:lnTo>
                  <a:lnTo>
                    <a:pt x="4419" y="1194"/>
                  </a:lnTo>
                  <a:lnTo>
                    <a:pt x="4419" y="1188"/>
                  </a:lnTo>
                  <a:lnTo>
                    <a:pt x="4396" y="1188"/>
                  </a:lnTo>
                  <a:lnTo>
                    <a:pt x="4396" y="1181"/>
                  </a:lnTo>
                  <a:lnTo>
                    <a:pt x="4386" y="1181"/>
                  </a:lnTo>
                  <a:lnTo>
                    <a:pt x="4386" y="1176"/>
                  </a:lnTo>
                  <a:lnTo>
                    <a:pt x="4361" y="1176"/>
                  </a:lnTo>
                  <a:lnTo>
                    <a:pt x="4361" y="1188"/>
                  </a:lnTo>
                  <a:lnTo>
                    <a:pt x="4356" y="1188"/>
                  </a:lnTo>
                  <a:lnTo>
                    <a:pt x="4356" y="1200"/>
                  </a:lnTo>
                  <a:lnTo>
                    <a:pt x="4352" y="1200"/>
                  </a:lnTo>
                  <a:lnTo>
                    <a:pt x="4352" y="1212"/>
                  </a:lnTo>
                  <a:lnTo>
                    <a:pt x="4347" y="1212"/>
                  </a:lnTo>
                  <a:lnTo>
                    <a:pt x="4347" y="1222"/>
                  </a:lnTo>
                  <a:lnTo>
                    <a:pt x="4342" y="1222"/>
                  </a:lnTo>
                  <a:lnTo>
                    <a:pt x="4342" y="1235"/>
                  </a:lnTo>
                  <a:lnTo>
                    <a:pt x="4338" y="1235"/>
                  </a:lnTo>
                  <a:lnTo>
                    <a:pt x="4338" y="1246"/>
                  </a:lnTo>
                  <a:lnTo>
                    <a:pt x="4333" y="1246"/>
                  </a:lnTo>
                  <a:lnTo>
                    <a:pt x="4333" y="1265"/>
                  </a:lnTo>
                  <a:lnTo>
                    <a:pt x="4328" y="1265"/>
                  </a:lnTo>
                  <a:lnTo>
                    <a:pt x="4328" y="1276"/>
                  </a:lnTo>
                  <a:lnTo>
                    <a:pt x="4323" y="1276"/>
                  </a:lnTo>
                  <a:lnTo>
                    <a:pt x="4323" y="1282"/>
                  </a:lnTo>
                  <a:lnTo>
                    <a:pt x="4319" y="1282"/>
                  </a:lnTo>
                  <a:lnTo>
                    <a:pt x="4319" y="1295"/>
                  </a:lnTo>
                  <a:lnTo>
                    <a:pt x="4313" y="1295"/>
                  </a:lnTo>
                  <a:lnTo>
                    <a:pt x="4313" y="1312"/>
                  </a:lnTo>
                  <a:lnTo>
                    <a:pt x="4309" y="1312"/>
                  </a:lnTo>
                  <a:lnTo>
                    <a:pt x="4309" y="1330"/>
                  </a:lnTo>
                  <a:lnTo>
                    <a:pt x="4305" y="1330"/>
                  </a:lnTo>
                  <a:lnTo>
                    <a:pt x="4305" y="1336"/>
                  </a:lnTo>
                  <a:lnTo>
                    <a:pt x="4299" y="1336"/>
                  </a:lnTo>
                  <a:lnTo>
                    <a:pt x="4299" y="1353"/>
                  </a:lnTo>
                  <a:lnTo>
                    <a:pt x="4294" y="1353"/>
                  </a:lnTo>
                  <a:lnTo>
                    <a:pt x="4294" y="1371"/>
                  </a:lnTo>
                  <a:lnTo>
                    <a:pt x="4289" y="1371"/>
                  </a:lnTo>
                  <a:lnTo>
                    <a:pt x="4289" y="1382"/>
                  </a:lnTo>
                  <a:lnTo>
                    <a:pt x="4285" y="1382"/>
                  </a:lnTo>
                  <a:lnTo>
                    <a:pt x="4285" y="1418"/>
                  </a:lnTo>
                  <a:lnTo>
                    <a:pt x="4279" y="1418"/>
                  </a:lnTo>
                  <a:lnTo>
                    <a:pt x="4279" y="1436"/>
                  </a:lnTo>
                  <a:lnTo>
                    <a:pt x="4275" y="1436"/>
                  </a:lnTo>
                  <a:lnTo>
                    <a:pt x="4275" y="1453"/>
                  </a:lnTo>
                  <a:lnTo>
                    <a:pt x="4271" y="1453"/>
                  </a:lnTo>
                  <a:lnTo>
                    <a:pt x="4271" y="1466"/>
                  </a:lnTo>
                  <a:lnTo>
                    <a:pt x="4265" y="1466"/>
                  </a:lnTo>
                  <a:lnTo>
                    <a:pt x="4265" y="1482"/>
                  </a:lnTo>
                  <a:lnTo>
                    <a:pt x="4261" y="1482"/>
                  </a:lnTo>
                  <a:lnTo>
                    <a:pt x="4261" y="1494"/>
                  </a:lnTo>
                  <a:lnTo>
                    <a:pt x="4256" y="1494"/>
                  </a:lnTo>
                  <a:lnTo>
                    <a:pt x="4256" y="1507"/>
                  </a:lnTo>
                  <a:lnTo>
                    <a:pt x="4251" y="1507"/>
                  </a:lnTo>
                  <a:lnTo>
                    <a:pt x="4251" y="1524"/>
                  </a:lnTo>
                  <a:lnTo>
                    <a:pt x="4246" y="1524"/>
                  </a:lnTo>
                  <a:lnTo>
                    <a:pt x="4246" y="1536"/>
                  </a:lnTo>
                  <a:lnTo>
                    <a:pt x="4242" y="1536"/>
                  </a:lnTo>
                  <a:lnTo>
                    <a:pt x="4242" y="1567"/>
                  </a:lnTo>
                  <a:lnTo>
                    <a:pt x="4237" y="1567"/>
                  </a:lnTo>
                  <a:lnTo>
                    <a:pt x="4237" y="1578"/>
                  </a:lnTo>
                  <a:lnTo>
                    <a:pt x="4232" y="1578"/>
                  </a:lnTo>
                  <a:lnTo>
                    <a:pt x="4232" y="1583"/>
                  </a:lnTo>
                  <a:lnTo>
                    <a:pt x="4222" y="1583"/>
                  </a:lnTo>
                  <a:lnTo>
                    <a:pt x="4222" y="1572"/>
                  </a:lnTo>
                  <a:lnTo>
                    <a:pt x="4217" y="1572"/>
                  </a:lnTo>
                  <a:lnTo>
                    <a:pt x="4217" y="1559"/>
                  </a:lnTo>
                  <a:lnTo>
                    <a:pt x="4208" y="1559"/>
                  </a:lnTo>
                  <a:lnTo>
                    <a:pt x="4208" y="1554"/>
                  </a:lnTo>
                  <a:lnTo>
                    <a:pt x="4198" y="1554"/>
                  </a:lnTo>
                  <a:lnTo>
                    <a:pt x="4198" y="1548"/>
                  </a:lnTo>
                  <a:lnTo>
                    <a:pt x="4193" y="1548"/>
                  </a:lnTo>
                  <a:lnTo>
                    <a:pt x="4193" y="1542"/>
                  </a:lnTo>
                  <a:lnTo>
                    <a:pt x="4179" y="1542"/>
                  </a:lnTo>
                  <a:lnTo>
                    <a:pt x="4179" y="1536"/>
                  </a:lnTo>
                  <a:lnTo>
                    <a:pt x="4169" y="1536"/>
                  </a:lnTo>
                  <a:lnTo>
                    <a:pt x="4169" y="1531"/>
                  </a:lnTo>
                  <a:lnTo>
                    <a:pt x="4155" y="1531"/>
                  </a:lnTo>
                  <a:lnTo>
                    <a:pt x="4155" y="1524"/>
                  </a:lnTo>
                  <a:lnTo>
                    <a:pt x="4135" y="1524"/>
                  </a:lnTo>
                  <a:lnTo>
                    <a:pt x="4135" y="1518"/>
                  </a:lnTo>
                  <a:lnTo>
                    <a:pt x="4088" y="1518"/>
                  </a:lnTo>
                  <a:lnTo>
                    <a:pt x="4088" y="1513"/>
                  </a:lnTo>
                  <a:lnTo>
                    <a:pt x="4078" y="1513"/>
                  </a:lnTo>
                  <a:lnTo>
                    <a:pt x="4078" y="1507"/>
                  </a:lnTo>
                  <a:lnTo>
                    <a:pt x="4072" y="1507"/>
                  </a:lnTo>
                  <a:lnTo>
                    <a:pt x="4072" y="1501"/>
                  </a:lnTo>
                  <a:lnTo>
                    <a:pt x="4064" y="1501"/>
                  </a:lnTo>
                  <a:lnTo>
                    <a:pt x="4064" y="1494"/>
                  </a:lnTo>
                  <a:lnTo>
                    <a:pt x="4054" y="1494"/>
                  </a:lnTo>
                  <a:lnTo>
                    <a:pt x="4054" y="1490"/>
                  </a:lnTo>
                  <a:lnTo>
                    <a:pt x="4025" y="1490"/>
                  </a:lnTo>
                  <a:lnTo>
                    <a:pt x="4025" y="1482"/>
                  </a:lnTo>
                  <a:lnTo>
                    <a:pt x="3938" y="1482"/>
                  </a:lnTo>
                  <a:lnTo>
                    <a:pt x="3938" y="1477"/>
                  </a:lnTo>
                  <a:lnTo>
                    <a:pt x="3924" y="1477"/>
                  </a:lnTo>
                  <a:lnTo>
                    <a:pt x="3924" y="1472"/>
                  </a:lnTo>
                  <a:lnTo>
                    <a:pt x="3910" y="1472"/>
                  </a:lnTo>
                  <a:lnTo>
                    <a:pt x="3910" y="1466"/>
                  </a:lnTo>
                  <a:lnTo>
                    <a:pt x="3887" y="1466"/>
                  </a:lnTo>
                  <a:lnTo>
                    <a:pt x="3887" y="1460"/>
                  </a:lnTo>
                  <a:lnTo>
                    <a:pt x="3877" y="1460"/>
                  </a:lnTo>
                  <a:lnTo>
                    <a:pt x="3877" y="1453"/>
                  </a:lnTo>
                  <a:lnTo>
                    <a:pt x="3872" y="1453"/>
                  </a:lnTo>
                  <a:lnTo>
                    <a:pt x="3872" y="1441"/>
                  </a:lnTo>
                  <a:lnTo>
                    <a:pt x="3877" y="1441"/>
                  </a:lnTo>
                  <a:lnTo>
                    <a:pt x="3877" y="1436"/>
                  </a:lnTo>
                  <a:lnTo>
                    <a:pt x="3881" y="1436"/>
                  </a:lnTo>
                  <a:lnTo>
                    <a:pt x="3881" y="1431"/>
                  </a:lnTo>
                  <a:lnTo>
                    <a:pt x="3887" y="1431"/>
                  </a:lnTo>
                  <a:lnTo>
                    <a:pt x="3887" y="1423"/>
                  </a:lnTo>
                  <a:lnTo>
                    <a:pt x="3891" y="1423"/>
                  </a:lnTo>
                  <a:lnTo>
                    <a:pt x="3891" y="1377"/>
                  </a:lnTo>
                  <a:lnTo>
                    <a:pt x="3895" y="1377"/>
                  </a:lnTo>
                  <a:lnTo>
                    <a:pt x="3895" y="1306"/>
                  </a:lnTo>
                  <a:lnTo>
                    <a:pt x="3891" y="1306"/>
                  </a:lnTo>
                  <a:lnTo>
                    <a:pt x="3891" y="1287"/>
                  </a:lnTo>
                  <a:lnTo>
                    <a:pt x="3872" y="1287"/>
                  </a:lnTo>
                  <a:lnTo>
                    <a:pt x="3872" y="1300"/>
                  </a:lnTo>
                  <a:lnTo>
                    <a:pt x="3866" y="1300"/>
                  </a:lnTo>
                  <a:lnTo>
                    <a:pt x="3866" y="1306"/>
                  </a:lnTo>
                  <a:lnTo>
                    <a:pt x="3861" y="1306"/>
                  </a:lnTo>
                  <a:lnTo>
                    <a:pt x="3861" y="1317"/>
                  </a:lnTo>
                  <a:lnTo>
                    <a:pt x="3857" y="1317"/>
                  </a:lnTo>
                  <a:lnTo>
                    <a:pt x="3857" y="1324"/>
                  </a:lnTo>
                  <a:lnTo>
                    <a:pt x="3852" y="1324"/>
                  </a:lnTo>
                  <a:lnTo>
                    <a:pt x="3852" y="1336"/>
                  </a:lnTo>
                  <a:lnTo>
                    <a:pt x="3847" y="1336"/>
                  </a:lnTo>
                  <a:lnTo>
                    <a:pt x="3847" y="1341"/>
                  </a:lnTo>
                  <a:lnTo>
                    <a:pt x="3843" y="1341"/>
                  </a:lnTo>
                  <a:lnTo>
                    <a:pt x="3843" y="1347"/>
                  </a:lnTo>
                  <a:lnTo>
                    <a:pt x="3838" y="1347"/>
                  </a:lnTo>
                  <a:lnTo>
                    <a:pt x="3838" y="1360"/>
                  </a:lnTo>
                  <a:lnTo>
                    <a:pt x="3828" y="1360"/>
                  </a:lnTo>
                  <a:lnTo>
                    <a:pt x="3828" y="1365"/>
                  </a:lnTo>
                  <a:lnTo>
                    <a:pt x="3824" y="1365"/>
                  </a:lnTo>
                  <a:lnTo>
                    <a:pt x="3824" y="1371"/>
                  </a:lnTo>
                  <a:lnTo>
                    <a:pt x="3819" y="1371"/>
                  </a:lnTo>
                  <a:lnTo>
                    <a:pt x="3819" y="1377"/>
                  </a:lnTo>
                  <a:lnTo>
                    <a:pt x="3814" y="1377"/>
                  </a:lnTo>
                  <a:lnTo>
                    <a:pt x="3814" y="1382"/>
                  </a:lnTo>
                  <a:lnTo>
                    <a:pt x="3809" y="1382"/>
                  </a:lnTo>
                  <a:lnTo>
                    <a:pt x="3809" y="1390"/>
                  </a:lnTo>
                  <a:lnTo>
                    <a:pt x="3805" y="1390"/>
                  </a:lnTo>
                  <a:lnTo>
                    <a:pt x="3805" y="1395"/>
                  </a:lnTo>
                  <a:lnTo>
                    <a:pt x="3800" y="1395"/>
                  </a:lnTo>
                  <a:lnTo>
                    <a:pt x="3800" y="1406"/>
                  </a:lnTo>
                  <a:lnTo>
                    <a:pt x="3794" y="1406"/>
                  </a:lnTo>
                  <a:lnTo>
                    <a:pt x="3794" y="1412"/>
                  </a:lnTo>
                  <a:lnTo>
                    <a:pt x="3790" y="1412"/>
                  </a:lnTo>
                  <a:lnTo>
                    <a:pt x="3790" y="1418"/>
                  </a:lnTo>
                  <a:lnTo>
                    <a:pt x="3784" y="1418"/>
                  </a:lnTo>
                  <a:lnTo>
                    <a:pt x="3784" y="1423"/>
                  </a:lnTo>
                  <a:lnTo>
                    <a:pt x="3780" y="1423"/>
                  </a:lnTo>
                  <a:lnTo>
                    <a:pt x="3780" y="1436"/>
                  </a:lnTo>
                  <a:lnTo>
                    <a:pt x="3775" y="1436"/>
                  </a:lnTo>
                  <a:lnTo>
                    <a:pt x="3775" y="1441"/>
                  </a:lnTo>
                  <a:lnTo>
                    <a:pt x="3771" y="1441"/>
                  </a:lnTo>
                  <a:lnTo>
                    <a:pt x="3771" y="1448"/>
                  </a:lnTo>
                  <a:lnTo>
                    <a:pt x="3765" y="1448"/>
                  </a:lnTo>
                  <a:lnTo>
                    <a:pt x="3765" y="1460"/>
                  </a:lnTo>
                  <a:lnTo>
                    <a:pt x="3761" y="1460"/>
                  </a:lnTo>
                  <a:lnTo>
                    <a:pt x="3761" y="1466"/>
                  </a:lnTo>
                  <a:lnTo>
                    <a:pt x="3757" y="1466"/>
                  </a:lnTo>
                  <a:lnTo>
                    <a:pt x="3757" y="1472"/>
                  </a:lnTo>
                  <a:lnTo>
                    <a:pt x="3751" y="1472"/>
                  </a:lnTo>
                  <a:lnTo>
                    <a:pt x="3751" y="1477"/>
                  </a:lnTo>
                  <a:lnTo>
                    <a:pt x="3747" y="1477"/>
                  </a:lnTo>
                  <a:lnTo>
                    <a:pt x="3747" y="1482"/>
                  </a:lnTo>
                  <a:lnTo>
                    <a:pt x="3742" y="1482"/>
                  </a:lnTo>
                  <a:lnTo>
                    <a:pt x="3742" y="1490"/>
                  </a:lnTo>
                  <a:lnTo>
                    <a:pt x="3737" y="1490"/>
                  </a:lnTo>
                  <a:lnTo>
                    <a:pt x="3737" y="1507"/>
                  </a:lnTo>
                  <a:lnTo>
                    <a:pt x="3732" y="1507"/>
                  </a:lnTo>
                  <a:lnTo>
                    <a:pt x="3732" y="1513"/>
                  </a:lnTo>
                  <a:lnTo>
                    <a:pt x="3728" y="1513"/>
                  </a:lnTo>
                  <a:lnTo>
                    <a:pt x="3728" y="1524"/>
                  </a:lnTo>
                  <a:lnTo>
                    <a:pt x="3722" y="1524"/>
                  </a:lnTo>
                  <a:lnTo>
                    <a:pt x="3722" y="1542"/>
                  </a:lnTo>
                  <a:lnTo>
                    <a:pt x="3717" y="1542"/>
                  </a:lnTo>
                  <a:lnTo>
                    <a:pt x="3717" y="1548"/>
                  </a:lnTo>
                  <a:lnTo>
                    <a:pt x="3713" y="1548"/>
                  </a:lnTo>
                  <a:lnTo>
                    <a:pt x="3713" y="1567"/>
                  </a:lnTo>
                  <a:lnTo>
                    <a:pt x="3708" y="1567"/>
                  </a:lnTo>
                  <a:lnTo>
                    <a:pt x="3708" y="1572"/>
                  </a:lnTo>
                  <a:lnTo>
                    <a:pt x="3703" y="1572"/>
                  </a:lnTo>
                  <a:lnTo>
                    <a:pt x="3703" y="1596"/>
                  </a:lnTo>
                  <a:lnTo>
                    <a:pt x="3698" y="1596"/>
                  </a:lnTo>
                  <a:lnTo>
                    <a:pt x="3698" y="1626"/>
                  </a:lnTo>
                  <a:lnTo>
                    <a:pt x="3688" y="1626"/>
                  </a:lnTo>
                  <a:lnTo>
                    <a:pt x="3688" y="1649"/>
                  </a:lnTo>
                  <a:lnTo>
                    <a:pt x="3684" y="1649"/>
                  </a:lnTo>
                  <a:lnTo>
                    <a:pt x="3684" y="1667"/>
                  </a:lnTo>
                  <a:lnTo>
                    <a:pt x="3680" y="1667"/>
                  </a:lnTo>
                  <a:lnTo>
                    <a:pt x="3680" y="1678"/>
                  </a:lnTo>
                  <a:lnTo>
                    <a:pt x="3675" y="1678"/>
                  </a:lnTo>
                  <a:lnTo>
                    <a:pt x="3675" y="1690"/>
                  </a:lnTo>
                  <a:lnTo>
                    <a:pt x="3670" y="1690"/>
                  </a:lnTo>
                  <a:lnTo>
                    <a:pt x="3670" y="1702"/>
                  </a:lnTo>
                  <a:lnTo>
                    <a:pt x="3665" y="1702"/>
                  </a:lnTo>
                  <a:lnTo>
                    <a:pt x="3665" y="1714"/>
                  </a:lnTo>
                  <a:lnTo>
                    <a:pt x="3661" y="1714"/>
                  </a:lnTo>
                  <a:lnTo>
                    <a:pt x="3661" y="1727"/>
                  </a:lnTo>
                  <a:lnTo>
                    <a:pt x="3656" y="1727"/>
                  </a:lnTo>
                  <a:lnTo>
                    <a:pt x="3656" y="1732"/>
                  </a:lnTo>
                  <a:lnTo>
                    <a:pt x="3650" y="1732"/>
                  </a:lnTo>
                  <a:lnTo>
                    <a:pt x="3650" y="1737"/>
                  </a:lnTo>
                  <a:lnTo>
                    <a:pt x="3646" y="1737"/>
                  </a:lnTo>
                  <a:lnTo>
                    <a:pt x="3646" y="1749"/>
                  </a:lnTo>
                  <a:lnTo>
                    <a:pt x="3640" y="1749"/>
                  </a:lnTo>
                  <a:lnTo>
                    <a:pt x="3640" y="1755"/>
                  </a:lnTo>
                  <a:lnTo>
                    <a:pt x="3636" y="1755"/>
                  </a:lnTo>
                  <a:lnTo>
                    <a:pt x="3636" y="1760"/>
                  </a:lnTo>
                  <a:lnTo>
                    <a:pt x="3632" y="1760"/>
                  </a:lnTo>
                  <a:lnTo>
                    <a:pt x="3632" y="1779"/>
                  </a:lnTo>
                  <a:lnTo>
                    <a:pt x="3627" y="1779"/>
                  </a:lnTo>
                  <a:lnTo>
                    <a:pt x="3627" y="1790"/>
                  </a:lnTo>
                  <a:lnTo>
                    <a:pt x="3622" y="1790"/>
                  </a:lnTo>
                  <a:lnTo>
                    <a:pt x="3622" y="1803"/>
                  </a:lnTo>
                  <a:lnTo>
                    <a:pt x="3617" y="1803"/>
                  </a:lnTo>
                  <a:lnTo>
                    <a:pt x="3617" y="1814"/>
                  </a:lnTo>
                  <a:lnTo>
                    <a:pt x="3613" y="1814"/>
                  </a:lnTo>
                  <a:lnTo>
                    <a:pt x="3613" y="1826"/>
                  </a:lnTo>
                  <a:lnTo>
                    <a:pt x="3607" y="1826"/>
                  </a:lnTo>
                  <a:lnTo>
                    <a:pt x="3607" y="1838"/>
                  </a:lnTo>
                  <a:lnTo>
                    <a:pt x="3603" y="1838"/>
                  </a:lnTo>
                  <a:lnTo>
                    <a:pt x="3603" y="1849"/>
                  </a:lnTo>
                  <a:lnTo>
                    <a:pt x="3598" y="1849"/>
                  </a:lnTo>
                  <a:lnTo>
                    <a:pt x="3598" y="1868"/>
                  </a:lnTo>
                  <a:lnTo>
                    <a:pt x="3593" y="1868"/>
                  </a:lnTo>
                  <a:lnTo>
                    <a:pt x="3593" y="1873"/>
                  </a:lnTo>
                  <a:lnTo>
                    <a:pt x="3589" y="1873"/>
                  </a:lnTo>
                  <a:lnTo>
                    <a:pt x="3589" y="1885"/>
                  </a:lnTo>
                  <a:lnTo>
                    <a:pt x="3584" y="1885"/>
                  </a:lnTo>
                  <a:lnTo>
                    <a:pt x="3584" y="1891"/>
                  </a:lnTo>
                  <a:lnTo>
                    <a:pt x="3573" y="1891"/>
                  </a:lnTo>
                  <a:lnTo>
                    <a:pt x="3573" y="1896"/>
                  </a:lnTo>
                  <a:lnTo>
                    <a:pt x="3569" y="1896"/>
                  </a:lnTo>
                  <a:lnTo>
                    <a:pt x="3569" y="1903"/>
                  </a:lnTo>
                  <a:lnTo>
                    <a:pt x="3564" y="1903"/>
                  </a:lnTo>
                  <a:lnTo>
                    <a:pt x="3564" y="1914"/>
                  </a:lnTo>
                  <a:lnTo>
                    <a:pt x="3559" y="1914"/>
                  </a:lnTo>
                  <a:lnTo>
                    <a:pt x="3559" y="1926"/>
                  </a:lnTo>
                  <a:lnTo>
                    <a:pt x="3554" y="1926"/>
                  </a:lnTo>
                  <a:lnTo>
                    <a:pt x="3554" y="1932"/>
                  </a:lnTo>
                  <a:lnTo>
                    <a:pt x="3550" y="1932"/>
                  </a:lnTo>
                  <a:lnTo>
                    <a:pt x="3550" y="1939"/>
                  </a:lnTo>
                  <a:lnTo>
                    <a:pt x="3545" y="1939"/>
                  </a:lnTo>
                  <a:lnTo>
                    <a:pt x="3545" y="1950"/>
                  </a:lnTo>
                  <a:lnTo>
                    <a:pt x="3540" y="1950"/>
                  </a:lnTo>
                  <a:lnTo>
                    <a:pt x="3540" y="1962"/>
                  </a:lnTo>
                  <a:lnTo>
                    <a:pt x="3536" y="1962"/>
                  </a:lnTo>
                  <a:lnTo>
                    <a:pt x="3536" y="1980"/>
                  </a:lnTo>
                  <a:lnTo>
                    <a:pt x="3531" y="1980"/>
                  </a:lnTo>
                  <a:lnTo>
                    <a:pt x="3531" y="1986"/>
                  </a:lnTo>
                  <a:lnTo>
                    <a:pt x="3526" y="1986"/>
                  </a:lnTo>
                  <a:lnTo>
                    <a:pt x="3526" y="1991"/>
                  </a:lnTo>
                  <a:lnTo>
                    <a:pt x="3521" y="1991"/>
                  </a:lnTo>
                  <a:lnTo>
                    <a:pt x="3521" y="2004"/>
                  </a:lnTo>
                  <a:lnTo>
                    <a:pt x="3517" y="2004"/>
                  </a:lnTo>
                  <a:lnTo>
                    <a:pt x="3517" y="2009"/>
                  </a:lnTo>
                  <a:lnTo>
                    <a:pt x="3511" y="2009"/>
                  </a:lnTo>
                  <a:lnTo>
                    <a:pt x="3511" y="2015"/>
                  </a:lnTo>
                  <a:lnTo>
                    <a:pt x="3507" y="2015"/>
                  </a:lnTo>
                  <a:lnTo>
                    <a:pt x="3507" y="2027"/>
                  </a:lnTo>
                  <a:lnTo>
                    <a:pt x="3502" y="2027"/>
                  </a:lnTo>
                  <a:lnTo>
                    <a:pt x="3502" y="2032"/>
                  </a:lnTo>
                  <a:lnTo>
                    <a:pt x="3496" y="2032"/>
                  </a:lnTo>
                  <a:lnTo>
                    <a:pt x="3496" y="2045"/>
                  </a:lnTo>
                  <a:lnTo>
                    <a:pt x="3492" y="2045"/>
                  </a:lnTo>
                  <a:lnTo>
                    <a:pt x="3492" y="2056"/>
                  </a:lnTo>
                  <a:lnTo>
                    <a:pt x="3487" y="2056"/>
                  </a:lnTo>
                  <a:lnTo>
                    <a:pt x="3487" y="2069"/>
                  </a:lnTo>
                  <a:lnTo>
                    <a:pt x="3482" y="2069"/>
                  </a:lnTo>
                  <a:lnTo>
                    <a:pt x="3482" y="2092"/>
                  </a:lnTo>
                  <a:lnTo>
                    <a:pt x="3477" y="2092"/>
                  </a:lnTo>
                  <a:lnTo>
                    <a:pt x="3477" y="2133"/>
                  </a:lnTo>
                  <a:lnTo>
                    <a:pt x="3487" y="2133"/>
                  </a:lnTo>
                  <a:lnTo>
                    <a:pt x="3487" y="2122"/>
                  </a:lnTo>
                  <a:lnTo>
                    <a:pt x="3496" y="2122"/>
                  </a:lnTo>
                  <a:lnTo>
                    <a:pt x="3496" y="2133"/>
                  </a:lnTo>
                  <a:lnTo>
                    <a:pt x="3492" y="2133"/>
                  </a:lnTo>
                  <a:lnTo>
                    <a:pt x="3492" y="2146"/>
                  </a:lnTo>
                  <a:lnTo>
                    <a:pt x="3482" y="2146"/>
                  </a:lnTo>
                  <a:lnTo>
                    <a:pt x="3482" y="2133"/>
                  </a:lnTo>
                  <a:lnTo>
                    <a:pt x="3473" y="2133"/>
                  </a:lnTo>
                  <a:lnTo>
                    <a:pt x="3473" y="2146"/>
                  </a:lnTo>
                  <a:lnTo>
                    <a:pt x="3468" y="2146"/>
                  </a:lnTo>
                  <a:lnTo>
                    <a:pt x="3468" y="2157"/>
                  </a:lnTo>
                  <a:lnTo>
                    <a:pt x="3463" y="2157"/>
                  </a:lnTo>
                  <a:lnTo>
                    <a:pt x="3463" y="2163"/>
                  </a:lnTo>
                  <a:lnTo>
                    <a:pt x="3459" y="2163"/>
                  </a:lnTo>
                  <a:lnTo>
                    <a:pt x="3459" y="2175"/>
                  </a:lnTo>
                  <a:lnTo>
                    <a:pt x="3449" y="2175"/>
                  </a:lnTo>
                  <a:lnTo>
                    <a:pt x="3449" y="2181"/>
                  </a:lnTo>
                  <a:lnTo>
                    <a:pt x="3444" y="2181"/>
                  </a:lnTo>
                  <a:lnTo>
                    <a:pt x="3444" y="2187"/>
                  </a:lnTo>
                  <a:lnTo>
                    <a:pt x="3440" y="2187"/>
                  </a:lnTo>
                  <a:lnTo>
                    <a:pt x="3440" y="2192"/>
                  </a:lnTo>
                  <a:lnTo>
                    <a:pt x="3429" y="2192"/>
                  </a:lnTo>
                  <a:lnTo>
                    <a:pt x="3429" y="2200"/>
                  </a:lnTo>
                  <a:lnTo>
                    <a:pt x="3424" y="2200"/>
                  </a:lnTo>
                  <a:lnTo>
                    <a:pt x="3424" y="2210"/>
                  </a:lnTo>
                  <a:lnTo>
                    <a:pt x="3420" y="2210"/>
                  </a:lnTo>
                  <a:lnTo>
                    <a:pt x="3420" y="2217"/>
                  </a:lnTo>
                  <a:lnTo>
                    <a:pt x="3415" y="2217"/>
                  </a:lnTo>
                  <a:lnTo>
                    <a:pt x="3415" y="2228"/>
                  </a:lnTo>
                  <a:lnTo>
                    <a:pt x="3410" y="2228"/>
                  </a:lnTo>
                  <a:lnTo>
                    <a:pt x="3410" y="2233"/>
                  </a:lnTo>
                  <a:lnTo>
                    <a:pt x="3406" y="2233"/>
                  </a:lnTo>
                  <a:lnTo>
                    <a:pt x="3406" y="2241"/>
                  </a:lnTo>
                  <a:lnTo>
                    <a:pt x="3400" y="2241"/>
                  </a:lnTo>
                  <a:lnTo>
                    <a:pt x="3400" y="2246"/>
                  </a:lnTo>
                  <a:lnTo>
                    <a:pt x="3396" y="2246"/>
                  </a:lnTo>
                  <a:lnTo>
                    <a:pt x="3396" y="2251"/>
                  </a:lnTo>
                  <a:lnTo>
                    <a:pt x="3391" y="2251"/>
                  </a:lnTo>
                  <a:lnTo>
                    <a:pt x="3391" y="2263"/>
                  </a:lnTo>
                  <a:lnTo>
                    <a:pt x="3387" y="2263"/>
                  </a:lnTo>
                  <a:lnTo>
                    <a:pt x="3387" y="2268"/>
                  </a:lnTo>
                  <a:lnTo>
                    <a:pt x="3382" y="2268"/>
                  </a:lnTo>
                  <a:lnTo>
                    <a:pt x="3382" y="2276"/>
                  </a:lnTo>
                  <a:lnTo>
                    <a:pt x="3377" y="2276"/>
                  </a:lnTo>
                  <a:lnTo>
                    <a:pt x="3377" y="2281"/>
                  </a:lnTo>
                  <a:lnTo>
                    <a:pt x="3373" y="2281"/>
                  </a:lnTo>
                  <a:lnTo>
                    <a:pt x="3373" y="2287"/>
                  </a:lnTo>
                  <a:lnTo>
                    <a:pt x="3367" y="2287"/>
                  </a:lnTo>
                  <a:lnTo>
                    <a:pt x="3367" y="2299"/>
                  </a:lnTo>
                  <a:lnTo>
                    <a:pt x="3363" y="2299"/>
                  </a:lnTo>
                  <a:lnTo>
                    <a:pt x="3363" y="2304"/>
                  </a:lnTo>
                  <a:lnTo>
                    <a:pt x="3357" y="2304"/>
                  </a:lnTo>
                  <a:lnTo>
                    <a:pt x="3357" y="2311"/>
                  </a:lnTo>
                  <a:lnTo>
                    <a:pt x="3352" y="2311"/>
                  </a:lnTo>
                  <a:lnTo>
                    <a:pt x="3352" y="2317"/>
                  </a:lnTo>
                  <a:lnTo>
                    <a:pt x="3347" y="2317"/>
                  </a:lnTo>
                  <a:lnTo>
                    <a:pt x="3347" y="2322"/>
                  </a:lnTo>
                  <a:lnTo>
                    <a:pt x="3343" y="2322"/>
                  </a:lnTo>
                  <a:lnTo>
                    <a:pt x="3343" y="2334"/>
                  </a:lnTo>
                  <a:lnTo>
                    <a:pt x="3338" y="2334"/>
                  </a:lnTo>
                  <a:lnTo>
                    <a:pt x="3338" y="2341"/>
                  </a:lnTo>
                  <a:lnTo>
                    <a:pt x="3333" y="2341"/>
                  </a:lnTo>
                  <a:lnTo>
                    <a:pt x="3333" y="2346"/>
                  </a:lnTo>
                  <a:lnTo>
                    <a:pt x="3329" y="2346"/>
                  </a:lnTo>
                  <a:lnTo>
                    <a:pt x="3329" y="2352"/>
                  </a:lnTo>
                  <a:lnTo>
                    <a:pt x="3324" y="2352"/>
                  </a:lnTo>
                  <a:lnTo>
                    <a:pt x="3324" y="2358"/>
                  </a:lnTo>
                  <a:lnTo>
                    <a:pt x="3319" y="2358"/>
                  </a:lnTo>
                  <a:lnTo>
                    <a:pt x="3319" y="2364"/>
                  </a:lnTo>
                  <a:lnTo>
                    <a:pt x="3314" y="2364"/>
                  </a:lnTo>
                  <a:lnTo>
                    <a:pt x="3314" y="2369"/>
                  </a:lnTo>
                  <a:lnTo>
                    <a:pt x="3305" y="2369"/>
                  </a:lnTo>
                  <a:lnTo>
                    <a:pt x="3305" y="2375"/>
                  </a:lnTo>
                  <a:lnTo>
                    <a:pt x="3300" y="2375"/>
                  </a:lnTo>
                  <a:lnTo>
                    <a:pt x="3300" y="2382"/>
                  </a:lnTo>
                  <a:lnTo>
                    <a:pt x="3291" y="2382"/>
                  </a:lnTo>
                  <a:lnTo>
                    <a:pt x="3291" y="2387"/>
                  </a:lnTo>
                  <a:lnTo>
                    <a:pt x="3285" y="2387"/>
                  </a:lnTo>
                  <a:lnTo>
                    <a:pt x="3285" y="2394"/>
                  </a:lnTo>
                  <a:lnTo>
                    <a:pt x="3281" y="2394"/>
                  </a:lnTo>
                  <a:lnTo>
                    <a:pt x="3281" y="2399"/>
                  </a:lnTo>
                  <a:lnTo>
                    <a:pt x="3276" y="2399"/>
                  </a:lnTo>
                  <a:lnTo>
                    <a:pt x="3276" y="2410"/>
                  </a:lnTo>
                  <a:lnTo>
                    <a:pt x="3271" y="2410"/>
                  </a:lnTo>
                  <a:lnTo>
                    <a:pt x="3271" y="2418"/>
                  </a:lnTo>
                  <a:lnTo>
                    <a:pt x="3266" y="2418"/>
                  </a:lnTo>
                  <a:lnTo>
                    <a:pt x="3266" y="2423"/>
                  </a:lnTo>
                  <a:lnTo>
                    <a:pt x="3262" y="2423"/>
                  </a:lnTo>
                  <a:lnTo>
                    <a:pt x="3262" y="2428"/>
                  </a:lnTo>
                  <a:lnTo>
                    <a:pt x="3256" y="2428"/>
                  </a:lnTo>
                  <a:lnTo>
                    <a:pt x="3256" y="2435"/>
                  </a:lnTo>
                  <a:lnTo>
                    <a:pt x="3252" y="2435"/>
                  </a:lnTo>
                  <a:lnTo>
                    <a:pt x="3252" y="2447"/>
                  </a:lnTo>
                  <a:lnTo>
                    <a:pt x="3248" y="2447"/>
                  </a:lnTo>
                  <a:lnTo>
                    <a:pt x="3248" y="2453"/>
                  </a:lnTo>
                  <a:lnTo>
                    <a:pt x="3243" y="2453"/>
                  </a:lnTo>
                  <a:lnTo>
                    <a:pt x="3243" y="2459"/>
                  </a:lnTo>
                  <a:lnTo>
                    <a:pt x="3238" y="2459"/>
                  </a:lnTo>
                  <a:lnTo>
                    <a:pt x="3238" y="2470"/>
                  </a:lnTo>
                  <a:lnTo>
                    <a:pt x="3233" y="2470"/>
                  </a:lnTo>
                  <a:lnTo>
                    <a:pt x="3233" y="2477"/>
                  </a:lnTo>
                  <a:lnTo>
                    <a:pt x="3229" y="2477"/>
                  </a:lnTo>
                  <a:lnTo>
                    <a:pt x="3229" y="2482"/>
                  </a:lnTo>
                  <a:lnTo>
                    <a:pt x="3223" y="2482"/>
                  </a:lnTo>
                  <a:lnTo>
                    <a:pt x="3223" y="2488"/>
                  </a:lnTo>
                  <a:lnTo>
                    <a:pt x="3219" y="2488"/>
                  </a:lnTo>
                  <a:lnTo>
                    <a:pt x="3219" y="2500"/>
                  </a:lnTo>
                  <a:lnTo>
                    <a:pt x="3213" y="2500"/>
                  </a:lnTo>
                  <a:lnTo>
                    <a:pt x="3213" y="2505"/>
                  </a:lnTo>
                  <a:lnTo>
                    <a:pt x="3208" y="2505"/>
                  </a:lnTo>
                  <a:lnTo>
                    <a:pt x="3208" y="2513"/>
                  </a:lnTo>
                  <a:lnTo>
                    <a:pt x="3204" y="2513"/>
                  </a:lnTo>
                  <a:lnTo>
                    <a:pt x="3204" y="2518"/>
                  </a:lnTo>
                  <a:lnTo>
                    <a:pt x="3199" y="2518"/>
                  </a:lnTo>
                  <a:lnTo>
                    <a:pt x="3199" y="2523"/>
                  </a:lnTo>
                  <a:lnTo>
                    <a:pt x="3194" y="2523"/>
                  </a:lnTo>
                  <a:lnTo>
                    <a:pt x="3194" y="2535"/>
                  </a:lnTo>
                  <a:lnTo>
                    <a:pt x="3189" y="2535"/>
                  </a:lnTo>
                  <a:lnTo>
                    <a:pt x="3189" y="2541"/>
                  </a:lnTo>
                  <a:lnTo>
                    <a:pt x="3185" y="2541"/>
                  </a:lnTo>
                  <a:lnTo>
                    <a:pt x="3185" y="2559"/>
                  </a:lnTo>
                  <a:lnTo>
                    <a:pt x="3180" y="2559"/>
                  </a:lnTo>
                  <a:lnTo>
                    <a:pt x="3180" y="2571"/>
                  </a:lnTo>
                  <a:lnTo>
                    <a:pt x="3175" y="2571"/>
                  </a:lnTo>
                  <a:lnTo>
                    <a:pt x="3175" y="2576"/>
                  </a:lnTo>
                  <a:lnTo>
                    <a:pt x="3170" y="2576"/>
                  </a:lnTo>
                  <a:lnTo>
                    <a:pt x="3170" y="2583"/>
                  </a:lnTo>
                  <a:lnTo>
                    <a:pt x="3166" y="2583"/>
                  </a:lnTo>
                  <a:lnTo>
                    <a:pt x="3166" y="2589"/>
                  </a:lnTo>
                  <a:lnTo>
                    <a:pt x="3161" y="2589"/>
                  </a:lnTo>
                  <a:lnTo>
                    <a:pt x="3161" y="2595"/>
                  </a:lnTo>
                  <a:lnTo>
                    <a:pt x="3156" y="2595"/>
                  </a:lnTo>
                  <a:lnTo>
                    <a:pt x="3156" y="2600"/>
                  </a:lnTo>
                  <a:lnTo>
                    <a:pt x="3152" y="2600"/>
                  </a:lnTo>
                  <a:lnTo>
                    <a:pt x="3152" y="2613"/>
                  </a:lnTo>
                  <a:lnTo>
                    <a:pt x="3141" y="2613"/>
                  </a:lnTo>
                  <a:lnTo>
                    <a:pt x="3141" y="2619"/>
                  </a:lnTo>
                  <a:lnTo>
                    <a:pt x="3136" y="2619"/>
                  </a:lnTo>
                  <a:lnTo>
                    <a:pt x="3136" y="2630"/>
                  </a:lnTo>
                  <a:lnTo>
                    <a:pt x="3132" y="2630"/>
                  </a:lnTo>
                  <a:lnTo>
                    <a:pt x="3132" y="2636"/>
                  </a:lnTo>
                  <a:lnTo>
                    <a:pt x="3126" y="2636"/>
                  </a:lnTo>
                  <a:lnTo>
                    <a:pt x="3126" y="2648"/>
                  </a:lnTo>
                  <a:lnTo>
                    <a:pt x="3122" y="2648"/>
                  </a:lnTo>
                  <a:lnTo>
                    <a:pt x="3122" y="2654"/>
                  </a:lnTo>
                  <a:lnTo>
                    <a:pt x="3112" y="2654"/>
                  </a:lnTo>
                  <a:lnTo>
                    <a:pt x="3112" y="2660"/>
                  </a:lnTo>
                  <a:lnTo>
                    <a:pt x="3108" y="2660"/>
                  </a:lnTo>
                  <a:lnTo>
                    <a:pt x="3108" y="2665"/>
                  </a:lnTo>
                  <a:lnTo>
                    <a:pt x="3103" y="2665"/>
                  </a:lnTo>
                  <a:lnTo>
                    <a:pt x="3103" y="2672"/>
                  </a:lnTo>
                  <a:lnTo>
                    <a:pt x="3098" y="2672"/>
                  </a:lnTo>
                  <a:lnTo>
                    <a:pt x="3098" y="2677"/>
                  </a:lnTo>
                  <a:lnTo>
                    <a:pt x="3089" y="2677"/>
                  </a:lnTo>
                  <a:lnTo>
                    <a:pt x="3089" y="2682"/>
                  </a:lnTo>
                  <a:lnTo>
                    <a:pt x="3085" y="2682"/>
                  </a:lnTo>
                  <a:lnTo>
                    <a:pt x="3085" y="2689"/>
                  </a:lnTo>
                  <a:lnTo>
                    <a:pt x="3075" y="2689"/>
                  </a:lnTo>
                  <a:lnTo>
                    <a:pt x="3075" y="2700"/>
                  </a:lnTo>
                  <a:lnTo>
                    <a:pt x="3064" y="2700"/>
                  </a:lnTo>
                  <a:lnTo>
                    <a:pt x="3064" y="2706"/>
                  </a:lnTo>
                  <a:lnTo>
                    <a:pt x="3059" y="2706"/>
                  </a:lnTo>
                  <a:lnTo>
                    <a:pt x="3059" y="2712"/>
                  </a:lnTo>
                  <a:lnTo>
                    <a:pt x="3055" y="2712"/>
                  </a:lnTo>
                  <a:lnTo>
                    <a:pt x="3055" y="2719"/>
                  </a:lnTo>
                  <a:lnTo>
                    <a:pt x="3050" y="2719"/>
                  </a:lnTo>
                  <a:lnTo>
                    <a:pt x="3050" y="2724"/>
                  </a:lnTo>
                  <a:lnTo>
                    <a:pt x="3045" y="2724"/>
                  </a:lnTo>
                  <a:lnTo>
                    <a:pt x="3045" y="2731"/>
                  </a:lnTo>
                  <a:lnTo>
                    <a:pt x="3041" y="2731"/>
                  </a:lnTo>
                  <a:lnTo>
                    <a:pt x="3041" y="2736"/>
                  </a:lnTo>
                  <a:lnTo>
                    <a:pt x="3031" y="2736"/>
                  </a:lnTo>
                  <a:lnTo>
                    <a:pt x="3031" y="2741"/>
                  </a:lnTo>
                  <a:lnTo>
                    <a:pt x="3026" y="2741"/>
                  </a:lnTo>
                  <a:lnTo>
                    <a:pt x="3026" y="2749"/>
                  </a:lnTo>
                  <a:lnTo>
                    <a:pt x="3022" y="2749"/>
                  </a:lnTo>
                  <a:lnTo>
                    <a:pt x="3022" y="2754"/>
                  </a:lnTo>
                  <a:lnTo>
                    <a:pt x="3016" y="2754"/>
                  </a:lnTo>
                  <a:lnTo>
                    <a:pt x="3016" y="2760"/>
                  </a:lnTo>
                  <a:lnTo>
                    <a:pt x="3007" y="2760"/>
                  </a:lnTo>
                  <a:lnTo>
                    <a:pt x="3007" y="2766"/>
                  </a:lnTo>
                  <a:lnTo>
                    <a:pt x="3003" y="2766"/>
                  </a:lnTo>
                  <a:lnTo>
                    <a:pt x="3003" y="2772"/>
                  </a:lnTo>
                  <a:lnTo>
                    <a:pt x="2997" y="2772"/>
                  </a:lnTo>
                  <a:lnTo>
                    <a:pt x="2997" y="2777"/>
                  </a:lnTo>
                  <a:lnTo>
                    <a:pt x="2992" y="2777"/>
                  </a:lnTo>
                  <a:lnTo>
                    <a:pt x="2992" y="2784"/>
                  </a:lnTo>
                  <a:lnTo>
                    <a:pt x="2988" y="2784"/>
                  </a:lnTo>
                  <a:lnTo>
                    <a:pt x="2988" y="2790"/>
                  </a:lnTo>
                  <a:lnTo>
                    <a:pt x="2982" y="2790"/>
                  </a:lnTo>
                  <a:lnTo>
                    <a:pt x="2982" y="2795"/>
                  </a:lnTo>
                  <a:lnTo>
                    <a:pt x="2978" y="2795"/>
                  </a:lnTo>
                  <a:lnTo>
                    <a:pt x="2978" y="2801"/>
                  </a:lnTo>
                  <a:lnTo>
                    <a:pt x="2973" y="2801"/>
                  </a:lnTo>
                  <a:lnTo>
                    <a:pt x="2973" y="2807"/>
                  </a:lnTo>
                  <a:lnTo>
                    <a:pt x="2968" y="2807"/>
                  </a:lnTo>
                  <a:lnTo>
                    <a:pt x="2968" y="2813"/>
                  </a:lnTo>
                  <a:lnTo>
                    <a:pt x="2964" y="2813"/>
                  </a:lnTo>
                  <a:lnTo>
                    <a:pt x="2964" y="2818"/>
                  </a:lnTo>
                  <a:lnTo>
                    <a:pt x="2959" y="2818"/>
                  </a:lnTo>
                  <a:lnTo>
                    <a:pt x="2959" y="2831"/>
                  </a:lnTo>
                  <a:lnTo>
                    <a:pt x="2954" y="2831"/>
                  </a:lnTo>
                  <a:lnTo>
                    <a:pt x="2954" y="2836"/>
                  </a:lnTo>
                  <a:lnTo>
                    <a:pt x="2950" y="2836"/>
                  </a:lnTo>
                  <a:lnTo>
                    <a:pt x="2950" y="2848"/>
                  </a:lnTo>
                  <a:lnTo>
                    <a:pt x="2945" y="2848"/>
                  </a:lnTo>
                  <a:lnTo>
                    <a:pt x="2945" y="2855"/>
                  </a:lnTo>
                  <a:lnTo>
                    <a:pt x="2941" y="2855"/>
                  </a:lnTo>
                  <a:lnTo>
                    <a:pt x="2941" y="2860"/>
                  </a:lnTo>
                  <a:lnTo>
                    <a:pt x="2935" y="2860"/>
                  </a:lnTo>
                  <a:lnTo>
                    <a:pt x="2935" y="2867"/>
                  </a:lnTo>
                  <a:lnTo>
                    <a:pt x="2931" y="2867"/>
                  </a:lnTo>
                  <a:lnTo>
                    <a:pt x="2931" y="2878"/>
                  </a:lnTo>
                  <a:lnTo>
                    <a:pt x="2925" y="2878"/>
                  </a:lnTo>
                  <a:lnTo>
                    <a:pt x="2925" y="2890"/>
                  </a:lnTo>
                  <a:lnTo>
                    <a:pt x="2920" y="2890"/>
                  </a:lnTo>
                  <a:lnTo>
                    <a:pt x="2920" y="2896"/>
                  </a:lnTo>
                  <a:lnTo>
                    <a:pt x="2915" y="2896"/>
                  </a:lnTo>
                  <a:lnTo>
                    <a:pt x="2915" y="2908"/>
                  </a:lnTo>
                  <a:lnTo>
                    <a:pt x="2911" y="2908"/>
                  </a:lnTo>
                  <a:lnTo>
                    <a:pt x="2911" y="2913"/>
                  </a:lnTo>
                  <a:lnTo>
                    <a:pt x="2906" y="2913"/>
                  </a:lnTo>
                  <a:lnTo>
                    <a:pt x="2906" y="2920"/>
                  </a:lnTo>
                  <a:lnTo>
                    <a:pt x="2901" y="2920"/>
                  </a:lnTo>
                  <a:lnTo>
                    <a:pt x="2901" y="2932"/>
                  </a:lnTo>
                  <a:lnTo>
                    <a:pt x="2897" y="2932"/>
                  </a:lnTo>
                  <a:lnTo>
                    <a:pt x="2897" y="2937"/>
                  </a:lnTo>
                  <a:lnTo>
                    <a:pt x="2892" y="2937"/>
                  </a:lnTo>
                  <a:lnTo>
                    <a:pt x="2892" y="2943"/>
                  </a:lnTo>
                  <a:lnTo>
                    <a:pt x="2887" y="2943"/>
                  </a:lnTo>
                  <a:lnTo>
                    <a:pt x="2887" y="2949"/>
                  </a:lnTo>
                  <a:lnTo>
                    <a:pt x="2882" y="2949"/>
                  </a:lnTo>
                  <a:lnTo>
                    <a:pt x="2882" y="2954"/>
                  </a:lnTo>
                  <a:lnTo>
                    <a:pt x="2878" y="2954"/>
                  </a:lnTo>
                  <a:lnTo>
                    <a:pt x="2878" y="2961"/>
                  </a:lnTo>
                  <a:lnTo>
                    <a:pt x="2872" y="2961"/>
                  </a:lnTo>
                  <a:lnTo>
                    <a:pt x="2872" y="2967"/>
                  </a:lnTo>
                  <a:lnTo>
                    <a:pt x="2868" y="2967"/>
                  </a:lnTo>
                  <a:lnTo>
                    <a:pt x="2868" y="2973"/>
                  </a:lnTo>
                  <a:lnTo>
                    <a:pt x="2864" y="2973"/>
                  </a:lnTo>
                  <a:lnTo>
                    <a:pt x="2864" y="2978"/>
                  </a:lnTo>
                  <a:lnTo>
                    <a:pt x="2859" y="2978"/>
                  </a:lnTo>
                  <a:lnTo>
                    <a:pt x="2859" y="2986"/>
                  </a:lnTo>
                  <a:lnTo>
                    <a:pt x="2853" y="2986"/>
                  </a:lnTo>
                  <a:lnTo>
                    <a:pt x="2853" y="2991"/>
                  </a:lnTo>
                  <a:lnTo>
                    <a:pt x="2848" y="2991"/>
                  </a:lnTo>
                  <a:lnTo>
                    <a:pt x="2848" y="2996"/>
                  </a:lnTo>
                  <a:lnTo>
                    <a:pt x="2838" y="2996"/>
                  </a:lnTo>
                  <a:lnTo>
                    <a:pt x="2838" y="3002"/>
                  </a:lnTo>
                  <a:lnTo>
                    <a:pt x="2834" y="3002"/>
                  </a:lnTo>
                  <a:lnTo>
                    <a:pt x="2834" y="3014"/>
                  </a:lnTo>
                  <a:lnTo>
                    <a:pt x="2829" y="3014"/>
                  </a:lnTo>
                  <a:lnTo>
                    <a:pt x="2829" y="3019"/>
                  </a:lnTo>
                  <a:lnTo>
                    <a:pt x="2824" y="3019"/>
                  </a:lnTo>
                  <a:lnTo>
                    <a:pt x="2824" y="3027"/>
                  </a:lnTo>
                  <a:lnTo>
                    <a:pt x="2815" y="3027"/>
                  </a:lnTo>
                  <a:lnTo>
                    <a:pt x="2815" y="3038"/>
                  </a:lnTo>
                  <a:lnTo>
                    <a:pt x="2810" y="3038"/>
                  </a:lnTo>
                  <a:lnTo>
                    <a:pt x="2810" y="3044"/>
                  </a:lnTo>
                  <a:lnTo>
                    <a:pt x="2805" y="3044"/>
                  </a:lnTo>
                  <a:lnTo>
                    <a:pt x="2805" y="3049"/>
                  </a:lnTo>
                  <a:lnTo>
                    <a:pt x="2801" y="3049"/>
                  </a:lnTo>
                  <a:lnTo>
                    <a:pt x="2801" y="3062"/>
                  </a:lnTo>
                  <a:lnTo>
                    <a:pt x="2796" y="3062"/>
                  </a:lnTo>
                  <a:lnTo>
                    <a:pt x="2796" y="3079"/>
                  </a:lnTo>
                  <a:lnTo>
                    <a:pt x="2791" y="3079"/>
                  </a:lnTo>
                  <a:lnTo>
                    <a:pt x="2791" y="3092"/>
                  </a:lnTo>
                  <a:lnTo>
                    <a:pt x="2786" y="3092"/>
                  </a:lnTo>
                  <a:lnTo>
                    <a:pt x="2786" y="3103"/>
                  </a:lnTo>
                  <a:lnTo>
                    <a:pt x="2776" y="3103"/>
                  </a:lnTo>
                  <a:lnTo>
                    <a:pt x="2776" y="3108"/>
                  </a:lnTo>
                  <a:lnTo>
                    <a:pt x="2771" y="3108"/>
                  </a:lnTo>
                  <a:lnTo>
                    <a:pt x="2771" y="3120"/>
                  </a:lnTo>
                  <a:lnTo>
                    <a:pt x="2767" y="3120"/>
                  </a:lnTo>
                  <a:lnTo>
                    <a:pt x="2767" y="3127"/>
                  </a:lnTo>
                  <a:lnTo>
                    <a:pt x="2762" y="3127"/>
                  </a:lnTo>
                  <a:lnTo>
                    <a:pt x="2762" y="3138"/>
                  </a:lnTo>
                  <a:lnTo>
                    <a:pt x="2757" y="3138"/>
                  </a:lnTo>
                  <a:lnTo>
                    <a:pt x="2757" y="3144"/>
                  </a:lnTo>
                  <a:lnTo>
                    <a:pt x="2752" y="3144"/>
                  </a:lnTo>
                  <a:lnTo>
                    <a:pt x="2752" y="3150"/>
                  </a:lnTo>
                  <a:lnTo>
                    <a:pt x="2743" y="3150"/>
                  </a:lnTo>
                  <a:lnTo>
                    <a:pt x="2743" y="3155"/>
                  </a:lnTo>
                  <a:lnTo>
                    <a:pt x="2738" y="3155"/>
                  </a:lnTo>
                  <a:lnTo>
                    <a:pt x="2738" y="3162"/>
                  </a:lnTo>
                  <a:lnTo>
                    <a:pt x="2734" y="3162"/>
                  </a:lnTo>
                  <a:lnTo>
                    <a:pt x="2734" y="3168"/>
                  </a:lnTo>
                  <a:lnTo>
                    <a:pt x="2714" y="3168"/>
                  </a:lnTo>
                  <a:lnTo>
                    <a:pt x="2714" y="3179"/>
                  </a:lnTo>
                  <a:lnTo>
                    <a:pt x="2704" y="3179"/>
                  </a:lnTo>
                  <a:lnTo>
                    <a:pt x="2704" y="3168"/>
                  </a:lnTo>
                  <a:lnTo>
                    <a:pt x="2719" y="3168"/>
                  </a:lnTo>
                  <a:lnTo>
                    <a:pt x="2719" y="3155"/>
                  </a:lnTo>
                  <a:lnTo>
                    <a:pt x="2724" y="3155"/>
                  </a:lnTo>
                  <a:lnTo>
                    <a:pt x="2724" y="3150"/>
                  </a:lnTo>
                  <a:lnTo>
                    <a:pt x="2734" y="3150"/>
                  </a:lnTo>
                  <a:lnTo>
                    <a:pt x="2734" y="3144"/>
                  </a:lnTo>
                  <a:lnTo>
                    <a:pt x="2738" y="3144"/>
                  </a:lnTo>
                  <a:lnTo>
                    <a:pt x="2738" y="3138"/>
                  </a:lnTo>
                  <a:lnTo>
                    <a:pt x="2743" y="3138"/>
                  </a:lnTo>
                  <a:lnTo>
                    <a:pt x="2743" y="3132"/>
                  </a:lnTo>
                  <a:lnTo>
                    <a:pt x="2752" y="3132"/>
                  </a:lnTo>
                  <a:lnTo>
                    <a:pt x="2752" y="3103"/>
                  </a:lnTo>
                  <a:lnTo>
                    <a:pt x="2757" y="3103"/>
                  </a:lnTo>
                  <a:lnTo>
                    <a:pt x="2757" y="3092"/>
                  </a:lnTo>
                  <a:lnTo>
                    <a:pt x="2762" y="3092"/>
                  </a:lnTo>
                  <a:lnTo>
                    <a:pt x="2762" y="3079"/>
                  </a:lnTo>
                  <a:lnTo>
                    <a:pt x="2767" y="3079"/>
                  </a:lnTo>
                  <a:lnTo>
                    <a:pt x="2767" y="3073"/>
                  </a:lnTo>
                  <a:lnTo>
                    <a:pt x="2771" y="3073"/>
                  </a:lnTo>
                  <a:lnTo>
                    <a:pt x="2771" y="3068"/>
                  </a:lnTo>
                  <a:lnTo>
                    <a:pt x="2776" y="3068"/>
                  </a:lnTo>
                  <a:lnTo>
                    <a:pt x="2776" y="3056"/>
                  </a:lnTo>
                  <a:lnTo>
                    <a:pt x="2781" y="3056"/>
                  </a:lnTo>
                  <a:lnTo>
                    <a:pt x="2781" y="3049"/>
                  </a:lnTo>
                  <a:lnTo>
                    <a:pt x="2786" y="3049"/>
                  </a:lnTo>
                  <a:lnTo>
                    <a:pt x="2786" y="3044"/>
                  </a:lnTo>
                  <a:lnTo>
                    <a:pt x="2791" y="3044"/>
                  </a:lnTo>
                  <a:lnTo>
                    <a:pt x="2791" y="3038"/>
                  </a:lnTo>
                  <a:lnTo>
                    <a:pt x="2796" y="3038"/>
                  </a:lnTo>
                  <a:lnTo>
                    <a:pt x="2796" y="3032"/>
                  </a:lnTo>
                  <a:lnTo>
                    <a:pt x="2801" y="3032"/>
                  </a:lnTo>
                  <a:lnTo>
                    <a:pt x="2801" y="3027"/>
                  </a:lnTo>
                  <a:lnTo>
                    <a:pt x="2805" y="3027"/>
                  </a:lnTo>
                  <a:lnTo>
                    <a:pt x="2805" y="3014"/>
                  </a:lnTo>
                  <a:lnTo>
                    <a:pt x="2810" y="3014"/>
                  </a:lnTo>
                  <a:lnTo>
                    <a:pt x="2810" y="3002"/>
                  </a:lnTo>
                  <a:lnTo>
                    <a:pt x="2815" y="3002"/>
                  </a:lnTo>
                  <a:lnTo>
                    <a:pt x="2815" y="2973"/>
                  </a:lnTo>
                  <a:lnTo>
                    <a:pt x="2820" y="2973"/>
                  </a:lnTo>
                  <a:lnTo>
                    <a:pt x="2820" y="2967"/>
                  </a:lnTo>
                  <a:lnTo>
                    <a:pt x="2824" y="2967"/>
                  </a:lnTo>
                  <a:lnTo>
                    <a:pt x="2824" y="2961"/>
                  </a:lnTo>
                  <a:lnTo>
                    <a:pt x="2829" y="2961"/>
                  </a:lnTo>
                  <a:lnTo>
                    <a:pt x="2829" y="2949"/>
                  </a:lnTo>
                  <a:lnTo>
                    <a:pt x="2834" y="2949"/>
                  </a:lnTo>
                  <a:lnTo>
                    <a:pt x="2834" y="2937"/>
                  </a:lnTo>
                  <a:lnTo>
                    <a:pt x="2838" y="2937"/>
                  </a:lnTo>
                  <a:lnTo>
                    <a:pt x="2838" y="2932"/>
                  </a:lnTo>
                  <a:lnTo>
                    <a:pt x="2844" y="2932"/>
                  </a:lnTo>
                  <a:lnTo>
                    <a:pt x="2844" y="2926"/>
                  </a:lnTo>
                  <a:lnTo>
                    <a:pt x="2864" y="2926"/>
                  </a:lnTo>
                  <a:lnTo>
                    <a:pt x="2864" y="2913"/>
                  </a:lnTo>
                  <a:lnTo>
                    <a:pt x="2872" y="2913"/>
                  </a:lnTo>
                  <a:lnTo>
                    <a:pt x="2872" y="2908"/>
                  </a:lnTo>
                  <a:lnTo>
                    <a:pt x="2882" y="2908"/>
                  </a:lnTo>
                  <a:lnTo>
                    <a:pt x="2882" y="2920"/>
                  </a:lnTo>
                  <a:lnTo>
                    <a:pt x="2892" y="2920"/>
                  </a:lnTo>
                  <a:lnTo>
                    <a:pt x="2892" y="2913"/>
                  </a:lnTo>
                  <a:lnTo>
                    <a:pt x="2897" y="2913"/>
                  </a:lnTo>
                  <a:lnTo>
                    <a:pt x="2897" y="2908"/>
                  </a:lnTo>
                  <a:lnTo>
                    <a:pt x="2901" y="2908"/>
                  </a:lnTo>
                  <a:lnTo>
                    <a:pt x="2901" y="2890"/>
                  </a:lnTo>
                  <a:lnTo>
                    <a:pt x="2911" y="2890"/>
                  </a:lnTo>
                  <a:lnTo>
                    <a:pt x="2911" y="2878"/>
                  </a:lnTo>
                  <a:lnTo>
                    <a:pt x="2915" y="2878"/>
                  </a:lnTo>
                  <a:lnTo>
                    <a:pt x="2915" y="2872"/>
                  </a:lnTo>
                  <a:lnTo>
                    <a:pt x="2920" y="2872"/>
                  </a:lnTo>
                  <a:lnTo>
                    <a:pt x="2920" y="2860"/>
                  </a:lnTo>
                  <a:lnTo>
                    <a:pt x="2925" y="2860"/>
                  </a:lnTo>
                  <a:lnTo>
                    <a:pt x="2925" y="2855"/>
                  </a:lnTo>
                  <a:lnTo>
                    <a:pt x="2931" y="2855"/>
                  </a:lnTo>
                  <a:lnTo>
                    <a:pt x="2931" y="2842"/>
                  </a:lnTo>
                  <a:lnTo>
                    <a:pt x="2935" y="2842"/>
                  </a:lnTo>
                  <a:lnTo>
                    <a:pt x="2935" y="2831"/>
                  </a:lnTo>
                  <a:lnTo>
                    <a:pt x="2941" y="2831"/>
                  </a:lnTo>
                  <a:lnTo>
                    <a:pt x="2941" y="2825"/>
                  </a:lnTo>
                  <a:lnTo>
                    <a:pt x="2945" y="2825"/>
                  </a:lnTo>
                  <a:lnTo>
                    <a:pt x="2945" y="2818"/>
                  </a:lnTo>
                  <a:lnTo>
                    <a:pt x="2950" y="2818"/>
                  </a:lnTo>
                  <a:lnTo>
                    <a:pt x="2950" y="2813"/>
                  </a:lnTo>
                  <a:lnTo>
                    <a:pt x="2954" y="2813"/>
                  </a:lnTo>
                  <a:lnTo>
                    <a:pt x="2954" y="2801"/>
                  </a:lnTo>
                  <a:lnTo>
                    <a:pt x="2959" y="2801"/>
                  </a:lnTo>
                  <a:lnTo>
                    <a:pt x="2959" y="2795"/>
                  </a:lnTo>
                  <a:lnTo>
                    <a:pt x="2964" y="2795"/>
                  </a:lnTo>
                  <a:lnTo>
                    <a:pt x="2964" y="2784"/>
                  </a:lnTo>
                  <a:lnTo>
                    <a:pt x="2973" y="2784"/>
                  </a:lnTo>
                  <a:lnTo>
                    <a:pt x="2973" y="2777"/>
                  </a:lnTo>
                  <a:lnTo>
                    <a:pt x="2982" y="2777"/>
                  </a:lnTo>
                  <a:lnTo>
                    <a:pt x="2982" y="2772"/>
                  </a:lnTo>
                  <a:lnTo>
                    <a:pt x="2988" y="2772"/>
                  </a:lnTo>
                  <a:lnTo>
                    <a:pt x="2988" y="2766"/>
                  </a:lnTo>
                  <a:lnTo>
                    <a:pt x="2992" y="2766"/>
                  </a:lnTo>
                  <a:lnTo>
                    <a:pt x="2992" y="2760"/>
                  </a:lnTo>
                  <a:lnTo>
                    <a:pt x="2997" y="2760"/>
                  </a:lnTo>
                  <a:lnTo>
                    <a:pt x="2997" y="2754"/>
                  </a:lnTo>
                  <a:lnTo>
                    <a:pt x="3003" y="2754"/>
                  </a:lnTo>
                  <a:lnTo>
                    <a:pt x="3003" y="2749"/>
                  </a:lnTo>
                  <a:lnTo>
                    <a:pt x="3012" y="2749"/>
                  </a:lnTo>
                  <a:lnTo>
                    <a:pt x="3012" y="2741"/>
                  </a:lnTo>
                  <a:lnTo>
                    <a:pt x="3016" y="2741"/>
                  </a:lnTo>
                  <a:lnTo>
                    <a:pt x="3016" y="2736"/>
                  </a:lnTo>
                  <a:lnTo>
                    <a:pt x="3022" y="2736"/>
                  </a:lnTo>
                  <a:lnTo>
                    <a:pt x="3022" y="2731"/>
                  </a:lnTo>
                  <a:lnTo>
                    <a:pt x="3026" y="2731"/>
                  </a:lnTo>
                  <a:lnTo>
                    <a:pt x="3026" y="2724"/>
                  </a:lnTo>
                  <a:lnTo>
                    <a:pt x="3031" y="2724"/>
                  </a:lnTo>
                  <a:lnTo>
                    <a:pt x="3031" y="2719"/>
                  </a:lnTo>
                  <a:lnTo>
                    <a:pt x="3036" y="2719"/>
                  </a:lnTo>
                  <a:lnTo>
                    <a:pt x="3036" y="2712"/>
                  </a:lnTo>
                  <a:lnTo>
                    <a:pt x="3045" y="2712"/>
                  </a:lnTo>
                  <a:lnTo>
                    <a:pt x="3045" y="2706"/>
                  </a:lnTo>
                  <a:lnTo>
                    <a:pt x="3050" y="2706"/>
                  </a:lnTo>
                  <a:lnTo>
                    <a:pt x="3050" y="2700"/>
                  </a:lnTo>
                  <a:lnTo>
                    <a:pt x="3055" y="2700"/>
                  </a:lnTo>
                  <a:lnTo>
                    <a:pt x="3055" y="2695"/>
                  </a:lnTo>
                  <a:lnTo>
                    <a:pt x="3059" y="2695"/>
                  </a:lnTo>
                  <a:lnTo>
                    <a:pt x="3059" y="2689"/>
                  </a:lnTo>
                  <a:lnTo>
                    <a:pt x="3064" y="2689"/>
                  </a:lnTo>
                  <a:lnTo>
                    <a:pt x="3064" y="2682"/>
                  </a:lnTo>
                  <a:lnTo>
                    <a:pt x="3069" y="2682"/>
                  </a:lnTo>
                  <a:lnTo>
                    <a:pt x="3069" y="2677"/>
                  </a:lnTo>
                  <a:lnTo>
                    <a:pt x="3079" y="2677"/>
                  </a:lnTo>
                  <a:lnTo>
                    <a:pt x="3079" y="2672"/>
                  </a:lnTo>
                  <a:lnTo>
                    <a:pt x="3085" y="2672"/>
                  </a:lnTo>
                  <a:lnTo>
                    <a:pt x="3085" y="2665"/>
                  </a:lnTo>
                  <a:lnTo>
                    <a:pt x="3089" y="2665"/>
                  </a:lnTo>
                  <a:lnTo>
                    <a:pt x="3089" y="2660"/>
                  </a:lnTo>
                  <a:lnTo>
                    <a:pt x="3098" y="2660"/>
                  </a:lnTo>
                  <a:lnTo>
                    <a:pt x="3098" y="2654"/>
                  </a:lnTo>
                  <a:lnTo>
                    <a:pt x="3103" y="2654"/>
                  </a:lnTo>
                  <a:lnTo>
                    <a:pt x="3103" y="2641"/>
                  </a:lnTo>
                  <a:lnTo>
                    <a:pt x="3108" y="2641"/>
                  </a:lnTo>
                  <a:lnTo>
                    <a:pt x="3108" y="2636"/>
                  </a:lnTo>
                  <a:lnTo>
                    <a:pt x="3112" y="2636"/>
                  </a:lnTo>
                  <a:lnTo>
                    <a:pt x="3112" y="2624"/>
                  </a:lnTo>
                  <a:lnTo>
                    <a:pt x="3118" y="2624"/>
                  </a:lnTo>
                  <a:lnTo>
                    <a:pt x="3118" y="2619"/>
                  </a:lnTo>
                  <a:lnTo>
                    <a:pt x="3122" y="2619"/>
                  </a:lnTo>
                  <a:lnTo>
                    <a:pt x="3122" y="2613"/>
                  </a:lnTo>
                  <a:lnTo>
                    <a:pt x="3132" y="2613"/>
                  </a:lnTo>
                  <a:lnTo>
                    <a:pt x="3132" y="2606"/>
                  </a:lnTo>
                  <a:lnTo>
                    <a:pt x="3136" y="2606"/>
                  </a:lnTo>
                  <a:lnTo>
                    <a:pt x="3136" y="2600"/>
                  </a:lnTo>
                  <a:lnTo>
                    <a:pt x="3141" y="2600"/>
                  </a:lnTo>
                  <a:lnTo>
                    <a:pt x="3141" y="2595"/>
                  </a:lnTo>
                  <a:lnTo>
                    <a:pt x="3147" y="2595"/>
                  </a:lnTo>
                  <a:lnTo>
                    <a:pt x="3147" y="2589"/>
                  </a:lnTo>
                  <a:lnTo>
                    <a:pt x="3152" y="2589"/>
                  </a:lnTo>
                  <a:lnTo>
                    <a:pt x="3152" y="2576"/>
                  </a:lnTo>
                  <a:lnTo>
                    <a:pt x="3156" y="2576"/>
                  </a:lnTo>
                  <a:lnTo>
                    <a:pt x="3156" y="2565"/>
                  </a:lnTo>
                  <a:lnTo>
                    <a:pt x="3161" y="2565"/>
                  </a:lnTo>
                  <a:lnTo>
                    <a:pt x="3161" y="2554"/>
                  </a:lnTo>
                  <a:lnTo>
                    <a:pt x="3166" y="2554"/>
                  </a:lnTo>
                  <a:lnTo>
                    <a:pt x="3166" y="2546"/>
                  </a:lnTo>
                  <a:lnTo>
                    <a:pt x="3170" y="2546"/>
                  </a:lnTo>
                  <a:lnTo>
                    <a:pt x="3170" y="2541"/>
                  </a:lnTo>
                  <a:lnTo>
                    <a:pt x="3175" y="2541"/>
                  </a:lnTo>
                  <a:lnTo>
                    <a:pt x="3175" y="2535"/>
                  </a:lnTo>
                  <a:lnTo>
                    <a:pt x="3180" y="2535"/>
                  </a:lnTo>
                  <a:lnTo>
                    <a:pt x="3180" y="2529"/>
                  </a:lnTo>
                  <a:lnTo>
                    <a:pt x="3185" y="2529"/>
                  </a:lnTo>
                  <a:lnTo>
                    <a:pt x="3185" y="2518"/>
                  </a:lnTo>
                  <a:lnTo>
                    <a:pt x="3189" y="2518"/>
                  </a:lnTo>
                  <a:lnTo>
                    <a:pt x="3189" y="2505"/>
                  </a:lnTo>
                  <a:lnTo>
                    <a:pt x="3194" y="2505"/>
                  </a:lnTo>
                  <a:lnTo>
                    <a:pt x="3194" y="2500"/>
                  </a:lnTo>
                  <a:lnTo>
                    <a:pt x="3199" y="2500"/>
                  </a:lnTo>
                  <a:lnTo>
                    <a:pt x="3199" y="2494"/>
                  </a:lnTo>
                  <a:lnTo>
                    <a:pt x="3204" y="2494"/>
                  </a:lnTo>
                  <a:lnTo>
                    <a:pt x="3204" y="2488"/>
                  </a:lnTo>
                  <a:lnTo>
                    <a:pt x="3208" y="2488"/>
                  </a:lnTo>
                  <a:lnTo>
                    <a:pt x="3208" y="2482"/>
                  </a:lnTo>
                  <a:lnTo>
                    <a:pt x="3213" y="2482"/>
                  </a:lnTo>
                  <a:lnTo>
                    <a:pt x="3213" y="2477"/>
                  </a:lnTo>
                  <a:lnTo>
                    <a:pt x="3219" y="2477"/>
                  </a:lnTo>
                  <a:lnTo>
                    <a:pt x="3219" y="2464"/>
                  </a:lnTo>
                  <a:lnTo>
                    <a:pt x="3229" y="2464"/>
                  </a:lnTo>
                  <a:lnTo>
                    <a:pt x="3229" y="2453"/>
                  </a:lnTo>
                  <a:lnTo>
                    <a:pt x="3233" y="2453"/>
                  </a:lnTo>
                  <a:lnTo>
                    <a:pt x="3233" y="2440"/>
                  </a:lnTo>
                  <a:lnTo>
                    <a:pt x="3238" y="2440"/>
                  </a:lnTo>
                  <a:lnTo>
                    <a:pt x="3238" y="2435"/>
                  </a:lnTo>
                  <a:lnTo>
                    <a:pt x="3243" y="2435"/>
                  </a:lnTo>
                  <a:lnTo>
                    <a:pt x="3243" y="2423"/>
                  </a:lnTo>
                  <a:lnTo>
                    <a:pt x="3248" y="2423"/>
                  </a:lnTo>
                  <a:lnTo>
                    <a:pt x="3248" y="2418"/>
                  </a:lnTo>
                  <a:lnTo>
                    <a:pt x="3252" y="2418"/>
                  </a:lnTo>
                  <a:lnTo>
                    <a:pt x="3252" y="2410"/>
                  </a:lnTo>
                  <a:lnTo>
                    <a:pt x="3256" y="2410"/>
                  </a:lnTo>
                  <a:lnTo>
                    <a:pt x="3256" y="2405"/>
                  </a:lnTo>
                  <a:lnTo>
                    <a:pt x="3262" y="2405"/>
                  </a:lnTo>
                  <a:lnTo>
                    <a:pt x="3262" y="2399"/>
                  </a:lnTo>
                  <a:lnTo>
                    <a:pt x="3266" y="2399"/>
                  </a:lnTo>
                  <a:lnTo>
                    <a:pt x="3266" y="2387"/>
                  </a:lnTo>
                  <a:lnTo>
                    <a:pt x="3276" y="2387"/>
                  </a:lnTo>
                  <a:lnTo>
                    <a:pt x="3276" y="2382"/>
                  </a:lnTo>
                  <a:lnTo>
                    <a:pt x="3281" y="2382"/>
                  </a:lnTo>
                  <a:lnTo>
                    <a:pt x="3281" y="2375"/>
                  </a:lnTo>
                  <a:lnTo>
                    <a:pt x="3285" y="2375"/>
                  </a:lnTo>
                  <a:lnTo>
                    <a:pt x="3285" y="2369"/>
                  </a:lnTo>
                  <a:lnTo>
                    <a:pt x="3291" y="2369"/>
                  </a:lnTo>
                  <a:lnTo>
                    <a:pt x="3291" y="2364"/>
                  </a:lnTo>
                  <a:lnTo>
                    <a:pt x="3296" y="2364"/>
                  </a:lnTo>
                  <a:lnTo>
                    <a:pt x="3296" y="2358"/>
                  </a:lnTo>
                  <a:lnTo>
                    <a:pt x="3300" y="2358"/>
                  </a:lnTo>
                  <a:lnTo>
                    <a:pt x="3300" y="2352"/>
                  </a:lnTo>
                  <a:lnTo>
                    <a:pt x="3310" y="2352"/>
                  </a:lnTo>
                  <a:lnTo>
                    <a:pt x="3310" y="2346"/>
                  </a:lnTo>
                  <a:lnTo>
                    <a:pt x="3319" y="2346"/>
                  </a:lnTo>
                  <a:lnTo>
                    <a:pt x="3319" y="2334"/>
                  </a:lnTo>
                  <a:lnTo>
                    <a:pt x="3324" y="2334"/>
                  </a:lnTo>
                  <a:lnTo>
                    <a:pt x="3324" y="2328"/>
                  </a:lnTo>
                  <a:lnTo>
                    <a:pt x="3329" y="2328"/>
                  </a:lnTo>
                  <a:lnTo>
                    <a:pt x="3329" y="2322"/>
                  </a:lnTo>
                  <a:lnTo>
                    <a:pt x="3333" y="2322"/>
                  </a:lnTo>
                  <a:lnTo>
                    <a:pt x="3333" y="2317"/>
                  </a:lnTo>
                  <a:lnTo>
                    <a:pt x="3338" y="2317"/>
                  </a:lnTo>
                  <a:lnTo>
                    <a:pt x="3338" y="2311"/>
                  </a:lnTo>
                  <a:lnTo>
                    <a:pt x="3343" y="2311"/>
                  </a:lnTo>
                  <a:lnTo>
                    <a:pt x="3343" y="2304"/>
                  </a:lnTo>
                  <a:lnTo>
                    <a:pt x="3347" y="2304"/>
                  </a:lnTo>
                  <a:lnTo>
                    <a:pt x="3347" y="2299"/>
                  </a:lnTo>
                  <a:lnTo>
                    <a:pt x="3352" y="2299"/>
                  </a:lnTo>
                  <a:lnTo>
                    <a:pt x="3352" y="2287"/>
                  </a:lnTo>
                  <a:lnTo>
                    <a:pt x="3357" y="2287"/>
                  </a:lnTo>
                  <a:lnTo>
                    <a:pt x="3357" y="2281"/>
                  </a:lnTo>
                  <a:lnTo>
                    <a:pt x="3363" y="2281"/>
                  </a:lnTo>
                  <a:lnTo>
                    <a:pt x="3363" y="2276"/>
                  </a:lnTo>
                  <a:lnTo>
                    <a:pt x="3367" y="2276"/>
                  </a:lnTo>
                  <a:lnTo>
                    <a:pt x="3367" y="2268"/>
                  </a:lnTo>
                  <a:lnTo>
                    <a:pt x="3373" y="2268"/>
                  </a:lnTo>
                  <a:lnTo>
                    <a:pt x="3373" y="2263"/>
                  </a:lnTo>
                  <a:lnTo>
                    <a:pt x="3377" y="2263"/>
                  </a:lnTo>
                  <a:lnTo>
                    <a:pt x="3377" y="2251"/>
                  </a:lnTo>
                  <a:lnTo>
                    <a:pt x="3382" y="2251"/>
                  </a:lnTo>
                  <a:lnTo>
                    <a:pt x="3382" y="2246"/>
                  </a:lnTo>
                  <a:lnTo>
                    <a:pt x="3387" y="2246"/>
                  </a:lnTo>
                  <a:lnTo>
                    <a:pt x="3387" y="2241"/>
                  </a:lnTo>
                  <a:lnTo>
                    <a:pt x="3391" y="2241"/>
                  </a:lnTo>
                  <a:lnTo>
                    <a:pt x="3391" y="2233"/>
                  </a:lnTo>
                  <a:lnTo>
                    <a:pt x="3396" y="2233"/>
                  </a:lnTo>
                  <a:lnTo>
                    <a:pt x="3396" y="2228"/>
                  </a:lnTo>
                  <a:lnTo>
                    <a:pt x="3400" y="2228"/>
                  </a:lnTo>
                  <a:lnTo>
                    <a:pt x="3400" y="2217"/>
                  </a:lnTo>
                  <a:lnTo>
                    <a:pt x="3406" y="2217"/>
                  </a:lnTo>
                  <a:lnTo>
                    <a:pt x="3406" y="2210"/>
                  </a:lnTo>
                  <a:lnTo>
                    <a:pt x="3410" y="2210"/>
                  </a:lnTo>
                  <a:lnTo>
                    <a:pt x="3410" y="2200"/>
                  </a:lnTo>
                  <a:lnTo>
                    <a:pt x="3415" y="2200"/>
                  </a:lnTo>
                  <a:lnTo>
                    <a:pt x="3415" y="2192"/>
                  </a:lnTo>
                  <a:lnTo>
                    <a:pt x="3420" y="2192"/>
                  </a:lnTo>
                  <a:lnTo>
                    <a:pt x="3420" y="2187"/>
                  </a:lnTo>
                  <a:lnTo>
                    <a:pt x="3424" y="2187"/>
                  </a:lnTo>
                  <a:lnTo>
                    <a:pt x="3424" y="2181"/>
                  </a:lnTo>
                  <a:lnTo>
                    <a:pt x="3429" y="2181"/>
                  </a:lnTo>
                  <a:lnTo>
                    <a:pt x="3429" y="2175"/>
                  </a:lnTo>
                  <a:lnTo>
                    <a:pt x="3435" y="2175"/>
                  </a:lnTo>
                  <a:lnTo>
                    <a:pt x="3435" y="2168"/>
                  </a:lnTo>
                  <a:lnTo>
                    <a:pt x="3440" y="2168"/>
                  </a:lnTo>
                  <a:lnTo>
                    <a:pt x="3440" y="2163"/>
                  </a:lnTo>
                  <a:lnTo>
                    <a:pt x="3444" y="2163"/>
                  </a:lnTo>
                  <a:lnTo>
                    <a:pt x="3444" y="2157"/>
                  </a:lnTo>
                  <a:lnTo>
                    <a:pt x="3449" y="2157"/>
                  </a:lnTo>
                  <a:lnTo>
                    <a:pt x="3449" y="2151"/>
                  </a:lnTo>
                  <a:lnTo>
                    <a:pt x="3454" y="2151"/>
                  </a:lnTo>
                  <a:lnTo>
                    <a:pt x="3454" y="2140"/>
                  </a:lnTo>
                  <a:lnTo>
                    <a:pt x="3459" y="2140"/>
                  </a:lnTo>
                  <a:lnTo>
                    <a:pt x="3459" y="2127"/>
                  </a:lnTo>
                  <a:lnTo>
                    <a:pt x="3463" y="2127"/>
                  </a:lnTo>
                  <a:lnTo>
                    <a:pt x="3463" y="2103"/>
                  </a:lnTo>
                  <a:lnTo>
                    <a:pt x="3468" y="2103"/>
                  </a:lnTo>
                  <a:lnTo>
                    <a:pt x="3468" y="2086"/>
                  </a:lnTo>
                  <a:lnTo>
                    <a:pt x="3473" y="2086"/>
                  </a:lnTo>
                  <a:lnTo>
                    <a:pt x="3473" y="2062"/>
                  </a:lnTo>
                  <a:lnTo>
                    <a:pt x="3477" y="2062"/>
                  </a:lnTo>
                  <a:lnTo>
                    <a:pt x="3477" y="2045"/>
                  </a:lnTo>
                  <a:lnTo>
                    <a:pt x="3482" y="2045"/>
                  </a:lnTo>
                  <a:lnTo>
                    <a:pt x="3482" y="2040"/>
                  </a:lnTo>
                  <a:lnTo>
                    <a:pt x="3487" y="2040"/>
                  </a:lnTo>
                  <a:lnTo>
                    <a:pt x="3487" y="2027"/>
                  </a:lnTo>
                  <a:lnTo>
                    <a:pt x="3492" y="2027"/>
                  </a:lnTo>
                  <a:lnTo>
                    <a:pt x="3492" y="2009"/>
                  </a:lnTo>
                  <a:lnTo>
                    <a:pt x="3496" y="2009"/>
                  </a:lnTo>
                  <a:lnTo>
                    <a:pt x="3496" y="1997"/>
                  </a:lnTo>
                  <a:lnTo>
                    <a:pt x="3502" y="1997"/>
                  </a:lnTo>
                  <a:lnTo>
                    <a:pt x="3502" y="1991"/>
                  </a:lnTo>
                  <a:lnTo>
                    <a:pt x="3507" y="1991"/>
                  </a:lnTo>
                  <a:lnTo>
                    <a:pt x="3507" y="1980"/>
                  </a:lnTo>
                  <a:lnTo>
                    <a:pt x="3511" y="1980"/>
                  </a:lnTo>
                  <a:lnTo>
                    <a:pt x="3511" y="1974"/>
                  </a:lnTo>
                  <a:lnTo>
                    <a:pt x="3517" y="1974"/>
                  </a:lnTo>
                  <a:lnTo>
                    <a:pt x="3517" y="1967"/>
                  </a:lnTo>
                  <a:lnTo>
                    <a:pt x="3521" y="1967"/>
                  </a:lnTo>
                  <a:lnTo>
                    <a:pt x="3521" y="1962"/>
                  </a:lnTo>
                  <a:lnTo>
                    <a:pt x="3526" y="1962"/>
                  </a:lnTo>
                  <a:lnTo>
                    <a:pt x="3526" y="1950"/>
                  </a:lnTo>
                  <a:lnTo>
                    <a:pt x="3531" y="1950"/>
                  </a:lnTo>
                  <a:lnTo>
                    <a:pt x="3531" y="1939"/>
                  </a:lnTo>
                  <a:lnTo>
                    <a:pt x="3536" y="1939"/>
                  </a:lnTo>
                  <a:lnTo>
                    <a:pt x="3536" y="1932"/>
                  </a:lnTo>
                  <a:lnTo>
                    <a:pt x="3540" y="1932"/>
                  </a:lnTo>
                  <a:lnTo>
                    <a:pt x="3540" y="1926"/>
                  </a:lnTo>
                  <a:lnTo>
                    <a:pt x="3545" y="1926"/>
                  </a:lnTo>
                  <a:lnTo>
                    <a:pt x="3545" y="1914"/>
                  </a:lnTo>
                  <a:lnTo>
                    <a:pt x="3550" y="1914"/>
                  </a:lnTo>
                  <a:lnTo>
                    <a:pt x="3550" y="1909"/>
                  </a:lnTo>
                  <a:lnTo>
                    <a:pt x="3554" y="1909"/>
                  </a:lnTo>
                  <a:lnTo>
                    <a:pt x="3554" y="1891"/>
                  </a:lnTo>
                  <a:lnTo>
                    <a:pt x="3559" y="1891"/>
                  </a:lnTo>
                  <a:lnTo>
                    <a:pt x="3559" y="1879"/>
                  </a:lnTo>
                  <a:lnTo>
                    <a:pt x="3564" y="1879"/>
                  </a:lnTo>
                  <a:lnTo>
                    <a:pt x="3564" y="1873"/>
                  </a:lnTo>
                  <a:lnTo>
                    <a:pt x="3569" y="1873"/>
                  </a:lnTo>
                  <a:lnTo>
                    <a:pt x="3569" y="1868"/>
                  </a:lnTo>
                  <a:lnTo>
                    <a:pt x="3573" y="1868"/>
                  </a:lnTo>
                  <a:lnTo>
                    <a:pt x="3573" y="1861"/>
                  </a:lnTo>
                  <a:lnTo>
                    <a:pt x="3578" y="1861"/>
                  </a:lnTo>
                  <a:lnTo>
                    <a:pt x="3578" y="1855"/>
                  </a:lnTo>
                  <a:lnTo>
                    <a:pt x="3584" y="1855"/>
                  </a:lnTo>
                  <a:lnTo>
                    <a:pt x="3584" y="1849"/>
                  </a:lnTo>
                  <a:lnTo>
                    <a:pt x="3589" y="1849"/>
                  </a:lnTo>
                  <a:lnTo>
                    <a:pt x="3589" y="1844"/>
                  </a:lnTo>
                  <a:lnTo>
                    <a:pt x="3593" y="1844"/>
                  </a:lnTo>
                  <a:lnTo>
                    <a:pt x="3593" y="1831"/>
                  </a:lnTo>
                  <a:lnTo>
                    <a:pt x="3598" y="1831"/>
                  </a:lnTo>
                  <a:lnTo>
                    <a:pt x="3598" y="1820"/>
                  </a:lnTo>
                  <a:lnTo>
                    <a:pt x="3603" y="1820"/>
                  </a:lnTo>
                  <a:lnTo>
                    <a:pt x="3603" y="1809"/>
                  </a:lnTo>
                  <a:lnTo>
                    <a:pt x="3607" y="1809"/>
                  </a:lnTo>
                  <a:lnTo>
                    <a:pt x="3607" y="1796"/>
                  </a:lnTo>
                  <a:lnTo>
                    <a:pt x="3613" y="1796"/>
                  </a:lnTo>
                  <a:lnTo>
                    <a:pt x="3613" y="1785"/>
                  </a:lnTo>
                  <a:lnTo>
                    <a:pt x="3617" y="1785"/>
                  </a:lnTo>
                  <a:lnTo>
                    <a:pt x="3617" y="1773"/>
                  </a:lnTo>
                  <a:lnTo>
                    <a:pt x="3622" y="1773"/>
                  </a:lnTo>
                  <a:lnTo>
                    <a:pt x="3622" y="1755"/>
                  </a:lnTo>
                  <a:lnTo>
                    <a:pt x="3627" y="1755"/>
                  </a:lnTo>
                  <a:lnTo>
                    <a:pt x="3627" y="1744"/>
                  </a:lnTo>
                  <a:lnTo>
                    <a:pt x="3632" y="1744"/>
                  </a:lnTo>
                  <a:lnTo>
                    <a:pt x="3632" y="1732"/>
                  </a:lnTo>
                  <a:lnTo>
                    <a:pt x="3636" y="1732"/>
                  </a:lnTo>
                  <a:lnTo>
                    <a:pt x="3636" y="1719"/>
                  </a:lnTo>
                  <a:lnTo>
                    <a:pt x="3640" y="1719"/>
                  </a:lnTo>
                  <a:lnTo>
                    <a:pt x="3640" y="1714"/>
                  </a:lnTo>
                  <a:lnTo>
                    <a:pt x="3646" y="1714"/>
                  </a:lnTo>
                  <a:lnTo>
                    <a:pt x="3646" y="1708"/>
                  </a:lnTo>
                  <a:lnTo>
                    <a:pt x="3650" y="1708"/>
                  </a:lnTo>
                  <a:lnTo>
                    <a:pt x="3650" y="1695"/>
                  </a:lnTo>
                  <a:lnTo>
                    <a:pt x="3656" y="1695"/>
                  </a:lnTo>
                  <a:lnTo>
                    <a:pt x="3656" y="1685"/>
                  </a:lnTo>
                  <a:lnTo>
                    <a:pt x="3661" y="1685"/>
                  </a:lnTo>
                  <a:lnTo>
                    <a:pt x="3661" y="1673"/>
                  </a:lnTo>
                  <a:lnTo>
                    <a:pt x="3665" y="1673"/>
                  </a:lnTo>
                  <a:lnTo>
                    <a:pt x="3665" y="1667"/>
                  </a:lnTo>
                  <a:lnTo>
                    <a:pt x="3670" y="1667"/>
                  </a:lnTo>
                  <a:lnTo>
                    <a:pt x="3670" y="1649"/>
                  </a:lnTo>
                  <a:lnTo>
                    <a:pt x="3675" y="1649"/>
                  </a:lnTo>
                  <a:lnTo>
                    <a:pt x="3675" y="1632"/>
                  </a:lnTo>
                  <a:lnTo>
                    <a:pt x="3680" y="1632"/>
                  </a:lnTo>
                  <a:lnTo>
                    <a:pt x="3680" y="1613"/>
                  </a:lnTo>
                  <a:lnTo>
                    <a:pt x="3684" y="1613"/>
                  </a:lnTo>
                  <a:lnTo>
                    <a:pt x="3684" y="1596"/>
                  </a:lnTo>
                  <a:lnTo>
                    <a:pt x="3688" y="1596"/>
                  </a:lnTo>
                  <a:lnTo>
                    <a:pt x="3688" y="1578"/>
                  </a:lnTo>
                  <a:lnTo>
                    <a:pt x="3694" y="1578"/>
                  </a:lnTo>
                  <a:lnTo>
                    <a:pt x="3694" y="1559"/>
                  </a:lnTo>
                  <a:lnTo>
                    <a:pt x="3698" y="1559"/>
                  </a:lnTo>
                  <a:lnTo>
                    <a:pt x="3698" y="1548"/>
                  </a:lnTo>
                  <a:lnTo>
                    <a:pt x="3703" y="1548"/>
                  </a:lnTo>
                  <a:lnTo>
                    <a:pt x="3703" y="1531"/>
                  </a:lnTo>
                  <a:lnTo>
                    <a:pt x="3708" y="1531"/>
                  </a:lnTo>
                  <a:lnTo>
                    <a:pt x="3708" y="1524"/>
                  </a:lnTo>
                  <a:lnTo>
                    <a:pt x="3713" y="1524"/>
                  </a:lnTo>
                  <a:lnTo>
                    <a:pt x="3713" y="1507"/>
                  </a:lnTo>
                  <a:lnTo>
                    <a:pt x="3717" y="1507"/>
                  </a:lnTo>
                  <a:lnTo>
                    <a:pt x="3717" y="1501"/>
                  </a:lnTo>
                  <a:lnTo>
                    <a:pt x="3722" y="1501"/>
                  </a:lnTo>
                  <a:lnTo>
                    <a:pt x="3722" y="1490"/>
                  </a:lnTo>
                  <a:lnTo>
                    <a:pt x="3728" y="1490"/>
                  </a:lnTo>
                  <a:lnTo>
                    <a:pt x="3728" y="1477"/>
                  </a:lnTo>
                  <a:lnTo>
                    <a:pt x="3732" y="1477"/>
                  </a:lnTo>
                  <a:lnTo>
                    <a:pt x="3732" y="1472"/>
                  </a:lnTo>
                  <a:lnTo>
                    <a:pt x="3737" y="1472"/>
                  </a:lnTo>
                  <a:lnTo>
                    <a:pt x="3737" y="1466"/>
                  </a:lnTo>
                  <a:lnTo>
                    <a:pt x="3742" y="1466"/>
                  </a:lnTo>
                  <a:lnTo>
                    <a:pt x="3742" y="1460"/>
                  </a:lnTo>
                  <a:lnTo>
                    <a:pt x="3747" y="1460"/>
                  </a:lnTo>
                  <a:lnTo>
                    <a:pt x="3747" y="1453"/>
                  </a:lnTo>
                  <a:lnTo>
                    <a:pt x="3751" y="1453"/>
                  </a:lnTo>
                  <a:lnTo>
                    <a:pt x="3751" y="1448"/>
                  </a:lnTo>
                  <a:lnTo>
                    <a:pt x="3757" y="1448"/>
                  </a:lnTo>
                  <a:lnTo>
                    <a:pt x="3757" y="1436"/>
                  </a:lnTo>
                  <a:lnTo>
                    <a:pt x="3761" y="1436"/>
                  </a:lnTo>
                  <a:lnTo>
                    <a:pt x="3761" y="1431"/>
                  </a:lnTo>
                  <a:lnTo>
                    <a:pt x="3765" y="1431"/>
                  </a:lnTo>
                  <a:lnTo>
                    <a:pt x="3765" y="1423"/>
                  </a:lnTo>
                  <a:lnTo>
                    <a:pt x="3771" y="1423"/>
                  </a:lnTo>
                  <a:lnTo>
                    <a:pt x="3771" y="1418"/>
                  </a:lnTo>
                  <a:lnTo>
                    <a:pt x="3775" y="1418"/>
                  </a:lnTo>
                  <a:lnTo>
                    <a:pt x="3775" y="1406"/>
                  </a:lnTo>
                  <a:lnTo>
                    <a:pt x="3780" y="1406"/>
                  </a:lnTo>
                  <a:lnTo>
                    <a:pt x="3780" y="1401"/>
                  </a:lnTo>
                  <a:lnTo>
                    <a:pt x="3784" y="1401"/>
                  </a:lnTo>
                  <a:lnTo>
                    <a:pt x="3784" y="1395"/>
                  </a:lnTo>
                  <a:lnTo>
                    <a:pt x="3790" y="1395"/>
                  </a:lnTo>
                  <a:lnTo>
                    <a:pt x="3790" y="1390"/>
                  </a:lnTo>
                  <a:lnTo>
                    <a:pt x="3794" y="1390"/>
                  </a:lnTo>
                  <a:lnTo>
                    <a:pt x="3794" y="1382"/>
                  </a:lnTo>
                  <a:lnTo>
                    <a:pt x="3800" y="1382"/>
                  </a:lnTo>
                  <a:lnTo>
                    <a:pt x="3800" y="1377"/>
                  </a:lnTo>
                  <a:lnTo>
                    <a:pt x="3805" y="1377"/>
                  </a:lnTo>
                  <a:lnTo>
                    <a:pt x="3805" y="1371"/>
                  </a:lnTo>
                  <a:lnTo>
                    <a:pt x="3809" y="1371"/>
                  </a:lnTo>
                  <a:lnTo>
                    <a:pt x="3809" y="1360"/>
                  </a:lnTo>
                  <a:lnTo>
                    <a:pt x="3814" y="1360"/>
                  </a:lnTo>
                  <a:lnTo>
                    <a:pt x="3814" y="1353"/>
                  </a:lnTo>
                  <a:lnTo>
                    <a:pt x="3824" y="1353"/>
                  </a:lnTo>
                  <a:lnTo>
                    <a:pt x="3824" y="1347"/>
                  </a:lnTo>
                  <a:lnTo>
                    <a:pt x="3828" y="1347"/>
                  </a:lnTo>
                  <a:lnTo>
                    <a:pt x="3828" y="1336"/>
                  </a:lnTo>
                  <a:lnTo>
                    <a:pt x="3838" y="1336"/>
                  </a:lnTo>
                  <a:lnTo>
                    <a:pt x="3838" y="1330"/>
                  </a:lnTo>
                  <a:lnTo>
                    <a:pt x="3843" y="1330"/>
                  </a:lnTo>
                  <a:lnTo>
                    <a:pt x="3843" y="1317"/>
                  </a:lnTo>
                  <a:lnTo>
                    <a:pt x="3847" y="1317"/>
                  </a:lnTo>
                  <a:lnTo>
                    <a:pt x="3847" y="1312"/>
                  </a:lnTo>
                  <a:lnTo>
                    <a:pt x="3852" y="1312"/>
                  </a:lnTo>
                  <a:lnTo>
                    <a:pt x="3852" y="1300"/>
                  </a:lnTo>
                  <a:lnTo>
                    <a:pt x="3857" y="1300"/>
                  </a:lnTo>
                  <a:lnTo>
                    <a:pt x="3857" y="1282"/>
                  </a:lnTo>
                  <a:lnTo>
                    <a:pt x="3861" y="1282"/>
                  </a:lnTo>
                  <a:lnTo>
                    <a:pt x="3861" y="1276"/>
                  </a:lnTo>
                  <a:lnTo>
                    <a:pt x="3881" y="1276"/>
                  </a:lnTo>
                  <a:lnTo>
                    <a:pt x="3881" y="1265"/>
                  </a:lnTo>
                  <a:lnTo>
                    <a:pt x="3877" y="1265"/>
                  </a:lnTo>
                  <a:lnTo>
                    <a:pt x="3877" y="1254"/>
                  </a:lnTo>
                  <a:lnTo>
                    <a:pt x="3872" y="1254"/>
                  </a:lnTo>
                  <a:lnTo>
                    <a:pt x="3872" y="1235"/>
                  </a:lnTo>
                  <a:lnTo>
                    <a:pt x="3866" y="1235"/>
                  </a:lnTo>
                  <a:lnTo>
                    <a:pt x="3866" y="1222"/>
                  </a:lnTo>
                  <a:lnTo>
                    <a:pt x="3861" y="1222"/>
                  </a:lnTo>
                  <a:lnTo>
                    <a:pt x="3861" y="1217"/>
                  </a:lnTo>
                  <a:lnTo>
                    <a:pt x="3857" y="1217"/>
                  </a:lnTo>
                  <a:lnTo>
                    <a:pt x="3857" y="1212"/>
                  </a:lnTo>
                  <a:lnTo>
                    <a:pt x="3852" y="1212"/>
                  </a:lnTo>
                  <a:lnTo>
                    <a:pt x="3852" y="1205"/>
                  </a:lnTo>
                  <a:lnTo>
                    <a:pt x="3847" y="1205"/>
                  </a:lnTo>
                  <a:lnTo>
                    <a:pt x="3847" y="1200"/>
                  </a:lnTo>
                  <a:lnTo>
                    <a:pt x="3843" y="1200"/>
                  </a:lnTo>
                  <a:lnTo>
                    <a:pt x="3843" y="1188"/>
                  </a:lnTo>
                  <a:lnTo>
                    <a:pt x="3833" y="1188"/>
                  </a:lnTo>
                  <a:lnTo>
                    <a:pt x="3833" y="1181"/>
                  </a:lnTo>
                  <a:lnTo>
                    <a:pt x="3828" y="1181"/>
                  </a:lnTo>
                  <a:lnTo>
                    <a:pt x="3828" y="1176"/>
                  </a:lnTo>
                  <a:lnTo>
                    <a:pt x="3824" y="1176"/>
                  </a:lnTo>
                  <a:lnTo>
                    <a:pt x="3824" y="1170"/>
                  </a:lnTo>
                  <a:lnTo>
                    <a:pt x="3819" y="1170"/>
                  </a:lnTo>
                  <a:lnTo>
                    <a:pt x="3819" y="1159"/>
                  </a:lnTo>
                  <a:lnTo>
                    <a:pt x="3814" y="1159"/>
                  </a:lnTo>
                  <a:lnTo>
                    <a:pt x="3814" y="1153"/>
                  </a:lnTo>
                  <a:lnTo>
                    <a:pt x="3809" y="1153"/>
                  </a:lnTo>
                  <a:lnTo>
                    <a:pt x="3809" y="1146"/>
                  </a:lnTo>
                  <a:lnTo>
                    <a:pt x="3805" y="1146"/>
                  </a:lnTo>
                  <a:lnTo>
                    <a:pt x="3805" y="1140"/>
                  </a:lnTo>
                  <a:lnTo>
                    <a:pt x="3800" y="1140"/>
                  </a:lnTo>
                  <a:lnTo>
                    <a:pt x="3800" y="1135"/>
                  </a:lnTo>
                  <a:lnTo>
                    <a:pt x="3794" y="1135"/>
                  </a:lnTo>
                  <a:lnTo>
                    <a:pt x="3794" y="1128"/>
                  </a:lnTo>
                  <a:lnTo>
                    <a:pt x="3784" y="1128"/>
                  </a:lnTo>
                  <a:lnTo>
                    <a:pt x="3784" y="1123"/>
                  </a:lnTo>
                  <a:lnTo>
                    <a:pt x="3780" y="1123"/>
                  </a:lnTo>
                  <a:lnTo>
                    <a:pt x="3780" y="1116"/>
                  </a:lnTo>
                  <a:lnTo>
                    <a:pt x="3771" y="1116"/>
                  </a:lnTo>
                  <a:lnTo>
                    <a:pt x="3771" y="1110"/>
                  </a:lnTo>
                  <a:lnTo>
                    <a:pt x="3761" y="1110"/>
                  </a:lnTo>
                  <a:lnTo>
                    <a:pt x="3761" y="1105"/>
                  </a:lnTo>
                  <a:lnTo>
                    <a:pt x="3751" y="1105"/>
                  </a:lnTo>
                  <a:lnTo>
                    <a:pt x="3751" y="1099"/>
                  </a:lnTo>
                  <a:lnTo>
                    <a:pt x="3742" y="1099"/>
                  </a:lnTo>
                  <a:lnTo>
                    <a:pt x="3742" y="1094"/>
                  </a:lnTo>
                  <a:lnTo>
                    <a:pt x="3737" y="1094"/>
                  </a:lnTo>
                  <a:lnTo>
                    <a:pt x="3737" y="1086"/>
                  </a:lnTo>
                  <a:lnTo>
                    <a:pt x="3732" y="1086"/>
                  </a:lnTo>
                  <a:lnTo>
                    <a:pt x="3732" y="1081"/>
                  </a:lnTo>
                  <a:lnTo>
                    <a:pt x="3717" y="1081"/>
                  </a:lnTo>
                  <a:lnTo>
                    <a:pt x="3717" y="1075"/>
                  </a:lnTo>
                  <a:lnTo>
                    <a:pt x="3708" y="1075"/>
                  </a:lnTo>
                  <a:lnTo>
                    <a:pt x="3708" y="1069"/>
                  </a:lnTo>
                  <a:lnTo>
                    <a:pt x="3694" y="1069"/>
                  </a:lnTo>
                  <a:lnTo>
                    <a:pt x="3694" y="1063"/>
                  </a:lnTo>
                  <a:lnTo>
                    <a:pt x="3675" y="1063"/>
                  </a:lnTo>
                  <a:lnTo>
                    <a:pt x="3675" y="1058"/>
                  </a:lnTo>
                  <a:lnTo>
                    <a:pt x="3661" y="1058"/>
                  </a:lnTo>
                  <a:lnTo>
                    <a:pt x="3661" y="1052"/>
                  </a:lnTo>
                  <a:lnTo>
                    <a:pt x="3593" y="1052"/>
                  </a:lnTo>
                  <a:lnTo>
                    <a:pt x="3593" y="1063"/>
                  </a:lnTo>
                  <a:lnTo>
                    <a:pt x="3589" y="1063"/>
                  </a:lnTo>
                  <a:lnTo>
                    <a:pt x="3589" y="1069"/>
                  </a:lnTo>
                  <a:lnTo>
                    <a:pt x="3584" y="1069"/>
                  </a:lnTo>
                  <a:lnTo>
                    <a:pt x="3584" y="1075"/>
                  </a:lnTo>
                  <a:lnTo>
                    <a:pt x="3578" y="1075"/>
                  </a:lnTo>
                  <a:lnTo>
                    <a:pt x="3578" y="1081"/>
                  </a:lnTo>
                  <a:lnTo>
                    <a:pt x="3573" y="1081"/>
                  </a:lnTo>
                  <a:lnTo>
                    <a:pt x="3573" y="1086"/>
                  </a:lnTo>
                  <a:lnTo>
                    <a:pt x="3569" y="1086"/>
                  </a:lnTo>
                  <a:lnTo>
                    <a:pt x="3569" y="1105"/>
                  </a:lnTo>
                  <a:lnTo>
                    <a:pt x="3554" y="1105"/>
                  </a:lnTo>
                  <a:lnTo>
                    <a:pt x="3554" y="1123"/>
                  </a:lnTo>
                  <a:lnTo>
                    <a:pt x="3550" y="1123"/>
                  </a:lnTo>
                  <a:lnTo>
                    <a:pt x="3550" y="1135"/>
                  </a:lnTo>
                  <a:lnTo>
                    <a:pt x="3545" y="1135"/>
                  </a:lnTo>
                  <a:lnTo>
                    <a:pt x="3545" y="1140"/>
                  </a:lnTo>
                  <a:lnTo>
                    <a:pt x="3540" y="1140"/>
                  </a:lnTo>
                  <a:lnTo>
                    <a:pt x="3540" y="1153"/>
                  </a:lnTo>
                  <a:lnTo>
                    <a:pt x="3536" y="1153"/>
                  </a:lnTo>
                  <a:lnTo>
                    <a:pt x="3536" y="1164"/>
                  </a:lnTo>
                  <a:lnTo>
                    <a:pt x="3531" y="1164"/>
                  </a:lnTo>
                  <a:lnTo>
                    <a:pt x="3531" y="1170"/>
                  </a:lnTo>
                  <a:lnTo>
                    <a:pt x="3526" y="1170"/>
                  </a:lnTo>
                  <a:lnTo>
                    <a:pt x="3526" y="1181"/>
                  </a:lnTo>
                  <a:lnTo>
                    <a:pt x="3521" y="1181"/>
                  </a:lnTo>
                  <a:lnTo>
                    <a:pt x="3521" y="1188"/>
                  </a:lnTo>
                  <a:lnTo>
                    <a:pt x="3517" y="1188"/>
                  </a:lnTo>
                  <a:lnTo>
                    <a:pt x="3517" y="1194"/>
                  </a:lnTo>
                  <a:lnTo>
                    <a:pt x="3507" y="1194"/>
                  </a:lnTo>
                  <a:lnTo>
                    <a:pt x="3507" y="1205"/>
                  </a:lnTo>
                  <a:lnTo>
                    <a:pt x="3502" y="1205"/>
                  </a:lnTo>
                  <a:lnTo>
                    <a:pt x="3502" y="1212"/>
                  </a:lnTo>
                  <a:lnTo>
                    <a:pt x="3496" y="1212"/>
                  </a:lnTo>
                  <a:lnTo>
                    <a:pt x="3496" y="1217"/>
                  </a:lnTo>
                  <a:lnTo>
                    <a:pt x="3492" y="1217"/>
                  </a:lnTo>
                  <a:lnTo>
                    <a:pt x="3492" y="1222"/>
                  </a:lnTo>
                  <a:lnTo>
                    <a:pt x="3487" y="1222"/>
                  </a:lnTo>
                  <a:lnTo>
                    <a:pt x="3487" y="1235"/>
                  </a:lnTo>
                  <a:lnTo>
                    <a:pt x="3482" y="1235"/>
                  </a:lnTo>
                  <a:lnTo>
                    <a:pt x="3482" y="1241"/>
                  </a:lnTo>
                  <a:lnTo>
                    <a:pt x="3477" y="1241"/>
                  </a:lnTo>
                  <a:lnTo>
                    <a:pt x="3477" y="1246"/>
                  </a:lnTo>
                  <a:lnTo>
                    <a:pt x="3473" y="1246"/>
                  </a:lnTo>
                  <a:lnTo>
                    <a:pt x="3473" y="1254"/>
                  </a:lnTo>
                  <a:lnTo>
                    <a:pt x="3468" y="1254"/>
                  </a:lnTo>
                  <a:lnTo>
                    <a:pt x="3468" y="1259"/>
                  </a:lnTo>
                  <a:lnTo>
                    <a:pt x="3463" y="1259"/>
                  </a:lnTo>
                  <a:lnTo>
                    <a:pt x="3463" y="1271"/>
                  </a:lnTo>
                  <a:lnTo>
                    <a:pt x="3459" y="1271"/>
                  </a:lnTo>
                  <a:lnTo>
                    <a:pt x="3459" y="1282"/>
                  </a:lnTo>
                  <a:lnTo>
                    <a:pt x="3454" y="1282"/>
                  </a:lnTo>
                  <a:lnTo>
                    <a:pt x="3454" y="1287"/>
                  </a:lnTo>
                  <a:lnTo>
                    <a:pt x="3449" y="1287"/>
                  </a:lnTo>
                  <a:lnTo>
                    <a:pt x="3449" y="1295"/>
                  </a:lnTo>
                  <a:lnTo>
                    <a:pt x="3440" y="1295"/>
                  </a:lnTo>
                  <a:lnTo>
                    <a:pt x="3440" y="1300"/>
                  </a:lnTo>
                  <a:lnTo>
                    <a:pt x="3435" y="1300"/>
                  </a:lnTo>
                  <a:lnTo>
                    <a:pt x="3435" y="1306"/>
                  </a:lnTo>
                  <a:lnTo>
                    <a:pt x="3429" y="1306"/>
                  </a:lnTo>
                  <a:lnTo>
                    <a:pt x="3429" y="1312"/>
                  </a:lnTo>
                  <a:lnTo>
                    <a:pt x="3424" y="1312"/>
                  </a:lnTo>
                  <a:lnTo>
                    <a:pt x="3424" y="1317"/>
                  </a:lnTo>
                  <a:lnTo>
                    <a:pt x="3420" y="1317"/>
                  </a:lnTo>
                  <a:lnTo>
                    <a:pt x="3420" y="1324"/>
                  </a:lnTo>
                  <a:lnTo>
                    <a:pt x="3415" y="1324"/>
                  </a:lnTo>
                  <a:lnTo>
                    <a:pt x="3415" y="1330"/>
                  </a:lnTo>
                  <a:lnTo>
                    <a:pt x="3410" y="1330"/>
                  </a:lnTo>
                  <a:lnTo>
                    <a:pt x="3410" y="1336"/>
                  </a:lnTo>
                  <a:lnTo>
                    <a:pt x="3406" y="1336"/>
                  </a:lnTo>
                  <a:lnTo>
                    <a:pt x="3406" y="1341"/>
                  </a:lnTo>
                  <a:lnTo>
                    <a:pt x="3400" y="1341"/>
                  </a:lnTo>
                  <a:lnTo>
                    <a:pt x="3400" y="1353"/>
                  </a:lnTo>
                  <a:lnTo>
                    <a:pt x="3396" y="1353"/>
                  </a:lnTo>
                  <a:lnTo>
                    <a:pt x="3396" y="1360"/>
                  </a:lnTo>
                  <a:lnTo>
                    <a:pt x="3391" y="1360"/>
                  </a:lnTo>
                  <a:lnTo>
                    <a:pt x="3391" y="1365"/>
                  </a:lnTo>
                  <a:lnTo>
                    <a:pt x="3387" y="1365"/>
                  </a:lnTo>
                  <a:lnTo>
                    <a:pt x="3387" y="1371"/>
                  </a:lnTo>
                  <a:lnTo>
                    <a:pt x="3382" y="1371"/>
                  </a:lnTo>
                  <a:lnTo>
                    <a:pt x="3382" y="1377"/>
                  </a:lnTo>
                  <a:lnTo>
                    <a:pt x="3377" y="1377"/>
                  </a:lnTo>
                  <a:lnTo>
                    <a:pt x="3377" y="1390"/>
                  </a:lnTo>
                  <a:lnTo>
                    <a:pt x="3373" y="1390"/>
                  </a:lnTo>
                  <a:lnTo>
                    <a:pt x="3373" y="1395"/>
                  </a:lnTo>
                  <a:lnTo>
                    <a:pt x="3367" y="1395"/>
                  </a:lnTo>
                  <a:lnTo>
                    <a:pt x="3367" y="1406"/>
                  </a:lnTo>
                  <a:lnTo>
                    <a:pt x="3363" y="1406"/>
                  </a:lnTo>
                  <a:lnTo>
                    <a:pt x="3363" y="1412"/>
                  </a:lnTo>
                  <a:lnTo>
                    <a:pt x="3357" y="1412"/>
                  </a:lnTo>
                  <a:lnTo>
                    <a:pt x="3357" y="1418"/>
                  </a:lnTo>
                  <a:lnTo>
                    <a:pt x="3352" y="1418"/>
                  </a:lnTo>
                  <a:lnTo>
                    <a:pt x="3352" y="1423"/>
                  </a:lnTo>
                  <a:lnTo>
                    <a:pt x="3347" y="1423"/>
                  </a:lnTo>
                  <a:lnTo>
                    <a:pt x="3347" y="1436"/>
                  </a:lnTo>
                  <a:lnTo>
                    <a:pt x="3343" y="1436"/>
                  </a:lnTo>
                  <a:lnTo>
                    <a:pt x="3343" y="1441"/>
                  </a:lnTo>
                  <a:lnTo>
                    <a:pt x="3338" y="1441"/>
                  </a:lnTo>
                  <a:lnTo>
                    <a:pt x="3338" y="1448"/>
                  </a:lnTo>
                  <a:lnTo>
                    <a:pt x="3333" y="1448"/>
                  </a:lnTo>
                  <a:lnTo>
                    <a:pt x="3333" y="1453"/>
                  </a:lnTo>
                  <a:lnTo>
                    <a:pt x="3329" y="1453"/>
                  </a:lnTo>
                  <a:lnTo>
                    <a:pt x="3329" y="1466"/>
                  </a:lnTo>
                  <a:lnTo>
                    <a:pt x="3324" y="1466"/>
                  </a:lnTo>
                  <a:lnTo>
                    <a:pt x="3324" y="1472"/>
                  </a:lnTo>
                  <a:lnTo>
                    <a:pt x="3319" y="1472"/>
                  </a:lnTo>
                  <a:lnTo>
                    <a:pt x="3319" y="1477"/>
                  </a:lnTo>
                  <a:lnTo>
                    <a:pt x="3314" y="1477"/>
                  </a:lnTo>
                  <a:lnTo>
                    <a:pt x="3314" y="1490"/>
                  </a:lnTo>
                  <a:lnTo>
                    <a:pt x="3310" y="1490"/>
                  </a:lnTo>
                  <a:lnTo>
                    <a:pt x="3310" y="1494"/>
                  </a:lnTo>
                  <a:lnTo>
                    <a:pt x="3305" y="1494"/>
                  </a:lnTo>
                  <a:lnTo>
                    <a:pt x="3305" y="1501"/>
                  </a:lnTo>
                  <a:lnTo>
                    <a:pt x="3300" y="1501"/>
                  </a:lnTo>
                  <a:lnTo>
                    <a:pt x="3300" y="1507"/>
                  </a:lnTo>
                  <a:lnTo>
                    <a:pt x="3296" y="1507"/>
                  </a:lnTo>
                  <a:lnTo>
                    <a:pt x="3296" y="1518"/>
                  </a:lnTo>
                  <a:lnTo>
                    <a:pt x="3291" y="1518"/>
                  </a:lnTo>
                  <a:lnTo>
                    <a:pt x="3291" y="1531"/>
                  </a:lnTo>
                  <a:lnTo>
                    <a:pt x="3285" y="1531"/>
                  </a:lnTo>
                  <a:lnTo>
                    <a:pt x="3285" y="1548"/>
                  </a:lnTo>
                  <a:lnTo>
                    <a:pt x="3281" y="1548"/>
                  </a:lnTo>
                  <a:lnTo>
                    <a:pt x="3281" y="1559"/>
                  </a:lnTo>
                  <a:lnTo>
                    <a:pt x="3276" y="1559"/>
                  </a:lnTo>
                  <a:lnTo>
                    <a:pt x="3276" y="1578"/>
                  </a:lnTo>
                  <a:lnTo>
                    <a:pt x="3271" y="1578"/>
                  </a:lnTo>
                  <a:lnTo>
                    <a:pt x="3271" y="1589"/>
                  </a:lnTo>
                  <a:lnTo>
                    <a:pt x="3266" y="1589"/>
                  </a:lnTo>
                  <a:lnTo>
                    <a:pt x="3266" y="1596"/>
                  </a:lnTo>
                  <a:lnTo>
                    <a:pt x="3262" y="1596"/>
                  </a:lnTo>
                  <a:lnTo>
                    <a:pt x="3262" y="1601"/>
                  </a:lnTo>
                  <a:lnTo>
                    <a:pt x="3256" y="1601"/>
                  </a:lnTo>
                  <a:lnTo>
                    <a:pt x="3256" y="1613"/>
                  </a:lnTo>
                  <a:lnTo>
                    <a:pt x="3252" y="1613"/>
                  </a:lnTo>
                  <a:lnTo>
                    <a:pt x="3252" y="1626"/>
                  </a:lnTo>
                  <a:lnTo>
                    <a:pt x="3248" y="1626"/>
                  </a:lnTo>
                  <a:lnTo>
                    <a:pt x="3248" y="1637"/>
                  </a:lnTo>
                  <a:lnTo>
                    <a:pt x="3243" y="1637"/>
                  </a:lnTo>
                  <a:lnTo>
                    <a:pt x="3243" y="1649"/>
                  </a:lnTo>
                  <a:lnTo>
                    <a:pt x="3238" y="1649"/>
                  </a:lnTo>
                  <a:lnTo>
                    <a:pt x="3238" y="1667"/>
                  </a:lnTo>
                  <a:lnTo>
                    <a:pt x="3233" y="1667"/>
                  </a:lnTo>
                  <a:lnTo>
                    <a:pt x="3233" y="1678"/>
                  </a:lnTo>
                  <a:lnTo>
                    <a:pt x="3229" y="1678"/>
                  </a:lnTo>
                  <a:lnTo>
                    <a:pt x="3229" y="1690"/>
                  </a:lnTo>
                  <a:lnTo>
                    <a:pt x="3223" y="1690"/>
                  </a:lnTo>
                  <a:lnTo>
                    <a:pt x="3223" y="1695"/>
                  </a:lnTo>
                  <a:lnTo>
                    <a:pt x="3219" y="1695"/>
                  </a:lnTo>
                  <a:lnTo>
                    <a:pt x="3219" y="1702"/>
                  </a:lnTo>
                  <a:lnTo>
                    <a:pt x="3213" y="1702"/>
                  </a:lnTo>
                  <a:lnTo>
                    <a:pt x="3213" y="1708"/>
                  </a:lnTo>
                  <a:lnTo>
                    <a:pt x="3208" y="1708"/>
                  </a:lnTo>
                  <a:lnTo>
                    <a:pt x="3208" y="1714"/>
                  </a:lnTo>
                  <a:lnTo>
                    <a:pt x="3204" y="1714"/>
                  </a:lnTo>
                  <a:lnTo>
                    <a:pt x="3204" y="1719"/>
                  </a:lnTo>
                  <a:lnTo>
                    <a:pt x="3199" y="1719"/>
                  </a:lnTo>
                  <a:lnTo>
                    <a:pt x="3199" y="1727"/>
                  </a:lnTo>
                  <a:lnTo>
                    <a:pt x="3194" y="1727"/>
                  </a:lnTo>
                  <a:lnTo>
                    <a:pt x="3194" y="1732"/>
                  </a:lnTo>
                  <a:lnTo>
                    <a:pt x="3189" y="1732"/>
                  </a:lnTo>
                  <a:lnTo>
                    <a:pt x="3189" y="1737"/>
                  </a:lnTo>
                  <a:lnTo>
                    <a:pt x="3185" y="1737"/>
                  </a:lnTo>
                  <a:lnTo>
                    <a:pt x="3185" y="1749"/>
                  </a:lnTo>
                  <a:lnTo>
                    <a:pt x="3180" y="1749"/>
                  </a:lnTo>
                  <a:lnTo>
                    <a:pt x="3180" y="1755"/>
                  </a:lnTo>
                  <a:lnTo>
                    <a:pt x="3175" y="1755"/>
                  </a:lnTo>
                  <a:lnTo>
                    <a:pt x="3175" y="1760"/>
                  </a:lnTo>
                  <a:lnTo>
                    <a:pt x="3170" y="1760"/>
                  </a:lnTo>
                  <a:lnTo>
                    <a:pt x="3170" y="1768"/>
                  </a:lnTo>
                  <a:lnTo>
                    <a:pt x="3161" y="1768"/>
                  </a:lnTo>
                  <a:lnTo>
                    <a:pt x="3161" y="1773"/>
                  </a:lnTo>
                  <a:lnTo>
                    <a:pt x="3156" y="1773"/>
                  </a:lnTo>
                  <a:lnTo>
                    <a:pt x="3156" y="1785"/>
                  </a:lnTo>
                  <a:lnTo>
                    <a:pt x="3152" y="1785"/>
                  </a:lnTo>
                  <a:lnTo>
                    <a:pt x="3152" y="1790"/>
                  </a:lnTo>
                  <a:lnTo>
                    <a:pt x="3147" y="1790"/>
                  </a:lnTo>
                  <a:lnTo>
                    <a:pt x="3147" y="1796"/>
                  </a:lnTo>
                  <a:lnTo>
                    <a:pt x="3141" y="1796"/>
                  </a:lnTo>
                  <a:lnTo>
                    <a:pt x="3141" y="1803"/>
                  </a:lnTo>
                  <a:lnTo>
                    <a:pt x="3136" y="1803"/>
                  </a:lnTo>
                  <a:lnTo>
                    <a:pt x="3136" y="1809"/>
                  </a:lnTo>
                  <a:lnTo>
                    <a:pt x="3126" y="1809"/>
                  </a:lnTo>
                  <a:lnTo>
                    <a:pt x="3126" y="1814"/>
                  </a:lnTo>
                  <a:lnTo>
                    <a:pt x="3122" y="1814"/>
                  </a:lnTo>
                  <a:lnTo>
                    <a:pt x="3122" y="1826"/>
                  </a:lnTo>
                  <a:lnTo>
                    <a:pt x="3118" y="1826"/>
                  </a:lnTo>
                  <a:lnTo>
                    <a:pt x="3118" y="1831"/>
                  </a:lnTo>
                  <a:lnTo>
                    <a:pt x="3112" y="1831"/>
                  </a:lnTo>
                  <a:lnTo>
                    <a:pt x="3112" y="1838"/>
                  </a:lnTo>
                  <a:lnTo>
                    <a:pt x="3108" y="1838"/>
                  </a:lnTo>
                  <a:lnTo>
                    <a:pt x="3108" y="1844"/>
                  </a:lnTo>
                  <a:lnTo>
                    <a:pt x="3103" y="1844"/>
                  </a:lnTo>
                  <a:lnTo>
                    <a:pt x="3103" y="1849"/>
                  </a:lnTo>
                  <a:lnTo>
                    <a:pt x="3098" y="1849"/>
                  </a:lnTo>
                  <a:lnTo>
                    <a:pt x="3098" y="1855"/>
                  </a:lnTo>
                  <a:lnTo>
                    <a:pt x="3093" y="1855"/>
                  </a:lnTo>
                  <a:lnTo>
                    <a:pt x="3093" y="1868"/>
                  </a:lnTo>
                  <a:lnTo>
                    <a:pt x="3089" y="1868"/>
                  </a:lnTo>
                  <a:lnTo>
                    <a:pt x="3089" y="1873"/>
                  </a:lnTo>
                  <a:lnTo>
                    <a:pt x="3085" y="1873"/>
                  </a:lnTo>
                  <a:lnTo>
                    <a:pt x="3085" y="1879"/>
                  </a:lnTo>
                  <a:lnTo>
                    <a:pt x="3079" y="1879"/>
                  </a:lnTo>
                  <a:lnTo>
                    <a:pt x="3079" y="1891"/>
                  </a:lnTo>
                  <a:lnTo>
                    <a:pt x="3075" y="1891"/>
                  </a:lnTo>
                  <a:lnTo>
                    <a:pt x="3075" y="1896"/>
                  </a:lnTo>
                  <a:lnTo>
                    <a:pt x="3069" y="1896"/>
                  </a:lnTo>
                  <a:lnTo>
                    <a:pt x="3069" y="1909"/>
                  </a:lnTo>
                  <a:lnTo>
                    <a:pt x="3064" y="1909"/>
                  </a:lnTo>
                  <a:lnTo>
                    <a:pt x="3064" y="1921"/>
                  </a:lnTo>
                  <a:lnTo>
                    <a:pt x="3059" y="1921"/>
                  </a:lnTo>
                  <a:lnTo>
                    <a:pt x="3059" y="1932"/>
                  </a:lnTo>
                  <a:lnTo>
                    <a:pt x="3055" y="1932"/>
                  </a:lnTo>
                  <a:lnTo>
                    <a:pt x="3055" y="1945"/>
                  </a:lnTo>
                  <a:lnTo>
                    <a:pt x="3050" y="1945"/>
                  </a:lnTo>
                  <a:lnTo>
                    <a:pt x="3050" y="1950"/>
                  </a:lnTo>
                  <a:lnTo>
                    <a:pt x="3045" y="1950"/>
                  </a:lnTo>
                  <a:lnTo>
                    <a:pt x="3045" y="1967"/>
                  </a:lnTo>
                  <a:lnTo>
                    <a:pt x="3041" y="1967"/>
                  </a:lnTo>
                  <a:lnTo>
                    <a:pt x="3041" y="1980"/>
                  </a:lnTo>
                  <a:lnTo>
                    <a:pt x="3036" y="1980"/>
                  </a:lnTo>
                  <a:lnTo>
                    <a:pt x="3036" y="1986"/>
                  </a:lnTo>
                  <a:lnTo>
                    <a:pt x="3031" y="1986"/>
                  </a:lnTo>
                  <a:lnTo>
                    <a:pt x="3031" y="1997"/>
                  </a:lnTo>
                  <a:lnTo>
                    <a:pt x="3026" y="1997"/>
                  </a:lnTo>
                  <a:lnTo>
                    <a:pt x="3026" y="2004"/>
                  </a:lnTo>
                  <a:lnTo>
                    <a:pt x="3022" y="2004"/>
                  </a:lnTo>
                  <a:lnTo>
                    <a:pt x="3022" y="2015"/>
                  </a:lnTo>
                  <a:lnTo>
                    <a:pt x="3016" y="2015"/>
                  </a:lnTo>
                  <a:lnTo>
                    <a:pt x="3016" y="2021"/>
                  </a:lnTo>
                  <a:lnTo>
                    <a:pt x="3012" y="2021"/>
                  </a:lnTo>
                  <a:lnTo>
                    <a:pt x="3012" y="2027"/>
                  </a:lnTo>
                  <a:lnTo>
                    <a:pt x="3007" y="2027"/>
                  </a:lnTo>
                  <a:lnTo>
                    <a:pt x="3007" y="2032"/>
                  </a:lnTo>
                  <a:lnTo>
                    <a:pt x="3003" y="2032"/>
                  </a:lnTo>
                  <a:lnTo>
                    <a:pt x="3003" y="2045"/>
                  </a:lnTo>
                  <a:lnTo>
                    <a:pt x="2997" y="2045"/>
                  </a:lnTo>
                  <a:lnTo>
                    <a:pt x="2997" y="2051"/>
                  </a:lnTo>
                  <a:lnTo>
                    <a:pt x="2992" y="2051"/>
                  </a:lnTo>
                  <a:lnTo>
                    <a:pt x="2992" y="2056"/>
                  </a:lnTo>
                  <a:lnTo>
                    <a:pt x="2988" y="2056"/>
                  </a:lnTo>
                  <a:lnTo>
                    <a:pt x="2988" y="2062"/>
                  </a:lnTo>
                  <a:lnTo>
                    <a:pt x="2982" y="2062"/>
                  </a:lnTo>
                  <a:lnTo>
                    <a:pt x="2982" y="2069"/>
                  </a:lnTo>
                  <a:lnTo>
                    <a:pt x="2978" y="2069"/>
                  </a:lnTo>
                  <a:lnTo>
                    <a:pt x="2978" y="2074"/>
                  </a:lnTo>
                  <a:lnTo>
                    <a:pt x="2968" y="2074"/>
                  </a:lnTo>
                  <a:lnTo>
                    <a:pt x="2968" y="2081"/>
                  </a:lnTo>
                  <a:lnTo>
                    <a:pt x="2964" y="2081"/>
                  </a:lnTo>
                  <a:lnTo>
                    <a:pt x="2964" y="2086"/>
                  </a:lnTo>
                  <a:lnTo>
                    <a:pt x="2959" y="2086"/>
                  </a:lnTo>
                  <a:lnTo>
                    <a:pt x="2959" y="2092"/>
                  </a:lnTo>
                  <a:lnTo>
                    <a:pt x="2954" y="2092"/>
                  </a:lnTo>
                  <a:lnTo>
                    <a:pt x="2954" y="2098"/>
                  </a:lnTo>
                  <a:lnTo>
                    <a:pt x="2950" y="2098"/>
                  </a:lnTo>
                  <a:lnTo>
                    <a:pt x="2950" y="2103"/>
                  </a:lnTo>
                  <a:lnTo>
                    <a:pt x="2945" y="2103"/>
                  </a:lnTo>
                  <a:lnTo>
                    <a:pt x="2945" y="2110"/>
                  </a:lnTo>
                  <a:lnTo>
                    <a:pt x="2941" y="2110"/>
                  </a:lnTo>
                  <a:lnTo>
                    <a:pt x="2941" y="2116"/>
                  </a:lnTo>
                  <a:lnTo>
                    <a:pt x="2935" y="2116"/>
                  </a:lnTo>
                  <a:lnTo>
                    <a:pt x="2935" y="2122"/>
                  </a:lnTo>
                  <a:lnTo>
                    <a:pt x="2931" y="2122"/>
                  </a:lnTo>
                  <a:lnTo>
                    <a:pt x="2931" y="2127"/>
                  </a:lnTo>
                  <a:lnTo>
                    <a:pt x="2925" y="2127"/>
                  </a:lnTo>
                  <a:lnTo>
                    <a:pt x="2925" y="2133"/>
                  </a:lnTo>
                  <a:lnTo>
                    <a:pt x="2920" y="2133"/>
                  </a:lnTo>
                  <a:lnTo>
                    <a:pt x="2920" y="2140"/>
                  </a:lnTo>
                  <a:lnTo>
                    <a:pt x="2915" y="2140"/>
                  </a:lnTo>
                  <a:lnTo>
                    <a:pt x="2915" y="2151"/>
                  </a:lnTo>
                  <a:lnTo>
                    <a:pt x="2906" y="2151"/>
                  </a:lnTo>
                  <a:lnTo>
                    <a:pt x="2906" y="2163"/>
                  </a:lnTo>
                  <a:lnTo>
                    <a:pt x="2901" y="2163"/>
                  </a:lnTo>
                  <a:lnTo>
                    <a:pt x="2901" y="2168"/>
                  </a:lnTo>
                  <a:lnTo>
                    <a:pt x="2897" y="2168"/>
                  </a:lnTo>
                  <a:lnTo>
                    <a:pt x="2897" y="2175"/>
                  </a:lnTo>
                  <a:lnTo>
                    <a:pt x="2892" y="2175"/>
                  </a:lnTo>
                  <a:lnTo>
                    <a:pt x="2892" y="2181"/>
                  </a:lnTo>
                  <a:lnTo>
                    <a:pt x="2887" y="2181"/>
                  </a:lnTo>
                  <a:lnTo>
                    <a:pt x="2887" y="2187"/>
                  </a:lnTo>
                  <a:lnTo>
                    <a:pt x="2882" y="2187"/>
                  </a:lnTo>
                  <a:lnTo>
                    <a:pt x="2882" y="2200"/>
                  </a:lnTo>
                  <a:lnTo>
                    <a:pt x="2878" y="2200"/>
                  </a:lnTo>
                  <a:lnTo>
                    <a:pt x="2878" y="2205"/>
                  </a:lnTo>
                  <a:lnTo>
                    <a:pt x="2872" y="2205"/>
                  </a:lnTo>
                  <a:lnTo>
                    <a:pt x="2872" y="2217"/>
                  </a:lnTo>
                  <a:lnTo>
                    <a:pt x="2868" y="2217"/>
                  </a:lnTo>
                  <a:lnTo>
                    <a:pt x="2868" y="2222"/>
                  </a:lnTo>
                  <a:lnTo>
                    <a:pt x="2864" y="2222"/>
                  </a:lnTo>
                  <a:lnTo>
                    <a:pt x="2864" y="2228"/>
                  </a:lnTo>
                  <a:lnTo>
                    <a:pt x="2859" y="2228"/>
                  </a:lnTo>
                  <a:lnTo>
                    <a:pt x="2859" y="2233"/>
                  </a:lnTo>
                  <a:lnTo>
                    <a:pt x="2853" y="2233"/>
                  </a:lnTo>
                  <a:lnTo>
                    <a:pt x="2853" y="2241"/>
                  </a:lnTo>
                  <a:lnTo>
                    <a:pt x="2848" y="2241"/>
                  </a:lnTo>
                  <a:lnTo>
                    <a:pt x="2848" y="2251"/>
                  </a:lnTo>
                  <a:lnTo>
                    <a:pt x="2844" y="2251"/>
                  </a:lnTo>
                  <a:lnTo>
                    <a:pt x="2844" y="2258"/>
                  </a:lnTo>
                  <a:lnTo>
                    <a:pt x="2838" y="2258"/>
                  </a:lnTo>
                  <a:lnTo>
                    <a:pt x="2838" y="2263"/>
                  </a:lnTo>
                  <a:lnTo>
                    <a:pt x="2834" y="2263"/>
                  </a:lnTo>
                  <a:lnTo>
                    <a:pt x="2834" y="2268"/>
                  </a:lnTo>
                  <a:lnTo>
                    <a:pt x="2829" y="2268"/>
                  </a:lnTo>
                  <a:lnTo>
                    <a:pt x="2829" y="2281"/>
                  </a:lnTo>
                  <a:lnTo>
                    <a:pt x="2824" y="2281"/>
                  </a:lnTo>
                  <a:lnTo>
                    <a:pt x="2824" y="2287"/>
                  </a:lnTo>
                  <a:lnTo>
                    <a:pt x="2820" y="2287"/>
                  </a:lnTo>
                  <a:lnTo>
                    <a:pt x="2820" y="2293"/>
                  </a:lnTo>
                  <a:lnTo>
                    <a:pt x="2815" y="2293"/>
                  </a:lnTo>
                  <a:lnTo>
                    <a:pt x="2815" y="2304"/>
                  </a:lnTo>
                  <a:lnTo>
                    <a:pt x="2810" y="2304"/>
                  </a:lnTo>
                  <a:lnTo>
                    <a:pt x="2810" y="2311"/>
                  </a:lnTo>
                  <a:lnTo>
                    <a:pt x="2805" y="2311"/>
                  </a:lnTo>
                  <a:lnTo>
                    <a:pt x="2805" y="2322"/>
                  </a:lnTo>
                  <a:lnTo>
                    <a:pt x="2801" y="2322"/>
                  </a:lnTo>
                  <a:lnTo>
                    <a:pt x="2801" y="2328"/>
                  </a:lnTo>
                  <a:lnTo>
                    <a:pt x="2796" y="2328"/>
                  </a:lnTo>
                  <a:lnTo>
                    <a:pt x="2796" y="2341"/>
                  </a:lnTo>
                  <a:lnTo>
                    <a:pt x="2791" y="2341"/>
                  </a:lnTo>
                  <a:lnTo>
                    <a:pt x="2791" y="2346"/>
                  </a:lnTo>
                  <a:lnTo>
                    <a:pt x="2786" y="2346"/>
                  </a:lnTo>
                  <a:lnTo>
                    <a:pt x="2786" y="2358"/>
                  </a:lnTo>
                  <a:lnTo>
                    <a:pt x="2781" y="2358"/>
                  </a:lnTo>
                  <a:lnTo>
                    <a:pt x="2781" y="2369"/>
                  </a:lnTo>
                  <a:lnTo>
                    <a:pt x="2776" y="2369"/>
                  </a:lnTo>
                  <a:lnTo>
                    <a:pt x="2776" y="2375"/>
                  </a:lnTo>
                  <a:lnTo>
                    <a:pt x="2771" y="2375"/>
                  </a:lnTo>
                  <a:lnTo>
                    <a:pt x="2771" y="2382"/>
                  </a:lnTo>
                  <a:lnTo>
                    <a:pt x="2767" y="2382"/>
                  </a:lnTo>
                  <a:lnTo>
                    <a:pt x="2767" y="2394"/>
                  </a:lnTo>
                  <a:lnTo>
                    <a:pt x="2762" y="2394"/>
                  </a:lnTo>
                  <a:lnTo>
                    <a:pt x="2762" y="2399"/>
                  </a:lnTo>
                  <a:lnTo>
                    <a:pt x="2757" y="2399"/>
                  </a:lnTo>
                  <a:lnTo>
                    <a:pt x="2757" y="2410"/>
                  </a:lnTo>
                  <a:lnTo>
                    <a:pt x="2752" y="2410"/>
                  </a:lnTo>
                  <a:lnTo>
                    <a:pt x="2752" y="2418"/>
                  </a:lnTo>
                  <a:lnTo>
                    <a:pt x="2748" y="2418"/>
                  </a:lnTo>
                  <a:lnTo>
                    <a:pt x="2748" y="2428"/>
                  </a:lnTo>
                  <a:lnTo>
                    <a:pt x="2743" y="2428"/>
                  </a:lnTo>
                  <a:lnTo>
                    <a:pt x="2743" y="2435"/>
                  </a:lnTo>
                  <a:lnTo>
                    <a:pt x="2738" y="2435"/>
                  </a:lnTo>
                  <a:lnTo>
                    <a:pt x="2738" y="2447"/>
                  </a:lnTo>
                  <a:lnTo>
                    <a:pt x="2734" y="2447"/>
                  </a:lnTo>
                  <a:lnTo>
                    <a:pt x="2734" y="2453"/>
                  </a:lnTo>
                  <a:lnTo>
                    <a:pt x="2728" y="2453"/>
                  </a:lnTo>
                  <a:lnTo>
                    <a:pt x="2728" y="2464"/>
                  </a:lnTo>
                  <a:lnTo>
                    <a:pt x="2724" y="2464"/>
                  </a:lnTo>
                  <a:lnTo>
                    <a:pt x="2724" y="2470"/>
                  </a:lnTo>
                  <a:lnTo>
                    <a:pt x="2719" y="2470"/>
                  </a:lnTo>
                  <a:lnTo>
                    <a:pt x="2719" y="2477"/>
                  </a:lnTo>
                  <a:lnTo>
                    <a:pt x="2714" y="2477"/>
                  </a:lnTo>
                  <a:lnTo>
                    <a:pt x="2714" y="2488"/>
                  </a:lnTo>
                  <a:lnTo>
                    <a:pt x="2708" y="2488"/>
                  </a:lnTo>
                  <a:lnTo>
                    <a:pt x="2708" y="2494"/>
                  </a:lnTo>
                  <a:lnTo>
                    <a:pt x="2704" y="2494"/>
                  </a:lnTo>
                  <a:lnTo>
                    <a:pt x="2704" y="2500"/>
                  </a:lnTo>
                  <a:lnTo>
                    <a:pt x="2700" y="2500"/>
                  </a:lnTo>
                  <a:lnTo>
                    <a:pt x="2700" y="2505"/>
                  </a:lnTo>
                  <a:lnTo>
                    <a:pt x="2694" y="2505"/>
                  </a:lnTo>
                  <a:lnTo>
                    <a:pt x="2694" y="2518"/>
                  </a:lnTo>
                  <a:lnTo>
                    <a:pt x="2690" y="2518"/>
                  </a:lnTo>
                  <a:lnTo>
                    <a:pt x="2690" y="2523"/>
                  </a:lnTo>
                  <a:lnTo>
                    <a:pt x="2685" y="2523"/>
                  </a:lnTo>
                  <a:lnTo>
                    <a:pt x="2685" y="2529"/>
                  </a:lnTo>
                  <a:lnTo>
                    <a:pt x="2680" y="2529"/>
                  </a:lnTo>
                  <a:lnTo>
                    <a:pt x="2680" y="2535"/>
                  </a:lnTo>
                  <a:lnTo>
                    <a:pt x="2675" y="2535"/>
                  </a:lnTo>
                  <a:lnTo>
                    <a:pt x="2675" y="2541"/>
                  </a:lnTo>
                  <a:lnTo>
                    <a:pt x="2671" y="2541"/>
                  </a:lnTo>
                  <a:lnTo>
                    <a:pt x="2671" y="2554"/>
                  </a:lnTo>
                  <a:lnTo>
                    <a:pt x="2666" y="2554"/>
                  </a:lnTo>
                  <a:lnTo>
                    <a:pt x="2666" y="2559"/>
                  </a:lnTo>
                  <a:lnTo>
                    <a:pt x="2657" y="2559"/>
                  </a:lnTo>
                  <a:lnTo>
                    <a:pt x="2657" y="2565"/>
                  </a:lnTo>
                  <a:lnTo>
                    <a:pt x="2647" y="2565"/>
                  </a:lnTo>
                  <a:lnTo>
                    <a:pt x="2647" y="2571"/>
                  </a:lnTo>
                  <a:lnTo>
                    <a:pt x="2642" y="2571"/>
                  </a:lnTo>
                  <a:lnTo>
                    <a:pt x="2642" y="2583"/>
                  </a:lnTo>
                  <a:lnTo>
                    <a:pt x="2638" y="2583"/>
                  </a:lnTo>
                  <a:lnTo>
                    <a:pt x="2638" y="2589"/>
                  </a:lnTo>
                  <a:lnTo>
                    <a:pt x="2631" y="2589"/>
                  </a:lnTo>
                  <a:lnTo>
                    <a:pt x="2631" y="2595"/>
                  </a:lnTo>
                  <a:lnTo>
                    <a:pt x="2627" y="2595"/>
                  </a:lnTo>
                  <a:lnTo>
                    <a:pt x="2627" y="2600"/>
                  </a:lnTo>
                  <a:lnTo>
                    <a:pt x="2623" y="2600"/>
                  </a:lnTo>
                  <a:lnTo>
                    <a:pt x="2623" y="2606"/>
                  </a:lnTo>
                  <a:lnTo>
                    <a:pt x="2618" y="2606"/>
                  </a:lnTo>
                  <a:lnTo>
                    <a:pt x="2618" y="2613"/>
                  </a:lnTo>
                  <a:lnTo>
                    <a:pt x="2613" y="2613"/>
                  </a:lnTo>
                  <a:lnTo>
                    <a:pt x="2613" y="2619"/>
                  </a:lnTo>
                  <a:lnTo>
                    <a:pt x="2609" y="2619"/>
                  </a:lnTo>
                  <a:lnTo>
                    <a:pt x="2609" y="2624"/>
                  </a:lnTo>
                  <a:lnTo>
                    <a:pt x="2604" y="2624"/>
                  </a:lnTo>
                  <a:lnTo>
                    <a:pt x="2604" y="2636"/>
                  </a:lnTo>
                  <a:lnTo>
                    <a:pt x="2599" y="2636"/>
                  </a:lnTo>
                  <a:lnTo>
                    <a:pt x="2599" y="2641"/>
                  </a:lnTo>
                  <a:lnTo>
                    <a:pt x="2594" y="2641"/>
                  </a:lnTo>
                  <a:lnTo>
                    <a:pt x="2594" y="2648"/>
                  </a:lnTo>
                  <a:lnTo>
                    <a:pt x="2584" y="2648"/>
                  </a:lnTo>
                  <a:lnTo>
                    <a:pt x="2584" y="2654"/>
                  </a:lnTo>
                  <a:lnTo>
                    <a:pt x="2580" y="2654"/>
                  </a:lnTo>
                  <a:lnTo>
                    <a:pt x="2580" y="2660"/>
                  </a:lnTo>
                  <a:lnTo>
                    <a:pt x="2570" y="2660"/>
                  </a:lnTo>
                  <a:lnTo>
                    <a:pt x="2570" y="2665"/>
                  </a:lnTo>
                  <a:lnTo>
                    <a:pt x="2566" y="2665"/>
                  </a:lnTo>
                  <a:lnTo>
                    <a:pt x="2566" y="2672"/>
                  </a:lnTo>
                  <a:lnTo>
                    <a:pt x="2560" y="2672"/>
                  </a:lnTo>
                  <a:lnTo>
                    <a:pt x="2560" y="2677"/>
                  </a:lnTo>
                  <a:lnTo>
                    <a:pt x="2556" y="2677"/>
                  </a:lnTo>
                  <a:lnTo>
                    <a:pt x="2556" y="2682"/>
                  </a:lnTo>
                  <a:lnTo>
                    <a:pt x="2550" y="2682"/>
                  </a:lnTo>
                  <a:lnTo>
                    <a:pt x="2550" y="2689"/>
                  </a:lnTo>
                  <a:lnTo>
                    <a:pt x="2546" y="2689"/>
                  </a:lnTo>
                  <a:lnTo>
                    <a:pt x="2546" y="2695"/>
                  </a:lnTo>
                  <a:lnTo>
                    <a:pt x="2541" y="2695"/>
                  </a:lnTo>
                  <a:lnTo>
                    <a:pt x="2541" y="2700"/>
                  </a:lnTo>
                  <a:lnTo>
                    <a:pt x="2536" y="2700"/>
                  </a:lnTo>
                  <a:lnTo>
                    <a:pt x="2536" y="2706"/>
                  </a:lnTo>
                  <a:lnTo>
                    <a:pt x="2531" y="2706"/>
                  </a:lnTo>
                  <a:lnTo>
                    <a:pt x="2531" y="2712"/>
                  </a:lnTo>
                  <a:lnTo>
                    <a:pt x="2522" y="2712"/>
                  </a:lnTo>
                  <a:lnTo>
                    <a:pt x="2522" y="2719"/>
                  </a:lnTo>
                  <a:lnTo>
                    <a:pt x="2517" y="2719"/>
                  </a:lnTo>
                  <a:lnTo>
                    <a:pt x="2517" y="2724"/>
                  </a:lnTo>
                  <a:lnTo>
                    <a:pt x="2513" y="2724"/>
                  </a:lnTo>
                  <a:lnTo>
                    <a:pt x="2513" y="2731"/>
                  </a:lnTo>
                  <a:lnTo>
                    <a:pt x="2508" y="2731"/>
                  </a:lnTo>
                  <a:lnTo>
                    <a:pt x="2508" y="2736"/>
                  </a:lnTo>
                  <a:lnTo>
                    <a:pt x="2503" y="2736"/>
                  </a:lnTo>
                  <a:lnTo>
                    <a:pt x="2503" y="2741"/>
                  </a:lnTo>
                  <a:lnTo>
                    <a:pt x="2498" y="2741"/>
                  </a:lnTo>
                  <a:lnTo>
                    <a:pt x="2498" y="2749"/>
                  </a:lnTo>
                  <a:lnTo>
                    <a:pt x="2494" y="2749"/>
                  </a:lnTo>
                  <a:lnTo>
                    <a:pt x="2494" y="2754"/>
                  </a:lnTo>
                  <a:lnTo>
                    <a:pt x="2487" y="2754"/>
                  </a:lnTo>
                  <a:lnTo>
                    <a:pt x="2487" y="2766"/>
                  </a:lnTo>
                  <a:lnTo>
                    <a:pt x="2483" y="2766"/>
                  </a:lnTo>
                  <a:lnTo>
                    <a:pt x="2483" y="2772"/>
                  </a:lnTo>
                  <a:lnTo>
                    <a:pt x="2479" y="2772"/>
                  </a:lnTo>
                  <a:lnTo>
                    <a:pt x="2479" y="2777"/>
                  </a:lnTo>
                  <a:lnTo>
                    <a:pt x="2469" y="2777"/>
                  </a:lnTo>
                  <a:lnTo>
                    <a:pt x="2469" y="2784"/>
                  </a:lnTo>
                  <a:lnTo>
                    <a:pt x="2464" y="2784"/>
                  </a:lnTo>
                  <a:lnTo>
                    <a:pt x="2464" y="2790"/>
                  </a:lnTo>
                  <a:lnTo>
                    <a:pt x="2460" y="2790"/>
                  </a:lnTo>
                  <a:lnTo>
                    <a:pt x="2460" y="2795"/>
                  </a:lnTo>
                  <a:lnTo>
                    <a:pt x="2454" y="2795"/>
                  </a:lnTo>
                  <a:lnTo>
                    <a:pt x="2454" y="2801"/>
                  </a:lnTo>
                  <a:lnTo>
                    <a:pt x="2450" y="2801"/>
                  </a:lnTo>
                  <a:lnTo>
                    <a:pt x="2450" y="2807"/>
                  </a:lnTo>
                  <a:lnTo>
                    <a:pt x="2445" y="2807"/>
                  </a:lnTo>
                  <a:lnTo>
                    <a:pt x="2445" y="2813"/>
                  </a:lnTo>
                  <a:lnTo>
                    <a:pt x="2426" y="2813"/>
                  </a:lnTo>
                  <a:lnTo>
                    <a:pt x="2426" y="2825"/>
                  </a:lnTo>
                  <a:lnTo>
                    <a:pt x="2416" y="2825"/>
                  </a:lnTo>
                  <a:lnTo>
                    <a:pt x="2416" y="2831"/>
                  </a:lnTo>
                  <a:lnTo>
                    <a:pt x="2411" y="2831"/>
                  </a:lnTo>
                  <a:lnTo>
                    <a:pt x="2411" y="2836"/>
                  </a:lnTo>
                  <a:lnTo>
                    <a:pt x="2402" y="2836"/>
                  </a:lnTo>
                  <a:lnTo>
                    <a:pt x="2402" y="2818"/>
                  </a:lnTo>
                  <a:lnTo>
                    <a:pt x="2411" y="2818"/>
                  </a:lnTo>
                  <a:lnTo>
                    <a:pt x="2411" y="2813"/>
                  </a:lnTo>
                  <a:lnTo>
                    <a:pt x="2416" y="2813"/>
                  </a:lnTo>
                  <a:lnTo>
                    <a:pt x="2416" y="2807"/>
                  </a:lnTo>
                  <a:lnTo>
                    <a:pt x="2421" y="2807"/>
                  </a:lnTo>
                  <a:lnTo>
                    <a:pt x="2421" y="2801"/>
                  </a:lnTo>
                  <a:lnTo>
                    <a:pt x="2426" y="2801"/>
                  </a:lnTo>
                  <a:lnTo>
                    <a:pt x="2426" y="2795"/>
                  </a:lnTo>
                  <a:lnTo>
                    <a:pt x="2431" y="2795"/>
                  </a:lnTo>
                  <a:lnTo>
                    <a:pt x="2431" y="2790"/>
                  </a:lnTo>
                  <a:lnTo>
                    <a:pt x="2440" y="2790"/>
                  </a:lnTo>
                  <a:lnTo>
                    <a:pt x="2440" y="2784"/>
                  </a:lnTo>
                  <a:lnTo>
                    <a:pt x="2445" y="2784"/>
                  </a:lnTo>
                  <a:lnTo>
                    <a:pt x="2445" y="2777"/>
                  </a:lnTo>
                  <a:lnTo>
                    <a:pt x="2450" y="2777"/>
                  </a:lnTo>
                  <a:lnTo>
                    <a:pt x="2450" y="2772"/>
                  </a:lnTo>
                  <a:lnTo>
                    <a:pt x="2460" y="2772"/>
                  </a:lnTo>
                  <a:lnTo>
                    <a:pt x="2460" y="2766"/>
                  </a:lnTo>
                  <a:lnTo>
                    <a:pt x="2464" y="2766"/>
                  </a:lnTo>
                  <a:lnTo>
                    <a:pt x="2464" y="2760"/>
                  </a:lnTo>
                  <a:lnTo>
                    <a:pt x="2469" y="2760"/>
                  </a:lnTo>
                  <a:lnTo>
                    <a:pt x="2469" y="2754"/>
                  </a:lnTo>
                  <a:lnTo>
                    <a:pt x="2474" y="2754"/>
                  </a:lnTo>
                  <a:lnTo>
                    <a:pt x="2474" y="2749"/>
                  </a:lnTo>
                  <a:lnTo>
                    <a:pt x="2479" y="2749"/>
                  </a:lnTo>
                  <a:lnTo>
                    <a:pt x="2479" y="2741"/>
                  </a:lnTo>
                  <a:lnTo>
                    <a:pt x="2483" y="2741"/>
                  </a:lnTo>
                  <a:lnTo>
                    <a:pt x="2483" y="2736"/>
                  </a:lnTo>
                  <a:lnTo>
                    <a:pt x="2487" y="2736"/>
                  </a:lnTo>
                  <a:lnTo>
                    <a:pt x="2487" y="2724"/>
                  </a:lnTo>
                  <a:lnTo>
                    <a:pt x="2494" y="2724"/>
                  </a:lnTo>
                  <a:lnTo>
                    <a:pt x="2494" y="2719"/>
                  </a:lnTo>
                  <a:lnTo>
                    <a:pt x="2498" y="2719"/>
                  </a:lnTo>
                  <a:lnTo>
                    <a:pt x="2498" y="2712"/>
                  </a:lnTo>
                  <a:lnTo>
                    <a:pt x="2508" y="2712"/>
                  </a:lnTo>
                  <a:lnTo>
                    <a:pt x="2508" y="2706"/>
                  </a:lnTo>
                  <a:lnTo>
                    <a:pt x="2513" y="2706"/>
                  </a:lnTo>
                  <a:lnTo>
                    <a:pt x="2513" y="2700"/>
                  </a:lnTo>
                  <a:lnTo>
                    <a:pt x="2522" y="2700"/>
                  </a:lnTo>
                  <a:lnTo>
                    <a:pt x="2522" y="2695"/>
                  </a:lnTo>
                  <a:lnTo>
                    <a:pt x="2527" y="2695"/>
                  </a:lnTo>
                  <a:lnTo>
                    <a:pt x="2527" y="2689"/>
                  </a:lnTo>
                  <a:lnTo>
                    <a:pt x="2531" y="2689"/>
                  </a:lnTo>
                  <a:lnTo>
                    <a:pt x="2531" y="2682"/>
                  </a:lnTo>
                  <a:lnTo>
                    <a:pt x="2536" y="2682"/>
                  </a:lnTo>
                  <a:lnTo>
                    <a:pt x="2536" y="2677"/>
                  </a:lnTo>
                  <a:lnTo>
                    <a:pt x="2541" y="2677"/>
                  </a:lnTo>
                  <a:lnTo>
                    <a:pt x="2541" y="2672"/>
                  </a:lnTo>
                  <a:lnTo>
                    <a:pt x="2546" y="2672"/>
                  </a:lnTo>
                  <a:lnTo>
                    <a:pt x="2546" y="2665"/>
                  </a:lnTo>
                  <a:lnTo>
                    <a:pt x="2550" y="2665"/>
                  </a:lnTo>
                  <a:lnTo>
                    <a:pt x="2550" y="2660"/>
                  </a:lnTo>
                  <a:lnTo>
                    <a:pt x="2556" y="2660"/>
                  </a:lnTo>
                  <a:lnTo>
                    <a:pt x="2556" y="2654"/>
                  </a:lnTo>
                  <a:lnTo>
                    <a:pt x="2566" y="2654"/>
                  </a:lnTo>
                  <a:lnTo>
                    <a:pt x="2566" y="2648"/>
                  </a:lnTo>
                  <a:lnTo>
                    <a:pt x="2570" y="2648"/>
                  </a:lnTo>
                  <a:lnTo>
                    <a:pt x="2570" y="2641"/>
                  </a:lnTo>
                  <a:lnTo>
                    <a:pt x="2575" y="2641"/>
                  </a:lnTo>
                  <a:lnTo>
                    <a:pt x="2575" y="2636"/>
                  </a:lnTo>
                  <a:lnTo>
                    <a:pt x="2580" y="2636"/>
                  </a:lnTo>
                  <a:lnTo>
                    <a:pt x="2580" y="2630"/>
                  </a:lnTo>
                  <a:lnTo>
                    <a:pt x="2584" y="2630"/>
                  </a:lnTo>
                  <a:lnTo>
                    <a:pt x="2584" y="2624"/>
                  </a:lnTo>
                  <a:lnTo>
                    <a:pt x="2590" y="2624"/>
                  </a:lnTo>
                  <a:lnTo>
                    <a:pt x="2590" y="2613"/>
                  </a:lnTo>
                  <a:lnTo>
                    <a:pt x="2594" y="2613"/>
                  </a:lnTo>
                  <a:lnTo>
                    <a:pt x="2594" y="2606"/>
                  </a:lnTo>
                  <a:lnTo>
                    <a:pt x="2599" y="2606"/>
                  </a:lnTo>
                  <a:lnTo>
                    <a:pt x="2599" y="2600"/>
                  </a:lnTo>
                  <a:lnTo>
                    <a:pt x="2609" y="2600"/>
                  </a:lnTo>
                  <a:lnTo>
                    <a:pt x="2609" y="2595"/>
                  </a:lnTo>
                  <a:lnTo>
                    <a:pt x="2613" y="2595"/>
                  </a:lnTo>
                  <a:lnTo>
                    <a:pt x="2613" y="2583"/>
                  </a:lnTo>
                  <a:lnTo>
                    <a:pt x="2618" y="2583"/>
                  </a:lnTo>
                  <a:lnTo>
                    <a:pt x="2618" y="2576"/>
                  </a:lnTo>
                  <a:lnTo>
                    <a:pt x="2623" y="2576"/>
                  </a:lnTo>
                  <a:lnTo>
                    <a:pt x="2623" y="2571"/>
                  </a:lnTo>
                  <a:lnTo>
                    <a:pt x="2631" y="2571"/>
                  </a:lnTo>
                  <a:lnTo>
                    <a:pt x="2631" y="2565"/>
                  </a:lnTo>
                  <a:lnTo>
                    <a:pt x="2638" y="2565"/>
                  </a:lnTo>
                  <a:lnTo>
                    <a:pt x="2638" y="2559"/>
                  </a:lnTo>
                  <a:lnTo>
                    <a:pt x="2642" y="2559"/>
                  </a:lnTo>
                  <a:lnTo>
                    <a:pt x="2642" y="2554"/>
                  </a:lnTo>
                  <a:lnTo>
                    <a:pt x="2647" y="2554"/>
                  </a:lnTo>
                  <a:lnTo>
                    <a:pt x="2647" y="2541"/>
                  </a:lnTo>
                  <a:lnTo>
                    <a:pt x="2652" y="2541"/>
                  </a:lnTo>
                  <a:lnTo>
                    <a:pt x="2652" y="2535"/>
                  </a:lnTo>
                  <a:lnTo>
                    <a:pt x="2657" y="2535"/>
                  </a:lnTo>
                  <a:lnTo>
                    <a:pt x="2657" y="2529"/>
                  </a:lnTo>
                  <a:lnTo>
                    <a:pt x="2666" y="2529"/>
                  </a:lnTo>
                  <a:lnTo>
                    <a:pt x="2666" y="2518"/>
                  </a:lnTo>
                  <a:lnTo>
                    <a:pt x="2671" y="2518"/>
                  </a:lnTo>
                  <a:lnTo>
                    <a:pt x="2671" y="2513"/>
                  </a:lnTo>
                  <a:lnTo>
                    <a:pt x="2675" y="2513"/>
                  </a:lnTo>
                  <a:lnTo>
                    <a:pt x="2675" y="2500"/>
                  </a:lnTo>
                  <a:lnTo>
                    <a:pt x="2685" y="2500"/>
                  </a:lnTo>
                  <a:lnTo>
                    <a:pt x="2685" y="2494"/>
                  </a:lnTo>
                  <a:lnTo>
                    <a:pt x="2690" y="2494"/>
                  </a:lnTo>
                  <a:lnTo>
                    <a:pt x="2690" y="2488"/>
                  </a:lnTo>
                  <a:lnTo>
                    <a:pt x="2694" y="2488"/>
                  </a:lnTo>
                  <a:lnTo>
                    <a:pt x="2694" y="2477"/>
                  </a:lnTo>
                  <a:lnTo>
                    <a:pt x="2700" y="2477"/>
                  </a:lnTo>
                  <a:lnTo>
                    <a:pt x="2700" y="2470"/>
                  </a:lnTo>
                  <a:lnTo>
                    <a:pt x="2708" y="2470"/>
                  </a:lnTo>
                  <a:lnTo>
                    <a:pt x="2708" y="2464"/>
                  </a:lnTo>
                  <a:lnTo>
                    <a:pt x="2714" y="2464"/>
                  </a:lnTo>
                  <a:lnTo>
                    <a:pt x="2714" y="2453"/>
                  </a:lnTo>
                  <a:lnTo>
                    <a:pt x="2719" y="2453"/>
                  </a:lnTo>
                  <a:lnTo>
                    <a:pt x="2719" y="2447"/>
                  </a:lnTo>
                  <a:lnTo>
                    <a:pt x="2724" y="2447"/>
                  </a:lnTo>
                  <a:lnTo>
                    <a:pt x="2724" y="2440"/>
                  </a:lnTo>
                  <a:lnTo>
                    <a:pt x="2728" y="2440"/>
                  </a:lnTo>
                  <a:lnTo>
                    <a:pt x="2728" y="2428"/>
                  </a:lnTo>
                  <a:lnTo>
                    <a:pt x="2734" y="2428"/>
                  </a:lnTo>
                  <a:lnTo>
                    <a:pt x="2734" y="2418"/>
                  </a:lnTo>
                  <a:lnTo>
                    <a:pt x="2738" y="2418"/>
                  </a:lnTo>
                  <a:lnTo>
                    <a:pt x="2738" y="2410"/>
                  </a:lnTo>
                  <a:lnTo>
                    <a:pt x="2743" y="2410"/>
                  </a:lnTo>
                  <a:lnTo>
                    <a:pt x="2743" y="2399"/>
                  </a:lnTo>
                  <a:lnTo>
                    <a:pt x="2748" y="2399"/>
                  </a:lnTo>
                  <a:lnTo>
                    <a:pt x="2748" y="2394"/>
                  </a:lnTo>
                  <a:lnTo>
                    <a:pt x="2752" y="2394"/>
                  </a:lnTo>
                  <a:lnTo>
                    <a:pt x="2752" y="2387"/>
                  </a:lnTo>
                  <a:lnTo>
                    <a:pt x="2757" y="2387"/>
                  </a:lnTo>
                  <a:lnTo>
                    <a:pt x="2757" y="2375"/>
                  </a:lnTo>
                  <a:lnTo>
                    <a:pt x="2762" y="2375"/>
                  </a:lnTo>
                  <a:lnTo>
                    <a:pt x="2762" y="2369"/>
                  </a:lnTo>
                  <a:lnTo>
                    <a:pt x="2767" y="2369"/>
                  </a:lnTo>
                  <a:lnTo>
                    <a:pt x="2767" y="2358"/>
                  </a:lnTo>
                  <a:lnTo>
                    <a:pt x="2771" y="2358"/>
                  </a:lnTo>
                  <a:lnTo>
                    <a:pt x="2771" y="2352"/>
                  </a:lnTo>
                  <a:lnTo>
                    <a:pt x="2776" y="2352"/>
                  </a:lnTo>
                  <a:lnTo>
                    <a:pt x="2776" y="2341"/>
                  </a:lnTo>
                  <a:lnTo>
                    <a:pt x="2781" y="2341"/>
                  </a:lnTo>
                  <a:lnTo>
                    <a:pt x="2781" y="2328"/>
                  </a:lnTo>
                  <a:lnTo>
                    <a:pt x="2786" y="2328"/>
                  </a:lnTo>
                  <a:lnTo>
                    <a:pt x="2786" y="2317"/>
                  </a:lnTo>
                  <a:lnTo>
                    <a:pt x="2791" y="2317"/>
                  </a:lnTo>
                  <a:lnTo>
                    <a:pt x="2791" y="2311"/>
                  </a:lnTo>
                  <a:lnTo>
                    <a:pt x="2796" y="2311"/>
                  </a:lnTo>
                  <a:lnTo>
                    <a:pt x="2796" y="2299"/>
                  </a:lnTo>
                  <a:lnTo>
                    <a:pt x="2801" y="2299"/>
                  </a:lnTo>
                  <a:lnTo>
                    <a:pt x="2801" y="2293"/>
                  </a:lnTo>
                  <a:lnTo>
                    <a:pt x="2805" y="2293"/>
                  </a:lnTo>
                  <a:lnTo>
                    <a:pt x="2805" y="2287"/>
                  </a:lnTo>
                  <a:lnTo>
                    <a:pt x="2810" y="2287"/>
                  </a:lnTo>
                  <a:lnTo>
                    <a:pt x="2810" y="2281"/>
                  </a:lnTo>
                  <a:lnTo>
                    <a:pt x="2815" y="2281"/>
                  </a:lnTo>
                  <a:lnTo>
                    <a:pt x="2815" y="2268"/>
                  </a:lnTo>
                  <a:lnTo>
                    <a:pt x="2820" y="2268"/>
                  </a:lnTo>
                  <a:lnTo>
                    <a:pt x="2820" y="2263"/>
                  </a:lnTo>
                  <a:lnTo>
                    <a:pt x="2824" y="2263"/>
                  </a:lnTo>
                  <a:lnTo>
                    <a:pt x="2824" y="2251"/>
                  </a:lnTo>
                  <a:lnTo>
                    <a:pt x="2829" y="2251"/>
                  </a:lnTo>
                  <a:lnTo>
                    <a:pt x="2829" y="2246"/>
                  </a:lnTo>
                  <a:lnTo>
                    <a:pt x="2834" y="2246"/>
                  </a:lnTo>
                  <a:lnTo>
                    <a:pt x="2834" y="2241"/>
                  </a:lnTo>
                  <a:lnTo>
                    <a:pt x="2838" y="2241"/>
                  </a:lnTo>
                  <a:lnTo>
                    <a:pt x="2838" y="2228"/>
                  </a:lnTo>
                  <a:lnTo>
                    <a:pt x="2844" y="2228"/>
                  </a:lnTo>
                  <a:lnTo>
                    <a:pt x="2844" y="2222"/>
                  </a:lnTo>
                  <a:lnTo>
                    <a:pt x="2848" y="2222"/>
                  </a:lnTo>
                  <a:lnTo>
                    <a:pt x="2848" y="2217"/>
                  </a:lnTo>
                  <a:lnTo>
                    <a:pt x="2853" y="2217"/>
                  </a:lnTo>
                  <a:lnTo>
                    <a:pt x="2853" y="2205"/>
                  </a:lnTo>
                  <a:lnTo>
                    <a:pt x="2864" y="2205"/>
                  </a:lnTo>
                  <a:lnTo>
                    <a:pt x="2864" y="2200"/>
                  </a:lnTo>
                  <a:lnTo>
                    <a:pt x="2868" y="2200"/>
                  </a:lnTo>
                  <a:lnTo>
                    <a:pt x="2868" y="2192"/>
                  </a:lnTo>
                  <a:lnTo>
                    <a:pt x="2872" y="2192"/>
                  </a:lnTo>
                  <a:lnTo>
                    <a:pt x="2872" y="2181"/>
                  </a:lnTo>
                  <a:lnTo>
                    <a:pt x="2878" y="2181"/>
                  </a:lnTo>
                  <a:lnTo>
                    <a:pt x="2878" y="2175"/>
                  </a:lnTo>
                  <a:lnTo>
                    <a:pt x="2882" y="2175"/>
                  </a:lnTo>
                  <a:lnTo>
                    <a:pt x="2882" y="2168"/>
                  </a:lnTo>
                  <a:lnTo>
                    <a:pt x="2887" y="2168"/>
                  </a:lnTo>
                  <a:lnTo>
                    <a:pt x="2887" y="2163"/>
                  </a:lnTo>
                  <a:lnTo>
                    <a:pt x="2892" y="2163"/>
                  </a:lnTo>
                  <a:lnTo>
                    <a:pt x="2892" y="2157"/>
                  </a:lnTo>
                  <a:lnTo>
                    <a:pt x="2897" y="2157"/>
                  </a:lnTo>
                  <a:lnTo>
                    <a:pt x="2897" y="2146"/>
                  </a:lnTo>
                  <a:lnTo>
                    <a:pt x="2901" y="2146"/>
                  </a:lnTo>
                  <a:lnTo>
                    <a:pt x="2901" y="2140"/>
                  </a:lnTo>
                  <a:lnTo>
                    <a:pt x="2906" y="2140"/>
                  </a:lnTo>
                  <a:lnTo>
                    <a:pt x="2906" y="2133"/>
                  </a:lnTo>
                  <a:lnTo>
                    <a:pt x="2911" y="2133"/>
                  </a:lnTo>
                  <a:lnTo>
                    <a:pt x="2911" y="2127"/>
                  </a:lnTo>
                  <a:lnTo>
                    <a:pt x="2915" y="2127"/>
                  </a:lnTo>
                  <a:lnTo>
                    <a:pt x="2915" y="2122"/>
                  </a:lnTo>
                  <a:lnTo>
                    <a:pt x="2920" y="2122"/>
                  </a:lnTo>
                  <a:lnTo>
                    <a:pt x="2920" y="2116"/>
                  </a:lnTo>
                  <a:lnTo>
                    <a:pt x="2925" y="2116"/>
                  </a:lnTo>
                  <a:lnTo>
                    <a:pt x="2925" y="2110"/>
                  </a:lnTo>
                  <a:lnTo>
                    <a:pt x="2931" y="2110"/>
                  </a:lnTo>
                  <a:lnTo>
                    <a:pt x="2931" y="2103"/>
                  </a:lnTo>
                  <a:lnTo>
                    <a:pt x="2935" y="2103"/>
                  </a:lnTo>
                  <a:lnTo>
                    <a:pt x="2935" y="2098"/>
                  </a:lnTo>
                  <a:lnTo>
                    <a:pt x="2941" y="2098"/>
                  </a:lnTo>
                  <a:lnTo>
                    <a:pt x="2941" y="2092"/>
                  </a:lnTo>
                  <a:lnTo>
                    <a:pt x="2945" y="2092"/>
                  </a:lnTo>
                  <a:lnTo>
                    <a:pt x="2945" y="2086"/>
                  </a:lnTo>
                  <a:lnTo>
                    <a:pt x="2950" y="2086"/>
                  </a:lnTo>
                  <a:lnTo>
                    <a:pt x="2950" y="2081"/>
                  </a:lnTo>
                  <a:lnTo>
                    <a:pt x="2954" y="2081"/>
                  </a:lnTo>
                  <a:lnTo>
                    <a:pt x="2954" y="2069"/>
                  </a:lnTo>
                  <a:lnTo>
                    <a:pt x="2959" y="2069"/>
                  </a:lnTo>
                  <a:lnTo>
                    <a:pt x="2959" y="2062"/>
                  </a:lnTo>
                  <a:lnTo>
                    <a:pt x="2968" y="2062"/>
                  </a:lnTo>
                  <a:lnTo>
                    <a:pt x="2968" y="2056"/>
                  </a:lnTo>
                  <a:lnTo>
                    <a:pt x="2973" y="2056"/>
                  </a:lnTo>
                  <a:lnTo>
                    <a:pt x="2973" y="2051"/>
                  </a:lnTo>
                  <a:lnTo>
                    <a:pt x="2978" y="2051"/>
                  </a:lnTo>
                  <a:lnTo>
                    <a:pt x="2978" y="2040"/>
                  </a:lnTo>
                  <a:lnTo>
                    <a:pt x="2988" y="2040"/>
                  </a:lnTo>
                  <a:lnTo>
                    <a:pt x="2988" y="2027"/>
                  </a:lnTo>
                  <a:lnTo>
                    <a:pt x="2992" y="2027"/>
                  </a:lnTo>
                  <a:lnTo>
                    <a:pt x="2992" y="2021"/>
                  </a:lnTo>
                  <a:lnTo>
                    <a:pt x="2997" y="2021"/>
                  </a:lnTo>
                  <a:lnTo>
                    <a:pt x="2997" y="2009"/>
                  </a:lnTo>
                  <a:lnTo>
                    <a:pt x="3007" y="2009"/>
                  </a:lnTo>
                  <a:lnTo>
                    <a:pt x="3007" y="2004"/>
                  </a:lnTo>
                  <a:lnTo>
                    <a:pt x="3012" y="2004"/>
                  </a:lnTo>
                  <a:lnTo>
                    <a:pt x="3012" y="1991"/>
                  </a:lnTo>
                  <a:lnTo>
                    <a:pt x="3016" y="1991"/>
                  </a:lnTo>
                  <a:lnTo>
                    <a:pt x="3016" y="1986"/>
                  </a:lnTo>
                  <a:lnTo>
                    <a:pt x="3022" y="1986"/>
                  </a:lnTo>
                  <a:lnTo>
                    <a:pt x="3022" y="1962"/>
                  </a:lnTo>
                  <a:lnTo>
                    <a:pt x="3026" y="1962"/>
                  </a:lnTo>
                  <a:lnTo>
                    <a:pt x="3026" y="1955"/>
                  </a:lnTo>
                  <a:lnTo>
                    <a:pt x="3036" y="1955"/>
                  </a:lnTo>
                  <a:lnTo>
                    <a:pt x="3036" y="1939"/>
                  </a:lnTo>
                  <a:lnTo>
                    <a:pt x="3041" y="1939"/>
                  </a:lnTo>
                  <a:lnTo>
                    <a:pt x="3041" y="1932"/>
                  </a:lnTo>
                  <a:lnTo>
                    <a:pt x="3045" y="1932"/>
                  </a:lnTo>
                  <a:lnTo>
                    <a:pt x="3045" y="1921"/>
                  </a:lnTo>
                  <a:lnTo>
                    <a:pt x="3050" y="1921"/>
                  </a:lnTo>
                  <a:lnTo>
                    <a:pt x="3050" y="1914"/>
                  </a:lnTo>
                  <a:lnTo>
                    <a:pt x="3055" y="1914"/>
                  </a:lnTo>
                  <a:lnTo>
                    <a:pt x="3055" y="1903"/>
                  </a:lnTo>
                  <a:lnTo>
                    <a:pt x="3059" y="1903"/>
                  </a:lnTo>
                  <a:lnTo>
                    <a:pt x="3059" y="1891"/>
                  </a:lnTo>
                  <a:lnTo>
                    <a:pt x="3064" y="1891"/>
                  </a:lnTo>
                  <a:lnTo>
                    <a:pt x="3064" y="1879"/>
                  </a:lnTo>
                  <a:lnTo>
                    <a:pt x="3069" y="1879"/>
                  </a:lnTo>
                  <a:lnTo>
                    <a:pt x="3069" y="1873"/>
                  </a:lnTo>
                  <a:lnTo>
                    <a:pt x="3075" y="1873"/>
                  </a:lnTo>
                  <a:lnTo>
                    <a:pt x="3075" y="1861"/>
                  </a:lnTo>
                  <a:lnTo>
                    <a:pt x="3079" y="1861"/>
                  </a:lnTo>
                  <a:lnTo>
                    <a:pt x="3079" y="1855"/>
                  </a:lnTo>
                  <a:lnTo>
                    <a:pt x="3085" y="1855"/>
                  </a:lnTo>
                  <a:lnTo>
                    <a:pt x="3085" y="1849"/>
                  </a:lnTo>
                  <a:lnTo>
                    <a:pt x="3089" y="1849"/>
                  </a:lnTo>
                  <a:lnTo>
                    <a:pt x="3089" y="1844"/>
                  </a:lnTo>
                  <a:lnTo>
                    <a:pt x="3093" y="1844"/>
                  </a:lnTo>
                  <a:lnTo>
                    <a:pt x="3093" y="1838"/>
                  </a:lnTo>
                  <a:lnTo>
                    <a:pt x="3098" y="1838"/>
                  </a:lnTo>
                  <a:lnTo>
                    <a:pt x="3098" y="1831"/>
                  </a:lnTo>
                  <a:lnTo>
                    <a:pt x="3103" y="1831"/>
                  </a:lnTo>
                  <a:lnTo>
                    <a:pt x="3103" y="1820"/>
                  </a:lnTo>
                  <a:lnTo>
                    <a:pt x="3108" y="1820"/>
                  </a:lnTo>
                  <a:lnTo>
                    <a:pt x="3108" y="1814"/>
                  </a:lnTo>
                  <a:lnTo>
                    <a:pt x="3112" y="1814"/>
                  </a:lnTo>
                  <a:lnTo>
                    <a:pt x="3112" y="1809"/>
                  </a:lnTo>
                  <a:lnTo>
                    <a:pt x="3118" y="1809"/>
                  </a:lnTo>
                  <a:lnTo>
                    <a:pt x="3118" y="1803"/>
                  </a:lnTo>
                  <a:lnTo>
                    <a:pt x="3122" y="1803"/>
                  </a:lnTo>
                  <a:lnTo>
                    <a:pt x="3122" y="1796"/>
                  </a:lnTo>
                  <a:lnTo>
                    <a:pt x="3126" y="1796"/>
                  </a:lnTo>
                  <a:lnTo>
                    <a:pt x="3126" y="1790"/>
                  </a:lnTo>
                  <a:lnTo>
                    <a:pt x="3136" y="1790"/>
                  </a:lnTo>
                  <a:lnTo>
                    <a:pt x="3136" y="1779"/>
                  </a:lnTo>
                  <a:lnTo>
                    <a:pt x="3141" y="1779"/>
                  </a:lnTo>
                  <a:lnTo>
                    <a:pt x="3141" y="1773"/>
                  </a:lnTo>
                  <a:lnTo>
                    <a:pt x="3147" y="1773"/>
                  </a:lnTo>
                  <a:lnTo>
                    <a:pt x="3147" y="1768"/>
                  </a:lnTo>
                  <a:lnTo>
                    <a:pt x="3152" y="1768"/>
                  </a:lnTo>
                  <a:lnTo>
                    <a:pt x="3152" y="1760"/>
                  </a:lnTo>
                  <a:lnTo>
                    <a:pt x="3156" y="1760"/>
                  </a:lnTo>
                  <a:lnTo>
                    <a:pt x="3156" y="1755"/>
                  </a:lnTo>
                  <a:lnTo>
                    <a:pt x="3161" y="1755"/>
                  </a:lnTo>
                  <a:lnTo>
                    <a:pt x="3161" y="1749"/>
                  </a:lnTo>
                  <a:lnTo>
                    <a:pt x="3166" y="1749"/>
                  </a:lnTo>
                  <a:lnTo>
                    <a:pt x="3166" y="1744"/>
                  </a:lnTo>
                  <a:lnTo>
                    <a:pt x="3175" y="1744"/>
                  </a:lnTo>
                  <a:lnTo>
                    <a:pt x="3175" y="1732"/>
                  </a:lnTo>
                  <a:lnTo>
                    <a:pt x="3180" y="1732"/>
                  </a:lnTo>
                  <a:lnTo>
                    <a:pt x="3180" y="1727"/>
                  </a:lnTo>
                  <a:lnTo>
                    <a:pt x="3185" y="1727"/>
                  </a:lnTo>
                  <a:lnTo>
                    <a:pt x="3185" y="1719"/>
                  </a:lnTo>
                  <a:lnTo>
                    <a:pt x="3189" y="1719"/>
                  </a:lnTo>
                  <a:lnTo>
                    <a:pt x="3189" y="1714"/>
                  </a:lnTo>
                  <a:lnTo>
                    <a:pt x="3194" y="1714"/>
                  </a:lnTo>
                  <a:lnTo>
                    <a:pt x="3194" y="1708"/>
                  </a:lnTo>
                  <a:lnTo>
                    <a:pt x="3199" y="1708"/>
                  </a:lnTo>
                  <a:lnTo>
                    <a:pt x="3199" y="1695"/>
                  </a:lnTo>
                  <a:lnTo>
                    <a:pt x="3204" y="1695"/>
                  </a:lnTo>
                  <a:lnTo>
                    <a:pt x="3204" y="1690"/>
                  </a:lnTo>
                  <a:lnTo>
                    <a:pt x="3208" y="1690"/>
                  </a:lnTo>
                  <a:lnTo>
                    <a:pt x="3208" y="1685"/>
                  </a:lnTo>
                  <a:lnTo>
                    <a:pt x="3213" y="1685"/>
                  </a:lnTo>
                  <a:lnTo>
                    <a:pt x="3213" y="1673"/>
                  </a:lnTo>
                  <a:lnTo>
                    <a:pt x="3219" y="1673"/>
                  </a:lnTo>
                  <a:lnTo>
                    <a:pt x="3219" y="1667"/>
                  </a:lnTo>
                  <a:lnTo>
                    <a:pt x="3223" y="1667"/>
                  </a:lnTo>
                  <a:lnTo>
                    <a:pt x="3223" y="1654"/>
                  </a:lnTo>
                  <a:lnTo>
                    <a:pt x="3229" y="1654"/>
                  </a:lnTo>
                  <a:lnTo>
                    <a:pt x="3229" y="1643"/>
                  </a:lnTo>
                  <a:lnTo>
                    <a:pt x="3233" y="1643"/>
                  </a:lnTo>
                  <a:lnTo>
                    <a:pt x="3233" y="1632"/>
                  </a:lnTo>
                  <a:lnTo>
                    <a:pt x="3238" y="1632"/>
                  </a:lnTo>
                  <a:lnTo>
                    <a:pt x="3238" y="1613"/>
                  </a:lnTo>
                  <a:lnTo>
                    <a:pt x="3243" y="1613"/>
                  </a:lnTo>
                  <a:lnTo>
                    <a:pt x="3243" y="1601"/>
                  </a:lnTo>
                  <a:lnTo>
                    <a:pt x="3248" y="1601"/>
                  </a:lnTo>
                  <a:lnTo>
                    <a:pt x="3248" y="1589"/>
                  </a:lnTo>
                  <a:lnTo>
                    <a:pt x="3252" y="1589"/>
                  </a:lnTo>
                  <a:lnTo>
                    <a:pt x="3252" y="1578"/>
                  </a:lnTo>
                  <a:lnTo>
                    <a:pt x="3256" y="1578"/>
                  </a:lnTo>
                  <a:lnTo>
                    <a:pt x="3256" y="1567"/>
                  </a:lnTo>
                  <a:lnTo>
                    <a:pt x="3262" y="1567"/>
                  </a:lnTo>
                  <a:lnTo>
                    <a:pt x="3262" y="1554"/>
                  </a:lnTo>
                  <a:lnTo>
                    <a:pt x="3266" y="1554"/>
                  </a:lnTo>
                  <a:lnTo>
                    <a:pt x="3266" y="1536"/>
                  </a:lnTo>
                  <a:lnTo>
                    <a:pt x="3271" y="1536"/>
                  </a:lnTo>
                  <a:lnTo>
                    <a:pt x="3271" y="1524"/>
                  </a:lnTo>
                  <a:lnTo>
                    <a:pt x="3276" y="1524"/>
                  </a:lnTo>
                  <a:lnTo>
                    <a:pt x="3276" y="1518"/>
                  </a:lnTo>
                  <a:lnTo>
                    <a:pt x="3281" y="1518"/>
                  </a:lnTo>
                  <a:lnTo>
                    <a:pt x="3281" y="1507"/>
                  </a:lnTo>
                  <a:lnTo>
                    <a:pt x="3285" y="1507"/>
                  </a:lnTo>
                  <a:lnTo>
                    <a:pt x="3285" y="1494"/>
                  </a:lnTo>
                  <a:lnTo>
                    <a:pt x="3291" y="1494"/>
                  </a:lnTo>
                  <a:lnTo>
                    <a:pt x="3291" y="1490"/>
                  </a:lnTo>
                  <a:lnTo>
                    <a:pt x="3296" y="1490"/>
                  </a:lnTo>
                  <a:lnTo>
                    <a:pt x="3296" y="1482"/>
                  </a:lnTo>
                  <a:lnTo>
                    <a:pt x="3300" y="1482"/>
                  </a:lnTo>
                  <a:lnTo>
                    <a:pt x="3300" y="1472"/>
                  </a:lnTo>
                  <a:lnTo>
                    <a:pt x="3305" y="1472"/>
                  </a:lnTo>
                  <a:lnTo>
                    <a:pt x="3305" y="1466"/>
                  </a:lnTo>
                  <a:lnTo>
                    <a:pt x="3310" y="1466"/>
                  </a:lnTo>
                  <a:lnTo>
                    <a:pt x="3310" y="1460"/>
                  </a:lnTo>
                  <a:lnTo>
                    <a:pt x="3314" y="1460"/>
                  </a:lnTo>
                  <a:lnTo>
                    <a:pt x="3314" y="1453"/>
                  </a:lnTo>
                  <a:lnTo>
                    <a:pt x="3319" y="1453"/>
                  </a:lnTo>
                  <a:lnTo>
                    <a:pt x="3319" y="1448"/>
                  </a:lnTo>
                  <a:lnTo>
                    <a:pt x="3324" y="1448"/>
                  </a:lnTo>
                  <a:lnTo>
                    <a:pt x="3324" y="1436"/>
                  </a:lnTo>
                  <a:lnTo>
                    <a:pt x="3329" y="1436"/>
                  </a:lnTo>
                  <a:lnTo>
                    <a:pt x="3329" y="1431"/>
                  </a:lnTo>
                  <a:lnTo>
                    <a:pt x="3333" y="1431"/>
                  </a:lnTo>
                  <a:lnTo>
                    <a:pt x="3333" y="1423"/>
                  </a:lnTo>
                  <a:lnTo>
                    <a:pt x="3338" y="1423"/>
                  </a:lnTo>
                  <a:lnTo>
                    <a:pt x="3338" y="1418"/>
                  </a:lnTo>
                  <a:lnTo>
                    <a:pt x="3343" y="1418"/>
                  </a:lnTo>
                  <a:lnTo>
                    <a:pt x="3343" y="1412"/>
                  </a:lnTo>
                  <a:lnTo>
                    <a:pt x="3347" y="1412"/>
                  </a:lnTo>
                  <a:lnTo>
                    <a:pt x="3347" y="1401"/>
                  </a:lnTo>
                  <a:lnTo>
                    <a:pt x="3352" y="1401"/>
                  </a:lnTo>
                  <a:lnTo>
                    <a:pt x="3352" y="1390"/>
                  </a:lnTo>
                  <a:lnTo>
                    <a:pt x="3357" y="1390"/>
                  </a:lnTo>
                  <a:lnTo>
                    <a:pt x="3357" y="1382"/>
                  </a:lnTo>
                  <a:lnTo>
                    <a:pt x="3363" y="1382"/>
                  </a:lnTo>
                  <a:lnTo>
                    <a:pt x="3363" y="1371"/>
                  </a:lnTo>
                  <a:lnTo>
                    <a:pt x="3373" y="1371"/>
                  </a:lnTo>
                  <a:lnTo>
                    <a:pt x="3373" y="1353"/>
                  </a:lnTo>
                  <a:lnTo>
                    <a:pt x="3387" y="1353"/>
                  </a:lnTo>
                  <a:lnTo>
                    <a:pt x="3387" y="1347"/>
                  </a:lnTo>
                  <a:lnTo>
                    <a:pt x="3391" y="1347"/>
                  </a:lnTo>
                  <a:lnTo>
                    <a:pt x="3391" y="1336"/>
                  </a:lnTo>
                  <a:lnTo>
                    <a:pt x="3396" y="1336"/>
                  </a:lnTo>
                  <a:lnTo>
                    <a:pt x="3396" y="1330"/>
                  </a:lnTo>
                  <a:lnTo>
                    <a:pt x="3400" y="1330"/>
                  </a:lnTo>
                  <a:lnTo>
                    <a:pt x="3400" y="1324"/>
                  </a:lnTo>
                  <a:lnTo>
                    <a:pt x="3406" y="1324"/>
                  </a:lnTo>
                  <a:lnTo>
                    <a:pt x="3406" y="1317"/>
                  </a:lnTo>
                  <a:lnTo>
                    <a:pt x="3410" y="1317"/>
                  </a:lnTo>
                  <a:lnTo>
                    <a:pt x="3410" y="1306"/>
                  </a:lnTo>
                  <a:lnTo>
                    <a:pt x="3415" y="1306"/>
                  </a:lnTo>
                  <a:lnTo>
                    <a:pt x="3415" y="1300"/>
                  </a:lnTo>
                  <a:lnTo>
                    <a:pt x="3420" y="1300"/>
                  </a:lnTo>
                  <a:lnTo>
                    <a:pt x="3420" y="1287"/>
                  </a:lnTo>
                  <a:lnTo>
                    <a:pt x="3424" y="1287"/>
                  </a:lnTo>
                  <a:lnTo>
                    <a:pt x="3424" y="1282"/>
                  </a:lnTo>
                  <a:lnTo>
                    <a:pt x="3429" y="1282"/>
                  </a:lnTo>
                  <a:lnTo>
                    <a:pt x="3429" y="1276"/>
                  </a:lnTo>
                  <a:lnTo>
                    <a:pt x="3435" y="1276"/>
                  </a:lnTo>
                  <a:lnTo>
                    <a:pt x="3435" y="1271"/>
                  </a:lnTo>
                  <a:lnTo>
                    <a:pt x="3444" y="1271"/>
                  </a:lnTo>
                  <a:lnTo>
                    <a:pt x="3444" y="1265"/>
                  </a:lnTo>
                  <a:lnTo>
                    <a:pt x="3449" y="1265"/>
                  </a:lnTo>
                  <a:lnTo>
                    <a:pt x="3449" y="1259"/>
                  </a:lnTo>
                  <a:lnTo>
                    <a:pt x="3454" y="1259"/>
                  </a:lnTo>
                  <a:lnTo>
                    <a:pt x="3454" y="1254"/>
                  </a:lnTo>
                  <a:lnTo>
                    <a:pt x="3459" y="1254"/>
                  </a:lnTo>
                  <a:lnTo>
                    <a:pt x="3459" y="1246"/>
                  </a:lnTo>
                  <a:lnTo>
                    <a:pt x="3463" y="1246"/>
                  </a:lnTo>
                  <a:lnTo>
                    <a:pt x="3463" y="1241"/>
                  </a:lnTo>
                  <a:lnTo>
                    <a:pt x="3468" y="1241"/>
                  </a:lnTo>
                  <a:lnTo>
                    <a:pt x="3468" y="1235"/>
                  </a:lnTo>
                  <a:lnTo>
                    <a:pt x="3473" y="1235"/>
                  </a:lnTo>
                  <a:lnTo>
                    <a:pt x="3473" y="1229"/>
                  </a:lnTo>
                  <a:lnTo>
                    <a:pt x="3477" y="1229"/>
                  </a:lnTo>
                  <a:lnTo>
                    <a:pt x="3477" y="1217"/>
                  </a:lnTo>
                  <a:lnTo>
                    <a:pt x="3482" y="1217"/>
                  </a:lnTo>
                  <a:lnTo>
                    <a:pt x="3482" y="1212"/>
                  </a:lnTo>
                  <a:lnTo>
                    <a:pt x="3487" y="1212"/>
                  </a:lnTo>
                  <a:lnTo>
                    <a:pt x="3487" y="1205"/>
                  </a:lnTo>
                  <a:lnTo>
                    <a:pt x="3492" y="1205"/>
                  </a:lnTo>
                  <a:lnTo>
                    <a:pt x="3492" y="1194"/>
                  </a:lnTo>
                  <a:lnTo>
                    <a:pt x="3496" y="1194"/>
                  </a:lnTo>
                  <a:lnTo>
                    <a:pt x="3496" y="1188"/>
                  </a:lnTo>
                  <a:lnTo>
                    <a:pt x="3502" y="1188"/>
                  </a:lnTo>
                  <a:lnTo>
                    <a:pt x="3502" y="1176"/>
                  </a:lnTo>
                  <a:lnTo>
                    <a:pt x="3507" y="1176"/>
                  </a:lnTo>
                  <a:lnTo>
                    <a:pt x="3507" y="1159"/>
                  </a:lnTo>
                  <a:lnTo>
                    <a:pt x="3517" y="1159"/>
                  </a:lnTo>
                  <a:lnTo>
                    <a:pt x="3517" y="1153"/>
                  </a:lnTo>
                  <a:lnTo>
                    <a:pt x="3526" y="1153"/>
                  </a:lnTo>
                  <a:lnTo>
                    <a:pt x="3526" y="1140"/>
                  </a:lnTo>
                  <a:lnTo>
                    <a:pt x="3531" y="1140"/>
                  </a:lnTo>
                  <a:lnTo>
                    <a:pt x="3531" y="1135"/>
                  </a:lnTo>
                  <a:lnTo>
                    <a:pt x="3536" y="1135"/>
                  </a:lnTo>
                  <a:lnTo>
                    <a:pt x="3536" y="1128"/>
                  </a:lnTo>
                  <a:lnTo>
                    <a:pt x="3540" y="1128"/>
                  </a:lnTo>
                  <a:lnTo>
                    <a:pt x="3540" y="1110"/>
                  </a:lnTo>
                  <a:lnTo>
                    <a:pt x="3545" y="1110"/>
                  </a:lnTo>
                  <a:lnTo>
                    <a:pt x="3545" y="1099"/>
                  </a:lnTo>
                  <a:lnTo>
                    <a:pt x="3550" y="1099"/>
                  </a:lnTo>
                  <a:lnTo>
                    <a:pt x="3550" y="1086"/>
                  </a:lnTo>
                  <a:lnTo>
                    <a:pt x="3554" y="1086"/>
                  </a:lnTo>
                  <a:lnTo>
                    <a:pt x="3554" y="1081"/>
                  </a:lnTo>
                  <a:lnTo>
                    <a:pt x="3559" y="1081"/>
                  </a:lnTo>
                  <a:lnTo>
                    <a:pt x="3559" y="1069"/>
                  </a:lnTo>
                  <a:lnTo>
                    <a:pt x="3564" y="1069"/>
                  </a:lnTo>
                  <a:lnTo>
                    <a:pt x="3564" y="1052"/>
                  </a:lnTo>
                  <a:lnTo>
                    <a:pt x="3531" y="1052"/>
                  </a:lnTo>
                  <a:lnTo>
                    <a:pt x="3531" y="1058"/>
                  </a:lnTo>
                  <a:lnTo>
                    <a:pt x="3511" y="1058"/>
                  </a:lnTo>
                  <a:lnTo>
                    <a:pt x="3511" y="1063"/>
                  </a:lnTo>
                  <a:lnTo>
                    <a:pt x="3492" y="1063"/>
                  </a:lnTo>
                  <a:lnTo>
                    <a:pt x="3492" y="1069"/>
                  </a:lnTo>
                  <a:lnTo>
                    <a:pt x="3477" y="1069"/>
                  </a:lnTo>
                  <a:lnTo>
                    <a:pt x="3477" y="1075"/>
                  </a:lnTo>
                  <a:lnTo>
                    <a:pt x="3454" y="1075"/>
                  </a:lnTo>
                  <a:lnTo>
                    <a:pt x="3454" y="1081"/>
                  </a:lnTo>
                  <a:lnTo>
                    <a:pt x="3435" y="1081"/>
                  </a:lnTo>
                  <a:lnTo>
                    <a:pt x="3435" y="1086"/>
                  </a:lnTo>
                  <a:lnTo>
                    <a:pt x="3415" y="1086"/>
                  </a:lnTo>
                  <a:lnTo>
                    <a:pt x="3415" y="1094"/>
                  </a:lnTo>
                  <a:lnTo>
                    <a:pt x="3406" y="1094"/>
                  </a:lnTo>
                  <a:lnTo>
                    <a:pt x="3406" y="1099"/>
                  </a:lnTo>
                  <a:lnTo>
                    <a:pt x="3391" y="1099"/>
                  </a:lnTo>
                  <a:lnTo>
                    <a:pt x="3391" y="1105"/>
                  </a:lnTo>
                  <a:lnTo>
                    <a:pt x="3377" y="1105"/>
                  </a:lnTo>
                  <a:lnTo>
                    <a:pt x="3377" y="1110"/>
                  </a:lnTo>
                  <a:lnTo>
                    <a:pt x="3357" y="1110"/>
                  </a:lnTo>
                  <a:lnTo>
                    <a:pt x="3357" y="1116"/>
                  </a:lnTo>
                  <a:lnTo>
                    <a:pt x="3343" y="1116"/>
                  </a:lnTo>
                  <a:lnTo>
                    <a:pt x="3343" y="1123"/>
                  </a:lnTo>
                  <a:lnTo>
                    <a:pt x="3338" y="1123"/>
                  </a:lnTo>
                  <a:lnTo>
                    <a:pt x="3338" y="1128"/>
                  </a:lnTo>
                  <a:lnTo>
                    <a:pt x="3333" y="1128"/>
                  </a:lnTo>
                  <a:lnTo>
                    <a:pt x="3333" y="1135"/>
                  </a:lnTo>
                  <a:lnTo>
                    <a:pt x="3329" y="1135"/>
                  </a:lnTo>
                  <a:lnTo>
                    <a:pt x="3329" y="1140"/>
                  </a:lnTo>
                  <a:lnTo>
                    <a:pt x="3319" y="1140"/>
                  </a:lnTo>
                  <a:lnTo>
                    <a:pt x="3319" y="1153"/>
                  </a:lnTo>
                  <a:lnTo>
                    <a:pt x="3314" y="1153"/>
                  </a:lnTo>
                  <a:lnTo>
                    <a:pt x="3314" y="1159"/>
                  </a:lnTo>
                  <a:lnTo>
                    <a:pt x="3310" y="1159"/>
                  </a:lnTo>
                  <a:lnTo>
                    <a:pt x="3310" y="1164"/>
                  </a:lnTo>
                  <a:lnTo>
                    <a:pt x="3296" y="1164"/>
                  </a:lnTo>
                  <a:lnTo>
                    <a:pt x="3296" y="1176"/>
                  </a:lnTo>
                  <a:lnTo>
                    <a:pt x="3276" y="1176"/>
                  </a:lnTo>
                  <a:lnTo>
                    <a:pt x="3276" y="1181"/>
                  </a:lnTo>
                  <a:lnTo>
                    <a:pt x="3256" y="1181"/>
                  </a:lnTo>
                  <a:lnTo>
                    <a:pt x="3256" y="1176"/>
                  </a:lnTo>
                  <a:lnTo>
                    <a:pt x="3248" y="1176"/>
                  </a:lnTo>
                  <a:lnTo>
                    <a:pt x="3248" y="1170"/>
                  </a:lnTo>
                  <a:lnTo>
                    <a:pt x="3166" y="1170"/>
                  </a:lnTo>
                  <a:lnTo>
                    <a:pt x="3166" y="1164"/>
                  </a:lnTo>
                  <a:lnTo>
                    <a:pt x="3156" y="1164"/>
                  </a:lnTo>
                  <a:lnTo>
                    <a:pt x="3156" y="1159"/>
                  </a:lnTo>
                  <a:lnTo>
                    <a:pt x="3147" y="1159"/>
                  </a:lnTo>
                  <a:lnTo>
                    <a:pt x="3147" y="1153"/>
                  </a:lnTo>
                  <a:lnTo>
                    <a:pt x="3136" y="1153"/>
                  </a:lnTo>
                  <a:lnTo>
                    <a:pt x="3136" y="1146"/>
                  </a:lnTo>
                  <a:lnTo>
                    <a:pt x="3118" y="1146"/>
                  </a:lnTo>
                  <a:lnTo>
                    <a:pt x="3118" y="1140"/>
                  </a:lnTo>
                  <a:lnTo>
                    <a:pt x="3108" y="1140"/>
                  </a:lnTo>
                  <a:lnTo>
                    <a:pt x="3108" y="1135"/>
                  </a:lnTo>
                  <a:lnTo>
                    <a:pt x="3093" y="1135"/>
                  </a:lnTo>
                  <a:lnTo>
                    <a:pt x="3093" y="1128"/>
                  </a:lnTo>
                  <a:lnTo>
                    <a:pt x="3079" y="1128"/>
                  </a:lnTo>
                  <a:lnTo>
                    <a:pt x="3079" y="1123"/>
                  </a:lnTo>
                  <a:lnTo>
                    <a:pt x="3059" y="1123"/>
                  </a:lnTo>
                  <a:lnTo>
                    <a:pt x="3059" y="1116"/>
                  </a:lnTo>
                  <a:lnTo>
                    <a:pt x="3041" y="1116"/>
                  </a:lnTo>
                  <a:lnTo>
                    <a:pt x="3041" y="1110"/>
                  </a:lnTo>
                  <a:lnTo>
                    <a:pt x="3026" y="1110"/>
                  </a:lnTo>
                  <a:lnTo>
                    <a:pt x="3026" y="1105"/>
                  </a:lnTo>
                  <a:lnTo>
                    <a:pt x="3007" y="1105"/>
                  </a:lnTo>
                  <a:lnTo>
                    <a:pt x="3007" y="1099"/>
                  </a:lnTo>
                  <a:lnTo>
                    <a:pt x="2982" y="1099"/>
                  </a:lnTo>
                  <a:lnTo>
                    <a:pt x="2982" y="1094"/>
                  </a:lnTo>
                  <a:lnTo>
                    <a:pt x="2973" y="1094"/>
                  </a:lnTo>
                  <a:lnTo>
                    <a:pt x="2973" y="1086"/>
                  </a:lnTo>
                  <a:lnTo>
                    <a:pt x="2959" y="1086"/>
                  </a:lnTo>
                  <a:lnTo>
                    <a:pt x="2959" y="1081"/>
                  </a:lnTo>
                  <a:lnTo>
                    <a:pt x="2954" y="1081"/>
                  </a:lnTo>
                  <a:lnTo>
                    <a:pt x="2954" y="1075"/>
                  </a:lnTo>
                  <a:lnTo>
                    <a:pt x="2945" y="1075"/>
                  </a:lnTo>
                  <a:lnTo>
                    <a:pt x="2945" y="1069"/>
                  </a:lnTo>
                  <a:lnTo>
                    <a:pt x="2941" y="1069"/>
                  </a:lnTo>
                  <a:lnTo>
                    <a:pt x="2941" y="1040"/>
                  </a:lnTo>
                  <a:lnTo>
                    <a:pt x="2935" y="1040"/>
                  </a:lnTo>
                  <a:lnTo>
                    <a:pt x="2935" y="1010"/>
                  </a:lnTo>
                  <a:lnTo>
                    <a:pt x="2941" y="1010"/>
                  </a:lnTo>
                  <a:lnTo>
                    <a:pt x="2941" y="993"/>
                  </a:lnTo>
                  <a:lnTo>
                    <a:pt x="2945" y="993"/>
                  </a:lnTo>
                  <a:lnTo>
                    <a:pt x="2945" y="982"/>
                  </a:lnTo>
                  <a:lnTo>
                    <a:pt x="2950" y="982"/>
                  </a:lnTo>
                  <a:lnTo>
                    <a:pt x="2950" y="963"/>
                  </a:lnTo>
                  <a:lnTo>
                    <a:pt x="2954" y="963"/>
                  </a:lnTo>
                  <a:lnTo>
                    <a:pt x="2954" y="940"/>
                  </a:lnTo>
                  <a:lnTo>
                    <a:pt x="2959" y="940"/>
                  </a:lnTo>
                  <a:lnTo>
                    <a:pt x="2959" y="899"/>
                  </a:lnTo>
                  <a:lnTo>
                    <a:pt x="2954" y="899"/>
                  </a:lnTo>
                  <a:lnTo>
                    <a:pt x="2954" y="881"/>
                  </a:lnTo>
                  <a:lnTo>
                    <a:pt x="2959" y="881"/>
                  </a:lnTo>
                  <a:lnTo>
                    <a:pt x="2959" y="863"/>
                  </a:lnTo>
                  <a:lnTo>
                    <a:pt x="2964" y="863"/>
                  </a:lnTo>
                  <a:lnTo>
                    <a:pt x="2964" y="846"/>
                  </a:lnTo>
                  <a:lnTo>
                    <a:pt x="2968" y="846"/>
                  </a:lnTo>
                  <a:lnTo>
                    <a:pt x="2968" y="827"/>
                  </a:lnTo>
                  <a:lnTo>
                    <a:pt x="2973" y="827"/>
                  </a:lnTo>
                  <a:lnTo>
                    <a:pt x="2973" y="814"/>
                  </a:lnTo>
                  <a:lnTo>
                    <a:pt x="2978" y="814"/>
                  </a:lnTo>
                  <a:lnTo>
                    <a:pt x="2978" y="798"/>
                  </a:lnTo>
                  <a:lnTo>
                    <a:pt x="2982" y="798"/>
                  </a:lnTo>
                  <a:lnTo>
                    <a:pt x="2982" y="786"/>
                  </a:lnTo>
                  <a:lnTo>
                    <a:pt x="2988" y="786"/>
                  </a:lnTo>
                  <a:lnTo>
                    <a:pt x="2988" y="768"/>
                  </a:lnTo>
                  <a:lnTo>
                    <a:pt x="2992" y="768"/>
                  </a:lnTo>
                  <a:lnTo>
                    <a:pt x="2992" y="745"/>
                  </a:lnTo>
                  <a:lnTo>
                    <a:pt x="2997" y="745"/>
                  </a:lnTo>
                  <a:lnTo>
                    <a:pt x="2997" y="703"/>
                  </a:lnTo>
                  <a:lnTo>
                    <a:pt x="3003" y="703"/>
                  </a:lnTo>
                  <a:lnTo>
                    <a:pt x="3003" y="691"/>
                  </a:lnTo>
                  <a:lnTo>
                    <a:pt x="3007" y="691"/>
                  </a:lnTo>
                  <a:lnTo>
                    <a:pt x="3007" y="673"/>
                  </a:lnTo>
                  <a:lnTo>
                    <a:pt x="2997" y="673"/>
                  </a:lnTo>
                  <a:lnTo>
                    <a:pt x="2997" y="667"/>
                  </a:lnTo>
                  <a:lnTo>
                    <a:pt x="2978" y="667"/>
                  </a:lnTo>
                  <a:lnTo>
                    <a:pt x="2978" y="662"/>
                  </a:lnTo>
                  <a:lnTo>
                    <a:pt x="2959" y="662"/>
                  </a:lnTo>
                  <a:lnTo>
                    <a:pt x="2959" y="655"/>
                  </a:lnTo>
                  <a:lnTo>
                    <a:pt x="2935" y="655"/>
                  </a:lnTo>
                  <a:lnTo>
                    <a:pt x="2935" y="650"/>
                  </a:lnTo>
                  <a:lnTo>
                    <a:pt x="2911" y="650"/>
                  </a:lnTo>
                  <a:lnTo>
                    <a:pt x="2911" y="645"/>
                  </a:lnTo>
                  <a:lnTo>
                    <a:pt x="2897" y="645"/>
                  </a:lnTo>
                  <a:lnTo>
                    <a:pt x="2897" y="637"/>
                  </a:lnTo>
                  <a:lnTo>
                    <a:pt x="2878" y="637"/>
                  </a:lnTo>
                  <a:lnTo>
                    <a:pt x="2878" y="632"/>
                  </a:lnTo>
                  <a:lnTo>
                    <a:pt x="2859" y="632"/>
                  </a:lnTo>
                  <a:lnTo>
                    <a:pt x="2859" y="626"/>
                  </a:lnTo>
                  <a:lnTo>
                    <a:pt x="2834" y="626"/>
                  </a:lnTo>
                  <a:lnTo>
                    <a:pt x="2834" y="621"/>
                  </a:lnTo>
                  <a:lnTo>
                    <a:pt x="2820" y="621"/>
                  </a:lnTo>
                  <a:lnTo>
                    <a:pt x="2820" y="614"/>
                  </a:lnTo>
                  <a:lnTo>
                    <a:pt x="2801" y="614"/>
                  </a:lnTo>
                  <a:lnTo>
                    <a:pt x="2801" y="609"/>
                  </a:lnTo>
                  <a:lnTo>
                    <a:pt x="2781" y="609"/>
                  </a:lnTo>
                  <a:lnTo>
                    <a:pt x="2781" y="602"/>
                  </a:lnTo>
                  <a:lnTo>
                    <a:pt x="2757" y="602"/>
                  </a:lnTo>
                  <a:lnTo>
                    <a:pt x="2757" y="596"/>
                  </a:lnTo>
                  <a:lnTo>
                    <a:pt x="2734" y="596"/>
                  </a:lnTo>
                  <a:lnTo>
                    <a:pt x="2734" y="591"/>
                  </a:lnTo>
                  <a:lnTo>
                    <a:pt x="2719" y="591"/>
                  </a:lnTo>
                  <a:lnTo>
                    <a:pt x="2719" y="585"/>
                  </a:lnTo>
                  <a:lnTo>
                    <a:pt x="2708" y="585"/>
                  </a:lnTo>
                  <a:lnTo>
                    <a:pt x="2708" y="579"/>
                  </a:lnTo>
                  <a:lnTo>
                    <a:pt x="2690" y="579"/>
                  </a:lnTo>
                  <a:lnTo>
                    <a:pt x="2690" y="572"/>
                  </a:lnTo>
                  <a:lnTo>
                    <a:pt x="2666" y="572"/>
                  </a:lnTo>
                  <a:lnTo>
                    <a:pt x="2666" y="567"/>
                  </a:lnTo>
                  <a:lnTo>
                    <a:pt x="2647" y="567"/>
                  </a:lnTo>
                  <a:lnTo>
                    <a:pt x="2647" y="561"/>
                  </a:lnTo>
                  <a:lnTo>
                    <a:pt x="2627" y="561"/>
                  </a:lnTo>
                  <a:lnTo>
                    <a:pt x="2627" y="555"/>
                  </a:lnTo>
                  <a:lnTo>
                    <a:pt x="2609" y="555"/>
                  </a:lnTo>
                  <a:lnTo>
                    <a:pt x="2609" y="550"/>
                  </a:lnTo>
                  <a:lnTo>
                    <a:pt x="2594" y="550"/>
                  </a:lnTo>
                  <a:lnTo>
                    <a:pt x="2594" y="544"/>
                  </a:lnTo>
                  <a:lnTo>
                    <a:pt x="2584" y="544"/>
                  </a:lnTo>
                  <a:lnTo>
                    <a:pt x="2584" y="537"/>
                  </a:lnTo>
                  <a:lnTo>
                    <a:pt x="2566" y="537"/>
                  </a:lnTo>
                  <a:lnTo>
                    <a:pt x="2566" y="531"/>
                  </a:lnTo>
                  <a:lnTo>
                    <a:pt x="2541" y="531"/>
                  </a:lnTo>
                  <a:lnTo>
                    <a:pt x="2541" y="526"/>
                  </a:lnTo>
                  <a:lnTo>
                    <a:pt x="2517" y="526"/>
                  </a:lnTo>
                  <a:lnTo>
                    <a:pt x="2517" y="520"/>
                  </a:lnTo>
                  <a:lnTo>
                    <a:pt x="2498" y="520"/>
                  </a:lnTo>
                  <a:lnTo>
                    <a:pt x="2498" y="514"/>
                  </a:lnTo>
                  <a:lnTo>
                    <a:pt x="2479" y="514"/>
                  </a:lnTo>
                  <a:lnTo>
                    <a:pt x="2479" y="509"/>
                  </a:lnTo>
                  <a:lnTo>
                    <a:pt x="2464" y="509"/>
                  </a:lnTo>
                  <a:lnTo>
                    <a:pt x="2464" y="502"/>
                  </a:lnTo>
                  <a:lnTo>
                    <a:pt x="2454" y="502"/>
                  </a:lnTo>
                  <a:lnTo>
                    <a:pt x="2454" y="496"/>
                  </a:lnTo>
                  <a:lnTo>
                    <a:pt x="2445" y="496"/>
                  </a:lnTo>
                  <a:lnTo>
                    <a:pt x="2445" y="490"/>
                  </a:lnTo>
                  <a:lnTo>
                    <a:pt x="2431" y="490"/>
                  </a:lnTo>
                  <a:lnTo>
                    <a:pt x="2431" y="485"/>
                  </a:lnTo>
                  <a:lnTo>
                    <a:pt x="2416" y="485"/>
                  </a:lnTo>
                  <a:lnTo>
                    <a:pt x="2416" y="479"/>
                  </a:lnTo>
                  <a:lnTo>
                    <a:pt x="2402" y="479"/>
                  </a:lnTo>
                  <a:lnTo>
                    <a:pt x="2402" y="473"/>
                  </a:lnTo>
                  <a:lnTo>
                    <a:pt x="2387" y="473"/>
                  </a:lnTo>
                  <a:lnTo>
                    <a:pt x="2387" y="468"/>
                  </a:lnTo>
                  <a:lnTo>
                    <a:pt x="2373" y="468"/>
                  </a:lnTo>
                  <a:lnTo>
                    <a:pt x="2373" y="460"/>
                  </a:lnTo>
                  <a:lnTo>
                    <a:pt x="2359" y="460"/>
                  </a:lnTo>
                  <a:lnTo>
                    <a:pt x="2359" y="455"/>
                  </a:lnTo>
                  <a:lnTo>
                    <a:pt x="2350" y="455"/>
                  </a:lnTo>
                  <a:lnTo>
                    <a:pt x="2350" y="449"/>
                  </a:lnTo>
                  <a:lnTo>
                    <a:pt x="2334" y="449"/>
                  </a:lnTo>
                  <a:lnTo>
                    <a:pt x="2334" y="444"/>
                  </a:lnTo>
                  <a:lnTo>
                    <a:pt x="2320" y="444"/>
                  </a:lnTo>
                  <a:lnTo>
                    <a:pt x="2320" y="436"/>
                  </a:lnTo>
                  <a:lnTo>
                    <a:pt x="2310" y="436"/>
                  </a:lnTo>
                  <a:lnTo>
                    <a:pt x="2310" y="431"/>
                  </a:lnTo>
                  <a:lnTo>
                    <a:pt x="2301" y="431"/>
                  </a:lnTo>
                  <a:lnTo>
                    <a:pt x="2301" y="426"/>
                  </a:lnTo>
                  <a:lnTo>
                    <a:pt x="2282" y="426"/>
                  </a:lnTo>
                  <a:lnTo>
                    <a:pt x="2282" y="419"/>
                  </a:lnTo>
                  <a:lnTo>
                    <a:pt x="2272" y="419"/>
                  </a:lnTo>
                  <a:lnTo>
                    <a:pt x="2272" y="414"/>
                  </a:lnTo>
                  <a:lnTo>
                    <a:pt x="2262" y="414"/>
                  </a:lnTo>
                  <a:lnTo>
                    <a:pt x="2262" y="408"/>
                  </a:lnTo>
                  <a:lnTo>
                    <a:pt x="2248" y="408"/>
                  </a:lnTo>
                  <a:lnTo>
                    <a:pt x="2248" y="401"/>
                  </a:lnTo>
                  <a:lnTo>
                    <a:pt x="2239" y="401"/>
                  </a:lnTo>
                  <a:lnTo>
                    <a:pt x="2239" y="395"/>
                  </a:lnTo>
                  <a:lnTo>
                    <a:pt x="2225" y="395"/>
                  </a:lnTo>
                  <a:lnTo>
                    <a:pt x="2225" y="390"/>
                  </a:lnTo>
                  <a:lnTo>
                    <a:pt x="2210" y="390"/>
                  </a:lnTo>
                  <a:lnTo>
                    <a:pt x="2210" y="384"/>
                  </a:lnTo>
                  <a:lnTo>
                    <a:pt x="2199" y="384"/>
                  </a:lnTo>
                  <a:lnTo>
                    <a:pt x="2199" y="378"/>
                  </a:lnTo>
                  <a:lnTo>
                    <a:pt x="2181" y="378"/>
                  </a:lnTo>
                  <a:lnTo>
                    <a:pt x="2181" y="373"/>
                  </a:lnTo>
                  <a:lnTo>
                    <a:pt x="2166" y="373"/>
                  </a:lnTo>
                  <a:lnTo>
                    <a:pt x="2166" y="366"/>
                  </a:lnTo>
                  <a:lnTo>
                    <a:pt x="2147" y="366"/>
                  </a:lnTo>
                  <a:lnTo>
                    <a:pt x="2147" y="360"/>
                  </a:lnTo>
                  <a:lnTo>
                    <a:pt x="2128" y="360"/>
                  </a:lnTo>
                  <a:lnTo>
                    <a:pt x="2128" y="354"/>
                  </a:lnTo>
                  <a:lnTo>
                    <a:pt x="2103" y="354"/>
                  </a:lnTo>
                  <a:lnTo>
                    <a:pt x="2103" y="349"/>
                  </a:lnTo>
                  <a:lnTo>
                    <a:pt x="2085" y="349"/>
                  </a:lnTo>
                  <a:lnTo>
                    <a:pt x="2085" y="341"/>
                  </a:lnTo>
                  <a:lnTo>
                    <a:pt x="2055" y="341"/>
                  </a:lnTo>
                  <a:lnTo>
                    <a:pt x="2055" y="336"/>
                  </a:lnTo>
                  <a:lnTo>
                    <a:pt x="2036" y="336"/>
                  </a:lnTo>
                  <a:lnTo>
                    <a:pt x="2036" y="330"/>
                  </a:lnTo>
                  <a:lnTo>
                    <a:pt x="2027" y="330"/>
                  </a:lnTo>
                  <a:lnTo>
                    <a:pt x="2027" y="325"/>
                  </a:lnTo>
                  <a:lnTo>
                    <a:pt x="2018" y="325"/>
                  </a:lnTo>
                  <a:lnTo>
                    <a:pt x="2018" y="319"/>
                  </a:lnTo>
                  <a:lnTo>
                    <a:pt x="1999" y="319"/>
                  </a:lnTo>
                  <a:lnTo>
                    <a:pt x="1999" y="313"/>
                  </a:lnTo>
                  <a:lnTo>
                    <a:pt x="1974" y="313"/>
                  </a:lnTo>
                  <a:lnTo>
                    <a:pt x="1974" y="308"/>
                  </a:lnTo>
                  <a:lnTo>
                    <a:pt x="1959" y="308"/>
                  </a:lnTo>
                  <a:lnTo>
                    <a:pt x="1959" y="300"/>
                  </a:lnTo>
                  <a:lnTo>
                    <a:pt x="1950" y="300"/>
                  </a:lnTo>
                  <a:lnTo>
                    <a:pt x="1950" y="295"/>
                  </a:lnTo>
                  <a:lnTo>
                    <a:pt x="1918" y="295"/>
                  </a:lnTo>
                  <a:lnTo>
                    <a:pt x="1918" y="289"/>
                  </a:lnTo>
                  <a:lnTo>
                    <a:pt x="1902" y="289"/>
                  </a:lnTo>
                  <a:lnTo>
                    <a:pt x="1902" y="283"/>
                  </a:lnTo>
                  <a:lnTo>
                    <a:pt x="1888" y="283"/>
                  </a:lnTo>
                  <a:lnTo>
                    <a:pt x="1888" y="278"/>
                  </a:lnTo>
                  <a:lnTo>
                    <a:pt x="1878" y="278"/>
                  </a:lnTo>
                  <a:lnTo>
                    <a:pt x="1878" y="272"/>
                  </a:lnTo>
                  <a:lnTo>
                    <a:pt x="1864" y="272"/>
                  </a:lnTo>
                  <a:lnTo>
                    <a:pt x="1864" y="267"/>
                  </a:lnTo>
                  <a:lnTo>
                    <a:pt x="1841" y="267"/>
                  </a:lnTo>
                  <a:lnTo>
                    <a:pt x="1841" y="259"/>
                  </a:lnTo>
                  <a:lnTo>
                    <a:pt x="1825" y="259"/>
                  </a:lnTo>
                  <a:lnTo>
                    <a:pt x="1825" y="254"/>
                  </a:lnTo>
                  <a:lnTo>
                    <a:pt x="1801" y="254"/>
                  </a:lnTo>
                  <a:lnTo>
                    <a:pt x="1801" y="248"/>
                  </a:lnTo>
                  <a:lnTo>
                    <a:pt x="1788" y="248"/>
                  </a:lnTo>
                  <a:lnTo>
                    <a:pt x="1788" y="242"/>
                  </a:lnTo>
                  <a:lnTo>
                    <a:pt x="1767" y="242"/>
                  </a:lnTo>
                  <a:lnTo>
                    <a:pt x="1767" y="235"/>
                  </a:lnTo>
                  <a:lnTo>
                    <a:pt x="1748" y="235"/>
                  </a:lnTo>
                  <a:lnTo>
                    <a:pt x="1748" y="230"/>
                  </a:lnTo>
                  <a:lnTo>
                    <a:pt x="1729" y="230"/>
                  </a:lnTo>
                  <a:lnTo>
                    <a:pt x="1729" y="224"/>
                  </a:lnTo>
                  <a:lnTo>
                    <a:pt x="1706" y="224"/>
                  </a:lnTo>
                  <a:lnTo>
                    <a:pt x="1706" y="218"/>
                  </a:lnTo>
                  <a:lnTo>
                    <a:pt x="1695" y="218"/>
                  </a:lnTo>
                  <a:lnTo>
                    <a:pt x="1695" y="213"/>
                  </a:lnTo>
                  <a:lnTo>
                    <a:pt x="1681" y="213"/>
                  </a:lnTo>
                  <a:lnTo>
                    <a:pt x="1681" y="207"/>
                  </a:lnTo>
                  <a:lnTo>
                    <a:pt x="1657" y="207"/>
                  </a:lnTo>
                  <a:lnTo>
                    <a:pt x="1657" y="200"/>
                  </a:lnTo>
                  <a:lnTo>
                    <a:pt x="1643" y="200"/>
                  </a:lnTo>
                  <a:lnTo>
                    <a:pt x="1643" y="194"/>
                  </a:lnTo>
                  <a:lnTo>
                    <a:pt x="1634" y="194"/>
                  </a:lnTo>
                  <a:lnTo>
                    <a:pt x="1634" y="189"/>
                  </a:lnTo>
                  <a:lnTo>
                    <a:pt x="1595" y="189"/>
                  </a:lnTo>
                  <a:lnTo>
                    <a:pt x="1595" y="182"/>
                  </a:lnTo>
                  <a:lnTo>
                    <a:pt x="1571" y="182"/>
                  </a:lnTo>
                  <a:lnTo>
                    <a:pt x="1571" y="177"/>
                  </a:lnTo>
                  <a:lnTo>
                    <a:pt x="1552" y="177"/>
                  </a:lnTo>
                  <a:lnTo>
                    <a:pt x="1552" y="172"/>
                  </a:lnTo>
                  <a:lnTo>
                    <a:pt x="1518" y="172"/>
                  </a:lnTo>
                  <a:lnTo>
                    <a:pt x="1518" y="164"/>
                  </a:lnTo>
                  <a:lnTo>
                    <a:pt x="1508" y="164"/>
                  </a:lnTo>
                  <a:lnTo>
                    <a:pt x="1508" y="159"/>
                  </a:lnTo>
                  <a:lnTo>
                    <a:pt x="1490" y="159"/>
                  </a:lnTo>
                  <a:lnTo>
                    <a:pt x="1490" y="153"/>
                  </a:lnTo>
                  <a:lnTo>
                    <a:pt x="1451" y="153"/>
                  </a:lnTo>
                  <a:lnTo>
                    <a:pt x="1451" y="148"/>
                  </a:lnTo>
                  <a:lnTo>
                    <a:pt x="1431" y="148"/>
                  </a:lnTo>
                  <a:lnTo>
                    <a:pt x="1431" y="141"/>
                  </a:lnTo>
                  <a:lnTo>
                    <a:pt x="1413" y="141"/>
                  </a:lnTo>
                  <a:lnTo>
                    <a:pt x="1413" y="136"/>
                  </a:lnTo>
                  <a:lnTo>
                    <a:pt x="1383" y="136"/>
                  </a:lnTo>
                  <a:lnTo>
                    <a:pt x="1383" y="131"/>
                  </a:lnTo>
                  <a:lnTo>
                    <a:pt x="1360" y="131"/>
                  </a:lnTo>
                  <a:lnTo>
                    <a:pt x="1360" y="123"/>
                  </a:lnTo>
                  <a:lnTo>
                    <a:pt x="1336" y="123"/>
                  </a:lnTo>
                  <a:lnTo>
                    <a:pt x="1336" y="118"/>
                  </a:lnTo>
                  <a:lnTo>
                    <a:pt x="1264" y="118"/>
                  </a:lnTo>
                  <a:lnTo>
                    <a:pt x="1264" y="113"/>
                  </a:lnTo>
                  <a:lnTo>
                    <a:pt x="1220" y="113"/>
                  </a:lnTo>
                  <a:lnTo>
                    <a:pt x="1220" y="106"/>
                  </a:lnTo>
                  <a:lnTo>
                    <a:pt x="1202" y="106"/>
                  </a:lnTo>
                  <a:lnTo>
                    <a:pt x="1202" y="101"/>
                  </a:lnTo>
                  <a:lnTo>
                    <a:pt x="1172" y="101"/>
                  </a:lnTo>
                  <a:lnTo>
                    <a:pt x="1172" y="94"/>
                  </a:lnTo>
                  <a:lnTo>
                    <a:pt x="1139" y="94"/>
                  </a:lnTo>
                  <a:lnTo>
                    <a:pt x="1139" y="88"/>
                  </a:lnTo>
                  <a:lnTo>
                    <a:pt x="1105" y="88"/>
                  </a:lnTo>
                  <a:lnTo>
                    <a:pt x="1105" y="82"/>
                  </a:lnTo>
                  <a:lnTo>
                    <a:pt x="1053" y="82"/>
                  </a:lnTo>
                  <a:lnTo>
                    <a:pt x="1053" y="77"/>
                  </a:lnTo>
                  <a:lnTo>
                    <a:pt x="1028" y="77"/>
                  </a:lnTo>
                  <a:lnTo>
                    <a:pt x="1028" y="82"/>
                  </a:lnTo>
                  <a:lnTo>
                    <a:pt x="1013" y="82"/>
                  </a:lnTo>
                  <a:lnTo>
                    <a:pt x="1013" y="77"/>
                  </a:lnTo>
                  <a:lnTo>
                    <a:pt x="1009" y="77"/>
                  </a:lnTo>
                  <a:lnTo>
                    <a:pt x="1009" y="64"/>
                  </a:lnTo>
                  <a:lnTo>
                    <a:pt x="990" y="64"/>
                  </a:lnTo>
                  <a:lnTo>
                    <a:pt x="990" y="71"/>
                  </a:lnTo>
                  <a:lnTo>
                    <a:pt x="976" y="71"/>
                  </a:lnTo>
                  <a:lnTo>
                    <a:pt x="976" y="77"/>
                  </a:lnTo>
                  <a:lnTo>
                    <a:pt x="946" y="77"/>
                  </a:lnTo>
                  <a:lnTo>
                    <a:pt x="946" y="82"/>
                  </a:lnTo>
                  <a:lnTo>
                    <a:pt x="942" y="82"/>
                  </a:lnTo>
                  <a:lnTo>
                    <a:pt x="942" y="88"/>
                  </a:lnTo>
                  <a:lnTo>
                    <a:pt x="932" y="88"/>
                  </a:lnTo>
                  <a:lnTo>
                    <a:pt x="932" y="94"/>
                  </a:lnTo>
                  <a:lnTo>
                    <a:pt x="923" y="94"/>
                  </a:lnTo>
                  <a:lnTo>
                    <a:pt x="923" y="101"/>
                  </a:lnTo>
                  <a:lnTo>
                    <a:pt x="913" y="101"/>
                  </a:lnTo>
                  <a:lnTo>
                    <a:pt x="913" y="106"/>
                  </a:lnTo>
                  <a:lnTo>
                    <a:pt x="909" y="106"/>
                  </a:lnTo>
                  <a:lnTo>
                    <a:pt x="909" y="118"/>
                  </a:lnTo>
                  <a:lnTo>
                    <a:pt x="898" y="118"/>
                  </a:lnTo>
                  <a:lnTo>
                    <a:pt x="898" y="123"/>
                  </a:lnTo>
                  <a:lnTo>
                    <a:pt x="888" y="123"/>
                  </a:lnTo>
                  <a:lnTo>
                    <a:pt x="888" y="131"/>
                  </a:lnTo>
                  <a:lnTo>
                    <a:pt x="884" y="131"/>
                  </a:lnTo>
                  <a:lnTo>
                    <a:pt x="884" y="136"/>
                  </a:lnTo>
                  <a:lnTo>
                    <a:pt x="879" y="136"/>
                  </a:lnTo>
                  <a:lnTo>
                    <a:pt x="879" y="141"/>
                  </a:lnTo>
                  <a:lnTo>
                    <a:pt x="875" y="141"/>
                  </a:lnTo>
                  <a:lnTo>
                    <a:pt x="875" y="148"/>
                  </a:lnTo>
                  <a:lnTo>
                    <a:pt x="869" y="148"/>
                  </a:lnTo>
                  <a:lnTo>
                    <a:pt x="869" y="153"/>
                  </a:lnTo>
                  <a:lnTo>
                    <a:pt x="865" y="153"/>
                  </a:lnTo>
                  <a:lnTo>
                    <a:pt x="865" y="159"/>
                  </a:lnTo>
                  <a:lnTo>
                    <a:pt x="861" y="159"/>
                  </a:lnTo>
                  <a:lnTo>
                    <a:pt x="861" y="164"/>
                  </a:lnTo>
                  <a:lnTo>
                    <a:pt x="855" y="164"/>
                  </a:lnTo>
                  <a:lnTo>
                    <a:pt x="855" y="172"/>
                  </a:lnTo>
                  <a:lnTo>
                    <a:pt x="851" y="172"/>
                  </a:lnTo>
                  <a:lnTo>
                    <a:pt x="851" y="177"/>
                  </a:lnTo>
                  <a:lnTo>
                    <a:pt x="846" y="177"/>
                  </a:lnTo>
                  <a:lnTo>
                    <a:pt x="846" y="182"/>
                  </a:lnTo>
                  <a:lnTo>
                    <a:pt x="841" y="182"/>
                  </a:lnTo>
                  <a:lnTo>
                    <a:pt x="841" y="189"/>
                  </a:lnTo>
                  <a:lnTo>
                    <a:pt x="836" y="189"/>
                  </a:lnTo>
                  <a:lnTo>
                    <a:pt x="836" y="200"/>
                  </a:lnTo>
                  <a:lnTo>
                    <a:pt x="827" y="200"/>
                  </a:lnTo>
                  <a:lnTo>
                    <a:pt x="827" y="213"/>
                  </a:lnTo>
                  <a:lnTo>
                    <a:pt x="821" y="213"/>
                  </a:lnTo>
                  <a:lnTo>
                    <a:pt x="821" y="218"/>
                  </a:lnTo>
                  <a:lnTo>
                    <a:pt x="817" y="218"/>
                  </a:lnTo>
                  <a:lnTo>
                    <a:pt x="817" y="224"/>
                  </a:lnTo>
                  <a:lnTo>
                    <a:pt x="812" y="224"/>
                  </a:lnTo>
                  <a:lnTo>
                    <a:pt x="812" y="230"/>
                  </a:lnTo>
                  <a:lnTo>
                    <a:pt x="807" y="230"/>
                  </a:lnTo>
                  <a:lnTo>
                    <a:pt x="807" y="235"/>
                  </a:lnTo>
                  <a:lnTo>
                    <a:pt x="802" y="235"/>
                  </a:lnTo>
                  <a:lnTo>
                    <a:pt x="802" y="248"/>
                  </a:lnTo>
                  <a:lnTo>
                    <a:pt x="798" y="248"/>
                  </a:lnTo>
                  <a:lnTo>
                    <a:pt x="798" y="259"/>
                  </a:lnTo>
                  <a:lnTo>
                    <a:pt x="793" y="259"/>
                  </a:lnTo>
                  <a:lnTo>
                    <a:pt x="793" y="272"/>
                  </a:lnTo>
                  <a:lnTo>
                    <a:pt x="788" y="272"/>
                  </a:lnTo>
                  <a:lnTo>
                    <a:pt x="788" y="283"/>
                  </a:lnTo>
                  <a:lnTo>
                    <a:pt x="783" y="283"/>
                  </a:lnTo>
                  <a:lnTo>
                    <a:pt x="783" y="289"/>
                  </a:lnTo>
                  <a:lnTo>
                    <a:pt x="779" y="289"/>
                  </a:lnTo>
                  <a:lnTo>
                    <a:pt x="779" y="295"/>
                  </a:lnTo>
                  <a:lnTo>
                    <a:pt x="774" y="295"/>
                  </a:lnTo>
                  <a:lnTo>
                    <a:pt x="774" y="308"/>
                  </a:lnTo>
                  <a:lnTo>
                    <a:pt x="769" y="308"/>
                  </a:lnTo>
                  <a:lnTo>
                    <a:pt x="769" y="313"/>
                  </a:lnTo>
                  <a:lnTo>
                    <a:pt x="765" y="313"/>
                  </a:lnTo>
                  <a:lnTo>
                    <a:pt x="765" y="325"/>
                  </a:lnTo>
                  <a:lnTo>
                    <a:pt x="759" y="325"/>
                  </a:lnTo>
                  <a:lnTo>
                    <a:pt x="759" y="336"/>
                  </a:lnTo>
                  <a:lnTo>
                    <a:pt x="755" y="336"/>
                  </a:lnTo>
                  <a:lnTo>
                    <a:pt x="755" y="349"/>
                  </a:lnTo>
                  <a:lnTo>
                    <a:pt x="749" y="349"/>
                  </a:lnTo>
                  <a:lnTo>
                    <a:pt x="749" y="360"/>
                  </a:lnTo>
                  <a:lnTo>
                    <a:pt x="744" y="360"/>
                  </a:lnTo>
                  <a:lnTo>
                    <a:pt x="744" y="373"/>
                  </a:lnTo>
                  <a:lnTo>
                    <a:pt x="739" y="373"/>
                  </a:lnTo>
                  <a:lnTo>
                    <a:pt x="739" y="384"/>
                  </a:lnTo>
                  <a:lnTo>
                    <a:pt x="735" y="384"/>
                  </a:lnTo>
                  <a:lnTo>
                    <a:pt x="735" y="395"/>
                  </a:lnTo>
                  <a:lnTo>
                    <a:pt x="731" y="395"/>
                  </a:lnTo>
                  <a:lnTo>
                    <a:pt x="731" y="408"/>
                  </a:lnTo>
                  <a:lnTo>
                    <a:pt x="725" y="408"/>
                  </a:lnTo>
                  <a:lnTo>
                    <a:pt x="725" y="431"/>
                  </a:lnTo>
                  <a:lnTo>
                    <a:pt x="721" y="431"/>
                  </a:lnTo>
                  <a:lnTo>
                    <a:pt x="721" y="444"/>
                  </a:lnTo>
                  <a:lnTo>
                    <a:pt x="716" y="444"/>
                  </a:lnTo>
                  <a:lnTo>
                    <a:pt x="716" y="449"/>
                  </a:lnTo>
                  <a:lnTo>
                    <a:pt x="711" y="449"/>
                  </a:lnTo>
                  <a:lnTo>
                    <a:pt x="711" y="468"/>
                  </a:lnTo>
                  <a:lnTo>
                    <a:pt x="706" y="468"/>
                  </a:lnTo>
                  <a:lnTo>
                    <a:pt x="706" y="479"/>
                  </a:lnTo>
                  <a:lnTo>
                    <a:pt x="702" y="479"/>
                  </a:lnTo>
                  <a:lnTo>
                    <a:pt x="702" y="490"/>
                  </a:lnTo>
                  <a:lnTo>
                    <a:pt x="697" y="490"/>
                  </a:lnTo>
                  <a:lnTo>
                    <a:pt x="697" y="496"/>
                  </a:lnTo>
                  <a:lnTo>
                    <a:pt x="692" y="496"/>
                  </a:lnTo>
                  <a:lnTo>
                    <a:pt x="692" y="514"/>
                  </a:lnTo>
                  <a:lnTo>
                    <a:pt x="688" y="514"/>
                  </a:lnTo>
                  <a:lnTo>
                    <a:pt x="688" y="531"/>
                  </a:lnTo>
                  <a:lnTo>
                    <a:pt x="683" y="531"/>
                  </a:lnTo>
                  <a:lnTo>
                    <a:pt x="683" y="544"/>
                  </a:lnTo>
                  <a:lnTo>
                    <a:pt x="677" y="544"/>
                  </a:lnTo>
                  <a:lnTo>
                    <a:pt x="677" y="555"/>
                  </a:lnTo>
                  <a:lnTo>
                    <a:pt x="672" y="555"/>
                  </a:lnTo>
                  <a:lnTo>
                    <a:pt x="672" y="567"/>
                  </a:lnTo>
                  <a:lnTo>
                    <a:pt x="668" y="567"/>
                  </a:lnTo>
                  <a:lnTo>
                    <a:pt x="668" y="579"/>
                  </a:lnTo>
                  <a:lnTo>
                    <a:pt x="662" y="579"/>
                  </a:lnTo>
                  <a:lnTo>
                    <a:pt x="662" y="591"/>
                  </a:lnTo>
                  <a:lnTo>
                    <a:pt x="658" y="591"/>
                  </a:lnTo>
                  <a:lnTo>
                    <a:pt x="658" y="596"/>
                  </a:lnTo>
                  <a:lnTo>
                    <a:pt x="654" y="596"/>
                  </a:lnTo>
                  <a:lnTo>
                    <a:pt x="654" y="609"/>
                  </a:lnTo>
                  <a:lnTo>
                    <a:pt x="648" y="609"/>
                  </a:lnTo>
                  <a:lnTo>
                    <a:pt x="648" y="621"/>
                  </a:lnTo>
                  <a:lnTo>
                    <a:pt x="644" y="621"/>
                  </a:lnTo>
                  <a:lnTo>
                    <a:pt x="644" y="626"/>
                  </a:lnTo>
                  <a:lnTo>
                    <a:pt x="639" y="626"/>
                  </a:lnTo>
                  <a:lnTo>
                    <a:pt x="639" y="645"/>
                  </a:lnTo>
                  <a:lnTo>
                    <a:pt x="635" y="645"/>
                  </a:lnTo>
                  <a:lnTo>
                    <a:pt x="635" y="650"/>
                  </a:lnTo>
                  <a:lnTo>
                    <a:pt x="629" y="650"/>
                  </a:lnTo>
                  <a:lnTo>
                    <a:pt x="629" y="662"/>
                  </a:lnTo>
                  <a:lnTo>
                    <a:pt x="625" y="662"/>
                  </a:lnTo>
                  <a:lnTo>
                    <a:pt x="625" y="673"/>
                  </a:lnTo>
                  <a:lnTo>
                    <a:pt x="620" y="673"/>
                  </a:lnTo>
                  <a:lnTo>
                    <a:pt x="620" y="691"/>
                  </a:lnTo>
                  <a:lnTo>
                    <a:pt x="615" y="691"/>
                  </a:lnTo>
                  <a:lnTo>
                    <a:pt x="615" y="697"/>
                  </a:lnTo>
                  <a:lnTo>
                    <a:pt x="611" y="697"/>
                  </a:lnTo>
                  <a:lnTo>
                    <a:pt x="611" y="708"/>
                  </a:lnTo>
                  <a:lnTo>
                    <a:pt x="605" y="708"/>
                  </a:lnTo>
                  <a:lnTo>
                    <a:pt x="605" y="721"/>
                  </a:lnTo>
                  <a:lnTo>
                    <a:pt x="600" y="721"/>
                  </a:lnTo>
                  <a:lnTo>
                    <a:pt x="600" y="732"/>
                  </a:lnTo>
                  <a:lnTo>
                    <a:pt x="595" y="732"/>
                  </a:lnTo>
                  <a:lnTo>
                    <a:pt x="595" y="745"/>
                  </a:lnTo>
                  <a:lnTo>
                    <a:pt x="591" y="745"/>
                  </a:lnTo>
                  <a:lnTo>
                    <a:pt x="591" y="756"/>
                  </a:lnTo>
                  <a:lnTo>
                    <a:pt x="586" y="756"/>
                  </a:lnTo>
                  <a:lnTo>
                    <a:pt x="586" y="773"/>
                  </a:lnTo>
                  <a:lnTo>
                    <a:pt x="581" y="773"/>
                  </a:lnTo>
                  <a:lnTo>
                    <a:pt x="581" y="792"/>
                  </a:lnTo>
                  <a:lnTo>
                    <a:pt x="576" y="792"/>
                  </a:lnTo>
                  <a:lnTo>
                    <a:pt x="576" y="822"/>
                  </a:lnTo>
                  <a:lnTo>
                    <a:pt x="572" y="822"/>
                  </a:lnTo>
                  <a:lnTo>
                    <a:pt x="572" y="827"/>
                  </a:lnTo>
                  <a:lnTo>
                    <a:pt x="567" y="827"/>
                  </a:lnTo>
                  <a:lnTo>
                    <a:pt x="567" y="846"/>
                  </a:lnTo>
                  <a:lnTo>
                    <a:pt x="563" y="846"/>
                  </a:lnTo>
                  <a:lnTo>
                    <a:pt x="563" y="863"/>
                  </a:lnTo>
                  <a:lnTo>
                    <a:pt x="558" y="863"/>
                  </a:lnTo>
                  <a:lnTo>
                    <a:pt x="558" y="868"/>
                  </a:lnTo>
                  <a:lnTo>
                    <a:pt x="553" y="868"/>
                  </a:lnTo>
                  <a:lnTo>
                    <a:pt x="553" y="874"/>
                  </a:lnTo>
                  <a:lnTo>
                    <a:pt x="548" y="874"/>
                  </a:lnTo>
                  <a:lnTo>
                    <a:pt x="548" y="892"/>
                  </a:lnTo>
                  <a:lnTo>
                    <a:pt x="544" y="892"/>
                  </a:lnTo>
                  <a:lnTo>
                    <a:pt x="544" y="909"/>
                  </a:lnTo>
                  <a:lnTo>
                    <a:pt x="539" y="909"/>
                  </a:lnTo>
                  <a:lnTo>
                    <a:pt x="539" y="917"/>
                  </a:lnTo>
                  <a:lnTo>
                    <a:pt x="533" y="917"/>
                  </a:lnTo>
                  <a:lnTo>
                    <a:pt x="533" y="940"/>
                  </a:lnTo>
                  <a:lnTo>
                    <a:pt x="528" y="940"/>
                  </a:lnTo>
                  <a:lnTo>
                    <a:pt x="528" y="945"/>
                  </a:lnTo>
                  <a:lnTo>
                    <a:pt x="524" y="945"/>
                  </a:lnTo>
                  <a:lnTo>
                    <a:pt x="524" y="958"/>
                  </a:lnTo>
                  <a:lnTo>
                    <a:pt x="519" y="958"/>
                  </a:lnTo>
                  <a:lnTo>
                    <a:pt x="519" y="963"/>
                  </a:lnTo>
                  <a:lnTo>
                    <a:pt x="514" y="963"/>
                  </a:lnTo>
                  <a:lnTo>
                    <a:pt x="514" y="982"/>
                  </a:lnTo>
                  <a:lnTo>
                    <a:pt x="510" y="982"/>
                  </a:lnTo>
                  <a:lnTo>
                    <a:pt x="510" y="993"/>
                  </a:lnTo>
                  <a:lnTo>
                    <a:pt x="504" y="993"/>
                  </a:lnTo>
                  <a:lnTo>
                    <a:pt x="504" y="999"/>
                  </a:lnTo>
                  <a:lnTo>
                    <a:pt x="500" y="999"/>
                  </a:lnTo>
                  <a:lnTo>
                    <a:pt x="500" y="1010"/>
                  </a:lnTo>
                  <a:lnTo>
                    <a:pt x="495" y="1010"/>
                  </a:lnTo>
                  <a:lnTo>
                    <a:pt x="495" y="1028"/>
                  </a:lnTo>
                  <a:lnTo>
                    <a:pt x="491" y="1028"/>
                  </a:lnTo>
                  <a:lnTo>
                    <a:pt x="491" y="1045"/>
                  </a:lnTo>
                  <a:lnTo>
                    <a:pt x="485" y="1045"/>
                  </a:lnTo>
                  <a:lnTo>
                    <a:pt x="485" y="1069"/>
                  </a:lnTo>
                  <a:lnTo>
                    <a:pt x="481" y="1069"/>
                  </a:lnTo>
                  <a:lnTo>
                    <a:pt x="481" y="1081"/>
                  </a:lnTo>
                  <a:lnTo>
                    <a:pt x="477" y="1081"/>
                  </a:lnTo>
                  <a:lnTo>
                    <a:pt x="477" y="1110"/>
                  </a:lnTo>
                  <a:lnTo>
                    <a:pt x="471" y="1110"/>
                  </a:lnTo>
                  <a:lnTo>
                    <a:pt x="471" y="1135"/>
                  </a:lnTo>
                  <a:lnTo>
                    <a:pt x="467" y="1135"/>
                  </a:lnTo>
                  <a:lnTo>
                    <a:pt x="467" y="1140"/>
                  </a:lnTo>
                  <a:lnTo>
                    <a:pt x="461" y="1140"/>
                  </a:lnTo>
                  <a:lnTo>
                    <a:pt x="461" y="1170"/>
                  </a:lnTo>
                  <a:lnTo>
                    <a:pt x="456" y="1170"/>
                  </a:lnTo>
                  <a:lnTo>
                    <a:pt x="456" y="1176"/>
                  </a:lnTo>
                  <a:lnTo>
                    <a:pt x="451" y="1176"/>
                  </a:lnTo>
                  <a:lnTo>
                    <a:pt x="451" y="1194"/>
                  </a:lnTo>
                  <a:lnTo>
                    <a:pt x="447" y="1194"/>
                  </a:lnTo>
                  <a:lnTo>
                    <a:pt x="447" y="1212"/>
                  </a:lnTo>
                  <a:lnTo>
                    <a:pt x="442" y="1212"/>
                  </a:lnTo>
                  <a:lnTo>
                    <a:pt x="442" y="1229"/>
                  </a:lnTo>
                  <a:lnTo>
                    <a:pt x="437" y="1229"/>
                  </a:lnTo>
                  <a:lnTo>
                    <a:pt x="437" y="1241"/>
                  </a:lnTo>
                  <a:lnTo>
                    <a:pt x="433" y="1241"/>
                  </a:lnTo>
                  <a:lnTo>
                    <a:pt x="433" y="1254"/>
                  </a:lnTo>
                  <a:lnTo>
                    <a:pt x="428" y="1254"/>
                  </a:lnTo>
                  <a:lnTo>
                    <a:pt x="428" y="1265"/>
                  </a:lnTo>
                  <a:lnTo>
                    <a:pt x="423" y="1265"/>
                  </a:lnTo>
                  <a:lnTo>
                    <a:pt x="423" y="1276"/>
                  </a:lnTo>
                  <a:lnTo>
                    <a:pt x="418" y="1276"/>
                  </a:lnTo>
                  <a:lnTo>
                    <a:pt x="418" y="1300"/>
                  </a:lnTo>
                  <a:lnTo>
                    <a:pt x="414" y="1300"/>
                  </a:lnTo>
                  <a:lnTo>
                    <a:pt x="414" y="1317"/>
                  </a:lnTo>
                  <a:lnTo>
                    <a:pt x="409" y="1317"/>
                  </a:lnTo>
                  <a:lnTo>
                    <a:pt x="409" y="1341"/>
                  </a:lnTo>
                  <a:lnTo>
                    <a:pt x="404" y="1341"/>
                  </a:lnTo>
                  <a:lnTo>
                    <a:pt x="404" y="1360"/>
                  </a:lnTo>
                  <a:lnTo>
                    <a:pt x="400" y="1360"/>
                  </a:lnTo>
                  <a:lnTo>
                    <a:pt x="400" y="1390"/>
                  </a:lnTo>
                  <a:lnTo>
                    <a:pt x="395" y="1390"/>
                  </a:lnTo>
                  <a:lnTo>
                    <a:pt x="395" y="1401"/>
                  </a:lnTo>
                  <a:lnTo>
                    <a:pt x="389" y="1401"/>
                  </a:lnTo>
                  <a:lnTo>
                    <a:pt x="389" y="1412"/>
                  </a:lnTo>
                  <a:lnTo>
                    <a:pt x="384" y="1412"/>
                  </a:lnTo>
                  <a:lnTo>
                    <a:pt x="384" y="1431"/>
                  </a:lnTo>
                  <a:lnTo>
                    <a:pt x="380" y="1431"/>
                  </a:lnTo>
                  <a:lnTo>
                    <a:pt x="380" y="1453"/>
                  </a:lnTo>
                  <a:lnTo>
                    <a:pt x="374" y="1453"/>
                  </a:lnTo>
                  <a:lnTo>
                    <a:pt x="374" y="1482"/>
                  </a:lnTo>
                  <a:lnTo>
                    <a:pt x="370" y="1482"/>
                  </a:lnTo>
                  <a:lnTo>
                    <a:pt x="370" y="1494"/>
                  </a:lnTo>
                  <a:lnTo>
                    <a:pt x="365" y="1494"/>
                  </a:lnTo>
                  <a:lnTo>
                    <a:pt x="365" y="1513"/>
                  </a:lnTo>
                  <a:lnTo>
                    <a:pt x="360" y="1513"/>
                  </a:lnTo>
                  <a:lnTo>
                    <a:pt x="360" y="1524"/>
                  </a:lnTo>
                  <a:lnTo>
                    <a:pt x="356" y="1524"/>
                  </a:lnTo>
                  <a:lnTo>
                    <a:pt x="356" y="1548"/>
                  </a:lnTo>
                  <a:lnTo>
                    <a:pt x="351" y="1548"/>
                  </a:lnTo>
                  <a:lnTo>
                    <a:pt x="351" y="1567"/>
                  </a:lnTo>
                  <a:lnTo>
                    <a:pt x="347" y="1567"/>
                  </a:lnTo>
                  <a:lnTo>
                    <a:pt x="347" y="1578"/>
                  </a:lnTo>
                  <a:lnTo>
                    <a:pt x="341" y="1578"/>
                  </a:lnTo>
                  <a:lnTo>
                    <a:pt x="341" y="1589"/>
                  </a:lnTo>
                  <a:lnTo>
                    <a:pt x="337" y="1589"/>
                  </a:lnTo>
                  <a:lnTo>
                    <a:pt x="337" y="1608"/>
                  </a:lnTo>
                  <a:lnTo>
                    <a:pt x="332" y="1608"/>
                  </a:lnTo>
                  <a:lnTo>
                    <a:pt x="332" y="1626"/>
                  </a:lnTo>
                  <a:lnTo>
                    <a:pt x="327" y="1626"/>
                  </a:lnTo>
                  <a:lnTo>
                    <a:pt x="327" y="1643"/>
                  </a:lnTo>
                  <a:lnTo>
                    <a:pt x="322" y="1643"/>
                  </a:lnTo>
                  <a:lnTo>
                    <a:pt x="322" y="1654"/>
                  </a:lnTo>
                  <a:lnTo>
                    <a:pt x="317" y="1654"/>
                  </a:lnTo>
                  <a:lnTo>
                    <a:pt x="317" y="1673"/>
                  </a:lnTo>
                  <a:lnTo>
                    <a:pt x="312" y="1673"/>
                  </a:lnTo>
                  <a:lnTo>
                    <a:pt x="312" y="1685"/>
                  </a:lnTo>
                  <a:lnTo>
                    <a:pt x="307" y="1685"/>
                  </a:lnTo>
                  <a:lnTo>
                    <a:pt x="307" y="1702"/>
                  </a:lnTo>
                  <a:lnTo>
                    <a:pt x="303" y="1702"/>
                  </a:lnTo>
                  <a:lnTo>
                    <a:pt x="303" y="1719"/>
                  </a:lnTo>
                  <a:lnTo>
                    <a:pt x="298" y="1719"/>
                  </a:lnTo>
                  <a:lnTo>
                    <a:pt x="298" y="1732"/>
                  </a:lnTo>
                  <a:lnTo>
                    <a:pt x="293" y="1732"/>
                  </a:lnTo>
                  <a:lnTo>
                    <a:pt x="293" y="1749"/>
                  </a:lnTo>
                  <a:lnTo>
                    <a:pt x="288" y="1749"/>
                  </a:lnTo>
                  <a:lnTo>
                    <a:pt x="288" y="1768"/>
                  </a:lnTo>
                  <a:lnTo>
                    <a:pt x="284" y="1768"/>
                  </a:lnTo>
                  <a:lnTo>
                    <a:pt x="284" y="1785"/>
                  </a:lnTo>
                  <a:lnTo>
                    <a:pt x="278" y="1785"/>
                  </a:lnTo>
                  <a:lnTo>
                    <a:pt x="278" y="1796"/>
                  </a:lnTo>
                  <a:lnTo>
                    <a:pt x="274" y="1796"/>
                  </a:lnTo>
                  <a:lnTo>
                    <a:pt x="274" y="1814"/>
                  </a:lnTo>
                  <a:lnTo>
                    <a:pt x="270" y="1814"/>
                  </a:lnTo>
                  <a:lnTo>
                    <a:pt x="270" y="1831"/>
                  </a:lnTo>
                  <a:lnTo>
                    <a:pt x="264" y="1831"/>
                  </a:lnTo>
                  <a:lnTo>
                    <a:pt x="264" y="1849"/>
                  </a:lnTo>
                  <a:lnTo>
                    <a:pt x="260" y="1849"/>
                  </a:lnTo>
                  <a:lnTo>
                    <a:pt x="260" y="1873"/>
                  </a:lnTo>
                  <a:lnTo>
                    <a:pt x="255" y="1873"/>
                  </a:lnTo>
                  <a:lnTo>
                    <a:pt x="255" y="1885"/>
                  </a:lnTo>
                  <a:lnTo>
                    <a:pt x="251" y="1885"/>
                  </a:lnTo>
                  <a:lnTo>
                    <a:pt x="251" y="1896"/>
                  </a:lnTo>
                  <a:lnTo>
                    <a:pt x="244" y="1896"/>
                  </a:lnTo>
                  <a:lnTo>
                    <a:pt x="244" y="1909"/>
                  </a:lnTo>
                  <a:lnTo>
                    <a:pt x="240" y="1909"/>
                  </a:lnTo>
                  <a:lnTo>
                    <a:pt x="240" y="1926"/>
                  </a:lnTo>
                  <a:lnTo>
                    <a:pt x="235" y="1926"/>
                  </a:lnTo>
                  <a:lnTo>
                    <a:pt x="235" y="1939"/>
                  </a:lnTo>
                  <a:lnTo>
                    <a:pt x="230" y="1939"/>
                  </a:lnTo>
                  <a:lnTo>
                    <a:pt x="230" y="1974"/>
                  </a:lnTo>
                  <a:lnTo>
                    <a:pt x="226" y="1974"/>
                  </a:lnTo>
                  <a:lnTo>
                    <a:pt x="226" y="1980"/>
                  </a:lnTo>
                  <a:lnTo>
                    <a:pt x="221" y="1980"/>
                  </a:lnTo>
                  <a:lnTo>
                    <a:pt x="221" y="1991"/>
                  </a:lnTo>
                  <a:lnTo>
                    <a:pt x="216" y="1991"/>
                  </a:lnTo>
                  <a:lnTo>
                    <a:pt x="216" y="1997"/>
                  </a:lnTo>
                  <a:lnTo>
                    <a:pt x="212" y="1997"/>
                  </a:lnTo>
                  <a:lnTo>
                    <a:pt x="212" y="2015"/>
                  </a:lnTo>
                  <a:lnTo>
                    <a:pt x="207" y="2015"/>
                  </a:lnTo>
                  <a:lnTo>
                    <a:pt x="207" y="2021"/>
                  </a:lnTo>
                  <a:lnTo>
                    <a:pt x="203" y="2021"/>
                  </a:lnTo>
                  <a:lnTo>
                    <a:pt x="203" y="2027"/>
                  </a:lnTo>
                  <a:lnTo>
                    <a:pt x="197" y="2027"/>
                  </a:lnTo>
                  <a:lnTo>
                    <a:pt x="197" y="2040"/>
                  </a:lnTo>
                  <a:lnTo>
                    <a:pt x="193" y="2040"/>
                  </a:lnTo>
                  <a:lnTo>
                    <a:pt x="193" y="2045"/>
                  </a:lnTo>
                  <a:lnTo>
                    <a:pt x="188" y="2045"/>
                  </a:lnTo>
                  <a:lnTo>
                    <a:pt x="188" y="2056"/>
                  </a:lnTo>
                  <a:lnTo>
                    <a:pt x="183" y="2056"/>
                  </a:lnTo>
                  <a:lnTo>
                    <a:pt x="183" y="2074"/>
                  </a:lnTo>
                  <a:lnTo>
                    <a:pt x="179" y="2074"/>
                  </a:lnTo>
                  <a:lnTo>
                    <a:pt x="179" y="2098"/>
                  </a:lnTo>
                  <a:lnTo>
                    <a:pt x="173" y="2098"/>
                  </a:lnTo>
                  <a:lnTo>
                    <a:pt x="173" y="2127"/>
                  </a:lnTo>
                  <a:lnTo>
                    <a:pt x="168" y="2127"/>
                  </a:lnTo>
                  <a:lnTo>
                    <a:pt x="168" y="2157"/>
                  </a:lnTo>
                  <a:lnTo>
                    <a:pt x="163" y="2157"/>
                  </a:lnTo>
                  <a:lnTo>
                    <a:pt x="163" y="2175"/>
                  </a:lnTo>
                  <a:lnTo>
                    <a:pt x="159" y="2175"/>
                  </a:lnTo>
                  <a:lnTo>
                    <a:pt x="159" y="2192"/>
                  </a:lnTo>
                  <a:lnTo>
                    <a:pt x="154" y="2192"/>
                  </a:lnTo>
                  <a:lnTo>
                    <a:pt x="154" y="2222"/>
                  </a:lnTo>
                  <a:lnTo>
                    <a:pt x="149" y="2222"/>
                  </a:lnTo>
                  <a:lnTo>
                    <a:pt x="149" y="2233"/>
                  </a:lnTo>
                  <a:lnTo>
                    <a:pt x="144" y="2233"/>
                  </a:lnTo>
                  <a:lnTo>
                    <a:pt x="144" y="2251"/>
                  </a:lnTo>
                  <a:lnTo>
                    <a:pt x="140" y="2251"/>
                  </a:lnTo>
                  <a:lnTo>
                    <a:pt x="140" y="2268"/>
                  </a:lnTo>
                  <a:lnTo>
                    <a:pt x="135" y="2268"/>
                  </a:lnTo>
                  <a:lnTo>
                    <a:pt x="135" y="2281"/>
                  </a:lnTo>
                  <a:lnTo>
                    <a:pt x="130" y="2281"/>
                  </a:lnTo>
                  <a:lnTo>
                    <a:pt x="130" y="2299"/>
                  </a:lnTo>
                  <a:lnTo>
                    <a:pt x="126" y="2299"/>
                  </a:lnTo>
                  <a:lnTo>
                    <a:pt x="126" y="2311"/>
                  </a:lnTo>
                  <a:lnTo>
                    <a:pt x="120" y="2311"/>
                  </a:lnTo>
                  <a:lnTo>
                    <a:pt x="120" y="2317"/>
                  </a:lnTo>
                  <a:lnTo>
                    <a:pt x="116" y="2317"/>
                  </a:lnTo>
                  <a:lnTo>
                    <a:pt x="116" y="2341"/>
                  </a:lnTo>
                  <a:lnTo>
                    <a:pt x="111" y="2341"/>
                  </a:lnTo>
                  <a:lnTo>
                    <a:pt x="111" y="2364"/>
                  </a:lnTo>
                  <a:lnTo>
                    <a:pt x="107" y="2364"/>
                  </a:lnTo>
                  <a:lnTo>
                    <a:pt x="107" y="2369"/>
                  </a:lnTo>
                  <a:lnTo>
                    <a:pt x="100" y="2369"/>
                  </a:lnTo>
                  <a:lnTo>
                    <a:pt x="100" y="2382"/>
                  </a:lnTo>
                  <a:lnTo>
                    <a:pt x="96" y="2382"/>
                  </a:lnTo>
                  <a:lnTo>
                    <a:pt x="96" y="2399"/>
                  </a:lnTo>
                  <a:lnTo>
                    <a:pt x="92" y="2399"/>
                  </a:lnTo>
                  <a:lnTo>
                    <a:pt x="92" y="2418"/>
                  </a:lnTo>
                  <a:lnTo>
                    <a:pt x="86" y="2418"/>
                  </a:lnTo>
                  <a:lnTo>
                    <a:pt x="86" y="2428"/>
                  </a:lnTo>
                  <a:lnTo>
                    <a:pt x="82" y="2428"/>
                  </a:lnTo>
                  <a:lnTo>
                    <a:pt x="82" y="2440"/>
                  </a:lnTo>
                  <a:lnTo>
                    <a:pt x="77" y="2440"/>
                  </a:lnTo>
                  <a:lnTo>
                    <a:pt x="77" y="2459"/>
                  </a:lnTo>
                  <a:lnTo>
                    <a:pt x="72" y="2459"/>
                  </a:lnTo>
                  <a:lnTo>
                    <a:pt x="72" y="2470"/>
                  </a:lnTo>
                  <a:lnTo>
                    <a:pt x="67" y="2470"/>
                  </a:lnTo>
                  <a:lnTo>
                    <a:pt x="67" y="2482"/>
                  </a:lnTo>
                  <a:lnTo>
                    <a:pt x="63" y="2482"/>
                  </a:lnTo>
                  <a:lnTo>
                    <a:pt x="63" y="2494"/>
                  </a:lnTo>
                  <a:lnTo>
                    <a:pt x="58" y="2494"/>
                  </a:lnTo>
                  <a:lnTo>
                    <a:pt x="58" y="2513"/>
                  </a:lnTo>
                  <a:lnTo>
                    <a:pt x="53" y="2513"/>
                  </a:lnTo>
                  <a:lnTo>
                    <a:pt x="53" y="2529"/>
                  </a:lnTo>
                  <a:lnTo>
                    <a:pt x="49" y="2529"/>
                  </a:lnTo>
                  <a:lnTo>
                    <a:pt x="49" y="2541"/>
                  </a:lnTo>
                  <a:lnTo>
                    <a:pt x="44" y="2541"/>
                  </a:lnTo>
                  <a:lnTo>
                    <a:pt x="44" y="2546"/>
                  </a:lnTo>
                  <a:lnTo>
                    <a:pt x="39" y="2546"/>
                  </a:lnTo>
                  <a:lnTo>
                    <a:pt x="39" y="2565"/>
                  </a:lnTo>
                  <a:lnTo>
                    <a:pt x="34" y="2565"/>
                  </a:lnTo>
                  <a:lnTo>
                    <a:pt x="34" y="2571"/>
                  </a:lnTo>
                  <a:lnTo>
                    <a:pt x="15" y="2571"/>
                  </a:lnTo>
                  <a:lnTo>
                    <a:pt x="15" y="2559"/>
                  </a:lnTo>
                  <a:lnTo>
                    <a:pt x="19" y="2559"/>
                  </a:lnTo>
                  <a:lnTo>
                    <a:pt x="19" y="2546"/>
                  </a:lnTo>
                  <a:lnTo>
                    <a:pt x="15" y="2546"/>
                  </a:lnTo>
                  <a:lnTo>
                    <a:pt x="15" y="2541"/>
                  </a:lnTo>
                  <a:lnTo>
                    <a:pt x="10" y="2541"/>
                  </a:lnTo>
                  <a:lnTo>
                    <a:pt x="10" y="2535"/>
                  </a:lnTo>
                  <a:lnTo>
                    <a:pt x="5" y="2535"/>
                  </a:lnTo>
                  <a:lnTo>
                    <a:pt x="5" y="2529"/>
                  </a:lnTo>
                  <a:lnTo>
                    <a:pt x="0" y="2529"/>
                  </a:lnTo>
                  <a:lnTo>
                    <a:pt x="0" y="251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70240" y="3932280"/>
              <a:ext cx="216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474200" y="3936240"/>
              <a:ext cx="2880" cy="43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5000" y="1436040"/>
              <a:ext cx="1141200" cy="550800"/>
            </a:xfrm>
            <a:custGeom>
              <a:avLst/>
              <a:gdLst/>
              <a:ahLst/>
              <a:rect l="l" t="t" r="r" b="b"/>
              <a:pathLst>
                <a:path w="4389" h="2825">
                  <a:moveTo>
                    <a:pt x="0" y="1448"/>
                  </a:moveTo>
                  <a:lnTo>
                    <a:pt x="19" y="1448"/>
                  </a:lnTo>
                  <a:lnTo>
                    <a:pt x="19" y="1413"/>
                  </a:lnTo>
                  <a:lnTo>
                    <a:pt x="24" y="1413"/>
                  </a:lnTo>
                  <a:lnTo>
                    <a:pt x="24" y="1407"/>
                  </a:lnTo>
                  <a:lnTo>
                    <a:pt x="29" y="1407"/>
                  </a:lnTo>
                  <a:lnTo>
                    <a:pt x="29" y="1402"/>
                  </a:lnTo>
                  <a:lnTo>
                    <a:pt x="33" y="1402"/>
                  </a:lnTo>
                  <a:lnTo>
                    <a:pt x="33" y="1395"/>
                  </a:lnTo>
                  <a:lnTo>
                    <a:pt x="38" y="1395"/>
                  </a:lnTo>
                  <a:lnTo>
                    <a:pt x="38" y="1389"/>
                  </a:lnTo>
                  <a:lnTo>
                    <a:pt x="43" y="1389"/>
                  </a:lnTo>
                  <a:lnTo>
                    <a:pt x="43" y="1383"/>
                  </a:lnTo>
                  <a:lnTo>
                    <a:pt x="48" y="1383"/>
                  </a:lnTo>
                  <a:lnTo>
                    <a:pt x="48" y="1378"/>
                  </a:lnTo>
                  <a:lnTo>
                    <a:pt x="52" y="1378"/>
                  </a:lnTo>
                  <a:lnTo>
                    <a:pt x="52" y="1370"/>
                  </a:lnTo>
                  <a:lnTo>
                    <a:pt x="63" y="1370"/>
                  </a:lnTo>
                  <a:lnTo>
                    <a:pt x="63" y="1359"/>
                  </a:lnTo>
                  <a:lnTo>
                    <a:pt x="68" y="1359"/>
                  </a:lnTo>
                  <a:lnTo>
                    <a:pt x="68" y="1353"/>
                  </a:lnTo>
                  <a:lnTo>
                    <a:pt x="72" y="1353"/>
                  </a:lnTo>
                  <a:lnTo>
                    <a:pt x="72" y="1348"/>
                  </a:lnTo>
                  <a:lnTo>
                    <a:pt x="77" y="1348"/>
                  </a:lnTo>
                  <a:lnTo>
                    <a:pt x="77" y="1342"/>
                  </a:lnTo>
                  <a:lnTo>
                    <a:pt x="82" y="1342"/>
                  </a:lnTo>
                  <a:lnTo>
                    <a:pt x="82" y="1329"/>
                  </a:lnTo>
                  <a:lnTo>
                    <a:pt x="91" y="1329"/>
                  </a:lnTo>
                  <a:lnTo>
                    <a:pt x="91" y="1324"/>
                  </a:lnTo>
                  <a:lnTo>
                    <a:pt x="96" y="1324"/>
                  </a:lnTo>
                  <a:lnTo>
                    <a:pt x="96" y="1312"/>
                  </a:lnTo>
                  <a:lnTo>
                    <a:pt x="101" y="1312"/>
                  </a:lnTo>
                  <a:lnTo>
                    <a:pt x="101" y="1301"/>
                  </a:lnTo>
                  <a:lnTo>
                    <a:pt x="111" y="1301"/>
                  </a:lnTo>
                  <a:lnTo>
                    <a:pt x="111" y="1294"/>
                  </a:lnTo>
                  <a:lnTo>
                    <a:pt x="115" y="1294"/>
                  </a:lnTo>
                  <a:lnTo>
                    <a:pt x="115" y="1289"/>
                  </a:lnTo>
                  <a:lnTo>
                    <a:pt x="119" y="1289"/>
                  </a:lnTo>
                  <a:lnTo>
                    <a:pt x="119" y="1283"/>
                  </a:lnTo>
                  <a:lnTo>
                    <a:pt x="124" y="1283"/>
                  </a:lnTo>
                  <a:lnTo>
                    <a:pt x="124" y="1277"/>
                  </a:lnTo>
                  <a:lnTo>
                    <a:pt x="130" y="1277"/>
                  </a:lnTo>
                  <a:lnTo>
                    <a:pt x="130" y="1271"/>
                  </a:lnTo>
                  <a:lnTo>
                    <a:pt x="134" y="1271"/>
                  </a:lnTo>
                  <a:lnTo>
                    <a:pt x="134" y="1266"/>
                  </a:lnTo>
                  <a:lnTo>
                    <a:pt x="139" y="1266"/>
                  </a:lnTo>
                  <a:lnTo>
                    <a:pt x="139" y="1259"/>
                  </a:lnTo>
                  <a:lnTo>
                    <a:pt x="144" y="1259"/>
                  </a:lnTo>
                  <a:lnTo>
                    <a:pt x="144" y="1253"/>
                  </a:lnTo>
                  <a:lnTo>
                    <a:pt x="149" y="1253"/>
                  </a:lnTo>
                  <a:lnTo>
                    <a:pt x="149" y="1247"/>
                  </a:lnTo>
                  <a:lnTo>
                    <a:pt x="159" y="1247"/>
                  </a:lnTo>
                  <a:lnTo>
                    <a:pt x="159" y="1236"/>
                  </a:lnTo>
                  <a:lnTo>
                    <a:pt x="163" y="1236"/>
                  </a:lnTo>
                  <a:lnTo>
                    <a:pt x="163" y="1229"/>
                  </a:lnTo>
                  <a:lnTo>
                    <a:pt x="173" y="1229"/>
                  </a:lnTo>
                  <a:lnTo>
                    <a:pt x="173" y="1218"/>
                  </a:lnTo>
                  <a:lnTo>
                    <a:pt x="177" y="1218"/>
                  </a:lnTo>
                  <a:lnTo>
                    <a:pt x="177" y="1206"/>
                  </a:lnTo>
                  <a:lnTo>
                    <a:pt x="187" y="1206"/>
                  </a:lnTo>
                  <a:lnTo>
                    <a:pt x="187" y="1201"/>
                  </a:lnTo>
                  <a:lnTo>
                    <a:pt x="192" y="1201"/>
                  </a:lnTo>
                  <a:lnTo>
                    <a:pt x="192" y="1193"/>
                  </a:lnTo>
                  <a:lnTo>
                    <a:pt x="196" y="1193"/>
                  </a:lnTo>
                  <a:lnTo>
                    <a:pt x="196" y="1188"/>
                  </a:lnTo>
                  <a:lnTo>
                    <a:pt x="202" y="1188"/>
                  </a:lnTo>
                  <a:lnTo>
                    <a:pt x="202" y="1183"/>
                  </a:lnTo>
                  <a:lnTo>
                    <a:pt x="207" y="1183"/>
                  </a:lnTo>
                  <a:lnTo>
                    <a:pt x="207" y="1176"/>
                  </a:lnTo>
                  <a:lnTo>
                    <a:pt x="216" y="1176"/>
                  </a:lnTo>
                  <a:lnTo>
                    <a:pt x="216" y="1171"/>
                  </a:lnTo>
                  <a:lnTo>
                    <a:pt x="221" y="1171"/>
                  </a:lnTo>
                  <a:lnTo>
                    <a:pt x="221" y="1165"/>
                  </a:lnTo>
                  <a:lnTo>
                    <a:pt x="226" y="1165"/>
                  </a:lnTo>
                  <a:lnTo>
                    <a:pt x="226" y="1152"/>
                  </a:lnTo>
                  <a:lnTo>
                    <a:pt x="230" y="1152"/>
                  </a:lnTo>
                  <a:lnTo>
                    <a:pt x="230" y="1147"/>
                  </a:lnTo>
                  <a:lnTo>
                    <a:pt x="235" y="1147"/>
                  </a:lnTo>
                  <a:lnTo>
                    <a:pt x="235" y="1135"/>
                  </a:lnTo>
                  <a:lnTo>
                    <a:pt x="240" y="1135"/>
                  </a:lnTo>
                  <a:lnTo>
                    <a:pt x="240" y="1130"/>
                  </a:lnTo>
                  <a:lnTo>
                    <a:pt x="245" y="1130"/>
                  </a:lnTo>
                  <a:lnTo>
                    <a:pt x="245" y="1123"/>
                  </a:lnTo>
                  <a:lnTo>
                    <a:pt x="249" y="1123"/>
                  </a:lnTo>
                  <a:lnTo>
                    <a:pt x="249" y="1117"/>
                  </a:lnTo>
                  <a:lnTo>
                    <a:pt x="254" y="1117"/>
                  </a:lnTo>
                  <a:lnTo>
                    <a:pt x="254" y="1111"/>
                  </a:lnTo>
                  <a:lnTo>
                    <a:pt x="259" y="1111"/>
                  </a:lnTo>
                  <a:lnTo>
                    <a:pt x="259" y="1106"/>
                  </a:lnTo>
                  <a:lnTo>
                    <a:pt x="263" y="1106"/>
                  </a:lnTo>
                  <a:lnTo>
                    <a:pt x="263" y="1100"/>
                  </a:lnTo>
                  <a:lnTo>
                    <a:pt x="269" y="1100"/>
                  </a:lnTo>
                  <a:lnTo>
                    <a:pt x="269" y="1088"/>
                  </a:lnTo>
                  <a:lnTo>
                    <a:pt x="274" y="1088"/>
                  </a:lnTo>
                  <a:lnTo>
                    <a:pt x="274" y="1082"/>
                  </a:lnTo>
                  <a:lnTo>
                    <a:pt x="279" y="1082"/>
                  </a:lnTo>
                  <a:lnTo>
                    <a:pt x="279" y="1070"/>
                  </a:lnTo>
                  <a:lnTo>
                    <a:pt x="283" y="1070"/>
                  </a:lnTo>
                  <a:lnTo>
                    <a:pt x="283" y="1065"/>
                  </a:lnTo>
                  <a:lnTo>
                    <a:pt x="288" y="1065"/>
                  </a:lnTo>
                  <a:lnTo>
                    <a:pt x="288" y="1052"/>
                  </a:lnTo>
                  <a:lnTo>
                    <a:pt x="293" y="1052"/>
                  </a:lnTo>
                  <a:lnTo>
                    <a:pt x="293" y="1046"/>
                  </a:lnTo>
                  <a:lnTo>
                    <a:pt x="297" y="1046"/>
                  </a:lnTo>
                  <a:lnTo>
                    <a:pt x="297" y="1041"/>
                  </a:lnTo>
                  <a:lnTo>
                    <a:pt x="303" y="1041"/>
                  </a:lnTo>
                  <a:lnTo>
                    <a:pt x="303" y="1035"/>
                  </a:lnTo>
                  <a:lnTo>
                    <a:pt x="307" y="1035"/>
                  </a:lnTo>
                  <a:lnTo>
                    <a:pt x="307" y="1029"/>
                  </a:lnTo>
                  <a:lnTo>
                    <a:pt x="312" y="1029"/>
                  </a:lnTo>
                  <a:lnTo>
                    <a:pt x="312" y="1024"/>
                  </a:lnTo>
                  <a:lnTo>
                    <a:pt x="317" y="1024"/>
                  </a:lnTo>
                  <a:lnTo>
                    <a:pt x="317" y="1016"/>
                  </a:lnTo>
                  <a:lnTo>
                    <a:pt x="322" y="1016"/>
                  </a:lnTo>
                  <a:lnTo>
                    <a:pt x="322" y="1011"/>
                  </a:lnTo>
                  <a:lnTo>
                    <a:pt x="326" y="1011"/>
                  </a:lnTo>
                  <a:lnTo>
                    <a:pt x="326" y="999"/>
                  </a:lnTo>
                  <a:lnTo>
                    <a:pt x="331" y="999"/>
                  </a:lnTo>
                  <a:lnTo>
                    <a:pt x="331" y="992"/>
                  </a:lnTo>
                  <a:lnTo>
                    <a:pt x="336" y="992"/>
                  </a:lnTo>
                  <a:lnTo>
                    <a:pt x="336" y="987"/>
                  </a:lnTo>
                  <a:lnTo>
                    <a:pt x="340" y="987"/>
                  </a:lnTo>
                  <a:lnTo>
                    <a:pt x="340" y="975"/>
                  </a:lnTo>
                  <a:lnTo>
                    <a:pt x="346" y="975"/>
                  </a:lnTo>
                  <a:lnTo>
                    <a:pt x="346" y="970"/>
                  </a:lnTo>
                  <a:lnTo>
                    <a:pt x="351" y="970"/>
                  </a:lnTo>
                  <a:lnTo>
                    <a:pt x="351" y="964"/>
                  </a:lnTo>
                  <a:lnTo>
                    <a:pt x="356" y="964"/>
                  </a:lnTo>
                  <a:lnTo>
                    <a:pt x="356" y="951"/>
                  </a:lnTo>
                  <a:lnTo>
                    <a:pt x="366" y="951"/>
                  </a:lnTo>
                  <a:lnTo>
                    <a:pt x="366" y="940"/>
                  </a:lnTo>
                  <a:lnTo>
                    <a:pt x="370" y="940"/>
                  </a:lnTo>
                  <a:lnTo>
                    <a:pt x="370" y="929"/>
                  </a:lnTo>
                  <a:lnTo>
                    <a:pt x="374" y="929"/>
                  </a:lnTo>
                  <a:lnTo>
                    <a:pt x="374" y="922"/>
                  </a:lnTo>
                  <a:lnTo>
                    <a:pt x="379" y="922"/>
                  </a:lnTo>
                  <a:lnTo>
                    <a:pt x="379" y="910"/>
                  </a:lnTo>
                  <a:lnTo>
                    <a:pt x="384" y="910"/>
                  </a:lnTo>
                  <a:lnTo>
                    <a:pt x="384" y="898"/>
                  </a:lnTo>
                  <a:lnTo>
                    <a:pt x="389" y="898"/>
                  </a:lnTo>
                  <a:lnTo>
                    <a:pt x="389" y="888"/>
                  </a:lnTo>
                  <a:lnTo>
                    <a:pt x="393" y="888"/>
                  </a:lnTo>
                  <a:lnTo>
                    <a:pt x="393" y="880"/>
                  </a:lnTo>
                  <a:lnTo>
                    <a:pt x="399" y="880"/>
                  </a:lnTo>
                  <a:lnTo>
                    <a:pt x="399" y="875"/>
                  </a:lnTo>
                  <a:lnTo>
                    <a:pt x="403" y="875"/>
                  </a:lnTo>
                  <a:lnTo>
                    <a:pt x="403" y="864"/>
                  </a:lnTo>
                  <a:lnTo>
                    <a:pt x="408" y="864"/>
                  </a:lnTo>
                  <a:lnTo>
                    <a:pt x="408" y="858"/>
                  </a:lnTo>
                  <a:lnTo>
                    <a:pt x="413" y="858"/>
                  </a:lnTo>
                  <a:lnTo>
                    <a:pt x="413" y="846"/>
                  </a:lnTo>
                  <a:lnTo>
                    <a:pt x="418" y="846"/>
                  </a:lnTo>
                  <a:lnTo>
                    <a:pt x="418" y="839"/>
                  </a:lnTo>
                  <a:lnTo>
                    <a:pt x="423" y="839"/>
                  </a:lnTo>
                  <a:lnTo>
                    <a:pt x="423" y="834"/>
                  </a:lnTo>
                  <a:lnTo>
                    <a:pt x="428" y="834"/>
                  </a:lnTo>
                  <a:lnTo>
                    <a:pt x="428" y="821"/>
                  </a:lnTo>
                  <a:lnTo>
                    <a:pt x="433" y="821"/>
                  </a:lnTo>
                  <a:lnTo>
                    <a:pt x="433" y="816"/>
                  </a:lnTo>
                  <a:lnTo>
                    <a:pt x="437" y="816"/>
                  </a:lnTo>
                  <a:lnTo>
                    <a:pt x="437" y="810"/>
                  </a:lnTo>
                  <a:lnTo>
                    <a:pt x="442" y="810"/>
                  </a:lnTo>
                  <a:lnTo>
                    <a:pt x="442" y="804"/>
                  </a:lnTo>
                  <a:lnTo>
                    <a:pt x="447" y="804"/>
                  </a:lnTo>
                  <a:lnTo>
                    <a:pt x="447" y="798"/>
                  </a:lnTo>
                  <a:lnTo>
                    <a:pt x="452" y="798"/>
                  </a:lnTo>
                  <a:lnTo>
                    <a:pt x="452" y="793"/>
                  </a:lnTo>
                  <a:lnTo>
                    <a:pt x="456" y="793"/>
                  </a:lnTo>
                  <a:lnTo>
                    <a:pt x="456" y="786"/>
                  </a:lnTo>
                  <a:lnTo>
                    <a:pt x="461" y="786"/>
                  </a:lnTo>
                  <a:lnTo>
                    <a:pt x="461" y="780"/>
                  </a:lnTo>
                  <a:lnTo>
                    <a:pt x="465" y="780"/>
                  </a:lnTo>
                  <a:lnTo>
                    <a:pt x="465" y="775"/>
                  </a:lnTo>
                  <a:lnTo>
                    <a:pt x="470" y="775"/>
                  </a:lnTo>
                  <a:lnTo>
                    <a:pt x="470" y="769"/>
                  </a:lnTo>
                  <a:lnTo>
                    <a:pt x="475" y="769"/>
                  </a:lnTo>
                  <a:lnTo>
                    <a:pt x="475" y="763"/>
                  </a:lnTo>
                  <a:lnTo>
                    <a:pt x="480" y="763"/>
                  </a:lnTo>
                  <a:lnTo>
                    <a:pt x="480" y="757"/>
                  </a:lnTo>
                  <a:lnTo>
                    <a:pt x="484" y="757"/>
                  </a:lnTo>
                  <a:lnTo>
                    <a:pt x="484" y="752"/>
                  </a:lnTo>
                  <a:lnTo>
                    <a:pt x="490" y="752"/>
                  </a:lnTo>
                  <a:lnTo>
                    <a:pt x="490" y="745"/>
                  </a:lnTo>
                  <a:lnTo>
                    <a:pt x="495" y="745"/>
                  </a:lnTo>
                  <a:lnTo>
                    <a:pt x="495" y="739"/>
                  </a:lnTo>
                  <a:lnTo>
                    <a:pt x="500" y="739"/>
                  </a:lnTo>
                  <a:lnTo>
                    <a:pt x="500" y="733"/>
                  </a:lnTo>
                  <a:lnTo>
                    <a:pt x="504" y="733"/>
                  </a:lnTo>
                  <a:lnTo>
                    <a:pt x="504" y="728"/>
                  </a:lnTo>
                  <a:lnTo>
                    <a:pt x="509" y="728"/>
                  </a:lnTo>
                  <a:lnTo>
                    <a:pt x="509" y="722"/>
                  </a:lnTo>
                  <a:lnTo>
                    <a:pt x="514" y="722"/>
                  </a:lnTo>
                  <a:lnTo>
                    <a:pt x="514" y="710"/>
                  </a:lnTo>
                  <a:lnTo>
                    <a:pt x="518" y="710"/>
                  </a:lnTo>
                  <a:lnTo>
                    <a:pt x="518" y="703"/>
                  </a:lnTo>
                  <a:lnTo>
                    <a:pt x="523" y="703"/>
                  </a:lnTo>
                  <a:lnTo>
                    <a:pt x="523" y="698"/>
                  </a:lnTo>
                  <a:lnTo>
                    <a:pt x="528" y="698"/>
                  </a:lnTo>
                  <a:lnTo>
                    <a:pt x="528" y="692"/>
                  </a:lnTo>
                  <a:lnTo>
                    <a:pt x="533" y="692"/>
                  </a:lnTo>
                  <a:lnTo>
                    <a:pt x="533" y="687"/>
                  </a:lnTo>
                  <a:lnTo>
                    <a:pt x="537" y="687"/>
                  </a:lnTo>
                  <a:lnTo>
                    <a:pt x="537" y="674"/>
                  </a:lnTo>
                  <a:lnTo>
                    <a:pt x="543" y="674"/>
                  </a:lnTo>
                  <a:lnTo>
                    <a:pt x="543" y="669"/>
                  </a:lnTo>
                  <a:lnTo>
                    <a:pt x="547" y="669"/>
                  </a:lnTo>
                  <a:lnTo>
                    <a:pt x="547" y="662"/>
                  </a:lnTo>
                  <a:lnTo>
                    <a:pt x="551" y="662"/>
                  </a:lnTo>
                  <a:lnTo>
                    <a:pt x="551" y="657"/>
                  </a:lnTo>
                  <a:lnTo>
                    <a:pt x="557" y="657"/>
                  </a:lnTo>
                  <a:lnTo>
                    <a:pt x="557" y="650"/>
                  </a:lnTo>
                  <a:lnTo>
                    <a:pt x="561" y="650"/>
                  </a:lnTo>
                  <a:lnTo>
                    <a:pt x="561" y="638"/>
                  </a:lnTo>
                  <a:lnTo>
                    <a:pt x="567" y="638"/>
                  </a:lnTo>
                  <a:lnTo>
                    <a:pt x="567" y="633"/>
                  </a:lnTo>
                  <a:lnTo>
                    <a:pt x="572" y="633"/>
                  </a:lnTo>
                  <a:lnTo>
                    <a:pt x="572" y="627"/>
                  </a:lnTo>
                  <a:lnTo>
                    <a:pt x="577" y="627"/>
                  </a:lnTo>
                  <a:lnTo>
                    <a:pt x="577" y="615"/>
                  </a:lnTo>
                  <a:lnTo>
                    <a:pt x="581" y="615"/>
                  </a:lnTo>
                  <a:lnTo>
                    <a:pt x="581" y="609"/>
                  </a:lnTo>
                  <a:lnTo>
                    <a:pt x="586" y="609"/>
                  </a:lnTo>
                  <a:lnTo>
                    <a:pt x="586" y="603"/>
                  </a:lnTo>
                  <a:lnTo>
                    <a:pt x="591" y="603"/>
                  </a:lnTo>
                  <a:lnTo>
                    <a:pt x="591" y="597"/>
                  </a:lnTo>
                  <a:lnTo>
                    <a:pt x="595" y="597"/>
                  </a:lnTo>
                  <a:lnTo>
                    <a:pt x="595" y="592"/>
                  </a:lnTo>
                  <a:lnTo>
                    <a:pt x="600" y="592"/>
                  </a:lnTo>
                  <a:lnTo>
                    <a:pt x="600" y="584"/>
                  </a:lnTo>
                  <a:lnTo>
                    <a:pt x="605" y="584"/>
                  </a:lnTo>
                  <a:lnTo>
                    <a:pt x="605" y="579"/>
                  </a:lnTo>
                  <a:lnTo>
                    <a:pt x="610" y="579"/>
                  </a:lnTo>
                  <a:lnTo>
                    <a:pt x="610" y="573"/>
                  </a:lnTo>
                  <a:lnTo>
                    <a:pt x="614" y="573"/>
                  </a:lnTo>
                  <a:lnTo>
                    <a:pt x="614" y="568"/>
                  </a:lnTo>
                  <a:lnTo>
                    <a:pt x="619" y="568"/>
                  </a:lnTo>
                  <a:lnTo>
                    <a:pt x="619" y="562"/>
                  </a:lnTo>
                  <a:lnTo>
                    <a:pt x="624" y="562"/>
                  </a:lnTo>
                  <a:lnTo>
                    <a:pt x="624" y="551"/>
                  </a:lnTo>
                  <a:lnTo>
                    <a:pt x="628" y="551"/>
                  </a:lnTo>
                  <a:lnTo>
                    <a:pt x="628" y="543"/>
                  </a:lnTo>
                  <a:lnTo>
                    <a:pt x="633" y="543"/>
                  </a:lnTo>
                  <a:lnTo>
                    <a:pt x="633" y="532"/>
                  </a:lnTo>
                  <a:lnTo>
                    <a:pt x="644" y="532"/>
                  </a:lnTo>
                  <a:lnTo>
                    <a:pt x="644" y="521"/>
                  </a:lnTo>
                  <a:lnTo>
                    <a:pt x="648" y="521"/>
                  </a:lnTo>
                  <a:lnTo>
                    <a:pt x="648" y="514"/>
                  </a:lnTo>
                  <a:lnTo>
                    <a:pt x="654" y="514"/>
                  </a:lnTo>
                  <a:lnTo>
                    <a:pt x="654" y="502"/>
                  </a:lnTo>
                  <a:lnTo>
                    <a:pt x="658" y="502"/>
                  </a:lnTo>
                  <a:lnTo>
                    <a:pt x="658" y="497"/>
                  </a:lnTo>
                  <a:lnTo>
                    <a:pt x="663" y="497"/>
                  </a:lnTo>
                  <a:lnTo>
                    <a:pt x="663" y="484"/>
                  </a:lnTo>
                  <a:lnTo>
                    <a:pt x="667" y="484"/>
                  </a:lnTo>
                  <a:lnTo>
                    <a:pt x="667" y="478"/>
                  </a:lnTo>
                  <a:lnTo>
                    <a:pt x="672" y="478"/>
                  </a:lnTo>
                  <a:lnTo>
                    <a:pt x="672" y="473"/>
                  </a:lnTo>
                  <a:lnTo>
                    <a:pt x="681" y="473"/>
                  </a:lnTo>
                  <a:lnTo>
                    <a:pt x="681" y="467"/>
                  </a:lnTo>
                  <a:lnTo>
                    <a:pt x="687" y="467"/>
                  </a:lnTo>
                  <a:lnTo>
                    <a:pt x="687" y="456"/>
                  </a:lnTo>
                  <a:lnTo>
                    <a:pt x="691" y="456"/>
                  </a:lnTo>
                  <a:lnTo>
                    <a:pt x="691" y="450"/>
                  </a:lnTo>
                  <a:lnTo>
                    <a:pt x="696" y="450"/>
                  </a:lnTo>
                  <a:lnTo>
                    <a:pt x="696" y="443"/>
                  </a:lnTo>
                  <a:lnTo>
                    <a:pt x="701" y="443"/>
                  </a:lnTo>
                  <a:lnTo>
                    <a:pt x="701" y="438"/>
                  </a:lnTo>
                  <a:lnTo>
                    <a:pt x="707" y="438"/>
                  </a:lnTo>
                  <a:lnTo>
                    <a:pt x="707" y="426"/>
                  </a:lnTo>
                  <a:lnTo>
                    <a:pt x="716" y="426"/>
                  </a:lnTo>
                  <a:lnTo>
                    <a:pt x="716" y="415"/>
                  </a:lnTo>
                  <a:lnTo>
                    <a:pt x="721" y="415"/>
                  </a:lnTo>
                  <a:lnTo>
                    <a:pt x="721" y="407"/>
                  </a:lnTo>
                  <a:lnTo>
                    <a:pt x="725" y="407"/>
                  </a:lnTo>
                  <a:lnTo>
                    <a:pt x="725" y="402"/>
                  </a:lnTo>
                  <a:lnTo>
                    <a:pt x="730" y="402"/>
                  </a:lnTo>
                  <a:lnTo>
                    <a:pt x="730" y="397"/>
                  </a:lnTo>
                  <a:lnTo>
                    <a:pt x="735" y="397"/>
                  </a:lnTo>
                  <a:lnTo>
                    <a:pt x="735" y="385"/>
                  </a:lnTo>
                  <a:lnTo>
                    <a:pt x="740" y="385"/>
                  </a:lnTo>
                  <a:lnTo>
                    <a:pt x="740" y="378"/>
                  </a:lnTo>
                  <a:lnTo>
                    <a:pt x="744" y="378"/>
                  </a:lnTo>
                  <a:lnTo>
                    <a:pt x="744" y="373"/>
                  </a:lnTo>
                  <a:lnTo>
                    <a:pt x="750" y="373"/>
                  </a:lnTo>
                  <a:lnTo>
                    <a:pt x="750" y="366"/>
                  </a:lnTo>
                  <a:lnTo>
                    <a:pt x="754" y="366"/>
                  </a:lnTo>
                  <a:lnTo>
                    <a:pt x="754" y="361"/>
                  </a:lnTo>
                  <a:lnTo>
                    <a:pt x="758" y="361"/>
                  </a:lnTo>
                  <a:lnTo>
                    <a:pt x="758" y="356"/>
                  </a:lnTo>
                  <a:lnTo>
                    <a:pt x="763" y="356"/>
                  </a:lnTo>
                  <a:lnTo>
                    <a:pt x="763" y="343"/>
                  </a:lnTo>
                  <a:lnTo>
                    <a:pt x="773" y="343"/>
                  </a:lnTo>
                  <a:lnTo>
                    <a:pt x="773" y="337"/>
                  </a:lnTo>
                  <a:lnTo>
                    <a:pt x="777" y="337"/>
                  </a:lnTo>
                  <a:lnTo>
                    <a:pt x="777" y="331"/>
                  </a:lnTo>
                  <a:lnTo>
                    <a:pt x="784" y="331"/>
                  </a:lnTo>
                  <a:lnTo>
                    <a:pt x="784" y="325"/>
                  </a:lnTo>
                  <a:lnTo>
                    <a:pt x="788" y="325"/>
                  </a:lnTo>
                  <a:lnTo>
                    <a:pt x="788" y="320"/>
                  </a:lnTo>
                  <a:lnTo>
                    <a:pt x="793" y="320"/>
                  </a:lnTo>
                  <a:lnTo>
                    <a:pt x="793" y="314"/>
                  </a:lnTo>
                  <a:lnTo>
                    <a:pt x="798" y="314"/>
                  </a:lnTo>
                  <a:lnTo>
                    <a:pt x="798" y="307"/>
                  </a:lnTo>
                  <a:lnTo>
                    <a:pt x="802" y="307"/>
                  </a:lnTo>
                  <a:lnTo>
                    <a:pt x="802" y="302"/>
                  </a:lnTo>
                  <a:lnTo>
                    <a:pt x="806" y="302"/>
                  </a:lnTo>
                  <a:lnTo>
                    <a:pt x="806" y="296"/>
                  </a:lnTo>
                  <a:lnTo>
                    <a:pt x="812" y="296"/>
                  </a:lnTo>
                  <a:lnTo>
                    <a:pt x="812" y="290"/>
                  </a:lnTo>
                  <a:lnTo>
                    <a:pt x="816" y="290"/>
                  </a:lnTo>
                  <a:lnTo>
                    <a:pt x="816" y="284"/>
                  </a:lnTo>
                  <a:lnTo>
                    <a:pt x="821" y="284"/>
                  </a:lnTo>
                  <a:lnTo>
                    <a:pt x="821" y="279"/>
                  </a:lnTo>
                  <a:lnTo>
                    <a:pt x="825" y="279"/>
                  </a:lnTo>
                  <a:lnTo>
                    <a:pt x="825" y="272"/>
                  </a:lnTo>
                  <a:lnTo>
                    <a:pt x="831" y="272"/>
                  </a:lnTo>
                  <a:lnTo>
                    <a:pt x="831" y="266"/>
                  </a:lnTo>
                  <a:lnTo>
                    <a:pt x="835" y="266"/>
                  </a:lnTo>
                  <a:lnTo>
                    <a:pt x="835" y="260"/>
                  </a:lnTo>
                  <a:lnTo>
                    <a:pt x="840" y="260"/>
                  </a:lnTo>
                  <a:lnTo>
                    <a:pt x="840" y="255"/>
                  </a:lnTo>
                  <a:lnTo>
                    <a:pt x="845" y="255"/>
                  </a:lnTo>
                  <a:lnTo>
                    <a:pt x="845" y="249"/>
                  </a:lnTo>
                  <a:lnTo>
                    <a:pt x="849" y="249"/>
                  </a:lnTo>
                  <a:lnTo>
                    <a:pt x="849" y="242"/>
                  </a:lnTo>
                  <a:lnTo>
                    <a:pt x="855" y="242"/>
                  </a:lnTo>
                  <a:lnTo>
                    <a:pt x="855" y="237"/>
                  </a:lnTo>
                  <a:lnTo>
                    <a:pt x="860" y="237"/>
                  </a:lnTo>
                  <a:lnTo>
                    <a:pt x="860" y="230"/>
                  </a:lnTo>
                  <a:lnTo>
                    <a:pt x="865" y="230"/>
                  </a:lnTo>
                  <a:lnTo>
                    <a:pt x="865" y="225"/>
                  </a:lnTo>
                  <a:lnTo>
                    <a:pt x="869" y="225"/>
                  </a:lnTo>
                  <a:lnTo>
                    <a:pt x="869" y="219"/>
                  </a:lnTo>
                  <a:lnTo>
                    <a:pt x="874" y="219"/>
                  </a:lnTo>
                  <a:lnTo>
                    <a:pt x="874" y="214"/>
                  </a:lnTo>
                  <a:lnTo>
                    <a:pt x="879" y="214"/>
                  </a:lnTo>
                  <a:lnTo>
                    <a:pt x="879" y="201"/>
                  </a:lnTo>
                  <a:lnTo>
                    <a:pt x="884" y="201"/>
                  </a:lnTo>
                  <a:lnTo>
                    <a:pt x="884" y="196"/>
                  </a:lnTo>
                  <a:lnTo>
                    <a:pt x="888" y="196"/>
                  </a:lnTo>
                  <a:lnTo>
                    <a:pt x="888" y="184"/>
                  </a:lnTo>
                  <a:lnTo>
                    <a:pt x="898" y="184"/>
                  </a:lnTo>
                  <a:lnTo>
                    <a:pt x="898" y="178"/>
                  </a:lnTo>
                  <a:lnTo>
                    <a:pt x="907" y="178"/>
                  </a:lnTo>
                  <a:lnTo>
                    <a:pt x="907" y="171"/>
                  </a:lnTo>
                  <a:lnTo>
                    <a:pt x="912" y="171"/>
                  </a:lnTo>
                  <a:lnTo>
                    <a:pt x="912" y="165"/>
                  </a:lnTo>
                  <a:lnTo>
                    <a:pt x="917" y="165"/>
                  </a:lnTo>
                  <a:lnTo>
                    <a:pt x="917" y="160"/>
                  </a:lnTo>
                  <a:lnTo>
                    <a:pt x="928" y="160"/>
                  </a:lnTo>
                  <a:lnTo>
                    <a:pt x="928" y="148"/>
                  </a:lnTo>
                  <a:lnTo>
                    <a:pt x="936" y="148"/>
                  </a:lnTo>
                  <a:lnTo>
                    <a:pt x="936" y="143"/>
                  </a:lnTo>
                  <a:lnTo>
                    <a:pt x="942" y="143"/>
                  </a:lnTo>
                  <a:lnTo>
                    <a:pt x="942" y="136"/>
                  </a:lnTo>
                  <a:lnTo>
                    <a:pt x="946" y="136"/>
                  </a:lnTo>
                  <a:lnTo>
                    <a:pt x="946" y="124"/>
                  </a:lnTo>
                  <a:lnTo>
                    <a:pt x="951" y="124"/>
                  </a:lnTo>
                  <a:lnTo>
                    <a:pt x="951" y="111"/>
                  </a:lnTo>
                  <a:lnTo>
                    <a:pt x="956" y="111"/>
                  </a:lnTo>
                  <a:lnTo>
                    <a:pt x="956" y="106"/>
                  </a:lnTo>
                  <a:lnTo>
                    <a:pt x="961" y="106"/>
                  </a:lnTo>
                  <a:lnTo>
                    <a:pt x="961" y="101"/>
                  </a:lnTo>
                  <a:lnTo>
                    <a:pt x="965" y="101"/>
                  </a:lnTo>
                  <a:lnTo>
                    <a:pt x="965" y="95"/>
                  </a:lnTo>
                  <a:lnTo>
                    <a:pt x="969" y="95"/>
                  </a:lnTo>
                  <a:lnTo>
                    <a:pt x="969" y="89"/>
                  </a:lnTo>
                  <a:lnTo>
                    <a:pt x="975" y="89"/>
                  </a:lnTo>
                  <a:lnTo>
                    <a:pt x="975" y="83"/>
                  </a:lnTo>
                  <a:lnTo>
                    <a:pt x="979" y="83"/>
                  </a:lnTo>
                  <a:lnTo>
                    <a:pt x="979" y="78"/>
                  </a:lnTo>
                  <a:lnTo>
                    <a:pt x="984" y="78"/>
                  </a:lnTo>
                  <a:lnTo>
                    <a:pt x="984" y="65"/>
                  </a:lnTo>
                  <a:lnTo>
                    <a:pt x="989" y="65"/>
                  </a:lnTo>
                  <a:lnTo>
                    <a:pt x="989" y="59"/>
                  </a:lnTo>
                  <a:lnTo>
                    <a:pt x="994" y="59"/>
                  </a:lnTo>
                  <a:lnTo>
                    <a:pt x="994" y="53"/>
                  </a:lnTo>
                  <a:lnTo>
                    <a:pt x="999" y="53"/>
                  </a:lnTo>
                  <a:lnTo>
                    <a:pt x="999" y="48"/>
                  </a:lnTo>
                  <a:lnTo>
                    <a:pt x="1004" y="48"/>
                  </a:lnTo>
                  <a:lnTo>
                    <a:pt x="1004" y="41"/>
                  </a:lnTo>
                  <a:lnTo>
                    <a:pt x="1013" y="41"/>
                  </a:lnTo>
                  <a:lnTo>
                    <a:pt x="1013" y="35"/>
                  </a:lnTo>
                  <a:lnTo>
                    <a:pt x="1018" y="35"/>
                  </a:lnTo>
                  <a:lnTo>
                    <a:pt x="1018" y="30"/>
                  </a:lnTo>
                  <a:lnTo>
                    <a:pt x="1023" y="30"/>
                  </a:lnTo>
                  <a:lnTo>
                    <a:pt x="1023" y="12"/>
                  </a:lnTo>
                  <a:lnTo>
                    <a:pt x="1028" y="12"/>
                  </a:lnTo>
                  <a:lnTo>
                    <a:pt x="1028" y="7"/>
                  </a:lnTo>
                  <a:lnTo>
                    <a:pt x="1038" y="7"/>
                  </a:lnTo>
                  <a:lnTo>
                    <a:pt x="1038" y="0"/>
                  </a:lnTo>
                  <a:lnTo>
                    <a:pt x="1065" y="0"/>
                  </a:lnTo>
                  <a:lnTo>
                    <a:pt x="1065" y="7"/>
                  </a:lnTo>
                  <a:lnTo>
                    <a:pt x="1076" y="7"/>
                  </a:lnTo>
                  <a:lnTo>
                    <a:pt x="1076" y="19"/>
                  </a:lnTo>
                  <a:lnTo>
                    <a:pt x="1081" y="19"/>
                  </a:lnTo>
                  <a:lnTo>
                    <a:pt x="1081" y="41"/>
                  </a:lnTo>
                  <a:lnTo>
                    <a:pt x="1076" y="41"/>
                  </a:lnTo>
                  <a:lnTo>
                    <a:pt x="1076" y="53"/>
                  </a:lnTo>
                  <a:lnTo>
                    <a:pt x="1072" y="53"/>
                  </a:lnTo>
                  <a:lnTo>
                    <a:pt x="1072" y="59"/>
                  </a:lnTo>
                  <a:lnTo>
                    <a:pt x="1061" y="59"/>
                  </a:lnTo>
                  <a:lnTo>
                    <a:pt x="1061" y="65"/>
                  </a:lnTo>
                  <a:lnTo>
                    <a:pt x="1056" y="65"/>
                  </a:lnTo>
                  <a:lnTo>
                    <a:pt x="1056" y="70"/>
                  </a:lnTo>
                  <a:lnTo>
                    <a:pt x="1051" y="70"/>
                  </a:lnTo>
                  <a:lnTo>
                    <a:pt x="1051" y="78"/>
                  </a:lnTo>
                  <a:lnTo>
                    <a:pt x="1047" y="78"/>
                  </a:lnTo>
                  <a:lnTo>
                    <a:pt x="1047" y="83"/>
                  </a:lnTo>
                  <a:lnTo>
                    <a:pt x="1042" y="83"/>
                  </a:lnTo>
                  <a:lnTo>
                    <a:pt x="1042" y="89"/>
                  </a:lnTo>
                  <a:lnTo>
                    <a:pt x="1032" y="89"/>
                  </a:lnTo>
                  <a:lnTo>
                    <a:pt x="1032" y="101"/>
                  </a:lnTo>
                  <a:lnTo>
                    <a:pt x="1028" y="101"/>
                  </a:lnTo>
                  <a:lnTo>
                    <a:pt x="1028" y="106"/>
                  </a:lnTo>
                  <a:lnTo>
                    <a:pt x="1023" y="106"/>
                  </a:lnTo>
                  <a:lnTo>
                    <a:pt x="1023" y="111"/>
                  </a:lnTo>
                  <a:lnTo>
                    <a:pt x="1018" y="111"/>
                  </a:lnTo>
                  <a:lnTo>
                    <a:pt x="1018" y="119"/>
                  </a:lnTo>
                  <a:lnTo>
                    <a:pt x="1013" y="119"/>
                  </a:lnTo>
                  <a:lnTo>
                    <a:pt x="1013" y="130"/>
                  </a:lnTo>
                  <a:lnTo>
                    <a:pt x="1009" y="130"/>
                  </a:lnTo>
                  <a:lnTo>
                    <a:pt x="1009" y="136"/>
                  </a:lnTo>
                  <a:lnTo>
                    <a:pt x="1004" y="136"/>
                  </a:lnTo>
                  <a:lnTo>
                    <a:pt x="1004" y="143"/>
                  </a:lnTo>
                  <a:lnTo>
                    <a:pt x="999" y="143"/>
                  </a:lnTo>
                  <a:lnTo>
                    <a:pt x="999" y="148"/>
                  </a:lnTo>
                  <a:lnTo>
                    <a:pt x="994" y="148"/>
                  </a:lnTo>
                  <a:lnTo>
                    <a:pt x="994" y="154"/>
                  </a:lnTo>
                  <a:lnTo>
                    <a:pt x="989" y="154"/>
                  </a:lnTo>
                  <a:lnTo>
                    <a:pt x="989" y="160"/>
                  </a:lnTo>
                  <a:lnTo>
                    <a:pt x="984" y="160"/>
                  </a:lnTo>
                  <a:lnTo>
                    <a:pt x="984" y="165"/>
                  </a:lnTo>
                  <a:lnTo>
                    <a:pt x="979" y="165"/>
                  </a:lnTo>
                  <a:lnTo>
                    <a:pt x="979" y="171"/>
                  </a:lnTo>
                  <a:lnTo>
                    <a:pt x="975" y="171"/>
                  </a:lnTo>
                  <a:lnTo>
                    <a:pt x="975" y="184"/>
                  </a:lnTo>
                  <a:lnTo>
                    <a:pt x="965" y="184"/>
                  </a:lnTo>
                  <a:lnTo>
                    <a:pt x="965" y="196"/>
                  </a:lnTo>
                  <a:lnTo>
                    <a:pt x="956" y="196"/>
                  </a:lnTo>
                  <a:lnTo>
                    <a:pt x="956" y="201"/>
                  </a:lnTo>
                  <a:lnTo>
                    <a:pt x="951" y="201"/>
                  </a:lnTo>
                  <a:lnTo>
                    <a:pt x="951" y="206"/>
                  </a:lnTo>
                  <a:lnTo>
                    <a:pt x="946" y="206"/>
                  </a:lnTo>
                  <a:lnTo>
                    <a:pt x="946" y="214"/>
                  </a:lnTo>
                  <a:lnTo>
                    <a:pt x="942" y="214"/>
                  </a:lnTo>
                  <a:lnTo>
                    <a:pt x="942" y="219"/>
                  </a:lnTo>
                  <a:lnTo>
                    <a:pt x="936" y="219"/>
                  </a:lnTo>
                  <a:lnTo>
                    <a:pt x="936" y="225"/>
                  </a:lnTo>
                  <a:lnTo>
                    <a:pt x="932" y="225"/>
                  </a:lnTo>
                  <a:lnTo>
                    <a:pt x="932" y="230"/>
                  </a:lnTo>
                  <a:lnTo>
                    <a:pt x="928" y="230"/>
                  </a:lnTo>
                  <a:lnTo>
                    <a:pt x="928" y="237"/>
                  </a:lnTo>
                  <a:lnTo>
                    <a:pt x="921" y="237"/>
                  </a:lnTo>
                  <a:lnTo>
                    <a:pt x="921" y="242"/>
                  </a:lnTo>
                  <a:lnTo>
                    <a:pt x="917" y="242"/>
                  </a:lnTo>
                  <a:lnTo>
                    <a:pt x="917" y="249"/>
                  </a:lnTo>
                  <a:lnTo>
                    <a:pt x="912" y="249"/>
                  </a:lnTo>
                  <a:lnTo>
                    <a:pt x="912" y="255"/>
                  </a:lnTo>
                  <a:lnTo>
                    <a:pt x="902" y="255"/>
                  </a:lnTo>
                  <a:lnTo>
                    <a:pt x="902" y="260"/>
                  </a:lnTo>
                  <a:lnTo>
                    <a:pt x="898" y="260"/>
                  </a:lnTo>
                  <a:lnTo>
                    <a:pt x="898" y="266"/>
                  </a:lnTo>
                  <a:lnTo>
                    <a:pt x="888" y="266"/>
                  </a:lnTo>
                  <a:lnTo>
                    <a:pt x="888" y="279"/>
                  </a:lnTo>
                  <a:lnTo>
                    <a:pt x="884" y="279"/>
                  </a:lnTo>
                  <a:lnTo>
                    <a:pt x="884" y="284"/>
                  </a:lnTo>
                  <a:lnTo>
                    <a:pt x="874" y="284"/>
                  </a:lnTo>
                  <a:lnTo>
                    <a:pt x="874" y="296"/>
                  </a:lnTo>
                  <a:lnTo>
                    <a:pt x="869" y="296"/>
                  </a:lnTo>
                  <a:lnTo>
                    <a:pt x="869" y="302"/>
                  </a:lnTo>
                  <a:lnTo>
                    <a:pt x="865" y="302"/>
                  </a:lnTo>
                  <a:lnTo>
                    <a:pt x="865" y="307"/>
                  </a:lnTo>
                  <a:lnTo>
                    <a:pt x="860" y="307"/>
                  </a:lnTo>
                  <a:lnTo>
                    <a:pt x="860" y="320"/>
                  </a:lnTo>
                  <a:lnTo>
                    <a:pt x="855" y="320"/>
                  </a:lnTo>
                  <a:lnTo>
                    <a:pt x="855" y="325"/>
                  </a:lnTo>
                  <a:lnTo>
                    <a:pt x="849" y="325"/>
                  </a:lnTo>
                  <a:lnTo>
                    <a:pt x="849" y="331"/>
                  </a:lnTo>
                  <a:lnTo>
                    <a:pt x="845" y="331"/>
                  </a:lnTo>
                  <a:lnTo>
                    <a:pt x="845" y="337"/>
                  </a:lnTo>
                  <a:lnTo>
                    <a:pt x="840" y="337"/>
                  </a:lnTo>
                  <a:lnTo>
                    <a:pt x="840" y="343"/>
                  </a:lnTo>
                  <a:lnTo>
                    <a:pt x="835" y="343"/>
                  </a:lnTo>
                  <a:lnTo>
                    <a:pt x="835" y="348"/>
                  </a:lnTo>
                  <a:lnTo>
                    <a:pt x="831" y="348"/>
                  </a:lnTo>
                  <a:lnTo>
                    <a:pt x="831" y="361"/>
                  </a:lnTo>
                  <a:lnTo>
                    <a:pt x="821" y="361"/>
                  </a:lnTo>
                  <a:lnTo>
                    <a:pt x="821" y="373"/>
                  </a:lnTo>
                  <a:lnTo>
                    <a:pt x="816" y="373"/>
                  </a:lnTo>
                  <a:lnTo>
                    <a:pt x="816" y="378"/>
                  </a:lnTo>
                  <a:lnTo>
                    <a:pt x="812" y="378"/>
                  </a:lnTo>
                  <a:lnTo>
                    <a:pt x="812" y="385"/>
                  </a:lnTo>
                  <a:lnTo>
                    <a:pt x="806" y="385"/>
                  </a:lnTo>
                  <a:lnTo>
                    <a:pt x="806" y="391"/>
                  </a:lnTo>
                  <a:lnTo>
                    <a:pt x="802" y="391"/>
                  </a:lnTo>
                  <a:lnTo>
                    <a:pt x="802" y="397"/>
                  </a:lnTo>
                  <a:lnTo>
                    <a:pt x="798" y="397"/>
                  </a:lnTo>
                  <a:lnTo>
                    <a:pt x="798" y="402"/>
                  </a:lnTo>
                  <a:lnTo>
                    <a:pt x="793" y="402"/>
                  </a:lnTo>
                  <a:lnTo>
                    <a:pt x="793" y="407"/>
                  </a:lnTo>
                  <a:lnTo>
                    <a:pt x="788" y="407"/>
                  </a:lnTo>
                  <a:lnTo>
                    <a:pt x="788" y="415"/>
                  </a:lnTo>
                  <a:lnTo>
                    <a:pt x="784" y="415"/>
                  </a:lnTo>
                  <a:lnTo>
                    <a:pt x="784" y="420"/>
                  </a:lnTo>
                  <a:lnTo>
                    <a:pt x="777" y="420"/>
                  </a:lnTo>
                  <a:lnTo>
                    <a:pt x="777" y="426"/>
                  </a:lnTo>
                  <a:lnTo>
                    <a:pt x="768" y="426"/>
                  </a:lnTo>
                  <a:lnTo>
                    <a:pt x="768" y="438"/>
                  </a:lnTo>
                  <a:lnTo>
                    <a:pt x="758" y="438"/>
                  </a:lnTo>
                  <a:lnTo>
                    <a:pt x="758" y="443"/>
                  </a:lnTo>
                  <a:lnTo>
                    <a:pt x="754" y="443"/>
                  </a:lnTo>
                  <a:lnTo>
                    <a:pt x="754" y="450"/>
                  </a:lnTo>
                  <a:lnTo>
                    <a:pt x="750" y="450"/>
                  </a:lnTo>
                  <a:lnTo>
                    <a:pt x="750" y="461"/>
                  </a:lnTo>
                  <a:lnTo>
                    <a:pt x="744" y="461"/>
                  </a:lnTo>
                  <a:lnTo>
                    <a:pt x="744" y="467"/>
                  </a:lnTo>
                  <a:lnTo>
                    <a:pt x="740" y="467"/>
                  </a:lnTo>
                  <a:lnTo>
                    <a:pt x="740" y="473"/>
                  </a:lnTo>
                  <a:lnTo>
                    <a:pt x="735" y="473"/>
                  </a:lnTo>
                  <a:lnTo>
                    <a:pt x="735" y="478"/>
                  </a:lnTo>
                  <a:lnTo>
                    <a:pt x="730" y="478"/>
                  </a:lnTo>
                  <a:lnTo>
                    <a:pt x="730" y="484"/>
                  </a:lnTo>
                  <a:lnTo>
                    <a:pt x="725" y="484"/>
                  </a:lnTo>
                  <a:lnTo>
                    <a:pt x="725" y="491"/>
                  </a:lnTo>
                  <a:lnTo>
                    <a:pt x="721" y="491"/>
                  </a:lnTo>
                  <a:lnTo>
                    <a:pt x="721" y="497"/>
                  </a:lnTo>
                  <a:lnTo>
                    <a:pt x="716" y="497"/>
                  </a:lnTo>
                  <a:lnTo>
                    <a:pt x="716" y="508"/>
                  </a:lnTo>
                  <a:lnTo>
                    <a:pt x="711" y="508"/>
                  </a:lnTo>
                  <a:lnTo>
                    <a:pt x="711" y="521"/>
                  </a:lnTo>
                  <a:lnTo>
                    <a:pt x="707" y="521"/>
                  </a:lnTo>
                  <a:lnTo>
                    <a:pt x="707" y="526"/>
                  </a:lnTo>
                  <a:lnTo>
                    <a:pt x="701" y="526"/>
                  </a:lnTo>
                  <a:lnTo>
                    <a:pt x="701" y="532"/>
                  </a:lnTo>
                  <a:lnTo>
                    <a:pt x="696" y="532"/>
                  </a:lnTo>
                  <a:lnTo>
                    <a:pt x="696" y="538"/>
                  </a:lnTo>
                  <a:lnTo>
                    <a:pt x="691" y="538"/>
                  </a:lnTo>
                  <a:lnTo>
                    <a:pt x="691" y="551"/>
                  </a:lnTo>
                  <a:lnTo>
                    <a:pt x="687" y="551"/>
                  </a:lnTo>
                  <a:lnTo>
                    <a:pt x="687" y="556"/>
                  </a:lnTo>
                  <a:lnTo>
                    <a:pt x="681" y="556"/>
                  </a:lnTo>
                  <a:lnTo>
                    <a:pt x="681" y="568"/>
                  </a:lnTo>
                  <a:lnTo>
                    <a:pt x="677" y="568"/>
                  </a:lnTo>
                  <a:lnTo>
                    <a:pt x="677" y="573"/>
                  </a:lnTo>
                  <a:lnTo>
                    <a:pt x="672" y="573"/>
                  </a:lnTo>
                  <a:lnTo>
                    <a:pt x="672" y="579"/>
                  </a:lnTo>
                  <a:lnTo>
                    <a:pt x="667" y="579"/>
                  </a:lnTo>
                  <a:lnTo>
                    <a:pt x="667" y="584"/>
                  </a:lnTo>
                  <a:lnTo>
                    <a:pt x="663" y="584"/>
                  </a:lnTo>
                  <a:lnTo>
                    <a:pt x="663" y="592"/>
                  </a:lnTo>
                  <a:lnTo>
                    <a:pt x="658" y="592"/>
                  </a:lnTo>
                  <a:lnTo>
                    <a:pt x="658" y="597"/>
                  </a:lnTo>
                  <a:lnTo>
                    <a:pt x="654" y="597"/>
                  </a:lnTo>
                  <a:lnTo>
                    <a:pt x="654" y="603"/>
                  </a:lnTo>
                  <a:lnTo>
                    <a:pt x="648" y="603"/>
                  </a:lnTo>
                  <a:lnTo>
                    <a:pt x="648" y="609"/>
                  </a:lnTo>
                  <a:lnTo>
                    <a:pt x="644" y="609"/>
                  </a:lnTo>
                  <a:lnTo>
                    <a:pt x="644" y="620"/>
                  </a:lnTo>
                  <a:lnTo>
                    <a:pt x="639" y="620"/>
                  </a:lnTo>
                  <a:lnTo>
                    <a:pt x="639" y="627"/>
                  </a:lnTo>
                  <a:lnTo>
                    <a:pt x="633" y="627"/>
                  </a:lnTo>
                  <a:lnTo>
                    <a:pt x="633" y="638"/>
                  </a:lnTo>
                  <a:lnTo>
                    <a:pt x="628" y="638"/>
                  </a:lnTo>
                  <a:lnTo>
                    <a:pt x="628" y="644"/>
                  </a:lnTo>
                  <a:lnTo>
                    <a:pt x="624" y="644"/>
                  </a:lnTo>
                  <a:lnTo>
                    <a:pt x="624" y="657"/>
                  </a:lnTo>
                  <a:lnTo>
                    <a:pt x="619" y="657"/>
                  </a:lnTo>
                  <a:lnTo>
                    <a:pt x="619" y="662"/>
                  </a:lnTo>
                  <a:lnTo>
                    <a:pt x="614" y="662"/>
                  </a:lnTo>
                  <a:lnTo>
                    <a:pt x="614" y="669"/>
                  </a:lnTo>
                  <a:lnTo>
                    <a:pt x="610" y="669"/>
                  </a:lnTo>
                  <a:lnTo>
                    <a:pt x="610" y="674"/>
                  </a:lnTo>
                  <a:lnTo>
                    <a:pt x="605" y="674"/>
                  </a:lnTo>
                  <a:lnTo>
                    <a:pt x="605" y="679"/>
                  </a:lnTo>
                  <a:lnTo>
                    <a:pt x="600" y="679"/>
                  </a:lnTo>
                  <a:lnTo>
                    <a:pt x="600" y="687"/>
                  </a:lnTo>
                  <a:lnTo>
                    <a:pt x="595" y="687"/>
                  </a:lnTo>
                  <a:lnTo>
                    <a:pt x="595" y="692"/>
                  </a:lnTo>
                  <a:lnTo>
                    <a:pt x="591" y="692"/>
                  </a:lnTo>
                  <a:lnTo>
                    <a:pt x="591" y="698"/>
                  </a:lnTo>
                  <a:lnTo>
                    <a:pt x="586" y="698"/>
                  </a:lnTo>
                  <a:lnTo>
                    <a:pt x="586" y="703"/>
                  </a:lnTo>
                  <a:lnTo>
                    <a:pt x="581" y="703"/>
                  </a:lnTo>
                  <a:lnTo>
                    <a:pt x="581" y="710"/>
                  </a:lnTo>
                  <a:lnTo>
                    <a:pt x="577" y="710"/>
                  </a:lnTo>
                  <a:lnTo>
                    <a:pt x="577" y="715"/>
                  </a:lnTo>
                  <a:lnTo>
                    <a:pt x="572" y="715"/>
                  </a:lnTo>
                  <a:lnTo>
                    <a:pt x="572" y="722"/>
                  </a:lnTo>
                  <a:lnTo>
                    <a:pt x="567" y="722"/>
                  </a:lnTo>
                  <a:lnTo>
                    <a:pt x="567" y="733"/>
                  </a:lnTo>
                  <a:lnTo>
                    <a:pt x="561" y="733"/>
                  </a:lnTo>
                  <a:lnTo>
                    <a:pt x="561" y="739"/>
                  </a:lnTo>
                  <a:lnTo>
                    <a:pt x="557" y="739"/>
                  </a:lnTo>
                  <a:lnTo>
                    <a:pt x="557" y="745"/>
                  </a:lnTo>
                  <a:lnTo>
                    <a:pt x="551" y="745"/>
                  </a:lnTo>
                  <a:lnTo>
                    <a:pt x="551" y="752"/>
                  </a:lnTo>
                  <a:lnTo>
                    <a:pt x="547" y="752"/>
                  </a:lnTo>
                  <a:lnTo>
                    <a:pt x="547" y="757"/>
                  </a:lnTo>
                  <a:lnTo>
                    <a:pt x="543" y="757"/>
                  </a:lnTo>
                  <a:lnTo>
                    <a:pt x="543" y="769"/>
                  </a:lnTo>
                  <a:lnTo>
                    <a:pt x="537" y="769"/>
                  </a:lnTo>
                  <a:lnTo>
                    <a:pt x="537" y="775"/>
                  </a:lnTo>
                  <a:lnTo>
                    <a:pt x="528" y="775"/>
                  </a:lnTo>
                  <a:lnTo>
                    <a:pt x="528" y="780"/>
                  </a:lnTo>
                  <a:lnTo>
                    <a:pt x="523" y="780"/>
                  </a:lnTo>
                  <a:lnTo>
                    <a:pt x="523" y="793"/>
                  </a:lnTo>
                  <a:lnTo>
                    <a:pt x="514" y="793"/>
                  </a:lnTo>
                  <a:lnTo>
                    <a:pt x="514" y="804"/>
                  </a:lnTo>
                  <a:lnTo>
                    <a:pt x="509" y="804"/>
                  </a:lnTo>
                  <a:lnTo>
                    <a:pt x="509" y="810"/>
                  </a:lnTo>
                  <a:lnTo>
                    <a:pt x="504" y="810"/>
                  </a:lnTo>
                  <a:lnTo>
                    <a:pt x="504" y="816"/>
                  </a:lnTo>
                  <a:lnTo>
                    <a:pt x="500" y="816"/>
                  </a:lnTo>
                  <a:lnTo>
                    <a:pt x="500" y="828"/>
                  </a:lnTo>
                  <a:lnTo>
                    <a:pt x="495" y="828"/>
                  </a:lnTo>
                  <a:lnTo>
                    <a:pt x="495" y="834"/>
                  </a:lnTo>
                  <a:lnTo>
                    <a:pt x="490" y="834"/>
                  </a:lnTo>
                  <a:lnTo>
                    <a:pt x="490" y="839"/>
                  </a:lnTo>
                  <a:lnTo>
                    <a:pt x="484" y="839"/>
                  </a:lnTo>
                  <a:lnTo>
                    <a:pt x="484" y="846"/>
                  </a:lnTo>
                  <a:lnTo>
                    <a:pt x="480" y="846"/>
                  </a:lnTo>
                  <a:lnTo>
                    <a:pt x="480" y="851"/>
                  </a:lnTo>
                  <a:lnTo>
                    <a:pt x="475" y="851"/>
                  </a:lnTo>
                  <a:lnTo>
                    <a:pt x="475" y="864"/>
                  </a:lnTo>
                  <a:lnTo>
                    <a:pt x="465" y="864"/>
                  </a:lnTo>
                  <a:lnTo>
                    <a:pt x="465" y="870"/>
                  </a:lnTo>
                  <a:lnTo>
                    <a:pt x="461" y="870"/>
                  </a:lnTo>
                  <a:lnTo>
                    <a:pt x="461" y="875"/>
                  </a:lnTo>
                  <a:lnTo>
                    <a:pt x="456" y="875"/>
                  </a:lnTo>
                  <a:lnTo>
                    <a:pt x="456" y="888"/>
                  </a:lnTo>
                  <a:lnTo>
                    <a:pt x="452" y="888"/>
                  </a:lnTo>
                  <a:lnTo>
                    <a:pt x="452" y="893"/>
                  </a:lnTo>
                  <a:lnTo>
                    <a:pt x="447" y="893"/>
                  </a:lnTo>
                  <a:lnTo>
                    <a:pt x="447" y="898"/>
                  </a:lnTo>
                  <a:lnTo>
                    <a:pt x="442" y="898"/>
                  </a:lnTo>
                  <a:lnTo>
                    <a:pt x="442" y="905"/>
                  </a:lnTo>
                  <a:lnTo>
                    <a:pt x="437" y="905"/>
                  </a:lnTo>
                  <a:lnTo>
                    <a:pt x="437" y="916"/>
                  </a:lnTo>
                  <a:lnTo>
                    <a:pt x="433" y="916"/>
                  </a:lnTo>
                  <a:lnTo>
                    <a:pt x="433" y="929"/>
                  </a:lnTo>
                  <a:lnTo>
                    <a:pt x="428" y="929"/>
                  </a:lnTo>
                  <a:lnTo>
                    <a:pt x="428" y="934"/>
                  </a:lnTo>
                  <a:lnTo>
                    <a:pt x="423" y="934"/>
                  </a:lnTo>
                  <a:lnTo>
                    <a:pt x="423" y="940"/>
                  </a:lnTo>
                  <a:lnTo>
                    <a:pt x="418" y="940"/>
                  </a:lnTo>
                  <a:lnTo>
                    <a:pt x="418" y="951"/>
                  </a:lnTo>
                  <a:lnTo>
                    <a:pt x="413" y="951"/>
                  </a:lnTo>
                  <a:lnTo>
                    <a:pt x="413" y="957"/>
                  </a:lnTo>
                  <a:lnTo>
                    <a:pt x="408" y="957"/>
                  </a:lnTo>
                  <a:lnTo>
                    <a:pt x="408" y="964"/>
                  </a:lnTo>
                  <a:lnTo>
                    <a:pt x="403" y="964"/>
                  </a:lnTo>
                  <a:lnTo>
                    <a:pt x="403" y="975"/>
                  </a:lnTo>
                  <a:lnTo>
                    <a:pt x="399" y="975"/>
                  </a:lnTo>
                  <a:lnTo>
                    <a:pt x="399" y="987"/>
                  </a:lnTo>
                  <a:lnTo>
                    <a:pt x="393" y="987"/>
                  </a:lnTo>
                  <a:lnTo>
                    <a:pt x="393" y="992"/>
                  </a:lnTo>
                  <a:lnTo>
                    <a:pt x="389" y="992"/>
                  </a:lnTo>
                  <a:lnTo>
                    <a:pt x="389" y="999"/>
                  </a:lnTo>
                  <a:lnTo>
                    <a:pt x="384" y="999"/>
                  </a:lnTo>
                  <a:lnTo>
                    <a:pt x="384" y="1011"/>
                  </a:lnTo>
                  <a:lnTo>
                    <a:pt x="379" y="1011"/>
                  </a:lnTo>
                  <a:lnTo>
                    <a:pt x="379" y="1016"/>
                  </a:lnTo>
                  <a:lnTo>
                    <a:pt x="374" y="1016"/>
                  </a:lnTo>
                  <a:lnTo>
                    <a:pt x="374" y="1024"/>
                  </a:lnTo>
                  <a:lnTo>
                    <a:pt x="370" y="1024"/>
                  </a:lnTo>
                  <a:lnTo>
                    <a:pt x="370" y="1029"/>
                  </a:lnTo>
                  <a:lnTo>
                    <a:pt x="366" y="1029"/>
                  </a:lnTo>
                  <a:lnTo>
                    <a:pt x="366" y="1041"/>
                  </a:lnTo>
                  <a:lnTo>
                    <a:pt x="360" y="1041"/>
                  </a:lnTo>
                  <a:lnTo>
                    <a:pt x="360" y="1046"/>
                  </a:lnTo>
                  <a:lnTo>
                    <a:pt x="356" y="1046"/>
                  </a:lnTo>
                  <a:lnTo>
                    <a:pt x="356" y="1057"/>
                  </a:lnTo>
                  <a:lnTo>
                    <a:pt x="351" y="1057"/>
                  </a:lnTo>
                  <a:lnTo>
                    <a:pt x="351" y="1065"/>
                  </a:lnTo>
                  <a:lnTo>
                    <a:pt x="346" y="1065"/>
                  </a:lnTo>
                  <a:lnTo>
                    <a:pt x="346" y="1076"/>
                  </a:lnTo>
                  <a:lnTo>
                    <a:pt x="340" y="1076"/>
                  </a:lnTo>
                  <a:lnTo>
                    <a:pt x="340" y="1082"/>
                  </a:lnTo>
                  <a:lnTo>
                    <a:pt x="336" y="1082"/>
                  </a:lnTo>
                  <a:lnTo>
                    <a:pt x="336" y="1093"/>
                  </a:lnTo>
                  <a:lnTo>
                    <a:pt x="326" y="1093"/>
                  </a:lnTo>
                  <a:lnTo>
                    <a:pt x="326" y="1106"/>
                  </a:lnTo>
                  <a:lnTo>
                    <a:pt x="322" y="1106"/>
                  </a:lnTo>
                  <a:lnTo>
                    <a:pt x="322" y="1111"/>
                  </a:lnTo>
                  <a:lnTo>
                    <a:pt x="317" y="1111"/>
                  </a:lnTo>
                  <a:lnTo>
                    <a:pt x="317" y="1117"/>
                  </a:lnTo>
                  <a:lnTo>
                    <a:pt x="312" y="1117"/>
                  </a:lnTo>
                  <a:lnTo>
                    <a:pt x="312" y="1123"/>
                  </a:lnTo>
                  <a:lnTo>
                    <a:pt x="303" y="1123"/>
                  </a:lnTo>
                  <a:lnTo>
                    <a:pt x="303" y="1135"/>
                  </a:lnTo>
                  <a:lnTo>
                    <a:pt x="297" y="1135"/>
                  </a:lnTo>
                  <a:lnTo>
                    <a:pt x="297" y="1142"/>
                  </a:lnTo>
                  <a:lnTo>
                    <a:pt x="293" y="1142"/>
                  </a:lnTo>
                  <a:lnTo>
                    <a:pt x="293" y="1147"/>
                  </a:lnTo>
                  <a:lnTo>
                    <a:pt x="288" y="1147"/>
                  </a:lnTo>
                  <a:lnTo>
                    <a:pt x="288" y="1152"/>
                  </a:lnTo>
                  <a:lnTo>
                    <a:pt x="283" y="1152"/>
                  </a:lnTo>
                  <a:lnTo>
                    <a:pt x="283" y="1165"/>
                  </a:lnTo>
                  <a:lnTo>
                    <a:pt x="279" y="1165"/>
                  </a:lnTo>
                  <a:lnTo>
                    <a:pt x="279" y="1171"/>
                  </a:lnTo>
                  <a:lnTo>
                    <a:pt x="274" y="1171"/>
                  </a:lnTo>
                  <a:lnTo>
                    <a:pt x="274" y="1176"/>
                  </a:lnTo>
                  <a:lnTo>
                    <a:pt x="269" y="1176"/>
                  </a:lnTo>
                  <a:lnTo>
                    <a:pt x="269" y="1188"/>
                  </a:lnTo>
                  <a:lnTo>
                    <a:pt x="263" y="1188"/>
                  </a:lnTo>
                  <a:lnTo>
                    <a:pt x="263" y="1193"/>
                  </a:lnTo>
                  <a:lnTo>
                    <a:pt x="259" y="1193"/>
                  </a:lnTo>
                  <a:lnTo>
                    <a:pt x="259" y="1201"/>
                  </a:lnTo>
                  <a:lnTo>
                    <a:pt x="254" y="1201"/>
                  </a:lnTo>
                  <a:lnTo>
                    <a:pt x="254" y="1206"/>
                  </a:lnTo>
                  <a:lnTo>
                    <a:pt x="249" y="1206"/>
                  </a:lnTo>
                  <a:lnTo>
                    <a:pt x="249" y="1212"/>
                  </a:lnTo>
                  <a:lnTo>
                    <a:pt x="245" y="1212"/>
                  </a:lnTo>
                  <a:lnTo>
                    <a:pt x="245" y="1218"/>
                  </a:lnTo>
                  <a:lnTo>
                    <a:pt x="240" y="1218"/>
                  </a:lnTo>
                  <a:lnTo>
                    <a:pt x="240" y="1224"/>
                  </a:lnTo>
                  <a:lnTo>
                    <a:pt x="235" y="1224"/>
                  </a:lnTo>
                  <a:lnTo>
                    <a:pt x="235" y="1229"/>
                  </a:lnTo>
                  <a:lnTo>
                    <a:pt x="230" y="1229"/>
                  </a:lnTo>
                  <a:lnTo>
                    <a:pt x="230" y="1236"/>
                  </a:lnTo>
                  <a:lnTo>
                    <a:pt x="226" y="1236"/>
                  </a:lnTo>
                  <a:lnTo>
                    <a:pt x="226" y="1247"/>
                  </a:lnTo>
                  <a:lnTo>
                    <a:pt x="216" y="1247"/>
                  </a:lnTo>
                  <a:lnTo>
                    <a:pt x="216" y="1259"/>
                  </a:lnTo>
                  <a:lnTo>
                    <a:pt x="211" y="1259"/>
                  </a:lnTo>
                  <a:lnTo>
                    <a:pt x="211" y="1266"/>
                  </a:lnTo>
                  <a:lnTo>
                    <a:pt x="202" y="1266"/>
                  </a:lnTo>
                  <a:lnTo>
                    <a:pt x="202" y="1271"/>
                  </a:lnTo>
                  <a:lnTo>
                    <a:pt x="196" y="1271"/>
                  </a:lnTo>
                  <a:lnTo>
                    <a:pt x="196" y="1277"/>
                  </a:lnTo>
                  <a:lnTo>
                    <a:pt x="192" y="1277"/>
                  </a:lnTo>
                  <a:lnTo>
                    <a:pt x="192" y="1283"/>
                  </a:lnTo>
                  <a:lnTo>
                    <a:pt x="187" y="1283"/>
                  </a:lnTo>
                  <a:lnTo>
                    <a:pt x="187" y="1289"/>
                  </a:lnTo>
                  <a:lnTo>
                    <a:pt x="182" y="1289"/>
                  </a:lnTo>
                  <a:lnTo>
                    <a:pt x="182" y="1294"/>
                  </a:lnTo>
                  <a:lnTo>
                    <a:pt x="177" y="1294"/>
                  </a:lnTo>
                  <a:lnTo>
                    <a:pt x="177" y="1301"/>
                  </a:lnTo>
                  <a:lnTo>
                    <a:pt x="173" y="1301"/>
                  </a:lnTo>
                  <a:lnTo>
                    <a:pt x="173" y="1307"/>
                  </a:lnTo>
                  <a:lnTo>
                    <a:pt x="167" y="1307"/>
                  </a:lnTo>
                  <a:lnTo>
                    <a:pt x="167" y="1312"/>
                  </a:lnTo>
                  <a:lnTo>
                    <a:pt x="163" y="1312"/>
                  </a:lnTo>
                  <a:lnTo>
                    <a:pt x="163" y="1318"/>
                  </a:lnTo>
                  <a:lnTo>
                    <a:pt x="159" y="1318"/>
                  </a:lnTo>
                  <a:lnTo>
                    <a:pt x="159" y="1329"/>
                  </a:lnTo>
                  <a:lnTo>
                    <a:pt x="149" y="1329"/>
                  </a:lnTo>
                  <a:lnTo>
                    <a:pt x="149" y="1337"/>
                  </a:lnTo>
                  <a:lnTo>
                    <a:pt x="144" y="1337"/>
                  </a:lnTo>
                  <a:lnTo>
                    <a:pt x="144" y="1342"/>
                  </a:lnTo>
                  <a:lnTo>
                    <a:pt x="139" y="1342"/>
                  </a:lnTo>
                  <a:lnTo>
                    <a:pt x="139" y="1348"/>
                  </a:lnTo>
                  <a:lnTo>
                    <a:pt x="134" y="1348"/>
                  </a:lnTo>
                  <a:lnTo>
                    <a:pt x="134" y="1353"/>
                  </a:lnTo>
                  <a:lnTo>
                    <a:pt x="130" y="1353"/>
                  </a:lnTo>
                  <a:lnTo>
                    <a:pt x="130" y="1359"/>
                  </a:lnTo>
                  <a:lnTo>
                    <a:pt x="124" y="1359"/>
                  </a:lnTo>
                  <a:lnTo>
                    <a:pt x="124" y="1365"/>
                  </a:lnTo>
                  <a:lnTo>
                    <a:pt x="119" y="1365"/>
                  </a:lnTo>
                  <a:lnTo>
                    <a:pt x="119" y="1370"/>
                  </a:lnTo>
                  <a:lnTo>
                    <a:pt x="115" y="1370"/>
                  </a:lnTo>
                  <a:lnTo>
                    <a:pt x="115" y="1378"/>
                  </a:lnTo>
                  <a:lnTo>
                    <a:pt x="111" y="1378"/>
                  </a:lnTo>
                  <a:lnTo>
                    <a:pt x="111" y="1383"/>
                  </a:lnTo>
                  <a:lnTo>
                    <a:pt x="105" y="1383"/>
                  </a:lnTo>
                  <a:lnTo>
                    <a:pt x="105" y="1389"/>
                  </a:lnTo>
                  <a:lnTo>
                    <a:pt x="101" y="1389"/>
                  </a:lnTo>
                  <a:lnTo>
                    <a:pt x="101" y="1395"/>
                  </a:lnTo>
                  <a:lnTo>
                    <a:pt x="96" y="1395"/>
                  </a:lnTo>
                  <a:lnTo>
                    <a:pt x="96" y="1407"/>
                  </a:lnTo>
                  <a:lnTo>
                    <a:pt x="91" y="1407"/>
                  </a:lnTo>
                  <a:lnTo>
                    <a:pt x="91" y="1424"/>
                  </a:lnTo>
                  <a:lnTo>
                    <a:pt x="130" y="1424"/>
                  </a:lnTo>
                  <a:lnTo>
                    <a:pt x="130" y="1430"/>
                  </a:lnTo>
                  <a:lnTo>
                    <a:pt x="144" y="1430"/>
                  </a:lnTo>
                  <a:lnTo>
                    <a:pt x="144" y="1437"/>
                  </a:lnTo>
                  <a:lnTo>
                    <a:pt x="163" y="1437"/>
                  </a:lnTo>
                  <a:lnTo>
                    <a:pt x="163" y="1443"/>
                  </a:lnTo>
                  <a:lnTo>
                    <a:pt x="187" y="1443"/>
                  </a:lnTo>
                  <a:lnTo>
                    <a:pt x="187" y="1448"/>
                  </a:lnTo>
                  <a:lnTo>
                    <a:pt x="202" y="1448"/>
                  </a:lnTo>
                  <a:lnTo>
                    <a:pt x="202" y="1454"/>
                  </a:lnTo>
                  <a:lnTo>
                    <a:pt x="221" y="1454"/>
                  </a:lnTo>
                  <a:lnTo>
                    <a:pt x="221" y="1460"/>
                  </a:lnTo>
                  <a:lnTo>
                    <a:pt x="245" y="1460"/>
                  </a:lnTo>
                  <a:lnTo>
                    <a:pt x="245" y="1465"/>
                  </a:lnTo>
                  <a:lnTo>
                    <a:pt x="263" y="1465"/>
                  </a:lnTo>
                  <a:lnTo>
                    <a:pt x="263" y="1472"/>
                  </a:lnTo>
                  <a:lnTo>
                    <a:pt x="288" y="1472"/>
                  </a:lnTo>
                  <a:lnTo>
                    <a:pt x="288" y="1478"/>
                  </a:lnTo>
                  <a:lnTo>
                    <a:pt x="297" y="1478"/>
                  </a:lnTo>
                  <a:lnTo>
                    <a:pt x="297" y="1484"/>
                  </a:lnTo>
                  <a:lnTo>
                    <a:pt x="322" y="1484"/>
                  </a:lnTo>
                  <a:lnTo>
                    <a:pt x="322" y="1489"/>
                  </a:lnTo>
                  <a:lnTo>
                    <a:pt x="346" y="1489"/>
                  </a:lnTo>
                  <a:lnTo>
                    <a:pt x="346" y="1496"/>
                  </a:lnTo>
                  <a:lnTo>
                    <a:pt x="360" y="1496"/>
                  </a:lnTo>
                  <a:lnTo>
                    <a:pt x="360" y="1501"/>
                  </a:lnTo>
                  <a:lnTo>
                    <a:pt x="374" y="1501"/>
                  </a:lnTo>
                  <a:lnTo>
                    <a:pt x="374" y="1508"/>
                  </a:lnTo>
                  <a:lnTo>
                    <a:pt x="389" y="1508"/>
                  </a:lnTo>
                  <a:lnTo>
                    <a:pt x="389" y="1514"/>
                  </a:lnTo>
                  <a:lnTo>
                    <a:pt x="403" y="1514"/>
                  </a:lnTo>
                  <a:lnTo>
                    <a:pt x="403" y="1519"/>
                  </a:lnTo>
                  <a:lnTo>
                    <a:pt x="413" y="1519"/>
                  </a:lnTo>
                  <a:lnTo>
                    <a:pt x="413" y="1525"/>
                  </a:lnTo>
                  <a:lnTo>
                    <a:pt x="437" y="1525"/>
                  </a:lnTo>
                  <a:lnTo>
                    <a:pt x="437" y="1530"/>
                  </a:lnTo>
                  <a:lnTo>
                    <a:pt x="452" y="1530"/>
                  </a:lnTo>
                  <a:lnTo>
                    <a:pt x="452" y="1538"/>
                  </a:lnTo>
                  <a:lnTo>
                    <a:pt x="480" y="1538"/>
                  </a:lnTo>
                  <a:lnTo>
                    <a:pt x="480" y="1543"/>
                  </a:lnTo>
                  <a:lnTo>
                    <a:pt x="504" y="1543"/>
                  </a:lnTo>
                  <a:lnTo>
                    <a:pt x="504" y="1549"/>
                  </a:lnTo>
                  <a:lnTo>
                    <a:pt x="523" y="1549"/>
                  </a:lnTo>
                  <a:lnTo>
                    <a:pt x="523" y="1555"/>
                  </a:lnTo>
                  <a:lnTo>
                    <a:pt x="557" y="1555"/>
                  </a:lnTo>
                  <a:lnTo>
                    <a:pt x="557" y="1560"/>
                  </a:lnTo>
                  <a:lnTo>
                    <a:pt x="567" y="1560"/>
                  </a:lnTo>
                  <a:lnTo>
                    <a:pt x="567" y="1566"/>
                  </a:lnTo>
                  <a:lnTo>
                    <a:pt x="600" y="1566"/>
                  </a:lnTo>
                  <a:lnTo>
                    <a:pt x="600" y="1573"/>
                  </a:lnTo>
                  <a:lnTo>
                    <a:pt x="628" y="1573"/>
                  </a:lnTo>
                  <a:lnTo>
                    <a:pt x="628" y="1579"/>
                  </a:lnTo>
                  <a:lnTo>
                    <a:pt x="644" y="1579"/>
                  </a:lnTo>
                  <a:lnTo>
                    <a:pt x="644" y="1584"/>
                  </a:lnTo>
                  <a:lnTo>
                    <a:pt x="663" y="1584"/>
                  </a:lnTo>
                  <a:lnTo>
                    <a:pt x="663" y="1590"/>
                  </a:lnTo>
                  <a:lnTo>
                    <a:pt x="681" y="1590"/>
                  </a:lnTo>
                  <a:lnTo>
                    <a:pt x="681" y="1596"/>
                  </a:lnTo>
                  <a:lnTo>
                    <a:pt x="707" y="1596"/>
                  </a:lnTo>
                  <a:lnTo>
                    <a:pt x="707" y="1603"/>
                  </a:lnTo>
                  <a:lnTo>
                    <a:pt x="716" y="1603"/>
                  </a:lnTo>
                  <a:lnTo>
                    <a:pt x="716" y="1608"/>
                  </a:lnTo>
                  <a:lnTo>
                    <a:pt x="735" y="1608"/>
                  </a:lnTo>
                  <a:lnTo>
                    <a:pt x="735" y="1614"/>
                  </a:lnTo>
                  <a:lnTo>
                    <a:pt x="740" y="1614"/>
                  </a:lnTo>
                  <a:lnTo>
                    <a:pt x="740" y="1620"/>
                  </a:lnTo>
                  <a:lnTo>
                    <a:pt x="750" y="1620"/>
                  </a:lnTo>
                  <a:lnTo>
                    <a:pt x="750" y="1625"/>
                  </a:lnTo>
                  <a:lnTo>
                    <a:pt x="758" y="1625"/>
                  </a:lnTo>
                  <a:lnTo>
                    <a:pt x="758" y="1631"/>
                  </a:lnTo>
                  <a:lnTo>
                    <a:pt x="788" y="1631"/>
                  </a:lnTo>
                  <a:lnTo>
                    <a:pt x="788" y="1637"/>
                  </a:lnTo>
                  <a:lnTo>
                    <a:pt x="802" y="1637"/>
                  </a:lnTo>
                  <a:lnTo>
                    <a:pt x="802" y="1644"/>
                  </a:lnTo>
                  <a:lnTo>
                    <a:pt x="816" y="1644"/>
                  </a:lnTo>
                  <a:lnTo>
                    <a:pt x="816" y="1649"/>
                  </a:lnTo>
                  <a:lnTo>
                    <a:pt x="825" y="1649"/>
                  </a:lnTo>
                  <a:lnTo>
                    <a:pt x="825" y="1656"/>
                  </a:lnTo>
                  <a:lnTo>
                    <a:pt x="840" y="1656"/>
                  </a:lnTo>
                  <a:lnTo>
                    <a:pt x="840" y="1661"/>
                  </a:lnTo>
                  <a:lnTo>
                    <a:pt x="860" y="1661"/>
                  </a:lnTo>
                  <a:lnTo>
                    <a:pt x="860" y="1666"/>
                  </a:lnTo>
                  <a:lnTo>
                    <a:pt x="874" y="1666"/>
                  </a:lnTo>
                  <a:lnTo>
                    <a:pt x="874" y="1674"/>
                  </a:lnTo>
                  <a:lnTo>
                    <a:pt x="884" y="1674"/>
                  </a:lnTo>
                  <a:lnTo>
                    <a:pt x="884" y="1679"/>
                  </a:lnTo>
                  <a:lnTo>
                    <a:pt x="898" y="1679"/>
                  </a:lnTo>
                  <a:lnTo>
                    <a:pt x="898" y="1685"/>
                  </a:lnTo>
                  <a:lnTo>
                    <a:pt x="917" y="1685"/>
                  </a:lnTo>
                  <a:lnTo>
                    <a:pt x="917" y="1691"/>
                  </a:lnTo>
                  <a:lnTo>
                    <a:pt x="932" y="1691"/>
                  </a:lnTo>
                  <a:lnTo>
                    <a:pt x="932" y="1697"/>
                  </a:lnTo>
                  <a:lnTo>
                    <a:pt x="946" y="1697"/>
                  </a:lnTo>
                  <a:lnTo>
                    <a:pt x="946" y="1702"/>
                  </a:lnTo>
                  <a:lnTo>
                    <a:pt x="961" y="1702"/>
                  </a:lnTo>
                  <a:lnTo>
                    <a:pt x="961" y="1709"/>
                  </a:lnTo>
                  <a:lnTo>
                    <a:pt x="969" y="1709"/>
                  </a:lnTo>
                  <a:lnTo>
                    <a:pt x="969" y="1715"/>
                  </a:lnTo>
                  <a:lnTo>
                    <a:pt x="979" y="1715"/>
                  </a:lnTo>
                  <a:lnTo>
                    <a:pt x="979" y="1720"/>
                  </a:lnTo>
                  <a:lnTo>
                    <a:pt x="1004" y="1720"/>
                  </a:lnTo>
                  <a:lnTo>
                    <a:pt x="1004" y="1726"/>
                  </a:lnTo>
                  <a:lnTo>
                    <a:pt x="1009" y="1726"/>
                  </a:lnTo>
                  <a:lnTo>
                    <a:pt x="1009" y="1732"/>
                  </a:lnTo>
                  <a:lnTo>
                    <a:pt x="1023" y="1732"/>
                  </a:lnTo>
                  <a:lnTo>
                    <a:pt x="1023" y="1737"/>
                  </a:lnTo>
                  <a:lnTo>
                    <a:pt x="1042" y="1737"/>
                  </a:lnTo>
                  <a:lnTo>
                    <a:pt x="1042" y="1744"/>
                  </a:lnTo>
                  <a:lnTo>
                    <a:pt x="1061" y="1744"/>
                  </a:lnTo>
                  <a:lnTo>
                    <a:pt x="1061" y="1750"/>
                  </a:lnTo>
                  <a:lnTo>
                    <a:pt x="1076" y="1750"/>
                  </a:lnTo>
                  <a:lnTo>
                    <a:pt x="1076" y="1756"/>
                  </a:lnTo>
                  <a:lnTo>
                    <a:pt x="1091" y="1756"/>
                  </a:lnTo>
                  <a:lnTo>
                    <a:pt x="1091" y="1761"/>
                  </a:lnTo>
                  <a:lnTo>
                    <a:pt x="1100" y="1761"/>
                  </a:lnTo>
                  <a:lnTo>
                    <a:pt x="1100" y="1767"/>
                  </a:lnTo>
                  <a:lnTo>
                    <a:pt x="1114" y="1767"/>
                  </a:lnTo>
                  <a:lnTo>
                    <a:pt x="1114" y="1773"/>
                  </a:lnTo>
                  <a:lnTo>
                    <a:pt x="1143" y="1773"/>
                  </a:lnTo>
                  <a:lnTo>
                    <a:pt x="1143" y="1778"/>
                  </a:lnTo>
                  <a:lnTo>
                    <a:pt x="1153" y="1778"/>
                  </a:lnTo>
                  <a:lnTo>
                    <a:pt x="1153" y="1785"/>
                  </a:lnTo>
                  <a:lnTo>
                    <a:pt x="1176" y="1785"/>
                  </a:lnTo>
                  <a:lnTo>
                    <a:pt x="1176" y="1791"/>
                  </a:lnTo>
                  <a:lnTo>
                    <a:pt x="1186" y="1791"/>
                  </a:lnTo>
                  <a:lnTo>
                    <a:pt x="1186" y="1797"/>
                  </a:lnTo>
                  <a:lnTo>
                    <a:pt x="1225" y="1797"/>
                  </a:lnTo>
                  <a:lnTo>
                    <a:pt x="1225" y="1802"/>
                  </a:lnTo>
                  <a:lnTo>
                    <a:pt x="1239" y="1802"/>
                  </a:lnTo>
                  <a:lnTo>
                    <a:pt x="1239" y="1810"/>
                  </a:lnTo>
                  <a:lnTo>
                    <a:pt x="1253" y="1810"/>
                  </a:lnTo>
                  <a:lnTo>
                    <a:pt x="1253" y="1815"/>
                  </a:lnTo>
                  <a:lnTo>
                    <a:pt x="1272" y="1815"/>
                  </a:lnTo>
                  <a:lnTo>
                    <a:pt x="1272" y="1821"/>
                  </a:lnTo>
                  <a:lnTo>
                    <a:pt x="1282" y="1821"/>
                  </a:lnTo>
                  <a:lnTo>
                    <a:pt x="1282" y="1826"/>
                  </a:lnTo>
                  <a:lnTo>
                    <a:pt x="1306" y="1826"/>
                  </a:lnTo>
                  <a:lnTo>
                    <a:pt x="1306" y="1832"/>
                  </a:lnTo>
                  <a:lnTo>
                    <a:pt x="1320" y="1832"/>
                  </a:lnTo>
                  <a:lnTo>
                    <a:pt x="1320" y="1838"/>
                  </a:lnTo>
                  <a:lnTo>
                    <a:pt x="1340" y="1838"/>
                  </a:lnTo>
                  <a:lnTo>
                    <a:pt x="1340" y="1843"/>
                  </a:lnTo>
                  <a:lnTo>
                    <a:pt x="1349" y="1843"/>
                  </a:lnTo>
                  <a:lnTo>
                    <a:pt x="1349" y="1851"/>
                  </a:lnTo>
                  <a:lnTo>
                    <a:pt x="1364" y="1851"/>
                  </a:lnTo>
                  <a:lnTo>
                    <a:pt x="1364" y="1856"/>
                  </a:lnTo>
                  <a:lnTo>
                    <a:pt x="1397" y="1856"/>
                  </a:lnTo>
                  <a:lnTo>
                    <a:pt x="1397" y="1862"/>
                  </a:lnTo>
                  <a:lnTo>
                    <a:pt x="1407" y="1862"/>
                  </a:lnTo>
                  <a:lnTo>
                    <a:pt x="1407" y="1868"/>
                  </a:lnTo>
                  <a:lnTo>
                    <a:pt x="1416" y="1868"/>
                  </a:lnTo>
                  <a:lnTo>
                    <a:pt x="1416" y="1875"/>
                  </a:lnTo>
                  <a:lnTo>
                    <a:pt x="1432" y="1875"/>
                  </a:lnTo>
                  <a:lnTo>
                    <a:pt x="1432" y="1880"/>
                  </a:lnTo>
                  <a:lnTo>
                    <a:pt x="1450" y="1880"/>
                  </a:lnTo>
                  <a:lnTo>
                    <a:pt x="1450" y="1885"/>
                  </a:lnTo>
                  <a:lnTo>
                    <a:pt x="1470" y="1885"/>
                  </a:lnTo>
                  <a:lnTo>
                    <a:pt x="1470" y="1892"/>
                  </a:lnTo>
                  <a:lnTo>
                    <a:pt x="1489" y="1892"/>
                  </a:lnTo>
                  <a:lnTo>
                    <a:pt x="1489" y="1897"/>
                  </a:lnTo>
                  <a:lnTo>
                    <a:pt x="1504" y="1897"/>
                  </a:lnTo>
                  <a:lnTo>
                    <a:pt x="1504" y="1903"/>
                  </a:lnTo>
                  <a:lnTo>
                    <a:pt x="1527" y="1903"/>
                  </a:lnTo>
                  <a:lnTo>
                    <a:pt x="1527" y="1910"/>
                  </a:lnTo>
                  <a:lnTo>
                    <a:pt x="1546" y="1910"/>
                  </a:lnTo>
                  <a:lnTo>
                    <a:pt x="1546" y="1916"/>
                  </a:lnTo>
                  <a:lnTo>
                    <a:pt x="1570" y="1916"/>
                  </a:lnTo>
                  <a:lnTo>
                    <a:pt x="1570" y="1921"/>
                  </a:lnTo>
                  <a:lnTo>
                    <a:pt x="1585" y="1921"/>
                  </a:lnTo>
                  <a:lnTo>
                    <a:pt x="1585" y="1927"/>
                  </a:lnTo>
                  <a:lnTo>
                    <a:pt x="1618" y="1927"/>
                  </a:lnTo>
                  <a:lnTo>
                    <a:pt x="1618" y="1933"/>
                  </a:lnTo>
                  <a:lnTo>
                    <a:pt x="1633" y="1933"/>
                  </a:lnTo>
                  <a:lnTo>
                    <a:pt x="1633" y="1938"/>
                  </a:lnTo>
                  <a:lnTo>
                    <a:pt x="1642" y="1938"/>
                  </a:lnTo>
                  <a:lnTo>
                    <a:pt x="1642" y="1944"/>
                  </a:lnTo>
                  <a:lnTo>
                    <a:pt x="1657" y="1944"/>
                  </a:lnTo>
                  <a:lnTo>
                    <a:pt x="1657" y="1951"/>
                  </a:lnTo>
                  <a:lnTo>
                    <a:pt x="1676" y="1951"/>
                  </a:lnTo>
                  <a:lnTo>
                    <a:pt x="1676" y="1957"/>
                  </a:lnTo>
                  <a:lnTo>
                    <a:pt x="1690" y="1957"/>
                  </a:lnTo>
                  <a:lnTo>
                    <a:pt x="1690" y="1962"/>
                  </a:lnTo>
                  <a:lnTo>
                    <a:pt x="1704" y="1962"/>
                  </a:lnTo>
                  <a:lnTo>
                    <a:pt x="1704" y="1969"/>
                  </a:lnTo>
                  <a:lnTo>
                    <a:pt x="1714" y="1969"/>
                  </a:lnTo>
                  <a:lnTo>
                    <a:pt x="1714" y="1974"/>
                  </a:lnTo>
                  <a:lnTo>
                    <a:pt x="1730" y="1974"/>
                  </a:lnTo>
                  <a:lnTo>
                    <a:pt x="1730" y="1979"/>
                  </a:lnTo>
                  <a:lnTo>
                    <a:pt x="1738" y="1979"/>
                  </a:lnTo>
                  <a:lnTo>
                    <a:pt x="1738" y="1987"/>
                  </a:lnTo>
                  <a:lnTo>
                    <a:pt x="1763" y="1987"/>
                  </a:lnTo>
                  <a:lnTo>
                    <a:pt x="1763" y="1992"/>
                  </a:lnTo>
                  <a:lnTo>
                    <a:pt x="1781" y="1992"/>
                  </a:lnTo>
                  <a:lnTo>
                    <a:pt x="1781" y="1998"/>
                  </a:lnTo>
                  <a:lnTo>
                    <a:pt x="1791" y="1998"/>
                  </a:lnTo>
                  <a:lnTo>
                    <a:pt x="1791" y="2003"/>
                  </a:lnTo>
                  <a:lnTo>
                    <a:pt x="1801" y="2003"/>
                  </a:lnTo>
                  <a:lnTo>
                    <a:pt x="1801" y="2011"/>
                  </a:lnTo>
                  <a:lnTo>
                    <a:pt x="1820" y="2011"/>
                  </a:lnTo>
                  <a:lnTo>
                    <a:pt x="1820" y="2016"/>
                  </a:lnTo>
                  <a:lnTo>
                    <a:pt x="1839" y="2016"/>
                  </a:lnTo>
                  <a:lnTo>
                    <a:pt x="1839" y="2022"/>
                  </a:lnTo>
                  <a:lnTo>
                    <a:pt x="1854" y="2022"/>
                  </a:lnTo>
                  <a:lnTo>
                    <a:pt x="1854" y="2028"/>
                  </a:lnTo>
                  <a:lnTo>
                    <a:pt x="1869" y="2028"/>
                  </a:lnTo>
                  <a:lnTo>
                    <a:pt x="1869" y="2033"/>
                  </a:lnTo>
                  <a:lnTo>
                    <a:pt x="1878" y="2033"/>
                  </a:lnTo>
                  <a:lnTo>
                    <a:pt x="1878" y="2039"/>
                  </a:lnTo>
                  <a:lnTo>
                    <a:pt x="1897" y="2039"/>
                  </a:lnTo>
                  <a:lnTo>
                    <a:pt x="1897" y="2046"/>
                  </a:lnTo>
                  <a:lnTo>
                    <a:pt x="1907" y="2046"/>
                  </a:lnTo>
                  <a:lnTo>
                    <a:pt x="1907" y="2052"/>
                  </a:lnTo>
                  <a:lnTo>
                    <a:pt x="1921" y="2052"/>
                  </a:lnTo>
                  <a:lnTo>
                    <a:pt x="1921" y="2057"/>
                  </a:lnTo>
                  <a:lnTo>
                    <a:pt x="1955" y="2057"/>
                  </a:lnTo>
                  <a:lnTo>
                    <a:pt x="1955" y="2063"/>
                  </a:lnTo>
                  <a:lnTo>
                    <a:pt x="1964" y="2063"/>
                  </a:lnTo>
                  <a:lnTo>
                    <a:pt x="1964" y="2069"/>
                  </a:lnTo>
                  <a:lnTo>
                    <a:pt x="1978" y="2069"/>
                  </a:lnTo>
                  <a:lnTo>
                    <a:pt x="1978" y="2075"/>
                  </a:lnTo>
                  <a:lnTo>
                    <a:pt x="1992" y="2075"/>
                  </a:lnTo>
                  <a:lnTo>
                    <a:pt x="1992" y="2080"/>
                  </a:lnTo>
                  <a:lnTo>
                    <a:pt x="2013" y="2080"/>
                  </a:lnTo>
                  <a:lnTo>
                    <a:pt x="2013" y="2087"/>
                  </a:lnTo>
                  <a:lnTo>
                    <a:pt x="2027" y="2087"/>
                  </a:lnTo>
                  <a:lnTo>
                    <a:pt x="2027" y="2093"/>
                  </a:lnTo>
                  <a:lnTo>
                    <a:pt x="2055" y="2093"/>
                  </a:lnTo>
                  <a:lnTo>
                    <a:pt x="2055" y="2098"/>
                  </a:lnTo>
                  <a:lnTo>
                    <a:pt x="2070" y="2098"/>
                  </a:lnTo>
                  <a:lnTo>
                    <a:pt x="2070" y="2104"/>
                  </a:lnTo>
                  <a:lnTo>
                    <a:pt x="2085" y="2104"/>
                  </a:lnTo>
                  <a:lnTo>
                    <a:pt x="2085" y="2110"/>
                  </a:lnTo>
                  <a:lnTo>
                    <a:pt x="2099" y="2110"/>
                  </a:lnTo>
                  <a:lnTo>
                    <a:pt x="2099" y="2117"/>
                  </a:lnTo>
                  <a:lnTo>
                    <a:pt x="2114" y="2117"/>
                  </a:lnTo>
                  <a:lnTo>
                    <a:pt x="2114" y="2122"/>
                  </a:lnTo>
                  <a:lnTo>
                    <a:pt x="2132" y="2122"/>
                  </a:lnTo>
                  <a:lnTo>
                    <a:pt x="2132" y="2129"/>
                  </a:lnTo>
                  <a:lnTo>
                    <a:pt x="2147" y="2129"/>
                  </a:lnTo>
                  <a:lnTo>
                    <a:pt x="2147" y="2134"/>
                  </a:lnTo>
                  <a:lnTo>
                    <a:pt x="2171" y="2134"/>
                  </a:lnTo>
                  <a:lnTo>
                    <a:pt x="2171" y="2139"/>
                  </a:lnTo>
                  <a:lnTo>
                    <a:pt x="2190" y="2139"/>
                  </a:lnTo>
                  <a:lnTo>
                    <a:pt x="2190" y="2147"/>
                  </a:lnTo>
                  <a:lnTo>
                    <a:pt x="2199" y="2147"/>
                  </a:lnTo>
                  <a:lnTo>
                    <a:pt x="2199" y="2152"/>
                  </a:lnTo>
                  <a:lnTo>
                    <a:pt x="2209" y="2152"/>
                  </a:lnTo>
                  <a:lnTo>
                    <a:pt x="2209" y="2157"/>
                  </a:lnTo>
                  <a:lnTo>
                    <a:pt x="2218" y="2157"/>
                  </a:lnTo>
                  <a:lnTo>
                    <a:pt x="2218" y="2164"/>
                  </a:lnTo>
                  <a:lnTo>
                    <a:pt x="2233" y="2164"/>
                  </a:lnTo>
                  <a:lnTo>
                    <a:pt x="2233" y="2169"/>
                  </a:lnTo>
                  <a:lnTo>
                    <a:pt x="2253" y="2169"/>
                  </a:lnTo>
                  <a:lnTo>
                    <a:pt x="2253" y="2175"/>
                  </a:lnTo>
                  <a:lnTo>
                    <a:pt x="2262" y="2175"/>
                  </a:lnTo>
                  <a:lnTo>
                    <a:pt x="2262" y="2180"/>
                  </a:lnTo>
                  <a:lnTo>
                    <a:pt x="2276" y="2180"/>
                  </a:lnTo>
                  <a:lnTo>
                    <a:pt x="2276" y="2188"/>
                  </a:lnTo>
                  <a:lnTo>
                    <a:pt x="2286" y="2188"/>
                  </a:lnTo>
                  <a:lnTo>
                    <a:pt x="2286" y="2193"/>
                  </a:lnTo>
                  <a:lnTo>
                    <a:pt x="2301" y="2193"/>
                  </a:lnTo>
                  <a:lnTo>
                    <a:pt x="2301" y="2198"/>
                  </a:lnTo>
                  <a:lnTo>
                    <a:pt x="2320" y="2198"/>
                  </a:lnTo>
                  <a:lnTo>
                    <a:pt x="2320" y="2205"/>
                  </a:lnTo>
                  <a:lnTo>
                    <a:pt x="2329" y="2205"/>
                  </a:lnTo>
                  <a:lnTo>
                    <a:pt x="2329" y="2210"/>
                  </a:lnTo>
                  <a:lnTo>
                    <a:pt x="2339" y="2210"/>
                  </a:lnTo>
                  <a:lnTo>
                    <a:pt x="2339" y="2216"/>
                  </a:lnTo>
                  <a:lnTo>
                    <a:pt x="2348" y="2216"/>
                  </a:lnTo>
                  <a:lnTo>
                    <a:pt x="2348" y="2223"/>
                  </a:lnTo>
                  <a:lnTo>
                    <a:pt x="2368" y="2223"/>
                  </a:lnTo>
                  <a:lnTo>
                    <a:pt x="2368" y="2229"/>
                  </a:lnTo>
                  <a:lnTo>
                    <a:pt x="2387" y="2229"/>
                  </a:lnTo>
                  <a:lnTo>
                    <a:pt x="2387" y="2234"/>
                  </a:lnTo>
                  <a:lnTo>
                    <a:pt x="2397" y="2234"/>
                  </a:lnTo>
                  <a:lnTo>
                    <a:pt x="2397" y="2240"/>
                  </a:lnTo>
                  <a:lnTo>
                    <a:pt x="2406" y="2240"/>
                  </a:lnTo>
                  <a:lnTo>
                    <a:pt x="2406" y="2246"/>
                  </a:lnTo>
                  <a:lnTo>
                    <a:pt x="2411" y="2246"/>
                  </a:lnTo>
                  <a:lnTo>
                    <a:pt x="2411" y="2251"/>
                  </a:lnTo>
                  <a:lnTo>
                    <a:pt x="2425" y="2251"/>
                  </a:lnTo>
                  <a:lnTo>
                    <a:pt x="2425" y="2258"/>
                  </a:lnTo>
                  <a:lnTo>
                    <a:pt x="2435" y="2258"/>
                  </a:lnTo>
                  <a:lnTo>
                    <a:pt x="2435" y="2264"/>
                  </a:lnTo>
                  <a:lnTo>
                    <a:pt x="2450" y="2264"/>
                  </a:lnTo>
                  <a:lnTo>
                    <a:pt x="2450" y="2270"/>
                  </a:lnTo>
                  <a:lnTo>
                    <a:pt x="2464" y="2270"/>
                  </a:lnTo>
                  <a:lnTo>
                    <a:pt x="2464" y="2275"/>
                  </a:lnTo>
                  <a:lnTo>
                    <a:pt x="2473" y="2275"/>
                  </a:lnTo>
                  <a:lnTo>
                    <a:pt x="2473" y="2283"/>
                  </a:lnTo>
                  <a:lnTo>
                    <a:pt x="2493" y="2283"/>
                  </a:lnTo>
                  <a:lnTo>
                    <a:pt x="2493" y="2288"/>
                  </a:lnTo>
                  <a:lnTo>
                    <a:pt x="2512" y="2288"/>
                  </a:lnTo>
                  <a:lnTo>
                    <a:pt x="2512" y="2294"/>
                  </a:lnTo>
                  <a:lnTo>
                    <a:pt x="2531" y="2294"/>
                  </a:lnTo>
                  <a:lnTo>
                    <a:pt x="2531" y="2299"/>
                  </a:lnTo>
                  <a:lnTo>
                    <a:pt x="2546" y="2299"/>
                  </a:lnTo>
                  <a:lnTo>
                    <a:pt x="2546" y="2305"/>
                  </a:lnTo>
                  <a:lnTo>
                    <a:pt x="2554" y="2305"/>
                  </a:lnTo>
                  <a:lnTo>
                    <a:pt x="2554" y="2311"/>
                  </a:lnTo>
                  <a:lnTo>
                    <a:pt x="2564" y="2311"/>
                  </a:lnTo>
                  <a:lnTo>
                    <a:pt x="2564" y="2316"/>
                  </a:lnTo>
                  <a:lnTo>
                    <a:pt x="2574" y="2316"/>
                  </a:lnTo>
                  <a:lnTo>
                    <a:pt x="2574" y="2324"/>
                  </a:lnTo>
                  <a:lnTo>
                    <a:pt x="2583" y="2324"/>
                  </a:lnTo>
                  <a:lnTo>
                    <a:pt x="2583" y="2329"/>
                  </a:lnTo>
                  <a:lnTo>
                    <a:pt x="2598" y="2329"/>
                  </a:lnTo>
                  <a:lnTo>
                    <a:pt x="2598" y="2335"/>
                  </a:lnTo>
                  <a:lnTo>
                    <a:pt x="2608" y="2335"/>
                  </a:lnTo>
                  <a:lnTo>
                    <a:pt x="2608" y="2341"/>
                  </a:lnTo>
                  <a:lnTo>
                    <a:pt x="2646" y="2341"/>
                  </a:lnTo>
                  <a:lnTo>
                    <a:pt x="2646" y="2346"/>
                  </a:lnTo>
                  <a:lnTo>
                    <a:pt x="2660" y="2346"/>
                  </a:lnTo>
                  <a:lnTo>
                    <a:pt x="2660" y="2352"/>
                  </a:lnTo>
                  <a:lnTo>
                    <a:pt x="2675" y="2352"/>
                  </a:lnTo>
                  <a:lnTo>
                    <a:pt x="2675" y="2357"/>
                  </a:lnTo>
                  <a:lnTo>
                    <a:pt x="2690" y="2357"/>
                  </a:lnTo>
                  <a:lnTo>
                    <a:pt x="2690" y="2365"/>
                  </a:lnTo>
                  <a:lnTo>
                    <a:pt x="2699" y="2365"/>
                  </a:lnTo>
                  <a:lnTo>
                    <a:pt x="2699" y="2370"/>
                  </a:lnTo>
                  <a:lnTo>
                    <a:pt x="2713" y="2370"/>
                  </a:lnTo>
                  <a:lnTo>
                    <a:pt x="2713" y="2376"/>
                  </a:lnTo>
                  <a:lnTo>
                    <a:pt x="2723" y="2376"/>
                  </a:lnTo>
                  <a:lnTo>
                    <a:pt x="2723" y="2382"/>
                  </a:lnTo>
                  <a:lnTo>
                    <a:pt x="2732" y="2382"/>
                  </a:lnTo>
                  <a:lnTo>
                    <a:pt x="2732" y="2389"/>
                  </a:lnTo>
                  <a:lnTo>
                    <a:pt x="2761" y="2389"/>
                  </a:lnTo>
                  <a:lnTo>
                    <a:pt x="2761" y="2394"/>
                  </a:lnTo>
                  <a:lnTo>
                    <a:pt x="2776" y="2394"/>
                  </a:lnTo>
                  <a:lnTo>
                    <a:pt x="2776" y="2389"/>
                  </a:lnTo>
                  <a:lnTo>
                    <a:pt x="2781" y="2389"/>
                  </a:lnTo>
                  <a:lnTo>
                    <a:pt x="2781" y="2382"/>
                  </a:lnTo>
                  <a:lnTo>
                    <a:pt x="2786" y="2382"/>
                  </a:lnTo>
                  <a:lnTo>
                    <a:pt x="2786" y="2376"/>
                  </a:lnTo>
                  <a:lnTo>
                    <a:pt x="2790" y="2376"/>
                  </a:lnTo>
                  <a:lnTo>
                    <a:pt x="2790" y="2370"/>
                  </a:lnTo>
                  <a:lnTo>
                    <a:pt x="2795" y="2370"/>
                  </a:lnTo>
                  <a:lnTo>
                    <a:pt x="2795" y="2357"/>
                  </a:lnTo>
                  <a:lnTo>
                    <a:pt x="2800" y="2357"/>
                  </a:lnTo>
                  <a:lnTo>
                    <a:pt x="2800" y="2346"/>
                  </a:lnTo>
                  <a:lnTo>
                    <a:pt x="2804" y="2346"/>
                  </a:lnTo>
                  <a:lnTo>
                    <a:pt x="2804" y="2335"/>
                  </a:lnTo>
                  <a:lnTo>
                    <a:pt x="2815" y="2335"/>
                  </a:lnTo>
                  <a:lnTo>
                    <a:pt x="2815" y="2316"/>
                  </a:lnTo>
                  <a:lnTo>
                    <a:pt x="2820" y="2316"/>
                  </a:lnTo>
                  <a:lnTo>
                    <a:pt x="2820" y="2311"/>
                  </a:lnTo>
                  <a:lnTo>
                    <a:pt x="2824" y="2311"/>
                  </a:lnTo>
                  <a:lnTo>
                    <a:pt x="2824" y="2299"/>
                  </a:lnTo>
                  <a:lnTo>
                    <a:pt x="2829" y="2299"/>
                  </a:lnTo>
                  <a:lnTo>
                    <a:pt x="2829" y="2288"/>
                  </a:lnTo>
                  <a:lnTo>
                    <a:pt x="2834" y="2288"/>
                  </a:lnTo>
                  <a:lnTo>
                    <a:pt x="2834" y="2270"/>
                  </a:lnTo>
                  <a:lnTo>
                    <a:pt x="2838" y="2270"/>
                  </a:lnTo>
                  <a:lnTo>
                    <a:pt x="2838" y="2258"/>
                  </a:lnTo>
                  <a:lnTo>
                    <a:pt x="2843" y="2258"/>
                  </a:lnTo>
                  <a:lnTo>
                    <a:pt x="2843" y="2251"/>
                  </a:lnTo>
                  <a:lnTo>
                    <a:pt x="2848" y="2251"/>
                  </a:lnTo>
                  <a:lnTo>
                    <a:pt x="2848" y="2240"/>
                  </a:lnTo>
                  <a:lnTo>
                    <a:pt x="2853" y="2240"/>
                  </a:lnTo>
                  <a:lnTo>
                    <a:pt x="2853" y="2234"/>
                  </a:lnTo>
                  <a:lnTo>
                    <a:pt x="2857" y="2234"/>
                  </a:lnTo>
                  <a:lnTo>
                    <a:pt x="2857" y="2223"/>
                  </a:lnTo>
                  <a:lnTo>
                    <a:pt x="2863" y="2223"/>
                  </a:lnTo>
                  <a:lnTo>
                    <a:pt x="2863" y="2216"/>
                  </a:lnTo>
                  <a:lnTo>
                    <a:pt x="2867" y="2216"/>
                  </a:lnTo>
                  <a:lnTo>
                    <a:pt x="2867" y="2205"/>
                  </a:lnTo>
                  <a:lnTo>
                    <a:pt x="2871" y="2205"/>
                  </a:lnTo>
                  <a:lnTo>
                    <a:pt x="2871" y="2198"/>
                  </a:lnTo>
                  <a:lnTo>
                    <a:pt x="2877" y="2198"/>
                  </a:lnTo>
                  <a:lnTo>
                    <a:pt x="2877" y="2180"/>
                  </a:lnTo>
                  <a:lnTo>
                    <a:pt x="2882" y="2180"/>
                  </a:lnTo>
                  <a:lnTo>
                    <a:pt x="2882" y="2169"/>
                  </a:lnTo>
                  <a:lnTo>
                    <a:pt x="2887" y="2169"/>
                  </a:lnTo>
                  <a:lnTo>
                    <a:pt x="2887" y="2164"/>
                  </a:lnTo>
                  <a:lnTo>
                    <a:pt x="2891" y="2164"/>
                  </a:lnTo>
                  <a:lnTo>
                    <a:pt x="2891" y="2157"/>
                  </a:lnTo>
                  <a:lnTo>
                    <a:pt x="2896" y="2157"/>
                  </a:lnTo>
                  <a:lnTo>
                    <a:pt x="2896" y="2139"/>
                  </a:lnTo>
                  <a:lnTo>
                    <a:pt x="2901" y="2139"/>
                  </a:lnTo>
                  <a:lnTo>
                    <a:pt x="2901" y="2129"/>
                  </a:lnTo>
                  <a:lnTo>
                    <a:pt x="2911" y="2129"/>
                  </a:lnTo>
                  <a:lnTo>
                    <a:pt x="2911" y="2122"/>
                  </a:lnTo>
                  <a:lnTo>
                    <a:pt x="2915" y="2122"/>
                  </a:lnTo>
                  <a:lnTo>
                    <a:pt x="2915" y="2117"/>
                  </a:lnTo>
                  <a:lnTo>
                    <a:pt x="2925" y="2117"/>
                  </a:lnTo>
                  <a:lnTo>
                    <a:pt x="2925" y="2110"/>
                  </a:lnTo>
                  <a:lnTo>
                    <a:pt x="2930" y="2110"/>
                  </a:lnTo>
                  <a:lnTo>
                    <a:pt x="2930" y="2104"/>
                  </a:lnTo>
                  <a:lnTo>
                    <a:pt x="2934" y="2104"/>
                  </a:lnTo>
                  <a:lnTo>
                    <a:pt x="2934" y="2093"/>
                  </a:lnTo>
                  <a:lnTo>
                    <a:pt x="2938" y="2093"/>
                  </a:lnTo>
                  <a:lnTo>
                    <a:pt x="2938" y="2087"/>
                  </a:lnTo>
                  <a:lnTo>
                    <a:pt x="2944" y="2087"/>
                  </a:lnTo>
                  <a:lnTo>
                    <a:pt x="2944" y="2075"/>
                  </a:lnTo>
                  <a:lnTo>
                    <a:pt x="2948" y="2075"/>
                  </a:lnTo>
                  <a:lnTo>
                    <a:pt x="2948" y="2063"/>
                  </a:lnTo>
                  <a:lnTo>
                    <a:pt x="2954" y="2063"/>
                  </a:lnTo>
                  <a:lnTo>
                    <a:pt x="2954" y="2057"/>
                  </a:lnTo>
                  <a:lnTo>
                    <a:pt x="2959" y="2057"/>
                  </a:lnTo>
                  <a:lnTo>
                    <a:pt x="2959" y="2046"/>
                  </a:lnTo>
                  <a:lnTo>
                    <a:pt x="2964" y="2046"/>
                  </a:lnTo>
                  <a:lnTo>
                    <a:pt x="2964" y="2028"/>
                  </a:lnTo>
                  <a:lnTo>
                    <a:pt x="2968" y="2028"/>
                  </a:lnTo>
                  <a:lnTo>
                    <a:pt x="2968" y="2022"/>
                  </a:lnTo>
                  <a:lnTo>
                    <a:pt x="2973" y="2022"/>
                  </a:lnTo>
                  <a:lnTo>
                    <a:pt x="2973" y="2003"/>
                  </a:lnTo>
                  <a:lnTo>
                    <a:pt x="2978" y="2003"/>
                  </a:lnTo>
                  <a:lnTo>
                    <a:pt x="2978" y="1992"/>
                  </a:lnTo>
                  <a:lnTo>
                    <a:pt x="2982" y="1992"/>
                  </a:lnTo>
                  <a:lnTo>
                    <a:pt x="2982" y="1969"/>
                  </a:lnTo>
                  <a:lnTo>
                    <a:pt x="2987" y="1969"/>
                  </a:lnTo>
                  <a:lnTo>
                    <a:pt x="2987" y="1944"/>
                  </a:lnTo>
                  <a:lnTo>
                    <a:pt x="2992" y="1944"/>
                  </a:lnTo>
                  <a:lnTo>
                    <a:pt x="2992" y="1938"/>
                  </a:lnTo>
                  <a:lnTo>
                    <a:pt x="2997" y="1938"/>
                  </a:lnTo>
                  <a:lnTo>
                    <a:pt x="2997" y="1933"/>
                  </a:lnTo>
                  <a:lnTo>
                    <a:pt x="3001" y="1933"/>
                  </a:lnTo>
                  <a:lnTo>
                    <a:pt x="3001" y="1916"/>
                  </a:lnTo>
                  <a:lnTo>
                    <a:pt x="3007" y="1916"/>
                  </a:lnTo>
                  <a:lnTo>
                    <a:pt x="3007" y="1910"/>
                  </a:lnTo>
                  <a:lnTo>
                    <a:pt x="3011" y="1910"/>
                  </a:lnTo>
                  <a:lnTo>
                    <a:pt x="3011" y="1903"/>
                  </a:lnTo>
                  <a:lnTo>
                    <a:pt x="3015" y="1903"/>
                  </a:lnTo>
                  <a:lnTo>
                    <a:pt x="3015" y="1885"/>
                  </a:lnTo>
                  <a:lnTo>
                    <a:pt x="3021" y="1885"/>
                  </a:lnTo>
                  <a:lnTo>
                    <a:pt x="3021" y="1868"/>
                  </a:lnTo>
                  <a:lnTo>
                    <a:pt x="3026" y="1868"/>
                  </a:lnTo>
                  <a:lnTo>
                    <a:pt x="3026" y="1856"/>
                  </a:lnTo>
                  <a:lnTo>
                    <a:pt x="3031" y="1856"/>
                  </a:lnTo>
                  <a:lnTo>
                    <a:pt x="3031" y="1843"/>
                  </a:lnTo>
                  <a:lnTo>
                    <a:pt x="3035" y="1843"/>
                  </a:lnTo>
                  <a:lnTo>
                    <a:pt x="3035" y="1826"/>
                  </a:lnTo>
                  <a:lnTo>
                    <a:pt x="3041" y="1826"/>
                  </a:lnTo>
                  <a:lnTo>
                    <a:pt x="3041" y="1821"/>
                  </a:lnTo>
                  <a:lnTo>
                    <a:pt x="3045" y="1821"/>
                  </a:lnTo>
                  <a:lnTo>
                    <a:pt x="3045" y="1810"/>
                  </a:lnTo>
                  <a:lnTo>
                    <a:pt x="3050" y="1810"/>
                  </a:lnTo>
                  <a:lnTo>
                    <a:pt x="3050" y="1802"/>
                  </a:lnTo>
                  <a:lnTo>
                    <a:pt x="3055" y="1802"/>
                  </a:lnTo>
                  <a:lnTo>
                    <a:pt x="3055" y="1767"/>
                  </a:lnTo>
                  <a:lnTo>
                    <a:pt x="3059" y="1767"/>
                  </a:lnTo>
                  <a:lnTo>
                    <a:pt x="3059" y="1756"/>
                  </a:lnTo>
                  <a:lnTo>
                    <a:pt x="3064" y="1756"/>
                  </a:lnTo>
                  <a:lnTo>
                    <a:pt x="3064" y="1744"/>
                  </a:lnTo>
                  <a:lnTo>
                    <a:pt x="3069" y="1744"/>
                  </a:lnTo>
                  <a:lnTo>
                    <a:pt x="3069" y="1737"/>
                  </a:lnTo>
                  <a:lnTo>
                    <a:pt x="3074" y="1737"/>
                  </a:lnTo>
                  <a:lnTo>
                    <a:pt x="3074" y="1726"/>
                  </a:lnTo>
                  <a:lnTo>
                    <a:pt x="3078" y="1726"/>
                  </a:lnTo>
                  <a:lnTo>
                    <a:pt x="3078" y="1720"/>
                  </a:lnTo>
                  <a:lnTo>
                    <a:pt x="3083" y="1720"/>
                  </a:lnTo>
                  <a:lnTo>
                    <a:pt x="3083" y="1709"/>
                  </a:lnTo>
                  <a:lnTo>
                    <a:pt x="3088" y="1709"/>
                  </a:lnTo>
                  <a:lnTo>
                    <a:pt x="3088" y="1702"/>
                  </a:lnTo>
                  <a:lnTo>
                    <a:pt x="3093" y="1702"/>
                  </a:lnTo>
                  <a:lnTo>
                    <a:pt x="3093" y="1697"/>
                  </a:lnTo>
                  <a:lnTo>
                    <a:pt x="3103" y="1697"/>
                  </a:lnTo>
                  <a:lnTo>
                    <a:pt x="3103" y="1685"/>
                  </a:lnTo>
                  <a:lnTo>
                    <a:pt x="3108" y="1685"/>
                  </a:lnTo>
                  <a:lnTo>
                    <a:pt x="3108" y="1666"/>
                  </a:lnTo>
                  <a:lnTo>
                    <a:pt x="3112" y="1666"/>
                  </a:lnTo>
                  <a:lnTo>
                    <a:pt x="3112" y="1649"/>
                  </a:lnTo>
                  <a:lnTo>
                    <a:pt x="3117" y="1649"/>
                  </a:lnTo>
                  <a:lnTo>
                    <a:pt x="3117" y="1631"/>
                  </a:lnTo>
                  <a:lnTo>
                    <a:pt x="3122" y="1631"/>
                  </a:lnTo>
                  <a:lnTo>
                    <a:pt x="3122" y="1614"/>
                  </a:lnTo>
                  <a:lnTo>
                    <a:pt x="3127" y="1614"/>
                  </a:lnTo>
                  <a:lnTo>
                    <a:pt x="3127" y="1596"/>
                  </a:lnTo>
                  <a:lnTo>
                    <a:pt x="3131" y="1596"/>
                  </a:lnTo>
                  <a:lnTo>
                    <a:pt x="3131" y="1584"/>
                  </a:lnTo>
                  <a:lnTo>
                    <a:pt x="3137" y="1584"/>
                  </a:lnTo>
                  <a:lnTo>
                    <a:pt x="3137" y="1573"/>
                  </a:lnTo>
                  <a:lnTo>
                    <a:pt x="3141" y="1573"/>
                  </a:lnTo>
                  <a:lnTo>
                    <a:pt x="3141" y="1560"/>
                  </a:lnTo>
                  <a:lnTo>
                    <a:pt x="3145" y="1560"/>
                  </a:lnTo>
                  <a:lnTo>
                    <a:pt x="3145" y="1543"/>
                  </a:lnTo>
                  <a:lnTo>
                    <a:pt x="3151" y="1543"/>
                  </a:lnTo>
                  <a:lnTo>
                    <a:pt x="3151" y="1530"/>
                  </a:lnTo>
                  <a:lnTo>
                    <a:pt x="3155" y="1530"/>
                  </a:lnTo>
                  <a:lnTo>
                    <a:pt x="3155" y="1519"/>
                  </a:lnTo>
                  <a:lnTo>
                    <a:pt x="3160" y="1519"/>
                  </a:lnTo>
                  <a:lnTo>
                    <a:pt x="3160" y="1508"/>
                  </a:lnTo>
                  <a:lnTo>
                    <a:pt x="3165" y="1508"/>
                  </a:lnTo>
                  <a:lnTo>
                    <a:pt x="3165" y="1496"/>
                  </a:lnTo>
                  <a:lnTo>
                    <a:pt x="3171" y="1496"/>
                  </a:lnTo>
                  <a:lnTo>
                    <a:pt x="3171" y="1472"/>
                  </a:lnTo>
                  <a:lnTo>
                    <a:pt x="3175" y="1472"/>
                  </a:lnTo>
                  <a:lnTo>
                    <a:pt x="3175" y="1460"/>
                  </a:lnTo>
                  <a:lnTo>
                    <a:pt x="3179" y="1460"/>
                  </a:lnTo>
                  <a:lnTo>
                    <a:pt x="3179" y="1443"/>
                  </a:lnTo>
                  <a:lnTo>
                    <a:pt x="3185" y="1443"/>
                  </a:lnTo>
                  <a:lnTo>
                    <a:pt x="3185" y="1430"/>
                  </a:lnTo>
                  <a:lnTo>
                    <a:pt x="3194" y="1430"/>
                  </a:lnTo>
                  <a:lnTo>
                    <a:pt x="3194" y="1383"/>
                  </a:lnTo>
                  <a:lnTo>
                    <a:pt x="3199" y="1383"/>
                  </a:lnTo>
                  <a:lnTo>
                    <a:pt x="3199" y="1378"/>
                  </a:lnTo>
                  <a:lnTo>
                    <a:pt x="3208" y="1378"/>
                  </a:lnTo>
                  <a:lnTo>
                    <a:pt x="3208" y="1383"/>
                  </a:lnTo>
                  <a:lnTo>
                    <a:pt x="3218" y="1383"/>
                  </a:lnTo>
                  <a:lnTo>
                    <a:pt x="3218" y="1378"/>
                  </a:lnTo>
                  <a:lnTo>
                    <a:pt x="3222" y="1378"/>
                  </a:lnTo>
                  <a:lnTo>
                    <a:pt x="3222" y="1370"/>
                  </a:lnTo>
                  <a:lnTo>
                    <a:pt x="3227" y="1370"/>
                  </a:lnTo>
                  <a:lnTo>
                    <a:pt x="3227" y="1342"/>
                  </a:lnTo>
                  <a:lnTo>
                    <a:pt x="3232" y="1342"/>
                  </a:lnTo>
                  <a:lnTo>
                    <a:pt x="3232" y="1329"/>
                  </a:lnTo>
                  <a:lnTo>
                    <a:pt x="3236" y="1329"/>
                  </a:lnTo>
                  <a:lnTo>
                    <a:pt x="3236" y="1318"/>
                  </a:lnTo>
                  <a:lnTo>
                    <a:pt x="3242" y="1318"/>
                  </a:lnTo>
                  <a:lnTo>
                    <a:pt x="3242" y="1301"/>
                  </a:lnTo>
                  <a:lnTo>
                    <a:pt x="3247" y="1301"/>
                  </a:lnTo>
                  <a:lnTo>
                    <a:pt x="3247" y="1289"/>
                  </a:lnTo>
                  <a:lnTo>
                    <a:pt x="3252" y="1289"/>
                  </a:lnTo>
                  <a:lnTo>
                    <a:pt x="3252" y="1277"/>
                  </a:lnTo>
                  <a:lnTo>
                    <a:pt x="3256" y="1277"/>
                  </a:lnTo>
                  <a:lnTo>
                    <a:pt x="3256" y="1271"/>
                  </a:lnTo>
                  <a:lnTo>
                    <a:pt x="3262" y="1271"/>
                  </a:lnTo>
                  <a:lnTo>
                    <a:pt x="3262" y="1253"/>
                  </a:lnTo>
                  <a:lnTo>
                    <a:pt x="3266" y="1253"/>
                  </a:lnTo>
                  <a:lnTo>
                    <a:pt x="3266" y="1229"/>
                  </a:lnTo>
                  <a:lnTo>
                    <a:pt x="3271" y="1229"/>
                  </a:lnTo>
                  <a:lnTo>
                    <a:pt x="3271" y="1218"/>
                  </a:lnTo>
                  <a:lnTo>
                    <a:pt x="3275" y="1218"/>
                  </a:lnTo>
                  <a:lnTo>
                    <a:pt x="3275" y="1193"/>
                  </a:lnTo>
                  <a:lnTo>
                    <a:pt x="3280" y="1193"/>
                  </a:lnTo>
                  <a:lnTo>
                    <a:pt x="3280" y="1183"/>
                  </a:lnTo>
                  <a:lnTo>
                    <a:pt x="3285" y="1183"/>
                  </a:lnTo>
                  <a:lnTo>
                    <a:pt x="3285" y="1171"/>
                  </a:lnTo>
                  <a:lnTo>
                    <a:pt x="3289" y="1171"/>
                  </a:lnTo>
                  <a:lnTo>
                    <a:pt x="3289" y="1165"/>
                  </a:lnTo>
                  <a:lnTo>
                    <a:pt x="3295" y="1165"/>
                  </a:lnTo>
                  <a:lnTo>
                    <a:pt x="3295" y="1152"/>
                  </a:lnTo>
                  <a:lnTo>
                    <a:pt x="3299" y="1152"/>
                  </a:lnTo>
                  <a:lnTo>
                    <a:pt x="3299" y="1135"/>
                  </a:lnTo>
                  <a:lnTo>
                    <a:pt x="3304" y="1135"/>
                  </a:lnTo>
                  <a:lnTo>
                    <a:pt x="3304" y="1123"/>
                  </a:lnTo>
                  <a:lnTo>
                    <a:pt x="3309" y="1123"/>
                  </a:lnTo>
                  <a:lnTo>
                    <a:pt x="3309" y="1117"/>
                  </a:lnTo>
                  <a:lnTo>
                    <a:pt x="3313" y="1117"/>
                  </a:lnTo>
                  <a:lnTo>
                    <a:pt x="3313" y="1106"/>
                  </a:lnTo>
                  <a:lnTo>
                    <a:pt x="3319" y="1106"/>
                  </a:lnTo>
                  <a:lnTo>
                    <a:pt x="3319" y="1100"/>
                  </a:lnTo>
                  <a:lnTo>
                    <a:pt x="3323" y="1100"/>
                  </a:lnTo>
                  <a:lnTo>
                    <a:pt x="3323" y="1088"/>
                  </a:lnTo>
                  <a:lnTo>
                    <a:pt x="3329" y="1088"/>
                  </a:lnTo>
                  <a:lnTo>
                    <a:pt x="3329" y="1082"/>
                  </a:lnTo>
                  <a:lnTo>
                    <a:pt x="3333" y="1082"/>
                  </a:lnTo>
                  <a:lnTo>
                    <a:pt x="3333" y="1076"/>
                  </a:lnTo>
                  <a:lnTo>
                    <a:pt x="3338" y="1076"/>
                  </a:lnTo>
                  <a:lnTo>
                    <a:pt x="3338" y="1070"/>
                  </a:lnTo>
                  <a:lnTo>
                    <a:pt x="3343" y="1070"/>
                  </a:lnTo>
                  <a:lnTo>
                    <a:pt x="3343" y="1065"/>
                  </a:lnTo>
                  <a:lnTo>
                    <a:pt x="3348" y="1065"/>
                  </a:lnTo>
                  <a:lnTo>
                    <a:pt x="3348" y="1057"/>
                  </a:lnTo>
                  <a:lnTo>
                    <a:pt x="3352" y="1057"/>
                  </a:lnTo>
                  <a:lnTo>
                    <a:pt x="3352" y="1041"/>
                  </a:lnTo>
                  <a:lnTo>
                    <a:pt x="3357" y="1041"/>
                  </a:lnTo>
                  <a:lnTo>
                    <a:pt x="3357" y="1035"/>
                  </a:lnTo>
                  <a:lnTo>
                    <a:pt x="3362" y="1035"/>
                  </a:lnTo>
                  <a:lnTo>
                    <a:pt x="3362" y="1029"/>
                  </a:lnTo>
                  <a:lnTo>
                    <a:pt x="3366" y="1029"/>
                  </a:lnTo>
                  <a:lnTo>
                    <a:pt x="3366" y="1016"/>
                  </a:lnTo>
                  <a:lnTo>
                    <a:pt x="3371" y="1016"/>
                  </a:lnTo>
                  <a:lnTo>
                    <a:pt x="3371" y="1005"/>
                  </a:lnTo>
                  <a:lnTo>
                    <a:pt x="3376" y="1005"/>
                  </a:lnTo>
                  <a:lnTo>
                    <a:pt x="3376" y="987"/>
                  </a:lnTo>
                  <a:lnTo>
                    <a:pt x="3381" y="987"/>
                  </a:lnTo>
                  <a:lnTo>
                    <a:pt x="3381" y="975"/>
                  </a:lnTo>
                  <a:lnTo>
                    <a:pt x="3385" y="975"/>
                  </a:lnTo>
                  <a:lnTo>
                    <a:pt x="3385" y="964"/>
                  </a:lnTo>
                  <a:lnTo>
                    <a:pt x="3392" y="964"/>
                  </a:lnTo>
                  <a:lnTo>
                    <a:pt x="3392" y="951"/>
                  </a:lnTo>
                  <a:lnTo>
                    <a:pt x="3396" y="951"/>
                  </a:lnTo>
                  <a:lnTo>
                    <a:pt x="3396" y="946"/>
                  </a:lnTo>
                  <a:lnTo>
                    <a:pt x="3400" y="946"/>
                  </a:lnTo>
                  <a:lnTo>
                    <a:pt x="3400" y="929"/>
                  </a:lnTo>
                  <a:lnTo>
                    <a:pt x="3406" y="929"/>
                  </a:lnTo>
                  <a:lnTo>
                    <a:pt x="3406" y="910"/>
                  </a:lnTo>
                  <a:lnTo>
                    <a:pt x="3410" y="910"/>
                  </a:lnTo>
                  <a:lnTo>
                    <a:pt x="3410" y="905"/>
                  </a:lnTo>
                  <a:lnTo>
                    <a:pt x="3415" y="905"/>
                  </a:lnTo>
                  <a:lnTo>
                    <a:pt x="3415" y="893"/>
                  </a:lnTo>
                  <a:lnTo>
                    <a:pt x="3419" y="893"/>
                  </a:lnTo>
                  <a:lnTo>
                    <a:pt x="3419" y="888"/>
                  </a:lnTo>
                  <a:lnTo>
                    <a:pt x="3425" y="888"/>
                  </a:lnTo>
                  <a:lnTo>
                    <a:pt x="3425" y="875"/>
                  </a:lnTo>
                  <a:lnTo>
                    <a:pt x="3429" y="875"/>
                  </a:lnTo>
                  <a:lnTo>
                    <a:pt x="3429" y="870"/>
                  </a:lnTo>
                  <a:lnTo>
                    <a:pt x="3439" y="870"/>
                  </a:lnTo>
                  <a:lnTo>
                    <a:pt x="3439" y="858"/>
                  </a:lnTo>
                  <a:lnTo>
                    <a:pt x="3443" y="858"/>
                  </a:lnTo>
                  <a:lnTo>
                    <a:pt x="3443" y="851"/>
                  </a:lnTo>
                  <a:lnTo>
                    <a:pt x="3448" y="851"/>
                  </a:lnTo>
                  <a:lnTo>
                    <a:pt x="3448" y="839"/>
                  </a:lnTo>
                  <a:lnTo>
                    <a:pt x="3453" y="839"/>
                  </a:lnTo>
                  <a:lnTo>
                    <a:pt x="3453" y="834"/>
                  </a:lnTo>
                  <a:lnTo>
                    <a:pt x="3458" y="834"/>
                  </a:lnTo>
                  <a:lnTo>
                    <a:pt x="3458" y="816"/>
                  </a:lnTo>
                  <a:lnTo>
                    <a:pt x="3463" y="816"/>
                  </a:lnTo>
                  <a:lnTo>
                    <a:pt x="3463" y="804"/>
                  </a:lnTo>
                  <a:lnTo>
                    <a:pt x="3468" y="804"/>
                  </a:lnTo>
                  <a:lnTo>
                    <a:pt x="3468" y="798"/>
                  </a:lnTo>
                  <a:lnTo>
                    <a:pt x="3473" y="798"/>
                  </a:lnTo>
                  <a:lnTo>
                    <a:pt x="3473" y="793"/>
                  </a:lnTo>
                  <a:lnTo>
                    <a:pt x="3478" y="793"/>
                  </a:lnTo>
                  <a:lnTo>
                    <a:pt x="3478" y="780"/>
                  </a:lnTo>
                  <a:lnTo>
                    <a:pt x="3482" y="780"/>
                  </a:lnTo>
                  <a:lnTo>
                    <a:pt x="3482" y="775"/>
                  </a:lnTo>
                  <a:lnTo>
                    <a:pt x="3487" y="775"/>
                  </a:lnTo>
                  <a:lnTo>
                    <a:pt x="3487" y="769"/>
                  </a:lnTo>
                  <a:lnTo>
                    <a:pt x="3492" y="769"/>
                  </a:lnTo>
                  <a:lnTo>
                    <a:pt x="3492" y="752"/>
                  </a:lnTo>
                  <a:lnTo>
                    <a:pt x="3496" y="752"/>
                  </a:lnTo>
                  <a:lnTo>
                    <a:pt x="3496" y="745"/>
                  </a:lnTo>
                  <a:lnTo>
                    <a:pt x="3501" y="745"/>
                  </a:lnTo>
                  <a:lnTo>
                    <a:pt x="3501" y="722"/>
                  </a:lnTo>
                  <a:lnTo>
                    <a:pt x="3506" y="722"/>
                  </a:lnTo>
                  <a:lnTo>
                    <a:pt x="3506" y="710"/>
                  </a:lnTo>
                  <a:lnTo>
                    <a:pt x="3511" y="710"/>
                  </a:lnTo>
                  <a:lnTo>
                    <a:pt x="3511" y="698"/>
                  </a:lnTo>
                  <a:lnTo>
                    <a:pt x="3515" y="698"/>
                  </a:lnTo>
                  <a:lnTo>
                    <a:pt x="3515" y="687"/>
                  </a:lnTo>
                  <a:lnTo>
                    <a:pt x="3520" y="687"/>
                  </a:lnTo>
                  <a:lnTo>
                    <a:pt x="3520" y="674"/>
                  </a:lnTo>
                  <a:lnTo>
                    <a:pt x="3525" y="674"/>
                  </a:lnTo>
                  <a:lnTo>
                    <a:pt x="3525" y="669"/>
                  </a:lnTo>
                  <a:lnTo>
                    <a:pt x="3529" y="669"/>
                  </a:lnTo>
                  <a:lnTo>
                    <a:pt x="3529" y="657"/>
                  </a:lnTo>
                  <a:lnTo>
                    <a:pt x="3536" y="657"/>
                  </a:lnTo>
                  <a:lnTo>
                    <a:pt x="3536" y="650"/>
                  </a:lnTo>
                  <a:lnTo>
                    <a:pt x="3545" y="650"/>
                  </a:lnTo>
                  <a:lnTo>
                    <a:pt x="3545" y="669"/>
                  </a:lnTo>
                  <a:lnTo>
                    <a:pt x="3540" y="669"/>
                  </a:lnTo>
                  <a:lnTo>
                    <a:pt x="3540" y="674"/>
                  </a:lnTo>
                  <a:lnTo>
                    <a:pt x="3536" y="674"/>
                  </a:lnTo>
                  <a:lnTo>
                    <a:pt x="3536" y="687"/>
                  </a:lnTo>
                  <a:lnTo>
                    <a:pt x="3529" y="687"/>
                  </a:lnTo>
                  <a:lnTo>
                    <a:pt x="3529" y="703"/>
                  </a:lnTo>
                  <a:lnTo>
                    <a:pt x="3525" y="703"/>
                  </a:lnTo>
                  <a:lnTo>
                    <a:pt x="3525" y="715"/>
                  </a:lnTo>
                  <a:lnTo>
                    <a:pt x="3520" y="715"/>
                  </a:lnTo>
                  <a:lnTo>
                    <a:pt x="3520" y="733"/>
                  </a:lnTo>
                  <a:lnTo>
                    <a:pt x="3515" y="733"/>
                  </a:lnTo>
                  <a:lnTo>
                    <a:pt x="3515" y="745"/>
                  </a:lnTo>
                  <a:lnTo>
                    <a:pt x="3511" y="745"/>
                  </a:lnTo>
                  <a:lnTo>
                    <a:pt x="3511" y="752"/>
                  </a:lnTo>
                  <a:lnTo>
                    <a:pt x="3506" y="752"/>
                  </a:lnTo>
                  <a:lnTo>
                    <a:pt x="3506" y="763"/>
                  </a:lnTo>
                  <a:lnTo>
                    <a:pt x="3501" y="763"/>
                  </a:lnTo>
                  <a:lnTo>
                    <a:pt x="3501" y="775"/>
                  </a:lnTo>
                  <a:lnTo>
                    <a:pt x="3496" y="775"/>
                  </a:lnTo>
                  <a:lnTo>
                    <a:pt x="3496" y="780"/>
                  </a:lnTo>
                  <a:lnTo>
                    <a:pt x="3492" y="780"/>
                  </a:lnTo>
                  <a:lnTo>
                    <a:pt x="3492" y="786"/>
                  </a:lnTo>
                  <a:lnTo>
                    <a:pt x="3487" y="786"/>
                  </a:lnTo>
                  <a:lnTo>
                    <a:pt x="3487" y="798"/>
                  </a:lnTo>
                  <a:lnTo>
                    <a:pt x="3482" y="798"/>
                  </a:lnTo>
                  <a:lnTo>
                    <a:pt x="3482" y="804"/>
                  </a:lnTo>
                  <a:lnTo>
                    <a:pt x="3478" y="804"/>
                  </a:lnTo>
                  <a:lnTo>
                    <a:pt x="3478" y="821"/>
                  </a:lnTo>
                  <a:lnTo>
                    <a:pt x="3473" y="821"/>
                  </a:lnTo>
                  <a:lnTo>
                    <a:pt x="3473" y="828"/>
                  </a:lnTo>
                  <a:lnTo>
                    <a:pt x="3468" y="828"/>
                  </a:lnTo>
                  <a:lnTo>
                    <a:pt x="3468" y="839"/>
                  </a:lnTo>
                  <a:lnTo>
                    <a:pt x="3463" y="839"/>
                  </a:lnTo>
                  <a:lnTo>
                    <a:pt x="3463" y="851"/>
                  </a:lnTo>
                  <a:lnTo>
                    <a:pt x="3458" y="851"/>
                  </a:lnTo>
                  <a:lnTo>
                    <a:pt x="3458" y="858"/>
                  </a:lnTo>
                  <a:lnTo>
                    <a:pt x="3453" y="858"/>
                  </a:lnTo>
                  <a:lnTo>
                    <a:pt x="3453" y="864"/>
                  </a:lnTo>
                  <a:lnTo>
                    <a:pt x="3448" y="864"/>
                  </a:lnTo>
                  <a:lnTo>
                    <a:pt x="3448" y="875"/>
                  </a:lnTo>
                  <a:lnTo>
                    <a:pt x="3443" y="875"/>
                  </a:lnTo>
                  <a:lnTo>
                    <a:pt x="3443" y="880"/>
                  </a:lnTo>
                  <a:lnTo>
                    <a:pt x="3439" y="880"/>
                  </a:lnTo>
                  <a:lnTo>
                    <a:pt x="3439" y="888"/>
                  </a:lnTo>
                  <a:lnTo>
                    <a:pt x="3434" y="888"/>
                  </a:lnTo>
                  <a:lnTo>
                    <a:pt x="3434" y="893"/>
                  </a:lnTo>
                  <a:lnTo>
                    <a:pt x="3429" y="893"/>
                  </a:lnTo>
                  <a:lnTo>
                    <a:pt x="3429" y="905"/>
                  </a:lnTo>
                  <a:lnTo>
                    <a:pt x="3425" y="905"/>
                  </a:lnTo>
                  <a:lnTo>
                    <a:pt x="3425" y="916"/>
                  </a:lnTo>
                  <a:lnTo>
                    <a:pt x="3419" y="916"/>
                  </a:lnTo>
                  <a:lnTo>
                    <a:pt x="3419" y="929"/>
                  </a:lnTo>
                  <a:lnTo>
                    <a:pt x="3415" y="929"/>
                  </a:lnTo>
                  <a:lnTo>
                    <a:pt x="3415" y="940"/>
                  </a:lnTo>
                  <a:lnTo>
                    <a:pt x="3410" y="940"/>
                  </a:lnTo>
                  <a:lnTo>
                    <a:pt x="3410" y="951"/>
                  </a:lnTo>
                  <a:lnTo>
                    <a:pt x="3406" y="951"/>
                  </a:lnTo>
                  <a:lnTo>
                    <a:pt x="3406" y="964"/>
                  </a:lnTo>
                  <a:lnTo>
                    <a:pt x="3400" y="964"/>
                  </a:lnTo>
                  <a:lnTo>
                    <a:pt x="3400" y="975"/>
                  </a:lnTo>
                  <a:lnTo>
                    <a:pt x="3396" y="975"/>
                  </a:lnTo>
                  <a:lnTo>
                    <a:pt x="3396" y="987"/>
                  </a:lnTo>
                  <a:lnTo>
                    <a:pt x="3392" y="987"/>
                  </a:lnTo>
                  <a:lnTo>
                    <a:pt x="3392" y="1005"/>
                  </a:lnTo>
                  <a:lnTo>
                    <a:pt x="3385" y="1005"/>
                  </a:lnTo>
                  <a:lnTo>
                    <a:pt x="3385" y="1016"/>
                  </a:lnTo>
                  <a:lnTo>
                    <a:pt x="3381" y="1016"/>
                  </a:lnTo>
                  <a:lnTo>
                    <a:pt x="3381" y="1024"/>
                  </a:lnTo>
                  <a:lnTo>
                    <a:pt x="3376" y="1024"/>
                  </a:lnTo>
                  <a:lnTo>
                    <a:pt x="3376" y="1041"/>
                  </a:lnTo>
                  <a:lnTo>
                    <a:pt x="3371" y="1041"/>
                  </a:lnTo>
                  <a:lnTo>
                    <a:pt x="3371" y="1046"/>
                  </a:lnTo>
                  <a:lnTo>
                    <a:pt x="3366" y="1046"/>
                  </a:lnTo>
                  <a:lnTo>
                    <a:pt x="3366" y="1057"/>
                  </a:lnTo>
                  <a:lnTo>
                    <a:pt x="3362" y="1057"/>
                  </a:lnTo>
                  <a:lnTo>
                    <a:pt x="3362" y="1065"/>
                  </a:lnTo>
                  <a:lnTo>
                    <a:pt x="3357" y="1065"/>
                  </a:lnTo>
                  <a:lnTo>
                    <a:pt x="3357" y="1076"/>
                  </a:lnTo>
                  <a:lnTo>
                    <a:pt x="3352" y="1076"/>
                  </a:lnTo>
                  <a:lnTo>
                    <a:pt x="3352" y="1082"/>
                  </a:lnTo>
                  <a:lnTo>
                    <a:pt x="3343" y="1082"/>
                  </a:lnTo>
                  <a:lnTo>
                    <a:pt x="3343" y="1093"/>
                  </a:lnTo>
                  <a:lnTo>
                    <a:pt x="3338" y="1093"/>
                  </a:lnTo>
                  <a:lnTo>
                    <a:pt x="3338" y="1100"/>
                  </a:lnTo>
                  <a:lnTo>
                    <a:pt x="3333" y="1100"/>
                  </a:lnTo>
                  <a:lnTo>
                    <a:pt x="3333" y="1111"/>
                  </a:lnTo>
                  <a:lnTo>
                    <a:pt x="3329" y="1111"/>
                  </a:lnTo>
                  <a:lnTo>
                    <a:pt x="3329" y="1117"/>
                  </a:lnTo>
                  <a:lnTo>
                    <a:pt x="3323" y="1117"/>
                  </a:lnTo>
                  <a:lnTo>
                    <a:pt x="3323" y="1123"/>
                  </a:lnTo>
                  <a:lnTo>
                    <a:pt x="3319" y="1123"/>
                  </a:lnTo>
                  <a:lnTo>
                    <a:pt x="3319" y="1135"/>
                  </a:lnTo>
                  <a:lnTo>
                    <a:pt x="3313" y="1135"/>
                  </a:lnTo>
                  <a:lnTo>
                    <a:pt x="3313" y="1147"/>
                  </a:lnTo>
                  <a:lnTo>
                    <a:pt x="3309" y="1147"/>
                  </a:lnTo>
                  <a:lnTo>
                    <a:pt x="3309" y="1160"/>
                  </a:lnTo>
                  <a:lnTo>
                    <a:pt x="3304" y="1160"/>
                  </a:lnTo>
                  <a:lnTo>
                    <a:pt x="3304" y="1171"/>
                  </a:lnTo>
                  <a:lnTo>
                    <a:pt x="3299" y="1171"/>
                  </a:lnTo>
                  <a:lnTo>
                    <a:pt x="3299" y="1176"/>
                  </a:lnTo>
                  <a:lnTo>
                    <a:pt x="3295" y="1176"/>
                  </a:lnTo>
                  <a:lnTo>
                    <a:pt x="3295" y="1193"/>
                  </a:lnTo>
                  <a:lnTo>
                    <a:pt x="3289" y="1193"/>
                  </a:lnTo>
                  <a:lnTo>
                    <a:pt x="3289" y="1212"/>
                  </a:lnTo>
                  <a:lnTo>
                    <a:pt x="3285" y="1212"/>
                  </a:lnTo>
                  <a:lnTo>
                    <a:pt x="3285" y="1242"/>
                  </a:lnTo>
                  <a:lnTo>
                    <a:pt x="3280" y="1242"/>
                  </a:lnTo>
                  <a:lnTo>
                    <a:pt x="3280" y="1253"/>
                  </a:lnTo>
                  <a:lnTo>
                    <a:pt x="3275" y="1253"/>
                  </a:lnTo>
                  <a:lnTo>
                    <a:pt x="3275" y="1266"/>
                  </a:lnTo>
                  <a:lnTo>
                    <a:pt x="3271" y="1266"/>
                  </a:lnTo>
                  <a:lnTo>
                    <a:pt x="3271" y="1283"/>
                  </a:lnTo>
                  <a:lnTo>
                    <a:pt x="3266" y="1283"/>
                  </a:lnTo>
                  <a:lnTo>
                    <a:pt x="3266" y="1301"/>
                  </a:lnTo>
                  <a:lnTo>
                    <a:pt x="3262" y="1301"/>
                  </a:lnTo>
                  <a:lnTo>
                    <a:pt x="3262" y="1307"/>
                  </a:lnTo>
                  <a:lnTo>
                    <a:pt x="3256" y="1307"/>
                  </a:lnTo>
                  <a:lnTo>
                    <a:pt x="3256" y="1324"/>
                  </a:lnTo>
                  <a:lnTo>
                    <a:pt x="3252" y="1324"/>
                  </a:lnTo>
                  <a:lnTo>
                    <a:pt x="3252" y="1337"/>
                  </a:lnTo>
                  <a:lnTo>
                    <a:pt x="3247" y="1337"/>
                  </a:lnTo>
                  <a:lnTo>
                    <a:pt x="3247" y="1348"/>
                  </a:lnTo>
                  <a:lnTo>
                    <a:pt x="3242" y="1348"/>
                  </a:lnTo>
                  <a:lnTo>
                    <a:pt x="3242" y="1365"/>
                  </a:lnTo>
                  <a:lnTo>
                    <a:pt x="3236" y="1365"/>
                  </a:lnTo>
                  <a:lnTo>
                    <a:pt x="3236" y="1378"/>
                  </a:lnTo>
                  <a:lnTo>
                    <a:pt x="3232" y="1378"/>
                  </a:lnTo>
                  <a:lnTo>
                    <a:pt x="3232" y="1389"/>
                  </a:lnTo>
                  <a:lnTo>
                    <a:pt x="3227" y="1389"/>
                  </a:lnTo>
                  <a:lnTo>
                    <a:pt x="3227" y="1395"/>
                  </a:lnTo>
                  <a:lnTo>
                    <a:pt x="3222" y="1395"/>
                  </a:lnTo>
                  <a:lnTo>
                    <a:pt x="3222" y="1402"/>
                  </a:lnTo>
                  <a:lnTo>
                    <a:pt x="3218" y="1402"/>
                  </a:lnTo>
                  <a:lnTo>
                    <a:pt x="3218" y="1424"/>
                  </a:lnTo>
                  <a:lnTo>
                    <a:pt x="3213" y="1424"/>
                  </a:lnTo>
                  <a:lnTo>
                    <a:pt x="3213" y="1430"/>
                  </a:lnTo>
                  <a:lnTo>
                    <a:pt x="3208" y="1430"/>
                  </a:lnTo>
                  <a:lnTo>
                    <a:pt x="3208" y="1437"/>
                  </a:lnTo>
                  <a:lnTo>
                    <a:pt x="3204" y="1437"/>
                  </a:lnTo>
                  <a:lnTo>
                    <a:pt x="3204" y="1443"/>
                  </a:lnTo>
                  <a:lnTo>
                    <a:pt x="3199" y="1443"/>
                  </a:lnTo>
                  <a:lnTo>
                    <a:pt x="3199" y="1460"/>
                  </a:lnTo>
                  <a:lnTo>
                    <a:pt x="3194" y="1460"/>
                  </a:lnTo>
                  <a:lnTo>
                    <a:pt x="3194" y="1465"/>
                  </a:lnTo>
                  <a:lnTo>
                    <a:pt x="3189" y="1465"/>
                  </a:lnTo>
                  <a:lnTo>
                    <a:pt x="3189" y="1478"/>
                  </a:lnTo>
                  <a:lnTo>
                    <a:pt x="3185" y="1478"/>
                  </a:lnTo>
                  <a:lnTo>
                    <a:pt x="3185" y="1489"/>
                  </a:lnTo>
                  <a:lnTo>
                    <a:pt x="3179" y="1489"/>
                  </a:lnTo>
                  <a:lnTo>
                    <a:pt x="3179" y="1501"/>
                  </a:lnTo>
                  <a:lnTo>
                    <a:pt x="3175" y="1501"/>
                  </a:lnTo>
                  <a:lnTo>
                    <a:pt x="3175" y="1514"/>
                  </a:lnTo>
                  <a:lnTo>
                    <a:pt x="3171" y="1514"/>
                  </a:lnTo>
                  <a:lnTo>
                    <a:pt x="3171" y="1525"/>
                  </a:lnTo>
                  <a:lnTo>
                    <a:pt x="3165" y="1525"/>
                  </a:lnTo>
                  <a:lnTo>
                    <a:pt x="3165" y="1543"/>
                  </a:lnTo>
                  <a:lnTo>
                    <a:pt x="3160" y="1543"/>
                  </a:lnTo>
                  <a:lnTo>
                    <a:pt x="3160" y="1555"/>
                  </a:lnTo>
                  <a:lnTo>
                    <a:pt x="3155" y="1555"/>
                  </a:lnTo>
                  <a:lnTo>
                    <a:pt x="3155" y="1566"/>
                  </a:lnTo>
                  <a:lnTo>
                    <a:pt x="3151" y="1566"/>
                  </a:lnTo>
                  <a:lnTo>
                    <a:pt x="3151" y="1584"/>
                  </a:lnTo>
                  <a:lnTo>
                    <a:pt x="3145" y="1584"/>
                  </a:lnTo>
                  <a:lnTo>
                    <a:pt x="3145" y="1603"/>
                  </a:lnTo>
                  <a:lnTo>
                    <a:pt x="3141" y="1603"/>
                  </a:lnTo>
                  <a:lnTo>
                    <a:pt x="3141" y="1620"/>
                  </a:lnTo>
                  <a:lnTo>
                    <a:pt x="3137" y="1620"/>
                  </a:lnTo>
                  <a:lnTo>
                    <a:pt x="3137" y="1637"/>
                  </a:lnTo>
                  <a:lnTo>
                    <a:pt x="3131" y="1637"/>
                  </a:lnTo>
                  <a:lnTo>
                    <a:pt x="3131" y="1649"/>
                  </a:lnTo>
                  <a:lnTo>
                    <a:pt x="3127" y="1649"/>
                  </a:lnTo>
                  <a:lnTo>
                    <a:pt x="3127" y="1666"/>
                  </a:lnTo>
                  <a:lnTo>
                    <a:pt x="3122" y="1666"/>
                  </a:lnTo>
                  <a:lnTo>
                    <a:pt x="3122" y="1679"/>
                  </a:lnTo>
                  <a:lnTo>
                    <a:pt x="3117" y="1679"/>
                  </a:lnTo>
                  <a:lnTo>
                    <a:pt x="3117" y="1691"/>
                  </a:lnTo>
                  <a:lnTo>
                    <a:pt x="3112" y="1691"/>
                  </a:lnTo>
                  <a:lnTo>
                    <a:pt x="3112" y="1702"/>
                  </a:lnTo>
                  <a:lnTo>
                    <a:pt x="3108" y="1702"/>
                  </a:lnTo>
                  <a:lnTo>
                    <a:pt x="3108" y="1709"/>
                  </a:lnTo>
                  <a:lnTo>
                    <a:pt x="3103" y="1709"/>
                  </a:lnTo>
                  <a:lnTo>
                    <a:pt x="3103" y="1715"/>
                  </a:lnTo>
                  <a:lnTo>
                    <a:pt x="3098" y="1715"/>
                  </a:lnTo>
                  <a:lnTo>
                    <a:pt x="3098" y="1726"/>
                  </a:lnTo>
                  <a:lnTo>
                    <a:pt x="3088" y="1726"/>
                  </a:lnTo>
                  <a:lnTo>
                    <a:pt x="3088" y="1744"/>
                  </a:lnTo>
                  <a:lnTo>
                    <a:pt x="3083" y="1744"/>
                  </a:lnTo>
                  <a:lnTo>
                    <a:pt x="3083" y="1756"/>
                  </a:lnTo>
                  <a:lnTo>
                    <a:pt x="3078" y="1756"/>
                  </a:lnTo>
                  <a:lnTo>
                    <a:pt x="3078" y="1761"/>
                  </a:lnTo>
                  <a:lnTo>
                    <a:pt x="3074" y="1761"/>
                  </a:lnTo>
                  <a:lnTo>
                    <a:pt x="3074" y="1778"/>
                  </a:lnTo>
                  <a:lnTo>
                    <a:pt x="3069" y="1778"/>
                  </a:lnTo>
                  <a:lnTo>
                    <a:pt x="3069" y="1785"/>
                  </a:lnTo>
                  <a:lnTo>
                    <a:pt x="3064" y="1785"/>
                  </a:lnTo>
                  <a:lnTo>
                    <a:pt x="3064" y="1810"/>
                  </a:lnTo>
                  <a:lnTo>
                    <a:pt x="3059" y="1810"/>
                  </a:lnTo>
                  <a:lnTo>
                    <a:pt x="3059" y="1838"/>
                  </a:lnTo>
                  <a:lnTo>
                    <a:pt x="3050" y="1838"/>
                  </a:lnTo>
                  <a:lnTo>
                    <a:pt x="3050" y="1843"/>
                  </a:lnTo>
                  <a:lnTo>
                    <a:pt x="3045" y="1843"/>
                  </a:lnTo>
                  <a:lnTo>
                    <a:pt x="3045" y="1862"/>
                  </a:lnTo>
                  <a:lnTo>
                    <a:pt x="3041" y="1862"/>
                  </a:lnTo>
                  <a:lnTo>
                    <a:pt x="3041" y="1875"/>
                  </a:lnTo>
                  <a:lnTo>
                    <a:pt x="3035" y="1875"/>
                  </a:lnTo>
                  <a:lnTo>
                    <a:pt x="3035" y="1885"/>
                  </a:lnTo>
                  <a:lnTo>
                    <a:pt x="3031" y="1885"/>
                  </a:lnTo>
                  <a:lnTo>
                    <a:pt x="3031" y="1892"/>
                  </a:lnTo>
                  <a:lnTo>
                    <a:pt x="3026" y="1892"/>
                  </a:lnTo>
                  <a:lnTo>
                    <a:pt x="3026" y="1910"/>
                  </a:lnTo>
                  <a:lnTo>
                    <a:pt x="3021" y="1910"/>
                  </a:lnTo>
                  <a:lnTo>
                    <a:pt x="3021" y="1916"/>
                  </a:lnTo>
                  <a:lnTo>
                    <a:pt x="3015" y="1916"/>
                  </a:lnTo>
                  <a:lnTo>
                    <a:pt x="3015" y="1927"/>
                  </a:lnTo>
                  <a:lnTo>
                    <a:pt x="3011" y="1927"/>
                  </a:lnTo>
                  <a:lnTo>
                    <a:pt x="3011" y="1944"/>
                  </a:lnTo>
                  <a:lnTo>
                    <a:pt x="3007" y="1944"/>
                  </a:lnTo>
                  <a:lnTo>
                    <a:pt x="3007" y="1969"/>
                  </a:lnTo>
                  <a:lnTo>
                    <a:pt x="3001" y="1969"/>
                  </a:lnTo>
                  <a:lnTo>
                    <a:pt x="3001" y="1974"/>
                  </a:lnTo>
                  <a:lnTo>
                    <a:pt x="2997" y="1974"/>
                  </a:lnTo>
                  <a:lnTo>
                    <a:pt x="2997" y="1998"/>
                  </a:lnTo>
                  <a:lnTo>
                    <a:pt x="2992" y="1998"/>
                  </a:lnTo>
                  <a:lnTo>
                    <a:pt x="2992" y="2011"/>
                  </a:lnTo>
                  <a:lnTo>
                    <a:pt x="2987" y="2011"/>
                  </a:lnTo>
                  <a:lnTo>
                    <a:pt x="2987" y="2028"/>
                  </a:lnTo>
                  <a:lnTo>
                    <a:pt x="2982" y="2028"/>
                  </a:lnTo>
                  <a:lnTo>
                    <a:pt x="2982" y="2033"/>
                  </a:lnTo>
                  <a:lnTo>
                    <a:pt x="2978" y="2033"/>
                  </a:lnTo>
                  <a:lnTo>
                    <a:pt x="2978" y="2039"/>
                  </a:lnTo>
                  <a:lnTo>
                    <a:pt x="2973" y="2039"/>
                  </a:lnTo>
                  <a:lnTo>
                    <a:pt x="2973" y="2052"/>
                  </a:lnTo>
                  <a:lnTo>
                    <a:pt x="2968" y="2052"/>
                  </a:lnTo>
                  <a:lnTo>
                    <a:pt x="2968" y="2063"/>
                  </a:lnTo>
                  <a:lnTo>
                    <a:pt x="2964" y="2063"/>
                  </a:lnTo>
                  <a:lnTo>
                    <a:pt x="2964" y="2075"/>
                  </a:lnTo>
                  <a:lnTo>
                    <a:pt x="2959" y="2075"/>
                  </a:lnTo>
                  <a:lnTo>
                    <a:pt x="2959" y="2080"/>
                  </a:lnTo>
                  <a:lnTo>
                    <a:pt x="2954" y="2080"/>
                  </a:lnTo>
                  <a:lnTo>
                    <a:pt x="2954" y="2093"/>
                  </a:lnTo>
                  <a:lnTo>
                    <a:pt x="2948" y="2093"/>
                  </a:lnTo>
                  <a:lnTo>
                    <a:pt x="2948" y="2104"/>
                  </a:lnTo>
                  <a:lnTo>
                    <a:pt x="2944" y="2104"/>
                  </a:lnTo>
                  <a:lnTo>
                    <a:pt x="2944" y="2110"/>
                  </a:lnTo>
                  <a:lnTo>
                    <a:pt x="2938" y="2110"/>
                  </a:lnTo>
                  <a:lnTo>
                    <a:pt x="2938" y="2117"/>
                  </a:lnTo>
                  <a:lnTo>
                    <a:pt x="2934" y="2117"/>
                  </a:lnTo>
                  <a:lnTo>
                    <a:pt x="2934" y="2122"/>
                  </a:lnTo>
                  <a:lnTo>
                    <a:pt x="2930" y="2122"/>
                  </a:lnTo>
                  <a:lnTo>
                    <a:pt x="2930" y="2129"/>
                  </a:lnTo>
                  <a:lnTo>
                    <a:pt x="2925" y="2129"/>
                  </a:lnTo>
                  <a:lnTo>
                    <a:pt x="2925" y="2139"/>
                  </a:lnTo>
                  <a:lnTo>
                    <a:pt x="2920" y="2139"/>
                  </a:lnTo>
                  <a:lnTo>
                    <a:pt x="2920" y="2147"/>
                  </a:lnTo>
                  <a:lnTo>
                    <a:pt x="2915" y="2147"/>
                  </a:lnTo>
                  <a:lnTo>
                    <a:pt x="2915" y="2152"/>
                  </a:lnTo>
                  <a:lnTo>
                    <a:pt x="2911" y="2152"/>
                  </a:lnTo>
                  <a:lnTo>
                    <a:pt x="2911" y="2157"/>
                  </a:lnTo>
                  <a:lnTo>
                    <a:pt x="2905" y="2157"/>
                  </a:lnTo>
                  <a:lnTo>
                    <a:pt x="2905" y="2164"/>
                  </a:lnTo>
                  <a:lnTo>
                    <a:pt x="2901" y="2164"/>
                  </a:lnTo>
                  <a:lnTo>
                    <a:pt x="2901" y="2169"/>
                  </a:lnTo>
                  <a:lnTo>
                    <a:pt x="2896" y="2169"/>
                  </a:lnTo>
                  <a:lnTo>
                    <a:pt x="2896" y="2180"/>
                  </a:lnTo>
                  <a:lnTo>
                    <a:pt x="2891" y="2180"/>
                  </a:lnTo>
                  <a:lnTo>
                    <a:pt x="2891" y="2188"/>
                  </a:lnTo>
                  <a:lnTo>
                    <a:pt x="2887" y="2188"/>
                  </a:lnTo>
                  <a:lnTo>
                    <a:pt x="2887" y="2205"/>
                  </a:lnTo>
                  <a:lnTo>
                    <a:pt x="2882" y="2205"/>
                  </a:lnTo>
                  <a:lnTo>
                    <a:pt x="2882" y="2210"/>
                  </a:lnTo>
                  <a:lnTo>
                    <a:pt x="2877" y="2210"/>
                  </a:lnTo>
                  <a:lnTo>
                    <a:pt x="2877" y="2223"/>
                  </a:lnTo>
                  <a:lnTo>
                    <a:pt x="2871" y="2223"/>
                  </a:lnTo>
                  <a:lnTo>
                    <a:pt x="2871" y="2234"/>
                  </a:lnTo>
                  <a:lnTo>
                    <a:pt x="2867" y="2234"/>
                  </a:lnTo>
                  <a:lnTo>
                    <a:pt x="2867" y="2240"/>
                  </a:lnTo>
                  <a:lnTo>
                    <a:pt x="2863" y="2240"/>
                  </a:lnTo>
                  <a:lnTo>
                    <a:pt x="2863" y="2251"/>
                  </a:lnTo>
                  <a:lnTo>
                    <a:pt x="2857" y="2251"/>
                  </a:lnTo>
                  <a:lnTo>
                    <a:pt x="2857" y="2264"/>
                  </a:lnTo>
                  <a:lnTo>
                    <a:pt x="2853" y="2264"/>
                  </a:lnTo>
                  <a:lnTo>
                    <a:pt x="2853" y="2275"/>
                  </a:lnTo>
                  <a:lnTo>
                    <a:pt x="2848" y="2275"/>
                  </a:lnTo>
                  <a:lnTo>
                    <a:pt x="2848" y="2283"/>
                  </a:lnTo>
                  <a:lnTo>
                    <a:pt x="2843" y="2283"/>
                  </a:lnTo>
                  <a:lnTo>
                    <a:pt x="2843" y="2294"/>
                  </a:lnTo>
                  <a:lnTo>
                    <a:pt x="2838" y="2294"/>
                  </a:lnTo>
                  <a:lnTo>
                    <a:pt x="2838" y="2305"/>
                  </a:lnTo>
                  <a:lnTo>
                    <a:pt x="2834" y="2305"/>
                  </a:lnTo>
                  <a:lnTo>
                    <a:pt x="2834" y="2316"/>
                  </a:lnTo>
                  <a:lnTo>
                    <a:pt x="2829" y="2316"/>
                  </a:lnTo>
                  <a:lnTo>
                    <a:pt x="2829" y="2324"/>
                  </a:lnTo>
                  <a:lnTo>
                    <a:pt x="2824" y="2324"/>
                  </a:lnTo>
                  <a:lnTo>
                    <a:pt x="2824" y="2341"/>
                  </a:lnTo>
                  <a:lnTo>
                    <a:pt x="2820" y="2341"/>
                  </a:lnTo>
                  <a:lnTo>
                    <a:pt x="2820" y="2346"/>
                  </a:lnTo>
                  <a:lnTo>
                    <a:pt x="2815" y="2346"/>
                  </a:lnTo>
                  <a:lnTo>
                    <a:pt x="2815" y="2357"/>
                  </a:lnTo>
                  <a:lnTo>
                    <a:pt x="2810" y="2357"/>
                  </a:lnTo>
                  <a:lnTo>
                    <a:pt x="2810" y="2365"/>
                  </a:lnTo>
                  <a:lnTo>
                    <a:pt x="2804" y="2365"/>
                  </a:lnTo>
                  <a:lnTo>
                    <a:pt x="2804" y="2376"/>
                  </a:lnTo>
                  <a:lnTo>
                    <a:pt x="2800" y="2376"/>
                  </a:lnTo>
                  <a:lnTo>
                    <a:pt x="2800" y="2389"/>
                  </a:lnTo>
                  <a:lnTo>
                    <a:pt x="2795" y="2389"/>
                  </a:lnTo>
                  <a:lnTo>
                    <a:pt x="2795" y="2400"/>
                  </a:lnTo>
                  <a:lnTo>
                    <a:pt x="2800" y="2400"/>
                  </a:lnTo>
                  <a:lnTo>
                    <a:pt x="2800" y="2406"/>
                  </a:lnTo>
                  <a:lnTo>
                    <a:pt x="2804" y="2406"/>
                  </a:lnTo>
                  <a:lnTo>
                    <a:pt x="2804" y="2411"/>
                  </a:lnTo>
                  <a:lnTo>
                    <a:pt x="2815" y="2411"/>
                  </a:lnTo>
                  <a:lnTo>
                    <a:pt x="2815" y="2417"/>
                  </a:lnTo>
                  <a:lnTo>
                    <a:pt x="2829" y="2417"/>
                  </a:lnTo>
                  <a:lnTo>
                    <a:pt x="2829" y="2424"/>
                  </a:lnTo>
                  <a:lnTo>
                    <a:pt x="2838" y="2424"/>
                  </a:lnTo>
                  <a:lnTo>
                    <a:pt x="2838" y="2430"/>
                  </a:lnTo>
                  <a:lnTo>
                    <a:pt x="2853" y="2430"/>
                  </a:lnTo>
                  <a:lnTo>
                    <a:pt x="2853" y="2435"/>
                  </a:lnTo>
                  <a:lnTo>
                    <a:pt x="2867" y="2435"/>
                  </a:lnTo>
                  <a:lnTo>
                    <a:pt x="2867" y="2442"/>
                  </a:lnTo>
                  <a:lnTo>
                    <a:pt x="2882" y="2442"/>
                  </a:lnTo>
                  <a:lnTo>
                    <a:pt x="2882" y="2447"/>
                  </a:lnTo>
                  <a:lnTo>
                    <a:pt x="2896" y="2447"/>
                  </a:lnTo>
                  <a:lnTo>
                    <a:pt x="2896" y="2452"/>
                  </a:lnTo>
                  <a:lnTo>
                    <a:pt x="2911" y="2452"/>
                  </a:lnTo>
                  <a:lnTo>
                    <a:pt x="2911" y="2460"/>
                  </a:lnTo>
                  <a:lnTo>
                    <a:pt x="2934" y="2460"/>
                  </a:lnTo>
                  <a:lnTo>
                    <a:pt x="2934" y="2465"/>
                  </a:lnTo>
                  <a:lnTo>
                    <a:pt x="2948" y="2465"/>
                  </a:lnTo>
                  <a:lnTo>
                    <a:pt x="2948" y="2471"/>
                  </a:lnTo>
                  <a:lnTo>
                    <a:pt x="2959" y="2471"/>
                  </a:lnTo>
                  <a:lnTo>
                    <a:pt x="2959" y="2476"/>
                  </a:lnTo>
                  <a:lnTo>
                    <a:pt x="2973" y="2476"/>
                  </a:lnTo>
                  <a:lnTo>
                    <a:pt x="2973" y="2484"/>
                  </a:lnTo>
                  <a:lnTo>
                    <a:pt x="2982" y="2484"/>
                  </a:lnTo>
                  <a:lnTo>
                    <a:pt x="2982" y="2489"/>
                  </a:lnTo>
                  <a:lnTo>
                    <a:pt x="3001" y="2489"/>
                  </a:lnTo>
                  <a:lnTo>
                    <a:pt x="3001" y="2495"/>
                  </a:lnTo>
                  <a:lnTo>
                    <a:pt x="3011" y="2495"/>
                  </a:lnTo>
                  <a:lnTo>
                    <a:pt x="3011" y="2501"/>
                  </a:lnTo>
                  <a:lnTo>
                    <a:pt x="3031" y="2501"/>
                  </a:lnTo>
                  <a:lnTo>
                    <a:pt x="3031" y="2506"/>
                  </a:lnTo>
                  <a:lnTo>
                    <a:pt x="3045" y="2506"/>
                  </a:lnTo>
                  <a:lnTo>
                    <a:pt x="3045" y="2512"/>
                  </a:lnTo>
                  <a:lnTo>
                    <a:pt x="3055" y="2512"/>
                  </a:lnTo>
                  <a:lnTo>
                    <a:pt x="3055" y="2518"/>
                  </a:lnTo>
                  <a:lnTo>
                    <a:pt x="3064" y="2518"/>
                  </a:lnTo>
                  <a:lnTo>
                    <a:pt x="3064" y="2525"/>
                  </a:lnTo>
                  <a:lnTo>
                    <a:pt x="3074" y="2525"/>
                  </a:lnTo>
                  <a:lnTo>
                    <a:pt x="3074" y="2530"/>
                  </a:lnTo>
                  <a:lnTo>
                    <a:pt x="3088" y="2530"/>
                  </a:lnTo>
                  <a:lnTo>
                    <a:pt x="3088" y="2536"/>
                  </a:lnTo>
                  <a:lnTo>
                    <a:pt x="3112" y="2536"/>
                  </a:lnTo>
                  <a:lnTo>
                    <a:pt x="3112" y="2542"/>
                  </a:lnTo>
                  <a:lnTo>
                    <a:pt x="3131" y="2542"/>
                  </a:lnTo>
                  <a:lnTo>
                    <a:pt x="3131" y="2547"/>
                  </a:lnTo>
                  <a:lnTo>
                    <a:pt x="3151" y="2547"/>
                  </a:lnTo>
                  <a:lnTo>
                    <a:pt x="3151" y="2553"/>
                  </a:lnTo>
                  <a:lnTo>
                    <a:pt x="3160" y="2553"/>
                  </a:lnTo>
                  <a:lnTo>
                    <a:pt x="3160" y="2560"/>
                  </a:lnTo>
                  <a:lnTo>
                    <a:pt x="3175" y="2560"/>
                  </a:lnTo>
                  <a:lnTo>
                    <a:pt x="3175" y="2566"/>
                  </a:lnTo>
                  <a:lnTo>
                    <a:pt x="3189" y="2566"/>
                  </a:lnTo>
                  <a:lnTo>
                    <a:pt x="3189" y="2571"/>
                  </a:lnTo>
                  <a:lnTo>
                    <a:pt x="3208" y="2571"/>
                  </a:lnTo>
                  <a:lnTo>
                    <a:pt x="3208" y="2577"/>
                  </a:lnTo>
                  <a:lnTo>
                    <a:pt x="3227" y="2577"/>
                  </a:lnTo>
                  <a:lnTo>
                    <a:pt x="3227" y="2583"/>
                  </a:lnTo>
                  <a:lnTo>
                    <a:pt x="3262" y="2583"/>
                  </a:lnTo>
                  <a:lnTo>
                    <a:pt x="3262" y="2588"/>
                  </a:lnTo>
                  <a:lnTo>
                    <a:pt x="3275" y="2588"/>
                  </a:lnTo>
                  <a:lnTo>
                    <a:pt x="3275" y="2595"/>
                  </a:lnTo>
                  <a:lnTo>
                    <a:pt x="3289" y="2595"/>
                  </a:lnTo>
                  <a:lnTo>
                    <a:pt x="3289" y="2601"/>
                  </a:lnTo>
                  <a:lnTo>
                    <a:pt x="3299" y="2601"/>
                  </a:lnTo>
                  <a:lnTo>
                    <a:pt x="3299" y="2607"/>
                  </a:lnTo>
                  <a:lnTo>
                    <a:pt x="3309" y="2607"/>
                  </a:lnTo>
                  <a:lnTo>
                    <a:pt x="3309" y="2612"/>
                  </a:lnTo>
                  <a:lnTo>
                    <a:pt x="3329" y="2612"/>
                  </a:lnTo>
                  <a:lnTo>
                    <a:pt x="3329" y="2618"/>
                  </a:lnTo>
                  <a:lnTo>
                    <a:pt x="3338" y="2618"/>
                  </a:lnTo>
                  <a:lnTo>
                    <a:pt x="3338" y="2625"/>
                  </a:lnTo>
                  <a:lnTo>
                    <a:pt x="3362" y="2625"/>
                  </a:lnTo>
                  <a:lnTo>
                    <a:pt x="3362" y="2630"/>
                  </a:lnTo>
                  <a:lnTo>
                    <a:pt x="3381" y="2630"/>
                  </a:lnTo>
                  <a:lnTo>
                    <a:pt x="3381" y="2637"/>
                  </a:lnTo>
                  <a:lnTo>
                    <a:pt x="3396" y="2637"/>
                  </a:lnTo>
                  <a:lnTo>
                    <a:pt x="3396" y="2642"/>
                  </a:lnTo>
                  <a:lnTo>
                    <a:pt x="3410" y="2642"/>
                  </a:lnTo>
                  <a:lnTo>
                    <a:pt x="3410" y="2648"/>
                  </a:lnTo>
                  <a:lnTo>
                    <a:pt x="3434" y="2648"/>
                  </a:lnTo>
                  <a:lnTo>
                    <a:pt x="3434" y="2653"/>
                  </a:lnTo>
                  <a:lnTo>
                    <a:pt x="3443" y="2653"/>
                  </a:lnTo>
                  <a:lnTo>
                    <a:pt x="3443" y="2661"/>
                  </a:lnTo>
                  <a:lnTo>
                    <a:pt x="3458" y="2661"/>
                  </a:lnTo>
                  <a:lnTo>
                    <a:pt x="3458" y="2666"/>
                  </a:lnTo>
                  <a:lnTo>
                    <a:pt x="3468" y="2666"/>
                  </a:lnTo>
                  <a:lnTo>
                    <a:pt x="3468" y="2671"/>
                  </a:lnTo>
                  <a:lnTo>
                    <a:pt x="3482" y="2671"/>
                  </a:lnTo>
                  <a:lnTo>
                    <a:pt x="3482" y="2678"/>
                  </a:lnTo>
                  <a:lnTo>
                    <a:pt x="3515" y="2678"/>
                  </a:lnTo>
                  <a:lnTo>
                    <a:pt x="3515" y="2683"/>
                  </a:lnTo>
                  <a:lnTo>
                    <a:pt x="3529" y="2683"/>
                  </a:lnTo>
                  <a:lnTo>
                    <a:pt x="3529" y="2689"/>
                  </a:lnTo>
                  <a:lnTo>
                    <a:pt x="3559" y="2689"/>
                  </a:lnTo>
                  <a:lnTo>
                    <a:pt x="3559" y="2696"/>
                  </a:lnTo>
                  <a:lnTo>
                    <a:pt x="3573" y="2696"/>
                  </a:lnTo>
                  <a:lnTo>
                    <a:pt x="3573" y="2702"/>
                  </a:lnTo>
                  <a:lnTo>
                    <a:pt x="3602" y="2702"/>
                  </a:lnTo>
                  <a:lnTo>
                    <a:pt x="3602" y="2707"/>
                  </a:lnTo>
                  <a:lnTo>
                    <a:pt x="3645" y="2707"/>
                  </a:lnTo>
                  <a:lnTo>
                    <a:pt x="3645" y="2713"/>
                  </a:lnTo>
                  <a:lnTo>
                    <a:pt x="3650" y="2713"/>
                  </a:lnTo>
                  <a:lnTo>
                    <a:pt x="3650" y="2719"/>
                  </a:lnTo>
                  <a:lnTo>
                    <a:pt x="3669" y="2719"/>
                  </a:lnTo>
                  <a:lnTo>
                    <a:pt x="3669" y="2724"/>
                  </a:lnTo>
                  <a:lnTo>
                    <a:pt x="3698" y="2724"/>
                  </a:lnTo>
                  <a:lnTo>
                    <a:pt x="3698" y="2731"/>
                  </a:lnTo>
                  <a:lnTo>
                    <a:pt x="3707" y="2731"/>
                  </a:lnTo>
                  <a:lnTo>
                    <a:pt x="3707" y="2737"/>
                  </a:lnTo>
                  <a:lnTo>
                    <a:pt x="3722" y="2737"/>
                  </a:lnTo>
                  <a:lnTo>
                    <a:pt x="3722" y="2743"/>
                  </a:lnTo>
                  <a:lnTo>
                    <a:pt x="3751" y="2743"/>
                  </a:lnTo>
                  <a:lnTo>
                    <a:pt x="3751" y="2748"/>
                  </a:lnTo>
                  <a:lnTo>
                    <a:pt x="3770" y="2748"/>
                  </a:lnTo>
                  <a:lnTo>
                    <a:pt x="3770" y="2737"/>
                  </a:lnTo>
                  <a:lnTo>
                    <a:pt x="3776" y="2737"/>
                  </a:lnTo>
                  <a:lnTo>
                    <a:pt x="3776" y="2648"/>
                  </a:lnTo>
                  <a:lnTo>
                    <a:pt x="3780" y="2648"/>
                  </a:lnTo>
                  <a:lnTo>
                    <a:pt x="3780" y="2588"/>
                  </a:lnTo>
                  <a:lnTo>
                    <a:pt x="3784" y="2588"/>
                  </a:lnTo>
                  <a:lnTo>
                    <a:pt x="3784" y="2530"/>
                  </a:lnTo>
                  <a:lnTo>
                    <a:pt x="3790" y="2530"/>
                  </a:lnTo>
                  <a:lnTo>
                    <a:pt x="3790" y="2506"/>
                  </a:lnTo>
                  <a:lnTo>
                    <a:pt x="3794" y="2506"/>
                  </a:lnTo>
                  <a:lnTo>
                    <a:pt x="3794" y="2465"/>
                  </a:lnTo>
                  <a:lnTo>
                    <a:pt x="3799" y="2465"/>
                  </a:lnTo>
                  <a:lnTo>
                    <a:pt x="3799" y="2442"/>
                  </a:lnTo>
                  <a:lnTo>
                    <a:pt x="3803" y="2442"/>
                  </a:lnTo>
                  <a:lnTo>
                    <a:pt x="3803" y="2400"/>
                  </a:lnTo>
                  <a:lnTo>
                    <a:pt x="3809" y="2400"/>
                  </a:lnTo>
                  <a:lnTo>
                    <a:pt x="3809" y="2370"/>
                  </a:lnTo>
                  <a:lnTo>
                    <a:pt x="3813" y="2370"/>
                  </a:lnTo>
                  <a:lnTo>
                    <a:pt x="3813" y="2346"/>
                  </a:lnTo>
                  <a:lnTo>
                    <a:pt x="3818" y="2346"/>
                  </a:lnTo>
                  <a:lnTo>
                    <a:pt x="3818" y="2329"/>
                  </a:lnTo>
                  <a:lnTo>
                    <a:pt x="3824" y="2329"/>
                  </a:lnTo>
                  <a:lnTo>
                    <a:pt x="3824" y="2316"/>
                  </a:lnTo>
                  <a:lnTo>
                    <a:pt x="3828" y="2316"/>
                  </a:lnTo>
                  <a:lnTo>
                    <a:pt x="3828" y="2288"/>
                  </a:lnTo>
                  <a:lnTo>
                    <a:pt x="3833" y="2288"/>
                  </a:lnTo>
                  <a:lnTo>
                    <a:pt x="3833" y="2275"/>
                  </a:lnTo>
                  <a:lnTo>
                    <a:pt x="3838" y="2275"/>
                  </a:lnTo>
                  <a:lnTo>
                    <a:pt x="3838" y="2246"/>
                  </a:lnTo>
                  <a:lnTo>
                    <a:pt x="3843" y="2246"/>
                  </a:lnTo>
                  <a:lnTo>
                    <a:pt x="3843" y="2223"/>
                  </a:lnTo>
                  <a:lnTo>
                    <a:pt x="3847" y="2223"/>
                  </a:lnTo>
                  <a:lnTo>
                    <a:pt x="3847" y="2198"/>
                  </a:lnTo>
                  <a:lnTo>
                    <a:pt x="3852" y="2198"/>
                  </a:lnTo>
                  <a:lnTo>
                    <a:pt x="3852" y="2193"/>
                  </a:lnTo>
                  <a:lnTo>
                    <a:pt x="3857" y="2193"/>
                  </a:lnTo>
                  <a:lnTo>
                    <a:pt x="3857" y="2169"/>
                  </a:lnTo>
                  <a:lnTo>
                    <a:pt x="3861" y="2169"/>
                  </a:lnTo>
                  <a:lnTo>
                    <a:pt x="3861" y="2139"/>
                  </a:lnTo>
                  <a:lnTo>
                    <a:pt x="3866" y="2139"/>
                  </a:lnTo>
                  <a:lnTo>
                    <a:pt x="3866" y="2122"/>
                  </a:lnTo>
                  <a:lnTo>
                    <a:pt x="3871" y="2122"/>
                  </a:lnTo>
                  <a:lnTo>
                    <a:pt x="3871" y="2104"/>
                  </a:lnTo>
                  <a:lnTo>
                    <a:pt x="3876" y="2104"/>
                  </a:lnTo>
                  <a:lnTo>
                    <a:pt x="3876" y="2087"/>
                  </a:lnTo>
                  <a:lnTo>
                    <a:pt x="3880" y="2087"/>
                  </a:lnTo>
                  <a:lnTo>
                    <a:pt x="3880" y="2063"/>
                  </a:lnTo>
                  <a:lnTo>
                    <a:pt x="3885" y="2063"/>
                  </a:lnTo>
                  <a:lnTo>
                    <a:pt x="3885" y="2033"/>
                  </a:lnTo>
                  <a:lnTo>
                    <a:pt x="3890" y="2033"/>
                  </a:lnTo>
                  <a:lnTo>
                    <a:pt x="3890" y="2016"/>
                  </a:lnTo>
                  <a:lnTo>
                    <a:pt x="3896" y="2016"/>
                  </a:lnTo>
                  <a:lnTo>
                    <a:pt x="3896" y="2003"/>
                  </a:lnTo>
                  <a:lnTo>
                    <a:pt x="3900" y="2003"/>
                  </a:lnTo>
                  <a:lnTo>
                    <a:pt x="3900" y="1979"/>
                  </a:lnTo>
                  <a:lnTo>
                    <a:pt x="3905" y="1979"/>
                  </a:lnTo>
                  <a:lnTo>
                    <a:pt x="3905" y="1969"/>
                  </a:lnTo>
                  <a:lnTo>
                    <a:pt x="3910" y="1969"/>
                  </a:lnTo>
                  <a:lnTo>
                    <a:pt x="3910" y="1951"/>
                  </a:lnTo>
                  <a:lnTo>
                    <a:pt x="3914" y="1951"/>
                  </a:lnTo>
                  <a:lnTo>
                    <a:pt x="3914" y="1938"/>
                  </a:lnTo>
                  <a:lnTo>
                    <a:pt x="3919" y="1938"/>
                  </a:lnTo>
                  <a:lnTo>
                    <a:pt x="3919" y="1921"/>
                  </a:lnTo>
                  <a:lnTo>
                    <a:pt x="3924" y="1921"/>
                  </a:lnTo>
                  <a:lnTo>
                    <a:pt x="3924" y="1916"/>
                  </a:lnTo>
                  <a:lnTo>
                    <a:pt x="3928" y="1916"/>
                  </a:lnTo>
                  <a:lnTo>
                    <a:pt x="3928" y="1897"/>
                  </a:lnTo>
                  <a:lnTo>
                    <a:pt x="3934" y="1897"/>
                  </a:lnTo>
                  <a:lnTo>
                    <a:pt x="3934" y="1885"/>
                  </a:lnTo>
                  <a:lnTo>
                    <a:pt x="3938" y="1885"/>
                  </a:lnTo>
                  <a:lnTo>
                    <a:pt x="3938" y="1868"/>
                  </a:lnTo>
                  <a:lnTo>
                    <a:pt x="3943" y="1868"/>
                  </a:lnTo>
                  <a:lnTo>
                    <a:pt x="3943" y="1851"/>
                  </a:lnTo>
                  <a:lnTo>
                    <a:pt x="3947" y="1851"/>
                  </a:lnTo>
                  <a:lnTo>
                    <a:pt x="3947" y="1826"/>
                  </a:lnTo>
                  <a:lnTo>
                    <a:pt x="3952" y="1826"/>
                  </a:lnTo>
                  <a:lnTo>
                    <a:pt x="3952" y="1815"/>
                  </a:lnTo>
                  <a:lnTo>
                    <a:pt x="3957" y="1815"/>
                  </a:lnTo>
                  <a:lnTo>
                    <a:pt x="3957" y="1802"/>
                  </a:lnTo>
                  <a:lnTo>
                    <a:pt x="3961" y="1802"/>
                  </a:lnTo>
                  <a:lnTo>
                    <a:pt x="3961" y="1778"/>
                  </a:lnTo>
                  <a:lnTo>
                    <a:pt x="3968" y="1778"/>
                  </a:lnTo>
                  <a:lnTo>
                    <a:pt x="3968" y="1761"/>
                  </a:lnTo>
                  <a:lnTo>
                    <a:pt x="3972" y="1761"/>
                  </a:lnTo>
                  <a:lnTo>
                    <a:pt x="3972" y="1750"/>
                  </a:lnTo>
                  <a:lnTo>
                    <a:pt x="3977" y="1750"/>
                  </a:lnTo>
                  <a:lnTo>
                    <a:pt x="3977" y="1732"/>
                  </a:lnTo>
                  <a:lnTo>
                    <a:pt x="3982" y="1732"/>
                  </a:lnTo>
                  <a:lnTo>
                    <a:pt x="3982" y="1715"/>
                  </a:lnTo>
                  <a:lnTo>
                    <a:pt x="3987" y="1715"/>
                  </a:lnTo>
                  <a:lnTo>
                    <a:pt x="3987" y="1702"/>
                  </a:lnTo>
                  <a:lnTo>
                    <a:pt x="3991" y="1702"/>
                  </a:lnTo>
                  <a:lnTo>
                    <a:pt x="3991" y="1691"/>
                  </a:lnTo>
                  <a:lnTo>
                    <a:pt x="3996" y="1691"/>
                  </a:lnTo>
                  <a:lnTo>
                    <a:pt x="3996" y="1674"/>
                  </a:lnTo>
                  <a:lnTo>
                    <a:pt x="4001" y="1674"/>
                  </a:lnTo>
                  <a:lnTo>
                    <a:pt x="4001" y="1661"/>
                  </a:lnTo>
                  <a:lnTo>
                    <a:pt x="4005" y="1661"/>
                  </a:lnTo>
                  <a:lnTo>
                    <a:pt x="4005" y="1644"/>
                  </a:lnTo>
                  <a:lnTo>
                    <a:pt x="4010" y="1644"/>
                  </a:lnTo>
                  <a:lnTo>
                    <a:pt x="4010" y="1637"/>
                  </a:lnTo>
                  <a:lnTo>
                    <a:pt x="4015" y="1637"/>
                  </a:lnTo>
                  <a:lnTo>
                    <a:pt x="4015" y="1631"/>
                  </a:lnTo>
                  <a:lnTo>
                    <a:pt x="4020" y="1631"/>
                  </a:lnTo>
                  <a:lnTo>
                    <a:pt x="4020" y="1614"/>
                  </a:lnTo>
                  <a:lnTo>
                    <a:pt x="4024" y="1614"/>
                  </a:lnTo>
                  <a:lnTo>
                    <a:pt x="4024" y="1608"/>
                  </a:lnTo>
                  <a:lnTo>
                    <a:pt x="4029" y="1608"/>
                  </a:lnTo>
                  <a:lnTo>
                    <a:pt x="4029" y="1596"/>
                  </a:lnTo>
                  <a:lnTo>
                    <a:pt x="4034" y="1596"/>
                  </a:lnTo>
                  <a:lnTo>
                    <a:pt x="4034" y="1579"/>
                  </a:lnTo>
                  <a:lnTo>
                    <a:pt x="4039" y="1579"/>
                  </a:lnTo>
                  <a:lnTo>
                    <a:pt x="4039" y="1566"/>
                  </a:lnTo>
                  <a:lnTo>
                    <a:pt x="4044" y="1566"/>
                  </a:lnTo>
                  <a:lnTo>
                    <a:pt x="4044" y="1555"/>
                  </a:lnTo>
                  <a:lnTo>
                    <a:pt x="4049" y="1555"/>
                  </a:lnTo>
                  <a:lnTo>
                    <a:pt x="4049" y="1538"/>
                  </a:lnTo>
                  <a:lnTo>
                    <a:pt x="4054" y="1538"/>
                  </a:lnTo>
                  <a:lnTo>
                    <a:pt x="4054" y="1525"/>
                  </a:lnTo>
                  <a:lnTo>
                    <a:pt x="4058" y="1525"/>
                  </a:lnTo>
                  <a:lnTo>
                    <a:pt x="4058" y="1501"/>
                  </a:lnTo>
                  <a:lnTo>
                    <a:pt x="4064" y="1501"/>
                  </a:lnTo>
                  <a:lnTo>
                    <a:pt x="4064" y="1484"/>
                  </a:lnTo>
                  <a:lnTo>
                    <a:pt x="4068" y="1484"/>
                  </a:lnTo>
                  <a:lnTo>
                    <a:pt x="4068" y="1465"/>
                  </a:lnTo>
                  <a:lnTo>
                    <a:pt x="4073" y="1465"/>
                  </a:lnTo>
                  <a:lnTo>
                    <a:pt x="4073" y="1454"/>
                  </a:lnTo>
                  <a:lnTo>
                    <a:pt x="4078" y="1454"/>
                  </a:lnTo>
                  <a:lnTo>
                    <a:pt x="4078" y="1443"/>
                  </a:lnTo>
                  <a:lnTo>
                    <a:pt x="4082" y="1443"/>
                  </a:lnTo>
                  <a:lnTo>
                    <a:pt x="4082" y="1413"/>
                  </a:lnTo>
                  <a:lnTo>
                    <a:pt x="4087" y="1413"/>
                  </a:lnTo>
                  <a:lnTo>
                    <a:pt x="4087" y="1402"/>
                  </a:lnTo>
                  <a:lnTo>
                    <a:pt x="4091" y="1402"/>
                  </a:lnTo>
                  <a:lnTo>
                    <a:pt x="4091" y="1389"/>
                  </a:lnTo>
                  <a:lnTo>
                    <a:pt x="4097" y="1389"/>
                  </a:lnTo>
                  <a:lnTo>
                    <a:pt x="4097" y="1370"/>
                  </a:lnTo>
                  <a:lnTo>
                    <a:pt x="4101" y="1370"/>
                  </a:lnTo>
                  <a:lnTo>
                    <a:pt x="4101" y="1365"/>
                  </a:lnTo>
                  <a:lnTo>
                    <a:pt x="4106" y="1365"/>
                  </a:lnTo>
                  <a:lnTo>
                    <a:pt x="4106" y="1353"/>
                  </a:lnTo>
                  <a:lnTo>
                    <a:pt x="4112" y="1353"/>
                  </a:lnTo>
                  <a:lnTo>
                    <a:pt x="4112" y="1342"/>
                  </a:lnTo>
                  <a:lnTo>
                    <a:pt x="4117" y="1342"/>
                  </a:lnTo>
                  <a:lnTo>
                    <a:pt x="4117" y="1329"/>
                  </a:lnTo>
                  <a:lnTo>
                    <a:pt x="4121" y="1329"/>
                  </a:lnTo>
                  <a:lnTo>
                    <a:pt x="4121" y="1318"/>
                  </a:lnTo>
                  <a:lnTo>
                    <a:pt x="4126" y="1318"/>
                  </a:lnTo>
                  <a:lnTo>
                    <a:pt x="4126" y="1301"/>
                  </a:lnTo>
                  <a:lnTo>
                    <a:pt x="4131" y="1301"/>
                  </a:lnTo>
                  <a:lnTo>
                    <a:pt x="4131" y="1289"/>
                  </a:lnTo>
                  <a:lnTo>
                    <a:pt x="4135" y="1289"/>
                  </a:lnTo>
                  <a:lnTo>
                    <a:pt x="4135" y="1277"/>
                  </a:lnTo>
                  <a:lnTo>
                    <a:pt x="4140" y="1277"/>
                  </a:lnTo>
                  <a:lnTo>
                    <a:pt x="4140" y="1271"/>
                  </a:lnTo>
                  <a:lnTo>
                    <a:pt x="4145" y="1271"/>
                  </a:lnTo>
                  <a:lnTo>
                    <a:pt x="4145" y="1259"/>
                  </a:lnTo>
                  <a:lnTo>
                    <a:pt x="4150" y="1259"/>
                  </a:lnTo>
                  <a:lnTo>
                    <a:pt x="4150" y="1247"/>
                  </a:lnTo>
                  <a:lnTo>
                    <a:pt x="4154" y="1247"/>
                  </a:lnTo>
                  <a:lnTo>
                    <a:pt x="4154" y="1236"/>
                  </a:lnTo>
                  <a:lnTo>
                    <a:pt x="4160" y="1236"/>
                  </a:lnTo>
                  <a:lnTo>
                    <a:pt x="4160" y="1229"/>
                  </a:lnTo>
                  <a:lnTo>
                    <a:pt x="4164" y="1229"/>
                  </a:lnTo>
                  <a:lnTo>
                    <a:pt x="4164" y="1224"/>
                  </a:lnTo>
                  <a:lnTo>
                    <a:pt x="4168" y="1224"/>
                  </a:lnTo>
                  <a:lnTo>
                    <a:pt x="4168" y="1212"/>
                  </a:lnTo>
                  <a:lnTo>
                    <a:pt x="4174" y="1212"/>
                  </a:lnTo>
                  <a:lnTo>
                    <a:pt x="4174" y="1201"/>
                  </a:lnTo>
                  <a:lnTo>
                    <a:pt x="4178" y="1201"/>
                  </a:lnTo>
                  <a:lnTo>
                    <a:pt x="4178" y="1193"/>
                  </a:lnTo>
                  <a:lnTo>
                    <a:pt x="4184" y="1193"/>
                  </a:lnTo>
                  <a:lnTo>
                    <a:pt x="4184" y="1176"/>
                  </a:lnTo>
                  <a:lnTo>
                    <a:pt x="4188" y="1176"/>
                  </a:lnTo>
                  <a:lnTo>
                    <a:pt x="4188" y="1165"/>
                  </a:lnTo>
                  <a:lnTo>
                    <a:pt x="4194" y="1165"/>
                  </a:lnTo>
                  <a:lnTo>
                    <a:pt x="4194" y="1160"/>
                  </a:lnTo>
                  <a:lnTo>
                    <a:pt x="4198" y="1160"/>
                  </a:lnTo>
                  <a:lnTo>
                    <a:pt x="4198" y="1142"/>
                  </a:lnTo>
                  <a:lnTo>
                    <a:pt x="4202" y="1142"/>
                  </a:lnTo>
                  <a:lnTo>
                    <a:pt x="4202" y="1135"/>
                  </a:lnTo>
                  <a:lnTo>
                    <a:pt x="4208" y="1135"/>
                  </a:lnTo>
                  <a:lnTo>
                    <a:pt x="4208" y="1130"/>
                  </a:lnTo>
                  <a:lnTo>
                    <a:pt x="4212" y="1130"/>
                  </a:lnTo>
                  <a:lnTo>
                    <a:pt x="4212" y="1111"/>
                  </a:lnTo>
                  <a:lnTo>
                    <a:pt x="4217" y="1111"/>
                  </a:lnTo>
                  <a:lnTo>
                    <a:pt x="4217" y="1106"/>
                  </a:lnTo>
                  <a:lnTo>
                    <a:pt x="4222" y="1106"/>
                  </a:lnTo>
                  <a:lnTo>
                    <a:pt x="4222" y="1100"/>
                  </a:lnTo>
                  <a:lnTo>
                    <a:pt x="4227" y="1100"/>
                  </a:lnTo>
                  <a:lnTo>
                    <a:pt x="4227" y="1088"/>
                  </a:lnTo>
                  <a:lnTo>
                    <a:pt x="4231" y="1088"/>
                  </a:lnTo>
                  <a:lnTo>
                    <a:pt x="4231" y="1076"/>
                  </a:lnTo>
                  <a:lnTo>
                    <a:pt x="4236" y="1076"/>
                  </a:lnTo>
                  <a:lnTo>
                    <a:pt x="4236" y="1070"/>
                  </a:lnTo>
                  <a:lnTo>
                    <a:pt x="4241" y="1070"/>
                  </a:lnTo>
                  <a:lnTo>
                    <a:pt x="4241" y="1065"/>
                  </a:lnTo>
                  <a:lnTo>
                    <a:pt x="4245" y="1065"/>
                  </a:lnTo>
                  <a:lnTo>
                    <a:pt x="4245" y="1052"/>
                  </a:lnTo>
                  <a:lnTo>
                    <a:pt x="4250" y="1052"/>
                  </a:lnTo>
                  <a:lnTo>
                    <a:pt x="4250" y="1046"/>
                  </a:lnTo>
                  <a:lnTo>
                    <a:pt x="4256" y="1046"/>
                  </a:lnTo>
                  <a:lnTo>
                    <a:pt x="4256" y="1035"/>
                  </a:lnTo>
                  <a:lnTo>
                    <a:pt x="4260" y="1035"/>
                  </a:lnTo>
                  <a:lnTo>
                    <a:pt x="4260" y="1029"/>
                  </a:lnTo>
                  <a:lnTo>
                    <a:pt x="4265" y="1029"/>
                  </a:lnTo>
                  <a:lnTo>
                    <a:pt x="4265" y="1016"/>
                  </a:lnTo>
                  <a:lnTo>
                    <a:pt x="4270" y="1016"/>
                  </a:lnTo>
                  <a:lnTo>
                    <a:pt x="4270" y="1005"/>
                  </a:lnTo>
                  <a:lnTo>
                    <a:pt x="4275" y="1005"/>
                  </a:lnTo>
                  <a:lnTo>
                    <a:pt x="4275" y="992"/>
                  </a:lnTo>
                  <a:lnTo>
                    <a:pt x="4284" y="992"/>
                  </a:lnTo>
                  <a:lnTo>
                    <a:pt x="4284" y="987"/>
                  </a:lnTo>
                  <a:lnTo>
                    <a:pt x="4289" y="987"/>
                  </a:lnTo>
                  <a:lnTo>
                    <a:pt x="4289" y="981"/>
                  </a:lnTo>
                  <a:lnTo>
                    <a:pt x="4293" y="981"/>
                  </a:lnTo>
                  <a:lnTo>
                    <a:pt x="4293" y="975"/>
                  </a:lnTo>
                  <a:lnTo>
                    <a:pt x="4298" y="975"/>
                  </a:lnTo>
                  <a:lnTo>
                    <a:pt x="4298" y="964"/>
                  </a:lnTo>
                  <a:lnTo>
                    <a:pt x="4303" y="964"/>
                  </a:lnTo>
                  <a:lnTo>
                    <a:pt x="4303" y="957"/>
                  </a:lnTo>
                  <a:lnTo>
                    <a:pt x="4308" y="957"/>
                  </a:lnTo>
                  <a:lnTo>
                    <a:pt x="4308" y="951"/>
                  </a:lnTo>
                  <a:lnTo>
                    <a:pt x="4312" y="951"/>
                  </a:lnTo>
                  <a:lnTo>
                    <a:pt x="4312" y="946"/>
                  </a:lnTo>
                  <a:lnTo>
                    <a:pt x="4318" y="946"/>
                  </a:lnTo>
                  <a:lnTo>
                    <a:pt x="4318" y="940"/>
                  </a:lnTo>
                  <a:lnTo>
                    <a:pt x="4322" y="940"/>
                  </a:lnTo>
                  <a:lnTo>
                    <a:pt x="4322" y="922"/>
                  </a:lnTo>
                  <a:lnTo>
                    <a:pt x="4327" y="922"/>
                  </a:lnTo>
                  <a:lnTo>
                    <a:pt x="4327" y="916"/>
                  </a:lnTo>
                  <a:lnTo>
                    <a:pt x="4332" y="916"/>
                  </a:lnTo>
                  <a:lnTo>
                    <a:pt x="4332" y="910"/>
                  </a:lnTo>
                  <a:lnTo>
                    <a:pt x="4337" y="910"/>
                  </a:lnTo>
                  <a:lnTo>
                    <a:pt x="4337" y="905"/>
                  </a:lnTo>
                  <a:lnTo>
                    <a:pt x="4342" y="905"/>
                  </a:lnTo>
                  <a:lnTo>
                    <a:pt x="4342" y="898"/>
                  </a:lnTo>
                  <a:lnTo>
                    <a:pt x="4346" y="898"/>
                  </a:lnTo>
                  <a:lnTo>
                    <a:pt x="4346" y="893"/>
                  </a:lnTo>
                  <a:lnTo>
                    <a:pt x="4352" y="893"/>
                  </a:lnTo>
                  <a:lnTo>
                    <a:pt x="4352" y="888"/>
                  </a:lnTo>
                  <a:lnTo>
                    <a:pt x="4385" y="888"/>
                  </a:lnTo>
                  <a:lnTo>
                    <a:pt x="4385" y="893"/>
                  </a:lnTo>
                  <a:lnTo>
                    <a:pt x="4389" y="893"/>
                  </a:lnTo>
                  <a:lnTo>
                    <a:pt x="4389" y="922"/>
                  </a:lnTo>
                  <a:lnTo>
                    <a:pt x="4385" y="922"/>
                  </a:lnTo>
                  <a:lnTo>
                    <a:pt x="4385" y="929"/>
                  </a:lnTo>
                  <a:lnTo>
                    <a:pt x="4380" y="929"/>
                  </a:lnTo>
                  <a:lnTo>
                    <a:pt x="4380" y="940"/>
                  </a:lnTo>
                  <a:lnTo>
                    <a:pt x="4375" y="940"/>
                  </a:lnTo>
                  <a:lnTo>
                    <a:pt x="4375" y="946"/>
                  </a:lnTo>
                  <a:lnTo>
                    <a:pt x="4371" y="946"/>
                  </a:lnTo>
                  <a:lnTo>
                    <a:pt x="4371" y="951"/>
                  </a:lnTo>
                  <a:lnTo>
                    <a:pt x="4366" y="951"/>
                  </a:lnTo>
                  <a:lnTo>
                    <a:pt x="4366" y="957"/>
                  </a:lnTo>
                  <a:lnTo>
                    <a:pt x="4361" y="957"/>
                  </a:lnTo>
                  <a:lnTo>
                    <a:pt x="4361" y="964"/>
                  </a:lnTo>
                  <a:lnTo>
                    <a:pt x="4356" y="964"/>
                  </a:lnTo>
                  <a:lnTo>
                    <a:pt x="4356" y="970"/>
                  </a:lnTo>
                  <a:lnTo>
                    <a:pt x="4352" y="970"/>
                  </a:lnTo>
                  <a:lnTo>
                    <a:pt x="4352" y="975"/>
                  </a:lnTo>
                  <a:lnTo>
                    <a:pt x="4346" y="975"/>
                  </a:lnTo>
                  <a:lnTo>
                    <a:pt x="4346" y="987"/>
                  </a:lnTo>
                  <a:lnTo>
                    <a:pt x="4342" y="987"/>
                  </a:lnTo>
                  <a:lnTo>
                    <a:pt x="4342" y="992"/>
                  </a:lnTo>
                  <a:lnTo>
                    <a:pt x="4337" y="992"/>
                  </a:lnTo>
                  <a:lnTo>
                    <a:pt x="4337" y="999"/>
                  </a:lnTo>
                  <a:lnTo>
                    <a:pt x="4332" y="999"/>
                  </a:lnTo>
                  <a:lnTo>
                    <a:pt x="4332" y="1005"/>
                  </a:lnTo>
                  <a:lnTo>
                    <a:pt x="4327" y="1005"/>
                  </a:lnTo>
                  <a:lnTo>
                    <a:pt x="4327" y="1016"/>
                  </a:lnTo>
                  <a:lnTo>
                    <a:pt x="4322" y="1016"/>
                  </a:lnTo>
                  <a:lnTo>
                    <a:pt x="4322" y="1029"/>
                  </a:lnTo>
                  <a:lnTo>
                    <a:pt x="4318" y="1029"/>
                  </a:lnTo>
                  <a:lnTo>
                    <a:pt x="4318" y="1035"/>
                  </a:lnTo>
                  <a:lnTo>
                    <a:pt x="4312" y="1035"/>
                  </a:lnTo>
                  <a:lnTo>
                    <a:pt x="4312" y="1041"/>
                  </a:lnTo>
                  <a:lnTo>
                    <a:pt x="4308" y="1041"/>
                  </a:lnTo>
                  <a:lnTo>
                    <a:pt x="4308" y="1052"/>
                  </a:lnTo>
                  <a:lnTo>
                    <a:pt x="4303" y="1052"/>
                  </a:lnTo>
                  <a:lnTo>
                    <a:pt x="4303" y="1057"/>
                  </a:lnTo>
                  <a:lnTo>
                    <a:pt x="4298" y="1057"/>
                  </a:lnTo>
                  <a:lnTo>
                    <a:pt x="4298" y="1065"/>
                  </a:lnTo>
                  <a:lnTo>
                    <a:pt x="4293" y="1065"/>
                  </a:lnTo>
                  <a:lnTo>
                    <a:pt x="4293" y="1070"/>
                  </a:lnTo>
                  <a:lnTo>
                    <a:pt x="4289" y="1070"/>
                  </a:lnTo>
                  <a:lnTo>
                    <a:pt x="4289" y="1082"/>
                  </a:lnTo>
                  <a:lnTo>
                    <a:pt x="4279" y="1082"/>
                  </a:lnTo>
                  <a:lnTo>
                    <a:pt x="4279" y="1088"/>
                  </a:lnTo>
                  <a:lnTo>
                    <a:pt x="4275" y="1088"/>
                  </a:lnTo>
                  <a:lnTo>
                    <a:pt x="4275" y="1100"/>
                  </a:lnTo>
                  <a:lnTo>
                    <a:pt x="4270" y="1100"/>
                  </a:lnTo>
                  <a:lnTo>
                    <a:pt x="4270" y="1106"/>
                  </a:lnTo>
                  <a:lnTo>
                    <a:pt x="4265" y="1106"/>
                  </a:lnTo>
                  <a:lnTo>
                    <a:pt x="4265" y="1117"/>
                  </a:lnTo>
                  <a:lnTo>
                    <a:pt x="4260" y="1117"/>
                  </a:lnTo>
                  <a:lnTo>
                    <a:pt x="4260" y="1123"/>
                  </a:lnTo>
                  <a:lnTo>
                    <a:pt x="4256" y="1123"/>
                  </a:lnTo>
                  <a:lnTo>
                    <a:pt x="4256" y="1142"/>
                  </a:lnTo>
                  <a:lnTo>
                    <a:pt x="4250" y="1142"/>
                  </a:lnTo>
                  <a:lnTo>
                    <a:pt x="4250" y="1147"/>
                  </a:lnTo>
                  <a:lnTo>
                    <a:pt x="4245" y="1147"/>
                  </a:lnTo>
                  <a:lnTo>
                    <a:pt x="4245" y="1160"/>
                  </a:lnTo>
                  <a:lnTo>
                    <a:pt x="4241" y="1160"/>
                  </a:lnTo>
                  <a:lnTo>
                    <a:pt x="4241" y="1171"/>
                  </a:lnTo>
                  <a:lnTo>
                    <a:pt x="4236" y="1171"/>
                  </a:lnTo>
                  <a:lnTo>
                    <a:pt x="4236" y="1183"/>
                  </a:lnTo>
                  <a:lnTo>
                    <a:pt x="4231" y="1183"/>
                  </a:lnTo>
                  <a:lnTo>
                    <a:pt x="4231" y="1188"/>
                  </a:lnTo>
                  <a:lnTo>
                    <a:pt x="4227" y="1188"/>
                  </a:lnTo>
                  <a:lnTo>
                    <a:pt x="4227" y="1201"/>
                  </a:lnTo>
                  <a:lnTo>
                    <a:pt x="4222" y="1201"/>
                  </a:lnTo>
                  <a:lnTo>
                    <a:pt x="4222" y="1206"/>
                  </a:lnTo>
                  <a:lnTo>
                    <a:pt x="4217" y="1206"/>
                  </a:lnTo>
                  <a:lnTo>
                    <a:pt x="4217" y="1218"/>
                  </a:lnTo>
                  <a:lnTo>
                    <a:pt x="4212" y="1218"/>
                  </a:lnTo>
                  <a:lnTo>
                    <a:pt x="4212" y="1224"/>
                  </a:lnTo>
                  <a:lnTo>
                    <a:pt x="4208" y="1224"/>
                  </a:lnTo>
                  <a:lnTo>
                    <a:pt x="4208" y="1236"/>
                  </a:lnTo>
                  <a:lnTo>
                    <a:pt x="4202" y="1236"/>
                  </a:lnTo>
                  <a:lnTo>
                    <a:pt x="4202" y="1253"/>
                  </a:lnTo>
                  <a:lnTo>
                    <a:pt x="4198" y="1253"/>
                  </a:lnTo>
                  <a:lnTo>
                    <a:pt x="4198" y="1266"/>
                  </a:lnTo>
                  <a:lnTo>
                    <a:pt x="4194" y="1266"/>
                  </a:lnTo>
                  <a:lnTo>
                    <a:pt x="4194" y="1271"/>
                  </a:lnTo>
                  <a:lnTo>
                    <a:pt x="4188" y="1271"/>
                  </a:lnTo>
                  <a:lnTo>
                    <a:pt x="4188" y="1289"/>
                  </a:lnTo>
                  <a:lnTo>
                    <a:pt x="4184" y="1289"/>
                  </a:lnTo>
                  <a:lnTo>
                    <a:pt x="4184" y="1301"/>
                  </a:lnTo>
                  <a:lnTo>
                    <a:pt x="4178" y="1301"/>
                  </a:lnTo>
                  <a:lnTo>
                    <a:pt x="4178" y="1318"/>
                  </a:lnTo>
                  <a:lnTo>
                    <a:pt x="4174" y="1318"/>
                  </a:lnTo>
                  <a:lnTo>
                    <a:pt x="4174" y="1329"/>
                  </a:lnTo>
                  <a:lnTo>
                    <a:pt x="4168" y="1329"/>
                  </a:lnTo>
                  <a:lnTo>
                    <a:pt x="4168" y="1342"/>
                  </a:lnTo>
                  <a:lnTo>
                    <a:pt x="4164" y="1342"/>
                  </a:lnTo>
                  <a:lnTo>
                    <a:pt x="4164" y="1353"/>
                  </a:lnTo>
                  <a:lnTo>
                    <a:pt x="4160" y="1353"/>
                  </a:lnTo>
                  <a:lnTo>
                    <a:pt x="4160" y="1359"/>
                  </a:lnTo>
                  <a:lnTo>
                    <a:pt x="4154" y="1359"/>
                  </a:lnTo>
                  <a:lnTo>
                    <a:pt x="4154" y="1370"/>
                  </a:lnTo>
                  <a:lnTo>
                    <a:pt x="4150" y="1370"/>
                  </a:lnTo>
                  <a:lnTo>
                    <a:pt x="4150" y="1383"/>
                  </a:lnTo>
                  <a:lnTo>
                    <a:pt x="4145" y="1383"/>
                  </a:lnTo>
                  <a:lnTo>
                    <a:pt x="4145" y="1395"/>
                  </a:lnTo>
                  <a:lnTo>
                    <a:pt x="4140" y="1395"/>
                  </a:lnTo>
                  <a:lnTo>
                    <a:pt x="4140" y="1402"/>
                  </a:lnTo>
                  <a:lnTo>
                    <a:pt x="4135" y="1402"/>
                  </a:lnTo>
                  <a:lnTo>
                    <a:pt x="4135" y="1413"/>
                  </a:lnTo>
                  <a:lnTo>
                    <a:pt x="4131" y="1413"/>
                  </a:lnTo>
                  <a:lnTo>
                    <a:pt x="4131" y="1437"/>
                  </a:lnTo>
                  <a:lnTo>
                    <a:pt x="4126" y="1437"/>
                  </a:lnTo>
                  <a:lnTo>
                    <a:pt x="4126" y="1448"/>
                  </a:lnTo>
                  <a:lnTo>
                    <a:pt x="4121" y="1448"/>
                  </a:lnTo>
                  <a:lnTo>
                    <a:pt x="4121" y="1460"/>
                  </a:lnTo>
                  <a:lnTo>
                    <a:pt x="4117" y="1460"/>
                  </a:lnTo>
                  <a:lnTo>
                    <a:pt x="4117" y="1472"/>
                  </a:lnTo>
                  <a:lnTo>
                    <a:pt x="4112" y="1472"/>
                  </a:lnTo>
                  <a:lnTo>
                    <a:pt x="4112" y="1484"/>
                  </a:lnTo>
                  <a:lnTo>
                    <a:pt x="4106" y="1484"/>
                  </a:lnTo>
                  <a:lnTo>
                    <a:pt x="4106" y="1514"/>
                  </a:lnTo>
                  <a:lnTo>
                    <a:pt x="4101" y="1514"/>
                  </a:lnTo>
                  <a:lnTo>
                    <a:pt x="4101" y="1525"/>
                  </a:lnTo>
                  <a:lnTo>
                    <a:pt x="4097" y="1525"/>
                  </a:lnTo>
                  <a:lnTo>
                    <a:pt x="4097" y="1543"/>
                  </a:lnTo>
                  <a:lnTo>
                    <a:pt x="4091" y="1543"/>
                  </a:lnTo>
                  <a:lnTo>
                    <a:pt x="4091" y="1555"/>
                  </a:lnTo>
                  <a:lnTo>
                    <a:pt x="4087" y="1555"/>
                  </a:lnTo>
                  <a:lnTo>
                    <a:pt x="4087" y="1566"/>
                  </a:lnTo>
                  <a:lnTo>
                    <a:pt x="4082" y="1566"/>
                  </a:lnTo>
                  <a:lnTo>
                    <a:pt x="4082" y="1579"/>
                  </a:lnTo>
                  <a:lnTo>
                    <a:pt x="4078" y="1579"/>
                  </a:lnTo>
                  <a:lnTo>
                    <a:pt x="4078" y="1603"/>
                  </a:lnTo>
                  <a:lnTo>
                    <a:pt x="4073" y="1603"/>
                  </a:lnTo>
                  <a:lnTo>
                    <a:pt x="4073" y="1614"/>
                  </a:lnTo>
                  <a:lnTo>
                    <a:pt x="4068" y="1614"/>
                  </a:lnTo>
                  <a:lnTo>
                    <a:pt x="4068" y="1625"/>
                  </a:lnTo>
                  <a:lnTo>
                    <a:pt x="4064" y="1625"/>
                  </a:lnTo>
                  <a:lnTo>
                    <a:pt x="4064" y="1637"/>
                  </a:lnTo>
                  <a:lnTo>
                    <a:pt x="4058" y="1637"/>
                  </a:lnTo>
                  <a:lnTo>
                    <a:pt x="4058" y="1649"/>
                  </a:lnTo>
                  <a:lnTo>
                    <a:pt x="4054" y="1649"/>
                  </a:lnTo>
                  <a:lnTo>
                    <a:pt x="4054" y="1666"/>
                  </a:lnTo>
                  <a:lnTo>
                    <a:pt x="4049" y="1666"/>
                  </a:lnTo>
                  <a:lnTo>
                    <a:pt x="4049" y="1685"/>
                  </a:lnTo>
                  <a:lnTo>
                    <a:pt x="4044" y="1685"/>
                  </a:lnTo>
                  <a:lnTo>
                    <a:pt x="4044" y="1697"/>
                  </a:lnTo>
                  <a:lnTo>
                    <a:pt x="4039" y="1697"/>
                  </a:lnTo>
                  <a:lnTo>
                    <a:pt x="4039" y="1709"/>
                  </a:lnTo>
                  <a:lnTo>
                    <a:pt x="4034" y="1709"/>
                  </a:lnTo>
                  <a:lnTo>
                    <a:pt x="4034" y="1720"/>
                  </a:lnTo>
                  <a:lnTo>
                    <a:pt x="4029" y="1720"/>
                  </a:lnTo>
                  <a:lnTo>
                    <a:pt x="4029" y="1744"/>
                  </a:lnTo>
                  <a:lnTo>
                    <a:pt x="4024" y="1744"/>
                  </a:lnTo>
                  <a:lnTo>
                    <a:pt x="4024" y="1750"/>
                  </a:lnTo>
                  <a:lnTo>
                    <a:pt x="4020" y="1750"/>
                  </a:lnTo>
                  <a:lnTo>
                    <a:pt x="4020" y="1761"/>
                  </a:lnTo>
                  <a:lnTo>
                    <a:pt x="4015" y="1761"/>
                  </a:lnTo>
                  <a:lnTo>
                    <a:pt x="4015" y="1778"/>
                  </a:lnTo>
                  <a:lnTo>
                    <a:pt x="4010" y="1778"/>
                  </a:lnTo>
                  <a:lnTo>
                    <a:pt x="4010" y="1791"/>
                  </a:lnTo>
                  <a:lnTo>
                    <a:pt x="4005" y="1791"/>
                  </a:lnTo>
                  <a:lnTo>
                    <a:pt x="4005" y="1797"/>
                  </a:lnTo>
                  <a:lnTo>
                    <a:pt x="4001" y="1797"/>
                  </a:lnTo>
                  <a:lnTo>
                    <a:pt x="4001" y="1810"/>
                  </a:lnTo>
                  <a:lnTo>
                    <a:pt x="3996" y="1810"/>
                  </a:lnTo>
                  <a:lnTo>
                    <a:pt x="3996" y="1832"/>
                  </a:lnTo>
                  <a:lnTo>
                    <a:pt x="3991" y="1832"/>
                  </a:lnTo>
                  <a:lnTo>
                    <a:pt x="3991" y="1851"/>
                  </a:lnTo>
                  <a:lnTo>
                    <a:pt x="3987" y="1851"/>
                  </a:lnTo>
                  <a:lnTo>
                    <a:pt x="3987" y="1862"/>
                  </a:lnTo>
                  <a:lnTo>
                    <a:pt x="3982" y="1862"/>
                  </a:lnTo>
                  <a:lnTo>
                    <a:pt x="3982" y="1875"/>
                  </a:lnTo>
                  <a:lnTo>
                    <a:pt x="3977" y="1875"/>
                  </a:lnTo>
                  <a:lnTo>
                    <a:pt x="3977" y="1903"/>
                  </a:lnTo>
                  <a:lnTo>
                    <a:pt x="3972" y="1903"/>
                  </a:lnTo>
                  <a:lnTo>
                    <a:pt x="3972" y="1916"/>
                  </a:lnTo>
                  <a:lnTo>
                    <a:pt x="3968" y="1916"/>
                  </a:lnTo>
                  <a:lnTo>
                    <a:pt x="3968" y="1933"/>
                  </a:lnTo>
                  <a:lnTo>
                    <a:pt x="3961" y="1933"/>
                  </a:lnTo>
                  <a:lnTo>
                    <a:pt x="3961" y="1951"/>
                  </a:lnTo>
                  <a:lnTo>
                    <a:pt x="3957" y="1951"/>
                  </a:lnTo>
                  <a:lnTo>
                    <a:pt x="3957" y="1974"/>
                  </a:lnTo>
                  <a:lnTo>
                    <a:pt x="3952" y="1974"/>
                  </a:lnTo>
                  <a:lnTo>
                    <a:pt x="3952" y="1992"/>
                  </a:lnTo>
                  <a:lnTo>
                    <a:pt x="3947" y="1992"/>
                  </a:lnTo>
                  <a:lnTo>
                    <a:pt x="3947" y="2011"/>
                  </a:lnTo>
                  <a:lnTo>
                    <a:pt x="3943" y="2011"/>
                  </a:lnTo>
                  <a:lnTo>
                    <a:pt x="3943" y="2028"/>
                  </a:lnTo>
                  <a:lnTo>
                    <a:pt x="3938" y="2028"/>
                  </a:lnTo>
                  <a:lnTo>
                    <a:pt x="3938" y="2052"/>
                  </a:lnTo>
                  <a:lnTo>
                    <a:pt x="3934" y="2052"/>
                  </a:lnTo>
                  <a:lnTo>
                    <a:pt x="3934" y="2080"/>
                  </a:lnTo>
                  <a:lnTo>
                    <a:pt x="3928" y="2080"/>
                  </a:lnTo>
                  <a:lnTo>
                    <a:pt x="3928" y="2087"/>
                  </a:lnTo>
                  <a:lnTo>
                    <a:pt x="3924" y="2087"/>
                  </a:lnTo>
                  <a:lnTo>
                    <a:pt x="3924" y="2110"/>
                  </a:lnTo>
                  <a:lnTo>
                    <a:pt x="3919" y="2110"/>
                  </a:lnTo>
                  <a:lnTo>
                    <a:pt x="3919" y="2129"/>
                  </a:lnTo>
                  <a:lnTo>
                    <a:pt x="3914" y="2129"/>
                  </a:lnTo>
                  <a:lnTo>
                    <a:pt x="3914" y="2147"/>
                  </a:lnTo>
                  <a:lnTo>
                    <a:pt x="3910" y="2147"/>
                  </a:lnTo>
                  <a:lnTo>
                    <a:pt x="3910" y="2169"/>
                  </a:lnTo>
                  <a:lnTo>
                    <a:pt x="3905" y="2169"/>
                  </a:lnTo>
                  <a:lnTo>
                    <a:pt x="3905" y="2180"/>
                  </a:lnTo>
                  <a:lnTo>
                    <a:pt x="3900" y="2180"/>
                  </a:lnTo>
                  <a:lnTo>
                    <a:pt x="3900" y="2198"/>
                  </a:lnTo>
                  <a:lnTo>
                    <a:pt x="3896" y="2198"/>
                  </a:lnTo>
                  <a:lnTo>
                    <a:pt x="3896" y="2234"/>
                  </a:lnTo>
                  <a:lnTo>
                    <a:pt x="3890" y="2234"/>
                  </a:lnTo>
                  <a:lnTo>
                    <a:pt x="3890" y="2240"/>
                  </a:lnTo>
                  <a:lnTo>
                    <a:pt x="3885" y="2240"/>
                  </a:lnTo>
                  <a:lnTo>
                    <a:pt x="3885" y="2258"/>
                  </a:lnTo>
                  <a:lnTo>
                    <a:pt x="3880" y="2258"/>
                  </a:lnTo>
                  <a:lnTo>
                    <a:pt x="3880" y="2275"/>
                  </a:lnTo>
                  <a:lnTo>
                    <a:pt x="3876" y="2275"/>
                  </a:lnTo>
                  <a:lnTo>
                    <a:pt x="3876" y="2311"/>
                  </a:lnTo>
                  <a:lnTo>
                    <a:pt x="3871" y="2311"/>
                  </a:lnTo>
                  <a:lnTo>
                    <a:pt x="3871" y="2329"/>
                  </a:lnTo>
                  <a:lnTo>
                    <a:pt x="3866" y="2329"/>
                  </a:lnTo>
                  <a:lnTo>
                    <a:pt x="3866" y="2335"/>
                  </a:lnTo>
                  <a:lnTo>
                    <a:pt x="3861" y="2335"/>
                  </a:lnTo>
                  <a:lnTo>
                    <a:pt x="3861" y="2370"/>
                  </a:lnTo>
                  <a:lnTo>
                    <a:pt x="3857" y="2370"/>
                  </a:lnTo>
                  <a:lnTo>
                    <a:pt x="3857" y="2411"/>
                  </a:lnTo>
                  <a:lnTo>
                    <a:pt x="3852" y="2411"/>
                  </a:lnTo>
                  <a:lnTo>
                    <a:pt x="3852" y="2435"/>
                  </a:lnTo>
                  <a:lnTo>
                    <a:pt x="3847" y="2435"/>
                  </a:lnTo>
                  <a:lnTo>
                    <a:pt x="3847" y="2506"/>
                  </a:lnTo>
                  <a:lnTo>
                    <a:pt x="3843" y="2506"/>
                  </a:lnTo>
                  <a:lnTo>
                    <a:pt x="3843" y="2547"/>
                  </a:lnTo>
                  <a:lnTo>
                    <a:pt x="3838" y="2547"/>
                  </a:lnTo>
                  <a:lnTo>
                    <a:pt x="3838" y="2560"/>
                  </a:lnTo>
                  <a:lnTo>
                    <a:pt x="3833" y="2560"/>
                  </a:lnTo>
                  <a:lnTo>
                    <a:pt x="3833" y="2583"/>
                  </a:lnTo>
                  <a:lnTo>
                    <a:pt x="3828" y="2583"/>
                  </a:lnTo>
                  <a:lnTo>
                    <a:pt x="3828" y="2595"/>
                  </a:lnTo>
                  <a:lnTo>
                    <a:pt x="3824" y="2595"/>
                  </a:lnTo>
                  <a:lnTo>
                    <a:pt x="3824" y="2607"/>
                  </a:lnTo>
                  <a:lnTo>
                    <a:pt x="3828" y="2607"/>
                  </a:lnTo>
                  <a:lnTo>
                    <a:pt x="3828" y="2653"/>
                  </a:lnTo>
                  <a:lnTo>
                    <a:pt x="3833" y="2653"/>
                  </a:lnTo>
                  <a:lnTo>
                    <a:pt x="3833" y="2671"/>
                  </a:lnTo>
                  <a:lnTo>
                    <a:pt x="3828" y="2671"/>
                  </a:lnTo>
                  <a:lnTo>
                    <a:pt x="3828" y="2772"/>
                  </a:lnTo>
                  <a:lnTo>
                    <a:pt x="3833" y="2772"/>
                  </a:lnTo>
                  <a:lnTo>
                    <a:pt x="3833" y="2789"/>
                  </a:lnTo>
                  <a:lnTo>
                    <a:pt x="3838" y="2789"/>
                  </a:lnTo>
                  <a:lnTo>
                    <a:pt x="3838" y="2814"/>
                  </a:lnTo>
                  <a:lnTo>
                    <a:pt x="3824" y="2814"/>
                  </a:lnTo>
                  <a:lnTo>
                    <a:pt x="3824" y="2825"/>
                  </a:lnTo>
                  <a:lnTo>
                    <a:pt x="3794" y="2825"/>
                  </a:lnTo>
                  <a:lnTo>
                    <a:pt x="3794" y="2819"/>
                  </a:lnTo>
                  <a:lnTo>
                    <a:pt x="3770" y="2819"/>
                  </a:lnTo>
                  <a:lnTo>
                    <a:pt x="3770" y="2814"/>
                  </a:lnTo>
                  <a:lnTo>
                    <a:pt x="3746" y="2814"/>
                  </a:lnTo>
                  <a:lnTo>
                    <a:pt x="3746" y="2808"/>
                  </a:lnTo>
                  <a:lnTo>
                    <a:pt x="3736" y="2808"/>
                  </a:lnTo>
                  <a:lnTo>
                    <a:pt x="3736" y="2802"/>
                  </a:lnTo>
                  <a:lnTo>
                    <a:pt x="3713" y="2802"/>
                  </a:lnTo>
                  <a:lnTo>
                    <a:pt x="3713" y="2797"/>
                  </a:lnTo>
                  <a:lnTo>
                    <a:pt x="3694" y="2797"/>
                  </a:lnTo>
                  <a:lnTo>
                    <a:pt x="3694" y="2789"/>
                  </a:lnTo>
                  <a:lnTo>
                    <a:pt x="3673" y="2789"/>
                  </a:lnTo>
                  <a:lnTo>
                    <a:pt x="3673" y="2784"/>
                  </a:lnTo>
                  <a:lnTo>
                    <a:pt x="3659" y="2784"/>
                  </a:lnTo>
                  <a:lnTo>
                    <a:pt x="3659" y="2778"/>
                  </a:lnTo>
                  <a:lnTo>
                    <a:pt x="3631" y="2778"/>
                  </a:lnTo>
                  <a:lnTo>
                    <a:pt x="3631" y="2772"/>
                  </a:lnTo>
                  <a:lnTo>
                    <a:pt x="3612" y="2772"/>
                  </a:lnTo>
                  <a:lnTo>
                    <a:pt x="3612" y="2766"/>
                  </a:lnTo>
                  <a:lnTo>
                    <a:pt x="3592" y="2766"/>
                  </a:lnTo>
                  <a:lnTo>
                    <a:pt x="3592" y="2761"/>
                  </a:lnTo>
                  <a:lnTo>
                    <a:pt x="3577" y="2761"/>
                  </a:lnTo>
                  <a:lnTo>
                    <a:pt x="3577" y="2756"/>
                  </a:lnTo>
                  <a:lnTo>
                    <a:pt x="3545" y="2756"/>
                  </a:lnTo>
                  <a:lnTo>
                    <a:pt x="3545" y="2748"/>
                  </a:lnTo>
                  <a:lnTo>
                    <a:pt x="3536" y="2748"/>
                  </a:lnTo>
                  <a:lnTo>
                    <a:pt x="3536" y="2743"/>
                  </a:lnTo>
                  <a:lnTo>
                    <a:pt x="3506" y="2743"/>
                  </a:lnTo>
                  <a:lnTo>
                    <a:pt x="3506" y="2737"/>
                  </a:lnTo>
                  <a:lnTo>
                    <a:pt x="3487" y="2737"/>
                  </a:lnTo>
                  <a:lnTo>
                    <a:pt x="3487" y="2731"/>
                  </a:lnTo>
                  <a:lnTo>
                    <a:pt x="3468" y="2731"/>
                  </a:lnTo>
                  <a:lnTo>
                    <a:pt x="3468" y="2724"/>
                  </a:lnTo>
                  <a:lnTo>
                    <a:pt x="3458" y="2724"/>
                  </a:lnTo>
                  <a:lnTo>
                    <a:pt x="3458" y="2719"/>
                  </a:lnTo>
                  <a:lnTo>
                    <a:pt x="3439" y="2719"/>
                  </a:lnTo>
                  <a:lnTo>
                    <a:pt x="3439" y="2713"/>
                  </a:lnTo>
                  <a:lnTo>
                    <a:pt x="3429" y="2713"/>
                  </a:lnTo>
                  <a:lnTo>
                    <a:pt x="3429" y="2707"/>
                  </a:lnTo>
                  <a:lnTo>
                    <a:pt x="3415" y="2707"/>
                  </a:lnTo>
                  <a:lnTo>
                    <a:pt x="3415" y="2702"/>
                  </a:lnTo>
                  <a:lnTo>
                    <a:pt x="3385" y="2702"/>
                  </a:lnTo>
                  <a:lnTo>
                    <a:pt x="3385" y="2696"/>
                  </a:lnTo>
                  <a:lnTo>
                    <a:pt x="3371" y="2696"/>
                  </a:lnTo>
                  <a:lnTo>
                    <a:pt x="3371" y="2689"/>
                  </a:lnTo>
                  <a:lnTo>
                    <a:pt x="3352" y="2689"/>
                  </a:lnTo>
                  <a:lnTo>
                    <a:pt x="3352" y="2683"/>
                  </a:lnTo>
                  <a:lnTo>
                    <a:pt x="3338" y="2683"/>
                  </a:lnTo>
                  <a:lnTo>
                    <a:pt x="3338" y="2678"/>
                  </a:lnTo>
                  <a:lnTo>
                    <a:pt x="3323" y="2678"/>
                  </a:lnTo>
                  <a:lnTo>
                    <a:pt x="3323" y="2671"/>
                  </a:lnTo>
                  <a:lnTo>
                    <a:pt x="3309" y="2671"/>
                  </a:lnTo>
                  <a:lnTo>
                    <a:pt x="3309" y="2666"/>
                  </a:lnTo>
                  <a:lnTo>
                    <a:pt x="3295" y="2666"/>
                  </a:lnTo>
                  <a:lnTo>
                    <a:pt x="3295" y="2661"/>
                  </a:lnTo>
                  <a:lnTo>
                    <a:pt x="3280" y="2661"/>
                  </a:lnTo>
                  <a:lnTo>
                    <a:pt x="3280" y="2653"/>
                  </a:lnTo>
                  <a:lnTo>
                    <a:pt x="3262" y="2653"/>
                  </a:lnTo>
                  <a:lnTo>
                    <a:pt x="3262" y="2648"/>
                  </a:lnTo>
                  <a:lnTo>
                    <a:pt x="3242" y="2648"/>
                  </a:lnTo>
                  <a:lnTo>
                    <a:pt x="3242" y="2642"/>
                  </a:lnTo>
                  <a:lnTo>
                    <a:pt x="3218" y="2642"/>
                  </a:lnTo>
                  <a:lnTo>
                    <a:pt x="3218" y="2637"/>
                  </a:lnTo>
                  <a:lnTo>
                    <a:pt x="3204" y="2637"/>
                  </a:lnTo>
                  <a:lnTo>
                    <a:pt x="3204" y="2630"/>
                  </a:lnTo>
                  <a:lnTo>
                    <a:pt x="3189" y="2630"/>
                  </a:lnTo>
                  <a:lnTo>
                    <a:pt x="3189" y="2625"/>
                  </a:lnTo>
                  <a:lnTo>
                    <a:pt x="3175" y="2625"/>
                  </a:lnTo>
                  <a:lnTo>
                    <a:pt x="3175" y="2618"/>
                  </a:lnTo>
                  <a:lnTo>
                    <a:pt x="3165" y="2618"/>
                  </a:lnTo>
                  <a:lnTo>
                    <a:pt x="3165" y="2612"/>
                  </a:lnTo>
                  <a:lnTo>
                    <a:pt x="3155" y="2612"/>
                  </a:lnTo>
                  <a:lnTo>
                    <a:pt x="3155" y="2607"/>
                  </a:lnTo>
                  <a:lnTo>
                    <a:pt x="3151" y="2607"/>
                  </a:lnTo>
                  <a:lnTo>
                    <a:pt x="3151" y="2601"/>
                  </a:lnTo>
                  <a:lnTo>
                    <a:pt x="3103" y="2601"/>
                  </a:lnTo>
                  <a:lnTo>
                    <a:pt x="3103" y="2595"/>
                  </a:lnTo>
                  <a:lnTo>
                    <a:pt x="3093" y="2595"/>
                  </a:lnTo>
                  <a:lnTo>
                    <a:pt x="3093" y="2588"/>
                  </a:lnTo>
                  <a:lnTo>
                    <a:pt x="3083" y="2588"/>
                  </a:lnTo>
                  <a:lnTo>
                    <a:pt x="3083" y="2583"/>
                  </a:lnTo>
                  <a:lnTo>
                    <a:pt x="3069" y="2583"/>
                  </a:lnTo>
                  <a:lnTo>
                    <a:pt x="3069" y="2577"/>
                  </a:lnTo>
                  <a:lnTo>
                    <a:pt x="3059" y="2577"/>
                  </a:lnTo>
                  <a:lnTo>
                    <a:pt x="3059" y="2571"/>
                  </a:lnTo>
                  <a:lnTo>
                    <a:pt x="3035" y="2571"/>
                  </a:lnTo>
                  <a:lnTo>
                    <a:pt x="3035" y="2566"/>
                  </a:lnTo>
                  <a:lnTo>
                    <a:pt x="3021" y="2566"/>
                  </a:lnTo>
                  <a:lnTo>
                    <a:pt x="3021" y="2560"/>
                  </a:lnTo>
                  <a:lnTo>
                    <a:pt x="3011" y="2560"/>
                  </a:lnTo>
                  <a:lnTo>
                    <a:pt x="3011" y="2553"/>
                  </a:lnTo>
                  <a:lnTo>
                    <a:pt x="3001" y="2553"/>
                  </a:lnTo>
                  <a:lnTo>
                    <a:pt x="3001" y="2547"/>
                  </a:lnTo>
                  <a:lnTo>
                    <a:pt x="2987" y="2547"/>
                  </a:lnTo>
                  <a:lnTo>
                    <a:pt x="2987" y="2542"/>
                  </a:lnTo>
                  <a:lnTo>
                    <a:pt x="2964" y="2542"/>
                  </a:lnTo>
                  <a:lnTo>
                    <a:pt x="2964" y="2536"/>
                  </a:lnTo>
                  <a:lnTo>
                    <a:pt x="2948" y="2536"/>
                  </a:lnTo>
                  <a:lnTo>
                    <a:pt x="2948" y="2530"/>
                  </a:lnTo>
                  <a:lnTo>
                    <a:pt x="2938" y="2530"/>
                  </a:lnTo>
                  <a:lnTo>
                    <a:pt x="2938" y="2525"/>
                  </a:lnTo>
                  <a:lnTo>
                    <a:pt x="2920" y="2525"/>
                  </a:lnTo>
                  <a:lnTo>
                    <a:pt x="2920" y="2518"/>
                  </a:lnTo>
                  <a:lnTo>
                    <a:pt x="2905" y="2518"/>
                  </a:lnTo>
                  <a:lnTo>
                    <a:pt x="2905" y="2512"/>
                  </a:lnTo>
                  <a:lnTo>
                    <a:pt x="2882" y="2512"/>
                  </a:lnTo>
                  <a:lnTo>
                    <a:pt x="2882" y="2506"/>
                  </a:lnTo>
                  <a:lnTo>
                    <a:pt x="2871" y="2506"/>
                  </a:lnTo>
                  <a:lnTo>
                    <a:pt x="2871" y="2501"/>
                  </a:lnTo>
                  <a:lnTo>
                    <a:pt x="2857" y="2501"/>
                  </a:lnTo>
                  <a:lnTo>
                    <a:pt x="2857" y="2495"/>
                  </a:lnTo>
                  <a:lnTo>
                    <a:pt x="2843" y="2495"/>
                  </a:lnTo>
                  <a:lnTo>
                    <a:pt x="2843" y="2489"/>
                  </a:lnTo>
                  <a:lnTo>
                    <a:pt x="2824" y="2489"/>
                  </a:lnTo>
                  <a:lnTo>
                    <a:pt x="2824" y="2484"/>
                  </a:lnTo>
                  <a:lnTo>
                    <a:pt x="2815" y="2484"/>
                  </a:lnTo>
                  <a:lnTo>
                    <a:pt x="2815" y="2476"/>
                  </a:lnTo>
                  <a:lnTo>
                    <a:pt x="2810" y="2476"/>
                  </a:lnTo>
                  <a:lnTo>
                    <a:pt x="2810" y="2471"/>
                  </a:lnTo>
                  <a:lnTo>
                    <a:pt x="2804" y="2471"/>
                  </a:lnTo>
                  <a:lnTo>
                    <a:pt x="2804" y="2465"/>
                  </a:lnTo>
                  <a:lnTo>
                    <a:pt x="2786" y="2465"/>
                  </a:lnTo>
                  <a:lnTo>
                    <a:pt x="2786" y="2460"/>
                  </a:lnTo>
                  <a:lnTo>
                    <a:pt x="2761" y="2460"/>
                  </a:lnTo>
                  <a:lnTo>
                    <a:pt x="2761" y="2452"/>
                  </a:lnTo>
                  <a:lnTo>
                    <a:pt x="2753" y="2452"/>
                  </a:lnTo>
                  <a:lnTo>
                    <a:pt x="2753" y="2447"/>
                  </a:lnTo>
                  <a:lnTo>
                    <a:pt x="2727" y="2447"/>
                  </a:lnTo>
                  <a:lnTo>
                    <a:pt x="2727" y="2442"/>
                  </a:lnTo>
                  <a:lnTo>
                    <a:pt x="2723" y="2442"/>
                  </a:lnTo>
                  <a:lnTo>
                    <a:pt x="2723" y="2435"/>
                  </a:lnTo>
                  <a:lnTo>
                    <a:pt x="2709" y="2435"/>
                  </a:lnTo>
                  <a:lnTo>
                    <a:pt x="2709" y="2430"/>
                  </a:lnTo>
                  <a:lnTo>
                    <a:pt x="2699" y="2430"/>
                  </a:lnTo>
                  <a:lnTo>
                    <a:pt x="2699" y="2424"/>
                  </a:lnTo>
                  <a:lnTo>
                    <a:pt x="2685" y="2424"/>
                  </a:lnTo>
                  <a:lnTo>
                    <a:pt x="2685" y="2417"/>
                  </a:lnTo>
                  <a:lnTo>
                    <a:pt x="2671" y="2417"/>
                  </a:lnTo>
                  <a:lnTo>
                    <a:pt x="2671" y="2411"/>
                  </a:lnTo>
                  <a:lnTo>
                    <a:pt x="2656" y="2411"/>
                  </a:lnTo>
                  <a:lnTo>
                    <a:pt x="2656" y="2406"/>
                  </a:lnTo>
                  <a:lnTo>
                    <a:pt x="2631" y="2406"/>
                  </a:lnTo>
                  <a:lnTo>
                    <a:pt x="2631" y="2400"/>
                  </a:lnTo>
                  <a:lnTo>
                    <a:pt x="2617" y="2400"/>
                  </a:lnTo>
                  <a:lnTo>
                    <a:pt x="2617" y="2394"/>
                  </a:lnTo>
                  <a:lnTo>
                    <a:pt x="2598" y="2394"/>
                  </a:lnTo>
                  <a:lnTo>
                    <a:pt x="2598" y="2389"/>
                  </a:lnTo>
                  <a:lnTo>
                    <a:pt x="2588" y="2389"/>
                  </a:lnTo>
                  <a:lnTo>
                    <a:pt x="2588" y="2382"/>
                  </a:lnTo>
                  <a:lnTo>
                    <a:pt x="2574" y="2382"/>
                  </a:lnTo>
                  <a:lnTo>
                    <a:pt x="2574" y="2376"/>
                  </a:lnTo>
                  <a:lnTo>
                    <a:pt x="2560" y="2376"/>
                  </a:lnTo>
                  <a:lnTo>
                    <a:pt x="2560" y="2370"/>
                  </a:lnTo>
                  <a:lnTo>
                    <a:pt x="2554" y="2370"/>
                  </a:lnTo>
                  <a:lnTo>
                    <a:pt x="2554" y="2365"/>
                  </a:lnTo>
                  <a:lnTo>
                    <a:pt x="2541" y="2365"/>
                  </a:lnTo>
                  <a:lnTo>
                    <a:pt x="2541" y="2357"/>
                  </a:lnTo>
                  <a:lnTo>
                    <a:pt x="2527" y="2357"/>
                  </a:lnTo>
                  <a:lnTo>
                    <a:pt x="2527" y="2352"/>
                  </a:lnTo>
                  <a:lnTo>
                    <a:pt x="2498" y="2352"/>
                  </a:lnTo>
                  <a:lnTo>
                    <a:pt x="2498" y="2346"/>
                  </a:lnTo>
                  <a:lnTo>
                    <a:pt x="2488" y="2346"/>
                  </a:lnTo>
                  <a:lnTo>
                    <a:pt x="2488" y="2341"/>
                  </a:lnTo>
                  <a:lnTo>
                    <a:pt x="2473" y="2341"/>
                  </a:lnTo>
                  <a:lnTo>
                    <a:pt x="2473" y="2335"/>
                  </a:lnTo>
                  <a:lnTo>
                    <a:pt x="2469" y="2335"/>
                  </a:lnTo>
                  <a:lnTo>
                    <a:pt x="2469" y="2329"/>
                  </a:lnTo>
                  <a:lnTo>
                    <a:pt x="2444" y="2329"/>
                  </a:lnTo>
                  <a:lnTo>
                    <a:pt x="2444" y="2324"/>
                  </a:lnTo>
                  <a:lnTo>
                    <a:pt x="2435" y="2324"/>
                  </a:lnTo>
                  <a:lnTo>
                    <a:pt x="2435" y="2316"/>
                  </a:lnTo>
                  <a:lnTo>
                    <a:pt x="2411" y="2316"/>
                  </a:lnTo>
                  <a:lnTo>
                    <a:pt x="2411" y="2311"/>
                  </a:lnTo>
                  <a:lnTo>
                    <a:pt x="2397" y="2311"/>
                  </a:lnTo>
                  <a:lnTo>
                    <a:pt x="2397" y="2305"/>
                  </a:lnTo>
                  <a:lnTo>
                    <a:pt x="2383" y="2305"/>
                  </a:lnTo>
                  <a:lnTo>
                    <a:pt x="2383" y="2299"/>
                  </a:lnTo>
                  <a:lnTo>
                    <a:pt x="2362" y="2299"/>
                  </a:lnTo>
                  <a:lnTo>
                    <a:pt x="2362" y="2294"/>
                  </a:lnTo>
                  <a:lnTo>
                    <a:pt x="2353" y="2294"/>
                  </a:lnTo>
                  <a:lnTo>
                    <a:pt x="2353" y="2288"/>
                  </a:lnTo>
                  <a:lnTo>
                    <a:pt x="2343" y="2288"/>
                  </a:lnTo>
                  <a:lnTo>
                    <a:pt x="2343" y="2283"/>
                  </a:lnTo>
                  <a:lnTo>
                    <a:pt x="2329" y="2283"/>
                  </a:lnTo>
                  <a:lnTo>
                    <a:pt x="2329" y="2275"/>
                  </a:lnTo>
                  <a:lnTo>
                    <a:pt x="2325" y="2275"/>
                  </a:lnTo>
                  <a:lnTo>
                    <a:pt x="2325" y="2270"/>
                  </a:lnTo>
                  <a:lnTo>
                    <a:pt x="2315" y="2270"/>
                  </a:lnTo>
                  <a:lnTo>
                    <a:pt x="2315" y="2264"/>
                  </a:lnTo>
                  <a:lnTo>
                    <a:pt x="2290" y="2264"/>
                  </a:lnTo>
                  <a:lnTo>
                    <a:pt x="2290" y="2258"/>
                  </a:lnTo>
                  <a:lnTo>
                    <a:pt x="2281" y="2258"/>
                  </a:lnTo>
                  <a:lnTo>
                    <a:pt x="2281" y="2251"/>
                  </a:lnTo>
                  <a:lnTo>
                    <a:pt x="2266" y="2251"/>
                  </a:lnTo>
                  <a:lnTo>
                    <a:pt x="2266" y="2246"/>
                  </a:lnTo>
                  <a:lnTo>
                    <a:pt x="2257" y="2246"/>
                  </a:lnTo>
                  <a:lnTo>
                    <a:pt x="2257" y="2240"/>
                  </a:lnTo>
                  <a:lnTo>
                    <a:pt x="2243" y="2240"/>
                  </a:lnTo>
                  <a:lnTo>
                    <a:pt x="2243" y="2234"/>
                  </a:lnTo>
                  <a:lnTo>
                    <a:pt x="2233" y="2234"/>
                  </a:lnTo>
                  <a:lnTo>
                    <a:pt x="2233" y="2229"/>
                  </a:lnTo>
                  <a:lnTo>
                    <a:pt x="2223" y="2229"/>
                  </a:lnTo>
                  <a:lnTo>
                    <a:pt x="2223" y="2223"/>
                  </a:lnTo>
                  <a:lnTo>
                    <a:pt x="2209" y="2223"/>
                  </a:lnTo>
                  <a:lnTo>
                    <a:pt x="2209" y="2216"/>
                  </a:lnTo>
                  <a:lnTo>
                    <a:pt x="2204" y="2216"/>
                  </a:lnTo>
                  <a:lnTo>
                    <a:pt x="2204" y="2210"/>
                  </a:lnTo>
                  <a:lnTo>
                    <a:pt x="2190" y="2210"/>
                  </a:lnTo>
                  <a:lnTo>
                    <a:pt x="2190" y="2205"/>
                  </a:lnTo>
                  <a:lnTo>
                    <a:pt x="2176" y="2205"/>
                  </a:lnTo>
                  <a:lnTo>
                    <a:pt x="2176" y="2198"/>
                  </a:lnTo>
                  <a:lnTo>
                    <a:pt x="2166" y="2198"/>
                  </a:lnTo>
                  <a:lnTo>
                    <a:pt x="2166" y="2193"/>
                  </a:lnTo>
                  <a:lnTo>
                    <a:pt x="2147" y="2193"/>
                  </a:lnTo>
                  <a:lnTo>
                    <a:pt x="2147" y="2188"/>
                  </a:lnTo>
                  <a:lnTo>
                    <a:pt x="2122" y="2188"/>
                  </a:lnTo>
                  <a:lnTo>
                    <a:pt x="2122" y="2180"/>
                  </a:lnTo>
                  <a:lnTo>
                    <a:pt x="2114" y="2180"/>
                  </a:lnTo>
                  <a:lnTo>
                    <a:pt x="2114" y="2175"/>
                  </a:lnTo>
                  <a:lnTo>
                    <a:pt x="2109" y="2175"/>
                  </a:lnTo>
                  <a:lnTo>
                    <a:pt x="2109" y="2169"/>
                  </a:lnTo>
                  <a:lnTo>
                    <a:pt x="2089" y="2169"/>
                  </a:lnTo>
                  <a:lnTo>
                    <a:pt x="2089" y="2164"/>
                  </a:lnTo>
                  <a:lnTo>
                    <a:pt x="2065" y="2164"/>
                  </a:lnTo>
                  <a:lnTo>
                    <a:pt x="2065" y="2157"/>
                  </a:lnTo>
                  <a:lnTo>
                    <a:pt x="2051" y="2157"/>
                  </a:lnTo>
                  <a:lnTo>
                    <a:pt x="2051" y="2152"/>
                  </a:lnTo>
                  <a:lnTo>
                    <a:pt x="2032" y="2152"/>
                  </a:lnTo>
                  <a:lnTo>
                    <a:pt x="2032" y="2147"/>
                  </a:lnTo>
                  <a:lnTo>
                    <a:pt x="2022" y="2147"/>
                  </a:lnTo>
                  <a:lnTo>
                    <a:pt x="2022" y="2139"/>
                  </a:lnTo>
                  <a:lnTo>
                    <a:pt x="1998" y="2139"/>
                  </a:lnTo>
                  <a:lnTo>
                    <a:pt x="1998" y="2134"/>
                  </a:lnTo>
                  <a:lnTo>
                    <a:pt x="1978" y="2134"/>
                  </a:lnTo>
                  <a:lnTo>
                    <a:pt x="1978" y="2129"/>
                  </a:lnTo>
                  <a:lnTo>
                    <a:pt x="1964" y="2129"/>
                  </a:lnTo>
                  <a:lnTo>
                    <a:pt x="1964" y="2122"/>
                  </a:lnTo>
                  <a:lnTo>
                    <a:pt x="1945" y="2122"/>
                  </a:lnTo>
                  <a:lnTo>
                    <a:pt x="1945" y="2117"/>
                  </a:lnTo>
                  <a:lnTo>
                    <a:pt x="1935" y="2117"/>
                  </a:lnTo>
                  <a:lnTo>
                    <a:pt x="1935" y="2110"/>
                  </a:lnTo>
                  <a:lnTo>
                    <a:pt x="1925" y="2110"/>
                  </a:lnTo>
                  <a:lnTo>
                    <a:pt x="1925" y="2104"/>
                  </a:lnTo>
                  <a:lnTo>
                    <a:pt x="1911" y="2104"/>
                  </a:lnTo>
                  <a:lnTo>
                    <a:pt x="1911" y="2098"/>
                  </a:lnTo>
                  <a:lnTo>
                    <a:pt x="1882" y="2098"/>
                  </a:lnTo>
                  <a:lnTo>
                    <a:pt x="1882" y="2093"/>
                  </a:lnTo>
                  <a:lnTo>
                    <a:pt x="1873" y="2093"/>
                  </a:lnTo>
                  <a:lnTo>
                    <a:pt x="1873" y="2087"/>
                  </a:lnTo>
                  <a:lnTo>
                    <a:pt x="1858" y="2087"/>
                  </a:lnTo>
                  <a:lnTo>
                    <a:pt x="1858" y="2080"/>
                  </a:lnTo>
                  <a:lnTo>
                    <a:pt x="1839" y="2080"/>
                  </a:lnTo>
                  <a:lnTo>
                    <a:pt x="1839" y="2075"/>
                  </a:lnTo>
                  <a:lnTo>
                    <a:pt x="1830" y="2075"/>
                  </a:lnTo>
                  <a:lnTo>
                    <a:pt x="1830" y="2069"/>
                  </a:lnTo>
                  <a:lnTo>
                    <a:pt x="1820" y="2069"/>
                  </a:lnTo>
                  <a:lnTo>
                    <a:pt x="1820" y="2063"/>
                  </a:lnTo>
                  <a:lnTo>
                    <a:pt x="1797" y="2063"/>
                  </a:lnTo>
                  <a:lnTo>
                    <a:pt x="1797" y="2057"/>
                  </a:lnTo>
                  <a:lnTo>
                    <a:pt x="1786" y="2057"/>
                  </a:lnTo>
                  <a:lnTo>
                    <a:pt x="1786" y="2052"/>
                  </a:lnTo>
                  <a:lnTo>
                    <a:pt x="1763" y="2052"/>
                  </a:lnTo>
                  <a:lnTo>
                    <a:pt x="1763" y="2046"/>
                  </a:lnTo>
                  <a:lnTo>
                    <a:pt x="1753" y="2046"/>
                  </a:lnTo>
                  <a:lnTo>
                    <a:pt x="1753" y="2039"/>
                  </a:lnTo>
                  <a:lnTo>
                    <a:pt x="1744" y="2039"/>
                  </a:lnTo>
                  <a:lnTo>
                    <a:pt x="1744" y="2033"/>
                  </a:lnTo>
                  <a:lnTo>
                    <a:pt x="1725" y="2033"/>
                  </a:lnTo>
                  <a:lnTo>
                    <a:pt x="1725" y="2028"/>
                  </a:lnTo>
                  <a:lnTo>
                    <a:pt x="1704" y="2028"/>
                  </a:lnTo>
                  <a:lnTo>
                    <a:pt x="1704" y="2022"/>
                  </a:lnTo>
                  <a:lnTo>
                    <a:pt x="1686" y="2022"/>
                  </a:lnTo>
                  <a:lnTo>
                    <a:pt x="1686" y="2016"/>
                  </a:lnTo>
                  <a:lnTo>
                    <a:pt x="1662" y="2016"/>
                  </a:lnTo>
                  <a:lnTo>
                    <a:pt x="1662" y="2011"/>
                  </a:lnTo>
                  <a:lnTo>
                    <a:pt x="1642" y="2011"/>
                  </a:lnTo>
                  <a:lnTo>
                    <a:pt x="1642" y="2003"/>
                  </a:lnTo>
                  <a:lnTo>
                    <a:pt x="1633" y="2003"/>
                  </a:lnTo>
                  <a:lnTo>
                    <a:pt x="1633" y="1998"/>
                  </a:lnTo>
                  <a:lnTo>
                    <a:pt x="1618" y="1998"/>
                  </a:lnTo>
                  <a:lnTo>
                    <a:pt x="1618" y="1992"/>
                  </a:lnTo>
                  <a:lnTo>
                    <a:pt x="1594" y="1992"/>
                  </a:lnTo>
                  <a:lnTo>
                    <a:pt x="1594" y="1987"/>
                  </a:lnTo>
                  <a:lnTo>
                    <a:pt x="1585" y="1987"/>
                  </a:lnTo>
                  <a:lnTo>
                    <a:pt x="1585" y="1979"/>
                  </a:lnTo>
                  <a:lnTo>
                    <a:pt x="1566" y="1979"/>
                  </a:lnTo>
                  <a:lnTo>
                    <a:pt x="1566" y="1974"/>
                  </a:lnTo>
                  <a:lnTo>
                    <a:pt x="1556" y="1974"/>
                  </a:lnTo>
                  <a:lnTo>
                    <a:pt x="1556" y="1969"/>
                  </a:lnTo>
                  <a:lnTo>
                    <a:pt x="1523" y="1969"/>
                  </a:lnTo>
                  <a:lnTo>
                    <a:pt x="1523" y="1962"/>
                  </a:lnTo>
                  <a:lnTo>
                    <a:pt x="1504" y="1962"/>
                  </a:lnTo>
                  <a:lnTo>
                    <a:pt x="1504" y="1957"/>
                  </a:lnTo>
                  <a:lnTo>
                    <a:pt x="1493" y="1957"/>
                  </a:lnTo>
                  <a:lnTo>
                    <a:pt x="1493" y="1951"/>
                  </a:lnTo>
                  <a:lnTo>
                    <a:pt x="1479" y="1951"/>
                  </a:lnTo>
                  <a:lnTo>
                    <a:pt x="1479" y="1944"/>
                  </a:lnTo>
                  <a:lnTo>
                    <a:pt x="1456" y="1944"/>
                  </a:lnTo>
                  <a:lnTo>
                    <a:pt x="1456" y="1938"/>
                  </a:lnTo>
                  <a:lnTo>
                    <a:pt x="1441" y="1938"/>
                  </a:lnTo>
                  <a:lnTo>
                    <a:pt x="1441" y="1933"/>
                  </a:lnTo>
                  <a:lnTo>
                    <a:pt x="1432" y="1933"/>
                  </a:lnTo>
                  <a:lnTo>
                    <a:pt x="1432" y="1927"/>
                  </a:lnTo>
                  <a:lnTo>
                    <a:pt x="1397" y="1927"/>
                  </a:lnTo>
                  <a:lnTo>
                    <a:pt x="1397" y="1921"/>
                  </a:lnTo>
                  <a:lnTo>
                    <a:pt x="1383" y="1921"/>
                  </a:lnTo>
                  <a:lnTo>
                    <a:pt x="1383" y="1916"/>
                  </a:lnTo>
                  <a:lnTo>
                    <a:pt x="1369" y="1916"/>
                  </a:lnTo>
                  <a:lnTo>
                    <a:pt x="1369" y="1910"/>
                  </a:lnTo>
                  <a:lnTo>
                    <a:pt x="1353" y="1910"/>
                  </a:lnTo>
                  <a:lnTo>
                    <a:pt x="1353" y="1903"/>
                  </a:lnTo>
                  <a:lnTo>
                    <a:pt x="1330" y="1903"/>
                  </a:lnTo>
                  <a:lnTo>
                    <a:pt x="1330" y="1897"/>
                  </a:lnTo>
                  <a:lnTo>
                    <a:pt x="1320" y="1897"/>
                  </a:lnTo>
                  <a:lnTo>
                    <a:pt x="1320" y="1892"/>
                  </a:lnTo>
                  <a:lnTo>
                    <a:pt x="1306" y="1892"/>
                  </a:lnTo>
                  <a:lnTo>
                    <a:pt x="1306" y="1885"/>
                  </a:lnTo>
                  <a:lnTo>
                    <a:pt x="1287" y="1885"/>
                  </a:lnTo>
                  <a:lnTo>
                    <a:pt x="1287" y="1880"/>
                  </a:lnTo>
                  <a:lnTo>
                    <a:pt x="1263" y="1880"/>
                  </a:lnTo>
                  <a:lnTo>
                    <a:pt x="1263" y="1875"/>
                  </a:lnTo>
                  <a:lnTo>
                    <a:pt x="1253" y="1875"/>
                  </a:lnTo>
                  <a:lnTo>
                    <a:pt x="1253" y="1868"/>
                  </a:lnTo>
                  <a:lnTo>
                    <a:pt x="1230" y="1868"/>
                  </a:lnTo>
                  <a:lnTo>
                    <a:pt x="1230" y="1862"/>
                  </a:lnTo>
                  <a:lnTo>
                    <a:pt x="1205" y="1862"/>
                  </a:lnTo>
                  <a:lnTo>
                    <a:pt x="1205" y="1856"/>
                  </a:lnTo>
                  <a:lnTo>
                    <a:pt x="1200" y="1856"/>
                  </a:lnTo>
                  <a:lnTo>
                    <a:pt x="1200" y="1851"/>
                  </a:lnTo>
                  <a:lnTo>
                    <a:pt x="1182" y="1851"/>
                  </a:lnTo>
                  <a:lnTo>
                    <a:pt x="1182" y="1843"/>
                  </a:lnTo>
                  <a:lnTo>
                    <a:pt x="1157" y="1843"/>
                  </a:lnTo>
                  <a:lnTo>
                    <a:pt x="1157" y="1838"/>
                  </a:lnTo>
                  <a:lnTo>
                    <a:pt x="1143" y="1838"/>
                  </a:lnTo>
                  <a:lnTo>
                    <a:pt x="1143" y="1832"/>
                  </a:lnTo>
                  <a:lnTo>
                    <a:pt x="1124" y="1832"/>
                  </a:lnTo>
                  <a:lnTo>
                    <a:pt x="1124" y="1826"/>
                  </a:lnTo>
                  <a:lnTo>
                    <a:pt x="1105" y="1826"/>
                  </a:lnTo>
                  <a:lnTo>
                    <a:pt x="1105" y="1821"/>
                  </a:lnTo>
                  <a:lnTo>
                    <a:pt x="1091" y="1821"/>
                  </a:lnTo>
                  <a:lnTo>
                    <a:pt x="1091" y="1815"/>
                  </a:lnTo>
                  <a:lnTo>
                    <a:pt x="1072" y="1815"/>
                  </a:lnTo>
                  <a:lnTo>
                    <a:pt x="1072" y="1810"/>
                  </a:lnTo>
                  <a:lnTo>
                    <a:pt x="1051" y="1810"/>
                  </a:lnTo>
                  <a:lnTo>
                    <a:pt x="1051" y="1802"/>
                  </a:lnTo>
                  <a:lnTo>
                    <a:pt x="1032" y="1802"/>
                  </a:lnTo>
                  <a:lnTo>
                    <a:pt x="1032" y="1797"/>
                  </a:lnTo>
                  <a:lnTo>
                    <a:pt x="1018" y="1797"/>
                  </a:lnTo>
                  <a:lnTo>
                    <a:pt x="1018" y="1791"/>
                  </a:lnTo>
                  <a:lnTo>
                    <a:pt x="1004" y="1791"/>
                  </a:lnTo>
                  <a:lnTo>
                    <a:pt x="1004" y="1785"/>
                  </a:lnTo>
                  <a:lnTo>
                    <a:pt x="994" y="1785"/>
                  </a:lnTo>
                  <a:lnTo>
                    <a:pt x="994" y="1778"/>
                  </a:lnTo>
                  <a:lnTo>
                    <a:pt x="975" y="1778"/>
                  </a:lnTo>
                  <a:lnTo>
                    <a:pt x="975" y="1773"/>
                  </a:lnTo>
                  <a:lnTo>
                    <a:pt x="965" y="1773"/>
                  </a:lnTo>
                  <a:lnTo>
                    <a:pt x="965" y="1767"/>
                  </a:lnTo>
                  <a:lnTo>
                    <a:pt x="951" y="1767"/>
                  </a:lnTo>
                  <a:lnTo>
                    <a:pt x="951" y="1761"/>
                  </a:lnTo>
                  <a:lnTo>
                    <a:pt x="942" y="1761"/>
                  </a:lnTo>
                  <a:lnTo>
                    <a:pt x="942" y="1756"/>
                  </a:lnTo>
                  <a:lnTo>
                    <a:pt x="928" y="1756"/>
                  </a:lnTo>
                  <a:lnTo>
                    <a:pt x="928" y="1750"/>
                  </a:lnTo>
                  <a:lnTo>
                    <a:pt x="907" y="1750"/>
                  </a:lnTo>
                  <a:lnTo>
                    <a:pt x="907" y="1744"/>
                  </a:lnTo>
                  <a:lnTo>
                    <a:pt x="898" y="1744"/>
                  </a:lnTo>
                  <a:lnTo>
                    <a:pt x="898" y="1737"/>
                  </a:lnTo>
                  <a:lnTo>
                    <a:pt x="884" y="1737"/>
                  </a:lnTo>
                  <a:lnTo>
                    <a:pt x="884" y="1732"/>
                  </a:lnTo>
                  <a:lnTo>
                    <a:pt x="869" y="1732"/>
                  </a:lnTo>
                  <a:lnTo>
                    <a:pt x="869" y="1726"/>
                  </a:lnTo>
                  <a:lnTo>
                    <a:pt x="855" y="1726"/>
                  </a:lnTo>
                  <a:lnTo>
                    <a:pt x="855" y="1720"/>
                  </a:lnTo>
                  <a:lnTo>
                    <a:pt x="840" y="1720"/>
                  </a:lnTo>
                  <a:lnTo>
                    <a:pt x="840" y="1715"/>
                  </a:lnTo>
                  <a:lnTo>
                    <a:pt x="825" y="1715"/>
                  </a:lnTo>
                  <a:lnTo>
                    <a:pt x="825" y="1709"/>
                  </a:lnTo>
                  <a:lnTo>
                    <a:pt x="812" y="1709"/>
                  </a:lnTo>
                  <a:lnTo>
                    <a:pt x="812" y="1702"/>
                  </a:lnTo>
                  <a:lnTo>
                    <a:pt x="793" y="1702"/>
                  </a:lnTo>
                  <a:lnTo>
                    <a:pt x="793" y="1697"/>
                  </a:lnTo>
                  <a:lnTo>
                    <a:pt x="784" y="1697"/>
                  </a:lnTo>
                  <a:lnTo>
                    <a:pt x="784" y="1691"/>
                  </a:lnTo>
                  <a:lnTo>
                    <a:pt x="763" y="1691"/>
                  </a:lnTo>
                  <a:lnTo>
                    <a:pt x="763" y="1685"/>
                  </a:lnTo>
                  <a:lnTo>
                    <a:pt x="750" y="1685"/>
                  </a:lnTo>
                  <a:lnTo>
                    <a:pt x="750" y="1679"/>
                  </a:lnTo>
                  <a:lnTo>
                    <a:pt x="735" y="1679"/>
                  </a:lnTo>
                  <a:lnTo>
                    <a:pt x="735" y="1674"/>
                  </a:lnTo>
                  <a:lnTo>
                    <a:pt x="711" y="1674"/>
                  </a:lnTo>
                  <a:lnTo>
                    <a:pt x="711" y="1666"/>
                  </a:lnTo>
                  <a:lnTo>
                    <a:pt x="696" y="1666"/>
                  </a:lnTo>
                  <a:lnTo>
                    <a:pt x="696" y="1661"/>
                  </a:lnTo>
                  <a:lnTo>
                    <a:pt x="681" y="1661"/>
                  </a:lnTo>
                  <a:lnTo>
                    <a:pt x="681" y="1656"/>
                  </a:lnTo>
                  <a:lnTo>
                    <a:pt x="648" y="1656"/>
                  </a:lnTo>
                  <a:lnTo>
                    <a:pt x="648" y="1649"/>
                  </a:lnTo>
                  <a:lnTo>
                    <a:pt x="628" y="1649"/>
                  </a:lnTo>
                  <a:lnTo>
                    <a:pt x="628" y="1644"/>
                  </a:lnTo>
                  <a:lnTo>
                    <a:pt x="610" y="1644"/>
                  </a:lnTo>
                  <a:lnTo>
                    <a:pt x="610" y="1637"/>
                  </a:lnTo>
                  <a:lnTo>
                    <a:pt x="595" y="1637"/>
                  </a:lnTo>
                  <a:lnTo>
                    <a:pt x="595" y="1631"/>
                  </a:lnTo>
                  <a:lnTo>
                    <a:pt x="572" y="1631"/>
                  </a:lnTo>
                  <a:lnTo>
                    <a:pt x="572" y="1625"/>
                  </a:lnTo>
                  <a:lnTo>
                    <a:pt x="557" y="1625"/>
                  </a:lnTo>
                  <a:lnTo>
                    <a:pt x="557" y="1620"/>
                  </a:lnTo>
                  <a:lnTo>
                    <a:pt x="537" y="1620"/>
                  </a:lnTo>
                  <a:lnTo>
                    <a:pt x="537" y="1614"/>
                  </a:lnTo>
                  <a:lnTo>
                    <a:pt x="518" y="1614"/>
                  </a:lnTo>
                  <a:lnTo>
                    <a:pt x="518" y="1608"/>
                  </a:lnTo>
                  <a:lnTo>
                    <a:pt x="504" y="1608"/>
                  </a:lnTo>
                  <a:lnTo>
                    <a:pt x="504" y="1603"/>
                  </a:lnTo>
                  <a:lnTo>
                    <a:pt x="480" y="1603"/>
                  </a:lnTo>
                  <a:lnTo>
                    <a:pt x="480" y="1596"/>
                  </a:lnTo>
                  <a:lnTo>
                    <a:pt x="456" y="1596"/>
                  </a:lnTo>
                  <a:lnTo>
                    <a:pt x="456" y="1590"/>
                  </a:lnTo>
                  <a:lnTo>
                    <a:pt x="437" y="1590"/>
                  </a:lnTo>
                  <a:lnTo>
                    <a:pt x="437" y="1584"/>
                  </a:lnTo>
                  <a:lnTo>
                    <a:pt x="418" y="1584"/>
                  </a:lnTo>
                  <a:lnTo>
                    <a:pt x="418" y="1579"/>
                  </a:lnTo>
                  <a:lnTo>
                    <a:pt x="399" y="1579"/>
                  </a:lnTo>
                  <a:lnTo>
                    <a:pt x="399" y="1573"/>
                  </a:lnTo>
                  <a:lnTo>
                    <a:pt x="379" y="1573"/>
                  </a:lnTo>
                  <a:lnTo>
                    <a:pt x="379" y="1566"/>
                  </a:lnTo>
                  <a:lnTo>
                    <a:pt x="351" y="1566"/>
                  </a:lnTo>
                  <a:lnTo>
                    <a:pt x="351" y="1560"/>
                  </a:lnTo>
                  <a:lnTo>
                    <a:pt x="336" y="1560"/>
                  </a:lnTo>
                  <a:lnTo>
                    <a:pt x="336" y="1555"/>
                  </a:lnTo>
                  <a:lnTo>
                    <a:pt x="322" y="1555"/>
                  </a:lnTo>
                  <a:lnTo>
                    <a:pt x="322" y="1549"/>
                  </a:lnTo>
                  <a:lnTo>
                    <a:pt x="303" y="1549"/>
                  </a:lnTo>
                  <a:lnTo>
                    <a:pt x="303" y="1543"/>
                  </a:lnTo>
                  <a:lnTo>
                    <a:pt x="293" y="1543"/>
                  </a:lnTo>
                  <a:lnTo>
                    <a:pt x="293" y="1538"/>
                  </a:lnTo>
                  <a:lnTo>
                    <a:pt x="259" y="1538"/>
                  </a:lnTo>
                  <a:lnTo>
                    <a:pt x="259" y="1530"/>
                  </a:lnTo>
                  <a:lnTo>
                    <a:pt x="240" y="1530"/>
                  </a:lnTo>
                  <a:lnTo>
                    <a:pt x="240" y="1525"/>
                  </a:lnTo>
                  <a:lnTo>
                    <a:pt x="230" y="1525"/>
                  </a:lnTo>
                  <a:lnTo>
                    <a:pt x="230" y="1519"/>
                  </a:lnTo>
                  <a:lnTo>
                    <a:pt x="211" y="1519"/>
                  </a:lnTo>
                  <a:lnTo>
                    <a:pt x="211" y="1514"/>
                  </a:lnTo>
                  <a:lnTo>
                    <a:pt x="192" y="1514"/>
                  </a:lnTo>
                  <a:lnTo>
                    <a:pt x="192" y="1508"/>
                  </a:lnTo>
                  <a:lnTo>
                    <a:pt x="182" y="1508"/>
                  </a:lnTo>
                  <a:lnTo>
                    <a:pt x="182" y="1501"/>
                  </a:lnTo>
                  <a:lnTo>
                    <a:pt x="173" y="1501"/>
                  </a:lnTo>
                  <a:lnTo>
                    <a:pt x="173" y="1496"/>
                  </a:lnTo>
                  <a:lnTo>
                    <a:pt x="144" y="1496"/>
                  </a:lnTo>
                  <a:lnTo>
                    <a:pt x="144" y="1489"/>
                  </a:lnTo>
                  <a:lnTo>
                    <a:pt x="115" y="1489"/>
                  </a:lnTo>
                  <a:lnTo>
                    <a:pt x="115" y="1484"/>
                  </a:lnTo>
                  <a:lnTo>
                    <a:pt x="63" y="1484"/>
                  </a:lnTo>
                  <a:lnTo>
                    <a:pt x="63" y="1478"/>
                  </a:lnTo>
                  <a:lnTo>
                    <a:pt x="48" y="1478"/>
                  </a:lnTo>
                  <a:lnTo>
                    <a:pt x="48" y="1472"/>
                  </a:lnTo>
                  <a:lnTo>
                    <a:pt x="29" y="1472"/>
                  </a:lnTo>
                  <a:lnTo>
                    <a:pt x="29" y="1465"/>
                  </a:lnTo>
                  <a:lnTo>
                    <a:pt x="0" y="1465"/>
                  </a:lnTo>
                  <a:lnTo>
                    <a:pt x="0" y="144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54240" y="2305080"/>
              <a:ext cx="71640" cy="7452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373"/>
                  </a:moveTo>
                  <a:lnTo>
                    <a:pt x="4" y="373"/>
                  </a:lnTo>
                  <a:lnTo>
                    <a:pt x="4" y="367"/>
                  </a:lnTo>
                  <a:lnTo>
                    <a:pt x="9" y="367"/>
                  </a:lnTo>
                  <a:lnTo>
                    <a:pt x="9" y="361"/>
                  </a:lnTo>
                  <a:lnTo>
                    <a:pt x="14" y="361"/>
                  </a:lnTo>
                  <a:lnTo>
                    <a:pt x="14" y="355"/>
                  </a:lnTo>
                  <a:lnTo>
                    <a:pt x="19" y="355"/>
                  </a:lnTo>
                  <a:lnTo>
                    <a:pt x="19" y="350"/>
                  </a:lnTo>
                  <a:lnTo>
                    <a:pt x="23" y="350"/>
                  </a:lnTo>
                  <a:lnTo>
                    <a:pt x="23" y="344"/>
                  </a:lnTo>
                  <a:lnTo>
                    <a:pt x="29" y="344"/>
                  </a:lnTo>
                  <a:lnTo>
                    <a:pt x="29" y="337"/>
                  </a:lnTo>
                  <a:lnTo>
                    <a:pt x="33" y="337"/>
                  </a:lnTo>
                  <a:lnTo>
                    <a:pt x="33" y="326"/>
                  </a:lnTo>
                  <a:lnTo>
                    <a:pt x="37" y="326"/>
                  </a:lnTo>
                  <a:lnTo>
                    <a:pt x="37" y="314"/>
                  </a:lnTo>
                  <a:lnTo>
                    <a:pt x="43" y="314"/>
                  </a:lnTo>
                  <a:lnTo>
                    <a:pt x="43" y="301"/>
                  </a:lnTo>
                  <a:lnTo>
                    <a:pt x="48" y="301"/>
                  </a:lnTo>
                  <a:lnTo>
                    <a:pt x="48" y="284"/>
                  </a:lnTo>
                  <a:lnTo>
                    <a:pt x="53" y="284"/>
                  </a:lnTo>
                  <a:lnTo>
                    <a:pt x="53" y="272"/>
                  </a:lnTo>
                  <a:lnTo>
                    <a:pt x="57" y="272"/>
                  </a:lnTo>
                  <a:lnTo>
                    <a:pt x="57" y="255"/>
                  </a:lnTo>
                  <a:lnTo>
                    <a:pt x="63" y="255"/>
                  </a:lnTo>
                  <a:lnTo>
                    <a:pt x="63" y="242"/>
                  </a:lnTo>
                  <a:lnTo>
                    <a:pt x="67" y="242"/>
                  </a:lnTo>
                  <a:lnTo>
                    <a:pt x="67" y="225"/>
                  </a:lnTo>
                  <a:lnTo>
                    <a:pt x="72" y="225"/>
                  </a:lnTo>
                  <a:lnTo>
                    <a:pt x="72" y="190"/>
                  </a:lnTo>
                  <a:lnTo>
                    <a:pt x="96" y="190"/>
                  </a:lnTo>
                  <a:lnTo>
                    <a:pt x="96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30" y="190"/>
                  </a:lnTo>
                  <a:lnTo>
                    <a:pt x="130" y="184"/>
                  </a:lnTo>
                  <a:lnTo>
                    <a:pt x="134" y="184"/>
                  </a:lnTo>
                  <a:lnTo>
                    <a:pt x="134" y="179"/>
                  </a:lnTo>
                  <a:lnTo>
                    <a:pt x="139" y="179"/>
                  </a:lnTo>
                  <a:lnTo>
                    <a:pt x="139" y="173"/>
                  </a:lnTo>
                  <a:lnTo>
                    <a:pt x="144" y="173"/>
                  </a:lnTo>
                  <a:lnTo>
                    <a:pt x="144" y="160"/>
                  </a:lnTo>
                  <a:lnTo>
                    <a:pt x="149" y="160"/>
                  </a:lnTo>
                  <a:lnTo>
                    <a:pt x="149" y="155"/>
                  </a:lnTo>
                  <a:lnTo>
                    <a:pt x="153" y="155"/>
                  </a:lnTo>
                  <a:lnTo>
                    <a:pt x="153" y="125"/>
                  </a:lnTo>
                  <a:lnTo>
                    <a:pt x="158" y="125"/>
                  </a:lnTo>
                  <a:lnTo>
                    <a:pt x="158" y="119"/>
                  </a:lnTo>
                  <a:lnTo>
                    <a:pt x="201" y="119"/>
                  </a:lnTo>
                  <a:lnTo>
                    <a:pt x="201" y="114"/>
                  </a:lnTo>
                  <a:lnTo>
                    <a:pt x="207" y="114"/>
                  </a:lnTo>
                  <a:lnTo>
                    <a:pt x="207" y="101"/>
                  </a:lnTo>
                  <a:lnTo>
                    <a:pt x="211" y="101"/>
                  </a:lnTo>
                  <a:lnTo>
                    <a:pt x="211" y="89"/>
                  </a:lnTo>
                  <a:lnTo>
                    <a:pt x="216" y="89"/>
                  </a:lnTo>
                  <a:lnTo>
                    <a:pt x="216" y="73"/>
                  </a:lnTo>
                  <a:lnTo>
                    <a:pt x="221" y="73"/>
                  </a:lnTo>
                  <a:lnTo>
                    <a:pt x="221" y="54"/>
                  </a:lnTo>
                  <a:lnTo>
                    <a:pt x="226" y="54"/>
                  </a:lnTo>
                  <a:lnTo>
                    <a:pt x="226" y="37"/>
                  </a:lnTo>
                  <a:lnTo>
                    <a:pt x="230" y="37"/>
                  </a:lnTo>
                  <a:lnTo>
                    <a:pt x="230" y="30"/>
                  </a:lnTo>
                  <a:lnTo>
                    <a:pt x="235" y="30"/>
                  </a:lnTo>
                  <a:lnTo>
                    <a:pt x="235" y="19"/>
                  </a:lnTo>
                  <a:lnTo>
                    <a:pt x="240" y="19"/>
                  </a:lnTo>
                  <a:lnTo>
                    <a:pt x="240" y="13"/>
                  </a:lnTo>
                  <a:lnTo>
                    <a:pt x="244" y="13"/>
                  </a:lnTo>
                  <a:lnTo>
                    <a:pt x="244" y="7"/>
                  </a:lnTo>
                  <a:lnTo>
                    <a:pt x="260" y="7"/>
                  </a:lnTo>
                  <a:lnTo>
                    <a:pt x="260" y="0"/>
                  </a:lnTo>
                  <a:lnTo>
                    <a:pt x="274" y="0"/>
                  </a:lnTo>
                  <a:lnTo>
                    <a:pt x="274" y="13"/>
                  </a:lnTo>
                  <a:lnTo>
                    <a:pt x="264" y="13"/>
                  </a:lnTo>
                  <a:lnTo>
                    <a:pt x="264" y="19"/>
                  </a:lnTo>
                  <a:lnTo>
                    <a:pt x="254" y="19"/>
                  </a:lnTo>
                  <a:lnTo>
                    <a:pt x="254" y="24"/>
                  </a:lnTo>
                  <a:lnTo>
                    <a:pt x="244" y="24"/>
                  </a:lnTo>
                  <a:lnTo>
                    <a:pt x="244" y="37"/>
                  </a:lnTo>
                  <a:lnTo>
                    <a:pt x="240" y="37"/>
                  </a:lnTo>
                  <a:lnTo>
                    <a:pt x="240" y="42"/>
                  </a:lnTo>
                  <a:lnTo>
                    <a:pt x="235" y="42"/>
                  </a:lnTo>
                  <a:lnTo>
                    <a:pt x="235" y="65"/>
                  </a:lnTo>
                  <a:lnTo>
                    <a:pt x="230" y="65"/>
                  </a:lnTo>
                  <a:lnTo>
                    <a:pt x="230" y="83"/>
                  </a:lnTo>
                  <a:lnTo>
                    <a:pt x="226" y="83"/>
                  </a:lnTo>
                  <a:lnTo>
                    <a:pt x="226" y="101"/>
                  </a:lnTo>
                  <a:lnTo>
                    <a:pt x="221" y="101"/>
                  </a:lnTo>
                  <a:lnTo>
                    <a:pt x="221" y="114"/>
                  </a:lnTo>
                  <a:lnTo>
                    <a:pt x="216" y="114"/>
                  </a:lnTo>
                  <a:lnTo>
                    <a:pt x="216" y="119"/>
                  </a:lnTo>
                  <a:lnTo>
                    <a:pt x="211" y="119"/>
                  </a:lnTo>
                  <a:lnTo>
                    <a:pt x="211" y="125"/>
                  </a:lnTo>
                  <a:lnTo>
                    <a:pt x="207" y="125"/>
                  </a:lnTo>
                  <a:lnTo>
                    <a:pt x="207" y="131"/>
                  </a:lnTo>
                  <a:lnTo>
                    <a:pt x="201" y="131"/>
                  </a:lnTo>
                  <a:lnTo>
                    <a:pt x="201" y="136"/>
                  </a:lnTo>
                  <a:lnTo>
                    <a:pt x="193" y="136"/>
                  </a:lnTo>
                  <a:lnTo>
                    <a:pt x="193" y="143"/>
                  </a:lnTo>
                  <a:lnTo>
                    <a:pt x="167" y="143"/>
                  </a:lnTo>
                  <a:lnTo>
                    <a:pt x="167" y="160"/>
                  </a:lnTo>
                  <a:lnTo>
                    <a:pt x="163" y="160"/>
                  </a:lnTo>
                  <a:lnTo>
                    <a:pt x="163" y="166"/>
                  </a:lnTo>
                  <a:lnTo>
                    <a:pt x="158" y="166"/>
                  </a:lnTo>
                  <a:lnTo>
                    <a:pt x="158" y="179"/>
                  </a:lnTo>
                  <a:lnTo>
                    <a:pt x="149" y="179"/>
                  </a:lnTo>
                  <a:lnTo>
                    <a:pt x="149" y="190"/>
                  </a:lnTo>
                  <a:lnTo>
                    <a:pt x="144" y="190"/>
                  </a:lnTo>
                  <a:lnTo>
                    <a:pt x="144" y="196"/>
                  </a:lnTo>
                  <a:lnTo>
                    <a:pt x="139" y="196"/>
                  </a:lnTo>
                  <a:lnTo>
                    <a:pt x="139" y="201"/>
                  </a:lnTo>
                  <a:lnTo>
                    <a:pt x="130" y="201"/>
                  </a:lnTo>
                  <a:lnTo>
                    <a:pt x="130" y="208"/>
                  </a:lnTo>
                  <a:lnTo>
                    <a:pt x="110" y="208"/>
                  </a:lnTo>
                  <a:lnTo>
                    <a:pt x="110" y="214"/>
                  </a:lnTo>
                  <a:lnTo>
                    <a:pt x="86" y="214"/>
                  </a:lnTo>
                  <a:lnTo>
                    <a:pt x="86" y="220"/>
                  </a:lnTo>
                  <a:lnTo>
                    <a:pt x="81" y="220"/>
                  </a:lnTo>
                  <a:lnTo>
                    <a:pt x="81" y="237"/>
                  </a:lnTo>
                  <a:lnTo>
                    <a:pt x="77" y="237"/>
                  </a:lnTo>
                  <a:lnTo>
                    <a:pt x="77" y="255"/>
                  </a:lnTo>
                  <a:lnTo>
                    <a:pt x="72" y="255"/>
                  </a:lnTo>
                  <a:lnTo>
                    <a:pt x="72" y="260"/>
                  </a:lnTo>
                  <a:lnTo>
                    <a:pt x="67" y="260"/>
                  </a:lnTo>
                  <a:lnTo>
                    <a:pt x="67" y="279"/>
                  </a:lnTo>
                  <a:lnTo>
                    <a:pt x="63" y="279"/>
                  </a:lnTo>
                  <a:lnTo>
                    <a:pt x="63" y="291"/>
                  </a:lnTo>
                  <a:lnTo>
                    <a:pt x="57" y="291"/>
                  </a:lnTo>
                  <a:lnTo>
                    <a:pt x="57" y="309"/>
                  </a:lnTo>
                  <a:lnTo>
                    <a:pt x="53" y="309"/>
                  </a:lnTo>
                  <a:lnTo>
                    <a:pt x="53" y="320"/>
                  </a:lnTo>
                  <a:lnTo>
                    <a:pt x="48" y="320"/>
                  </a:lnTo>
                  <a:lnTo>
                    <a:pt x="48" y="332"/>
                  </a:lnTo>
                  <a:lnTo>
                    <a:pt x="43" y="332"/>
                  </a:lnTo>
                  <a:lnTo>
                    <a:pt x="43" y="344"/>
                  </a:lnTo>
                  <a:lnTo>
                    <a:pt x="37" y="344"/>
                  </a:lnTo>
                  <a:lnTo>
                    <a:pt x="37" y="350"/>
                  </a:lnTo>
                  <a:lnTo>
                    <a:pt x="33" y="350"/>
                  </a:lnTo>
                  <a:lnTo>
                    <a:pt x="33" y="355"/>
                  </a:lnTo>
                  <a:lnTo>
                    <a:pt x="29" y="355"/>
                  </a:lnTo>
                  <a:lnTo>
                    <a:pt x="29" y="361"/>
                  </a:lnTo>
                  <a:lnTo>
                    <a:pt x="23" y="361"/>
                  </a:lnTo>
                  <a:lnTo>
                    <a:pt x="23" y="373"/>
                  </a:lnTo>
                  <a:lnTo>
                    <a:pt x="14" y="373"/>
                  </a:lnTo>
                  <a:lnTo>
                    <a:pt x="14" y="378"/>
                  </a:lnTo>
                  <a:lnTo>
                    <a:pt x="9" y="378"/>
                  </a:lnTo>
                  <a:lnTo>
                    <a:pt x="9" y="385"/>
                  </a:lnTo>
                  <a:lnTo>
                    <a:pt x="0" y="385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94200" y="2400840"/>
              <a:ext cx="9360" cy="936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46"/>
                  </a:moveTo>
                  <a:lnTo>
                    <a:pt x="5" y="46"/>
                  </a:lnTo>
                  <a:lnTo>
                    <a:pt x="5" y="41"/>
                  </a:lnTo>
                  <a:lnTo>
                    <a:pt x="10" y="41"/>
                  </a:lnTo>
                  <a:lnTo>
                    <a:pt x="10" y="35"/>
                  </a:lnTo>
                  <a:lnTo>
                    <a:pt x="14" y="35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29" y="11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9" y="11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20" y="22"/>
                  </a:lnTo>
                  <a:lnTo>
                    <a:pt x="14" y="22"/>
                  </a:lnTo>
                  <a:lnTo>
                    <a:pt x="14" y="35"/>
                  </a:lnTo>
                  <a:lnTo>
                    <a:pt x="10" y="35"/>
                  </a:lnTo>
                  <a:lnTo>
                    <a:pt x="10" y="41"/>
                  </a:lnTo>
                  <a:lnTo>
                    <a:pt x="5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94200" y="2399400"/>
              <a:ext cx="16200" cy="140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60"/>
                  </a:moveTo>
                  <a:lnTo>
                    <a:pt x="0" y="65"/>
                  </a:lnTo>
                  <a:lnTo>
                    <a:pt x="10" y="65"/>
                  </a:lnTo>
                  <a:lnTo>
                    <a:pt x="10" y="60"/>
                  </a:lnTo>
                  <a:lnTo>
                    <a:pt x="14" y="60"/>
                  </a:lnTo>
                  <a:lnTo>
                    <a:pt x="14" y="52"/>
                  </a:lnTo>
                  <a:lnTo>
                    <a:pt x="20" y="52"/>
                  </a:lnTo>
                  <a:lnTo>
                    <a:pt x="20" y="47"/>
                  </a:lnTo>
                  <a:lnTo>
                    <a:pt x="24" y="47"/>
                  </a:lnTo>
                  <a:lnTo>
                    <a:pt x="24" y="41"/>
                  </a:lnTo>
                  <a:lnTo>
                    <a:pt x="29" y="41"/>
                  </a:lnTo>
                  <a:lnTo>
                    <a:pt x="29" y="28"/>
                  </a:lnTo>
                  <a:lnTo>
                    <a:pt x="44" y="28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58" y="11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11"/>
                  </a:lnTo>
                  <a:lnTo>
                    <a:pt x="54" y="11"/>
                  </a:lnTo>
                  <a:lnTo>
                    <a:pt x="54" y="17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44" y="23"/>
                  </a:lnTo>
                  <a:lnTo>
                    <a:pt x="44" y="28"/>
                  </a:lnTo>
                  <a:lnTo>
                    <a:pt x="29" y="28"/>
                  </a:lnTo>
                  <a:lnTo>
                    <a:pt x="29" y="41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0" y="47"/>
                  </a:lnTo>
                  <a:lnTo>
                    <a:pt x="20" y="52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0" y="60"/>
                  </a:lnTo>
                  <a:lnTo>
                    <a:pt x="10" y="65"/>
                  </a:lnTo>
                  <a:lnTo>
                    <a:pt x="5" y="65"/>
                  </a:lnTo>
                  <a:lnTo>
                    <a:pt x="5" y="70"/>
                  </a:lnTo>
                  <a:lnTo>
                    <a:pt x="0" y="7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205720" y="2398680"/>
              <a:ext cx="2160" cy="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29480" y="2013480"/>
              <a:ext cx="30960" cy="30240"/>
            </a:xfrm>
            <a:custGeom>
              <a:avLst/>
              <a:gdLst/>
              <a:ahLst/>
              <a:rect l="l" t="t" r="r" b="b"/>
              <a:pathLst>
                <a:path w="120" h="154">
                  <a:moveTo>
                    <a:pt x="0" y="59"/>
                  </a:moveTo>
                  <a:lnTo>
                    <a:pt x="5" y="59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82" y="5"/>
                  </a:lnTo>
                  <a:lnTo>
                    <a:pt x="82" y="13"/>
                  </a:lnTo>
                  <a:lnTo>
                    <a:pt x="96" y="13"/>
                  </a:lnTo>
                  <a:lnTo>
                    <a:pt x="96" y="18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20" y="24"/>
                  </a:lnTo>
                  <a:lnTo>
                    <a:pt x="120" y="54"/>
                  </a:lnTo>
                  <a:lnTo>
                    <a:pt x="116" y="54"/>
                  </a:lnTo>
                  <a:lnTo>
                    <a:pt x="116" y="83"/>
                  </a:lnTo>
                  <a:lnTo>
                    <a:pt x="110" y="83"/>
                  </a:lnTo>
                  <a:lnTo>
                    <a:pt x="110" y="107"/>
                  </a:lnTo>
                  <a:lnTo>
                    <a:pt x="105" y="107"/>
                  </a:lnTo>
                  <a:lnTo>
                    <a:pt x="105" y="136"/>
                  </a:lnTo>
                  <a:lnTo>
                    <a:pt x="100" y="136"/>
                  </a:lnTo>
                  <a:lnTo>
                    <a:pt x="100" y="149"/>
                  </a:lnTo>
                  <a:lnTo>
                    <a:pt x="96" y="149"/>
                  </a:lnTo>
                  <a:lnTo>
                    <a:pt x="96" y="154"/>
                  </a:lnTo>
                  <a:lnTo>
                    <a:pt x="91" y="154"/>
                  </a:lnTo>
                  <a:lnTo>
                    <a:pt x="91" y="149"/>
                  </a:lnTo>
                  <a:lnTo>
                    <a:pt x="86" y="149"/>
                  </a:lnTo>
                  <a:lnTo>
                    <a:pt x="86" y="136"/>
                  </a:lnTo>
                  <a:lnTo>
                    <a:pt x="67" y="136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63" y="124"/>
                  </a:lnTo>
                  <a:lnTo>
                    <a:pt x="53" y="124"/>
                  </a:lnTo>
                  <a:lnTo>
                    <a:pt x="53" y="130"/>
                  </a:lnTo>
                  <a:lnTo>
                    <a:pt x="48" y="130"/>
                  </a:lnTo>
                  <a:lnTo>
                    <a:pt x="48" y="136"/>
                  </a:lnTo>
                  <a:lnTo>
                    <a:pt x="33" y="136"/>
                  </a:lnTo>
                  <a:lnTo>
                    <a:pt x="33" y="130"/>
                  </a:lnTo>
                  <a:lnTo>
                    <a:pt x="29" y="130"/>
                  </a:lnTo>
                  <a:lnTo>
                    <a:pt x="33" y="130"/>
                  </a:lnTo>
                  <a:lnTo>
                    <a:pt x="33" y="113"/>
                  </a:lnTo>
                  <a:lnTo>
                    <a:pt x="23" y="113"/>
                  </a:lnTo>
                  <a:lnTo>
                    <a:pt x="23" y="124"/>
                  </a:lnTo>
                  <a:lnTo>
                    <a:pt x="14" y="124"/>
                  </a:lnTo>
                  <a:lnTo>
                    <a:pt x="14" y="118"/>
                  </a:lnTo>
                  <a:lnTo>
                    <a:pt x="9" y="118"/>
                  </a:lnTo>
                  <a:lnTo>
                    <a:pt x="9" y="107"/>
                  </a:lnTo>
                  <a:lnTo>
                    <a:pt x="5" y="107"/>
                  </a:lnTo>
                  <a:lnTo>
                    <a:pt x="5" y="100"/>
                  </a:lnTo>
                  <a:lnTo>
                    <a:pt x="0" y="10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37040" y="1992960"/>
              <a:ext cx="45720" cy="27000"/>
            </a:xfrm>
            <a:custGeom>
              <a:avLst/>
              <a:gdLst/>
              <a:ahLst/>
              <a:rect l="l" t="t" r="r" b="b"/>
              <a:pathLst>
                <a:path w="178" h="143">
                  <a:moveTo>
                    <a:pt x="0" y="35"/>
                  </a:moveTo>
                  <a:lnTo>
                    <a:pt x="4" y="35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0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57" y="7"/>
                  </a:lnTo>
                  <a:lnTo>
                    <a:pt x="57" y="12"/>
                  </a:lnTo>
                  <a:lnTo>
                    <a:pt x="76" y="12"/>
                  </a:lnTo>
                  <a:lnTo>
                    <a:pt x="76" y="18"/>
                  </a:lnTo>
                  <a:lnTo>
                    <a:pt x="91" y="18"/>
                  </a:lnTo>
                  <a:lnTo>
                    <a:pt x="91" y="24"/>
                  </a:lnTo>
                  <a:lnTo>
                    <a:pt x="110" y="24"/>
                  </a:lnTo>
                  <a:lnTo>
                    <a:pt x="110" y="29"/>
                  </a:lnTo>
                  <a:lnTo>
                    <a:pt x="124" y="29"/>
                  </a:lnTo>
                  <a:lnTo>
                    <a:pt x="124" y="35"/>
                  </a:lnTo>
                  <a:lnTo>
                    <a:pt x="144" y="35"/>
                  </a:lnTo>
                  <a:lnTo>
                    <a:pt x="144" y="42"/>
                  </a:lnTo>
                  <a:lnTo>
                    <a:pt x="168" y="42"/>
                  </a:lnTo>
                  <a:lnTo>
                    <a:pt x="168" y="48"/>
                  </a:lnTo>
                  <a:lnTo>
                    <a:pt x="178" y="48"/>
                  </a:lnTo>
                  <a:lnTo>
                    <a:pt x="178" y="94"/>
                  </a:lnTo>
                  <a:lnTo>
                    <a:pt x="173" y="94"/>
                  </a:lnTo>
                  <a:lnTo>
                    <a:pt x="173" y="143"/>
                  </a:lnTo>
                  <a:lnTo>
                    <a:pt x="159" y="143"/>
                  </a:lnTo>
                  <a:lnTo>
                    <a:pt x="159" y="136"/>
                  </a:lnTo>
                  <a:lnTo>
                    <a:pt x="144" y="136"/>
                  </a:lnTo>
                  <a:lnTo>
                    <a:pt x="144" y="130"/>
                  </a:lnTo>
                  <a:lnTo>
                    <a:pt x="130" y="130"/>
                  </a:lnTo>
                  <a:lnTo>
                    <a:pt x="130" y="124"/>
                  </a:lnTo>
                  <a:lnTo>
                    <a:pt x="115" y="124"/>
                  </a:lnTo>
                  <a:lnTo>
                    <a:pt x="115" y="119"/>
                  </a:lnTo>
                  <a:lnTo>
                    <a:pt x="97" y="119"/>
                  </a:lnTo>
                  <a:lnTo>
                    <a:pt x="97" y="111"/>
                  </a:lnTo>
                  <a:lnTo>
                    <a:pt x="81" y="111"/>
                  </a:lnTo>
                  <a:lnTo>
                    <a:pt x="81" y="106"/>
                  </a:lnTo>
                  <a:lnTo>
                    <a:pt x="71" y="106"/>
                  </a:lnTo>
                  <a:lnTo>
                    <a:pt x="71" y="101"/>
                  </a:lnTo>
                  <a:lnTo>
                    <a:pt x="57" y="101"/>
                  </a:lnTo>
                  <a:lnTo>
                    <a:pt x="57" y="94"/>
                  </a:lnTo>
                  <a:lnTo>
                    <a:pt x="43" y="94"/>
                  </a:lnTo>
                  <a:lnTo>
                    <a:pt x="43" y="89"/>
                  </a:lnTo>
                  <a:lnTo>
                    <a:pt x="28" y="89"/>
                  </a:lnTo>
                  <a:lnTo>
                    <a:pt x="28" y="83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9" y="78"/>
                  </a:lnTo>
                  <a:lnTo>
                    <a:pt x="9" y="70"/>
                  </a:lnTo>
                  <a:lnTo>
                    <a:pt x="4" y="70"/>
                  </a:lnTo>
                  <a:lnTo>
                    <a:pt x="4" y="65"/>
                  </a:lnTo>
                  <a:lnTo>
                    <a:pt x="0" y="6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1720" y="1974240"/>
              <a:ext cx="18720" cy="1692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23"/>
                  </a:moveTo>
                  <a:lnTo>
                    <a:pt x="5" y="23"/>
                  </a:lnTo>
                  <a:lnTo>
                    <a:pt x="5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52" y="5"/>
                  </a:lnTo>
                  <a:lnTo>
                    <a:pt x="52" y="11"/>
                  </a:lnTo>
                  <a:lnTo>
                    <a:pt x="68" y="11"/>
                  </a:lnTo>
                  <a:lnTo>
                    <a:pt x="68" y="17"/>
                  </a:lnTo>
                  <a:lnTo>
                    <a:pt x="72" y="17"/>
                  </a:lnTo>
                  <a:lnTo>
                    <a:pt x="72" y="82"/>
                  </a:lnTo>
                  <a:lnTo>
                    <a:pt x="68" y="82"/>
                  </a:lnTo>
                  <a:lnTo>
                    <a:pt x="68" y="88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29" y="82"/>
                  </a:lnTo>
                  <a:lnTo>
                    <a:pt x="29" y="77"/>
                  </a:lnTo>
                  <a:lnTo>
                    <a:pt x="15" y="77"/>
                  </a:lnTo>
                  <a:lnTo>
                    <a:pt x="15" y="69"/>
                  </a:lnTo>
                  <a:lnTo>
                    <a:pt x="5" y="69"/>
                  </a:lnTo>
                  <a:lnTo>
                    <a:pt x="5" y="64"/>
                  </a:lnTo>
                  <a:lnTo>
                    <a:pt x="0" y="6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45680" y="1960200"/>
              <a:ext cx="51480" cy="20880"/>
            </a:xfrm>
            <a:custGeom>
              <a:avLst/>
              <a:gdLst/>
              <a:ahLst/>
              <a:rect l="l" t="t" r="r" b="b"/>
              <a:pathLst>
                <a:path w="197" h="108">
                  <a:moveTo>
                    <a:pt x="0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42" y="7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63" y="18"/>
                  </a:lnTo>
                  <a:lnTo>
                    <a:pt x="63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119" y="30"/>
                  </a:lnTo>
                  <a:lnTo>
                    <a:pt x="119" y="35"/>
                  </a:lnTo>
                  <a:lnTo>
                    <a:pt x="130" y="35"/>
                  </a:lnTo>
                  <a:lnTo>
                    <a:pt x="130" y="42"/>
                  </a:lnTo>
                  <a:lnTo>
                    <a:pt x="139" y="42"/>
                  </a:lnTo>
                  <a:lnTo>
                    <a:pt x="139" y="48"/>
                  </a:lnTo>
                  <a:lnTo>
                    <a:pt x="148" y="48"/>
                  </a:lnTo>
                  <a:lnTo>
                    <a:pt x="148" y="54"/>
                  </a:lnTo>
                  <a:lnTo>
                    <a:pt x="172" y="54"/>
                  </a:lnTo>
                  <a:lnTo>
                    <a:pt x="172" y="59"/>
                  </a:lnTo>
                  <a:lnTo>
                    <a:pt x="191" y="59"/>
                  </a:lnTo>
                  <a:lnTo>
                    <a:pt x="191" y="67"/>
                  </a:lnTo>
                  <a:lnTo>
                    <a:pt x="197" y="67"/>
                  </a:lnTo>
                  <a:lnTo>
                    <a:pt x="197" y="83"/>
                  </a:lnTo>
                  <a:lnTo>
                    <a:pt x="191" y="83"/>
                  </a:lnTo>
                  <a:lnTo>
                    <a:pt x="191" y="100"/>
                  </a:lnTo>
                  <a:lnTo>
                    <a:pt x="186" y="100"/>
                  </a:lnTo>
                  <a:lnTo>
                    <a:pt x="186" y="108"/>
                  </a:lnTo>
                  <a:lnTo>
                    <a:pt x="163" y="108"/>
                  </a:lnTo>
                  <a:lnTo>
                    <a:pt x="163" y="100"/>
                  </a:lnTo>
                  <a:lnTo>
                    <a:pt x="144" y="100"/>
                  </a:lnTo>
                  <a:lnTo>
                    <a:pt x="144" y="95"/>
                  </a:lnTo>
                  <a:lnTo>
                    <a:pt x="119" y="95"/>
                  </a:lnTo>
                  <a:lnTo>
                    <a:pt x="119" y="89"/>
                  </a:lnTo>
                  <a:lnTo>
                    <a:pt x="110" y="89"/>
                  </a:lnTo>
                  <a:lnTo>
                    <a:pt x="110" y="83"/>
                  </a:lnTo>
                  <a:lnTo>
                    <a:pt x="96" y="83"/>
                  </a:lnTo>
                  <a:lnTo>
                    <a:pt x="96" y="77"/>
                  </a:lnTo>
                  <a:lnTo>
                    <a:pt x="76" y="77"/>
                  </a:lnTo>
                  <a:lnTo>
                    <a:pt x="76" y="72"/>
                  </a:lnTo>
                  <a:lnTo>
                    <a:pt x="57" y="72"/>
                  </a:lnTo>
                  <a:lnTo>
                    <a:pt x="57" y="67"/>
                  </a:lnTo>
                  <a:lnTo>
                    <a:pt x="42" y="67"/>
                  </a:lnTo>
                  <a:lnTo>
                    <a:pt x="42" y="59"/>
                  </a:lnTo>
                  <a:lnTo>
                    <a:pt x="33" y="59"/>
                  </a:lnTo>
                  <a:lnTo>
                    <a:pt x="33" y="54"/>
                  </a:lnTo>
                  <a:lnTo>
                    <a:pt x="23" y="54"/>
                  </a:lnTo>
                  <a:lnTo>
                    <a:pt x="23" y="48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4" y="42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47840" y="2131200"/>
              <a:ext cx="464040" cy="957600"/>
            </a:xfrm>
            <a:custGeom>
              <a:avLst/>
              <a:gdLst/>
              <a:ahLst/>
              <a:rect l="l" t="t" r="r" b="b"/>
              <a:pathLst>
                <a:path w="1783" h="4912">
                  <a:moveTo>
                    <a:pt x="0" y="2890"/>
                  </a:moveTo>
                  <a:lnTo>
                    <a:pt x="5" y="2890"/>
                  </a:lnTo>
                  <a:lnTo>
                    <a:pt x="5" y="2879"/>
                  </a:lnTo>
                  <a:lnTo>
                    <a:pt x="10" y="2879"/>
                  </a:lnTo>
                  <a:lnTo>
                    <a:pt x="10" y="2873"/>
                  </a:lnTo>
                  <a:lnTo>
                    <a:pt x="14" y="2873"/>
                  </a:lnTo>
                  <a:lnTo>
                    <a:pt x="14" y="2866"/>
                  </a:lnTo>
                  <a:lnTo>
                    <a:pt x="19" y="2866"/>
                  </a:lnTo>
                  <a:lnTo>
                    <a:pt x="19" y="2860"/>
                  </a:lnTo>
                  <a:lnTo>
                    <a:pt x="24" y="2860"/>
                  </a:lnTo>
                  <a:lnTo>
                    <a:pt x="24" y="2855"/>
                  </a:lnTo>
                  <a:lnTo>
                    <a:pt x="28" y="2855"/>
                  </a:lnTo>
                  <a:lnTo>
                    <a:pt x="28" y="2849"/>
                  </a:lnTo>
                  <a:lnTo>
                    <a:pt x="33" y="2849"/>
                  </a:lnTo>
                  <a:lnTo>
                    <a:pt x="33" y="2843"/>
                  </a:lnTo>
                  <a:lnTo>
                    <a:pt x="44" y="2843"/>
                  </a:lnTo>
                  <a:lnTo>
                    <a:pt x="44" y="2838"/>
                  </a:lnTo>
                  <a:lnTo>
                    <a:pt x="48" y="2838"/>
                  </a:lnTo>
                  <a:lnTo>
                    <a:pt x="48" y="2830"/>
                  </a:lnTo>
                  <a:lnTo>
                    <a:pt x="54" y="2830"/>
                  </a:lnTo>
                  <a:lnTo>
                    <a:pt x="54" y="2825"/>
                  </a:lnTo>
                  <a:lnTo>
                    <a:pt x="58" y="2825"/>
                  </a:lnTo>
                  <a:lnTo>
                    <a:pt x="58" y="2819"/>
                  </a:lnTo>
                  <a:lnTo>
                    <a:pt x="62" y="2819"/>
                  </a:lnTo>
                  <a:lnTo>
                    <a:pt x="62" y="2814"/>
                  </a:lnTo>
                  <a:lnTo>
                    <a:pt x="72" y="2814"/>
                  </a:lnTo>
                  <a:lnTo>
                    <a:pt x="72" y="2808"/>
                  </a:lnTo>
                  <a:lnTo>
                    <a:pt x="81" y="2808"/>
                  </a:lnTo>
                  <a:lnTo>
                    <a:pt x="81" y="2797"/>
                  </a:lnTo>
                  <a:lnTo>
                    <a:pt x="91" y="2797"/>
                  </a:lnTo>
                  <a:lnTo>
                    <a:pt x="91" y="2790"/>
                  </a:lnTo>
                  <a:lnTo>
                    <a:pt x="95" y="2790"/>
                  </a:lnTo>
                  <a:lnTo>
                    <a:pt x="95" y="2784"/>
                  </a:lnTo>
                  <a:lnTo>
                    <a:pt x="105" y="2784"/>
                  </a:lnTo>
                  <a:lnTo>
                    <a:pt x="105" y="2779"/>
                  </a:lnTo>
                  <a:lnTo>
                    <a:pt x="110" y="2779"/>
                  </a:lnTo>
                  <a:lnTo>
                    <a:pt x="110" y="2772"/>
                  </a:lnTo>
                  <a:lnTo>
                    <a:pt x="116" y="2772"/>
                  </a:lnTo>
                  <a:lnTo>
                    <a:pt x="116" y="2767"/>
                  </a:lnTo>
                  <a:lnTo>
                    <a:pt x="121" y="2767"/>
                  </a:lnTo>
                  <a:lnTo>
                    <a:pt x="121" y="2760"/>
                  </a:lnTo>
                  <a:lnTo>
                    <a:pt x="130" y="2760"/>
                  </a:lnTo>
                  <a:lnTo>
                    <a:pt x="130" y="2754"/>
                  </a:lnTo>
                  <a:lnTo>
                    <a:pt x="135" y="2754"/>
                  </a:lnTo>
                  <a:lnTo>
                    <a:pt x="135" y="2748"/>
                  </a:lnTo>
                  <a:lnTo>
                    <a:pt x="144" y="2748"/>
                  </a:lnTo>
                  <a:lnTo>
                    <a:pt x="144" y="2743"/>
                  </a:lnTo>
                  <a:lnTo>
                    <a:pt x="149" y="2743"/>
                  </a:lnTo>
                  <a:lnTo>
                    <a:pt x="149" y="2738"/>
                  </a:lnTo>
                  <a:lnTo>
                    <a:pt x="158" y="2738"/>
                  </a:lnTo>
                  <a:lnTo>
                    <a:pt x="158" y="2730"/>
                  </a:lnTo>
                  <a:lnTo>
                    <a:pt x="168" y="2730"/>
                  </a:lnTo>
                  <a:lnTo>
                    <a:pt x="168" y="2725"/>
                  </a:lnTo>
                  <a:lnTo>
                    <a:pt x="173" y="2725"/>
                  </a:lnTo>
                  <a:lnTo>
                    <a:pt x="173" y="2719"/>
                  </a:lnTo>
                  <a:lnTo>
                    <a:pt x="188" y="2719"/>
                  </a:lnTo>
                  <a:lnTo>
                    <a:pt x="188" y="2713"/>
                  </a:lnTo>
                  <a:lnTo>
                    <a:pt x="192" y="2713"/>
                  </a:lnTo>
                  <a:lnTo>
                    <a:pt x="192" y="2707"/>
                  </a:lnTo>
                  <a:lnTo>
                    <a:pt x="198" y="2707"/>
                  </a:lnTo>
                  <a:lnTo>
                    <a:pt x="198" y="2702"/>
                  </a:lnTo>
                  <a:lnTo>
                    <a:pt x="202" y="2702"/>
                  </a:lnTo>
                  <a:lnTo>
                    <a:pt x="202" y="2696"/>
                  </a:lnTo>
                  <a:lnTo>
                    <a:pt x="207" y="2696"/>
                  </a:lnTo>
                  <a:lnTo>
                    <a:pt x="207" y="2689"/>
                  </a:lnTo>
                  <a:lnTo>
                    <a:pt x="212" y="2689"/>
                  </a:lnTo>
                  <a:lnTo>
                    <a:pt x="212" y="2684"/>
                  </a:lnTo>
                  <a:lnTo>
                    <a:pt x="221" y="2684"/>
                  </a:lnTo>
                  <a:lnTo>
                    <a:pt x="221" y="2678"/>
                  </a:lnTo>
                  <a:lnTo>
                    <a:pt x="225" y="2678"/>
                  </a:lnTo>
                  <a:lnTo>
                    <a:pt x="225" y="2672"/>
                  </a:lnTo>
                  <a:lnTo>
                    <a:pt x="231" y="2672"/>
                  </a:lnTo>
                  <a:lnTo>
                    <a:pt x="231" y="2666"/>
                  </a:lnTo>
                  <a:lnTo>
                    <a:pt x="240" y="2666"/>
                  </a:lnTo>
                  <a:lnTo>
                    <a:pt x="240" y="2661"/>
                  </a:lnTo>
                  <a:lnTo>
                    <a:pt x="245" y="2661"/>
                  </a:lnTo>
                  <a:lnTo>
                    <a:pt x="245" y="2653"/>
                  </a:lnTo>
                  <a:lnTo>
                    <a:pt x="254" y="2653"/>
                  </a:lnTo>
                  <a:lnTo>
                    <a:pt x="254" y="2648"/>
                  </a:lnTo>
                  <a:lnTo>
                    <a:pt x="260" y="2648"/>
                  </a:lnTo>
                  <a:lnTo>
                    <a:pt x="260" y="2643"/>
                  </a:lnTo>
                  <a:lnTo>
                    <a:pt x="265" y="2643"/>
                  </a:lnTo>
                  <a:lnTo>
                    <a:pt x="265" y="2637"/>
                  </a:lnTo>
                  <a:lnTo>
                    <a:pt x="274" y="2637"/>
                  </a:lnTo>
                  <a:lnTo>
                    <a:pt x="274" y="2631"/>
                  </a:lnTo>
                  <a:lnTo>
                    <a:pt x="279" y="2631"/>
                  </a:lnTo>
                  <a:lnTo>
                    <a:pt x="279" y="2624"/>
                  </a:lnTo>
                  <a:lnTo>
                    <a:pt x="288" y="2624"/>
                  </a:lnTo>
                  <a:lnTo>
                    <a:pt x="288" y="2619"/>
                  </a:lnTo>
                  <a:lnTo>
                    <a:pt x="293" y="2619"/>
                  </a:lnTo>
                  <a:lnTo>
                    <a:pt x="293" y="2612"/>
                  </a:lnTo>
                  <a:lnTo>
                    <a:pt x="298" y="2612"/>
                  </a:lnTo>
                  <a:lnTo>
                    <a:pt x="298" y="2607"/>
                  </a:lnTo>
                  <a:lnTo>
                    <a:pt x="307" y="2607"/>
                  </a:lnTo>
                  <a:lnTo>
                    <a:pt x="307" y="2601"/>
                  </a:lnTo>
                  <a:lnTo>
                    <a:pt x="312" y="2601"/>
                  </a:lnTo>
                  <a:lnTo>
                    <a:pt x="312" y="2594"/>
                  </a:lnTo>
                  <a:lnTo>
                    <a:pt x="321" y="2594"/>
                  </a:lnTo>
                  <a:lnTo>
                    <a:pt x="321" y="2589"/>
                  </a:lnTo>
                  <a:lnTo>
                    <a:pt x="326" y="2589"/>
                  </a:lnTo>
                  <a:lnTo>
                    <a:pt x="326" y="2583"/>
                  </a:lnTo>
                  <a:lnTo>
                    <a:pt x="332" y="2583"/>
                  </a:lnTo>
                  <a:lnTo>
                    <a:pt x="332" y="2577"/>
                  </a:lnTo>
                  <a:lnTo>
                    <a:pt x="336" y="2577"/>
                  </a:lnTo>
                  <a:lnTo>
                    <a:pt x="336" y="2571"/>
                  </a:lnTo>
                  <a:lnTo>
                    <a:pt x="342" y="2571"/>
                  </a:lnTo>
                  <a:lnTo>
                    <a:pt x="342" y="2566"/>
                  </a:lnTo>
                  <a:lnTo>
                    <a:pt x="346" y="2566"/>
                  </a:lnTo>
                  <a:lnTo>
                    <a:pt x="346" y="2559"/>
                  </a:lnTo>
                  <a:lnTo>
                    <a:pt x="351" y="2559"/>
                  </a:lnTo>
                  <a:lnTo>
                    <a:pt x="351" y="2553"/>
                  </a:lnTo>
                  <a:lnTo>
                    <a:pt x="356" y="2553"/>
                  </a:lnTo>
                  <a:lnTo>
                    <a:pt x="356" y="2547"/>
                  </a:lnTo>
                  <a:lnTo>
                    <a:pt x="360" y="2547"/>
                  </a:lnTo>
                  <a:lnTo>
                    <a:pt x="360" y="2542"/>
                  </a:lnTo>
                  <a:lnTo>
                    <a:pt x="365" y="2542"/>
                  </a:lnTo>
                  <a:lnTo>
                    <a:pt x="365" y="2536"/>
                  </a:lnTo>
                  <a:lnTo>
                    <a:pt x="369" y="2536"/>
                  </a:lnTo>
                  <a:lnTo>
                    <a:pt x="369" y="2530"/>
                  </a:lnTo>
                  <a:lnTo>
                    <a:pt x="375" y="2530"/>
                  </a:lnTo>
                  <a:lnTo>
                    <a:pt x="375" y="2525"/>
                  </a:lnTo>
                  <a:lnTo>
                    <a:pt x="379" y="2525"/>
                  </a:lnTo>
                  <a:lnTo>
                    <a:pt x="379" y="2518"/>
                  </a:lnTo>
                  <a:lnTo>
                    <a:pt x="384" y="2518"/>
                  </a:lnTo>
                  <a:lnTo>
                    <a:pt x="384" y="2512"/>
                  </a:lnTo>
                  <a:lnTo>
                    <a:pt x="389" y="2512"/>
                  </a:lnTo>
                  <a:lnTo>
                    <a:pt x="389" y="2506"/>
                  </a:lnTo>
                  <a:lnTo>
                    <a:pt x="393" y="2506"/>
                  </a:lnTo>
                  <a:lnTo>
                    <a:pt x="393" y="2501"/>
                  </a:lnTo>
                  <a:lnTo>
                    <a:pt x="398" y="2501"/>
                  </a:lnTo>
                  <a:lnTo>
                    <a:pt x="398" y="2493"/>
                  </a:lnTo>
                  <a:lnTo>
                    <a:pt x="413" y="2493"/>
                  </a:lnTo>
                  <a:lnTo>
                    <a:pt x="413" y="2488"/>
                  </a:lnTo>
                  <a:lnTo>
                    <a:pt x="418" y="2488"/>
                  </a:lnTo>
                  <a:lnTo>
                    <a:pt x="418" y="2483"/>
                  </a:lnTo>
                  <a:lnTo>
                    <a:pt x="423" y="2483"/>
                  </a:lnTo>
                  <a:lnTo>
                    <a:pt x="423" y="2476"/>
                  </a:lnTo>
                  <a:lnTo>
                    <a:pt x="432" y="2476"/>
                  </a:lnTo>
                  <a:lnTo>
                    <a:pt x="432" y="2471"/>
                  </a:lnTo>
                  <a:lnTo>
                    <a:pt x="442" y="2471"/>
                  </a:lnTo>
                  <a:lnTo>
                    <a:pt x="442" y="2465"/>
                  </a:lnTo>
                  <a:lnTo>
                    <a:pt x="446" y="2465"/>
                  </a:lnTo>
                  <a:lnTo>
                    <a:pt x="446" y="2460"/>
                  </a:lnTo>
                  <a:lnTo>
                    <a:pt x="451" y="2460"/>
                  </a:lnTo>
                  <a:lnTo>
                    <a:pt x="451" y="2447"/>
                  </a:lnTo>
                  <a:lnTo>
                    <a:pt x="456" y="2447"/>
                  </a:lnTo>
                  <a:lnTo>
                    <a:pt x="456" y="2441"/>
                  </a:lnTo>
                  <a:lnTo>
                    <a:pt x="461" y="2441"/>
                  </a:lnTo>
                  <a:lnTo>
                    <a:pt x="461" y="2435"/>
                  </a:lnTo>
                  <a:lnTo>
                    <a:pt x="465" y="2435"/>
                  </a:lnTo>
                  <a:lnTo>
                    <a:pt x="465" y="2430"/>
                  </a:lnTo>
                  <a:lnTo>
                    <a:pt x="476" y="2430"/>
                  </a:lnTo>
                  <a:lnTo>
                    <a:pt x="476" y="2423"/>
                  </a:lnTo>
                  <a:lnTo>
                    <a:pt x="480" y="2423"/>
                  </a:lnTo>
                  <a:lnTo>
                    <a:pt x="480" y="2417"/>
                  </a:lnTo>
                  <a:lnTo>
                    <a:pt x="486" y="2417"/>
                  </a:lnTo>
                  <a:lnTo>
                    <a:pt x="486" y="2411"/>
                  </a:lnTo>
                  <a:lnTo>
                    <a:pt x="495" y="2411"/>
                  </a:lnTo>
                  <a:lnTo>
                    <a:pt x="495" y="2406"/>
                  </a:lnTo>
                  <a:lnTo>
                    <a:pt x="500" y="2406"/>
                  </a:lnTo>
                  <a:lnTo>
                    <a:pt x="500" y="2400"/>
                  </a:lnTo>
                  <a:lnTo>
                    <a:pt x="505" y="2400"/>
                  </a:lnTo>
                  <a:lnTo>
                    <a:pt x="505" y="2394"/>
                  </a:lnTo>
                  <a:lnTo>
                    <a:pt x="509" y="2394"/>
                  </a:lnTo>
                  <a:lnTo>
                    <a:pt x="509" y="2389"/>
                  </a:lnTo>
                  <a:lnTo>
                    <a:pt x="514" y="2389"/>
                  </a:lnTo>
                  <a:lnTo>
                    <a:pt x="514" y="2382"/>
                  </a:lnTo>
                  <a:lnTo>
                    <a:pt x="519" y="2382"/>
                  </a:lnTo>
                  <a:lnTo>
                    <a:pt x="519" y="2376"/>
                  </a:lnTo>
                  <a:lnTo>
                    <a:pt x="523" y="2376"/>
                  </a:lnTo>
                  <a:lnTo>
                    <a:pt x="523" y="2371"/>
                  </a:lnTo>
                  <a:lnTo>
                    <a:pt x="528" y="2371"/>
                  </a:lnTo>
                  <a:lnTo>
                    <a:pt x="528" y="2365"/>
                  </a:lnTo>
                  <a:lnTo>
                    <a:pt x="538" y="2365"/>
                  </a:lnTo>
                  <a:lnTo>
                    <a:pt x="538" y="2359"/>
                  </a:lnTo>
                  <a:lnTo>
                    <a:pt x="542" y="2359"/>
                  </a:lnTo>
                  <a:lnTo>
                    <a:pt x="542" y="2352"/>
                  </a:lnTo>
                  <a:lnTo>
                    <a:pt x="547" y="2352"/>
                  </a:lnTo>
                  <a:lnTo>
                    <a:pt x="547" y="2347"/>
                  </a:lnTo>
                  <a:lnTo>
                    <a:pt x="558" y="2347"/>
                  </a:lnTo>
                  <a:lnTo>
                    <a:pt x="558" y="2341"/>
                  </a:lnTo>
                  <a:lnTo>
                    <a:pt x="562" y="2341"/>
                  </a:lnTo>
                  <a:lnTo>
                    <a:pt x="562" y="2335"/>
                  </a:lnTo>
                  <a:lnTo>
                    <a:pt x="567" y="2335"/>
                  </a:lnTo>
                  <a:lnTo>
                    <a:pt x="567" y="2329"/>
                  </a:lnTo>
                  <a:lnTo>
                    <a:pt x="576" y="2329"/>
                  </a:lnTo>
                  <a:lnTo>
                    <a:pt x="576" y="2324"/>
                  </a:lnTo>
                  <a:lnTo>
                    <a:pt x="582" y="2324"/>
                  </a:lnTo>
                  <a:lnTo>
                    <a:pt x="582" y="2317"/>
                  </a:lnTo>
                  <a:lnTo>
                    <a:pt x="586" y="2317"/>
                  </a:lnTo>
                  <a:lnTo>
                    <a:pt x="586" y="2311"/>
                  </a:lnTo>
                  <a:lnTo>
                    <a:pt x="591" y="2311"/>
                  </a:lnTo>
                  <a:lnTo>
                    <a:pt x="591" y="2306"/>
                  </a:lnTo>
                  <a:lnTo>
                    <a:pt x="596" y="2306"/>
                  </a:lnTo>
                  <a:lnTo>
                    <a:pt x="596" y="2299"/>
                  </a:lnTo>
                  <a:lnTo>
                    <a:pt x="601" y="2299"/>
                  </a:lnTo>
                  <a:lnTo>
                    <a:pt x="601" y="2294"/>
                  </a:lnTo>
                  <a:lnTo>
                    <a:pt x="605" y="2294"/>
                  </a:lnTo>
                  <a:lnTo>
                    <a:pt x="605" y="2287"/>
                  </a:lnTo>
                  <a:lnTo>
                    <a:pt x="609" y="2287"/>
                  </a:lnTo>
                  <a:lnTo>
                    <a:pt x="609" y="2281"/>
                  </a:lnTo>
                  <a:lnTo>
                    <a:pt x="615" y="2281"/>
                  </a:lnTo>
                  <a:lnTo>
                    <a:pt x="615" y="2276"/>
                  </a:lnTo>
                  <a:lnTo>
                    <a:pt x="625" y="2276"/>
                  </a:lnTo>
                  <a:lnTo>
                    <a:pt x="625" y="2270"/>
                  </a:lnTo>
                  <a:lnTo>
                    <a:pt x="630" y="2270"/>
                  </a:lnTo>
                  <a:lnTo>
                    <a:pt x="630" y="2265"/>
                  </a:lnTo>
                  <a:lnTo>
                    <a:pt x="634" y="2265"/>
                  </a:lnTo>
                  <a:lnTo>
                    <a:pt x="634" y="2258"/>
                  </a:lnTo>
                  <a:lnTo>
                    <a:pt x="639" y="2258"/>
                  </a:lnTo>
                  <a:lnTo>
                    <a:pt x="639" y="2253"/>
                  </a:lnTo>
                  <a:lnTo>
                    <a:pt x="644" y="2253"/>
                  </a:lnTo>
                  <a:lnTo>
                    <a:pt x="644" y="2246"/>
                  </a:lnTo>
                  <a:lnTo>
                    <a:pt x="649" y="2246"/>
                  </a:lnTo>
                  <a:lnTo>
                    <a:pt x="649" y="2240"/>
                  </a:lnTo>
                  <a:lnTo>
                    <a:pt x="653" y="2240"/>
                  </a:lnTo>
                  <a:lnTo>
                    <a:pt x="653" y="2234"/>
                  </a:lnTo>
                  <a:lnTo>
                    <a:pt x="663" y="2234"/>
                  </a:lnTo>
                  <a:lnTo>
                    <a:pt x="663" y="2229"/>
                  </a:lnTo>
                  <a:lnTo>
                    <a:pt x="667" y="2229"/>
                  </a:lnTo>
                  <a:lnTo>
                    <a:pt x="667" y="2216"/>
                  </a:lnTo>
                  <a:lnTo>
                    <a:pt x="677" y="2216"/>
                  </a:lnTo>
                  <a:lnTo>
                    <a:pt x="677" y="2211"/>
                  </a:lnTo>
                  <a:lnTo>
                    <a:pt x="682" y="2211"/>
                  </a:lnTo>
                  <a:lnTo>
                    <a:pt x="682" y="2205"/>
                  </a:lnTo>
                  <a:lnTo>
                    <a:pt x="686" y="2205"/>
                  </a:lnTo>
                  <a:lnTo>
                    <a:pt x="686" y="2199"/>
                  </a:lnTo>
                  <a:lnTo>
                    <a:pt x="691" y="2199"/>
                  </a:lnTo>
                  <a:lnTo>
                    <a:pt x="691" y="2193"/>
                  </a:lnTo>
                  <a:lnTo>
                    <a:pt x="697" y="2193"/>
                  </a:lnTo>
                  <a:lnTo>
                    <a:pt x="697" y="2188"/>
                  </a:lnTo>
                  <a:lnTo>
                    <a:pt x="701" y="2188"/>
                  </a:lnTo>
                  <a:lnTo>
                    <a:pt x="701" y="2180"/>
                  </a:lnTo>
                  <a:lnTo>
                    <a:pt x="711" y="2180"/>
                  </a:lnTo>
                  <a:lnTo>
                    <a:pt x="711" y="2175"/>
                  </a:lnTo>
                  <a:lnTo>
                    <a:pt x="716" y="2175"/>
                  </a:lnTo>
                  <a:lnTo>
                    <a:pt x="716" y="2170"/>
                  </a:lnTo>
                  <a:lnTo>
                    <a:pt x="720" y="2170"/>
                  </a:lnTo>
                  <a:lnTo>
                    <a:pt x="720" y="2164"/>
                  </a:lnTo>
                  <a:lnTo>
                    <a:pt x="726" y="2164"/>
                  </a:lnTo>
                  <a:lnTo>
                    <a:pt x="726" y="2151"/>
                  </a:lnTo>
                  <a:lnTo>
                    <a:pt x="730" y="2151"/>
                  </a:lnTo>
                  <a:lnTo>
                    <a:pt x="730" y="2146"/>
                  </a:lnTo>
                  <a:lnTo>
                    <a:pt x="734" y="2146"/>
                  </a:lnTo>
                  <a:lnTo>
                    <a:pt x="734" y="2139"/>
                  </a:lnTo>
                  <a:lnTo>
                    <a:pt x="744" y="2139"/>
                  </a:lnTo>
                  <a:lnTo>
                    <a:pt x="744" y="2134"/>
                  </a:lnTo>
                  <a:lnTo>
                    <a:pt x="749" y="2134"/>
                  </a:lnTo>
                  <a:lnTo>
                    <a:pt x="749" y="2128"/>
                  </a:lnTo>
                  <a:lnTo>
                    <a:pt x="759" y="2128"/>
                  </a:lnTo>
                  <a:lnTo>
                    <a:pt x="759" y="2121"/>
                  </a:lnTo>
                  <a:lnTo>
                    <a:pt x="763" y="2121"/>
                  </a:lnTo>
                  <a:lnTo>
                    <a:pt x="763" y="2117"/>
                  </a:lnTo>
                  <a:lnTo>
                    <a:pt x="774" y="2117"/>
                  </a:lnTo>
                  <a:lnTo>
                    <a:pt x="774" y="2110"/>
                  </a:lnTo>
                  <a:lnTo>
                    <a:pt x="778" y="2110"/>
                  </a:lnTo>
                  <a:lnTo>
                    <a:pt x="778" y="2104"/>
                  </a:lnTo>
                  <a:lnTo>
                    <a:pt x="783" y="2104"/>
                  </a:lnTo>
                  <a:lnTo>
                    <a:pt x="783" y="2098"/>
                  </a:lnTo>
                  <a:lnTo>
                    <a:pt x="788" y="2098"/>
                  </a:lnTo>
                  <a:lnTo>
                    <a:pt x="788" y="2093"/>
                  </a:lnTo>
                  <a:lnTo>
                    <a:pt x="793" y="2093"/>
                  </a:lnTo>
                  <a:lnTo>
                    <a:pt x="793" y="2087"/>
                  </a:lnTo>
                  <a:lnTo>
                    <a:pt x="797" y="2087"/>
                  </a:lnTo>
                  <a:lnTo>
                    <a:pt x="797" y="2080"/>
                  </a:lnTo>
                  <a:lnTo>
                    <a:pt x="802" y="2080"/>
                  </a:lnTo>
                  <a:lnTo>
                    <a:pt x="802" y="2074"/>
                  </a:lnTo>
                  <a:lnTo>
                    <a:pt x="807" y="2074"/>
                  </a:lnTo>
                  <a:lnTo>
                    <a:pt x="807" y="2069"/>
                  </a:lnTo>
                  <a:lnTo>
                    <a:pt x="816" y="2069"/>
                  </a:lnTo>
                  <a:lnTo>
                    <a:pt x="816" y="2063"/>
                  </a:lnTo>
                  <a:lnTo>
                    <a:pt x="821" y="2063"/>
                  </a:lnTo>
                  <a:lnTo>
                    <a:pt x="821" y="2057"/>
                  </a:lnTo>
                  <a:lnTo>
                    <a:pt x="826" y="2057"/>
                  </a:lnTo>
                  <a:lnTo>
                    <a:pt x="826" y="2052"/>
                  </a:lnTo>
                  <a:lnTo>
                    <a:pt x="830" y="2052"/>
                  </a:lnTo>
                  <a:lnTo>
                    <a:pt x="830" y="2039"/>
                  </a:lnTo>
                  <a:lnTo>
                    <a:pt x="835" y="2039"/>
                  </a:lnTo>
                  <a:lnTo>
                    <a:pt x="835" y="2033"/>
                  </a:lnTo>
                  <a:lnTo>
                    <a:pt x="846" y="2033"/>
                  </a:lnTo>
                  <a:lnTo>
                    <a:pt x="846" y="2028"/>
                  </a:lnTo>
                  <a:lnTo>
                    <a:pt x="850" y="2028"/>
                  </a:lnTo>
                  <a:lnTo>
                    <a:pt x="850" y="2022"/>
                  </a:lnTo>
                  <a:lnTo>
                    <a:pt x="864" y="2022"/>
                  </a:lnTo>
                  <a:lnTo>
                    <a:pt x="864" y="2015"/>
                  </a:lnTo>
                  <a:lnTo>
                    <a:pt x="870" y="2015"/>
                  </a:lnTo>
                  <a:lnTo>
                    <a:pt x="870" y="2010"/>
                  </a:lnTo>
                  <a:lnTo>
                    <a:pt x="874" y="2010"/>
                  </a:lnTo>
                  <a:lnTo>
                    <a:pt x="874" y="2003"/>
                  </a:lnTo>
                  <a:lnTo>
                    <a:pt x="884" y="2003"/>
                  </a:lnTo>
                  <a:lnTo>
                    <a:pt x="884" y="1998"/>
                  </a:lnTo>
                  <a:lnTo>
                    <a:pt x="889" y="1998"/>
                  </a:lnTo>
                  <a:lnTo>
                    <a:pt x="889" y="1992"/>
                  </a:lnTo>
                  <a:lnTo>
                    <a:pt x="898" y="1992"/>
                  </a:lnTo>
                  <a:lnTo>
                    <a:pt x="898" y="1979"/>
                  </a:lnTo>
                  <a:lnTo>
                    <a:pt x="907" y="1979"/>
                  </a:lnTo>
                  <a:lnTo>
                    <a:pt x="907" y="1969"/>
                  </a:lnTo>
                  <a:lnTo>
                    <a:pt x="913" y="1969"/>
                  </a:lnTo>
                  <a:lnTo>
                    <a:pt x="913" y="1962"/>
                  </a:lnTo>
                  <a:lnTo>
                    <a:pt x="918" y="1962"/>
                  </a:lnTo>
                  <a:lnTo>
                    <a:pt x="918" y="1957"/>
                  </a:lnTo>
                  <a:lnTo>
                    <a:pt x="923" y="1957"/>
                  </a:lnTo>
                  <a:lnTo>
                    <a:pt x="923" y="1952"/>
                  </a:lnTo>
                  <a:lnTo>
                    <a:pt x="927" y="1952"/>
                  </a:lnTo>
                  <a:lnTo>
                    <a:pt x="927" y="1944"/>
                  </a:lnTo>
                  <a:lnTo>
                    <a:pt x="932" y="1944"/>
                  </a:lnTo>
                  <a:lnTo>
                    <a:pt x="932" y="1939"/>
                  </a:lnTo>
                  <a:lnTo>
                    <a:pt x="937" y="1939"/>
                  </a:lnTo>
                  <a:lnTo>
                    <a:pt x="937" y="1933"/>
                  </a:lnTo>
                  <a:lnTo>
                    <a:pt x="941" y="1933"/>
                  </a:lnTo>
                  <a:lnTo>
                    <a:pt x="941" y="1927"/>
                  </a:lnTo>
                  <a:lnTo>
                    <a:pt x="946" y="1927"/>
                  </a:lnTo>
                  <a:lnTo>
                    <a:pt x="946" y="1916"/>
                  </a:lnTo>
                  <a:lnTo>
                    <a:pt x="951" y="1916"/>
                  </a:lnTo>
                  <a:lnTo>
                    <a:pt x="951" y="1911"/>
                  </a:lnTo>
                  <a:lnTo>
                    <a:pt x="956" y="1911"/>
                  </a:lnTo>
                  <a:lnTo>
                    <a:pt x="956" y="1903"/>
                  </a:lnTo>
                  <a:lnTo>
                    <a:pt x="960" y="1903"/>
                  </a:lnTo>
                  <a:lnTo>
                    <a:pt x="960" y="1898"/>
                  </a:lnTo>
                  <a:lnTo>
                    <a:pt x="966" y="1898"/>
                  </a:lnTo>
                  <a:lnTo>
                    <a:pt x="966" y="1892"/>
                  </a:lnTo>
                  <a:lnTo>
                    <a:pt x="970" y="1892"/>
                  </a:lnTo>
                  <a:lnTo>
                    <a:pt x="970" y="1879"/>
                  </a:lnTo>
                  <a:lnTo>
                    <a:pt x="974" y="1879"/>
                  </a:lnTo>
                  <a:lnTo>
                    <a:pt x="974" y="1868"/>
                  </a:lnTo>
                  <a:lnTo>
                    <a:pt x="980" y="1868"/>
                  </a:lnTo>
                  <a:lnTo>
                    <a:pt x="980" y="1857"/>
                  </a:lnTo>
                  <a:lnTo>
                    <a:pt x="985" y="1857"/>
                  </a:lnTo>
                  <a:lnTo>
                    <a:pt x="985" y="1844"/>
                  </a:lnTo>
                  <a:lnTo>
                    <a:pt x="990" y="1844"/>
                  </a:lnTo>
                  <a:lnTo>
                    <a:pt x="990" y="1838"/>
                  </a:lnTo>
                  <a:lnTo>
                    <a:pt x="994" y="1838"/>
                  </a:lnTo>
                  <a:lnTo>
                    <a:pt x="994" y="1826"/>
                  </a:lnTo>
                  <a:lnTo>
                    <a:pt x="999" y="1826"/>
                  </a:lnTo>
                  <a:lnTo>
                    <a:pt x="999" y="1821"/>
                  </a:lnTo>
                  <a:lnTo>
                    <a:pt x="1004" y="1821"/>
                  </a:lnTo>
                  <a:lnTo>
                    <a:pt x="1004" y="1808"/>
                  </a:lnTo>
                  <a:lnTo>
                    <a:pt x="1008" y="1808"/>
                  </a:lnTo>
                  <a:lnTo>
                    <a:pt x="1008" y="1803"/>
                  </a:lnTo>
                  <a:lnTo>
                    <a:pt x="1014" y="1803"/>
                  </a:lnTo>
                  <a:lnTo>
                    <a:pt x="1014" y="1792"/>
                  </a:lnTo>
                  <a:lnTo>
                    <a:pt x="1018" y="1792"/>
                  </a:lnTo>
                  <a:lnTo>
                    <a:pt x="1018" y="1780"/>
                  </a:lnTo>
                  <a:lnTo>
                    <a:pt x="1023" y="1780"/>
                  </a:lnTo>
                  <a:lnTo>
                    <a:pt x="1023" y="1773"/>
                  </a:lnTo>
                  <a:lnTo>
                    <a:pt x="1028" y="1773"/>
                  </a:lnTo>
                  <a:lnTo>
                    <a:pt x="1028" y="1767"/>
                  </a:lnTo>
                  <a:lnTo>
                    <a:pt x="1033" y="1767"/>
                  </a:lnTo>
                  <a:lnTo>
                    <a:pt x="1033" y="1761"/>
                  </a:lnTo>
                  <a:lnTo>
                    <a:pt x="1037" y="1761"/>
                  </a:lnTo>
                  <a:lnTo>
                    <a:pt x="1037" y="1750"/>
                  </a:lnTo>
                  <a:lnTo>
                    <a:pt x="1041" y="1750"/>
                  </a:lnTo>
                  <a:lnTo>
                    <a:pt x="1041" y="1738"/>
                  </a:lnTo>
                  <a:lnTo>
                    <a:pt x="1047" y="1738"/>
                  </a:lnTo>
                  <a:lnTo>
                    <a:pt x="1047" y="1720"/>
                  </a:lnTo>
                  <a:lnTo>
                    <a:pt x="1051" y="1720"/>
                  </a:lnTo>
                  <a:lnTo>
                    <a:pt x="1051" y="1707"/>
                  </a:lnTo>
                  <a:lnTo>
                    <a:pt x="1057" y="1707"/>
                  </a:lnTo>
                  <a:lnTo>
                    <a:pt x="1057" y="1697"/>
                  </a:lnTo>
                  <a:lnTo>
                    <a:pt x="1062" y="1697"/>
                  </a:lnTo>
                  <a:lnTo>
                    <a:pt x="1062" y="1679"/>
                  </a:lnTo>
                  <a:lnTo>
                    <a:pt x="1067" y="1679"/>
                  </a:lnTo>
                  <a:lnTo>
                    <a:pt x="1067" y="1674"/>
                  </a:lnTo>
                  <a:lnTo>
                    <a:pt x="1071" y="1674"/>
                  </a:lnTo>
                  <a:lnTo>
                    <a:pt x="1071" y="1661"/>
                  </a:lnTo>
                  <a:lnTo>
                    <a:pt x="1076" y="1661"/>
                  </a:lnTo>
                  <a:lnTo>
                    <a:pt x="1076" y="1649"/>
                  </a:lnTo>
                  <a:lnTo>
                    <a:pt x="1081" y="1649"/>
                  </a:lnTo>
                  <a:lnTo>
                    <a:pt x="1081" y="1631"/>
                  </a:lnTo>
                  <a:lnTo>
                    <a:pt x="1085" y="1631"/>
                  </a:lnTo>
                  <a:lnTo>
                    <a:pt x="1085" y="1620"/>
                  </a:lnTo>
                  <a:lnTo>
                    <a:pt x="1090" y="1620"/>
                  </a:lnTo>
                  <a:lnTo>
                    <a:pt x="1090" y="1614"/>
                  </a:lnTo>
                  <a:lnTo>
                    <a:pt x="1095" y="1614"/>
                  </a:lnTo>
                  <a:lnTo>
                    <a:pt x="1095" y="1607"/>
                  </a:lnTo>
                  <a:lnTo>
                    <a:pt x="1100" y="1607"/>
                  </a:lnTo>
                  <a:lnTo>
                    <a:pt x="1100" y="1602"/>
                  </a:lnTo>
                  <a:lnTo>
                    <a:pt x="1104" y="1602"/>
                  </a:lnTo>
                  <a:lnTo>
                    <a:pt x="1104" y="1596"/>
                  </a:lnTo>
                  <a:lnTo>
                    <a:pt x="1110" y="1596"/>
                  </a:lnTo>
                  <a:lnTo>
                    <a:pt x="1110" y="1590"/>
                  </a:lnTo>
                  <a:lnTo>
                    <a:pt x="1114" y="1590"/>
                  </a:lnTo>
                  <a:lnTo>
                    <a:pt x="1114" y="1584"/>
                  </a:lnTo>
                  <a:lnTo>
                    <a:pt x="1118" y="1584"/>
                  </a:lnTo>
                  <a:lnTo>
                    <a:pt x="1118" y="1572"/>
                  </a:lnTo>
                  <a:lnTo>
                    <a:pt x="1124" y="1572"/>
                  </a:lnTo>
                  <a:lnTo>
                    <a:pt x="1124" y="1560"/>
                  </a:lnTo>
                  <a:lnTo>
                    <a:pt x="1129" y="1560"/>
                  </a:lnTo>
                  <a:lnTo>
                    <a:pt x="1129" y="1555"/>
                  </a:lnTo>
                  <a:lnTo>
                    <a:pt x="1134" y="1555"/>
                  </a:lnTo>
                  <a:lnTo>
                    <a:pt x="1134" y="1538"/>
                  </a:lnTo>
                  <a:lnTo>
                    <a:pt x="1138" y="1538"/>
                  </a:lnTo>
                  <a:lnTo>
                    <a:pt x="1138" y="1525"/>
                  </a:lnTo>
                  <a:lnTo>
                    <a:pt x="1144" y="1525"/>
                  </a:lnTo>
                  <a:lnTo>
                    <a:pt x="1144" y="1501"/>
                  </a:lnTo>
                  <a:lnTo>
                    <a:pt x="1148" y="1501"/>
                  </a:lnTo>
                  <a:lnTo>
                    <a:pt x="1148" y="1484"/>
                  </a:lnTo>
                  <a:lnTo>
                    <a:pt x="1153" y="1484"/>
                  </a:lnTo>
                  <a:lnTo>
                    <a:pt x="1153" y="1479"/>
                  </a:lnTo>
                  <a:lnTo>
                    <a:pt x="1158" y="1479"/>
                  </a:lnTo>
                  <a:lnTo>
                    <a:pt x="1158" y="1466"/>
                  </a:lnTo>
                  <a:lnTo>
                    <a:pt x="1162" y="1466"/>
                  </a:lnTo>
                  <a:lnTo>
                    <a:pt x="1162" y="1460"/>
                  </a:lnTo>
                  <a:lnTo>
                    <a:pt x="1167" y="1460"/>
                  </a:lnTo>
                  <a:lnTo>
                    <a:pt x="1167" y="1443"/>
                  </a:lnTo>
                  <a:lnTo>
                    <a:pt x="1172" y="1443"/>
                  </a:lnTo>
                  <a:lnTo>
                    <a:pt x="1172" y="1438"/>
                  </a:lnTo>
                  <a:lnTo>
                    <a:pt x="1177" y="1438"/>
                  </a:lnTo>
                  <a:lnTo>
                    <a:pt x="1177" y="1419"/>
                  </a:lnTo>
                  <a:lnTo>
                    <a:pt x="1181" y="1419"/>
                  </a:lnTo>
                  <a:lnTo>
                    <a:pt x="1181" y="1406"/>
                  </a:lnTo>
                  <a:lnTo>
                    <a:pt x="1186" y="1406"/>
                  </a:lnTo>
                  <a:lnTo>
                    <a:pt x="1186" y="1401"/>
                  </a:lnTo>
                  <a:lnTo>
                    <a:pt x="1191" y="1401"/>
                  </a:lnTo>
                  <a:lnTo>
                    <a:pt x="1191" y="1389"/>
                  </a:lnTo>
                  <a:lnTo>
                    <a:pt x="1196" y="1389"/>
                  </a:lnTo>
                  <a:lnTo>
                    <a:pt x="1196" y="1372"/>
                  </a:lnTo>
                  <a:lnTo>
                    <a:pt x="1201" y="1372"/>
                  </a:lnTo>
                  <a:lnTo>
                    <a:pt x="1201" y="1353"/>
                  </a:lnTo>
                  <a:lnTo>
                    <a:pt x="1206" y="1353"/>
                  </a:lnTo>
                  <a:lnTo>
                    <a:pt x="1206" y="1342"/>
                  </a:lnTo>
                  <a:lnTo>
                    <a:pt x="1211" y="1342"/>
                  </a:lnTo>
                  <a:lnTo>
                    <a:pt x="1211" y="1335"/>
                  </a:lnTo>
                  <a:lnTo>
                    <a:pt x="1215" y="1335"/>
                  </a:lnTo>
                  <a:lnTo>
                    <a:pt x="1215" y="1319"/>
                  </a:lnTo>
                  <a:lnTo>
                    <a:pt x="1220" y="1319"/>
                  </a:lnTo>
                  <a:lnTo>
                    <a:pt x="1220" y="1312"/>
                  </a:lnTo>
                  <a:lnTo>
                    <a:pt x="1225" y="1312"/>
                  </a:lnTo>
                  <a:lnTo>
                    <a:pt x="1225" y="1288"/>
                  </a:lnTo>
                  <a:lnTo>
                    <a:pt x="1230" y="1288"/>
                  </a:lnTo>
                  <a:lnTo>
                    <a:pt x="1230" y="1283"/>
                  </a:lnTo>
                  <a:lnTo>
                    <a:pt x="1234" y="1283"/>
                  </a:lnTo>
                  <a:lnTo>
                    <a:pt x="1234" y="1265"/>
                  </a:lnTo>
                  <a:lnTo>
                    <a:pt x="1240" y="1265"/>
                  </a:lnTo>
                  <a:lnTo>
                    <a:pt x="1240" y="1253"/>
                  </a:lnTo>
                  <a:lnTo>
                    <a:pt x="1244" y="1253"/>
                  </a:lnTo>
                  <a:lnTo>
                    <a:pt x="1244" y="1242"/>
                  </a:lnTo>
                  <a:lnTo>
                    <a:pt x="1248" y="1242"/>
                  </a:lnTo>
                  <a:lnTo>
                    <a:pt x="1248" y="1229"/>
                  </a:lnTo>
                  <a:lnTo>
                    <a:pt x="1254" y="1229"/>
                  </a:lnTo>
                  <a:lnTo>
                    <a:pt x="1254" y="1212"/>
                  </a:lnTo>
                  <a:lnTo>
                    <a:pt x="1258" y="1212"/>
                  </a:lnTo>
                  <a:lnTo>
                    <a:pt x="1258" y="1206"/>
                  </a:lnTo>
                  <a:lnTo>
                    <a:pt x="1263" y="1206"/>
                  </a:lnTo>
                  <a:lnTo>
                    <a:pt x="1263" y="1201"/>
                  </a:lnTo>
                  <a:lnTo>
                    <a:pt x="1268" y="1201"/>
                  </a:lnTo>
                  <a:lnTo>
                    <a:pt x="1268" y="1188"/>
                  </a:lnTo>
                  <a:lnTo>
                    <a:pt x="1274" y="1188"/>
                  </a:lnTo>
                  <a:lnTo>
                    <a:pt x="1274" y="1171"/>
                  </a:lnTo>
                  <a:lnTo>
                    <a:pt x="1278" y="1171"/>
                  </a:lnTo>
                  <a:lnTo>
                    <a:pt x="1278" y="1164"/>
                  </a:lnTo>
                  <a:lnTo>
                    <a:pt x="1282" y="1164"/>
                  </a:lnTo>
                  <a:lnTo>
                    <a:pt x="1282" y="1152"/>
                  </a:lnTo>
                  <a:lnTo>
                    <a:pt x="1288" y="1152"/>
                  </a:lnTo>
                  <a:lnTo>
                    <a:pt x="1288" y="1141"/>
                  </a:lnTo>
                  <a:lnTo>
                    <a:pt x="1292" y="1141"/>
                  </a:lnTo>
                  <a:lnTo>
                    <a:pt x="1292" y="1134"/>
                  </a:lnTo>
                  <a:lnTo>
                    <a:pt x="1297" y="1134"/>
                  </a:lnTo>
                  <a:lnTo>
                    <a:pt x="1297" y="1124"/>
                  </a:lnTo>
                  <a:lnTo>
                    <a:pt x="1302" y="1124"/>
                  </a:lnTo>
                  <a:lnTo>
                    <a:pt x="1302" y="1100"/>
                  </a:lnTo>
                  <a:lnTo>
                    <a:pt x="1307" y="1100"/>
                  </a:lnTo>
                  <a:lnTo>
                    <a:pt x="1307" y="1088"/>
                  </a:lnTo>
                  <a:lnTo>
                    <a:pt x="1311" y="1088"/>
                  </a:lnTo>
                  <a:lnTo>
                    <a:pt x="1311" y="1076"/>
                  </a:lnTo>
                  <a:lnTo>
                    <a:pt x="1316" y="1076"/>
                  </a:lnTo>
                  <a:lnTo>
                    <a:pt x="1316" y="1071"/>
                  </a:lnTo>
                  <a:lnTo>
                    <a:pt x="1321" y="1071"/>
                  </a:lnTo>
                  <a:lnTo>
                    <a:pt x="1321" y="1065"/>
                  </a:lnTo>
                  <a:lnTo>
                    <a:pt x="1325" y="1065"/>
                  </a:lnTo>
                  <a:lnTo>
                    <a:pt x="1325" y="1052"/>
                  </a:lnTo>
                  <a:lnTo>
                    <a:pt x="1330" y="1052"/>
                  </a:lnTo>
                  <a:lnTo>
                    <a:pt x="1330" y="1041"/>
                  </a:lnTo>
                  <a:lnTo>
                    <a:pt x="1335" y="1041"/>
                  </a:lnTo>
                  <a:lnTo>
                    <a:pt x="1335" y="1028"/>
                  </a:lnTo>
                  <a:lnTo>
                    <a:pt x="1339" y="1028"/>
                  </a:lnTo>
                  <a:lnTo>
                    <a:pt x="1339" y="1017"/>
                  </a:lnTo>
                  <a:lnTo>
                    <a:pt x="1345" y="1017"/>
                  </a:lnTo>
                  <a:lnTo>
                    <a:pt x="1345" y="1006"/>
                  </a:lnTo>
                  <a:lnTo>
                    <a:pt x="1350" y="1006"/>
                  </a:lnTo>
                  <a:lnTo>
                    <a:pt x="1350" y="998"/>
                  </a:lnTo>
                  <a:lnTo>
                    <a:pt x="1355" y="998"/>
                  </a:lnTo>
                  <a:lnTo>
                    <a:pt x="1355" y="987"/>
                  </a:lnTo>
                  <a:lnTo>
                    <a:pt x="1359" y="987"/>
                  </a:lnTo>
                  <a:lnTo>
                    <a:pt x="1359" y="970"/>
                  </a:lnTo>
                  <a:lnTo>
                    <a:pt x="1365" y="970"/>
                  </a:lnTo>
                  <a:lnTo>
                    <a:pt x="1365" y="952"/>
                  </a:lnTo>
                  <a:lnTo>
                    <a:pt x="1369" y="952"/>
                  </a:lnTo>
                  <a:lnTo>
                    <a:pt x="1369" y="946"/>
                  </a:lnTo>
                  <a:lnTo>
                    <a:pt x="1374" y="946"/>
                  </a:lnTo>
                  <a:lnTo>
                    <a:pt x="1374" y="929"/>
                  </a:lnTo>
                  <a:lnTo>
                    <a:pt x="1378" y="929"/>
                  </a:lnTo>
                  <a:lnTo>
                    <a:pt x="1378" y="916"/>
                  </a:lnTo>
                  <a:lnTo>
                    <a:pt x="1383" y="916"/>
                  </a:lnTo>
                  <a:lnTo>
                    <a:pt x="1383" y="899"/>
                  </a:lnTo>
                  <a:lnTo>
                    <a:pt x="1388" y="899"/>
                  </a:lnTo>
                  <a:lnTo>
                    <a:pt x="1388" y="887"/>
                  </a:lnTo>
                  <a:lnTo>
                    <a:pt x="1392" y="887"/>
                  </a:lnTo>
                  <a:lnTo>
                    <a:pt x="1392" y="875"/>
                  </a:lnTo>
                  <a:lnTo>
                    <a:pt x="1398" y="875"/>
                  </a:lnTo>
                  <a:lnTo>
                    <a:pt x="1398" y="857"/>
                  </a:lnTo>
                  <a:lnTo>
                    <a:pt x="1402" y="857"/>
                  </a:lnTo>
                  <a:lnTo>
                    <a:pt x="1402" y="851"/>
                  </a:lnTo>
                  <a:lnTo>
                    <a:pt x="1407" y="851"/>
                  </a:lnTo>
                  <a:lnTo>
                    <a:pt x="1407" y="834"/>
                  </a:lnTo>
                  <a:lnTo>
                    <a:pt x="1412" y="834"/>
                  </a:lnTo>
                  <a:lnTo>
                    <a:pt x="1412" y="827"/>
                  </a:lnTo>
                  <a:lnTo>
                    <a:pt x="1416" y="827"/>
                  </a:lnTo>
                  <a:lnTo>
                    <a:pt x="1416" y="816"/>
                  </a:lnTo>
                  <a:lnTo>
                    <a:pt x="1422" y="816"/>
                  </a:lnTo>
                  <a:lnTo>
                    <a:pt x="1422" y="810"/>
                  </a:lnTo>
                  <a:lnTo>
                    <a:pt x="1426" y="810"/>
                  </a:lnTo>
                  <a:lnTo>
                    <a:pt x="1426" y="798"/>
                  </a:lnTo>
                  <a:lnTo>
                    <a:pt x="1432" y="798"/>
                  </a:lnTo>
                  <a:lnTo>
                    <a:pt x="1432" y="793"/>
                  </a:lnTo>
                  <a:lnTo>
                    <a:pt x="1436" y="793"/>
                  </a:lnTo>
                  <a:lnTo>
                    <a:pt x="1436" y="780"/>
                  </a:lnTo>
                  <a:lnTo>
                    <a:pt x="1441" y="780"/>
                  </a:lnTo>
                  <a:lnTo>
                    <a:pt x="1441" y="769"/>
                  </a:lnTo>
                  <a:lnTo>
                    <a:pt x="1446" y="769"/>
                  </a:lnTo>
                  <a:lnTo>
                    <a:pt x="1446" y="756"/>
                  </a:lnTo>
                  <a:lnTo>
                    <a:pt x="1451" y="756"/>
                  </a:lnTo>
                  <a:lnTo>
                    <a:pt x="1451" y="751"/>
                  </a:lnTo>
                  <a:lnTo>
                    <a:pt x="1455" y="751"/>
                  </a:lnTo>
                  <a:lnTo>
                    <a:pt x="1455" y="739"/>
                  </a:lnTo>
                  <a:lnTo>
                    <a:pt x="1460" y="739"/>
                  </a:lnTo>
                  <a:lnTo>
                    <a:pt x="1460" y="733"/>
                  </a:lnTo>
                  <a:lnTo>
                    <a:pt x="1465" y="733"/>
                  </a:lnTo>
                  <a:lnTo>
                    <a:pt x="1465" y="728"/>
                  </a:lnTo>
                  <a:lnTo>
                    <a:pt x="1469" y="728"/>
                  </a:lnTo>
                  <a:lnTo>
                    <a:pt x="1469" y="720"/>
                  </a:lnTo>
                  <a:lnTo>
                    <a:pt x="1474" y="720"/>
                  </a:lnTo>
                  <a:lnTo>
                    <a:pt x="1474" y="710"/>
                  </a:lnTo>
                  <a:lnTo>
                    <a:pt x="1479" y="710"/>
                  </a:lnTo>
                  <a:lnTo>
                    <a:pt x="1479" y="698"/>
                  </a:lnTo>
                  <a:lnTo>
                    <a:pt x="1484" y="698"/>
                  </a:lnTo>
                  <a:lnTo>
                    <a:pt x="1484" y="693"/>
                  </a:lnTo>
                  <a:lnTo>
                    <a:pt x="1488" y="693"/>
                  </a:lnTo>
                  <a:lnTo>
                    <a:pt x="1488" y="680"/>
                  </a:lnTo>
                  <a:lnTo>
                    <a:pt x="1495" y="680"/>
                  </a:lnTo>
                  <a:lnTo>
                    <a:pt x="1495" y="662"/>
                  </a:lnTo>
                  <a:lnTo>
                    <a:pt x="1499" y="662"/>
                  </a:lnTo>
                  <a:lnTo>
                    <a:pt x="1499" y="639"/>
                  </a:lnTo>
                  <a:lnTo>
                    <a:pt x="1503" y="639"/>
                  </a:lnTo>
                  <a:lnTo>
                    <a:pt x="1503" y="627"/>
                  </a:lnTo>
                  <a:lnTo>
                    <a:pt x="1509" y="627"/>
                  </a:lnTo>
                  <a:lnTo>
                    <a:pt x="1509" y="615"/>
                  </a:lnTo>
                  <a:lnTo>
                    <a:pt x="1513" y="615"/>
                  </a:lnTo>
                  <a:lnTo>
                    <a:pt x="1513" y="598"/>
                  </a:lnTo>
                  <a:lnTo>
                    <a:pt x="1518" y="598"/>
                  </a:lnTo>
                  <a:lnTo>
                    <a:pt x="1518" y="585"/>
                  </a:lnTo>
                  <a:lnTo>
                    <a:pt x="1522" y="585"/>
                  </a:lnTo>
                  <a:lnTo>
                    <a:pt x="1522" y="579"/>
                  </a:lnTo>
                  <a:lnTo>
                    <a:pt x="1528" y="579"/>
                  </a:lnTo>
                  <a:lnTo>
                    <a:pt x="1528" y="568"/>
                  </a:lnTo>
                  <a:lnTo>
                    <a:pt x="1532" y="568"/>
                  </a:lnTo>
                  <a:lnTo>
                    <a:pt x="1532" y="544"/>
                  </a:lnTo>
                  <a:lnTo>
                    <a:pt x="1537" y="544"/>
                  </a:lnTo>
                  <a:lnTo>
                    <a:pt x="1537" y="533"/>
                  </a:lnTo>
                  <a:lnTo>
                    <a:pt x="1542" y="533"/>
                  </a:lnTo>
                  <a:lnTo>
                    <a:pt x="1542" y="526"/>
                  </a:lnTo>
                  <a:lnTo>
                    <a:pt x="1546" y="526"/>
                  </a:lnTo>
                  <a:lnTo>
                    <a:pt x="1546" y="508"/>
                  </a:lnTo>
                  <a:lnTo>
                    <a:pt x="1551" y="508"/>
                  </a:lnTo>
                  <a:lnTo>
                    <a:pt x="1551" y="492"/>
                  </a:lnTo>
                  <a:lnTo>
                    <a:pt x="1556" y="492"/>
                  </a:lnTo>
                  <a:lnTo>
                    <a:pt x="1556" y="479"/>
                  </a:lnTo>
                  <a:lnTo>
                    <a:pt x="1561" y="479"/>
                  </a:lnTo>
                  <a:lnTo>
                    <a:pt x="1561" y="461"/>
                  </a:lnTo>
                  <a:lnTo>
                    <a:pt x="1566" y="461"/>
                  </a:lnTo>
                  <a:lnTo>
                    <a:pt x="1566" y="449"/>
                  </a:lnTo>
                  <a:lnTo>
                    <a:pt x="1571" y="449"/>
                  </a:lnTo>
                  <a:lnTo>
                    <a:pt x="1571" y="443"/>
                  </a:lnTo>
                  <a:lnTo>
                    <a:pt x="1576" y="443"/>
                  </a:lnTo>
                  <a:lnTo>
                    <a:pt x="1576" y="419"/>
                  </a:lnTo>
                  <a:lnTo>
                    <a:pt x="1581" y="419"/>
                  </a:lnTo>
                  <a:lnTo>
                    <a:pt x="1581" y="402"/>
                  </a:lnTo>
                  <a:lnTo>
                    <a:pt x="1585" y="402"/>
                  </a:lnTo>
                  <a:lnTo>
                    <a:pt x="1585" y="384"/>
                  </a:lnTo>
                  <a:lnTo>
                    <a:pt x="1590" y="384"/>
                  </a:lnTo>
                  <a:lnTo>
                    <a:pt x="1590" y="373"/>
                  </a:lnTo>
                  <a:lnTo>
                    <a:pt x="1595" y="373"/>
                  </a:lnTo>
                  <a:lnTo>
                    <a:pt x="1595" y="361"/>
                  </a:lnTo>
                  <a:lnTo>
                    <a:pt x="1599" y="361"/>
                  </a:lnTo>
                  <a:lnTo>
                    <a:pt x="1599" y="348"/>
                  </a:lnTo>
                  <a:lnTo>
                    <a:pt x="1604" y="348"/>
                  </a:lnTo>
                  <a:lnTo>
                    <a:pt x="1604" y="337"/>
                  </a:lnTo>
                  <a:lnTo>
                    <a:pt x="1609" y="337"/>
                  </a:lnTo>
                  <a:lnTo>
                    <a:pt x="1609" y="325"/>
                  </a:lnTo>
                  <a:lnTo>
                    <a:pt x="1614" y="325"/>
                  </a:lnTo>
                  <a:lnTo>
                    <a:pt x="1614" y="307"/>
                  </a:lnTo>
                  <a:lnTo>
                    <a:pt x="1618" y="307"/>
                  </a:lnTo>
                  <a:lnTo>
                    <a:pt x="1618" y="290"/>
                  </a:lnTo>
                  <a:lnTo>
                    <a:pt x="1623" y="290"/>
                  </a:lnTo>
                  <a:lnTo>
                    <a:pt x="1623" y="278"/>
                  </a:lnTo>
                  <a:lnTo>
                    <a:pt x="1628" y="278"/>
                  </a:lnTo>
                  <a:lnTo>
                    <a:pt x="1628" y="261"/>
                  </a:lnTo>
                  <a:lnTo>
                    <a:pt x="1632" y="261"/>
                  </a:lnTo>
                  <a:lnTo>
                    <a:pt x="1632" y="248"/>
                  </a:lnTo>
                  <a:lnTo>
                    <a:pt x="1639" y="248"/>
                  </a:lnTo>
                  <a:lnTo>
                    <a:pt x="1639" y="231"/>
                  </a:lnTo>
                  <a:lnTo>
                    <a:pt x="1643" y="231"/>
                  </a:lnTo>
                  <a:lnTo>
                    <a:pt x="1643" y="212"/>
                  </a:lnTo>
                  <a:lnTo>
                    <a:pt x="1648" y="212"/>
                  </a:lnTo>
                  <a:lnTo>
                    <a:pt x="1648" y="196"/>
                  </a:lnTo>
                  <a:lnTo>
                    <a:pt x="1653" y="196"/>
                  </a:lnTo>
                  <a:lnTo>
                    <a:pt x="1653" y="189"/>
                  </a:lnTo>
                  <a:lnTo>
                    <a:pt x="1657" y="189"/>
                  </a:lnTo>
                  <a:lnTo>
                    <a:pt x="1657" y="184"/>
                  </a:lnTo>
                  <a:lnTo>
                    <a:pt x="1662" y="184"/>
                  </a:lnTo>
                  <a:lnTo>
                    <a:pt x="1662" y="166"/>
                  </a:lnTo>
                  <a:lnTo>
                    <a:pt x="1666" y="166"/>
                  </a:lnTo>
                  <a:lnTo>
                    <a:pt x="1666" y="154"/>
                  </a:lnTo>
                  <a:lnTo>
                    <a:pt x="1672" y="154"/>
                  </a:lnTo>
                  <a:lnTo>
                    <a:pt x="1672" y="142"/>
                  </a:lnTo>
                  <a:lnTo>
                    <a:pt x="1676" y="142"/>
                  </a:lnTo>
                  <a:lnTo>
                    <a:pt x="1676" y="130"/>
                  </a:lnTo>
                  <a:lnTo>
                    <a:pt x="1680" y="130"/>
                  </a:lnTo>
                  <a:lnTo>
                    <a:pt x="1680" y="119"/>
                  </a:lnTo>
                  <a:lnTo>
                    <a:pt x="1686" y="119"/>
                  </a:lnTo>
                  <a:lnTo>
                    <a:pt x="1686" y="106"/>
                  </a:lnTo>
                  <a:lnTo>
                    <a:pt x="1690" y="106"/>
                  </a:lnTo>
                  <a:lnTo>
                    <a:pt x="1690" y="95"/>
                  </a:lnTo>
                  <a:lnTo>
                    <a:pt x="1695" y="95"/>
                  </a:lnTo>
                  <a:lnTo>
                    <a:pt x="1695" y="78"/>
                  </a:lnTo>
                  <a:lnTo>
                    <a:pt x="1700" y="78"/>
                  </a:lnTo>
                  <a:lnTo>
                    <a:pt x="1700" y="48"/>
                  </a:lnTo>
                  <a:lnTo>
                    <a:pt x="1705" y="48"/>
                  </a:lnTo>
                  <a:lnTo>
                    <a:pt x="1705" y="19"/>
                  </a:lnTo>
                  <a:lnTo>
                    <a:pt x="1710" y="19"/>
                  </a:lnTo>
                  <a:lnTo>
                    <a:pt x="1710" y="6"/>
                  </a:lnTo>
                  <a:lnTo>
                    <a:pt x="1729" y="6"/>
                  </a:lnTo>
                  <a:lnTo>
                    <a:pt x="1729" y="0"/>
                  </a:lnTo>
                  <a:lnTo>
                    <a:pt x="1743" y="0"/>
                  </a:lnTo>
                  <a:lnTo>
                    <a:pt x="1743" y="6"/>
                  </a:lnTo>
                  <a:lnTo>
                    <a:pt x="1748" y="6"/>
                  </a:lnTo>
                  <a:lnTo>
                    <a:pt x="1748" y="19"/>
                  </a:lnTo>
                  <a:lnTo>
                    <a:pt x="1753" y="19"/>
                  </a:lnTo>
                  <a:lnTo>
                    <a:pt x="1753" y="24"/>
                  </a:lnTo>
                  <a:lnTo>
                    <a:pt x="1757" y="24"/>
                  </a:lnTo>
                  <a:lnTo>
                    <a:pt x="1757" y="35"/>
                  </a:lnTo>
                  <a:lnTo>
                    <a:pt x="1762" y="35"/>
                  </a:lnTo>
                  <a:lnTo>
                    <a:pt x="1762" y="65"/>
                  </a:lnTo>
                  <a:lnTo>
                    <a:pt x="1767" y="65"/>
                  </a:lnTo>
                  <a:lnTo>
                    <a:pt x="1767" y="84"/>
                  </a:lnTo>
                  <a:lnTo>
                    <a:pt x="1772" y="84"/>
                  </a:lnTo>
                  <a:lnTo>
                    <a:pt x="1772" y="89"/>
                  </a:lnTo>
                  <a:lnTo>
                    <a:pt x="1776" y="89"/>
                  </a:lnTo>
                  <a:lnTo>
                    <a:pt x="1776" y="119"/>
                  </a:lnTo>
                  <a:lnTo>
                    <a:pt x="1783" y="119"/>
                  </a:lnTo>
                  <a:lnTo>
                    <a:pt x="1783" y="137"/>
                  </a:lnTo>
                  <a:lnTo>
                    <a:pt x="1776" y="137"/>
                  </a:lnTo>
                  <a:lnTo>
                    <a:pt x="1776" y="171"/>
                  </a:lnTo>
                  <a:lnTo>
                    <a:pt x="1772" y="171"/>
                  </a:lnTo>
                  <a:lnTo>
                    <a:pt x="1772" y="184"/>
                  </a:lnTo>
                  <a:lnTo>
                    <a:pt x="1767" y="184"/>
                  </a:lnTo>
                  <a:lnTo>
                    <a:pt x="1767" y="196"/>
                  </a:lnTo>
                  <a:lnTo>
                    <a:pt x="1762" y="196"/>
                  </a:lnTo>
                  <a:lnTo>
                    <a:pt x="1762" y="207"/>
                  </a:lnTo>
                  <a:lnTo>
                    <a:pt x="1757" y="207"/>
                  </a:lnTo>
                  <a:lnTo>
                    <a:pt x="1757" y="248"/>
                  </a:lnTo>
                  <a:lnTo>
                    <a:pt x="1753" y="248"/>
                  </a:lnTo>
                  <a:lnTo>
                    <a:pt x="1753" y="272"/>
                  </a:lnTo>
                  <a:lnTo>
                    <a:pt x="1748" y="272"/>
                  </a:lnTo>
                  <a:lnTo>
                    <a:pt x="1748" y="301"/>
                  </a:lnTo>
                  <a:lnTo>
                    <a:pt x="1743" y="301"/>
                  </a:lnTo>
                  <a:lnTo>
                    <a:pt x="1743" y="325"/>
                  </a:lnTo>
                  <a:lnTo>
                    <a:pt x="1739" y="325"/>
                  </a:lnTo>
                  <a:lnTo>
                    <a:pt x="1739" y="337"/>
                  </a:lnTo>
                  <a:lnTo>
                    <a:pt x="1734" y="337"/>
                  </a:lnTo>
                  <a:lnTo>
                    <a:pt x="1734" y="355"/>
                  </a:lnTo>
                  <a:lnTo>
                    <a:pt x="1729" y="355"/>
                  </a:lnTo>
                  <a:lnTo>
                    <a:pt x="1729" y="366"/>
                  </a:lnTo>
                  <a:lnTo>
                    <a:pt x="1724" y="366"/>
                  </a:lnTo>
                  <a:lnTo>
                    <a:pt x="1724" y="384"/>
                  </a:lnTo>
                  <a:lnTo>
                    <a:pt x="1720" y="384"/>
                  </a:lnTo>
                  <a:lnTo>
                    <a:pt x="1720" y="397"/>
                  </a:lnTo>
                  <a:lnTo>
                    <a:pt x="1715" y="397"/>
                  </a:lnTo>
                  <a:lnTo>
                    <a:pt x="1715" y="407"/>
                  </a:lnTo>
                  <a:lnTo>
                    <a:pt x="1710" y="407"/>
                  </a:lnTo>
                  <a:lnTo>
                    <a:pt x="1710" y="426"/>
                  </a:lnTo>
                  <a:lnTo>
                    <a:pt x="1705" y="426"/>
                  </a:lnTo>
                  <a:lnTo>
                    <a:pt x="1705" y="438"/>
                  </a:lnTo>
                  <a:lnTo>
                    <a:pt x="1700" y="438"/>
                  </a:lnTo>
                  <a:lnTo>
                    <a:pt x="1700" y="456"/>
                  </a:lnTo>
                  <a:lnTo>
                    <a:pt x="1695" y="456"/>
                  </a:lnTo>
                  <a:lnTo>
                    <a:pt x="1695" y="467"/>
                  </a:lnTo>
                  <a:lnTo>
                    <a:pt x="1690" y="467"/>
                  </a:lnTo>
                  <a:lnTo>
                    <a:pt x="1690" y="492"/>
                  </a:lnTo>
                  <a:lnTo>
                    <a:pt x="1686" y="492"/>
                  </a:lnTo>
                  <a:lnTo>
                    <a:pt x="1686" y="514"/>
                  </a:lnTo>
                  <a:lnTo>
                    <a:pt x="1680" y="514"/>
                  </a:lnTo>
                  <a:lnTo>
                    <a:pt x="1680" y="526"/>
                  </a:lnTo>
                  <a:lnTo>
                    <a:pt x="1676" y="526"/>
                  </a:lnTo>
                  <a:lnTo>
                    <a:pt x="1676" y="538"/>
                  </a:lnTo>
                  <a:lnTo>
                    <a:pt x="1672" y="538"/>
                  </a:lnTo>
                  <a:lnTo>
                    <a:pt x="1672" y="550"/>
                  </a:lnTo>
                  <a:lnTo>
                    <a:pt x="1666" y="550"/>
                  </a:lnTo>
                  <a:lnTo>
                    <a:pt x="1666" y="568"/>
                  </a:lnTo>
                  <a:lnTo>
                    <a:pt x="1662" y="568"/>
                  </a:lnTo>
                  <a:lnTo>
                    <a:pt x="1662" y="579"/>
                  </a:lnTo>
                  <a:lnTo>
                    <a:pt x="1657" y="579"/>
                  </a:lnTo>
                  <a:lnTo>
                    <a:pt x="1657" y="585"/>
                  </a:lnTo>
                  <a:lnTo>
                    <a:pt x="1653" y="585"/>
                  </a:lnTo>
                  <a:lnTo>
                    <a:pt x="1653" y="598"/>
                  </a:lnTo>
                  <a:lnTo>
                    <a:pt x="1648" y="598"/>
                  </a:lnTo>
                  <a:lnTo>
                    <a:pt x="1648" y="603"/>
                  </a:lnTo>
                  <a:lnTo>
                    <a:pt x="1643" y="603"/>
                  </a:lnTo>
                  <a:lnTo>
                    <a:pt x="1643" y="615"/>
                  </a:lnTo>
                  <a:lnTo>
                    <a:pt x="1639" y="615"/>
                  </a:lnTo>
                  <a:lnTo>
                    <a:pt x="1639" y="627"/>
                  </a:lnTo>
                  <a:lnTo>
                    <a:pt x="1632" y="627"/>
                  </a:lnTo>
                  <a:lnTo>
                    <a:pt x="1632" y="639"/>
                  </a:lnTo>
                  <a:lnTo>
                    <a:pt x="1628" y="639"/>
                  </a:lnTo>
                  <a:lnTo>
                    <a:pt x="1628" y="652"/>
                  </a:lnTo>
                  <a:lnTo>
                    <a:pt x="1623" y="652"/>
                  </a:lnTo>
                  <a:lnTo>
                    <a:pt x="1623" y="657"/>
                  </a:lnTo>
                  <a:lnTo>
                    <a:pt x="1618" y="657"/>
                  </a:lnTo>
                  <a:lnTo>
                    <a:pt x="1618" y="669"/>
                  </a:lnTo>
                  <a:lnTo>
                    <a:pt x="1614" y="669"/>
                  </a:lnTo>
                  <a:lnTo>
                    <a:pt x="1614" y="685"/>
                  </a:lnTo>
                  <a:lnTo>
                    <a:pt x="1609" y="685"/>
                  </a:lnTo>
                  <a:lnTo>
                    <a:pt x="1609" y="710"/>
                  </a:lnTo>
                  <a:lnTo>
                    <a:pt x="1604" y="710"/>
                  </a:lnTo>
                  <a:lnTo>
                    <a:pt x="1604" y="715"/>
                  </a:lnTo>
                  <a:lnTo>
                    <a:pt x="1599" y="715"/>
                  </a:lnTo>
                  <a:lnTo>
                    <a:pt x="1599" y="720"/>
                  </a:lnTo>
                  <a:lnTo>
                    <a:pt x="1595" y="720"/>
                  </a:lnTo>
                  <a:lnTo>
                    <a:pt x="1595" y="751"/>
                  </a:lnTo>
                  <a:lnTo>
                    <a:pt x="1590" y="751"/>
                  </a:lnTo>
                  <a:lnTo>
                    <a:pt x="1590" y="763"/>
                  </a:lnTo>
                  <a:lnTo>
                    <a:pt x="1585" y="763"/>
                  </a:lnTo>
                  <a:lnTo>
                    <a:pt x="1585" y="780"/>
                  </a:lnTo>
                  <a:lnTo>
                    <a:pt x="1581" y="780"/>
                  </a:lnTo>
                  <a:lnTo>
                    <a:pt x="1581" y="786"/>
                  </a:lnTo>
                  <a:lnTo>
                    <a:pt x="1576" y="786"/>
                  </a:lnTo>
                  <a:lnTo>
                    <a:pt x="1576" y="804"/>
                  </a:lnTo>
                  <a:lnTo>
                    <a:pt x="1571" y="804"/>
                  </a:lnTo>
                  <a:lnTo>
                    <a:pt x="1571" y="816"/>
                  </a:lnTo>
                  <a:lnTo>
                    <a:pt x="1566" y="816"/>
                  </a:lnTo>
                  <a:lnTo>
                    <a:pt x="1566" y="827"/>
                  </a:lnTo>
                  <a:lnTo>
                    <a:pt x="1561" y="827"/>
                  </a:lnTo>
                  <a:lnTo>
                    <a:pt x="1561" y="839"/>
                  </a:lnTo>
                  <a:lnTo>
                    <a:pt x="1556" y="839"/>
                  </a:lnTo>
                  <a:lnTo>
                    <a:pt x="1556" y="851"/>
                  </a:lnTo>
                  <a:lnTo>
                    <a:pt x="1551" y="851"/>
                  </a:lnTo>
                  <a:lnTo>
                    <a:pt x="1551" y="862"/>
                  </a:lnTo>
                  <a:lnTo>
                    <a:pt x="1546" y="862"/>
                  </a:lnTo>
                  <a:lnTo>
                    <a:pt x="1546" y="880"/>
                  </a:lnTo>
                  <a:lnTo>
                    <a:pt x="1542" y="880"/>
                  </a:lnTo>
                  <a:lnTo>
                    <a:pt x="1542" y="892"/>
                  </a:lnTo>
                  <a:lnTo>
                    <a:pt x="1537" y="892"/>
                  </a:lnTo>
                  <a:lnTo>
                    <a:pt x="1537" y="905"/>
                  </a:lnTo>
                  <a:lnTo>
                    <a:pt x="1532" y="905"/>
                  </a:lnTo>
                  <a:lnTo>
                    <a:pt x="1532" y="916"/>
                  </a:lnTo>
                  <a:lnTo>
                    <a:pt x="1528" y="916"/>
                  </a:lnTo>
                  <a:lnTo>
                    <a:pt x="1528" y="929"/>
                  </a:lnTo>
                  <a:lnTo>
                    <a:pt x="1522" y="929"/>
                  </a:lnTo>
                  <a:lnTo>
                    <a:pt x="1522" y="934"/>
                  </a:lnTo>
                  <a:lnTo>
                    <a:pt x="1518" y="934"/>
                  </a:lnTo>
                  <a:lnTo>
                    <a:pt x="1518" y="952"/>
                  </a:lnTo>
                  <a:lnTo>
                    <a:pt x="1509" y="952"/>
                  </a:lnTo>
                  <a:lnTo>
                    <a:pt x="1509" y="970"/>
                  </a:lnTo>
                  <a:lnTo>
                    <a:pt x="1503" y="970"/>
                  </a:lnTo>
                  <a:lnTo>
                    <a:pt x="1503" y="981"/>
                  </a:lnTo>
                  <a:lnTo>
                    <a:pt x="1495" y="981"/>
                  </a:lnTo>
                  <a:lnTo>
                    <a:pt x="1495" y="993"/>
                  </a:lnTo>
                  <a:lnTo>
                    <a:pt x="1488" y="993"/>
                  </a:lnTo>
                  <a:lnTo>
                    <a:pt x="1488" y="1011"/>
                  </a:lnTo>
                  <a:lnTo>
                    <a:pt x="1484" y="1011"/>
                  </a:lnTo>
                  <a:lnTo>
                    <a:pt x="1484" y="1023"/>
                  </a:lnTo>
                  <a:lnTo>
                    <a:pt x="1479" y="1023"/>
                  </a:lnTo>
                  <a:lnTo>
                    <a:pt x="1479" y="1028"/>
                  </a:lnTo>
                  <a:lnTo>
                    <a:pt x="1474" y="1028"/>
                  </a:lnTo>
                  <a:lnTo>
                    <a:pt x="1474" y="1047"/>
                  </a:lnTo>
                  <a:lnTo>
                    <a:pt x="1469" y="1047"/>
                  </a:lnTo>
                  <a:lnTo>
                    <a:pt x="1469" y="1052"/>
                  </a:lnTo>
                  <a:lnTo>
                    <a:pt x="1460" y="1052"/>
                  </a:lnTo>
                  <a:lnTo>
                    <a:pt x="1460" y="1065"/>
                  </a:lnTo>
                  <a:lnTo>
                    <a:pt x="1455" y="1065"/>
                  </a:lnTo>
                  <a:lnTo>
                    <a:pt x="1455" y="1082"/>
                  </a:lnTo>
                  <a:lnTo>
                    <a:pt x="1451" y="1082"/>
                  </a:lnTo>
                  <a:lnTo>
                    <a:pt x="1451" y="1093"/>
                  </a:lnTo>
                  <a:lnTo>
                    <a:pt x="1446" y="1093"/>
                  </a:lnTo>
                  <a:lnTo>
                    <a:pt x="1446" y="1100"/>
                  </a:lnTo>
                  <a:lnTo>
                    <a:pt x="1441" y="1100"/>
                  </a:lnTo>
                  <a:lnTo>
                    <a:pt x="1441" y="1106"/>
                  </a:lnTo>
                  <a:lnTo>
                    <a:pt x="1436" y="1106"/>
                  </a:lnTo>
                  <a:lnTo>
                    <a:pt x="1436" y="1117"/>
                  </a:lnTo>
                  <a:lnTo>
                    <a:pt x="1432" y="1117"/>
                  </a:lnTo>
                  <a:lnTo>
                    <a:pt x="1432" y="1129"/>
                  </a:lnTo>
                  <a:lnTo>
                    <a:pt x="1426" y="1129"/>
                  </a:lnTo>
                  <a:lnTo>
                    <a:pt x="1426" y="1141"/>
                  </a:lnTo>
                  <a:lnTo>
                    <a:pt x="1422" y="1141"/>
                  </a:lnTo>
                  <a:lnTo>
                    <a:pt x="1422" y="1158"/>
                  </a:lnTo>
                  <a:lnTo>
                    <a:pt x="1416" y="1158"/>
                  </a:lnTo>
                  <a:lnTo>
                    <a:pt x="1416" y="1171"/>
                  </a:lnTo>
                  <a:lnTo>
                    <a:pt x="1412" y="1171"/>
                  </a:lnTo>
                  <a:lnTo>
                    <a:pt x="1412" y="1183"/>
                  </a:lnTo>
                  <a:lnTo>
                    <a:pt x="1407" y="1183"/>
                  </a:lnTo>
                  <a:lnTo>
                    <a:pt x="1407" y="1201"/>
                  </a:lnTo>
                  <a:lnTo>
                    <a:pt x="1402" y="1201"/>
                  </a:lnTo>
                  <a:lnTo>
                    <a:pt x="1402" y="1218"/>
                  </a:lnTo>
                  <a:lnTo>
                    <a:pt x="1398" y="1218"/>
                  </a:lnTo>
                  <a:lnTo>
                    <a:pt x="1398" y="1236"/>
                  </a:lnTo>
                  <a:lnTo>
                    <a:pt x="1392" y="1236"/>
                  </a:lnTo>
                  <a:lnTo>
                    <a:pt x="1392" y="1253"/>
                  </a:lnTo>
                  <a:lnTo>
                    <a:pt x="1388" y="1253"/>
                  </a:lnTo>
                  <a:lnTo>
                    <a:pt x="1388" y="1270"/>
                  </a:lnTo>
                  <a:lnTo>
                    <a:pt x="1383" y="1270"/>
                  </a:lnTo>
                  <a:lnTo>
                    <a:pt x="1383" y="1277"/>
                  </a:lnTo>
                  <a:lnTo>
                    <a:pt x="1378" y="1277"/>
                  </a:lnTo>
                  <a:lnTo>
                    <a:pt x="1378" y="1288"/>
                  </a:lnTo>
                  <a:lnTo>
                    <a:pt x="1374" y="1288"/>
                  </a:lnTo>
                  <a:lnTo>
                    <a:pt x="1374" y="1300"/>
                  </a:lnTo>
                  <a:lnTo>
                    <a:pt x="1369" y="1300"/>
                  </a:lnTo>
                  <a:lnTo>
                    <a:pt x="1369" y="1307"/>
                  </a:lnTo>
                  <a:lnTo>
                    <a:pt x="1365" y="1307"/>
                  </a:lnTo>
                  <a:lnTo>
                    <a:pt x="1365" y="1312"/>
                  </a:lnTo>
                  <a:lnTo>
                    <a:pt x="1359" y="1312"/>
                  </a:lnTo>
                  <a:lnTo>
                    <a:pt x="1359" y="1330"/>
                  </a:lnTo>
                  <a:lnTo>
                    <a:pt x="1355" y="1330"/>
                  </a:lnTo>
                  <a:lnTo>
                    <a:pt x="1355" y="1335"/>
                  </a:lnTo>
                  <a:lnTo>
                    <a:pt x="1350" y="1335"/>
                  </a:lnTo>
                  <a:lnTo>
                    <a:pt x="1350" y="1348"/>
                  </a:lnTo>
                  <a:lnTo>
                    <a:pt x="1345" y="1348"/>
                  </a:lnTo>
                  <a:lnTo>
                    <a:pt x="1345" y="1365"/>
                  </a:lnTo>
                  <a:lnTo>
                    <a:pt x="1339" y="1365"/>
                  </a:lnTo>
                  <a:lnTo>
                    <a:pt x="1339" y="1378"/>
                  </a:lnTo>
                  <a:lnTo>
                    <a:pt x="1335" y="1378"/>
                  </a:lnTo>
                  <a:lnTo>
                    <a:pt x="1335" y="1389"/>
                  </a:lnTo>
                  <a:lnTo>
                    <a:pt x="1330" y="1389"/>
                  </a:lnTo>
                  <a:lnTo>
                    <a:pt x="1330" y="1401"/>
                  </a:lnTo>
                  <a:lnTo>
                    <a:pt x="1325" y="1401"/>
                  </a:lnTo>
                  <a:lnTo>
                    <a:pt x="1325" y="1419"/>
                  </a:lnTo>
                  <a:lnTo>
                    <a:pt x="1321" y="1419"/>
                  </a:lnTo>
                  <a:lnTo>
                    <a:pt x="1321" y="1430"/>
                  </a:lnTo>
                  <a:lnTo>
                    <a:pt x="1316" y="1430"/>
                  </a:lnTo>
                  <a:lnTo>
                    <a:pt x="1316" y="1438"/>
                  </a:lnTo>
                  <a:lnTo>
                    <a:pt x="1311" y="1438"/>
                  </a:lnTo>
                  <a:lnTo>
                    <a:pt x="1311" y="1443"/>
                  </a:lnTo>
                  <a:lnTo>
                    <a:pt x="1307" y="1443"/>
                  </a:lnTo>
                  <a:lnTo>
                    <a:pt x="1307" y="1454"/>
                  </a:lnTo>
                  <a:lnTo>
                    <a:pt x="1302" y="1454"/>
                  </a:lnTo>
                  <a:lnTo>
                    <a:pt x="1302" y="1471"/>
                  </a:lnTo>
                  <a:lnTo>
                    <a:pt x="1297" y="1471"/>
                  </a:lnTo>
                  <a:lnTo>
                    <a:pt x="1297" y="1490"/>
                  </a:lnTo>
                  <a:lnTo>
                    <a:pt x="1292" y="1490"/>
                  </a:lnTo>
                  <a:lnTo>
                    <a:pt x="1292" y="1501"/>
                  </a:lnTo>
                  <a:lnTo>
                    <a:pt x="1288" y="1501"/>
                  </a:lnTo>
                  <a:lnTo>
                    <a:pt x="1288" y="1514"/>
                  </a:lnTo>
                  <a:lnTo>
                    <a:pt x="1282" y="1514"/>
                  </a:lnTo>
                  <a:lnTo>
                    <a:pt x="1282" y="1525"/>
                  </a:lnTo>
                  <a:lnTo>
                    <a:pt x="1278" y="1525"/>
                  </a:lnTo>
                  <a:lnTo>
                    <a:pt x="1278" y="1531"/>
                  </a:lnTo>
                  <a:lnTo>
                    <a:pt x="1274" y="1531"/>
                  </a:lnTo>
                  <a:lnTo>
                    <a:pt x="1274" y="1544"/>
                  </a:lnTo>
                  <a:lnTo>
                    <a:pt x="1268" y="1544"/>
                  </a:lnTo>
                  <a:lnTo>
                    <a:pt x="1268" y="1566"/>
                  </a:lnTo>
                  <a:lnTo>
                    <a:pt x="1263" y="1566"/>
                  </a:lnTo>
                  <a:lnTo>
                    <a:pt x="1263" y="1579"/>
                  </a:lnTo>
                  <a:lnTo>
                    <a:pt x="1258" y="1579"/>
                  </a:lnTo>
                  <a:lnTo>
                    <a:pt x="1258" y="1607"/>
                  </a:lnTo>
                  <a:lnTo>
                    <a:pt x="1254" y="1607"/>
                  </a:lnTo>
                  <a:lnTo>
                    <a:pt x="1254" y="1625"/>
                  </a:lnTo>
                  <a:lnTo>
                    <a:pt x="1248" y="1625"/>
                  </a:lnTo>
                  <a:lnTo>
                    <a:pt x="1248" y="1637"/>
                  </a:lnTo>
                  <a:lnTo>
                    <a:pt x="1244" y="1637"/>
                  </a:lnTo>
                  <a:lnTo>
                    <a:pt x="1244" y="1649"/>
                  </a:lnTo>
                  <a:lnTo>
                    <a:pt x="1240" y="1649"/>
                  </a:lnTo>
                  <a:lnTo>
                    <a:pt x="1240" y="1666"/>
                  </a:lnTo>
                  <a:lnTo>
                    <a:pt x="1234" y="1666"/>
                  </a:lnTo>
                  <a:lnTo>
                    <a:pt x="1234" y="1685"/>
                  </a:lnTo>
                  <a:lnTo>
                    <a:pt x="1230" y="1685"/>
                  </a:lnTo>
                  <a:lnTo>
                    <a:pt x="1230" y="1697"/>
                  </a:lnTo>
                  <a:lnTo>
                    <a:pt x="1225" y="1697"/>
                  </a:lnTo>
                  <a:lnTo>
                    <a:pt x="1225" y="1720"/>
                  </a:lnTo>
                  <a:lnTo>
                    <a:pt x="1220" y="1720"/>
                  </a:lnTo>
                  <a:lnTo>
                    <a:pt x="1220" y="1726"/>
                  </a:lnTo>
                  <a:lnTo>
                    <a:pt x="1215" y="1726"/>
                  </a:lnTo>
                  <a:lnTo>
                    <a:pt x="1215" y="1743"/>
                  </a:lnTo>
                  <a:lnTo>
                    <a:pt x="1211" y="1743"/>
                  </a:lnTo>
                  <a:lnTo>
                    <a:pt x="1211" y="1756"/>
                  </a:lnTo>
                  <a:lnTo>
                    <a:pt x="1206" y="1756"/>
                  </a:lnTo>
                  <a:lnTo>
                    <a:pt x="1206" y="1792"/>
                  </a:lnTo>
                  <a:lnTo>
                    <a:pt x="1201" y="1792"/>
                  </a:lnTo>
                  <a:lnTo>
                    <a:pt x="1201" y="1815"/>
                  </a:lnTo>
                  <a:lnTo>
                    <a:pt x="1196" y="1815"/>
                  </a:lnTo>
                  <a:lnTo>
                    <a:pt x="1196" y="1838"/>
                  </a:lnTo>
                  <a:lnTo>
                    <a:pt x="1191" y="1838"/>
                  </a:lnTo>
                  <a:lnTo>
                    <a:pt x="1191" y="1857"/>
                  </a:lnTo>
                  <a:lnTo>
                    <a:pt x="1186" y="1857"/>
                  </a:lnTo>
                  <a:lnTo>
                    <a:pt x="1186" y="1898"/>
                  </a:lnTo>
                  <a:lnTo>
                    <a:pt x="1181" y="1898"/>
                  </a:lnTo>
                  <a:lnTo>
                    <a:pt x="1181" y="1921"/>
                  </a:lnTo>
                  <a:lnTo>
                    <a:pt x="1177" y="1921"/>
                  </a:lnTo>
                  <a:lnTo>
                    <a:pt x="1177" y="1939"/>
                  </a:lnTo>
                  <a:lnTo>
                    <a:pt x="1172" y="1939"/>
                  </a:lnTo>
                  <a:lnTo>
                    <a:pt x="1172" y="1962"/>
                  </a:lnTo>
                  <a:lnTo>
                    <a:pt x="1167" y="1962"/>
                  </a:lnTo>
                  <a:lnTo>
                    <a:pt x="1167" y="1979"/>
                  </a:lnTo>
                  <a:lnTo>
                    <a:pt x="1162" y="1979"/>
                  </a:lnTo>
                  <a:lnTo>
                    <a:pt x="1162" y="2010"/>
                  </a:lnTo>
                  <a:lnTo>
                    <a:pt x="1158" y="2010"/>
                  </a:lnTo>
                  <a:lnTo>
                    <a:pt x="1158" y="2015"/>
                  </a:lnTo>
                  <a:lnTo>
                    <a:pt x="1153" y="2015"/>
                  </a:lnTo>
                  <a:lnTo>
                    <a:pt x="1153" y="2069"/>
                  </a:lnTo>
                  <a:lnTo>
                    <a:pt x="1148" y="2069"/>
                  </a:lnTo>
                  <a:lnTo>
                    <a:pt x="1148" y="2093"/>
                  </a:lnTo>
                  <a:lnTo>
                    <a:pt x="1144" y="2093"/>
                  </a:lnTo>
                  <a:lnTo>
                    <a:pt x="1144" y="2146"/>
                  </a:lnTo>
                  <a:lnTo>
                    <a:pt x="1138" y="2146"/>
                  </a:lnTo>
                  <a:lnTo>
                    <a:pt x="1138" y="2170"/>
                  </a:lnTo>
                  <a:lnTo>
                    <a:pt x="1134" y="2170"/>
                  </a:lnTo>
                  <a:lnTo>
                    <a:pt x="1134" y="2199"/>
                  </a:lnTo>
                  <a:lnTo>
                    <a:pt x="1129" y="2199"/>
                  </a:lnTo>
                  <a:lnTo>
                    <a:pt x="1129" y="2229"/>
                  </a:lnTo>
                  <a:lnTo>
                    <a:pt x="1124" y="2229"/>
                  </a:lnTo>
                  <a:lnTo>
                    <a:pt x="1124" y="2281"/>
                  </a:lnTo>
                  <a:lnTo>
                    <a:pt x="1118" y="2281"/>
                  </a:lnTo>
                  <a:lnTo>
                    <a:pt x="1118" y="2335"/>
                  </a:lnTo>
                  <a:lnTo>
                    <a:pt x="1114" y="2335"/>
                  </a:lnTo>
                  <a:lnTo>
                    <a:pt x="1114" y="2359"/>
                  </a:lnTo>
                  <a:lnTo>
                    <a:pt x="1110" y="2359"/>
                  </a:lnTo>
                  <a:lnTo>
                    <a:pt x="1110" y="2371"/>
                  </a:lnTo>
                  <a:lnTo>
                    <a:pt x="1104" y="2371"/>
                  </a:lnTo>
                  <a:lnTo>
                    <a:pt x="1104" y="2400"/>
                  </a:lnTo>
                  <a:lnTo>
                    <a:pt x="1100" y="2400"/>
                  </a:lnTo>
                  <a:lnTo>
                    <a:pt x="1100" y="2417"/>
                  </a:lnTo>
                  <a:lnTo>
                    <a:pt x="1095" y="2417"/>
                  </a:lnTo>
                  <a:lnTo>
                    <a:pt x="1095" y="2435"/>
                  </a:lnTo>
                  <a:lnTo>
                    <a:pt x="1090" y="2435"/>
                  </a:lnTo>
                  <a:lnTo>
                    <a:pt x="1090" y="2447"/>
                  </a:lnTo>
                  <a:lnTo>
                    <a:pt x="1085" y="2447"/>
                  </a:lnTo>
                  <a:lnTo>
                    <a:pt x="1085" y="2493"/>
                  </a:lnTo>
                  <a:lnTo>
                    <a:pt x="1081" y="2493"/>
                  </a:lnTo>
                  <a:lnTo>
                    <a:pt x="1081" y="2525"/>
                  </a:lnTo>
                  <a:lnTo>
                    <a:pt x="1076" y="2525"/>
                  </a:lnTo>
                  <a:lnTo>
                    <a:pt x="1076" y="2559"/>
                  </a:lnTo>
                  <a:lnTo>
                    <a:pt x="1071" y="2559"/>
                  </a:lnTo>
                  <a:lnTo>
                    <a:pt x="1071" y="2653"/>
                  </a:lnTo>
                  <a:lnTo>
                    <a:pt x="1067" y="2653"/>
                  </a:lnTo>
                  <a:lnTo>
                    <a:pt x="1067" y="2730"/>
                  </a:lnTo>
                  <a:lnTo>
                    <a:pt x="1062" y="2730"/>
                  </a:lnTo>
                  <a:lnTo>
                    <a:pt x="1062" y="2760"/>
                  </a:lnTo>
                  <a:lnTo>
                    <a:pt x="1067" y="2760"/>
                  </a:lnTo>
                  <a:lnTo>
                    <a:pt x="1067" y="2779"/>
                  </a:lnTo>
                  <a:lnTo>
                    <a:pt x="1062" y="2779"/>
                  </a:lnTo>
                  <a:lnTo>
                    <a:pt x="1062" y="2808"/>
                  </a:lnTo>
                  <a:lnTo>
                    <a:pt x="1067" y="2808"/>
                  </a:lnTo>
                  <a:lnTo>
                    <a:pt x="1067" y="2860"/>
                  </a:lnTo>
                  <a:lnTo>
                    <a:pt x="1071" y="2860"/>
                  </a:lnTo>
                  <a:lnTo>
                    <a:pt x="1071" y="2879"/>
                  </a:lnTo>
                  <a:lnTo>
                    <a:pt x="1067" y="2879"/>
                  </a:lnTo>
                  <a:lnTo>
                    <a:pt x="1067" y="2966"/>
                  </a:lnTo>
                  <a:lnTo>
                    <a:pt x="1071" y="2966"/>
                  </a:lnTo>
                  <a:lnTo>
                    <a:pt x="1071" y="2979"/>
                  </a:lnTo>
                  <a:lnTo>
                    <a:pt x="1067" y="2979"/>
                  </a:lnTo>
                  <a:lnTo>
                    <a:pt x="1067" y="2991"/>
                  </a:lnTo>
                  <a:lnTo>
                    <a:pt x="1071" y="2991"/>
                  </a:lnTo>
                  <a:lnTo>
                    <a:pt x="1071" y="3044"/>
                  </a:lnTo>
                  <a:lnTo>
                    <a:pt x="1076" y="3044"/>
                  </a:lnTo>
                  <a:lnTo>
                    <a:pt x="1076" y="3121"/>
                  </a:lnTo>
                  <a:lnTo>
                    <a:pt x="1081" y="3121"/>
                  </a:lnTo>
                  <a:lnTo>
                    <a:pt x="1081" y="3203"/>
                  </a:lnTo>
                  <a:lnTo>
                    <a:pt x="1085" y="3203"/>
                  </a:lnTo>
                  <a:lnTo>
                    <a:pt x="1085" y="3245"/>
                  </a:lnTo>
                  <a:lnTo>
                    <a:pt x="1090" y="3245"/>
                  </a:lnTo>
                  <a:lnTo>
                    <a:pt x="1090" y="3292"/>
                  </a:lnTo>
                  <a:lnTo>
                    <a:pt x="1095" y="3292"/>
                  </a:lnTo>
                  <a:lnTo>
                    <a:pt x="1095" y="3316"/>
                  </a:lnTo>
                  <a:lnTo>
                    <a:pt x="1100" y="3316"/>
                  </a:lnTo>
                  <a:lnTo>
                    <a:pt x="1100" y="3333"/>
                  </a:lnTo>
                  <a:lnTo>
                    <a:pt x="1104" y="3333"/>
                  </a:lnTo>
                  <a:lnTo>
                    <a:pt x="1104" y="3363"/>
                  </a:lnTo>
                  <a:lnTo>
                    <a:pt x="1110" y="3363"/>
                  </a:lnTo>
                  <a:lnTo>
                    <a:pt x="1110" y="3393"/>
                  </a:lnTo>
                  <a:lnTo>
                    <a:pt x="1114" y="3393"/>
                  </a:lnTo>
                  <a:lnTo>
                    <a:pt x="1114" y="3417"/>
                  </a:lnTo>
                  <a:lnTo>
                    <a:pt x="1118" y="3417"/>
                  </a:lnTo>
                  <a:lnTo>
                    <a:pt x="1118" y="3439"/>
                  </a:lnTo>
                  <a:lnTo>
                    <a:pt x="1124" y="3439"/>
                  </a:lnTo>
                  <a:lnTo>
                    <a:pt x="1124" y="3470"/>
                  </a:lnTo>
                  <a:lnTo>
                    <a:pt x="1129" y="3470"/>
                  </a:lnTo>
                  <a:lnTo>
                    <a:pt x="1129" y="3488"/>
                  </a:lnTo>
                  <a:lnTo>
                    <a:pt x="1134" y="3488"/>
                  </a:lnTo>
                  <a:lnTo>
                    <a:pt x="1134" y="3499"/>
                  </a:lnTo>
                  <a:lnTo>
                    <a:pt x="1138" y="3499"/>
                  </a:lnTo>
                  <a:lnTo>
                    <a:pt x="1138" y="3523"/>
                  </a:lnTo>
                  <a:lnTo>
                    <a:pt x="1144" y="3523"/>
                  </a:lnTo>
                  <a:lnTo>
                    <a:pt x="1144" y="3553"/>
                  </a:lnTo>
                  <a:lnTo>
                    <a:pt x="1148" y="3553"/>
                  </a:lnTo>
                  <a:lnTo>
                    <a:pt x="1148" y="3570"/>
                  </a:lnTo>
                  <a:lnTo>
                    <a:pt x="1153" y="3570"/>
                  </a:lnTo>
                  <a:lnTo>
                    <a:pt x="1153" y="3594"/>
                  </a:lnTo>
                  <a:lnTo>
                    <a:pt x="1158" y="3594"/>
                  </a:lnTo>
                  <a:lnTo>
                    <a:pt x="1158" y="3624"/>
                  </a:lnTo>
                  <a:lnTo>
                    <a:pt x="1162" y="3624"/>
                  </a:lnTo>
                  <a:lnTo>
                    <a:pt x="1162" y="3630"/>
                  </a:lnTo>
                  <a:lnTo>
                    <a:pt x="1167" y="3630"/>
                  </a:lnTo>
                  <a:lnTo>
                    <a:pt x="1167" y="3641"/>
                  </a:lnTo>
                  <a:lnTo>
                    <a:pt x="1172" y="3641"/>
                  </a:lnTo>
                  <a:lnTo>
                    <a:pt x="1172" y="3653"/>
                  </a:lnTo>
                  <a:lnTo>
                    <a:pt x="1177" y="3653"/>
                  </a:lnTo>
                  <a:lnTo>
                    <a:pt x="1177" y="3665"/>
                  </a:lnTo>
                  <a:lnTo>
                    <a:pt x="1181" y="3665"/>
                  </a:lnTo>
                  <a:lnTo>
                    <a:pt x="1181" y="3676"/>
                  </a:lnTo>
                  <a:lnTo>
                    <a:pt x="1186" y="3676"/>
                  </a:lnTo>
                  <a:lnTo>
                    <a:pt x="1186" y="3689"/>
                  </a:lnTo>
                  <a:lnTo>
                    <a:pt x="1191" y="3689"/>
                  </a:lnTo>
                  <a:lnTo>
                    <a:pt x="1191" y="3700"/>
                  </a:lnTo>
                  <a:lnTo>
                    <a:pt x="1196" y="3700"/>
                  </a:lnTo>
                  <a:lnTo>
                    <a:pt x="1196" y="3711"/>
                  </a:lnTo>
                  <a:lnTo>
                    <a:pt x="1201" y="3711"/>
                  </a:lnTo>
                  <a:lnTo>
                    <a:pt x="1201" y="3724"/>
                  </a:lnTo>
                  <a:lnTo>
                    <a:pt x="1206" y="3724"/>
                  </a:lnTo>
                  <a:lnTo>
                    <a:pt x="1206" y="3742"/>
                  </a:lnTo>
                  <a:lnTo>
                    <a:pt x="1211" y="3742"/>
                  </a:lnTo>
                  <a:lnTo>
                    <a:pt x="1211" y="3752"/>
                  </a:lnTo>
                  <a:lnTo>
                    <a:pt x="1215" y="3752"/>
                  </a:lnTo>
                  <a:lnTo>
                    <a:pt x="1215" y="3765"/>
                  </a:lnTo>
                  <a:lnTo>
                    <a:pt x="1220" y="3765"/>
                  </a:lnTo>
                  <a:lnTo>
                    <a:pt x="1220" y="3784"/>
                  </a:lnTo>
                  <a:lnTo>
                    <a:pt x="1225" y="3784"/>
                  </a:lnTo>
                  <a:lnTo>
                    <a:pt x="1225" y="3789"/>
                  </a:lnTo>
                  <a:lnTo>
                    <a:pt x="1230" y="3789"/>
                  </a:lnTo>
                  <a:lnTo>
                    <a:pt x="1230" y="3801"/>
                  </a:lnTo>
                  <a:lnTo>
                    <a:pt x="1234" y="3801"/>
                  </a:lnTo>
                  <a:lnTo>
                    <a:pt x="1234" y="3819"/>
                  </a:lnTo>
                  <a:lnTo>
                    <a:pt x="1240" y="3819"/>
                  </a:lnTo>
                  <a:lnTo>
                    <a:pt x="1240" y="3830"/>
                  </a:lnTo>
                  <a:lnTo>
                    <a:pt x="1244" y="3830"/>
                  </a:lnTo>
                  <a:lnTo>
                    <a:pt x="1244" y="3836"/>
                  </a:lnTo>
                  <a:lnTo>
                    <a:pt x="1248" y="3836"/>
                  </a:lnTo>
                  <a:lnTo>
                    <a:pt x="1248" y="3847"/>
                  </a:lnTo>
                  <a:lnTo>
                    <a:pt x="1254" y="3847"/>
                  </a:lnTo>
                  <a:lnTo>
                    <a:pt x="1254" y="3860"/>
                  </a:lnTo>
                  <a:lnTo>
                    <a:pt x="1258" y="3860"/>
                  </a:lnTo>
                  <a:lnTo>
                    <a:pt x="1258" y="3871"/>
                  </a:lnTo>
                  <a:lnTo>
                    <a:pt x="1263" y="3871"/>
                  </a:lnTo>
                  <a:lnTo>
                    <a:pt x="1263" y="3883"/>
                  </a:lnTo>
                  <a:lnTo>
                    <a:pt x="1268" y="3883"/>
                  </a:lnTo>
                  <a:lnTo>
                    <a:pt x="1268" y="3895"/>
                  </a:lnTo>
                  <a:lnTo>
                    <a:pt x="1274" y="3895"/>
                  </a:lnTo>
                  <a:lnTo>
                    <a:pt x="1274" y="3907"/>
                  </a:lnTo>
                  <a:lnTo>
                    <a:pt x="1278" y="3907"/>
                  </a:lnTo>
                  <a:lnTo>
                    <a:pt x="1278" y="3920"/>
                  </a:lnTo>
                  <a:lnTo>
                    <a:pt x="1282" y="3920"/>
                  </a:lnTo>
                  <a:lnTo>
                    <a:pt x="1282" y="3931"/>
                  </a:lnTo>
                  <a:lnTo>
                    <a:pt x="1288" y="3931"/>
                  </a:lnTo>
                  <a:lnTo>
                    <a:pt x="1288" y="3943"/>
                  </a:lnTo>
                  <a:lnTo>
                    <a:pt x="1292" y="3943"/>
                  </a:lnTo>
                  <a:lnTo>
                    <a:pt x="1292" y="3953"/>
                  </a:lnTo>
                  <a:lnTo>
                    <a:pt x="1297" y="3953"/>
                  </a:lnTo>
                  <a:lnTo>
                    <a:pt x="1297" y="3961"/>
                  </a:lnTo>
                  <a:lnTo>
                    <a:pt x="1302" y="3961"/>
                  </a:lnTo>
                  <a:lnTo>
                    <a:pt x="1302" y="3978"/>
                  </a:lnTo>
                  <a:lnTo>
                    <a:pt x="1307" y="3978"/>
                  </a:lnTo>
                  <a:lnTo>
                    <a:pt x="1307" y="3985"/>
                  </a:lnTo>
                  <a:lnTo>
                    <a:pt x="1311" y="3985"/>
                  </a:lnTo>
                  <a:lnTo>
                    <a:pt x="1311" y="3996"/>
                  </a:lnTo>
                  <a:lnTo>
                    <a:pt x="1316" y="3996"/>
                  </a:lnTo>
                  <a:lnTo>
                    <a:pt x="1316" y="4002"/>
                  </a:lnTo>
                  <a:lnTo>
                    <a:pt x="1321" y="4002"/>
                  </a:lnTo>
                  <a:lnTo>
                    <a:pt x="1321" y="4007"/>
                  </a:lnTo>
                  <a:lnTo>
                    <a:pt x="1325" y="4007"/>
                  </a:lnTo>
                  <a:lnTo>
                    <a:pt x="1325" y="4013"/>
                  </a:lnTo>
                  <a:lnTo>
                    <a:pt x="1330" y="4013"/>
                  </a:lnTo>
                  <a:lnTo>
                    <a:pt x="1330" y="4026"/>
                  </a:lnTo>
                  <a:lnTo>
                    <a:pt x="1335" y="4026"/>
                  </a:lnTo>
                  <a:lnTo>
                    <a:pt x="1335" y="4038"/>
                  </a:lnTo>
                  <a:lnTo>
                    <a:pt x="1339" y="4038"/>
                  </a:lnTo>
                  <a:lnTo>
                    <a:pt x="1339" y="4049"/>
                  </a:lnTo>
                  <a:lnTo>
                    <a:pt x="1345" y="4049"/>
                  </a:lnTo>
                  <a:lnTo>
                    <a:pt x="1345" y="4061"/>
                  </a:lnTo>
                  <a:lnTo>
                    <a:pt x="1350" y="4061"/>
                  </a:lnTo>
                  <a:lnTo>
                    <a:pt x="1350" y="4072"/>
                  </a:lnTo>
                  <a:lnTo>
                    <a:pt x="1355" y="4072"/>
                  </a:lnTo>
                  <a:lnTo>
                    <a:pt x="1355" y="4079"/>
                  </a:lnTo>
                  <a:lnTo>
                    <a:pt x="1359" y="4079"/>
                  </a:lnTo>
                  <a:lnTo>
                    <a:pt x="1359" y="4097"/>
                  </a:lnTo>
                  <a:lnTo>
                    <a:pt x="1365" y="4097"/>
                  </a:lnTo>
                  <a:lnTo>
                    <a:pt x="1365" y="4108"/>
                  </a:lnTo>
                  <a:lnTo>
                    <a:pt x="1369" y="4108"/>
                  </a:lnTo>
                  <a:lnTo>
                    <a:pt x="1369" y="4119"/>
                  </a:lnTo>
                  <a:lnTo>
                    <a:pt x="1374" y="4119"/>
                  </a:lnTo>
                  <a:lnTo>
                    <a:pt x="1374" y="4126"/>
                  </a:lnTo>
                  <a:lnTo>
                    <a:pt x="1378" y="4126"/>
                  </a:lnTo>
                  <a:lnTo>
                    <a:pt x="1378" y="4131"/>
                  </a:lnTo>
                  <a:lnTo>
                    <a:pt x="1383" y="4131"/>
                  </a:lnTo>
                  <a:lnTo>
                    <a:pt x="1383" y="4143"/>
                  </a:lnTo>
                  <a:lnTo>
                    <a:pt x="1388" y="4143"/>
                  </a:lnTo>
                  <a:lnTo>
                    <a:pt x="1388" y="4155"/>
                  </a:lnTo>
                  <a:lnTo>
                    <a:pt x="1392" y="4155"/>
                  </a:lnTo>
                  <a:lnTo>
                    <a:pt x="1392" y="4167"/>
                  </a:lnTo>
                  <a:lnTo>
                    <a:pt x="1398" y="4167"/>
                  </a:lnTo>
                  <a:lnTo>
                    <a:pt x="1398" y="4173"/>
                  </a:lnTo>
                  <a:lnTo>
                    <a:pt x="1402" y="4173"/>
                  </a:lnTo>
                  <a:lnTo>
                    <a:pt x="1402" y="4184"/>
                  </a:lnTo>
                  <a:lnTo>
                    <a:pt x="1407" y="4184"/>
                  </a:lnTo>
                  <a:lnTo>
                    <a:pt x="1407" y="4203"/>
                  </a:lnTo>
                  <a:lnTo>
                    <a:pt x="1412" y="4203"/>
                  </a:lnTo>
                  <a:lnTo>
                    <a:pt x="1412" y="4214"/>
                  </a:lnTo>
                  <a:lnTo>
                    <a:pt x="1416" y="4214"/>
                  </a:lnTo>
                  <a:lnTo>
                    <a:pt x="1416" y="4225"/>
                  </a:lnTo>
                  <a:lnTo>
                    <a:pt x="1422" y="4225"/>
                  </a:lnTo>
                  <a:lnTo>
                    <a:pt x="1422" y="4238"/>
                  </a:lnTo>
                  <a:lnTo>
                    <a:pt x="1426" y="4238"/>
                  </a:lnTo>
                  <a:lnTo>
                    <a:pt x="1426" y="4244"/>
                  </a:lnTo>
                  <a:lnTo>
                    <a:pt x="1432" y="4244"/>
                  </a:lnTo>
                  <a:lnTo>
                    <a:pt x="1432" y="4249"/>
                  </a:lnTo>
                  <a:lnTo>
                    <a:pt x="1436" y="4249"/>
                  </a:lnTo>
                  <a:lnTo>
                    <a:pt x="1436" y="4262"/>
                  </a:lnTo>
                  <a:lnTo>
                    <a:pt x="1441" y="4262"/>
                  </a:lnTo>
                  <a:lnTo>
                    <a:pt x="1441" y="4285"/>
                  </a:lnTo>
                  <a:lnTo>
                    <a:pt x="1446" y="4285"/>
                  </a:lnTo>
                  <a:lnTo>
                    <a:pt x="1446" y="4309"/>
                  </a:lnTo>
                  <a:lnTo>
                    <a:pt x="1441" y="4309"/>
                  </a:lnTo>
                  <a:lnTo>
                    <a:pt x="1441" y="4315"/>
                  </a:lnTo>
                  <a:lnTo>
                    <a:pt x="1436" y="4315"/>
                  </a:lnTo>
                  <a:lnTo>
                    <a:pt x="1436" y="4339"/>
                  </a:lnTo>
                  <a:lnTo>
                    <a:pt x="1432" y="4339"/>
                  </a:lnTo>
                  <a:lnTo>
                    <a:pt x="1432" y="4344"/>
                  </a:lnTo>
                  <a:lnTo>
                    <a:pt x="1426" y="4344"/>
                  </a:lnTo>
                  <a:lnTo>
                    <a:pt x="1426" y="4350"/>
                  </a:lnTo>
                  <a:lnTo>
                    <a:pt x="1416" y="4350"/>
                  </a:lnTo>
                  <a:lnTo>
                    <a:pt x="1416" y="4356"/>
                  </a:lnTo>
                  <a:lnTo>
                    <a:pt x="1412" y="4356"/>
                  </a:lnTo>
                  <a:lnTo>
                    <a:pt x="1412" y="4368"/>
                  </a:lnTo>
                  <a:lnTo>
                    <a:pt x="1402" y="4368"/>
                  </a:lnTo>
                  <a:lnTo>
                    <a:pt x="1402" y="4380"/>
                  </a:lnTo>
                  <a:lnTo>
                    <a:pt x="1398" y="4380"/>
                  </a:lnTo>
                  <a:lnTo>
                    <a:pt x="1398" y="4385"/>
                  </a:lnTo>
                  <a:lnTo>
                    <a:pt x="1388" y="4385"/>
                  </a:lnTo>
                  <a:lnTo>
                    <a:pt x="1388" y="4398"/>
                  </a:lnTo>
                  <a:lnTo>
                    <a:pt x="1383" y="4398"/>
                  </a:lnTo>
                  <a:lnTo>
                    <a:pt x="1383" y="4404"/>
                  </a:lnTo>
                  <a:lnTo>
                    <a:pt x="1378" y="4404"/>
                  </a:lnTo>
                  <a:lnTo>
                    <a:pt x="1378" y="4410"/>
                  </a:lnTo>
                  <a:lnTo>
                    <a:pt x="1369" y="4410"/>
                  </a:lnTo>
                  <a:lnTo>
                    <a:pt x="1369" y="4416"/>
                  </a:lnTo>
                  <a:lnTo>
                    <a:pt x="1359" y="4416"/>
                  </a:lnTo>
                  <a:lnTo>
                    <a:pt x="1359" y="4421"/>
                  </a:lnTo>
                  <a:lnTo>
                    <a:pt x="1355" y="4421"/>
                  </a:lnTo>
                  <a:lnTo>
                    <a:pt x="1355" y="4426"/>
                  </a:lnTo>
                  <a:lnTo>
                    <a:pt x="1345" y="4426"/>
                  </a:lnTo>
                  <a:lnTo>
                    <a:pt x="1345" y="4434"/>
                  </a:lnTo>
                  <a:lnTo>
                    <a:pt x="1339" y="4434"/>
                  </a:lnTo>
                  <a:lnTo>
                    <a:pt x="1339" y="4439"/>
                  </a:lnTo>
                  <a:lnTo>
                    <a:pt x="1335" y="4439"/>
                  </a:lnTo>
                  <a:lnTo>
                    <a:pt x="1335" y="4445"/>
                  </a:lnTo>
                  <a:lnTo>
                    <a:pt x="1330" y="4445"/>
                  </a:lnTo>
                  <a:lnTo>
                    <a:pt x="1330" y="4451"/>
                  </a:lnTo>
                  <a:lnTo>
                    <a:pt x="1321" y="4451"/>
                  </a:lnTo>
                  <a:lnTo>
                    <a:pt x="1321" y="4457"/>
                  </a:lnTo>
                  <a:lnTo>
                    <a:pt x="1316" y="4457"/>
                  </a:lnTo>
                  <a:lnTo>
                    <a:pt x="1316" y="4462"/>
                  </a:lnTo>
                  <a:lnTo>
                    <a:pt x="1311" y="4462"/>
                  </a:lnTo>
                  <a:lnTo>
                    <a:pt x="1311" y="4469"/>
                  </a:lnTo>
                  <a:lnTo>
                    <a:pt x="1302" y="4469"/>
                  </a:lnTo>
                  <a:lnTo>
                    <a:pt x="1302" y="4475"/>
                  </a:lnTo>
                  <a:lnTo>
                    <a:pt x="1297" y="4475"/>
                  </a:lnTo>
                  <a:lnTo>
                    <a:pt x="1297" y="4480"/>
                  </a:lnTo>
                  <a:lnTo>
                    <a:pt x="1288" y="4480"/>
                  </a:lnTo>
                  <a:lnTo>
                    <a:pt x="1288" y="4486"/>
                  </a:lnTo>
                  <a:lnTo>
                    <a:pt x="1282" y="4486"/>
                  </a:lnTo>
                  <a:lnTo>
                    <a:pt x="1282" y="4499"/>
                  </a:lnTo>
                  <a:lnTo>
                    <a:pt x="1278" y="4499"/>
                  </a:lnTo>
                  <a:lnTo>
                    <a:pt x="1278" y="4504"/>
                  </a:lnTo>
                  <a:lnTo>
                    <a:pt x="1274" y="4504"/>
                  </a:lnTo>
                  <a:lnTo>
                    <a:pt x="1274" y="4510"/>
                  </a:lnTo>
                  <a:lnTo>
                    <a:pt x="1263" y="4510"/>
                  </a:lnTo>
                  <a:lnTo>
                    <a:pt x="1263" y="4516"/>
                  </a:lnTo>
                  <a:lnTo>
                    <a:pt x="1258" y="4516"/>
                  </a:lnTo>
                  <a:lnTo>
                    <a:pt x="1258" y="4529"/>
                  </a:lnTo>
                  <a:lnTo>
                    <a:pt x="1254" y="4529"/>
                  </a:lnTo>
                  <a:lnTo>
                    <a:pt x="1254" y="4534"/>
                  </a:lnTo>
                  <a:lnTo>
                    <a:pt x="1248" y="4534"/>
                  </a:lnTo>
                  <a:lnTo>
                    <a:pt x="1248" y="4539"/>
                  </a:lnTo>
                  <a:lnTo>
                    <a:pt x="1244" y="4539"/>
                  </a:lnTo>
                  <a:lnTo>
                    <a:pt x="1244" y="4545"/>
                  </a:lnTo>
                  <a:lnTo>
                    <a:pt x="1240" y="4545"/>
                  </a:lnTo>
                  <a:lnTo>
                    <a:pt x="1240" y="4551"/>
                  </a:lnTo>
                  <a:lnTo>
                    <a:pt x="1230" y="4551"/>
                  </a:lnTo>
                  <a:lnTo>
                    <a:pt x="1230" y="4557"/>
                  </a:lnTo>
                  <a:lnTo>
                    <a:pt x="1225" y="4557"/>
                  </a:lnTo>
                  <a:lnTo>
                    <a:pt x="1225" y="4562"/>
                  </a:lnTo>
                  <a:lnTo>
                    <a:pt x="1215" y="4562"/>
                  </a:lnTo>
                  <a:lnTo>
                    <a:pt x="1215" y="4570"/>
                  </a:lnTo>
                  <a:lnTo>
                    <a:pt x="1211" y="4570"/>
                  </a:lnTo>
                  <a:lnTo>
                    <a:pt x="1211" y="4575"/>
                  </a:lnTo>
                  <a:lnTo>
                    <a:pt x="1206" y="4575"/>
                  </a:lnTo>
                  <a:lnTo>
                    <a:pt x="1206" y="4580"/>
                  </a:lnTo>
                  <a:lnTo>
                    <a:pt x="1201" y="4580"/>
                  </a:lnTo>
                  <a:lnTo>
                    <a:pt x="1201" y="4587"/>
                  </a:lnTo>
                  <a:lnTo>
                    <a:pt x="1196" y="4587"/>
                  </a:lnTo>
                  <a:lnTo>
                    <a:pt x="1196" y="4592"/>
                  </a:lnTo>
                  <a:lnTo>
                    <a:pt x="1191" y="4592"/>
                  </a:lnTo>
                  <a:lnTo>
                    <a:pt x="1191" y="4598"/>
                  </a:lnTo>
                  <a:lnTo>
                    <a:pt x="1186" y="4598"/>
                  </a:lnTo>
                  <a:lnTo>
                    <a:pt x="1186" y="4603"/>
                  </a:lnTo>
                  <a:lnTo>
                    <a:pt x="1181" y="4603"/>
                  </a:lnTo>
                  <a:lnTo>
                    <a:pt x="1181" y="4611"/>
                  </a:lnTo>
                  <a:lnTo>
                    <a:pt x="1172" y="4611"/>
                  </a:lnTo>
                  <a:lnTo>
                    <a:pt x="1172" y="4616"/>
                  </a:lnTo>
                  <a:lnTo>
                    <a:pt x="1167" y="4616"/>
                  </a:lnTo>
                  <a:lnTo>
                    <a:pt x="1167" y="4622"/>
                  </a:lnTo>
                  <a:lnTo>
                    <a:pt x="1158" y="4622"/>
                  </a:lnTo>
                  <a:lnTo>
                    <a:pt x="1158" y="4628"/>
                  </a:lnTo>
                  <a:lnTo>
                    <a:pt x="1148" y="4628"/>
                  </a:lnTo>
                  <a:lnTo>
                    <a:pt x="1148" y="4633"/>
                  </a:lnTo>
                  <a:lnTo>
                    <a:pt x="1144" y="4633"/>
                  </a:lnTo>
                  <a:lnTo>
                    <a:pt x="1144" y="4640"/>
                  </a:lnTo>
                  <a:lnTo>
                    <a:pt x="1134" y="4640"/>
                  </a:lnTo>
                  <a:lnTo>
                    <a:pt x="1134" y="4646"/>
                  </a:lnTo>
                  <a:lnTo>
                    <a:pt x="1129" y="4646"/>
                  </a:lnTo>
                  <a:lnTo>
                    <a:pt x="1129" y="4652"/>
                  </a:lnTo>
                  <a:lnTo>
                    <a:pt x="1118" y="4652"/>
                  </a:lnTo>
                  <a:lnTo>
                    <a:pt x="1118" y="4657"/>
                  </a:lnTo>
                  <a:lnTo>
                    <a:pt x="1114" y="4657"/>
                  </a:lnTo>
                  <a:lnTo>
                    <a:pt x="1114" y="4663"/>
                  </a:lnTo>
                  <a:lnTo>
                    <a:pt x="1110" y="4663"/>
                  </a:lnTo>
                  <a:lnTo>
                    <a:pt x="1110" y="4670"/>
                  </a:lnTo>
                  <a:lnTo>
                    <a:pt x="1104" y="4670"/>
                  </a:lnTo>
                  <a:lnTo>
                    <a:pt x="1104" y="4681"/>
                  </a:lnTo>
                  <a:lnTo>
                    <a:pt x="1100" y="4681"/>
                  </a:lnTo>
                  <a:lnTo>
                    <a:pt x="1100" y="4687"/>
                  </a:lnTo>
                  <a:lnTo>
                    <a:pt x="1090" y="4687"/>
                  </a:lnTo>
                  <a:lnTo>
                    <a:pt x="1090" y="4693"/>
                  </a:lnTo>
                  <a:lnTo>
                    <a:pt x="1081" y="4693"/>
                  </a:lnTo>
                  <a:lnTo>
                    <a:pt x="1081" y="4698"/>
                  </a:lnTo>
                  <a:lnTo>
                    <a:pt x="1071" y="4698"/>
                  </a:lnTo>
                  <a:lnTo>
                    <a:pt x="1071" y="4706"/>
                  </a:lnTo>
                  <a:lnTo>
                    <a:pt x="1067" y="4706"/>
                  </a:lnTo>
                  <a:lnTo>
                    <a:pt x="1067" y="4711"/>
                  </a:lnTo>
                  <a:lnTo>
                    <a:pt x="1062" y="4711"/>
                  </a:lnTo>
                  <a:lnTo>
                    <a:pt x="1062" y="4717"/>
                  </a:lnTo>
                  <a:lnTo>
                    <a:pt x="1057" y="4717"/>
                  </a:lnTo>
                  <a:lnTo>
                    <a:pt x="1057" y="4722"/>
                  </a:lnTo>
                  <a:lnTo>
                    <a:pt x="1047" y="4722"/>
                  </a:lnTo>
                  <a:lnTo>
                    <a:pt x="1047" y="4729"/>
                  </a:lnTo>
                  <a:lnTo>
                    <a:pt x="1041" y="4729"/>
                  </a:lnTo>
                  <a:lnTo>
                    <a:pt x="1041" y="4734"/>
                  </a:lnTo>
                  <a:lnTo>
                    <a:pt x="1037" y="4734"/>
                  </a:lnTo>
                  <a:lnTo>
                    <a:pt x="1037" y="4739"/>
                  </a:lnTo>
                  <a:lnTo>
                    <a:pt x="1028" y="4739"/>
                  </a:lnTo>
                  <a:lnTo>
                    <a:pt x="1028" y="4747"/>
                  </a:lnTo>
                  <a:lnTo>
                    <a:pt x="1023" y="4747"/>
                  </a:lnTo>
                  <a:lnTo>
                    <a:pt x="1023" y="4752"/>
                  </a:lnTo>
                  <a:lnTo>
                    <a:pt x="1014" y="4752"/>
                  </a:lnTo>
                  <a:lnTo>
                    <a:pt x="1014" y="4758"/>
                  </a:lnTo>
                  <a:lnTo>
                    <a:pt x="1008" y="4758"/>
                  </a:lnTo>
                  <a:lnTo>
                    <a:pt x="1008" y="4764"/>
                  </a:lnTo>
                  <a:lnTo>
                    <a:pt x="999" y="4764"/>
                  </a:lnTo>
                  <a:lnTo>
                    <a:pt x="999" y="4771"/>
                  </a:lnTo>
                  <a:lnTo>
                    <a:pt x="990" y="4771"/>
                  </a:lnTo>
                  <a:lnTo>
                    <a:pt x="990" y="4776"/>
                  </a:lnTo>
                  <a:lnTo>
                    <a:pt x="980" y="4776"/>
                  </a:lnTo>
                  <a:lnTo>
                    <a:pt x="980" y="4782"/>
                  </a:lnTo>
                  <a:lnTo>
                    <a:pt x="970" y="4782"/>
                  </a:lnTo>
                  <a:lnTo>
                    <a:pt x="970" y="4788"/>
                  </a:lnTo>
                  <a:lnTo>
                    <a:pt x="960" y="4788"/>
                  </a:lnTo>
                  <a:lnTo>
                    <a:pt x="960" y="4793"/>
                  </a:lnTo>
                  <a:lnTo>
                    <a:pt x="956" y="4793"/>
                  </a:lnTo>
                  <a:lnTo>
                    <a:pt x="956" y="4799"/>
                  </a:lnTo>
                  <a:lnTo>
                    <a:pt x="951" y="4799"/>
                  </a:lnTo>
                  <a:lnTo>
                    <a:pt x="951" y="4806"/>
                  </a:lnTo>
                  <a:lnTo>
                    <a:pt x="946" y="4806"/>
                  </a:lnTo>
                  <a:lnTo>
                    <a:pt x="946" y="4812"/>
                  </a:lnTo>
                  <a:lnTo>
                    <a:pt x="941" y="4812"/>
                  </a:lnTo>
                  <a:lnTo>
                    <a:pt x="941" y="4817"/>
                  </a:lnTo>
                  <a:lnTo>
                    <a:pt x="932" y="4817"/>
                  </a:lnTo>
                  <a:lnTo>
                    <a:pt x="932" y="4823"/>
                  </a:lnTo>
                  <a:lnTo>
                    <a:pt x="923" y="4823"/>
                  </a:lnTo>
                  <a:lnTo>
                    <a:pt x="923" y="4829"/>
                  </a:lnTo>
                  <a:lnTo>
                    <a:pt x="918" y="4829"/>
                  </a:lnTo>
                  <a:lnTo>
                    <a:pt x="918" y="4836"/>
                  </a:lnTo>
                  <a:lnTo>
                    <a:pt x="907" y="4836"/>
                  </a:lnTo>
                  <a:lnTo>
                    <a:pt x="907" y="4841"/>
                  </a:lnTo>
                  <a:lnTo>
                    <a:pt x="893" y="4841"/>
                  </a:lnTo>
                  <a:lnTo>
                    <a:pt x="893" y="4847"/>
                  </a:lnTo>
                  <a:lnTo>
                    <a:pt x="879" y="4847"/>
                  </a:lnTo>
                  <a:lnTo>
                    <a:pt x="879" y="4853"/>
                  </a:lnTo>
                  <a:lnTo>
                    <a:pt x="870" y="4853"/>
                  </a:lnTo>
                  <a:lnTo>
                    <a:pt x="870" y="4858"/>
                  </a:lnTo>
                  <a:lnTo>
                    <a:pt x="860" y="4858"/>
                  </a:lnTo>
                  <a:lnTo>
                    <a:pt x="860" y="4866"/>
                  </a:lnTo>
                  <a:lnTo>
                    <a:pt x="846" y="4866"/>
                  </a:lnTo>
                  <a:lnTo>
                    <a:pt x="846" y="4871"/>
                  </a:lnTo>
                  <a:lnTo>
                    <a:pt x="835" y="4871"/>
                  </a:lnTo>
                  <a:lnTo>
                    <a:pt x="835" y="4877"/>
                  </a:lnTo>
                  <a:lnTo>
                    <a:pt x="826" y="4877"/>
                  </a:lnTo>
                  <a:lnTo>
                    <a:pt x="826" y="4888"/>
                  </a:lnTo>
                  <a:lnTo>
                    <a:pt x="821" y="4888"/>
                  </a:lnTo>
                  <a:lnTo>
                    <a:pt x="821" y="4894"/>
                  </a:lnTo>
                  <a:lnTo>
                    <a:pt x="816" y="4894"/>
                  </a:lnTo>
                  <a:lnTo>
                    <a:pt x="816" y="4899"/>
                  </a:lnTo>
                  <a:lnTo>
                    <a:pt x="812" y="4899"/>
                  </a:lnTo>
                  <a:lnTo>
                    <a:pt x="812" y="4907"/>
                  </a:lnTo>
                  <a:lnTo>
                    <a:pt x="807" y="4907"/>
                  </a:lnTo>
                  <a:lnTo>
                    <a:pt x="807" y="4912"/>
                  </a:lnTo>
                  <a:lnTo>
                    <a:pt x="793" y="4912"/>
                  </a:lnTo>
                  <a:lnTo>
                    <a:pt x="793" y="4907"/>
                  </a:lnTo>
                  <a:lnTo>
                    <a:pt x="788" y="4907"/>
                  </a:lnTo>
                  <a:lnTo>
                    <a:pt x="788" y="4899"/>
                  </a:lnTo>
                  <a:lnTo>
                    <a:pt x="783" y="4899"/>
                  </a:lnTo>
                  <a:lnTo>
                    <a:pt x="783" y="4894"/>
                  </a:lnTo>
                  <a:lnTo>
                    <a:pt x="774" y="4894"/>
                  </a:lnTo>
                  <a:lnTo>
                    <a:pt x="774" y="4888"/>
                  </a:lnTo>
                  <a:lnTo>
                    <a:pt x="769" y="4888"/>
                  </a:lnTo>
                  <a:lnTo>
                    <a:pt x="769" y="4883"/>
                  </a:lnTo>
                  <a:lnTo>
                    <a:pt x="763" y="4883"/>
                  </a:lnTo>
                  <a:lnTo>
                    <a:pt x="763" y="4871"/>
                  </a:lnTo>
                  <a:lnTo>
                    <a:pt x="774" y="4871"/>
                  </a:lnTo>
                  <a:lnTo>
                    <a:pt x="774" y="4858"/>
                  </a:lnTo>
                  <a:lnTo>
                    <a:pt x="778" y="4858"/>
                  </a:lnTo>
                  <a:lnTo>
                    <a:pt x="778" y="4853"/>
                  </a:lnTo>
                  <a:lnTo>
                    <a:pt x="783" y="4853"/>
                  </a:lnTo>
                  <a:lnTo>
                    <a:pt x="783" y="4847"/>
                  </a:lnTo>
                  <a:lnTo>
                    <a:pt x="797" y="4847"/>
                  </a:lnTo>
                  <a:lnTo>
                    <a:pt x="797" y="4841"/>
                  </a:lnTo>
                  <a:lnTo>
                    <a:pt x="802" y="4841"/>
                  </a:lnTo>
                  <a:lnTo>
                    <a:pt x="802" y="4836"/>
                  </a:lnTo>
                  <a:lnTo>
                    <a:pt x="812" y="4836"/>
                  </a:lnTo>
                  <a:lnTo>
                    <a:pt x="812" y="4829"/>
                  </a:lnTo>
                  <a:lnTo>
                    <a:pt x="826" y="4829"/>
                  </a:lnTo>
                  <a:lnTo>
                    <a:pt x="826" y="4823"/>
                  </a:lnTo>
                  <a:lnTo>
                    <a:pt x="830" y="4823"/>
                  </a:lnTo>
                  <a:lnTo>
                    <a:pt x="830" y="4817"/>
                  </a:lnTo>
                  <a:lnTo>
                    <a:pt x="835" y="4817"/>
                  </a:lnTo>
                  <a:lnTo>
                    <a:pt x="835" y="4812"/>
                  </a:lnTo>
                  <a:lnTo>
                    <a:pt x="841" y="4812"/>
                  </a:lnTo>
                  <a:lnTo>
                    <a:pt x="841" y="4806"/>
                  </a:lnTo>
                  <a:lnTo>
                    <a:pt x="850" y="4806"/>
                  </a:lnTo>
                  <a:lnTo>
                    <a:pt x="850" y="4799"/>
                  </a:lnTo>
                  <a:lnTo>
                    <a:pt x="864" y="4799"/>
                  </a:lnTo>
                  <a:lnTo>
                    <a:pt x="864" y="4793"/>
                  </a:lnTo>
                  <a:lnTo>
                    <a:pt x="874" y="4793"/>
                  </a:lnTo>
                  <a:lnTo>
                    <a:pt x="874" y="4788"/>
                  </a:lnTo>
                  <a:lnTo>
                    <a:pt x="889" y="4788"/>
                  </a:lnTo>
                  <a:lnTo>
                    <a:pt x="889" y="4782"/>
                  </a:lnTo>
                  <a:lnTo>
                    <a:pt x="898" y="4782"/>
                  </a:lnTo>
                  <a:lnTo>
                    <a:pt x="898" y="4776"/>
                  </a:lnTo>
                  <a:lnTo>
                    <a:pt x="907" y="4776"/>
                  </a:lnTo>
                  <a:lnTo>
                    <a:pt x="907" y="4771"/>
                  </a:lnTo>
                  <a:lnTo>
                    <a:pt x="923" y="4771"/>
                  </a:lnTo>
                  <a:lnTo>
                    <a:pt x="923" y="4764"/>
                  </a:lnTo>
                  <a:lnTo>
                    <a:pt x="927" y="4764"/>
                  </a:lnTo>
                  <a:lnTo>
                    <a:pt x="927" y="4758"/>
                  </a:lnTo>
                  <a:lnTo>
                    <a:pt x="937" y="4758"/>
                  </a:lnTo>
                  <a:lnTo>
                    <a:pt x="937" y="4752"/>
                  </a:lnTo>
                  <a:lnTo>
                    <a:pt x="941" y="4752"/>
                  </a:lnTo>
                  <a:lnTo>
                    <a:pt x="941" y="4747"/>
                  </a:lnTo>
                  <a:lnTo>
                    <a:pt x="946" y="4747"/>
                  </a:lnTo>
                  <a:lnTo>
                    <a:pt x="946" y="4739"/>
                  </a:lnTo>
                  <a:lnTo>
                    <a:pt x="956" y="4739"/>
                  </a:lnTo>
                  <a:lnTo>
                    <a:pt x="956" y="4734"/>
                  </a:lnTo>
                  <a:lnTo>
                    <a:pt x="960" y="4734"/>
                  </a:lnTo>
                  <a:lnTo>
                    <a:pt x="960" y="4729"/>
                  </a:lnTo>
                  <a:lnTo>
                    <a:pt x="974" y="4729"/>
                  </a:lnTo>
                  <a:lnTo>
                    <a:pt x="974" y="4722"/>
                  </a:lnTo>
                  <a:lnTo>
                    <a:pt x="985" y="4722"/>
                  </a:lnTo>
                  <a:lnTo>
                    <a:pt x="985" y="4711"/>
                  </a:lnTo>
                  <a:lnTo>
                    <a:pt x="994" y="4711"/>
                  </a:lnTo>
                  <a:lnTo>
                    <a:pt x="994" y="4706"/>
                  </a:lnTo>
                  <a:lnTo>
                    <a:pt x="999" y="4706"/>
                  </a:lnTo>
                  <a:lnTo>
                    <a:pt x="999" y="4698"/>
                  </a:lnTo>
                  <a:lnTo>
                    <a:pt x="1004" y="4698"/>
                  </a:lnTo>
                  <a:lnTo>
                    <a:pt x="1004" y="4693"/>
                  </a:lnTo>
                  <a:lnTo>
                    <a:pt x="1023" y="4693"/>
                  </a:lnTo>
                  <a:lnTo>
                    <a:pt x="1023" y="4687"/>
                  </a:lnTo>
                  <a:lnTo>
                    <a:pt x="1033" y="4687"/>
                  </a:lnTo>
                  <a:lnTo>
                    <a:pt x="1033" y="4681"/>
                  </a:lnTo>
                  <a:lnTo>
                    <a:pt x="1037" y="4681"/>
                  </a:lnTo>
                  <a:lnTo>
                    <a:pt x="1037" y="4676"/>
                  </a:lnTo>
                  <a:lnTo>
                    <a:pt x="1041" y="4676"/>
                  </a:lnTo>
                  <a:lnTo>
                    <a:pt x="1041" y="4670"/>
                  </a:lnTo>
                  <a:lnTo>
                    <a:pt x="1051" y="4670"/>
                  </a:lnTo>
                  <a:lnTo>
                    <a:pt x="1051" y="4663"/>
                  </a:lnTo>
                  <a:lnTo>
                    <a:pt x="1057" y="4663"/>
                  </a:lnTo>
                  <a:lnTo>
                    <a:pt x="1057" y="4657"/>
                  </a:lnTo>
                  <a:lnTo>
                    <a:pt x="1062" y="4657"/>
                  </a:lnTo>
                  <a:lnTo>
                    <a:pt x="1062" y="4652"/>
                  </a:lnTo>
                  <a:lnTo>
                    <a:pt x="1067" y="4652"/>
                  </a:lnTo>
                  <a:lnTo>
                    <a:pt x="1067" y="4646"/>
                  </a:lnTo>
                  <a:lnTo>
                    <a:pt x="1071" y="4646"/>
                  </a:lnTo>
                  <a:lnTo>
                    <a:pt x="1071" y="4640"/>
                  </a:lnTo>
                  <a:lnTo>
                    <a:pt x="1076" y="4640"/>
                  </a:lnTo>
                  <a:lnTo>
                    <a:pt x="1076" y="4633"/>
                  </a:lnTo>
                  <a:lnTo>
                    <a:pt x="1081" y="4633"/>
                  </a:lnTo>
                  <a:lnTo>
                    <a:pt x="1081" y="4628"/>
                  </a:lnTo>
                  <a:lnTo>
                    <a:pt x="1085" y="4628"/>
                  </a:lnTo>
                  <a:lnTo>
                    <a:pt x="1085" y="4622"/>
                  </a:lnTo>
                  <a:lnTo>
                    <a:pt x="1090" y="4622"/>
                  </a:lnTo>
                  <a:lnTo>
                    <a:pt x="1090" y="4616"/>
                  </a:lnTo>
                  <a:lnTo>
                    <a:pt x="1100" y="4616"/>
                  </a:lnTo>
                  <a:lnTo>
                    <a:pt x="1100" y="4611"/>
                  </a:lnTo>
                  <a:lnTo>
                    <a:pt x="1104" y="4611"/>
                  </a:lnTo>
                  <a:lnTo>
                    <a:pt x="1104" y="4603"/>
                  </a:lnTo>
                  <a:lnTo>
                    <a:pt x="1110" y="4603"/>
                  </a:lnTo>
                  <a:lnTo>
                    <a:pt x="1110" y="4598"/>
                  </a:lnTo>
                  <a:lnTo>
                    <a:pt x="1114" y="4598"/>
                  </a:lnTo>
                  <a:lnTo>
                    <a:pt x="1114" y="4592"/>
                  </a:lnTo>
                  <a:lnTo>
                    <a:pt x="1118" y="4592"/>
                  </a:lnTo>
                  <a:lnTo>
                    <a:pt x="1118" y="4587"/>
                  </a:lnTo>
                  <a:lnTo>
                    <a:pt x="1124" y="4587"/>
                  </a:lnTo>
                  <a:lnTo>
                    <a:pt x="1124" y="4580"/>
                  </a:lnTo>
                  <a:lnTo>
                    <a:pt x="1134" y="4580"/>
                  </a:lnTo>
                  <a:lnTo>
                    <a:pt x="1134" y="4575"/>
                  </a:lnTo>
                  <a:lnTo>
                    <a:pt x="1138" y="4575"/>
                  </a:lnTo>
                  <a:lnTo>
                    <a:pt x="1138" y="4570"/>
                  </a:lnTo>
                  <a:lnTo>
                    <a:pt x="1144" y="4570"/>
                  </a:lnTo>
                  <a:lnTo>
                    <a:pt x="1144" y="4562"/>
                  </a:lnTo>
                  <a:lnTo>
                    <a:pt x="1153" y="4562"/>
                  </a:lnTo>
                  <a:lnTo>
                    <a:pt x="1153" y="4557"/>
                  </a:lnTo>
                  <a:lnTo>
                    <a:pt x="1158" y="4557"/>
                  </a:lnTo>
                  <a:lnTo>
                    <a:pt x="1158" y="4551"/>
                  </a:lnTo>
                  <a:lnTo>
                    <a:pt x="1162" y="4551"/>
                  </a:lnTo>
                  <a:lnTo>
                    <a:pt x="1162" y="4545"/>
                  </a:lnTo>
                  <a:lnTo>
                    <a:pt x="1172" y="4545"/>
                  </a:lnTo>
                  <a:lnTo>
                    <a:pt x="1172" y="4539"/>
                  </a:lnTo>
                  <a:lnTo>
                    <a:pt x="1177" y="4539"/>
                  </a:lnTo>
                  <a:lnTo>
                    <a:pt x="1177" y="4534"/>
                  </a:lnTo>
                  <a:lnTo>
                    <a:pt x="1181" y="4534"/>
                  </a:lnTo>
                  <a:lnTo>
                    <a:pt x="1181" y="4529"/>
                  </a:lnTo>
                  <a:lnTo>
                    <a:pt x="1186" y="4529"/>
                  </a:lnTo>
                  <a:lnTo>
                    <a:pt x="1186" y="4521"/>
                  </a:lnTo>
                  <a:lnTo>
                    <a:pt x="1196" y="4521"/>
                  </a:lnTo>
                  <a:lnTo>
                    <a:pt x="1196" y="4516"/>
                  </a:lnTo>
                  <a:lnTo>
                    <a:pt x="1201" y="4516"/>
                  </a:lnTo>
                  <a:lnTo>
                    <a:pt x="1201" y="4510"/>
                  </a:lnTo>
                  <a:lnTo>
                    <a:pt x="1211" y="4510"/>
                  </a:lnTo>
                  <a:lnTo>
                    <a:pt x="1211" y="4504"/>
                  </a:lnTo>
                  <a:lnTo>
                    <a:pt x="1215" y="4504"/>
                  </a:lnTo>
                  <a:lnTo>
                    <a:pt x="1215" y="4499"/>
                  </a:lnTo>
                  <a:lnTo>
                    <a:pt x="1225" y="4499"/>
                  </a:lnTo>
                  <a:lnTo>
                    <a:pt x="1225" y="4486"/>
                  </a:lnTo>
                  <a:lnTo>
                    <a:pt x="1230" y="4486"/>
                  </a:lnTo>
                  <a:lnTo>
                    <a:pt x="1230" y="4480"/>
                  </a:lnTo>
                  <a:lnTo>
                    <a:pt x="1234" y="4480"/>
                  </a:lnTo>
                  <a:lnTo>
                    <a:pt x="1234" y="4475"/>
                  </a:lnTo>
                  <a:lnTo>
                    <a:pt x="1240" y="4475"/>
                  </a:lnTo>
                  <a:lnTo>
                    <a:pt x="1240" y="4469"/>
                  </a:lnTo>
                  <a:lnTo>
                    <a:pt x="1244" y="4469"/>
                  </a:lnTo>
                  <a:lnTo>
                    <a:pt x="1244" y="4462"/>
                  </a:lnTo>
                  <a:lnTo>
                    <a:pt x="1248" y="4462"/>
                  </a:lnTo>
                  <a:lnTo>
                    <a:pt x="1248" y="4457"/>
                  </a:lnTo>
                  <a:lnTo>
                    <a:pt x="1258" y="4457"/>
                  </a:lnTo>
                  <a:lnTo>
                    <a:pt x="1258" y="4451"/>
                  </a:lnTo>
                  <a:lnTo>
                    <a:pt x="1263" y="4451"/>
                  </a:lnTo>
                  <a:lnTo>
                    <a:pt x="1263" y="4445"/>
                  </a:lnTo>
                  <a:lnTo>
                    <a:pt x="1268" y="4445"/>
                  </a:lnTo>
                  <a:lnTo>
                    <a:pt x="1268" y="4439"/>
                  </a:lnTo>
                  <a:lnTo>
                    <a:pt x="1278" y="4439"/>
                  </a:lnTo>
                  <a:lnTo>
                    <a:pt x="1278" y="4426"/>
                  </a:lnTo>
                  <a:lnTo>
                    <a:pt x="1282" y="4426"/>
                  </a:lnTo>
                  <a:lnTo>
                    <a:pt x="1282" y="4421"/>
                  </a:lnTo>
                  <a:lnTo>
                    <a:pt x="1288" y="4421"/>
                  </a:lnTo>
                  <a:lnTo>
                    <a:pt x="1288" y="4416"/>
                  </a:lnTo>
                  <a:lnTo>
                    <a:pt x="1292" y="4416"/>
                  </a:lnTo>
                  <a:lnTo>
                    <a:pt x="1292" y="4410"/>
                  </a:lnTo>
                  <a:lnTo>
                    <a:pt x="1297" y="4410"/>
                  </a:lnTo>
                  <a:lnTo>
                    <a:pt x="1297" y="4404"/>
                  </a:lnTo>
                  <a:lnTo>
                    <a:pt x="1307" y="4404"/>
                  </a:lnTo>
                  <a:lnTo>
                    <a:pt x="1307" y="4398"/>
                  </a:lnTo>
                  <a:lnTo>
                    <a:pt x="1311" y="4398"/>
                  </a:lnTo>
                  <a:lnTo>
                    <a:pt x="1311" y="4393"/>
                  </a:lnTo>
                  <a:lnTo>
                    <a:pt x="1316" y="4393"/>
                  </a:lnTo>
                  <a:lnTo>
                    <a:pt x="1316" y="4385"/>
                  </a:lnTo>
                  <a:lnTo>
                    <a:pt x="1325" y="4385"/>
                  </a:lnTo>
                  <a:lnTo>
                    <a:pt x="1325" y="4380"/>
                  </a:lnTo>
                  <a:lnTo>
                    <a:pt x="1330" y="4380"/>
                  </a:lnTo>
                  <a:lnTo>
                    <a:pt x="1330" y="4374"/>
                  </a:lnTo>
                  <a:lnTo>
                    <a:pt x="1339" y="4374"/>
                  </a:lnTo>
                  <a:lnTo>
                    <a:pt x="1339" y="4368"/>
                  </a:lnTo>
                  <a:lnTo>
                    <a:pt x="1345" y="4368"/>
                  </a:lnTo>
                  <a:lnTo>
                    <a:pt x="1345" y="4363"/>
                  </a:lnTo>
                  <a:lnTo>
                    <a:pt x="1350" y="4363"/>
                  </a:lnTo>
                  <a:lnTo>
                    <a:pt x="1350" y="4356"/>
                  </a:lnTo>
                  <a:lnTo>
                    <a:pt x="1355" y="4356"/>
                  </a:lnTo>
                  <a:lnTo>
                    <a:pt x="1355" y="4350"/>
                  </a:lnTo>
                  <a:lnTo>
                    <a:pt x="1359" y="4350"/>
                  </a:lnTo>
                  <a:lnTo>
                    <a:pt x="1359" y="4344"/>
                  </a:lnTo>
                  <a:lnTo>
                    <a:pt x="1365" y="4344"/>
                  </a:lnTo>
                  <a:lnTo>
                    <a:pt x="1365" y="4339"/>
                  </a:lnTo>
                  <a:lnTo>
                    <a:pt x="1374" y="4339"/>
                  </a:lnTo>
                  <a:lnTo>
                    <a:pt x="1374" y="4326"/>
                  </a:lnTo>
                  <a:lnTo>
                    <a:pt x="1378" y="4326"/>
                  </a:lnTo>
                  <a:lnTo>
                    <a:pt x="1378" y="4320"/>
                  </a:lnTo>
                  <a:lnTo>
                    <a:pt x="1383" y="4320"/>
                  </a:lnTo>
                  <a:lnTo>
                    <a:pt x="1383" y="4274"/>
                  </a:lnTo>
                  <a:lnTo>
                    <a:pt x="1378" y="4274"/>
                  </a:lnTo>
                  <a:lnTo>
                    <a:pt x="1378" y="4262"/>
                  </a:lnTo>
                  <a:lnTo>
                    <a:pt x="1374" y="4262"/>
                  </a:lnTo>
                  <a:lnTo>
                    <a:pt x="1374" y="4244"/>
                  </a:lnTo>
                  <a:lnTo>
                    <a:pt x="1369" y="4244"/>
                  </a:lnTo>
                  <a:lnTo>
                    <a:pt x="1369" y="4238"/>
                  </a:lnTo>
                  <a:lnTo>
                    <a:pt x="1365" y="4238"/>
                  </a:lnTo>
                  <a:lnTo>
                    <a:pt x="1365" y="4225"/>
                  </a:lnTo>
                  <a:lnTo>
                    <a:pt x="1359" y="4225"/>
                  </a:lnTo>
                  <a:lnTo>
                    <a:pt x="1359" y="4214"/>
                  </a:lnTo>
                  <a:lnTo>
                    <a:pt x="1355" y="4214"/>
                  </a:lnTo>
                  <a:lnTo>
                    <a:pt x="1355" y="4208"/>
                  </a:lnTo>
                  <a:lnTo>
                    <a:pt x="1350" y="4208"/>
                  </a:lnTo>
                  <a:lnTo>
                    <a:pt x="1350" y="4190"/>
                  </a:lnTo>
                  <a:lnTo>
                    <a:pt x="1345" y="4190"/>
                  </a:lnTo>
                  <a:lnTo>
                    <a:pt x="1345" y="4184"/>
                  </a:lnTo>
                  <a:lnTo>
                    <a:pt x="1339" y="4184"/>
                  </a:lnTo>
                  <a:lnTo>
                    <a:pt x="1339" y="4179"/>
                  </a:lnTo>
                  <a:lnTo>
                    <a:pt x="1335" y="4179"/>
                  </a:lnTo>
                  <a:lnTo>
                    <a:pt x="1335" y="4167"/>
                  </a:lnTo>
                  <a:lnTo>
                    <a:pt x="1330" y="4167"/>
                  </a:lnTo>
                  <a:lnTo>
                    <a:pt x="1330" y="4162"/>
                  </a:lnTo>
                  <a:lnTo>
                    <a:pt x="1325" y="4162"/>
                  </a:lnTo>
                  <a:lnTo>
                    <a:pt x="1325" y="4149"/>
                  </a:lnTo>
                  <a:lnTo>
                    <a:pt x="1321" y="4149"/>
                  </a:lnTo>
                  <a:lnTo>
                    <a:pt x="1321" y="4143"/>
                  </a:lnTo>
                  <a:lnTo>
                    <a:pt x="1316" y="4143"/>
                  </a:lnTo>
                  <a:lnTo>
                    <a:pt x="1316" y="4138"/>
                  </a:lnTo>
                  <a:lnTo>
                    <a:pt x="1311" y="4138"/>
                  </a:lnTo>
                  <a:lnTo>
                    <a:pt x="1311" y="4108"/>
                  </a:lnTo>
                  <a:lnTo>
                    <a:pt x="1307" y="4108"/>
                  </a:lnTo>
                  <a:lnTo>
                    <a:pt x="1307" y="4102"/>
                  </a:lnTo>
                  <a:lnTo>
                    <a:pt x="1302" y="4102"/>
                  </a:lnTo>
                  <a:lnTo>
                    <a:pt x="1302" y="4089"/>
                  </a:lnTo>
                  <a:lnTo>
                    <a:pt x="1297" y="4089"/>
                  </a:lnTo>
                  <a:lnTo>
                    <a:pt x="1297" y="4079"/>
                  </a:lnTo>
                  <a:lnTo>
                    <a:pt x="1292" y="4079"/>
                  </a:lnTo>
                  <a:lnTo>
                    <a:pt x="1292" y="4067"/>
                  </a:lnTo>
                  <a:lnTo>
                    <a:pt x="1288" y="4067"/>
                  </a:lnTo>
                  <a:lnTo>
                    <a:pt x="1288" y="4049"/>
                  </a:lnTo>
                  <a:lnTo>
                    <a:pt x="1282" y="4049"/>
                  </a:lnTo>
                  <a:lnTo>
                    <a:pt x="1282" y="4043"/>
                  </a:lnTo>
                  <a:lnTo>
                    <a:pt x="1278" y="4043"/>
                  </a:lnTo>
                  <a:lnTo>
                    <a:pt x="1278" y="4031"/>
                  </a:lnTo>
                  <a:lnTo>
                    <a:pt x="1274" y="4031"/>
                  </a:lnTo>
                  <a:lnTo>
                    <a:pt x="1274" y="4019"/>
                  </a:lnTo>
                  <a:lnTo>
                    <a:pt x="1268" y="4019"/>
                  </a:lnTo>
                  <a:lnTo>
                    <a:pt x="1268" y="4002"/>
                  </a:lnTo>
                  <a:lnTo>
                    <a:pt x="1263" y="4002"/>
                  </a:lnTo>
                  <a:lnTo>
                    <a:pt x="1263" y="3996"/>
                  </a:lnTo>
                  <a:lnTo>
                    <a:pt x="1258" y="3996"/>
                  </a:lnTo>
                  <a:lnTo>
                    <a:pt x="1258" y="3985"/>
                  </a:lnTo>
                  <a:lnTo>
                    <a:pt x="1254" y="3985"/>
                  </a:lnTo>
                  <a:lnTo>
                    <a:pt x="1254" y="3966"/>
                  </a:lnTo>
                  <a:lnTo>
                    <a:pt x="1248" y="3966"/>
                  </a:lnTo>
                  <a:lnTo>
                    <a:pt x="1248" y="3961"/>
                  </a:lnTo>
                  <a:lnTo>
                    <a:pt x="1244" y="3961"/>
                  </a:lnTo>
                  <a:lnTo>
                    <a:pt x="1244" y="3948"/>
                  </a:lnTo>
                  <a:lnTo>
                    <a:pt x="1240" y="3948"/>
                  </a:lnTo>
                  <a:lnTo>
                    <a:pt x="1240" y="3931"/>
                  </a:lnTo>
                  <a:lnTo>
                    <a:pt x="1234" y="3931"/>
                  </a:lnTo>
                  <a:lnTo>
                    <a:pt x="1234" y="3925"/>
                  </a:lnTo>
                  <a:lnTo>
                    <a:pt x="1230" y="3925"/>
                  </a:lnTo>
                  <a:lnTo>
                    <a:pt x="1230" y="3912"/>
                  </a:lnTo>
                  <a:lnTo>
                    <a:pt x="1225" y="3912"/>
                  </a:lnTo>
                  <a:lnTo>
                    <a:pt x="1225" y="3901"/>
                  </a:lnTo>
                  <a:lnTo>
                    <a:pt x="1220" y="3901"/>
                  </a:lnTo>
                  <a:lnTo>
                    <a:pt x="1220" y="3890"/>
                  </a:lnTo>
                  <a:lnTo>
                    <a:pt x="1215" y="3890"/>
                  </a:lnTo>
                  <a:lnTo>
                    <a:pt x="1215" y="3877"/>
                  </a:lnTo>
                  <a:lnTo>
                    <a:pt x="1211" y="3877"/>
                  </a:lnTo>
                  <a:lnTo>
                    <a:pt x="1211" y="3871"/>
                  </a:lnTo>
                  <a:lnTo>
                    <a:pt x="1206" y="3871"/>
                  </a:lnTo>
                  <a:lnTo>
                    <a:pt x="1206" y="3866"/>
                  </a:lnTo>
                  <a:lnTo>
                    <a:pt x="1201" y="3866"/>
                  </a:lnTo>
                  <a:lnTo>
                    <a:pt x="1201" y="3854"/>
                  </a:lnTo>
                  <a:lnTo>
                    <a:pt x="1196" y="3854"/>
                  </a:lnTo>
                  <a:lnTo>
                    <a:pt x="1196" y="3847"/>
                  </a:lnTo>
                  <a:lnTo>
                    <a:pt x="1191" y="3847"/>
                  </a:lnTo>
                  <a:lnTo>
                    <a:pt x="1191" y="3836"/>
                  </a:lnTo>
                  <a:lnTo>
                    <a:pt x="1186" y="3836"/>
                  </a:lnTo>
                  <a:lnTo>
                    <a:pt x="1186" y="3825"/>
                  </a:lnTo>
                  <a:lnTo>
                    <a:pt x="1181" y="3825"/>
                  </a:lnTo>
                  <a:lnTo>
                    <a:pt x="1181" y="3812"/>
                  </a:lnTo>
                  <a:lnTo>
                    <a:pt x="1177" y="3812"/>
                  </a:lnTo>
                  <a:lnTo>
                    <a:pt x="1177" y="3795"/>
                  </a:lnTo>
                  <a:lnTo>
                    <a:pt x="1172" y="3795"/>
                  </a:lnTo>
                  <a:lnTo>
                    <a:pt x="1172" y="3784"/>
                  </a:lnTo>
                  <a:lnTo>
                    <a:pt x="1167" y="3784"/>
                  </a:lnTo>
                  <a:lnTo>
                    <a:pt x="1167" y="3771"/>
                  </a:lnTo>
                  <a:lnTo>
                    <a:pt x="1162" y="3771"/>
                  </a:lnTo>
                  <a:lnTo>
                    <a:pt x="1162" y="3760"/>
                  </a:lnTo>
                  <a:lnTo>
                    <a:pt x="1158" y="3760"/>
                  </a:lnTo>
                  <a:lnTo>
                    <a:pt x="1158" y="3747"/>
                  </a:lnTo>
                  <a:lnTo>
                    <a:pt x="1153" y="3747"/>
                  </a:lnTo>
                  <a:lnTo>
                    <a:pt x="1153" y="3730"/>
                  </a:lnTo>
                  <a:lnTo>
                    <a:pt x="1148" y="3730"/>
                  </a:lnTo>
                  <a:lnTo>
                    <a:pt x="1148" y="3717"/>
                  </a:lnTo>
                  <a:lnTo>
                    <a:pt x="1144" y="3717"/>
                  </a:lnTo>
                  <a:lnTo>
                    <a:pt x="1144" y="3711"/>
                  </a:lnTo>
                  <a:lnTo>
                    <a:pt x="1138" y="3711"/>
                  </a:lnTo>
                  <a:lnTo>
                    <a:pt x="1138" y="3700"/>
                  </a:lnTo>
                  <a:lnTo>
                    <a:pt x="1134" y="3700"/>
                  </a:lnTo>
                  <a:lnTo>
                    <a:pt x="1134" y="3683"/>
                  </a:lnTo>
                  <a:lnTo>
                    <a:pt x="1129" y="3683"/>
                  </a:lnTo>
                  <a:lnTo>
                    <a:pt x="1129" y="3676"/>
                  </a:lnTo>
                  <a:lnTo>
                    <a:pt x="1124" y="3676"/>
                  </a:lnTo>
                  <a:lnTo>
                    <a:pt x="1124" y="3648"/>
                  </a:lnTo>
                  <a:lnTo>
                    <a:pt x="1118" y="3648"/>
                  </a:lnTo>
                  <a:lnTo>
                    <a:pt x="1118" y="3630"/>
                  </a:lnTo>
                  <a:lnTo>
                    <a:pt x="1114" y="3630"/>
                  </a:lnTo>
                  <a:lnTo>
                    <a:pt x="1114" y="3606"/>
                  </a:lnTo>
                  <a:lnTo>
                    <a:pt x="1110" y="3606"/>
                  </a:lnTo>
                  <a:lnTo>
                    <a:pt x="1110" y="3588"/>
                  </a:lnTo>
                  <a:lnTo>
                    <a:pt x="1104" y="3588"/>
                  </a:lnTo>
                  <a:lnTo>
                    <a:pt x="1104" y="3583"/>
                  </a:lnTo>
                  <a:lnTo>
                    <a:pt x="1100" y="3583"/>
                  </a:lnTo>
                  <a:lnTo>
                    <a:pt x="1100" y="3558"/>
                  </a:lnTo>
                  <a:lnTo>
                    <a:pt x="1095" y="3558"/>
                  </a:lnTo>
                  <a:lnTo>
                    <a:pt x="1095" y="3529"/>
                  </a:lnTo>
                  <a:lnTo>
                    <a:pt x="1090" y="3529"/>
                  </a:lnTo>
                  <a:lnTo>
                    <a:pt x="1090" y="3517"/>
                  </a:lnTo>
                  <a:lnTo>
                    <a:pt x="1085" y="3517"/>
                  </a:lnTo>
                  <a:lnTo>
                    <a:pt x="1085" y="3505"/>
                  </a:lnTo>
                  <a:lnTo>
                    <a:pt x="1081" y="3505"/>
                  </a:lnTo>
                  <a:lnTo>
                    <a:pt x="1081" y="3480"/>
                  </a:lnTo>
                  <a:lnTo>
                    <a:pt x="1076" y="3480"/>
                  </a:lnTo>
                  <a:lnTo>
                    <a:pt x="1076" y="3458"/>
                  </a:lnTo>
                  <a:lnTo>
                    <a:pt x="1071" y="3458"/>
                  </a:lnTo>
                  <a:lnTo>
                    <a:pt x="1071" y="3429"/>
                  </a:lnTo>
                  <a:lnTo>
                    <a:pt x="1067" y="3429"/>
                  </a:lnTo>
                  <a:lnTo>
                    <a:pt x="1067" y="3406"/>
                  </a:lnTo>
                  <a:lnTo>
                    <a:pt x="1062" y="3406"/>
                  </a:lnTo>
                  <a:lnTo>
                    <a:pt x="1062" y="3381"/>
                  </a:lnTo>
                  <a:lnTo>
                    <a:pt x="1057" y="3381"/>
                  </a:lnTo>
                  <a:lnTo>
                    <a:pt x="1057" y="3352"/>
                  </a:lnTo>
                  <a:lnTo>
                    <a:pt x="1051" y="3352"/>
                  </a:lnTo>
                  <a:lnTo>
                    <a:pt x="1051" y="3328"/>
                  </a:lnTo>
                  <a:lnTo>
                    <a:pt x="1047" y="3328"/>
                  </a:lnTo>
                  <a:lnTo>
                    <a:pt x="1047" y="3275"/>
                  </a:lnTo>
                  <a:lnTo>
                    <a:pt x="1041" y="3275"/>
                  </a:lnTo>
                  <a:lnTo>
                    <a:pt x="1041" y="3186"/>
                  </a:lnTo>
                  <a:lnTo>
                    <a:pt x="1037" y="3186"/>
                  </a:lnTo>
                  <a:lnTo>
                    <a:pt x="1037" y="3157"/>
                  </a:lnTo>
                  <a:lnTo>
                    <a:pt x="1033" y="3157"/>
                  </a:lnTo>
                  <a:lnTo>
                    <a:pt x="1033" y="3092"/>
                  </a:lnTo>
                  <a:lnTo>
                    <a:pt x="1028" y="3092"/>
                  </a:lnTo>
                  <a:lnTo>
                    <a:pt x="1028" y="3085"/>
                  </a:lnTo>
                  <a:lnTo>
                    <a:pt x="1023" y="3085"/>
                  </a:lnTo>
                  <a:lnTo>
                    <a:pt x="1023" y="3039"/>
                  </a:lnTo>
                  <a:lnTo>
                    <a:pt x="1028" y="3039"/>
                  </a:lnTo>
                  <a:lnTo>
                    <a:pt x="1028" y="3020"/>
                  </a:lnTo>
                  <a:lnTo>
                    <a:pt x="1023" y="3020"/>
                  </a:lnTo>
                  <a:lnTo>
                    <a:pt x="1023" y="2974"/>
                  </a:lnTo>
                  <a:lnTo>
                    <a:pt x="1018" y="2974"/>
                  </a:lnTo>
                  <a:lnTo>
                    <a:pt x="1018" y="2767"/>
                  </a:lnTo>
                  <a:lnTo>
                    <a:pt x="1014" y="2767"/>
                  </a:lnTo>
                  <a:lnTo>
                    <a:pt x="1014" y="2748"/>
                  </a:lnTo>
                  <a:lnTo>
                    <a:pt x="1018" y="2748"/>
                  </a:lnTo>
                  <a:lnTo>
                    <a:pt x="1018" y="2719"/>
                  </a:lnTo>
                  <a:lnTo>
                    <a:pt x="1023" y="2719"/>
                  </a:lnTo>
                  <a:lnTo>
                    <a:pt x="1023" y="2653"/>
                  </a:lnTo>
                  <a:lnTo>
                    <a:pt x="1028" y="2653"/>
                  </a:lnTo>
                  <a:lnTo>
                    <a:pt x="1028" y="2566"/>
                  </a:lnTo>
                  <a:lnTo>
                    <a:pt x="1033" y="2566"/>
                  </a:lnTo>
                  <a:lnTo>
                    <a:pt x="1033" y="2518"/>
                  </a:lnTo>
                  <a:lnTo>
                    <a:pt x="1037" y="2518"/>
                  </a:lnTo>
                  <a:lnTo>
                    <a:pt x="1037" y="2488"/>
                  </a:lnTo>
                  <a:lnTo>
                    <a:pt x="1041" y="2488"/>
                  </a:lnTo>
                  <a:lnTo>
                    <a:pt x="1041" y="2452"/>
                  </a:lnTo>
                  <a:lnTo>
                    <a:pt x="1047" y="2452"/>
                  </a:lnTo>
                  <a:lnTo>
                    <a:pt x="1047" y="2406"/>
                  </a:lnTo>
                  <a:lnTo>
                    <a:pt x="1051" y="2406"/>
                  </a:lnTo>
                  <a:lnTo>
                    <a:pt x="1051" y="2382"/>
                  </a:lnTo>
                  <a:lnTo>
                    <a:pt x="1057" y="2382"/>
                  </a:lnTo>
                  <a:lnTo>
                    <a:pt x="1057" y="2347"/>
                  </a:lnTo>
                  <a:lnTo>
                    <a:pt x="1051" y="2347"/>
                  </a:lnTo>
                  <a:lnTo>
                    <a:pt x="1051" y="2335"/>
                  </a:lnTo>
                  <a:lnTo>
                    <a:pt x="1057" y="2335"/>
                  </a:lnTo>
                  <a:lnTo>
                    <a:pt x="1057" y="2317"/>
                  </a:lnTo>
                  <a:lnTo>
                    <a:pt x="1062" y="2317"/>
                  </a:lnTo>
                  <a:lnTo>
                    <a:pt x="1062" y="2299"/>
                  </a:lnTo>
                  <a:lnTo>
                    <a:pt x="1067" y="2299"/>
                  </a:lnTo>
                  <a:lnTo>
                    <a:pt x="1067" y="2281"/>
                  </a:lnTo>
                  <a:lnTo>
                    <a:pt x="1071" y="2281"/>
                  </a:lnTo>
                  <a:lnTo>
                    <a:pt x="1071" y="2234"/>
                  </a:lnTo>
                  <a:lnTo>
                    <a:pt x="1076" y="2234"/>
                  </a:lnTo>
                  <a:lnTo>
                    <a:pt x="1076" y="2211"/>
                  </a:lnTo>
                  <a:lnTo>
                    <a:pt x="1081" y="2211"/>
                  </a:lnTo>
                  <a:lnTo>
                    <a:pt x="1081" y="2175"/>
                  </a:lnTo>
                  <a:lnTo>
                    <a:pt x="1085" y="2175"/>
                  </a:lnTo>
                  <a:lnTo>
                    <a:pt x="1085" y="2121"/>
                  </a:lnTo>
                  <a:lnTo>
                    <a:pt x="1090" y="2121"/>
                  </a:lnTo>
                  <a:lnTo>
                    <a:pt x="1090" y="2110"/>
                  </a:lnTo>
                  <a:lnTo>
                    <a:pt x="1095" y="2110"/>
                  </a:lnTo>
                  <a:lnTo>
                    <a:pt x="1095" y="2093"/>
                  </a:lnTo>
                  <a:lnTo>
                    <a:pt x="1100" y="2093"/>
                  </a:lnTo>
                  <a:lnTo>
                    <a:pt x="1100" y="2052"/>
                  </a:lnTo>
                  <a:lnTo>
                    <a:pt x="1104" y="2052"/>
                  </a:lnTo>
                  <a:lnTo>
                    <a:pt x="1104" y="2033"/>
                  </a:lnTo>
                  <a:lnTo>
                    <a:pt x="1110" y="2033"/>
                  </a:lnTo>
                  <a:lnTo>
                    <a:pt x="1110" y="2003"/>
                  </a:lnTo>
                  <a:lnTo>
                    <a:pt x="1114" y="2003"/>
                  </a:lnTo>
                  <a:lnTo>
                    <a:pt x="1114" y="1974"/>
                  </a:lnTo>
                  <a:lnTo>
                    <a:pt x="1118" y="1974"/>
                  </a:lnTo>
                  <a:lnTo>
                    <a:pt x="1118" y="1962"/>
                  </a:lnTo>
                  <a:lnTo>
                    <a:pt x="1124" y="1962"/>
                  </a:lnTo>
                  <a:lnTo>
                    <a:pt x="1124" y="1944"/>
                  </a:lnTo>
                  <a:lnTo>
                    <a:pt x="1129" y="1944"/>
                  </a:lnTo>
                  <a:lnTo>
                    <a:pt x="1129" y="1903"/>
                  </a:lnTo>
                  <a:lnTo>
                    <a:pt x="1134" y="1903"/>
                  </a:lnTo>
                  <a:lnTo>
                    <a:pt x="1134" y="1879"/>
                  </a:lnTo>
                  <a:lnTo>
                    <a:pt x="1138" y="1879"/>
                  </a:lnTo>
                  <a:lnTo>
                    <a:pt x="1138" y="1844"/>
                  </a:lnTo>
                  <a:lnTo>
                    <a:pt x="1144" y="1844"/>
                  </a:lnTo>
                  <a:lnTo>
                    <a:pt x="1144" y="1808"/>
                  </a:lnTo>
                  <a:lnTo>
                    <a:pt x="1148" y="1808"/>
                  </a:lnTo>
                  <a:lnTo>
                    <a:pt x="1148" y="1780"/>
                  </a:lnTo>
                  <a:lnTo>
                    <a:pt x="1153" y="1780"/>
                  </a:lnTo>
                  <a:lnTo>
                    <a:pt x="1153" y="1756"/>
                  </a:lnTo>
                  <a:lnTo>
                    <a:pt x="1158" y="1756"/>
                  </a:lnTo>
                  <a:lnTo>
                    <a:pt x="1158" y="1738"/>
                  </a:lnTo>
                  <a:lnTo>
                    <a:pt x="1162" y="1738"/>
                  </a:lnTo>
                  <a:lnTo>
                    <a:pt x="1162" y="1726"/>
                  </a:lnTo>
                  <a:lnTo>
                    <a:pt x="1167" y="1726"/>
                  </a:lnTo>
                  <a:lnTo>
                    <a:pt x="1167" y="1715"/>
                  </a:lnTo>
                  <a:lnTo>
                    <a:pt x="1172" y="1715"/>
                  </a:lnTo>
                  <a:lnTo>
                    <a:pt x="1172" y="1697"/>
                  </a:lnTo>
                  <a:lnTo>
                    <a:pt x="1177" y="1697"/>
                  </a:lnTo>
                  <a:lnTo>
                    <a:pt x="1177" y="1679"/>
                  </a:lnTo>
                  <a:lnTo>
                    <a:pt x="1181" y="1679"/>
                  </a:lnTo>
                  <a:lnTo>
                    <a:pt x="1181" y="1661"/>
                  </a:lnTo>
                  <a:lnTo>
                    <a:pt x="1186" y="1661"/>
                  </a:lnTo>
                  <a:lnTo>
                    <a:pt x="1186" y="1656"/>
                  </a:lnTo>
                  <a:lnTo>
                    <a:pt x="1191" y="1656"/>
                  </a:lnTo>
                  <a:lnTo>
                    <a:pt x="1191" y="1637"/>
                  </a:lnTo>
                  <a:lnTo>
                    <a:pt x="1196" y="1637"/>
                  </a:lnTo>
                  <a:lnTo>
                    <a:pt x="1196" y="1625"/>
                  </a:lnTo>
                  <a:lnTo>
                    <a:pt x="1201" y="1625"/>
                  </a:lnTo>
                  <a:lnTo>
                    <a:pt x="1201" y="1607"/>
                  </a:lnTo>
                  <a:lnTo>
                    <a:pt x="1206" y="1607"/>
                  </a:lnTo>
                  <a:lnTo>
                    <a:pt x="1206" y="1584"/>
                  </a:lnTo>
                  <a:lnTo>
                    <a:pt x="1211" y="1584"/>
                  </a:lnTo>
                  <a:lnTo>
                    <a:pt x="1211" y="1579"/>
                  </a:lnTo>
                  <a:lnTo>
                    <a:pt x="1215" y="1579"/>
                  </a:lnTo>
                  <a:lnTo>
                    <a:pt x="1215" y="1566"/>
                  </a:lnTo>
                  <a:lnTo>
                    <a:pt x="1220" y="1566"/>
                  </a:lnTo>
                  <a:lnTo>
                    <a:pt x="1220" y="1549"/>
                  </a:lnTo>
                  <a:lnTo>
                    <a:pt x="1225" y="1549"/>
                  </a:lnTo>
                  <a:lnTo>
                    <a:pt x="1225" y="1531"/>
                  </a:lnTo>
                  <a:lnTo>
                    <a:pt x="1230" y="1531"/>
                  </a:lnTo>
                  <a:lnTo>
                    <a:pt x="1230" y="1520"/>
                  </a:lnTo>
                  <a:lnTo>
                    <a:pt x="1234" y="1520"/>
                  </a:lnTo>
                  <a:lnTo>
                    <a:pt x="1234" y="1508"/>
                  </a:lnTo>
                  <a:lnTo>
                    <a:pt x="1240" y="1508"/>
                  </a:lnTo>
                  <a:lnTo>
                    <a:pt x="1240" y="1496"/>
                  </a:lnTo>
                  <a:lnTo>
                    <a:pt x="1244" y="1496"/>
                  </a:lnTo>
                  <a:lnTo>
                    <a:pt x="1244" y="1484"/>
                  </a:lnTo>
                  <a:lnTo>
                    <a:pt x="1248" y="1484"/>
                  </a:lnTo>
                  <a:lnTo>
                    <a:pt x="1248" y="1471"/>
                  </a:lnTo>
                  <a:lnTo>
                    <a:pt x="1254" y="1471"/>
                  </a:lnTo>
                  <a:lnTo>
                    <a:pt x="1254" y="1454"/>
                  </a:lnTo>
                  <a:lnTo>
                    <a:pt x="1258" y="1454"/>
                  </a:lnTo>
                  <a:lnTo>
                    <a:pt x="1258" y="1448"/>
                  </a:lnTo>
                  <a:lnTo>
                    <a:pt x="1263" y="1448"/>
                  </a:lnTo>
                  <a:lnTo>
                    <a:pt x="1263" y="1419"/>
                  </a:lnTo>
                  <a:lnTo>
                    <a:pt x="1268" y="1419"/>
                  </a:lnTo>
                  <a:lnTo>
                    <a:pt x="1268" y="1401"/>
                  </a:lnTo>
                  <a:lnTo>
                    <a:pt x="1274" y="1401"/>
                  </a:lnTo>
                  <a:lnTo>
                    <a:pt x="1274" y="1389"/>
                  </a:lnTo>
                  <a:lnTo>
                    <a:pt x="1278" y="1389"/>
                  </a:lnTo>
                  <a:lnTo>
                    <a:pt x="1278" y="1372"/>
                  </a:lnTo>
                  <a:lnTo>
                    <a:pt x="1282" y="1372"/>
                  </a:lnTo>
                  <a:lnTo>
                    <a:pt x="1282" y="1360"/>
                  </a:lnTo>
                  <a:lnTo>
                    <a:pt x="1288" y="1360"/>
                  </a:lnTo>
                  <a:lnTo>
                    <a:pt x="1288" y="1348"/>
                  </a:lnTo>
                  <a:lnTo>
                    <a:pt x="1292" y="1348"/>
                  </a:lnTo>
                  <a:lnTo>
                    <a:pt x="1292" y="1335"/>
                  </a:lnTo>
                  <a:lnTo>
                    <a:pt x="1297" y="1335"/>
                  </a:lnTo>
                  <a:lnTo>
                    <a:pt x="1297" y="1319"/>
                  </a:lnTo>
                  <a:lnTo>
                    <a:pt x="1302" y="1319"/>
                  </a:lnTo>
                  <a:lnTo>
                    <a:pt x="1302" y="1307"/>
                  </a:lnTo>
                  <a:lnTo>
                    <a:pt x="1307" y="1307"/>
                  </a:lnTo>
                  <a:lnTo>
                    <a:pt x="1307" y="1300"/>
                  </a:lnTo>
                  <a:lnTo>
                    <a:pt x="1311" y="1300"/>
                  </a:lnTo>
                  <a:lnTo>
                    <a:pt x="1311" y="1288"/>
                  </a:lnTo>
                  <a:lnTo>
                    <a:pt x="1316" y="1288"/>
                  </a:lnTo>
                  <a:lnTo>
                    <a:pt x="1316" y="1283"/>
                  </a:lnTo>
                  <a:lnTo>
                    <a:pt x="1321" y="1283"/>
                  </a:lnTo>
                  <a:lnTo>
                    <a:pt x="1321" y="1270"/>
                  </a:lnTo>
                  <a:lnTo>
                    <a:pt x="1325" y="1270"/>
                  </a:lnTo>
                  <a:lnTo>
                    <a:pt x="1325" y="1259"/>
                  </a:lnTo>
                  <a:lnTo>
                    <a:pt x="1330" y="1259"/>
                  </a:lnTo>
                  <a:lnTo>
                    <a:pt x="1330" y="1242"/>
                  </a:lnTo>
                  <a:lnTo>
                    <a:pt x="1335" y="1242"/>
                  </a:lnTo>
                  <a:lnTo>
                    <a:pt x="1335" y="1236"/>
                  </a:lnTo>
                  <a:lnTo>
                    <a:pt x="1339" y="1236"/>
                  </a:lnTo>
                  <a:lnTo>
                    <a:pt x="1339" y="1224"/>
                  </a:lnTo>
                  <a:lnTo>
                    <a:pt x="1345" y="1224"/>
                  </a:lnTo>
                  <a:lnTo>
                    <a:pt x="1345" y="1206"/>
                  </a:lnTo>
                  <a:lnTo>
                    <a:pt x="1350" y="1206"/>
                  </a:lnTo>
                  <a:lnTo>
                    <a:pt x="1350" y="1193"/>
                  </a:lnTo>
                  <a:lnTo>
                    <a:pt x="1355" y="1193"/>
                  </a:lnTo>
                  <a:lnTo>
                    <a:pt x="1355" y="1176"/>
                  </a:lnTo>
                  <a:lnTo>
                    <a:pt x="1359" y="1176"/>
                  </a:lnTo>
                  <a:lnTo>
                    <a:pt x="1359" y="1171"/>
                  </a:lnTo>
                  <a:lnTo>
                    <a:pt x="1365" y="1171"/>
                  </a:lnTo>
                  <a:lnTo>
                    <a:pt x="1365" y="1158"/>
                  </a:lnTo>
                  <a:lnTo>
                    <a:pt x="1369" y="1158"/>
                  </a:lnTo>
                  <a:lnTo>
                    <a:pt x="1369" y="1147"/>
                  </a:lnTo>
                  <a:lnTo>
                    <a:pt x="1374" y="1147"/>
                  </a:lnTo>
                  <a:lnTo>
                    <a:pt x="1374" y="1134"/>
                  </a:lnTo>
                  <a:lnTo>
                    <a:pt x="1378" y="1134"/>
                  </a:lnTo>
                  <a:lnTo>
                    <a:pt x="1378" y="1117"/>
                  </a:lnTo>
                  <a:lnTo>
                    <a:pt x="1383" y="1117"/>
                  </a:lnTo>
                  <a:lnTo>
                    <a:pt x="1383" y="1112"/>
                  </a:lnTo>
                  <a:lnTo>
                    <a:pt x="1388" y="1112"/>
                  </a:lnTo>
                  <a:lnTo>
                    <a:pt x="1388" y="1106"/>
                  </a:lnTo>
                  <a:lnTo>
                    <a:pt x="1392" y="1106"/>
                  </a:lnTo>
                  <a:lnTo>
                    <a:pt x="1392" y="1088"/>
                  </a:lnTo>
                  <a:lnTo>
                    <a:pt x="1398" y="1088"/>
                  </a:lnTo>
                  <a:lnTo>
                    <a:pt x="1398" y="1076"/>
                  </a:lnTo>
                  <a:lnTo>
                    <a:pt x="1402" y="1076"/>
                  </a:lnTo>
                  <a:lnTo>
                    <a:pt x="1402" y="1058"/>
                  </a:lnTo>
                  <a:lnTo>
                    <a:pt x="1407" y="1058"/>
                  </a:lnTo>
                  <a:lnTo>
                    <a:pt x="1407" y="1052"/>
                  </a:lnTo>
                  <a:lnTo>
                    <a:pt x="1412" y="1052"/>
                  </a:lnTo>
                  <a:lnTo>
                    <a:pt x="1412" y="1041"/>
                  </a:lnTo>
                  <a:lnTo>
                    <a:pt x="1416" y="1041"/>
                  </a:lnTo>
                  <a:lnTo>
                    <a:pt x="1416" y="1023"/>
                  </a:lnTo>
                  <a:lnTo>
                    <a:pt x="1422" y="1023"/>
                  </a:lnTo>
                  <a:lnTo>
                    <a:pt x="1422" y="1017"/>
                  </a:lnTo>
                  <a:lnTo>
                    <a:pt x="1426" y="1017"/>
                  </a:lnTo>
                  <a:lnTo>
                    <a:pt x="1426" y="1006"/>
                  </a:lnTo>
                  <a:lnTo>
                    <a:pt x="1432" y="1006"/>
                  </a:lnTo>
                  <a:lnTo>
                    <a:pt x="1432" y="987"/>
                  </a:lnTo>
                  <a:lnTo>
                    <a:pt x="1436" y="987"/>
                  </a:lnTo>
                  <a:lnTo>
                    <a:pt x="1436" y="981"/>
                  </a:lnTo>
                  <a:lnTo>
                    <a:pt x="1441" y="981"/>
                  </a:lnTo>
                  <a:lnTo>
                    <a:pt x="1441" y="970"/>
                  </a:lnTo>
                  <a:lnTo>
                    <a:pt x="1446" y="970"/>
                  </a:lnTo>
                  <a:lnTo>
                    <a:pt x="1446" y="957"/>
                  </a:lnTo>
                  <a:lnTo>
                    <a:pt x="1451" y="957"/>
                  </a:lnTo>
                  <a:lnTo>
                    <a:pt x="1451" y="946"/>
                  </a:lnTo>
                  <a:lnTo>
                    <a:pt x="1455" y="946"/>
                  </a:lnTo>
                  <a:lnTo>
                    <a:pt x="1455" y="940"/>
                  </a:lnTo>
                  <a:lnTo>
                    <a:pt x="1460" y="940"/>
                  </a:lnTo>
                  <a:lnTo>
                    <a:pt x="1460" y="929"/>
                  </a:lnTo>
                  <a:lnTo>
                    <a:pt x="1465" y="929"/>
                  </a:lnTo>
                  <a:lnTo>
                    <a:pt x="1465" y="916"/>
                  </a:lnTo>
                  <a:lnTo>
                    <a:pt x="1469" y="916"/>
                  </a:lnTo>
                  <a:lnTo>
                    <a:pt x="1469" y="905"/>
                  </a:lnTo>
                  <a:lnTo>
                    <a:pt x="1474" y="905"/>
                  </a:lnTo>
                  <a:lnTo>
                    <a:pt x="1474" y="899"/>
                  </a:lnTo>
                  <a:lnTo>
                    <a:pt x="1479" y="899"/>
                  </a:lnTo>
                  <a:lnTo>
                    <a:pt x="1479" y="887"/>
                  </a:lnTo>
                  <a:lnTo>
                    <a:pt x="1484" y="887"/>
                  </a:lnTo>
                  <a:lnTo>
                    <a:pt x="1484" y="880"/>
                  </a:lnTo>
                  <a:lnTo>
                    <a:pt x="1488" y="880"/>
                  </a:lnTo>
                  <a:lnTo>
                    <a:pt x="1488" y="870"/>
                  </a:lnTo>
                  <a:lnTo>
                    <a:pt x="1495" y="870"/>
                  </a:lnTo>
                  <a:lnTo>
                    <a:pt x="1495" y="862"/>
                  </a:lnTo>
                  <a:lnTo>
                    <a:pt x="1499" y="862"/>
                  </a:lnTo>
                  <a:lnTo>
                    <a:pt x="1499" y="846"/>
                  </a:lnTo>
                  <a:lnTo>
                    <a:pt x="1503" y="846"/>
                  </a:lnTo>
                  <a:lnTo>
                    <a:pt x="1503" y="834"/>
                  </a:lnTo>
                  <a:lnTo>
                    <a:pt x="1509" y="834"/>
                  </a:lnTo>
                  <a:lnTo>
                    <a:pt x="1509" y="821"/>
                  </a:lnTo>
                  <a:lnTo>
                    <a:pt x="1513" y="821"/>
                  </a:lnTo>
                  <a:lnTo>
                    <a:pt x="1513" y="816"/>
                  </a:lnTo>
                  <a:lnTo>
                    <a:pt x="1518" y="816"/>
                  </a:lnTo>
                  <a:lnTo>
                    <a:pt x="1518" y="804"/>
                  </a:lnTo>
                  <a:lnTo>
                    <a:pt x="1522" y="804"/>
                  </a:lnTo>
                  <a:lnTo>
                    <a:pt x="1522" y="793"/>
                  </a:lnTo>
                  <a:lnTo>
                    <a:pt x="1528" y="793"/>
                  </a:lnTo>
                  <a:lnTo>
                    <a:pt x="1528" y="786"/>
                  </a:lnTo>
                  <a:lnTo>
                    <a:pt x="1532" y="786"/>
                  </a:lnTo>
                  <a:lnTo>
                    <a:pt x="1532" y="774"/>
                  </a:lnTo>
                  <a:lnTo>
                    <a:pt x="1537" y="774"/>
                  </a:lnTo>
                  <a:lnTo>
                    <a:pt x="1537" y="756"/>
                  </a:lnTo>
                  <a:lnTo>
                    <a:pt x="1542" y="756"/>
                  </a:lnTo>
                  <a:lnTo>
                    <a:pt x="1542" y="733"/>
                  </a:lnTo>
                  <a:lnTo>
                    <a:pt x="1546" y="733"/>
                  </a:lnTo>
                  <a:lnTo>
                    <a:pt x="1546" y="720"/>
                  </a:lnTo>
                  <a:lnTo>
                    <a:pt x="1551" y="720"/>
                  </a:lnTo>
                  <a:lnTo>
                    <a:pt x="1551" y="703"/>
                  </a:lnTo>
                  <a:lnTo>
                    <a:pt x="1556" y="703"/>
                  </a:lnTo>
                  <a:lnTo>
                    <a:pt x="1556" y="698"/>
                  </a:lnTo>
                  <a:lnTo>
                    <a:pt x="1561" y="698"/>
                  </a:lnTo>
                  <a:lnTo>
                    <a:pt x="1561" y="680"/>
                  </a:lnTo>
                  <a:lnTo>
                    <a:pt x="1566" y="680"/>
                  </a:lnTo>
                  <a:lnTo>
                    <a:pt x="1566" y="662"/>
                  </a:lnTo>
                  <a:lnTo>
                    <a:pt x="1571" y="662"/>
                  </a:lnTo>
                  <a:lnTo>
                    <a:pt x="1571" y="644"/>
                  </a:lnTo>
                  <a:lnTo>
                    <a:pt x="1576" y="644"/>
                  </a:lnTo>
                  <a:lnTo>
                    <a:pt x="1576" y="633"/>
                  </a:lnTo>
                  <a:lnTo>
                    <a:pt x="1581" y="633"/>
                  </a:lnTo>
                  <a:lnTo>
                    <a:pt x="1581" y="620"/>
                  </a:lnTo>
                  <a:lnTo>
                    <a:pt x="1585" y="620"/>
                  </a:lnTo>
                  <a:lnTo>
                    <a:pt x="1585" y="609"/>
                  </a:lnTo>
                  <a:lnTo>
                    <a:pt x="1590" y="609"/>
                  </a:lnTo>
                  <a:lnTo>
                    <a:pt x="1590" y="592"/>
                  </a:lnTo>
                  <a:lnTo>
                    <a:pt x="1595" y="592"/>
                  </a:lnTo>
                  <a:lnTo>
                    <a:pt x="1595" y="579"/>
                  </a:lnTo>
                  <a:lnTo>
                    <a:pt x="1599" y="579"/>
                  </a:lnTo>
                  <a:lnTo>
                    <a:pt x="1599" y="568"/>
                  </a:lnTo>
                  <a:lnTo>
                    <a:pt x="1604" y="568"/>
                  </a:lnTo>
                  <a:lnTo>
                    <a:pt x="1604" y="562"/>
                  </a:lnTo>
                  <a:lnTo>
                    <a:pt x="1609" y="562"/>
                  </a:lnTo>
                  <a:lnTo>
                    <a:pt x="1609" y="550"/>
                  </a:lnTo>
                  <a:lnTo>
                    <a:pt x="1614" y="550"/>
                  </a:lnTo>
                  <a:lnTo>
                    <a:pt x="1614" y="538"/>
                  </a:lnTo>
                  <a:lnTo>
                    <a:pt x="1618" y="538"/>
                  </a:lnTo>
                  <a:lnTo>
                    <a:pt x="1618" y="514"/>
                  </a:lnTo>
                  <a:lnTo>
                    <a:pt x="1623" y="514"/>
                  </a:lnTo>
                  <a:lnTo>
                    <a:pt x="1623" y="497"/>
                  </a:lnTo>
                  <a:lnTo>
                    <a:pt x="1628" y="497"/>
                  </a:lnTo>
                  <a:lnTo>
                    <a:pt x="1628" y="492"/>
                  </a:lnTo>
                  <a:lnTo>
                    <a:pt x="1632" y="492"/>
                  </a:lnTo>
                  <a:lnTo>
                    <a:pt x="1632" y="473"/>
                  </a:lnTo>
                  <a:lnTo>
                    <a:pt x="1639" y="473"/>
                  </a:lnTo>
                  <a:lnTo>
                    <a:pt x="1639" y="461"/>
                  </a:lnTo>
                  <a:lnTo>
                    <a:pt x="1643" y="461"/>
                  </a:lnTo>
                  <a:lnTo>
                    <a:pt x="1643" y="449"/>
                  </a:lnTo>
                  <a:lnTo>
                    <a:pt x="1648" y="449"/>
                  </a:lnTo>
                  <a:lnTo>
                    <a:pt x="1648" y="438"/>
                  </a:lnTo>
                  <a:lnTo>
                    <a:pt x="1653" y="438"/>
                  </a:lnTo>
                  <a:lnTo>
                    <a:pt x="1653" y="414"/>
                  </a:lnTo>
                  <a:lnTo>
                    <a:pt x="1657" y="414"/>
                  </a:lnTo>
                  <a:lnTo>
                    <a:pt x="1657" y="402"/>
                  </a:lnTo>
                  <a:lnTo>
                    <a:pt x="1662" y="402"/>
                  </a:lnTo>
                  <a:lnTo>
                    <a:pt x="1662" y="397"/>
                  </a:lnTo>
                  <a:lnTo>
                    <a:pt x="1666" y="397"/>
                  </a:lnTo>
                  <a:lnTo>
                    <a:pt x="1666" y="378"/>
                  </a:lnTo>
                  <a:lnTo>
                    <a:pt x="1672" y="378"/>
                  </a:lnTo>
                  <a:lnTo>
                    <a:pt x="1672" y="361"/>
                  </a:lnTo>
                  <a:lnTo>
                    <a:pt x="1676" y="361"/>
                  </a:lnTo>
                  <a:lnTo>
                    <a:pt x="1676" y="355"/>
                  </a:lnTo>
                  <a:lnTo>
                    <a:pt x="1680" y="355"/>
                  </a:lnTo>
                  <a:lnTo>
                    <a:pt x="1680" y="343"/>
                  </a:lnTo>
                  <a:lnTo>
                    <a:pt x="1686" y="343"/>
                  </a:lnTo>
                  <a:lnTo>
                    <a:pt x="1686" y="320"/>
                  </a:lnTo>
                  <a:lnTo>
                    <a:pt x="1690" y="320"/>
                  </a:lnTo>
                  <a:lnTo>
                    <a:pt x="1690" y="296"/>
                  </a:lnTo>
                  <a:lnTo>
                    <a:pt x="1695" y="296"/>
                  </a:lnTo>
                  <a:lnTo>
                    <a:pt x="1695" y="283"/>
                  </a:lnTo>
                  <a:lnTo>
                    <a:pt x="1700" y="283"/>
                  </a:lnTo>
                  <a:lnTo>
                    <a:pt x="1700" y="272"/>
                  </a:lnTo>
                  <a:lnTo>
                    <a:pt x="1705" y="272"/>
                  </a:lnTo>
                  <a:lnTo>
                    <a:pt x="1705" y="248"/>
                  </a:lnTo>
                  <a:lnTo>
                    <a:pt x="1710" y="248"/>
                  </a:lnTo>
                  <a:lnTo>
                    <a:pt x="1710" y="220"/>
                  </a:lnTo>
                  <a:lnTo>
                    <a:pt x="1715" y="220"/>
                  </a:lnTo>
                  <a:lnTo>
                    <a:pt x="1715" y="196"/>
                  </a:lnTo>
                  <a:lnTo>
                    <a:pt x="1720" y="196"/>
                  </a:lnTo>
                  <a:lnTo>
                    <a:pt x="1720" y="179"/>
                  </a:lnTo>
                  <a:lnTo>
                    <a:pt x="1724" y="179"/>
                  </a:lnTo>
                  <a:lnTo>
                    <a:pt x="1724" y="160"/>
                  </a:lnTo>
                  <a:lnTo>
                    <a:pt x="1710" y="160"/>
                  </a:lnTo>
                  <a:lnTo>
                    <a:pt x="1710" y="171"/>
                  </a:lnTo>
                  <a:lnTo>
                    <a:pt x="1705" y="171"/>
                  </a:lnTo>
                  <a:lnTo>
                    <a:pt x="1705" y="184"/>
                  </a:lnTo>
                  <a:lnTo>
                    <a:pt x="1700" y="184"/>
                  </a:lnTo>
                  <a:lnTo>
                    <a:pt x="1700" y="196"/>
                  </a:lnTo>
                  <a:lnTo>
                    <a:pt x="1695" y="196"/>
                  </a:lnTo>
                  <a:lnTo>
                    <a:pt x="1695" y="212"/>
                  </a:lnTo>
                  <a:lnTo>
                    <a:pt x="1690" y="212"/>
                  </a:lnTo>
                  <a:lnTo>
                    <a:pt x="1690" y="231"/>
                  </a:lnTo>
                  <a:lnTo>
                    <a:pt x="1686" y="231"/>
                  </a:lnTo>
                  <a:lnTo>
                    <a:pt x="1686" y="242"/>
                  </a:lnTo>
                  <a:lnTo>
                    <a:pt x="1680" y="242"/>
                  </a:lnTo>
                  <a:lnTo>
                    <a:pt x="1680" y="266"/>
                  </a:lnTo>
                  <a:lnTo>
                    <a:pt x="1676" y="266"/>
                  </a:lnTo>
                  <a:lnTo>
                    <a:pt x="1676" y="283"/>
                  </a:lnTo>
                  <a:lnTo>
                    <a:pt x="1672" y="283"/>
                  </a:lnTo>
                  <a:lnTo>
                    <a:pt x="1672" y="301"/>
                  </a:lnTo>
                  <a:lnTo>
                    <a:pt x="1666" y="301"/>
                  </a:lnTo>
                  <a:lnTo>
                    <a:pt x="1666" y="307"/>
                  </a:lnTo>
                  <a:lnTo>
                    <a:pt x="1662" y="307"/>
                  </a:lnTo>
                  <a:lnTo>
                    <a:pt x="1662" y="320"/>
                  </a:lnTo>
                  <a:lnTo>
                    <a:pt x="1657" y="320"/>
                  </a:lnTo>
                  <a:lnTo>
                    <a:pt x="1657" y="337"/>
                  </a:lnTo>
                  <a:lnTo>
                    <a:pt x="1653" y="337"/>
                  </a:lnTo>
                  <a:lnTo>
                    <a:pt x="1653" y="355"/>
                  </a:lnTo>
                  <a:lnTo>
                    <a:pt x="1648" y="355"/>
                  </a:lnTo>
                  <a:lnTo>
                    <a:pt x="1648" y="373"/>
                  </a:lnTo>
                  <a:lnTo>
                    <a:pt x="1639" y="373"/>
                  </a:lnTo>
                  <a:lnTo>
                    <a:pt x="1639" y="391"/>
                  </a:lnTo>
                  <a:lnTo>
                    <a:pt x="1632" y="391"/>
                  </a:lnTo>
                  <a:lnTo>
                    <a:pt x="1632" y="397"/>
                  </a:lnTo>
                  <a:lnTo>
                    <a:pt x="1628" y="397"/>
                  </a:lnTo>
                  <a:lnTo>
                    <a:pt x="1628" y="414"/>
                  </a:lnTo>
                  <a:lnTo>
                    <a:pt x="1623" y="414"/>
                  </a:lnTo>
                  <a:lnTo>
                    <a:pt x="1623" y="426"/>
                  </a:lnTo>
                  <a:lnTo>
                    <a:pt x="1618" y="426"/>
                  </a:lnTo>
                  <a:lnTo>
                    <a:pt x="1618" y="438"/>
                  </a:lnTo>
                  <a:lnTo>
                    <a:pt x="1614" y="438"/>
                  </a:lnTo>
                  <a:lnTo>
                    <a:pt x="1614" y="456"/>
                  </a:lnTo>
                  <a:lnTo>
                    <a:pt x="1609" y="456"/>
                  </a:lnTo>
                  <a:lnTo>
                    <a:pt x="1609" y="473"/>
                  </a:lnTo>
                  <a:lnTo>
                    <a:pt x="1604" y="473"/>
                  </a:lnTo>
                  <a:lnTo>
                    <a:pt x="1604" y="492"/>
                  </a:lnTo>
                  <a:lnTo>
                    <a:pt x="1599" y="492"/>
                  </a:lnTo>
                  <a:lnTo>
                    <a:pt x="1599" y="508"/>
                  </a:lnTo>
                  <a:lnTo>
                    <a:pt x="1595" y="508"/>
                  </a:lnTo>
                  <a:lnTo>
                    <a:pt x="1595" y="521"/>
                  </a:lnTo>
                  <a:lnTo>
                    <a:pt x="1590" y="521"/>
                  </a:lnTo>
                  <a:lnTo>
                    <a:pt x="1590" y="526"/>
                  </a:lnTo>
                  <a:lnTo>
                    <a:pt x="1585" y="526"/>
                  </a:lnTo>
                  <a:lnTo>
                    <a:pt x="1585" y="538"/>
                  </a:lnTo>
                  <a:lnTo>
                    <a:pt x="1581" y="538"/>
                  </a:lnTo>
                  <a:lnTo>
                    <a:pt x="1581" y="555"/>
                  </a:lnTo>
                  <a:lnTo>
                    <a:pt x="1576" y="555"/>
                  </a:lnTo>
                  <a:lnTo>
                    <a:pt x="1576" y="562"/>
                  </a:lnTo>
                  <a:lnTo>
                    <a:pt x="1571" y="562"/>
                  </a:lnTo>
                  <a:lnTo>
                    <a:pt x="1571" y="574"/>
                  </a:lnTo>
                  <a:lnTo>
                    <a:pt x="1566" y="574"/>
                  </a:lnTo>
                  <a:lnTo>
                    <a:pt x="1566" y="592"/>
                  </a:lnTo>
                  <a:lnTo>
                    <a:pt x="1561" y="592"/>
                  </a:lnTo>
                  <a:lnTo>
                    <a:pt x="1561" y="598"/>
                  </a:lnTo>
                  <a:lnTo>
                    <a:pt x="1556" y="598"/>
                  </a:lnTo>
                  <a:lnTo>
                    <a:pt x="1556" y="615"/>
                  </a:lnTo>
                  <a:lnTo>
                    <a:pt x="1551" y="615"/>
                  </a:lnTo>
                  <a:lnTo>
                    <a:pt x="1551" y="620"/>
                  </a:lnTo>
                  <a:lnTo>
                    <a:pt x="1546" y="620"/>
                  </a:lnTo>
                  <a:lnTo>
                    <a:pt x="1546" y="633"/>
                  </a:lnTo>
                  <a:lnTo>
                    <a:pt x="1542" y="633"/>
                  </a:lnTo>
                  <a:lnTo>
                    <a:pt x="1542" y="652"/>
                  </a:lnTo>
                  <a:lnTo>
                    <a:pt x="1537" y="652"/>
                  </a:lnTo>
                  <a:lnTo>
                    <a:pt x="1537" y="674"/>
                  </a:lnTo>
                  <a:lnTo>
                    <a:pt x="1532" y="674"/>
                  </a:lnTo>
                  <a:lnTo>
                    <a:pt x="1532" y="698"/>
                  </a:lnTo>
                  <a:lnTo>
                    <a:pt x="1528" y="698"/>
                  </a:lnTo>
                  <a:lnTo>
                    <a:pt x="1528" y="710"/>
                  </a:lnTo>
                  <a:lnTo>
                    <a:pt x="1522" y="710"/>
                  </a:lnTo>
                  <a:lnTo>
                    <a:pt x="1522" y="715"/>
                  </a:lnTo>
                  <a:lnTo>
                    <a:pt x="1518" y="715"/>
                  </a:lnTo>
                  <a:lnTo>
                    <a:pt x="1518" y="720"/>
                  </a:lnTo>
                  <a:lnTo>
                    <a:pt x="1513" y="720"/>
                  </a:lnTo>
                  <a:lnTo>
                    <a:pt x="1513" y="728"/>
                  </a:lnTo>
                  <a:lnTo>
                    <a:pt x="1509" y="728"/>
                  </a:lnTo>
                  <a:lnTo>
                    <a:pt x="1509" y="733"/>
                  </a:lnTo>
                  <a:lnTo>
                    <a:pt x="1503" y="733"/>
                  </a:lnTo>
                  <a:lnTo>
                    <a:pt x="1503" y="745"/>
                  </a:lnTo>
                  <a:lnTo>
                    <a:pt x="1499" y="745"/>
                  </a:lnTo>
                  <a:lnTo>
                    <a:pt x="1499" y="763"/>
                  </a:lnTo>
                  <a:lnTo>
                    <a:pt x="1495" y="763"/>
                  </a:lnTo>
                  <a:lnTo>
                    <a:pt x="1495" y="774"/>
                  </a:lnTo>
                  <a:lnTo>
                    <a:pt x="1488" y="774"/>
                  </a:lnTo>
                  <a:lnTo>
                    <a:pt x="1488" y="780"/>
                  </a:lnTo>
                  <a:lnTo>
                    <a:pt x="1484" y="780"/>
                  </a:lnTo>
                  <a:lnTo>
                    <a:pt x="1484" y="793"/>
                  </a:lnTo>
                  <a:lnTo>
                    <a:pt x="1479" y="793"/>
                  </a:lnTo>
                  <a:lnTo>
                    <a:pt x="1479" y="804"/>
                  </a:lnTo>
                  <a:lnTo>
                    <a:pt x="1469" y="804"/>
                  </a:lnTo>
                  <a:lnTo>
                    <a:pt x="1469" y="810"/>
                  </a:lnTo>
                  <a:lnTo>
                    <a:pt x="1465" y="810"/>
                  </a:lnTo>
                  <a:lnTo>
                    <a:pt x="1465" y="827"/>
                  </a:lnTo>
                  <a:lnTo>
                    <a:pt x="1460" y="827"/>
                  </a:lnTo>
                  <a:lnTo>
                    <a:pt x="1460" y="846"/>
                  </a:lnTo>
                  <a:lnTo>
                    <a:pt x="1455" y="846"/>
                  </a:lnTo>
                  <a:lnTo>
                    <a:pt x="1455" y="851"/>
                  </a:lnTo>
                  <a:lnTo>
                    <a:pt x="1451" y="851"/>
                  </a:lnTo>
                  <a:lnTo>
                    <a:pt x="1451" y="862"/>
                  </a:lnTo>
                  <a:lnTo>
                    <a:pt x="1441" y="862"/>
                  </a:lnTo>
                  <a:lnTo>
                    <a:pt x="1441" y="870"/>
                  </a:lnTo>
                  <a:lnTo>
                    <a:pt x="1436" y="870"/>
                  </a:lnTo>
                  <a:lnTo>
                    <a:pt x="1436" y="887"/>
                  </a:lnTo>
                  <a:lnTo>
                    <a:pt x="1432" y="887"/>
                  </a:lnTo>
                  <a:lnTo>
                    <a:pt x="1432" y="911"/>
                  </a:lnTo>
                  <a:lnTo>
                    <a:pt x="1416" y="911"/>
                  </a:lnTo>
                  <a:lnTo>
                    <a:pt x="1416" y="946"/>
                  </a:lnTo>
                  <a:lnTo>
                    <a:pt x="1412" y="946"/>
                  </a:lnTo>
                  <a:lnTo>
                    <a:pt x="1412" y="952"/>
                  </a:lnTo>
                  <a:lnTo>
                    <a:pt x="1407" y="952"/>
                  </a:lnTo>
                  <a:lnTo>
                    <a:pt x="1407" y="965"/>
                  </a:lnTo>
                  <a:lnTo>
                    <a:pt x="1402" y="965"/>
                  </a:lnTo>
                  <a:lnTo>
                    <a:pt x="1402" y="981"/>
                  </a:lnTo>
                  <a:lnTo>
                    <a:pt x="1398" y="981"/>
                  </a:lnTo>
                  <a:lnTo>
                    <a:pt x="1398" y="993"/>
                  </a:lnTo>
                  <a:lnTo>
                    <a:pt x="1392" y="993"/>
                  </a:lnTo>
                  <a:lnTo>
                    <a:pt x="1392" y="1006"/>
                  </a:lnTo>
                  <a:lnTo>
                    <a:pt x="1388" y="1006"/>
                  </a:lnTo>
                  <a:lnTo>
                    <a:pt x="1388" y="1017"/>
                  </a:lnTo>
                  <a:lnTo>
                    <a:pt x="1383" y="1017"/>
                  </a:lnTo>
                  <a:lnTo>
                    <a:pt x="1383" y="1047"/>
                  </a:lnTo>
                  <a:lnTo>
                    <a:pt x="1378" y="1047"/>
                  </a:lnTo>
                  <a:lnTo>
                    <a:pt x="1378" y="1058"/>
                  </a:lnTo>
                  <a:lnTo>
                    <a:pt x="1374" y="1058"/>
                  </a:lnTo>
                  <a:lnTo>
                    <a:pt x="1374" y="1076"/>
                  </a:lnTo>
                  <a:lnTo>
                    <a:pt x="1369" y="1076"/>
                  </a:lnTo>
                  <a:lnTo>
                    <a:pt x="1369" y="1082"/>
                  </a:lnTo>
                  <a:lnTo>
                    <a:pt x="1365" y="1082"/>
                  </a:lnTo>
                  <a:lnTo>
                    <a:pt x="1365" y="1093"/>
                  </a:lnTo>
                  <a:lnTo>
                    <a:pt x="1359" y="1093"/>
                  </a:lnTo>
                  <a:lnTo>
                    <a:pt x="1359" y="1100"/>
                  </a:lnTo>
                  <a:lnTo>
                    <a:pt x="1355" y="1100"/>
                  </a:lnTo>
                  <a:lnTo>
                    <a:pt x="1355" y="1112"/>
                  </a:lnTo>
                  <a:lnTo>
                    <a:pt x="1350" y="1112"/>
                  </a:lnTo>
                  <a:lnTo>
                    <a:pt x="1350" y="1124"/>
                  </a:lnTo>
                  <a:lnTo>
                    <a:pt x="1345" y="1124"/>
                  </a:lnTo>
                  <a:lnTo>
                    <a:pt x="1345" y="1129"/>
                  </a:lnTo>
                  <a:lnTo>
                    <a:pt x="1339" y="1129"/>
                  </a:lnTo>
                  <a:lnTo>
                    <a:pt x="1339" y="1141"/>
                  </a:lnTo>
                  <a:lnTo>
                    <a:pt x="1335" y="1141"/>
                  </a:lnTo>
                  <a:lnTo>
                    <a:pt x="1335" y="1147"/>
                  </a:lnTo>
                  <a:lnTo>
                    <a:pt x="1330" y="1147"/>
                  </a:lnTo>
                  <a:lnTo>
                    <a:pt x="1330" y="1152"/>
                  </a:lnTo>
                  <a:lnTo>
                    <a:pt x="1325" y="1152"/>
                  </a:lnTo>
                  <a:lnTo>
                    <a:pt x="1325" y="1164"/>
                  </a:lnTo>
                  <a:lnTo>
                    <a:pt x="1321" y="1164"/>
                  </a:lnTo>
                  <a:lnTo>
                    <a:pt x="1321" y="1171"/>
                  </a:lnTo>
                  <a:lnTo>
                    <a:pt x="1316" y="1171"/>
                  </a:lnTo>
                  <a:lnTo>
                    <a:pt x="1316" y="1183"/>
                  </a:lnTo>
                  <a:lnTo>
                    <a:pt x="1311" y="1183"/>
                  </a:lnTo>
                  <a:lnTo>
                    <a:pt x="1311" y="1188"/>
                  </a:lnTo>
                  <a:lnTo>
                    <a:pt x="1307" y="1188"/>
                  </a:lnTo>
                  <a:lnTo>
                    <a:pt x="1307" y="1193"/>
                  </a:lnTo>
                  <a:lnTo>
                    <a:pt x="1302" y="1193"/>
                  </a:lnTo>
                  <a:lnTo>
                    <a:pt x="1302" y="1206"/>
                  </a:lnTo>
                  <a:lnTo>
                    <a:pt x="1297" y="1206"/>
                  </a:lnTo>
                  <a:lnTo>
                    <a:pt x="1297" y="1212"/>
                  </a:lnTo>
                  <a:lnTo>
                    <a:pt x="1292" y="1212"/>
                  </a:lnTo>
                  <a:lnTo>
                    <a:pt x="1292" y="1229"/>
                  </a:lnTo>
                  <a:lnTo>
                    <a:pt x="1288" y="1229"/>
                  </a:lnTo>
                  <a:lnTo>
                    <a:pt x="1288" y="1253"/>
                  </a:lnTo>
                  <a:lnTo>
                    <a:pt x="1282" y="1253"/>
                  </a:lnTo>
                  <a:lnTo>
                    <a:pt x="1282" y="1265"/>
                  </a:lnTo>
                  <a:lnTo>
                    <a:pt x="1278" y="1265"/>
                  </a:lnTo>
                  <a:lnTo>
                    <a:pt x="1278" y="1277"/>
                  </a:lnTo>
                  <a:lnTo>
                    <a:pt x="1274" y="1277"/>
                  </a:lnTo>
                  <a:lnTo>
                    <a:pt x="1274" y="1288"/>
                  </a:lnTo>
                  <a:lnTo>
                    <a:pt x="1268" y="1288"/>
                  </a:lnTo>
                  <a:lnTo>
                    <a:pt x="1268" y="1300"/>
                  </a:lnTo>
                  <a:lnTo>
                    <a:pt x="1263" y="1300"/>
                  </a:lnTo>
                  <a:lnTo>
                    <a:pt x="1263" y="1312"/>
                  </a:lnTo>
                  <a:lnTo>
                    <a:pt x="1258" y="1312"/>
                  </a:lnTo>
                  <a:lnTo>
                    <a:pt x="1258" y="1324"/>
                  </a:lnTo>
                  <a:lnTo>
                    <a:pt x="1254" y="1324"/>
                  </a:lnTo>
                  <a:lnTo>
                    <a:pt x="1254" y="1348"/>
                  </a:lnTo>
                  <a:lnTo>
                    <a:pt x="1248" y="1348"/>
                  </a:lnTo>
                  <a:lnTo>
                    <a:pt x="1248" y="1353"/>
                  </a:lnTo>
                  <a:lnTo>
                    <a:pt x="1244" y="1353"/>
                  </a:lnTo>
                  <a:lnTo>
                    <a:pt x="1244" y="1372"/>
                  </a:lnTo>
                  <a:lnTo>
                    <a:pt x="1240" y="1372"/>
                  </a:lnTo>
                  <a:lnTo>
                    <a:pt x="1240" y="1401"/>
                  </a:lnTo>
                  <a:lnTo>
                    <a:pt x="1234" y="1401"/>
                  </a:lnTo>
                  <a:lnTo>
                    <a:pt x="1234" y="1419"/>
                  </a:lnTo>
                  <a:lnTo>
                    <a:pt x="1230" y="1419"/>
                  </a:lnTo>
                  <a:lnTo>
                    <a:pt x="1230" y="1425"/>
                  </a:lnTo>
                  <a:lnTo>
                    <a:pt x="1225" y="1425"/>
                  </a:lnTo>
                  <a:lnTo>
                    <a:pt x="1225" y="1438"/>
                  </a:lnTo>
                  <a:lnTo>
                    <a:pt x="1220" y="1438"/>
                  </a:lnTo>
                  <a:lnTo>
                    <a:pt x="1220" y="1443"/>
                  </a:lnTo>
                  <a:lnTo>
                    <a:pt x="1215" y="1443"/>
                  </a:lnTo>
                  <a:lnTo>
                    <a:pt x="1215" y="1448"/>
                  </a:lnTo>
                  <a:lnTo>
                    <a:pt x="1211" y="1448"/>
                  </a:lnTo>
                  <a:lnTo>
                    <a:pt x="1211" y="1460"/>
                  </a:lnTo>
                  <a:lnTo>
                    <a:pt x="1206" y="1460"/>
                  </a:lnTo>
                  <a:lnTo>
                    <a:pt x="1206" y="1471"/>
                  </a:lnTo>
                  <a:lnTo>
                    <a:pt x="1201" y="1471"/>
                  </a:lnTo>
                  <a:lnTo>
                    <a:pt x="1201" y="1484"/>
                  </a:lnTo>
                  <a:lnTo>
                    <a:pt x="1196" y="1484"/>
                  </a:lnTo>
                  <a:lnTo>
                    <a:pt x="1196" y="1501"/>
                  </a:lnTo>
                  <a:lnTo>
                    <a:pt x="1191" y="1501"/>
                  </a:lnTo>
                  <a:lnTo>
                    <a:pt x="1191" y="1525"/>
                  </a:lnTo>
                  <a:lnTo>
                    <a:pt x="1186" y="1525"/>
                  </a:lnTo>
                  <a:lnTo>
                    <a:pt x="1186" y="1538"/>
                  </a:lnTo>
                  <a:lnTo>
                    <a:pt x="1181" y="1538"/>
                  </a:lnTo>
                  <a:lnTo>
                    <a:pt x="1181" y="1544"/>
                  </a:lnTo>
                  <a:lnTo>
                    <a:pt x="1177" y="1544"/>
                  </a:lnTo>
                  <a:lnTo>
                    <a:pt x="1177" y="1560"/>
                  </a:lnTo>
                  <a:lnTo>
                    <a:pt x="1167" y="1560"/>
                  </a:lnTo>
                  <a:lnTo>
                    <a:pt x="1167" y="1572"/>
                  </a:lnTo>
                  <a:lnTo>
                    <a:pt x="1162" y="1572"/>
                  </a:lnTo>
                  <a:lnTo>
                    <a:pt x="1162" y="1579"/>
                  </a:lnTo>
                  <a:lnTo>
                    <a:pt x="1158" y="1579"/>
                  </a:lnTo>
                  <a:lnTo>
                    <a:pt x="1158" y="1590"/>
                  </a:lnTo>
                  <a:lnTo>
                    <a:pt x="1153" y="1590"/>
                  </a:lnTo>
                  <a:lnTo>
                    <a:pt x="1153" y="1596"/>
                  </a:lnTo>
                  <a:lnTo>
                    <a:pt x="1148" y="1596"/>
                  </a:lnTo>
                  <a:lnTo>
                    <a:pt x="1148" y="1607"/>
                  </a:lnTo>
                  <a:lnTo>
                    <a:pt x="1144" y="1607"/>
                  </a:lnTo>
                  <a:lnTo>
                    <a:pt x="1144" y="1614"/>
                  </a:lnTo>
                  <a:lnTo>
                    <a:pt x="1138" y="1614"/>
                  </a:lnTo>
                  <a:lnTo>
                    <a:pt x="1138" y="1620"/>
                  </a:lnTo>
                  <a:lnTo>
                    <a:pt x="1134" y="1620"/>
                  </a:lnTo>
                  <a:lnTo>
                    <a:pt x="1134" y="1631"/>
                  </a:lnTo>
                  <a:lnTo>
                    <a:pt x="1129" y="1631"/>
                  </a:lnTo>
                  <a:lnTo>
                    <a:pt x="1129" y="1649"/>
                  </a:lnTo>
                  <a:lnTo>
                    <a:pt x="1124" y="1649"/>
                  </a:lnTo>
                  <a:lnTo>
                    <a:pt x="1124" y="1661"/>
                  </a:lnTo>
                  <a:lnTo>
                    <a:pt x="1118" y="1661"/>
                  </a:lnTo>
                  <a:lnTo>
                    <a:pt x="1118" y="1674"/>
                  </a:lnTo>
                  <a:lnTo>
                    <a:pt x="1114" y="1674"/>
                  </a:lnTo>
                  <a:lnTo>
                    <a:pt x="1114" y="1685"/>
                  </a:lnTo>
                  <a:lnTo>
                    <a:pt x="1110" y="1685"/>
                  </a:lnTo>
                  <a:lnTo>
                    <a:pt x="1110" y="1691"/>
                  </a:lnTo>
                  <a:lnTo>
                    <a:pt x="1104" y="1691"/>
                  </a:lnTo>
                  <a:lnTo>
                    <a:pt x="1104" y="1702"/>
                  </a:lnTo>
                  <a:lnTo>
                    <a:pt x="1100" y="1702"/>
                  </a:lnTo>
                  <a:lnTo>
                    <a:pt x="1100" y="1715"/>
                  </a:lnTo>
                  <a:lnTo>
                    <a:pt x="1095" y="1715"/>
                  </a:lnTo>
                  <a:lnTo>
                    <a:pt x="1095" y="1720"/>
                  </a:lnTo>
                  <a:lnTo>
                    <a:pt x="1090" y="1720"/>
                  </a:lnTo>
                  <a:lnTo>
                    <a:pt x="1090" y="1732"/>
                  </a:lnTo>
                  <a:lnTo>
                    <a:pt x="1085" y="1732"/>
                  </a:lnTo>
                  <a:lnTo>
                    <a:pt x="1085" y="1738"/>
                  </a:lnTo>
                  <a:lnTo>
                    <a:pt x="1081" y="1738"/>
                  </a:lnTo>
                  <a:lnTo>
                    <a:pt x="1081" y="1750"/>
                  </a:lnTo>
                  <a:lnTo>
                    <a:pt x="1076" y="1750"/>
                  </a:lnTo>
                  <a:lnTo>
                    <a:pt x="1076" y="1756"/>
                  </a:lnTo>
                  <a:lnTo>
                    <a:pt x="1071" y="1756"/>
                  </a:lnTo>
                  <a:lnTo>
                    <a:pt x="1071" y="1767"/>
                  </a:lnTo>
                  <a:lnTo>
                    <a:pt x="1067" y="1767"/>
                  </a:lnTo>
                  <a:lnTo>
                    <a:pt x="1067" y="1780"/>
                  </a:lnTo>
                  <a:lnTo>
                    <a:pt x="1062" y="1780"/>
                  </a:lnTo>
                  <a:lnTo>
                    <a:pt x="1062" y="1785"/>
                  </a:lnTo>
                  <a:lnTo>
                    <a:pt x="1057" y="1785"/>
                  </a:lnTo>
                  <a:lnTo>
                    <a:pt x="1057" y="1803"/>
                  </a:lnTo>
                  <a:lnTo>
                    <a:pt x="1051" y="1803"/>
                  </a:lnTo>
                  <a:lnTo>
                    <a:pt x="1051" y="1815"/>
                  </a:lnTo>
                  <a:lnTo>
                    <a:pt x="1047" y="1815"/>
                  </a:lnTo>
                  <a:lnTo>
                    <a:pt x="1047" y="1826"/>
                  </a:lnTo>
                  <a:lnTo>
                    <a:pt x="1041" y="1826"/>
                  </a:lnTo>
                  <a:lnTo>
                    <a:pt x="1041" y="1838"/>
                  </a:lnTo>
                  <a:lnTo>
                    <a:pt x="1037" y="1838"/>
                  </a:lnTo>
                  <a:lnTo>
                    <a:pt x="1037" y="1844"/>
                  </a:lnTo>
                  <a:lnTo>
                    <a:pt x="1033" y="1844"/>
                  </a:lnTo>
                  <a:lnTo>
                    <a:pt x="1033" y="1862"/>
                  </a:lnTo>
                  <a:lnTo>
                    <a:pt x="1028" y="1862"/>
                  </a:lnTo>
                  <a:lnTo>
                    <a:pt x="1028" y="1868"/>
                  </a:lnTo>
                  <a:lnTo>
                    <a:pt x="1023" y="1868"/>
                  </a:lnTo>
                  <a:lnTo>
                    <a:pt x="1023" y="1879"/>
                  </a:lnTo>
                  <a:lnTo>
                    <a:pt x="1018" y="1879"/>
                  </a:lnTo>
                  <a:lnTo>
                    <a:pt x="1018" y="1892"/>
                  </a:lnTo>
                  <a:lnTo>
                    <a:pt x="1014" y="1892"/>
                  </a:lnTo>
                  <a:lnTo>
                    <a:pt x="1014" y="1898"/>
                  </a:lnTo>
                  <a:lnTo>
                    <a:pt x="1008" y="1898"/>
                  </a:lnTo>
                  <a:lnTo>
                    <a:pt x="1008" y="1911"/>
                  </a:lnTo>
                  <a:lnTo>
                    <a:pt x="1004" y="1911"/>
                  </a:lnTo>
                  <a:lnTo>
                    <a:pt x="1004" y="1916"/>
                  </a:lnTo>
                  <a:lnTo>
                    <a:pt x="999" y="1916"/>
                  </a:lnTo>
                  <a:lnTo>
                    <a:pt x="999" y="1921"/>
                  </a:lnTo>
                  <a:lnTo>
                    <a:pt x="994" y="1921"/>
                  </a:lnTo>
                  <a:lnTo>
                    <a:pt x="994" y="1927"/>
                  </a:lnTo>
                  <a:lnTo>
                    <a:pt x="990" y="1927"/>
                  </a:lnTo>
                  <a:lnTo>
                    <a:pt x="990" y="1939"/>
                  </a:lnTo>
                  <a:lnTo>
                    <a:pt x="985" y="1939"/>
                  </a:lnTo>
                  <a:lnTo>
                    <a:pt x="985" y="1944"/>
                  </a:lnTo>
                  <a:lnTo>
                    <a:pt x="974" y="1944"/>
                  </a:lnTo>
                  <a:lnTo>
                    <a:pt x="974" y="1952"/>
                  </a:lnTo>
                  <a:lnTo>
                    <a:pt x="970" y="1952"/>
                  </a:lnTo>
                  <a:lnTo>
                    <a:pt x="970" y="1957"/>
                  </a:lnTo>
                  <a:lnTo>
                    <a:pt x="966" y="1957"/>
                  </a:lnTo>
                  <a:lnTo>
                    <a:pt x="966" y="1962"/>
                  </a:lnTo>
                  <a:lnTo>
                    <a:pt x="960" y="1962"/>
                  </a:lnTo>
                  <a:lnTo>
                    <a:pt x="960" y="1969"/>
                  </a:lnTo>
                  <a:lnTo>
                    <a:pt x="956" y="1969"/>
                  </a:lnTo>
                  <a:lnTo>
                    <a:pt x="956" y="1974"/>
                  </a:lnTo>
                  <a:lnTo>
                    <a:pt x="951" y="1974"/>
                  </a:lnTo>
                  <a:lnTo>
                    <a:pt x="951" y="1979"/>
                  </a:lnTo>
                  <a:lnTo>
                    <a:pt x="946" y="1979"/>
                  </a:lnTo>
                  <a:lnTo>
                    <a:pt x="946" y="1987"/>
                  </a:lnTo>
                  <a:lnTo>
                    <a:pt x="941" y="1987"/>
                  </a:lnTo>
                  <a:lnTo>
                    <a:pt x="941" y="1998"/>
                  </a:lnTo>
                  <a:lnTo>
                    <a:pt x="937" y="1998"/>
                  </a:lnTo>
                  <a:lnTo>
                    <a:pt x="937" y="2003"/>
                  </a:lnTo>
                  <a:lnTo>
                    <a:pt x="932" y="2003"/>
                  </a:lnTo>
                  <a:lnTo>
                    <a:pt x="932" y="2010"/>
                  </a:lnTo>
                  <a:lnTo>
                    <a:pt x="923" y="2010"/>
                  </a:lnTo>
                  <a:lnTo>
                    <a:pt x="923" y="2015"/>
                  </a:lnTo>
                  <a:lnTo>
                    <a:pt x="918" y="2015"/>
                  </a:lnTo>
                  <a:lnTo>
                    <a:pt x="918" y="2028"/>
                  </a:lnTo>
                  <a:lnTo>
                    <a:pt x="913" y="2028"/>
                  </a:lnTo>
                  <a:lnTo>
                    <a:pt x="913" y="2033"/>
                  </a:lnTo>
                  <a:lnTo>
                    <a:pt x="907" y="2033"/>
                  </a:lnTo>
                  <a:lnTo>
                    <a:pt x="907" y="2039"/>
                  </a:lnTo>
                  <a:lnTo>
                    <a:pt x="903" y="2039"/>
                  </a:lnTo>
                  <a:lnTo>
                    <a:pt x="903" y="2045"/>
                  </a:lnTo>
                  <a:lnTo>
                    <a:pt x="898" y="2045"/>
                  </a:lnTo>
                  <a:lnTo>
                    <a:pt x="898" y="2052"/>
                  </a:lnTo>
                  <a:lnTo>
                    <a:pt x="889" y="2052"/>
                  </a:lnTo>
                  <a:lnTo>
                    <a:pt x="889" y="2057"/>
                  </a:lnTo>
                  <a:lnTo>
                    <a:pt x="884" y="2057"/>
                  </a:lnTo>
                  <a:lnTo>
                    <a:pt x="884" y="2063"/>
                  </a:lnTo>
                  <a:lnTo>
                    <a:pt x="874" y="2063"/>
                  </a:lnTo>
                  <a:lnTo>
                    <a:pt x="874" y="2069"/>
                  </a:lnTo>
                  <a:lnTo>
                    <a:pt x="870" y="2069"/>
                  </a:lnTo>
                  <a:lnTo>
                    <a:pt x="870" y="2074"/>
                  </a:lnTo>
                  <a:lnTo>
                    <a:pt x="864" y="2074"/>
                  </a:lnTo>
                  <a:lnTo>
                    <a:pt x="864" y="2080"/>
                  </a:lnTo>
                  <a:lnTo>
                    <a:pt x="860" y="2080"/>
                  </a:lnTo>
                  <a:lnTo>
                    <a:pt x="860" y="2087"/>
                  </a:lnTo>
                  <a:lnTo>
                    <a:pt x="850" y="2087"/>
                  </a:lnTo>
                  <a:lnTo>
                    <a:pt x="850" y="2093"/>
                  </a:lnTo>
                  <a:lnTo>
                    <a:pt x="841" y="2093"/>
                  </a:lnTo>
                  <a:lnTo>
                    <a:pt x="841" y="2098"/>
                  </a:lnTo>
                  <a:lnTo>
                    <a:pt x="835" y="2098"/>
                  </a:lnTo>
                  <a:lnTo>
                    <a:pt x="835" y="2110"/>
                  </a:lnTo>
                  <a:lnTo>
                    <a:pt x="830" y="2110"/>
                  </a:lnTo>
                  <a:lnTo>
                    <a:pt x="830" y="2117"/>
                  </a:lnTo>
                  <a:lnTo>
                    <a:pt x="826" y="2117"/>
                  </a:lnTo>
                  <a:lnTo>
                    <a:pt x="826" y="2121"/>
                  </a:lnTo>
                  <a:lnTo>
                    <a:pt x="821" y="2121"/>
                  </a:lnTo>
                  <a:lnTo>
                    <a:pt x="821" y="2128"/>
                  </a:lnTo>
                  <a:lnTo>
                    <a:pt x="816" y="2128"/>
                  </a:lnTo>
                  <a:lnTo>
                    <a:pt x="816" y="2134"/>
                  </a:lnTo>
                  <a:lnTo>
                    <a:pt x="812" y="2134"/>
                  </a:lnTo>
                  <a:lnTo>
                    <a:pt x="812" y="2146"/>
                  </a:lnTo>
                  <a:lnTo>
                    <a:pt x="807" y="2146"/>
                  </a:lnTo>
                  <a:lnTo>
                    <a:pt x="807" y="2151"/>
                  </a:lnTo>
                  <a:lnTo>
                    <a:pt x="797" y="2151"/>
                  </a:lnTo>
                  <a:lnTo>
                    <a:pt x="797" y="2158"/>
                  </a:lnTo>
                  <a:lnTo>
                    <a:pt x="788" y="2158"/>
                  </a:lnTo>
                  <a:lnTo>
                    <a:pt x="788" y="2164"/>
                  </a:lnTo>
                  <a:lnTo>
                    <a:pt x="783" y="2164"/>
                  </a:lnTo>
                  <a:lnTo>
                    <a:pt x="783" y="2170"/>
                  </a:lnTo>
                  <a:lnTo>
                    <a:pt x="778" y="2170"/>
                  </a:lnTo>
                  <a:lnTo>
                    <a:pt x="778" y="2175"/>
                  </a:lnTo>
                  <a:lnTo>
                    <a:pt x="774" y="2175"/>
                  </a:lnTo>
                  <a:lnTo>
                    <a:pt x="774" y="2180"/>
                  </a:lnTo>
                  <a:lnTo>
                    <a:pt x="769" y="2180"/>
                  </a:lnTo>
                  <a:lnTo>
                    <a:pt x="769" y="2188"/>
                  </a:lnTo>
                  <a:lnTo>
                    <a:pt x="763" y="2188"/>
                  </a:lnTo>
                  <a:lnTo>
                    <a:pt x="763" y="2193"/>
                  </a:lnTo>
                  <a:lnTo>
                    <a:pt x="753" y="2193"/>
                  </a:lnTo>
                  <a:lnTo>
                    <a:pt x="753" y="2199"/>
                  </a:lnTo>
                  <a:lnTo>
                    <a:pt x="744" y="2199"/>
                  </a:lnTo>
                  <a:lnTo>
                    <a:pt x="744" y="2205"/>
                  </a:lnTo>
                  <a:lnTo>
                    <a:pt x="740" y="2205"/>
                  </a:lnTo>
                  <a:lnTo>
                    <a:pt x="740" y="2211"/>
                  </a:lnTo>
                  <a:lnTo>
                    <a:pt x="734" y="2211"/>
                  </a:lnTo>
                  <a:lnTo>
                    <a:pt x="734" y="2216"/>
                  </a:lnTo>
                  <a:lnTo>
                    <a:pt x="730" y="2216"/>
                  </a:lnTo>
                  <a:lnTo>
                    <a:pt x="730" y="2223"/>
                  </a:lnTo>
                  <a:lnTo>
                    <a:pt x="726" y="2223"/>
                  </a:lnTo>
                  <a:lnTo>
                    <a:pt x="726" y="2229"/>
                  </a:lnTo>
                  <a:lnTo>
                    <a:pt x="720" y="2229"/>
                  </a:lnTo>
                  <a:lnTo>
                    <a:pt x="720" y="2234"/>
                  </a:lnTo>
                  <a:lnTo>
                    <a:pt x="716" y="2234"/>
                  </a:lnTo>
                  <a:lnTo>
                    <a:pt x="716" y="2240"/>
                  </a:lnTo>
                  <a:lnTo>
                    <a:pt x="711" y="2240"/>
                  </a:lnTo>
                  <a:lnTo>
                    <a:pt x="711" y="2246"/>
                  </a:lnTo>
                  <a:lnTo>
                    <a:pt x="706" y="2246"/>
                  </a:lnTo>
                  <a:lnTo>
                    <a:pt x="706" y="2253"/>
                  </a:lnTo>
                  <a:lnTo>
                    <a:pt x="697" y="2253"/>
                  </a:lnTo>
                  <a:lnTo>
                    <a:pt x="697" y="2258"/>
                  </a:lnTo>
                  <a:lnTo>
                    <a:pt x="686" y="2258"/>
                  </a:lnTo>
                  <a:lnTo>
                    <a:pt x="686" y="2265"/>
                  </a:lnTo>
                  <a:lnTo>
                    <a:pt x="682" y="2265"/>
                  </a:lnTo>
                  <a:lnTo>
                    <a:pt x="682" y="2270"/>
                  </a:lnTo>
                  <a:lnTo>
                    <a:pt x="677" y="2270"/>
                  </a:lnTo>
                  <a:lnTo>
                    <a:pt x="677" y="2281"/>
                  </a:lnTo>
                  <a:lnTo>
                    <a:pt x="672" y="2281"/>
                  </a:lnTo>
                  <a:lnTo>
                    <a:pt x="672" y="2287"/>
                  </a:lnTo>
                  <a:lnTo>
                    <a:pt x="667" y="2287"/>
                  </a:lnTo>
                  <a:lnTo>
                    <a:pt x="667" y="2294"/>
                  </a:lnTo>
                  <a:lnTo>
                    <a:pt x="663" y="2294"/>
                  </a:lnTo>
                  <a:lnTo>
                    <a:pt x="663" y="2299"/>
                  </a:lnTo>
                  <a:lnTo>
                    <a:pt x="657" y="2299"/>
                  </a:lnTo>
                  <a:lnTo>
                    <a:pt x="657" y="2306"/>
                  </a:lnTo>
                  <a:lnTo>
                    <a:pt x="649" y="2306"/>
                  </a:lnTo>
                  <a:lnTo>
                    <a:pt x="649" y="2317"/>
                  </a:lnTo>
                  <a:lnTo>
                    <a:pt x="644" y="2317"/>
                  </a:lnTo>
                  <a:lnTo>
                    <a:pt x="644" y="2324"/>
                  </a:lnTo>
                  <a:lnTo>
                    <a:pt x="634" y="2324"/>
                  </a:lnTo>
                  <a:lnTo>
                    <a:pt x="634" y="2329"/>
                  </a:lnTo>
                  <a:lnTo>
                    <a:pt x="630" y="2329"/>
                  </a:lnTo>
                  <a:lnTo>
                    <a:pt x="630" y="2335"/>
                  </a:lnTo>
                  <a:lnTo>
                    <a:pt x="625" y="2335"/>
                  </a:lnTo>
                  <a:lnTo>
                    <a:pt x="625" y="2341"/>
                  </a:lnTo>
                  <a:lnTo>
                    <a:pt x="619" y="2341"/>
                  </a:lnTo>
                  <a:lnTo>
                    <a:pt x="619" y="2347"/>
                  </a:lnTo>
                  <a:lnTo>
                    <a:pt x="615" y="2347"/>
                  </a:lnTo>
                  <a:lnTo>
                    <a:pt x="615" y="2359"/>
                  </a:lnTo>
                  <a:lnTo>
                    <a:pt x="605" y="2359"/>
                  </a:lnTo>
                  <a:lnTo>
                    <a:pt x="605" y="2365"/>
                  </a:lnTo>
                  <a:lnTo>
                    <a:pt x="596" y="2365"/>
                  </a:lnTo>
                  <a:lnTo>
                    <a:pt x="596" y="2376"/>
                  </a:lnTo>
                  <a:lnTo>
                    <a:pt x="586" y="2376"/>
                  </a:lnTo>
                  <a:lnTo>
                    <a:pt x="586" y="2382"/>
                  </a:lnTo>
                  <a:lnTo>
                    <a:pt x="576" y="2382"/>
                  </a:lnTo>
                  <a:lnTo>
                    <a:pt x="576" y="2389"/>
                  </a:lnTo>
                  <a:lnTo>
                    <a:pt x="572" y="2389"/>
                  </a:lnTo>
                  <a:lnTo>
                    <a:pt x="572" y="2394"/>
                  </a:lnTo>
                  <a:lnTo>
                    <a:pt x="567" y="2394"/>
                  </a:lnTo>
                  <a:lnTo>
                    <a:pt x="567" y="2406"/>
                  </a:lnTo>
                  <a:lnTo>
                    <a:pt x="562" y="2406"/>
                  </a:lnTo>
                  <a:lnTo>
                    <a:pt x="562" y="2411"/>
                  </a:lnTo>
                  <a:lnTo>
                    <a:pt x="558" y="2411"/>
                  </a:lnTo>
                  <a:lnTo>
                    <a:pt x="558" y="2417"/>
                  </a:lnTo>
                  <a:lnTo>
                    <a:pt x="547" y="2417"/>
                  </a:lnTo>
                  <a:lnTo>
                    <a:pt x="547" y="2423"/>
                  </a:lnTo>
                  <a:lnTo>
                    <a:pt x="542" y="2423"/>
                  </a:lnTo>
                  <a:lnTo>
                    <a:pt x="542" y="2430"/>
                  </a:lnTo>
                  <a:lnTo>
                    <a:pt x="533" y="2430"/>
                  </a:lnTo>
                  <a:lnTo>
                    <a:pt x="533" y="2435"/>
                  </a:lnTo>
                  <a:lnTo>
                    <a:pt x="523" y="2435"/>
                  </a:lnTo>
                  <a:lnTo>
                    <a:pt x="523" y="2441"/>
                  </a:lnTo>
                  <a:lnTo>
                    <a:pt x="519" y="2441"/>
                  </a:lnTo>
                  <a:lnTo>
                    <a:pt x="519" y="2447"/>
                  </a:lnTo>
                  <a:lnTo>
                    <a:pt x="514" y="2447"/>
                  </a:lnTo>
                  <a:lnTo>
                    <a:pt x="514" y="2452"/>
                  </a:lnTo>
                  <a:lnTo>
                    <a:pt x="509" y="2452"/>
                  </a:lnTo>
                  <a:lnTo>
                    <a:pt x="509" y="2460"/>
                  </a:lnTo>
                  <a:lnTo>
                    <a:pt x="505" y="2460"/>
                  </a:lnTo>
                  <a:lnTo>
                    <a:pt x="505" y="2465"/>
                  </a:lnTo>
                  <a:lnTo>
                    <a:pt x="500" y="2465"/>
                  </a:lnTo>
                  <a:lnTo>
                    <a:pt x="500" y="2476"/>
                  </a:lnTo>
                  <a:lnTo>
                    <a:pt x="490" y="2476"/>
                  </a:lnTo>
                  <a:lnTo>
                    <a:pt x="490" y="2483"/>
                  </a:lnTo>
                  <a:lnTo>
                    <a:pt x="476" y="2483"/>
                  </a:lnTo>
                  <a:lnTo>
                    <a:pt x="476" y="2488"/>
                  </a:lnTo>
                  <a:lnTo>
                    <a:pt x="471" y="2488"/>
                  </a:lnTo>
                  <a:lnTo>
                    <a:pt x="471" y="2493"/>
                  </a:lnTo>
                  <a:lnTo>
                    <a:pt x="465" y="2493"/>
                  </a:lnTo>
                  <a:lnTo>
                    <a:pt x="465" y="2501"/>
                  </a:lnTo>
                  <a:lnTo>
                    <a:pt x="461" y="2501"/>
                  </a:lnTo>
                  <a:lnTo>
                    <a:pt x="461" y="2506"/>
                  </a:lnTo>
                  <a:lnTo>
                    <a:pt x="456" y="2506"/>
                  </a:lnTo>
                  <a:lnTo>
                    <a:pt x="456" y="2512"/>
                  </a:lnTo>
                  <a:lnTo>
                    <a:pt x="451" y="2512"/>
                  </a:lnTo>
                  <a:lnTo>
                    <a:pt x="451" y="2525"/>
                  </a:lnTo>
                  <a:lnTo>
                    <a:pt x="446" y="2525"/>
                  </a:lnTo>
                  <a:lnTo>
                    <a:pt x="446" y="2530"/>
                  </a:lnTo>
                  <a:lnTo>
                    <a:pt x="437" y="2530"/>
                  </a:lnTo>
                  <a:lnTo>
                    <a:pt x="437" y="2536"/>
                  </a:lnTo>
                  <a:lnTo>
                    <a:pt x="428" y="2536"/>
                  </a:lnTo>
                  <a:lnTo>
                    <a:pt x="428" y="2542"/>
                  </a:lnTo>
                  <a:lnTo>
                    <a:pt x="418" y="2542"/>
                  </a:lnTo>
                  <a:lnTo>
                    <a:pt x="418" y="2547"/>
                  </a:lnTo>
                  <a:lnTo>
                    <a:pt x="409" y="2547"/>
                  </a:lnTo>
                  <a:lnTo>
                    <a:pt x="409" y="2553"/>
                  </a:lnTo>
                  <a:lnTo>
                    <a:pt x="404" y="2553"/>
                  </a:lnTo>
                  <a:lnTo>
                    <a:pt x="404" y="2559"/>
                  </a:lnTo>
                  <a:lnTo>
                    <a:pt x="398" y="2559"/>
                  </a:lnTo>
                  <a:lnTo>
                    <a:pt x="398" y="2566"/>
                  </a:lnTo>
                  <a:lnTo>
                    <a:pt x="393" y="2566"/>
                  </a:lnTo>
                  <a:lnTo>
                    <a:pt x="393" y="2571"/>
                  </a:lnTo>
                  <a:lnTo>
                    <a:pt x="389" y="2571"/>
                  </a:lnTo>
                  <a:lnTo>
                    <a:pt x="389" y="2577"/>
                  </a:lnTo>
                  <a:lnTo>
                    <a:pt x="384" y="2577"/>
                  </a:lnTo>
                  <a:lnTo>
                    <a:pt x="384" y="2583"/>
                  </a:lnTo>
                  <a:lnTo>
                    <a:pt x="379" y="2583"/>
                  </a:lnTo>
                  <a:lnTo>
                    <a:pt x="379" y="2589"/>
                  </a:lnTo>
                  <a:lnTo>
                    <a:pt x="375" y="2589"/>
                  </a:lnTo>
                  <a:lnTo>
                    <a:pt x="375" y="2594"/>
                  </a:lnTo>
                  <a:lnTo>
                    <a:pt x="369" y="2594"/>
                  </a:lnTo>
                  <a:lnTo>
                    <a:pt x="369" y="2601"/>
                  </a:lnTo>
                  <a:lnTo>
                    <a:pt x="365" y="2601"/>
                  </a:lnTo>
                  <a:lnTo>
                    <a:pt x="365" y="2607"/>
                  </a:lnTo>
                  <a:lnTo>
                    <a:pt x="360" y="2607"/>
                  </a:lnTo>
                  <a:lnTo>
                    <a:pt x="360" y="2612"/>
                  </a:lnTo>
                  <a:lnTo>
                    <a:pt x="356" y="2612"/>
                  </a:lnTo>
                  <a:lnTo>
                    <a:pt x="356" y="2619"/>
                  </a:lnTo>
                  <a:lnTo>
                    <a:pt x="351" y="2619"/>
                  </a:lnTo>
                  <a:lnTo>
                    <a:pt x="351" y="2624"/>
                  </a:lnTo>
                  <a:lnTo>
                    <a:pt x="346" y="2624"/>
                  </a:lnTo>
                  <a:lnTo>
                    <a:pt x="346" y="2631"/>
                  </a:lnTo>
                  <a:lnTo>
                    <a:pt x="342" y="2631"/>
                  </a:lnTo>
                  <a:lnTo>
                    <a:pt x="342" y="2637"/>
                  </a:lnTo>
                  <a:lnTo>
                    <a:pt x="332" y="2637"/>
                  </a:lnTo>
                  <a:lnTo>
                    <a:pt x="332" y="2648"/>
                  </a:lnTo>
                  <a:lnTo>
                    <a:pt x="326" y="2648"/>
                  </a:lnTo>
                  <a:lnTo>
                    <a:pt x="326" y="2653"/>
                  </a:lnTo>
                  <a:lnTo>
                    <a:pt x="316" y="2653"/>
                  </a:lnTo>
                  <a:lnTo>
                    <a:pt x="316" y="2661"/>
                  </a:lnTo>
                  <a:lnTo>
                    <a:pt x="307" y="2661"/>
                  </a:lnTo>
                  <a:lnTo>
                    <a:pt x="307" y="2666"/>
                  </a:lnTo>
                  <a:lnTo>
                    <a:pt x="302" y="2666"/>
                  </a:lnTo>
                  <a:lnTo>
                    <a:pt x="302" y="2672"/>
                  </a:lnTo>
                  <a:lnTo>
                    <a:pt x="293" y="2672"/>
                  </a:lnTo>
                  <a:lnTo>
                    <a:pt x="293" y="2684"/>
                  </a:lnTo>
                  <a:lnTo>
                    <a:pt x="283" y="2684"/>
                  </a:lnTo>
                  <a:lnTo>
                    <a:pt x="283" y="2689"/>
                  </a:lnTo>
                  <a:lnTo>
                    <a:pt x="279" y="2689"/>
                  </a:lnTo>
                  <a:lnTo>
                    <a:pt x="279" y="2702"/>
                  </a:lnTo>
                  <a:lnTo>
                    <a:pt x="269" y="2702"/>
                  </a:lnTo>
                  <a:lnTo>
                    <a:pt x="269" y="2707"/>
                  </a:lnTo>
                  <a:lnTo>
                    <a:pt x="265" y="2707"/>
                  </a:lnTo>
                  <a:lnTo>
                    <a:pt x="265" y="2713"/>
                  </a:lnTo>
                  <a:lnTo>
                    <a:pt x="254" y="2713"/>
                  </a:lnTo>
                  <a:lnTo>
                    <a:pt x="254" y="2719"/>
                  </a:lnTo>
                  <a:lnTo>
                    <a:pt x="250" y="2719"/>
                  </a:lnTo>
                  <a:lnTo>
                    <a:pt x="250" y="2725"/>
                  </a:lnTo>
                  <a:lnTo>
                    <a:pt x="240" y="2725"/>
                  </a:lnTo>
                  <a:lnTo>
                    <a:pt x="240" y="2730"/>
                  </a:lnTo>
                  <a:lnTo>
                    <a:pt x="231" y="2730"/>
                  </a:lnTo>
                  <a:lnTo>
                    <a:pt x="231" y="2738"/>
                  </a:lnTo>
                  <a:lnTo>
                    <a:pt x="225" y="2738"/>
                  </a:lnTo>
                  <a:lnTo>
                    <a:pt x="225" y="2743"/>
                  </a:lnTo>
                  <a:lnTo>
                    <a:pt x="217" y="2743"/>
                  </a:lnTo>
                  <a:lnTo>
                    <a:pt x="217" y="2748"/>
                  </a:lnTo>
                  <a:lnTo>
                    <a:pt x="212" y="2748"/>
                  </a:lnTo>
                  <a:lnTo>
                    <a:pt x="212" y="2754"/>
                  </a:lnTo>
                  <a:lnTo>
                    <a:pt x="202" y="2754"/>
                  </a:lnTo>
                  <a:lnTo>
                    <a:pt x="202" y="2767"/>
                  </a:lnTo>
                  <a:lnTo>
                    <a:pt x="198" y="2767"/>
                  </a:lnTo>
                  <a:lnTo>
                    <a:pt x="198" y="2772"/>
                  </a:lnTo>
                  <a:lnTo>
                    <a:pt x="188" y="2772"/>
                  </a:lnTo>
                  <a:lnTo>
                    <a:pt x="188" y="2779"/>
                  </a:lnTo>
                  <a:lnTo>
                    <a:pt x="173" y="2779"/>
                  </a:lnTo>
                  <a:lnTo>
                    <a:pt x="173" y="2784"/>
                  </a:lnTo>
                  <a:lnTo>
                    <a:pt x="168" y="2784"/>
                  </a:lnTo>
                  <a:lnTo>
                    <a:pt x="168" y="2790"/>
                  </a:lnTo>
                  <a:lnTo>
                    <a:pt x="158" y="2790"/>
                  </a:lnTo>
                  <a:lnTo>
                    <a:pt x="158" y="2797"/>
                  </a:lnTo>
                  <a:lnTo>
                    <a:pt x="154" y="2797"/>
                  </a:lnTo>
                  <a:lnTo>
                    <a:pt x="154" y="2802"/>
                  </a:lnTo>
                  <a:lnTo>
                    <a:pt x="149" y="2802"/>
                  </a:lnTo>
                  <a:lnTo>
                    <a:pt x="149" y="2808"/>
                  </a:lnTo>
                  <a:lnTo>
                    <a:pt x="144" y="2808"/>
                  </a:lnTo>
                  <a:lnTo>
                    <a:pt x="144" y="2814"/>
                  </a:lnTo>
                  <a:lnTo>
                    <a:pt x="135" y="2814"/>
                  </a:lnTo>
                  <a:lnTo>
                    <a:pt x="135" y="2819"/>
                  </a:lnTo>
                  <a:lnTo>
                    <a:pt x="130" y="2819"/>
                  </a:lnTo>
                  <a:lnTo>
                    <a:pt x="130" y="2825"/>
                  </a:lnTo>
                  <a:lnTo>
                    <a:pt x="121" y="2825"/>
                  </a:lnTo>
                  <a:lnTo>
                    <a:pt x="121" y="2830"/>
                  </a:lnTo>
                  <a:lnTo>
                    <a:pt x="116" y="2830"/>
                  </a:lnTo>
                  <a:lnTo>
                    <a:pt x="116" y="2838"/>
                  </a:lnTo>
                  <a:lnTo>
                    <a:pt x="110" y="2838"/>
                  </a:lnTo>
                  <a:lnTo>
                    <a:pt x="110" y="2843"/>
                  </a:lnTo>
                  <a:lnTo>
                    <a:pt x="101" y="2843"/>
                  </a:lnTo>
                  <a:lnTo>
                    <a:pt x="101" y="2849"/>
                  </a:lnTo>
                  <a:lnTo>
                    <a:pt x="95" y="2849"/>
                  </a:lnTo>
                  <a:lnTo>
                    <a:pt x="95" y="2855"/>
                  </a:lnTo>
                  <a:lnTo>
                    <a:pt x="91" y="2855"/>
                  </a:lnTo>
                  <a:lnTo>
                    <a:pt x="91" y="2860"/>
                  </a:lnTo>
                  <a:lnTo>
                    <a:pt x="87" y="2860"/>
                  </a:lnTo>
                  <a:lnTo>
                    <a:pt x="87" y="2866"/>
                  </a:lnTo>
                  <a:lnTo>
                    <a:pt x="77" y="2866"/>
                  </a:lnTo>
                  <a:lnTo>
                    <a:pt x="77" y="2873"/>
                  </a:lnTo>
                  <a:lnTo>
                    <a:pt x="72" y="2873"/>
                  </a:lnTo>
                  <a:lnTo>
                    <a:pt x="72" y="2879"/>
                  </a:lnTo>
                  <a:lnTo>
                    <a:pt x="67" y="2879"/>
                  </a:lnTo>
                  <a:lnTo>
                    <a:pt x="67" y="2884"/>
                  </a:lnTo>
                  <a:lnTo>
                    <a:pt x="62" y="2884"/>
                  </a:lnTo>
                  <a:lnTo>
                    <a:pt x="62" y="2890"/>
                  </a:lnTo>
                  <a:lnTo>
                    <a:pt x="54" y="2890"/>
                  </a:lnTo>
                  <a:lnTo>
                    <a:pt x="54" y="2896"/>
                  </a:lnTo>
                  <a:lnTo>
                    <a:pt x="48" y="2896"/>
                  </a:lnTo>
                  <a:lnTo>
                    <a:pt x="48" y="2903"/>
                  </a:lnTo>
                  <a:lnTo>
                    <a:pt x="44" y="2903"/>
                  </a:lnTo>
                  <a:lnTo>
                    <a:pt x="44" y="2908"/>
                  </a:lnTo>
                  <a:lnTo>
                    <a:pt x="38" y="2908"/>
                  </a:lnTo>
                  <a:lnTo>
                    <a:pt x="38" y="2914"/>
                  </a:lnTo>
                  <a:lnTo>
                    <a:pt x="10" y="2914"/>
                  </a:lnTo>
                  <a:lnTo>
                    <a:pt x="10" y="2908"/>
                  </a:lnTo>
                  <a:lnTo>
                    <a:pt x="5" y="2908"/>
                  </a:lnTo>
                  <a:lnTo>
                    <a:pt x="5" y="2903"/>
                  </a:lnTo>
                  <a:lnTo>
                    <a:pt x="0" y="2903"/>
                  </a:lnTo>
                  <a:lnTo>
                    <a:pt x="0" y="289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255760" y="2253600"/>
              <a:ext cx="57600" cy="70920"/>
            </a:xfrm>
            <a:custGeom>
              <a:avLst/>
              <a:gdLst/>
              <a:ahLst/>
              <a:rect l="l" t="t" r="r" b="b"/>
              <a:pathLst>
                <a:path w="222" h="366">
                  <a:moveTo>
                    <a:pt x="0" y="348"/>
                  </a:moveTo>
                  <a:lnTo>
                    <a:pt x="5" y="348"/>
                  </a:lnTo>
                  <a:lnTo>
                    <a:pt x="5" y="343"/>
                  </a:lnTo>
                  <a:lnTo>
                    <a:pt x="10" y="343"/>
                  </a:lnTo>
                  <a:lnTo>
                    <a:pt x="10" y="338"/>
                  </a:lnTo>
                  <a:lnTo>
                    <a:pt x="16" y="338"/>
                  </a:lnTo>
                  <a:lnTo>
                    <a:pt x="16" y="325"/>
                  </a:lnTo>
                  <a:lnTo>
                    <a:pt x="20" y="325"/>
                  </a:lnTo>
                  <a:lnTo>
                    <a:pt x="20" y="302"/>
                  </a:lnTo>
                  <a:lnTo>
                    <a:pt x="26" y="302"/>
                  </a:lnTo>
                  <a:lnTo>
                    <a:pt x="26" y="284"/>
                  </a:lnTo>
                  <a:lnTo>
                    <a:pt x="30" y="284"/>
                  </a:lnTo>
                  <a:lnTo>
                    <a:pt x="30" y="272"/>
                  </a:lnTo>
                  <a:lnTo>
                    <a:pt x="34" y="272"/>
                  </a:lnTo>
                  <a:lnTo>
                    <a:pt x="34" y="235"/>
                  </a:lnTo>
                  <a:lnTo>
                    <a:pt x="30" y="235"/>
                  </a:lnTo>
                  <a:lnTo>
                    <a:pt x="30" y="212"/>
                  </a:lnTo>
                  <a:lnTo>
                    <a:pt x="26" y="212"/>
                  </a:lnTo>
                  <a:lnTo>
                    <a:pt x="26" y="200"/>
                  </a:lnTo>
                  <a:lnTo>
                    <a:pt x="30" y="200"/>
                  </a:lnTo>
                  <a:lnTo>
                    <a:pt x="30" y="194"/>
                  </a:lnTo>
                  <a:lnTo>
                    <a:pt x="39" y="194"/>
                  </a:lnTo>
                  <a:lnTo>
                    <a:pt x="39" y="200"/>
                  </a:lnTo>
                  <a:lnTo>
                    <a:pt x="44" y="200"/>
                  </a:lnTo>
                  <a:lnTo>
                    <a:pt x="44" y="207"/>
                  </a:lnTo>
                  <a:lnTo>
                    <a:pt x="53" y="207"/>
                  </a:lnTo>
                  <a:lnTo>
                    <a:pt x="53" y="212"/>
                  </a:lnTo>
                  <a:lnTo>
                    <a:pt x="77" y="212"/>
                  </a:lnTo>
                  <a:lnTo>
                    <a:pt x="77" y="207"/>
                  </a:lnTo>
                  <a:lnTo>
                    <a:pt x="93" y="207"/>
                  </a:lnTo>
                  <a:lnTo>
                    <a:pt x="93" y="200"/>
                  </a:lnTo>
                  <a:lnTo>
                    <a:pt x="97" y="200"/>
                  </a:lnTo>
                  <a:lnTo>
                    <a:pt x="97" y="194"/>
                  </a:lnTo>
                  <a:lnTo>
                    <a:pt x="102" y="194"/>
                  </a:lnTo>
                  <a:lnTo>
                    <a:pt x="102" y="189"/>
                  </a:lnTo>
                  <a:lnTo>
                    <a:pt x="107" y="189"/>
                  </a:lnTo>
                  <a:lnTo>
                    <a:pt x="107" y="177"/>
                  </a:lnTo>
                  <a:lnTo>
                    <a:pt x="111" y="177"/>
                  </a:lnTo>
                  <a:lnTo>
                    <a:pt x="111" y="166"/>
                  </a:lnTo>
                  <a:lnTo>
                    <a:pt x="116" y="166"/>
                  </a:lnTo>
                  <a:lnTo>
                    <a:pt x="116" y="159"/>
                  </a:lnTo>
                  <a:lnTo>
                    <a:pt x="121" y="159"/>
                  </a:lnTo>
                  <a:lnTo>
                    <a:pt x="121" y="136"/>
                  </a:lnTo>
                  <a:lnTo>
                    <a:pt x="126" y="136"/>
                  </a:lnTo>
                  <a:lnTo>
                    <a:pt x="126" y="101"/>
                  </a:lnTo>
                  <a:lnTo>
                    <a:pt x="140" y="101"/>
                  </a:lnTo>
                  <a:lnTo>
                    <a:pt x="140" y="106"/>
                  </a:lnTo>
                  <a:lnTo>
                    <a:pt x="164" y="106"/>
                  </a:lnTo>
                  <a:lnTo>
                    <a:pt x="164" y="101"/>
                  </a:lnTo>
                  <a:lnTo>
                    <a:pt x="170" y="101"/>
                  </a:lnTo>
                  <a:lnTo>
                    <a:pt x="170" y="93"/>
                  </a:lnTo>
                  <a:lnTo>
                    <a:pt x="174" y="93"/>
                  </a:lnTo>
                  <a:lnTo>
                    <a:pt x="174" y="88"/>
                  </a:lnTo>
                  <a:lnTo>
                    <a:pt x="179" y="88"/>
                  </a:lnTo>
                  <a:lnTo>
                    <a:pt x="179" y="76"/>
                  </a:lnTo>
                  <a:lnTo>
                    <a:pt x="184" y="76"/>
                  </a:lnTo>
                  <a:lnTo>
                    <a:pt x="184" y="66"/>
                  </a:lnTo>
                  <a:lnTo>
                    <a:pt x="189" y="66"/>
                  </a:lnTo>
                  <a:lnTo>
                    <a:pt x="189" y="53"/>
                  </a:lnTo>
                  <a:lnTo>
                    <a:pt x="193" y="53"/>
                  </a:lnTo>
                  <a:lnTo>
                    <a:pt x="193" y="47"/>
                  </a:lnTo>
                  <a:lnTo>
                    <a:pt x="197" y="47"/>
                  </a:lnTo>
                  <a:lnTo>
                    <a:pt x="197" y="30"/>
                  </a:lnTo>
                  <a:lnTo>
                    <a:pt x="203" y="30"/>
                  </a:lnTo>
                  <a:lnTo>
                    <a:pt x="203" y="25"/>
                  </a:lnTo>
                  <a:lnTo>
                    <a:pt x="207" y="25"/>
                  </a:lnTo>
                  <a:lnTo>
                    <a:pt x="207" y="6"/>
                  </a:lnTo>
                  <a:lnTo>
                    <a:pt x="212" y="6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2" y="12"/>
                  </a:lnTo>
                  <a:lnTo>
                    <a:pt x="217" y="12"/>
                  </a:lnTo>
                  <a:lnTo>
                    <a:pt x="217" y="30"/>
                  </a:lnTo>
                  <a:lnTo>
                    <a:pt x="212" y="30"/>
                  </a:lnTo>
                  <a:lnTo>
                    <a:pt x="212" y="42"/>
                  </a:lnTo>
                  <a:lnTo>
                    <a:pt x="207" y="42"/>
                  </a:lnTo>
                  <a:lnTo>
                    <a:pt x="207" y="53"/>
                  </a:lnTo>
                  <a:lnTo>
                    <a:pt x="203" y="53"/>
                  </a:lnTo>
                  <a:lnTo>
                    <a:pt x="203" y="58"/>
                  </a:lnTo>
                  <a:lnTo>
                    <a:pt x="197" y="58"/>
                  </a:lnTo>
                  <a:lnTo>
                    <a:pt x="197" y="71"/>
                  </a:lnTo>
                  <a:lnTo>
                    <a:pt x="193" y="71"/>
                  </a:lnTo>
                  <a:lnTo>
                    <a:pt x="193" y="83"/>
                  </a:lnTo>
                  <a:lnTo>
                    <a:pt x="189" y="83"/>
                  </a:lnTo>
                  <a:lnTo>
                    <a:pt x="189" y="93"/>
                  </a:lnTo>
                  <a:lnTo>
                    <a:pt x="184" y="93"/>
                  </a:lnTo>
                  <a:lnTo>
                    <a:pt x="184" y="101"/>
                  </a:lnTo>
                  <a:lnTo>
                    <a:pt x="179" y="101"/>
                  </a:lnTo>
                  <a:lnTo>
                    <a:pt x="179" y="106"/>
                  </a:lnTo>
                  <a:lnTo>
                    <a:pt x="174" y="106"/>
                  </a:lnTo>
                  <a:lnTo>
                    <a:pt x="174" y="112"/>
                  </a:lnTo>
                  <a:lnTo>
                    <a:pt x="170" y="112"/>
                  </a:lnTo>
                  <a:lnTo>
                    <a:pt x="170" y="118"/>
                  </a:lnTo>
                  <a:lnTo>
                    <a:pt x="160" y="118"/>
                  </a:lnTo>
                  <a:lnTo>
                    <a:pt x="160" y="124"/>
                  </a:lnTo>
                  <a:lnTo>
                    <a:pt x="135" y="124"/>
                  </a:lnTo>
                  <a:lnTo>
                    <a:pt x="135" y="142"/>
                  </a:lnTo>
                  <a:lnTo>
                    <a:pt x="130" y="142"/>
                  </a:lnTo>
                  <a:lnTo>
                    <a:pt x="130" y="166"/>
                  </a:lnTo>
                  <a:lnTo>
                    <a:pt x="126" y="166"/>
                  </a:lnTo>
                  <a:lnTo>
                    <a:pt x="126" y="171"/>
                  </a:lnTo>
                  <a:lnTo>
                    <a:pt x="121" y="171"/>
                  </a:lnTo>
                  <a:lnTo>
                    <a:pt x="121" y="183"/>
                  </a:lnTo>
                  <a:lnTo>
                    <a:pt x="116" y="183"/>
                  </a:lnTo>
                  <a:lnTo>
                    <a:pt x="116" y="194"/>
                  </a:lnTo>
                  <a:lnTo>
                    <a:pt x="111" y="194"/>
                  </a:lnTo>
                  <a:lnTo>
                    <a:pt x="111" y="200"/>
                  </a:lnTo>
                  <a:lnTo>
                    <a:pt x="107" y="200"/>
                  </a:lnTo>
                  <a:lnTo>
                    <a:pt x="107" y="207"/>
                  </a:lnTo>
                  <a:lnTo>
                    <a:pt x="102" y="207"/>
                  </a:lnTo>
                  <a:lnTo>
                    <a:pt x="102" y="212"/>
                  </a:lnTo>
                  <a:lnTo>
                    <a:pt x="97" y="212"/>
                  </a:lnTo>
                  <a:lnTo>
                    <a:pt x="97" y="219"/>
                  </a:lnTo>
                  <a:lnTo>
                    <a:pt x="88" y="219"/>
                  </a:lnTo>
                  <a:lnTo>
                    <a:pt x="88" y="224"/>
                  </a:lnTo>
                  <a:lnTo>
                    <a:pt x="77" y="224"/>
                  </a:lnTo>
                  <a:lnTo>
                    <a:pt x="77" y="230"/>
                  </a:lnTo>
                  <a:lnTo>
                    <a:pt x="63" y="230"/>
                  </a:lnTo>
                  <a:lnTo>
                    <a:pt x="63" y="224"/>
                  </a:lnTo>
                  <a:lnTo>
                    <a:pt x="44" y="224"/>
                  </a:lnTo>
                  <a:lnTo>
                    <a:pt x="44" y="278"/>
                  </a:lnTo>
                  <a:lnTo>
                    <a:pt x="39" y="278"/>
                  </a:lnTo>
                  <a:lnTo>
                    <a:pt x="39" y="289"/>
                  </a:lnTo>
                  <a:lnTo>
                    <a:pt x="34" y="289"/>
                  </a:lnTo>
                  <a:lnTo>
                    <a:pt x="34" y="313"/>
                  </a:lnTo>
                  <a:lnTo>
                    <a:pt x="30" y="313"/>
                  </a:lnTo>
                  <a:lnTo>
                    <a:pt x="30" y="330"/>
                  </a:lnTo>
                  <a:lnTo>
                    <a:pt x="26" y="330"/>
                  </a:lnTo>
                  <a:lnTo>
                    <a:pt x="26" y="343"/>
                  </a:lnTo>
                  <a:lnTo>
                    <a:pt x="20" y="343"/>
                  </a:lnTo>
                  <a:lnTo>
                    <a:pt x="20" y="354"/>
                  </a:lnTo>
                  <a:lnTo>
                    <a:pt x="16" y="354"/>
                  </a:lnTo>
                  <a:lnTo>
                    <a:pt x="16" y="360"/>
                  </a:lnTo>
                  <a:lnTo>
                    <a:pt x="10" y="360"/>
                  </a:lnTo>
                  <a:lnTo>
                    <a:pt x="10" y="366"/>
                  </a:lnTo>
                  <a:lnTo>
                    <a:pt x="0" y="366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60440" y="2020320"/>
              <a:ext cx="36360" cy="32760"/>
            </a:xfrm>
            <a:custGeom>
              <a:avLst/>
              <a:gdLst/>
              <a:ahLst/>
              <a:rect l="l" t="t" r="r" b="b"/>
              <a:pathLst>
                <a:path w="140" h="164">
                  <a:moveTo>
                    <a:pt x="0" y="76"/>
                  </a:moveTo>
                  <a:lnTo>
                    <a:pt x="6" y="76"/>
                  </a:lnTo>
                  <a:lnTo>
                    <a:pt x="6" y="52"/>
                  </a:lnTo>
                  <a:lnTo>
                    <a:pt x="10" y="52"/>
                  </a:lnTo>
                  <a:lnTo>
                    <a:pt x="10" y="35"/>
                  </a:lnTo>
                  <a:lnTo>
                    <a:pt x="14" y="35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47" y="5"/>
                  </a:lnTo>
                  <a:lnTo>
                    <a:pt x="47" y="11"/>
                  </a:lnTo>
                  <a:lnTo>
                    <a:pt x="62" y="11"/>
                  </a:lnTo>
                  <a:lnTo>
                    <a:pt x="62" y="17"/>
                  </a:lnTo>
                  <a:lnTo>
                    <a:pt x="82" y="17"/>
                  </a:lnTo>
                  <a:lnTo>
                    <a:pt x="82" y="22"/>
                  </a:lnTo>
                  <a:lnTo>
                    <a:pt x="91" y="22"/>
                  </a:lnTo>
                  <a:lnTo>
                    <a:pt x="91" y="28"/>
                  </a:lnTo>
                  <a:lnTo>
                    <a:pt x="110" y="28"/>
                  </a:lnTo>
                  <a:lnTo>
                    <a:pt x="110" y="35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40" y="40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34" y="81"/>
                  </a:lnTo>
                  <a:lnTo>
                    <a:pt x="129" y="81"/>
                  </a:lnTo>
                  <a:lnTo>
                    <a:pt x="129" y="93"/>
                  </a:lnTo>
                  <a:lnTo>
                    <a:pt x="125" y="93"/>
                  </a:lnTo>
                  <a:lnTo>
                    <a:pt x="125" y="112"/>
                  </a:lnTo>
                  <a:lnTo>
                    <a:pt x="120" y="112"/>
                  </a:lnTo>
                  <a:lnTo>
                    <a:pt x="120" y="123"/>
                  </a:lnTo>
                  <a:lnTo>
                    <a:pt x="115" y="123"/>
                  </a:lnTo>
                  <a:lnTo>
                    <a:pt x="115" y="134"/>
                  </a:lnTo>
                  <a:lnTo>
                    <a:pt x="110" y="134"/>
                  </a:lnTo>
                  <a:lnTo>
                    <a:pt x="110" y="146"/>
                  </a:lnTo>
                  <a:lnTo>
                    <a:pt x="106" y="146"/>
                  </a:lnTo>
                  <a:lnTo>
                    <a:pt x="106" y="164"/>
                  </a:lnTo>
                  <a:lnTo>
                    <a:pt x="77" y="164"/>
                  </a:lnTo>
                  <a:lnTo>
                    <a:pt x="77" y="158"/>
                  </a:lnTo>
                  <a:lnTo>
                    <a:pt x="73" y="158"/>
                  </a:lnTo>
                  <a:lnTo>
                    <a:pt x="73" y="146"/>
                  </a:lnTo>
                  <a:lnTo>
                    <a:pt x="87" y="146"/>
                  </a:lnTo>
                  <a:lnTo>
                    <a:pt x="87" y="134"/>
                  </a:lnTo>
                  <a:lnTo>
                    <a:pt x="57" y="134"/>
                  </a:lnTo>
                  <a:lnTo>
                    <a:pt x="57" y="146"/>
                  </a:lnTo>
                  <a:lnTo>
                    <a:pt x="43" y="146"/>
                  </a:lnTo>
                  <a:lnTo>
                    <a:pt x="43" y="141"/>
                  </a:lnTo>
                  <a:lnTo>
                    <a:pt x="39" y="141"/>
                  </a:lnTo>
                  <a:lnTo>
                    <a:pt x="39" y="134"/>
                  </a:lnTo>
                  <a:lnTo>
                    <a:pt x="24" y="134"/>
                  </a:lnTo>
                  <a:lnTo>
                    <a:pt x="24" y="128"/>
                  </a:lnTo>
                  <a:lnTo>
                    <a:pt x="19" y="128"/>
                  </a:lnTo>
                  <a:lnTo>
                    <a:pt x="19" y="123"/>
                  </a:lnTo>
                  <a:lnTo>
                    <a:pt x="14" y="123"/>
                  </a:lnTo>
                  <a:lnTo>
                    <a:pt x="14" y="117"/>
                  </a:lnTo>
                  <a:lnTo>
                    <a:pt x="10" y="117"/>
                  </a:lnTo>
                  <a:lnTo>
                    <a:pt x="10" y="112"/>
                  </a:lnTo>
                  <a:lnTo>
                    <a:pt x="6" y="112"/>
                  </a:lnTo>
                  <a:lnTo>
                    <a:pt x="6" y="104"/>
                  </a:lnTo>
                  <a:lnTo>
                    <a:pt x="0" y="104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64400" y="1979640"/>
              <a:ext cx="53640" cy="26280"/>
            </a:xfrm>
            <a:custGeom>
              <a:avLst/>
              <a:gdLst/>
              <a:ahLst/>
              <a:rect l="l" t="t" r="r" b="b"/>
              <a:pathLst>
                <a:path w="207" h="136">
                  <a:moveTo>
                    <a:pt x="0" y="19"/>
                  </a:moveTo>
                  <a:lnTo>
                    <a:pt x="5" y="19"/>
                  </a:lnTo>
                  <a:lnTo>
                    <a:pt x="5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43" y="8"/>
                  </a:lnTo>
                  <a:lnTo>
                    <a:pt x="43" y="13"/>
                  </a:lnTo>
                  <a:lnTo>
                    <a:pt x="63" y="13"/>
                  </a:lnTo>
                  <a:lnTo>
                    <a:pt x="63" y="19"/>
                  </a:lnTo>
                  <a:lnTo>
                    <a:pt x="87" y="19"/>
                  </a:lnTo>
                  <a:lnTo>
                    <a:pt x="87" y="25"/>
                  </a:lnTo>
                  <a:lnTo>
                    <a:pt x="96" y="25"/>
                  </a:lnTo>
                  <a:lnTo>
                    <a:pt x="96" y="30"/>
                  </a:lnTo>
                  <a:lnTo>
                    <a:pt x="106" y="30"/>
                  </a:lnTo>
                  <a:lnTo>
                    <a:pt x="106" y="36"/>
                  </a:lnTo>
                  <a:lnTo>
                    <a:pt x="120" y="36"/>
                  </a:lnTo>
                  <a:lnTo>
                    <a:pt x="120" y="41"/>
                  </a:lnTo>
                  <a:lnTo>
                    <a:pt x="140" y="41"/>
                  </a:lnTo>
                  <a:lnTo>
                    <a:pt x="140" y="49"/>
                  </a:lnTo>
                  <a:lnTo>
                    <a:pt x="163" y="49"/>
                  </a:lnTo>
                  <a:lnTo>
                    <a:pt x="163" y="54"/>
                  </a:lnTo>
                  <a:lnTo>
                    <a:pt x="183" y="54"/>
                  </a:lnTo>
                  <a:lnTo>
                    <a:pt x="183" y="60"/>
                  </a:lnTo>
                  <a:lnTo>
                    <a:pt x="192" y="60"/>
                  </a:lnTo>
                  <a:lnTo>
                    <a:pt x="192" y="66"/>
                  </a:lnTo>
                  <a:lnTo>
                    <a:pt x="203" y="66"/>
                  </a:lnTo>
                  <a:lnTo>
                    <a:pt x="203" y="78"/>
                  </a:lnTo>
                  <a:lnTo>
                    <a:pt x="207" y="78"/>
                  </a:lnTo>
                  <a:lnTo>
                    <a:pt x="207" y="108"/>
                  </a:lnTo>
                  <a:lnTo>
                    <a:pt x="203" y="108"/>
                  </a:lnTo>
                  <a:lnTo>
                    <a:pt x="203" y="126"/>
                  </a:lnTo>
                  <a:lnTo>
                    <a:pt x="198" y="126"/>
                  </a:lnTo>
                  <a:lnTo>
                    <a:pt x="198" y="136"/>
                  </a:lnTo>
                  <a:lnTo>
                    <a:pt x="188" y="136"/>
                  </a:lnTo>
                  <a:lnTo>
                    <a:pt x="188" y="131"/>
                  </a:lnTo>
                  <a:lnTo>
                    <a:pt x="169" y="131"/>
                  </a:lnTo>
                  <a:lnTo>
                    <a:pt x="169" y="126"/>
                  </a:lnTo>
                  <a:lnTo>
                    <a:pt x="145" y="126"/>
                  </a:lnTo>
                  <a:lnTo>
                    <a:pt x="145" y="119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20" y="114"/>
                  </a:lnTo>
                  <a:lnTo>
                    <a:pt x="120" y="108"/>
                  </a:lnTo>
                  <a:lnTo>
                    <a:pt x="96" y="108"/>
                  </a:lnTo>
                  <a:lnTo>
                    <a:pt x="96" y="101"/>
                  </a:lnTo>
                  <a:lnTo>
                    <a:pt x="92" y="101"/>
                  </a:lnTo>
                  <a:lnTo>
                    <a:pt x="92" y="95"/>
                  </a:lnTo>
                  <a:lnTo>
                    <a:pt x="73" y="95"/>
                  </a:lnTo>
                  <a:lnTo>
                    <a:pt x="73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29" y="84"/>
                  </a:lnTo>
                  <a:lnTo>
                    <a:pt x="29" y="78"/>
                  </a:lnTo>
                  <a:lnTo>
                    <a:pt x="15" y="78"/>
                  </a:lnTo>
                  <a:lnTo>
                    <a:pt x="15" y="73"/>
                  </a:lnTo>
                  <a:lnTo>
                    <a:pt x="10" y="73"/>
                  </a:lnTo>
                  <a:lnTo>
                    <a:pt x="10" y="66"/>
                  </a:lnTo>
                  <a:lnTo>
                    <a:pt x="5" y="66"/>
                  </a:lnTo>
                  <a:lnTo>
                    <a:pt x="5" y="49"/>
                  </a:lnTo>
                  <a:lnTo>
                    <a:pt x="0" y="4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6560" y="2163960"/>
              <a:ext cx="71640" cy="83160"/>
            </a:xfrm>
            <a:custGeom>
              <a:avLst/>
              <a:gdLst/>
              <a:ahLst/>
              <a:rect l="l" t="t" r="r" b="b"/>
              <a:pathLst>
                <a:path w="274" h="432">
                  <a:moveTo>
                    <a:pt x="0" y="413"/>
                  </a:moveTo>
                  <a:lnTo>
                    <a:pt x="5" y="413"/>
                  </a:lnTo>
                  <a:lnTo>
                    <a:pt x="5" y="408"/>
                  </a:lnTo>
                  <a:lnTo>
                    <a:pt x="19" y="408"/>
                  </a:lnTo>
                  <a:lnTo>
                    <a:pt x="19" y="402"/>
                  </a:lnTo>
                  <a:lnTo>
                    <a:pt x="23" y="402"/>
                  </a:lnTo>
                  <a:lnTo>
                    <a:pt x="23" y="396"/>
                  </a:lnTo>
                  <a:lnTo>
                    <a:pt x="29" y="396"/>
                  </a:lnTo>
                  <a:lnTo>
                    <a:pt x="29" y="389"/>
                  </a:lnTo>
                  <a:lnTo>
                    <a:pt x="33" y="389"/>
                  </a:lnTo>
                  <a:lnTo>
                    <a:pt x="33" y="378"/>
                  </a:lnTo>
                  <a:lnTo>
                    <a:pt x="38" y="378"/>
                  </a:lnTo>
                  <a:lnTo>
                    <a:pt x="38" y="360"/>
                  </a:lnTo>
                  <a:lnTo>
                    <a:pt x="44" y="360"/>
                  </a:lnTo>
                  <a:lnTo>
                    <a:pt x="44" y="342"/>
                  </a:lnTo>
                  <a:lnTo>
                    <a:pt x="49" y="342"/>
                  </a:lnTo>
                  <a:lnTo>
                    <a:pt x="49" y="313"/>
                  </a:lnTo>
                  <a:lnTo>
                    <a:pt x="44" y="313"/>
                  </a:lnTo>
                  <a:lnTo>
                    <a:pt x="44" y="290"/>
                  </a:lnTo>
                  <a:lnTo>
                    <a:pt x="63" y="290"/>
                  </a:lnTo>
                  <a:lnTo>
                    <a:pt x="63" y="295"/>
                  </a:lnTo>
                  <a:lnTo>
                    <a:pt x="96" y="295"/>
                  </a:lnTo>
                  <a:lnTo>
                    <a:pt x="96" y="290"/>
                  </a:lnTo>
                  <a:lnTo>
                    <a:pt x="105" y="290"/>
                  </a:lnTo>
                  <a:lnTo>
                    <a:pt x="105" y="283"/>
                  </a:lnTo>
                  <a:lnTo>
                    <a:pt x="110" y="283"/>
                  </a:lnTo>
                  <a:lnTo>
                    <a:pt x="110" y="277"/>
                  </a:lnTo>
                  <a:lnTo>
                    <a:pt x="116" y="277"/>
                  </a:lnTo>
                  <a:lnTo>
                    <a:pt x="116" y="272"/>
                  </a:lnTo>
                  <a:lnTo>
                    <a:pt x="120" y="272"/>
                  </a:lnTo>
                  <a:lnTo>
                    <a:pt x="120" y="266"/>
                  </a:lnTo>
                  <a:lnTo>
                    <a:pt x="126" y="266"/>
                  </a:lnTo>
                  <a:lnTo>
                    <a:pt x="126" y="200"/>
                  </a:lnTo>
                  <a:lnTo>
                    <a:pt x="130" y="200"/>
                  </a:lnTo>
                  <a:lnTo>
                    <a:pt x="130" y="195"/>
                  </a:lnTo>
                  <a:lnTo>
                    <a:pt x="140" y="195"/>
                  </a:lnTo>
                  <a:lnTo>
                    <a:pt x="140" y="200"/>
                  </a:lnTo>
                  <a:lnTo>
                    <a:pt x="153" y="200"/>
                  </a:lnTo>
                  <a:lnTo>
                    <a:pt x="153" y="195"/>
                  </a:lnTo>
                  <a:lnTo>
                    <a:pt x="178" y="195"/>
                  </a:lnTo>
                  <a:lnTo>
                    <a:pt x="178" y="189"/>
                  </a:lnTo>
                  <a:lnTo>
                    <a:pt x="188" y="189"/>
                  </a:lnTo>
                  <a:lnTo>
                    <a:pt x="188" y="182"/>
                  </a:lnTo>
                  <a:lnTo>
                    <a:pt x="193" y="182"/>
                  </a:lnTo>
                  <a:lnTo>
                    <a:pt x="193" y="177"/>
                  </a:lnTo>
                  <a:lnTo>
                    <a:pt x="197" y="177"/>
                  </a:lnTo>
                  <a:lnTo>
                    <a:pt x="197" y="165"/>
                  </a:lnTo>
                  <a:lnTo>
                    <a:pt x="202" y="165"/>
                  </a:lnTo>
                  <a:lnTo>
                    <a:pt x="202" y="154"/>
                  </a:lnTo>
                  <a:lnTo>
                    <a:pt x="207" y="154"/>
                  </a:lnTo>
                  <a:lnTo>
                    <a:pt x="207" y="147"/>
                  </a:lnTo>
                  <a:lnTo>
                    <a:pt x="211" y="147"/>
                  </a:lnTo>
                  <a:lnTo>
                    <a:pt x="211" y="130"/>
                  </a:lnTo>
                  <a:lnTo>
                    <a:pt x="216" y="130"/>
                  </a:lnTo>
                  <a:lnTo>
                    <a:pt x="216" y="117"/>
                  </a:lnTo>
                  <a:lnTo>
                    <a:pt x="221" y="117"/>
                  </a:lnTo>
                  <a:lnTo>
                    <a:pt x="221" y="100"/>
                  </a:lnTo>
                  <a:lnTo>
                    <a:pt x="226" y="100"/>
                  </a:lnTo>
                  <a:lnTo>
                    <a:pt x="226" y="71"/>
                  </a:lnTo>
                  <a:lnTo>
                    <a:pt x="230" y="71"/>
                  </a:lnTo>
                  <a:lnTo>
                    <a:pt x="230" y="41"/>
                  </a:lnTo>
                  <a:lnTo>
                    <a:pt x="235" y="41"/>
                  </a:lnTo>
                  <a:lnTo>
                    <a:pt x="235" y="13"/>
                  </a:lnTo>
                  <a:lnTo>
                    <a:pt x="254" y="13"/>
                  </a:lnTo>
                  <a:lnTo>
                    <a:pt x="254" y="5"/>
                  </a:lnTo>
                  <a:lnTo>
                    <a:pt x="264" y="5"/>
                  </a:lnTo>
                  <a:lnTo>
                    <a:pt x="264" y="0"/>
                  </a:lnTo>
                  <a:lnTo>
                    <a:pt x="274" y="0"/>
                  </a:lnTo>
                  <a:lnTo>
                    <a:pt x="274" y="13"/>
                  </a:lnTo>
                  <a:lnTo>
                    <a:pt x="270" y="13"/>
                  </a:lnTo>
                  <a:lnTo>
                    <a:pt x="270" y="18"/>
                  </a:lnTo>
                  <a:lnTo>
                    <a:pt x="260" y="18"/>
                  </a:lnTo>
                  <a:lnTo>
                    <a:pt x="260" y="23"/>
                  </a:lnTo>
                  <a:lnTo>
                    <a:pt x="254" y="23"/>
                  </a:lnTo>
                  <a:lnTo>
                    <a:pt x="254" y="30"/>
                  </a:lnTo>
                  <a:lnTo>
                    <a:pt x="244" y="30"/>
                  </a:lnTo>
                  <a:lnTo>
                    <a:pt x="244" y="46"/>
                  </a:lnTo>
                  <a:lnTo>
                    <a:pt x="240" y="46"/>
                  </a:lnTo>
                  <a:lnTo>
                    <a:pt x="240" y="76"/>
                  </a:lnTo>
                  <a:lnTo>
                    <a:pt x="235" y="76"/>
                  </a:lnTo>
                  <a:lnTo>
                    <a:pt x="235" y="106"/>
                  </a:lnTo>
                  <a:lnTo>
                    <a:pt x="230" y="106"/>
                  </a:lnTo>
                  <a:lnTo>
                    <a:pt x="230" y="124"/>
                  </a:lnTo>
                  <a:lnTo>
                    <a:pt x="226" y="124"/>
                  </a:lnTo>
                  <a:lnTo>
                    <a:pt x="226" y="141"/>
                  </a:lnTo>
                  <a:lnTo>
                    <a:pt x="221" y="141"/>
                  </a:lnTo>
                  <a:lnTo>
                    <a:pt x="221" y="154"/>
                  </a:lnTo>
                  <a:lnTo>
                    <a:pt x="216" y="154"/>
                  </a:lnTo>
                  <a:lnTo>
                    <a:pt x="216" y="171"/>
                  </a:lnTo>
                  <a:lnTo>
                    <a:pt x="211" y="171"/>
                  </a:lnTo>
                  <a:lnTo>
                    <a:pt x="211" y="177"/>
                  </a:lnTo>
                  <a:lnTo>
                    <a:pt x="207" y="177"/>
                  </a:lnTo>
                  <a:lnTo>
                    <a:pt x="207" y="189"/>
                  </a:lnTo>
                  <a:lnTo>
                    <a:pt x="202" y="189"/>
                  </a:lnTo>
                  <a:lnTo>
                    <a:pt x="202" y="195"/>
                  </a:lnTo>
                  <a:lnTo>
                    <a:pt x="197" y="195"/>
                  </a:lnTo>
                  <a:lnTo>
                    <a:pt x="197" y="200"/>
                  </a:lnTo>
                  <a:lnTo>
                    <a:pt x="188" y="200"/>
                  </a:lnTo>
                  <a:lnTo>
                    <a:pt x="188" y="207"/>
                  </a:lnTo>
                  <a:lnTo>
                    <a:pt x="178" y="207"/>
                  </a:lnTo>
                  <a:lnTo>
                    <a:pt x="178" y="212"/>
                  </a:lnTo>
                  <a:lnTo>
                    <a:pt x="163" y="212"/>
                  </a:lnTo>
                  <a:lnTo>
                    <a:pt x="163" y="218"/>
                  </a:lnTo>
                  <a:lnTo>
                    <a:pt x="135" y="218"/>
                  </a:lnTo>
                  <a:lnTo>
                    <a:pt x="135" y="272"/>
                  </a:lnTo>
                  <a:lnTo>
                    <a:pt x="130" y="272"/>
                  </a:lnTo>
                  <a:lnTo>
                    <a:pt x="130" y="277"/>
                  </a:lnTo>
                  <a:lnTo>
                    <a:pt x="126" y="277"/>
                  </a:lnTo>
                  <a:lnTo>
                    <a:pt x="126" y="290"/>
                  </a:lnTo>
                  <a:lnTo>
                    <a:pt x="120" y="290"/>
                  </a:lnTo>
                  <a:lnTo>
                    <a:pt x="120" y="301"/>
                  </a:lnTo>
                  <a:lnTo>
                    <a:pt x="110" y="301"/>
                  </a:lnTo>
                  <a:lnTo>
                    <a:pt x="110" y="307"/>
                  </a:lnTo>
                  <a:lnTo>
                    <a:pt x="86" y="307"/>
                  </a:lnTo>
                  <a:lnTo>
                    <a:pt x="86" y="313"/>
                  </a:lnTo>
                  <a:lnTo>
                    <a:pt x="58" y="313"/>
                  </a:lnTo>
                  <a:lnTo>
                    <a:pt x="58" y="348"/>
                  </a:lnTo>
                  <a:lnTo>
                    <a:pt x="53" y="348"/>
                  </a:lnTo>
                  <a:lnTo>
                    <a:pt x="53" y="367"/>
                  </a:lnTo>
                  <a:lnTo>
                    <a:pt x="49" y="367"/>
                  </a:lnTo>
                  <a:lnTo>
                    <a:pt x="49" y="384"/>
                  </a:lnTo>
                  <a:lnTo>
                    <a:pt x="44" y="384"/>
                  </a:lnTo>
                  <a:lnTo>
                    <a:pt x="44" y="402"/>
                  </a:lnTo>
                  <a:lnTo>
                    <a:pt x="38" y="402"/>
                  </a:lnTo>
                  <a:lnTo>
                    <a:pt x="38" y="408"/>
                  </a:lnTo>
                  <a:lnTo>
                    <a:pt x="33" y="408"/>
                  </a:lnTo>
                  <a:lnTo>
                    <a:pt x="33" y="413"/>
                  </a:lnTo>
                  <a:lnTo>
                    <a:pt x="29" y="413"/>
                  </a:lnTo>
                  <a:lnTo>
                    <a:pt x="29" y="419"/>
                  </a:lnTo>
                  <a:lnTo>
                    <a:pt x="19" y="419"/>
                  </a:lnTo>
                  <a:lnTo>
                    <a:pt x="19" y="426"/>
                  </a:lnTo>
                  <a:lnTo>
                    <a:pt x="9" y="426"/>
                  </a:lnTo>
                  <a:lnTo>
                    <a:pt x="9" y="432"/>
                  </a:lnTo>
                  <a:lnTo>
                    <a:pt x="0" y="432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88520" y="2004840"/>
              <a:ext cx="48240" cy="27360"/>
            </a:xfrm>
            <a:custGeom>
              <a:avLst/>
              <a:gdLst/>
              <a:ahLst/>
              <a:rect l="l" t="t" r="r" b="b"/>
              <a:pathLst>
                <a:path w="188" h="141">
                  <a:moveTo>
                    <a:pt x="0" y="5"/>
                  </a:moveTo>
                  <a:lnTo>
                    <a:pt x="4" y="5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48" y="10"/>
                  </a:lnTo>
                  <a:lnTo>
                    <a:pt x="48" y="18"/>
                  </a:lnTo>
                  <a:lnTo>
                    <a:pt x="71" y="18"/>
                  </a:lnTo>
                  <a:lnTo>
                    <a:pt x="71" y="23"/>
                  </a:lnTo>
                  <a:lnTo>
                    <a:pt x="96" y="23"/>
                  </a:lnTo>
                  <a:lnTo>
                    <a:pt x="96" y="29"/>
                  </a:lnTo>
                  <a:lnTo>
                    <a:pt x="111" y="29"/>
                  </a:lnTo>
                  <a:lnTo>
                    <a:pt x="111" y="34"/>
                  </a:lnTo>
                  <a:lnTo>
                    <a:pt x="129" y="34"/>
                  </a:lnTo>
                  <a:lnTo>
                    <a:pt x="129" y="41"/>
                  </a:lnTo>
                  <a:lnTo>
                    <a:pt x="153" y="41"/>
                  </a:lnTo>
                  <a:lnTo>
                    <a:pt x="153" y="46"/>
                  </a:lnTo>
                  <a:lnTo>
                    <a:pt x="162" y="46"/>
                  </a:lnTo>
                  <a:lnTo>
                    <a:pt x="162" y="51"/>
                  </a:lnTo>
                  <a:lnTo>
                    <a:pt x="178" y="51"/>
                  </a:lnTo>
                  <a:lnTo>
                    <a:pt x="178" y="59"/>
                  </a:lnTo>
                  <a:lnTo>
                    <a:pt x="188" y="59"/>
                  </a:lnTo>
                  <a:lnTo>
                    <a:pt x="188" y="70"/>
                  </a:lnTo>
                  <a:lnTo>
                    <a:pt x="172" y="70"/>
                  </a:lnTo>
                  <a:lnTo>
                    <a:pt x="172" y="76"/>
                  </a:lnTo>
                  <a:lnTo>
                    <a:pt x="167" y="76"/>
                  </a:lnTo>
                  <a:lnTo>
                    <a:pt x="167" y="100"/>
                  </a:lnTo>
                  <a:lnTo>
                    <a:pt x="162" y="100"/>
                  </a:lnTo>
                  <a:lnTo>
                    <a:pt x="162" y="105"/>
                  </a:lnTo>
                  <a:lnTo>
                    <a:pt x="158" y="105"/>
                  </a:lnTo>
                  <a:lnTo>
                    <a:pt x="158" y="141"/>
                  </a:lnTo>
                  <a:lnTo>
                    <a:pt x="139" y="141"/>
                  </a:lnTo>
                  <a:lnTo>
                    <a:pt x="139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00" y="129"/>
                  </a:lnTo>
                  <a:lnTo>
                    <a:pt x="100" y="123"/>
                  </a:lnTo>
                  <a:lnTo>
                    <a:pt x="86" y="123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63" y="111"/>
                  </a:lnTo>
                  <a:lnTo>
                    <a:pt x="38" y="111"/>
                  </a:lnTo>
                  <a:lnTo>
                    <a:pt x="38" y="105"/>
                  </a:lnTo>
                  <a:lnTo>
                    <a:pt x="28" y="105"/>
                  </a:lnTo>
                  <a:lnTo>
                    <a:pt x="28" y="100"/>
                  </a:lnTo>
                  <a:lnTo>
                    <a:pt x="14" y="100"/>
                  </a:lnTo>
                  <a:lnTo>
                    <a:pt x="14" y="94"/>
                  </a:lnTo>
                  <a:lnTo>
                    <a:pt x="4" y="94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94280" y="2029680"/>
              <a:ext cx="42480" cy="2412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0" y="95"/>
                  </a:moveTo>
                  <a:lnTo>
                    <a:pt x="5" y="95"/>
                  </a:lnTo>
                  <a:lnTo>
                    <a:pt x="5" y="77"/>
                  </a:lnTo>
                  <a:lnTo>
                    <a:pt x="11" y="77"/>
                  </a:lnTo>
                  <a:lnTo>
                    <a:pt x="11" y="58"/>
                  </a:lnTo>
                  <a:lnTo>
                    <a:pt x="15" y="58"/>
                  </a:lnTo>
                  <a:lnTo>
                    <a:pt x="15" y="47"/>
                  </a:lnTo>
                  <a:lnTo>
                    <a:pt x="21" y="47"/>
                  </a:lnTo>
                  <a:lnTo>
                    <a:pt x="21" y="30"/>
                  </a:lnTo>
                  <a:lnTo>
                    <a:pt x="15" y="30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73" y="12"/>
                  </a:lnTo>
                  <a:lnTo>
                    <a:pt x="73" y="17"/>
                  </a:lnTo>
                  <a:lnTo>
                    <a:pt x="92" y="17"/>
                  </a:lnTo>
                  <a:lnTo>
                    <a:pt x="92" y="24"/>
                  </a:lnTo>
                  <a:lnTo>
                    <a:pt x="116" y="24"/>
                  </a:lnTo>
                  <a:lnTo>
                    <a:pt x="116" y="30"/>
                  </a:lnTo>
                  <a:lnTo>
                    <a:pt x="130" y="30"/>
                  </a:lnTo>
                  <a:lnTo>
                    <a:pt x="130" y="35"/>
                  </a:lnTo>
                  <a:lnTo>
                    <a:pt x="144" y="35"/>
                  </a:lnTo>
                  <a:lnTo>
                    <a:pt x="144" y="41"/>
                  </a:lnTo>
                  <a:lnTo>
                    <a:pt x="155" y="41"/>
                  </a:lnTo>
                  <a:lnTo>
                    <a:pt x="155" y="47"/>
                  </a:lnTo>
                  <a:lnTo>
                    <a:pt x="165" y="47"/>
                  </a:lnTo>
                  <a:lnTo>
                    <a:pt x="165" y="58"/>
                  </a:lnTo>
                  <a:lnTo>
                    <a:pt x="155" y="58"/>
                  </a:lnTo>
                  <a:lnTo>
                    <a:pt x="155" y="66"/>
                  </a:lnTo>
                  <a:lnTo>
                    <a:pt x="139" y="66"/>
                  </a:lnTo>
                  <a:lnTo>
                    <a:pt x="139" y="71"/>
                  </a:lnTo>
                  <a:lnTo>
                    <a:pt x="130" y="71"/>
                  </a:lnTo>
                  <a:lnTo>
                    <a:pt x="130" y="77"/>
                  </a:lnTo>
                  <a:lnTo>
                    <a:pt x="121" y="77"/>
                  </a:lnTo>
                  <a:lnTo>
                    <a:pt x="121" y="82"/>
                  </a:lnTo>
                  <a:lnTo>
                    <a:pt x="116" y="82"/>
                  </a:lnTo>
                  <a:lnTo>
                    <a:pt x="116" y="88"/>
                  </a:lnTo>
                  <a:lnTo>
                    <a:pt x="106" y="88"/>
                  </a:lnTo>
                  <a:lnTo>
                    <a:pt x="106" y="95"/>
                  </a:lnTo>
                  <a:lnTo>
                    <a:pt x="97" y="95"/>
                  </a:lnTo>
                  <a:lnTo>
                    <a:pt x="97" y="100"/>
                  </a:lnTo>
                  <a:lnTo>
                    <a:pt x="92" y="100"/>
                  </a:lnTo>
                  <a:lnTo>
                    <a:pt x="92" y="107"/>
                  </a:lnTo>
                  <a:lnTo>
                    <a:pt x="88" y="107"/>
                  </a:lnTo>
                  <a:lnTo>
                    <a:pt x="88" y="112"/>
                  </a:lnTo>
                  <a:lnTo>
                    <a:pt x="77" y="112"/>
                  </a:lnTo>
                  <a:lnTo>
                    <a:pt x="77" y="118"/>
                  </a:lnTo>
                  <a:lnTo>
                    <a:pt x="68" y="118"/>
                  </a:lnTo>
                  <a:lnTo>
                    <a:pt x="68" y="125"/>
                  </a:lnTo>
                  <a:lnTo>
                    <a:pt x="30" y="125"/>
                  </a:lnTo>
                  <a:lnTo>
                    <a:pt x="30" y="118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0" y="11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99320" y="1975320"/>
              <a:ext cx="44280" cy="2016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0" y="18"/>
                  </a:moveTo>
                  <a:lnTo>
                    <a:pt x="4" y="18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37" y="6"/>
                  </a:lnTo>
                  <a:lnTo>
                    <a:pt x="37" y="12"/>
                  </a:lnTo>
                  <a:lnTo>
                    <a:pt x="85" y="12"/>
                  </a:lnTo>
                  <a:lnTo>
                    <a:pt x="85" y="18"/>
                  </a:lnTo>
                  <a:lnTo>
                    <a:pt x="95" y="18"/>
                  </a:lnTo>
                  <a:lnTo>
                    <a:pt x="95" y="23"/>
                  </a:lnTo>
                  <a:lnTo>
                    <a:pt x="109" y="23"/>
                  </a:lnTo>
                  <a:lnTo>
                    <a:pt x="109" y="31"/>
                  </a:lnTo>
                  <a:lnTo>
                    <a:pt x="114" y="31"/>
                  </a:lnTo>
                  <a:lnTo>
                    <a:pt x="114" y="36"/>
                  </a:lnTo>
                  <a:lnTo>
                    <a:pt x="144" y="36"/>
                  </a:lnTo>
                  <a:lnTo>
                    <a:pt x="144" y="42"/>
                  </a:lnTo>
                  <a:lnTo>
                    <a:pt x="162" y="42"/>
                  </a:lnTo>
                  <a:lnTo>
                    <a:pt x="162" y="48"/>
                  </a:lnTo>
                  <a:lnTo>
                    <a:pt x="171" y="48"/>
                  </a:lnTo>
                  <a:lnTo>
                    <a:pt x="171" y="72"/>
                  </a:lnTo>
                  <a:lnTo>
                    <a:pt x="167" y="72"/>
                  </a:lnTo>
                  <a:lnTo>
                    <a:pt x="167" y="89"/>
                  </a:lnTo>
                  <a:lnTo>
                    <a:pt x="162" y="89"/>
                  </a:lnTo>
                  <a:lnTo>
                    <a:pt x="162" y="101"/>
                  </a:lnTo>
                  <a:lnTo>
                    <a:pt x="144" y="101"/>
                  </a:lnTo>
                  <a:lnTo>
                    <a:pt x="144" y="96"/>
                  </a:lnTo>
                  <a:lnTo>
                    <a:pt x="134" y="96"/>
                  </a:lnTo>
                  <a:lnTo>
                    <a:pt x="134" y="89"/>
                  </a:lnTo>
                  <a:lnTo>
                    <a:pt x="114" y="89"/>
                  </a:lnTo>
                  <a:lnTo>
                    <a:pt x="114" y="83"/>
                  </a:lnTo>
                  <a:lnTo>
                    <a:pt x="100" y="83"/>
                  </a:lnTo>
                  <a:lnTo>
                    <a:pt x="100" y="77"/>
                  </a:lnTo>
                  <a:lnTo>
                    <a:pt x="90" y="77"/>
                  </a:lnTo>
                  <a:lnTo>
                    <a:pt x="90" y="72"/>
                  </a:lnTo>
                  <a:lnTo>
                    <a:pt x="81" y="72"/>
                  </a:lnTo>
                  <a:lnTo>
                    <a:pt x="81" y="64"/>
                  </a:lnTo>
                  <a:lnTo>
                    <a:pt x="47" y="64"/>
                  </a:lnTo>
                  <a:lnTo>
                    <a:pt x="47" y="59"/>
                  </a:lnTo>
                  <a:lnTo>
                    <a:pt x="27" y="59"/>
                  </a:lnTo>
                  <a:lnTo>
                    <a:pt x="27" y="53"/>
                  </a:lnTo>
                  <a:lnTo>
                    <a:pt x="14" y="53"/>
                  </a:lnTo>
                  <a:lnTo>
                    <a:pt x="14" y="48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22000" y="1995480"/>
              <a:ext cx="50760" cy="27360"/>
            </a:xfrm>
            <a:custGeom>
              <a:avLst/>
              <a:gdLst/>
              <a:ahLst/>
              <a:rect l="l" t="t" r="r" b="b"/>
              <a:pathLst>
                <a:path w="197" h="142">
                  <a:moveTo>
                    <a:pt x="0" y="41"/>
                  </a:moveTo>
                  <a:lnTo>
                    <a:pt x="5" y="41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3" y="6"/>
                  </a:lnTo>
                  <a:lnTo>
                    <a:pt x="33" y="12"/>
                  </a:lnTo>
                  <a:lnTo>
                    <a:pt x="53" y="12"/>
                  </a:lnTo>
                  <a:lnTo>
                    <a:pt x="53" y="17"/>
                  </a:lnTo>
                  <a:lnTo>
                    <a:pt x="63" y="17"/>
                  </a:lnTo>
                  <a:lnTo>
                    <a:pt x="63" y="23"/>
                  </a:lnTo>
                  <a:lnTo>
                    <a:pt x="82" y="23"/>
                  </a:lnTo>
                  <a:lnTo>
                    <a:pt x="82" y="30"/>
                  </a:lnTo>
                  <a:lnTo>
                    <a:pt x="86" y="30"/>
                  </a:lnTo>
                  <a:lnTo>
                    <a:pt x="86" y="36"/>
                  </a:lnTo>
                  <a:lnTo>
                    <a:pt x="110" y="36"/>
                  </a:lnTo>
                  <a:lnTo>
                    <a:pt x="110" y="41"/>
                  </a:lnTo>
                  <a:lnTo>
                    <a:pt x="130" y="41"/>
                  </a:lnTo>
                  <a:lnTo>
                    <a:pt x="130" y="48"/>
                  </a:lnTo>
                  <a:lnTo>
                    <a:pt x="154" y="48"/>
                  </a:lnTo>
                  <a:lnTo>
                    <a:pt x="154" y="53"/>
                  </a:lnTo>
                  <a:lnTo>
                    <a:pt x="163" y="53"/>
                  </a:lnTo>
                  <a:lnTo>
                    <a:pt x="163" y="58"/>
                  </a:lnTo>
                  <a:lnTo>
                    <a:pt x="173" y="58"/>
                  </a:lnTo>
                  <a:lnTo>
                    <a:pt x="173" y="66"/>
                  </a:lnTo>
                  <a:lnTo>
                    <a:pt x="182" y="66"/>
                  </a:lnTo>
                  <a:lnTo>
                    <a:pt x="182" y="71"/>
                  </a:lnTo>
                  <a:lnTo>
                    <a:pt x="193" y="71"/>
                  </a:lnTo>
                  <a:lnTo>
                    <a:pt x="193" y="77"/>
                  </a:lnTo>
                  <a:lnTo>
                    <a:pt x="197" y="77"/>
                  </a:lnTo>
                  <a:lnTo>
                    <a:pt x="197" y="99"/>
                  </a:lnTo>
                  <a:lnTo>
                    <a:pt x="193" y="99"/>
                  </a:lnTo>
                  <a:lnTo>
                    <a:pt x="193" y="124"/>
                  </a:lnTo>
                  <a:lnTo>
                    <a:pt x="188" y="124"/>
                  </a:lnTo>
                  <a:lnTo>
                    <a:pt x="188" y="136"/>
                  </a:lnTo>
                  <a:lnTo>
                    <a:pt x="182" y="136"/>
                  </a:lnTo>
                  <a:lnTo>
                    <a:pt x="182" y="142"/>
                  </a:lnTo>
                  <a:lnTo>
                    <a:pt x="163" y="142"/>
                  </a:lnTo>
                  <a:lnTo>
                    <a:pt x="163" y="136"/>
                  </a:lnTo>
                  <a:lnTo>
                    <a:pt x="159" y="136"/>
                  </a:lnTo>
                  <a:lnTo>
                    <a:pt x="159" y="131"/>
                  </a:lnTo>
                  <a:lnTo>
                    <a:pt x="154" y="131"/>
                  </a:lnTo>
                  <a:lnTo>
                    <a:pt x="154" y="124"/>
                  </a:lnTo>
                  <a:lnTo>
                    <a:pt x="140" y="124"/>
                  </a:lnTo>
                  <a:lnTo>
                    <a:pt x="140" y="118"/>
                  </a:lnTo>
                  <a:lnTo>
                    <a:pt x="115" y="118"/>
                  </a:lnTo>
                  <a:lnTo>
                    <a:pt x="115" y="112"/>
                  </a:lnTo>
                  <a:lnTo>
                    <a:pt x="106" y="112"/>
                  </a:lnTo>
                  <a:lnTo>
                    <a:pt x="106" y="107"/>
                  </a:lnTo>
                  <a:lnTo>
                    <a:pt x="92" y="107"/>
                  </a:lnTo>
                  <a:lnTo>
                    <a:pt x="92" y="99"/>
                  </a:lnTo>
                  <a:lnTo>
                    <a:pt x="82" y="99"/>
                  </a:lnTo>
                  <a:lnTo>
                    <a:pt x="82" y="94"/>
                  </a:lnTo>
                  <a:lnTo>
                    <a:pt x="73" y="94"/>
                  </a:lnTo>
                  <a:lnTo>
                    <a:pt x="73" y="89"/>
                  </a:lnTo>
                  <a:lnTo>
                    <a:pt x="53" y="89"/>
                  </a:lnTo>
                  <a:lnTo>
                    <a:pt x="53" y="82"/>
                  </a:lnTo>
                  <a:lnTo>
                    <a:pt x="38" y="82"/>
                  </a:lnTo>
                  <a:lnTo>
                    <a:pt x="38" y="77"/>
                  </a:lnTo>
                  <a:lnTo>
                    <a:pt x="19" y="77"/>
                  </a:lnTo>
                  <a:lnTo>
                    <a:pt x="19" y="71"/>
                  </a:lnTo>
                  <a:lnTo>
                    <a:pt x="10" y="71"/>
                  </a:lnTo>
                  <a:lnTo>
                    <a:pt x="10" y="66"/>
                  </a:lnTo>
                  <a:lnTo>
                    <a:pt x="5" y="66"/>
                  </a:lnTo>
                  <a:lnTo>
                    <a:pt x="5" y="58"/>
                  </a:lnTo>
                  <a:lnTo>
                    <a:pt x="0" y="5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24520" y="1442520"/>
              <a:ext cx="10080" cy="360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0"/>
                  </a:moveTo>
                  <a:lnTo>
                    <a:pt x="39" y="0"/>
                  </a:lnTo>
                  <a:lnTo>
                    <a:pt x="39" y="11"/>
                  </a:lnTo>
                  <a:lnTo>
                    <a:pt x="23" y="11"/>
                  </a:lnTo>
                  <a:lnTo>
                    <a:pt x="23" y="23"/>
                  </a:lnTo>
                  <a:lnTo>
                    <a:pt x="5" y="23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4600" y="2017440"/>
              <a:ext cx="35640" cy="20160"/>
            </a:xfrm>
            <a:custGeom>
              <a:avLst/>
              <a:gdLst/>
              <a:ahLst/>
              <a:rect l="l" t="t" r="r" b="b"/>
              <a:pathLst>
                <a:path w="139" h="106">
                  <a:moveTo>
                    <a:pt x="0" y="65"/>
                  </a:moveTo>
                  <a:lnTo>
                    <a:pt x="4" y="65"/>
                  </a:lnTo>
                  <a:lnTo>
                    <a:pt x="4" y="4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4" y="12"/>
                  </a:lnTo>
                  <a:lnTo>
                    <a:pt x="19" y="1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37" y="6"/>
                  </a:lnTo>
                  <a:lnTo>
                    <a:pt x="37" y="12"/>
                  </a:lnTo>
                  <a:lnTo>
                    <a:pt x="52" y="12"/>
                  </a:lnTo>
                  <a:lnTo>
                    <a:pt x="52" y="19"/>
                  </a:lnTo>
                  <a:lnTo>
                    <a:pt x="61" y="19"/>
                  </a:lnTo>
                  <a:lnTo>
                    <a:pt x="61" y="24"/>
                  </a:lnTo>
                  <a:lnTo>
                    <a:pt x="77" y="24"/>
                  </a:lnTo>
                  <a:lnTo>
                    <a:pt x="77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10" y="36"/>
                  </a:lnTo>
                  <a:lnTo>
                    <a:pt x="110" y="41"/>
                  </a:lnTo>
                  <a:lnTo>
                    <a:pt x="114" y="41"/>
                  </a:lnTo>
                  <a:lnTo>
                    <a:pt x="114" y="47"/>
                  </a:lnTo>
                  <a:lnTo>
                    <a:pt x="129" y="47"/>
                  </a:lnTo>
                  <a:lnTo>
                    <a:pt x="129" y="54"/>
                  </a:lnTo>
                  <a:lnTo>
                    <a:pt x="139" y="54"/>
                  </a:lnTo>
                  <a:lnTo>
                    <a:pt x="139" y="71"/>
                  </a:lnTo>
                  <a:lnTo>
                    <a:pt x="129" y="71"/>
                  </a:lnTo>
                  <a:lnTo>
                    <a:pt x="129" y="77"/>
                  </a:lnTo>
                  <a:lnTo>
                    <a:pt x="124" y="77"/>
                  </a:lnTo>
                  <a:lnTo>
                    <a:pt x="124" y="82"/>
                  </a:lnTo>
                  <a:lnTo>
                    <a:pt x="105" y="82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91" y="95"/>
                  </a:lnTo>
                  <a:lnTo>
                    <a:pt x="61" y="95"/>
                  </a:lnTo>
                  <a:lnTo>
                    <a:pt x="61" y="100"/>
                  </a:lnTo>
                  <a:lnTo>
                    <a:pt x="52" y="100"/>
                  </a:lnTo>
                  <a:lnTo>
                    <a:pt x="52" y="106"/>
                  </a:lnTo>
                  <a:lnTo>
                    <a:pt x="43" y="106"/>
                  </a:lnTo>
                  <a:lnTo>
                    <a:pt x="43" y="100"/>
                  </a:lnTo>
                  <a:lnTo>
                    <a:pt x="24" y="100"/>
                  </a:lnTo>
                  <a:lnTo>
                    <a:pt x="24" y="95"/>
                  </a:lnTo>
                  <a:lnTo>
                    <a:pt x="14" y="95"/>
                  </a:lnTo>
                  <a:lnTo>
                    <a:pt x="14" y="89"/>
                  </a:lnTo>
                  <a:lnTo>
                    <a:pt x="10" y="89"/>
                  </a:lnTo>
                  <a:lnTo>
                    <a:pt x="10" y="82"/>
                  </a:lnTo>
                  <a:lnTo>
                    <a:pt x="4" y="82"/>
                  </a:lnTo>
                  <a:lnTo>
                    <a:pt x="4" y="77"/>
                  </a:lnTo>
                  <a:lnTo>
                    <a:pt x="0" y="7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38560" y="1744920"/>
              <a:ext cx="216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47920" y="1988280"/>
              <a:ext cx="70200" cy="27000"/>
            </a:xfrm>
            <a:custGeom>
              <a:avLst/>
              <a:gdLst/>
              <a:ahLst/>
              <a:rect l="l" t="t" r="r" b="b"/>
              <a:pathLst>
                <a:path w="269" h="144">
                  <a:moveTo>
                    <a:pt x="0" y="0"/>
                  </a:moveTo>
                  <a:lnTo>
                    <a:pt x="20" y="0"/>
                  </a:lnTo>
                  <a:lnTo>
                    <a:pt x="20" y="8"/>
                  </a:lnTo>
                  <a:lnTo>
                    <a:pt x="53" y="8"/>
                  </a:lnTo>
                  <a:lnTo>
                    <a:pt x="53" y="13"/>
                  </a:lnTo>
                  <a:lnTo>
                    <a:pt x="67" y="13"/>
                  </a:lnTo>
                  <a:lnTo>
                    <a:pt x="67" y="19"/>
                  </a:lnTo>
                  <a:lnTo>
                    <a:pt x="77" y="19"/>
                  </a:lnTo>
                  <a:lnTo>
                    <a:pt x="77" y="25"/>
                  </a:lnTo>
                  <a:lnTo>
                    <a:pt x="87" y="25"/>
                  </a:lnTo>
                  <a:lnTo>
                    <a:pt x="87" y="32"/>
                  </a:lnTo>
                  <a:lnTo>
                    <a:pt x="116" y="32"/>
                  </a:lnTo>
                  <a:lnTo>
                    <a:pt x="116" y="37"/>
                  </a:lnTo>
                  <a:lnTo>
                    <a:pt x="130" y="37"/>
                  </a:lnTo>
                  <a:lnTo>
                    <a:pt x="130" y="43"/>
                  </a:lnTo>
                  <a:lnTo>
                    <a:pt x="139" y="43"/>
                  </a:lnTo>
                  <a:lnTo>
                    <a:pt x="139" y="49"/>
                  </a:lnTo>
                  <a:lnTo>
                    <a:pt x="174" y="49"/>
                  </a:lnTo>
                  <a:lnTo>
                    <a:pt x="174" y="54"/>
                  </a:lnTo>
                  <a:lnTo>
                    <a:pt x="183" y="54"/>
                  </a:lnTo>
                  <a:lnTo>
                    <a:pt x="183" y="60"/>
                  </a:lnTo>
                  <a:lnTo>
                    <a:pt x="192" y="60"/>
                  </a:lnTo>
                  <a:lnTo>
                    <a:pt x="192" y="67"/>
                  </a:lnTo>
                  <a:lnTo>
                    <a:pt x="207" y="67"/>
                  </a:lnTo>
                  <a:lnTo>
                    <a:pt x="207" y="73"/>
                  </a:lnTo>
                  <a:lnTo>
                    <a:pt x="221" y="73"/>
                  </a:lnTo>
                  <a:lnTo>
                    <a:pt x="221" y="78"/>
                  </a:lnTo>
                  <a:lnTo>
                    <a:pt x="235" y="78"/>
                  </a:lnTo>
                  <a:lnTo>
                    <a:pt x="235" y="85"/>
                  </a:lnTo>
                  <a:lnTo>
                    <a:pt x="246" y="85"/>
                  </a:lnTo>
                  <a:lnTo>
                    <a:pt x="246" y="90"/>
                  </a:lnTo>
                  <a:lnTo>
                    <a:pt x="265" y="90"/>
                  </a:lnTo>
                  <a:lnTo>
                    <a:pt x="265" y="95"/>
                  </a:lnTo>
                  <a:lnTo>
                    <a:pt x="269" y="95"/>
                  </a:lnTo>
                  <a:lnTo>
                    <a:pt x="269" y="131"/>
                  </a:lnTo>
                  <a:lnTo>
                    <a:pt x="265" y="131"/>
                  </a:lnTo>
                  <a:lnTo>
                    <a:pt x="265" y="144"/>
                  </a:lnTo>
                  <a:lnTo>
                    <a:pt x="235" y="144"/>
                  </a:lnTo>
                  <a:lnTo>
                    <a:pt x="235" y="136"/>
                  </a:lnTo>
                  <a:lnTo>
                    <a:pt x="221" y="136"/>
                  </a:lnTo>
                  <a:lnTo>
                    <a:pt x="221" y="131"/>
                  </a:lnTo>
                  <a:lnTo>
                    <a:pt x="212" y="131"/>
                  </a:lnTo>
                  <a:lnTo>
                    <a:pt x="212" y="126"/>
                  </a:lnTo>
                  <a:lnTo>
                    <a:pt x="198" y="126"/>
                  </a:lnTo>
                  <a:lnTo>
                    <a:pt x="198" y="119"/>
                  </a:lnTo>
                  <a:lnTo>
                    <a:pt x="183" y="119"/>
                  </a:lnTo>
                  <a:lnTo>
                    <a:pt x="183" y="114"/>
                  </a:lnTo>
                  <a:lnTo>
                    <a:pt x="169" y="114"/>
                  </a:lnTo>
                  <a:lnTo>
                    <a:pt x="169" y="108"/>
                  </a:lnTo>
                  <a:lnTo>
                    <a:pt x="163" y="108"/>
                  </a:lnTo>
                  <a:lnTo>
                    <a:pt x="163" y="103"/>
                  </a:lnTo>
                  <a:lnTo>
                    <a:pt x="144" y="103"/>
                  </a:lnTo>
                  <a:lnTo>
                    <a:pt x="144" y="95"/>
                  </a:lnTo>
                  <a:lnTo>
                    <a:pt x="116" y="95"/>
                  </a:lnTo>
                  <a:lnTo>
                    <a:pt x="116" y="90"/>
                  </a:lnTo>
                  <a:lnTo>
                    <a:pt x="111" y="90"/>
                  </a:lnTo>
                  <a:lnTo>
                    <a:pt x="111" y="85"/>
                  </a:lnTo>
                  <a:lnTo>
                    <a:pt x="96" y="85"/>
                  </a:lnTo>
                  <a:lnTo>
                    <a:pt x="96" y="78"/>
                  </a:lnTo>
                  <a:lnTo>
                    <a:pt x="67" y="78"/>
                  </a:lnTo>
                  <a:lnTo>
                    <a:pt x="67" y="73"/>
                  </a:lnTo>
                  <a:lnTo>
                    <a:pt x="62" y="73"/>
                  </a:lnTo>
                  <a:lnTo>
                    <a:pt x="62" y="67"/>
                  </a:lnTo>
                  <a:lnTo>
                    <a:pt x="53" y="67"/>
                  </a:lnTo>
                  <a:lnTo>
                    <a:pt x="53" y="60"/>
                  </a:lnTo>
                  <a:lnTo>
                    <a:pt x="39" y="60"/>
                  </a:lnTo>
                  <a:lnTo>
                    <a:pt x="39" y="54"/>
                  </a:lnTo>
                  <a:lnTo>
                    <a:pt x="20" y="54"/>
                  </a:lnTo>
                  <a:lnTo>
                    <a:pt x="20" y="49"/>
                  </a:lnTo>
                  <a:lnTo>
                    <a:pt x="5" y="49"/>
                  </a:lnTo>
                  <a:lnTo>
                    <a:pt x="5" y="43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59440" y="2072520"/>
              <a:ext cx="48240" cy="4356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0" y="214"/>
                  </a:moveTo>
                  <a:lnTo>
                    <a:pt x="9" y="214"/>
                  </a:lnTo>
                  <a:lnTo>
                    <a:pt x="9" y="207"/>
                  </a:lnTo>
                  <a:lnTo>
                    <a:pt x="14" y="207"/>
                  </a:lnTo>
                  <a:lnTo>
                    <a:pt x="14" y="195"/>
                  </a:lnTo>
                  <a:lnTo>
                    <a:pt x="18" y="195"/>
                  </a:lnTo>
                  <a:lnTo>
                    <a:pt x="18" y="190"/>
                  </a:lnTo>
                  <a:lnTo>
                    <a:pt x="23" y="190"/>
                  </a:lnTo>
                  <a:lnTo>
                    <a:pt x="23" y="185"/>
                  </a:lnTo>
                  <a:lnTo>
                    <a:pt x="28" y="185"/>
                  </a:lnTo>
                  <a:lnTo>
                    <a:pt x="28" y="166"/>
                  </a:lnTo>
                  <a:lnTo>
                    <a:pt x="33" y="166"/>
                  </a:lnTo>
                  <a:lnTo>
                    <a:pt x="33" y="144"/>
                  </a:lnTo>
                  <a:lnTo>
                    <a:pt x="37" y="144"/>
                  </a:lnTo>
                  <a:lnTo>
                    <a:pt x="37" y="101"/>
                  </a:lnTo>
                  <a:lnTo>
                    <a:pt x="81" y="101"/>
                  </a:lnTo>
                  <a:lnTo>
                    <a:pt x="81" y="95"/>
                  </a:lnTo>
                  <a:lnTo>
                    <a:pt x="91" y="95"/>
                  </a:lnTo>
                  <a:lnTo>
                    <a:pt x="91" y="90"/>
                  </a:lnTo>
                  <a:lnTo>
                    <a:pt x="95" y="90"/>
                  </a:lnTo>
                  <a:lnTo>
                    <a:pt x="95" y="84"/>
                  </a:lnTo>
                  <a:lnTo>
                    <a:pt x="100" y="84"/>
                  </a:lnTo>
                  <a:lnTo>
                    <a:pt x="100" y="54"/>
                  </a:lnTo>
                  <a:lnTo>
                    <a:pt x="105" y="54"/>
                  </a:lnTo>
                  <a:lnTo>
                    <a:pt x="105" y="36"/>
                  </a:lnTo>
                  <a:lnTo>
                    <a:pt x="110" y="36"/>
                  </a:lnTo>
                  <a:lnTo>
                    <a:pt x="110" y="30"/>
                  </a:lnTo>
                  <a:lnTo>
                    <a:pt x="148" y="30"/>
                  </a:lnTo>
                  <a:lnTo>
                    <a:pt x="148" y="25"/>
                  </a:lnTo>
                  <a:lnTo>
                    <a:pt x="158" y="25"/>
                  </a:lnTo>
                  <a:lnTo>
                    <a:pt x="158" y="19"/>
                  </a:lnTo>
                  <a:lnTo>
                    <a:pt x="163" y="19"/>
                  </a:lnTo>
                  <a:lnTo>
                    <a:pt x="163" y="13"/>
                  </a:lnTo>
                  <a:lnTo>
                    <a:pt x="168" y="13"/>
                  </a:lnTo>
                  <a:lnTo>
                    <a:pt x="168" y="8"/>
                  </a:lnTo>
                  <a:lnTo>
                    <a:pt x="173" y="8"/>
                  </a:lnTo>
                  <a:lnTo>
                    <a:pt x="173" y="0"/>
                  </a:lnTo>
                  <a:lnTo>
                    <a:pt x="187" y="0"/>
                  </a:lnTo>
                  <a:lnTo>
                    <a:pt x="187" y="13"/>
                  </a:lnTo>
                  <a:lnTo>
                    <a:pt x="181" y="13"/>
                  </a:lnTo>
                  <a:lnTo>
                    <a:pt x="181" y="19"/>
                  </a:lnTo>
                  <a:lnTo>
                    <a:pt x="173" y="19"/>
                  </a:lnTo>
                  <a:lnTo>
                    <a:pt x="173" y="25"/>
                  </a:lnTo>
                  <a:lnTo>
                    <a:pt x="168" y="25"/>
                  </a:lnTo>
                  <a:lnTo>
                    <a:pt x="168" y="30"/>
                  </a:lnTo>
                  <a:lnTo>
                    <a:pt x="163" y="30"/>
                  </a:lnTo>
                  <a:lnTo>
                    <a:pt x="163" y="36"/>
                  </a:lnTo>
                  <a:lnTo>
                    <a:pt x="154" y="36"/>
                  </a:lnTo>
                  <a:lnTo>
                    <a:pt x="154" y="41"/>
                  </a:lnTo>
                  <a:lnTo>
                    <a:pt x="148" y="41"/>
                  </a:lnTo>
                  <a:lnTo>
                    <a:pt x="148" y="49"/>
                  </a:lnTo>
                  <a:lnTo>
                    <a:pt x="125" y="49"/>
                  </a:lnTo>
                  <a:lnTo>
                    <a:pt x="125" y="54"/>
                  </a:lnTo>
                  <a:lnTo>
                    <a:pt x="119" y="54"/>
                  </a:lnTo>
                  <a:lnTo>
                    <a:pt x="119" y="66"/>
                  </a:lnTo>
                  <a:lnTo>
                    <a:pt x="114" y="66"/>
                  </a:lnTo>
                  <a:lnTo>
                    <a:pt x="114" y="90"/>
                  </a:lnTo>
                  <a:lnTo>
                    <a:pt x="110" y="90"/>
                  </a:lnTo>
                  <a:lnTo>
                    <a:pt x="110" y="95"/>
                  </a:lnTo>
                  <a:lnTo>
                    <a:pt x="105" y="95"/>
                  </a:lnTo>
                  <a:lnTo>
                    <a:pt x="105" y="101"/>
                  </a:lnTo>
                  <a:lnTo>
                    <a:pt x="100" y="101"/>
                  </a:lnTo>
                  <a:lnTo>
                    <a:pt x="100" y="107"/>
                  </a:lnTo>
                  <a:lnTo>
                    <a:pt x="91" y="107"/>
                  </a:lnTo>
                  <a:lnTo>
                    <a:pt x="91" y="114"/>
                  </a:lnTo>
                  <a:lnTo>
                    <a:pt x="72" y="114"/>
                  </a:lnTo>
                  <a:lnTo>
                    <a:pt x="72" y="119"/>
                  </a:lnTo>
                  <a:lnTo>
                    <a:pt x="52" y="119"/>
                  </a:lnTo>
                  <a:lnTo>
                    <a:pt x="52" y="136"/>
                  </a:lnTo>
                  <a:lnTo>
                    <a:pt x="48" y="136"/>
                  </a:lnTo>
                  <a:lnTo>
                    <a:pt x="48" y="155"/>
                  </a:lnTo>
                  <a:lnTo>
                    <a:pt x="43" y="155"/>
                  </a:lnTo>
                  <a:lnTo>
                    <a:pt x="43" y="172"/>
                  </a:lnTo>
                  <a:lnTo>
                    <a:pt x="37" y="172"/>
                  </a:lnTo>
                  <a:lnTo>
                    <a:pt x="37" y="190"/>
                  </a:lnTo>
                  <a:lnTo>
                    <a:pt x="33" y="190"/>
                  </a:lnTo>
                  <a:lnTo>
                    <a:pt x="33" y="202"/>
                  </a:lnTo>
                  <a:lnTo>
                    <a:pt x="28" y="202"/>
                  </a:lnTo>
                  <a:lnTo>
                    <a:pt x="28" y="207"/>
                  </a:lnTo>
                  <a:lnTo>
                    <a:pt x="23" y="207"/>
                  </a:lnTo>
                  <a:lnTo>
                    <a:pt x="23" y="214"/>
                  </a:lnTo>
                  <a:lnTo>
                    <a:pt x="18" y="214"/>
                  </a:lnTo>
                  <a:lnTo>
                    <a:pt x="18" y="220"/>
                  </a:lnTo>
                  <a:lnTo>
                    <a:pt x="14" y="220"/>
                  </a:lnTo>
                  <a:lnTo>
                    <a:pt x="14" y="226"/>
                  </a:lnTo>
                  <a:lnTo>
                    <a:pt x="0" y="22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6640" y="2113920"/>
              <a:ext cx="47520" cy="53640"/>
            </a:xfrm>
            <a:custGeom>
              <a:avLst/>
              <a:gdLst/>
              <a:ahLst/>
              <a:rect l="l" t="t" r="r" b="b"/>
              <a:pathLst>
                <a:path w="183" h="277">
                  <a:moveTo>
                    <a:pt x="0" y="259"/>
                  </a:moveTo>
                  <a:lnTo>
                    <a:pt x="5" y="259"/>
                  </a:lnTo>
                  <a:lnTo>
                    <a:pt x="5" y="254"/>
                  </a:lnTo>
                  <a:lnTo>
                    <a:pt x="15" y="254"/>
                  </a:lnTo>
                  <a:lnTo>
                    <a:pt x="15" y="242"/>
                  </a:lnTo>
                  <a:lnTo>
                    <a:pt x="20" y="242"/>
                  </a:lnTo>
                  <a:lnTo>
                    <a:pt x="20" y="166"/>
                  </a:lnTo>
                  <a:lnTo>
                    <a:pt x="15" y="166"/>
                  </a:lnTo>
                  <a:lnTo>
                    <a:pt x="15" y="159"/>
                  </a:lnTo>
                  <a:lnTo>
                    <a:pt x="9" y="159"/>
                  </a:lnTo>
                  <a:lnTo>
                    <a:pt x="9" y="141"/>
                  </a:lnTo>
                  <a:lnTo>
                    <a:pt x="20" y="141"/>
                  </a:lnTo>
                  <a:lnTo>
                    <a:pt x="20" y="136"/>
                  </a:lnTo>
                  <a:lnTo>
                    <a:pt x="30" y="136"/>
                  </a:lnTo>
                  <a:lnTo>
                    <a:pt x="30" y="141"/>
                  </a:lnTo>
                  <a:lnTo>
                    <a:pt x="34" y="141"/>
                  </a:lnTo>
                  <a:lnTo>
                    <a:pt x="34" y="148"/>
                  </a:lnTo>
                  <a:lnTo>
                    <a:pt x="53" y="148"/>
                  </a:lnTo>
                  <a:lnTo>
                    <a:pt x="53" y="141"/>
                  </a:lnTo>
                  <a:lnTo>
                    <a:pt x="63" y="141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18"/>
                  </a:lnTo>
                  <a:lnTo>
                    <a:pt x="72" y="118"/>
                  </a:lnTo>
                  <a:lnTo>
                    <a:pt x="72" y="99"/>
                  </a:lnTo>
                  <a:lnTo>
                    <a:pt x="77" y="99"/>
                  </a:lnTo>
                  <a:lnTo>
                    <a:pt x="77" y="71"/>
                  </a:lnTo>
                  <a:lnTo>
                    <a:pt x="120" y="71"/>
                  </a:lnTo>
                  <a:lnTo>
                    <a:pt x="120" y="64"/>
                  </a:lnTo>
                  <a:lnTo>
                    <a:pt x="126" y="64"/>
                  </a:lnTo>
                  <a:lnTo>
                    <a:pt x="126" y="58"/>
                  </a:lnTo>
                  <a:lnTo>
                    <a:pt x="130" y="58"/>
                  </a:lnTo>
                  <a:lnTo>
                    <a:pt x="130" y="53"/>
                  </a:lnTo>
                  <a:lnTo>
                    <a:pt x="135" y="53"/>
                  </a:lnTo>
                  <a:lnTo>
                    <a:pt x="135" y="47"/>
                  </a:lnTo>
                  <a:lnTo>
                    <a:pt x="140" y="47"/>
                  </a:lnTo>
                  <a:lnTo>
                    <a:pt x="140" y="41"/>
                  </a:lnTo>
                  <a:lnTo>
                    <a:pt x="145" y="41"/>
                  </a:lnTo>
                  <a:lnTo>
                    <a:pt x="145" y="34"/>
                  </a:lnTo>
                  <a:lnTo>
                    <a:pt x="149" y="34"/>
                  </a:lnTo>
                  <a:lnTo>
                    <a:pt x="149" y="30"/>
                  </a:lnTo>
                  <a:lnTo>
                    <a:pt x="153" y="30"/>
                  </a:lnTo>
                  <a:lnTo>
                    <a:pt x="153" y="22"/>
                  </a:lnTo>
                  <a:lnTo>
                    <a:pt x="159" y="22"/>
                  </a:lnTo>
                  <a:lnTo>
                    <a:pt x="159" y="17"/>
                  </a:lnTo>
                  <a:lnTo>
                    <a:pt x="163" y="17"/>
                  </a:lnTo>
                  <a:lnTo>
                    <a:pt x="163" y="12"/>
                  </a:lnTo>
                  <a:lnTo>
                    <a:pt x="169" y="12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74" y="0"/>
                  </a:lnTo>
                  <a:lnTo>
                    <a:pt x="183" y="0"/>
                  </a:lnTo>
                  <a:lnTo>
                    <a:pt x="183" y="12"/>
                  </a:lnTo>
                  <a:lnTo>
                    <a:pt x="178" y="12"/>
                  </a:lnTo>
                  <a:lnTo>
                    <a:pt x="178" y="17"/>
                  </a:lnTo>
                  <a:lnTo>
                    <a:pt x="174" y="17"/>
                  </a:lnTo>
                  <a:lnTo>
                    <a:pt x="174" y="22"/>
                  </a:lnTo>
                  <a:lnTo>
                    <a:pt x="169" y="22"/>
                  </a:lnTo>
                  <a:lnTo>
                    <a:pt x="169" y="34"/>
                  </a:lnTo>
                  <a:lnTo>
                    <a:pt x="163" y="34"/>
                  </a:lnTo>
                  <a:lnTo>
                    <a:pt x="163" y="41"/>
                  </a:lnTo>
                  <a:lnTo>
                    <a:pt x="159" y="41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53" y="53"/>
                  </a:lnTo>
                  <a:lnTo>
                    <a:pt x="149" y="53"/>
                  </a:lnTo>
                  <a:lnTo>
                    <a:pt x="149" y="58"/>
                  </a:lnTo>
                  <a:lnTo>
                    <a:pt x="145" y="58"/>
                  </a:lnTo>
                  <a:lnTo>
                    <a:pt x="145" y="64"/>
                  </a:lnTo>
                  <a:lnTo>
                    <a:pt x="140" y="64"/>
                  </a:lnTo>
                  <a:lnTo>
                    <a:pt x="140" y="71"/>
                  </a:lnTo>
                  <a:lnTo>
                    <a:pt x="130" y="71"/>
                  </a:lnTo>
                  <a:lnTo>
                    <a:pt x="130" y="76"/>
                  </a:lnTo>
                  <a:lnTo>
                    <a:pt x="126" y="76"/>
                  </a:lnTo>
                  <a:lnTo>
                    <a:pt x="126" y="82"/>
                  </a:lnTo>
                  <a:lnTo>
                    <a:pt x="116" y="82"/>
                  </a:lnTo>
                  <a:lnTo>
                    <a:pt x="116" y="88"/>
                  </a:lnTo>
                  <a:lnTo>
                    <a:pt x="97" y="88"/>
                  </a:lnTo>
                  <a:lnTo>
                    <a:pt x="97" y="99"/>
                  </a:lnTo>
                  <a:lnTo>
                    <a:pt x="91" y="99"/>
                  </a:lnTo>
                  <a:lnTo>
                    <a:pt x="91" y="118"/>
                  </a:lnTo>
                  <a:lnTo>
                    <a:pt x="86" y="118"/>
                  </a:lnTo>
                  <a:lnTo>
                    <a:pt x="86" y="123"/>
                  </a:lnTo>
                  <a:lnTo>
                    <a:pt x="82" y="123"/>
                  </a:lnTo>
                  <a:lnTo>
                    <a:pt x="82" y="129"/>
                  </a:lnTo>
                  <a:lnTo>
                    <a:pt x="77" y="129"/>
                  </a:lnTo>
                  <a:lnTo>
                    <a:pt x="77" y="136"/>
                  </a:lnTo>
                  <a:lnTo>
                    <a:pt x="72" y="136"/>
                  </a:lnTo>
                  <a:lnTo>
                    <a:pt x="72" y="148"/>
                  </a:lnTo>
                  <a:lnTo>
                    <a:pt x="67" y="148"/>
                  </a:lnTo>
                  <a:lnTo>
                    <a:pt x="67" y="153"/>
                  </a:lnTo>
                  <a:lnTo>
                    <a:pt x="63" y="153"/>
                  </a:lnTo>
                  <a:lnTo>
                    <a:pt x="63" y="159"/>
                  </a:lnTo>
                  <a:lnTo>
                    <a:pt x="49" y="159"/>
                  </a:lnTo>
                  <a:lnTo>
                    <a:pt x="49" y="166"/>
                  </a:lnTo>
                  <a:lnTo>
                    <a:pt x="34" y="166"/>
                  </a:lnTo>
                  <a:lnTo>
                    <a:pt x="34" y="200"/>
                  </a:lnTo>
                  <a:lnTo>
                    <a:pt x="39" y="200"/>
                  </a:lnTo>
                  <a:lnTo>
                    <a:pt x="39" y="225"/>
                  </a:lnTo>
                  <a:lnTo>
                    <a:pt x="34" y="225"/>
                  </a:lnTo>
                  <a:lnTo>
                    <a:pt x="34" y="259"/>
                  </a:lnTo>
                  <a:lnTo>
                    <a:pt x="30" y="259"/>
                  </a:lnTo>
                  <a:lnTo>
                    <a:pt x="30" y="267"/>
                  </a:lnTo>
                  <a:lnTo>
                    <a:pt x="20" y="267"/>
                  </a:lnTo>
                  <a:lnTo>
                    <a:pt x="20" y="272"/>
                  </a:lnTo>
                  <a:lnTo>
                    <a:pt x="15" y="272"/>
                  </a:lnTo>
                  <a:lnTo>
                    <a:pt x="15" y="277"/>
                  </a:lnTo>
                  <a:lnTo>
                    <a:pt x="5" y="277"/>
                  </a:lnTo>
                  <a:lnTo>
                    <a:pt x="5" y="272"/>
                  </a:lnTo>
                  <a:lnTo>
                    <a:pt x="0" y="272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76000" y="2224800"/>
              <a:ext cx="216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76720" y="2012400"/>
              <a:ext cx="72360" cy="30960"/>
            </a:xfrm>
            <a:custGeom>
              <a:avLst/>
              <a:gdLst/>
              <a:ahLst/>
              <a:rect l="l" t="t" r="r" b="b"/>
              <a:pathLst>
                <a:path w="279" h="159">
                  <a:moveTo>
                    <a:pt x="0" y="18"/>
                  </a:moveTo>
                  <a:lnTo>
                    <a:pt x="5" y="18"/>
                  </a:lnTo>
                  <a:lnTo>
                    <a:pt x="5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87" y="10"/>
                  </a:lnTo>
                  <a:lnTo>
                    <a:pt x="87" y="18"/>
                  </a:lnTo>
                  <a:lnTo>
                    <a:pt x="91" y="18"/>
                  </a:lnTo>
                  <a:lnTo>
                    <a:pt x="91" y="23"/>
                  </a:lnTo>
                  <a:lnTo>
                    <a:pt x="110" y="23"/>
                  </a:lnTo>
                  <a:lnTo>
                    <a:pt x="110" y="29"/>
                  </a:lnTo>
                  <a:lnTo>
                    <a:pt x="130" y="29"/>
                  </a:lnTo>
                  <a:lnTo>
                    <a:pt x="130" y="35"/>
                  </a:lnTo>
                  <a:lnTo>
                    <a:pt x="144" y="35"/>
                  </a:lnTo>
                  <a:lnTo>
                    <a:pt x="144" y="42"/>
                  </a:lnTo>
                  <a:lnTo>
                    <a:pt x="149" y="42"/>
                  </a:lnTo>
                  <a:lnTo>
                    <a:pt x="149" y="47"/>
                  </a:lnTo>
                  <a:lnTo>
                    <a:pt x="158" y="47"/>
                  </a:lnTo>
                  <a:lnTo>
                    <a:pt x="158" y="53"/>
                  </a:lnTo>
                  <a:lnTo>
                    <a:pt x="172" y="53"/>
                  </a:lnTo>
                  <a:lnTo>
                    <a:pt x="172" y="59"/>
                  </a:lnTo>
                  <a:lnTo>
                    <a:pt x="191" y="59"/>
                  </a:lnTo>
                  <a:lnTo>
                    <a:pt x="191" y="64"/>
                  </a:lnTo>
                  <a:lnTo>
                    <a:pt x="206" y="64"/>
                  </a:lnTo>
                  <a:lnTo>
                    <a:pt x="206" y="70"/>
                  </a:lnTo>
                  <a:lnTo>
                    <a:pt x="221" y="70"/>
                  </a:lnTo>
                  <a:lnTo>
                    <a:pt x="221" y="77"/>
                  </a:lnTo>
                  <a:lnTo>
                    <a:pt x="239" y="77"/>
                  </a:lnTo>
                  <a:lnTo>
                    <a:pt x="239" y="82"/>
                  </a:lnTo>
                  <a:lnTo>
                    <a:pt x="254" y="82"/>
                  </a:lnTo>
                  <a:lnTo>
                    <a:pt x="254" y="88"/>
                  </a:lnTo>
                  <a:lnTo>
                    <a:pt x="268" y="88"/>
                  </a:lnTo>
                  <a:lnTo>
                    <a:pt x="268" y="94"/>
                  </a:lnTo>
                  <a:lnTo>
                    <a:pt x="279" y="94"/>
                  </a:lnTo>
                  <a:lnTo>
                    <a:pt x="279" y="118"/>
                  </a:lnTo>
                  <a:lnTo>
                    <a:pt x="274" y="118"/>
                  </a:lnTo>
                  <a:lnTo>
                    <a:pt x="274" y="146"/>
                  </a:lnTo>
                  <a:lnTo>
                    <a:pt x="268" y="146"/>
                  </a:lnTo>
                  <a:lnTo>
                    <a:pt x="268" y="159"/>
                  </a:lnTo>
                  <a:lnTo>
                    <a:pt x="254" y="159"/>
                  </a:lnTo>
                  <a:lnTo>
                    <a:pt x="254" y="154"/>
                  </a:lnTo>
                  <a:lnTo>
                    <a:pt x="245" y="154"/>
                  </a:lnTo>
                  <a:lnTo>
                    <a:pt x="245" y="146"/>
                  </a:lnTo>
                  <a:lnTo>
                    <a:pt x="235" y="146"/>
                  </a:lnTo>
                  <a:lnTo>
                    <a:pt x="235" y="141"/>
                  </a:lnTo>
                  <a:lnTo>
                    <a:pt x="231" y="141"/>
                  </a:lnTo>
                  <a:lnTo>
                    <a:pt x="231" y="135"/>
                  </a:lnTo>
                  <a:lnTo>
                    <a:pt x="221" y="135"/>
                  </a:lnTo>
                  <a:lnTo>
                    <a:pt x="221" y="129"/>
                  </a:lnTo>
                  <a:lnTo>
                    <a:pt x="206" y="129"/>
                  </a:lnTo>
                  <a:lnTo>
                    <a:pt x="206" y="123"/>
                  </a:lnTo>
                  <a:lnTo>
                    <a:pt x="202" y="123"/>
                  </a:lnTo>
                  <a:lnTo>
                    <a:pt x="202" y="118"/>
                  </a:lnTo>
                  <a:lnTo>
                    <a:pt x="187" y="118"/>
                  </a:lnTo>
                  <a:lnTo>
                    <a:pt x="187" y="112"/>
                  </a:lnTo>
                  <a:lnTo>
                    <a:pt x="177" y="112"/>
                  </a:lnTo>
                  <a:lnTo>
                    <a:pt x="177" y="105"/>
                  </a:lnTo>
                  <a:lnTo>
                    <a:pt x="172" y="105"/>
                  </a:lnTo>
                  <a:lnTo>
                    <a:pt x="172" y="100"/>
                  </a:lnTo>
                  <a:lnTo>
                    <a:pt x="158" y="100"/>
                  </a:lnTo>
                  <a:lnTo>
                    <a:pt x="158" y="94"/>
                  </a:lnTo>
                  <a:lnTo>
                    <a:pt x="154" y="94"/>
                  </a:lnTo>
                  <a:lnTo>
                    <a:pt x="154" y="88"/>
                  </a:lnTo>
                  <a:lnTo>
                    <a:pt x="139" y="88"/>
                  </a:lnTo>
                  <a:lnTo>
                    <a:pt x="139" y="82"/>
                  </a:lnTo>
                  <a:lnTo>
                    <a:pt x="91" y="82"/>
                  </a:lnTo>
                  <a:lnTo>
                    <a:pt x="91" y="77"/>
                  </a:lnTo>
                  <a:lnTo>
                    <a:pt x="72" y="77"/>
                  </a:lnTo>
                  <a:lnTo>
                    <a:pt x="72" y="82"/>
                  </a:lnTo>
                  <a:lnTo>
                    <a:pt x="33" y="82"/>
                  </a:lnTo>
                  <a:lnTo>
                    <a:pt x="33" y="88"/>
                  </a:lnTo>
                  <a:lnTo>
                    <a:pt x="24" y="88"/>
                  </a:lnTo>
                  <a:lnTo>
                    <a:pt x="2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0" y="77"/>
                  </a:lnTo>
                  <a:lnTo>
                    <a:pt x="10" y="70"/>
                  </a:lnTo>
                  <a:lnTo>
                    <a:pt x="5" y="70"/>
                  </a:lnTo>
                  <a:lnTo>
                    <a:pt x="5" y="53"/>
                  </a:lnTo>
                  <a:lnTo>
                    <a:pt x="0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22080" y="2008440"/>
              <a:ext cx="165960" cy="61560"/>
            </a:xfrm>
            <a:custGeom>
              <a:avLst/>
              <a:gdLst/>
              <a:ahLst/>
              <a:rect l="l" t="t" r="r" b="b"/>
              <a:pathLst>
                <a:path w="640" h="313">
                  <a:moveTo>
                    <a:pt x="0" y="41"/>
                  </a:moveTo>
                  <a:lnTo>
                    <a:pt x="5" y="41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44" y="6"/>
                  </a:lnTo>
                  <a:lnTo>
                    <a:pt x="44" y="11"/>
                  </a:lnTo>
                  <a:lnTo>
                    <a:pt x="53" y="11"/>
                  </a:lnTo>
                  <a:lnTo>
                    <a:pt x="53" y="18"/>
                  </a:lnTo>
                  <a:lnTo>
                    <a:pt x="82" y="18"/>
                  </a:lnTo>
                  <a:lnTo>
                    <a:pt x="82" y="23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11" y="28"/>
                  </a:lnTo>
                  <a:lnTo>
                    <a:pt x="111" y="36"/>
                  </a:lnTo>
                  <a:lnTo>
                    <a:pt x="126" y="36"/>
                  </a:lnTo>
                  <a:lnTo>
                    <a:pt x="126" y="41"/>
                  </a:lnTo>
                  <a:lnTo>
                    <a:pt x="145" y="41"/>
                  </a:lnTo>
                  <a:lnTo>
                    <a:pt x="145" y="47"/>
                  </a:lnTo>
                  <a:lnTo>
                    <a:pt x="154" y="47"/>
                  </a:lnTo>
                  <a:lnTo>
                    <a:pt x="154" y="53"/>
                  </a:lnTo>
                  <a:lnTo>
                    <a:pt x="163" y="53"/>
                  </a:lnTo>
                  <a:lnTo>
                    <a:pt x="163" y="60"/>
                  </a:lnTo>
                  <a:lnTo>
                    <a:pt x="179" y="60"/>
                  </a:lnTo>
                  <a:lnTo>
                    <a:pt x="179" y="65"/>
                  </a:lnTo>
                  <a:lnTo>
                    <a:pt x="203" y="65"/>
                  </a:lnTo>
                  <a:lnTo>
                    <a:pt x="203" y="71"/>
                  </a:lnTo>
                  <a:lnTo>
                    <a:pt x="222" y="71"/>
                  </a:lnTo>
                  <a:lnTo>
                    <a:pt x="222" y="77"/>
                  </a:lnTo>
                  <a:lnTo>
                    <a:pt x="231" y="77"/>
                  </a:lnTo>
                  <a:lnTo>
                    <a:pt x="231" y="82"/>
                  </a:lnTo>
                  <a:lnTo>
                    <a:pt x="256" y="82"/>
                  </a:lnTo>
                  <a:lnTo>
                    <a:pt x="256" y="88"/>
                  </a:lnTo>
                  <a:lnTo>
                    <a:pt x="270" y="88"/>
                  </a:lnTo>
                  <a:lnTo>
                    <a:pt x="270" y="95"/>
                  </a:lnTo>
                  <a:lnTo>
                    <a:pt x="284" y="95"/>
                  </a:lnTo>
                  <a:lnTo>
                    <a:pt x="284" y="100"/>
                  </a:lnTo>
                  <a:lnTo>
                    <a:pt x="318" y="100"/>
                  </a:lnTo>
                  <a:lnTo>
                    <a:pt x="318" y="106"/>
                  </a:lnTo>
                  <a:lnTo>
                    <a:pt x="327" y="106"/>
                  </a:lnTo>
                  <a:lnTo>
                    <a:pt x="327" y="112"/>
                  </a:lnTo>
                  <a:lnTo>
                    <a:pt x="351" y="112"/>
                  </a:lnTo>
                  <a:lnTo>
                    <a:pt x="351" y="118"/>
                  </a:lnTo>
                  <a:lnTo>
                    <a:pt x="370" y="118"/>
                  </a:lnTo>
                  <a:lnTo>
                    <a:pt x="370" y="123"/>
                  </a:lnTo>
                  <a:lnTo>
                    <a:pt x="384" y="123"/>
                  </a:lnTo>
                  <a:lnTo>
                    <a:pt x="384" y="130"/>
                  </a:lnTo>
                  <a:lnTo>
                    <a:pt x="395" y="130"/>
                  </a:lnTo>
                  <a:lnTo>
                    <a:pt x="395" y="136"/>
                  </a:lnTo>
                  <a:lnTo>
                    <a:pt x="404" y="136"/>
                  </a:lnTo>
                  <a:lnTo>
                    <a:pt x="404" y="141"/>
                  </a:lnTo>
                  <a:lnTo>
                    <a:pt x="423" y="141"/>
                  </a:lnTo>
                  <a:lnTo>
                    <a:pt x="423" y="147"/>
                  </a:lnTo>
                  <a:lnTo>
                    <a:pt x="437" y="147"/>
                  </a:lnTo>
                  <a:lnTo>
                    <a:pt x="437" y="153"/>
                  </a:lnTo>
                  <a:lnTo>
                    <a:pt x="451" y="153"/>
                  </a:lnTo>
                  <a:lnTo>
                    <a:pt x="451" y="159"/>
                  </a:lnTo>
                  <a:lnTo>
                    <a:pt x="457" y="159"/>
                  </a:lnTo>
                  <a:lnTo>
                    <a:pt x="457" y="164"/>
                  </a:lnTo>
                  <a:lnTo>
                    <a:pt x="471" y="164"/>
                  </a:lnTo>
                  <a:lnTo>
                    <a:pt x="471" y="172"/>
                  </a:lnTo>
                  <a:lnTo>
                    <a:pt x="486" y="172"/>
                  </a:lnTo>
                  <a:lnTo>
                    <a:pt x="486" y="177"/>
                  </a:lnTo>
                  <a:lnTo>
                    <a:pt x="505" y="177"/>
                  </a:lnTo>
                  <a:lnTo>
                    <a:pt x="505" y="183"/>
                  </a:lnTo>
                  <a:lnTo>
                    <a:pt x="524" y="183"/>
                  </a:lnTo>
                  <a:lnTo>
                    <a:pt x="524" y="188"/>
                  </a:lnTo>
                  <a:lnTo>
                    <a:pt x="539" y="188"/>
                  </a:lnTo>
                  <a:lnTo>
                    <a:pt x="539" y="194"/>
                  </a:lnTo>
                  <a:lnTo>
                    <a:pt x="553" y="194"/>
                  </a:lnTo>
                  <a:lnTo>
                    <a:pt x="553" y="201"/>
                  </a:lnTo>
                  <a:lnTo>
                    <a:pt x="567" y="201"/>
                  </a:lnTo>
                  <a:lnTo>
                    <a:pt x="567" y="206"/>
                  </a:lnTo>
                  <a:lnTo>
                    <a:pt x="581" y="206"/>
                  </a:lnTo>
                  <a:lnTo>
                    <a:pt x="581" y="213"/>
                  </a:lnTo>
                  <a:lnTo>
                    <a:pt x="587" y="213"/>
                  </a:lnTo>
                  <a:lnTo>
                    <a:pt x="587" y="218"/>
                  </a:lnTo>
                  <a:lnTo>
                    <a:pt x="611" y="218"/>
                  </a:lnTo>
                  <a:lnTo>
                    <a:pt x="611" y="224"/>
                  </a:lnTo>
                  <a:lnTo>
                    <a:pt x="625" y="224"/>
                  </a:lnTo>
                  <a:lnTo>
                    <a:pt x="625" y="231"/>
                  </a:lnTo>
                  <a:lnTo>
                    <a:pt x="635" y="231"/>
                  </a:lnTo>
                  <a:lnTo>
                    <a:pt x="635" y="237"/>
                  </a:lnTo>
                  <a:lnTo>
                    <a:pt x="640" y="237"/>
                  </a:lnTo>
                  <a:lnTo>
                    <a:pt x="640" y="254"/>
                  </a:lnTo>
                  <a:lnTo>
                    <a:pt x="635" y="254"/>
                  </a:lnTo>
                  <a:lnTo>
                    <a:pt x="635" y="266"/>
                  </a:lnTo>
                  <a:lnTo>
                    <a:pt x="630" y="266"/>
                  </a:lnTo>
                  <a:lnTo>
                    <a:pt x="630" y="290"/>
                  </a:lnTo>
                  <a:lnTo>
                    <a:pt x="625" y="290"/>
                  </a:lnTo>
                  <a:lnTo>
                    <a:pt x="625" y="307"/>
                  </a:lnTo>
                  <a:lnTo>
                    <a:pt x="621" y="307"/>
                  </a:lnTo>
                  <a:lnTo>
                    <a:pt x="621" y="313"/>
                  </a:lnTo>
                  <a:lnTo>
                    <a:pt x="611" y="313"/>
                  </a:lnTo>
                  <a:lnTo>
                    <a:pt x="611" y="307"/>
                  </a:lnTo>
                  <a:lnTo>
                    <a:pt x="587" y="307"/>
                  </a:lnTo>
                  <a:lnTo>
                    <a:pt x="587" y="300"/>
                  </a:lnTo>
                  <a:lnTo>
                    <a:pt x="577" y="300"/>
                  </a:lnTo>
                  <a:lnTo>
                    <a:pt x="577" y="295"/>
                  </a:lnTo>
                  <a:lnTo>
                    <a:pt x="563" y="295"/>
                  </a:lnTo>
                  <a:lnTo>
                    <a:pt x="563" y="290"/>
                  </a:lnTo>
                  <a:lnTo>
                    <a:pt x="544" y="290"/>
                  </a:lnTo>
                  <a:lnTo>
                    <a:pt x="544" y="283"/>
                  </a:lnTo>
                  <a:lnTo>
                    <a:pt x="529" y="283"/>
                  </a:lnTo>
                  <a:lnTo>
                    <a:pt x="529" y="278"/>
                  </a:lnTo>
                  <a:lnTo>
                    <a:pt x="519" y="278"/>
                  </a:lnTo>
                  <a:lnTo>
                    <a:pt x="519" y="272"/>
                  </a:lnTo>
                  <a:lnTo>
                    <a:pt x="500" y="272"/>
                  </a:lnTo>
                  <a:lnTo>
                    <a:pt x="500" y="266"/>
                  </a:lnTo>
                  <a:lnTo>
                    <a:pt x="491" y="266"/>
                  </a:lnTo>
                  <a:lnTo>
                    <a:pt x="491" y="259"/>
                  </a:lnTo>
                  <a:lnTo>
                    <a:pt x="477" y="259"/>
                  </a:lnTo>
                  <a:lnTo>
                    <a:pt x="477" y="254"/>
                  </a:lnTo>
                  <a:lnTo>
                    <a:pt x="467" y="254"/>
                  </a:lnTo>
                  <a:lnTo>
                    <a:pt x="467" y="248"/>
                  </a:lnTo>
                  <a:lnTo>
                    <a:pt x="443" y="248"/>
                  </a:lnTo>
                  <a:lnTo>
                    <a:pt x="443" y="242"/>
                  </a:lnTo>
                  <a:lnTo>
                    <a:pt x="437" y="242"/>
                  </a:lnTo>
                  <a:lnTo>
                    <a:pt x="437" y="237"/>
                  </a:lnTo>
                  <a:lnTo>
                    <a:pt x="423" y="237"/>
                  </a:lnTo>
                  <a:lnTo>
                    <a:pt x="423" y="231"/>
                  </a:lnTo>
                  <a:lnTo>
                    <a:pt x="409" y="231"/>
                  </a:lnTo>
                  <a:lnTo>
                    <a:pt x="409" y="224"/>
                  </a:lnTo>
                  <a:lnTo>
                    <a:pt x="395" y="224"/>
                  </a:lnTo>
                  <a:lnTo>
                    <a:pt x="395" y="218"/>
                  </a:lnTo>
                  <a:lnTo>
                    <a:pt x="390" y="218"/>
                  </a:lnTo>
                  <a:lnTo>
                    <a:pt x="390" y="213"/>
                  </a:lnTo>
                  <a:lnTo>
                    <a:pt x="380" y="213"/>
                  </a:lnTo>
                  <a:lnTo>
                    <a:pt x="380" y="206"/>
                  </a:lnTo>
                  <a:lnTo>
                    <a:pt x="370" y="206"/>
                  </a:lnTo>
                  <a:lnTo>
                    <a:pt x="370" y="201"/>
                  </a:lnTo>
                  <a:lnTo>
                    <a:pt x="356" y="201"/>
                  </a:lnTo>
                  <a:lnTo>
                    <a:pt x="356" y="194"/>
                  </a:lnTo>
                  <a:lnTo>
                    <a:pt x="337" y="194"/>
                  </a:lnTo>
                  <a:lnTo>
                    <a:pt x="337" y="188"/>
                  </a:lnTo>
                  <a:lnTo>
                    <a:pt x="327" y="188"/>
                  </a:lnTo>
                  <a:lnTo>
                    <a:pt x="327" y="183"/>
                  </a:lnTo>
                  <a:lnTo>
                    <a:pt x="313" y="183"/>
                  </a:lnTo>
                  <a:lnTo>
                    <a:pt x="313" y="177"/>
                  </a:lnTo>
                  <a:lnTo>
                    <a:pt x="299" y="177"/>
                  </a:lnTo>
                  <a:lnTo>
                    <a:pt x="299" y="172"/>
                  </a:lnTo>
                  <a:lnTo>
                    <a:pt x="284" y="172"/>
                  </a:lnTo>
                  <a:lnTo>
                    <a:pt x="284" y="164"/>
                  </a:lnTo>
                  <a:lnTo>
                    <a:pt x="274" y="164"/>
                  </a:lnTo>
                  <a:lnTo>
                    <a:pt x="274" y="159"/>
                  </a:lnTo>
                  <a:lnTo>
                    <a:pt x="260" y="159"/>
                  </a:lnTo>
                  <a:lnTo>
                    <a:pt x="260" y="153"/>
                  </a:lnTo>
                  <a:lnTo>
                    <a:pt x="251" y="153"/>
                  </a:lnTo>
                  <a:lnTo>
                    <a:pt x="251" y="147"/>
                  </a:lnTo>
                  <a:lnTo>
                    <a:pt x="236" y="147"/>
                  </a:lnTo>
                  <a:lnTo>
                    <a:pt x="236" y="141"/>
                  </a:lnTo>
                  <a:lnTo>
                    <a:pt x="222" y="141"/>
                  </a:lnTo>
                  <a:lnTo>
                    <a:pt x="222" y="136"/>
                  </a:lnTo>
                  <a:lnTo>
                    <a:pt x="207" y="136"/>
                  </a:lnTo>
                  <a:lnTo>
                    <a:pt x="207" y="130"/>
                  </a:lnTo>
                  <a:lnTo>
                    <a:pt x="193" y="130"/>
                  </a:lnTo>
                  <a:lnTo>
                    <a:pt x="193" y="123"/>
                  </a:lnTo>
                  <a:lnTo>
                    <a:pt x="179" y="123"/>
                  </a:lnTo>
                  <a:lnTo>
                    <a:pt x="179" y="118"/>
                  </a:lnTo>
                  <a:lnTo>
                    <a:pt x="159" y="118"/>
                  </a:lnTo>
                  <a:lnTo>
                    <a:pt x="159" y="112"/>
                  </a:lnTo>
                  <a:lnTo>
                    <a:pt x="149" y="112"/>
                  </a:lnTo>
                  <a:lnTo>
                    <a:pt x="149" y="106"/>
                  </a:lnTo>
                  <a:lnTo>
                    <a:pt x="135" y="106"/>
                  </a:lnTo>
                  <a:lnTo>
                    <a:pt x="135" y="100"/>
                  </a:lnTo>
                  <a:lnTo>
                    <a:pt x="121" y="100"/>
                  </a:lnTo>
                  <a:lnTo>
                    <a:pt x="121" y="95"/>
                  </a:lnTo>
                  <a:lnTo>
                    <a:pt x="102" y="95"/>
                  </a:lnTo>
                  <a:lnTo>
                    <a:pt x="102" y="88"/>
                  </a:lnTo>
                  <a:lnTo>
                    <a:pt x="86" y="88"/>
                  </a:lnTo>
                  <a:lnTo>
                    <a:pt x="86" y="82"/>
                  </a:lnTo>
                  <a:lnTo>
                    <a:pt x="77" y="82"/>
                  </a:lnTo>
                  <a:lnTo>
                    <a:pt x="77" y="77"/>
                  </a:lnTo>
                  <a:lnTo>
                    <a:pt x="59" y="77"/>
                  </a:lnTo>
                  <a:lnTo>
                    <a:pt x="59" y="71"/>
                  </a:lnTo>
                  <a:lnTo>
                    <a:pt x="44" y="71"/>
                  </a:lnTo>
                  <a:lnTo>
                    <a:pt x="44" y="65"/>
                  </a:lnTo>
                  <a:lnTo>
                    <a:pt x="30" y="65"/>
                  </a:lnTo>
                  <a:lnTo>
                    <a:pt x="30" y="60"/>
                  </a:lnTo>
                  <a:lnTo>
                    <a:pt x="10" y="60"/>
                  </a:lnTo>
                  <a:lnTo>
                    <a:pt x="10" y="53"/>
                  </a:lnTo>
                  <a:lnTo>
                    <a:pt x="5" y="53"/>
                  </a:lnTo>
                  <a:lnTo>
                    <a:pt x="5" y="4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0880" y="2032920"/>
              <a:ext cx="46440" cy="30240"/>
            </a:xfrm>
            <a:custGeom>
              <a:avLst/>
              <a:gdLst/>
              <a:ahLst/>
              <a:rect l="l" t="t" r="r" b="b"/>
              <a:pathLst>
                <a:path w="182" h="155">
                  <a:moveTo>
                    <a:pt x="0" y="49"/>
                  </a:moveTo>
                  <a:lnTo>
                    <a:pt x="5" y="49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0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48" y="7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86" y="24"/>
                  </a:lnTo>
                  <a:lnTo>
                    <a:pt x="86" y="30"/>
                  </a:lnTo>
                  <a:lnTo>
                    <a:pt x="111" y="30"/>
                  </a:lnTo>
                  <a:lnTo>
                    <a:pt x="111" y="36"/>
                  </a:lnTo>
                  <a:lnTo>
                    <a:pt x="125" y="36"/>
                  </a:lnTo>
                  <a:lnTo>
                    <a:pt x="125" y="41"/>
                  </a:lnTo>
                  <a:lnTo>
                    <a:pt x="135" y="41"/>
                  </a:lnTo>
                  <a:lnTo>
                    <a:pt x="135" y="49"/>
                  </a:lnTo>
                  <a:lnTo>
                    <a:pt x="149" y="49"/>
                  </a:lnTo>
                  <a:lnTo>
                    <a:pt x="149" y="54"/>
                  </a:lnTo>
                  <a:lnTo>
                    <a:pt x="159" y="54"/>
                  </a:lnTo>
                  <a:lnTo>
                    <a:pt x="159" y="60"/>
                  </a:lnTo>
                  <a:lnTo>
                    <a:pt x="168" y="60"/>
                  </a:lnTo>
                  <a:lnTo>
                    <a:pt x="168" y="65"/>
                  </a:lnTo>
                  <a:lnTo>
                    <a:pt x="178" y="65"/>
                  </a:lnTo>
                  <a:lnTo>
                    <a:pt x="178" y="78"/>
                  </a:lnTo>
                  <a:lnTo>
                    <a:pt x="182" y="78"/>
                  </a:lnTo>
                  <a:lnTo>
                    <a:pt x="182" y="95"/>
                  </a:lnTo>
                  <a:lnTo>
                    <a:pt x="178" y="95"/>
                  </a:lnTo>
                  <a:lnTo>
                    <a:pt x="178" y="101"/>
                  </a:lnTo>
                  <a:lnTo>
                    <a:pt x="173" y="101"/>
                  </a:lnTo>
                  <a:lnTo>
                    <a:pt x="173" y="119"/>
                  </a:lnTo>
                  <a:lnTo>
                    <a:pt x="168" y="119"/>
                  </a:lnTo>
                  <a:lnTo>
                    <a:pt x="168" y="136"/>
                  </a:lnTo>
                  <a:lnTo>
                    <a:pt x="163" y="136"/>
                  </a:lnTo>
                  <a:lnTo>
                    <a:pt x="163" y="155"/>
                  </a:lnTo>
                  <a:lnTo>
                    <a:pt x="149" y="155"/>
                  </a:lnTo>
                  <a:lnTo>
                    <a:pt x="149" y="149"/>
                  </a:lnTo>
                  <a:lnTo>
                    <a:pt x="135" y="149"/>
                  </a:lnTo>
                  <a:lnTo>
                    <a:pt x="135" y="143"/>
                  </a:lnTo>
                  <a:lnTo>
                    <a:pt x="106" y="143"/>
                  </a:lnTo>
                  <a:lnTo>
                    <a:pt x="106" y="136"/>
                  </a:lnTo>
                  <a:lnTo>
                    <a:pt x="92" y="136"/>
                  </a:lnTo>
                  <a:lnTo>
                    <a:pt x="92" y="131"/>
                  </a:lnTo>
                  <a:lnTo>
                    <a:pt x="78" y="131"/>
                  </a:lnTo>
                  <a:lnTo>
                    <a:pt x="78" y="125"/>
                  </a:lnTo>
                  <a:lnTo>
                    <a:pt x="57" y="125"/>
                  </a:lnTo>
                  <a:lnTo>
                    <a:pt x="57" y="119"/>
                  </a:lnTo>
                  <a:lnTo>
                    <a:pt x="52" y="119"/>
                  </a:lnTo>
                  <a:lnTo>
                    <a:pt x="52" y="114"/>
                  </a:lnTo>
                  <a:lnTo>
                    <a:pt x="43" y="114"/>
                  </a:lnTo>
                  <a:lnTo>
                    <a:pt x="43" y="119"/>
                  </a:lnTo>
                  <a:lnTo>
                    <a:pt x="34" y="119"/>
                  </a:lnTo>
                  <a:lnTo>
                    <a:pt x="34" y="114"/>
                  </a:lnTo>
                  <a:lnTo>
                    <a:pt x="29" y="114"/>
                  </a:lnTo>
                  <a:lnTo>
                    <a:pt x="29" y="108"/>
                  </a:lnTo>
                  <a:lnTo>
                    <a:pt x="24" y="108"/>
                  </a:lnTo>
                  <a:lnTo>
                    <a:pt x="24" y="101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5" y="90"/>
                  </a:lnTo>
                  <a:lnTo>
                    <a:pt x="5" y="90"/>
                  </a:lnTo>
                  <a:lnTo>
                    <a:pt x="5" y="83"/>
                  </a:lnTo>
                  <a:lnTo>
                    <a:pt x="0" y="8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640" y="2061720"/>
              <a:ext cx="55800" cy="30240"/>
            </a:xfrm>
            <a:custGeom>
              <a:avLst/>
              <a:gdLst/>
              <a:ahLst/>
              <a:rect l="l" t="t" r="r" b="b"/>
              <a:pathLst>
                <a:path w="216" h="153">
                  <a:moveTo>
                    <a:pt x="0" y="0"/>
                  </a:moveTo>
                  <a:lnTo>
                    <a:pt x="21" y="0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39" y="11"/>
                  </a:lnTo>
                  <a:lnTo>
                    <a:pt x="63" y="11"/>
                  </a:lnTo>
                  <a:lnTo>
                    <a:pt x="63" y="18"/>
                  </a:lnTo>
                  <a:lnTo>
                    <a:pt x="83" y="18"/>
                  </a:lnTo>
                  <a:lnTo>
                    <a:pt x="83" y="23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25" y="28"/>
                  </a:lnTo>
                  <a:lnTo>
                    <a:pt x="125" y="35"/>
                  </a:lnTo>
                  <a:lnTo>
                    <a:pt x="135" y="35"/>
                  </a:lnTo>
                  <a:lnTo>
                    <a:pt x="135" y="41"/>
                  </a:lnTo>
                  <a:lnTo>
                    <a:pt x="159" y="41"/>
                  </a:lnTo>
                  <a:lnTo>
                    <a:pt x="159" y="47"/>
                  </a:lnTo>
                  <a:lnTo>
                    <a:pt x="169" y="47"/>
                  </a:lnTo>
                  <a:lnTo>
                    <a:pt x="169" y="52"/>
                  </a:lnTo>
                  <a:lnTo>
                    <a:pt x="188" y="52"/>
                  </a:lnTo>
                  <a:lnTo>
                    <a:pt x="188" y="60"/>
                  </a:lnTo>
                  <a:lnTo>
                    <a:pt x="202" y="60"/>
                  </a:lnTo>
                  <a:lnTo>
                    <a:pt x="202" y="65"/>
                  </a:lnTo>
                  <a:lnTo>
                    <a:pt x="212" y="65"/>
                  </a:lnTo>
                  <a:lnTo>
                    <a:pt x="212" y="71"/>
                  </a:lnTo>
                  <a:lnTo>
                    <a:pt x="216" y="71"/>
                  </a:lnTo>
                  <a:lnTo>
                    <a:pt x="216" y="88"/>
                  </a:lnTo>
                  <a:lnTo>
                    <a:pt x="212" y="88"/>
                  </a:lnTo>
                  <a:lnTo>
                    <a:pt x="212" y="106"/>
                  </a:lnTo>
                  <a:lnTo>
                    <a:pt x="206" y="106"/>
                  </a:lnTo>
                  <a:lnTo>
                    <a:pt x="206" y="123"/>
                  </a:lnTo>
                  <a:lnTo>
                    <a:pt x="202" y="123"/>
                  </a:lnTo>
                  <a:lnTo>
                    <a:pt x="202" y="130"/>
                  </a:lnTo>
                  <a:lnTo>
                    <a:pt x="198" y="130"/>
                  </a:lnTo>
                  <a:lnTo>
                    <a:pt x="198" y="142"/>
                  </a:lnTo>
                  <a:lnTo>
                    <a:pt x="193" y="142"/>
                  </a:lnTo>
                  <a:lnTo>
                    <a:pt x="193" y="147"/>
                  </a:lnTo>
                  <a:lnTo>
                    <a:pt x="188" y="147"/>
                  </a:lnTo>
                  <a:lnTo>
                    <a:pt x="188" y="153"/>
                  </a:lnTo>
                  <a:lnTo>
                    <a:pt x="179" y="153"/>
                  </a:lnTo>
                  <a:lnTo>
                    <a:pt x="179" y="147"/>
                  </a:lnTo>
                  <a:lnTo>
                    <a:pt x="159" y="147"/>
                  </a:lnTo>
                  <a:lnTo>
                    <a:pt x="159" y="142"/>
                  </a:lnTo>
                  <a:lnTo>
                    <a:pt x="139" y="142"/>
                  </a:lnTo>
                  <a:lnTo>
                    <a:pt x="139" y="136"/>
                  </a:lnTo>
                  <a:lnTo>
                    <a:pt x="125" y="136"/>
                  </a:lnTo>
                  <a:lnTo>
                    <a:pt x="125" y="130"/>
                  </a:lnTo>
                  <a:lnTo>
                    <a:pt x="116" y="130"/>
                  </a:lnTo>
                  <a:lnTo>
                    <a:pt x="116" y="123"/>
                  </a:lnTo>
                  <a:lnTo>
                    <a:pt x="106" y="123"/>
                  </a:lnTo>
                  <a:lnTo>
                    <a:pt x="106" y="118"/>
                  </a:lnTo>
                  <a:lnTo>
                    <a:pt x="92" y="118"/>
                  </a:lnTo>
                  <a:lnTo>
                    <a:pt x="92" y="112"/>
                  </a:lnTo>
                  <a:lnTo>
                    <a:pt x="72" y="112"/>
                  </a:lnTo>
                  <a:lnTo>
                    <a:pt x="72" y="106"/>
                  </a:lnTo>
                  <a:lnTo>
                    <a:pt x="63" y="106"/>
                  </a:lnTo>
                  <a:lnTo>
                    <a:pt x="63" y="101"/>
                  </a:lnTo>
                  <a:lnTo>
                    <a:pt x="54" y="101"/>
                  </a:lnTo>
                  <a:lnTo>
                    <a:pt x="54" y="93"/>
                  </a:lnTo>
                  <a:lnTo>
                    <a:pt x="49" y="93"/>
                  </a:lnTo>
                  <a:lnTo>
                    <a:pt x="49" y="88"/>
                  </a:lnTo>
                  <a:lnTo>
                    <a:pt x="44" y="88"/>
                  </a:lnTo>
                  <a:lnTo>
                    <a:pt x="44" y="71"/>
                  </a:lnTo>
                  <a:lnTo>
                    <a:pt x="39" y="71"/>
                  </a:lnTo>
                  <a:lnTo>
                    <a:pt x="39" y="60"/>
                  </a:lnTo>
                  <a:lnTo>
                    <a:pt x="35" y="60"/>
                  </a:lnTo>
                  <a:lnTo>
                    <a:pt x="35" y="47"/>
                  </a:lnTo>
                  <a:lnTo>
                    <a:pt x="25" y="47"/>
                  </a:lnTo>
                  <a:lnTo>
                    <a:pt x="25" y="41"/>
                  </a:lnTo>
                  <a:lnTo>
                    <a:pt x="21" y="41"/>
                  </a:lnTo>
                  <a:lnTo>
                    <a:pt x="21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11" y="18"/>
                  </a:lnTo>
                  <a:lnTo>
                    <a:pt x="6" y="18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6440" y="2087640"/>
              <a:ext cx="28080" cy="2628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82"/>
                  </a:moveTo>
                  <a:lnTo>
                    <a:pt x="5" y="82"/>
                  </a:lnTo>
                  <a:lnTo>
                    <a:pt x="5" y="41"/>
                  </a:lnTo>
                  <a:lnTo>
                    <a:pt x="10" y="41"/>
                  </a:lnTo>
                  <a:lnTo>
                    <a:pt x="10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2" y="17"/>
                  </a:lnTo>
                  <a:lnTo>
                    <a:pt x="87" y="17"/>
                  </a:lnTo>
                  <a:lnTo>
                    <a:pt x="87" y="23"/>
                  </a:lnTo>
                  <a:lnTo>
                    <a:pt x="101" y="23"/>
                  </a:lnTo>
                  <a:lnTo>
                    <a:pt x="101" y="29"/>
                  </a:lnTo>
                  <a:lnTo>
                    <a:pt x="106" y="29"/>
                  </a:lnTo>
                  <a:lnTo>
                    <a:pt x="106" y="36"/>
                  </a:lnTo>
                  <a:lnTo>
                    <a:pt x="101" y="36"/>
                  </a:lnTo>
                  <a:lnTo>
                    <a:pt x="101" y="47"/>
                  </a:lnTo>
                  <a:lnTo>
                    <a:pt x="91" y="47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7" y="77"/>
                  </a:lnTo>
                  <a:lnTo>
                    <a:pt x="81" y="77"/>
                  </a:lnTo>
                  <a:lnTo>
                    <a:pt x="81" y="107"/>
                  </a:lnTo>
                  <a:lnTo>
                    <a:pt x="77" y="107"/>
                  </a:lnTo>
                  <a:lnTo>
                    <a:pt x="77" y="117"/>
                  </a:lnTo>
                  <a:lnTo>
                    <a:pt x="72" y="117"/>
                  </a:lnTo>
                  <a:lnTo>
                    <a:pt x="72" y="136"/>
                  </a:lnTo>
                  <a:lnTo>
                    <a:pt x="53" y="136"/>
                  </a:lnTo>
                  <a:lnTo>
                    <a:pt x="53" y="129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28" y="124"/>
                  </a:lnTo>
                  <a:lnTo>
                    <a:pt x="28" y="117"/>
                  </a:lnTo>
                  <a:lnTo>
                    <a:pt x="10" y="117"/>
                  </a:lnTo>
                  <a:lnTo>
                    <a:pt x="10" y="112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0" y="10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8320" y="3030480"/>
              <a:ext cx="424080" cy="408600"/>
            </a:xfrm>
            <a:custGeom>
              <a:avLst/>
              <a:gdLst/>
              <a:ahLst/>
              <a:rect l="l" t="t" r="r" b="b"/>
              <a:pathLst>
                <a:path w="1632" h="2098">
                  <a:moveTo>
                    <a:pt x="0" y="655"/>
                  </a:moveTo>
                  <a:lnTo>
                    <a:pt x="9" y="655"/>
                  </a:lnTo>
                  <a:lnTo>
                    <a:pt x="9" y="650"/>
                  </a:lnTo>
                  <a:lnTo>
                    <a:pt x="14" y="650"/>
                  </a:lnTo>
                  <a:lnTo>
                    <a:pt x="14" y="644"/>
                  </a:lnTo>
                  <a:lnTo>
                    <a:pt x="18" y="644"/>
                  </a:lnTo>
                  <a:lnTo>
                    <a:pt x="18" y="638"/>
                  </a:lnTo>
                  <a:lnTo>
                    <a:pt x="28" y="638"/>
                  </a:lnTo>
                  <a:lnTo>
                    <a:pt x="28" y="633"/>
                  </a:lnTo>
                  <a:lnTo>
                    <a:pt x="33" y="633"/>
                  </a:lnTo>
                  <a:lnTo>
                    <a:pt x="33" y="626"/>
                  </a:lnTo>
                  <a:lnTo>
                    <a:pt x="43" y="626"/>
                  </a:lnTo>
                  <a:lnTo>
                    <a:pt x="43" y="620"/>
                  </a:lnTo>
                  <a:lnTo>
                    <a:pt x="51" y="620"/>
                  </a:lnTo>
                  <a:lnTo>
                    <a:pt x="51" y="614"/>
                  </a:lnTo>
                  <a:lnTo>
                    <a:pt x="57" y="614"/>
                  </a:lnTo>
                  <a:lnTo>
                    <a:pt x="57" y="609"/>
                  </a:lnTo>
                  <a:lnTo>
                    <a:pt x="62" y="609"/>
                  </a:lnTo>
                  <a:lnTo>
                    <a:pt x="62" y="601"/>
                  </a:lnTo>
                  <a:lnTo>
                    <a:pt x="71" y="601"/>
                  </a:lnTo>
                  <a:lnTo>
                    <a:pt x="71" y="596"/>
                  </a:lnTo>
                  <a:lnTo>
                    <a:pt x="85" y="596"/>
                  </a:lnTo>
                  <a:lnTo>
                    <a:pt x="85" y="591"/>
                  </a:lnTo>
                  <a:lnTo>
                    <a:pt x="91" y="591"/>
                  </a:lnTo>
                  <a:lnTo>
                    <a:pt x="91" y="584"/>
                  </a:lnTo>
                  <a:lnTo>
                    <a:pt x="100" y="584"/>
                  </a:lnTo>
                  <a:lnTo>
                    <a:pt x="100" y="579"/>
                  </a:lnTo>
                  <a:lnTo>
                    <a:pt x="110" y="579"/>
                  </a:lnTo>
                  <a:lnTo>
                    <a:pt x="110" y="573"/>
                  </a:lnTo>
                  <a:lnTo>
                    <a:pt x="118" y="573"/>
                  </a:lnTo>
                  <a:lnTo>
                    <a:pt x="118" y="568"/>
                  </a:lnTo>
                  <a:lnTo>
                    <a:pt x="124" y="568"/>
                  </a:lnTo>
                  <a:lnTo>
                    <a:pt x="124" y="555"/>
                  </a:lnTo>
                  <a:lnTo>
                    <a:pt x="128" y="555"/>
                  </a:lnTo>
                  <a:lnTo>
                    <a:pt x="128" y="549"/>
                  </a:lnTo>
                  <a:lnTo>
                    <a:pt x="139" y="549"/>
                  </a:lnTo>
                  <a:lnTo>
                    <a:pt x="139" y="543"/>
                  </a:lnTo>
                  <a:lnTo>
                    <a:pt x="144" y="543"/>
                  </a:lnTo>
                  <a:lnTo>
                    <a:pt x="144" y="538"/>
                  </a:lnTo>
                  <a:lnTo>
                    <a:pt x="148" y="538"/>
                  </a:lnTo>
                  <a:lnTo>
                    <a:pt x="148" y="532"/>
                  </a:lnTo>
                  <a:lnTo>
                    <a:pt x="158" y="532"/>
                  </a:lnTo>
                  <a:lnTo>
                    <a:pt x="158" y="525"/>
                  </a:lnTo>
                  <a:lnTo>
                    <a:pt x="167" y="525"/>
                  </a:lnTo>
                  <a:lnTo>
                    <a:pt x="167" y="519"/>
                  </a:lnTo>
                  <a:lnTo>
                    <a:pt x="172" y="519"/>
                  </a:lnTo>
                  <a:lnTo>
                    <a:pt x="172" y="514"/>
                  </a:lnTo>
                  <a:lnTo>
                    <a:pt x="181" y="514"/>
                  </a:lnTo>
                  <a:lnTo>
                    <a:pt x="181" y="508"/>
                  </a:lnTo>
                  <a:lnTo>
                    <a:pt x="187" y="508"/>
                  </a:lnTo>
                  <a:lnTo>
                    <a:pt x="187" y="502"/>
                  </a:lnTo>
                  <a:lnTo>
                    <a:pt x="191" y="502"/>
                  </a:lnTo>
                  <a:lnTo>
                    <a:pt x="191" y="495"/>
                  </a:lnTo>
                  <a:lnTo>
                    <a:pt x="195" y="495"/>
                  </a:lnTo>
                  <a:lnTo>
                    <a:pt x="195" y="490"/>
                  </a:lnTo>
                  <a:lnTo>
                    <a:pt x="201" y="490"/>
                  </a:lnTo>
                  <a:lnTo>
                    <a:pt x="201" y="484"/>
                  </a:lnTo>
                  <a:lnTo>
                    <a:pt x="206" y="484"/>
                  </a:lnTo>
                  <a:lnTo>
                    <a:pt x="206" y="478"/>
                  </a:lnTo>
                  <a:lnTo>
                    <a:pt x="211" y="478"/>
                  </a:lnTo>
                  <a:lnTo>
                    <a:pt x="211" y="473"/>
                  </a:lnTo>
                  <a:lnTo>
                    <a:pt x="215" y="473"/>
                  </a:lnTo>
                  <a:lnTo>
                    <a:pt x="215" y="465"/>
                  </a:lnTo>
                  <a:lnTo>
                    <a:pt x="225" y="465"/>
                  </a:lnTo>
                  <a:lnTo>
                    <a:pt x="225" y="460"/>
                  </a:lnTo>
                  <a:lnTo>
                    <a:pt x="230" y="460"/>
                  </a:lnTo>
                  <a:lnTo>
                    <a:pt x="230" y="454"/>
                  </a:lnTo>
                  <a:lnTo>
                    <a:pt x="235" y="454"/>
                  </a:lnTo>
                  <a:lnTo>
                    <a:pt x="235" y="449"/>
                  </a:lnTo>
                  <a:lnTo>
                    <a:pt x="244" y="449"/>
                  </a:lnTo>
                  <a:lnTo>
                    <a:pt x="244" y="442"/>
                  </a:lnTo>
                  <a:lnTo>
                    <a:pt x="249" y="442"/>
                  </a:lnTo>
                  <a:lnTo>
                    <a:pt x="249" y="432"/>
                  </a:lnTo>
                  <a:lnTo>
                    <a:pt x="263" y="432"/>
                  </a:lnTo>
                  <a:lnTo>
                    <a:pt x="263" y="424"/>
                  </a:lnTo>
                  <a:lnTo>
                    <a:pt x="268" y="424"/>
                  </a:lnTo>
                  <a:lnTo>
                    <a:pt x="268" y="419"/>
                  </a:lnTo>
                  <a:lnTo>
                    <a:pt x="278" y="419"/>
                  </a:lnTo>
                  <a:lnTo>
                    <a:pt x="278" y="413"/>
                  </a:lnTo>
                  <a:lnTo>
                    <a:pt x="283" y="413"/>
                  </a:lnTo>
                  <a:lnTo>
                    <a:pt x="283" y="407"/>
                  </a:lnTo>
                  <a:lnTo>
                    <a:pt x="292" y="407"/>
                  </a:lnTo>
                  <a:lnTo>
                    <a:pt x="292" y="401"/>
                  </a:lnTo>
                  <a:lnTo>
                    <a:pt x="302" y="401"/>
                  </a:lnTo>
                  <a:lnTo>
                    <a:pt x="302" y="396"/>
                  </a:lnTo>
                  <a:lnTo>
                    <a:pt x="307" y="396"/>
                  </a:lnTo>
                  <a:lnTo>
                    <a:pt x="307" y="389"/>
                  </a:lnTo>
                  <a:lnTo>
                    <a:pt x="317" y="389"/>
                  </a:lnTo>
                  <a:lnTo>
                    <a:pt x="317" y="383"/>
                  </a:lnTo>
                  <a:lnTo>
                    <a:pt x="321" y="383"/>
                  </a:lnTo>
                  <a:lnTo>
                    <a:pt x="321" y="378"/>
                  </a:lnTo>
                  <a:lnTo>
                    <a:pt x="325" y="378"/>
                  </a:lnTo>
                  <a:lnTo>
                    <a:pt x="325" y="372"/>
                  </a:lnTo>
                  <a:lnTo>
                    <a:pt x="335" y="372"/>
                  </a:lnTo>
                  <a:lnTo>
                    <a:pt x="335" y="366"/>
                  </a:lnTo>
                  <a:lnTo>
                    <a:pt x="345" y="366"/>
                  </a:lnTo>
                  <a:lnTo>
                    <a:pt x="345" y="359"/>
                  </a:lnTo>
                  <a:lnTo>
                    <a:pt x="355" y="359"/>
                  </a:lnTo>
                  <a:lnTo>
                    <a:pt x="355" y="354"/>
                  </a:lnTo>
                  <a:lnTo>
                    <a:pt x="359" y="354"/>
                  </a:lnTo>
                  <a:lnTo>
                    <a:pt x="359" y="348"/>
                  </a:lnTo>
                  <a:lnTo>
                    <a:pt x="365" y="348"/>
                  </a:lnTo>
                  <a:lnTo>
                    <a:pt x="365" y="342"/>
                  </a:lnTo>
                  <a:lnTo>
                    <a:pt x="369" y="342"/>
                  </a:lnTo>
                  <a:lnTo>
                    <a:pt x="369" y="337"/>
                  </a:lnTo>
                  <a:lnTo>
                    <a:pt x="384" y="337"/>
                  </a:lnTo>
                  <a:lnTo>
                    <a:pt x="384" y="331"/>
                  </a:lnTo>
                  <a:lnTo>
                    <a:pt x="393" y="331"/>
                  </a:lnTo>
                  <a:lnTo>
                    <a:pt x="393" y="324"/>
                  </a:lnTo>
                  <a:lnTo>
                    <a:pt x="398" y="324"/>
                  </a:lnTo>
                  <a:lnTo>
                    <a:pt x="398" y="318"/>
                  </a:lnTo>
                  <a:lnTo>
                    <a:pt x="407" y="318"/>
                  </a:lnTo>
                  <a:lnTo>
                    <a:pt x="407" y="313"/>
                  </a:lnTo>
                  <a:lnTo>
                    <a:pt x="412" y="313"/>
                  </a:lnTo>
                  <a:lnTo>
                    <a:pt x="412" y="307"/>
                  </a:lnTo>
                  <a:lnTo>
                    <a:pt x="422" y="307"/>
                  </a:lnTo>
                  <a:lnTo>
                    <a:pt x="422" y="301"/>
                  </a:lnTo>
                  <a:lnTo>
                    <a:pt x="432" y="301"/>
                  </a:lnTo>
                  <a:lnTo>
                    <a:pt x="432" y="296"/>
                  </a:lnTo>
                  <a:lnTo>
                    <a:pt x="436" y="296"/>
                  </a:lnTo>
                  <a:lnTo>
                    <a:pt x="436" y="288"/>
                  </a:lnTo>
                  <a:lnTo>
                    <a:pt x="442" y="288"/>
                  </a:lnTo>
                  <a:lnTo>
                    <a:pt x="442" y="283"/>
                  </a:lnTo>
                  <a:lnTo>
                    <a:pt x="451" y="283"/>
                  </a:lnTo>
                  <a:lnTo>
                    <a:pt x="451" y="277"/>
                  </a:lnTo>
                  <a:lnTo>
                    <a:pt x="455" y="277"/>
                  </a:lnTo>
                  <a:lnTo>
                    <a:pt x="455" y="272"/>
                  </a:lnTo>
                  <a:lnTo>
                    <a:pt x="465" y="272"/>
                  </a:lnTo>
                  <a:lnTo>
                    <a:pt x="465" y="266"/>
                  </a:lnTo>
                  <a:lnTo>
                    <a:pt x="475" y="266"/>
                  </a:lnTo>
                  <a:lnTo>
                    <a:pt x="475" y="260"/>
                  </a:lnTo>
                  <a:lnTo>
                    <a:pt x="479" y="260"/>
                  </a:lnTo>
                  <a:lnTo>
                    <a:pt x="479" y="255"/>
                  </a:lnTo>
                  <a:lnTo>
                    <a:pt x="484" y="255"/>
                  </a:lnTo>
                  <a:lnTo>
                    <a:pt x="484" y="247"/>
                  </a:lnTo>
                  <a:lnTo>
                    <a:pt x="489" y="247"/>
                  </a:lnTo>
                  <a:lnTo>
                    <a:pt x="489" y="242"/>
                  </a:lnTo>
                  <a:lnTo>
                    <a:pt x="493" y="242"/>
                  </a:lnTo>
                  <a:lnTo>
                    <a:pt x="493" y="230"/>
                  </a:lnTo>
                  <a:lnTo>
                    <a:pt x="499" y="230"/>
                  </a:lnTo>
                  <a:lnTo>
                    <a:pt x="499" y="225"/>
                  </a:lnTo>
                  <a:lnTo>
                    <a:pt x="509" y="225"/>
                  </a:lnTo>
                  <a:lnTo>
                    <a:pt x="509" y="218"/>
                  </a:lnTo>
                  <a:lnTo>
                    <a:pt x="518" y="218"/>
                  </a:lnTo>
                  <a:lnTo>
                    <a:pt x="518" y="212"/>
                  </a:lnTo>
                  <a:lnTo>
                    <a:pt x="523" y="212"/>
                  </a:lnTo>
                  <a:lnTo>
                    <a:pt x="523" y="206"/>
                  </a:lnTo>
                  <a:lnTo>
                    <a:pt x="532" y="206"/>
                  </a:lnTo>
                  <a:lnTo>
                    <a:pt x="532" y="195"/>
                  </a:lnTo>
                  <a:lnTo>
                    <a:pt x="542" y="195"/>
                  </a:lnTo>
                  <a:lnTo>
                    <a:pt x="542" y="188"/>
                  </a:lnTo>
                  <a:lnTo>
                    <a:pt x="551" y="188"/>
                  </a:lnTo>
                  <a:lnTo>
                    <a:pt x="551" y="177"/>
                  </a:lnTo>
                  <a:lnTo>
                    <a:pt x="561" y="177"/>
                  </a:lnTo>
                  <a:lnTo>
                    <a:pt x="561" y="171"/>
                  </a:lnTo>
                  <a:lnTo>
                    <a:pt x="565" y="171"/>
                  </a:lnTo>
                  <a:lnTo>
                    <a:pt x="565" y="165"/>
                  </a:lnTo>
                  <a:lnTo>
                    <a:pt x="572" y="165"/>
                  </a:lnTo>
                  <a:lnTo>
                    <a:pt x="572" y="160"/>
                  </a:lnTo>
                  <a:lnTo>
                    <a:pt x="576" y="160"/>
                  </a:lnTo>
                  <a:lnTo>
                    <a:pt x="576" y="153"/>
                  </a:lnTo>
                  <a:lnTo>
                    <a:pt x="586" y="153"/>
                  </a:lnTo>
                  <a:lnTo>
                    <a:pt x="586" y="147"/>
                  </a:lnTo>
                  <a:lnTo>
                    <a:pt x="590" y="147"/>
                  </a:lnTo>
                  <a:lnTo>
                    <a:pt x="590" y="141"/>
                  </a:lnTo>
                  <a:lnTo>
                    <a:pt x="595" y="141"/>
                  </a:lnTo>
                  <a:lnTo>
                    <a:pt x="595" y="128"/>
                  </a:lnTo>
                  <a:lnTo>
                    <a:pt x="599" y="128"/>
                  </a:lnTo>
                  <a:lnTo>
                    <a:pt x="599" y="123"/>
                  </a:lnTo>
                  <a:lnTo>
                    <a:pt x="605" y="123"/>
                  </a:lnTo>
                  <a:lnTo>
                    <a:pt x="605" y="118"/>
                  </a:lnTo>
                  <a:lnTo>
                    <a:pt x="614" y="118"/>
                  </a:lnTo>
                  <a:lnTo>
                    <a:pt x="614" y="111"/>
                  </a:lnTo>
                  <a:lnTo>
                    <a:pt x="619" y="111"/>
                  </a:lnTo>
                  <a:lnTo>
                    <a:pt x="619" y="106"/>
                  </a:lnTo>
                  <a:lnTo>
                    <a:pt x="623" y="106"/>
                  </a:lnTo>
                  <a:lnTo>
                    <a:pt x="623" y="100"/>
                  </a:lnTo>
                  <a:lnTo>
                    <a:pt x="628" y="100"/>
                  </a:lnTo>
                  <a:lnTo>
                    <a:pt x="628" y="95"/>
                  </a:lnTo>
                  <a:lnTo>
                    <a:pt x="633" y="95"/>
                  </a:lnTo>
                  <a:lnTo>
                    <a:pt x="633" y="87"/>
                  </a:lnTo>
                  <a:lnTo>
                    <a:pt x="648" y="87"/>
                  </a:lnTo>
                  <a:lnTo>
                    <a:pt x="648" y="82"/>
                  </a:lnTo>
                  <a:lnTo>
                    <a:pt x="653" y="82"/>
                  </a:lnTo>
                  <a:lnTo>
                    <a:pt x="653" y="76"/>
                  </a:lnTo>
                  <a:lnTo>
                    <a:pt x="658" y="76"/>
                  </a:lnTo>
                  <a:lnTo>
                    <a:pt x="658" y="70"/>
                  </a:lnTo>
                  <a:lnTo>
                    <a:pt x="662" y="70"/>
                  </a:lnTo>
                  <a:lnTo>
                    <a:pt x="662" y="65"/>
                  </a:lnTo>
                  <a:lnTo>
                    <a:pt x="672" y="65"/>
                  </a:lnTo>
                  <a:lnTo>
                    <a:pt x="672" y="59"/>
                  </a:lnTo>
                  <a:lnTo>
                    <a:pt x="676" y="59"/>
                  </a:lnTo>
                  <a:lnTo>
                    <a:pt x="676" y="52"/>
                  </a:lnTo>
                  <a:lnTo>
                    <a:pt x="691" y="52"/>
                  </a:lnTo>
                  <a:lnTo>
                    <a:pt x="691" y="46"/>
                  </a:lnTo>
                  <a:lnTo>
                    <a:pt x="695" y="46"/>
                  </a:lnTo>
                  <a:lnTo>
                    <a:pt x="695" y="22"/>
                  </a:lnTo>
                  <a:lnTo>
                    <a:pt x="705" y="22"/>
                  </a:lnTo>
                  <a:lnTo>
                    <a:pt x="705" y="17"/>
                  </a:lnTo>
                  <a:lnTo>
                    <a:pt x="709" y="17"/>
                  </a:lnTo>
                  <a:lnTo>
                    <a:pt x="709" y="5"/>
                  </a:lnTo>
                  <a:lnTo>
                    <a:pt x="725" y="5"/>
                  </a:lnTo>
                  <a:lnTo>
                    <a:pt x="725" y="0"/>
                  </a:lnTo>
                  <a:lnTo>
                    <a:pt x="734" y="0"/>
                  </a:lnTo>
                  <a:lnTo>
                    <a:pt x="734" y="5"/>
                  </a:lnTo>
                  <a:lnTo>
                    <a:pt x="739" y="5"/>
                  </a:lnTo>
                  <a:lnTo>
                    <a:pt x="739" y="11"/>
                  </a:lnTo>
                  <a:lnTo>
                    <a:pt x="743" y="11"/>
                  </a:lnTo>
                  <a:lnTo>
                    <a:pt x="743" y="17"/>
                  </a:lnTo>
                  <a:lnTo>
                    <a:pt x="749" y="17"/>
                  </a:lnTo>
                  <a:lnTo>
                    <a:pt x="749" y="22"/>
                  </a:lnTo>
                  <a:lnTo>
                    <a:pt x="753" y="22"/>
                  </a:lnTo>
                  <a:lnTo>
                    <a:pt x="753" y="29"/>
                  </a:lnTo>
                  <a:lnTo>
                    <a:pt x="757" y="29"/>
                  </a:lnTo>
                  <a:lnTo>
                    <a:pt x="757" y="35"/>
                  </a:lnTo>
                  <a:lnTo>
                    <a:pt x="767" y="35"/>
                  </a:lnTo>
                  <a:lnTo>
                    <a:pt x="767" y="41"/>
                  </a:lnTo>
                  <a:lnTo>
                    <a:pt x="772" y="41"/>
                  </a:lnTo>
                  <a:lnTo>
                    <a:pt x="772" y="59"/>
                  </a:lnTo>
                  <a:lnTo>
                    <a:pt x="777" y="59"/>
                  </a:lnTo>
                  <a:lnTo>
                    <a:pt x="777" y="70"/>
                  </a:lnTo>
                  <a:lnTo>
                    <a:pt x="782" y="70"/>
                  </a:lnTo>
                  <a:lnTo>
                    <a:pt x="782" y="87"/>
                  </a:lnTo>
                  <a:lnTo>
                    <a:pt x="787" y="87"/>
                  </a:lnTo>
                  <a:lnTo>
                    <a:pt x="787" y="100"/>
                  </a:lnTo>
                  <a:lnTo>
                    <a:pt x="792" y="100"/>
                  </a:lnTo>
                  <a:lnTo>
                    <a:pt x="792" y="111"/>
                  </a:lnTo>
                  <a:lnTo>
                    <a:pt x="797" y="111"/>
                  </a:lnTo>
                  <a:lnTo>
                    <a:pt x="797" y="118"/>
                  </a:lnTo>
                  <a:lnTo>
                    <a:pt x="801" y="118"/>
                  </a:lnTo>
                  <a:lnTo>
                    <a:pt x="801" y="123"/>
                  </a:lnTo>
                  <a:lnTo>
                    <a:pt x="806" y="123"/>
                  </a:lnTo>
                  <a:lnTo>
                    <a:pt x="806" y="128"/>
                  </a:lnTo>
                  <a:lnTo>
                    <a:pt x="811" y="128"/>
                  </a:lnTo>
                  <a:lnTo>
                    <a:pt x="811" y="141"/>
                  </a:lnTo>
                  <a:lnTo>
                    <a:pt x="816" y="141"/>
                  </a:lnTo>
                  <a:lnTo>
                    <a:pt x="816" y="147"/>
                  </a:lnTo>
                  <a:lnTo>
                    <a:pt x="820" y="147"/>
                  </a:lnTo>
                  <a:lnTo>
                    <a:pt x="820" y="160"/>
                  </a:lnTo>
                  <a:lnTo>
                    <a:pt x="825" y="160"/>
                  </a:lnTo>
                  <a:lnTo>
                    <a:pt x="825" y="171"/>
                  </a:lnTo>
                  <a:lnTo>
                    <a:pt x="830" y="171"/>
                  </a:lnTo>
                  <a:lnTo>
                    <a:pt x="830" y="177"/>
                  </a:lnTo>
                  <a:lnTo>
                    <a:pt x="834" y="177"/>
                  </a:lnTo>
                  <a:lnTo>
                    <a:pt x="834" y="188"/>
                  </a:lnTo>
                  <a:lnTo>
                    <a:pt x="839" y="188"/>
                  </a:lnTo>
                  <a:lnTo>
                    <a:pt x="839" y="195"/>
                  </a:lnTo>
                  <a:lnTo>
                    <a:pt x="844" y="195"/>
                  </a:lnTo>
                  <a:lnTo>
                    <a:pt x="844" y="206"/>
                  </a:lnTo>
                  <a:lnTo>
                    <a:pt x="849" y="206"/>
                  </a:lnTo>
                  <a:lnTo>
                    <a:pt x="849" y="212"/>
                  </a:lnTo>
                  <a:lnTo>
                    <a:pt x="853" y="212"/>
                  </a:lnTo>
                  <a:lnTo>
                    <a:pt x="853" y="218"/>
                  </a:lnTo>
                  <a:lnTo>
                    <a:pt x="864" y="218"/>
                  </a:lnTo>
                  <a:lnTo>
                    <a:pt x="864" y="225"/>
                  </a:lnTo>
                  <a:lnTo>
                    <a:pt x="869" y="225"/>
                  </a:lnTo>
                  <a:lnTo>
                    <a:pt x="869" y="230"/>
                  </a:lnTo>
                  <a:lnTo>
                    <a:pt x="874" y="230"/>
                  </a:lnTo>
                  <a:lnTo>
                    <a:pt x="874" y="236"/>
                  </a:lnTo>
                  <a:lnTo>
                    <a:pt x="878" y="236"/>
                  </a:lnTo>
                  <a:lnTo>
                    <a:pt x="878" y="247"/>
                  </a:lnTo>
                  <a:lnTo>
                    <a:pt x="883" y="247"/>
                  </a:lnTo>
                  <a:lnTo>
                    <a:pt x="883" y="255"/>
                  </a:lnTo>
                  <a:lnTo>
                    <a:pt x="893" y="255"/>
                  </a:lnTo>
                  <a:lnTo>
                    <a:pt x="893" y="266"/>
                  </a:lnTo>
                  <a:lnTo>
                    <a:pt x="897" y="266"/>
                  </a:lnTo>
                  <a:lnTo>
                    <a:pt x="897" y="272"/>
                  </a:lnTo>
                  <a:lnTo>
                    <a:pt x="902" y="272"/>
                  </a:lnTo>
                  <a:lnTo>
                    <a:pt x="902" y="277"/>
                  </a:lnTo>
                  <a:lnTo>
                    <a:pt x="907" y="277"/>
                  </a:lnTo>
                  <a:lnTo>
                    <a:pt x="907" y="283"/>
                  </a:lnTo>
                  <a:lnTo>
                    <a:pt x="912" y="283"/>
                  </a:lnTo>
                  <a:lnTo>
                    <a:pt x="912" y="288"/>
                  </a:lnTo>
                  <a:lnTo>
                    <a:pt x="916" y="288"/>
                  </a:lnTo>
                  <a:lnTo>
                    <a:pt x="916" y="296"/>
                  </a:lnTo>
                  <a:lnTo>
                    <a:pt x="926" y="296"/>
                  </a:lnTo>
                  <a:lnTo>
                    <a:pt x="926" y="301"/>
                  </a:lnTo>
                  <a:lnTo>
                    <a:pt x="931" y="301"/>
                  </a:lnTo>
                  <a:lnTo>
                    <a:pt x="931" y="313"/>
                  </a:lnTo>
                  <a:lnTo>
                    <a:pt x="936" y="313"/>
                  </a:lnTo>
                  <a:lnTo>
                    <a:pt x="936" y="324"/>
                  </a:lnTo>
                  <a:lnTo>
                    <a:pt x="941" y="324"/>
                  </a:lnTo>
                  <a:lnTo>
                    <a:pt x="941" y="331"/>
                  </a:lnTo>
                  <a:lnTo>
                    <a:pt x="946" y="331"/>
                  </a:lnTo>
                  <a:lnTo>
                    <a:pt x="946" y="337"/>
                  </a:lnTo>
                  <a:lnTo>
                    <a:pt x="950" y="337"/>
                  </a:lnTo>
                  <a:lnTo>
                    <a:pt x="950" y="342"/>
                  </a:lnTo>
                  <a:lnTo>
                    <a:pt x="956" y="342"/>
                  </a:lnTo>
                  <a:lnTo>
                    <a:pt x="956" y="354"/>
                  </a:lnTo>
                  <a:lnTo>
                    <a:pt x="960" y="354"/>
                  </a:lnTo>
                  <a:lnTo>
                    <a:pt x="960" y="359"/>
                  </a:lnTo>
                  <a:lnTo>
                    <a:pt x="964" y="359"/>
                  </a:lnTo>
                  <a:lnTo>
                    <a:pt x="964" y="366"/>
                  </a:lnTo>
                  <a:lnTo>
                    <a:pt x="970" y="366"/>
                  </a:lnTo>
                  <a:lnTo>
                    <a:pt x="970" y="372"/>
                  </a:lnTo>
                  <a:lnTo>
                    <a:pt x="974" y="372"/>
                  </a:lnTo>
                  <a:lnTo>
                    <a:pt x="974" y="378"/>
                  </a:lnTo>
                  <a:lnTo>
                    <a:pt x="979" y="378"/>
                  </a:lnTo>
                  <a:lnTo>
                    <a:pt x="979" y="383"/>
                  </a:lnTo>
                  <a:lnTo>
                    <a:pt x="983" y="383"/>
                  </a:lnTo>
                  <a:lnTo>
                    <a:pt x="983" y="389"/>
                  </a:lnTo>
                  <a:lnTo>
                    <a:pt x="989" y="389"/>
                  </a:lnTo>
                  <a:lnTo>
                    <a:pt x="989" y="396"/>
                  </a:lnTo>
                  <a:lnTo>
                    <a:pt x="993" y="396"/>
                  </a:lnTo>
                  <a:lnTo>
                    <a:pt x="993" y="401"/>
                  </a:lnTo>
                  <a:lnTo>
                    <a:pt x="998" y="401"/>
                  </a:lnTo>
                  <a:lnTo>
                    <a:pt x="998" y="413"/>
                  </a:lnTo>
                  <a:lnTo>
                    <a:pt x="1004" y="413"/>
                  </a:lnTo>
                  <a:lnTo>
                    <a:pt x="1004" y="419"/>
                  </a:lnTo>
                  <a:lnTo>
                    <a:pt x="1008" y="419"/>
                  </a:lnTo>
                  <a:lnTo>
                    <a:pt x="1008" y="432"/>
                  </a:lnTo>
                  <a:lnTo>
                    <a:pt x="1013" y="432"/>
                  </a:lnTo>
                  <a:lnTo>
                    <a:pt x="1013" y="442"/>
                  </a:lnTo>
                  <a:lnTo>
                    <a:pt x="1018" y="442"/>
                  </a:lnTo>
                  <a:lnTo>
                    <a:pt x="1018" y="449"/>
                  </a:lnTo>
                  <a:lnTo>
                    <a:pt x="1023" y="449"/>
                  </a:lnTo>
                  <a:lnTo>
                    <a:pt x="1023" y="454"/>
                  </a:lnTo>
                  <a:lnTo>
                    <a:pt x="1027" y="454"/>
                  </a:lnTo>
                  <a:lnTo>
                    <a:pt x="1027" y="460"/>
                  </a:lnTo>
                  <a:lnTo>
                    <a:pt x="1032" y="460"/>
                  </a:lnTo>
                  <a:lnTo>
                    <a:pt x="1032" y="465"/>
                  </a:lnTo>
                  <a:lnTo>
                    <a:pt x="1037" y="465"/>
                  </a:lnTo>
                  <a:lnTo>
                    <a:pt x="1037" y="473"/>
                  </a:lnTo>
                  <a:lnTo>
                    <a:pt x="1041" y="473"/>
                  </a:lnTo>
                  <a:lnTo>
                    <a:pt x="1041" y="478"/>
                  </a:lnTo>
                  <a:lnTo>
                    <a:pt x="1046" y="478"/>
                  </a:lnTo>
                  <a:lnTo>
                    <a:pt x="1046" y="490"/>
                  </a:lnTo>
                  <a:lnTo>
                    <a:pt x="1051" y="490"/>
                  </a:lnTo>
                  <a:lnTo>
                    <a:pt x="1051" y="495"/>
                  </a:lnTo>
                  <a:lnTo>
                    <a:pt x="1056" y="495"/>
                  </a:lnTo>
                  <a:lnTo>
                    <a:pt x="1056" y="502"/>
                  </a:lnTo>
                  <a:lnTo>
                    <a:pt x="1060" y="502"/>
                  </a:lnTo>
                  <a:lnTo>
                    <a:pt x="1060" y="514"/>
                  </a:lnTo>
                  <a:lnTo>
                    <a:pt x="1065" y="514"/>
                  </a:lnTo>
                  <a:lnTo>
                    <a:pt x="1065" y="519"/>
                  </a:lnTo>
                  <a:lnTo>
                    <a:pt x="1070" y="519"/>
                  </a:lnTo>
                  <a:lnTo>
                    <a:pt x="1070" y="525"/>
                  </a:lnTo>
                  <a:lnTo>
                    <a:pt x="1076" y="525"/>
                  </a:lnTo>
                  <a:lnTo>
                    <a:pt x="1076" y="538"/>
                  </a:lnTo>
                  <a:lnTo>
                    <a:pt x="1080" y="538"/>
                  </a:lnTo>
                  <a:lnTo>
                    <a:pt x="1080" y="543"/>
                  </a:lnTo>
                  <a:lnTo>
                    <a:pt x="1085" y="543"/>
                  </a:lnTo>
                  <a:lnTo>
                    <a:pt x="1085" y="549"/>
                  </a:lnTo>
                  <a:lnTo>
                    <a:pt x="1090" y="549"/>
                  </a:lnTo>
                  <a:lnTo>
                    <a:pt x="1090" y="555"/>
                  </a:lnTo>
                  <a:lnTo>
                    <a:pt x="1094" y="555"/>
                  </a:lnTo>
                  <a:lnTo>
                    <a:pt x="1094" y="568"/>
                  </a:lnTo>
                  <a:lnTo>
                    <a:pt x="1099" y="568"/>
                  </a:lnTo>
                  <a:lnTo>
                    <a:pt x="1099" y="573"/>
                  </a:lnTo>
                  <a:lnTo>
                    <a:pt x="1104" y="573"/>
                  </a:lnTo>
                  <a:lnTo>
                    <a:pt x="1104" y="579"/>
                  </a:lnTo>
                  <a:lnTo>
                    <a:pt x="1108" y="579"/>
                  </a:lnTo>
                  <a:lnTo>
                    <a:pt x="1108" y="584"/>
                  </a:lnTo>
                  <a:lnTo>
                    <a:pt x="1114" y="584"/>
                  </a:lnTo>
                  <a:lnTo>
                    <a:pt x="1114" y="591"/>
                  </a:lnTo>
                  <a:lnTo>
                    <a:pt x="1118" y="591"/>
                  </a:lnTo>
                  <a:lnTo>
                    <a:pt x="1118" y="596"/>
                  </a:lnTo>
                  <a:lnTo>
                    <a:pt x="1123" y="596"/>
                  </a:lnTo>
                  <a:lnTo>
                    <a:pt x="1123" y="601"/>
                  </a:lnTo>
                  <a:lnTo>
                    <a:pt x="1127" y="601"/>
                  </a:lnTo>
                  <a:lnTo>
                    <a:pt x="1127" y="614"/>
                  </a:lnTo>
                  <a:lnTo>
                    <a:pt x="1132" y="614"/>
                  </a:lnTo>
                  <a:lnTo>
                    <a:pt x="1132" y="626"/>
                  </a:lnTo>
                  <a:lnTo>
                    <a:pt x="1137" y="626"/>
                  </a:lnTo>
                  <a:lnTo>
                    <a:pt x="1137" y="633"/>
                  </a:lnTo>
                  <a:lnTo>
                    <a:pt x="1141" y="633"/>
                  </a:lnTo>
                  <a:lnTo>
                    <a:pt x="1141" y="638"/>
                  </a:lnTo>
                  <a:lnTo>
                    <a:pt x="1148" y="638"/>
                  </a:lnTo>
                  <a:lnTo>
                    <a:pt x="1148" y="644"/>
                  </a:lnTo>
                  <a:lnTo>
                    <a:pt x="1152" y="644"/>
                  </a:lnTo>
                  <a:lnTo>
                    <a:pt x="1152" y="650"/>
                  </a:lnTo>
                  <a:lnTo>
                    <a:pt x="1157" y="650"/>
                  </a:lnTo>
                  <a:lnTo>
                    <a:pt x="1157" y="661"/>
                  </a:lnTo>
                  <a:lnTo>
                    <a:pt x="1162" y="661"/>
                  </a:lnTo>
                  <a:lnTo>
                    <a:pt x="1162" y="668"/>
                  </a:lnTo>
                  <a:lnTo>
                    <a:pt x="1167" y="668"/>
                  </a:lnTo>
                  <a:lnTo>
                    <a:pt x="1167" y="679"/>
                  </a:lnTo>
                  <a:lnTo>
                    <a:pt x="1171" y="679"/>
                  </a:lnTo>
                  <a:lnTo>
                    <a:pt x="1171" y="685"/>
                  </a:lnTo>
                  <a:lnTo>
                    <a:pt x="1176" y="685"/>
                  </a:lnTo>
                  <a:lnTo>
                    <a:pt x="1176" y="691"/>
                  </a:lnTo>
                  <a:lnTo>
                    <a:pt x="1181" y="691"/>
                  </a:lnTo>
                  <a:lnTo>
                    <a:pt x="1181" y="696"/>
                  </a:lnTo>
                  <a:lnTo>
                    <a:pt x="1185" y="696"/>
                  </a:lnTo>
                  <a:lnTo>
                    <a:pt x="1185" y="709"/>
                  </a:lnTo>
                  <a:lnTo>
                    <a:pt x="1190" y="709"/>
                  </a:lnTo>
                  <a:lnTo>
                    <a:pt x="1190" y="715"/>
                  </a:lnTo>
                  <a:lnTo>
                    <a:pt x="1195" y="715"/>
                  </a:lnTo>
                  <a:lnTo>
                    <a:pt x="1195" y="720"/>
                  </a:lnTo>
                  <a:lnTo>
                    <a:pt x="1200" y="720"/>
                  </a:lnTo>
                  <a:lnTo>
                    <a:pt x="1200" y="727"/>
                  </a:lnTo>
                  <a:lnTo>
                    <a:pt x="1209" y="727"/>
                  </a:lnTo>
                  <a:lnTo>
                    <a:pt x="1209" y="732"/>
                  </a:lnTo>
                  <a:lnTo>
                    <a:pt x="1214" y="732"/>
                  </a:lnTo>
                  <a:lnTo>
                    <a:pt x="1214" y="739"/>
                  </a:lnTo>
                  <a:lnTo>
                    <a:pt x="1219" y="739"/>
                  </a:lnTo>
                  <a:lnTo>
                    <a:pt x="1219" y="750"/>
                  </a:lnTo>
                  <a:lnTo>
                    <a:pt x="1224" y="750"/>
                  </a:lnTo>
                  <a:lnTo>
                    <a:pt x="1224" y="761"/>
                  </a:lnTo>
                  <a:lnTo>
                    <a:pt x="1229" y="761"/>
                  </a:lnTo>
                  <a:lnTo>
                    <a:pt x="1229" y="767"/>
                  </a:lnTo>
                  <a:lnTo>
                    <a:pt x="1234" y="767"/>
                  </a:lnTo>
                  <a:lnTo>
                    <a:pt x="1234" y="774"/>
                  </a:lnTo>
                  <a:lnTo>
                    <a:pt x="1238" y="774"/>
                  </a:lnTo>
                  <a:lnTo>
                    <a:pt x="1238" y="779"/>
                  </a:lnTo>
                  <a:lnTo>
                    <a:pt x="1244" y="779"/>
                  </a:lnTo>
                  <a:lnTo>
                    <a:pt x="1244" y="791"/>
                  </a:lnTo>
                  <a:lnTo>
                    <a:pt x="1248" y="791"/>
                  </a:lnTo>
                  <a:lnTo>
                    <a:pt x="1248" y="797"/>
                  </a:lnTo>
                  <a:lnTo>
                    <a:pt x="1253" y="797"/>
                  </a:lnTo>
                  <a:lnTo>
                    <a:pt x="1253" y="804"/>
                  </a:lnTo>
                  <a:lnTo>
                    <a:pt x="1258" y="804"/>
                  </a:lnTo>
                  <a:lnTo>
                    <a:pt x="1258" y="815"/>
                  </a:lnTo>
                  <a:lnTo>
                    <a:pt x="1262" y="815"/>
                  </a:lnTo>
                  <a:lnTo>
                    <a:pt x="1262" y="821"/>
                  </a:lnTo>
                  <a:lnTo>
                    <a:pt x="1267" y="821"/>
                  </a:lnTo>
                  <a:lnTo>
                    <a:pt x="1267" y="827"/>
                  </a:lnTo>
                  <a:lnTo>
                    <a:pt x="1277" y="827"/>
                  </a:lnTo>
                  <a:lnTo>
                    <a:pt x="1277" y="832"/>
                  </a:lnTo>
                  <a:lnTo>
                    <a:pt x="1281" y="832"/>
                  </a:lnTo>
                  <a:lnTo>
                    <a:pt x="1281" y="839"/>
                  </a:lnTo>
                  <a:lnTo>
                    <a:pt x="1286" y="839"/>
                  </a:lnTo>
                  <a:lnTo>
                    <a:pt x="1286" y="845"/>
                  </a:lnTo>
                  <a:lnTo>
                    <a:pt x="1292" y="845"/>
                  </a:lnTo>
                  <a:lnTo>
                    <a:pt x="1292" y="856"/>
                  </a:lnTo>
                  <a:lnTo>
                    <a:pt x="1297" y="856"/>
                  </a:lnTo>
                  <a:lnTo>
                    <a:pt x="1297" y="862"/>
                  </a:lnTo>
                  <a:lnTo>
                    <a:pt x="1301" y="862"/>
                  </a:lnTo>
                  <a:lnTo>
                    <a:pt x="1301" y="868"/>
                  </a:lnTo>
                  <a:lnTo>
                    <a:pt x="1306" y="868"/>
                  </a:lnTo>
                  <a:lnTo>
                    <a:pt x="1306" y="873"/>
                  </a:lnTo>
                  <a:lnTo>
                    <a:pt x="1311" y="873"/>
                  </a:lnTo>
                  <a:lnTo>
                    <a:pt x="1311" y="880"/>
                  </a:lnTo>
                  <a:lnTo>
                    <a:pt x="1315" y="880"/>
                  </a:lnTo>
                  <a:lnTo>
                    <a:pt x="1315" y="886"/>
                  </a:lnTo>
                  <a:lnTo>
                    <a:pt x="1320" y="886"/>
                  </a:lnTo>
                  <a:lnTo>
                    <a:pt x="1320" y="892"/>
                  </a:lnTo>
                  <a:lnTo>
                    <a:pt x="1325" y="892"/>
                  </a:lnTo>
                  <a:lnTo>
                    <a:pt x="1325" y="897"/>
                  </a:lnTo>
                  <a:lnTo>
                    <a:pt x="1334" y="897"/>
                  </a:lnTo>
                  <a:lnTo>
                    <a:pt x="1334" y="905"/>
                  </a:lnTo>
                  <a:lnTo>
                    <a:pt x="1344" y="905"/>
                  </a:lnTo>
                  <a:lnTo>
                    <a:pt x="1344" y="910"/>
                  </a:lnTo>
                  <a:lnTo>
                    <a:pt x="1348" y="910"/>
                  </a:lnTo>
                  <a:lnTo>
                    <a:pt x="1348" y="922"/>
                  </a:lnTo>
                  <a:lnTo>
                    <a:pt x="1354" y="922"/>
                  </a:lnTo>
                  <a:lnTo>
                    <a:pt x="1354" y="927"/>
                  </a:lnTo>
                  <a:lnTo>
                    <a:pt x="1358" y="927"/>
                  </a:lnTo>
                  <a:lnTo>
                    <a:pt x="1358" y="933"/>
                  </a:lnTo>
                  <a:lnTo>
                    <a:pt x="1368" y="933"/>
                  </a:lnTo>
                  <a:lnTo>
                    <a:pt x="1368" y="938"/>
                  </a:lnTo>
                  <a:lnTo>
                    <a:pt x="1374" y="938"/>
                  </a:lnTo>
                  <a:lnTo>
                    <a:pt x="1374" y="946"/>
                  </a:lnTo>
                  <a:lnTo>
                    <a:pt x="1378" y="946"/>
                  </a:lnTo>
                  <a:lnTo>
                    <a:pt x="1378" y="951"/>
                  </a:lnTo>
                  <a:lnTo>
                    <a:pt x="1382" y="951"/>
                  </a:lnTo>
                  <a:lnTo>
                    <a:pt x="1382" y="957"/>
                  </a:lnTo>
                  <a:lnTo>
                    <a:pt x="1388" y="957"/>
                  </a:lnTo>
                  <a:lnTo>
                    <a:pt x="1388" y="963"/>
                  </a:lnTo>
                  <a:lnTo>
                    <a:pt x="1392" y="963"/>
                  </a:lnTo>
                  <a:lnTo>
                    <a:pt x="1392" y="968"/>
                  </a:lnTo>
                  <a:lnTo>
                    <a:pt x="1397" y="968"/>
                  </a:lnTo>
                  <a:lnTo>
                    <a:pt x="1397" y="975"/>
                  </a:lnTo>
                  <a:lnTo>
                    <a:pt x="1402" y="975"/>
                  </a:lnTo>
                  <a:lnTo>
                    <a:pt x="1402" y="981"/>
                  </a:lnTo>
                  <a:lnTo>
                    <a:pt x="1407" y="981"/>
                  </a:lnTo>
                  <a:lnTo>
                    <a:pt x="1407" y="987"/>
                  </a:lnTo>
                  <a:lnTo>
                    <a:pt x="1411" y="987"/>
                  </a:lnTo>
                  <a:lnTo>
                    <a:pt x="1411" y="992"/>
                  </a:lnTo>
                  <a:lnTo>
                    <a:pt x="1416" y="992"/>
                  </a:lnTo>
                  <a:lnTo>
                    <a:pt x="1416" y="998"/>
                  </a:lnTo>
                  <a:lnTo>
                    <a:pt x="1421" y="998"/>
                  </a:lnTo>
                  <a:lnTo>
                    <a:pt x="1421" y="1004"/>
                  </a:lnTo>
                  <a:lnTo>
                    <a:pt x="1430" y="1004"/>
                  </a:lnTo>
                  <a:lnTo>
                    <a:pt x="1430" y="1009"/>
                  </a:lnTo>
                  <a:lnTo>
                    <a:pt x="1436" y="1009"/>
                  </a:lnTo>
                  <a:lnTo>
                    <a:pt x="1436" y="1016"/>
                  </a:lnTo>
                  <a:lnTo>
                    <a:pt x="1445" y="1016"/>
                  </a:lnTo>
                  <a:lnTo>
                    <a:pt x="1445" y="1022"/>
                  </a:lnTo>
                  <a:lnTo>
                    <a:pt x="1450" y="1022"/>
                  </a:lnTo>
                  <a:lnTo>
                    <a:pt x="1450" y="1028"/>
                  </a:lnTo>
                  <a:lnTo>
                    <a:pt x="1455" y="1028"/>
                  </a:lnTo>
                  <a:lnTo>
                    <a:pt x="1455" y="1033"/>
                  </a:lnTo>
                  <a:lnTo>
                    <a:pt x="1464" y="1033"/>
                  </a:lnTo>
                  <a:lnTo>
                    <a:pt x="1464" y="1041"/>
                  </a:lnTo>
                  <a:lnTo>
                    <a:pt x="1478" y="1041"/>
                  </a:lnTo>
                  <a:lnTo>
                    <a:pt x="1478" y="1046"/>
                  </a:lnTo>
                  <a:lnTo>
                    <a:pt x="1483" y="1046"/>
                  </a:lnTo>
                  <a:lnTo>
                    <a:pt x="1483" y="1052"/>
                  </a:lnTo>
                  <a:lnTo>
                    <a:pt x="1488" y="1052"/>
                  </a:lnTo>
                  <a:lnTo>
                    <a:pt x="1488" y="1057"/>
                  </a:lnTo>
                  <a:lnTo>
                    <a:pt x="1492" y="1057"/>
                  </a:lnTo>
                  <a:lnTo>
                    <a:pt x="1492" y="1063"/>
                  </a:lnTo>
                  <a:lnTo>
                    <a:pt x="1502" y="1063"/>
                  </a:lnTo>
                  <a:lnTo>
                    <a:pt x="1502" y="1069"/>
                  </a:lnTo>
                  <a:lnTo>
                    <a:pt x="1507" y="1069"/>
                  </a:lnTo>
                  <a:lnTo>
                    <a:pt x="1507" y="1074"/>
                  </a:lnTo>
                  <a:lnTo>
                    <a:pt x="1512" y="1074"/>
                  </a:lnTo>
                  <a:lnTo>
                    <a:pt x="1512" y="1082"/>
                  </a:lnTo>
                  <a:lnTo>
                    <a:pt x="1522" y="1082"/>
                  </a:lnTo>
                  <a:lnTo>
                    <a:pt x="1522" y="1087"/>
                  </a:lnTo>
                  <a:lnTo>
                    <a:pt x="1532" y="1087"/>
                  </a:lnTo>
                  <a:lnTo>
                    <a:pt x="1532" y="1093"/>
                  </a:lnTo>
                  <a:lnTo>
                    <a:pt x="1536" y="1093"/>
                  </a:lnTo>
                  <a:lnTo>
                    <a:pt x="1536" y="1099"/>
                  </a:lnTo>
                  <a:lnTo>
                    <a:pt x="1541" y="1099"/>
                  </a:lnTo>
                  <a:lnTo>
                    <a:pt x="1541" y="1106"/>
                  </a:lnTo>
                  <a:lnTo>
                    <a:pt x="1555" y="1106"/>
                  </a:lnTo>
                  <a:lnTo>
                    <a:pt x="1555" y="1111"/>
                  </a:lnTo>
                  <a:lnTo>
                    <a:pt x="1560" y="1111"/>
                  </a:lnTo>
                  <a:lnTo>
                    <a:pt x="1560" y="1117"/>
                  </a:lnTo>
                  <a:lnTo>
                    <a:pt x="1569" y="1117"/>
                  </a:lnTo>
                  <a:lnTo>
                    <a:pt x="1569" y="1123"/>
                  </a:lnTo>
                  <a:lnTo>
                    <a:pt x="1589" y="1123"/>
                  </a:lnTo>
                  <a:lnTo>
                    <a:pt x="1589" y="1128"/>
                  </a:lnTo>
                  <a:lnTo>
                    <a:pt x="1599" y="1128"/>
                  </a:lnTo>
                  <a:lnTo>
                    <a:pt x="1599" y="1134"/>
                  </a:lnTo>
                  <a:lnTo>
                    <a:pt x="1608" y="1134"/>
                  </a:lnTo>
                  <a:lnTo>
                    <a:pt x="1608" y="1140"/>
                  </a:lnTo>
                  <a:lnTo>
                    <a:pt x="1613" y="1140"/>
                  </a:lnTo>
                  <a:lnTo>
                    <a:pt x="1613" y="1147"/>
                  </a:lnTo>
                  <a:lnTo>
                    <a:pt x="1618" y="1147"/>
                  </a:lnTo>
                  <a:lnTo>
                    <a:pt x="1618" y="1164"/>
                  </a:lnTo>
                  <a:lnTo>
                    <a:pt x="1622" y="1164"/>
                  </a:lnTo>
                  <a:lnTo>
                    <a:pt x="1622" y="1169"/>
                  </a:lnTo>
                  <a:lnTo>
                    <a:pt x="1628" y="1169"/>
                  </a:lnTo>
                  <a:lnTo>
                    <a:pt x="1628" y="1210"/>
                  </a:lnTo>
                  <a:lnTo>
                    <a:pt x="1632" y="1210"/>
                  </a:lnTo>
                  <a:lnTo>
                    <a:pt x="1632" y="1223"/>
                  </a:lnTo>
                  <a:lnTo>
                    <a:pt x="1628" y="1223"/>
                  </a:lnTo>
                  <a:lnTo>
                    <a:pt x="1628" y="1228"/>
                  </a:lnTo>
                  <a:lnTo>
                    <a:pt x="1618" y="1228"/>
                  </a:lnTo>
                  <a:lnTo>
                    <a:pt x="1618" y="1234"/>
                  </a:lnTo>
                  <a:lnTo>
                    <a:pt x="1589" y="1234"/>
                  </a:lnTo>
                  <a:lnTo>
                    <a:pt x="1589" y="1240"/>
                  </a:lnTo>
                  <a:lnTo>
                    <a:pt x="1574" y="1240"/>
                  </a:lnTo>
                  <a:lnTo>
                    <a:pt x="1574" y="1247"/>
                  </a:lnTo>
                  <a:lnTo>
                    <a:pt x="1569" y="1247"/>
                  </a:lnTo>
                  <a:lnTo>
                    <a:pt x="1569" y="1252"/>
                  </a:lnTo>
                  <a:lnTo>
                    <a:pt x="1555" y="1252"/>
                  </a:lnTo>
                  <a:lnTo>
                    <a:pt x="1555" y="1259"/>
                  </a:lnTo>
                  <a:lnTo>
                    <a:pt x="1546" y="1259"/>
                  </a:lnTo>
                  <a:lnTo>
                    <a:pt x="1546" y="1264"/>
                  </a:lnTo>
                  <a:lnTo>
                    <a:pt x="1541" y="1264"/>
                  </a:lnTo>
                  <a:lnTo>
                    <a:pt x="1541" y="1270"/>
                  </a:lnTo>
                  <a:lnTo>
                    <a:pt x="1526" y="1270"/>
                  </a:lnTo>
                  <a:lnTo>
                    <a:pt x="1526" y="1276"/>
                  </a:lnTo>
                  <a:lnTo>
                    <a:pt x="1517" y="1276"/>
                  </a:lnTo>
                  <a:lnTo>
                    <a:pt x="1517" y="1281"/>
                  </a:lnTo>
                  <a:lnTo>
                    <a:pt x="1507" y="1281"/>
                  </a:lnTo>
                  <a:lnTo>
                    <a:pt x="1507" y="1288"/>
                  </a:lnTo>
                  <a:lnTo>
                    <a:pt x="1498" y="1288"/>
                  </a:lnTo>
                  <a:lnTo>
                    <a:pt x="1498" y="1294"/>
                  </a:lnTo>
                  <a:lnTo>
                    <a:pt x="1492" y="1294"/>
                  </a:lnTo>
                  <a:lnTo>
                    <a:pt x="1492" y="1300"/>
                  </a:lnTo>
                  <a:lnTo>
                    <a:pt x="1478" y="1300"/>
                  </a:lnTo>
                  <a:lnTo>
                    <a:pt x="1478" y="1305"/>
                  </a:lnTo>
                  <a:lnTo>
                    <a:pt x="1473" y="1305"/>
                  </a:lnTo>
                  <a:lnTo>
                    <a:pt x="1473" y="1311"/>
                  </a:lnTo>
                  <a:lnTo>
                    <a:pt x="1455" y="1311"/>
                  </a:lnTo>
                  <a:lnTo>
                    <a:pt x="1455" y="1318"/>
                  </a:lnTo>
                  <a:lnTo>
                    <a:pt x="1445" y="1318"/>
                  </a:lnTo>
                  <a:lnTo>
                    <a:pt x="1445" y="1324"/>
                  </a:lnTo>
                  <a:lnTo>
                    <a:pt x="1440" y="1324"/>
                  </a:lnTo>
                  <a:lnTo>
                    <a:pt x="1440" y="1329"/>
                  </a:lnTo>
                  <a:lnTo>
                    <a:pt x="1436" y="1329"/>
                  </a:lnTo>
                  <a:lnTo>
                    <a:pt x="1436" y="1335"/>
                  </a:lnTo>
                  <a:lnTo>
                    <a:pt x="1425" y="1335"/>
                  </a:lnTo>
                  <a:lnTo>
                    <a:pt x="1425" y="1341"/>
                  </a:lnTo>
                  <a:lnTo>
                    <a:pt x="1421" y="1341"/>
                  </a:lnTo>
                  <a:lnTo>
                    <a:pt x="1421" y="1346"/>
                  </a:lnTo>
                  <a:lnTo>
                    <a:pt x="1416" y="1346"/>
                  </a:lnTo>
                  <a:lnTo>
                    <a:pt x="1416" y="1353"/>
                  </a:lnTo>
                  <a:lnTo>
                    <a:pt x="1407" y="1353"/>
                  </a:lnTo>
                  <a:lnTo>
                    <a:pt x="1407" y="1359"/>
                  </a:lnTo>
                  <a:lnTo>
                    <a:pt x="1392" y="1359"/>
                  </a:lnTo>
                  <a:lnTo>
                    <a:pt x="1392" y="1365"/>
                  </a:lnTo>
                  <a:lnTo>
                    <a:pt x="1388" y="1365"/>
                  </a:lnTo>
                  <a:lnTo>
                    <a:pt x="1388" y="1370"/>
                  </a:lnTo>
                  <a:lnTo>
                    <a:pt x="1378" y="1370"/>
                  </a:lnTo>
                  <a:lnTo>
                    <a:pt x="1378" y="1376"/>
                  </a:lnTo>
                  <a:lnTo>
                    <a:pt x="1374" y="1376"/>
                  </a:lnTo>
                  <a:lnTo>
                    <a:pt x="1374" y="1383"/>
                  </a:lnTo>
                  <a:lnTo>
                    <a:pt x="1368" y="1383"/>
                  </a:lnTo>
                  <a:lnTo>
                    <a:pt x="1368" y="1388"/>
                  </a:lnTo>
                  <a:lnTo>
                    <a:pt x="1364" y="1388"/>
                  </a:lnTo>
                  <a:lnTo>
                    <a:pt x="1364" y="1395"/>
                  </a:lnTo>
                  <a:lnTo>
                    <a:pt x="1358" y="1395"/>
                  </a:lnTo>
                  <a:lnTo>
                    <a:pt x="1358" y="1400"/>
                  </a:lnTo>
                  <a:lnTo>
                    <a:pt x="1344" y="1400"/>
                  </a:lnTo>
                  <a:lnTo>
                    <a:pt x="1344" y="1406"/>
                  </a:lnTo>
                  <a:lnTo>
                    <a:pt x="1334" y="1406"/>
                  </a:lnTo>
                  <a:lnTo>
                    <a:pt x="1334" y="1411"/>
                  </a:lnTo>
                  <a:lnTo>
                    <a:pt x="1325" y="1411"/>
                  </a:lnTo>
                  <a:lnTo>
                    <a:pt x="1325" y="1419"/>
                  </a:lnTo>
                  <a:lnTo>
                    <a:pt x="1315" y="1419"/>
                  </a:lnTo>
                  <a:lnTo>
                    <a:pt x="1315" y="1424"/>
                  </a:lnTo>
                  <a:lnTo>
                    <a:pt x="1301" y="1424"/>
                  </a:lnTo>
                  <a:lnTo>
                    <a:pt x="1301" y="1429"/>
                  </a:lnTo>
                  <a:lnTo>
                    <a:pt x="1297" y="1429"/>
                  </a:lnTo>
                  <a:lnTo>
                    <a:pt x="1297" y="1436"/>
                  </a:lnTo>
                  <a:lnTo>
                    <a:pt x="1281" y="1436"/>
                  </a:lnTo>
                  <a:lnTo>
                    <a:pt x="1281" y="1441"/>
                  </a:lnTo>
                  <a:lnTo>
                    <a:pt x="1267" y="1441"/>
                  </a:lnTo>
                  <a:lnTo>
                    <a:pt x="1267" y="1447"/>
                  </a:lnTo>
                  <a:lnTo>
                    <a:pt x="1262" y="1447"/>
                  </a:lnTo>
                  <a:lnTo>
                    <a:pt x="1262" y="1454"/>
                  </a:lnTo>
                  <a:lnTo>
                    <a:pt x="1253" y="1454"/>
                  </a:lnTo>
                  <a:lnTo>
                    <a:pt x="1253" y="1460"/>
                  </a:lnTo>
                  <a:lnTo>
                    <a:pt x="1248" y="1460"/>
                  </a:lnTo>
                  <a:lnTo>
                    <a:pt x="1248" y="1465"/>
                  </a:lnTo>
                  <a:lnTo>
                    <a:pt x="1234" y="1465"/>
                  </a:lnTo>
                  <a:lnTo>
                    <a:pt x="1234" y="1471"/>
                  </a:lnTo>
                  <a:lnTo>
                    <a:pt x="1224" y="1471"/>
                  </a:lnTo>
                  <a:lnTo>
                    <a:pt x="1224" y="1477"/>
                  </a:lnTo>
                  <a:lnTo>
                    <a:pt x="1219" y="1477"/>
                  </a:lnTo>
                  <a:lnTo>
                    <a:pt x="1219" y="1482"/>
                  </a:lnTo>
                  <a:lnTo>
                    <a:pt x="1209" y="1482"/>
                  </a:lnTo>
                  <a:lnTo>
                    <a:pt x="1209" y="1489"/>
                  </a:lnTo>
                  <a:lnTo>
                    <a:pt x="1200" y="1489"/>
                  </a:lnTo>
                  <a:lnTo>
                    <a:pt x="1200" y="1495"/>
                  </a:lnTo>
                  <a:lnTo>
                    <a:pt x="1185" y="1495"/>
                  </a:lnTo>
                  <a:lnTo>
                    <a:pt x="1185" y="1501"/>
                  </a:lnTo>
                  <a:lnTo>
                    <a:pt x="1181" y="1501"/>
                  </a:lnTo>
                  <a:lnTo>
                    <a:pt x="1181" y="1506"/>
                  </a:lnTo>
                  <a:lnTo>
                    <a:pt x="1171" y="1506"/>
                  </a:lnTo>
                  <a:lnTo>
                    <a:pt x="1171" y="1514"/>
                  </a:lnTo>
                  <a:lnTo>
                    <a:pt x="1162" y="1514"/>
                  </a:lnTo>
                  <a:lnTo>
                    <a:pt x="1162" y="1519"/>
                  </a:lnTo>
                  <a:lnTo>
                    <a:pt x="1152" y="1519"/>
                  </a:lnTo>
                  <a:lnTo>
                    <a:pt x="1152" y="1525"/>
                  </a:lnTo>
                  <a:lnTo>
                    <a:pt x="1141" y="1525"/>
                  </a:lnTo>
                  <a:lnTo>
                    <a:pt x="1141" y="1530"/>
                  </a:lnTo>
                  <a:lnTo>
                    <a:pt x="1132" y="1530"/>
                  </a:lnTo>
                  <a:lnTo>
                    <a:pt x="1132" y="1536"/>
                  </a:lnTo>
                  <a:lnTo>
                    <a:pt x="1127" y="1536"/>
                  </a:lnTo>
                  <a:lnTo>
                    <a:pt x="1127" y="1542"/>
                  </a:lnTo>
                  <a:lnTo>
                    <a:pt x="1114" y="1542"/>
                  </a:lnTo>
                  <a:lnTo>
                    <a:pt x="1114" y="1547"/>
                  </a:lnTo>
                  <a:lnTo>
                    <a:pt x="1108" y="1547"/>
                  </a:lnTo>
                  <a:lnTo>
                    <a:pt x="1108" y="1555"/>
                  </a:lnTo>
                  <a:lnTo>
                    <a:pt x="1099" y="1555"/>
                  </a:lnTo>
                  <a:lnTo>
                    <a:pt x="1099" y="1560"/>
                  </a:lnTo>
                  <a:lnTo>
                    <a:pt x="1090" y="1560"/>
                  </a:lnTo>
                  <a:lnTo>
                    <a:pt x="1090" y="1566"/>
                  </a:lnTo>
                  <a:lnTo>
                    <a:pt x="1080" y="1566"/>
                  </a:lnTo>
                  <a:lnTo>
                    <a:pt x="1080" y="1572"/>
                  </a:lnTo>
                  <a:lnTo>
                    <a:pt x="1070" y="1572"/>
                  </a:lnTo>
                  <a:lnTo>
                    <a:pt x="1070" y="1578"/>
                  </a:lnTo>
                  <a:lnTo>
                    <a:pt x="1060" y="1578"/>
                  </a:lnTo>
                  <a:lnTo>
                    <a:pt x="1060" y="1583"/>
                  </a:lnTo>
                  <a:lnTo>
                    <a:pt x="1056" y="1583"/>
                  </a:lnTo>
                  <a:lnTo>
                    <a:pt x="1056" y="1590"/>
                  </a:lnTo>
                  <a:lnTo>
                    <a:pt x="1041" y="1590"/>
                  </a:lnTo>
                  <a:lnTo>
                    <a:pt x="1041" y="1595"/>
                  </a:lnTo>
                  <a:lnTo>
                    <a:pt x="1032" y="1595"/>
                  </a:lnTo>
                  <a:lnTo>
                    <a:pt x="1032" y="1601"/>
                  </a:lnTo>
                  <a:lnTo>
                    <a:pt x="1023" y="1601"/>
                  </a:lnTo>
                  <a:lnTo>
                    <a:pt x="1023" y="1606"/>
                  </a:lnTo>
                  <a:lnTo>
                    <a:pt x="1013" y="1606"/>
                  </a:lnTo>
                  <a:lnTo>
                    <a:pt x="1013" y="1613"/>
                  </a:lnTo>
                  <a:lnTo>
                    <a:pt x="1008" y="1613"/>
                  </a:lnTo>
                  <a:lnTo>
                    <a:pt x="1008" y="1618"/>
                  </a:lnTo>
                  <a:lnTo>
                    <a:pt x="998" y="1618"/>
                  </a:lnTo>
                  <a:lnTo>
                    <a:pt x="998" y="1625"/>
                  </a:lnTo>
                  <a:lnTo>
                    <a:pt x="989" y="1625"/>
                  </a:lnTo>
                  <a:lnTo>
                    <a:pt x="989" y="1631"/>
                  </a:lnTo>
                  <a:lnTo>
                    <a:pt x="983" y="1631"/>
                  </a:lnTo>
                  <a:lnTo>
                    <a:pt x="983" y="1637"/>
                  </a:lnTo>
                  <a:lnTo>
                    <a:pt x="974" y="1637"/>
                  </a:lnTo>
                  <a:lnTo>
                    <a:pt x="974" y="1642"/>
                  </a:lnTo>
                  <a:lnTo>
                    <a:pt x="970" y="1642"/>
                  </a:lnTo>
                  <a:lnTo>
                    <a:pt x="970" y="1648"/>
                  </a:lnTo>
                  <a:lnTo>
                    <a:pt x="960" y="1648"/>
                  </a:lnTo>
                  <a:lnTo>
                    <a:pt x="960" y="1655"/>
                  </a:lnTo>
                  <a:lnTo>
                    <a:pt x="950" y="1655"/>
                  </a:lnTo>
                  <a:lnTo>
                    <a:pt x="950" y="1660"/>
                  </a:lnTo>
                  <a:lnTo>
                    <a:pt x="941" y="1660"/>
                  </a:lnTo>
                  <a:lnTo>
                    <a:pt x="941" y="1666"/>
                  </a:lnTo>
                  <a:lnTo>
                    <a:pt x="936" y="1666"/>
                  </a:lnTo>
                  <a:lnTo>
                    <a:pt x="936" y="1672"/>
                  </a:lnTo>
                  <a:lnTo>
                    <a:pt x="931" y="1672"/>
                  </a:lnTo>
                  <a:lnTo>
                    <a:pt x="931" y="1678"/>
                  </a:lnTo>
                  <a:lnTo>
                    <a:pt x="921" y="1678"/>
                  </a:lnTo>
                  <a:lnTo>
                    <a:pt x="921" y="1683"/>
                  </a:lnTo>
                  <a:lnTo>
                    <a:pt x="912" y="1683"/>
                  </a:lnTo>
                  <a:lnTo>
                    <a:pt x="912" y="1691"/>
                  </a:lnTo>
                  <a:lnTo>
                    <a:pt x="907" y="1691"/>
                  </a:lnTo>
                  <a:lnTo>
                    <a:pt x="907" y="1696"/>
                  </a:lnTo>
                  <a:lnTo>
                    <a:pt x="897" y="1696"/>
                  </a:lnTo>
                  <a:lnTo>
                    <a:pt x="897" y="1701"/>
                  </a:lnTo>
                  <a:lnTo>
                    <a:pt x="878" y="1701"/>
                  </a:lnTo>
                  <a:lnTo>
                    <a:pt x="878" y="1707"/>
                  </a:lnTo>
                  <a:lnTo>
                    <a:pt x="869" y="1707"/>
                  </a:lnTo>
                  <a:lnTo>
                    <a:pt x="869" y="1719"/>
                  </a:lnTo>
                  <a:lnTo>
                    <a:pt x="853" y="1719"/>
                  </a:lnTo>
                  <a:lnTo>
                    <a:pt x="853" y="1724"/>
                  </a:lnTo>
                  <a:lnTo>
                    <a:pt x="839" y="1724"/>
                  </a:lnTo>
                  <a:lnTo>
                    <a:pt x="839" y="1732"/>
                  </a:lnTo>
                  <a:lnTo>
                    <a:pt x="834" y="1732"/>
                  </a:lnTo>
                  <a:lnTo>
                    <a:pt x="834" y="1737"/>
                  </a:lnTo>
                  <a:lnTo>
                    <a:pt x="830" y="1737"/>
                  </a:lnTo>
                  <a:lnTo>
                    <a:pt x="830" y="1743"/>
                  </a:lnTo>
                  <a:lnTo>
                    <a:pt x="820" y="1743"/>
                  </a:lnTo>
                  <a:lnTo>
                    <a:pt x="820" y="1749"/>
                  </a:lnTo>
                  <a:lnTo>
                    <a:pt x="811" y="1749"/>
                  </a:lnTo>
                  <a:lnTo>
                    <a:pt x="811" y="1754"/>
                  </a:lnTo>
                  <a:lnTo>
                    <a:pt x="806" y="1754"/>
                  </a:lnTo>
                  <a:lnTo>
                    <a:pt x="806" y="1761"/>
                  </a:lnTo>
                  <a:lnTo>
                    <a:pt x="797" y="1761"/>
                  </a:lnTo>
                  <a:lnTo>
                    <a:pt x="797" y="1773"/>
                  </a:lnTo>
                  <a:lnTo>
                    <a:pt x="787" y="1773"/>
                  </a:lnTo>
                  <a:lnTo>
                    <a:pt x="787" y="1778"/>
                  </a:lnTo>
                  <a:lnTo>
                    <a:pt x="777" y="1778"/>
                  </a:lnTo>
                  <a:lnTo>
                    <a:pt x="777" y="1784"/>
                  </a:lnTo>
                  <a:lnTo>
                    <a:pt x="772" y="1784"/>
                  </a:lnTo>
                  <a:lnTo>
                    <a:pt x="772" y="1791"/>
                  </a:lnTo>
                  <a:lnTo>
                    <a:pt x="767" y="1791"/>
                  </a:lnTo>
                  <a:lnTo>
                    <a:pt x="767" y="1796"/>
                  </a:lnTo>
                  <a:lnTo>
                    <a:pt x="763" y="1796"/>
                  </a:lnTo>
                  <a:lnTo>
                    <a:pt x="763" y="1802"/>
                  </a:lnTo>
                  <a:lnTo>
                    <a:pt x="753" y="1802"/>
                  </a:lnTo>
                  <a:lnTo>
                    <a:pt x="753" y="1808"/>
                  </a:lnTo>
                  <a:lnTo>
                    <a:pt x="743" y="1808"/>
                  </a:lnTo>
                  <a:lnTo>
                    <a:pt x="743" y="1814"/>
                  </a:lnTo>
                  <a:lnTo>
                    <a:pt x="739" y="1814"/>
                  </a:lnTo>
                  <a:lnTo>
                    <a:pt x="739" y="1819"/>
                  </a:lnTo>
                  <a:lnTo>
                    <a:pt x="730" y="1819"/>
                  </a:lnTo>
                  <a:lnTo>
                    <a:pt x="730" y="1826"/>
                  </a:lnTo>
                  <a:lnTo>
                    <a:pt x="720" y="1826"/>
                  </a:lnTo>
                  <a:lnTo>
                    <a:pt x="720" y="1832"/>
                  </a:lnTo>
                  <a:lnTo>
                    <a:pt x="716" y="1832"/>
                  </a:lnTo>
                  <a:lnTo>
                    <a:pt x="716" y="1838"/>
                  </a:lnTo>
                  <a:lnTo>
                    <a:pt x="705" y="1838"/>
                  </a:lnTo>
                  <a:lnTo>
                    <a:pt x="705" y="1843"/>
                  </a:lnTo>
                  <a:lnTo>
                    <a:pt x="695" y="1843"/>
                  </a:lnTo>
                  <a:lnTo>
                    <a:pt x="695" y="1849"/>
                  </a:lnTo>
                  <a:lnTo>
                    <a:pt x="691" y="1849"/>
                  </a:lnTo>
                  <a:lnTo>
                    <a:pt x="691" y="1855"/>
                  </a:lnTo>
                  <a:lnTo>
                    <a:pt x="686" y="1855"/>
                  </a:lnTo>
                  <a:lnTo>
                    <a:pt x="686" y="1860"/>
                  </a:lnTo>
                  <a:lnTo>
                    <a:pt x="676" y="1860"/>
                  </a:lnTo>
                  <a:lnTo>
                    <a:pt x="676" y="1868"/>
                  </a:lnTo>
                  <a:lnTo>
                    <a:pt x="672" y="1868"/>
                  </a:lnTo>
                  <a:lnTo>
                    <a:pt x="672" y="1873"/>
                  </a:lnTo>
                  <a:lnTo>
                    <a:pt x="667" y="1873"/>
                  </a:lnTo>
                  <a:lnTo>
                    <a:pt x="667" y="1879"/>
                  </a:lnTo>
                  <a:lnTo>
                    <a:pt x="658" y="1879"/>
                  </a:lnTo>
                  <a:lnTo>
                    <a:pt x="658" y="1884"/>
                  </a:lnTo>
                  <a:lnTo>
                    <a:pt x="648" y="1884"/>
                  </a:lnTo>
                  <a:lnTo>
                    <a:pt x="648" y="1892"/>
                  </a:lnTo>
                  <a:lnTo>
                    <a:pt x="643" y="1892"/>
                  </a:lnTo>
                  <a:lnTo>
                    <a:pt x="643" y="1897"/>
                  </a:lnTo>
                  <a:lnTo>
                    <a:pt x="633" y="1897"/>
                  </a:lnTo>
                  <a:lnTo>
                    <a:pt x="633" y="1902"/>
                  </a:lnTo>
                  <a:lnTo>
                    <a:pt x="623" y="1902"/>
                  </a:lnTo>
                  <a:lnTo>
                    <a:pt x="623" y="1909"/>
                  </a:lnTo>
                  <a:lnTo>
                    <a:pt x="619" y="1909"/>
                  </a:lnTo>
                  <a:lnTo>
                    <a:pt x="619" y="1914"/>
                  </a:lnTo>
                  <a:lnTo>
                    <a:pt x="614" y="1914"/>
                  </a:lnTo>
                  <a:lnTo>
                    <a:pt x="614" y="1920"/>
                  </a:lnTo>
                  <a:lnTo>
                    <a:pt x="605" y="1920"/>
                  </a:lnTo>
                  <a:lnTo>
                    <a:pt x="605" y="1927"/>
                  </a:lnTo>
                  <a:lnTo>
                    <a:pt x="599" y="1927"/>
                  </a:lnTo>
                  <a:lnTo>
                    <a:pt x="599" y="1933"/>
                  </a:lnTo>
                  <a:lnTo>
                    <a:pt x="590" y="1933"/>
                  </a:lnTo>
                  <a:lnTo>
                    <a:pt x="590" y="1938"/>
                  </a:lnTo>
                  <a:lnTo>
                    <a:pt x="580" y="1938"/>
                  </a:lnTo>
                  <a:lnTo>
                    <a:pt x="580" y="1944"/>
                  </a:lnTo>
                  <a:lnTo>
                    <a:pt x="572" y="1944"/>
                  </a:lnTo>
                  <a:lnTo>
                    <a:pt x="572" y="1950"/>
                  </a:lnTo>
                  <a:lnTo>
                    <a:pt x="561" y="1950"/>
                  </a:lnTo>
                  <a:lnTo>
                    <a:pt x="561" y="1955"/>
                  </a:lnTo>
                  <a:lnTo>
                    <a:pt x="556" y="1955"/>
                  </a:lnTo>
                  <a:lnTo>
                    <a:pt x="556" y="1962"/>
                  </a:lnTo>
                  <a:lnTo>
                    <a:pt x="551" y="1962"/>
                  </a:lnTo>
                  <a:lnTo>
                    <a:pt x="551" y="1968"/>
                  </a:lnTo>
                  <a:lnTo>
                    <a:pt x="537" y="1968"/>
                  </a:lnTo>
                  <a:lnTo>
                    <a:pt x="537" y="1974"/>
                  </a:lnTo>
                  <a:lnTo>
                    <a:pt x="532" y="1974"/>
                  </a:lnTo>
                  <a:lnTo>
                    <a:pt x="532" y="1979"/>
                  </a:lnTo>
                  <a:lnTo>
                    <a:pt x="523" y="1979"/>
                  </a:lnTo>
                  <a:lnTo>
                    <a:pt x="523" y="1987"/>
                  </a:lnTo>
                  <a:lnTo>
                    <a:pt x="518" y="1987"/>
                  </a:lnTo>
                  <a:lnTo>
                    <a:pt x="518" y="1992"/>
                  </a:lnTo>
                  <a:lnTo>
                    <a:pt x="509" y="1992"/>
                  </a:lnTo>
                  <a:lnTo>
                    <a:pt x="509" y="1998"/>
                  </a:lnTo>
                  <a:lnTo>
                    <a:pt x="499" y="1998"/>
                  </a:lnTo>
                  <a:lnTo>
                    <a:pt x="499" y="2003"/>
                  </a:lnTo>
                  <a:lnTo>
                    <a:pt x="493" y="2003"/>
                  </a:lnTo>
                  <a:lnTo>
                    <a:pt x="493" y="2009"/>
                  </a:lnTo>
                  <a:lnTo>
                    <a:pt x="484" y="2009"/>
                  </a:lnTo>
                  <a:lnTo>
                    <a:pt x="484" y="2014"/>
                  </a:lnTo>
                  <a:lnTo>
                    <a:pt x="479" y="2014"/>
                  </a:lnTo>
                  <a:lnTo>
                    <a:pt x="479" y="2020"/>
                  </a:lnTo>
                  <a:lnTo>
                    <a:pt x="475" y="2020"/>
                  </a:lnTo>
                  <a:lnTo>
                    <a:pt x="475" y="2026"/>
                  </a:lnTo>
                  <a:lnTo>
                    <a:pt x="469" y="2026"/>
                  </a:lnTo>
                  <a:lnTo>
                    <a:pt x="469" y="2033"/>
                  </a:lnTo>
                  <a:lnTo>
                    <a:pt x="465" y="2033"/>
                  </a:lnTo>
                  <a:lnTo>
                    <a:pt x="465" y="2038"/>
                  </a:lnTo>
                  <a:lnTo>
                    <a:pt x="451" y="2038"/>
                  </a:lnTo>
                  <a:lnTo>
                    <a:pt x="451" y="2045"/>
                  </a:lnTo>
                  <a:lnTo>
                    <a:pt x="436" y="2045"/>
                  </a:lnTo>
                  <a:lnTo>
                    <a:pt x="436" y="2056"/>
                  </a:lnTo>
                  <a:lnTo>
                    <a:pt x="427" y="2056"/>
                  </a:lnTo>
                  <a:lnTo>
                    <a:pt x="427" y="2061"/>
                  </a:lnTo>
                  <a:lnTo>
                    <a:pt x="407" y="2061"/>
                  </a:lnTo>
                  <a:lnTo>
                    <a:pt x="407" y="2068"/>
                  </a:lnTo>
                  <a:lnTo>
                    <a:pt x="402" y="2068"/>
                  </a:lnTo>
                  <a:lnTo>
                    <a:pt x="402" y="2074"/>
                  </a:lnTo>
                  <a:lnTo>
                    <a:pt x="388" y="2074"/>
                  </a:lnTo>
                  <a:lnTo>
                    <a:pt x="388" y="2079"/>
                  </a:lnTo>
                  <a:lnTo>
                    <a:pt x="379" y="2079"/>
                  </a:lnTo>
                  <a:lnTo>
                    <a:pt x="379" y="2086"/>
                  </a:lnTo>
                  <a:lnTo>
                    <a:pt x="374" y="2086"/>
                  </a:lnTo>
                  <a:lnTo>
                    <a:pt x="374" y="2091"/>
                  </a:lnTo>
                  <a:lnTo>
                    <a:pt x="369" y="2091"/>
                  </a:lnTo>
                  <a:lnTo>
                    <a:pt x="369" y="2098"/>
                  </a:lnTo>
                  <a:lnTo>
                    <a:pt x="359" y="2098"/>
                  </a:lnTo>
                  <a:lnTo>
                    <a:pt x="359" y="2091"/>
                  </a:lnTo>
                  <a:lnTo>
                    <a:pt x="355" y="2091"/>
                  </a:lnTo>
                  <a:lnTo>
                    <a:pt x="355" y="2086"/>
                  </a:lnTo>
                  <a:lnTo>
                    <a:pt x="335" y="2086"/>
                  </a:lnTo>
                  <a:lnTo>
                    <a:pt x="335" y="2079"/>
                  </a:lnTo>
                  <a:lnTo>
                    <a:pt x="331" y="2079"/>
                  </a:lnTo>
                  <a:lnTo>
                    <a:pt x="331" y="2074"/>
                  </a:lnTo>
                  <a:lnTo>
                    <a:pt x="325" y="2074"/>
                  </a:lnTo>
                  <a:lnTo>
                    <a:pt x="325" y="2050"/>
                  </a:lnTo>
                  <a:lnTo>
                    <a:pt x="331" y="2050"/>
                  </a:lnTo>
                  <a:lnTo>
                    <a:pt x="331" y="2038"/>
                  </a:lnTo>
                  <a:lnTo>
                    <a:pt x="340" y="2038"/>
                  </a:lnTo>
                  <a:lnTo>
                    <a:pt x="340" y="2033"/>
                  </a:lnTo>
                  <a:lnTo>
                    <a:pt x="351" y="2033"/>
                  </a:lnTo>
                  <a:lnTo>
                    <a:pt x="351" y="2026"/>
                  </a:lnTo>
                  <a:lnTo>
                    <a:pt x="355" y="2026"/>
                  </a:lnTo>
                  <a:lnTo>
                    <a:pt x="355" y="2020"/>
                  </a:lnTo>
                  <a:lnTo>
                    <a:pt x="365" y="2020"/>
                  </a:lnTo>
                  <a:lnTo>
                    <a:pt x="365" y="2014"/>
                  </a:lnTo>
                  <a:lnTo>
                    <a:pt x="369" y="2014"/>
                  </a:lnTo>
                  <a:lnTo>
                    <a:pt x="369" y="2009"/>
                  </a:lnTo>
                  <a:lnTo>
                    <a:pt x="379" y="2009"/>
                  </a:lnTo>
                  <a:lnTo>
                    <a:pt x="379" y="2003"/>
                  </a:lnTo>
                  <a:lnTo>
                    <a:pt x="384" y="2003"/>
                  </a:lnTo>
                  <a:lnTo>
                    <a:pt x="384" y="1998"/>
                  </a:lnTo>
                  <a:lnTo>
                    <a:pt x="398" y="1998"/>
                  </a:lnTo>
                  <a:lnTo>
                    <a:pt x="398" y="1992"/>
                  </a:lnTo>
                  <a:lnTo>
                    <a:pt x="412" y="1992"/>
                  </a:lnTo>
                  <a:lnTo>
                    <a:pt x="412" y="1987"/>
                  </a:lnTo>
                  <a:lnTo>
                    <a:pt x="422" y="1987"/>
                  </a:lnTo>
                  <a:lnTo>
                    <a:pt x="422" y="1979"/>
                  </a:lnTo>
                  <a:lnTo>
                    <a:pt x="427" y="1979"/>
                  </a:lnTo>
                  <a:lnTo>
                    <a:pt x="427" y="1974"/>
                  </a:lnTo>
                  <a:lnTo>
                    <a:pt x="432" y="1974"/>
                  </a:lnTo>
                  <a:lnTo>
                    <a:pt x="432" y="1968"/>
                  </a:lnTo>
                  <a:lnTo>
                    <a:pt x="442" y="1968"/>
                  </a:lnTo>
                  <a:lnTo>
                    <a:pt x="442" y="1962"/>
                  </a:lnTo>
                  <a:lnTo>
                    <a:pt x="451" y="1962"/>
                  </a:lnTo>
                  <a:lnTo>
                    <a:pt x="451" y="1955"/>
                  </a:lnTo>
                  <a:lnTo>
                    <a:pt x="460" y="1955"/>
                  </a:lnTo>
                  <a:lnTo>
                    <a:pt x="460" y="1950"/>
                  </a:lnTo>
                  <a:lnTo>
                    <a:pt x="465" y="1950"/>
                  </a:lnTo>
                  <a:lnTo>
                    <a:pt x="465" y="1944"/>
                  </a:lnTo>
                  <a:lnTo>
                    <a:pt x="475" y="1944"/>
                  </a:lnTo>
                  <a:lnTo>
                    <a:pt x="475" y="1938"/>
                  </a:lnTo>
                  <a:lnTo>
                    <a:pt x="479" y="1938"/>
                  </a:lnTo>
                  <a:lnTo>
                    <a:pt x="479" y="1933"/>
                  </a:lnTo>
                  <a:lnTo>
                    <a:pt x="484" y="1933"/>
                  </a:lnTo>
                  <a:lnTo>
                    <a:pt x="484" y="1927"/>
                  </a:lnTo>
                  <a:lnTo>
                    <a:pt x="489" y="1927"/>
                  </a:lnTo>
                  <a:lnTo>
                    <a:pt x="489" y="1920"/>
                  </a:lnTo>
                  <a:lnTo>
                    <a:pt x="493" y="1920"/>
                  </a:lnTo>
                  <a:lnTo>
                    <a:pt x="493" y="1914"/>
                  </a:lnTo>
                  <a:lnTo>
                    <a:pt x="503" y="1914"/>
                  </a:lnTo>
                  <a:lnTo>
                    <a:pt x="503" y="1909"/>
                  </a:lnTo>
                  <a:lnTo>
                    <a:pt x="509" y="1909"/>
                  </a:lnTo>
                  <a:lnTo>
                    <a:pt x="509" y="1902"/>
                  </a:lnTo>
                  <a:lnTo>
                    <a:pt x="518" y="1902"/>
                  </a:lnTo>
                  <a:lnTo>
                    <a:pt x="518" y="1897"/>
                  </a:lnTo>
                  <a:lnTo>
                    <a:pt x="523" y="1897"/>
                  </a:lnTo>
                  <a:lnTo>
                    <a:pt x="523" y="1892"/>
                  </a:lnTo>
                  <a:lnTo>
                    <a:pt x="528" y="1892"/>
                  </a:lnTo>
                  <a:lnTo>
                    <a:pt x="528" y="1884"/>
                  </a:lnTo>
                  <a:lnTo>
                    <a:pt x="542" y="1884"/>
                  </a:lnTo>
                  <a:lnTo>
                    <a:pt x="542" y="1879"/>
                  </a:lnTo>
                  <a:lnTo>
                    <a:pt x="551" y="1879"/>
                  </a:lnTo>
                  <a:lnTo>
                    <a:pt x="551" y="1873"/>
                  </a:lnTo>
                  <a:lnTo>
                    <a:pt x="561" y="1873"/>
                  </a:lnTo>
                  <a:lnTo>
                    <a:pt x="561" y="1868"/>
                  </a:lnTo>
                  <a:lnTo>
                    <a:pt x="565" y="1868"/>
                  </a:lnTo>
                  <a:lnTo>
                    <a:pt x="565" y="1860"/>
                  </a:lnTo>
                  <a:lnTo>
                    <a:pt x="576" y="1860"/>
                  </a:lnTo>
                  <a:lnTo>
                    <a:pt x="576" y="1855"/>
                  </a:lnTo>
                  <a:lnTo>
                    <a:pt x="580" y="1855"/>
                  </a:lnTo>
                  <a:lnTo>
                    <a:pt x="580" y="1849"/>
                  </a:lnTo>
                  <a:lnTo>
                    <a:pt x="590" y="1849"/>
                  </a:lnTo>
                  <a:lnTo>
                    <a:pt x="590" y="1843"/>
                  </a:lnTo>
                  <a:lnTo>
                    <a:pt x="605" y="1843"/>
                  </a:lnTo>
                  <a:lnTo>
                    <a:pt x="605" y="1838"/>
                  </a:lnTo>
                  <a:lnTo>
                    <a:pt x="609" y="1838"/>
                  </a:lnTo>
                  <a:lnTo>
                    <a:pt x="609" y="1832"/>
                  </a:lnTo>
                  <a:lnTo>
                    <a:pt x="619" y="1832"/>
                  </a:lnTo>
                  <a:lnTo>
                    <a:pt x="619" y="1826"/>
                  </a:lnTo>
                  <a:lnTo>
                    <a:pt x="628" y="1826"/>
                  </a:lnTo>
                  <a:lnTo>
                    <a:pt x="628" y="1819"/>
                  </a:lnTo>
                  <a:lnTo>
                    <a:pt x="633" y="1819"/>
                  </a:lnTo>
                  <a:lnTo>
                    <a:pt x="633" y="1814"/>
                  </a:lnTo>
                  <a:lnTo>
                    <a:pt x="638" y="1814"/>
                  </a:lnTo>
                  <a:lnTo>
                    <a:pt x="638" y="1808"/>
                  </a:lnTo>
                  <a:lnTo>
                    <a:pt x="643" y="1808"/>
                  </a:lnTo>
                  <a:lnTo>
                    <a:pt x="643" y="1802"/>
                  </a:lnTo>
                  <a:lnTo>
                    <a:pt x="648" y="1802"/>
                  </a:lnTo>
                  <a:lnTo>
                    <a:pt x="648" y="1796"/>
                  </a:lnTo>
                  <a:lnTo>
                    <a:pt x="658" y="1796"/>
                  </a:lnTo>
                  <a:lnTo>
                    <a:pt x="658" y="1791"/>
                  </a:lnTo>
                  <a:lnTo>
                    <a:pt x="662" y="1791"/>
                  </a:lnTo>
                  <a:lnTo>
                    <a:pt x="662" y="1784"/>
                  </a:lnTo>
                  <a:lnTo>
                    <a:pt x="672" y="1784"/>
                  </a:lnTo>
                  <a:lnTo>
                    <a:pt x="672" y="1778"/>
                  </a:lnTo>
                  <a:lnTo>
                    <a:pt x="676" y="1778"/>
                  </a:lnTo>
                  <a:lnTo>
                    <a:pt x="676" y="1773"/>
                  </a:lnTo>
                  <a:lnTo>
                    <a:pt x="686" y="1773"/>
                  </a:lnTo>
                  <a:lnTo>
                    <a:pt x="686" y="1767"/>
                  </a:lnTo>
                  <a:lnTo>
                    <a:pt x="695" y="1767"/>
                  </a:lnTo>
                  <a:lnTo>
                    <a:pt x="695" y="1761"/>
                  </a:lnTo>
                  <a:lnTo>
                    <a:pt x="705" y="1761"/>
                  </a:lnTo>
                  <a:lnTo>
                    <a:pt x="705" y="1754"/>
                  </a:lnTo>
                  <a:lnTo>
                    <a:pt x="709" y="1754"/>
                  </a:lnTo>
                  <a:lnTo>
                    <a:pt x="709" y="1749"/>
                  </a:lnTo>
                  <a:lnTo>
                    <a:pt x="720" y="1749"/>
                  </a:lnTo>
                  <a:lnTo>
                    <a:pt x="720" y="1743"/>
                  </a:lnTo>
                  <a:lnTo>
                    <a:pt x="730" y="1743"/>
                  </a:lnTo>
                  <a:lnTo>
                    <a:pt x="730" y="1737"/>
                  </a:lnTo>
                  <a:lnTo>
                    <a:pt x="734" y="1737"/>
                  </a:lnTo>
                  <a:lnTo>
                    <a:pt x="734" y="1732"/>
                  </a:lnTo>
                  <a:lnTo>
                    <a:pt x="743" y="1732"/>
                  </a:lnTo>
                  <a:lnTo>
                    <a:pt x="743" y="1724"/>
                  </a:lnTo>
                  <a:lnTo>
                    <a:pt x="753" y="1724"/>
                  </a:lnTo>
                  <a:lnTo>
                    <a:pt x="753" y="1719"/>
                  </a:lnTo>
                  <a:lnTo>
                    <a:pt x="763" y="1719"/>
                  </a:lnTo>
                  <a:lnTo>
                    <a:pt x="763" y="1713"/>
                  </a:lnTo>
                  <a:lnTo>
                    <a:pt x="767" y="1713"/>
                  </a:lnTo>
                  <a:lnTo>
                    <a:pt x="767" y="1707"/>
                  </a:lnTo>
                  <a:lnTo>
                    <a:pt x="777" y="1707"/>
                  </a:lnTo>
                  <a:lnTo>
                    <a:pt x="777" y="1701"/>
                  </a:lnTo>
                  <a:lnTo>
                    <a:pt x="787" y="1701"/>
                  </a:lnTo>
                  <a:lnTo>
                    <a:pt x="787" y="1696"/>
                  </a:lnTo>
                  <a:lnTo>
                    <a:pt x="792" y="1696"/>
                  </a:lnTo>
                  <a:lnTo>
                    <a:pt x="792" y="1691"/>
                  </a:lnTo>
                  <a:lnTo>
                    <a:pt x="806" y="1691"/>
                  </a:lnTo>
                  <a:lnTo>
                    <a:pt x="806" y="1683"/>
                  </a:lnTo>
                  <a:lnTo>
                    <a:pt x="820" y="1683"/>
                  </a:lnTo>
                  <a:lnTo>
                    <a:pt x="820" y="1678"/>
                  </a:lnTo>
                  <a:lnTo>
                    <a:pt x="825" y="1678"/>
                  </a:lnTo>
                  <a:lnTo>
                    <a:pt x="825" y="1672"/>
                  </a:lnTo>
                  <a:lnTo>
                    <a:pt x="834" y="1672"/>
                  </a:lnTo>
                  <a:lnTo>
                    <a:pt x="834" y="1666"/>
                  </a:lnTo>
                  <a:lnTo>
                    <a:pt x="839" y="1666"/>
                  </a:lnTo>
                  <a:lnTo>
                    <a:pt x="839" y="1660"/>
                  </a:lnTo>
                  <a:lnTo>
                    <a:pt x="849" y="1660"/>
                  </a:lnTo>
                  <a:lnTo>
                    <a:pt x="849" y="1655"/>
                  </a:lnTo>
                  <a:lnTo>
                    <a:pt x="864" y="1655"/>
                  </a:lnTo>
                  <a:lnTo>
                    <a:pt x="864" y="1648"/>
                  </a:lnTo>
                  <a:lnTo>
                    <a:pt x="869" y="1648"/>
                  </a:lnTo>
                  <a:lnTo>
                    <a:pt x="869" y="1637"/>
                  </a:lnTo>
                  <a:lnTo>
                    <a:pt x="878" y="1637"/>
                  </a:lnTo>
                  <a:lnTo>
                    <a:pt x="878" y="1631"/>
                  </a:lnTo>
                  <a:lnTo>
                    <a:pt x="883" y="1631"/>
                  </a:lnTo>
                  <a:lnTo>
                    <a:pt x="883" y="1625"/>
                  </a:lnTo>
                  <a:lnTo>
                    <a:pt x="887" y="1625"/>
                  </a:lnTo>
                  <a:lnTo>
                    <a:pt x="887" y="1618"/>
                  </a:lnTo>
                  <a:lnTo>
                    <a:pt x="902" y="1618"/>
                  </a:lnTo>
                  <a:lnTo>
                    <a:pt x="902" y="1613"/>
                  </a:lnTo>
                  <a:lnTo>
                    <a:pt x="907" y="1613"/>
                  </a:lnTo>
                  <a:lnTo>
                    <a:pt x="907" y="1606"/>
                  </a:lnTo>
                  <a:lnTo>
                    <a:pt x="916" y="1606"/>
                  </a:lnTo>
                  <a:lnTo>
                    <a:pt x="916" y="1601"/>
                  </a:lnTo>
                  <a:lnTo>
                    <a:pt x="921" y="1601"/>
                  </a:lnTo>
                  <a:lnTo>
                    <a:pt x="921" y="1595"/>
                  </a:lnTo>
                  <a:lnTo>
                    <a:pt x="936" y="1595"/>
                  </a:lnTo>
                  <a:lnTo>
                    <a:pt x="936" y="1590"/>
                  </a:lnTo>
                  <a:lnTo>
                    <a:pt x="946" y="1590"/>
                  </a:lnTo>
                  <a:lnTo>
                    <a:pt x="946" y="1583"/>
                  </a:lnTo>
                  <a:lnTo>
                    <a:pt x="950" y="1583"/>
                  </a:lnTo>
                  <a:lnTo>
                    <a:pt x="950" y="1578"/>
                  </a:lnTo>
                  <a:lnTo>
                    <a:pt x="956" y="1578"/>
                  </a:lnTo>
                  <a:lnTo>
                    <a:pt x="956" y="1572"/>
                  </a:lnTo>
                  <a:lnTo>
                    <a:pt x="964" y="1572"/>
                  </a:lnTo>
                  <a:lnTo>
                    <a:pt x="964" y="1566"/>
                  </a:lnTo>
                  <a:lnTo>
                    <a:pt x="974" y="1566"/>
                  </a:lnTo>
                  <a:lnTo>
                    <a:pt x="974" y="1560"/>
                  </a:lnTo>
                  <a:lnTo>
                    <a:pt x="989" y="1560"/>
                  </a:lnTo>
                  <a:lnTo>
                    <a:pt x="989" y="1555"/>
                  </a:lnTo>
                  <a:lnTo>
                    <a:pt x="993" y="1555"/>
                  </a:lnTo>
                  <a:lnTo>
                    <a:pt x="993" y="1547"/>
                  </a:lnTo>
                  <a:lnTo>
                    <a:pt x="1004" y="1547"/>
                  </a:lnTo>
                  <a:lnTo>
                    <a:pt x="1004" y="1542"/>
                  </a:lnTo>
                  <a:lnTo>
                    <a:pt x="1008" y="1542"/>
                  </a:lnTo>
                  <a:lnTo>
                    <a:pt x="1008" y="1536"/>
                  </a:lnTo>
                  <a:lnTo>
                    <a:pt x="1018" y="1536"/>
                  </a:lnTo>
                  <a:lnTo>
                    <a:pt x="1018" y="1530"/>
                  </a:lnTo>
                  <a:lnTo>
                    <a:pt x="1032" y="1530"/>
                  </a:lnTo>
                  <a:lnTo>
                    <a:pt x="1032" y="1525"/>
                  </a:lnTo>
                  <a:lnTo>
                    <a:pt x="1037" y="1525"/>
                  </a:lnTo>
                  <a:lnTo>
                    <a:pt x="1037" y="1519"/>
                  </a:lnTo>
                  <a:lnTo>
                    <a:pt x="1046" y="1519"/>
                  </a:lnTo>
                  <a:lnTo>
                    <a:pt x="1046" y="1514"/>
                  </a:lnTo>
                  <a:lnTo>
                    <a:pt x="1060" y="1514"/>
                  </a:lnTo>
                  <a:lnTo>
                    <a:pt x="1060" y="1506"/>
                  </a:lnTo>
                  <a:lnTo>
                    <a:pt x="1065" y="1506"/>
                  </a:lnTo>
                  <a:lnTo>
                    <a:pt x="1065" y="1501"/>
                  </a:lnTo>
                  <a:lnTo>
                    <a:pt x="1070" y="1501"/>
                  </a:lnTo>
                  <a:lnTo>
                    <a:pt x="1070" y="1495"/>
                  </a:lnTo>
                  <a:lnTo>
                    <a:pt x="1080" y="1495"/>
                  </a:lnTo>
                  <a:lnTo>
                    <a:pt x="1080" y="1489"/>
                  </a:lnTo>
                  <a:lnTo>
                    <a:pt x="1090" y="1489"/>
                  </a:lnTo>
                  <a:lnTo>
                    <a:pt x="1090" y="1482"/>
                  </a:lnTo>
                  <a:lnTo>
                    <a:pt x="1099" y="1482"/>
                  </a:lnTo>
                  <a:lnTo>
                    <a:pt x="1099" y="1477"/>
                  </a:lnTo>
                  <a:lnTo>
                    <a:pt x="1104" y="1477"/>
                  </a:lnTo>
                  <a:lnTo>
                    <a:pt x="1104" y="1471"/>
                  </a:lnTo>
                  <a:lnTo>
                    <a:pt x="1114" y="1471"/>
                  </a:lnTo>
                  <a:lnTo>
                    <a:pt x="1114" y="1465"/>
                  </a:lnTo>
                  <a:lnTo>
                    <a:pt x="1118" y="1465"/>
                  </a:lnTo>
                  <a:lnTo>
                    <a:pt x="1118" y="1460"/>
                  </a:lnTo>
                  <a:lnTo>
                    <a:pt x="1132" y="1460"/>
                  </a:lnTo>
                  <a:lnTo>
                    <a:pt x="1132" y="1454"/>
                  </a:lnTo>
                  <a:lnTo>
                    <a:pt x="1137" y="1454"/>
                  </a:lnTo>
                  <a:lnTo>
                    <a:pt x="1137" y="1447"/>
                  </a:lnTo>
                  <a:lnTo>
                    <a:pt x="1148" y="1447"/>
                  </a:lnTo>
                  <a:lnTo>
                    <a:pt x="1148" y="1441"/>
                  </a:lnTo>
                  <a:lnTo>
                    <a:pt x="1157" y="1441"/>
                  </a:lnTo>
                  <a:lnTo>
                    <a:pt x="1157" y="1436"/>
                  </a:lnTo>
                  <a:lnTo>
                    <a:pt x="1167" y="1436"/>
                  </a:lnTo>
                  <a:lnTo>
                    <a:pt x="1167" y="1429"/>
                  </a:lnTo>
                  <a:lnTo>
                    <a:pt x="1171" y="1429"/>
                  </a:lnTo>
                  <a:lnTo>
                    <a:pt x="1171" y="1424"/>
                  </a:lnTo>
                  <a:lnTo>
                    <a:pt x="1195" y="1424"/>
                  </a:lnTo>
                  <a:lnTo>
                    <a:pt x="1195" y="1419"/>
                  </a:lnTo>
                  <a:lnTo>
                    <a:pt x="1209" y="1419"/>
                  </a:lnTo>
                  <a:lnTo>
                    <a:pt x="1209" y="1411"/>
                  </a:lnTo>
                  <a:lnTo>
                    <a:pt x="1219" y="1411"/>
                  </a:lnTo>
                  <a:lnTo>
                    <a:pt x="1219" y="1406"/>
                  </a:lnTo>
                  <a:lnTo>
                    <a:pt x="1224" y="1406"/>
                  </a:lnTo>
                  <a:lnTo>
                    <a:pt x="1224" y="1400"/>
                  </a:lnTo>
                  <a:lnTo>
                    <a:pt x="1234" y="1400"/>
                  </a:lnTo>
                  <a:lnTo>
                    <a:pt x="1234" y="1395"/>
                  </a:lnTo>
                  <a:lnTo>
                    <a:pt x="1244" y="1395"/>
                  </a:lnTo>
                  <a:lnTo>
                    <a:pt x="1244" y="1388"/>
                  </a:lnTo>
                  <a:lnTo>
                    <a:pt x="1248" y="1388"/>
                  </a:lnTo>
                  <a:lnTo>
                    <a:pt x="1248" y="1383"/>
                  </a:lnTo>
                  <a:lnTo>
                    <a:pt x="1258" y="1383"/>
                  </a:lnTo>
                  <a:lnTo>
                    <a:pt x="1258" y="1376"/>
                  </a:lnTo>
                  <a:lnTo>
                    <a:pt x="1262" y="1376"/>
                  </a:lnTo>
                  <a:lnTo>
                    <a:pt x="1262" y="1370"/>
                  </a:lnTo>
                  <a:lnTo>
                    <a:pt x="1271" y="1370"/>
                  </a:lnTo>
                  <a:lnTo>
                    <a:pt x="1271" y="1365"/>
                  </a:lnTo>
                  <a:lnTo>
                    <a:pt x="1277" y="1365"/>
                  </a:lnTo>
                  <a:lnTo>
                    <a:pt x="1277" y="1359"/>
                  </a:lnTo>
                  <a:lnTo>
                    <a:pt x="1292" y="1359"/>
                  </a:lnTo>
                  <a:lnTo>
                    <a:pt x="1292" y="1353"/>
                  </a:lnTo>
                  <a:lnTo>
                    <a:pt x="1297" y="1353"/>
                  </a:lnTo>
                  <a:lnTo>
                    <a:pt x="1297" y="1346"/>
                  </a:lnTo>
                  <a:lnTo>
                    <a:pt x="1311" y="1346"/>
                  </a:lnTo>
                  <a:lnTo>
                    <a:pt x="1311" y="1341"/>
                  </a:lnTo>
                  <a:lnTo>
                    <a:pt x="1320" y="1341"/>
                  </a:lnTo>
                  <a:lnTo>
                    <a:pt x="1320" y="1335"/>
                  </a:lnTo>
                  <a:lnTo>
                    <a:pt x="1330" y="1335"/>
                  </a:lnTo>
                  <a:lnTo>
                    <a:pt x="1330" y="1329"/>
                  </a:lnTo>
                  <a:lnTo>
                    <a:pt x="1344" y="1329"/>
                  </a:lnTo>
                  <a:lnTo>
                    <a:pt x="1344" y="1324"/>
                  </a:lnTo>
                  <a:lnTo>
                    <a:pt x="1354" y="1324"/>
                  </a:lnTo>
                  <a:lnTo>
                    <a:pt x="1354" y="1318"/>
                  </a:lnTo>
                  <a:lnTo>
                    <a:pt x="1364" y="1318"/>
                  </a:lnTo>
                  <a:lnTo>
                    <a:pt x="1364" y="1311"/>
                  </a:lnTo>
                  <a:lnTo>
                    <a:pt x="1368" y="1311"/>
                  </a:lnTo>
                  <a:lnTo>
                    <a:pt x="1368" y="1305"/>
                  </a:lnTo>
                  <a:lnTo>
                    <a:pt x="1378" y="1305"/>
                  </a:lnTo>
                  <a:lnTo>
                    <a:pt x="1378" y="1300"/>
                  </a:lnTo>
                  <a:lnTo>
                    <a:pt x="1382" y="1300"/>
                  </a:lnTo>
                  <a:lnTo>
                    <a:pt x="1382" y="1294"/>
                  </a:lnTo>
                  <a:lnTo>
                    <a:pt x="1388" y="1294"/>
                  </a:lnTo>
                  <a:lnTo>
                    <a:pt x="1388" y="1288"/>
                  </a:lnTo>
                  <a:lnTo>
                    <a:pt x="1397" y="1288"/>
                  </a:lnTo>
                  <a:lnTo>
                    <a:pt x="1397" y="1281"/>
                  </a:lnTo>
                  <a:lnTo>
                    <a:pt x="1407" y="1281"/>
                  </a:lnTo>
                  <a:lnTo>
                    <a:pt x="1407" y="1276"/>
                  </a:lnTo>
                  <a:lnTo>
                    <a:pt x="1411" y="1276"/>
                  </a:lnTo>
                  <a:lnTo>
                    <a:pt x="1411" y="1270"/>
                  </a:lnTo>
                  <a:lnTo>
                    <a:pt x="1421" y="1270"/>
                  </a:lnTo>
                  <a:lnTo>
                    <a:pt x="1421" y="1264"/>
                  </a:lnTo>
                  <a:lnTo>
                    <a:pt x="1425" y="1264"/>
                  </a:lnTo>
                  <a:lnTo>
                    <a:pt x="1425" y="1259"/>
                  </a:lnTo>
                  <a:lnTo>
                    <a:pt x="1436" y="1259"/>
                  </a:lnTo>
                  <a:lnTo>
                    <a:pt x="1436" y="1252"/>
                  </a:lnTo>
                  <a:lnTo>
                    <a:pt x="1445" y="1252"/>
                  </a:lnTo>
                  <a:lnTo>
                    <a:pt x="1445" y="1247"/>
                  </a:lnTo>
                  <a:lnTo>
                    <a:pt x="1450" y="1247"/>
                  </a:lnTo>
                  <a:lnTo>
                    <a:pt x="1450" y="1240"/>
                  </a:lnTo>
                  <a:lnTo>
                    <a:pt x="1464" y="1240"/>
                  </a:lnTo>
                  <a:lnTo>
                    <a:pt x="1464" y="1234"/>
                  </a:lnTo>
                  <a:lnTo>
                    <a:pt x="1469" y="1234"/>
                  </a:lnTo>
                  <a:lnTo>
                    <a:pt x="1469" y="1228"/>
                  </a:lnTo>
                  <a:lnTo>
                    <a:pt x="1473" y="1228"/>
                  </a:lnTo>
                  <a:lnTo>
                    <a:pt x="1473" y="1223"/>
                  </a:lnTo>
                  <a:lnTo>
                    <a:pt x="1492" y="1223"/>
                  </a:lnTo>
                  <a:lnTo>
                    <a:pt x="1492" y="1218"/>
                  </a:lnTo>
                  <a:lnTo>
                    <a:pt x="1498" y="1218"/>
                  </a:lnTo>
                  <a:lnTo>
                    <a:pt x="1498" y="1210"/>
                  </a:lnTo>
                  <a:lnTo>
                    <a:pt x="1507" y="1210"/>
                  </a:lnTo>
                  <a:lnTo>
                    <a:pt x="1507" y="1205"/>
                  </a:lnTo>
                  <a:lnTo>
                    <a:pt x="1512" y="1205"/>
                  </a:lnTo>
                  <a:lnTo>
                    <a:pt x="1512" y="1182"/>
                  </a:lnTo>
                  <a:lnTo>
                    <a:pt x="1502" y="1182"/>
                  </a:lnTo>
                  <a:lnTo>
                    <a:pt x="1502" y="1175"/>
                  </a:lnTo>
                  <a:lnTo>
                    <a:pt x="1492" y="1175"/>
                  </a:lnTo>
                  <a:lnTo>
                    <a:pt x="1492" y="1169"/>
                  </a:lnTo>
                  <a:lnTo>
                    <a:pt x="1478" y="1169"/>
                  </a:lnTo>
                  <a:lnTo>
                    <a:pt x="1478" y="1164"/>
                  </a:lnTo>
                  <a:lnTo>
                    <a:pt x="1473" y="1164"/>
                  </a:lnTo>
                  <a:lnTo>
                    <a:pt x="1473" y="1158"/>
                  </a:lnTo>
                  <a:lnTo>
                    <a:pt x="1459" y="1158"/>
                  </a:lnTo>
                  <a:lnTo>
                    <a:pt x="1459" y="1152"/>
                  </a:lnTo>
                  <a:lnTo>
                    <a:pt x="1455" y="1152"/>
                  </a:lnTo>
                  <a:lnTo>
                    <a:pt x="1455" y="1147"/>
                  </a:lnTo>
                  <a:lnTo>
                    <a:pt x="1450" y="1147"/>
                  </a:lnTo>
                  <a:lnTo>
                    <a:pt x="1450" y="1134"/>
                  </a:lnTo>
                  <a:lnTo>
                    <a:pt x="1445" y="1134"/>
                  </a:lnTo>
                  <a:lnTo>
                    <a:pt x="1445" y="1128"/>
                  </a:lnTo>
                  <a:lnTo>
                    <a:pt x="1436" y="1128"/>
                  </a:lnTo>
                  <a:lnTo>
                    <a:pt x="1436" y="1123"/>
                  </a:lnTo>
                  <a:lnTo>
                    <a:pt x="1430" y="1123"/>
                  </a:lnTo>
                  <a:lnTo>
                    <a:pt x="1430" y="1117"/>
                  </a:lnTo>
                  <a:lnTo>
                    <a:pt x="1425" y="1117"/>
                  </a:lnTo>
                  <a:lnTo>
                    <a:pt x="1425" y="1111"/>
                  </a:lnTo>
                  <a:lnTo>
                    <a:pt x="1421" y="1111"/>
                  </a:lnTo>
                  <a:lnTo>
                    <a:pt x="1421" y="1106"/>
                  </a:lnTo>
                  <a:lnTo>
                    <a:pt x="1416" y="1106"/>
                  </a:lnTo>
                  <a:lnTo>
                    <a:pt x="1416" y="1099"/>
                  </a:lnTo>
                  <a:lnTo>
                    <a:pt x="1411" y="1099"/>
                  </a:lnTo>
                  <a:lnTo>
                    <a:pt x="1411" y="1093"/>
                  </a:lnTo>
                  <a:lnTo>
                    <a:pt x="1407" y="1093"/>
                  </a:lnTo>
                  <a:lnTo>
                    <a:pt x="1407" y="1087"/>
                  </a:lnTo>
                  <a:lnTo>
                    <a:pt x="1397" y="1087"/>
                  </a:lnTo>
                  <a:lnTo>
                    <a:pt x="1397" y="1082"/>
                  </a:lnTo>
                  <a:lnTo>
                    <a:pt x="1392" y="1082"/>
                  </a:lnTo>
                  <a:lnTo>
                    <a:pt x="1392" y="1074"/>
                  </a:lnTo>
                  <a:lnTo>
                    <a:pt x="1388" y="1074"/>
                  </a:lnTo>
                  <a:lnTo>
                    <a:pt x="1388" y="1069"/>
                  </a:lnTo>
                  <a:lnTo>
                    <a:pt x="1382" y="1069"/>
                  </a:lnTo>
                  <a:lnTo>
                    <a:pt x="1382" y="1063"/>
                  </a:lnTo>
                  <a:lnTo>
                    <a:pt x="1378" y="1063"/>
                  </a:lnTo>
                  <a:lnTo>
                    <a:pt x="1378" y="1057"/>
                  </a:lnTo>
                  <a:lnTo>
                    <a:pt x="1374" y="1057"/>
                  </a:lnTo>
                  <a:lnTo>
                    <a:pt x="1374" y="1052"/>
                  </a:lnTo>
                  <a:lnTo>
                    <a:pt x="1368" y="1052"/>
                  </a:lnTo>
                  <a:lnTo>
                    <a:pt x="1368" y="1046"/>
                  </a:lnTo>
                  <a:lnTo>
                    <a:pt x="1364" y="1046"/>
                  </a:lnTo>
                  <a:lnTo>
                    <a:pt x="1364" y="1041"/>
                  </a:lnTo>
                  <a:lnTo>
                    <a:pt x="1358" y="1041"/>
                  </a:lnTo>
                  <a:lnTo>
                    <a:pt x="1358" y="1033"/>
                  </a:lnTo>
                  <a:lnTo>
                    <a:pt x="1354" y="1033"/>
                  </a:lnTo>
                  <a:lnTo>
                    <a:pt x="1354" y="1028"/>
                  </a:lnTo>
                  <a:lnTo>
                    <a:pt x="1344" y="1028"/>
                  </a:lnTo>
                  <a:lnTo>
                    <a:pt x="1344" y="1022"/>
                  </a:lnTo>
                  <a:lnTo>
                    <a:pt x="1334" y="1022"/>
                  </a:lnTo>
                  <a:lnTo>
                    <a:pt x="1334" y="1016"/>
                  </a:lnTo>
                  <a:lnTo>
                    <a:pt x="1330" y="1016"/>
                  </a:lnTo>
                  <a:lnTo>
                    <a:pt x="1330" y="1009"/>
                  </a:lnTo>
                  <a:lnTo>
                    <a:pt x="1325" y="1009"/>
                  </a:lnTo>
                  <a:lnTo>
                    <a:pt x="1325" y="1004"/>
                  </a:lnTo>
                  <a:lnTo>
                    <a:pt x="1320" y="1004"/>
                  </a:lnTo>
                  <a:lnTo>
                    <a:pt x="1320" y="998"/>
                  </a:lnTo>
                  <a:lnTo>
                    <a:pt x="1315" y="998"/>
                  </a:lnTo>
                  <a:lnTo>
                    <a:pt x="1315" y="992"/>
                  </a:lnTo>
                  <a:lnTo>
                    <a:pt x="1306" y="992"/>
                  </a:lnTo>
                  <a:lnTo>
                    <a:pt x="1306" y="987"/>
                  </a:lnTo>
                  <a:lnTo>
                    <a:pt x="1301" y="987"/>
                  </a:lnTo>
                  <a:lnTo>
                    <a:pt x="1301" y="968"/>
                  </a:lnTo>
                  <a:lnTo>
                    <a:pt x="1297" y="968"/>
                  </a:lnTo>
                  <a:lnTo>
                    <a:pt x="1297" y="963"/>
                  </a:lnTo>
                  <a:lnTo>
                    <a:pt x="1286" y="963"/>
                  </a:lnTo>
                  <a:lnTo>
                    <a:pt x="1286" y="957"/>
                  </a:lnTo>
                  <a:lnTo>
                    <a:pt x="1281" y="957"/>
                  </a:lnTo>
                  <a:lnTo>
                    <a:pt x="1281" y="951"/>
                  </a:lnTo>
                  <a:lnTo>
                    <a:pt x="1277" y="951"/>
                  </a:lnTo>
                  <a:lnTo>
                    <a:pt x="1277" y="946"/>
                  </a:lnTo>
                  <a:lnTo>
                    <a:pt x="1271" y="946"/>
                  </a:lnTo>
                  <a:lnTo>
                    <a:pt x="1271" y="938"/>
                  </a:lnTo>
                  <a:lnTo>
                    <a:pt x="1267" y="938"/>
                  </a:lnTo>
                  <a:lnTo>
                    <a:pt x="1267" y="927"/>
                  </a:lnTo>
                  <a:lnTo>
                    <a:pt x="1262" y="927"/>
                  </a:lnTo>
                  <a:lnTo>
                    <a:pt x="1262" y="922"/>
                  </a:lnTo>
                  <a:lnTo>
                    <a:pt x="1258" y="922"/>
                  </a:lnTo>
                  <a:lnTo>
                    <a:pt x="1258" y="915"/>
                  </a:lnTo>
                  <a:lnTo>
                    <a:pt x="1253" y="915"/>
                  </a:lnTo>
                  <a:lnTo>
                    <a:pt x="1253" y="910"/>
                  </a:lnTo>
                  <a:lnTo>
                    <a:pt x="1248" y="910"/>
                  </a:lnTo>
                  <a:lnTo>
                    <a:pt x="1248" y="905"/>
                  </a:lnTo>
                  <a:lnTo>
                    <a:pt x="1244" y="905"/>
                  </a:lnTo>
                  <a:lnTo>
                    <a:pt x="1244" y="892"/>
                  </a:lnTo>
                  <a:lnTo>
                    <a:pt x="1238" y="892"/>
                  </a:lnTo>
                  <a:lnTo>
                    <a:pt x="1238" y="886"/>
                  </a:lnTo>
                  <a:lnTo>
                    <a:pt x="1234" y="886"/>
                  </a:lnTo>
                  <a:lnTo>
                    <a:pt x="1234" y="880"/>
                  </a:lnTo>
                  <a:lnTo>
                    <a:pt x="1229" y="880"/>
                  </a:lnTo>
                  <a:lnTo>
                    <a:pt x="1229" y="873"/>
                  </a:lnTo>
                  <a:lnTo>
                    <a:pt x="1224" y="873"/>
                  </a:lnTo>
                  <a:lnTo>
                    <a:pt x="1224" y="862"/>
                  </a:lnTo>
                  <a:lnTo>
                    <a:pt x="1219" y="862"/>
                  </a:lnTo>
                  <a:lnTo>
                    <a:pt x="1219" y="856"/>
                  </a:lnTo>
                  <a:lnTo>
                    <a:pt x="1214" y="856"/>
                  </a:lnTo>
                  <a:lnTo>
                    <a:pt x="1214" y="851"/>
                  </a:lnTo>
                  <a:lnTo>
                    <a:pt x="1209" y="851"/>
                  </a:lnTo>
                  <a:lnTo>
                    <a:pt x="1209" y="845"/>
                  </a:lnTo>
                  <a:lnTo>
                    <a:pt x="1204" y="845"/>
                  </a:lnTo>
                  <a:lnTo>
                    <a:pt x="1204" y="839"/>
                  </a:lnTo>
                  <a:lnTo>
                    <a:pt x="1200" y="839"/>
                  </a:lnTo>
                  <a:lnTo>
                    <a:pt x="1200" y="832"/>
                  </a:lnTo>
                  <a:lnTo>
                    <a:pt x="1195" y="832"/>
                  </a:lnTo>
                  <a:lnTo>
                    <a:pt x="1195" y="827"/>
                  </a:lnTo>
                  <a:lnTo>
                    <a:pt x="1190" y="827"/>
                  </a:lnTo>
                  <a:lnTo>
                    <a:pt x="1190" y="821"/>
                  </a:lnTo>
                  <a:lnTo>
                    <a:pt x="1185" y="821"/>
                  </a:lnTo>
                  <a:lnTo>
                    <a:pt x="1185" y="809"/>
                  </a:lnTo>
                  <a:lnTo>
                    <a:pt x="1181" y="809"/>
                  </a:lnTo>
                  <a:lnTo>
                    <a:pt x="1181" y="804"/>
                  </a:lnTo>
                  <a:lnTo>
                    <a:pt x="1171" y="804"/>
                  </a:lnTo>
                  <a:lnTo>
                    <a:pt x="1171" y="797"/>
                  </a:lnTo>
                  <a:lnTo>
                    <a:pt x="1167" y="797"/>
                  </a:lnTo>
                  <a:lnTo>
                    <a:pt x="1167" y="779"/>
                  </a:lnTo>
                  <a:lnTo>
                    <a:pt x="1162" y="779"/>
                  </a:lnTo>
                  <a:lnTo>
                    <a:pt x="1162" y="774"/>
                  </a:lnTo>
                  <a:lnTo>
                    <a:pt x="1157" y="774"/>
                  </a:lnTo>
                  <a:lnTo>
                    <a:pt x="1157" y="767"/>
                  </a:lnTo>
                  <a:lnTo>
                    <a:pt x="1152" y="767"/>
                  </a:lnTo>
                  <a:lnTo>
                    <a:pt x="1152" y="761"/>
                  </a:lnTo>
                  <a:lnTo>
                    <a:pt x="1148" y="761"/>
                  </a:lnTo>
                  <a:lnTo>
                    <a:pt x="1148" y="755"/>
                  </a:lnTo>
                  <a:lnTo>
                    <a:pt x="1141" y="755"/>
                  </a:lnTo>
                  <a:lnTo>
                    <a:pt x="1141" y="750"/>
                  </a:lnTo>
                  <a:lnTo>
                    <a:pt x="1137" y="750"/>
                  </a:lnTo>
                  <a:lnTo>
                    <a:pt x="1137" y="745"/>
                  </a:lnTo>
                  <a:lnTo>
                    <a:pt x="1132" y="745"/>
                  </a:lnTo>
                  <a:lnTo>
                    <a:pt x="1132" y="720"/>
                  </a:lnTo>
                  <a:lnTo>
                    <a:pt x="1127" y="720"/>
                  </a:lnTo>
                  <a:lnTo>
                    <a:pt x="1127" y="715"/>
                  </a:lnTo>
                  <a:lnTo>
                    <a:pt x="1123" y="715"/>
                  </a:lnTo>
                  <a:lnTo>
                    <a:pt x="1123" y="709"/>
                  </a:lnTo>
                  <a:lnTo>
                    <a:pt x="1118" y="709"/>
                  </a:lnTo>
                  <a:lnTo>
                    <a:pt x="1118" y="702"/>
                  </a:lnTo>
                  <a:lnTo>
                    <a:pt x="1114" y="702"/>
                  </a:lnTo>
                  <a:lnTo>
                    <a:pt x="1114" y="691"/>
                  </a:lnTo>
                  <a:lnTo>
                    <a:pt x="1108" y="691"/>
                  </a:lnTo>
                  <a:lnTo>
                    <a:pt x="1108" y="685"/>
                  </a:lnTo>
                  <a:lnTo>
                    <a:pt x="1099" y="685"/>
                  </a:lnTo>
                  <a:lnTo>
                    <a:pt x="1099" y="679"/>
                  </a:lnTo>
                  <a:lnTo>
                    <a:pt x="1094" y="679"/>
                  </a:lnTo>
                  <a:lnTo>
                    <a:pt x="1094" y="674"/>
                  </a:lnTo>
                  <a:lnTo>
                    <a:pt x="1090" y="674"/>
                  </a:lnTo>
                  <a:lnTo>
                    <a:pt x="1090" y="668"/>
                  </a:lnTo>
                  <a:lnTo>
                    <a:pt x="1085" y="668"/>
                  </a:lnTo>
                  <a:lnTo>
                    <a:pt x="1085" y="661"/>
                  </a:lnTo>
                  <a:lnTo>
                    <a:pt x="1080" y="661"/>
                  </a:lnTo>
                  <a:lnTo>
                    <a:pt x="1080" y="650"/>
                  </a:lnTo>
                  <a:lnTo>
                    <a:pt x="1076" y="650"/>
                  </a:lnTo>
                  <a:lnTo>
                    <a:pt x="1076" y="638"/>
                  </a:lnTo>
                  <a:lnTo>
                    <a:pt x="1070" y="638"/>
                  </a:lnTo>
                  <a:lnTo>
                    <a:pt x="1070" y="633"/>
                  </a:lnTo>
                  <a:lnTo>
                    <a:pt x="1065" y="633"/>
                  </a:lnTo>
                  <a:lnTo>
                    <a:pt x="1065" y="626"/>
                  </a:lnTo>
                  <a:lnTo>
                    <a:pt x="1060" y="626"/>
                  </a:lnTo>
                  <a:lnTo>
                    <a:pt x="1060" y="614"/>
                  </a:lnTo>
                  <a:lnTo>
                    <a:pt x="1056" y="614"/>
                  </a:lnTo>
                  <a:lnTo>
                    <a:pt x="1056" y="609"/>
                  </a:lnTo>
                  <a:lnTo>
                    <a:pt x="1051" y="609"/>
                  </a:lnTo>
                  <a:lnTo>
                    <a:pt x="1051" y="601"/>
                  </a:lnTo>
                  <a:lnTo>
                    <a:pt x="1046" y="601"/>
                  </a:lnTo>
                  <a:lnTo>
                    <a:pt x="1046" y="596"/>
                  </a:lnTo>
                  <a:lnTo>
                    <a:pt x="1041" y="596"/>
                  </a:lnTo>
                  <a:lnTo>
                    <a:pt x="1041" y="584"/>
                  </a:lnTo>
                  <a:lnTo>
                    <a:pt x="1032" y="584"/>
                  </a:lnTo>
                  <a:lnTo>
                    <a:pt x="1032" y="579"/>
                  </a:lnTo>
                  <a:lnTo>
                    <a:pt x="1027" y="579"/>
                  </a:lnTo>
                  <a:lnTo>
                    <a:pt x="1027" y="573"/>
                  </a:lnTo>
                  <a:lnTo>
                    <a:pt x="1023" y="573"/>
                  </a:lnTo>
                  <a:lnTo>
                    <a:pt x="1023" y="560"/>
                  </a:lnTo>
                  <a:lnTo>
                    <a:pt x="1018" y="560"/>
                  </a:lnTo>
                  <a:lnTo>
                    <a:pt x="1018" y="555"/>
                  </a:lnTo>
                  <a:lnTo>
                    <a:pt x="1013" y="555"/>
                  </a:lnTo>
                  <a:lnTo>
                    <a:pt x="1013" y="549"/>
                  </a:lnTo>
                  <a:lnTo>
                    <a:pt x="1008" y="549"/>
                  </a:lnTo>
                  <a:lnTo>
                    <a:pt x="1008" y="543"/>
                  </a:lnTo>
                  <a:lnTo>
                    <a:pt x="1004" y="543"/>
                  </a:lnTo>
                  <a:lnTo>
                    <a:pt x="1004" y="538"/>
                  </a:lnTo>
                  <a:lnTo>
                    <a:pt x="998" y="538"/>
                  </a:lnTo>
                  <a:lnTo>
                    <a:pt x="998" y="532"/>
                  </a:lnTo>
                  <a:lnTo>
                    <a:pt x="993" y="532"/>
                  </a:lnTo>
                  <a:lnTo>
                    <a:pt x="993" y="525"/>
                  </a:lnTo>
                  <a:lnTo>
                    <a:pt x="989" y="525"/>
                  </a:lnTo>
                  <a:lnTo>
                    <a:pt x="989" y="519"/>
                  </a:lnTo>
                  <a:lnTo>
                    <a:pt x="979" y="519"/>
                  </a:lnTo>
                  <a:lnTo>
                    <a:pt x="979" y="514"/>
                  </a:lnTo>
                  <a:lnTo>
                    <a:pt x="974" y="514"/>
                  </a:lnTo>
                  <a:lnTo>
                    <a:pt x="974" y="502"/>
                  </a:lnTo>
                  <a:lnTo>
                    <a:pt x="970" y="502"/>
                  </a:lnTo>
                  <a:lnTo>
                    <a:pt x="970" y="490"/>
                  </a:lnTo>
                  <a:lnTo>
                    <a:pt x="964" y="490"/>
                  </a:lnTo>
                  <a:lnTo>
                    <a:pt x="964" y="484"/>
                  </a:lnTo>
                  <a:lnTo>
                    <a:pt x="960" y="484"/>
                  </a:lnTo>
                  <a:lnTo>
                    <a:pt x="960" y="478"/>
                  </a:lnTo>
                  <a:lnTo>
                    <a:pt x="956" y="478"/>
                  </a:lnTo>
                  <a:lnTo>
                    <a:pt x="956" y="465"/>
                  </a:lnTo>
                  <a:lnTo>
                    <a:pt x="950" y="465"/>
                  </a:lnTo>
                  <a:lnTo>
                    <a:pt x="950" y="460"/>
                  </a:lnTo>
                  <a:lnTo>
                    <a:pt x="946" y="460"/>
                  </a:lnTo>
                  <a:lnTo>
                    <a:pt x="946" y="449"/>
                  </a:lnTo>
                  <a:lnTo>
                    <a:pt x="941" y="449"/>
                  </a:lnTo>
                  <a:lnTo>
                    <a:pt x="941" y="442"/>
                  </a:lnTo>
                  <a:lnTo>
                    <a:pt x="936" y="442"/>
                  </a:lnTo>
                  <a:lnTo>
                    <a:pt x="936" y="437"/>
                  </a:lnTo>
                  <a:lnTo>
                    <a:pt x="931" y="437"/>
                  </a:lnTo>
                  <a:lnTo>
                    <a:pt x="931" y="432"/>
                  </a:lnTo>
                  <a:lnTo>
                    <a:pt x="926" y="432"/>
                  </a:lnTo>
                  <a:lnTo>
                    <a:pt x="926" y="424"/>
                  </a:lnTo>
                  <a:lnTo>
                    <a:pt x="921" y="424"/>
                  </a:lnTo>
                  <a:lnTo>
                    <a:pt x="921" y="419"/>
                  </a:lnTo>
                  <a:lnTo>
                    <a:pt x="916" y="419"/>
                  </a:lnTo>
                  <a:lnTo>
                    <a:pt x="916" y="413"/>
                  </a:lnTo>
                  <a:lnTo>
                    <a:pt x="912" y="413"/>
                  </a:lnTo>
                  <a:lnTo>
                    <a:pt x="912" y="407"/>
                  </a:lnTo>
                  <a:lnTo>
                    <a:pt x="907" y="407"/>
                  </a:lnTo>
                  <a:lnTo>
                    <a:pt x="907" y="401"/>
                  </a:lnTo>
                  <a:lnTo>
                    <a:pt x="902" y="401"/>
                  </a:lnTo>
                  <a:lnTo>
                    <a:pt x="902" y="383"/>
                  </a:lnTo>
                  <a:lnTo>
                    <a:pt x="897" y="383"/>
                  </a:lnTo>
                  <a:lnTo>
                    <a:pt x="897" y="378"/>
                  </a:lnTo>
                  <a:lnTo>
                    <a:pt x="893" y="378"/>
                  </a:lnTo>
                  <a:lnTo>
                    <a:pt x="893" y="366"/>
                  </a:lnTo>
                  <a:lnTo>
                    <a:pt x="887" y="366"/>
                  </a:lnTo>
                  <a:lnTo>
                    <a:pt x="887" y="359"/>
                  </a:lnTo>
                  <a:lnTo>
                    <a:pt x="883" y="359"/>
                  </a:lnTo>
                  <a:lnTo>
                    <a:pt x="883" y="348"/>
                  </a:lnTo>
                  <a:lnTo>
                    <a:pt x="878" y="348"/>
                  </a:lnTo>
                  <a:lnTo>
                    <a:pt x="878" y="337"/>
                  </a:lnTo>
                  <a:lnTo>
                    <a:pt x="874" y="337"/>
                  </a:lnTo>
                  <a:lnTo>
                    <a:pt x="874" y="331"/>
                  </a:lnTo>
                  <a:lnTo>
                    <a:pt x="864" y="331"/>
                  </a:lnTo>
                  <a:lnTo>
                    <a:pt x="864" y="313"/>
                  </a:lnTo>
                  <a:lnTo>
                    <a:pt x="860" y="313"/>
                  </a:lnTo>
                  <a:lnTo>
                    <a:pt x="860" y="307"/>
                  </a:lnTo>
                  <a:lnTo>
                    <a:pt x="853" y="307"/>
                  </a:lnTo>
                  <a:lnTo>
                    <a:pt x="853" y="301"/>
                  </a:lnTo>
                  <a:lnTo>
                    <a:pt x="849" y="301"/>
                  </a:lnTo>
                  <a:lnTo>
                    <a:pt x="849" y="296"/>
                  </a:lnTo>
                  <a:lnTo>
                    <a:pt x="844" y="296"/>
                  </a:lnTo>
                  <a:lnTo>
                    <a:pt x="844" y="288"/>
                  </a:lnTo>
                  <a:lnTo>
                    <a:pt x="839" y="288"/>
                  </a:lnTo>
                  <a:lnTo>
                    <a:pt x="839" y="283"/>
                  </a:lnTo>
                  <a:lnTo>
                    <a:pt x="834" y="283"/>
                  </a:lnTo>
                  <a:lnTo>
                    <a:pt x="834" y="272"/>
                  </a:lnTo>
                  <a:lnTo>
                    <a:pt x="830" y="272"/>
                  </a:lnTo>
                  <a:lnTo>
                    <a:pt x="830" y="266"/>
                  </a:lnTo>
                  <a:lnTo>
                    <a:pt x="825" y="266"/>
                  </a:lnTo>
                  <a:lnTo>
                    <a:pt x="825" y="255"/>
                  </a:lnTo>
                  <a:lnTo>
                    <a:pt x="820" y="255"/>
                  </a:lnTo>
                  <a:lnTo>
                    <a:pt x="820" y="242"/>
                  </a:lnTo>
                  <a:lnTo>
                    <a:pt x="816" y="242"/>
                  </a:lnTo>
                  <a:lnTo>
                    <a:pt x="816" y="236"/>
                  </a:lnTo>
                  <a:lnTo>
                    <a:pt x="811" y="236"/>
                  </a:lnTo>
                  <a:lnTo>
                    <a:pt x="811" y="225"/>
                  </a:lnTo>
                  <a:lnTo>
                    <a:pt x="806" y="225"/>
                  </a:lnTo>
                  <a:lnTo>
                    <a:pt x="806" y="218"/>
                  </a:lnTo>
                  <a:lnTo>
                    <a:pt x="801" y="218"/>
                  </a:lnTo>
                  <a:lnTo>
                    <a:pt x="801" y="212"/>
                  </a:lnTo>
                  <a:lnTo>
                    <a:pt x="797" y="212"/>
                  </a:lnTo>
                  <a:lnTo>
                    <a:pt x="797" y="206"/>
                  </a:lnTo>
                  <a:lnTo>
                    <a:pt x="792" y="206"/>
                  </a:lnTo>
                  <a:lnTo>
                    <a:pt x="792" y="201"/>
                  </a:lnTo>
                  <a:lnTo>
                    <a:pt x="787" y="201"/>
                  </a:lnTo>
                  <a:lnTo>
                    <a:pt x="787" y="195"/>
                  </a:lnTo>
                  <a:lnTo>
                    <a:pt x="782" y="195"/>
                  </a:lnTo>
                  <a:lnTo>
                    <a:pt x="782" y="188"/>
                  </a:lnTo>
                  <a:lnTo>
                    <a:pt x="777" y="188"/>
                  </a:lnTo>
                  <a:lnTo>
                    <a:pt x="777" y="177"/>
                  </a:lnTo>
                  <a:lnTo>
                    <a:pt x="772" y="177"/>
                  </a:lnTo>
                  <a:lnTo>
                    <a:pt x="772" y="165"/>
                  </a:lnTo>
                  <a:lnTo>
                    <a:pt x="767" y="165"/>
                  </a:lnTo>
                  <a:lnTo>
                    <a:pt x="767" y="160"/>
                  </a:lnTo>
                  <a:lnTo>
                    <a:pt x="763" y="160"/>
                  </a:lnTo>
                  <a:lnTo>
                    <a:pt x="763" y="147"/>
                  </a:lnTo>
                  <a:lnTo>
                    <a:pt x="757" y="147"/>
                  </a:lnTo>
                  <a:lnTo>
                    <a:pt x="757" y="141"/>
                  </a:lnTo>
                  <a:lnTo>
                    <a:pt x="753" y="141"/>
                  </a:lnTo>
                  <a:lnTo>
                    <a:pt x="753" y="136"/>
                  </a:lnTo>
                  <a:lnTo>
                    <a:pt x="749" y="136"/>
                  </a:lnTo>
                  <a:lnTo>
                    <a:pt x="749" y="123"/>
                  </a:lnTo>
                  <a:lnTo>
                    <a:pt x="743" y="123"/>
                  </a:lnTo>
                  <a:lnTo>
                    <a:pt x="743" y="118"/>
                  </a:lnTo>
                  <a:lnTo>
                    <a:pt x="739" y="118"/>
                  </a:lnTo>
                  <a:lnTo>
                    <a:pt x="739" y="111"/>
                  </a:lnTo>
                  <a:lnTo>
                    <a:pt x="705" y="111"/>
                  </a:lnTo>
                  <a:lnTo>
                    <a:pt x="705" y="118"/>
                  </a:lnTo>
                  <a:lnTo>
                    <a:pt x="695" y="118"/>
                  </a:lnTo>
                  <a:lnTo>
                    <a:pt x="695" y="123"/>
                  </a:lnTo>
                  <a:lnTo>
                    <a:pt x="691" y="123"/>
                  </a:lnTo>
                  <a:lnTo>
                    <a:pt x="691" y="128"/>
                  </a:lnTo>
                  <a:lnTo>
                    <a:pt x="686" y="128"/>
                  </a:lnTo>
                  <a:lnTo>
                    <a:pt x="686" y="136"/>
                  </a:lnTo>
                  <a:lnTo>
                    <a:pt x="681" y="136"/>
                  </a:lnTo>
                  <a:lnTo>
                    <a:pt x="681" y="141"/>
                  </a:lnTo>
                  <a:lnTo>
                    <a:pt x="676" y="141"/>
                  </a:lnTo>
                  <a:lnTo>
                    <a:pt x="676" y="147"/>
                  </a:lnTo>
                  <a:lnTo>
                    <a:pt x="672" y="147"/>
                  </a:lnTo>
                  <a:lnTo>
                    <a:pt x="672" y="153"/>
                  </a:lnTo>
                  <a:lnTo>
                    <a:pt x="662" y="153"/>
                  </a:lnTo>
                  <a:lnTo>
                    <a:pt x="662" y="160"/>
                  </a:lnTo>
                  <a:lnTo>
                    <a:pt x="658" y="160"/>
                  </a:lnTo>
                  <a:lnTo>
                    <a:pt x="658" y="165"/>
                  </a:lnTo>
                  <a:lnTo>
                    <a:pt x="653" y="165"/>
                  </a:lnTo>
                  <a:lnTo>
                    <a:pt x="653" y="177"/>
                  </a:lnTo>
                  <a:lnTo>
                    <a:pt x="643" y="177"/>
                  </a:lnTo>
                  <a:lnTo>
                    <a:pt x="643" y="182"/>
                  </a:lnTo>
                  <a:lnTo>
                    <a:pt x="633" y="182"/>
                  </a:lnTo>
                  <a:lnTo>
                    <a:pt x="633" y="188"/>
                  </a:lnTo>
                  <a:lnTo>
                    <a:pt x="628" y="188"/>
                  </a:lnTo>
                  <a:lnTo>
                    <a:pt x="628" y="195"/>
                  </a:lnTo>
                  <a:lnTo>
                    <a:pt x="623" y="195"/>
                  </a:lnTo>
                  <a:lnTo>
                    <a:pt x="623" y="201"/>
                  </a:lnTo>
                  <a:lnTo>
                    <a:pt x="614" y="201"/>
                  </a:lnTo>
                  <a:lnTo>
                    <a:pt x="614" y="206"/>
                  </a:lnTo>
                  <a:lnTo>
                    <a:pt x="609" y="206"/>
                  </a:lnTo>
                  <a:lnTo>
                    <a:pt x="609" y="212"/>
                  </a:lnTo>
                  <a:lnTo>
                    <a:pt x="599" y="212"/>
                  </a:lnTo>
                  <a:lnTo>
                    <a:pt x="599" y="218"/>
                  </a:lnTo>
                  <a:lnTo>
                    <a:pt x="595" y="218"/>
                  </a:lnTo>
                  <a:lnTo>
                    <a:pt x="595" y="225"/>
                  </a:lnTo>
                  <a:lnTo>
                    <a:pt x="586" y="225"/>
                  </a:lnTo>
                  <a:lnTo>
                    <a:pt x="586" y="230"/>
                  </a:lnTo>
                  <a:lnTo>
                    <a:pt x="580" y="230"/>
                  </a:lnTo>
                  <a:lnTo>
                    <a:pt x="580" y="236"/>
                  </a:lnTo>
                  <a:lnTo>
                    <a:pt x="576" y="236"/>
                  </a:lnTo>
                  <a:lnTo>
                    <a:pt x="576" y="242"/>
                  </a:lnTo>
                  <a:lnTo>
                    <a:pt x="572" y="242"/>
                  </a:lnTo>
                  <a:lnTo>
                    <a:pt x="572" y="247"/>
                  </a:lnTo>
                  <a:lnTo>
                    <a:pt x="565" y="247"/>
                  </a:lnTo>
                  <a:lnTo>
                    <a:pt x="565" y="255"/>
                  </a:lnTo>
                  <a:lnTo>
                    <a:pt x="556" y="255"/>
                  </a:lnTo>
                  <a:lnTo>
                    <a:pt x="556" y="260"/>
                  </a:lnTo>
                  <a:lnTo>
                    <a:pt x="551" y="260"/>
                  </a:lnTo>
                  <a:lnTo>
                    <a:pt x="551" y="266"/>
                  </a:lnTo>
                  <a:lnTo>
                    <a:pt x="542" y="266"/>
                  </a:lnTo>
                  <a:lnTo>
                    <a:pt x="542" y="272"/>
                  </a:lnTo>
                  <a:lnTo>
                    <a:pt x="532" y="272"/>
                  </a:lnTo>
                  <a:lnTo>
                    <a:pt x="532" y="277"/>
                  </a:lnTo>
                  <a:lnTo>
                    <a:pt x="528" y="277"/>
                  </a:lnTo>
                  <a:lnTo>
                    <a:pt x="528" y="283"/>
                  </a:lnTo>
                  <a:lnTo>
                    <a:pt x="523" y="283"/>
                  </a:lnTo>
                  <a:lnTo>
                    <a:pt x="523" y="288"/>
                  </a:lnTo>
                  <a:lnTo>
                    <a:pt x="509" y="288"/>
                  </a:lnTo>
                  <a:lnTo>
                    <a:pt x="509" y="296"/>
                  </a:lnTo>
                  <a:lnTo>
                    <a:pt x="503" y="296"/>
                  </a:lnTo>
                  <a:lnTo>
                    <a:pt x="503" y="307"/>
                  </a:lnTo>
                  <a:lnTo>
                    <a:pt x="499" y="307"/>
                  </a:lnTo>
                  <a:lnTo>
                    <a:pt x="499" y="313"/>
                  </a:lnTo>
                  <a:lnTo>
                    <a:pt x="489" y="313"/>
                  </a:lnTo>
                  <a:lnTo>
                    <a:pt x="489" y="318"/>
                  </a:lnTo>
                  <a:lnTo>
                    <a:pt x="484" y="318"/>
                  </a:lnTo>
                  <a:lnTo>
                    <a:pt x="484" y="324"/>
                  </a:lnTo>
                  <a:lnTo>
                    <a:pt x="475" y="324"/>
                  </a:lnTo>
                  <a:lnTo>
                    <a:pt x="475" y="331"/>
                  </a:lnTo>
                  <a:lnTo>
                    <a:pt x="469" y="331"/>
                  </a:lnTo>
                  <a:lnTo>
                    <a:pt x="469" y="337"/>
                  </a:lnTo>
                  <a:lnTo>
                    <a:pt x="465" y="337"/>
                  </a:lnTo>
                  <a:lnTo>
                    <a:pt x="465" y="342"/>
                  </a:lnTo>
                  <a:lnTo>
                    <a:pt x="455" y="342"/>
                  </a:lnTo>
                  <a:lnTo>
                    <a:pt x="455" y="348"/>
                  </a:lnTo>
                  <a:lnTo>
                    <a:pt x="451" y="348"/>
                  </a:lnTo>
                  <a:lnTo>
                    <a:pt x="451" y="354"/>
                  </a:lnTo>
                  <a:lnTo>
                    <a:pt x="446" y="354"/>
                  </a:lnTo>
                  <a:lnTo>
                    <a:pt x="446" y="359"/>
                  </a:lnTo>
                  <a:lnTo>
                    <a:pt x="442" y="359"/>
                  </a:lnTo>
                  <a:lnTo>
                    <a:pt x="442" y="366"/>
                  </a:lnTo>
                  <a:lnTo>
                    <a:pt x="432" y="366"/>
                  </a:lnTo>
                  <a:lnTo>
                    <a:pt x="432" y="372"/>
                  </a:lnTo>
                  <a:lnTo>
                    <a:pt x="427" y="372"/>
                  </a:lnTo>
                  <a:lnTo>
                    <a:pt x="427" y="378"/>
                  </a:lnTo>
                  <a:lnTo>
                    <a:pt x="416" y="378"/>
                  </a:lnTo>
                  <a:lnTo>
                    <a:pt x="416" y="383"/>
                  </a:lnTo>
                  <a:lnTo>
                    <a:pt x="412" y="383"/>
                  </a:lnTo>
                  <a:lnTo>
                    <a:pt x="412" y="389"/>
                  </a:lnTo>
                  <a:lnTo>
                    <a:pt x="407" y="389"/>
                  </a:lnTo>
                  <a:lnTo>
                    <a:pt x="407" y="396"/>
                  </a:lnTo>
                  <a:lnTo>
                    <a:pt x="393" y="396"/>
                  </a:lnTo>
                  <a:lnTo>
                    <a:pt x="393" y="401"/>
                  </a:lnTo>
                  <a:lnTo>
                    <a:pt x="388" y="401"/>
                  </a:lnTo>
                  <a:lnTo>
                    <a:pt x="388" y="407"/>
                  </a:lnTo>
                  <a:lnTo>
                    <a:pt x="384" y="407"/>
                  </a:lnTo>
                  <a:lnTo>
                    <a:pt x="384" y="413"/>
                  </a:lnTo>
                  <a:lnTo>
                    <a:pt x="374" y="413"/>
                  </a:lnTo>
                  <a:lnTo>
                    <a:pt x="374" y="419"/>
                  </a:lnTo>
                  <a:lnTo>
                    <a:pt x="369" y="419"/>
                  </a:lnTo>
                  <a:lnTo>
                    <a:pt x="369" y="424"/>
                  </a:lnTo>
                  <a:lnTo>
                    <a:pt x="365" y="424"/>
                  </a:lnTo>
                  <a:lnTo>
                    <a:pt x="365" y="432"/>
                  </a:lnTo>
                  <a:lnTo>
                    <a:pt x="359" y="432"/>
                  </a:lnTo>
                  <a:lnTo>
                    <a:pt x="359" y="437"/>
                  </a:lnTo>
                  <a:lnTo>
                    <a:pt x="355" y="437"/>
                  </a:lnTo>
                  <a:lnTo>
                    <a:pt x="355" y="442"/>
                  </a:lnTo>
                  <a:lnTo>
                    <a:pt x="345" y="442"/>
                  </a:lnTo>
                  <a:lnTo>
                    <a:pt x="345" y="449"/>
                  </a:lnTo>
                  <a:lnTo>
                    <a:pt x="340" y="449"/>
                  </a:lnTo>
                  <a:lnTo>
                    <a:pt x="340" y="454"/>
                  </a:lnTo>
                  <a:lnTo>
                    <a:pt x="335" y="454"/>
                  </a:lnTo>
                  <a:lnTo>
                    <a:pt x="335" y="460"/>
                  </a:lnTo>
                  <a:lnTo>
                    <a:pt x="325" y="460"/>
                  </a:lnTo>
                  <a:lnTo>
                    <a:pt x="325" y="465"/>
                  </a:lnTo>
                  <a:lnTo>
                    <a:pt x="321" y="465"/>
                  </a:lnTo>
                  <a:lnTo>
                    <a:pt x="321" y="473"/>
                  </a:lnTo>
                  <a:lnTo>
                    <a:pt x="311" y="473"/>
                  </a:lnTo>
                  <a:lnTo>
                    <a:pt x="311" y="478"/>
                  </a:lnTo>
                  <a:lnTo>
                    <a:pt x="307" y="478"/>
                  </a:lnTo>
                  <a:lnTo>
                    <a:pt x="307" y="484"/>
                  </a:lnTo>
                  <a:lnTo>
                    <a:pt x="297" y="484"/>
                  </a:lnTo>
                  <a:lnTo>
                    <a:pt x="297" y="490"/>
                  </a:lnTo>
                  <a:lnTo>
                    <a:pt x="292" y="490"/>
                  </a:lnTo>
                  <a:lnTo>
                    <a:pt x="292" y="495"/>
                  </a:lnTo>
                  <a:lnTo>
                    <a:pt x="288" y="495"/>
                  </a:lnTo>
                  <a:lnTo>
                    <a:pt x="288" y="502"/>
                  </a:lnTo>
                  <a:lnTo>
                    <a:pt x="278" y="502"/>
                  </a:lnTo>
                  <a:lnTo>
                    <a:pt x="278" y="508"/>
                  </a:lnTo>
                  <a:lnTo>
                    <a:pt x="273" y="508"/>
                  </a:lnTo>
                  <a:lnTo>
                    <a:pt x="273" y="514"/>
                  </a:lnTo>
                  <a:lnTo>
                    <a:pt x="268" y="514"/>
                  </a:lnTo>
                  <a:lnTo>
                    <a:pt x="268" y="519"/>
                  </a:lnTo>
                  <a:lnTo>
                    <a:pt x="258" y="519"/>
                  </a:lnTo>
                  <a:lnTo>
                    <a:pt x="258" y="525"/>
                  </a:lnTo>
                  <a:lnTo>
                    <a:pt x="254" y="525"/>
                  </a:lnTo>
                  <a:lnTo>
                    <a:pt x="254" y="532"/>
                  </a:lnTo>
                  <a:lnTo>
                    <a:pt x="244" y="532"/>
                  </a:lnTo>
                  <a:lnTo>
                    <a:pt x="244" y="538"/>
                  </a:lnTo>
                  <a:lnTo>
                    <a:pt x="239" y="538"/>
                  </a:lnTo>
                  <a:lnTo>
                    <a:pt x="239" y="543"/>
                  </a:lnTo>
                  <a:lnTo>
                    <a:pt x="235" y="543"/>
                  </a:lnTo>
                  <a:lnTo>
                    <a:pt x="235" y="549"/>
                  </a:lnTo>
                  <a:lnTo>
                    <a:pt x="225" y="549"/>
                  </a:lnTo>
                  <a:lnTo>
                    <a:pt x="225" y="555"/>
                  </a:lnTo>
                  <a:lnTo>
                    <a:pt x="215" y="555"/>
                  </a:lnTo>
                  <a:lnTo>
                    <a:pt x="215" y="560"/>
                  </a:lnTo>
                  <a:lnTo>
                    <a:pt x="211" y="560"/>
                  </a:lnTo>
                  <a:lnTo>
                    <a:pt x="211" y="568"/>
                  </a:lnTo>
                  <a:lnTo>
                    <a:pt x="206" y="568"/>
                  </a:lnTo>
                  <a:lnTo>
                    <a:pt x="206" y="573"/>
                  </a:lnTo>
                  <a:lnTo>
                    <a:pt x="201" y="573"/>
                  </a:lnTo>
                  <a:lnTo>
                    <a:pt x="201" y="579"/>
                  </a:lnTo>
                  <a:lnTo>
                    <a:pt x="191" y="579"/>
                  </a:lnTo>
                  <a:lnTo>
                    <a:pt x="191" y="584"/>
                  </a:lnTo>
                  <a:lnTo>
                    <a:pt x="187" y="584"/>
                  </a:lnTo>
                  <a:lnTo>
                    <a:pt x="187" y="591"/>
                  </a:lnTo>
                  <a:lnTo>
                    <a:pt x="177" y="591"/>
                  </a:lnTo>
                  <a:lnTo>
                    <a:pt x="177" y="596"/>
                  </a:lnTo>
                  <a:lnTo>
                    <a:pt x="172" y="596"/>
                  </a:lnTo>
                  <a:lnTo>
                    <a:pt x="172" y="601"/>
                  </a:lnTo>
                  <a:lnTo>
                    <a:pt x="158" y="601"/>
                  </a:lnTo>
                  <a:lnTo>
                    <a:pt x="158" y="609"/>
                  </a:lnTo>
                  <a:lnTo>
                    <a:pt x="148" y="609"/>
                  </a:lnTo>
                  <a:lnTo>
                    <a:pt x="148" y="614"/>
                  </a:lnTo>
                  <a:lnTo>
                    <a:pt x="144" y="614"/>
                  </a:lnTo>
                  <a:lnTo>
                    <a:pt x="144" y="620"/>
                  </a:lnTo>
                  <a:lnTo>
                    <a:pt x="134" y="620"/>
                  </a:lnTo>
                  <a:lnTo>
                    <a:pt x="134" y="633"/>
                  </a:lnTo>
                  <a:lnTo>
                    <a:pt x="124" y="633"/>
                  </a:lnTo>
                  <a:lnTo>
                    <a:pt x="124" y="638"/>
                  </a:lnTo>
                  <a:lnTo>
                    <a:pt x="114" y="638"/>
                  </a:lnTo>
                  <a:lnTo>
                    <a:pt x="114" y="650"/>
                  </a:lnTo>
                  <a:lnTo>
                    <a:pt x="105" y="650"/>
                  </a:lnTo>
                  <a:lnTo>
                    <a:pt x="105" y="655"/>
                  </a:lnTo>
                  <a:lnTo>
                    <a:pt x="95" y="655"/>
                  </a:lnTo>
                  <a:lnTo>
                    <a:pt x="95" y="661"/>
                  </a:lnTo>
                  <a:lnTo>
                    <a:pt x="81" y="661"/>
                  </a:lnTo>
                  <a:lnTo>
                    <a:pt x="81" y="668"/>
                  </a:lnTo>
                  <a:lnTo>
                    <a:pt x="67" y="668"/>
                  </a:lnTo>
                  <a:lnTo>
                    <a:pt x="67" y="674"/>
                  </a:lnTo>
                  <a:lnTo>
                    <a:pt x="62" y="674"/>
                  </a:lnTo>
                  <a:lnTo>
                    <a:pt x="62" y="679"/>
                  </a:lnTo>
                  <a:lnTo>
                    <a:pt x="57" y="679"/>
                  </a:lnTo>
                  <a:lnTo>
                    <a:pt x="57" y="685"/>
                  </a:lnTo>
                  <a:lnTo>
                    <a:pt x="51" y="685"/>
                  </a:lnTo>
                  <a:lnTo>
                    <a:pt x="51" y="691"/>
                  </a:lnTo>
                  <a:lnTo>
                    <a:pt x="43" y="691"/>
                  </a:lnTo>
                  <a:lnTo>
                    <a:pt x="43" y="696"/>
                  </a:lnTo>
                  <a:lnTo>
                    <a:pt x="37" y="696"/>
                  </a:lnTo>
                  <a:lnTo>
                    <a:pt x="37" y="702"/>
                  </a:lnTo>
                  <a:lnTo>
                    <a:pt x="18" y="702"/>
                  </a:lnTo>
                  <a:lnTo>
                    <a:pt x="18" y="696"/>
                  </a:lnTo>
                  <a:lnTo>
                    <a:pt x="14" y="696"/>
                  </a:lnTo>
                  <a:lnTo>
                    <a:pt x="14" y="691"/>
                  </a:lnTo>
                  <a:lnTo>
                    <a:pt x="9" y="691"/>
                  </a:lnTo>
                  <a:lnTo>
                    <a:pt x="9" y="679"/>
                  </a:lnTo>
                  <a:lnTo>
                    <a:pt x="4" y="679"/>
                  </a:lnTo>
                  <a:lnTo>
                    <a:pt x="4" y="668"/>
                  </a:lnTo>
                  <a:lnTo>
                    <a:pt x="0" y="668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0920" y="2049120"/>
              <a:ext cx="50760" cy="28800"/>
            </a:xfrm>
            <a:custGeom>
              <a:avLst/>
              <a:gdLst/>
              <a:ahLst/>
              <a:rect l="l" t="t" r="r" b="b"/>
              <a:pathLst>
                <a:path w="197" h="148">
                  <a:moveTo>
                    <a:pt x="0" y="25"/>
                  </a:moveTo>
                  <a:lnTo>
                    <a:pt x="4" y="25"/>
                  </a:lnTo>
                  <a:lnTo>
                    <a:pt x="4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8" y="7"/>
                  </a:lnTo>
                  <a:lnTo>
                    <a:pt x="48" y="12"/>
                  </a:lnTo>
                  <a:lnTo>
                    <a:pt x="63" y="12"/>
                  </a:lnTo>
                  <a:lnTo>
                    <a:pt x="63" y="18"/>
                  </a:lnTo>
                  <a:lnTo>
                    <a:pt x="77" y="18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1" y="31"/>
                  </a:lnTo>
                  <a:lnTo>
                    <a:pt x="92" y="31"/>
                  </a:lnTo>
                  <a:lnTo>
                    <a:pt x="92" y="36"/>
                  </a:lnTo>
                  <a:lnTo>
                    <a:pt x="101" y="36"/>
                  </a:lnTo>
                  <a:lnTo>
                    <a:pt x="101" y="42"/>
                  </a:lnTo>
                  <a:lnTo>
                    <a:pt x="106" y="42"/>
                  </a:lnTo>
                  <a:lnTo>
                    <a:pt x="106" y="48"/>
                  </a:lnTo>
                  <a:lnTo>
                    <a:pt x="130" y="48"/>
                  </a:lnTo>
                  <a:lnTo>
                    <a:pt x="130" y="53"/>
                  </a:lnTo>
                  <a:lnTo>
                    <a:pt x="144" y="53"/>
                  </a:lnTo>
                  <a:lnTo>
                    <a:pt x="144" y="60"/>
                  </a:lnTo>
                  <a:lnTo>
                    <a:pt x="159" y="60"/>
                  </a:lnTo>
                  <a:lnTo>
                    <a:pt x="159" y="66"/>
                  </a:lnTo>
                  <a:lnTo>
                    <a:pt x="168" y="66"/>
                  </a:lnTo>
                  <a:lnTo>
                    <a:pt x="168" y="72"/>
                  </a:lnTo>
                  <a:lnTo>
                    <a:pt x="183" y="72"/>
                  </a:lnTo>
                  <a:lnTo>
                    <a:pt x="183" y="77"/>
                  </a:lnTo>
                  <a:lnTo>
                    <a:pt x="197" y="77"/>
                  </a:lnTo>
                  <a:lnTo>
                    <a:pt x="197" y="94"/>
                  </a:lnTo>
                  <a:lnTo>
                    <a:pt x="192" y="94"/>
                  </a:lnTo>
                  <a:lnTo>
                    <a:pt x="192" y="101"/>
                  </a:lnTo>
                  <a:lnTo>
                    <a:pt x="188" y="101"/>
                  </a:lnTo>
                  <a:lnTo>
                    <a:pt x="188" y="113"/>
                  </a:lnTo>
                  <a:lnTo>
                    <a:pt x="183" y="113"/>
                  </a:lnTo>
                  <a:lnTo>
                    <a:pt x="183" y="126"/>
                  </a:lnTo>
                  <a:lnTo>
                    <a:pt x="178" y="126"/>
                  </a:lnTo>
                  <a:lnTo>
                    <a:pt x="178" y="143"/>
                  </a:lnTo>
                  <a:lnTo>
                    <a:pt x="174" y="143"/>
                  </a:lnTo>
                  <a:lnTo>
                    <a:pt x="174" y="148"/>
                  </a:lnTo>
                  <a:lnTo>
                    <a:pt x="148" y="148"/>
                  </a:lnTo>
                  <a:lnTo>
                    <a:pt x="148" y="143"/>
                  </a:lnTo>
                  <a:lnTo>
                    <a:pt x="140" y="143"/>
                  </a:lnTo>
                  <a:lnTo>
                    <a:pt x="140" y="137"/>
                  </a:lnTo>
                  <a:lnTo>
                    <a:pt x="120" y="137"/>
                  </a:lnTo>
                  <a:lnTo>
                    <a:pt x="120" y="131"/>
                  </a:lnTo>
                  <a:lnTo>
                    <a:pt x="97" y="131"/>
                  </a:lnTo>
                  <a:lnTo>
                    <a:pt x="97" y="126"/>
                  </a:lnTo>
                  <a:lnTo>
                    <a:pt x="92" y="126"/>
                  </a:lnTo>
                  <a:lnTo>
                    <a:pt x="92" y="118"/>
                  </a:lnTo>
                  <a:lnTo>
                    <a:pt x="81" y="118"/>
                  </a:lnTo>
                  <a:lnTo>
                    <a:pt x="81" y="113"/>
                  </a:lnTo>
                  <a:lnTo>
                    <a:pt x="67" y="113"/>
                  </a:lnTo>
                  <a:lnTo>
                    <a:pt x="67" y="107"/>
                  </a:lnTo>
                  <a:lnTo>
                    <a:pt x="58" y="107"/>
                  </a:lnTo>
                  <a:lnTo>
                    <a:pt x="58" y="101"/>
                  </a:lnTo>
                  <a:lnTo>
                    <a:pt x="44" y="101"/>
                  </a:lnTo>
                  <a:lnTo>
                    <a:pt x="44" y="94"/>
                  </a:lnTo>
                  <a:lnTo>
                    <a:pt x="29" y="94"/>
                  </a:lnTo>
                  <a:lnTo>
                    <a:pt x="29" y="89"/>
                  </a:lnTo>
                  <a:lnTo>
                    <a:pt x="15" y="89"/>
                  </a:lnTo>
                  <a:lnTo>
                    <a:pt x="15" y="84"/>
                  </a:lnTo>
                  <a:lnTo>
                    <a:pt x="4" y="84"/>
                  </a:lnTo>
                  <a:lnTo>
                    <a:pt x="4" y="77"/>
                  </a:lnTo>
                  <a:lnTo>
                    <a:pt x="0" y="77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01640" y="2094480"/>
              <a:ext cx="30960" cy="22320"/>
            </a:xfrm>
            <a:custGeom>
              <a:avLst/>
              <a:gdLst/>
              <a:ahLst/>
              <a:rect l="l" t="t" r="r" b="b"/>
              <a:pathLst>
                <a:path w="121" h="117">
                  <a:moveTo>
                    <a:pt x="0" y="58"/>
                  </a:moveTo>
                  <a:lnTo>
                    <a:pt x="6" y="58"/>
                  </a:lnTo>
                  <a:lnTo>
                    <a:pt x="6" y="35"/>
                  </a:lnTo>
                  <a:lnTo>
                    <a:pt x="11" y="35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44" y="5"/>
                  </a:lnTo>
                  <a:lnTo>
                    <a:pt x="44" y="11"/>
                  </a:lnTo>
                  <a:lnTo>
                    <a:pt x="59" y="11"/>
                  </a:lnTo>
                  <a:lnTo>
                    <a:pt x="59" y="17"/>
                  </a:lnTo>
                  <a:lnTo>
                    <a:pt x="73" y="17"/>
                  </a:lnTo>
                  <a:lnTo>
                    <a:pt x="73" y="22"/>
                  </a:lnTo>
                  <a:lnTo>
                    <a:pt x="83" y="22"/>
                  </a:lnTo>
                  <a:lnTo>
                    <a:pt x="83" y="30"/>
                  </a:lnTo>
                  <a:lnTo>
                    <a:pt x="97" y="30"/>
                  </a:lnTo>
                  <a:lnTo>
                    <a:pt x="97" y="35"/>
                  </a:lnTo>
                  <a:lnTo>
                    <a:pt x="111" y="35"/>
                  </a:lnTo>
                  <a:lnTo>
                    <a:pt x="111" y="41"/>
                  </a:lnTo>
                  <a:lnTo>
                    <a:pt x="121" y="41"/>
                  </a:lnTo>
                  <a:lnTo>
                    <a:pt x="121" y="76"/>
                  </a:lnTo>
                  <a:lnTo>
                    <a:pt x="116" y="76"/>
                  </a:lnTo>
                  <a:lnTo>
                    <a:pt x="116" y="81"/>
                  </a:lnTo>
                  <a:lnTo>
                    <a:pt x="111" y="81"/>
                  </a:lnTo>
                  <a:lnTo>
                    <a:pt x="111" y="93"/>
                  </a:lnTo>
                  <a:lnTo>
                    <a:pt x="107" y="93"/>
                  </a:lnTo>
                  <a:lnTo>
                    <a:pt x="107" y="112"/>
                  </a:lnTo>
                  <a:lnTo>
                    <a:pt x="102" y="112"/>
                  </a:lnTo>
                  <a:lnTo>
                    <a:pt x="102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44" y="106"/>
                  </a:lnTo>
                  <a:lnTo>
                    <a:pt x="44" y="100"/>
                  </a:lnTo>
                  <a:lnTo>
                    <a:pt x="34" y="100"/>
                  </a:lnTo>
                  <a:lnTo>
                    <a:pt x="34" y="93"/>
                  </a:lnTo>
                  <a:lnTo>
                    <a:pt x="20" y="93"/>
                  </a:lnTo>
                  <a:lnTo>
                    <a:pt x="20" y="106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0" y="10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13160" y="1824480"/>
              <a:ext cx="61920" cy="61920"/>
            </a:xfrm>
            <a:custGeom>
              <a:avLst/>
              <a:gdLst/>
              <a:ahLst/>
              <a:rect l="l" t="t" r="r" b="b"/>
              <a:pathLst>
                <a:path w="240" h="319">
                  <a:moveTo>
                    <a:pt x="0" y="302"/>
                  </a:moveTo>
                  <a:lnTo>
                    <a:pt x="33" y="302"/>
                  </a:lnTo>
                  <a:lnTo>
                    <a:pt x="33" y="291"/>
                  </a:lnTo>
                  <a:lnTo>
                    <a:pt x="49" y="291"/>
                  </a:lnTo>
                  <a:lnTo>
                    <a:pt x="49" y="283"/>
                  </a:lnTo>
                  <a:lnTo>
                    <a:pt x="53" y="283"/>
                  </a:lnTo>
                  <a:lnTo>
                    <a:pt x="53" y="266"/>
                  </a:lnTo>
                  <a:lnTo>
                    <a:pt x="58" y="266"/>
                  </a:lnTo>
                  <a:lnTo>
                    <a:pt x="58" y="254"/>
                  </a:lnTo>
                  <a:lnTo>
                    <a:pt x="63" y="254"/>
                  </a:lnTo>
                  <a:lnTo>
                    <a:pt x="63" y="242"/>
                  </a:lnTo>
                  <a:lnTo>
                    <a:pt x="67" y="242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188"/>
                  </a:lnTo>
                  <a:lnTo>
                    <a:pt x="67" y="188"/>
                  </a:lnTo>
                  <a:lnTo>
                    <a:pt x="67" y="165"/>
                  </a:lnTo>
                  <a:lnTo>
                    <a:pt x="111" y="165"/>
                  </a:lnTo>
                  <a:lnTo>
                    <a:pt x="111" y="160"/>
                  </a:lnTo>
                  <a:lnTo>
                    <a:pt x="120" y="160"/>
                  </a:lnTo>
                  <a:lnTo>
                    <a:pt x="120" y="155"/>
                  </a:lnTo>
                  <a:lnTo>
                    <a:pt x="126" y="155"/>
                  </a:lnTo>
                  <a:lnTo>
                    <a:pt x="126" y="147"/>
                  </a:lnTo>
                  <a:lnTo>
                    <a:pt x="130" y="147"/>
                  </a:lnTo>
                  <a:lnTo>
                    <a:pt x="130" y="142"/>
                  </a:lnTo>
                  <a:lnTo>
                    <a:pt x="135" y="142"/>
                  </a:lnTo>
                  <a:lnTo>
                    <a:pt x="135" y="130"/>
                  </a:lnTo>
                  <a:lnTo>
                    <a:pt x="140" y="130"/>
                  </a:lnTo>
                  <a:lnTo>
                    <a:pt x="140" y="112"/>
                  </a:lnTo>
                  <a:lnTo>
                    <a:pt x="144" y="112"/>
                  </a:lnTo>
                  <a:lnTo>
                    <a:pt x="144" y="83"/>
                  </a:lnTo>
                  <a:lnTo>
                    <a:pt x="149" y="83"/>
                  </a:lnTo>
                  <a:lnTo>
                    <a:pt x="149" y="77"/>
                  </a:lnTo>
                  <a:lnTo>
                    <a:pt x="173" y="77"/>
                  </a:lnTo>
                  <a:lnTo>
                    <a:pt x="173" y="83"/>
                  </a:lnTo>
                  <a:lnTo>
                    <a:pt x="188" y="83"/>
                  </a:lnTo>
                  <a:lnTo>
                    <a:pt x="188" y="77"/>
                  </a:lnTo>
                  <a:lnTo>
                    <a:pt x="197" y="77"/>
                  </a:lnTo>
                  <a:lnTo>
                    <a:pt x="197" y="71"/>
                  </a:lnTo>
                  <a:lnTo>
                    <a:pt x="202" y="71"/>
                  </a:lnTo>
                  <a:lnTo>
                    <a:pt x="202" y="65"/>
                  </a:lnTo>
                  <a:lnTo>
                    <a:pt x="207" y="65"/>
                  </a:lnTo>
                  <a:lnTo>
                    <a:pt x="207" y="54"/>
                  </a:lnTo>
                  <a:lnTo>
                    <a:pt x="212" y="54"/>
                  </a:lnTo>
                  <a:lnTo>
                    <a:pt x="212" y="47"/>
                  </a:lnTo>
                  <a:lnTo>
                    <a:pt x="216" y="47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2" y="24"/>
                  </a:lnTo>
                  <a:lnTo>
                    <a:pt x="226" y="24"/>
                  </a:lnTo>
                  <a:lnTo>
                    <a:pt x="226" y="11"/>
                  </a:lnTo>
                  <a:lnTo>
                    <a:pt x="230" y="11"/>
                  </a:lnTo>
                  <a:lnTo>
                    <a:pt x="230" y="0"/>
                  </a:lnTo>
                  <a:lnTo>
                    <a:pt x="240" y="0"/>
                  </a:lnTo>
                  <a:lnTo>
                    <a:pt x="240" y="24"/>
                  </a:lnTo>
                  <a:lnTo>
                    <a:pt x="236" y="24"/>
                  </a:lnTo>
                  <a:lnTo>
                    <a:pt x="236" y="30"/>
                  </a:lnTo>
                  <a:lnTo>
                    <a:pt x="230" y="30"/>
                  </a:lnTo>
                  <a:lnTo>
                    <a:pt x="230" y="41"/>
                  </a:lnTo>
                  <a:lnTo>
                    <a:pt x="226" y="41"/>
                  </a:lnTo>
                  <a:lnTo>
                    <a:pt x="226" y="54"/>
                  </a:lnTo>
                  <a:lnTo>
                    <a:pt x="222" y="54"/>
                  </a:lnTo>
                  <a:lnTo>
                    <a:pt x="222" y="60"/>
                  </a:lnTo>
                  <a:lnTo>
                    <a:pt x="216" y="60"/>
                  </a:lnTo>
                  <a:lnTo>
                    <a:pt x="216" y="71"/>
                  </a:lnTo>
                  <a:lnTo>
                    <a:pt x="212" y="71"/>
                  </a:lnTo>
                  <a:lnTo>
                    <a:pt x="212" y="77"/>
                  </a:lnTo>
                  <a:lnTo>
                    <a:pt x="207" y="77"/>
                  </a:lnTo>
                  <a:lnTo>
                    <a:pt x="207" y="88"/>
                  </a:lnTo>
                  <a:lnTo>
                    <a:pt x="197" y="88"/>
                  </a:lnTo>
                  <a:lnTo>
                    <a:pt x="197" y="95"/>
                  </a:lnTo>
                  <a:lnTo>
                    <a:pt x="188" y="95"/>
                  </a:lnTo>
                  <a:lnTo>
                    <a:pt x="188" y="101"/>
                  </a:lnTo>
                  <a:lnTo>
                    <a:pt x="159" y="101"/>
                  </a:lnTo>
                  <a:lnTo>
                    <a:pt x="159" y="106"/>
                  </a:lnTo>
                  <a:lnTo>
                    <a:pt x="154" y="106"/>
                  </a:lnTo>
                  <a:lnTo>
                    <a:pt x="154" y="130"/>
                  </a:lnTo>
                  <a:lnTo>
                    <a:pt x="149" y="130"/>
                  </a:lnTo>
                  <a:lnTo>
                    <a:pt x="149" y="142"/>
                  </a:lnTo>
                  <a:lnTo>
                    <a:pt x="144" y="142"/>
                  </a:lnTo>
                  <a:lnTo>
                    <a:pt x="144" y="155"/>
                  </a:lnTo>
                  <a:lnTo>
                    <a:pt x="140" y="155"/>
                  </a:lnTo>
                  <a:lnTo>
                    <a:pt x="140" y="160"/>
                  </a:lnTo>
                  <a:lnTo>
                    <a:pt x="135" y="160"/>
                  </a:lnTo>
                  <a:lnTo>
                    <a:pt x="135" y="165"/>
                  </a:lnTo>
                  <a:lnTo>
                    <a:pt x="130" y="165"/>
                  </a:lnTo>
                  <a:lnTo>
                    <a:pt x="130" y="172"/>
                  </a:lnTo>
                  <a:lnTo>
                    <a:pt x="126" y="172"/>
                  </a:lnTo>
                  <a:lnTo>
                    <a:pt x="126" y="177"/>
                  </a:lnTo>
                  <a:lnTo>
                    <a:pt x="116" y="177"/>
                  </a:lnTo>
                  <a:lnTo>
                    <a:pt x="116" y="183"/>
                  </a:lnTo>
                  <a:lnTo>
                    <a:pt x="86" y="183"/>
                  </a:lnTo>
                  <a:lnTo>
                    <a:pt x="86" y="188"/>
                  </a:lnTo>
                  <a:lnTo>
                    <a:pt x="82" y="188"/>
                  </a:lnTo>
                  <a:lnTo>
                    <a:pt x="82" y="231"/>
                  </a:lnTo>
                  <a:lnTo>
                    <a:pt x="77" y="231"/>
                  </a:lnTo>
                  <a:lnTo>
                    <a:pt x="77" y="254"/>
                  </a:lnTo>
                  <a:lnTo>
                    <a:pt x="72" y="254"/>
                  </a:lnTo>
                  <a:lnTo>
                    <a:pt x="72" y="266"/>
                  </a:lnTo>
                  <a:lnTo>
                    <a:pt x="67" y="266"/>
                  </a:lnTo>
                  <a:lnTo>
                    <a:pt x="67" y="283"/>
                  </a:lnTo>
                  <a:lnTo>
                    <a:pt x="63" y="283"/>
                  </a:lnTo>
                  <a:lnTo>
                    <a:pt x="63" y="291"/>
                  </a:lnTo>
                  <a:lnTo>
                    <a:pt x="58" y="291"/>
                  </a:lnTo>
                  <a:lnTo>
                    <a:pt x="58" y="296"/>
                  </a:lnTo>
                  <a:lnTo>
                    <a:pt x="53" y="296"/>
                  </a:lnTo>
                  <a:lnTo>
                    <a:pt x="53" y="302"/>
                  </a:lnTo>
                  <a:lnTo>
                    <a:pt x="49" y="302"/>
                  </a:lnTo>
                  <a:lnTo>
                    <a:pt x="49" y="307"/>
                  </a:lnTo>
                  <a:lnTo>
                    <a:pt x="39" y="307"/>
                  </a:lnTo>
                  <a:lnTo>
                    <a:pt x="39" y="313"/>
                  </a:lnTo>
                  <a:lnTo>
                    <a:pt x="29" y="313"/>
                  </a:lnTo>
                  <a:lnTo>
                    <a:pt x="29" y="319"/>
                  </a:lnTo>
                  <a:lnTo>
                    <a:pt x="5" y="319"/>
                  </a:lnTo>
                  <a:lnTo>
                    <a:pt x="5" y="313"/>
                  </a:lnTo>
                  <a:lnTo>
                    <a:pt x="0" y="313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20360" y="2078280"/>
              <a:ext cx="52200" cy="309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54"/>
                  </a:moveTo>
                  <a:lnTo>
                    <a:pt x="4" y="54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63" y="6"/>
                  </a:lnTo>
                  <a:lnTo>
                    <a:pt x="63" y="11"/>
                  </a:lnTo>
                  <a:lnTo>
                    <a:pt x="71" y="11"/>
                  </a:lnTo>
                  <a:lnTo>
                    <a:pt x="71" y="19"/>
                  </a:lnTo>
                  <a:lnTo>
                    <a:pt x="87" y="19"/>
                  </a:lnTo>
                  <a:lnTo>
                    <a:pt x="87" y="24"/>
                  </a:lnTo>
                  <a:lnTo>
                    <a:pt x="91" y="24"/>
                  </a:lnTo>
                  <a:lnTo>
                    <a:pt x="91" y="36"/>
                  </a:lnTo>
                  <a:lnTo>
                    <a:pt x="97" y="36"/>
                  </a:lnTo>
                  <a:lnTo>
                    <a:pt x="97" y="48"/>
                  </a:lnTo>
                  <a:lnTo>
                    <a:pt x="106" y="48"/>
                  </a:lnTo>
                  <a:lnTo>
                    <a:pt x="106" y="36"/>
                  </a:lnTo>
                  <a:lnTo>
                    <a:pt x="125" y="36"/>
                  </a:lnTo>
                  <a:lnTo>
                    <a:pt x="125" y="41"/>
                  </a:lnTo>
                  <a:lnTo>
                    <a:pt x="134" y="41"/>
                  </a:lnTo>
                  <a:lnTo>
                    <a:pt x="134" y="48"/>
                  </a:lnTo>
                  <a:lnTo>
                    <a:pt x="154" y="48"/>
                  </a:lnTo>
                  <a:lnTo>
                    <a:pt x="154" y="54"/>
                  </a:lnTo>
                  <a:lnTo>
                    <a:pt x="168" y="54"/>
                  </a:lnTo>
                  <a:lnTo>
                    <a:pt x="168" y="60"/>
                  </a:lnTo>
                  <a:lnTo>
                    <a:pt x="187" y="60"/>
                  </a:lnTo>
                  <a:lnTo>
                    <a:pt x="187" y="65"/>
                  </a:lnTo>
                  <a:lnTo>
                    <a:pt x="201" y="65"/>
                  </a:lnTo>
                  <a:lnTo>
                    <a:pt x="201" y="95"/>
                  </a:lnTo>
                  <a:lnTo>
                    <a:pt x="197" y="95"/>
                  </a:lnTo>
                  <a:lnTo>
                    <a:pt x="197" y="106"/>
                  </a:lnTo>
                  <a:lnTo>
                    <a:pt x="193" y="106"/>
                  </a:lnTo>
                  <a:lnTo>
                    <a:pt x="193" y="125"/>
                  </a:lnTo>
                  <a:lnTo>
                    <a:pt x="187" y="125"/>
                  </a:lnTo>
                  <a:lnTo>
                    <a:pt x="187" y="142"/>
                  </a:lnTo>
                  <a:lnTo>
                    <a:pt x="183" y="142"/>
                  </a:lnTo>
                  <a:lnTo>
                    <a:pt x="183" y="160"/>
                  </a:lnTo>
                  <a:lnTo>
                    <a:pt x="173" y="160"/>
                  </a:lnTo>
                  <a:lnTo>
                    <a:pt x="173" y="155"/>
                  </a:lnTo>
                  <a:lnTo>
                    <a:pt x="164" y="155"/>
                  </a:lnTo>
                  <a:lnTo>
                    <a:pt x="164" y="147"/>
                  </a:lnTo>
                  <a:lnTo>
                    <a:pt x="149" y="147"/>
                  </a:lnTo>
                  <a:lnTo>
                    <a:pt x="149" y="142"/>
                  </a:lnTo>
                  <a:lnTo>
                    <a:pt x="134" y="142"/>
                  </a:lnTo>
                  <a:lnTo>
                    <a:pt x="134" y="136"/>
                  </a:lnTo>
                  <a:lnTo>
                    <a:pt x="120" y="136"/>
                  </a:lnTo>
                  <a:lnTo>
                    <a:pt x="120" y="130"/>
                  </a:lnTo>
                  <a:lnTo>
                    <a:pt x="101" y="130"/>
                  </a:lnTo>
                  <a:lnTo>
                    <a:pt x="101" y="125"/>
                  </a:lnTo>
                  <a:lnTo>
                    <a:pt x="87" y="125"/>
                  </a:lnTo>
                  <a:lnTo>
                    <a:pt x="87" y="119"/>
                  </a:lnTo>
                  <a:lnTo>
                    <a:pt x="71" y="119"/>
                  </a:lnTo>
                  <a:lnTo>
                    <a:pt x="71" y="114"/>
                  </a:lnTo>
                  <a:lnTo>
                    <a:pt x="57" y="114"/>
                  </a:lnTo>
                  <a:lnTo>
                    <a:pt x="57" y="106"/>
                  </a:lnTo>
                  <a:lnTo>
                    <a:pt x="43" y="106"/>
                  </a:lnTo>
                  <a:lnTo>
                    <a:pt x="43" y="101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15" y="95"/>
                  </a:lnTo>
                  <a:lnTo>
                    <a:pt x="15" y="89"/>
                  </a:lnTo>
                  <a:lnTo>
                    <a:pt x="4" y="89"/>
                  </a:lnTo>
                  <a:lnTo>
                    <a:pt x="4" y="84"/>
                  </a:lnTo>
                  <a:lnTo>
                    <a:pt x="0" y="8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35120" y="2104560"/>
              <a:ext cx="28800" cy="18360"/>
            </a:xfrm>
            <a:custGeom>
              <a:avLst/>
              <a:gdLst/>
              <a:ahLst/>
              <a:rect l="l" t="t" r="r" b="b"/>
              <a:pathLst>
                <a:path w="111" h="95">
                  <a:moveTo>
                    <a:pt x="0" y="36"/>
                  </a:moveTo>
                  <a:lnTo>
                    <a:pt x="6" y="36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44" y="6"/>
                  </a:lnTo>
                  <a:lnTo>
                    <a:pt x="44" y="11"/>
                  </a:lnTo>
                  <a:lnTo>
                    <a:pt x="58" y="11"/>
                  </a:lnTo>
                  <a:lnTo>
                    <a:pt x="58" y="19"/>
                  </a:lnTo>
                  <a:lnTo>
                    <a:pt x="77" y="19"/>
                  </a:lnTo>
                  <a:lnTo>
                    <a:pt x="77" y="24"/>
                  </a:lnTo>
                  <a:lnTo>
                    <a:pt x="87" y="24"/>
                  </a:lnTo>
                  <a:lnTo>
                    <a:pt x="87" y="29"/>
                  </a:lnTo>
                  <a:lnTo>
                    <a:pt x="102" y="29"/>
                  </a:lnTo>
                  <a:lnTo>
                    <a:pt x="102" y="36"/>
                  </a:lnTo>
                  <a:lnTo>
                    <a:pt x="111" y="36"/>
                  </a:lnTo>
                  <a:lnTo>
                    <a:pt x="111" y="65"/>
                  </a:lnTo>
                  <a:lnTo>
                    <a:pt x="107" y="65"/>
                  </a:lnTo>
                  <a:lnTo>
                    <a:pt x="107" y="78"/>
                  </a:lnTo>
                  <a:lnTo>
                    <a:pt x="102" y="78"/>
                  </a:lnTo>
                  <a:lnTo>
                    <a:pt x="102" y="89"/>
                  </a:lnTo>
                  <a:lnTo>
                    <a:pt x="97" y="89"/>
                  </a:lnTo>
                  <a:lnTo>
                    <a:pt x="97" y="95"/>
                  </a:lnTo>
                  <a:lnTo>
                    <a:pt x="87" y="95"/>
                  </a:lnTo>
                  <a:lnTo>
                    <a:pt x="87" y="89"/>
                  </a:lnTo>
                  <a:lnTo>
                    <a:pt x="54" y="89"/>
                  </a:lnTo>
                  <a:lnTo>
                    <a:pt x="54" y="82"/>
                  </a:lnTo>
                  <a:lnTo>
                    <a:pt x="40" y="82"/>
                  </a:lnTo>
                  <a:lnTo>
                    <a:pt x="40" y="78"/>
                  </a:lnTo>
                  <a:lnTo>
                    <a:pt x="30" y="78"/>
                  </a:lnTo>
                  <a:lnTo>
                    <a:pt x="30" y="70"/>
                  </a:lnTo>
                  <a:lnTo>
                    <a:pt x="6" y="70"/>
                  </a:lnTo>
                  <a:lnTo>
                    <a:pt x="6" y="65"/>
                  </a:lnTo>
                  <a:lnTo>
                    <a:pt x="0" y="6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43040" y="2091960"/>
              <a:ext cx="288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50600" y="2066400"/>
              <a:ext cx="29520" cy="2088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0" y="54"/>
                  </a:moveTo>
                  <a:lnTo>
                    <a:pt x="5" y="54"/>
                  </a:lnTo>
                  <a:lnTo>
                    <a:pt x="5" y="37"/>
                  </a:lnTo>
                  <a:lnTo>
                    <a:pt x="10" y="37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49" y="5"/>
                  </a:lnTo>
                  <a:lnTo>
                    <a:pt x="49" y="12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92" y="24"/>
                  </a:lnTo>
                  <a:lnTo>
                    <a:pt x="92" y="29"/>
                  </a:lnTo>
                  <a:lnTo>
                    <a:pt x="106" y="29"/>
                  </a:lnTo>
                  <a:lnTo>
                    <a:pt x="106" y="37"/>
                  </a:lnTo>
                  <a:lnTo>
                    <a:pt x="112" y="37"/>
                  </a:lnTo>
                  <a:lnTo>
                    <a:pt x="112" y="42"/>
                  </a:lnTo>
                  <a:lnTo>
                    <a:pt x="116" y="42"/>
                  </a:lnTo>
                  <a:lnTo>
                    <a:pt x="116" y="65"/>
                  </a:lnTo>
                  <a:lnTo>
                    <a:pt x="112" y="65"/>
                  </a:lnTo>
                  <a:lnTo>
                    <a:pt x="112" y="83"/>
                  </a:lnTo>
                  <a:lnTo>
                    <a:pt x="106" y="83"/>
                  </a:lnTo>
                  <a:lnTo>
                    <a:pt x="106" y="95"/>
                  </a:lnTo>
                  <a:lnTo>
                    <a:pt x="101" y="95"/>
                  </a:lnTo>
                  <a:lnTo>
                    <a:pt x="101" y="107"/>
                  </a:lnTo>
                  <a:lnTo>
                    <a:pt x="86" y="107"/>
                  </a:lnTo>
                  <a:lnTo>
                    <a:pt x="86" y="100"/>
                  </a:lnTo>
                  <a:lnTo>
                    <a:pt x="63" y="100"/>
                  </a:lnTo>
                  <a:lnTo>
                    <a:pt x="63" y="95"/>
                  </a:lnTo>
                  <a:lnTo>
                    <a:pt x="44" y="95"/>
                  </a:lnTo>
                  <a:lnTo>
                    <a:pt x="44" y="89"/>
                  </a:lnTo>
                  <a:lnTo>
                    <a:pt x="29" y="89"/>
                  </a:lnTo>
                  <a:lnTo>
                    <a:pt x="29" y="83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5" y="78"/>
                  </a:lnTo>
                  <a:lnTo>
                    <a:pt x="5" y="70"/>
                  </a:lnTo>
                  <a:lnTo>
                    <a:pt x="0" y="7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67880" y="1575720"/>
              <a:ext cx="208080" cy="351720"/>
            </a:xfrm>
            <a:custGeom>
              <a:avLst/>
              <a:gdLst/>
              <a:ahLst/>
              <a:rect l="l" t="t" r="r" b="b"/>
              <a:pathLst>
                <a:path w="801" h="1803">
                  <a:moveTo>
                    <a:pt x="0" y="1786"/>
                  </a:moveTo>
                  <a:lnTo>
                    <a:pt x="4" y="1786"/>
                  </a:lnTo>
                  <a:lnTo>
                    <a:pt x="4" y="1780"/>
                  </a:lnTo>
                  <a:lnTo>
                    <a:pt x="10" y="1780"/>
                  </a:lnTo>
                  <a:lnTo>
                    <a:pt x="10" y="1769"/>
                  </a:lnTo>
                  <a:lnTo>
                    <a:pt x="14" y="1769"/>
                  </a:lnTo>
                  <a:lnTo>
                    <a:pt x="14" y="1761"/>
                  </a:lnTo>
                  <a:lnTo>
                    <a:pt x="18" y="1761"/>
                  </a:lnTo>
                  <a:lnTo>
                    <a:pt x="18" y="1756"/>
                  </a:lnTo>
                  <a:lnTo>
                    <a:pt x="24" y="1756"/>
                  </a:lnTo>
                  <a:lnTo>
                    <a:pt x="24" y="1745"/>
                  </a:lnTo>
                  <a:lnTo>
                    <a:pt x="28" y="1745"/>
                  </a:lnTo>
                  <a:lnTo>
                    <a:pt x="28" y="1737"/>
                  </a:lnTo>
                  <a:lnTo>
                    <a:pt x="33" y="1737"/>
                  </a:lnTo>
                  <a:lnTo>
                    <a:pt x="33" y="1720"/>
                  </a:lnTo>
                  <a:lnTo>
                    <a:pt x="38" y="1720"/>
                  </a:lnTo>
                  <a:lnTo>
                    <a:pt x="38" y="1709"/>
                  </a:lnTo>
                  <a:lnTo>
                    <a:pt x="44" y="1709"/>
                  </a:lnTo>
                  <a:lnTo>
                    <a:pt x="44" y="1696"/>
                  </a:lnTo>
                  <a:lnTo>
                    <a:pt x="48" y="1696"/>
                  </a:lnTo>
                  <a:lnTo>
                    <a:pt x="48" y="1685"/>
                  </a:lnTo>
                  <a:lnTo>
                    <a:pt x="52" y="1685"/>
                  </a:lnTo>
                  <a:lnTo>
                    <a:pt x="52" y="1674"/>
                  </a:lnTo>
                  <a:lnTo>
                    <a:pt x="58" y="1674"/>
                  </a:lnTo>
                  <a:lnTo>
                    <a:pt x="58" y="1655"/>
                  </a:lnTo>
                  <a:lnTo>
                    <a:pt x="62" y="1655"/>
                  </a:lnTo>
                  <a:lnTo>
                    <a:pt x="62" y="1642"/>
                  </a:lnTo>
                  <a:lnTo>
                    <a:pt x="67" y="1642"/>
                  </a:lnTo>
                  <a:lnTo>
                    <a:pt x="67" y="1637"/>
                  </a:lnTo>
                  <a:lnTo>
                    <a:pt x="72" y="1637"/>
                  </a:lnTo>
                  <a:lnTo>
                    <a:pt x="72" y="1614"/>
                  </a:lnTo>
                  <a:lnTo>
                    <a:pt x="77" y="1614"/>
                  </a:lnTo>
                  <a:lnTo>
                    <a:pt x="77" y="1590"/>
                  </a:lnTo>
                  <a:lnTo>
                    <a:pt x="81" y="1590"/>
                  </a:lnTo>
                  <a:lnTo>
                    <a:pt x="81" y="1568"/>
                  </a:lnTo>
                  <a:lnTo>
                    <a:pt x="86" y="1568"/>
                  </a:lnTo>
                  <a:lnTo>
                    <a:pt x="86" y="1549"/>
                  </a:lnTo>
                  <a:lnTo>
                    <a:pt x="91" y="1549"/>
                  </a:lnTo>
                  <a:lnTo>
                    <a:pt x="91" y="1543"/>
                  </a:lnTo>
                  <a:lnTo>
                    <a:pt x="95" y="1543"/>
                  </a:lnTo>
                  <a:lnTo>
                    <a:pt x="95" y="1536"/>
                  </a:lnTo>
                  <a:lnTo>
                    <a:pt x="100" y="1536"/>
                  </a:lnTo>
                  <a:lnTo>
                    <a:pt x="100" y="1531"/>
                  </a:lnTo>
                  <a:lnTo>
                    <a:pt x="105" y="1531"/>
                  </a:lnTo>
                  <a:lnTo>
                    <a:pt x="105" y="1525"/>
                  </a:lnTo>
                  <a:lnTo>
                    <a:pt x="109" y="1525"/>
                  </a:lnTo>
                  <a:lnTo>
                    <a:pt x="109" y="1514"/>
                  </a:lnTo>
                  <a:lnTo>
                    <a:pt x="115" y="1514"/>
                  </a:lnTo>
                  <a:lnTo>
                    <a:pt x="115" y="1508"/>
                  </a:lnTo>
                  <a:lnTo>
                    <a:pt x="120" y="1508"/>
                  </a:lnTo>
                  <a:lnTo>
                    <a:pt x="120" y="1501"/>
                  </a:lnTo>
                  <a:lnTo>
                    <a:pt x="125" y="1501"/>
                  </a:lnTo>
                  <a:lnTo>
                    <a:pt x="125" y="1495"/>
                  </a:lnTo>
                  <a:lnTo>
                    <a:pt x="135" y="1495"/>
                  </a:lnTo>
                  <a:lnTo>
                    <a:pt x="135" y="1483"/>
                  </a:lnTo>
                  <a:lnTo>
                    <a:pt x="139" y="1483"/>
                  </a:lnTo>
                  <a:lnTo>
                    <a:pt x="139" y="1478"/>
                  </a:lnTo>
                  <a:lnTo>
                    <a:pt x="144" y="1478"/>
                  </a:lnTo>
                  <a:lnTo>
                    <a:pt x="144" y="1473"/>
                  </a:lnTo>
                  <a:lnTo>
                    <a:pt x="148" y="1473"/>
                  </a:lnTo>
                  <a:lnTo>
                    <a:pt x="148" y="1465"/>
                  </a:lnTo>
                  <a:lnTo>
                    <a:pt x="153" y="1465"/>
                  </a:lnTo>
                  <a:lnTo>
                    <a:pt x="153" y="1460"/>
                  </a:lnTo>
                  <a:lnTo>
                    <a:pt x="158" y="1460"/>
                  </a:lnTo>
                  <a:lnTo>
                    <a:pt x="158" y="1454"/>
                  </a:lnTo>
                  <a:lnTo>
                    <a:pt x="162" y="1454"/>
                  </a:lnTo>
                  <a:lnTo>
                    <a:pt x="162" y="1442"/>
                  </a:lnTo>
                  <a:lnTo>
                    <a:pt x="168" y="1442"/>
                  </a:lnTo>
                  <a:lnTo>
                    <a:pt x="168" y="1437"/>
                  </a:lnTo>
                  <a:lnTo>
                    <a:pt x="172" y="1437"/>
                  </a:lnTo>
                  <a:lnTo>
                    <a:pt x="172" y="1424"/>
                  </a:lnTo>
                  <a:lnTo>
                    <a:pt x="177" y="1424"/>
                  </a:lnTo>
                  <a:lnTo>
                    <a:pt x="177" y="1414"/>
                  </a:lnTo>
                  <a:lnTo>
                    <a:pt x="182" y="1414"/>
                  </a:lnTo>
                  <a:lnTo>
                    <a:pt x="182" y="1402"/>
                  </a:lnTo>
                  <a:lnTo>
                    <a:pt x="186" y="1402"/>
                  </a:lnTo>
                  <a:lnTo>
                    <a:pt x="186" y="1389"/>
                  </a:lnTo>
                  <a:lnTo>
                    <a:pt x="192" y="1389"/>
                  </a:lnTo>
                  <a:lnTo>
                    <a:pt x="192" y="1378"/>
                  </a:lnTo>
                  <a:lnTo>
                    <a:pt x="196" y="1378"/>
                  </a:lnTo>
                  <a:lnTo>
                    <a:pt x="196" y="1365"/>
                  </a:lnTo>
                  <a:lnTo>
                    <a:pt x="202" y="1365"/>
                  </a:lnTo>
                  <a:lnTo>
                    <a:pt x="202" y="1354"/>
                  </a:lnTo>
                  <a:lnTo>
                    <a:pt x="206" y="1354"/>
                  </a:lnTo>
                  <a:lnTo>
                    <a:pt x="206" y="1342"/>
                  </a:lnTo>
                  <a:lnTo>
                    <a:pt x="211" y="1342"/>
                  </a:lnTo>
                  <a:lnTo>
                    <a:pt x="211" y="1331"/>
                  </a:lnTo>
                  <a:lnTo>
                    <a:pt x="216" y="1331"/>
                  </a:lnTo>
                  <a:lnTo>
                    <a:pt x="216" y="1318"/>
                  </a:lnTo>
                  <a:lnTo>
                    <a:pt x="221" y="1318"/>
                  </a:lnTo>
                  <a:lnTo>
                    <a:pt x="221" y="1301"/>
                  </a:lnTo>
                  <a:lnTo>
                    <a:pt x="225" y="1301"/>
                  </a:lnTo>
                  <a:lnTo>
                    <a:pt x="225" y="1296"/>
                  </a:lnTo>
                  <a:lnTo>
                    <a:pt x="230" y="1296"/>
                  </a:lnTo>
                  <a:lnTo>
                    <a:pt x="230" y="1283"/>
                  </a:lnTo>
                  <a:lnTo>
                    <a:pt x="235" y="1283"/>
                  </a:lnTo>
                  <a:lnTo>
                    <a:pt x="235" y="1272"/>
                  </a:lnTo>
                  <a:lnTo>
                    <a:pt x="239" y="1272"/>
                  </a:lnTo>
                  <a:lnTo>
                    <a:pt x="239" y="1259"/>
                  </a:lnTo>
                  <a:lnTo>
                    <a:pt x="244" y="1259"/>
                  </a:lnTo>
                  <a:lnTo>
                    <a:pt x="244" y="1254"/>
                  </a:lnTo>
                  <a:lnTo>
                    <a:pt x="249" y="1254"/>
                  </a:lnTo>
                  <a:lnTo>
                    <a:pt x="249" y="1247"/>
                  </a:lnTo>
                  <a:lnTo>
                    <a:pt x="254" y="1247"/>
                  </a:lnTo>
                  <a:lnTo>
                    <a:pt x="254" y="1236"/>
                  </a:lnTo>
                  <a:lnTo>
                    <a:pt x="258" y="1236"/>
                  </a:lnTo>
                  <a:lnTo>
                    <a:pt x="258" y="1223"/>
                  </a:lnTo>
                  <a:lnTo>
                    <a:pt x="265" y="1223"/>
                  </a:lnTo>
                  <a:lnTo>
                    <a:pt x="265" y="1218"/>
                  </a:lnTo>
                  <a:lnTo>
                    <a:pt x="269" y="1218"/>
                  </a:lnTo>
                  <a:lnTo>
                    <a:pt x="269" y="1212"/>
                  </a:lnTo>
                  <a:lnTo>
                    <a:pt x="273" y="1212"/>
                  </a:lnTo>
                  <a:lnTo>
                    <a:pt x="273" y="1201"/>
                  </a:lnTo>
                  <a:lnTo>
                    <a:pt x="279" y="1201"/>
                  </a:lnTo>
                  <a:lnTo>
                    <a:pt x="279" y="1188"/>
                  </a:lnTo>
                  <a:lnTo>
                    <a:pt x="288" y="1188"/>
                  </a:lnTo>
                  <a:lnTo>
                    <a:pt x="288" y="1182"/>
                  </a:lnTo>
                  <a:lnTo>
                    <a:pt x="292" y="1182"/>
                  </a:lnTo>
                  <a:lnTo>
                    <a:pt x="292" y="1170"/>
                  </a:lnTo>
                  <a:lnTo>
                    <a:pt x="298" y="1170"/>
                  </a:lnTo>
                  <a:lnTo>
                    <a:pt x="298" y="1165"/>
                  </a:lnTo>
                  <a:lnTo>
                    <a:pt x="302" y="1165"/>
                  </a:lnTo>
                  <a:lnTo>
                    <a:pt x="302" y="1153"/>
                  </a:lnTo>
                  <a:lnTo>
                    <a:pt x="307" y="1153"/>
                  </a:lnTo>
                  <a:lnTo>
                    <a:pt x="307" y="1147"/>
                  </a:lnTo>
                  <a:lnTo>
                    <a:pt x="312" y="1147"/>
                  </a:lnTo>
                  <a:lnTo>
                    <a:pt x="312" y="1136"/>
                  </a:lnTo>
                  <a:lnTo>
                    <a:pt x="316" y="1136"/>
                  </a:lnTo>
                  <a:lnTo>
                    <a:pt x="316" y="1128"/>
                  </a:lnTo>
                  <a:lnTo>
                    <a:pt x="321" y="1128"/>
                  </a:lnTo>
                  <a:lnTo>
                    <a:pt x="321" y="1111"/>
                  </a:lnTo>
                  <a:lnTo>
                    <a:pt x="326" y="1111"/>
                  </a:lnTo>
                  <a:lnTo>
                    <a:pt x="326" y="1106"/>
                  </a:lnTo>
                  <a:lnTo>
                    <a:pt x="331" y="1106"/>
                  </a:lnTo>
                  <a:lnTo>
                    <a:pt x="331" y="1095"/>
                  </a:lnTo>
                  <a:lnTo>
                    <a:pt x="336" y="1095"/>
                  </a:lnTo>
                  <a:lnTo>
                    <a:pt x="336" y="1070"/>
                  </a:lnTo>
                  <a:lnTo>
                    <a:pt x="341" y="1070"/>
                  </a:lnTo>
                  <a:lnTo>
                    <a:pt x="341" y="1058"/>
                  </a:lnTo>
                  <a:lnTo>
                    <a:pt x="346" y="1058"/>
                  </a:lnTo>
                  <a:lnTo>
                    <a:pt x="346" y="1029"/>
                  </a:lnTo>
                  <a:lnTo>
                    <a:pt x="351" y="1029"/>
                  </a:lnTo>
                  <a:lnTo>
                    <a:pt x="351" y="1005"/>
                  </a:lnTo>
                  <a:lnTo>
                    <a:pt x="355" y="1005"/>
                  </a:lnTo>
                  <a:lnTo>
                    <a:pt x="355" y="987"/>
                  </a:lnTo>
                  <a:lnTo>
                    <a:pt x="360" y="987"/>
                  </a:lnTo>
                  <a:lnTo>
                    <a:pt x="360" y="976"/>
                  </a:lnTo>
                  <a:lnTo>
                    <a:pt x="365" y="976"/>
                  </a:lnTo>
                  <a:lnTo>
                    <a:pt x="365" y="951"/>
                  </a:lnTo>
                  <a:lnTo>
                    <a:pt x="369" y="951"/>
                  </a:lnTo>
                  <a:lnTo>
                    <a:pt x="369" y="941"/>
                  </a:lnTo>
                  <a:lnTo>
                    <a:pt x="374" y="941"/>
                  </a:lnTo>
                  <a:lnTo>
                    <a:pt x="374" y="929"/>
                  </a:lnTo>
                  <a:lnTo>
                    <a:pt x="379" y="929"/>
                  </a:lnTo>
                  <a:lnTo>
                    <a:pt x="379" y="916"/>
                  </a:lnTo>
                  <a:lnTo>
                    <a:pt x="384" y="916"/>
                  </a:lnTo>
                  <a:lnTo>
                    <a:pt x="384" y="899"/>
                  </a:lnTo>
                  <a:lnTo>
                    <a:pt x="388" y="899"/>
                  </a:lnTo>
                  <a:lnTo>
                    <a:pt x="388" y="893"/>
                  </a:lnTo>
                  <a:lnTo>
                    <a:pt x="393" y="893"/>
                  </a:lnTo>
                  <a:lnTo>
                    <a:pt x="393" y="888"/>
                  </a:lnTo>
                  <a:lnTo>
                    <a:pt x="398" y="888"/>
                  </a:lnTo>
                  <a:lnTo>
                    <a:pt x="398" y="881"/>
                  </a:lnTo>
                  <a:lnTo>
                    <a:pt x="402" y="881"/>
                  </a:lnTo>
                  <a:lnTo>
                    <a:pt x="402" y="869"/>
                  </a:lnTo>
                  <a:lnTo>
                    <a:pt x="409" y="869"/>
                  </a:lnTo>
                  <a:lnTo>
                    <a:pt x="409" y="864"/>
                  </a:lnTo>
                  <a:lnTo>
                    <a:pt x="413" y="864"/>
                  </a:lnTo>
                  <a:lnTo>
                    <a:pt x="413" y="845"/>
                  </a:lnTo>
                  <a:lnTo>
                    <a:pt x="423" y="845"/>
                  </a:lnTo>
                  <a:lnTo>
                    <a:pt x="423" y="834"/>
                  </a:lnTo>
                  <a:lnTo>
                    <a:pt x="427" y="834"/>
                  </a:lnTo>
                  <a:lnTo>
                    <a:pt x="427" y="828"/>
                  </a:lnTo>
                  <a:lnTo>
                    <a:pt x="432" y="828"/>
                  </a:lnTo>
                  <a:lnTo>
                    <a:pt x="432" y="815"/>
                  </a:lnTo>
                  <a:lnTo>
                    <a:pt x="436" y="815"/>
                  </a:lnTo>
                  <a:lnTo>
                    <a:pt x="436" y="810"/>
                  </a:lnTo>
                  <a:lnTo>
                    <a:pt x="442" y="810"/>
                  </a:lnTo>
                  <a:lnTo>
                    <a:pt x="442" y="799"/>
                  </a:lnTo>
                  <a:lnTo>
                    <a:pt x="446" y="799"/>
                  </a:lnTo>
                  <a:lnTo>
                    <a:pt x="446" y="786"/>
                  </a:lnTo>
                  <a:lnTo>
                    <a:pt x="450" y="786"/>
                  </a:lnTo>
                  <a:lnTo>
                    <a:pt x="450" y="774"/>
                  </a:lnTo>
                  <a:lnTo>
                    <a:pt x="456" y="774"/>
                  </a:lnTo>
                  <a:lnTo>
                    <a:pt x="456" y="757"/>
                  </a:lnTo>
                  <a:lnTo>
                    <a:pt x="460" y="757"/>
                  </a:lnTo>
                  <a:lnTo>
                    <a:pt x="460" y="745"/>
                  </a:lnTo>
                  <a:lnTo>
                    <a:pt x="465" y="745"/>
                  </a:lnTo>
                  <a:lnTo>
                    <a:pt x="465" y="728"/>
                  </a:lnTo>
                  <a:lnTo>
                    <a:pt x="470" y="728"/>
                  </a:lnTo>
                  <a:lnTo>
                    <a:pt x="470" y="709"/>
                  </a:lnTo>
                  <a:lnTo>
                    <a:pt x="475" y="709"/>
                  </a:lnTo>
                  <a:lnTo>
                    <a:pt x="475" y="698"/>
                  </a:lnTo>
                  <a:lnTo>
                    <a:pt x="480" y="698"/>
                  </a:lnTo>
                  <a:lnTo>
                    <a:pt x="480" y="687"/>
                  </a:lnTo>
                  <a:lnTo>
                    <a:pt x="485" y="687"/>
                  </a:lnTo>
                  <a:lnTo>
                    <a:pt x="485" y="674"/>
                  </a:lnTo>
                  <a:lnTo>
                    <a:pt x="490" y="674"/>
                  </a:lnTo>
                  <a:lnTo>
                    <a:pt x="490" y="668"/>
                  </a:lnTo>
                  <a:lnTo>
                    <a:pt x="494" y="668"/>
                  </a:lnTo>
                  <a:lnTo>
                    <a:pt x="494" y="650"/>
                  </a:lnTo>
                  <a:lnTo>
                    <a:pt x="499" y="650"/>
                  </a:lnTo>
                  <a:lnTo>
                    <a:pt x="499" y="638"/>
                  </a:lnTo>
                  <a:lnTo>
                    <a:pt x="504" y="638"/>
                  </a:lnTo>
                  <a:lnTo>
                    <a:pt x="504" y="627"/>
                  </a:lnTo>
                  <a:lnTo>
                    <a:pt x="509" y="627"/>
                  </a:lnTo>
                  <a:lnTo>
                    <a:pt x="509" y="609"/>
                  </a:lnTo>
                  <a:lnTo>
                    <a:pt x="513" y="609"/>
                  </a:lnTo>
                  <a:lnTo>
                    <a:pt x="513" y="597"/>
                  </a:lnTo>
                  <a:lnTo>
                    <a:pt x="518" y="597"/>
                  </a:lnTo>
                  <a:lnTo>
                    <a:pt x="518" y="592"/>
                  </a:lnTo>
                  <a:lnTo>
                    <a:pt x="523" y="592"/>
                  </a:lnTo>
                  <a:lnTo>
                    <a:pt x="523" y="579"/>
                  </a:lnTo>
                  <a:lnTo>
                    <a:pt x="527" y="579"/>
                  </a:lnTo>
                  <a:lnTo>
                    <a:pt x="527" y="562"/>
                  </a:lnTo>
                  <a:lnTo>
                    <a:pt x="532" y="562"/>
                  </a:lnTo>
                  <a:lnTo>
                    <a:pt x="532" y="551"/>
                  </a:lnTo>
                  <a:lnTo>
                    <a:pt x="537" y="551"/>
                  </a:lnTo>
                  <a:lnTo>
                    <a:pt x="537" y="521"/>
                  </a:lnTo>
                  <a:lnTo>
                    <a:pt x="532" y="521"/>
                  </a:lnTo>
                  <a:lnTo>
                    <a:pt x="532" y="503"/>
                  </a:lnTo>
                  <a:lnTo>
                    <a:pt x="537" y="503"/>
                  </a:lnTo>
                  <a:lnTo>
                    <a:pt x="537" y="468"/>
                  </a:lnTo>
                  <a:lnTo>
                    <a:pt x="542" y="468"/>
                  </a:lnTo>
                  <a:lnTo>
                    <a:pt x="542" y="456"/>
                  </a:lnTo>
                  <a:lnTo>
                    <a:pt x="546" y="456"/>
                  </a:lnTo>
                  <a:lnTo>
                    <a:pt x="546" y="445"/>
                  </a:lnTo>
                  <a:lnTo>
                    <a:pt x="553" y="445"/>
                  </a:lnTo>
                  <a:lnTo>
                    <a:pt x="553" y="437"/>
                  </a:lnTo>
                  <a:lnTo>
                    <a:pt x="557" y="437"/>
                  </a:lnTo>
                  <a:lnTo>
                    <a:pt x="557" y="432"/>
                  </a:lnTo>
                  <a:lnTo>
                    <a:pt x="562" y="432"/>
                  </a:lnTo>
                  <a:lnTo>
                    <a:pt x="562" y="427"/>
                  </a:lnTo>
                  <a:lnTo>
                    <a:pt x="567" y="427"/>
                  </a:lnTo>
                  <a:lnTo>
                    <a:pt x="567" y="420"/>
                  </a:lnTo>
                  <a:lnTo>
                    <a:pt x="571" y="420"/>
                  </a:lnTo>
                  <a:lnTo>
                    <a:pt x="571" y="415"/>
                  </a:lnTo>
                  <a:lnTo>
                    <a:pt x="576" y="415"/>
                  </a:lnTo>
                  <a:lnTo>
                    <a:pt x="576" y="402"/>
                  </a:lnTo>
                  <a:lnTo>
                    <a:pt x="580" y="402"/>
                  </a:lnTo>
                  <a:lnTo>
                    <a:pt x="580" y="396"/>
                  </a:lnTo>
                  <a:lnTo>
                    <a:pt x="586" y="396"/>
                  </a:lnTo>
                  <a:lnTo>
                    <a:pt x="586" y="391"/>
                  </a:lnTo>
                  <a:lnTo>
                    <a:pt x="590" y="391"/>
                  </a:lnTo>
                  <a:lnTo>
                    <a:pt x="590" y="385"/>
                  </a:lnTo>
                  <a:lnTo>
                    <a:pt x="595" y="385"/>
                  </a:lnTo>
                  <a:lnTo>
                    <a:pt x="595" y="367"/>
                  </a:lnTo>
                  <a:lnTo>
                    <a:pt x="605" y="367"/>
                  </a:lnTo>
                  <a:lnTo>
                    <a:pt x="605" y="361"/>
                  </a:lnTo>
                  <a:lnTo>
                    <a:pt x="609" y="361"/>
                  </a:lnTo>
                  <a:lnTo>
                    <a:pt x="609" y="355"/>
                  </a:lnTo>
                  <a:lnTo>
                    <a:pt x="614" y="355"/>
                  </a:lnTo>
                  <a:lnTo>
                    <a:pt x="614" y="350"/>
                  </a:lnTo>
                  <a:lnTo>
                    <a:pt x="619" y="350"/>
                  </a:lnTo>
                  <a:lnTo>
                    <a:pt x="619" y="337"/>
                  </a:lnTo>
                  <a:lnTo>
                    <a:pt x="624" y="337"/>
                  </a:lnTo>
                  <a:lnTo>
                    <a:pt x="624" y="331"/>
                  </a:lnTo>
                  <a:lnTo>
                    <a:pt x="629" y="331"/>
                  </a:lnTo>
                  <a:lnTo>
                    <a:pt x="629" y="320"/>
                  </a:lnTo>
                  <a:lnTo>
                    <a:pt x="634" y="320"/>
                  </a:lnTo>
                  <a:lnTo>
                    <a:pt x="634" y="309"/>
                  </a:lnTo>
                  <a:lnTo>
                    <a:pt x="639" y="309"/>
                  </a:lnTo>
                  <a:lnTo>
                    <a:pt x="639" y="301"/>
                  </a:lnTo>
                  <a:lnTo>
                    <a:pt x="643" y="301"/>
                  </a:lnTo>
                  <a:lnTo>
                    <a:pt x="643" y="290"/>
                  </a:lnTo>
                  <a:lnTo>
                    <a:pt x="649" y="290"/>
                  </a:lnTo>
                  <a:lnTo>
                    <a:pt x="649" y="272"/>
                  </a:lnTo>
                  <a:lnTo>
                    <a:pt x="653" y="272"/>
                  </a:lnTo>
                  <a:lnTo>
                    <a:pt x="653" y="260"/>
                  </a:lnTo>
                  <a:lnTo>
                    <a:pt x="657" y="260"/>
                  </a:lnTo>
                  <a:lnTo>
                    <a:pt x="657" y="249"/>
                  </a:lnTo>
                  <a:lnTo>
                    <a:pt x="663" y="249"/>
                  </a:lnTo>
                  <a:lnTo>
                    <a:pt x="663" y="236"/>
                  </a:lnTo>
                  <a:lnTo>
                    <a:pt x="667" y="236"/>
                  </a:lnTo>
                  <a:lnTo>
                    <a:pt x="667" y="225"/>
                  </a:lnTo>
                  <a:lnTo>
                    <a:pt x="672" y="225"/>
                  </a:lnTo>
                  <a:lnTo>
                    <a:pt x="672" y="214"/>
                  </a:lnTo>
                  <a:lnTo>
                    <a:pt x="676" y="214"/>
                  </a:lnTo>
                  <a:lnTo>
                    <a:pt x="676" y="195"/>
                  </a:lnTo>
                  <a:lnTo>
                    <a:pt x="682" y="195"/>
                  </a:lnTo>
                  <a:lnTo>
                    <a:pt x="682" y="183"/>
                  </a:lnTo>
                  <a:lnTo>
                    <a:pt x="686" y="183"/>
                  </a:lnTo>
                  <a:lnTo>
                    <a:pt x="686" y="178"/>
                  </a:lnTo>
                  <a:lnTo>
                    <a:pt x="691" y="178"/>
                  </a:lnTo>
                  <a:lnTo>
                    <a:pt x="691" y="165"/>
                  </a:lnTo>
                  <a:lnTo>
                    <a:pt x="697" y="165"/>
                  </a:lnTo>
                  <a:lnTo>
                    <a:pt x="697" y="155"/>
                  </a:lnTo>
                  <a:lnTo>
                    <a:pt x="701" y="155"/>
                  </a:lnTo>
                  <a:lnTo>
                    <a:pt x="701" y="143"/>
                  </a:lnTo>
                  <a:lnTo>
                    <a:pt x="706" y="143"/>
                  </a:lnTo>
                  <a:lnTo>
                    <a:pt x="706" y="136"/>
                  </a:lnTo>
                  <a:lnTo>
                    <a:pt x="711" y="136"/>
                  </a:lnTo>
                  <a:lnTo>
                    <a:pt x="711" y="124"/>
                  </a:lnTo>
                  <a:lnTo>
                    <a:pt x="716" y="124"/>
                  </a:lnTo>
                  <a:lnTo>
                    <a:pt x="716" y="113"/>
                  </a:lnTo>
                  <a:lnTo>
                    <a:pt x="720" y="113"/>
                  </a:lnTo>
                  <a:lnTo>
                    <a:pt x="720" y="101"/>
                  </a:lnTo>
                  <a:lnTo>
                    <a:pt x="725" y="101"/>
                  </a:lnTo>
                  <a:lnTo>
                    <a:pt x="725" y="95"/>
                  </a:lnTo>
                  <a:lnTo>
                    <a:pt x="730" y="95"/>
                  </a:lnTo>
                  <a:lnTo>
                    <a:pt x="730" y="83"/>
                  </a:lnTo>
                  <a:lnTo>
                    <a:pt x="734" y="83"/>
                  </a:lnTo>
                  <a:lnTo>
                    <a:pt x="734" y="71"/>
                  </a:lnTo>
                  <a:lnTo>
                    <a:pt x="739" y="71"/>
                  </a:lnTo>
                  <a:lnTo>
                    <a:pt x="739" y="65"/>
                  </a:lnTo>
                  <a:lnTo>
                    <a:pt x="744" y="65"/>
                  </a:lnTo>
                  <a:lnTo>
                    <a:pt x="744" y="54"/>
                  </a:lnTo>
                  <a:lnTo>
                    <a:pt x="749" y="54"/>
                  </a:lnTo>
                  <a:lnTo>
                    <a:pt x="749" y="48"/>
                  </a:lnTo>
                  <a:lnTo>
                    <a:pt x="753" y="48"/>
                  </a:lnTo>
                  <a:lnTo>
                    <a:pt x="753" y="42"/>
                  </a:lnTo>
                  <a:lnTo>
                    <a:pt x="758" y="42"/>
                  </a:lnTo>
                  <a:lnTo>
                    <a:pt x="758" y="37"/>
                  </a:lnTo>
                  <a:lnTo>
                    <a:pt x="763" y="37"/>
                  </a:lnTo>
                  <a:lnTo>
                    <a:pt x="763" y="24"/>
                  </a:lnTo>
                  <a:lnTo>
                    <a:pt x="773" y="24"/>
                  </a:lnTo>
                  <a:lnTo>
                    <a:pt x="773" y="18"/>
                  </a:lnTo>
                  <a:lnTo>
                    <a:pt x="778" y="18"/>
                  </a:lnTo>
                  <a:lnTo>
                    <a:pt x="778" y="13"/>
                  </a:lnTo>
                  <a:lnTo>
                    <a:pt x="783" y="13"/>
                  </a:lnTo>
                  <a:lnTo>
                    <a:pt x="783" y="7"/>
                  </a:lnTo>
                  <a:lnTo>
                    <a:pt x="787" y="7"/>
                  </a:lnTo>
                  <a:lnTo>
                    <a:pt x="787" y="0"/>
                  </a:lnTo>
                  <a:lnTo>
                    <a:pt x="801" y="0"/>
                  </a:lnTo>
                  <a:lnTo>
                    <a:pt x="801" y="13"/>
                  </a:lnTo>
                  <a:lnTo>
                    <a:pt x="797" y="13"/>
                  </a:lnTo>
                  <a:lnTo>
                    <a:pt x="797" y="18"/>
                  </a:lnTo>
                  <a:lnTo>
                    <a:pt x="792" y="18"/>
                  </a:lnTo>
                  <a:lnTo>
                    <a:pt x="792" y="24"/>
                  </a:lnTo>
                  <a:lnTo>
                    <a:pt x="787" y="24"/>
                  </a:lnTo>
                  <a:lnTo>
                    <a:pt x="787" y="30"/>
                  </a:lnTo>
                  <a:lnTo>
                    <a:pt x="778" y="30"/>
                  </a:lnTo>
                  <a:lnTo>
                    <a:pt x="778" y="37"/>
                  </a:lnTo>
                  <a:lnTo>
                    <a:pt x="773" y="37"/>
                  </a:lnTo>
                  <a:lnTo>
                    <a:pt x="773" y="42"/>
                  </a:lnTo>
                  <a:lnTo>
                    <a:pt x="769" y="42"/>
                  </a:lnTo>
                  <a:lnTo>
                    <a:pt x="769" y="48"/>
                  </a:lnTo>
                  <a:lnTo>
                    <a:pt x="763" y="48"/>
                  </a:lnTo>
                  <a:lnTo>
                    <a:pt x="763" y="54"/>
                  </a:lnTo>
                  <a:lnTo>
                    <a:pt x="758" y="54"/>
                  </a:lnTo>
                  <a:lnTo>
                    <a:pt x="758" y="65"/>
                  </a:lnTo>
                  <a:lnTo>
                    <a:pt x="753" y="65"/>
                  </a:lnTo>
                  <a:lnTo>
                    <a:pt x="753" y="78"/>
                  </a:lnTo>
                  <a:lnTo>
                    <a:pt x="749" y="78"/>
                  </a:lnTo>
                  <a:lnTo>
                    <a:pt x="749" y="83"/>
                  </a:lnTo>
                  <a:lnTo>
                    <a:pt x="744" y="83"/>
                  </a:lnTo>
                  <a:lnTo>
                    <a:pt x="744" y="95"/>
                  </a:lnTo>
                  <a:lnTo>
                    <a:pt x="739" y="95"/>
                  </a:lnTo>
                  <a:lnTo>
                    <a:pt x="739" y="106"/>
                  </a:lnTo>
                  <a:lnTo>
                    <a:pt x="734" y="106"/>
                  </a:lnTo>
                  <a:lnTo>
                    <a:pt x="734" y="119"/>
                  </a:lnTo>
                  <a:lnTo>
                    <a:pt x="730" y="119"/>
                  </a:lnTo>
                  <a:lnTo>
                    <a:pt x="730" y="131"/>
                  </a:lnTo>
                  <a:lnTo>
                    <a:pt x="725" y="131"/>
                  </a:lnTo>
                  <a:lnTo>
                    <a:pt x="725" y="143"/>
                  </a:lnTo>
                  <a:lnTo>
                    <a:pt x="720" y="143"/>
                  </a:lnTo>
                  <a:lnTo>
                    <a:pt x="720" y="155"/>
                  </a:lnTo>
                  <a:lnTo>
                    <a:pt x="716" y="155"/>
                  </a:lnTo>
                  <a:lnTo>
                    <a:pt x="716" y="165"/>
                  </a:lnTo>
                  <a:lnTo>
                    <a:pt x="711" y="165"/>
                  </a:lnTo>
                  <a:lnTo>
                    <a:pt x="711" y="173"/>
                  </a:lnTo>
                  <a:lnTo>
                    <a:pt x="706" y="173"/>
                  </a:lnTo>
                  <a:lnTo>
                    <a:pt x="706" y="183"/>
                  </a:lnTo>
                  <a:lnTo>
                    <a:pt x="701" y="183"/>
                  </a:lnTo>
                  <a:lnTo>
                    <a:pt x="701" y="190"/>
                  </a:lnTo>
                  <a:lnTo>
                    <a:pt x="697" y="190"/>
                  </a:lnTo>
                  <a:lnTo>
                    <a:pt x="697" y="201"/>
                  </a:lnTo>
                  <a:lnTo>
                    <a:pt x="691" y="201"/>
                  </a:lnTo>
                  <a:lnTo>
                    <a:pt x="691" y="214"/>
                  </a:lnTo>
                  <a:lnTo>
                    <a:pt x="686" y="214"/>
                  </a:lnTo>
                  <a:lnTo>
                    <a:pt x="686" y="225"/>
                  </a:lnTo>
                  <a:lnTo>
                    <a:pt x="682" y="225"/>
                  </a:lnTo>
                  <a:lnTo>
                    <a:pt x="682" y="242"/>
                  </a:lnTo>
                  <a:lnTo>
                    <a:pt x="676" y="242"/>
                  </a:lnTo>
                  <a:lnTo>
                    <a:pt x="676" y="255"/>
                  </a:lnTo>
                  <a:lnTo>
                    <a:pt x="672" y="255"/>
                  </a:lnTo>
                  <a:lnTo>
                    <a:pt x="672" y="266"/>
                  </a:lnTo>
                  <a:lnTo>
                    <a:pt x="667" y="266"/>
                  </a:lnTo>
                  <a:lnTo>
                    <a:pt x="667" y="277"/>
                  </a:lnTo>
                  <a:lnTo>
                    <a:pt x="663" y="277"/>
                  </a:lnTo>
                  <a:lnTo>
                    <a:pt x="663" y="290"/>
                  </a:lnTo>
                  <a:lnTo>
                    <a:pt x="657" y="290"/>
                  </a:lnTo>
                  <a:lnTo>
                    <a:pt x="657" y="296"/>
                  </a:lnTo>
                  <a:lnTo>
                    <a:pt x="653" y="296"/>
                  </a:lnTo>
                  <a:lnTo>
                    <a:pt x="653" y="309"/>
                  </a:lnTo>
                  <a:lnTo>
                    <a:pt x="649" y="309"/>
                  </a:lnTo>
                  <a:lnTo>
                    <a:pt x="649" y="320"/>
                  </a:lnTo>
                  <a:lnTo>
                    <a:pt x="643" y="320"/>
                  </a:lnTo>
                  <a:lnTo>
                    <a:pt x="643" y="331"/>
                  </a:lnTo>
                  <a:lnTo>
                    <a:pt x="639" y="331"/>
                  </a:lnTo>
                  <a:lnTo>
                    <a:pt x="639" y="337"/>
                  </a:lnTo>
                  <a:lnTo>
                    <a:pt x="634" y="337"/>
                  </a:lnTo>
                  <a:lnTo>
                    <a:pt x="634" y="350"/>
                  </a:lnTo>
                  <a:lnTo>
                    <a:pt x="629" y="350"/>
                  </a:lnTo>
                  <a:lnTo>
                    <a:pt x="629" y="361"/>
                  </a:lnTo>
                  <a:lnTo>
                    <a:pt x="624" y="361"/>
                  </a:lnTo>
                  <a:lnTo>
                    <a:pt x="624" y="367"/>
                  </a:lnTo>
                  <a:lnTo>
                    <a:pt x="619" y="367"/>
                  </a:lnTo>
                  <a:lnTo>
                    <a:pt x="619" y="373"/>
                  </a:lnTo>
                  <a:lnTo>
                    <a:pt x="614" y="373"/>
                  </a:lnTo>
                  <a:lnTo>
                    <a:pt x="614" y="378"/>
                  </a:lnTo>
                  <a:lnTo>
                    <a:pt x="609" y="378"/>
                  </a:lnTo>
                  <a:lnTo>
                    <a:pt x="609" y="391"/>
                  </a:lnTo>
                  <a:lnTo>
                    <a:pt x="605" y="391"/>
                  </a:lnTo>
                  <a:lnTo>
                    <a:pt x="605" y="396"/>
                  </a:lnTo>
                  <a:lnTo>
                    <a:pt x="595" y="396"/>
                  </a:lnTo>
                  <a:lnTo>
                    <a:pt x="595" y="408"/>
                  </a:lnTo>
                  <a:lnTo>
                    <a:pt x="590" y="408"/>
                  </a:lnTo>
                  <a:lnTo>
                    <a:pt x="590" y="420"/>
                  </a:lnTo>
                  <a:lnTo>
                    <a:pt x="586" y="420"/>
                  </a:lnTo>
                  <a:lnTo>
                    <a:pt x="586" y="427"/>
                  </a:lnTo>
                  <a:lnTo>
                    <a:pt x="580" y="427"/>
                  </a:lnTo>
                  <a:lnTo>
                    <a:pt x="580" y="432"/>
                  </a:lnTo>
                  <a:lnTo>
                    <a:pt x="576" y="432"/>
                  </a:lnTo>
                  <a:lnTo>
                    <a:pt x="576" y="445"/>
                  </a:lnTo>
                  <a:lnTo>
                    <a:pt x="571" y="445"/>
                  </a:lnTo>
                  <a:lnTo>
                    <a:pt x="571" y="450"/>
                  </a:lnTo>
                  <a:lnTo>
                    <a:pt x="567" y="450"/>
                  </a:lnTo>
                  <a:lnTo>
                    <a:pt x="567" y="456"/>
                  </a:lnTo>
                  <a:lnTo>
                    <a:pt x="562" y="456"/>
                  </a:lnTo>
                  <a:lnTo>
                    <a:pt x="562" y="473"/>
                  </a:lnTo>
                  <a:lnTo>
                    <a:pt x="557" y="473"/>
                  </a:lnTo>
                  <a:lnTo>
                    <a:pt x="557" y="544"/>
                  </a:lnTo>
                  <a:lnTo>
                    <a:pt x="553" y="544"/>
                  </a:lnTo>
                  <a:lnTo>
                    <a:pt x="553" y="556"/>
                  </a:lnTo>
                  <a:lnTo>
                    <a:pt x="546" y="556"/>
                  </a:lnTo>
                  <a:lnTo>
                    <a:pt x="546" y="568"/>
                  </a:lnTo>
                  <a:lnTo>
                    <a:pt x="542" y="568"/>
                  </a:lnTo>
                  <a:lnTo>
                    <a:pt x="542" y="574"/>
                  </a:lnTo>
                  <a:lnTo>
                    <a:pt x="537" y="574"/>
                  </a:lnTo>
                  <a:lnTo>
                    <a:pt x="537" y="586"/>
                  </a:lnTo>
                  <a:lnTo>
                    <a:pt x="532" y="586"/>
                  </a:lnTo>
                  <a:lnTo>
                    <a:pt x="532" y="597"/>
                  </a:lnTo>
                  <a:lnTo>
                    <a:pt x="527" y="597"/>
                  </a:lnTo>
                  <a:lnTo>
                    <a:pt x="527" y="609"/>
                  </a:lnTo>
                  <a:lnTo>
                    <a:pt x="523" y="609"/>
                  </a:lnTo>
                  <a:lnTo>
                    <a:pt x="523" y="622"/>
                  </a:lnTo>
                  <a:lnTo>
                    <a:pt x="518" y="622"/>
                  </a:lnTo>
                  <a:lnTo>
                    <a:pt x="518" y="633"/>
                  </a:lnTo>
                  <a:lnTo>
                    <a:pt x="513" y="633"/>
                  </a:lnTo>
                  <a:lnTo>
                    <a:pt x="513" y="644"/>
                  </a:lnTo>
                  <a:lnTo>
                    <a:pt x="509" y="644"/>
                  </a:lnTo>
                  <a:lnTo>
                    <a:pt x="509" y="663"/>
                  </a:lnTo>
                  <a:lnTo>
                    <a:pt x="504" y="663"/>
                  </a:lnTo>
                  <a:lnTo>
                    <a:pt x="504" y="674"/>
                  </a:lnTo>
                  <a:lnTo>
                    <a:pt x="499" y="674"/>
                  </a:lnTo>
                  <a:lnTo>
                    <a:pt x="499" y="680"/>
                  </a:lnTo>
                  <a:lnTo>
                    <a:pt x="494" y="680"/>
                  </a:lnTo>
                  <a:lnTo>
                    <a:pt x="494" y="698"/>
                  </a:lnTo>
                  <a:lnTo>
                    <a:pt x="490" y="698"/>
                  </a:lnTo>
                  <a:lnTo>
                    <a:pt x="490" y="709"/>
                  </a:lnTo>
                  <a:lnTo>
                    <a:pt x="485" y="709"/>
                  </a:lnTo>
                  <a:lnTo>
                    <a:pt x="485" y="728"/>
                  </a:lnTo>
                  <a:lnTo>
                    <a:pt x="480" y="728"/>
                  </a:lnTo>
                  <a:lnTo>
                    <a:pt x="480" y="739"/>
                  </a:lnTo>
                  <a:lnTo>
                    <a:pt x="475" y="739"/>
                  </a:lnTo>
                  <a:lnTo>
                    <a:pt x="475" y="757"/>
                  </a:lnTo>
                  <a:lnTo>
                    <a:pt x="470" y="757"/>
                  </a:lnTo>
                  <a:lnTo>
                    <a:pt x="470" y="769"/>
                  </a:lnTo>
                  <a:lnTo>
                    <a:pt x="465" y="769"/>
                  </a:lnTo>
                  <a:lnTo>
                    <a:pt x="465" y="781"/>
                  </a:lnTo>
                  <a:lnTo>
                    <a:pt x="460" y="781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6" y="810"/>
                  </a:lnTo>
                  <a:lnTo>
                    <a:pt x="450" y="810"/>
                  </a:lnTo>
                  <a:lnTo>
                    <a:pt x="450" y="823"/>
                  </a:lnTo>
                  <a:lnTo>
                    <a:pt x="446" y="823"/>
                  </a:lnTo>
                  <a:lnTo>
                    <a:pt x="446" y="828"/>
                  </a:lnTo>
                  <a:lnTo>
                    <a:pt x="442" y="828"/>
                  </a:lnTo>
                  <a:lnTo>
                    <a:pt x="442" y="834"/>
                  </a:lnTo>
                  <a:lnTo>
                    <a:pt x="436" y="834"/>
                  </a:lnTo>
                  <a:lnTo>
                    <a:pt x="436" y="840"/>
                  </a:lnTo>
                  <a:lnTo>
                    <a:pt x="432" y="840"/>
                  </a:lnTo>
                  <a:lnTo>
                    <a:pt x="432" y="851"/>
                  </a:lnTo>
                  <a:lnTo>
                    <a:pt x="427" y="851"/>
                  </a:lnTo>
                  <a:lnTo>
                    <a:pt x="427" y="858"/>
                  </a:lnTo>
                  <a:lnTo>
                    <a:pt x="423" y="858"/>
                  </a:lnTo>
                  <a:lnTo>
                    <a:pt x="423" y="869"/>
                  </a:lnTo>
                  <a:lnTo>
                    <a:pt x="418" y="869"/>
                  </a:lnTo>
                  <a:lnTo>
                    <a:pt x="418" y="881"/>
                  </a:lnTo>
                  <a:lnTo>
                    <a:pt x="413" y="881"/>
                  </a:lnTo>
                  <a:lnTo>
                    <a:pt x="413" y="888"/>
                  </a:lnTo>
                  <a:lnTo>
                    <a:pt x="409" y="888"/>
                  </a:lnTo>
                  <a:lnTo>
                    <a:pt x="409" y="899"/>
                  </a:lnTo>
                  <a:lnTo>
                    <a:pt x="402" y="899"/>
                  </a:lnTo>
                  <a:lnTo>
                    <a:pt x="402" y="910"/>
                  </a:lnTo>
                  <a:lnTo>
                    <a:pt x="398" y="910"/>
                  </a:lnTo>
                  <a:lnTo>
                    <a:pt x="398" y="922"/>
                  </a:lnTo>
                  <a:lnTo>
                    <a:pt x="393" y="922"/>
                  </a:lnTo>
                  <a:lnTo>
                    <a:pt x="393" y="934"/>
                  </a:lnTo>
                  <a:lnTo>
                    <a:pt x="388" y="934"/>
                  </a:lnTo>
                  <a:lnTo>
                    <a:pt x="388" y="946"/>
                  </a:lnTo>
                  <a:lnTo>
                    <a:pt x="384" y="946"/>
                  </a:lnTo>
                  <a:lnTo>
                    <a:pt x="384" y="959"/>
                  </a:lnTo>
                  <a:lnTo>
                    <a:pt x="379" y="959"/>
                  </a:lnTo>
                  <a:lnTo>
                    <a:pt x="379" y="970"/>
                  </a:lnTo>
                  <a:lnTo>
                    <a:pt x="374" y="970"/>
                  </a:lnTo>
                  <a:lnTo>
                    <a:pt x="374" y="982"/>
                  </a:lnTo>
                  <a:lnTo>
                    <a:pt x="369" y="982"/>
                  </a:lnTo>
                  <a:lnTo>
                    <a:pt x="369" y="1005"/>
                  </a:lnTo>
                  <a:lnTo>
                    <a:pt x="365" y="1005"/>
                  </a:lnTo>
                  <a:lnTo>
                    <a:pt x="365" y="1022"/>
                  </a:lnTo>
                  <a:lnTo>
                    <a:pt x="360" y="1022"/>
                  </a:lnTo>
                  <a:lnTo>
                    <a:pt x="360" y="1046"/>
                  </a:lnTo>
                  <a:lnTo>
                    <a:pt x="355" y="1046"/>
                  </a:lnTo>
                  <a:lnTo>
                    <a:pt x="355" y="1076"/>
                  </a:lnTo>
                  <a:lnTo>
                    <a:pt x="351" y="1076"/>
                  </a:lnTo>
                  <a:lnTo>
                    <a:pt x="351" y="1100"/>
                  </a:lnTo>
                  <a:lnTo>
                    <a:pt x="346" y="1100"/>
                  </a:lnTo>
                  <a:lnTo>
                    <a:pt x="346" y="1111"/>
                  </a:lnTo>
                  <a:lnTo>
                    <a:pt x="341" y="1111"/>
                  </a:lnTo>
                  <a:lnTo>
                    <a:pt x="341" y="1123"/>
                  </a:lnTo>
                  <a:lnTo>
                    <a:pt x="336" y="1123"/>
                  </a:lnTo>
                  <a:lnTo>
                    <a:pt x="336" y="1128"/>
                  </a:lnTo>
                  <a:lnTo>
                    <a:pt x="331" y="1128"/>
                  </a:lnTo>
                  <a:lnTo>
                    <a:pt x="331" y="1136"/>
                  </a:lnTo>
                  <a:lnTo>
                    <a:pt x="326" y="1136"/>
                  </a:lnTo>
                  <a:lnTo>
                    <a:pt x="326" y="1141"/>
                  </a:lnTo>
                  <a:lnTo>
                    <a:pt x="321" y="1141"/>
                  </a:lnTo>
                  <a:lnTo>
                    <a:pt x="321" y="1153"/>
                  </a:lnTo>
                  <a:lnTo>
                    <a:pt x="316" y="1153"/>
                  </a:lnTo>
                  <a:lnTo>
                    <a:pt x="316" y="1160"/>
                  </a:lnTo>
                  <a:lnTo>
                    <a:pt x="312" y="1160"/>
                  </a:lnTo>
                  <a:lnTo>
                    <a:pt x="312" y="1170"/>
                  </a:lnTo>
                  <a:lnTo>
                    <a:pt x="307" y="1170"/>
                  </a:lnTo>
                  <a:lnTo>
                    <a:pt x="307" y="1182"/>
                  </a:lnTo>
                  <a:lnTo>
                    <a:pt x="302" y="1182"/>
                  </a:lnTo>
                  <a:lnTo>
                    <a:pt x="302" y="1188"/>
                  </a:lnTo>
                  <a:lnTo>
                    <a:pt x="298" y="1188"/>
                  </a:lnTo>
                  <a:lnTo>
                    <a:pt x="298" y="1201"/>
                  </a:lnTo>
                  <a:lnTo>
                    <a:pt x="292" y="1201"/>
                  </a:lnTo>
                  <a:lnTo>
                    <a:pt x="292" y="1206"/>
                  </a:lnTo>
                  <a:lnTo>
                    <a:pt x="288" y="1206"/>
                  </a:lnTo>
                  <a:lnTo>
                    <a:pt x="288" y="1218"/>
                  </a:lnTo>
                  <a:lnTo>
                    <a:pt x="283" y="1218"/>
                  </a:lnTo>
                  <a:lnTo>
                    <a:pt x="283" y="1223"/>
                  </a:lnTo>
                  <a:lnTo>
                    <a:pt x="279" y="1223"/>
                  </a:lnTo>
                  <a:lnTo>
                    <a:pt x="279" y="1229"/>
                  </a:lnTo>
                  <a:lnTo>
                    <a:pt x="273" y="1229"/>
                  </a:lnTo>
                  <a:lnTo>
                    <a:pt x="273" y="1242"/>
                  </a:lnTo>
                  <a:lnTo>
                    <a:pt x="269" y="1242"/>
                  </a:lnTo>
                  <a:lnTo>
                    <a:pt x="269" y="1247"/>
                  </a:lnTo>
                  <a:lnTo>
                    <a:pt x="265" y="1247"/>
                  </a:lnTo>
                  <a:lnTo>
                    <a:pt x="265" y="1259"/>
                  </a:lnTo>
                  <a:lnTo>
                    <a:pt x="258" y="1259"/>
                  </a:lnTo>
                  <a:lnTo>
                    <a:pt x="258" y="1264"/>
                  </a:lnTo>
                  <a:lnTo>
                    <a:pt x="254" y="1264"/>
                  </a:lnTo>
                  <a:lnTo>
                    <a:pt x="254" y="1272"/>
                  </a:lnTo>
                  <a:lnTo>
                    <a:pt x="249" y="1272"/>
                  </a:lnTo>
                  <a:lnTo>
                    <a:pt x="249" y="1283"/>
                  </a:lnTo>
                  <a:lnTo>
                    <a:pt x="244" y="1283"/>
                  </a:lnTo>
                  <a:lnTo>
                    <a:pt x="244" y="1296"/>
                  </a:lnTo>
                  <a:lnTo>
                    <a:pt x="239" y="1296"/>
                  </a:lnTo>
                  <a:lnTo>
                    <a:pt x="239" y="1307"/>
                  </a:lnTo>
                  <a:lnTo>
                    <a:pt x="235" y="1307"/>
                  </a:lnTo>
                  <a:lnTo>
                    <a:pt x="235" y="1318"/>
                  </a:lnTo>
                  <a:lnTo>
                    <a:pt x="230" y="1318"/>
                  </a:lnTo>
                  <a:lnTo>
                    <a:pt x="230" y="1337"/>
                  </a:lnTo>
                  <a:lnTo>
                    <a:pt x="225" y="1337"/>
                  </a:lnTo>
                  <a:lnTo>
                    <a:pt x="225" y="1342"/>
                  </a:lnTo>
                  <a:lnTo>
                    <a:pt x="221" y="1342"/>
                  </a:lnTo>
                  <a:lnTo>
                    <a:pt x="221" y="1360"/>
                  </a:lnTo>
                  <a:lnTo>
                    <a:pt x="216" y="1360"/>
                  </a:lnTo>
                  <a:lnTo>
                    <a:pt x="216" y="1372"/>
                  </a:lnTo>
                  <a:lnTo>
                    <a:pt x="211" y="1372"/>
                  </a:lnTo>
                  <a:lnTo>
                    <a:pt x="211" y="1389"/>
                  </a:lnTo>
                  <a:lnTo>
                    <a:pt x="206" y="1389"/>
                  </a:lnTo>
                  <a:lnTo>
                    <a:pt x="206" y="1395"/>
                  </a:lnTo>
                  <a:lnTo>
                    <a:pt x="202" y="1395"/>
                  </a:lnTo>
                  <a:lnTo>
                    <a:pt x="202" y="1402"/>
                  </a:lnTo>
                  <a:lnTo>
                    <a:pt x="196" y="1402"/>
                  </a:lnTo>
                  <a:lnTo>
                    <a:pt x="196" y="1414"/>
                  </a:lnTo>
                  <a:lnTo>
                    <a:pt x="192" y="1414"/>
                  </a:lnTo>
                  <a:lnTo>
                    <a:pt x="192" y="1419"/>
                  </a:lnTo>
                  <a:lnTo>
                    <a:pt x="186" y="1419"/>
                  </a:lnTo>
                  <a:lnTo>
                    <a:pt x="186" y="1432"/>
                  </a:lnTo>
                  <a:lnTo>
                    <a:pt x="182" y="1432"/>
                  </a:lnTo>
                  <a:lnTo>
                    <a:pt x="182" y="1442"/>
                  </a:lnTo>
                  <a:lnTo>
                    <a:pt x="177" y="1442"/>
                  </a:lnTo>
                  <a:lnTo>
                    <a:pt x="177" y="1449"/>
                  </a:lnTo>
                  <a:lnTo>
                    <a:pt x="172" y="1449"/>
                  </a:lnTo>
                  <a:lnTo>
                    <a:pt x="172" y="1460"/>
                  </a:lnTo>
                  <a:lnTo>
                    <a:pt x="168" y="1460"/>
                  </a:lnTo>
                  <a:lnTo>
                    <a:pt x="168" y="1465"/>
                  </a:lnTo>
                  <a:lnTo>
                    <a:pt x="162" y="1465"/>
                  </a:lnTo>
                  <a:lnTo>
                    <a:pt x="162" y="1478"/>
                  </a:lnTo>
                  <a:lnTo>
                    <a:pt x="158" y="1478"/>
                  </a:lnTo>
                  <a:lnTo>
                    <a:pt x="158" y="1483"/>
                  </a:lnTo>
                  <a:lnTo>
                    <a:pt x="153" y="1483"/>
                  </a:lnTo>
                  <a:lnTo>
                    <a:pt x="153" y="1490"/>
                  </a:lnTo>
                  <a:lnTo>
                    <a:pt x="148" y="1490"/>
                  </a:lnTo>
                  <a:lnTo>
                    <a:pt x="148" y="1495"/>
                  </a:lnTo>
                  <a:lnTo>
                    <a:pt x="144" y="1495"/>
                  </a:lnTo>
                  <a:lnTo>
                    <a:pt x="144" y="1501"/>
                  </a:lnTo>
                  <a:lnTo>
                    <a:pt x="139" y="1501"/>
                  </a:lnTo>
                  <a:lnTo>
                    <a:pt x="139" y="1508"/>
                  </a:lnTo>
                  <a:lnTo>
                    <a:pt x="135" y="1508"/>
                  </a:lnTo>
                  <a:lnTo>
                    <a:pt x="135" y="1514"/>
                  </a:lnTo>
                  <a:lnTo>
                    <a:pt x="129" y="1514"/>
                  </a:lnTo>
                  <a:lnTo>
                    <a:pt x="129" y="1519"/>
                  </a:lnTo>
                  <a:lnTo>
                    <a:pt x="125" y="1519"/>
                  </a:lnTo>
                  <a:lnTo>
                    <a:pt x="125" y="1525"/>
                  </a:lnTo>
                  <a:lnTo>
                    <a:pt x="120" y="1525"/>
                  </a:lnTo>
                  <a:lnTo>
                    <a:pt x="120" y="1536"/>
                  </a:lnTo>
                  <a:lnTo>
                    <a:pt x="115" y="1536"/>
                  </a:lnTo>
                  <a:lnTo>
                    <a:pt x="115" y="1543"/>
                  </a:lnTo>
                  <a:lnTo>
                    <a:pt x="109" y="1543"/>
                  </a:lnTo>
                  <a:lnTo>
                    <a:pt x="109" y="1555"/>
                  </a:lnTo>
                  <a:lnTo>
                    <a:pt x="105" y="1555"/>
                  </a:lnTo>
                  <a:lnTo>
                    <a:pt x="105" y="1573"/>
                  </a:lnTo>
                  <a:lnTo>
                    <a:pt x="100" y="1573"/>
                  </a:lnTo>
                  <a:lnTo>
                    <a:pt x="100" y="1601"/>
                  </a:lnTo>
                  <a:lnTo>
                    <a:pt x="95" y="1601"/>
                  </a:lnTo>
                  <a:lnTo>
                    <a:pt x="95" y="1614"/>
                  </a:lnTo>
                  <a:lnTo>
                    <a:pt x="91" y="1614"/>
                  </a:lnTo>
                  <a:lnTo>
                    <a:pt x="91" y="1626"/>
                  </a:lnTo>
                  <a:lnTo>
                    <a:pt x="86" y="1626"/>
                  </a:lnTo>
                  <a:lnTo>
                    <a:pt x="86" y="1631"/>
                  </a:lnTo>
                  <a:lnTo>
                    <a:pt x="81" y="1631"/>
                  </a:lnTo>
                  <a:lnTo>
                    <a:pt x="81" y="1642"/>
                  </a:lnTo>
                  <a:lnTo>
                    <a:pt x="77" y="1642"/>
                  </a:lnTo>
                  <a:lnTo>
                    <a:pt x="77" y="1661"/>
                  </a:lnTo>
                  <a:lnTo>
                    <a:pt x="72" y="1661"/>
                  </a:lnTo>
                  <a:lnTo>
                    <a:pt x="72" y="1674"/>
                  </a:lnTo>
                  <a:lnTo>
                    <a:pt x="67" y="1674"/>
                  </a:lnTo>
                  <a:lnTo>
                    <a:pt x="67" y="1685"/>
                  </a:lnTo>
                  <a:lnTo>
                    <a:pt x="62" y="1685"/>
                  </a:lnTo>
                  <a:lnTo>
                    <a:pt x="62" y="1696"/>
                  </a:lnTo>
                  <a:lnTo>
                    <a:pt x="58" y="1696"/>
                  </a:lnTo>
                  <a:lnTo>
                    <a:pt x="58" y="1709"/>
                  </a:lnTo>
                  <a:lnTo>
                    <a:pt x="52" y="1709"/>
                  </a:lnTo>
                  <a:lnTo>
                    <a:pt x="52" y="1727"/>
                  </a:lnTo>
                  <a:lnTo>
                    <a:pt x="48" y="1727"/>
                  </a:lnTo>
                  <a:lnTo>
                    <a:pt x="48" y="1732"/>
                  </a:lnTo>
                  <a:lnTo>
                    <a:pt x="44" y="1732"/>
                  </a:lnTo>
                  <a:lnTo>
                    <a:pt x="44" y="1745"/>
                  </a:lnTo>
                  <a:lnTo>
                    <a:pt x="38" y="1745"/>
                  </a:lnTo>
                  <a:lnTo>
                    <a:pt x="38" y="1756"/>
                  </a:lnTo>
                  <a:lnTo>
                    <a:pt x="33" y="1756"/>
                  </a:lnTo>
                  <a:lnTo>
                    <a:pt x="33" y="1761"/>
                  </a:lnTo>
                  <a:lnTo>
                    <a:pt x="28" y="1761"/>
                  </a:lnTo>
                  <a:lnTo>
                    <a:pt x="28" y="1774"/>
                  </a:lnTo>
                  <a:lnTo>
                    <a:pt x="24" y="1774"/>
                  </a:lnTo>
                  <a:lnTo>
                    <a:pt x="24" y="1791"/>
                  </a:lnTo>
                  <a:lnTo>
                    <a:pt x="18" y="1791"/>
                  </a:lnTo>
                  <a:lnTo>
                    <a:pt x="18" y="1797"/>
                  </a:lnTo>
                  <a:lnTo>
                    <a:pt x="14" y="1797"/>
                  </a:lnTo>
                  <a:lnTo>
                    <a:pt x="14" y="1803"/>
                  </a:lnTo>
                  <a:lnTo>
                    <a:pt x="4" y="1803"/>
                  </a:lnTo>
                  <a:lnTo>
                    <a:pt x="4" y="1797"/>
                  </a:lnTo>
                  <a:lnTo>
                    <a:pt x="0" y="1797"/>
                  </a:lnTo>
                  <a:lnTo>
                    <a:pt x="0" y="178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74360" y="1901160"/>
              <a:ext cx="2160" cy="108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88040" y="1688760"/>
              <a:ext cx="74520" cy="80280"/>
            </a:xfrm>
            <a:custGeom>
              <a:avLst/>
              <a:gdLst/>
              <a:ahLst/>
              <a:rect l="l" t="t" r="r" b="b"/>
              <a:pathLst>
                <a:path w="288" h="415">
                  <a:moveTo>
                    <a:pt x="0" y="397"/>
                  </a:moveTo>
                  <a:lnTo>
                    <a:pt x="32" y="397"/>
                  </a:lnTo>
                  <a:lnTo>
                    <a:pt x="32" y="391"/>
                  </a:lnTo>
                  <a:lnTo>
                    <a:pt x="43" y="391"/>
                  </a:lnTo>
                  <a:lnTo>
                    <a:pt x="43" y="385"/>
                  </a:lnTo>
                  <a:lnTo>
                    <a:pt x="48" y="385"/>
                  </a:lnTo>
                  <a:lnTo>
                    <a:pt x="48" y="380"/>
                  </a:lnTo>
                  <a:lnTo>
                    <a:pt x="52" y="380"/>
                  </a:lnTo>
                  <a:lnTo>
                    <a:pt x="52" y="367"/>
                  </a:lnTo>
                  <a:lnTo>
                    <a:pt x="58" y="367"/>
                  </a:lnTo>
                  <a:lnTo>
                    <a:pt x="58" y="343"/>
                  </a:lnTo>
                  <a:lnTo>
                    <a:pt x="62" y="343"/>
                  </a:lnTo>
                  <a:lnTo>
                    <a:pt x="62" y="331"/>
                  </a:lnTo>
                  <a:lnTo>
                    <a:pt x="67" y="331"/>
                  </a:lnTo>
                  <a:lnTo>
                    <a:pt x="67" y="314"/>
                  </a:lnTo>
                  <a:lnTo>
                    <a:pt x="71" y="314"/>
                  </a:lnTo>
                  <a:lnTo>
                    <a:pt x="71" y="290"/>
                  </a:lnTo>
                  <a:lnTo>
                    <a:pt x="76" y="290"/>
                  </a:lnTo>
                  <a:lnTo>
                    <a:pt x="76" y="272"/>
                  </a:lnTo>
                  <a:lnTo>
                    <a:pt x="71" y="272"/>
                  </a:lnTo>
                  <a:lnTo>
                    <a:pt x="71" y="261"/>
                  </a:lnTo>
                  <a:lnTo>
                    <a:pt x="109" y="261"/>
                  </a:lnTo>
                  <a:lnTo>
                    <a:pt x="109" y="255"/>
                  </a:lnTo>
                  <a:lnTo>
                    <a:pt x="119" y="255"/>
                  </a:lnTo>
                  <a:lnTo>
                    <a:pt x="119" y="244"/>
                  </a:lnTo>
                  <a:lnTo>
                    <a:pt x="125" y="244"/>
                  </a:lnTo>
                  <a:lnTo>
                    <a:pt x="125" y="236"/>
                  </a:lnTo>
                  <a:lnTo>
                    <a:pt x="129" y="236"/>
                  </a:lnTo>
                  <a:lnTo>
                    <a:pt x="129" y="231"/>
                  </a:lnTo>
                  <a:lnTo>
                    <a:pt x="134" y="231"/>
                  </a:lnTo>
                  <a:lnTo>
                    <a:pt x="134" y="220"/>
                  </a:lnTo>
                  <a:lnTo>
                    <a:pt x="139" y="220"/>
                  </a:lnTo>
                  <a:lnTo>
                    <a:pt x="139" y="214"/>
                  </a:lnTo>
                  <a:lnTo>
                    <a:pt x="144" y="214"/>
                  </a:lnTo>
                  <a:lnTo>
                    <a:pt x="144" y="184"/>
                  </a:lnTo>
                  <a:lnTo>
                    <a:pt x="148" y="184"/>
                  </a:lnTo>
                  <a:lnTo>
                    <a:pt x="148" y="149"/>
                  </a:lnTo>
                  <a:lnTo>
                    <a:pt x="206" y="149"/>
                  </a:lnTo>
                  <a:lnTo>
                    <a:pt x="206" y="143"/>
                  </a:lnTo>
                  <a:lnTo>
                    <a:pt x="211" y="143"/>
                  </a:lnTo>
                  <a:lnTo>
                    <a:pt x="211" y="136"/>
                  </a:lnTo>
                  <a:lnTo>
                    <a:pt x="215" y="136"/>
                  </a:lnTo>
                  <a:lnTo>
                    <a:pt x="215" y="130"/>
                  </a:lnTo>
                  <a:lnTo>
                    <a:pt x="221" y="130"/>
                  </a:lnTo>
                  <a:lnTo>
                    <a:pt x="221" y="119"/>
                  </a:lnTo>
                  <a:lnTo>
                    <a:pt x="225" y="119"/>
                  </a:lnTo>
                  <a:lnTo>
                    <a:pt x="225" y="108"/>
                  </a:lnTo>
                  <a:lnTo>
                    <a:pt x="230" y="108"/>
                  </a:lnTo>
                  <a:lnTo>
                    <a:pt x="230" y="95"/>
                  </a:lnTo>
                  <a:lnTo>
                    <a:pt x="235" y="95"/>
                  </a:lnTo>
                  <a:lnTo>
                    <a:pt x="235" y="76"/>
                  </a:lnTo>
                  <a:lnTo>
                    <a:pt x="239" y="76"/>
                  </a:lnTo>
                  <a:lnTo>
                    <a:pt x="239" y="54"/>
                  </a:lnTo>
                  <a:lnTo>
                    <a:pt x="244" y="54"/>
                  </a:lnTo>
                  <a:lnTo>
                    <a:pt x="244" y="13"/>
                  </a:lnTo>
                  <a:lnTo>
                    <a:pt x="249" y="13"/>
                  </a:lnTo>
                  <a:lnTo>
                    <a:pt x="249" y="7"/>
                  </a:lnTo>
                  <a:lnTo>
                    <a:pt x="254" y="7"/>
                  </a:lnTo>
                  <a:lnTo>
                    <a:pt x="254" y="0"/>
                  </a:lnTo>
                  <a:lnTo>
                    <a:pt x="288" y="0"/>
                  </a:lnTo>
                  <a:lnTo>
                    <a:pt x="288" y="13"/>
                  </a:lnTo>
                  <a:lnTo>
                    <a:pt x="278" y="13"/>
                  </a:lnTo>
                  <a:lnTo>
                    <a:pt x="278" y="18"/>
                  </a:lnTo>
                  <a:lnTo>
                    <a:pt x="259" y="18"/>
                  </a:lnTo>
                  <a:lnTo>
                    <a:pt x="259" y="24"/>
                  </a:lnTo>
                  <a:lnTo>
                    <a:pt x="254" y="24"/>
                  </a:lnTo>
                  <a:lnTo>
                    <a:pt x="254" y="59"/>
                  </a:lnTo>
                  <a:lnTo>
                    <a:pt x="249" y="59"/>
                  </a:lnTo>
                  <a:lnTo>
                    <a:pt x="249" y="84"/>
                  </a:lnTo>
                  <a:lnTo>
                    <a:pt x="244" y="84"/>
                  </a:lnTo>
                  <a:lnTo>
                    <a:pt x="244" y="101"/>
                  </a:lnTo>
                  <a:lnTo>
                    <a:pt x="239" y="101"/>
                  </a:lnTo>
                  <a:lnTo>
                    <a:pt x="239" y="113"/>
                  </a:lnTo>
                  <a:lnTo>
                    <a:pt x="235" y="113"/>
                  </a:lnTo>
                  <a:lnTo>
                    <a:pt x="235" y="125"/>
                  </a:lnTo>
                  <a:lnTo>
                    <a:pt x="230" y="125"/>
                  </a:lnTo>
                  <a:lnTo>
                    <a:pt x="230" y="136"/>
                  </a:lnTo>
                  <a:lnTo>
                    <a:pt x="225" y="136"/>
                  </a:lnTo>
                  <a:lnTo>
                    <a:pt x="225" y="149"/>
                  </a:lnTo>
                  <a:lnTo>
                    <a:pt x="215" y="149"/>
                  </a:lnTo>
                  <a:lnTo>
                    <a:pt x="215" y="160"/>
                  </a:lnTo>
                  <a:lnTo>
                    <a:pt x="211" y="160"/>
                  </a:lnTo>
                  <a:lnTo>
                    <a:pt x="211" y="166"/>
                  </a:lnTo>
                  <a:lnTo>
                    <a:pt x="196" y="166"/>
                  </a:lnTo>
                  <a:lnTo>
                    <a:pt x="196" y="171"/>
                  </a:lnTo>
                  <a:lnTo>
                    <a:pt x="177" y="171"/>
                  </a:lnTo>
                  <a:lnTo>
                    <a:pt x="177" y="166"/>
                  </a:lnTo>
                  <a:lnTo>
                    <a:pt x="162" y="166"/>
                  </a:lnTo>
                  <a:lnTo>
                    <a:pt x="162" y="178"/>
                  </a:lnTo>
                  <a:lnTo>
                    <a:pt x="158" y="178"/>
                  </a:lnTo>
                  <a:lnTo>
                    <a:pt x="158" y="195"/>
                  </a:lnTo>
                  <a:lnTo>
                    <a:pt x="153" y="195"/>
                  </a:lnTo>
                  <a:lnTo>
                    <a:pt x="153" y="220"/>
                  </a:lnTo>
                  <a:lnTo>
                    <a:pt x="148" y="220"/>
                  </a:lnTo>
                  <a:lnTo>
                    <a:pt x="148" y="225"/>
                  </a:lnTo>
                  <a:lnTo>
                    <a:pt x="144" y="225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9" y="249"/>
                  </a:lnTo>
                  <a:lnTo>
                    <a:pt x="134" y="249"/>
                  </a:lnTo>
                  <a:lnTo>
                    <a:pt x="134" y="261"/>
                  </a:lnTo>
                  <a:lnTo>
                    <a:pt x="129" y="261"/>
                  </a:lnTo>
                  <a:lnTo>
                    <a:pt x="129" y="266"/>
                  </a:lnTo>
                  <a:lnTo>
                    <a:pt x="119" y="266"/>
                  </a:lnTo>
                  <a:lnTo>
                    <a:pt x="119" y="272"/>
                  </a:lnTo>
                  <a:lnTo>
                    <a:pt x="115" y="272"/>
                  </a:lnTo>
                  <a:lnTo>
                    <a:pt x="115" y="279"/>
                  </a:lnTo>
                  <a:lnTo>
                    <a:pt x="85" y="279"/>
                  </a:lnTo>
                  <a:lnTo>
                    <a:pt x="85" y="296"/>
                  </a:lnTo>
                  <a:lnTo>
                    <a:pt x="81" y="296"/>
                  </a:lnTo>
                  <a:lnTo>
                    <a:pt x="81" y="326"/>
                  </a:lnTo>
                  <a:lnTo>
                    <a:pt x="76" y="326"/>
                  </a:lnTo>
                  <a:lnTo>
                    <a:pt x="76" y="350"/>
                  </a:lnTo>
                  <a:lnTo>
                    <a:pt x="71" y="350"/>
                  </a:lnTo>
                  <a:lnTo>
                    <a:pt x="71" y="367"/>
                  </a:lnTo>
                  <a:lnTo>
                    <a:pt x="67" y="367"/>
                  </a:lnTo>
                  <a:lnTo>
                    <a:pt x="67" y="380"/>
                  </a:lnTo>
                  <a:lnTo>
                    <a:pt x="62" y="380"/>
                  </a:lnTo>
                  <a:lnTo>
                    <a:pt x="62" y="391"/>
                  </a:lnTo>
                  <a:lnTo>
                    <a:pt x="58" y="391"/>
                  </a:lnTo>
                  <a:lnTo>
                    <a:pt x="58" y="397"/>
                  </a:lnTo>
                  <a:lnTo>
                    <a:pt x="52" y="397"/>
                  </a:lnTo>
                  <a:lnTo>
                    <a:pt x="52" y="403"/>
                  </a:lnTo>
                  <a:lnTo>
                    <a:pt x="48" y="403"/>
                  </a:lnTo>
                  <a:lnTo>
                    <a:pt x="48" y="408"/>
                  </a:lnTo>
                  <a:lnTo>
                    <a:pt x="32" y="408"/>
                  </a:lnTo>
                  <a:lnTo>
                    <a:pt x="32" y="415"/>
                  </a:lnTo>
                  <a:lnTo>
                    <a:pt x="4" y="415"/>
                  </a:lnTo>
                  <a:lnTo>
                    <a:pt x="4" y="408"/>
                  </a:lnTo>
                  <a:lnTo>
                    <a:pt x="0" y="408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96680" y="1764360"/>
              <a:ext cx="45720" cy="69120"/>
            </a:xfrm>
            <a:custGeom>
              <a:avLst/>
              <a:gdLst/>
              <a:ahLst/>
              <a:rect l="l" t="t" r="r" b="b"/>
              <a:pathLst>
                <a:path w="179" h="354">
                  <a:moveTo>
                    <a:pt x="0" y="343"/>
                  </a:moveTo>
                  <a:lnTo>
                    <a:pt x="6" y="343"/>
                  </a:lnTo>
                  <a:lnTo>
                    <a:pt x="6" y="337"/>
                  </a:lnTo>
                  <a:lnTo>
                    <a:pt x="11" y="337"/>
                  </a:lnTo>
                  <a:lnTo>
                    <a:pt x="11" y="326"/>
                  </a:lnTo>
                  <a:lnTo>
                    <a:pt x="16" y="326"/>
                  </a:lnTo>
                  <a:lnTo>
                    <a:pt x="16" y="307"/>
                  </a:lnTo>
                  <a:lnTo>
                    <a:pt x="20" y="307"/>
                  </a:lnTo>
                  <a:lnTo>
                    <a:pt x="20" y="284"/>
                  </a:lnTo>
                  <a:lnTo>
                    <a:pt x="26" y="284"/>
                  </a:lnTo>
                  <a:lnTo>
                    <a:pt x="26" y="259"/>
                  </a:lnTo>
                  <a:lnTo>
                    <a:pt x="30" y="259"/>
                  </a:lnTo>
                  <a:lnTo>
                    <a:pt x="30" y="248"/>
                  </a:lnTo>
                  <a:lnTo>
                    <a:pt x="35" y="248"/>
                  </a:lnTo>
                  <a:lnTo>
                    <a:pt x="35" y="231"/>
                  </a:lnTo>
                  <a:lnTo>
                    <a:pt x="39" y="231"/>
                  </a:lnTo>
                  <a:lnTo>
                    <a:pt x="39" y="207"/>
                  </a:lnTo>
                  <a:lnTo>
                    <a:pt x="44" y="207"/>
                  </a:lnTo>
                  <a:lnTo>
                    <a:pt x="44" y="200"/>
                  </a:lnTo>
                  <a:lnTo>
                    <a:pt x="73" y="200"/>
                  </a:lnTo>
                  <a:lnTo>
                    <a:pt x="73" y="190"/>
                  </a:lnTo>
                  <a:lnTo>
                    <a:pt x="77" y="190"/>
                  </a:lnTo>
                  <a:lnTo>
                    <a:pt x="77" y="171"/>
                  </a:lnTo>
                  <a:lnTo>
                    <a:pt x="83" y="171"/>
                  </a:lnTo>
                  <a:lnTo>
                    <a:pt x="83" y="147"/>
                  </a:lnTo>
                  <a:lnTo>
                    <a:pt x="87" y="147"/>
                  </a:lnTo>
                  <a:lnTo>
                    <a:pt x="87" y="112"/>
                  </a:lnTo>
                  <a:lnTo>
                    <a:pt x="93" y="112"/>
                  </a:lnTo>
                  <a:lnTo>
                    <a:pt x="93" y="106"/>
                  </a:lnTo>
                  <a:lnTo>
                    <a:pt x="97" y="106"/>
                  </a:lnTo>
                  <a:lnTo>
                    <a:pt x="97" y="100"/>
                  </a:lnTo>
                  <a:lnTo>
                    <a:pt x="116" y="100"/>
                  </a:lnTo>
                  <a:lnTo>
                    <a:pt x="116" y="93"/>
                  </a:lnTo>
                  <a:lnTo>
                    <a:pt x="121" y="93"/>
                  </a:lnTo>
                  <a:lnTo>
                    <a:pt x="121" y="88"/>
                  </a:lnTo>
                  <a:lnTo>
                    <a:pt x="126" y="88"/>
                  </a:lnTo>
                  <a:lnTo>
                    <a:pt x="126" y="82"/>
                  </a:lnTo>
                  <a:lnTo>
                    <a:pt x="130" y="82"/>
                  </a:lnTo>
                  <a:lnTo>
                    <a:pt x="130" y="65"/>
                  </a:lnTo>
                  <a:lnTo>
                    <a:pt x="135" y="65"/>
                  </a:lnTo>
                  <a:lnTo>
                    <a:pt x="135" y="52"/>
                  </a:lnTo>
                  <a:lnTo>
                    <a:pt x="140" y="52"/>
                  </a:lnTo>
                  <a:lnTo>
                    <a:pt x="140" y="35"/>
                  </a:lnTo>
                  <a:lnTo>
                    <a:pt x="145" y="35"/>
                  </a:lnTo>
                  <a:lnTo>
                    <a:pt x="145" y="17"/>
                  </a:lnTo>
                  <a:lnTo>
                    <a:pt x="149" y="17"/>
                  </a:lnTo>
                  <a:lnTo>
                    <a:pt x="149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79" y="6"/>
                  </a:lnTo>
                  <a:lnTo>
                    <a:pt x="179" y="17"/>
                  </a:lnTo>
                  <a:lnTo>
                    <a:pt x="174" y="17"/>
                  </a:lnTo>
                  <a:lnTo>
                    <a:pt x="174" y="24"/>
                  </a:lnTo>
                  <a:lnTo>
                    <a:pt x="160" y="24"/>
                  </a:lnTo>
                  <a:lnTo>
                    <a:pt x="160" y="35"/>
                  </a:lnTo>
                  <a:lnTo>
                    <a:pt x="156" y="35"/>
                  </a:lnTo>
                  <a:lnTo>
                    <a:pt x="156" y="52"/>
                  </a:lnTo>
                  <a:lnTo>
                    <a:pt x="149" y="52"/>
                  </a:lnTo>
                  <a:lnTo>
                    <a:pt x="149" y="65"/>
                  </a:lnTo>
                  <a:lnTo>
                    <a:pt x="145" y="65"/>
                  </a:lnTo>
                  <a:lnTo>
                    <a:pt x="145" y="76"/>
                  </a:lnTo>
                  <a:lnTo>
                    <a:pt x="140" y="76"/>
                  </a:lnTo>
                  <a:lnTo>
                    <a:pt x="140" y="93"/>
                  </a:lnTo>
                  <a:lnTo>
                    <a:pt x="135" y="93"/>
                  </a:lnTo>
                  <a:lnTo>
                    <a:pt x="135" y="100"/>
                  </a:lnTo>
                  <a:lnTo>
                    <a:pt x="130" y="100"/>
                  </a:lnTo>
                  <a:lnTo>
                    <a:pt x="130" y="106"/>
                  </a:lnTo>
                  <a:lnTo>
                    <a:pt x="126" y="106"/>
                  </a:lnTo>
                  <a:lnTo>
                    <a:pt x="126" y="112"/>
                  </a:lnTo>
                  <a:lnTo>
                    <a:pt x="121" y="112"/>
                  </a:lnTo>
                  <a:lnTo>
                    <a:pt x="121" y="117"/>
                  </a:lnTo>
                  <a:lnTo>
                    <a:pt x="112" y="117"/>
                  </a:lnTo>
                  <a:lnTo>
                    <a:pt x="112" y="125"/>
                  </a:lnTo>
                  <a:lnTo>
                    <a:pt x="107" y="125"/>
                  </a:lnTo>
                  <a:lnTo>
                    <a:pt x="107" y="130"/>
                  </a:lnTo>
                  <a:lnTo>
                    <a:pt x="102" y="130"/>
                  </a:lnTo>
                  <a:lnTo>
                    <a:pt x="102" y="147"/>
                  </a:lnTo>
                  <a:lnTo>
                    <a:pt x="97" y="147"/>
                  </a:lnTo>
                  <a:lnTo>
                    <a:pt x="97" y="166"/>
                  </a:lnTo>
                  <a:lnTo>
                    <a:pt x="93" y="166"/>
                  </a:lnTo>
                  <a:lnTo>
                    <a:pt x="93" y="183"/>
                  </a:lnTo>
                  <a:lnTo>
                    <a:pt x="87" y="183"/>
                  </a:lnTo>
                  <a:lnTo>
                    <a:pt x="87" y="200"/>
                  </a:lnTo>
                  <a:lnTo>
                    <a:pt x="83" y="200"/>
                  </a:lnTo>
                  <a:lnTo>
                    <a:pt x="83" y="207"/>
                  </a:lnTo>
                  <a:lnTo>
                    <a:pt x="77" y="207"/>
                  </a:lnTo>
                  <a:lnTo>
                    <a:pt x="77" y="218"/>
                  </a:lnTo>
                  <a:lnTo>
                    <a:pt x="73" y="218"/>
                  </a:lnTo>
                  <a:lnTo>
                    <a:pt x="73" y="225"/>
                  </a:lnTo>
                  <a:lnTo>
                    <a:pt x="49" y="225"/>
                  </a:lnTo>
                  <a:lnTo>
                    <a:pt x="49" y="236"/>
                  </a:lnTo>
                  <a:lnTo>
                    <a:pt x="44" y="236"/>
                  </a:lnTo>
                  <a:lnTo>
                    <a:pt x="44" y="253"/>
                  </a:lnTo>
                  <a:lnTo>
                    <a:pt x="39" y="253"/>
                  </a:lnTo>
                  <a:lnTo>
                    <a:pt x="39" y="277"/>
                  </a:lnTo>
                  <a:lnTo>
                    <a:pt x="35" y="277"/>
                  </a:lnTo>
                  <a:lnTo>
                    <a:pt x="35" y="302"/>
                  </a:lnTo>
                  <a:lnTo>
                    <a:pt x="30" y="302"/>
                  </a:lnTo>
                  <a:lnTo>
                    <a:pt x="30" y="313"/>
                  </a:lnTo>
                  <a:lnTo>
                    <a:pt x="26" y="313"/>
                  </a:lnTo>
                  <a:lnTo>
                    <a:pt x="26" y="331"/>
                  </a:lnTo>
                  <a:lnTo>
                    <a:pt x="20" y="331"/>
                  </a:lnTo>
                  <a:lnTo>
                    <a:pt x="20" y="343"/>
                  </a:lnTo>
                  <a:lnTo>
                    <a:pt x="16" y="343"/>
                  </a:lnTo>
                  <a:lnTo>
                    <a:pt x="16" y="354"/>
                  </a:lnTo>
                  <a:lnTo>
                    <a:pt x="0" y="354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17920" y="2547000"/>
              <a:ext cx="353160" cy="480960"/>
            </a:xfrm>
            <a:custGeom>
              <a:avLst/>
              <a:gdLst/>
              <a:ahLst/>
              <a:rect l="l" t="t" r="r" b="b"/>
              <a:pathLst>
                <a:path w="1358" h="2464">
                  <a:moveTo>
                    <a:pt x="0" y="378"/>
                  </a:moveTo>
                  <a:lnTo>
                    <a:pt x="4" y="378"/>
                  </a:lnTo>
                  <a:lnTo>
                    <a:pt x="4" y="359"/>
                  </a:lnTo>
                  <a:lnTo>
                    <a:pt x="10" y="359"/>
                  </a:lnTo>
                  <a:lnTo>
                    <a:pt x="10" y="349"/>
                  </a:lnTo>
                  <a:lnTo>
                    <a:pt x="14" y="349"/>
                  </a:lnTo>
                  <a:lnTo>
                    <a:pt x="14" y="342"/>
                  </a:lnTo>
                  <a:lnTo>
                    <a:pt x="19" y="342"/>
                  </a:lnTo>
                  <a:lnTo>
                    <a:pt x="19" y="331"/>
                  </a:lnTo>
                  <a:lnTo>
                    <a:pt x="24" y="331"/>
                  </a:lnTo>
                  <a:lnTo>
                    <a:pt x="24" y="318"/>
                  </a:lnTo>
                  <a:lnTo>
                    <a:pt x="29" y="318"/>
                  </a:lnTo>
                  <a:lnTo>
                    <a:pt x="29" y="307"/>
                  </a:lnTo>
                  <a:lnTo>
                    <a:pt x="33" y="307"/>
                  </a:lnTo>
                  <a:lnTo>
                    <a:pt x="33" y="301"/>
                  </a:lnTo>
                  <a:lnTo>
                    <a:pt x="38" y="301"/>
                  </a:lnTo>
                  <a:lnTo>
                    <a:pt x="38" y="296"/>
                  </a:lnTo>
                  <a:lnTo>
                    <a:pt x="43" y="296"/>
                  </a:lnTo>
                  <a:lnTo>
                    <a:pt x="43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7" y="283"/>
                  </a:lnTo>
                  <a:lnTo>
                    <a:pt x="57" y="272"/>
                  </a:lnTo>
                  <a:lnTo>
                    <a:pt x="62" y="272"/>
                  </a:lnTo>
                  <a:lnTo>
                    <a:pt x="62" y="266"/>
                  </a:lnTo>
                  <a:lnTo>
                    <a:pt x="77" y="266"/>
                  </a:lnTo>
                  <a:lnTo>
                    <a:pt x="77" y="260"/>
                  </a:lnTo>
                  <a:lnTo>
                    <a:pt x="81" y="260"/>
                  </a:lnTo>
                  <a:lnTo>
                    <a:pt x="81" y="255"/>
                  </a:lnTo>
                  <a:lnTo>
                    <a:pt x="87" y="255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1" y="242"/>
                  </a:lnTo>
                  <a:lnTo>
                    <a:pt x="100" y="242"/>
                  </a:lnTo>
                  <a:lnTo>
                    <a:pt x="100" y="237"/>
                  </a:lnTo>
                  <a:lnTo>
                    <a:pt x="110" y="237"/>
                  </a:lnTo>
                  <a:lnTo>
                    <a:pt x="110" y="231"/>
                  </a:lnTo>
                  <a:lnTo>
                    <a:pt x="115" y="231"/>
                  </a:lnTo>
                  <a:lnTo>
                    <a:pt x="115" y="225"/>
                  </a:lnTo>
                  <a:lnTo>
                    <a:pt x="124" y="225"/>
                  </a:lnTo>
                  <a:lnTo>
                    <a:pt x="124" y="218"/>
                  </a:lnTo>
                  <a:lnTo>
                    <a:pt x="134" y="218"/>
                  </a:lnTo>
                  <a:lnTo>
                    <a:pt x="134" y="213"/>
                  </a:lnTo>
                  <a:lnTo>
                    <a:pt x="144" y="213"/>
                  </a:lnTo>
                  <a:lnTo>
                    <a:pt x="144" y="207"/>
                  </a:lnTo>
                  <a:lnTo>
                    <a:pt x="149" y="207"/>
                  </a:lnTo>
                  <a:lnTo>
                    <a:pt x="149" y="201"/>
                  </a:lnTo>
                  <a:lnTo>
                    <a:pt x="159" y="201"/>
                  </a:lnTo>
                  <a:lnTo>
                    <a:pt x="159" y="195"/>
                  </a:lnTo>
                  <a:lnTo>
                    <a:pt x="163" y="195"/>
                  </a:lnTo>
                  <a:lnTo>
                    <a:pt x="163" y="190"/>
                  </a:lnTo>
                  <a:lnTo>
                    <a:pt x="168" y="190"/>
                  </a:lnTo>
                  <a:lnTo>
                    <a:pt x="168" y="183"/>
                  </a:lnTo>
                  <a:lnTo>
                    <a:pt x="182" y="183"/>
                  </a:lnTo>
                  <a:lnTo>
                    <a:pt x="182" y="177"/>
                  </a:lnTo>
                  <a:lnTo>
                    <a:pt x="192" y="177"/>
                  </a:lnTo>
                  <a:lnTo>
                    <a:pt x="192" y="172"/>
                  </a:lnTo>
                  <a:lnTo>
                    <a:pt x="217" y="172"/>
                  </a:lnTo>
                  <a:lnTo>
                    <a:pt x="217" y="165"/>
                  </a:lnTo>
                  <a:lnTo>
                    <a:pt x="226" y="165"/>
                  </a:lnTo>
                  <a:lnTo>
                    <a:pt x="226" y="160"/>
                  </a:lnTo>
                  <a:lnTo>
                    <a:pt x="240" y="160"/>
                  </a:lnTo>
                  <a:lnTo>
                    <a:pt x="240" y="153"/>
                  </a:lnTo>
                  <a:lnTo>
                    <a:pt x="250" y="153"/>
                  </a:lnTo>
                  <a:lnTo>
                    <a:pt x="250" y="147"/>
                  </a:lnTo>
                  <a:lnTo>
                    <a:pt x="273" y="147"/>
                  </a:lnTo>
                  <a:lnTo>
                    <a:pt x="273" y="142"/>
                  </a:lnTo>
                  <a:lnTo>
                    <a:pt x="283" y="142"/>
                  </a:lnTo>
                  <a:lnTo>
                    <a:pt x="283" y="136"/>
                  </a:lnTo>
                  <a:lnTo>
                    <a:pt x="298" y="136"/>
                  </a:lnTo>
                  <a:lnTo>
                    <a:pt x="298" y="131"/>
                  </a:lnTo>
                  <a:lnTo>
                    <a:pt x="317" y="131"/>
                  </a:lnTo>
                  <a:lnTo>
                    <a:pt x="317" y="124"/>
                  </a:lnTo>
                  <a:lnTo>
                    <a:pt x="326" y="124"/>
                  </a:lnTo>
                  <a:lnTo>
                    <a:pt x="326" y="119"/>
                  </a:lnTo>
                  <a:lnTo>
                    <a:pt x="340" y="119"/>
                  </a:lnTo>
                  <a:lnTo>
                    <a:pt x="340" y="112"/>
                  </a:lnTo>
                  <a:lnTo>
                    <a:pt x="379" y="112"/>
                  </a:lnTo>
                  <a:lnTo>
                    <a:pt x="379" y="106"/>
                  </a:lnTo>
                  <a:lnTo>
                    <a:pt x="403" y="106"/>
                  </a:lnTo>
                  <a:lnTo>
                    <a:pt x="403" y="100"/>
                  </a:lnTo>
                  <a:lnTo>
                    <a:pt x="432" y="100"/>
                  </a:lnTo>
                  <a:lnTo>
                    <a:pt x="432" y="95"/>
                  </a:lnTo>
                  <a:lnTo>
                    <a:pt x="447" y="95"/>
                  </a:lnTo>
                  <a:lnTo>
                    <a:pt x="447" y="89"/>
                  </a:lnTo>
                  <a:lnTo>
                    <a:pt x="465" y="89"/>
                  </a:lnTo>
                  <a:lnTo>
                    <a:pt x="465" y="82"/>
                  </a:lnTo>
                  <a:lnTo>
                    <a:pt x="484" y="82"/>
                  </a:lnTo>
                  <a:lnTo>
                    <a:pt x="484" y="77"/>
                  </a:lnTo>
                  <a:lnTo>
                    <a:pt x="505" y="77"/>
                  </a:lnTo>
                  <a:lnTo>
                    <a:pt x="505" y="71"/>
                  </a:lnTo>
                  <a:lnTo>
                    <a:pt x="528" y="71"/>
                  </a:lnTo>
                  <a:lnTo>
                    <a:pt x="528" y="65"/>
                  </a:lnTo>
                  <a:lnTo>
                    <a:pt x="552" y="65"/>
                  </a:lnTo>
                  <a:lnTo>
                    <a:pt x="552" y="59"/>
                  </a:lnTo>
                  <a:lnTo>
                    <a:pt x="561" y="59"/>
                  </a:lnTo>
                  <a:lnTo>
                    <a:pt x="561" y="54"/>
                  </a:lnTo>
                  <a:lnTo>
                    <a:pt x="600" y="54"/>
                  </a:lnTo>
                  <a:lnTo>
                    <a:pt x="600" y="46"/>
                  </a:lnTo>
                  <a:lnTo>
                    <a:pt x="638" y="46"/>
                  </a:lnTo>
                  <a:lnTo>
                    <a:pt x="638" y="41"/>
                  </a:lnTo>
                  <a:lnTo>
                    <a:pt x="663" y="41"/>
                  </a:lnTo>
                  <a:lnTo>
                    <a:pt x="663" y="36"/>
                  </a:lnTo>
                  <a:lnTo>
                    <a:pt x="710" y="36"/>
                  </a:lnTo>
                  <a:lnTo>
                    <a:pt x="710" y="30"/>
                  </a:lnTo>
                  <a:lnTo>
                    <a:pt x="730" y="30"/>
                  </a:lnTo>
                  <a:lnTo>
                    <a:pt x="730" y="24"/>
                  </a:lnTo>
                  <a:lnTo>
                    <a:pt x="739" y="24"/>
                  </a:lnTo>
                  <a:lnTo>
                    <a:pt x="739" y="17"/>
                  </a:lnTo>
                  <a:lnTo>
                    <a:pt x="749" y="17"/>
                  </a:lnTo>
                  <a:lnTo>
                    <a:pt x="749" y="12"/>
                  </a:lnTo>
                  <a:lnTo>
                    <a:pt x="793" y="12"/>
                  </a:lnTo>
                  <a:lnTo>
                    <a:pt x="793" y="5"/>
                  </a:lnTo>
                  <a:lnTo>
                    <a:pt x="807" y="5"/>
                  </a:lnTo>
                  <a:lnTo>
                    <a:pt x="807" y="12"/>
                  </a:lnTo>
                  <a:lnTo>
                    <a:pt x="816" y="12"/>
                  </a:lnTo>
                  <a:lnTo>
                    <a:pt x="816" y="5"/>
                  </a:lnTo>
                  <a:lnTo>
                    <a:pt x="835" y="5"/>
                  </a:lnTo>
                  <a:lnTo>
                    <a:pt x="835" y="0"/>
                  </a:lnTo>
                  <a:lnTo>
                    <a:pt x="865" y="0"/>
                  </a:lnTo>
                  <a:lnTo>
                    <a:pt x="865" y="5"/>
                  </a:lnTo>
                  <a:lnTo>
                    <a:pt x="869" y="5"/>
                  </a:lnTo>
                  <a:lnTo>
                    <a:pt x="869" y="12"/>
                  </a:lnTo>
                  <a:lnTo>
                    <a:pt x="875" y="12"/>
                  </a:lnTo>
                  <a:lnTo>
                    <a:pt x="875" y="17"/>
                  </a:lnTo>
                  <a:lnTo>
                    <a:pt x="879" y="17"/>
                  </a:lnTo>
                  <a:lnTo>
                    <a:pt x="879" y="30"/>
                  </a:lnTo>
                  <a:lnTo>
                    <a:pt x="875" y="30"/>
                  </a:lnTo>
                  <a:lnTo>
                    <a:pt x="875" y="54"/>
                  </a:lnTo>
                  <a:lnTo>
                    <a:pt x="865" y="54"/>
                  </a:lnTo>
                  <a:lnTo>
                    <a:pt x="865" y="59"/>
                  </a:lnTo>
                  <a:lnTo>
                    <a:pt x="835" y="59"/>
                  </a:lnTo>
                  <a:lnTo>
                    <a:pt x="835" y="65"/>
                  </a:lnTo>
                  <a:lnTo>
                    <a:pt x="812" y="65"/>
                  </a:lnTo>
                  <a:lnTo>
                    <a:pt x="812" y="71"/>
                  </a:lnTo>
                  <a:lnTo>
                    <a:pt x="782" y="71"/>
                  </a:lnTo>
                  <a:lnTo>
                    <a:pt x="782" y="77"/>
                  </a:lnTo>
                  <a:lnTo>
                    <a:pt x="745" y="77"/>
                  </a:lnTo>
                  <a:lnTo>
                    <a:pt x="745" y="82"/>
                  </a:lnTo>
                  <a:lnTo>
                    <a:pt x="735" y="82"/>
                  </a:lnTo>
                  <a:lnTo>
                    <a:pt x="735" y="89"/>
                  </a:lnTo>
                  <a:lnTo>
                    <a:pt x="715" y="89"/>
                  </a:lnTo>
                  <a:lnTo>
                    <a:pt x="715" y="95"/>
                  </a:lnTo>
                  <a:lnTo>
                    <a:pt x="696" y="95"/>
                  </a:lnTo>
                  <a:lnTo>
                    <a:pt x="696" y="100"/>
                  </a:lnTo>
                  <a:lnTo>
                    <a:pt x="624" y="100"/>
                  </a:lnTo>
                  <a:lnTo>
                    <a:pt x="624" y="106"/>
                  </a:lnTo>
                  <a:lnTo>
                    <a:pt x="591" y="106"/>
                  </a:lnTo>
                  <a:lnTo>
                    <a:pt x="591" y="112"/>
                  </a:lnTo>
                  <a:lnTo>
                    <a:pt x="566" y="112"/>
                  </a:lnTo>
                  <a:lnTo>
                    <a:pt x="566" y="119"/>
                  </a:lnTo>
                  <a:lnTo>
                    <a:pt x="547" y="119"/>
                  </a:lnTo>
                  <a:lnTo>
                    <a:pt x="547" y="124"/>
                  </a:lnTo>
                  <a:lnTo>
                    <a:pt x="542" y="124"/>
                  </a:lnTo>
                  <a:lnTo>
                    <a:pt x="542" y="131"/>
                  </a:lnTo>
                  <a:lnTo>
                    <a:pt x="514" y="131"/>
                  </a:lnTo>
                  <a:lnTo>
                    <a:pt x="514" y="136"/>
                  </a:lnTo>
                  <a:lnTo>
                    <a:pt x="484" y="136"/>
                  </a:lnTo>
                  <a:lnTo>
                    <a:pt x="484" y="142"/>
                  </a:lnTo>
                  <a:lnTo>
                    <a:pt x="465" y="142"/>
                  </a:lnTo>
                  <a:lnTo>
                    <a:pt x="465" y="147"/>
                  </a:lnTo>
                  <a:lnTo>
                    <a:pt x="457" y="147"/>
                  </a:lnTo>
                  <a:lnTo>
                    <a:pt x="457" y="153"/>
                  </a:lnTo>
                  <a:lnTo>
                    <a:pt x="437" y="153"/>
                  </a:lnTo>
                  <a:lnTo>
                    <a:pt x="437" y="160"/>
                  </a:lnTo>
                  <a:lnTo>
                    <a:pt x="394" y="160"/>
                  </a:lnTo>
                  <a:lnTo>
                    <a:pt x="394" y="165"/>
                  </a:lnTo>
                  <a:lnTo>
                    <a:pt x="375" y="165"/>
                  </a:lnTo>
                  <a:lnTo>
                    <a:pt x="375" y="172"/>
                  </a:lnTo>
                  <a:lnTo>
                    <a:pt x="361" y="172"/>
                  </a:lnTo>
                  <a:lnTo>
                    <a:pt x="361" y="177"/>
                  </a:lnTo>
                  <a:lnTo>
                    <a:pt x="331" y="177"/>
                  </a:lnTo>
                  <a:lnTo>
                    <a:pt x="331" y="183"/>
                  </a:lnTo>
                  <a:lnTo>
                    <a:pt x="317" y="183"/>
                  </a:lnTo>
                  <a:lnTo>
                    <a:pt x="317" y="190"/>
                  </a:lnTo>
                  <a:lnTo>
                    <a:pt x="302" y="190"/>
                  </a:lnTo>
                  <a:lnTo>
                    <a:pt x="302" y="195"/>
                  </a:lnTo>
                  <a:lnTo>
                    <a:pt x="288" y="195"/>
                  </a:lnTo>
                  <a:lnTo>
                    <a:pt x="288" y="201"/>
                  </a:lnTo>
                  <a:lnTo>
                    <a:pt x="273" y="201"/>
                  </a:lnTo>
                  <a:lnTo>
                    <a:pt x="273" y="207"/>
                  </a:lnTo>
                  <a:lnTo>
                    <a:pt x="258" y="207"/>
                  </a:lnTo>
                  <a:lnTo>
                    <a:pt x="258" y="213"/>
                  </a:lnTo>
                  <a:lnTo>
                    <a:pt x="250" y="213"/>
                  </a:lnTo>
                  <a:lnTo>
                    <a:pt x="250" y="218"/>
                  </a:lnTo>
                  <a:lnTo>
                    <a:pt x="235" y="218"/>
                  </a:lnTo>
                  <a:lnTo>
                    <a:pt x="235" y="225"/>
                  </a:lnTo>
                  <a:lnTo>
                    <a:pt x="226" y="225"/>
                  </a:lnTo>
                  <a:lnTo>
                    <a:pt x="226" y="231"/>
                  </a:lnTo>
                  <a:lnTo>
                    <a:pt x="210" y="231"/>
                  </a:lnTo>
                  <a:lnTo>
                    <a:pt x="210" y="237"/>
                  </a:lnTo>
                  <a:lnTo>
                    <a:pt x="201" y="237"/>
                  </a:lnTo>
                  <a:lnTo>
                    <a:pt x="201" y="242"/>
                  </a:lnTo>
                  <a:lnTo>
                    <a:pt x="192" y="242"/>
                  </a:lnTo>
                  <a:lnTo>
                    <a:pt x="192" y="248"/>
                  </a:lnTo>
                  <a:lnTo>
                    <a:pt x="182" y="248"/>
                  </a:lnTo>
                  <a:lnTo>
                    <a:pt x="182" y="255"/>
                  </a:lnTo>
                  <a:lnTo>
                    <a:pt x="177" y="255"/>
                  </a:lnTo>
                  <a:lnTo>
                    <a:pt x="177" y="260"/>
                  </a:lnTo>
                  <a:lnTo>
                    <a:pt x="173" y="260"/>
                  </a:lnTo>
                  <a:lnTo>
                    <a:pt x="173" y="266"/>
                  </a:lnTo>
                  <a:lnTo>
                    <a:pt x="159" y="266"/>
                  </a:lnTo>
                  <a:lnTo>
                    <a:pt x="159" y="272"/>
                  </a:lnTo>
                  <a:lnTo>
                    <a:pt x="154" y="272"/>
                  </a:lnTo>
                  <a:lnTo>
                    <a:pt x="154" y="277"/>
                  </a:lnTo>
                  <a:lnTo>
                    <a:pt x="149" y="277"/>
                  </a:lnTo>
                  <a:lnTo>
                    <a:pt x="149" y="283"/>
                  </a:lnTo>
                  <a:lnTo>
                    <a:pt x="134" y="283"/>
                  </a:lnTo>
                  <a:lnTo>
                    <a:pt x="134" y="289"/>
                  </a:lnTo>
                  <a:lnTo>
                    <a:pt x="124" y="289"/>
                  </a:lnTo>
                  <a:lnTo>
                    <a:pt x="124" y="296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10" y="301"/>
                  </a:lnTo>
                  <a:lnTo>
                    <a:pt x="110" y="307"/>
                  </a:lnTo>
                  <a:lnTo>
                    <a:pt x="106" y="307"/>
                  </a:lnTo>
                  <a:lnTo>
                    <a:pt x="106" y="313"/>
                  </a:lnTo>
                  <a:lnTo>
                    <a:pt x="100" y="313"/>
                  </a:lnTo>
                  <a:lnTo>
                    <a:pt x="100" y="318"/>
                  </a:lnTo>
                  <a:lnTo>
                    <a:pt x="96" y="318"/>
                  </a:lnTo>
                  <a:lnTo>
                    <a:pt x="96" y="326"/>
                  </a:lnTo>
                  <a:lnTo>
                    <a:pt x="91" y="326"/>
                  </a:lnTo>
                  <a:lnTo>
                    <a:pt x="91" y="331"/>
                  </a:lnTo>
                  <a:lnTo>
                    <a:pt x="87" y="331"/>
                  </a:lnTo>
                  <a:lnTo>
                    <a:pt x="87" y="337"/>
                  </a:lnTo>
                  <a:lnTo>
                    <a:pt x="81" y="337"/>
                  </a:lnTo>
                  <a:lnTo>
                    <a:pt x="81" y="349"/>
                  </a:lnTo>
                  <a:lnTo>
                    <a:pt x="77" y="349"/>
                  </a:lnTo>
                  <a:lnTo>
                    <a:pt x="77" y="378"/>
                  </a:lnTo>
                  <a:lnTo>
                    <a:pt x="73" y="378"/>
                  </a:lnTo>
                  <a:lnTo>
                    <a:pt x="73" y="391"/>
                  </a:lnTo>
                  <a:lnTo>
                    <a:pt x="66" y="391"/>
                  </a:lnTo>
                  <a:lnTo>
                    <a:pt x="66" y="408"/>
                  </a:lnTo>
                  <a:lnTo>
                    <a:pt x="62" y="408"/>
                  </a:lnTo>
                  <a:lnTo>
                    <a:pt x="62" y="443"/>
                  </a:lnTo>
                  <a:lnTo>
                    <a:pt x="66" y="443"/>
                  </a:lnTo>
                  <a:lnTo>
                    <a:pt x="66" y="503"/>
                  </a:lnTo>
                  <a:lnTo>
                    <a:pt x="73" y="503"/>
                  </a:lnTo>
                  <a:lnTo>
                    <a:pt x="73" y="538"/>
                  </a:lnTo>
                  <a:lnTo>
                    <a:pt x="77" y="538"/>
                  </a:lnTo>
                  <a:lnTo>
                    <a:pt x="77" y="585"/>
                  </a:lnTo>
                  <a:lnTo>
                    <a:pt x="81" y="585"/>
                  </a:lnTo>
                  <a:lnTo>
                    <a:pt x="81" y="626"/>
                  </a:lnTo>
                  <a:lnTo>
                    <a:pt x="87" y="626"/>
                  </a:lnTo>
                  <a:lnTo>
                    <a:pt x="87" y="656"/>
                  </a:lnTo>
                  <a:lnTo>
                    <a:pt x="91" y="656"/>
                  </a:lnTo>
                  <a:lnTo>
                    <a:pt x="91" y="704"/>
                  </a:lnTo>
                  <a:lnTo>
                    <a:pt x="96" y="704"/>
                  </a:lnTo>
                  <a:lnTo>
                    <a:pt x="96" y="739"/>
                  </a:lnTo>
                  <a:lnTo>
                    <a:pt x="100" y="739"/>
                  </a:lnTo>
                  <a:lnTo>
                    <a:pt x="100" y="804"/>
                  </a:lnTo>
                  <a:lnTo>
                    <a:pt x="106" y="804"/>
                  </a:lnTo>
                  <a:lnTo>
                    <a:pt x="106" y="832"/>
                  </a:lnTo>
                  <a:lnTo>
                    <a:pt x="110" y="832"/>
                  </a:lnTo>
                  <a:lnTo>
                    <a:pt x="110" y="881"/>
                  </a:lnTo>
                  <a:lnTo>
                    <a:pt x="115" y="881"/>
                  </a:lnTo>
                  <a:lnTo>
                    <a:pt x="115" y="910"/>
                  </a:lnTo>
                  <a:lnTo>
                    <a:pt x="120" y="910"/>
                  </a:lnTo>
                  <a:lnTo>
                    <a:pt x="120" y="958"/>
                  </a:lnTo>
                  <a:lnTo>
                    <a:pt x="124" y="958"/>
                  </a:lnTo>
                  <a:lnTo>
                    <a:pt x="124" y="981"/>
                  </a:lnTo>
                  <a:lnTo>
                    <a:pt x="129" y="981"/>
                  </a:lnTo>
                  <a:lnTo>
                    <a:pt x="129" y="1011"/>
                  </a:lnTo>
                  <a:lnTo>
                    <a:pt x="134" y="1011"/>
                  </a:lnTo>
                  <a:lnTo>
                    <a:pt x="134" y="1034"/>
                  </a:lnTo>
                  <a:lnTo>
                    <a:pt x="139" y="1034"/>
                  </a:lnTo>
                  <a:lnTo>
                    <a:pt x="139" y="1069"/>
                  </a:lnTo>
                  <a:lnTo>
                    <a:pt x="144" y="1069"/>
                  </a:lnTo>
                  <a:lnTo>
                    <a:pt x="144" y="1099"/>
                  </a:lnTo>
                  <a:lnTo>
                    <a:pt x="149" y="1099"/>
                  </a:lnTo>
                  <a:lnTo>
                    <a:pt x="149" y="1123"/>
                  </a:lnTo>
                  <a:lnTo>
                    <a:pt x="154" y="1123"/>
                  </a:lnTo>
                  <a:lnTo>
                    <a:pt x="154" y="1136"/>
                  </a:lnTo>
                  <a:lnTo>
                    <a:pt x="159" y="1136"/>
                  </a:lnTo>
                  <a:lnTo>
                    <a:pt x="159" y="1169"/>
                  </a:lnTo>
                  <a:lnTo>
                    <a:pt x="163" y="1169"/>
                  </a:lnTo>
                  <a:lnTo>
                    <a:pt x="163" y="1188"/>
                  </a:lnTo>
                  <a:lnTo>
                    <a:pt x="168" y="1188"/>
                  </a:lnTo>
                  <a:lnTo>
                    <a:pt x="168" y="1218"/>
                  </a:lnTo>
                  <a:lnTo>
                    <a:pt x="173" y="1218"/>
                  </a:lnTo>
                  <a:lnTo>
                    <a:pt x="173" y="1242"/>
                  </a:lnTo>
                  <a:lnTo>
                    <a:pt x="177" y="1242"/>
                  </a:lnTo>
                  <a:lnTo>
                    <a:pt x="177" y="1253"/>
                  </a:lnTo>
                  <a:lnTo>
                    <a:pt x="182" y="1253"/>
                  </a:lnTo>
                  <a:lnTo>
                    <a:pt x="182" y="1283"/>
                  </a:lnTo>
                  <a:lnTo>
                    <a:pt x="187" y="1283"/>
                  </a:lnTo>
                  <a:lnTo>
                    <a:pt x="187" y="1288"/>
                  </a:lnTo>
                  <a:lnTo>
                    <a:pt x="192" y="1288"/>
                  </a:lnTo>
                  <a:lnTo>
                    <a:pt x="192" y="1313"/>
                  </a:lnTo>
                  <a:lnTo>
                    <a:pt x="196" y="1313"/>
                  </a:lnTo>
                  <a:lnTo>
                    <a:pt x="196" y="1330"/>
                  </a:lnTo>
                  <a:lnTo>
                    <a:pt x="201" y="1330"/>
                  </a:lnTo>
                  <a:lnTo>
                    <a:pt x="201" y="1341"/>
                  </a:lnTo>
                  <a:lnTo>
                    <a:pt x="206" y="1341"/>
                  </a:lnTo>
                  <a:lnTo>
                    <a:pt x="206" y="1365"/>
                  </a:lnTo>
                  <a:lnTo>
                    <a:pt x="210" y="1365"/>
                  </a:lnTo>
                  <a:lnTo>
                    <a:pt x="210" y="1383"/>
                  </a:lnTo>
                  <a:lnTo>
                    <a:pt x="217" y="1383"/>
                  </a:lnTo>
                  <a:lnTo>
                    <a:pt x="217" y="1395"/>
                  </a:lnTo>
                  <a:lnTo>
                    <a:pt x="221" y="1395"/>
                  </a:lnTo>
                  <a:lnTo>
                    <a:pt x="221" y="1406"/>
                  </a:lnTo>
                  <a:lnTo>
                    <a:pt x="226" y="1406"/>
                  </a:lnTo>
                  <a:lnTo>
                    <a:pt x="226" y="1419"/>
                  </a:lnTo>
                  <a:lnTo>
                    <a:pt x="231" y="1419"/>
                  </a:lnTo>
                  <a:lnTo>
                    <a:pt x="231" y="1431"/>
                  </a:lnTo>
                  <a:lnTo>
                    <a:pt x="235" y="1431"/>
                  </a:lnTo>
                  <a:lnTo>
                    <a:pt x="235" y="1436"/>
                  </a:lnTo>
                  <a:lnTo>
                    <a:pt x="240" y="1436"/>
                  </a:lnTo>
                  <a:lnTo>
                    <a:pt x="240" y="1449"/>
                  </a:lnTo>
                  <a:lnTo>
                    <a:pt x="244" y="1449"/>
                  </a:lnTo>
                  <a:lnTo>
                    <a:pt x="244" y="1454"/>
                  </a:lnTo>
                  <a:lnTo>
                    <a:pt x="250" y="1454"/>
                  </a:lnTo>
                  <a:lnTo>
                    <a:pt x="250" y="1465"/>
                  </a:lnTo>
                  <a:lnTo>
                    <a:pt x="254" y="1465"/>
                  </a:lnTo>
                  <a:lnTo>
                    <a:pt x="254" y="1477"/>
                  </a:lnTo>
                  <a:lnTo>
                    <a:pt x="258" y="1477"/>
                  </a:lnTo>
                  <a:lnTo>
                    <a:pt x="258" y="1490"/>
                  </a:lnTo>
                  <a:lnTo>
                    <a:pt x="264" y="1490"/>
                  </a:lnTo>
                  <a:lnTo>
                    <a:pt x="264" y="1501"/>
                  </a:lnTo>
                  <a:lnTo>
                    <a:pt x="268" y="1501"/>
                  </a:lnTo>
                  <a:lnTo>
                    <a:pt x="268" y="1507"/>
                  </a:lnTo>
                  <a:lnTo>
                    <a:pt x="273" y="1507"/>
                  </a:lnTo>
                  <a:lnTo>
                    <a:pt x="273" y="1514"/>
                  </a:lnTo>
                  <a:lnTo>
                    <a:pt x="278" y="1514"/>
                  </a:lnTo>
                  <a:lnTo>
                    <a:pt x="278" y="1525"/>
                  </a:lnTo>
                  <a:lnTo>
                    <a:pt x="283" y="1525"/>
                  </a:lnTo>
                  <a:lnTo>
                    <a:pt x="283" y="1536"/>
                  </a:lnTo>
                  <a:lnTo>
                    <a:pt x="288" y="1536"/>
                  </a:lnTo>
                  <a:lnTo>
                    <a:pt x="288" y="1542"/>
                  </a:lnTo>
                  <a:lnTo>
                    <a:pt x="293" y="1542"/>
                  </a:lnTo>
                  <a:lnTo>
                    <a:pt x="293" y="1555"/>
                  </a:lnTo>
                  <a:lnTo>
                    <a:pt x="298" y="1555"/>
                  </a:lnTo>
                  <a:lnTo>
                    <a:pt x="298" y="1566"/>
                  </a:lnTo>
                  <a:lnTo>
                    <a:pt x="302" y="1566"/>
                  </a:lnTo>
                  <a:lnTo>
                    <a:pt x="302" y="1572"/>
                  </a:lnTo>
                  <a:lnTo>
                    <a:pt x="307" y="1572"/>
                  </a:lnTo>
                  <a:lnTo>
                    <a:pt x="307" y="1583"/>
                  </a:lnTo>
                  <a:lnTo>
                    <a:pt x="312" y="1583"/>
                  </a:lnTo>
                  <a:lnTo>
                    <a:pt x="312" y="1590"/>
                  </a:lnTo>
                  <a:lnTo>
                    <a:pt x="317" y="1590"/>
                  </a:lnTo>
                  <a:lnTo>
                    <a:pt x="317" y="1596"/>
                  </a:lnTo>
                  <a:lnTo>
                    <a:pt x="321" y="1596"/>
                  </a:lnTo>
                  <a:lnTo>
                    <a:pt x="321" y="1608"/>
                  </a:lnTo>
                  <a:lnTo>
                    <a:pt x="326" y="1608"/>
                  </a:lnTo>
                  <a:lnTo>
                    <a:pt x="326" y="1618"/>
                  </a:lnTo>
                  <a:lnTo>
                    <a:pt x="331" y="1618"/>
                  </a:lnTo>
                  <a:lnTo>
                    <a:pt x="331" y="1631"/>
                  </a:lnTo>
                  <a:lnTo>
                    <a:pt x="335" y="1631"/>
                  </a:lnTo>
                  <a:lnTo>
                    <a:pt x="335" y="1642"/>
                  </a:lnTo>
                  <a:lnTo>
                    <a:pt x="340" y="1642"/>
                  </a:lnTo>
                  <a:lnTo>
                    <a:pt x="340" y="1650"/>
                  </a:lnTo>
                  <a:lnTo>
                    <a:pt x="345" y="1650"/>
                  </a:lnTo>
                  <a:lnTo>
                    <a:pt x="345" y="1655"/>
                  </a:lnTo>
                  <a:lnTo>
                    <a:pt x="350" y="1655"/>
                  </a:lnTo>
                  <a:lnTo>
                    <a:pt x="350" y="1667"/>
                  </a:lnTo>
                  <a:lnTo>
                    <a:pt x="354" y="1667"/>
                  </a:lnTo>
                  <a:lnTo>
                    <a:pt x="354" y="1678"/>
                  </a:lnTo>
                  <a:lnTo>
                    <a:pt x="361" y="1678"/>
                  </a:lnTo>
                  <a:lnTo>
                    <a:pt x="361" y="1685"/>
                  </a:lnTo>
                  <a:lnTo>
                    <a:pt x="365" y="1685"/>
                  </a:lnTo>
                  <a:lnTo>
                    <a:pt x="365" y="1691"/>
                  </a:lnTo>
                  <a:lnTo>
                    <a:pt x="370" y="1691"/>
                  </a:lnTo>
                  <a:lnTo>
                    <a:pt x="370" y="1696"/>
                  </a:lnTo>
                  <a:lnTo>
                    <a:pt x="375" y="1696"/>
                  </a:lnTo>
                  <a:lnTo>
                    <a:pt x="375" y="1708"/>
                  </a:lnTo>
                  <a:lnTo>
                    <a:pt x="379" y="1708"/>
                  </a:lnTo>
                  <a:lnTo>
                    <a:pt x="379" y="1720"/>
                  </a:lnTo>
                  <a:lnTo>
                    <a:pt x="384" y="1720"/>
                  </a:lnTo>
                  <a:lnTo>
                    <a:pt x="384" y="1726"/>
                  </a:lnTo>
                  <a:lnTo>
                    <a:pt x="388" y="1726"/>
                  </a:lnTo>
                  <a:lnTo>
                    <a:pt x="388" y="1732"/>
                  </a:lnTo>
                  <a:lnTo>
                    <a:pt x="394" y="1732"/>
                  </a:lnTo>
                  <a:lnTo>
                    <a:pt x="394" y="1743"/>
                  </a:lnTo>
                  <a:lnTo>
                    <a:pt x="398" y="1743"/>
                  </a:lnTo>
                  <a:lnTo>
                    <a:pt x="398" y="1749"/>
                  </a:lnTo>
                  <a:lnTo>
                    <a:pt x="403" y="1749"/>
                  </a:lnTo>
                  <a:lnTo>
                    <a:pt x="403" y="1756"/>
                  </a:lnTo>
                  <a:lnTo>
                    <a:pt x="408" y="1756"/>
                  </a:lnTo>
                  <a:lnTo>
                    <a:pt x="408" y="1767"/>
                  </a:lnTo>
                  <a:lnTo>
                    <a:pt x="413" y="1767"/>
                  </a:lnTo>
                  <a:lnTo>
                    <a:pt x="413" y="1773"/>
                  </a:lnTo>
                  <a:lnTo>
                    <a:pt x="417" y="1773"/>
                  </a:lnTo>
                  <a:lnTo>
                    <a:pt x="417" y="1778"/>
                  </a:lnTo>
                  <a:lnTo>
                    <a:pt x="422" y="1778"/>
                  </a:lnTo>
                  <a:lnTo>
                    <a:pt x="422" y="1791"/>
                  </a:lnTo>
                  <a:lnTo>
                    <a:pt x="427" y="1791"/>
                  </a:lnTo>
                  <a:lnTo>
                    <a:pt x="427" y="1797"/>
                  </a:lnTo>
                  <a:lnTo>
                    <a:pt x="432" y="1797"/>
                  </a:lnTo>
                  <a:lnTo>
                    <a:pt x="432" y="1809"/>
                  </a:lnTo>
                  <a:lnTo>
                    <a:pt x="437" y="1809"/>
                  </a:lnTo>
                  <a:lnTo>
                    <a:pt x="437" y="1819"/>
                  </a:lnTo>
                  <a:lnTo>
                    <a:pt x="442" y="1819"/>
                  </a:lnTo>
                  <a:lnTo>
                    <a:pt x="442" y="1832"/>
                  </a:lnTo>
                  <a:lnTo>
                    <a:pt x="447" y="1832"/>
                  </a:lnTo>
                  <a:lnTo>
                    <a:pt x="447" y="1844"/>
                  </a:lnTo>
                  <a:lnTo>
                    <a:pt x="451" y="1844"/>
                  </a:lnTo>
                  <a:lnTo>
                    <a:pt x="451" y="1851"/>
                  </a:lnTo>
                  <a:lnTo>
                    <a:pt x="457" y="1851"/>
                  </a:lnTo>
                  <a:lnTo>
                    <a:pt x="457" y="1862"/>
                  </a:lnTo>
                  <a:lnTo>
                    <a:pt x="461" y="1862"/>
                  </a:lnTo>
                  <a:lnTo>
                    <a:pt x="461" y="1868"/>
                  </a:lnTo>
                  <a:lnTo>
                    <a:pt x="465" y="1868"/>
                  </a:lnTo>
                  <a:lnTo>
                    <a:pt x="465" y="1879"/>
                  </a:lnTo>
                  <a:lnTo>
                    <a:pt x="471" y="1879"/>
                  </a:lnTo>
                  <a:lnTo>
                    <a:pt x="471" y="1885"/>
                  </a:lnTo>
                  <a:lnTo>
                    <a:pt x="475" y="1885"/>
                  </a:lnTo>
                  <a:lnTo>
                    <a:pt x="475" y="1892"/>
                  </a:lnTo>
                  <a:lnTo>
                    <a:pt x="480" y="1892"/>
                  </a:lnTo>
                  <a:lnTo>
                    <a:pt x="480" y="1897"/>
                  </a:lnTo>
                  <a:lnTo>
                    <a:pt x="484" y="1897"/>
                  </a:lnTo>
                  <a:lnTo>
                    <a:pt x="484" y="1909"/>
                  </a:lnTo>
                  <a:lnTo>
                    <a:pt x="490" y="1909"/>
                  </a:lnTo>
                  <a:lnTo>
                    <a:pt x="490" y="1915"/>
                  </a:lnTo>
                  <a:lnTo>
                    <a:pt x="494" y="1915"/>
                  </a:lnTo>
                  <a:lnTo>
                    <a:pt x="494" y="1922"/>
                  </a:lnTo>
                  <a:lnTo>
                    <a:pt x="499" y="1922"/>
                  </a:lnTo>
                  <a:lnTo>
                    <a:pt x="499" y="1933"/>
                  </a:lnTo>
                  <a:lnTo>
                    <a:pt x="505" y="1933"/>
                  </a:lnTo>
                  <a:lnTo>
                    <a:pt x="505" y="1938"/>
                  </a:lnTo>
                  <a:lnTo>
                    <a:pt x="509" y="1938"/>
                  </a:lnTo>
                  <a:lnTo>
                    <a:pt x="509" y="1950"/>
                  </a:lnTo>
                  <a:lnTo>
                    <a:pt x="514" y="1950"/>
                  </a:lnTo>
                  <a:lnTo>
                    <a:pt x="514" y="1955"/>
                  </a:lnTo>
                  <a:lnTo>
                    <a:pt x="519" y="1955"/>
                  </a:lnTo>
                  <a:lnTo>
                    <a:pt x="519" y="1968"/>
                  </a:lnTo>
                  <a:lnTo>
                    <a:pt x="524" y="1968"/>
                  </a:lnTo>
                  <a:lnTo>
                    <a:pt x="524" y="1980"/>
                  </a:lnTo>
                  <a:lnTo>
                    <a:pt x="528" y="1980"/>
                  </a:lnTo>
                  <a:lnTo>
                    <a:pt x="528" y="1985"/>
                  </a:lnTo>
                  <a:lnTo>
                    <a:pt x="533" y="1985"/>
                  </a:lnTo>
                  <a:lnTo>
                    <a:pt x="533" y="1992"/>
                  </a:lnTo>
                  <a:lnTo>
                    <a:pt x="538" y="1992"/>
                  </a:lnTo>
                  <a:lnTo>
                    <a:pt x="538" y="2004"/>
                  </a:lnTo>
                  <a:lnTo>
                    <a:pt x="542" y="2004"/>
                  </a:lnTo>
                  <a:lnTo>
                    <a:pt x="542" y="2009"/>
                  </a:lnTo>
                  <a:lnTo>
                    <a:pt x="547" y="2009"/>
                  </a:lnTo>
                  <a:lnTo>
                    <a:pt x="547" y="2015"/>
                  </a:lnTo>
                  <a:lnTo>
                    <a:pt x="552" y="2015"/>
                  </a:lnTo>
                  <a:lnTo>
                    <a:pt x="552" y="2028"/>
                  </a:lnTo>
                  <a:lnTo>
                    <a:pt x="557" y="2028"/>
                  </a:lnTo>
                  <a:lnTo>
                    <a:pt x="557" y="2033"/>
                  </a:lnTo>
                  <a:lnTo>
                    <a:pt x="561" y="2033"/>
                  </a:lnTo>
                  <a:lnTo>
                    <a:pt x="561" y="2045"/>
                  </a:lnTo>
                  <a:lnTo>
                    <a:pt x="566" y="2045"/>
                  </a:lnTo>
                  <a:lnTo>
                    <a:pt x="566" y="2050"/>
                  </a:lnTo>
                  <a:lnTo>
                    <a:pt x="571" y="2050"/>
                  </a:lnTo>
                  <a:lnTo>
                    <a:pt x="571" y="2056"/>
                  </a:lnTo>
                  <a:lnTo>
                    <a:pt x="577" y="2056"/>
                  </a:lnTo>
                  <a:lnTo>
                    <a:pt x="577" y="2063"/>
                  </a:lnTo>
                  <a:lnTo>
                    <a:pt x="581" y="2063"/>
                  </a:lnTo>
                  <a:lnTo>
                    <a:pt x="581" y="2074"/>
                  </a:lnTo>
                  <a:lnTo>
                    <a:pt x="586" y="2074"/>
                  </a:lnTo>
                  <a:lnTo>
                    <a:pt x="586" y="2080"/>
                  </a:lnTo>
                  <a:lnTo>
                    <a:pt x="591" y="2080"/>
                  </a:lnTo>
                  <a:lnTo>
                    <a:pt x="591" y="2086"/>
                  </a:lnTo>
                  <a:lnTo>
                    <a:pt x="595" y="2086"/>
                  </a:lnTo>
                  <a:lnTo>
                    <a:pt x="595" y="2099"/>
                  </a:lnTo>
                  <a:lnTo>
                    <a:pt x="600" y="2099"/>
                  </a:lnTo>
                  <a:lnTo>
                    <a:pt x="600" y="2104"/>
                  </a:lnTo>
                  <a:lnTo>
                    <a:pt x="605" y="2104"/>
                  </a:lnTo>
                  <a:lnTo>
                    <a:pt x="605" y="2110"/>
                  </a:lnTo>
                  <a:lnTo>
                    <a:pt x="609" y="2110"/>
                  </a:lnTo>
                  <a:lnTo>
                    <a:pt x="609" y="2123"/>
                  </a:lnTo>
                  <a:lnTo>
                    <a:pt x="615" y="2123"/>
                  </a:lnTo>
                  <a:lnTo>
                    <a:pt x="615" y="2128"/>
                  </a:lnTo>
                  <a:lnTo>
                    <a:pt x="619" y="2128"/>
                  </a:lnTo>
                  <a:lnTo>
                    <a:pt x="619" y="2140"/>
                  </a:lnTo>
                  <a:lnTo>
                    <a:pt x="624" y="2140"/>
                  </a:lnTo>
                  <a:lnTo>
                    <a:pt x="624" y="2145"/>
                  </a:lnTo>
                  <a:lnTo>
                    <a:pt x="628" y="2145"/>
                  </a:lnTo>
                  <a:lnTo>
                    <a:pt x="628" y="2151"/>
                  </a:lnTo>
                  <a:lnTo>
                    <a:pt x="633" y="2151"/>
                  </a:lnTo>
                  <a:lnTo>
                    <a:pt x="633" y="2158"/>
                  </a:lnTo>
                  <a:lnTo>
                    <a:pt x="638" y="2158"/>
                  </a:lnTo>
                  <a:lnTo>
                    <a:pt x="638" y="2169"/>
                  </a:lnTo>
                  <a:lnTo>
                    <a:pt x="642" y="2169"/>
                  </a:lnTo>
                  <a:lnTo>
                    <a:pt x="642" y="2175"/>
                  </a:lnTo>
                  <a:lnTo>
                    <a:pt x="649" y="2175"/>
                  </a:lnTo>
                  <a:lnTo>
                    <a:pt x="649" y="2181"/>
                  </a:lnTo>
                  <a:lnTo>
                    <a:pt x="653" y="2181"/>
                  </a:lnTo>
                  <a:lnTo>
                    <a:pt x="653" y="2186"/>
                  </a:lnTo>
                  <a:lnTo>
                    <a:pt x="658" y="2186"/>
                  </a:lnTo>
                  <a:lnTo>
                    <a:pt x="658" y="2199"/>
                  </a:lnTo>
                  <a:lnTo>
                    <a:pt x="663" y="2199"/>
                  </a:lnTo>
                  <a:lnTo>
                    <a:pt x="663" y="2205"/>
                  </a:lnTo>
                  <a:lnTo>
                    <a:pt x="668" y="2205"/>
                  </a:lnTo>
                  <a:lnTo>
                    <a:pt x="668" y="2210"/>
                  </a:lnTo>
                  <a:lnTo>
                    <a:pt x="672" y="2210"/>
                  </a:lnTo>
                  <a:lnTo>
                    <a:pt x="672" y="2216"/>
                  </a:lnTo>
                  <a:lnTo>
                    <a:pt x="677" y="2216"/>
                  </a:lnTo>
                  <a:lnTo>
                    <a:pt x="677" y="2222"/>
                  </a:lnTo>
                  <a:lnTo>
                    <a:pt x="682" y="2222"/>
                  </a:lnTo>
                  <a:lnTo>
                    <a:pt x="682" y="2229"/>
                  </a:lnTo>
                  <a:lnTo>
                    <a:pt x="686" y="2229"/>
                  </a:lnTo>
                  <a:lnTo>
                    <a:pt x="686" y="2234"/>
                  </a:lnTo>
                  <a:lnTo>
                    <a:pt x="691" y="2234"/>
                  </a:lnTo>
                  <a:lnTo>
                    <a:pt x="691" y="2240"/>
                  </a:lnTo>
                  <a:lnTo>
                    <a:pt x="696" y="2240"/>
                  </a:lnTo>
                  <a:lnTo>
                    <a:pt x="696" y="2246"/>
                  </a:lnTo>
                  <a:lnTo>
                    <a:pt x="705" y="2246"/>
                  </a:lnTo>
                  <a:lnTo>
                    <a:pt x="705" y="2259"/>
                  </a:lnTo>
                  <a:lnTo>
                    <a:pt x="710" y="2259"/>
                  </a:lnTo>
                  <a:lnTo>
                    <a:pt x="710" y="2264"/>
                  </a:lnTo>
                  <a:lnTo>
                    <a:pt x="715" y="2264"/>
                  </a:lnTo>
                  <a:lnTo>
                    <a:pt x="715" y="2270"/>
                  </a:lnTo>
                  <a:lnTo>
                    <a:pt x="720" y="2270"/>
                  </a:lnTo>
                  <a:lnTo>
                    <a:pt x="720" y="2276"/>
                  </a:lnTo>
                  <a:lnTo>
                    <a:pt x="725" y="2276"/>
                  </a:lnTo>
                  <a:lnTo>
                    <a:pt x="725" y="2282"/>
                  </a:lnTo>
                  <a:lnTo>
                    <a:pt x="730" y="2282"/>
                  </a:lnTo>
                  <a:lnTo>
                    <a:pt x="730" y="2287"/>
                  </a:lnTo>
                  <a:lnTo>
                    <a:pt x="735" y="2287"/>
                  </a:lnTo>
                  <a:lnTo>
                    <a:pt x="735" y="2300"/>
                  </a:lnTo>
                  <a:lnTo>
                    <a:pt x="739" y="2300"/>
                  </a:lnTo>
                  <a:lnTo>
                    <a:pt x="739" y="2305"/>
                  </a:lnTo>
                  <a:lnTo>
                    <a:pt x="745" y="2305"/>
                  </a:lnTo>
                  <a:lnTo>
                    <a:pt x="745" y="2317"/>
                  </a:lnTo>
                  <a:lnTo>
                    <a:pt x="749" y="2317"/>
                  </a:lnTo>
                  <a:lnTo>
                    <a:pt x="749" y="2323"/>
                  </a:lnTo>
                  <a:lnTo>
                    <a:pt x="754" y="2323"/>
                  </a:lnTo>
                  <a:lnTo>
                    <a:pt x="754" y="2328"/>
                  </a:lnTo>
                  <a:lnTo>
                    <a:pt x="763" y="2328"/>
                  </a:lnTo>
                  <a:lnTo>
                    <a:pt x="763" y="2335"/>
                  </a:lnTo>
                  <a:lnTo>
                    <a:pt x="768" y="2335"/>
                  </a:lnTo>
                  <a:lnTo>
                    <a:pt x="768" y="2341"/>
                  </a:lnTo>
                  <a:lnTo>
                    <a:pt x="772" y="2341"/>
                  </a:lnTo>
                  <a:lnTo>
                    <a:pt x="772" y="2346"/>
                  </a:lnTo>
                  <a:lnTo>
                    <a:pt x="778" y="2346"/>
                  </a:lnTo>
                  <a:lnTo>
                    <a:pt x="778" y="2352"/>
                  </a:lnTo>
                  <a:lnTo>
                    <a:pt x="782" y="2352"/>
                  </a:lnTo>
                  <a:lnTo>
                    <a:pt x="782" y="2358"/>
                  </a:lnTo>
                  <a:lnTo>
                    <a:pt x="787" y="2358"/>
                  </a:lnTo>
                  <a:lnTo>
                    <a:pt x="787" y="2365"/>
                  </a:lnTo>
                  <a:lnTo>
                    <a:pt x="793" y="2365"/>
                  </a:lnTo>
                  <a:lnTo>
                    <a:pt x="793" y="2370"/>
                  </a:lnTo>
                  <a:lnTo>
                    <a:pt x="798" y="2370"/>
                  </a:lnTo>
                  <a:lnTo>
                    <a:pt x="798" y="2376"/>
                  </a:lnTo>
                  <a:lnTo>
                    <a:pt x="807" y="2376"/>
                  </a:lnTo>
                  <a:lnTo>
                    <a:pt x="807" y="2382"/>
                  </a:lnTo>
                  <a:lnTo>
                    <a:pt x="835" y="2382"/>
                  </a:lnTo>
                  <a:lnTo>
                    <a:pt x="835" y="2376"/>
                  </a:lnTo>
                  <a:lnTo>
                    <a:pt x="841" y="2376"/>
                  </a:lnTo>
                  <a:lnTo>
                    <a:pt x="841" y="2370"/>
                  </a:lnTo>
                  <a:lnTo>
                    <a:pt x="845" y="2370"/>
                  </a:lnTo>
                  <a:lnTo>
                    <a:pt x="845" y="2365"/>
                  </a:lnTo>
                  <a:lnTo>
                    <a:pt x="849" y="2365"/>
                  </a:lnTo>
                  <a:lnTo>
                    <a:pt x="849" y="2358"/>
                  </a:lnTo>
                  <a:lnTo>
                    <a:pt x="855" y="2358"/>
                  </a:lnTo>
                  <a:lnTo>
                    <a:pt x="855" y="2352"/>
                  </a:lnTo>
                  <a:lnTo>
                    <a:pt x="865" y="2352"/>
                  </a:lnTo>
                  <a:lnTo>
                    <a:pt x="865" y="2341"/>
                  </a:lnTo>
                  <a:lnTo>
                    <a:pt x="869" y="2341"/>
                  </a:lnTo>
                  <a:lnTo>
                    <a:pt x="869" y="2328"/>
                  </a:lnTo>
                  <a:lnTo>
                    <a:pt x="875" y="2328"/>
                  </a:lnTo>
                  <a:lnTo>
                    <a:pt x="875" y="2317"/>
                  </a:lnTo>
                  <a:lnTo>
                    <a:pt x="879" y="2317"/>
                  </a:lnTo>
                  <a:lnTo>
                    <a:pt x="879" y="2305"/>
                  </a:lnTo>
                  <a:lnTo>
                    <a:pt x="883" y="2305"/>
                  </a:lnTo>
                  <a:lnTo>
                    <a:pt x="883" y="2287"/>
                  </a:lnTo>
                  <a:lnTo>
                    <a:pt x="889" y="2287"/>
                  </a:lnTo>
                  <a:lnTo>
                    <a:pt x="889" y="2270"/>
                  </a:lnTo>
                  <a:lnTo>
                    <a:pt x="893" y="2270"/>
                  </a:lnTo>
                  <a:lnTo>
                    <a:pt x="893" y="2251"/>
                  </a:lnTo>
                  <a:lnTo>
                    <a:pt x="898" y="2251"/>
                  </a:lnTo>
                  <a:lnTo>
                    <a:pt x="898" y="2234"/>
                  </a:lnTo>
                  <a:lnTo>
                    <a:pt x="903" y="2234"/>
                  </a:lnTo>
                  <a:lnTo>
                    <a:pt x="903" y="2216"/>
                  </a:lnTo>
                  <a:lnTo>
                    <a:pt x="908" y="2216"/>
                  </a:lnTo>
                  <a:lnTo>
                    <a:pt x="908" y="2210"/>
                  </a:lnTo>
                  <a:lnTo>
                    <a:pt x="912" y="2210"/>
                  </a:lnTo>
                  <a:lnTo>
                    <a:pt x="912" y="2192"/>
                  </a:lnTo>
                  <a:lnTo>
                    <a:pt x="917" y="2192"/>
                  </a:lnTo>
                  <a:lnTo>
                    <a:pt x="917" y="2186"/>
                  </a:lnTo>
                  <a:lnTo>
                    <a:pt x="922" y="2186"/>
                  </a:lnTo>
                  <a:lnTo>
                    <a:pt x="922" y="2175"/>
                  </a:lnTo>
                  <a:lnTo>
                    <a:pt x="926" y="2175"/>
                  </a:lnTo>
                  <a:lnTo>
                    <a:pt x="926" y="2164"/>
                  </a:lnTo>
                  <a:lnTo>
                    <a:pt x="931" y="2164"/>
                  </a:lnTo>
                  <a:lnTo>
                    <a:pt x="931" y="2158"/>
                  </a:lnTo>
                  <a:lnTo>
                    <a:pt x="937" y="2158"/>
                  </a:lnTo>
                  <a:lnTo>
                    <a:pt x="937" y="2145"/>
                  </a:lnTo>
                  <a:lnTo>
                    <a:pt x="941" y="2145"/>
                  </a:lnTo>
                  <a:lnTo>
                    <a:pt x="941" y="2128"/>
                  </a:lnTo>
                  <a:lnTo>
                    <a:pt x="946" y="2128"/>
                  </a:lnTo>
                  <a:lnTo>
                    <a:pt x="946" y="2123"/>
                  </a:lnTo>
                  <a:lnTo>
                    <a:pt x="951" y="2123"/>
                  </a:lnTo>
                  <a:lnTo>
                    <a:pt x="951" y="2110"/>
                  </a:lnTo>
                  <a:lnTo>
                    <a:pt x="956" y="2110"/>
                  </a:lnTo>
                  <a:lnTo>
                    <a:pt x="956" y="2104"/>
                  </a:lnTo>
                  <a:lnTo>
                    <a:pt x="960" y="2104"/>
                  </a:lnTo>
                  <a:lnTo>
                    <a:pt x="960" y="2099"/>
                  </a:lnTo>
                  <a:lnTo>
                    <a:pt x="965" y="2099"/>
                  </a:lnTo>
                  <a:lnTo>
                    <a:pt x="965" y="2086"/>
                  </a:lnTo>
                  <a:lnTo>
                    <a:pt x="970" y="2086"/>
                  </a:lnTo>
                  <a:lnTo>
                    <a:pt x="970" y="2080"/>
                  </a:lnTo>
                  <a:lnTo>
                    <a:pt x="974" y="2080"/>
                  </a:lnTo>
                  <a:lnTo>
                    <a:pt x="974" y="2074"/>
                  </a:lnTo>
                  <a:lnTo>
                    <a:pt x="979" y="2074"/>
                  </a:lnTo>
                  <a:lnTo>
                    <a:pt x="979" y="2069"/>
                  </a:lnTo>
                  <a:lnTo>
                    <a:pt x="984" y="2069"/>
                  </a:lnTo>
                  <a:lnTo>
                    <a:pt x="984" y="2056"/>
                  </a:lnTo>
                  <a:lnTo>
                    <a:pt x="989" y="2056"/>
                  </a:lnTo>
                  <a:lnTo>
                    <a:pt x="989" y="2045"/>
                  </a:lnTo>
                  <a:lnTo>
                    <a:pt x="993" y="2045"/>
                  </a:lnTo>
                  <a:lnTo>
                    <a:pt x="993" y="2039"/>
                  </a:lnTo>
                  <a:lnTo>
                    <a:pt x="999" y="2039"/>
                  </a:lnTo>
                  <a:lnTo>
                    <a:pt x="999" y="2033"/>
                  </a:lnTo>
                  <a:lnTo>
                    <a:pt x="1003" y="2033"/>
                  </a:lnTo>
                  <a:lnTo>
                    <a:pt x="1003" y="2021"/>
                  </a:lnTo>
                  <a:lnTo>
                    <a:pt x="1008" y="2021"/>
                  </a:lnTo>
                  <a:lnTo>
                    <a:pt x="1008" y="2015"/>
                  </a:lnTo>
                  <a:lnTo>
                    <a:pt x="1013" y="2015"/>
                  </a:lnTo>
                  <a:lnTo>
                    <a:pt x="1013" y="2004"/>
                  </a:lnTo>
                  <a:lnTo>
                    <a:pt x="1018" y="2004"/>
                  </a:lnTo>
                  <a:lnTo>
                    <a:pt x="1018" y="1997"/>
                  </a:lnTo>
                  <a:lnTo>
                    <a:pt x="1023" y="1997"/>
                  </a:lnTo>
                  <a:lnTo>
                    <a:pt x="1023" y="1985"/>
                  </a:lnTo>
                  <a:lnTo>
                    <a:pt x="1027" y="1985"/>
                  </a:lnTo>
                  <a:lnTo>
                    <a:pt x="1027" y="1974"/>
                  </a:lnTo>
                  <a:lnTo>
                    <a:pt x="1033" y="1974"/>
                  </a:lnTo>
                  <a:lnTo>
                    <a:pt x="1033" y="1968"/>
                  </a:lnTo>
                  <a:lnTo>
                    <a:pt x="1037" y="1968"/>
                  </a:lnTo>
                  <a:lnTo>
                    <a:pt x="1037" y="1955"/>
                  </a:lnTo>
                  <a:lnTo>
                    <a:pt x="1047" y="1955"/>
                  </a:lnTo>
                  <a:lnTo>
                    <a:pt x="1047" y="1945"/>
                  </a:lnTo>
                  <a:lnTo>
                    <a:pt x="1052" y="1945"/>
                  </a:lnTo>
                  <a:lnTo>
                    <a:pt x="1052" y="1938"/>
                  </a:lnTo>
                  <a:lnTo>
                    <a:pt x="1056" y="1938"/>
                  </a:lnTo>
                  <a:lnTo>
                    <a:pt x="1056" y="1927"/>
                  </a:lnTo>
                  <a:lnTo>
                    <a:pt x="1061" y="1927"/>
                  </a:lnTo>
                  <a:lnTo>
                    <a:pt x="1061" y="1922"/>
                  </a:lnTo>
                  <a:lnTo>
                    <a:pt x="1066" y="1922"/>
                  </a:lnTo>
                  <a:lnTo>
                    <a:pt x="1066" y="1915"/>
                  </a:lnTo>
                  <a:lnTo>
                    <a:pt x="1070" y="1915"/>
                  </a:lnTo>
                  <a:lnTo>
                    <a:pt x="1070" y="1904"/>
                  </a:lnTo>
                  <a:lnTo>
                    <a:pt x="1075" y="1904"/>
                  </a:lnTo>
                  <a:lnTo>
                    <a:pt x="1075" y="1892"/>
                  </a:lnTo>
                  <a:lnTo>
                    <a:pt x="1080" y="1892"/>
                  </a:lnTo>
                  <a:lnTo>
                    <a:pt x="1080" y="1885"/>
                  </a:lnTo>
                  <a:lnTo>
                    <a:pt x="1086" y="1885"/>
                  </a:lnTo>
                  <a:lnTo>
                    <a:pt x="1086" y="1879"/>
                  </a:lnTo>
                  <a:lnTo>
                    <a:pt x="1090" y="1879"/>
                  </a:lnTo>
                  <a:lnTo>
                    <a:pt x="1090" y="1868"/>
                  </a:lnTo>
                  <a:lnTo>
                    <a:pt x="1095" y="1868"/>
                  </a:lnTo>
                  <a:lnTo>
                    <a:pt x="1095" y="1856"/>
                  </a:lnTo>
                  <a:lnTo>
                    <a:pt x="1100" y="1856"/>
                  </a:lnTo>
                  <a:lnTo>
                    <a:pt x="1100" y="1844"/>
                  </a:lnTo>
                  <a:lnTo>
                    <a:pt x="1104" y="1844"/>
                  </a:lnTo>
                  <a:lnTo>
                    <a:pt x="1104" y="1838"/>
                  </a:lnTo>
                  <a:lnTo>
                    <a:pt x="1109" y="1838"/>
                  </a:lnTo>
                  <a:lnTo>
                    <a:pt x="1109" y="1832"/>
                  </a:lnTo>
                  <a:lnTo>
                    <a:pt x="1114" y="1832"/>
                  </a:lnTo>
                  <a:lnTo>
                    <a:pt x="1114" y="1819"/>
                  </a:lnTo>
                  <a:lnTo>
                    <a:pt x="1119" y="1819"/>
                  </a:lnTo>
                  <a:lnTo>
                    <a:pt x="1119" y="1814"/>
                  </a:lnTo>
                  <a:lnTo>
                    <a:pt x="1123" y="1814"/>
                  </a:lnTo>
                  <a:lnTo>
                    <a:pt x="1123" y="1809"/>
                  </a:lnTo>
                  <a:lnTo>
                    <a:pt x="1129" y="1809"/>
                  </a:lnTo>
                  <a:lnTo>
                    <a:pt x="1129" y="1797"/>
                  </a:lnTo>
                  <a:lnTo>
                    <a:pt x="1138" y="1797"/>
                  </a:lnTo>
                  <a:lnTo>
                    <a:pt x="1138" y="1786"/>
                  </a:lnTo>
                  <a:lnTo>
                    <a:pt x="1143" y="1786"/>
                  </a:lnTo>
                  <a:lnTo>
                    <a:pt x="1143" y="1778"/>
                  </a:lnTo>
                  <a:lnTo>
                    <a:pt x="1147" y="1778"/>
                  </a:lnTo>
                  <a:lnTo>
                    <a:pt x="1147" y="1773"/>
                  </a:lnTo>
                  <a:lnTo>
                    <a:pt x="1152" y="1773"/>
                  </a:lnTo>
                  <a:lnTo>
                    <a:pt x="1152" y="1767"/>
                  </a:lnTo>
                  <a:lnTo>
                    <a:pt x="1157" y="1767"/>
                  </a:lnTo>
                  <a:lnTo>
                    <a:pt x="1157" y="1761"/>
                  </a:lnTo>
                  <a:lnTo>
                    <a:pt x="1163" y="1761"/>
                  </a:lnTo>
                  <a:lnTo>
                    <a:pt x="1163" y="1756"/>
                  </a:lnTo>
                  <a:lnTo>
                    <a:pt x="1167" y="1756"/>
                  </a:lnTo>
                  <a:lnTo>
                    <a:pt x="1167" y="1749"/>
                  </a:lnTo>
                  <a:lnTo>
                    <a:pt x="1172" y="1749"/>
                  </a:lnTo>
                  <a:lnTo>
                    <a:pt x="1172" y="1743"/>
                  </a:lnTo>
                  <a:lnTo>
                    <a:pt x="1177" y="1743"/>
                  </a:lnTo>
                  <a:lnTo>
                    <a:pt x="1177" y="1737"/>
                  </a:lnTo>
                  <a:lnTo>
                    <a:pt x="1181" y="1737"/>
                  </a:lnTo>
                  <a:lnTo>
                    <a:pt x="1181" y="1732"/>
                  </a:lnTo>
                  <a:lnTo>
                    <a:pt x="1186" y="1732"/>
                  </a:lnTo>
                  <a:lnTo>
                    <a:pt x="1186" y="1720"/>
                  </a:lnTo>
                  <a:lnTo>
                    <a:pt x="1191" y="1720"/>
                  </a:lnTo>
                  <a:lnTo>
                    <a:pt x="1191" y="1713"/>
                  </a:lnTo>
                  <a:lnTo>
                    <a:pt x="1196" y="1713"/>
                  </a:lnTo>
                  <a:lnTo>
                    <a:pt x="1196" y="1702"/>
                  </a:lnTo>
                  <a:lnTo>
                    <a:pt x="1200" y="1702"/>
                  </a:lnTo>
                  <a:lnTo>
                    <a:pt x="1200" y="1696"/>
                  </a:lnTo>
                  <a:lnTo>
                    <a:pt x="1205" y="1696"/>
                  </a:lnTo>
                  <a:lnTo>
                    <a:pt x="1205" y="1685"/>
                  </a:lnTo>
                  <a:lnTo>
                    <a:pt x="1210" y="1685"/>
                  </a:lnTo>
                  <a:lnTo>
                    <a:pt x="1210" y="1672"/>
                  </a:lnTo>
                  <a:lnTo>
                    <a:pt x="1215" y="1672"/>
                  </a:lnTo>
                  <a:lnTo>
                    <a:pt x="1215" y="1667"/>
                  </a:lnTo>
                  <a:lnTo>
                    <a:pt x="1219" y="1667"/>
                  </a:lnTo>
                  <a:lnTo>
                    <a:pt x="1219" y="1655"/>
                  </a:lnTo>
                  <a:lnTo>
                    <a:pt x="1224" y="1655"/>
                  </a:lnTo>
                  <a:lnTo>
                    <a:pt x="1224" y="1650"/>
                  </a:lnTo>
                  <a:lnTo>
                    <a:pt x="1230" y="1650"/>
                  </a:lnTo>
                  <a:lnTo>
                    <a:pt x="1230" y="1637"/>
                  </a:lnTo>
                  <a:lnTo>
                    <a:pt x="1234" y="1637"/>
                  </a:lnTo>
                  <a:lnTo>
                    <a:pt x="1234" y="1626"/>
                  </a:lnTo>
                  <a:lnTo>
                    <a:pt x="1240" y="1626"/>
                  </a:lnTo>
                  <a:lnTo>
                    <a:pt x="1240" y="1618"/>
                  </a:lnTo>
                  <a:lnTo>
                    <a:pt x="1244" y="1618"/>
                  </a:lnTo>
                  <a:lnTo>
                    <a:pt x="1244" y="1601"/>
                  </a:lnTo>
                  <a:lnTo>
                    <a:pt x="1249" y="1601"/>
                  </a:lnTo>
                  <a:lnTo>
                    <a:pt x="1249" y="1583"/>
                  </a:lnTo>
                  <a:lnTo>
                    <a:pt x="1253" y="1583"/>
                  </a:lnTo>
                  <a:lnTo>
                    <a:pt x="1253" y="1572"/>
                  </a:lnTo>
                  <a:lnTo>
                    <a:pt x="1259" y="1572"/>
                  </a:lnTo>
                  <a:lnTo>
                    <a:pt x="1259" y="1560"/>
                  </a:lnTo>
                  <a:lnTo>
                    <a:pt x="1263" y="1560"/>
                  </a:lnTo>
                  <a:lnTo>
                    <a:pt x="1263" y="1549"/>
                  </a:lnTo>
                  <a:lnTo>
                    <a:pt x="1267" y="1549"/>
                  </a:lnTo>
                  <a:lnTo>
                    <a:pt x="1267" y="1536"/>
                  </a:lnTo>
                  <a:lnTo>
                    <a:pt x="1277" y="1536"/>
                  </a:lnTo>
                  <a:lnTo>
                    <a:pt x="1277" y="1531"/>
                  </a:lnTo>
                  <a:lnTo>
                    <a:pt x="1281" y="1531"/>
                  </a:lnTo>
                  <a:lnTo>
                    <a:pt x="1281" y="1519"/>
                  </a:lnTo>
                  <a:lnTo>
                    <a:pt x="1287" y="1519"/>
                  </a:lnTo>
                  <a:lnTo>
                    <a:pt x="1287" y="1507"/>
                  </a:lnTo>
                  <a:lnTo>
                    <a:pt x="1291" y="1507"/>
                  </a:lnTo>
                  <a:lnTo>
                    <a:pt x="1291" y="1496"/>
                  </a:lnTo>
                  <a:lnTo>
                    <a:pt x="1296" y="1496"/>
                  </a:lnTo>
                  <a:lnTo>
                    <a:pt x="1296" y="1490"/>
                  </a:lnTo>
                  <a:lnTo>
                    <a:pt x="1301" y="1490"/>
                  </a:lnTo>
                  <a:lnTo>
                    <a:pt x="1301" y="1477"/>
                  </a:lnTo>
                  <a:lnTo>
                    <a:pt x="1307" y="1477"/>
                  </a:lnTo>
                  <a:lnTo>
                    <a:pt x="1307" y="1465"/>
                  </a:lnTo>
                  <a:lnTo>
                    <a:pt x="1311" y="1465"/>
                  </a:lnTo>
                  <a:lnTo>
                    <a:pt x="1311" y="1449"/>
                  </a:lnTo>
                  <a:lnTo>
                    <a:pt x="1315" y="1449"/>
                  </a:lnTo>
                  <a:lnTo>
                    <a:pt x="1315" y="1442"/>
                  </a:lnTo>
                  <a:lnTo>
                    <a:pt x="1321" y="1442"/>
                  </a:lnTo>
                  <a:lnTo>
                    <a:pt x="1321" y="1436"/>
                  </a:lnTo>
                  <a:lnTo>
                    <a:pt x="1340" y="1436"/>
                  </a:lnTo>
                  <a:lnTo>
                    <a:pt x="1340" y="1442"/>
                  </a:lnTo>
                  <a:lnTo>
                    <a:pt x="1344" y="1442"/>
                  </a:lnTo>
                  <a:lnTo>
                    <a:pt x="1344" y="1449"/>
                  </a:lnTo>
                  <a:lnTo>
                    <a:pt x="1349" y="1449"/>
                  </a:lnTo>
                  <a:lnTo>
                    <a:pt x="1349" y="1454"/>
                  </a:lnTo>
                  <a:lnTo>
                    <a:pt x="1354" y="1454"/>
                  </a:lnTo>
                  <a:lnTo>
                    <a:pt x="1354" y="1465"/>
                  </a:lnTo>
                  <a:lnTo>
                    <a:pt x="1358" y="1465"/>
                  </a:lnTo>
                  <a:lnTo>
                    <a:pt x="1358" y="1484"/>
                  </a:lnTo>
                  <a:lnTo>
                    <a:pt x="1354" y="1484"/>
                  </a:lnTo>
                  <a:lnTo>
                    <a:pt x="1354" y="1490"/>
                  </a:lnTo>
                  <a:lnTo>
                    <a:pt x="1349" y="1490"/>
                  </a:lnTo>
                  <a:lnTo>
                    <a:pt x="1349" y="1501"/>
                  </a:lnTo>
                  <a:lnTo>
                    <a:pt x="1344" y="1501"/>
                  </a:lnTo>
                  <a:lnTo>
                    <a:pt x="1344" y="1514"/>
                  </a:lnTo>
                  <a:lnTo>
                    <a:pt x="1340" y="1514"/>
                  </a:lnTo>
                  <a:lnTo>
                    <a:pt x="1340" y="1531"/>
                  </a:lnTo>
                  <a:lnTo>
                    <a:pt x="1335" y="1531"/>
                  </a:lnTo>
                  <a:lnTo>
                    <a:pt x="1335" y="1536"/>
                  </a:lnTo>
                  <a:lnTo>
                    <a:pt x="1330" y="1536"/>
                  </a:lnTo>
                  <a:lnTo>
                    <a:pt x="1330" y="1549"/>
                  </a:lnTo>
                  <a:lnTo>
                    <a:pt x="1325" y="1549"/>
                  </a:lnTo>
                  <a:lnTo>
                    <a:pt x="1325" y="1566"/>
                  </a:lnTo>
                  <a:lnTo>
                    <a:pt x="1321" y="1566"/>
                  </a:lnTo>
                  <a:lnTo>
                    <a:pt x="1321" y="1577"/>
                  </a:lnTo>
                  <a:lnTo>
                    <a:pt x="1315" y="1577"/>
                  </a:lnTo>
                  <a:lnTo>
                    <a:pt x="1315" y="1590"/>
                  </a:lnTo>
                  <a:lnTo>
                    <a:pt x="1311" y="1590"/>
                  </a:lnTo>
                  <a:lnTo>
                    <a:pt x="1311" y="1608"/>
                  </a:lnTo>
                  <a:lnTo>
                    <a:pt x="1307" y="1608"/>
                  </a:lnTo>
                  <a:lnTo>
                    <a:pt x="1307" y="1613"/>
                  </a:lnTo>
                  <a:lnTo>
                    <a:pt x="1301" y="1613"/>
                  </a:lnTo>
                  <a:lnTo>
                    <a:pt x="1301" y="1626"/>
                  </a:lnTo>
                  <a:lnTo>
                    <a:pt x="1296" y="1626"/>
                  </a:lnTo>
                  <a:lnTo>
                    <a:pt x="1296" y="1631"/>
                  </a:lnTo>
                  <a:lnTo>
                    <a:pt x="1291" y="1631"/>
                  </a:lnTo>
                  <a:lnTo>
                    <a:pt x="1291" y="1642"/>
                  </a:lnTo>
                  <a:lnTo>
                    <a:pt x="1287" y="1642"/>
                  </a:lnTo>
                  <a:lnTo>
                    <a:pt x="1287" y="1650"/>
                  </a:lnTo>
                  <a:lnTo>
                    <a:pt x="1281" y="1650"/>
                  </a:lnTo>
                  <a:lnTo>
                    <a:pt x="1281" y="1655"/>
                  </a:lnTo>
                  <a:lnTo>
                    <a:pt x="1277" y="1655"/>
                  </a:lnTo>
                  <a:lnTo>
                    <a:pt x="1277" y="1667"/>
                  </a:lnTo>
                  <a:lnTo>
                    <a:pt x="1273" y="1667"/>
                  </a:lnTo>
                  <a:lnTo>
                    <a:pt x="1273" y="1672"/>
                  </a:lnTo>
                  <a:lnTo>
                    <a:pt x="1267" y="1672"/>
                  </a:lnTo>
                  <a:lnTo>
                    <a:pt x="1267" y="1678"/>
                  </a:lnTo>
                  <a:lnTo>
                    <a:pt x="1263" y="1678"/>
                  </a:lnTo>
                  <a:lnTo>
                    <a:pt x="1263" y="1685"/>
                  </a:lnTo>
                  <a:lnTo>
                    <a:pt x="1259" y="1685"/>
                  </a:lnTo>
                  <a:lnTo>
                    <a:pt x="1259" y="1696"/>
                  </a:lnTo>
                  <a:lnTo>
                    <a:pt x="1253" y="1696"/>
                  </a:lnTo>
                  <a:lnTo>
                    <a:pt x="1253" y="1702"/>
                  </a:lnTo>
                  <a:lnTo>
                    <a:pt x="1249" y="1702"/>
                  </a:lnTo>
                  <a:lnTo>
                    <a:pt x="1249" y="1713"/>
                  </a:lnTo>
                  <a:lnTo>
                    <a:pt x="1244" y="1713"/>
                  </a:lnTo>
                  <a:lnTo>
                    <a:pt x="1244" y="1732"/>
                  </a:lnTo>
                  <a:lnTo>
                    <a:pt x="1240" y="1732"/>
                  </a:lnTo>
                  <a:lnTo>
                    <a:pt x="1240" y="1737"/>
                  </a:lnTo>
                  <a:lnTo>
                    <a:pt x="1234" y="1737"/>
                  </a:lnTo>
                  <a:lnTo>
                    <a:pt x="1234" y="1756"/>
                  </a:lnTo>
                  <a:lnTo>
                    <a:pt x="1230" y="1756"/>
                  </a:lnTo>
                  <a:lnTo>
                    <a:pt x="1230" y="1761"/>
                  </a:lnTo>
                  <a:lnTo>
                    <a:pt x="1224" y="1761"/>
                  </a:lnTo>
                  <a:lnTo>
                    <a:pt x="1224" y="1773"/>
                  </a:lnTo>
                  <a:lnTo>
                    <a:pt x="1219" y="1773"/>
                  </a:lnTo>
                  <a:lnTo>
                    <a:pt x="1219" y="1778"/>
                  </a:lnTo>
                  <a:lnTo>
                    <a:pt x="1215" y="1778"/>
                  </a:lnTo>
                  <a:lnTo>
                    <a:pt x="1215" y="1786"/>
                  </a:lnTo>
                  <a:lnTo>
                    <a:pt x="1210" y="1786"/>
                  </a:lnTo>
                  <a:lnTo>
                    <a:pt x="1210" y="1791"/>
                  </a:lnTo>
                  <a:lnTo>
                    <a:pt x="1205" y="1791"/>
                  </a:lnTo>
                  <a:lnTo>
                    <a:pt x="1205" y="1803"/>
                  </a:lnTo>
                  <a:lnTo>
                    <a:pt x="1200" y="1803"/>
                  </a:lnTo>
                  <a:lnTo>
                    <a:pt x="1200" y="1809"/>
                  </a:lnTo>
                  <a:lnTo>
                    <a:pt x="1196" y="1809"/>
                  </a:lnTo>
                  <a:lnTo>
                    <a:pt x="1196" y="1814"/>
                  </a:lnTo>
                  <a:lnTo>
                    <a:pt x="1191" y="1814"/>
                  </a:lnTo>
                  <a:lnTo>
                    <a:pt x="1191" y="1819"/>
                  </a:lnTo>
                  <a:lnTo>
                    <a:pt x="1186" y="1819"/>
                  </a:lnTo>
                  <a:lnTo>
                    <a:pt x="1186" y="1827"/>
                  </a:lnTo>
                  <a:lnTo>
                    <a:pt x="1181" y="1827"/>
                  </a:lnTo>
                  <a:lnTo>
                    <a:pt x="1181" y="1832"/>
                  </a:lnTo>
                  <a:lnTo>
                    <a:pt x="1177" y="1832"/>
                  </a:lnTo>
                  <a:lnTo>
                    <a:pt x="1177" y="1838"/>
                  </a:lnTo>
                  <a:lnTo>
                    <a:pt x="1172" y="1838"/>
                  </a:lnTo>
                  <a:lnTo>
                    <a:pt x="1172" y="1851"/>
                  </a:lnTo>
                  <a:lnTo>
                    <a:pt x="1163" y="1851"/>
                  </a:lnTo>
                  <a:lnTo>
                    <a:pt x="1163" y="1862"/>
                  </a:lnTo>
                  <a:lnTo>
                    <a:pt x="1157" y="1862"/>
                  </a:lnTo>
                  <a:lnTo>
                    <a:pt x="1157" y="1868"/>
                  </a:lnTo>
                  <a:lnTo>
                    <a:pt x="1152" y="1868"/>
                  </a:lnTo>
                  <a:lnTo>
                    <a:pt x="1152" y="1873"/>
                  </a:lnTo>
                  <a:lnTo>
                    <a:pt x="1143" y="1873"/>
                  </a:lnTo>
                  <a:lnTo>
                    <a:pt x="1143" y="1885"/>
                  </a:lnTo>
                  <a:lnTo>
                    <a:pt x="1138" y="1885"/>
                  </a:lnTo>
                  <a:lnTo>
                    <a:pt x="1138" y="1892"/>
                  </a:lnTo>
                  <a:lnTo>
                    <a:pt x="1133" y="1892"/>
                  </a:lnTo>
                  <a:lnTo>
                    <a:pt x="1133" y="1904"/>
                  </a:lnTo>
                  <a:lnTo>
                    <a:pt x="1129" y="1904"/>
                  </a:lnTo>
                  <a:lnTo>
                    <a:pt x="1129" y="1915"/>
                  </a:lnTo>
                  <a:lnTo>
                    <a:pt x="1123" y="1915"/>
                  </a:lnTo>
                  <a:lnTo>
                    <a:pt x="1123" y="1922"/>
                  </a:lnTo>
                  <a:lnTo>
                    <a:pt x="1119" y="1922"/>
                  </a:lnTo>
                  <a:lnTo>
                    <a:pt x="1119" y="1933"/>
                  </a:lnTo>
                  <a:lnTo>
                    <a:pt x="1114" y="1933"/>
                  </a:lnTo>
                  <a:lnTo>
                    <a:pt x="1114" y="1938"/>
                  </a:lnTo>
                  <a:lnTo>
                    <a:pt x="1109" y="1938"/>
                  </a:lnTo>
                  <a:lnTo>
                    <a:pt x="1109" y="1950"/>
                  </a:lnTo>
                  <a:lnTo>
                    <a:pt x="1104" y="1950"/>
                  </a:lnTo>
                  <a:lnTo>
                    <a:pt x="1104" y="1955"/>
                  </a:lnTo>
                  <a:lnTo>
                    <a:pt x="1100" y="1955"/>
                  </a:lnTo>
                  <a:lnTo>
                    <a:pt x="1100" y="1968"/>
                  </a:lnTo>
                  <a:lnTo>
                    <a:pt x="1095" y="1968"/>
                  </a:lnTo>
                  <a:lnTo>
                    <a:pt x="1095" y="1974"/>
                  </a:lnTo>
                  <a:lnTo>
                    <a:pt x="1090" y="1974"/>
                  </a:lnTo>
                  <a:lnTo>
                    <a:pt x="1090" y="1985"/>
                  </a:lnTo>
                  <a:lnTo>
                    <a:pt x="1086" y="1985"/>
                  </a:lnTo>
                  <a:lnTo>
                    <a:pt x="1086" y="1992"/>
                  </a:lnTo>
                  <a:lnTo>
                    <a:pt x="1080" y="1992"/>
                  </a:lnTo>
                  <a:lnTo>
                    <a:pt x="1080" y="1997"/>
                  </a:lnTo>
                  <a:lnTo>
                    <a:pt x="1075" y="1997"/>
                  </a:lnTo>
                  <a:lnTo>
                    <a:pt x="1075" y="2009"/>
                  </a:lnTo>
                  <a:lnTo>
                    <a:pt x="1070" y="2009"/>
                  </a:lnTo>
                  <a:lnTo>
                    <a:pt x="1070" y="2015"/>
                  </a:lnTo>
                  <a:lnTo>
                    <a:pt x="1066" y="2015"/>
                  </a:lnTo>
                  <a:lnTo>
                    <a:pt x="1066" y="2028"/>
                  </a:lnTo>
                  <a:lnTo>
                    <a:pt x="1061" y="2028"/>
                  </a:lnTo>
                  <a:lnTo>
                    <a:pt x="1061" y="2039"/>
                  </a:lnTo>
                  <a:lnTo>
                    <a:pt x="1056" y="2039"/>
                  </a:lnTo>
                  <a:lnTo>
                    <a:pt x="1056" y="2045"/>
                  </a:lnTo>
                  <a:lnTo>
                    <a:pt x="1052" y="2045"/>
                  </a:lnTo>
                  <a:lnTo>
                    <a:pt x="1052" y="2050"/>
                  </a:lnTo>
                  <a:lnTo>
                    <a:pt x="1047" y="2050"/>
                  </a:lnTo>
                  <a:lnTo>
                    <a:pt x="1047" y="2063"/>
                  </a:lnTo>
                  <a:lnTo>
                    <a:pt x="1042" y="2063"/>
                  </a:lnTo>
                  <a:lnTo>
                    <a:pt x="1042" y="2074"/>
                  </a:lnTo>
                  <a:lnTo>
                    <a:pt x="1037" y="2074"/>
                  </a:lnTo>
                  <a:lnTo>
                    <a:pt x="1037" y="2080"/>
                  </a:lnTo>
                  <a:lnTo>
                    <a:pt x="1033" y="2080"/>
                  </a:lnTo>
                  <a:lnTo>
                    <a:pt x="1033" y="2086"/>
                  </a:lnTo>
                  <a:lnTo>
                    <a:pt x="1027" y="2086"/>
                  </a:lnTo>
                  <a:lnTo>
                    <a:pt x="1027" y="2091"/>
                  </a:lnTo>
                  <a:lnTo>
                    <a:pt x="1023" y="2091"/>
                  </a:lnTo>
                  <a:lnTo>
                    <a:pt x="1023" y="2099"/>
                  </a:lnTo>
                  <a:lnTo>
                    <a:pt x="1018" y="2099"/>
                  </a:lnTo>
                  <a:lnTo>
                    <a:pt x="1018" y="2104"/>
                  </a:lnTo>
                  <a:lnTo>
                    <a:pt x="1013" y="2104"/>
                  </a:lnTo>
                  <a:lnTo>
                    <a:pt x="1013" y="2115"/>
                  </a:lnTo>
                  <a:lnTo>
                    <a:pt x="1008" y="2115"/>
                  </a:lnTo>
                  <a:lnTo>
                    <a:pt x="1008" y="2128"/>
                  </a:lnTo>
                  <a:lnTo>
                    <a:pt x="1003" y="2128"/>
                  </a:lnTo>
                  <a:lnTo>
                    <a:pt x="1003" y="2145"/>
                  </a:lnTo>
                  <a:lnTo>
                    <a:pt x="999" y="2145"/>
                  </a:lnTo>
                  <a:lnTo>
                    <a:pt x="999" y="2158"/>
                  </a:lnTo>
                  <a:lnTo>
                    <a:pt x="993" y="2158"/>
                  </a:lnTo>
                  <a:lnTo>
                    <a:pt x="993" y="2164"/>
                  </a:lnTo>
                  <a:lnTo>
                    <a:pt x="989" y="2164"/>
                  </a:lnTo>
                  <a:lnTo>
                    <a:pt x="989" y="2175"/>
                  </a:lnTo>
                  <a:lnTo>
                    <a:pt x="984" y="2175"/>
                  </a:lnTo>
                  <a:lnTo>
                    <a:pt x="984" y="2181"/>
                  </a:lnTo>
                  <a:lnTo>
                    <a:pt x="979" y="2181"/>
                  </a:lnTo>
                  <a:lnTo>
                    <a:pt x="979" y="2192"/>
                  </a:lnTo>
                  <a:lnTo>
                    <a:pt x="974" y="2192"/>
                  </a:lnTo>
                  <a:lnTo>
                    <a:pt x="974" y="2205"/>
                  </a:lnTo>
                  <a:lnTo>
                    <a:pt x="970" y="2205"/>
                  </a:lnTo>
                  <a:lnTo>
                    <a:pt x="970" y="2216"/>
                  </a:lnTo>
                  <a:lnTo>
                    <a:pt x="965" y="2216"/>
                  </a:lnTo>
                  <a:lnTo>
                    <a:pt x="965" y="2229"/>
                  </a:lnTo>
                  <a:lnTo>
                    <a:pt x="960" y="2229"/>
                  </a:lnTo>
                  <a:lnTo>
                    <a:pt x="960" y="2234"/>
                  </a:lnTo>
                  <a:lnTo>
                    <a:pt x="956" y="2234"/>
                  </a:lnTo>
                  <a:lnTo>
                    <a:pt x="956" y="2246"/>
                  </a:lnTo>
                  <a:lnTo>
                    <a:pt x="951" y="2246"/>
                  </a:lnTo>
                  <a:lnTo>
                    <a:pt x="951" y="2264"/>
                  </a:lnTo>
                  <a:lnTo>
                    <a:pt x="946" y="2264"/>
                  </a:lnTo>
                  <a:lnTo>
                    <a:pt x="946" y="2282"/>
                  </a:lnTo>
                  <a:lnTo>
                    <a:pt x="941" y="2282"/>
                  </a:lnTo>
                  <a:lnTo>
                    <a:pt x="941" y="2300"/>
                  </a:lnTo>
                  <a:lnTo>
                    <a:pt x="937" y="2300"/>
                  </a:lnTo>
                  <a:lnTo>
                    <a:pt x="937" y="2317"/>
                  </a:lnTo>
                  <a:lnTo>
                    <a:pt x="931" y="2317"/>
                  </a:lnTo>
                  <a:lnTo>
                    <a:pt x="931" y="2328"/>
                  </a:lnTo>
                  <a:lnTo>
                    <a:pt x="926" y="2328"/>
                  </a:lnTo>
                  <a:lnTo>
                    <a:pt x="926" y="2341"/>
                  </a:lnTo>
                  <a:lnTo>
                    <a:pt x="922" y="2341"/>
                  </a:lnTo>
                  <a:lnTo>
                    <a:pt x="922" y="2346"/>
                  </a:lnTo>
                  <a:lnTo>
                    <a:pt x="917" y="2346"/>
                  </a:lnTo>
                  <a:lnTo>
                    <a:pt x="917" y="2358"/>
                  </a:lnTo>
                  <a:lnTo>
                    <a:pt x="912" y="2358"/>
                  </a:lnTo>
                  <a:lnTo>
                    <a:pt x="912" y="2370"/>
                  </a:lnTo>
                  <a:lnTo>
                    <a:pt x="908" y="2370"/>
                  </a:lnTo>
                  <a:lnTo>
                    <a:pt x="908" y="2376"/>
                  </a:lnTo>
                  <a:lnTo>
                    <a:pt x="903" y="2376"/>
                  </a:lnTo>
                  <a:lnTo>
                    <a:pt x="903" y="2387"/>
                  </a:lnTo>
                  <a:lnTo>
                    <a:pt x="898" y="2387"/>
                  </a:lnTo>
                  <a:lnTo>
                    <a:pt x="898" y="2400"/>
                  </a:lnTo>
                  <a:lnTo>
                    <a:pt x="893" y="2400"/>
                  </a:lnTo>
                  <a:lnTo>
                    <a:pt x="893" y="2405"/>
                  </a:lnTo>
                  <a:lnTo>
                    <a:pt x="889" y="2405"/>
                  </a:lnTo>
                  <a:lnTo>
                    <a:pt x="889" y="2411"/>
                  </a:lnTo>
                  <a:lnTo>
                    <a:pt x="883" y="2411"/>
                  </a:lnTo>
                  <a:lnTo>
                    <a:pt x="883" y="2417"/>
                  </a:lnTo>
                  <a:lnTo>
                    <a:pt x="879" y="2417"/>
                  </a:lnTo>
                  <a:lnTo>
                    <a:pt x="879" y="2423"/>
                  </a:lnTo>
                  <a:lnTo>
                    <a:pt x="875" y="2423"/>
                  </a:lnTo>
                  <a:lnTo>
                    <a:pt x="875" y="2428"/>
                  </a:lnTo>
                  <a:lnTo>
                    <a:pt x="865" y="2428"/>
                  </a:lnTo>
                  <a:lnTo>
                    <a:pt x="865" y="2436"/>
                  </a:lnTo>
                  <a:lnTo>
                    <a:pt x="859" y="2436"/>
                  </a:lnTo>
                  <a:lnTo>
                    <a:pt x="859" y="2446"/>
                  </a:lnTo>
                  <a:lnTo>
                    <a:pt x="845" y="2446"/>
                  </a:lnTo>
                  <a:lnTo>
                    <a:pt x="845" y="2453"/>
                  </a:lnTo>
                  <a:lnTo>
                    <a:pt x="841" y="2453"/>
                  </a:lnTo>
                  <a:lnTo>
                    <a:pt x="841" y="2458"/>
                  </a:lnTo>
                  <a:lnTo>
                    <a:pt x="821" y="2458"/>
                  </a:lnTo>
                  <a:lnTo>
                    <a:pt x="821" y="2464"/>
                  </a:lnTo>
                  <a:lnTo>
                    <a:pt x="812" y="2464"/>
                  </a:lnTo>
                  <a:lnTo>
                    <a:pt x="812" y="2458"/>
                  </a:lnTo>
                  <a:lnTo>
                    <a:pt x="793" y="2458"/>
                  </a:lnTo>
                  <a:lnTo>
                    <a:pt x="793" y="2453"/>
                  </a:lnTo>
                  <a:lnTo>
                    <a:pt x="787" y="2453"/>
                  </a:lnTo>
                  <a:lnTo>
                    <a:pt x="787" y="2446"/>
                  </a:lnTo>
                  <a:lnTo>
                    <a:pt x="782" y="2446"/>
                  </a:lnTo>
                  <a:lnTo>
                    <a:pt x="782" y="2441"/>
                  </a:lnTo>
                  <a:lnTo>
                    <a:pt x="778" y="2441"/>
                  </a:lnTo>
                  <a:lnTo>
                    <a:pt x="778" y="2436"/>
                  </a:lnTo>
                  <a:lnTo>
                    <a:pt x="772" y="2436"/>
                  </a:lnTo>
                  <a:lnTo>
                    <a:pt x="772" y="2428"/>
                  </a:lnTo>
                  <a:lnTo>
                    <a:pt x="768" y="2428"/>
                  </a:lnTo>
                  <a:lnTo>
                    <a:pt x="768" y="2423"/>
                  </a:lnTo>
                  <a:lnTo>
                    <a:pt x="763" y="2423"/>
                  </a:lnTo>
                  <a:lnTo>
                    <a:pt x="763" y="2417"/>
                  </a:lnTo>
                  <a:lnTo>
                    <a:pt x="759" y="2417"/>
                  </a:lnTo>
                  <a:lnTo>
                    <a:pt x="759" y="2411"/>
                  </a:lnTo>
                  <a:lnTo>
                    <a:pt x="754" y="2411"/>
                  </a:lnTo>
                  <a:lnTo>
                    <a:pt x="754" y="2405"/>
                  </a:lnTo>
                  <a:lnTo>
                    <a:pt x="749" y="2405"/>
                  </a:lnTo>
                  <a:lnTo>
                    <a:pt x="749" y="2400"/>
                  </a:lnTo>
                  <a:lnTo>
                    <a:pt x="745" y="2400"/>
                  </a:lnTo>
                  <a:lnTo>
                    <a:pt x="745" y="2395"/>
                  </a:lnTo>
                  <a:lnTo>
                    <a:pt x="739" y="2395"/>
                  </a:lnTo>
                  <a:lnTo>
                    <a:pt x="739" y="2387"/>
                  </a:lnTo>
                  <a:lnTo>
                    <a:pt x="735" y="2387"/>
                  </a:lnTo>
                  <a:lnTo>
                    <a:pt x="735" y="2382"/>
                  </a:lnTo>
                  <a:lnTo>
                    <a:pt x="725" y="2382"/>
                  </a:lnTo>
                  <a:lnTo>
                    <a:pt x="725" y="2376"/>
                  </a:lnTo>
                  <a:lnTo>
                    <a:pt x="720" y="2376"/>
                  </a:lnTo>
                  <a:lnTo>
                    <a:pt x="720" y="2365"/>
                  </a:lnTo>
                  <a:lnTo>
                    <a:pt x="715" y="2365"/>
                  </a:lnTo>
                  <a:lnTo>
                    <a:pt x="715" y="2352"/>
                  </a:lnTo>
                  <a:lnTo>
                    <a:pt x="710" y="2352"/>
                  </a:lnTo>
                  <a:lnTo>
                    <a:pt x="710" y="2346"/>
                  </a:lnTo>
                  <a:lnTo>
                    <a:pt x="705" y="2346"/>
                  </a:lnTo>
                  <a:lnTo>
                    <a:pt x="705" y="2341"/>
                  </a:lnTo>
                  <a:lnTo>
                    <a:pt x="701" y="2341"/>
                  </a:lnTo>
                  <a:lnTo>
                    <a:pt x="701" y="2335"/>
                  </a:lnTo>
                  <a:lnTo>
                    <a:pt x="696" y="2335"/>
                  </a:lnTo>
                  <a:lnTo>
                    <a:pt x="696" y="2328"/>
                  </a:lnTo>
                  <a:lnTo>
                    <a:pt x="691" y="2328"/>
                  </a:lnTo>
                  <a:lnTo>
                    <a:pt x="691" y="2323"/>
                  </a:lnTo>
                  <a:lnTo>
                    <a:pt x="686" y="2323"/>
                  </a:lnTo>
                  <a:lnTo>
                    <a:pt x="686" y="2317"/>
                  </a:lnTo>
                  <a:lnTo>
                    <a:pt x="677" y="2317"/>
                  </a:lnTo>
                  <a:lnTo>
                    <a:pt x="677" y="2311"/>
                  </a:lnTo>
                  <a:lnTo>
                    <a:pt x="672" y="2311"/>
                  </a:lnTo>
                  <a:lnTo>
                    <a:pt x="672" y="2300"/>
                  </a:lnTo>
                  <a:lnTo>
                    <a:pt x="668" y="2300"/>
                  </a:lnTo>
                  <a:lnTo>
                    <a:pt x="668" y="2292"/>
                  </a:lnTo>
                  <a:lnTo>
                    <a:pt x="663" y="2292"/>
                  </a:lnTo>
                  <a:lnTo>
                    <a:pt x="663" y="2287"/>
                  </a:lnTo>
                  <a:lnTo>
                    <a:pt x="658" y="2287"/>
                  </a:lnTo>
                  <a:lnTo>
                    <a:pt x="658" y="2282"/>
                  </a:lnTo>
                  <a:lnTo>
                    <a:pt x="653" y="2282"/>
                  </a:lnTo>
                  <a:lnTo>
                    <a:pt x="653" y="2276"/>
                  </a:lnTo>
                  <a:lnTo>
                    <a:pt x="649" y="2276"/>
                  </a:lnTo>
                  <a:lnTo>
                    <a:pt x="649" y="2264"/>
                  </a:lnTo>
                  <a:lnTo>
                    <a:pt x="642" y="2264"/>
                  </a:lnTo>
                  <a:lnTo>
                    <a:pt x="642" y="2259"/>
                  </a:lnTo>
                  <a:lnTo>
                    <a:pt x="638" y="2259"/>
                  </a:lnTo>
                  <a:lnTo>
                    <a:pt x="638" y="2251"/>
                  </a:lnTo>
                  <a:lnTo>
                    <a:pt x="633" y="2251"/>
                  </a:lnTo>
                  <a:lnTo>
                    <a:pt x="633" y="2246"/>
                  </a:lnTo>
                  <a:lnTo>
                    <a:pt x="628" y="2246"/>
                  </a:lnTo>
                  <a:lnTo>
                    <a:pt x="628" y="2240"/>
                  </a:lnTo>
                  <a:lnTo>
                    <a:pt x="624" y="2240"/>
                  </a:lnTo>
                  <a:lnTo>
                    <a:pt x="624" y="2229"/>
                  </a:lnTo>
                  <a:lnTo>
                    <a:pt x="619" y="2229"/>
                  </a:lnTo>
                  <a:lnTo>
                    <a:pt x="619" y="2222"/>
                  </a:lnTo>
                  <a:lnTo>
                    <a:pt x="615" y="2222"/>
                  </a:lnTo>
                  <a:lnTo>
                    <a:pt x="615" y="2216"/>
                  </a:lnTo>
                  <a:lnTo>
                    <a:pt x="605" y="2216"/>
                  </a:lnTo>
                  <a:lnTo>
                    <a:pt x="605" y="2210"/>
                  </a:lnTo>
                  <a:lnTo>
                    <a:pt x="600" y="2210"/>
                  </a:lnTo>
                  <a:lnTo>
                    <a:pt x="600" y="2199"/>
                  </a:lnTo>
                  <a:lnTo>
                    <a:pt x="595" y="2199"/>
                  </a:lnTo>
                  <a:lnTo>
                    <a:pt x="595" y="2192"/>
                  </a:lnTo>
                  <a:lnTo>
                    <a:pt x="591" y="2192"/>
                  </a:lnTo>
                  <a:lnTo>
                    <a:pt x="591" y="2186"/>
                  </a:lnTo>
                  <a:lnTo>
                    <a:pt x="586" y="2186"/>
                  </a:lnTo>
                  <a:lnTo>
                    <a:pt x="586" y="2181"/>
                  </a:lnTo>
                  <a:lnTo>
                    <a:pt x="581" y="2181"/>
                  </a:lnTo>
                  <a:lnTo>
                    <a:pt x="581" y="2169"/>
                  </a:lnTo>
                  <a:lnTo>
                    <a:pt x="577" y="2169"/>
                  </a:lnTo>
                  <a:lnTo>
                    <a:pt x="577" y="2164"/>
                  </a:lnTo>
                  <a:lnTo>
                    <a:pt x="571" y="2164"/>
                  </a:lnTo>
                  <a:lnTo>
                    <a:pt x="571" y="2158"/>
                  </a:lnTo>
                  <a:lnTo>
                    <a:pt x="566" y="2158"/>
                  </a:lnTo>
                  <a:lnTo>
                    <a:pt x="566" y="2145"/>
                  </a:lnTo>
                  <a:lnTo>
                    <a:pt x="561" y="2145"/>
                  </a:lnTo>
                  <a:lnTo>
                    <a:pt x="561" y="2140"/>
                  </a:lnTo>
                  <a:lnTo>
                    <a:pt x="557" y="2140"/>
                  </a:lnTo>
                  <a:lnTo>
                    <a:pt x="557" y="2133"/>
                  </a:lnTo>
                  <a:lnTo>
                    <a:pt x="552" y="2133"/>
                  </a:lnTo>
                  <a:lnTo>
                    <a:pt x="552" y="2115"/>
                  </a:lnTo>
                  <a:lnTo>
                    <a:pt x="547" y="2115"/>
                  </a:lnTo>
                  <a:lnTo>
                    <a:pt x="547" y="2110"/>
                  </a:lnTo>
                  <a:lnTo>
                    <a:pt x="542" y="2110"/>
                  </a:lnTo>
                  <a:lnTo>
                    <a:pt x="542" y="2104"/>
                  </a:lnTo>
                  <a:lnTo>
                    <a:pt x="538" y="2104"/>
                  </a:lnTo>
                  <a:lnTo>
                    <a:pt x="538" y="2099"/>
                  </a:lnTo>
                  <a:lnTo>
                    <a:pt x="533" y="2099"/>
                  </a:lnTo>
                  <a:lnTo>
                    <a:pt x="533" y="2091"/>
                  </a:lnTo>
                  <a:lnTo>
                    <a:pt x="528" y="2091"/>
                  </a:lnTo>
                  <a:lnTo>
                    <a:pt x="528" y="2086"/>
                  </a:lnTo>
                  <a:lnTo>
                    <a:pt x="524" y="2086"/>
                  </a:lnTo>
                  <a:lnTo>
                    <a:pt x="524" y="2080"/>
                  </a:lnTo>
                  <a:lnTo>
                    <a:pt x="519" y="2080"/>
                  </a:lnTo>
                  <a:lnTo>
                    <a:pt x="519" y="2069"/>
                  </a:lnTo>
                  <a:lnTo>
                    <a:pt x="509" y="2069"/>
                  </a:lnTo>
                  <a:lnTo>
                    <a:pt x="509" y="2063"/>
                  </a:lnTo>
                  <a:lnTo>
                    <a:pt x="505" y="2063"/>
                  </a:lnTo>
                  <a:lnTo>
                    <a:pt x="505" y="2050"/>
                  </a:lnTo>
                  <a:lnTo>
                    <a:pt x="499" y="2050"/>
                  </a:lnTo>
                  <a:lnTo>
                    <a:pt x="499" y="2033"/>
                  </a:lnTo>
                  <a:lnTo>
                    <a:pt x="494" y="2033"/>
                  </a:lnTo>
                  <a:lnTo>
                    <a:pt x="494" y="2028"/>
                  </a:lnTo>
                  <a:lnTo>
                    <a:pt x="490" y="2028"/>
                  </a:lnTo>
                  <a:lnTo>
                    <a:pt x="490" y="2021"/>
                  </a:lnTo>
                  <a:lnTo>
                    <a:pt x="484" y="2021"/>
                  </a:lnTo>
                  <a:lnTo>
                    <a:pt x="484" y="2009"/>
                  </a:lnTo>
                  <a:lnTo>
                    <a:pt x="480" y="2009"/>
                  </a:lnTo>
                  <a:lnTo>
                    <a:pt x="480" y="1997"/>
                  </a:lnTo>
                  <a:lnTo>
                    <a:pt x="475" y="1997"/>
                  </a:lnTo>
                  <a:lnTo>
                    <a:pt x="475" y="1992"/>
                  </a:lnTo>
                  <a:lnTo>
                    <a:pt x="471" y="1992"/>
                  </a:lnTo>
                  <a:lnTo>
                    <a:pt x="471" y="1985"/>
                  </a:lnTo>
                  <a:lnTo>
                    <a:pt x="465" y="1985"/>
                  </a:lnTo>
                  <a:lnTo>
                    <a:pt x="465" y="1974"/>
                  </a:lnTo>
                  <a:lnTo>
                    <a:pt x="461" y="1974"/>
                  </a:lnTo>
                  <a:lnTo>
                    <a:pt x="461" y="1968"/>
                  </a:lnTo>
                  <a:lnTo>
                    <a:pt x="457" y="1968"/>
                  </a:lnTo>
                  <a:lnTo>
                    <a:pt x="457" y="1955"/>
                  </a:lnTo>
                  <a:lnTo>
                    <a:pt x="451" y="1955"/>
                  </a:lnTo>
                  <a:lnTo>
                    <a:pt x="451" y="1950"/>
                  </a:lnTo>
                  <a:lnTo>
                    <a:pt x="447" y="1950"/>
                  </a:lnTo>
                  <a:lnTo>
                    <a:pt x="447" y="1938"/>
                  </a:lnTo>
                  <a:lnTo>
                    <a:pt x="442" y="1938"/>
                  </a:lnTo>
                  <a:lnTo>
                    <a:pt x="442" y="1927"/>
                  </a:lnTo>
                  <a:lnTo>
                    <a:pt x="437" y="1927"/>
                  </a:lnTo>
                  <a:lnTo>
                    <a:pt x="437" y="1915"/>
                  </a:lnTo>
                  <a:lnTo>
                    <a:pt x="432" y="1915"/>
                  </a:lnTo>
                  <a:lnTo>
                    <a:pt x="432" y="1909"/>
                  </a:lnTo>
                  <a:lnTo>
                    <a:pt x="427" y="1909"/>
                  </a:lnTo>
                  <a:lnTo>
                    <a:pt x="427" y="1904"/>
                  </a:lnTo>
                  <a:lnTo>
                    <a:pt x="422" y="1904"/>
                  </a:lnTo>
                  <a:lnTo>
                    <a:pt x="422" y="1892"/>
                  </a:lnTo>
                  <a:lnTo>
                    <a:pt x="417" y="1892"/>
                  </a:lnTo>
                  <a:lnTo>
                    <a:pt x="417" y="1885"/>
                  </a:lnTo>
                  <a:lnTo>
                    <a:pt x="413" y="1885"/>
                  </a:lnTo>
                  <a:lnTo>
                    <a:pt x="413" y="1879"/>
                  </a:lnTo>
                  <a:lnTo>
                    <a:pt x="408" y="1879"/>
                  </a:lnTo>
                  <a:lnTo>
                    <a:pt x="408" y="1868"/>
                  </a:lnTo>
                  <a:lnTo>
                    <a:pt x="403" y="1868"/>
                  </a:lnTo>
                  <a:lnTo>
                    <a:pt x="403" y="1856"/>
                  </a:lnTo>
                  <a:lnTo>
                    <a:pt x="398" y="1856"/>
                  </a:lnTo>
                  <a:lnTo>
                    <a:pt x="398" y="1851"/>
                  </a:lnTo>
                  <a:lnTo>
                    <a:pt x="394" y="1851"/>
                  </a:lnTo>
                  <a:lnTo>
                    <a:pt x="394" y="1838"/>
                  </a:lnTo>
                  <a:lnTo>
                    <a:pt x="388" y="1838"/>
                  </a:lnTo>
                  <a:lnTo>
                    <a:pt x="388" y="1832"/>
                  </a:lnTo>
                  <a:lnTo>
                    <a:pt x="384" y="1832"/>
                  </a:lnTo>
                  <a:lnTo>
                    <a:pt x="384" y="1814"/>
                  </a:lnTo>
                  <a:lnTo>
                    <a:pt x="379" y="1814"/>
                  </a:lnTo>
                  <a:lnTo>
                    <a:pt x="379" y="1809"/>
                  </a:lnTo>
                  <a:lnTo>
                    <a:pt x="375" y="1809"/>
                  </a:lnTo>
                  <a:lnTo>
                    <a:pt x="375" y="1803"/>
                  </a:lnTo>
                  <a:lnTo>
                    <a:pt x="370" y="1803"/>
                  </a:lnTo>
                  <a:lnTo>
                    <a:pt x="370" y="1791"/>
                  </a:lnTo>
                  <a:lnTo>
                    <a:pt x="365" y="1791"/>
                  </a:lnTo>
                  <a:lnTo>
                    <a:pt x="365" y="1786"/>
                  </a:lnTo>
                  <a:lnTo>
                    <a:pt x="361" y="1786"/>
                  </a:lnTo>
                  <a:lnTo>
                    <a:pt x="361" y="1773"/>
                  </a:lnTo>
                  <a:lnTo>
                    <a:pt x="350" y="1773"/>
                  </a:lnTo>
                  <a:lnTo>
                    <a:pt x="350" y="1767"/>
                  </a:lnTo>
                  <a:lnTo>
                    <a:pt x="345" y="1767"/>
                  </a:lnTo>
                  <a:lnTo>
                    <a:pt x="345" y="1761"/>
                  </a:lnTo>
                  <a:lnTo>
                    <a:pt x="340" y="1761"/>
                  </a:lnTo>
                  <a:lnTo>
                    <a:pt x="340" y="1756"/>
                  </a:lnTo>
                  <a:lnTo>
                    <a:pt x="335" y="1756"/>
                  </a:lnTo>
                  <a:lnTo>
                    <a:pt x="335" y="1743"/>
                  </a:lnTo>
                  <a:lnTo>
                    <a:pt x="331" y="1743"/>
                  </a:lnTo>
                  <a:lnTo>
                    <a:pt x="331" y="1737"/>
                  </a:lnTo>
                  <a:lnTo>
                    <a:pt x="326" y="1737"/>
                  </a:lnTo>
                  <a:lnTo>
                    <a:pt x="326" y="1726"/>
                  </a:lnTo>
                  <a:lnTo>
                    <a:pt x="321" y="1726"/>
                  </a:lnTo>
                  <a:lnTo>
                    <a:pt x="321" y="1713"/>
                  </a:lnTo>
                  <a:lnTo>
                    <a:pt x="317" y="1713"/>
                  </a:lnTo>
                  <a:lnTo>
                    <a:pt x="317" y="1702"/>
                  </a:lnTo>
                  <a:lnTo>
                    <a:pt x="312" y="1702"/>
                  </a:lnTo>
                  <a:lnTo>
                    <a:pt x="312" y="1691"/>
                  </a:lnTo>
                  <a:lnTo>
                    <a:pt x="307" y="1691"/>
                  </a:lnTo>
                  <a:lnTo>
                    <a:pt x="307" y="1685"/>
                  </a:lnTo>
                  <a:lnTo>
                    <a:pt x="302" y="1685"/>
                  </a:lnTo>
                  <a:lnTo>
                    <a:pt x="302" y="1672"/>
                  </a:lnTo>
                  <a:lnTo>
                    <a:pt x="298" y="1672"/>
                  </a:lnTo>
                  <a:lnTo>
                    <a:pt x="298" y="1661"/>
                  </a:lnTo>
                  <a:lnTo>
                    <a:pt x="293" y="1661"/>
                  </a:lnTo>
                  <a:lnTo>
                    <a:pt x="293" y="1655"/>
                  </a:lnTo>
                  <a:lnTo>
                    <a:pt x="288" y="1655"/>
                  </a:lnTo>
                  <a:lnTo>
                    <a:pt x="288" y="1642"/>
                  </a:lnTo>
                  <a:lnTo>
                    <a:pt x="283" y="1642"/>
                  </a:lnTo>
                  <a:lnTo>
                    <a:pt x="283" y="1631"/>
                  </a:lnTo>
                  <a:lnTo>
                    <a:pt x="278" y="1631"/>
                  </a:lnTo>
                  <a:lnTo>
                    <a:pt x="278" y="1626"/>
                  </a:lnTo>
                  <a:lnTo>
                    <a:pt x="273" y="1626"/>
                  </a:lnTo>
                  <a:lnTo>
                    <a:pt x="273" y="1613"/>
                  </a:lnTo>
                  <a:lnTo>
                    <a:pt x="268" y="1613"/>
                  </a:lnTo>
                  <a:lnTo>
                    <a:pt x="268" y="1601"/>
                  </a:lnTo>
                  <a:lnTo>
                    <a:pt x="264" y="1601"/>
                  </a:lnTo>
                  <a:lnTo>
                    <a:pt x="264" y="1596"/>
                  </a:lnTo>
                  <a:lnTo>
                    <a:pt x="258" y="1596"/>
                  </a:lnTo>
                  <a:lnTo>
                    <a:pt x="258" y="1583"/>
                  </a:lnTo>
                  <a:lnTo>
                    <a:pt x="254" y="1583"/>
                  </a:lnTo>
                  <a:lnTo>
                    <a:pt x="254" y="1577"/>
                  </a:lnTo>
                  <a:lnTo>
                    <a:pt x="250" y="1577"/>
                  </a:lnTo>
                  <a:lnTo>
                    <a:pt x="250" y="1566"/>
                  </a:lnTo>
                  <a:lnTo>
                    <a:pt x="244" y="1566"/>
                  </a:lnTo>
                  <a:lnTo>
                    <a:pt x="244" y="1560"/>
                  </a:lnTo>
                  <a:lnTo>
                    <a:pt x="240" y="1560"/>
                  </a:lnTo>
                  <a:lnTo>
                    <a:pt x="240" y="1555"/>
                  </a:lnTo>
                  <a:lnTo>
                    <a:pt x="235" y="1555"/>
                  </a:lnTo>
                  <a:lnTo>
                    <a:pt x="235" y="1542"/>
                  </a:lnTo>
                  <a:lnTo>
                    <a:pt x="231" y="1542"/>
                  </a:lnTo>
                  <a:lnTo>
                    <a:pt x="231" y="1536"/>
                  </a:lnTo>
                  <a:lnTo>
                    <a:pt x="226" y="1536"/>
                  </a:lnTo>
                  <a:lnTo>
                    <a:pt x="226" y="1531"/>
                  </a:lnTo>
                  <a:lnTo>
                    <a:pt x="221" y="1531"/>
                  </a:lnTo>
                  <a:lnTo>
                    <a:pt x="221" y="1519"/>
                  </a:lnTo>
                  <a:lnTo>
                    <a:pt x="217" y="1519"/>
                  </a:lnTo>
                  <a:lnTo>
                    <a:pt x="217" y="1514"/>
                  </a:lnTo>
                  <a:lnTo>
                    <a:pt x="210" y="1514"/>
                  </a:lnTo>
                  <a:lnTo>
                    <a:pt x="210" y="1501"/>
                  </a:lnTo>
                  <a:lnTo>
                    <a:pt x="206" y="1501"/>
                  </a:lnTo>
                  <a:lnTo>
                    <a:pt x="206" y="1496"/>
                  </a:lnTo>
                  <a:lnTo>
                    <a:pt x="201" y="1496"/>
                  </a:lnTo>
                  <a:lnTo>
                    <a:pt x="201" y="1490"/>
                  </a:lnTo>
                  <a:lnTo>
                    <a:pt x="196" y="1490"/>
                  </a:lnTo>
                  <a:lnTo>
                    <a:pt x="196" y="1477"/>
                  </a:lnTo>
                  <a:lnTo>
                    <a:pt x="192" y="1477"/>
                  </a:lnTo>
                  <a:lnTo>
                    <a:pt x="192" y="1465"/>
                  </a:lnTo>
                  <a:lnTo>
                    <a:pt x="187" y="1465"/>
                  </a:lnTo>
                  <a:lnTo>
                    <a:pt x="187" y="1454"/>
                  </a:lnTo>
                  <a:lnTo>
                    <a:pt x="182" y="1454"/>
                  </a:lnTo>
                  <a:lnTo>
                    <a:pt x="182" y="1449"/>
                  </a:lnTo>
                  <a:lnTo>
                    <a:pt x="177" y="1449"/>
                  </a:lnTo>
                  <a:lnTo>
                    <a:pt x="177" y="1442"/>
                  </a:lnTo>
                  <a:lnTo>
                    <a:pt x="173" y="1442"/>
                  </a:lnTo>
                  <a:lnTo>
                    <a:pt x="173" y="1424"/>
                  </a:lnTo>
                  <a:lnTo>
                    <a:pt x="168" y="1424"/>
                  </a:lnTo>
                  <a:lnTo>
                    <a:pt x="168" y="1406"/>
                  </a:lnTo>
                  <a:lnTo>
                    <a:pt x="163" y="1406"/>
                  </a:lnTo>
                  <a:lnTo>
                    <a:pt x="163" y="1389"/>
                  </a:lnTo>
                  <a:lnTo>
                    <a:pt x="159" y="1389"/>
                  </a:lnTo>
                  <a:lnTo>
                    <a:pt x="159" y="1371"/>
                  </a:lnTo>
                  <a:lnTo>
                    <a:pt x="154" y="1371"/>
                  </a:lnTo>
                  <a:lnTo>
                    <a:pt x="154" y="1359"/>
                  </a:lnTo>
                  <a:lnTo>
                    <a:pt x="149" y="1359"/>
                  </a:lnTo>
                  <a:lnTo>
                    <a:pt x="149" y="1341"/>
                  </a:lnTo>
                  <a:lnTo>
                    <a:pt x="144" y="1341"/>
                  </a:lnTo>
                  <a:lnTo>
                    <a:pt x="144" y="1318"/>
                  </a:lnTo>
                  <a:lnTo>
                    <a:pt x="139" y="1318"/>
                  </a:lnTo>
                  <a:lnTo>
                    <a:pt x="139" y="1295"/>
                  </a:lnTo>
                  <a:lnTo>
                    <a:pt x="134" y="1295"/>
                  </a:lnTo>
                  <a:lnTo>
                    <a:pt x="134" y="1277"/>
                  </a:lnTo>
                  <a:lnTo>
                    <a:pt x="129" y="1277"/>
                  </a:lnTo>
                  <a:lnTo>
                    <a:pt x="129" y="1264"/>
                  </a:lnTo>
                  <a:lnTo>
                    <a:pt x="124" y="1264"/>
                  </a:lnTo>
                  <a:lnTo>
                    <a:pt x="124" y="1223"/>
                  </a:lnTo>
                  <a:lnTo>
                    <a:pt x="120" y="1223"/>
                  </a:lnTo>
                  <a:lnTo>
                    <a:pt x="120" y="1205"/>
                  </a:lnTo>
                  <a:lnTo>
                    <a:pt x="115" y="1205"/>
                  </a:lnTo>
                  <a:lnTo>
                    <a:pt x="115" y="1188"/>
                  </a:lnTo>
                  <a:lnTo>
                    <a:pt x="110" y="1188"/>
                  </a:lnTo>
                  <a:lnTo>
                    <a:pt x="110" y="1169"/>
                  </a:lnTo>
                  <a:lnTo>
                    <a:pt x="106" y="1169"/>
                  </a:lnTo>
                  <a:lnTo>
                    <a:pt x="106" y="1136"/>
                  </a:lnTo>
                  <a:lnTo>
                    <a:pt x="100" y="1136"/>
                  </a:lnTo>
                  <a:lnTo>
                    <a:pt x="100" y="1111"/>
                  </a:lnTo>
                  <a:lnTo>
                    <a:pt x="96" y="1111"/>
                  </a:lnTo>
                  <a:lnTo>
                    <a:pt x="96" y="1093"/>
                  </a:lnTo>
                  <a:lnTo>
                    <a:pt x="91" y="1093"/>
                  </a:lnTo>
                  <a:lnTo>
                    <a:pt x="91" y="1069"/>
                  </a:lnTo>
                  <a:lnTo>
                    <a:pt x="87" y="1069"/>
                  </a:lnTo>
                  <a:lnTo>
                    <a:pt x="87" y="1041"/>
                  </a:lnTo>
                  <a:lnTo>
                    <a:pt x="81" y="1041"/>
                  </a:lnTo>
                  <a:lnTo>
                    <a:pt x="81" y="1017"/>
                  </a:lnTo>
                  <a:lnTo>
                    <a:pt x="77" y="1017"/>
                  </a:lnTo>
                  <a:lnTo>
                    <a:pt x="77" y="981"/>
                  </a:lnTo>
                  <a:lnTo>
                    <a:pt x="73" y="981"/>
                  </a:lnTo>
                  <a:lnTo>
                    <a:pt x="73" y="958"/>
                  </a:lnTo>
                  <a:lnTo>
                    <a:pt x="66" y="958"/>
                  </a:lnTo>
                  <a:lnTo>
                    <a:pt x="66" y="928"/>
                  </a:lnTo>
                  <a:lnTo>
                    <a:pt x="62" y="928"/>
                  </a:lnTo>
                  <a:lnTo>
                    <a:pt x="62" y="898"/>
                  </a:lnTo>
                  <a:lnTo>
                    <a:pt x="57" y="898"/>
                  </a:lnTo>
                  <a:lnTo>
                    <a:pt x="57" y="851"/>
                  </a:lnTo>
                  <a:lnTo>
                    <a:pt x="52" y="851"/>
                  </a:lnTo>
                  <a:lnTo>
                    <a:pt x="52" y="810"/>
                  </a:lnTo>
                  <a:lnTo>
                    <a:pt x="47" y="810"/>
                  </a:lnTo>
                  <a:lnTo>
                    <a:pt x="47" y="762"/>
                  </a:lnTo>
                  <a:lnTo>
                    <a:pt x="43" y="762"/>
                  </a:lnTo>
                  <a:lnTo>
                    <a:pt x="43" y="721"/>
                  </a:lnTo>
                  <a:lnTo>
                    <a:pt x="38" y="721"/>
                  </a:lnTo>
                  <a:lnTo>
                    <a:pt x="38" y="685"/>
                  </a:lnTo>
                  <a:lnTo>
                    <a:pt x="33" y="685"/>
                  </a:lnTo>
                  <a:lnTo>
                    <a:pt x="33" y="638"/>
                  </a:lnTo>
                  <a:lnTo>
                    <a:pt x="29" y="638"/>
                  </a:lnTo>
                  <a:lnTo>
                    <a:pt x="29" y="604"/>
                  </a:lnTo>
                  <a:lnTo>
                    <a:pt x="24" y="604"/>
                  </a:lnTo>
                  <a:lnTo>
                    <a:pt x="24" y="573"/>
                  </a:lnTo>
                  <a:lnTo>
                    <a:pt x="19" y="573"/>
                  </a:lnTo>
                  <a:lnTo>
                    <a:pt x="19" y="538"/>
                  </a:lnTo>
                  <a:lnTo>
                    <a:pt x="14" y="538"/>
                  </a:lnTo>
                  <a:lnTo>
                    <a:pt x="14" y="527"/>
                  </a:lnTo>
                  <a:lnTo>
                    <a:pt x="10" y="527"/>
                  </a:lnTo>
                  <a:lnTo>
                    <a:pt x="10" y="478"/>
                  </a:lnTo>
                  <a:lnTo>
                    <a:pt x="4" y="478"/>
                  </a:lnTo>
                  <a:lnTo>
                    <a:pt x="4" y="419"/>
                  </a:lnTo>
                  <a:lnTo>
                    <a:pt x="0" y="419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6000" y="1595160"/>
              <a:ext cx="55080" cy="77040"/>
            </a:xfrm>
            <a:custGeom>
              <a:avLst/>
              <a:gdLst/>
              <a:ahLst/>
              <a:rect l="l" t="t" r="r" b="b"/>
              <a:pathLst>
                <a:path w="215" h="396">
                  <a:moveTo>
                    <a:pt x="0" y="385"/>
                  </a:moveTo>
                  <a:lnTo>
                    <a:pt x="4" y="385"/>
                  </a:lnTo>
                  <a:lnTo>
                    <a:pt x="4" y="372"/>
                  </a:lnTo>
                  <a:lnTo>
                    <a:pt x="9" y="372"/>
                  </a:lnTo>
                  <a:lnTo>
                    <a:pt x="9" y="355"/>
                  </a:lnTo>
                  <a:lnTo>
                    <a:pt x="14" y="355"/>
                  </a:lnTo>
                  <a:lnTo>
                    <a:pt x="14" y="336"/>
                  </a:lnTo>
                  <a:lnTo>
                    <a:pt x="18" y="336"/>
                  </a:lnTo>
                  <a:lnTo>
                    <a:pt x="18" y="314"/>
                  </a:lnTo>
                  <a:lnTo>
                    <a:pt x="23" y="314"/>
                  </a:lnTo>
                  <a:lnTo>
                    <a:pt x="23" y="284"/>
                  </a:lnTo>
                  <a:lnTo>
                    <a:pt x="28" y="284"/>
                  </a:lnTo>
                  <a:lnTo>
                    <a:pt x="28" y="236"/>
                  </a:lnTo>
                  <a:lnTo>
                    <a:pt x="43" y="236"/>
                  </a:lnTo>
                  <a:lnTo>
                    <a:pt x="43" y="241"/>
                  </a:lnTo>
                  <a:lnTo>
                    <a:pt x="53" y="241"/>
                  </a:lnTo>
                  <a:lnTo>
                    <a:pt x="53" y="249"/>
                  </a:lnTo>
                  <a:lnTo>
                    <a:pt x="76" y="249"/>
                  </a:lnTo>
                  <a:lnTo>
                    <a:pt x="76" y="241"/>
                  </a:lnTo>
                  <a:lnTo>
                    <a:pt x="81" y="241"/>
                  </a:lnTo>
                  <a:lnTo>
                    <a:pt x="81" y="236"/>
                  </a:lnTo>
                  <a:lnTo>
                    <a:pt x="86" y="236"/>
                  </a:lnTo>
                  <a:lnTo>
                    <a:pt x="86" y="225"/>
                  </a:lnTo>
                  <a:lnTo>
                    <a:pt x="90" y="225"/>
                  </a:lnTo>
                  <a:lnTo>
                    <a:pt x="90" y="213"/>
                  </a:lnTo>
                  <a:lnTo>
                    <a:pt x="95" y="213"/>
                  </a:lnTo>
                  <a:lnTo>
                    <a:pt x="95" y="200"/>
                  </a:lnTo>
                  <a:lnTo>
                    <a:pt x="100" y="200"/>
                  </a:lnTo>
                  <a:lnTo>
                    <a:pt x="100" y="171"/>
                  </a:lnTo>
                  <a:lnTo>
                    <a:pt x="95" y="171"/>
                  </a:lnTo>
                  <a:lnTo>
                    <a:pt x="95" y="159"/>
                  </a:lnTo>
                  <a:lnTo>
                    <a:pt x="148" y="159"/>
                  </a:lnTo>
                  <a:lnTo>
                    <a:pt x="148" y="154"/>
                  </a:lnTo>
                  <a:lnTo>
                    <a:pt x="152" y="154"/>
                  </a:lnTo>
                  <a:lnTo>
                    <a:pt x="152" y="148"/>
                  </a:lnTo>
                  <a:lnTo>
                    <a:pt x="158" y="148"/>
                  </a:lnTo>
                  <a:lnTo>
                    <a:pt x="158" y="141"/>
                  </a:lnTo>
                  <a:lnTo>
                    <a:pt x="162" y="141"/>
                  </a:lnTo>
                  <a:lnTo>
                    <a:pt x="162" y="135"/>
                  </a:lnTo>
                  <a:lnTo>
                    <a:pt x="167" y="135"/>
                  </a:lnTo>
                  <a:lnTo>
                    <a:pt x="167" y="124"/>
                  </a:lnTo>
                  <a:lnTo>
                    <a:pt x="172" y="124"/>
                  </a:lnTo>
                  <a:lnTo>
                    <a:pt x="172" y="113"/>
                  </a:lnTo>
                  <a:lnTo>
                    <a:pt x="177" y="113"/>
                  </a:lnTo>
                  <a:lnTo>
                    <a:pt x="177" y="94"/>
                  </a:lnTo>
                  <a:lnTo>
                    <a:pt x="182" y="94"/>
                  </a:lnTo>
                  <a:lnTo>
                    <a:pt x="182" y="82"/>
                  </a:lnTo>
                  <a:lnTo>
                    <a:pt x="187" y="82"/>
                  </a:lnTo>
                  <a:lnTo>
                    <a:pt x="187" y="59"/>
                  </a:lnTo>
                  <a:lnTo>
                    <a:pt x="192" y="59"/>
                  </a:lnTo>
                  <a:lnTo>
                    <a:pt x="192" y="42"/>
                  </a:lnTo>
                  <a:lnTo>
                    <a:pt x="196" y="4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15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06" y="23"/>
                  </a:lnTo>
                  <a:lnTo>
                    <a:pt x="206" y="48"/>
                  </a:lnTo>
                  <a:lnTo>
                    <a:pt x="201" y="48"/>
                  </a:lnTo>
                  <a:lnTo>
                    <a:pt x="201" y="64"/>
                  </a:lnTo>
                  <a:lnTo>
                    <a:pt x="196" y="64"/>
                  </a:lnTo>
                  <a:lnTo>
                    <a:pt x="196" y="89"/>
                  </a:lnTo>
                  <a:lnTo>
                    <a:pt x="192" y="89"/>
                  </a:lnTo>
                  <a:lnTo>
                    <a:pt x="192" y="100"/>
                  </a:lnTo>
                  <a:lnTo>
                    <a:pt x="187" y="100"/>
                  </a:lnTo>
                  <a:lnTo>
                    <a:pt x="187" y="118"/>
                  </a:lnTo>
                  <a:lnTo>
                    <a:pt x="182" y="118"/>
                  </a:lnTo>
                  <a:lnTo>
                    <a:pt x="182" y="130"/>
                  </a:lnTo>
                  <a:lnTo>
                    <a:pt x="177" y="130"/>
                  </a:lnTo>
                  <a:lnTo>
                    <a:pt x="177" y="141"/>
                  </a:lnTo>
                  <a:lnTo>
                    <a:pt x="172" y="141"/>
                  </a:lnTo>
                  <a:lnTo>
                    <a:pt x="172" y="148"/>
                  </a:lnTo>
                  <a:lnTo>
                    <a:pt x="167" y="148"/>
                  </a:lnTo>
                  <a:lnTo>
                    <a:pt x="167" y="159"/>
                  </a:lnTo>
                  <a:lnTo>
                    <a:pt x="162" y="159"/>
                  </a:lnTo>
                  <a:lnTo>
                    <a:pt x="162" y="165"/>
                  </a:lnTo>
                  <a:lnTo>
                    <a:pt x="158" y="165"/>
                  </a:lnTo>
                  <a:lnTo>
                    <a:pt x="158" y="171"/>
                  </a:lnTo>
                  <a:lnTo>
                    <a:pt x="148" y="171"/>
                  </a:lnTo>
                  <a:lnTo>
                    <a:pt x="148" y="176"/>
                  </a:lnTo>
                  <a:lnTo>
                    <a:pt x="138" y="176"/>
                  </a:lnTo>
                  <a:lnTo>
                    <a:pt x="138" y="183"/>
                  </a:lnTo>
                  <a:lnTo>
                    <a:pt x="129" y="183"/>
                  </a:lnTo>
                  <a:lnTo>
                    <a:pt x="129" y="176"/>
                  </a:lnTo>
                  <a:lnTo>
                    <a:pt x="115" y="176"/>
                  </a:lnTo>
                  <a:lnTo>
                    <a:pt x="115" y="183"/>
                  </a:lnTo>
                  <a:lnTo>
                    <a:pt x="111" y="183"/>
                  </a:lnTo>
                  <a:lnTo>
                    <a:pt x="111" y="208"/>
                  </a:lnTo>
                  <a:lnTo>
                    <a:pt x="104" y="208"/>
                  </a:lnTo>
                  <a:lnTo>
                    <a:pt x="104" y="225"/>
                  </a:lnTo>
                  <a:lnTo>
                    <a:pt x="100" y="225"/>
                  </a:lnTo>
                  <a:lnTo>
                    <a:pt x="100" y="236"/>
                  </a:lnTo>
                  <a:lnTo>
                    <a:pt x="95" y="236"/>
                  </a:lnTo>
                  <a:lnTo>
                    <a:pt x="95" y="249"/>
                  </a:lnTo>
                  <a:lnTo>
                    <a:pt x="90" y="249"/>
                  </a:lnTo>
                  <a:lnTo>
                    <a:pt x="90" y="254"/>
                  </a:lnTo>
                  <a:lnTo>
                    <a:pt x="86" y="254"/>
                  </a:lnTo>
                  <a:lnTo>
                    <a:pt x="86" y="260"/>
                  </a:lnTo>
                  <a:lnTo>
                    <a:pt x="76" y="260"/>
                  </a:lnTo>
                  <a:lnTo>
                    <a:pt x="76" y="266"/>
                  </a:lnTo>
                  <a:lnTo>
                    <a:pt x="38" y="266"/>
                  </a:lnTo>
                  <a:lnTo>
                    <a:pt x="38" y="301"/>
                  </a:lnTo>
                  <a:lnTo>
                    <a:pt x="33" y="301"/>
                  </a:lnTo>
                  <a:lnTo>
                    <a:pt x="33" y="326"/>
                  </a:lnTo>
                  <a:lnTo>
                    <a:pt x="28" y="326"/>
                  </a:lnTo>
                  <a:lnTo>
                    <a:pt x="28" y="349"/>
                  </a:lnTo>
                  <a:lnTo>
                    <a:pt x="23" y="349"/>
                  </a:lnTo>
                  <a:lnTo>
                    <a:pt x="23" y="367"/>
                  </a:lnTo>
                  <a:lnTo>
                    <a:pt x="18" y="367"/>
                  </a:lnTo>
                  <a:lnTo>
                    <a:pt x="18" y="377"/>
                  </a:lnTo>
                  <a:lnTo>
                    <a:pt x="14" y="377"/>
                  </a:lnTo>
                  <a:lnTo>
                    <a:pt x="14" y="390"/>
                  </a:lnTo>
                  <a:lnTo>
                    <a:pt x="9" y="390"/>
                  </a:lnTo>
                  <a:lnTo>
                    <a:pt x="9" y="396"/>
                  </a:lnTo>
                  <a:lnTo>
                    <a:pt x="0" y="396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51400" y="1802880"/>
              <a:ext cx="288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56800" y="3197520"/>
              <a:ext cx="793440" cy="307080"/>
            </a:xfrm>
            <a:custGeom>
              <a:avLst/>
              <a:gdLst/>
              <a:ahLst/>
              <a:rect l="l" t="t" r="r" b="b"/>
              <a:pathLst>
                <a:path w="3050" h="1577">
                  <a:moveTo>
                    <a:pt x="0" y="1526"/>
                  </a:moveTo>
                  <a:lnTo>
                    <a:pt x="5" y="1526"/>
                  </a:lnTo>
                  <a:lnTo>
                    <a:pt x="5" y="1519"/>
                  </a:lnTo>
                  <a:lnTo>
                    <a:pt x="14" y="1519"/>
                  </a:lnTo>
                  <a:lnTo>
                    <a:pt x="14" y="1514"/>
                  </a:lnTo>
                  <a:lnTo>
                    <a:pt x="19" y="1514"/>
                  </a:lnTo>
                  <a:lnTo>
                    <a:pt x="19" y="1509"/>
                  </a:lnTo>
                  <a:lnTo>
                    <a:pt x="28" y="1509"/>
                  </a:lnTo>
                  <a:lnTo>
                    <a:pt x="28" y="1501"/>
                  </a:lnTo>
                  <a:lnTo>
                    <a:pt x="33" y="1501"/>
                  </a:lnTo>
                  <a:lnTo>
                    <a:pt x="33" y="1496"/>
                  </a:lnTo>
                  <a:lnTo>
                    <a:pt x="38" y="1496"/>
                  </a:lnTo>
                  <a:lnTo>
                    <a:pt x="38" y="1490"/>
                  </a:lnTo>
                  <a:lnTo>
                    <a:pt x="43" y="1490"/>
                  </a:lnTo>
                  <a:lnTo>
                    <a:pt x="43" y="1485"/>
                  </a:lnTo>
                  <a:lnTo>
                    <a:pt x="57" y="1485"/>
                  </a:lnTo>
                  <a:lnTo>
                    <a:pt x="57" y="1477"/>
                  </a:lnTo>
                  <a:lnTo>
                    <a:pt x="61" y="1477"/>
                  </a:lnTo>
                  <a:lnTo>
                    <a:pt x="61" y="1472"/>
                  </a:lnTo>
                  <a:lnTo>
                    <a:pt x="72" y="1472"/>
                  </a:lnTo>
                  <a:lnTo>
                    <a:pt x="72" y="1466"/>
                  </a:lnTo>
                  <a:lnTo>
                    <a:pt x="82" y="1466"/>
                  </a:lnTo>
                  <a:lnTo>
                    <a:pt x="82" y="1460"/>
                  </a:lnTo>
                  <a:lnTo>
                    <a:pt x="95" y="1460"/>
                  </a:lnTo>
                  <a:lnTo>
                    <a:pt x="95" y="1455"/>
                  </a:lnTo>
                  <a:lnTo>
                    <a:pt x="109" y="1455"/>
                  </a:lnTo>
                  <a:lnTo>
                    <a:pt x="109" y="1449"/>
                  </a:lnTo>
                  <a:lnTo>
                    <a:pt x="115" y="1449"/>
                  </a:lnTo>
                  <a:lnTo>
                    <a:pt x="115" y="1442"/>
                  </a:lnTo>
                  <a:lnTo>
                    <a:pt x="124" y="1442"/>
                  </a:lnTo>
                  <a:lnTo>
                    <a:pt x="124" y="1431"/>
                  </a:lnTo>
                  <a:lnTo>
                    <a:pt x="129" y="1431"/>
                  </a:lnTo>
                  <a:lnTo>
                    <a:pt x="129" y="1425"/>
                  </a:lnTo>
                  <a:lnTo>
                    <a:pt x="144" y="1425"/>
                  </a:lnTo>
                  <a:lnTo>
                    <a:pt x="144" y="1419"/>
                  </a:lnTo>
                  <a:lnTo>
                    <a:pt x="153" y="1419"/>
                  </a:lnTo>
                  <a:lnTo>
                    <a:pt x="153" y="1413"/>
                  </a:lnTo>
                  <a:lnTo>
                    <a:pt x="158" y="1413"/>
                  </a:lnTo>
                  <a:lnTo>
                    <a:pt x="158" y="1408"/>
                  </a:lnTo>
                  <a:lnTo>
                    <a:pt x="168" y="1408"/>
                  </a:lnTo>
                  <a:lnTo>
                    <a:pt x="168" y="1401"/>
                  </a:lnTo>
                  <a:lnTo>
                    <a:pt x="172" y="1401"/>
                  </a:lnTo>
                  <a:lnTo>
                    <a:pt x="172" y="1395"/>
                  </a:lnTo>
                  <a:lnTo>
                    <a:pt x="182" y="1395"/>
                  </a:lnTo>
                  <a:lnTo>
                    <a:pt x="182" y="1390"/>
                  </a:lnTo>
                  <a:lnTo>
                    <a:pt x="186" y="1390"/>
                  </a:lnTo>
                  <a:lnTo>
                    <a:pt x="186" y="1384"/>
                  </a:lnTo>
                  <a:lnTo>
                    <a:pt x="196" y="1384"/>
                  </a:lnTo>
                  <a:lnTo>
                    <a:pt x="196" y="1378"/>
                  </a:lnTo>
                  <a:lnTo>
                    <a:pt x="201" y="1378"/>
                  </a:lnTo>
                  <a:lnTo>
                    <a:pt x="201" y="1371"/>
                  </a:lnTo>
                  <a:lnTo>
                    <a:pt x="205" y="1371"/>
                  </a:lnTo>
                  <a:lnTo>
                    <a:pt x="205" y="1366"/>
                  </a:lnTo>
                  <a:lnTo>
                    <a:pt x="221" y="1366"/>
                  </a:lnTo>
                  <a:lnTo>
                    <a:pt x="221" y="1359"/>
                  </a:lnTo>
                  <a:lnTo>
                    <a:pt x="230" y="1359"/>
                  </a:lnTo>
                  <a:lnTo>
                    <a:pt x="230" y="1354"/>
                  </a:lnTo>
                  <a:lnTo>
                    <a:pt x="239" y="1354"/>
                  </a:lnTo>
                  <a:lnTo>
                    <a:pt x="239" y="1341"/>
                  </a:lnTo>
                  <a:lnTo>
                    <a:pt x="245" y="1341"/>
                  </a:lnTo>
                  <a:lnTo>
                    <a:pt x="245" y="1336"/>
                  </a:lnTo>
                  <a:lnTo>
                    <a:pt x="254" y="1336"/>
                  </a:lnTo>
                  <a:lnTo>
                    <a:pt x="254" y="1330"/>
                  </a:lnTo>
                  <a:lnTo>
                    <a:pt x="264" y="1330"/>
                  </a:lnTo>
                  <a:lnTo>
                    <a:pt x="264" y="1324"/>
                  </a:lnTo>
                  <a:lnTo>
                    <a:pt x="273" y="1324"/>
                  </a:lnTo>
                  <a:lnTo>
                    <a:pt x="273" y="1318"/>
                  </a:lnTo>
                  <a:lnTo>
                    <a:pt x="283" y="1318"/>
                  </a:lnTo>
                  <a:lnTo>
                    <a:pt x="283" y="1313"/>
                  </a:lnTo>
                  <a:lnTo>
                    <a:pt x="288" y="1313"/>
                  </a:lnTo>
                  <a:lnTo>
                    <a:pt x="288" y="1306"/>
                  </a:lnTo>
                  <a:lnTo>
                    <a:pt x="293" y="1306"/>
                  </a:lnTo>
                  <a:lnTo>
                    <a:pt x="293" y="1300"/>
                  </a:lnTo>
                  <a:lnTo>
                    <a:pt x="298" y="1300"/>
                  </a:lnTo>
                  <a:lnTo>
                    <a:pt x="298" y="1295"/>
                  </a:lnTo>
                  <a:lnTo>
                    <a:pt x="308" y="1295"/>
                  </a:lnTo>
                  <a:lnTo>
                    <a:pt x="308" y="1289"/>
                  </a:lnTo>
                  <a:lnTo>
                    <a:pt x="312" y="1289"/>
                  </a:lnTo>
                  <a:lnTo>
                    <a:pt x="312" y="1283"/>
                  </a:lnTo>
                  <a:lnTo>
                    <a:pt x="316" y="1283"/>
                  </a:lnTo>
                  <a:lnTo>
                    <a:pt x="316" y="1277"/>
                  </a:lnTo>
                  <a:lnTo>
                    <a:pt x="326" y="1277"/>
                  </a:lnTo>
                  <a:lnTo>
                    <a:pt x="326" y="1272"/>
                  </a:lnTo>
                  <a:lnTo>
                    <a:pt x="335" y="1272"/>
                  </a:lnTo>
                  <a:lnTo>
                    <a:pt x="335" y="1265"/>
                  </a:lnTo>
                  <a:lnTo>
                    <a:pt x="345" y="1265"/>
                  </a:lnTo>
                  <a:lnTo>
                    <a:pt x="345" y="1259"/>
                  </a:lnTo>
                  <a:lnTo>
                    <a:pt x="356" y="1259"/>
                  </a:lnTo>
                  <a:lnTo>
                    <a:pt x="356" y="1254"/>
                  </a:lnTo>
                  <a:lnTo>
                    <a:pt x="365" y="1254"/>
                  </a:lnTo>
                  <a:lnTo>
                    <a:pt x="365" y="1248"/>
                  </a:lnTo>
                  <a:lnTo>
                    <a:pt x="370" y="1248"/>
                  </a:lnTo>
                  <a:lnTo>
                    <a:pt x="370" y="1242"/>
                  </a:lnTo>
                  <a:lnTo>
                    <a:pt x="379" y="1242"/>
                  </a:lnTo>
                  <a:lnTo>
                    <a:pt x="379" y="1235"/>
                  </a:lnTo>
                  <a:lnTo>
                    <a:pt x="389" y="1235"/>
                  </a:lnTo>
                  <a:lnTo>
                    <a:pt x="389" y="1230"/>
                  </a:lnTo>
                  <a:lnTo>
                    <a:pt x="398" y="1230"/>
                  </a:lnTo>
                  <a:lnTo>
                    <a:pt x="398" y="1223"/>
                  </a:lnTo>
                  <a:lnTo>
                    <a:pt x="408" y="1223"/>
                  </a:lnTo>
                  <a:lnTo>
                    <a:pt x="408" y="1218"/>
                  </a:lnTo>
                  <a:lnTo>
                    <a:pt x="417" y="1218"/>
                  </a:lnTo>
                  <a:lnTo>
                    <a:pt x="417" y="1212"/>
                  </a:lnTo>
                  <a:lnTo>
                    <a:pt x="422" y="1212"/>
                  </a:lnTo>
                  <a:lnTo>
                    <a:pt x="422" y="1205"/>
                  </a:lnTo>
                  <a:lnTo>
                    <a:pt x="437" y="1205"/>
                  </a:lnTo>
                  <a:lnTo>
                    <a:pt x="437" y="1200"/>
                  </a:lnTo>
                  <a:lnTo>
                    <a:pt x="442" y="1200"/>
                  </a:lnTo>
                  <a:lnTo>
                    <a:pt x="442" y="1194"/>
                  </a:lnTo>
                  <a:lnTo>
                    <a:pt x="451" y="1194"/>
                  </a:lnTo>
                  <a:lnTo>
                    <a:pt x="451" y="1189"/>
                  </a:lnTo>
                  <a:lnTo>
                    <a:pt x="456" y="1189"/>
                  </a:lnTo>
                  <a:lnTo>
                    <a:pt x="456" y="1182"/>
                  </a:lnTo>
                  <a:lnTo>
                    <a:pt x="466" y="1182"/>
                  </a:lnTo>
                  <a:lnTo>
                    <a:pt x="466" y="1177"/>
                  </a:lnTo>
                  <a:lnTo>
                    <a:pt x="475" y="1177"/>
                  </a:lnTo>
                  <a:lnTo>
                    <a:pt x="475" y="1170"/>
                  </a:lnTo>
                  <a:lnTo>
                    <a:pt x="484" y="1170"/>
                  </a:lnTo>
                  <a:lnTo>
                    <a:pt x="484" y="1164"/>
                  </a:lnTo>
                  <a:lnTo>
                    <a:pt x="489" y="1164"/>
                  </a:lnTo>
                  <a:lnTo>
                    <a:pt x="489" y="1158"/>
                  </a:lnTo>
                  <a:lnTo>
                    <a:pt x="493" y="1158"/>
                  </a:lnTo>
                  <a:lnTo>
                    <a:pt x="493" y="1153"/>
                  </a:lnTo>
                  <a:lnTo>
                    <a:pt x="509" y="1153"/>
                  </a:lnTo>
                  <a:lnTo>
                    <a:pt x="509" y="1147"/>
                  </a:lnTo>
                  <a:lnTo>
                    <a:pt x="519" y="1147"/>
                  </a:lnTo>
                  <a:lnTo>
                    <a:pt x="519" y="1142"/>
                  </a:lnTo>
                  <a:lnTo>
                    <a:pt x="523" y="1142"/>
                  </a:lnTo>
                  <a:lnTo>
                    <a:pt x="523" y="1136"/>
                  </a:lnTo>
                  <a:lnTo>
                    <a:pt x="533" y="1136"/>
                  </a:lnTo>
                  <a:lnTo>
                    <a:pt x="533" y="1131"/>
                  </a:lnTo>
                  <a:lnTo>
                    <a:pt x="542" y="1131"/>
                  </a:lnTo>
                  <a:lnTo>
                    <a:pt x="542" y="1123"/>
                  </a:lnTo>
                  <a:lnTo>
                    <a:pt x="547" y="1123"/>
                  </a:lnTo>
                  <a:lnTo>
                    <a:pt x="547" y="1118"/>
                  </a:lnTo>
                  <a:lnTo>
                    <a:pt x="561" y="1118"/>
                  </a:lnTo>
                  <a:lnTo>
                    <a:pt x="561" y="1112"/>
                  </a:lnTo>
                  <a:lnTo>
                    <a:pt x="571" y="1112"/>
                  </a:lnTo>
                  <a:lnTo>
                    <a:pt x="571" y="1106"/>
                  </a:lnTo>
                  <a:lnTo>
                    <a:pt x="576" y="1106"/>
                  </a:lnTo>
                  <a:lnTo>
                    <a:pt x="576" y="1099"/>
                  </a:lnTo>
                  <a:lnTo>
                    <a:pt x="586" y="1099"/>
                  </a:lnTo>
                  <a:lnTo>
                    <a:pt x="586" y="1094"/>
                  </a:lnTo>
                  <a:lnTo>
                    <a:pt x="596" y="1094"/>
                  </a:lnTo>
                  <a:lnTo>
                    <a:pt x="596" y="1088"/>
                  </a:lnTo>
                  <a:lnTo>
                    <a:pt x="605" y="1088"/>
                  </a:lnTo>
                  <a:lnTo>
                    <a:pt x="605" y="1082"/>
                  </a:lnTo>
                  <a:lnTo>
                    <a:pt x="619" y="1082"/>
                  </a:lnTo>
                  <a:lnTo>
                    <a:pt x="619" y="1077"/>
                  </a:lnTo>
                  <a:lnTo>
                    <a:pt x="623" y="1077"/>
                  </a:lnTo>
                  <a:lnTo>
                    <a:pt x="623" y="1071"/>
                  </a:lnTo>
                  <a:lnTo>
                    <a:pt x="633" y="1071"/>
                  </a:lnTo>
                  <a:lnTo>
                    <a:pt x="633" y="1064"/>
                  </a:lnTo>
                  <a:lnTo>
                    <a:pt x="638" y="1064"/>
                  </a:lnTo>
                  <a:lnTo>
                    <a:pt x="638" y="1058"/>
                  </a:lnTo>
                  <a:lnTo>
                    <a:pt x="644" y="1058"/>
                  </a:lnTo>
                  <a:lnTo>
                    <a:pt x="644" y="1053"/>
                  </a:lnTo>
                  <a:lnTo>
                    <a:pt x="658" y="1053"/>
                  </a:lnTo>
                  <a:lnTo>
                    <a:pt x="658" y="1046"/>
                  </a:lnTo>
                  <a:lnTo>
                    <a:pt x="663" y="1046"/>
                  </a:lnTo>
                  <a:lnTo>
                    <a:pt x="663" y="1041"/>
                  </a:lnTo>
                  <a:lnTo>
                    <a:pt x="667" y="1041"/>
                  </a:lnTo>
                  <a:lnTo>
                    <a:pt x="667" y="1036"/>
                  </a:lnTo>
                  <a:lnTo>
                    <a:pt x="682" y="1036"/>
                  </a:lnTo>
                  <a:lnTo>
                    <a:pt x="682" y="1028"/>
                  </a:lnTo>
                  <a:lnTo>
                    <a:pt x="696" y="1028"/>
                  </a:lnTo>
                  <a:lnTo>
                    <a:pt x="696" y="1023"/>
                  </a:lnTo>
                  <a:lnTo>
                    <a:pt x="706" y="1023"/>
                  </a:lnTo>
                  <a:lnTo>
                    <a:pt x="706" y="1017"/>
                  </a:lnTo>
                  <a:lnTo>
                    <a:pt x="716" y="1017"/>
                  </a:lnTo>
                  <a:lnTo>
                    <a:pt x="716" y="1012"/>
                  </a:lnTo>
                  <a:lnTo>
                    <a:pt x="720" y="1012"/>
                  </a:lnTo>
                  <a:lnTo>
                    <a:pt x="720" y="1004"/>
                  </a:lnTo>
                  <a:lnTo>
                    <a:pt x="726" y="1004"/>
                  </a:lnTo>
                  <a:lnTo>
                    <a:pt x="726" y="999"/>
                  </a:lnTo>
                  <a:lnTo>
                    <a:pt x="734" y="999"/>
                  </a:lnTo>
                  <a:lnTo>
                    <a:pt x="734" y="993"/>
                  </a:lnTo>
                  <a:lnTo>
                    <a:pt x="740" y="993"/>
                  </a:lnTo>
                  <a:lnTo>
                    <a:pt x="740" y="987"/>
                  </a:lnTo>
                  <a:lnTo>
                    <a:pt x="749" y="987"/>
                  </a:lnTo>
                  <a:lnTo>
                    <a:pt x="749" y="982"/>
                  </a:lnTo>
                  <a:lnTo>
                    <a:pt x="759" y="982"/>
                  </a:lnTo>
                  <a:lnTo>
                    <a:pt x="759" y="976"/>
                  </a:lnTo>
                  <a:lnTo>
                    <a:pt x="773" y="976"/>
                  </a:lnTo>
                  <a:lnTo>
                    <a:pt x="773" y="970"/>
                  </a:lnTo>
                  <a:lnTo>
                    <a:pt x="777" y="970"/>
                  </a:lnTo>
                  <a:lnTo>
                    <a:pt x="777" y="963"/>
                  </a:lnTo>
                  <a:lnTo>
                    <a:pt x="788" y="963"/>
                  </a:lnTo>
                  <a:lnTo>
                    <a:pt x="788" y="958"/>
                  </a:lnTo>
                  <a:lnTo>
                    <a:pt x="792" y="958"/>
                  </a:lnTo>
                  <a:lnTo>
                    <a:pt x="792" y="952"/>
                  </a:lnTo>
                  <a:lnTo>
                    <a:pt x="802" y="952"/>
                  </a:lnTo>
                  <a:lnTo>
                    <a:pt x="802" y="946"/>
                  </a:lnTo>
                  <a:lnTo>
                    <a:pt x="811" y="946"/>
                  </a:lnTo>
                  <a:lnTo>
                    <a:pt x="811" y="940"/>
                  </a:lnTo>
                  <a:lnTo>
                    <a:pt x="821" y="940"/>
                  </a:lnTo>
                  <a:lnTo>
                    <a:pt x="821" y="935"/>
                  </a:lnTo>
                  <a:lnTo>
                    <a:pt x="825" y="935"/>
                  </a:lnTo>
                  <a:lnTo>
                    <a:pt x="825" y="928"/>
                  </a:lnTo>
                  <a:lnTo>
                    <a:pt x="840" y="928"/>
                  </a:lnTo>
                  <a:lnTo>
                    <a:pt x="840" y="922"/>
                  </a:lnTo>
                  <a:lnTo>
                    <a:pt x="850" y="922"/>
                  </a:lnTo>
                  <a:lnTo>
                    <a:pt x="850" y="917"/>
                  </a:lnTo>
                  <a:lnTo>
                    <a:pt x="854" y="917"/>
                  </a:lnTo>
                  <a:lnTo>
                    <a:pt x="854" y="911"/>
                  </a:lnTo>
                  <a:lnTo>
                    <a:pt x="864" y="911"/>
                  </a:lnTo>
                  <a:lnTo>
                    <a:pt x="864" y="905"/>
                  </a:lnTo>
                  <a:lnTo>
                    <a:pt x="869" y="905"/>
                  </a:lnTo>
                  <a:lnTo>
                    <a:pt x="869" y="898"/>
                  </a:lnTo>
                  <a:lnTo>
                    <a:pt x="874" y="898"/>
                  </a:lnTo>
                  <a:lnTo>
                    <a:pt x="874" y="893"/>
                  </a:lnTo>
                  <a:lnTo>
                    <a:pt x="884" y="893"/>
                  </a:lnTo>
                  <a:lnTo>
                    <a:pt x="884" y="887"/>
                  </a:lnTo>
                  <a:lnTo>
                    <a:pt x="893" y="887"/>
                  </a:lnTo>
                  <a:lnTo>
                    <a:pt x="893" y="881"/>
                  </a:lnTo>
                  <a:lnTo>
                    <a:pt x="903" y="881"/>
                  </a:lnTo>
                  <a:lnTo>
                    <a:pt x="903" y="876"/>
                  </a:lnTo>
                  <a:lnTo>
                    <a:pt x="912" y="876"/>
                  </a:lnTo>
                  <a:lnTo>
                    <a:pt x="912" y="868"/>
                  </a:lnTo>
                  <a:lnTo>
                    <a:pt x="921" y="868"/>
                  </a:lnTo>
                  <a:lnTo>
                    <a:pt x="921" y="863"/>
                  </a:lnTo>
                  <a:lnTo>
                    <a:pt x="926" y="863"/>
                  </a:lnTo>
                  <a:lnTo>
                    <a:pt x="926" y="857"/>
                  </a:lnTo>
                  <a:lnTo>
                    <a:pt x="937" y="857"/>
                  </a:lnTo>
                  <a:lnTo>
                    <a:pt x="937" y="851"/>
                  </a:lnTo>
                  <a:lnTo>
                    <a:pt x="941" y="851"/>
                  </a:lnTo>
                  <a:lnTo>
                    <a:pt x="941" y="845"/>
                  </a:lnTo>
                  <a:lnTo>
                    <a:pt x="955" y="845"/>
                  </a:lnTo>
                  <a:lnTo>
                    <a:pt x="955" y="840"/>
                  </a:lnTo>
                  <a:lnTo>
                    <a:pt x="970" y="840"/>
                  </a:lnTo>
                  <a:lnTo>
                    <a:pt x="970" y="835"/>
                  </a:lnTo>
                  <a:lnTo>
                    <a:pt x="980" y="835"/>
                  </a:lnTo>
                  <a:lnTo>
                    <a:pt x="980" y="827"/>
                  </a:lnTo>
                  <a:lnTo>
                    <a:pt x="989" y="827"/>
                  </a:lnTo>
                  <a:lnTo>
                    <a:pt x="989" y="822"/>
                  </a:lnTo>
                  <a:lnTo>
                    <a:pt x="998" y="822"/>
                  </a:lnTo>
                  <a:lnTo>
                    <a:pt x="998" y="816"/>
                  </a:lnTo>
                  <a:lnTo>
                    <a:pt x="1014" y="816"/>
                  </a:lnTo>
                  <a:lnTo>
                    <a:pt x="1014" y="810"/>
                  </a:lnTo>
                  <a:lnTo>
                    <a:pt x="1023" y="810"/>
                  </a:lnTo>
                  <a:lnTo>
                    <a:pt x="1023" y="804"/>
                  </a:lnTo>
                  <a:lnTo>
                    <a:pt x="1032" y="804"/>
                  </a:lnTo>
                  <a:lnTo>
                    <a:pt x="1032" y="799"/>
                  </a:lnTo>
                  <a:lnTo>
                    <a:pt x="1047" y="799"/>
                  </a:lnTo>
                  <a:lnTo>
                    <a:pt x="1047" y="792"/>
                  </a:lnTo>
                  <a:lnTo>
                    <a:pt x="1051" y="792"/>
                  </a:lnTo>
                  <a:lnTo>
                    <a:pt x="1051" y="786"/>
                  </a:lnTo>
                  <a:lnTo>
                    <a:pt x="1066" y="786"/>
                  </a:lnTo>
                  <a:lnTo>
                    <a:pt x="1066" y="781"/>
                  </a:lnTo>
                  <a:lnTo>
                    <a:pt x="1075" y="781"/>
                  </a:lnTo>
                  <a:lnTo>
                    <a:pt x="1075" y="775"/>
                  </a:lnTo>
                  <a:lnTo>
                    <a:pt x="1085" y="775"/>
                  </a:lnTo>
                  <a:lnTo>
                    <a:pt x="1085" y="769"/>
                  </a:lnTo>
                  <a:lnTo>
                    <a:pt x="1091" y="769"/>
                  </a:lnTo>
                  <a:lnTo>
                    <a:pt x="1091" y="762"/>
                  </a:lnTo>
                  <a:lnTo>
                    <a:pt x="1100" y="762"/>
                  </a:lnTo>
                  <a:lnTo>
                    <a:pt x="1100" y="757"/>
                  </a:lnTo>
                  <a:lnTo>
                    <a:pt x="1104" y="757"/>
                  </a:lnTo>
                  <a:lnTo>
                    <a:pt x="1104" y="750"/>
                  </a:lnTo>
                  <a:lnTo>
                    <a:pt x="1118" y="750"/>
                  </a:lnTo>
                  <a:lnTo>
                    <a:pt x="1118" y="745"/>
                  </a:lnTo>
                  <a:lnTo>
                    <a:pt x="1128" y="745"/>
                  </a:lnTo>
                  <a:lnTo>
                    <a:pt x="1128" y="739"/>
                  </a:lnTo>
                  <a:lnTo>
                    <a:pt x="1138" y="739"/>
                  </a:lnTo>
                  <a:lnTo>
                    <a:pt x="1138" y="734"/>
                  </a:lnTo>
                  <a:lnTo>
                    <a:pt x="1152" y="734"/>
                  </a:lnTo>
                  <a:lnTo>
                    <a:pt x="1152" y="727"/>
                  </a:lnTo>
                  <a:lnTo>
                    <a:pt x="1172" y="727"/>
                  </a:lnTo>
                  <a:lnTo>
                    <a:pt x="1172" y="722"/>
                  </a:lnTo>
                  <a:lnTo>
                    <a:pt x="1186" y="722"/>
                  </a:lnTo>
                  <a:lnTo>
                    <a:pt x="1186" y="716"/>
                  </a:lnTo>
                  <a:lnTo>
                    <a:pt x="1200" y="716"/>
                  </a:lnTo>
                  <a:lnTo>
                    <a:pt x="1200" y="710"/>
                  </a:lnTo>
                  <a:lnTo>
                    <a:pt x="1209" y="710"/>
                  </a:lnTo>
                  <a:lnTo>
                    <a:pt x="1209" y="704"/>
                  </a:lnTo>
                  <a:lnTo>
                    <a:pt x="1219" y="704"/>
                  </a:lnTo>
                  <a:lnTo>
                    <a:pt x="1219" y="699"/>
                  </a:lnTo>
                  <a:lnTo>
                    <a:pt x="1229" y="699"/>
                  </a:lnTo>
                  <a:lnTo>
                    <a:pt x="1229" y="691"/>
                  </a:lnTo>
                  <a:lnTo>
                    <a:pt x="1239" y="691"/>
                  </a:lnTo>
                  <a:lnTo>
                    <a:pt x="1239" y="686"/>
                  </a:lnTo>
                  <a:lnTo>
                    <a:pt x="1244" y="686"/>
                  </a:lnTo>
                  <a:lnTo>
                    <a:pt x="1244" y="680"/>
                  </a:lnTo>
                  <a:lnTo>
                    <a:pt x="1253" y="680"/>
                  </a:lnTo>
                  <a:lnTo>
                    <a:pt x="1253" y="674"/>
                  </a:lnTo>
                  <a:lnTo>
                    <a:pt x="1262" y="674"/>
                  </a:lnTo>
                  <a:lnTo>
                    <a:pt x="1262" y="669"/>
                  </a:lnTo>
                  <a:lnTo>
                    <a:pt x="1268" y="669"/>
                  </a:lnTo>
                  <a:lnTo>
                    <a:pt x="1268" y="663"/>
                  </a:lnTo>
                  <a:lnTo>
                    <a:pt x="1277" y="663"/>
                  </a:lnTo>
                  <a:lnTo>
                    <a:pt x="1277" y="658"/>
                  </a:lnTo>
                  <a:lnTo>
                    <a:pt x="1287" y="658"/>
                  </a:lnTo>
                  <a:lnTo>
                    <a:pt x="1287" y="650"/>
                  </a:lnTo>
                  <a:lnTo>
                    <a:pt x="1302" y="650"/>
                  </a:lnTo>
                  <a:lnTo>
                    <a:pt x="1302" y="645"/>
                  </a:lnTo>
                  <a:lnTo>
                    <a:pt x="1311" y="645"/>
                  </a:lnTo>
                  <a:lnTo>
                    <a:pt x="1311" y="639"/>
                  </a:lnTo>
                  <a:lnTo>
                    <a:pt x="1325" y="639"/>
                  </a:lnTo>
                  <a:lnTo>
                    <a:pt x="1325" y="633"/>
                  </a:lnTo>
                  <a:lnTo>
                    <a:pt x="1335" y="633"/>
                  </a:lnTo>
                  <a:lnTo>
                    <a:pt x="1335" y="626"/>
                  </a:lnTo>
                  <a:lnTo>
                    <a:pt x="1339" y="626"/>
                  </a:lnTo>
                  <a:lnTo>
                    <a:pt x="1339" y="621"/>
                  </a:lnTo>
                  <a:lnTo>
                    <a:pt x="1349" y="621"/>
                  </a:lnTo>
                  <a:lnTo>
                    <a:pt x="1349" y="615"/>
                  </a:lnTo>
                  <a:lnTo>
                    <a:pt x="1364" y="615"/>
                  </a:lnTo>
                  <a:lnTo>
                    <a:pt x="1364" y="609"/>
                  </a:lnTo>
                  <a:lnTo>
                    <a:pt x="1374" y="609"/>
                  </a:lnTo>
                  <a:lnTo>
                    <a:pt x="1374" y="604"/>
                  </a:lnTo>
                  <a:lnTo>
                    <a:pt x="1383" y="604"/>
                  </a:lnTo>
                  <a:lnTo>
                    <a:pt x="1383" y="598"/>
                  </a:lnTo>
                  <a:lnTo>
                    <a:pt x="1388" y="598"/>
                  </a:lnTo>
                  <a:lnTo>
                    <a:pt x="1388" y="591"/>
                  </a:lnTo>
                  <a:lnTo>
                    <a:pt x="1398" y="591"/>
                  </a:lnTo>
                  <a:lnTo>
                    <a:pt x="1398" y="585"/>
                  </a:lnTo>
                  <a:lnTo>
                    <a:pt x="1402" y="585"/>
                  </a:lnTo>
                  <a:lnTo>
                    <a:pt x="1402" y="580"/>
                  </a:lnTo>
                  <a:lnTo>
                    <a:pt x="1416" y="580"/>
                  </a:lnTo>
                  <a:lnTo>
                    <a:pt x="1416" y="573"/>
                  </a:lnTo>
                  <a:lnTo>
                    <a:pt x="1421" y="573"/>
                  </a:lnTo>
                  <a:lnTo>
                    <a:pt x="1421" y="568"/>
                  </a:lnTo>
                  <a:lnTo>
                    <a:pt x="1426" y="568"/>
                  </a:lnTo>
                  <a:lnTo>
                    <a:pt x="1426" y="563"/>
                  </a:lnTo>
                  <a:lnTo>
                    <a:pt x="1431" y="563"/>
                  </a:lnTo>
                  <a:lnTo>
                    <a:pt x="1431" y="555"/>
                  </a:lnTo>
                  <a:lnTo>
                    <a:pt x="1441" y="555"/>
                  </a:lnTo>
                  <a:lnTo>
                    <a:pt x="1441" y="550"/>
                  </a:lnTo>
                  <a:lnTo>
                    <a:pt x="1446" y="550"/>
                  </a:lnTo>
                  <a:lnTo>
                    <a:pt x="1446" y="544"/>
                  </a:lnTo>
                  <a:lnTo>
                    <a:pt x="1469" y="544"/>
                  </a:lnTo>
                  <a:lnTo>
                    <a:pt x="1469" y="539"/>
                  </a:lnTo>
                  <a:lnTo>
                    <a:pt x="1502" y="539"/>
                  </a:lnTo>
                  <a:lnTo>
                    <a:pt x="1502" y="544"/>
                  </a:lnTo>
                  <a:lnTo>
                    <a:pt x="1570" y="544"/>
                  </a:lnTo>
                  <a:lnTo>
                    <a:pt x="1570" y="550"/>
                  </a:lnTo>
                  <a:lnTo>
                    <a:pt x="1604" y="550"/>
                  </a:lnTo>
                  <a:lnTo>
                    <a:pt x="1604" y="544"/>
                  </a:lnTo>
                  <a:lnTo>
                    <a:pt x="1637" y="544"/>
                  </a:lnTo>
                  <a:lnTo>
                    <a:pt x="1637" y="539"/>
                  </a:lnTo>
                  <a:lnTo>
                    <a:pt x="1681" y="539"/>
                  </a:lnTo>
                  <a:lnTo>
                    <a:pt x="1681" y="532"/>
                  </a:lnTo>
                  <a:lnTo>
                    <a:pt x="1695" y="532"/>
                  </a:lnTo>
                  <a:lnTo>
                    <a:pt x="1695" y="527"/>
                  </a:lnTo>
                  <a:lnTo>
                    <a:pt x="1728" y="527"/>
                  </a:lnTo>
                  <a:lnTo>
                    <a:pt x="1728" y="520"/>
                  </a:lnTo>
                  <a:lnTo>
                    <a:pt x="1749" y="520"/>
                  </a:lnTo>
                  <a:lnTo>
                    <a:pt x="1749" y="514"/>
                  </a:lnTo>
                  <a:lnTo>
                    <a:pt x="1767" y="514"/>
                  </a:lnTo>
                  <a:lnTo>
                    <a:pt x="1767" y="509"/>
                  </a:lnTo>
                  <a:lnTo>
                    <a:pt x="1800" y="509"/>
                  </a:lnTo>
                  <a:lnTo>
                    <a:pt x="1800" y="503"/>
                  </a:lnTo>
                  <a:lnTo>
                    <a:pt x="1806" y="503"/>
                  </a:lnTo>
                  <a:lnTo>
                    <a:pt x="1806" y="497"/>
                  </a:lnTo>
                  <a:lnTo>
                    <a:pt x="1820" y="497"/>
                  </a:lnTo>
                  <a:lnTo>
                    <a:pt x="1820" y="490"/>
                  </a:lnTo>
                  <a:lnTo>
                    <a:pt x="1830" y="490"/>
                  </a:lnTo>
                  <a:lnTo>
                    <a:pt x="1830" y="485"/>
                  </a:lnTo>
                  <a:lnTo>
                    <a:pt x="1844" y="485"/>
                  </a:lnTo>
                  <a:lnTo>
                    <a:pt x="1844" y="479"/>
                  </a:lnTo>
                  <a:lnTo>
                    <a:pt x="1863" y="479"/>
                  </a:lnTo>
                  <a:lnTo>
                    <a:pt x="1863" y="473"/>
                  </a:lnTo>
                  <a:lnTo>
                    <a:pt x="1867" y="473"/>
                  </a:lnTo>
                  <a:lnTo>
                    <a:pt x="1867" y="468"/>
                  </a:lnTo>
                  <a:lnTo>
                    <a:pt x="1878" y="468"/>
                  </a:lnTo>
                  <a:lnTo>
                    <a:pt x="1878" y="462"/>
                  </a:lnTo>
                  <a:lnTo>
                    <a:pt x="1907" y="462"/>
                  </a:lnTo>
                  <a:lnTo>
                    <a:pt x="1907" y="455"/>
                  </a:lnTo>
                  <a:lnTo>
                    <a:pt x="1920" y="455"/>
                  </a:lnTo>
                  <a:lnTo>
                    <a:pt x="1920" y="449"/>
                  </a:lnTo>
                  <a:lnTo>
                    <a:pt x="1934" y="449"/>
                  </a:lnTo>
                  <a:lnTo>
                    <a:pt x="1934" y="444"/>
                  </a:lnTo>
                  <a:lnTo>
                    <a:pt x="1950" y="444"/>
                  </a:lnTo>
                  <a:lnTo>
                    <a:pt x="1950" y="438"/>
                  </a:lnTo>
                  <a:lnTo>
                    <a:pt x="1964" y="438"/>
                  </a:lnTo>
                  <a:lnTo>
                    <a:pt x="1964" y="432"/>
                  </a:lnTo>
                  <a:lnTo>
                    <a:pt x="1974" y="432"/>
                  </a:lnTo>
                  <a:lnTo>
                    <a:pt x="1974" y="425"/>
                  </a:lnTo>
                  <a:lnTo>
                    <a:pt x="1988" y="425"/>
                  </a:lnTo>
                  <a:lnTo>
                    <a:pt x="1988" y="420"/>
                  </a:lnTo>
                  <a:lnTo>
                    <a:pt x="1993" y="420"/>
                  </a:lnTo>
                  <a:lnTo>
                    <a:pt x="1993" y="414"/>
                  </a:lnTo>
                  <a:lnTo>
                    <a:pt x="2003" y="414"/>
                  </a:lnTo>
                  <a:lnTo>
                    <a:pt x="2003" y="408"/>
                  </a:lnTo>
                  <a:lnTo>
                    <a:pt x="2016" y="408"/>
                  </a:lnTo>
                  <a:lnTo>
                    <a:pt x="2016" y="403"/>
                  </a:lnTo>
                  <a:lnTo>
                    <a:pt x="2031" y="403"/>
                  </a:lnTo>
                  <a:lnTo>
                    <a:pt x="2031" y="396"/>
                  </a:lnTo>
                  <a:lnTo>
                    <a:pt x="2037" y="396"/>
                  </a:lnTo>
                  <a:lnTo>
                    <a:pt x="2037" y="391"/>
                  </a:lnTo>
                  <a:lnTo>
                    <a:pt x="2046" y="391"/>
                  </a:lnTo>
                  <a:lnTo>
                    <a:pt x="2046" y="384"/>
                  </a:lnTo>
                  <a:lnTo>
                    <a:pt x="2070" y="384"/>
                  </a:lnTo>
                  <a:lnTo>
                    <a:pt x="2070" y="378"/>
                  </a:lnTo>
                  <a:lnTo>
                    <a:pt x="2074" y="378"/>
                  </a:lnTo>
                  <a:lnTo>
                    <a:pt x="2074" y="372"/>
                  </a:lnTo>
                  <a:lnTo>
                    <a:pt x="2084" y="372"/>
                  </a:lnTo>
                  <a:lnTo>
                    <a:pt x="2084" y="367"/>
                  </a:lnTo>
                  <a:lnTo>
                    <a:pt x="2099" y="367"/>
                  </a:lnTo>
                  <a:lnTo>
                    <a:pt x="2099" y="362"/>
                  </a:lnTo>
                  <a:lnTo>
                    <a:pt x="2108" y="362"/>
                  </a:lnTo>
                  <a:lnTo>
                    <a:pt x="2108" y="354"/>
                  </a:lnTo>
                  <a:lnTo>
                    <a:pt x="2118" y="354"/>
                  </a:lnTo>
                  <a:lnTo>
                    <a:pt x="2118" y="349"/>
                  </a:lnTo>
                  <a:lnTo>
                    <a:pt x="2127" y="349"/>
                  </a:lnTo>
                  <a:lnTo>
                    <a:pt x="2127" y="343"/>
                  </a:lnTo>
                  <a:lnTo>
                    <a:pt x="2141" y="343"/>
                  </a:lnTo>
                  <a:lnTo>
                    <a:pt x="2141" y="337"/>
                  </a:lnTo>
                  <a:lnTo>
                    <a:pt x="2151" y="337"/>
                  </a:lnTo>
                  <a:lnTo>
                    <a:pt x="2151" y="331"/>
                  </a:lnTo>
                  <a:lnTo>
                    <a:pt x="2155" y="331"/>
                  </a:lnTo>
                  <a:lnTo>
                    <a:pt x="2155" y="326"/>
                  </a:lnTo>
                  <a:lnTo>
                    <a:pt x="2171" y="326"/>
                  </a:lnTo>
                  <a:lnTo>
                    <a:pt x="2171" y="319"/>
                  </a:lnTo>
                  <a:lnTo>
                    <a:pt x="2181" y="319"/>
                  </a:lnTo>
                  <a:lnTo>
                    <a:pt x="2181" y="313"/>
                  </a:lnTo>
                  <a:lnTo>
                    <a:pt x="2199" y="313"/>
                  </a:lnTo>
                  <a:lnTo>
                    <a:pt x="2199" y="308"/>
                  </a:lnTo>
                  <a:lnTo>
                    <a:pt x="2204" y="308"/>
                  </a:lnTo>
                  <a:lnTo>
                    <a:pt x="2204" y="302"/>
                  </a:lnTo>
                  <a:lnTo>
                    <a:pt x="2209" y="302"/>
                  </a:lnTo>
                  <a:lnTo>
                    <a:pt x="2209" y="296"/>
                  </a:lnTo>
                  <a:lnTo>
                    <a:pt x="2218" y="296"/>
                  </a:lnTo>
                  <a:lnTo>
                    <a:pt x="2218" y="291"/>
                  </a:lnTo>
                  <a:lnTo>
                    <a:pt x="2228" y="291"/>
                  </a:lnTo>
                  <a:lnTo>
                    <a:pt x="2228" y="284"/>
                  </a:lnTo>
                  <a:lnTo>
                    <a:pt x="2238" y="284"/>
                  </a:lnTo>
                  <a:lnTo>
                    <a:pt x="2238" y="278"/>
                  </a:lnTo>
                  <a:lnTo>
                    <a:pt x="2252" y="278"/>
                  </a:lnTo>
                  <a:lnTo>
                    <a:pt x="2252" y="272"/>
                  </a:lnTo>
                  <a:lnTo>
                    <a:pt x="2267" y="272"/>
                  </a:lnTo>
                  <a:lnTo>
                    <a:pt x="2267" y="267"/>
                  </a:lnTo>
                  <a:lnTo>
                    <a:pt x="2276" y="267"/>
                  </a:lnTo>
                  <a:lnTo>
                    <a:pt x="2276" y="261"/>
                  </a:lnTo>
                  <a:lnTo>
                    <a:pt x="2291" y="261"/>
                  </a:lnTo>
                  <a:lnTo>
                    <a:pt x="2291" y="250"/>
                  </a:lnTo>
                  <a:lnTo>
                    <a:pt x="2300" y="250"/>
                  </a:lnTo>
                  <a:lnTo>
                    <a:pt x="2300" y="243"/>
                  </a:lnTo>
                  <a:lnTo>
                    <a:pt x="2319" y="243"/>
                  </a:lnTo>
                  <a:lnTo>
                    <a:pt x="2319" y="237"/>
                  </a:lnTo>
                  <a:lnTo>
                    <a:pt x="2325" y="237"/>
                  </a:lnTo>
                  <a:lnTo>
                    <a:pt x="2325" y="226"/>
                  </a:lnTo>
                  <a:lnTo>
                    <a:pt x="2339" y="226"/>
                  </a:lnTo>
                  <a:lnTo>
                    <a:pt x="2339" y="218"/>
                  </a:lnTo>
                  <a:lnTo>
                    <a:pt x="2353" y="218"/>
                  </a:lnTo>
                  <a:lnTo>
                    <a:pt x="2353" y="213"/>
                  </a:lnTo>
                  <a:lnTo>
                    <a:pt x="2367" y="213"/>
                  </a:lnTo>
                  <a:lnTo>
                    <a:pt x="2367" y="207"/>
                  </a:lnTo>
                  <a:lnTo>
                    <a:pt x="2382" y="207"/>
                  </a:lnTo>
                  <a:lnTo>
                    <a:pt x="2382" y="201"/>
                  </a:lnTo>
                  <a:lnTo>
                    <a:pt x="2388" y="201"/>
                  </a:lnTo>
                  <a:lnTo>
                    <a:pt x="2388" y="196"/>
                  </a:lnTo>
                  <a:lnTo>
                    <a:pt x="2406" y="196"/>
                  </a:lnTo>
                  <a:lnTo>
                    <a:pt x="2406" y="190"/>
                  </a:lnTo>
                  <a:lnTo>
                    <a:pt x="2411" y="190"/>
                  </a:lnTo>
                  <a:lnTo>
                    <a:pt x="2411" y="185"/>
                  </a:lnTo>
                  <a:lnTo>
                    <a:pt x="2421" y="185"/>
                  </a:lnTo>
                  <a:lnTo>
                    <a:pt x="2421" y="177"/>
                  </a:lnTo>
                  <a:lnTo>
                    <a:pt x="2430" y="177"/>
                  </a:lnTo>
                  <a:lnTo>
                    <a:pt x="2430" y="172"/>
                  </a:lnTo>
                  <a:lnTo>
                    <a:pt x="2449" y="172"/>
                  </a:lnTo>
                  <a:lnTo>
                    <a:pt x="2449" y="166"/>
                  </a:lnTo>
                  <a:lnTo>
                    <a:pt x="2464" y="166"/>
                  </a:lnTo>
                  <a:lnTo>
                    <a:pt x="2464" y="160"/>
                  </a:lnTo>
                  <a:lnTo>
                    <a:pt x="2469" y="160"/>
                  </a:lnTo>
                  <a:lnTo>
                    <a:pt x="2469" y="153"/>
                  </a:lnTo>
                  <a:lnTo>
                    <a:pt x="2483" y="153"/>
                  </a:lnTo>
                  <a:lnTo>
                    <a:pt x="2483" y="148"/>
                  </a:lnTo>
                  <a:lnTo>
                    <a:pt x="2492" y="148"/>
                  </a:lnTo>
                  <a:lnTo>
                    <a:pt x="2492" y="142"/>
                  </a:lnTo>
                  <a:lnTo>
                    <a:pt x="2502" y="142"/>
                  </a:lnTo>
                  <a:lnTo>
                    <a:pt x="2502" y="136"/>
                  </a:lnTo>
                  <a:lnTo>
                    <a:pt x="2521" y="136"/>
                  </a:lnTo>
                  <a:lnTo>
                    <a:pt x="2521" y="131"/>
                  </a:lnTo>
                  <a:lnTo>
                    <a:pt x="2525" y="131"/>
                  </a:lnTo>
                  <a:lnTo>
                    <a:pt x="2525" y="125"/>
                  </a:lnTo>
                  <a:lnTo>
                    <a:pt x="2545" y="125"/>
                  </a:lnTo>
                  <a:lnTo>
                    <a:pt x="2545" y="119"/>
                  </a:lnTo>
                  <a:lnTo>
                    <a:pt x="2555" y="119"/>
                  </a:lnTo>
                  <a:lnTo>
                    <a:pt x="2555" y="112"/>
                  </a:lnTo>
                  <a:lnTo>
                    <a:pt x="2565" y="112"/>
                  </a:lnTo>
                  <a:lnTo>
                    <a:pt x="2565" y="107"/>
                  </a:lnTo>
                  <a:lnTo>
                    <a:pt x="2573" y="107"/>
                  </a:lnTo>
                  <a:lnTo>
                    <a:pt x="2573" y="101"/>
                  </a:lnTo>
                  <a:lnTo>
                    <a:pt x="2583" y="101"/>
                  </a:lnTo>
                  <a:lnTo>
                    <a:pt x="2583" y="95"/>
                  </a:lnTo>
                  <a:lnTo>
                    <a:pt x="2593" y="95"/>
                  </a:lnTo>
                  <a:lnTo>
                    <a:pt x="2593" y="90"/>
                  </a:lnTo>
                  <a:lnTo>
                    <a:pt x="2608" y="90"/>
                  </a:lnTo>
                  <a:lnTo>
                    <a:pt x="2608" y="82"/>
                  </a:lnTo>
                  <a:lnTo>
                    <a:pt x="2627" y="82"/>
                  </a:lnTo>
                  <a:lnTo>
                    <a:pt x="2627" y="77"/>
                  </a:lnTo>
                  <a:lnTo>
                    <a:pt x="2632" y="77"/>
                  </a:lnTo>
                  <a:lnTo>
                    <a:pt x="2632" y="71"/>
                  </a:lnTo>
                  <a:lnTo>
                    <a:pt x="2636" y="71"/>
                  </a:lnTo>
                  <a:lnTo>
                    <a:pt x="2636" y="66"/>
                  </a:lnTo>
                  <a:lnTo>
                    <a:pt x="2641" y="66"/>
                  </a:lnTo>
                  <a:lnTo>
                    <a:pt x="2641" y="59"/>
                  </a:lnTo>
                  <a:lnTo>
                    <a:pt x="2651" y="59"/>
                  </a:lnTo>
                  <a:lnTo>
                    <a:pt x="2651" y="66"/>
                  </a:lnTo>
                  <a:lnTo>
                    <a:pt x="2660" y="66"/>
                  </a:lnTo>
                  <a:lnTo>
                    <a:pt x="2660" y="59"/>
                  </a:lnTo>
                  <a:lnTo>
                    <a:pt x="2669" y="59"/>
                  </a:lnTo>
                  <a:lnTo>
                    <a:pt x="2669" y="54"/>
                  </a:lnTo>
                  <a:lnTo>
                    <a:pt x="2676" y="54"/>
                  </a:lnTo>
                  <a:lnTo>
                    <a:pt x="2676" y="49"/>
                  </a:lnTo>
                  <a:lnTo>
                    <a:pt x="2685" y="49"/>
                  </a:lnTo>
                  <a:lnTo>
                    <a:pt x="2685" y="41"/>
                  </a:lnTo>
                  <a:lnTo>
                    <a:pt x="2695" y="41"/>
                  </a:lnTo>
                  <a:lnTo>
                    <a:pt x="2695" y="36"/>
                  </a:lnTo>
                  <a:lnTo>
                    <a:pt x="2699" y="36"/>
                  </a:lnTo>
                  <a:lnTo>
                    <a:pt x="2699" y="30"/>
                  </a:lnTo>
                  <a:lnTo>
                    <a:pt x="2709" y="30"/>
                  </a:lnTo>
                  <a:lnTo>
                    <a:pt x="2709" y="24"/>
                  </a:lnTo>
                  <a:lnTo>
                    <a:pt x="2723" y="24"/>
                  </a:lnTo>
                  <a:lnTo>
                    <a:pt x="2723" y="17"/>
                  </a:lnTo>
                  <a:lnTo>
                    <a:pt x="2737" y="17"/>
                  </a:lnTo>
                  <a:lnTo>
                    <a:pt x="2737" y="12"/>
                  </a:lnTo>
                  <a:lnTo>
                    <a:pt x="2747" y="12"/>
                  </a:lnTo>
                  <a:lnTo>
                    <a:pt x="2747" y="6"/>
                  </a:lnTo>
                  <a:lnTo>
                    <a:pt x="2762" y="6"/>
                  </a:lnTo>
                  <a:lnTo>
                    <a:pt x="2762" y="0"/>
                  </a:lnTo>
                  <a:lnTo>
                    <a:pt x="2772" y="0"/>
                  </a:lnTo>
                  <a:lnTo>
                    <a:pt x="2772" y="6"/>
                  </a:lnTo>
                  <a:lnTo>
                    <a:pt x="2785" y="6"/>
                  </a:lnTo>
                  <a:lnTo>
                    <a:pt x="2785" y="12"/>
                  </a:lnTo>
                  <a:lnTo>
                    <a:pt x="2790" y="12"/>
                  </a:lnTo>
                  <a:lnTo>
                    <a:pt x="2790" y="17"/>
                  </a:lnTo>
                  <a:lnTo>
                    <a:pt x="2799" y="17"/>
                  </a:lnTo>
                  <a:lnTo>
                    <a:pt x="2799" y="24"/>
                  </a:lnTo>
                  <a:lnTo>
                    <a:pt x="2805" y="24"/>
                  </a:lnTo>
                  <a:lnTo>
                    <a:pt x="2805" y="36"/>
                  </a:lnTo>
                  <a:lnTo>
                    <a:pt x="2809" y="36"/>
                  </a:lnTo>
                  <a:lnTo>
                    <a:pt x="2809" y="41"/>
                  </a:lnTo>
                  <a:lnTo>
                    <a:pt x="2814" y="41"/>
                  </a:lnTo>
                  <a:lnTo>
                    <a:pt x="2814" y="59"/>
                  </a:lnTo>
                  <a:lnTo>
                    <a:pt x="2820" y="59"/>
                  </a:lnTo>
                  <a:lnTo>
                    <a:pt x="2820" y="77"/>
                  </a:lnTo>
                  <a:lnTo>
                    <a:pt x="2824" y="77"/>
                  </a:lnTo>
                  <a:lnTo>
                    <a:pt x="2824" y="107"/>
                  </a:lnTo>
                  <a:lnTo>
                    <a:pt x="2829" y="107"/>
                  </a:lnTo>
                  <a:lnTo>
                    <a:pt x="2829" y="112"/>
                  </a:lnTo>
                  <a:lnTo>
                    <a:pt x="2833" y="112"/>
                  </a:lnTo>
                  <a:lnTo>
                    <a:pt x="2833" y="125"/>
                  </a:lnTo>
                  <a:lnTo>
                    <a:pt x="2838" y="125"/>
                  </a:lnTo>
                  <a:lnTo>
                    <a:pt x="2838" y="136"/>
                  </a:lnTo>
                  <a:lnTo>
                    <a:pt x="2843" y="136"/>
                  </a:lnTo>
                  <a:lnTo>
                    <a:pt x="2843" y="148"/>
                  </a:lnTo>
                  <a:lnTo>
                    <a:pt x="2847" y="148"/>
                  </a:lnTo>
                  <a:lnTo>
                    <a:pt x="2847" y="153"/>
                  </a:lnTo>
                  <a:lnTo>
                    <a:pt x="2853" y="153"/>
                  </a:lnTo>
                  <a:lnTo>
                    <a:pt x="2853" y="166"/>
                  </a:lnTo>
                  <a:lnTo>
                    <a:pt x="2857" y="166"/>
                  </a:lnTo>
                  <a:lnTo>
                    <a:pt x="2857" y="172"/>
                  </a:lnTo>
                  <a:lnTo>
                    <a:pt x="2862" y="172"/>
                  </a:lnTo>
                  <a:lnTo>
                    <a:pt x="2862" y="190"/>
                  </a:lnTo>
                  <a:lnTo>
                    <a:pt x="2867" y="190"/>
                  </a:lnTo>
                  <a:lnTo>
                    <a:pt x="2867" y="207"/>
                  </a:lnTo>
                  <a:lnTo>
                    <a:pt x="2871" y="207"/>
                  </a:lnTo>
                  <a:lnTo>
                    <a:pt x="2871" y="218"/>
                  </a:lnTo>
                  <a:lnTo>
                    <a:pt x="2876" y="218"/>
                  </a:lnTo>
                  <a:lnTo>
                    <a:pt x="2876" y="237"/>
                  </a:lnTo>
                  <a:lnTo>
                    <a:pt x="2881" y="237"/>
                  </a:lnTo>
                  <a:lnTo>
                    <a:pt x="2881" y="243"/>
                  </a:lnTo>
                  <a:lnTo>
                    <a:pt x="2886" y="243"/>
                  </a:lnTo>
                  <a:lnTo>
                    <a:pt x="2886" y="255"/>
                  </a:lnTo>
                  <a:lnTo>
                    <a:pt x="2891" y="255"/>
                  </a:lnTo>
                  <a:lnTo>
                    <a:pt x="2891" y="272"/>
                  </a:lnTo>
                  <a:lnTo>
                    <a:pt x="2896" y="272"/>
                  </a:lnTo>
                  <a:lnTo>
                    <a:pt x="2896" y="308"/>
                  </a:lnTo>
                  <a:lnTo>
                    <a:pt x="2901" y="308"/>
                  </a:lnTo>
                  <a:lnTo>
                    <a:pt x="2901" y="326"/>
                  </a:lnTo>
                  <a:lnTo>
                    <a:pt x="2906" y="326"/>
                  </a:lnTo>
                  <a:lnTo>
                    <a:pt x="2906" y="343"/>
                  </a:lnTo>
                  <a:lnTo>
                    <a:pt x="2910" y="343"/>
                  </a:lnTo>
                  <a:lnTo>
                    <a:pt x="2910" y="362"/>
                  </a:lnTo>
                  <a:lnTo>
                    <a:pt x="2915" y="362"/>
                  </a:lnTo>
                  <a:lnTo>
                    <a:pt x="2915" y="384"/>
                  </a:lnTo>
                  <a:lnTo>
                    <a:pt x="2920" y="384"/>
                  </a:lnTo>
                  <a:lnTo>
                    <a:pt x="2920" y="396"/>
                  </a:lnTo>
                  <a:lnTo>
                    <a:pt x="2924" y="396"/>
                  </a:lnTo>
                  <a:lnTo>
                    <a:pt x="2924" y="403"/>
                  </a:lnTo>
                  <a:lnTo>
                    <a:pt x="2929" y="403"/>
                  </a:lnTo>
                  <a:lnTo>
                    <a:pt x="2929" y="420"/>
                  </a:lnTo>
                  <a:lnTo>
                    <a:pt x="2934" y="420"/>
                  </a:lnTo>
                  <a:lnTo>
                    <a:pt x="2934" y="462"/>
                  </a:lnTo>
                  <a:lnTo>
                    <a:pt x="2939" y="462"/>
                  </a:lnTo>
                  <a:lnTo>
                    <a:pt x="2939" y="479"/>
                  </a:lnTo>
                  <a:lnTo>
                    <a:pt x="2943" y="479"/>
                  </a:lnTo>
                  <a:lnTo>
                    <a:pt x="2943" y="503"/>
                  </a:lnTo>
                  <a:lnTo>
                    <a:pt x="2949" y="503"/>
                  </a:lnTo>
                  <a:lnTo>
                    <a:pt x="2949" y="539"/>
                  </a:lnTo>
                  <a:lnTo>
                    <a:pt x="2953" y="539"/>
                  </a:lnTo>
                  <a:lnTo>
                    <a:pt x="2953" y="568"/>
                  </a:lnTo>
                  <a:lnTo>
                    <a:pt x="2957" y="568"/>
                  </a:lnTo>
                  <a:lnTo>
                    <a:pt x="2957" y="585"/>
                  </a:lnTo>
                  <a:lnTo>
                    <a:pt x="2964" y="585"/>
                  </a:lnTo>
                  <a:lnTo>
                    <a:pt x="2964" y="621"/>
                  </a:lnTo>
                  <a:lnTo>
                    <a:pt x="2968" y="621"/>
                  </a:lnTo>
                  <a:lnTo>
                    <a:pt x="2968" y="639"/>
                  </a:lnTo>
                  <a:lnTo>
                    <a:pt x="2973" y="639"/>
                  </a:lnTo>
                  <a:lnTo>
                    <a:pt x="2973" y="658"/>
                  </a:lnTo>
                  <a:lnTo>
                    <a:pt x="2978" y="658"/>
                  </a:lnTo>
                  <a:lnTo>
                    <a:pt x="2978" y="669"/>
                  </a:lnTo>
                  <a:lnTo>
                    <a:pt x="2983" y="669"/>
                  </a:lnTo>
                  <a:lnTo>
                    <a:pt x="2983" y="699"/>
                  </a:lnTo>
                  <a:lnTo>
                    <a:pt x="2987" y="699"/>
                  </a:lnTo>
                  <a:lnTo>
                    <a:pt x="2987" y="722"/>
                  </a:lnTo>
                  <a:lnTo>
                    <a:pt x="2992" y="722"/>
                  </a:lnTo>
                  <a:lnTo>
                    <a:pt x="2992" y="734"/>
                  </a:lnTo>
                  <a:lnTo>
                    <a:pt x="2997" y="734"/>
                  </a:lnTo>
                  <a:lnTo>
                    <a:pt x="2997" y="757"/>
                  </a:lnTo>
                  <a:lnTo>
                    <a:pt x="3001" y="757"/>
                  </a:lnTo>
                  <a:lnTo>
                    <a:pt x="3001" y="786"/>
                  </a:lnTo>
                  <a:lnTo>
                    <a:pt x="3006" y="786"/>
                  </a:lnTo>
                  <a:lnTo>
                    <a:pt x="3006" y="822"/>
                  </a:lnTo>
                  <a:lnTo>
                    <a:pt x="3011" y="822"/>
                  </a:lnTo>
                  <a:lnTo>
                    <a:pt x="3011" y="857"/>
                  </a:lnTo>
                  <a:lnTo>
                    <a:pt x="3016" y="857"/>
                  </a:lnTo>
                  <a:lnTo>
                    <a:pt x="3016" y="917"/>
                  </a:lnTo>
                  <a:lnTo>
                    <a:pt x="3020" y="917"/>
                  </a:lnTo>
                  <a:lnTo>
                    <a:pt x="3020" y="940"/>
                  </a:lnTo>
                  <a:lnTo>
                    <a:pt x="3025" y="940"/>
                  </a:lnTo>
                  <a:lnTo>
                    <a:pt x="3025" y="958"/>
                  </a:lnTo>
                  <a:lnTo>
                    <a:pt x="3030" y="958"/>
                  </a:lnTo>
                  <a:lnTo>
                    <a:pt x="3030" y="976"/>
                  </a:lnTo>
                  <a:lnTo>
                    <a:pt x="3036" y="976"/>
                  </a:lnTo>
                  <a:lnTo>
                    <a:pt x="3036" y="999"/>
                  </a:lnTo>
                  <a:lnTo>
                    <a:pt x="3040" y="999"/>
                  </a:lnTo>
                  <a:lnTo>
                    <a:pt x="3040" y="1004"/>
                  </a:lnTo>
                  <a:lnTo>
                    <a:pt x="3045" y="1004"/>
                  </a:lnTo>
                  <a:lnTo>
                    <a:pt x="3045" y="1041"/>
                  </a:lnTo>
                  <a:lnTo>
                    <a:pt x="3050" y="1041"/>
                  </a:lnTo>
                  <a:lnTo>
                    <a:pt x="3050" y="1071"/>
                  </a:lnTo>
                  <a:lnTo>
                    <a:pt x="3045" y="1071"/>
                  </a:lnTo>
                  <a:lnTo>
                    <a:pt x="3045" y="1082"/>
                  </a:lnTo>
                  <a:lnTo>
                    <a:pt x="3040" y="1082"/>
                  </a:lnTo>
                  <a:lnTo>
                    <a:pt x="3040" y="1088"/>
                  </a:lnTo>
                  <a:lnTo>
                    <a:pt x="3036" y="1088"/>
                  </a:lnTo>
                  <a:lnTo>
                    <a:pt x="3036" y="1099"/>
                  </a:lnTo>
                  <a:lnTo>
                    <a:pt x="3030" y="1099"/>
                  </a:lnTo>
                  <a:lnTo>
                    <a:pt x="3030" y="1106"/>
                  </a:lnTo>
                  <a:lnTo>
                    <a:pt x="2997" y="1106"/>
                  </a:lnTo>
                  <a:lnTo>
                    <a:pt x="2997" y="1099"/>
                  </a:lnTo>
                  <a:lnTo>
                    <a:pt x="2992" y="1099"/>
                  </a:lnTo>
                  <a:lnTo>
                    <a:pt x="2992" y="1064"/>
                  </a:lnTo>
                  <a:lnTo>
                    <a:pt x="2987" y="1064"/>
                  </a:lnTo>
                  <a:lnTo>
                    <a:pt x="2987" y="1041"/>
                  </a:lnTo>
                  <a:lnTo>
                    <a:pt x="2983" y="1041"/>
                  </a:lnTo>
                  <a:lnTo>
                    <a:pt x="2983" y="1012"/>
                  </a:lnTo>
                  <a:lnTo>
                    <a:pt x="2978" y="1012"/>
                  </a:lnTo>
                  <a:lnTo>
                    <a:pt x="2978" y="993"/>
                  </a:lnTo>
                  <a:lnTo>
                    <a:pt x="2973" y="993"/>
                  </a:lnTo>
                  <a:lnTo>
                    <a:pt x="2973" y="963"/>
                  </a:lnTo>
                  <a:lnTo>
                    <a:pt x="2968" y="963"/>
                  </a:lnTo>
                  <a:lnTo>
                    <a:pt x="2968" y="946"/>
                  </a:lnTo>
                  <a:lnTo>
                    <a:pt x="2964" y="946"/>
                  </a:lnTo>
                  <a:lnTo>
                    <a:pt x="2964" y="917"/>
                  </a:lnTo>
                  <a:lnTo>
                    <a:pt x="2957" y="917"/>
                  </a:lnTo>
                  <a:lnTo>
                    <a:pt x="2957" y="876"/>
                  </a:lnTo>
                  <a:lnTo>
                    <a:pt x="2953" y="876"/>
                  </a:lnTo>
                  <a:lnTo>
                    <a:pt x="2953" y="822"/>
                  </a:lnTo>
                  <a:lnTo>
                    <a:pt x="2949" y="822"/>
                  </a:lnTo>
                  <a:lnTo>
                    <a:pt x="2949" y="792"/>
                  </a:lnTo>
                  <a:lnTo>
                    <a:pt x="2943" y="792"/>
                  </a:lnTo>
                  <a:lnTo>
                    <a:pt x="2943" y="750"/>
                  </a:lnTo>
                  <a:lnTo>
                    <a:pt x="2939" y="750"/>
                  </a:lnTo>
                  <a:lnTo>
                    <a:pt x="2939" y="727"/>
                  </a:lnTo>
                  <a:lnTo>
                    <a:pt x="2934" y="727"/>
                  </a:lnTo>
                  <a:lnTo>
                    <a:pt x="2934" y="691"/>
                  </a:lnTo>
                  <a:lnTo>
                    <a:pt x="2929" y="691"/>
                  </a:lnTo>
                  <a:lnTo>
                    <a:pt x="2929" y="674"/>
                  </a:lnTo>
                  <a:lnTo>
                    <a:pt x="2924" y="674"/>
                  </a:lnTo>
                  <a:lnTo>
                    <a:pt x="2924" y="650"/>
                  </a:lnTo>
                  <a:lnTo>
                    <a:pt x="2920" y="650"/>
                  </a:lnTo>
                  <a:lnTo>
                    <a:pt x="2920" y="626"/>
                  </a:lnTo>
                  <a:lnTo>
                    <a:pt x="2915" y="626"/>
                  </a:lnTo>
                  <a:lnTo>
                    <a:pt x="2915" y="615"/>
                  </a:lnTo>
                  <a:lnTo>
                    <a:pt x="2910" y="615"/>
                  </a:lnTo>
                  <a:lnTo>
                    <a:pt x="2910" y="580"/>
                  </a:lnTo>
                  <a:lnTo>
                    <a:pt x="2906" y="580"/>
                  </a:lnTo>
                  <a:lnTo>
                    <a:pt x="2906" y="544"/>
                  </a:lnTo>
                  <a:lnTo>
                    <a:pt x="2901" y="544"/>
                  </a:lnTo>
                  <a:lnTo>
                    <a:pt x="2901" y="520"/>
                  </a:lnTo>
                  <a:lnTo>
                    <a:pt x="2896" y="520"/>
                  </a:lnTo>
                  <a:lnTo>
                    <a:pt x="2896" y="497"/>
                  </a:lnTo>
                  <a:lnTo>
                    <a:pt x="2891" y="497"/>
                  </a:lnTo>
                  <a:lnTo>
                    <a:pt x="2891" y="473"/>
                  </a:lnTo>
                  <a:lnTo>
                    <a:pt x="2886" y="473"/>
                  </a:lnTo>
                  <a:lnTo>
                    <a:pt x="2886" y="449"/>
                  </a:lnTo>
                  <a:lnTo>
                    <a:pt x="2881" y="449"/>
                  </a:lnTo>
                  <a:lnTo>
                    <a:pt x="2881" y="425"/>
                  </a:lnTo>
                  <a:lnTo>
                    <a:pt x="2876" y="425"/>
                  </a:lnTo>
                  <a:lnTo>
                    <a:pt x="2876" y="420"/>
                  </a:lnTo>
                  <a:lnTo>
                    <a:pt x="2871" y="420"/>
                  </a:lnTo>
                  <a:lnTo>
                    <a:pt x="2871" y="403"/>
                  </a:lnTo>
                  <a:lnTo>
                    <a:pt x="2867" y="403"/>
                  </a:lnTo>
                  <a:lnTo>
                    <a:pt x="2867" y="391"/>
                  </a:lnTo>
                  <a:lnTo>
                    <a:pt x="2862" y="391"/>
                  </a:lnTo>
                  <a:lnTo>
                    <a:pt x="2862" y="378"/>
                  </a:lnTo>
                  <a:lnTo>
                    <a:pt x="2857" y="378"/>
                  </a:lnTo>
                  <a:lnTo>
                    <a:pt x="2857" y="367"/>
                  </a:lnTo>
                  <a:lnTo>
                    <a:pt x="2853" y="367"/>
                  </a:lnTo>
                  <a:lnTo>
                    <a:pt x="2853" y="349"/>
                  </a:lnTo>
                  <a:lnTo>
                    <a:pt x="2847" y="349"/>
                  </a:lnTo>
                  <a:lnTo>
                    <a:pt x="2847" y="326"/>
                  </a:lnTo>
                  <a:lnTo>
                    <a:pt x="2843" y="326"/>
                  </a:lnTo>
                  <a:lnTo>
                    <a:pt x="2843" y="308"/>
                  </a:lnTo>
                  <a:lnTo>
                    <a:pt x="2838" y="308"/>
                  </a:lnTo>
                  <a:lnTo>
                    <a:pt x="2838" y="291"/>
                  </a:lnTo>
                  <a:lnTo>
                    <a:pt x="2833" y="291"/>
                  </a:lnTo>
                  <a:lnTo>
                    <a:pt x="2833" y="272"/>
                  </a:lnTo>
                  <a:lnTo>
                    <a:pt x="2829" y="272"/>
                  </a:lnTo>
                  <a:lnTo>
                    <a:pt x="2829" y="250"/>
                  </a:lnTo>
                  <a:lnTo>
                    <a:pt x="2824" y="250"/>
                  </a:lnTo>
                  <a:lnTo>
                    <a:pt x="2824" y="231"/>
                  </a:lnTo>
                  <a:lnTo>
                    <a:pt x="2820" y="231"/>
                  </a:lnTo>
                  <a:lnTo>
                    <a:pt x="2820" y="218"/>
                  </a:lnTo>
                  <a:lnTo>
                    <a:pt x="2814" y="218"/>
                  </a:lnTo>
                  <a:lnTo>
                    <a:pt x="2814" y="207"/>
                  </a:lnTo>
                  <a:lnTo>
                    <a:pt x="2809" y="207"/>
                  </a:lnTo>
                  <a:lnTo>
                    <a:pt x="2809" y="196"/>
                  </a:lnTo>
                  <a:lnTo>
                    <a:pt x="2805" y="196"/>
                  </a:lnTo>
                  <a:lnTo>
                    <a:pt x="2805" y="185"/>
                  </a:lnTo>
                  <a:lnTo>
                    <a:pt x="2799" y="185"/>
                  </a:lnTo>
                  <a:lnTo>
                    <a:pt x="2799" y="172"/>
                  </a:lnTo>
                  <a:lnTo>
                    <a:pt x="2795" y="172"/>
                  </a:lnTo>
                  <a:lnTo>
                    <a:pt x="2795" y="160"/>
                  </a:lnTo>
                  <a:lnTo>
                    <a:pt x="2790" y="160"/>
                  </a:lnTo>
                  <a:lnTo>
                    <a:pt x="2790" y="148"/>
                  </a:lnTo>
                  <a:lnTo>
                    <a:pt x="2785" y="148"/>
                  </a:lnTo>
                  <a:lnTo>
                    <a:pt x="2785" y="136"/>
                  </a:lnTo>
                  <a:lnTo>
                    <a:pt x="2780" y="136"/>
                  </a:lnTo>
                  <a:lnTo>
                    <a:pt x="2780" y="125"/>
                  </a:lnTo>
                  <a:lnTo>
                    <a:pt x="2776" y="125"/>
                  </a:lnTo>
                  <a:lnTo>
                    <a:pt x="2776" y="112"/>
                  </a:lnTo>
                  <a:lnTo>
                    <a:pt x="2772" y="112"/>
                  </a:lnTo>
                  <a:lnTo>
                    <a:pt x="2772" y="101"/>
                  </a:lnTo>
                  <a:lnTo>
                    <a:pt x="2766" y="101"/>
                  </a:lnTo>
                  <a:lnTo>
                    <a:pt x="2766" y="95"/>
                  </a:lnTo>
                  <a:lnTo>
                    <a:pt x="2757" y="95"/>
                  </a:lnTo>
                  <a:lnTo>
                    <a:pt x="2757" y="90"/>
                  </a:lnTo>
                  <a:lnTo>
                    <a:pt x="2752" y="90"/>
                  </a:lnTo>
                  <a:lnTo>
                    <a:pt x="2752" y="82"/>
                  </a:lnTo>
                  <a:lnTo>
                    <a:pt x="2737" y="82"/>
                  </a:lnTo>
                  <a:lnTo>
                    <a:pt x="2737" y="90"/>
                  </a:lnTo>
                  <a:lnTo>
                    <a:pt x="2728" y="90"/>
                  </a:lnTo>
                  <a:lnTo>
                    <a:pt x="2728" y="95"/>
                  </a:lnTo>
                  <a:lnTo>
                    <a:pt x="2718" y="95"/>
                  </a:lnTo>
                  <a:lnTo>
                    <a:pt x="2718" y="101"/>
                  </a:lnTo>
                  <a:lnTo>
                    <a:pt x="2709" y="101"/>
                  </a:lnTo>
                  <a:lnTo>
                    <a:pt x="2709" y="107"/>
                  </a:lnTo>
                  <a:lnTo>
                    <a:pt x="2699" y="107"/>
                  </a:lnTo>
                  <a:lnTo>
                    <a:pt x="2699" y="112"/>
                  </a:lnTo>
                  <a:lnTo>
                    <a:pt x="2685" y="112"/>
                  </a:lnTo>
                  <a:lnTo>
                    <a:pt x="2685" y="119"/>
                  </a:lnTo>
                  <a:lnTo>
                    <a:pt x="2676" y="119"/>
                  </a:lnTo>
                  <a:lnTo>
                    <a:pt x="2676" y="125"/>
                  </a:lnTo>
                  <a:lnTo>
                    <a:pt x="2660" y="125"/>
                  </a:lnTo>
                  <a:lnTo>
                    <a:pt x="2660" y="131"/>
                  </a:lnTo>
                  <a:lnTo>
                    <a:pt x="2646" y="131"/>
                  </a:lnTo>
                  <a:lnTo>
                    <a:pt x="2646" y="136"/>
                  </a:lnTo>
                  <a:lnTo>
                    <a:pt x="2636" y="136"/>
                  </a:lnTo>
                  <a:lnTo>
                    <a:pt x="2636" y="142"/>
                  </a:lnTo>
                  <a:lnTo>
                    <a:pt x="2627" y="142"/>
                  </a:lnTo>
                  <a:lnTo>
                    <a:pt x="2627" y="148"/>
                  </a:lnTo>
                  <a:lnTo>
                    <a:pt x="2608" y="148"/>
                  </a:lnTo>
                  <a:lnTo>
                    <a:pt x="2608" y="153"/>
                  </a:lnTo>
                  <a:lnTo>
                    <a:pt x="2603" y="153"/>
                  </a:lnTo>
                  <a:lnTo>
                    <a:pt x="2603" y="160"/>
                  </a:lnTo>
                  <a:lnTo>
                    <a:pt x="2588" y="160"/>
                  </a:lnTo>
                  <a:lnTo>
                    <a:pt x="2588" y="166"/>
                  </a:lnTo>
                  <a:lnTo>
                    <a:pt x="2579" y="166"/>
                  </a:lnTo>
                  <a:lnTo>
                    <a:pt x="2579" y="172"/>
                  </a:lnTo>
                  <a:lnTo>
                    <a:pt x="2573" y="172"/>
                  </a:lnTo>
                  <a:lnTo>
                    <a:pt x="2573" y="177"/>
                  </a:lnTo>
                  <a:lnTo>
                    <a:pt x="2565" y="177"/>
                  </a:lnTo>
                  <a:lnTo>
                    <a:pt x="2565" y="185"/>
                  </a:lnTo>
                  <a:lnTo>
                    <a:pt x="2555" y="185"/>
                  </a:lnTo>
                  <a:lnTo>
                    <a:pt x="2555" y="190"/>
                  </a:lnTo>
                  <a:lnTo>
                    <a:pt x="2545" y="190"/>
                  </a:lnTo>
                  <a:lnTo>
                    <a:pt x="2545" y="196"/>
                  </a:lnTo>
                  <a:lnTo>
                    <a:pt x="2531" y="196"/>
                  </a:lnTo>
                  <a:lnTo>
                    <a:pt x="2531" y="201"/>
                  </a:lnTo>
                  <a:lnTo>
                    <a:pt x="2516" y="201"/>
                  </a:lnTo>
                  <a:lnTo>
                    <a:pt x="2516" y="207"/>
                  </a:lnTo>
                  <a:lnTo>
                    <a:pt x="2497" y="207"/>
                  </a:lnTo>
                  <a:lnTo>
                    <a:pt x="2497" y="213"/>
                  </a:lnTo>
                  <a:lnTo>
                    <a:pt x="2492" y="213"/>
                  </a:lnTo>
                  <a:lnTo>
                    <a:pt x="2492" y="218"/>
                  </a:lnTo>
                  <a:lnTo>
                    <a:pt x="2483" y="218"/>
                  </a:lnTo>
                  <a:lnTo>
                    <a:pt x="2483" y="226"/>
                  </a:lnTo>
                  <a:lnTo>
                    <a:pt x="2474" y="226"/>
                  </a:lnTo>
                  <a:lnTo>
                    <a:pt x="2474" y="231"/>
                  </a:lnTo>
                  <a:lnTo>
                    <a:pt x="2464" y="231"/>
                  </a:lnTo>
                  <a:lnTo>
                    <a:pt x="2464" y="237"/>
                  </a:lnTo>
                  <a:lnTo>
                    <a:pt x="2449" y="237"/>
                  </a:lnTo>
                  <a:lnTo>
                    <a:pt x="2449" y="243"/>
                  </a:lnTo>
                  <a:lnTo>
                    <a:pt x="2439" y="243"/>
                  </a:lnTo>
                  <a:lnTo>
                    <a:pt x="2439" y="250"/>
                  </a:lnTo>
                  <a:lnTo>
                    <a:pt x="2430" y="250"/>
                  </a:lnTo>
                  <a:lnTo>
                    <a:pt x="2430" y="255"/>
                  </a:lnTo>
                  <a:lnTo>
                    <a:pt x="2421" y="255"/>
                  </a:lnTo>
                  <a:lnTo>
                    <a:pt x="2421" y="261"/>
                  </a:lnTo>
                  <a:lnTo>
                    <a:pt x="2411" y="261"/>
                  </a:lnTo>
                  <a:lnTo>
                    <a:pt x="2411" y="267"/>
                  </a:lnTo>
                  <a:lnTo>
                    <a:pt x="2401" y="267"/>
                  </a:lnTo>
                  <a:lnTo>
                    <a:pt x="2401" y="272"/>
                  </a:lnTo>
                  <a:lnTo>
                    <a:pt x="2388" y="272"/>
                  </a:lnTo>
                  <a:lnTo>
                    <a:pt x="2388" y="278"/>
                  </a:lnTo>
                  <a:lnTo>
                    <a:pt x="2372" y="278"/>
                  </a:lnTo>
                  <a:lnTo>
                    <a:pt x="2372" y="284"/>
                  </a:lnTo>
                  <a:lnTo>
                    <a:pt x="2362" y="284"/>
                  </a:lnTo>
                  <a:lnTo>
                    <a:pt x="2362" y="291"/>
                  </a:lnTo>
                  <a:lnTo>
                    <a:pt x="2348" y="291"/>
                  </a:lnTo>
                  <a:lnTo>
                    <a:pt x="2348" y="296"/>
                  </a:lnTo>
                  <a:lnTo>
                    <a:pt x="2339" y="296"/>
                  </a:lnTo>
                  <a:lnTo>
                    <a:pt x="2339" y="302"/>
                  </a:lnTo>
                  <a:lnTo>
                    <a:pt x="2329" y="302"/>
                  </a:lnTo>
                  <a:lnTo>
                    <a:pt x="2329" y="308"/>
                  </a:lnTo>
                  <a:lnTo>
                    <a:pt x="2319" y="308"/>
                  </a:lnTo>
                  <a:lnTo>
                    <a:pt x="2319" y="313"/>
                  </a:lnTo>
                  <a:lnTo>
                    <a:pt x="2311" y="313"/>
                  </a:lnTo>
                  <a:lnTo>
                    <a:pt x="2311" y="319"/>
                  </a:lnTo>
                  <a:lnTo>
                    <a:pt x="2304" y="319"/>
                  </a:lnTo>
                  <a:lnTo>
                    <a:pt x="2304" y="326"/>
                  </a:lnTo>
                  <a:lnTo>
                    <a:pt x="2295" y="326"/>
                  </a:lnTo>
                  <a:lnTo>
                    <a:pt x="2295" y="331"/>
                  </a:lnTo>
                  <a:lnTo>
                    <a:pt x="2285" y="331"/>
                  </a:lnTo>
                  <a:lnTo>
                    <a:pt x="2285" y="337"/>
                  </a:lnTo>
                  <a:lnTo>
                    <a:pt x="2276" y="337"/>
                  </a:lnTo>
                  <a:lnTo>
                    <a:pt x="2276" y="343"/>
                  </a:lnTo>
                  <a:lnTo>
                    <a:pt x="2267" y="343"/>
                  </a:lnTo>
                  <a:lnTo>
                    <a:pt x="2267" y="349"/>
                  </a:lnTo>
                  <a:lnTo>
                    <a:pt x="2257" y="349"/>
                  </a:lnTo>
                  <a:lnTo>
                    <a:pt x="2257" y="354"/>
                  </a:lnTo>
                  <a:lnTo>
                    <a:pt x="2243" y="354"/>
                  </a:lnTo>
                  <a:lnTo>
                    <a:pt x="2243" y="362"/>
                  </a:lnTo>
                  <a:lnTo>
                    <a:pt x="2228" y="362"/>
                  </a:lnTo>
                  <a:lnTo>
                    <a:pt x="2228" y="367"/>
                  </a:lnTo>
                  <a:lnTo>
                    <a:pt x="2223" y="367"/>
                  </a:lnTo>
                  <a:lnTo>
                    <a:pt x="2223" y="372"/>
                  </a:lnTo>
                  <a:lnTo>
                    <a:pt x="2209" y="372"/>
                  </a:lnTo>
                  <a:lnTo>
                    <a:pt x="2209" y="378"/>
                  </a:lnTo>
                  <a:lnTo>
                    <a:pt x="2195" y="378"/>
                  </a:lnTo>
                  <a:lnTo>
                    <a:pt x="2195" y="384"/>
                  </a:lnTo>
                  <a:lnTo>
                    <a:pt x="2185" y="384"/>
                  </a:lnTo>
                  <a:lnTo>
                    <a:pt x="2185" y="391"/>
                  </a:lnTo>
                  <a:lnTo>
                    <a:pt x="2171" y="391"/>
                  </a:lnTo>
                  <a:lnTo>
                    <a:pt x="2171" y="396"/>
                  </a:lnTo>
                  <a:lnTo>
                    <a:pt x="2151" y="396"/>
                  </a:lnTo>
                  <a:lnTo>
                    <a:pt x="2151" y="403"/>
                  </a:lnTo>
                  <a:lnTo>
                    <a:pt x="2141" y="403"/>
                  </a:lnTo>
                  <a:lnTo>
                    <a:pt x="2141" y="408"/>
                  </a:lnTo>
                  <a:lnTo>
                    <a:pt x="2133" y="408"/>
                  </a:lnTo>
                  <a:lnTo>
                    <a:pt x="2133" y="414"/>
                  </a:lnTo>
                  <a:lnTo>
                    <a:pt x="2127" y="414"/>
                  </a:lnTo>
                  <a:lnTo>
                    <a:pt x="2127" y="420"/>
                  </a:lnTo>
                  <a:lnTo>
                    <a:pt x="2113" y="420"/>
                  </a:lnTo>
                  <a:lnTo>
                    <a:pt x="2113" y="425"/>
                  </a:lnTo>
                  <a:lnTo>
                    <a:pt x="2108" y="425"/>
                  </a:lnTo>
                  <a:lnTo>
                    <a:pt x="2108" y="432"/>
                  </a:lnTo>
                  <a:lnTo>
                    <a:pt x="2089" y="432"/>
                  </a:lnTo>
                  <a:lnTo>
                    <a:pt x="2089" y="438"/>
                  </a:lnTo>
                  <a:lnTo>
                    <a:pt x="2074" y="438"/>
                  </a:lnTo>
                  <a:lnTo>
                    <a:pt x="2074" y="444"/>
                  </a:lnTo>
                  <a:lnTo>
                    <a:pt x="2065" y="444"/>
                  </a:lnTo>
                  <a:lnTo>
                    <a:pt x="2065" y="449"/>
                  </a:lnTo>
                  <a:lnTo>
                    <a:pt x="2055" y="449"/>
                  </a:lnTo>
                  <a:lnTo>
                    <a:pt x="2055" y="455"/>
                  </a:lnTo>
                  <a:lnTo>
                    <a:pt x="2051" y="455"/>
                  </a:lnTo>
                  <a:lnTo>
                    <a:pt x="2051" y="462"/>
                  </a:lnTo>
                  <a:lnTo>
                    <a:pt x="2031" y="462"/>
                  </a:lnTo>
                  <a:lnTo>
                    <a:pt x="2031" y="468"/>
                  </a:lnTo>
                  <a:lnTo>
                    <a:pt x="2016" y="468"/>
                  </a:lnTo>
                  <a:lnTo>
                    <a:pt x="2016" y="473"/>
                  </a:lnTo>
                  <a:lnTo>
                    <a:pt x="2007" y="473"/>
                  </a:lnTo>
                  <a:lnTo>
                    <a:pt x="2007" y="479"/>
                  </a:lnTo>
                  <a:lnTo>
                    <a:pt x="1997" y="479"/>
                  </a:lnTo>
                  <a:lnTo>
                    <a:pt x="1997" y="485"/>
                  </a:lnTo>
                  <a:lnTo>
                    <a:pt x="1983" y="485"/>
                  </a:lnTo>
                  <a:lnTo>
                    <a:pt x="1983" y="490"/>
                  </a:lnTo>
                  <a:lnTo>
                    <a:pt x="1974" y="490"/>
                  </a:lnTo>
                  <a:lnTo>
                    <a:pt x="1974" y="497"/>
                  </a:lnTo>
                  <a:lnTo>
                    <a:pt x="1955" y="497"/>
                  </a:lnTo>
                  <a:lnTo>
                    <a:pt x="1955" y="503"/>
                  </a:lnTo>
                  <a:lnTo>
                    <a:pt x="1950" y="503"/>
                  </a:lnTo>
                  <a:lnTo>
                    <a:pt x="1950" y="509"/>
                  </a:lnTo>
                  <a:lnTo>
                    <a:pt x="1934" y="509"/>
                  </a:lnTo>
                  <a:lnTo>
                    <a:pt x="1934" y="514"/>
                  </a:lnTo>
                  <a:lnTo>
                    <a:pt x="1926" y="514"/>
                  </a:lnTo>
                  <a:lnTo>
                    <a:pt x="1926" y="520"/>
                  </a:lnTo>
                  <a:lnTo>
                    <a:pt x="1907" y="520"/>
                  </a:lnTo>
                  <a:lnTo>
                    <a:pt x="1907" y="527"/>
                  </a:lnTo>
                  <a:lnTo>
                    <a:pt x="1897" y="527"/>
                  </a:lnTo>
                  <a:lnTo>
                    <a:pt x="1897" y="532"/>
                  </a:lnTo>
                  <a:lnTo>
                    <a:pt x="1887" y="532"/>
                  </a:lnTo>
                  <a:lnTo>
                    <a:pt x="1887" y="539"/>
                  </a:lnTo>
                  <a:lnTo>
                    <a:pt x="1853" y="539"/>
                  </a:lnTo>
                  <a:lnTo>
                    <a:pt x="1853" y="544"/>
                  </a:lnTo>
                  <a:lnTo>
                    <a:pt x="1839" y="544"/>
                  </a:lnTo>
                  <a:lnTo>
                    <a:pt x="1839" y="550"/>
                  </a:lnTo>
                  <a:lnTo>
                    <a:pt x="1825" y="550"/>
                  </a:lnTo>
                  <a:lnTo>
                    <a:pt x="1825" y="555"/>
                  </a:lnTo>
                  <a:lnTo>
                    <a:pt x="1800" y="555"/>
                  </a:lnTo>
                  <a:lnTo>
                    <a:pt x="1800" y="563"/>
                  </a:lnTo>
                  <a:lnTo>
                    <a:pt x="1791" y="563"/>
                  </a:lnTo>
                  <a:lnTo>
                    <a:pt x="1791" y="568"/>
                  </a:lnTo>
                  <a:lnTo>
                    <a:pt x="1782" y="568"/>
                  </a:lnTo>
                  <a:lnTo>
                    <a:pt x="1782" y="573"/>
                  </a:lnTo>
                  <a:lnTo>
                    <a:pt x="1776" y="573"/>
                  </a:lnTo>
                  <a:lnTo>
                    <a:pt x="1776" y="580"/>
                  </a:lnTo>
                  <a:lnTo>
                    <a:pt x="1743" y="580"/>
                  </a:lnTo>
                  <a:lnTo>
                    <a:pt x="1743" y="585"/>
                  </a:lnTo>
                  <a:lnTo>
                    <a:pt x="1728" y="585"/>
                  </a:lnTo>
                  <a:lnTo>
                    <a:pt x="1728" y="591"/>
                  </a:lnTo>
                  <a:lnTo>
                    <a:pt x="1705" y="591"/>
                  </a:lnTo>
                  <a:lnTo>
                    <a:pt x="1705" y="598"/>
                  </a:lnTo>
                  <a:lnTo>
                    <a:pt x="1676" y="598"/>
                  </a:lnTo>
                  <a:lnTo>
                    <a:pt x="1676" y="604"/>
                  </a:lnTo>
                  <a:lnTo>
                    <a:pt x="1656" y="604"/>
                  </a:lnTo>
                  <a:lnTo>
                    <a:pt x="1656" y="609"/>
                  </a:lnTo>
                  <a:lnTo>
                    <a:pt x="1460" y="609"/>
                  </a:lnTo>
                  <a:lnTo>
                    <a:pt x="1460" y="615"/>
                  </a:lnTo>
                  <a:lnTo>
                    <a:pt x="1451" y="615"/>
                  </a:lnTo>
                  <a:lnTo>
                    <a:pt x="1451" y="621"/>
                  </a:lnTo>
                  <a:lnTo>
                    <a:pt x="1431" y="621"/>
                  </a:lnTo>
                  <a:lnTo>
                    <a:pt x="1431" y="626"/>
                  </a:lnTo>
                  <a:lnTo>
                    <a:pt x="1426" y="626"/>
                  </a:lnTo>
                  <a:lnTo>
                    <a:pt x="1426" y="633"/>
                  </a:lnTo>
                  <a:lnTo>
                    <a:pt x="1421" y="633"/>
                  </a:lnTo>
                  <a:lnTo>
                    <a:pt x="1421" y="639"/>
                  </a:lnTo>
                  <a:lnTo>
                    <a:pt x="1416" y="639"/>
                  </a:lnTo>
                  <a:lnTo>
                    <a:pt x="1416" y="650"/>
                  </a:lnTo>
                  <a:lnTo>
                    <a:pt x="1398" y="650"/>
                  </a:lnTo>
                  <a:lnTo>
                    <a:pt x="1398" y="658"/>
                  </a:lnTo>
                  <a:lnTo>
                    <a:pt x="1388" y="658"/>
                  </a:lnTo>
                  <a:lnTo>
                    <a:pt x="1388" y="663"/>
                  </a:lnTo>
                  <a:lnTo>
                    <a:pt x="1374" y="663"/>
                  </a:lnTo>
                  <a:lnTo>
                    <a:pt x="1374" y="669"/>
                  </a:lnTo>
                  <a:lnTo>
                    <a:pt x="1369" y="669"/>
                  </a:lnTo>
                  <a:lnTo>
                    <a:pt x="1369" y="674"/>
                  </a:lnTo>
                  <a:lnTo>
                    <a:pt x="1364" y="674"/>
                  </a:lnTo>
                  <a:lnTo>
                    <a:pt x="1364" y="680"/>
                  </a:lnTo>
                  <a:lnTo>
                    <a:pt x="1349" y="680"/>
                  </a:lnTo>
                  <a:lnTo>
                    <a:pt x="1349" y="686"/>
                  </a:lnTo>
                  <a:lnTo>
                    <a:pt x="1339" y="686"/>
                  </a:lnTo>
                  <a:lnTo>
                    <a:pt x="1339" y="691"/>
                  </a:lnTo>
                  <a:lnTo>
                    <a:pt x="1335" y="691"/>
                  </a:lnTo>
                  <a:lnTo>
                    <a:pt x="1335" y="699"/>
                  </a:lnTo>
                  <a:lnTo>
                    <a:pt x="1321" y="699"/>
                  </a:lnTo>
                  <a:lnTo>
                    <a:pt x="1321" y="704"/>
                  </a:lnTo>
                  <a:lnTo>
                    <a:pt x="1311" y="704"/>
                  </a:lnTo>
                  <a:lnTo>
                    <a:pt x="1311" y="710"/>
                  </a:lnTo>
                  <a:lnTo>
                    <a:pt x="1306" y="710"/>
                  </a:lnTo>
                  <a:lnTo>
                    <a:pt x="1306" y="716"/>
                  </a:lnTo>
                  <a:lnTo>
                    <a:pt x="1297" y="716"/>
                  </a:lnTo>
                  <a:lnTo>
                    <a:pt x="1297" y="722"/>
                  </a:lnTo>
                  <a:lnTo>
                    <a:pt x="1282" y="722"/>
                  </a:lnTo>
                  <a:lnTo>
                    <a:pt x="1282" y="727"/>
                  </a:lnTo>
                  <a:lnTo>
                    <a:pt x="1272" y="727"/>
                  </a:lnTo>
                  <a:lnTo>
                    <a:pt x="1272" y="734"/>
                  </a:lnTo>
                  <a:lnTo>
                    <a:pt x="1262" y="734"/>
                  </a:lnTo>
                  <a:lnTo>
                    <a:pt x="1262" y="739"/>
                  </a:lnTo>
                  <a:lnTo>
                    <a:pt x="1253" y="739"/>
                  </a:lnTo>
                  <a:lnTo>
                    <a:pt x="1253" y="745"/>
                  </a:lnTo>
                  <a:lnTo>
                    <a:pt x="1248" y="745"/>
                  </a:lnTo>
                  <a:lnTo>
                    <a:pt x="1248" y="750"/>
                  </a:lnTo>
                  <a:lnTo>
                    <a:pt x="1235" y="750"/>
                  </a:lnTo>
                  <a:lnTo>
                    <a:pt x="1235" y="757"/>
                  </a:lnTo>
                  <a:lnTo>
                    <a:pt x="1225" y="757"/>
                  </a:lnTo>
                  <a:lnTo>
                    <a:pt x="1225" y="762"/>
                  </a:lnTo>
                  <a:lnTo>
                    <a:pt x="1219" y="762"/>
                  </a:lnTo>
                  <a:lnTo>
                    <a:pt x="1219" y="769"/>
                  </a:lnTo>
                  <a:lnTo>
                    <a:pt x="1209" y="769"/>
                  </a:lnTo>
                  <a:lnTo>
                    <a:pt x="1209" y="775"/>
                  </a:lnTo>
                  <a:lnTo>
                    <a:pt x="1200" y="775"/>
                  </a:lnTo>
                  <a:lnTo>
                    <a:pt x="1200" y="781"/>
                  </a:lnTo>
                  <a:lnTo>
                    <a:pt x="1195" y="781"/>
                  </a:lnTo>
                  <a:lnTo>
                    <a:pt x="1195" y="786"/>
                  </a:lnTo>
                  <a:lnTo>
                    <a:pt x="1186" y="786"/>
                  </a:lnTo>
                  <a:lnTo>
                    <a:pt x="1186" y="792"/>
                  </a:lnTo>
                  <a:lnTo>
                    <a:pt x="1176" y="792"/>
                  </a:lnTo>
                  <a:lnTo>
                    <a:pt x="1176" y="799"/>
                  </a:lnTo>
                  <a:lnTo>
                    <a:pt x="1166" y="799"/>
                  </a:lnTo>
                  <a:lnTo>
                    <a:pt x="1166" y="804"/>
                  </a:lnTo>
                  <a:lnTo>
                    <a:pt x="1158" y="804"/>
                  </a:lnTo>
                  <a:lnTo>
                    <a:pt x="1158" y="810"/>
                  </a:lnTo>
                  <a:lnTo>
                    <a:pt x="1152" y="810"/>
                  </a:lnTo>
                  <a:lnTo>
                    <a:pt x="1152" y="816"/>
                  </a:lnTo>
                  <a:lnTo>
                    <a:pt x="1147" y="816"/>
                  </a:lnTo>
                  <a:lnTo>
                    <a:pt x="1147" y="822"/>
                  </a:lnTo>
                  <a:lnTo>
                    <a:pt x="1132" y="822"/>
                  </a:lnTo>
                  <a:lnTo>
                    <a:pt x="1132" y="827"/>
                  </a:lnTo>
                  <a:lnTo>
                    <a:pt x="1124" y="827"/>
                  </a:lnTo>
                  <a:lnTo>
                    <a:pt x="1124" y="835"/>
                  </a:lnTo>
                  <a:lnTo>
                    <a:pt x="1104" y="835"/>
                  </a:lnTo>
                  <a:lnTo>
                    <a:pt x="1104" y="840"/>
                  </a:lnTo>
                  <a:lnTo>
                    <a:pt x="1095" y="840"/>
                  </a:lnTo>
                  <a:lnTo>
                    <a:pt x="1095" y="845"/>
                  </a:lnTo>
                  <a:lnTo>
                    <a:pt x="1091" y="845"/>
                  </a:lnTo>
                  <a:lnTo>
                    <a:pt x="1091" y="851"/>
                  </a:lnTo>
                  <a:lnTo>
                    <a:pt x="1081" y="851"/>
                  </a:lnTo>
                  <a:lnTo>
                    <a:pt x="1081" y="857"/>
                  </a:lnTo>
                  <a:lnTo>
                    <a:pt x="1075" y="857"/>
                  </a:lnTo>
                  <a:lnTo>
                    <a:pt x="1075" y="863"/>
                  </a:lnTo>
                  <a:lnTo>
                    <a:pt x="1066" y="863"/>
                  </a:lnTo>
                  <a:lnTo>
                    <a:pt x="1066" y="868"/>
                  </a:lnTo>
                  <a:lnTo>
                    <a:pt x="1061" y="868"/>
                  </a:lnTo>
                  <a:lnTo>
                    <a:pt x="1061" y="876"/>
                  </a:lnTo>
                  <a:lnTo>
                    <a:pt x="1051" y="876"/>
                  </a:lnTo>
                  <a:lnTo>
                    <a:pt x="1051" y="881"/>
                  </a:lnTo>
                  <a:lnTo>
                    <a:pt x="1042" y="881"/>
                  </a:lnTo>
                  <a:lnTo>
                    <a:pt x="1042" y="887"/>
                  </a:lnTo>
                  <a:lnTo>
                    <a:pt x="1023" y="887"/>
                  </a:lnTo>
                  <a:lnTo>
                    <a:pt x="1023" y="893"/>
                  </a:lnTo>
                  <a:lnTo>
                    <a:pt x="1014" y="893"/>
                  </a:lnTo>
                  <a:lnTo>
                    <a:pt x="1014" y="898"/>
                  </a:lnTo>
                  <a:lnTo>
                    <a:pt x="1003" y="898"/>
                  </a:lnTo>
                  <a:lnTo>
                    <a:pt x="1003" y="905"/>
                  </a:lnTo>
                  <a:lnTo>
                    <a:pt x="989" y="905"/>
                  </a:lnTo>
                  <a:lnTo>
                    <a:pt x="989" y="911"/>
                  </a:lnTo>
                  <a:lnTo>
                    <a:pt x="980" y="911"/>
                  </a:lnTo>
                  <a:lnTo>
                    <a:pt x="980" y="917"/>
                  </a:lnTo>
                  <a:lnTo>
                    <a:pt x="965" y="917"/>
                  </a:lnTo>
                  <a:lnTo>
                    <a:pt x="965" y="922"/>
                  </a:lnTo>
                  <a:lnTo>
                    <a:pt x="955" y="922"/>
                  </a:lnTo>
                  <a:lnTo>
                    <a:pt x="955" y="928"/>
                  </a:lnTo>
                  <a:lnTo>
                    <a:pt x="951" y="928"/>
                  </a:lnTo>
                  <a:lnTo>
                    <a:pt x="951" y="935"/>
                  </a:lnTo>
                  <a:lnTo>
                    <a:pt x="937" y="935"/>
                  </a:lnTo>
                  <a:lnTo>
                    <a:pt x="937" y="940"/>
                  </a:lnTo>
                  <a:lnTo>
                    <a:pt x="926" y="940"/>
                  </a:lnTo>
                  <a:lnTo>
                    <a:pt x="926" y="946"/>
                  </a:lnTo>
                  <a:lnTo>
                    <a:pt x="917" y="946"/>
                  </a:lnTo>
                  <a:lnTo>
                    <a:pt x="917" y="952"/>
                  </a:lnTo>
                  <a:lnTo>
                    <a:pt x="907" y="952"/>
                  </a:lnTo>
                  <a:lnTo>
                    <a:pt x="907" y="958"/>
                  </a:lnTo>
                  <a:lnTo>
                    <a:pt x="898" y="958"/>
                  </a:lnTo>
                  <a:lnTo>
                    <a:pt x="898" y="963"/>
                  </a:lnTo>
                  <a:lnTo>
                    <a:pt x="888" y="963"/>
                  </a:lnTo>
                  <a:lnTo>
                    <a:pt x="888" y="970"/>
                  </a:lnTo>
                  <a:lnTo>
                    <a:pt x="884" y="970"/>
                  </a:lnTo>
                  <a:lnTo>
                    <a:pt x="884" y="976"/>
                  </a:lnTo>
                  <a:lnTo>
                    <a:pt x="874" y="976"/>
                  </a:lnTo>
                  <a:lnTo>
                    <a:pt x="874" y="982"/>
                  </a:lnTo>
                  <a:lnTo>
                    <a:pt x="864" y="982"/>
                  </a:lnTo>
                  <a:lnTo>
                    <a:pt x="864" y="987"/>
                  </a:lnTo>
                  <a:lnTo>
                    <a:pt x="854" y="987"/>
                  </a:lnTo>
                  <a:lnTo>
                    <a:pt x="854" y="993"/>
                  </a:lnTo>
                  <a:lnTo>
                    <a:pt x="850" y="993"/>
                  </a:lnTo>
                  <a:lnTo>
                    <a:pt x="850" y="999"/>
                  </a:lnTo>
                  <a:lnTo>
                    <a:pt x="840" y="999"/>
                  </a:lnTo>
                  <a:lnTo>
                    <a:pt x="840" y="1004"/>
                  </a:lnTo>
                  <a:lnTo>
                    <a:pt x="835" y="1004"/>
                  </a:lnTo>
                  <a:lnTo>
                    <a:pt x="835" y="1012"/>
                  </a:lnTo>
                  <a:lnTo>
                    <a:pt x="821" y="1012"/>
                  </a:lnTo>
                  <a:lnTo>
                    <a:pt x="821" y="1017"/>
                  </a:lnTo>
                  <a:lnTo>
                    <a:pt x="807" y="1017"/>
                  </a:lnTo>
                  <a:lnTo>
                    <a:pt x="807" y="1023"/>
                  </a:lnTo>
                  <a:lnTo>
                    <a:pt x="797" y="1023"/>
                  </a:lnTo>
                  <a:lnTo>
                    <a:pt x="797" y="1028"/>
                  </a:lnTo>
                  <a:lnTo>
                    <a:pt x="792" y="1028"/>
                  </a:lnTo>
                  <a:lnTo>
                    <a:pt x="792" y="1036"/>
                  </a:lnTo>
                  <a:lnTo>
                    <a:pt x="788" y="1036"/>
                  </a:lnTo>
                  <a:lnTo>
                    <a:pt x="788" y="1041"/>
                  </a:lnTo>
                  <a:lnTo>
                    <a:pt x="777" y="1041"/>
                  </a:lnTo>
                  <a:lnTo>
                    <a:pt x="777" y="1046"/>
                  </a:lnTo>
                  <a:lnTo>
                    <a:pt x="768" y="1046"/>
                  </a:lnTo>
                  <a:lnTo>
                    <a:pt x="768" y="1053"/>
                  </a:lnTo>
                  <a:lnTo>
                    <a:pt x="763" y="1053"/>
                  </a:lnTo>
                  <a:lnTo>
                    <a:pt x="763" y="1058"/>
                  </a:lnTo>
                  <a:lnTo>
                    <a:pt x="749" y="1058"/>
                  </a:lnTo>
                  <a:lnTo>
                    <a:pt x="749" y="1064"/>
                  </a:lnTo>
                  <a:lnTo>
                    <a:pt x="740" y="1064"/>
                  </a:lnTo>
                  <a:lnTo>
                    <a:pt x="740" y="1071"/>
                  </a:lnTo>
                  <a:lnTo>
                    <a:pt x="730" y="1071"/>
                  </a:lnTo>
                  <a:lnTo>
                    <a:pt x="730" y="1077"/>
                  </a:lnTo>
                  <a:lnTo>
                    <a:pt x="720" y="1077"/>
                  </a:lnTo>
                  <a:lnTo>
                    <a:pt x="720" y="1082"/>
                  </a:lnTo>
                  <a:lnTo>
                    <a:pt x="716" y="1082"/>
                  </a:lnTo>
                  <a:lnTo>
                    <a:pt x="716" y="1088"/>
                  </a:lnTo>
                  <a:lnTo>
                    <a:pt x="710" y="1088"/>
                  </a:lnTo>
                  <a:lnTo>
                    <a:pt x="710" y="1094"/>
                  </a:lnTo>
                  <a:lnTo>
                    <a:pt x="700" y="1094"/>
                  </a:lnTo>
                  <a:lnTo>
                    <a:pt x="700" y="1099"/>
                  </a:lnTo>
                  <a:lnTo>
                    <a:pt x="692" y="1099"/>
                  </a:lnTo>
                  <a:lnTo>
                    <a:pt x="692" y="1106"/>
                  </a:lnTo>
                  <a:lnTo>
                    <a:pt x="682" y="1106"/>
                  </a:lnTo>
                  <a:lnTo>
                    <a:pt x="682" y="1112"/>
                  </a:lnTo>
                  <a:lnTo>
                    <a:pt x="672" y="1112"/>
                  </a:lnTo>
                  <a:lnTo>
                    <a:pt x="672" y="1118"/>
                  </a:lnTo>
                  <a:lnTo>
                    <a:pt x="663" y="1118"/>
                  </a:lnTo>
                  <a:lnTo>
                    <a:pt x="663" y="1123"/>
                  </a:lnTo>
                  <a:lnTo>
                    <a:pt x="653" y="1123"/>
                  </a:lnTo>
                  <a:lnTo>
                    <a:pt x="653" y="1131"/>
                  </a:lnTo>
                  <a:lnTo>
                    <a:pt x="644" y="1131"/>
                  </a:lnTo>
                  <a:lnTo>
                    <a:pt x="644" y="1136"/>
                  </a:lnTo>
                  <a:lnTo>
                    <a:pt x="633" y="1136"/>
                  </a:lnTo>
                  <a:lnTo>
                    <a:pt x="633" y="1142"/>
                  </a:lnTo>
                  <a:lnTo>
                    <a:pt x="623" y="1142"/>
                  </a:lnTo>
                  <a:lnTo>
                    <a:pt x="623" y="1147"/>
                  </a:lnTo>
                  <a:lnTo>
                    <a:pt x="614" y="1147"/>
                  </a:lnTo>
                  <a:lnTo>
                    <a:pt x="614" y="1153"/>
                  </a:lnTo>
                  <a:lnTo>
                    <a:pt x="610" y="1153"/>
                  </a:lnTo>
                  <a:lnTo>
                    <a:pt x="610" y="1158"/>
                  </a:lnTo>
                  <a:lnTo>
                    <a:pt x="605" y="1158"/>
                  </a:lnTo>
                  <a:lnTo>
                    <a:pt x="605" y="1164"/>
                  </a:lnTo>
                  <a:lnTo>
                    <a:pt x="590" y="1164"/>
                  </a:lnTo>
                  <a:lnTo>
                    <a:pt x="590" y="1170"/>
                  </a:lnTo>
                  <a:lnTo>
                    <a:pt x="586" y="1170"/>
                  </a:lnTo>
                  <a:lnTo>
                    <a:pt x="586" y="1177"/>
                  </a:lnTo>
                  <a:lnTo>
                    <a:pt x="571" y="1177"/>
                  </a:lnTo>
                  <a:lnTo>
                    <a:pt x="571" y="1182"/>
                  </a:lnTo>
                  <a:lnTo>
                    <a:pt x="561" y="1182"/>
                  </a:lnTo>
                  <a:lnTo>
                    <a:pt x="561" y="1189"/>
                  </a:lnTo>
                  <a:lnTo>
                    <a:pt x="556" y="1189"/>
                  </a:lnTo>
                  <a:lnTo>
                    <a:pt x="556" y="1194"/>
                  </a:lnTo>
                  <a:lnTo>
                    <a:pt x="547" y="1194"/>
                  </a:lnTo>
                  <a:lnTo>
                    <a:pt x="547" y="1200"/>
                  </a:lnTo>
                  <a:lnTo>
                    <a:pt x="542" y="1200"/>
                  </a:lnTo>
                  <a:lnTo>
                    <a:pt x="542" y="1205"/>
                  </a:lnTo>
                  <a:lnTo>
                    <a:pt x="528" y="1205"/>
                  </a:lnTo>
                  <a:lnTo>
                    <a:pt x="528" y="1212"/>
                  </a:lnTo>
                  <a:lnTo>
                    <a:pt x="514" y="1212"/>
                  </a:lnTo>
                  <a:lnTo>
                    <a:pt x="514" y="1218"/>
                  </a:lnTo>
                  <a:lnTo>
                    <a:pt x="504" y="1218"/>
                  </a:lnTo>
                  <a:lnTo>
                    <a:pt x="504" y="1223"/>
                  </a:lnTo>
                  <a:lnTo>
                    <a:pt x="493" y="1223"/>
                  </a:lnTo>
                  <a:lnTo>
                    <a:pt x="493" y="1230"/>
                  </a:lnTo>
                  <a:lnTo>
                    <a:pt x="484" y="1230"/>
                  </a:lnTo>
                  <a:lnTo>
                    <a:pt x="484" y="1235"/>
                  </a:lnTo>
                  <a:lnTo>
                    <a:pt x="479" y="1235"/>
                  </a:lnTo>
                  <a:lnTo>
                    <a:pt x="479" y="1242"/>
                  </a:lnTo>
                  <a:lnTo>
                    <a:pt x="475" y="1242"/>
                  </a:lnTo>
                  <a:lnTo>
                    <a:pt x="475" y="1248"/>
                  </a:lnTo>
                  <a:lnTo>
                    <a:pt x="470" y="1248"/>
                  </a:lnTo>
                  <a:lnTo>
                    <a:pt x="470" y="1254"/>
                  </a:lnTo>
                  <a:lnTo>
                    <a:pt x="460" y="1254"/>
                  </a:lnTo>
                  <a:lnTo>
                    <a:pt x="460" y="1259"/>
                  </a:lnTo>
                  <a:lnTo>
                    <a:pt x="451" y="1259"/>
                  </a:lnTo>
                  <a:lnTo>
                    <a:pt x="451" y="1265"/>
                  </a:lnTo>
                  <a:lnTo>
                    <a:pt x="442" y="1265"/>
                  </a:lnTo>
                  <a:lnTo>
                    <a:pt x="442" y="1272"/>
                  </a:lnTo>
                  <a:lnTo>
                    <a:pt x="432" y="1272"/>
                  </a:lnTo>
                  <a:lnTo>
                    <a:pt x="432" y="1277"/>
                  </a:lnTo>
                  <a:lnTo>
                    <a:pt x="428" y="1277"/>
                  </a:lnTo>
                  <a:lnTo>
                    <a:pt x="428" y="1283"/>
                  </a:lnTo>
                  <a:lnTo>
                    <a:pt x="422" y="1283"/>
                  </a:lnTo>
                  <a:lnTo>
                    <a:pt x="422" y="1289"/>
                  </a:lnTo>
                  <a:lnTo>
                    <a:pt x="417" y="1289"/>
                  </a:lnTo>
                  <a:lnTo>
                    <a:pt x="417" y="1295"/>
                  </a:lnTo>
                  <a:lnTo>
                    <a:pt x="408" y="1295"/>
                  </a:lnTo>
                  <a:lnTo>
                    <a:pt x="408" y="1300"/>
                  </a:lnTo>
                  <a:lnTo>
                    <a:pt x="398" y="1300"/>
                  </a:lnTo>
                  <a:lnTo>
                    <a:pt x="398" y="1306"/>
                  </a:lnTo>
                  <a:lnTo>
                    <a:pt x="389" y="1306"/>
                  </a:lnTo>
                  <a:lnTo>
                    <a:pt x="389" y="1313"/>
                  </a:lnTo>
                  <a:lnTo>
                    <a:pt x="379" y="1313"/>
                  </a:lnTo>
                  <a:lnTo>
                    <a:pt x="379" y="1318"/>
                  </a:lnTo>
                  <a:lnTo>
                    <a:pt x="375" y="1318"/>
                  </a:lnTo>
                  <a:lnTo>
                    <a:pt x="375" y="1324"/>
                  </a:lnTo>
                  <a:lnTo>
                    <a:pt x="360" y="1324"/>
                  </a:lnTo>
                  <a:lnTo>
                    <a:pt x="360" y="1330"/>
                  </a:lnTo>
                  <a:lnTo>
                    <a:pt x="356" y="1330"/>
                  </a:lnTo>
                  <a:lnTo>
                    <a:pt x="356" y="1336"/>
                  </a:lnTo>
                  <a:lnTo>
                    <a:pt x="345" y="1336"/>
                  </a:lnTo>
                  <a:lnTo>
                    <a:pt x="345" y="1341"/>
                  </a:lnTo>
                  <a:lnTo>
                    <a:pt x="341" y="1341"/>
                  </a:lnTo>
                  <a:lnTo>
                    <a:pt x="341" y="1349"/>
                  </a:lnTo>
                  <a:lnTo>
                    <a:pt x="326" y="1349"/>
                  </a:lnTo>
                  <a:lnTo>
                    <a:pt x="326" y="1354"/>
                  </a:lnTo>
                  <a:lnTo>
                    <a:pt x="316" y="1354"/>
                  </a:lnTo>
                  <a:lnTo>
                    <a:pt x="316" y="1359"/>
                  </a:lnTo>
                  <a:lnTo>
                    <a:pt x="312" y="1359"/>
                  </a:lnTo>
                  <a:lnTo>
                    <a:pt x="312" y="1366"/>
                  </a:lnTo>
                  <a:lnTo>
                    <a:pt x="308" y="1366"/>
                  </a:lnTo>
                  <a:lnTo>
                    <a:pt x="308" y="1371"/>
                  </a:lnTo>
                  <a:lnTo>
                    <a:pt x="302" y="1371"/>
                  </a:lnTo>
                  <a:lnTo>
                    <a:pt x="302" y="1378"/>
                  </a:lnTo>
                  <a:lnTo>
                    <a:pt x="293" y="1378"/>
                  </a:lnTo>
                  <a:lnTo>
                    <a:pt x="293" y="1384"/>
                  </a:lnTo>
                  <a:lnTo>
                    <a:pt x="288" y="1384"/>
                  </a:lnTo>
                  <a:lnTo>
                    <a:pt x="288" y="1390"/>
                  </a:lnTo>
                  <a:lnTo>
                    <a:pt x="283" y="1390"/>
                  </a:lnTo>
                  <a:lnTo>
                    <a:pt x="283" y="1395"/>
                  </a:lnTo>
                  <a:lnTo>
                    <a:pt x="273" y="1395"/>
                  </a:lnTo>
                  <a:lnTo>
                    <a:pt x="273" y="1401"/>
                  </a:lnTo>
                  <a:lnTo>
                    <a:pt x="268" y="1401"/>
                  </a:lnTo>
                  <a:lnTo>
                    <a:pt x="268" y="1408"/>
                  </a:lnTo>
                  <a:lnTo>
                    <a:pt x="254" y="1408"/>
                  </a:lnTo>
                  <a:lnTo>
                    <a:pt x="254" y="1413"/>
                  </a:lnTo>
                  <a:lnTo>
                    <a:pt x="249" y="1413"/>
                  </a:lnTo>
                  <a:lnTo>
                    <a:pt x="249" y="1419"/>
                  </a:lnTo>
                  <a:lnTo>
                    <a:pt x="245" y="1419"/>
                  </a:lnTo>
                  <a:lnTo>
                    <a:pt x="245" y="1425"/>
                  </a:lnTo>
                  <a:lnTo>
                    <a:pt x="230" y="1425"/>
                  </a:lnTo>
                  <a:lnTo>
                    <a:pt x="230" y="1431"/>
                  </a:lnTo>
                  <a:lnTo>
                    <a:pt x="226" y="1431"/>
                  </a:lnTo>
                  <a:lnTo>
                    <a:pt x="226" y="1436"/>
                  </a:lnTo>
                  <a:lnTo>
                    <a:pt x="216" y="1436"/>
                  </a:lnTo>
                  <a:lnTo>
                    <a:pt x="216" y="1442"/>
                  </a:lnTo>
                  <a:lnTo>
                    <a:pt x="205" y="1442"/>
                  </a:lnTo>
                  <a:lnTo>
                    <a:pt x="205" y="1449"/>
                  </a:lnTo>
                  <a:lnTo>
                    <a:pt x="201" y="1449"/>
                  </a:lnTo>
                  <a:lnTo>
                    <a:pt x="201" y="1455"/>
                  </a:lnTo>
                  <a:lnTo>
                    <a:pt x="191" y="1455"/>
                  </a:lnTo>
                  <a:lnTo>
                    <a:pt x="191" y="1460"/>
                  </a:lnTo>
                  <a:lnTo>
                    <a:pt x="182" y="1460"/>
                  </a:lnTo>
                  <a:lnTo>
                    <a:pt x="182" y="1466"/>
                  </a:lnTo>
                  <a:lnTo>
                    <a:pt x="177" y="1466"/>
                  </a:lnTo>
                  <a:lnTo>
                    <a:pt x="177" y="1472"/>
                  </a:lnTo>
                  <a:lnTo>
                    <a:pt x="172" y="1472"/>
                  </a:lnTo>
                  <a:lnTo>
                    <a:pt x="172" y="1477"/>
                  </a:lnTo>
                  <a:lnTo>
                    <a:pt x="168" y="1477"/>
                  </a:lnTo>
                  <a:lnTo>
                    <a:pt x="168" y="1485"/>
                  </a:lnTo>
                  <a:lnTo>
                    <a:pt x="163" y="1485"/>
                  </a:lnTo>
                  <a:lnTo>
                    <a:pt x="163" y="1490"/>
                  </a:lnTo>
                  <a:lnTo>
                    <a:pt x="149" y="1490"/>
                  </a:lnTo>
                  <a:lnTo>
                    <a:pt x="149" y="1496"/>
                  </a:lnTo>
                  <a:lnTo>
                    <a:pt x="144" y="1496"/>
                  </a:lnTo>
                  <a:lnTo>
                    <a:pt x="144" y="1501"/>
                  </a:lnTo>
                  <a:lnTo>
                    <a:pt x="129" y="1501"/>
                  </a:lnTo>
                  <a:lnTo>
                    <a:pt x="129" y="1509"/>
                  </a:lnTo>
                  <a:lnTo>
                    <a:pt x="124" y="1509"/>
                  </a:lnTo>
                  <a:lnTo>
                    <a:pt x="124" y="1514"/>
                  </a:lnTo>
                  <a:lnTo>
                    <a:pt x="115" y="1514"/>
                  </a:lnTo>
                  <a:lnTo>
                    <a:pt x="115" y="1519"/>
                  </a:lnTo>
                  <a:lnTo>
                    <a:pt x="109" y="1519"/>
                  </a:lnTo>
                  <a:lnTo>
                    <a:pt x="109" y="1526"/>
                  </a:lnTo>
                  <a:lnTo>
                    <a:pt x="105" y="1526"/>
                  </a:lnTo>
                  <a:lnTo>
                    <a:pt x="105" y="1531"/>
                  </a:lnTo>
                  <a:lnTo>
                    <a:pt x="95" y="1531"/>
                  </a:lnTo>
                  <a:lnTo>
                    <a:pt x="95" y="1537"/>
                  </a:lnTo>
                  <a:lnTo>
                    <a:pt x="86" y="1537"/>
                  </a:lnTo>
                  <a:lnTo>
                    <a:pt x="86" y="1544"/>
                  </a:lnTo>
                  <a:lnTo>
                    <a:pt x="82" y="1544"/>
                  </a:lnTo>
                  <a:lnTo>
                    <a:pt x="82" y="1550"/>
                  </a:lnTo>
                  <a:lnTo>
                    <a:pt x="72" y="1550"/>
                  </a:lnTo>
                  <a:lnTo>
                    <a:pt x="72" y="1555"/>
                  </a:lnTo>
                  <a:lnTo>
                    <a:pt x="61" y="1555"/>
                  </a:lnTo>
                  <a:lnTo>
                    <a:pt x="61" y="1561"/>
                  </a:lnTo>
                  <a:lnTo>
                    <a:pt x="52" y="1561"/>
                  </a:lnTo>
                  <a:lnTo>
                    <a:pt x="52" y="1567"/>
                  </a:lnTo>
                  <a:lnTo>
                    <a:pt x="47" y="1567"/>
                  </a:lnTo>
                  <a:lnTo>
                    <a:pt x="47" y="1572"/>
                  </a:lnTo>
                  <a:lnTo>
                    <a:pt x="43" y="1572"/>
                  </a:lnTo>
                  <a:lnTo>
                    <a:pt x="43" y="1577"/>
                  </a:lnTo>
                  <a:lnTo>
                    <a:pt x="33" y="1577"/>
                  </a:lnTo>
                  <a:lnTo>
                    <a:pt x="33" y="1572"/>
                  </a:lnTo>
                  <a:lnTo>
                    <a:pt x="28" y="1572"/>
                  </a:lnTo>
                  <a:lnTo>
                    <a:pt x="28" y="1567"/>
                  </a:lnTo>
                  <a:lnTo>
                    <a:pt x="10" y="1567"/>
                  </a:lnTo>
                  <a:lnTo>
                    <a:pt x="10" y="1561"/>
                  </a:lnTo>
                  <a:lnTo>
                    <a:pt x="5" y="1561"/>
                  </a:lnTo>
                  <a:lnTo>
                    <a:pt x="5" y="1555"/>
                  </a:lnTo>
                  <a:lnTo>
                    <a:pt x="0" y="1555"/>
                  </a:lnTo>
                  <a:lnTo>
                    <a:pt x="0" y="1526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58240" y="1774440"/>
              <a:ext cx="538920" cy="726840"/>
            </a:xfrm>
            <a:custGeom>
              <a:avLst/>
              <a:gdLst/>
              <a:ahLst/>
              <a:rect l="l" t="t" r="r" b="b"/>
              <a:pathLst>
                <a:path w="2074" h="3725">
                  <a:moveTo>
                    <a:pt x="0" y="3630"/>
                  </a:moveTo>
                  <a:lnTo>
                    <a:pt x="5" y="3630"/>
                  </a:lnTo>
                  <a:lnTo>
                    <a:pt x="5" y="3594"/>
                  </a:lnTo>
                  <a:lnTo>
                    <a:pt x="9" y="3594"/>
                  </a:lnTo>
                  <a:lnTo>
                    <a:pt x="9" y="3577"/>
                  </a:lnTo>
                  <a:lnTo>
                    <a:pt x="14" y="3577"/>
                  </a:lnTo>
                  <a:lnTo>
                    <a:pt x="14" y="3559"/>
                  </a:lnTo>
                  <a:lnTo>
                    <a:pt x="19" y="3559"/>
                  </a:lnTo>
                  <a:lnTo>
                    <a:pt x="19" y="3542"/>
                  </a:lnTo>
                  <a:lnTo>
                    <a:pt x="23" y="3542"/>
                  </a:lnTo>
                  <a:lnTo>
                    <a:pt x="23" y="3518"/>
                  </a:lnTo>
                  <a:lnTo>
                    <a:pt x="28" y="3518"/>
                  </a:lnTo>
                  <a:lnTo>
                    <a:pt x="28" y="3501"/>
                  </a:lnTo>
                  <a:lnTo>
                    <a:pt x="33" y="3501"/>
                  </a:lnTo>
                  <a:lnTo>
                    <a:pt x="33" y="3483"/>
                  </a:lnTo>
                  <a:lnTo>
                    <a:pt x="38" y="3483"/>
                  </a:lnTo>
                  <a:lnTo>
                    <a:pt x="38" y="3458"/>
                  </a:lnTo>
                  <a:lnTo>
                    <a:pt x="42" y="3458"/>
                  </a:lnTo>
                  <a:lnTo>
                    <a:pt x="42" y="3434"/>
                  </a:lnTo>
                  <a:lnTo>
                    <a:pt x="47" y="3434"/>
                  </a:lnTo>
                  <a:lnTo>
                    <a:pt x="47" y="3417"/>
                  </a:lnTo>
                  <a:lnTo>
                    <a:pt x="52" y="3417"/>
                  </a:lnTo>
                  <a:lnTo>
                    <a:pt x="52" y="3406"/>
                  </a:lnTo>
                  <a:lnTo>
                    <a:pt x="56" y="3406"/>
                  </a:lnTo>
                  <a:lnTo>
                    <a:pt x="56" y="3399"/>
                  </a:lnTo>
                  <a:lnTo>
                    <a:pt x="63" y="3399"/>
                  </a:lnTo>
                  <a:lnTo>
                    <a:pt x="63" y="3382"/>
                  </a:lnTo>
                  <a:lnTo>
                    <a:pt x="67" y="3382"/>
                  </a:lnTo>
                  <a:lnTo>
                    <a:pt x="67" y="3365"/>
                  </a:lnTo>
                  <a:lnTo>
                    <a:pt x="72" y="3365"/>
                  </a:lnTo>
                  <a:lnTo>
                    <a:pt x="72" y="3347"/>
                  </a:lnTo>
                  <a:lnTo>
                    <a:pt x="77" y="3347"/>
                  </a:lnTo>
                  <a:lnTo>
                    <a:pt x="77" y="3341"/>
                  </a:lnTo>
                  <a:lnTo>
                    <a:pt x="81" y="3341"/>
                  </a:lnTo>
                  <a:lnTo>
                    <a:pt x="81" y="3328"/>
                  </a:lnTo>
                  <a:lnTo>
                    <a:pt x="86" y="3328"/>
                  </a:lnTo>
                  <a:lnTo>
                    <a:pt x="86" y="3306"/>
                  </a:lnTo>
                  <a:lnTo>
                    <a:pt x="90" y="3306"/>
                  </a:lnTo>
                  <a:lnTo>
                    <a:pt x="90" y="3293"/>
                  </a:lnTo>
                  <a:lnTo>
                    <a:pt x="96" y="3293"/>
                  </a:lnTo>
                  <a:lnTo>
                    <a:pt x="96" y="3287"/>
                  </a:lnTo>
                  <a:lnTo>
                    <a:pt x="100" y="3287"/>
                  </a:lnTo>
                  <a:lnTo>
                    <a:pt x="100" y="3270"/>
                  </a:lnTo>
                  <a:lnTo>
                    <a:pt x="104" y="3270"/>
                  </a:lnTo>
                  <a:lnTo>
                    <a:pt x="104" y="3252"/>
                  </a:lnTo>
                  <a:lnTo>
                    <a:pt x="110" y="3252"/>
                  </a:lnTo>
                  <a:lnTo>
                    <a:pt x="110" y="3233"/>
                  </a:lnTo>
                  <a:lnTo>
                    <a:pt x="114" y="3233"/>
                  </a:lnTo>
                  <a:lnTo>
                    <a:pt x="114" y="3216"/>
                  </a:lnTo>
                  <a:lnTo>
                    <a:pt x="119" y="3216"/>
                  </a:lnTo>
                  <a:lnTo>
                    <a:pt x="119" y="3192"/>
                  </a:lnTo>
                  <a:lnTo>
                    <a:pt x="124" y="3192"/>
                  </a:lnTo>
                  <a:lnTo>
                    <a:pt x="124" y="3175"/>
                  </a:lnTo>
                  <a:lnTo>
                    <a:pt x="129" y="3175"/>
                  </a:lnTo>
                  <a:lnTo>
                    <a:pt x="129" y="3162"/>
                  </a:lnTo>
                  <a:lnTo>
                    <a:pt x="134" y="3162"/>
                  </a:lnTo>
                  <a:lnTo>
                    <a:pt x="134" y="3151"/>
                  </a:lnTo>
                  <a:lnTo>
                    <a:pt x="139" y="3151"/>
                  </a:lnTo>
                  <a:lnTo>
                    <a:pt x="139" y="3134"/>
                  </a:lnTo>
                  <a:lnTo>
                    <a:pt x="144" y="3134"/>
                  </a:lnTo>
                  <a:lnTo>
                    <a:pt x="144" y="3121"/>
                  </a:lnTo>
                  <a:lnTo>
                    <a:pt x="148" y="3121"/>
                  </a:lnTo>
                  <a:lnTo>
                    <a:pt x="148" y="3104"/>
                  </a:lnTo>
                  <a:lnTo>
                    <a:pt x="153" y="3104"/>
                  </a:lnTo>
                  <a:lnTo>
                    <a:pt x="153" y="3074"/>
                  </a:lnTo>
                  <a:lnTo>
                    <a:pt x="158" y="3074"/>
                  </a:lnTo>
                  <a:lnTo>
                    <a:pt x="158" y="3056"/>
                  </a:lnTo>
                  <a:lnTo>
                    <a:pt x="163" y="3056"/>
                  </a:lnTo>
                  <a:lnTo>
                    <a:pt x="163" y="3039"/>
                  </a:lnTo>
                  <a:lnTo>
                    <a:pt x="167" y="3039"/>
                  </a:lnTo>
                  <a:lnTo>
                    <a:pt x="167" y="3020"/>
                  </a:lnTo>
                  <a:lnTo>
                    <a:pt x="172" y="3020"/>
                  </a:lnTo>
                  <a:lnTo>
                    <a:pt x="172" y="3003"/>
                  </a:lnTo>
                  <a:lnTo>
                    <a:pt x="177" y="3003"/>
                  </a:lnTo>
                  <a:lnTo>
                    <a:pt x="177" y="2974"/>
                  </a:lnTo>
                  <a:lnTo>
                    <a:pt x="181" y="2974"/>
                  </a:lnTo>
                  <a:lnTo>
                    <a:pt x="181" y="2956"/>
                  </a:lnTo>
                  <a:lnTo>
                    <a:pt x="186" y="2956"/>
                  </a:lnTo>
                  <a:lnTo>
                    <a:pt x="186" y="2939"/>
                  </a:lnTo>
                  <a:lnTo>
                    <a:pt x="191" y="2939"/>
                  </a:lnTo>
                  <a:lnTo>
                    <a:pt x="191" y="2933"/>
                  </a:lnTo>
                  <a:lnTo>
                    <a:pt x="196" y="2933"/>
                  </a:lnTo>
                  <a:lnTo>
                    <a:pt x="196" y="2915"/>
                  </a:lnTo>
                  <a:lnTo>
                    <a:pt x="200" y="2915"/>
                  </a:lnTo>
                  <a:lnTo>
                    <a:pt x="200" y="2909"/>
                  </a:lnTo>
                  <a:lnTo>
                    <a:pt x="207" y="2909"/>
                  </a:lnTo>
                  <a:lnTo>
                    <a:pt x="207" y="2898"/>
                  </a:lnTo>
                  <a:lnTo>
                    <a:pt x="211" y="2898"/>
                  </a:lnTo>
                  <a:lnTo>
                    <a:pt x="211" y="2879"/>
                  </a:lnTo>
                  <a:lnTo>
                    <a:pt x="216" y="2879"/>
                  </a:lnTo>
                  <a:lnTo>
                    <a:pt x="216" y="2868"/>
                  </a:lnTo>
                  <a:lnTo>
                    <a:pt x="221" y="2868"/>
                  </a:lnTo>
                  <a:lnTo>
                    <a:pt x="221" y="2844"/>
                  </a:lnTo>
                  <a:lnTo>
                    <a:pt x="225" y="2844"/>
                  </a:lnTo>
                  <a:lnTo>
                    <a:pt x="225" y="2838"/>
                  </a:lnTo>
                  <a:lnTo>
                    <a:pt x="230" y="2838"/>
                  </a:lnTo>
                  <a:lnTo>
                    <a:pt x="230" y="2820"/>
                  </a:lnTo>
                  <a:lnTo>
                    <a:pt x="234" y="2820"/>
                  </a:lnTo>
                  <a:lnTo>
                    <a:pt x="234" y="2808"/>
                  </a:lnTo>
                  <a:lnTo>
                    <a:pt x="240" y="2808"/>
                  </a:lnTo>
                  <a:lnTo>
                    <a:pt x="240" y="2792"/>
                  </a:lnTo>
                  <a:lnTo>
                    <a:pt x="244" y="2792"/>
                  </a:lnTo>
                  <a:lnTo>
                    <a:pt x="244" y="2784"/>
                  </a:lnTo>
                  <a:lnTo>
                    <a:pt x="249" y="2784"/>
                  </a:lnTo>
                  <a:lnTo>
                    <a:pt x="249" y="2773"/>
                  </a:lnTo>
                  <a:lnTo>
                    <a:pt x="254" y="2773"/>
                  </a:lnTo>
                  <a:lnTo>
                    <a:pt x="254" y="2761"/>
                  </a:lnTo>
                  <a:lnTo>
                    <a:pt x="259" y="2761"/>
                  </a:lnTo>
                  <a:lnTo>
                    <a:pt x="259" y="2743"/>
                  </a:lnTo>
                  <a:lnTo>
                    <a:pt x="263" y="2743"/>
                  </a:lnTo>
                  <a:lnTo>
                    <a:pt x="263" y="2726"/>
                  </a:lnTo>
                  <a:lnTo>
                    <a:pt x="268" y="2726"/>
                  </a:lnTo>
                  <a:lnTo>
                    <a:pt x="268" y="2719"/>
                  </a:lnTo>
                  <a:lnTo>
                    <a:pt x="273" y="2719"/>
                  </a:lnTo>
                  <a:lnTo>
                    <a:pt x="273" y="2702"/>
                  </a:lnTo>
                  <a:lnTo>
                    <a:pt x="278" y="2702"/>
                  </a:lnTo>
                  <a:lnTo>
                    <a:pt x="278" y="2689"/>
                  </a:lnTo>
                  <a:lnTo>
                    <a:pt x="283" y="2689"/>
                  </a:lnTo>
                  <a:lnTo>
                    <a:pt x="283" y="2673"/>
                  </a:lnTo>
                  <a:lnTo>
                    <a:pt x="288" y="2673"/>
                  </a:lnTo>
                  <a:lnTo>
                    <a:pt x="288" y="2661"/>
                  </a:lnTo>
                  <a:lnTo>
                    <a:pt x="293" y="2661"/>
                  </a:lnTo>
                  <a:lnTo>
                    <a:pt x="293" y="2648"/>
                  </a:lnTo>
                  <a:lnTo>
                    <a:pt x="297" y="2648"/>
                  </a:lnTo>
                  <a:lnTo>
                    <a:pt x="297" y="2631"/>
                  </a:lnTo>
                  <a:lnTo>
                    <a:pt x="303" y="2631"/>
                  </a:lnTo>
                  <a:lnTo>
                    <a:pt x="303" y="2613"/>
                  </a:lnTo>
                  <a:lnTo>
                    <a:pt x="307" y="2613"/>
                  </a:lnTo>
                  <a:lnTo>
                    <a:pt x="307" y="2596"/>
                  </a:lnTo>
                  <a:lnTo>
                    <a:pt x="311" y="2596"/>
                  </a:lnTo>
                  <a:lnTo>
                    <a:pt x="311" y="2572"/>
                  </a:lnTo>
                  <a:lnTo>
                    <a:pt x="317" y="2572"/>
                  </a:lnTo>
                  <a:lnTo>
                    <a:pt x="317" y="2555"/>
                  </a:lnTo>
                  <a:lnTo>
                    <a:pt x="321" y="2555"/>
                  </a:lnTo>
                  <a:lnTo>
                    <a:pt x="321" y="2542"/>
                  </a:lnTo>
                  <a:lnTo>
                    <a:pt x="326" y="2542"/>
                  </a:lnTo>
                  <a:lnTo>
                    <a:pt x="326" y="2537"/>
                  </a:lnTo>
                  <a:lnTo>
                    <a:pt x="330" y="2537"/>
                  </a:lnTo>
                  <a:lnTo>
                    <a:pt x="330" y="2530"/>
                  </a:lnTo>
                  <a:lnTo>
                    <a:pt x="336" y="2530"/>
                  </a:lnTo>
                  <a:lnTo>
                    <a:pt x="336" y="2525"/>
                  </a:lnTo>
                  <a:lnTo>
                    <a:pt x="340" y="2525"/>
                  </a:lnTo>
                  <a:lnTo>
                    <a:pt x="340" y="2512"/>
                  </a:lnTo>
                  <a:lnTo>
                    <a:pt x="351" y="2512"/>
                  </a:lnTo>
                  <a:lnTo>
                    <a:pt x="351" y="2496"/>
                  </a:lnTo>
                  <a:lnTo>
                    <a:pt x="355" y="2496"/>
                  </a:lnTo>
                  <a:lnTo>
                    <a:pt x="355" y="2484"/>
                  </a:lnTo>
                  <a:lnTo>
                    <a:pt x="360" y="2484"/>
                  </a:lnTo>
                  <a:lnTo>
                    <a:pt x="360" y="2471"/>
                  </a:lnTo>
                  <a:lnTo>
                    <a:pt x="365" y="2471"/>
                  </a:lnTo>
                  <a:lnTo>
                    <a:pt x="365" y="2460"/>
                  </a:lnTo>
                  <a:lnTo>
                    <a:pt x="370" y="2460"/>
                  </a:lnTo>
                  <a:lnTo>
                    <a:pt x="370" y="2447"/>
                  </a:lnTo>
                  <a:lnTo>
                    <a:pt x="374" y="2447"/>
                  </a:lnTo>
                  <a:lnTo>
                    <a:pt x="374" y="2436"/>
                  </a:lnTo>
                  <a:lnTo>
                    <a:pt x="379" y="2436"/>
                  </a:lnTo>
                  <a:lnTo>
                    <a:pt x="379" y="2430"/>
                  </a:lnTo>
                  <a:lnTo>
                    <a:pt x="384" y="2430"/>
                  </a:lnTo>
                  <a:lnTo>
                    <a:pt x="384" y="2419"/>
                  </a:lnTo>
                  <a:lnTo>
                    <a:pt x="388" y="2419"/>
                  </a:lnTo>
                  <a:lnTo>
                    <a:pt x="388" y="2401"/>
                  </a:lnTo>
                  <a:lnTo>
                    <a:pt x="393" y="2401"/>
                  </a:lnTo>
                  <a:lnTo>
                    <a:pt x="393" y="2389"/>
                  </a:lnTo>
                  <a:lnTo>
                    <a:pt x="398" y="2389"/>
                  </a:lnTo>
                  <a:lnTo>
                    <a:pt x="398" y="2382"/>
                  </a:lnTo>
                  <a:lnTo>
                    <a:pt x="403" y="2382"/>
                  </a:lnTo>
                  <a:lnTo>
                    <a:pt x="403" y="2365"/>
                  </a:lnTo>
                  <a:lnTo>
                    <a:pt x="407" y="2365"/>
                  </a:lnTo>
                  <a:lnTo>
                    <a:pt x="407" y="2353"/>
                  </a:lnTo>
                  <a:lnTo>
                    <a:pt x="412" y="2353"/>
                  </a:lnTo>
                  <a:lnTo>
                    <a:pt x="412" y="2341"/>
                  </a:lnTo>
                  <a:lnTo>
                    <a:pt x="417" y="2341"/>
                  </a:lnTo>
                  <a:lnTo>
                    <a:pt x="417" y="2324"/>
                  </a:lnTo>
                  <a:lnTo>
                    <a:pt x="423" y="2324"/>
                  </a:lnTo>
                  <a:lnTo>
                    <a:pt x="423" y="2319"/>
                  </a:lnTo>
                  <a:lnTo>
                    <a:pt x="427" y="2319"/>
                  </a:lnTo>
                  <a:lnTo>
                    <a:pt x="427" y="2306"/>
                  </a:lnTo>
                  <a:lnTo>
                    <a:pt x="432" y="2306"/>
                  </a:lnTo>
                  <a:lnTo>
                    <a:pt x="432" y="2294"/>
                  </a:lnTo>
                  <a:lnTo>
                    <a:pt x="437" y="2294"/>
                  </a:lnTo>
                  <a:lnTo>
                    <a:pt x="437" y="2283"/>
                  </a:lnTo>
                  <a:lnTo>
                    <a:pt x="441" y="2283"/>
                  </a:lnTo>
                  <a:lnTo>
                    <a:pt x="441" y="2276"/>
                  </a:lnTo>
                  <a:lnTo>
                    <a:pt x="446" y="2276"/>
                  </a:lnTo>
                  <a:lnTo>
                    <a:pt x="446" y="2265"/>
                  </a:lnTo>
                  <a:lnTo>
                    <a:pt x="451" y="2265"/>
                  </a:lnTo>
                  <a:lnTo>
                    <a:pt x="451" y="2253"/>
                  </a:lnTo>
                  <a:lnTo>
                    <a:pt x="455" y="2253"/>
                  </a:lnTo>
                  <a:lnTo>
                    <a:pt x="455" y="2241"/>
                  </a:lnTo>
                  <a:lnTo>
                    <a:pt x="461" y="2241"/>
                  </a:lnTo>
                  <a:lnTo>
                    <a:pt x="461" y="2229"/>
                  </a:lnTo>
                  <a:lnTo>
                    <a:pt x="465" y="2229"/>
                  </a:lnTo>
                  <a:lnTo>
                    <a:pt x="465" y="2211"/>
                  </a:lnTo>
                  <a:lnTo>
                    <a:pt x="470" y="2211"/>
                  </a:lnTo>
                  <a:lnTo>
                    <a:pt x="470" y="2205"/>
                  </a:lnTo>
                  <a:lnTo>
                    <a:pt x="474" y="2205"/>
                  </a:lnTo>
                  <a:lnTo>
                    <a:pt x="474" y="2193"/>
                  </a:lnTo>
                  <a:lnTo>
                    <a:pt x="479" y="2193"/>
                  </a:lnTo>
                  <a:lnTo>
                    <a:pt x="479" y="2182"/>
                  </a:lnTo>
                  <a:lnTo>
                    <a:pt x="484" y="2182"/>
                  </a:lnTo>
                  <a:lnTo>
                    <a:pt x="484" y="2175"/>
                  </a:lnTo>
                  <a:lnTo>
                    <a:pt x="488" y="2175"/>
                  </a:lnTo>
                  <a:lnTo>
                    <a:pt x="488" y="2164"/>
                  </a:lnTo>
                  <a:lnTo>
                    <a:pt x="495" y="2164"/>
                  </a:lnTo>
                  <a:lnTo>
                    <a:pt x="495" y="2147"/>
                  </a:lnTo>
                  <a:lnTo>
                    <a:pt x="499" y="2147"/>
                  </a:lnTo>
                  <a:lnTo>
                    <a:pt x="499" y="2140"/>
                  </a:lnTo>
                  <a:lnTo>
                    <a:pt x="504" y="2140"/>
                  </a:lnTo>
                  <a:lnTo>
                    <a:pt x="504" y="2128"/>
                  </a:lnTo>
                  <a:lnTo>
                    <a:pt x="509" y="2128"/>
                  </a:lnTo>
                  <a:lnTo>
                    <a:pt x="509" y="2117"/>
                  </a:lnTo>
                  <a:lnTo>
                    <a:pt x="514" y="2117"/>
                  </a:lnTo>
                  <a:lnTo>
                    <a:pt x="514" y="2105"/>
                  </a:lnTo>
                  <a:lnTo>
                    <a:pt x="518" y="2105"/>
                  </a:lnTo>
                  <a:lnTo>
                    <a:pt x="518" y="2093"/>
                  </a:lnTo>
                  <a:lnTo>
                    <a:pt x="523" y="2093"/>
                  </a:lnTo>
                  <a:lnTo>
                    <a:pt x="523" y="2075"/>
                  </a:lnTo>
                  <a:lnTo>
                    <a:pt x="528" y="2075"/>
                  </a:lnTo>
                  <a:lnTo>
                    <a:pt x="528" y="2064"/>
                  </a:lnTo>
                  <a:lnTo>
                    <a:pt x="532" y="2064"/>
                  </a:lnTo>
                  <a:lnTo>
                    <a:pt x="532" y="2058"/>
                  </a:lnTo>
                  <a:lnTo>
                    <a:pt x="537" y="2058"/>
                  </a:lnTo>
                  <a:lnTo>
                    <a:pt x="537" y="2047"/>
                  </a:lnTo>
                  <a:lnTo>
                    <a:pt x="542" y="2047"/>
                  </a:lnTo>
                  <a:lnTo>
                    <a:pt x="542" y="2023"/>
                  </a:lnTo>
                  <a:lnTo>
                    <a:pt x="547" y="2023"/>
                  </a:lnTo>
                  <a:lnTo>
                    <a:pt x="547" y="2016"/>
                  </a:lnTo>
                  <a:lnTo>
                    <a:pt x="551" y="2016"/>
                  </a:lnTo>
                  <a:lnTo>
                    <a:pt x="551" y="2006"/>
                  </a:lnTo>
                  <a:lnTo>
                    <a:pt x="556" y="2006"/>
                  </a:lnTo>
                  <a:lnTo>
                    <a:pt x="556" y="1993"/>
                  </a:lnTo>
                  <a:lnTo>
                    <a:pt x="561" y="1993"/>
                  </a:lnTo>
                  <a:lnTo>
                    <a:pt x="561" y="1981"/>
                  </a:lnTo>
                  <a:lnTo>
                    <a:pt x="566" y="1981"/>
                  </a:lnTo>
                  <a:lnTo>
                    <a:pt x="566" y="1964"/>
                  </a:lnTo>
                  <a:lnTo>
                    <a:pt x="571" y="1964"/>
                  </a:lnTo>
                  <a:lnTo>
                    <a:pt x="571" y="1946"/>
                  </a:lnTo>
                  <a:lnTo>
                    <a:pt x="576" y="1946"/>
                  </a:lnTo>
                  <a:lnTo>
                    <a:pt x="576" y="1933"/>
                  </a:lnTo>
                  <a:lnTo>
                    <a:pt x="581" y="1933"/>
                  </a:lnTo>
                  <a:lnTo>
                    <a:pt x="581" y="1922"/>
                  </a:lnTo>
                  <a:lnTo>
                    <a:pt x="585" y="1922"/>
                  </a:lnTo>
                  <a:lnTo>
                    <a:pt x="585" y="1911"/>
                  </a:lnTo>
                  <a:lnTo>
                    <a:pt x="591" y="1911"/>
                  </a:lnTo>
                  <a:lnTo>
                    <a:pt x="591" y="1905"/>
                  </a:lnTo>
                  <a:lnTo>
                    <a:pt x="595" y="1905"/>
                  </a:lnTo>
                  <a:lnTo>
                    <a:pt x="595" y="1887"/>
                  </a:lnTo>
                  <a:lnTo>
                    <a:pt x="600" y="1887"/>
                  </a:lnTo>
                  <a:lnTo>
                    <a:pt x="600" y="1868"/>
                  </a:lnTo>
                  <a:lnTo>
                    <a:pt x="605" y="1868"/>
                  </a:lnTo>
                  <a:lnTo>
                    <a:pt x="605" y="1862"/>
                  </a:lnTo>
                  <a:lnTo>
                    <a:pt x="609" y="1862"/>
                  </a:lnTo>
                  <a:lnTo>
                    <a:pt x="609" y="1851"/>
                  </a:lnTo>
                  <a:lnTo>
                    <a:pt x="614" y="1851"/>
                  </a:lnTo>
                  <a:lnTo>
                    <a:pt x="614" y="1838"/>
                  </a:lnTo>
                  <a:lnTo>
                    <a:pt x="618" y="1838"/>
                  </a:lnTo>
                  <a:lnTo>
                    <a:pt x="618" y="1821"/>
                  </a:lnTo>
                  <a:lnTo>
                    <a:pt x="624" y="1821"/>
                  </a:lnTo>
                  <a:lnTo>
                    <a:pt x="624" y="1810"/>
                  </a:lnTo>
                  <a:lnTo>
                    <a:pt x="628" y="1810"/>
                  </a:lnTo>
                  <a:lnTo>
                    <a:pt x="628" y="1803"/>
                  </a:lnTo>
                  <a:lnTo>
                    <a:pt x="633" y="1803"/>
                  </a:lnTo>
                  <a:lnTo>
                    <a:pt x="633" y="1780"/>
                  </a:lnTo>
                  <a:lnTo>
                    <a:pt x="639" y="1780"/>
                  </a:lnTo>
                  <a:lnTo>
                    <a:pt x="639" y="1769"/>
                  </a:lnTo>
                  <a:lnTo>
                    <a:pt x="644" y="1769"/>
                  </a:lnTo>
                  <a:lnTo>
                    <a:pt x="644" y="1756"/>
                  </a:lnTo>
                  <a:lnTo>
                    <a:pt x="648" y="1756"/>
                  </a:lnTo>
                  <a:lnTo>
                    <a:pt x="648" y="1739"/>
                  </a:lnTo>
                  <a:lnTo>
                    <a:pt x="653" y="1739"/>
                  </a:lnTo>
                  <a:lnTo>
                    <a:pt x="653" y="1732"/>
                  </a:lnTo>
                  <a:lnTo>
                    <a:pt x="658" y="1732"/>
                  </a:lnTo>
                  <a:lnTo>
                    <a:pt x="658" y="1720"/>
                  </a:lnTo>
                  <a:lnTo>
                    <a:pt x="662" y="1720"/>
                  </a:lnTo>
                  <a:lnTo>
                    <a:pt x="662" y="1710"/>
                  </a:lnTo>
                  <a:lnTo>
                    <a:pt x="667" y="1710"/>
                  </a:lnTo>
                  <a:lnTo>
                    <a:pt x="667" y="1702"/>
                  </a:lnTo>
                  <a:lnTo>
                    <a:pt x="672" y="1702"/>
                  </a:lnTo>
                  <a:lnTo>
                    <a:pt x="672" y="1697"/>
                  </a:lnTo>
                  <a:lnTo>
                    <a:pt x="677" y="1697"/>
                  </a:lnTo>
                  <a:lnTo>
                    <a:pt x="677" y="1685"/>
                  </a:lnTo>
                  <a:lnTo>
                    <a:pt x="681" y="1685"/>
                  </a:lnTo>
                  <a:lnTo>
                    <a:pt x="681" y="1674"/>
                  </a:lnTo>
                  <a:lnTo>
                    <a:pt x="687" y="1674"/>
                  </a:lnTo>
                  <a:lnTo>
                    <a:pt x="687" y="1669"/>
                  </a:lnTo>
                  <a:lnTo>
                    <a:pt x="691" y="1669"/>
                  </a:lnTo>
                  <a:lnTo>
                    <a:pt x="691" y="1650"/>
                  </a:lnTo>
                  <a:lnTo>
                    <a:pt x="695" y="1650"/>
                  </a:lnTo>
                  <a:lnTo>
                    <a:pt x="695" y="1626"/>
                  </a:lnTo>
                  <a:lnTo>
                    <a:pt x="701" y="1626"/>
                  </a:lnTo>
                  <a:lnTo>
                    <a:pt x="701" y="1609"/>
                  </a:lnTo>
                  <a:lnTo>
                    <a:pt x="705" y="1609"/>
                  </a:lnTo>
                  <a:lnTo>
                    <a:pt x="705" y="1596"/>
                  </a:lnTo>
                  <a:lnTo>
                    <a:pt x="711" y="1596"/>
                  </a:lnTo>
                  <a:lnTo>
                    <a:pt x="711" y="1585"/>
                  </a:lnTo>
                  <a:lnTo>
                    <a:pt x="715" y="1585"/>
                  </a:lnTo>
                  <a:lnTo>
                    <a:pt x="715" y="1574"/>
                  </a:lnTo>
                  <a:lnTo>
                    <a:pt x="721" y="1574"/>
                  </a:lnTo>
                  <a:lnTo>
                    <a:pt x="721" y="1561"/>
                  </a:lnTo>
                  <a:lnTo>
                    <a:pt x="725" y="1561"/>
                  </a:lnTo>
                  <a:lnTo>
                    <a:pt x="725" y="1550"/>
                  </a:lnTo>
                  <a:lnTo>
                    <a:pt x="729" y="1550"/>
                  </a:lnTo>
                  <a:lnTo>
                    <a:pt x="729" y="1538"/>
                  </a:lnTo>
                  <a:lnTo>
                    <a:pt x="735" y="1538"/>
                  </a:lnTo>
                  <a:lnTo>
                    <a:pt x="735" y="1525"/>
                  </a:lnTo>
                  <a:lnTo>
                    <a:pt x="739" y="1525"/>
                  </a:lnTo>
                  <a:lnTo>
                    <a:pt x="739" y="1514"/>
                  </a:lnTo>
                  <a:lnTo>
                    <a:pt x="744" y="1514"/>
                  </a:lnTo>
                  <a:lnTo>
                    <a:pt x="744" y="1508"/>
                  </a:lnTo>
                  <a:lnTo>
                    <a:pt x="749" y="1508"/>
                  </a:lnTo>
                  <a:lnTo>
                    <a:pt x="749" y="1496"/>
                  </a:lnTo>
                  <a:lnTo>
                    <a:pt x="754" y="1496"/>
                  </a:lnTo>
                  <a:lnTo>
                    <a:pt x="754" y="1491"/>
                  </a:lnTo>
                  <a:lnTo>
                    <a:pt x="758" y="1491"/>
                  </a:lnTo>
                  <a:lnTo>
                    <a:pt x="758" y="1479"/>
                  </a:lnTo>
                  <a:lnTo>
                    <a:pt x="763" y="1479"/>
                  </a:lnTo>
                  <a:lnTo>
                    <a:pt x="763" y="1473"/>
                  </a:lnTo>
                  <a:lnTo>
                    <a:pt x="768" y="1473"/>
                  </a:lnTo>
                  <a:lnTo>
                    <a:pt x="768" y="1467"/>
                  </a:lnTo>
                  <a:lnTo>
                    <a:pt x="772" y="1467"/>
                  </a:lnTo>
                  <a:lnTo>
                    <a:pt x="772" y="1455"/>
                  </a:lnTo>
                  <a:lnTo>
                    <a:pt x="777" y="1455"/>
                  </a:lnTo>
                  <a:lnTo>
                    <a:pt x="777" y="1443"/>
                  </a:lnTo>
                  <a:lnTo>
                    <a:pt x="783" y="1443"/>
                  </a:lnTo>
                  <a:lnTo>
                    <a:pt x="783" y="1432"/>
                  </a:lnTo>
                  <a:lnTo>
                    <a:pt x="787" y="1432"/>
                  </a:lnTo>
                  <a:lnTo>
                    <a:pt x="787" y="1419"/>
                  </a:lnTo>
                  <a:lnTo>
                    <a:pt x="792" y="1419"/>
                  </a:lnTo>
                  <a:lnTo>
                    <a:pt x="792" y="1407"/>
                  </a:lnTo>
                  <a:lnTo>
                    <a:pt x="797" y="1407"/>
                  </a:lnTo>
                  <a:lnTo>
                    <a:pt x="797" y="1395"/>
                  </a:lnTo>
                  <a:lnTo>
                    <a:pt x="802" y="1395"/>
                  </a:lnTo>
                  <a:lnTo>
                    <a:pt x="802" y="1389"/>
                  </a:lnTo>
                  <a:lnTo>
                    <a:pt x="806" y="1389"/>
                  </a:lnTo>
                  <a:lnTo>
                    <a:pt x="806" y="1384"/>
                  </a:lnTo>
                  <a:lnTo>
                    <a:pt x="811" y="1384"/>
                  </a:lnTo>
                  <a:lnTo>
                    <a:pt x="811" y="1378"/>
                  </a:lnTo>
                  <a:lnTo>
                    <a:pt x="816" y="1378"/>
                  </a:lnTo>
                  <a:lnTo>
                    <a:pt x="816" y="1373"/>
                  </a:lnTo>
                  <a:lnTo>
                    <a:pt x="820" y="1373"/>
                  </a:lnTo>
                  <a:lnTo>
                    <a:pt x="820" y="1365"/>
                  </a:lnTo>
                  <a:lnTo>
                    <a:pt x="825" y="1365"/>
                  </a:lnTo>
                  <a:lnTo>
                    <a:pt x="825" y="1360"/>
                  </a:lnTo>
                  <a:lnTo>
                    <a:pt x="830" y="1360"/>
                  </a:lnTo>
                  <a:lnTo>
                    <a:pt x="830" y="1348"/>
                  </a:lnTo>
                  <a:lnTo>
                    <a:pt x="835" y="1348"/>
                  </a:lnTo>
                  <a:lnTo>
                    <a:pt x="835" y="1342"/>
                  </a:lnTo>
                  <a:lnTo>
                    <a:pt x="839" y="1342"/>
                  </a:lnTo>
                  <a:lnTo>
                    <a:pt x="839" y="1331"/>
                  </a:lnTo>
                  <a:lnTo>
                    <a:pt x="845" y="1331"/>
                  </a:lnTo>
                  <a:lnTo>
                    <a:pt x="845" y="1324"/>
                  </a:lnTo>
                  <a:lnTo>
                    <a:pt x="849" y="1324"/>
                  </a:lnTo>
                  <a:lnTo>
                    <a:pt x="849" y="1319"/>
                  </a:lnTo>
                  <a:lnTo>
                    <a:pt x="854" y="1319"/>
                  </a:lnTo>
                  <a:lnTo>
                    <a:pt x="854" y="1307"/>
                  </a:lnTo>
                  <a:lnTo>
                    <a:pt x="859" y="1307"/>
                  </a:lnTo>
                  <a:lnTo>
                    <a:pt x="859" y="1289"/>
                  </a:lnTo>
                  <a:lnTo>
                    <a:pt x="864" y="1289"/>
                  </a:lnTo>
                  <a:lnTo>
                    <a:pt x="864" y="1283"/>
                  </a:lnTo>
                  <a:lnTo>
                    <a:pt x="869" y="1283"/>
                  </a:lnTo>
                  <a:lnTo>
                    <a:pt x="869" y="1278"/>
                  </a:lnTo>
                  <a:lnTo>
                    <a:pt x="873" y="1278"/>
                  </a:lnTo>
                  <a:lnTo>
                    <a:pt x="873" y="1272"/>
                  </a:lnTo>
                  <a:lnTo>
                    <a:pt x="879" y="1272"/>
                  </a:lnTo>
                  <a:lnTo>
                    <a:pt x="879" y="1266"/>
                  </a:lnTo>
                  <a:lnTo>
                    <a:pt x="883" y="1266"/>
                  </a:lnTo>
                  <a:lnTo>
                    <a:pt x="883" y="1261"/>
                  </a:lnTo>
                  <a:lnTo>
                    <a:pt x="888" y="1261"/>
                  </a:lnTo>
                  <a:lnTo>
                    <a:pt x="888" y="1254"/>
                  </a:lnTo>
                  <a:lnTo>
                    <a:pt x="893" y="1254"/>
                  </a:lnTo>
                  <a:lnTo>
                    <a:pt x="893" y="1248"/>
                  </a:lnTo>
                  <a:lnTo>
                    <a:pt x="898" y="1248"/>
                  </a:lnTo>
                  <a:lnTo>
                    <a:pt x="898" y="1237"/>
                  </a:lnTo>
                  <a:lnTo>
                    <a:pt x="902" y="1237"/>
                  </a:lnTo>
                  <a:lnTo>
                    <a:pt x="902" y="1224"/>
                  </a:lnTo>
                  <a:lnTo>
                    <a:pt x="907" y="1224"/>
                  </a:lnTo>
                  <a:lnTo>
                    <a:pt x="907" y="1219"/>
                  </a:lnTo>
                  <a:lnTo>
                    <a:pt x="912" y="1219"/>
                  </a:lnTo>
                  <a:lnTo>
                    <a:pt x="912" y="1207"/>
                  </a:lnTo>
                  <a:lnTo>
                    <a:pt x="916" y="1207"/>
                  </a:lnTo>
                  <a:lnTo>
                    <a:pt x="916" y="1201"/>
                  </a:lnTo>
                  <a:lnTo>
                    <a:pt x="921" y="1201"/>
                  </a:lnTo>
                  <a:lnTo>
                    <a:pt x="921" y="1188"/>
                  </a:lnTo>
                  <a:lnTo>
                    <a:pt x="926" y="1188"/>
                  </a:lnTo>
                  <a:lnTo>
                    <a:pt x="926" y="1183"/>
                  </a:lnTo>
                  <a:lnTo>
                    <a:pt x="932" y="1183"/>
                  </a:lnTo>
                  <a:lnTo>
                    <a:pt x="932" y="1178"/>
                  </a:lnTo>
                  <a:lnTo>
                    <a:pt x="936" y="1178"/>
                  </a:lnTo>
                  <a:lnTo>
                    <a:pt x="936" y="1166"/>
                  </a:lnTo>
                  <a:lnTo>
                    <a:pt x="941" y="1166"/>
                  </a:lnTo>
                  <a:lnTo>
                    <a:pt x="941" y="1160"/>
                  </a:lnTo>
                  <a:lnTo>
                    <a:pt x="946" y="1160"/>
                  </a:lnTo>
                  <a:lnTo>
                    <a:pt x="946" y="1153"/>
                  </a:lnTo>
                  <a:lnTo>
                    <a:pt x="950" y="1153"/>
                  </a:lnTo>
                  <a:lnTo>
                    <a:pt x="950" y="1147"/>
                  </a:lnTo>
                  <a:lnTo>
                    <a:pt x="955" y="1147"/>
                  </a:lnTo>
                  <a:lnTo>
                    <a:pt x="955" y="1142"/>
                  </a:lnTo>
                  <a:lnTo>
                    <a:pt x="960" y="1142"/>
                  </a:lnTo>
                  <a:lnTo>
                    <a:pt x="960" y="1136"/>
                  </a:lnTo>
                  <a:lnTo>
                    <a:pt x="965" y="1136"/>
                  </a:lnTo>
                  <a:lnTo>
                    <a:pt x="965" y="1130"/>
                  </a:lnTo>
                  <a:lnTo>
                    <a:pt x="969" y="1130"/>
                  </a:lnTo>
                  <a:lnTo>
                    <a:pt x="969" y="1125"/>
                  </a:lnTo>
                  <a:lnTo>
                    <a:pt x="975" y="1125"/>
                  </a:lnTo>
                  <a:lnTo>
                    <a:pt x="975" y="1118"/>
                  </a:lnTo>
                  <a:lnTo>
                    <a:pt x="979" y="1118"/>
                  </a:lnTo>
                  <a:lnTo>
                    <a:pt x="979" y="1106"/>
                  </a:lnTo>
                  <a:lnTo>
                    <a:pt x="984" y="1106"/>
                  </a:lnTo>
                  <a:lnTo>
                    <a:pt x="984" y="1101"/>
                  </a:lnTo>
                  <a:lnTo>
                    <a:pt x="993" y="1101"/>
                  </a:lnTo>
                  <a:lnTo>
                    <a:pt x="993" y="1093"/>
                  </a:lnTo>
                  <a:lnTo>
                    <a:pt x="998" y="1093"/>
                  </a:lnTo>
                  <a:lnTo>
                    <a:pt x="998" y="1088"/>
                  </a:lnTo>
                  <a:lnTo>
                    <a:pt x="1003" y="1088"/>
                  </a:lnTo>
                  <a:lnTo>
                    <a:pt x="1003" y="1077"/>
                  </a:lnTo>
                  <a:lnTo>
                    <a:pt x="1009" y="1077"/>
                  </a:lnTo>
                  <a:lnTo>
                    <a:pt x="1009" y="1065"/>
                  </a:lnTo>
                  <a:lnTo>
                    <a:pt x="1013" y="1065"/>
                  </a:lnTo>
                  <a:lnTo>
                    <a:pt x="1013" y="1060"/>
                  </a:lnTo>
                  <a:lnTo>
                    <a:pt x="1023" y="1060"/>
                  </a:lnTo>
                  <a:lnTo>
                    <a:pt x="1023" y="1047"/>
                  </a:lnTo>
                  <a:lnTo>
                    <a:pt x="1027" y="1047"/>
                  </a:lnTo>
                  <a:lnTo>
                    <a:pt x="1027" y="1035"/>
                  </a:lnTo>
                  <a:lnTo>
                    <a:pt x="1032" y="1035"/>
                  </a:lnTo>
                  <a:lnTo>
                    <a:pt x="1032" y="1029"/>
                  </a:lnTo>
                  <a:lnTo>
                    <a:pt x="1037" y="1029"/>
                  </a:lnTo>
                  <a:lnTo>
                    <a:pt x="1037" y="1019"/>
                  </a:lnTo>
                  <a:lnTo>
                    <a:pt x="1046" y="1019"/>
                  </a:lnTo>
                  <a:lnTo>
                    <a:pt x="1046" y="1006"/>
                  </a:lnTo>
                  <a:lnTo>
                    <a:pt x="1051" y="1006"/>
                  </a:lnTo>
                  <a:lnTo>
                    <a:pt x="1051" y="1000"/>
                  </a:lnTo>
                  <a:lnTo>
                    <a:pt x="1056" y="1000"/>
                  </a:lnTo>
                  <a:lnTo>
                    <a:pt x="1056" y="987"/>
                  </a:lnTo>
                  <a:lnTo>
                    <a:pt x="1061" y="987"/>
                  </a:lnTo>
                  <a:lnTo>
                    <a:pt x="1061" y="982"/>
                  </a:lnTo>
                  <a:lnTo>
                    <a:pt x="1070" y="982"/>
                  </a:lnTo>
                  <a:lnTo>
                    <a:pt x="1070" y="970"/>
                  </a:lnTo>
                  <a:lnTo>
                    <a:pt x="1076" y="970"/>
                  </a:lnTo>
                  <a:lnTo>
                    <a:pt x="1076" y="965"/>
                  </a:lnTo>
                  <a:lnTo>
                    <a:pt x="1080" y="965"/>
                  </a:lnTo>
                  <a:lnTo>
                    <a:pt x="1080" y="952"/>
                  </a:lnTo>
                  <a:lnTo>
                    <a:pt x="1086" y="952"/>
                  </a:lnTo>
                  <a:lnTo>
                    <a:pt x="1086" y="941"/>
                  </a:lnTo>
                  <a:lnTo>
                    <a:pt x="1090" y="941"/>
                  </a:lnTo>
                  <a:lnTo>
                    <a:pt x="1090" y="934"/>
                  </a:lnTo>
                  <a:lnTo>
                    <a:pt x="1095" y="934"/>
                  </a:lnTo>
                  <a:lnTo>
                    <a:pt x="1095" y="924"/>
                  </a:lnTo>
                  <a:lnTo>
                    <a:pt x="1099" y="924"/>
                  </a:lnTo>
                  <a:lnTo>
                    <a:pt x="1099" y="916"/>
                  </a:lnTo>
                  <a:lnTo>
                    <a:pt x="1105" y="916"/>
                  </a:lnTo>
                  <a:lnTo>
                    <a:pt x="1105" y="905"/>
                  </a:lnTo>
                  <a:lnTo>
                    <a:pt x="1109" y="905"/>
                  </a:lnTo>
                  <a:lnTo>
                    <a:pt x="1109" y="900"/>
                  </a:lnTo>
                  <a:lnTo>
                    <a:pt x="1119" y="900"/>
                  </a:lnTo>
                  <a:lnTo>
                    <a:pt x="1119" y="893"/>
                  </a:lnTo>
                  <a:lnTo>
                    <a:pt x="1123" y="893"/>
                  </a:lnTo>
                  <a:lnTo>
                    <a:pt x="1123" y="888"/>
                  </a:lnTo>
                  <a:lnTo>
                    <a:pt x="1133" y="888"/>
                  </a:lnTo>
                  <a:lnTo>
                    <a:pt x="1133" y="875"/>
                  </a:lnTo>
                  <a:lnTo>
                    <a:pt x="1142" y="875"/>
                  </a:lnTo>
                  <a:lnTo>
                    <a:pt x="1142" y="870"/>
                  </a:lnTo>
                  <a:lnTo>
                    <a:pt x="1147" y="870"/>
                  </a:lnTo>
                  <a:lnTo>
                    <a:pt x="1147" y="864"/>
                  </a:lnTo>
                  <a:lnTo>
                    <a:pt x="1153" y="864"/>
                  </a:lnTo>
                  <a:lnTo>
                    <a:pt x="1153" y="858"/>
                  </a:lnTo>
                  <a:lnTo>
                    <a:pt x="1157" y="858"/>
                  </a:lnTo>
                  <a:lnTo>
                    <a:pt x="1157" y="846"/>
                  </a:lnTo>
                  <a:lnTo>
                    <a:pt x="1161" y="846"/>
                  </a:lnTo>
                  <a:lnTo>
                    <a:pt x="1161" y="840"/>
                  </a:lnTo>
                  <a:lnTo>
                    <a:pt x="1167" y="840"/>
                  </a:lnTo>
                  <a:lnTo>
                    <a:pt x="1167" y="834"/>
                  </a:lnTo>
                  <a:lnTo>
                    <a:pt x="1171" y="834"/>
                  </a:lnTo>
                  <a:lnTo>
                    <a:pt x="1171" y="829"/>
                  </a:lnTo>
                  <a:lnTo>
                    <a:pt x="1176" y="829"/>
                  </a:lnTo>
                  <a:lnTo>
                    <a:pt x="1176" y="823"/>
                  </a:lnTo>
                  <a:lnTo>
                    <a:pt x="1181" y="823"/>
                  </a:lnTo>
                  <a:lnTo>
                    <a:pt x="1181" y="816"/>
                  </a:lnTo>
                  <a:lnTo>
                    <a:pt x="1186" y="816"/>
                  </a:lnTo>
                  <a:lnTo>
                    <a:pt x="1186" y="810"/>
                  </a:lnTo>
                  <a:lnTo>
                    <a:pt x="1190" y="810"/>
                  </a:lnTo>
                  <a:lnTo>
                    <a:pt x="1190" y="793"/>
                  </a:lnTo>
                  <a:lnTo>
                    <a:pt x="1195" y="793"/>
                  </a:lnTo>
                  <a:lnTo>
                    <a:pt x="1195" y="788"/>
                  </a:lnTo>
                  <a:lnTo>
                    <a:pt x="1200" y="788"/>
                  </a:lnTo>
                  <a:lnTo>
                    <a:pt x="1200" y="781"/>
                  </a:lnTo>
                  <a:lnTo>
                    <a:pt x="1204" y="781"/>
                  </a:lnTo>
                  <a:lnTo>
                    <a:pt x="1204" y="775"/>
                  </a:lnTo>
                  <a:lnTo>
                    <a:pt x="1209" y="775"/>
                  </a:lnTo>
                  <a:lnTo>
                    <a:pt x="1209" y="769"/>
                  </a:lnTo>
                  <a:lnTo>
                    <a:pt x="1214" y="769"/>
                  </a:lnTo>
                  <a:lnTo>
                    <a:pt x="1214" y="758"/>
                  </a:lnTo>
                  <a:lnTo>
                    <a:pt x="1220" y="758"/>
                  </a:lnTo>
                  <a:lnTo>
                    <a:pt x="1220" y="752"/>
                  </a:lnTo>
                  <a:lnTo>
                    <a:pt x="1224" y="752"/>
                  </a:lnTo>
                  <a:lnTo>
                    <a:pt x="1224" y="747"/>
                  </a:lnTo>
                  <a:lnTo>
                    <a:pt x="1230" y="747"/>
                  </a:lnTo>
                  <a:lnTo>
                    <a:pt x="1230" y="739"/>
                  </a:lnTo>
                  <a:lnTo>
                    <a:pt x="1234" y="739"/>
                  </a:lnTo>
                  <a:lnTo>
                    <a:pt x="1234" y="734"/>
                  </a:lnTo>
                  <a:lnTo>
                    <a:pt x="1239" y="734"/>
                  </a:lnTo>
                  <a:lnTo>
                    <a:pt x="1239" y="728"/>
                  </a:lnTo>
                  <a:lnTo>
                    <a:pt x="1243" y="728"/>
                  </a:lnTo>
                  <a:lnTo>
                    <a:pt x="1243" y="723"/>
                  </a:lnTo>
                  <a:lnTo>
                    <a:pt x="1248" y="723"/>
                  </a:lnTo>
                  <a:lnTo>
                    <a:pt x="1248" y="715"/>
                  </a:lnTo>
                  <a:lnTo>
                    <a:pt x="1253" y="715"/>
                  </a:lnTo>
                  <a:lnTo>
                    <a:pt x="1253" y="710"/>
                  </a:lnTo>
                  <a:lnTo>
                    <a:pt x="1257" y="710"/>
                  </a:lnTo>
                  <a:lnTo>
                    <a:pt x="1257" y="705"/>
                  </a:lnTo>
                  <a:lnTo>
                    <a:pt x="1263" y="705"/>
                  </a:lnTo>
                  <a:lnTo>
                    <a:pt x="1263" y="698"/>
                  </a:lnTo>
                  <a:lnTo>
                    <a:pt x="1267" y="698"/>
                  </a:lnTo>
                  <a:lnTo>
                    <a:pt x="1267" y="693"/>
                  </a:lnTo>
                  <a:lnTo>
                    <a:pt x="1272" y="693"/>
                  </a:lnTo>
                  <a:lnTo>
                    <a:pt x="1272" y="687"/>
                  </a:lnTo>
                  <a:lnTo>
                    <a:pt x="1282" y="687"/>
                  </a:lnTo>
                  <a:lnTo>
                    <a:pt x="1282" y="674"/>
                  </a:lnTo>
                  <a:lnTo>
                    <a:pt x="1292" y="674"/>
                  </a:lnTo>
                  <a:lnTo>
                    <a:pt x="1292" y="669"/>
                  </a:lnTo>
                  <a:lnTo>
                    <a:pt x="1297" y="669"/>
                  </a:lnTo>
                  <a:lnTo>
                    <a:pt x="1297" y="663"/>
                  </a:lnTo>
                  <a:lnTo>
                    <a:pt x="1301" y="663"/>
                  </a:lnTo>
                  <a:lnTo>
                    <a:pt x="1301" y="657"/>
                  </a:lnTo>
                  <a:lnTo>
                    <a:pt x="1306" y="657"/>
                  </a:lnTo>
                  <a:lnTo>
                    <a:pt x="1306" y="652"/>
                  </a:lnTo>
                  <a:lnTo>
                    <a:pt x="1311" y="652"/>
                  </a:lnTo>
                  <a:lnTo>
                    <a:pt x="1311" y="645"/>
                  </a:lnTo>
                  <a:lnTo>
                    <a:pt x="1316" y="645"/>
                  </a:lnTo>
                  <a:lnTo>
                    <a:pt x="1316" y="639"/>
                  </a:lnTo>
                  <a:lnTo>
                    <a:pt x="1325" y="639"/>
                  </a:lnTo>
                  <a:lnTo>
                    <a:pt x="1325" y="628"/>
                  </a:lnTo>
                  <a:lnTo>
                    <a:pt x="1330" y="628"/>
                  </a:lnTo>
                  <a:lnTo>
                    <a:pt x="1330" y="615"/>
                  </a:lnTo>
                  <a:lnTo>
                    <a:pt x="1334" y="615"/>
                  </a:lnTo>
                  <a:lnTo>
                    <a:pt x="1334" y="609"/>
                  </a:lnTo>
                  <a:lnTo>
                    <a:pt x="1339" y="609"/>
                  </a:lnTo>
                  <a:lnTo>
                    <a:pt x="1339" y="604"/>
                  </a:lnTo>
                  <a:lnTo>
                    <a:pt x="1344" y="604"/>
                  </a:lnTo>
                  <a:lnTo>
                    <a:pt x="1344" y="598"/>
                  </a:lnTo>
                  <a:lnTo>
                    <a:pt x="1349" y="598"/>
                  </a:lnTo>
                  <a:lnTo>
                    <a:pt x="1349" y="592"/>
                  </a:lnTo>
                  <a:lnTo>
                    <a:pt x="1353" y="592"/>
                  </a:lnTo>
                  <a:lnTo>
                    <a:pt x="1353" y="587"/>
                  </a:lnTo>
                  <a:lnTo>
                    <a:pt x="1359" y="587"/>
                  </a:lnTo>
                  <a:lnTo>
                    <a:pt x="1359" y="579"/>
                  </a:lnTo>
                  <a:lnTo>
                    <a:pt x="1364" y="579"/>
                  </a:lnTo>
                  <a:lnTo>
                    <a:pt x="1364" y="574"/>
                  </a:lnTo>
                  <a:lnTo>
                    <a:pt x="1369" y="574"/>
                  </a:lnTo>
                  <a:lnTo>
                    <a:pt x="1369" y="568"/>
                  </a:lnTo>
                  <a:lnTo>
                    <a:pt x="1374" y="568"/>
                  </a:lnTo>
                  <a:lnTo>
                    <a:pt x="1374" y="562"/>
                  </a:lnTo>
                  <a:lnTo>
                    <a:pt x="1378" y="562"/>
                  </a:lnTo>
                  <a:lnTo>
                    <a:pt x="1378" y="557"/>
                  </a:lnTo>
                  <a:lnTo>
                    <a:pt x="1383" y="557"/>
                  </a:lnTo>
                  <a:lnTo>
                    <a:pt x="1383" y="551"/>
                  </a:lnTo>
                  <a:lnTo>
                    <a:pt x="1393" y="551"/>
                  </a:lnTo>
                  <a:lnTo>
                    <a:pt x="1393" y="546"/>
                  </a:lnTo>
                  <a:lnTo>
                    <a:pt x="1397" y="546"/>
                  </a:lnTo>
                  <a:lnTo>
                    <a:pt x="1397" y="538"/>
                  </a:lnTo>
                  <a:lnTo>
                    <a:pt x="1407" y="538"/>
                  </a:lnTo>
                  <a:lnTo>
                    <a:pt x="1407" y="533"/>
                  </a:lnTo>
                  <a:lnTo>
                    <a:pt x="1411" y="533"/>
                  </a:lnTo>
                  <a:lnTo>
                    <a:pt x="1411" y="527"/>
                  </a:lnTo>
                  <a:lnTo>
                    <a:pt x="1416" y="527"/>
                  </a:lnTo>
                  <a:lnTo>
                    <a:pt x="1416" y="514"/>
                  </a:lnTo>
                  <a:lnTo>
                    <a:pt x="1426" y="514"/>
                  </a:lnTo>
                  <a:lnTo>
                    <a:pt x="1426" y="503"/>
                  </a:lnTo>
                  <a:lnTo>
                    <a:pt x="1436" y="503"/>
                  </a:lnTo>
                  <a:lnTo>
                    <a:pt x="1436" y="497"/>
                  </a:lnTo>
                  <a:lnTo>
                    <a:pt x="1441" y="497"/>
                  </a:lnTo>
                  <a:lnTo>
                    <a:pt x="1441" y="492"/>
                  </a:lnTo>
                  <a:lnTo>
                    <a:pt x="1450" y="492"/>
                  </a:lnTo>
                  <a:lnTo>
                    <a:pt x="1450" y="486"/>
                  </a:lnTo>
                  <a:lnTo>
                    <a:pt x="1460" y="486"/>
                  </a:lnTo>
                  <a:lnTo>
                    <a:pt x="1460" y="479"/>
                  </a:lnTo>
                  <a:lnTo>
                    <a:pt x="1464" y="479"/>
                  </a:lnTo>
                  <a:lnTo>
                    <a:pt x="1464" y="473"/>
                  </a:lnTo>
                  <a:lnTo>
                    <a:pt x="1474" y="473"/>
                  </a:lnTo>
                  <a:lnTo>
                    <a:pt x="1474" y="468"/>
                  </a:lnTo>
                  <a:lnTo>
                    <a:pt x="1478" y="468"/>
                  </a:lnTo>
                  <a:lnTo>
                    <a:pt x="1478" y="461"/>
                  </a:lnTo>
                  <a:lnTo>
                    <a:pt x="1483" y="461"/>
                  </a:lnTo>
                  <a:lnTo>
                    <a:pt x="1483" y="456"/>
                  </a:lnTo>
                  <a:lnTo>
                    <a:pt x="1493" y="456"/>
                  </a:lnTo>
                  <a:lnTo>
                    <a:pt x="1493" y="451"/>
                  </a:lnTo>
                  <a:lnTo>
                    <a:pt x="1497" y="451"/>
                  </a:lnTo>
                  <a:lnTo>
                    <a:pt x="1497" y="443"/>
                  </a:lnTo>
                  <a:lnTo>
                    <a:pt x="1502" y="443"/>
                  </a:lnTo>
                  <a:lnTo>
                    <a:pt x="1502" y="438"/>
                  </a:lnTo>
                  <a:lnTo>
                    <a:pt x="1508" y="438"/>
                  </a:lnTo>
                  <a:lnTo>
                    <a:pt x="1508" y="432"/>
                  </a:lnTo>
                  <a:lnTo>
                    <a:pt x="1518" y="432"/>
                  </a:lnTo>
                  <a:lnTo>
                    <a:pt x="1518" y="427"/>
                  </a:lnTo>
                  <a:lnTo>
                    <a:pt x="1522" y="427"/>
                  </a:lnTo>
                  <a:lnTo>
                    <a:pt x="1522" y="420"/>
                  </a:lnTo>
                  <a:lnTo>
                    <a:pt x="1527" y="420"/>
                  </a:lnTo>
                  <a:lnTo>
                    <a:pt x="1527" y="415"/>
                  </a:lnTo>
                  <a:lnTo>
                    <a:pt x="1531" y="415"/>
                  </a:lnTo>
                  <a:lnTo>
                    <a:pt x="1531" y="410"/>
                  </a:lnTo>
                  <a:lnTo>
                    <a:pt x="1537" y="410"/>
                  </a:lnTo>
                  <a:lnTo>
                    <a:pt x="1537" y="402"/>
                  </a:lnTo>
                  <a:lnTo>
                    <a:pt x="1541" y="402"/>
                  </a:lnTo>
                  <a:lnTo>
                    <a:pt x="1541" y="397"/>
                  </a:lnTo>
                  <a:lnTo>
                    <a:pt x="1551" y="397"/>
                  </a:lnTo>
                  <a:lnTo>
                    <a:pt x="1551" y="385"/>
                  </a:lnTo>
                  <a:lnTo>
                    <a:pt x="1560" y="385"/>
                  </a:lnTo>
                  <a:lnTo>
                    <a:pt x="1560" y="380"/>
                  </a:lnTo>
                  <a:lnTo>
                    <a:pt x="1570" y="380"/>
                  </a:lnTo>
                  <a:lnTo>
                    <a:pt x="1570" y="367"/>
                  </a:lnTo>
                  <a:lnTo>
                    <a:pt x="1574" y="367"/>
                  </a:lnTo>
                  <a:lnTo>
                    <a:pt x="1574" y="361"/>
                  </a:lnTo>
                  <a:lnTo>
                    <a:pt x="1580" y="361"/>
                  </a:lnTo>
                  <a:lnTo>
                    <a:pt x="1580" y="356"/>
                  </a:lnTo>
                  <a:lnTo>
                    <a:pt x="1589" y="356"/>
                  </a:lnTo>
                  <a:lnTo>
                    <a:pt x="1589" y="350"/>
                  </a:lnTo>
                  <a:lnTo>
                    <a:pt x="1599" y="350"/>
                  </a:lnTo>
                  <a:lnTo>
                    <a:pt x="1599" y="343"/>
                  </a:lnTo>
                  <a:lnTo>
                    <a:pt x="1608" y="343"/>
                  </a:lnTo>
                  <a:lnTo>
                    <a:pt x="1608" y="338"/>
                  </a:lnTo>
                  <a:lnTo>
                    <a:pt x="1614" y="338"/>
                  </a:lnTo>
                  <a:lnTo>
                    <a:pt x="1614" y="332"/>
                  </a:lnTo>
                  <a:lnTo>
                    <a:pt x="1618" y="332"/>
                  </a:lnTo>
                  <a:lnTo>
                    <a:pt x="1618" y="326"/>
                  </a:lnTo>
                  <a:lnTo>
                    <a:pt x="1627" y="326"/>
                  </a:lnTo>
                  <a:lnTo>
                    <a:pt x="1627" y="315"/>
                  </a:lnTo>
                  <a:lnTo>
                    <a:pt x="1632" y="315"/>
                  </a:lnTo>
                  <a:lnTo>
                    <a:pt x="1632" y="309"/>
                  </a:lnTo>
                  <a:lnTo>
                    <a:pt x="1641" y="309"/>
                  </a:lnTo>
                  <a:lnTo>
                    <a:pt x="1641" y="302"/>
                  </a:lnTo>
                  <a:lnTo>
                    <a:pt x="1651" y="302"/>
                  </a:lnTo>
                  <a:lnTo>
                    <a:pt x="1651" y="296"/>
                  </a:lnTo>
                  <a:lnTo>
                    <a:pt x="1662" y="296"/>
                  </a:lnTo>
                  <a:lnTo>
                    <a:pt x="1662" y="291"/>
                  </a:lnTo>
                  <a:lnTo>
                    <a:pt x="1667" y="291"/>
                  </a:lnTo>
                  <a:lnTo>
                    <a:pt x="1667" y="285"/>
                  </a:lnTo>
                  <a:lnTo>
                    <a:pt x="1671" y="285"/>
                  </a:lnTo>
                  <a:lnTo>
                    <a:pt x="1671" y="279"/>
                  </a:lnTo>
                  <a:lnTo>
                    <a:pt x="1681" y="279"/>
                  </a:lnTo>
                  <a:lnTo>
                    <a:pt x="1681" y="274"/>
                  </a:lnTo>
                  <a:lnTo>
                    <a:pt x="1685" y="274"/>
                  </a:lnTo>
                  <a:lnTo>
                    <a:pt x="1685" y="266"/>
                  </a:lnTo>
                  <a:lnTo>
                    <a:pt x="1690" y="266"/>
                  </a:lnTo>
                  <a:lnTo>
                    <a:pt x="1690" y="261"/>
                  </a:lnTo>
                  <a:lnTo>
                    <a:pt x="1700" y="261"/>
                  </a:lnTo>
                  <a:lnTo>
                    <a:pt x="1700" y="255"/>
                  </a:lnTo>
                  <a:lnTo>
                    <a:pt x="1709" y="255"/>
                  </a:lnTo>
                  <a:lnTo>
                    <a:pt x="1709" y="250"/>
                  </a:lnTo>
                  <a:lnTo>
                    <a:pt x="1718" y="250"/>
                  </a:lnTo>
                  <a:lnTo>
                    <a:pt x="1718" y="242"/>
                  </a:lnTo>
                  <a:lnTo>
                    <a:pt x="1723" y="242"/>
                  </a:lnTo>
                  <a:lnTo>
                    <a:pt x="1723" y="237"/>
                  </a:lnTo>
                  <a:lnTo>
                    <a:pt x="1729" y="237"/>
                  </a:lnTo>
                  <a:lnTo>
                    <a:pt x="1729" y="232"/>
                  </a:lnTo>
                  <a:lnTo>
                    <a:pt x="1738" y="232"/>
                  </a:lnTo>
                  <a:lnTo>
                    <a:pt x="1738" y="225"/>
                  </a:lnTo>
                  <a:lnTo>
                    <a:pt x="1744" y="225"/>
                  </a:lnTo>
                  <a:lnTo>
                    <a:pt x="1744" y="220"/>
                  </a:lnTo>
                  <a:lnTo>
                    <a:pt x="1752" y="220"/>
                  </a:lnTo>
                  <a:lnTo>
                    <a:pt x="1752" y="214"/>
                  </a:lnTo>
                  <a:lnTo>
                    <a:pt x="1762" y="214"/>
                  </a:lnTo>
                  <a:lnTo>
                    <a:pt x="1762" y="207"/>
                  </a:lnTo>
                  <a:lnTo>
                    <a:pt x="1771" y="207"/>
                  </a:lnTo>
                  <a:lnTo>
                    <a:pt x="1771" y="201"/>
                  </a:lnTo>
                  <a:lnTo>
                    <a:pt x="1777" y="201"/>
                  </a:lnTo>
                  <a:lnTo>
                    <a:pt x="1777" y="196"/>
                  </a:lnTo>
                  <a:lnTo>
                    <a:pt x="1786" y="196"/>
                  </a:lnTo>
                  <a:lnTo>
                    <a:pt x="1786" y="190"/>
                  </a:lnTo>
                  <a:lnTo>
                    <a:pt x="1795" y="190"/>
                  </a:lnTo>
                  <a:lnTo>
                    <a:pt x="1795" y="184"/>
                  </a:lnTo>
                  <a:lnTo>
                    <a:pt x="1801" y="184"/>
                  </a:lnTo>
                  <a:lnTo>
                    <a:pt x="1801" y="179"/>
                  </a:lnTo>
                  <a:lnTo>
                    <a:pt x="1810" y="179"/>
                  </a:lnTo>
                  <a:lnTo>
                    <a:pt x="1810" y="173"/>
                  </a:lnTo>
                  <a:lnTo>
                    <a:pt x="1820" y="173"/>
                  </a:lnTo>
                  <a:lnTo>
                    <a:pt x="1820" y="166"/>
                  </a:lnTo>
                  <a:lnTo>
                    <a:pt x="1825" y="166"/>
                  </a:lnTo>
                  <a:lnTo>
                    <a:pt x="1825" y="160"/>
                  </a:lnTo>
                  <a:lnTo>
                    <a:pt x="1834" y="160"/>
                  </a:lnTo>
                  <a:lnTo>
                    <a:pt x="1834" y="155"/>
                  </a:lnTo>
                  <a:lnTo>
                    <a:pt x="1843" y="155"/>
                  </a:lnTo>
                  <a:lnTo>
                    <a:pt x="1843" y="148"/>
                  </a:lnTo>
                  <a:lnTo>
                    <a:pt x="1848" y="148"/>
                  </a:lnTo>
                  <a:lnTo>
                    <a:pt x="1848" y="143"/>
                  </a:lnTo>
                  <a:lnTo>
                    <a:pt x="1853" y="143"/>
                  </a:lnTo>
                  <a:lnTo>
                    <a:pt x="1853" y="138"/>
                  </a:lnTo>
                  <a:lnTo>
                    <a:pt x="1862" y="138"/>
                  </a:lnTo>
                  <a:lnTo>
                    <a:pt x="1862" y="131"/>
                  </a:lnTo>
                  <a:lnTo>
                    <a:pt x="1873" y="131"/>
                  </a:lnTo>
                  <a:lnTo>
                    <a:pt x="1873" y="125"/>
                  </a:lnTo>
                  <a:lnTo>
                    <a:pt x="1882" y="125"/>
                  </a:lnTo>
                  <a:lnTo>
                    <a:pt x="1882" y="119"/>
                  </a:lnTo>
                  <a:lnTo>
                    <a:pt x="1887" y="119"/>
                  </a:lnTo>
                  <a:lnTo>
                    <a:pt x="1887" y="114"/>
                  </a:lnTo>
                  <a:lnTo>
                    <a:pt x="1896" y="114"/>
                  </a:lnTo>
                  <a:lnTo>
                    <a:pt x="1896" y="106"/>
                  </a:lnTo>
                  <a:lnTo>
                    <a:pt x="1902" y="106"/>
                  </a:lnTo>
                  <a:lnTo>
                    <a:pt x="1902" y="101"/>
                  </a:lnTo>
                  <a:lnTo>
                    <a:pt x="1911" y="101"/>
                  </a:lnTo>
                  <a:lnTo>
                    <a:pt x="1911" y="95"/>
                  </a:lnTo>
                  <a:lnTo>
                    <a:pt x="1915" y="95"/>
                  </a:lnTo>
                  <a:lnTo>
                    <a:pt x="1915" y="89"/>
                  </a:lnTo>
                  <a:lnTo>
                    <a:pt x="1925" y="89"/>
                  </a:lnTo>
                  <a:lnTo>
                    <a:pt x="1925" y="84"/>
                  </a:lnTo>
                  <a:lnTo>
                    <a:pt x="1929" y="84"/>
                  </a:lnTo>
                  <a:lnTo>
                    <a:pt x="1929" y="78"/>
                  </a:lnTo>
                  <a:lnTo>
                    <a:pt x="1939" y="78"/>
                  </a:lnTo>
                  <a:lnTo>
                    <a:pt x="1939" y="73"/>
                  </a:lnTo>
                  <a:lnTo>
                    <a:pt x="1950" y="73"/>
                  </a:lnTo>
                  <a:lnTo>
                    <a:pt x="1950" y="65"/>
                  </a:lnTo>
                  <a:lnTo>
                    <a:pt x="1955" y="65"/>
                  </a:lnTo>
                  <a:lnTo>
                    <a:pt x="1955" y="60"/>
                  </a:lnTo>
                  <a:lnTo>
                    <a:pt x="1964" y="60"/>
                  </a:lnTo>
                  <a:lnTo>
                    <a:pt x="1964" y="54"/>
                  </a:lnTo>
                  <a:lnTo>
                    <a:pt x="1969" y="54"/>
                  </a:lnTo>
                  <a:lnTo>
                    <a:pt x="1969" y="48"/>
                  </a:lnTo>
                  <a:lnTo>
                    <a:pt x="1973" y="48"/>
                  </a:lnTo>
                  <a:lnTo>
                    <a:pt x="1973" y="41"/>
                  </a:lnTo>
                  <a:lnTo>
                    <a:pt x="1978" y="41"/>
                  </a:lnTo>
                  <a:lnTo>
                    <a:pt x="1978" y="36"/>
                  </a:lnTo>
                  <a:lnTo>
                    <a:pt x="1988" y="36"/>
                  </a:lnTo>
                  <a:lnTo>
                    <a:pt x="1988" y="30"/>
                  </a:lnTo>
                  <a:lnTo>
                    <a:pt x="1992" y="30"/>
                  </a:lnTo>
                  <a:lnTo>
                    <a:pt x="1992" y="24"/>
                  </a:lnTo>
                  <a:lnTo>
                    <a:pt x="2002" y="24"/>
                  </a:lnTo>
                  <a:lnTo>
                    <a:pt x="2002" y="19"/>
                  </a:lnTo>
                  <a:lnTo>
                    <a:pt x="2011" y="19"/>
                  </a:lnTo>
                  <a:lnTo>
                    <a:pt x="2011" y="13"/>
                  </a:lnTo>
                  <a:lnTo>
                    <a:pt x="2017" y="13"/>
                  </a:lnTo>
                  <a:lnTo>
                    <a:pt x="2017" y="7"/>
                  </a:lnTo>
                  <a:lnTo>
                    <a:pt x="2041" y="7"/>
                  </a:lnTo>
                  <a:lnTo>
                    <a:pt x="2041" y="0"/>
                  </a:lnTo>
                  <a:lnTo>
                    <a:pt x="2065" y="0"/>
                  </a:lnTo>
                  <a:lnTo>
                    <a:pt x="2065" y="7"/>
                  </a:lnTo>
                  <a:lnTo>
                    <a:pt x="2069" y="7"/>
                  </a:lnTo>
                  <a:lnTo>
                    <a:pt x="2069" y="13"/>
                  </a:lnTo>
                  <a:lnTo>
                    <a:pt x="2074" y="13"/>
                  </a:lnTo>
                  <a:lnTo>
                    <a:pt x="2074" y="41"/>
                  </a:lnTo>
                  <a:lnTo>
                    <a:pt x="2069" y="41"/>
                  </a:lnTo>
                  <a:lnTo>
                    <a:pt x="2069" y="48"/>
                  </a:lnTo>
                  <a:lnTo>
                    <a:pt x="2060" y="48"/>
                  </a:lnTo>
                  <a:lnTo>
                    <a:pt x="2060" y="54"/>
                  </a:lnTo>
                  <a:lnTo>
                    <a:pt x="2046" y="54"/>
                  </a:lnTo>
                  <a:lnTo>
                    <a:pt x="2046" y="60"/>
                  </a:lnTo>
                  <a:lnTo>
                    <a:pt x="2036" y="60"/>
                  </a:lnTo>
                  <a:lnTo>
                    <a:pt x="2036" y="65"/>
                  </a:lnTo>
                  <a:lnTo>
                    <a:pt x="2022" y="65"/>
                  </a:lnTo>
                  <a:lnTo>
                    <a:pt x="2022" y="73"/>
                  </a:lnTo>
                  <a:lnTo>
                    <a:pt x="2017" y="73"/>
                  </a:lnTo>
                  <a:lnTo>
                    <a:pt x="2017" y="78"/>
                  </a:lnTo>
                  <a:lnTo>
                    <a:pt x="2007" y="78"/>
                  </a:lnTo>
                  <a:lnTo>
                    <a:pt x="2007" y="84"/>
                  </a:lnTo>
                  <a:lnTo>
                    <a:pt x="2002" y="84"/>
                  </a:lnTo>
                  <a:lnTo>
                    <a:pt x="2002" y="89"/>
                  </a:lnTo>
                  <a:lnTo>
                    <a:pt x="1998" y="89"/>
                  </a:lnTo>
                  <a:lnTo>
                    <a:pt x="1998" y="95"/>
                  </a:lnTo>
                  <a:lnTo>
                    <a:pt x="1988" y="95"/>
                  </a:lnTo>
                  <a:lnTo>
                    <a:pt x="1988" y="101"/>
                  </a:lnTo>
                  <a:lnTo>
                    <a:pt x="1978" y="101"/>
                  </a:lnTo>
                  <a:lnTo>
                    <a:pt x="1978" y="106"/>
                  </a:lnTo>
                  <a:lnTo>
                    <a:pt x="1973" y="106"/>
                  </a:lnTo>
                  <a:lnTo>
                    <a:pt x="1973" y="114"/>
                  </a:lnTo>
                  <a:lnTo>
                    <a:pt x="1969" y="114"/>
                  </a:lnTo>
                  <a:lnTo>
                    <a:pt x="1969" y="119"/>
                  </a:lnTo>
                  <a:lnTo>
                    <a:pt x="1964" y="119"/>
                  </a:lnTo>
                  <a:lnTo>
                    <a:pt x="1964" y="125"/>
                  </a:lnTo>
                  <a:lnTo>
                    <a:pt x="1955" y="125"/>
                  </a:lnTo>
                  <a:lnTo>
                    <a:pt x="1955" y="131"/>
                  </a:lnTo>
                  <a:lnTo>
                    <a:pt x="1950" y="131"/>
                  </a:lnTo>
                  <a:lnTo>
                    <a:pt x="1950" y="138"/>
                  </a:lnTo>
                  <a:lnTo>
                    <a:pt x="1939" y="138"/>
                  </a:lnTo>
                  <a:lnTo>
                    <a:pt x="1939" y="143"/>
                  </a:lnTo>
                  <a:lnTo>
                    <a:pt x="1929" y="143"/>
                  </a:lnTo>
                  <a:lnTo>
                    <a:pt x="1929" y="148"/>
                  </a:lnTo>
                  <a:lnTo>
                    <a:pt x="1921" y="148"/>
                  </a:lnTo>
                  <a:lnTo>
                    <a:pt x="1921" y="155"/>
                  </a:lnTo>
                  <a:lnTo>
                    <a:pt x="1915" y="155"/>
                  </a:lnTo>
                  <a:lnTo>
                    <a:pt x="1915" y="160"/>
                  </a:lnTo>
                  <a:lnTo>
                    <a:pt x="1906" y="160"/>
                  </a:lnTo>
                  <a:lnTo>
                    <a:pt x="1906" y="166"/>
                  </a:lnTo>
                  <a:lnTo>
                    <a:pt x="1902" y="166"/>
                  </a:lnTo>
                  <a:lnTo>
                    <a:pt x="1902" y="173"/>
                  </a:lnTo>
                  <a:lnTo>
                    <a:pt x="1892" y="173"/>
                  </a:lnTo>
                  <a:lnTo>
                    <a:pt x="1892" y="179"/>
                  </a:lnTo>
                  <a:lnTo>
                    <a:pt x="1887" y="179"/>
                  </a:lnTo>
                  <a:lnTo>
                    <a:pt x="1887" y="184"/>
                  </a:lnTo>
                  <a:lnTo>
                    <a:pt x="1873" y="184"/>
                  </a:lnTo>
                  <a:lnTo>
                    <a:pt x="1873" y="190"/>
                  </a:lnTo>
                  <a:lnTo>
                    <a:pt x="1867" y="190"/>
                  </a:lnTo>
                  <a:lnTo>
                    <a:pt x="1867" y="196"/>
                  </a:lnTo>
                  <a:lnTo>
                    <a:pt x="1858" y="196"/>
                  </a:lnTo>
                  <a:lnTo>
                    <a:pt x="1858" y="201"/>
                  </a:lnTo>
                  <a:lnTo>
                    <a:pt x="1853" y="201"/>
                  </a:lnTo>
                  <a:lnTo>
                    <a:pt x="1853" y="207"/>
                  </a:lnTo>
                  <a:lnTo>
                    <a:pt x="1843" y="207"/>
                  </a:lnTo>
                  <a:lnTo>
                    <a:pt x="1843" y="214"/>
                  </a:lnTo>
                  <a:lnTo>
                    <a:pt x="1839" y="214"/>
                  </a:lnTo>
                  <a:lnTo>
                    <a:pt x="1839" y="220"/>
                  </a:lnTo>
                  <a:lnTo>
                    <a:pt x="1829" y="220"/>
                  </a:lnTo>
                  <a:lnTo>
                    <a:pt x="1829" y="225"/>
                  </a:lnTo>
                  <a:lnTo>
                    <a:pt x="1825" y="225"/>
                  </a:lnTo>
                  <a:lnTo>
                    <a:pt x="1825" y="232"/>
                  </a:lnTo>
                  <a:lnTo>
                    <a:pt x="1810" y="232"/>
                  </a:lnTo>
                  <a:lnTo>
                    <a:pt x="1810" y="237"/>
                  </a:lnTo>
                  <a:lnTo>
                    <a:pt x="1806" y="237"/>
                  </a:lnTo>
                  <a:lnTo>
                    <a:pt x="1806" y="242"/>
                  </a:lnTo>
                  <a:lnTo>
                    <a:pt x="1795" y="242"/>
                  </a:lnTo>
                  <a:lnTo>
                    <a:pt x="1795" y="250"/>
                  </a:lnTo>
                  <a:lnTo>
                    <a:pt x="1791" y="250"/>
                  </a:lnTo>
                  <a:lnTo>
                    <a:pt x="1791" y="255"/>
                  </a:lnTo>
                  <a:lnTo>
                    <a:pt x="1786" y="255"/>
                  </a:lnTo>
                  <a:lnTo>
                    <a:pt x="1786" y="261"/>
                  </a:lnTo>
                  <a:lnTo>
                    <a:pt x="1777" y="261"/>
                  </a:lnTo>
                  <a:lnTo>
                    <a:pt x="1777" y="266"/>
                  </a:lnTo>
                  <a:lnTo>
                    <a:pt x="1771" y="266"/>
                  </a:lnTo>
                  <a:lnTo>
                    <a:pt x="1771" y="274"/>
                  </a:lnTo>
                  <a:lnTo>
                    <a:pt x="1762" y="274"/>
                  </a:lnTo>
                  <a:lnTo>
                    <a:pt x="1762" y="279"/>
                  </a:lnTo>
                  <a:lnTo>
                    <a:pt x="1752" y="279"/>
                  </a:lnTo>
                  <a:lnTo>
                    <a:pt x="1752" y="285"/>
                  </a:lnTo>
                  <a:lnTo>
                    <a:pt x="1748" y="285"/>
                  </a:lnTo>
                  <a:lnTo>
                    <a:pt x="1748" y="291"/>
                  </a:lnTo>
                  <a:lnTo>
                    <a:pt x="1738" y="291"/>
                  </a:lnTo>
                  <a:lnTo>
                    <a:pt x="1738" y="296"/>
                  </a:lnTo>
                  <a:lnTo>
                    <a:pt x="1729" y="296"/>
                  </a:lnTo>
                  <a:lnTo>
                    <a:pt x="1729" y="302"/>
                  </a:lnTo>
                  <a:lnTo>
                    <a:pt x="1723" y="302"/>
                  </a:lnTo>
                  <a:lnTo>
                    <a:pt x="1723" y="309"/>
                  </a:lnTo>
                  <a:lnTo>
                    <a:pt x="1718" y="309"/>
                  </a:lnTo>
                  <a:lnTo>
                    <a:pt x="1718" y="315"/>
                  </a:lnTo>
                  <a:lnTo>
                    <a:pt x="1714" y="315"/>
                  </a:lnTo>
                  <a:lnTo>
                    <a:pt x="1714" y="320"/>
                  </a:lnTo>
                  <a:lnTo>
                    <a:pt x="1704" y="320"/>
                  </a:lnTo>
                  <a:lnTo>
                    <a:pt x="1704" y="326"/>
                  </a:lnTo>
                  <a:lnTo>
                    <a:pt x="1695" y="326"/>
                  </a:lnTo>
                  <a:lnTo>
                    <a:pt x="1695" y="332"/>
                  </a:lnTo>
                  <a:lnTo>
                    <a:pt x="1685" y="332"/>
                  </a:lnTo>
                  <a:lnTo>
                    <a:pt x="1685" y="338"/>
                  </a:lnTo>
                  <a:lnTo>
                    <a:pt x="1681" y="338"/>
                  </a:lnTo>
                  <a:lnTo>
                    <a:pt x="1681" y="343"/>
                  </a:lnTo>
                  <a:lnTo>
                    <a:pt x="1676" y="343"/>
                  </a:lnTo>
                  <a:lnTo>
                    <a:pt x="1676" y="350"/>
                  </a:lnTo>
                  <a:lnTo>
                    <a:pt x="1667" y="350"/>
                  </a:lnTo>
                  <a:lnTo>
                    <a:pt x="1667" y="356"/>
                  </a:lnTo>
                  <a:lnTo>
                    <a:pt x="1662" y="356"/>
                  </a:lnTo>
                  <a:lnTo>
                    <a:pt x="1662" y="361"/>
                  </a:lnTo>
                  <a:lnTo>
                    <a:pt x="1657" y="361"/>
                  </a:lnTo>
                  <a:lnTo>
                    <a:pt x="1657" y="367"/>
                  </a:lnTo>
                  <a:lnTo>
                    <a:pt x="1647" y="367"/>
                  </a:lnTo>
                  <a:lnTo>
                    <a:pt x="1647" y="373"/>
                  </a:lnTo>
                  <a:lnTo>
                    <a:pt x="1641" y="373"/>
                  </a:lnTo>
                  <a:lnTo>
                    <a:pt x="1641" y="380"/>
                  </a:lnTo>
                  <a:lnTo>
                    <a:pt x="1632" y="380"/>
                  </a:lnTo>
                  <a:lnTo>
                    <a:pt x="1632" y="385"/>
                  </a:lnTo>
                  <a:lnTo>
                    <a:pt x="1627" y="385"/>
                  </a:lnTo>
                  <a:lnTo>
                    <a:pt x="1627" y="392"/>
                  </a:lnTo>
                  <a:lnTo>
                    <a:pt x="1623" y="392"/>
                  </a:lnTo>
                  <a:lnTo>
                    <a:pt x="1623" y="397"/>
                  </a:lnTo>
                  <a:lnTo>
                    <a:pt x="1618" y="397"/>
                  </a:lnTo>
                  <a:lnTo>
                    <a:pt x="1618" y="402"/>
                  </a:lnTo>
                  <a:lnTo>
                    <a:pt x="1614" y="402"/>
                  </a:lnTo>
                  <a:lnTo>
                    <a:pt x="1614" y="410"/>
                  </a:lnTo>
                  <a:lnTo>
                    <a:pt x="1604" y="410"/>
                  </a:lnTo>
                  <a:lnTo>
                    <a:pt x="1604" y="415"/>
                  </a:lnTo>
                  <a:lnTo>
                    <a:pt x="1594" y="415"/>
                  </a:lnTo>
                  <a:lnTo>
                    <a:pt x="1594" y="420"/>
                  </a:lnTo>
                  <a:lnTo>
                    <a:pt x="1585" y="420"/>
                  </a:lnTo>
                  <a:lnTo>
                    <a:pt x="1585" y="427"/>
                  </a:lnTo>
                  <a:lnTo>
                    <a:pt x="1580" y="427"/>
                  </a:lnTo>
                  <a:lnTo>
                    <a:pt x="1580" y="432"/>
                  </a:lnTo>
                  <a:lnTo>
                    <a:pt x="1574" y="432"/>
                  </a:lnTo>
                  <a:lnTo>
                    <a:pt x="1574" y="438"/>
                  </a:lnTo>
                  <a:lnTo>
                    <a:pt x="1570" y="438"/>
                  </a:lnTo>
                  <a:lnTo>
                    <a:pt x="1570" y="443"/>
                  </a:lnTo>
                  <a:lnTo>
                    <a:pt x="1560" y="443"/>
                  </a:lnTo>
                  <a:lnTo>
                    <a:pt x="1560" y="451"/>
                  </a:lnTo>
                  <a:lnTo>
                    <a:pt x="1555" y="451"/>
                  </a:lnTo>
                  <a:lnTo>
                    <a:pt x="1555" y="456"/>
                  </a:lnTo>
                  <a:lnTo>
                    <a:pt x="1551" y="456"/>
                  </a:lnTo>
                  <a:lnTo>
                    <a:pt x="1551" y="461"/>
                  </a:lnTo>
                  <a:lnTo>
                    <a:pt x="1545" y="461"/>
                  </a:lnTo>
                  <a:lnTo>
                    <a:pt x="1545" y="468"/>
                  </a:lnTo>
                  <a:lnTo>
                    <a:pt x="1541" y="468"/>
                  </a:lnTo>
                  <a:lnTo>
                    <a:pt x="1541" y="473"/>
                  </a:lnTo>
                  <a:lnTo>
                    <a:pt x="1537" y="473"/>
                  </a:lnTo>
                  <a:lnTo>
                    <a:pt x="1537" y="479"/>
                  </a:lnTo>
                  <a:lnTo>
                    <a:pt x="1531" y="479"/>
                  </a:lnTo>
                  <a:lnTo>
                    <a:pt x="1531" y="486"/>
                  </a:lnTo>
                  <a:lnTo>
                    <a:pt x="1527" y="486"/>
                  </a:lnTo>
                  <a:lnTo>
                    <a:pt x="1527" y="492"/>
                  </a:lnTo>
                  <a:lnTo>
                    <a:pt x="1522" y="492"/>
                  </a:lnTo>
                  <a:lnTo>
                    <a:pt x="1522" y="497"/>
                  </a:lnTo>
                  <a:lnTo>
                    <a:pt x="1518" y="497"/>
                  </a:lnTo>
                  <a:lnTo>
                    <a:pt x="1518" y="503"/>
                  </a:lnTo>
                  <a:lnTo>
                    <a:pt x="1508" y="503"/>
                  </a:lnTo>
                  <a:lnTo>
                    <a:pt x="1508" y="509"/>
                  </a:lnTo>
                  <a:lnTo>
                    <a:pt x="1497" y="509"/>
                  </a:lnTo>
                  <a:lnTo>
                    <a:pt x="1497" y="514"/>
                  </a:lnTo>
                  <a:lnTo>
                    <a:pt x="1493" y="514"/>
                  </a:lnTo>
                  <a:lnTo>
                    <a:pt x="1493" y="521"/>
                  </a:lnTo>
                  <a:lnTo>
                    <a:pt x="1483" y="521"/>
                  </a:lnTo>
                  <a:lnTo>
                    <a:pt x="1483" y="527"/>
                  </a:lnTo>
                  <a:lnTo>
                    <a:pt x="1478" y="527"/>
                  </a:lnTo>
                  <a:lnTo>
                    <a:pt x="1478" y="533"/>
                  </a:lnTo>
                  <a:lnTo>
                    <a:pt x="1474" y="533"/>
                  </a:lnTo>
                  <a:lnTo>
                    <a:pt x="1474" y="538"/>
                  </a:lnTo>
                  <a:lnTo>
                    <a:pt x="1464" y="538"/>
                  </a:lnTo>
                  <a:lnTo>
                    <a:pt x="1464" y="546"/>
                  </a:lnTo>
                  <a:lnTo>
                    <a:pt x="1460" y="546"/>
                  </a:lnTo>
                  <a:lnTo>
                    <a:pt x="1460" y="551"/>
                  </a:lnTo>
                  <a:lnTo>
                    <a:pt x="1455" y="551"/>
                  </a:lnTo>
                  <a:lnTo>
                    <a:pt x="1455" y="557"/>
                  </a:lnTo>
                  <a:lnTo>
                    <a:pt x="1450" y="557"/>
                  </a:lnTo>
                  <a:lnTo>
                    <a:pt x="1450" y="562"/>
                  </a:lnTo>
                  <a:lnTo>
                    <a:pt x="1441" y="562"/>
                  </a:lnTo>
                  <a:lnTo>
                    <a:pt x="1441" y="568"/>
                  </a:lnTo>
                  <a:lnTo>
                    <a:pt x="1430" y="568"/>
                  </a:lnTo>
                  <a:lnTo>
                    <a:pt x="1430" y="574"/>
                  </a:lnTo>
                  <a:lnTo>
                    <a:pt x="1426" y="574"/>
                  </a:lnTo>
                  <a:lnTo>
                    <a:pt x="1426" y="579"/>
                  </a:lnTo>
                  <a:lnTo>
                    <a:pt x="1421" y="579"/>
                  </a:lnTo>
                  <a:lnTo>
                    <a:pt x="1421" y="587"/>
                  </a:lnTo>
                  <a:lnTo>
                    <a:pt x="1416" y="587"/>
                  </a:lnTo>
                  <a:lnTo>
                    <a:pt x="1416" y="592"/>
                  </a:lnTo>
                  <a:lnTo>
                    <a:pt x="1411" y="592"/>
                  </a:lnTo>
                  <a:lnTo>
                    <a:pt x="1411" y="604"/>
                  </a:lnTo>
                  <a:lnTo>
                    <a:pt x="1407" y="604"/>
                  </a:lnTo>
                  <a:lnTo>
                    <a:pt x="1407" y="609"/>
                  </a:lnTo>
                  <a:lnTo>
                    <a:pt x="1397" y="609"/>
                  </a:lnTo>
                  <a:lnTo>
                    <a:pt x="1397" y="615"/>
                  </a:lnTo>
                  <a:lnTo>
                    <a:pt x="1393" y="615"/>
                  </a:lnTo>
                  <a:lnTo>
                    <a:pt x="1393" y="628"/>
                  </a:lnTo>
                  <a:lnTo>
                    <a:pt x="1387" y="628"/>
                  </a:lnTo>
                  <a:lnTo>
                    <a:pt x="1387" y="633"/>
                  </a:lnTo>
                  <a:lnTo>
                    <a:pt x="1378" y="633"/>
                  </a:lnTo>
                  <a:lnTo>
                    <a:pt x="1378" y="645"/>
                  </a:lnTo>
                  <a:lnTo>
                    <a:pt x="1374" y="645"/>
                  </a:lnTo>
                  <a:lnTo>
                    <a:pt x="1374" y="652"/>
                  </a:lnTo>
                  <a:lnTo>
                    <a:pt x="1369" y="652"/>
                  </a:lnTo>
                  <a:lnTo>
                    <a:pt x="1369" y="657"/>
                  </a:lnTo>
                  <a:lnTo>
                    <a:pt x="1364" y="657"/>
                  </a:lnTo>
                  <a:lnTo>
                    <a:pt x="1364" y="663"/>
                  </a:lnTo>
                  <a:lnTo>
                    <a:pt x="1359" y="663"/>
                  </a:lnTo>
                  <a:lnTo>
                    <a:pt x="1359" y="669"/>
                  </a:lnTo>
                  <a:lnTo>
                    <a:pt x="1353" y="669"/>
                  </a:lnTo>
                  <a:lnTo>
                    <a:pt x="1353" y="680"/>
                  </a:lnTo>
                  <a:lnTo>
                    <a:pt x="1344" y="680"/>
                  </a:lnTo>
                  <a:lnTo>
                    <a:pt x="1344" y="687"/>
                  </a:lnTo>
                  <a:lnTo>
                    <a:pt x="1339" y="687"/>
                  </a:lnTo>
                  <a:lnTo>
                    <a:pt x="1339" y="698"/>
                  </a:lnTo>
                  <a:lnTo>
                    <a:pt x="1334" y="698"/>
                  </a:lnTo>
                  <a:lnTo>
                    <a:pt x="1334" y="705"/>
                  </a:lnTo>
                  <a:lnTo>
                    <a:pt x="1330" y="705"/>
                  </a:lnTo>
                  <a:lnTo>
                    <a:pt x="1330" y="710"/>
                  </a:lnTo>
                  <a:lnTo>
                    <a:pt x="1320" y="710"/>
                  </a:lnTo>
                  <a:lnTo>
                    <a:pt x="1320" y="715"/>
                  </a:lnTo>
                  <a:lnTo>
                    <a:pt x="1316" y="715"/>
                  </a:lnTo>
                  <a:lnTo>
                    <a:pt x="1316" y="728"/>
                  </a:lnTo>
                  <a:lnTo>
                    <a:pt x="1311" y="728"/>
                  </a:lnTo>
                  <a:lnTo>
                    <a:pt x="1311" y="734"/>
                  </a:lnTo>
                  <a:lnTo>
                    <a:pt x="1306" y="734"/>
                  </a:lnTo>
                  <a:lnTo>
                    <a:pt x="1306" y="739"/>
                  </a:lnTo>
                  <a:lnTo>
                    <a:pt x="1301" y="739"/>
                  </a:lnTo>
                  <a:lnTo>
                    <a:pt x="1301" y="747"/>
                  </a:lnTo>
                  <a:lnTo>
                    <a:pt x="1292" y="747"/>
                  </a:lnTo>
                  <a:lnTo>
                    <a:pt x="1292" y="752"/>
                  </a:lnTo>
                  <a:lnTo>
                    <a:pt x="1286" y="752"/>
                  </a:lnTo>
                  <a:lnTo>
                    <a:pt x="1286" y="758"/>
                  </a:lnTo>
                  <a:lnTo>
                    <a:pt x="1277" y="758"/>
                  </a:lnTo>
                  <a:lnTo>
                    <a:pt x="1277" y="764"/>
                  </a:lnTo>
                  <a:lnTo>
                    <a:pt x="1272" y="764"/>
                  </a:lnTo>
                  <a:lnTo>
                    <a:pt x="1272" y="775"/>
                  </a:lnTo>
                  <a:lnTo>
                    <a:pt x="1267" y="775"/>
                  </a:lnTo>
                  <a:lnTo>
                    <a:pt x="1267" y="781"/>
                  </a:lnTo>
                  <a:lnTo>
                    <a:pt x="1263" y="781"/>
                  </a:lnTo>
                  <a:lnTo>
                    <a:pt x="1263" y="788"/>
                  </a:lnTo>
                  <a:lnTo>
                    <a:pt x="1257" y="788"/>
                  </a:lnTo>
                  <a:lnTo>
                    <a:pt x="1257" y="793"/>
                  </a:lnTo>
                  <a:lnTo>
                    <a:pt x="1253" y="793"/>
                  </a:lnTo>
                  <a:lnTo>
                    <a:pt x="1253" y="799"/>
                  </a:lnTo>
                  <a:lnTo>
                    <a:pt x="1248" y="799"/>
                  </a:lnTo>
                  <a:lnTo>
                    <a:pt x="1248" y="810"/>
                  </a:lnTo>
                  <a:lnTo>
                    <a:pt x="1243" y="810"/>
                  </a:lnTo>
                  <a:lnTo>
                    <a:pt x="1243" y="816"/>
                  </a:lnTo>
                  <a:lnTo>
                    <a:pt x="1239" y="816"/>
                  </a:lnTo>
                  <a:lnTo>
                    <a:pt x="1239" y="823"/>
                  </a:lnTo>
                  <a:lnTo>
                    <a:pt x="1234" y="823"/>
                  </a:lnTo>
                  <a:lnTo>
                    <a:pt x="1234" y="829"/>
                  </a:lnTo>
                  <a:lnTo>
                    <a:pt x="1230" y="829"/>
                  </a:lnTo>
                  <a:lnTo>
                    <a:pt x="1230" y="834"/>
                  </a:lnTo>
                  <a:lnTo>
                    <a:pt x="1224" y="834"/>
                  </a:lnTo>
                  <a:lnTo>
                    <a:pt x="1224" y="840"/>
                  </a:lnTo>
                  <a:lnTo>
                    <a:pt x="1220" y="840"/>
                  </a:lnTo>
                  <a:lnTo>
                    <a:pt x="1220" y="846"/>
                  </a:lnTo>
                  <a:lnTo>
                    <a:pt x="1214" y="846"/>
                  </a:lnTo>
                  <a:lnTo>
                    <a:pt x="1214" y="851"/>
                  </a:lnTo>
                  <a:lnTo>
                    <a:pt x="1209" y="851"/>
                  </a:lnTo>
                  <a:lnTo>
                    <a:pt x="1209" y="864"/>
                  </a:lnTo>
                  <a:lnTo>
                    <a:pt x="1204" y="864"/>
                  </a:lnTo>
                  <a:lnTo>
                    <a:pt x="1204" y="870"/>
                  </a:lnTo>
                  <a:lnTo>
                    <a:pt x="1200" y="870"/>
                  </a:lnTo>
                  <a:lnTo>
                    <a:pt x="1200" y="875"/>
                  </a:lnTo>
                  <a:lnTo>
                    <a:pt x="1195" y="875"/>
                  </a:lnTo>
                  <a:lnTo>
                    <a:pt x="1195" y="881"/>
                  </a:lnTo>
                  <a:lnTo>
                    <a:pt x="1190" y="881"/>
                  </a:lnTo>
                  <a:lnTo>
                    <a:pt x="1190" y="888"/>
                  </a:lnTo>
                  <a:lnTo>
                    <a:pt x="1186" y="888"/>
                  </a:lnTo>
                  <a:lnTo>
                    <a:pt x="1186" y="893"/>
                  </a:lnTo>
                  <a:lnTo>
                    <a:pt x="1181" y="893"/>
                  </a:lnTo>
                  <a:lnTo>
                    <a:pt x="1181" y="900"/>
                  </a:lnTo>
                  <a:lnTo>
                    <a:pt x="1176" y="900"/>
                  </a:lnTo>
                  <a:lnTo>
                    <a:pt x="1176" y="905"/>
                  </a:lnTo>
                  <a:lnTo>
                    <a:pt x="1171" y="905"/>
                  </a:lnTo>
                  <a:lnTo>
                    <a:pt x="1171" y="911"/>
                  </a:lnTo>
                  <a:lnTo>
                    <a:pt x="1167" y="911"/>
                  </a:lnTo>
                  <a:lnTo>
                    <a:pt x="1167" y="924"/>
                  </a:lnTo>
                  <a:lnTo>
                    <a:pt x="1161" y="924"/>
                  </a:lnTo>
                  <a:lnTo>
                    <a:pt x="1161" y="929"/>
                  </a:lnTo>
                  <a:lnTo>
                    <a:pt x="1157" y="929"/>
                  </a:lnTo>
                  <a:lnTo>
                    <a:pt x="1157" y="934"/>
                  </a:lnTo>
                  <a:lnTo>
                    <a:pt x="1153" y="934"/>
                  </a:lnTo>
                  <a:lnTo>
                    <a:pt x="1153" y="946"/>
                  </a:lnTo>
                  <a:lnTo>
                    <a:pt x="1147" y="946"/>
                  </a:lnTo>
                  <a:lnTo>
                    <a:pt x="1147" y="952"/>
                  </a:lnTo>
                  <a:lnTo>
                    <a:pt x="1142" y="952"/>
                  </a:lnTo>
                  <a:lnTo>
                    <a:pt x="1142" y="959"/>
                  </a:lnTo>
                  <a:lnTo>
                    <a:pt x="1137" y="959"/>
                  </a:lnTo>
                  <a:lnTo>
                    <a:pt x="1137" y="965"/>
                  </a:lnTo>
                  <a:lnTo>
                    <a:pt x="1133" y="965"/>
                  </a:lnTo>
                  <a:lnTo>
                    <a:pt x="1133" y="970"/>
                  </a:lnTo>
                  <a:lnTo>
                    <a:pt x="1127" y="970"/>
                  </a:lnTo>
                  <a:lnTo>
                    <a:pt x="1127" y="976"/>
                  </a:lnTo>
                  <a:lnTo>
                    <a:pt x="1123" y="976"/>
                  </a:lnTo>
                  <a:lnTo>
                    <a:pt x="1123" y="982"/>
                  </a:lnTo>
                  <a:lnTo>
                    <a:pt x="1119" y="982"/>
                  </a:lnTo>
                  <a:lnTo>
                    <a:pt x="1119" y="987"/>
                  </a:lnTo>
                  <a:lnTo>
                    <a:pt x="1113" y="987"/>
                  </a:lnTo>
                  <a:lnTo>
                    <a:pt x="1113" y="994"/>
                  </a:lnTo>
                  <a:lnTo>
                    <a:pt x="1109" y="994"/>
                  </a:lnTo>
                  <a:lnTo>
                    <a:pt x="1109" y="1000"/>
                  </a:lnTo>
                  <a:lnTo>
                    <a:pt x="1105" y="1000"/>
                  </a:lnTo>
                  <a:lnTo>
                    <a:pt x="1105" y="1006"/>
                  </a:lnTo>
                  <a:lnTo>
                    <a:pt x="1095" y="1006"/>
                  </a:lnTo>
                  <a:lnTo>
                    <a:pt x="1095" y="1019"/>
                  </a:lnTo>
                  <a:lnTo>
                    <a:pt x="1090" y="1019"/>
                  </a:lnTo>
                  <a:lnTo>
                    <a:pt x="1090" y="1029"/>
                  </a:lnTo>
                  <a:lnTo>
                    <a:pt x="1086" y="1029"/>
                  </a:lnTo>
                  <a:lnTo>
                    <a:pt x="1086" y="1041"/>
                  </a:lnTo>
                  <a:lnTo>
                    <a:pt x="1080" y="1041"/>
                  </a:lnTo>
                  <a:lnTo>
                    <a:pt x="1080" y="1052"/>
                  </a:lnTo>
                  <a:lnTo>
                    <a:pt x="1076" y="1052"/>
                  </a:lnTo>
                  <a:lnTo>
                    <a:pt x="1076" y="1065"/>
                  </a:lnTo>
                  <a:lnTo>
                    <a:pt x="1070" y="1065"/>
                  </a:lnTo>
                  <a:lnTo>
                    <a:pt x="1070" y="1077"/>
                  </a:lnTo>
                  <a:lnTo>
                    <a:pt x="1065" y="1077"/>
                  </a:lnTo>
                  <a:lnTo>
                    <a:pt x="1065" y="1082"/>
                  </a:lnTo>
                  <a:lnTo>
                    <a:pt x="1061" y="1082"/>
                  </a:lnTo>
                  <a:lnTo>
                    <a:pt x="1061" y="1088"/>
                  </a:lnTo>
                  <a:lnTo>
                    <a:pt x="1056" y="1088"/>
                  </a:lnTo>
                  <a:lnTo>
                    <a:pt x="1056" y="1106"/>
                  </a:lnTo>
                  <a:lnTo>
                    <a:pt x="1051" y="1106"/>
                  </a:lnTo>
                  <a:lnTo>
                    <a:pt x="1051" y="1112"/>
                  </a:lnTo>
                  <a:lnTo>
                    <a:pt x="1046" y="1112"/>
                  </a:lnTo>
                  <a:lnTo>
                    <a:pt x="1046" y="1118"/>
                  </a:lnTo>
                  <a:lnTo>
                    <a:pt x="1042" y="1118"/>
                  </a:lnTo>
                  <a:lnTo>
                    <a:pt x="1042" y="1125"/>
                  </a:lnTo>
                  <a:lnTo>
                    <a:pt x="1037" y="1125"/>
                  </a:lnTo>
                  <a:lnTo>
                    <a:pt x="1037" y="1130"/>
                  </a:lnTo>
                  <a:lnTo>
                    <a:pt x="1032" y="1130"/>
                  </a:lnTo>
                  <a:lnTo>
                    <a:pt x="1032" y="1136"/>
                  </a:lnTo>
                  <a:lnTo>
                    <a:pt x="1027" y="1136"/>
                  </a:lnTo>
                  <a:lnTo>
                    <a:pt x="1027" y="1142"/>
                  </a:lnTo>
                  <a:lnTo>
                    <a:pt x="1023" y="1142"/>
                  </a:lnTo>
                  <a:lnTo>
                    <a:pt x="1023" y="1147"/>
                  </a:lnTo>
                  <a:lnTo>
                    <a:pt x="1018" y="1147"/>
                  </a:lnTo>
                  <a:lnTo>
                    <a:pt x="1018" y="1153"/>
                  </a:lnTo>
                  <a:lnTo>
                    <a:pt x="1013" y="1153"/>
                  </a:lnTo>
                  <a:lnTo>
                    <a:pt x="1013" y="1160"/>
                  </a:lnTo>
                  <a:lnTo>
                    <a:pt x="1009" y="1160"/>
                  </a:lnTo>
                  <a:lnTo>
                    <a:pt x="1009" y="1166"/>
                  </a:lnTo>
                  <a:lnTo>
                    <a:pt x="1003" y="1166"/>
                  </a:lnTo>
                  <a:lnTo>
                    <a:pt x="1003" y="1171"/>
                  </a:lnTo>
                  <a:lnTo>
                    <a:pt x="998" y="1171"/>
                  </a:lnTo>
                  <a:lnTo>
                    <a:pt x="998" y="1178"/>
                  </a:lnTo>
                  <a:lnTo>
                    <a:pt x="993" y="1178"/>
                  </a:lnTo>
                  <a:lnTo>
                    <a:pt x="993" y="1183"/>
                  </a:lnTo>
                  <a:lnTo>
                    <a:pt x="989" y="1183"/>
                  </a:lnTo>
                  <a:lnTo>
                    <a:pt x="989" y="1196"/>
                  </a:lnTo>
                  <a:lnTo>
                    <a:pt x="984" y="1196"/>
                  </a:lnTo>
                  <a:lnTo>
                    <a:pt x="984" y="1201"/>
                  </a:lnTo>
                  <a:lnTo>
                    <a:pt x="979" y="1201"/>
                  </a:lnTo>
                  <a:lnTo>
                    <a:pt x="979" y="1207"/>
                  </a:lnTo>
                  <a:lnTo>
                    <a:pt x="975" y="1207"/>
                  </a:lnTo>
                  <a:lnTo>
                    <a:pt x="975" y="1212"/>
                  </a:lnTo>
                  <a:lnTo>
                    <a:pt x="969" y="1212"/>
                  </a:lnTo>
                  <a:lnTo>
                    <a:pt x="969" y="1219"/>
                  </a:lnTo>
                  <a:lnTo>
                    <a:pt x="965" y="1219"/>
                  </a:lnTo>
                  <a:lnTo>
                    <a:pt x="965" y="1224"/>
                  </a:lnTo>
                  <a:lnTo>
                    <a:pt x="960" y="1224"/>
                  </a:lnTo>
                  <a:lnTo>
                    <a:pt x="960" y="1237"/>
                  </a:lnTo>
                  <a:lnTo>
                    <a:pt x="955" y="1237"/>
                  </a:lnTo>
                  <a:lnTo>
                    <a:pt x="955" y="1242"/>
                  </a:lnTo>
                  <a:lnTo>
                    <a:pt x="950" y="1242"/>
                  </a:lnTo>
                  <a:lnTo>
                    <a:pt x="950" y="1248"/>
                  </a:lnTo>
                  <a:lnTo>
                    <a:pt x="946" y="1248"/>
                  </a:lnTo>
                  <a:lnTo>
                    <a:pt x="946" y="1254"/>
                  </a:lnTo>
                  <a:lnTo>
                    <a:pt x="941" y="1254"/>
                  </a:lnTo>
                  <a:lnTo>
                    <a:pt x="941" y="1266"/>
                  </a:lnTo>
                  <a:lnTo>
                    <a:pt x="936" y="1266"/>
                  </a:lnTo>
                  <a:lnTo>
                    <a:pt x="936" y="1278"/>
                  </a:lnTo>
                  <a:lnTo>
                    <a:pt x="932" y="1278"/>
                  </a:lnTo>
                  <a:lnTo>
                    <a:pt x="932" y="1283"/>
                  </a:lnTo>
                  <a:lnTo>
                    <a:pt x="926" y="1283"/>
                  </a:lnTo>
                  <a:lnTo>
                    <a:pt x="926" y="1289"/>
                  </a:lnTo>
                  <a:lnTo>
                    <a:pt x="921" y="1289"/>
                  </a:lnTo>
                  <a:lnTo>
                    <a:pt x="921" y="1301"/>
                  </a:lnTo>
                  <a:lnTo>
                    <a:pt x="916" y="1301"/>
                  </a:lnTo>
                  <a:lnTo>
                    <a:pt x="916" y="1307"/>
                  </a:lnTo>
                  <a:lnTo>
                    <a:pt x="912" y="1307"/>
                  </a:lnTo>
                  <a:lnTo>
                    <a:pt x="912" y="1313"/>
                  </a:lnTo>
                  <a:lnTo>
                    <a:pt x="907" y="1313"/>
                  </a:lnTo>
                  <a:lnTo>
                    <a:pt x="907" y="1324"/>
                  </a:lnTo>
                  <a:lnTo>
                    <a:pt x="902" y="1324"/>
                  </a:lnTo>
                  <a:lnTo>
                    <a:pt x="902" y="1331"/>
                  </a:lnTo>
                  <a:lnTo>
                    <a:pt x="898" y="1331"/>
                  </a:lnTo>
                  <a:lnTo>
                    <a:pt x="898" y="1337"/>
                  </a:lnTo>
                  <a:lnTo>
                    <a:pt x="893" y="1337"/>
                  </a:lnTo>
                  <a:lnTo>
                    <a:pt x="893" y="1348"/>
                  </a:lnTo>
                  <a:lnTo>
                    <a:pt x="888" y="1348"/>
                  </a:lnTo>
                  <a:lnTo>
                    <a:pt x="888" y="1354"/>
                  </a:lnTo>
                  <a:lnTo>
                    <a:pt x="883" y="1354"/>
                  </a:lnTo>
                  <a:lnTo>
                    <a:pt x="883" y="1360"/>
                  </a:lnTo>
                  <a:lnTo>
                    <a:pt x="879" y="1360"/>
                  </a:lnTo>
                  <a:lnTo>
                    <a:pt x="879" y="1373"/>
                  </a:lnTo>
                  <a:lnTo>
                    <a:pt x="873" y="1373"/>
                  </a:lnTo>
                  <a:lnTo>
                    <a:pt x="873" y="1378"/>
                  </a:lnTo>
                  <a:lnTo>
                    <a:pt x="869" y="1378"/>
                  </a:lnTo>
                  <a:lnTo>
                    <a:pt x="869" y="1384"/>
                  </a:lnTo>
                  <a:lnTo>
                    <a:pt x="864" y="1384"/>
                  </a:lnTo>
                  <a:lnTo>
                    <a:pt x="864" y="1395"/>
                  </a:lnTo>
                  <a:lnTo>
                    <a:pt x="859" y="1395"/>
                  </a:lnTo>
                  <a:lnTo>
                    <a:pt x="859" y="1402"/>
                  </a:lnTo>
                  <a:lnTo>
                    <a:pt x="854" y="1402"/>
                  </a:lnTo>
                  <a:lnTo>
                    <a:pt x="854" y="1425"/>
                  </a:lnTo>
                  <a:lnTo>
                    <a:pt x="849" y="1425"/>
                  </a:lnTo>
                  <a:lnTo>
                    <a:pt x="849" y="1432"/>
                  </a:lnTo>
                  <a:lnTo>
                    <a:pt x="845" y="1432"/>
                  </a:lnTo>
                  <a:lnTo>
                    <a:pt x="845" y="1438"/>
                  </a:lnTo>
                  <a:lnTo>
                    <a:pt x="839" y="1438"/>
                  </a:lnTo>
                  <a:lnTo>
                    <a:pt x="839" y="1443"/>
                  </a:lnTo>
                  <a:lnTo>
                    <a:pt x="835" y="1443"/>
                  </a:lnTo>
                  <a:lnTo>
                    <a:pt x="835" y="1455"/>
                  </a:lnTo>
                  <a:lnTo>
                    <a:pt x="830" y="1455"/>
                  </a:lnTo>
                  <a:lnTo>
                    <a:pt x="830" y="1473"/>
                  </a:lnTo>
                  <a:lnTo>
                    <a:pt x="825" y="1473"/>
                  </a:lnTo>
                  <a:lnTo>
                    <a:pt x="825" y="1479"/>
                  </a:lnTo>
                  <a:lnTo>
                    <a:pt x="820" y="1479"/>
                  </a:lnTo>
                  <a:lnTo>
                    <a:pt x="820" y="1484"/>
                  </a:lnTo>
                  <a:lnTo>
                    <a:pt x="811" y="1484"/>
                  </a:lnTo>
                  <a:lnTo>
                    <a:pt x="811" y="1491"/>
                  </a:lnTo>
                  <a:lnTo>
                    <a:pt x="806" y="1491"/>
                  </a:lnTo>
                  <a:lnTo>
                    <a:pt x="806" y="1501"/>
                  </a:lnTo>
                  <a:lnTo>
                    <a:pt x="802" y="1501"/>
                  </a:lnTo>
                  <a:lnTo>
                    <a:pt x="802" y="1508"/>
                  </a:lnTo>
                  <a:lnTo>
                    <a:pt x="797" y="1508"/>
                  </a:lnTo>
                  <a:lnTo>
                    <a:pt x="797" y="1520"/>
                  </a:lnTo>
                  <a:lnTo>
                    <a:pt x="792" y="1520"/>
                  </a:lnTo>
                  <a:lnTo>
                    <a:pt x="792" y="1533"/>
                  </a:lnTo>
                  <a:lnTo>
                    <a:pt x="787" y="1533"/>
                  </a:lnTo>
                  <a:lnTo>
                    <a:pt x="787" y="1544"/>
                  </a:lnTo>
                  <a:lnTo>
                    <a:pt x="783" y="1544"/>
                  </a:lnTo>
                  <a:lnTo>
                    <a:pt x="783" y="1550"/>
                  </a:lnTo>
                  <a:lnTo>
                    <a:pt x="777" y="1550"/>
                  </a:lnTo>
                  <a:lnTo>
                    <a:pt x="777" y="1566"/>
                  </a:lnTo>
                  <a:lnTo>
                    <a:pt x="772" y="1566"/>
                  </a:lnTo>
                  <a:lnTo>
                    <a:pt x="772" y="1579"/>
                  </a:lnTo>
                  <a:lnTo>
                    <a:pt x="768" y="1579"/>
                  </a:lnTo>
                  <a:lnTo>
                    <a:pt x="768" y="1591"/>
                  </a:lnTo>
                  <a:lnTo>
                    <a:pt x="763" y="1591"/>
                  </a:lnTo>
                  <a:lnTo>
                    <a:pt x="763" y="1596"/>
                  </a:lnTo>
                  <a:lnTo>
                    <a:pt x="758" y="1596"/>
                  </a:lnTo>
                  <a:lnTo>
                    <a:pt x="758" y="1603"/>
                  </a:lnTo>
                  <a:lnTo>
                    <a:pt x="754" y="1603"/>
                  </a:lnTo>
                  <a:lnTo>
                    <a:pt x="754" y="1615"/>
                  </a:lnTo>
                  <a:lnTo>
                    <a:pt x="749" y="1615"/>
                  </a:lnTo>
                  <a:lnTo>
                    <a:pt x="749" y="1620"/>
                  </a:lnTo>
                  <a:lnTo>
                    <a:pt x="744" y="1620"/>
                  </a:lnTo>
                  <a:lnTo>
                    <a:pt x="744" y="1639"/>
                  </a:lnTo>
                  <a:lnTo>
                    <a:pt x="739" y="1639"/>
                  </a:lnTo>
                  <a:lnTo>
                    <a:pt x="739" y="1650"/>
                  </a:lnTo>
                  <a:lnTo>
                    <a:pt x="735" y="1650"/>
                  </a:lnTo>
                  <a:lnTo>
                    <a:pt x="735" y="1669"/>
                  </a:lnTo>
                  <a:lnTo>
                    <a:pt x="729" y="1669"/>
                  </a:lnTo>
                  <a:lnTo>
                    <a:pt x="729" y="1685"/>
                  </a:lnTo>
                  <a:lnTo>
                    <a:pt x="725" y="1685"/>
                  </a:lnTo>
                  <a:lnTo>
                    <a:pt x="725" y="1702"/>
                  </a:lnTo>
                  <a:lnTo>
                    <a:pt x="721" y="1702"/>
                  </a:lnTo>
                  <a:lnTo>
                    <a:pt x="721" y="1715"/>
                  </a:lnTo>
                  <a:lnTo>
                    <a:pt x="715" y="1715"/>
                  </a:lnTo>
                  <a:lnTo>
                    <a:pt x="715" y="1732"/>
                  </a:lnTo>
                  <a:lnTo>
                    <a:pt x="711" y="1732"/>
                  </a:lnTo>
                  <a:lnTo>
                    <a:pt x="711" y="1745"/>
                  </a:lnTo>
                  <a:lnTo>
                    <a:pt x="705" y="1745"/>
                  </a:lnTo>
                  <a:lnTo>
                    <a:pt x="705" y="1756"/>
                  </a:lnTo>
                  <a:lnTo>
                    <a:pt x="701" y="1756"/>
                  </a:lnTo>
                  <a:lnTo>
                    <a:pt x="701" y="1773"/>
                  </a:lnTo>
                  <a:lnTo>
                    <a:pt x="695" y="1773"/>
                  </a:lnTo>
                  <a:lnTo>
                    <a:pt x="695" y="1786"/>
                  </a:lnTo>
                  <a:lnTo>
                    <a:pt x="691" y="1786"/>
                  </a:lnTo>
                  <a:lnTo>
                    <a:pt x="691" y="1797"/>
                  </a:lnTo>
                  <a:lnTo>
                    <a:pt x="687" y="1797"/>
                  </a:lnTo>
                  <a:lnTo>
                    <a:pt x="687" y="1803"/>
                  </a:lnTo>
                  <a:lnTo>
                    <a:pt x="681" y="1803"/>
                  </a:lnTo>
                  <a:lnTo>
                    <a:pt x="681" y="1815"/>
                  </a:lnTo>
                  <a:lnTo>
                    <a:pt x="677" y="1815"/>
                  </a:lnTo>
                  <a:lnTo>
                    <a:pt x="677" y="1827"/>
                  </a:lnTo>
                  <a:lnTo>
                    <a:pt x="672" y="1827"/>
                  </a:lnTo>
                  <a:lnTo>
                    <a:pt x="672" y="1838"/>
                  </a:lnTo>
                  <a:lnTo>
                    <a:pt x="667" y="1838"/>
                  </a:lnTo>
                  <a:lnTo>
                    <a:pt x="667" y="1857"/>
                  </a:lnTo>
                  <a:lnTo>
                    <a:pt x="662" y="1857"/>
                  </a:lnTo>
                  <a:lnTo>
                    <a:pt x="662" y="1862"/>
                  </a:lnTo>
                  <a:lnTo>
                    <a:pt x="658" y="1862"/>
                  </a:lnTo>
                  <a:lnTo>
                    <a:pt x="658" y="1868"/>
                  </a:lnTo>
                  <a:lnTo>
                    <a:pt x="653" y="1868"/>
                  </a:lnTo>
                  <a:lnTo>
                    <a:pt x="653" y="1880"/>
                  </a:lnTo>
                  <a:lnTo>
                    <a:pt x="648" y="1880"/>
                  </a:lnTo>
                  <a:lnTo>
                    <a:pt x="648" y="1892"/>
                  </a:lnTo>
                  <a:lnTo>
                    <a:pt x="644" y="1892"/>
                  </a:lnTo>
                  <a:lnTo>
                    <a:pt x="644" y="1905"/>
                  </a:lnTo>
                  <a:lnTo>
                    <a:pt x="639" y="1905"/>
                  </a:lnTo>
                  <a:lnTo>
                    <a:pt x="639" y="1916"/>
                  </a:lnTo>
                  <a:lnTo>
                    <a:pt x="633" y="1916"/>
                  </a:lnTo>
                  <a:lnTo>
                    <a:pt x="633" y="1928"/>
                  </a:lnTo>
                  <a:lnTo>
                    <a:pt x="628" y="1928"/>
                  </a:lnTo>
                  <a:lnTo>
                    <a:pt x="628" y="1939"/>
                  </a:lnTo>
                  <a:lnTo>
                    <a:pt x="624" y="1939"/>
                  </a:lnTo>
                  <a:lnTo>
                    <a:pt x="624" y="1957"/>
                  </a:lnTo>
                  <a:lnTo>
                    <a:pt x="618" y="1957"/>
                  </a:lnTo>
                  <a:lnTo>
                    <a:pt x="618" y="1969"/>
                  </a:lnTo>
                  <a:lnTo>
                    <a:pt x="614" y="1969"/>
                  </a:lnTo>
                  <a:lnTo>
                    <a:pt x="614" y="1987"/>
                  </a:lnTo>
                  <a:lnTo>
                    <a:pt x="609" y="1987"/>
                  </a:lnTo>
                  <a:lnTo>
                    <a:pt x="609" y="1998"/>
                  </a:lnTo>
                  <a:lnTo>
                    <a:pt x="605" y="1998"/>
                  </a:lnTo>
                  <a:lnTo>
                    <a:pt x="605" y="2023"/>
                  </a:lnTo>
                  <a:lnTo>
                    <a:pt x="600" y="2023"/>
                  </a:lnTo>
                  <a:lnTo>
                    <a:pt x="600" y="2028"/>
                  </a:lnTo>
                  <a:lnTo>
                    <a:pt x="595" y="2028"/>
                  </a:lnTo>
                  <a:lnTo>
                    <a:pt x="595" y="2047"/>
                  </a:lnTo>
                  <a:lnTo>
                    <a:pt x="591" y="2047"/>
                  </a:lnTo>
                  <a:lnTo>
                    <a:pt x="591" y="2058"/>
                  </a:lnTo>
                  <a:lnTo>
                    <a:pt x="585" y="2058"/>
                  </a:lnTo>
                  <a:lnTo>
                    <a:pt x="585" y="2069"/>
                  </a:lnTo>
                  <a:lnTo>
                    <a:pt x="581" y="2069"/>
                  </a:lnTo>
                  <a:lnTo>
                    <a:pt x="581" y="2075"/>
                  </a:lnTo>
                  <a:lnTo>
                    <a:pt x="576" y="2075"/>
                  </a:lnTo>
                  <a:lnTo>
                    <a:pt x="576" y="2099"/>
                  </a:lnTo>
                  <a:lnTo>
                    <a:pt x="571" y="2099"/>
                  </a:lnTo>
                  <a:lnTo>
                    <a:pt x="571" y="2110"/>
                  </a:lnTo>
                  <a:lnTo>
                    <a:pt x="566" y="2110"/>
                  </a:lnTo>
                  <a:lnTo>
                    <a:pt x="566" y="2123"/>
                  </a:lnTo>
                  <a:lnTo>
                    <a:pt x="561" y="2123"/>
                  </a:lnTo>
                  <a:lnTo>
                    <a:pt x="561" y="2134"/>
                  </a:lnTo>
                  <a:lnTo>
                    <a:pt x="556" y="2134"/>
                  </a:lnTo>
                  <a:lnTo>
                    <a:pt x="556" y="2152"/>
                  </a:lnTo>
                  <a:lnTo>
                    <a:pt x="551" y="2152"/>
                  </a:lnTo>
                  <a:lnTo>
                    <a:pt x="551" y="2164"/>
                  </a:lnTo>
                  <a:lnTo>
                    <a:pt x="547" y="2164"/>
                  </a:lnTo>
                  <a:lnTo>
                    <a:pt x="547" y="2170"/>
                  </a:lnTo>
                  <a:lnTo>
                    <a:pt x="542" y="2170"/>
                  </a:lnTo>
                  <a:lnTo>
                    <a:pt x="542" y="2182"/>
                  </a:lnTo>
                  <a:lnTo>
                    <a:pt x="537" y="2182"/>
                  </a:lnTo>
                  <a:lnTo>
                    <a:pt x="537" y="2193"/>
                  </a:lnTo>
                  <a:lnTo>
                    <a:pt x="532" y="2193"/>
                  </a:lnTo>
                  <a:lnTo>
                    <a:pt x="532" y="2200"/>
                  </a:lnTo>
                  <a:lnTo>
                    <a:pt x="528" y="2200"/>
                  </a:lnTo>
                  <a:lnTo>
                    <a:pt x="528" y="2211"/>
                  </a:lnTo>
                  <a:lnTo>
                    <a:pt x="523" y="2211"/>
                  </a:lnTo>
                  <a:lnTo>
                    <a:pt x="523" y="2218"/>
                  </a:lnTo>
                  <a:lnTo>
                    <a:pt x="518" y="2218"/>
                  </a:lnTo>
                  <a:lnTo>
                    <a:pt x="518" y="2224"/>
                  </a:lnTo>
                  <a:lnTo>
                    <a:pt x="514" y="2224"/>
                  </a:lnTo>
                  <a:lnTo>
                    <a:pt x="514" y="2246"/>
                  </a:lnTo>
                  <a:lnTo>
                    <a:pt x="509" y="2246"/>
                  </a:lnTo>
                  <a:lnTo>
                    <a:pt x="509" y="2253"/>
                  </a:lnTo>
                  <a:lnTo>
                    <a:pt x="504" y="2253"/>
                  </a:lnTo>
                  <a:lnTo>
                    <a:pt x="504" y="2265"/>
                  </a:lnTo>
                  <a:lnTo>
                    <a:pt x="499" y="2265"/>
                  </a:lnTo>
                  <a:lnTo>
                    <a:pt x="499" y="2276"/>
                  </a:lnTo>
                  <a:lnTo>
                    <a:pt x="495" y="2276"/>
                  </a:lnTo>
                  <a:lnTo>
                    <a:pt x="495" y="2288"/>
                  </a:lnTo>
                  <a:lnTo>
                    <a:pt x="488" y="2288"/>
                  </a:lnTo>
                  <a:lnTo>
                    <a:pt x="488" y="2300"/>
                  </a:lnTo>
                  <a:lnTo>
                    <a:pt x="484" y="2300"/>
                  </a:lnTo>
                  <a:lnTo>
                    <a:pt x="484" y="2311"/>
                  </a:lnTo>
                  <a:lnTo>
                    <a:pt x="479" y="2311"/>
                  </a:lnTo>
                  <a:lnTo>
                    <a:pt x="479" y="2324"/>
                  </a:lnTo>
                  <a:lnTo>
                    <a:pt x="474" y="2324"/>
                  </a:lnTo>
                  <a:lnTo>
                    <a:pt x="474" y="2330"/>
                  </a:lnTo>
                  <a:lnTo>
                    <a:pt x="470" y="2330"/>
                  </a:lnTo>
                  <a:lnTo>
                    <a:pt x="470" y="2341"/>
                  </a:lnTo>
                  <a:lnTo>
                    <a:pt x="465" y="2341"/>
                  </a:lnTo>
                  <a:lnTo>
                    <a:pt x="465" y="2348"/>
                  </a:lnTo>
                  <a:lnTo>
                    <a:pt x="461" y="2348"/>
                  </a:lnTo>
                  <a:lnTo>
                    <a:pt x="461" y="2360"/>
                  </a:lnTo>
                  <a:lnTo>
                    <a:pt x="455" y="2360"/>
                  </a:lnTo>
                  <a:lnTo>
                    <a:pt x="455" y="2377"/>
                  </a:lnTo>
                  <a:lnTo>
                    <a:pt x="451" y="2377"/>
                  </a:lnTo>
                  <a:lnTo>
                    <a:pt x="451" y="2389"/>
                  </a:lnTo>
                  <a:lnTo>
                    <a:pt x="446" y="2389"/>
                  </a:lnTo>
                  <a:lnTo>
                    <a:pt x="446" y="2395"/>
                  </a:lnTo>
                  <a:lnTo>
                    <a:pt x="441" y="2395"/>
                  </a:lnTo>
                  <a:lnTo>
                    <a:pt x="441" y="2406"/>
                  </a:lnTo>
                  <a:lnTo>
                    <a:pt x="437" y="2406"/>
                  </a:lnTo>
                  <a:lnTo>
                    <a:pt x="437" y="2419"/>
                  </a:lnTo>
                  <a:lnTo>
                    <a:pt x="432" y="2419"/>
                  </a:lnTo>
                  <a:lnTo>
                    <a:pt x="432" y="2430"/>
                  </a:lnTo>
                  <a:lnTo>
                    <a:pt x="427" y="2430"/>
                  </a:lnTo>
                  <a:lnTo>
                    <a:pt x="427" y="2447"/>
                  </a:lnTo>
                  <a:lnTo>
                    <a:pt x="423" y="2447"/>
                  </a:lnTo>
                  <a:lnTo>
                    <a:pt x="423" y="2466"/>
                  </a:lnTo>
                  <a:lnTo>
                    <a:pt x="417" y="2466"/>
                  </a:lnTo>
                  <a:lnTo>
                    <a:pt x="417" y="2479"/>
                  </a:lnTo>
                  <a:lnTo>
                    <a:pt x="412" y="2479"/>
                  </a:lnTo>
                  <a:lnTo>
                    <a:pt x="412" y="2484"/>
                  </a:lnTo>
                  <a:lnTo>
                    <a:pt x="407" y="2484"/>
                  </a:lnTo>
                  <a:lnTo>
                    <a:pt x="407" y="2489"/>
                  </a:lnTo>
                  <a:lnTo>
                    <a:pt x="403" y="2489"/>
                  </a:lnTo>
                  <a:lnTo>
                    <a:pt x="403" y="2501"/>
                  </a:lnTo>
                  <a:lnTo>
                    <a:pt x="398" y="2501"/>
                  </a:lnTo>
                  <a:lnTo>
                    <a:pt x="398" y="2512"/>
                  </a:lnTo>
                  <a:lnTo>
                    <a:pt x="393" y="2512"/>
                  </a:lnTo>
                  <a:lnTo>
                    <a:pt x="393" y="2525"/>
                  </a:lnTo>
                  <a:lnTo>
                    <a:pt x="388" y="2525"/>
                  </a:lnTo>
                  <a:lnTo>
                    <a:pt x="388" y="2537"/>
                  </a:lnTo>
                  <a:lnTo>
                    <a:pt x="384" y="2537"/>
                  </a:lnTo>
                  <a:lnTo>
                    <a:pt x="384" y="2547"/>
                  </a:lnTo>
                  <a:lnTo>
                    <a:pt x="379" y="2547"/>
                  </a:lnTo>
                  <a:lnTo>
                    <a:pt x="379" y="2560"/>
                  </a:lnTo>
                  <a:lnTo>
                    <a:pt x="374" y="2560"/>
                  </a:lnTo>
                  <a:lnTo>
                    <a:pt x="374" y="2572"/>
                  </a:lnTo>
                  <a:lnTo>
                    <a:pt x="370" y="2572"/>
                  </a:lnTo>
                  <a:lnTo>
                    <a:pt x="370" y="2583"/>
                  </a:lnTo>
                  <a:lnTo>
                    <a:pt x="365" y="2583"/>
                  </a:lnTo>
                  <a:lnTo>
                    <a:pt x="365" y="2596"/>
                  </a:lnTo>
                  <a:lnTo>
                    <a:pt x="360" y="2596"/>
                  </a:lnTo>
                  <a:lnTo>
                    <a:pt x="360" y="2620"/>
                  </a:lnTo>
                  <a:lnTo>
                    <a:pt x="355" y="2620"/>
                  </a:lnTo>
                  <a:lnTo>
                    <a:pt x="355" y="2631"/>
                  </a:lnTo>
                  <a:lnTo>
                    <a:pt x="351" y="2631"/>
                  </a:lnTo>
                  <a:lnTo>
                    <a:pt x="351" y="2637"/>
                  </a:lnTo>
                  <a:lnTo>
                    <a:pt x="345" y="2637"/>
                  </a:lnTo>
                  <a:lnTo>
                    <a:pt x="345" y="2648"/>
                  </a:lnTo>
                  <a:lnTo>
                    <a:pt x="340" y="2648"/>
                  </a:lnTo>
                  <a:lnTo>
                    <a:pt x="340" y="2666"/>
                  </a:lnTo>
                  <a:lnTo>
                    <a:pt x="336" y="2666"/>
                  </a:lnTo>
                  <a:lnTo>
                    <a:pt x="336" y="2689"/>
                  </a:lnTo>
                  <a:lnTo>
                    <a:pt x="330" y="2689"/>
                  </a:lnTo>
                  <a:lnTo>
                    <a:pt x="330" y="2697"/>
                  </a:lnTo>
                  <a:lnTo>
                    <a:pt x="326" y="2697"/>
                  </a:lnTo>
                  <a:lnTo>
                    <a:pt x="326" y="2707"/>
                  </a:lnTo>
                  <a:lnTo>
                    <a:pt x="321" y="2707"/>
                  </a:lnTo>
                  <a:lnTo>
                    <a:pt x="321" y="2719"/>
                  </a:lnTo>
                  <a:lnTo>
                    <a:pt x="317" y="2719"/>
                  </a:lnTo>
                  <a:lnTo>
                    <a:pt x="317" y="2732"/>
                  </a:lnTo>
                  <a:lnTo>
                    <a:pt x="311" y="2732"/>
                  </a:lnTo>
                  <a:lnTo>
                    <a:pt x="311" y="2743"/>
                  </a:lnTo>
                  <a:lnTo>
                    <a:pt x="307" y="2743"/>
                  </a:lnTo>
                  <a:lnTo>
                    <a:pt x="307" y="2761"/>
                  </a:lnTo>
                  <a:lnTo>
                    <a:pt x="303" y="2761"/>
                  </a:lnTo>
                  <a:lnTo>
                    <a:pt x="303" y="2767"/>
                  </a:lnTo>
                  <a:lnTo>
                    <a:pt x="297" y="2767"/>
                  </a:lnTo>
                  <a:lnTo>
                    <a:pt x="297" y="2779"/>
                  </a:lnTo>
                  <a:lnTo>
                    <a:pt x="293" y="2779"/>
                  </a:lnTo>
                  <a:lnTo>
                    <a:pt x="293" y="2792"/>
                  </a:lnTo>
                  <a:lnTo>
                    <a:pt x="288" y="2792"/>
                  </a:lnTo>
                  <a:lnTo>
                    <a:pt x="288" y="2808"/>
                  </a:lnTo>
                  <a:lnTo>
                    <a:pt x="283" y="2808"/>
                  </a:lnTo>
                  <a:lnTo>
                    <a:pt x="283" y="2838"/>
                  </a:lnTo>
                  <a:lnTo>
                    <a:pt x="278" y="2838"/>
                  </a:lnTo>
                  <a:lnTo>
                    <a:pt x="278" y="2850"/>
                  </a:lnTo>
                  <a:lnTo>
                    <a:pt x="273" y="2850"/>
                  </a:lnTo>
                  <a:lnTo>
                    <a:pt x="273" y="2868"/>
                  </a:lnTo>
                  <a:lnTo>
                    <a:pt x="268" y="2868"/>
                  </a:lnTo>
                  <a:lnTo>
                    <a:pt x="268" y="2874"/>
                  </a:lnTo>
                  <a:lnTo>
                    <a:pt x="263" y="2874"/>
                  </a:lnTo>
                  <a:lnTo>
                    <a:pt x="263" y="2892"/>
                  </a:lnTo>
                  <a:lnTo>
                    <a:pt x="259" y="2892"/>
                  </a:lnTo>
                  <a:lnTo>
                    <a:pt x="259" y="2903"/>
                  </a:lnTo>
                  <a:lnTo>
                    <a:pt x="254" y="2903"/>
                  </a:lnTo>
                  <a:lnTo>
                    <a:pt x="254" y="2920"/>
                  </a:lnTo>
                  <a:lnTo>
                    <a:pt x="249" y="2920"/>
                  </a:lnTo>
                  <a:lnTo>
                    <a:pt x="249" y="2933"/>
                  </a:lnTo>
                  <a:lnTo>
                    <a:pt x="244" y="2933"/>
                  </a:lnTo>
                  <a:lnTo>
                    <a:pt x="244" y="2944"/>
                  </a:lnTo>
                  <a:lnTo>
                    <a:pt x="240" y="2944"/>
                  </a:lnTo>
                  <a:lnTo>
                    <a:pt x="240" y="2968"/>
                  </a:lnTo>
                  <a:lnTo>
                    <a:pt x="234" y="2968"/>
                  </a:lnTo>
                  <a:lnTo>
                    <a:pt x="234" y="2979"/>
                  </a:lnTo>
                  <a:lnTo>
                    <a:pt x="230" y="2979"/>
                  </a:lnTo>
                  <a:lnTo>
                    <a:pt x="230" y="2998"/>
                  </a:lnTo>
                  <a:lnTo>
                    <a:pt x="225" y="2998"/>
                  </a:lnTo>
                  <a:lnTo>
                    <a:pt x="225" y="3020"/>
                  </a:lnTo>
                  <a:lnTo>
                    <a:pt x="221" y="3020"/>
                  </a:lnTo>
                  <a:lnTo>
                    <a:pt x="221" y="3039"/>
                  </a:lnTo>
                  <a:lnTo>
                    <a:pt x="216" y="3039"/>
                  </a:lnTo>
                  <a:lnTo>
                    <a:pt x="216" y="3056"/>
                  </a:lnTo>
                  <a:lnTo>
                    <a:pt x="211" y="3056"/>
                  </a:lnTo>
                  <a:lnTo>
                    <a:pt x="211" y="3074"/>
                  </a:lnTo>
                  <a:lnTo>
                    <a:pt x="207" y="3074"/>
                  </a:lnTo>
                  <a:lnTo>
                    <a:pt x="207" y="3092"/>
                  </a:lnTo>
                  <a:lnTo>
                    <a:pt x="200" y="3092"/>
                  </a:lnTo>
                  <a:lnTo>
                    <a:pt x="200" y="3104"/>
                  </a:lnTo>
                  <a:lnTo>
                    <a:pt x="196" y="3104"/>
                  </a:lnTo>
                  <a:lnTo>
                    <a:pt x="196" y="3115"/>
                  </a:lnTo>
                  <a:lnTo>
                    <a:pt x="191" y="3115"/>
                  </a:lnTo>
                  <a:lnTo>
                    <a:pt x="191" y="3134"/>
                  </a:lnTo>
                  <a:lnTo>
                    <a:pt x="186" y="3134"/>
                  </a:lnTo>
                  <a:lnTo>
                    <a:pt x="186" y="3151"/>
                  </a:lnTo>
                  <a:lnTo>
                    <a:pt x="181" y="3151"/>
                  </a:lnTo>
                  <a:lnTo>
                    <a:pt x="181" y="3162"/>
                  </a:lnTo>
                  <a:lnTo>
                    <a:pt x="177" y="3162"/>
                  </a:lnTo>
                  <a:lnTo>
                    <a:pt x="177" y="3180"/>
                  </a:lnTo>
                  <a:lnTo>
                    <a:pt x="172" y="3180"/>
                  </a:lnTo>
                  <a:lnTo>
                    <a:pt x="172" y="3192"/>
                  </a:lnTo>
                  <a:lnTo>
                    <a:pt x="167" y="3192"/>
                  </a:lnTo>
                  <a:lnTo>
                    <a:pt x="167" y="3216"/>
                  </a:lnTo>
                  <a:lnTo>
                    <a:pt x="163" y="3216"/>
                  </a:lnTo>
                  <a:lnTo>
                    <a:pt x="163" y="3228"/>
                  </a:lnTo>
                  <a:lnTo>
                    <a:pt x="158" y="3228"/>
                  </a:lnTo>
                  <a:lnTo>
                    <a:pt x="158" y="3246"/>
                  </a:lnTo>
                  <a:lnTo>
                    <a:pt x="153" y="3246"/>
                  </a:lnTo>
                  <a:lnTo>
                    <a:pt x="153" y="3270"/>
                  </a:lnTo>
                  <a:lnTo>
                    <a:pt x="148" y="3270"/>
                  </a:lnTo>
                  <a:lnTo>
                    <a:pt x="148" y="3287"/>
                  </a:lnTo>
                  <a:lnTo>
                    <a:pt x="144" y="3287"/>
                  </a:lnTo>
                  <a:lnTo>
                    <a:pt x="144" y="3298"/>
                  </a:lnTo>
                  <a:lnTo>
                    <a:pt x="139" y="3298"/>
                  </a:lnTo>
                  <a:lnTo>
                    <a:pt x="139" y="3323"/>
                  </a:lnTo>
                  <a:lnTo>
                    <a:pt x="134" y="3323"/>
                  </a:lnTo>
                  <a:lnTo>
                    <a:pt x="134" y="3335"/>
                  </a:lnTo>
                  <a:lnTo>
                    <a:pt x="129" y="3335"/>
                  </a:lnTo>
                  <a:lnTo>
                    <a:pt x="129" y="3347"/>
                  </a:lnTo>
                  <a:lnTo>
                    <a:pt x="124" y="3347"/>
                  </a:lnTo>
                  <a:lnTo>
                    <a:pt x="124" y="3365"/>
                  </a:lnTo>
                  <a:lnTo>
                    <a:pt x="119" y="3365"/>
                  </a:lnTo>
                  <a:lnTo>
                    <a:pt x="119" y="3387"/>
                  </a:lnTo>
                  <a:lnTo>
                    <a:pt x="114" y="3387"/>
                  </a:lnTo>
                  <a:lnTo>
                    <a:pt x="114" y="3399"/>
                  </a:lnTo>
                  <a:lnTo>
                    <a:pt x="110" y="3399"/>
                  </a:lnTo>
                  <a:lnTo>
                    <a:pt x="110" y="3417"/>
                  </a:lnTo>
                  <a:lnTo>
                    <a:pt x="104" y="3417"/>
                  </a:lnTo>
                  <a:lnTo>
                    <a:pt x="104" y="3429"/>
                  </a:lnTo>
                  <a:lnTo>
                    <a:pt x="100" y="3429"/>
                  </a:lnTo>
                  <a:lnTo>
                    <a:pt x="100" y="3447"/>
                  </a:lnTo>
                  <a:lnTo>
                    <a:pt x="96" y="3447"/>
                  </a:lnTo>
                  <a:lnTo>
                    <a:pt x="96" y="3476"/>
                  </a:lnTo>
                  <a:lnTo>
                    <a:pt x="90" y="3476"/>
                  </a:lnTo>
                  <a:lnTo>
                    <a:pt x="90" y="3493"/>
                  </a:lnTo>
                  <a:lnTo>
                    <a:pt x="86" y="3493"/>
                  </a:lnTo>
                  <a:lnTo>
                    <a:pt x="86" y="3512"/>
                  </a:lnTo>
                  <a:lnTo>
                    <a:pt x="81" y="3512"/>
                  </a:lnTo>
                  <a:lnTo>
                    <a:pt x="81" y="3529"/>
                  </a:lnTo>
                  <a:lnTo>
                    <a:pt x="77" y="3529"/>
                  </a:lnTo>
                  <a:lnTo>
                    <a:pt x="77" y="3553"/>
                  </a:lnTo>
                  <a:lnTo>
                    <a:pt x="72" y="3553"/>
                  </a:lnTo>
                  <a:lnTo>
                    <a:pt x="72" y="3594"/>
                  </a:lnTo>
                  <a:lnTo>
                    <a:pt x="67" y="3594"/>
                  </a:lnTo>
                  <a:lnTo>
                    <a:pt x="67" y="3635"/>
                  </a:lnTo>
                  <a:lnTo>
                    <a:pt x="72" y="3635"/>
                  </a:lnTo>
                  <a:lnTo>
                    <a:pt x="72" y="3642"/>
                  </a:lnTo>
                  <a:lnTo>
                    <a:pt x="77" y="3642"/>
                  </a:lnTo>
                  <a:lnTo>
                    <a:pt x="77" y="3648"/>
                  </a:lnTo>
                  <a:lnTo>
                    <a:pt x="86" y="3648"/>
                  </a:lnTo>
                  <a:lnTo>
                    <a:pt x="86" y="3653"/>
                  </a:lnTo>
                  <a:lnTo>
                    <a:pt x="100" y="3653"/>
                  </a:lnTo>
                  <a:lnTo>
                    <a:pt x="100" y="3660"/>
                  </a:lnTo>
                  <a:lnTo>
                    <a:pt x="119" y="3660"/>
                  </a:lnTo>
                  <a:lnTo>
                    <a:pt x="119" y="3665"/>
                  </a:lnTo>
                  <a:lnTo>
                    <a:pt x="207" y="3665"/>
                  </a:lnTo>
                  <a:lnTo>
                    <a:pt x="207" y="3660"/>
                  </a:lnTo>
                  <a:lnTo>
                    <a:pt x="293" y="3660"/>
                  </a:lnTo>
                  <a:lnTo>
                    <a:pt x="293" y="3653"/>
                  </a:lnTo>
                  <a:lnTo>
                    <a:pt x="355" y="3653"/>
                  </a:lnTo>
                  <a:lnTo>
                    <a:pt x="355" y="3648"/>
                  </a:lnTo>
                  <a:lnTo>
                    <a:pt x="393" y="3648"/>
                  </a:lnTo>
                  <a:lnTo>
                    <a:pt x="393" y="3642"/>
                  </a:lnTo>
                  <a:lnTo>
                    <a:pt x="427" y="3642"/>
                  </a:lnTo>
                  <a:lnTo>
                    <a:pt x="427" y="3635"/>
                  </a:lnTo>
                  <a:lnTo>
                    <a:pt x="451" y="3635"/>
                  </a:lnTo>
                  <a:lnTo>
                    <a:pt x="451" y="3630"/>
                  </a:lnTo>
                  <a:lnTo>
                    <a:pt x="461" y="3630"/>
                  </a:lnTo>
                  <a:lnTo>
                    <a:pt x="461" y="3624"/>
                  </a:lnTo>
                  <a:lnTo>
                    <a:pt x="479" y="3624"/>
                  </a:lnTo>
                  <a:lnTo>
                    <a:pt x="479" y="3619"/>
                  </a:lnTo>
                  <a:lnTo>
                    <a:pt x="488" y="3619"/>
                  </a:lnTo>
                  <a:lnTo>
                    <a:pt x="488" y="3612"/>
                  </a:lnTo>
                  <a:lnTo>
                    <a:pt x="523" y="3612"/>
                  </a:lnTo>
                  <a:lnTo>
                    <a:pt x="523" y="3619"/>
                  </a:lnTo>
                  <a:lnTo>
                    <a:pt x="528" y="3619"/>
                  </a:lnTo>
                  <a:lnTo>
                    <a:pt x="528" y="3624"/>
                  </a:lnTo>
                  <a:lnTo>
                    <a:pt x="532" y="3624"/>
                  </a:lnTo>
                  <a:lnTo>
                    <a:pt x="532" y="3630"/>
                  </a:lnTo>
                  <a:lnTo>
                    <a:pt x="547" y="3630"/>
                  </a:lnTo>
                  <a:lnTo>
                    <a:pt x="547" y="3660"/>
                  </a:lnTo>
                  <a:lnTo>
                    <a:pt x="542" y="3660"/>
                  </a:lnTo>
                  <a:lnTo>
                    <a:pt x="542" y="3671"/>
                  </a:lnTo>
                  <a:lnTo>
                    <a:pt x="537" y="3671"/>
                  </a:lnTo>
                  <a:lnTo>
                    <a:pt x="537" y="3678"/>
                  </a:lnTo>
                  <a:lnTo>
                    <a:pt x="532" y="3678"/>
                  </a:lnTo>
                  <a:lnTo>
                    <a:pt x="532" y="3684"/>
                  </a:lnTo>
                  <a:lnTo>
                    <a:pt x="504" y="3684"/>
                  </a:lnTo>
                  <a:lnTo>
                    <a:pt x="504" y="3689"/>
                  </a:lnTo>
                  <a:lnTo>
                    <a:pt x="474" y="3689"/>
                  </a:lnTo>
                  <a:lnTo>
                    <a:pt x="474" y="3695"/>
                  </a:lnTo>
                  <a:lnTo>
                    <a:pt x="441" y="3695"/>
                  </a:lnTo>
                  <a:lnTo>
                    <a:pt x="441" y="3701"/>
                  </a:lnTo>
                  <a:lnTo>
                    <a:pt x="370" y="3701"/>
                  </a:lnTo>
                  <a:lnTo>
                    <a:pt x="370" y="3706"/>
                  </a:lnTo>
                  <a:lnTo>
                    <a:pt x="321" y="3706"/>
                  </a:lnTo>
                  <a:lnTo>
                    <a:pt x="321" y="3713"/>
                  </a:lnTo>
                  <a:lnTo>
                    <a:pt x="259" y="3713"/>
                  </a:lnTo>
                  <a:lnTo>
                    <a:pt x="259" y="3719"/>
                  </a:lnTo>
                  <a:lnTo>
                    <a:pt x="196" y="3719"/>
                  </a:lnTo>
                  <a:lnTo>
                    <a:pt x="196" y="3725"/>
                  </a:lnTo>
                  <a:lnTo>
                    <a:pt x="129" y="3725"/>
                  </a:lnTo>
                  <a:lnTo>
                    <a:pt x="129" y="3719"/>
                  </a:lnTo>
                  <a:lnTo>
                    <a:pt x="100" y="3719"/>
                  </a:lnTo>
                  <a:lnTo>
                    <a:pt x="100" y="3713"/>
                  </a:lnTo>
                  <a:lnTo>
                    <a:pt x="86" y="3713"/>
                  </a:lnTo>
                  <a:lnTo>
                    <a:pt x="86" y="3706"/>
                  </a:lnTo>
                  <a:lnTo>
                    <a:pt x="63" y="3706"/>
                  </a:lnTo>
                  <a:lnTo>
                    <a:pt x="63" y="3701"/>
                  </a:lnTo>
                  <a:lnTo>
                    <a:pt x="52" y="3701"/>
                  </a:lnTo>
                  <a:lnTo>
                    <a:pt x="52" y="3695"/>
                  </a:lnTo>
                  <a:lnTo>
                    <a:pt x="42" y="3695"/>
                  </a:lnTo>
                  <a:lnTo>
                    <a:pt x="42" y="3689"/>
                  </a:lnTo>
                  <a:lnTo>
                    <a:pt x="28" y="3689"/>
                  </a:lnTo>
                  <a:lnTo>
                    <a:pt x="28" y="3684"/>
                  </a:lnTo>
                  <a:lnTo>
                    <a:pt x="23" y="3684"/>
                  </a:lnTo>
                  <a:lnTo>
                    <a:pt x="23" y="3678"/>
                  </a:lnTo>
                  <a:lnTo>
                    <a:pt x="14" y="3678"/>
                  </a:lnTo>
                  <a:lnTo>
                    <a:pt x="14" y="3671"/>
                  </a:lnTo>
                  <a:lnTo>
                    <a:pt x="9" y="3671"/>
                  </a:lnTo>
                  <a:lnTo>
                    <a:pt x="9" y="3665"/>
                  </a:lnTo>
                  <a:lnTo>
                    <a:pt x="5" y="3665"/>
                  </a:lnTo>
                  <a:lnTo>
                    <a:pt x="5" y="3660"/>
                  </a:lnTo>
                  <a:lnTo>
                    <a:pt x="0" y="3660"/>
                  </a:lnTo>
                  <a:lnTo>
                    <a:pt x="0" y="363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20600" y="1660680"/>
              <a:ext cx="340920" cy="233280"/>
            </a:xfrm>
            <a:custGeom>
              <a:avLst/>
              <a:gdLst/>
              <a:ahLst/>
              <a:rect l="l" t="t" r="r" b="b"/>
              <a:pathLst>
                <a:path w="1311" h="1194">
                  <a:moveTo>
                    <a:pt x="0" y="1142"/>
                  </a:moveTo>
                  <a:lnTo>
                    <a:pt x="4" y="1142"/>
                  </a:lnTo>
                  <a:lnTo>
                    <a:pt x="4" y="1131"/>
                  </a:lnTo>
                  <a:lnTo>
                    <a:pt x="9" y="1131"/>
                  </a:lnTo>
                  <a:lnTo>
                    <a:pt x="9" y="1106"/>
                  </a:lnTo>
                  <a:lnTo>
                    <a:pt x="15" y="1106"/>
                  </a:lnTo>
                  <a:lnTo>
                    <a:pt x="15" y="1088"/>
                  </a:lnTo>
                  <a:lnTo>
                    <a:pt x="9" y="1088"/>
                  </a:lnTo>
                  <a:lnTo>
                    <a:pt x="9" y="1077"/>
                  </a:lnTo>
                  <a:lnTo>
                    <a:pt x="15" y="1077"/>
                  </a:lnTo>
                  <a:lnTo>
                    <a:pt x="15" y="1058"/>
                  </a:lnTo>
                  <a:lnTo>
                    <a:pt x="20" y="1058"/>
                  </a:lnTo>
                  <a:lnTo>
                    <a:pt x="20" y="1023"/>
                  </a:lnTo>
                  <a:lnTo>
                    <a:pt x="24" y="1023"/>
                  </a:lnTo>
                  <a:lnTo>
                    <a:pt x="24" y="1005"/>
                  </a:lnTo>
                  <a:lnTo>
                    <a:pt x="29" y="1005"/>
                  </a:lnTo>
                  <a:lnTo>
                    <a:pt x="29" y="977"/>
                  </a:lnTo>
                  <a:lnTo>
                    <a:pt x="34" y="977"/>
                  </a:lnTo>
                  <a:lnTo>
                    <a:pt x="34" y="946"/>
                  </a:lnTo>
                  <a:lnTo>
                    <a:pt x="38" y="946"/>
                  </a:lnTo>
                  <a:lnTo>
                    <a:pt x="38" y="941"/>
                  </a:lnTo>
                  <a:lnTo>
                    <a:pt x="43" y="941"/>
                  </a:lnTo>
                  <a:lnTo>
                    <a:pt x="43" y="923"/>
                  </a:lnTo>
                  <a:lnTo>
                    <a:pt x="48" y="923"/>
                  </a:lnTo>
                  <a:lnTo>
                    <a:pt x="48" y="917"/>
                  </a:lnTo>
                  <a:lnTo>
                    <a:pt x="53" y="917"/>
                  </a:lnTo>
                  <a:lnTo>
                    <a:pt x="53" y="905"/>
                  </a:lnTo>
                  <a:lnTo>
                    <a:pt x="57" y="905"/>
                  </a:lnTo>
                  <a:lnTo>
                    <a:pt x="57" y="900"/>
                  </a:lnTo>
                  <a:lnTo>
                    <a:pt x="63" y="900"/>
                  </a:lnTo>
                  <a:lnTo>
                    <a:pt x="63" y="887"/>
                  </a:lnTo>
                  <a:lnTo>
                    <a:pt x="67" y="887"/>
                  </a:lnTo>
                  <a:lnTo>
                    <a:pt x="67" y="851"/>
                  </a:lnTo>
                  <a:lnTo>
                    <a:pt x="71" y="851"/>
                  </a:lnTo>
                  <a:lnTo>
                    <a:pt x="71" y="840"/>
                  </a:lnTo>
                  <a:lnTo>
                    <a:pt x="77" y="840"/>
                  </a:lnTo>
                  <a:lnTo>
                    <a:pt x="77" y="835"/>
                  </a:lnTo>
                  <a:lnTo>
                    <a:pt x="81" y="835"/>
                  </a:lnTo>
                  <a:lnTo>
                    <a:pt x="81" y="817"/>
                  </a:lnTo>
                  <a:lnTo>
                    <a:pt x="87" y="817"/>
                  </a:lnTo>
                  <a:lnTo>
                    <a:pt x="87" y="792"/>
                  </a:lnTo>
                  <a:lnTo>
                    <a:pt x="91" y="792"/>
                  </a:lnTo>
                  <a:lnTo>
                    <a:pt x="91" y="775"/>
                  </a:lnTo>
                  <a:lnTo>
                    <a:pt x="97" y="775"/>
                  </a:lnTo>
                  <a:lnTo>
                    <a:pt x="97" y="758"/>
                  </a:lnTo>
                  <a:lnTo>
                    <a:pt x="101" y="758"/>
                  </a:lnTo>
                  <a:lnTo>
                    <a:pt x="101" y="733"/>
                  </a:lnTo>
                  <a:lnTo>
                    <a:pt x="105" y="733"/>
                  </a:lnTo>
                  <a:lnTo>
                    <a:pt x="105" y="723"/>
                  </a:lnTo>
                  <a:lnTo>
                    <a:pt x="111" y="723"/>
                  </a:lnTo>
                  <a:lnTo>
                    <a:pt x="111" y="710"/>
                  </a:lnTo>
                  <a:lnTo>
                    <a:pt x="115" y="710"/>
                  </a:lnTo>
                  <a:lnTo>
                    <a:pt x="115" y="680"/>
                  </a:lnTo>
                  <a:lnTo>
                    <a:pt x="120" y="680"/>
                  </a:lnTo>
                  <a:lnTo>
                    <a:pt x="120" y="674"/>
                  </a:lnTo>
                  <a:lnTo>
                    <a:pt x="125" y="674"/>
                  </a:lnTo>
                  <a:lnTo>
                    <a:pt x="125" y="663"/>
                  </a:lnTo>
                  <a:lnTo>
                    <a:pt x="130" y="663"/>
                  </a:lnTo>
                  <a:lnTo>
                    <a:pt x="130" y="639"/>
                  </a:lnTo>
                  <a:lnTo>
                    <a:pt x="134" y="639"/>
                  </a:lnTo>
                  <a:lnTo>
                    <a:pt x="134" y="626"/>
                  </a:lnTo>
                  <a:lnTo>
                    <a:pt x="139" y="626"/>
                  </a:lnTo>
                  <a:lnTo>
                    <a:pt x="139" y="621"/>
                  </a:lnTo>
                  <a:lnTo>
                    <a:pt x="144" y="621"/>
                  </a:lnTo>
                  <a:lnTo>
                    <a:pt x="144" y="609"/>
                  </a:lnTo>
                  <a:lnTo>
                    <a:pt x="148" y="609"/>
                  </a:lnTo>
                  <a:lnTo>
                    <a:pt x="148" y="598"/>
                  </a:lnTo>
                  <a:lnTo>
                    <a:pt x="153" y="598"/>
                  </a:lnTo>
                  <a:lnTo>
                    <a:pt x="153" y="585"/>
                  </a:lnTo>
                  <a:lnTo>
                    <a:pt x="159" y="585"/>
                  </a:lnTo>
                  <a:lnTo>
                    <a:pt x="159" y="568"/>
                  </a:lnTo>
                  <a:lnTo>
                    <a:pt x="163" y="568"/>
                  </a:lnTo>
                  <a:lnTo>
                    <a:pt x="163" y="557"/>
                  </a:lnTo>
                  <a:lnTo>
                    <a:pt x="168" y="557"/>
                  </a:lnTo>
                  <a:lnTo>
                    <a:pt x="168" y="539"/>
                  </a:lnTo>
                  <a:lnTo>
                    <a:pt x="173" y="539"/>
                  </a:lnTo>
                  <a:lnTo>
                    <a:pt x="173" y="533"/>
                  </a:lnTo>
                  <a:lnTo>
                    <a:pt x="178" y="533"/>
                  </a:lnTo>
                  <a:lnTo>
                    <a:pt x="178" y="522"/>
                  </a:lnTo>
                  <a:lnTo>
                    <a:pt x="182" y="522"/>
                  </a:lnTo>
                  <a:lnTo>
                    <a:pt x="182" y="514"/>
                  </a:lnTo>
                  <a:lnTo>
                    <a:pt x="187" y="514"/>
                  </a:lnTo>
                  <a:lnTo>
                    <a:pt x="187" y="497"/>
                  </a:lnTo>
                  <a:lnTo>
                    <a:pt x="192" y="497"/>
                  </a:lnTo>
                  <a:lnTo>
                    <a:pt x="192" y="492"/>
                  </a:lnTo>
                  <a:lnTo>
                    <a:pt x="201" y="492"/>
                  </a:lnTo>
                  <a:lnTo>
                    <a:pt x="201" y="479"/>
                  </a:lnTo>
                  <a:lnTo>
                    <a:pt x="206" y="479"/>
                  </a:lnTo>
                  <a:lnTo>
                    <a:pt x="206" y="468"/>
                  </a:lnTo>
                  <a:lnTo>
                    <a:pt x="211" y="468"/>
                  </a:lnTo>
                  <a:lnTo>
                    <a:pt x="211" y="456"/>
                  </a:lnTo>
                  <a:lnTo>
                    <a:pt x="215" y="456"/>
                  </a:lnTo>
                  <a:lnTo>
                    <a:pt x="215" y="438"/>
                  </a:lnTo>
                  <a:lnTo>
                    <a:pt x="221" y="438"/>
                  </a:lnTo>
                  <a:lnTo>
                    <a:pt x="221" y="421"/>
                  </a:lnTo>
                  <a:lnTo>
                    <a:pt x="225" y="421"/>
                  </a:lnTo>
                  <a:lnTo>
                    <a:pt x="225" y="408"/>
                  </a:lnTo>
                  <a:lnTo>
                    <a:pt x="230" y="408"/>
                  </a:lnTo>
                  <a:lnTo>
                    <a:pt x="230" y="403"/>
                  </a:lnTo>
                  <a:lnTo>
                    <a:pt x="235" y="403"/>
                  </a:lnTo>
                  <a:lnTo>
                    <a:pt x="235" y="391"/>
                  </a:lnTo>
                  <a:lnTo>
                    <a:pt x="240" y="391"/>
                  </a:lnTo>
                  <a:lnTo>
                    <a:pt x="240" y="378"/>
                  </a:lnTo>
                  <a:lnTo>
                    <a:pt x="245" y="378"/>
                  </a:lnTo>
                  <a:lnTo>
                    <a:pt x="245" y="362"/>
                  </a:lnTo>
                  <a:lnTo>
                    <a:pt x="249" y="362"/>
                  </a:lnTo>
                  <a:lnTo>
                    <a:pt x="249" y="356"/>
                  </a:lnTo>
                  <a:lnTo>
                    <a:pt x="255" y="356"/>
                  </a:lnTo>
                  <a:lnTo>
                    <a:pt x="255" y="349"/>
                  </a:lnTo>
                  <a:lnTo>
                    <a:pt x="259" y="349"/>
                  </a:lnTo>
                  <a:lnTo>
                    <a:pt x="259" y="337"/>
                  </a:lnTo>
                  <a:lnTo>
                    <a:pt x="264" y="337"/>
                  </a:lnTo>
                  <a:lnTo>
                    <a:pt x="264" y="332"/>
                  </a:lnTo>
                  <a:lnTo>
                    <a:pt x="269" y="332"/>
                  </a:lnTo>
                  <a:lnTo>
                    <a:pt x="269" y="320"/>
                  </a:lnTo>
                  <a:lnTo>
                    <a:pt x="274" y="320"/>
                  </a:lnTo>
                  <a:lnTo>
                    <a:pt x="274" y="308"/>
                  </a:lnTo>
                  <a:lnTo>
                    <a:pt x="278" y="308"/>
                  </a:lnTo>
                  <a:lnTo>
                    <a:pt x="278" y="296"/>
                  </a:lnTo>
                  <a:lnTo>
                    <a:pt x="283" y="296"/>
                  </a:lnTo>
                  <a:lnTo>
                    <a:pt x="283" y="285"/>
                  </a:lnTo>
                  <a:lnTo>
                    <a:pt x="288" y="285"/>
                  </a:lnTo>
                  <a:lnTo>
                    <a:pt x="288" y="278"/>
                  </a:lnTo>
                  <a:lnTo>
                    <a:pt x="292" y="278"/>
                  </a:lnTo>
                  <a:lnTo>
                    <a:pt x="292" y="267"/>
                  </a:lnTo>
                  <a:lnTo>
                    <a:pt x="297" y="267"/>
                  </a:lnTo>
                  <a:lnTo>
                    <a:pt x="297" y="255"/>
                  </a:lnTo>
                  <a:lnTo>
                    <a:pt x="302" y="255"/>
                  </a:lnTo>
                  <a:lnTo>
                    <a:pt x="302" y="243"/>
                  </a:lnTo>
                  <a:lnTo>
                    <a:pt x="308" y="243"/>
                  </a:lnTo>
                  <a:lnTo>
                    <a:pt x="308" y="237"/>
                  </a:lnTo>
                  <a:lnTo>
                    <a:pt x="312" y="237"/>
                  </a:lnTo>
                  <a:lnTo>
                    <a:pt x="312" y="226"/>
                  </a:lnTo>
                  <a:lnTo>
                    <a:pt x="317" y="226"/>
                  </a:lnTo>
                  <a:lnTo>
                    <a:pt x="317" y="213"/>
                  </a:lnTo>
                  <a:lnTo>
                    <a:pt x="322" y="213"/>
                  </a:lnTo>
                  <a:lnTo>
                    <a:pt x="322" y="207"/>
                  </a:lnTo>
                  <a:lnTo>
                    <a:pt x="326" y="207"/>
                  </a:lnTo>
                  <a:lnTo>
                    <a:pt x="326" y="196"/>
                  </a:lnTo>
                  <a:lnTo>
                    <a:pt x="331" y="196"/>
                  </a:lnTo>
                  <a:lnTo>
                    <a:pt x="331" y="185"/>
                  </a:lnTo>
                  <a:lnTo>
                    <a:pt x="336" y="185"/>
                  </a:lnTo>
                  <a:lnTo>
                    <a:pt x="336" y="172"/>
                  </a:lnTo>
                  <a:lnTo>
                    <a:pt x="341" y="172"/>
                  </a:lnTo>
                  <a:lnTo>
                    <a:pt x="341" y="166"/>
                  </a:lnTo>
                  <a:lnTo>
                    <a:pt x="345" y="166"/>
                  </a:lnTo>
                  <a:lnTo>
                    <a:pt x="345" y="155"/>
                  </a:lnTo>
                  <a:lnTo>
                    <a:pt x="351" y="155"/>
                  </a:lnTo>
                  <a:lnTo>
                    <a:pt x="351" y="149"/>
                  </a:lnTo>
                  <a:lnTo>
                    <a:pt x="355" y="149"/>
                  </a:lnTo>
                  <a:lnTo>
                    <a:pt x="355" y="137"/>
                  </a:lnTo>
                  <a:lnTo>
                    <a:pt x="360" y="137"/>
                  </a:lnTo>
                  <a:lnTo>
                    <a:pt x="360" y="131"/>
                  </a:lnTo>
                  <a:lnTo>
                    <a:pt x="365" y="131"/>
                  </a:lnTo>
                  <a:lnTo>
                    <a:pt x="365" y="119"/>
                  </a:lnTo>
                  <a:lnTo>
                    <a:pt x="369" y="119"/>
                  </a:lnTo>
                  <a:lnTo>
                    <a:pt x="369" y="114"/>
                  </a:lnTo>
                  <a:lnTo>
                    <a:pt x="374" y="114"/>
                  </a:lnTo>
                  <a:lnTo>
                    <a:pt x="374" y="107"/>
                  </a:lnTo>
                  <a:lnTo>
                    <a:pt x="379" y="107"/>
                  </a:lnTo>
                  <a:lnTo>
                    <a:pt x="379" y="90"/>
                  </a:lnTo>
                  <a:lnTo>
                    <a:pt x="385" y="90"/>
                  </a:lnTo>
                  <a:lnTo>
                    <a:pt x="385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94" y="72"/>
                  </a:lnTo>
                  <a:lnTo>
                    <a:pt x="394" y="66"/>
                  </a:lnTo>
                  <a:lnTo>
                    <a:pt x="399" y="66"/>
                  </a:lnTo>
                  <a:lnTo>
                    <a:pt x="399" y="54"/>
                  </a:lnTo>
                  <a:lnTo>
                    <a:pt x="403" y="54"/>
                  </a:lnTo>
                  <a:lnTo>
                    <a:pt x="403" y="49"/>
                  </a:lnTo>
                  <a:lnTo>
                    <a:pt x="408" y="49"/>
                  </a:lnTo>
                  <a:lnTo>
                    <a:pt x="408" y="36"/>
                  </a:lnTo>
                  <a:lnTo>
                    <a:pt x="413" y="36"/>
                  </a:lnTo>
                  <a:lnTo>
                    <a:pt x="413" y="19"/>
                  </a:lnTo>
                  <a:lnTo>
                    <a:pt x="418" y="19"/>
                  </a:lnTo>
                  <a:lnTo>
                    <a:pt x="418" y="8"/>
                  </a:lnTo>
                  <a:lnTo>
                    <a:pt x="422" y="8"/>
                  </a:lnTo>
                  <a:lnTo>
                    <a:pt x="422" y="0"/>
                  </a:lnTo>
                  <a:lnTo>
                    <a:pt x="456" y="0"/>
                  </a:lnTo>
                  <a:lnTo>
                    <a:pt x="456" y="8"/>
                  </a:lnTo>
                  <a:lnTo>
                    <a:pt x="462" y="8"/>
                  </a:lnTo>
                  <a:lnTo>
                    <a:pt x="462" y="49"/>
                  </a:lnTo>
                  <a:lnTo>
                    <a:pt x="456" y="49"/>
                  </a:lnTo>
                  <a:lnTo>
                    <a:pt x="456" y="60"/>
                  </a:lnTo>
                  <a:lnTo>
                    <a:pt x="452" y="60"/>
                  </a:lnTo>
                  <a:lnTo>
                    <a:pt x="452" y="66"/>
                  </a:lnTo>
                  <a:lnTo>
                    <a:pt x="446" y="66"/>
                  </a:lnTo>
                  <a:lnTo>
                    <a:pt x="446" y="84"/>
                  </a:lnTo>
                  <a:lnTo>
                    <a:pt x="441" y="84"/>
                  </a:lnTo>
                  <a:lnTo>
                    <a:pt x="441" y="95"/>
                  </a:lnTo>
                  <a:lnTo>
                    <a:pt x="437" y="95"/>
                  </a:lnTo>
                  <a:lnTo>
                    <a:pt x="437" y="101"/>
                  </a:lnTo>
                  <a:lnTo>
                    <a:pt x="432" y="101"/>
                  </a:lnTo>
                  <a:lnTo>
                    <a:pt x="432" y="114"/>
                  </a:lnTo>
                  <a:lnTo>
                    <a:pt x="427" y="114"/>
                  </a:lnTo>
                  <a:lnTo>
                    <a:pt x="427" y="125"/>
                  </a:lnTo>
                  <a:lnTo>
                    <a:pt x="422" y="125"/>
                  </a:lnTo>
                  <a:lnTo>
                    <a:pt x="422" y="137"/>
                  </a:lnTo>
                  <a:lnTo>
                    <a:pt x="418" y="137"/>
                  </a:lnTo>
                  <a:lnTo>
                    <a:pt x="418" y="149"/>
                  </a:lnTo>
                  <a:lnTo>
                    <a:pt x="413" y="149"/>
                  </a:lnTo>
                  <a:lnTo>
                    <a:pt x="413" y="155"/>
                  </a:lnTo>
                  <a:lnTo>
                    <a:pt x="408" y="155"/>
                  </a:lnTo>
                  <a:lnTo>
                    <a:pt x="408" y="166"/>
                  </a:lnTo>
                  <a:lnTo>
                    <a:pt x="403" y="166"/>
                  </a:lnTo>
                  <a:lnTo>
                    <a:pt x="403" y="172"/>
                  </a:lnTo>
                  <a:lnTo>
                    <a:pt x="399" y="172"/>
                  </a:lnTo>
                  <a:lnTo>
                    <a:pt x="399" y="185"/>
                  </a:lnTo>
                  <a:lnTo>
                    <a:pt x="394" y="185"/>
                  </a:lnTo>
                  <a:lnTo>
                    <a:pt x="394" y="190"/>
                  </a:lnTo>
                  <a:lnTo>
                    <a:pt x="389" y="190"/>
                  </a:lnTo>
                  <a:lnTo>
                    <a:pt x="389" y="196"/>
                  </a:lnTo>
                  <a:lnTo>
                    <a:pt x="385" y="196"/>
                  </a:lnTo>
                  <a:lnTo>
                    <a:pt x="385" y="207"/>
                  </a:lnTo>
                  <a:lnTo>
                    <a:pt x="379" y="207"/>
                  </a:lnTo>
                  <a:lnTo>
                    <a:pt x="379" y="218"/>
                  </a:lnTo>
                  <a:lnTo>
                    <a:pt x="374" y="218"/>
                  </a:lnTo>
                  <a:lnTo>
                    <a:pt x="374" y="226"/>
                  </a:lnTo>
                  <a:lnTo>
                    <a:pt x="369" y="226"/>
                  </a:lnTo>
                  <a:lnTo>
                    <a:pt x="369" y="231"/>
                  </a:lnTo>
                  <a:lnTo>
                    <a:pt x="365" y="231"/>
                  </a:lnTo>
                  <a:lnTo>
                    <a:pt x="365" y="237"/>
                  </a:lnTo>
                  <a:lnTo>
                    <a:pt x="360" y="237"/>
                  </a:lnTo>
                  <a:lnTo>
                    <a:pt x="360" y="243"/>
                  </a:lnTo>
                  <a:lnTo>
                    <a:pt x="355" y="243"/>
                  </a:lnTo>
                  <a:lnTo>
                    <a:pt x="355" y="250"/>
                  </a:lnTo>
                  <a:lnTo>
                    <a:pt x="351" y="250"/>
                  </a:lnTo>
                  <a:lnTo>
                    <a:pt x="351" y="261"/>
                  </a:lnTo>
                  <a:lnTo>
                    <a:pt x="345" y="261"/>
                  </a:lnTo>
                  <a:lnTo>
                    <a:pt x="345" y="272"/>
                  </a:lnTo>
                  <a:lnTo>
                    <a:pt x="341" y="272"/>
                  </a:lnTo>
                  <a:lnTo>
                    <a:pt x="341" y="285"/>
                  </a:lnTo>
                  <a:lnTo>
                    <a:pt x="336" y="285"/>
                  </a:lnTo>
                  <a:lnTo>
                    <a:pt x="336" y="296"/>
                  </a:lnTo>
                  <a:lnTo>
                    <a:pt x="331" y="296"/>
                  </a:lnTo>
                  <a:lnTo>
                    <a:pt x="331" y="302"/>
                  </a:lnTo>
                  <a:lnTo>
                    <a:pt x="326" y="302"/>
                  </a:lnTo>
                  <a:lnTo>
                    <a:pt x="326" y="313"/>
                  </a:lnTo>
                  <a:lnTo>
                    <a:pt x="322" y="313"/>
                  </a:lnTo>
                  <a:lnTo>
                    <a:pt x="322" y="326"/>
                  </a:lnTo>
                  <a:lnTo>
                    <a:pt x="317" y="326"/>
                  </a:lnTo>
                  <a:lnTo>
                    <a:pt x="317" y="332"/>
                  </a:lnTo>
                  <a:lnTo>
                    <a:pt x="312" y="332"/>
                  </a:lnTo>
                  <a:lnTo>
                    <a:pt x="312" y="349"/>
                  </a:lnTo>
                  <a:lnTo>
                    <a:pt x="308" y="349"/>
                  </a:lnTo>
                  <a:lnTo>
                    <a:pt x="308" y="362"/>
                  </a:lnTo>
                  <a:lnTo>
                    <a:pt x="302" y="362"/>
                  </a:lnTo>
                  <a:lnTo>
                    <a:pt x="302" y="367"/>
                  </a:lnTo>
                  <a:lnTo>
                    <a:pt x="297" y="367"/>
                  </a:lnTo>
                  <a:lnTo>
                    <a:pt x="297" y="378"/>
                  </a:lnTo>
                  <a:lnTo>
                    <a:pt x="292" y="378"/>
                  </a:lnTo>
                  <a:lnTo>
                    <a:pt x="292" y="391"/>
                  </a:lnTo>
                  <a:lnTo>
                    <a:pt x="288" y="391"/>
                  </a:lnTo>
                  <a:lnTo>
                    <a:pt x="288" y="403"/>
                  </a:lnTo>
                  <a:lnTo>
                    <a:pt x="283" y="403"/>
                  </a:lnTo>
                  <a:lnTo>
                    <a:pt x="283" y="421"/>
                  </a:lnTo>
                  <a:lnTo>
                    <a:pt x="278" y="421"/>
                  </a:lnTo>
                  <a:lnTo>
                    <a:pt x="278" y="432"/>
                  </a:lnTo>
                  <a:lnTo>
                    <a:pt x="274" y="432"/>
                  </a:lnTo>
                  <a:lnTo>
                    <a:pt x="274" y="444"/>
                  </a:lnTo>
                  <a:lnTo>
                    <a:pt x="269" y="444"/>
                  </a:lnTo>
                  <a:lnTo>
                    <a:pt x="269" y="456"/>
                  </a:lnTo>
                  <a:lnTo>
                    <a:pt x="264" y="456"/>
                  </a:lnTo>
                  <a:lnTo>
                    <a:pt x="264" y="468"/>
                  </a:lnTo>
                  <a:lnTo>
                    <a:pt x="259" y="468"/>
                  </a:lnTo>
                  <a:lnTo>
                    <a:pt x="259" y="473"/>
                  </a:lnTo>
                  <a:lnTo>
                    <a:pt x="255" y="473"/>
                  </a:lnTo>
                  <a:lnTo>
                    <a:pt x="255" y="479"/>
                  </a:lnTo>
                  <a:lnTo>
                    <a:pt x="249" y="479"/>
                  </a:lnTo>
                  <a:lnTo>
                    <a:pt x="249" y="492"/>
                  </a:lnTo>
                  <a:lnTo>
                    <a:pt x="245" y="492"/>
                  </a:lnTo>
                  <a:lnTo>
                    <a:pt x="245" y="504"/>
                  </a:lnTo>
                  <a:lnTo>
                    <a:pt x="240" y="504"/>
                  </a:lnTo>
                  <a:lnTo>
                    <a:pt x="240" y="514"/>
                  </a:lnTo>
                  <a:lnTo>
                    <a:pt x="235" y="514"/>
                  </a:lnTo>
                  <a:lnTo>
                    <a:pt x="235" y="527"/>
                  </a:lnTo>
                  <a:lnTo>
                    <a:pt x="230" y="527"/>
                  </a:lnTo>
                  <a:lnTo>
                    <a:pt x="230" y="545"/>
                  </a:lnTo>
                  <a:lnTo>
                    <a:pt x="225" y="545"/>
                  </a:lnTo>
                  <a:lnTo>
                    <a:pt x="225" y="557"/>
                  </a:lnTo>
                  <a:lnTo>
                    <a:pt x="221" y="557"/>
                  </a:lnTo>
                  <a:lnTo>
                    <a:pt x="221" y="568"/>
                  </a:lnTo>
                  <a:lnTo>
                    <a:pt x="215" y="568"/>
                  </a:lnTo>
                  <a:lnTo>
                    <a:pt x="215" y="580"/>
                  </a:lnTo>
                  <a:lnTo>
                    <a:pt x="211" y="580"/>
                  </a:lnTo>
                  <a:lnTo>
                    <a:pt x="211" y="592"/>
                  </a:lnTo>
                  <a:lnTo>
                    <a:pt x="206" y="592"/>
                  </a:lnTo>
                  <a:lnTo>
                    <a:pt x="206" y="604"/>
                  </a:lnTo>
                  <a:lnTo>
                    <a:pt x="201" y="604"/>
                  </a:lnTo>
                  <a:lnTo>
                    <a:pt x="201" y="615"/>
                  </a:lnTo>
                  <a:lnTo>
                    <a:pt x="196" y="615"/>
                  </a:lnTo>
                  <a:lnTo>
                    <a:pt x="196" y="621"/>
                  </a:lnTo>
                  <a:lnTo>
                    <a:pt x="192" y="621"/>
                  </a:lnTo>
                  <a:lnTo>
                    <a:pt x="192" y="633"/>
                  </a:lnTo>
                  <a:lnTo>
                    <a:pt x="187" y="633"/>
                  </a:lnTo>
                  <a:lnTo>
                    <a:pt x="187" y="639"/>
                  </a:lnTo>
                  <a:lnTo>
                    <a:pt x="182" y="639"/>
                  </a:lnTo>
                  <a:lnTo>
                    <a:pt x="182" y="663"/>
                  </a:lnTo>
                  <a:lnTo>
                    <a:pt x="178" y="663"/>
                  </a:lnTo>
                  <a:lnTo>
                    <a:pt x="178" y="669"/>
                  </a:lnTo>
                  <a:lnTo>
                    <a:pt x="173" y="669"/>
                  </a:lnTo>
                  <a:lnTo>
                    <a:pt x="173" y="686"/>
                  </a:lnTo>
                  <a:lnTo>
                    <a:pt x="168" y="686"/>
                  </a:lnTo>
                  <a:lnTo>
                    <a:pt x="168" y="699"/>
                  </a:lnTo>
                  <a:lnTo>
                    <a:pt x="163" y="699"/>
                  </a:lnTo>
                  <a:lnTo>
                    <a:pt x="163" y="710"/>
                  </a:lnTo>
                  <a:lnTo>
                    <a:pt x="159" y="710"/>
                  </a:lnTo>
                  <a:lnTo>
                    <a:pt x="159" y="728"/>
                  </a:lnTo>
                  <a:lnTo>
                    <a:pt x="153" y="728"/>
                  </a:lnTo>
                  <a:lnTo>
                    <a:pt x="153" y="745"/>
                  </a:lnTo>
                  <a:lnTo>
                    <a:pt x="148" y="745"/>
                  </a:lnTo>
                  <a:lnTo>
                    <a:pt x="148" y="769"/>
                  </a:lnTo>
                  <a:lnTo>
                    <a:pt x="144" y="769"/>
                  </a:lnTo>
                  <a:lnTo>
                    <a:pt x="144" y="792"/>
                  </a:lnTo>
                  <a:lnTo>
                    <a:pt x="139" y="792"/>
                  </a:lnTo>
                  <a:lnTo>
                    <a:pt x="139" y="810"/>
                  </a:lnTo>
                  <a:lnTo>
                    <a:pt x="134" y="810"/>
                  </a:lnTo>
                  <a:lnTo>
                    <a:pt x="134" y="822"/>
                  </a:lnTo>
                  <a:lnTo>
                    <a:pt x="130" y="822"/>
                  </a:lnTo>
                  <a:lnTo>
                    <a:pt x="130" y="827"/>
                  </a:lnTo>
                  <a:lnTo>
                    <a:pt x="125" y="827"/>
                  </a:lnTo>
                  <a:lnTo>
                    <a:pt x="125" y="840"/>
                  </a:lnTo>
                  <a:lnTo>
                    <a:pt x="120" y="840"/>
                  </a:lnTo>
                  <a:lnTo>
                    <a:pt x="120" y="859"/>
                  </a:lnTo>
                  <a:lnTo>
                    <a:pt x="115" y="859"/>
                  </a:lnTo>
                  <a:lnTo>
                    <a:pt x="115" y="876"/>
                  </a:lnTo>
                  <a:lnTo>
                    <a:pt x="111" y="876"/>
                  </a:lnTo>
                  <a:lnTo>
                    <a:pt x="111" y="894"/>
                  </a:lnTo>
                  <a:lnTo>
                    <a:pt x="105" y="894"/>
                  </a:lnTo>
                  <a:lnTo>
                    <a:pt x="105" y="917"/>
                  </a:lnTo>
                  <a:lnTo>
                    <a:pt x="101" y="917"/>
                  </a:lnTo>
                  <a:lnTo>
                    <a:pt x="101" y="935"/>
                  </a:lnTo>
                  <a:lnTo>
                    <a:pt x="97" y="935"/>
                  </a:lnTo>
                  <a:lnTo>
                    <a:pt x="97" y="958"/>
                  </a:lnTo>
                  <a:lnTo>
                    <a:pt x="91" y="958"/>
                  </a:lnTo>
                  <a:lnTo>
                    <a:pt x="91" y="987"/>
                  </a:lnTo>
                  <a:lnTo>
                    <a:pt x="87" y="987"/>
                  </a:lnTo>
                  <a:lnTo>
                    <a:pt x="87" y="1012"/>
                  </a:lnTo>
                  <a:lnTo>
                    <a:pt x="81" y="1012"/>
                  </a:lnTo>
                  <a:lnTo>
                    <a:pt x="81" y="1028"/>
                  </a:lnTo>
                  <a:lnTo>
                    <a:pt x="77" y="1028"/>
                  </a:lnTo>
                  <a:lnTo>
                    <a:pt x="77" y="1064"/>
                  </a:lnTo>
                  <a:lnTo>
                    <a:pt x="71" y="1064"/>
                  </a:lnTo>
                  <a:lnTo>
                    <a:pt x="71" y="1082"/>
                  </a:lnTo>
                  <a:lnTo>
                    <a:pt x="77" y="1082"/>
                  </a:lnTo>
                  <a:lnTo>
                    <a:pt x="77" y="1088"/>
                  </a:lnTo>
                  <a:lnTo>
                    <a:pt x="91" y="1088"/>
                  </a:lnTo>
                  <a:lnTo>
                    <a:pt x="91" y="1082"/>
                  </a:lnTo>
                  <a:lnTo>
                    <a:pt x="97" y="1082"/>
                  </a:lnTo>
                  <a:lnTo>
                    <a:pt x="97" y="1077"/>
                  </a:lnTo>
                  <a:lnTo>
                    <a:pt x="101" y="1077"/>
                  </a:lnTo>
                  <a:lnTo>
                    <a:pt x="101" y="1071"/>
                  </a:lnTo>
                  <a:lnTo>
                    <a:pt x="105" y="1071"/>
                  </a:lnTo>
                  <a:lnTo>
                    <a:pt x="105" y="1064"/>
                  </a:lnTo>
                  <a:lnTo>
                    <a:pt x="115" y="1064"/>
                  </a:lnTo>
                  <a:lnTo>
                    <a:pt x="115" y="1058"/>
                  </a:lnTo>
                  <a:lnTo>
                    <a:pt x="125" y="1058"/>
                  </a:lnTo>
                  <a:lnTo>
                    <a:pt x="125" y="1053"/>
                  </a:lnTo>
                  <a:lnTo>
                    <a:pt x="134" y="1053"/>
                  </a:lnTo>
                  <a:lnTo>
                    <a:pt x="134" y="1041"/>
                  </a:lnTo>
                  <a:lnTo>
                    <a:pt x="144" y="1041"/>
                  </a:lnTo>
                  <a:lnTo>
                    <a:pt x="144" y="1036"/>
                  </a:lnTo>
                  <a:lnTo>
                    <a:pt x="153" y="1036"/>
                  </a:lnTo>
                  <a:lnTo>
                    <a:pt x="153" y="1028"/>
                  </a:lnTo>
                  <a:lnTo>
                    <a:pt x="159" y="1028"/>
                  </a:lnTo>
                  <a:lnTo>
                    <a:pt x="159" y="1023"/>
                  </a:lnTo>
                  <a:lnTo>
                    <a:pt x="168" y="1023"/>
                  </a:lnTo>
                  <a:lnTo>
                    <a:pt x="168" y="1017"/>
                  </a:lnTo>
                  <a:lnTo>
                    <a:pt x="173" y="1017"/>
                  </a:lnTo>
                  <a:lnTo>
                    <a:pt x="173" y="1012"/>
                  </a:lnTo>
                  <a:lnTo>
                    <a:pt x="182" y="1012"/>
                  </a:lnTo>
                  <a:lnTo>
                    <a:pt x="182" y="1005"/>
                  </a:lnTo>
                  <a:lnTo>
                    <a:pt x="192" y="1005"/>
                  </a:lnTo>
                  <a:lnTo>
                    <a:pt x="192" y="1000"/>
                  </a:lnTo>
                  <a:lnTo>
                    <a:pt x="201" y="1000"/>
                  </a:lnTo>
                  <a:lnTo>
                    <a:pt x="201" y="995"/>
                  </a:lnTo>
                  <a:lnTo>
                    <a:pt x="206" y="995"/>
                  </a:lnTo>
                  <a:lnTo>
                    <a:pt x="206" y="987"/>
                  </a:lnTo>
                  <a:lnTo>
                    <a:pt x="211" y="987"/>
                  </a:lnTo>
                  <a:lnTo>
                    <a:pt x="211" y="982"/>
                  </a:lnTo>
                  <a:lnTo>
                    <a:pt x="221" y="982"/>
                  </a:lnTo>
                  <a:lnTo>
                    <a:pt x="221" y="977"/>
                  </a:lnTo>
                  <a:lnTo>
                    <a:pt x="225" y="977"/>
                  </a:lnTo>
                  <a:lnTo>
                    <a:pt x="225" y="970"/>
                  </a:lnTo>
                  <a:lnTo>
                    <a:pt x="230" y="970"/>
                  </a:lnTo>
                  <a:lnTo>
                    <a:pt x="230" y="965"/>
                  </a:lnTo>
                  <a:lnTo>
                    <a:pt x="235" y="965"/>
                  </a:lnTo>
                  <a:lnTo>
                    <a:pt x="235" y="958"/>
                  </a:lnTo>
                  <a:lnTo>
                    <a:pt x="240" y="958"/>
                  </a:lnTo>
                  <a:lnTo>
                    <a:pt x="240" y="952"/>
                  </a:lnTo>
                  <a:lnTo>
                    <a:pt x="249" y="952"/>
                  </a:lnTo>
                  <a:lnTo>
                    <a:pt x="249" y="946"/>
                  </a:lnTo>
                  <a:lnTo>
                    <a:pt x="255" y="946"/>
                  </a:lnTo>
                  <a:lnTo>
                    <a:pt x="255" y="941"/>
                  </a:lnTo>
                  <a:lnTo>
                    <a:pt x="264" y="941"/>
                  </a:lnTo>
                  <a:lnTo>
                    <a:pt x="264" y="928"/>
                  </a:lnTo>
                  <a:lnTo>
                    <a:pt x="278" y="928"/>
                  </a:lnTo>
                  <a:lnTo>
                    <a:pt x="278" y="923"/>
                  </a:lnTo>
                  <a:lnTo>
                    <a:pt x="288" y="923"/>
                  </a:lnTo>
                  <a:lnTo>
                    <a:pt x="288" y="917"/>
                  </a:lnTo>
                  <a:lnTo>
                    <a:pt x="292" y="917"/>
                  </a:lnTo>
                  <a:lnTo>
                    <a:pt x="292" y="911"/>
                  </a:lnTo>
                  <a:lnTo>
                    <a:pt x="297" y="911"/>
                  </a:lnTo>
                  <a:lnTo>
                    <a:pt x="297" y="905"/>
                  </a:lnTo>
                  <a:lnTo>
                    <a:pt x="302" y="905"/>
                  </a:lnTo>
                  <a:lnTo>
                    <a:pt x="302" y="900"/>
                  </a:lnTo>
                  <a:lnTo>
                    <a:pt x="308" y="900"/>
                  </a:lnTo>
                  <a:lnTo>
                    <a:pt x="308" y="894"/>
                  </a:lnTo>
                  <a:lnTo>
                    <a:pt x="317" y="894"/>
                  </a:lnTo>
                  <a:lnTo>
                    <a:pt x="317" y="887"/>
                  </a:lnTo>
                  <a:lnTo>
                    <a:pt x="322" y="887"/>
                  </a:lnTo>
                  <a:lnTo>
                    <a:pt x="322" y="881"/>
                  </a:lnTo>
                  <a:lnTo>
                    <a:pt x="326" y="881"/>
                  </a:lnTo>
                  <a:lnTo>
                    <a:pt x="326" y="876"/>
                  </a:lnTo>
                  <a:lnTo>
                    <a:pt x="336" y="876"/>
                  </a:lnTo>
                  <a:lnTo>
                    <a:pt x="336" y="870"/>
                  </a:lnTo>
                  <a:lnTo>
                    <a:pt x="341" y="870"/>
                  </a:lnTo>
                  <a:lnTo>
                    <a:pt x="341" y="864"/>
                  </a:lnTo>
                  <a:lnTo>
                    <a:pt x="351" y="864"/>
                  </a:lnTo>
                  <a:lnTo>
                    <a:pt x="351" y="859"/>
                  </a:lnTo>
                  <a:lnTo>
                    <a:pt x="360" y="859"/>
                  </a:lnTo>
                  <a:lnTo>
                    <a:pt x="360" y="851"/>
                  </a:lnTo>
                  <a:lnTo>
                    <a:pt x="365" y="851"/>
                  </a:lnTo>
                  <a:lnTo>
                    <a:pt x="365" y="846"/>
                  </a:lnTo>
                  <a:lnTo>
                    <a:pt x="369" y="846"/>
                  </a:lnTo>
                  <a:lnTo>
                    <a:pt x="369" y="840"/>
                  </a:lnTo>
                  <a:lnTo>
                    <a:pt x="379" y="840"/>
                  </a:lnTo>
                  <a:lnTo>
                    <a:pt x="379" y="835"/>
                  </a:lnTo>
                  <a:lnTo>
                    <a:pt x="389" y="835"/>
                  </a:lnTo>
                  <a:lnTo>
                    <a:pt x="389" y="827"/>
                  </a:lnTo>
                  <a:lnTo>
                    <a:pt x="394" y="827"/>
                  </a:lnTo>
                  <a:lnTo>
                    <a:pt x="394" y="822"/>
                  </a:lnTo>
                  <a:lnTo>
                    <a:pt x="399" y="822"/>
                  </a:lnTo>
                  <a:lnTo>
                    <a:pt x="399" y="817"/>
                  </a:lnTo>
                  <a:lnTo>
                    <a:pt x="403" y="817"/>
                  </a:lnTo>
                  <a:lnTo>
                    <a:pt x="403" y="810"/>
                  </a:lnTo>
                  <a:lnTo>
                    <a:pt x="413" y="810"/>
                  </a:lnTo>
                  <a:lnTo>
                    <a:pt x="413" y="805"/>
                  </a:lnTo>
                  <a:lnTo>
                    <a:pt x="418" y="805"/>
                  </a:lnTo>
                  <a:lnTo>
                    <a:pt x="418" y="799"/>
                  </a:lnTo>
                  <a:lnTo>
                    <a:pt x="427" y="799"/>
                  </a:lnTo>
                  <a:lnTo>
                    <a:pt x="427" y="792"/>
                  </a:lnTo>
                  <a:lnTo>
                    <a:pt x="437" y="792"/>
                  </a:lnTo>
                  <a:lnTo>
                    <a:pt x="437" y="786"/>
                  </a:lnTo>
                  <a:lnTo>
                    <a:pt x="446" y="786"/>
                  </a:lnTo>
                  <a:lnTo>
                    <a:pt x="446" y="781"/>
                  </a:lnTo>
                  <a:lnTo>
                    <a:pt x="452" y="781"/>
                  </a:lnTo>
                  <a:lnTo>
                    <a:pt x="452" y="775"/>
                  </a:lnTo>
                  <a:lnTo>
                    <a:pt x="456" y="775"/>
                  </a:lnTo>
                  <a:lnTo>
                    <a:pt x="456" y="769"/>
                  </a:lnTo>
                  <a:lnTo>
                    <a:pt x="462" y="769"/>
                  </a:lnTo>
                  <a:lnTo>
                    <a:pt x="462" y="764"/>
                  </a:lnTo>
                  <a:lnTo>
                    <a:pt x="466" y="764"/>
                  </a:lnTo>
                  <a:lnTo>
                    <a:pt x="466" y="758"/>
                  </a:lnTo>
                  <a:lnTo>
                    <a:pt x="471" y="758"/>
                  </a:lnTo>
                  <a:lnTo>
                    <a:pt x="471" y="751"/>
                  </a:lnTo>
                  <a:lnTo>
                    <a:pt x="481" y="751"/>
                  </a:lnTo>
                  <a:lnTo>
                    <a:pt x="481" y="740"/>
                  </a:lnTo>
                  <a:lnTo>
                    <a:pt x="489" y="740"/>
                  </a:lnTo>
                  <a:lnTo>
                    <a:pt x="489" y="733"/>
                  </a:lnTo>
                  <a:lnTo>
                    <a:pt x="503" y="733"/>
                  </a:lnTo>
                  <a:lnTo>
                    <a:pt x="503" y="728"/>
                  </a:lnTo>
                  <a:lnTo>
                    <a:pt x="513" y="728"/>
                  </a:lnTo>
                  <a:lnTo>
                    <a:pt x="513" y="723"/>
                  </a:lnTo>
                  <a:lnTo>
                    <a:pt x="518" y="723"/>
                  </a:lnTo>
                  <a:lnTo>
                    <a:pt x="518" y="716"/>
                  </a:lnTo>
                  <a:lnTo>
                    <a:pt x="529" y="716"/>
                  </a:lnTo>
                  <a:lnTo>
                    <a:pt x="529" y="710"/>
                  </a:lnTo>
                  <a:lnTo>
                    <a:pt x="533" y="710"/>
                  </a:lnTo>
                  <a:lnTo>
                    <a:pt x="533" y="704"/>
                  </a:lnTo>
                  <a:lnTo>
                    <a:pt x="537" y="704"/>
                  </a:lnTo>
                  <a:lnTo>
                    <a:pt x="537" y="699"/>
                  </a:lnTo>
                  <a:lnTo>
                    <a:pt x="547" y="699"/>
                  </a:lnTo>
                  <a:lnTo>
                    <a:pt x="547" y="691"/>
                  </a:lnTo>
                  <a:lnTo>
                    <a:pt x="552" y="691"/>
                  </a:lnTo>
                  <a:lnTo>
                    <a:pt x="552" y="686"/>
                  </a:lnTo>
                  <a:lnTo>
                    <a:pt x="562" y="686"/>
                  </a:lnTo>
                  <a:lnTo>
                    <a:pt x="562" y="680"/>
                  </a:lnTo>
                  <a:lnTo>
                    <a:pt x="566" y="680"/>
                  </a:lnTo>
                  <a:lnTo>
                    <a:pt x="566" y="674"/>
                  </a:lnTo>
                  <a:lnTo>
                    <a:pt x="576" y="674"/>
                  </a:lnTo>
                  <a:lnTo>
                    <a:pt x="576" y="669"/>
                  </a:lnTo>
                  <a:lnTo>
                    <a:pt x="580" y="669"/>
                  </a:lnTo>
                  <a:lnTo>
                    <a:pt x="580" y="663"/>
                  </a:lnTo>
                  <a:lnTo>
                    <a:pt x="590" y="663"/>
                  </a:lnTo>
                  <a:lnTo>
                    <a:pt x="590" y="658"/>
                  </a:lnTo>
                  <a:lnTo>
                    <a:pt x="600" y="658"/>
                  </a:lnTo>
                  <a:lnTo>
                    <a:pt x="600" y="650"/>
                  </a:lnTo>
                  <a:lnTo>
                    <a:pt x="610" y="650"/>
                  </a:lnTo>
                  <a:lnTo>
                    <a:pt x="610" y="645"/>
                  </a:lnTo>
                  <a:lnTo>
                    <a:pt x="615" y="645"/>
                  </a:lnTo>
                  <a:lnTo>
                    <a:pt x="615" y="639"/>
                  </a:lnTo>
                  <a:lnTo>
                    <a:pt x="624" y="639"/>
                  </a:lnTo>
                  <a:lnTo>
                    <a:pt x="624" y="633"/>
                  </a:lnTo>
                  <a:lnTo>
                    <a:pt x="629" y="633"/>
                  </a:lnTo>
                  <a:lnTo>
                    <a:pt x="629" y="626"/>
                  </a:lnTo>
                  <a:lnTo>
                    <a:pt x="639" y="626"/>
                  </a:lnTo>
                  <a:lnTo>
                    <a:pt x="639" y="621"/>
                  </a:lnTo>
                  <a:lnTo>
                    <a:pt x="643" y="621"/>
                  </a:lnTo>
                  <a:lnTo>
                    <a:pt x="643" y="615"/>
                  </a:lnTo>
                  <a:lnTo>
                    <a:pt x="648" y="615"/>
                  </a:lnTo>
                  <a:lnTo>
                    <a:pt x="648" y="609"/>
                  </a:lnTo>
                  <a:lnTo>
                    <a:pt x="658" y="609"/>
                  </a:lnTo>
                  <a:lnTo>
                    <a:pt x="658" y="604"/>
                  </a:lnTo>
                  <a:lnTo>
                    <a:pt x="662" y="604"/>
                  </a:lnTo>
                  <a:lnTo>
                    <a:pt x="662" y="598"/>
                  </a:lnTo>
                  <a:lnTo>
                    <a:pt x="673" y="598"/>
                  </a:lnTo>
                  <a:lnTo>
                    <a:pt x="673" y="592"/>
                  </a:lnTo>
                  <a:lnTo>
                    <a:pt x="687" y="592"/>
                  </a:lnTo>
                  <a:lnTo>
                    <a:pt x="687" y="585"/>
                  </a:lnTo>
                  <a:lnTo>
                    <a:pt x="696" y="585"/>
                  </a:lnTo>
                  <a:lnTo>
                    <a:pt x="696" y="580"/>
                  </a:lnTo>
                  <a:lnTo>
                    <a:pt x="701" y="580"/>
                  </a:lnTo>
                  <a:lnTo>
                    <a:pt x="701" y="574"/>
                  </a:lnTo>
                  <a:lnTo>
                    <a:pt x="706" y="574"/>
                  </a:lnTo>
                  <a:lnTo>
                    <a:pt x="706" y="568"/>
                  </a:lnTo>
                  <a:lnTo>
                    <a:pt x="710" y="568"/>
                  </a:lnTo>
                  <a:lnTo>
                    <a:pt x="710" y="563"/>
                  </a:lnTo>
                  <a:lnTo>
                    <a:pt x="715" y="563"/>
                  </a:lnTo>
                  <a:lnTo>
                    <a:pt x="715" y="557"/>
                  </a:lnTo>
                  <a:lnTo>
                    <a:pt x="729" y="557"/>
                  </a:lnTo>
                  <a:lnTo>
                    <a:pt x="729" y="550"/>
                  </a:lnTo>
                  <a:lnTo>
                    <a:pt x="735" y="550"/>
                  </a:lnTo>
                  <a:lnTo>
                    <a:pt x="735" y="545"/>
                  </a:lnTo>
                  <a:lnTo>
                    <a:pt x="745" y="545"/>
                  </a:lnTo>
                  <a:lnTo>
                    <a:pt x="745" y="539"/>
                  </a:lnTo>
                  <a:lnTo>
                    <a:pt x="754" y="539"/>
                  </a:lnTo>
                  <a:lnTo>
                    <a:pt x="754" y="533"/>
                  </a:lnTo>
                  <a:lnTo>
                    <a:pt x="763" y="533"/>
                  </a:lnTo>
                  <a:lnTo>
                    <a:pt x="763" y="527"/>
                  </a:lnTo>
                  <a:lnTo>
                    <a:pt x="769" y="527"/>
                  </a:lnTo>
                  <a:lnTo>
                    <a:pt x="769" y="522"/>
                  </a:lnTo>
                  <a:lnTo>
                    <a:pt x="773" y="522"/>
                  </a:lnTo>
                  <a:lnTo>
                    <a:pt x="773" y="514"/>
                  </a:lnTo>
                  <a:lnTo>
                    <a:pt x="783" y="514"/>
                  </a:lnTo>
                  <a:lnTo>
                    <a:pt x="783" y="509"/>
                  </a:lnTo>
                  <a:lnTo>
                    <a:pt x="787" y="509"/>
                  </a:lnTo>
                  <a:lnTo>
                    <a:pt x="787" y="504"/>
                  </a:lnTo>
                  <a:lnTo>
                    <a:pt x="797" y="504"/>
                  </a:lnTo>
                  <a:lnTo>
                    <a:pt x="797" y="497"/>
                  </a:lnTo>
                  <a:lnTo>
                    <a:pt x="802" y="497"/>
                  </a:lnTo>
                  <a:lnTo>
                    <a:pt x="802" y="492"/>
                  </a:lnTo>
                  <a:lnTo>
                    <a:pt x="812" y="492"/>
                  </a:lnTo>
                  <a:lnTo>
                    <a:pt x="812" y="485"/>
                  </a:lnTo>
                  <a:lnTo>
                    <a:pt x="822" y="485"/>
                  </a:lnTo>
                  <a:lnTo>
                    <a:pt x="822" y="479"/>
                  </a:lnTo>
                  <a:lnTo>
                    <a:pt x="831" y="479"/>
                  </a:lnTo>
                  <a:lnTo>
                    <a:pt x="831" y="473"/>
                  </a:lnTo>
                  <a:lnTo>
                    <a:pt x="840" y="473"/>
                  </a:lnTo>
                  <a:lnTo>
                    <a:pt x="840" y="468"/>
                  </a:lnTo>
                  <a:lnTo>
                    <a:pt x="845" y="468"/>
                  </a:lnTo>
                  <a:lnTo>
                    <a:pt x="845" y="462"/>
                  </a:lnTo>
                  <a:lnTo>
                    <a:pt x="850" y="462"/>
                  </a:lnTo>
                  <a:lnTo>
                    <a:pt x="850" y="456"/>
                  </a:lnTo>
                  <a:lnTo>
                    <a:pt x="859" y="456"/>
                  </a:lnTo>
                  <a:lnTo>
                    <a:pt x="859" y="451"/>
                  </a:lnTo>
                  <a:lnTo>
                    <a:pt x="869" y="451"/>
                  </a:lnTo>
                  <a:lnTo>
                    <a:pt x="869" y="444"/>
                  </a:lnTo>
                  <a:lnTo>
                    <a:pt x="878" y="444"/>
                  </a:lnTo>
                  <a:lnTo>
                    <a:pt x="878" y="438"/>
                  </a:lnTo>
                  <a:lnTo>
                    <a:pt x="894" y="438"/>
                  </a:lnTo>
                  <a:lnTo>
                    <a:pt x="894" y="427"/>
                  </a:lnTo>
                  <a:lnTo>
                    <a:pt x="898" y="427"/>
                  </a:lnTo>
                  <a:lnTo>
                    <a:pt x="898" y="421"/>
                  </a:lnTo>
                  <a:lnTo>
                    <a:pt x="907" y="421"/>
                  </a:lnTo>
                  <a:lnTo>
                    <a:pt x="907" y="414"/>
                  </a:lnTo>
                  <a:lnTo>
                    <a:pt x="917" y="414"/>
                  </a:lnTo>
                  <a:lnTo>
                    <a:pt x="917" y="408"/>
                  </a:lnTo>
                  <a:lnTo>
                    <a:pt x="921" y="408"/>
                  </a:lnTo>
                  <a:lnTo>
                    <a:pt x="921" y="403"/>
                  </a:lnTo>
                  <a:lnTo>
                    <a:pt x="927" y="403"/>
                  </a:lnTo>
                  <a:lnTo>
                    <a:pt x="927" y="397"/>
                  </a:lnTo>
                  <a:lnTo>
                    <a:pt x="936" y="397"/>
                  </a:lnTo>
                  <a:lnTo>
                    <a:pt x="936" y="391"/>
                  </a:lnTo>
                  <a:lnTo>
                    <a:pt x="941" y="391"/>
                  </a:lnTo>
                  <a:lnTo>
                    <a:pt x="941" y="386"/>
                  </a:lnTo>
                  <a:lnTo>
                    <a:pt x="946" y="386"/>
                  </a:lnTo>
                  <a:lnTo>
                    <a:pt x="946" y="378"/>
                  </a:lnTo>
                  <a:lnTo>
                    <a:pt x="950" y="378"/>
                  </a:lnTo>
                  <a:lnTo>
                    <a:pt x="950" y="373"/>
                  </a:lnTo>
                  <a:lnTo>
                    <a:pt x="961" y="373"/>
                  </a:lnTo>
                  <a:lnTo>
                    <a:pt x="961" y="367"/>
                  </a:lnTo>
                  <a:lnTo>
                    <a:pt x="970" y="367"/>
                  </a:lnTo>
                  <a:lnTo>
                    <a:pt x="970" y="362"/>
                  </a:lnTo>
                  <a:lnTo>
                    <a:pt x="980" y="362"/>
                  </a:lnTo>
                  <a:lnTo>
                    <a:pt x="980" y="356"/>
                  </a:lnTo>
                  <a:lnTo>
                    <a:pt x="990" y="356"/>
                  </a:lnTo>
                  <a:lnTo>
                    <a:pt x="990" y="349"/>
                  </a:lnTo>
                  <a:lnTo>
                    <a:pt x="999" y="349"/>
                  </a:lnTo>
                  <a:lnTo>
                    <a:pt x="999" y="344"/>
                  </a:lnTo>
                  <a:lnTo>
                    <a:pt x="1003" y="344"/>
                  </a:lnTo>
                  <a:lnTo>
                    <a:pt x="1003" y="337"/>
                  </a:lnTo>
                  <a:lnTo>
                    <a:pt x="1017" y="337"/>
                  </a:lnTo>
                  <a:lnTo>
                    <a:pt x="1017" y="332"/>
                  </a:lnTo>
                  <a:lnTo>
                    <a:pt x="1027" y="332"/>
                  </a:lnTo>
                  <a:lnTo>
                    <a:pt x="1027" y="326"/>
                  </a:lnTo>
                  <a:lnTo>
                    <a:pt x="1033" y="326"/>
                  </a:lnTo>
                  <a:lnTo>
                    <a:pt x="1033" y="320"/>
                  </a:lnTo>
                  <a:lnTo>
                    <a:pt x="1047" y="320"/>
                  </a:lnTo>
                  <a:lnTo>
                    <a:pt x="1047" y="313"/>
                  </a:lnTo>
                  <a:lnTo>
                    <a:pt x="1052" y="313"/>
                  </a:lnTo>
                  <a:lnTo>
                    <a:pt x="1052" y="308"/>
                  </a:lnTo>
                  <a:lnTo>
                    <a:pt x="1061" y="308"/>
                  </a:lnTo>
                  <a:lnTo>
                    <a:pt x="1061" y="302"/>
                  </a:lnTo>
                  <a:lnTo>
                    <a:pt x="1066" y="302"/>
                  </a:lnTo>
                  <a:lnTo>
                    <a:pt x="1066" y="296"/>
                  </a:lnTo>
                  <a:lnTo>
                    <a:pt x="1076" y="296"/>
                  </a:lnTo>
                  <a:lnTo>
                    <a:pt x="1076" y="291"/>
                  </a:lnTo>
                  <a:lnTo>
                    <a:pt x="1085" y="291"/>
                  </a:lnTo>
                  <a:lnTo>
                    <a:pt x="1085" y="285"/>
                  </a:lnTo>
                  <a:lnTo>
                    <a:pt x="1090" y="285"/>
                  </a:lnTo>
                  <a:lnTo>
                    <a:pt x="1090" y="278"/>
                  </a:lnTo>
                  <a:lnTo>
                    <a:pt x="1094" y="278"/>
                  </a:lnTo>
                  <a:lnTo>
                    <a:pt x="1094" y="272"/>
                  </a:lnTo>
                  <a:lnTo>
                    <a:pt x="1110" y="272"/>
                  </a:lnTo>
                  <a:lnTo>
                    <a:pt x="1110" y="267"/>
                  </a:lnTo>
                  <a:lnTo>
                    <a:pt x="1120" y="267"/>
                  </a:lnTo>
                  <a:lnTo>
                    <a:pt x="1120" y="261"/>
                  </a:lnTo>
                  <a:lnTo>
                    <a:pt x="1128" y="261"/>
                  </a:lnTo>
                  <a:lnTo>
                    <a:pt x="1128" y="255"/>
                  </a:lnTo>
                  <a:lnTo>
                    <a:pt x="1134" y="255"/>
                  </a:lnTo>
                  <a:lnTo>
                    <a:pt x="1134" y="250"/>
                  </a:lnTo>
                  <a:lnTo>
                    <a:pt x="1138" y="250"/>
                  </a:lnTo>
                  <a:lnTo>
                    <a:pt x="1138" y="243"/>
                  </a:lnTo>
                  <a:lnTo>
                    <a:pt x="1147" y="243"/>
                  </a:lnTo>
                  <a:lnTo>
                    <a:pt x="1147" y="237"/>
                  </a:lnTo>
                  <a:lnTo>
                    <a:pt x="1162" y="237"/>
                  </a:lnTo>
                  <a:lnTo>
                    <a:pt x="1162" y="231"/>
                  </a:lnTo>
                  <a:lnTo>
                    <a:pt x="1167" y="231"/>
                  </a:lnTo>
                  <a:lnTo>
                    <a:pt x="1167" y="226"/>
                  </a:lnTo>
                  <a:lnTo>
                    <a:pt x="1171" y="226"/>
                  </a:lnTo>
                  <a:lnTo>
                    <a:pt x="1171" y="218"/>
                  </a:lnTo>
                  <a:lnTo>
                    <a:pt x="1182" y="218"/>
                  </a:lnTo>
                  <a:lnTo>
                    <a:pt x="1182" y="213"/>
                  </a:lnTo>
                  <a:lnTo>
                    <a:pt x="1186" y="213"/>
                  </a:lnTo>
                  <a:lnTo>
                    <a:pt x="1186" y="207"/>
                  </a:lnTo>
                  <a:lnTo>
                    <a:pt x="1196" y="207"/>
                  </a:lnTo>
                  <a:lnTo>
                    <a:pt x="1196" y="201"/>
                  </a:lnTo>
                  <a:lnTo>
                    <a:pt x="1201" y="201"/>
                  </a:lnTo>
                  <a:lnTo>
                    <a:pt x="1201" y="196"/>
                  </a:lnTo>
                  <a:lnTo>
                    <a:pt x="1210" y="196"/>
                  </a:lnTo>
                  <a:lnTo>
                    <a:pt x="1210" y="190"/>
                  </a:lnTo>
                  <a:lnTo>
                    <a:pt x="1215" y="190"/>
                  </a:lnTo>
                  <a:lnTo>
                    <a:pt x="1215" y="185"/>
                  </a:lnTo>
                  <a:lnTo>
                    <a:pt x="1219" y="185"/>
                  </a:lnTo>
                  <a:lnTo>
                    <a:pt x="1219" y="177"/>
                  </a:lnTo>
                  <a:lnTo>
                    <a:pt x="1234" y="177"/>
                  </a:lnTo>
                  <a:lnTo>
                    <a:pt x="1234" y="172"/>
                  </a:lnTo>
                  <a:lnTo>
                    <a:pt x="1238" y="172"/>
                  </a:lnTo>
                  <a:lnTo>
                    <a:pt x="1238" y="166"/>
                  </a:lnTo>
                  <a:lnTo>
                    <a:pt x="1249" y="166"/>
                  </a:lnTo>
                  <a:lnTo>
                    <a:pt x="1249" y="160"/>
                  </a:lnTo>
                  <a:lnTo>
                    <a:pt x="1254" y="160"/>
                  </a:lnTo>
                  <a:lnTo>
                    <a:pt x="1254" y="155"/>
                  </a:lnTo>
                  <a:lnTo>
                    <a:pt x="1291" y="155"/>
                  </a:lnTo>
                  <a:lnTo>
                    <a:pt x="1291" y="160"/>
                  </a:lnTo>
                  <a:lnTo>
                    <a:pt x="1305" y="160"/>
                  </a:lnTo>
                  <a:lnTo>
                    <a:pt x="1305" y="172"/>
                  </a:lnTo>
                  <a:lnTo>
                    <a:pt x="1311" y="172"/>
                  </a:lnTo>
                  <a:lnTo>
                    <a:pt x="1311" y="201"/>
                  </a:lnTo>
                  <a:lnTo>
                    <a:pt x="1301" y="201"/>
                  </a:lnTo>
                  <a:lnTo>
                    <a:pt x="1301" y="207"/>
                  </a:lnTo>
                  <a:lnTo>
                    <a:pt x="1291" y="207"/>
                  </a:lnTo>
                  <a:lnTo>
                    <a:pt x="1291" y="213"/>
                  </a:lnTo>
                  <a:lnTo>
                    <a:pt x="1282" y="213"/>
                  </a:lnTo>
                  <a:lnTo>
                    <a:pt x="1282" y="218"/>
                  </a:lnTo>
                  <a:lnTo>
                    <a:pt x="1272" y="218"/>
                  </a:lnTo>
                  <a:lnTo>
                    <a:pt x="1272" y="226"/>
                  </a:lnTo>
                  <a:lnTo>
                    <a:pt x="1268" y="226"/>
                  </a:lnTo>
                  <a:lnTo>
                    <a:pt x="1268" y="231"/>
                  </a:lnTo>
                  <a:lnTo>
                    <a:pt x="1254" y="231"/>
                  </a:lnTo>
                  <a:lnTo>
                    <a:pt x="1254" y="237"/>
                  </a:lnTo>
                  <a:lnTo>
                    <a:pt x="1249" y="237"/>
                  </a:lnTo>
                  <a:lnTo>
                    <a:pt x="1249" y="243"/>
                  </a:lnTo>
                  <a:lnTo>
                    <a:pt x="1243" y="243"/>
                  </a:lnTo>
                  <a:lnTo>
                    <a:pt x="1243" y="250"/>
                  </a:lnTo>
                  <a:lnTo>
                    <a:pt x="1229" y="250"/>
                  </a:lnTo>
                  <a:lnTo>
                    <a:pt x="1229" y="255"/>
                  </a:lnTo>
                  <a:lnTo>
                    <a:pt x="1224" y="255"/>
                  </a:lnTo>
                  <a:lnTo>
                    <a:pt x="1224" y="261"/>
                  </a:lnTo>
                  <a:lnTo>
                    <a:pt x="1219" y="261"/>
                  </a:lnTo>
                  <a:lnTo>
                    <a:pt x="1219" y="267"/>
                  </a:lnTo>
                  <a:lnTo>
                    <a:pt x="1210" y="267"/>
                  </a:lnTo>
                  <a:lnTo>
                    <a:pt x="1210" y="272"/>
                  </a:lnTo>
                  <a:lnTo>
                    <a:pt x="1201" y="272"/>
                  </a:lnTo>
                  <a:lnTo>
                    <a:pt x="1201" y="278"/>
                  </a:lnTo>
                  <a:lnTo>
                    <a:pt x="1196" y="278"/>
                  </a:lnTo>
                  <a:lnTo>
                    <a:pt x="1196" y="285"/>
                  </a:lnTo>
                  <a:lnTo>
                    <a:pt x="1186" y="285"/>
                  </a:lnTo>
                  <a:lnTo>
                    <a:pt x="1186" y="291"/>
                  </a:lnTo>
                  <a:lnTo>
                    <a:pt x="1177" y="291"/>
                  </a:lnTo>
                  <a:lnTo>
                    <a:pt x="1177" y="296"/>
                  </a:lnTo>
                  <a:lnTo>
                    <a:pt x="1167" y="296"/>
                  </a:lnTo>
                  <a:lnTo>
                    <a:pt x="1167" y="302"/>
                  </a:lnTo>
                  <a:lnTo>
                    <a:pt x="1157" y="302"/>
                  </a:lnTo>
                  <a:lnTo>
                    <a:pt x="1157" y="308"/>
                  </a:lnTo>
                  <a:lnTo>
                    <a:pt x="1147" y="308"/>
                  </a:lnTo>
                  <a:lnTo>
                    <a:pt x="1147" y="313"/>
                  </a:lnTo>
                  <a:lnTo>
                    <a:pt x="1138" y="313"/>
                  </a:lnTo>
                  <a:lnTo>
                    <a:pt x="1138" y="320"/>
                  </a:lnTo>
                  <a:lnTo>
                    <a:pt x="1128" y="320"/>
                  </a:lnTo>
                  <a:lnTo>
                    <a:pt x="1128" y="326"/>
                  </a:lnTo>
                  <a:lnTo>
                    <a:pt x="1124" y="326"/>
                  </a:lnTo>
                  <a:lnTo>
                    <a:pt x="1124" y="332"/>
                  </a:lnTo>
                  <a:lnTo>
                    <a:pt x="1114" y="332"/>
                  </a:lnTo>
                  <a:lnTo>
                    <a:pt x="1114" y="337"/>
                  </a:lnTo>
                  <a:lnTo>
                    <a:pt x="1105" y="337"/>
                  </a:lnTo>
                  <a:lnTo>
                    <a:pt x="1105" y="344"/>
                  </a:lnTo>
                  <a:lnTo>
                    <a:pt x="1094" y="344"/>
                  </a:lnTo>
                  <a:lnTo>
                    <a:pt x="1094" y="349"/>
                  </a:lnTo>
                  <a:lnTo>
                    <a:pt x="1085" y="349"/>
                  </a:lnTo>
                  <a:lnTo>
                    <a:pt x="1085" y="356"/>
                  </a:lnTo>
                  <a:lnTo>
                    <a:pt x="1080" y="356"/>
                  </a:lnTo>
                  <a:lnTo>
                    <a:pt x="1080" y="362"/>
                  </a:lnTo>
                  <a:lnTo>
                    <a:pt x="1071" y="362"/>
                  </a:lnTo>
                  <a:lnTo>
                    <a:pt x="1071" y="367"/>
                  </a:lnTo>
                  <a:lnTo>
                    <a:pt x="1061" y="367"/>
                  </a:lnTo>
                  <a:lnTo>
                    <a:pt x="1061" y="373"/>
                  </a:lnTo>
                  <a:lnTo>
                    <a:pt x="1057" y="373"/>
                  </a:lnTo>
                  <a:lnTo>
                    <a:pt x="1057" y="378"/>
                  </a:lnTo>
                  <a:lnTo>
                    <a:pt x="1052" y="378"/>
                  </a:lnTo>
                  <a:lnTo>
                    <a:pt x="1052" y="386"/>
                  </a:lnTo>
                  <a:lnTo>
                    <a:pt x="1043" y="386"/>
                  </a:lnTo>
                  <a:lnTo>
                    <a:pt x="1043" y="391"/>
                  </a:lnTo>
                  <a:lnTo>
                    <a:pt x="1027" y="391"/>
                  </a:lnTo>
                  <a:lnTo>
                    <a:pt x="1027" y="397"/>
                  </a:lnTo>
                  <a:lnTo>
                    <a:pt x="1017" y="397"/>
                  </a:lnTo>
                  <a:lnTo>
                    <a:pt x="1017" y="403"/>
                  </a:lnTo>
                  <a:lnTo>
                    <a:pt x="1013" y="403"/>
                  </a:lnTo>
                  <a:lnTo>
                    <a:pt x="1013" y="408"/>
                  </a:lnTo>
                  <a:lnTo>
                    <a:pt x="1008" y="408"/>
                  </a:lnTo>
                  <a:lnTo>
                    <a:pt x="1008" y="414"/>
                  </a:lnTo>
                  <a:lnTo>
                    <a:pt x="999" y="414"/>
                  </a:lnTo>
                  <a:lnTo>
                    <a:pt x="999" y="421"/>
                  </a:lnTo>
                  <a:lnTo>
                    <a:pt x="990" y="421"/>
                  </a:lnTo>
                  <a:lnTo>
                    <a:pt x="990" y="427"/>
                  </a:lnTo>
                  <a:lnTo>
                    <a:pt x="980" y="427"/>
                  </a:lnTo>
                  <a:lnTo>
                    <a:pt x="980" y="432"/>
                  </a:lnTo>
                  <a:lnTo>
                    <a:pt x="975" y="432"/>
                  </a:lnTo>
                  <a:lnTo>
                    <a:pt x="975" y="438"/>
                  </a:lnTo>
                  <a:lnTo>
                    <a:pt x="965" y="438"/>
                  </a:lnTo>
                  <a:lnTo>
                    <a:pt x="965" y="444"/>
                  </a:lnTo>
                  <a:lnTo>
                    <a:pt x="950" y="444"/>
                  </a:lnTo>
                  <a:lnTo>
                    <a:pt x="950" y="451"/>
                  </a:lnTo>
                  <a:lnTo>
                    <a:pt x="946" y="451"/>
                  </a:lnTo>
                  <a:lnTo>
                    <a:pt x="946" y="456"/>
                  </a:lnTo>
                  <a:lnTo>
                    <a:pt x="936" y="456"/>
                  </a:lnTo>
                  <a:lnTo>
                    <a:pt x="936" y="462"/>
                  </a:lnTo>
                  <a:lnTo>
                    <a:pt x="927" y="462"/>
                  </a:lnTo>
                  <a:lnTo>
                    <a:pt x="927" y="468"/>
                  </a:lnTo>
                  <a:lnTo>
                    <a:pt x="921" y="468"/>
                  </a:lnTo>
                  <a:lnTo>
                    <a:pt x="921" y="473"/>
                  </a:lnTo>
                  <a:lnTo>
                    <a:pt x="917" y="473"/>
                  </a:lnTo>
                  <a:lnTo>
                    <a:pt x="917" y="479"/>
                  </a:lnTo>
                  <a:lnTo>
                    <a:pt x="907" y="479"/>
                  </a:lnTo>
                  <a:lnTo>
                    <a:pt x="907" y="485"/>
                  </a:lnTo>
                  <a:lnTo>
                    <a:pt x="903" y="485"/>
                  </a:lnTo>
                  <a:lnTo>
                    <a:pt x="903" y="492"/>
                  </a:lnTo>
                  <a:lnTo>
                    <a:pt x="898" y="492"/>
                  </a:lnTo>
                  <a:lnTo>
                    <a:pt x="898" y="497"/>
                  </a:lnTo>
                  <a:lnTo>
                    <a:pt x="888" y="497"/>
                  </a:lnTo>
                  <a:lnTo>
                    <a:pt x="888" y="504"/>
                  </a:lnTo>
                  <a:lnTo>
                    <a:pt x="884" y="504"/>
                  </a:lnTo>
                  <a:lnTo>
                    <a:pt x="884" y="509"/>
                  </a:lnTo>
                  <a:lnTo>
                    <a:pt x="869" y="509"/>
                  </a:lnTo>
                  <a:lnTo>
                    <a:pt x="869" y="514"/>
                  </a:lnTo>
                  <a:lnTo>
                    <a:pt x="859" y="514"/>
                  </a:lnTo>
                  <a:lnTo>
                    <a:pt x="859" y="522"/>
                  </a:lnTo>
                  <a:lnTo>
                    <a:pt x="854" y="522"/>
                  </a:lnTo>
                  <a:lnTo>
                    <a:pt x="854" y="527"/>
                  </a:lnTo>
                  <a:lnTo>
                    <a:pt x="845" y="527"/>
                  </a:lnTo>
                  <a:lnTo>
                    <a:pt x="845" y="533"/>
                  </a:lnTo>
                  <a:lnTo>
                    <a:pt x="836" y="533"/>
                  </a:lnTo>
                  <a:lnTo>
                    <a:pt x="836" y="539"/>
                  </a:lnTo>
                  <a:lnTo>
                    <a:pt x="831" y="539"/>
                  </a:lnTo>
                  <a:lnTo>
                    <a:pt x="831" y="545"/>
                  </a:lnTo>
                  <a:lnTo>
                    <a:pt x="822" y="545"/>
                  </a:lnTo>
                  <a:lnTo>
                    <a:pt x="822" y="550"/>
                  </a:lnTo>
                  <a:lnTo>
                    <a:pt x="812" y="550"/>
                  </a:lnTo>
                  <a:lnTo>
                    <a:pt x="812" y="557"/>
                  </a:lnTo>
                  <a:lnTo>
                    <a:pt x="806" y="557"/>
                  </a:lnTo>
                  <a:lnTo>
                    <a:pt x="806" y="563"/>
                  </a:lnTo>
                  <a:lnTo>
                    <a:pt x="797" y="563"/>
                  </a:lnTo>
                  <a:lnTo>
                    <a:pt x="797" y="568"/>
                  </a:lnTo>
                  <a:lnTo>
                    <a:pt x="792" y="568"/>
                  </a:lnTo>
                  <a:lnTo>
                    <a:pt x="792" y="574"/>
                  </a:lnTo>
                  <a:lnTo>
                    <a:pt x="787" y="574"/>
                  </a:lnTo>
                  <a:lnTo>
                    <a:pt x="787" y="580"/>
                  </a:lnTo>
                  <a:lnTo>
                    <a:pt x="783" y="580"/>
                  </a:lnTo>
                  <a:lnTo>
                    <a:pt x="783" y="585"/>
                  </a:lnTo>
                  <a:lnTo>
                    <a:pt x="778" y="585"/>
                  </a:lnTo>
                  <a:lnTo>
                    <a:pt x="778" y="592"/>
                  </a:lnTo>
                  <a:lnTo>
                    <a:pt x="773" y="592"/>
                  </a:lnTo>
                  <a:lnTo>
                    <a:pt x="773" y="598"/>
                  </a:lnTo>
                  <a:lnTo>
                    <a:pt x="759" y="598"/>
                  </a:lnTo>
                  <a:lnTo>
                    <a:pt x="759" y="604"/>
                  </a:lnTo>
                  <a:lnTo>
                    <a:pt x="754" y="604"/>
                  </a:lnTo>
                  <a:lnTo>
                    <a:pt x="754" y="609"/>
                  </a:lnTo>
                  <a:lnTo>
                    <a:pt x="745" y="609"/>
                  </a:lnTo>
                  <a:lnTo>
                    <a:pt x="745" y="615"/>
                  </a:lnTo>
                  <a:lnTo>
                    <a:pt x="740" y="615"/>
                  </a:lnTo>
                  <a:lnTo>
                    <a:pt x="740" y="621"/>
                  </a:lnTo>
                  <a:lnTo>
                    <a:pt x="729" y="621"/>
                  </a:lnTo>
                  <a:lnTo>
                    <a:pt x="729" y="626"/>
                  </a:lnTo>
                  <a:lnTo>
                    <a:pt x="720" y="626"/>
                  </a:lnTo>
                  <a:lnTo>
                    <a:pt x="720" y="633"/>
                  </a:lnTo>
                  <a:lnTo>
                    <a:pt x="715" y="633"/>
                  </a:lnTo>
                  <a:lnTo>
                    <a:pt x="715" y="639"/>
                  </a:lnTo>
                  <a:lnTo>
                    <a:pt x="710" y="639"/>
                  </a:lnTo>
                  <a:lnTo>
                    <a:pt x="710" y="645"/>
                  </a:lnTo>
                  <a:lnTo>
                    <a:pt x="701" y="645"/>
                  </a:lnTo>
                  <a:lnTo>
                    <a:pt x="701" y="650"/>
                  </a:lnTo>
                  <a:lnTo>
                    <a:pt x="692" y="650"/>
                  </a:lnTo>
                  <a:lnTo>
                    <a:pt x="692" y="658"/>
                  </a:lnTo>
                  <a:lnTo>
                    <a:pt x="682" y="658"/>
                  </a:lnTo>
                  <a:lnTo>
                    <a:pt x="682" y="663"/>
                  </a:lnTo>
                  <a:lnTo>
                    <a:pt x="677" y="663"/>
                  </a:lnTo>
                  <a:lnTo>
                    <a:pt x="677" y="669"/>
                  </a:lnTo>
                  <a:lnTo>
                    <a:pt x="662" y="669"/>
                  </a:lnTo>
                  <a:lnTo>
                    <a:pt x="662" y="674"/>
                  </a:lnTo>
                  <a:lnTo>
                    <a:pt x="658" y="674"/>
                  </a:lnTo>
                  <a:lnTo>
                    <a:pt x="658" y="680"/>
                  </a:lnTo>
                  <a:lnTo>
                    <a:pt x="648" y="680"/>
                  </a:lnTo>
                  <a:lnTo>
                    <a:pt x="648" y="686"/>
                  </a:lnTo>
                  <a:lnTo>
                    <a:pt x="639" y="686"/>
                  </a:lnTo>
                  <a:lnTo>
                    <a:pt x="639" y="691"/>
                  </a:lnTo>
                  <a:lnTo>
                    <a:pt x="633" y="691"/>
                  </a:lnTo>
                  <a:lnTo>
                    <a:pt x="633" y="699"/>
                  </a:lnTo>
                  <a:lnTo>
                    <a:pt x="629" y="699"/>
                  </a:lnTo>
                  <a:lnTo>
                    <a:pt x="629" y="704"/>
                  </a:lnTo>
                  <a:lnTo>
                    <a:pt x="619" y="704"/>
                  </a:lnTo>
                  <a:lnTo>
                    <a:pt x="619" y="710"/>
                  </a:lnTo>
                  <a:lnTo>
                    <a:pt x="610" y="710"/>
                  </a:lnTo>
                  <a:lnTo>
                    <a:pt x="610" y="716"/>
                  </a:lnTo>
                  <a:lnTo>
                    <a:pt x="606" y="716"/>
                  </a:lnTo>
                  <a:lnTo>
                    <a:pt x="606" y="723"/>
                  </a:lnTo>
                  <a:lnTo>
                    <a:pt x="590" y="723"/>
                  </a:lnTo>
                  <a:lnTo>
                    <a:pt x="590" y="728"/>
                  </a:lnTo>
                  <a:lnTo>
                    <a:pt x="585" y="728"/>
                  </a:lnTo>
                  <a:lnTo>
                    <a:pt x="585" y="733"/>
                  </a:lnTo>
                  <a:lnTo>
                    <a:pt x="576" y="733"/>
                  </a:lnTo>
                  <a:lnTo>
                    <a:pt x="576" y="740"/>
                  </a:lnTo>
                  <a:lnTo>
                    <a:pt x="571" y="740"/>
                  </a:lnTo>
                  <a:lnTo>
                    <a:pt x="571" y="745"/>
                  </a:lnTo>
                  <a:lnTo>
                    <a:pt x="562" y="745"/>
                  </a:lnTo>
                  <a:lnTo>
                    <a:pt x="562" y="751"/>
                  </a:lnTo>
                  <a:lnTo>
                    <a:pt x="557" y="751"/>
                  </a:lnTo>
                  <a:lnTo>
                    <a:pt x="557" y="758"/>
                  </a:lnTo>
                  <a:lnTo>
                    <a:pt x="547" y="758"/>
                  </a:lnTo>
                  <a:lnTo>
                    <a:pt x="547" y="764"/>
                  </a:lnTo>
                  <a:lnTo>
                    <a:pt x="543" y="764"/>
                  </a:lnTo>
                  <a:lnTo>
                    <a:pt x="543" y="769"/>
                  </a:lnTo>
                  <a:lnTo>
                    <a:pt x="537" y="769"/>
                  </a:lnTo>
                  <a:lnTo>
                    <a:pt x="537" y="775"/>
                  </a:lnTo>
                  <a:lnTo>
                    <a:pt x="533" y="775"/>
                  </a:lnTo>
                  <a:lnTo>
                    <a:pt x="533" y="781"/>
                  </a:lnTo>
                  <a:lnTo>
                    <a:pt x="523" y="781"/>
                  </a:lnTo>
                  <a:lnTo>
                    <a:pt x="523" y="786"/>
                  </a:lnTo>
                  <a:lnTo>
                    <a:pt x="518" y="786"/>
                  </a:lnTo>
                  <a:lnTo>
                    <a:pt x="518" y="792"/>
                  </a:lnTo>
                  <a:lnTo>
                    <a:pt x="509" y="792"/>
                  </a:lnTo>
                  <a:lnTo>
                    <a:pt x="509" y="799"/>
                  </a:lnTo>
                  <a:lnTo>
                    <a:pt x="503" y="799"/>
                  </a:lnTo>
                  <a:lnTo>
                    <a:pt x="503" y="805"/>
                  </a:lnTo>
                  <a:lnTo>
                    <a:pt x="489" y="805"/>
                  </a:lnTo>
                  <a:lnTo>
                    <a:pt x="489" y="810"/>
                  </a:lnTo>
                  <a:lnTo>
                    <a:pt x="481" y="810"/>
                  </a:lnTo>
                  <a:lnTo>
                    <a:pt x="481" y="817"/>
                  </a:lnTo>
                  <a:lnTo>
                    <a:pt x="475" y="817"/>
                  </a:lnTo>
                  <a:lnTo>
                    <a:pt x="475" y="822"/>
                  </a:lnTo>
                  <a:lnTo>
                    <a:pt x="466" y="822"/>
                  </a:lnTo>
                  <a:lnTo>
                    <a:pt x="466" y="827"/>
                  </a:lnTo>
                  <a:lnTo>
                    <a:pt x="462" y="827"/>
                  </a:lnTo>
                  <a:lnTo>
                    <a:pt x="462" y="835"/>
                  </a:lnTo>
                  <a:lnTo>
                    <a:pt x="456" y="835"/>
                  </a:lnTo>
                  <a:lnTo>
                    <a:pt x="456" y="846"/>
                  </a:lnTo>
                  <a:lnTo>
                    <a:pt x="446" y="846"/>
                  </a:lnTo>
                  <a:lnTo>
                    <a:pt x="446" y="851"/>
                  </a:lnTo>
                  <a:lnTo>
                    <a:pt x="437" y="851"/>
                  </a:lnTo>
                  <a:lnTo>
                    <a:pt x="437" y="859"/>
                  </a:lnTo>
                  <a:lnTo>
                    <a:pt x="432" y="859"/>
                  </a:lnTo>
                  <a:lnTo>
                    <a:pt x="432" y="864"/>
                  </a:lnTo>
                  <a:lnTo>
                    <a:pt x="427" y="864"/>
                  </a:lnTo>
                  <a:lnTo>
                    <a:pt x="427" y="876"/>
                  </a:lnTo>
                  <a:lnTo>
                    <a:pt x="418" y="876"/>
                  </a:lnTo>
                  <a:lnTo>
                    <a:pt x="418" y="881"/>
                  </a:lnTo>
                  <a:lnTo>
                    <a:pt x="413" y="881"/>
                  </a:lnTo>
                  <a:lnTo>
                    <a:pt x="413" y="887"/>
                  </a:lnTo>
                  <a:lnTo>
                    <a:pt x="403" y="887"/>
                  </a:lnTo>
                  <a:lnTo>
                    <a:pt x="403" y="894"/>
                  </a:lnTo>
                  <a:lnTo>
                    <a:pt x="394" y="894"/>
                  </a:lnTo>
                  <a:lnTo>
                    <a:pt x="394" y="900"/>
                  </a:lnTo>
                  <a:lnTo>
                    <a:pt x="389" y="900"/>
                  </a:lnTo>
                  <a:lnTo>
                    <a:pt x="389" y="905"/>
                  </a:lnTo>
                  <a:lnTo>
                    <a:pt x="379" y="905"/>
                  </a:lnTo>
                  <a:lnTo>
                    <a:pt x="379" y="911"/>
                  </a:lnTo>
                  <a:lnTo>
                    <a:pt x="369" y="911"/>
                  </a:lnTo>
                  <a:lnTo>
                    <a:pt x="369" y="917"/>
                  </a:lnTo>
                  <a:lnTo>
                    <a:pt x="365" y="917"/>
                  </a:lnTo>
                  <a:lnTo>
                    <a:pt x="365" y="923"/>
                  </a:lnTo>
                  <a:lnTo>
                    <a:pt x="355" y="923"/>
                  </a:lnTo>
                  <a:lnTo>
                    <a:pt x="355" y="928"/>
                  </a:lnTo>
                  <a:lnTo>
                    <a:pt x="351" y="928"/>
                  </a:lnTo>
                  <a:lnTo>
                    <a:pt x="351" y="935"/>
                  </a:lnTo>
                  <a:lnTo>
                    <a:pt x="341" y="935"/>
                  </a:lnTo>
                  <a:lnTo>
                    <a:pt x="341" y="946"/>
                  </a:lnTo>
                  <a:lnTo>
                    <a:pt x="331" y="946"/>
                  </a:lnTo>
                  <a:lnTo>
                    <a:pt x="331" y="952"/>
                  </a:lnTo>
                  <a:lnTo>
                    <a:pt x="322" y="952"/>
                  </a:lnTo>
                  <a:lnTo>
                    <a:pt x="322" y="958"/>
                  </a:lnTo>
                  <a:lnTo>
                    <a:pt x="308" y="958"/>
                  </a:lnTo>
                  <a:lnTo>
                    <a:pt x="308" y="965"/>
                  </a:lnTo>
                  <a:lnTo>
                    <a:pt x="302" y="965"/>
                  </a:lnTo>
                  <a:lnTo>
                    <a:pt x="302" y="977"/>
                  </a:lnTo>
                  <a:lnTo>
                    <a:pt x="297" y="977"/>
                  </a:lnTo>
                  <a:lnTo>
                    <a:pt x="297" y="982"/>
                  </a:lnTo>
                  <a:lnTo>
                    <a:pt x="288" y="982"/>
                  </a:lnTo>
                  <a:lnTo>
                    <a:pt x="288" y="987"/>
                  </a:lnTo>
                  <a:lnTo>
                    <a:pt x="283" y="987"/>
                  </a:lnTo>
                  <a:lnTo>
                    <a:pt x="283" y="995"/>
                  </a:lnTo>
                  <a:lnTo>
                    <a:pt x="278" y="995"/>
                  </a:lnTo>
                  <a:lnTo>
                    <a:pt x="278" y="1000"/>
                  </a:lnTo>
                  <a:lnTo>
                    <a:pt x="269" y="1000"/>
                  </a:lnTo>
                  <a:lnTo>
                    <a:pt x="269" y="1005"/>
                  </a:lnTo>
                  <a:lnTo>
                    <a:pt x="264" y="1005"/>
                  </a:lnTo>
                  <a:lnTo>
                    <a:pt x="264" y="1012"/>
                  </a:lnTo>
                  <a:lnTo>
                    <a:pt x="255" y="1012"/>
                  </a:lnTo>
                  <a:lnTo>
                    <a:pt x="255" y="1017"/>
                  </a:lnTo>
                  <a:lnTo>
                    <a:pt x="245" y="1017"/>
                  </a:lnTo>
                  <a:lnTo>
                    <a:pt x="245" y="1023"/>
                  </a:lnTo>
                  <a:lnTo>
                    <a:pt x="235" y="1023"/>
                  </a:lnTo>
                  <a:lnTo>
                    <a:pt x="235" y="1028"/>
                  </a:lnTo>
                  <a:lnTo>
                    <a:pt x="230" y="1028"/>
                  </a:lnTo>
                  <a:lnTo>
                    <a:pt x="230" y="1036"/>
                  </a:lnTo>
                  <a:lnTo>
                    <a:pt x="225" y="1036"/>
                  </a:lnTo>
                  <a:lnTo>
                    <a:pt x="225" y="1041"/>
                  </a:lnTo>
                  <a:lnTo>
                    <a:pt x="221" y="1041"/>
                  </a:lnTo>
                  <a:lnTo>
                    <a:pt x="221" y="1046"/>
                  </a:lnTo>
                  <a:lnTo>
                    <a:pt x="215" y="1046"/>
                  </a:lnTo>
                  <a:lnTo>
                    <a:pt x="215" y="1053"/>
                  </a:lnTo>
                  <a:lnTo>
                    <a:pt x="211" y="1053"/>
                  </a:lnTo>
                  <a:lnTo>
                    <a:pt x="211" y="1071"/>
                  </a:lnTo>
                  <a:lnTo>
                    <a:pt x="201" y="1071"/>
                  </a:lnTo>
                  <a:lnTo>
                    <a:pt x="201" y="1077"/>
                  </a:lnTo>
                  <a:lnTo>
                    <a:pt x="196" y="1077"/>
                  </a:lnTo>
                  <a:lnTo>
                    <a:pt x="196" y="1088"/>
                  </a:lnTo>
                  <a:lnTo>
                    <a:pt x="192" y="1088"/>
                  </a:lnTo>
                  <a:lnTo>
                    <a:pt x="192" y="1094"/>
                  </a:lnTo>
                  <a:lnTo>
                    <a:pt x="173" y="1094"/>
                  </a:lnTo>
                  <a:lnTo>
                    <a:pt x="173" y="1099"/>
                  </a:lnTo>
                  <a:lnTo>
                    <a:pt x="168" y="1099"/>
                  </a:lnTo>
                  <a:lnTo>
                    <a:pt x="168" y="1106"/>
                  </a:lnTo>
                  <a:lnTo>
                    <a:pt x="159" y="1106"/>
                  </a:lnTo>
                  <a:lnTo>
                    <a:pt x="159" y="1112"/>
                  </a:lnTo>
                  <a:lnTo>
                    <a:pt x="153" y="1112"/>
                  </a:lnTo>
                  <a:lnTo>
                    <a:pt x="153" y="1118"/>
                  </a:lnTo>
                  <a:lnTo>
                    <a:pt x="148" y="1118"/>
                  </a:lnTo>
                  <a:lnTo>
                    <a:pt x="148" y="1131"/>
                  </a:lnTo>
                  <a:lnTo>
                    <a:pt x="139" y="1131"/>
                  </a:lnTo>
                  <a:lnTo>
                    <a:pt x="139" y="1136"/>
                  </a:lnTo>
                  <a:lnTo>
                    <a:pt x="130" y="1136"/>
                  </a:lnTo>
                  <a:lnTo>
                    <a:pt x="130" y="1142"/>
                  </a:lnTo>
                  <a:lnTo>
                    <a:pt x="115" y="1142"/>
                  </a:lnTo>
                  <a:lnTo>
                    <a:pt x="115" y="1147"/>
                  </a:lnTo>
                  <a:lnTo>
                    <a:pt x="111" y="1147"/>
                  </a:lnTo>
                  <a:lnTo>
                    <a:pt x="111" y="1159"/>
                  </a:lnTo>
                  <a:lnTo>
                    <a:pt x="105" y="1159"/>
                  </a:lnTo>
                  <a:lnTo>
                    <a:pt x="105" y="1164"/>
                  </a:lnTo>
                  <a:lnTo>
                    <a:pt x="97" y="1164"/>
                  </a:lnTo>
                  <a:lnTo>
                    <a:pt x="97" y="1177"/>
                  </a:lnTo>
                  <a:lnTo>
                    <a:pt x="87" y="1177"/>
                  </a:lnTo>
                  <a:lnTo>
                    <a:pt x="87" y="1183"/>
                  </a:lnTo>
                  <a:lnTo>
                    <a:pt x="57" y="1183"/>
                  </a:lnTo>
                  <a:lnTo>
                    <a:pt x="57" y="1189"/>
                  </a:lnTo>
                  <a:lnTo>
                    <a:pt x="43" y="1189"/>
                  </a:lnTo>
                  <a:lnTo>
                    <a:pt x="43" y="1194"/>
                  </a:lnTo>
                  <a:lnTo>
                    <a:pt x="15" y="1194"/>
                  </a:lnTo>
                  <a:lnTo>
                    <a:pt x="15" y="1189"/>
                  </a:lnTo>
                  <a:lnTo>
                    <a:pt x="4" y="1189"/>
                  </a:lnTo>
                  <a:lnTo>
                    <a:pt x="4" y="1183"/>
                  </a:lnTo>
                  <a:lnTo>
                    <a:pt x="0" y="1183"/>
                  </a:lnTo>
                  <a:lnTo>
                    <a:pt x="0" y="114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08080" y="2888640"/>
              <a:ext cx="421920" cy="301680"/>
            </a:xfrm>
            <a:custGeom>
              <a:avLst/>
              <a:gdLst/>
              <a:ahLst/>
              <a:rect l="l" t="t" r="r" b="b"/>
              <a:pathLst>
                <a:path w="1623" h="1549">
                  <a:moveTo>
                    <a:pt x="0" y="1059"/>
                  </a:moveTo>
                  <a:lnTo>
                    <a:pt x="5" y="1059"/>
                  </a:lnTo>
                  <a:lnTo>
                    <a:pt x="5" y="1052"/>
                  </a:lnTo>
                  <a:lnTo>
                    <a:pt x="9" y="1052"/>
                  </a:lnTo>
                  <a:lnTo>
                    <a:pt x="9" y="1041"/>
                  </a:lnTo>
                  <a:lnTo>
                    <a:pt x="15" y="1041"/>
                  </a:lnTo>
                  <a:lnTo>
                    <a:pt x="15" y="1029"/>
                  </a:lnTo>
                  <a:lnTo>
                    <a:pt x="19" y="1029"/>
                  </a:lnTo>
                  <a:lnTo>
                    <a:pt x="19" y="1016"/>
                  </a:lnTo>
                  <a:lnTo>
                    <a:pt x="24" y="1016"/>
                  </a:lnTo>
                  <a:lnTo>
                    <a:pt x="24" y="1005"/>
                  </a:lnTo>
                  <a:lnTo>
                    <a:pt x="29" y="1005"/>
                  </a:lnTo>
                  <a:lnTo>
                    <a:pt x="29" y="1000"/>
                  </a:lnTo>
                  <a:lnTo>
                    <a:pt x="33" y="1000"/>
                  </a:lnTo>
                  <a:lnTo>
                    <a:pt x="33" y="994"/>
                  </a:lnTo>
                  <a:lnTo>
                    <a:pt x="38" y="994"/>
                  </a:lnTo>
                  <a:lnTo>
                    <a:pt x="38" y="970"/>
                  </a:lnTo>
                  <a:lnTo>
                    <a:pt x="43" y="970"/>
                  </a:lnTo>
                  <a:lnTo>
                    <a:pt x="43" y="964"/>
                  </a:lnTo>
                  <a:lnTo>
                    <a:pt x="49" y="964"/>
                  </a:lnTo>
                  <a:lnTo>
                    <a:pt x="49" y="953"/>
                  </a:lnTo>
                  <a:lnTo>
                    <a:pt x="53" y="953"/>
                  </a:lnTo>
                  <a:lnTo>
                    <a:pt x="53" y="940"/>
                  </a:lnTo>
                  <a:lnTo>
                    <a:pt x="58" y="940"/>
                  </a:lnTo>
                  <a:lnTo>
                    <a:pt x="58" y="934"/>
                  </a:lnTo>
                  <a:lnTo>
                    <a:pt x="63" y="934"/>
                  </a:lnTo>
                  <a:lnTo>
                    <a:pt x="63" y="923"/>
                  </a:lnTo>
                  <a:lnTo>
                    <a:pt x="67" y="923"/>
                  </a:lnTo>
                  <a:lnTo>
                    <a:pt x="67" y="910"/>
                  </a:lnTo>
                  <a:lnTo>
                    <a:pt x="72" y="910"/>
                  </a:lnTo>
                  <a:lnTo>
                    <a:pt x="72" y="899"/>
                  </a:lnTo>
                  <a:lnTo>
                    <a:pt x="77" y="899"/>
                  </a:lnTo>
                  <a:lnTo>
                    <a:pt x="77" y="893"/>
                  </a:lnTo>
                  <a:lnTo>
                    <a:pt x="82" y="893"/>
                  </a:lnTo>
                  <a:lnTo>
                    <a:pt x="82" y="888"/>
                  </a:lnTo>
                  <a:lnTo>
                    <a:pt x="86" y="888"/>
                  </a:lnTo>
                  <a:lnTo>
                    <a:pt x="86" y="875"/>
                  </a:lnTo>
                  <a:lnTo>
                    <a:pt x="91" y="875"/>
                  </a:lnTo>
                  <a:lnTo>
                    <a:pt x="91" y="869"/>
                  </a:lnTo>
                  <a:lnTo>
                    <a:pt x="96" y="869"/>
                  </a:lnTo>
                  <a:lnTo>
                    <a:pt x="96" y="856"/>
                  </a:lnTo>
                  <a:lnTo>
                    <a:pt x="101" y="856"/>
                  </a:lnTo>
                  <a:lnTo>
                    <a:pt x="101" y="846"/>
                  </a:lnTo>
                  <a:lnTo>
                    <a:pt x="105" y="846"/>
                  </a:lnTo>
                  <a:lnTo>
                    <a:pt x="105" y="834"/>
                  </a:lnTo>
                  <a:lnTo>
                    <a:pt x="110" y="834"/>
                  </a:lnTo>
                  <a:lnTo>
                    <a:pt x="110" y="828"/>
                  </a:lnTo>
                  <a:lnTo>
                    <a:pt x="116" y="828"/>
                  </a:lnTo>
                  <a:lnTo>
                    <a:pt x="116" y="823"/>
                  </a:lnTo>
                  <a:lnTo>
                    <a:pt x="120" y="823"/>
                  </a:lnTo>
                  <a:lnTo>
                    <a:pt x="120" y="804"/>
                  </a:lnTo>
                  <a:lnTo>
                    <a:pt x="126" y="804"/>
                  </a:lnTo>
                  <a:lnTo>
                    <a:pt x="126" y="798"/>
                  </a:lnTo>
                  <a:lnTo>
                    <a:pt x="130" y="798"/>
                  </a:lnTo>
                  <a:lnTo>
                    <a:pt x="130" y="787"/>
                  </a:lnTo>
                  <a:lnTo>
                    <a:pt x="135" y="787"/>
                  </a:lnTo>
                  <a:lnTo>
                    <a:pt x="135" y="769"/>
                  </a:lnTo>
                  <a:lnTo>
                    <a:pt x="139" y="769"/>
                  </a:lnTo>
                  <a:lnTo>
                    <a:pt x="139" y="750"/>
                  </a:lnTo>
                  <a:lnTo>
                    <a:pt x="145" y="750"/>
                  </a:lnTo>
                  <a:lnTo>
                    <a:pt x="145" y="745"/>
                  </a:lnTo>
                  <a:lnTo>
                    <a:pt x="149" y="745"/>
                  </a:lnTo>
                  <a:lnTo>
                    <a:pt x="149" y="739"/>
                  </a:lnTo>
                  <a:lnTo>
                    <a:pt x="153" y="739"/>
                  </a:lnTo>
                  <a:lnTo>
                    <a:pt x="153" y="728"/>
                  </a:lnTo>
                  <a:lnTo>
                    <a:pt x="159" y="728"/>
                  </a:lnTo>
                  <a:lnTo>
                    <a:pt x="159" y="720"/>
                  </a:lnTo>
                  <a:lnTo>
                    <a:pt x="163" y="720"/>
                  </a:lnTo>
                  <a:lnTo>
                    <a:pt x="163" y="715"/>
                  </a:lnTo>
                  <a:lnTo>
                    <a:pt x="167" y="715"/>
                  </a:lnTo>
                  <a:lnTo>
                    <a:pt x="167" y="709"/>
                  </a:lnTo>
                  <a:lnTo>
                    <a:pt x="173" y="709"/>
                  </a:lnTo>
                  <a:lnTo>
                    <a:pt x="173" y="704"/>
                  </a:lnTo>
                  <a:lnTo>
                    <a:pt x="177" y="704"/>
                  </a:lnTo>
                  <a:lnTo>
                    <a:pt x="177" y="692"/>
                  </a:lnTo>
                  <a:lnTo>
                    <a:pt x="182" y="692"/>
                  </a:lnTo>
                  <a:lnTo>
                    <a:pt x="182" y="687"/>
                  </a:lnTo>
                  <a:lnTo>
                    <a:pt x="187" y="687"/>
                  </a:lnTo>
                  <a:lnTo>
                    <a:pt x="187" y="679"/>
                  </a:lnTo>
                  <a:lnTo>
                    <a:pt x="193" y="679"/>
                  </a:lnTo>
                  <a:lnTo>
                    <a:pt x="193" y="668"/>
                  </a:lnTo>
                  <a:lnTo>
                    <a:pt x="197" y="668"/>
                  </a:lnTo>
                  <a:lnTo>
                    <a:pt x="197" y="662"/>
                  </a:lnTo>
                  <a:lnTo>
                    <a:pt x="201" y="662"/>
                  </a:lnTo>
                  <a:lnTo>
                    <a:pt x="201" y="651"/>
                  </a:lnTo>
                  <a:lnTo>
                    <a:pt x="207" y="651"/>
                  </a:lnTo>
                  <a:lnTo>
                    <a:pt x="207" y="646"/>
                  </a:lnTo>
                  <a:lnTo>
                    <a:pt x="211" y="646"/>
                  </a:lnTo>
                  <a:lnTo>
                    <a:pt x="211" y="633"/>
                  </a:lnTo>
                  <a:lnTo>
                    <a:pt x="216" y="633"/>
                  </a:lnTo>
                  <a:lnTo>
                    <a:pt x="216" y="621"/>
                  </a:lnTo>
                  <a:lnTo>
                    <a:pt x="221" y="621"/>
                  </a:lnTo>
                  <a:lnTo>
                    <a:pt x="221" y="609"/>
                  </a:lnTo>
                  <a:lnTo>
                    <a:pt x="226" y="609"/>
                  </a:lnTo>
                  <a:lnTo>
                    <a:pt x="226" y="603"/>
                  </a:lnTo>
                  <a:lnTo>
                    <a:pt x="230" y="603"/>
                  </a:lnTo>
                  <a:lnTo>
                    <a:pt x="230" y="592"/>
                  </a:lnTo>
                  <a:lnTo>
                    <a:pt x="235" y="592"/>
                  </a:lnTo>
                  <a:lnTo>
                    <a:pt x="235" y="579"/>
                  </a:lnTo>
                  <a:lnTo>
                    <a:pt x="240" y="579"/>
                  </a:lnTo>
                  <a:lnTo>
                    <a:pt x="240" y="574"/>
                  </a:lnTo>
                  <a:lnTo>
                    <a:pt x="244" y="574"/>
                  </a:lnTo>
                  <a:lnTo>
                    <a:pt x="244" y="562"/>
                  </a:lnTo>
                  <a:lnTo>
                    <a:pt x="249" y="562"/>
                  </a:lnTo>
                  <a:lnTo>
                    <a:pt x="249" y="551"/>
                  </a:lnTo>
                  <a:lnTo>
                    <a:pt x="254" y="551"/>
                  </a:lnTo>
                  <a:lnTo>
                    <a:pt x="254" y="538"/>
                  </a:lnTo>
                  <a:lnTo>
                    <a:pt x="260" y="538"/>
                  </a:lnTo>
                  <a:lnTo>
                    <a:pt x="260" y="533"/>
                  </a:lnTo>
                  <a:lnTo>
                    <a:pt x="264" y="533"/>
                  </a:lnTo>
                  <a:lnTo>
                    <a:pt x="264" y="521"/>
                  </a:lnTo>
                  <a:lnTo>
                    <a:pt x="270" y="521"/>
                  </a:lnTo>
                  <a:lnTo>
                    <a:pt x="270" y="510"/>
                  </a:lnTo>
                  <a:lnTo>
                    <a:pt x="274" y="510"/>
                  </a:lnTo>
                  <a:lnTo>
                    <a:pt x="274" y="497"/>
                  </a:lnTo>
                  <a:lnTo>
                    <a:pt x="283" y="497"/>
                  </a:lnTo>
                  <a:lnTo>
                    <a:pt x="283" y="485"/>
                  </a:lnTo>
                  <a:lnTo>
                    <a:pt x="288" y="485"/>
                  </a:lnTo>
                  <a:lnTo>
                    <a:pt x="288" y="473"/>
                  </a:lnTo>
                  <a:lnTo>
                    <a:pt x="293" y="473"/>
                  </a:lnTo>
                  <a:lnTo>
                    <a:pt x="293" y="467"/>
                  </a:lnTo>
                  <a:lnTo>
                    <a:pt x="297" y="467"/>
                  </a:lnTo>
                  <a:lnTo>
                    <a:pt x="297" y="456"/>
                  </a:lnTo>
                  <a:lnTo>
                    <a:pt x="303" y="456"/>
                  </a:lnTo>
                  <a:lnTo>
                    <a:pt x="303" y="443"/>
                  </a:lnTo>
                  <a:lnTo>
                    <a:pt x="307" y="443"/>
                  </a:lnTo>
                  <a:lnTo>
                    <a:pt x="307" y="432"/>
                  </a:lnTo>
                  <a:lnTo>
                    <a:pt x="312" y="432"/>
                  </a:lnTo>
                  <a:lnTo>
                    <a:pt x="312" y="426"/>
                  </a:lnTo>
                  <a:lnTo>
                    <a:pt x="317" y="426"/>
                  </a:lnTo>
                  <a:lnTo>
                    <a:pt x="317" y="415"/>
                  </a:lnTo>
                  <a:lnTo>
                    <a:pt x="322" y="415"/>
                  </a:lnTo>
                  <a:lnTo>
                    <a:pt x="322" y="409"/>
                  </a:lnTo>
                  <a:lnTo>
                    <a:pt x="326" y="409"/>
                  </a:lnTo>
                  <a:lnTo>
                    <a:pt x="326" y="402"/>
                  </a:lnTo>
                  <a:lnTo>
                    <a:pt x="332" y="402"/>
                  </a:lnTo>
                  <a:lnTo>
                    <a:pt x="332" y="391"/>
                  </a:lnTo>
                  <a:lnTo>
                    <a:pt x="337" y="391"/>
                  </a:lnTo>
                  <a:lnTo>
                    <a:pt x="337" y="384"/>
                  </a:lnTo>
                  <a:lnTo>
                    <a:pt x="341" y="384"/>
                  </a:lnTo>
                  <a:lnTo>
                    <a:pt x="341" y="379"/>
                  </a:lnTo>
                  <a:lnTo>
                    <a:pt x="346" y="379"/>
                  </a:lnTo>
                  <a:lnTo>
                    <a:pt x="346" y="366"/>
                  </a:lnTo>
                  <a:lnTo>
                    <a:pt x="351" y="366"/>
                  </a:lnTo>
                  <a:lnTo>
                    <a:pt x="351" y="355"/>
                  </a:lnTo>
                  <a:lnTo>
                    <a:pt x="356" y="355"/>
                  </a:lnTo>
                  <a:lnTo>
                    <a:pt x="356" y="342"/>
                  </a:lnTo>
                  <a:lnTo>
                    <a:pt x="360" y="342"/>
                  </a:lnTo>
                  <a:lnTo>
                    <a:pt x="360" y="337"/>
                  </a:lnTo>
                  <a:lnTo>
                    <a:pt x="365" y="337"/>
                  </a:lnTo>
                  <a:lnTo>
                    <a:pt x="365" y="325"/>
                  </a:lnTo>
                  <a:lnTo>
                    <a:pt x="370" y="325"/>
                  </a:lnTo>
                  <a:lnTo>
                    <a:pt x="370" y="314"/>
                  </a:lnTo>
                  <a:lnTo>
                    <a:pt x="374" y="314"/>
                  </a:lnTo>
                  <a:lnTo>
                    <a:pt x="374" y="307"/>
                  </a:lnTo>
                  <a:lnTo>
                    <a:pt x="379" y="307"/>
                  </a:lnTo>
                  <a:lnTo>
                    <a:pt x="379" y="296"/>
                  </a:lnTo>
                  <a:lnTo>
                    <a:pt x="384" y="296"/>
                  </a:lnTo>
                  <a:lnTo>
                    <a:pt x="384" y="284"/>
                  </a:lnTo>
                  <a:lnTo>
                    <a:pt x="389" y="284"/>
                  </a:lnTo>
                  <a:lnTo>
                    <a:pt x="389" y="272"/>
                  </a:lnTo>
                  <a:lnTo>
                    <a:pt x="393" y="272"/>
                  </a:lnTo>
                  <a:lnTo>
                    <a:pt x="393" y="266"/>
                  </a:lnTo>
                  <a:lnTo>
                    <a:pt x="399" y="266"/>
                  </a:lnTo>
                  <a:lnTo>
                    <a:pt x="399" y="260"/>
                  </a:lnTo>
                  <a:lnTo>
                    <a:pt x="404" y="260"/>
                  </a:lnTo>
                  <a:lnTo>
                    <a:pt x="404" y="248"/>
                  </a:lnTo>
                  <a:lnTo>
                    <a:pt x="409" y="248"/>
                  </a:lnTo>
                  <a:lnTo>
                    <a:pt x="409" y="243"/>
                  </a:lnTo>
                  <a:lnTo>
                    <a:pt x="414" y="243"/>
                  </a:lnTo>
                  <a:lnTo>
                    <a:pt x="414" y="225"/>
                  </a:lnTo>
                  <a:lnTo>
                    <a:pt x="418" y="225"/>
                  </a:lnTo>
                  <a:lnTo>
                    <a:pt x="418" y="219"/>
                  </a:lnTo>
                  <a:lnTo>
                    <a:pt x="423" y="219"/>
                  </a:lnTo>
                  <a:lnTo>
                    <a:pt x="423" y="206"/>
                  </a:lnTo>
                  <a:lnTo>
                    <a:pt x="427" y="206"/>
                  </a:lnTo>
                  <a:lnTo>
                    <a:pt x="427" y="201"/>
                  </a:lnTo>
                  <a:lnTo>
                    <a:pt x="433" y="201"/>
                  </a:lnTo>
                  <a:lnTo>
                    <a:pt x="433" y="189"/>
                  </a:lnTo>
                  <a:lnTo>
                    <a:pt x="437" y="189"/>
                  </a:lnTo>
                  <a:lnTo>
                    <a:pt x="437" y="184"/>
                  </a:lnTo>
                  <a:lnTo>
                    <a:pt x="442" y="184"/>
                  </a:lnTo>
                  <a:lnTo>
                    <a:pt x="442" y="173"/>
                  </a:lnTo>
                  <a:lnTo>
                    <a:pt x="447" y="173"/>
                  </a:lnTo>
                  <a:lnTo>
                    <a:pt x="447" y="166"/>
                  </a:lnTo>
                  <a:lnTo>
                    <a:pt x="451" y="166"/>
                  </a:lnTo>
                  <a:lnTo>
                    <a:pt x="451" y="155"/>
                  </a:lnTo>
                  <a:lnTo>
                    <a:pt x="456" y="155"/>
                  </a:lnTo>
                  <a:lnTo>
                    <a:pt x="456" y="148"/>
                  </a:lnTo>
                  <a:lnTo>
                    <a:pt x="461" y="148"/>
                  </a:lnTo>
                  <a:lnTo>
                    <a:pt x="461" y="136"/>
                  </a:lnTo>
                  <a:lnTo>
                    <a:pt x="466" y="136"/>
                  </a:lnTo>
                  <a:lnTo>
                    <a:pt x="466" y="130"/>
                  </a:lnTo>
                  <a:lnTo>
                    <a:pt x="470" y="130"/>
                  </a:lnTo>
                  <a:lnTo>
                    <a:pt x="470" y="119"/>
                  </a:lnTo>
                  <a:lnTo>
                    <a:pt x="476" y="119"/>
                  </a:lnTo>
                  <a:lnTo>
                    <a:pt x="476" y="113"/>
                  </a:lnTo>
                  <a:lnTo>
                    <a:pt x="481" y="113"/>
                  </a:lnTo>
                  <a:lnTo>
                    <a:pt x="481" y="102"/>
                  </a:lnTo>
                  <a:lnTo>
                    <a:pt x="486" y="102"/>
                  </a:lnTo>
                  <a:lnTo>
                    <a:pt x="486" y="95"/>
                  </a:lnTo>
                  <a:lnTo>
                    <a:pt x="490" y="95"/>
                  </a:lnTo>
                  <a:lnTo>
                    <a:pt x="490" y="89"/>
                  </a:lnTo>
                  <a:lnTo>
                    <a:pt x="495" y="89"/>
                  </a:lnTo>
                  <a:lnTo>
                    <a:pt x="495" y="83"/>
                  </a:lnTo>
                  <a:lnTo>
                    <a:pt x="500" y="83"/>
                  </a:lnTo>
                  <a:lnTo>
                    <a:pt x="500" y="70"/>
                  </a:lnTo>
                  <a:lnTo>
                    <a:pt x="504" y="70"/>
                  </a:lnTo>
                  <a:lnTo>
                    <a:pt x="504" y="60"/>
                  </a:lnTo>
                  <a:lnTo>
                    <a:pt x="509" y="60"/>
                  </a:lnTo>
                  <a:lnTo>
                    <a:pt x="509" y="48"/>
                  </a:lnTo>
                  <a:lnTo>
                    <a:pt x="514" y="48"/>
                  </a:lnTo>
                  <a:lnTo>
                    <a:pt x="514" y="42"/>
                  </a:lnTo>
                  <a:lnTo>
                    <a:pt x="518" y="42"/>
                  </a:lnTo>
                  <a:lnTo>
                    <a:pt x="518" y="37"/>
                  </a:lnTo>
                  <a:lnTo>
                    <a:pt x="523" y="37"/>
                  </a:lnTo>
                  <a:lnTo>
                    <a:pt x="523" y="24"/>
                  </a:lnTo>
                  <a:lnTo>
                    <a:pt x="528" y="24"/>
                  </a:lnTo>
                  <a:lnTo>
                    <a:pt x="528" y="12"/>
                  </a:lnTo>
                  <a:lnTo>
                    <a:pt x="533" y="12"/>
                  </a:lnTo>
                  <a:lnTo>
                    <a:pt x="533" y="7"/>
                  </a:lnTo>
                  <a:lnTo>
                    <a:pt x="542" y="7"/>
                  </a:lnTo>
                  <a:lnTo>
                    <a:pt x="542" y="0"/>
                  </a:lnTo>
                  <a:lnTo>
                    <a:pt x="558" y="0"/>
                  </a:lnTo>
                  <a:lnTo>
                    <a:pt x="558" y="7"/>
                  </a:lnTo>
                  <a:lnTo>
                    <a:pt x="562" y="7"/>
                  </a:lnTo>
                  <a:lnTo>
                    <a:pt x="562" y="12"/>
                  </a:lnTo>
                  <a:lnTo>
                    <a:pt x="567" y="12"/>
                  </a:lnTo>
                  <a:lnTo>
                    <a:pt x="567" y="18"/>
                  </a:lnTo>
                  <a:lnTo>
                    <a:pt x="571" y="18"/>
                  </a:lnTo>
                  <a:lnTo>
                    <a:pt x="571" y="60"/>
                  </a:lnTo>
                  <a:lnTo>
                    <a:pt x="567" y="60"/>
                  </a:lnTo>
                  <a:lnTo>
                    <a:pt x="567" y="78"/>
                  </a:lnTo>
                  <a:lnTo>
                    <a:pt x="562" y="78"/>
                  </a:lnTo>
                  <a:lnTo>
                    <a:pt x="562" y="89"/>
                  </a:lnTo>
                  <a:lnTo>
                    <a:pt x="558" y="89"/>
                  </a:lnTo>
                  <a:lnTo>
                    <a:pt x="558" y="95"/>
                  </a:lnTo>
                  <a:lnTo>
                    <a:pt x="552" y="95"/>
                  </a:lnTo>
                  <a:lnTo>
                    <a:pt x="552" y="107"/>
                  </a:lnTo>
                  <a:lnTo>
                    <a:pt x="548" y="107"/>
                  </a:lnTo>
                  <a:lnTo>
                    <a:pt x="548" y="113"/>
                  </a:lnTo>
                  <a:lnTo>
                    <a:pt x="542" y="113"/>
                  </a:lnTo>
                  <a:lnTo>
                    <a:pt x="542" y="119"/>
                  </a:lnTo>
                  <a:lnTo>
                    <a:pt x="537" y="119"/>
                  </a:lnTo>
                  <a:lnTo>
                    <a:pt x="537" y="130"/>
                  </a:lnTo>
                  <a:lnTo>
                    <a:pt x="533" y="130"/>
                  </a:lnTo>
                  <a:lnTo>
                    <a:pt x="533" y="136"/>
                  </a:lnTo>
                  <a:lnTo>
                    <a:pt x="528" y="136"/>
                  </a:lnTo>
                  <a:lnTo>
                    <a:pt x="528" y="148"/>
                  </a:lnTo>
                  <a:lnTo>
                    <a:pt x="523" y="148"/>
                  </a:lnTo>
                  <a:lnTo>
                    <a:pt x="523" y="155"/>
                  </a:lnTo>
                  <a:lnTo>
                    <a:pt x="518" y="155"/>
                  </a:lnTo>
                  <a:lnTo>
                    <a:pt x="518" y="166"/>
                  </a:lnTo>
                  <a:lnTo>
                    <a:pt x="514" y="166"/>
                  </a:lnTo>
                  <a:lnTo>
                    <a:pt x="514" y="173"/>
                  </a:lnTo>
                  <a:lnTo>
                    <a:pt x="509" y="173"/>
                  </a:lnTo>
                  <a:lnTo>
                    <a:pt x="509" y="184"/>
                  </a:lnTo>
                  <a:lnTo>
                    <a:pt x="504" y="184"/>
                  </a:lnTo>
                  <a:lnTo>
                    <a:pt x="504" y="189"/>
                  </a:lnTo>
                  <a:lnTo>
                    <a:pt x="500" y="189"/>
                  </a:lnTo>
                  <a:lnTo>
                    <a:pt x="500" y="201"/>
                  </a:lnTo>
                  <a:lnTo>
                    <a:pt x="495" y="201"/>
                  </a:lnTo>
                  <a:lnTo>
                    <a:pt x="495" y="206"/>
                  </a:lnTo>
                  <a:lnTo>
                    <a:pt x="490" y="206"/>
                  </a:lnTo>
                  <a:lnTo>
                    <a:pt x="490" y="214"/>
                  </a:lnTo>
                  <a:lnTo>
                    <a:pt x="481" y="214"/>
                  </a:lnTo>
                  <a:lnTo>
                    <a:pt x="481" y="225"/>
                  </a:lnTo>
                  <a:lnTo>
                    <a:pt x="476" y="225"/>
                  </a:lnTo>
                  <a:lnTo>
                    <a:pt x="476" y="236"/>
                  </a:lnTo>
                  <a:lnTo>
                    <a:pt x="470" y="236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6" y="255"/>
                  </a:lnTo>
                  <a:lnTo>
                    <a:pt x="461" y="255"/>
                  </a:lnTo>
                  <a:lnTo>
                    <a:pt x="461" y="266"/>
                  </a:lnTo>
                  <a:lnTo>
                    <a:pt x="456" y="266"/>
                  </a:lnTo>
                  <a:lnTo>
                    <a:pt x="456" y="272"/>
                  </a:lnTo>
                  <a:lnTo>
                    <a:pt x="451" y="272"/>
                  </a:lnTo>
                  <a:lnTo>
                    <a:pt x="451" y="284"/>
                  </a:lnTo>
                  <a:lnTo>
                    <a:pt x="447" y="284"/>
                  </a:lnTo>
                  <a:lnTo>
                    <a:pt x="447" y="301"/>
                  </a:lnTo>
                  <a:lnTo>
                    <a:pt x="442" y="301"/>
                  </a:lnTo>
                  <a:lnTo>
                    <a:pt x="442" y="307"/>
                  </a:lnTo>
                  <a:lnTo>
                    <a:pt x="437" y="307"/>
                  </a:lnTo>
                  <a:lnTo>
                    <a:pt x="437" y="320"/>
                  </a:lnTo>
                  <a:lnTo>
                    <a:pt x="433" y="320"/>
                  </a:lnTo>
                  <a:lnTo>
                    <a:pt x="433" y="325"/>
                  </a:lnTo>
                  <a:lnTo>
                    <a:pt x="427" y="325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3" y="337"/>
                  </a:lnTo>
                  <a:lnTo>
                    <a:pt x="418" y="337"/>
                  </a:lnTo>
                  <a:lnTo>
                    <a:pt x="418" y="350"/>
                  </a:lnTo>
                  <a:lnTo>
                    <a:pt x="414" y="350"/>
                  </a:lnTo>
                  <a:lnTo>
                    <a:pt x="414" y="366"/>
                  </a:lnTo>
                  <a:lnTo>
                    <a:pt x="409" y="366"/>
                  </a:lnTo>
                  <a:lnTo>
                    <a:pt x="409" y="374"/>
                  </a:lnTo>
                  <a:lnTo>
                    <a:pt x="404" y="374"/>
                  </a:lnTo>
                  <a:lnTo>
                    <a:pt x="404" y="384"/>
                  </a:lnTo>
                  <a:lnTo>
                    <a:pt x="399" y="384"/>
                  </a:lnTo>
                  <a:lnTo>
                    <a:pt x="399" y="396"/>
                  </a:lnTo>
                  <a:lnTo>
                    <a:pt x="393" y="396"/>
                  </a:lnTo>
                  <a:lnTo>
                    <a:pt x="393" y="402"/>
                  </a:lnTo>
                  <a:lnTo>
                    <a:pt x="389" y="402"/>
                  </a:lnTo>
                  <a:lnTo>
                    <a:pt x="389" y="409"/>
                  </a:lnTo>
                  <a:lnTo>
                    <a:pt x="384" y="409"/>
                  </a:lnTo>
                  <a:lnTo>
                    <a:pt x="384" y="415"/>
                  </a:lnTo>
                  <a:lnTo>
                    <a:pt x="379" y="415"/>
                  </a:lnTo>
                  <a:lnTo>
                    <a:pt x="379" y="426"/>
                  </a:lnTo>
                  <a:lnTo>
                    <a:pt x="374" y="426"/>
                  </a:lnTo>
                  <a:lnTo>
                    <a:pt x="374" y="432"/>
                  </a:lnTo>
                  <a:lnTo>
                    <a:pt x="370" y="432"/>
                  </a:lnTo>
                  <a:lnTo>
                    <a:pt x="370" y="443"/>
                  </a:lnTo>
                  <a:lnTo>
                    <a:pt x="365" y="443"/>
                  </a:lnTo>
                  <a:lnTo>
                    <a:pt x="365" y="456"/>
                  </a:lnTo>
                  <a:lnTo>
                    <a:pt x="360" y="456"/>
                  </a:lnTo>
                  <a:lnTo>
                    <a:pt x="360" y="467"/>
                  </a:lnTo>
                  <a:lnTo>
                    <a:pt x="356" y="467"/>
                  </a:lnTo>
                  <a:lnTo>
                    <a:pt x="356" y="480"/>
                  </a:lnTo>
                  <a:lnTo>
                    <a:pt x="351" y="480"/>
                  </a:lnTo>
                  <a:lnTo>
                    <a:pt x="351" y="485"/>
                  </a:lnTo>
                  <a:lnTo>
                    <a:pt x="346" y="485"/>
                  </a:lnTo>
                  <a:lnTo>
                    <a:pt x="346" y="497"/>
                  </a:lnTo>
                  <a:lnTo>
                    <a:pt x="341" y="497"/>
                  </a:lnTo>
                  <a:lnTo>
                    <a:pt x="341" y="510"/>
                  </a:lnTo>
                  <a:lnTo>
                    <a:pt x="337" y="510"/>
                  </a:lnTo>
                  <a:lnTo>
                    <a:pt x="337" y="515"/>
                  </a:lnTo>
                  <a:lnTo>
                    <a:pt x="332" y="515"/>
                  </a:lnTo>
                  <a:lnTo>
                    <a:pt x="332" y="521"/>
                  </a:lnTo>
                  <a:lnTo>
                    <a:pt x="326" y="521"/>
                  </a:lnTo>
                  <a:lnTo>
                    <a:pt x="326" y="533"/>
                  </a:lnTo>
                  <a:lnTo>
                    <a:pt x="322" y="533"/>
                  </a:lnTo>
                  <a:lnTo>
                    <a:pt x="322" y="538"/>
                  </a:lnTo>
                  <a:lnTo>
                    <a:pt x="317" y="538"/>
                  </a:lnTo>
                  <a:lnTo>
                    <a:pt x="317" y="543"/>
                  </a:lnTo>
                  <a:lnTo>
                    <a:pt x="312" y="543"/>
                  </a:lnTo>
                  <a:lnTo>
                    <a:pt x="312" y="556"/>
                  </a:lnTo>
                  <a:lnTo>
                    <a:pt x="307" y="556"/>
                  </a:lnTo>
                  <a:lnTo>
                    <a:pt x="307" y="562"/>
                  </a:lnTo>
                  <a:lnTo>
                    <a:pt x="303" y="562"/>
                  </a:lnTo>
                  <a:lnTo>
                    <a:pt x="303" y="568"/>
                  </a:lnTo>
                  <a:lnTo>
                    <a:pt x="297" y="568"/>
                  </a:lnTo>
                  <a:lnTo>
                    <a:pt x="297" y="579"/>
                  </a:lnTo>
                  <a:lnTo>
                    <a:pt x="293" y="579"/>
                  </a:lnTo>
                  <a:lnTo>
                    <a:pt x="293" y="592"/>
                  </a:lnTo>
                  <a:lnTo>
                    <a:pt x="288" y="592"/>
                  </a:lnTo>
                  <a:lnTo>
                    <a:pt x="288" y="603"/>
                  </a:lnTo>
                  <a:lnTo>
                    <a:pt x="283" y="603"/>
                  </a:lnTo>
                  <a:lnTo>
                    <a:pt x="283" y="609"/>
                  </a:lnTo>
                  <a:lnTo>
                    <a:pt x="279" y="609"/>
                  </a:lnTo>
                  <a:lnTo>
                    <a:pt x="279" y="621"/>
                  </a:lnTo>
                  <a:lnTo>
                    <a:pt x="274" y="621"/>
                  </a:lnTo>
                  <a:lnTo>
                    <a:pt x="274" y="627"/>
                  </a:lnTo>
                  <a:lnTo>
                    <a:pt x="270" y="627"/>
                  </a:lnTo>
                  <a:lnTo>
                    <a:pt x="270" y="633"/>
                  </a:lnTo>
                  <a:lnTo>
                    <a:pt x="264" y="633"/>
                  </a:lnTo>
                  <a:lnTo>
                    <a:pt x="264" y="638"/>
                  </a:lnTo>
                  <a:lnTo>
                    <a:pt x="260" y="638"/>
                  </a:lnTo>
                  <a:lnTo>
                    <a:pt x="260" y="651"/>
                  </a:lnTo>
                  <a:lnTo>
                    <a:pt x="254" y="651"/>
                  </a:lnTo>
                  <a:lnTo>
                    <a:pt x="254" y="662"/>
                  </a:lnTo>
                  <a:lnTo>
                    <a:pt x="249" y="662"/>
                  </a:lnTo>
                  <a:lnTo>
                    <a:pt x="249" y="668"/>
                  </a:lnTo>
                  <a:lnTo>
                    <a:pt x="244" y="668"/>
                  </a:lnTo>
                  <a:lnTo>
                    <a:pt x="244" y="687"/>
                  </a:lnTo>
                  <a:lnTo>
                    <a:pt x="240" y="687"/>
                  </a:lnTo>
                  <a:lnTo>
                    <a:pt x="240" y="692"/>
                  </a:lnTo>
                  <a:lnTo>
                    <a:pt x="235" y="692"/>
                  </a:lnTo>
                  <a:lnTo>
                    <a:pt x="235" y="709"/>
                  </a:lnTo>
                  <a:lnTo>
                    <a:pt x="230" y="709"/>
                  </a:lnTo>
                  <a:lnTo>
                    <a:pt x="230" y="715"/>
                  </a:lnTo>
                  <a:lnTo>
                    <a:pt x="226" y="715"/>
                  </a:lnTo>
                  <a:lnTo>
                    <a:pt x="226" y="720"/>
                  </a:lnTo>
                  <a:lnTo>
                    <a:pt x="221" y="720"/>
                  </a:lnTo>
                  <a:lnTo>
                    <a:pt x="221" y="733"/>
                  </a:lnTo>
                  <a:lnTo>
                    <a:pt x="216" y="733"/>
                  </a:lnTo>
                  <a:lnTo>
                    <a:pt x="216" y="745"/>
                  </a:lnTo>
                  <a:lnTo>
                    <a:pt x="211" y="745"/>
                  </a:lnTo>
                  <a:lnTo>
                    <a:pt x="211" y="757"/>
                  </a:lnTo>
                  <a:lnTo>
                    <a:pt x="207" y="757"/>
                  </a:lnTo>
                  <a:lnTo>
                    <a:pt x="207" y="769"/>
                  </a:lnTo>
                  <a:lnTo>
                    <a:pt x="201" y="769"/>
                  </a:lnTo>
                  <a:lnTo>
                    <a:pt x="201" y="780"/>
                  </a:lnTo>
                  <a:lnTo>
                    <a:pt x="197" y="780"/>
                  </a:lnTo>
                  <a:lnTo>
                    <a:pt x="197" y="793"/>
                  </a:lnTo>
                  <a:lnTo>
                    <a:pt x="193" y="793"/>
                  </a:lnTo>
                  <a:lnTo>
                    <a:pt x="193" y="798"/>
                  </a:lnTo>
                  <a:lnTo>
                    <a:pt x="187" y="798"/>
                  </a:lnTo>
                  <a:lnTo>
                    <a:pt x="187" y="810"/>
                  </a:lnTo>
                  <a:lnTo>
                    <a:pt x="182" y="810"/>
                  </a:lnTo>
                  <a:lnTo>
                    <a:pt x="182" y="823"/>
                  </a:lnTo>
                  <a:lnTo>
                    <a:pt x="177" y="823"/>
                  </a:lnTo>
                  <a:lnTo>
                    <a:pt x="177" y="828"/>
                  </a:lnTo>
                  <a:lnTo>
                    <a:pt x="173" y="828"/>
                  </a:lnTo>
                  <a:lnTo>
                    <a:pt x="173" y="834"/>
                  </a:lnTo>
                  <a:lnTo>
                    <a:pt x="167" y="834"/>
                  </a:lnTo>
                  <a:lnTo>
                    <a:pt x="167" y="839"/>
                  </a:lnTo>
                  <a:lnTo>
                    <a:pt x="163" y="839"/>
                  </a:lnTo>
                  <a:lnTo>
                    <a:pt x="163" y="846"/>
                  </a:lnTo>
                  <a:lnTo>
                    <a:pt x="159" y="846"/>
                  </a:lnTo>
                  <a:lnTo>
                    <a:pt x="159" y="851"/>
                  </a:lnTo>
                  <a:lnTo>
                    <a:pt x="153" y="851"/>
                  </a:lnTo>
                  <a:lnTo>
                    <a:pt x="153" y="864"/>
                  </a:lnTo>
                  <a:lnTo>
                    <a:pt x="149" y="864"/>
                  </a:lnTo>
                  <a:lnTo>
                    <a:pt x="149" y="869"/>
                  </a:lnTo>
                  <a:lnTo>
                    <a:pt x="145" y="869"/>
                  </a:lnTo>
                  <a:lnTo>
                    <a:pt x="145" y="875"/>
                  </a:lnTo>
                  <a:lnTo>
                    <a:pt x="139" y="875"/>
                  </a:lnTo>
                  <a:lnTo>
                    <a:pt x="139" y="888"/>
                  </a:lnTo>
                  <a:lnTo>
                    <a:pt x="135" y="888"/>
                  </a:lnTo>
                  <a:lnTo>
                    <a:pt x="135" y="899"/>
                  </a:lnTo>
                  <a:lnTo>
                    <a:pt x="130" y="899"/>
                  </a:lnTo>
                  <a:lnTo>
                    <a:pt x="130" y="916"/>
                  </a:lnTo>
                  <a:lnTo>
                    <a:pt x="126" y="916"/>
                  </a:lnTo>
                  <a:lnTo>
                    <a:pt x="126" y="929"/>
                  </a:lnTo>
                  <a:lnTo>
                    <a:pt x="120" y="929"/>
                  </a:lnTo>
                  <a:lnTo>
                    <a:pt x="120" y="946"/>
                  </a:lnTo>
                  <a:lnTo>
                    <a:pt x="116" y="946"/>
                  </a:lnTo>
                  <a:lnTo>
                    <a:pt x="116" y="958"/>
                  </a:lnTo>
                  <a:lnTo>
                    <a:pt x="110" y="958"/>
                  </a:lnTo>
                  <a:lnTo>
                    <a:pt x="110" y="964"/>
                  </a:lnTo>
                  <a:lnTo>
                    <a:pt x="105" y="964"/>
                  </a:lnTo>
                  <a:lnTo>
                    <a:pt x="105" y="975"/>
                  </a:lnTo>
                  <a:lnTo>
                    <a:pt x="101" y="975"/>
                  </a:lnTo>
                  <a:lnTo>
                    <a:pt x="101" y="994"/>
                  </a:lnTo>
                  <a:lnTo>
                    <a:pt x="96" y="994"/>
                  </a:lnTo>
                  <a:lnTo>
                    <a:pt x="96" y="1000"/>
                  </a:lnTo>
                  <a:lnTo>
                    <a:pt x="91" y="1000"/>
                  </a:lnTo>
                  <a:lnTo>
                    <a:pt x="91" y="1011"/>
                  </a:lnTo>
                  <a:lnTo>
                    <a:pt x="86" y="1011"/>
                  </a:lnTo>
                  <a:lnTo>
                    <a:pt x="86" y="1024"/>
                  </a:lnTo>
                  <a:lnTo>
                    <a:pt x="82" y="1024"/>
                  </a:lnTo>
                  <a:lnTo>
                    <a:pt x="82" y="1041"/>
                  </a:lnTo>
                  <a:lnTo>
                    <a:pt x="77" y="1041"/>
                  </a:lnTo>
                  <a:lnTo>
                    <a:pt x="77" y="1052"/>
                  </a:lnTo>
                  <a:lnTo>
                    <a:pt x="72" y="1052"/>
                  </a:lnTo>
                  <a:lnTo>
                    <a:pt x="72" y="1070"/>
                  </a:lnTo>
                  <a:lnTo>
                    <a:pt x="82" y="1070"/>
                  </a:lnTo>
                  <a:lnTo>
                    <a:pt x="82" y="1082"/>
                  </a:lnTo>
                  <a:lnTo>
                    <a:pt x="67" y="1082"/>
                  </a:lnTo>
                  <a:lnTo>
                    <a:pt x="67" y="1117"/>
                  </a:lnTo>
                  <a:lnTo>
                    <a:pt x="72" y="1117"/>
                  </a:lnTo>
                  <a:lnTo>
                    <a:pt x="72" y="1129"/>
                  </a:lnTo>
                  <a:lnTo>
                    <a:pt x="77" y="1129"/>
                  </a:lnTo>
                  <a:lnTo>
                    <a:pt x="77" y="1152"/>
                  </a:lnTo>
                  <a:lnTo>
                    <a:pt x="82" y="1152"/>
                  </a:lnTo>
                  <a:lnTo>
                    <a:pt x="82" y="1165"/>
                  </a:lnTo>
                  <a:lnTo>
                    <a:pt x="86" y="1165"/>
                  </a:lnTo>
                  <a:lnTo>
                    <a:pt x="86" y="1182"/>
                  </a:lnTo>
                  <a:lnTo>
                    <a:pt x="91" y="1182"/>
                  </a:lnTo>
                  <a:lnTo>
                    <a:pt x="91" y="1193"/>
                  </a:lnTo>
                  <a:lnTo>
                    <a:pt x="96" y="1193"/>
                  </a:lnTo>
                  <a:lnTo>
                    <a:pt x="96" y="1206"/>
                  </a:lnTo>
                  <a:lnTo>
                    <a:pt x="101" y="1206"/>
                  </a:lnTo>
                  <a:lnTo>
                    <a:pt x="101" y="1212"/>
                  </a:lnTo>
                  <a:lnTo>
                    <a:pt x="105" y="1212"/>
                  </a:lnTo>
                  <a:lnTo>
                    <a:pt x="105" y="1230"/>
                  </a:lnTo>
                  <a:lnTo>
                    <a:pt x="110" y="1230"/>
                  </a:lnTo>
                  <a:lnTo>
                    <a:pt x="110" y="1236"/>
                  </a:lnTo>
                  <a:lnTo>
                    <a:pt x="116" y="1236"/>
                  </a:lnTo>
                  <a:lnTo>
                    <a:pt x="116" y="1253"/>
                  </a:lnTo>
                  <a:lnTo>
                    <a:pt x="120" y="1253"/>
                  </a:lnTo>
                  <a:lnTo>
                    <a:pt x="120" y="1260"/>
                  </a:lnTo>
                  <a:lnTo>
                    <a:pt x="126" y="1260"/>
                  </a:lnTo>
                  <a:lnTo>
                    <a:pt x="126" y="1271"/>
                  </a:lnTo>
                  <a:lnTo>
                    <a:pt x="130" y="1271"/>
                  </a:lnTo>
                  <a:lnTo>
                    <a:pt x="130" y="1277"/>
                  </a:lnTo>
                  <a:lnTo>
                    <a:pt x="135" y="1277"/>
                  </a:lnTo>
                  <a:lnTo>
                    <a:pt x="135" y="1283"/>
                  </a:lnTo>
                  <a:lnTo>
                    <a:pt x="139" y="1283"/>
                  </a:lnTo>
                  <a:lnTo>
                    <a:pt x="139" y="1296"/>
                  </a:lnTo>
                  <a:lnTo>
                    <a:pt x="145" y="1296"/>
                  </a:lnTo>
                  <a:lnTo>
                    <a:pt x="145" y="1301"/>
                  </a:lnTo>
                  <a:lnTo>
                    <a:pt x="149" y="1301"/>
                  </a:lnTo>
                  <a:lnTo>
                    <a:pt x="149" y="1307"/>
                  </a:lnTo>
                  <a:lnTo>
                    <a:pt x="153" y="1307"/>
                  </a:lnTo>
                  <a:lnTo>
                    <a:pt x="153" y="1312"/>
                  </a:lnTo>
                  <a:lnTo>
                    <a:pt x="163" y="1312"/>
                  </a:lnTo>
                  <a:lnTo>
                    <a:pt x="163" y="1319"/>
                  </a:lnTo>
                  <a:lnTo>
                    <a:pt x="167" y="1319"/>
                  </a:lnTo>
                  <a:lnTo>
                    <a:pt x="167" y="1324"/>
                  </a:lnTo>
                  <a:lnTo>
                    <a:pt x="173" y="1324"/>
                  </a:lnTo>
                  <a:lnTo>
                    <a:pt x="173" y="1329"/>
                  </a:lnTo>
                  <a:lnTo>
                    <a:pt x="177" y="1329"/>
                  </a:lnTo>
                  <a:lnTo>
                    <a:pt x="177" y="1337"/>
                  </a:lnTo>
                  <a:lnTo>
                    <a:pt x="187" y="1337"/>
                  </a:lnTo>
                  <a:lnTo>
                    <a:pt x="187" y="1342"/>
                  </a:lnTo>
                  <a:lnTo>
                    <a:pt x="193" y="1342"/>
                  </a:lnTo>
                  <a:lnTo>
                    <a:pt x="193" y="1348"/>
                  </a:lnTo>
                  <a:lnTo>
                    <a:pt x="197" y="1348"/>
                  </a:lnTo>
                  <a:lnTo>
                    <a:pt x="197" y="1354"/>
                  </a:lnTo>
                  <a:lnTo>
                    <a:pt x="207" y="1354"/>
                  </a:lnTo>
                  <a:lnTo>
                    <a:pt x="207" y="1361"/>
                  </a:lnTo>
                  <a:lnTo>
                    <a:pt x="211" y="1361"/>
                  </a:lnTo>
                  <a:lnTo>
                    <a:pt x="211" y="1366"/>
                  </a:lnTo>
                  <a:lnTo>
                    <a:pt x="221" y="1366"/>
                  </a:lnTo>
                  <a:lnTo>
                    <a:pt x="221" y="1372"/>
                  </a:lnTo>
                  <a:lnTo>
                    <a:pt x="230" y="1372"/>
                  </a:lnTo>
                  <a:lnTo>
                    <a:pt x="230" y="1378"/>
                  </a:lnTo>
                  <a:lnTo>
                    <a:pt x="240" y="1378"/>
                  </a:lnTo>
                  <a:lnTo>
                    <a:pt x="240" y="1383"/>
                  </a:lnTo>
                  <a:lnTo>
                    <a:pt x="244" y="1383"/>
                  </a:lnTo>
                  <a:lnTo>
                    <a:pt x="244" y="1389"/>
                  </a:lnTo>
                  <a:lnTo>
                    <a:pt x="270" y="1389"/>
                  </a:lnTo>
                  <a:lnTo>
                    <a:pt x="270" y="1396"/>
                  </a:lnTo>
                  <a:lnTo>
                    <a:pt x="283" y="1396"/>
                  </a:lnTo>
                  <a:lnTo>
                    <a:pt x="283" y="1402"/>
                  </a:lnTo>
                  <a:lnTo>
                    <a:pt x="288" y="1402"/>
                  </a:lnTo>
                  <a:lnTo>
                    <a:pt x="288" y="1407"/>
                  </a:lnTo>
                  <a:lnTo>
                    <a:pt x="303" y="1407"/>
                  </a:lnTo>
                  <a:lnTo>
                    <a:pt x="303" y="1413"/>
                  </a:lnTo>
                  <a:lnTo>
                    <a:pt x="317" y="1413"/>
                  </a:lnTo>
                  <a:lnTo>
                    <a:pt x="317" y="1419"/>
                  </a:lnTo>
                  <a:lnTo>
                    <a:pt x="332" y="1419"/>
                  </a:lnTo>
                  <a:lnTo>
                    <a:pt x="332" y="1424"/>
                  </a:lnTo>
                  <a:lnTo>
                    <a:pt x="346" y="1424"/>
                  </a:lnTo>
                  <a:lnTo>
                    <a:pt x="346" y="1430"/>
                  </a:lnTo>
                  <a:lnTo>
                    <a:pt x="356" y="1430"/>
                  </a:lnTo>
                  <a:lnTo>
                    <a:pt x="356" y="1437"/>
                  </a:lnTo>
                  <a:lnTo>
                    <a:pt x="370" y="1437"/>
                  </a:lnTo>
                  <a:lnTo>
                    <a:pt x="370" y="1443"/>
                  </a:lnTo>
                  <a:lnTo>
                    <a:pt x="393" y="1443"/>
                  </a:lnTo>
                  <a:lnTo>
                    <a:pt x="393" y="1448"/>
                  </a:lnTo>
                  <a:lnTo>
                    <a:pt x="409" y="1448"/>
                  </a:lnTo>
                  <a:lnTo>
                    <a:pt x="409" y="1455"/>
                  </a:lnTo>
                  <a:lnTo>
                    <a:pt x="423" y="1455"/>
                  </a:lnTo>
                  <a:lnTo>
                    <a:pt x="423" y="1460"/>
                  </a:lnTo>
                  <a:lnTo>
                    <a:pt x="451" y="1460"/>
                  </a:lnTo>
                  <a:lnTo>
                    <a:pt x="451" y="1467"/>
                  </a:lnTo>
                  <a:lnTo>
                    <a:pt x="490" y="1467"/>
                  </a:lnTo>
                  <a:lnTo>
                    <a:pt x="490" y="1473"/>
                  </a:lnTo>
                  <a:lnTo>
                    <a:pt x="528" y="1473"/>
                  </a:lnTo>
                  <a:lnTo>
                    <a:pt x="528" y="1478"/>
                  </a:lnTo>
                  <a:lnTo>
                    <a:pt x="581" y="1478"/>
                  </a:lnTo>
                  <a:lnTo>
                    <a:pt x="581" y="1483"/>
                  </a:lnTo>
                  <a:lnTo>
                    <a:pt x="625" y="1483"/>
                  </a:lnTo>
                  <a:lnTo>
                    <a:pt x="625" y="1478"/>
                  </a:lnTo>
                  <a:lnTo>
                    <a:pt x="677" y="1478"/>
                  </a:lnTo>
                  <a:lnTo>
                    <a:pt x="677" y="1473"/>
                  </a:lnTo>
                  <a:lnTo>
                    <a:pt x="687" y="1473"/>
                  </a:lnTo>
                  <a:lnTo>
                    <a:pt x="687" y="1467"/>
                  </a:lnTo>
                  <a:lnTo>
                    <a:pt x="716" y="1467"/>
                  </a:lnTo>
                  <a:lnTo>
                    <a:pt x="716" y="1460"/>
                  </a:lnTo>
                  <a:lnTo>
                    <a:pt x="735" y="1460"/>
                  </a:lnTo>
                  <a:lnTo>
                    <a:pt x="735" y="1455"/>
                  </a:lnTo>
                  <a:lnTo>
                    <a:pt x="744" y="1455"/>
                  </a:lnTo>
                  <a:lnTo>
                    <a:pt x="744" y="1460"/>
                  </a:lnTo>
                  <a:lnTo>
                    <a:pt x="758" y="1460"/>
                  </a:lnTo>
                  <a:lnTo>
                    <a:pt x="758" y="1448"/>
                  </a:lnTo>
                  <a:lnTo>
                    <a:pt x="763" y="1448"/>
                  </a:lnTo>
                  <a:lnTo>
                    <a:pt x="763" y="1443"/>
                  </a:lnTo>
                  <a:lnTo>
                    <a:pt x="788" y="1443"/>
                  </a:lnTo>
                  <a:lnTo>
                    <a:pt x="788" y="1437"/>
                  </a:lnTo>
                  <a:lnTo>
                    <a:pt x="798" y="1437"/>
                  </a:lnTo>
                  <a:lnTo>
                    <a:pt x="798" y="1430"/>
                  </a:lnTo>
                  <a:lnTo>
                    <a:pt x="817" y="1430"/>
                  </a:lnTo>
                  <a:lnTo>
                    <a:pt x="817" y="1424"/>
                  </a:lnTo>
                  <a:lnTo>
                    <a:pt x="826" y="1424"/>
                  </a:lnTo>
                  <a:lnTo>
                    <a:pt x="826" y="1419"/>
                  </a:lnTo>
                  <a:lnTo>
                    <a:pt x="841" y="1419"/>
                  </a:lnTo>
                  <a:lnTo>
                    <a:pt x="841" y="1413"/>
                  </a:lnTo>
                  <a:lnTo>
                    <a:pt x="860" y="1413"/>
                  </a:lnTo>
                  <a:lnTo>
                    <a:pt x="860" y="1407"/>
                  </a:lnTo>
                  <a:lnTo>
                    <a:pt x="865" y="1407"/>
                  </a:lnTo>
                  <a:lnTo>
                    <a:pt x="865" y="1402"/>
                  </a:lnTo>
                  <a:lnTo>
                    <a:pt x="879" y="1402"/>
                  </a:lnTo>
                  <a:lnTo>
                    <a:pt x="879" y="1396"/>
                  </a:lnTo>
                  <a:lnTo>
                    <a:pt x="888" y="1396"/>
                  </a:lnTo>
                  <a:lnTo>
                    <a:pt x="888" y="1389"/>
                  </a:lnTo>
                  <a:lnTo>
                    <a:pt x="898" y="1389"/>
                  </a:lnTo>
                  <a:lnTo>
                    <a:pt x="898" y="1383"/>
                  </a:lnTo>
                  <a:lnTo>
                    <a:pt x="907" y="1383"/>
                  </a:lnTo>
                  <a:lnTo>
                    <a:pt x="907" y="1378"/>
                  </a:lnTo>
                  <a:lnTo>
                    <a:pt x="927" y="1378"/>
                  </a:lnTo>
                  <a:lnTo>
                    <a:pt x="927" y="1383"/>
                  </a:lnTo>
                  <a:lnTo>
                    <a:pt x="955" y="1383"/>
                  </a:lnTo>
                  <a:lnTo>
                    <a:pt x="955" y="1378"/>
                  </a:lnTo>
                  <a:lnTo>
                    <a:pt x="969" y="1378"/>
                  </a:lnTo>
                  <a:lnTo>
                    <a:pt x="969" y="1372"/>
                  </a:lnTo>
                  <a:lnTo>
                    <a:pt x="990" y="1372"/>
                  </a:lnTo>
                  <a:lnTo>
                    <a:pt x="990" y="1366"/>
                  </a:lnTo>
                  <a:lnTo>
                    <a:pt x="999" y="1366"/>
                  </a:lnTo>
                  <a:lnTo>
                    <a:pt x="999" y="1361"/>
                  </a:lnTo>
                  <a:lnTo>
                    <a:pt x="1013" y="1361"/>
                  </a:lnTo>
                  <a:lnTo>
                    <a:pt x="1013" y="1354"/>
                  </a:lnTo>
                  <a:lnTo>
                    <a:pt x="1028" y="1354"/>
                  </a:lnTo>
                  <a:lnTo>
                    <a:pt x="1028" y="1348"/>
                  </a:lnTo>
                  <a:lnTo>
                    <a:pt x="1042" y="1348"/>
                  </a:lnTo>
                  <a:lnTo>
                    <a:pt x="1042" y="1342"/>
                  </a:lnTo>
                  <a:lnTo>
                    <a:pt x="1057" y="1342"/>
                  </a:lnTo>
                  <a:lnTo>
                    <a:pt x="1057" y="1337"/>
                  </a:lnTo>
                  <a:lnTo>
                    <a:pt x="1066" y="1337"/>
                  </a:lnTo>
                  <a:lnTo>
                    <a:pt x="1066" y="1329"/>
                  </a:lnTo>
                  <a:lnTo>
                    <a:pt x="1081" y="1329"/>
                  </a:lnTo>
                  <a:lnTo>
                    <a:pt x="1081" y="1324"/>
                  </a:lnTo>
                  <a:lnTo>
                    <a:pt x="1095" y="1324"/>
                  </a:lnTo>
                  <a:lnTo>
                    <a:pt x="1095" y="1329"/>
                  </a:lnTo>
                  <a:lnTo>
                    <a:pt x="1105" y="1329"/>
                  </a:lnTo>
                  <a:lnTo>
                    <a:pt x="1105" y="1324"/>
                  </a:lnTo>
                  <a:lnTo>
                    <a:pt x="1114" y="1324"/>
                  </a:lnTo>
                  <a:lnTo>
                    <a:pt x="1114" y="1319"/>
                  </a:lnTo>
                  <a:lnTo>
                    <a:pt x="1129" y="1319"/>
                  </a:lnTo>
                  <a:lnTo>
                    <a:pt x="1129" y="1312"/>
                  </a:lnTo>
                  <a:lnTo>
                    <a:pt x="1143" y="1312"/>
                  </a:lnTo>
                  <a:lnTo>
                    <a:pt x="1143" y="1307"/>
                  </a:lnTo>
                  <a:lnTo>
                    <a:pt x="1153" y="1307"/>
                  </a:lnTo>
                  <a:lnTo>
                    <a:pt x="1153" y="1301"/>
                  </a:lnTo>
                  <a:lnTo>
                    <a:pt x="1168" y="1301"/>
                  </a:lnTo>
                  <a:lnTo>
                    <a:pt x="1168" y="1296"/>
                  </a:lnTo>
                  <a:lnTo>
                    <a:pt x="1176" y="1296"/>
                  </a:lnTo>
                  <a:lnTo>
                    <a:pt x="1176" y="1288"/>
                  </a:lnTo>
                  <a:lnTo>
                    <a:pt x="1186" y="1288"/>
                  </a:lnTo>
                  <a:lnTo>
                    <a:pt x="1186" y="1283"/>
                  </a:lnTo>
                  <a:lnTo>
                    <a:pt x="1195" y="1283"/>
                  </a:lnTo>
                  <a:lnTo>
                    <a:pt x="1195" y="1277"/>
                  </a:lnTo>
                  <a:lnTo>
                    <a:pt x="1206" y="1277"/>
                  </a:lnTo>
                  <a:lnTo>
                    <a:pt x="1206" y="1271"/>
                  </a:lnTo>
                  <a:lnTo>
                    <a:pt x="1210" y="1271"/>
                  </a:lnTo>
                  <a:lnTo>
                    <a:pt x="1210" y="1266"/>
                  </a:lnTo>
                  <a:lnTo>
                    <a:pt x="1224" y="1266"/>
                  </a:lnTo>
                  <a:lnTo>
                    <a:pt x="1224" y="1260"/>
                  </a:lnTo>
                  <a:lnTo>
                    <a:pt x="1244" y="1260"/>
                  </a:lnTo>
                  <a:lnTo>
                    <a:pt x="1244" y="1253"/>
                  </a:lnTo>
                  <a:lnTo>
                    <a:pt x="1253" y="1253"/>
                  </a:lnTo>
                  <a:lnTo>
                    <a:pt x="1253" y="1247"/>
                  </a:lnTo>
                  <a:lnTo>
                    <a:pt x="1273" y="1247"/>
                  </a:lnTo>
                  <a:lnTo>
                    <a:pt x="1273" y="1242"/>
                  </a:lnTo>
                  <a:lnTo>
                    <a:pt x="1283" y="1242"/>
                  </a:lnTo>
                  <a:lnTo>
                    <a:pt x="1283" y="1236"/>
                  </a:lnTo>
                  <a:lnTo>
                    <a:pt x="1297" y="1236"/>
                  </a:lnTo>
                  <a:lnTo>
                    <a:pt x="1297" y="1230"/>
                  </a:lnTo>
                  <a:lnTo>
                    <a:pt x="1306" y="1230"/>
                  </a:lnTo>
                  <a:lnTo>
                    <a:pt x="1306" y="1223"/>
                  </a:lnTo>
                  <a:lnTo>
                    <a:pt x="1320" y="1223"/>
                  </a:lnTo>
                  <a:lnTo>
                    <a:pt x="1320" y="1218"/>
                  </a:lnTo>
                  <a:lnTo>
                    <a:pt x="1335" y="1218"/>
                  </a:lnTo>
                  <a:lnTo>
                    <a:pt x="1335" y="1212"/>
                  </a:lnTo>
                  <a:lnTo>
                    <a:pt x="1346" y="1212"/>
                  </a:lnTo>
                  <a:lnTo>
                    <a:pt x="1346" y="1206"/>
                  </a:lnTo>
                  <a:lnTo>
                    <a:pt x="1360" y="1206"/>
                  </a:lnTo>
                  <a:lnTo>
                    <a:pt x="1360" y="1201"/>
                  </a:lnTo>
                  <a:lnTo>
                    <a:pt x="1364" y="1201"/>
                  </a:lnTo>
                  <a:lnTo>
                    <a:pt x="1364" y="1193"/>
                  </a:lnTo>
                  <a:lnTo>
                    <a:pt x="1379" y="1193"/>
                  </a:lnTo>
                  <a:lnTo>
                    <a:pt x="1379" y="1188"/>
                  </a:lnTo>
                  <a:lnTo>
                    <a:pt x="1393" y="1188"/>
                  </a:lnTo>
                  <a:lnTo>
                    <a:pt x="1393" y="1182"/>
                  </a:lnTo>
                  <a:lnTo>
                    <a:pt x="1402" y="1182"/>
                  </a:lnTo>
                  <a:lnTo>
                    <a:pt x="1402" y="1177"/>
                  </a:lnTo>
                  <a:lnTo>
                    <a:pt x="1412" y="1177"/>
                  </a:lnTo>
                  <a:lnTo>
                    <a:pt x="1412" y="1170"/>
                  </a:lnTo>
                  <a:lnTo>
                    <a:pt x="1427" y="1170"/>
                  </a:lnTo>
                  <a:lnTo>
                    <a:pt x="1427" y="1165"/>
                  </a:lnTo>
                  <a:lnTo>
                    <a:pt x="1436" y="1165"/>
                  </a:lnTo>
                  <a:lnTo>
                    <a:pt x="1436" y="1160"/>
                  </a:lnTo>
                  <a:lnTo>
                    <a:pt x="1446" y="1160"/>
                  </a:lnTo>
                  <a:lnTo>
                    <a:pt x="1446" y="1152"/>
                  </a:lnTo>
                  <a:lnTo>
                    <a:pt x="1465" y="1152"/>
                  </a:lnTo>
                  <a:lnTo>
                    <a:pt x="1465" y="1147"/>
                  </a:lnTo>
                  <a:lnTo>
                    <a:pt x="1470" y="1147"/>
                  </a:lnTo>
                  <a:lnTo>
                    <a:pt x="1470" y="1141"/>
                  </a:lnTo>
                  <a:lnTo>
                    <a:pt x="1479" y="1141"/>
                  </a:lnTo>
                  <a:lnTo>
                    <a:pt x="1479" y="1135"/>
                  </a:lnTo>
                  <a:lnTo>
                    <a:pt x="1499" y="1135"/>
                  </a:lnTo>
                  <a:lnTo>
                    <a:pt x="1499" y="1129"/>
                  </a:lnTo>
                  <a:lnTo>
                    <a:pt x="1509" y="1129"/>
                  </a:lnTo>
                  <a:lnTo>
                    <a:pt x="1509" y="1124"/>
                  </a:lnTo>
                  <a:lnTo>
                    <a:pt x="1523" y="1124"/>
                  </a:lnTo>
                  <a:lnTo>
                    <a:pt x="1523" y="1117"/>
                  </a:lnTo>
                  <a:lnTo>
                    <a:pt x="1532" y="1117"/>
                  </a:lnTo>
                  <a:lnTo>
                    <a:pt x="1532" y="1111"/>
                  </a:lnTo>
                  <a:lnTo>
                    <a:pt x="1541" y="1111"/>
                  </a:lnTo>
                  <a:lnTo>
                    <a:pt x="1541" y="1106"/>
                  </a:lnTo>
                  <a:lnTo>
                    <a:pt x="1556" y="1106"/>
                  </a:lnTo>
                  <a:lnTo>
                    <a:pt x="1556" y="1100"/>
                  </a:lnTo>
                  <a:lnTo>
                    <a:pt x="1571" y="1100"/>
                  </a:lnTo>
                  <a:lnTo>
                    <a:pt x="1571" y="1046"/>
                  </a:lnTo>
                  <a:lnTo>
                    <a:pt x="1566" y="1046"/>
                  </a:lnTo>
                  <a:lnTo>
                    <a:pt x="1566" y="1035"/>
                  </a:lnTo>
                  <a:lnTo>
                    <a:pt x="1560" y="1035"/>
                  </a:lnTo>
                  <a:lnTo>
                    <a:pt x="1560" y="1016"/>
                  </a:lnTo>
                  <a:lnTo>
                    <a:pt x="1556" y="1016"/>
                  </a:lnTo>
                  <a:lnTo>
                    <a:pt x="1556" y="1005"/>
                  </a:lnTo>
                  <a:lnTo>
                    <a:pt x="1551" y="1005"/>
                  </a:lnTo>
                  <a:lnTo>
                    <a:pt x="1551" y="988"/>
                  </a:lnTo>
                  <a:lnTo>
                    <a:pt x="1546" y="988"/>
                  </a:lnTo>
                  <a:lnTo>
                    <a:pt x="1546" y="975"/>
                  </a:lnTo>
                  <a:lnTo>
                    <a:pt x="1541" y="975"/>
                  </a:lnTo>
                  <a:lnTo>
                    <a:pt x="1541" y="964"/>
                  </a:lnTo>
                  <a:lnTo>
                    <a:pt x="1537" y="964"/>
                  </a:lnTo>
                  <a:lnTo>
                    <a:pt x="1537" y="946"/>
                  </a:lnTo>
                  <a:lnTo>
                    <a:pt x="1532" y="946"/>
                  </a:lnTo>
                  <a:lnTo>
                    <a:pt x="1532" y="929"/>
                  </a:lnTo>
                  <a:lnTo>
                    <a:pt x="1527" y="929"/>
                  </a:lnTo>
                  <a:lnTo>
                    <a:pt x="1527" y="910"/>
                  </a:lnTo>
                  <a:lnTo>
                    <a:pt x="1523" y="910"/>
                  </a:lnTo>
                  <a:lnTo>
                    <a:pt x="1523" y="905"/>
                  </a:lnTo>
                  <a:lnTo>
                    <a:pt x="1518" y="905"/>
                  </a:lnTo>
                  <a:lnTo>
                    <a:pt x="1518" y="881"/>
                  </a:lnTo>
                  <a:lnTo>
                    <a:pt x="1513" y="881"/>
                  </a:lnTo>
                  <a:lnTo>
                    <a:pt x="1513" y="864"/>
                  </a:lnTo>
                  <a:lnTo>
                    <a:pt x="1509" y="864"/>
                  </a:lnTo>
                  <a:lnTo>
                    <a:pt x="1509" y="851"/>
                  </a:lnTo>
                  <a:lnTo>
                    <a:pt x="1504" y="851"/>
                  </a:lnTo>
                  <a:lnTo>
                    <a:pt x="1504" y="828"/>
                  </a:lnTo>
                  <a:lnTo>
                    <a:pt x="1499" y="828"/>
                  </a:lnTo>
                  <a:lnTo>
                    <a:pt x="1499" y="815"/>
                  </a:lnTo>
                  <a:lnTo>
                    <a:pt x="1494" y="815"/>
                  </a:lnTo>
                  <a:lnTo>
                    <a:pt x="1494" y="804"/>
                  </a:lnTo>
                  <a:lnTo>
                    <a:pt x="1490" y="804"/>
                  </a:lnTo>
                  <a:lnTo>
                    <a:pt x="1490" y="793"/>
                  </a:lnTo>
                  <a:lnTo>
                    <a:pt x="1484" y="793"/>
                  </a:lnTo>
                  <a:lnTo>
                    <a:pt x="1484" y="774"/>
                  </a:lnTo>
                  <a:lnTo>
                    <a:pt x="1479" y="774"/>
                  </a:lnTo>
                  <a:lnTo>
                    <a:pt x="1479" y="769"/>
                  </a:lnTo>
                  <a:lnTo>
                    <a:pt x="1474" y="769"/>
                  </a:lnTo>
                  <a:lnTo>
                    <a:pt x="1474" y="757"/>
                  </a:lnTo>
                  <a:lnTo>
                    <a:pt x="1470" y="757"/>
                  </a:lnTo>
                  <a:lnTo>
                    <a:pt x="1470" y="745"/>
                  </a:lnTo>
                  <a:lnTo>
                    <a:pt x="1465" y="745"/>
                  </a:lnTo>
                  <a:lnTo>
                    <a:pt x="1465" y="733"/>
                  </a:lnTo>
                  <a:lnTo>
                    <a:pt x="1460" y="733"/>
                  </a:lnTo>
                  <a:lnTo>
                    <a:pt x="1460" y="715"/>
                  </a:lnTo>
                  <a:lnTo>
                    <a:pt x="1456" y="715"/>
                  </a:lnTo>
                  <a:lnTo>
                    <a:pt x="1456" y="709"/>
                  </a:lnTo>
                  <a:lnTo>
                    <a:pt x="1450" y="709"/>
                  </a:lnTo>
                  <a:lnTo>
                    <a:pt x="1450" y="692"/>
                  </a:lnTo>
                  <a:lnTo>
                    <a:pt x="1446" y="692"/>
                  </a:lnTo>
                  <a:lnTo>
                    <a:pt x="1446" y="674"/>
                  </a:lnTo>
                  <a:lnTo>
                    <a:pt x="1441" y="674"/>
                  </a:lnTo>
                  <a:lnTo>
                    <a:pt x="1441" y="662"/>
                  </a:lnTo>
                  <a:lnTo>
                    <a:pt x="1436" y="662"/>
                  </a:lnTo>
                  <a:lnTo>
                    <a:pt x="1436" y="651"/>
                  </a:lnTo>
                  <a:lnTo>
                    <a:pt x="1431" y="651"/>
                  </a:lnTo>
                  <a:lnTo>
                    <a:pt x="1431" y="633"/>
                  </a:lnTo>
                  <a:lnTo>
                    <a:pt x="1427" y="633"/>
                  </a:lnTo>
                  <a:lnTo>
                    <a:pt x="1427" y="627"/>
                  </a:lnTo>
                  <a:lnTo>
                    <a:pt x="1423" y="627"/>
                  </a:lnTo>
                  <a:lnTo>
                    <a:pt x="1423" y="616"/>
                  </a:lnTo>
                  <a:lnTo>
                    <a:pt x="1417" y="616"/>
                  </a:lnTo>
                  <a:lnTo>
                    <a:pt x="1417" y="609"/>
                  </a:lnTo>
                  <a:lnTo>
                    <a:pt x="1412" y="609"/>
                  </a:lnTo>
                  <a:lnTo>
                    <a:pt x="1412" y="603"/>
                  </a:lnTo>
                  <a:lnTo>
                    <a:pt x="1407" y="603"/>
                  </a:lnTo>
                  <a:lnTo>
                    <a:pt x="1407" y="586"/>
                  </a:lnTo>
                  <a:lnTo>
                    <a:pt x="1402" y="586"/>
                  </a:lnTo>
                  <a:lnTo>
                    <a:pt x="1402" y="574"/>
                  </a:lnTo>
                  <a:lnTo>
                    <a:pt x="1397" y="574"/>
                  </a:lnTo>
                  <a:lnTo>
                    <a:pt x="1397" y="562"/>
                  </a:lnTo>
                  <a:lnTo>
                    <a:pt x="1393" y="562"/>
                  </a:lnTo>
                  <a:lnTo>
                    <a:pt x="1393" y="543"/>
                  </a:lnTo>
                  <a:lnTo>
                    <a:pt x="1388" y="543"/>
                  </a:lnTo>
                  <a:lnTo>
                    <a:pt x="1388" y="533"/>
                  </a:lnTo>
                  <a:lnTo>
                    <a:pt x="1383" y="533"/>
                  </a:lnTo>
                  <a:lnTo>
                    <a:pt x="1383" y="527"/>
                  </a:lnTo>
                  <a:lnTo>
                    <a:pt x="1379" y="527"/>
                  </a:lnTo>
                  <a:lnTo>
                    <a:pt x="1379" y="515"/>
                  </a:lnTo>
                  <a:lnTo>
                    <a:pt x="1374" y="515"/>
                  </a:lnTo>
                  <a:lnTo>
                    <a:pt x="1374" y="502"/>
                  </a:lnTo>
                  <a:lnTo>
                    <a:pt x="1369" y="502"/>
                  </a:lnTo>
                  <a:lnTo>
                    <a:pt x="1369" y="491"/>
                  </a:lnTo>
                  <a:lnTo>
                    <a:pt x="1364" y="491"/>
                  </a:lnTo>
                  <a:lnTo>
                    <a:pt x="1364" y="480"/>
                  </a:lnTo>
                  <a:lnTo>
                    <a:pt x="1360" y="480"/>
                  </a:lnTo>
                  <a:lnTo>
                    <a:pt x="1360" y="467"/>
                  </a:lnTo>
                  <a:lnTo>
                    <a:pt x="1354" y="467"/>
                  </a:lnTo>
                  <a:lnTo>
                    <a:pt x="1354" y="456"/>
                  </a:lnTo>
                  <a:lnTo>
                    <a:pt x="1350" y="456"/>
                  </a:lnTo>
                  <a:lnTo>
                    <a:pt x="1350" y="450"/>
                  </a:lnTo>
                  <a:lnTo>
                    <a:pt x="1335" y="450"/>
                  </a:lnTo>
                  <a:lnTo>
                    <a:pt x="1335" y="443"/>
                  </a:lnTo>
                  <a:lnTo>
                    <a:pt x="1330" y="443"/>
                  </a:lnTo>
                  <a:lnTo>
                    <a:pt x="1330" y="432"/>
                  </a:lnTo>
                  <a:lnTo>
                    <a:pt x="1326" y="432"/>
                  </a:lnTo>
                  <a:lnTo>
                    <a:pt x="1326" y="420"/>
                  </a:lnTo>
                  <a:lnTo>
                    <a:pt x="1320" y="420"/>
                  </a:lnTo>
                  <a:lnTo>
                    <a:pt x="1320" y="402"/>
                  </a:lnTo>
                  <a:lnTo>
                    <a:pt x="1316" y="402"/>
                  </a:lnTo>
                  <a:lnTo>
                    <a:pt x="1316" y="384"/>
                  </a:lnTo>
                  <a:lnTo>
                    <a:pt x="1311" y="384"/>
                  </a:lnTo>
                  <a:lnTo>
                    <a:pt x="1311" y="361"/>
                  </a:lnTo>
                  <a:lnTo>
                    <a:pt x="1320" y="361"/>
                  </a:lnTo>
                  <a:lnTo>
                    <a:pt x="1320" y="355"/>
                  </a:lnTo>
                  <a:lnTo>
                    <a:pt x="1335" y="355"/>
                  </a:lnTo>
                  <a:lnTo>
                    <a:pt x="1335" y="350"/>
                  </a:lnTo>
                  <a:lnTo>
                    <a:pt x="1354" y="350"/>
                  </a:lnTo>
                  <a:lnTo>
                    <a:pt x="1354" y="355"/>
                  </a:lnTo>
                  <a:lnTo>
                    <a:pt x="1360" y="355"/>
                  </a:lnTo>
                  <a:lnTo>
                    <a:pt x="1360" y="361"/>
                  </a:lnTo>
                  <a:lnTo>
                    <a:pt x="1364" y="361"/>
                  </a:lnTo>
                  <a:lnTo>
                    <a:pt x="1364" y="374"/>
                  </a:lnTo>
                  <a:lnTo>
                    <a:pt x="1369" y="374"/>
                  </a:lnTo>
                  <a:lnTo>
                    <a:pt x="1369" y="384"/>
                  </a:lnTo>
                  <a:lnTo>
                    <a:pt x="1374" y="384"/>
                  </a:lnTo>
                  <a:lnTo>
                    <a:pt x="1374" y="396"/>
                  </a:lnTo>
                  <a:lnTo>
                    <a:pt x="1379" y="396"/>
                  </a:lnTo>
                  <a:lnTo>
                    <a:pt x="1379" y="402"/>
                  </a:lnTo>
                  <a:lnTo>
                    <a:pt x="1383" y="402"/>
                  </a:lnTo>
                  <a:lnTo>
                    <a:pt x="1383" y="415"/>
                  </a:lnTo>
                  <a:lnTo>
                    <a:pt x="1388" y="415"/>
                  </a:lnTo>
                  <a:lnTo>
                    <a:pt x="1388" y="426"/>
                  </a:lnTo>
                  <a:lnTo>
                    <a:pt x="1393" y="426"/>
                  </a:lnTo>
                  <a:lnTo>
                    <a:pt x="1393" y="437"/>
                  </a:lnTo>
                  <a:lnTo>
                    <a:pt x="1397" y="437"/>
                  </a:lnTo>
                  <a:lnTo>
                    <a:pt x="1397" y="443"/>
                  </a:lnTo>
                  <a:lnTo>
                    <a:pt x="1402" y="443"/>
                  </a:lnTo>
                  <a:lnTo>
                    <a:pt x="1402" y="456"/>
                  </a:lnTo>
                  <a:lnTo>
                    <a:pt x="1407" y="456"/>
                  </a:lnTo>
                  <a:lnTo>
                    <a:pt x="1407" y="461"/>
                  </a:lnTo>
                  <a:lnTo>
                    <a:pt x="1412" y="461"/>
                  </a:lnTo>
                  <a:lnTo>
                    <a:pt x="1412" y="467"/>
                  </a:lnTo>
                  <a:lnTo>
                    <a:pt x="1417" y="467"/>
                  </a:lnTo>
                  <a:lnTo>
                    <a:pt x="1417" y="473"/>
                  </a:lnTo>
                  <a:lnTo>
                    <a:pt x="1423" y="473"/>
                  </a:lnTo>
                  <a:lnTo>
                    <a:pt x="1423" y="485"/>
                  </a:lnTo>
                  <a:lnTo>
                    <a:pt x="1427" y="485"/>
                  </a:lnTo>
                  <a:lnTo>
                    <a:pt x="1427" y="491"/>
                  </a:lnTo>
                  <a:lnTo>
                    <a:pt x="1431" y="491"/>
                  </a:lnTo>
                  <a:lnTo>
                    <a:pt x="1431" y="510"/>
                  </a:lnTo>
                  <a:lnTo>
                    <a:pt x="1436" y="510"/>
                  </a:lnTo>
                  <a:lnTo>
                    <a:pt x="1436" y="521"/>
                  </a:lnTo>
                  <a:lnTo>
                    <a:pt x="1441" y="521"/>
                  </a:lnTo>
                  <a:lnTo>
                    <a:pt x="1441" y="533"/>
                  </a:lnTo>
                  <a:lnTo>
                    <a:pt x="1446" y="533"/>
                  </a:lnTo>
                  <a:lnTo>
                    <a:pt x="1446" y="551"/>
                  </a:lnTo>
                  <a:lnTo>
                    <a:pt x="1450" y="551"/>
                  </a:lnTo>
                  <a:lnTo>
                    <a:pt x="1450" y="562"/>
                  </a:lnTo>
                  <a:lnTo>
                    <a:pt x="1456" y="562"/>
                  </a:lnTo>
                  <a:lnTo>
                    <a:pt x="1456" y="574"/>
                  </a:lnTo>
                  <a:lnTo>
                    <a:pt x="1460" y="574"/>
                  </a:lnTo>
                  <a:lnTo>
                    <a:pt x="1460" y="586"/>
                  </a:lnTo>
                  <a:lnTo>
                    <a:pt x="1465" y="586"/>
                  </a:lnTo>
                  <a:lnTo>
                    <a:pt x="1465" y="597"/>
                  </a:lnTo>
                  <a:lnTo>
                    <a:pt x="1470" y="597"/>
                  </a:lnTo>
                  <a:lnTo>
                    <a:pt x="1470" y="616"/>
                  </a:lnTo>
                  <a:lnTo>
                    <a:pt x="1474" y="616"/>
                  </a:lnTo>
                  <a:lnTo>
                    <a:pt x="1474" y="621"/>
                  </a:lnTo>
                  <a:lnTo>
                    <a:pt x="1479" y="621"/>
                  </a:lnTo>
                  <a:lnTo>
                    <a:pt x="1479" y="633"/>
                  </a:lnTo>
                  <a:lnTo>
                    <a:pt x="1484" y="633"/>
                  </a:lnTo>
                  <a:lnTo>
                    <a:pt x="1484" y="646"/>
                  </a:lnTo>
                  <a:lnTo>
                    <a:pt x="1490" y="646"/>
                  </a:lnTo>
                  <a:lnTo>
                    <a:pt x="1490" y="656"/>
                  </a:lnTo>
                  <a:lnTo>
                    <a:pt x="1494" y="656"/>
                  </a:lnTo>
                  <a:lnTo>
                    <a:pt x="1494" y="674"/>
                  </a:lnTo>
                  <a:lnTo>
                    <a:pt x="1499" y="674"/>
                  </a:lnTo>
                  <a:lnTo>
                    <a:pt x="1499" y="679"/>
                  </a:lnTo>
                  <a:lnTo>
                    <a:pt x="1504" y="679"/>
                  </a:lnTo>
                  <a:lnTo>
                    <a:pt x="1504" y="692"/>
                  </a:lnTo>
                  <a:lnTo>
                    <a:pt x="1509" y="692"/>
                  </a:lnTo>
                  <a:lnTo>
                    <a:pt x="1509" y="709"/>
                  </a:lnTo>
                  <a:lnTo>
                    <a:pt x="1513" y="709"/>
                  </a:lnTo>
                  <a:lnTo>
                    <a:pt x="1513" y="728"/>
                  </a:lnTo>
                  <a:lnTo>
                    <a:pt x="1518" y="728"/>
                  </a:lnTo>
                  <a:lnTo>
                    <a:pt x="1518" y="739"/>
                  </a:lnTo>
                  <a:lnTo>
                    <a:pt x="1523" y="739"/>
                  </a:lnTo>
                  <a:lnTo>
                    <a:pt x="1523" y="750"/>
                  </a:lnTo>
                  <a:lnTo>
                    <a:pt x="1527" y="750"/>
                  </a:lnTo>
                  <a:lnTo>
                    <a:pt x="1527" y="757"/>
                  </a:lnTo>
                  <a:lnTo>
                    <a:pt x="1532" y="757"/>
                  </a:lnTo>
                  <a:lnTo>
                    <a:pt x="1532" y="769"/>
                  </a:lnTo>
                  <a:lnTo>
                    <a:pt x="1537" y="769"/>
                  </a:lnTo>
                  <a:lnTo>
                    <a:pt x="1537" y="793"/>
                  </a:lnTo>
                  <a:lnTo>
                    <a:pt x="1541" y="793"/>
                  </a:lnTo>
                  <a:lnTo>
                    <a:pt x="1541" y="804"/>
                  </a:lnTo>
                  <a:lnTo>
                    <a:pt x="1546" y="804"/>
                  </a:lnTo>
                  <a:lnTo>
                    <a:pt x="1546" y="810"/>
                  </a:lnTo>
                  <a:lnTo>
                    <a:pt x="1551" y="810"/>
                  </a:lnTo>
                  <a:lnTo>
                    <a:pt x="1551" y="828"/>
                  </a:lnTo>
                  <a:lnTo>
                    <a:pt x="1556" y="828"/>
                  </a:lnTo>
                  <a:lnTo>
                    <a:pt x="1556" y="839"/>
                  </a:lnTo>
                  <a:lnTo>
                    <a:pt x="1560" y="839"/>
                  </a:lnTo>
                  <a:lnTo>
                    <a:pt x="1560" y="851"/>
                  </a:lnTo>
                  <a:lnTo>
                    <a:pt x="1566" y="851"/>
                  </a:lnTo>
                  <a:lnTo>
                    <a:pt x="1566" y="869"/>
                  </a:lnTo>
                  <a:lnTo>
                    <a:pt x="1571" y="869"/>
                  </a:lnTo>
                  <a:lnTo>
                    <a:pt x="1571" y="875"/>
                  </a:lnTo>
                  <a:lnTo>
                    <a:pt x="1575" y="875"/>
                  </a:lnTo>
                  <a:lnTo>
                    <a:pt x="1575" y="888"/>
                  </a:lnTo>
                  <a:lnTo>
                    <a:pt x="1580" y="888"/>
                  </a:lnTo>
                  <a:lnTo>
                    <a:pt x="1580" y="899"/>
                  </a:lnTo>
                  <a:lnTo>
                    <a:pt x="1585" y="899"/>
                  </a:lnTo>
                  <a:lnTo>
                    <a:pt x="1585" y="916"/>
                  </a:lnTo>
                  <a:lnTo>
                    <a:pt x="1590" y="916"/>
                  </a:lnTo>
                  <a:lnTo>
                    <a:pt x="1590" y="923"/>
                  </a:lnTo>
                  <a:lnTo>
                    <a:pt x="1594" y="923"/>
                  </a:lnTo>
                  <a:lnTo>
                    <a:pt x="1594" y="958"/>
                  </a:lnTo>
                  <a:lnTo>
                    <a:pt x="1600" y="958"/>
                  </a:lnTo>
                  <a:lnTo>
                    <a:pt x="1600" y="975"/>
                  </a:lnTo>
                  <a:lnTo>
                    <a:pt x="1604" y="975"/>
                  </a:lnTo>
                  <a:lnTo>
                    <a:pt x="1604" y="994"/>
                  </a:lnTo>
                  <a:lnTo>
                    <a:pt x="1608" y="994"/>
                  </a:lnTo>
                  <a:lnTo>
                    <a:pt x="1608" y="1029"/>
                  </a:lnTo>
                  <a:lnTo>
                    <a:pt x="1614" y="1029"/>
                  </a:lnTo>
                  <a:lnTo>
                    <a:pt x="1614" y="1041"/>
                  </a:lnTo>
                  <a:lnTo>
                    <a:pt x="1618" y="1041"/>
                  </a:lnTo>
                  <a:lnTo>
                    <a:pt x="1618" y="1065"/>
                  </a:lnTo>
                  <a:lnTo>
                    <a:pt x="1623" y="1065"/>
                  </a:lnTo>
                  <a:lnTo>
                    <a:pt x="1623" y="1082"/>
                  </a:lnTo>
                  <a:lnTo>
                    <a:pt x="1618" y="1082"/>
                  </a:lnTo>
                  <a:lnTo>
                    <a:pt x="1618" y="1087"/>
                  </a:lnTo>
                  <a:lnTo>
                    <a:pt x="1614" y="1087"/>
                  </a:lnTo>
                  <a:lnTo>
                    <a:pt x="1614" y="1141"/>
                  </a:lnTo>
                  <a:lnTo>
                    <a:pt x="1608" y="1141"/>
                  </a:lnTo>
                  <a:lnTo>
                    <a:pt x="1608" y="1152"/>
                  </a:lnTo>
                  <a:lnTo>
                    <a:pt x="1604" y="1152"/>
                  </a:lnTo>
                  <a:lnTo>
                    <a:pt x="1604" y="1160"/>
                  </a:lnTo>
                  <a:lnTo>
                    <a:pt x="1600" y="1160"/>
                  </a:lnTo>
                  <a:lnTo>
                    <a:pt x="1600" y="1165"/>
                  </a:lnTo>
                  <a:lnTo>
                    <a:pt x="1566" y="1165"/>
                  </a:lnTo>
                  <a:lnTo>
                    <a:pt x="1566" y="1170"/>
                  </a:lnTo>
                  <a:lnTo>
                    <a:pt x="1556" y="1170"/>
                  </a:lnTo>
                  <a:lnTo>
                    <a:pt x="1556" y="1177"/>
                  </a:lnTo>
                  <a:lnTo>
                    <a:pt x="1537" y="1177"/>
                  </a:lnTo>
                  <a:lnTo>
                    <a:pt x="1537" y="1182"/>
                  </a:lnTo>
                  <a:lnTo>
                    <a:pt x="1527" y="1182"/>
                  </a:lnTo>
                  <a:lnTo>
                    <a:pt x="1527" y="1188"/>
                  </a:lnTo>
                  <a:lnTo>
                    <a:pt x="1509" y="1188"/>
                  </a:lnTo>
                  <a:lnTo>
                    <a:pt x="1509" y="1193"/>
                  </a:lnTo>
                  <a:lnTo>
                    <a:pt x="1504" y="1193"/>
                  </a:lnTo>
                  <a:lnTo>
                    <a:pt x="1504" y="1201"/>
                  </a:lnTo>
                  <a:lnTo>
                    <a:pt x="1499" y="1201"/>
                  </a:lnTo>
                  <a:lnTo>
                    <a:pt x="1499" y="1206"/>
                  </a:lnTo>
                  <a:lnTo>
                    <a:pt x="1479" y="1206"/>
                  </a:lnTo>
                  <a:lnTo>
                    <a:pt x="1479" y="1212"/>
                  </a:lnTo>
                  <a:lnTo>
                    <a:pt x="1465" y="1212"/>
                  </a:lnTo>
                  <a:lnTo>
                    <a:pt x="1465" y="1218"/>
                  </a:lnTo>
                  <a:lnTo>
                    <a:pt x="1456" y="1218"/>
                  </a:lnTo>
                  <a:lnTo>
                    <a:pt x="1456" y="1223"/>
                  </a:lnTo>
                  <a:lnTo>
                    <a:pt x="1446" y="1223"/>
                  </a:lnTo>
                  <a:lnTo>
                    <a:pt x="1446" y="1230"/>
                  </a:lnTo>
                  <a:lnTo>
                    <a:pt x="1431" y="1230"/>
                  </a:lnTo>
                  <a:lnTo>
                    <a:pt x="1431" y="1236"/>
                  </a:lnTo>
                  <a:lnTo>
                    <a:pt x="1427" y="1236"/>
                  </a:lnTo>
                  <a:lnTo>
                    <a:pt x="1427" y="1242"/>
                  </a:lnTo>
                  <a:lnTo>
                    <a:pt x="1417" y="1242"/>
                  </a:lnTo>
                  <a:lnTo>
                    <a:pt x="1417" y="1247"/>
                  </a:lnTo>
                  <a:lnTo>
                    <a:pt x="1397" y="1247"/>
                  </a:lnTo>
                  <a:lnTo>
                    <a:pt x="1397" y="1253"/>
                  </a:lnTo>
                  <a:lnTo>
                    <a:pt x="1393" y="1253"/>
                  </a:lnTo>
                  <a:lnTo>
                    <a:pt x="1393" y="1260"/>
                  </a:lnTo>
                  <a:lnTo>
                    <a:pt x="1383" y="1260"/>
                  </a:lnTo>
                  <a:lnTo>
                    <a:pt x="1383" y="1266"/>
                  </a:lnTo>
                  <a:lnTo>
                    <a:pt x="1369" y="1266"/>
                  </a:lnTo>
                  <a:lnTo>
                    <a:pt x="1369" y="1271"/>
                  </a:lnTo>
                  <a:lnTo>
                    <a:pt x="1354" y="1271"/>
                  </a:lnTo>
                  <a:lnTo>
                    <a:pt x="1354" y="1277"/>
                  </a:lnTo>
                  <a:lnTo>
                    <a:pt x="1346" y="1277"/>
                  </a:lnTo>
                  <a:lnTo>
                    <a:pt x="1346" y="1283"/>
                  </a:lnTo>
                  <a:lnTo>
                    <a:pt x="1326" y="1283"/>
                  </a:lnTo>
                  <a:lnTo>
                    <a:pt x="1326" y="1288"/>
                  </a:lnTo>
                  <a:lnTo>
                    <a:pt x="1311" y="1288"/>
                  </a:lnTo>
                  <a:lnTo>
                    <a:pt x="1311" y="1296"/>
                  </a:lnTo>
                  <a:lnTo>
                    <a:pt x="1302" y="1296"/>
                  </a:lnTo>
                  <a:lnTo>
                    <a:pt x="1302" y="1301"/>
                  </a:lnTo>
                  <a:lnTo>
                    <a:pt x="1287" y="1301"/>
                  </a:lnTo>
                  <a:lnTo>
                    <a:pt x="1287" y="1307"/>
                  </a:lnTo>
                  <a:lnTo>
                    <a:pt x="1278" y="1307"/>
                  </a:lnTo>
                  <a:lnTo>
                    <a:pt x="1278" y="1312"/>
                  </a:lnTo>
                  <a:lnTo>
                    <a:pt x="1263" y="1312"/>
                  </a:lnTo>
                  <a:lnTo>
                    <a:pt x="1263" y="1319"/>
                  </a:lnTo>
                  <a:lnTo>
                    <a:pt x="1249" y="1319"/>
                  </a:lnTo>
                  <a:lnTo>
                    <a:pt x="1249" y="1324"/>
                  </a:lnTo>
                  <a:lnTo>
                    <a:pt x="1234" y="1324"/>
                  </a:lnTo>
                  <a:lnTo>
                    <a:pt x="1234" y="1329"/>
                  </a:lnTo>
                  <a:lnTo>
                    <a:pt x="1216" y="1329"/>
                  </a:lnTo>
                  <a:lnTo>
                    <a:pt x="1216" y="1337"/>
                  </a:lnTo>
                  <a:lnTo>
                    <a:pt x="1206" y="1337"/>
                  </a:lnTo>
                  <a:lnTo>
                    <a:pt x="1206" y="1342"/>
                  </a:lnTo>
                  <a:lnTo>
                    <a:pt x="1195" y="1342"/>
                  </a:lnTo>
                  <a:lnTo>
                    <a:pt x="1195" y="1348"/>
                  </a:lnTo>
                  <a:lnTo>
                    <a:pt x="1181" y="1348"/>
                  </a:lnTo>
                  <a:lnTo>
                    <a:pt x="1181" y="1354"/>
                  </a:lnTo>
                  <a:lnTo>
                    <a:pt x="1172" y="1354"/>
                  </a:lnTo>
                  <a:lnTo>
                    <a:pt x="1172" y="1361"/>
                  </a:lnTo>
                  <a:lnTo>
                    <a:pt x="1162" y="1361"/>
                  </a:lnTo>
                  <a:lnTo>
                    <a:pt x="1162" y="1366"/>
                  </a:lnTo>
                  <a:lnTo>
                    <a:pt x="1153" y="1366"/>
                  </a:lnTo>
                  <a:lnTo>
                    <a:pt x="1153" y="1372"/>
                  </a:lnTo>
                  <a:lnTo>
                    <a:pt x="1139" y="1372"/>
                  </a:lnTo>
                  <a:lnTo>
                    <a:pt x="1139" y="1378"/>
                  </a:lnTo>
                  <a:lnTo>
                    <a:pt x="1119" y="1378"/>
                  </a:lnTo>
                  <a:lnTo>
                    <a:pt x="1119" y="1383"/>
                  </a:lnTo>
                  <a:lnTo>
                    <a:pt x="1100" y="1383"/>
                  </a:lnTo>
                  <a:lnTo>
                    <a:pt x="1100" y="1389"/>
                  </a:lnTo>
                  <a:lnTo>
                    <a:pt x="1090" y="1389"/>
                  </a:lnTo>
                  <a:lnTo>
                    <a:pt x="1090" y="1396"/>
                  </a:lnTo>
                  <a:lnTo>
                    <a:pt x="1081" y="1396"/>
                  </a:lnTo>
                  <a:lnTo>
                    <a:pt x="1081" y="1402"/>
                  </a:lnTo>
                  <a:lnTo>
                    <a:pt x="1062" y="1402"/>
                  </a:lnTo>
                  <a:lnTo>
                    <a:pt x="1062" y="1407"/>
                  </a:lnTo>
                  <a:lnTo>
                    <a:pt x="1047" y="1407"/>
                  </a:lnTo>
                  <a:lnTo>
                    <a:pt x="1047" y="1413"/>
                  </a:lnTo>
                  <a:lnTo>
                    <a:pt x="1032" y="1413"/>
                  </a:lnTo>
                  <a:lnTo>
                    <a:pt x="1032" y="1419"/>
                  </a:lnTo>
                  <a:lnTo>
                    <a:pt x="1013" y="1419"/>
                  </a:lnTo>
                  <a:lnTo>
                    <a:pt x="1013" y="1424"/>
                  </a:lnTo>
                  <a:lnTo>
                    <a:pt x="1009" y="1424"/>
                  </a:lnTo>
                  <a:lnTo>
                    <a:pt x="1009" y="1430"/>
                  </a:lnTo>
                  <a:lnTo>
                    <a:pt x="995" y="1430"/>
                  </a:lnTo>
                  <a:lnTo>
                    <a:pt x="995" y="1437"/>
                  </a:lnTo>
                  <a:lnTo>
                    <a:pt x="985" y="1437"/>
                  </a:lnTo>
                  <a:lnTo>
                    <a:pt x="985" y="1443"/>
                  </a:lnTo>
                  <a:lnTo>
                    <a:pt x="975" y="1443"/>
                  </a:lnTo>
                  <a:lnTo>
                    <a:pt x="975" y="1448"/>
                  </a:lnTo>
                  <a:lnTo>
                    <a:pt x="961" y="1448"/>
                  </a:lnTo>
                  <a:lnTo>
                    <a:pt x="961" y="1455"/>
                  </a:lnTo>
                  <a:lnTo>
                    <a:pt x="942" y="1455"/>
                  </a:lnTo>
                  <a:lnTo>
                    <a:pt x="942" y="1460"/>
                  </a:lnTo>
                  <a:lnTo>
                    <a:pt x="927" y="1460"/>
                  </a:lnTo>
                  <a:lnTo>
                    <a:pt x="927" y="1467"/>
                  </a:lnTo>
                  <a:lnTo>
                    <a:pt x="918" y="1467"/>
                  </a:lnTo>
                  <a:lnTo>
                    <a:pt x="918" y="1473"/>
                  </a:lnTo>
                  <a:lnTo>
                    <a:pt x="902" y="1473"/>
                  </a:lnTo>
                  <a:lnTo>
                    <a:pt x="902" y="1478"/>
                  </a:lnTo>
                  <a:lnTo>
                    <a:pt x="883" y="1478"/>
                  </a:lnTo>
                  <a:lnTo>
                    <a:pt x="883" y="1483"/>
                  </a:lnTo>
                  <a:lnTo>
                    <a:pt x="874" y="1483"/>
                  </a:lnTo>
                  <a:lnTo>
                    <a:pt x="874" y="1489"/>
                  </a:lnTo>
                  <a:lnTo>
                    <a:pt x="860" y="1489"/>
                  </a:lnTo>
                  <a:lnTo>
                    <a:pt x="860" y="1495"/>
                  </a:lnTo>
                  <a:lnTo>
                    <a:pt x="850" y="1495"/>
                  </a:lnTo>
                  <a:lnTo>
                    <a:pt x="850" y="1502"/>
                  </a:lnTo>
                  <a:lnTo>
                    <a:pt x="835" y="1502"/>
                  </a:lnTo>
                  <a:lnTo>
                    <a:pt x="835" y="1507"/>
                  </a:lnTo>
                  <a:lnTo>
                    <a:pt x="826" y="1507"/>
                  </a:lnTo>
                  <a:lnTo>
                    <a:pt x="826" y="1514"/>
                  </a:lnTo>
                  <a:lnTo>
                    <a:pt x="802" y="1514"/>
                  </a:lnTo>
                  <a:lnTo>
                    <a:pt x="802" y="1519"/>
                  </a:lnTo>
                  <a:lnTo>
                    <a:pt x="784" y="1519"/>
                  </a:lnTo>
                  <a:lnTo>
                    <a:pt x="784" y="1525"/>
                  </a:lnTo>
                  <a:lnTo>
                    <a:pt x="754" y="1525"/>
                  </a:lnTo>
                  <a:lnTo>
                    <a:pt x="754" y="1532"/>
                  </a:lnTo>
                  <a:lnTo>
                    <a:pt x="725" y="1532"/>
                  </a:lnTo>
                  <a:lnTo>
                    <a:pt x="725" y="1537"/>
                  </a:lnTo>
                  <a:lnTo>
                    <a:pt x="702" y="1537"/>
                  </a:lnTo>
                  <a:lnTo>
                    <a:pt x="702" y="1543"/>
                  </a:lnTo>
                  <a:lnTo>
                    <a:pt x="681" y="1543"/>
                  </a:lnTo>
                  <a:lnTo>
                    <a:pt x="681" y="1537"/>
                  </a:lnTo>
                  <a:lnTo>
                    <a:pt x="639" y="1537"/>
                  </a:lnTo>
                  <a:lnTo>
                    <a:pt x="639" y="1543"/>
                  </a:lnTo>
                  <a:lnTo>
                    <a:pt x="610" y="1543"/>
                  </a:lnTo>
                  <a:lnTo>
                    <a:pt x="610" y="1549"/>
                  </a:lnTo>
                  <a:lnTo>
                    <a:pt x="595" y="1549"/>
                  </a:lnTo>
                  <a:lnTo>
                    <a:pt x="595" y="1543"/>
                  </a:lnTo>
                  <a:lnTo>
                    <a:pt x="558" y="1543"/>
                  </a:lnTo>
                  <a:lnTo>
                    <a:pt x="558" y="1537"/>
                  </a:lnTo>
                  <a:lnTo>
                    <a:pt x="486" y="1537"/>
                  </a:lnTo>
                  <a:lnTo>
                    <a:pt x="486" y="1532"/>
                  </a:lnTo>
                  <a:lnTo>
                    <a:pt x="466" y="1532"/>
                  </a:lnTo>
                  <a:lnTo>
                    <a:pt x="466" y="1525"/>
                  </a:lnTo>
                  <a:lnTo>
                    <a:pt x="437" y="1525"/>
                  </a:lnTo>
                  <a:lnTo>
                    <a:pt x="437" y="1519"/>
                  </a:lnTo>
                  <a:lnTo>
                    <a:pt x="409" y="1519"/>
                  </a:lnTo>
                  <a:lnTo>
                    <a:pt x="409" y="1514"/>
                  </a:lnTo>
                  <a:lnTo>
                    <a:pt x="384" y="1514"/>
                  </a:lnTo>
                  <a:lnTo>
                    <a:pt x="384" y="1507"/>
                  </a:lnTo>
                  <a:lnTo>
                    <a:pt x="374" y="1507"/>
                  </a:lnTo>
                  <a:lnTo>
                    <a:pt x="374" y="1502"/>
                  </a:lnTo>
                  <a:lnTo>
                    <a:pt x="360" y="1502"/>
                  </a:lnTo>
                  <a:lnTo>
                    <a:pt x="360" y="1495"/>
                  </a:lnTo>
                  <a:lnTo>
                    <a:pt x="346" y="1495"/>
                  </a:lnTo>
                  <a:lnTo>
                    <a:pt x="346" y="1489"/>
                  </a:lnTo>
                  <a:lnTo>
                    <a:pt x="317" y="1489"/>
                  </a:lnTo>
                  <a:lnTo>
                    <a:pt x="317" y="1483"/>
                  </a:lnTo>
                  <a:lnTo>
                    <a:pt x="307" y="1483"/>
                  </a:lnTo>
                  <a:lnTo>
                    <a:pt x="307" y="1478"/>
                  </a:lnTo>
                  <a:lnTo>
                    <a:pt x="297" y="1478"/>
                  </a:lnTo>
                  <a:lnTo>
                    <a:pt x="297" y="1473"/>
                  </a:lnTo>
                  <a:lnTo>
                    <a:pt x="288" y="1473"/>
                  </a:lnTo>
                  <a:lnTo>
                    <a:pt x="288" y="1467"/>
                  </a:lnTo>
                  <a:lnTo>
                    <a:pt x="270" y="1467"/>
                  </a:lnTo>
                  <a:lnTo>
                    <a:pt x="270" y="1460"/>
                  </a:lnTo>
                  <a:lnTo>
                    <a:pt x="254" y="1460"/>
                  </a:lnTo>
                  <a:lnTo>
                    <a:pt x="254" y="1455"/>
                  </a:lnTo>
                  <a:lnTo>
                    <a:pt x="244" y="1455"/>
                  </a:lnTo>
                  <a:lnTo>
                    <a:pt x="244" y="1448"/>
                  </a:lnTo>
                  <a:lnTo>
                    <a:pt x="235" y="1448"/>
                  </a:lnTo>
                  <a:lnTo>
                    <a:pt x="235" y="1443"/>
                  </a:lnTo>
                  <a:lnTo>
                    <a:pt x="221" y="1443"/>
                  </a:lnTo>
                  <a:lnTo>
                    <a:pt x="221" y="1437"/>
                  </a:lnTo>
                  <a:lnTo>
                    <a:pt x="211" y="1437"/>
                  </a:lnTo>
                  <a:lnTo>
                    <a:pt x="211" y="1430"/>
                  </a:lnTo>
                  <a:lnTo>
                    <a:pt x="207" y="1430"/>
                  </a:lnTo>
                  <a:lnTo>
                    <a:pt x="207" y="1424"/>
                  </a:lnTo>
                  <a:lnTo>
                    <a:pt x="197" y="1424"/>
                  </a:lnTo>
                  <a:lnTo>
                    <a:pt x="197" y="1419"/>
                  </a:lnTo>
                  <a:lnTo>
                    <a:pt x="193" y="1419"/>
                  </a:lnTo>
                  <a:lnTo>
                    <a:pt x="193" y="1413"/>
                  </a:lnTo>
                  <a:lnTo>
                    <a:pt x="182" y="1413"/>
                  </a:lnTo>
                  <a:lnTo>
                    <a:pt x="182" y="1407"/>
                  </a:lnTo>
                  <a:lnTo>
                    <a:pt x="167" y="1407"/>
                  </a:lnTo>
                  <a:lnTo>
                    <a:pt x="167" y="1402"/>
                  </a:lnTo>
                  <a:lnTo>
                    <a:pt x="159" y="1402"/>
                  </a:lnTo>
                  <a:lnTo>
                    <a:pt x="159" y="1396"/>
                  </a:lnTo>
                  <a:lnTo>
                    <a:pt x="153" y="1396"/>
                  </a:lnTo>
                  <a:lnTo>
                    <a:pt x="153" y="1389"/>
                  </a:lnTo>
                  <a:lnTo>
                    <a:pt x="149" y="1389"/>
                  </a:lnTo>
                  <a:lnTo>
                    <a:pt x="149" y="1383"/>
                  </a:lnTo>
                  <a:lnTo>
                    <a:pt x="145" y="1383"/>
                  </a:lnTo>
                  <a:lnTo>
                    <a:pt x="145" y="1378"/>
                  </a:lnTo>
                  <a:lnTo>
                    <a:pt x="139" y="1378"/>
                  </a:lnTo>
                  <a:lnTo>
                    <a:pt x="139" y="1372"/>
                  </a:lnTo>
                  <a:lnTo>
                    <a:pt x="135" y="1372"/>
                  </a:lnTo>
                  <a:lnTo>
                    <a:pt x="135" y="1361"/>
                  </a:lnTo>
                  <a:lnTo>
                    <a:pt x="130" y="1361"/>
                  </a:lnTo>
                  <a:lnTo>
                    <a:pt x="130" y="1354"/>
                  </a:lnTo>
                  <a:lnTo>
                    <a:pt x="126" y="1354"/>
                  </a:lnTo>
                  <a:lnTo>
                    <a:pt x="126" y="1348"/>
                  </a:lnTo>
                  <a:lnTo>
                    <a:pt x="120" y="1348"/>
                  </a:lnTo>
                  <a:lnTo>
                    <a:pt x="120" y="1342"/>
                  </a:lnTo>
                  <a:lnTo>
                    <a:pt x="116" y="1342"/>
                  </a:lnTo>
                  <a:lnTo>
                    <a:pt x="116" y="1337"/>
                  </a:lnTo>
                  <a:lnTo>
                    <a:pt x="110" y="1337"/>
                  </a:lnTo>
                  <a:lnTo>
                    <a:pt x="110" y="1329"/>
                  </a:lnTo>
                  <a:lnTo>
                    <a:pt x="105" y="1329"/>
                  </a:lnTo>
                  <a:lnTo>
                    <a:pt x="105" y="1319"/>
                  </a:lnTo>
                  <a:lnTo>
                    <a:pt x="101" y="1319"/>
                  </a:lnTo>
                  <a:lnTo>
                    <a:pt x="101" y="1312"/>
                  </a:lnTo>
                  <a:lnTo>
                    <a:pt x="96" y="1312"/>
                  </a:lnTo>
                  <a:lnTo>
                    <a:pt x="96" y="1301"/>
                  </a:lnTo>
                  <a:lnTo>
                    <a:pt x="91" y="1301"/>
                  </a:lnTo>
                  <a:lnTo>
                    <a:pt x="91" y="1296"/>
                  </a:lnTo>
                  <a:lnTo>
                    <a:pt x="86" y="1296"/>
                  </a:lnTo>
                  <a:lnTo>
                    <a:pt x="86" y="1288"/>
                  </a:lnTo>
                  <a:lnTo>
                    <a:pt x="82" y="1288"/>
                  </a:lnTo>
                  <a:lnTo>
                    <a:pt x="82" y="1277"/>
                  </a:lnTo>
                  <a:lnTo>
                    <a:pt x="77" y="1277"/>
                  </a:lnTo>
                  <a:lnTo>
                    <a:pt x="77" y="1266"/>
                  </a:lnTo>
                  <a:lnTo>
                    <a:pt x="72" y="1266"/>
                  </a:lnTo>
                  <a:lnTo>
                    <a:pt x="72" y="1260"/>
                  </a:lnTo>
                  <a:lnTo>
                    <a:pt x="67" y="1260"/>
                  </a:lnTo>
                  <a:lnTo>
                    <a:pt x="67" y="1253"/>
                  </a:lnTo>
                  <a:lnTo>
                    <a:pt x="63" y="1253"/>
                  </a:lnTo>
                  <a:lnTo>
                    <a:pt x="63" y="1242"/>
                  </a:lnTo>
                  <a:lnTo>
                    <a:pt x="58" y="1242"/>
                  </a:lnTo>
                  <a:lnTo>
                    <a:pt x="58" y="1236"/>
                  </a:lnTo>
                  <a:lnTo>
                    <a:pt x="53" y="1236"/>
                  </a:lnTo>
                  <a:lnTo>
                    <a:pt x="53" y="1223"/>
                  </a:lnTo>
                  <a:lnTo>
                    <a:pt x="49" y="1223"/>
                  </a:lnTo>
                  <a:lnTo>
                    <a:pt x="49" y="1218"/>
                  </a:lnTo>
                  <a:lnTo>
                    <a:pt x="43" y="1218"/>
                  </a:lnTo>
                  <a:lnTo>
                    <a:pt x="43" y="1206"/>
                  </a:lnTo>
                  <a:lnTo>
                    <a:pt x="38" y="1206"/>
                  </a:lnTo>
                  <a:lnTo>
                    <a:pt x="38" y="1188"/>
                  </a:lnTo>
                  <a:lnTo>
                    <a:pt x="33" y="1188"/>
                  </a:lnTo>
                  <a:lnTo>
                    <a:pt x="33" y="1170"/>
                  </a:lnTo>
                  <a:lnTo>
                    <a:pt x="29" y="1170"/>
                  </a:lnTo>
                  <a:lnTo>
                    <a:pt x="29" y="1152"/>
                  </a:lnTo>
                  <a:lnTo>
                    <a:pt x="24" y="1152"/>
                  </a:lnTo>
                  <a:lnTo>
                    <a:pt x="24" y="1135"/>
                  </a:lnTo>
                  <a:lnTo>
                    <a:pt x="15" y="1135"/>
                  </a:lnTo>
                  <a:lnTo>
                    <a:pt x="15" y="1106"/>
                  </a:lnTo>
                  <a:lnTo>
                    <a:pt x="9" y="1106"/>
                  </a:lnTo>
                  <a:lnTo>
                    <a:pt x="9" y="1094"/>
                  </a:lnTo>
                  <a:lnTo>
                    <a:pt x="5" y="1094"/>
                  </a:lnTo>
                  <a:lnTo>
                    <a:pt x="5" y="1087"/>
                  </a:lnTo>
                  <a:lnTo>
                    <a:pt x="0" y="1087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10120" y="1424520"/>
              <a:ext cx="216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24600" y="2674080"/>
              <a:ext cx="361080" cy="398520"/>
            </a:xfrm>
            <a:custGeom>
              <a:avLst/>
              <a:gdLst/>
              <a:ahLst/>
              <a:rect l="l" t="t" r="r" b="b"/>
              <a:pathLst>
                <a:path w="1388" h="2045">
                  <a:moveTo>
                    <a:pt x="0" y="1300"/>
                  </a:moveTo>
                  <a:lnTo>
                    <a:pt x="4" y="1300"/>
                  </a:lnTo>
                  <a:lnTo>
                    <a:pt x="4" y="1283"/>
                  </a:lnTo>
                  <a:lnTo>
                    <a:pt x="39" y="1283"/>
                  </a:lnTo>
                  <a:lnTo>
                    <a:pt x="39" y="1288"/>
                  </a:lnTo>
                  <a:lnTo>
                    <a:pt x="44" y="1288"/>
                  </a:lnTo>
                  <a:lnTo>
                    <a:pt x="44" y="1295"/>
                  </a:lnTo>
                  <a:lnTo>
                    <a:pt x="48" y="1295"/>
                  </a:lnTo>
                  <a:lnTo>
                    <a:pt x="48" y="1318"/>
                  </a:lnTo>
                  <a:lnTo>
                    <a:pt x="53" y="1318"/>
                  </a:lnTo>
                  <a:lnTo>
                    <a:pt x="53" y="1330"/>
                  </a:lnTo>
                  <a:lnTo>
                    <a:pt x="58" y="1330"/>
                  </a:lnTo>
                  <a:lnTo>
                    <a:pt x="58" y="1342"/>
                  </a:lnTo>
                  <a:lnTo>
                    <a:pt x="63" y="1342"/>
                  </a:lnTo>
                  <a:lnTo>
                    <a:pt x="63" y="1359"/>
                  </a:lnTo>
                  <a:lnTo>
                    <a:pt x="67" y="1359"/>
                  </a:lnTo>
                  <a:lnTo>
                    <a:pt x="67" y="1365"/>
                  </a:lnTo>
                  <a:lnTo>
                    <a:pt x="72" y="1365"/>
                  </a:lnTo>
                  <a:lnTo>
                    <a:pt x="72" y="1371"/>
                  </a:lnTo>
                  <a:lnTo>
                    <a:pt x="77" y="1371"/>
                  </a:lnTo>
                  <a:lnTo>
                    <a:pt x="77" y="1383"/>
                  </a:lnTo>
                  <a:lnTo>
                    <a:pt x="82" y="1383"/>
                  </a:lnTo>
                  <a:lnTo>
                    <a:pt x="82" y="1389"/>
                  </a:lnTo>
                  <a:lnTo>
                    <a:pt x="86" y="1389"/>
                  </a:lnTo>
                  <a:lnTo>
                    <a:pt x="86" y="1395"/>
                  </a:lnTo>
                  <a:lnTo>
                    <a:pt x="91" y="1395"/>
                  </a:lnTo>
                  <a:lnTo>
                    <a:pt x="91" y="1406"/>
                  </a:lnTo>
                  <a:lnTo>
                    <a:pt x="96" y="1406"/>
                  </a:lnTo>
                  <a:lnTo>
                    <a:pt x="96" y="1413"/>
                  </a:lnTo>
                  <a:lnTo>
                    <a:pt x="100" y="1413"/>
                  </a:lnTo>
                  <a:lnTo>
                    <a:pt x="100" y="1424"/>
                  </a:lnTo>
                  <a:lnTo>
                    <a:pt x="107" y="1424"/>
                  </a:lnTo>
                  <a:lnTo>
                    <a:pt x="107" y="1436"/>
                  </a:lnTo>
                  <a:lnTo>
                    <a:pt x="111" y="1436"/>
                  </a:lnTo>
                  <a:lnTo>
                    <a:pt x="111" y="1441"/>
                  </a:lnTo>
                  <a:lnTo>
                    <a:pt x="116" y="1441"/>
                  </a:lnTo>
                  <a:lnTo>
                    <a:pt x="116" y="1454"/>
                  </a:lnTo>
                  <a:lnTo>
                    <a:pt x="120" y="1454"/>
                  </a:lnTo>
                  <a:lnTo>
                    <a:pt x="120" y="1465"/>
                  </a:lnTo>
                  <a:lnTo>
                    <a:pt x="126" y="1465"/>
                  </a:lnTo>
                  <a:lnTo>
                    <a:pt x="126" y="1478"/>
                  </a:lnTo>
                  <a:lnTo>
                    <a:pt x="130" y="1478"/>
                  </a:lnTo>
                  <a:lnTo>
                    <a:pt x="130" y="1483"/>
                  </a:lnTo>
                  <a:lnTo>
                    <a:pt x="134" y="1483"/>
                  </a:lnTo>
                  <a:lnTo>
                    <a:pt x="134" y="1501"/>
                  </a:lnTo>
                  <a:lnTo>
                    <a:pt x="140" y="1501"/>
                  </a:lnTo>
                  <a:lnTo>
                    <a:pt x="140" y="1514"/>
                  </a:lnTo>
                  <a:lnTo>
                    <a:pt x="144" y="1514"/>
                  </a:lnTo>
                  <a:lnTo>
                    <a:pt x="144" y="1525"/>
                  </a:lnTo>
                  <a:lnTo>
                    <a:pt x="149" y="1525"/>
                  </a:lnTo>
                  <a:lnTo>
                    <a:pt x="149" y="1536"/>
                  </a:lnTo>
                  <a:lnTo>
                    <a:pt x="154" y="1536"/>
                  </a:lnTo>
                  <a:lnTo>
                    <a:pt x="154" y="1542"/>
                  </a:lnTo>
                  <a:lnTo>
                    <a:pt x="159" y="1542"/>
                  </a:lnTo>
                  <a:lnTo>
                    <a:pt x="159" y="1549"/>
                  </a:lnTo>
                  <a:lnTo>
                    <a:pt x="163" y="1549"/>
                  </a:lnTo>
                  <a:lnTo>
                    <a:pt x="163" y="1566"/>
                  </a:lnTo>
                  <a:lnTo>
                    <a:pt x="168" y="1566"/>
                  </a:lnTo>
                  <a:lnTo>
                    <a:pt x="168" y="1584"/>
                  </a:lnTo>
                  <a:lnTo>
                    <a:pt x="173" y="1584"/>
                  </a:lnTo>
                  <a:lnTo>
                    <a:pt x="173" y="1590"/>
                  </a:lnTo>
                  <a:lnTo>
                    <a:pt x="178" y="1590"/>
                  </a:lnTo>
                  <a:lnTo>
                    <a:pt x="178" y="1601"/>
                  </a:lnTo>
                  <a:lnTo>
                    <a:pt x="183" y="1601"/>
                  </a:lnTo>
                  <a:lnTo>
                    <a:pt x="183" y="1614"/>
                  </a:lnTo>
                  <a:lnTo>
                    <a:pt x="188" y="1614"/>
                  </a:lnTo>
                  <a:lnTo>
                    <a:pt x="188" y="1626"/>
                  </a:lnTo>
                  <a:lnTo>
                    <a:pt x="193" y="1626"/>
                  </a:lnTo>
                  <a:lnTo>
                    <a:pt x="193" y="1637"/>
                  </a:lnTo>
                  <a:lnTo>
                    <a:pt x="197" y="1637"/>
                  </a:lnTo>
                  <a:lnTo>
                    <a:pt x="197" y="1650"/>
                  </a:lnTo>
                  <a:lnTo>
                    <a:pt x="203" y="1650"/>
                  </a:lnTo>
                  <a:lnTo>
                    <a:pt x="203" y="1661"/>
                  </a:lnTo>
                  <a:lnTo>
                    <a:pt x="207" y="1661"/>
                  </a:lnTo>
                  <a:lnTo>
                    <a:pt x="207" y="1673"/>
                  </a:lnTo>
                  <a:lnTo>
                    <a:pt x="211" y="1673"/>
                  </a:lnTo>
                  <a:lnTo>
                    <a:pt x="211" y="1685"/>
                  </a:lnTo>
                  <a:lnTo>
                    <a:pt x="216" y="1685"/>
                  </a:lnTo>
                  <a:lnTo>
                    <a:pt x="216" y="1696"/>
                  </a:lnTo>
                  <a:lnTo>
                    <a:pt x="221" y="1696"/>
                  </a:lnTo>
                  <a:lnTo>
                    <a:pt x="221" y="1708"/>
                  </a:lnTo>
                  <a:lnTo>
                    <a:pt x="226" y="1708"/>
                  </a:lnTo>
                  <a:lnTo>
                    <a:pt x="226" y="1715"/>
                  </a:lnTo>
                  <a:lnTo>
                    <a:pt x="230" y="1715"/>
                  </a:lnTo>
                  <a:lnTo>
                    <a:pt x="230" y="1720"/>
                  </a:lnTo>
                  <a:lnTo>
                    <a:pt x="236" y="1720"/>
                  </a:lnTo>
                  <a:lnTo>
                    <a:pt x="236" y="1737"/>
                  </a:lnTo>
                  <a:lnTo>
                    <a:pt x="240" y="1737"/>
                  </a:lnTo>
                  <a:lnTo>
                    <a:pt x="240" y="1745"/>
                  </a:lnTo>
                  <a:lnTo>
                    <a:pt x="245" y="1745"/>
                  </a:lnTo>
                  <a:lnTo>
                    <a:pt x="245" y="1755"/>
                  </a:lnTo>
                  <a:lnTo>
                    <a:pt x="251" y="1755"/>
                  </a:lnTo>
                  <a:lnTo>
                    <a:pt x="251" y="1767"/>
                  </a:lnTo>
                  <a:lnTo>
                    <a:pt x="255" y="1767"/>
                  </a:lnTo>
                  <a:lnTo>
                    <a:pt x="255" y="1786"/>
                  </a:lnTo>
                  <a:lnTo>
                    <a:pt x="260" y="1786"/>
                  </a:lnTo>
                  <a:lnTo>
                    <a:pt x="260" y="1796"/>
                  </a:lnTo>
                  <a:lnTo>
                    <a:pt x="264" y="1796"/>
                  </a:lnTo>
                  <a:lnTo>
                    <a:pt x="264" y="1808"/>
                  </a:lnTo>
                  <a:lnTo>
                    <a:pt x="269" y="1808"/>
                  </a:lnTo>
                  <a:lnTo>
                    <a:pt x="269" y="1814"/>
                  </a:lnTo>
                  <a:lnTo>
                    <a:pt x="274" y="1814"/>
                  </a:lnTo>
                  <a:lnTo>
                    <a:pt x="274" y="1832"/>
                  </a:lnTo>
                  <a:lnTo>
                    <a:pt x="278" y="1832"/>
                  </a:lnTo>
                  <a:lnTo>
                    <a:pt x="278" y="1844"/>
                  </a:lnTo>
                  <a:lnTo>
                    <a:pt x="284" y="1844"/>
                  </a:lnTo>
                  <a:lnTo>
                    <a:pt x="284" y="1862"/>
                  </a:lnTo>
                  <a:lnTo>
                    <a:pt x="288" y="1862"/>
                  </a:lnTo>
                  <a:lnTo>
                    <a:pt x="288" y="1868"/>
                  </a:lnTo>
                  <a:lnTo>
                    <a:pt x="293" y="1868"/>
                  </a:lnTo>
                  <a:lnTo>
                    <a:pt x="293" y="1879"/>
                  </a:lnTo>
                  <a:lnTo>
                    <a:pt x="298" y="1879"/>
                  </a:lnTo>
                  <a:lnTo>
                    <a:pt x="298" y="1886"/>
                  </a:lnTo>
                  <a:lnTo>
                    <a:pt x="302" y="1886"/>
                  </a:lnTo>
                  <a:lnTo>
                    <a:pt x="302" y="1892"/>
                  </a:lnTo>
                  <a:lnTo>
                    <a:pt x="307" y="1892"/>
                  </a:lnTo>
                  <a:lnTo>
                    <a:pt x="307" y="1909"/>
                  </a:lnTo>
                  <a:lnTo>
                    <a:pt x="312" y="1909"/>
                  </a:lnTo>
                  <a:lnTo>
                    <a:pt x="312" y="1922"/>
                  </a:lnTo>
                  <a:lnTo>
                    <a:pt x="317" y="1922"/>
                  </a:lnTo>
                  <a:lnTo>
                    <a:pt x="317" y="1938"/>
                  </a:lnTo>
                  <a:lnTo>
                    <a:pt x="322" y="1938"/>
                  </a:lnTo>
                  <a:lnTo>
                    <a:pt x="322" y="1955"/>
                  </a:lnTo>
                  <a:lnTo>
                    <a:pt x="327" y="1955"/>
                  </a:lnTo>
                  <a:lnTo>
                    <a:pt x="327" y="1963"/>
                  </a:lnTo>
                  <a:lnTo>
                    <a:pt x="332" y="1963"/>
                  </a:lnTo>
                  <a:lnTo>
                    <a:pt x="332" y="1968"/>
                  </a:lnTo>
                  <a:lnTo>
                    <a:pt x="337" y="1968"/>
                  </a:lnTo>
                  <a:lnTo>
                    <a:pt x="337" y="1974"/>
                  </a:lnTo>
                  <a:lnTo>
                    <a:pt x="374" y="1974"/>
                  </a:lnTo>
                  <a:lnTo>
                    <a:pt x="374" y="1968"/>
                  </a:lnTo>
                  <a:lnTo>
                    <a:pt x="399" y="1968"/>
                  </a:lnTo>
                  <a:lnTo>
                    <a:pt x="399" y="1963"/>
                  </a:lnTo>
                  <a:lnTo>
                    <a:pt x="451" y="1963"/>
                  </a:lnTo>
                  <a:lnTo>
                    <a:pt x="451" y="1955"/>
                  </a:lnTo>
                  <a:lnTo>
                    <a:pt x="467" y="1955"/>
                  </a:lnTo>
                  <a:lnTo>
                    <a:pt x="467" y="1950"/>
                  </a:lnTo>
                  <a:lnTo>
                    <a:pt x="491" y="1950"/>
                  </a:lnTo>
                  <a:lnTo>
                    <a:pt x="491" y="1945"/>
                  </a:lnTo>
                  <a:lnTo>
                    <a:pt x="504" y="1945"/>
                  </a:lnTo>
                  <a:lnTo>
                    <a:pt x="504" y="1938"/>
                  </a:lnTo>
                  <a:lnTo>
                    <a:pt x="524" y="1938"/>
                  </a:lnTo>
                  <a:lnTo>
                    <a:pt x="524" y="1933"/>
                  </a:lnTo>
                  <a:lnTo>
                    <a:pt x="553" y="1933"/>
                  </a:lnTo>
                  <a:lnTo>
                    <a:pt x="553" y="1927"/>
                  </a:lnTo>
                  <a:lnTo>
                    <a:pt x="567" y="1927"/>
                  </a:lnTo>
                  <a:lnTo>
                    <a:pt x="567" y="1922"/>
                  </a:lnTo>
                  <a:lnTo>
                    <a:pt x="587" y="1922"/>
                  </a:lnTo>
                  <a:lnTo>
                    <a:pt x="587" y="1914"/>
                  </a:lnTo>
                  <a:lnTo>
                    <a:pt x="600" y="1914"/>
                  </a:lnTo>
                  <a:lnTo>
                    <a:pt x="600" y="1909"/>
                  </a:lnTo>
                  <a:lnTo>
                    <a:pt x="620" y="1909"/>
                  </a:lnTo>
                  <a:lnTo>
                    <a:pt x="620" y="1903"/>
                  </a:lnTo>
                  <a:lnTo>
                    <a:pt x="629" y="1903"/>
                  </a:lnTo>
                  <a:lnTo>
                    <a:pt x="629" y="1897"/>
                  </a:lnTo>
                  <a:lnTo>
                    <a:pt x="653" y="1897"/>
                  </a:lnTo>
                  <a:lnTo>
                    <a:pt x="653" y="1892"/>
                  </a:lnTo>
                  <a:lnTo>
                    <a:pt x="662" y="1892"/>
                  </a:lnTo>
                  <a:lnTo>
                    <a:pt x="662" y="1886"/>
                  </a:lnTo>
                  <a:lnTo>
                    <a:pt x="687" y="1886"/>
                  </a:lnTo>
                  <a:lnTo>
                    <a:pt x="687" y="1879"/>
                  </a:lnTo>
                  <a:lnTo>
                    <a:pt x="692" y="1879"/>
                  </a:lnTo>
                  <a:lnTo>
                    <a:pt x="692" y="1873"/>
                  </a:lnTo>
                  <a:lnTo>
                    <a:pt x="702" y="1873"/>
                  </a:lnTo>
                  <a:lnTo>
                    <a:pt x="702" y="1868"/>
                  </a:lnTo>
                  <a:lnTo>
                    <a:pt x="716" y="1868"/>
                  </a:lnTo>
                  <a:lnTo>
                    <a:pt x="716" y="1862"/>
                  </a:lnTo>
                  <a:lnTo>
                    <a:pt x="725" y="1862"/>
                  </a:lnTo>
                  <a:lnTo>
                    <a:pt x="725" y="1856"/>
                  </a:lnTo>
                  <a:lnTo>
                    <a:pt x="744" y="1856"/>
                  </a:lnTo>
                  <a:lnTo>
                    <a:pt x="744" y="1849"/>
                  </a:lnTo>
                  <a:lnTo>
                    <a:pt x="755" y="1849"/>
                  </a:lnTo>
                  <a:lnTo>
                    <a:pt x="755" y="1844"/>
                  </a:lnTo>
                  <a:lnTo>
                    <a:pt x="765" y="1844"/>
                  </a:lnTo>
                  <a:lnTo>
                    <a:pt x="765" y="1838"/>
                  </a:lnTo>
                  <a:lnTo>
                    <a:pt x="779" y="1838"/>
                  </a:lnTo>
                  <a:lnTo>
                    <a:pt x="779" y="1832"/>
                  </a:lnTo>
                  <a:lnTo>
                    <a:pt x="788" y="1832"/>
                  </a:lnTo>
                  <a:lnTo>
                    <a:pt x="788" y="1827"/>
                  </a:lnTo>
                  <a:lnTo>
                    <a:pt x="798" y="1827"/>
                  </a:lnTo>
                  <a:lnTo>
                    <a:pt x="798" y="1819"/>
                  </a:lnTo>
                  <a:lnTo>
                    <a:pt x="807" y="1819"/>
                  </a:lnTo>
                  <a:lnTo>
                    <a:pt x="807" y="1814"/>
                  </a:lnTo>
                  <a:lnTo>
                    <a:pt x="816" y="1814"/>
                  </a:lnTo>
                  <a:lnTo>
                    <a:pt x="816" y="1808"/>
                  </a:lnTo>
                  <a:lnTo>
                    <a:pt x="832" y="1808"/>
                  </a:lnTo>
                  <a:lnTo>
                    <a:pt x="832" y="1803"/>
                  </a:lnTo>
                  <a:lnTo>
                    <a:pt x="836" y="1803"/>
                  </a:lnTo>
                  <a:lnTo>
                    <a:pt x="836" y="1796"/>
                  </a:lnTo>
                  <a:lnTo>
                    <a:pt x="850" y="1796"/>
                  </a:lnTo>
                  <a:lnTo>
                    <a:pt x="850" y="1791"/>
                  </a:lnTo>
                  <a:lnTo>
                    <a:pt x="860" y="1791"/>
                  </a:lnTo>
                  <a:lnTo>
                    <a:pt x="860" y="1786"/>
                  </a:lnTo>
                  <a:lnTo>
                    <a:pt x="879" y="1786"/>
                  </a:lnTo>
                  <a:lnTo>
                    <a:pt x="879" y="1778"/>
                  </a:lnTo>
                  <a:lnTo>
                    <a:pt x="893" y="1778"/>
                  </a:lnTo>
                  <a:lnTo>
                    <a:pt x="893" y="1773"/>
                  </a:lnTo>
                  <a:lnTo>
                    <a:pt x="899" y="1773"/>
                  </a:lnTo>
                  <a:lnTo>
                    <a:pt x="899" y="1767"/>
                  </a:lnTo>
                  <a:lnTo>
                    <a:pt x="909" y="1767"/>
                  </a:lnTo>
                  <a:lnTo>
                    <a:pt x="909" y="1761"/>
                  </a:lnTo>
                  <a:lnTo>
                    <a:pt x="928" y="1761"/>
                  </a:lnTo>
                  <a:lnTo>
                    <a:pt x="928" y="1755"/>
                  </a:lnTo>
                  <a:lnTo>
                    <a:pt x="937" y="1755"/>
                  </a:lnTo>
                  <a:lnTo>
                    <a:pt x="937" y="1750"/>
                  </a:lnTo>
                  <a:lnTo>
                    <a:pt x="942" y="1750"/>
                  </a:lnTo>
                  <a:lnTo>
                    <a:pt x="942" y="1745"/>
                  </a:lnTo>
                  <a:lnTo>
                    <a:pt x="950" y="1745"/>
                  </a:lnTo>
                  <a:lnTo>
                    <a:pt x="950" y="1737"/>
                  </a:lnTo>
                  <a:lnTo>
                    <a:pt x="960" y="1737"/>
                  </a:lnTo>
                  <a:lnTo>
                    <a:pt x="960" y="1732"/>
                  </a:lnTo>
                  <a:lnTo>
                    <a:pt x="970" y="1732"/>
                  </a:lnTo>
                  <a:lnTo>
                    <a:pt x="970" y="1726"/>
                  </a:lnTo>
                  <a:lnTo>
                    <a:pt x="985" y="1726"/>
                  </a:lnTo>
                  <a:lnTo>
                    <a:pt x="985" y="1720"/>
                  </a:lnTo>
                  <a:lnTo>
                    <a:pt x="994" y="1720"/>
                  </a:lnTo>
                  <a:lnTo>
                    <a:pt x="994" y="1715"/>
                  </a:lnTo>
                  <a:lnTo>
                    <a:pt x="1004" y="1715"/>
                  </a:lnTo>
                  <a:lnTo>
                    <a:pt x="1004" y="1708"/>
                  </a:lnTo>
                  <a:lnTo>
                    <a:pt x="1009" y="1708"/>
                  </a:lnTo>
                  <a:lnTo>
                    <a:pt x="1009" y="1702"/>
                  </a:lnTo>
                  <a:lnTo>
                    <a:pt x="1013" y="1702"/>
                  </a:lnTo>
                  <a:lnTo>
                    <a:pt x="1013" y="1696"/>
                  </a:lnTo>
                  <a:lnTo>
                    <a:pt x="1023" y="1696"/>
                  </a:lnTo>
                  <a:lnTo>
                    <a:pt x="1023" y="1691"/>
                  </a:lnTo>
                  <a:lnTo>
                    <a:pt x="1032" y="1691"/>
                  </a:lnTo>
                  <a:lnTo>
                    <a:pt x="1032" y="1685"/>
                  </a:lnTo>
                  <a:lnTo>
                    <a:pt x="1042" y="1685"/>
                  </a:lnTo>
                  <a:lnTo>
                    <a:pt x="1042" y="1678"/>
                  </a:lnTo>
                  <a:lnTo>
                    <a:pt x="1047" y="1678"/>
                  </a:lnTo>
                  <a:lnTo>
                    <a:pt x="1047" y="1673"/>
                  </a:lnTo>
                  <a:lnTo>
                    <a:pt x="1057" y="1673"/>
                  </a:lnTo>
                  <a:lnTo>
                    <a:pt x="1057" y="1667"/>
                  </a:lnTo>
                  <a:lnTo>
                    <a:pt x="1067" y="1667"/>
                  </a:lnTo>
                  <a:lnTo>
                    <a:pt x="1067" y="1661"/>
                  </a:lnTo>
                  <a:lnTo>
                    <a:pt x="1076" y="1661"/>
                  </a:lnTo>
                  <a:lnTo>
                    <a:pt x="1076" y="1655"/>
                  </a:lnTo>
                  <a:lnTo>
                    <a:pt x="1081" y="1655"/>
                  </a:lnTo>
                  <a:lnTo>
                    <a:pt x="1081" y="1650"/>
                  </a:lnTo>
                  <a:lnTo>
                    <a:pt x="1090" y="1650"/>
                  </a:lnTo>
                  <a:lnTo>
                    <a:pt x="1090" y="1642"/>
                  </a:lnTo>
                  <a:lnTo>
                    <a:pt x="1100" y="1642"/>
                  </a:lnTo>
                  <a:lnTo>
                    <a:pt x="1100" y="1637"/>
                  </a:lnTo>
                  <a:lnTo>
                    <a:pt x="1109" y="1637"/>
                  </a:lnTo>
                  <a:lnTo>
                    <a:pt x="1109" y="1632"/>
                  </a:lnTo>
                  <a:lnTo>
                    <a:pt x="1124" y="1632"/>
                  </a:lnTo>
                  <a:lnTo>
                    <a:pt x="1124" y="1626"/>
                  </a:lnTo>
                  <a:lnTo>
                    <a:pt x="1134" y="1626"/>
                  </a:lnTo>
                  <a:lnTo>
                    <a:pt x="1134" y="1620"/>
                  </a:lnTo>
                  <a:lnTo>
                    <a:pt x="1143" y="1620"/>
                  </a:lnTo>
                  <a:lnTo>
                    <a:pt x="1143" y="1614"/>
                  </a:lnTo>
                  <a:lnTo>
                    <a:pt x="1157" y="1614"/>
                  </a:lnTo>
                  <a:lnTo>
                    <a:pt x="1157" y="1609"/>
                  </a:lnTo>
                  <a:lnTo>
                    <a:pt x="1167" y="1609"/>
                  </a:lnTo>
                  <a:lnTo>
                    <a:pt x="1167" y="1601"/>
                  </a:lnTo>
                  <a:lnTo>
                    <a:pt x="1177" y="1601"/>
                  </a:lnTo>
                  <a:lnTo>
                    <a:pt x="1177" y="1596"/>
                  </a:lnTo>
                  <a:lnTo>
                    <a:pt x="1191" y="1596"/>
                  </a:lnTo>
                  <a:lnTo>
                    <a:pt x="1191" y="1590"/>
                  </a:lnTo>
                  <a:lnTo>
                    <a:pt x="1201" y="1590"/>
                  </a:lnTo>
                  <a:lnTo>
                    <a:pt x="1201" y="1584"/>
                  </a:lnTo>
                  <a:lnTo>
                    <a:pt x="1211" y="1584"/>
                  </a:lnTo>
                  <a:lnTo>
                    <a:pt x="1211" y="1579"/>
                  </a:lnTo>
                  <a:lnTo>
                    <a:pt x="1220" y="1579"/>
                  </a:lnTo>
                  <a:lnTo>
                    <a:pt x="1220" y="1572"/>
                  </a:lnTo>
                  <a:lnTo>
                    <a:pt x="1225" y="1572"/>
                  </a:lnTo>
                  <a:lnTo>
                    <a:pt x="1225" y="1566"/>
                  </a:lnTo>
                  <a:lnTo>
                    <a:pt x="1239" y="1566"/>
                  </a:lnTo>
                  <a:lnTo>
                    <a:pt x="1239" y="1560"/>
                  </a:lnTo>
                  <a:lnTo>
                    <a:pt x="1249" y="1560"/>
                  </a:lnTo>
                  <a:lnTo>
                    <a:pt x="1249" y="1555"/>
                  </a:lnTo>
                  <a:lnTo>
                    <a:pt x="1253" y="1555"/>
                  </a:lnTo>
                  <a:lnTo>
                    <a:pt x="1253" y="1549"/>
                  </a:lnTo>
                  <a:lnTo>
                    <a:pt x="1264" y="1549"/>
                  </a:lnTo>
                  <a:lnTo>
                    <a:pt x="1264" y="1536"/>
                  </a:lnTo>
                  <a:lnTo>
                    <a:pt x="1269" y="1536"/>
                  </a:lnTo>
                  <a:lnTo>
                    <a:pt x="1269" y="1531"/>
                  </a:lnTo>
                  <a:lnTo>
                    <a:pt x="1278" y="1531"/>
                  </a:lnTo>
                  <a:lnTo>
                    <a:pt x="1278" y="1525"/>
                  </a:lnTo>
                  <a:lnTo>
                    <a:pt x="1283" y="1525"/>
                  </a:lnTo>
                  <a:lnTo>
                    <a:pt x="1283" y="1519"/>
                  </a:lnTo>
                  <a:lnTo>
                    <a:pt x="1287" y="1519"/>
                  </a:lnTo>
                  <a:lnTo>
                    <a:pt x="1287" y="1514"/>
                  </a:lnTo>
                  <a:lnTo>
                    <a:pt x="1297" y="1514"/>
                  </a:lnTo>
                  <a:lnTo>
                    <a:pt x="1297" y="1508"/>
                  </a:lnTo>
                  <a:lnTo>
                    <a:pt x="1301" y="1508"/>
                  </a:lnTo>
                  <a:lnTo>
                    <a:pt x="1301" y="1501"/>
                  </a:lnTo>
                  <a:lnTo>
                    <a:pt x="1307" y="1501"/>
                  </a:lnTo>
                  <a:lnTo>
                    <a:pt x="1307" y="1495"/>
                  </a:lnTo>
                  <a:lnTo>
                    <a:pt x="1311" y="1495"/>
                  </a:lnTo>
                  <a:lnTo>
                    <a:pt x="1311" y="1490"/>
                  </a:lnTo>
                  <a:lnTo>
                    <a:pt x="1321" y="1490"/>
                  </a:lnTo>
                  <a:lnTo>
                    <a:pt x="1321" y="1483"/>
                  </a:lnTo>
                  <a:lnTo>
                    <a:pt x="1325" y="1483"/>
                  </a:lnTo>
                  <a:lnTo>
                    <a:pt x="1325" y="1465"/>
                  </a:lnTo>
                  <a:lnTo>
                    <a:pt x="1330" y="1465"/>
                  </a:lnTo>
                  <a:lnTo>
                    <a:pt x="1330" y="1430"/>
                  </a:lnTo>
                  <a:lnTo>
                    <a:pt x="1325" y="1430"/>
                  </a:lnTo>
                  <a:lnTo>
                    <a:pt x="1325" y="1413"/>
                  </a:lnTo>
                  <a:lnTo>
                    <a:pt x="1321" y="1413"/>
                  </a:lnTo>
                  <a:lnTo>
                    <a:pt x="1321" y="1400"/>
                  </a:lnTo>
                  <a:lnTo>
                    <a:pt x="1316" y="1400"/>
                  </a:lnTo>
                  <a:lnTo>
                    <a:pt x="1316" y="1389"/>
                  </a:lnTo>
                  <a:lnTo>
                    <a:pt x="1311" y="1389"/>
                  </a:lnTo>
                  <a:lnTo>
                    <a:pt x="1311" y="1371"/>
                  </a:lnTo>
                  <a:lnTo>
                    <a:pt x="1307" y="1371"/>
                  </a:lnTo>
                  <a:lnTo>
                    <a:pt x="1307" y="1335"/>
                  </a:lnTo>
                  <a:lnTo>
                    <a:pt x="1301" y="1335"/>
                  </a:lnTo>
                  <a:lnTo>
                    <a:pt x="1301" y="1318"/>
                  </a:lnTo>
                  <a:lnTo>
                    <a:pt x="1297" y="1318"/>
                  </a:lnTo>
                  <a:lnTo>
                    <a:pt x="1297" y="1305"/>
                  </a:lnTo>
                  <a:lnTo>
                    <a:pt x="1293" y="1305"/>
                  </a:lnTo>
                  <a:lnTo>
                    <a:pt x="1293" y="1288"/>
                  </a:lnTo>
                  <a:lnTo>
                    <a:pt x="1287" y="1288"/>
                  </a:lnTo>
                  <a:lnTo>
                    <a:pt x="1287" y="1283"/>
                  </a:lnTo>
                  <a:lnTo>
                    <a:pt x="1283" y="1283"/>
                  </a:lnTo>
                  <a:lnTo>
                    <a:pt x="1283" y="1265"/>
                  </a:lnTo>
                  <a:lnTo>
                    <a:pt x="1278" y="1265"/>
                  </a:lnTo>
                  <a:lnTo>
                    <a:pt x="1278" y="1254"/>
                  </a:lnTo>
                  <a:lnTo>
                    <a:pt x="1273" y="1254"/>
                  </a:lnTo>
                  <a:lnTo>
                    <a:pt x="1273" y="1247"/>
                  </a:lnTo>
                  <a:lnTo>
                    <a:pt x="1269" y="1247"/>
                  </a:lnTo>
                  <a:lnTo>
                    <a:pt x="1269" y="1229"/>
                  </a:lnTo>
                  <a:lnTo>
                    <a:pt x="1264" y="1229"/>
                  </a:lnTo>
                  <a:lnTo>
                    <a:pt x="1264" y="1218"/>
                  </a:lnTo>
                  <a:lnTo>
                    <a:pt x="1259" y="1218"/>
                  </a:lnTo>
                  <a:lnTo>
                    <a:pt x="1259" y="1206"/>
                  </a:lnTo>
                  <a:lnTo>
                    <a:pt x="1253" y="1206"/>
                  </a:lnTo>
                  <a:lnTo>
                    <a:pt x="1253" y="1188"/>
                  </a:lnTo>
                  <a:lnTo>
                    <a:pt x="1249" y="1188"/>
                  </a:lnTo>
                  <a:lnTo>
                    <a:pt x="1249" y="1182"/>
                  </a:lnTo>
                  <a:lnTo>
                    <a:pt x="1244" y="1182"/>
                  </a:lnTo>
                  <a:lnTo>
                    <a:pt x="1244" y="1169"/>
                  </a:lnTo>
                  <a:lnTo>
                    <a:pt x="1239" y="1169"/>
                  </a:lnTo>
                  <a:lnTo>
                    <a:pt x="1239" y="1159"/>
                  </a:lnTo>
                  <a:lnTo>
                    <a:pt x="1234" y="1159"/>
                  </a:lnTo>
                  <a:lnTo>
                    <a:pt x="1234" y="1153"/>
                  </a:lnTo>
                  <a:lnTo>
                    <a:pt x="1230" y="1153"/>
                  </a:lnTo>
                  <a:lnTo>
                    <a:pt x="1230" y="1136"/>
                  </a:lnTo>
                  <a:lnTo>
                    <a:pt x="1225" y="1136"/>
                  </a:lnTo>
                  <a:lnTo>
                    <a:pt x="1225" y="1128"/>
                  </a:lnTo>
                  <a:lnTo>
                    <a:pt x="1220" y="1128"/>
                  </a:lnTo>
                  <a:lnTo>
                    <a:pt x="1220" y="1123"/>
                  </a:lnTo>
                  <a:lnTo>
                    <a:pt x="1216" y="1123"/>
                  </a:lnTo>
                  <a:lnTo>
                    <a:pt x="1216" y="1111"/>
                  </a:lnTo>
                  <a:lnTo>
                    <a:pt x="1211" y="1111"/>
                  </a:lnTo>
                  <a:lnTo>
                    <a:pt x="1211" y="1106"/>
                  </a:lnTo>
                  <a:lnTo>
                    <a:pt x="1206" y="1106"/>
                  </a:lnTo>
                  <a:lnTo>
                    <a:pt x="1206" y="1099"/>
                  </a:lnTo>
                  <a:lnTo>
                    <a:pt x="1201" y="1099"/>
                  </a:lnTo>
                  <a:lnTo>
                    <a:pt x="1201" y="1082"/>
                  </a:lnTo>
                  <a:lnTo>
                    <a:pt x="1197" y="1082"/>
                  </a:lnTo>
                  <a:lnTo>
                    <a:pt x="1197" y="1076"/>
                  </a:lnTo>
                  <a:lnTo>
                    <a:pt x="1191" y="1076"/>
                  </a:lnTo>
                  <a:lnTo>
                    <a:pt x="1191" y="1070"/>
                  </a:lnTo>
                  <a:lnTo>
                    <a:pt x="1186" y="1070"/>
                  </a:lnTo>
                  <a:lnTo>
                    <a:pt x="1186" y="1063"/>
                  </a:lnTo>
                  <a:lnTo>
                    <a:pt x="1182" y="1063"/>
                  </a:lnTo>
                  <a:lnTo>
                    <a:pt x="1182" y="1052"/>
                  </a:lnTo>
                  <a:lnTo>
                    <a:pt x="1177" y="1052"/>
                  </a:lnTo>
                  <a:lnTo>
                    <a:pt x="1177" y="1041"/>
                  </a:lnTo>
                  <a:lnTo>
                    <a:pt x="1172" y="1041"/>
                  </a:lnTo>
                  <a:lnTo>
                    <a:pt x="1172" y="1028"/>
                  </a:lnTo>
                  <a:lnTo>
                    <a:pt x="1167" y="1028"/>
                  </a:lnTo>
                  <a:lnTo>
                    <a:pt x="1167" y="1022"/>
                  </a:lnTo>
                  <a:lnTo>
                    <a:pt x="1163" y="1022"/>
                  </a:lnTo>
                  <a:lnTo>
                    <a:pt x="1163" y="1011"/>
                  </a:lnTo>
                  <a:lnTo>
                    <a:pt x="1157" y="1011"/>
                  </a:lnTo>
                  <a:lnTo>
                    <a:pt x="1157" y="1000"/>
                  </a:lnTo>
                  <a:lnTo>
                    <a:pt x="1153" y="1000"/>
                  </a:lnTo>
                  <a:lnTo>
                    <a:pt x="1153" y="987"/>
                  </a:lnTo>
                  <a:lnTo>
                    <a:pt x="1148" y="987"/>
                  </a:lnTo>
                  <a:lnTo>
                    <a:pt x="1148" y="976"/>
                  </a:lnTo>
                  <a:lnTo>
                    <a:pt x="1143" y="976"/>
                  </a:lnTo>
                  <a:lnTo>
                    <a:pt x="1143" y="963"/>
                  </a:lnTo>
                  <a:lnTo>
                    <a:pt x="1139" y="963"/>
                  </a:lnTo>
                  <a:lnTo>
                    <a:pt x="1139" y="951"/>
                  </a:lnTo>
                  <a:lnTo>
                    <a:pt x="1134" y="951"/>
                  </a:lnTo>
                  <a:lnTo>
                    <a:pt x="1134" y="940"/>
                  </a:lnTo>
                  <a:lnTo>
                    <a:pt x="1129" y="940"/>
                  </a:lnTo>
                  <a:lnTo>
                    <a:pt x="1129" y="933"/>
                  </a:lnTo>
                  <a:lnTo>
                    <a:pt x="1124" y="933"/>
                  </a:lnTo>
                  <a:lnTo>
                    <a:pt x="1124" y="922"/>
                  </a:lnTo>
                  <a:lnTo>
                    <a:pt x="1120" y="922"/>
                  </a:lnTo>
                  <a:lnTo>
                    <a:pt x="1120" y="910"/>
                  </a:lnTo>
                  <a:lnTo>
                    <a:pt x="1114" y="910"/>
                  </a:lnTo>
                  <a:lnTo>
                    <a:pt x="1114" y="892"/>
                  </a:lnTo>
                  <a:lnTo>
                    <a:pt x="1109" y="892"/>
                  </a:lnTo>
                  <a:lnTo>
                    <a:pt x="1109" y="881"/>
                  </a:lnTo>
                  <a:lnTo>
                    <a:pt x="1105" y="881"/>
                  </a:lnTo>
                  <a:lnTo>
                    <a:pt x="1105" y="869"/>
                  </a:lnTo>
                  <a:lnTo>
                    <a:pt x="1100" y="869"/>
                  </a:lnTo>
                  <a:lnTo>
                    <a:pt x="1100" y="864"/>
                  </a:lnTo>
                  <a:lnTo>
                    <a:pt x="1095" y="864"/>
                  </a:lnTo>
                  <a:lnTo>
                    <a:pt x="1095" y="851"/>
                  </a:lnTo>
                  <a:lnTo>
                    <a:pt x="1090" y="851"/>
                  </a:lnTo>
                  <a:lnTo>
                    <a:pt x="1090" y="840"/>
                  </a:lnTo>
                  <a:lnTo>
                    <a:pt x="1086" y="840"/>
                  </a:lnTo>
                  <a:lnTo>
                    <a:pt x="1086" y="827"/>
                  </a:lnTo>
                  <a:lnTo>
                    <a:pt x="1081" y="827"/>
                  </a:lnTo>
                  <a:lnTo>
                    <a:pt x="1081" y="815"/>
                  </a:lnTo>
                  <a:lnTo>
                    <a:pt x="1076" y="815"/>
                  </a:lnTo>
                  <a:lnTo>
                    <a:pt x="1076" y="810"/>
                  </a:lnTo>
                  <a:lnTo>
                    <a:pt x="1071" y="810"/>
                  </a:lnTo>
                  <a:lnTo>
                    <a:pt x="1071" y="799"/>
                  </a:lnTo>
                  <a:lnTo>
                    <a:pt x="1067" y="799"/>
                  </a:lnTo>
                  <a:lnTo>
                    <a:pt x="1067" y="792"/>
                  </a:lnTo>
                  <a:lnTo>
                    <a:pt x="1062" y="792"/>
                  </a:lnTo>
                  <a:lnTo>
                    <a:pt x="1062" y="786"/>
                  </a:lnTo>
                  <a:lnTo>
                    <a:pt x="1057" y="786"/>
                  </a:lnTo>
                  <a:lnTo>
                    <a:pt x="1057" y="774"/>
                  </a:lnTo>
                  <a:lnTo>
                    <a:pt x="1053" y="774"/>
                  </a:lnTo>
                  <a:lnTo>
                    <a:pt x="1053" y="763"/>
                  </a:lnTo>
                  <a:lnTo>
                    <a:pt x="1047" y="763"/>
                  </a:lnTo>
                  <a:lnTo>
                    <a:pt x="1047" y="756"/>
                  </a:lnTo>
                  <a:lnTo>
                    <a:pt x="1042" y="756"/>
                  </a:lnTo>
                  <a:lnTo>
                    <a:pt x="1042" y="750"/>
                  </a:lnTo>
                  <a:lnTo>
                    <a:pt x="1037" y="750"/>
                  </a:lnTo>
                  <a:lnTo>
                    <a:pt x="1037" y="745"/>
                  </a:lnTo>
                  <a:lnTo>
                    <a:pt x="1032" y="745"/>
                  </a:lnTo>
                  <a:lnTo>
                    <a:pt x="1032" y="733"/>
                  </a:lnTo>
                  <a:lnTo>
                    <a:pt x="1027" y="733"/>
                  </a:lnTo>
                  <a:lnTo>
                    <a:pt x="1027" y="728"/>
                  </a:lnTo>
                  <a:lnTo>
                    <a:pt x="1023" y="728"/>
                  </a:lnTo>
                  <a:lnTo>
                    <a:pt x="1023" y="721"/>
                  </a:lnTo>
                  <a:lnTo>
                    <a:pt x="1019" y="721"/>
                  </a:lnTo>
                  <a:lnTo>
                    <a:pt x="1019" y="715"/>
                  </a:lnTo>
                  <a:lnTo>
                    <a:pt x="1013" y="715"/>
                  </a:lnTo>
                  <a:lnTo>
                    <a:pt x="1013" y="709"/>
                  </a:lnTo>
                  <a:lnTo>
                    <a:pt x="1009" y="709"/>
                  </a:lnTo>
                  <a:lnTo>
                    <a:pt x="1009" y="704"/>
                  </a:lnTo>
                  <a:lnTo>
                    <a:pt x="1004" y="704"/>
                  </a:lnTo>
                  <a:lnTo>
                    <a:pt x="1004" y="696"/>
                  </a:lnTo>
                  <a:lnTo>
                    <a:pt x="999" y="696"/>
                  </a:lnTo>
                  <a:lnTo>
                    <a:pt x="999" y="691"/>
                  </a:lnTo>
                  <a:lnTo>
                    <a:pt x="994" y="691"/>
                  </a:lnTo>
                  <a:lnTo>
                    <a:pt x="994" y="680"/>
                  </a:lnTo>
                  <a:lnTo>
                    <a:pt x="990" y="680"/>
                  </a:lnTo>
                  <a:lnTo>
                    <a:pt x="990" y="668"/>
                  </a:lnTo>
                  <a:lnTo>
                    <a:pt x="985" y="668"/>
                  </a:lnTo>
                  <a:lnTo>
                    <a:pt x="985" y="663"/>
                  </a:lnTo>
                  <a:lnTo>
                    <a:pt x="980" y="663"/>
                  </a:lnTo>
                  <a:lnTo>
                    <a:pt x="980" y="655"/>
                  </a:lnTo>
                  <a:lnTo>
                    <a:pt x="976" y="655"/>
                  </a:lnTo>
                  <a:lnTo>
                    <a:pt x="976" y="645"/>
                  </a:lnTo>
                  <a:lnTo>
                    <a:pt x="970" y="645"/>
                  </a:lnTo>
                  <a:lnTo>
                    <a:pt x="970" y="627"/>
                  </a:lnTo>
                  <a:lnTo>
                    <a:pt x="965" y="627"/>
                  </a:lnTo>
                  <a:lnTo>
                    <a:pt x="965" y="622"/>
                  </a:lnTo>
                  <a:lnTo>
                    <a:pt x="960" y="622"/>
                  </a:lnTo>
                  <a:lnTo>
                    <a:pt x="960" y="614"/>
                  </a:lnTo>
                  <a:lnTo>
                    <a:pt x="956" y="614"/>
                  </a:lnTo>
                  <a:lnTo>
                    <a:pt x="956" y="609"/>
                  </a:lnTo>
                  <a:lnTo>
                    <a:pt x="950" y="609"/>
                  </a:lnTo>
                  <a:lnTo>
                    <a:pt x="950" y="597"/>
                  </a:lnTo>
                  <a:lnTo>
                    <a:pt x="946" y="597"/>
                  </a:lnTo>
                  <a:lnTo>
                    <a:pt x="946" y="592"/>
                  </a:lnTo>
                  <a:lnTo>
                    <a:pt x="942" y="592"/>
                  </a:lnTo>
                  <a:lnTo>
                    <a:pt x="942" y="579"/>
                  </a:lnTo>
                  <a:lnTo>
                    <a:pt x="937" y="579"/>
                  </a:lnTo>
                  <a:lnTo>
                    <a:pt x="937" y="573"/>
                  </a:lnTo>
                  <a:lnTo>
                    <a:pt x="932" y="573"/>
                  </a:lnTo>
                  <a:lnTo>
                    <a:pt x="932" y="562"/>
                  </a:lnTo>
                  <a:lnTo>
                    <a:pt x="928" y="562"/>
                  </a:lnTo>
                  <a:lnTo>
                    <a:pt x="928" y="555"/>
                  </a:lnTo>
                  <a:lnTo>
                    <a:pt x="923" y="555"/>
                  </a:lnTo>
                  <a:lnTo>
                    <a:pt x="923" y="549"/>
                  </a:lnTo>
                  <a:lnTo>
                    <a:pt x="918" y="549"/>
                  </a:lnTo>
                  <a:lnTo>
                    <a:pt x="918" y="538"/>
                  </a:lnTo>
                  <a:lnTo>
                    <a:pt x="913" y="538"/>
                  </a:lnTo>
                  <a:lnTo>
                    <a:pt x="913" y="532"/>
                  </a:lnTo>
                  <a:lnTo>
                    <a:pt x="909" y="532"/>
                  </a:lnTo>
                  <a:lnTo>
                    <a:pt x="909" y="514"/>
                  </a:lnTo>
                  <a:lnTo>
                    <a:pt x="903" y="514"/>
                  </a:lnTo>
                  <a:lnTo>
                    <a:pt x="903" y="508"/>
                  </a:lnTo>
                  <a:lnTo>
                    <a:pt x="899" y="508"/>
                  </a:lnTo>
                  <a:lnTo>
                    <a:pt x="899" y="495"/>
                  </a:lnTo>
                  <a:lnTo>
                    <a:pt x="893" y="495"/>
                  </a:lnTo>
                  <a:lnTo>
                    <a:pt x="893" y="491"/>
                  </a:lnTo>
                  <a:lnTo>
                    <a:pt x="888" y="491"/>
                  </a:lnTo>
                  <a:lnTo>
                    <a:pt x="888" y="486"/>
                  </a:lnTo>
                  <a:lnTo>
                    <a:pt x="884" y="486"/>
                  </a:lnTo>
                  <a:lnTo>
                    <a:pt x="884" y="478"/>
                  </a:lnTo>
                  <a:lnTo>
                    <a:pt x="879" y="478"/>
                  </a:lnTo>
                  <a:lnTo>
                    <a:pt x="879" y="473"/>
                  </a:lnTo>
                  <a:lnTo>
                    <a:pt x="875" y="473"/>
                  </a:lnTo>
                  <a:lnTo>
                    <a:pt x="875" y="454"/>
                  </a:lnTo>
                  <a:lnTo>
                    <a:pt x="869" y="454"/>
                  </a:lnTo>
                  <a:lnTo>
                    <a:pt x="869" y="443"/>
                  </a:lnTo>
                  <a:lnTo>
                    <a:pt x="865" y="443"/>
                  </a:lnTo>
                  <a:lnTo>
                    <a:pt x="865" y="432"/>
                  </a:lnTo>
                  <a:lnTo>
                    <a:pt x="860" y="432"/>
                  </a:lnTo>
                  <a:lnTo>
                    <a:pt x="860" y="427"/>
                  </a:lnTo>
                  <a:lnTo>
                    <a:pt x="855" y="427"/>
                  </a:lnTo>
                  <a:lnTo>
                    <a:pt x="855" y="414"/>
                  </a:lnTo>
                  <a:lnTo>
                    <a:pt x="850" y="414"/>
                  </a:lnTo>
                  <a:lnTo>
                    <a:pt x="850" y="396"/>
                  </a:lnTo>
                  <a:lnTo>
                    <a:pt x="846" y="396"/>
                  </a:lnTo>
                  <a:lnTo>
                    <a:pt x="846" y="391"/>
                  </a:lnTo>
                  <a:lnTo>
                    <a:pt x="841" y="391"/>
                  </a:lnTo>
                  <a:lnTo>
                    <a:pt x="841" y="378"/>
                  </a:lnTo>
                  <a:lnTo>
                    <a:pt x="836" y="378"/>
                  </a:lnTo>
                  <a:lnTo>
                    <a:pt x="836" y="373"/>
                  </a:lnTo>
                  <a:lnTo>
                    <a:pt x="832" y="373"/>
                  </a:lnTo>
                  <a:lnTo>
                    <a:pt x="832" y="367"/>
                  </a:lnTo>
                  <a:lnTo>
                    <a:pt x="827" y="367"/>
                  </a:lnTo>
                  <a:lnTo>
                    <a:pt x="827" y="350"/>
                  </a:lnTo>
                  <a:lnTo>
                    <a:pt x="821" y="350"/>
                  </a:lnTo>
                  <a:lnTo>
                    <a:pt x="821" y="342"/>
                  </a:lnTo>
                  <a:lnTo>
                    <a:pt x="816" y="342"/>
                  </a:lnTo>
                  <a:lnTo>
                    <a:pt x="816" y="331"/>
                  </a:lnTo>
                  <a:lnTo>
                    <a:pt x="812" y="331"/>
                  </a:lnTo>
                  <a:lnTo>
                    <a:pt x="812" y="320"/>
                  </a:lnTo>
                  <a:lnTo>
                    <a:pt x="807" y="320"/>
                  </a:lnTo>
                  <a:lnTo>
                    <a:pt x="807" y="308"/>
                  </a:lnTo>
                  <a:lnTo>
                    <a:pt x="802" y="308"/>
                  </a:lnTo>
                  <a:lnTo>
                    <a:pt x="802" y="296"/>
                  </a:lnTo>
                  <a:lnTo>
                    <a:pt x="798" y="296"/>
                  </a:lnTo>
                  <a:lnTo>
                    <a:pt x="798" y="283"/>
                  </a:lnTo>
                  <a:lnTo>
                    <a:pt x="793" y="283"/>
                  </a:lnTo>
                  <a:lnTo>
                    <a:pt x="793" y="278"/>
                  </a:lnTo>
                  <a:lnTo>
                    <a:pt x="788" y="278"/>
                  </a:lnTo>
                  <a:lnTo>
                    <a:pt x="788" y="266"/>
                  </a:lnTo>
                  <a:lnTo>
                    <a:pt x="783" y="266"/>
                  </a:lnTo>
                  <a:lnTo>
                    <a:pt x="783" y="260"/>
                  </a:lnTo>
                  <a:lnTo>
                    <a:pt x="779" y="260"/>
                  </a:lnTo>
                  <a:lnTo>
                    <a:pt x="779" y="255"/>
                  </a:lnTo>
                  <a:lnTo>
                    <a:pt x="773" y="255"/>
                  </a:lnTo>
                  <a:lnTo>
                    <a:pt x="773" y="242"/>
                  </a:lnTo>
                  <a:lnTo>
                    <a:pt x="769" y="242"/>
                  </a:lnTo>
                  <a:lnTo>
                    <a:pt x="769" y="231"/>
                  </a:lnTo>
                  <a:lnTo>
                    <a:pt x="765" y="231"/>
                  </a:lnTo>
                  <a:lnTo>
                    <a:pt x="765" y="218"/>
                  </a:lnTo>
                  <a:lnTo>
                    <a:pt x="759" y="218"/>
                  </a:lnTo>
                  <a:lnTo>
                    <a:pt x="759" y="213"/>
                  </a:lnTo>
                  <a:lnTo>
                    <a:pt x="755" y="213"/>
                  </a:lnTo>
                  <a:lnTo>
                    <a:pt x="755" y="207"/>
                  </a:lnTo>
                  <a:lnTo>
                    <a:pt x="749" y="207"/>
                  </a:lnTo>
                  <a:lnTo>
                    <a:pt x="749" y="201"/>
                  </a:lnTo>
                  <a:lnTo>
                    <a:pt x="744" y="201"/>
                  </a:lnTo>
                  <a:lnTo>
                    <a:pt x="744" y="195"/>
                  </a:lnTo>
                  <a:lnTo>
                    <a:pt x="739" y="195"/>
                  </a:lnTo>
                  <a:lnTo>
                    <a:pt x="739" y="182"/>
                  </a:lnTo>
                  <a:lnTo>
                    <a:pt x="735" y="182"/>
                  </a:lnTo>
                  <a:lnTo>
                    <a:pt x="735" y="172"/>
                  </a:lnTo>
                  <a:lnTo>
                    <a:pt x="730" y="172"/>
                  </a:lnTo>
                  <a:lnTo>
                    <a:pt x="730" y="165"/>
                  </a:lnTo>
                  <a:lnTo>
                    <a:pt x="725" y="165"/>
                  </a:lnTo>
                  <a:lnTo>
                    <a:pt x="725" y="160"/>
                  </a:lnTo>
                  <a:lnTo>
                    <a:pt x="721" y="160"/>
                  </a:lnTo>
                  <a:lnTo>
                    <a:pt x="721" y="154"/>
                  </a:lnTo>
                  <a:lnTo>
                    <a:pt x="716" y="154"/>
                  </a:lnTo>
                  <a:lnTo>
                    <a:pt x="716" y="141"/>
                  </a:lnTo>
                  <a:lnTo>
                    <a:pt x="711" y="141"/>
                  </a:lnTo>
                  <a:lnTo>
                    <a:pt x="711" y="136"/>
                  </a:lnTo>
                  <a:lnTo>
                    <a:pt x="706" y="136"/>
                  </a:lnTo>
                  <a:lnTo>
                    <a:pt x="706" y="119"/>
                  </a:lnTo>
                  <a:lnTo>
                    <a:pt x="702" y="119"/>
                  </a:lnTo>
                  <a:lnTo>
                    <a:pt x="702" y="112"/>
                  </a:lnTo>
                  <a:lnTo>
                    <a:pt x="697" y="112"/>
                  </a:lnTo>
                  <a:lnTo>
                    <a:pt x="697" y="100"/>
                  </a:lnTo>
                  <a:lnTo>
                    <a:pt x="692" y="100"/>
                  </a:lnTo>
                  <a:lnTo>
                    <a:pt x="692" y="95"/>
                  </a:lnTo>
                  <a:lnTo>
                    <a:pt x="687" y="95"/>
                  </a:lnTo>
                  <a:lnTo>
                    <a:pt x="687" y="82"/>
                  </a:lnTo>
                  <a:lnTo>
                    <a:pt x="683" y="82"/>
                  </a:lnTo>
                  <a:lnTo>
                    <a:pt x="683" y="76"/>
                  </a:lnTo>
                  <a:lnTo>
                    <a:pt x="677" y="76"/>
                  </a:lnTo>
                  <a:lnTo>
                    <a:pt x="677" y="71"/>
                  </a:lnTo>
                  <a:lnTo>
                    <a:pt x="672" y="71"/>
                  </a:lnTo>
                  <a:lnTo>
                    <a:pt x="672" y="65"/>
                  </a:lnTo>
                  <a:lnTo>
                    <a:pt x="668" y="65"/>
                  </a:lnTo>
                  <a:lnTo>
                    <a:pt x="668" y="46"/>
                  </a:lnTo>
                  <a:lnTo>
                    <a:pt x="662" y="46"/>
                  </a:lnTo>
                  <a:lnTo>
                    <a:pt x="662" y="41"/>
                  </a:lnTo>
                  <a:lnTo>
                    <a:pt x="658" y="41"/>
                  </a:lnTo>
                  <a:lnTo>
                    <a:pt x="658" y="30"/>
                  </a:lnTo>
                  <a:lnTo>
                    <a:pt x="662" y="30"/>
                  </a:lnTo>
                  <a:lnTo>
                    <a:pt x="662" y="18"/>
                  </a:lnTo>
                  <a:lnTo>
                    <a:pt x="668" y="18"/>
                  </a:lnTo>
                  <a:lnTo>
                    <a:pt x="668" y="13"/>
                  </a:lnTo>
                  <a:lnTo>
                    <a:pt x="672" y="13"/>
                  </a:lnTo>
                  <a:lnTo>
                    <a:pt x="672" y="6"/>
                  </a:lnTo>
                  <a:lnTo>
                    <a:pt x="677" y="6"/>
                  </a:lnTo>
                  <a:lnTo>
                    <a:pt x="677" y="0"/>
                  </a:lnTo>
                  <a:lnTo>
                    <a:pt x="687" y="0"/>
                  </a:lnTo>
                  <a:lnTo>
                    <a:pt x="687" y="6"/>
                  </a:lnTo>
                  <a:lnTo>
                    <a:pt x="716" y="6"/>
                  </a:lnTo>
                  <a:lnTo>
                    <a:pt x="716" y="13"/>
                  </a:lnTo>
                  <a:lnTo>
                    <a:pt x="721" y="13"/>
                  </a:lnTo>
                  <a:lnTo>
                    <a:pt x="721" y="30"/>
                  </a:lnTo>
                  <a:lnTo>
                    <a:pt x="725" y="30"/>
                  </a:lnTo>
                  <a:lnTo>
                    <a:pt x="725" y="41"/>
                  </a:lnTo>
                  <a:lnTo>
                    <a:pt x="730" y="41"/>
                  </a:lnTo>
                  <a:lnTo>
                    <a:pt x="730" y="46"/>
                  </a:lnTo>
                  <a:lnTo>
                    <a:pt x="735" y="46"/>
                  </a:lnTo>
                  <a:lnTo>
                    <a:pt x="735" y="54"/>
                  </a:lnTo>
                  <a:lnTo>
                    <a:pt x="739" y="54"/>
                  </a:lnTo>
                  <a:lnTo>
                    <a:pt x="739" y="65"/>
                  </a:lnTo>
                  <a:lnTo>
                    <a:pt x="744" y="65"/>
                  </a:lnTo>
                  <a:lnTo>
                    <a:pt x="744" y="76"/>
                  </a:lnTo>
                  <a:lnTo>
                    <a:pt x="749" y="76"/>
                  </a:lnTo>
                  <a:lnTo>
                    <a:pt x="749" y="82"/>
                  </a:lnTo>
                  <a:lnTo>
                    <a:pt x="755" y="82"/>
                  </a:lnTo>
                  <a:lnTo>
                    <a:pt x="755" y="89"/>
                  </a:lnTo>
                  <a:lnTo>
                    <a:pt x="759" y="89"/>
                  </a:lnTo>
                  <a:lnTo>
                    <a:pt x="759" y="100"/>
                  </a:lnTo>
                  <a:lnTo>
                    <a:pt x="765" y="100"/>
                  </a:lnTo>
                  <a:lnTo>
                    <a:pt x="765" y="106"/>
                  </a:lnTo>
                  <a:lnTo>
                    <a:pt x="769" y="106"/>
                  </a:lnTo>
                  <a:lnTo>
                    <a:pt x="769" y="119"/>
                  </a:lnTo>
                  <a:lnTo>
                    <a:pt x="773" y="119"/>
                  </a:lnTo>
                  <a:lnTo>
                    <a:pt x="773" y="124"/>
                  </a:lnTo>
                  <a:lnTo>
                    <a:pt x="779" y="124"/>
                  </a:lnTo>
                  <a:lnTo>
                    <a:pt x="779" y="136"/>
                  </a:lnTo>
                  <a:lnTo>
                    <a:pt x="783" y="136"/>
                  </a:lnTo>
                  <a:lnTo>
                    <a:pt x="783" y="141"/>
                  </a:lnTo>
                  <a:lnTo>
                    <a:pt x="788" y="141"/>
                  </a:lnTo>
                  <a:lnTo>
                    <a:pt x="788" y="154"/>
                  </a:lnTo>
                  <a:lnTo>
                    <a:pt x="793" y="154"/>
                  </a:lnTo>
                  <a:lnTo>
                    <a:pt x="793" y="165"/>
                  </a:lnTo>
                  <a:lnTo>
                    <a:pt x="798" y="165"/>
                  </a:lnTo>
                  <a:lnTo>
                    <a:pt x="798" y="172"/>
                  </a:lnTo>
                  <a:lnTo>
                    <a:pt x="802" y="172"/>
                  </a:lnTo>
                  <a:lnTo>
                    <a:pt x="802" y="182"/>
                  </a:lnTo>
                  <a:lnTo>
                    <a:pt x="807" y="182"/>
                  </a:lnTo>
                  <a:lnTo>
                    <a:pt x="807" y="195"/>
                  </a:lnTo>
                  <a:lnTo>
                    <a:pt x="812" y="195"/>
                  </a:lnTo>
                  <a:lnTo>
                    <a:pt x="812" y="207"/>
                  </a:lnTo>
                  <a:lnTo>
                    <a:pt x="816" y="207"/>
                  </a:lnTo>
                  <a:lnTo>
                    <a:pt x="816" y="218"/>
                  </a:lnTo>
                  <a:lnTo>
                    <a:pt x="821" y="218"/>
                  </a:lnTo>
                  <a:lnTo>
                    <a:pt x="821" y="225"/>
                  </a:lnTo>
                  <a:lnTo>
                    <a:pt x="827" y="225"/>
                  </a:lnTo>
                  <a:lnTo>
                    <a:pt x="827" y="236"/>
                  </a:lnTo>
                  <a:lnTo>
                    <a:pt x="832" y="236"/>
                  </a:lnTo>
                  <a:lnTo>
                    <a:pt x="832" y="242"/>
                  </a:lnTo>
                  <a:lnTo>
                    <a:pt x="836" y="242"/>
                  </a:lnTo>
                  <a:lnTo>
                    <a:pt x="836" y="255"/>
                  </a:lnTo>
                  <a:lnTo>
                    <a:pt x="841" y="255"/>
                  </a:lnTo>
                  <a:lnTo>
                    <a:pt x="841" y="260"/>
                  </a:lnTo>
                  <a:lnTo>
                    <a:pt x="846" y="260"/>
                  </a:lnTo>
                  <a:lnTo>
                    <a:pt x="846" y="272"/>
                  </a:lnTo>
                  <a:lnTo>
                    <a:pt x="850" y="272"/>
                  </a:lnTo>
                  <a:lnTo>
                    <a:pt x="850" y="283"/>
                  </a:lnTo>
                  <a:lnTo>
                    <a:pt x="855" y="283"/>
                  </a:lnTo>
                  <a:lnTo>
                    <a:pt x="855" y="296"/>
                  </a:lnTo>
                  <a:lnTo>
                    <a:pt x="860" y="296"/>
                  </a:lnTo>
                  <a:lnTo>
                    <a:pt x="860" y="301"/>
                  </a:lnTo>
                  <a:lnTo>
                    <a:pt x="865" y="301"/>
                  </a:lnTo>
                  <a:lnTo>
                    <a:pt x="865" y="308"/>
                  </a:lnTo>
                  <a:lnTo>
                    <a:pt x="869" y="308"/>
                  </a:lnTo>
                  <a:lnTo>
                    <a:pt x="869" y="313"/>
                  </a:lnTo>
                  <a:lnTo>
                    <a:pt x="875" y="313"/>
                  </a:lnTo>
                  <a:lnTo>
                    <a:pt x="875" y="320"/>
                  </a:lnTo>
                  <a:lnTo>
                    <a:pt x="879" y="320"/>
                  </a:lnTo>
                  <a:lnTo>
                    <a:pt x="879" y="326"/>
                  </a:lnTo>
                  <a:lnTo>
                    <a:pt x="884" y="326"/>
                  </a:lnTo>
                  <a:lnTo>
                    <a:pt x="884" y="337"/>
                  </a:lnTo>
                  <a:lnTo>
                    <a:pt x="888" y="337"/>
                  </a:lnTo>
                  <a:lnTo>
                    <a:pt x="888" y="342"/>
                  </a:lnTo>
                  <a:lnTo>
                    <a:pt x="893" y="342"/>
                  </a:lnTo>
                  <a:lnTo>
                    <a:pt x="893" y="354"/>
                  </a:lnTo>
                  <a:lnTo>
                    <a:pt x="899" y="354"/>
                  </a:lnTo>
                  <a:lnTo>
                    <a:pt x="899" y="373"/>
                  </a:lnTo>
                  <a:lnTo>
                    <a:pt x="903" y="373"/>
                  </a:lnTo>
                  <a:lnTo>
                    <a:pt x="903" y="384"/>
                  </a:lnTo>
                  <a:lnTo>
                    <a:pt x="909" y="384"/>
                  </a:lnTo>
                  <a:lnTo>
                    <a:pt x="909" y="391"/>
                  </a:lnTo>
                  <a:lnTo>
                    <a:pt x="913" y="391"/>
                  </a:lnTo>
                  <a:lnTo>
                    <a:pt x="913" y="402"/>
                  </a:lnTo>
                  <a:lnTo>
                    <a:pt x="918" y="402"/>
                  </a:lnTo>
                  <a:lnTo>
                    <a:pt x="918" y="414"/>
                  </a:lnTo>
                  <a:lnTo>
                    <a:pt x="923" y="414"/>
                  </a:lnTo>
                  <a:lnTo>
                    <a:pt x="923" y="419"/>
                  </a:lnTo>
                  <a:lnTo>
                    <a:pt x="928" y="419"/>
                  </a:lnTo>
                  <a:lnTo>
                    <a:pt x="928" y="432"/>
                  </a:lnTo>
                  <a:lnTo>
                    <a:pt x="932" y="432"/>
                  </a:lnTo>
                  <a:lnTo>
                    <a:pt x="932" y="437"/>
                  </a:lnTo>
                  <a:lnTo>
                    <a:pt x="937" y="437"/>
                  </a:lnTo>
                  <a:lnTo>
                    <a:pt x="937" y="449"/>
                  </a:lnTo>
                  <a:lnTo>
                    <a:pt x="942" y="449"/>
                  </a:lnTo>
                  <a:lnTo>
                    <a:pt x="942" y="461"/>
                  </a:lnTo>
                  <a:lnTo>
                    <a:pt x="946" y="461"/>
                  </a:lnTo>
                  <a:lnTo>
                    <a:pt x="946" y="473"/>
                  </a:lnTo>
                  <a:lnTo>
                    <a:pt x="950" y="473"/>
                  </a:lnTo>
                  <a:lnTo>
                    <a:pt x="950" y="486"/>
                  </a:lnTo>
                  <a:lnTo>
                    <a:pt x="956" y="486"/>
                  </a:lnTo>
                  <a:lnTo>
                    <a:pt x="956" y="503"/>
                  </a:lnTo>
                  <a:lnTo>
                    <a:pt x="960" y="503"/>
                  </a:lnTo>
                  <a:lnTo>
                    <a:pt x="960" y="508"/>
                  </a:lnTo>
                  <a:lnTo>
                    <a:pt x="965" y="508"/>
                  </a:lnTo>
                  <a:lnTo>
                    <a:pt x="965" y="519"/>
                  </a:lnTo>
                  <a:lnTo>
                    <a:pt x="970" y="519"/>
                  </a:lnTo>
                  <a:lnTo>
                    <a:pt x="970" y="532"/>
                  </a:lnTo>
                  <a:lnTo>
                    <a:pt x="976" y="532"/>
                  </a:lnTo>
                  <a:lnTo>
                    <a:pt x="976" y="538"/>
                  </a:lnTo>
                  <a:lnTo>
                    <a:pt x="980" y="538"/>
                  </a:lnTo>
                  <a:lnTo>
                    <a:pt x="980" y="549"/>
                  </a:lnTo>
                  <a:lnTo>
                    <a:pt x="985" y="549"/>
                  </a:lnTo>
                  <a:lnTo>
                    <a:pt x="985" y="555"/>
                  </a:lnTo>
                  <a:lnTo>
                    <a:pt x="990" y="555"/>
                  </a:lnTo>
                  <a:lnTo>
                    <a:pt x="990" y="562"/>
                  </a:lnTo>
                  <a:lnTo>
                    <a:pt x="994" y="562"/>
                  </a:lnTo>
                  <a:lnTo>
                    <a:pt x="994" y="568"/>
                  </a:lnTo>
                  <a:lnTo>
                    <a:pt x="999" y="568"/>
                  </a:lnTo>
                  <a:lnTo>
                    <a:pt x="999" y="573"/>
                  </a:lnTo>
                  <a:lnTo>
                    <a:pt x="1004" y="573"/>
                  </a:lnTo>
                  <a:lnTo>
                    <a:pt x="1004" y="585"/>
                  </a:lnTo>
                  <a:lnTo>
                    <a:pt x="1009" y="585"/>
                  </a:lnTo>
                  <a:lnTo>
                    <a:pt x="1009" y="592"/>
                  </a:lnTo>
                  <a:lnTo>
                    <a:pt x="1013" y="592"/>
                  </a:lnTo>
                  <a:lnTo>
                    <a:pt x="1013" y="597"/>
                  </a:lnTo>
                  <a:lnTo>
                    <a:pt x="1019" y="597"/>
                  </a:lnTo>
                  <a:lnTo>
                    <a:pt x="1019" y="609"/>
                  </a:lnTo>
                  <a:lnTo>
                    <a:pt x="1023" y="609"/>
                  </a:lnTo>
                  <a:lnTo>
                    <a:pt x="1023" y="614"/>
                  </a:lnTo>
                  <a:lnTo>
                    <a:pt x="1027" y="614"/>
                  </a:lnTo>
                  <a:lnTo>
                    <a:pt x="1027" y="622"/>
                  </a:lnTo>
                  <a:lnTo>
                    <a:pt x="1032" y="622"/>
                  </a:lnTo>
                  <a:lnTo>
                    <a:pt x="1032" y="627"/>
                  </a:lnTo>
                  <a:lnTo>
                    <a:pt x="1037" y="627"/>
                  </a:lnTo>
                  <a:lnTo>
                    <a:pt x="1037" y="633"/>
                  </a:lnTo>
                  <a:lnTo>
                    <a:pt x="1042" y="633"/>
                  </a:lnTo>
                  <a:lnTo>
                    <a:pt x="1042" y="645"/>
                  </a:lnTo>
                  <a:lnTo>
                    <a:pt x="1047" y="645"/>
                  </a:lnTo>
                  <a:lnTo>
                    <a:pt x="1047" y="650"/>
                  </a:lnTo>
                  <a:lnTo>
                    <a:pt x="1053" y="650"/>
                  </a:lnTo>
                  <a:lnTo>
                    <a:pt x="1053" y="663"/>
                  </a:lnTo>
                  <a:lnTo>
                    <a:pt x="1057" y="663"/>
                  </a:lnTo>
                  <a:lnTo>
                    <a:pt x="1057" y="668"/>
                  </a:lnTo>
                  <a:lnTo>
                    <a:pt x="1062" y="668"/>
                  </a:lnTo>
                  <a:lnTo>
                    <a:pt x="1062" y="674"/>
                  </a:lnTo>
                  <a:lnTo>
                    <a:pt x="1067" y="674"/>
                  </a:lnTo>
                  <a:lnTo>
                    <a:pt x="1067" y="686"/>
                  </a:lnTo>
                  <a:lnTo>
                    <a:pt x="1071" y="686"/>
                  </a:lnTo>
                  <a:lnTo>
                    <a:pt x="1071" y="696"/>
                  </a:lnTo>
                  <a:lnTo>
                    <a:pt x="1076" y="696"/>
                  </a:lnTo>
                  <a:lnTo>
                    <a:pt x="1076" y="709"/>
                  </a:lnTo>
                  <a:lnTo>
                    <a:pt x="1081" y="709"/>
                  </a:lnTo>
                  <a:lnTo>
                    <a:pt x="1081" y="715"/>
                  </a:lnTo>
                  <a:lnTo>
                    <a:pt x="1086" y="715"/>
                  </a:lnTo>
                  <a:lnTo>
                    <a:pt x="1086" y="721"/>
                  </a:lnTo>
                  <a:lnTo>
                    <a:pt x="1090" y="721"/>
                  </a:lnTo>
                  <a:lnTo>
                    <a:pt x="1090" y="733"/>
                  </a:lnTo>
                  <a:lnTo>
                    <a:pt x="1095" y="733"/>
                  </a:lnTo>
                  <a:lnTo>
                    <a:pt x="1095" y="739"/>
                  </a:lnTo>
                  <a:lnTo>
                    <a:pt x="1100" y="739"/>
                  </a:lnTo>
                  <a:lnTo>
                    <a:pt x="1100" y="756"/>
                  </a:lnTo>
                  <a:lnTo>
                    <a:pt x="1105" y="756"/>
                  </a:lnTo>
                  <a:lnTo>
                    <a:pt x="1105" y="763"/>
                  </a:lnTo>
                  <a:lnTo>
                    <a:pt x="1109" y="763"/>
                  </a:lnTo>
                  <a:lnTo>
                    <a:pt x="1109" y="769"/>
                  </a:lnTo>
                  <a:lnTo>
                    <a:pt x="1114" y="769"/>
                  </a:lnTo>
                  <a:lnTo>
                    <a:pt x="1114" y="774"/>
                  </a:lnTo>
                  <a:lnTo>
                    <a:pt x="1120" y="774"/>
                  </a:lnTo>
                  <a:lnTo>
                    <a:pt x="1120" y="786"/>
                  </a:lnTo>
                  <a:lnTo>
                    <a:pt x="1124" y="786"/>
                  </a:lnTo>
                  <a:lnTo>
                    <a:pt x="1124" y="799"/>
                  </a:lnTo>
                  <a:lnTo>
                    <a:pt x="1129" y="799"/>
                  </a:lnTo>
                  <a:lnTo>
                    <a:pt x="1129" y="804"/>
                  </a:lnTo>
                  <a:lnTo>
                    <a:pt x="1134" y="804"/>
                  </a:lnTo>
                  <a:lnTo>
                    <a:pt x="1134" y="815"/>
                  </a:lnTo>
                  <a:lnTo>
                    <a:pt x="1139" y="815"/>
                  </a:lnTo>
                  <a:lnTo>
                    <a:pt x="1139" y="827"/>
                  </a:lnTo>
                  <a:lnTo>
                    <a:pt x="1143" y="827"/>
                  </a:lnTo>
                  <a:lnTo>
                    <a:pt x="1143" y="840"/>
                  </a:lnTo>
                  <a:lnTo>
                    <a:pt x="1148" y="840"/>
                  </a:lnTo>
                  <a:lnTo>
                    <a:pt x="1148" y="851"/>
                  </a:lnTo>
                  <a:lnTo>
                    <a:pt x="1153" y="851"/>
                  </a:lnTo>
                  <a:lnTo>
                    <a:pt x="1153" y="864"/>
                  </a:lnTo>
                  <a:lnTo>
                    <a:pt x="1157" y="864"/>
                  </a:lnTo>
                  <a:lnTo>
                    <a:pt x="1157" y="875"/>
                  </a:lnTo>
                  <a:lnTo>
                    <a:pt x="1163" y="875"/>
                  </a:lnTo>
                  <a:lnTo>
                    <a:pt x="1163" y="881"/>
                  </a:lnTo>
                  <a:lnTo>
                    <a:pt x="1167" y="881"/>
                  </a:lnTo>
                  <a:lnTo>
                    <a:pt x="1167" y="899"/>
                  </a:lnTo>
                  <a:lnTo>
                    <a:pt x="1172" y="899"/>
                  </a:lnTo>
                  <a:lnTo>
                    <a:pt x="1172" y="905"/>
                  </a:lnTo>
                  <a:lnTo>
                    <a:pt x="1177" y="905"/>
                  </a:lnTo>
                  <a:lnTo>
                    <a:pt x="1177" y="916"/>
                  </a:lnTo>
                  <a:lnTo>
                    <a:pt x="1182" y="916"/>
                  </a:lnTo>
                  <a:lnTo>
                    <a:pt x="1182" y="922"/>
                  </a:lnTo>
                  <a:lnTo>
                    <a:pt x="1186" y="922"/>
                  </a:lnTo>
                  <a:lnTo>
                    <a:pt x="1186" y="927"/>
                  </a:lnTo>
                  <a:lnTo>
                    <a:pt x="1191" y="927"/>
                  </a:lnTo>
                  <a:lnTo>
                    <a:pt x="1191" y="946"/>
                  </a:lnTo>
                  <a:lnTo>
                    <a:pt x="1197" y="946"/>
                  </a:lnTo>
                  <a:lnTo>
                    <a:pt x="1197" y="958"/>
                  </a:lnTo>
                  <a:lnTo>
                    <a:pt x="1201" y="958"/>
                  </a:lnTo>
                  <a:lnTo>
                    <a:pt x="1201" y="963"/>
                  </a:lnTo>
                  <a:lnTo>
                    <a:pt x="1206" y="963"/>
                  </a:lnTo>
                  <a:lnTo>
                    <a:pt x="1206" y="976"/>
                  </a:lnTo>
                  <a:lnTo>
                    <a:pt x="1211" y="976"/>
                  </a:lnTo>
                  <a:lnTo>
                    <a:pt x="1211" y="987"/>
                  </a:lnTo>
                  <a:lnTo>
                    <a:pt x="1216" y="987"/>
                  </a:lnTo>
                  <a:lnTo>
                    <a:pt x="1216" y="1000"/>
                  </a:lnTo>
                  <a:lnTo>
                    <a:pt x="1220" y="1000"/>
                  </a:lnTo>
                  <a:lnTo>
                    <a:pt x="1220" y="1005"/>
                  </a:lnTo>
                  <a:lnTo>
                    <a:pt x="1225" y="1005"/>
                  </a:lnTo>
                  <a:lnTo>
                    <a:pt x="1225" y="1017"/>
                  </a:lnTo>
                  <a:lnTo>
                    <a:pt x="1230" y="1017"/>
                  </a:lnTo>
                  <a:lnTo>
                    <a:pt x="1230" y="1028"/>
                  </a:lnTo>
                  <a:lnTo>
                    <a:pt x="1234" y="1028"/>
                  </a:lnTo>
                  <a:lnTo>
                    <a:pt x="1234" y="1035"/>
                  </a:lnTo>
                  <a:lnTo>
                    <a:pt x="1239" y="1035"/>
                  </a:lnTo>
                  <a:lnTo>
                    <a:pt x="1239" y="1046"/>
                  </a:lnTo>
                  <a:lnTo>
                    <a:pt x="1244" y="1046"/>
                  </a:lnTo>
                  <a:lnTo>
                    <a:pt x="1244" y="1058"/>
                  </a:lnTo>
                  <a:lnTo>
                    <a:pt x="1249" y="1058"/>
                  </a:lnTo>
                  <a:lnTo>
                    <a:pt x="1249" y="1070"/>
                  </a:lnTo>
                  <a:lnTo>
                    <a:pt x="1253" y="1070"/>
                  </a:lnTo>
                  <a:lnTo>
                    <a:pt x="1253" y="1082"/>
                  </a:lnTo>
                  <a:lnTo>
                    <a:pt x="1259" y="1082"/>
                  </a:lnTo>
                  <a:lnTo>
                    <a:pt x="1259" y="1093"/>
                  </a:lnTo>
                  <a:lnTo>
                    <a:pt x="1264" y="1093"/>
                  </a:lnTo>
                  <a:lnTo>
                    <a:pt x="1264" y="1099"/>
                  </a:lnTo>
                  <a:lnTo>
                    <a:pt x="1269" y="1099"/>
                  </a:lnTo>
                  <a:lnTo>
                    <a:pt x="1269" y="1111"/>
                  </a:lnTo>
                  <a:lnTo>
                    <a:pt x="1273" y="1111"/>
                  </a:lnTo>
                  <a:lnTo>
                    <a:pt x="1273" y="1123"/>
                  </a:lnTo>
                  <a:lnTo>
                    <a:pt x="1278" y="1123"/>
                  </a:lnTo>
                  <a:lnTo>
                    <a:pt x="1278" y="1128"/>
                  </a:lnTo>
                  <a:lnTo>
                    <a:pt x="1283" y="1128"/>
                  </a:lnTo>
                  <a:lnTo>
                    <a:pt x="1283" y="1141"/>
                  </a:lnTo>
                  <a:lnTo>
                    <a:pt x="1287" y="1141"/>
                  </a:lnTo>
                  <a:lnTo>
                    <a:pt x="1287" y="1147"/>
                  </a:lnTo>
                  <a:lnTo>
                    <a:pt x="1293" y="1147"/>
                  </a:lnTo>
                  <a:lnTo>
                    <a:pt x="1293" y="1159"/>
                  </a:lnTo>
                  <a:lnTo>
                    <a:pt x="1297" y="1159"/>
                  </a:lnTo>
                  <a:lnTo>
                    <a:pt x="1297" y="1169"/>
                  </a:lnTo>
                  <a:lnTo>
                    <a:pt x="1301" y="1169"/>
                  </a:lnTo>
                  <a:lnTo>
                    <a:pt x="1301" y="1188"/>
                  </a:lnTo>
                  <a:lnTo>
                    <a:pt x="1307" y="1188"/>
                  </a:lnTo>
                  <a:lnTo>
                    <a:pt x="1307" y="1201"/>
                  </a:lnTo>
                  <a:lnTo>
                    <a:pt x="1311" y="1201"/>
                  </a:lnTo>
                  <a:lnTo>
                    <a:pt x="1311" y="1212"/>
                  </a:lnTo>
                  <a:lnTo>
                    <a:pt x="1316" y="1212"/>
                  </a:lnTo>
                  <a:lnTo>
                    <a:pt x="1316" y="1218"/>
                  </a:lnTo>
                  <a:lnTo>
                    <a:pt x="1321" y="1218"/>
                  </a:lnTo>
                  <a:lnTo>
                    <a:pt x="1321" y="1229"/>
                  </a:lnTo>
                  <a:lnTo>
                    <a:pt x="1325" y="1229"/>
                  </a:lnTo>
                  <a:lnTo>
                    <a:pt x="1325" y="1242"/>
                  </a:lnTo>
                  <a:lnTo>
                    <a:pt x="1330" y="1242"/>
                  </a:lnTo>
                  <a:lnTo>
                    <a:pt x="1330" y="1254"/>
                  </a:lnTo>
                  <a:lnTo>
                    <a:pt x="1335" y="1254"/>
                  </a:lnTo>
                  <a:lnTo>
                    <a:pt x="1335" y="1265"/>
                  </a:lnTo>
                  <a:lnTo>
                    <a:pt x="1341" y="1265"/>
                  </a:lnTo>
                  <a:lnTo>
                    <a:pt x="1341" y="1272"/>
                  </a:lnTo>
                  <a:lnTo>
                    <a:pt x="1345" y="1272"/>
                  </a:lnTo>
                  <a:lnTo>
                    <a:pt x="1345" y="1277"/>
                  </a:lnTo>
                  <a:lnTo>
                    <a:pt x="1350" y="1277"/>
                  </a:lnTo>
                  <a:lnTo>
                    <a:pt x="1350" y="1288"/>
                  </a:lnTo>
                  <a:lnTo>
                    <a:pt x="1355" y="1288"/>
                  </a:lnTo>
                  <a:lnTo>
                    <a:pt x="1355" y="1305"/>
                  </a:lnTo>
                  <a:lnTo>
                    <a:pt x="1360" y="1305"/>
                  </a:lnTo>
                  <a:lnTo>
                    <a:pt x="1360" y="1324"/>
                  </a:lnTo>
                  <a:lnTo>
                    <a:pt x="1364" y="1324"/>
                  </a:lnTo>
                  <a:lnTo>
                    <a:pt x="1364" y="1342"/>
                  </a:lnTo>
                  <a:lnTo>
                    <a:pt x="1369" y="1342"/>
                  </a:lnTo>
                  <a:lnTo>
                    <a:pt x="1369" y="1347"/>
                  </a:lnTo>
                  <a:lnTo>
                    <a:pt x="1374" y="1347"/>
                  </a:lnTo>
                  <a:lnTo>
                    <a:pt x="1374" y="1371"/>
                  </a:lnTo>
                  <a:lnTo>
                    <a:pt x="1378" y="1371"/>
                  </a:lnTo>
                  <a:lnTo>
                    <a:pt x="1378" y="1383"/>
                  </a:lnTo>
                  <a:lnTo>
                    <a:pt x="1383" y="1383"/>
                  </a:lnTo>
                  <a:lnTo>
                    <a:pt x="1383" y="1419"/>
                  </a:lnTo>
                  <a:lnTo>
                    <a:pt x="1388" y="1419"/>
                  </a:lnTo>
                  <a:lnTo>
                    <a:pt x="1388" y="1490"/>
                  </a:lnTo>
                  <a:lnTo>
                    <a:pt x="1383" y="1490"/>
                  </a:lnTo>
                  <a:lnTo>
                    <a:pt x="1383" y="1508"/>
                  </a:lnTo>
                  <a:lnTo>
                    <a:pt x="1378" y="1508"/>
                  </a:lnTo>
                  <a:lnTo>
                    <a:pt x="1378" y="1531"/>
                  </a:lnTo>
                  <a:lnTo>
                    <a:pt x="1374" y="1531"/>
                  </a:lnTo>
                  <a:lnTo>
                    <a:pt x="1374" y="1542"/>
                  </a:lnTo>
                  <a:lnTo>
                    <a:pt x="1369" y="1542"/>
                  </a:lnTo>
                  <a:lnTo>
                    <a:pt x="1369" y="1549"/>
                  </a:lnTo>
                  <a:lnTo>
                    <a:pt x="1364" y="1549"/>
                  </a:lnTo>
                  <a:lnTo>
                    <a:pt x="1364" y="1555"/>
                  </a:lnTo>
                  <a:lnTo>
                    <a:pt x="1360" y="1555"/>
                  </a:lnTo>
                  <a:lnTo>
                    <a:pt x="1360" y="1560"/>
                  </a:lnTo>
                  <a:lnTo>
                    <a:pt x="1350" y="1560"/>
                  </a:lnTo>
                  <a:lnTo>
                    <a:pt x="1350" y="1566"/>
                  </a:lnTo>
                  <a:lnTo>
                    <a:pt x="1335" y="1566"/>
                  </a:lnTo>
                  <a:lnTo>
                    <a:pt x="1335" y="1572"/>
                  </a:lnTo>
                  <a:lnTo>
                    <a:pt x="1321" y="1572"/>
                  </a:lnTo>
                  <a:lnTo>
                    <a:pt x="1321" y="1579"/>
                  </a:lnTo>
                  <a:lnTo>
                    <a:pt x="1316" y="1579"/>
                  </a:lnTo>
                  <a:lnTo>
                    <a:pt x="1316" y="1584"/>
                  </a:lnTo>
                  <a:lnTo>
                    <a:pt x="1307" y="1584"/>
                  </a:lnTo>
                  <a:lnTo>
                    <a:pt x="1307" y="1590"/>
                  </a:lnTo>
                  <a:lnTo>
                    <a:pt x="1301" y="1590"/>
                  </a:lnTo>
                  <a:lnTo>
                    <a:pt x="1301" y="1596"/>
                  </a:lnTo>
                  <a:lnTo>
                    <a:pt x="1293" y="1596"/>
                  </a:lnTo>
                  <a:lnTo>
                    <a:pt x="1293" y="1601"/>
                  </a:lnTo>
                  <a:lnTo>
                    <a:pt x="1283" y="1601"/>
                  </a:lnTo>
                  <a:lnTo>
                    <a:pt x="1283" y="1609"/>
                  </a:lnTo>
                  <a:lnTo>
                    <a:pt x="1273" y="1609"/>
                  </a:lnTo>
                  <a:lnTo>
                    <a:pt x="1273" y="1614"/>
                  </a:lnTo>
                  <a:lnTo>
                    <a:pt x="1264" y="1614"/>
                  </a:lnTo>
                  <a:lnTo>
                    <a:pt x="1264" y="1620"/>
                  </a:lnTo>
                  <a:lnTo>
                    <a:pt x="1253" y="1620"/>
                  </a:lnTo>
                  <a:lnTo>
                    <a:pt x="1253" y="1626"/>
                  </a:lnTo>
                  <a:lnTo>
                    <a:pt x="1244" y="1626"/>
                  </a:lnTo>
                  <a:lnTo>
                    <a:pt x="1244" y="1632"/>
                  </a:lnTo>
                  <a:lnTo>
                    <a:pt x="1239" y="1632"/>
                  </a:lnTo>
                  <a:lnTo>
                    <a:pt x="1239" y="1637"/>
                  </a:lnTo>
                  <a:lnTo>
                    <a:pt x="1234" y="1637"/>
                  </a:lnTo>
                  <a:lnTo>
                    <a:pt x="1234" y="1642"/>
                  </a:lnTo>
                  <a:lnTo>
                    <a:pt x="1225" y="1642"/>
                  </a:lnTo>
                  <a:lnTo>
                    <a:pt x="1225" y="1650"/>
                  </a:lnTo>
                  <a:lnTo>
                    <a:pt x="1206" y="1650"/>
                  </a:lnTo>
                  <a:lnTo>
                    <a:pt x="1206" y="1655"/>
                  </a:lnTo>
                  <a:lnTo>
                    <a:pt x="1197" y="1655"/>
                  </a:lnTo>
                  <a:lnTo>
                    <a:pt x="1197" y="1661"/>
                  </a:lnTo>
                  <a:lnTo>
                    <a:pt x="1182" y="1661"/>
                  </a:lnTo>
                  <a:lnTo>
                    <a:pt x="1182" y="1667"/>
                  </a:lnTo>
                  <a:lnTo>
                    <a:pt x="1172" y="1667"/>
                  </a:lnTo>
                  <a:lnTo>
                    <a:pt x="1172" y="1673"/>
                  </a:lnTo>
                  <a:lnTo>
                    <a:pt x="1153" y="1673"/>
                  </a:lnTo>
                  <a:lnTo>
                    <a:pt x="1153" y="1678"/>
                  </a:lnTo>
                  <a:lnTo>
                    <a:pt x="1148" y="1678"/>
                  </a:lnTo>
                  <a:lnTo>
                    <a:pt x="1148" y="1685"/>
                  </a:lnTo>
                  <a:lnTo>
                    <a:pt x="1143" y="1685"/>
                  </a:lnTo>
                  <a:lnTo>
                    <a:pt x="1143" y="1691"/>
                  </a:lnTo>
                  <a:lnTo>
                    <a:pt x="1129" y="1691"/>
                  </a:lnTo>
                  <a:lnTo>
                    <a:pt x="1129" y="1696"/>
                  </a:lnTo>
                  <a:lnTo>
                    <a:pt x="1120" y="1696"/>
                  </a:lnTo>
                  <a:lnTo>
                    <a:pt x="1120" y="1702"/>
                  </a:lnTo>
                  <a:lnTo>
                    <a:pt x="1109" y="1702"/>
                  </a:lnTo>
                  <a:lnTo>
                    <a:pt x="1109" y="1708"/>
                  </a:lnTo>
                  <a:lnTo>
                    <a:pt x="1100" y="1708"/>
                  </a:lnTo>
                  <a:lnTo>
                    <a:pt x="1100" y="1715"/>
                  </a:lnTo>
                  <a:lnTo>
                    <a:pt x="1095" y="1715"/>
                  </a:lnTo>
                  <a:lnTo>
                    <a:pt x="1095" y="1720"/>
                  </a:lnTo>
                  <a:lnTo>
                    <a:pt x="1086" y="1720"/>
                  </a:lnTo>
                  <a:lnTo>
                    <a:pt x="1086" y="1726"/>
                  </a:lnTo>
                  <a:lnTo>
                    <a:pt x="1076" y="1726"/>
                  </a:lnTo>
                  <a:lnTo>
                    <a:pt x="1076" y="1732"/>
                  </a:lnTo>
                  <a:lnTo>
                    <a:pt x="1071" y="1732"/>
                  </a:lnTo>
                  <a:lnTo>
                    <a:pt x="1071" y="1737"/>
                  </a:lnTo>
                  <a:lnTo>
                    <a:pt x="1062" y="1737"/>
                  </a:lnTo>
                  <a:lnTo>
                    <a:pt x="1062" y="1745"/>
                  </a:lnTo>
                  <a:lnTo>
                    <a:pt x="1057" y="1745"/>
                  </a:lnTo>
                  <a:lnTo>
                    <a:pt x="1057" y="1750"/>
                  </a:lnTo>
                  <a:lnTo>
                    <a:pt x="1053" y="1750"/>
                  </a:lnTo>
                  <a:lnTo>
                    <a:pt x="1053" y="1755"/>
                  </a:lnTo>
                  <a:lnTo>
                    <a:pt x="1037" y="1755"/>
                  </a:lnTo>
                  <a:lnTo>
                    <a:pt x="1037" y="1761"/>
                  </a:lnTo>
                  <a:lnTo>
                    <a:pt x="1023" y="1761"/>
                  </a:lnTo>
                  <a:lnTo>
                    <a:pt x="1023" y="1767"/>
                  </a:lnTo>
                  <a:lnTo>
                    <a:pt x="1013" y="1767"/>
                  </a:lnTo>
                  <a:lnTo>
                    <a:pt x="1013" y="1773"/>
                  </a:lnTo>
                  <a:lnTo>
                    <a:pt x="1004" y="1773"/>
                  </a:lnTo>
                  <a:lnTo>
                    <a:pt x="1004" y="1778"/>
                  </a:lnTo>
                  <a:lnTo>
                    <a:pt x="994" y="1778"/>
                  </a:lnTo>
                  <a:lnTo>
                    <a:pt x="994" y="1786"/>
                  </a:lnTo>
                  <a:lnTo>
                    <a:pt x="985" y="1786"/>
                  </a:lnTo>
                  <a:lnTo>
                    <a:pt x="985" y="1791"/>
                  </a:lnTo>
                  <a:lnTo>
                    <a:pt x="976" y="1791"/>
                  </a:lnTo>
                  <a:lnTo>
                    <a:pt x="976" y="1796"/>
                  </a:lnTo>
                  <a:lnTo>
                    <a:pt x="970" y="1796"/>
                  </a:lnTo>
                  <a:lnTo>
                    <a:pt x="970" y="1803"/>
                  </a:lnTo>
                  <a:lnTo>
                    <a:pt x="965" y="1803"/>
                  </a:lnTo>
                  <a:lnTo>
                    <a:pt x="965" y="1808"/>
                  </a:lnTo>
                  <a:lnTo>
                    <a:pt x="946" y="1808"/>
                  </a:lnTo>
                  <a:lnTo>
                    <a:pt x="946" y="1814"/>
                  </a:lnTo>
                  <a:lnTo>
                    <a:pt x="942" y="1814"/>
                  </a:lnTo>
                  <a:lnTo>
                    <a:pt x="942" y="1819"/>
                  </a:lnTo>
                  <a:lnTo>
                    <a:pt x="928" y="1819"/>
                  </a:lnTo>
                  <a:lnTo>
                    <a:pt x="928" y="1827"/>
                  </a:lnTo>
                  <a:lnTo>
                    <a:pt x="909" y="1827"/>
                  </a:lnTo>
                  <a:lnTo>
                    <a:pt x="909" y="1832"/>
                  </a:lnTo>
                  <a:lnTo>
                    <a:pt x="899" y="1832"/>
                  </a:lnTo>
                  <a:lnTo>
                    <a:pt x="899" y="1838"/>
                  </a:lnTo>
                  <a:lnTo>
                    <a:pt x="884" y="1838"/>
                  </a:lnTo>
                  <a:lnTo>
                    <a:pt x="884" y="1844"/>
                  </a:lnTo>
                  <a:lnTo>
                    <a:pt x="879" y="1844"/>
                  </a:lnTo>
                  <a:lnTo>
                    <a:pt x="879" y="1849"/>
                  </a:lnTo>
                  <a:lnTo>
                    <a:pt x="865" y="1849"/>
                  </a:lnTo>
                  <a:lnTo>
                    <a:pt x="865" y="1856"/>
                  </a:lnTo>
                  <a:lnTo>
                    <a:pt x="850" y="1856"/>
                  </a:lnTo>
                  <a:lnTo>
                    <a:pt x="850" y="1862"/>
                  </a:lnTo>
                  <a:lnTo>
                    <a:pt x="841" y="1862"/>
                  </a:lnTo>
                  <a:lnTo>
                    <a:pt x="841" y="1868"/>
                  </a:lnTo>
                  <a:lnTo>
                    <a:pt x="827" y="1868"/>
                  </a:lnTo>
                  <a:lnTo>
                    <a:pt x="827" y="1873"/>
                  </a:lnTo>
                  <a:lnTo>
                    <a:pt x="816" y="1873"/>
                  </a:lnTo>
                  <a:lnTo>
                    <a:pt x="816" y="1879"/>
                  </a:lnTo>
                  <a:lnTo>
                    <a:pt x="807" y="1879"/>
                  </a:lnTo>
                  <a:lnTo>
                    <a:pt x="807" y="1886"/>
                  </a:lnTo>
                  <a:lnTo>
                    <a:pt x="802" y="1886"/>
                  </a:lnTo>
                  <a:lnTo>
                    <a:pt x="802" y="1892"/>
                  </a:lnTo>
                  <a:lnTo>
                    <a:pt x="793" y="1892"/>
                  </a:lnTo>
                  <a:lnTo>
                    <a:pt x="793" y="1897"/>
                  </a:lnTo>
                  <a:lnTo>
                    <a:pt x="779" y="1897"/>
                  </a:lnTo>
                  <a:lnTo>
                    <a:pt x="779" y="1903"/>
                  </a:lnTo>
                  <a:lnTo>
                    <a:pt x="769" y="1903"/>
                  </a:lnTo>
                  <a:lnTo>
                    <a:pt x="769" y="1909"/>
                  </a:lnTo>
                  <a:lnTo>
                    <a:pt x="755" y="1909"/>
                  </a:lnTo>
                  <a:lnTo>
                    <a:pt x="755" y="1914"/>
                  </a:lnTo>
                  <a:lnTo>
                    <a:pt x="744" y="1914"/>
                  </a:lnTo>
                  <a:lnTo>
                    <a:pt x="744" y="1922"/>
                  </a:lnTo>
                  <a:lnTo>
                    <a:pt x="725" y="1922"/>
                  </a:lnTo>
                  <a:lnTo>
                    <a:pt x="725" y="1927"/>
                  </a:lnTo>
                  <a:lnTo>
                    <a:pt x="711" y="1927"/>
                  </a:lnTo>
                  <a:lnTo>
                    <a:pt x="711" y="1933"/>
                  </a:lnTo>
                  <a:lnTo>
                    <a:pt x="697" y="1933"/>
                  </a:lnTo>
                  <a:lnTo>
                    <a:pt x="697" y="1938"/>
                  </a:lnTo>
                  <a:lnTo>
                    <a:pt x="683" y="1938"/>
                  </a:lnTo>
                  <a:lnTo>
                    <a:pt x="683" y="1945"/>
                  </a:lnTo>
                  <a:lnTo>
                    <a:pt x="672" y="1945"/>
                  </a:lnTo>
                  <a:lnTo>
                    <a:pt x="672" y="1950"/>
                  </a:lnTo>
                  <a:lnTo>
                    <a:pt x="658" y="1950"/>
                  </a:lnTo>
                  <a:lnTo>
                    <a:pt x="658" y="1955"/>
                  </a:lnTo>
                  <a:lnTo>
                    <a:pt x="635" y="1955"/>
                  </a:lnTo>
                  <a:lnTo>
                    <a:pt x="635" y="1963"/>
                  </a:lnTo>
                  <a:lnTo>
                    <a:pt x="620" y="1963"/>
                  </a:lnTo>
                  <a:lnTo>
                    <a:pt x="620" y="1968"/>
                  </a:lnTo>
                  <a:lnTo>
                    <a:pt x="610" y="1968"/>
                  </a:lnTo>
                  <a:lnTo>
                    <a:pt x="610" y="1974"/>
                  </a:lnTo>
                  <a:lnTo>
                    <a:pt x="600" y="1974"/>
                  </a:lnTo>
                  <a:lnTo>
                    <a:pt x="600" y="1980"/>
                  </a:lnTo>
                  <a:lnTo>
                    <a:pt x="591" y="1980"/>
                  </a:lnTo>
                  <a:lnTo>
                    <a:pt x="591" y="1987"/>
                  </a:lnTo>
                  <a:lnTo>
                    <a:pt x="558" y="1987"/>
                  </a:lnTo>
                  <a:lnTo>
                    <a:pt x="558" y="1992"/>
                  </a:lnTo>
                  <a:lnTo>
                    <a:pt x="528" y="1992"/>
                  </a:lnTo>
                  <a:lnTo>
                    <a:pt x="528" y="1998"/>
                  </a:lnTo>
                  <a:lnTo>
                    <a:pt x="509" y="1998"/>
                  </a:lnTo>
                  <a:lnTo>
                    <a:pt x="509" y="2004"/>
                  </a:lnTo>
                  <a:lnTo>
                    <a:pt x="491" y="2004"/>
                  </a:lnTo>
                  <a:lnTo>
                    <a:pt x="491" y="2009"/>
                  </a:lnTo>
                  <a:lnTo>
                    <a:pt x="467" y="2009"/>
                  </a:lnTo>
                  <a:lnTo>
                    <a:pt x="467" y="2015"/>
                  </a:lnTo>
                  <a:lnTo>
                    <a:pt x="461" y="2015"/>
                  </a:lnTo>
                  <a:lnTo>
                    <a:pt x="461" y="2022"/>
                  </a:lnTo>
                  <a:lnTo>
                    <a:pt x="432" y="2022"/>
                  </a:lnTo>
                  <a:lnTo>
                    <a:pt x="432" y="2028"/>
                  </a:lnTo>
                  <a:lnTo>
                    <a:pt x="395" y="2028"/>
                  </a:lnTo>
                  <a:lnTo>
                    <a:pt x="395" y="2033"/>
                  </a:lnTo>
                  <a:lnTo>
                    <a:pt x="380" y="2033"/>
                  </a:lnTo>
                  <a:lnTo>
                    <a:pt x="380" y="2039"/>
                  </a:lnTo>
                  <a:lnTo>
                    <a:pt x="365" y="2039"/>
                  </a:lnTo>
                  <a:lnTo>
                    <a:pt x="365" y="2045"/>
                  </a:lnTo>
                  <a:lnTo>
                    <a:pt x="327" y="2045"/>
                  </a:lnTo>
                  <a:lnTo>
                    <a:pt x="327" y="2039"/>
                  </a:lnTo>
                  <a:lnTo>
                    <a:pt x="312" y="2039"/>
                  </a:lnTo>
                  <a:lnTo>
                    <a:pt x="312" y="2033"/>
                  </a:lnTo>
                  <a:lnTo>
                    <a:pt x="298" y="2033"/>
                  </a:lnTo>
                  <a:lnTo>
                    <a:pt x="298" y="2028"/>
                  </a:lnTo>
                  <a:lnTo>
                    <a:pt x="288" y="2028"/>
                  </a:lnTo>
                  <a:lnTo>
                    <a:pt x="288" y="2022"/>
                  </a:lnTo>
                  <a:lnTo>
                    <a:pt x="284" y="2022"/>
                  </a:lnTo>
                  <a:lnTo>
                    <a:pt x="284" y="2009"/>
                  </a:lnTo>
                  <a:lnTo>
                    <a:pt x="278" y="2009"/>
                  </a:lnTo>
                  <a:lnTo>
                    <a:pt x="278" y="1992"/>
                  </a:lnTo>
                  <a:lnTo>
                    <a:pt x="274" y="1992"/>
                  </a:lnTo>
                  <a:lnTo>
                    <a:pt x="274" y="1974"/>
                  </a:lnTo>
                  <a:lnTo>
                    <a:pt x="269" y="1974"/>
                  </a:lnTo>
                  <a:lnTo>
                    <a:pt x="269" y="1963"/>
                  </a:lnTo>
                  <a:lnTo>
                    <a:pt x="264" y="1963"/>
                  </a:lnTo>
                  <a:lnTo>
                    <a:pt x="264" y="1945"/>
                  </a:lnTo>
                  <a:lnTo>
                    <a:pt x="260" y="1945"/>
                  </a:lnTo>
                  <a:lnTo>
                    <a:pt x="260" y="1922"/>
                  </a:lnTo>
                  <a:lnTo>
                    <a:pt x="255" y="1922"/>
                  </a:lnTo>
                  <a:lnTo>
                    <a:pt x="255" y="1903"/>
                  </a:lnTo>
                  <a:lnTo>
                    <a:pt x="251" y="1903"/>
                  </a:lnTo>
                  <a:lnTo>
                    <a:pt x="251" y="1892"/>
                  </a:lnTo>
                  <a:lnTo>
                    <a:pt x="245" y="1892"/>
                  </a:lnTo>
                  <a:lnTo>
                    <a:pt x="245" y="1886"/>
                  </a:lnTo>
                  <a:lnTo>
                    <a:pt x="240" y="1886"/>
                  </a:lnTo>
                  <a:lnTo>
                    <a:pt x="240" y="1873"/>
                  </a:lnTo>
                  <a:lnTo>
                    <a:pt x="236" y="1873"/>
                  </a:lnTo>
                  <a:lnTo>
                    <a:pt x="236" y="1862"/>
                  </a:lnTo>
                  <a:lnTo>
                    <a:pt x="230" y="1862"/>
                  </a:lnTo>
                  <a:lnTo>
                    <a:pt x="230" y="1844"/>
                  </a:lnTo>
                  <a:lnTo>
                    <a:pt x="226" y="1844"/>
                  </a:lnTo>
                  <a:lnTo>
                    <a:pt x="226" y="1832"/>
                  </a:lnTo>
                  <a:lnTo>
                    <a:pt x="221" y="1832"/>
                  </a:lnTo>
                  <a:lnTo>
                    <a:pt x="221" y="1827"/>
                  </a:lnTo>
                  <a:lnTo>
                    <a:pt x="216" y="1827"/>
                  </a:lnTo>
                  <a:lnTo>
                    <a:pt x="216" y="1808"/>
                  </a:lnTo>
                  <a:lnTo>
                    <a:pt x="211" y="1808"/>
                  </a:lnTo>
                  <a:lnTo>
                    <a:pt x="211" y="1796"/>
                  </a:lnTo>
                  <a:lnTo>
                    <a:pt x="207" y="1796"/>
                  </a:lnTo>
                  <a:lnTo>
                    <a:pt x="207" y="1778"/>
                  </a:lnTo>
                  <a:lnTo>
                    <a:pt x="203" y="1778"/>
                  </a:lnTo>
                  <a:lnTo>
                    <a:pt x="203" y="1761"/>
                  </a:lnTo>
                  <a:lnTo>
                    <a:pt x="197" y="1761"/>
                  </a:lnTo>
                  <a:lnTo>
                    <a:pt x="197" y="1750"/>
                  </a:lnTo>
                  <a:lnTo>
                    <a:pt x="193" y="1750"/>
                  </a:lnTo>
                  <a:lnTo>
                    <a:pt x="193" y="1745"/>
                  </a:lnTo>
                  <a:lnTo>
                    <a:pt x="188" y="1745"/>
                  </a:lnTo>
                  <a:lnTo>
                    <a:pt x="188" y="1732"/>
                  </a:lnTo>
                  <a:lnTo>
                    <a:pt x="183" y="1732"/>
                  </a:lnTo>
                  <a:lnTo>
                    <a:pt x="183" y="1726"/>
                  </a:lnTo>
                  <a:lnTo>
                    <a:pt x="178" y="1726"/>
                  </a:lnTo>
                  <a:lnTo>
                    <a:pt x="178" y="1720"/>
                  </a:lnTo>
                  <a:lnTo>
                    <a:pt x="173" y="1720"/>
                  </a:lnTo>
                  <a:lnTo>
                    <a:pt x="173" y="1715"/>
                  </a:lnTo>
                  <a:lnTo>
                    <a:pt x="168" y="1715"/>
                  </a:lnTo>
                  <a:lnTo>
                    <a:pt x="168" y="1702"/>
                  </a:lnTo>
                  <a:lnTo>
                    <a:pt x="163" y="1702"/>
                  </a:lnTo>
                  <a:lnTo>
                    <a:pt x="163" y="1696"/>
                  </a:lnTo>
                  <a:lnTo>
                    <a:pt x="159" y="1696"/>
                  </a:lnTo>
                  <a:lnTo>
                    <a:pt x="159" y="1678"/>
                  </a:lnTo>
                  <a:lnTo>
                    <a:pt x="154" y="1678"/>
                  </a:lnTo>
                  <a:lnTo>
                    <a:pt x="154" y="1667"/>
                  </a:lnTo>
                  <a:lnTo>
                    <a:pt x="149" y="1667"/>
                  </a:lnTo>
                  <a:lnTo>
                    <a:pt x="149" y="1661"/>
                  </a:lnTo>
                  <a:lnTo>
                    <a:pt x="144" y="1661"/>
                  </a:lnTo>
                  <a:lnTo>
                    <a:pt x="144" y="1650"/>
                  </a:lnTo>
                  <a:lnTo>
                    <a:pt x="140" y="1650"/>
                  </a:lnTo>
                  <a:lnTo>
                    <a:pt x="140" y="1632"/>
                  </a:lnTo>
                  <a:lnTo>
                    <a:pt x="134" y="1632"/>
                  </a:lnTo>
                  <a:lnTo>
                    <a:pt x="134" y="1626"/>
                  </a:lnTo>
                  <a:lnTo>
                    <a:pt x="130" y="1626"/>
                  </a:lnTo>
                  <a:lnTo>
                    <a:pt x="130" y="1601"/>
                  </a:lnTo>
                  <a:lnTo>
                    <a:pt x="126" y="1601"/>
                  </a:lnTo>
                  <a:lnTo>
                    <a:pt x="126" y="1590"/>
                  </a:lnTo>
                  <a:lnTo>
                    <a:pt x="120" y="1590"/>
                  </a:lnTo>
                  <a:lnTo>
                    <a:pt x="120" y="1579"/>
                  </a:lnTo>
                  <a:lnTo>
                    <a:pt x="116" y="1579"/>
                  </a:lnTo>
                  <a:lnTo>
                    <a:pt x="116" y="1566"/>
                  </a:lnTo>
                  <a:lnTo>
                    <a:pt x="111" y="1566"/>
                  </a:lnTo>
                  <a:lnTo>
                    <a:pt x="111" y="1555"/>
                  </a:lnTo>
                  <a:lnTo>
                    <a:pt x="107" y="1555"/>
                  </a:lnTo>
                  <a:lnTo>
                    <a:pt x="107" y="1542"/>
                  </a:lnTo>
                  <a:lnTo>
                    <a:pt x="100" y="1542"/>
                  </a:lnTo>
                  <a:lnTo>
                    <a:pt x="100" y="1536"/>
                  </a:lnTo>
                  <a:lnTo>
                    <a:pt x="96" y="1536"/>
                  </a:lnTo>
                  <a:lnTo>
                    <a:pt x="96" y="1525"/>
                  </a:lnTo>
                  <a:lnTo>
                    <a:pt x="91" y="1525"/>
                  </a:lnTo>
                  <a:lnTo>
                    <a:pt x="91" y="1519"/>
                  </a:lnTo>
                  <a:lnTo>
                    <a:pt x="86" y="1519"/>
                  </a:lnTo>
                  <a:lnTo>
                    <a:pt x="86" y="1514"/>
                  </a:lnTo>
                  <a:lnTo>
                    <a:pt x="82" y="1514"/>
                  </a:lnTo>
                  <a:lnTo>
                    <a:pt x="82" y="1501"/>
                  </a:lnTo>
                  <a:lnTo>
                    <a:pt x="77" y="1501"/>
                  </a:lnTo>
                  <a:lnTo>
                    <a:pt x="77" y="1483"/>
                  </a:lnTo>
                  <a:lnTo>
                    <a:pt x="72" y="1483"/>
                  </a:lnTo>
                  <a:lnTo>
                    <a:pt x="72" y="1473"/>
                  </a:lnTo>
                  <a:lnTo>
                    <a:pt x="67" y="1473"/>
                  </a:lnTo>
                  <a:lnTo>
                    <a:pt x="67" y="1454"/>
                  </a:lnTo>
                  <a:lnTo>
                    <a:pt x="63" y="1454"/>
                  </a:lnTo>
                  <a:lnTo>
                    <a:pt x="63" y="1441"/>
                  </a:lnTo>
                  <a:lnTo>
                    <a:pt x="58" y="1441"/>
                  </a:lnTo>
                  <a:lnTo>
                    <a:pt x="58" y="1430"/>
                  </a:lnTo>
                  <a:lnTo>
                    <a:pt x="53" y="1430"/>
                  </a:lnTo>
                  <a:lnTo>
                    <a:pt x="53" y="1419"/>
                  </a:lnTo>
                  <a:lnTo>
                    <a:pt x="48" y="1419"/>
                  </a:lnTo>
                  <a:lnTo>
                    <a:pt x="48" y="1413"/>
                  </a:lnTo>
                  <a:lnTo>
                    <a:pt x="44" y="1413"/>
                  </a:lnTo>
                  <a:lnTo>
                    <a:pt x="44" y="1406"/>
                  </a:lnTo>
                  <a:lnTo>
                    <a:pt x="39" y="1406"/>
                  </a:lnTo>
                  <a:lnTo>
                    <a:pt x="39" y="1395"/>
                  </a:lnTo>
                  <a:lnTo>
                    <a:pt x="34" y="1395"/>
                  </a:lnTo>
                  <a:lnTo>
                    <a:pt x="34" y="1389"/>
                  </a:lnTo>
                  <a:lnTo>
                    <a:pt x="30" y="1389"/>
                  </a:lnTo>
                  <a:lnTo>
                    <a:pt x="30" y="1383"/>
                  </a:lnTo>
                  <a:lnTo>
                    <a:pt x="24" y="1383"/>
                  </a:lnTo>
                  <a:lnTo>
                    <a:pt x="24" y="1371"/>
                  </a:lnTo>
                  <a:lnTo>
                    <a:pt x="19" y="1371"/>
                  </a:lnTo>
                  <a:lnTo>
                    <a:pt x="19" y="1359"/>
                  </a:lnTo>
                  <a:lnTo>
                    <a:pt x="14" y="1359"/>
                  </a:lnTo>
                  <a:lnTo>
                    <a:pt x="14" y="1342"/>
                  </a:lnTo>
                  <a:lnTo>
                    <a:pt x="10" y="1342"/>
                  </a:lnTo>
                  <a:lnTo>
                    <a:pt x="10" y="1330"/>
                  </a:lnTo>
                  <a:lnTo>
                    <a:pt x="4" y="1330"/>
                  </a:lnTo>
                  <a:lnTo>
                    <a:pt x="4" y="1313"/>
                  </a:lnTo>
                  <a:lnTo>
                    <a:pt x="0" y="1313"/>
                  </a:lnTo>
                  <a:lnTo>
                    <a:pt x="0" y="130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69960" y="2478960"/>
              <a:ext cx="5040" cy="68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0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0" y="30"/>
                  </a:lnTo>
                  <a:lnTo>
                    <a:pt x="15" y="30"/>
                  </a:lnTo>
                  <a:lnTo>
                    <a:pt x="15" y="36"/>
                  </a:lnTo>
                  <a:lnTo>
                    <a:pt x="5" y="36"/>
                  </a:lnTo>
                  <a:lnTo>
                    <a:pt x="5" y="30"/>
                  </a:lnTo>
                  <a:lnTo>
                    <a:pt x="0" y="3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83720" y="3877560"/>
              <a:ext cx="2160" cy="144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90200" y="3099240"/>
              <a:ext cx="325800" cy="786240"/>
            </a:xfrm>
            <a:custGeom>
              <a:avLst/>
              <a:gdLst/>
              <a:ahLst/>
              <a:rect l="l" t="t" r="r" b="b"/>
              <a:pathLst>
                <a:path w="1253" h="4031">
                  <a:moveTo>
                    <a:pt x="0" y="3990"/>
                  </a:moveTo>
                  <a:lnTo>
                    <a:pt x="4" y="3990"/>
                  </a:lnTo>
                  <a:lnTo>
                    <a:pt x="4" y="3983"/>
                  </a:lnTo>
                  <a:lnTo>
                    <a:pt x="8" y="3983"/>
                  </a:lnTo>
                  <a:lnTo>
                    <a:pt x="8" y="3978"/>
                  </a:lnTo>
                  <a:lnTo>
                    <a:pt x="13" y="3978"/>
                  </a:lnTo>
                  <a:lnTo>
                    <a:pt x="13" y="3971"/>
                  </a:lnTo>
                  <a:lnTo>
                    <a:pt x="23" y="3971"/>
                  </a:lnTo>
                  <a:lnTo>
                    <a:pt x="23" y="3966"/>
                  </a:lnTo>
                  <a:lnTo>
                    <a:pt x="37" y="3966"/>
                  </a:lnTo>
                  <a:lnTo>
                    <a:pt x="37" y="3971"/>
                  </a:lnTo>
                  <a:lnTo>
                    <a:pt x="104" y="3971"/>
                  </a:lnTo>
                  <a:lnTo>
                    <a:pt x="104" y="3966"/>
                  </a:lnTo>
                  <a:lnTo>
                    <a:pt x="134" y="3966"/>
                  </a:lnTo>
                  <a:lnTo>
                    <a:pt x="134" y="3971"/>
                  </a:lnTo>
                  <a:lnTo>
                    <a:pt x="177" y="3971"/>
                  </a:lnTo>
                  <a:lnTo>
                    <a:pt x="177" y="3966"/>
                  </a:lnTo>
                  <a:lnTo>
                    <a:pt x="211" y="3966"/>
                  </a:lnTo>
                  <a:lnTo>
                    <a:pt x="211" y="3960"/>
                  </a:lnTo>
                  <a:lnTo>
                    <a:pt x="220" y="3960"/>
                  </a:lnTo>
                  <a:lnTo>
                    <a:pt x="220" y="3966"/>
                  </a:lnTo>
                  <a:lnTo>
                    <a:pt x="311" y="3966"/>
                  </a:lnTo>
                  <a:lnTo>
                    <a:pt x="311" y="3960"/>
                  </a:lnTo>
                  <a:lnTo>
                    <a:pt x="345" y="3960"/>
                  </a:lnTo>
                  <a:lnTo>
                    <a:pt x="345" y="3966"/>
                  </a:lnTo>
                  <a:lnTo>
                    <a:pt x="427" y="3966"/>
                  </a:lnTo>
                  <a:lnTo>
                    <a:pt x="427" y="3971"/>
                  </a:lnTo>
                  <a:lnTo>
                    <a:pt x="441" y="3971"/>
                  </a:lnTo>
                  <a:lnTo>
                    <a:pt x="441" y="3966"/>
                  </a:lnTo>
                  <a:lnTo>
                    <a:pt x="494" y="3966"/>
                  </a:lnTo>
                  <a:lnTo>
                    <a:pt x="494" y="3971"/>
                  </a:lnTo>
                  <a:lnTo>
                    <a:pt x="508" y="3971"/>
                  </a:lnTo>
                  <a:lnTo>
                    <a:pt x="508" y="3966"/>
                  </a:lnTo>
                  <a:lnTo>
                    <a:pt x="551" y="3966"/>
                  </a:lnTo>
                  <a:lnTo>
                    <a:pt x="551" y="3971"/>
                  </a:lnTo>
                  <a:lnTo>
                    <a:pt x="566" y="3971"/>
                  </a:lnTo>
                  <a:lnTo>
                    <a:pt x="566" y="3966"/>
                  </a:lnTo>
                  <a:lnTo>
                    <a:pt x="581" y="3966"/>
                  </a:lnTo>
                  <a:lnTo>
                    <a:pt x="581" y="3971"/>
                  </a:lnTo>
                  <a:lnTo>
                    <a:pt x="624" y="3971"/>
                  </a:lnTo>
                  <a:lnTo>
                    <a:pt x="624" y="3966"/>
                  </a:lnTo>
                  <a:lnTo>
                    <a:pt x="706" y="3966"/>
                  </a:lnTo>
                  <a:lnTo>
                    <a:pt x="706" y="3971"/>
                  </a:lnTo>
                  <a:lnTo>
                    <a:pt x="715" y="3971"/>
                  </a:lnTo>
                  <a:lnTo>
                    <a:pt x="715" y="3966"/>
                  </a:lnTo>
                  <a:lnTo>
                    <a:pt x="854" y="3966"/>
                  </a:lnTo>
                  <a:lnTo>
                    <a:pt x="854" y="3960"/>
                  </a:lnTo>
                  <a:lnTo>
                    <a:pt x="922" y="3960"/>
                  </a:lnTo>
                  <a:lnTo>
                    <a:pt x="922" y="3955"/>
                  </a:lnTo>
                  <a:lnTo>
                    <a:pt x="983" y="3955"/>
                  </a:lnTo>
                  <a:lnTo>
                    <a:pt x="983" y="3947"/>
                  </a:lnTo>
                  <a:lnTo>
                    <a:pt x="1013" y="3947"/>
                  </a:lnTo>
                  <a:lnTo>
                    <a:pt x="1013" y="3942"/>
                  </a:lnTo>
                  <a:lnTo>
                    <a:pt x="1041" y="3942"/>
                  </a:lnTo>
                  <a:lnTo>
                    <a:pt x="1041" y="3947"/>
                  </a:lnTo>
                  <a:lnTo>
                    <a:pt x="1056" y="3947"/>
                  </a:lnTo>
                  <a:lnTo>
                    <a:pt x="1056" y="3942"/>
                  </a:lnTo>
                  <a:lnTo>
                    <a:pt x="1113" y="3942"/>
                  </a:lnTo>
                  <a:lnTo>
                    <a:pt x="1113" y="3937"/>
                  </a:lnTo>
                  <a:lnTo>
                    <a:pt x="1166" y="3937"/>
                  </a:lnTo>
                  <a:lnTo>
                    <a:pt x="1166" y="3930"/>
                  </a:lnTo>
                  <a:lnTo>
                    <a:pt x="1176" y="3930"/>
                  </a:lnTo>
                  <a:lnTo>
                    <a:pt x="1176" y="3925"/>
                  </a:lnTo>
                  <a:lnTo>
                    <a:pt x="1186" y="3925"/>
                  </a:lnTo>
                  <a:lnTo>
                    <a:pt x="1186" y="3912"/>
                  </a:lnTo>
                  <a:lnTo>
                    <a:pt x="1190" y="3912"/>
                  </a:lnTo>
                  <a:lnTo>
                    <a:pt x="1190" y="3830"/>
                  </a:lnTo>
                  <a:lnTo>
                    <a:pt x="1194" y="3830"/>
                  </a:lnTo>
                  <a:lnTo>
                    <a:pt x="1194" y="3741"/>
                  </a:lnTo>
                  <a:lnTo>
                    <a:pt x="1200" y="3741"/>
                  </a:lnTo>
                  <a:lnTo>
                    <a:pt x="1200" y="3718"/>
                  </a:lnTo>
                  <a:lnTo>
                    <a:pt x="1204" y="3718"/>
                  </a:lnTo>
                  <a:lnTo>
                    <a:pt x="1204" y="3700"/>
                  </a:lnTo>
                  <a:lnTo>
                    <a:pt x="1200" y="3700"/>
                  </a:lnTo>
                  <a:lnTo>
                    <a:pt x="1200" y="3629"/>
                  </a:lnTo>
                  <a:lnTo>
                    <a:pt x="1194" y="3629"/>
                  </a:lnTo>
                  <a:lnTo>
                    <a:pt x="1194" y="3612"/>
                  </a:lnTo>
                  <a:lnTo>
                    <a:pt x="1200" y="3612"/>
                  </a:lnTo>
                  <a:lnTo>
                    <a:pt x="1200" y="3552"/>
                  </a:lnTo>
                  <a:lnTo>
                    <a:pt x="1194" y="3552"/>
                  </a:lnTo>
                  <a:lnTo>
                    <a:pt x="1194" y="3452"/>
                  </a:lnTo>
                  <a:lnTo>
                    <a:pt x="1190" y="3452"/>
                  </a:lnTo>
                  <a:lnTo>
                    <a:pt x="1190" y="3287"/>
                  </a:lnTo>
                  <a:lnTo>
                    <a:pt x="1186" y="3287"/>
                  </a:lnTo>
                  <a:lnTo>
                    <a:pt x="1186" y="3251"/>
                  </a:lnTo>
                  <a:lnTo>
                    <a:pt x="1190" y="3251"/>
                  </a:lnTo>
                  <a:lnTo>
                    <a:pt x="1190" y="3215"/>
                  </a:lnTo>
                  <a:lnTo>
                    <a:pt x="1186" y="3215"/>
                  </a:lnTo>
                  <a:lnTo>
                    <a:pt x="1186" y="3156"/>
                  </a:lnTo>
                  <a:lnTo>
                    <a:pt x="1180" y="3156"/>
                  </a:lnTo>
                  <a:lnTo>
                    <a:pt x="1180" y="3144"/>
                  </a:lnTo>
                  <a:lnTo>
                    <a:pt x="1186" y="3144"/>
                  </a:lnTo>
                  <a:lnTo>
                    <a:pt x="1186" y="3102"/>
                  </a:lnTo>
                  <a:lnTo>
                    <a:pt x="1180" y="3102"/>
                  </a:lnTo>
                  <a:lnTo>
                    <a:pt x="1180" y="3074"/>
                  </a:lnTo>
                  <a:lnTo>
                    <a:pt x="1176" y="3074"/>
                  </a:lnTo>
                  <a:lnTo>
                    <a:pt x="1176" y="3009"/>
                  </a:lnTo>
                  <a:lnTo>
                    <a:pt x="1171" y="3009"/>
                  </a:lnTo>
                  <a:lnTo>
                    <a:pt x="1171" y="2914"/>
                  </a:lnTo>
                  <a:lnTo>
                    <a:pt x="1166" y="2914"/>
                  </a:lnTo>
                  <a:lnTo>
                    <a:pt x="1166" y="2807"/>
                  </a:lnTo>
                  <a:lnTo>
                    <a:pt x="1161" y="2807"/>
                  </a:lnTo>
                  <a:lnTo>
                    <a:pt x="1161" y="2797"/>
                  </a:lnTo>
                  <a:lnTo>
                    <a:pt x="1157" y="2797"/>
                  </a:lnTo>
                  <a:lnTo>
                    <a:pt x="1157" y="2772"/>
                  </a:lnTo>
                  <a:lnTo>
                    <a:pt x="1161" y="2772"/>
                  </a:lnTo>
                  <a:lnTo>
                    <a:pt x="1161" y="2754"/>
                  </a:lnTo>
                  <a:lnTo>
                    <a:pt x="1157" y="2754"/>
                  </a:lnTo>
                  <a:lnTo>
                    <a:pt x="1157" y="2737"/>
                  </a:lnTo>
                  <a:lnTo>
                    <a:pt x="1153" y="2737"/>
                  </a:lnTo>
                  <a:lnTo>
                    <a:pt x="1153" y="2671"/>
                  </a:lnTo>
                  <a:lnTo>
                    <a:pt x="1147" y="2671"/>
                  </a:lnTo>
                  <a:lnTo>
                    <a:pt x="1147" y="2560"/>
                  </a:lnTo>
                  <a:lnTo>
                    <a:pt x="1143" y="2560"/>
                  </a:lnTo>
                  <a:lnTo>
                    <a:pt x="1143" y="2530"/>
                  </a:lnTo>
                  <a:lnTo>
                    <a:pt x="1138" y="2530"/>
                  </a:lnTo>
                  <a:lnTo>
                    <a:pt x="1138" y="2324"/>
                  </a:lnTo>
                  <a:lnTo>
                    <a:pt x="1133" y="2324"/>
                  </a:lnTo>
                  <a:lnTo>
                    <a:pt x="1133" y="2293"/>
                  </a:lnTo>
                  <a:lnTo>
                    <a:pt x="1138" y="2293"/>
                  </a:lnTo>
                  <a:lnTo>
                    <a:pt x="1138" y="2275"/>
                  </a:lnTo>
                  <a:lnTo>
                    <a:pt x="1133" y="2275"/>
                  </a:lnTo>
                  <a:lnTo>
                    <a:pt x="1133" y="2098"/>
                  </a:lnTo>
                  <a:lnTo>
                    <a:pt x="1127" y="2098"/>
                  </a:lnTo>
                  <a:lnTo>
                    <a:pt x="1127" y="2063"/>
                  </a:lnTo>
                  <a:lnTo>
                    <a:pt x="1123" y="2063"/>
                  </a:lnTo>
                  <a:lnTo>
                    <a:pt x="1123" y="1838"/>
                  </a:lnTo>
                  <a:lnTo>
                    <a:pt x="1118" y="1838"/>
                  </a:lnTo>
                  <a:lnTo>
                    <a:pt x="1118" y="1756"/>
                  </a:lnTo>
                  <a:lnTo>
                    <a:pt x="1113" y="1756"/>
                  </a:lnTo>
                  <a:lnTo>
                    <a:pt x="1113" y="1744"/>
                  </a:lnTo>
                  <a:lnTo>
                    <a:pt x="1118" y="1744"/>
                  </a:lnTo>
                  <a:lnTo>
                    <a:pt x="1118" y="1548"/>
                  </a:lnTo>
                  <a:lnTo>
                    <a:pt x="1123" y="1548"/>
                  </a:lnTo>
                  <a:lnTo>
                    <a:pt x="1123" y="1519"/>
                  </a:lnTo>
                  <a:lnTo>
                    <a:pt x="1118" y="1519"/>
                  </a:lnTo>
                  <a:lnTo>
                    <a:pt x="1118" y="1489"/>
                  </a:lnTo>
                  <a:lnTo>
                    <a:pt x="1123" y="1489"/>
                  </a:lnTo>
                  <a:lnTo>
                    <a:pt x="1123" y="1383"/>
                  </a:lnTo>
                  <a:lnTo>
                    <a:pt x="1118" y="1383"/>
                  </a:lnTo>
                  <a:lnTo>
                    <a:pt x="1118" y="1252"/>
                  </a:lnTo>
                  <a:lnTo>
                    <a:pt x="1123" y="1252"/>
                  </a:lnTo>
                  <a:lnTo>
                    <a:pt x="1123" y="1236"/>
                  </a:lnTo>
                  <a:lnTo>
                    <a:pt x="1118" y="1236"/>
                  </a:lnTo>
                  <a:lnTo>
                    <a:pt x="1118" y="1224"/>
                  </a:lnTo>
                  <a:lnTo>
                    <a:pt x="1123" y="1224"/>
                  </a:lnTo>
                  <a:lnTo>
                    <a:pt x="1123" y="1193"/>
                  </a:lnTo>
                  <a:lnTo>
                    <a:pt x="1127" y="1193"/>
                  </a:lnTo>
                  <a:lnTo>
                    <a:pt x="1127" y="1123"/>
                  </a:lnTo>
                  <a:lnTo>
                    <a:pt x="1133" y="1123"/>
                  </a:lnTo>
                  <a:lnTo>
                    <a:pt x="1133" y="1070"/>
                  </a:lnTo>
                  <a:lnTo>
                    <a:pt x="1138" y="1070"/>
                  </a:lnTo>
                  <a:lnTo>
                    <a:pt x="1138" y="905"/>
                  </a:lnTo>
                  <a:lnTo>
                    <a:pt x="1133" y="905"/>
                  </a:lnTo>
                  <a:lnTo>
                    <a:pt x="1133" y="898"/>
                  </a:lnTo>
                  <a:lnTo>
                    <a:pt x="1127" y="898"/>
                  </a:lnTo>
                  <a:lnTo>
                    <a:pt x="1127" y="864"/>
                  </a:lnTo>
                  <a:lnTo>
                    <a:pt x="1123" y="864"/>
                  </a:lnTo>
                  <a:lnTo>
                    <a:pt x="1123" y="614"/>
                  </a:lnTo>
                  <a:lnTo>
                    <a:pt x="1118" y="614"/>
                  </a:lnTo>
                  <a:lnTo>
                    <a:pt x="1118" y="584"/>
                  </a:lnTo>
                  <a:lnTo>
                    <a:pt x="1113" y="584"/>
                  </a:lnTo>
                  <a:lnTo>
                    <a:pt x="1113" y="543"/>
                  </a:lnTo>
                  <a:lnTo>
                    <a:pt x="1109" y="543"/>
                  </a:lnTo>
                  <a:lnTo>
                    <a:pt x="1109" y="519"/>
                  </a:lnTo>
                  <a:lnTo>
                    <a:pt x="1104" y="519"/>
                  </a:lnTo>
                  <a:lnTo>
                    <a:pt x="1104" y="491"/>
                  </a:lnTo>
                  <a:lnTo>
                    <a:pt x="1099" y="491"/>
                  </a:lnTo>
                  <a:lnTo>
                    <a:pt x="1099" y="478"/>
                  </a:lnTo>
                  <a:lnTo>
                    <a:pt x="1094" y="478"/>
                  </a:lnTo>
                  <a:lnTo>
                    <a:pt x="1094" y="467"/>
                  </a:lnTo>
                  <a:lnTo>
                    <a:pt x="1090" y="467"/>
                  </a:lnTo>
                  <a:lnTo>
                    <a:pt x="1090" y="455"/>
                  </a:lnTo>
                  <a:lnTo>
                    <a:pt x="1084" y="455"/>
                  </a:lnTo>
                  <a:lnTo>
                    <a:pt x="1084" y="432"/>
                  </a:lnTo>
                  <a:lnTo>
                    <a:pt x="1080" y="432"/>
                  </a:lnTo>
                  <a:lnTo>
                    <a:pt x="1080" y="420"/>
                  </a:lnTo>
                  <a:lnTo>
                    <a:pt x="1075" y="420"/>
                  </a:lnTo>
                  <a:lnTo>
                    <a:pt x="1075" y="413"/>
                  </a:lnTo>
                  <a:lnTo>
                    <a:pt x="1071" y="413"/>
                  </a:lnTo>
                  <a:lnTo>
                    <a:pt x="1071" y="385"/>
                  </a:lnTo>
                  <a:lnTo>
                    <a:pt x="1066" y="385"/>
                  </a:lnTo>
                  <a:lnTo>
                    <a:pt x="1066" y="366"/>
                  </a:lnTo>
                  <a:lnTo>
                    <a:pt x="1061" y="366"/>
                  </a:lnTo>
                  <a:lnTo>
                    <a:pt x="1061" y="355"/>
                  </a:lnTo>
                  <a:lnTo>
                    <a:pt x="1056" y="355"/>
                  </a:lnTo>
                  <a:lnTo>
                    <a:pt x="1056" y="325"/>
                  </a:lnTo>
                  <a:lnTo>
                    <a:pt x="1050" y="325"/>
                  </a:lnTo>
                  <a:lnTo>
                    <a:pt x="1050" y="307"/>
                  </a:lnTo>
                  <a:lnTo>
                    <a:pt x="1046" y="307"/>
                  </a:lnTo>
                  <a:lnTo>
                    <a:pt x="1046" y="284"/>
                  </a:lnTo>
                  <a:lnTo>
                    <a:pt x="1041" y="284"/>
                  </a:lnTo>
                  <a:lnTo>
                    <a:pt x="1041" y="279"/>
                  </a:lnTo>
                  <a:lnTo>
                    <a:pt x="1036" y="279"/>
                  </a:lnTo>
                  <a:lnTo>
                    <a:pt x="1036" y="260"/>
                  </a:lnTo>
                  <a:lnTo>
                    <a:pt x="1031" y="260"/>
                  </a:lnTo>
                  <a:lnTo>
                    <a:pt x="1031" y="255"/>
                  </a:lnTo>
                  <a:lnTo>
                    <a:pt x="1027" y="255"/>
                  </a:lnTo>
                  <a:lnTo>
                    <a:pt x="1027" y="242"/>
                  </a:lnTo>
                  <a:lnTo>
                    <a:pt x="1022" y="242"/>
                  </a:lnTo>
                  <a:lnTo>
                    <a:pt x="1022" y="225"/>
                  </a:lnTo>
                  <a:lnTo>
                    <a:pt x="1017" y="225"/>
                  </a:lnTo>
                  <a:lnTo>
                    <a:pt x="1017" y="219"/>
                  </a:lnTo>
                  <a:lnTo>
                    <a:pt x="1013" y="219"/>
                  </a:lnTo>
                  <a:lnTo>
                    <a:pt x="1013" y="206"/>
                  </a:lnTo>
                  <a:lnTo>
                    <a:pt x="1008" y="206"/>
                  </a:lnTo>
                  <a:lnTo>
                    <a:pt x="1008" y="195"/>
                  </a:lnTo>
                  <a:lnTo>
                    <a:pt x="1003" y="195"/>
                  </a:lnTo>
                  <a:lnTo>
                    <a:pt x="1003" y="184"/>
                  </a:lnTo>
                  <a:lnTo>
                    <a:pt x="999" y="184"/>
                  </a:lnTo>
                  <a:lnTo>
                    <a:pt x="999" y="165"/>
                  </a:lnTo>
                  <a:lnTo>
                    <a:pt x="994" y="165"/>
                  </a:lnTo>
                  <a:lnTo>
                    <a:pt x="994" y="160"/>
                  </a:lnTo>
                  <a:lnTo>
                    <a:pt x="989" y="160"/>
                  </a:lnTo>
                  <a:lnTo>
                    <a:pt x="989" y="148"/>
                  </a:lnTo>
                  <a:lnTo>
                    <a:pt x="983" y="148"/>
                  </a:lnTo>
                  <a:lnTo>
                    <a:pt x="983" y="136"/>
                  </a:lnTo>
                  <a:lnTo>
                    <a:pt x="979" y="136"/>
                  </a:lnTo>
                  <a:lnTo>
                    <a:pt x="979" y="130"/>
                  </a:lnTo>
                  <a:lnTo>
                    <a:pt x="974" y="130"/>
                  </a:lnTo>
                  <a:lnTo>
                    <a:pt x="974" y="119"/>
                  </a:lnTo>
                  <a:lnTo>
                    <a:pt x="969" y="119"/>
                  </a:lnTo>
                  <a:lnTo>
                    <a:pt x="969" y="111"/>
                  </a:lnTo>
                  <a:lnTo>
                    <a:pt x="965" y="111"/>
                  </a:lnTo>
                  <a:lnTo>
                    <a:pt x="965" y="106"/>
                  </a:lnTo>
                  <a:lnTo>
                    <a:pt x="960" y="106"/>
                  </a:lnTo>
                  <a:lnTo>
                    <a:pt x="960" y="100"/>
                  </a:lnTo>
                  <a:lnTo>
                    <a:pt x="955" y="100"/>
                  </a:lnTo>
                  <a:lnTo>
                    <a:pt x="955" y="95"/>
                  </a:lnTo>
                  <a:lnTo>
                    <a:pt x="950" y="95"/>
                  </a:lnTo>
                  <a:lnTo>
                    <a:pt x="950" y="88"/>
                  </a:lnTo>
                  <a:lnTo>
                    <a:pt x="946" y="88"/>
                  </a:lnTo>
                  <a:lnTo>
                    <a:pt x="946" y="83"/>
                  </a:lnTo>
                  <a:lnTo>
                    <a:pt x="936" y="83"/>
                  </a:lnTo>
                  <a:lnTo>
                    <a:pt x="936" y="78"/>
                  </a:lnTo>
                  <a:lnTo>
                    <a:pt x="927" y="78"/>
                  </a:lnTo>
                  <a:lnTo>
                    <a:pt x="927" y="70"/>
                  </a:lnTo>
                  <a:lnTo>
                    <a:pt x="897" y="70"/>
                  </a:lnTo>
                  <a:lnTo>
                    <a:pt x="897" y="65"/>
                  </a:lnTo>
                  <a:lnTo>
                    <a:pt x="873" y="65"/>
                  </a:lnTo>
                  <a:lnTo>
                    <a:pt x="873" y="70"/>
                  </a:lnTo>
                  <a:lnTo>
                    <a:pt x="850" y="70"/>
                  </a:lnTo>
                  <a:lnTo>
                    <a:pt x="850" y="78"/>
                  </a:lnTo>
                  <a:lnTo>
                    <a:pt x="830" y="78"/>
                  </a:lnTo>
                  <a:lnTo>
                    <a:pt x="830" y="83"/>
                  </a:lnTo>
                  <a:lnTo>
                    <a:pt x="825" y="83"/>
                  </a:lnTo>
                  <a:lnTo>
                    <a:pt x="825" y="88"/>
                  </a:lnTo>
                  <a:lnTo>
                    <a:pt x="816" y="88"/>
                  </a:lnTo>
                  <a:lnTo>
                    <a:pt x="816" y="95"/>
                  </a:lnTo>
                  <a:lnTo>
                    <a:pt x="802" y="95"/>
                  </a:lnTo>
                  <a:lnTo>
                    <a:pt x="802" y="100"/>
                  </a:lnTo>
                  <a:lnTo>
                    <a:pt x="787" y="100"/>
                  </a:lnTo>
                  <a:lnTo>
                    <a:pt x="787" y="106"/>
                  </a:lnTo>
                  <a:lnTo>
                    <a:pt x="777" y="106"/>
                  </a:lnTo>
                  <a:lnTo>
                    <a:pt x="777" y="111"/>
                  </a:lnTo>
                  <a:lnTo>
                    <a:pt x="758" y="111"/>
                  </a:lnTo>
                  <a:lnTo>
                    <a:pt x="758" y="119"/>
                  </a:lnTo>
                  <a:lnTo>
                    <a:pt x="743" y="119"/>
                  </a:lnTo>
                  <a:lnTo>
                    <a:pt x="743" y="124"/>
                  </a:lnTo>
                  <a:lnTo>
                    <a:pt x="725" y="124"/>
                  </a:lnTo>
                  <a:lnTo>
                    <a:pt x="725" y="130"/>
                  </a:lnTo>
                  <a:lnTo>
                    <a:pt x="706" y="130"/>
                  </a:lnTo>
                  <a:lnTo>
                    <a:pt x="706" y="136"/>
                  </a:lnTo>
                  <a:lnTo>
                    <a:pt x="695" y="136"/>
                  </a:lnTo>
                  <a:lnTo>
                    <a:pt x="695" y="141"/>
                  </a:lnTo>
                  <a:lnTo>
                    <a:pt x="686" y="141"/>
                  </a:lnTo>
                  <a:lnTo>
                    <a:pt x="686" y="148"/>
                  </a:lnTo>
                  <a:lnTo>
                    <a:pt x="676" y="148"/>
                  </a:lnTo>
                  <a:lnTo>
                    <a:pt x="676" y="154"/>
                  </a:lnTo>
                  <a:lnTo>
                    <a:pt x="662" y="154"/>
                  </a:lnTo>
                  <a:lnTo>
                    <a:pt x="662" y="160"/>
                  </a:lnTo>
                  <a:lnTo>
                    <a:pt x="648" y="160"/>
                  </a:lnTo>
                  <a:lnTo>
                    <a:pt x="648" y="165"/>
                  </a:lnTo>
                  <a:lnTo>
                    <a:pt x="634" y="165"/>
                  </a:lnTo>
                  <a:lnTo>
                    <a:pt x="634" y="171"/>
                  </a:lnTo>
                  <a:lnTo>
                    <a:pt x="624" y="171"/>
                  </a:lnTo>
                  <a:lnTo>
                    <a:pt x="624" y="178"/>
                  </a:lnTo>
                  <a:lnTo>
                    <a:pt x="614" y="178"/>
                  </a:lnTo>
                  <a:lnTo>
                    <a:pt x="614" y="184"/>
                  </a:lnTo>
                  <a:lnTo>
                    <a:pt x="609" y="184"/>
                  </a:lnTo>
                  <a:lnTo>
                    <a:pt x="609" y="189"/>
                  </a:lnTo>
                  <a:lnTo>
                    <a:pt x="595" y="189"/>
                  </a:lnTo>
                  <a:lnTo>
                    <a:pt x="595" y="195"/>
                  </a:lnTo>
                  <a:lnTo>
                    <a:pt x="585" y="195"/>
                  </a:lnTo>
                  <a:lnTo>
                    <a:pt x="585" y="201"/>
                  </a:lnTo>
                  <a:lnTo>
                    <a:pt x="576" y="201"/>
                  </a:lnTo>
                  <a:lnTo>
                    <a:pt x="576" y="206"/>
                  </a:lnTo>
                  <a:lnTo>
                    <a:pt x="562" y="206"/>
                  </a:lnTo>
                  <a:lnTo>
                    <a:pt x="562" y="214"/>
                  </a:lnTo>
                  <a:lnTo>
                    <a:pt x="547" y="214"/>
                  </a:lnTo>
                  <a:lnTo>
                    <a:pt x="547" y="219"/>
                  </a:lnTo>
                  <a:lnTo>
                    <a:pt x="532" y="219"/>
                  </a:lnTo>
                  <a:lnTo>
                    <a:pt x="532" y="225"/>
                  </a:lnTo>
                  <a:lnTo>
                    <a:pt x="528" y="225"/>
                  </a:lnTo>
                  <a:lnTo>
                    <a:pt x="528" y="230"/>
                  </a:lnTo>
                  <a:lnTo>
                    <a:pt x="518" y="230"/>
                  </a:lnTo>
                  <a:lnTo>
                    <a:pt x="518" y="237"/>
                  </a:lnTo>
                  <a:lnTo>
                    <a:pt x="508" y="237"/>
                  </a:lnTo>
                  <a:lnTo>
                    <a:pt x="508" y="242"/>
                  </a:lnTo>
                  <a:lnTo>
                    <a:pt x="499" y="242"/>
                  </a:lnTo>
                  <a:lnTo>
                    <a:pt x="499" y="247"/>
                  </a:lnTo>
                  <a:lnTo>
                    <a:pt x="485" y="247"/>
                  </a:lnTo>
                  <a:lnTo>
                    <a:pt x="485" y="255"/>
                  </a:lnTo>
                  <a:lnTo>
                    <a:pt x="474" y="255"/>
                  </a:lnTo>
                  <a:lnTo>
                    <a:pt x="474" y="260"/>
                  </a:lnTo>
                  <a:lnTo>
                    <a:pt x="465" y="260"/>
                  </a:lnTo>
                  <a:lnTo>
                    <a:pt x="465" y="266"/>
                  </a:lnTo>
                  <a:lnTo>
                    <a:pt x="455" y="266"/>
                  </a:lnTo>
                  <a:lnTo>
                    <a:pt x="455" y="272"/>
                  </a:lnTo>
                  <a:lnTo>
                    <a:pt x="451" y="272"/>
                  </a:lnTo>
                  <a:lnTo>
                    <a:pt x="451" y="279"/>
                  </a:lnTo>
                  <a:lnTo>
                    <a:pt x="436" y="279"/>
                  </a:lnTo>
                  <a:lnTo>
                    <a:pt x="436" y="284"/>
                  </a:lnTo>
                  <a:lnTo>
                    <a:pt x="427" y="284"/>
                  </a:lnTo>
                  <a:lnTo>
                    <a:pt x="427" y="290"/>
                  </a:lnTo>
                  <a:lnTo>
                    <a:pt x="418" y="290"/>
                  </a:lnTo>
                  <a:lnTo>
                    <a:pt x="418" y="296"/>
                  </a:lnTo>
                  <a:lnTo>
                    <a:pt x="407" y="296"/>
                  </a:lnTo>
                  <a:lnTo>
                    <a:pt x="407" y="301"/>
                  </a:lnTo>
                  <a:lnTo>
                    <a:pt x="392" y="301"/>
                  </a:lnTo>
                  <a:lnTo>
                    <a:pt x="392" y="307"/>
                  </a:lnTo>
                  <a:lnTo>
                    <a:pt x="378" y="307"/>
                  </a:lnTo>
                  <a:lnTo>
                    <a:pt x="378" y="314"/>
                  </a:lnTo>
                  <a:lnTo>
                    <a:pt x="369" y="314"/>
                  </a:lnTo>
                  <a:lnTo>
                    <a:pt x="369" y="320"/>
                  </a:lnTo>
                  <a:lnTo>
                    <a:pt x="364" y="320"/>
                  </a:lnTo>
                  <a:lnTo>
                    <a:pt x="364" y="325"/>
                  </a:lnTo>
                  <a:lnTo>
                    <a:pt x="350" y="325"/>
                  </a:lnTo>
                  <a:lnTo>
                    <a:pt x="350" y="331"/>
                  </a:lnTo>
                  <a:lnTo>
                    <a:pt x="335" y="331"/>
                  </a:lnTo>
                  <a:lnTo>
                    <a:pt x="335" y="337"/>
                  </a:lnTo>
                  <a:lnTo>
                    <a:pt x="325" y="337"/>
                  </a:lnTo>
                  <a:lnTo>
                    <a:pt x="325" y="342"/>
                  </a:lnTo>
                  <a:lnTo>
                    <a:pt x="321" y="342"/>
                  </a:lnTo>
                  <a:lnTo>
                    <a:pt x="321" y="348"/>
                  </a:lnTo>
                  <a:lnTo>
                    <a:pt x="311" y="348"/>
                  </a:lnTo>
                  <a:lnTo>
                    <a:pt x="311" y="355"/>
                  </a:lnTo>
                  <a:lnTo>
                    <a:pt x="302" y="355"/>
                  </a:lnTo>
                  <a:lnTo>
                    <a:pt x="302" y="361"/>
                  </a:lnTo>
                  <a:lnTo>
                    <a:pt x="293" y="361"/>
                  </a:lnTo>
                  <a:lnTo>
                    <a:pt x="293" y="366"/>
                  </a:lnTo>
                  <a:lnTo>
                    <a:pt x="283" y="366"/>
                  </a:lnTo>
                  <a:lnTo>
                    <a:pt x="283" y="373"/>
                  </a:lnTo>
                  <a:lnTo>
                    <a:pt x="268" y="373"/>
                  </a:lnTo>
                  <a:lnTo>
                    <a:pt x="268" y="378"/>
                  </a:lnTo>
                  <a:lnTo>
                    <a:pt x="258" y="378"/>
                  </a:lnTo>
                  <a:lnTo>
                    <a:pt x="258" y="385"/>
                  </a:lnTo>
                  <a:lnTo>
                    <a:pt x="253" y="385"/>
                  </a:lnTo>
                  <a:lnTo>
                    <a:pt x="253" y="391"/>
                  </a:lnTo>
                  <a:lnTo>
                    <a:pt x="244" y="391"/>
                  </a:lnTo>
                  <a:lnTo>
                    <a:pt x="244" y="396"/>
                  </a:lnTo>
                  <a:lnTo>
                    <a:pt x="240" y="396"/>
                  </a:lnTo>
                  <a:lnTo>
                    <a:pt x="240" y="401"/>
                  </a:lnTo>
                  <a:lnTo>
                    <a:pt x="230" y="401"/>
                  </a:lnTo>
                  <a:lnTo>
                    <a:pt x="230" y="407"/>
                  </a:lnTo>
                  <a:lnTo>
                    <a:pt x="220" y="407"/>
                  </a:lnTo>
                  <a:lnTo>
                    <a:pt x="220" y="413"/>
                  </a:lnTo>
                  <a:lnTo>
                    <a:pt x="206" y="413"/>
                  </a:lnTo>
                  <a:lnTo>
                    <a:pt x="206" y="420"/>
                  </a:lnTo>
                  <a:lnTo>
                    <a:pt x="197" y="420"/>
                  </a:lnTo>
                  <a:lnTo>
                    <a:pt x="197" y="425"/>
                  </a:lnTo>
                  <a:lnTo>
                    <a:pt x="186" y="425"/>
                  </a:lnTo>
                  <a:lnTo>
                    <a:pt x="186" y="432"/>
                  </a:lnTo>
                  <a:lnTo>
                    <a:pt x="177" y="432"/>
                  </a:lnTo>
                  <a:lnTo>
                    <a:pt x="177" y="437"/>
                  </a:lnTo>
                  <a:lnTo>
                    <a:pt x="172" y="437"/>
                  </a:lnTo>
                  <a:lnTo>
                    <a:pt x="172" y="443"/>
                  </a:lnTo>
                  <a:lnTo>
                    <a:pt x="158" y="443"/>
                  </a:lnTo>
                  <a:lnTo>
                    <a:pt x="158" y="450"/>
                  </a:lnTo>
                  <a:lnTo>
                    <a:pt x="148" y="450"/>
                  </a:lnTo>
                  <a:lnTo>
                    <a:pt x="148" y="455"/>
                  </a:lnTo>
                  <a:lnTo>
                    <a:pt x="138" y="455"/>
                  </a:lnTo>
                  <a:lnTo>
                    <a:pt x="138" y="461"/>
                  </a:lnTo>
                  <a:lnTo>
                    <a:pt x="130" y="461"/>
                  </a:lnTo>
                  <a:lnTo>
                    <a:pt x="130" y="467"/>
                  </a:lnTo>
                  <a:lnTo>
                    <a:pt x="120" y="467"/>
                  </a:lnTo>
                  <a:lnTo>
                    <a:pt x="120" y="473"/>
                  </a:lnTo>
                  <a:lnTo>
                    <a:pt x="109" y="473"/>
                  </a:lnTo>
                  <a:lnTo>
                    <a:pt x="109" y="478"/>
                  </a:lnTo>
                  <a:lnTo>
                    <a:pt x="100" y="478"/>
                  </a:lnTo>
                  <a:lnTo>
                    <a:pt x="100" y="485"/>
                  </a:lnTo>
                  <a:lnTo>
                    <a:pt x="95" y="485"/>
                  </a:lnTo>
                  <a:lnTo>
                    <a:pt x="95" y="491"/>
                  </a:lnTo>
                  <a:lnTo>
                    <a:pt x="90" y="491"/>
                  </a:lnTo>
                  <a:lnTo>
                    <a:pt x="90" y="497"/>
                  </a:lnTo>
                  <a:lnTo>
                    <a:pt x="86" y="497"/>
                  </a:lnTo>
                  <a:lnTo>
                    <a:pt x="86" y="502"/>
                  </a:lnTo>
                  <a:lnTo>
                    <a:pt x="81" y="502"/>
                  </a:lnTo>
                  <a:lnTo>
                    <a:pt x="81" y="508"/>
                  </a:lnTo>
                  <a:lnTo>
                    <a:pt x="76" y="508"/>
                  </a:lnTo>
                  <a:lnTo>
                    <a:pt x="76" y="526"/>
                  </a:lnTo>
                  <a:lnTo>
                    <a:pt x="71" y="526"/>
                  </a:lnTo>
                  <a:lnTo>
                    <a:pt x="71" y="543"/>
                  </a:lnTo>
                  <a:lnTo>
                    <a:pt x="67" y="543"/>
                  </a:lnTo>
                  <a:lnTo>
                    <a:pt x="67" y="592"/>
                  </a:lnTo>
                  <a:lnTo>
                    <a:pt x="71" y="592"/>
                  </a:lnTo>
                  <a:lnTo>
                    <a:pt x="71" y="633"/>
                  </a:lnTo>
                  <a:lnTo>
                    <a:pt x="76" y="633"/>
                  </a:lnTo>
                  <a:lnTo>
                    <a:pt x="76" y="674"/>
                  </a:lnTo>
                  <a:lnTo>
                    <a:pt x="81" y="674"/>
                  </a:lnTo>
                  <a:lnTo>
                    <a:pt x="81" y="720"/>
                  </a:lnTo>
                  <a:lnTo>
                    <a:pt x="86" y="720"/>
                  </a:lnTo>
                  <a:lnTo>
                    <a:pt x="86" y="752"/>
                  </a:lnTo>
                  <a:lnTo>
                    <a:pt x="90" y="752"/>
                  </a:lnTo>
                  <a:lnTo>
                    <a:pt x="90" y="810"/>
                  </a:lnTo>
                  <a:lnTo>
                    <a:pt x="95" y="810"/>
                  </a:lnTo>
                  <a:lnTo>
                    <a:pt x="95" y="845"/>
                  </a:lnTo>
                  <a:lnTo>
                    <a:pt x="100" y="845"/>
                  </a:lnTo>
                  <a:lnTo>
                    <a:pt x="100" y="905"/>
                  </a:lnTo>
                  <a:lnTo>
                    <a:pt x="104" y="905"/>
                  </a:lnTo>
                  <a:lnTo>
                    <a:pt x="104" y="916"/>
                  </a:lnTo>
                  <a:lnTo>
                    <a:pt x="100" y="916"/>
                  </a:lnTo>
                  <a:lnTo>
                    <a:pt x="100" y="927"/>
                  </a:lnTo>
                  <a:lnTo>
                    <a:pt x="104" y="927"/>
                  </a:lnTo>
                  <a:lnTo>
                    <a:pt x="104" y="957"/>
                  </a:lnTo>
                  <a:lnTo>
                    <a:pt x="109" y="957"/>
                  </a:lnTo>
                  <a:lnTo>
                    <a:pt x="109" y="981"/>
                  </a:lnTo>
                  <a:lnTo>
                    <a:pt x="114" y="981"/>
                  </a:lnTo>
                  <a:lnTo>
                    <a:pt x="114" y="1011"/>
                  </a:lnTo>
                  <a:lnTo>
                    <a:pt x="120" y="1011"/>
                  </a:lnTo>
                  <a:lnTo>
                    <a:pt x="120" y="1052"/>
                  </a:lnTo>
                  <a:lnTo>
                    <a:pt x="124" y="1052"/>
                  </a:lnTo>
                  <a:lnTo>
                    <a:pt x="124" y="1087"/>
                  </a:lnTo>
                  <a:lnTo>
                    <a:pt x="130" y="1087"/>
                  </a:lnTo>
                  <a:lnTo>
                    <a:pt x="130" y="1147"/>
                  </a:lnTo>
                  <a:lnTo>
                    <a:pt x="134" y="1147"/>
                  </a:lnTo>
                  <a:lnTo>
                    <a:pt x="134" y="1171"/>
                  </a:lnTo>
                  <a:lnTo>
                    <a:pt x="138" y="1171"/>
                  </a:lnTo>
                  <a:lnTo>
                    <a:pt x="138" y="1229"/>
                  </a:lnTo>
                  <a:lnTo>
                    <a:pt x="144" y="1229"/>
                  </a:lnTo>
                  <a:lnTo>
                    <a:pt x="144" y="1277"/>
                  </a:lnTo>
                  <a:lnTo>
                    <a:pt x="148" y="1277"/>
                  </a:lnTo>
                  <a:lnTo>
                    <a:pt x="148" y="1301"/>
                  </a:lnTo>
                  <a:lnTo>
                    <a:pt x="153" y="1301"/>
                  </a:lnTo>
                  <a:lnTo>
                    <a:pt x="153" y="1353"/>
                  </a:lnTo>
                  <a:lnTo>
                    <a:pt x="158" y="1353"/>
                  </a:lnTo>
                  <a:lnTo>
                    <a:pt x="158" y="1370"/>
                  </a:lnTo>
                  <a:lnTo>
                    <a:pt x="163" y="1370"/>
                  </a:lnTo>
                  <a:lnTo>
                    <a:pt x="163" y="1389"/>
                  </a:lnTo>
                  <a:lnTo>
                    <a:pt x="167" y="1389"/>
                  </a:lnTo>
                  <a:lnTo>
                    <a:pt x="167" y="1413"/>
                  </a:lnTo>
                  <a:lnTo>
                    <a:pt x="163" y="1413"/>
                  </a:lnTo>
                  <a:lnTo>
                    <a:pt x="163" y="1424"/>
                  </a:lnTo>
                  <a:lnTo>
                    <a:pt x="158" y="1424"/>
                  </a:lnTo>
                  <a:lnTo>
                    <a:pt x="158" y="1437"/>
                  </a:lnTo>
                  <a:lnTo>
                    <a:pt x="148" y="1437"/>
                  </a:lnTo>
                  <a:lnTo>
                    <a:pt x="148" y="1442"/>
                  </a:lnTo>
                  <a:lnTo>
                    <a:pt x="138" y="1442"/>
                  </a:lnTo>
                  <a:lnTo>
                    <a:pt x="138" y="1448"/>
                  </a:lnTo>
                  <a:lnTo>
                    <a:pt x="120" y="1448"/>
                  </a:lnTo>
                  <a:lnTo>
                    <a:pt x="120" y="1454"/>
                  </a:lnTo>
                  <a:lnTo>
                    <a:pt x="109" y="1454"/>
                  </a:lnTo>
                  <a:lnTo>
                    <a:pt x="109" y="1448"/>
                  </a:lnTo>
                  <a:lnTo>
                    <a:pt x="104" y="1448"/>
                  </a:lnTo>
                  <a:lnTo>
                    <a:pt x="104" y="1424"/>
                  </a:lnTo>
                  <a:lnTo>
                    <a:pt x="100" y="1424"/>
                  </a:lnTo>
                  <a:lnTo>
                    <a:pt x="100" y="1413"/>
                  </a:lnTo>
                  <a:lnTo>
                    <a:pt x="95" y="1413"/>
                  </a:lnTo>
                  <a:lnTo>
                    <a:pt x="95" y="1395"/>
                  </a:lnTo>
                  <a:lnTo>
                    <a:pt x="100" y="1395"/>
                  </a:lnTo>
                  <a:lnTo>
                    <a:pt x="100" y="1324"/>
                  </a:lnTo>
                  <a:lnTo>
                    <a:pt x="95" y="1324"/>
                  </a:lnTo>
                  <a:lnTo>
                    <a:pt x="95" y="1264"/>
                  </a:lnTo>
                  <a:lnTo>
                    <a:pt x="90" y="1264"/>
                  </a:lnTo>
                  <a:lnTo>
                    <a:pt x="90" y="1206"/>
                  </a:lnTo>
                  <a:lnTo>
                    <a:pt x="86" y="1206"/>
                  </a:lnTo>
                  <a:lnTo>
                    <a:pt x="86" y="1188"/>
                  </a:lnTo>
                  <a:lnTo>
                    <a:pt x="81" y="1188"/>
                  </a:lnTo>
                  <a:lnTo>
                    <a:pt x="81" y="1152"/>
                  </a:lnTo>
                  <a:lnTo>
                    <a:pt x="76" y="1152"/>
                  </a:lnTo>
                  <a:lnTo>
                    <a:pt x="76" y="1093"/>
                  </a:lnTo>
                  <a:lnTo>
                    <a:pt x="71" y="1093"/>
                  </a:lnTo>
                  <a:lnTo>
                    <a:pt x="71" y="1070"/>
                  </a:lnTo>
                  <a:lnTo>
                    <a:pt x="67" y="1070"/>
                  </a:lnTo>
                  <a:lnTo>
                    <a:pt x="67" y="1029"/>
                  </a:lnTo>
                  <a:lnTo>
                    <a:pt x="62" y="1029"/>
                  </a:lnTo>
                  <a:lnTo>
                    <a:pt x="62" y="981"/>
                  </a:lnTo>
                  <a:lnTo>
                    <a:pt x="57" y="981"/>
                  </a:lnTo>
                  <a:lnTo>
                    <a:pt x="57" y="934"/>
                  </a:lnTo>
                  <a:lnTo>
                    <a:pt x="52" y="934"/>
                  </a:lnTo>
                  <a:lnTo>
                    <a:pt x="52" y="886"/>
                  </a:lnTo>
                  <a:lnTo>
                    <a:pt x="48" y="886"/>
                  </a:lnTo>
                  <a:lnTo>
                    <a:pt x="48" y="856"/>
                  </a:lnTo>
                  <a:lnTo>
                    <a:pt x="42" y="856"/>
                  </a:lnTo>
                  <a:lnTo>
                    <a:pt x="42" y="810"/>
                  </a:lnTo>
                  <a:lnTo>
                    <a:pt x="37" y="810"/>
                  </a:lnTo>
                  <a:lnTo>
                    <a:pt x="37" y="757"/>
                  </a:lnTo>
                  <a:lnTo>
                    <a:pt x="33" y="757"/>
                  </a:lnTo>
                  <a:lnTo>
                    <a:pt x="33" y="687"/>
                  </a:lnTo>
                  <a:lnTo>
                    <a:pt x="27" y="687"/>
                  </a:lnTo>
                  <a:lnTo>
                    <a:pt x="27" y="644"/>
                  </a:lnTo>
                  <a:lnTo>
                    <a:pt x="23" y="644"/>
                  </a:lnTo>
                  <a:lnTo>
                    <a:pt x="23" y="627"/>
                  </a:lnTo>
                  <a:lnTo>
                    <a:pt x="18" y="627"/>
                  </a:lnTo>
                  <a:lnTo>
                    <a:pt x="18" y="551"/>
                  </a:lnTo>
                  <a:lnTo>
                    <a:pt x="13" y="551"/>
                  </a:lnTo>
                  <a:lnTo>
                    <a:pt x="13" y="478"/>
                  </a:lnTo>
                  <a:lnTo>
                    <a:pt x="18" y="478"/>
                  </a:lnTo>
                  <a:lnTo>
                    <a:pt x="18" y="473"/>
                  </a:lnTo>
                  <a:lnTo>
                    <a:pt x="33" y="473"/>
                  </a:lnTo>
                  <a:lnTo>
                    <a:pt x="33" y="467"/>
                  </a:lnTo>
                  <a:lnTo>
                    <a:pt x="37" y="467"/>
                  </a:lnTo>
                  <a:lnTo>
                    <a:pt x="37" y="455"/>
                  </a:lnTo>
                  <a:lnTo>
                    <a:pt x="42" y="455"/>
                  </a:lnTo>
                  <a:lnTo>
                    <a:pt x="42" y="450"/>
                  </a:lnTo>
                  <a:lnTo>
                    <a:pt x="52" y="450"/>
                  </a:lnTo>
                  <a:lnTo>
                    <a:pt x="52" y="443"/>
                  </a:lnTo>
                  <a:lnTo>
                    <a:pt x="62" y="443"/>
                  </a:lnTo>
                  <a:lnTo>
                    <a:pt x="62" y="437"/>
                  </a:lnTo>
                  <a:lnTo>
                    <a:pt x="67" y="437"/>
                  </a:lnTo>
                  <a:lnTo>
                    <a:pt x="67" y="432"/>
                  </a:lnTo>
                  <a:lnTo>
                    <a:pt x="76" y="432"/>
                  </a:lnTo>
                  <a:lnTo>
                    <a:pt x="76" y="425"/>
                  </a:lnTo>
                  <a:lnTo>
                    <a:pt x="86" y="425"/>
                  </a:lnTo>
                  <a:lnTo>
                    <a:pt x="86" y="420"/>
                  </a:lnTo>
                  <a:lnTo>
                    <a:pt x="95" y="420"/>
                  </a:lnTo>
                  <a:lnTo>
                    <a:pt x="95" y="413"/>
                  </a:lnTo>
                  <a:lnTo>
                    <a:pt x="104" y="413"/>
                  </a:lnTo>
                  <a:lnTo>
                    <a:pt x="104" y="407"/>
                  </a:lnTo>
                  <a:lnTo>
                    <a:pt x="114" y="407"/>
                  </a:lnTo>
                  <a:lnTo>
                    <a:pt x="114" y="401"/>
                  </a:lnTo>
                  <a:lnTo>
                    <a:pt x="124" y="401"/>
                  </a:lnTo>
                  <a:lnTo>
                    <a:pt x="124" y="396"/>
                  </a:lnTo>
                  <a:lnTo>
                    <a:pt x="138" y="396"/>
                  </a:lnTo>
                  <a:lnTo>
                    <a:pt x="138" y="391"/>
                  </a:lnTo>
                  <a:lnTo>
                    <a:pt x="144" y="391"/>
                  </a:lnTo>
                  <a:lnTo>
                    <a:pt x="144" y="385"/>
                  </a:lnTo>
                  <a:lnTo>
                    <a:pt x="158" y="385"/>
                  </a:lnTo>
                  <a:lnTo>
                    <a:pt x="158" y="378"/>
                  </a:lnTo>
                  <a:lnTo>
                    <a:pt x="167" y="378"/>
                  </a:lnTo>
                  <a:lnTo>
                    <a:pt x="167" y="373"/>
                  </a:lnTo>
                  <a:lnTo>
                    <a:pt x="177" y="373"/>
                  </a:lnTo>
                  <a:lnTo>
                    <a:pt x="177" y="366"/>
                  </a:lnTo>
                  <a:lnTo>
                    <a:pt x="181" y="366"/>
                  </a:lnTo>
                  <a:lnTo>
                    <a:pt x="181" y="361"/>
                  </a:lnTo>
                  <a:lnTo>
                    <a:pt x="186" y="361"/>
                  </a:lnTo>
                  <a:lnTo>
                    <a:pt x="186" y="355"/>
                  </a:lnTo>
                  <a:lnTo>
                    <a:pt x="197" y="355"/>
                  </a:lnTo>
                  <a:lnTo>
                    <a:pt x="197" y="348"/>
                  </a:lnTo>
                  <a:lnTo>
                    <a:pt x="201" y="348"/>
                  </a:lnTo>
                  <a:lnTo>
                    <a:pt x="201" y="342"/>
                  </a:lnTo>
                  <a:lnTo>
                    <a:pt x="215" y="342"/>
                  </a:lnTo>
                  <a:lnTo>
                    <a:pt x="215" y="337"/>
                  </a:lnTo>
                  <a:lnTo>
                    <a:pt x="220" y="337"/>
                  </a:lnTo>
                  <a:lnTo>
                    <a:pt x="220" y="331"/>
                  </a:lnTo>
                  <a:lnTo>
                    <a:pt x="234" y="331"/>
                  </a:lnTo>
                  <a:lnTo>
                    <a:pt x="234" y="325"/>
                  </a:lnTo>
                  <a:lnTo>
                    <a:pt x="249" y="325"/>
                  </a:lnTo>
                  <a:lnTo>
                    <a:pt x="249" y="320"/>
                  </a:lnTo>
                  <a:lnTo>
                    <a:pt x="258" y="320"/>
                  </a:lnTo>
                  <a:lnTo>
                    <a:pt x="258" y="314"/>
                  </a:lnTo>
                  <a:lnTo>
                    <a:pt x="268" y="314"/>
                  </a:lnTo>
                  <a:lnTo>
                    <a:pt x="268" y="307"/>
                  </a:lnTo>
                  <a:lnTo>
                    <a:pt x="278" y="307"/>
                  </a:lnTo>
                  <a:lnTo>
                    <a:pt x="278" y="301"/>
                  </a:lnTo>
                  <a:lnTo>
                    <a:pt x="293" y="301"/>
                  </a:lnTo>
                  <a:lnTo>
                    <a:pt x="293" y="296"/>
                  </a:lnTo>
                  <a:lnTo>
                    <a:pt x="302" y="296"/>
                  </a:lnTo>
                  <a:lnTo>
                    <a:pt x="302" y="290"/>
                  </a:lnTo>
                  <a:lnTo>
                    <a:pt x="311" y="290"/>
                  </a:lnTo>
                  <a:lnTo>
                    <a:pt x="311" y="284"/>
                  </a:lnTo>
                  <a:lnTo>
                    <a:pt x="321" y="284"/>
                  </a:lnTo>
                  <a:lnTo>
                    <a:pt x="321" y="279"/>
                  </a:lnTo>
                  <a:lnTo>
                    <a:pt x="330" y="279"/>
                  </a:lnTo>
                  <a:lnTo>
                    <a:pt x="330" y="272"/>
                  </a:lnTo>
                  <a:lnTo>
                    <a:pt x="335" y="272"/>
                  </a:lnTo>
                  <a:lnTo>
                    <a:pt x="335" y="266"/>
                  </a:lnTo>
                  <a:lnTo>
                    <a:pt x="345" y="266"/>
                  </a:lnTo>
                  <a:lnTo>
                    <a:pt x="345" y="260"/>
                  </a:lnTo>
                  <a:lnTo>
                    <a:pt x="359" y="260"/>
                  </a:lnTo>
                  <a:lnTo>
                    <a:pt x="359" y="255"/>
                  </a:lnTo>
                  <a:lnTo>
                    <a:pt x="374" y="255"/>
                  </a:lnTo>
                  <a:lnTo>
                    <a:pt x="374" y="247"/>
                  </a:lnTo>
                  <a:lnTo>
                    <a:pt x="378" y="247"/>
                  </a:lnTo>
                  <a:lnTo>
                    <a:pt x="378" y="242"/>
                  </a:lnTo>
                  <a:lnTo>
                    <a:pt x="392" y="242"/>
                  </a:lnTo>
                  <a:lnTo>
                    <a:pt x="392" y="237"/>
                  </a:lnTo>
                  <a:lnTo>
                    <a:pt x="402" y="237"/>
                  </a:lnTo>
                  <a:lnTo>
                    <a:pt x="402" y="230"/>
                  </a:lnTo>
                  <a:lnTo>
                    <a:pt x="412" y="230"/>
                  </a:lnTo>
                  <a:lnTo>
                    <a:pt x="412" y="225"/>
                  </a:lnTo>
                  <a:lnTo>
                    <a:pt x="427" y="225"/>
                  </a:lnTo>
                  <a:lnTo>
                    <a:pt x="427" y="219"/>
                  </a:lnTo>
                  <a:lnTo>
                    <a:pt x="436" y="219"/>
                  </a:lnTo>
                  <a:lnTo>
                    <a:pt x="436" y="214"/>
                  </a:lnTo>
                  <a:lnTo>
                    <a:pt x="446" y="214"/>
                  </a:lnTo>
                  <a:lnTo>
                    <a:pt x="446" y="206"/>
                  </a:lnTo>
                  <a:lnTo>
                    <a:pt x="455" y="206"/>
                  </a:lnTo>
                  <a:lnTo>
                    <a:pt x="455" y="201"/>
                  </a:lnTo>
                  <a:lnTo>
                    <a:pt x="470" y="201"/>
                  </a:lnTo>
                  <a:lnTo>
                    <a:pt x="470" y="195"/>
                  </a:lnTo>
                  <a:lnTo>
                    <a:pt x="474" y="195"/>
                  </a:lnTo>
                  <a:lnTo>
                    <a:pt x="474" y="189"/>
                  </a:lnTo>
                  <a:lnTo>
                    <a:pt x="485" y="189"/>
                  </a:lnTo>
                  <a:lnTo>
                    <a:pt x="485" y="184"/>
                  </a:lnTo>
                  <a:lnTo>
                    <a:pt x="494" y="184"/>
                  </a:lnTo>
                  <a:lnTo>
                    <a:pt x="494" y="178"/>
                  </a:lnTo>
                  <a:lnTo>
                    <a:pt x="508" y="178"/>
                  </a:lnTo>
                  <a:lnTo>
                    <a:pt x="508" y="171"/>
                  </a:lnTo>
                  <a:lnTo>
                    <a:pt x="522" y="171"/>
                  </a:lnTo>
                  <a:lnTo>
                    <a:pt x="522" y="165"/>
                  </a:lnTo>
                  <a:lnTo>
                    <a:pt x="528" y="165"/>
                  </a:lnTo>
                  <a:lnTo>
                    <a:pt x="528" y="160"/>
                  </a:lnTo>
                  <a:lnTo>
                    <a:pt x="547" y="160"/>
                  </a:lnTo>
                  <a:lnTo>
                    <a:pt x="547" y="154"/>
                  </a:lnTo>
                  <a:lnTo>
                    <a:pt x="556" y="154"/>
                  </a:lnTo>
                  <a:lnTo>
                    <a:pt x="556" y="148"/>
                  </a:lnTo>
                  <a:lnTo>
                    <a:pt x="566" y="148"/>
                  </a:lnTo>
                  <a:lnTo>
                    <a:pt x="566" y="141"/>
                  </a:lnTo>
                  <a:lnTo>
                    <a:pt x="576" y="141"/>
                  </a:lnTo>
                  <a:lnTo>
                    <a:pt x="576" y="136"/>
                  </a:lnTo>
                  <a:lnTo>
                    <a:pt x="585" y="136"/>
                  </a:lnTo>
                  <a:lnTo>
                    <a:pt x="585" y="130"/>
                  </a:lnTo>
                  <a:lnTo>
                    <a:pt x="590" y="130"/>
                  </a:lnTo>
                  <a:lnTo>
                    <a:pt x="590" y="124"/>
                  </a:lnTo>
                  <a:lnTo>
                    <a:pt x="604" y="124"/>
                  </a:lnTo>
                  <a:lnTo>
                    <a:pt x="604" y="119"/>
                  </a:lnTo>
                  <a:lnTo>
                    <a:pt x="618" y="119"/>
                  </a:lnTo>
                  <a:lnTo>
                    <a:pt x="618" y="111"/>
                  </a:lnTo>
                  <a:lnTo>
                    <a:pt x="629" y="111"/>
                  </a:lnTo>
                  <a:lnTo>
                    <a:pt x="629" y="106"/>
                  </a:lnTo>
                  <a:lnTo>
                    <a:pt x="638" y="106"/>
                  </a:lnTo>
                  <a:lnTo>
                    <a:pt x="638" y="100"/>
                  </a:lnTo>
                  <a:lnTo>
                    <a:pt x="648" y="100"/>
                  </a:lnTo>
                  <a:lnTo>
                    <a:pt x="648" y="95"/>
                  </a:lnTo>
                  <a:lnTo>
                    <a:pt x="652" y="95"/>
                  </a:lnTo>
                  <a:lnTo>
                    <a:pt x="652" y="88"/>
                  </a:lnTo>
                  <a:lnTo>
                    <a:pt x="666" y="88"/>
                  </a:lnTo>
                  <a:lnTo>
                    <a:pt x="666" y="83"/>
                  </a:lnTo>
                  <a:lnTo>
                    <a:pt x="686" y="83"/>
                  </a:lnTo>
                  <a:lnTo>
                    <a:pt x="686" y="78"/>
                  </a:lnTo>
                  <a:lnTo>
                    <a:pt x="710" y="78"/>
                  </a:lnTo>
                  <a:lnTo>
                    <a:pt x="710" y="70"/>
                  </a:lnTo>
                  <a:lnTo>
                    <a:pt x="715" y="70"/>
                  </a:lnTo>
                  <a:lnTo>
                    <a:pt x="715" y="65"/>
                  </a:lnTo>
                  <a:lnTo>
                    <a:pt x="720" y="65"/>
                  </a:lnTo>
                  <a:lnTo>
                    <a:pt x="720" y="59"/>
                  </a:lnTo>
                  <a:lnTo>
                    <a:pt x="743" y="59"/>
                  </a:lnTo>
                  <a:lnTo>
                    <a:pt x="743" y="53"/>
                  </a:lnTo>
                  <a:lnTo>
                    <a:pt x="758" y="53"/>
                  </a:lnTo>
                  <a:lnTo>
                    <a:pt x="758" y="47"/>
                  </a:lnTo>
                  <a:lnTo>
                    <a:pt x="773" y="47"/>
                  </a:lnTo>
                  <a:lnTo>
                    <a:pt x="773" y="42"/>
                  </a:lnTo>
                  <a:lnTo>
                    <a:pt x="782" y="42"/>
                  </a:lnTo>
                  <a:lnTo>
                    <a:pt x="782" y="35"/>
                  </a:lnTo>
                  <a:lnTo>
                    <a:pt x="792" y="35"/>
                  </a:lnTo>
                  <a:lnTo>
                    <a:pt x="792" y="29"/>
                  </a:lnTo>
                  <a:lnTo>
                    <a:pt x="802" y="29"/>
                  </a:lnTo>
                  <a:lnTo>
                    <a:pt x="802" y="24"/>
                  </a:lnTo>
                  <a:lnTo>
                    <a:pt x="816" y="24"/>
                  </a:lnTo>
                  <a:lnTo>
                    <a:pt x="816" y="18"/>
                  </a:lnTo>
                  <a:lnTo>
                    <a:pt x="830" y="18"/>
                  </a:lnTo>
                  <a:lnTo>
                    <a:pt x="830" y="12"/>
                  </a:lnTo>
                  <a:lnTo>
                    <a:pt x="845" y="12"/>
                  </a:lnTo>
                  <a:lnTo>
                    <a:pt x="845" y="5"/>
                  </a:lnTo>
                  <a:lnTo>
                    <a:pt x="854" y="5"/>
                  </a:lnTo>
                  <a:lnTo>
                    <a:pt x="854" y="0"/>
                  </a:lnTo>
                  <a:lnTo>
                    <a:pt x="927" y="0"/>
                  </a:lnTo>
                  <a:lnTo>
                    <a:pt x="927" y="5"/>
                  </a:lnTo>
                  <a:lnTo>
                    <a:pt x="950" y="5"/>
                  </a:lnTo>
                  <a:lnTo>
                    <a:pt x="950" y="12"/>
                  </a:lnTo>
                  <a:lnTo>
                    <a:pt x="960" y="12"/>
                  </a:lnTo>
                  <a:lnTo>
                    <a:pt x="960" y="18"/>
                  </a:lnTo>
                  <a:lnTo>
                    <a:pt x="965" y="18"/>
                  </a:lnTo>
                  <a:lnTo>
                    <a:pt x="965" y="29"/>
                  </a:lnTo>
                  <a:lnTo>
                    <a:pt x="969" y="29"/>
                  </a:lnTo>
                  <a:lnTo>
                    <a:pt x="969" y="35"/>
                  </a:lnTo>
                  <a:lnTo>
                    <a:pt x="974" y="35"/>
                  </a:lnTo>
                  <a:lnTo>
                    <a:pt x="974" y="42"/>
                  </a:lnTo>
                  <a:lnTo>
                    <a:pt x="983" y="42"/>
                  </a:lnTo>
                  <a:lnTo>
                    <a:pt x="983" y="47"/>
                  </a:lnTo>
                  <a:lnTo>
                    <a:pt x="989" y="47"/>
                  </a:lnTo>
                  <a:lnTo>
                    <a:pt x="989" y="53"/>
                  </a:lnTo>
                  <a:lnTo>
                    <a:pt x="994" y="53"/>
                  </a:lnTo>
                  <a:lnTo>
                    <a:pt x="994" y="59"/>
                  </a:lnTo>
                  <a:lnTo>
                    <a:pt x="999" y="59"/>
                  </a:lnTo>
                  <a:lnTo>
                    <a:pt x="999" y="65"/>
                  </a:lnTo>
                  <a:lnTo>
                    <a:pt x="1003" y="65"/>
                  </a:lnTo>
                  <a:lnTo>
                    <a:pt x="1003" y="70"/>
                  </a:lnTo>
                  <a:lnTo>
                    <a:pt x="1008" y="70"/>
                  </a:lnTo>
                  <a:lnTo>
                    <a:pt x="1008" y="78"/>
                  </a:lnTo>
                  <a:lnTo>
                    <a:pt x="1013" y="78"/>
                  </a:lnTo>
                  <a:lnTo>
                    <a:pt x="1013" y="83"/>
                  </a:lnTo>
                  <a:lnTo>
                    <a:pt x="1017" y="83"/>
                  </a:lnTo>
                  <a:lnTo>
                    <a:pt x="1017" y="88"/>
                  </a:lnTo>
                  <a:lnTo>
                    <a:pt x="1022" y="88"/>
                  </a:lnTo>
                  <a:lnTo>
                    <a:pt x="1022" y="100"/>
                  </a:lnTo>
                  <a:lnTo>
                    <a:pt x="1027" y="100"/>
                  </a:lnTo>
                  <a:lnTo>
                    <a:pt x="1027" y="111"/>
                  </a:lnTo>
                  <a:lnTo>
                    <a:pt x="1031" y="111"/>
                  </a:lnTo>
                  <a:lnTo>
                    <a:pt x="1031" y="119"/>
                  </a:lnTo>
                  <a:lnTo>
                    <a:pt x="1036" y="119"/>
                  </a:lnTo>
                  <a:lnTo>
                    <a:pt x="1036" y="130"/>
                  </a:lnTo>
                  <a:lnTo>
                    <a:pt x="1041" y="130"/>
                  </a:lnTo>
                  <a:lnTo>
                    <a:pt x="1041" y="136"/>
                  </a:lnTo>
                  <a:lnTo>
                    <a:pt x="1046" y="136"/>
                  </a:lnTo>
                  <a:lnTo>
                    <a:pt x="1046" y="148"/>
                  </a:lnTo>
                  <a:lnTo>
                    <a:pt x="1050" y="148"/>
                  </a:lnTo>
                  <a:lnTo>
                    <a:pt x="1050" y="160"/>
                  </a:lnTo>
                  <a:lnTo>
                    <a:pt x="1056" y="160"/>
                  </a:lnTo>
                  <a:lnTo>
                    <a:pt x="1056" y="165"/>
                  </a:lnTo>
                  <a:lnTo>
                    <a:pt x="1061" y="165"/>
                  </a:lnTo>
                  <a:lnTo>
                    <a:pt x="1061" y="184"/>
                  </a:lnTo>
                  <a:lnTo>
                    <a:pt x="1066" y="184"/>
                  </a:lnTo>
                  <a:lnTo>
                    <a:pt x="1066" y="201"/>
                  </a:lnTo>
                  <a:lnTo>
                    <a:pt x="1071" y="201"/>
                  </a:lnTo>
                  <a:lnTo>
                    <a:pt x="1071" y="214"/>
                  </a:lnTo>
                  <a:lnTo>
                    <a:pt x="1075" y="214"/>
                  </a:lnTo>
                  <a:lnTo>
                    <a:pt x="1075" y="230"/>
                  </a:lnTo>
                  <a:lnTo>
                    <a:pt x="1080" y="230"/>
                  </a:lnTo>
                  <a:lnTo>
                    <a:pt x="1080" y="247"/>
                  </a:lnTo>
                  <a:lnTo>
                    <a:pt x="1084" y="247"/>
                  </a:lnTo>
                  <a:lnTo>
                    <a:pt x="1084" y="260"/>
                  </a:lnTo>
                  <a:lnTo>
                    <a:pt x="1090" y="260"/>
                  </a:lnTo>
                  <a:lnTo>
                    <a:pt x="1090" y="272"/>
                  </a:lnTo>
                  <a:lnTo>
                    <a:pt x="1094" y="272"/>
                  </a:lnTo>
                  <a:lnTo>
                    <a:pt x="1094" y="290"/>
                  </a:lnTo>
                  <a:lnTo>
                    <a:pt x="1099" y="290"/>
                  </a:lnTo>
                  <a:lnTo>
                    <a:pt x="1099" y="307"/>
                  </a:lnTo>
                  <a:lnTo>
                    <a:pt x="1104" y="307"/>
                  </a:lnTo>
                  <a:lnTo>
                    <a:pt x="1104" y="325"/>
                  </a:lnTo>
                  <a:lnTo>
                    <a:pt x="1109" y="325"/>
                  </a:lnTo>
                  <a:lnTo>
                    <a:pt x="1109" y="342"/>
                  </a:lnTo>
                  <a:lnTo>
                    <a:pt x="1113" y="342"/>
                  </a:lnTo>
                  <a:lnTo>
                    <a:pt x="1113" y="366"/>
                  </a:lnTo>
                  <a:lnTo>
                    <a:pt x="1118" y="366"/>
                  </a:lnTo>
                  <a:lnTo>
                    <a:pt x="1118" y="396"/>
                  </a:lnTo>
                  <a:lnTo>
                    <a:pt x="1123" y="396"/>
                  </a:lnTo>
                  <a:lnTo>
                    <a:pt x="1123" y="407"/>
                  </a:lnTo>
                  <a:lnTo>
                    <a:pt x="1127" y="407"/>
                  </a:lnTo>
                  <a:lnTo>
                    <a:pt x="1127" y="420"/>
                  </a:lnTo>
                  <a:lnTo>
                    <a:pt x="1133" y="420"/>
                  </a:lnTo>
                  <a:lnTo>
                    <a:pt x="1133" y="443"/>
                  </a:lnTo>
                  <a:lnTo>
                    <a:pt x="1138" y="443"/>
                  </a:lnTo>
                  <a:lnTo>
                    <a:pt x="1138" y="450"/>
                  </a:lnTo>
                  <a:lnTo>
                    <a:pt x="1143" y="450"/>
                  </a:lnTo>
                  <a:lnTo>
                    <a:pt x="1143" y="473"/>
                  </a:lnTo>
                  <a:lnTo>
                    <a:pt x="1147" y="473"/>
                  </a:lnTo>
                  <a:lnTo>
                    <a:pt x="1147" y="485"/>
                  </a:lnTo>
                  <a:lnTo>
                    <a:pt x="1153" y="485"/>
                  </a:lnTo>
                  <a:lnTo>
                    <a:pt x="1153" y="491"/>
                  </a:lnTo>
                  <a:lnTo>
                    <a:pt x="1157" y="491"/>
                  </a:lnTo>
                  <a:lnTo>
                    <a:pt x="1157" y="519"/>
                  </a:lnTo>
                  <a:lnTo>
                    <a:pt x="1161" y="519"/>
                  </a:lnTo>
                  <a:lnTo>
                    <a:pt x="1161" y="538"/>
                  </a:lnTo>
                  <a:lnTo>
                    <a:pt x="1166" y="538"/>
                  </a:lnTo>
                  <a:lnTo>
                    <a:pt x="1166" y="568"/>
                  </a:lnTo>
                  <a:lnTo>
                    <a:pt x="1171" y="568"/>
                  </a:lnTo>
                  <a:lnTo>
                    <a:pt x="1171" y="603"/>
                  </a:lnTo>
                  <a:lnTo>
                    <a:pt x="1176" y="603"/>
                  </a:lnTo>
                  <a:lnTo>
                    <a:pt x="1176" y="638"/>
                  </a:lnTo>
                  <a:lnTo>
                    <a:pt x="1180" y="638"/>
                  </a:lnTo>
                  <a:lnTo>
                    <a:pt x="1180" y="650"/>
                  </a:lnTo>
                  <a:lnTo>
                    <a:pt x="1176" y="650"/>
                  </a:lnTo>
                  <a:lnTo>
                    <a:pt x="1176" y="786"/>
                  </a:lnTo>
                  <a:lnTo>
                    <a:pt x="1180" y="786"/>
                  </a:lnTo>
                  <a:lnTo>
                    <a:pt x="1180" y="810"/>
                  </a:lnTo>
                  <a:lnTo>
                    <a:pt x="1186" y="810"/>
                  </a:lnTo>
                  <a:lnTo>
                    <a:pt x="1186" y="869"/>
                  </a:lnTo>
                  <a:lnTo>
                    <a:pt x="1190" y="869"/>
                  </a:lnTo>
                  <a:lnTo>
                    <a:pt x="1190" y="898"/>
                  </a:lnTo>
                  <a:lnTo>
                    <a:pt x="1186" y="898"/>
                  </a:lnTo>
                  <a:lnTo>
                    <a:pt x="1186" y="910"/>
                  </a:lnTo>
                  <a:lnTo>
                    <a:pt x="1190" y="910"/>
                  </a:lnTo>
                  <a:lnTo>
                    <a:pt x="1190" y="951"/>
                  </a:lnTo>
                  <a:lnTo>
                    <a:pt x="1194" y="951"/>
                  </a:lnTo>
                  <a:lnTo>
                    <a:pt x="1194" y="987"/>
                  </a:lnTo>
                  <a:lnTo>
                    <a:pt x="1190" y="987"/>
                  </a:lnTo>
                  <a:lnTo>
                    <a:pt x="1190" y="1065"/>
                  </a:lnTo>
                  <a:lnTo>
                    <a:pt x="1186" y="1065"/>
                  </a:lnTo>
                  <a:lnTo>
                    <a:pt x="1186" y="1135"/>
                  </a:lnTo>
                  <a:lnTo>
                    <a:pt x="1180" y="1135"/>
                  </a:lnTo>
                  <a:lnTo>
                    <a:pt x="1180" y="1188"/>
                  </a:lnTo>
                  <a:lnTo>
                    <a:pt x="1176" y="1188"/>
                  </a:lnTo>
                  <a:lnTo>
                    <a:pt x="1176" y="1271"/>
                  </a:lnTo>
                  <a:lnTo>
                    <a:pt x="1171" y="1271"/>
                  </a:lnTo>
                  <a:lnTo>
                    <a:pt x="1171" y="1353"/>
                  </a:lnTo>
                  <a:lnTo>
                    <a:pt x="1176" y="1353"/>
                  </a:lnTo>
                  <a:lnTo>
                    <a:pt x="1176" y="1407"/>
                  </a:lnTo>
                  <a:lnTo>
                    <a:pt x="1171" y="1407"/>
                  </a:lnTo>
                  <a:lnTo>
                    <a:pt x="1171" y="1419"/>
                  </a:lnTo>
                  <a:lnTo>
                    <a:pt x="1176" y="1419"/>
                  </a:lnTo>
                  <a:lnTo>
                    <a:pt x="1176" y="1437"/>
                  </a:lnTo>
                  <a:lnTo>
                    <a:pt x="1171" y="1437"/>
                  </a:lnTo>
                  <a:lnTo>
                    <a:pt x="1171" y="1460"/>
                  </a:lnTo>
                  <a:lnTo>
                    <a:pt x="1176" y="1460"/>
                  </a:lnTo>
                  <a:lnTo>
                    <a:pt x="1176" y="1530"/>
                  </a:lnTo>
                  <a:lnTo>
                    <a:pt x="1171" y="1530"/>
                  </a:lnTo>
                  <a:lnTo>
                    <a:pt x="1171" y="1584"/>
                  </a:lnTo>
                  <a:lnTo>
                    <a:pt x="1166" y="1584"/>
                  </a:lnTo>
                  <a:lnTo>
                    <a:pt x="1166" y="1620"/>
                  </a:lnTo>
                  <a:lnTo>
                    <a:pt x="1171" y="1620"/>
                  </a:lnTo>
                  <a:lnTo>
                    <a:pt x="1171" y="1633"/>
                  </a:lnTo>
                  <a:lnTo>
                    <a:pt x="1166" y="1633"/>
                  </a:lnTo>
                  <a:lnTo>
                    <a:pt x="1166" y="1649"/>
                  </a:lnTo>
                  <a:lnTo>
                    <a:pt x="1171" y="1649"/>
                  </a:lnTo>
                  <a:lnTo>
                    <a:pt x="1171" y="1660"/>
                  </a:lnTo>
                  <a:lnTo>
                    <a:pt x="1166" y="1660"/>
                  </a:lnTo>
                  <a:lnTo>
                    <a:pt x="1166" y="1672"/>
                  </a:lnTo>
                  <a:lnTo>
                    <a:pt x="1171" y="1672"/>
                  </a:lnTo>
                  <a:lnTo>
                    <a:pt x="1171" y="1696"/>
                  </a:lnTo>
                  <a:lnTo>
                    <a:pt x="1166" y="1696"/>
                  </a:lnTo>
                  <a:lnTo>
                    <a:pt x="1166" y="1767"/>
                  </a:lnTo>
                  <a:lnTo>
                    <a:pt x="1171" y="1767"/>
                  </a:lnTo>
                  <a:lnTo>
                    <a:pt x="1171" y="1815"/>
                  </a:lnTo>
                  <a:lnTo>
                    <a:pt x="1176" y="1815"/>
                  </a:lnTo>
                  <a:lnTo>
                    <a:pt x="1176" y="1910"/>
                  </a:lnTo>
                  <a:lnTo>
                    <a:pt x="1180" y="1910"/>
                  </a:lnTo>
                  <a:lnTo>
                    <a:pt x="1180" y="1927"/>
                  </a:lnTo>
                  <a:lnTo>
                    <a:pt x="1176" y="1927"/>
                  </a:lnTo>
                  <a:lnTo>
                    <a:pt x="1176" y="2033"/>
                  </a:lnTo>
                  <a:lnTo>
                    <a:pt x="1180" y="2033"/>
                  </a:lnTo>
                  <a:lnTo>
                    <a:pt x="1180" y="2087"/>
                  </a:lnTo>
                  <a:lnTo>
                    <a:pt x="1186" y="2087"/>
                  </a:lnTo>
                  <a:lnTo>
                    <a:pt x="1186" y="2198"/>
                  </a:lnTo>
                  <a:lnTo>
                    <a:pt x="1190" y="2198"/>
                  </a:lnTo>
                  <a:lnTo>
                    <a:pt x="1190" y="2346"/>
                  </a:lnTo>
                  <a:lnTo>
                    <a:pt x="1194" y="2346"/>
                  </a:lnTo>
                  <a:lnTo>
                    <a:pt x="1194" y="2382"/>
                  </a:lnTo>
                  <a:lnTo>
                    <a:pt x="1190" y="2382"/>
                  </a:lnTo>
                  <a:lnTo>
                    <a:pt x="1190" y="2435"/>
                  </a:lnTo>
                  <a:lnTo>
                    <a:pt x="1194" y="2435"/>
                  </a:lnTo>
                  <a:lnTo>
                    <a:pt x="1194" y="2447"/>
                  </a:lnTo>
                  <a:lnTo>
                    <a:pt x="1190" y="2447"/>
                  </a:lnTo>
                  <a:lnTo>
                    <a:pt x="1190" y="2471"/>
                  </a:lnTo>
                  <a:lnTo>
                    <a:pt x="1194" y="2471"/>
                  </a:lnTo>
                  <a:lnTo>
                    <a:pt x="1194" y="2530"/>
                  </a:lnTo>
                  <a:lnTo>
                    <a:pt x="1200" y="2530"/>
                  </a:lnTo>
                  <a:lnTo>
                    <a:pt x="1200" y="2630"/>
                  </a:lnTo>
                  <a:lnTo>
                    <a:pt x="1204" y="2630"/>
                  </a:lnTo>
                  <a:lnTo>
                    <a:pt x="1204" y="2689"/>
                  </a:lnTo>
                  <a:lnTo>
                    <a:pt x="1210" y="2689"/>
                  </a:lnTo>
                  <a:lnTo>
                    <a:pt x="1210" y="2713"/>
                  </a:lnTo>
                  <a:lnTo>
                    <a:pt x="1204" y="2713"/>
                  </a:lnTo>
                  <a:lnTo>
                    <a:pt x="1204" y="2761"/>
                  </a:lnTo>
                  <a:lnTo>
                    <a:pt x="1210" y="2761"/>
                  </a:lnTo>
                  <a:lnTo>
                    <a:pt x="1210" y="2802"/>
                  </a:lnTo>
                  <a:lnTo>
                    <a:pt x="1215" y="2802"/>
                  </a:lnTo>
                  <a:lnTo>
                    <a:pt x="1215" y="2848"/>
                  </a:lnTo>
                  <a:lnTo>
                    <a:pt x="1220" y="2848"/>
                  </a:lnTo>
                  <a:lnTo>
                    <a:pt x="1220" y="2860"/>
                  </a:lnTo>
                  <a:lnTo>
                    <a:pt x="1215" y="2860"/>
                  </a:lnTo>
                  <a:lnTo>
                    <a:pt x="1215" y="2897"/>
                  </a:lnTo>
                  <a:lnTo>
                    <a:pt x="1220" y="2897"/>
                  </a:lnTo>
                  <a:lnTo>
                    <a:pt x="1220" y="2960"/>
                  </a:lnTo>
                  <a:lnTo>
                    <a:pt x="1224" y="2960"/>
                  </a:lnTo>
                  <a:lnTo>
                    <a:pt x="1224" y="2984"/>
                  </a:lnTo>
                  <a:lnTo>
                    <a:pt x="1220" y="2984"/>
                  </a:lnTo>
                  <a:lnTo>
                    <a:pt x="1220" y="3038"/>
                  </a:lnTo>
                  <a:lnTo>
                    <a:pt x="1224" y="3038"/>
                  </a:lnTo>
                  <a:lnTo>
                    <a:pt x="1224" y="3097"/>
                  </a:lnTo>
                  <a:lnTo>
                    <a:pt x="1229" y="3097"/>
                  </a:lnTo>
                  <a:lnTo>
                    <a:pt x="1229" y="3186"/>
                  </a:lnTo>
                  <a:lnTo>
                    <a:pt x="1234" y="3186"/>
                  </a:lnTo>
                  <a:lnTo>
                    <a:pt x="1234" y="3416"/>
                  </a:lnTo>
                  <a:lnTo>
                    <a:pt x="1238" y="3416"/>
                  </a:lnTo>
                  <a:lnTo>
                    <a:pt x="1238" y="3498"/>
                  </a:lnTo>
                  <a:lnTo>
                    <a:pt x="1243" y="3498"/>
                  </a:lnTo>
                  <a:lnTo>
                    <a:pt x="1243" y="3511"/>
                  </a:lnTo>
                  <a:lnTo>
                    <a:pt x="1238" y="3511"/>
                  </a:lnTo>
                  <a:lnTo>
                    <a:pt x="1238" y="3523"/>
                  </a:lnTo>
                  <a:lnTo>
                    <a:pt x="1243" y="3523"/>
                  </a:lnTo>
                  <a:lnTo>
                    <a:pt x="1243" y="3558"/>
                  </a:lnTo>
                  <a:lnTo>
                    <a:pt x="1238" y="3558"/>
                  </a:lnTo>
                  <a:lnTo>
                    <a:pt x="1238" y="3570"/>
                  </a:lnTo>
                  <a:lnTo>
                    <a:pt x="1243" y="3570"/>
                  </a:lnTo>
                  <a:lnTo>
                    <a:pt x="1243" y="3653"/>
                  </a:lnTo>
                  <a:lnTo>
                    <a:pt x="1248" y="3653"/>
                  </a:lnTo>
                  <a:lnTo>
                    <a:pt x="1248" y="3683"/>
                  </a:lnTo>
                  <a:lnTo>
                    <a:pt x="1253" y="3683"/>
                  </a:lnTo>
                  <a:lnTo>
                    <a:pt x="1253" y="3694"/>
                  </a:lnTo>
                  <a:lnTo>
                    <a:pt x="1248" y="3694"/>
                  </a:lnTo>
                  <a:lnTo>
                    <a:pt x="1248" y="3753"/>
                  </a:lnTo>
                  <a:lnTo>
                    <a:pt x="1243" y="3753"/>
                  </a:lnTo>
                  <a:lnTo>
                    <a:pt x="1243" y="3842"/>
                  </a:lnTo>
                  <a:lnTo>
                    <a:pt x="1238" y="3842"/>
                  </a:lnTo>
                  <a:lnTo>
                    <a:pt x="1238" y="3884"/>
                  </a:lnTo>
                  <a:lnTo>
                    <a:pt x="1234" y="3884"/>
                  </a:lnTo>
                  <a:lnTo>
                    <a:pt x="1234" y="3895"/>
                  </a:lnTo>
                  <a:lnTo>
                    <a:pt x="1238" y="3895"/>
                  </a:lnTo>
                  <a:lnTo>
                    <a:pt x="1238" y="3925"/>
                  </a:lnTo>
                  <a:lnTo>
                    <a:pt x="1229" y="3925"/>
                  </a:lnTo>
                  <a:lnTo>
                    <a:pt x="1229" y="3930"/>
                  </a:lnTo>
                  <a:lnTo>
                    <a:pt x="1224" y="3930"/>
                  </a:lnTo>
                  <a:lnTo>
                    <a:pt x="1224" y="3966"/>
                  </a:lnTo>
                  <a:lnTo>
                    <a:pt x="1220" y="3966"/>
                  </a:lnTo>
                  <a:lnTo>
                    <a:pt x="1220" y="3978"/>
                  </a:lnTo>
                  <a:lnTo>
                    <a:pt x="1215" y="3978"/>
                  </a:lnTo>
                  <a:lnTo>
                    <a:pt x="1215" y="3983"/>
                  </a:lnTo>
                  <a:lnTo>
                    <a:pt x="1210" y="3983"/>
                  </a:lnTo>
                  <a:lnTo>
                    <a:pt x="1210" y="3996"/>
                  </a:lnTo>
                  <a:lnTo>
                    <a:pt x="1200" y="3996"/>
                  </a:lnTo>
                  <a:lnTo>
                    <a:pt x="1200" y="3990"/>
                  </a:lnTo>
                  <a:lnTo>
                    <a:pt x="1161" y="3990"/>
                  </a:lnTo>
                  <a:lnTo>
                    <a:pt x="1161" y="3996"/>
                  </a:lnTo>
                  <a:lnTo>
                    <a:pt x="1071" y="3996"/>
                  </a:lnTo>
                  <a:lnTo>
                    <a:pt x="1071" y="4001"/>
                  </a:lnTo>
                  <a:lnTo>
                    <a:pt x="1017" y="4001"/>
                  </a:lnTo>
                  <a:lnTo>
                    <a:pt x="1017" y="4007"/>
                  </a:lnTo>
                  <a:lnTo>
                    <a:pt x="965" y="4007"/>
                  </a:lnTo>
                  <a:lnTo>
                    <a:pt x="965" y="4013"/>
                  </a:lnTo>
                  <a:lnTo>
                    <a:pt x="936" y="4013"/>
                  </a:lnTo>
                  <a:lnTo>
                    <a:pt x="936" y="4020"/>
                  </a:lnTo>
                  <a:lnTo>
                    <a:pt x="892" y="4020"/>
                  </a:lnTo>
                  <a:lnTo>
                    <a:pt x="892" y="4025"/>
                  </a:lnTo>
                  <a:lnTo>
                    <a:pt x="883" y="4025"/>
                  </a:lnTo>
                  <a:lnTo>
                    <a:pt x="883" y="4020"/>
                  </a:lnTo>
                  <a:lnTo>
                    <a:pt x="869" y="4020"/>
                  </a:lnTo>
                  <a:lnTo>
                    <a:pt x="869" y="4025"/>
                  </a:lnTo>
                  <a:lnTo>
                    <a:pt x="811" y="4025"/>
                  </a:lnTo>
                  <a:lnTo>
                    <a:pt x="811" y="4031"/>
                  </a:lnTo>
                  <a:lnTo>
                    <a:pt x="796" y="4031"/>
                  </a:lnTo>
                  <a:lnTo>
                    <a:pt x="796" y="4025"/>
                  </a:lnTo>
                  <a:lnTo>
                    <a:pt x="758" y="4025"/>
                  </a:lnTo>
                  <a:lnTo>
                    <a:pt x="758" y="4031"/>
                  </a:lnTo>
                  <a:lnTo>
                    <a:pt x="710" y="4031"/>
                  </a:lnTo>
                  <a:lnTo>
                    <a:pt x="710" y="4025"/>
                  </a:lnTo>
                  <a:lnTo>
                    <a:pt x="648" y="4025"/>
                  </a:lnTo>
                  <a:lnTo>
                    <a:pt x="648" y="4031"/>
                  </a:lnTo>
                  <a:lnTo>
                    <a:pt x="638" y="4031"/>
                  </a:lnTo>
                  <a:lnTo>
                    <a:pt x="638" y="4025"/>
                  </a:lnTo>
                  <a:lnTo>
                    <a:pt x="590" y="4025"/>
                  </a:lnTo>
                  <a:lnTo>
                    <a:pt x="590" y="4031"/>
                  </a:lnTo>
                  <a:lnTo>
                    <a:pt x="581" y="4031"/>
                  </a:lnTo>
                  <a:lnTo>
                    <a:pt x="581" y="4025"/>
                  </a:lnTo>
                  <a:lnTo>
                    <a:pt x="562" y="4025"/>
                  </a:lnTo>
                  <a:lnTo>
                    <a:pt x="562" y="4031"/>
                  </a:lnTo>
                  <a:lnTo>
                    <a:pt x="485" y="4031"/>
                  </a:lnTo>
                  <a:lnTo>
                    <a:pt x="485" y="4025"/>
                  </a:lnTo>
                  <a:lnTo>
                    <a:pt x="378" y="4025"/>
                  </a:lnTo>
                  <a:lnTo>
                    <a:pt x="378" y="4020"/>
                  </a:lnTo>
                  <a:lnTo>
                    <a:pt x="345" y="4020"/>
                  </a:lnTo>
                  <a:lnTo>
                    <a:pt x="345" y="4025"/>
                  </a:lnTo>
                  <a:lnTo>
                    <a:pt x="274" y="4025"/>
                  </a:lnTo>
                  <a:lnTo>
                    <a:pt x="274" y="4020"/>
                  </a:lnTo>
                  <a:lnTo>
                    <a:pt x="201" y="4020"/>
                  </a:lnTo>
                  <a:lnTo>
                    <a:pt x="201" y="4025"/>
                  </a:lnTo>
                  <a:lnTo>
                    <a:pt x="90" y="4025"/>
                  </a:lnTo>
                  <a:lnTo>
                    <a:pt x="90" y="4031"/>
                  </a:lnTo>
                  <a:lnTo>
                    <a:pt x="13" y="4031"/>
                  </a:lnTo>
                  <a:lnTo>
                    <a:pt x="13" y="4025"/>
                  </a:lnTo>
                  <a:lnTo>
                    <a:pt x="8" y="4025"/>
                  </a:lnTo>
                  <a:lnTo>
                    <a:pt x="8" y="4007"/>
                  </a:lnTo>
                  <a:lnTo>
                    <a:pt x="0" y="4007"/>
                  </a:lnTo>
                  <a:lnTo>
                    <a:pt x="0" y="3990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32320" y="3941640"/>
              <a:ext cx="988200" cy="100440"/>
            </a:xfrm>
            <a:custGeom>
              <a:avLst/>
              <a:gdLst/>
              <a:ahLst/>
              <a:rect l="l" t="t" r="r" b="b"/>
              <a:pathLst>
                <a:path w="3799" h="514">
                  <a:moveTo>
                    <a:pt x="0" y="72"/>
                  </a:moveTo>
                  <a:lnTo>
                    <a:pt x="4" y="72"/>
                  </a:lnTo>
                  <a:lnTo>
                    <a:pt x="4" y="65"/>
                  </a:lnTo>
                  <a:lnTo>
                    <a:pt x="9" y="65"/>
                  </a:lnTo>
                  <a:lnTo>
                    <a:pt x="9" y="59"/>
                  </a:lnTo>
                  <a:lnTo>
                    <a:pt x="77" y="59"/>
                  </a:lnTo>
                  <a:lnTo>
                    <a:pt x="77" y="54"/>
                  </a:lnTo>
                  <a:lnTo>
                    <a:pt x="167" y="54"/>
                  </a:lnTo>
                  <a:lnTo>
                    <a:pt x="167" y="48"/>
                  </a:lnTo>
                  <a:lnTo>
                    <a:pt x="178" y="48"/>
                  </a:lnTo>
                  <a:lnTo>
                    <a:pt x="178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384" y="48"/>
                  </a:lnTo>
                  <a:lnTo>
                    <a:pt x="384" y="42"/>
                  </a:lnTo>
                  <a:lnTo>
                    <a:pt x="446" y="42"/>
                  </a:lnTo>
                  <a:lnTo>
                    <a:pt x="446" y="48"/>
                  </a:lnTo>
                  <a:lnTo>
                    <a:pt x="523" y="48"/>
                  </a:lnTo>
                  <a:lnTo>
                    <a:pt x="523" y="42"/>
                  </a:lnTo>
                  <a:lnTo>
                    <a:pt x="672" y="42"/>
                  </a:lnTo>
                  <a:lnTo>
                    <a:pt x="672" y="37"/>
                  </a:lnTo>
                  <a:lnTo>
                    <a:pt x="806" y="37"/>
                  </a:lnTo>
                  <a:lnTo>
                    <a:pt x="806" y="30"/>
                  </a:lnTo>
                  <a:lnTo>
                    <a:pt x="836" y="30"/>
                  </a:lnTo>
                  <a:lnTo>
                    <a:pt x="836" y="24"/>
                  </a:lnTo>
                  <a:lnTo>
                    <a:pt x="898" y="24"/>
                  </a:lnTo>
                  <a:lnTo>
                    <a:pt x="898" y="18"/>
                  </a:lnTo>
                  <a:lnTo>
                    <a:pt x="955" y="18"/>
                  </a:lnTo>
                  <a:lnTo>
                    <a:pt x="955" y="24"/>
                  </a:lnTo>
                  <a:lnTo>
                    <a:pt x="970" y="24"/>
                  </a:lnTo>
                  <a:lnTo>
                    <a:pt x="970" y="18"/>
                  </a:lnTo>
                  <a:lnTo>
                    <a:pt x="1013" y="18"/>
                  </a:lnTo>
                  <a:lnTo>
                    <a:pt x="1013" y="13"/>
                  </a:lnTo>
                  <a:lnTo>
                    <a:pt x="1041" y="13"/>
                  </a:lnTo>
                  <a:lnTo>
                    <a:pt x="1041" y="5"/>
                  </a:lnTo>
                  <a:lnTo>
                    <a:pt x="1167" y="5"/>
                  </a:lnTo>
                  <a:lnTo>
                    <a:pt x="1167" y="0"/>
                  </a:lnTo>
                  <a:lnTo>
                    <a:pt x="1181" y="0"/>
                  </a:lnTo>
                  <a:lnTo>
                    <a:pt x="1181" y="5"/>
                  </a:lnTo>
                  <a:lnTo>
                    <a:pt x="1345" y="5"/>
                  </a:lnTo>
                  <a:lnTo>
                    <a:pt x="1345" y="13"/>
                  </a:lnTo>
                  <a:lnTo>
                    <a:pt x="1392" y="13"/>
                  </a:lnTo>
                  <a:lnTo>
                    <a:pt x="1392" y="18"/>
                  </a:lnTo>
                  <a:lnTo>
                    <a:pt x="1536" y="18"/>
                  </a:lnTo>
                  <a:lnTo>
                    <a:pt x="1536" y="24"/>
                  </a:lnTo>
                  <a:lnTo>
                    <a:pt x="1545" y="24"/>
                  </a:lnTo>
                  <a:lnTo>
                    <a:pt x="1545" y="18"/>
                  </a:lnTo>
                  <a:lnTo>
                    <a:pt x="1676" y="18"/>
                  </a:lnTo>
                  <a:lnTo>
                    <a:pt x="1676" y="24"/>
                  </a:lnTo>
                  <a:lnTo>
                    <a:pt x="1748" y="24"/>
                  </a:lnTo>
                  <a:lnTo>
                    <a:pt x="1748" y="30"/>
                  </a:lnTo>
                  <a:lnTo>
                    <a:pt x="1854" y="30"/>
                  </a:lnTo>
                  <a:lnTo>
                    <a:pt x="1854" y="37"/>
                  </a:lnTo>
                  <a:lnTo>
                    <a:pt x="1950" y="37"/>
                  </a:lnTo>
                  <a:lnTo>
                    <a:pt x="1950" y="42"/>
                  </a:lnTo>
                  <a:lnTo>
                    <a:pt x="2007" y="42"/>
                  </a:lnTo>
                  <a:lnTo>
                    <a:pt x="2007" y="48"/>
                  </a:lnTo>
                  <a:lnTo>
                    <a:pt x="2050" y="48"/>
                  </a:lnTo>
                  <a:lnTo>
                    <a:pt x="2050" y="42"/>
                  </a:lnTo>
                  <a:lnTo>
                    <a:pt x="2176" y="42"/>
                  </a:lnTo>
                  <a:lnTo>
                    <a:pt x="2176" y="37"/>
                  </a:lnTo>
                  <a:lnTo>
                    <a:pt x="2257" y="37"/>
                  </a:lnTo>
                  <a:lnTo>
                    <a:pt x="2257" y="42"/>
                  </a:lnTo>
                  <a:lnTo>
                    <a:pt x="2291" y="42"/>
                  </a:lnTo>
                  <a:lnTo>
                    <a:pt x="2291" y="48"/>
                  </a:lnTo>
                  <a:lnTo>
                    <a:pt x="2526" y="48"/>
                  </a:lnTo>
                  <a:lnTo>
                    <a:pt x="2526" y="54"/>
                  </a:lnTo>
                  <a:lnTo>
                    <a:pt x="2569" y="54"/>
                  </a:lnTo>
                  <a:lnTo>
                    <a:pt x="2569" y="59"/>
                  </a:lnTo>
                  <a:lnTo>
                    <a:pt x="2598" y="59"/>
                  </a:lnTo>
                  <a:lnTo>
                    <a:pt x="2598" y="65"/>
                  </a:lnTo>
                  <a:lnTo>
                    <a:pt x="2689" y="65"/>
                  </a:lnTo>
                  <a:lnTo>
                    <a:pt x="2689" y="59"/>
                  </a:lnTo>
                  <a:lnTo>
                    <a:pt x="2698" y="59"/>
                  </a:lnTo>
                  <a:lnTo>
                    <a:pt x="2698" y="65"/>
                  </a:lnTo>
                  <a:lnTo>
                    <a:pt x="2709" y="65"/>
                  </a:lnTo>
                  <a:lnTo>
                    <a:pt x="2709" y="59"/>
                  </a:lnTo>
                  <a:lnTo>
                    <a:pt x="2737" y="59"/>
                  </a:lnTo>
                  <a:lnTo>
                    <a:pt x="2737" y="65"/>
                  </a:lnTo>
                  <a:lnTo>
                    <a:pt x="2771" y="65"/>
                  </a:lnTo>
                  <a:lnTo>
                    <a:pt x="2771" y="59"/>
                  </a:lnTo>
                  <a:lnTo>
                    <a:pt x="2790" y="59"/>
                  </a:lnTo>
                  <a:lnTo>
                    <a:pt x="2790" y="65"/>
                  </a:lnTo>
                  <a:lnTo>
                    <a:pt x="2819" y="65"/>
                  </a:lnTo>
                  <a:lnTo>
                    <a:pt x="2819" y="72"/>
                  </a:lnTo>
                  <a:lnTo>
                    <a:pt x="2863" y="72"/>
                  </a:lnTo>
                  <a:lnTo>
                    <a:pt x="2863" y="65"/>
                  </a:lnTo>
                  <a:lnTo>
                    <a:pt x="2877" y="65"/>
                  </a:lnTo>
                  <a:lnTo>
                    <a:pt x="2877" y="72"/>
                  </a:lnTo>
                  <a:lnTo>
                    <a:pt x="2910" y="72"/>
                  </a:lnTo>
                  <a:lnTo>
                    <a:pt x="2910" y="78"/>
                  </a:lnTo>
                  <a:lnTo>
                    <a:pt x="2934" y="78"/>
                  </a:lnTo>
                  <a:lnTo>
                    <a:pt x="2934" y="83"/>
                  </a:lnTo>
                  <a:lnTo>
                    <a:pt x="2958" y="83"/>
                  </a:lnTo>
                  <a:lnTo>
                    <a:pt x="2958" y="90"/>
                  </a:lnTo>
                  <a:lnTo>
                    <a:pt x="2986" y="90"/>
                  </a:lnTo>
                  <a:lnTo>
                    <a:pt x="2986" y="83"/>
                  </a:lnTo>
                  <a:lnTo>
                    <a:pt x="3044" y="83"/>
                  </a:lnTo>
                  <a:lnTo>
                    <a:pt x="3044" y="90"/>
                  </a:lnTo>
                  <a:lnTo>
                    <a:pt x="3074" y="90"/>
                  </a:lnTo>
                  <a:lnTo>
                    <a:pt x="3074" y="83"/>
                  </a:lnTo>
                  <a:lnTo>
                    <a:pt x="3093" y="83"/>
                  </a:lnTo>
                  <a:lnTo>
                    <a:pt x="3093" y="90"/>
                  </a:lnTo>
                  <a:lnTo>
                    <a:pt x="3241" y="90"/>
                  </a:lnTo>
                  <a:lnTo>
                    <a:pt x="3241" y="95"/>
                  </a:lnTo>
                  <a:lnTo>
                    <a:pt x="3255" y="95"/>
                  </a:lnTo>
                  <a:lnTo>
                    <a:pt x="3255" y="90"/>
                  </a:lnTo>
                  <a:lnTo>
                    <a:pt x="3290" y="90"/>
                  </a:lnTo>
                  <a:lnTo>
                    <a:pt x="3290" y="95"/>
                  </a:lnTo>
                  <a:lnTo>
                    <a:pt x="3299" y="95"/>
                  </a:lnTo>
                  <a:lnTo>
                    <a:pt x="3299" y="90"/>
                  </a:lnTo>
                  <a:lnTo>
                    <a:pt x="3458" y="90"/>
                  </a:lnTo>
                  <a:lnTo>
                    <a:pt x="3458" y="95"/>
                  </a:lnTo>
                  <a:lnTo>
                    <a:pt x="3477" y="95"/>
                  </a:lnTo>
                  <a:lnTo>
                    <a:pt x="3477" y="90"/>
                  </a:lnTo>
                  <a:lnTo>
                    <a:pt x="3683" y="90"/>
                  </a:lnTo>
                  <a:lnTo>
                    <a:pt x="3683" y="95"/>
                  </a:lnTo>
                  <a:lnTo>
                    <a:pt x="3707" y="95"/>
                  </a:lnTo>
                  <a:lnTo>
                    <a:pt x="3707" y="90"/>
                  </a:lnTo>
                  <a:lnTo>
                    <a:pt x="3732" y="90"/>
                  </a:lnTo>
                  <a:lnTo>
                    <a:pt x="3732" y="95"/>
                  </a:lnTo>
                  <a:lnTo>
                    <a:pt x="3746" y="95"/>
                  </a:lnTo>
                  <a:lnTo>
                    <a:pt x="3746" y="100"/>
                  </a:lnTo>
                  <a:lnTo>
                    <a:pt x="3755" y="100"/>
                  </a:lnTo>
                  <a:lnTo>
                    <a:pt x="3755" y="108"/>
                  </a:lnTo>
                  <a:lnTo>
                    <a:pt x="3760" y="108"/>
                  </a:lnTo>
                  <a:lnTo>
                    <a:pt x="3760" y="113"/>
                  </a:lnTo>
                  <a:lnTo>
                    <a:pt x="3769" y="113"/>
                  </a:lnTo>
                  <a:lnTo>
                    <a:pt x="3769" y="119"/>
                  </a:lnTo>
                  <a:lnTo>
                    <a:pt x="3779" y="119"/>
                  </a:lnTo>
                  <a:lnTo>
                    <a:pt x="3779" y="124"/>
                  </a:lnTo>
                  <a:lnTo>
                    <a:pt x="3784" y="124"/>
                  </a:lnTo>
                  <a:lnTo>
                    <a:pt x="3784" y="136"/>
                  </a:lnTo>
                  <a:lnTo>
                    <a:pt x="3789" y="136"/>
                  </a:lnTo>
                  <a:lnTo>
                    <a:pt x="3789" y="237"/>
                  </a:lnTo>
                  <a:lnTo>
                    <a:pt x="3795" y="237"/>
                  </a:lnTo>
                  <a:lnTo>
                    <a:pt x="3795" y="272"/>
                  </a:lnTo>
                  <a:lnTo>
                    <a:pt x="3789" y="272"/>
                  </a:lnTo>
                  <a:lnTo>
                    <a:pt x="3789" y="337"/>
                  </a:lnTo>
                  <a:lnTo>
                    <a:pt x="3795" y="337"/>
                  </a:lnTo>
                  <a:lnTo>
                    <a:pt x="3795" y="385"/>
                  </a:lnTo>
                  <a:lnTo>
                    <a:pt x="3789" y="385"/>
                  </a:lnTo>
                  <a:lnTo>
                    <a:pt x="3789" y="396"/>
                  </a:lnTo>
                  <a:lnTo>
                    <a:pt x="3795" y="396"/>
                  </a:lnTo>
                  <a:lnTo>
                    <a:pt x="3795" y="486"/>
                  </a:lnTo>
                  <a:lnTo>
                    <a:pt x="3799" y="486"/>
                  </a:lnTo>
                  <a:lnTo>
                    <a:pt x="3799" y="503"/>
                  </a:lnTo>
                  <a:lnTo>
                    <a:pt x="3795" y="503"/>
                  </a:lnTo>
                  <a:lnTo>
                    <a:pt x="3795" y="510"/>
                  </a:lnTo>
                  <a:lnTo>
                    <a:pt x="3789" y="510"/>
                  </a:lnTo>
                  <a:lnTo>
                    <a:pt x="3789" y="514"/>
                  </a:lnTo>
                  <a:lnTo>
                    <a:pt x="3751" y="514"/>
                  </a:lnTo>
                  <a:lnTo>
                    <a:pt x="3751" y="510"/>
                  </a:lnTo>
                  <a:lnTo>
                    <a:pt x="3746" y="510"/>
                  </a:lnTo>
                  <a:lnTo>
                    <a:pt x="3746" y="497"/>
                  </a:lnTo>
                  <a:lnTo>
                    <a:pt x="3742" y="497"/>
                  </a:lnTo>
                  <a:lnTo>
                    <a:pt x="3742" y="491"/>
                  </a:lnTo>
                  <a:lnTo>
                    <a:pt x="3736" y="491"/>
                  </a:lnTo>
                  <a:lnTo>
                    <a:pt x="3736" y="173"/>
                  </a:lnTo>
                  <a:lnTo>
                    <a:pt x="3721" y="173"/>
                  </a:lnTo>
                  <a:lnTo>
                    <a:pt x="3721" y="166"/>
                  </a:lnTo>
                  <a:lnTo>
                    <a:pt x="3707" y="166"/>
                  </a:lnTo>
                  <a:lnTo>
                    <a:pt x="3707" y="160"/>
                  </a:lnTo>
                  <a:lnTo>
                    <a:pt x="3665" y="160"/>
                  </a:lnTo>
                  <a:lnTo>
                    <a:pt x="3665" y="154"/>
                  </a:lnTo>
                  <a:lnTo>
                    <a:pt x="3616" y="154"/>
                  </a:lnTo>
                  <a:lnTo>
                    <a:pt x="3616" y="149"/>
                  </a:lnTo>
                  <a:lnTo>
                    <a:pt x="3597" y="149"/>
                  </a:lnTo>
                  <a:lnTo>
                    <a:pt x="3597" y="154"/>
                  </a:lnTo>
                  <a:lnTo>
                    <a:pt x="3554" y="154"/>
                  </a:lnTo>
                  <a:lnTo>
                    <a:pt x="3554" y="149"/>
                  </a:lnTo>
                  <a:lnTo>
                    <a:pt x="3491" y="149"/>
                  </a:lnTo>
                  <a:lnTo>
                    <a:pt x="3491" y="154"/>
                  </a:lnTo>
                  <a:lnTo>
                    <a:pt x="3448" y="154"/>
                  </a:lnTo>
                  <a:lnTo>
                    <a:pt x="3448" y="149"/>
                  </a:lnTo>
                  <a:lnTo>
                    <a:pt x="3434" y="149"/>
                  </a:lnTo>
                  <a:lnTo>
                    <a:pt x="3434" y="154"/>
                  </a:lnTo>
                  <a:lnTo>
                    <a:pt x="3424" y="154"/>
                  </a:lnTo>
                  <a:lnTo>
                    <a:pt x="3424" y="149"/>
                  </a:lnTo>
                  <a:lnTo>
                    <a:pt x="3385" y="149"/>
                  </a:lnTo>
                  <a:lnTo>
                    <a:pt x="3385" y="154"/>
                  </a:lnTo>
                  <a:lnTo>
                    <a:pt x="3376" y="154"/>
                  </a:lnTo>
                  <a:lnTo>
                    <a:pt x="3376" y="149"/>
                  </a:lnTo>
                  <a:lnTo>
                    <a:pt x="3337" y="149"/>
                  </a:lnTo>
                  <a:lnTo>
                    <a:pt x="3337" y="154"/>
                  </a:lnTo>
                  <a:lnTo>
                    <a:pt x="3213" y="154"/>
                  </a:lnTo>
                  <a:lnTo>
                    <a:pt x="3213" y="160"/>
                  </a:lnTo>
                  <a:lnTo>
                    <a:pt x="3151" y="160"/>
                  </a:lnTo>
                  <a:lnTo>
                    <a:pt x="3151" y="154"/>
                  </a:lnTo>
                  <a:lnTo>
                    <a:pt x="3117" y="154"/>
                  </a:lnTo>
                  <a:lnTo>
                    <a:pt x="3117" y="149"/>
                  </a:lnTo>
                  <a:lnTo>
                    <a:pt x="3097" y="149"/>
                  </a:lnTo>
                  <a:lnTo>
                    <a:pt x="3097" y="154"/>
                  </a:lnTo>
                  <a:lnTo>
                    <a:pt x="3068" y="154"/>
                  </a:lnTo>
                  <a:lnTo>
                    <a:pt x="3068" y="149"/>
                  </a:lnTo>
                  <a:lnTo>
                    <a:pt x="2982" y="149"/>
                  </a:lnTo>
                  <a:lnTo>
                    <a:pt x="2982" y="143"/>
                  </a:lnTo>
                  <a:lnTo>
                    <a:pt x="2949" y="143"/>
                  </a:lnTo>
                  <a:lnTo>
                    <a:pt x="2949" y="136"/>
                  </a:lnTo>
                  <a:lnTo>
                    <a:pt x="2905" y="136"/>
                  </a:lnTo>
                  <a:lnTo>
                    <a:pt x="2905" y="131"/>
                  </a:lnTo>
                  <a:lnTo>
                    <a:pt x="2882" y="131"/>
                  </a:lnTo>
                  <a:lnTo>
                    <a:pt x="2882" y="136"/>
                  </a:lnTo>
                  <a:lnTo>
                    <a:pt x="2872" y="136"/>
                  </a:lnTo>
                  <a:lnTo>
                    <a:pt x="2872" y="131"/>
                  </a:lnTo>
                  <a:lnTo>
                    <a:pt x="2829" y="131"/>
                  </a:lnTo>
                  <a:lnTo>
                    <a:pt x="2829" y="124"/>
                  </a:lnTo>
                  <a:lnTo>
                    <a:pt x="2786" y="124"/>
                  </a:lnTo>
                  <a:lnTo>
                    <a:pt x="2786" y="131"/>
                  </a:lnTo>
                  <a:lnTo>
                    <a:pt x="2756" y="131"/>
                  </a:lnTo>
                  <a:lnTo>
                    <a:pt x="2756" y="124"/>
                  </a:lnTo>
                  <a:lnTo>
                    <a:pt x="2719" y="124"/>
                  </a:lnTo>
                  <a:lnTo>
                    <a:pt x="2719" y="131"/>
                  </a:lnTo>
                  <a:lnTo>
                    <a:pt x="2703" y="131"/>
                  </a:lnTo>
                  <a:lnTo>
                    <a:pt x="2703" y="124"/>
                  </a:lnTo>
                  <a:lnTo>
                    <a:pt x="2651" y="124"/>
                  </a:lnTo>
                  <a:lnTo>
                    <a:pt x="2651" y="119"/>
                  </a:lnTo>
                  <a:lnTo>
                    <a:pt x="2565" y="119"/>
                  </a:lnTo>
                  <a:lnTo>
                    <a:pt x="2565" y="113"/>
                  </a:lnTo>
                  <a:lnTo>
                    <a:pt x="2445" y="113"/>
                  </a:lnTo>
                  <a:lnTo>
                    <a:pt x="2445" y="108"/>
                  </a:lnTo>
                  <a:lnTo>
                    <a:pt x="2334" y="108"/>
                  </a:lnTo>
                  <a:lnTo>
                    <a:pt x="2334" y="100"/>
                  </a:lnTo>
                  <a:lnTo>
                    <a:pt x="2238" y="100"/>
                  </a:lnTo>
                  <a:lnTo>
                    <a:pt x="2238" y="95"/>
                  </a:lnTo>
                  <a:lnTo>
                    <a:pt x="2205" y="95"/>
                  </a:lnTo>
                  <a:lnTo>
                    <a:pt x="2205" y="100"/>
                  </a:lnTo>
                  <a:lnTo>
                    <a:pt x="2074" y="100"/>
                  </a:lnTo>
                  <a:lnTo>
                    <a:pt x="2074" y="108"/>
                  </a:lnTo>
                  <a:lnTo>
                    <a:pt x="2040" y="108"/>
                  </a:lnTo>
                  <a:lnTo>
                    <a:pt x="2040" y="100"/>
                  </a:lnTo>
                  <a:lnTo>
                    <a:pt x="1977" y="100"/>
                  </a:lnTo>
                  <a:lnTo>
                    <a:pt x="1977" y="95"/>
                  </a:lnTo>
                  <a:lnTo>
                    <a:pt x="1873" y="95"/>
                  </a:lnTo>
                  <a:lnTo>
                    <a:pt x="1873" y="90"/>
                  </a:lnTo>
                  <a:lnTo>
                    <a:pt x="1829" y="90"/>
                  </a:lnTo>
                  <a:lnTo>
                    <a:pt x="1829" y="95"/>
                  </a:lnTo>
                  <a:lnTo>
                    <a:pt x="1820" y="95"/>
                  </a:lnTo>
                  <a:lnTo>
                    <a:pt x="1820" y="90"/>
                  </a:lnTo>
                  <a:lnTo>
                    <a:pt x="1782" y="90"/>
                  </a:lnTo>
                  <a:lnTo>
                    <a:pt x="1782" y="83"/>
                  </a:lnTo>
                  <a:lnTo>
                    <a:pt x="1710" y="83"/>
                  </a:lnTo>
                  <a:lnTo>
                    <a:pt x="1710" y="78"/>
                  </a:lnTo>
                  <a:lnTo>
                    <a:pt x="1556" y="78"/>
                  </a:lnTo>
                  <a:lnTo>
                    <a:pt x="1556" y="83"/>
                  </a:lnTo>
                  <a:lnTo>
                    <a:pt x="1545" y="83"/>
                  </a:lnTo>
                  <a:lnTo>
                    <a:pt x="1545" y="78"/>
                  </a:lnTo>
                  <a:lnTo>
                    <a:pt x="1489" y="78"/>
                  </a:lnTo>
                  <a:lnTo>
                    <a:pt x="1489" y="83"/>
                  </a:lnTo>
                  <a:lnTo>
                    <a:pt x="1469" y="83"/>
                  </a:lnTo>
                  <a:lnTo>
                    <a:pt x="1469" y="78"/>
                  </a:lnTo>
                  <a:lnTo>
                    <a:pt x="1378" y="78"/>
                  </a:lnTo>
                  <a:lnTo>
                    <a:pt x="1378" y="72"/>
                  </a:lnTo>
                  <a:lnTo>
                    <a:pt x="1320" y="72"/>
                  </a:lnTo>
                  <a:lnTo>
                    <a:pt x="1320" y="65"/>
                  </a:lnTo>
                  <a:lnTo>
                    <a:pt x="1201" y="65"/>
                  </a:lnTo>
                  <a:lnTo>
                    <a:pt x="1201" y="59"/>
                  </a:lnTo>
                  <a:lnTo>
                    <a:pt x="1176" y="59"/>
                  </a:lnTo>
                  <a:lnTo>
                    <a:pt x="1176" y="65"/>
                  </a:lnTo>
                  <a:lnTo>
                    <a:pt x="1075" y="65"/>
                  </a:lnTo>
                  <a:lnTo>
                    <a:pt x="1075" y="72"/>
                  </a:lnTo>
                  <a:lnTo>
                    <a:pt x="1023" y="72"/>
                  </a:lnTo>
                  <a:lnTo>
                    <a:pt x="1023" y="78"/>
                  </a:lnTo>
                  <a:lnTo>
                    <a:pt x="864" y="78"/>
                  </a:lnTo>
                  <a:lnTo>
                    <a:pt x="864" y="83"/>
                  </a:lnTo>
                  <a:lnTo>
                    <a:pt x="820" y="83"/>
                  </a:lnTo>
                  <a:lnTo>
                    <a:pt x="820" y="90"/>
                  </a:lnTo>
                  <a:lnTo>
                    <a:pt x="739" y="90"/>
                  </a:lnTo>
                  <a:lnTo>
                    <a:pt x="739" y="95"/>
                  </a:lnTo>
                  <a:lnTo>
                    <a:pt x="662" y="95"/>
                  </a:lnTo>
                  <a:lnTo>
                    <a:pt x="662" y="100"/>
                  </a:lnTo>
                  <a:lnTo>
                    <a:pt x="653" y="100"/>
                  </a:lnTo>
                  <a:lnTo>
                    <a:pt x="653" y="95"/>
                  </a:lnTo>
                  <a:lnTo>
                    <a:pt x="624" y="95"/>
                  </a:lnTo>
                  <a:lnTo>
                    <a:pt x="624" y="100"/>
                  </a:lnTo>
                  <a:lnTo>
                    <a:pt x="557" y="100"/>
                  </a:lnTo>
                  <a:lnTo>
                    <a:pt x="557" y="108"/>
                  </a:lnTo>
                  <a:lnTo>
                    <a:pt x="518" y="108"/>
                  </a:lnTo>
                  <a:lnTo>
                    <a:pt x="518" y="100"/>
                  </a:lnTo>
                  <a:lnTo>
                    <a:pt x="466" y="100"/>
                  </a:lnTo>
                  <a:lnTo>
                    <a:pt x="466" y="108"/>
                  </a:lnTo>
                  <a:lnTo>
                    <a:pt x="422" y="108"/>
                  </a:lnTo>
                  <a:lnTo>
                    <a:pt x="422" y="113"/>
                  </a:lnTo>
                  <a:lnTo>
                    <a:pt x="408" y="113"/>
                  </a:lnTo>
                  <a:lnTo>
                    <a:pt x="408" y="108"/>
                  </a:lnTo>
                  <a:lnTo>
                    <a:pt x="288" y="108"/>
                  </a:lnTo>
                  <a:lnTo>
                    <a:pt x="288" y="113"/>
                  </a:lnTo>
                  <a:lnTo>
                    <a:pt x="95" y="113"/>
                  </a:lnTo>
                  <a:lnTo>
                    <a:pt x="95" y="119"/>
                  </a:lnTo>
                  <a:lnTo>
                    <a:pt x="34" y="119"/>
                  </a:lnTo>
                  <a:lnTo>
                    <a:pt x="34" y="124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9" y="119"/>
                  </a:lnTo>
                  <a:lnTo>
                    <a:pt x="9" y="113"/>
                  </a:lnTo>
                  <a:lnTo>
                    <a:pt x="4" y="113"/>
                  </a:lnTo>
                  <a:lnTo>
                    <a:pt x="4" y="108"/>
                  </a:lnTo>
                  <a:lnTo>
                    <a:pt x="0" y="10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55720" y="2063880"/>
              <a:ext cx="288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00000" y="2660040"/>
              <a:ext cx="258120" cy="213840"/>
            </a:xfrm>
            <a:custGeom>
              <a:avLst/>
              <a:gdLst/>
              <a:ahLst/>
              <a:rect l="l" t="t" r="r" b="b"/>
              <a:pathLst>
                <a:path w="993" h="1093">
                  <a:moveTo>
                    <a:pt x="0" y="35"/>
                  </a:moveTo>
                  <a:lnTo>
                    <a:pt x="5" y="35"/>
                  </a:lnTo>
                  <a:lnTo>
                    <a:pt x="5" y="25"/>
                  </a:lnTo>
                  <a:lnTo>
                    <a:pt x="14" y="25"/>
                  </a:lnTo>
                  <a:lnTo>
                    <a:pt x="14" y="17"/>
                  </a:lnTo>
                  <a:lnTo>
                    <a:pt x="19" y="17"/>
                  </a:lnTo>
                  <a:lnTo>
                    <a:pt x="19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2" y="41"/>
                  </a:lnTo>
                  <a:lnTo>
                    <a:pt x="57" y="41"/>
                  </a:lnTo>
                  <a:lnTo>
                    <a:pt x="57" y="47"/>
                  </a:lnTo>
                  <a:lnTo>
                    <a:pt x="63" y="47"/>
                  </a:lnTo>
                  <a:lnTo>
                    <a:pt x="63" y="54"/>
                  </a:lnTo>
                  <a:lnTo>
                    <a:pt x="67" y="54"/>
                  </a:lnTo>
                  <a:lnTo>
                    <a:pt x="67" y="71"/>
                  </a:lnTo>
                  <a:lnTo>
                    <a:pt x="72" y="71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77" y="89"/>
                  </a:lnTo>
                  <a:lnTo>
                    <a:pt x="82" y="89"/>
                  </a:lnTo>
                  <a:lnTo>
                    <a:pt x="82" y="112"/>
                  </a:lnTo>
                  <a:lnTo>
                    <a:pt x="86" y="112"/>
                  </a:lnTo>
                  <a:lnTo>
                    <a:pt x="86" y="125"/>
                  </a:lnTo>
                  <a:lnTo>
                    <a:pt x="91" y="125"/>
                  </a:lnTo>
                  <a:lnTo>
                    <a:pt x="91" y="130"/>
                  </a:lnTo>
                  <a:lnTo>
                    <a:pt x="96" y="130"/>
                  </a:lnTo>
                  <a:lnTo>
                    <a:pt x="96" y="142"/>
                  </a:lnTo>
                  <a:lnTo>
                    <a:pt x="100" y="142"/>
                  </a:lnTo>
                  <a:lnTo>
                    <a:pt x="100" y="160"/>
                  </a:lnTo>
                  <a:lnTo>
                    <a:pt x="106" y="160"/>
                  </a:lnTo>
                  <a:lnTo>
                    <a:pt x="106" y="171"/>
                  </a:lnTo>
                  <a:lnTo>
                    <a:pt x="110" y="171"/>
                  </a:lnTo>
                  <a:lnTo>
                    <a:pt x="110" y="183"/>
                  </a:lnTo>
                  <a:lnTo>
                    <a:pt x="115" y="183"/>
                  </a:lnTo>
                  <a:lnTo>
                    <a:pt x="115" y="190"/>
                  </a:lnTo>
                  <a:lnTo>
                    <a:pt x="120" y="190"/>
                  </a:lnTo>
                  <a:lnTo>
                    <a:pt x="120" y="201"/>
                  </a:lnTo>
                  <a:lnTo>
                    <a:pt x="125" y="201"/>
                  </a:lnTo>
                  <a:lnTo>
                    <a:pt x="125" y="207"/>
                  </a:lnTo>
                  <a:lnTo>
                    <a:pt x="129" y="207"/>
                  </a:lnTo>
                  <a:lnTo>
                    <a:pt x="129" y="220"/>
                  </a:lnTo>
                  <a:lnTo>
                    <a:pt x="134" y="220"/>
                  </a:lnTo>
                  <a:lnTo>
                    <a:pt x="134" y="231"/>
                  </a:lnTo>
                  <a:lnTo>
                    <a:pt x="140" y="231"/>
                  </a:lnTo>
                  <a:lnTo>
                    <a:pt x="140" y="236"/>
                  </a:lnTo>
                  <a:lnTo>
                    <a:pt x="144" y="236"/>
                  </a:lnTo>
                  <a:lnTo>
                    <a:pt x="144" y="243"/>
                  </a:lnTo>
                  <a:lnTo>
                    <a:pt x="149" y="243"/>
                  </a:lnTo>
                  <a:lnTo>
                    <a:pt x="149" y="248"/>
                  </a:lnTo>
                  <a:lnTo>
                    <a:pt x="154" y="248"/>
                  </a:lnTo>
                  <a:lnTo>
                    <a:pt x="154" y="253"/>
                  </a:lnTo>
                  <a:lnTo>
                    <a:pt x="159" y="253"/>
                  </a:lnTo>
                  <a:lnTo>
                    <a:pt x="159" y="272"/>
                  </a:lnTo>
                  <a:lnTo>
                    <a:pt x="163" y="272"/>
                  </a:lnTo>
                  <a:lnTo>
                    <a:pt x="163" y="284"/>
                  </a:lnTo>
                  <a:lnTo>
                    <a:pt x="168" y="284"/>
                  </a:lnTo>
                  <a:lnTo>
                    <a:pt x="168" y="289"/>
                  </a:lnTo>
                  <a:lnTo>
                    <a:pt x="173" y="289"/>
                  </a:lnTo>
                  <a:lnTo>
                    <a:pt x="173" y="307"/>
                  </a:lnTo>
                  <a:lnTo>
                    <a:pt x="177" y="307"/>
                  </a:lnTo>
                  <a:lnTo>
                    <a:pt x="177" y="313"/>
                  </a:lnTo>
                  <a:lnTo>
                    <a:pt x="182" y="313"/>
                  </a:lnTo>
                  <a:lnTo>
                    <a:pt x="182" y="319"/>
                  </a:lnTo>
                  <a:lnTo>
                    <a:pt x="187" y="319"/>
                  </a:lnTo>
                  <a:lnTo>
                    <a:pt x="187" y="331"/>
                  </a:lnTo>
                  <a:lnTo>
                    <a:pt x="192" y="331"/>
                  </a:lnTo>
                  <a:lnTo>
                    <a:pt x="192" y="337"/>
                  </a:lnTo>
                  <a:lnTo>
                    <a:pt x="196" y="337"/>
                  </a:lnTo>
                  <a:lnTo>
                    <a:pt x="196" y="343"/>
                  </a:lnTo>
                  <a:lnTo>
                    <a:pt x="202" y="343"/>
                  </a:lnTo>
                  <a:lnTo>
                    <a:pt x="202" y="354"/>
                  </a:lnTo>
                  <a:lnTo>
                    <a:pt x="207" y="354"/>
                  </a:lnTo>
                  <a:lnTo>
                    <a:pt x="207" y="361"/>
                  </a:lnTo>
                  <a:lnTo>
                    <a:pt x="212" y="361"/>
                  </a:lnTo>
                  <a:lnTo>
                    <a:pt x="212" y="372"/>
                  </a:lnTo>
                  <a:lnTo>
                    <a:pt x="216" y="372"/>
                  </a:lnTo>
                  <a:lnTo>
                    <a:pt x="216" y="391"/>
                  </a:lnTo>
                  <a:lnTo>
                    <a:pt x="221" y="391"/>
                  </a:lnTo>
                  <a:lnTo>
                    <a:pt x="221" y="397"/>
                  </a:lnTo>
                  <a:lnTo>
                    <a:pt x="226" y="397"/>
                  </a:lnTo>
                  <a:lnTo>
                    <a:pt x="226" y="408"/>
                  </a:lnTo>
                  <a:lnTo>
                    <a:pt x="230" y="408"/>
                  </a:lnTo>
                  <a:lnTo>
                    <a:pt x="230" y="421"/>
                  </a:lnTo>
                  <a:lnTo>
                    <a:pt x="236" y="421"/>
                  </a:lnTo>
                  <a:lnTo>
                    <a:pt x="236" y="432"/>
                  </a:lnTo>
                  <a:lnTo>
                    <a:pt x="240" y="432"/>
                  </a:lnTo>
                  <a:lnTo>
                    <a:pt x="240" y="444"/>
                  </a:lnTo>
                  <a:lnTo>
                    <a:pt x="244" y="444"/>
                  </a:lnTo>
                  <a:lnTo>
                    <a:pt x="244" y="455"/>
                  </a:lnTo>
                  <a:lnTo>
                    <a:pt x="250" y="455"/>
                  </a:lnTo>
                  <a:lnTo>
                    <a:pt x="250" y="467"/>
                  </a:lnTo>
                  <a:lnTo>
                    <a:pt x="254" y="467"/>
                  </a:lnTo>
                  <a:lnTo>
                    <a:pt x="254" y="473"/>
                  </a:lnTo>
                  <a:lnTo>
                    <a:pt x="259" y="473"/>
                  </a:lnTo>
                  <a:lnTo>
                    <a:pt x="259" y="479"/>
                  </a:lnTo>
                  <a:lnTo>
                    <a:pt x="264" y="479"/>
                  </a:lnTo>
                  <a:lnTo>
                    <a:pt x="264" y="485"/>
                  </a:lnTo>
                  <a:lnTo>
                    <a:pt x="268" y="485"/>
                  </a:lnTo>
                  <a:lnTo>
                    <a:pt x="268" y="503"/>
                  </a:lnTo>
                  <a:lnTo>
                    <a:pt x="273" y="503"/>
                  </a:lnTo>
                  <a:lnTo>
                    <a:pt x="273" y="508"/>
                  </a:lnTo>
                  <a:lnTo>
                    <a:pt x="278" y="508"/>
                  </a:lnTo>
                  <a:lnTo>
                    <a:pt x="278" y="520"/>
                  </a:lnTo>
                  <a:lnTo>
                    <a:pt x="284" y="520"/>
                  </a:lnTo>
                  <a:lnTo>
                    <a:pt x="284" y="525"/>
                  </a:lnTo>
                  <a:lnTo>
                    <a:pt x="288" y="525"/>
                  </a:lnTo>
                  <a:lnTo>
                    <a:pt x="288" y="538"/>
                  </a:lnTo>
                  <a:lnTo>
                    <a:pt x="293" y="538"/>
                  </a:lnTo>
                  <a:lnTo>
                    <a:pt x="293" y="557"/>
                  </a:lnTo>
                  <a:lnTo>
                    <a:pt x="298" y="557"/>
                  </a:lnTo>
                  <a:lnTo>
                    <a:pt x="298" y="566"/>
                  </a:lnTo>
                  <a:lnTo>
                    <a:pt x="303" y="566"/>
                  </a:lnTo>
                  <a:lnTo>
                    <a:pt x="303" y="585"/>
                  </a:lnTo>
                  <a:lnTo>
                    <a:pt x="307" y="585"/>
                  </a:lnTo>
                  <a:lnTo>
                    <a:pt x="307" y="590"/>
                  </a:lnTo>
                  <a:lnTo>
                    <a:pt x="312" y="590"/>
                  </a:lnTo>
                  <a:lnTo>
                    <a:pt x="312" y="598"/>
                  </a:lnTo>
                  <a:lnTo>
                    <a:pt x="317" y="598"/>
                  </a:lnTo>
                  <a:lnTo>
                    <a:pt x="317" y="603"/>
                  </a:lnTo>
                  <a:lnTo>
                    <a:pt x="321" y="603"/>
                  </a:lnTo>
                  <a:lnTo>
                    <a:pt x="321" y="615"/>
                  </a:lnTo>
                  <a:lnTo>
                    <a:pt x="326" y="615"/>
                  </a:lnTo>
                  <a:lnTo>
                    <a:pt x="326" y="620"/>
                  </a:lnTo>
                  <a:lnTo>
                    <a:pt x="331" y="620"/>
                  </a:lnTo>
                  <a:lnTo>
                    <a:pt x="331" y="633"/>
                  </a:lnTo>
                  <a:lnTo>
                    <a:pt x="336" y="633"/>
                  </a:lnTo>
                  <a:lnTo>
                    <a:pt x="336" y="644"/>
                  </a:lnTo>
                  <a:lnTo>
                    <a:pt x="340" y="644"/>
                  </a:lnTo>
                  <a:lnTo>
                    <a:pt x="340" y="663"/>
                  </a:lnTo>
                  <a:lnTo>
                    <a:pt x="346" y="663"/>
                  </a:lnTo>
                  <a:lnTo>
                    <a:pt x="346" y="680"/>
                  </a:lnTo>
                  <a:lnTo>
                    <a:pt x="351" y="680"/>
                  </a:lnTo>
                  <a:lnTo>
                    <a:pt x="351" y="693"/>
                  </a:lnTo>
                  <a:lnTo>
                    <a:pt x="355" y="693"/>
                  </a:lnTo>
                  <a:lnTo>
                    <a:pt x="355" y="704"/>
                  </a:lnTo>
                  <a:lnTo>
                    <a:pt x="360" y="704"/>
                  </a:lnTo>
                  <a:lnTo>
                    <a:pt x="360" y="716"/>
                  </a:lnTo>
                  <a:lnTo>
                    <a:pt x="365" y="716"/>
                  </a:lnTo>
                  <a:lnTo>
                    <a:pt x="365" y="734"/>
                  </a:lnTo>
                  <a:lnTo>
                    <a:pt x="370" y="734"/>
                  </a:lnTo>
                  <a:lnTo>
                    <a:pt x="370" y="739"/>
                  </a:lnTo>
                  <a:lnTo>
                    <a:pt x="374" y="739"/>
                  </a:lnTo>
                  <a:lnTo>
                    <a:pt x="374" y="745"/>
                  </a:lnTo>
                  <a:lnTo>
                    <a:pt x="380" y="745"/>
                  </a:lnTo>
                  <a:lnTo>
                    <a:pt x="380" y="757"/>
                  </a:lnTo>
                  <a:lnTo>
                    <a:pt x="384" y="757"/>
                  </a:lnTo>
                  <a:lnTo>
                    <a:pt x="384" y="767"/>
                  </a:lnTo>
                  <a:lnTo>
                    <a:pt x="389" y="767"/>
                  </a:lnTo>
                  <a:lnTo>
                    <a:pt x="389" y="775"/>
                  </a:lnTo>
                  <a:lnTo>
                    <a:pt x="394" y="775"/>
                  </a:lnTo>
                  <a:lnTo>
                    <a:pt x="394" y="786"/>
                  </a:lnTo>
                  <a:lnTo>
                    <a:pt x="398" y="786"/>
                  </a:lnTo>
                  <a:lnTo>
                    <a:pt x="398" y="799"/>
                  </a:lnTo>
                  <a:lnTo>
                    <a:pt x="403" y="799"/>
                  </a:lnTo>
                  <a:lnTo>
                    <a:pt x="403" y="810"/>
                  </a:lnTo>
                  <a:lnTo>
                    <a:pt x="408" y="810"/>
                  </a:lnTo>
                  <a:lnTo>
                    <a:pt x="408" y="816"/>
                  </a:lnTo>
                  <a:lnTo>
                    <a:pt x="413" y="816"/>
                  </a:lnTo>
                  <a:lnTo>
                    <a:pt x="413" y="821"/>
                  </a:lnTo>
                  <a:lnTo>
                    <a:pt x="417" y="821"/>
                  </a:lnTo>
                  <a:lnTo>
                    <a:pt x="417" y="834"/>
                  </a:lnTo>
                  <a:lnTo>
                    <a:pt x="423" y="834"/>
                  </a:lnTo>
                  <a:lnTo>
                    <a:pt x="423" y="845"/>
                  </a:lnTo>
                  <a:lnTo>
                    <a:pt x="428" y="845"/>
                  </a:lnTo>
                  <a:lnTo>
                    <a:pt x="428" y="857"/>
                  </a:lnTo>
                  <a:lnTo>
                    <a:pt x="432" y="857"/>
                  </a:lnTo>
                  <a:lnTo>
                    <a:pt x="432" y="863"/>
                  </a:lnTo>
                  <a:lnTo>
                    <a:pt x="437" y="863"/>
                  </a:lnTo>
                  <a:lnTo>
                    <a:pt x="437" y="870"/>
                  </a:lnTo>
                  <a:lnTo>
                    <a:pt x="442" y="870"/>
                  </a:lnTo>
                  <a:lnTo>
                    <a:pt x="442" y="893"/>
                  </a:lnTo>
                  <a:lnTo>
                    <a:pt x="447" y="893"/>
                  </a:lnTo>
                  <a:lnTo>
                    <a:pt x="447" y="905"/>
                  </a:lnTo>
                  <a:lnTo>
                    <a:pt x="451" y="905"/>
                  </a:lnTo>
                  <a:lnTo>
                    <a:pt x="451" y="911"/>
                  </a:lnTo>
                  <a:lnTo>
                    <a:pt x="456" y="911"/>
                  </a:lnTo>
                  <a:lnTo>
                    <a:pt x="456" y="917"/>
                  </a:lnTo>
                  <a:lnTo>
                    <a:pt x="461" y="917"/>
                  </a:lnTo>
                  <a:lnTo>
                    <a:pt x="461" y="922"/>
                  </a:lnTo>
                  <a:lnTo>
                    <a:pt x="466" y="922"/>
                  </a:lnTo>
                  <a:lnTo>
                    <a:pt x="466" y="928"/>
                  </a:lnTo>
                  <a:lnTo>
                    <a:pt x="470" y="928"/>
                  </a:lnTo>
                  <a:lnTo>
                    <a:pt x="470" y="940"/>
                  </a:lnTo>
                  <a:lnTo>
                    <a:pt x="475" y="940"/>
                  </a:lnTo>
                  <a:lnTo>
                    <a:pt x="475" y="952"/>
                  </a:lnTo>
                  <a:lnTo>
                    <a:pt x="480" y="952"/>
                  </a:lnTo>
                  <a:lnTo>
                    <a:pt x="480" y="957"/>
                  </a:lnTo>
                  <a:lnTo>
                    <a:pt x="484" y="957"/>
                  </a:lnTo>
                  <a:lnTo>
                    <a:pt x="484" y="976"/>
                  </a:lnTo>
                  <a:lnTo>
                    <a:pt x="490" y="976"/>
                  </a:lnTo>
                  <a:lnTo>
                    <a:pt x="490" y="987"/>
                  </a:lnTo>
                  <a:lnTo>
                    <a:pt x="495" y="987"/>
                  </a:lnTo>
                  <a:lnTo>
                    <a:pt x="495" y="993"/>
                  </a:lnTo>
                  <a:lnTo>
                    <a:pt x="500" y="993"/>
                  </a:lnTo>
                  <a:lnTo>
                    <a:pt x="500" y="998"/>
                  </a:lnTo>
                  <a:lnTo>
                    <a:pt x="510" y="998"/>
                  </a:lnTo>
                  <a:lnTo>
                    <a:pt x="510" y="993"/>
                  </a:lnTo>
                  <a:lnTo>
                    <a:pt x="514" y="993"/>
                  </a:lnTo>
                  <a:lnTo>
                    <a:pt x="514" y="987"/>
                  </a:lnTo>
                  <a:lnTo>
                    <a:pt x="524" y="987"/>
                  </a:lnTo>
                  <a:lnTo>
                    <a:pt x="524" y="981"/>
                  </a:lnTo>
                  <a:lnTo>
                    <a:pt x="528" y="981"/>
                  </a:lnTo>
                  <a:lnTo>
                    <a:pt x="528" y="970"/>
                  </a:lnTo>
                  <a:lnTo>
                    <a:pt x="533" y="970"/>
                  </a:lnTo>
                  <a:lnTo>
                    <a:pt x="533" y="963"/>
                  </a:lnTo>
                  <a:lnTo>
                    <a:pt x="538" y="963"/>
                  </a:lnTo>
                  <a:lnTo>
                    <a:pt x="538" y="957"/>
                  </a:lnTo>
                  <a:lnTo>
                    <a:pt x="543" y="957"/>
                  </a:lnTo>
                  <a:lnTo>
                    <a:pt x="543" y="952"/>
                  </a:lnTo>
                  <a:lnTo>
                    <a:pt x="547" y="952"/>
                  </a:lnTo>
                  <a:lnTo>
                    <a:pt x="547" y="946"/>
                  </a:lnTo>
                  <a:lnTo>
                    <a:pt x="552" y="946"/>
                  </a:lnTo>
                  <a:lnTo>
                    <a:pt x="552" y="940"/>
                  </a:lnTo>
                  <a:lnTo>
                    <a:pt x="557" y="940"/>
                  </a:lnTo>
                  <a:lnTo>
                    <a:pt x="557" y="935"/>
                  </a:lnTo>
                  <a:lnTo>
                    <a:pt x="567" y="935"/>
                  </a:lnTo>
                  <a:lnTo>
                    <a:pt x="567" y="922"/>
                  </a:lnTo>
                  <a:lnTo>
                    <a:pt x="572" y="922"/>
                  </a:lnTo>
                  <a:lnTo>
                    <a:pt x="572" y="917"/>
                  </a:lnTo>
                  <a:lnTo>
                    <a:pt x="577" y="917"/>
                  </a:lnTo>
                  <a:lnTo>
                    <a:pt x="577" y="911"/>
                  </a:lnTo>
                  <a:lnTo>
                    <a:pt x="581" y="911"/>
                  </a:lnTo>
                  <a:lnTo>
                    <a:pt x="581" y="905"/>
                  </a:lnTo>
                  <a:lnTo>
                    <a:pt x="586" y="905"/>
                  </a:lnTo>
                  <a:lnTo>
                    <a:pt x="586" y="898"/>
                  </a:lnTo>
                  <a:lnTo>
                    <a:pt x="595" y="898"/>
                  </a:lnTo>
                  <a:lnTo>
                    <a:pt x="595" y="893"/>
                  </a:lnTo>
                  <a:lnTo>
                    <a:pt x="605" y="893"/>
                  </a:lnTo>
                  <a:lnTo>
                    <a:pt x="605" y="886"/>
                  </a:lnTo>
                  <a:lnTo>
                    <a:pt x="609" y="886"/>
                  </a:lnTo>
                  <a:lnTo>
                    <a:pt x="609" y="881"/>
                  </a:lnTo>
                  <a:lnTo>
                    <a:pt x="614" y="881"/>
                  </a:lnTo>
                  <a:lnTo>
                    <a:pt x="614" y="875"/>
                  </a:lnTo>
                  <a:lnTo>
                    <a:pt x="619" y="875"/>
                  </a:lnTo>
                  <a:lnTo>
                    <a:pt x="619" y="870"/>
                  </a:lnTo>
                  <a:lnTo>
                    <a:pt x="624" y="870"/>
                  </a:lnTo>
                  <a:lnTo>
                    <a:pt x="624" y="857"/>
                  </a:lnTo>
                  <a:lnTo>
                    <a:pt x="628" y="857"/>
                  </a:lnTo>
                  <a:lnTo>
                    <a:pt x="628" y="852"/>
                  </a:lnTo>
                  <a:lnTo>
                    <a:pt x="639" y="852"/>
                  </a:lnTo>
                  <a:lnTo>
                    <a:pt x="639" y="840"/>
                  </a:lnTo>
                  <a:lnTo>
                    <a:pt x="644" y="840"/>
                  </a:lnTo>
                  <a:lnTo>
                    <a:pt x="644" y="834"/>
                  </a:lnTo>
                  <a:lnTo>
                    <a:pt x="649" y="834"/>
                  </a:lnTo>
                  <a:lnTo>
                    <a:pt x="649" y="827"/>
                  </a:lnTo>
                  <a:lnTo>
                    <a:pt x="653" y="827"/>
                  </a:lnTo>
                  <a:lnTo>
                    <a:pt x="653" y="821"/>
                  </a:lnTo>
                  <a:lnTo>
                    <a:pt x="658" y="821"/>
                  </a:lnTo>
                  <a:lnTo>
                    <a:pt x="658" y="816"/>
                  </a:lnTo>
                  <a:lnTo>
                    <a:pt x="662" y="816"/>
                  </a:lnTo>
                  <a:lnTo>
                    <a:pt x="662" y="810"/>
                  </a:lnTo>
                  <a:lnTo>
                    <a:pt x="668" y="810"/>
                  </a:lnTo>
                  <a:lnTo>
                    <a:pt x="668" y="799"/>
                  </a:lnTo>
                  <a:lnTo>
                    <a:pt x="672" y="799"/>
                  </a:lnTo>
                  <a:lnTo>
                    <a:pt x="672" y="792"/>
                  </a:lnTo>
                  <a:lnTo>
                    <a:pt x="677" y="792"/>
                  </a:lnTo>
                  <a:lnTo>
                    <a:pt x="677" y="786"/>
                  </a:lnTo>
                  <a:lnTo>
                    <a:pt x="682" y="786"/>
                  </a:lnTo>
                  <a:lnTo>
                    <a:pt x="682" y="780"/>
                  </a:lnTo>
                  <a:lnTo>
                    <a:pt x="687" y="780"/>
                  </a:lnTo>
                  <a:lnTo>
                    <a:pt x="687" y="775"/>
                  </a:lnTo>
                  <a:lnTo>
                    <a:pt x="691" y="775"/>
                  </a:lnTo>
                  <a:lnTo>
                    <a:pt x="691" y="767"/>
                  </a:lnTo>
                  <a:lnTo>
                    <a:pt x="696" y="767"/>
                  </a:lnTo>
                  <a:lnTo>
                    <a:pt x="696" y="757"/>
                  </a:lnTo>
                  <a:lnTo>
                    <a:pt x="701" y="757"/>
                  </a:lnTo>
                  <a:lnTo>
                    <a:pt x="701" y="745"/>
                  </a:lnTo>
                  <a:lnTo>
                    <a:pt x="705" y="745"/>
                  </a:lnTo>
                  <a:lnTo>
                    <a:pt x="705" y="739"/>
                  </a:lnTo>
                  <a:lnTo>
                    <a:pt x="711" y="739"/>
                  </a:lnTo>
                  <a:lnTo>
                    <a:pt x="711" y="734"/>
                  </a:lnTo>
                  <a:lnTo>
                    <a:pt x="716" y="734"/>
                  </a:lnTo>
                  <a:lnTo>
                    <a:pt x="716" y="726"/>
                  </a:lnTo>
                  <a:lnTo>
                    <a:pt x="721" y="726"/>
                  </a:lnTo>
                  <a:lnTo>
                    <a:pt x="721" y="721"/>
                  </a:lnTo>
                  <a:lnTo>
                    <a:pt x="731" y="721"/>
                  </a:lnTo>
                  <a:lnTo>
                    <a:pt x="731" y="716"/>
                  </a:lnTo>
                  <a:lnTo>
                    <a:pt x="735" y="716"/>
                  </a:lnTo>
                  <a:lnTo>
                    <a:pt x="735" y="709"/>
                  </a:lnTo>
                  <a:lnTo>
                    <a:pt x="739" y="709"/>
                  </a:lnTo>
                  <a:lnTo>
                    <a:pt x="739" y="698"/>
                  </a:lnTo>
                  <a:lnTo>
                    <a:pt x="744" y="698"/>
                  </a:lnTo>
                  <a:lnTo>
                    <a:pt x="744" y="693"/>
                  </a:lnTo>
                  <a:lnTo>
                    <a:pt x="749" y="693"/>
                  </a:lnTo>
                  <a:lnTo>
                    <a:pt x="749" y="680"/>
                  </a:lnTo>
                  <a:lnTo>
                    <a:pt x="754" y="680"/>
                  </a:lnTo>
                  <a:lnTo>
                    <a:pt x="754" y="674"/>
                  </a:lnTo>
                  <a:lnTo>
                    <a:pt x="758" y="674"/>
                  </a:lnTo>
                  <a:lnTo>
                    <a:pt x="758" y="668"/>
                  </a:lnTo>
                  <a:lnTo>
                    <a:pt x="764" y="668"/>
                  </a:lnTo>
                  <a:lnTo>
                    <a:pt x="764" y="663"/>
                  </a:lnTo>
                  <a:lnTo>
                    <a:pt x="768" y="663"/>
                  </a:lnTo>
                  <a:lnTo>
                    <a:pt x="768" y="650"/>
                  </a:lnTo>
                  <a:lnTo>
                    <a:pt x="772" y="650"/>
                  </a:lnTo>
                  <a:lnTo>
                    <a:pt x="772" y="644"/>
                  </a:lnTo>
                  <a:lnTo>
                    <a:pt x="778" y="644"/>
                  </a:lnTo>
                  <a:lnTo>
                    <a:pt x="778" y="639"/>
                  </a:lnTo>
                  <a:lnTo>
                    <a:pt x="782" y="639"/>
                  </a:lnTo>
                  <a:lnTo>
                    <a:pt x="782" y="633"/>
                  </a:lnTo>
                  <a:lnTo>
                    <a:pt x="788" y="633"/>
                  </a:lnTo>
                  <a:lnTo>
                    <a:pt x="788" y="620"/>
                  </a:lnTo>
                  <a:lnTo>
                    <a:pt x="793" y="620"/>
                  </a:lnTo>
                  <a:lnTo>
                    <a:pt x="793" y="609"/>
                  </a:lnTo>
                  <a:lnTo>
                    <a:pt x="798" y="609"/>
                  </a:lnTo>
                  <a:lnTo>
                    <a:pt x="798" y="598"/>
                  </a:lnTo>
                  <a:lnTo>
                    <a:pt x="802" y="598"/>
                  </a:lnTo>
                  <a:lnTo>
                    <a:pt x="802" y="585"/>
                  </a:lnTo>
                  <a:lnTo>
                    <a:pt x="807" y="585"/>
                  </a:lnTo>
                  <a:lnTo>
                    <a:pt x="807" y="574"/>
                  </a:lnTo>
                  <a:lnTo>
                    <a:pt x="812" y="574"/>
                  </a:lnTo>
                  <a:lnTo>
                    <a:pt x="812" y="566"/>
                  </a:lnTo>
                  <a:lnTo>
                    <a:pt x="816" y="566"/>
                  </a:lnTo>
                  <a:lnTo>
                    <a:pt x="816" y="557"/>
                  </a:lnTo>
                  <a:lnTo>
                    <a:pt x="821" y="557"/>
                  </a:lnTo>
                  <a:lnTo>
                    <a:pt x="821" y="549"/>
                  </a:lnTo>
                  <a:lnTo>
                    <a:pt x="826" y="549"/>
                  </a:lnTo>
                  <a:lnTo>
                    <a:pt x="826" y="538"/>
                  </a:lnTo>
                  <a:lnTo>
                    <a:pt x="831" y="538"/>
                  </a:lnTo>
                  <a:lnTo>
                    <a:pt x="831" y="525"/>
                  </a:lnTo>
                  <a:lnTo>
                    <a:pt x="835" y="525"/>
                  </a:lnTo>
                  <a:lnTo>
                    <a:pt x="835" y="520"/>
                  </a:lnTo>
                  <a:lnTo>
                    <a:pt x="840" y="520"/>
                  </a:lnTo>
                  <a:lnTo>
                    <a:pt x="840" y="514"/>
                  </a:lnTo>
                  <a:lnTo>
                    <a:pt x="845" y="514"/>
                  </a:lnTo>
                  <a:lnTo>
                    <a:pt x="845" y="508"/>
                  </a:lnTo>
                  <a:lnTo>
                    <a:pt x="850" y="508"/>
                  </a:lnTo>
                  <a:lnTo>
                    <a:pt x="850" y="490"/>
                  </a:lnTo>
                  <a:lnTo>
                    <a:pt x="854" y="490"/>
                  </a:lnTo>
                  <a:lnTo>
                    <a:pt x="854" y="479"/>
                  </a:lnTo>
                  <a:lnTo>
                    <a:pt x="860" y="479"/>
                  </a:lnTo>
                  <a:lnTo>
                    <a:pt x="860" y="473"/>
                  </a:lnTo>
                  <a:lnTo>
                    <a:pt x="865" y="473"/>
                  </a:lnTo>
                  <a:lnTo>
                    <a:pt x="865" y="467"/>
                  </a:lnTo>
                  <a:lnTo>
                    <a:pt x="869" y="467"/>
                  </a:lnTo>
                  <a:lnTo>
                    <a:pt x="869" y="449"/>
                  </a:lnTo>
                  <a:lnTo>
                    <a:pt x="875" y="449"/>
                  </a:lnTo>
                  <a:lnTo>
                    <a:pt x="875" y="444"/>
                  </a:lnTo>
                  <a:lnTo>
                    <a:pt x="879" y="444"/>
                  </a:lnTo>
                  <a:lnTo>
                    <a:pt x="879" y="438"/>
                  </a:lnTo>
                  <a:lnTo>
                    <a:pt x="884" y="438"/>
                  </a:lnTo>
                  <a:lnTo>
                    <a:pt x="884" y="425"/>
                  </a:lnTo>
                  <a:lnTo>
                    <a:pt x="889" y="425"/>
                  </a:lnTo>
                  <a:lnTo>
                    <a:pt x="889" y="421"/>
                  </a:lnTo>
                  <a:lnTo>
                    <a:pt x="894" y="421"/>
                  </a:lnTo>
                  <a:lnTo>
                    <a:pt x="894" y="402"/>
                  </a:lnTo>
                  <a:lnTo>
                    <a:pt x="898" y="402"/>
                  </a:lnTo>
                  <a:lnTo>
                    <a:pt x="898" y="391"/>
                  </a:lnTo>
                  <a:lnTo>
                    <a:pt x="902" y="391"/>
                  </a:lnTo>
                  <a:lnTo>
                    <a:pt x="902" y="379"/>
                  </a:lnTo>
                  <a:lnTo>
                    <a:pt x="908" y="379"/>
                  </a:lnTo>
                  <a:lnTo>
                    <a:pt x="908" y="361"/>
                  </a:lnTo>
                  <a:lnTo>
                    <a:pt x="912" y="361"/>
                  </a:lnTo>
                  <a:lnTo>
                    <a:pt x="912" y="349"/>
                  </a:lnTo>
                  <a:lnTo>
                    <a:pt x="917" y="349"/>
                  </a:lnTo>
                  <a:lnTo>
                    <a:pt x="917" y="326"/>
                  </a:lnTo>
                  <a:lnTo>
                    <a:pt x="922" y="326"/>
                  </a:lnTo>
                  <a:lnTo>
                    <a:pt x="922" y="313"/>
                  </a:lnTo>
                  <a:lnTo>
                    <a:pt x="926" y="313"/>
                  </a:lnTo>
                  <a:lnTo>
                    <a:pt x="926" y="307"/>
                  </a:lnTo>
                  <a:lnTo>
                    <a:pt x="932" y="307"/>
                  </a:lnTo>
                  <a:lnTo>
                    <a:pt x="932" y="289"/>
                  </a:lnTo>
                  <a:lnTo>
                    <a:pt x="937" y="289"/>
                  </a:lnTo>
                  <a:lnTo>
                    <a:pt x="937" y="266"/>
                  </a:lnTo>
                  <a:lnTo>
                    <a:pt x="946" y="266"/>
                  </a:lnTo>
                  <a:lnTo>
                    <a:pt x="946" y="261"/>
                  </a:lnTo>
                  <a:lnTo>
                    <a:pt x="950" y="261"/>
                  </a:lnTo>
                  <a:lnTo>
                    <a:pt x="950" y="253"/>
                  </a:lnTo>
                  <a:lnTo>
                    <a:pt x="975" y="253"/>
                  </a:lnTo>
                  <a:lnTo>
                    <a:pt x="975" y="248"/>
                  </a:lnTo>
                  <a:lnTo>
                    <a:pt x="984" y="248"/>
                  </a:lnTo>
                  <a:lnTo>
                    <a:pt x="984" y="261"/>
                  </a:lnTo>
                  <a:lnTo>
                    <a:pt x="989" y="261"/>
                  </a:lnTo>
                  <a:lnTo>
                    <a:pt x="989" y="284"/>
                  </a:lnTo>
                  <a:lnTo>
                    <a:pt x="993" y="284"/>
                  </a:lnTo>
                  <a:lnTo>
                    <a:pt x="993" y="296"/>
                  </a:lnTo>
                  <a:lnTo>
                    <a:pt x="989" y="296"/>
                  </a:lnTo>
                  <a:lnTo>
                    <a:pt x="989" y="307"/>
                  </a:lnTo>
                  <a:lnTo>
                    <a:pt x="984" y="307"/>
                  </a:lnTo>
                  <a:lnTo>
                    <a:pt x="984" y="313"/>
                  </a:lnTo>
                  <a:lnTo>
                    <a:pt x="979" y="313"/>
                  </a:lnTo>
                  <a:lnTo>
                    <a:pt x="979" y="331"/>
                  </a:lnTo>
                  <a:lnTo>
                    <a:pt x="975" y="331"/>
                  </a:lnTo>
                  <a:lnTo>
                    <a:pt x="975" y="343"/>
                  </a:lnTo>
                  <a:lnTo>
                    <a:pt x="970" y="343"/>
                  </a:lnTo>
                  <a:lnTo>
                    <a:pt x="970" y="361"/>
                  </a:lnTo>
                  <a:lnTo>
                    <a:pt x="965" y="361"/>
                  </a:lnTo>
                  <a:lnTo>
                    <a:pt x="965" y="367"/>
                  </a:lnTo>
                  <a:lnTo>
                    <a:pt x="960" y="367"/>
                  </a:lnTo>
                  <a:lnTo>
                    <a:pt x="960" y="379"/>
                  </a:lnTo>
                  <a:lnTo>
                    <a:pt x="956" y="379"/>
                  </a:lnTo>
                  <a:lnTo>
                    <a:pt x="956" y="391"/>
                  </a:lnTo>
                  <a:lnTo>
                    <a:pt x="950" y="391"/>
                  </a:lnTo>
                  <a:lnTo>
                    <a:pt x="950" y="402"/>
                  </a:lnTo>
                  <a:lnTo>
                    <a:pt x="946" y="402"/>
                  </a:lnTo>
                  <a:lnTo>
                    <a:pt x="946" y="413"/>
                  </a:lnTo>
                  <a:lnTo>
                    <a:pt x="942" y="413"/>
                  </a:lnTo>
                  <a:lnTo>
                    <a:pt x="942" y="425"/>
                  </a:lnTo>
                  <a:lnTo>
                    <a:pt x="937" y="425"/>
                  </a:lnTo>
                  <a:lnTo>
                    <a:pt x="937" y="438"/>
                  </a:lnTo>
                  <a:lnTo>
                    <a:pt x="932" y="438"/>
                  </a:lnTo>
                  <a:lnTo>
                    <a:pt x="932" y="449"/>
                  </a:lnTo>
                  <a:lnTo>
                    <a:pt x="926" y="449"/>
                  </a:lnTo>
                  <a:lnTo>
                    <a:pt x="926" y="455"/>
                  </a:lnTo>
                  <a:lnTo>
                    <a:pt x="922" y="455"/>
                  </a:lnTo>
                  <a:lnTo>
                    <a:pt x="922" y="467"/>
                  </a:lnTo>
                  <a:lnTo>
                    <a:pt x="917" y="467"/>
                  </a:lnTo>
                  <a:lnTo>
                    <a:pt x="917" y="485"/>
                  </a:lnTo>
                  <a:lnTo>
                    <a:pt x="912" y="485"/>
                  </a:lnTo>
                  <a:lnTo>
                    <a:pt x="912" y="498"/>
                  </a:lnTo>
                  <a:lnTo>
                    <a:pt x="908" y="498"/>
                  </a:lnTo>
                  <a:lnTo>
                    <a:pt x="908" y="508"/>
                  </a:lnTo>
                  <a:lnTo>
                    <a:pt x="902" y="508"/>
                  </a:lnTo>
                  <a:lnTo>
                    <a:pt x="902" y="520"/>
                  </a:lnTo>
                  <a:lnTo>
                    <a:pt x="898" y="520"/>
                  </a:lnTo>
                  <a:lnTo>
                    <a:pt x="898" y="525"/>
                  </a:lnTo>
                  <a:lnTo>
                    <a:pt x="894" y="525"/>
                  </a:lnTo>
                  <a:lnTo>
                    <a:pt x="894" y="532"/>
                  </a:lnTo>
                  <a:lnTo>
                    <a:pt x="889" y="532"/>
                  </a:lnTo>
                  <a:lnTo>
                    <a:pt x="889" y="538"/>
                  </a:lnTo>
                  <a:lnTo>
                    <a:pt x="884" y="538"/>
                  </a:lnTo>
                  <a:lnTo>
                    <a:pt x="884" y="544"/>
                  </a:lnTo>
                  <a:lnTo>
                    <a:pt x="879" y="544"/>
                  </a:lnTo>
                  <a:lnTo>
                    <a:pt x="879" y="557"/>
                  </a:lnTo>
                  <a:lnTo>
                    <a:pt x="875" y="557"/>
                  </a:lnTo>
                  <a:lnTo>
                    <a:pt x="875" y="562"/>
                  </a:lnTo>
                  <a:lnTo>
                    <a:pt x="869" y="562"/>
                  </a:lnTo>
                  <a:lnTo>
                    <a:pt x="869" y="574"/>
                  </a:lnTo>
                  <a:lnTo>
                    <a:pt x="865" y="574"/>
                  </a:lnTo>
                  <a:lnTo>
                    <a:pt x="865" y="585"/>
                  </a:lnTo>
                  <a:lnTo>
                    <a:pt x="860" y="585"/>
                  </a:lnTo>
                  <a:lnTo>
                    <a:pt x="860" y="598"/>
                  </a:lnTo>
                  <a:lnTo>
                    <a:pt x="854" y="598"/>
                  </a:lnTo>
                  <a:lnTo>
                    <a:pt x="854" y="603"/>
                  </a:lnTo>
                  <a:lnTo>
                    <a:pt x="850" y="603"/>
                  </a:lnTo>
                  <a:lnTo>
                    <a:pt x="850" y="620"/>
                  </a:lnTo>
                  <a:lnTo>
                    <a:pt x="845" y="620"/>
                  </a:lnTo>
                  <a:lnTo>
                    <a:pt x="845" y="633"/>
                  </a:lnTo>
                  <a:lnTo>
                    <a:pt x="840" y="633"/>
                  </a:lnTo>
                  <a:lnTo>
                    <a:pt x="840" y="639"/>
                  </a:lnTo>
                  <a:lnTo>
                    <a:pt x="831" y="639"/>
                  </a:lnTo>
                  <a:lnTo>
                    <a:pt x="831" y="644"/>
                  </a:lnTo>
                  <a:lnTo>
                    <a:pt x="826" y="644"/>
                  </a:lnTo>
                  <a:lnTo>
                    <a:pt x="826" y="656"/>
                  </a:lnTo>
                  <a:lnTo>
                    <a:pt x="821" y="656"/>
                  </a:lnTo>
                  <a:lnTo>
                    <a:pt x="821" y="663"/>
                  </a:lnTo>
                  <a:lnTo>
                    <a:pt x="816" y="663"/>
                  </a:lnTo>
                  <a:lnTo>
                    <a:pt x="816" y="674"/>
                  </a:lnTo>
                  <a:lnTo>
                    <a:pt x="812" y="674"/>
                  </a:lnTo>
                  <a:lnTo>
                    <a:pt x="812" y="680"/>
                  </a:lnTo>
                  <a:lnTo>
                    <a:pt x="807" y="680"/>
                  </a:lnTo>
                  <a:lnTo>
                    <a:pt x="807" y="693"/>
                  </a:lnTo>
                  <a:lnTo>
                    <a:pt x="802" y="693"/>
                  </a:lnTo>
                  <a:lnTo>
                    <a:pt x="802" y="704"/>
                  </a:lnTo>
                  <a:lnTo>
                    <a:pt x="798" y="704"/>
                  </a:lnTo>
                  <a:lnTo>
                    <a:pt x="798" y="709"/>
                  </a:lnTo>
                  <a:lnTo>
                    <a:pt x="793" y="709"/>
                  </a:lnTo>
                  <a:lnTo>
                    <a:pt x="793" y="721"/>
                  </a:lnTo>
                  <a:lnTo>
                    <a:pt x="788" y="721"/>
                  </a:lnTo>
                  <a:lnTo>
                    <a:pt x="788" y="734"/>
                  </a:lnTo>
                  <a:lnTo>
                    <a:pt x="782" y="734"/>
                  </a:lnTo>
                  <a:lnTo>
                    <a:pt x="782" y="739"/>
                  </a:lnTo>
                  <a:lnTo>
                    <a:pt x="778" y="739"/>
                  </a:lnTo>
                  <a:lnTo>
                    <a:pt x="778" y="745"/>
                  </a:lnTo>
                  <a:lnTo>
                    <a:pt x="772" y="745"/>
                  </a:lnTo>
                  <a:lnTo>
                    <a:pt x="772" y="757"/>
                  </a:lnTo>
                  <a:lnTo>
                    <a:pt x="768" y="757"/>
                  </a:lnTo>
                  <a:lnTo>
                    <a:pt x="768" y="762"/>
                  </a:lnTo>
                  <a:lnTo>
                    <a:pt x="764" y="762"/>
                  </a:lnTo>
                  <a:lnTo>
                    <a:pt x="764" y="767"/>
                  </a:lnTo>
                  <a:lnTo>
                    <a:pt x="758" y="767"/>
                  </a:lnTo>
                  <a:lnTo>
                    <a:pt x="758" y="775"/>
                  </a:lnTo>
                  <a:lnTo>
                    <a:pt x="754" y="775"/>
                  </a:lnTo>
                  <a:lnTo>
                    <a:pt x="754" y="780"/>
                  </a:lnTo>
                  <a:lnTo>
                    <a:pt x="749" y="780"/>
                  </a:lnTo>
                  <a:lnTo>
                    <a:pt x="749" y="792"/>
                  </a:lnTo>
                  <a:lnTo>
                    <a:pt x="744" y="792"/>
                  </a:lnTo>
                  <a:lnTo>
                    <a:pt x="744" y="799"/>
                  </a:lnTo>
                  <a:lnTo>
                    <a:pt x="739" y="799"/>
                  </a:lnTo>
                  <a:lnTo>
                    <a:pt x="739" y="804"/>
                  </a:lnTo>
                  <a:lnTo>
                    <a:pt x="735" y="804"/>
                  </a:lnTo>
                  <a:lnTo>
                    <a:pt x="735" y="810"/>
                  </a:lnTo>
                  <a:lnTo>
                    <a:pt x="731" y="810"/>
                  </a:lnTo>
                  <a:lnTo>
                    <a:pt x="731" y="816"/>
                  </a:lnTo>
                  <a:lnTo>
                    <a:pt x="725" y="816"/>
                  </a:lnTo>
                  <a:lnTo>
                    <a:pt x="725" y="821"/>
                  </a:lnTo>
                  <a:lnTo>
                    <a:pt x="721" y="821"/>
                  </a:lnTo>
                  <a:lnTo>
                    <a:pt x="721" y="827"/>
                  </a:lnTo>
                  <a:lnTo>
                    <a:pt x="716" y="827"/>
                  </a:lnTo>
                  <a:lnTo>
                    <a:pt x="716" y="834"/>
                  </a:lnTo>
                  <a:lnTo>
                    <a:pt x="711" y="834"/>
                  </a:lnTo>
                  <a:lnTo>
                    <a:pt x="711" y="840"/>
                  </a:lnTo>
                  <a:lnTo>
                    <a:pt x="705" y="840"/>
                  </a:lnTo>
                  <a:lnTo>
                    <a:pt x="705" y="845"/>
                  </a:lnTo>
                  <a:lnTo>
                    <a:pt x="701" y="845"/>
                  </a:lnTo>
                  <a:lnTo>
                    <a:pt x="701" y="857"/>
                  </a:lnTo>
                  <a:lnTo>
                    <a:pt x="696" y="857"/>
                  </a:lnTo>
                  <a:lnTo>
                    <a:pt x="696" y="863"/>
                  </a:lnTo>
                  <a:lnTo>
                    <a:pt x="691" y="863"/>
                  </a:lnTo>
                  <a:lnTo>
                    <a:pt x="691" y="870"/>
                  </a:lnTo>
                  <a:lnTo>
                    <a:pt x="687" y="870"/>
                  </a:lnTo>
                  <a:lnTo>
                    <a:pt x="687" y="875"/>
                  </a:lnTo>
                  <a:lnTo>
                    <a:pt x="682" y="875"/>
                  </a:lnTo>
                  <a:lnTo>
                    <a:pt x="682" y="881"/>
                  </a:lnTo>
                  <a:lnTo>
                    <a:pt x="677" y="881"/>
                  </a:lnTo>
                  <a:lnTo>
                    <a:pt x="677" y="886"/>
                  </a:lnTo>
                  <a:lnTo>
                    <a:pt x="672" y="886"/>
                  </a:lnTo>
                  <a:lnTo>
                    <a:pt x="672" y="893"/>
                  </a:lnTo>
                  <a:lnTo>
                    <a:pt x="668" y="893"/>
                  </a:lnTo>
                  <a:lnTo>
                    <a:pt x="668" y="898"/>
                  </a:lnTo>
                  <a:lnTo>
                    <a:pt x="662" y="898"/>
                  </a:lnTo>
                  <a:lnTo>
                    <a:pt x="662" y="905"/>
                  </a:lnTo>
                  <a:lnTo>
                    <a:pt x="658" y="905"/>
                  </a:lnTo>
                  <a:lnTo>
                    <a:pt x="658" y="911"/>
                  </a:lnTo>
                  <a:lnTo>
                    <a:pt x="653" y="911"/>
                  </a:lnTo>
                  <a:lnTo>
                    <a:pt x="653" y="917"/>
                  </a:lnTo>
                  <a:lnTo>
                    <a:pt x="649" y="917"/>
                  </a:lnTo>
                  <a:lnTo>
                    <a:pt x="649" y="922"/>
                  </a:lnTo>
                  <a:lnTo>
                    <a:pt x="644" y="922"/>
                  </a:lnTo>
                  <a:lnTo>
                    <a:pt x="644" y="928"/>
                  </a:lnTo>
                  <a:lnTo>
                    <a:pt x="639" y="928"/>
                  </a:lnTo>
                  <a:lnTo>
                    <a:pt x="639" y="940"/>
                  </a:lnTo>
                  <a:lnTo>
                    <a:pt x="628" y="940"/>
                  </a:lnTo>
                  <a:lnTo>
                    <a:pt x="628" y="946"/>
                  </a:lnTo>
                  <a:lnTo>
                    <a:pt x="624" y="946"/>
                  </a:lnTo>
                  <a:lnTo>
                    <a:pt x="624" y="957"/>
                  </a:lnTo>
                  <a:lnTo>
                    <a:pt x="614" y="957"/>
                  </a:lnTo>
                  <a:lnTo>
                    <a:pt x="614" y="963"/>
                  </a:lnTo>
                  <a:lnTo>
                    <a:pt x="609" y="963"/>
                  </a:lnTo>
                  <a:lnTo>
                    <a:pt x="609" y="970"/>
                  </a:lnTo>
                  <a:lnTo>
                    <a:pt x="605" y="970"/>
                  </a:lnTo>
                  <a:lnTo>
                    <a:pt x="605" y="976"/>
                  </a:lnTo>
                  <a:lnTo>
                    <a:pt x="600" y="976"/>
                  </a:lnTo>
                  <a:lnTo>
                    <a:pt x="600" y="981"/>
                  </a:lnTo>
                  <a:lnTo>
                    <a:pt x="595" y="981"/>
                  </a:lnTo>
                  <a:lnTo>
                    <a:pt x="595" y="987"/>
                  </a:lnTo>
                  <a:lnTo>
                    <a:pt x="586" y="987"/>
                  </a:lnTo>
                  <a:lnTo>
                    <a:pt x="586" y="993"/>
                  </a:lnTo>
                  <a:lnTo>
                    <a:pt x="581" y="993"/>
                  </a:lnTo>
                  <a:lnTo>
                    <a:pt x="581" y="998"/>
                  </a:lnTo>
                  <a:lnTo>
                    <a:pt x="577" y="998"/>
                  </a:lnTo>
                  <a:lnTo>
                    <a:pt x="577" y="1004"/>
                  </a:lnTo>
                  <a:lnTo>
                    <a:pt x="572" y="1004"/>
                  </a:lnTo>
                  <a:lnTo>
                    <a:pt x="572" y="1011"/>
                  </a:lnTo>
                  <a:lnTo>
                    <a:pt x="567" y="1011"/>
                  </a:lnTo>
                  <a:lnTo>
                    <a:pt x="567" y="1017"/>
                  </a:lnTo>
                  <a:lnTo>
                    <a:pt x="561" y="1017"/>
                  </a:lnTo>
                  <a:lnTo>
                    <a:pt x="561" y="1029"/>
                  </a:lnTo>
                  <a:lnTo>
                    <a:pt x="552" y="1029"/>
                  </a:lnTo>
                  <a:lnTo>
                    <a:pt x="552" y="1034"/>
                  </a:lnTo>
                  <a:lnTo>
                    <a:pt x="547" y="1034"/>
                  </a:lnTo>
                  <a:lnTo>
                    <a:pt x="547" y="1039"/>
                  </a:lnTo>
                  <a:lnTo>
                    <a:pt x="543" y="1039"/>
                  </a:lnTo>
                  <a:lnTo>
                    <a:pt x="543" y="1047"/>
                  </a:lnTo>
                  <a:lnTo>
                    <a:pt x="538" y="1047"/>
                  </a:lnTo>
                  <a:lnTo>
                    <a:pt x="538" y="1058"/>
                  </a:lnTo>
                  <a:lnTo>
                    <a:pt x="533" y="1058"/>
                  </a:lnTo>
                  <a:lnTo>
                    <a:pt x="533" y="1063"/>
                  </a:lnTo>
                  <a:lnTo>
                    <a:pt x="528" y="1063"/>
                  </a:lnTo>
                  <a:lnTo>
                    <a:pt x="528" y="1071"/>
                  </a:lnTo>
                  <a:lnTo>
                    <a:pt x="524" y="1071"/>
                  </a:lnTo>
                  <a:lnTo>
                    <a:pt x="524" y="1076"/>
                  </a:lnTo>
                  <a:lnTo>
                    <a:pt x="518" y="1076"/>
                  </a:lnTo>
                  <a:lnTo>
                    <a:pt x="518" y="1082"/>
                  </a:lnTo>
                  <a:lnTo>
                    <a:pt x="510" y="1082"/>
                  </a:lnTo>
                  <a:lnTo>
                    <a:pt x="510" y="1088"/>
                  </a:lnTo>
                  <a:lnTo>
                    <a:pt x="500" y="1088"/>
                  </a:lnTo>
                  <a:lnTo>
                    <a:pt x="500" y="1093"/>
                  </a:lnTo>
                  <a:lnTo>
                    <a:pt x="490" y="1093"/>
                  </a:lnTo>
                  <a:lnTo>
                    <a:pt x="490" y="1088"/>
                  </a:lnTo>
                  <a:lnTo>
                    <a:pt x="484" y="1088"/>
                  </a:lnTo>
                  <a:lnTo>
                    <a:pt x="484" y="1082"/>
                  </a:lnTo>
                  <a:lnTo>
                    <a:pt x="480" y="1082"/>
                  </a:lnTo>
                  <a:lnTo>
                    <a:pt x="480" y="1076"/>
                  </a:lnTo>
                  <a:lnTo>
                    <a:pt x="475" y="1076"/>
                  </a:lnTo>
                  <a:lnTo>
                    <a:pt x="475" y="1071"/>
                  </a:lnTo>
                  <a:lnTo>
                    <a:pt x="470" y="1071"/>
                  </a:lnTo>
                  <a:lnTo>
                    <a:pt x="470" y="1063"/>
                  </a:lnTo>
                  <a:lnTo>
                    <a:pt x="466" y="1063"/>
                  </a:lnTo>
                  <a:lnTo>
                    <a:pt x="466" y="1034"/>
                  </a:lnTo>
                  <a:lnTo>
                    <a:pt x="461" y="1034"/>
                  </a:lnTo>
                  <a:lnTo>
                    <a:pt x="461" y="1022"/>
                  </a:lnTo>
                  <a:lnTo>
                    <a:pt x="456" y="1022"/>
                  </a:lnTo>
                  <a:lnTo>
                    <a:pt x="456" y="1011"/>
                  </a:lnTo>
                  <a:lnTo>
                    <a:pt x="451" y="1011"/>
                  </a:lnTo>
                  <a:lnTo>
                    <a:pt x="451" y="1004"/>
                  </a:lnTo>
                  <a:lnTo>
                    <a:pt x="447" y="1004"/>
                  </a:lnTo>
                  <a:lnTo>
                    <a:pt x="447" y="993"/>
                  </a:lnTo>
                  <a:lnTo>
                    <a:pt x="442" y="993"/>
                  </a:lnTo>
                  <a:lnTo>
                    <a:pt x="442" y="987"/>
                  </a:lnTo>
                  <a:lnTo>
                    <a:pt x="437" y="987"/>
                  </a:lnTo>
                  <a:lnTo>
                    <a:pt x="437" y="981"/>
                  </a:lnTo>
                  <a:lnTo>
                    <a:pt x="432" y="981"/>
                  </a:lnTo>
                  <a:lnTo>
                    <a:pt x="432" y="970"/>
                  </a:lnTo>
                  <a:lnTo>
                    <a:pt x="428" y="970"/>
                  </a:lnTo>
                  <a:lnTo>
                    <a:pt x="428" y="957"/>
                  </a:lnTo>
                  <a:lnTo>
                    <a:pt x="423" y="957"/>
                  </a:lnTo>
                  <a:lnTo>
                    <a:pt x="423" y="952"/>
                  </a:lnTo>
                  <a:lnTo>
                    <a:pt x="417" y="952"/>
                  </a:lnTo>
                  <a:lnTo>
                    <a:pt x="417" y="940"/>
                  </a:lnTo>
                  <a:lnTo>
                    <a:pt x="413" y="940"/>
                  </a:lnTo>
                  <a:lnTo>
                    <a:pt x="413" y="928"/>
                  </a:lnTo>
                  <a:lnTo>
                    <a:pt x="408" y="928"/>
                  </a:lnTo>
                  <a:lnTo>
                    <a:pt x="408" y="922"/>
                  </a:lnTo>
                  <a:lnTo>
                    <a:pt x="403" y="922"/>
                  </a:lnTo>
                  <a:lnTo>
                    <a:pt x="403" y="911"/>
                  </a:lnTo>
                  <a:lnTo>
                    <a:pt x="398" y="911"/>
                  </a:lnTo>
                  <a:lnTo>
                    <a:pt x="398" y="886"/>
                  </a:lnTo>
                  <a:lnTo>
                    <a:pt x="389" y="886"/>
                  </a:lnTo>
                  <a:lnTo>
                    <a:pt x="389" y="881"/>
                  </a:lnTo>
                  <a:lnTo>
                    <a:pt x="384" y="881"/>
                  </a:lnTo>
                  <a:lnTo>
                    <a:pt x="384" y="863"/>
                  </a:lnTo>
                  <a:lnTo>
                    <a:pt x="380" y="863"/>
                  </a:lnTo>
                  <a:lnTo>
                    <a:pt x="380" y="852"/>
                  </a:lnTo>
                  <a:lnTo>
                    <a:pt x="374" y="852"/>
                  </a:lnTo>
                  <a:lnTo>
                    <a:pt x="374" y="845"/>
                  </a:lnTo>
                  <a:lnTo>
                    <a:pt x="370" y="845"/>
                  </a:lnTo>
                  <a:lnTo>
                    <a:pt x="370" y="834"/>
                  </a:lnTo>
                  <a:lnTo>
                    <a:pt x="365" y="834"/>
                  </a:lnTo>
                  <a:lnTo>
                    <a:pt x="365" y="821"/>
                  </a:lnTo>
                  <a:lnTo>
                    <a:pt x="360" y="821"/>
                  </a:lnTo>
                  <a:lnTo>
                    <a:pt x="360" y="804"/>
                  </a:lnTo>
                  <a:lnTo>
                    <a:pt x="355" y="804"/>
                  </a:lnTo>
                  <a:lnTo>
                    <a:pt x="355" y="799"/>
                  </a:lnTo>
                  <a:lnTo>
                    <a:pt x="351" y="799"/>
                  </a:lnTo>
                  <a:lnTo>
                    <a:pt x="351" y="786"/>
                  </a:lnTo>
                  <a:lnTo>
                    <a:pt x="346" y="786"/>
                  </a:lnTo>
                  <a:lnTo>
                    <a:pt x="346" y="767"/>
                  </a:lnTo>
                  <a:lnTo>
                    <a:pt x="340" y="767"/>
                  </a:lnTo>
                  <a:lnTo>
                    <a:pt x="340" y="751"/>
                  </a:lnTo>
                  <a:lnTo>
                    <a:pt x="336" y="751"/>
                  </a:lnTo>
                  <a:lnTo>
                    <a:pt x="336" y="745"/>
                  </a:lnTo>
                  <a:lnTo>
                    <a:pt x="331" y="745"/>
                  </a:lnTo>
                  <a:lnTo>
                    <a:pt x="331" y="739"/>
                  </a:lnTo>
                  <a:lnTo>
                    <a:pt x="326" y="739"/>
                  </a:lnTo>
                  <a:lnTo>
                    <a:pt x="326" y="734"/>
                  </a:lnTo>
                  <a:lnTo>
                    <a:pt x="321" y="734"/>
                  </a:lnTo>
                  <a:lnTo>
                    <a:pt x="321" y="716"/>
                  </a:lnTo>
                  <a:lnTo>
                    <a:pt x="317" y="716"/>
                  </a:lnTo>
                  <a:lnTo>
                    <a:pt x="317" y="698"/>
                  </a:lnTo>
                  <a:lnTo>
                    <a:pt x="312" y="698"/>
                  </a:lnTo>
                  <a:lnTo>
                    <a:pt x="312" y="685"/>
                  </a:lnTo>
                  <a:lnTo>
                    <a:pt x="307" y="685"/>
                  </a:lnTo>
                  <a:lnTo>
                    <a:pt x="307" y="663"/>
                  </a:lnTo>
                  <a:lnTo>
                    <a:pt x="303" y="663"/>
                  </a:lnTo>
                  <a:lnTo>
                    <a:pt x="303" y="656"/>
                  </a:lnTo>
                  <a:lnTo>
                    <a:pt x="293" y="656"/>
                  </a:lnTo>
                  <a:lnTo>
                    <a:pt x="293" y="650"/>
                  </a:lnTo>
                  <a:lnTo>
                    <a:pt x="288" y="650"/>
                  </a:lnTo>
                  <a:lnTo>
                    <a:pt x="288" y="626"/>
                  </a:lnTo>
                  <a:lnTo>
                    <a:pt x="284" y="626"/>
                  </a:lnTo>
                  <a:lnTo>
                    <a:pt x="284" y="620"/>
                  </a:lnTo>
                  <a:lnTo>
                    <a:pt x="278" y="620"/>
                  </a:lnTo>
                  <a:lnTo>
                    <a:pt x="278" y="615"/>
                  </a:lnTo>
                  <a:lnTo>
                    <a:pt x="273" y="615"/>
                  </a:lnTo>
                  <a:lnTo>
                    <a:pt x="273" y="609"/>
                  </a:lnTo>
                  <a:lnTo>
                    <a:pt x="268" y="609"/>
                  </a:lnTo>
                  <a:lnTo>
                    <a:pt x="268" y="603"/>
                  </a:lnTo>
                  <a:lnTo>
                    <a:pt x="264" y="603"/>
                  </a:lnTo>
                  <a:lnTo>
                    <a:pt x="264" y="585"/>
                  </a:lnTo>
                  <a:lnTo>
                    <a:pt x="254" y="585"/>
                  </a:lnTo>
                  <a:lnTo>
                    <a:pt x="254" y="579"/>
                  </a:lnTo>
                  <a:lnTo>
                    <a:pt x="250" y="579"/>
                  </a:lnTo>
                  <a:lnTo>
                    <a:pt x="250" y="566"/>
                  </a:lnTo>
                  <a:lnTo>
                    <a:pt x="244" y="566"/>
                  </a:lnTo>
                  <a:lnTo>
                    <a:pt x="244" y="549"/>
                  </a:lnTo>
                  <a:lnTo>
                    <a:pt x="240" y="549"/>
                  </a:lnTo>
                  <a:lnTo>
                    <a:pt x="240" y="544"/>
                  </a:lnTo>
                  <a:lnTo>
                    <a:pt x="236" y="544"/>
                  </a:lnTo>
                  <a:lnTo>
                    <a:pt x="236" y="525"/>
                  </a:lnTo>
                  <a:lnTo>
                    <a:pt x="230" y="525"/>
                  </a:lnTo>
                  <a:lnTo>
                    <a:pt x="230" y="514"/>
                  </a:lnTo>
                  <a:lnTo>
                    <a:pt x="226" y="514"/>
                  </a:lnTo>
                  <a:lnTo>
                    <a:pt x="226" y="508"/>
                  </a:lnTo>
                  <a:lnTo>
                    <a:pt x="221" y="508"/>
                  </a:lnTo>
                  <a:lnTo>
                    <a:pt x="221" y="503"/>
                  </a:lnTo>
                  <a:lnTo>
                    <a:pt x="216" y="503"/>
                  </a:lnTo>
                  <a:lnTo>
                    <a:pt x="216" y="490"/>
                  </a:lnTo>
                  <a:lnTo>
                    <a:pt x="212" y="490"/>
                  </a:lnTo>
                  <a:lnTo>
                    <a:pt x="212" y="479"/>
                  </a:lnTo>
                  <a:lnTo>
                    <a:pt x="207" y="479"/>
                  </a:lnTo>
                  <a:lnTo>
                    <a:pt x="207" y="467"/>
                  </a:lnTo>
                  <a:lnTo>
                    <a:pt x="202" y="467"/>
                  </a:lnTo>
                  <a:lnTo>
                    <a:pt x="202" y="455"/>
                  </a:lnTo>
                  <a:lnTo>
                    <a:pt x="196" y="455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38"/>
                  </a:lnTo>
                  <a:lnTo>
                    <a:pt x="187" y="438"/>
                  </a:lnTo>
                  <a:lnTo>
                    <a:pt x="187" y="425"/>
                  </a:lnTo>
                  <a:lnTo>
                    <a:pt x="182" y="425"/>
                  </a:lnTo>
                  <a:lnTo>
                    <a:pt x="182" y="402"/>
                  </a:lnTo>
                  <a:lnTo>
                    <a:pt x="177" y="402"/>
                  </a:lnTo>
                  <a:lnTo>
                    <a:pt x="177" y="397"/>
                  </a:lnTo>
                  <a:lnTo>
                    <a:pt x="173" y="397"/>
                  </a:lnTo>
                  <a:lnTo>
                    <a:pt x="173" y="391"/>
                  </a:lnTo>
                  <a:lnTo>
                    <a:pt x="168" y="391"/>
                  </a:lnTo>
                  <a:lnTo>
                    <a:pt x="168" y="384"/>
                  </a:lnTo>
                  <a:lnTo>
                    <a:pt x="163" y="384"/>
                  </a:lnTo>
                  <a:lnTo>
                    <a:pt x="163" y="379"/>
                  </a:lnTo>
                  <a:lnTo>
                    <a:pt x="159" y="379"/>
                  </a:lnTo>
                  <a:lnTo>
                    <a:pt x="159" y="367"/>
                  </a:lnTo>
                  <a:lnTo>
                    <a:pt x="154" y="367"/>
                  </a:lnTo>
                  <a:lnTo>
                    <a:pt x="154" y="349"/>
                  </a:lnTo>
                  <a:lnTo>
                    <a:pt x="149" y="349"/>
                  </a:lnTo>
                  <a:lnTo>
                    <a:pt x="149" y="331"/>
                  </a:lnTo>
                  <a:lnTo>
                    <a:pt x="144" y="331"/>
                  </a:lnTo>
                  <a:lnTo>
                    <a:pt x="144" y="326"/>
                  </a:lnTo>
                  <a:lnTo>
                    <a:pt x="140" y="326"/>
                  </a:lnTo>
                  <a:lnTo>
                    <a:pt x="140" y="307"/>
                  </a:lnTo>
                  <a:lnTo>
                    <a:pt x="134" y="307"/>
                  </a:lnTo>
                  <a:lnTo>
                    <a:pt x="134" y="302"/>
                  </a:lnTo>
                  <a:lnTo>
                    <a:pt x="129" y="302"/>
                  </a:lnTo>
                  <a:lnTo>
                    <a:pt x="129" y="289"/>
                  </a:lnTo>
                  <a:lnTo>
                    <a:pt x="125" y="289"/>
                  </a:lnTo>
                  <a:lnTo>
                    <a:pt x="125" y="284"/>
                  </a:lnTo>
                  <a:lnTo>
                    <a:pt x="120" y="284"/>
                  </a:lnTo>
                  <a:lnTo>
                    <a:pt x="120" y="278"/>
                  </a:lnTo>
                  <a:lnTo>
                    <a:pt x="115" y="278"/>
                  </a:lnTo>
                  <a:lnTo>
                    <a:pt x="115" y="266"/>
                  </a:lnTo>
                  <a:lnTo>
                    <a:pt x="106" y="266"/>
                  </a:lnTo>
                  <a:lnTo>
                    <a:pt x="106" y="261"/>
                  </a:lnTo>
                  <a:lnTo>
                    <a:pt x="100" y="261"/>
                  </a:lnTo>
                  <a:lnTo>
                    <a:pt x="100" y="243"/>
                  </a:lnTo>
                  <a:lnTo>
                    <a:pt x="96" y="243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91" y="231"/>
                  </a:lnTo>
                  <a:lnTo>
                    <a:pt x="86" y="231"/>
                  </a:lnTo>
                  <a:lnTo>
                    <a:pt x="86" y="225"/>
                  </a:lnTo>
                  <a:lnTo>
                    <a:pt x="82" y="225"/>
                  </a:lnTo>
                  <a:lnTo>
                    <a:pt x="82" y="212"/>
                  </a:lnTo>
                  <a:lnTo>
                    <a:pt x="77" y="212"/>
                  </a:lnTo>
                  <a:lnTo>
                    <a:pt x="77" y="207"/>
                  </a:lnTo>
                  <a:lnTo>
                    <a:pt x="72" y="207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183"/>
                  </a:lnTo>
                  <a:lnTo>
                    <a:pt x="63" y="183"/>
                  </a:lnTo>
                  <a:lnTo>
                    <a:pt x="63" y="177"/>
                  </a:lnTo>
                  <a:lnTo>
                    <a:pt x="57" y="177"/>
                  </a:lnTo>
                  <a:lnTo>
                    <a:pt x="57" y="171"/>
                  </a:lnTo>
                  <a:lnTo>
                    <a:pt x="52" y="171"/>
                  </a:lnTo>
                  <a:lnTo>
                    <a:pt x="52" y="160"/>
                  </a:lnTo>
                  <a:lnTo>
                    <a:pt x="48" y="160"/>
                  </a:lnTo>
                  <a:lnTo>
                    <a:pt x="48" y="130"/>
                  </a:lnTo>
                  <a:lnTo>
                    <a:pt x="43" y="130"/>
                  </a:lnTo>
                  <a:lnTo>
                    <a:pt x="43" y="125"/>
                  </a:lnTo>
                  <a:lnTo>
                    <a:pt x="38" y="125"/>
                  </a:lnTo>
                  <a:lnTo>
                    <a:pt x="38" y="117"/>
                  </a:lnTo>
                  <a:lnTo>
                    <a:pt x="33" y="117"/>
                  </a:lnTo>
                  <a:lnTo>
                    <a:pt x="33" y="112"/>
                  </a:lnTo>
                  <a:lnTo>
                    <a:pt x="29" y="112"/>
                  </a:lnTo>
                  <a:lnTo>
                    <a:pt x="29" y="101"/>
                  </a:lnTo>
                  <a:lnTo>
                    <a:pt x="24" y="101"/>
                  </a:lnTo>
                  <a:lnTo>
                    <a:pt x="24" y="84"/>
                  </a:lnTo>
                  <a:lnTo>
                    <a:pt x="19" y="84"/>
                  </a:lnTo>
                  <a:lnTo>
                    <a:pt x="19" y="71"/>
                  </a:lnTo>
                  <a:lnTo>
                    <a:pt x="14" y="71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10" y="54"/>
                  </a:lnTo>
                  <a:lnTo>
                    <a:pt x="5" y="54"/>
                  </a:lnTo>
                  <a:lnTo>
                    <a:pt x="5" y="47"/>
                  </a:lnTo>
                  <a:lnTo>
                    <a:pt x="0" y="4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44640" y="3394800"/>
              <a:ext cx="216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75680" y="2648160"/>
              <a:ext cx="240120" cy="305640"/>
            </a:xfrm>
            <a:custGeom>
              <a:avLst/>
              <a:gdLst/>
              <a:ahLst/>
              <a:rect l="l" t="t" r="r" b="b"/>
              <a:pathLst>
                <a:path w="923" h="1567">
                  <a:moveTo>
                    <a:pt x="0" y="1308"/>
                  </a:moveTo>
                  <a:lnTo>
                    <a:pt x="5" y="1308"/>
                  </a:lnTo>
                  <a:lnTo>
                    <a:pt x="5" y="1300"/>
                  </a:lnTo>
                  <a:lnTo>
                    <a:pt x="10" y="1300"/>
                  </a:lnTo>
                  <a:lnTo>
                    <a:pt x="10" y="1295"/>
                  </a:lnTo>
                  <a:lnTo>
                    <a:pt x="14" y="1295"/>
                  </a:lnTo>
                  <a:lnTo>
                    <a:pt x="14" y="1290"/>
                  </a:lnTo>
                  <a:lnTo>
                    <a:pt x="19" y="1290"/>
                  </a:lnTo>
                  <a:lnTo>
                    <a:pt x="19" y="1284"/>
                  </a:lnTo>
                  <a:lnTo>
                    <a:pt x="24" y="1284"/>
                  </a:lnTo>
                  <a:lnTo>
                    <a:pt x="24" y="1278"/>
                  </a:lnTo>
                  <a:lnTo>
                    <a:pt x="28" y="1278"/>
                  </a:lnTo>
                  <a:lnTo>
                    <a:pt x="28" y="1267"/>
                  </a:lnTo>
                  <a:lnTo>
                    <a:pt x="34" y="1267"/>
                  </a:lnTo>
                  <a:lnTo>
                    <a:pt x="34" y="1259"/>
                  </a:lnTo>
                  <a:lnTo>
                    <a:pt x="39" y="1259"/>
                  </a:lnTo>
                  <a:lnTo>
                    <a:pt x="39" y="1248"/>
                  </a:lnTo>
                  <a:lnTo>
                    <a:pt x="48" y="1248"/>
                  </a:lnTo>
                  <a:lnTo>
                    <a:pt x="48" y="1242"/>
                  </a:lnTo>
                  <a:lnTo>
                    <a:pt x="58" y="1242"/>
                  </a:lnTo>
                  <a:lnTo>
                    <a:pt x="58" y="1237"/>
                  </a:lnTo>
                  <a:lnTo>
                    <a:pt x="62" y="1237"/>
                  </a:lnTo>
                  <a:lnTo>
                    <a:pt x="62" y="1230"/>
                  </a:lnTo>
                  <a:lnTo>
                    <a:pt x="72" y="1230"/>
                  </a:lnTo>
                  <a:lnTo>
                    <a:pt x="72" y="1224"/>
                  </a:lnTo>
                  <a:lnTo>
                    <a:pt x="77" y="1224"/>
                  </a:lnTo>
                  <a:lnTo>
                    <a:pt x="77" y="1213"/>
                  </a:lnTo>
                  <a:lnTo>
                    <a:pt x="87" y="1213"/>
                  </a:lnTo>
                  <a:lnTo>
                    <a:pt x="87" y="1207"/>
                  </a:lnTo>
                  <a:lnTo>
                    <a:pt x="91" y="1207"/>
                  </a:lnTo>
                  <a:lnTo>
                    <a:pt x="91" y="1201"/>
                  </a:lnTo>
                  <a:lnTo>
                    <a:pt x="95" y="1201"/>
                  </a:lnTo>
                  <a:lnTo>
                    <a:pt x="95" y="1194"/>
                  </a:lnTo>
                  <a:lnTo>
                    <a:pt x="101" y="1194"/>
                  </a:lnTo>
                  <a:lnTo>
                    <a:pt x="101" y="1189"/>
                  </a:lnTo>
                  <a:lnTo>
                    <a:pt x="105" y="1189"/>
                  </a:lnTo>
                  <a:lnTo>
                    <a:pt x="105" y="1183"/>
                  </a:lnTo>
                  <a:lnTo>
                    <a:pt x="111" y="1183"/>
                  </a:lnTo>
                  <a:lnTo>
                    <a:pt x="111" y="1177"/>
                  </a:lnTo>
                  <a:lnTo>
                    <a:pt x="116" y="1177"/>
                  </a:lnTo>
                  <a:lnTo>
                    <a:pt x="116" y="1172"/>
                  </a:lnTo>
                  <a:lnTo>
                    <a:pt x="121" y="1172"/>
                  </a:lnTo>
                  <a:lnTo>
                    <a:pt x="121" y="1166"/>
                  </a:lnTo>
                  <a:lnTo>
                    <a:pt x="125" y="1166"/>
                  </a:lnTo>
                  <a:lnTo>
                    <a:pt x="125" y="1159"/>
                  </a:lnTo>
                  <a:lnTo>
                    <a:pt x="130" y="1159"/>
                  </a:lnTo>
                  <a:lnTo>
                    <a:pt x="130" y="1148"/>
                  </a:lnTo>
                  <a:lnTo>
                    <a:pt x="135" y="1148"/>
                  </a:lnTo>
                  <a:lnTo>
                    <a:pt x="135" y="1142"/>
                  </a:lnTo>
                  <a:lnTo>
                    <a:pt x="139" y="1142"/>
                  </a:lnTo>
                  <a:lnTo>
                    <a:pt x="139" y="1136"/>
                  </a:lnTo>
                  <a:lnTo>
                    <a:pt x="144" y="1136"/>
                  </a:lnTo>
                  <a:lnTo>
                    <a:pt x="144" y="1131"/>
                  </a:lnTo>
                  <a:lnTo>
                    <a:pt x="149" y="1131"/>
                  </a:lnTo>
                  <a:lnTo>
                    <a:pt x="149" y="1123"/>
                  </a:lnTo>
                  <a:lnTo>
                    <a:pt x="154" y="1123"/>
                  </a:lnTo>
                  <a:lnTo>
                    <a:pt x="154" y="1118"/>
                  </a:lnTo>
                  <a:lnTo>
                    <a:pt x="158" y="1118"/>
                  </a:lnTo>
                  <a:lnTo>
                    <a:pt x="158" y="1112"/>
                  </a:lnTo>
                  <a:lnTo>
                    <a:pt x="163" y="1112"/>
                  </a:lnTo>
                  <a:lnTo>
                    <a:pt x="163" y="1099"/>
                  </a:lnTo>
                  <a:lnTo>
                    <a:pt x="168" y="1099"/>
                  </a:lnTo>
                  <a:lnTo>
                    <a:pt x="168" y="1094"/>
                  </a:lnTo>
                  <a:lnTo>
                    <a:pt x="173" y="1094"/>
                  </a:lnTo>
                  <a:lnTo>
                    <a:pt x="173" y="1089"/>
                  </a:lnTo>
                  <a:lnTo>
                    <a:pt x="177" y="1089"/>
                  </a:lnTo>
                  <a:lnTo>
                    <a:pt x="177" y="1077"/>
                  </a:lnTo>
                  <a:lnTo>
                    <a:pt x="183" y="1077"/>
                  </a:lnTo>
                  <a:lnTo>
                    <a:pt x="183" y="1071"/>
                  </a:lnTo>
                  <a:lnTo>
                    <a:pt x="188" y="1071"/>
                  </a:lnTo>
                  <a:lnTo>
                    <a:pt x="188" y="1064"/>
                  </a:lnTo>
                  <a:lnTo>
                    <a:pt x="192" y="1064"/>
                  </a:lnTo>
                  <a:lnTo>
                    <a:pt x="192" y="1053"/>
                  </a:lnTo>
                  <a:lnTo>
                    <a:pt x="198" y="1053"/>
                  </a:lnTo>
                  <a:lnTo>
                    <a:pt x="198" y="1047"/>
                  </a:lnTo>
                  <a:lnTo>
                    <a:pt x="202" y="1047"/>
                  </a:lnTo>
                  <a:lnTo>
                    <a:pt x="202" y="1041"/>
                  </a:lnTo>
                  <a:lnTo>
                    <a:pt x="207" y="1041"/>
                  </a:lnTo>
                  <a:lnTo>
                    <a:pt x="207" y="1030"/>
                  </a:lnTo>
                  <a:lnTo>
                    <a:pt x="212" y="1030"/>
                  </a:lnTo>
                  <a:lnTo>
                    <a:pt x="212" y="1023"/>
                  </a:lnTo>
                  <a:lnTo>
                    <a:pt x="217" y="1023"/>
                  </a:lnTo>
                  <a:lnTo>
                    <a:pt x="217" y="1012"/>
                  </a:lnTo>
                  <a:lnTo>
                    <a:pt x="221" y="1012"/>
                  </a:lnTo>
                  <a:lnTo>
                    <a:pt x="221" y="1006"/>
                  </a:lnTo>
                  <a:lnTo>
                    <a:pt x="225" y="1006"/>
                  </a:lnTo>
                  <a:lnTo>
                    <a:pt x="225" y="995"/>
                  </a:lnTo>
                  <a:lnTo>
                    <a:pt x="231" y="995"/>
                  </a:lnTo>
                  <a:lnTo>
                    <a:pt x="231" y="988"/>
                  </a:lnTo>
                  <a:lnTo>
                    <a:pt x="235" y="988"/>
                  </a:lnTo>
                  <a:lnTo>
                    <a:pt x="235" y="977"/>
                  </a:lnTo>
                  <a:lnTo>
                    <a:pt x="240" y="977"/>
                  </a:lnTo>
                  <a:lnTo>
                    <a:pt x="240" y="965"/>
                  </a:lnTo>
                  <a:lnTo>
                    <a:pt x="245" y="965"/>
                  </a:lnTo>
                  <a:lnTo>
                    <a:pt x="245" y="958"/>
                  </a:lnTo>
                  <a:lnTo>
                    <a:pt x="249" y="958"/>
                  </a:lnTo>
                  <a:lnTo>
                    <a:pt x="249" y="946"/>
                  </a:lnTo>
                  <a:lnTo>
                    <a:pt x="255" y="946"/>
                  </a:lnTo>
                  <a:lnTo>
                    <a:pt x="255" y="935"/>
                  </a:lnTo>
                  <a:lnTo>
                    <a:pt x="260" y="935"/>
                  </a:lnTo>
                  <a:lnTo>
                    <a:pt x="260" y="923"/>
                  </a:lnTo>
                  <a:lnTo>
                    <a:pt x="265" y="923"/>
                  </a:lnTo>
                  <a:lnTo>
                    <a:pt x="265" y="912"/>
                  </a:lnTo>
                  <a:lnTo>
                    <a:pt x="269" y="912"/>
                  </a:lnTo>
                  <a:lnTo>
                    <a:pt x="269" y="905"/>
                  </a:lnTo>
                  <a:lnTo>
                    <a:pt x="273" y="905"/>
                  </a:lnTo>
                  <a:lnTo>
                    <a:pt x="273" y="894"/>
                  </a:lnTo>
                  <a:lnTo>
                    <a:pt x="279" y="894"/>
                  </a:lnTo>
                  <a:lnTo>
                    <a:pt x="279" y="887"/>
                  </a:lnTo>
                  <a:lnTo>
                    <a:pt x="283" y="887"/>
                  </a:lnTo>
                  <a:lnTo>
                    <a:pt x="283" y="881"/>
                  </a:lnTo>
                  <a:lnTo>
                    <a:pt x="288" y="881"/>
                  </a:lnTo>
                  <a:lnTo>
                    <a:pt x="288" y="870"/>
                  </a:lnTo>
                  <a:lnTo>
                    <a:pt x="293" y="870"/>
                  </a:lnTo>
                  <a:lnTo>
                    <a:pt x="293" y="859"/>
                  </a:lnTo>
                  <a:lnTo>
                    <a:pt x="298" y="859"/>
                  </a:lnTo>
                  <a:lnTo>
                    <a:pt x="298" y="846"/>
                  </a:lnTo>
                  <a:lnTo>
                    <a:pt x="302" y="846"/>
                  </a:lnTo>
                  <a:lnTo>
                    <a:pt x="302" y="835"/>
                  </a:lnTo>
                  <a:lnTo>
                    <a:pt x="307" y="835"/>
                  </a:lnTo>
                  <a:lnTo>
                    <a:pt x="307" y="827"/>
                  </a:lnTo>
                  <a:lnTo>
                    <a:pt x="312" y="827"/>
                  </a:lnTo>
                  <a:lnTo>
                    <a:pt x="312" y="811"/>
                  </a:lnTo>
                  <a:lnTo>
                    <a:pt x="316" y="811"/>
                  </a:lnTo>
                  <a:lnTo>
                    <a:pt x="316" y="805"/>
                  </a:lnTo>
                  <a:lnTo>
                    <a:pt x="321" y="805"/>
                  </a:lnTo>
                  <a:lnTo>
                    <a:pt x="321" y="794"/>
                  </a:lnTo>
                  <a:lnTo>
                    <a:pt x="327" y="794"/>
                  </a:lnTo>
                  <a:lnTo>
                    <a:pt x="327" y="781"/>
                  </a:lnTo>
                  <a:lnTo>
                    <a:pt x="332" y="781"/>
                  </a:lnTo>
                  <a:lnTo>
                    <a:pt x="332" y="764"/>
                  </a:lnTo>
                  <a:lnTo>
                    <a:pt x="336" y="764"/>
                  </a:lnTo>
                  <a:lnTo>
                    <a:pt x="336" y="753"/>
                  </a:lnTo>
                  <a:lnTo>
                    <a:pt x="342" y="753"/>
                  </a:lnTo>
                  <a:lnTo>
                    <a:pt x="342" y="740"/>
                  </a:lnTo>
                  <a:lnTo>
                    <a:pt x="346" y="740"/>
                  </a:lnTo>
                  <a:lnTo>
                    <a:pt x="346" y="734"/>
                  </a:lnTo>
                  <a:lnTo>
                    <a:pt x="351" y="734"/>
                  </a:lnTo>
                  <a:lnTo>
                    <a:pt x="351" y="723"/>
                  </a:lnTo>
                  <a:lnTo>
                    <a:pt x="356" y="723"/>
                  </a:lnTo>
                  <a:lnTo>
                    <a:pt x="356" y="710"/>
                  </a:lnTo>
                  <a:lnTo>
                    <a:pt x="360" y="710"/>
                  </a:lnTo>
                  <a:lnTo>
                    <a:pt x="360" y="699"/>
                  </a:lnTo>
                  <a:lnTo>
                    <a:pt x="365" y="699"/>
                  </a:lnTo>
                  <a:lnTo>
                    <a:pt x="365" y="675"/>
                  </a:lnTo>
                  <a:lnTo>
                    <a:pt x="369" y="675"/>
                  </a:lnTo>
                  <a:lnTo>
                    <a:pt x="369" y="663"/>
                  </a:lnTo>
                  <a:lnTo>
                    <a:pt x="375" y="663"/>
                  </a:lnTo>
                  <a:lnTo>
                    <a:pt x="375" y="639"/>
                  </a:lnTo>
                  <a:lnTo>
                    <a:pt x="379" y="639"/>
                  </a:lnTo>
                  <a:lnTo>
                    <a:pt x="379" y="626"/>
                  </a:lnTo>
                  <a:lnTo>
                    <a:pt x="384" y="626"/>
                  </a:lnTo>
                  <a:lnTo>
                    <a:pt x="384" y="617"/>
                  </a:lnTo>
                  <a:lnTo>
                    <a:pt x="389" y="617"/>
                  </a:lnTo>
                  <a:lnTo>
                    <a:pt x="389" y="604"/>
                  </a:lnTo>
                  <a:lnTo>
                    <a:pt x="394" y="604"/>
                  </a:lnTo>
                  <a:lnTo>
                    <a:pt x="394" y="592"/>
                  </a:lnTo>
                  <a:lnTo>
                    <a:pt x="399" y="592"/>
                  </a:lnTo>
                  <a:lnTo>
                    <a:pt x="399" y="580"/>
                  </a:lnTo>
                  <a:lnTo>
                    <a:pt x="404" y="580"/>
                  </a:lnTo>
                  <a:lnTo>
                    <a:pt x="404" y="568"/>
                  </a:lnTo>
                  <a:lnTo>
                    <a:pt x="409" y="568"/>
                  </a:lnTo>
                  <a:lnTo>
                    <a:pt x="409" y="550"/>
                  </a:lnTo>
                  <a:lnTo>
                    <a:pt x="413" y="550"/>
                  </a:lnTo>
                  <a:lnTo>
                    <a:pt x="413" y="527"/>
                  </a:lnTo>
                  <a:lnTo>
                    <a:pt x="418" y="527"/>
                  </a:lnTo>
                  <a:lnTo>
                    <a:pt x="418" y="515"/>
                  </a:lnTo>
                  <a:lnTo>
                    <a:pt x="423" y="515"/>
                  </a:lnTo>
                  <a:lnTo>
                    <a:pt x="423" y="485"/>
                  </a:lnTo>
                  <a:lnTo>
                    <a:pt x="428" y="485"/>
                  </a:lnTo>
                  <a:lnTo>
                    <a:pt x="428" y="468"/>
                  </a:lnTo>
                  <a:lnTo>
                    <a:pt x="432" y="468"/>
                  </a:lnTo>
                  <a:lnTo>
                    <a:pt x="432" y="451"/>
                  </a:lnTo>
                  <a:lnTo>
                    <a:pt x="437" y="451"/>
                  </a:lnTo>
                  <a:lnTo>
                    <a:pt x="437" y="397"/>
                  </a:lnTo>
                  <a:lnTo>
                    <a:pt x="442" y="397"/>
                  </a:lnTo>
                  <a:lnTo>
                    <a:pt x="442" y="391"/>
                  </a:lnTo>
                  <a:lnTo>
                    <a:pt x="446" y="391"/>
                  </a:lnTo>
                  <a:lnTo>
                    <a:pt x="446" y="379"/>
                  </a:lnTo>
                  <a:lnTo>
                    <a:pt x="451" y="379"/>
                  </a:lnTo>
                  <a:lnTo>
                    <a:pt x="451" y="373"/>
                  </a:lnTo>
                  <a:lnTo>
                    <a:pt x="480" y="373"/>
                  </a:lnTo>
                  <a:lnTo>
                    <a:pt x="480" y="379"/>
                  </a:lnTo>
                  <a:lnTo>
                    <a:pt x="486" y="379"/>
                  </a:lnTo>
                  <a:lnTo>
                    <a:pt x="486" y="391"/>
                  </a:lnTo>
                  <a:lnTo>
                    <a:pt x="490" y="391"/>
                  </a:lnTo>
                  <a:lnTo>
                    <a:pt x="490" y="403"/>
                  </a:lnTo>
                  <a:lnTo>
                    <a:pt x="495" y="403"/>
                  </a:lnTo>
                  <a:lnTo>
                    <a:pt x="495" y="421"/>
                  </a:lnTo>
                  <a:lnTo>
                    <a:pt x="490" y="421"/>
                  </a:lnTo>
                  <a:lnTo>
                    <a:pt x="490" y="439"/>
                  </a:lnTo>
                  <a:lnTo>
                    <a:pt x="486" y="439"/>
                  </a:lnTo>
                  <a:lnTo>
                    <a:pt x="486" y="468"/>
                  </a:lnTo>
                  <a:lnTo>
                    <a:pt x="480" y="468"/>
                  </a:lnTo>
                  <a:lnTo>
                    <a:pt x="480" y="492"/>
                  </a:lnTo>
                  <a:lnTo>
                    <a:pt x="476" y="492"/>
                  </a:lnTo>
                  <a:lnTo>
                    <a:pt x="476" y="509"/>
                  </a:lnTo>
                  <a:lnTo>
                    <a:pt x="472" y="509"/>
                  </a:lnTo>
                  <a:lnTo>
                    <a:pt x="472" y="539"/>
                  </a:lnTo>
                  <a:lnTo>
                    <a:pt x="465" y="539"/>
                  </a:lnTo>
                  <a:lnTo>
                    <a:pt x="465" y="563"/>
                  </a:lnTo>
                  <a:lnTo>
                    <a:pt x="461" y="563"/>
                  </a:lnTo>
                  <a:lnTo>
                    <a:pt x="461" y="574"/>
                  </a:lnTo>
                  <a:lnTo>
                    <a:pt x="456" y="574"/>
                  </a:lnTo>
                  <a:lnTo>
                    <a:pt x="456" y="592"/>
                  </a:lnTo>
                  <a:lnTo>
                    <a:pt x="451" y="592"/>
                  </a:lnTo>
                  <a:lnTo>
                    <a:pt x="451" y="609"/>
                  </a:lnTo>
                  <a:lnTo>
                    <a:pt x="446" y="609"/>
                  </a:lnTo>
                  <a:lnTo>
                    <a:pt x="446" y="617"/>
                  </a:lnTo>
                  <a:lnTo>
                    <a:pt x="442" y="617"/>
                  </a:lnTo>
                  <a:lnTo>
                    <a:pt x="442" y="639"/>
                  </a:lnTo>
                  <a:lnTo>
                    <a:pt x="437" y="639"/>
                  </a:lnTo>
                  <a:lnTo>
                    <a:pt x="437" y="650"/>
                  </a:lnTo>
                  <a:lnTo>
                    <a:pt x="432" y="650"/>
                  </a:lnTo>
                  <a:lnTo>
                    <a:pt x="432" y="669"/>
                  </a:lnTo>
                  <a:lnTo>
                    <a:pt x="428" y="669"/>
                  </a:lnTo>
                  <a:lnTo>
                    <a:pt x="428" y="686"/>
                  </a:lnTo>
                  <a:lnTo>
                    <a:pt x="423" y="686"/>
                  </a:lnTo>
                  <a:lnTo>
                    <a:pt x="423" y="704"/>
                  </a:lnTo>
                  <a:lnTo>
                    <a:pt x="418" y="704"/>
                  </a:lnTo>
                  <a:lnTo>
                    <a:pt x="418" y="723"/>
                  </a:lnTo>
                  <a:lnTo>
                    <a:pt x="413" y="723"/>
                  </a:lnTo>
                  <a:lnTo>
                    <a:pt x="413" y="734"/>
                  </a:lnTo>
                  <a:lnTo>
                    <a:pt x="409" y="734"/>
                  </a:lnTo>
                  <a:lnTo>
                    <a:pt x="409" y="745"/>
                  </a:lnTo>
                  <a:lnTo>
                    <a:pt x="404" y="745"/>
                  </a:lnTo>
                  <a:lnTo>
                    <a:pt x="404" y="758"/>
                  </a:lnTo>
                  <a:lnTo>
                    <a:pt x="399" y="758"/>
                  </a:lnTo>
                  <a:lnTo>
                    <a:pt x="399" y="769"/>
                  </a:lnTo>
                  <a:lnTo>
                    <a:pt x="394" y="769"/>
                  </a:lnTo>
                  <a:lnTo>
                    <a:pt x="394" y="781"/>
                  </a:lnTo>
                  <a:lnTo>
                    <a:pt x="389" y="781"/>
                  </a:lnTo>
                  <a:lnTo>
                    <a:pt x="389" y="794"/>
                  </a:lnTo>
                  <a:lnTo>
                    <a:pt x="384" y="794"/>
                  </a:lnTo>
                  <a:lnTo>
                    <a:pt x="384" y="799"/>
                  </a:lnTo>
                  <a:lnTo>
                    <a:pt x="379" y="799"/>
                  </a:lnTo>
                  <a:lnTo>
                    <a:pt x="379" y="805"/>
                  </a:lnTo>
                  <a:lnTo>
                    <a:pt x="375" y="805"/>
                  </a:lnTo>
                  <a:lnTo>
                    <a:pt x="375" y="817"/>
                  </a:lnTo>
                  <a:lnTo>
                    <a:pt x="369" y="817"/>
                  </a:lnTo>
                  <a:lnTo>
                    <a:pt x="369" y="827"/>
                  </a:lnTo>
                  <a:lnTo>
                    <a:pt x="365" y="827"/>
                  </a:lnTo>
                  <a:lnTo>
                    <a:pt x="365" y="840"/>
                  </a:lnTo>
                  <a:lnTo>
                    <a:pt x="360" y="840"/>
                  </a:lnTo>
                  <a:lnTo>
                    <a:pt x="360" y="846"/>
                  </a:lnTo>
                  <a:lnTo>
                    <a:pt x="356" y="846"/>
                  </a:lnTo>
                  <a:lnTo>
                    <a:pt x="356" y="859"/>
                  </a:lnTo>
                  <a:lnTo>
                    <a:pt x="351" y="859"/>
                  </a:lnTo>
                  <a:lnTo>
                    <a:pt x="351" y="864"/>
                  </a:lnTo>
                  <a:lnTo>
                    <a:pt x="346" y="864"/>
                  </a:lnTo>
                  <a:lnTo>
                    <a:pt x="346" y="881"/>
                  </a:lnTo>
                  <a:lnTo>
                    <a:pt x="342" y="881"/>
                  </a:lnTo>
                  <a:lnTo>
                    <a:pt x="342" y="894"/>
                  </a:lnTo>
                  <a:lnTo>
                    <a:pt x="336" y="894"/>
                  </a:lnTo>
                  <a:lnTo>
                    <a:pt x="336" y="900"/>
                  </a:lnTo>
                  <a:lnTo>
                    <a:pt x="332" y="900"/>
                  </a:lnTo>
                  <a:lnTo>
                    <a:pt x="332" y="905"/>
                  </a:lnTo>
                  <a:lnTo>
                    <a:pt x="327" y="905"/>
                  </a:lnTo>
                  <a:lnTo>
                    <a:pt x="327" y="923"/>
                  </a:lnTo>
                  <a:lnTo>
                    <a:pt x="321" y="923"/>
                  </a:lnTo>
                  <a:lnTo>
                    <a:pt x="321" y="930"/>
                  </a:lnTo>
                  <a:lnTo>
                    <a:pt x="316" y="930"/>
                  </a:lnTo>
                  <a:lnTo>
                    <a:pt x="316" y="941"/>
                  </a:lnTo>
                  <a:lnTo>
                    <a:pt x="312" y="941"/>
                  </a:lnTo>
                  <a:lnTo>
                    <a:pt x="312" y="953"/>
                  </a:lnTo>
                  <a:lnTo>
                    <a:pt x="307" y="953"/>
                  </a:lnTo>
                  <a:lnTo>
                    <a:pt x="307" y="965"/>
                  </a:lnTo>
                  <a:lnTo>
                    <a:pt x="302" y="965"/>
                  </a:lnTo>
                  <a:lnTo>
                    <a:pt x="302" y="977"/>
                  </a:lnTo>
                  <a:lnTo>
                    <a:pt x="298" y="977"/>
                  </a:lnTo>
                  <a:lnTo>
                    <a:pt x="298" y="988"/>
                  </a:lnTo>
                  <a:lnTo>
                    <a:pt x="293" y="988"/>
                  </a:lnTo>
                  <a:lnTo>
                    <a:pt x="293" y="995"/>
                  </a:lnTo>
                  <a:lnTo>
                    <a:pt x="288" y="995"/>
                  </a:lnTo>
                  <a:lnTo>
                    <a:pt x="288" y="1006"/>
                  </a:lnTo>
                  <a:lnTo>
                    <a:pt x="283" y="1006"/>
                  </a:lnTo>
                  <a:lnTo>
                    <a:pt x="283" y="1012"/>
                  </a:lnTo>
                  <a:lnTo>
                    <a:pt x="279" y="1012"/>
                  </a:lnTo>
                  <a:lnTo>
                    <a:pt x="279" y="1023"/>
                  </a:lnTo>
                  <a:lnTo>
                    <a:pt x="273" y="1023"/>
                  </a:lnTo>
                  <a:lnTo>
                    <a:pt x="273" y="1036"/>
                  </a:lnTo>
                  <a:lnTo>
                    <a:pt x="269" y="1036"/>
                  </a:lnTo>
                  <a:lnTo>
                    <a:pt x="269" y="1041"/>
                  </a:lnTo>
                  <a:lnTo>
                    <a:pt x="265" y="1041"/>
                  </a:lnTo>
                  <a:lnTo>
                    <a:pt x="265" y="1047"/>
                  </a:lnTo>
                  <a:lnTo>
                    <a:pt x="260" y="1047"/>
                  </a:lnTo>
                  <a:lnTo>
                    <a:pt x="260" y="1053"/>
                  </a:lnTo>
                  <a:lnTo>
                    <a:pt x="255" y="1053"/>
                  </a:lnTo>
                  <a:lnTo>
                    <a:pt x="255" y="1064"/>
                  </a:lnTo>
                  <a:lnTo>
                    <a:pt x="249" y="1064"/>
                  </a:lnTo>
                  <a:lnTo>
                    <a:pt x="249" y="1071"/>
                  </a:lnTo>
                  <a:lnTo>
                    <a:pt x="245" y="1071"/>
                  </a:lnTo>
                  <a:lnTo>
                    <a:pt x="245" y="1082"/>
                  </a:lnTo>
                  <a:lnTo>
                    <a:pt x="240" y="1082"/>
                  </a:lnTo>
                  <a:lnTo>
                    <a:pt x="240" y="1094"/>
                  </a:lnTo>
                  <a:lnTo>
                    <a:pt x="235" y="1094"/>
                  </a:lnTo>
                  <a:lnTo>
                    <a:pt x="235" y="1099"/>
                  </a:lnTo>
                  <a:lnTo>
                    <a:pt x="231" y="1099"/>
                  </a:lnTo>
                  <a:lnTo>
                    <a:pt x="231" y="1112"/>
                  </a:lnTo>
                  <a:lnTo>
                    <a:pt x="225" y="1112"/>
                  </a:lnTo>
                  <a:lnTo>
                    <a:pt x="225" y="1123"/>
                  </a:lnTo>
                  <a:lnTo>
                    <a:pt x="221" y="1123"/>
                  </a:lnTo>
                  <a:lnTo>
                    <a:pt x="221" y="1131"/>
                  </a:lnTo>
                  <a:lnTo>
                    <a:pt x="217" y="1131"/>
                  </a:lnTo>
                  <a:lnTo>
                    <a:pt x="217" y="1136"/>
                  </a:lnTo>
                  <a:lnTo>
                    <a:pt x="212" y="1136"/>
                  </a:lnTo>
                  <a:lnTo>
                    <a:pt x="212" y="1142"/>
                  </a:lnTo>
                  <a:lnTo>
                    <a:pt x="207" y="1142"/>
                  </a:lnTo>
                  <a:lnTo>
                    <a:pt x="207" y="1148"/>
                  </a:lnTo>
                  <a:lnTo>
                    <a:pt x="202" y="1148"/>
                  </a:lnTo>
                  <a:lnTo>
                    <a:pt x="202" y="1153"/>
                  </a:lnTo>
                  <a:lnTo>
                    <a:pt x="198" y="1153"/>
                  </a:lnTo>
                  <a:lnTo>
                    <a:pt x="198" y="1166"/>
                  </a:lnTo>
                  <a:lnTo>
                    <a:pt x="192" y="1166"/>
                  </a:lnTo>
                  <a:lnTo>
                    <a:pt x="192" y="1172"/>
                  </a:lnTo>
                  <a:lnTo>
                    <a:pt x="188" y="1172"/>
                  </a:lnTo>
                  <a:lnTo>
                    <a:pt x="188" y="1177"/>
                  </a:lnTo>
                  <a:lnTo>
                    <a:pt x="183" y="1177"/>
                  </a:lnTo>
                  <a:lnTo>
                    <a:pt x="183" y="1183"/>
                  </a:lnTo>
                  <a:lnTo>
                    <a:pt x="177" y="1183"/>
                  </a:lnTo>
                  <a:lnTo>
                    <a:pt x="177" y="1189"/>
                  </a:lnTo>
                  <a:lnTo>
                    <a:pt x="173" y="1189"/>
                  </a:lnTo>
                  <a:lnTo>
                    <a:pt x="173" y="1194"/>
                  </a:lnTo>
                  <a:lnTo>
                    <a:pt x="168" y="1194"/>
                  </a:lnTo>
                  <a:lnTo>
                    <a:pt x="168" y="1207"/>
                  </a:lnTo>
                  <a:lnTo>
                    <a:pt x="163" y="1207"/>
                  </a:lnTo>
                  <a:lnTo>
                    <a:pt x="163" y="1213"/>
                  </a:lnTo>
                  <a:lnTo>
                    <a:pt x="158" y="1213"/>
                  </a:lnTo>
                  <a:lnTo>
                    <a:pt x="158" y="1218"/>
                  </a:lnTo>
                  <a:lnTo>
                    <a:pt x="154" y="1218"/>
                  </a:lnTo>
                  <a:lnTo>
                    <a:pt x="154" y="1224"/>
                  </a:lnTo>
                  <a:lnTo>
                    <a:pt x="149" y="1224"/>
                  </a:lnTo>
                  <a:lnTo>
                    <a:pt x="149" y="1230"/>
                  </a:lnTo>
                  <a:lnTo>
                    <a:pt x="144" y="1230"/>
                  </a:lnTo>
                  <a:lnTo>
                    <a:pt x="144" y="1237"/>
                  </a:lnTo>
                  <a:lnTo>
                    <a:pt x="139" y="1237"/>
                  </a:lnTo>
                  <a:lnTo>
                    <a:pt x="139" y="1242"/>
                  </a:lnTo>
                  <a:lnTo>
                    <a:pt x="135" y="1242"/>
                  </a:lnTo>
                  <a:lnTo>
                    <a:pt x="135" y="1248"/>
                  </a:lnTo>
                  <a:lnTo>
                    <a:pt x="130" y="1248"/>
                  </a:lnTo>
                  <a:lnTo>
                    <a:pt x="130" y="1254"/>
                  </a:lnTo>
                  <a:lnTo>
                    <a:pt x="125" y="1254"/>
                  </a:lnTo>
                  <a:lnTo>
                    <a:pt x="125" y="1259"/>
                  </a:lnTo>
                  <a:lnTo>
                    <a:pt x="121" y="1259"/>
                  </a:lnTo>
                  <a:lnTo>
                    <a:pt x="121" y="1267"/>
                  </a:lnTo>
                  <a:lnTo>
                    <a:pt x="116" y="1267"/>
                  </a:lnTo>
                  <a:lnTo>
                    <a:pt x="116" y="1272"/>
                  </a:lnTo>
                  <a:lnTo>
                    <a:pt x="111" y="1272"/>
                  </a:lnTo>
                  <a:lnTo>
                    <a:pt x="111" y="1278"/>
                  </a:lnTo>
                  <a:lnTo>
                    <a:pt x="105" y="1278"/>
                  </a:lnTo>
                  <a:lnTo>
                    <a:pt x="105" y="1284"/>
                  </a:lnTo>
                  <a:lnTo>
                    <a:pt x="101" y="1284"/>
                  </a:lnTo>
                  <a:lnTo>
                    <a:pt x="101" y="1290"/>
                  </a:lnTo>
                  <a:lnTo>
                    <a:pt x="95" y="1290"/>
                  </a:lnTo>
                  <a:lnTo>
                    <a:pt x="95" y="1295"/>
                  </a:lnTo>
                  <a:lnTo>
                    <a:pt x="91" y="1295"/>
                  </a:lnTo>
                  <a:lnTo>
                    <a:pt x="91" y="1300"/>
                  </a:lnTo>
                  <a:lnTo>
                    <a:pt x="87" y="1300"/>
                  </a:lnTo>
                  <a:lnTo>
                    <a:pt x="87" y="1308"/>
                  </a:lnTo>
                  <a:lnTo>
                    <a:pt x="81" y="1308"/>
                  </a:lnTo>
                  <a:lnTo>
                    <a:pt x="81" y="1313"/>
                  </a:lnTo>
                  <a:lnTo>
                    <a:pt x="72" y="1313"/>
                  </a:lnTo>
                  <a:lnTo>
                    <a:pt x="72" y="1337"/>
                  </a:lnTo>
                  <a:lnTo>
                    <a:pt x="77" y="1337"/>
                  </a:lnTo>
                  <a:lnTo>
                    <a:pt x="77" y="1343"/>
                  </a:lnTo>
                  <a:lnTo>
                    <a:pt x="87" y="1343"/>
                  </a:lnTo>
                  <a:lnTo>
                    <a:pt x="87" y="1349"/>
                  </a:lnTo>
                  <a:lnTo>
                    <a:pt x="95" y="1349"/>
                  </a:lnTo>
                  <a:lnTo>
                    <a:pt x="95" y="1354"/>
                  </a:lnTo>
                  <a:lnTo>
                    <a:pt x="101" y="1354"/>
                  </a:lnTo>
                  <a:lnTo>
                    <a:pt x="101" y="1373"/>
                  </a:lnTo>
                  <a:lnTo>
                    <a:pt x="105" y="1373"/>
                  </a:lnTo>
                  <a:lnTo>
                    <a:pt x="105" y="1378"/>
                  </a:lnTo>
                  <a:lnTo>
                    <a:pt x="111" y="1378"/>
                  </a:lnTo>
                  <a:lnTo>
                    <a:pt x="111" y="1385"/>
                  </a:lnTo>
                  <a:lnTo>
                    <a:pt x="116" y="1385"/>
                  </a:lnTo>
                  <a:lnTo>
                    <a:pt x="116" y="1390"/>
                  </a:lnTo>
                  <a:lnTo>
                    <a:pt x="121" y="1390"/>
                  </a:lnTo>
                  <a:lnTo>
                    <a:pt x="121" y="1396"/>
                  </a:lnTo>
                  <a:lnTo>
                    <a:pt x="125" y="1396"/>
                  </a:lnTo>
                  <a:lnTo>
                    <a:pt x="125" y="1408"/>
                  </a:lnTo>
                  <a:lnTo>
                    <a:pt x="130" y="1408"/>
                  </a:lnTo>
                  <a:lnTo>
                    <a:pt x="130" y="1414"/>
                  </a:lnTo>
                  <a:lnTo>
                    <a:pt x="135" y="1414"/>
                  </a:lnTo>
                  <a:lnTo>
                    <a:pt x="135" y="1419"/>
                  </a:lnTo>
                  <a:lnTo>
                    <a:pt x="139" y="1419"/>
                  </a:lnTo>
                  <a:lnTo>
                    <a:pt x="139" y="1426"/>
                  </a:lnTo>
                  <a:lnTo>
                    <a:pt x="144" y="1426"/>
                  </a:lnTo>
                  <a:lnTo>
                    <a:pt x="144" y="1436"/>
                  </a:lnTo>
                  <a:lnTo>
                    <a:pt x="149" y="1436"/>
                  </a:lnTo>
                  <a:lnTo>
                    <a:pt x="149" y="1444"/>
                  </a:lnTo>
                  <a:lnTo>
                    <a:pt x="154" y="1444"/>
                  </a:lnTo>
                  <a:lnTo>
                    <a:pt x="154" y="1455"/>
                  </a:lnTo>
                  <a:lnTo>
                    <a:pt x="158" y="1455"/>
                  </a:lnTo>
                  <a:lnTo>
                    <a:pt x="158" y="1461"/>
                  </a:lnTo>
                  <a:lnTo>
                    <a:pt x="163" y="1461"/>
                  </a:lnTo>
                  <a:lnTo>
                    <a:pt x="163" y="1466"/>
                  </a:lnTo>
                  <a:lnTo>
                    <a:pt x="173" y="1466"/>
                  </a:lnTo>
                  <a:lnTo>
                    <a:pt x="173" y="1473"/>
                  </a:lnTo>
                  <a:lnTo>
                    <a:pt x="192" y="1473"/>
                  </a:lnTo>
                  <a:lnTo>
                    <a:pt x="192" y="1478"/>
                  </a:lnTo>
                  <a:lnTo>
                    <a:pt x="212" y="1478"/>
                  </a:lnTo>
                  <a:lnTo>
                    <a:pt x="212" y="1485"/>
                  </a:lnTo>
                  <a:lnTo>
                    <a:pt x="225" y="1485"/>
                  </a:lnTo>
                  <a:lnTo>
                    <a:pt x="225" y="1490"/>
                  </a:lnTo>
                  <a:lnTo>
                    <a:pt x="235" y="1490"/>
                  </a:lnTo>
                  <a:lnTo>
                    <a:pt x="235" y="1496"/>
                  </a:lnTo>
                  <a:lnTo>
                    <a:pt x="249" y="1496"/>
                  </a:lnTo>
                  <a:lnTo>
                    <a:pt x="249" y="1502"/>
                  </a:lnTo>
                  <a:lnTo>
                    <a:pt x="288" y="1502"/>
                  </a:lnTo>
                  <a:lnTo>
                    <a:pt x="288" y="1496"/>
                  </a:lnTo>
                  <a:lnTo>
                    <a:pt x="307" y="1496"/>
                  </a:lnTo>
                  <a:lnTo>
                    <a:pt x="307" y="1490"/>
                  </a:lnTo>
                  <a:lnTo>
                    <a:pt x="327" y="1490"/>
                  </a:lnTo>
                  <a:lnTo>
                    <a:pt x="327" y="1485"/>
                  </a:lnTo>
                  <a:lnTo>
                    <a:pt x="365" y="1485"/>
                  </a:lnTo>
                  <a:lnTo>
                    <a:pt x="365" y="1478"/>
                  </a:lnTo>
                  <a:lnTo>
                    <a:pt x="379" y="1478"/>
                  </a:lnTo>
                  <a:lnTo>
                    <a:pt x="379" y="1473"/>
                  </a:lnTo>
                  <a:lnTo>
                    <a:pt x="389" y="1473"/>
                  </a:lnTo>
                  <a:lnTo>
                    <a:pt x="389" y="1466"/>
                  </a:lnTo>
                  <a:lnTo>
                    <a:pt x="409" y="1466"/>
                  </a:lnTo>
                  <a:lnTo>
                    <a:pt x="409" y="1461"/>
                  </a:lnTo>
                  <a:lnTo>
                    <a:pt x="413" y="1461"/>
                  </a:lnTo>
                  <a:lnTo>
                    <a:pt x="413" y="1455"/>
                  </a:lnTo>
                  <a:lnTo>
                    <a:pt x="418" y="1455"/>
                  </a:lnTo>
                  <a:lnTo>
                    <a:pt x="418" y="1449"/>
                  </a:lnTo>
                  <a:lnTo>
                    <a:pt x="423" y="1449"/>
                  </a:lnTo>
                  <a:lnTo>
                    <a:pt x="423" y="1444"/>
                  </a:lnTo>
                  <a:lnTo>
                    <a:pt x="432" y="1444"/>
                  </a:lnTo>
                  <a:lnTo>
                    <a:pt x="432" y="1436"/>
                  </a:lnTo>
                  <a:lnTo>
                    <a:pt x="437" y="1436"/>
                  </a:lnTo>
                  <a:lnTo>
                    <a:pt x="437" y="1431"/>
                  </a:lnTo>
                  <a:lnTo>
                    <a:pt x="442" y="1431"/>
                  </a:lnTo>
                  <a:lnTo>
                    <a:pt x="442" y="1426"/>
                  </a:lnTo>
                  <a:lnTo>
                    <a:pt x="446" y="1426"/>
                  </a:lnTo>
                  <a:lnTo>
                    <a:pt x="446" y="1419"/>
                  </a:lnTo>
                  <a:lnTo>
                    <a:pt x="451" y="1419"/>
                  </a:lnTo>
                  <a:lnTo>
                    <a:pt x="451" y="1414"/>
                  </a:lnTo>
                  <a:lnTo>
                    <a:pt x="456" y="1414"/>
                  </a:lnTo>
                  <a:lnTo>
                    <a:pt x="456" y="1408"/>
                  </a:lnTo>
                  <a:lnTo>
                    <a:pt x="461" y="1408"/>
                  </a:lnTo>
                  <a:lnTo>
                    <a:pt x="461" y="1403"/>
                  </a:lnTo>
                  <a:lnTo>
                    <a:pt x="465" y="1403"/>
                  </a:lnTo>
                  <a:lnTo>
                    <a:pt x="465" y="1396"/>
                  </a:lnTo>
                  <a:lnTo>
                    <a:pt x="472" y="1396"/>
                  </a:lnTo>
                  <a:lnTo>
                    <a:pt x="472" y="1390"/>
                  </a:lnTo>
                  <a:lnTo>
                    <a:pt x="476" y="1390"/>
                  </a:lnTo>
                  <a:lnTo>
                    <a:pt x="476" y="1378"/>
                  </a:lnTo>
                  <a:lnTo>
                    <a:pt x="480" y="1378"/>
                  </a:lnTo>
                  <a:lnTo>
                    <a:pt x="480" y="1373"/>
                  </a:lnTo>
                  <a:lnTo>
                    <a:pt x="486" y="1373"/>
                  </a:lnTo>
                  <a:lnTo>
                    <a:pt x="486" y="1366"/>
                  </a:lnTo>
                  <a:lnTo>
                    <a:pt x="490" y="1366"/>
                  </a:lnTo>
                  <a:lnTo>
                    <a:pt x="490" y="1354"/>
                  </a:lnTo>
                  <a:lnTo>
                    <a:pt x="495" y="1354"/>
                  </a:lnTo>
                  <a:lnTo>
                    <a:pt x="495" y="1349"/>
                  </a:lnTo>
                  <a:lnTo>
                    <a:pt x="500" y="1349"/>
                  </a:lnTo>
                  <a:lnTo>
                    <a:pt x="500" y="1337"/>
                  </a:lnTo>
                  <a:lnTo>
                    <a:pt x="505" y="1337"/>
                  </a:lnTo>
                  <a:lnTo>
                    <a:pt x="505" y="1332"/>
                  </a:lnTo>
                  <a:lnTo>
                    <a:pt x="509" y="1332"/>
                  </a:lnTo>
                  <a:lnTo>
                    <a:pt x="509" y="1319"/>
                  </a:lnTo>
                  <a:lnTo>
                    <a:pt x="514" y="1319"/>
                  </a:lnTo>
                  <a:lnTo>
                    <a:pt x="514" y="1308"/>
                  </a:lnTo>
                  <a:lnTo>
                    <a:pt x="519" y="1308"/>
                  </a:lnTo>
                  <a:lnTo>
                    <a:pt x="519" y="1300"/>
                  </a:lnTo>
                  <a:lnTo>
                    <a:pt x="523" y="1300"/>
                  </a:lnTo>
                  <a:lnTo>
                    <a:pt x="523" y="1290"/>
                  </a:lnTo>
                  <a:lnTo>
                    <a:pt x="528" y="1290"/>
                  </a:lnTo>
                  <a:lnTo>
                    <a:pt x="528" y="1284"/>
                  </a:lnTo>
                  <a:lnTo>
                    <a:pt x="533" y="1284"/>
                  </a:lnTo>
                  <a:lnTo>
                    <a:pt x="533" y="1272"/>
                  </a:lnTo>
                  <a:lnTo>
                    <a:pt x="538" y="1272"/>
                  </a:lnTo>
                  <a:lnTo>
                    <a:pt x="538" y="1267"/>
                  </a:lnTo>
                  <a:lnTo>
                    <a:pt x="543" y="1267"/>
                  </a:lnTo>
                  <a:lnTo>
                    <a:pt x="543" y="1254"/>
                  </a:lnTo>
                  <a:lnTo>
                    <a:pt x="548" y="1254"/>
                  </a:lnTo>
                  <a:lnTo>
                    <a:pt x="548" y="1248"/>
                  </a:lnTo>
                  <a:lnTo>
                    <a:pt x="553" y="1248"/>
                  </a:lnTo>
                  <a:lnTo>
                    <a:pt x="553" y="1237"/>
                  </a:lnTo>
                  <a:lnTo>
                    <a:pt x="558" y="1237"/>
                  </a:lnTo>
                  <a:lnTo>
                    <a:pt x="558" y="1224"/>
                  </a:lnTo>
                  <a:lnTo>
                    <a:pt x="562" y="1224"/>
                  </a:lnTo>
                  <a:lnTo>
                    <a:pt x="562" y="1213"/>
                  </a:lnTo>
                  <a:lnTo>
                    <a:pt x="567" y="1213"/>
                  </a:lnTo>
                  <a:lnTo>
                    <a:pt x="567" y="1207"/>
                  </a:lnTo>
                  <a:lnTo>
                    <a:pt x="572" y="1207"/>
                  </a:lnTo>
                  <a:lnTo>
                    <a:pt x="572" y="1189"/>
                  </a:lnTo>
                  <a:lnTo>
                    <a:pt x="576" y="1189"/>
                  </a:lnTo>
                  <a:lnTo>
                    <a:pt x="576" y="1172"/>
                  </a:lnTo>
                  <a:lnTo>
                    <a:pt x="582" y="1172"/>
                  </a:lnTo>
                  <a:lnTo>
                    <a:pt x="582" y="1159"/>
                  </a:lnTo>
                  <a:lnTo>
                    <a:pt x="586" y="1159"/>
                  </a:lnTo>
                  <a:lnTo>
                    <a:pt x="586" y="1148"/>
                  </a:lnTo>
                  <a:lnTo>
                    <a:pt x="590" y="1148"/>
                  </a:lnTo>
                  <a:lnTo>
                    <a:pt x="590" y="1142"/>
                  </a:lnTo>
                  <a:lnTo>
                    <a:pt x="595" y="1142"/>
                  </a:lnTo>
                  <a:lnTo>
                    <a:pt x="595" y="1131"/>
                  </a:lnTo>
                  <a:lnTo>
                    <a:pt x="600" y="1131"/>
                  </a:lnTo>
                  <a:lnTo>
                    <a:pt x="600" y="1112"/>
                  </a:lnTo>
                  <a:lnTo>
                    <a:pt x="605" y="1112"/>
                  </a:lnTo>
                  <a:lnTo>
                    <a:pt x="605" y="1099"/>
                  </a:lnTo>
                  <a:lnTo>
                    <a:pt x="609" y="1099"/>
                  </a:lnTo>
                  <a:lnTo>
                    <a:pt x="609" y="1082"/>
                  </a:lnTo>
                  <a:lnTo>
                    <a:pt x="615" y="1082"/>
                  </a:lnTo>
                  <a:lnTo>
                    <a:pt x="615" y="1071"/>
                  </a:lnTo>
                  <a:lnTo>
                    <a:pt x="620" y="1071"/>
                  </a:lnTo>
                  <a:lnTo>
                    <a:pt x="620" y="1058"/>
                  </a:lnTo>
                  <a:lnTo>
                    <a:pt x="624" y="1058"/>
                  </a:lnTo>
                  <a:lnTo>
                    <a:pt x="624" y="1036"/>
                  </a:lnTo>
                  <a:lnTo>
                    <a:pt x="630" y="1036"/>
                  </a:lnTo>
                  <a:lnTo>
                    <a:pt x="630" y="1030"/>
                  </a:lnTo>
                  <a:lnTo>
                    <a:pt x="634" y="1030"/>
                  </a:lnTo>
                  <a:lnTo>
                    <a:pt x="634" y="1006"/>
                  </a:lnTo>
                  <a:lnTo>
                    <a:pt x="639" y="1006"/>
                  </a:lnTo>
                  <a:lnTo>
                    <a:pt x="639" y="995"/>
                  </a:lnTo>
                  <a:lnTo>
                    <a:pt x="644" y="995"/>
                  </a:lnTo>
                  <a:lnTo>
                    <a:pt x="644" y="982"/>
                  </a:lnTo>
                  <a:lnTo>
                    <a:pt x="649" y="982"/>
                  </a:lnTo>
                  <a:lnTo>
                    <a:pt x="649" y="965"/>
                  </a:lnTo>
                  <a:lnTo>
                    <a:pt x="653" y="965"/>
                  </a:lnTo>
                  <a:lnTo>
                    <a:pt x="653" y="958"/>
                  </a:lnTo>
                  <a:lnTo>
                    <a:pt x="657" y="958"/>
                  </a:lnTo>
                  <a:lnTo>
                    <a:pt x="657" y="941"/>
                  </a:lnTo>
                  <a:lnTo>
                    <a:pt x="663" y="941"/>
                  </a:lnTo>
                  <a:lnTo>
                    <a:pt x="663" y="923"/>
                  </a:lnTo>
                  <a:lnTo>
                    <a:pt x="667" y="923"/>
                  </a:lnTo>
                  <a:lnTo>
                    <a:pt x="667" y="917"/>
                  </a:lnTo>
                  <a:lnTo>
                    <a:pt x="672" y="917"/>
                  </a:lnTo>
                  <a:lnTo>
                    <a:pt x="672" y="900"/>
                  </a:lnTo>
                  <a:lnTo>
                    <a:pt x="677" y="900"/>
                  </a:lnTo>
                  <a:lnTo>
                    <a:pt x="677" y="887"/>
                  </a:lnTo>
                  <a:lnTo>
                    <a:pt x="682" y="887"/>
                  </a:lnTo>
                  <a:lnTo>
                    <a:pt x="682" y="876"/>
                  </a:lnTo>
                  <a:lnTo>
                    <a:pt x="687" y="876"/>
                  </a:lnTo>
                  <a:lnTo>
                    <a:pt x="687" y="864"/>
                  </a:lnTo>
                  <a:lnTo>
                    <a:pt x="692" y="864"/>
                  </a:lnTo>
                  <a:lnTo>
                    <a:pt x="692" y="846"/>
                  </a:lnTo>
                  <a:lnTo>
                    <a:pt x="697" y="846"/>
                  </a:lnTo>
                  <a:lnTo>
                    <a:pt x="697" y="835"/>
                  </a:lnTo>
                  <a:lnTo>
                    <a:pt x="701" y="835"/>
                  </a:lnTo>
                  <a:lnTo>
                    <a:pt x="701" y="822"/>
                  </a:lnTo>
                  <a:lnTo>
                    <a:pt x="706" y="822"/>
                  </a:lnTo>
                  <a:lnTo>
                    <a:pt x="706" y="805"/>
                  </a:lnTo>
                  <a:lnTo>
                    <a:pt x="711" y="805"/>
                  </a:lnTo>
                  <a:lnTo>
                    <a:pt x="711" y="794"/>
                  </a:lnTo>
                  <a:lnTo>
                    <a:pt x="716" y="794"/>
                  </a:lnTo>
                  <a:lnTo>
                    <a:pt x="716" y="769"/>
                  </a:lnTo>
                  <a:lnTo>
                    <a:pt x="720" y="769"/>
                  </a:lnTo>
                  <a:lnTo>
                    <a:pt x="720" y="753"/>
                  </a:lnTo>
                  <a:lnTo>
                    <a:pt x="726" y="753"/>
                  </a:lnTo>
                  <a:lnTo>
                    <a:pt x="726" y="728"/>
                  </a:lnTo>
                  <a:lnTo>
                    <a:pt x="730" y="728"/>
                  </a:lnTo>
                  <a:lnTo>
                    <a:pt x="730" y="699"/>
                  </a:lnTo>
                  <a:lnTo>
                    <a:pt x="734" y="699"/>
                  </a:lnTo>
                  <a:lnTo>
                    <a:pt x="734" y="680"/>
                  </a:lnTo>
                  <a:lnTo>
                    <a:pt x="740" y="680"/>
                  </a:lnTo>
                  <a:lnTo>
                    <a:pt x="740" y="663"/>
                  </a:lnTo>
                  <a:lnTo>
                    <a:pt x="744" y="663"/>
                  </a:lnTo>
                  <a:lnTo>
                    <a:pt x="744" y="645"/>
                  </a:lnTo>
                  <a:lnTo>
                    <a:pt x="749" y="645"/>
                  </a:lnTo>
                  <a:lnTo>
                    <a:pt x="749" y="626"/>
                  </a:lnTo>
                  <a:lnTo>
                    <a:pt x="753" y="626"/>
                  </a:lnTo>
                  <a:lnTo>
                    <a:pt x="753" y="604"/>
                  </a:lnTo>
                  <a:lnTo>
                    <a:pt x="760" y="604"/>
                  </a:lnTo>
                  <a:lnTo>
                    <a:pt x="760" y="574"/>
                  </a:lnTo>
                  <a:lnTo>
                    <a:pt x="764" y="574"/>
                  </a:lnTo>
                  <a:lnTo>
                    <a:pt x="764" y="563"/>
                  </a:lnTo>
                  <a:lnTo>
                    <a:pt x="769" y="563"/>
                  </a:lnTo>
                  <a:lnTo>
                    <a:pt x="769" y="545"/>
                  </a:lnTo>
                  <a:lnTo>
                    <a:pt x="774" y="545"/>
                  </a:lnTo>
                  <a:lnTo>
                    <a:pt x="774" y="527"/>
                  </a:lnTo>
                  <a:lnTo>
                    <a:pt x="778" y="527"/>
                  </a:lnTo>
                  <a:lnTo>
                    <a:pt x="778" y="509"/>
                  </a:lnTo>
                  <a:lnTo>
                    <a:pt x="783" y="509"/>
                  </a:lnTo>
                  <a:lnTo>
                    <a:pt x="783" y="492"/>
                  </a:lnTo>
                  <a:lnTo>
                    <a:pt x="788" y="492"/>
                  </a:lnTo>
                  <a:lnTo>
                    <a:pt x="788" y="473"/>
                  </a:lnTo>
                  <a:lnTo>
                    <a:pt x="793" y="473"/>
                  </a:lnTo>
                  <a:lnTo>
                    <a:pt x="793" y="462"/>
                  </a:lnTo>
                  <a:lnTo>
                    <a:pt x="797" y="462"/>
                  </a:lnTo>
                  <a:lnTo>
                    <a:pt x="797" y="432"/>
                  </a:lnTo>
                  <a:lnTo>
                    <a:pt x="802" y="432"/>
                  </a:lnTo>
                  <a:lnTo>
                    <a:pt x="802" y="421"/>
                  </a:lnTo>
                  <a:lnTo>
                    <a:pt x="807" y="421"/>
                  </a:lnTo>
                  <a:lnTo>
                    <a:pt x="807" y="409"/>
                  </a:lnTo>
                  <a:lnTo>
                    <a:pt x="812" y="409"/>
                  </a:lnTo>
                  <a:lnTo>
                    <a:pt x="812" y="391"/>
                  </a:lnTo>
                  <a:lnTo>
                    <a:pt x="816" y="391"/>
                  </a:lnTo>
                  <a:lnTo>
                    <a:pt x="816" y="367"/>
                  </a:lnTo>
                  <a:lnTo>
                    <a:pt x="821" y="367"/>
                  </a:lnTo>
                  <a:lnTo>
                    <a:pt x="821" y="356"/>
                  </a:lnTo>
                  <a:lnTo>
                    <a:pt x="826" y="356"/>
                  </a:lnTo>
                  <a:lnTo>
                    <a:pt x="826" y="344"/>
                  </a:lnTo>
                  <a:lnTo>
                    <a:pt x="831" y="344"/>
                  </a:lnTo>
                  <a:lnTo>
                    <a:pt x="831" y="313"/>
                  </a:lnTo>
                  <a:lnTo>
                    <a:pt x="836" y="313"/>
                  </a:lnTo>
                  <a:lnTo>
                    <a:pt x="836" y="291"/>
                  </a:lnTo>
                  <a:lnTo>
                    <a:pt x="841" y="291"/>
                  </a:lnTo>
                  <a:lnTo>
                    <a:pt x="841" y="272"/>
                  </a:lnTo>
                  <a:lnTo>
                    <a:pt x="846" y="272"/>
                  </a:lnTo>
                  <a:lnTo>
                    <a:pt x="846" y="255"/>
                  </a:lnTo>
                  <a:lnTo>
                    <a:pt x="850" y="255"/>
                  </a:lnTo>
                  <a:lnTo>
                    <a:pt x="850" y="226"/>
                  </a:lnTo>
                  <a:lnTo>
                    <a:pt x="856" y="226"/>
                  </a:lnTo>
                  <a:lnTo>
                    <a:pt x="856" y="177"/>
                  </a:lnTo>
                  <a:lnTo>
                    <a:pt x="860" y="177"/>
                  </a:lnTo>
                  <a:lnTo>
                    <a:pt x="860" y="155"/>
                  </a:lnTo>
                  <a:lnTo>
                    <a:pt x="864" y="155"/>
                  </a:lnTo>
                  <a:lnTo>
                    <a:pt x="864" y="131"/>
                  </a:lnTo>
                  <a:lnTo>
                    <a:pt x="870" y="131"/>
                  </a:lnTo>
                  <a:lnTo>
                    <a:pt x="870" y="90"/>
                  </a:lnTo>
                  <a:lnTo>
                    <a:pt x="874" y="90"/>
                  </a:lnTo>
                  <a:lnTo>
                    <a:pt x="874" y="49"/>
                  </a:lnTo>
                  <a:lnTo>
                    <a:pt x="879" y="49"/>
                  </a:lnTo>
                  <a:lnTo>
                    <a:pt x="879" y="31"/>
                  </a:lnTo>
                  <a:lnTo>
                    <a:pt x="874" y="31"/>
                  </a:lnTo>
                  <a:lnTo>
                    <a:pt x="874" y="13"/>
                  </a:lnTo>
                  <a:lnTo>
                    <a:pt x="879" y="13"/>
                  </a:lnTo>
                  <a:lnTo>
                    <a:pt x="879" y="8"/>
                  </a:lnTo>
                  <a:lnTo>
                    <a:pt x="884" y="8"/>
                  </a:lnTo>
                  <a:lnTo>
                    <a:pt x="884" y="0"/>
                  </a:lnTo>
                  <a:lnTo>
                    <a:pt x="908" y="0"/>
                  </a:lnTo>
                  <a:lnTo>
                    <a:pt x="908" y="8"/>
                  </a:lnTo>
                  <a:lnTo>
                    <a:pt x="913" y="8"/>
                  </a:lnTo>
                  <a:lnTo>
                    <a:pt x="913" y="13"/>
                  </a:lnTo>
                  <a:lnTo>
                    <a:pt x="918" y="13"/>
                  </a:lnTo>
                  <a:lnTo>
                    <a:pt x="918" y="25"/>
                  </a:lnTo>
                  <a:lnTo>
                    <a:pt x="923" y="25"/>
                  </a:lnTo>
                  <a:lnTo>
                    <a:pt x="923" y="90"/>
                  </a:lnTo>
                  <a:lnTo>
                    <a:pt x="918" y="90"/>
                  </a:lnTo>
                  <a:lnTo>
                    <a:pt x="918" y="144"/>
                  </a:lnTo>
                  <a:lnTo>
                    <a:pt x="913" y="144"/>
                  </a:lnTo>
                  <a:lnTo>
                    <a:pt x="913" y="177"/>
                  </a:lnTo>
                  <a:lnTo>
                    <a:pt x="908" y="177"/>
                  </a:lnTo>
                  <a:lnTo>
                    <a:pt x="908" y="220"/>
                  </a:lnTo>
                  <a:lnTo>
                    <a:pt x="904" y="220"/>
                  </a:lnTo>
                  <a:lnTo>
                    <a:pt x="904" y="250"/>
                  </a:lnTo>
                  <a:lnTo>
                    <a:pt x="898" y="250"/>
                  </a:lnTo>
                  <a:lnTo>
                    <a:pt x="898" y="272"/>
                  </a:lnTo>
                  <a:lnTo>
                    <a:pt x="893" y="272"/>
                  </a:lnTo>
                  <a:lnTo>
                    <a:pt x="893" y="303"/>
                  </a:lnTo>
                  <a:lnTo>
                    <a:pt x="889" y="303"/>
                  </a:lnTo>
                  <a:lnTo>
                    <a:pt x="889" y="338"/>
                  </a:lnTo>
                  <a:lnTo>
                    <a:pt x="884" y="338"/>
                  </a:lnTo>
                  <a:lnTo>
                    <a:pt x="884" y="367"/>
                  </a:lnTo>
                  <a:lnTo>
                    <a:pt x="879" y="367"/>
                  </a:lnTo>
                  <a:lnTo>
                    <a:pt x="879" y="386"/>
                  </a:lnTo>
                  <a:lnTo>
                    <a:pt x="874" y="386"/>
                  </a:lnTo>
                  <a:lnTo>
                    <a:pt x="874" y="397"/>
                  </a:lnTo>
                  <a:lnTo>
                    <a:pt x="870" y="397"/>
                  </a:lnTo>
                  <a:lnTo>
                    <a:pt x="870" y="409"/>
                  </a:lnTo>
                  <a:lnTo>
                    <a:pt x="864" y="409"/>
                  </a:lnTo>
                  <a:lnTo>
                    <a:pt x="864" y="421"/>
                  </a:lnTo>
                  <a:lnTo>
                    <a:pt x="860" y="421"/>
                  </a:lnTo>
                  <a:lnTo>
                    <a:pt x="860" y="432"/>
                  </a:lnTo>
                  <a:lnTo>
                    <a:pt x="856" y="432"/>
                  </a:lnTo>
                  <a:lnTo>
                    <a:pt x="856" y="451"/>
                  </a:lnTo>
                  <a:lnTo>
                    <a:pt x="850" y="451"/>
                  </a:lnTo>
                  <a:lnTo>
                    <a:pt x="850" y="473"/>
                  </a:lnTo>
                  <a:lnTo>
                    <a:pt x="846" y="473"/>
                  </a:lnTo>
                  <a:lnTo>
                    <a:pt x="846" y="485"/>
                  </a:lnTo>
                  <a:lnTo>
                    <a:pt x="841" y="485"/>
                  </a:lnTo>
                  <a:lnTo>
                    <a:pt x="841" y="504"/>
                  </a:lnTo>
                  <a:lnTo>
                    <a:pt x="836" y="504"/>
                  </a:lnTo>
                  <a:lnTo>
                    <a:pt x="836" y="515"/>
                  </a:lnTo>
                  <a:lnTo>
                    <a:pt x="831" y="515"/>
                  </a:lnTo>
                  <a:lnTo>
                    <a:pt x="831" y="539"/>
                  </a:lnTo>
                  <a:lnTo>
                    <a:pt x="826" y="539"/>
                  </a:lnTo>
                  <a:lnTo>
                    <a:pt x="826" y="550"/>
                  </a:lnTo>
                  <a:lnTo>
                    <a:pt x="821" y="550"/>
                  </a:lnTo>
                  <a:lnTo>
                    <a:pt x="821" y="558"/>
                  </a:lnTo>
                  <a:lnTo>
                    <a:pt x="816" y="558"/>
                  </a:lnTo>
                  <a:lnTo>
                    <a:pt x="816" y="568"/>
                  </a:lnTo>
                  <a:lnTo>
                    <a:pt x="812" y="568"/>
                  </a:lnTo>
                  <a:lnTo>
                    <a:pt x="812" y="585"/>
                  </a:lnTo>
                  <a:lnTo>
                    <a:pt x="807" y="585"/>
                  </a:lnTo>
                  <a:lnTo>
                    <a:pt x="807" y="617"/>
                  </a:lnTo>
                  <a:lnTo>
                    <a:pt x="802" y="617"/>
                  </a:lnTo>
                  <a:lnTo>
                    <a:pt x="802" y="645"/>
                  </a:lnTo>
                  <a:lnTo>
                    <a:pt x="797" y="645"/>
                  </a:lnTo>
                  <a:lnTo>
                    <a:pt x="797" y="663"/>
                  </a:lnTo>
                  <a:lnTo>
                    <a:pt x="793" y="663"/>
                  </a:lnTo>
                  <a:lnTo>
                    <a:pt x="793" y="675"/>
                  </a:lnTo>
                  <a:lnTo>
                    <a:pt x="788" y="675"/>
                  </a:lnTo>
                  <a:lnTo>
                    <a:pt x="788" y="704"/>
                  </a:lnTo>
                  <a:lnTo>
                    <a:pt x="783" y="704"/>
                  </a:lnTo>
                  <a:lnTo>
                    <a:pt x="783" y="723"/>
                  </a:lnTo>
                  <a:lnTo>
                    <a:pt x="778" y="723"/>
                  </a:lnTo>
                  <a:lnTo>
                    <a:pt x="778" y="740"/>
                  </a:lnTo>
                  <a:lnTo>
                    <a:pt x="774" y="740"/>
                  </a:lnTo>
                  <a:lnTo>
                    <a:pt x="774" y="758"/>
                  </a:lnTo>
                  <a:lnTo>
                    <a:pt x="769" y="758"/>
                  </a:lnTo>
                  <a:lnTo>
                    <a:pt x="769" y="776"/>
                  </a:lnTo>
                  <a:lnTo>
                    <a:pt x="764" y="776"/>
                  </a:lnTo>
                  <a:lnTo>
                    <a:pt x="764" y="799"/>
                  </a:lnTo>
                  <a:lnTo>
                    <a:pt x="760" y="799"/>
                  </a:lnTo>
                  <a:lnTo>
                    <a:pt x="760" y="817"/>
                  </a:lnTo>
                  <a:lnTo>
                    <a:pt x="753" y="817"/>
                  </a:lnTo>
                  <a:lnTo>
                    <a:pt x="753" y="827"/>
                  </a:lnTo>
                  <a:lnTo>
                    <a:pt x="749" y="827"/>
                  </a:lnTo>
                  <a:lnTo>
                    <a:pt x="749" y="846"/>
                  </a:lnTo>
                  <a:lnTo>
                    <a:pt x="744" y="846"/>
                  </a:lnTo>
                  <a:lnTo>
                    <a:pt x="744" y="859"/>
                  </a:lnTo>
                  <a:lnTo>
                    <a:pt x="740" y="859"/>
                  </a:lnTo>
                  <a:lnTo>
                    <a:pt x="740" y="876"/>
                  </a:lnTo>
                  <a:lnTo>
                    <a:pt x="734" y="876"/>
                  </a:lnTo>
                  <a:lnTo>
                    <a:pt x="734" y="887"/>
                  </a:lnTo>
                  <a:lnTo>
                    <a:pt x="730" y="887"/>
                  </a:lnTo>
                  <a:lnTo>
                    <a:pt x="730" y="912"/>
                  </a:lnTo>
                  <a:lnTo>
                    <a:pt x="726" y="912"/>
                  </a:lnTo>
                  <a:lnTo>
                    <a:pt x="726" y="930"/>
                  </a:lnTo>
                  <a:lnTo>
                    <a:pt x="720" y="930"/>
                  </a:lnTo>
                  <a:lnTo>
                    <a:pt x="720" y="935"/>
                  </a:lnTo>
                  <a:lnTo>
                    <a:pt x="716" y="935"/>
                  </a:lnTo>
                  <a:lnTo>
                    <a:pt x="716" y="946"/>
                  </a:lnTo>
                  <a:lnTo>
                    <a:pt x="711" y="946"/>
                  </a:lnTo>
                  <a:lnTo>
                    <a:pt x="711" y="958"/>
                  </a:lnTo>
                  <a:lnTo>
                    <a:pt x="706" y="958"/>
                  </a:lnTo>
                  <a:lnTo>
                    <a:pt x="706" y="982"/>
                  </a:lnTo>
                  <a:lnTo>
                    <a:pt x="701" y="982"/>
                  </a:lnTo>
                  <a:lnTo>
                    <a:pt x="701" y="1006"/>
                  </a:lnTo>
                  <a:lnTo>
                    <a:pt x="697" y="1006"/>
                  </a:lnTo>
                  <a:lnTo>
                    <a:pt x="697" y="1017"/>
                  </a:lnTo>
                  <a:lnTo>
                    <a:pt x="692" y="1017"/>
                  </a:lnTo>
                  <a:lnTo>
                    <a:pt x="692" y="1041"/>
                  </a:lnTo>
                  <a:lnTo>
                    <a:pt x="687" y="1041"/>
                  </a:lnTo>
                  <a:lnTo>
                    <a:pt x="687" y="1047"/>
                  </a:lnTo>
                  <a:lnTo>
                    <a:pt x="682" y="1047"/>
                  </a:lnTo>
                  <a:lnTo>
                    <a:pt x="682" y="1058"/>
                  </a:lnTo>
                  <a:lnTo>
                    <a:pt x="677" y="1058"/>
                  </a:lnTo>
                  <a:lnTo>
                    <a:pt x="677" y="1077"/>
                  </a:lnTo>
                  <a:lnTo>
                    <a:pt x="672" y="1077"/>
                  </a:lnTo>
                  <a:lnTo>
                    <a:pt x="672" y="1082"/>
                  </a:lnTo>
                  <a:lnTo>
                    <a:pt x="667" y="1082"/>
                  </a:lnTo>
                  <a:lnTo>
                    <a:pt x="667" y="1107"/>
                  </a:lnTo>
                  <a:lnTo>
                    <a:pt x="663" y="1107"/>
                  </a:lnTo>
                  <a:lnTo>
                    <a:pt x="663" y="1118"/>
                  </a:lnTo>
                  <a:lnTo>
                    <a:pt x="657" y="1118"/>
                  </a:lnTo>
                  <a:lnTo>
                    <a:pt x="657" y="1123"/>
                  </a:lnTo>
                  <a:lnTo>
                    <a:pt x="653" y="1123"/>
                  </a:lnTo>
                  <a:lnTo>
                    <a:pt x="653" y="1142"/>
                  </a:lnTo>
                  <a:lnTo>
                    <a:pt x="649" y="1142"/>
                  </a:lnTo>
                  <a:lnTo>
                    <a:pt x="649" y="1148"/>
                  </a:lnTo>
                  <a:lnTo>
                    <a:pt x="644" y="1148"/>
                  </a:lnTo>
                  <a:lnTo>
                    <a:pt x="644" y="1153"/>
                  </a:lnTo>
                  <a:lnTo>
                    <a:pt x="639" y="1153"/>
                  </a:lnTo>
                  <a:lnTo>
                    <a:pt x="639" y="1166"/>
                  </a:lnTo>
                  <a:lnTo>
                    <a:pt x="634" y="1166"/>
                  </a:lnTo>
                  <a:lnTo>
                    <a:pt x="634" y="1177"/>
                  </a:lnTo>
                  <a:lnTo>
                    <a:pt x="630" y="1177"/>
                  </a:lnTo>
                  <a:lnTo>
                    <a:pt x="630" y="1189"/>
                  </a:lnTo>
                  <a:lnTo>
                    <a:pt x="624" y="1189"/>
                  </a:lnTo>
                  <a:lnTo>
                    <a:pt x="624" y="1207"/>
                  </a:lnTo>
                  <a:lnTo>
                    <a:pt x="620" y="1207"/>
                  </a:lnTo>
                  <a:lnTo>
                    <a:pt x="620" y="1213"/>
                  </a:lnTo>
                  <a:lnTo>
                    <a:pt x="615" y="1213"/>
                  </a:lnTo>
                  <a:lnTo>
                    <a:pt x="615" y="1224"/>
                  </a:lnTo>
                  <a:lnTo>
                    <a:pt x="609" y="1224"/>
                  </a:lnTo>
                  <a:lnTo>
                    <a:pt x="609" y="1248"/>
                  </a:lnTo>
                  <a:lnTo>
                    <a:pt x="605" y="1248"/>
                  </a:lnTo>
                  <a:lnTo>
                    <a:pt x="605" y="1259"/>
                  </a:lnTo>
                  <a:lnTo>
                    <a:pt x="600" y="1259"/>
                  </a:lnTo>
                  <a:lnTo>
                    <a:pt x="600" y="1267"/>
                  </a:lnTo>
                  <a:lnTo>
                    <a:pt x="595" y="1267"/>
                  </a:lnTo>
                  <a:lnTo>
                    <a:pt x="595" y="1272"/>
                  </a:lnTo>
                  <a:lnTo>
                    <a:pt x="590" y="1272"/>
                  </a:lnTo>
                  <a:lnTo>
                    <a:pt x="590" y="1278"/>
                  </a:lnTo>
                  <a:lnTo>
                    <a:pt x="586" y="1278"/>
                  </a:lnTo>
                  <a:lnTo>
                    <a:pt x="586" y="1290"/>
                  </a:lnTo>
                  <a:lnTo>
                    <a:pt x="582" y="1290"/>
                  </a:lnTo>
                  <a:lnTo>
                    <a:pt x="582" y="1313"/>
                  </a:lnTo>
                  <a:lnTo>
                    <a:pt x="576" y="1313"/>
                  </a:lnTo>
                  <a:lnTo>
                    <a:pt x="576" y="1319"/>
                  </a:lnTo>
                  <a:lnTo>
                    <a:pt x="572" y="1319"/>
                  </a:lnTo>
                  <a:lnTo>
                    <a:pt x="572" y="1337"/>
                  </a:lnTo>
                  <a:lnTo>
                    <a:pt x="567" y="1337"/>
                  </a:lnTo>
                  <a:lnTo>
                    <a:pt x="567" y="1349"/>
                  </a:lnTo>
                  <a:lnTo>
                    <a:pt x="562" y="1349"/>
                  </a:lnTo>
                  <a:lnTo>
                    <a:pt x="562" y="1360"/>
                  </a:lnTo>
                  <a:lnTo>
                    <a:pt x="558" y="1360"/>
                  </a:lnTo>
                  <a:lnTo>
                    <a:pt x="558" y="1373"/>
                  </a:lnTo>
                  <a:lnTo>
                    <a:pt x="553" y="1373"/>
                  </a:lnTo>
                  <a:lnTo>
                    <a:pt x="553" y="1378"/>
                  </a:lnTo>
                  <a:lnTo>
                    <a:pt x="548" y="1378"/>
                  </a:lnTo>
                  <a:lnTo>
                    <a:pt x="548" y="1385"/>
                  </a:lnTo>
                  <a:lnTo>
                    <a:pt x="543" y="1385"/>
                  </a:lnTo>
                  <a:lnTo>
                    <a:pt x="543" y="1390"/>
                  </a:lnTo>
                  <a:lnTo>
                    <a:pt x="538" y="1390"/>
                  </a:lnTo>
                  <a:lnTo>
                    <a:pt x="538" y="1396"/>
                  </a:lnTo>
                  <a:lnTo>
                    <a:pt x="533" y="1396"/>
                  </a:lnTo>
                  <a:lnTo>
                    <a:pt x="533" y="1403"/>
                  </a:lnTo>
                  <a:lnTo>
                    <a:pt x="528" y="1403"/>
                  </a:lnTo>
                  <a:lnTo>
                    <a:pt x="528" y="1414"/>
                  </a:lnTo>
                  <a:lnTo>
                    <a:pt x="523" y="1414"/>
                  </a:lnTo>
                  <a:lnTo>
                    <a:pt x="523" y="1419"/>
                  </a:lnTo>
                  <a:lnTo>
                    <a:pt x="519" y="1419"/>
                  </a:lnTo>
                  <a:lnTo>
                    <a:pt x="519" y="1426"/>
                  </a:lnTo>
                  <a:lnTo>
                    <a:pt x="509" y="1426"/>
                  </a:lnTo>
                  <a:lnTo>
                    <a:pt x="509" y="1431"/>
                  </a:lnTo>
                  <a:lnTo>
                    <a:pt x="505" y="1431"/>
                  </a:lnTo>
                  <a:lnTo>
                    <a:pt x="505" y="1436"/>
                  </a:lnTo>
                  <a:lnTo>
                    <a:pt x="500" y="1436"/>
                  </a:lnTo>
                  <a:lnTo>
                    <a:pt x="500" y="1449"/>
                  </a:lnTo>
                  <a:lnTo>
                    <a:pt x="495" y="1449"/>
                  </a:lnTo>
                  <a:lnTo>
                    <a:pt x="495" y="1461"/>
                  </a:lnTo>
                  <a:lnTo>
                    <a:pt x="486" y="1461"/>
                  </a:lnTo>
                  <a:lnTo>
                    <a:pt x="486" y="1466"/>
                  </a:lnTo>
                  <a:lnTo>
                    <a:pt x="480" y="1466"/>
                  </a:lnTo>
                  <a:lnTo>
                    <a:pt x="480" y="1473"/>
                  </a:lnTo>
                  <a:lnTo>
                    <a:pt x="476" y="1473"/>
                  </a:lnTo>
                  <a:lnTo>
                    <a:pt x="476" y="1478"/>
                  </a:lnTo>
                  <a:lnTo>
                    <a:pt x="472" y="1478"/>
                  </a:lnTo>
                  <a:lnTo>
                    <a:pt x="472" y="1485"/>
                  </a:lnTo>
                  <a:lnTo>
                    <a:pt x="465" y="1485"/>
                  </a:lnTo>
                  <a:lnTo>
                    <a:pt x="465" y="1490"/>
                  </a:lnTo>
                  <a:lnTo>
                    <a:pt x="461" y="1490"/>
                  </a:lnTo>
                  <a:lnTo>
                    <a:pt x="461" y="1496"/>
                  </a:lnTo>
                  <a:lnTo>
                    <a:pt x="456" y="1496"/>
                  </a:lnTo>
                  <a:lnTo>
                    <a:pt x="456" y="1502"/>
                  </a:lnTo>
                  <a:lnTo>
                    <a:pt x="446" y="1502"/>
                  </a:lnTo>
                  <a:lnTo>
                    <a:pt x="446" y="1509"/>
                  </a:lnTo>
                  <a:lnTo>
                    <a:pt x="437" y="1509"/>
                  </a:lnTo>
                  <a:lnTo>
                    <a:pt x="437" y="1520"/>
                  </a:lnTo>
                  <a:lnTo>
                    <a:pt x="423" y="1520"/>
                  </a:lnTo>
                  <a:lnTo>
                    <a:pt x="423" y="1526"/>
                  </a:lnTo>
                  <a:lnTo>
                    <a:pt x="413" y="1526"/>
                  </a:lnTo>
                  <a:lnTo>
                    <a:pt x="413" y="1531"/>
                  </a:lnTo>
                  <a:lnTo>
                    <a:pt x="394" y="1531"/>
                  </a:lnTo>
                  <a:lnTo>
                    <a:pt x="394" y="1537"/>
                  </a:lnTo>
                  <a:lnTo>
                    <a:pt x="379" y="1537"/>
                  </a:lnTo>
                  <a:lnTo>
                    <a:pt x="379" y="1544"/>
                  </a:lnTo>
                  <a:lnTo>
                    <a:pt x="342" y="1544"/>
                  </a:lnTo>
                  <a:lnTo>
                    <a:pt x="342" y="1550"/>
                  </a:lnTo>
                  <a:lnTo>
                    <a:pt x="316" y="1550"/>
                  </a:lnTo>
                  <a:lnTo>
                    <a:pt x="316" y="1555"/>
                  </a:lnTo>
                  <a:lnTo>
                    <a:pt x="293" y="1555"/>
                  </a:lnTo>
                  <a:lnTo>
                    <a:pt x="293" y="1561"/>
                  </a:lnTo>
                  <a:lnTo>
                    <a:pt x="255" y="1561"/>
                  </a:lnTo>
                  <a:lnTo>
                    <a:pt x="255" y="1567"/>
                  </a:lnTo>
                  <a:lnTo>
                    <a:pt x="245" y="1567"/>
                  </a:lnTo>
                  <a:lnTo>
                    <a:pt x="245" y="1561"/>
                  </a:lnTo>
                  <a:lnTo>
                    <a:pt x="217" y="1561"/>
                  </a:lnTo>
                  <a:lnTo>
                    <a:pt x="217" y="1555"/>
                  </a:lnTo>
                  <a:lnTo>
                    <a:pt x="198" y="1555"/>
                  </a:lnTo>
                  <a:lnTo>
                    <a:pt x="198" y="1550"/>
                  </a:lnTo>
                  <a:lnTo>
                    <a:pt x="177" y="1550"/>
                  </a:lnTo>
                  <a:lnTo>
                    <a:pt x="177" y="1544"/>
                  </a:lnTo>
                  <a:lnTo>
                    <a:pt x="168" y="1544"/>
                  </a:lnTo>
                  <a:lnTo>
                    <a:pt x="168" y="1537"/>
                  </a:lnTo>
                  <a:lnTo>
                    <a:pt x="158" y="1537"/>
                  </a:lnTo>
                  <a:lnTo>
                    <a:pt x="158" y="1531"/>
                  </a:lnTo>
                  <a:lnTo>
                    <a:pt x="154" y="1531"/>
                  </a:lnTo>
                  <a:lnTo>
                    <a:pt x="154" y="1526"/>
                  </a:lnTo>
                  <a:lnTo>
                    <a:pt x="144" y="1526"/>
                  </a:lnTo>
                  <a:lnTo>
                    <a:pt x="144" y="1520"/>
                  </a:lnTo>
                  <a:lnTo>
                    <a:pt x="135" y="1520"/>
                  </a:lnTo>
                  <a:lnTo>
                    <a:pt x="135" y="1514"/>
                  </a:lnTo>
                  <a:lnTo>
                    <a:pt x="130" y="1514"/>
                  </a:lnTo>
                  <a:lnTo>
                    <a:pt x="130" y="1509"/>
                  </a:lnTo>
                  <a:lnTo>
                    <a:pt x="125" y="1509"/>
                  </a:lnTo>
                  <a:lnTo>
                    <a:pt x="125" y="1502"/>
                  </a:lnTo>
                  <a:lnTo>
                    <a:pt x="121" y="1502"/>
                  </a:lnTo>
                  <a:lnTo>
                    <a:pt x="121" y="1496"/>
                  </a:lnTo>
                  <a:lnTo>
                    <a:pt x="111" y="1496"/>
                  </a:lnTo>
                  <a:lnTo>
                    <a:pt x="111" y="1490"/>
                  </a:lnTo>
                  <a:lnTo>
                    <a:pt x="101" y="1490"/>
                  </a:lnTo>
                  <a:lnTo>
                    <a:pt x="101" y="1485"/>
                  </a:lnTo>
                  <a:lnTo>
                    <a:pt x="95" y="1485"/>
                  </a:lnTo>
                  <a:lnTo>
                    <a:pt x="95" y="1478"/>
                  </a:lnTo>
                  <a:lnTo>
                    <a:pt x="91" y="1478"/>
                  </a:lnTo>
                  <a:lnTo>
                    <a:pt x="91" y="1473"/>
                  </a:lnTo>
                  <a:lnTo>
                    <a:pt x="87" y="1473"/>
                  </a:lnTo>
                  <a:lnTo>
                    <a:pt x="87" y="1461"/>
                  </a:lnTo>
                  <a:lnTo>
                    <a:pt x="81" y="1461"/>
                  </a:lnTo>
                  <a:lnTo>
                    <a:pt x="81" y="1455"/>
                  </a:lnTo>
                  <a:lnTo>
                    <a:pt x="77" y="1455"/>
                  </a:lnTo>
                  <a:lnTo>
                    <a:pt x="77" y="1449"/>
                  </a:lnTo>
                  <a:lnTo>
                    <a:pt x="72" y="1449"/>
                  </a:lnTo>
                  <a:lnTo>
                    <a:pt x="72" y="1444"/>
                  </a:lnTo>
                  <a:lnTo>
                    <a:pt x="67" y="1444"/>
                  </a:lnTo>
                  <a:lnTo>
                    <a:pt x="67" y="1436"/>
                  </a:lnTo>
                  <a:lnTo>
                    <a:pt x="62" y="1436"/>
                  </a:lnTo>
                  <a:lnTo>
                    <a:pt x="62" y="1426"/>
                  </a:lnTo>
                  <a:lnTo>
                    <a:pt x="58" y="1426"/>
                  </a:lnTo>
                  <a:lnTo>
                    <a:pt x="58" y="1419"/>
                  </a:lnTo>
                  <a:lnTo>
                    <a:pt x="54" y="1419"/>
                  </a:lnTo>
                  <a:lnTo>
                    <a:pt x="54" y="1414"/>
                  </a:lnTo>
                  <a:lnTo>
                    <a:pt x="44" y="1414"/>
                  </a:lnTo>
                  <a:lnTo>
                    <a:pt x="44" y="1408"/>
                  </a:lnTo>
                  <a:lnTo>
                    <a:pt x="39" y="1408"/>
                  </a:lnTo>
                  <a:lnTo>
                    <a:pt x="39" y="1396"/>
                  </a:lnTo>
                  <a:lnTo>
                    <a:pt x="34" y="1396"/>
                  </a:lnTo>
                  <a:lnTo>
                    <a:pt x="34" y="1390"/>
                  </a:lnTo>
                  <a:lnTo>
                    <a:pt x="28" y="1390"/>
                  </a:lnTo>
                  <a:lnTo>
                    <a:pt x="28" y="1385"/>
                  </a:lnTo>
                  <a:lnTo>
                    <a:pt x="24" y="1385"/>
                  </a:lnTo>
                  <a:lnTo>
                    <a:pt x="24" y="1373"/>
                  </a:lnTo>
                  <a:lnTo>
                    <a:pt x="19" y="1373"/>
                  </a:lnTo>
                  <a:lnTo>
                    <a:pt x="19" y="1366"/>
                  </a:lnTo>
                  <a:lnTo>
                    <a:pt x="14" y="1366"/>
                  </a:lnTo>
                  <a:lnTo>
                    <a:pt x="14" y="1354"/>
                  </a:lnTo>
                  <a:lnTo>
                    <a:pt x="10" y="1354"/>
                  </a:lnTo>
                  <a:lnTo>
                    <a:pt x="10" y="1349"/>
                  </a:lnTo>
                  <a:lnTo>
                    <a:pt x="5" y="1349"/>
                  </a:lnTo>
                  <a:lnTo>
                    <a:pt x="5" y="1343"/>
                  </a:lnTo>
                  <a:lnTo>
                    <a:pt x="0" y="1343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64600" y="2992320"/>
              <a:ext cx="667800" cy="325800"/>
            </a:xfrm>
            <a:custGeom>
              <a:avLst/>
              <a:gdLst/>
              <a:ahLst/>
              <a:rect l="l" t="t" r="r" b="b"/>
              <a:pathLst>
                <a:path w="2568" h="1672">
                  <a:moveTo>
                    <a:pt x="0" y="791"/>
                  </a:moveTo>
                  <a:lnTo>
                    <a:pt x="4" y="791"/>
                  </a:lnTo>
                  <a:lnTo>
                    <a:pt x="4" y="733"/>
                  </a:lnTo>
                  <a:lnTo>
                    <a:pt x="9" y="733"/>
                  </a:lnTo>
                  <a:lnTo>
                    <a:pt x="9" y="679"/>
                  </a:lnTo>
                  <a:lnTo>
                    <a:pt x="14" y="679"/>
                  </a:lnTo>
                  <a:lnTo>
                    <a:pt x="14" y="602"/>
                  </a:lnTo>
                  <a:lnTo>
                    <a:pt x="18" y="602"/>
                  </a:lnTo>
                  <a:lnTo>
                    <a:pt x="18" y="578"/>
                  </a:lnTo>
                  <a:lnTo>
                    <a:pt x="14" y="578"/>
                  </a:lnTo>
                  <a:lnTo>
                    <a:pt x="14" y="561"/>
                  </a:lnTo>
                  <a:lnTo>
                    <a:pt x="18" y="561"/>
                  </a:lnTo>
                  <a:lnTo>
                    <a:pt x="18" y="537"/>
                  </a:lnTo>
                  <a:lnTo>
                    <a:pt x="14" y="537"/>
                  </a:lnTo>
                  <a:lnTo>
                    <a:pt x="14" y="401"/>
                  </a:lnTo>
                  <a:lnTo>
                    <a:pt x="18" y="401"/>
                  </a:lnTo>
                  <a:lnTo>
                    <a:pt x="18" y="383"/>
                  </a:lnTo>
                  <a:lnTo>
                    <a:pt x="23" y="383"/>
                  </a:lnTo>
                  <a:lnTo>
                    <a:pt x="23" y="355"/>
                  </a:lnTo>
                  <a:lnTo>
                    <a:pt x="27" y="355"/>
                  </a:lnTo>
                  <a:lnTo>
                    <a:pt x="27" y="295"/>
                  </a:lnTo>
                  <a:lnTo>
                    <a:pt x="33" y="295"/>
                  </a:lnTo>
                  <a:lnTo>
                    <a:pt x="33" y="290"/>
                  </a:lnTo>
                  <a:lnTo>
                    <a:pt x="37" y="290"/>
                  </a:lnTo>
                  <a:lnTo>
                    <a:pt x="37" y="260"/>
                  </a:lnTo>
                  <a:lnTo>
                    <a:pt x="42" y="260"/>
                  </a:lnTo>
                  <a:lnTo>
                    <a:pt x="42" y="254"/>
                  </a:lnTo>
                  <a:lnTo>
                    <a:pt x="52" y="254"/>
                  </a:lnTo>
                  <a:lnTo>
                    <a:pt x="52" y="247"/>
                  </a:lnTo>
                  <a:lnTo>
                    <a:pt x="57" y="247"/>
                  </a:lnTo>
                  <a:lnTo>
                    <a:pt x="57" y="241"/>
                  </a:lnTo>
                  <a:lnTo>
                    <a:pt x="62" y="241"/>
                  </a:lnTo>
                  <a:lnTo>
                    <a:pt x="62" y="236"/>
                  </a:lnTo>
                  <a:lnTo>
                    <a:pt x="67" y="236"/>
                  </a:lnTo>
                  <a:lnTo>
                    <a:pt x="67" y="230"/>
                  </a:lnTo>
                  <a:lnTo>
                    <a:pt x="76" y="230"/>
                  </a:lnTo>
                  <a:lnTo>
                    <a:pt x="76" y="224"/>
                  </a:lnTo>
                  <a:lnTo>
                    <a:pt x="81" y="224"/>
                  </a:lnTo>
                  <a:lnTo>
                    <a:pt x="81" y="217"/>
                  </a:lnTo>
                  <a:lnTo>
                    <a:pt x="86" y="217"/>
                  </a:lnTo>
                  <a:lnTo>
                    <a:pt x="86" y="206"/>
                  </a:lnTo>
                  <a:lnTo>
                    <a:pt x="90" y="206"/>
                  </a:lnTo>
                  <a:lnTo>
                    <a:pt x="90" y="200"/>
                  </a:lnTo>
                  <a:lnTo>
                    <a:pt x="95" y="200"/>
                  </a:lnTo>
                  <a:lnTo>
                    <a:pt x="95" y="195"/>
                  </a:lnTo>
                  <a:lnTo>
                    <a:pt x="109" y="195"/>
                  </a:lnTo>
                  <a:lnTo>
                    <a:pt x="109" y="187"/>
                  </a:lnTo>
                  <a:lnTo>
                    <a:pt x="123" y="187"/>
                  </a:lnTo>
                  <a:lnTo>
                    <a:pt x="123" y="182"/>
                  </a:lnTo>
                  <a:lnTo>
                    <a:pt x="134" y="182"/>
                  </a:lnTo>
                  <a:lnTo>
                    <a:pt x="134" y="176"/>
                  </a:lnTo>
                  <a:lnTo>
                    <a:pt x="148" y="176"/>
                  </a:lnTo>
                  <a:lnTo>
                    <a:pt x="148" y="171"/>
                  </a:lnTo>
                  <a:lnTo>
                    <a:pt x="158" y="171"/>
                  </a:lnTo>
                  <a:lnTo>
                    <a:pt x="158" y="164"/>
                  </a:lnTo>
                  <a:lnTo>
                    <a:pt x="177" y="164"/>
                  </a:lnTo>
                  <a:lnTo>
                    <a:pt x="177" y="159"/>
                  </a:lnTo>
                  <a:lnTo>
                    <a:pt x="201" y="159"/>
                  </a:lnTo>
                  <a:lnTo>
                    <a:pt x="201" y="154"/>
                  </a:lnTo>
                  <a:lnTo>
                    <a:pt x="220" y="154"/>
                  </a:lnTo>
                  <a:lnTo>
                    <a:pt x="220" y="146"/>
                  </a:lnTo>
                  <a:lnTo>
                    <a:pt x="240" y="146"/>
                  </a:lnTo>
                  <a:lnTo>
                    <a:pt x="240" y="141"/>
                  </a:lnTo>
                  <a:lnTo>
                    <a:pt x="267" y="141"/>
                  </a:lnTo>
                  <a:lnTo>
                    <a:pt x="267" y="135"/>
                  </a:lnTo>
                  <a:lnTo>
                    <a:pt x="288" y="135"/>
                  </a:lnTo>
                  <a:lnTo>
                    <a:pt x="288" y="129"/>
                  </a:lnTo>
                  <a:lnTo>
                    <a:pt x="307" y="129"/>
                  </a:lnTo>
                  <a:lnTo>
                    <a:pt x="307" y="123"/>
                  </a:lnTo>
                  <a:lnTo>
                    <a:pt x="321" y="123"/>
                  </a:lnTo>
                  <a:lnTo>
                    <a:pt x="321" y="118"/>
                  </a:lnTo>
                  <a:lnTo>
                    <a:pt x="335" y="118"/>
                  </a:lnTo>
                  <a:lnTo>
                    <a:pt x="335" y="113"/>
                  </a:lnTo>
                  <a:lnTo>
                    <a:pt x="359" y="113"/>
                  </a:lnTo>
                  <a:lnTo>
                    <a:pt x="359" y="105"/>
                  </a:lnTo>
                  <a:lnTo>
                    <a:pt x="388" y="105"/>
                  </a:lnTo>
                  <a:lnTo>
                    <a:pt x="388" y="100"/>
                  </a:lnTo>
                  <a:lnTo>
                    <a:pt x="398" y="100"/>
                  </a:lnTo>
                  <a:lnTo>
                    <a:pt x="398" y="94"/>
                  </a:lnTo>
                  <a:lnTo>
                    <a:pt x="427" y="94"/>
                  </a:lnTo>
                  <a:lnTo>
                    <a:pt x="427" y="88"/>
                  </a:lnTo>
                  <a:lnTo>
                    <a:pt x="479" y="88"/>
                  </a:lnTo>
                  <a:lnTo>
                    <a:pt x="479" y="83"/>
                  </a:lnTo>
                  <a:lnTo>
                    <a:pt x="504" y="83"/>
                  </a:lnTo>
                  <a:lnTo>
                    <a:pt x="504" y="76"/>
                  </a:lnTo>
                  <a:lnTo>
                    <a:pt x="542" y="76"/>
                  </a:lnTo>
                  <a:lnTo>
                    <a:pt x="542" y="70"/>
                  </a:lnTo>
                  <a:lnTo>
                    <a:pt x="566" y="70"/>
                  </a:lnTo>
                  <a:lnTo>
                    <a:pt x="566" y="64"/>
                  </a:lnTo>
                  <a:lnTo>
                    <a:pt x="585" y="64"/>
                  </a:lnTo>
                  <a:lnTo>
                    <a:pt x="585" y="59"/>
                  </a:lnTo>
                  <a:lnTo>
                    <a:pt x="613" y="59"/>
                  </a:lnTo>
                  <a:lnTo>
                    <a:pt x="613" y="53"/>
                  </a:lnTo>
                  <a:lnTo>
                    <a:pt x="632" y="53"/>
                  </a:lnTo>
                  <a:lnTo>
                    <a:pt x="632" y="46"/>
                  </a:lnTo>
                  <a:lnTo>
                    <a:pt x="643" y="46"/>
                  </a:lnTo>
                  <a:lnTo>
                    <a:pt x="643" y="53"/>
                  </a:lnTo>
                  <a:lnTo>
                    <a:pt x="676" y="53"/>
                  </a:lnTo>
                  <a:lnTo>
                    <a:pt x="676" y="46"/>
                  </a:lnTo>
                  <a:lnTo>
                    <a:pt x="720" y="46"/>
                  </a:lnTo>
                  <a:lnTo>
                    <a:pt x="720" y="41"/>
                  </a:lnTo>
                  <a:lnTo>
                    <a:pt x="762" y="41"/>
                  </a:lnTo>
                  <a:lnTo>
                    <a:pt x="762" y="35"/>
                  </a:lnTo>
                  <a:lnTo>
                    <a:pt x="806" y="35"/>
                  </a:lnTo>
                  <a:lnTo>
                    <a:pt x="806" y="29"/>
                  </a:lnTo>
                  <a:lnTo>
                    <a:pt x="830" y="29"/>
                  </a:lnTo>
                  <a:lnTo>
                    <a:pt x="830" y="23"/>
                  </a:lnTo>
                  <a:lnTo>
                    <a:pt x="873" y="23"/>
                  </a:lnTo>
                  <a:lnTo>
                    <a:pt x="873" y="18"/>
                  </a:lnTo>
                  <a:lnTo>
                    <a:pt x="916" y="18"/>
                  </a:lnTo>
                  <a:lnTo>
                    <a:pt x="916" y="10"/>
                  </a:lnTo>
                  <a:lnTo>
                    <a:pt x="969" y="10"/>
                  </a:lnTo>
                  <a:lnTo>
                    <a:pt x="969" y="5"/>
                  </a:lnTo>
                  <a:lnTo>
                    <a:pt x="988" y="5"/>
                  </a:lnTo>
                  <a:lnTo>
                    <a:pt x="988" y="0"/>
                  </a:lnTo>
                  <a:lnTo>
                    <a:pt x="1008" y="0"/>
                  </a:lnTo>
                  <a:lnTo>
                    <a:pt x="1008" y="5"/>
                  </a:lnTo>
                  <a:lnTo>
                    <a:pt x="1071" y="5"/>
                  </a:lnTo>
                  <a:lnTo>
                    <a:pt x="1071" y="0"/>
                  </a:lnTo>
                  <a:lnTo>
                    <a:pt x="1171" y="0"/>
                  </a:lnTo>
                  <a:lnTo>
                    <a:pt x="1171" y="5"/>
                  </a:lnTo>
                  <a:lnTo>
                    <a:pt x="1368" y="5"/>
                  </a:lnTo>
                  <a:lnTo>
                    <a:pt x="1368" y="0"/>
                  </a:lnTo>
                  <a:lnTo>
                    <a:pt x="1378" y="0"/>
                  </a:lnTo>
                  <a:lnTo>
                    <a:pt x="1378" y="5"/>
                  </a:lnTo>
                  <a:lnTo>
                    <a:pt x="1387" y="5"/>
                  </a:lnTo>
                  <a:lnTo>
                    <a:pt x="1387" y="0"/>
                  </a:lnTo>
                  <a:lnTo>
                    <a:pt x="1488" y="0"/>
                  </a:lnTo>
                  <a:lnTo>
                    <a:pt x="1488" y="5"/>
                  </a:lnTo>
                  <a:lnTo>
                    <a:pt x="1604" y="5"/>
                  </a:lnTo>
                  <a:lnTo>
                    <a:pt x="1604" y="10"/>
                  </a:lnTo>
                  <a:lnTo>
                    <a:pt x="1646" y="10"/>
                  </a:lnTo>
                  <a:lnTo>
                    <a:pt x="1646" y="18"/>
                  </a:lnTo>
                  <a:lnTo>
                    <a:pt x="1723" y="18"/>
                  </a:lnTo>
                  <a:lnTo>
                    <a:pt x="1723" y="23"/>
                  </a:lnTo>
                  <a:lnTo>
                    <a:pt x="1839" y="23"/>
                  </a:lnTo>
                  <a:lnTo>
                    <a:pt x="1839" y="18"/>
                  </a:lnTo>
                  <a:lnTo>
                    <a:pt x="1848" y="18"/>
                  </a:lnTo>
                  <a:lnTo>
                    <a:pt x="1848" y="23"/>
                  </a:lnTo>
                  <a:lnTo>
                    <a:pt x="1873" y="23"/>
                  </a:lnTo>
                  <a:lnTo>
                    <a:pt x="1873" y="29"/>
                  </a:lnTo>
                  <a:lnTo>
                    <a:pt x="1901" y="29"/>
                  </a:lnTo>
                  <a:lnTo>
                    <a:pt x="1901" y="35"/>
                  </a:lnTo>
                  <a:lnTo>
                    <a:pt x="1915" y="35"/>
                  </a:lnTo>
                  <a:lnTo>
                    <a:pt x="1915" y="29"/>
                  </a:lnTo>
                  <a:lnTo>
                    <a:pt x="1925" y="29"/>
                  </a:lnTo>
                  <a:lnTo>
                    <a:pt x="1925" y="35"/>
                  </a:lnTo>
                  <a:lnTo>
                    <a:pt x="1955" y="35"/>
                  </a:lnTo>
                  <a:lnTo>
                    <a:pt x="1955" y="41"/>
                  </a:lnTo>
                  <a:lnTo>
                    <a:pt x="1992" y="41"/>
                  </a:lnTo>
                  <a:lnTo>
                    <a:pt x="1992" y="46"/>
                  </a:lnTo>
                  <a:lnTo>
                    <a:pt x="2103" y="46"/>
                  </a:lnTo>
                  <a:lnTo>
                    <a:pt x="2103" y="53"/>
                  </a:lnTo>
                  <a:lnTo>
                    <a:pt x="2184" y="53"/>
                  </a:lnTo>
                  <a:lnTo>
                    <a:pt x="2184" y="59"/>
                  </a:lnTo>
                  <a:lnTo>
                    <a:pt x="2237" y="59"/>
                  </a:lnTo>
                  <a:lnTo>
                    <a:pt x="2237" y="64"/>
                  </a:lnTo>
                  <a:lnTo>
                    <a:pt x="2271" y="64"/>
                  </a:lnTo>
                  <a:lnTo>
                    <a:pt x="2271" y="70"/>
                  </a:lnTo>
                  <a:lnTo>
                    <a:pt x="2300" y="70"/>
                  </a:lnTo>
                  <a:lnTo>
                    <a:pt x="2300" y="76"/>
                  </a:lnTo>
                  <a:lnTo>
                    <a:pt x="2343" y="76"/>
                  </a:lnTo>
                  <a:lnTo>
                    <a:pt x="2343" y="83"/>
                  </a:lnTo>
                  <a:lnTo>
                    <a:pt x="2367" y="83"/>
                  </a:lnTo>
                  <a:lnTo>
                    <a:pt x="2367" y="88"/>
                  </a:lnTo>
                  <a:lnTo>
                    <a:pt x="2377" y="88"/>
                  </a:lnTo>
                  <a:lnTo>
                    <a:pt x="2377" y="94"/>
                  </a:lnTo>
                  <a:lnTo>
                    <a:pt x="2396" y="94"/>
                  </a:lnTo>
                  <a:lnTo>
                    <a:pt x="2396" y="100"/>
                  </a:lnTo>
                  <a:lnTo>
                    <a:pt x="2401" y="100"/>
                  </a:lnTo>
                  <a:lnTo>
                    <a:pt x="2401" y="105"/>
                  </a:lnTo>
                  <a:lnTo>
                    <a:pt x="2415" y="105"/>
                  </a:lnTo>
                  <a:lnTo>
                    <a:pt x="2415" y="113"/>
                  </a:lnTo>
                  <a:lnTo>
                    <a:pt x="2420" y="113"/>
                  </a:lnTo>
                  <a:lnTo>
                    <a:pt x="2420" y="118"/>
                  </a:lnTo>
                  <a:lnTo>
                    <a:pt x="2424" y="118"/>
                  </a:lnTo>
                  <a:lnTo>
                    <a:pt x="2424" y="123"/>
                  </a:lnTo>
                  <a:lnTo>
                    <a:pt x="2429" y="123"/>
                  </a:lnTo>
                  <a:lnTo>
                    <a:pt x="2429" y="129"/>
                  </a:lnTo>
                  <a:lnTo>
                    <a:pt x="2434" y="129"/>
                  </a:lnTo>
                  <a:lnTo>
                    <a:pt x="2434" y="135"/>
                  </a:lnTo>
                  <a:lnTo>
                    <a:pt x="2443" y="135"/>
                  </a:lnTo>
                  <a:lnTo>
                    <a:pt x="2443" y="141"/>
                  </a:lnTo>
                  <a:lnTo>
                    <a:pt x="2458" y="141"/>
                  </a:lnTo>
                  <a:lnTo>
                    <a:pt x="2458" y="146"/>
                  </a:lnTo>
                  <a:lnTo>
                    <a:pt x="2468" y="146"/>
                  </a:lnTo>
                  <a:lnTo>
                    <a:pt x="2468" y="154"/>
                  </a:lnTo>
                  <a:lnTo>
                    <a:pt x="2473" y="154"/>
                  </a:lnTo>
                  <a:lnTo>
                    <a:pt x="2473" y="159"/>
                  </a:lnTo>
                  <a:lnTo>
                    <a:pt x="2482" y="159"/>
                  </a:lnTo>
                  <a:lnTo>
                    <a:pt x="2482" y="164"/>
                  </a:lnTo>
                  <a:lnTo>
                    <a:pt x="2487" y="164"/>
                  </a:lnTo>
                  <a:lnTo>
                    <a:pt x="2487" y="171"/>
                  </a:lnTo>
                  <a:lnTo>
                    <a:pt x="2491" y="171"/>
                  </a:lnTo>
                  <a:lnTo>
                    <a:pt x="2491" y="195"/>
                  </a:lnTo>
                  <a:lnTo>
                    <a:pt x="2497" y="195"/>
                  </a:lnTo>
                  <a:lnTo>
                    <a:pt x="2497" y="212"/>
                  </a:lnTo>
                  <a:lnTo>
                    <a:pt x="2491" y="212"/>
                  </a:lnTo>
                  <a:lnTo>
                    <a:pt x="2491" y="236"/>
                  </a:lnTo>
                  <a:lnTo>
                    <a:pt x="2497" y="236"/>
                  </a:lnTo>
                  <a:lnTo>
                    <a:pt x="2497" y="247"/>
                  </a:lnTo>
                  <a:lnTo>
                    <a:pt x="2501" y="247"/>
                  </a:lnTo>
                  <a:lnTo>
                    <a:pt x="2501" y="265"/>
                  </a:lnTo>
                  <a:lnTo>
                    <a:pt x="2506" y="265"/>
                  </a:lnTo>
                  <a:lnTo>
                    <a:pt x="2506" y="295"/>
                  </a:lnTo>
                  <a:lnTo>
                    <a:pt x="2511" y="295"/>
                  </a:lnTo>
                  <a:lnTo>
                    <a:pt x="2511" y="342"/>
                  </a:lnTo>
                  <a:lnTo>
                    <a:pt x="2517" y="342"/>
                  </a:lnTo>
                  <a:lnTo>
                    <a:pt x="2517" y="383"/>
                  </a:lnTo>
                  <a:lnTo>
                    <a:pt x="2521" y="383"/>
                  </a:lnTo>
                  <a:lnTo>
                    <a:pt x="2521" y="413"/>
                  </a:lnTo>
                  <a:lnTo>
                    <a:pt x="2517" y="413"/>
                  </a:lnTo>
                  <a:lnTo>
                    <a:pt x="2517" y="455"/>
                  </a:lnTo>
                  <a:lnTo>
                    <a:pt x="2521" y="455"/>
                  </a:lnTo>
                  <a:lnTo>
                    <a:pt x="2521" y="508"/>
                  </a:lnTo>
                  <a:lnTo>
                    <a:pt x="2526" y="508"/>
                  </a:lnTo>
                  <a:lnTo>
                    <a:pt x="2526" y="561"/>
                  </a:lnTo>
                  <a:lnTo>
                    <a:pt x="2531" y="561"/>
                  </a:lnTo>
                  <a:lnTo>
                    <a:pt x="2531" y="727"/>
                  </a:lnTo>
                  <a:lnTo>
                    <a:pt x="2535" y="727"/>
                  </a:lnTo>
                  <a:lnTo>
                    <a:pt x="2535" y="738"/>
                  </a:lnTo>
                  <a:lnTo>
                    <a:pt x="2531" y="738"/>
                  </a:lnTo>
                  <a:lnTo>
                    <a:pt x="2531" y="768"/>
                  </a:lnTo>
                  <a:lnTo>
                    <a:pt x="2535" y="768"/>
                  </a:lnTo>
                  <a:lnTo>
                    <a:pt x="2535" y="828"/>
                  </a:lnTo>
                  <a:lnTo>
                    <a:pt x="2540" y="828"/>
                  </a:lnTo>
                  <a:lnTo>
                    <a:pt x="2540" y="863"/>
                  </a:lnTo>
                  <a:lnTo>
                    <a:pt x="2545" y="863"/>
                  </a:lnTo>
                  <a:lnTo>
                    <a:pt x="2545" y="897"/>
                  </a:lnTo>
                  <a:lnTo>
                    <a:pt x="2550" y="897"/>
                  </a:lnTo>
                  <a:lnTo>
                    <a:pt x="2550" y="974"/>
                  </a:lnTo>
                  <a:lnTo>
                    <a:pt x="2554" y="974"/>
                  </a:lnTo>
                  <a:lnTo>
                    <a:pt x="2554" y="1016"/>
                  </a:lnTo>
                  <a:lnTo>
                    <a:pt x="2559" y="1016"/>
                  </a:lnTo>
                  <a:lnTo>
                    <a:pt x="2559" y="1141"/>
                  </a:lnTo>
                  <a:lnTo>
                    <a:pt x="2564" y="1141"/>
                  </a:lnTo>
                  <a:lnTo>
                    <a:pt x="2564" y="1176"/>
                  </a:lnTo>
                  <a:lnTo>
                    <a:pt x="2559" y="1176"/>
                  </a:lnTo>
                  <a:lnTo>
                    <a:pt x="2559" y="1187"/>
                  </a:lnTo>
                  <a:lnTo>
                    <a:pt x="2564" y="1187"/>
                  </a:lnTo>
                  <a:lnTo>
                    <a:pt x="2564" y="1294"/>
                  </a:lnTo>
                  <a:lnTo>
                    <a:pt x="2568" y="1294"/>
                  </a:lnTo>
                  <a:lnTo>
                    <a:pt x="2568" y="1595"/>
                  </a:lnTo>
                  <a:lnTo>
                    <a:pt x="2564" y="1595"/>
                  </a:lnTo>
                  <a:lnTo>
                    <a:pt x="2564" y="1636"/>
                  </a:lnTo>
                  <a:lnTo>
                    <a:pt x="2568" y="1636"/>
                  </a:lnTo>
                  <a:lnTo>
                    <a:pt x="2568" y="1649"/>
                  </a:lnTo>
                  <a:lnTo>
                    <a:pt x="2564" y="1649"/>
                  </a:lnTo>
                  <a:lnTo>
                    <a:pt x="2564" y="1655"/>
                  </a:lnTo>
                  <a:lnTo>
                    <a:pt x="2554" y="1655"/>
                  </a:lnTo>
                  <a:lnTo>
                    <a:pt x="2554" y="1672"/>
                  </a:lnTo>
                  <a:lnTo>
                    <a:pt x="2526" y="1672"/>
                  </a:lnTo>
                  <a:lnTo>
                    <a:pt x="2526" y="1666"/>
                  </a:lnTo>
                  <a:lnTo>
                    <a:pt x="2517" y="1666"/>
                  </a:lnTo>
                  <a:lnTo>
                    <a:pt x="2517" y="1660"/>
                  </a:lnTo>
                  <a:lnTo>
                    <a:pt x="2506" y="1660"/>
                  </a:lnTo>
                  <a:lnTo>
                    <a:pt x="2506" y="1655"/>
                  </a:lnTo>
                  <a:lnTo>
                    <a:pt x="2357" y="1655"/>
                  </a:lnTo>
                  <a:lnTo>
                    <a:pt x="2357" y="1660"/>
                  </a:lnTo>
                  <a:lnTo>
                    <a:pt x="2257" y="1660"/>
                  </a:lnTo>
                  <a:lnTo>
                    <a:pt x="2257" y="1655"/>
                  </a:lnTo>
                  <a:lnTo>
                    <a:pt x="2203" y="1655"/>
                  </a:lnTo>
                  <a:lnTo>
                    <a:pt x="2203" y="1660"/>
                  </a:lnTo>
                  <a:lnTo>
                    <a:pt x="2194" y="1660"/>
                  </a:lnTo>
                  <a:lnTo>
                    <a:pt x="2194" y="1655"/>
                  </a:lnTo>
                  <a:lnTo>
                    <a:pt x="2166" y="1655"/>
                  </a:lnTo>
                  <a:lnTo>
                    <a:pt x="2166" y="1649"/>
                  </a:lnTo>
                  <a:lnTo>
                    <a:pt x="2079" y="1649"/>
                  </a:lnTo>
                  <a:lnTo>
                    <a:pt x="2079" y="1655"/>
                  </a:lnTo>
                  <a:lnTo>
                    <a:pt x="2026" y="1655"/>
                  </a:lnTo>
                  <a:lnTo>
                    <a:pt x="2026" y="1649"/>
                  </a:lnTo>
                  <a:lnTo>
                    <a:pt x="1969" y="1649"/>
                  </a:lnTo>
                  <a:lnTo>
                    <a:pt x="1969" y="1655"/>
                  </a:lnTo>
                  <a:lnTo>
                    <a:pt x="1955" y="1655"/>
                  </a:lnTo>
                  <a:lnTo>
                    <a:pt x="1955" y="1649"/>
                  </a:lnTo>
                  <a:lnTo>
                    <a:pt x="1862" y="1649"/>
                  </a:lnTo>
                  <a:lnTo>
                    <a:pt x="1862" y="1642"/>
                  </a:lnTo>
                  <a:lnTo>
                    <a:pt x="1781" y="1642"/>
                  </a:lnTo>
                  <a:lnTo>
                    <a:pt x="1781" y="1636"/>
                  </a:lnTo>
                  <a:lnTo>
                    <a:pt x="1738" y="1636"/>
                  </a:lnTo>
                  <a:lnTo>
                    <a:pt x="1738" y="1642"/>
                  </a:lnTo>
                  <a:lnTo>
                    <a:pt x="1729" y="1642"/>
                  </a:lnTo>
                  <a:lnTo>
                    <a:pt x="1729" y="1636"/>
                  </a:lnTo>
                  <a:lnTo>
                    <a:pt x="1675" y="1636"/>
                  </a:lnTo>
                  <a:lnTo>
                    <a:pt x="1675" y="1642"/>
                  </a:lnTo>
                  <a:lnTo>
                    <a:pt x="1666" y="1642"/>
                  </a:lnTo>
                  <a:lnTo>
                    <a:pt x="1666" y="1649"/>
                  </a:lnTo>
                  <a:lnTo>
                    <a:pt x="1636" y="1649"/>
                  </a:lnTo>
                  <a:lnTo>
                    <a:pt x="1636" y="1642"/>
                  </a:lnTo>
                  <a:lnTo>
                    <a:pt x="1522" y="1642"/>
                  </a:lnTo>
                  <a:lnTo>
                    <a:pt x="1522" y="1636"/>
                  </a:lnTo>
                  <a:lnTo>
                    <a:pt x="1441" y="1636"/>
                  </a:lnTo>
                  <a:lnTo>
                    <a:pt x="1441" y="1642"/>
                  </a:lnTo>
                  <a:lnTo>
                    <a:pt x="1353" y="1642"/>
                  </a:lnTo>
                  <a:lnTo>
                    <a:pt x="1353" y="1636"/>
                  </a:lnTo>
                  <a:lnTo>
                    <a:pt x="1311" y="1636"/>
                  </a:lnTo>
                  <a:lnTo>
                    <a:pt x="1311" y="1642"/>
                  </a:lnTo>
                  <a:lnTo>
                    <a:pt x="1301" y="1642"/>
                  </a:lnTo>
                  <a:lnTo>
                    <a:pt x="1301" y="1636"/>
                  </a:lnTo>
                  <a:lnTo>
                    <a:pt x="1204" y="1636"/>
                  </a:lnTo>
                  <a:lnTo>
                    <a:pt x="1204" y="1642"/>
                  </a:lnTo>
                  <a:lnTo>
                    <a:pt x="1195" y="1642"/>
                  </a:lnTo>
                  <a:lnTo>
                    <a:pt x="1195" y="1636"/>
                  </a:lnTo>
                  <a:lnTo>
                    <a:pt x="1137" y="1636"/>
                  </a:lnTo>
                  <a:lnTo>
                    <a:pt x="1137" y="1642"/>
                  </a:lnTo>
                  <a:lnTo>
                    <a:pt x="1127" y="1642"/>
                  </a:lnTo>
                  <a:lnTo>
                    <a:pt x="1127" y="1636"/>
                  </a:lnTo>
                  <a:lnTo>
                    <a:pt x="1071" y="1636"/>
                  </a:lnTo>
                  <a:lnTo>
                    <a:pt x="1071" y="1642"/>
                  </a:lnTo>
                  <a:lnTo>
                    <a:pt x="1046" y="1642"/>
                  </a:lnTo>
                  <a:lnTo>
                    <a:pt x="1046" y="1636"/>
                  </a:lnTo>
                  <a:lnTo>
                    <a:pt x="734" y="1636"/>
                  </a:lnTo>
                  <a:lnTo>
                    <a:pt x="734" y="1631"/>
                  </a:lnTo>
                  <a:lnTo>
                    <a:pt x="638" y="1631"/>
                  </a:lnTo>
                  <a:lnTo>
                    <a:pt x="638" y="1636"/>
                  </a:lnTo>
                  <a:lnTo>
                    <a:pt x="613" y="1636"/>
                  </a:lnTo>
                  <a:lnTo>
                    <a:pt x="613" y="1631"/>
                  </a:lnTo>
                  <a:lnTo>
                    <a:pt x="542" y="1631"/>
                  </a:lnTo>
                  <a:lnTo>
                    <a:pt x="542" y="1636"/>
                  </a:lnTo>
                  <a:lnTo>
                    <a:pt x="392" y="1636"/>
                  </a:lnTo>
                  <a:lnTo>
                    <a:pt x="392" y="1631"/>
                  </a:lnTo>
                  <a:lnTo>
                    <a:pt x="335" y="1631"/>
                  </a:lnTo>
                  <a:lnTo>
                    <a:pt x="335" y="1624"/>
                  </a:lnTo>
                  <a:lnTo>
                    <a:pt x="267" y="1624"/>
                  </a:lnTo>
                  <a:lnTo>
                    <a:pt x="267" y="1619"/>
                  </a:lnTo>
                  <a:lnTo>
                    <a:pt x="163" y="1619"/>
                  </a:lnTo>
                  <a:lnTo>
                    <a:pt x="163" y="1614"/>
                  </a:lnTo>
                  <a:lnTo>
                    <a:pt x="153" y="1614"/>
                  </a:lnTo>
                  <a:lnTo>
                    <a:pt x="153" y="1606"/>
                  </a:lnTo>
                  <a:lnTo>
                    <a:pt x="144" y="1606"/>
                  </a:lnTo>
                  <a:lnTo>
                    <a:pt x="144" y="1601"/>
                  </a:lnTo>
                  <a:lnTo>
                    <a:pt x="134" y="1601"/>
                  </a:lnTo>
                  <a:lnTo>
                    <a:pt x="134" y="1595"/>
                  </a:lnTo>
                  <a:lnTo>
                    <a:pt x="114" y="1595"/>
                  </a:lnTo>
                  <a:lnTo>
                    <a:pt x="114" y="1590"/>
                  </a:lnTo>
                  <a:lnTo>
                    <a:pt x="104" y="1590"/>
                  </a:lnTo>
                  <a:lnTo>
                    <a:pt x="104" y="1583"/>
                  </a:lnTo>
                  <a:lnTo>
                    <a:pt x="95" y="1583"/>
                  </a:lnTo>
                  <a:lnTo>
                    <a:pt x="95" y="1578"/>
                  </a:lnTo>
                  <a:lnTo>
                    <a:pt x="90" y="1578"/>
                  </a:lnTo>
                  <a:lnTo>
                    <a:pt x="90" y="1571"/>
                  </a:lnTo>
                  <a:lnTo>
                    <a:pt x="86" y="1571"/>
                  </a:lnTo>
                  <a:lnTo>
                    <a:pt x="86" y="1565"/>
                  </a:lnTo>
                  <a:lnTo>
                    <a:pt x="81" y="1565"/>
                  </a:lnTo>
                  <a:lnTo>
                    <a:pt x="81" y="1554"/>
                  </a:lnTo>
                  <a:lnTo>
                    <a:pt x="76" y="1554"/>
                  </a:lnTo>
                  <a:lnTo>
                    <a:pt x="76" y="1548"/>
                  </a:lnTo>
                  <a:lnTo>
                    <a:pt x="71" y="1548"/>
                  </a:lnTo>
                  <a:lnTo>
                    <a:pt x="71" y="1524"/>
                  </a:lnTo>
                  <a:lnTo>
                    <a:pt x="67" y="1524"/>
                  </a:lnTo>
                  <a:lnTo>
                    <a:pt x="67" y="1519"/>
                  </a:lnTo>
                  <a:lnTo>
                    <a:pt x="62" y="1519"/>
                  </a:lnTo>
                  <a:lnTo>
                    <a:pt x="62" y="1500"/>
                  </a:lnTo>
                  <a:lnTo>
                    <a:pt x="57" y="1500"/>
                  </a:lnTo>
                  <a:lnTo>
                    <a:pt x="57" y="1489"/>
                  </a:lnTo>
                  <a:lnTo>
                    <a:pt x="52" y="1489"/>
                  </a:lnTo>
                  <a:lnTo>
                    <a:pt x="52" y="1476"/>
                  </a:lnTo>
                  <a:lnTo>
                    <a:pt x="47" y="1476"/>
                  </a:lnTo>
                  <a:lnTo>
                    <a:pt x="47" y="1447"/>
                  </a:lnTo>
                  <a:lnTo>
                    <a:pt x="42" y="1447"/>
                  </a:lnTo>
                  <a:lnTo>
                    <a:pt x="42" y="1423"/>
                  </a:lnTo>
                  <a:lnTo>
                    <a:pt x="37" y="1423"/>
                  </a:lnTo>
                  <a:lnTo>
                    <a:pt x="37" y="1388"/>
                  </a:lnTo>
                  <a:lnTo>
                    <a:pt x="33" y="1388"/>
                  </a:lnTo>
                  <a:lnTo>
                    <a:pt x="33" y="1347"/>
                  </a:lnTo>
                  <a:lnTo>
                    <a:pt x="27" y="1347"/>
                  </a:lnTo>
                  <a:lnTo>
                    <a:pt x="27" y="1228"/>
                  </a:lnTo>
                  <a:lnTo>
                    <a:pt x="23" y="1228"/>
                  </a:lnTo>
                  <a:lnTo>
                    <a:pt x="23" y="1128"/>
                  </a:lnTo>
                  <a:lnTo>
                    <a:pt x="18" y="1128"/>
                  </a:lnTo>
                  <a:lnTo>
                    <a:pt x="18" y="1057"/>
                  </a:lnTo>
                  <a:lnTo>
                    <a:pt x="14" y="1057"/>
                  </a:lnTo>
                  <a:lnTo>
                    <a:pt x="14" y="992"/>
                  </a:lnTo>
                  <a:lnTo>
                    <a:pt x="9" y="992"/>
                  </a:lnTo>
                  <a:lnTo>
                    <a:pt x="9" y="910"/>
                  </a:lnTo>
                  <a:lnTo>
                    <a:pt x="4" y="910"/>
                  </a:lnTo>
                  <a:lnTo>
                    <a:pt x="4" y="804"/>
                  </a:lnTo>
                  <a:lnTo>
                    <a:pt x="0" y="804"/>
                  </a:lnTo>
                  <a:lnTo>
                    <a:pt x="0" y="791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80800" y="3003840"/>
              <a:ext cx="639720" cy="300240"/>
            </a:xfrm>
            <a:custGeom>
              <a:avLst/>
              <a:gdLst/>
              <a:ahLst/>
              <a:rect l="l" t="t" r="r" b="b"/>
              <a:pathLst>
                <a:path w="2459" h="1542">
                  <a:moveTo>
                    <a:pt x="0" y="674"/>
                  </a:moveTo>
                  <a:lnTo>
                    <a:pt x="5" y="674"/>
                  </a:lnTo>
                  <a:lnTo>
                    <a:pt x="5" y="596"/>
                  </a:lnTo>
                  <a:lnTo>
                    <a:pt x="9" y="596"/>
                  </a:lnTo>
                  <a:lnTo>
                    <a:pt x="9" y="348"/>
                  </a:lnTo>
                  <a:lnTo>
                    <a:pt x="14" y="348"/>
                  </a:lnTo>
                  <a:lnTo>
                    <a:pt x="14" y="324"/>
                  </a:lnTo>
                  <a:lnTo>
                    <a:pt x="19" y="324"/>
                  </a:lnTo>
                  <a:lnTo>
                    <a:pt x="19" y="301"/>
                  </a:lnTo>
                  <a:lnTo>
                    <a:pt x="24" y="301"/>
                  </a:lnTo>
                  <a:lnTo>
                    <a:pt x="24" y="296"/>
                  </a:lnTo>
                  <a:lnTo>
                    <a:pt x="28" y="296"/>
                  </a:lnTo>
                  <a:lnTo>
                    <a:pt x="28" y="264"/>
                  </a:lnTo>
                  <a:lnTo>
                    <a:pt x="33" y="264"/>
                  </a:lnTo>
                  <a:lnTo>
                    <a:pt x="33" y="247"/>
                  </a:lnTo>
                  <a:lnTo>
                    <a:pt x="38" y="247"/>
                  </a:lnTo>
                  <a:lnTo>
                    <a:pt x="38" y="242"/>
                  </a:lnTo>
                  <a:lnTo>
                    <a:pt x="42" y="242"/>
                  </a:lnTo>
                  <a:lnTo>
                    <a:pt x="42" y="236"/>
                  </a:lnTo>
                  <a:lnTo>
                    <a:pt x="47" y="236"/>
                  </a:lnTo>
                  <a:lnTo>
                    <a:pt x="47" y="231"/>
                  </a:lnTo>
                  <a:lnTo>
                    <a:pt x="52" y="231"/>
                  </a:lnTo>
                  <a:lnTo>
                    <a:pt x="52" y="218"/>
                  </a:lnTo>
                  <a:lnTo>
                    <a:pt x="57" y="218"/>
                  </a:lnTo>
                  <a:lnTo>
                    <a:pt x="57" y="206"/>
                  </a:lnTo>
                  <a:lnTo>
                    <a:pt x="61" y="206"/>
                  </a:lnTo>
                  <a:lnTo>
                    <a:pt x="61" y="195"/>
                  </a:lnTo>
                  <a:lnTo>
                    <a:pt x="68" y="195"/>
                  </a:lnTo>
                  <a:lnTo>
                    <a:pt x="68" y="188"/>
                  </a:lnTo>
                  <a:lnTo>
                    <a:pt x="72" y="188"/>
                  </a:lnTo>
                  <a:lnTo>
                    <a:pt x="72" y="182"/>
                  </a:lnTo>
                  <a:lnTo>
                    <a:pt x="76" y="182"/>
                  </a:lnTo>
                  <a:lnTo>
                    <a:pt x="76" y="177"/>
                  </a:lnTo>
                  <a:lnTo>
                    <a:pt x="86" y="177"/>
                  </a:lnTo>
                  <a:lnTo>
                    <a:pt x="86" y="171"/>
                  </a:lnTo>
                  <a:lnTo>
                    <a:pt x="96" y="171"/>
                  </a:lnTo>
                  <a:lnTo>
                    <a:pt x="96" y="165"/>
                  </a:lnTo>
                  <a:lnTo>
                    <a:pt x="134" y="165"/>
                  </a:lnTo>
                  <a:lnTo>
                    <a:pt x="134" y="158"/>
                  </a:lnTo>
                  <a:lnTo>
                    <a:pt x="149" y="158"/>
                  </a:lnTo>
                  <a:lnTo>
                    <a:pt x="149" y="153"/>
                  </a:lnTo>
                  <a:lnTo>
                    <a:pt x="158" y="153"/>
                  </a:lnTo>
                  <a:lnTo>
                    <a:pt x="158" y="147"/>
                  </a:lnTo>
                  <a:lnTo>
                    <a:pt x="186" y="147"/>
                  </a:lnTo>
                  <a:lnTo>
                    <a:pt x="186" y="141"/>
                  </a:lnTo>
                  <a:lnTo>
                    <a:pt x="205" y="141"/>
                  </a:lnTo>
                  <a:lnTo>
                    <a:pt x="205" y="136"/>
                  </a:lnTo>
                  <a:lnTo>
                    <a:pt x="226" y="136"/>
                  </a:lnTo>
                  <a:lnTo>
                    <a:pt x="226" y="128"/>
                  </a:lnTo>
                  <a:lnTo>
                    <a:pt x="273" y="128"/>
                  </a:lnTo>
                  <a:lnTo>
                    <a:pt x="273" y="123"/>
                  </a:lnTo>
                  <a:lnTo>
                    <a:pt x="297" y="123"/>
                  </a:lnTo>
                  <a:lnTo>
                    <a:pt x="297" y="117"/>
                  </a:lnTo>
                  <a:lnTo>
                    <a:pt x="316" y="117"/>
                  </a:lnTo>
                  <a:lnTo>
                    <a:pt x="316" y="112"/>
                  </a:lnTo>
                  <a:lnTo>
                    <a:pt x="356" y="112"/>
                  </a:lnTo>
                  <a:lnTo>
                    <a:pt x="356" y="105"/>
                  </a:lnTo>
                  <a:lnTo>
                    <a:pt x="370" y="105"/>
                  </a:lnTo>
                  <a:lnTo>
                    <a:pt x="370" y="100"/>
                  </a:lnTo>
                  <a:lnTo>
                    <a:pt x="398" y="100"/>
                  </a:lnTo>
                  <a:lnTo>
                    <a:pt x="398" y="95"/>
                  </a:lnTo>
                  <a:lnTo>
                    <a:pt x="422" y="95"/>
                  </a:lnTo>
                  <a:lnTo>
                    <a:pt x="422" y="87"/>
                  </a:lnTo>
                  <a:lnTo>
                    <a:pt x="442" y="87"/>
                  </a:lnTo>
                  <a:lnTo>
                    <a:pt x="442" y="82"/>
                  </a:lnTo>
                  <a:lnTo>
                    <a:pt x="470" y="82"/>
                  </a:lnTo>
                  <a:lnTo>
                    <a:pt x="470" y="76"/>
                  </a:lnTo>
                  <a:lnTo>
                    <a:pt x="494" y="76"/>
                  </a:lnTo>
                  <a:lnTo>
                    <a:pt x="494" y="70"/>
                  </a:lnTo>
                  <a:lnTo>
                    <a:pt x="514" y="70"/>
                  </a:lnTo>
                  <a:lnTo>
                    <a:pt x="514" y="64"/>
                  </a:lnTo>
                  <a:lnTo>
                    <a:pt x="537" y="64"/>
                  </a:lnTo>
                  <a:lnTo>
                    <a:pt x="537" y="59"/>
                  </a:lnTo>
                  <a:lnTo>
                    <a:pt x="586" y="59"/>
                  </a:lnTo>
                  <a:lnTo>
                    <a:pt x="586" y="54"/>
                  </a:lnTo>
                  <a:lnTo>
                    <a:pt x="633" y="54"/>
                  </a:lnTo>
                  <a:lnTo>
                    <a:pt x="633" y="46"/>
                  </a:lnTo>
                  <a:lnTo>
                    <a:pt x="700" y="46"/>
                  </a:lnTo>
                  <a:lnTo>
                    <a:pt x="700" y="41"/>
                  </a:lnTo>
                  <a:lnTo>
                    <a:pt x="721" y="41"/>
                  </a:lnTo>
                  <a:lnTo>
                    <a:pt x="721" y="35"/>
                  </a:lnTo>
                  <a:lnTo>
                    <a:pt x="749" y="35"/>
                  </a:lnTo>
                  <a:lnTo>
                    <a:pt x="749" y="29"/>
                  </a:lnTo>
                  <a:lnTo>
                    <a:pt x="816" y="29"/>
                  </a:lnTo>
                  <a:lnTo>
                    <a:pt x="816" y="24"/>
                  </a:lnTo>
                  <a:lnTo>
                    <a:pt x="830" y="24"/>
                  </a:lnTo>
                  <a:lnTo>
                    <a:pt x="830" y="17"/>
                  </a:lnTo>
                  <a:lnTo>
                    <a:pt x="865" y="17"/>
                  </a:lnTo>
                  <a:lnTo>
                    <a:pt x="865" y="11"/>
                  </a:lnTo>
                  <a:lnTo>
                    <a:pt x="955" y="11"/>
                  </a:lnTo>
                  <a:lnTo>
                    <a:pt x="955" y="5"/>
                  </a:lnTo>
                  <a:lnTo>
                    <a:pt x="1013" y="5"/>
                  </a:lnTo>
                  <a:lnTo>
                    <a:pt x="1013" y="0"/>
                  </a:lnTo>
                  <a:lnTo>
                    <a:pt x="1075" y="0"/>
                  </a:lnTo>
                  <a:lnTo>
                    <a:pt x="1075" y="5"/>
                  </a:lnTo>
                  <a:lnTo>
                    <a:pt x="1210" y="5"/>
                  </a:lnTo>
                  <a:lnTo>
                    <a:pt x="1210" y="11"/>
                  </a:lnTo>
                  <a:lnTo>
                    <a:pt x="1219" y="11"/>
                  </a:lnTo>
                  <a:lnTo>
                    <a:pt x="1219" y="5"/>
                  </a:lnTo>
                  <a:lnTo>
                    <a:pt x="1253" y="5"/>
                  </a:lnTo>
                  <a:lnTo>
                    <a:pt x="1253" y="0"/>
                  </a:lnTo>
                  <a:lnTo>
                    <a:pt x="1291" y="0"/>
                  </a:lnTo>
                  <a:lnTo>
                    <a:pt x="1291" y="5"/>
                  </a:lnTo>
                  <a:lnTo>
                    <a:pt x="1306" y="5"/>
                  </a:lnTo>
                  <a:lnTo>
                    <a:pt x="1306" y="0"/>
                  </a:lnTo>
                  <a:lnTo>
                    <a:pt x="1369" y="0"/>
                  </a:lnTo>
                  <a:lnTo>
                    <a:pt x="1369" y="5"/>
                  </a:lnTo>
                  <a:lnTo>
                    <a:pt x="1502" y="5"/>
                  </a:lnTo>
                  <a:lnTo>
                    <a:pt x="1502" y="11"/>
                  </a:lnTo>
                  <a:lnTo>
                    <a:pt x="1590" y="11"/>
                  </a:lnTo>
                  <a:lnTo>
                    <a:pt x="1590" y="17"/>
                  </a:lnTo>
                  <a:lnTo>
                    <a:pt x="1623" y="17"/>
                  </a:lnTo>
                  <a:lnTo>
                    <a:pt x="1623" y="24"/>
                  </a:lnTo>
                  <a:lnTo>
                    <a:pt x="1646" y="24"/>
                  </a:lnTo>
                  <a:lnTo>
                    <a:pt x="1646" y="29"/>
                  </a:lnTo>
                  <a:lnTo>
                    <a:pt x="1719" y="29"/>
                  </a:lnTo>
                  <a:lnTo>
                    <a:pt x="1719" y="24"/>
                  </a:lnTo>
                  <a:lnTo>
                    <a:pt x="1786" y="24"/>
                  </a:lnTo>
                  <a:lnTo>
                    <a:pt x="1786" y="29"/>
                  </a:lnTo>
                  <a:lnTo>
                    <a:pt x="1820" y="29"/>
                  </a:lnTo>
                  <a:lnTo>
                    <a:pt x="1820" y="35"/>
                  </a:lnTo>
                  <a:lnTo>
                    <a:pt x="1878" y="35"/>
                  </a:lnTo>
                  <a:lnTo>
                    <a:pt x="1878" y="41"/>
                  </a:lnTo>
                  <a:lnTo>
                    <a:pt x="1911" y="41"/>
                  </a:lnTo>
                  <a:lnTo>
                    <a:pt x="1911" y="35"/>
                  </a:lnTo>
                  <a:lnTo>
                    <a:pt x="1925" y="35"/>
                  </a:lnTo>
                  <a:lnTo>
                    <a:pt x="1925" y="41"/>
                  </a:lnTo>
                  <a:lnTo>
                    <a:pt x="1950" y="41"/>
                  </a:lnTo>
                  <a:lnTo>
                    <a:pt x="1950" y="46"/>
                  </a:lnTo>
                  <a:lnTo>
                    <a:pt x="1993" y="46"/>
                  </a:lnTo>
                  <a:lnTo>
                    <a:pt x="1993" y="54"/>
                  </a:lnTo>
                  <a:lnTo>
                    <a:pt x="2084" y="54"/>
                  </a:lnTo>
                  <a:lnTo>
                    <a:pt x="2084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2175" y="64"/>
                  </a:lnTo>
                  <a:lnTo>
                    <a:pt x="2175" y="70"/>
                  </a:lnTo>
                  <a:lnTo>
                    <a:pt x="2228" y="70"/>
                  </a:lnTo>
                  <a:lnTo>
                    <a:pt x="2228" y="76"/>
                  </a:lnTo>
                  <a:lnTo>
                    <a:pt x="2248" y="76"/>
                  </a:lnTo>
                  <a:lnTo>
                    <a:pt x="2248" y="82"/>
                  </a:lnTo>
                  <a:lnTo>
                    <a:pt x="2276" y="82"/>
                  </a:lnTo>
                  <a:lnTo>
                    <a:pt x="2276" y="87"/>
                  </a:lnTo>
                  <a:lnTo>
                    <a:pt x="2295" y="87"/>
                  </a:lnTo>
                  <a:lnTo>
                    <a:pt x="2295" y="95"/>
                  </a:lnTo>
                  <a:lnTo>
                    <a:pt x="2319" y="95"/>
                  </a:lnTo>
                  <a:lnTo>
                    <a:pt x="2319" y="100"/>
                  </a:lnTo>
                  <a:lnTo>
                    <a:pt x="2329" y="100"/>
                  </a:lnTo>
                  <a:lnTo>
                    <a:pt x="2329" y="105"/>
                  </a:lnTo>
                  <a:lnTo>
                    <a:pt x="2334" y="105"/>
                  </a:lnTo>
                  <a:lnTo>
                    <a:pt x="2334" y="112"/>
                  </a:lnTo>
                  <a:lnTo>
                    <a:pt x="2343" y="112"/>
                  </a:lnTo>
                  <a:lnTo>
                    <a:pt x="2343" y="117"/>
                  </a:lnTo>
                  <a:lnTo>
                    <a:pt x="2348" y="117"/>
                  </a:lnTo>
                  <a:lnTo>
                    <a:pt x="2348" y="123"/>
                  </a:lnTo>
                  <a:lnTo>
                    <a:pt x="2353" y="123"/>
                  </a:lnTo>
                  <a:lnTo>
                    <a:pt x="2353" y="136"/>
                  </a:lnTo>
                  <a:lnTo>
                    <a:pt x="2358" y="136"/>
                  </a:lnTo>
                  <a:lnTo>
                    <a:pt x="2358" y="147"/>
                  </a:lnTo>
                  <a:lnTo>
                    <a:pt x="2362" y="147"/>
                  </a:lnTo>
                  <a:lnTo>
                    <a:pt x="2362" y="153"/>
                  </a:lnTo>
                  <a:lnTo>
                    <a:pt x="2367" y="153"/>
                  </a:lnTo>
                  <a:lnTo>
                    <a:pt x="2367" y="165"/>
                  </a:lnTo>
                  <a:lnTo>
                    <a:pt x="2372" y="165"/>
                  </a:lnTo>
                  <a:lnTo>
                    <a:pt x="2372" y="177"/>
                  </a:lnTo>
                  <a:lnTo>
                    <a:pt x="2376" y="177"/>
                  </a:lnTo>
                  <a:lnTo>
                    <a:pt x="2376" y="188"/>
                  </a:lnTo>
                  <a:lnTo>
                    <a:pt x="2381" y="188"/>
                  </a:lnTo>
                  <a:lnTo>
                    <a:pt x="2381" y="201"/>
                  </a:lnTo>
                  <a:lnTo>
                    <a:pt x="2387" y="201"/>
                  </a:lnTo>
                  <a:lnTo>
                    <a:pt x="2387" y="223"/>
                  </a:lnTo>
                  <a:lnTo>
                    <a:pt x="2392" y="223"/>
                  </a:lnTo>
                  <a:lnTo>
                    <a:pt x="2392" y="264"/>
                  </a:lnTo>
                  <a:lnTo>
                    <a:pt x="2396" y="264"/>
                  </a:lnTo>
                  <a:lnTo>
                    <a:pt x="2396" y="331"/>
                  </a:lnTo>
                  <a:lnTo>
                    <a:pt x="2402" y="331"/>
                  </a:lnTo>
                  <a:lnTo>
                    <a:pt x="2402" y="424"/>
                  </a:lnTo>
                  <a:lnTo>
                    <a:pt x="2406" y="424"/>
                  </a:lnTo>
                  <a:lnTo>
                    <a:pt x="2406" y="460"/>
                  </a:lnTo>
                  <a:lnTo>
                    <a:pt x="2411" y="460"/>
                  </a:lnTo>
                  <a:lnTo>
                    <a:pt x="2411" y="543"/>
                  </a:lnTo>
                  <a:lnTo>
                    <a:pt x="2415" y="543"/>
                  </a:lnTo>
                  <a:lnTo>
                    <a:pt x="2415" y="560"/>
                  </a:lnTo>
                  <a:lnTo>
                    <a:pt x="2411" y="560"/>
                  </a:lnTo>
                  <a:lnTo>
                    <a:pt x="2411" y="573"/>
                  </a:lnTo>
                  <a:lnTo>
                    <a:pt x="2415" y="573"/>
                  </a:lnTo>
                  <a:lnTo>
                    <a:pt x="2415" y="596"/>
                  </a:lnTo>
                  <a:lnTo>
                    <a:pt x="2411" y="596"/>
                  </a:lnTo>
                  <a:lnTo>
                    <a:pt x="2411" y="620"/>
                  </a:lnTo>
                  <a:lnTo>
                    <a:pt x="2415" y="620"/>
                  </a:lnTo>
                  <a:lnTo>
                    <a:pt x="2415" y="704"/>
                  </a:lnTo>
                  <a:lnTo>
                    <a:pt x="2420" y="704"/>
                  </a:lnTo>
                  <a:lnTo>
                    <a:pt x="2420" y="791"/>
                  </a:lnTo>
                  <a:lnTo>
                    <a:pt x="2425" y="791"/>
                  </a:lnTo>
                  <a:lnTo>
                    <a:pt x="2425" y="821"/>
                  </a:lnTo>
                  <a:lnTo>
                    <a:pt x="2429" y="821"/>
                  </a:lnTo>
                  <a:lnTo>
                    <a:pt x="2429" y="838"/>
                  </a:lnTo>
                  <a:lnTo>
                    <a:pt x="2435" y="838"/>
                  </a:lnTo>
                  <a:lnTo>
                    <a:pt x="2435" y="897"/>
                  </a:lnTo>
                  <a:lnTo>
                    <a:pt x="2439" y="897"/>
                  </a:lnTo>
                  <a:lnTo>
                    <a:pt x="2439" y="951"/>
                  </a:lnTo>
                  <a:lnTo>
                    <a:pt x="2444" y="951"/>
                  </a:lnTo>
                  <a:lnTo>
                    <a:pt x="2444" y="1069"/>
                  </a:lnTo>
                  <a:lnTo>
                    <a:pt x="2449" y="1069"/>
                  </a:lnTo>
                  <a:lnTo>
                    <a:pt x="2449" y="1188"/>
                  </a:lnTo>
                  <a:lnTo>
                    <a:pt x="2455" y="1188"/>
                  </a:lnTo>
                  <a:lnTo>
                    <a:pt x="2455" y="1441"/>
                  </a:lnTo>
                  <a:lnTo>
                    <a:pt x="2459" y="1441"/>
                  </a:lnTo>
                  <a:lnTo>
                    <a:pt x="2459" y="1471"/>
                  </a:lnTo>
                  <a:lnTo>
                    <a:pt x="2455" y="1471"/>
                  </a:lnTo>
                  <a:lnTo>
                    <a:pt x="2455" y="1512"/>
                  </a:lnTo>
                  <a:lnTo>
                    <a:pt x="2449" y="1512"/>
                  </a:lnTo>
                  <a:lnTo>
                    <a:pt x="2449" y="1531"/>
                  </a:lnTo>
                  <a:lnTo>
                    <a:pt x="2325" y="1531"/>
                  </a:lnTo>
                  <a:lnTo>
                    <a:pt x="2325" y="1536"/>
                  </a:lnTo>
                  <a:lnTo>
                    <a:pt x="2238" y="1536"/>
                  </a:lnTo>
                  <a:lnTo>
                    <a:pt x="2238" y="1542"/>
                  </a:lnTo>
                  <a:lnTo>
                    <a:pt x="2204" y="1542"/>
                  </a:lnTo>
                  <a:lnTo>
                    <a:pt x="2204" y="1536"/>
                  </a:lnTo>
                  <a:lnTo>
                    <a:pt x="2171" y="1536"/>
                  </a:lnTo>
                  <a:lnTo>
                    <a:pt x="2171" y="1531"/>
                  </a:lnTo>
                  <a:lnTo>
                    <a:pt x="2156" y="1531"/>
                  </a:lnTo>
                  <a:lnTo>
                    <a:pt x="2156" y="1536"/>
                  </a:lnTo>
                  <a:lnTo>
                    <a:pt x="2104" y="1536"/>
                  </a:lnTo>
                  <a:lnTo>
                    <a:pt x="2104" y="1531"/>
                  </a:lnTo>
                  <a:lnTo>
                    <a:pt x="1983" y="1531"/>
                  </a:lnTo>
                  <a:lnTo>
                    <a:pt x="1983" y="1524"/>
                  </a:lnTo>
                  <a:lnTo>
                    <a:pt x="1959" y="1524"/>
                  </a:lnTo>
                  <a:lnTo>
                    <a:pt x="1959" y="1531"/>
                  </a:lnTo>
                  <a:lnTo>
                    <a:pt x="1934" y="1531"/>
                  </a:lnTo>
                  <a:lnTo>
                    <a:pt x="1934" y="1524"/>
                  </a:lnTo>
                  <a:lnTo>
                    <a:pt x="1921" y="1524"/>
                  </a:lnTo>
                  <a:lnTo>
                    <a:pt x="1921" y="1531"/>
                  </a:lnTo>
                  <a:lnTo>
                    <a:pt x="1907" y="1531"/>
                  </a:lnTo>
                  <a:lnTo>
                    <a:pt x="1907" y="1524"/>
                  </a:lnTo>
                  <a:lnTo>
                    <a:pt x="1772" y="1524"/>
                  </a:lnTo>
                  <a:lnTo>
                    <a:pt x="1772" y="1519"/>
                  </a:lnTo>
                  <a:lnTo>
                    <a:pt x="1728" y="1519"/>
                  </a:lnTo>
                  <a:lnTo>
                    <a:pt x="1728" y="1524"/>
                  </a:lnTo>
                  <a:lnTo>
                    <a:pt x="1709" y="1524"/>
                  </a:lnTo>
                  <a:lnTo>
                    <a:pt x="1709" y="1519"/>
                  </a:lnTo>
                  <a:lnTo>
                    <a:pt x="1690" y="1519"/>
                  </a:lnTo>
                  <a:lnTo>
                    <a:pt x="1690" y="1524"/>
                  </a:lnTo>
                  <a:lnTo>
                    <a:pt x="1676" y="1524"/>
                  </a:lnTo>
                  <a:lnTo>
                    <a:pt x="1676" y="1519"/>
                  </a:lnTo>
                  <a:lnTo>
                    <a:pt x="1646" y="1519"/>
                  </a:lnTo>
                  <a:lnTo>
                    <a:pt x="1646" y="1524"/>
                  </a:lnTo>
                  <a:lnTo>
                    <a:pt x="1604" y="1524"/>
                  </a:lnTo>
                  <a:lnTo>
                    <a:pt x="1604" y="1519"/>
                  </a:lnTo>
                  <a:lnTo>
                    <a:pt x="1537" y="1519"/>
                  </a:lnTo>
                  <a:lnTo>
                    <a:pt x="1537" y="1512"/>
                  </a:lnTo>
                  <a:lnTo>
                    <a:pt x="1475" y="1512"/>
                  </a:lnTo>
                  <a:lnTo>
                    <a:pt x="1475" y="1519"/>
                  </a:lnTo>
                  <a:lnTo>
                    <a:pt x="1393" y="1519"/>
                  </a:lnTo>
                  <a:lnTo>
                    <a:pt x="1393" y="1524"/>
                  </a:lnTo>
                  <a:lnTo>
                    <a:pt x="1373" y="1524"/>
                  </a:lnTo>
                  <a:lnTo>
                    <a:pt x="1373" y="1519"/>
                  </a:lnTo>
                  <a:lnTo>
                    <a:pt x="1282" y="1519"/>
                  </a:lnTo>
                  <a:lnTo>
                    <a:pt x="1282" y="1524"/>
                  </a:lnTo>
                  <a:lnTo>
                    <a:pt x="1234" y="1524"/>
                  </a:lnTo>
                  <a:lnTo>
                    <a:pt x="1234" y="1519"/>
                  </a:lnTo>
                  <a:lnTo>
                    <a:pt x="1219" y="1519"/>
                  </a:lnTo>
                  <a:lnTo>
                    <a:pt x="1219" y="1524"/>
                  </a:lnTo>
                  <a:lnTo>
                    <a:pt x="1195" y="1524"/>
                  </a:lnTo>
                  <a:lnTo>
                    <a:pt x="1195" y="1519"/>
                  </a:lnTo>
                  <a:lnTo>
                    <a:pt x="1153" y="1519"/>
                  </a:lnTo>
                  <a:lnTo>
                    <a:pt x="1153" y="1512"/>
                  </a:lnTo>
                  <a:lnTo>
                    <a:pt x="1142" y="1512"/>
                  </a:lnTo>
                  <a:lnTo>
                    <a:pt x="1142" y="1519"/>
                  </a:lnTo>
                  <a:lnTo>
                    <a:pt x="1085" y="1519"/>
                  </a:lnTo>
                  <a:lnTo>
                    <a:pt x="1085" y="1512"/>
                  </a:lnTo>
                  <a:lnTo>
                    <a:pt x="998" y="1512"/>
                  </a:lnTo>
                  <a:lnTo>
                    <a:pt x="998" y="1506"/>
                  </a:lnTo>
                  <a:lnTo>
                    <a:pt x="984" y="1506"/>
                  </a:lnTo>
                  <a:lnTo>
                    <a:pt x="984" y="1512"/>
                  </a:lnTo>
                  <a:lnTo>
                    <a:pt x="974" y="1512"/>
                  </a:lnTo>
                  <a:lnTo>
                    <a:pt x="974" y="1519"/>
                  </a:lnTo>
                  <a:lnTo>
                    <a:pt x="874" y="1519"/>
                  </a:lnTo>
                  <a:lnTo>
                    <a:pt x="874" y="1524"/>
                  </a:lnTo>
                  <a:lnTo>
                    <a:pt x="859" y="1524"/>
                  </a:lnTo>
                  <a:lnTo>
                    <a:pt x="859" y="1519"/>
                  </a:lnTo>
                  <a:lnTo>
                    <a:pt x="782" y="1519"/>
                  </a:lnTo>
                  <a:lnTo>
                    <a:pt x="782" y="1512"/>
                  </a:lnTo>
                  <a:lnTo>
                    <a:pt x="763" y="1512"/>
                  </a:lnTo>
                  <a:lnTo>
                    <a:pt x="763" y="1519"/>
                  </a:lnTo>
                  <a:lnTo>
                    <a:pt x="644" y="1519"/>
                  </a:lnTo>
                  <a:lnTo>
                    <a:pt x="644" y="1512"/>
                  </a:lnTo>
                  <a:lnTo>
                    <a:pt x="494" y="1512"/>
                  </a:lnTo>
                  <a:lnTo>
                    <a:pt x="494" y="1506"/>
                  </a:lnTo>
                  <a:lnTo>
                    <a:pt x="408" y="1506"/>
                  </a:lnTo>
                  <a:lnTo>
                    <a:pt x="408" y="1501"/>
                  </a:lnTo>
                  <a:lnTo>
                    <a:pt x="365" y="1501"/>
                  </a:lnTo>
                  <a:lnTo>
                    <a:pt x="365" y="1495"/>
                  </a:lnTo>
                  <a:lnTo>
                    <a:pt x="307" y="1495"/>
                  </a:lnTo>
                  <a:lnTo>
                    <a:pt x="307" y="1489"/>
                  </a:lnTo>
                  <a:lnTo>
                    <a:pt x="205" y="1489"/>
                  </a:lnTo>
                  <a:lnTo>
                    <a:pt x="205" y="1482"/>
                  </a:lnTo>
                  <a:lnTo>
                    <a:pt x="134" y="1482"/>
                  </a:lnTo>
                  <a:lnTo>
                    <a:pt x="134" y="1477"/>
                  </a:lnTo>
                  <a:lnTo>
                    <a:pt x="91" y="1477"/>
                  </a:lnTo>
                  <a:lnTo>
                    <a:pt x="91" y="1482"/>
                  </a:lnTo>
                  <a:lnTo>
                    <a:pt x="72" y="1482"/>
                  </a:lnTo>
                  <a:lnTo>
                    <a:pt x="72" y="1477"/>
                  </a:lnTo>
                  <a:lnTo>
                    <a:pt x="68" y="1477"/>
                  </a:lnTo>
                  <a:lnTo>
                    <a:pt x="68" y="1465"/>
                  </a:lnTo>
                  <a:lnTo>
                    <a:pt x="61" y="1465"/>
                  </a:lnTo>
                  <a:lnTo>
                    <a:pt x="61" y="1460"/>
                  </a:lnTo>
                  <a:lnTo>
                    <a:pt x="57" y="1460"/>
                  </a:lnTo>
                  <a:lnTo>
                    <a:pt x="57" y="1417"/>
                  </a:lnTo>
                  <a:lnTo>
                    <a:pt x="52" y="1417"/>
                  </a:lnTo>
                  <a:lnTo>
                    <a:pt x="52" y="1395"/>
                  </a:lnTo>
                  <a:lnTo>
                    <a:pt x="47" y="1395"/>
                  </a:lnTo>
                  <a:lnTo>
                    <a:pt x="47" y="1370"/>
                  </a:lnTo>
                  <a:lnTo>
                    <a:pt x="42" y="1370"/>
                  </a:lnTo>
                  <a:lnTo>
                    <a:pt x="42" y="1364"/>
                  </a:lnTo>
                  <a:lnTo>
                    <a:pt x="38" y="1364"/>
                  </a:lnTo>
                  <a:lnTo>
                    <a:pt x="38" y="1346"/>
                  </a:lnTo>
                  <a:lnTo>
                    <a:pt x="42" y="1346"/>
                  </a:lnTo>
                  <a:lnTo>
                    <a:pt x="42" y="1329"/>
                  </a:lnTo>
                  <a:lnTo>
                    <a:pt x="38" y="1329"/>
                  </a:lnTo>
                  <a:lnTo>
                    <a:pt x="38" y="1305"/>
                  </a:lnTo>
                  <a:lnTo>
                    <a:pt x="33" y="1305"/>
                  </a:lnTo>
                  <a:lnTo>
                    <a:pt x="33" y="1270"/>
                  </a:lnTo>
                  <a:lnTo>
                    <a:pt x="28" y="1270"/>
                  </a:lnTo>
                  <a:lnTo>
                    <a:pt x="28" y="1182"/>
                  </a:lnTo>
                  <a:lnTo>
                    <a:pt x="24" y="1182"/>
                  </a:lnTo>
                  <a:lnTo>
                    <a:pt x="24" y="1145"/>
                  </a:lnTo>
                  <a:lnTo>
                    <a:pt x="19" y="1145"/>
                  </a:lnTo>
                  <a:lnTo>
                    <a:pt x="19" y="1087"/>
                  </a:lnTo>
                  <a:lnTo>
                    <a:pt x="14" y="1087"/>
                  </a:lnTo>
                  <a:lnTo>
                    <a:pt x="14" y="1016"/>
                  </a:lnTo>
                  <a:lnTo>
                    <a:pt x="9" y="1016"/>
                  </a:lnTo>
                  <a:lnTo>
                    <a:pt x="9" y="903"/>
                  </a:lnTo>
                  <a:lnTo>
                    <a:pt x="5" y="903"/>
                  </a:lnTo>
                  <a:lnTo>
                    <a:pt x="5" y="875"/>
                  </a:lnTo>
                  <a:lnTo>
                    <a:pt x="0" y="875"/>
                  </a:lnTo>
                  <a:lnTo>
                    <a:pt x="0" y="863"/>
                  </a:lnTo>
                  <a:lnTo>
                    <a:pt x="5" y="863"/>
                  </a:lnTo>
                  <a:lnTo>
                    <a:pt x="5" y="851"/>
                  </a:lnTo>
                  <a:lnTo>
                    <a:pt x="0" y="851"/>
                  </a:lnTo>
                  <a:lnTo>
                    <a:pt x="0" y="6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87280" y="3335400"/>
              <a:ext cx="640440" cy="540360"/>
            </a:xfrm>
            <a:custGeom>
              <a:avLst/>
              <a:gdLst/>
              <a:ahLst/>
              <a:rect l="l" t="t" r="r" b="b"/>
              <a:pathLst>
                <a:path w="2464" h="2771">
                  <a:moveTo>
                    <a:pt x="0" y="508"/>
                  </a:moveTo>
                  <a:lnTo>
                    <a:pt x="4" y="508"/>
                  </a:lnTo>
                  <a:lnTo>
                    <a:pt x="4" y="396"/>
                  </a:lnTo>
                  <a:lnTo>
                    <a:pt x="9" y="396"/>
                  </a:lnTo>
                  <a:lnTo>
                    <a:pt x="9" y="331"/>
                  </a:lnTo>
                  <a:lnTo>
                    <a:pt x="4" y="331"/>
                  </a:lnTo>
                  <a:lnTo>
                    <a:pt x="4" y="283"/>
                  </a:lnTo>
                  <a:lnTo>
                    <a:pt x="9" y="283"/>
                  </a:lnTo>
                  <a:lnTo>
                    <a:pt x="9" y="260"/>
                  </a:lnTo>
                  <a:lnTo>
                    <a:pt x="4" y="260"/>
                  </a:lnTo>
                  <a:lnTo>
                    <a:pt x="4" y="248"/>
                  </a:lnTo>
                  <a:lnTo>
                    <a:pt x="9" y="248"/>
                  </a:lnTo>
                  <a:lnTo>
                    <a:pt x="9" y="225"/>
                  </a:lnTo>
                  <a:lnTo>
                    <a:pt x="14" y="225"/>
                  </a:lnTo>
                  <a:lnTo>
                    <a:pt x="14" y="201"/>
                  </a:lnTo>
                  <a:lnTo>
                    <a:pt x="18" y="201"/>
                  </a:lnTo>
                  <a:lnTo>
                    <a:pt x="18" y="188"/>
                  </a:lnTo>
                  <a:lnTo>
                    <a:pt x="23" y="188"/>
                  </a:lnTo>
                  <a:lnTo>
                    <a:pt x="23" y="177"/>
                  </a:lnTo>
                  <a:lnTo>
                    <a:pt x="28" y="177"/>
                  </a:lnTo>
                  <a:lnTo>
                    <a:pt x="28" y="166"/>
                  </a:lnTo>
                  <a:lnTo>
                    <a:pt x="37" y="166"/>
                  </a:lnTo>
                  <a:lnTo>
                    <a:pt x="37" y="153"/>
                  </a:lnTo>
                  <a:lnTo>
                    <a:pt x="44" y="153"/>
                  </a:lnTo>
                  <a:lnTo>
                    <a:pt x="44" y="141"/>
                  </a:lnTo>
                  <a:lnTo>
                    <a:pt x="48" y="141"/>
                  </a:lnTo>
                  <a:lnTo>
                    <a:pt x="48" y="130"/>
                  </a:lnTo>
                  <a:lnTo>
                    <a:pt x="52" y="130"/>
                  </a:lnTo>
                  <a:lnTo>
                    <a:pt x="52" y="125"/>
                  </a:lnTo>
                  <a:lnTo>
                    <a:pt x="58" y="125"/>
                  </a:lnTo>
                  <a:lnTo>
                    <a:pt x="58" y="112"/>
                  </a:lnTo>
                  <a:lnTo>
                    <a:pt x="62" y="112"/>
                  </a:lnTo>
                  <a:lnTo>
                    <a:pt x="62" y="106"/>
                  </a:lnTo>
                  <a:lnTo>
                    <a:pt x="67" y="106"/>
                  </a:lnTo>
                  <a:lnTo>
                    <a:pt x="67" y="100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86" y="94"/>
                  </a:lnTo>
                  <a:lnTo>
                    <a:pt x="86" y="89"/>
                  </a:lnTo>
                  <a:lnTo>
                    <a:pt x="91" y="89"/>
                  </a:lnTo>
                  <a:lnTo>
                    <a:pt x="91" y="82"/>
                  </a:lnTo>
                  <a:lnTo>
                    <a:pt x="105" y="82"/>
                  </a:lnTo>
                  <a:lnTo>
                    <a:pt x="105" y="76"/>
                  </a:lnTo>
                  <a:lnTo>
                    <a:pt x="115" y="76"/>
                  </a:lnTo>
                  <a:lnTo>
                    <a:pt x="115" y="71"/>
                  </a:lnTo>
                  <a:lnTo>
                    <a:pt x="125" y="71"/>
                  </a:lnTo>
                  <a:lnTo>
                    <a:pt x="125" y="65"/>
                  </a:lnTo>
                  <a:lnTo>
                    <a:pt x="139" y="65"/>
                  </a:lnTo>
                  <a:lnTo>
                    <a:pt x="139" y="59"/>
                  </a:lnTo>
                  <a:lnTo>
                    <a:pt x="154" y="59"/>
                  </a:lnTo>
                  <a:lnTo>
                    <a:pt x="154" y="52"/>
                  </a:lnTo>
                  <a:lnTo>
                    <a:pt x="172" y="52"/>
                  </a:lnTo>
                  <a:lnTo>
                    <a:pt x="172" y="47"/>
                  </a:lnTo>
                  <a:lnTo>
                    <a:pt x="225" y="47"/>
                  </a:lnTo>
                  <a:lnTo>
                    <a:pt x="225" y="40"/>
                  </a:lnTo>
                  <a:lnTo>
                    <a:pt x="254" y="40"/>
                  </a:lnTo>
                  <a:lnTo>
                    <a:pt x="254" y="35"/>
                  </a:lnTo>
                  <a:lnTo>
                    <a:pt x="298" y="35"/>
                  </a:lnTo>
                  <a:lnTo>
                    <a:pt x="298" y="29"/>
                  </a:lnTo>
                  <a:lnTo>
                    <a:pt x="312" y="29"/>
                  </a:lnTo>
                  <a:lnTo>
                    <a:pt x="312" y="35"/>
                  </a:lnTo>
                  <a:lnTo>
                    <a:pt x="325" y="35"/>
                  </a:lnTo>
                  <a:lnTo>
                    <a:pt x="325" y="29"/>
                  </a:lnTo>
                  <a:lnTo>
                    <a:pt x="355" y="29"/>
                  </a:lnTo>
                  <a:lnTo>
                    <a:pt x="355" y="24"/>
                  </a:lnTo>
                  <a:lnTo>
                    <a:pt x="398" y="24"/>
                  </a:lnTo>
                  <a:lnTo>
                    <a:pt x="398" y="29"/>
                  </a:lnTo>
                  <a:lnTo>
                    <a:pt x="408" y="29"/>
                  </a:lnTo>
                  <a:lnTo>
                    <a:pt x="408" y="24"/>
                  </a:lnTo>
                  <a:lnTo>
                    <a:pt x="532" y="24"/>
                  </a:lnTo>
                  <a:lnTo>
                    <a:pt x="532" y="17"/>
                  </a:lnTo>
                  <a:lnTo>
                    <a:pt x="609" y="17"/>
                  </a:lnTo>
                  <a:lnTo>
                    <a:pt x="609" y="12"/>
                  </a:lnTo>
                  <a:lnTo>
                    <a:pt x="806" y="12"/>
                  </a:lnTo>
                  <a:lnTo>
                    <a:pt x="806" y="6"/>
                  </a:lnTo>
                  <a:lnTo>
                    <a:pt x="860" y="6"/>
                  </a:lnTo>
                  <a:lnTo>
                    <a:pt x="860" y="0"/>
                  </a:lnTo>
                  <a:lnTo>
                    <a:pt x="1032" y="0"/>
                  </a:lnTo>
                  <a:lnTo>
                    <a:pt x="1032" y="6"/>
                  </a:lnTo>
                  <a:lnTo>
                    <a:pt x="1067" y="6"/>
                  </a:lnTo>
                  <a:lnTo>
                    <a:pt x="1067" y="12"/>
                  </a:lnTo>
                  <a:lnTo>
                    <a:pt x="1148" y="12"/>
                  </a:lnTo>
                  <a:lnTo>
                    <a:pt x="1148" y="6"/>
                  </a:lnTo>
                  <a:lnTo>
                    <a:pt x="1229" y="6"/>
                  </a:lnTo>
                  <a:lnTo>
                    <a:pt x="1229" y="12"/>
                  </a:lnTo>
                  <a:lnTo>
                    <a:pt x="1278" y="12"/>
                  </a:lnTo>
                  <a:lnTo>
                    <a:pt x="1278" y="6"/>
                  </a:lnTo>
                  <a:lnTo>
                    <a:pt x="1325" y="6"/>
                  </a:lnTo>
                  <a:lnTo>
                    <a:pt x="1325" y="12"/>
                  </a:lnTo>
                  <a:lnTo>
                    <a:pt x="1364" y="12"/>
                  </a:lnTo>
                  <a:lnTo>
                    <a:pt x="1364" y="17"/>
                  </a:lnTo>
                  <a:lnTo>
                    <a:pt x="1378" y="17"/>
                  </a:lnTo>
                  <a:lnTo>
                    <a:pt x="1378" y="12"/>
                  </a:lnTo>
                  <a:lnTo>
                    <a:pt x="1392" y="12"/>
                  </a:lnTo>
                  <a:lnTo>
                    <a:pt x="1392" y="17"/>
                  </a:lnTo>
                  <a:lnTo>
                    <a:pt x="1431" y="17"/>
                  </a:lnTo>
                  <a:lnTo>
                    <a:pt x="1431" y="24"/>
                  </a:lnTo>
                  <a:lnTo>
                    <a:pt x="1465" y="24"/>
                  </a:lnTo>
                  <a:lnTo>
                    <a:pt x="1465" y="17"/>
                  </a:lnTo>
                  <a:lnTo>
                    <a:pt x="1508" y="17"/>
                  </a:lnTo>
                  <a:lnTo>
                    <a:pt x="1508" y="24"/>
                  </a:lnTo>
                  <a:lnTo>
                    <a:pt x="1570" y="24"/>
                  </a:lnTo>
                  <a:lnTo>
                    <a:pt x="1570" y="29"/>
                  </a:lnTo>
                  <a:lnTo>
                    <a:pt x="1632" y="29"/>
                  </a:lnTo>
                  <a:lnTo>
                    <a:pt x="1632" y="24"/>
                  </a:lnTo>
                  <a:lnTo>
                    <a:pt x="1643" y="24"/>
                  </a:lnTo>
                  <a:lnTo>
                    <a:pt x="1643" y="29"/>
                  </a:lnTo>
                  <a:lnTo>
                    <a:pt x="1652" y="29"/>
                  </a:lnTo>
                  <a:lnTo>
                    <a:pt x="1652" y="24"/>
                  </a:lnTo>
                  <a:lnTo>
                    <a:pt x="1671" y="24"/>
                  </a:lnTo>
                  <a:lnTo>
                    <a:pt x="1671" y="29"/>
                  </a:lnTo>
                  <a:lnTo>
                    <a:pt x="1714" y="29"/>
                  </a:lnTo>
                  <a:lnTo>
                    <a:pt x="1714" y="35"/>
                  </a:lnTo>
                  <a:lnTo>
                    <a:pt x="1792" y="35"/>
                  </a:lnTo>
                  <a:lnTo>
                    <a:pt x="1792" y="40"/>
                  </a:lnTo>
                  <a:lnTo>
                    <a:pt x="1906" y="40"/>
                  </a:lnTo>
                  <a:lnTo>
                    <a:pt x="1906" y="47"/>
                  </a:lnTo>
                  <a:lnTo>
                    <a:pt x="1916" y="47"/>
                  </a:lnTo>
                  <a:lnTo>
                    <a:pt x="1916" y="40"/>
                  </a:lnTo>
                  <a:lnTo>
                    <a:pt x="2017" y="40"/>
                  </a:lnTo>
                  <a:lnTo>
                    <a:pt x="2017" y="47"/>
                  </a:lnTo>
                  <a:lnTo>
                    <a:pt x="2060" y="47"/>
                  </a:lnTo>
                  <a:lnTo>
                    <a:pt x="2060" y="52"/>
                  </a:lnTo>
                  <a:lnTo>
                    <a:pt x="2070" y="52"/>
                  </a:lnTo>
                  <a:lnTo>
                    <a:pt x="2070" y="47"/>
                  </a:lnTo>
                  <a:lnTo>
                    <a:pt x="2089" y="47"/>
                  </a:lnTo>
                  <a:lnTo>
                    <a:pt x="2089" y="40"/>
                  </a:lnTo>
                  <a:lnTo>
                    <a:pt x="2142" y="40"/>
                  </a:lnTo>
                  <a:lnTo>
                    <a:pt x="2142" y="47"/>
                  </a:lnTo>
                  <a:lnTo>
                    <a:pt x="2176" y="47"/>
                  </a:lnTo>
                  <a:lnTo>
                    <a:pt x="2176" y="52"/>
                  </a:lnTo>
                  <a:lnTo>
                    <a:pt x="2228" y="52"/>
                  </a:lnTo>
                  <a:lnTo>
                    <a:pt x="2228" y="59"/>
                  </a:lnTo>
                  <a:lnTo>
                    <a:pt x="2368" y="59"/>
                  </a:lnTo>
                  <a:lnTo>
                    <a:pt x="2368" y="65"/>
                  </a:lnTo>
                  <a:lnTo>
                    <a:pt x="2378" y="65"/>
                  </a:lnTo>
                  <a:lnTo>
                    <a:pt x="2378" y="71"/>
                  </a:lnTo>
                  <a:lnTo>
                    <a:pt x="2387" y="71"/>
                  </a:lnTo>
                  <a:lnTo>
                    <a:pt x="2387" y="76"/>
                  </a:lnTo>
                  <a:lnTo>
                    <a:pt x="2405" y="76"/>
                  </a:lnTo>
                  <a:lnTo>
                    <a:pt x="2405" y="82"/>
                  </a:lnTo>
                  <a:lnTo>
                    <a:pt x="2411" y="82"/>
                  </a:lnTo>
                  <a:lnTo>
                    <a:pt x="2411" y="89"/>
                  </a:lnTo>
                  <a:lnTo>
                    <a:pt x="2420" y="89"/>
                  </a:lnTo>
                  <a:lnTo>
                    <a:pt x="2420" y="100"/>
                  </a:lnTo>
                  <a:lnTo>
                    <a:pt x="2425" y="100"/>
                  </a:lnTo>
                  <a:lnTo>
                    <a:pt x="2425" y="106"/>
                  </a:lnTo>
                  <a:lnTo>
                    <a:pt x="2431" y="106"/>
                  </a:lnTo>
                  <a:lnTo>
                    <a:pt x="2431" y="112"/>
                  </a:lnTo>
                  <a:lnTo>
                    <a:pt x="2435" y="112"/>
                  </a:lnTo>
                  <a:lnTo>
                    <a:pt x="2435" y="117"/>
                  </a:lnTo>
                  <a:lnTo>
                    <a:pt x="2440" y="117"/>
                  </a:lnTo>
                  <a:lnTo>
                    <a:pt x="2440" y="135"/>
                  </a:lnTo>
                  <a:lnTo>
                    <a:pt x="2445" y="135"/>
                  </a:lnTo>
                  <a:lnTo>
                    <a:pt x="2445" y="158"/>
                  </a:lnTo>
                  <a:lnTo>
                    <a:pt x="2449" y="158"/>
                  </a:lnTo>
                  <a:lnTo>
                    <a:pt x="2449" y="183"/>
                  </a:lnTo>
                  <a:lnTo>
                    <a:pt x="2454" y="183"/>
                  </a:lnTo>
                  <a:lnTo>
                    <a:pt x="2454" y="195"/>
                  </a:lnTo>
                  <a:lnTo>
                    <a:pt x="2459" y="195"/>
                  </a:lnTo>
                  <a:lnTo>
                    <a:pt x="2459" y="212"/>
                  </a:lnTo>
                  <a:lnTo>
                    <a:pt x="2464" y="212"/>
                  </a:lnTo>
                  <a:lnTo>
                    <a:pt x="2464" y="294"/>
                  </a:lnTo>
                  <a:lnTo>
                    <a:pt x="2459" y="294"/>
                  </a:lnTo>
                  <a:lnTo>
                    <a:pt x="2459" y="448"/>
                  </a:lnTo>
                  <a:lnTo>
                    <a:pt x="2454" y="448"/>
                  </a:lnTo>
                  <a:lnTo>
                    <a:pt x="2454" y="644"/>
                  </a:lnTo>
                  <a:lnTo>
                    <a:pt x="2449" y="644"/>
                  </a:lnTo>
                  <a:lnTo>
                    <a:pt x="2449" y="674"/>
                  </a:lnTo>
                  <a:lnTo>
                    <a:pt x="2454" y="674"/>
                  </a:lnTo>
                  <a:lnTo>
                    <a:pt x="2454" y="745"/>
                  </a:lnTo>
                  <a:lnTo>
                    <a:pt x="2449" y="745"/>
                  </a:lnTo>
                  <a:lnTo>
                    <a:pt x="2449" y="756"/>
                  </a:lnTo>
                  <a:lnTo>
                    <a:pt x="2454" y="756"/>
                  </a:lnTo>
                  <a:lnTo>
                    <a:pt x="2454" y="804"/>
                  </a:lnTo>
                  <a:lnTo>
                    <a:pt x="2449" y="804"/>
                  </a:lnTo>
                  <a:lnTo>
                    <a:pt x="2449" y="851"/>
                  </a:lnTo>
                  <a:lnTo>
                    <a:pt x="2454" y="851"/>
                  </a:lnTo>
                  <a:lnTo>
                    <a:pt x="2454" y="875"/>
                  </a:lnTo>
                  <a:lnTo>
                    <a:pt x="2449" y="875"/>
                  </a:lnTo>
                  <a:lnTo>
                    <a:pt x="2449" y="903"/>
                  </a:lnTo>
                  <a:lnTo>
                    <a:pt x="2445" y="903"/>
                  </a:lnTo>
                  <a:lnTo>
                    <a:pt x="2445" y="933"/>
                  </a:lnTo>
                  <a:lnTo>
                    <a:pt x="2449" y="933"/>
                  </a:lnTo>
                  <a:lnTo>
                    <a:pt x="2449" y="952"/>
                  </a:lnTo>
                  <a:lnTo>
                    <a:pt x="2445" y="952"/>
                  </a:lnTo>
                  <a:lnTo>
                    <a:pt x="2445" y="968"/>
                  </a:lnTo>
                  <a:lnTo>
                    <a:pt x="2449" y="968"/>
                  </a:lnTo>
                  <a:lnTo>
                    <a:pt x="2449" y="1028"/>
                  </a:lnTo>
                  <a:lnTo>
                    <a:pt x="2454" y="1028"/>
                  </a:lnTo>
                  <a:lnTo>
                    <a:pt x="2454" y="1039"/>
                  </a:lnTo>
                  <a:lnTo>
                    <a:pt x="2449" y="1039"/>
                  </a:lnTo>
                  <a:lnTo>
                    <a:pt x="2449" y="1069"/>
                  </a:lnTo>
                  <a:lnTo>
                    <a:pt x="2445" y="1069"/>
                  </a:lnTo>
                  <a:lnTo>
                    <a:pt x="2445" y="1081"/>
                  </a:lnTo>
                  <a:lnTo>
                    <a:pt x="2449" y="1081"/>
                  </a:lnTo>
                  <a:lnTo>
                    <a:pt x="2449" y="1129"/>
                  </a:lnTo>
                  <a:lnTo>
                    <a:pt x="2445" y="1129"/>
                  </a:lnTo>
                  <a:lnTo>
                    <a:pt x="2445" y="1141"/>
                  </a:lnTo>
                  <a:lnTo>
                    <a:pt x="2449" y="1141"/>
                  </a:lnTo>
                  <a:lnTo>
                    <a:pt x="2449" y="1240"/>
                  </a:lnTo>
                  <a:lnTo>
                    <a:pt x="2454" y="1240"/>
                  </a:lnTo>
                  <a:lnTo>
                    <a:pt x="2454" y="1329"/>
                  </a:lnTo>
                  <a:lnTo>
                    <a:pt x="2459" y="1329"/>
                  </a:lnTo>
                  <a:lnTo>
                    <a:pt x="2459" y="1418"/>
                  </a:lnTo>
                  <a:lnTo>
                    <a:pt x="2464" y="1418"/>
                  </a:lnTo>
                  <a:lnTo>
                    <a:pt x="2464" y="1435"/>
                  </a:lnTo>
                  <a:lnTo>
                    <a:pt x="2459" y="1435"/>
                  </a:lnTo>
                  <a:lnTo>
                    <a:pt x="2459" y="1566"/>
                  </a:lnTo>
                  <a:lnTo>
                    <a:pt x="2454" y="1566"/>
                  </a:lnTo>
                  <a:lnTo>
                    <a:pt x="2454" y="1690"/>
                  </a:lnTo>
                  <a:lnTo>
                    <a:pt x="2449" y="1690"/>
                  </a:lnTo>
                  <a:lnTo>
                    <a:pt x="2449" y="1713"/>
                  </a:lnTo>
                  <a:lnTo>
                    <a:pt x="2454" y="1713"/>
                  </a:lnTo>
                  <a:lnTo>
                    <a:pt x="2454" y="1772"/>
                  </a:lnTo>
                  <a:lnTo>
                    <a:pt x="2449" y="1772"/>
                  </a:lnTo>
                  <a:lnTo>
                    <a:pt x="2449" y="1802"/>
                  </a:lnTo>
                  <a:lnTo>
                    <a:pt x="2445" y="1802"/>
                  </a:lnTo>
                  <a:lnTo>
                    <a:pt x="2445" y="1856"/>
                  </a:lnTo>
                  <a:lnTo>
                    <a:pt x="2449" y="1856"/>
                  </a:lnTo>
                  <a:lnTo>
                    <a:pt x="2449" y="1867"/>
                  </a:lnTo>
                  <a:lnTo>
                    <a:pt x="2445" y="1867"/>
                  </a:lnTo>
                  <a:lnTo>
                    <a:pt x="2445" y="1968"/>
                  </a:lnTo>
                  <a:lnTo>
                    <a:pt x="2440" y="1968"/>
                  </a:lnTo>
                  <a:lnTo>
                    <a:pt x="2440" y="1985"/>
                  </a:lnTo>
                  <a:lnTo>
                    <a:pt x="2445" y="1985"/>
                  </a:lnTo>
                  <a:lnTo>
                    <a:pt x="2445" y="2003"/>
                  </a:lnTo>
                  <a:lnTo>
                    <a:pt x="2440" y="2003"/>
                  </a:lnTo>
                  <a:lnTo>
                    <a:pt x="2440" y="2045"/>
                  </a:lnTo>
                  <a:lnTo>
                    <a:pt x="2445" y="2045"/>
                  </a:lnTo>
                  <a:lnTo>
                    <a:pt x="2445" y="2068"/>
                  </a:lnTo>
                  <a:lnTo>
                    <a:pt x="2440" y="2068"/>
                  </a:lnTo>
                  <a:lnTo>
                    <a:pt x="2440" y="2080"/>
                  </a:lnTo>
                  <a:lnTo>
                    <a:pt x="2445" y="2080"/>
                  </a:lnTo>
                  <a:lnTo>
                    <a:pt x="2445" y="2204"/>
                  </a:lnTo>
                  <a:lnTo>
                    <a:pt x="2449" y="2204"/>
                  </a:lnTo>
                  <a:lnTo>
                    <a:pt x="2449" y="2252"/>
                  </a:lnTo>
                  <a:lnTo>
                    <a:pt x="2445" y="2252"/>
                  </a:lnTo>
                  <a:lnTo>
                    <a:pt x="2445" y="2264"/>
                  </a:lnTo>
                  <a:lnTo>
                    <a:pt x="2440" y="2264"/>
                  </a:lnTo>
                  <a:lnTo>
                    <a:pt x="2440" y="2275"/>
                  </a:lnTo>
                  <a:lnTo>
                    <a:pt x="2445" y="2275"/>
                  </a:lnTo>
                  <a:lnTo>
                    <a:pt x="2445" y="2523"/>
                  </a:lnTo>
                  <a:lnTo>
                    <a:pt x="2449" y="2523"/>
                  </a:lnTo>
                  <a:lnTo>
                    <a:pt x="2449" y="2536"/>
                  </a:lnTo>
                  <a:lnTo>
                    <a:pt x="2445" y="2536"/>
                  </a:lnTo>
                  <a:lnTo>
                    <a:pt x="2445" y="2648"/>
                  </a:lnTo>
                  <a:lnTo>
                    <a:pt x="2449" y="2648"/>
                  </a:lnTo>
                  <a:lnTo>
                    <a:pt x="2449" y="2689"/>
                  </a:lnTo>
                  <a:lnTo>
                    <a:pt x="2454" y="2689"/>
                  </a:lnTo>
                  <a:lnTo>
                    <a:pt x="2454" y="2730"/>
                  </a:lnTo>
                  <a:lnTo>
                    <a:pt x="2449" y="2730"/>
                  </a:lnTo>
                  <a:lnTo>
                    <a:pt x="2449" y="2743"/>
                  </a:lnTo>
                  <a:lnTo>
                    <a:pt x="2431" y="2743"/>
                  </a:lnTo>
                  <a:lnTo>
                    <a:pt x="2431" y="2754"/>
                  </a:lnTo>
                  <a:lnTo>
                    <a:pt x="2411" y="2754"/>
                  </a:lnTo>
                  <a:lnTo>
                    <a:pt x="2411" y="2759"/>
                  </a:lnTo>
                  <a:lnTo>
                    <a:pt x="2405" y="2759"/>
                  </a:lnTo>
                  <a:lnTo>
                    <a:pt x="2405" y="2766"/>
                  </a:lnTo>
                  <a:lnTo>
                    <a:pt x="2382" y="2766"/>
                  </a:lnTo>
                  <a:lnTo>
                    <a:pt x="2382" y="2771"/>
                  </a:lnTo>
                  <a:lnTo>
                    <a:pt x="2348" y="2771"/>
                  </a:lnTo>
                  <a:lnTo>
                    <a:pt x="2348" y="2766"/>
                  </a:lnTo>
                  <a:lnTo>
                    <a:pt x="2267" y="2766"/>
                  </a:lnTo>
                  <a:lnTo>
                    <a:pt x="2267" y="2759"/>
                  </a:lnTo>
                  <a:lnTo>
                    <a:pt x="2233" y="2759"/>
                  </a:lnTo>
                  <a:lnTo>
                    <a:pt x="2233" y="2754"/>
                  </a:lnTo>
                  <a:lnTo>
                    <a:pt x="2176" y="2754"/>
                  </a:lnTo>
                  <a:lnTo>
                    <a:pt x="2176" y="2748"/>
                  </a:lnTo>
                  <a:lnTo>
                    <a:pt x="2117" y="2748"/>
                  </a:lnTo>
                  <a:lnTo>
                    <a:pt x="2117" y="2743"/>
                  </a:lnTo>
                  <a:lnTo>
                    <a:pt x="2055" y="2743"/>
                  </a:lnTo>
                  <a:lnTo>
                    <a:pt x="2055" y="2735"/>
                  </a:lnTo>
                  <a:lnTo>
                    <a:pt x="1983" y="2735"/>
                  </a:lnTo>
                  <a:lnTo>
                    <a:pt x="1983" y="2730"/>
                  </a:lnTo>
                  <a:lnTo>
                    <a:pt x="1959" y="2730"/>
                  </a:lnTo>
                  <a:lnTo>
                    <a:pt x="1959" y="2725"/>
                  </a:lnTo>
                  <a:lnTo>
                    <a:pt x="1906" y="2725"/>
                  </a:lnTo>
                  <a:lnTo>
                    <a:pt x="1906" y="2718"/>
                  </a:lnTo>
                  <a:lnTo>
                    <a:pt x="1863" y="2718"/>
                  </a:lnTo>
                  <a:lnTo>
                    <a:pt x="1863" y="2713"/>
                  </a:lnTo>
                  <a:lnTo>
                    <a:pt x="1839" y="2713"/>
                  </a:lnTo>
                  <a:lnTo>
                    <a:pt x="1839" y="2707"/>
                  </a:lnTo>
                  <a:lnTo>
                    <a:pt x="1820" y="2707"/>
                  </a:lnTo>
                  <a:lnTo>
                    <a:pt x="1820" y="2713"/>
                  </a:lnTo>
                  <a:lnTo>
                    <a:pt x="1757" y="2713"/>
                  </a:lnTo>
                  <a:lnTo>
                    <a:pt x="1757" y="2707"/>
                  </a:lnTo>
                  <a:lnTo>
                    <a:pt x="1695" y="2707"/>
                  </a:lnTo>
                  <a:lnTo>
                    <a:pt x="1695" y="2700"/>
                  </a:lnTo>
                  <a:lnTo>
                    <a:pt x="1671" y="2700"/>
                  </a:lnTo>
                  <a:lnTo>
                    <a:pt x="1671" y="2707"/>
                  </a:lnTo>
                  <a:lnTo>
                    <a:pt x="1643" y="2707"/>
                  </a:lnTo>
                  <a:lnTo>
                    <a:pt x="1643" y="2700"/>
                  </a:lnTo>
                  <a:lnTo>
                    <a:pt x="1503" y="2700"/>
                  </a:lnTo>
                  <a:lnTo>
                    <a:pt x="1503" y="2694"/>
                  </a:lnTo>
                  <a:lnTo>
                    <a:pt x="1451" y="2694"/>
                  </a:lnTo>
                  <a:lnTo>
                    <a:pt x="1451" y="2700"/>
                  </a:lnTo>
                  <a:lnTo>
                    <a:pt x="1407" y="2700"/>
                  </a:lnTo>
                  <a:lnTo>
                    <a:pt x="1407" y="2694"/>
                  </a:lnTo>
                  <a:lnTo>
                    <a:pt x="1369" y="2694"/>
                  </a:lnTo>
                  <a:lnTo>
                    <a:pt x="1369" y="2700"/>
                  </a:lnTo>
                  <a:lnTo>
                    <a:pt x="1355" y="2700"/>
                  </a:lnTo>
                  <a:lnTo>
                    <a:pt x="1355" y="2694"/>
                  </a:lnTo>
                  <a:lnTo>
                    <a:pt x="1339" y="2694"/>
                  </a:lnTo>
                  <a:lnTo>
                    <a:pt x="1339" y="2700"/>
                  </a:lnTo>
                  <a:lnTo>
                    <a:pt x="1267" y="2700"/>
                  </a:lnTo>
                  <a:lnTo>
                    <a:pt x="1267" y="2694"/>
                  </a:lnTo>
                  <a:lnTo>
                    <a:pt x="1244" y="2694"/>
                  </a:lnTo>
                  <a:lnTo>
                    <a:pt x="1244" y="2689"/>
                  </a:lnTo>
                  <a:lnTo>
                    <a:pt x="1171" y="2689"/>
                  </a:lnTo>
                  <a:lnTo>
                    <a:pt x="1171" y="2683"/>
                  </a:lnTo>
                  <a:lnTo>
                    <a:pt x="1090" y="2683"/>
                  </a:lnTo>
                  <a:lnTo>
                    <a:pt x="1090" y="2689"/>
                  </a:lnTo>
                  <a:lnTo>
                    <a:pt x="1004" y="2689"/>
                  </a:lnTo>
                  <a:lnTo>
                    <a:pt x="1004" y="2683"/>
                  </a:lnTo>
                  <a:lnTo>
                    <a:pt x="812" y="2683"/>
                  </a:lnTo>
                  <a:lnTo>
                    <a:pt x="812" y="2677"/>
                  </a:lnTo>
                  <a:lnTo>
                    <a:pt x="676" y="2677"/>
                  </a:lnTo>
                  <a:lnTo>
                    <a:pt x="676" y="2672"/>
                  </a:lnTo>
                  <a:lnTo>
                    <a:pt x="562" y="2672"/>
                  </a:lnTo>
                  <a:lnTo>
                    <a:pt x="562" y="2665"/>
                  </a:lnTo>
                  <a:lnTo>
                    <a:pt x="465" y="2665"/>
                  </a:lnTo>
                  <a:lnTo>
                    <a:pt x="465" y="2672"/>
                  </a:lnTo>
                  <a:lnTo>
                    <a:pt x="436" y="2672"/>
                  </a:lnTo>
                  <a:lnTo>
                    <a:pt x="436" y="2665"/>
                  </a:lnTo>
                  <a:lnTo>
                    <a:pt x="408" y="2665"/>
                  </a:lnTo>
                  <a:lnTo>
                    <a:pt x="408" y="2659"/>
                  </a:lnTo>
                  <a:lnTo>
                    <a:pt x="379" y="2659"/>
                  </a:lnTo>
                  <a:lnTo>
                    <a:pt x="379" y="2665"/>
                  </a:lnTo>
                  <a:lnTo>
                    <a:pt x="346" y="2665"/>
                  </a:lnTo>
                  <a:lnTo>
                    <a:pt x="346" y="2659"/>
                  </a:lnTo>
                  <a:lnTo>
                    <a:pt x="325" y="2659"/>
                  </a:lnTo>
                  <a:lnTo>
                    <a:pt x="325" y="2653"/>
                  </a:lnTo>
                  <a:lnTo>
                    <a:pt x="292" y="2653"/>
                  </a:lnTo>
                  <a:lnTo>
                    <a:pt x="292" y="2648"/>
                  </a:lnTo>
                  <a:lnTo>
                    <a:pt x="235" y="2648"/>
                  </a:lnTo>
                  <a:lnTo>
                    <a:pt x="235" y="2640"/>
                  </a:lnTo>
                  <a:lnTo>
                    <a:pt x="144" y="2640"/>
                  </a:lnTo>
                  <a:lnTo>
                    <a:pt x="144" y="2635"/>
                  </a:lnTo>
                  <a:lnTo>
                    <a:pt x="105" y="2635"/>
                  </a:lnTo>
                  <a:lnTo>
                    <a:pt x="105" y="2630"/>
                  </a:lnTo>
                  <a:lnTo>
                    <a:pt x="91" y="2630"/>
                  </a:lnTo>
                  <a:lnTo>
                    <a:pt x="91" y="2624"/>
                  </a:lnTo>
                  <a:lnTo>
                    <a:pt x="81" y="2624"/>
                  </a:lnTo>
                  <a:lnTo>
                    <a:pt x="81" y="2618"/>
                  </a:lnTo>
                  <a:lnTo>
                    <a:pt x="77" y="2618"/>
                  </a:lnTo>
                  <a:lnTo>
                    <a:pt x="77" y="2612"/>
                  </a:lnTo>
                  <a:lnTo>
                    <a:pt x="72" y="2612"/>
                  </a:lnTo>
                  <a:lnTo>
                    <a:pt x="72" y="2607"/>
                  </a:lnTo>
                  <a:lnTo>
                    <a:pt x="67" y="2607"/>
                  </a:lnTo>
                  <a:lnTo>
                    <a:pt x="67" y="2594"/>
                  </a:lnTo>
                  <a:lnTo>
                    <a:pt x="62" y="2594"/>
                  </a:lnTo>
                  <a:lnTo>
                    <a:pt x="62" y="2512"/>
                  </a:lnTo>
                  <a:lnTo>
                    <a:pt x="58" y="2512"/>
                  </a:lnTo>
                  <a:lnTo>
                    <a:pt x="58" y="2412"/>
                  </a:lnTo>
                  <a:lnTo>
                    <a:pt x="52" y="2412"/>
                  </a:lnTo>
                  <a:lnTo>
                    <a:pt x="52" y="2340"/>
                  </a:lnTo>
                  <a:lnTo>
                    <a:pt x="48" y="2340"/>
                  </a:lnTo>
                  <a:lnTo>
                    <a:pt x="48" y="2286"/>
                  </a:lnTo>
                  <a:lnTo>
                    <a:pt x="44" y="2286"/>
                  </a:lnTo>
                  <a:lnTo>
                    <a:pt x="44" y="2245"/>
                  </a:lnTo>
                  <a:lnTo>
                    <a:pt x="48" y="2245"/>
                  </a:lnTo>
                  <a:lnTo>
                    <a:pt x="48" y="2216"/>
                  </a:lnTo>
                  <a:lnTo>
                    <a:pt x="44" y="2216"/>
                  </a:lnTo>
                  <a:lnTo>
                    <a:pt x="44" y="2080"/>
                  </a:lnTo>
                  <a:lnTo>
                    <a:pt x="37" y="2080"/>
                  </a:lnTo>
                  <a:lnTo>
                    <a:pt x="37" y="2015"/>
                  </a:lnTo>
                  <a:lnTo>
                    <a:pt x="33" y="2015"/>
                  </a:lnTo>
                  <a:lnTo>
                    <a:pt x="33" y="1998"/>
                  </a:lnTo>
                  <a:lnTo>
                    <a:pt x="37" y="1998"/>
                  </a:lnTo>
                  <a:lnTo>
                    <a:pt x="37" y="1968"/>
                  </a:lnTo>
                  <a:lnTo>
                    <a:pt x="33" y="1968"/>
                  </a:lnTo>
                  <a:lnTo>
                    <a:pt x="33" y="1767"/>
                  </a:lnTo>
                  <a:lnTo>
                    <a:pt x="28" y="1767"/>
                  </a:lnTo>
                  <a:lnTo>
                    <a:pt x="28" y="1655"/>
                  </a:lnTo>
                  <a:lnTo>
                    <a:pt x="23" y="1655"/>
                  </a:lnTo>
                  <a:lnTo>
                    <a:pt x="23" y="1542"/>
                  </a:lnTo>
                  <a:lnTo>
                    <a:pt x="18" y="1542"/>
                  </a:lnTo>
                  <a:lnTo>
                    <a:pt x="18" y="1365"/>
                  </a:lnTo>
                  <a:lnTo>
                    <a:pt x="14" y="1365"/>
                  </a:lnTo>
                  <a:lnTo>
                    <a:pt x="14" y="1164"/>
                  </a:lnTo>
                  <a:lnTo>
                    <a:pt x="18" y="1164"/>
                  </a:lnTo>
                  <a:lnTo>
                    <a:pt x="18" y="1147"/>
                  </a:lnTo>
                  <a:lnTo>
                    <a:pt x="14" y="1147"/>
                  </a:lnTo>
                  <a:lnTo>
                    <a:pt x="14" y="968"/>
                  </a:lnTo>
                  <a:lnTo>
                    <a:pt x="9" y="968"/>
                  </a:lnTo>
                  <a:lnTo>
                    <a:pt x="9" y="886"/>
                  </a:lnTo>
                  <a:lnTo>
                    <a:pt x="4" y="886"/>
                  </a:lnTo>
                  <a:lnTo>
                    <a:pt x="4" y="525"/>
                  </a:lnTo>
                  <a:lnTo>
                    <a:pt x="0" y="525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00240" y="3348000"/>
              <a:ext cx="612360" cy="513720"/>
            </a:xfrm>
            <a:custGeom>
              <a:avLst/>
              <a:gdLst/>
              <a:ahLst/>
              <a:rect l="l" t="t" r="r" b="b"/>
              <a:pathLst>
                <a:path w="2353" h="2635">
                  <a:moveTo>
                    <a:pt x="0" y="356"/>
                  </a:moveTo>
                  <a:lnTo>
                    <a:pt x="6" y="356"/>
                  </a:lnTo>
                  <a:lnTo>
                    <a:pt x="6" y="188"/>
                  </a:lnTo>
                  <a:lnTo>
                    <a:pt x="10" y="188"/>
                  </a:lnTo>
                  <a:lnTo>
                    <a:pt x="10" y="147"/>
                  </a:lnTo>
                  <a:lnTo>
                    <a:pt x="15" y="147"/>
                  </a:lnTo>
                  <a:lnTo>
                    <a:pt x="15" y="130"/>
                  </a:lnTo>
                  <a:lnTo>
                    <a:pt x="25" y="130"/>
                  </a:lnTo>
                  <a:lnTo>
                    <a:pt x="25" y="123"/>
                  </a:lnTo>
                  <a:lnTo>
                    <a:pt x="29" y="123"/>
                  </a:lnTo>
                  <a:lnTo>
                    <a:pt x="29" y="118"/>
                  </a:lnTo>
                  <a:lnTo>
                    <a:pt x="39" y="118"/>
                  </a:lnTo>
                  <a:lnTo>
                    <a:pt x="39" y="112"/>
                  </a:lnTo>
                  <a:lnTo>
                    <a:pt x="43" y="112"/>
                  </a:lnTo>
                  <a:lnTo>
                    <a:pt x="43" y="106"/>
                  </a:lnTo>
                  <a:lnTo>
                    <a:pt x="48" y="106"/>
                  </a:lnTo>
                  <a:lnTo>
                    <a:pt x="48" y="82"/>
                  </a:lnTo>
                  <a:lnTo>
                    <a:pt x="53" y="82"/>
                  </a:lnTo>
                  <a:lnTo>
                    <a:pt x="53" y="76"/>
                  </a:lnTo>
                  <a:lnTo>
                    <a:pt x="63" y="76"/>
                  </a:lnTo>
                  <a:lnTo>
                    <a:pt x="63" y="70"/>
                  </a:lnTo>
                  <a:lnTo>
                    <a:pt x="87" y="70"/>
                  </a:lnTo>
                  <a:lnTo>
                    <a:pt x="87" y="65"/>
                  </a:lnTo>
                  <a:lnTo>
                    <a:pt x="92" y="65"/>
                  </a:lnTo>
                  <a:lnTo>
                    <a:pt x="92" y="60"/>
                  </a:lnTo>
                  <a:lnTo>
                    <a:pt x="102" y="60"/>
                  </a:lnTo>
                  <a:lnTo>
                    <a:pt x="102" y="52"/>
                  </a:lnTo>
                  <a:lnTo>
                    <a:pt x="110" y="52"/>
                  </a:lnTo>
                  <a:lnTo>
                    <a:pt x="110" y="47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59" y="41"/>
                  </a:lnTo>
                  <a:lnTo>
                    <a:pt x="159" y="35"/>
                  </a:lnTo>
                  <a:lnTo>
                    <a:pt x="177" y="35"/>
                  </a:lnTo>
                  <a:lnTo>
                    <a:pt x="177" y="29"/>
                  </a:lnTo>
                  <a:lnTo>
                    <a:pt x="250" y="29"/>
                  </a:lnTo>
                  <a:lnTo>
                    <a:pt x="250" y="24"/>
                  </a:lnTo>
                  <a:lnTo>
                    <a:pt x="280" y="24"/>
                  </a:lnTo>
                  <a:lnTo>
                    <a:pt x="280" y="29"/>
                  </a:lnTo>
                  <a:lnTo>
                    <a:pt x="289" y="29"/>
                  </a:lnTo>
                  <a:lnTo>
                    <a:pt x="289" y="24"/>
                  </a:lnTo>
                  <a:lnTo>
                    <a:pt x="317" y="24"/>
                  </a:lnTo>
                  <a:lnTo>
                    <a:pt x="317" y="17"/>
                  </a:lnTo>
                  <a:lnTo>
                    <a:pt x="428" y="17"/>
                  </a:lnTo>
                  <a:lnTo>
                    <a:pt x="428" y="11"/>
                  </a:lnTo>
                  <a:lnTo>
                    <a:pt x="528" y="11"/>
                  </a:lnTo>
                  <a:lnTo>
                    <a:pt x="528" y="6"/>
                  </a:lnTo>
                  <a:lnTo>
                    <a:pt x="568" y="6"/>
                  </a:lnTo>
                  <a:lnTo>
                    <a:pt x="568" y="0"/>
                  </a:lnTo>
                  <a:lnTo>
                    <a:pt x="591" y="0"/>
                  </a:lnTo>
                  <a:lnTo>
                    <a:pt x="591" y="6"/>
                  </a:lnTo>
                  <a:lnTo>
                    <a:pt x="750" y="6"/>
                  </a:lnTo>
                  <a:lnTo>
                    <a:pt x="750" y="11"/>
                  </a:lnTo>
                  <a:lnTo>
                    <a:pt x="768" y="11"/>
                  </a:lnTo>
                  <a:lnTo>
                    <a:pt x="768" y="17"/>
                  </a:lnTo>
                  <a:lnTo>
                    <a:pt x="1009" y="17"/>
                  </a:lnTo>
                  <a:lnTo>
                    <a:pt x="1009" y="11"/>
                  </a:lnTo>
                  <a:lnTo>
                    <a:pt x="1071" y="11"/>
                  </a:lnTo>
                  <a:lnTo>
                    <a:pt x="1071" y="6"/>
                  </a:lnTo>
                  <a:lnTo>
                    <a:pt x="1163" y="6"/>
                  </a:lnTo>
                  <a:lnTo>
                    <a:pt x="1163" y="0"/>
                  </a:lnTo>
                  <a:lnTo>
                    <a:pt x="1192" y="0"/>
                  </a:lnTo>
                  <a:lnTo>
                    <a:pt x="1192" y="6"/>
                  </a:lnTo>
                  <a:lnTo>
                    <a:pt x="1244" y="6"/>
                  </a:lnTo>
                  <a:lnTo>
                    <a:pt x="1244" y="11"/>
                  </a:lnTo>
                  <a:lnTo>
                    <a:pt x="1303" y="11"/>
                  </a:lnTo>
                  <a:lnTo>
                    <a:pt x="1303" y="6"/>
                  </a:lnTo>
                  <a:lnTo>
                    <a:pt x="1365" y="6"/>
                  </a:lnTo>
                  <a:lnTo>
                    <a:pt x="1365" y="11"/>
                  </a:lnTo>
                  <a:lnTo>
                    <a:pt x="1403" y="11"/>
                  </a:lnTo>
                  <a:lnTo>
                    <a:pt x="1403" y="17"/>
                  </a:lnTo>
                  <a:lnTo>
                    <a:pt x="1551" y="17"/>
                  </a:lnTo>
                  <a:lnTo>
                    <a:pt x="1551" y="24"/>
                  </a:lnTo>
                  <a:lnTo>
                    <a:pt x="1576" y="24"/>
                  </a:lnTo>
                  <a:lnTo>
                    <a:pt x="1576" y="17"/>
                  </a:lnTo>
                  <a:lnTo>
                    <a:pt x="1591" y="17"/>
                  </a:lnTo>
                  <a:lnTo>
                    <a:pt x="1591" y="24"/>
                  </a:lnTo>
                  <a:lnTo>
                    <a:pt x="1658" y="24"/>
                  </a:lnTo>
                  <a:lnTo>
                    <a:pt x="1658" y="29"/>
                  </a:lnTo>
                  <a:lnTo>
                    <a:pt x="1691" y="29"/>
                  </a:lnTo>
                  <a:lnTo>
                    <a:pt x="1691" y="35"/>
                  </a:lnTo>
                  <a:lnTo>
                    <a:pt x="1705" y="35"/>
                  </a:lnTo>
                  <a:lnTo>
                    <a:pt x="1705" y="29"/>
                  </a:lnTo>
                  <a:lnTo>
                    <a:pt x="1754" y="29"/>
                  </a:lnTo>
                  <a:lnTo>
                    <a:pt x="1754" y="35"/>
                  </a:lnTo>
                  <a:lnTo>
                    <a:pt x="1802" y="35"/>
                  </a:lnTo>
                  <a:lnTo>
                    <a:pt x="1802" y="41"/>
                  </a:lnTo>
                  <a:lnTo>
                    <a:pt x="1935" y="41"/>
                  </a:lnTo>
                  <a:lnTo>
                    <a:pt x="1935" y="35"/>
                  </a:lnTo>
                  <a:lnTo>
                    <a:pt x="2018" y="35"/>
                  </a:lnTo>
                  <a:lnTo>
                    <a:pt x="2018" y="41"/>
                  </a:lnTo>
                  <a:lnTo>
                    <a:pt x="2099" y="41"/>
                  </a:lnTo>
                  <a:lnTo>
                    <a:pt x="2099" y="47"/>
                  </a:lnTo>
                  <a:lnTo>
                    <a:pt x="2152" y="47"/>
                  </a:lnTo>
                  <a:lnTo>
                    <a:pt x="2152" y="52"/>
                  </a:lnTo>
                  <a:lnTo>
                    <a:pt x="2172" y="52"/>
                  </a:lnTo>
                  <a:lnTo>
                    <a:pt x="2172" y="60"/>
                  </a:lnTo>
                  <a:lnTo>
                    <a:pt x="2249" y="60"/>
                  </a:lnTo>
                  <a:lnTo>
                    <a:pt x="2249" y="52"/>
                  </a:lnTo>
                  <a:lnTo>
                    <a:pt x="2267" y="52"/>
                  </a:lnTo>
                  <a:lnTo>
                    <a:pt x="2267" y="60"/>
                  </a:lnTo>
                  <a:lnTo>
                    <a:pt x="2291" y="60"/>
                  </a:lnTo>
                  <a:lnTo>
                    <a:pt x="2291" y="65"/>
                  </a:lnTo>
                  <a:lnTo>
                    <a:pt x="2300" y="65"/>
                  </a:lnTo>
                  <a:lnTo>
                    <a:pt x="2300" y="70"/>
                  </a:lnTo>
                  <a:lnTo>
                    <a:pt x="2311" y="70"/>
                  </a:lnTo>
                  <a:lnTo>
                    <a:pt x="2311" y="76"/>
                  </a:lnTo>
                  <a:lnTo>
                    <a:pt x="2320" y="76"/>
                  </a:lnTo>
                  <a:lnTo>
                    <a:pt x="2320" y="82"/>
                  </a:lnTo>
                  <a:lnTo>
                    <a:pt x="2330" y="82"/>
                  </a:lnTo>
                  <a:lnTo>
                    <a:pt x="2330" y="88"/>
                  </a:lnTo>
                  <a:lnTo>
                    <a:pt x="2335" y="88"/>
                  </a:lnTo>
                  <a:lnTo>
                    <a:pt x="2335" y="101"/>
                  </a:lnTo>
                  <a:lnTo>
                    <a:pt x="2339" y="101"/>
                  </a:lnTo>
                  <a:lnTo>
                    <a:pt x="2339" y="112"/>
                  </a:lnTo>
                  <a:lnTo>
                    <a:pt x="2344" y="112"/>
                  </a:lnTo>
                  <a:lnTo>
                    <a:pt x="2344" y="130"/>
                  </a:lnTo>
                  <a:lnTo>
                    <a:pt x="2349" y="130"/>
                  </a:lnTo>
                  <a:lnTo>
                    <a:pt x="2349" y="171"/>
                  </a:lnTo>
                  <a:lnTo>
                    <a:pt x="2353" y="171"/>
                  </a:lnTo>
                  <a:lnTo>
                    <a:pt x="2353" y="253"/>
                  </a:lnTo>
                  <a:lnTo>
                    <a:pt x="2349" y="253"/>
                  </a:lnTo>
                  <a:lnTo>
                    <a:pt x="2349" y="266"/>
                  </a:lnTo>
                  <a:lnTo>
                    <a:pt x="2353" y="266"/>
                  </a:lnTo>
                  <a:lnTo>
                    <a:pt x="2353" y="324"/>
                  </a:lnTo>
                  <a:lnTo>
                    <a:pt x="2349" y="324"/>
                  </a:lnTo>
                  <a:lnTo>
                    <a:pt x="2349" y="437"/>
                  </a:lnTo>
                  <a:lnTo>
                    <a:pt x="2344" y="437"/>
                  </a:lnTo>
                  <a:lnTo>
                    <a:pt x="2344" y="497"/>
                  </a:lnTo>
                  <a:lnTo>
                    <a:pt x="2339" y="497"/>
                  </a:lnTo>
                  <a:lnTo>
                    <a:pt x="2339" y="508"/>
                  </a:lnTo>
                  <a:lnTo>
                    <a:pt x="2344" y="508"/>
                  </a:lnTo>
                  <a:lnTo>
                    <a:pt x="2344" y="531"/>
                  </a:lnTo>
                  <a:lnTo>
                    <a:pt x="2339" y="531"/>
                  </a:lnTo>
                  <a:lnTo>
                    <a:pt x="2339" y="739"/>
                  </a:lnTo>
                  <a:lnTo>
                    <a:pt x="2344" y="739"/>
                  </a:lnTo>
                  <a:lnTo>
                    <a:pt x="2344" y="780"/>
                  </a:lnTo>
                  <a:lnTo>
                    <a:pt x="2339" y="780"/>
                  </a:lnTo>
                  <a:lnTo>
                    <a:pt x="2339" y="1110"/>
                  </a:lnTo>
                  <a:lnTo>
                    <a:pt x="2344" y="1110"/>
                  </a:lnTo>
                  <a:lnTo>
                    <a:pt x="2344" y="1129"/>
                  </a:lnTo>
                  <a:lnTo>
                    <a:pt x="2339" y="1129"/>
                  </a:lnTo>
                  <a:lnTo>
                    <a:pt x="2339" y="1158"/>
                  </a:lnTo>
                  <a:lnTo>
                    <a:pt x="2344" y="1158"/>
                  </a:lnTo>
                  <a:lnTo>
                    <a:pt x="2344" y="1223"/>
                  </a:lnTo>
                  <a:lnTo>
                    <a:pt x="2349" y="1223"/>
                  </a:lnTo>
                  <a:lnTo>
                    <a:pt x="2349" y="1335"/>
                  </a:lnTo>
                  <a:lnTo>
                    <a:pt x="2353" y="1335"/>
                  </a:lnTo>
                  <a:lnTo>
                    <a:pt x="2353" y="1436"/>
                  </a:lnTo>
                  <a:lnTo>
                    <a:pt x="2349" y="1436"/>
                  </a:lnTo>
                  <a:lnTo>
                    <a:pt x="2349" y="1561"/>
                  </a:lnTo>
                  <a:lnTo>
                    <a:pt x="2344" y="1561"/>
                  </a:lnTo>
                  <a:lnTo>
                    <a:pt x="2344" y="1732"/>
                  </a:lnTo>
                  <a:lnTo>
                    <a:pt x="2339" y="1732"/>
                  </a:lnTo>
                  <a:lnTo>
                    <a:pt x="2339" y="1779"/>
                  </a:lnTo>
                  <a:lnTo>
                    <a:pt x="2335" y="1779"/>
                  </a:lnTo>
                  <a:lnTo>
                    <a:pt x="2335" y="1974"/>
                  </a:lnTo>
                  <a:lnTo>
                    <a:pt x="2330" y="1974"/>
                  </a:lnTo>
                  <a:lnTo>
                    <a:pt x="2330" y="2028"/>
                  </a:lnTo>
                  <a:lnTo>
                    <a:pt x="2335" y="2028"/>
                  </a:lnTo>
                  <a:lnTo>
                    <a:pt x="2335" y="2281"/>
                  </a:lnTo>
                  <a:lnTo>
                    <a:pt x="2330" y="2281"/>
                  </a:lnTo>
                  <a:lnTo>
                    <a:pt x="2330" y="2298"/>
                  </a:lnTo>
                  <a:lnTo>
                    <a:pt x="2335" y="2298"/>
                  </a:lnTo>
                  <a:lnTo>
                    <a:pt x="2335" y="2365"/>
                  </a:lnTo>
                  <a:lnTo>
                    <a:pt x="2330" y="2365"/>
                  </a:lnTo>
                  <a:lnTo>
                    <a:pt x="2330" y="2406"/>
                  </a:lnTo>
                  <a:lnTo>
                    <a:pt x="2335" y="2406"/>
                  </a:lnTo>
                  <a:lnTo>
                    <a:pt x="2335" y="2453"/>
                  </a:lnTo>
                  <a:lnTo>
                    <a:pt x="2330" y="2453"/>
                  </a:lnTo>
                  <a:lnTo>
                    <a:pt x="2330" y="2464"/>
                  </a:lnTo>
                  <a:lnTo>
                    <a:pt x="2335" y="2464"/>
                  </a:lnTo>
                  <a:lnTo>
                    <a:pt x="2335" y="2488"/>
                  </a:lnTo>
                  <a:lnTo>
                    <a:pt x="2330" y="2488"/>
                  </a:lnTo>
                  <a:lnTo>
                    <a:pt x="2330" y="2506"/>
                  </a:lnTo>
                  <a:lnTo>
                    <a:pt x="2335" y="2506"/>
                  </a:lnTo>
                  <a:lnTo>
                    <a:pt x="2335" y="2523"/>
                  </a:lnTo>
                  <a:lnTo>
                    <a:pt x="2330" y="2523"/>
                  </a:lnTo>
                  <a:lnTo>
                    <a:pt x="2330" y="2542"/>
                  </a:lnTo>
                  <a:lnTo>
                    <a:pt x="2335" y="2542"/>
                  </a:lnTo>
                  <a:lnTo>
                    <a:pt x="2335" y="2559"/>
                  </a:lnTo>
                  <a:lnTo>
                    <a:pt x="2330" y="2559"/>
                  </a:lnTo>
                  <a:lnTo>
                    <a:pt x="2330" y="2570"/>
                  </a:lnTo>
                  <a:lnTo>
                    <a:pt x="2335" y="2570"/>
                  </a:lnTo>
                  <a:lnTo>
                    <a:pt x="2335" y="2588"/>
                  </a:lnTo>
                  <a:lnTo>
                    <a:pt x="2330" y="2588"/>
                  </a:lnTo>
                  <a:lnTo>
                    <a:pt x="2330" y="2629"/>
                  </a:lnTo>
                  <a:lnTo>
                    <a:pt x="2311" y="2629"/>
                  </a:lnTo>
                  <a:lnTo>
                    <a:pt x="2311" y="2635"/>
                  </a:lnTo>
                  <a:lnTo>
                    <a:pt x="2300" y="2635"/>
                  </a:lnTo>
                  <a:lnTo>
                    <a:pt x="2300" y="2629"/>
                  </a:lnTo>
                  <a:lnTo>
                    <a:pt x="2258" y="2629"/>
                  </a:lnTo>
                  <a:lnTo>
                    <a:pt x="2258" y="2624"/>
                  </a:lnTo>
                  <a:lnTo>
                    <a:pt x="2209" y="2624"/>
                  </a:lnTo>
                  <a:lnTo>
                    <a:pt x="2209" y="2618"/>
                  </a:lnTo>
                  <a:lnTo>
                    <a:pt x="2200" y="2618"/>
                  </a:lnTo>
                  <a:lnTo>
                    <a:pt x="2200" y="2624"/>
                  </a:lnTo>
                  <a:lnTo>
                    <a:pt x="2172" y="2624"/>
                  </a:lnTo>
                  <a:lnTo>
                    <a:pt x="2172" y="2618"/>
                  </a:lnTo>
                  <a:lnTo>
                    <a:pt x="2124" y="2618"/>
                  </a:lnTo>
                  <a:lnTo>
                    <a:pt x="2124" y="2612"/>
                  </a:lnTo>
                  <a:lnTo>
                    <a:pt x="2099" y="2612"/>
                  </a:lnTo>
                  <a:lnTo>
                    <a:pt x="2099" y="2607"/>
                  </a:lnTo>
                  <a:lnTo>
                    <a:pt x="2056" y="2607"/>
                  </a:lnTo>
                  <a:lnTo>
                    <a:pt x="2056" y="2600"/>
                  </a:lnTo>
                  <a:lnTo>
                    <a:pt x="1989" y="2600"/>
                  </a:lnTo>
                  <a:lnTo>
                    <a:pt x="1989" y="2594"/>
                  </a:lnTo>
                  <a:lnTo>
                    <a:pt x="1955" y="2594"/>
                  </a:lnTo>
                  <a:lnTo>
                    <a:pt x="1955" y="2588"/>
                  </a:lnTo>
                  <a:lnTo>
                    <a:pt x="1926" y="2588"/>
                  </a:lnTo>
                  <a:lnTo>
                    <a:pt x="1926" y="2583"/>
                  </a:lnTo>
                  <a:lnTo>
                    <a:pt x="1849" y="2583"/>
                  </a:lnTo>
                  <a:lnTo>
                    <a:pt x="1849" y="2575"/>
                  </a:lnTo>
                  <a:lnTo>
                    <a:pt x="1817" y="2575"/>
                  </a:lnTo>
                  <a:lnTo>
                    <a:pt x="1817" y="2583"/>
                  </a:lnTo>
                  <a:lnTo>
                    <a:pt x="1773" y="2583"/>
                  </a:lnTo>
                  <a:lnTo>
                    <a:pt x="1773" y="2575"/>
                  </a:lnTo>
                  <a:lnTo>
                    <a:pt x="1580" y="2575"/>
                  </a:lnTo>
                  <a:lnTo>
                    <a:pt x="1580" y="2570"/>
                  </a:lnTo>
                  <a:lnTo>
                    <a:pt x="1307" y="2570"/>
                  </a:lnTo>
                  <a:lnTo>
                    <a:pt x="1307" y="2565"/>
                  </a:lnTo>
                  <a:lnTo>
                    <a:pt x="1282" y="2565"/>
                  </a:lnTo>
                  <a:lnTo>
                    <a:pt x="1282" y="2570"/>
                  </a:lnTo>
                  <a:lnTo>
                    <a:pt x="1268" y="2570"/>
                  </a:lnTo>
                  <a:lnTo>
                    <a:pt x="1268" y="2565"/>
                  </a:lnTo>
                  <a:lnTo>
                    <a:pt x="1143" y="2565"/>
                  </a:lnTo>
                  <a:lnTo>
                    <a:pt x="1143" y="2559"/>
                  </a:lnTo>
                  <a:lnTo>
                    <a:pt x="1062" y="2559"/>
                  </a:lnTo>
                  <a:lnTo>
                    <a:pt x="1062" y="2553"/>
                  </a:lnTo>
                  <a:lnTo>
                    <a:pt x="942" y="2553"/>
                  </a:lnTo>
                  <a:lnTo>
                    <a:pt x="942" y="2559"/>
                  </a:lnTo>
                  <a:lnTo>
                    <a:pt x="922" y="2559"/>
                  </a:lnTo>
                  <a:lnTo>
                    <a:pt x="922" y="2553"/>
                  </a:lnTo>
                  <a:lnTo>
                    <a:pt x="789" y="2553"/>
                  </a:lnTo>
                  <a:lnTo>
                    <a:pt x="789" y="2547"/>
                  </a:lnTo>
                  <a:lnTo>
                    <a:pt x="778" y="2547"/>
                  </a:lnTo>
                  <a:lnTo>
                    <a:pt x="778" y="2553"/>
                  </a:lnTo>
                  <a:lnTo>
                    <a:pt x="682" y="2553"/>
                  </a:lnTo>
                  <a:lnTo>
                    <a:pt x="682" y="2547"/>
                  </a:lnTo>
                  <a:lnTo>
                    <a:pt x="645" y="2547"/>
                  </a:lnTo>
                  <a:lnTo>
                    <a:pt x="645" y="2542"/>
                  </a:lnTo>
                  <a:lnTo>
                    <a:pt x="538" y="2542"/>
                  </a:lnTo>
                  <a:lnTo>
                    <a:pt x="538" y="2534"/>
                  </a:lnTo>
                  <a:lnTo>
                    <a:pt x="475" y="2534"/>
                  </a:lnTo>
                  <a:lnTo>
                    <a:pt x="475" y="2542"/>
                  </a:lnTo>
                  <a:lnTo>
                    <a:pt x="466" y="2542"/>
                  </a:lnTo>
                  <a:lnTo>
                    <a:pt x="466" y="2534"/>
                  </a:lnTo>
                  <a:lnTo>
                    <a:pt x="404" y="2534"/>
                  </a:lnTo>
                  <a:lnTo>
                    <a:pt x="404" y="2529"/>
                  </a:lnTo>
                  <a:lnTo>
                    <a:pt x="366" y="2529"/>
                  </a:lnTo>
                  <a:lnTo>
                    <a:pt x="366" y="2534"/>
                  </a:lnTo>
                  <a:lnTo>
                    <a:pt x="346" y="2534"/>
                  </a:lnTo>
                  <a:lnTo>
                    <a:pt x="346" y="2529"/>
                  </a:lnTo>
                  <a:lnTo>
                    <a:pt x="284" y="2529"/>
                  </a:lnTo>
                  <a:lnTo>
                    <a:pt x="284" y="2523"/>
                  </a:lnTo>
                  <a:lnTo>
                    <a:pt x="202" y="2523"/>
                  </a:lnTo>
                  <a:lnTo>
                    <a:pt x="202" y="2517"/>
                  </a:lnTo>
                  <a:lnTo>
                    <a:pt x="115" y="2517"/>
                  </a:lnTo>
                  <a:lnTo>
                    <a:pt x="115" y="2512"/>
                  </a:lnTo>
                  <a:lnTo>
                    <a:pt x="87" y="2512"/>
                  </a:lnTo>
                  <a:lnTo>
                    <a:pt x="87" y="2506"/>
                  </a:lnTo>
                  <a:lnTo>
                    <a:pt x="82" y="2506"/>
                  </a:lnTo>
                  <a:lnTo>
                    <a:pt x="82" y="2493"/>
                  </a:lnTo>
                  <a:lnTo>
                    <a:pt x="78" y="2493"/>
                  </a:lnTo>
                  <a:lnTo>
                    <a:pt x="78" y="2471"/>
                  </a:lnTo>
                  <a:lnTo>
                    <a:pt x="73" y="2471"/>
                  </a:lnTo>
                  <a:lnTo>
                    <a:pt x="73" y="2441"/>
                  </a:lnTo>
                  <a:lnTo>
                    <a:pt x="68" y="2441"/>
                  </a:lnTo>
                  <a:lnTo>
                    <a:pt x="68" y="2370"/>
                  </a:lnTo>
                  <a:lnTo>
                    <a:pt x="63" y="2370"/>
                  </a:lnTo>
                  <a:lnTo>
                    <a:pt x="63" y="2298"/>
                  </a:lnTo>
                  <a:lnTo>
                    <a:pt x="58" y="2298"/>
                  </a:lnTo>
                  <a:lnTo>
                    <a:pt x="58" y="2275"/>
                  </a:lnTo>
                  <a:lnTo>
                    <a:pt x="63" y="2275"/>
                  </a:lnTo>
                  <a:lnTo>
                    <a:pt x="63" y="2263"/>
                  </a:lnTo>
                  <a:lnTo>
                    <a:pt x="58" y="2263"/>
                  </a:lnTo>
                  <a:lnTo>
                    <a:pt x="58" y="2221"/>
                  </a:lnTo>
                  <a:lnTo>
                    <a:pt x="63" y="2221"/>
                  </a:lnTo>
                  <a:lnTo>
                    <a:pt x="63" y="2216"/>
                  </a:lnTo>
                  <a:lnTo>
                    <a:pt x="68" y="2216"/>
                  </a:lnTo>
                  <a:lnTo>
                    <a:pt x="68" y="2205"/>
                  </a:lnTo>
                  <a:lnTo>
                    <a:pt x="63" y="2205"/>
                  </a:lnTo>
                  <a:lnTo>
                    <a:pt x="63" y="2187"/>
                  </a:lnTo>
                  <a:lnTo>
                    <a:pt x="58" y="2187"/>
                  </a:lnTo>
                  <a:lnTo>
                    <a:pt x="58" y="2151"/>
                  </a:lnTo>
                  <a:lnTo>
                    <a:pt x="53" y="2151"/>
                  </a:lnTo>
                  <a:lnTo>
                    <a:pt x="53" y="2134"/>
                  </a:lnTo>
                  <a:lnTo>
                    <a:pt x="48" y="2134"/>
                  </a:lnTo>
                  <a:lnTo>
                    <a:pt x="48" y="2115"/>
                  </a:lnTo>
                  <a:lnTo>
                    <a:pt x="53" y="2115"/>
                  </a:lnTo>
                  <a:lnTo>
                    <a:pt x="53" y="2093"/>
                  </a:lnTo>
                  <a:lnTo>
                    <a:pt x="48" y="2093"/>
                  </a:lnTo>
                  <a:lnTo>
                    <a:pt x="48" y="2069"/>
                  </a:lnTo>
                  <a:lnTo>
                    <a:pt x="43" y="2069"/>
                  </a:lnTo>
                  <a:lnTo>
                    <a:pt x="43" y="1962"/>
                  </a:lnTo>
                  <a:lnTo>
                    <a:pt x="39" y="1962"/>
                  </a:lnTo>
                  <a:lnTo>
                    <a:pt x="39" y="1849"/>
                  </a:lnTo>
                  <a:lnTo>
                    <a:pt x="34" y="1849"/>
                  </a:lnTo>
                  <a:lnTo>
                    <a:pt x="34" y="1838"/>
                  </a:lnTo>
                  <a:lnTo>
                    <a:pt x="39" y="1838"/>
                  </a:lnTo>
                  <a:lnTo>
                    <a:pt x="39" y="1797"/>
                  </a:lnTo>
                  <a:lnTo>
                    <a:pt x="34" y="1797"/>
                  </a:lnTo>
                  <a:lnTo>
                    <a:pt x="34" y="1784"/>
                  </a:lnTo>
                  <a:lnTo>
                    <a:pt x="39" y="1784"/>
                  </a:lnTo>
                  <a:lnTo>
                    <a:pt x="39" y="1743"/>
                  </a:lnTo>
                  <a:lnTo>
                    <a:pt x="34" y="1743"/>
                  </a:lnTo>
                  <a:lnTo>
                    <a:pt x="34" y="1714"/>
                  </a:lnTo>
                  <a:lnTo>
                    <a:pt x="29" y="1714"/>
                  </a:lnTo>
                  <a:lnTo>
                    <a:pt x="29" y="1678"/>
                  </a:lnTo>
                  <a:lnTo>
                    <a:pt x="34" y="1678"/>
                  </a:lnTo>
                  <a:lnTo>
                    <a:pt x="34" y="1666"/>
                  </a:lnTo>
                  <a:lnTo>
                    <a:pt x="29" y="1666"/>
                  </a:lnTo>
                  <a:lnTo>
                    <a:pt x="29" y="1655"/>
                  </a:lnTo>
                  <a:lnTo>
                    <a:pt x="34" y="1655"/>
                  </a:lnTo>
                  <a:lnTo>
                    <a:pt x="34" y="1625"/>
                  </a:lnTo>
                  <a:lnTo>
                    <a:pt x="29" y="1625"/>
                  </a:lnTo>
                  <a:lnTo>
                    <a:pt x="29" y="1542"/>
                  </a:lnTo>
                  <a:lnTo>
                    <a:pt x="25" y="1542"/>
                  </a:lnTo>
                  <a:lnTo>
                    <a:pt x="25" y="1484"/>
                  </a:lnTo>
                  <a:lnTo>
                    <a:pt x="20" y="1484"/>
                  </a:lnTo>
                  <a:lnTo>
                    <a:pt x="20" y="1424"/>
                  </a:lnTo>
                  <a:lnTo>
                    <a:pt x="15" y="1424"/>
                  </a:lnTo>
                  <a:lnTo>
                    <a:pt x="15" y="1306"/>
                  </a:lnTo>
                  <a:lnTo>
                    <a:pt x="20" y="1306"/>
                  </a:lnTo>
                  <a:lnTo>
                    <a:pt x="20" y="1294"/>
                  </a:lnTo>
                  <a:lnTo>
                    <a:pt x="15" y="1294"/>
                  </a:lnTo>
                  <a:lnTo>
                    <a:pt x="15" y="1175"/>
                  </a:lnTo>
                  <a:lnTo>
                    <a:pt x="10" y="1175"/>
                  </a:lnTo>
                  <a:lnTo>
                    <a:pt x="10" y="1158"/>
                  </a:lnTo>
                  <a:lnTo>
                    <a:pt x="15" y="1158"/>
                  </a:lnTo>
                  <a:lnTo>
                    <a:pt x="15" y="963"/>
                  </a:lnTo>
                  <a:lnTo>
                    <a:pt x="10" y="963"/>
                  </a:lnTo>
                  <a:lnTo>
                    <a:pt x="10" y="862"/>
                  </a:lnTo>
                  <a:lnTo>
                    <a:pt x="6" y="862"/>
                  </a:lnTo>
                  <a:lnTo>
                    <a:pt x="6" y="802"/>
                  </a:lnTo>
                  <a:lnTo>
                    <a:pt x="10" y="802"/>
                  </a:lnTo>
                  <a:lnTo>
                    <a:pt x="10" y="792"/>
                  </a:lnTo>
                  <a:lnTo>
                    <a:pt x="6" y="792"/>
                  </a:lnTo>
                  <a:lnTo>
                    <a:pt x="6" y="691"/>
                  </a:lnTo>
                  <a:lnTo>
                    <a:pt x="0" y="691"/>
                  </a:lnTo>
                  <a:lnTo>
                    <a:pt x="0" y="680"/>
                  </a:lnTo>
                  <a:lnTo>
                    <a:pt x="6" y="680"/>
                  </a:lnTo>
                  <a:lnTo>
                    <a:pt x="6" y="667"/>
                  </a:lnTo>
                  <a:lnTo>
                    <a:pt x="0" y="667"/>
                  </a:lnTo>
                  <a:lnTo>
                    <a:pt x="0" y="656"/>
                  </a:lnTo>
                  <a:lnTo>
                    <a:pt x="6" y="656"/>
                  </a:lnTo>
                  <a:lnTo>
                    <a:pt x="6" y="615"/>
                  </a:lnTo>
                  <a:lnTo>
                    <a:pt x="0" y="615"/>
                  </a:lnTo>
                  <a:lnTo>
                    <a:pt x="0" y="561"/>
                  </a:lnTo>
                  <a:lnTo>
                    <a:pt x="6" y="561"/>
                  </a:lnTo>
                  <a:lnTo>
                    <a:pt x="6" y="549"/>
                  </a:lnTo>
                  <a:lnTo>
                    <a:pt x="0" y="549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6080" y="3137400"/>
              <a:ext cx="216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07160" y="2642040"/>
              <a:ext cx="596880" cy="276480"/>
            </a:xfrm>
            <a:custGeom>
              <a:avLst/>
              <a:gdLst/>
              <a:ahLst/>
              <a:rect l="l" t="t" r="r" b="b"/>
              <a:pathLst>
                <a:path w="2295" h="1419">
                  <a:moveTo>
                    <a:pt x="0" y="1193"/>
                  </a:moveTo>
                  <a:lnTo>
                    <a:pt x="4" y="1193"/>
                  </a:lnTo>
                  <a:lnTo>
                    <a:pt x="4" y="1187"/>
                  </a:lnTo>
                  <a:lnTo>
                    <a:pt x="9" y="1187"/>
                  </a:lnTo>
                  <a:lnTo>
                    <a:pt x="9" y="1157"/>
                  </a:lnTo>
                  <a:lnTo>
                    <a:pt x="15" y="1157"/>
                  </a:lnTo>
                  <a:lnTo>
                    <a:pt x="15" y="1141"/>
                  </a:lnTo>
                  <a:lnTo>
                    <a:pt x="19" y="1141"/>
                  </a:lnTo>
                  <a:lnTo>
                    <a:pt x="19" y="1123"/>
                  </a:lnTo>
                  <a:lnTo>
                    <a:pt x="24" y="1123"/>
                  </a:lnTo>
                  <a:lnTo>
                    <a:pt x="24" y="1092"/>
                  </a:lnTo>
                  <a:lnTo>
                    <a:pt x="29" y="1092"/>
                  </a:lnTo>
                  <a:lnTo>
                    <a:pt x="29" y="1075"/>
                  </a:lnTo>
                  <a:lnTo>
                    <a:pt x="34" y="1075"/>
                  </a:lnTo>
                  <a:lnTo>
                    <a:pt x="34" y="1051"/>
                  </a:lnTo>
                  <a:lnTo>
                    <a:pt x="38" y="1051"/>
                  </a:lnTo>
                  <a:lnTo>
                    <a:pt x="38" y="1022"/>
                  </a:lnTo>
                  <a:lnTo>
                    <a:pt x="43" y="1022"/>
                  </a:lnTo>
                  <a:lnTo>
                    <a:pt x="43" y="987"/>
                  </a:lnTo>
                  <a:lnTo>
                    <a:pt x="48" y="987"/>
                  </a:lnTo>
                  <a:lnTo>
                    <a:pt x="48" y="964"/>
                  </a:lnTo>
                  <a:lnTo>
                    <a:pt x="52" y="964"/>
                  </a:lnTo>
                  <a:lnTo>
                    <a:pt x="52" y="946"/>
                  </a:lnTo>
                  <a:lnTo>
                    <a:pt x="57" y="946"/>
                  </a:lnTo>
                  <a:lnTo>
                    <a:pt x="57" y="898"/>
                  </a:lnTo>
                  <a:lnTo>
                    <a:pt x="62" y="898"/>
                  </a:lnTo>
                  <a:lnTo>
                    <a:pt x="62" y="880"/>
                  </a:lnTo>
                  <a:lnTo>
                    <a:pt x="66" y="880"/>
                  </a:lnTo>
                  <a:lnTo>
                    <a:pt x="66" y="839"/>
                  </a:lnTo>
                  <a:lnTo>
                    <a:pt x="71" y="839"/>
                  </a:lnTo>
                  <a:lnTo>
                    <a:pt x="71" y="803"/>
                  </a:lnTo>
                  <a:lnTo>
                    <a:pt x="76" y="803"/>
                  </a:lnTo>
                  <a:lnTo>
                    <a:pt x="76" y="757"/>
                  </a:lnTo>
                  <a:lnTo>
                    <a:pt x="81" y="757"/>
                  </a:lnTo>
                  <a:lnTo>
                    <a:pt x="81" y="727"/>
                  </a:lnTo>
                  <a:lnTo>
                    <a:pt x="85" y="727"/>
                  </a:lnTo>
                  <a:lnTo>
                    <a:pt x="85" y="692"/>
                  </a:lnTo>
                  <a:lnTo>
                    <a:pt x="91" y="692"/>
                  </a:lnTo>
                  <a:lnTo>
                    <a:pt x="91" y="673"/>
                  </a:lnTo>
                  <a:lnTo>
                    <a:pt x="96" y="673"/>
                  </a:lnTo>
                  <a:lnTo>
                    <a:pt x="96" y="643"/>
                  </a:lnTo>
                  <a:lnTo>
                    <a:pt x="101" y="643"/>
                  </a:lnTo>
                  <a:lnTo>
                    <a:pt x="101" y="619"/>
                  </a:lnTo>
                  <a:lnTo>
                    <a:pt x="105" y="619"/>
                  </a:lnTo>
                  <a:lnTo>
                    <a:pt x="105" y="592"/>
                  </a:lnTo>
                  <a:lnTo>
                    <a:pt x="110" y="592"/>
                  </a:lnTo>
                  <a:lnTo>
                    <a:pt x="110" y="567"/>
                  </a:lnTo>
                  <a:lnTo>
                    <a:pt x="115" y="567"/>
                  </a:lnTo>
                  <a:lnTo>
                    <a:pt x="115" y="532"/>
                  </a:lnTo>
                  <a:lnTo>
                    <a:pt x="119" y="532"/>
                  </a:lnTo>
                  <a:lnTo>
                    <a:pt x="119" y="515"/>
                  </a:lnTo>
                  <a:lnTo>
                    <a:pt x="125" y="515"/>
                  </a:lnTo>
                  <a:lnTo>
                    <a:pt x="125" y="485"/>
                  </a:lnTo>
                  <a:lnTo>
                    <a:pt x="129" y="485"/>
                  </a:lnTo>
                  <a:lnTo>
                    <a:pt x="129" y="437"/>
                  </a:lnTo>
                  <a:lnTo>
                    <a:pt x="134" y="437"/>
                  </a:lnTo>
                  <a:lnTo>
                    <a:pt x="134" y="413"/>
                  </a:lnTo>
                  <a:lnTo>
                    <a:pt x="139" y="413"/>
                  </a:lnTo>
                  <a:lnTo>
                    <a:pt x="139" y="378"/>
                  </a:lnTo>
                  <a:lnTo>
                    <a:pt x="144" y="378"/>
                  </a:lnTo>
                  <a:lnTo>
                    <a:pt x="144" y="360"/>
                  </a:lnTo>
                  <a:lnTo>
                    <a:pt x="148" y="360"/>
                  </a:lnTo>
                  <a:lnTo>
                    <a:pt x="148" y="319"/>
                  </a:lnTo>
                  <a:lnTo>
                    <a:pt x="152" y="319"/>
                  </a:lnTo>
                  <a:lnTo>
                    <a:pt x="152" y="284"/>
                  </a:lnTo>
                  <a:lnTo>
                    <a:pt x="159" y="284"/>
                  </a:lnTo>
                  <a:lnTo>
                    <a:pt x="159" y="247"/>
                  </a:lnTo>
                  <a:lnTo>
                    <a:pt x="163" y="247"/>
                  </a:lnTo>
                  <a:lnTo>
                    <a:pt x="163" y="224"/>
                  </a:lnTo>
                  <a:lnTo>
                    <a:pt x="168" y="224"/>
                  </a:lnTo>
                  <a:lnTo>
                    <a:pt x="168" y="189"/>
                  </a:lnTo>
                  <a:lnTo>
                    <a:pt x="173" y="189"/>
                  </a:lnTo>
                  <a:lnTo>
                    <a:pt x="173" y="171"/>
                  </a:lnTo>
                  <a:lnTo>
                    <a:pt x="178" y="171"/>
                  </a:lnTo>
                  <a:lnTo>
                    <a:pt x="178" y="148"/>
                  </a:lnTo>
                  <a:lnTo>
                    <a:pt x="182" y="148"/>
                  </a:lnTo>
                  <a:lnTo>
                    <a:pt x="182" y="129"/>
                  </a:lnTo>
                  <a:lnTo>
                    <a:pt x="187" y="129"/>
                  </a:lnTo>
                  <a:lnTo>
                    <a:pt x="187" y="111"/>
                  </a:lnTo>
                  <a:lnTo>
                    <a:pt x="192" y="111"/>
                  </a:lnTo>
                  <a:lnTo>
                    <a:pt x="192" y="88"/>
                  </a:lnTo>
                  <a:lnTo>
                    <a:pt x="196" y="88"/>
                  </a:lnTo>
                  <a:lnTo>
                    <a:pt x="196" y="70"/>
                  </a:lnTo>
                  <a:lnTo>
                    <a:pt x="201" y="70"/>
                  </a:lnTo>
                  <a:lnTo>
                    <a:pt x="201" y="47"/>
                  </a:lnTo>
                  <a:lnTo>
                    <a:pt x="206" y="47"/>
                  </a:lnTo>
                  <a:lnTo>
                    <a:pt x="206" y="18"/>
                  </a:lnTo>
                  <a:lnTo>
                    <a:pt x="211" y="18"/>
                  </a:lnTo>
                  <a:lnTo>
                    <a:pt x="211" y="12"/>
                  </a:lnTo>
                  <a:lnTo>
                    <a:pt x="215" y="12"/>
                  </a:lnTo>
                  <a:lnTo>
                    <a:pt x="215" y="5"/>
                  </a:lnTo>
                  <a:lnTo>
                    <a:pt x="225" y="5"/>
                  </a:lnTo>
                  <a:lnTo>
                    <a:pt x="225" y="0"/>
                  </a:lnTo>
                  <a:lnTo>
                    <a:pt x="249" y="0"/>
                  </a:lnTo>
                  <a:lnTo>
                    <a:pt x="249" y="12"/>
                  </a:lnTo>
                  <a:lnTo>
                    <a:pt x="255" y="12"/>
                  </a:lnTo>
                  <a:lnTo>
                    <a:pt x="255" y="18"/>
                  </a:lnTo>
                  <a:lnTo>
                    <a:pt x="259" y="18"/>
                  </a:lnTo>
                  <a:lnTo>
                    <a:pt x="259" y="24"/>
                  </a:lnTo>
                  <a:lnTo>
                    <a:pt x="264" y="24"/>
                  </a:lnTo>
                  <a:lnTo>
                    <a:pt x="264" y="59"/>
                  </a:lnTo>
                  <a:lnTo>
                    <a:pt x="259" y="59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94"/>
                  </a:lnTo>
                  <a:lnTo>
                    <a:pt x="249" y="94"/>
                  </a:lnTo>
                  <a:lnTo>
                    <a:pt x="249" y="111"/>
                  </a:lnTo>
                  <a:lnTo>
                    <a:pt x="245" y="111"/>
                  </a:lnTo>
                  <a:lnTo>
                    <a:pt x="245" y="129"/>
                  </a:lnTo>
                  <a:lnTo>
                    <a:pt x="240" y="129"/>
                  </a:lnTo>
                  <a:lnTo>
                    <a:pt x="240" y="148"/>
                  </a:lnTo>
                  <a:lnTo>
                    <a:pt x="236" y="148"/>
                  </a:lnTo>
                  <a:lnTo>
                    <a:pt x="236" y="153"/>
                  </a:lnTo>
                  <a:lnTo>
                    <a:pt x="229" y="153"/>
                  </a:lnTo>
                  <a:lnTo>
                    <a:pt x="229" y="165"/>
                  </a:lnTo>
                  <a:lnTo>
                    <a:pt x="225" y="165"/>
                  </a:lnTo>
                  <a:lnTo>
                    <a:pt x="225" y="183"/>
                  </a:lnTo>
                  <a:lnTo>
                    <a:pt x="221" y="183"/>
                  </a:lnTo>
                  <a:lnTo>
                    <a:pt x="221" y="211"/>
                  </a:lnTo>
                  <a:lnTo>
                    <a:pt x="215" y="211"/>
                  </a:lnTo>
                  <a:lnTo>
                    <a:pt x="215" y="241"/>
                  </a:lnTo>
                  <a:lnTo>
                    <a:pt x="211" y="241"/>
                  </a:lnTo>
                  <a:lnTo>
                    <a:pt x="211" y="271"/>
                  </a:lnTo>
                  <a:lnTo>
                    <a:pt x="206" y="271"/>
                  </a:lnTo>
                  <a:lnTo>
                    <a:pt x="206" y="306"/>
                  </a:lnTo>
                  <a:lnTo>
                    <a:pt x="201" y="306"/>
                  </a:lnTo>
                  <a:lnTo>
                    <a:pt x="201" y="325"/>
                  </a:lnTo>
                  <a:lnTo>
                    <a:pt x="196" y="325"/>
                  </a:lnTo>
                  <a:lnTo>
                    <a:pt x="196" y="355"/>
                  </a:lnTo>
                  <a:lnTo>
                    <a:pt x="192" y="355"/>
                  </a:lnTo>
                  <a:lnTo>
                    <a:pt x="192" y="390"/>
                  </a:lnTo>
                  <a:lnTo>
                    <a:pt x="187" y="390"/>
                  </a:lnTo>
                  <a:lnTo>
                    <a:pt x="187" y="407"/>
                  </a:lnTo>
                  <a:lnTo>
                    <a:pt x="182" y="407"/>
                  </a:lnTo>
                  <a:lnTo>
                    <a:pt x="182" y="448"/>
                  </a:lnTo>
                  <a:lnTo>
                    <a:pt x="178" y="448"/>
                  </a:lnTo>
                  <a:lnTo>
                    <a:pt x="178" y="502"/>
                  </a:lnTo>
                  <a:lnTo>
                    <a:pt x="173" y="502"/>
                  </a:lnTo>
                  <a:lnTo>
                    <a:pt x="173" y="561"/>
                  </a:lnTo>
                  <a:lnTo>
                    <a:pt x="168" y="561"/>
                  </a:lnTo>
                  <a:lnTo>
                    <a:pt x="168" y="584"/>
                  </a:lnTo>
                  <a:lnTo>
                    <a:pt x="163" y="584"/>
                  </a:lnTo>
                  <a:lnTo>
                    <a:pt x="163" y="597"/>
                  </a:lnTo>
                  <a:lnTo>
                    <a:pt x="159" y="597"/>
                  </a:lnTo>
                  <a:lnTo>
                    <a:pt x="159" y="651"/>
                  </a:lnTo>
                  <a:lnTo>
                    <a:pt x="152" y="651"/>
                  </a:lnTo>
                  <a:lnTo>
                    <a:pt x="152" y="668"/>
                  </a:lnTo>
                  <a:lnTo>
                    <a:pt x="148" y="668"/>
                  </a:lnTo>
                  <a:lnTo>
                    <a:pt x="148" y="692"/>
                  </a:lnTo>
                  <a:lnTo>
                    <a:pt x="144" y="692"/>
                  </a:lnTo>
                  <a:lnTo>
                    <a:pt x="144" y="727"/>
                  </a:lnTo>
                  <a:lnTo>
                    <a:pt x="139" y="727"/>
                  </a:lnTo>
                  <a:lnTo>
                    <a:pt x="139" y="768"/>
                  </a:lnTo>
                  <a:lnTo>
                    <a:pt x="134" y="768"/>
                  </a:lnTo>
                  <a:lnTo>
                    <a:pt x="134" y="798"/>
                  </a:lnTo>
                  <a:lnTo>
                    <a:pt x="129" y="798"/>
                  </a:lnTo>
                  <a:lnTo>
                    <a:pt x="129" y="803"/>
                  </a:lnTo>
                  <a:lnTo>
                    <a:pt x="125" y="803"/>
                  </a:lnTo>
                  <a:lnTo>
                    <a:pt x="125" y="856"/>
                  </a:lnTo>
                  <a:lnTo>
                    <a:pt x="119" y="856"/>
                  </a:lnTo>
                  <a:lnTo>
                    <a:pt x="119" y="893"/>
                  </a:lnTo>
                  <a:lnTo>
                    <a:pt x="115" y="893"/>
                  </a:lnTo>
                  <a:lnTo>
                    <a:pt x="115" y="910"/>
                  </a:lnTo>
                  <a:lnTo>
                    <a:pt x="110" y="910"/>
                  </a:lnTo>
                  <a:lnTo>
                    <a:pt x="110" y="957"/>
                  </a:lnTo>
                  <a:lnTo>
                    <a:pt x="105" y="957"/>
                  </a:lnTo>
                  <a:lnTo>
                    <a:pt x="105" y="975"/>
                  </a:lnTo>
                  <a:lnTo>
                    <a:pt x="101" y="975"/>
                  </a:lnTo>
                  <a:lnTo>
                    <a:pt x="101" y="992"/>
                  </a:lnTo>
                  <a:lnTo>
                    <a:pt x="96" y="992"/>
                  </a:lnTo>
                  <a:lnTo>
                    <a:pt x="96" y="1016"/>
                  </a:lnTo>
                  <a:lnTo>
                    <a:pt x="91" y="1016"/>
                  </a:lnTo>
                  <a:lnTo>
                    <a:pt x="91" y="1051"/>
                  </a:lnTo>
                  <a:lnTo>
                    <a:pt x="85" y="1051"/>
                  </a:lnTo>
                  <a:lnTo>
                    <a:pt x="85" y="1070"/>
                  </a:lnTo>
                  <a:lnTo>
                    <a:pt x="81" y="1070"/>
                  </a:lnTo>
                  <a:lnTo>
                    <a:pt x="81" y="1081"/>
                  </a:lnTo>
                  <a:lnTo>
                    <a:pt x="76" y="1081"/>
                  </a:lnTo>
                  <a:lnTo>
                    <a:pt x="76" y="1098"/>
                  </a:lnTo>
                  <a:lnTo>
                    <a:pt x="71" y="1098"/>
                  </a:lnTo>
                  <a:lnTo>
                    <a:pt x="71" y="1116"/>
                  </a:lnTo>
                  <a:lnTo>
                    <a:pt x="66" y="1116"/>
                  </a:lnTo>
                  <a:lnTo>
                    <a:pt x="66" y="1152"/>
                  </a:lnTo>
                  <a:lnTo>
                    <a:pt x="62" y="1152"/>
                  </a:lnTo>
                  <a:lnTo>
                    <a:pt x="62" y="1187"/>
                  </a:lnTo>
                  <a:lnTo>
                    <a:pt x="66" y="1187"/>
                  </a:lnTo>
                  <a:lnTo>
                    <a:pt x="66" y="1193"/>
                  </a:lnTo>
                  <a:lnTo>
                    <a:pt x="129" y="1193"/>
                  </a:lnTo>
                  <a:lnTo>
                    <a:pt x="129" y="1200"/>
                  </a:lnTo>
                  <a:lnTo>
                    <a:pt x="269" y="1200"/>
                  </a:lnTo>
                  <a:lnTo>
                    <a:pt x="269" y="1206"/>
                  </a:lnTo>
                  <a:lnTo>
                    <a:pt x="326" y="1206"/>
                  </a:lnTo>
                  <a:lnTo>
                    <a:pt x="326" y="1211"/>
                  </a:lnTo>
                  <a:lnTo>
                    <a:pt x="336" y="1211"/>
                  </a:lnTo>
                  <a:lnTo>
                    <a:pt x="336" y="1206"/>
                  </a:lnTo>
                  <a:lnTo>
                    <a:pt x="359" y="1206"/>
                  </a:lnTo>
                  <a:lnTo>
                    <a:pt x="359" y="1211"/>
                  </a:lnTo>
                  <a:lnTo>
                    <a:pt x="422" y="1211"/>
                  </a:lnTo>
                  <a:lnTo>
                    <a:pt x="422" y="1217"/>
                  </a:lnTo>
                  <a:lnTo>
                    <a:pt x="475" y="1217"/>
                  </a:lnTo>
                  <a:lnTo>
                    <a:pt x="475" y="1223"/>
                  </a:lnTo>
                  <a:lnTo>
                    <a:pt x="528" y="1223"/>
                  </a:lnTo>
                  <a:lnTo>
                    <a:pt x="528" y="1228"/>
                  </a:lnTo>
                  <a:lnTo>
                    <a:pt x="606" y="1228"/>
                  </a:lnTo>
                  <a:lnTo>
                    <a:pt x="606" y="1235"/>
                  </a:lnTo>
                  <a:lnTo>
                    <a:pt x="668" y="1235"/>
                  </a:lnTo>
                  <a:lnTo>
                    <a:pt x="668" y="1241"/>
                  </a:lnTo>
                  <a:lnTo>
                    <a:pt x="758" y="1241"/>
                  </a:lnTo>
                  <a:lnTo>
                    <a:pt x="758" y="1247"/>
                  </a:lnTo>
                  <a:lnTo>
                    <a:pt x="797" y="1247"/>
                  </a:lnTo>
                  <a:lnTo>
                    <a:pt x="797" y="1252"/>
                  </a:lnTo>
                  <a:lnTo>
                    <a:pt x="908" y="1252"/>
                  </a:lnTo>
                  <a:lnTo>
                    <a:pt x="908" y="1258"/>
                  </a:lnTo>
                  <a:lnTo>
                    <a:pt x="998" y="1258"/>
                  </a:lnTo>
                  <a:lnTo>
                    <a:pt x="998" y="1264"/>
                  </a:lnTo>
                  <a:lnTo>
                    <a:pt x="1052" y="1264"/>
                  </a:lnTo>
                  <a:lnTo>
                    <a:pt x="1052" y="1271"/>
                  </a:lnTo>
                  <a:lnTo>
                    <a:pt x="1109" y="1271"/>
                  </a:lnTo>
                  <a:lnTo>
                    <a:pt x="1109" y="1276"/>
                  </a:lnTo>
                  <a:lnTo>
                    <a:pt x="1161" y="1276"/>
                  </a:lnTo>
                  <a:lnTo>
                    <a:pt x="1161" y="1282"/>
                  </a:lnTo>
                  <a:lnTo>
                    <a:pt x="1205" y="1282"/>
                  </a:lnTo>
                  <a:lnTo>
                    <a:pt x="1205" y="1288"/>
                  </a:lnTo>
                  <a:lnTo>
                    <a:pt x="1263" y="1288"/>
                  </a:lnTo>
                  <a:lnTo>
                    <a:pt x="1263" y="1293"/>
                  </a:lnTo>
                  <a:lnTo>
                    <a:pt x="1296" y="1293"/>
                  </a:lnTo>
                  <a:lnTo>
                    <a:pt x="1296" y="1301"/>
                  </a:lnTo>
                  <a:lnTo>
                    <a:pt x="1340" y="1301"/>
                  </a:lnTo>
                  <a:lnTo>
                    <a:pt x="1340" y="1306"/>
                  </a:lnTo>
                  <a:lnTo>
                    <a:pt x="1398" y="1306"/>
                  </a:lnTo>
                  <a:lnTo>
                    <a:pt x="1398" y="1312"/>
                  </a:lnTo>
                  <a:lnTo>
                    <a:pt x="1537" y="1312"/>
                  </a:lnTo>
                  <a:lnTo>
                    <a:pt x="1537" y="1318"/>
                  </a:lnTo>
                  <a:lnTo>
                    <a:pt x="1642" y="1318"/>
                  </a:lnTo>
                  <a:lnTo>
                    <a:pt x="1642" y="1324"/>
                  </a:lnTo>
                  <a:lnTo>
                    <a:pt x="1671" y="1324"/>
                  </a:lnTo>
                  <a:lnTo>
                    <a:pt x="1671" y="1329"/>
                  </a:lnTo>
                  <a:lnTo>
                    <a:pt x="1681" y="1329"/>
                  </a:lnTo>
                  <a:lnTo>
                    <a:pt x="1681" y="1324"/>
                  </a:lnTo>
                  <a:lnTo>
                    <a:pt x="1696" y="1324"/>
                  </a:lnTo>
                  <a:lnTo>
                    <a:pt x="1696" y="1329"/>
                  </a:lnTo>
                  <a:lnTo>
                    <a:pt x="1738" y="1329"/>
                  </a:lnTo>
                  <a:lnTo>
                    <a:pt x="1738" y="1334"/>
                  </a:lnTo>
                  <a:lnTo>
                    <a:pt x="1777" y="1334"/>
                  </a:lnTo>
                  <a:lnTo>
                    <a:pt x="1777" y="1342"/>
                  </a:lnTo>
                  <a:lnTo>
                    <a:pt x="1902" y="1342"/>
                  </a:lnTo>
                  <a:lnTo>
                    <a:pt x="1902" y="1334"/>
                  </a:lnTo>
                  <a:lnTo>
                    <a:pt x="1926" y="1334"/>
                  </a:lnTo>
                  <a:lnTo>
                    <a:pt x="1926" y="1329"/>
                  </a:lnTo>
                  <a:lnTo>
                    <a:pt x="1930" y="1329"/>
                  </a:lnTo>
                  <a:lnTo>
                    <a:pt x="1930" y="1324"/>
                  </a:lnTo>
                  <a:lnTo>
                    <a:pt x="1944" y="1324"/>
                  </a:lnTo>
                  <a:lnTo>
                    <a:pt x="1944" y="1318"/>
                  </a:lnTo>
                  <a:lnTo>
                    <a:pt x="1959" y="1318"/>
                  </a:lnTo>
                  <a:lnTo>
                    <a:pt x="1959" y="1312"/>
                  </a:lnTo>
                  <a:lnTo>
                    <a:pt x="1970" y="1312"/>
                  </a:lnTo>
                  <a:lnTo>
                    <a:pt x="1970" y="1306"/>
                  </a:lnTo>
                  <a:lnTo>
                    <a:pt x="1984" y="1306"/>
                  </a:lnTo>
                  <a:lnTo>
                    <a:pt x="1984" y="1301"/>
                  </a:lnTo>
                  <a:lnTo>
                    <a:pt x="1998" y="1301"/>
                  </a:lnTo>
                  <a:lnTo>
                    <a:pt x="1998" y="1293"/>
                  </a:lnTo>
                  <a:lnTo>
                    <a:pt x="2007" y="1293"/>
                  </a:lnTo>
                  <a:lnTo>
                    <a:pt x="2007" y="1288"/>
                  </a:lnTo>
                  <a:lnTo>
                    <a:pt x="2012" y="1288"/>
                  </a:lnTo>
                  <a:lnTo>
                    <a:pt x="2012" y="1282"/>
                  </a:lnTo>
                  <a:lnTo>
                    <a:pt x="2026" y="1282"/>
                  </a:lnTo>
                  <a:lnTo>
                    <a:pt x="2026" y="1276"/>
                  </a:lnTo>
                  <a:lnTo>
                    <a:pt x="2031" y="1276"/>
                  </a:lnTo>
                  <a:lnTo>
                    <a:pt x="2031" y="1271"/>
                  </a:lnTo>
                  <a:lnTo>
                    <a:pt x="2036" y="1271"/>
                  </a:lnTo>
                  <a:lnTo>
                    <a:pt x="2036" y="1264"/>
                  </a:lnTo>
                  <a:lnTo>
                    <a:pt x="2047" y="1264"/>
                  </a:lnTo>
                  <a:lnTo>
                    <a:pt x="2047" y="1258"/>
                  </a:lnTo>
                  <a:lnTo>
                    <a:pt x="2056" y="1258"/>
                  </a:lnTo>
                  <a:lnTo>
                    <a:pt x="2056" y="1252"/>
                  </a:lnTo>
                  <a:lnTo>
                    <a:pt x="2065" y="1252"/>
                  </a:lnTo>
                  <a:lnTo>
                    <a:pt x="2065" y="1247"/>
                  </a:lnTo>
                  <a:lnTo>
                    <a:pt x="2074" y="1247"/>
                  </a:lnTo>
                  <a:lnTo>
                    <a:pt x="2074" y="1241"/>
                  </a:lnTo>
                  <a:lnTo>
                    <a:pt x="2080" y="1241"/>
                  </a:lnTo>
                  <a:lnTo>
                    <a:pt x="2080" y="1235"/>
                  </a:lnTo>
                  <a:lnTo>
                    <a:pt x="2084" y="1235"/>
                  </a:lnTo>
                  <a:lnTo>
                    <a:pt x="2084" y="1228"/>
                  </a:lnTo>
                  <a:lnTo>
                    <a:pt x="2089" y="1228"/>
                  </a:lnTo>
                  <a:lnTo>
                    <a:pt x="2089" y="1223"/>
                  </a:lnTo>
                  <a:lnTo>
                    <a:pt x="2094" y="1223"/>
                  </a:lnTo>
                  <a:lnTo>
                    <a:pt x="2094" y="1217"/>
                  </a:lnTo>
                  <a:lnTo>
                    <a:pt x="2098" y="1217"/>
                  </a:lnTo>
                  <a:lnTo>
                    <a:pt x="2098" y="1211"/>
                  </a:lnTo>
                  <a:lnTo>
                    <a:pt x="2108" y="1211"/>
                  </a:lnTo>
                  <a:lnTo>
                    <a:pt x="2108" y="1206"/>
                  </a:lnTo>
                  <a:lnTo>
                    <a:pt x="2112" y="1206"/>
                  </a:lnTo>
                  <a:lnTo>
                    <a:pt x="2112" y="1193"/>
                  </a:lnTo>
                  <a:lnTo>
                    <a:pt x="2123" y="1193"/>
                  </a:lnTo>
                  <a:lnTo>
                    <a:pt x="2123" y="1187"/>
                  </a:lnTo>
                  <a:lnTo>
                    <a:pt x="2128" y="1187"/>
                  </a:lnTo>
                  <a:lnTo>
                    <a:pt x="2128" y="1182"/>
                  </a:lnTo>
                  <a:lnTo>
                    <a:pt x="2132" y="1182"/>
                  </a:lnTo>
                  <a:lnTo>
                    <a:pt x="2132" y="1176"/>
                  </a:lnTo>
                  <a:lnTo>
                    <a:pt x="2137" y="1176"/>
                  </a:lnTo>
                  <a:lnTo>
                    <a:pt x="2137" y="1165"/>
                  </a:lnTo>
                  <a:lnTo>
                    <a:pt x="2142" y="1165"/>
                  </a:lnTo>
                  <a:lnTo>
                    <a:pt x="2142" y="1157"/>
                  </a:lnTo>
                  <a:lnTo>
                    <a:pt x="2147" y="1157"/>
                  </a:lnTo>
                  <a:lnTo>
                    <a:pt x="2147" y="1152"/>
                  </a:lnTo>
                  <a:lnTo>
                    <a:pt x="2151" y="1152"/>
                  </a:lnTo>
                  <a:lnTo>
                    <a:pt x="2151" y="1146"/>
                  </a:lnTo>
                  <a:lnTo>
                    <a:pt x="2156" y="1146"/>
                  </a:lnTo>
                  <a:lnTo>
                    <a:pt x="2156" y="1133"/>
                  </a:lnTo>
                  <a:lnTo>
                    <a:pt x="2161" y="1133"/>
                  </a:lnTo>
                  <a:lnTo>
                    <a:pt x="2161" y="1128"/>
                  </a:lnTo>
                  <a:lnTo>
                    <a:pt x="2165" y="1128"/>
                  </a:lnTo>
                  <a:lnTo>
                    <a:pt x="2165" y="1116"/>
                  </a:lnTo>
                  <a:lnTo>
                    <a:pt x="2170" y="1116"/>
                  </a:lnTo>
                  <a:lnTo>
                    <a:pt x="2170" y="1111"/>
                  </a:lnTo>
                  <a:lnTo>
                    <a:pt x="2175" y="1111"/>
                  </a:lnTo>
                  <a:lnTo>
                    <a:pt x="2175" y="1098"/>
                  </a:lnTo>
                  <a:lnTo>
                    <a:pt x="2180" y="1098"/>
                  </a:lnTo>
                  <a:lnTo>
                    <a:pt x="2180" y="1092"/>
                  </a:lnTo>
                  <a:lnTo>
                    <a:pt x="2184" y="1092"/>
                  </a:lnTo>
                  <a:lnTo>
                    <a:pt x="2184" y="1081"/>
                  </a:lnTo>
                  <a:lnTo>
                    <a:pt x="2191" y="1081"/>
                  </a:lnTo>
                  <a:lnTo>
                    <a:pt x="2191" y="1075"/>
                  </a:lnTo>
                  <a:lnTo>
                    <a:pt x="2195" y="1075"/>
                  </a:lnTo>
                  <a:lnTo>
                    <a:pt x="2195" y="1064"/>
                  </a:lnTo>
                  <a:lnTo>
                    <a:pt x="2199" y="1064"/>
                  </a:lnTo>
                  <a:lnTo>
                    <a:pt x="2199" y="1057"/>
                  </a:lnTo>
                  <a:lnTo>
                    <a:pt x="2205" y="1057"/>
                  </a:lnTo>
                  <a:lnTo>
                    <a:pt x="2205" y="1051"/>
                  </a:lnTo>
                  <a:lnTo>
                    <a:pt x="2209" y="1051"/>
                  </a:lnTo>
                  <a:lnTo>
                    <a:pt x="2209" y="1046"/>
                  </a:lnTo>
                  <a:lnTo>
                    <a:pt x="2214" y="1046"/>
                  </a:lnTo>
                  <a:lnTo>
                    <a:pt x="2214" y="1040"/>
                  </a:lnTo>
                  <a:lnTo>
                    <a:pt x="2218" y="1040"/>
                  </a:lnTo>
                  <a:lnTo>
                    <a:pt x="2218" y="1029"/>
                  </a:lnTo>
                  <a:lnTo>
                    <a:pt x="2224" y="1029"/>
                  </a:lnTo>
                  <a:lnTo>
                    <a:pt x="2224" y="1011"/>
                  </a:lnTo>
                  <a:lnTo>
                    <a:pt x="2228" y="1011"/>
                  </a:lnTo>
                  <a:lnTo>
                    <a:pt x="2228" y="992"/>
                  </a:lnTo>
                  <a:lnTo>
                    <a:pt x="2232" y="992"/>
                  </a:lnTo>
                  <a:lnTo>
                    <a:pt x="2232" y="980"/>
                  </a:lnTo>
                  <a:lnTo>
                    <a:pt x="2238" y="980"/>
                  </a:lnTo>
                  <a:lnTo>
                    <a:pt x="2238" y="969"/>
                  </a:lnTo>
                  <a:lnTo>
                    <a:pt x="2242" y="969"/>
                  </a:lnTo>
                  <a:lnTo>
                    <a:pt x="2242" y="951"/>
                  </a:lnTo>
                  <a:lnTo>
                    <a:pt x="2247" y="951"/>
                  </a:lnTo>
                  <a:lnTo>
                    <a:pt x="2247" y="928"/>
                  </a:lnTo>
                  <a:lnTo>
                    <a:pt x="2242" y="928"/>
                  </a:lnTo>
                  <a:lnTo>
                    <a:pt x="2242" y="915"/>
                  </a:lnTo>
                  <a:lnTo>
                    <a:pt x="2238" y="915"/>
                  </a:lnTo>
                  <a:lnTo>
                    <a:pt x="2238" y="898"/>
                  </a:lnTo>
                  <a:lnTo>
                    <a:pt x="2232" y="898"/>
                  </a:lnTo>
                  <a:lnTo>
                    <a:pt x="2232" y="886"/>
                  </a:lnTo>
                  <a:lnTo>
                    <a:pt x="2228" y="886"/>
                  </a:lnTo>
                  <a:lnTo>
                    <a:pt x="2228" y="874"/>
                  </a:lnTo>
                  <a:lnTo>
                    <a:pt x="2224" y="874"/>
                  </a:lnTo>
                  <a:lnTo>
                    <a:pt x="2224" y="869"/>
                  </a:lnTo>
                  <a:lnTo>
                    <a:pt x="2218" y="869"/>
                  </a:lnTo>
                  <a:lnTo>
                    <a:pt x="2218" y="861"/>
                  </a:lnTo>
                  <a:lnTo>
                    <a:pt x="2214" y="861"/>
                  </a:lnTo>
                  <a:lnTo>
                    <a:pt x="2214" y="845"/>
                  </a:lnTo>
                  <a:lnTo>
                    <a:pt x="2209" y="845"/>
                  </a:lnTo>
                  <a:lnTo>
                    <a:pt x="2209" y="839"/>
                  </a:lnTo>
                  <a:lnTo>
                    <a:pt x="2199" y="839"/>
                  </a:lnTo>
                  <a:lnTo>
                    <a:pt x="2199" y="833"/>
                  </a:lnTo>
                  <a:lnTo>
                    <a:pt x="2195" y="833"/>
                  </a:lnTo>
                  <a:lnTo>
                    <a:pt x="2195" y="828"/>
                  </a:lnTo>
                  <a:lnTo>
                    <a:pt x="2191" y="828"/>
                  </a:lnTo>
                  <a:lnTo>
                    <a:pt x="2191" y="820"/>
                  </a:lnTo>
                  <a:lnTo>
                    <a:pt x="2184" y="820"/>
                  </a:lnTo>
                  <a:lnTo>
                    <a:pt x="2184" y="815"/>
                  </a:lnTo>
                  <a:lnTo>
                    <a:pt x="2180" y="815"/>
                  </a:lnTo>
                  <a:lnTo>
                    <a:pt x="2180" y="810"/>
                  </a:lnTo>
                  <a:lnTo>
                    <a:pt x="2175" y="810"/>
                  </a:lnTo>
                  <a:lnTo>
                    <a:pt x="2175" y="803"/>
                  </a:lnTo>
                  <a:lnTo>
                    <a:pt x="2170" y="803"/>
                  </a:lnTo>
                  <a:lnTo>
                    <a:pt x="2170" y="798"/>
                  </a:lnTo>
                  <a:lnTo>
                    <a:pt x="2165" y="798"/>
                  </a:lnTo>
                  <a:lnTo>
                    <a:pt x="2165" y="792"/>
                  </a:lnTo>
                  <a:lnTo>
                    <a:pt x="2161" y="792"/>
                  </a:lnTo>
                  <a:lnTo>
                    <a:pt x="2161" y="787"/>
                  </a:lnTo>
                  <a:lnTo>
                    <a:pt x="2156" y="787"/>
                  </a:lnTo>
                  <a:lnTo>
                    <a:pt x="2156" y="779"/>
                  </a:lnTo>
                  <a:lnTo>
                    <a:pt x="2151" y="779"/>
                  </a:lnTo>
                  <a:lnTo>
                    <a:pt x="2151" y="774"/>
                  </a:lnTo>
                  <a:lnTo>
                    <a:pt x="2147" y="774"/>
                  </a:lnTo>
                  <a:lnTo>
                    <a:pt x="2147" y="768"/>
                  </a:lnTo>
                  <a:lnTo>
                    <a:pt x="2137" y="768"/>
                  </a:lnTo>
                  <a:lnTo>
                    <a:pt x="2137" y="762"/>
                  </a:lnTo>
                  <a:lnTo>
                    <a:pt x="2132" y="762"/>
                  </a:lnTo>
                  <a:lnTo>
                    <a:pt x="2132" y="757"/>
                  </a:lnTo>
                  <a:lnTo>
                    <a:pt x="2128" y="757"/>
                  </a:lnTo>
                  <a:lnTo>
                    <a:pt x="2128" y="750"/>
                  </a:lnTo>
                  <a:lnTo>
                    <a:pt x="2118" y="750"/>
                  </a:lnTo>
                  <a:lnTo>
                    <a:pt x="2118" y="744"/>
                  </a:lnTo>
                  <a:lnTo>
                    <a:pt x="2112" y="744"/>
                  </a:lnTo>
                  <a:lnTo>
                    <a:pt x="2112" y="738"/>
                  </a:lnTo>
                  <a:lnTo>
                    <a:pt x="2108" y="738"/>
                  </a:lnTo>
                  <a:lnTo>
                    <a:pt x="2108" y="733"/>
                  </a:lnTo>
                  <a:lnTo>
                    <a:pt x="2098" y="733"/>
                  </a:lnTo>
                  <a:lnTo>
                    <a:pt x="2098" y="727"/>
                  </a:lnTo>
                  <a:lnTo>
                    <a:pt x="2094" y="727"/>
                  </a:lnTo>
                  <a:lnTo>
                    <a:pt x="2094" y="720"/>
                  </a:lnTo>
                  <a:lnTo>
                    <a:pt x="2089" y="720"/>
                  </a:lnTo>
                  <a:lnTo>
                    <a:pt x="2089" y="714"/>
                  </a:lnTo>
                  <a:lnTo>
                    <a:pt x="2084" y="714"/>
                  </a:lnTo>
                  <a:lnTo>
                    <a:pt x="2084" y="709"/>
                  </a:lnTo>
                  <a:lnTo>
                    <a:pt x="2080" y="709"/>
                  </a:lnTo>
                  <a:lnTo>
                    <a:pt x="2080" y="703"/>
                  </a:lnTo>
                  <a:lnTo>
                    <a:pt x="2065" y="703"/>
                  </a:lnTo>
                  <a:lnTo>
                    <a:pt x="2065" y="697"/>
                  </a:lnTo>
                  <a:lnTo>
                    <a:pt x="2061" y="697"/>
                  </a:lnTo>
                  <a:lnTo>
                    <a:pt x="2061" y="684"/>
                  </a:lnTo>
                  <a:lnTo>
                    <a:pt x="2056" y="684"/>
                  </a:lnTo>
                  <a:lnTo>
                    <a:pt x="2056" y="679"/>
                  </a:lnTo>
                  <a:lnTo>
                    <a:pt x="2051" y="679"/>
                  </a:lnTo>
                  <a:lnTo>
                    <a:pt x="2051" y="673"/>
                  </a:lnTo>
                  <a:lnTo>
                    <a:pt x="2047" y="673"/>
                  </a:lnTo>
                  <a:lnTo>
                    <a:pt x="2047" y="668"/>
                  </a:lnTo>
                  <a:lnTo>
                    <a:pt x="2036" y="668"/>
                  </a:lnTo>
                  <a:lnTo>
                    <a:pt x="2036" y="660"/>
                  </a:lnTo>
                  <a:lnTo>
                    <a:pt x="2031" y="660"/>
                  </a:lnTo>
                  <a:lnTo>
                    <a:pt x="2031" y="651"/>
                  </a:lnTo>
                  <a:lnTo>
                    <a:pt x="2026" y="651"/>
                  </a:lnTo>
                  <a:lnTo>
                    <a:pt x="2026" y="643"/>
                  </a:lnTo>
                  <a:lnTo>
                    <a:pt x="2021" y="643"/>
                  </a:lnTo>
                  <a:lnTo>
                    <a:pt x="2021" y="638"/>
                  </a:lnTo>
                  <a:lnTo>
                    <a:pt x="2017" y="638"/>
                  </a:lnTo>
                  <a:lnTo>
                    <a:pt x="2017" y="632"/>
                  </a:lnTo>
                  <a:lnTo>
                    <a:pt x="2007" y="632"/>
                  </a:lnTo>
                  <a:lnTo>
                    <a:pt x="2007" y="626"/>
                  </a:lnTo>
                  <a:lnTo>
                    <a:pt x="2003" y="626"/>
                  </a:lnTo>
                  <a:lnTo>
                    <a:pt x="2003" y="619"/>
                  </a:lnTo>
                  <a:lnTo>
                    <a:pt x="1998" y="619"/>
                  </a:lnTo>
                  <a:lnTo>
                    <a:pt x="1998" y="614"/>
                  </a:lnTo>
                  <a:lnTo>
                    <a:pt x="1993" y="614"/>
                  </a:lnTo>
                  <a:lnTo>
                    <a:pt x="1993" y="608"/>
                  </a:lnTo>
                  <a:lnTo>
                    <a:pt x="1988" y="608"/>
                  </a:lnTo>
                  <a:lnTo>
                    <a:pt x="1988" y="602"/>
                  </a:lnTo>
                  <a:lnTo>
                    <a:pt x="1984" y="602"/>
                  </a:lnTo>
                  <a:lnTo>
                    <a:pt x="1984" y="597"/>
                  </a:lnTo>
                  <a:lnTo>
                    <a:pt x="1974" y="597"/>
                  </a:lnTo>
                  <a:lnTo>
                    <a:pt x="1974" y="592"/>
                  </a:lnTo>
                  <a:lnTo>
                    <a:pt x="1970" y="592"/>
                  </a:lnTo>
                  <a:lnTo>
                    <a:pt x="1970" y="584"/>
                  </a:lnTo>
                  <a:lnTo>
                    <a:pt x="1959" y="584"/>
                  </a:lnTo>
                  <a:lnTo>
                    <a:pt x="1959" y="579"/>
                  </a:lnTo>
                  <a:lnTo>
                    <a:pt x="1954" y="579"/>
                  </a:lnTo>
                  <a:lnTo>
                    <a:pt x="1954" y="573"/>
                  </a:lnTo>
                  <a:lnTo>
                    <a:pt x="1950" y="573"/>
                  </a:lnTo>
                  <a:lnTo>
                    <a:pt x="1950" y="561"/>
                  </a:lnTo>
                  <a:lnTo>
                    <a:pt x="1940" y="561"/>
                  </a:lnTo>
                  <a:lnTo>
                    <a:pt x="1940" y="556"/>
                  </a:lnTo>
                  <a:lnTo>
                    <a:pt x="1935" y="556"/>
                  </a:lnTo>
                  <a:lnTo>
                    <a:pt x="1935" y="549"/>
                  </a:lnTo>
                  <a:lnTo>
                    <a:pt x="1930" y="549"/>
                  </a:lnTo>
                  <a:lnTo>
                    <a:pt x="1930" y="543"/>
                  </a:lnTo>
                  <a:lnTo>
                    <a:pt x="1926" y="543"/>
                  </a:lnTo>
                  <a:lnTo>
                    <a:pt x="1926" y="538"/>
                  </a:lnTo>
                  <a:lnTo>
                    <a:pt x="1921" y="538"/>
                  </a:lnTo>
                  <a:lnTo>
                    <a:pt x="1921" y="532"/>
                  </a:lnTo>
                  <a:lnTo>
                    <a:pt x="1917" y="532"/>
                  </a:lnTo>
                  <a:lnTo>
                    <a:pt x="1917" y="526"/>
                  </a:lnTo>
                  <a:lnTo>
                    <a:pt x="1907" y="526"/>
                  </a:lnTo>
                  <a:lnTo>
                    <a:pt x="1907" y="519"/>
                  </a:lnTo>
                  <a:lnTo>
                    <a:pt x="1902" y="519"/>
                  </a:lnTo>
                  <a:lnTo>
                    <a:pt x="1902" y="515"/>
                  </a:lnTo>
                  <a:lnTo>
                    <a:pt x="1891" y="515"/>
                  </a:lnTo>
                  <a:lnTo>
                    <a:pt x="1891" y="507"/>
                  </a:lnTo>
                  <a:lnTo>
                    <a:pt x="1887" y="507"/>
                  </a:lnTo>
                  <a:lnTo>
                    <a:pt x="1887" y="502"/>
                  </a:lnTo>
                  <a:lnTo>
                    <a:pt x="1882" y="502"/>
                  </a:lnTo>
                  <a:lnTo>
                    <a:pt x="1882" y="496"/>
                  </a:lnTo>
                  <a:lnTo>
                    <a:pt x="1873" y="496"/>
                  </a:lnTo>
                  <a:lnTo>
                    <a:pt x="1873" y="491"/>
                  </a:lnTo>
                  <a:lnTo>
                    <a:pt x="1868" y="491"/>
                  </a:lnTo>
                  <a:lnTo>
                    <a:pt x="1868" y="485"/>
                  </a:lnTo>
                  <a:lnTo>
                    <a:pt x="1863" y="485"/>
                  </a:lnTo>
                  <a:lnTo>
                    <a:pt x="1863" y="478"/>
                  </a:lnTo>
                  <a:lnTo>
                    <a:pt x="1858" y="478"/>
                  </a:lnTo>
                  <a:lnTo>
                    <a:pt x="1858" y="473"/>
                  </a:lnTo>
                  <a:lnTo>
                    <a:pt x="1854" y="473"/>
                  </a:lnTo>
                  <a:lnTo>
                    <a:pt x="1854" y="466"/>
                  </a:lnTo>
                  <a:lnTo>
                    <a:pt x="1844" y="466"/>
                  </a:lnTo>
                  <a:lnTo>
                    <a:pt x="1844" y="461"/>
                  </a:lnTo>
                  <a:lnTo>
                    <a:pt x="1834" y="461"/>
                  </a:lnTo>
                  <a:lnTo>
                    <a:pt x="1834" y="455"/>
                  </a:lnTo>
                  <a:lnTo>
                    <a:pt x="1830" y="455"/>
                  </a:lnTo>
                  <a:lnTo>
                    <a:pt x="1830" y="448"/>
                  </a:lnTo>
                  <a:lnTo>
                    <a:pt x="1825" y="448"/>
                  </a:lnTo>
                  <a:lnTo>
                    <a:pt x="1825" y="443"/>
                  </a:lnTo>
                  <a:lnTo>
                    <a:pt x="1814" y="443"/>
                  </a:lnTo>
                  <a:lnTo>
                    <a:pt x="1814" y="437"/>
                  </a:lnTo>
                  <a:lnTo>
                    <a:pt x="1810" y="437"/>
                  </a:lnTo>
                  <a:lnTo>
                    <a:pt x="1810" y="431"/>
                  </a:lnTo>
                  <a:lnTo>
                    <a:pt x="1800" y="431"/>
                  </a:lnTo>
                  <a:lnTo>
                    <a:pt x="1800" y="425"/>
                  </a:lnTo>
                  <a:lnTo>
                    <a:pt x="1796" y="425"/>
                  </a:lnTo>
                  <a:lnTo>
                    <a:pt x="1796" y="420"/>
                  </a:lnTo>
                  <a:lnTo>
                    <a:pt x="1786" y="420"/>
                  </a:lnTo>
                  <a:lnTo>
                    <a:pt x="1786" y="413"/>
                  </a:lnTo>
                  <a:lnTo>
                    <a:pt x="1777" y="413"/>
                  </a:lnTo>
                  <a:lnTo>
                    <a:pt x="1777" y="407"/>
                  </a:lnTo>
                  <a:lnTo>
                    <a:pt x="1772" y="407"/>
                  </a:lnTo>
                  <a:lnTo>
                    <a:pt x="1772" y="401"/>
                  </a:lnTo>
                  <a:lnTo>
                    <a:pt x="1767" y="401"/>
                  </a:lnTo>
                  <a:lnTo>
                    <a:pt x="1767" y="396"/>
                  </a:lnTo>
                  <a:lnTo>
                    <a:pt x="1763" y="396"/>
                  </a:lnTo>
                  <a:lnTo>
                    <a:pt x="1763" y="390"/>
                  </a:lnTo>
                  <a:lnTo>
                    <a:pt x="1753" y="390"/>
                  </a:lnTo>
                  <a:lnTo>
                    <a:pt x="1753" y="383"/>
                  </a:lnTo>
                  <a:lnTo>
                    <a:pt x="1748" y="383"/>
                  </a:lnTo>
                  <a:lnTo>
                    <a:pt x="1748" y="378"/>
                  </a:lnTo>
                  <a:lnTo>
                    <a:pt x="1743" y="378"/>
                  </a:lnTo>
                  <a:lnTo>
                    <a:pt x="1743" y="372"/>
                  </a:lnTo>
                  <a:lnTo>
                    <a:pt x="1738" y="372"/>
                  </a:lnTo>
                  <a:lnTo>
                    <a:pt x="1738" y="366"/>
                  </a:lnTo>
                  <a:lnTo>
                    <a:pt x="1724" y="366"/>
                  </a:lnTo>
                  <a:lnTo>
                    <a:pt x="1724" y="360"/>
                  </a:lnTo>
                  <a:lnTo>
                    <a:pt x="1719" y="360"/>
                  </a:lnTo>
                  <a:lnTo>
                    <a:pt x="1719" y="355"/>
                  </a:lnTo>
                  <a:lnTo>
                    <a:pt x="1715" y="355"/>
                  </a:lnTo>
                  <a:lnTo>
                    <a:pt x="1715" y="347"/>
                  </a:lnTo>
                  <a:lnTo>
                    <a:pt x="1705" y="347"/>
                  </a:lnTo>
                  <a:lnTo>
                    <a:pt x="1705" y="342"/>
                  </a:lnTo>
                  <a:lnTo>
                    <a:pt x="1696" y="342"/>
                  </a:lnTo>
                  <a:lnTo>
                    <a:pt x="1696" y="337"/>
                  </a:lnTo>
                  <a:lnTo>
                    <a:pt x="1690" y="337"/>
                  </a:lnTo>
                  <a:lnTo>
                    <a:pt x="1690" y="330"/>
                  </a:lnTo>
                  <a:lnTo>
                    <a:pt x="1686" y="330"/>
                  </a:lnTo>
                  <a:lnTo>
                    <a:pt x="1686" y="325"/>
                  </a:lnTo>
                  <a:lnTo>
                    <a:pt x="1676" y="325"/>
                  </a:lnTo>
                  <a:lnTo>
                    <a:pt x="1676" y="319"/>
                  </a:lnTo>
                  <a:lnTo>
                    <a:pt x="1666" y="319"/>
                  </a:lnTo>
                  <a:lnTo>
                    <a:pt x="1666" y="314"/>
                  </a:lnTo>
                  <a:lnTo>
                    <a:pt x="1662" y="314"/>
                  </a:lnTo>
                  <a:lnTo>
                    <a:pt x="1662" y="306"/>
                  </a:lnTo>
                  <a:lnTo>
                    <a:pt x="1633" y="306"/>
                  </a:lnTo>
                  <a:lnTo>
                    <a:pt x="1633" y="301"/>
                  </a:lnTo>
                  <a:lnTo>
                    <a:pt x="1623" y="301"/>
                  </a:lnTo>
                  <a:lnTo>
                    <a:pt x="1623" y="295"/>
                  </a:lnTo>
                  <a:lnTo>
                    <a:pt x="1619" y="295"/>
                  </a:lnTo>
                  <a:lnTo>
                    <a:pt x="1619" y="289"/>
                  </a:lnTo>
                  <a:lnTo>
                    <a:pt x="1614" y="289"/>
                  </a:lnTo>
                  <a:lnTo>
                    <a:pt x="1614" y="277"/>
                  </a:lnTo>
                  <a:lnTo>
                    <a:pt x="1609" y="277"/>
                  </a:lnTo>
                  <a:lnTo>
                    <a:pt x="1609" y="260"/>
                  </a:lnTo>
                  <a:lnTo>
                    <a:pt x="1614" y="260"/>
                  </a:lnTo>
                  <a:lnTo>
                    <a:pt x="1614" y="254"/>
                  </a:lnTo>
                  <a:lnTo>
                    <a:pt x="1619" y="254"/>
                  </a:lnTo>
                  <a:lnTo>
                    <a:pt x="1619" y="236"/>
                  </a:lnTo>
                  <a:lnTo>
                    <a:pt x="1623" y="236"/>
                  </a:lnTo>
                  <a:lnTo>
                    <a:pt x="1623" y="230"/>
                  </a:lnTo>
                  <a:lnTo>
                    <a:pt x="1628" y="230"/>
                  </a:lnTo>
                  <a:lnTo>
                    <a:pt x="1628" y="224"/>
                  </a:lnTo>
                  <a:lnTo>
                    <a:pt x="1662" y="224"/>
                  </a:lnTo>
                  <a:lnTo>
                    <a:pt x="1662" y="230"/>
                  </a:lnTo>
                  <a:lnTo>
                    <a:pt x="1671" y="230"/>
                  </a:lnTo>
                  <a:lnTo>
                    <a:pt x="1671" y="236"/>
                  </a:lnTo>
                  <a:lnTo>
                    <a:pt x="1676" y="236"/>
                  </a:lnTo>
                  <a:lnTo>
                    <a:pt x="1676" y="241"/>
                  </a:lnTo>
                  <a:lnTo>
                    <a:pt x="1686" y="241"/>
                  </a:lnTo>
                  <a:lnTo>
                    <a:pt x="1686" y="247"/>
                  </a:lnTo>
                  <a:lnTo>
                    <a:pt x="1696" y="247"/>
                  </a:lnTo>
                  <a:lnTo>
                    <a:pt x="1696" y="254"/>
                  </a:lnTo>
                  <a:lnTo>
                    <a:pt x="1705" y="254"/>
                  </a:lnTo>
                  <a:lnTo>
                    <a:pt x="1705" y="260"/>
                  </a:lnTo>
                  <a:lnTo>
                    <a:pt x="1719" y="260"/>
                  </a:lnTo>
                  <a:lnTo>
                    <a:pt x="1719" y="265"/>
                  </a:lnTo>
                  <a:lnTo>
                    <a:pt x="1724" y="265"/>
                  </a:lnTo>
                  <a:lnTo>
                    <a:pt x="1724" y="271"/>
                  </a:lnTo>
                  <a:lnTo>
                    <a:pt x="1729" y="271"/>
                  </a:lnTo>
                  <a:lnTo>
                    <a:pt x="1729" y="277"/>
                  </a:lnTo>
                  <a:lnTo>
                    <a:pt x="1733" y="277"/>
                  </a:lnTo>
                  <a:lnTo>
                    <a:pt x="1733" y="284"/>
                  </a:lnTo>
                  <a:lnTo>
                    <a:pt x="1738" y="284"/>
                  </a:lnTo>
                  <a:lnTo>
                    <a:pt x="1738" y="289"/>
                  </a:lnTo>
                  <a:lnTo>
                    <a:pt x="1743" y="289"/>
                  </a:lnTo>
                  <a:lnTo>
                    <a:pt x="1743" y="295"/>
                  </a:lnTo>
                  <a:lnTo>
                    <a:pt x="1748" y="295"/>
                  </a:lnTo>
                  <a:lnTo>
                    <a:pt x="1748" y="301"/>
                  </a:lnTo>
                  <a:lnTo>
                    <a:pt x="1753" y="301"/>
                  </a:lnTo>
                  <a:lnTo>
                    <a:pt x="1753" y="314"/>
                  </a:lnTo>
                  <a:lnTo>
                    <a:pt x="1758" y="314"/>
                  </a:lnTo>
                  <a:lnTo>
                    <a:pt x="1758" y="319"/>
                  </a:lnTo>
                  <a:lnTo>
                    <a:pt x="1763" y="319"/>
                  </a:lnTo>
                  <a:lnTo>
                    <a:pt x="1763" y="325"/>
                  </a:lnTo>
                  <a:lnTo>
                    <a:pt x="1772" y="325"/>
                  </a:lnTo>
                  <a:lnTo>
                    <a:pt x="1772" y="330"/>
                  </a:lnTo>
                  <a:lnTo>
                    <a:pt x="1781" y="330"/>
                  </a:lnTo>
                  <a:lnTo>
                    <a:pt x="1781" y="337"/>
                  </a:lnTo>
                  <a:lnTo>
                    <a:pt x="1786" y="337"/>
                  </a:lnTo>
                  <a:lnTo>
                    <a:pt x="1786" y="342"/>
                  </a:lnTo>
                  <a:lnTo>
                    <a:pt x="1796" y="342"/>
                  </a:lnTo>
                  <a:lnTo>
                    <a:pt x="1796" y="347"/>
                  </a:lnTo>
                  <a:lnTo>
                    <a:pt x="1800" y="347"/>
                  </a:lnTo>
                  <a:lnTo>
                    <a:pt x="1800" y="355"/>
                  </a:lnTo>
                  <a:lnTo>
                    <a:pt x="1810" y="355"/>
                  </a:lnTo>
                  <a:lnTo>
                    <a:pt x="1810" y="360"/>
                  </a:lnTo>
                  <a:lnTo>
                    <a:pt x="1814" y="360"/>
                  </a:lnTo>
                  <a:lnTo>
                    <a:pt x="1814" y="366"/>
                  </a:lnTo>
                  <a:lnTo>
                    <a:pt x="1825" y="366"/>
                  </a:lnTo>
                  <a:lnTo>
                    <a:pt x="1825" y="372"/>
                  </a:lnTo>
                  <a:lnTo>
                    <a:pt x="1834" y="372"/>
                  </a:lnTo>
                  <a:lnTo>
                    <a:pt x="1834" y="378"/>
                  </a:lnTo>
                  <a:lnTo>
                    <a:pt x="1849" y="378"/>
                  </a:lnTo>
                  <a:lnTo>
                    <a:pt x="1849" y="390"/>
                  </a:lnTo>
                  <a:lnTo>
                    <a:pt x="1854" y="390"/>
                  </a:lnTo>
                  <a:lnTo>
                    <a:pt x="1854" y="401"/>
                  </a:lnTo>
                  <a:lnTo>
                    <a:pt x="1858" y="401"/>
                  </a:lnTo>
                  <a:lnTo>
                    <a:pt x="1858" y="407"/>
                  </a:lnTo>
                  <a:lnTo>
                    <a:pt x="1873" y="407"/>
                  </a:lnTo>
                  <a:lnTo>
                    <a:pt x="1873" y="413"/>
                  </a:lnTo>
                  <a:lnTo>
                    <a:pt x="1877" y="413"/>
                  </a:lnTo>
                  <a:lnTo>
                    <a:pt x="1877" y="420"/>
                  </a:lnTo>
                  <a:lnTo>
                    <a:pt x="1887" y="420"/>
                  </a:lnTo>
                  <a:lnTo>
                    <a:pt x="1887" y="425"/>
                  </a:lnTo>
                  <a:lnTo>
                    <a:pt x="1891" y="425"/>
                  </a:lnTo>
                  <a:lnTo>
                    <a:pt x="1891" y="431"/>
                  </a:lnTo>
                  <a:lnTo>
                    <a:pt x="1896" y="431"/>
                  </a:lnTo>
                  <a:lnTo>
                    <a:pt x="1896" y="437"/>
                  </a:lnTo>
                  <a:lnTo>
                    <a:pt x="1907" y="437"/>
                  </a:lnTo>
                  <a:lnTo>
                    <a:pt x="1907" y="443"/>
                  </a:lnTo>
                  <a:lnTo>
                    <a:pt x="1911" y="443"/>
                  </a:lnTo>
                  <a:lnTo>
                    <a:pt x="1911" y="448"/>
                  </a:lnTo>
                  <a:lnTo>
                    <a:pt x="1917" y="448"/>
                  </a:lnTo>
                  <a:lnTo>
                    <a:pt x="1917" y="455"/>
                  </a:lnTo>
                  <a:lnTo>
                    <a:pt x="1921" y="455"/>
                  </a:lnTo>
                  <a:lnTo>
                    <a:pt x="1921" y="461"/>
                  </a:lnTo>
                  <a:lnTo>
                    <a:pt x="1926" y="461"/>
                  </a:lnTo>
                  <a:lnTo>
                    <a:pt x="1926" y="466"/>
                  </a:lnTo>
                  <a:lnTo>
                    <a:pt x="1930" y="466"/>
                  </a:lnTo>
                  <a:lnTo>
                    <a:pt x="1930" y="473"/>
                  </a:lnTo>
                  <a:lnTo>
                    <a:pt x="1940" y="473"/>
                  </a:lnTo>
                  <a:lnTo>
                    <a:pt x="1940" y="478"/>
                  </a:lnTo>
                  <a:lnTo>
                    <a:pt x="1950" y="478"/>
                  </a:lnTo>
                  <a:lnTo>
                    <a:pt x="1950" y="485"/>
                  </a:lnTo>
                  <a:lnTo>
                    <a:pt x="1954" y="485"/>
                  </a:lnTo>
                  <a:lnTo>
                    <a:pt x="1954" y="491"/>
                  </a:lnTo>
                  <a:lnTo>
                    <a:pt x="1964" y="491"/>
                  </a:lnTo>
                  <a:lnTo>
                    <a:pt x="1964" y="496"/>
                  </a:lnTo>
                  <a:lnTo>
                    <a:pt x="1970" y="496"/>
                  </a:lnTo>
                  <a:lnTo>
                    <a:pt x="1970" y="502"/>
                  </a:lnTo>
                  <a:lnTo>
                    <a:pt x="1974" y="502"/>
                  </a:lnTo>
                  <a:lnTo>
                    <a:pt x="1974" y="507"/>
                  </a:lnTo>
                  <a:lnTo>
                    <a:pt x="1979" y="507"/>
                  </a:lnTo>
                  <a:lnTo>
                    <a:pt x="1979" y="515"/>
                  </a:lnTo>
                  <a:lnTo>
                    <a:pt x="1984" y="515"/>
                  </a:lnTo>
                  <a:lnTo>
                    <a:pt x="1984" y="519"/>
                  </a:lnTo>
                  <a:lnTo>
                    <a:pt x="1988" y="519"/>
                  </a:lnTo>
                  <a:lnTo>
                    <a:pt x="1988" y="526"/>
                  </a:lnTo>
                  <a:lnTo>
                    <a:pt x="1993" y="526"/>
                  </a:lnTo>
                  <a:lnTo>
                    <a:pt x="1993" y="532"/>
                  </a:lnTo>
                  <a:lnTo>
                    <a:pt x="1998" y="532"/>
                  </a:lnTo>
                  <a:lnTo>
                    <a:pt x="1998" y="538"/>
                  </a:lnTo>
                  <a:lnTo>
                    <a:pt x="2003" y="538"/>
                  </a:lnTo>
                  <a:lnTo>
                    <a:pt x="2003" y="543"/>
                  </a:lnTo>
                  <a:lnTo>
                    <a:pt x="2007" y="543"/>
                  </a:lnTo>
                  <a:lnTo>
                    <a:pt x="2007" y="549"/>
                  </a:lnTo>
                  <a:lnTo>
                    <a:pt x="2012" y="549"/>
                  </a:lnTo>
                  <a:lnTo>
                    <a:pt x="2012" y="556"/>
                  </a:lnTo>
                  <a:lnTo>
                    <a:pt x="2017" y="556"/>
                  </a:lnTo>
                  <a:lnTo>
                    <a:pt x="2017" y="561"/>
                  </a:lnTo>
                  <a:lnTo>
                    <a:pt x="2021" y="561"/>
                  </a:lnTo>
                  <a:lnTo>
                    <a:pt x="2021" y="567"/>
                  </a:lnTo>
                  <a:lnTo>
                    <a:pt x="2026" y="567"/>
                  </a:lnTo>
                  <a:lnTo>
                    <a:pt x="2026" y="573"/>
                  </a:lnTo>
                  <a:lnTo>
                    <a:pt x="2036" y="573"/>
                  </a:lnTo>
                  <a:lnTo>
                    <a:pt x="2036" y="579"/>
                  </a:lnTo>
                  <a:lnTo>
                    <a:pt x="2040" y="579"/>
                  </a:lnTo>
                  <a:lnTo>
                    <a:pt x="2040" y="584"/>
                  </a:lnTo>
                  <a:lnTo>
                    <a:pt x="2051" y="584"/>
                  </a:lnTo>
                  <a:lnTo>
                    <a:pt x="2051" y="592"/>
                  </a:lnTo>
                  <a:lnTo>
                    <a:pt x="2056" y="592"/>
                  </a:lnTo>
                  <a:lnTo>
                    <a:pt x="2056" y="602"/>
                  </a:lnTo>
                  <a:lnTo>
                    <a:pt x="2061" y="602"/>
                  </a:lnTo>
                  <a:lnTo>
                    <a:pt x="2061" y="608"/>
                  </a:lnTo>
                  <a:lnTo>
                    <a:pt x="2070" y="608"/>
                  </a:lnTo>
                  <a:lnTo>
                    <a:pt x="2070" y="614"/>
                  </a:lnTo>
                  <a:lnTo>
                    <a:pt x="2074" y="614"/>
                  </a:lnTo>
                  <a:lnTo>
                    <a:pt x="2074" y="619"/>
                  </a:lnTo>
                  <a:lnTo>
                    <a:pt x="2080" y="619"/>
                  </a:lnTo>
                  <a:lnTo>
                    <a:pt x="2080" y="626"/>
                  </a:lnTo>
                  <a:lnTo>
                    <a:pt x="2084" y="626"/>
                  </a:lnTo>
                  <a:lnTo>
                    <a:pt x="2084" y="632"/>
                  </a:lnTo>
                  <a:lnTo>
                    <a:pt x="2094" y="632"/>
                  </a:lnTo>
                  <a:lnTo>
                    <a:pt x="2094" y="643"/>
                  </a:lnTo>
                  <a:lnTo>
                    <a:pt x="2098" y="643"/>
                  </a:lnTo>
                  <a:lnTo>
                    <a:pt x="2098" y="651"/>
                  </a:lnTo>
                  <a:lnTo>
                    <a:pt x="2103" y="651"/>
                  </a:lnTo>
                  <a:lnTo>
                    <a:pt x="2103" y="656"/>
                  </a:lnTo>
                  <a:lnTo>
                    <a:pt x="2108" y="656"/>
                  </a:lnTo>
                  <a:lnTo>
                    <a:pt x="2108" y="660"/>
                  </a:lnTo>
                  <a:lnTo>
                    <a:pt x="2118" y="660"/>
                  </a:lnTo>
                  <a:lnTo>
                    <a:pt x="2118" y="668"/>
                  </a:lnTo>
                  <a:lnTo>
                    <a:pt x="2123" y="668"/>
                  </a:lnTo>
                  <a:lnTo>
                    <a:pt x="2123" y="673"/>
                  </a:lnTo>
                  <a:lnTo>
                    <a:pt x="2132" y="673"/>
                  </a:lnTo>
                  <a:lnTo>
                    <a:pt x="2132" y="679"/>
                  </a:lnTo>
                  <a:lnTo>
                    <a:pt x="2137" y="679"/>
                  </a:lnTo>
                  <a:lnTo>
                    <a:pt x="2137" y="684"/>
                  </a:lnTo>
                  <a:lnTo>
                    <a:pt x="2147" y="684"/>
                  </a:lnTo>
                  <a:lnTo>
                    <a:pt x="2147" y="692"/>
                  </a:lnTo>
                  <a:lnTo>
                    <a:pt x="2151" y="692"/>
                  </a:lnTo>
                  <a:lnTo>
                    <a:pt x="2151" y="697"/>
                  </a:lnTo>
                  <a:lnTo>
                    <a:pt x="2156" y="697"/>
                  </a:lnTo>
                  <a:lnTo>
                    <a:pt x="2156" y="709"/>
                  </a:lnTo>
                  <a:lnTo>
                    <a:pt x="2161" y="709"/>
                  </a:lnTo>
                  <a:lnTo>
                    <a:pt x="2161" y="714"/>
                  </a:lnTo>
                  <a:lnTo>
                    <a:pt x="2165" y="714"/>
                  </a:lnTo>
                  <a:lnTo>
                    <a:pt x="2165" y="720"/>
                  </a:lnTo>
                  <a:lnTo>
                    <a:pt x="2175" y="720"/>
                  </a:lnTo>
                  <a:lnTo>
                    <a:pt x="2175" y="727"/>
                  </a:lnTo>
                  <a:lnTo>
                    <a:pt x="2180" y="727"/>
                  </a:lnTo>
                  <a:lnTo>
                    <a:pt x="2180" y="733"/>
                  </a:lnTo>
                  <a:lnTo>
                    <a:pt x="2191" y="733"/>
                  </a:lnTo>
                  <a:lnTo>
                    <a:pt x="2191" y="738"/>
                  </a:lnTo>
                  <a:lnTo>
                    <a:pt x="2195" y="738"/>
                  </a:lnTo>
                  <a:lnTo>
                    <a:pt x="2195" y="744"/>
                  </a:lnTo>
                  <a:lnTo>
                    <a:pt x="2205" y="744"/>
                  </a:lnTo>
                  <a:lnTo>
                    <a:pt x="2205" y="757"/>
                  </a:lnTo>
                  <a:lnTo>
                    <a:pt x="2209" y="757"/>
                  </a:lnTo>
                  <a:lnTo>
                    <a:pt x="2209" y="762"/>
                  </a:lnTo>
                  <a:lnTo>
                    <a:pt x="2214" y="762"/>
                  </a:lnTo>
                  <a:lnTo>
                    <a:pt x="2214" y="768"/>
                  </a:lnTo>
                  <a:lnTo>
                    <a:pt x="2218" y="768"/>
                  </a:lnTo>
                  <a:lnTo>
                    <a:pt x="2218" y="779"/>
                  </a:lnTo>
                  <a:lnTo>
                    <a:pt x="2224" y="779"/>
                  </a:lnTo>
                  <a:lnTo>
                    <a:pt x="2224" y="787"/>
                  </a:lnTo>
                  <a:lnTo>
                    <a:pt x="2232" y="787"/>
                  </a:lnTo>
                  <a:lnTo>
                    <a:pt x="2232" y="792"/>
                  </a:lnTo>
                  <a:lnTo>
                    <a:pt x="2238" y="792"/>
                  </a:lnTo>
                  <a:lnTo>
                    <a:pt x="2238" y="798"/>
                  </a:lnTo>
                  <a:lnTo>
                    <a:pt x="2242" y="798"/>
                  </a:lnTo>
                  <a:lnTo>
                    <a:pt x="2242" y="803"/>
                  </a:lnTo>
                  <a:lnTo>
                    <a:pt x="2247" y="803"/>
                  </a:lnTo>
                  <a:lnTo>
                    <a:pt x="2247" y="815"/>
                  </a:lnTo>
                  <a:lnTo>
                    <a:pt x="2252" y="815"/>
                  </a:lnTo>
                  <a:lnTo>
                    <a:pt x="2252" y="820"/>
                  </a:lnTo>
                  <a:lnTo>
                    <a:pt x="2257" y="820"/>
                  </a:lnTo>
                  <a:lnTo>
                    <a:pt x="2257" y="833"/>
                  </a:lnTo>
                  <a:lnTo>
                    <a:pt x="2262" y="833"/>
                  </a:lnTo>
                  <a:lnTo>
                    <a:pt x="2262" y="839"/>
                  </a:lnTo>
                  <a:lnTo>
                    <a:pt x="2267" y="839"/>
                  </a:lnTo>
                  <a:lnTo>
                    <a:pt x="2267" y="851"/>
                  </a:lnTo>
                  <a:lnTo>
                    <a:pt x="2272" y="851"/>
                  </a:lnTo>
                  <a:lnTo>
                    <a:pt x="2272" y="856"/>
                  </a:lnTo>
                  <a:lnTo>
                    <a:pt x="2276" y="856"/>
                  </a:lnTo>
                  <a:lnTo>
                    <a:pt x="2276" y="874"/>
                  </a:lnTo>
                  <a:lnTo>
                    <a:pt x="2281" y="874"/>
                  </a:lnTo>
                  <a:lnTo>
                    <a:pt x="2281" y="893"/>
                  </a:lnTo>
                  <a:lnTo>
                    <a:pt x="2286" y="893"/>
                  </a:lnTo>
                  <a:lnTo>
                    <a:pt x="2286" y="910"/>
                  </a:lnTo>
                  <a:lnTo>
                    <a:pt x="2291" y="910"/>
                  </a:lnTo>
                  <a:lnTo>
                    <a:pt x="2291" y="946"/>
                  </a:lnTo>
                  <a:lnTo>
                    <a:pt x="2295" y="946"/>
                  </a:lnTo>
                  <a:lnTo>
                    <a:pt x="2295" y="975"/>
                  </a:lnTo>
                  <a:lnTo>
                    <a:pt x="2291" y="975"/>
                  </a:lnTo>
                  <a:lnTo>
                    <a:pt x="2291" y="987"/>
                  </a:lnTo>
                  <a:lnTo>
                    <a:pt x="2286" y="987"/>
                  </a:lnTo>
                  <a:lnTo>
                    <a:pt x="2286" y="999"/>
                  </a:lnTo>
                  <a:lnTo>
                    <a:pt x="2281" y="999"/>
                  </a:lnTo>
                  <a:lnTo>
                    <a:pt x="2281" y="1005"/>
                  </a:lnTo>
                  <a:lnTo>
                    <a:pt x="2276" y="1005"/>
                  </a:lnTo>
                  <a:lnTo>
                    <a:pt x="2276" y="1016"/>
                  </a:lnTo>
                  <a:lnTo>
                    <a:pt x="2272" y="1016"/>
                  </a:lnTo>
                  <a:lnTo>
                    <a:pt x="2272" y="1022"/>
                  </a:lnTo>
                  <a:lnTo>
                    <a:pt x="2267" y="1022"/>
                  </a:lnTo>
                  <a:lnTo>
                    <a:pt x="2267" y="1046"/>
                  </a:lnTo>
                  <a:lnTo>
                    <a:pt x="2262" y="1046"/>
                  </a:lnTo>
                  <a:lnTo>
                    <a:pt x="2262" y="1051"/>
                  </a:lnTo>
                  <a:lnTo>
                    <a:pt x="2257" y="1051"/>
                  </a:lnTo>
                  <a:lnTo>
                    <a:pt x="2257" y="1064"/>
                  </a:lnTo>
                  <a:lnTo>
                    <a:pt x="2252" y="1064"/>
                  </a:lnTo>
                  <a:lnTo>
                    <a:pt x="2252" y="1070"/>
                  </a:lnTo>
                  <a:lnTo>
                    <a:pt x="2247" y="1070"/>
                  </a:lnTo>
                  <a:lnTo>
                    <a:pt x="2247" y="1081"/>
                  </a:lnTo>
                  <a:lnTo>
                    <a:pt x="2242" y="1081"/>
                  </a:lnTo>
                  <a:lnTo>
                    <a:pt x="2242" y="1087"/>
                  </a:lnTo>
                  <a:lnTo>
                    <a:pt x="2238" y="1087"/>
                  </a:lnTo>
                  <a:lnTo>
                    <a:pt x="2238" y="1098"/>
                  </a:lnTo>
                  <a:lnTo>
                    <a:pt x="2232" y="1098"/>
                  </a:lnTo>
                  <a:lnTo>
                    <a:pt x="2232" y="1105"/>
                  </a:lnTo>
                  <a:lnTo>
                    <a:pt x="2228" y="1105"/>
                  </a:lnTo>
                  <a:lnTo>
                    <a:pt x="2228" y="1111"/>
                  </a:lnTo>
                  <a:lnTo>
                    <a:pt x="2224" y="1111"/>
                  </a:lnTo>
                  <a:lnTo>
                    <a:pt x="2224" y="1123"/>
                  </a:lnTo>
                  <a:lnTo>
                    <a:pt x="2218" y="1123"/>
                  </a:lnTo>
                  <a:lnTo>
                    <a:pt x="2218" y="1128"/>
                  </a:lnTo>
                  <a:lnTo>
                    <a:pt x="2214" y="1128"/>
                  </a:lnTo>
                  <a:lnTo>
                    <a:pt x="2214" y="1133"/>
                  </a:lnTo>
                  <a:lnTo>
                    <a:pt x="2209" y="1133"/>
                  </a:lnTo>
                  <a:lnTo>
                    <a:pt x="2209" y="1141"/>
                  </a:lnTo>
                  <a:lnTo>
                    <a:pt x="2205" y="1141"/>
                  </a:lnTo>
                  <a:lnTo>
                    <a:pt x="2205" y="1146"/>
                  </a:lnTo>
                  <a:lnTo>
                    <a:pt x="2199" y="1146"/>
                  </a:lnTo>
                  <a:lnTo>
                    <a:pt x="2199" y="1157"/>
                  </a:lnTo>
                  <a:lnTo>
                    <a:pt x="2195" y="1157"/>
                  </a:lnTo>
                  <a:lnTo>
                    <a:pt x="2195" y="1165"/>
                  </a:lnTo>
                  <a:lnTo>
                    <a:pt x="2191" y="1165"/>
                  </a:lnTo>
                  <a:lnTo>
                    <a:pt x="2191" y="1176"/>
                  </a:lnTo>
                  <a:lnTo>
                    <a:pt x="2184" y="1176"/>
                  </a:lnTo>
                  <a:lnTo>
                    <a:pt x="2184" y="1182"/>
                  </a:lnTo>
                  <a:lnTo>
                    <a:pt x="2180" y="1182"/>
                  </a:lnTo>
                  <a:lnTo>
                    <a:pt x="2180" y="1187"/>
                  </a:lnTo>
                  <a:lnTo>
                    <a:pt x="2175" y="1187"/>
                  </a:lnTo>
                  <a:lnTo>
                    <a:pt x="2175" y="1193"/>
                  </a:lnTo>
                  <a:lnTo>
                    <a:pt x="2170" y="1193"/>
                  </a:lnTo>
                  <a:lnTo>
                    <a:pt x="2170" y="1206"/>
                  </a:lnTo>
                  <a:lnTo>
                    <a:pt x="2165" y="1206"/>
                  </a:lnTo>
                  <a:lnTo>
                    <a:pt x="2165" y="1211"/>
                  </a:lnTo>
                  <a:lnTo>
                    <a:pt x="2161" y="1211"/>
                  </a:lnTo>
                  <a:lnTo>
                    <a:pt x="2161" y="1217"/>
                  </a:lnTo>
                  <a:lnTo>
                    <a:pt x="2156" y="1217"/>
                  </a:lnTo>
                  <a:lnTo>
                    <a:pt x="2156" y="1223"/>
                  </a:lnTo>
                  <a:lnTo>
                    <a:pt x="2151" y="1223"/>
                  </a:lnTo>
                  <a:lnTo>
                    <a:pt x="2151" y="1228"/>
                  </a:lnTo>
                  <a:lnTo>
                    <a:pt x="2147" y="1228"/>
                  </a:lnTo>
                  <a:lnTo>
                    <a:pt x="2147" y="1235"/>
                  </a:lnTo>
                  <a:lnTo>
                    <a:pt x="2142" y="1235"/>
                  </a:lnTo>
                  <a:lnTo>
                    <a:pt x="2142" y="1241"/>
                  </a:lnTo>
                  <a:lnTo>
                    <a:pt x="2137" y="1241"/>
                  </a:lnTo>
                  <a:lnTo>
                    <a:pt x="2137" y="1247"/>
                  </a:lnTo>
                  <a:lnTo>
                    <a:pt x="2132" y="1247"/>
                  </a:lnTo>
                  <a:lnTo>
                    <a:pt x="2132" y="1252"/>
                  </a:lnTo>
                  <a:lnTo>
                    <a:pt x="2128" y="1252"/>
                  </a:lnTo>
                  <a:lnTo>
                    <a:pt x="2128" y="1258"/>
                  </a:lnTo>
                  <a:lnTo>
                    <a:pt x="2123" y="1258"/>
                  </a:lnTo>
                  <a:lnTo>
                    <a:pt x="2123" y="1264"/>
                  </a:lnTo>
                  <a:lnTo>
                    <a:pt x="2118" y="1264"/>
                  </a:lnTo>
                  <a:lnTo>
                    <a:pt x="2118" y="1271"/>
                  </a:lnTo>
                  <a:lnTo>
                    <a:pt x="2112" y="1271"/>
                  </a:lnTo>
                  <a:lnTo>
                    <a:pt x="2112" y="1276"/>
                  </a:lnTo>
                  <a:lnTo>
                    <a:pt x="2108" y="1276"/>
                  </a:lnTo>
                  <a:lnTo>
                    <a:pt x="2108" y="1282"/>
                  </a:lnTo>
                  <a:lnTo>
                    <a:pt x="2098" y="1282"/>
                  </a:lnTo>
                  <a:lnTo>
                    <a:pt x="2098" y="1288"/>
                  </a:lnTo>
                  <a:lnTo>
                    <a:pt x="2084" y="1288"/>
                  </a:lnTo>
                  <a:lnTo>
                    <a:pt x="2084" y="1301"/>
                  </a:lnTo>
                  <a:lnTo>
                    <a:pt x="2074" y="1301"/>
                  </a:lnTo>
                  <a:lnTo>
                    <a:pt x="2074" y="1306"/>
                  </a:lnTo>
                  <a:lnTo>
                    <a:pt x="2070" y="1306"/>
                  </a:lnTo>
                  <a:lnTo>
                    <a:pt x="2070" y="1312"/>
                  </a:lnTo>
                  <a:lnTo>
                    <a:pt x="2065" y="1312"/>
                  </a:lnTo>
                  <a:lnTo>
                    <a:pt x="2065" y="1318"/>
                  </a:lnTo>
                  <a:lnTo>
                    <a:pt x="2061" y="1318"/>
                  </a:lnTo>
                  <a:lnTo>
                    <a:pt x="2061" y="1324"/>
                  </a:lnTo>
                  <a:lnTo>
                    <a:pt x="2056" y="1324"/>
                  </a:lnTo>
                  <a:lnTo>
                    <a:pt x="2056" y="1329"/>
                  </a:lnTo>
                  <a:lnTo>
                    <a:pt x="2051" y="1329"/>
                  </a:lnTo>
                  <a:lnTo>
                    <a:pt x="2051" y="1334"/>
                  </a:lnTo>
                  <a:lnTo>
                    <a:pt x="2047" y="1334"/>
                  </a:lnTo>
                  <a:lnTo>
                    <a:pt x="2047" y="1342"/>
                  </a:lnTo>
                  <a:lnTo>
                    <a:pt x="2036" y="1342"/>
                  </a:lnTo>
                  <a:lnTo>
                    <a:pt x="2036" y="1347"/>
                  </a:lnTo>
                  <a:lnTo>
                    <a:pt x="2031" y="1347"/>
                  </a:lnTo>
                  <a:lnTo>
                    <a:pt x="2031" y="1353"/>
                  </a:lnTo>
                  <a:lnTo>
                    <a:pt x="2021" y="1353"/>
                  </a:lnTo>
                  <a:lnTo>
                    <a:pt x="2021" y="1359"/>
                  </a:lnTo>
                  <a:lnTo>
                    <a:pt x="2012" y="1359"/>
                  </a:lnTo>
                  <a:lnTo>
                    <a:pt x="2012" y="1371"/>
                  </a:lnTo>
                  <a:lnTo>
                    <a:pt x="1998" y="1371"/>
                  </a:lnTo>
                  <a:lnTo>
                    <a:pt x="1998" y="1377"/>
                  </a:lnTo>
                  <a:lnTo>
                    <a:pt x="1988" y="1377"/>
                  </a:lnTo>
                  <a:lnTo>
                    <a:pt x="1988" y="1383"/>
                  </a:lnTo>
                  <a:lnTo>
                    <a:pt x="1984" y="1383"/>
                  </a:lnTo>
                  <a:lnTo>
                    <a:pt x="1984" y="1388"/>
                  </a:lnTo>
                  <a:lnTo>
                    <a:pt x="1974" y="1388"/>
                  </a:lnTo>
                  <a:lnTo>
                    <a:pt x="1974" y="1394"/>
                  </a:lnTo>
                  <a:lnTo>
                    <a:pt x="1954" y="1394"/>
                  </a:lnTo>
                  <a:lnTo>
                    <a:pt x="1954" y="1400"/>
                  </a:lnTo>
                  <a:lnTo>
                    <a:pt x="1930" y="1400"/>
                  </a:lnTo>
                  <a:lnTo>
                    <a:pt x="1930" y="1407"/>
                  </a:lnTo>
                  <a:lnTo>
                    <a:pt x="1882" y="1407"/>
                  </a:lnTo>
                  <a:lnTo>
                    <a:pt x="1882" y="1412"/>
                  </a:lnTo>
                  <a:lnTo>
                    <a:pt x="1854" y="1412"/>
                  </a:lnTo>
                  <a:lnTo>
                    <a:pt x="1854" y="1419"/>
                  </a:lnTo>
                  <a:lnTo>
                    <a:pt x="1814" y="1419"/>
                  </a:lnTo>
                  <a:lnTo>
                    <a:pt x="1814" y="1412"/>
                  </a:lnTo>
                  <a:lnTo>
                    <a:pt x="1767" y="1412"/>
                  </a:lnTo>
                  <a:lnTo>
                    <a:pt x="1767" y="1407"/>
                  </a:lnTo>
                  <a:lnTo>
                    <a:pt x="1715" y="1407"/>
                  </a:lnTo>
                  <a:lnTo>
                    <a:pt x="1715" y="1400"/>
                  </a:lnTo>
                  <a:lnTo>
                    <a:pt x="1696" y="1400"/>
                  </a:lnTo>
                  <a:lnTo>
                    <a:pt x="1696" y="1394"/>
                  </a:lnTo>
                  <a:lnTo>
                    <a:pt x="1619" y="1394"/>
                  </a:lnTo>
                  <a:lnTo>
                    <a:pt x="1619" y="1388"/>
                  </a:lnTo>
                  <a:lnTo>
                    <a:pt x="1542" y="1388"/>
                  </a:lnTo>
                  <a:lnTo>
                    <a:pt x="1542" y="1383"/>
                  </a:lnTo>
                  <a:lnTo>
                    <a:pt x="1459" y="1383"/>
                  </a:lnTo>
                  <a:lnTo>
                    <a:pt x="1459" y="1377"/>
                  </a:lnTo>
                  <a:lnTo>
                    <a:pt x="1445" y="1377"/>
                  </a:lnTo>
                  <a:lnTo>
                    <a:pt x="1445" y="1383"/>
                  </a:lnTo>
                  <a:lnTo>
                    <a:pt x="1436" y="1383"/>
                  </a:lnTo>
                  <a:lnTo>
                    <a:pt x="1436" y="1377"/>
                  </a:lnTo>
                  <a:lnTo>
                    <a:pt x="1349" y="1377"/>
                  </a:lnTo>
                  <a:lnTo>
                    <a:pt x="1349" y="1371"/>
                  </a:lnTo>
                  <a:lnTo>
                    <a:pt x="1301" y="1371"/>
                  </a:lnTo>
                  <a:lnTo>
                    <a:pt x="1301" y="1366"/>
                  </a:lnTo>
                  <a:lnTo>
                    <a:pt x="1263" y="1366"/>
                  </a:lnTo>
                  <a:lnTo>
                    <a:pt x="1263" y="1359"/>
                  </a:lnTo>
                  <a:lnTo>
                    <a:pt x="1215" y="1359"/>
                  </a:lnTo>
                  <a:lnTo>
                    <a:pt x="1215" y="1353"/>
                  </a:lnTo>
                  <a:lnTo>
                    <a:pt x="1167" y="1353"/>
                  </a:lnTo>
                  <a:lnTo>
                    <a:pt x="1167" y="1347"/>
                  </a:lnTo>
                  <a:lnTo>
                    <a:pt x="1133" y="1347"/>
                  </a:lnTo>
                  <a:lnTo>
                    <a:pt x="1133" y="1342"/>
                  </a:lnTo>
                  <a:lnTo>
                    <a:pt x="1089" y="1342"/>
                  </a:lnTo>
                  <a:lnTo>
                    <a:pt x="1089" y="1334"/>
                  </a:lnTo>
                  <a:lnTo>
                    <a:pt x="1013" y="1334"/>
                  </a:lnTo>
                  <a:lnTo>
                    <a:pt x="1013" y="1329"/>
                  </a:lnTo>
                  <a:lnTo>
                    <a:pt x="931" y="1329"/>
                  </a:lnTo>
                  <a:lnTo>
                    <a:pt x="931" y="1324"/>
                  </a:lnTo>
                  <a:lnTo>
                    <a:pt x="859" y="1324"/>
                  </a:lnTo>
                  <a:lnTo>
                    <a:pt x="859" y="1318"/>
                  </a:lnTo>
                  <a:lnTo>
                    <a:pt x="754" y="1318"/>
                  </a:lnTo>
                  <a:lnTo>
                    <a:pt x="754" y="1312"/>
                  </a:lnTo>
                  <a:lnTo>
                    <a:pt x="687" y="1312"/>
                  </a:lnTo>
                  <a:lnTo>
                    <a:pt x="687" y="1306"/>
                  </a:lnTo>
                  <a:lnTo>
                    <a:pt x="624" y="1306"/>
                  </a:lnTo>
                  <a:lnTo>
                    <a:pt x="624" y="1301"/>
                  </a:lnTo>
                  <a:lnTo>
                    <a:pt x="528" y="1301"/>
                  </a:lnTo>
                  <a:lnTo>
                    <a:pt x="528" y="1293"/>
                  </a:lnTo>
                  <a:lnTo>
                    <a:pt x="466" y="1293"/>
                  </a:lnTo>
                  <a:lnTo>
                    <a:pt x="466" y="1288"/>
                  </a:lnTo>
                  <a:lnTo>
                    <a:pt x="446" y="1288"/>
                  </a:lnTo>
                  <a:lnTo>
                    <a:pt x="446" y="1282"/>
                  </a:lnTo>
                  <a:lnTo>
                    <a:pt x="417" y="1282"/>
                  </a:lnTo>
                  <a:lnTo>
                    <a:pt x="417" y="1276"/>
                  </a:lnTo>
                  <a:lnTo>
                    <a:pt x="399" y="1276"/>
                  </a:lnTo>
                  <a:lnTo>
                    <a:pt x="399" y="1282"/>
                  </a:lnTo>
                  <a:lnTo>
                    <a:pt x="385" y="1282"/>
                  </a:lnTo>
                  <a:lnTo>
                    <a:pt x="385" y="1276"/>
                  </a:lnTo>
                  <a:lnTo>
                    <a:pt x="249" y="1276"/>
                  </a:lnTo>
                  <a:lnTo>
                    <a:pt x="249" y="1282"/>
                  </a:lnTo>
                  <a:lnTo>
                    <a:pt x="221" y="1282"/>
                  </a:lnTo>
                  <a:lnTo>
                    <a:pt x="221" y="1276"/>
                  </a:lnTo>
                  <a:lnTo>
                    <a:pt x="215" y="1276"/>
                  </a:lnTo>
                  <a:lnTo>
                    <a:pt x="215" y="1271"/>
                  </a:lnTo>
                  <a:lnTo>
                    <a:pt x="173" y="1271"/>
                  </a:lnTo>
                  <a:lnTo>
                    <a:pt x="173" y="1264"/>
                  </a:lnTo>
                  <a:lnTo>
                    <a:pt x="43" y="1264"/>
                  </a:lnTo>
                  <a:lnTo>
                    <a:pt x="43" y="1258"/>
                  </a:lnTo>
                  <a:lnTo>
                    <a:pt x="24" y="1258"/>
                  </a:lnTo>
                  <a:lnTo>
                    <a:pt x="24" y="1271"/>
                  </a:lnTo>
                  <a:lnTo>
                    <a:pt x="9" y="1271"/>
                  </a:lnTo>
                  <a:lnTo>
                    <a:pt x="9" y="1241"/>
                  </a:lnTo>
                  <a:lnTo>
                    <a:pt x="4" y="1241"/>
                  </a:lnTo>
                  <a:lnTo>
                    <a:pt x="4" y="1235"/>
                  </a:lnTo>
                  <a:lnTo>
                    <a:pt x="0" y="1235"/>
                  </a:lnTo>
                  <a:lnTo>
                    <a:pt x="0" y="1193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88040" y="3193560"/>
              <a:ext cx="10800" cy="684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17"/>
                  </a:moveTo>
                  <a:lnTo>
                    <a:pt x="9" y="17"/>
                  </a:lnTo>
                  <a:lnTo>
                    <a:pt x="9" y="12"/>
                  </a:lnTo>
                  <a:lnTo>
                    <a:pt x="19" y="12"/>
                  </a:lnTo>
                  <a:lnTo>
                    <a:pt x="19" y="6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43" y="0"/>
                  </a:lnTo>
                  <a:lnTo>
                    <a:pt x="43" y="12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24" y="17"/>
                  </a:lnTo>
                  <a:lnTo>
                    <a:pt x="24" y="23"/>
                  </a:lnTo>
                  <a:lnTo>
                    <a:pt x="14" y="23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9" y="34"/>
                  </a:lnTo>
                  <a:lnTo>
                    <a:pt x="0" y="3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16840" y="2682000"/>
              <a:ext cx="216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60400" y="2608560"/>
              <a:ext cx="480600" cy="151920"/>
            </a:xfrm>
            <a:custGeom>
              <a:avLst/>
              <a:gdLst/>
              <a:ahLst/>
              <a:rect l="l" t="t" r="r" b="b"/>
              <a:pathLst>
                <a:path w="1849" h="780">
                  <a:moveTo>
                    <a:pt x="0" y="24"/>
                  </a:moveTo>
                  <a:lnTo>
                    <a:pt x="5" y="24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34" y="5"/>
                  </a:lnTo>
                  <a:lnTo>
                    <a:pt x="43" y="5"/>
                  </a:lnTo>
                  <a:lnTo>
                    <a:pt x="43" y="13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63" y="18"/>
                  </a:lnTo>
                  <a:lnTo>
                    <a:pt x="63" y="24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71" y="29"/>
                  </a:lnTo>
                  <a:lnTo>
                    <a:pt x="71" y="36"/>
                  </a:lnTo>
                  <a:lnTo>
                    <a:pt x="82" y="36"/>
                  </a:lnTo>
                  <a:lnTo>
                    <a:pt x="82" y="41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91" y="46"/>
                  </a:lnTo>
                  <a:lnTo>
                    <a:pt x="91" y="54"/>
                  </a:lnTo>
                  <a:lnTo>
                    <a:pt x="97" y="54"/>
                  </a:lnTo>
                  <a:lnTo>
                    <a:pt x="97" y="59"/>
                  </a:lnTo>
                  <a:lnTo>
                    <a:pt x="101" y="59"/>
                  </a:lnTo>
                  <a:lnTo>
                    <a:pt x="101" y="65"/>
                  </a:lnTo>
                  <a:lnTo>
                    <a:pt x="111" y="65"/>
                  </a:lnTo>
                  <a:lnTo>
                    <a:pt x="111" y="71"/>
                  </a:lnTo>
                  <a:lnTo>
                    <a:pt x="115" y="71"/>
                  </a:lnTo>
                  <a:lnTo>
                    <a:pt x="115" y="78"/>
                  </a:lnTo>
                  <a:lnTo>
                    <a:pt x="125" y="78"/>
                  </a:lnTo>
                  <a:lnTo>
                    <a:pt x="125" y="83"/>
                  </a:lnTo>
                  <a:lnTo>
                    <a:pt x="130" y="83"/>
                  </a:lnTo>
                  <a:lnTo>
                    <a:pt x="130" y="89"/>
                  </a:lnTo>
                  <a:lnTo>
                    <a:pt x="134" y="89"/>
                  </a:lnTo>
                  <a:lnTo>
                    <a:pt x="134" y="95"/>
                  </a:lnTo>
                  <a:lnTo>
                    <a:pt x="139" y="95"/>
                  </a:lnTo>
                  <a:lnTo>
                    <a:pt x="139" y="100"/>
                  </a:lnTo>
                  <a:lnTo>
                    <a:pt x="144" y="100"/>
                  </a:lnTo>
                  <a:lnTo>
                    <a:pt x="144" y="106"/>
                  </a:lnTo>
                  <a:lnTo>
                    <a:pt x="153" y="106"/>
                  </a:lnTo>
                  <a:lnTo>
                    <a:pt x="153" y="112"/>
                  </a:lnTo>
                  <a:lnTo>
                    <a:pt x="159" y="112"/>
                  </a:lnTo>
                  <a:lnTo>
                    <a:pt x="159" y="119"/>
                  </a:lnTo>
                  <a:lnTo>
                    <a:pt x="164" y="119"/>
                  </a:lnTo>
                  <a:lnTo>
                    <a:pt x="164" y="124"/>
                  </a:lnTo>
                  <a:lnTo>
                    <a:pt x="174" y="124"/>
                  </a:lnTo>
                  <a:lnTo>
                    <a:pt x="174" y="130"/>
                  </a:lnTo>
                  <a:lnTo>
                    <a:pt x="183" y="130"/>
                  </a:lnTo>
                  <a:lnTo>
                    <a:pt x="183" y="136"/>
                  </a:lnTo>
                  <a:lnTo>
                    <a:pt x="197" y="136"/>
                  </a:lnTo>
                  <a:lnTo>
                    <a:pt x="197" y="142"/>
                  </a:lnTo>
                  <a:lnTo>
                    <a:pt x="201" y="142"/>
                  </a:lnTo>
                  <a:lnTo>
                    <a:pt x="201" y="147"/>
                  </a:lnTo>
                  <a:lnTo>
                    <a:pt x="211" y="147"/>
                  </a:lnTo>
                  <a:lnTo>
                    <a:pt x="211" y="154"/>
                  </a:lnTo>
                  <a:lnTo>
                    <a:pt x="221" y="154"/>
                  </a:lnTo>
                  <a:lnTo>
                    <a:pt x="221" y="160"/>
                  </a:lnTo>
                  <a:lnTo>
                    <a:pt x="227" y="160"/>
                  </a:lnTo>
                  <a:lnTo>
                    <a:pt x="227" y="165"/>
                  </a:lnTo>
                  <a:lnTo>
                    <a:pt x="236" y="165"/>
                  </a:lnTo>
                  <a:lnTo>
                    <a:pt x="236" y="172"/>
                  </a:lnTo>
                  <a:lnTo>
                    <a:pt x="245" y="172"/>
                  </a:lnTo>
                  <a:lnTo>
                    <a:pt x="245" y="177"/>
                  </a:lnTo>
                  <a:lnTo>
                    <a:pt x="255" y="177"/>
                  </a:lnTo>
                  <a:lnTo>
                    <a:pt x="255" y="184"/>
                  </a:lnTo>
                  <a:lnTo>
                    <a:pt x="260" y="184"/>
                  </a:lnTo>
                  <a:lnTo>
                    <a:pt x="260" y="190"/>
                  </a:lnTo>
                  <a:lnTo>
                    <a:pt x="269" y="190"/>
                  </a:lnTo>
                  <a:lnTo>
                    <a:pt x="269" y="196"/>
                  </a:lnTo>
                  <a:lnTo>
                    <a:pt x="278" y="196"/>
                  </a:lnTo>
                  <a:lnTo>
                    <a:pt x="278" y="201"/>
                  </a:lnTo>
                  <a:lnTo>
                    <a:pt x="288" y="201"/>
                  </a:lnTo>
                  <a:lnTo>
                    <a:pt x="288" y="206"/>
                  </a:lnTo>
                  <a:lnTo>
                    <a:pt x="297" y="206"/>
                  </a:lnTo>
                  <a:lnTo>
                    <a:pt x="297" y="214"/>
                  </a:lnTo>
                  <a:lnTo>
                    <a:pt x="308" y="214"/>
                  </a:lnTo>
                  <a:lnTo>
                    <a:pt x="308" y="219"/>
                  </a:lnTo>
                  <a:lnTo>
                    <a:pt x="318" y="219"/>
                  </a:lnTo>
                  <a:lnTo>
                    <a:pt x="318" y="225"/>
                  </a:lnTo>
                  <a:lnTo>
                    <a:pt x="322" y="225"/>
                  </a:lnTo>
                  <a:lnTo>
                    <a:pt x="322" y="231"/>
                  </a:lnTo>
                  <a:lnTo>
                    <a:pt x="337" y="231"/>
                  </a:lnTo>
                  <a:lnTo>
                    <a:pt x="337" y="237"/>
                  </a:lnTo>
                  <a:lnTo>
                    <a:pt x="346" y="237"/>
                  </a:lnTo>
                  <a:lnTo>
                    <a:pt x="346" y="242"/>
                  </a:lnTo>
                  <a:lnTo>
                    <a:pt x="355" y="242"/>
                  </a:lnTo>
                  <a:lnTo>
                    <a:pt x="355" y="249"/>
                  </a:lnTo>
                  <a:lnTo>
                    <a:pt x="369" y="249"/>
                  </a:lnTo>
                  <a:lnTo>
                    <a:pt x="369" y="255"/>
                  </a:lnTo>
                  <a:lnTo>
                    <a:pt x="389" y="255"/>
                  </a:lnTo>
                  <a:lnTo>
                    <a:pt x="389" y="260"/>
                  </a:lnTo>
                  <a:lnTo>
                    <a:pt x="399" y="260"/>
                  </a:lnTo>
                  <a:lnTo>
                    <a:pt x="399" y="266"/>
                  </a:lnTo>
                  <a:lnTo>
                    <a:pt x="413" y="266"/>
                  </a:lnTo>
                  <a:lnTo>
                    <a:pt x="413" y="272"/>
                  </a:lnTo>
                  <a:lnTo>
                    <a:pt x="427" y="272"/>
                  </a:lnTo>
                  <a:lnTo>
                    <a:pt x="427" y="278"/>
                  </a:lnTo>
                  <a:lnTo>
                    <a:pt x="441" y="278"/>
                  </a:lnTo>
                  <a:lnTo>
                    <a:pt x="441" y="283"/>
                  </a:lnTo>
                  <a:lnTo>
                    <a:pt x="452" y="283"/>
                  </a:lnTo>
                  <a:lnTo>
                    <a:pt x="452" y="291"/>
                  </a:lnTo>
                  <a:lnTo>
                    <a:pt x="456" y="291"/>
                  </a:lnTo>
                  <a:lnTo>
                    <a:pt x="456" y="296"/>
                  </a:lnTo>
                  <a:lnTo>
                    <a:pt x="466" y="296"/>
                  </a:lnTo>
                  <a:lnTo>
                    <a:pt x="466" y="301"/>
                  </a:lnTo>
                  <a:lnTo>
                    <a:pt x="475" y="301"/>
                  </a:lnTo>
                  <a:lnTo>
                    <a:pt x="475" y="307"/>
                  </a:lnTo>
                  <a:lnTo>
                    <a:pt x="495" y="307"/>
                  </a:lnTo>
                  <a:lnTo>
                    <a:pt x="495" y="313"/>
                  </a:lnTo>
                  <a:lnTo>
                    <a:pt x="514" y="313"/>
                  </a:lnTo>
                  <a:lnTo>
                    <a:pt x="514" y="320"/>
                  </a:lnTo>
                  <a:lnTo>
                    <a:pt x="519" y="320"/>
                  </a:lnTo>
                  <a:lnTo>
                    <a:pt x="519" y="325"/>
                  </a:lnTo>
                  <a:lnTo>
                    <a:pt x="533" y="325"/>
                  </a:lnTo>
                  <a:lnTo>
                    <a:pt x="533" y="332"/>
                  </a:lnTo>
                  <a:lnTo>
                    <a:pt x="548" y="332"/>
                  </a:lnTo>
                  <a:lnTo>
                    <a:pt x="548" y="337"/>
                  </a:lnTo>
                  <a:lnTo>
                    <a:pt x="558" y="337"/>
                  </a:lnTo>
                  <a:lnTo>
                    <a:pt x="558" y="343"/>
                  </a:lnTo>
                  <a:lnTo>
                    <a:pt x="567" y="343"/>
                  </a:lnTo>
                  <a:lnTo>
                    <a:pt x="567" y="350"/>
                  </a:lnTo>
                  <a:lnTo>
                    <a:pt x="581" y="350"/>
                  </a:lnTo>
                  <a:lnTo>
                    <a:pt x="581" y="355"/>
                  </a:lnTo>
                  <a:lnTo>
                    <a:pt x="596" y="355"/>
                  </a:lnTo>
                  <a:lnTo>
                    <a:pt x="596" y="361"/>
                  </a:lnTo>
                  <a:lnTo>
                    <a:pt x="611" y="361"/>
                  </a:lnTo>
                  <a:lnTo>
                    <a:pt x="611" y="367"/>
                  </a:lnTo>
                  <a:lnTo>
                    <a:pt x="619" y="367"/>
                  </a:lnTo>
                  <a:lnTo>
                    <a:pt x="619" y="372"/>
                  </a:lnTo>
                  <a:lnTo>
                    <a:pt x="629" y="372"/>
                  </a:lnTo>
                  <a:lnTo>
                    <a:pt x="629" y="378"/>
                  </a:lnTo>
                  <a:lnTo>
                    <a:pt x="653" y="378"/>
                  </a:lnTo>
                  <a:lnTo>
                    <a:pt x="653" y="383"/>
                  </a:lnTo>
                  <a:lnTo>
                    <a:pt x="673" y="383"/>
                  </a:lnTo>
                  <a:lnTo>
                    <a:pt x="673" y="391"/>
                  </a:lnTo>
                  <a:lnTo>
                    <a:pt x="682" y="391"/>
                  </a:lnTo>
                  <a:lnTo>
                    <a:pt x="682" y="396"/>
                  </a:lnTo>
                  <a:lnTo>
                    <a:pt x="692" y="396"/>
                  </a:lnTo>
                  <a:lnTo>
                    <a:pt x="692" y="402"/>
                  </a:lnTo>
                  <a:lnTo>
                    <a:pt x="702" y="402"/>
                  </a:lnTo>
                  <a:lnTo>
                    <a:pt x="702" y="408"/>
                  </a:lnTo>
                  <a:lnTo>
                    <a:pt x="720" y="408"/>
                  </a:lnTo>
                  <a:lnTo>
                    <a:pt x="720" y="413"/>
                  </a:lnTo>
                  <a:lnTo>
                    <a:pt x="725" y="413"/>
                  </a:lnTo>
                  <a:lnTo>
                    <a:pt x="725" y="419"/>
                  </a:lnTo>
                  <a:lnTo>
                    <a:pt x="740" y="419"/>
                  </a:lnTo>
                  <a:lnTo>
                    <a:pt x="740" y="426"/>
                  </a:lnTo>
                  <a:lnTo>
                    <a:pt x="750" y="426"/>
                  </a:lnTo>
                  <a:lnTo>
                    <a:pt x="750" y="432"/>
                  </a:lnTo>
                  <a:lnTo>
                    <a:pt x="769" y="432"/>
                  </a:lnTo>
                  <a:lnTo>
                    <a:pt x="769" y="437"/>
                  </a:lnTo>
                  <a:lnTo>
                    <a:pt x="783" y="437"/>
                  </a:lnTo>
                  <a:lnTo>
                    <a:pt x="783" y="443"/>
                  </a:lnTo>
                  <a:lnTo>
                    <a:pt x="807" y="443"/>
                  </a:lnTo>
                  <a:lnTo>
                    <a:pt x="807" y="449"/>
                  </a:lnTo>
                  <a:lnTo>
                    <a:pt x="826" y="449"/>
                  </a:lnTo>
                  <a:lnTo>
                    <a:pt x="826" y="456"/>
                  </a:lnTo>
                  <a:lnTo>
                    <a:pt x="850" y="456"/>
                  </a:lnTo>
                  <a:lnTo>
                    <a:pt x="850" y="461"/>
                  </a:lnTo>
                  <a:lnTo>
                    <a:pt x="865" y="461"/>
                  </a:lnTo>
                  <a:lnTo>
                    <a:pt x="865" y="467"/>
                  </a:lnTo>
                  <a:lnTo>
                    <a:pt x="880" y="467"/>
                  </a:lnTo>
                  <a:lnTo>
                    <a:pt x="880" y="473"/>
                  </a:lnTo>
                  <a:lnTo>
                    <a:pt x="899" y="473"/>
                  </a:lnTo>
                  <a:lnTo>
                    <a:pt x="899" y="478"/>
                  </a:lnTo>
                  <a:lnTo>
                    <a:pt x="913" y="478"/>
                  </a:lnTo>
                  <a:lnTo>
                    <a:pt x="913" y="486"/>
                  </a:lnTo>
                  <a:lnTo>
                    <a:pt x="917" y="486"/>
                  </a:lnTo>
                  <a:lnTo>
                    <a:pt x="917" y="491"/>
                  </a:lnTo>
                  <a:lnTo>
                    <a:pt x="936" y="491"/>
                  </a:lnTo>
                  <a:lnTo>
                    <a:pt x="936" y="497"/>
                  </a:lnTo>
                  <a:lnTo>
                    <a:pt x="956" y="497"/>
                  </a:lnTo>
                  <a:lnTo>
                    <a:pt x="956" y="502"/>
                  </a:lnTo>
                  <a:lnTo>
                    <a:pt x="970" y="502"/>
                  </a:lnTo>
                  <a:lnTo>
                    <a:pt x="970" y="509"/>
                  </a:lnTo>
                  <a:lnTo>
                    <a:pt x="985" y="509"/>
                  </a:lnTo>
                  <a:lnTo>
                    <a:pt x="985" y="514"/>
                  </a:lnTo>
                  <a:lnTo>
                    <a:pt x="999" y="514"/>
                  </a:lnTo>
                  <a:lnTo>
                    <a:pt x="999" y="519"/>
                  </a:lnTo>
                  <a:lnTo>
                    <a:pt x="1033" y="519"/>
                  </a:lnTo>
                  <a:lnTo>
                    <a:pt x="1033" y="527"/>
                  </a:lnTo>
                  <a:lnTo>
                    <a:pt x="1052" y="527"/>
                  </a:lnTo>
                  <a:lnTo>
                    <a:pt x="1052" y="532"/>
                  </a:lnTo>
                  <a:lnTo>
                    <a:pt x="1071" y="532"/>
                  </a:lnTo>
                  <a:lnTo>
                    <a:pt x="1071" y="538"/>
                  </a:lnTo>
                  <a:lnTo>
                    <a:pt x="1090" y="538"/>
                  </a:lnTo>
                  <a:lnTo>
                    <a:pt x="1090" y="544"/>
                  </a:lnTo>
                  <a:lnTo>
                    <a:pt x="1110" y="544"/>
                  </a:lnTo>
                  <a:lnTo>
                    <a:pt x="1110" y="550"/>
                  </a:lnTo>
                  <a:lnTo>
                    <a:pt x="1138" y="550"/>
                  </a:lnTo>
                  <a:lnTo>
                    <a:pt x="1138" y="555"/>
                  </a:lnTo>
                  <a:lnTo>
                    <a:pt x="1157" y="555"/>
                  </a:lnTo>
                  <a:lnTo>
                    <a:pt x="1157" y="562"/>
                  </a:lnTo>
                  <a:lnTo>
                    <a:pt x="1177" y="562"/>
                  </a:lnTo>
                  <a:lnTo>
                    <a:pt x="1177" y="568"/>
                  </a:lnTo>
                  <a:lnTo>
                    <a:pt x="1191" y="568"/>
                  </a:lnTo>
                  <a:lnTo>
                    <a:pt x="1191" y="573"/>
                  </a:lnTo>
                  <a:lnTo>
                    <a:pt x="1201" y="573"/>
                  </a:lnTo>
                  <a:lnTo>
                    <a:pt x="1201" y="579"/>
                  </a:lnTo>
                  <a:lnTo>
                    <a:pt x="1210" y="579"/>
                  </a:lnTo>
                  <a:lnTo>
                    <a:pt x="1210" y="585"/>
                  </a:lnTo>
                  <a:lnTo>
                    <a:pt x="1244" y="585"/>
                  </a:lnTo>
                  <a:lnTo>
                    <a:pt x="1244" y="592"/>
                  </a:lnTo>
                  <a:lnTo>
                    <a:pt x="1258" y="592"/>
                  </a:lnTo>
                  <a:lnTo>
                    <a:pt x="1258" y="597"/>
                  </a:lnTo>
                  <a:lnTo>
                    <a:pt x="1268" y="597"/>
                  </a:lnTo>
                  <a:lnTo>
                    <a:pt x="1268" y="603"/>
                  </a:lnTo>
                  <a:lnTo>
                    <a:pt x="1292" y="603"/>
                  </a:lnTo>
                  <a:lnTo>
                    <a:pt x="1292" y="609"/>
                  </a:lnTo>
                  <a:lnTo>
                    <a:pt x="1321" y="609"/>
                  </a:lnTo>
                  <a:lnTo>
                    <a:pt x="1321" y="615"/>
                  </a:lnTo>
                  <a:lnTo>
                    <a:pt x="1327" y="615"/>
                  </a:lnTo>
                  <a:lnTo>
                    <a:pt x="1327" y="620"/>
                  </a:lnTo>
                  <a:lnTo>
                    <a:pt x="1360" y="620"/>
                  </a:lnTo>
                  <a:lnTo>
                    <a:pt x="1360" y="627"/>
                  </a:lnTo>
                  <a:lnTo>
                    <a:pt x="1378" y="627"/>
                  </a:lnTo>
                  <a:lnTo>
                    <a:pt x="1378" y="633"/>
                  </a:lnTo>
                  <a:lnTo>
                    <a:pt x="1402" y="633"/>
                  </a:lnTo>
                  <a:lnTo>
                    <a:pt x="1402" y="638"/>
                  </a:lnTo>
                  <a:lnTo>
                    <a:pt x="1441" y="638"/>
                  </a:lnTo>
                  <a:lnTo>
                    <a:pt x="1441" y="645"/>
                  </a:lnTo>
                  <a:lnTo>
                    <a:pt x="1475" y="645"/>
                  </a:lnTo>
                  <a:lnTo>
                    <a:pt x="1475" y="650"/>
                  </a:lnTo>
                  <a:lnTo>
                    <a:pt x="1504" y="650"/>
                  </a:lnTo>
                  <a:lnTo>
                    <a:pt x="1504" y="657"/>
                  </a:lnTo>
                  <a:lnTo>
                    <a:pt x="1542" y="657"/>
                  </a:lnTo>
                  <a:lnTo>
                    <a:pt x="1542" y="663"/>
                  </a:lnTo>
                  <a:lnTo>
                    <a:pt x="1556" y="663"/>
                  </a:lnTo>
                  <a:lnTo>
                    <a:pt x="1556" y="668"/>
                  </a:lnTo>
                  <a:lnTo>
                    <a:pt x="1599" y="668"/>
                  </a:lnTo>
                  <a:lnTo>
                    <a:pt x="1599" y="674"/>
                  </a:lnTo>
                  <a:lnTo>
                    <a:pt x="1638" y="674"/>
                  </a:lnTo>
                  <a:lnTo>
                    <a:pt x="1638" y="679"/>
                  </a:lnTo>
                  <a:lnTo>
                    <a:pt x="1686" y="679"/>
                  </a:lnTo>
                  <a:lnTo>
                    <a:pt x="1686" y="687"/>
                  </a:lnTo>
                  <a:lnTo>
                    <a:pt x="1729" y="687"/>
                  </a:lnTo>
                  <a:lnTo>
                    <a:pt x="1729" y="691"/>
                  </a:lnTo>
                  <a:lnTo>
                    <a:pt x="1782" y="691"/>
                  </a:lnTo>
                  <a:lnTo>
                    <a:pt x="1782" y="698"/>
                  </a:lnTo>
                  <a:lnTo>
                    <a:pt x="1815" y="698"/>
                  </a:lnTo>
                  <a:lnTo>
                    <a:pt x="1815" y="691"/>
                  </a:lnTo>
                  <a:lnTo>
                    <a:pt x="1835" y="691"/>
                  </a:lnTo>
                  <a:lnTo>
                    <a:pt x="1835" y="698"/>
                  </a:lnTo>
                  <a:lnTo>
                    <a:pt x="1840" y="698"/>
                  </a:lnTo>
                  <a:lnTo>
                    <a:pt x="1840" y="715"/>
                  </a:lnTo>
                  <a:lnTo>
                    <a:pt x="1845" y="715"/>
                  </a:lnTo>
                  <a:lnTo>
                    <a:pt x="1845" y="728"/>
                  </a:lnTo>
                  <a:lnTo>
                    <a:pt x="1849" y="728"/>
                  </a:lnTo>
                  <a:lnTo>
                    <a:pt x="1849" y="745"/>
                  </a:lnTo>
                  <a:lnTo>
                    <a:pt x="1845" y="745"/>
                  </a:lnTo>
                  <a:lnTo>
                    <a:pt x="1845" y="756"/>
                  </a:lnTo>
                  <a:lnTo>
                    <a:pt x="1840" y="756"/>
                  </a:lnTo>
                  <a:lnTo>
                    <a:pt x="1840" y="764"/>
                  </a:lnTo>
                  <a:lnTo>
                    <a:pt x="1835" y="764"/>
                  </a:lnTo>
                  <a:lnTo>
                    <a:pt x="1835" y="769"/>
                  </a:lnTo>
                  <a:lnTo>
                    <a:pt x="1830" y="769"/>
                  </a:lnTo>
                  <a:lnTo>
                    <a:pt x="1830" y="774"/>
                  </a:lnTo>
                  <a:lnTo>
                    <a:pt x="1826" y="774"/>
                  </a:lnTo>
                  <a:lnTo>
                    <a:pt x="1826" y="780"/>
                  </a:lnTo>
                  <a:lnTo>
                    <a:pt x="1806" y="780"/>
                  </a:lnTo>
                  <a:lnTo>
                    <a:pt x="1806" y="774"/>
                  </a:lnTo>
                  <a:lnTo>
                    <a:pt x="1772" y="774"/>
                  </a:lnTo>
                  <a:lnTo>
                    <a:pt x="1772" y="769"/>
                  </a:lnTo>
                  <a:lnTo>
                    <a:pt x="1724" y="769"/>
                  </a:lnTo>
                  <a:lnTo>
                    <a:pt x="1724" y="764"/>
                  </a:lnTo>
                  <a:lnTo>
                    <a:pt x="1667" y="764"/>
                  </a:lnTo>
                  <a:lnTo>
                    <a:pt x="1667" y="756"/>
                  </a:lnTo>
                  <a:lnTo>
                    <a:pt x="1624" y="756"/>
                  </a:lnTo>
                  <a:lnTo>
                    <a:pt x="1624" y="751"/>
                  </a:lnTo>
                  <a:lnTo>
                    <a:pt x="1566" y="751"/>
                  </a:lnTo>
                  <a:lnTo>
                    <a:pt x="1566" y="745"/>
                  </a:lnTo>
                  <a:lnTo>
                    <a:pt x="1542" y="745"/>
                  </a:lnTo>
                  <a:lnTo>
                    <a:pt x="1542" y="739"/>
                  </a:lnTo>
                  <a:lnTo>
                    <a:pt x="1512" y="739"/>
                  </a:lnTo>
                  <a:lnTo>
                    <a:pt x="1512" y="733"/>
                  </a:lnTo>
                  <a:lnTo>
                    <a:pt x="1494" y="733"/>
                  </a:lnTo>
                  <a:lnTo>
                    <a:pt x="1494" y="728"/>
                  </a:lnTo>
                  <a:lnTo>
                    <a:pt x="1475" y="728"/>
                  </a:lnTo>
                  <a:lnTo>
                    <a:pt x="1475" y="721"/>
                  </a:lnTo>
                  <a:lnTo>
                    <a:pt x="1445" y="721"/>
                  </a:lnTo>
                  <a:lnTo>
                    <a:pt x="1445" y="715"/>
                  </a:lnTo>
                  <a:lnTo>
                    <a:pt x="1427" y="715"/>
                  </a:lnTo>
                  <a:lnTo>
                    <a:pt x="1427" y="710"/>
                  </a:lnTo>
                  <a:lnTo>
                    <a:pt x="1383" y="710"/>
                  </a:lnTo>
                  <a:lnTo>
                    <a:pt x="1383" y="704"/>
                  </a:lnTo>
                  <a:lnTo>
                    <a:pt x="1360" y="704"/>
                  </a:lnTo>
                  <a:lnTo>
                    <a:pt x="1360" y="698"/>
                  </a:lnTo>
                  <a:lnTo>
                    <a:pt x="1331" y="698"/>
                  </a:lnTo>
                  <a:lnTo>
                    <a:pt x="1331" y="691"/>
                  </a:lnTo>
                  <a:lnTo>
                    <a:pt x="1297" y="691"/>
                  </a:lnTo>
                  <a:lnTo>
                    <a:pt x="1297" y="687"/>
                  </a:lnTo>
                  <a:lnTo>
                    <a:pt x="1268" y="687"/>
                  </a:lnTo>
                  <a:lnTo>
                    <a:pt x="1268" y="679"/>
                  </a:lnTo>
                  <a:lnTo>
                    <a:pt x="1244" y="679"/>
                  </a:lnTo>
                  <a:lnTo>
                    <a:pt x="1244" y="674"/>
                  </a:lnTo>
                  <a:lnTo>
                    <a:pt x="1224" y="674"/>
                  </a:lnTo>
                  <a:lnTo>
                    <a:pt x="1224" y="668"/>
                  </a:lnTo>
                  <a:lnTo>
                    <a:pt x="1210" y="668"/>
                  </a:lnTo>
                  <a:lnTo>
                    <a:pt x="1210" y="663"/>
                  </a:lnTo>
                  <a:lnTo>
                    <a:pt x="1191" y="663"/>
                  </a:lnTo>
                  <a:lnTo>
                    <a:pt x="1191" y="657"/>
                  </a:lnTo>
                  <a:lnTo>
                    <a:pt x="1177" y="657"/>
                  </a:lnTo>
                  <a:lnTo>
                    <a:pt x="1177" y="650"/>
                  </a:lnTo>
                  <a:lnTo>
                    <a:pt x="1162" y="650"/>
                  </a:lnTo>
                  <a:lnTo>
                    <a:pt x="1162" y="645"/>
                  </a:lnTo>
                  <a:lnTo>
                    <a:pt x="1148" y="645"/>
                  </a:lnTo>
                  <a:lnTo>
                    <a:pt x="1148" y="638"/>
                  </a:lnTo>
                  <a:lnTo>
                    <a:pt x="1120" y="638"/>
                  </a:lnTo>
                  <a:lnTo>
                    <a:pt x="1120" y="633"/>
                  </a:lnTo>
                  <a:lnTo>
                    <a:pt x="1090" y="633"/>
                  </a:lnTo>
                  <a:lnTo>
                    <a:pt x="1090" y="627"/>
                  </a:lnTo>
                  <a:lnTo>
                    <a:pt x="1076" y="627"/>
                  </a:lnTo>
                  <a:lnTo>
                    <a:pt x="1076" y="620"/>
                  </a:lnTo>
                  <a:lnTo>
                    <a:pt x="1061" y="620"/>
                  </a:lnTo>
                  <a:lnTo>
                    <a:pt x="1061" y="615"/>
                  </a:lnTo>
                  <a:lnTo>
                    <a:pt x="1043" y="615"/>
                  </a:lnTo>
                  <a:lnTo>
                    <a:pt x="1043" y="609"/>
                  </a:lnTo>
                  <a:lnTo>
                    <a:pt x="1024" y="609"/>
                  </a:lnTo>
                  <a:lnTo>
                    <a:pt x="1024" y="603"/>
                  </a:lnTo>
                  <a:lnTo>
                    <a:pt x="1018" y="603"/>
                  </a:lnTo>
                  <a:lnTo>
                    <a:pt x="1018" y="597"/>
                  </a:lnTo>
                  <a:lnTo>
                    <a:pt x="999" y="597"/>
                  </a:lnTo>
                  <a:lnTo>
                    <a:pt x="999" y="592"/>
                  </a:lnTo>
                  <a:lnTo>
                    <a:pt x="980" y="592"/>
                  </a:lnTo>
                  <a:lnTo>
                    <a:pt x="980" y="585"/>
                  </a:lnTo>
                  <a:lnTo>
                    <a:pt x="961" y="585"/>
                  </a:lnTo>
                  <a:lnTo>
                    <a:pt x="961" y="579"/>
                  </a:lnTo>
                  <a:lnTo>
                    <a:pt x="942" y="579"/>
                  </a:lnTo>
                  <a:lnTo>
                    <a:pt x="942" y="573"/>
                  </a:lnTo>
                  <a:lnTo>
                    <a:pt x="922" y="573"/>
                  </a:lnTo>
                  <a:lnTo>
                    <a:pt x="922" y="568"/>
                  </a:lnTo>
                  <a:lnTo>
                    <a:pt x="908" y="568"/>
                  </a:lnTo>
                  <a:lnTo>
                    <a:pt x="908" y="562"/>
                  </a:lnTo>
                  <a:lnTo>
                    <a:pt x="894" y="562"/>
                  </a:lnTo>
                  <a:lnTo>
                    <a:pt x="894" y="555"/>
                  </a:lnTo>
                  <a:lnTo>
                    <a:pt x="880" y="555"/>
                  </a:lnTo>
                  <a:lnTo>
                    <a:pt x="880" y="550"/>
                  </a:lnTo>
                  <a:lnTo>
                    <a:pt x="855" y="550"/>
                  </a:lnTo>
                  <a:lnTo>
                    <a:pt x="855" y="544"/>
                  </a:lnTo>
                  <a:lnTo>
                    <a:pt x="836" y="544"/>
                  </a:lnTo>
                  <a:lnTo>
                    <a:pt x="836" y="538"/>
                  </a:lnTo>
                  <a:lnTo>
                    <a:pt x="817" y="538"/>
                  </a:lnTo>
                  <a:lnTo>
                    <a:pt x="817" y="532"/>
                  </a:lnTo>
                  <a:lnTo>
                    <a:pt x="792" y="532"/>
                  </a:lnTo>
                  <a:lnTo>
                    <a:pt x="792" y="527"/>
                  </a:lnTo>
                  <a:lnTo>
                    <a:pt x="787" y="527"/>
                  </a:lnTo>
                  <a:lnTo>
                    <a:pt x="787" y="519"/>
                  </a:lnTo>
                  <a:lnTo>
                    <a:pt x="769" y="519"/>
                  </a:lnTo>
                  <a:lnTo>
                    <a:pt x="769" y="514"/>
                  </a:lnTo>
                  <a:lnTo>
                    <a:pt x="754" y="514"/>
                  </a:lnTo>
                  <a:lnTo>
                    <a:pt x="754" y="509"/>
                  </a:lnTo>
                  <a:lnTo>
                    <a:pt x="750" y="509"/>
                  </a:lnTo>
                  <a:lnTo>
                    <a:pt x="750" y="502"/>
                  </a:lnTo>
                  <a:lnTo>
                    <a:pt x="736" y="502"/>
                  </a:lnTo>
                  <a:lnTo>
                    <a:pt x="736" y="497"/>
                  </a:lnTo>
                  <a:lnTo>
                    <a:pt x="720" y="497"/>
                  </a:lnTo>
                  <a:lnTo>
                    <a:pt x="720" y="491"/>
                  </a:lnTo>
                  <a:lnTo>
                    <a:pt x="706" y="491"/>
                  </a:lnTo>
                  <a:lnTo>
                    <a:pt x="706" y="486"/>
                  </a:lnTo>
                  <a:lnTo>
                    <a:pt x="692" y="486"/>
                  </a:lnTo>
                  <a:lnTo>
                    <a:pt x="692" y="478"/>
                  </a:lnTo>
                  <a:lnTo>
                    <a:pt x="682" y="478"/>
                  </a:lnTo>
                  <a:lnTo>
                    <a:pt x="682" y="473"/>
                  </a:lnTo>
                  <a:lnTo>
                    <a:pt x="673" y="473"/>
                  </a:lnTo>
                  <a:lnTo>
                    <a:pt x="673" y="467"/>
                  </a:lnTo>
                  <a:lnTo>
                    <a:pt x="648" y="467"/>
                  </a:lnTo>
                  <a:lnTo>
                    <a:pt x="648" y="461"/>
                  </a:lnTo>
                  <a:lnTo>
                    <a:pt x="644" y="461"/>
                  </a:lnTo>
                  <a:lnTo>
                    <a:pt x="644" y="456"/>
                  </a:lnTo>
                  <a:lnTo>
                    <a:pt x="634" y="456"/>
                  </a:lnTo>
                  <a:lnTo>
                    <a:pt x="634" y="449"/>
                  </a:lnTo>
                  <a:lnTo>
                    <a:pt x="619" y="449"/>
                  </a:lnTo>
                  <a:lnTo>
                    <a:pt x="619" y="443"/>
                  </a:lnTo>
                  <a:lnTo>
                    <a:pt x="606" y="443"/>
                  </a:lnTo>
                  <a:lnTo>
                    <a:pt x="606" y="437"/>
                  </a:lnTo>
                  <a:lnTo>
                    <a:pt x="592" y="437"/>
                  </a:lnTo>
                  <a:lnTo>
                    <a:pt x="592" y="432"/>
                  </a:lnTo>
                  <a:lnTo>
                    <a:pt x="585" y="432"/>
                  </a:lnTo>
                  <a:lnTo>
                    <a:pt x="585" y="426"/>
                  </a:lnTo>
                  <a:lnTo>
                    <a:pt x="576" y="426"/>
                  </a:lnTo>
                  <a:lnTo>
                    <a:pt x="576" y="419"/>
                  </a:lnTo>
                  <a:lnTo>
                    <a:pt x="567" y="419"/>
                  </a:lnTo>
                  <a:lnTo>
                    <a:pt x="567" y="413"/>
                  </a:lnTo>
                  <a:lnTo>
                    <a:pt x="552" y="413"/>
                  </a:lnTo>
                  <a:lnTo>
                    <a:pt x="552" y="408"/>
                  </a:lnTo>
                  <a:lnTo>
                    <a:pt x="538" y="408"/>
                  </a:lnTo>
                  <a:lnTo>
                    <a:pt x="538" y="402"/>
                  </a:lnTo>
                  <a:lnTo>
                    <a:pt x="524" y="402"/>
                  </a:lnTo>
                  <a:lnTo>
                    <a:pt x="524" y="396"/>
                  </a:lnTo>
                  <a:lnTo>
                    <a:pt x="509" y="396"/>
                  </a:lnTo>
                  <a:lnTo>
                    <a:pt x="509" y="391"/>
                  </a:lnTo>
                  <a:lnTo>
                    <a:pt x="499" y="391"/>
                  </a:lnTo>
                  <a:lnTo>
                    <a:pt x="499" y="383"/>
                  </a:lnTo>
                  <a:lnTo>
                    <a:pt x="485" y="383"/>
                  </a:lnTo>
                  <a:lnTo>
                    <a:pt x="485" y="378"/>
                  </a:lnTo>
                  <a:lnTo>
                    <a:pt x="475" y="378"/>
                  </a:lnTo>
                  <a:lnTo>
                    <a:pt x="475" y="372"/>
                  </a:lnTo>
                  <a:lnTo>
                    <a:pt x="466" y="372"/>
                  </a:lnTo>
                  <a:lnTo>
                    <a:pt x="466" y="367"/>
                  </a:lnTo>
                  <a:lnTo>
                    <a:pt x="441" y="367"/>
                  </a:lnTo>
                  <a:lnTo>
                    <a:pt x="441" y="361"/>
                  </a:lnTo>
                  <a:lnTo>
                    <a:pt x="437" y="361"/>
                  </a:lnTo>
                  <a:lnTo>
                    <a:pt x="437" y="355"/>
                  </a:lnTo>
                  <a:lnTo>
                    <a:pt x="422" y="355"/>
                  </a:lnTo>
                  <a:lnTo>
                    <a:pt x="422" y="350"/>
                  </a:lnTo>
                  <a:lnTo>
                    <a:pt x="413" y="350"/>
                  </a:lnTo>
                  <a:lnTo>
                    <a:pt x="413" y="343"/>
                  </a:lnTo>
                  <a:lnTo>
                    <a:pt x="408" y="343"/>
                  </a:lnTo>
                  <a:lnTo>
                    <a:pt x="408" y="337"/>
                  </a:lnTo>
                  <a:lnTo>
                    <a:pt x="399" y="337"/>
                  </a:lnTo>
                  <a:lnTo>
                    <a:pt x="399" y="332"/>
                  </a:lnTo>
                  <a:lnTo>
                    <a:pt x="385" y="332"/>
                  </a:lnTo>
                  <a:lnTo>
                    <a:pt x="385" y="325"/>
                  </a:lnTo>
                  <a:lnTo>
                    <a:pt x="369" y="325"/>
                  </a:lnTo>
                  <a:lnTo>
                    <a:pt x="369" y="320"/>
                  </a:lnTo>
                  <a:lnTo>
                    <a:pt x="355" y="320"/>
                  </a:lnTo>
                  <a:lnTo>
                    <a:pt x="355" y="313"/>
                  </a:lnTo>
                  <a:lnTo>
                    <a:pt x="341" y="313"/>
                  </a:lnTo>
                  <a:lnTo>
                    <a:pt x="341" y="307"/>
                  </a:lnTo>
                  <a:lnTo>
                    <a:pt x="331" y="307"/>
                  </a:lnTo>
                  <a:lnTo>
                    <a:pt x="331" y="301"/>
                  </a:lnTo>
                  <a:lnTo>
                    <a:pt x="327" y="301"/>
                  </a:lnTo>
                  <a:lnTo>
                    <a:pt x="327" y="296"/>
                  </a:lnTo>
                  <a:lnTo>
                    <a:pt x="313" y="296"/>
                  </a:lnTo>
                  <a:lnTo>
                    <a:pt x="313" y="291"/>
                  </a:lnTo>
                  <a:lnTo>
                    <a:pt x="304" y="291"/>
                  </a:lnTo>
                  <a:lnTo>
                    <a:pt x="304" y="283"/>
                  </a:lnTo>
                  <a:lnTo>
                    <a:pt x="293" y="283"/>
                  </a:lnTo>
                  <a:lnTo>
                    <a:pt x="293" y="278"/>
                  </a:lnTo>
                  <a:lnTo>
                    <a:pt x="283" y="278"/>
                  </a:lnTo>
                  <a:lnTo>
                    <a:pt x="283" y="272"/>
                  </a:lnTo>
                  <a:lnTo>
                    <a:pt x="274" y="272"/>
                  </a:lnTo>
                  <a:lnTo>
                    <a:pt x="274" y="266"/>
                  </a:lnTo>
                  <a:lnTo>
                    <a:pt x="264" y="266"/>
                  </a:lnTo>
                  <a:lnTo>
                    <a:pt x="264" y="260"/>
                  </a:lnTo>
                  <a:lnTo>
                    <a:pt x="255" y="260"/>
                  </a:lnTo>
                  <a:lnTo>
                    <a:pt x="255" y="255"/>
                  </a:lnTo>
                  <a:lnTo>
                    <a:pt x="245" y="255"/>
                  </a:lnTo>
                  <a:lnTo>
                    <a:pt x="245" y="249"/>
                  </a:lnTo>
                  <a:lnTo>
                    <a:pt x="236" y="249"/>
                  </a:lnTo>
                  <a:lnTo>
                    <a:pt x="236" y="242"/>
                  </a:lnTo>
                  <a:lnTo>
                    <a:pt x="227" y="242"/>
                  </a:lnTo>
                  <a:lnTo>
                    <a:pt x="227" y="237"/>
                  </a:lnTo>
                  <a:lnTo>
                    <a:pt x="216" y="237"/>
                  </a:lnTo>
                  <a:lnTo>
                    <a:pt x="216" y="231"/>
                  </a:lnTo>
                  <a:lnTo>
                    <a:pt x="207" y="231"/>
                  </a:lnTo>
                  <a:lnTo>
                    <a:pt x="207" y="225"/>
                  </a:lnTo>
                  <a:lnTo>
                    <a:pt x="197" y="225"/>
                  </a:lnTo>
                  <a:lnTo>
                    <a:pt x="197" y="219"/>
                  </a:lnTo>
                  <a:lnTo>
                    <a:pt x="187" y="219"/>
                  </a:lnTo>
                  <a:lnTo>
                    <a:pt x="187" y="214"/>
                  </a:lnTo>
                  <a:lnTo>
                    <a:pt x="178" y="214"/>
                  </a:lnTo>
                  <a:lnTo>
                    <a:pt x="178" y="206"/>
                  </a:lnTo>
                  <a:lnTo>
                    <a:pt x="174" y="206"/>
                  </a:lnTo>
                  <a:lnTo>
                    <a:pt x="174" y="201"/>
                  </a:lnTo>
                  <a:lnTo>
                    <a:pt x="168" y="201"/>
                  </a:lnTo>
                  <a:lnTo>
                    <a:pt x="168" y="196"/>
                  </a:lnTo>
                  <a:lnTo>
                    <a:pt x="159" y="196"/>
                  </a:lnTo>
                  <a:lnTo>
                    <a:pt x="159" y="190"/>
                  </a:lnTo>
                  <a:lnTo>
                    <a:pt x="153" y="190"/>
                  </a:lnTo>
                  <a:lnTo>
                    <a:pt x="153" y="184"/>
                  </a:lnTo>
                  <a:lnTo>
                    <a:pt x="148" y="184"/>
                  </a:lnTo>
                  <a:lnTo>
                    <a:pt x="148" y="177"/>
                  </a:lnTo>
                  <a:lnTo>
                    <a:pt x="139" y="177"/>
                  </a:lnTo>
                  <a:lnTo>
                    <a:pt x="139" y="172"/>
                  </a:lnTo>
                  <a:lnTo>
                    <a:pt x="134" y="172"/>
                  </a:lnTo>
                  <a:lnTo>
                    <a:pt x="134" y="165"/>
                  </a:lnTo>
                  <a:lnTo>
                    <a:pt x="130" y="165"/>
                  </a:lnTo>
                  <a:lnTo>
                    <a:pt x="130" y="160"/>
                  </a:lnTo>
                  <a:lnTo>
                    <a:pt x="125" y="160"/>
                  </a:lnTo>
                  <a:lnTo>
                    <a:pt x="125" y="154"/>
                  </a:lnTo>
                  <a:lnTo>
                    <a:pt x="115" y="154"/>
                  </a:lnTo>
                  <a:lnTo>
                    <a:pt x="115" y="147"/>
                  </a:lnTo>
                  <a:lnTo>
                    <a:pt x="111" y="147"/>
                  </a:lnTo>
                  <a:lnTo>
                    <a:pt x="111" y="142"/>
                  </a:lnTo>
                  <a:lnTo>
                    <a:pt x="101" y="142"/>
                  </a:lnTo>
                  <a:lnTo>
                    <a:pt x="101" y="136"/>
                  </a:lnTo>
                  <a:lnTo>
                    <a:pt x="97" y="136"/>
                  </a:lnTo>
                  <a:lnTo>
                    <a:pt x="97" y="130"/>
                  </a:lnTo>
                  <a:lnTo>
                    <a:pt x="87" y="130"/>
                  </a:lnTo>
                  <a:lnTo>
                    <a:pt x="87" y="124"/>
                  </a:lnTo>
                  <a:lnTo>
                    <a:pt x="71" y="124"/>
                  </a:lnTo>
                  <a:lnTo>
                    <a:pt x="71" y="119"/>
                  </a:lnTo>
                  <a:lnTo>
                    <a:pt x="67" y="119"/>
                  </a:lnTo>
                  <a:lnTo>
                    <a:pt x="67" y="106"/>
                  </a:lnTo>
                  <a:lnTo>
                    <a:pt x="57" y="106"/>
                  </a:lnTo>
                  <a:lnTo>
                    <a:pt x="57" y="100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48" y="95"/>
                  </a:lnTo>
                  <a:lnTo>
                    <a:pt x="48" y="89"/>
                  </a:lnTo>
                  <a:lnTo>
                    <a:pt x="43" y="89"/>
                  </a:lnTo>
                  <a:lnTo>
                    <a:pt x="43" y="83"/>
                  </a:lnTo>
                  <a:lnTo>
                    <a:pt x="34" y="83"/>
                  </a:lnTo>
                  <a:lnTo>
                    <a:pt x="34" y="78"/>
                  </a:lnTo>
                  <a:lnTo>
                    <a:pt x="29" y="78"/>
                  </a:lnTo>
                  <a:lnTo>
                    <a:pt x="29" y="71"/>
                  </a:lnTo>
                  <a:lnTo>
                    <a:pt x="24" y="71"/>
                  </a:lnTo>
                  <a:lnTo>
                    <a:pt x="24" y="65"/>
                  </a:lnTo>
                  <a:lnTo>
                    <a:pt x="15" y="65"/>
                  </a:lnTo>
                  <a:lnTo>
                    <a:pt x="15" y="59"/>
                  </a:lnTo>
                  <a:lnTo>
                    <a:pt x="10" y="59"/>
                  </a:lnTo>
                  <a:lnTo>
                    <a:pt x="10" y="54"/>
                  </a:lnTo>
                  <a:lnTo>
                    <a:pt x="5" y="54"/>
                  </a:lnTo>
                  <a:lnTo>
                    <a:pt x="5" y="46"/>
                  </a:lnTo>
                  <a:lnTo>
                    <a:pt x="0" y="4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98640" y="3610080"/>
              <a:ext cx="2880" cy="2160"/>
            </a:xfrm>
            <a:prstGeom prst="rect">
              <a:avLst/>
            </a:pr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06560" y="2880720"/>
              <a:ext cx="346320" cy="1153440"/>
            </a:xfrm>
            <a:custGeom>
              <a:avLst/>
              <a:gdLst/>
              <a:ahLst/>
              <a:rect l="l" t="t" r="r" b="b"/>
              <a:pathLst>
                <a:path w="1331" h="5916">
                  <a:moveTo>
                    <a:pt x="5" y="3292"/>
                  </a:moveTo>
                  <a:lnTo>
                    <a:pt x="9" y="3292"/>
                  </a:lnTo>
                  <a:lnTo>
                    <a:pt x="9" y="3180"/>
                  </a:lnTo>
                  <a:lnTo>
                    <a:pt x="14" y="3180"/>
                  </a:lnTo>
                  <a:lnTo>
                    <a:pt x="14" y="3126"/>
                  </a:lnTo>
                  <a:lnTo>
                    <a:pt x="19" y="3126"/>
                  </a:lnTo>
                  <a:lnTo>
                    <a:pt x="19" y="2843"/>
                  </a:lnTo>
                  <a:lnTo>
                    <a:pt x="14" y="2843"/>
                  </a:lnTo>
                  <a:lnTo>
                    <a:pt x="14" y="2795"/>
                  </a:lnTo>
                  <a:lnTo>
                    <a:pt x="19" y="2795"/>
                  </a:lnTo>
                  <a:lnTo>
                    <a:pt x="19" y="2642"/>
                  </a:lnTo>
                  <a:lnTo>
                    <a:pt x="23" y="2642"/>
                  </a:lnTo>
                  <a:lnTo>
                    <a:pt x="23" y="2624"/>
                  </a:lnTo>
                  <a:lnTo>
                    <a:pt x="19" y="2624"/>
                  </a:lnTo>
                  <a:lnTo>
                    <a:pt x="19" y="2583"/>
                  </a:lnTo>
                  <a:lnTo>
                    <a:pt x="23" y="2583"/>
                  </a:lnTo>
                  <a:lnTo>
                    <a:pt x="23" y="2536"/>
                  </a:lnTo>
                  <a:lnTo>
                    <a:pt x="30" y="2536"/>
                  </a:lnTo>
                  <a:lnTo>
                    <a:pt x="30" y="2506"/>
                  </a:lnTo>
                  <a:lnTo>
                    <a:pt x="23" y="2506"/>
                  </a:lnTo>
                  <a:lnTo>
                    <a:pt x="23" y="2324"/>
                  </a:lnTo>
                  <a:lnTo>
                    <a:pt x="30" y="2324"/>
                  </a:lnTo>
                  <a:lnTo>
                    <a:pt x="30" y="2283"/>
                  </a:lnTo>
                  <a:lnTo>
                    <a:pt x="23" y="2283"/>
                  </a:lnTo>
                  <a:lnTo>
                    <a:pt x="23" y="2246"/>
                  </a:lnTo>
                  <a:lnTo>
                    <a:pt x="30" y="2246"/>
                  </a:lnTo>
                  <a:lnTo>
                    <a:pt x="30" y="1944"/>
                  </a:lnTo>
                  <a:lnTo>
                    <a:pt x="23" y="1944"/>
                  </a:lnTo>
                  <a:lnTo>
                    <a:pt x="23" y="1916"/>
                  </a:lnTo>
                  <a:lnTo>
                    <a:pt x="30" y="1916"/>
                  </a:lnTo>
                  <a:lnTo>
                    <a:pt x="30" y="1856"/>
                  </a:lnTo>
                  <a:lnTo>
                    <a:pt x="23" y="1856"/>
                  </a:lnTo>
                  <a:lnTo>
                    <a:pt x="23" y="1802"/>
                  </a:lnTo>
                  <a:lnTo>
                    <a:pt x="30" y="1802"/>
                  </a:lnTo>
                  <a:lnTo>
                    <a:pt x="30" y="1778"/>
                  </a:lnTo>
                  <a:lnTo>
                    <a:pt x="23" y="1778"/>
                  </a:lnTo>
                  <a:lnTo>
                    <a:pt x="23" y="1767"/>
                  </a:lnTo>
                  <a:lnTo>
                    <a:pt x="30" y="1767"/>
                  </a:lnTo>
                  <a:lnTo>
                    <a:pt x="30" y="1691"/>
                  </a:lnTo>
                  <a:lnTo>
                    <a:pt x="34" y="1691"/>
                  </a:lnTo>
                  <a:lnTo>
                    <a:pt x="34" y="1631"/>
                  </a:lnTo>
                  <a:lnTo>
                    <a:pt x="39" y="1631"/>
                  </a:lnTo>
                  <a:lnTo>
                    <a:pt x="39" y="1548"/>
                  </a:lnTo>
                  <a:lnTo>
                    <a:pt x="44" y="1548"/>
                  </a:lnTo>
                  <a:lnTo>
                    <a:pt x="44" y="1471"/>
                  </a:lnTo>
                  <a:lnTo>
                    <a:pt x="49" y="1471"/>
                  </a:lnTo>
                  <a:lnTo>
                    <a:pt x="49" y="1430"/>
                  </a:lnTo>
                  <a:lnTo>
                    <a:pt x="53" y="1430"/>
                  </a:lnTo>
                  <a:lnTo>
                    <a:pt x="53" y="1389"/>
                  </a:lnTo>
                  <a:lnTo>
                    <a:pt x="57" y="1389"/>
                  </a:lnTo>
                  <a:lnTo>
                    <a:pt x="57" y="1307"/>
                  </a:lnTo>
                  <a:lnTo>
                    <a:pt x="63" y="1307"/>
                  </a:lnTo>
                  <a:lnTo>
                    <a:pt x="63" y="1264"/>
                  </a:lnTo>
                  <a:lnTo>
                    <a:pt x="67" y="1264"/>
                  </a:lnTo>
                  <a:lnTo>
                    <a:pt x="67" y="1158"/>
                  </a:lnTo>
                  <a:lnTo>
                    <a:pt x="72" y="1158"/>
                  </a:lnTo>
                  <a:lnTo>
                    <a:pt x="72" y="1106"/>
                  </a:lnTo>
                  <a:lnTo>
                    <a:pt x="77" y="1106"/>
                  </a:lnTo>
                  <a:lnTo>
                    <a:pt x="77" y="1029"/>
                  </a:lnTo>
                  <a:lnTo>
                    <a:pt x="82" y="1029"/>
                  </a:lnTo>
                  <a:lnTo>
                    <a:pt x="82" y="999"/>
                  </a:lnTo>
                  <a:lnTo>
                    <a:pt x="77" y="999"/>
                  </a:lnTo>
                  <a:lnTo>
                    <a:pt x="77" y="987"/>
                  </a:lnTo>
                  <a:lnTo>
                    <a:pt x="82" y="987"/>
                  </a:lnTo>
                  <a:lnTo>
                    <a:pt x="82" y="864"/>
                  </a:lnTo>
                  <a:lnTo>
                    <a:pt x="91" y="864"/>
                  </a:lnTo>
                  <a:lnTo>
                    <a:pt x="91" y="856"/>
                  </a:lnTo>
                  <a:lnTo>
                    <a:pt x="96" y="856"/>
                  </a:lnTo>
                  <a:lnTo>
                    <a:pt x="96" y="851"/>
                  </a:lnTo>
                  <a:lnTo>
                    <a:pt x="101" y="851"/>
                  </a:lnTo>
                  <a:lnTo>
                    <a:pt x="101" y="845"/>
                  </a:lnTo>
                  <a:lnTo>
                    <a:pt x="111" y="845"/>
                  </a:lnTo>
                  <a:lnTo>
                    <a:pt x="111" y="834"/>
                  </a:lnTo>
                  <a:lnTo>
                    <a:pt x="116" y="834"/>
                  </a:lnTo>
                  <a:lnTo>
                    <a:pt x="116" y="828"/>
                  </a:lnTo>
                  <a:lnTo>
                    <a:pt x="126" y="828"/>
                  </a:lnTo>
                  <a:lnTo>
                    <a:pt x="126" y="821"/>
                  </a:lnTo>
                  <a:lnTo>
                    <a:pt x="130" y="821"/>
                  </a:lnTo>
                  <a:lnTo>
                    <a:pt x="130" y="815"/>
                  </a:lnTo>
                  <a:lnTo>
                    <a:pt x="134" y="815"/>
                  </a:lnTo>
                  <a:lnTo>
                    <a:pt x="134" y="810"/>
                  </a:lnTo>
                  <a:lnTo>
                    <a:pt x="140" y="810"/>
                  </a:lnTo>
                  <a:lnTo>
                    <a:pt x="140" y="804"/>
                  </a:lnTo>
                  <a:lnTo>
                    <a:pt x="144" y="804"/>
                  </a:lnTo>
                  <a:lnTo>
                    <a:pt x="144" y="791"/>
                  </a:lnTo>
                  <a:lnTo>
                    <a:pt x="153" y="791"/>
                  </a:lnTo>
                  <a:lnTo>
                    <a:pt x="153" y="786"/>
                  </a:lnTo>
                  <a:lnTo>
                    <a:pt x="158" y="786"/>
                  </a:lnTo>
                  <a:lnTo>
                    <a:pt x="158" y="780"/>
                  </a:lnTo>
                  <a:lnTo>
                    <a:pt x="163" y="780"/>
                  </a:lnTo>
                  <a:lnTo>
                    <a:pt x="163" y="774"/>
                  </a:lnTo>
                  <a:lnTo>
                    <a:pt x="167" y="774"/>
                  </a:lnTo>
                  <a:lnTo>
                    <a:pt x="167" y="769"/>
                  </a:lnTo>
                  <a:lnTo>
                    <a:pt x="178" y="769"/>
                  </a:lnTo>
                  <a:lnTo>
                    <a:pt x="178" y="761"/>
                  </a:lnTo>
                  <a:lnTo>
                    <a:pt x="183" y="761"/>
                  </a:lnTo>
                  <a:lnTo>
                    <a:pt x="183" y="750"/>
                  </a:lnTo>
                  <a:lnTo>
                    <a:pt x="188" y="750"/>
                  </a:lnTo>
                  <a:lnTo>
                    <a:pt x="188" y="745"/>
                  </a:lnTo>
                  <a:lnTo>
                    <a:pt x="202" y="745"/>
                  </a:lnTo>
                  <a:lnTo>
                    <a:pt x="202" y="738"/>
                  </a:lnTo>
                  <a:lnTo>
                    <a:pt x="207" y="738"/>
                  </a:lnTo>
                  <a:lnTo>
                    <a:pt x="207" y="733"/>
                  </a:lnTo>
                  <a:lnTo>
                    <a:pt x="211" y="733"/>
                  </a:lnTo>
                  <a:lnTo>
                    <a:pt x="211" y="728"/>
                  </a:lnTo>
                  <a:lnTo>
                    <a:pt x="216" y="728"/>
                  </a:lnTo>
                  <a:lnTo>
                    <a:pt x="216" y="720"/>
                  </a:lnTo>
                  <a:lnTo>
                    <a:pt x="225" y="720"/>
                  </a:lnTo>
                  <a:lnTo>
                    <a:pt x="225" y="715"/>
                  </a:lnTo>
                  <a:lnTo>
                    <a:pt x="235" y="715"/>
                  </a:lnTo>
                  <a:lnTo>
                    <a:pt x="235" y="709"/>
                  </a:lnTo>
                  <a:lnTo>
                    <a:pt x="240" y="709"/>
                  </a:lnTo>
                  <a:lnTo>
                    <a:pt x="240" y="703"/>
                  </a:lnTo>
                  <a:lnTo>
                    <a:pt x="245" y="703"/>
                  </a:lnTo>
                  <a:lnTo>
                    <a:pt x="245" y="697"/>
                  </a:lnTo>
                  <a:lnTo>
                    <a:pt x="260" y="697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4" y="687"/>
                  </a:lnTo>
                  <a:lnTo>
                    <a:pt x="274" y="687"/>
                  </a:lnTo>
                  <a:lnTo>
                    <a:pt x="274" y="679"/>
                  </a:lnTo>
                  <a:lnTo>
                    <a:pt x="284" y="679"/>
                  </a:lnTo>
                  <a:lnTo>
                    <a:pt x="284" y="674"/>
                  </a:lnTo>
                  <a:lnTo>
                    <a:pt x="288" y="674"/>
                  </a:lnTo>
                  <a:lnTo>
                    <a:pt x="288" y="668"/>
                  </a:lnTo>
                  <a:lnTo>
                    <a:pt x="297" y="668"/>
                  </a:lnTo>
                  <a:lnTo>
                    <a:pt x="297" y="662"/>
                  </a:lnTo>
                  <a:lnTo>
                    <a:pt x="303" y="662"/>
                  </a:lnTo>
                  <a:lnTo>
                    <a:pt x="303" y="657"/>
                  </a:lnTo>
                  <a:lnTo>
                    <a:pt x="307" y="657"/>
                  </a:lnTo>
                  <a:lnTo>
                    <a:pt x="307" y="650"/>
                  </a:lnTo>
                  <a:lnTo>
                    <a:pt x="318" y="650"/>
                  </a:lnTo>
                  <a:lnTo>
                    <a:pt x="318" y="644"/>
                  </a:lnTo>
                  <a:lnTo>
                    <a:pt x="322" y="644"/>
                  </a:lnTo>
                  <a:lnTo>
                    <a:pt x="322" y="638"/>
                  </a:lnTo>
                  <a:lnTo>
                    <a:pt x="332" y="638"/>
                  </a:lnTo>
                  <a:lnTo>
                    <a:pt x="332" y="633"/>
                  </a:lnTo>
                  <a:lnTo>
                    <a:pt x="341" y="633"/>
                  </a:lnTo>
                  <a:lnTo>
                    <a:pt x="341" y="627"/>
                  </a:lnTo>
                  <a:lnTo>
                    <a:pt x="346" y="627"/>
                  </a:lnTo>
                  <a:lnTo>
                    <a:pt x="346" y="620"/>
                  </a:lnTo>
                  <a:lnTo>
                    <a:pt x="351" y="620"/>
                  </a:lnTo>
                  <a:lnTo>
                    <a:pt x="351" y="615"/>
                  </a:lnTo>
                  <a:lnTo>
                    <a:pt x="360" y="615"/>
                  </a:lnTo>
                  <a:lnTo>
                    <a:pt x="360" y="603"/>
                  </a:lnTo>
                  <a:lnTo>
                    <a:pt x="370" y="603"/>
                  </a:lnTo>
                  <a:lnTo>
                    <a:pt x="370" y="597"/>
                  </a:lnTo>
                  <a:lnTo>
                    <a:pt x="380" y="597"/>
                  </a:lnTo>
                  <a:lnTo>
                    <a:pt x="380" y="592"/>
                  </a:lnTo>
                  <a:lnTo>
                    <a:pt x="384" y="592"/>
                  </a:lnTo>
                  <a:lnTo>
                    <a:pt x="384" y="584"/>
                  </a:lnTo>
                  <a:lnTo>
                    <a:pt x="394" y="584"/>
                  </a:lnTo>
                  <a:lnTo>
                    <a:pt x="394" y="579"/>
                  </a:lnTo>
                  <a:lnTo>
                    <a:pt x="399" y="579"/>
                  </a:lnTo>
                  <a:lnTo>
                    <a:pt x="399" y="574"/>
                  </a:lnTo>
                  <a:lnTo>
                    <a:pt x="408" y="574"/>
                  </a:lnTo>
                  <a:lnTo>
                    <a:pt x="408" y="568"/>
                  </a:lnTo>
                  <a:lnTo>
                    <a:pt x="418" y="568"/>
                  </a:lnTo>
                  <a:lnTo>
                    <a:pt x="418" y="562"/>
                  </a:lnTo>
                  <a:lnTo>
                    <a:pt x="428" y="562"/>
                  </a:lnTo>
                  <a:lnTo>
                    <a:pt x="428" y="556"/>
                  </a:lnTo>
                  <a:lnTo>
                    <a:pt x="437" y="556"/>
                  </a:lnTo>
                  <a:lnTo>
                    <a:pt x="437" y="551"/>
                  </a:lnTo>
                  <a:lnTo>
                    <a:pt x="442" y="551"/>
                  </a:lnTo>
                  <a:lnTo>
                    <a:pt x="442" y="543"/>
                  </a:lnTo>
                  <a:lnTo>
                    <a:pt x="451" y="543"/>
                  </a:lnTo>
                  <a:lnTo>
                    <a:pt x="451" y="538"/>
                  </a:lnTo>
                  <a:lnTo>
                    <a:pt x="462" y="538"/>
                  </a:lnTo>
                  <a:lnTo>
                    <a:pt x="462" y="532"/>
                  </a:lnTo>
                  <a:lnTo>
                    <a:pt x="471" y="532"/>
                  </a:lnTo>
                  <a:lnTo>
                    <a:pt x="471" y="526"/>
                  </a:lnTo>
                  <a:lnTo>
                    <a:pt x="476" y="526"/>
                  </a:lnTo>
                  <a:lnTo>
                    <a:pt x="476" y="521"/>
                  </a:lnTo>
                  <a:lnTo>
                    <a:pt x="481" y="521"/>
                  </a:lnTo>
                  <a:lnTo>
                    <a:pt x="481" y="514"/>
                  </a:lnTo>
                  <a:lnTo>
                    <a:pt x="490" y="514"/>
                  </a:lnTo>
                  <a:lnTo>
                    <a:pt x="490" y="508"/>
                  </a:lnTo>
                  <a:lnTo>
                    <a:pt x="495" y="508"/>
                  </a:lnTo>
                  <a:lnTo>
                    <a:pt x="495" y="502"/>
                  </a:lnTo>
                  <a:lnTo>
                    <a:pt x="499" y="502"/>
                  </a:lnTo>
                  <a:lnTo>
                    <a:pt x="499" y="497"/>
                  </a:lnTo>
                  <a:lnTo>
                    <a:pt x="509" y="497"/>
                  </a:lnTo>
                  <a:lnTo>
                    <a:pt x="509" y="491"/>
                  </a:lnTo>
                  <a:lnTo>
                    <a:pt x="514" y="491"/>
                  </a:lnTo>
                  <a:lnTo>
                    <a:pt x="514" y="484"/>
                  </a:lnTo>
                  <a:lnTo>
                    <a:pt x="518" y="484"/>
                  </a:lnTo>
                  <a:lnTo>
                    <a:pt x="518" y="478"/>
                  </a:lnTo>
                  <a:lnTo>
                    <a:pt x="524" y="478"/>
                  </a:lnTo>
                  <a:lnTo>
                    <a:pt x="524" y="473"/>
                  </a:lnTo>
                  <a:lnTo>
                    <a:pt x="532" y="473"/>
                  </a:lnTo>
                  <a:lnTo>
                    <a:pt x="532" y="467"/>
                  </a:lnTo>
                  <a:lnTo>
                    <a:pt x="538" y="467"/>
                  </a:lnTo>
                  <a:lnTo>
                    <a:pt x="538" y="461"/>
                  </a:lnTo>
                  <a:lnTo>
                    <a:pt x="548" y="461"/>
                  </a:lnTo>
                  <a:lnTo>
                    <a:pt x="548" y="456"/>
                  </a:lnTo>
                  <a:lnTo>
                    <a:pt x="552" y="456"/>
                  </a:lnTo>
                  <a:lnTo>
                    <a:pt x="552" y="450"/>
                  </a:lnTo>
                  <a:lnTo>
                    <a:pt x="562" y="450"/>
                  </a:lnTo>
                  <a:lnTo>
                    <a:pt x="562" y="443"/>
                  </a:lnTo>
                  <a:lnTo>
                    <a:pt x="572" y="443"/>
                  </a:lnTo>
                  <a:lnTo>
                    <a:pt x="572" y="437"/>
                  </a:lnTo>
                  <a:lnTo>
                    <a:pt x="576" y="437"/>
                  </a:lnTo>
                  <a:lnTo>
                    <a:pt x="576" y="432"/>
                  </a:lnTo>
                  <a:lnTo>
                    <a:pt x="581" y="432"/>
                  </a:lnTo>
                  <a:lnTo>
                    <a:pt x="581" y="425"/>
                  </a:lnTo>
                  <a:lnTo>
                    <a:pt x="591" y="425"/>
                  </a:lnTo>
                  <a:lnTo>
                    <a:pt x="591" y="420"/>
                  </a:lnTo>
                  <a:lnTo>
                    <a:pt x="595" y="420"/>
                  </a:lnTo>
                  <a:lnTo>
                    <a:pt x="595" y="415"/>
                  </a:lnTo>
                  <a:lnTo>
                    <a:pt x="600" y="415"/>
                  </a:lnTo>
                  <a:lnTo>
                    <a:pt x="600" y="407"/>
                  </a:lnTo>
                  <a:lnTo>
                    <a:pt x="605" y="407"/>
                  </a:lnTo>
                  <a:lnTo>
                    <a:pt x="605" y="402"/>
                  </a:lnTo>
                  <a:lnTo>
                    <a:pt x="610" y="402"/>
                  </a:lnTo>
                  <a:lnTo>
                    <a:pt x="610" y="396"/>
                  </a:lnTo>
                  <a:lnTo>
                    <a:pt x="620" y="396"/>
                  </a:lnTo>
                  <a:lnTo>
                    <a:pt x="620" y="391"/>
                  </a:lnTo>
                  <a:lnTo>
                    <a:pt x="625" y="391"/>
                  </a:lnTo>
                  <a:lnTo>
                    <a:pt x="625" y="383"/>
                  </a:lnTo>
                  <a:lnTo>
                    <a:pt x="629" y="383"/>
                  </a:lnTo>
                  <a:lnTo>
                    <a:pt x="629" y="378"/>
                  </a:lnTo>
                  <a:lnTo>
                    <a:pt x="639" y="378"/>
                  </a:lnTo>
                  <a:lnTo>
                    <a:pt x="639" y="372"/>
                  </a:lnTo>
                  <a:lnTo>
                    <a:pt x="644" y="372"/>
                  </a:lnTo>
                  <a:lnTo>
                    <a:pt x="644" y="366"/>
                  </a:lnTo>
                  <a:lnTo>
                    <a:pt x="653" y="366"/>
                  </a:lnTo>
                  <a:lnTo>
                    <a:pt x="653" y="361"/>
                  </a:lnTo>
                  <a:lnTo>
                    <a:pt x="658" y="361"/>
                  </a:lnTo>
                  <a:lnTo>
                    <a:pt x="658" y="348"/>
                  </a:lnTo>
                  <a:lnTo>
                    <a:pt x="668" y="348"/>
                  </a:lnTo>
                  <a:lnTo>
                    <a:pt x="668" y="342"/>
                  </a:lnTo>
                  <a:lnTo>
                    <a:pt x="677" y="342"/>
                  </a:lnTo>
                  <a:lnTo>
                    <a:pt x="677" y="337"/>
                  </a:lnTo>
                  <a:lnTo>
                    <a:pt x="682" y="337"/>
                  </a:lnTo>
                  <a:lnTo>
                    <a:pt x="682" y="331"/>
                  </a:lnTo>
                  <a:lnTo>
                    <a:pt x="688" y="331"/>
                  </a:lnTo>
                  <a:lnTo>
                    <a:pt x="688" y="325"/>
                  </a:lnTo>
                  <a:lnTo>
                    <a:pt x="696" y="325"/>
                  </a:lnTo>
                  <a:lnTo>
                    <a:pt x="696" y="320"/>
                  </a:lnTo>
                  <a:lnTo>
                    <a:pt x="706" y="320"/>
                  </a:lnTo>
                  <a:lnTo>
                    <a:pt x="706" y="313"/>
                  </a:lnTo>
                  <a:lnTo>
                    <a:pt x="716" y="313"/>
                  </a:lnTo>
                  <a:lnTo>
                    <a:pt x="716" y="307"/>
                  </a:lnTo>
                  <a:lnTo>
                    <a:pt x="721" y="307"/>
                  </a:lnTo>
                  <a:lnTo>
                    <a:pt x="721" y="301"/>
                  </a:lnTo>
                  <a:lnTo>
                    <a:pt x="725" y="301"/>
                  </a:lnTo>
                  <a:lnTo>
                    <a:pt x="725" y="296"/>
                  </a:lnTo>
                  <a:lnTo>
                    <a:pt x="730" y="296"/>
                  </a:lnTo>
                  <a:lnTo>
                    <a:pt x="730" y="289"/>
                  </a:lnTo>
                  <a:lnTo>
                    <a:pt x="735" y="289"/>
                  </a:lnTo>
                  <a:lnTo>
                    <a:pt x="735" y="284"/>
                  </a:lnTo>
                  <a:lnTo>
                    <a:pt x="744" y="284"/>
                  </a:lnTo>
                  <a:lnTo>
                    <a:pt x="744" y="277"/>
                  </a:lnTo>
                  <a:lnTo>
                    <a:pt x="749" y="277"/>
                  </a:lnTo>
                  <a:lnTo>
                    <a:pt x="749" y="272"/>
                  </a:lnTo>
                  <a:lnTo>
                    <a:pt x="759" y="272"/>
                  </a:lnTo>
                  <a:lnTo>
                    <a:pt x="759" y="266"/>
                  </a:lnTo>
                  <a:lnTo>
                    <a:pt x="765" y="266"/>
                  </a:lnTo>
                  <a:lnTo>
                    <a:pt x="765" y="260"/>
                  </a:lnTo>
                  <a:lnTo>
                    <a:pt x="774" y="260"/>
                  </a:lnTo>
                  <a:lnTo>
                    <a:pt x="774" y="255"/>
                  </a:lnTo>
                  <a:lnTo>
                    <a:pt x="778" y="255"/>
                  </a:lnTo>
                  <a:lnTo>
                    <a:pt x="778" y="247"/>
                  </a:lnTo>
                  <a:lnTo>
                    <a:pt x="792" y="247"/>
                  </a:lnTo>
                  <a:lnTo>
                    <a:pt x="792" y="242"/>
                  </a:lnTo>
                  <a:lnTo>
                    <a:pt x="798" y="242"/>
                  </a:lnTo>
                  <a:lnTo>
                    <a:pt x="798" y="237"/>
                  </a:lnTo>
                  <a:lnTo>
                    <a:pt x="807" y="237"/>
                  </a:lnTo>
                  <a:lnTo>
                    <a:pt x="807" y="230"/>
                  </a:lnTo>
                  <a:lnTo>
                    <a:pt x="812" y="230"/>
                  </a:lnTo>
                  <a:lnTo>
                    <a:pt x="812" y="225"/>
                  </a:lnTo>
                  <a:lnTo>
                    <a:pt x="821" y="225"/>
                  </a:lnTo>
                  <a:lnTo>
                    <a:pt x="821" y="219"/>
                  </a:lnTo>
                  <a:lnTo>
                    <a:pt x="826" y="219"/>
                  </a:lnTo>
                  <a:lnTo>
                    <a:pt x="826" y="214"/>
                  </a:lnTo>
                  <a:lnTo>
                    <a:pt x="836" y="214"/>
                  </a:lnTo>
                  <a:lnTo>
                    <a:pt x="836" y="207"/>
                  </a:lnTo>
                  <a:lnTo>
                    <a:pt x="846" y="207"/>
                  </a:lnTo>
                  <a:lnTo>
                    <a:pt x="846" y="201"/>
                  </a:lnTo>
                  <a:lnTo>
                    <a:pt x="860" y="201"/>
                  </a:lnTo>
                  <a:lnTo>
                    <a:pt x="860" y="196"/>
                  </a:lnTo>
                  <a:lnTo>
                    <a:pt x="869" y="196"/>
                  </a:lnTo>
                  <a:lnTo>
                    <a:pt x="869" y="189"/>
                  </a:lnTo>
                  <a:lnTo>
                    <a:pt x="874" y="189"/>
                  </a:lnTo>
                  <a:lnTo>
                    <a:pt x="874" y="184"/>
                  </a:lnTo>
                  <a:lnTo>
                    <a:pt x="883" y="184"/>
                  </a:lnTo>
                  <a:lnTo>
                    <a:pt x="883" y="177"/>
                  </a:lnTo>
                  <a:lnTo>
                    <a:pt x="888" y="177"/>
                  </a:lnTo>
                  <a:lnTo>
                    <a:pt x="888" y="171"/>
                  </a:lnTo>
                  <a:lnTo>
                    <a:pt x="899" y="171"/>
                  </a:lnTo>
                  <a:lnTo>
                    <a:pt x="899" y="165"/>
                  </a:lnTo>
                  <a:lnTo>
                    <a:pt x="908" y="165"/>
                  </a:lnTo>
                  <a:lnTo>
                    <a:pt x="908" y="160"/>
                  </a:lnTo>
                  <a:lnTo>
                    <a:pt x="917" y="160"/>
                  </a:lnTo>
                  <a:lnTo>
                    <a:pt x="917" y="154"/>
                  </a:lnTo>
                  <a:lnTo>
                    <a:pt x="932" y="154"/>
                  </a:lnTo>
                  <a:lnTo>
                    <a:pt x="932" y="148"/>
                  </a:lnTo>
                  <a:lnTo>
                    <a:pt x="936" y="148"/>
                  </a:lnTo>
                  <a:lnTo>
                    <a:pt x="936" y="143"/>
                  </a:lnTo>
                  <a:lnTo>
                    <a:pt x="946" y="143"/>
                  </a:lnTo>
                  <a:lnTo>
                    <a:pt x="946" y="136"/>
                  </a:lnTo>
                  <a:lnTo>
                    <a:pt x="950" y="136"/>
                  </a:lnTo>
                  <a:lnTo>
                    <a:pt x="950" y="130"/>
                  </a:lnTo>
                  <a:lnTo>
                    <a:pt x="965" y="130"/>
                  </a:lnTo>
                  <a:lnTo>
                    <a:pt x="965" y="124"/>
                  </a:lnTo>
                  <a:lnTo>
                    <a:pt x="976" y="124"/>
                  </a:lnTo>
                  <a:lnTo>
                    <a:pt x="976" y="119"/>
                  </a:lnTo>
                  <a:lnTo>
                    <a:pt x="985" y="119"/>
                  </a:lnTo>
                  <a:lnTo>
                    <a:pt x="985" y="111"/>
                  </a:lnTo>
                  <a:lnTo>
                    <a:pt x="994" y="111"/>
                  </a:lnTo>
                  <a:lnTo>
                    <a:pt x="994" y="106"/>
                  </a:lnTo>
                  <a:lnTo>
                    <a:pt x="1004" y="106"/>
                  </a:lnTo>
                  <a:lnTo>
                    <a:pt x="1004" y="101"/>
                  </a:lnTo>
                  <a:lnTo>
                    <a:pt x="1009" y="101"/>
                  </a:lnTo>
                  <a:lnTo>
                    <a:pt x="1009" y="95"/>
                  </a:lnTo>
                  <a:lnTo>
                    <a:pt x="1028" y="95"/>
                  </a:lnTo>
                  <a:lnTo>
                    <a:pt x="1028" y="89"/>
                  </a:lnTo>
                  <a:lnTo>
                    <a:pt x="1043" y="89"/>
                  </a:lnTo>
                  <a:lnTo>
                    <a:pt x="1043" y="83"/>
                  </a:lnTo>
                  <a:lnTo>
                    <a:pt x="1053" y="83"/>
                  </a:lnTo>
                  <a:lnTo>
                    <a:pt x="1053" y="78"/>
                  </a:lnTo>
                  <a:lnTo>
                    <a:pt x="1062" y="78"/>
                  </a:lnTo>
                  <a:lnTo>
                    <a:pt x="1062" y="70"/>
                  </a:lnTo>
                  <a:lnTo>
                    <a:pt x="1066" y="70"/>
                  </a:lnTo>
                  <a:lnTo>
                    <a:pt x="1066" y="65"/>
                  </a:lnTo>
                  <a:lnTo>
                    <a:pt x="1080" y="65"/>
                  </a:lnTo>
                  <a:lnTo>
                    <a:pt x="1080" y="59"/>
                  </a:lnTo>
                  <a:lnTo>
                    <a:pt x="1090" y="59"/>
                  </a:lnTo>
                  <a:lnTo>
                    <a:pt x="1090" y="53"/>
                  </a:lnTo>
                  <a:lnTo>
                    <a:pt x="1100" y="53"/>
                  </a:lnTo>
                  <a:lnTo>
                    <a:pt x="1100" y="48"/>
                  </a:lnTo>
                  <a:lnTo>
                    <a:pt x="1115" y="48"/>
                  </a:lnTo>
                  <a:lnTo>
                    <a:pt x="1115" y="41"/>
                  </a:lnTo>
                  <a:lnTo>
                    <a:pt x="1129" y="41"/>
                  </a:lnTo>
                  <a:lnTo>
                    <a:pt x="1129" y="35"/>
                  </a:lnTo>
                  <a:lnTo>
                    <a:pt x="1143" y="35"/>
                  </a:lnTo>
                  <a:lnTo>
                    <a:pt x="1143" y="29"/>
                  </a:lnTo>
                  <a:lnTo>
                    <a:pt x="1157" y="29"/>
                  </a:lnTo>
                  <a:lnTo>
                    <a:pt x="1157" y="24"/>
                  </a:lnTo>
                  <a:lnTo>
                    <a:pt x="1187" y="24"/>
                  </a:lnTo>
                  <a:lnTo>
                    <a:pt x="1187" y="18"/>
                  </a:lnTo>
                  <a:lnTo>
                    <a:pt x="1220" y="18"/>
                  </a:lnTo>
                  <a:lnTo>
                    <a:pt x="1220" y="12"/>
                  </a:lnTo>
                  <a:lnTo>
                    <a:pt x="1234" y="12"/>
                  </a:lnTo>
                  <a:lnTo>
                    <a:pt x="1234" y="5"/>
                  </a:lnTo>
                  <a:lnTo>
                    <a:pt x="1259" y="5"/>
                  </a:lnTo>
                  <a:lnTo>
                    <a:pt x="1259" y="0"/>
                  </a:lnTo>
                  <a:lnTo>
                    <a:pt x="1320" y="0"/>
                  </a:lnTo>
                  <a:lnTo>
                    <a:pt x="1320" y="5"/>
                  </a:lnTo>
                  <a:lnTo>
                    <a:pt x="1326" y="5"/>
                  </a:lnTo>
                  <a:lnTo>
                    <a:pt x="1326" y="12"/>
                  </a:lnTo>
                  <a:lnTo>
                    <a:pt x="1331" y="12"/>
                  </a:lnTo>
                  <a:lnTo>
                    <a:pt x="1331" y="53"/>
                  </a:lnTo>
                  <a:lnTo>
                    <a:pt x="1320" y="53"/>
                  </a:lnTo>
                  <a:lnTo>
                    <a:pt x="1320" y="59"/>
                  </a:lnTo>
                  <a:lnTo>
                    <a:pt x="1278" y="59"/>
                  </a:lnTo>
                  <a:lnTo>
                    <a:pt x="1278" y="65"/>
                  </a:lnTo>
                  <a:lnTo>
                    <a:pt x="1239" y="65"/>
                  </a:lnTo>
                  <a:lnTo>
                    <a:pt x="1239" y="70"/>
                  </a:lnTo>
                  <a:lnTo>
                    <a:pt x="1220" y="70"/>
                  </a:lnTo>
                  <a:lnTo>
                    <a:pt x="1220" y="78"/>
                  </a:lnTo>
                  <a:lnTo>
                    <a:pt x="1187" y="78"/>
                  </a:lnTo>
                  <a:lnTo>
                    <a:pt x="1187" y="83"/>
                  </a:lnTo>
                  <a:lnTo>
                    <a:pt x="1167" y="83"/>
                  </a:lnTo>
                  <a:lnTo>
                    <a:pt x="1167" y="89"/>
                  </a:lnTo>
                  <a:lnTo>
                    <a:pt x="1143" y="89"/>
                  </a:lnTo>
                  <a:lnTo>
                    <a:pt x="1143" y="95"/>
                  </a:lnTo>
                  <a:lnTo>
                    <a:pt x="1134" y="95"/>
                  </a:lnTo>
                  <a:lnTo>
                    <a:pt x="1134" y="101"/>
                  </a:lnTo>
                  <a:lnTo>
                    <a:pt x="1124" y="101"/>
                  </a:lnTo>
                  <a:lnTo>
                    <a:pt x="1124" y="106"/>
                  </a:lnTo>
                  <a:lnTo>
                    <a:pt x="1115" y="106"/>
                  </a:lnTo>
                  <a:lnTo>
                    <a:pt x="1115" y="111"/>
                  </a:lnTo>
                  <a:lnTo>
                    <a:pt x="1100" y="111"/>
                  </a:lnTo>
                  <a:lnTo>
                    <a:pt x="1100" y="119"/>
                  </a:lnTo>
                  <a:lnTo>
                    <a:pt x="1086" y="119"/>
                  </a:lnTo>
                  <a:lnTo>
                    <a:pt x="1086" y="124"/>
                  </a:lnTo>
                  <a:lnTo>
                    <a:pt x="1080" y="124"/>
                  </a:lnTo>
                  <a:lnTo>
                    <a:pt x="1080" y="130"/>
                  </a:lnTo>
                  <a:lnTo>
                    <a:pt x="1066" y="130"/>
                  </a:lnTo>
                  <a:lnTo>
                    <a:pt x="1066" y="136"/>
                  </a:lnTo>
                  <a:lnTo>
                    <a:pt x="1057" y="136"/>
                  </a:lnTo>
                  <a:lnTo>
                    <a:pt x="1057" y="143"/>
                  </a:lnTo>
                  <a:lnTo>
                    <a:pt x="1047" y="143"/>
                  </a:lnTo>
                  <a:lnTo>
                    <a:pt x="1047" y="148"/>
                  </a:lnTo>
                  <a:lnTo>
                    <a:pt x="1032" y="148"/>
                  </a:lnTo>
                  <a:lnTo>
                    <a:pt x="1032" y="154"/>
                  </a:lnTo>
                  <a:lnTo>
                    <a:pt x="1023" y="154"/>
                  </a:lnTo>
                  <a:lnTo>
                    <a:pt x="1023" y="160"/>
                  </a:lnTo>
                  <a:lnTo>
                    <a:pt x="1009" y="160"/>
                  </a:lnTo>
                  <a:lnTo>
                    <a:pt x="1009" y="165"/>
                  </a:lnTo>
                  <a:lnTo>
                    <a:pt x="999" y="165"/>
                  </a:lnTo>
                  <a:lnTo>
                    <a:pt x="999" y="171"/>
                  </a:lnTo>
                  <a:lnTo>
                    <a:pt x="990" y="171"/>
                  </a:lnTo>
                  <a:lnTo>
                    <a:pt x="990" y="177"/>
                  </a:lnTo>
                  <a:lnTo>
                    <a:pt x="985" y="177"/>
                  </a:lnTo>
                  <a:lnTo>
                    <a:pt x="985" y="184"/>
                  </a:lnTo>
                  <a:lnTo>
                    <a:pt x="976" y="184"/>
                  </a:lnTo>
                  <a:lnTo>
                    <a:pt x="976" y="189"/>
                  </a:lnTo>
                  <a:lnTo>
                    <a:pt x="965" y="189"/>
                  </a:lnTo>
                  <a:lnTo>
                    <a:pt x="965" y="196"/>
                  </a:lnTo>
                  <a:lnTo>
                    <a:pt x="950" y="196"/>
                  </a:lnTo>
                  <a:lnTo>
                    <a:pt x="950" y="201"/>
                  </a:lnTo>
                  <a:lnTo>
                    <a:pt x="946" y="201"/>
                  </a:lnTo>
                  <a:lnTo>
                    <a:pt x="946" y="207"/>
                  </a:lnTo>
                  <a:lnTo>
                    <a:pt x="936" y="207"/>
                  </a:lnTo>
                  <a:lnTo>
                    <a:pt x="936" y="214"/>
                  </a:lnTo>
                  <a:lnTo>
                    <a:pt x="932" y="214"/>
                  </a:lnTo>
                  <a:lnTo>
                    <a:pt x="932" y="219"/>
                  </a:lnTo>
                  <a:lnTo>
                    <a:pt x="922" y="219"/>
                  </a:lnTo>
                  <a:lnTo>
                    <a:pt x="922" y="225"/>
                  </a:lnTo>
                  <a:lnTo>
                    <a:pt x="913" y="225"/>
                  </a:lnTo>
                  <a:lnTo>
                    <a:pt x="913" y="230"/>
                  </a:lnTo>
                  <a:lnTo>
                    <a:pt x="903" y="230"/>
                  </a:lnTo>
                  <a:lnTo>
                    <a:pt x="903" y="237"/>
                  </a:lnTo>
                  <a:lnTo>
                    <a:pt x="893" y="237"/>
                  </a:lnTo>
                  <a:lnTo>
                    <a:pt x="893" y="242"/>
                  </a:lnTo>
                  <a:lnTo>
                    <a:pt x="883" y="242"/>
                  </a:lnTo>
                  <a:lnTo>
                    <a:pt x="883" y="247"/>
                  </a:lnTo>
                  <a:lnTo>
                    <a:pt x="874" y="247"/>
                  </a:lnTo>
                  <a:lnTo>
                    <a:pt x="874" y="255"/>
                  </a:lnTo>
                  <a:lnTo>
                    <a:pt x="869" y="255"/>
                  </a:lnTo>
                  <a:lnTo>
                    <a:pt x="869" y="260"/>
                  </a:lnTo>
                  <a:lnTo>
                    <a:pt x="860" y="260"/>
                  </a:lnTo>
                  <a:lnTo>
                    <a:pt x="860" y="266"/>
                  </a:lnTo>
                  <a:lnTo>
                    <a:pt x="855" y="266"/>
                  </a:lnTo>
                  <a:lnTo>
                    <a:pt x="855" y="272"/>
                  </a:lnTo>
                  <a:lnTo>
                    <a:pt x="840" y="272"/>
                  </a:lnTo>
                  <a:lnTo>
                    <a:pt x="840" y="277"/>
                  </a:lnTo>
                  <a:lnTo>
                    <a:pt x="831" y="277"/>
                  </a:lnTo>
                  <a:lnTo>
                    <a:pt x="831" y="284"/>
                  </a:lnTo>
                  <a:lnTo>
                    <a:pt x="826" y="284"/>
                  </a:lnTo>
                  <a:lnTo>
                    <a:pt x="826" y="289"/>
                  </a:lnTo>
                  <a:lnTo>
                    <a:pt x="816" y="289"/>
                  </a:lnTo>
                  <a:lnTo>
                    <a:pt x="816" y="296"/>
                  </a:lnTo>
                  <a:lnTo>
                    <a:pt x="812" y="296"/>
                  </a:lnTo>
                  <a:lnTo>
                    <a:pt x="812" y="301"/>
                  </a:lnTo>
                  <a:lnTo>
                    <a:pt x="802" y="301"/>
                  </a:lnTo>
                  <a:lnTo>
                    <a:pt x="802" y="307"/>
                  </a:lnTo>
                  <a:lnTo>
                    <a:pt x="798" y="307"/>
                  </a:lnTo>
                  <a:lnTo>
                    <a:pt x="798" y="313"/>
                  </a:lnTo>
                  <a:lnTo>
                    <a:pt x="788" y="313"/>
                  </a:lnTo>
                  <a:lnTo>
                    <a:pt x="788" y="320"/>
                  </a:lnTo>
                  <a:lnTo>
                    <a:pt x="783" y="320"/>
                  </a:lnTo>
                  <a:lnTo>
                    <a:pt x="783" y="325"/>
                  </a:lnTo>
                  <a:lnTo>
                    <a:pt x="774" y="325"/>
                  </a:lnTo>
                  <a:lnTo>
                    <a:pt x="774" y="331"/>
                  </a:lnTo>
                  <a:lnTo>
                    <a:pt x="769" y="331"/>
                  </a:lnTo>
                  <a:lnTo>
                    <a:pt x="769" y="337"/>
                  </a:lnTo>
                  <a:lnTo>
                    <a:pt x="765" y="337"/>
                  </a:lnTo>
                  <a:lnTo>
                    <a:pt x="765" y="342"/>
                  </a:lnTo>
                  <a:lnTo>
                    <a:pt x="755" y="342"/>
                  </a:lnTo>
                  <a:lnTo>
                    <a:pt x="755" y="348"/>
                  </a:lnTo>
                  <a:lnTo>
                    <a:pt x="749" y="348"/>
                  </a:lnTo>
                  <a:lnTo>
                    <a:pt x="749" y="355"/>
                  </a:lnTo>
                  <a:lnTo>
                    <a:pt x="744" y="355"/>
                  </a:lnTo>
                  <a:lnTo>
                    <a:pt x="744" y="361"/>
                  </a:lnTo>
                  <a:lnTo>
                    <a:pt x="739" y="361"/>
                  </a:lnTo>
                  <a:lnTo>
                    <a:pt x="739" y="366"/>
                  </a:lnTo>
                  <a:lnTo>
                    <a:pt x="730" y="366"/>
                  </a:lnTo>
                  <a:lnTo>
                    <a:pt x="730" y="372"/>
                  </a:lnTo>
                  <a:lnTo>
                    <a:pt x="725" y="372"/>
                  </a:lnTo>
                  <a:lnTo>
                    <a:pt x="725" y="378"/>
                  </a:lnTo>
                  <a:lnTo>
                    <a:pt x="711" y="378"/>
                  </a:lnTo>
                  <a:lnTo>
                    <a:pt x="711" y="383"/>
                  </a:lnTo>
                  <a:lnTo>
                    <a:pt x="706" y="383"/>
                  </a:lnTo>
                  <a:lnTo>
                    <a:pt x="706" y="396"/>
                  </a:lnTo>
                  <a:lnTo>
                    <a:pt x="696" y="396"/>
                  </a:lnTo>
                  <a:lnTo>
                    <a:pt x="696" y="402"/>
                  </a:lnTo>
                  <a:lnTo>
                    <a:pt x="688" y="402"/>
                  </a:lnTo>
                  <a:lnTo>
                    <a:pt x="688" y="407"/>
                  </a:lnTo>
                  <a:lnTo>
                    <a:pt x="682" y="407"/>
                  </a:lnTo>
                  <a:lnTo>
                    <a:pt x="682" y="415"/>
                  </a:lnTo>
                  <a:lnTo>
                    <a:pt x="672" y="415"/>
                  </a:lnTo>
                  <a:lnTo>
                    <a:pt x="672" y="420"/>
                  </a:lnTo>
                  <a:lnTo>
                    <a:pt x="668" y="420"/>
                  </a:lnTo>
                  <a:lnTo>
                    <a:pt x="668" y="425"/>
                  </a:lnTo>
                  <a:lnTo>
                    <a:pt x="658" y="425"/>
                  </a:lnTo>
                  <a:lnTo>
                    <a:pt x="658" y="432"/>
                  </a:lnTo>
                  <a:lnTo>
                    <a:pt x="653" y="432"/>
                  </a:lnTo>
                  <a:lnTo>
                    <a:pt x="653" y="437"/>
                  </a:lnTo>
                  <a:lnTo>
                    <a:pt x="644" y="437"/>
                  </a:lnTo>
                  <a:lnTo>
                    <a:pt x="644" y="443"/>
                  </a:lnTo>
                  <a:lnTo>
                    <a:pt x="639" y="443"/>
                  </a:lnTo>
                  <a:lnTo>
                    <a:pt x="639" y="450"/>
                  </a:lnTo>
                  <a:lnTo>
                    <a:pt x="634" y="450"/>
                  </a:lnTo>
                  <a:lnTo>
                    <a:pt x="634" y="456"/>
                  </a:lnTo>
                  <a:lnTo>
                    <a:pt x="625" y="456"/>
                  </a:lnTo>
                  <a:lnTo>
                    <a:pt x="625" y="467"/>
                  </a:lnTo>
                  <a:lnTo>
                    <a:pt x="615" y="467"/>
                  </a:lnTo>
                  <a:lnTo>
                    <a:pt x="615" y="473"/>
                  </a:lnTo>
                  <a:lnTo>
                    <a:pt x="610" y="473"/>
                  </a:lnTo>
                  <a:lnTo>
                    <a:pt x="610" y="478"/>
                  </a:lnTo>
                  <a:lnTo>
                    <a:pt x="605" y="478"/>
                  </a:lnTo>
                  <a:lnTo>
                    <a:pt x="605" y="484"/>
                  </a:lnTo>
                  <a:lnTo>
                    <a:pt x="600" y="484"/>
                  </a:lnTo>
                  <a:lnTo>
                    <a:pt x="600" y="491"/>
                  </a:lnTo>
                  <a:lnTo>
                    <a:pt x="591" y="491"/>
                  </a:lnTo>
                  <a:lnTo>
                    <a:pt x="591" y="497"/>
                  </a:lnTo>
                  <a:lnTo>
                    <a:pt x="581" y="497"/>
                  </a:lnTo>
                  <a:lnTo>
                    <a:pt x="581" y="502"/>
                  </a:lnTo>
                  <a:lnTo>
                    <a:pt x="576" y="502"/>
                  </a:lnTo>
                  <a:lnTo>
                    <a:pt x="576" y="508"/>
                  </a:lnTo>
                  <a:lnTo>
                    <a:pt x="566" y="508"/>
                  </a:lnTo>
                  <a:lnTo>
                    <a:pt x="566" y="514"/>
                  </a:lnTo>
                  <a:lnTo>
                    <a:pt x="562" y="514"/>
                  </a:lnTo>
                  <a:lnTo>
                    <a:pt x="562" y="521"/>
                  </a:lnTo>
                  <a:lnTo>
                    <a:pt x="558" y="521"/>
                  </a:lnTo>
                  <a:lnTo>
                    <a:pt x="558" y="526"/>
                  </a:lnTo>
                  <a:lnTo>
                    <a:pt x="548" y="526"/>
                  </a:lnTo>
                  <a:lnTo>
                    <a:pt x="548" y="532"/>
                  </a:lnTo>
                  <a:lnTo>
                    <a:pt x="543" y="532"/>
                  </a:lnTo>
                  <a:lnTo>
                    <a:pt x="543" y="538"/>
                  </a:lnTo>
                  <a:lnTo>
                    <a:pt x="532" y="538"/>
                  </a:lnTo>
                  <a:lnTo>
                    <a:pt x="532" y="543"/>
                  </a:lnTo>
                  <a:lnTo>
                    <a:pt x="528" y="543"/>
                  </a:lnTo>
                  <a:lnTo>
                    <a:pt x="528" y="551"/>
                  </a:lnTo>
                  <a:lnTo>
                    <a:pt x="518" y="551"/>
                  </a:lnTo>
                  <a:lnTo>
                    <a:pt x="518" y="556"/>
                  </a:lnTo>
                  <a:lnTo>
                    <a:pt x="514" y="556"/>
                  </a:lnTo>
                  <a:lnTo>
                    <a:pt x="514" y="562"/>
                  </a:lnTo>
                  <a:lnTo>
                    <a:pt x="504" y="562"/>
                  </a:lnTo>
                  <a:lnTo>
                    <a:pt x="504" y="568"/>
                  </a:lnTo>
                  <a:lnTo>
                    <a:pt x="499" y="568"/>
                  </a:lnTo>
                  <a:lnTo>
                    <a:pt x="499" y="574"/>
                  </a:lnTo>
                  <a:lnTo>
                    <a:pt x="495" y="574"/>
                  </a:lnTo>
                  <a:lnTo>
                    <a:pt x="495" y="579"/>
                  </a:lnTo>
                  <a:lnTo>
                    <a:pt x="485" y="579"/>
                  </a:lnTo>
                  <a:lnTo>
                    <a:pt x="485" y="584"/>
                  </a:lnTo>
                  <a:lnTo>
                    <a:pt x="481" y="584"/>
                  </a:lnTo>
                  <a:lnTo>
                    <a:pt x="481" y="592"/>
                  </a:lnTo>
                  <a:lnTo>
                    <a:pt x="471" y="592"/>
                  </a:lnTo>
                  <a:lnTo>
                    <a:pt x="471" y="597"/>
                  </a:lnTo>
                  <a:lnTo>
                    <a:pt x="467" y="597"/>
                  </a:lnTo>
                  <a:lnTo>
                    <a:pt x="467" y="603"/>
                  </a:lnTo>
                  <a:lnTo>
                    <a:pt x="456" y="603"/>
                  </a:lnTo>
                  <a:lnTo>
                    <a:pt x="456" y="609"/>
                  </a:lnTo>
                  <a:lnTo>
                    <a:pt x="447" y="609"/>
                  </a:lnTo>
                  <a:lnTo>
                    <a:pt x="447" y="615"/>
                  </a:lnTo>
                  <a:lnTo>
                    <a:pt x="442" y="615"/>
                  </a:lnTo>
                  <a:lnTo>
                    <a:pt x="442" y="620"/>
                  </a:lnTo>
                  <a:lnTo>
                    <a:pt x="433" y="620"/>
                  </a:lnTo>
                  <a:lnTo>
                    <a:pt x="433" y="627"/>
                  </a:lnTo>
                  <a:lnTo>
                    <a:pt x="428" y="627"/>
                  </a:lnTo>
                  <a:lnTo>
                    <a:pt x="428" y="633"/>
                  </a:lnTo>
                  <a:lnTo>
                    <a:pt x="418" y="633"/>
                  </a:lnTo>
                  <a:lnTo>
                    <a:pt x="418" y="638"/>
                  </a:lnTo>
                  <a:lnTo>
                    <a:pt x="414" y="638"/>
                  </a:lnTo>
                  <a:lnTo>
                    <a:pt x="414" y="644"/>
                  </a:lnTo>
                  <a:lnTo>
                    <a:pt x="408" y="644"/>
                  </a:lnTo>
                  <a:lnTo>
                    <a:pt x="408" y="650"/>
                  </a:lnTo>
                  <a:lnTo>
                    <a:pt x="399" y="650"/>
                  </a:lnTo>
                  <a:lnTo>
                    <a:pt x="399" y="657"/>
                  </a:lnTo>
                  <a:lnTo>
                    <a:pt x="390" y="657"/>
                  </a:lnTo>
                  <a:lnTo>
                    <a:pt x="390" y="662"/>
                  </a:lnTo>
                  <a:lnTo>
                    <a:pt x="384" y="662"/>
                  </a:lnTo>
                  <a:lnTo>
                    <a:pt x="384" y="668"/>
                  </a:lnTo>
                  <a:lnTo>
                    <a:pt x="374" y="668"/>
                  </a:lnTo>
                  <a:lnTo>
                    <a:pt x="374" y="674"/>
                  </a:lnTo>
                  <a:lnTo>
                    <a:pt x="370" y="674"/>
                  </a:lnTo>
                  <a:lnTo>
                    <a:pt x="370" y="679"/>
                  </a:lnTo>
                  <a:lnTo>
                    <a:pt x="365" y="679"/>
                  </a:lnTo>
                  <a:lnTo>
                    <a:pt x="365" y="687"/>
                  </a:lnTo>
                  <a:lnTo>
                    <a:pt x="355" y="687"/>
                  </a:lnTo>
                  <a:lnTo>
                    <a:pt x="355" y="692"/>
                  </a:lnTo>
                  <a:lnTo>
                    <a:pt x="351" y="692"/>
                  </a:lnTo>
                  <a:lnTo>
                    <a:pt x="351" y="697"/>
                  </a:lnTo>
                  <a:lnTo>
                    <a:pt x="346" y="697"/>
                  </a:lnTo>
                  <a:lnTo>
                    <a:pt x="346" y="703"/>
                  </a:lnTo>
                  <a:lnTo>
                    <a:pt x="337" y="703"/>
                  </a:lnTo>
                  <a:lnTo>
                    <a:pt x="337" y="709"/>
                  </a:lnTo>
                  <a:lnTo>
                    <a:pt x="327" y="709"/>
                  </a:lnTo>
                  <a:lnTo>
                    <a:pt x="327" y="715"/>
                  </a:lnTo>
                  <a:lnTo>
                    <a:pt x="318" y="715"/>
                  </a:lnTo>
                  <a:lnTo>
                    <a:pt x="318" y="720"/>
                  </a:lnTo>
                  <a:lnTo>
                    <a:pt x="307" y="720"/>
                  </a:lnTo>
                  <a:lnTo>
                    <a:pt x="307" y="728"/>
                  </a:lnTo>
                  <a:lnTo>
                    <a:pt x="303" y="728"/>
                  </a:lnTo>
                  <a:lnTo>
                    <a:pt x="303" y="733"/>
                  </a:lnTo>
                  <a:lnTo>
                    <a:pt x="297" y="733"/>
                  </a:lnTo>
                  <a:lnTo>
                    <a:pt x="297" y="738"/>
                  </a:lnTo>
                  <a:lnTo>
                    <a:pt x="293" y="738"/>
                  </a:lnTo>
                  <a:lnTo>
                    <a:pt x="293" y="745"/>
                  </a:lnTo>
                  <a:lnTo>
                    <a:pt x="288" y="745"/>
                  </a:lnTo>
                  <a:lnTo>
                    <a:pt x="288" y="750"/>
                  </a:lnTo>
                  <a:lnTo>
                    <a:pt x="284" y="750"/>
                  </a:lnTo>
                  <a:lnTo>
                    <a:pt x="284" y="756"/>
                  </a:lnTo>
                  <a:lnTo>
                    <a:pt x="274" y="756"/>
                  </a:lnTo>
                  <a:lnTo>
                    <a:pt x="274" y="761"/>
                  </a:lnTo>
                  <a:lnTo>
                    <a:pt x="269" y="761"/>
                  </a:lnTo>
                  <a:lnTo>
                    <a:pt x="269" y="769"/>
                  </a:lnTo>
                  <a:lnTo>
                    <a:pt x="264" y="769"/>
                  </a:lnTo>
                  <a:lnTo>
                    <a:pt x="264" y="774"/>
                  </a:lnTo>
                  <a:lnTo>
                    <a:pt x="250" y="774"/>
                  </a:lnTo>
                  <a:lnTo>
                    <a:pt x="250" y="780"/>
                  </a:lnTo>
                  <a:lnTo>
                    <a:pt x="245" y="780"/>
                  </a:lnTo>
                  <a:lnTo>
                    <a:pt x="245" y="786"/>
                  </a:lnTo>
                  <a:lnTo>
                    <a:pt x="235" y="786"/>
                  </a:lnTo>
                  <a:lnTo>
                    <a:pt x="235" y="791"/>
                  </a:lnTo>
                  <a:lnTo>
                    <a:pt x="225" y="791"/>
                  </a:lnTo>
                  <a:lnTo>
                    <a:pt x="225" y="804"/>
                  </a:lnTo>
                  <a:lnTo>
                    <a:pt x="221" y="804"/>
                  </a:lnTo>
                  <a:lnTo>
                    <a:pt x="221" y="810"/>
                  </a:lnTo>
                  <a:lnTo>
                    <a:pt x="216" y="810"/>
                  </a:lnTo>
                  <a:lnTo>
                    <a:pt x="216" y="815"/>
                  </a:lnTo>
                  <a:lnTo>
                    <a:pt x="211" y="815"/>
                  </a:lnTo>
                  <a:lnTo>
                    <a:pt x="211" y="821"/>
                  </a:lnTo>
                  <a:lnTo>
                    <a:pt x="207" y="821"/>
                  </a:lnTo>
                  <a:lnTo>
                    <a:pt x="207" y="828"/>
                  </a:lnTo>
                  <a:lnTo>
                    <a:pt x="197" y="828"/>
                  </a:lnTo>
                  <a:lnTo>
                    <a:pt x="197" y="834"/>
                  </a:lnTo>
                  <a:lnTo>
                    <a:pt x="188" y="834"/>
                  </a:lnTo>
                  <a:lnTo>
                    <a:pt x="188" y="839"/>
                  </a:lnTo>
                  <a:lnTo>
                    <a:pt x="183" y="839"/>
                  </a:lnTo>
                  <a:lnTo>
                    <a:pt x="183" y="845"/>
                  </a:lnTo>
                  <a:lnTo>
                    <a:pt x="178" y="845"/>
                  </a:lnTo>
                  <a:lnTo>
                    <a:pt x="178" y="851"/>
                  </a:lnTo>
                  <a:lnTo>
                    <a:pt x="174" y="851"/>
                  </a:lnTo>
                  <a:lnTo>
                    <a:pt x="174" y="864"/>
                  </a:lnTo>
                  <a:lnTo>
                    <a:pt x="167" y="864"/>
                  </a:lnTo>
                  <a:lnTo>
                    <a:pt x="167" y="869"/>
                  </a:lnTo>
                  <a:lnTo>
                    <a:pt x="163" y="869"/>
                  </a:lnTo>
                  <a:lnTo>
                    <a:pt x="163" y="875"/>
                  </a:lnTo>
                  <a:lnTo>
                    <a:pt x="158" y="875"/>
                  </a:lnTo>
                  <a:lnTo>
                    <a:pt x="158" y="880"/>
                  </a:lnTo>
                  <a:lnTo>
                    <a:pt x="153" y="880"/>
                  </a:lnTo>
                  <a:lnTo>
                    <a:pt x="153" y="887"/>
                  </a:lnTo>
                  <a:lnTo>
                    <a:pt x="148" y="887"/>
                  </a:lnTo>
                  <a:lnTo>
                    <a:pt x="148" y="897"/>
                  </a:lnTo>
                  <a:lnTo>
                    <a:pt x="144" y="897"/>
                  </a:lnTo>
                  <a:lnTo>
                    <a:pt x="144" y="934"/>
                  </a:lnTo>
                  <a:lnTo>
                    <a:pt x="140" y="934"/>
                  </a:lnTo>
                  <a:lnTo>
                    <a:pt x="140" y="951"/>
                  </a:lnTo>
                  <a:lnTo>
                    <a:pt x="134" y="951"/>
                  </a:lnTo>
                  <a:lnTo>
                    <a:pt x="134" y="1011"/>
                  </a:lnTo>
                  <a:lnTo>
                    <a:pt x="130" y="1011"/>
                  </a:lnTo>
                  <a:lnTo>
                    <a:pt x="130" y="1117"/>
                  </a:lnTo>
                  <a:lnTo>
                    <a:pt x="126" y="1117"/>
                  </a:lnTo>
                  <a:lnTo>
                    <a:pt x="126" y="1176"/>
                  </a:lnTo>
                  <a:lnTo>
                    <a:pt x="120" y="1176"/>
                  </a:lnTo>
                  <a:lnTo>
                    <a:pt x="120" y="1253"/>
                  </a:lnTo>
                  <a:lnTo>
                    <a:pt x="116" y="1253"/>
                  </a:lnTo>
                  <a:lnTo>
                    <a:pt x="116" y="1370"/>
                  </a:lnTo>
                  <a:lnTo>
                    <a:pt x="111" y="1370"/>
                  </a:lnTo>
                  <a:lnTo>
                    <a:pt x="111" y="1383"/>
                  </a:lnTo>
                  <a:lnTo>
                    <a:pt x="116" y="1383"/>
                  </a:lnTo>
                  <a:lnTo>
                    <a:pt x="116" y="1395"/>
                  </a:lnTo>
                  <a:lnTo>
                    <a:pt x="111" y="1395"/>
                  </a:lnTo>
                  <a:lnTo>
                    <a:pt x="111" y="1419"/>
                  </a:lnTo>
                  <a:lnTo>
                    <a:pt x="106" y="1419"/>
                  </a:lnTo>
                  <a:lnTo>
                    <a:pt x="106" y="1443"/>
                  </a:lnTo>
                  <a:lnTo>
                    <a:pt x="101" y="1443"/>
                  </a:lnTo>
                  <a:lnTo>
                    <a:pt x="101" y="1478"/>
                  </a:lnTo>
                  <a:lnTo>
                    <a:pt x="96" y="1478"/>
                  </a:lnTo>
                  <a:lnTo>
                    <a:pt x="96" y="1519"/>
                  </a:lnTo>
                  <a:lnTo>
                    <a:pt x="91" y="1519"/>
                  </a:lnTo>
                  <a:lnTo>
                    <a:pt x="91" y="1707"/>
                  </a:lnTo>
                  <a:lnTo>
                    <a:pt x="86" y="1707"/>
                  </a:lnTo>
                  <a:lnTo>
                    <a:pt x="86" y="1720"/>
                  </a:lnTo>
                  <a:lnTo>
                    <a:pt x="91" y="1720"/>
                  </a:lnTo>
                  <a:lnTo>
                    <a:pt x="91" y="1791"/>
                  </a:lnTo>
                  <a:lnTo>
                    <a:pt x="86" y="1791"/>
                  </a:lnTo>
                  <a:lnTo>
                    <a:pt x="86" y="1832"/>
                  </a:lnTo>
                  <a:lnTo>
                    <a:pt x="82" y="1832"/>
                  </a:lnTo>
                  <a:lnTo>
                    <a:pt x="82" y="1868"/>
                  </a:lnTo>
                  <a:lnTo>
                    <a:pt x="86" y="1868"/>
                  </a:lnTo>
                  <a:lnTo>
                    <a:pt x="86" y="1892"/>
                  </a:lnTo>
                  <a:lnTo>
                    <a:pt x="82" y="1892"/>
                  </a:lnTo>
                  <a:lnTo>
                    <a:pt x="82" y="1903"/>
                  </a:lnTo>
                  <a:lnTo>
                    <a:pt x="86" y="1903"/>
                  </a:lnTo>
                  <a:lnTo>
                    <a:pt x="86" y="1933"/>
                  </a:lnTo>
                  <a:lnTo>
                    <a:pt x="91" y="1933"/>
                  </a:lnTo>
                  <a:lnTo>
                    <a:pt x="91" y="1979"/>
                  </a:lnTo>
                  <a:lnTo>
                    <a:pt x="86" y="1979"/>
                  </a:lnTo>
                  <a:lnTo>
                    <a:pt x="86" y="2003"/>
                  </a:lnTo>
                  <a:lnTo>
                    <a:pt x="82" y="2003"/>
                  </a:lnTo>
                  <a:lnTo>
                    <a:pt x="82" y="2021"/>
                  </a:lnTo>
                  <a:lnTo>
                    <a:pt x="86" y="2021"/>
                  </a:lnTo>
                  <a:lnTo>
                    <a:pt x="86" y="2069"/>
                  </a:lnTo>
                  <a:lnTo>
                    <a:pt x="91" y="2069"/>
                  </a:lnTo>
                  <a:lnTo>
                    <a:pt x="91" y="2164"/>
                  </a:lnTo>
                  <a:lnTo>
                    <a:pt x="86" y="2164"/>
                  </a:lnTo>
                  <a:lnTo>
                    <a:pt x="86" y="2205"/>
                  </a:lnTo>
                  <a:lnTo>
                    <a:pt x="82" y="2205"/>
                  </a:lnTo>
                  <a:lnTo>
                    <a:pt x="82" y="2283"/>
                  </a:lnTo>
                  <a:lnTo>
                    <a:pt x="77" y="2283"/>
                  </a:lnTo>
                  <a:lnTo>
                    <a:pt x="77" y="2316"/>
                  </a:lnTo>
                  <a:lnTo>
                    <a:pt x="72" y="2316"/>
                  </a:lnTo>
                  <a:lnTo>
                    <a:pt x="72" y="2329"/>
                  </a:lnTo>
                  <a:lnTo>
                    <a:pt x="77" y="2329"/>
                  </a:lnTo>
                  <a:lnTo>
                    <a:pt x="77" y="2359"/>
                  </a:lnTo>
                  <a:lnTo>
                    <a:pt x="72" y="2359"/>
                  </a:lnTo>
                  <a:lnTo>
                    <a:pt x="72" y="2400"/>
                  </a:lnTo>
                  <a:lnTo>
                    <a:pt x="77" y="2400"/>
                  </a:lnTo>
                  <a:lnTo>
                    <a:pt x="77" y="2435"/>
                  </a:lnTo>
                  <a:lnTo>
                    <a:pt x="72" y="2435"/>
                  </a:lnTo>
                  <a:lnTo>
                    <a:pt x="72" y="2588"/>
                  </a:lnTo>
                  <a:lnTo>
                    <a:pt x="77" y="2588"/>
                  </a:lnTo>
                  <a:lnTo>
                    <a:pt x="77" y="2737"/>
                  </a:lnTo>
                  <a:lnTo>
                    <a:pt x="72" y="2737"/>
                  </a:lnTo>
                  <a:lnTo>
                    <a:pt x="72" y="2931"/>
                  </a:lnTo>
                  <a:lnTo>
                    <a:pt x="67" y="2931"/>
                  </a:lnTo>
                  <a:lnTo>
                    <a:pt x="67" y="2966"/>
                  </a:lnTo>
                  <a:lnTo>
                    <a:pt x="72" y="2966"/>
                  </a:lnTo>
                  <a:lnTo>
                    <a:pt x="72" y="2979"/>
                  </a:lnTo>
                  <a:lnTo>
                    <a:pt x="67" y="2979"/>
                  </a:lnTo>
                  <a:lnTo>
                    <a:pt x="67" y="2991"/>
                  </a:lnTo>
                  <a:lnTo>
                    <a:pt x="72" y="2991"/>
                  </a:lnTo>
                  <a:lnTo>
                    <a:pt x="72" y="3003"/>
                  </a:lnTo>
                  <a:lnTo>
                    <a:pt x="67" y="3003"/>
                  </a:lnTo>
                  <a:lnTo>
                    <a:pt x="67" y="3020"/>
                  </a:lnTo>
                  <a:lnTo>
                    <a:pt x="72" y="3020"/>
                  </a:lnTo>
                  <a:lnTo>
                    <a:pt x="72" y="3126"/>
                  </a:lnTo>
                  <a:lnTo>
                    <a:pt x="67" y="3126"/>
                  </a:lnTo>
                  <a:lnTo>
                    <a:pt x="67" y="3316"/>
                  </a:lnTo>
                  <a:lnTo>
                    <a:pt x="72" y="3316"/>
                  </a:lnTo>
                  <a:lnTo>
                    <a:pt x="72" y="3357"/>
                  </a:lnTo>
                  <a:lnTo>
                    <a:pt x="67" y="3357"/>
                  </a:lnTo>
                  <a:lnTo>
                    <a:pt x="67" y="3381"/>
                  </a:lnTo>
                  <a:lnTo>
                    <a:pt x="72" y="3381"/>
                  </a:lnTo>
                  <a:lnTo>
                    <a:pt x="72" y="3416"/>
                  </a:lnTo>
                  <a:lnTo>
                    <a:pt x="67" y="3416"/>
                  </a:lnTo>
                  <a:lnTo>
                    <a:pt x="67" y="3499"/>
                  </a:lnTo>
                  <a:lnTo>
                    <a:pt x="63" y="3499"/>
                  </a:lnTo>
                  <a:lnTo>
                    <a:pt x="63" y="3510"/>
                  </a:lnTo>
                  <a:lnTo>
                    <a:pt x="67" y="3510"/>
                  </a:lnTo>
                  <a:lnTo>
                    <a:pt x="67" y="3583"/>
                  </a:lnTo>
                  <a:lnTo>
                    <a:pt x="63" y="3583"/>
                  </a:lnTo>
                  <a:lnTo>
                    <a:pt x="63" y="3641"/>
                  </a:lnTo>
                  <a:lnTo>
                    <a:pt x="57" y="3641"/>
                  </a:lnTo>
                  <a:lnTo>
                    <a:pt x="57" y="3653"/>
                  </a:lnTo>
                  <a:lnTo>
                    <a:pt x="53" y="3653"/>
                  </a:lnTo>
                  <a:lnTo>
                    <a:pt x="53" y="3683"/>
                  </a:lnTo>
                  <a:lnTo>
                    <a:pt x="57" y="3683"/>
                  </a:lnTo>
                  <a:lnTo>
                    <a:pt x="57" y="3753"/>
                  </a:lnTo>
                  <a:lnTo>
                    <a:pt x="63" y="3753"/>
                  </a:lnTo>
                  <a:lnTo>
                    <a:pt x="63" y="3783"/>
                  </a:lnTo>
                  <a:lnTo>
                    <a:pt x="57" y="3783"/>
                  </a:lnTo>
                  <a:lnTo>
                    <a:pt x="57" y="3801"/>
                  </a:lnTo>
                  <a:lnTo>
                    <a:pt x="63" y="3801"/>
                  </a:lnTo>
                  <a:lnTo>
                    <a:pt x="63" y="3961"/>
                  </a:lnTo>
                  <a:lnTo>
                    <a:pt x="67" y="3961"/>
                  </a:lnTo>
                  <a:lnTo>
                    <a:pt x="67" y="4025"/>
                  </a:lnTo>
                  <a:lnTo>
                    <a:pt x="63" y="4025"/>
                  </a:lnTo>
                  <a:lnTo>
                    <a:pt x="63" y="4037"/>
                  </a:lnTo>
                  <a:lnTo>
                    <a:pt x="67" y="4037"/>
                  </a:lnTo>
                  <a:lnTo>
                    <a:pt x="67" y="4143"/>
                  </a:lnTo>
                  <a:lnTo>
                    <a:pt x="63" y="4143"/>
                  </a:lnTo>
                  <a:lnTo>
                    <a:pt x="63" y="4156"/>
                  </a:lnTo>
                  <a:lnTo>
                    <a:pt x="67" y="4156"/>
                  </a:lnTo>
                  <a:lnTo>
                    <a:pt x="67" y="4225"/>
                  </a:lnTo>
                  <a:lnTo>
                    <a:pt x="63" y="4225"/>
                  </a:lnTo>
                  <a:lnTo>
                    <a:pt x="63" y="4238"/>
                  </a:lnTo>
                  <a:lnTo>
                    <a:pt x="67" y="4238"/>
                  </a:lnTo>
                  <a:lnTo>
                    <a:pt x="67" y="4374"/>
                  </a:lnTo>
                  <a:lnTo>
                    <a:pt x="72" y="4374"/>
                  </a:lnTo>
                  <a:lnTo>
                    <a:pt x="72" y="4403"/>
                  </a:lnTo>
                  <a:lnTo>
                    <a:pt x="67" y="4403"/>
                  </a:lnTo>
                  <a:lnTo>
                    <a:pt x="67" y="4434"/>
                  </a:lnTo>
                  <a:lnTo>
                    <a:pt x="72" y="4434"/>
                  </a:lnTo>
                  <a:lnTo>
                    <a:pt x="72" y="4444"/>
                  </a:lnTo>
                  <a:lnTo>
                    <a:pt x="67" y="4444"/>
                  </a:lnTo>
                  <a:lnTo>
                    <a:pt x="67" y="4735"/>
                  </a:lnTo>
                  <a:lnTo>
                    <a:pt x="72" y="4735"/>
                  </a:lnTo>
                  <a:lnTo>
                    <a:pt x="72" y="4817"/>
                  </a:lnTo>
                  <a:lnTo>
                    <a:pt x="67" y="4817"/>
                  </a:lnTo>
                  <a:lnTo>
                    <a:pt x="67" y="4829"/>
                  </a:lnTo>
                  <a:lnTo>
                    <a:pt x="72" y="4829"/>
                  </a:lnTo>
                  <a:lnTo>
                    <a:pt x="72" y="4883"/>
                  </a:lnTo>
                  <a:lnTo>
                    <a:pt x="67" y="4883"/>
                  </a:lnTo>
                  <a:lnTo>
                    <a:pt x="67" y="4929"/>
                  </a:lnTo>
                  <a:lnTo>
                    <a:pt x="72" y="4929"/>
                  </a:lnTo>
                  <a:lnTo>
                    <a:pt x="72" y="4983"/>
                  </a:lnTo>
                  <a:lnTo>
                    <a:pt x="67" y="4983"/>
                  </a:lnTo>
                  <a:lnTo>
                    <a:pt x="67" y="5029"/>
                  </a:lnTo>
                  <a:lnTo>
                    <a:pt x="72" y="5029"/>
                  </a:lnTo>
                  <a:lnTo>
                    <a:pt x="72" y="5094"/>
                  </a:lnTo>
                  <a:lnTo>
                    <a:pt x="77" y="5094"/>
                  </a:lnTo>
                  <a:lnTo>
                    <a:pt x="77" y="5143"/>
                  </a:lnTo>
                  <a:lnTo>
                    <a:pt x="82" y="5143"/>
                  </a:lnTo>
                  <a:lnTo>
                    <a:pt x="82" y="5178"/>
                  </a:lnTo>
                  <a:lnTo>
                    <a:pt x="86" y="5178"/>
                  </a:lnTo>
                  <a:lnTo>
                    <a:pt x="86" y="5249"/>
                  </a:lnTo>
                  <a:lnTo>
                    <a:pt x="91" y="5249"/>
                  </a:lnTo>
                  <a:lnTo>
                    <a:pt x="91" y="5302"/>
                  </a:lnTo>
                  <a:lnTo>
                    <a:pt x="96" y="5302"/>
                  </a:lnTo>
                  <a:lnTo>
                    <a:pt x="96" y="5407"/>
                  </a:lnTo>
                  <a:lnTo>
                    <a:pt x="91" y="5407"/>
                  </a:lnTo>
                  <a:lnTo>
                    <a:pt x="91" y="5420"/>
                  </a:lnTo>
                  <a:lnTo>
                    <a:pt x="96" y="5420"/>
                  </a:lnTo>
                  <a:lnTo>
                    <a:pt x="96" y="5480"/>
                  </a:lnTo>
                  <a:lnTo>
                    <a:pt x="101" y="5480"/>
                  </a:lnTo>
                  <a:lnTo>
                    <a:pt x="101" y="5533"/>
                  </a:lnTo>
                  <a:lnTo>
                    <a:pt x="106" y="5533"/>
                  </a:lnTo>
                  <a:lnTo>
                    <a:pt x="106" y="5543"/>
                  </a:lnTo>
                  <a:lnTo>
                    <a:pt x="101" y="5543"/>
                  </a:lnTo>
                  <a:lnTo>
                    <a:pt x="101" y="5567"/>
                  </a:lnTo>
                  <a:lnTo>
                    <a:pt x="106" y="5567"/>
                  </a:lnTo>
                  <a:lnTo>
                    <a:pt x="106" y="5627"/>
                  </a:lnTo>
                  <a:lnTo>
                    <a:pt x="111" y="5627"/>
                  </a:lnTo>
                  <a:lnTo>
                    <a:pt x="111" y="5674"/>
                  </a:lnTo>
                  <a:lnTo>
                    <a:pt x="116" y="5674"/>
                  </a:lnTo>
                  <a:lnTo>
                    <a:pt x="116" y="5703"/>
                  </a:lnTo>
                  <a:lnTo>
                    <a:pt x="120" y="5703"/>
                  </a:lnTo>
                  <a:lnTo>
                    <a:pt x="120" y="5757"/>
                  </a:lnTo>
                  <a:lnTo>
                    <a:pt x="126" y="5757"/>
                  </a:lnTo>
                  <a:lnTo>
                    <a:pt x="126" y="5793"/>
                  </a:lnTo>
                  <a:lnTo>
                    <a:pt x="120" y="5793"/>
                  </a:lnTo>
                  <a:lnTo>
                    <a:pt x="120" y="5804"/>
                  </a:lnTo>
                  <a:lnTo>
                    <a:pt x="126" y="5804"/>
                  </a:lnTo>
                  <a:lnTo>
                    <a:pt x="126" y="5828"/>
                  </a:lnTo>
                  <a:lnTo>
                    <a:pt x="130" y="5828"/>
                  </a:lnTo>
                  <a:lnTo>
                    <a:pt x="130" y="5851"/>
                  </a:lnTo>
                  <a:lnTo>
                    <a:pt x="126" y="5851"/>
                  </a:lnTo>
                  <a:lnTo>
                    <a:pt x="126" y="5863"/>
                  </a:lnTo>
                  <a:lnTo>
                    <a:pt x="130" y="5863"/>
                  </a:lnTo>
                  <a:lnTo>
                    <a:pt x="130" y="5888"/>
                  </a:lnTo>
                  <a:lnTo>
                    <a:pt x="126" y="5888"/>
                  </a:lnTo>
                  <a:lnTo>
                    <a:pt x="126" y="5910"/>
                  </a:lnTo>
                  <a:lnTo>
                    <a:pt x="120" y="5910"/>
                  </a:lnTo>
                  <a:lnTo>
                    <a:pt x="120" y="5916"/>
                  </a:lnTo>
                  <a:lnTo>
                    <a:pt x="106" y="5916"/>
                  </a:lnTo>
                  <a:lnTo>
                    <a:pt x="106" y="5910"/>
                  </a:lnTo>
                  <a:lnTo>
                    <a:pt x="101" y="5910"/>
                  </a:lnTo>
                  <a:lnTo>
                    <a:pt x="101" y="5905"/>
                  </a:lnTo>
                  <a:lnTo>
                    <a:pt x="72" y="5905"/>
                  </a:lnTo>
                  <a:lnTo>
                    <a:pt x="72" y="5899"/>
                  </a:lnTo>
                  <a:lnTo>
                    <a:pt x="67" y="5899"/>
                  </a:lnTo>
                  <a:lnTo>
                    <a:pt x="67" y="5888"/>
                  </a:lnTo>
                  <a:lnTo>
                    <a:pt x="63" y="5888"/>
                  </a:lnTo>
                  <a:lnTo>
                    <a:pt x="57" y="5793"/>
                  </a:lnTo>
                  <a:lnTo>
                    <a:pt x="23" y="4439"/>
                  </a:lnTo>
                  <a:lnTo>
                    <a:pt x="23" y="4421"/>
                  </a:lnTo>
                  <a:lnTo>
                    <a:pt x="19" y="4421"/>
                  </a:lnTo>
                  <a:lnTo>
                    <a:pt x="19" y="4255"/>
                  </a:lnTo>
                  <a:lnTo>
                    <a:pt x="14" y="4255"/>
                  </a:lnTo>
                  <a:lnTo>
                    <a:pt x="14" y="4238"/>
                  </a:lnTo>
                  <a:lnTo>
                    <a:pt x="19" y="4238"/>
                  </a:lnTo>
                  <a:lnTo>
                    <a:pt x="19" y="4137"/>
                  </a:lnTo>
                  <a:lnTo>
                    <a:pt x="14" y="4137"/>
                  </a:lnTo>
                  <a:lnTo>
                    <a:pt x="14" y="4020"/>
                  </a:lnTo>
                  <a:lnTo>
                    <a:pt x="9" y="4020"/>
                  </a:lnTo>
                  <a:lnTo>
                    <a:pt x="9" y="3955"/>
                  </a:lnTo>
                  <a:lnTo>
                    <a:pt x="14" y="3955"/>
                  </a:lnTo>
                  <a:lnTo>
                    <a:pt x="14" y="3925"/>
                  </a:lnTo>
                  <a:lnTo>
                    <a:pt x="9" y="3925"/>
                  </a:lnTo>
                  <a:lnTo>
                    <a:pt x="9" y="3907"/>
                  </a:lnTo>
                  <a:lnTo>
                    <a:pt x="14" y="3907"/>
                  </a:lnTo>
                  <a:lnTo>
                    <a:pt x="14" y="3884"/>
                  </a:lnTo>
                  <a:lnTo>
                    <a:pt x="9" y="3884"/>
                  </a:lnTo>
                  <a:lnTo>
                    <a:pt x="9" y="3776"/>
                  </a:lnTo>
                  <a:lnTo>
                    <a:pt x="5" y="3776"/>
                  </a:lnTo>
                  <a:lnTo>
                    <a:pt x="5" y="3683"/>
                  </a:lnTo>
                  <a:lnTo>
                    <a:pt x="0" y="3683"/>
                  </a:lnTo>
                  <a:lnTo>
                    <a:pt x="0" y="3599"/>
                  </a:lnTo>
                  <a:lnTo>
                    <a:pt x="5" y="3599"/>
                  </a:lnTo>
                  <a:lnTo>
                    <a:pt x="9" y="3583"/>
                  </a:lnTo>
                  <a:lnTo>
                    <a:pt x="0" y="3583"/>
                  </a:lnTo>
                  <a:lnTo>
                    <a:pt x="5" y="329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64160" y="2820600"/>
              <a:ext cx="150480" cy="101160"/>
            </a:xfrm>
            <a:custGeom>
              <a:avLst/>
              <a:gdLst/>
              <a:ahLst/>
              <a:rect l="l" t="t" r="r" b="b"/>
              <a:pathLst>
                <a:path w="581" h="522">
                  <a:moveTo>
                    <a:pt x="0" y="492"/>
                  </a:moveTo>
                  <a:lnTo>
                    <a:pt x="4" y="492"/>
                  </a:lnTo>
                  <a:lnTo>
                    <a:pt x="4" y="462"/>
                  </a:lnTo>
                  <a:lnTo>
                    <a:pt x="9" y="462"/>
                  </a:lnTo>
                  <a:lnTo>
                    <a:pt x="9" y="438"/>
                  </a:lnTo>
                  <a:lnTo>
                    <a:pt x="14" y="438"/>
                  </a:lnTo>
                  <a:lnTo>
                    <a:pt x="14" y="414"/>
                  </a:lnTo>
                  <a:lnTo>
                    <a:pt x="19" y="414"/>
                  </a:lnTo>
                  <a:lnTo>
                    <a:pt x="19" y="386"/>
                  </a:lnTo>
                  <a:lnTo>
                    <a:pt x="24" y="386"/>
                  </a:lnTo>
                  <a:lnTo>
                    <a:pt x="24" y="356"/>
                  </a:lnTo>
                  <a:lnTo>
                    <a:pt x="29" y="356"/>
                  </a:lnTo>
                  <a:lnTo>
                    <a:pt x="29" y="332"/>
                  </a:lnTo>
                  <a:lnTo>
                    <a:pt x="34" y="332"/>
                  </a:lnTo>
                  <a:lnTo>
                    <a:pt x="34" y="320"/>
                  </a:lnTo>
                  <a:lnTo>
                    <a:pt x="39" y="320"/>
                  </a:lnTo>
                  <a:lnTo>
                    <a:pt x="39" y="291"/>
                  </a:lnTo>
                  <a:lnTo>
                    <a:pt x="43" y="291"/>
                  </a:lnTo>
                  <a:lnTo>
                    <a:pt x="43" y="285"/>
                  </a:lnTo>
                  <a:lnTo>
                    <a:pt x="48" y="285"/>
                  </a:lnTo>
                  <a:lnTo>
                    <a:pt x="48" y="255"/>
                  </a:lnTo>
                  <a:lnTo>
                    <a:pt x="53" y="255"/>
                  </a:lnTo>
                  <a:lnTo>
                    <a:pt x="53" y="218"/>
                  </a:lnTo>
                  <a:lnTo>
                    <a:pt x="57" y="218"/>
                  </a:lnTo>
                  <a:lnTo>
                    <a:pt x="57" y="183"/>
                  </a:lnTo>
                  <a:lnTo>
                    <a:pt x="63" y="183"/>
                  </a:lnTo>
                  <a:lnTo>
                    <a:pt x="63" y="125"/>
                  </a:lnTo>
                  <a:lnTo>
                    <a:pt x="67" y="125"/>
                  </a:lnTo>
                  <a:lnTo>
                    <a:pt x="67" y="65"/>
                  </a:lnTo>
                  <a:lnTo>
                    <a:pt x="72" y="65"/>
                  </a:lnTo>
                  <a:lnTo>
                    <a:pt x="72" y="54"/>
                  </a:lnTo>
                  <a:lnTo>
                    <a:pt x="86" y="54"/>
                  </a:lnTo>
                  <a:lnTo>
                    <a:pt x="86" y="49"/>
                  </a:lnTo>
                  <a:lnTo>
                    <a:pt x="90" y="49"/>
                  </a:lnTo>
                  <a:lnTo>
                    <a:pt x="90" y="31"/>
                  </a:lnTo>
                  <a:lnTo>
                    <a:pt x="97" y="31"/>
                  </a:lnTo>
                  <a:lnTo>
                    <a:pt x="97" y="24"/>
                  </a:lnTo>
                  <a:lnTo>
                    <a:pt x="149" y="24"/>
                  </a:lnTo>
                  <a:lnTo>
                    <a:pt x="149" y="19"/>
                  </a:lnTo>
                  <a:lnTo>
                    <a:pt x="163" y="19"/>
                  </a:lnTo>
                  <a:lnTo>
                    <a:pt x="163" y="13"/>
                  </a:lnTo>
                  <a:lnTo>
                    <a:pt x="183" y="13"/>
                  </a:lnTo>
                  <a:lnTo>
                    <a:pt x="183" y="6"/>
                  </a:lnTo>
                  <a:lnTo>
                    <a:pt x="212" y="6"/>
                  </a:lnTo>
                  <a:lnTo>
                    <a:pt x="212" y="0"/>
                  </a:lnTo>
                  <a:lnTo>
                    <a:pt x="283" y="0"/>
                  </a:lnTo>
                  <a:lnTo>
                    <a:pt x="283" y="6"/>
                  </a:lnTo>
                  <a:lnTo>
                    <a:pt x="345" y="6"/>
                  </a:lnTo>
                  <a:lnTo>
                    <a:pt x="345" y="13"/>
                  </a:lnTo>
                  <a:lnTo>
                    <a:pt x="399" y="13"/>
                  </a:lnTo>
                  <a:lnTo>
                    <a:pt x="399" y="19"/>
                  </a:lnTo>
                  <a:lnTo>
                    <a:pt x="490" y="19"/>
                  </a:lnTo>
                  <a:lnTo>
                    <a:pt x="490" y="24"/>
                  </a:lnTo>
                  <a:lnTo>
                    <a:pt x="528" y="24"/>
                  </a:lnTo>
                  <a:lnTo>
                    <a:pt x="528" y="31"/>
                  </a:lnTo>
                  <a:lnTo>
                    <a:pt x="557" y="31"/>
                  </a:lnTo>
                  <a:lnTo>
                    <a:pt x="557" y="36"/>
                  </a:lnTo>
                  <a:lnTo>
                    <a:pt x="567" y="36"/>
                  </a:lnTo>
                  <a:lnTo>
                    <a:pt x="567" y="42"/>
                  </a:lnTo>
                  <a:lnTo>
                    <a:pt x="571" y="42"/>
                  </a:lnTo>
                  <a:lnTo>
                    <a:pt x="571" y="49"/>
                  </a:lnTo>
                  <a:lnTo>
                    <a:pt x="577" y="49"/>
                  </a:lnTo>
                  <a:lnTo>
                    <a:pt x="577" y="54"/>
                  </a:lnTo>
                  <a:lnTo>
                    <a:pt x="581" y="54"/>
                  </a:lnTo>
                  <a:lnTo>
                    <a:pt x="581" y="84"/>
                  </a:lnTo>
                  <a:lnTo>
                    <a:pt x="567" y="84"/>
                  </a:lnTo>
                  <a:lnTo>
                    <a:pt x="567" y="96"/>
                  </a:lnTo>
                  <a:lnTo>
                    <a:pt x="562" y="96"/>
                  </a:lnTo>
                  <a:lnTo>
                    <a:pt x="562" y="107"/>
                  </a:lnTo>
                  <a:lnTo>
                    <a:pt x="553" y="107"/>
                  </a:lnTo>
                  <a:lnTo>
                    <a:pt x="553" y="114"/>
                  </a:lnTo>
                  <a:lnTo>
                    <a:pt x="544" y="114"/>
                  </a:lnTo>
                  <a:lnTo>
                    <a:pt x="544" y="119"/>
                  </a:lnTo>
                  <a:lnTo>
                    <a:pt x="523" y="119"/>
                  </a:lnTo>
                  <a:lnTo>
                    <a:pt x="523" y="125"/>
                  </a:lnTo>
                  <a:lnTo>
                    <a:pt x="518" y="125"/>
                  </a:lnTo>
                  <a:lnTo>
                    <a:pt x="518" y="131"/>
                  </a:lnTo>
                  <a:lnTo>
                    <a:pt x="509" y="131"/>
                  </a:lnTo>
                  <a:lnTo>
                    <a:pt x="509" y="136"/>
                  </a:lnTo>
                  <a:lnTo>
                    <a:pt x="504" y="136"/>
                  </a:lnTo>
                  <a:lnTo>
                    <a:pt x="504" y="142"/>
                  </a:lnTo>
                  <a:lnTo>
                    <a:pt x="495" y="142"/>
                  </a:lnTo>
                  <a:lnTo>
                    <a:pt x="495" y="149"/>
                  </a:lnTo>
                  <a:lnTo>
                    <a:pt x="485" y="149"/>
                  </a:lnTo>
                  <a:lnTo>
                    <a:pt x="485" y="155"/>
                  </a:lnTo>
                  <a:lnTo>
                    <a:pt x="471" y="155"/>
                  </a:lnTo>
                  <a:lnTo>
                    <a:pt x="471" y="160"/>
                  </a:lnTo>
                  <a:lnTo>
                    <a:pt x="467" y="160"/>
                  </a:lnTo>
                  <a:lnTo>
                    <a:pt x="467" y="166"/>
                  </a:lnTo>
                  <a:lnTo>
                    <a:pt x="456" y="166"/>
                  </a:lnTo>
                  <a:lnTo>
                    <a:pt x="456" y="172"/>
                  </a:lnTo>
                  <a:lnTo>
                    <a:pt x="451" y="172"/>
                  </a:lnTo>
                  <a:lnTo>
                    <a:pt x="451" y="177"/>
                  </a:lnTo>
                  <a:lnTo>
                    <a:pt x="441" y="177"/>
                  </a:lnTo>
                  <a:lnTo>
                    <a:pt x="441" y="183"/>
                  </a:lnTo>
                  <a:lnTo>
                    <a:pt x="432" y="183"/>
                  </a:lnTo>
                  <a:lnTo>
                    <a:pt x="432" y="190"/>
                  </a:lnTo>
                  <a:lnTo>
                    <a:pt x="427" y="190"/>
                  </a:lnTo>
                  <a:lnTo>
                    <a:pt x="427" y="196"/>
                  </a:lnTo>
                  <a:lnTo>
                    <a:pt x="418" y="196"/>
                  </a:lnTo>
                  <a:lnTo>
                    <a:pt x="418" y="201"/>
                  </a:lnTo>
                  <a:lnTo>
                    <a:pt x="408" y="201"/>
                  </a:lnTo>
                  <a:lnTo>
                    <a:pt x="408" y="208"/>
                  </a:lnTo>
                  <a:lnTo>
                    <a:pt x="399" y="208"/>
                  </a:lnTo>
                  <a:lnTo>
                    <a:pt x="399" y="213"/>
                  </a:lnTo>
                  <a:lnTo>
                    <a:pt x="394" y="213"/>
                  </a:lnTo>
                  <a:lnTo>
                    <a:pt x="394" y="218"/>
                  </a:lnTo>
                  <a:lnTo>
                    <a:pt x="389" y="218"/>
                  </a:lnTo>
                  <a:lnTo>
                    <a:pt x="389" y="226"/>
                  </a:lnTo>
                  <a:lnTo>
                    <a:pt x="379" y="226"/>
                  </a:lnTo>
                  <a:lnTo>
                    <a:pt x="379" y="231"/>
                  </a:lnTo>
                  <a:lnTo>
                    <a:pt x="374" y="231"/>
                  </a:lnTo>
                  <a:lnTo>
                    <a:pt x="374" y="237"/>
                  </a:lnTo>
                  <a:lnTo>
                    <a:pt x="365" y="237"/>
                  </a:lnTo>
                  <a:lnTo>
                    <a:pt x="365" y="242"/>
                  </a:lnTo>
                  <a:lnTo>
                    <a:pt x="360" y="242"/>
                  </a:lnTo>
                  <a:lnTo>
                    <a:pt x="360" y="250"/>
                  </a:lnTo>
                  <a:lnTo>
                    <a:pt x="355" y="250"/>
                  </a:lnTo>
                  <a:lnTo>
                    <a:pt x="355" y="255"/>
                  </a:lnTo>
                  <a:lnTo>
                    <a:pt x="345" y="255"/>
                  </a:lnTo>
                  <a:lnTo>
                    <a:pt x="345" y="261"/>
                  </a:lnTo>
                  <a:lnTo>
                    <a:pt x="337" y="261"/>
                  </a:lnTo>
                  <a:lnTo>
                    <a:pt x="337" y="267"/>
                  </a:lnTo>
                  <a:lnTo>
                    <a:pt x="331" y="267"/>
                  </a:lnTo>
                  <a:lnTo>
                    <a:pt x="331" y="272"/>
                  </a:lnTo>
                  <a:lnTo>
                    <a:pt x="322" y="272"/>
                  </a:lnTo>
                  <a:lnTo>
                    <a:pt x="322" y="278"/>
                  </a:lnTo>
                  <a:lnTo>
                    <a:pt x="311" y="278"/>
                  </a:lnTo>
                  <a:lnTo>
                    <a:pt x="311" y="285"/>
                  </a:lnTo>
                  <a:lnTo>
                    <a:pt x="303" y="285"/>
                  </a:lnTo>
                  <a:lnTo>
                    <a:pt x="303" y="291"/>
                  </a:lnTo>
                  <a:lnTo>
                    <a:pt x="297" y="291"/>
                  </a:lnTo>
                  <a:lnTo>
                    <a:pt x="297" y="296"/>
                  </a:lnTo>
                  <a:lnTo>
                    <a:pt x="293" y="296"/>
                  </a:lnTo>
                  <a:lnTo>
                    <a:pt x="293" y="302"/>
                  </a:lnTo>
                  <a:lnTo>
                    <a:pt x="288" y="302"/>
                  </a:lnTo>
                  <a:lnTo>
                    <a:pt x="288" y="308"/>
                  </a:lnTo>
                  <a:lnTo>
                    <a:pt x="283" y="308"/>
                  </a:lnTo>
                  <a:lnTo>
                    <a:pt x="283" y="313"/>
                  </a:lnTo>
                  <a:lnTo>
                    <a:pt x="278" y="313"/>
                  </a:lnTo>
                  <a:lnTo>
                    <a:pt x="278" y="320"/>
                  </a:lnTo>
                  <a:lnTo>
                    <a:pt x="274" y="320"/>
                  </a:lnTo>
                  <a:lnTo>
                    <a:pt x="274" y="326"/>
                  </a:lnTo>
                  <a:lnTo>
                    <a:pt x="264" y="326"/>
                  </a:lnTo>
                  <a:lnTo>
                    <a:pt x="264" y="332"/>
                  </a:lnTo>
                  <a:lnTo>
                    <a:pt x="260" y="332"/>
                  </a:lnTo>
                  <a:lnTo>
                    <a:pt x="260" y="337"/>
                  </a:lnTo>
                  <a:lnTo>
                    <a:pt x="250" y="337"/>
                  </a:lnTo>
                  <a:lnTo>
                    <a:pt x="250" y="343"/>
                  </a:lnTo>
                  <a:lnTo>
                    <a:pt x="246" y="343"/>
                  </a:lnTo>
                  <a:lnTo>
                    <a:pt x="246" y="356"/>
                  </a:lnTo>
                  <a:lnTo>
                    <a:pt x="235" y="356"/>
                  </a:lnTo>
                  <a:lnTo>
                    <a:pt x="235" y="361"/>
                  </a:lnTo>
                  <a:lnTo>
                    <a:pt x="230" y="361"/>
                  </a:lnTo>
                  <a:lnTo>
                    <a:pt x="230" y="367"/>
                  </a:lnTo>
                  <a:lnTo>
                    <a:pt x="226" y="367"/>
                  </a:lnTo>
                  <a:lnTo>
                    <a:pt x="226" y="373"/>
                  </a:lnTo>
                  <a:lnTo>
                    <a:pt x="221" y="373"/>
                  </a:lnTo>
                  <a:lnTo>
                    <a:pt x="221" y="378"/>
                  </a:lnTo>
                  <a:lnTo>
                    <a:pt x="212" y="378"/>
                  </a:lnTo>
                  <a:lnTo>
                    <a:pt x="212" y="386"/>
                  </a:lnTo>
                  <a:lnTo>
                    <a:pt x="202" y="386"/>
                  </a:lnTo>
                  <a:lnTo>
                    <a:pt x="202" y="391"/>
                  </a:lnTo>
                  <a:lnTo>
                    <a:pt x="197" y="391"/>
                  </a:lnTo>
                  <a:lnTo>
                    <a:pt x="197" y="397"/>
                  </a:lnTo>
                  <a:lnTo>
                    <a:pt x="187" y="397"/>
                  </a:lnTo>
                  <a:lnTo>
                    <a:pt x="187" y="403"/>
                  </a:lnTo>
                  <a:lnTo>
                    <a:pt x="183" y="403"/>
                  </a:lnTo>
                  <a:lnTo>
                    <a:pt x="183" y="409"/>
                  </a:lnTo>
                  <a:lnTo>
                    <a:pt x="173" y="409"/>
                  </a:lnTo>
                  <a:lnTo>
                    <a:pt x="173" y="414"/>
                  </a:lnTo>
                  <a:lnTo>
                    <a:pt x="169" y="414"/>
                  </a:lnTo>
                  <a:lnTo>
                    <a:pt x="169" y="419"/>
                  </a:lnTo>
                  <a:lnTo>
                    <a:pt x="159" y="419"/>
                  </a:lnTo>
                  <a:lnTo>
                    <a:pt x="159" y="427"/>
                  </a:lnTo>
                  <a:lnTo>
                    <a:pt x="153" y="427"/>
                  </a:lnTo>
                  <a:lnTo>
                    <a:pt x="153" y="432"/>
                  </a:lnTo>
                  <a:lnTo>
                    <a:pt x="144" y="432"/>
                  </a:lnTo>
                  <a:lnTo>
                    <a:pt x="144" y="438"/>
                  </a:lnTo>
                  <a:lnTo>
                    <a:pt x="139" y="438"/>
                  </a:lnTo>
                  <a:lnTo>
                    <a:pt x="139" y="444"/>
                  </a:lnTo>
                  <a:lnTo>
                    <a:pt x="130" y="444"/>
                  </a:lnTo>
                  <a:lnTo>
                    <a:pt x="130" y="451"/>
                  </a:lnTo>
                  <a:lnTo>
                    <a:pt x="120" y="451"/>
                  </a:lnTo>
                  <a:lnTo>
                    <a:pt x="120" y="456"/>
                  </a:lnTo>
                  <a:lnTo>
                    <a:pt x="116" y="456"/>
                  </a:lnTo>
                  <a:lnTo>
                    <a:pt x="116" y="462"/>
                  </a:lnTo>
                  <a:lnTo>
                    <a:pt x="111" y="462"/>
                  </a:lnTo>
                  <a:lnTo>
                    <a:pt x="111" y="468"/>
                  </a:lnTo>
                  <a:lnTo>
                    <a:pt x="101" y="468"/>
                  </a:lnTo>
                  <a:lnTo>
                    <a:pt x="101" y="473"/>
                  </a:lnTo>
                  <a:lnTo>
                    <a:pt x="97" y="473"/>
                  </a:lnTo>
                  <a:lnTo>
                    <a:pt x="97" y="479"/>
                  </a:lnTo>
                  <a:lnTo>
                    <a:pt x="90" y="479"/>
                  </a:lnTo>
                  <a:lnTo>
                    <a:pt x="90" y="485"/>
                  </a:lnTo>
                  <a:lnTo>
                    <a:pt x="86" y="485"/>
                  </a:lnTo>
                  <a:lnTo>
                    <a:pt x="86" y="497"/>
                  </a:lnTo>
                  <a:lnTo>
                    <a:pt x="82" y="497"/>
                  </a:lnTo>
                  <a:lnTo>
                    <a:pt x="82" y="504"/>
                  </a:lnTo>
                  <a:lnTo>
                    <a:pt x="76" y="504"/>
                  </a:lnTo>
                  <a:lnTo>
                    <a:pt x="76" y="509"/>
                  </a:lnTo>
                  <a:lnTo>
                    <a:pt x="72" y="509"/>
                  </a:lnTo>
                  <a:lnTo>
                    <a:pt x="72" y="515"/>
                  </a:lnTo>
                  <a:lnTo>
                    <a:pt x="57" y="515"/>
                  </a:lnTo>
                  <a:lnTo>
                    <a:pt x="57" y="522"/>
                  </a:lnTo>
                  <a:lnTo>
                    <a:pt x="29" y="522"/>
                  </a:lnTo>
                  <a:lnTo>
                    <a:pt x="29" y="515"/>
                  </a:lnTo>
                  <a:lnTo>
                    <a:pt x="9" y="515"/>
                  </a:lnTo>
                  <a:lnTo>
                    <a:pt x="9" y="509"/>
                  </a:lnTo>
                  <a:lnTo>
                    <a:pt x="4" y="509"/>
                  </a:lnTo>
                  <a:lnTo>
                    <a:pt x="4" y="504"/>
                  </a:lnTo>
                  <a:lnTo>
                    <a:pt x="0" y="504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242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80720" y="2829960"/>
              <a:ext cx="113040" cy="77040"/>
            </a:xfrm>
            <a:custGeom>
              <a:avLst/>
              <a:gdLst/>
              <a:ahLst/>
              <a:rect l="l" t="t" r="r" b="b"/>
              <a:pathLst>
                <a:path w="437" h="395">
                  <a:moveTo>
                    <a:pt x="0" y="348"/>
                  </a:moveTo>
                  <a:lnTo>
                    <a:pt x="4" y="348"/>
                  </a:lnTo>
                  <a:lnTo>
                    <a:pt x="4" y="324"/>
                  </a:lnTo>
                  <a:lnTo>
                    <a:pt x="9" y="324"/>
                  </a:lnTo>
                  <a:lnTo>
                    <a:pt x="9" y="312"/>
                  </a:lnTo>
                  <a:lnTo>
                    <a:pt x="13" y="312"/>
                  </a:lnTo>
                  <a:lnTo>
                    <a:pt x="13" y="294"/>
                  </a:lnTo>
                  <a:lnTo>
                    <a:pt x="19" y="294"/>
                  </a:lnTo>
                  <a:lnTo>
                    <a:pt x="19" y="277"/>
                  </a:lnTo>
                  <a:lnTo>
                    <a:pt x="23" y="277"/>
                  </a:lnTo>
                  <a:lnTo>
                    <a:pt x="23" y="229"/>
                  </a:lnTo>
                  <a:lnTo>
                    <a:pt x="27" y="229"/>
                  </a:lnTo>
                  <a:lnTo>
                    <a:pt x="27" y="206"/>
                  </a:lnTo>
                  <a:lnTo>
                    <a:pt x="34" y="206"/>
                  </a:lnTo>
                  <a:lnTo>
                    <a:pt x="34" y="193"/>
                  </a:lnTo>
                  <a:lnTo>
                    <a:pt x="38" y="193"/>
                  </a:lnTo>
                  <a:lnTo>
                    <a:pt x="38" y="123"/>
                  </a:lnTo>
                  <a:lnTo>
                    <a:pt x="43" y="123"/>
                  </a:lnTo>
                  <a:lnTo>
                    <a:pt x="43" y="47"/>
                  </a:lnTo>
                  <a:lnTo>
                    <a:pt x="48" y="47"/>
                  </a:lnTo>
                  <a:lnTo>
                    <a:pt x="48" y="35"/>
                  </a:lnTo>
                  <a:lnTo>
                    <a:pt x="53" y="35"/>
                  </a:lnTo>
                  <a:lnTo>
                    <a:pt x="53" y="28"/>
                  </a:lnTo>
                  <a:lnTo>
                    <a:pt x="71" y="28"/>
                  </a:lnTo>
                  <a:lnTo>
                    <a:pt x="71" y="23"/>
                  </a:lnTo>
                  <a:lnTo>
                    <a:pt x="86" y="23"/>
                  </a:lnTo>
                  <a:lnTo>
                    <a:pt x="86" y="16"/>
                  </a:lnTo>
                  <a:lnTo>
                    <a:pt x="110" y="16"/>
                  </a:lnTo>
                  <a:lnTo>
                    <a:pt x="110" y="11"/>
                  </a:lnTo>
                  <a:lnTo>
                    <a:pt x="130" y="11"/>
                  </a:lnTo>
                  <a:lnTo>
                    <a:pt x="130" y="5"/>
                  </a:lnTo>
                  <a:lnTo>
                    <a:pt x="153" y="5"/>
                  </a:lnTo>
                  <a:lnTo>
                    <a:pt x="153" y="0"/>
                  </a:lnTo>
                  <a:lnTo>
                    <a:pt x="248" y="0"/>
                  </a:lnTo>
                  <a:lnTo>
                    <a:pt x="248" y="5"/>
                  </a:lnTo>
                  <a:lnTo>
                    <a:pt x="311" y="5"/>
                  </a:lnTo>
                  <a:lnTo>
                    <a:pt x="311" y="11"/>
                  </a:lnTo>
                  <a:lnTo>
                    <a:pt x="364" y="11"/>
                  </a:lnTo>
                  <a:lnTo>
                    <a:pt x="364" y="16"/>
                  </a:lnTo>
                  <a:lnTo>
                    <a:pt x="437" y="16"/>
                  </a:lnTo>
                  <a:lnTo>
                    <a:pt x="437" y="35"/>
                  </a:lnTo>
                  <a:lnTo>
                    <a:pt x="427" y="35"/>
                  </a:lnTo>
                  <a:lnTo>
                    <a:pt x="427" y="41"/>
                  </a:lnTo>
                  <a:lnTo>
                    <a:pt x="412" y="41"/>
                  </a:lnTo>
                  <a:lnTo>
                    <a:pt x="412" y="47"/>
                  </a:lnTo>
                  <a:lnTo>
                    <a:pt x="408" y="47"/>
                  </a:lnTo>
                  <a:lnTo>
                    <a:pt x="408" y="52"/>
                  </a:lnTo>
                  <a:lnTo>
                    <a:pt x="404" y="52"/>
                  </a:lnTo>
                  <a:lnTo>
                    <a:pt x="404" y="58"/>
                  </a:lnTo>
                  <a:lnTo>
                    <a:pt x="393" y="58"/>
                  </a:lnTo>
                  <a:lnTo>
                    <a:pt x="393" y="65"/>
                  </a:lnTo>
                  <a:lnTo>
                    <a:pt x="384" y="65"/>
                  </a:lnTo>
                  <a:lnTo>
                    <a:pt x="384" y="70"/>
                  </a:lnTo>
                  <a:lnTo>
                    <a:pt x="378" y="70"/>
                  </a:lnTo>
                  <a:lnTo>
                    <a:pt x="378" y="76"/>
                  </a:lnTo>
                  <a:lnTo>
                    <a:pt x="374" y="76"/>
                  </a:lnTo>
                  <a:lnTo>
                    <a:pt x="374" y="82"/>
                  </a:lnTo>
                  <a:lnTo>
                    <a:pt x="364" y="82"/>
                  </a:lnTo>
                  <a:lnTo>
                    <a:pt x="364" y="87"/>
                  </a:lnTo>
                  <a:lnTo>
                    <a:pt x="355" y="87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50" y="100"/>
                  </a:lnTo>
                  <a:lnTo>
                    <a:pt x="336" y="100"/>
                  </a:lnTo>
                  <a:lnTo>
                    <a:pt x="336" y="106"/>
                  </a:lnTo>
                  <a:lnTo>
                    <a:pt x="331" y="106"/>
                  </a:lnTo>
                  <a:lnTo>
                    <a:pt x="331" y="111"/>
                  </a:lnTo>
                  <a:lnTo>
                    <a:pt x="321" y="111"/>
                  </a:lnTo>
                  <a:lnTo>
                    <a:pt x="321" y="117"/>
                  </a:lnTo>
                  <a:lnTo>
                    <a:pt x="316" y="117"/>
                  </a:lnTo>
                  <a:lnTo>
                    <a:pt x="316" y="128"/>
                  </a:lnTo>
                  <a:lnTo>
                    <a:pt x="297" y="128"/>
                  </a:lnTo>
                  <a:lnTo>
                    <a:pt x="297" y="134"/>
                  </a:lnTo>
                  <a:lnTo>
                    <a:pt x="292" y="134"/>
                  </a:lnTo>
                  <a:lnTo>
                    <a:pt x="292" y="141"/>
                  </a:lnTo>
                  <a:lnTo>
                    <a:pt x="288" y="141"/>
                  </a:lnTo>
                  <a:lnTo>
                    <a:pt x="288" y="147"/>
                  </a:lnTo>
                  <a:lnTo>
                    <a:pt x="278" y="147"/>
                  </a:lnTo>
                  <a:lnTo>
                    <a:pt x="278" y="152"/>
                  </a:lnTo>
                  <a:lnTo>
                    <a:pt x="274" y="152"/>
                  </a:lnTo>
                  <a:lnTo>
                    <a:pt x="274" y="159"/>
                  </a:lnTo>
                  <a:lnTo>
                    <a:pt x="264" y="159"/>
                  </a:lnTo>
                  <a:lnTo>
                    <a:pt x="264" y="164"/>
                  </a:lnTo>
                  <a:lnTo>
                    <a:pt x="254" y="164"/>
                  </a:lnTo>
                  <a:lnTo>
                    <a:pt x="254" y="169"/>
                  </a:lnTo>
                  <a:lnTo>
                    <a:pt x="248" y="169"/>
                  </a:lnTo>
                  <a:lnTo>
                    <a:pt x="248" y="177"/>
                  </a:lnTo>
                  <a:lnTo>
                    <a:pt x="240" y="177"/>
                  </a:lnTo>
                  <a:lnTo>
                    <a:pt x="240" y="182"/>
                  </a:lnTo>
                  <a:lnTo>
                    <a:pt x="234" y="182"/>
                  </a:lnTo>
                  <a:lnTo>
                    <a:pt x="234" y="188"/>
                  </a:lnTo>
                  <a:lnTo>
                    <a:pt x="230" y="188"/>
                  </a:lnTo>
                  <a:lnTo>
                    <a:pt x="230" y="193"/>
                  </a:lnTo>
                  <a:lnTo>
                    <a:pt x="220" y="193"/>
                  </a:lnTo>
                  <a:lnTo>
                    <a:pt x="220" y="201"/>
                  </a:lnTo>
                  <a:lnTo>
                    <a:pt x="215" y="201"/>
                  </a:lnTo>
                  <a:lnTo>
                    <a:pt x="215" y="206"/>
                  </a:lnTo>
                  <a:lnTo>
                    <a:pt x="211" y="206"/>
                  </a:lnTo>
                  <a:lnTo>
                    <a:pt x="211" y="212"/>
                  </a:lnTo>
                  <a:lnTo>
                    <a:pt x="201" y="212"/>
                  </a:lnTo>
                  <a:lnTo>
                    <a:pt x="201" y="218"/>
                  </a:lnTo>
                  <a:lnTo>
                    <a:pt x="197" y="218"/>
                  </a:lnTo>
                  <a:lnTo>
                    <a:pt x="197" y="223"/>
                  </a:lnTo>
                  <a:lnTo>
                    <a:pt x="192" y="223"/>
                  </a:lnTo>
                  <a:lnTo>
                    <a:pt x="192" y="229"/>
                  </a:lnTo>
                  <a:lnTo>
                    <a:pt x="183" y="229"/>
                  </a:lnTo>
                  <a:lnTo>
                    <a:pt x="183" y="236"/>
                  </a:lnTo>
                  <a:lnTo>
                    <a:pt x="178" y="236"/>
                  </a:lnTo>
                  <a:lnTo>
                    <a:pt x="178" y="242"/>
                  </a:lnTo>
                  <a:lnTo>
                    <a:pt x="172" y="242"/>
                  </a:lnTo>
                  <a:lnTo>
                    <a:pt x="172" y="247"/>
                  </a:lnTo>
                  <a:lnTo>
                    <a:pt x="163" y="247"/>
                  </a:lnTo>
                  <a:lnTo>
                    <a:pt x="163" y="253"/>
                  </a:lnTo>
                  <a:lnTo>
                    <a:pt x="158" y="253"/>
                  </a:lnTo>
                  <a:lnTo>
                    <a:pt x="158" y="259"/>
                  </a:lnTo>
                  <a:lnTo>
                    <a:pt x="153" y="259"/>
                  </a:lnTo>
                  <a:lnTo>
                    <a:pt x="153" y="264"/>
                  </a:lnTo>
                  <a:lnTo>
                    <a:pt x="149" y="264"/>
                  </a:lnTo>
                  <a:lnTo>
                    <a:pt x="149" y="271"/>
                  </a:lnTo>
                  <a:lnTo>
                    <a:pt x="139" y="271"/>
                  </a:lnTo>
                  <a:lnTo>
                    <a:pt x="139" y="277"/>
                  </a:lnTo>
                  <a:lnTo>
                    <a:pt x="130" y="277"/>
                  </a:lnTo>
                  <a:lnTo>
                    <a:pt x="130" y="283"/>
                  </a:lnTo>
                  <a:lnTo>
                    <a:pt x="124" y="283"/>
                  </a:lnTo>
                  <a:lnTo>
                    <a:pt x="124" y="288"/>
                  </a:lnTo>
                  <a:lnTo>
                    <a:pt x="120" y="288"/>
                  </a:lnTo>
                  <a:lnTo>
                    <a:pt x="120" y="294"/>
                  </a:lnTo>
                  <a:lnTo>
                    <a:pt x="110" y="294"/>
                  </a:lnTo>
                  <a:lnTo>
                    <a:pt x="110" y="300"/>
                  </a:lnTo>
                  <a:lnTo>
                    <a:pt x="106" y="300"/>
                  </a:lnTo>
                  <a:lnTo>
                    <a:pt x="106" y="307"/>
                  </a:lnTo>
                  <a:lnTo>
                    <a:pt x="100" y="307"/>
                  </a:lnTo>
                  <a:lnTo>
                    <a:pt x="100" y="312"/>
                  </a:lnTo>
                  <a:lnTo>
                    <a:pt x="96" y="312"/>
                  </a:lnTo>
                  <a:lnTo>
                    <a:pt x="96" y="318"/>
                  </a:lnTo>
                  <a:lnTo>
                    <a:pt x="86" y="318"/>
                  </a:lnTo>
                  <a:lnTo>
                    <a:pt x="86" y="324"/>
                  </a:lnTo>
                  <a:lnTo>
                    <a:pt x="81" y="324"/>
                  </a:lnTo>
                  <a:lnTo>
                    <a:pt x="81" y="329"/>
                  </a:lnTo>
                  <a:lnTo>
                    <a:pt x="71" y="329"/>
                  </a:lnTo>
                  <a:lnTo>
                    <a:pt x="71" y="337"/>
                  </a:lnTo>
                  <a:lnTo>
                    <a:pt x="67" y="337"/>
                  </a:lnTo>
                  <a:lnTo>
                    <a:pt x="67" y="342"/>
                  </a:lnTo>
                  <a:lnTo>
                    <a:pt x="62" y="342"/>
                  </a:lnTo>
                  <a:lnTo>
                    <a:pt x="62" y="348"/>
                  </a:lnTo>
                  <a:lnTo>
                    <a:pt x="53" y="348"/>
                  </a:lnTo>
                  <a:lnTo>
                    <a:pt x="53" y="354"/>
                  </a:lnTo>
                  <a:lnTo>
                    <a:pt x="48" y="354"/>
                  </a:lnTo>
                  <a:lnTo>
                    <a:pt x="48" y="360"/>
                  </a:lnTo>
                  <a:lnTo>
                    <a:pt x="43" y="360"/>
                  </a:lnTo>
                  <a:lnTo>
                    <a:pt x="43" y="365"/>
                  </a:lnTo>
                  <a:lnTo>
                    <a:pt x="34" y="365"/>
                  </a:lnTo>
                  <a:lnTo>
                    <a:pt x="34" y="370"/>
                  </a:lnTo>
                  <a:lnTo>
                    <a:pt x="23" y="370"/>
                  </a:lnTo>
                  <a:lnTo>
                    <a:pt x="23" y="378"/>
                  </a:lnTo>
                  <a:lnTo>
                    <a:pt x="19" y="378"/>
                  </a:lnTo>
                  <a:lnTo>
                    <a:pt x="19" y="383"/>
                  </a:lnTo>
                  <a:lnTo>
                    <a:pt x="13" y="383"/>
                  </a:lnTo>
                  <a:lnTo>
                    <a:pt x="13" y="389"/>
                  </a:lnTo>
                  <a:lnTo>
                    <a:pt x="9" y="389"/>
                  </a:lnTo>
                  <a:lnTo>
                    <a:pt x="9" y="395"/>
                  </a:lnTo>
                  <a:lnTo>
                    <a:pt x="4" y="395"/>
                  </a:lnTo>
                  <a:lnTo>
                    <a:pt x="4" y="389"/>
                  </a:lnTo>
                  <a:lnTo>
                    <a:pt x="0" y="389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77120" y="2079000"/>
              <a:ext cx="68400" cy="82440"/>
            </a:xfrm>
            <a:custGeom>
              <a:avLst/>
              <a:gdLst/>
              <a:ahLst/>
              <a:rect l="l" t="t" r="r" b="b"/>
              <a:pathLst>
                <a:path w="264" h="424">
                  <a:moveTo>
                    <a:pt x="0" y="424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26" y="1"/>
                  </a:lnTo>
                  <a:lnTo>
                    <a:pt x="140" y="1"/>
                  </a:lnTo>
                  <a:lnTo>
                    <a:pt x="153" y="1"/>
                  </a:lnTo>
                  <a:lnTo>
                    <a:pt x="164" y="3"/>
                  </a:lnTo>
                  <a:lnTo>
                    <a:pt x="174" y="3"/>
                  </a:lnTo>
                  <a:lnTo>
                    <a:pt x="182" y="4"/>
                  </a:lnTo>
                  <a:lnTo>
                    <a:pt x="189" y="5"/>
                  </a:lnTo>
                  <a:lnTo>
                    <a:pt x="194" y="8"/>
                  </a:lnTo>
                  <a:lnTo>
                    <a:pt x="201" y="10"/>
                  </a:lnTo>
                  <a:lnTo>
                    <a:pt x="208" y="14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8" y="28"/>
                  </a:lnTo>
                  <a:lnTo>
                    <a:pt x="234" y="34"/>
                  </a:lnTo>
                  <a:lnTo>
                    <a:pt x="239" y="41"/>
                  </a:lnTo>
                  <a:lnTo>
                    <a:pt x="244" y="49"/>
                  </a:lnTo>
                  <a:lnTo>
                    <a:pt x="249" y="56"/>
                  </a:lnTo>
                  <a:lnTo>
                    <a:pt x="253" y="66"/>
                  </a:lnTo>
                  <a:lnTo>
                    <a:pt x="256" y="75"/>
                  </a:lnTo>
                  <a:lnTo>
                    <a:pt x="259" y="85"/>
                  </a:lnTo>
                  <a:lnTo>
                    <a:pt x="261" y="96"/>
                  </a:lnTo>
                  <a:lnTo>
                    <a:pt x="262" y="107"/>
                  </a:lnTo>
                  <a:lnTo>
                    <a:pt x="263" y="119"/>
                  </a:lnTo>
                  <a:lnTo>
                    <a:pt x="264" y="131"/>
                  </a:lnTo>
                  <a:lnTo>
                    <a:pt x="263" y="141"/>
                  </a:lnTo>
                  <a:lnTo>
                    <a:pt x="263" y="150"/>
                  </a:lnTo>
                  <a:lnTo>
                    <a:pt x="262" y="159"/>
                  </a:lnTo>
                  <a:lnTo>
                    <a:pt x="261" y="167"/>
                  </a:lnTo>
                  <a:lnTo>
                    <a:pt x="259" y="175"/>
                  </a:lnTo>
                  <a:lnTo>
                    <a:pt x="257" y="182"/>
                  </a:lnTo>
                  <a:lnTo>
                    <a:pt x="255" y="190"/>
                  </a:lnTo>
                  <a:lnTo>
                    <a:pt x="252" y="197"/>
                  </a:lnTo>
                  <a:lnTo>
                    <a:pt x="249" y="204"/>
                  </a:lnTo>
                  <a:lnTo>
                    <a:pt x="246" y="210"/>
                  </a:lnTo>
                  <a:lnTo>
                    <a:pt x="243" y="215"/>
                  </a:lnTo>
                  <a:lnTo>
                    <a:pt x="239" y="221"/>
                  </a:lnTo>
                  <a:lnTo>
                    <a:pt x="236" y="226"/>
                  </a:lnTo>
                  <a:lnTo>
                    <a:pt x="232" y="230"/>
                  </a:lnTo>
                  <a:lnTo>
                    <a:pt x="228" y="235"/>
                  </a:lnTo>
                  <a:lnTo>
                    <a:pt x="223" y="238"/>
                  </a:lnTo>
                  <a:lnTo>
                    <a:pt x="219" y="242"/>
                  </a:lnTo>
                  <a:lnTo>
                    <a:pt x="214" y="246"/>
                  </a:lnTo>
                  <a:lnTo>
                    <a:pt x="209" y="248"/>
                  </a:lnTo>
                  <a:lnTo>
                    <a:pt x="205" y="251"/>
                  </a:lnTo>
                  <a:lnTo>
                    <a:pt x="200" y="253"/>
                  </a:lnTo>
                  <a:lnTo>
                    <a:pt x="196" y="256"/>
                  </a:lnTo>
                  <a:lnTo>
                    <a:pt x="191" y="257"/>
                  </a:lnTo>
                  <a:lnTo>
                    <a:pt x="187" y="258"/>
                  </a:lnTo>
                  <a:lnTo>
                    <a:pt x="180" y="260"/>
                  </a:lnTo>
                  <a:lnTo>
                    <a:pt x="173" y="261"/>
                  </a:lnTo>
                  <a:lnTo>
                    <a:pt x="165" y="262"/>
                  </a:lnTo>
                  <a:lnTo>
                    <a:pt x="157" y="263"/>
                  </a:lnTo>
                  <a:lnTo>
                    <a:pt x="148" y="263"/>
                  </a:lnTo>
                  <a:lnTo>
                    <a:pt x="137" y="265"/>
                  </a:lnTo>
                  <a:lnTo>
                    <a:pt x="126" y="265"/>
                  </a:lnTo>
                  <a:lnTo>
                    <a:pt x="115" y="265"/>
                  </a:lnTo>
                  <a:lnTo>
                    <a:pt x="69" y="265"/>
                  </a:lnTo>
                  <a:lnTo>
                    <a:pt x="69" y="424"/>
                  </a:lnTo>
                  <a:lnTo>
                    <a:pt x="0" y="424"/>
                  </a:lnTo>
                  <a:close/>
                  <a:moveTo>
                    <a:pt x="69" y="72"/>
                  </a:moveTo>
                  <a:lnTo>
                    <a:pt x="69" y="192"/>
                  </a:lnTo>
                  <a:lnTo>
                    <a:pt x="108" y="192"/>
                  </a:lnTo>
                  <a:lnTo>
                    <a:pt x="117" y="192"/>
                  </a:lnTo>
                  <a:lnTo>
                    <a:pt x="126" y="192"/>
                  </a:lnTo>
                  <a:lnTo>
                    <a:pt x="134" y="192"/>
                  </a:lnTo>
                  <a:lnTo>
                    <a:pt x="141" y="191"/>
                  </a:lnTo>
                  <a:lnTo>
                    <a:pt x="149" y="190"/>
                  </a:lnTo>
                  <a:lnTo>
                    <a:pt x="154" y="189"/>
                  </a:lnTo>
                  <a:lnTo>
                    <a:pt x="159" y="187"/>
                  </a:lnTo>
                  <a:lnTo>
                    <a:pt x="163" y="186"/>
                  </a:lnTo>
                  <a:lnTo>
                    <a:pt x="166" y="185"/>
                  </a:lnTo>
                  <a:lnTo>
                    <a:pt x="169" y="182"/>
                  </a:lnTo>
                  <a:lnTo>
                    <a:pt x="172" y="180"/>
                  </a:lnTo>
                  <a:lnTo>
                    <a:pt x="175" y="177"/>
                  </a:lnTo>
                  <a:lnTo>
                    <a:pt x="178" y="175"/>
                  </a:lnTo>
                  <a:lnTo>
                    <a:pt x="180" y="172"/>
                  </a:lnTo>
                  <a:lnTo>
                    <a:pt x="182" y="169"/>
                  </a:lnTo>
                  <a:lnTo>
                    <a:pt x="184" y="165"/>
                  </a:lnTo>
                  <a:lnTo>
                    <a:pt x="186" y="161"/>
                  </a:lnTo>
                  <a:lnTo>
                    <a:pt x="188" y="157"/>
                  </a:lnTo>
                  <a:lnTo>
                    <a:pt x="189" y="154"/>
                  </a:lnTo>
                  <a:lnTo>
                    <a:pt x="190" y="150"/>
                  </a:lnTo>
                  <a:lnTo>
                    <a:pt x="191" y="146"/>
                  </a:lnTo>
                  <a:lnTo>
                    <a:pt x="191" y="141"/>
                  </a:lnTo>
                  <a:lnTo>
                    <a:pt x="192" y="137"/>
                  </a:lnTo>
                  <a:lnTo>
                    <a:pt x="192" y="132"/>
                  </a:lnTo>
                  <a:lnTo>
                    <a:pt x="192" y="126"/>
                  </a:lnTo>
                  <a:lnTo>
                    <a:pt x="191" y="121"/>
                  </a:lnTo>
                  <a:lnTo>
                    <a:pt x="190" y="116"/>
                  </a:lnTo>
                  <a:lnTo>
                    <a:pt x="189" y="111"/>
                  </a:lnTo>
                  <a:lnTo>
                    <a:pt x="188" y="106"/>
                  </a:lnTo>
                  <a:lnTo>
                    <a:pt x="186" y="102"/>
                  </a:lnTo>
                  <a:lnTo>
                    <a:pt x="184" y="97"/>
                  </a:lnTo>
                  <a:lnTo>
                    <a:pt x="181" y="94"/>
                  </a:lnTo>
                  <a:lnTo>
                    <a:pt x="178" y="90"/>
                  </a:lnTo>
                  <a:lnTo>
                    <a:pt x="175" y="87"/>
                  </a:lnTo>
                  <a:lnTo>
                    <a:pt x="172" y="85"/>
                  </a:lnTo>
                  <a:lnTo>
                    <a:pt x="169" y="81"/>
                  </a:lnTo>
                  <a:lnTo>
                    <a:pt x="165" y="80"/>
                  </a:lnTo>
                  <a:lnTo>
                    <a:pt x="161" y="77"/>
                  </a:lnTo>
                  <a:lnTo>
                    <a:pt x="158" y="76"/>
                  </a:lnTo>
                  <a:lnTo>
                    <a:pt x="154" y="75"/>
                  </a:lnTo>
                  <a:lnTo>
                    <a:pt x="150" y="75"/>
                  </a:lnTo>
                  <a:lnTo>
                    <a:pt x="146" y="74"/>
                  </a:lnTo>
                  <a:lnTo>
                    <a:pt x="140" y="74"/>
                  </a:lnTo>
                  <a:lnTo>
                    <a:pt x="134" y="74"/>
                  </a:lnTo>
                  <a:lnTo>
                    <a:pt x="127" y="72"/>
                  </a:lnTo>
                  <a:lnTo>
                    <a:pt x="120" y="72"/>
                  </a:lnTo>
                  <a:lnTo>
                    <a:pt x="112" y="72"/>
                  </a:lnTo>
                  <a:lnTo>
                    <a:pt x="103" y="72"/>
                  </a:lnTo>
                  <a:lnTo>
                    <a:pt x="69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57040" y="2078280"/>
              <a:ext cx="86400" cy="84600"/>
            </a:xfrm>
            <a:custGeom>
              <a:avLst/>
              <a:gdLst/>
              <a:ahLst/>
              <a:rect l="l" t="t" r="r" b="b"/>
              <a:pathLst>
                <a:path w="334" h="438">
                  <a:moveTo>
                    <a:pt x="0" y="221"/>
                  </a:moveTo>
                  <a:lnTo>
                    <a:pt x="0" y="206"/>
                  </a:lnTo>
                  <a:lnTo>
                    <a:pt x="1" y="190"/>
                  </a:lnTo>
                  <a:lnTo>
                    <a:pt x="2" y="176"/>
                  </a:lnTo>
                  <a:lnTo>
                    <a:pt x="4" y="162"/>
                  </a:lnTo>
                  <a:lnTo>
                    <a:pt x="6" y="148"/>
                  </a:lnTo>
                  <a:lnTo>
                    <a:pt x="9" y="136"/>
                  </a:lnTo>
                  <a:lnTo>
                    <a:pt x="12" y="123"/>
                  </a:lnTo>
                  <a:lnTo>
                    <a:pt x="16" y="112"/>
                  </a:lnTo>
                  <a:lnTo>
                    <a:pt x="19" y="105"/>
                  </a:lnTo>
                  <a:lnTo>
                    <a:pt x="22" y="97"/>
                  </a:lnTo>
                  <a:lnTo>
                    <a:pt x="25" y="90"/>
                  </a:lnTo>
                  <a:lnTo>
                    <a:pt x="29" y="82"/>
                  </a:lnTo>
                  <a:lnTo>
                    <a:pt x="33" y="75"/>
                  </a:lnTo>
                  <a:lnTo>
                    <a:pt x="38" y="67"/>
                  </a:lnTo>
                  <a:lnTo>
                    <a:pt x="42" y="61"/>
                  </a:lnTo>
                  <a:lnTo>
                    <a:pt x="47" y="55"/>
                  </a:lnTo>
                  <a:lnTo>
                    <a:pt x="53" y="49"/>
                  </a:lnTo>
                  <a:lnTo>
                    <a:pt x="58" y="42"/>
                  </a:lnTo>
                  <a:lnTo>
                    <a:pt x="64" y="37"/>
                  </a:lnTo>
                  <a:lnTo>
                    <a:pt x="69" y="32"/>
                  </a:lnTo>
                  <a:lnTo>
                    <a:pt x="75" y="27"/>
                  </a:lnTo>
                  <a:lnTo>
                    <a:pt x="80" y="24"/>
                  </a:lnTo>
                  <a:lnTo>
                    <a:pt x="86" y="20"/>
                  </a:lnTo>
                  <a:lnTo>
                    <a:pt x="92" y="16"/>
                  </a:lnTo>
                  <a:lnTo>
                    <a:pt x="100" y="12"/>
                  </a:lnTo>
                  <a:lnTo>
                    <a:pt x="109" y="9"/>
                  </a:lnTo>
                  <a:lnTo>
                    <a:pt x="117" y="6"/>
                  </a:lnTo>
                  <a:lnTo>
                    <a:pt x="127" y="4"/>
                  </a:lnTo>
                  <a:lnTo>
                    <a:pt x="137" y="2"/>
                  </a:lnTo>
                  <a:lnTo>
                    <a:pt x="146" y="1"/>
                  </a:lnTo>
                  <a:lnTo>
                    <a:pt x="156" y="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03" y="4"/>
                  </a:lnTo>
                  <a:lnTo>
                    <a:pt x="219" y="7"/>
                  </a:lnTo>
                  <a:lnTo>
                    <a:pt x="235" y="14"/>
                  </a:lnTo>
                  <a:lnTo>
                    <a:pt x="249" y="22"/>
                  </a:lnTo>
                  <a:lnTo>
                    <a:pt x="263" y="32"/>
                  </a:lnTo>
                  <a:lnTo>
                    <a:pt x="277" y="44"/>
                  </a:lnTo>
                  <a:lnTo>
                    <a:pt x="289" y="57"/>
                  </a:lnTo>
                  <a:lnTo>
                    <a:pt x="299" y="72"/>
                  </a:lnTo>
                  <a:lnTo>
                    <a:pt x="308" y="90"/>
                  </a:lnTo>
                  <a:lnTo>
                    <a:pt x="316" y="107"/>
                  </a:lnTo>
                  <a:lnTo>
                    <a:pt x="322" y="127"/>
                  </a:lnTo>
                  <a:lnTo>
                    <a:pt x="327" y="148"/>
                  </a:lnTo>
                  <a:lnTo>
                    <a:pt x="331" y="171"/>
                  </a:lnTo>
                  <a:lnTo>
                    <a:pt x="333" y="195"/>
                  </a:lnTo>
                  <a:lnTo>
                    <a:pt x="334" y="219"/>
                  </a:lnTo>
                  <a:lnTo>
                    <a:pt x="333" y="244"/>
                  </a:lnTo>
                  <a:lnTo>
                    <a:pt x="331" y="268"/>
                  </a:lnTo>
                  <a:lnTo>
                    <a:pt x="327" y="289"/>
                  </a:lnTo>
                  <a:lnTo>
                    <a:pt x="322" y="311"/>
                  </a:lnTo>
                  <a:lnTo>
                    <a:pt x="316" y="331"/>
                  </a:lnTo>
                  <a:lnTo>
                    <a:pt x="308" y="348"/>
                  </a:lnTo>
                  <a:lnTo>
                    <a:pt x="299" y="364"/>
                  </a:lnTo>
                  <a:lnTo>
                    <a:pt x="289" y="380"/>
                  </a:lnTo>
                  <a:lnTo>
                    <a:pt x="277" y="393"/>
                  </a:lnTo>
                  <a:lnTo>
                    <a:pt x="264" y="405"/>
                  </a:lnTo>
                  <a:lnTo>
                    <a:pt x="250" y="415"/>
                  </a:lnTo>
                  <a:lnTo>
                    <a:pt x="236" y="423"/>
                  </a:lnTo>
                  <a:lnTo>
                    <a:pt x="220" y="429"/>
                  </a:lnTo>
                  <a:lnTo>
                    <a:pt x="204" y="434"/>
                  </a:lnTo>
                  <a:lnTo>
                    <a:pt x="186" y="437"/>
                  </a:lnTo>
                  <a:lnTo>
                    <a:pt x="167" y="438"/>
                  </a:lnTo>
                  <a:lnTo>
                    <a:pt x="149" y="437"/>
                  </a:lnTo>
                  <a:lnTo>
                    <a:pt x="131" y="434"/>
                  </a:lnTo>
                  <a:lnTo>
                    <a:pt x="114" y="429"/>
                  </a:lnTo>
                  <a:lnTo>
                    <a:pt x="98" y="423"/>
                  </a:lnTo>
                  <a:lnTo>
                    <a:pt x="84" y="415"/>
                  </a:lnTo>
                  <a:lnTo>
                    <a:pt x="70" y="405"/>
                  </a:lnTo>
                  <a:lnTo>
                    <a:pt x="57" y="394"/>
                  </a:lnTo>
                  <a:lnTo>
                    <a:pt x="45" y="380"/>
                  </a:lnTo>
                  <a:lnTo>
                    <a:pt x="34" y="365"/>
                  </a:lnTo>
                  <a:lnTo>
                    <a:pt x="25" y="348"/>
                  </a:lnTo>
                  <a:lnTo>
                    <a:pt x="18" y="331"/>
                  </a:lnTo>
                  <a:lnTo>
                    <a:pt x="11" y="312"/>
                  </a:lnTo>
                  <a:lnTo>
                    <a:pt x="6" y="291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close/>
                  <a:moveTo>
                    <a:pt x="72" y="218"/>
                  </a:moveTo>
                  <a:lnTo>
                    <a:pt x="72" y="236"/>
                  </a:lnTo>
                  <a:lnTo>
                    <a:pt x="73" y="252"/>
                  </a:lnTo>
                  <a:lnTo>
                    <a:pt x="75" y="267"/>
                  </a:lnTo>
                  <a:lnTo>
                    <a:pt x="78" y="282"/>
                  </a:lnTo>
                  <a:lnTo>
                    <a:pt x="82" y="294"/>
                  </a:lnTo>
                  <a:lnTo>
                    <a:pt x="87" y="307"/>
                  </a:lnTo>
                  <a:lnTo>
                    <a:pt x="92" y="318"/>
                  </a:lnTo>
                  <a:lnTo>
                    <a:pt x="98" y="328"/>
                  </a:lnTo>
                  <a:lnTo>
                    <a:pt x="105" y="337"/>
                  </a:lnTo>
                  <a:lnTo>
                    <a:pt x="113" y="344"/>
                  </a:lnTo>
                  <a:lnTo>
                    <a:pt x="120" y="351"/>
                  </a:lnTo>
                  <a:lnTo>
                    <a:pt x="130" y="356"/>
                  </a:lnTo>
                  <a:lnTo>
                    <a:pt x="138" y="359"/>
                  </a:lnTo>
                  <a:lnTo>
                    <a:pt x="147" y="362"/>
                  </a:lnTo>
                  <a:lnTo>
                    <a:pt x="157" y="364"/>
                  </a:lnTo>
                  <a:lnTo>
                    <a:pt x="167" y="364"/>
                  </a:lnTo>
                  <a:lnTo>
                    <a:pt x="177" y="364"/>
                  </a:lnTo>
                  <a:lnTo>
                    <a:pt x="187" y="362"/>
                  </a:lnTo>
                  <a:lnTo>
                    <a:pt x="196" y="359"/>
                  </a:lnTo>
                  <a:lnTo>
                    <a:pt x="205" y="356"/>
                  </a:lnTo>
                  <a:lnTo>
                    <a:pt x="214" y="351"/>
                  </a:lnTo>
                  <a:lnTo>
                    <a:pt x="221" y="344"/>
                  </a:lnTo>
                  <a:lnTo>
                    <a:pt x="229" y="337"/>
                  </a:lnTo>
                  <a:lnTo>
                    <a:pt x="235" y="328"/>
                  </a:lnTo>
                  <a:lnTo>
                    <a:pt x="242" y="318"/>
                  </a:lnTo>
                  <a:lnTo>
                    <a:pt x="247" y="307"/>
                  </a:lnTo>
                  <a:lnTo>
                    <a:pt x="251" y="294"/>
                  </a:lnTo>
                  <a:lnTo>
                    <a:pt x="255" y="282"/>
                  </a:lnTo>
                  <a:lnTo>
                    <a:pt x="258" y="267"/>
                  </a:lnTo>
                  <a:lnTo>
                    <a:pt x="260" y="252"/>
                  </a:lnTo>
                  <a:lnTo>
                    <a:pt x="261" y="234"/>
                  </a:lnTo>
                  <a:lnTo>
                    <a:pt x="262" y="217"/>
                  </a:lnTo>
                  <a:lnTo>
                    <a:pt x="261" y="200"/>
                  </a:lnTo>
                  <a:lnTo>
                    <a:pt x="260" y="183"/>
                  </a:lnTo>
                  <a:lnTo>
                    <a:pt x="258" y="168"/>
                  </a:lnTo>
                  <a:lnTo>
                    <a:pt x="255" y="153"/>
                  </a:lnTo>
                  <a:lnTo>
                    <a:pt x="252" y="141"/>
                  </a:lnTo>
                  <a:lnTo>
                    <a:pt x="247" y="128"/>
                  </a:lnTo>
                  <a:lnTo>
                    <a:pt x="242" y="118"/>
                  </a:lnTo>
                  <a:lnTo>
                    <a:pt x="236" y="108"/>
                  </a:lnTo>
                  <a:lnTo>
                    <a:pt x="229" y="100"/>
                  </a:lnTo>
                  <a:lnTo>
                    <a:pt x="222" y="92"/>
                  </a:lnTo>
                  <a:lnTo>
                    <a:pt x="215" y="86"/>
                  </a:lnTo>
                  <a:lnTo>
                    <a:pt x="206" y="81"/>
                  </a:lnTo>
                  <a:lnTo>
                    <a:pt x="198" y="77"/>
                  </a:lnTo>
                  <a:lnTo>
                    <a:pt x="187" y="75"/>
                  </a:lnTo>
                  <a:lnTo>
                    <a:pt x="177" y="74"/>
                  </a:lnTo>
                  <a:lnTo>
                    <a:pt x="167" y="72"/>
                  </a:lnTo>
                  <a:lnTo>
                    <a:pt x="157" y="74"/>
                  </a:lnTo>
                  <a:lnTo>
                    <a:pt x="147" y="75"/>
                  </a:lnTo>
                  <a:lnTo>
                    <a:pt x="138" y="77"/>
                  </a:lnTo>
                  <a:lnTo>
                    <a:pt x="129" y="82"/>
                  </a:lnTo>
                  <a:lnTo>
                    <a:pt x="119" y="87"/>
                  </a:lnTo>
                  <a:lnTo>
                    <a:pt x="112" y="93"/>
                  </a:lnTo>
                  <a:lnTo>
                    <a:pt x="104" y="101"/>
                  </a:lnTo>
                  <a:lnTo>
                    <a:pt x="98" y="108"/>
                  </a:lnTo>
                  <a:lnTo>
                    <a:pt x="92" y="118"/>
                  </a:lnTo>
                  <a:lnTo>
                    <a:pt x="86" y="130"/>
                  </a:lnTo>
                  <a:lnTo>
                    <a:pt x="82" y="141"/>
                  </a:lnTo>
                  <a:lnTo>
                    <a:pt x="78" y="155"/>
                  </a:lnTo>
                  <a:lnTo>
                    <a:pt x="75" y="168"/>
                  </a:lnTo>
                  <a:lnTo>
                    <a:pt x="73" y="185"/>
                  </a:lnTo>
                  <a:lnTo>
                    <a:pt x="72" y="201"/>
                  </a:lnTo>
                  <a:lnTo>
                    <a:pt x="72" y="2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58200" y="2079000"/>
              <a:ext cx="70920" cy="82440"/>
            </a:xfrm>
            <a:custGeom>
              <a:avLst/>
              <a:gdLst/>
              <a:ahLst/>
              <a:rect l="l" t="t" r="r" b="b"/>
              <a:pathLst>
                <a:path w="273" h="424">
                  <a:moveTo>
                    <a:pt x="0" y="424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209" y="283"/>
                  </a:lnTo>
                  <a:lnTo>
                    <a:pt x="209" y="0"/>
                  </a:lnTo>
                  <a:lnTo>
                    <a:pt x="273" y="0"/>
                  </a:lnTo>
                  <a:lnTo>
                    <a:pt x="273" y="424"/>
                  </a:lnTo>
                  <a:lnTo>
                    <a:pt x="204" y="424"/>
                  </a:lnTo>
                  <a:lnTo>
                    <a:pt x="65" y="149"/>
                  </a:lnTo>
                  <a:lnTo>
                    <a:pt x="65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41720" y="2079000"/>
              <a:ext cx="70920" cy="82440"/>
            </a:xfrm>
            <a:custGeom>
              <a:avLst/>
              <a:gdLst/>
              <a:ahLst/>
              <a:rect l="l" t="t" r="r" b="b"/>
              <a:pathLst>
                <a:path w="272" h="424">
                  <a:moveTo>
                    <a:pt x="101" y="424"/>
                  </a:moveTo>
                  <a:lnTo>
                    <a:pt x="101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72" y="0"/>
                  </a:lnTo>
                  <a:lnTo>
                    <a:pt x="272" y="72"/>
                  </a:lnTo>
                  <a:lnTo>
                    <a:pt x="171" y="72"/>
                  </a:lnTo>
                  <a:lnTo>
                    <a:pt x="171" y="424"/>
                  </a:lnTo>
                  <a:lnTo>
                    <a:pt x="101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24520" y="2079000"/>
              <a:ext cx="68400" cy="82440"/>
            </a:xfrm>
            <a:custGeom>
              <a:avLst/>
              <a:gdLst/>
              <a:ahLst/>
              <a:rect l="l" t="t" r="r" b="b"/>
              <a:pathLst>
                <a:path w="262" h="424">
                  <a:moveTo>
                    <a:pt x="0" y="424"/>
                  </a:moveTo>
                  <a:lnTo>
                    <a:pt x="0" y="0"/>
                  </a:lnTo>
                  <a:lnTo>
                    <a:pt x="256" y="0"/>
                  </a:lnTo>
                  <a:lnTo>
                    <a:pt x="256" y="72"/>
                  </a:lnTo>
                  <a:lnTo>
                    <a:pt x="69" y="72"/>
                  </a:lnTo>
                  <a:lnTo>
                    <a:pt x="69" y="166"/>
                  </a:lnTo>
                  <a:lnTo>
                    <a:pt x="242" y="166"/>
                  </a:lnTo>
                  <a:lnTo>
                    <a:pt x="242" y="237"/>
                  </a:lnTo>
                  <a:lnTo>
                    <a:pt x="69" y="237"/>
                  </a:lnTo>
                  <a:lnTo>
                    <a:pt x="69" y="353"/>
                  </a:lnTo>
                  <a:lnTo>
                    <a:pt x="262" y="353"/>
                  </a:lnTo>
                  <a:lnTo>
                    <a:pt x="262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90520" y="2079720"/>
              <a:ext cx="784800" cy="18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30480" y="2128680"/>
              <a:ext cx="90360" cy="92160"/>
            </a:xfrm>
            <a:custGeom>
              <a:avLst/>
              <a:gdLst/>
              <a:ahLst/>
              <a:rect l="l" t="t" r="r" b="b"/>
              <a:pathLst>
                <a:path w="348" h="473">
                  <a:moveTo>
                    <a:pt x="292" y="377"/>
                  </a:moveTo>
                  <a:lnTo>
                    <a:pt x="299" y="382"/>
                  </a:lnTo>
                  <a:lnTo>
                    <a:pt x="306" y="388"/>
                  </a:lnTo>
                  <a:lnTo>
                    <a:pt x="312" y="393"/>
                  </a:lnTo>
                  <a:lnTo>
                    <a:pt x="319" y="396"/>
                  </a:lnTo>
                  <a:lnTo>
                    <a:pt x="326" y="401"/>
                  </a:lnTo>
                  <a:lnTo>
                    <a:pt x="333" y="405"/>
                  </a:lnTo>
                  <a:lnTo>
                    <a:pt x="340" y="409"/>
                  </a:lnTo>
                  <a:lnTo>
                    <a:pt x="348" y="413"/>
                  </a:lnTo>
                  <a:lnTo>
                    <a:pt x="322" y="473"/>
                  </a:lnTo>
                  <a:lnTo>
                    <a:pt x="318" y="471"/>
                  </a:lnTo>
                  <a:lnTo>
                    <a:pt x="315" y="470"/>
                  </a:lnTo>
                  <a:lnTo>
                    <a:pt x="311" y="468"/>
                  </a:lnTo>
                  <a:lnTo>
                    <a:pt x="307" y="466"/>
                  </a:lnTo>
                  <a:lnTo>
                    <a:pt x="303" y="464"/>
                  </a:lnTo>
                  <a:lnTo>
                    <a:pt x="299" y="461"/>
                  </a:lnTo>
                  <a:lnTo>
                    <a:pt x="296" y="459"/>
                  </a:lnTo>
                  <a:lnTo>
                    <a:pt x="291" y="456"/>
                  </a:lnTo>
                  <a:lnTo>
                    <a:pt x="290" y="456"/>
                  </a:lnTo>
                  <a:lnTo>
                    <a:pt x="287" y="454"/>
                  </a:lnTo>
                  <a:lnTo>
                    <a:pt x="283" y="450"/>
                  </a:lnTo>
                  <a:lnTo>
                    <a:pt x="278" y="446"/>
                  </a:lnTo>
                  <a:lnTo>
                    <a:pt x="272" y="441"/>
                  </a:lnTo>
                  <a:lnTo>
                    <a:pt x="264" y="435"/>
                  </a:lnTo>
                  <a:lnTo>
                    <a:pt x="255" y="428"/>
                  </a:lnTo>
                  <a:lnTo>
                    <a:pt x="245" y="419"/>
                  </a:lnTo>
                  <a:lnTo>
                    <a:pt x="237" y="424"/>
                  </a:lnTo>
                  <a:lnTo>
                    <a:pt x="228" y="428"/>
                  </a:lnTo>
                  <a:lnTo>
                    <a:pt x="218" y="430"/>
                  </a:lnTo>
                  <a:lnTo>
                    <a:pt x="209" y="433"/>
                  </a:lnTo>
                  <a:lnTo>
                    <a:pt x="200" y="435"/>
                  </a:lnTo>
                  <a:lnTo>
                    <a:pt x="190" y="436"/>
                  </a:lnTo>
                  <a:lnTo>
                    <a:pt x="180" y="438"/>
                  </a:lnTo>
                  <a:lnTo>
                    <a:pt x="170" y="438"/>
                  </a:lnTo>
                  <a:lnTo>
                    <a:pt x="151" y="436"/>
                  </a:lnTo>
                  <a:lnTo>
                    <a:pt x="132" y="434"/>
                  </a:lnTo>
                  <a:lnTo>
                    <a:pt x="115" y="429"/>
                  </a:lnTo>
                  <a:lnTo>
                    <a:pt x="100" y="423"/>
                  </a:lnTo>
                  <a:lnTo>
                    <a:pt x="85" y="415"/>
                  </a:lnTo>
                  <a:lnTo>
                    <a:pt x="70" y="405"/>
                  </a:lnTo>
                  <a:lnTo>
                    <a:pt x="57" y="394"/>
                  </a:lnTo>
                  <a:lnTo>
                    <a:pt x="46" y="380"/>
                  </a:lnTo>
                  <a:lnTo>
                    <a:pt x="35" y="365"/>
                  </a:lnTo>
                  <a:lnTo>
                    <a:pt x="26" y="348"/>
                  </a:lnTo>
                  <a:lnTo>
                    <a:pt x="19" y="330"/>
                  </a:lnTo>
                  <a:lnTo>
                    <a:pt x="12" y="310"/>
                  </a:lnTo>
                  <a:lnTo>
                    <a:pt x="8" y="290"/>
                  </a:lnTo>
                  <a:lnTo>
                    <a:pt x="4" y="268"/>
                  </a:lnTo>
                  <a:lnTo>
                    <a:pt x="1" y="244"/>
                  </a:lnTo>
                  <a:lnTo>
                    <a:pt x="0" y="218"/>
                  </a:lnTo>
                  <a:lnTo>
                    <a:pt x="1" y="193"/>
                  </a:lnTo>
                  <a:lnTo>
                    <a:pt x="4" y="169"/>
                  </a:lnTo>
                  <a:lnTo>
                    <a:pt x="8" y="147"/>
                  </a:lnTo>
                  <a:lnTo>
                    <a:pt x="12" y="126"/>
                  </a:lnTo>
                  <a:lnTo>
                    <a:pt x="19" y="107"/>
                  </a:lnTo>
                  <a:lnTo>
                    <a:pt x="26" y="88"/>
                  </a:lnTo>
                  <a:lnTo>
                    <a:pt x="35" y="72"/>
                  </a:lnTo>
                  <a:lnTo>
                    <a:pt x="46" y="57"/>
                  </a:lnTo>
                  <a:lnTo>
                    <a:pt x="57" y="43"/>
                  </a:lnTo>
                  <a:lnTo>
                    <a:pt x="70" y="32"/>
                  </a:lnTo>
                  <a:lnTo>
                    <a:pt x="85" y="22"/>
                  </a:lnTo>
                  <a:lnTo>
                    <a:pt x="99" y="13"/>
                  </a:lnTo>
                  <a:lnTo>
                    <a:pt x="115" y="7"/>
                  </a:lnTo>
                  <a:lnTo>
                    <a:pt x="131" y="3"/>
                  </a:lnTo>
                  <a:lnTo>
                    <a:pt x="150" y="0"/>
                  </a:lnTo>
                  <a:lnTo>
                    <a:pt x="169" y="0"/>
                  </a:lnTo>
                  <a:lnTo>
                    <a:pt x="187" y="0"/>
                  </a:lnTo>
                  <a:lnTo>
                    <a:pt x="204" y="3"/>
                  </a:lnTo>
                  <a:lnTo>
                    <a:pt x="222" y="7"/>
                  </a:lnTo>
                  <a:lnTo>
                    <a:pt x="237" y="13"/>
                  </a:lnTo>
                  <a:lnTo>
                    <a:pt x="252" y="22"/>
                  </a:lnTo>
                  <a:lnTo>
                    <a:pt x="265" y="32"/>
                  </a:lnTo>
                  <a:lnTo>
                    <a:pt x="278" y="43"/>
                  </a:lnTo>
                  <a:lnTo>
                    <a:pt x="289" y="57"/>
                  </a:lnTo>
                  <a:lnTo>
                    <a:pt x="301" y="72"/>
                  </a:lnTo>
                  <a:lnTo>
                    <a:pt x="310" y="88"/>
                  </a:lnTo>
                  <a:lnTo>
                    <a:pt x="317" y="107"/>
                  </a:lnTo>
                  <a:lnTo>
                    <a:pt x="324" y="126"/>
                  </a:lnTo>
                  <a:lnTo>
                    <a:pt x="328" y="147"/>
                  </a:lnTo>
                  <a:lnTo>
                    <a:pt x="332" y="169"/>
                  </a:lnTo>
                  <a:lnTo>
                    <a:pt x="334" y="193"/>
                  </a:lnTo>
                  <a:lnTo>
                    <a:pt x="335" y="218"/>
                  </a:lnTo>
                  <a:lnTo>
                    <a:pt x="334" y="232"/>
                  </a:lnTo>
                  <a:lnTo>
                    <a:pt x="334" y="246"/>
                  </a:lnTo>
                  <a:lnTo>
                    <a:pt x="333" y="258"/>
                  </a:lnTo>
                  <a:lnTo>
                    <a:pt x="332" y="270"/>
                  </a:lnTo>
                  <a:lnTo>
                    <a:pt x="330" y="282"/>
                  </a:lnTo>
                  <a:lnTo>
                    <a:pt x="328" y="293"/>
                  </a:lnTo>
                  <a:lnTo>
                    <a:pt x="325" y="304"/>
                  </a:lnTo>
                  <a:lnTo>
                    <a:pt x="322" y="315"/>
                  </a:lnTo>
                  <a:lnTo>
                    <a:pt x="320" y="323"/>
                  </a:lnTo>
                  <a:lnTo>
                    <a:pt x="317" y="330"/>
                  </a:lnTo>
                  <a:lnTo>
                    <a:pt x="314" y="339"/>
                  </a:lnTo>
                  <a:lnTo>
                    <a:pt x="310" y="347"/>
                  </a:lnTo>
                  <a:lnTo>
                    <a:pt x="306" y="354"/>
                  </a:lnTo>
                  <a:lnTo>
                    <a:pt x="302" y="362"/>
                  </a:lnTo>
                  <a:lnTo>
                    <a:pt x="298" y="369"/>
                  </a:lnTo>
                  <a:lnTo>
                    <a:pt x="292" y="377"/>
                  </a:lnTo>
                  <a:close/>
                  <a:moveTo>
                    <a:pt x="236" y="328"/>
                  </a:moveTo>
                  <a:lnTo>
                    <a:pt x="240" y="323"/>
                  </a:lnTo>
                  <a:lnTo>
                    <a:pt x="243" y="318"/>
                  </a:lnTo>
                  <a:lnTo>
                    <a:pt x="245" y="313"/>
                  </a:lnTo>
                  <a:lnTo>
                    <a:pt x="248" y="307"/>
                  </a:lnTo>
                  <a:lnTo>
                    <a:pt x="250" y="300"/>
                  </a:lnTo>
                  <a:lnTo>
                    <a:pt x="253" y="294"/>
                  </a:lnTo>
                  <a:lnTo>
                    <a:pt x="255" y="288"/>
                  </a:lnTo>
                  <a:lnTo>
                    <a:pt x="256" y="282"/>
                  </a:lnTo>
                  <a:lnTo>
                    <a:pt x="258" y="274"/>
                  </a:lnTo>
                  <a:lnTo>
                    <a:pt x="259" y="267"/>
                  </a:lnTo>
                  <a:lnTo>
                    <a:pt x="260" y="259"/>
                  </a:lnTo>
                  <a:lnTo>
                    <a:pt x="261" y="252"/>
                  </a:lnTo>
                  <a:lnTo>
                    <a:pt x="262" y="244"/>
                  </a:lnTo>
                  <a:lnTo>
                    <a:pt x="262" y="236"/>
                  </a:lnTo>
                  <a:lnTo>
                    <a:pt x="263" y="227"/>
                  </a:lnTo>
                  <a:lnTo>
                    <a:pt x="263" y="218"/>
                  </a:lnTo>
                  <a:lnTo>
                    <a:pt x="262" y="201"/>
                  </a:lnTo>
                  <a:lnTo>
                    <a:pt x="261" y="184"/>
                  </a:lnTo>
                  <a:lnTo>
                    <a:pt x="259" y="168"/>
                  </a:lnTo>
                  <a:lnTo>
                    <a:pt x="256" y="154"/>
                  </a:lnTo>
                  <a:lnTo>
                    <a:pt x="253" y="141"/>
                  </a:lnTo>
                  <a:lnTo>
                    <a:pt x="248" y="129"/>
                  </a:lnTo>
                  <a:lnTo>
                    <a:pt x="243" y="118"/>
                  </a:lnTo>
                  <a:lnTo>
                    <a:pt x="237" y="108"/>
                  </a:lnTo>
                  <a:lnTo>
                    <a:pt x="230" y="101"/>
                  </a:lnTo>
                  <a:lnTo>
                    <a:pt x="223" y="93"/>
                  </a:lnTo>
                  <a:lnTo>
                    <a:pt x="214" y="87"/>
                  </a:lnTo>
                  <a:lnTo>
                    <a:pt x="206" y="82"/>
                  </a:lnTo>
                  <a:lnTo>
                    <a:pt x="197" y="77"/>
                  </a:lnTo>
                  <a:lnTo>
                    <a:pt x="188" y="75"/>
                  </a:lnTo>
                  <a:lnTo>
                    <a:pt x="178" y="73"/>
                  </a:lnTo>
                  <a:lnTo>
                    <a:pt x="168" y="72"/>
                  </a:lnTo>
                  <a:lnTo>
                    <a:pt x="158" y="73"/>
                  </a:lnTo>
                  <a:lnTo>
                    <a:pt x="147" y="75"/>
                  </a:lnTo>
                  <a:lnTo>
                    <a:pt x="138" y="77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3" y="93"/>
                  </a:lnTo>
                  <a:lnTo>
                    <a:pt x="106" y="101"/>
                  </a:lnTo>
                  <a:lnTo>
                    <a:pt x="99" y="108"/>
                  </a:lnTo>
                  <a:lnTo>
                    <a:pt x="93" y="118"/>
                  </a:lnTo>
                  <a:lnTo>
                    <a:pt x="88" y="129"/>
                  </a:lnTo>
                  <a:lnTo>
                    <a:pt x="83" y="141"/>
                  </a:lnTo>
                  <a:lnTo>
                    <a:pt x="79" y="154"/>
                  </a:lnTo>
                  <a:lnTo>
                    <a:pt x="77" y="168"/>
                  </a:lnTo>
                  <a:lnTo>
                    <a:pt x="74" y="184"/>
                  </a:lnTo>
                  <a:lnTo>
                    <a:pt x="72" y="201"/>
                  </a:lnTo>
                  <a:lnTo>
                    <a:pt x="72" y="218"/>
                  </a:lnTo>
                  <a:lnTo>
                    <a:pt x="72" y="237"/>
                  </a:lnTo>
                  <a:lnTo>
                    <a:pt x="74" y="253"/>
                  </a:lnTo>
                  <a:lnTo>
                    <a:pt x="77" y="269"/>
                  </a:lnTo>
                  <a:lnTo>
                    <a:pt x="79" y="283"/>
                  </a:lnTo>
                  <a:lnTo>
                    <a:pt x="83" y="297"/>
                  </a:lnTo>
                  <a:lnTo>
                    <a:pt x="88" y="309"/>
                  </a:lnTo>
                  <a:lnTo>
                    <a:pt x="93" y="320"/>
                  </a:lnTo>
                  <a:lnTo>
                    <a:pt x="99" y="329"/>
                  </a:lnTo>
                  <a:lnTo>
                    <a:pt x="106" y="338"/>
                  </a:lnTo>
                  <a:lnTo>
                    <a:pt x="113" y="345"/>
                  </a:lnTo>
                  <a:lnTo>
                    <a:pt x="121" y="352"/>
                  </a:lnTo>
                  <a:lnTo>
                    <a:pt x="129" y="358"/>
                  </a:lnTo>
                  <a:lnTo>
                    <a:pt x="137" y="362"/>
                  </a:lnTo>
                  <a:lnTo>
                    <a:pt x="146" y="364"/>
                  </a:lnTo>
                  <a:lnTo>
                    <a:pt x="156" y="365"/>
                  </a:lnTo>
                  <a:lnTo>
                    <a:pt x="166" y="367"/>
                  </a:lnTo>
                  <a:lnTo>
                    <a:pt x="170" y="367"/>
                  </a:lnTo>
                  <a:lnTo>
                    <a:pt x="173" y="367"/>
                  </a:lnTo>
                  <a:lnTo>
                    <a:pt x="177" y="365"/>
                  </a:lnTo>
                  <a:lnTo>
                    <a:pt x="180" y="365"/>
                  </a:lnTo>
                  <a:lnTo>
                    <a:pt x="184" y="364"/>
                  </a:lnTo>
                  <a:lnTo>
                    <a:pt x="187" y="363"/>
                  </a:lnTo>
                  <a:lnTo>
                    <a:pt x="191" y="362"/>
                  </a:lnTo>
                  <a:lnTo>
                    <a:pt x="194" y="360"/>
                  </a:lnTo>
                  <a:lnTo>
                    <a:pt x="189" y="357"/>
                  </a:lnTo>
                  <a:lnTo>
                    <a:pt x="184" y="353"/>
                  </a:lnTo>
                  <a:lnTo>
                    <a:pt x="178" y="349"/>
                  </a:lnTo>
                  <a:lnTo>
                    <a:pt x="173" y="345"/>
                  </a:lnTo>
                  <a:lnTo>
                    <a:pt x="168" y="342"/>
                  </a:lnTo>
                  <a:lnTo>
                    <a:pt x="162" y="339"/>
                  </a:lnTo>
                  <a:lnTo>
                    <a:pt x="157" y="337"/>
                  </a:lnTo>
                  <a:lnTo>
                    <a:pt x="152" y="334"/>
                  </a:lnTo>
                  <a:lnTo>
                    <a:pt x="171" y="285"/>
                  </a:lnTo>
                  <a:lnTo>
                    <a:pt x="179" y="289"/>
                  </a:lnTo>
                  <a:lnTo>
                    <a:pt x="188" y="293"/>
                  </a:lnTo>
                  <a:lnTo>
                    <a:pt x="196" y="298"/>
                  </a:lnTo>
                  <a:lnTo>
                    <a:pt x="204" y="303"/>
                  </a:lnTo>
                  <a:lnTo>
                    <a:pt x="212" y="309"/>
                  </a:lnTo>
                  <a:lnTo>
                    <a:pt x="220" y="314"/>
                  </a:lnTo>
                  <a:lnTo>
                    <a:pt x="229" y="322"/>
                  </a:lnTo>
                  <a:lnTo>
                    <a:pt x="236" y="3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31280" y="2129760"/>
              <a:ext cx="71640" cy="83880"/>
            </a:xfrm>
            <a:custGeom>
              <a:avLst/>
              <a:gdLst/>
              <a:ahLst/>
              <a:rect l="l" t="t" r="r" b="b"/>
              <a:pathLst>
                <a:path w="275" h="432">
                  <a:moveTo>
                    <a:pt x="0" y="0"/>
                  </a:moveTo>
                  <a:lnTo>
                    <a:pt x="70" y="0"/>
                  </a:lnTo>
                  <a:lnTo>
                    <a:pt x="70" y="230"/>
                  </a:lnTo>
                  <a:lnTo>
                    <a:pt x="70" y="243"/>
                  </a:lnTo>
                  <a:lnTo>
                    <a:pt x="70" y="254"/>
                  </a:lnTo>
                  <a:lnTo>
                    <a:pt x="70" y="266"/>
                  </a:lnTo>
                  <a:lnTo>
                    <a:pt x="70" y="274"/>
                  </a:lnTo>
                  <a:lnTo>
                    <a:pt x="71" y="283"/>
                  </a:lnTo>
                  <a:lnTo>
                    <a:pt x="71" y="291"/>
                  </a:lnTo>
                  <a:lnTo>
                    <a:pt x="72" y="296"/>
                  </a:lnTo>
                  <a:lnTo>
                    <a:pt x="72" y="301"/>
                  </a:lnTo>
                  <a:lnTo>
                    <a:pt x="73" y="307"/>
                  </a:lnTo>
                  <a:lnTo>
                    <a:pt x="75" y="313"/>
                  </a:lnTo>
                  <a:lnTo>
                    <a:pt x="77" y="319"/>
                  </a:lnTo>
                  <a:lnTo>
                    <a:pt x="80" y="324"/>
                  </a:lnTo>
                  <a:lnTo>
                    <a:pt x="82" y="329"/>
                  </a:lnTo>
                  <a:lnTo>
                    <a:pt x="86" y="334"/>
                  </a:lnTo>
                  <a:lnTo>
                    <a:pt x="89" y="338"/>
                  </a:lnTo>
                  <a:lnTo>
                    <a:pt x="93" y="343"/>
                  </a:lnTo>
                  <a:lnTo>
                    <a:pt x="97" y="347"/>
                  </a:lnTo>
                  <a:lnTo>
                    <a:pt x="102" y="349"/>
                  </a:lnTo>
                  <a:lnTo>
                    <a:pt x="107" y="352"/>
                  </a:lnTo>
                  <a:lnTo>
                    <a:pt x="113" y="354"/>
                  </a:lnTo>
                  <a:lnTo>
                    <a:pt x="119" y="357"/>
                  </a:lnTo>
                  <a:lnTo>
                    <a:pt x="126" y="358"/>
                  </a:lnTo>
                  <a:lnTo>
                    <a:pt x="132" y="358"/>
                  </a:lnTo>
                  <a:lnTo>
                    <a:pt x="139" y="358"/>
                  </a:lnTo>
                  <a:lnTo>
                    <a:pt x="146" y="358"/>
                  </a:lnTo>
                  <a:lnTo>
                    <a:pt x="153" y="358"/>
                  </a:lnTo>
                  <a:lnTo>
                    <a:pt x="159" y="357"/>
                  </a:lnTo>
                  <a:lnTo>
                    <a:pt x="165" y="354"/>
                  </a:lnTo>
                  <a:lnTo>
                    <a:pt x="170" y="353"/>
                  </a:lnTo>
                  <a:lnTo>
                    <a:pt x="175" y="351"/>
                  </a:lnTo>
                  <a:lnTo>
                    <a:pt x="179" y="347"/>
                  </a:lnTo>
                  <a:lnTo>
                    <a:pt x="183" y="343"/>
                  </a:lnTo>
                  <a:lnTo>
                    <a:pt x="187" y="339"/>
                  </a:lnTo>
                  <a:lnTo>
                    <a:pt x="190" y="336"/>
                  </a:lnTo>
                  <a:lnTo>
                    <a:pt x="193" y="332"/>
                  </a:lnTo>
                  <a:lnTo>
                    <a:pt x="196" y="327"/>
                  </a:lnTo>
                  <a:lnTo>
                    <a:pt x="198" y="322"/>
                  </a:lnTo>
                  <a:lnTo>
                    <a:pt x="200" y="317"/>
                  </a:lnTo>
                  <a:lnTo>
                    <a:pt x="201" y="312"/>
                  </a:lnTo>
                  <a:lnTo>
                    <a:pt x="202" y="307"/>
                  </a:lnTo>
                  <a:lnTo>
                    <a:pt x="203" y="301"/>
                  </a:lnTo>
                  <a:lnTo>
                    <a:pt x="204" y="294"/>
                  </a:lnTo>
                  <a:lnTo>
                    <a:pt x="204" y="287"/>
                  </a:lnTo>
                  <a:lnTo>
                    <a:pt x="205" y="278"/>
                  </a:lnTo>
                  <a:lnTo>
                    <a:pt x="205" y="268"/>
                  </a:lnTo>
                  <a:lnTo>
                    <a:pt x="205" y="258"/>
                  </a:lnTo>
                  <a:lnTo>
                    <a:pt x="205" y="247"/>
                  </a:lnTo>
                  <a:lnTo>
                    <a:pt x="205" y="235"/>
                  </a:lnTo>
                  <a:lnTo>
                    <a:pt x="205" y="0"/>
                  </a:lnTo>
                  <a:lnTo>
                    <a:pt x="275" y="0"/>
                  </a:lnTo>
                  <a:lnTo>
                    <a:pt x="275" y="223"/>
                  </a:lnTo>
                  <a:lnTo>
                    <a:pt x="275" y="242"/>
                  </a:lnTo>
                  <a:lnTo>
                    <a:pt x="274" y="258"/>
                  </a:lnTo>
                  <a:lnTo>
                    <a:pt x="274" y="274"/>
                  </a:lnTo>
                  <a:lnTo>
                    <a:pt x="273" y="288"/>
                  </a:lnTo>
                  <a:lnTo>
                    <a:pt x="273" y="301"/>
                  </a:lnTo>
                  <a:lnTo>
                    <a:pt x="272" y="312"/>
                  </a:lnTo>
                  <a:lnTo>
                    <a:pt x="271" y="322"/>
                  </a:lnTo>
                  <a:lnTo>
                    <a:pt x="269" y="331"/>
                  </a:lnTo>
                  <a:lnTo>
                    <a:pt x="268" y="338"/>
                  </a:lnTo>
                  <a:lnTo>
                    <a:pt x="265" y="346"/>
                  </a:lnTo>
                  <a:lnTo>
                    <a:pt x="263" y="353"/>
                  </a:lnTo>
                  <a:lnTo>
                    <a:pt x="260" y="361"/>
                  </a:lnTo>
                  <a:lnTo>
                    <a:pt x="258" y="367"/>
                  </a:lnTo>
                  <a:lnTo>
                    <a:pt x="255" y="373"/>
                  </a:lnTo>
                  <a:lnTo>
                    <a:pt x="251" y="378"/>
                  </a:lnTo>
                  <a:lnTo>
                    <a:pt x="248" y="384"/>
                  </a:lnTo>
                  <a:lnTo>
                    <a:pt x="244" y="389"/>
                  </a:lnTo>
                  <a:lnTo>
                    <a:pt x="240" y="394"/>
                  </a:lnTo>
                  <a:lnTo>
                    <a:pt x="235" y="399"/>
                  </a:lnTo>
                  <a:lnTo>
                    <a:pt x="230" y="404"/>
                  </a:lnTo>
                  <a:lnTo>
                    <a:pt x="225" y="408"/>
                  </a:lnTo>
                  <a:lnTo>
                    <a:pt x="220" y="412"/>
                  </a:lnTo>
                  <a:lnTo>
                    <a:pt x="214" y="415"/>
                  </a:lnTo>
                  <a:lnTo>
                    <a:pt x="208" y="419"/>
                  </a:lnTo>
                  <a:lnTo>
                    <a:pt x="201" y="422"/>
                  </a:lnTo>
                  <a:lnTo>
                    <a:pt x="193" y="424"/>
                  </a:lnTo>
                  <a:lnTo>
                    <a:pt x="186" y="427"/>
                  </a:lnTo>
                  <a:lnTo>
                    <a:pt x="178" y="428"/>
                  </a:lnTo>
                  <a:lnTo>
                    <a:pt x="170" y="429"/>
                  </a:lnTo>
                  <a:lnTo>
                    <a:pt x="161" y="430"/>
                  </a:lnTo>
                  <a:lnTo>
                    <a:pt x="151" y="432"/>
                  </a:lnTo>
                  <a:lnTo>
                    <a:pt x="141" y="432"/>
                  </a:lnTo>
                  <a:lnTo>
                    <a:pt x="130" y="432"/>
                  </a:lnTo>
                  <a:lnTo>
                    <a:pt x="118" y="430"/>
                  </a:lnTo>
                  <a:lnTo>
                    <a:pt x="107" y="429"/>
                  </a:lnTo>
                  <a:lnTo>
                    <a:pt x="98" y="428"/>
                  </a:lnTo>
                  <a:lnTo>
                    <a:pt x="89" y="427"/>
                  </a:lnTo>
                  <a:lnTo>
                    <a:pt x="81" y="424"/>
                  </a:lnTo>
                  <a:lnTo>
                    <a:pt x="73" y="420"/>
                  </a:lnTo>
                  <a:lnTo>
                    <a:pt x="67" y="418"/>
                  </a:lnTo>
                  <a:lnTo>
                    <a:pt x="61" y="414"/>
                  </a:lnTo>
                  <a:lnTo>
                    <a:pt x="55" y="410"/>
                  </a:lnTo>
                  <a:lnTo>
                    <a:pt x="48" y="405"/>
                  </a:lnTo>
                  <a:lnTo>
                    <a:pt x="43" y="402"/>
                  </a:lnTo>
                  <a:lnTo>
                    <a:pt x="38" y="397"/>
                  </a:lnTo>
                  <a:lnTo>
                    <a:pt x="34" y="392"/>
                  </a:lnTo>
                  <a:lnTo>
                    <a:pt x="30" y="387"/>
                  </a:lnTo>
                  <a:lnTo>
                    <a:pt x="26" y="381"/>
                  </a:lnTo>
                  <a:lnTo>
                    <a:pt x="22" y="376"/>
                  </a:lnTo>
                  <a:lnTo>
                    <a:pt x="19" y="369"/>
                  </a:lnTo>
                  <a:lnTo>
                    <a:pt x="16" y="364"/>
                  </a:lnTo>
                  <a:lnTo>
                    <a:pt x="14" y="358"/>
                  </a:lnTo>
                  <a:lnTo>
                    <a:pt x="12" y="352"/>
                  </a:lnTo>
                  <a:lnTo>
                    <a:pt x="10" y="347"/>
                  </a:lnTo>
                  <a:lnTo>
                    <a:pt x="8" y="341"/>
                  </a:lnTo>
                  <a:lnTo>
                    <a:pt x="7" y="334"/>
                  </a:lnTo>
                  <a:lnTo>
                    <a:pt x="5" y="324"/>
                  </a:lnTo>
                  <a:lnTo>
                    <a:pt x="4" y="313"/>
                  </a:lnTo>
                  <a:lnTo>
                    <a:pt x="3" y="302"/>
                  </a:lnTo>
                  <a:lnTo>
                    <a:pt x="2" y="289"/>
                  </a:lnTo>
                  <a:lnTo>
                    <a:pt x="1" y="274"/>
                  </a:lnTo>
                  <a:lnTo>
                    <a:pt x="0" y="259"/>
                  </a:lnTo>
                  <a:lnTo>
                    <a:pt x="0" y="243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21640" y="2129760"/>
              <a:ext cx="17640" cy="83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52240" y="2128680"/>
              <a:ext cx="72360" cy="84960"/>
            </a:xfrm>
            <a:custGeom>
              <a:avLst/>
              <a:gdLst/>
              <a:ahLst/>
              <a:rect l="l" t="t" r="r" b="b"/>
              <a:pathLst>
                <a:path w="280" h="438">
                  <a:moveTo>
                    <a:pt x="0" y="293"/>
                  </a:moveTo>
                  <a:lnTo>
                    <a:pt x="67" y="284"/>
                  </a:lnTo>
                  <a:lnTo>
                    <a:pt x="69" y="294"/>
                  </a:lnTo>
                  <a:lnTo>
                    <a:pt x="71" y="304"/>
                  </a:lnTo>
                  <a:lnTo>
                    <a:pt x="74" y="313"/>
                  </a:lnTo>
                  <a:lnTo>
                    <a:pt x="76" y="320"/>
                  </a:lnTo>
                  <a:lnTo>
                    <a:pt x="80" y="328"/>
                  </a:lnTo>
                  <a:lnTo>
                    <a:pt x="83" y="334"/>
                  </a:lnTo>
                  <a:lnTo>
                    <a:pt x="87" y="340"/>
                  </a:lnTo>
                  <a:lnTo>
                    <a:pt x="93" y="345"/>
                  </a:lnTo>
                  <a:lnTo>
                    <a:pt x="98" y="350"/>
                  </a:lnTo>
                  <a:lnTo>
                    <a:pt x="103" y="354"/>
                  </a:lnTo>
                  <a:lnTo>
                    <a:pt x="108" y="358"/>
                  </a:lnTo>
                  <a:lnTo>
                    <a:pt x="114" y="360"/>
                  </a:lnTo>
                  <a:lnTo>
                    <a:pt x="121" y="363"/>
                  </a:lnTo>
                  <a:lnTo>
                    <a:pt x="128" y="364"/>
                  </a:lnTo>
                  <a:lnTo>
                    <a:pt x="135" y="365"/>
                  </a:lnTo>
                  <a:lnTo>
                    <a:pt x="143" y="365"/>
                  </a:lnTo>
                  <a:lnTo>
                    <a:pt x="151" y="365"/>
                  </a:lnTo>
                  <a:lnTo>
                    <a:pt x="158" y="364"/>
                  </a:lnTo>
                  <a:lnTo>
                    <a:pt x="166" y="363"/>
                  </a:lnTo>
                  <a:lnTo>
                    <a:pt x="173" y="362"/>
                  </a:lnTo>
                  <a:lnTo>
                    <a:pt x="179" y="359"/>
                  </a:lnTo>
                  <a:lnTo>
                    <a:pt x="184" y="355"/>
                  </a:lnTo>
                  <a:lnTo>
                    <a:pt x="189" y="352"/>
                  </a:lnTo>
                  <a:lnTo>
                    <a:pt x="193" y="348"/>
                  </a:lnTo>
                  <a:lnTo>
                    <a:pt x="197" y="344"/>
                  </a:lnTo>
                  <a:lnTo>
                    <a:pt x="201" y="339"/>
                  </a:lnTo>
                  <a:lnTo>
                    <a:pt x="204" y="334"/>
                  </a:lnTo>
                  <a:lnTo>
                    <a:pt x="206" y="329"/>
                  </a:lnTo>
                  <a:lnTo>
                    <a:pt x="208" y="324"/>
                  </a:lnTo>
                  <a:lnTo>
                    <a:pt x="209" y="318"/>
                  </a:lnTo>
                  <a:lnTo>
                    <a:pt x="210" y="313"/>
                  </a:lnTo>
                  <a:lnTo>
                    <a:pt x="210" y="307"/>
                  </a:lnTo>
                  <a:lnTo>
                    <a:pt x="210" y="303"/>
                  </a:lnTo>
                  <a:lnTo>
                    <a:pt x="210" y="300"/>
                  </a:lnTo>
                  <a:lnTo>
                    <a:pt x="209" y="297"/>
                  </a:lnTo>
                  <a:lnTo>
                    <a:pt x="208" y="293"/>
                  </a:lnTo>
                  <a:lnTo>
                    <a:pt x="207" y="290"/>
                  </a:lnTo>
                  <a:lnTo>
                    <a:pt x="206" y="287"/>
                  </a:lnTo>
                  <a:lnTo>
                    <a:pt x="205" y="284"/>
                  </a:lnTo>
                  <a:lnTo>
                    <a:pt x="203" y="282"/>
                  </a:lnTo>
                  <a:lnTo>
                    <a:pt x="201" y="279"/>
                  </a:lnTo>
                  <a:lnTo>
                    <a:pt x="199" y="277"/>
                  </a:lnTo>
                  <a:lnTo>
                    <a:pt x="196" y="274"/>
                  </a:lnTo>
                  <a:lnTo>
                    <a:pt x="193" y="272"/>
                  </a:lnTo>
                  <a:lnTo>
                    <a:pt x="190" y="269"/>
                  </a:lnTo>
                  <a:lnTo>
                    <a:pt x="187" y="267"/>
                  </a:lnTo>
                  <a:lnTo>
                    <a:pt x="183" y="265"/>
                  </a:lnTo>
                  <a:lnTo>
                    <a:pt x="178" y="263"/>
                  </a:lnTo>
                  <a:lnTo>
                    <a:pt x="175" y="262"/>
                  </a:lnTo>
                  <a:lnTo>
                    <a:pt x="171" y="260"/>
                  </a:lnTo>
                  <a:lnTo>
                    <a:pt x="165" y="258"/>
                  </a:lnTo>
                  <a:lnTo>
                    <a:pt x="158" y="255"/>
                  </a:lnTo>
                  <a:lnTo>
                    <a:pt x="150" y="253"/>
                  </a:lnTo>
                  <a:lnTo>
                    <a:pt x="142" y="250"/>
                  </a:lnTo>
                  <a:lnTo>
                    <a:pt x="133" y="248"/>
                  </a:lnTo>
                  <a:lnTo>
                    <a:pt x="123" y="244"/>
                  </a:lnTo>
                  <a:lnTo>
                    <a:pt x="109" y="241"/>
                  </a:lnTo>
                  <a:lnTo>
                    <a:pt x="97" y="236"/>
                  </a:lnTo>
                  <a:lnTo>
                    <a:pt x="85" y="231"/>
                  </a:lnTo>
                  <a:lnTo>
                    <a:pt x="75" y="226"/>
                  </a:lnTo>
                  <a:lnTo>
                    <a:pt x="65" y="221"/>
                  </a:lnTo>
                  <a:lnTo>
                    <a:pt x="57" y="214"/>
                  </a:lnTo>
                  <a:lnTo>
                    <a:pt x="50" y="209"/>
                  </a:lnTo>
                  <a:lnTo>
                    <a:pt x="44" y="203"/>
                  </a:lnTo>
                  <a:lnTo>
                    <a:pt x="37" y="194"/>
                  </a:lnTo>
                  <a:lnTo>
                    <a:pt x="31" y="184"/>
                  </a:lnTo>
                  <a:lnTo>
                    <a:pt x="25" y="174"/>
                  </a:lnTo>
                  <a:lnTo>
                    <a:pt x="21" y="164"/>
                  </a:lnTo>
                  <a:lnTo>
                    <a:pt x="16" y="153"/>
                  </a:lnTo>
                  <a:lnTo>
                    <a:pt x="14" y="142"/>
                  </a:lnTo>
                  <a:lnTo>
                    <a:pt x="12" y="129"/>
                  </a:lnTo>
                  <a:lnTo>
                    <a:pt x="12" y="117"/>
                  </a:lnTo>
                  <a:lnTo>
                    <a:pt x="12" y="109"/>
                  </a:lnTo>
                  <a:lnTo>
                    <a:pt x="13" y="102"/>
                  </a:lnTo>
                  <a:lnTo>
                    <a:pt x="14" y="93"/>
                  </a:lnTo>
                  <a:lnTo>
                    <a:pt x="16" y="86"/>
                  </a:lnTo>
                  <a:lnTo>
                    <a:pt x="18" y="78"/>
                  </a:lnTo>
                  <a:lnTo>
                    <a:pt x="21" y="71"/>
                  </a:lnTo>
                  <a:lnTo>
                    <a:pt x="24" y="65"/>
                  </a:lnTo>
                  <a:lnTo>
                    <a:pt x="28" y="57"/>
                  </a:lnTo>
                  <a:lnTo>
                    <a:pt x="31" y="50"/>
                  </a:lnTo>
                  <a:lnTo>
                    <a:pt x="36" y="43"/>
                  </a:lnTo>
                  <a:lnTo>
                    <a:pt x="40" y="37"/>
                  </a:lnTo>
                  <a:lnTo>
                    <a:pt x="46" y="32"/>
                  </a:lnTo>
                  <a:lnTo>
                    <a:pt x="51" y="27"/>
                  </a:lnTo>
                  <a:lnTo>
                    <a:pt x="57" y="22"/>
                  </a:lnTo>
                  <a:lnTo>
                    <a:pt x="63" y="18"/>
                  </a:lnTo>
                  <a:lnTo>
                    <a:pt x="70" y="13"/>
                  </a:lnTo>
                  <a:lnTo>
                    <a:pt x="77" y="11"/>
                  </a:lnTo>
                  <a:lnTo>
                    <a:pt x="85" y="7"/>
                  </a:lnTo>
                  <a:lnTo>
                    <a:pt x="93" y="5"/>
                  </a:lnTo>
                  <a:lnTo>
                    <a:pt x="102" y="3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53" y="0"/>
                  </a:lnTo>
                  <a:lnTo>
                    <a:pt x="169" y="1"/>
                  </a:lnTo>
                  <a:lnTo>
                    <a:pt x="182" y="5"/>
                  </a:lnTo>
                  <a:lnTo>
                    <a:pt x="195" y="8"/>
                  </a:lnTo>
                  <a:lnTo>
                    <a:pt x="206" y="13"/>
                  </a:lnTo>
                  <a:lnTo>
                    <a:pt x="217" y="18"/>
                  </a:lnTo>
                  <a:lnTo>
                    <a:pt x="227" y="26"/>
                  </a:lnTo>
                  <a:lnTo>
                    <a:pt x="235" y="35"/>
                  </a:lnTo>
                  <a:lnTo>
                    <a:pt x="244" y="43"/>
                  </a:lnTo>
                  <a:lnTo>
                    <a:pt x="250" y="53"/>
                  </a:lnTo>
                  <a:lnTo>
                    <a:pt x="256" y="63"/>
                  </a:lnTo>
                  <a:lnTo>
                    <a:pt x="261" y="75"/>
                  </a:lnTo>
                  <a:lnTo>
                    <a:pt x="265" y="87"/>
                  </a:lnTo>
                  <a:lnTo>
                    <a:pt x="267" y="100"/>
                  </a:lnTo>
                  <a:lnTo>
                    <a:pt x="269" y="113"/>
                  </a:lnTo>
                  <a:lnTo>
                    <a:pt x="270" y="128"/>
                  </a:lnTo>
                  <a:lnTo>
                    <a:pt x="201" y="132"/>
                  </a:lnTo>
                  <a:lnTo>
                    <a:pt x="199" y="123"/>
                  </a:lnTo>
                  <a:lnTo>
                    <a:pt x="198" y="116"/>
                  </a:lnTo>
                  <a:lnTo>
                    <a:pt x="196" y="109"/>
                  </a:lnTo>
                  <a:lnTo>
                    <a:pt x="194" y="103"/>
                  </a:lnTo>
                  <a:lnTo>
                    <a:pt x="191" y="98"/>
                  </a:lnTo>
                  <a:lnTo>
                    <a:pt x="188" y="93"/>
                  </a:lnTo>
                  <a:lnTo>
                    <a:pt x="185" y="88"/>
                  </a:lnTo>
                  <a:lnTo>
                    <a:pt x="182" y="85"/>
                  </a:lnTo>
                  <a:lnTo>
                    <a:pt x="178" y="81"/>
                  </a:lnTo>
                  <a:lnTo>
                    <a:pt x="174" y="78"/>
                  </a:lnTo>
                  <a:lnTo>
                    <a:pt x="169" y="76"/>
                  </a:lnTo>
                  <a:lnTo>
                    <a:pt x="163" y="73"/>
                  </a:lnTo>
                  <a:lnTo>
                    <a:pt x="157" y="72"/>
                  </a:lnTo>
                  <a:lnTo>
                    <a:pt x="151" y="71"/>
                  </a:lnTo>
                  <a:lnTo>
                    <a:pt x="144" y="71"/>
                  </a:lnTo>
                  <a:lnTo>
                    <a:pt x="137" y="70"/>
                  </a:lnTo>
                  <a:lnTo>
                    <a:pt x="130" y="71"/>
                  </a:lnTo>
                  <a:lnTo>
                    <a:pt x="123" y="71"/>
                  </a:lnTo>
                  <a:lnTo>
                    <a:pt x="117" y="72"/>
                  </a:lnTo>
                  <a:lnTo>
                    <a:pt x="111" y="73"/>
                  </a:lnTo>
                  <a:lnTo>
                    <a:pt x="105" y="76"/>
                  </a:lnTo>
                  <a:lnTo>
                    <a:pt x="100" y="78"/>
                  </a:lnTo>
                  <a:lnTo>
                    <a:pt x="95" y="82"/>
                  </a:lnTo>
                  <a:lnTo>
                    <a:pt x="89" y="86"/>
                  </a:lnTo>
                  <a:lnTo>
                    <a:pt x="87" y="88"/>
                  </a:lnTo>
                  <a:lnTo>
                    <a:pt x="85" y="91"/>
                  </a:lnTo>
                  <a:lnTo>
                    <a:pt x="83" y="93"/>
                  </a:lnTo>
                  <a:lnTo>
                    <a:pt x="81" y="97"/>
                  </a:lnTo>
                  <a:lnTo>
                    <a:pt x="80" y="101"/>
                  </a:lnTo>
                  <a:lnTo>
                    <a:pt x="79" y="103"/>
                  </a:lnTo>
                  <a:lnTo>
                    <a:pt x="79" y="108"/>
                  </a:lnTo>
                  <a:lnTo>
                    <a:pt x="78" y="112"/>
                  </a:lnTo>
                  <a:lnTo>
                    <a:pt x="79" y="116"/>
                  </a:lnTo>
                  <a:lnTo>
                    <a:pt x="79" y="119"/>
                  </a:lnTo>
                  <a:lnTo>
                    <a:pt x="80" y="122"/>
                  </a:lnTo>
                  <a:lnTo>
                    <a:pt x="81" y="126"/>
                  </a:lnTo>
                  <a:lnTo>
                    <a:pt x="82" y="128"/>
                  </a:lnTo>
                  <a:lnTo>
                    <a:pt x="84" y="132"/>
                  </a:lnTo>
                  <a:lnTo>
                    <a:pt x="86" y="134"/>
                  </a:lnTo>
                  <a:lnTo>
                    <a:pt x="89" y="137"/>
                  </a:lnTo>
                  <a:lnTo>
                    <a:pt x="93" y="141"/>
                  </a:lnTo>
                  <a:lnTo>
                    <a:pt x="98" y="144"/>
                  </a:lnTo>
                  <a:lnTo>
                    <a:pt x="105" y="148"/>
                  </a:lnTo>
                  <a:lnTo>
                    <a:pt x="112" y="152"/>
                  </a:lnTo>
                  <a:lnTo>
                    <a:pt x="120" y="154"/>
                  </a:lnTo>
                  <a:lnTo>
                    <a:pt x="130" y="158"/>
                  </a:lnTo>
                  <a:lnTo>
                    <a:pt x="141" y="162"/>
                  </a:lnTo>
                  <a:lnTo>
                    <a:pt x="153" y="166"/>
                  </a:lnTo>
                  <a:lnTo>
                    <a:pt x="166" y="169"/>
                  </a:lnTo>
                  <a:lnTo>
                    <a:pt x="177" y="173"/>
                  </a:lnTo>
                  <a:lnTo>
                    <a:pt x="188" y="177"/>
                  </a:lnTo>
                  <a:lnTo>
                    <a:pt x="197" y="181"/>
                  </a:lnTo>
                  <a:lnTo>
                    <a:pt x="206" y="184"/>
                  </a:lnTo>
                  <a:lnTo>
                    <a:pt x="214" y="188"/>
                  </a:lnTo>
                  <a:lnTo>
                    <a:pt x="221" y="192"/>
                  </a:lnTo>
                  <a:lnTo>
                    <a:pt x="228" y="196"/>
                  </a:lnTo>
                  <a:lnTo>
                    <a:pt x="234" y="201"/>
                  </a:lnTo>
                  <a:lnTo>
                    <a:pt x="240" y="204"/>
                  </a:lnTo>
                  <a:lnTo>
                    <a:pt x="245" y="209"/>
                  </a:lnTo>
                  <a:lnTo>
                    <a:pt x="250" y="214"/>
                  </a:lnTo>
                  <a:lnTo>
                    <a:pt x="255" y="221"/>
                  </a:lnTo>
                  <a:lnTo>
                    <a:pt x="259" y="227"/>
                  </a:lnTo>
                  <a:lnTo>
                    <a:pt x="263" y="233"/>
                  </a:lnTo>
                  <a:lnTo>
                    <a:pt x="266" y="239"/>
                  </a:lnTo>
                  <a:lnTo>
                    <a:pt x="269" y="247"/>
                  </a:lnTo>
                  <a:lnTo>
                    <a:pt x="272" y="254"/>
                  </a:lnTo>
                  <a:lnTo>
                    <a:pt x="275" y="262"/>
                  </a:lnTo>
                  <a:lnTo>
                    <a:pt x="276" y="270"/>
                  </a:lnTo>
                  <a:lnTo>
                    <a:pt x="278" y="278"/>
                  </a:lnTo>
                  <a:lnTo>
                    <a:pt x="279" y="288"/>
                  </a:lnTo>
                  <a:lnTo>
                    <a:pt x="280" y="297"/>
                  </a:lnTo>
                  <a:lnTo>
                    <a:pt x="280" y="307"/>
                  </a:lnTo>
                  <a:lnTo>
                    <a:pt x="280" y="315"/>
                  </a:lnTo>
                  <a:lnTo>
                    <a:pt x="279" y="325"/>
                  </a:lnTo>
                  <a:lnTo>
                    <a:pt x="278" y="334"/>
                  </a:lnTo>
                  <a:lnTo>
                    <a:pt x="276" y="342"/>
                  </a:lnTo>
                  <a:lnTo>
                    <a:pt x="274" y="350"/>
                  </a:lnTo>
                  <a:lnTo>
                    <a:pt x="271" y="359"/>
                  </a:lnTo>
                  <a:lnTo>
                    <a:pt x="267" y="367"/>
                  </a:lnTo>
                  <a:lnTo>
                    <a:pt x="264" y="375"/>
                  </a:lnTo>
                  <a:lnTo>
                    <a:pt x="259" y="383"/>
                  </a:lnTo>
                  <a:lnTo>
                    <a:pt x="255" y="390"/>
                  </a:lnTo>
                  <a:lnTo>
                    <a:pt x="250" y="396"/>
                  </a:lnTo>
                  <a:lnTo>
                    <a:pt x="244" y="403"/>
                  </a:lnTo>
                  <a:lnTo>
                    <a:pt x="238" y="409"/>
                  </a:lnTo>
                  <a:lnTo>
                    <a:pt x="231" y="414"/>
                  </a:lnTo>
                  <a:lnTo>
                    <a:pt x="224" y="418"/>
                  </a:lnTo>
                  <a:lnTo>
                    <a:pt x="217" y="423"/>
                  </a:lnTo>
                  <a:lnTo>
                    <a:pt x="209" y="426"/>
                  </a:lnTo>
                  <a:lnTo>
                    <a:pt x="201" y="429"/>
                  </a:lnTo>
                  <a:lnTo>
                    <a:pt x="192" y="431"/>
                  </a:lnTo>
                  <a:lnTo>
                    <a:pt x="183" y="434"/>
                  </a:lnTo>
                  <a:lnTo>
                    <a:pt x="174" y="435"/>
                  </a:lnTo>
                  <a:lnTo>
                    <a:pt x="163" y="436"/>
                  </a:lnTo>
                  <a:lnTo>
                    <a:pt x="153" y="438"/>
                  </a:lnTo>
                  <a:lnTo>
                    <a:pt x="142" y="438"/>
                  </a:lnTo>
                  <a:lnTo>
                    <a:pt x="126" y="438"/>
                  </a:lnTo>
                  <a:lnTo>
                    <a:pt x="111" y="435"/>
                  </a:lnTo>
                  <a:lnTo>
                    <a:pt x="98" y="433"/>
                  </a:lnTo>
                  <a:lnTo>
                    <a:pt x="84" y="429"/>
                  </a:lnTo>
                  <a:lnTo>
                    <a:pt x="72" y="424"/>
                  </a:lnTo>
                  <a:lnTo>
                    <a:pt x="61" y="416"/>
                  </a:lnTo>
                  <a:lnTo>
                    <a:pt x="51" y="409"/>
                  </a:lnTo>
                  <a:lnTo>
                    <a:pt x="42" y="400"/>
                  </a:lnTo>
                  <a:lnTo>
                    <a:pt x="34" y="392"/>
                  </a:lnTo>
                  <a:lnTo>
                    <a:pt x="26" y="380"/>
                  </a:lnTo>
                  <a:lnTo>
                    <a:pt x="20" y="368"/>
                  </a:lnTo>
                  <a:lnTo>
                    <a:pt x="13" y="355"/>
                  </a:lnTo>
                  <a:lnTo>
                    <a:pt x="9" y="342"/>
                  </a:lnTo>
                  <a:lnTo>
                    <a:pt x="5" y="325"/>
                  </a:lnTo>
                  <a:lnTo>
                    <a:pt x="2" y="309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33960" y="2129760"/>
              <a:ext cx="70920" cy="83160"/>
            </a:xfrm>
            <a:custGeom>
              <a:avLst/>
              <a:gdLst/>
              <a:ahLst/>
              <a:rect l="l" t="t" r="r" b="b"/>
              <a:pathLst>
                <a:path w="273" h="424">
                  <a:moveTo>
                    <a:pt x="102" y="424"/>
                  </a:moveTo>
                  <a:lnTo>
                    <a:pt x="10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73" y="0"/>
                  </a:lnTo>
                  <a:lnTo>
                    <a:pt x="273" y="72"/>
                  </a:lnTo>
                  <a:lnTo>
                    <a:pt x="172" y="72"/>
                  </a:lnTo>
                  <a:lnTo>
                    <a:pt x="172" y="424"/>
                  </a:lnTo>
                  <a:lnTo>
                    <a:pt x="102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16760" y="2129760"/>
              <a:ext cx="67680" cy="83160"/>
            </a:xfrm>
            <a:custGeom>
              <a:avLst/>
              <a:gdLst/>
              <a:ahLst/>
              <a:rect l="l" t="t" r="r" b="b"/>
              <a:pathLst>
                <a:path w="262" h="424">
                  <a:moveTo>
                    <a:pt x="0" y="424"/>
                  </a:moveTo>
                  <a:lnTo>
                    <a:pt x="0" y="0"/>
                  </a:lnTo>
                  <a:lnTo>
                    <a:pt x="254" y="0"/>
                  </a:lnTo>
                  <a:lnTo>
                    <a:pt x="254" y="72"/>
                  </a:lnTo>
                  <a:lnTo>
                    <a:pt x="69" y="72"/>
                  </a:lnTo>
                  <a:lnTo>
                    <a:pt x="69" y="166"/>
                  </a:lnTo>
                  <a:lnTo>
                    <a:pt x="242" y="166"/>
                  </a:lnTo>
                  <a:lnTo>
                    <a:pt x="242" y="237"/>
                  </a:lnTo>
                  <a:lnTo>
                    <a:pt x="69" y="237"/>
                  </a:lnTo>
                  <a:lnTo>
                    <a:pt x="69" y="353"/>
                  </a:lnTo>
                  <a:lnTo>
                    <a:pt x="262" y="353"/>
                  </a:lnTo>
                  <a:lnTo>
                    <a:pt x="262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00280" y="2130480"/>
              <a:ext cx="63000" cy="82440"/>
            </a:xfrm>
            <a:custGeom>
              <a:avLst/>
              <a:gdLst/>
              <a:ahLst/>
              <a:rect l="l" t="t" r="r" b="b"/>
              <a:pathLst>
                <a:path w="243" h="420">
                  <a:moveTo>
                    <a:pt x="0" y="42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349"/>
                  </a:lnTo>
                  <a:lnTo>
                    <a:pt x="243" y="349"/>
                  </a:lnTo>
                  <a:lnTo>
                    <a:pt x="243" y="42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76600" y="2130480"/>
              <a:ext cx="63000" cy="82440"/>
            </a:xfrm>
            <a:custGeom>
              <a:avLst/>
              <a:gdLst/>
              <a:ahLst/>
              <a:rect l="l" t="t" r="r" b="b"/>
              <a:pathLst>
                <a:path w="243" h="420">
                  <a:moveTo>
                    <a:pt x="0" y="42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349"/>
                  </a:lnTo>
                  <a:lnTo>
                    <a:pt x="243" y="349"/>
                  </a:lnTo>
                  <a:lnTo>
                    <a:pt x="243" y="42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49320" y="2128680"/>
              <a:ext cx="87120" cy="84960"/>
            </a:xfrm>
            <a:custGeom>
              <a:avLst/>
              <a:gdLst/>
              <a:ahLst/>
              <a:rect l="l" t="t" r="r" b="b"/>
              <a:pathLst>
                <a:path w="335" h="438">
                  <a:moveTo>
                    <a:pt x="0" y="221"/>
                  </a:moveTo>
                  <a:lnTo>
                    <a:pt x="0" y="206"/>
                  </a:lnTo>
                  <a:lnTo>
                    <a:pt x="1" y="189"/>
                  </a:lnTo>
                  <a:lnTo>
                    <a:pt x="2" y="176"/>
                  </a:lnTo>
                  <a:lnTo>
                    <a:pt x="4" y="162"/>
                  </a:lnTo>
                  <a:lnTo>
                    <a:pt x="6" y="148"/>
                  </a:lnTo>
                  <a:lnTo>
                    <a:pt x="9" y="136"/>
                  </a:lnTo>
                  <a:lnTo>
                    <a:pt x="12" y="123"/>
                  </a:lnTo>
                  <a:lnTo>
                    <a:pt x="17" y="112"/>
                  </a:lnTo>
                  <a:lnTo>
                    <a:pt x="20" y="104"/>
                  </a:lnTo>
                  <a:lnTo>
                    <a:pt x="23" y="97"/>
                  </a:lnTo>
                  <a:lnTo>
                    <a:pt x="27" y="90"/>
                  </a:lnTo>
                  <a:lnTo>
                    <a:pt x="30" y="82"/>
                  </a:lnTo>
                  <a:lnTo>
                    <a:pt x="34" y="75"/>
                  </a:lnTo>
                  <a:lnTo>
                    <a:pt x="39" y="67"/>
                  </a:lnTo>
                  <a:lnTo>
                    <a:pt x="43" y="61"/>
                  </a:lnTo>
                  <a:lnTo>
                    <a:pt x="48" y="55"/>
                  </a:lnTo>
                  <a:lnTo>
                    <a:pt x="53" y="48"/>
                  </a:lnTo>
                  <a:lnTo>
                    <a:pt x="59" y="42"/>
                  </a:lnTo>
                  <a:lnTo>
                    <a:pt x="64" y="37"/>
                  </a:lnTo>
                  <a:lnTo>
                    <a:pt x="69" y="32"/>
                  </a:lnTo>
                  <a:lnTo>
                    <a:pt x="75" y="27"/>
                  </a:lnTo>
                  <a:lnTo>
                    <a:pt x="81" y="23"/>
                  </a:lnTo>
                  <a:lnTo>
                    <a:pt x="87" y="20"/>
                  </a:lnTo>
                  <a:lnTo>
                    <a:pt x="93" y="16"/>
                  </a:lnTo>
                  <a:lnTo>
                    <a:pt x="101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7" y="3"/>
                  </a:lnTo>
                  <a:lnTo>
                    <a:pt x="137" y="2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3" y="3"/>
                  </a:lnTo>
                  <a:lnTo>
                    <a:pt x="220" y="7"/>
                  </a:lnTo>
                  <a:lnTo>
                    <a:pt x="236" y="13"/>
                  </a:lnTo>
                  <a:lnTo>
                    <a:pt x="251" y="22"/>
                  </a:lnTo>
                  <a:lnTo>
                    <a:pt x="264" y="32"/>
                  </a:lnTo>
                  <a:lnTo>
                    <a:pt x="277" y="43"/>
                  </a:lnTo>
                  <a:lnTo>
                    <a:pt x="289" y="57"/>
                  </a:lnTo>
                  <a:lnTo>
                    <a:pt x="299" y="72"/>
                  </a:lnTo>
                  <a:lnTo>
                    <a:pt x="309" y="90"/>
                  </a:lnTo>
                  <a:lnTo>
                    <a:pt x="317" y="107"/>
                  </a:lnTo>
                  <a:lnTo>
                    <a:pt x="323" y="127"/>
                  </a:lnTo>
                  <a:lnTo>
                    <a:pt x="328" y="148"/>
                  </a:lnTo>
                  <a:lnTo>
                    <a:pt x="332" y="169"/>
                  </a:lnTo>
                  <a:lnTo>
                    <a:pt x="334" y="194"/>
                  </a:lnTo>
                  <a:lnTo>
                    <a:pt x="335" y="219"/>
                  </a:lnTo>
                  <a:lnTo>
                    <a:pt x="334" y="244"/>
                  </a:lnTo>
                  <a:lnTo>
                    <a:pt x="332" y="268"/>
                  </a:lnTo>
                  <a:lnTo>
                    <a:pt x="328" y="289"/>
                  </a:lnTo>
                  <a:lnTo>
                    <a:pt x="323" y="310"/>
                  </a:lnTo>
                  <a:lnTo>
                    <a:pt x="317" y="330"/>
                  </a:lnTo>
                  <a:lnTo>
                    <a:pt x="309" y="348"/>
                  </a:lnTo>
                  <a:lnTo>
                    <a:pt x="299" y="364"/>
                  </a:lnTo>
                  <a:lnTo>
                    <a:pt x="289" y="379"/>
                  </a:lnTo>
                  <a:lnTo>
                    <a:pt x="277" y="393"/>
                  </a:lnTo>
                  <a:lnTo>
                    <a:pt x="265" y="405"/>
                  </a:lnTo>
                  <a:lnTo>
                    <a:pt x="251" y="415"/>
                  </a:lnTo>
                  <a:lnTo>
                    <a:pt x="237" y="423"/>
                  </a:lnTo>
                  <a:lnTo>
                    <a:pt x="220" y="429"/>
                  </a:lnTo>
                  <a:lnTo>
                    <a:pt x="204" y="434"/>
                  </a:lnTo>
                  <a:lnTo>
                    <a:pt x="187" y="436"/>
                  </a:lnTo>
                  <a:lnTo>
                    <a:pt x="168" y="438"/>
                  </a:lnTo>
                  <a:lnTo>
                    <a:pt x="149" y="436"/>
                  </a:lnTo>
                  <a:lnTo>
                    <a:pt x="131" y="434"/>
                  </a:lnTo>
                  <a:lnTo>
                    <a:pt x="115" y="429"/>
                  </a:lnTo>
                  <a:lnTo>
                    <a:pt x="99" y="423"/>
                  </a:lnTo>
                  <a:lnTo>
                    <a:pt x="84" y="415"/>
                  </a:lnTo>
                  <a:lnTo>
                    <a:pt x="70" y="405"/>
                  </a:lnTo>
                  <a:lnTo>
                    <a:pt x="58" y="394"/>
                  </a:lnTo>
                  <a:lnTo>
                    <a:pt x="46" y="380"/>
                  </a:lnTo>
                  <a:lnTo>
                    <a:pt x="35" y="365"/>
                  </a:lnTo>
                  <a:lnTo>
                    <a:pt x="26" y="348"/>
                  </a:lnTo>
                  <a:lnTo>
                    <a:pt x="19" y="330"/>
                  </a:lnTo>
                  <a:lnTo>
                    <a:pt x="11" y="312"/>
                  </a:lnTo>
                  <a:lnTo>
                    <a:pt x="6" y="290"/>
                  </a:lnTo>
                  <a:lnTo>
                    <a:pt x="3" y="269"/>
                  </a:lnTo>
                  <a:lnTo>
                    <a:pt x="1" y="246"/>
                  </a:lnTo>
                  <a:lnTo>
                    <a:pt x="0" y="221"/>
                  </a:lnTo>
                  <a:close/>
                  <a:moveTo>
                    <a:pt x="72" y="218"/>
                  </a:moveTo>
                  <a:lnTo>
                    <a:pt x="72" y="236"/>
                  </a:lnTo>
                  <a:lnTo>
                    <a:pt x="73" y="252"/>
                  </a:lnTo>
                  <a:lnTo>
                    <a:pt x="76" y="267"/>
                  </a:lnTo>
                  <a:lnTo>
                    <a:pt x="78" y="282"/>
                  </a:lnTo>
                  <a:lnTo>
                    <a:pt x="82" y="294"/>
                  </a:lnTo>
                  <a:lnTo>
                    <a:pt x="88" y="307"/>
                  </a:lnTo>
                  <a:lnTo>
                    <a:pt x="93" y="318"/>
                  </a:lnTo>
                  <a:lnTo>
                    <a:pt x="99" y="328"/>
                  </a:lnTo>
                  <a:lnTo>
                    <a:pt x="106" y="337"/>
                  </a:lnTo>
                  <a:lnTo>
                    <a:pt x="114" y="344"/>
                  </a:lnTo>
                  <a:lnTo>
                    <a:pt x="121" y="350"/>
                  </a:lnTo>
                  <a:lnTo>
                    <a:pt x="130" y="355"/>
                  </a:lnTo>
                  <a:lnTo>
                    <a:pt x="138" y="359"/>
                  </a:lnTo>
                  <a:lnTo>
                    <a:pt x="148" y="362"/>
                  </a:lnTo>
                  <a:lnTo>
                    <a:pt x="157" y="364"/>
                  </a:lnTo>
                  <a:lnTo>
                    <a:pt x="168" y="364"/>
                  </a:lnTo>
                  <a:lnTo>
                    <a:pt x="178" y="364"/>
                  </a:lnTo>
                  <a:lnTo>
                    <a:pt x="188" y="362"/>
                  </a:lnTo>
                  <a:lnTo>
                    <a:pt x="197" y="359"/>
                  </a:lnTo>
                  <a:lnTo>
                    <a:pt x="205" y="355"/>
                  </a:lnTo>
                  <a:lnTo>
                    <a:pt x="214" y="350"/>
                  </a:lnTo>
                  <a:lnTo>
                    <a:pt x="221" y="344"/>
                  </a:lnTo>
                  <a:lnTo>
                    <a:pt x="229" y="337"/>
                  </a:lnTo>
                  <a:lnTo>
                    <a:pt x="236" y="328"/>
                  </a:lnTo>
                  <a:lnTo>
                    <a:pt x="243" y="318"/>
                  </a:lnTo>
                  <a:lnTo>
                    <a:pt x="248" y="307"/>
                  </a:lnTo>
                  <a:lnTo>
                    <a:pt x="252" y="294"/>
                  </a:lnTo>
                  <a:lnTo>
                    <a:pt x="256" y="282"/>
                  </a:lnTo>
                  <a:lnTo>
                    <a:pt x="259" y="267"/>
                  </a:lnTo>
                  <a:lnTo>
                    <a:pt x="261" y="252"/>
                  </a:lnTo>
                  <a:lnTo>
                    <a:pt x="262" y="234"/>
                  </a:lnTo>
                  <a:lnTo>
                    <a:pt x="263" y="217"/>
                  </a:lnTo>
                  <a:lnTo>
                    <a:pt x="262" y="199"/>
                  </a:lnTo>
                  <a:lnTo>
                    <a:pt x="261" y="183"/>
                  </a:lnTo>
                  <a:lnTo>
                    <a:pt x="259" y="168"/>
                  </a:lnTo>
                  <a:lnTo>
                    <a:pt x="256" y="153"/>
                  </a:lnTo>
                  <a:lnTo>
                    <a:pt x="253" y="141"/>
                  </a:lnTo>
                  <a:lnTo>
                    <a:pt x="248" y="128"/>
                  </a:lnTo>
                  <a:lnTo>
                    <a:pt x="243" y="118"/>
                  </a:lnTo>
                  <a:lnTo>
                    <a:pt x="237" y="108"/>
                  </a:lnTo>
                  <a:lnTo>
                    <a:pt x="230" y="100"/>
                  </a:lnTo>
                  <a:lnTo>
                    <a:pt x="222" y="92"/>
                  </a:lnTo>
                  <a:lnTo>
                    <a:pt x="215" y="86"/>
                  </a:lnTo>
                  <a:lnTo>
                    <a:pt x="206" y="81"/>
                  </a:lnTo>
                  <a:lnTo>
                    <a:pt x="198" y="77"/>
                  </a:lnTo>
                  <a:lnTo>
                    <a:pt x="188" y="75"/>
                  </a:lnTo>
                  <a:lnTo>
                    <a:pt x="178" y="73"/>
                  </a:lnTo>
                  <a:lnTo>
                    <a:pt x="168" y="72"/>
                  </a:lnTo>
                  <a:lnTo>
                    <a:pt x="157" y="73"/>
                  </a:lnTo>
                  <a:lnTo>
                    <a:pt x="147" y="75"/>
                  </a:lnTo>
                  <a:lnTo>
                    <a:pt x="138" y="77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3" y="93"/>
                  </a:lnTo>
                  <a:lnTo>
                    <a:pt x="105" y="101"/>
                  </a:lnTo>
                  <a:lnTo>
                    <a:pt x="99" y="108"/>
                  </a:lnTo>
                  <a:lnTo>
                    <a:pt x="93" y="118"/>
                  </a:lnTo>
                  <a:lnTo>
                    <a:pt x="87" y="129"/>
                  </a:lnTo>
                  <a:lnTo>
                    <a:pt x="82" y="141"/>
                  </a:lnTo>
                  <a:lnTo>
                    <a:pt x="78" y="154"/>
                  </a:lnTo>
                  <a:lnTo>
                    <a:pt x="75" y="168"/>
                  </a:lnTo>
                  <a:lnTo>
                    <a:pt x="73" y="184"/>
                  </a:lnTo>
                  <a:lnTo>
                    <a:pt x="72" y="201"/>
                  </a:lnTo>
                  <a:lnTo>
                    <a:pt x="72" y="2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63440" y="3317760"/>
              <a:ext cx="50400" cy="56880"/>
            </a:xfrm>
            <a:custGeom>
              <a:avLst/>
              <a:gdLst/>
              <a:ahLst/>
              <a:rect l="l" t="t" r="r" b="b"/>
              <a:pathLst>
                <a:path w="194" h="293">
                  <a:moveTo>
                    <a:pt x="169" y="293"/>
                  </a:moveTo>
                  <a:lnTo>
                    <a:pt x="0" y="110"/>
                  </a:lnTo>
                  <a:lnTo>
                    <a:pt x="27" y="93"/>
                  </a:lnTo>
                  <a:lnTo>
                    <a:pt x="146" y="229"/>
                  </a:lnTo>
                  <a:lnTo>
                    <a:pt x="149" y="234"/>
                  </a:lnTo>
                  <a:lnTo>
                    <a:pt x="153" y="237"/>
                  </a:lnTo>
                  <a:lnTo>
                    <a:pt x="156" y="241"/>
                  </a:lnTo>
                  <a:lnTo>
                    <a:pt x="159" y="245"/>
                  </a:lnTo>
                  <a:lnTo>
                    <a:pt x="162" y="248"/>
                  </a:lnTo>
                  <a:lnTo>
                    <a:pt x="166" y="252"/>
                  </a:lnTo>
                  <a:lnTo>
                    <a:pt x="168" y="256"/>
                  </a:lnTo>
                  <a:lnTo>
                    <a:pt x="171" y="260"/>
                  </a:lnTo>
                  <a:lnTo>
                    <a:pt x="170" y="255"/>
                  </a:lnTo>
                  <a:lnTo>
                    <a:pt x="170" y="250"/>
                  </a:lnTo>
                  <a:lnTo>
                    <a:pt x="169" y="243"/>
                  </a:lnTo>
                  <a:lnTo>
                    <a:pt x="168" y="239"/>
                  </a:lnTo>
                  <a:lnTo>
                    <a:pt x="167" y="232"/>
                  </a:lnTo>
                  <a:lnTo>
                    <a:pt x="167" y="227"/>
                  </a:lnTo>
                  <a:lnTo>
                    <a:pt x="166" y="222"/>
                  </a:lnTo>
                  <a:lnTo>
                    <a:pt x="166" y="216"/>
                  </a:lnTo>
                  <a:lnTo>
                    <a:pt x="146" y="16"/>
                  </a:lnTo>
                  <a:lnTo>
                    <a:pt x="171" y="0"/>
                  </a:lnTo>
                  <a:lnTo>
                    <a:pt x="194" y="277"/>
                  </a:lnTo>
                  <a:lnTo>
                    <a:pt x="169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11680" y="3312000"/>
              <a:ext cx="30960" cy="47520"/>
            </a:xfrm>
            <a:custGeom>
              <a:avLst/>
              <a:gdLst/>
              <a:ahLst/>
              <a:rect l="l" t="t" r="r" b="b"/>
              <a:pathLst>
                <a:path w="120" h="245">
                  <a:moveTo>
                    <a:pt x="14" y="48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37" y="33"/>
                  </a:lnTo>
                  <a:lnTo>
                    <a:pt x="14" y="48"/>
                  </a:lnTo>
                  <a:close/>
                  <a:moveTo>
                    <a:pt x="97" y="245"/>
                  </a:moveTo>
                  <a:lnTo>
                    <a:pt x="27" y="79"/>
                  </a:lnTo>
                  <a:lnTo>
                    <a:pt x="50" y="64"/>
                  </a:lnTo>
                  <a:lnTo>
                    <a:pt x="120" y="231"/>
                  </a:lnTo>
                  <a:lnTo>
                    <a:pt x="97" y="2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36520" y="3309840"/>
              <a:ext cx="45000" cy="41040"/>
            </a:xfrm>
            <a:custGeom>
              <a:avLst/>
              <a:gdLst/>
              <a:ahLst/>
              <a:rect l="l" t="t" r="r" b="b"/>
              <a:pathLst>
                <a:path w="174" h="209">
                  <a:moveTo>
                    <a:pt x="137" y="143"/>
                  </a:moveTo>
                  <a:lnTo>
                    <a:pt x="135" y="148"/>
                  </a:lnTo>
                  <a:lnTo>
                    <a:pt x="133" y="153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26" y="167"/>
                  </a:lnTo>
                  <a:lnTo>
                    <a:pt x="124" y="171"/>
                  </a:lnTo>
                  <a:lnTo>
                    <a:pt x="122" y="174"/>
                  </a:lnTo>
                  <a:lnTo>
                    <a:pt x="119" y="177"/>
                  </a:lnTo>
                  <a:lnTo>
                    <a:pt x="117" y="181"/>
                  </a:lnTo>
                  <a:lnTo>
                    <a:pt x="115" y="183"/>
                  </a:lnTo>
                  <a:lnTo>
                    <a:pt x="112" y="187"/>
                  </a:lnTo>
                  <a:lnTo>
                    <a:pt x="109" y="189"/>
                  </a:lnTo>
                  <a:lnTo>
                    <a:pt x="106" y="192"/>
                  </a:lnTo>
                  <a:lnTo>
                    <a:pt x="103" y="194"/>
                  </a:lnTo>
                  <a:lnTo>
                    <a:pt x="100" y="197"/>
                  </a:lnTo>
                  <a:lnTo>
                    <a:pt x="97" y="199"/>
                  </a:lnTo>
                  <a:lnTo>
                    <a:pt x="91" y="202"/>
                  </a:lnTo>
                  <a:lnTo>
                    <a:pt x="86" y="204"/>
                  </a:lnTo>
                  <a:lnTo>
                    <a:pt x="81" y="207"/>
                  </a:lnTo>
                  <a:lnTo>
                    <a:pt x="76" y="208"/>
                  </a:lnTo>
                  <a:lnTo>
                    <a:pt x="71" y="209"/>
                  </a:lnTo>
                  <a:lnTo>
                    <a:pt x="66" y="209"/>
                  </a:lnTo>
                  <a:lnTo>
                    <a:pt x="62" y="208"/>
                  </a:lnTo>
                  <a:lnTo>
                    <a:pt x="56" y="208"/>
                  </a:lnTo>
                  <a:lnTo>
                    <a:pt x="52" y="206"/>
                  </a:lnTo>
                  <a:lnTo>
                    <a:pt x="48" y="203"/>
                  </a:lnTo>
                  <a:lnTo>
                    <a:pt x="45" y="201"/>
                  </a:lnTo>
                  <a:lnTo>
                    <a:pt x="41" y="198"/>
                  </a:lnTo>
                  <a:lnTo>
                    <a:pt x="38" y="194"/>
                  </a:lnTo>
                  <a:lnTo>
                    <a:pt x="35" y="191"/>
                  </a:lnTo>
                  <a:lnTo>
                    <a:pt x="33" y="186"/>
                  </a:lnTo>
                  <a:lnTo>
                    <a:pt x="30" y="181"/>
                  </a:lnTo>
                  <a:lnTo>
                    <a:pt x="29" y="178"/>
                  </a:lnTo>
                  <a:lnTo>
                    <a:pt x="28" y="174"/>
                  </a:lnTo>
                  <a:lnTo>
                    <a:pt x="27" y="172"/>
                  </a:lnTo>
                  <a:lnTo>
                    <a:pt x="27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9"/>
                  </a:lnTo>
                  <a:lnTo>
                    <a:pt x="26" y="156"/>
                  </a:lnTo>
                  <a:lnTo>
                    <a:pt x="26" y="152"/>
                  </a:lnTo>
                  <a:lnTo>
                    <a:pt x="26" y="149"/>
                  </a:lnTo>
                  <a:lnTo>
                    <a:pt x="26" y="146"/>
                  </a:lnTo>
                  <a:lnTo>
                    <a:pt x="27" y="143"/>
                  </a:lnTo>
                  <a:lnTo>
                    <a:pt x="28" y="141"/>
                  </a:lnTo>
                  <a:lnTo>
                    <a:pt x="28" y="137"/>
                  </a:lnTo>
                  <a:lnTo>
                    <a:pt x="29" y="134"/>
                  </a:lnTo>
                  <a:lnTo>
                    <a:pt x="30" y="132"/>
                  </a:lnTo>
                  <a:lnTo>
                    <a:pt x="32" y="130"/>
                  </a:lnTo>
                  <a:lnTo>
                    <a:pt x="33" y="127"/>
                  </a:lnTo>
                  <a:lnTo>
                    <a:pt x="34" y="125"/>
                  </a:lnTo>
                  <a:lnTo>
                    <a:pt x="36" y="122"/>
                  </a:lnTo>
                  <a:lnTo>
                    <a:pt x="38" y="120"/>
                  </a:lnTo>
                  <a:lnTo>
                    <a:pt x="39" y="117"/>
                  </a:lnTo>
                  <a:lnTo>
                    <a:pt x="41" y="115"/>
                  </a:lnTo>
                  <a:lnTo>
                    <a:pt x="43" y="112"/>
                  </a:lnTo>
                  <a:lnTo>
                    <a:pt x="44" y="111"/>
                  </a:lnTo>
                  <a:lnTo>
                    <a:pt x="46" y="108"/>
                  </a:lnTo>
                  <a:lnTo>
                    <a:pt x="48" y="107"/>
                  </a:lnTo>
                  <a:lnTo>
                    <a:pt x="50" y="105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9" y="97"/>
                  </a:lnTo>
                  <a:lnTo>
                    <a:pt x="62" y="95"/>
                  </a:lnTo>
                  <a:lnTo>
                    <a:pt x="68" y="90"/>
                  </a:lnTo>
                  <a:lnTo>
                    <a:pt x="74" y="85"/>
                  </a:lnTo>
                  <a:lnTo>
                    <a:pt x="79" y="80"/>
                  </a:lnTo>
                  <a:lnTo>
                    <a:pt x="84" y="75"/>
                  </a:lnTo>
                  <a:lnTo>
                    <a:pt x="88" y="71"/>
                  </a:lnTo>
                  <a:lnTo>
                    <a:pt x="92" y="66"/>
                  </a:lnTo>
                  <a:lnTo>
                    <a:pt x="96" y="62"/>
                  </a:lnTo>
                  <a:lnTo>
                    <a:pt x="99" y="58"/>
                  </a:lnTo>
                  <a:lnTo>
                    <a:pt x="98" y="57"/>
                  </a:lnTo>
                  <a:lnTo>
                    <a:pt x="98" y="56"/>
                  </a:lnTo>
                  <a:lnTo>
                    <a:pt x="97" y="55"/>
                  </a:lnTo>
                  <a:lnTo>
                    <a:pt x="97" y="55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4" y="47"/>
                  </a:lnTo>
                  <a:lnTo>
                    <a:pt x="92" y="43"/>
                  </a:lnTo>
                  <a:lnTo>
                    <a:pt x="90" y="41"/>
                  </a:lnTo>
                  <a:lnTo>
                    <a:pt x="88" y="38"/>
                  </a:lnTo>
                  <a:lnTo>
                    <a:pt x="86" y="36"/>
                  </a:lnTo>
                  <a:lnTo>
                    <a:pt x="84" y="33"/>
                  </a:lnTo>
                  <a:lnTo>
                    <a:pt x="81" y="32"/>
                  </a:lnTo>
                  <a:lnTo>
                    <a:pt x="79" y="31"/>
                  </a:lnTo>
                  <a:lnTo>
                    <a:pt x="76" y="31"/>
                  </a:lnTo>
                  <a:lnTo>
                    <a:pt x="72" y="30"/>
                  </a:lnTo>
                  <a:lnTo>
                    <a:pt x="69" y="31"/>
                  </a:lnTo>
                  <a:lnTo>
                    <a:pt x="65" y="31"/>
                  </a:lnTo>
                  <a:lnTo>
                    <a:pt x="62" y="32"/>
                  </a:lnTo>
                  <a:lnTo>
                    <a:pt x="58" y="33"/>
                  </a:lnTo>
                  <a:lnTo>
                    <a:pt x="53" y="36"/>
                  </a:lnTo>
                  <a:lnTo>
                    <a:pt x="48" y="38"/>
                  </a:lnTo>
                  <a:lnTo>
                    <a:pt x="45" y="41"/>
                  </a:lnTo>
                  <a:lnTo>
                    <a:pt x="41" y="43"/>
                  </a:lnTo>
                  <a:lnTo>
                    <a:pt x="38" y="46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5"/>
                  </a:lnTo>
                  <a:lnTo>
                    <a:pt x="29" y="58"/>
                  </a:lnTo>
                  <a:lnTo>
                    <a:pt x="28" y="61"/>
                  </a:lnTo>
                  <a:lnTo>
                    <a:pt x="27" y="63"/>
                  </a:lnTo>
                  <a:lnTo>
                    <a:pt x="26" y="67"/>
                  </a:lnTo>
                  <a:lnTo>
                    <a:pt x="25" y="71"/>
                  </a:lnTo>
                  <a:lnTo>
                    <a:pt x="25" y="75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6" y="88"/>
                  </a:lnTo>
                  <a:lnTo>
                    <a:pt x="27" y="92"/>
                  </a:lnTo>
                  <a:lnTo>
                    <a:pt x="3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8"/>
                  </a:lnTo>
                  <a:lnTo>
                    <a:pt x="2" y="65"/>
                  </a:lnTo>
                  <a:lnTo>
                    <a:pt x="3" y="61"/>
                  </a:lnTo>
                  <a:lnTo>
                    <a:pt x="4" y="57"/>
                  </a:lnTo>
                  <a:lnTo>
                    <a:pt x="5" y="53"/>
                  </a:lnTo>
                  <a:lnTo>
                    <a:pt x="7" y="50"/>
                  </a:lnTo>
                  <a:lnTo>
                    <a:pt x="9" y="46"/>
                  </a:lnTo>
                  <a:lnTo>
                    <a:pt x="12" y="42"/>
                  </a:lnTo>
                  <a:lnTo>
                    <a:pt x="14" y="38"/>
                  </a:lnTo>
                  <a:lnTo>
                    <a:pt x="17" y="35"/>
                  </a:lnTo>
                  <a:lnTo>
                    <a:pt x="20" y="31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2" y="13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9" y="5"/>
                  </a:lnTo>
                  <a:lnTo>
                    <a:pt x="63" y="2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3"/>
                  </a:lnTo>
                  <a:lnTo>
                    <a:pt x="98" y="5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3" y="10"/>
                  </a:lnTo>
                  <a:lnTo>
                    <a:pt x="105" y="12"/>
                  </a:lnTo>
                  <a:lnTo>
                    <a:pt x="107" y="15"/>
                  </a:lnTo>
                  <a:lnTo>
                    <a:pt x="109" y="17"/>
                  </a:lnTo>
                  <a:lnTo>
                    <a:pt x="110" y="18"/>
                  </a:lnTo>
                  <a:lnTo>
                    <a:pt x="111" y="21"/>
                  </a:lnTo>
                  <a:lnTo>
                    <a:pt x="112" y="23"/>
                  </a:lnTo>
                  <a:lnTo>
                    <a:pt x="114" y="27"/>
                  </a:lnTo>
                  <a:lnTo>
                    <a:pt x="115" y="30"/>
                  </a:lnTo>
                  <a:lnTo>
                    <a:pt x="117" y="33"/>
                  </a:lnTo>
                  <a:lnTo>
                    <a:pt x="119" y="38"/>
                  </a:lnTo>
                  <a:lnTo>
                    <a:pt x="121" y="42"/>
                  </a:lnTo>
                  <a:lnTo>
                    <a:pt x="137" y="80"/>
                  </a:lnTo>
                  <a:lnTo>
                    <a:pt x="141" y="90"/>
                  </a:lnTo>
                  <a:lnTo>
                    <a:pt x="145" y="98"/>
                  </a:lnTo>
                  <a:lnTo>
                    <a:pt x="148" y="106"/>
                  </a:lnTo>
                  <a:lnTo>
                    <a:pt x="151" y="112"/>
                  </a:lnTo>
                  <a:lnTo>
                    <a:pt x="154" y="117"/>
                  </a:lnTo>
                  <a:lnTo>
                    <a:pt x="156" y="122"/>
                  </a:lnTo>
                  <a:lnTo>
                    <a:pt x="158" y="126"/>
                  </a:lnTo>
                  <a:lnTo>
                    <a:pt x="160" y="130"/>
                  </a:lnTo>
                  <a:lnTo>
                    <a:pt x="161" y="131"/>
                  </a:lnTo>
                  <a:lnTo>
                    <a:pt x="163" y="133"/>
                  </a:lnTo>
                  <a:lnTo>
                    <a:pt x="164" y="136"/>
                  </a:lnTo>
                  <a:lnTo>
                    <a:pt x="166" y="138"/>
                  </a:lnTo>
                  <a:lnTo>
                    <a:pt x="168" y="139"/>
                  </a:lnTo>
                  <a:lnTo>
                    <a:pt x="170" y="142"/>
                  </a:lnTo>
                  <a:lnTo>
                    <a:pt x="172" y="143"/>
                  </a:lnTo>
                  <a:lnTo>
                    <a:pt x="174" y="146"/>
                  </a:lnTo>
                  <a:lnTo>
                    <a:pt x="150" y="161"/>
                  </a:lnTo>
                  <a:lnTo>
                    <a:pt x="148" y="158"/>
                  </a:lnTo>
                  <a:lnTo>
                    <a:pt x="146" y="157"/>
                  </a:lnTo>
                  <a:lnTo>
                    <a:pt x="145" y="154"/>
                  </a:lnTo>
                  <a:lnTo>
                    <a:pt x="143" y="153"/>
                  </a:lnTo>
                  <a:lnTo>
                    <a:pt x="141" y="151"/>
                  </a:lnTo>
                  <a:lnTo>
                    <a:pt x="140" y="148"/>
                  </a:lnTo>
                  <a:lnTo>
                    <a:pt x="138" y="146"/>
                  </a:lnTo>
                  <a:lnTo>
                    <a:pt x="137" y="143"/>
                  </a:lnTo>
                  <a:close/>
                  <a:moveTo>
                    <a:pt x="108" y="81"/>
                  </a:moveTo>
                  <a:lnTo>
                    <a:pt x="105" y="85"/>
                  </a:lnTo>
                  <a:lnTo>
                    <a:pt x="102" y="88"/>
                  </a:lnTo>
                  <a:lnTo>
                    <a:pt x="99" y="92"/>
                  </a:lnTo>
                  <a:lnTo>
                    <a:pt x="95" y="97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1" y="111"/>
                  </a:lnTo>
                  <a:lnTo>
                    <a:pt x="75" y="116"/>
                  </a:lnTo>
                  <a:lnTo>
                    <a:pt x="72" y="118"/>
                  </a:lnTo>
                  <a:lnTo>
                    <a:pt x="69" y="121"/>
                  </a:lnTo>
                  <a:lnTo>
                    <a:pt x="67" y="123"/>
                  </a:lnTo>
                  <a:lnTo>
                    <a:pt x="64" y="126"/>
                  </a:lnTo>
                  <a:lnTo>
                    <a:pt x="62" y="128"/>
                  </a:lnTo>
                  <a:lnTo>
                    <a:pt x="61" y="131"/>
                  </a:lnTo>
                  <a:lnTo>
                    <a:pt x="59" y="132"/>
                  </a:lnTo>
                  <a:lnTo>
                    <a:pt x="58" y="134"/>
                  </a:lnTo>
                  <a:lnTo>
                    <a:pt x="56" y="136"/>
                  </a:lnTo>
                  <a:lnTo>
                    <a:pt x="55" y="137"/>
                  </a:lnTo>
                  <a:lnTo>
                    <a:pt x="54" y="139"/>
                  </a:lnTo>
                  <a:lnTo>
                    <a:pt x="53" y="141"/>
                  </a:lnTo>
                  <a:lnTo>
                    <a:pt x="53" y="143"/>
                  </a:lnTo>
                  <a:lnTo>
                    <a:pt x="52" y="144"/>
                  </a:lnTo>
                  <a:lnTo>
                    <a:pt x="52" y="147"/>
                  </a:lnTo>
                  <a:lnTo>
                    <a:pt x="52" y="149"/>
                  </a:lnTo>
                  <a:lnTo>
                    <a:pt x="52" y="151"/>
                  </a:lnTo>
                  <a:lnTo>
                    <a:pt x="52" y="153"/>
                  </a:lnTo>
                  <a:lnTo>
                    <a:pt x="52" y="154"/>
                  </a:lnTo>
                  <a:lnTo>
                    <a:pt x="52" y="157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3" y="163"/>
                  </a:lnTo>
                  <a:lnTo>
                    <a:pt x="54" y="164"/>
                  </a:lnTo>
                  <a:lnTo>
                    <a:pt x="55" y="167"/>
                  </a:lnTo>
                  <a:lnTo>
                    <a:pt x="58" y="169"/>
                  </a:lnTo>
                  <a:lnTo>
                    <a:pt x="59" y="172"/>
                  </a:lnTo>
                  <a:lnTo>
                    <a:pt x="61" y="173"/>
                  </a:lnTo>
                  <a:lnTo>
                    <a:pt x="63" y="176"/>
                  </a:lnTo>
                  <a:lnTo>
                    <a:pt x="65" y="177"/>
                  </a:lnTo>
                  <a:lnTo>
                    <a:pt x="67" y="178"/>
                  </a:lnTo>
                  <a:lnTo>
                    <a:pt x="70" y="179"/>
                  </a:lnTo>
                  <a:lnTo>
                    <a:pt x="72" y="179"/>
                  </a:lnTo>
                  <a:lnTo>
                    <a:pt x="75" y="179"/>
                  </a:lnTo>
                  <a:lnTo>
                    <a:pt x="78" y="179"/>
                  </a:lnTo>
                  <a:lnTo>
                    <a:pt x="81" y="179"/>
                  </a:lnTo>
                  <a:lnTo>
                    <a:pt x="84" y="178"/>
                  </a:lnTo>
                  <a:lnTo>
                    <a:pt x="87" y="177"/>
                  </a:lnTo>
                  <a:lnTo>
                    <a:pt x="90" y="176"/>
                  </a:lnTo>
                  <a:lnTo>
                    <a:pt x="93" y="173"/>
                  </a:lnTo>
                  <a:lnTo>
                    <a:pt x="96" y="171"/>
                  </a:lnTo>
                  <a:lnTo>
                    <a:pt x="99" y="169"/>
                  </a:lnTo>
                  <a:lnTo>
                    <a:pt x="102" y="166"/>
                  </a:lnTo>
                  <a:lnTo>
                    <a:pt x="105" y="163"/>
                  </a:lnTo>
                  <a:lnTo>
                    <a:pt x="107" y="161"/>
                  </a:lnTo>
                  <a:lnTo>
                    <a:pt x="109" y="158"/>
                  </a:lnTo>
                  <a:lnTo>
                    <a:pt x="111" y="154"/>
                  </a:lnTo>
                  <a:lnTo>
                    <a:pt x="113" y="151"/>
                  </a:lnTo>
                  <a:lnTo>
                    <a:pt x="115" y="148"/>
                  </a:lnTo>
                  <a:lnTo>
                    <a:pt x="116" y="144"/>
                  </a:lnTo>
                  <a:lnTo>
                    <a:pt x="118" y="141"/>
                  </a:lnTo>
                  <a:lnTo>
                    <a:pt x="119" y="137"/>
                  </a:lnTo>
                  <a:lnTo>
                    <a:pt x="119" y="133"/>
                  </a:lnTo>
                  <a:lnTo>
                    <a:pt x="120" y="130"/>
                  </a:lnTo>
                  <a:lnTo>
                    <a:pt x="120" y="126"/>
                  </a:lnTo>
                  <a:lnTo>
                    <a:pt x="120" y="122"/>
                  </a:lnTo>
                  <a:lnTo>
                    <a:pt x="120" y="118"/>
                  </a:lnTo>
                  <a:lnTo>
                    <a:pt x="120" y="116"/>
                  </a:lnTo>
                  <a:lnTo>
                    <a:pt x="119" y="112"/>
                  </a:lnTo>
                  <a:lnTo>
                    <a:pt x="118" y="108"/>
                  </a:lnTo>
                  <a:lnTo>
                    <a:pt x="117" y="105"/>
                  </a:lnTo>
                  <a:lnTo>
                    <a:pt x="115" y="101"/>
                  </a:lnTo>
                  <a:lnTo>
                    <a:pt x="114" y="96"/>
                  </a:lnTo>
                  <a:lnTo>
                    <a:pt x="112" y="91"/>
                  </a:lnTo>
                  <a:lnTo>
                    <a:pt x="10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3320" y="3268440"/>
              <a:ext cx="56880" cy="56880"/>
            </a:xfrm>
            <a:custGeom>
              <a:avLst/>
              <a:gdLst/>
              <a:ahLst/>
              <a:rect l="l" t="t" r="r" b="b"/>
              <a:pathLst>
                <a:path w="219" h="292">
                  <a:moveTo>
                    <a:pt x="97" y="292"/>
                  </a:moveTo>
                  <a:lnTo>
                    <a:pt x="0" y="62"/>
                  </a:lnTo>
                  <a:lnTo>
                    <a:pt x="64" y="21"/>
                  </a:lnTo>
                  <a:lnTo>
                    <a:pt x="69" y="18"/>
                  </a:lnTo>
                  <a:lnTo>
                    <a:pt x="74" y="15"/>
                  </a:lnTo>
                  <a:lnTo>
                    <a:pt x="79" y="13"/>
                  </a:lnTo>
                  <a:lnTo>
                    <a:pt x="83" y="10"/>
                  </a:lnTo>
                  <a:lnTo>
                    <a:pt x="88" y="8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1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9" y="1"/>
                  </a:lnTo>
                  <a:lnTo>
                    <a:pt x="133" y="3"/>
                  </a:lnTo>
                  <a:lnTo>
                    <a:pt x="138" y="4"/>
                  </a:lnTo>
                  <a:lnTo>
                    <a:pt x="143" y="6"/>
                  </a:lnTo>
                  <a:lnTo>
                    <a:pt x="148" y="9"/>
                  </a:lnTo>
                  <a:lnTo>
                    <a:pt x="153" y="11"/>
                  </a:lnTo>
                  <a:lnTo>
                    <a:pt x="158" y="15"/>
                  </a:lnTo>
                  <a:lnTo>
                    <a:pt x="163" y="19"/>
                  </a:lnTo>
                  <a:lnTo>
                    <a:pt x="168" y="23"/>
                  </a:lnTo>
                  <a:lnTo>
                    <a:pt x="172" y="28"/>
                  </a:lnTo>
                  <a:lnTo>
                    <a:pt x="177" y="33"/>
                  </a:lnTo>
                  <a:lnTo>
                    <a:pt x="181" y="38"/>
                  </a:lnTo>
                  <a:lnTo>
                    <a:pt x="185" y="44"/>
                  </a:lnTo>
                  <a:lnTo>
                    <a:pt x="188" y="50"/>
                  </a:lnTo>
                  <a:lnTo>
                    <a:pt x="192" y="56"/>
                  </a:lnTo>
                  <a:lnTo>
                    <a:pt x="196" y="62"/>
                  </a:lnTo>
                  <a:lnTo>
                    <a:pt x="199" y="70"/>
                  </a:lnTo>
                  <a:lnTo>
                    <a:pt x="202" y="77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9" y="96"/>
                  </a:lnTo>
                  <a:lnTo>
                    <a:pt x="211" y="102"/>
                  </a:lnTo>
                  <a:lnTo>
                    <a:pt x="213" y="109"/>
                  </a:lnTo>
                  <a:lnTo>
                    <a:pt x="214" y="115"/>
                  </a:lnTo>
                  <a:lnTo>
                    <a:pt x="216" y="121"/>
                  </a:lnTo>
                  <a:lnTo>
                    <a:pt x="217" y="127"/>
                  </a:lnTo>
                  <a:lnTo>
                    <a:pt x="217" y="132"/>
                  </a:lnTo>
                  <a:lnTo>
                    <a:pt x="218" y="139"/>
                  </a:lnTo>
                  <a:lnTo>
                    <a:pt x="219" y="144"/>
                  </a:lnTo>
                  <a:lnTo>
                    <a:pt x="219" y="150"/>
                  </a:lnTo>
                  <a:lnTo>
                    <a:pt x="219" y="155"/>
                  </a:lnTo>
                  <a:lnTo>
                    <a:pt x="219" y="160"/>
                  </a:lnTo>
                  <a:lnTo>
                    <a:pt x="219" y="164"/>
                  </a:lnTo>
                  <a:lnTo>
                    <a:pt x="218" y="169"/>
                  </a:lnTo>
                  <a:lnTo>
                    <a:pt x="217" y="174"/>
                  </a:lnTo>
                  <a:lnTo>
                    <a:pt x="217" y="177"/>
                  </a:lnTo>
                  <a:lnTo>
                    <a:pt x="216" y="182"/>
                  </a:lnTo>
                  <a:lnTo>
                    <a:pt x="215" y="186"/>
                  </a:lnTo>
                  <a:lnTo>
                    <a:pt x="214" y="190"/>
                  </a:lnTo>
                  <a:lnTo>
                    <a:pt x="213" y="194"/>
                  </a:lnTo>
                  <a:lnTo>
                    <a:pt x="211" y="197"/>
                  </a:lnTo>
                  <a:lnTo>
                    <a:pt x="210" y="201"/>
                  </a:lnTo>
                  <a:lnTo>
                    <a:pt x="208" y="203"/>
                  </a:lnTo>
                  <a:lnTo>
                    <a:pt x="207" y="207"/>
                  </a:lnTo>
                  <a:lnTo>
                    <a:pt x="205" y="211"/>
                  </a:lnTo>
                  <a:lnTo>
                    <a:pt x="203" y="213"/>
                  </a:lnTo>
                  <a:lnTo>
                    <a:pt x="200" y="217"/>
                  </a:lnTo>
                  <a:lnTo>
                    <a:pt x="198" y="220"/>
                  </a:lnTo>
                  <a:lnTo>
                    <a:pt x="196" y="223"/>
                  </a:lnTo>
                  <a:lnTo>
                    <a:pt x="193" y="226"/>
                  </a:lnTo>
                  <a:lnTo>
                    <a:pt x="190" y="230"/>
                  </a:lnTo>
                  <a:lnTo>
                    <a:pt x="187" y="232"/>
                  </a:lnTo>
                  <a:lnTo>
                    <a:pt x="184" y="235"/>
                  </a:lnTo>
                  <a:lnTo>
                    <a:pt x="180" y="238"/>
                  </a:lnTo>
                  <a:lnTo>
                    <a:pt x="177" y="241"/>
                  </a:lnTo>
                  <a:lnTo>
                    <a:pt x="173" y="243"/>
                  </a:lnTo>
                  <a:lnTo>
                    <a:pt x="169" y="247"/>
                  </a:lnTo>
                  <a:lnTo>
                    <a:pt x="164" y="250"/>
                  </a:lnTo>
                  <a:lnTo>
                    <a:pt x="97" y="292"/>
                  </a:lnTo>
                  <a:close/>
                  <a:moveTo>
                    <a:pt x="110" y="250"/>
                  </a:moveTo>
                  <a:lnTo>
                    <a:pt x="150" y="223"/>
                  </a:lnTo>
                  <a:lnTo>
                    <a:pt x="154" y="221"/>
                  </a:lnTo>
                  <a:lnTo>
                    <a:pt x="158" y="218"/>
                  </a:lnTo>
                  <a:lnTo>
                    <a:pt x="162" y="215"/>
                  </a:lnTo>
                  <a:lnTo>
                    <a:pt x="166" y="212"/>
                  </a:lnTo>
                  <a:lnTo>
                    <a:pt x="170" y="210"/>
                  </a:lnTo>
                  <a:lnTo>
                    <a:pt x="173" y="207"/>
                  </a:lnTo>
                  <a:lnTo>
                    <a:pt x="175" y="203"/>
                  </a:lnTo>
                  <a:lnTo>
                    <a:pt x="178" y="201"/>
                  </a:lnTo>
                  <a:lnTo>
                    <a:pt x="180" y="199"/>
                  </a:lnTo>
                  <a:lnTo>
                    <a:pt x="182" y="196"/>
                  </a:lnTo>
                  <a:lnTo>
                    <a:pt x="183" y="194"/>
                  </a:lnTo>
                  <a:lnTo>
                    <a:pt x="185" y="190"/>
                  </a:lnTo>
                  <a:lnTo>
                    <a:pt x="186" y="187"/>
                  </a:lnTo>
                  <a:lnTo>
                    <a:pt x="187" y="185"/>
                  </a:lnTo>
                  <a:lnTo>
                    <a:pt x="188" y="181"/>
                  </a:lnTo>
                  <a:lnTo>
                    <a:pt x="189" y="179"/>
                  </a:lnTo>
                  <a:lnTo>
                    <a:pt x="190" y="175"/>
                  </a:lnTo>
                  <a:lnTo>
                    <a:pt x="191" y="170"/>
                  </a:lnTo>
                  <a:lnTo>
                    <a:pt x="191" y="166"/>
                  </a:lnTo>
                  <a:lnTo>
                    <a:pt x="192" y="161"/>
                  </a:lnTo>
                  <a:lnTo>
                    <a:pt x="192" y="156"/>
                  </a:lnTo>
                  <a:lnTo>
                    <a:pt x="192" y="151"/>
                  </a:lnTo>
                  <a:lnTo>
                    <a:pt x="191" y="146"/>
                  </a:lnTo>
                  <a:lnTo>
                    <a:pt x="191" y="141"/>
                  </a:lnTo>
                  <a:lnTo>
                    <a:pt x="190" y="135"/>
                  </a:lnTo>
                  <a:lnTo>
                    <a:pt x="189" y="130"/>
                  </a:lnTo>
                  <a:lnTo>
                    <a:pt x="187" y="124"/>
                  </a:lnTo>
                  <a:lnTo>
                    <a:pt x="186" y="119"/>
                  </a:lnTo>
                  <a:lnTo>
                    <a:pt x="184" y="112"/>
                  </a:lnTo>
                  <a:lnTo>
                    <a:pt x="182" y="106"/>
                  </a:lnTo>
                  <a:lnTo>
                    <a:pt x="180" y="100"/>
                  </a:lnTo>
                  <a:lnTo>
                    <a:pt x="177" y="94"/>
                  </a:lnTo>
                  <a:lnTo>
                    <a:pt x="173" y="85"/>
                  </a:lnTo>
                  <a:lnTo>
                    <a:pt x="169" y="76"/>
                  </a:lnTo>
                  <a:lnTo>
                    <a:pt x="164" y="70"/>
                  </a:lnTo>
                  <a:lnTo>
                    <a:pt x="160" y="62"/>
                  </a:lnTo>
                  <a:lnTo>
                    <a:pt x="156" y="57"/>
                  </a:lnTo>
                  <a:lnTo>
                    <a:pt x="152" y="53"/>
                  </a:lnTo>
                  <a:lnTo>
                    <a:pt x="148" y="48"/>
                  </a:lnTo>
                  <a:lnTo>
                    <a:pt x="143" y="44"/>
                  </a:lnTo>
                  <a:lnTo>
                    <a:pt x="139" y="41"/>
                  </a:lnTo>
                  <a:lnTo>
                    <a:pt x="135" y="39"/>
                  </a:lnTo>
                  <a:lnTo>
                    <a:pt x="130" y="36"/>
                  </a:lnTo>
                  <a:lnTo>
                    <a:pt x="126" y="35"/>
                  </a:lnTo>
                  <a:lnTo>
                    <a:pt x="122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106" y="34"/>
                  </a:lnTo>
                  <a:lnTo>
                    <a:pt x="103" y="35"/>
                  </a:lnTo>
                  <a:lnTo>
                    <a:pt x="99" y="36"/>
                  </a:lnTo>
                  <a:lnTo>
                    <a:pt x="95" y="38"/>
                  </a:lnTo>
                  <a:lnTo>
                    <a:pt x="90" y="40"/>
                  </a:lnTo>
                  <a:lnTo>
                    <a:pt x="85" y="43"/>
                  </a:lnTo>
                  <a:lnTo>
                    <a:pt x="80" y="45"/>
                  </a:lnTo>
                  <a:lnTo>
                    <a:pt x="75" y="49"/>
                  </a:lnTo>
                  <a:lnTo>
                    <a:pt x="36" y="74"/>
                  </a:lnTo>
                  <a:lnTo>
                    <a:pt x="110" y="2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2640" y="3239640"/>
              <a:ext cx="61560" cy="6120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96" y="317"/>
                  </a:moveTo>
                  <a:lnTo>
                    <a:pt x="0" y="86"/>
                  </a:lnTo>
                  <a:lnTo>
                    <a:pt x="135" y="0"/>
                  </a:lnTo>
                  <a:lnTo>
                    <a:pt x="146" y="28"/>
                  </a:lnTo>
                  <a:lnTo>
                    <a:pt x="35" y="97"/>
                  </a:lnTo>
                  <a:lnTo>
                    <a:pt x="65" y="169"/>
                  </a:lnTo>
                  <a:lnTo>
                    <a:pt x="168" y="102"/>
                  </a:lnTo>
                  <a:lnTo>
                    <a:pt x="180" y="130"/>
                  </a:lnTo>
                  <a:lnTo>
                    <a:pt x="77" y="195"/>
                  </a:lnTo>
                  <a:lnTo>
                    <a:pt x="109" y="273"/>
                  </a:lnTo>
                  <a:lnTo>
                    <a:pt x="224" y="200"/>
                  </a:lnTo>
                  <a:lnTo>
                    <a:pt x="236" y="227"/>
                  </a:lnTo>
                  <a:lnTo>
                    <a:pt x="96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76920" y="3231720"/>
              <a:ext cx="56160" cy="47520"/>
            </a:xfrm>
            <a:custGeom>
              <a:avLst/>
              <a:gdLst/>
              <a:ahLst/>
              <a:rect l="l" t="t" r="r" b="b"/>
              <a:pathLst>
                <a:path w="214" h="246">
                  <a:moveTo>
                    <a:pt x="98" y="246"/>
                  </a:moveTo>
                  <a:lnTo>
                    <a:pt x="0" y="16"/>
                  </a:lnTo>
                  <a:lnTo>
                    <a:pt x="26" y="0"/>
                  </a:lnTo>
                  <a:lnTo>
                    <a:pt x="111" y="203"/>
                  </a:lnTo>
                  <a:lnTo>
                    <a:pt x="203" y="145"/>
                  </a:lnTo>
                  <a:lnTo>
                    <a:pt x="214" y="171"/>
                  </a:lnTo>
                  <a:lnTo>
                    <a:pt x="98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3800" y="3204360"/>
              <a:ext cx="55080" cy="47520"/>
            </a:xfrm>
            <a:custGeom>
              <a:avLst/>
              <a:gdLst/>
              <a:ahLst/>
              <a:rect l="l" t="t" r="r" b="b"/>
              <a:pathLst>
                <a:path w="214" h="246">
                  <a:moveTo>
                    <a:pt x="98" y="246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111" y="202"/>
                  </a:lnTo>
                  <a:lnTo>
                    <a:pt x="203" y="144"/>
                  </a:lnTo>
                  <a:lnTo>
                    <a:pt x="214" y="171"/>
                  </a:lnTo>
                  <a:lnTo>
                    <a:pt x="98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85280" y="3179520"/>
              <a:ext cx="51480" cy="56880"/>
            </a:xfrm>
            <a:custGeom>
              <a:avLst/>
              <a:gdLst/>
              <a:ahLst/>
              <a:rect l="l" t="t" r="r" b="b"/>
              <a:pathLst>
                <a:path w="200" h="293">
                  <a:moveTo>
                    <a:pt x="25" y="293"/>
                  </a:moveTo>
                  <a:lnTo>
                    <a:pt x="0" y="17"/>
                  </a:lnTo>
                  <a:lnTo>
                    <a:pt x="26" y="0"/>
                  </a:lnTo>
                  <a:lnTo>
                    <a:pt x="200" y="181"/>
                  </a:lnTo>
                  <a:lnTo>
                    <a:pt x="171" y="198"/>
                  </a:lnTo>
                  <a:lnTo>
                    <a:pt x="121" y="143"/>
                  </a:lnTo>
                  <a:lnTo>
                    <a:pt x="42" y="193"/>
                  </a:lnTo>
                  <a:lnTo>
                    <a:pt x="51" y="275"/>
                  </a:lnTo>
                  <a:lnTo>
                    <a:pt x="25" y="293"/>
                  </a:lnTo>
                  <a:close/>
                  <a:moveTo>
                    <a:pt x="38" y="163"/>
                  </a:moveTo>
                  <a:lnTo>
                    <a:pt x="102" y="123"/>
                  </a:lnTo>
                  <a:lnTo>
                    <a:pt x="56" y="72"/>
                  </a:lnTo>
                  <a:lnTo>
                    <a:pt x="51" y="66"/>
                  </a:lnTo>
                  <a:lnTo>
                    <a:pt x="46" y="61"/>
                  </a:lnTo>
                  <a:lnTo>
                    <a:pt x="41" y="56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1"/>
                  </a:lnTo>
                  <a:lnTo>
                    <a:pt x="25" y="37"/>
                  </a:lnTo>
                  <a:lnTo>
                    <a:pt x="22" y="32"/>
                  </a:lnTo>
                  <a:lnTo>
                    <a:pt x="24" y="38"/>
                  </a:lnTo>
                  <a:lnTo>
                    <a:pt x="25" y="45"/>
                  </a:lnTo>
                  <a:lnTo>
                    <a:pt x="26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9" y="70"/>
                  </a:lnTo>
                  <a:lnTo>
                    <a:pt x="30" y="77"/>
                  </a:lnTo>
                  <a:lnTo>
                    <a:pt x="31" y="83"/>
                  </a:lnTo>
                  <a:lnTo>
                    <a:pt x="38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07240" y="3150720"/>
              <a:ext cx="50400" cy="56880"/>
            </a:xfrm>
            <a:custGeom>
              <a:avLst/>
              <a:gdLst/>
              <a:ahLst/>
              <a:rect l="l" t="t" r="r" b="b"/>
              <a:pathLst>
                <a:path w="195" h="294">
                  <a:moveTo>
                    <a:pt x="169" y="294"/>
                  </a:moveTo>
                  <a:lnTo>
                    <a:pt x="0" y="109"/>
                  </a:lnTo>
                  <a:lnTo>
                    <a:pt x="26" y="93"/>
                  </a:lnTo>
                  <a:lnTo>
                    <a:pt x="145" y="229"/>
                  </a:lnTo>
                  <a:lnTo>
                    <a:pt x="149" y="232"/>
                  </a:lnTo>
                  <a:lnTo>
                    <a:pt x="152" y="236"/>
                  </a:lnTo>
                  <a:lnTo>
                    <a:pt x="156" y="240"/>
                  </a:lnTo>
                  <a:lnTo>
                    <a:pt x="159" y="245"/>
                  </a:lnTo>
                  <a:lnTo>
                    <a:pt x="162" y="249"/>
                  </a:lnTo>
                  <a:lnTo>
                    <a:pt x="165" y="252"/>
                  </a:lnTo>
                  <a:lnTo>
                    <a:pt x="168" y="256"/>
                  </a:lnTo>
                  <a:lnTo>
                    <a:pt x="171" y="260"/>
                  </a:lnTo>
                  <a:lnTo>
                    <a:pt x="170" y="255"/>
                  </a:lnTo>
                  <a:lnTo>
                    <a:pt x="169" y="249"/>
                  </a:lnTo>
                  <a:lnTo>
                    <a:pt x="168" y="244"/>
                  </a:lnTo>
                  <a:lnTo>
                    <a:pt x="168" y="237"/>
                  </a:lnTo>
                  <a:lnTo>
                    <a:pt x="167" y="232"/>
                  </a:lnTo>
                  <a:lnTo>
                    <a:pt x="166" y="227"/>
                  </a:lnTo>
                  <a:lnTo>
                    <a:pt x="166" y="221"/>
                  </a:lnTo>
                  <a:lnTo>
                    <a:pt x="165" y="216"/>
                  </a:lnTo>
                  <a:lnTo>
                    <a:pt x="145" y="17"/>
                  </a:lnTo>
                  <a:lnTo>
                    <a:pt x="170" y="0"/>
                  </a:lnTo>
                  <a:lnTo>
                    <a:pt x="195" y="277"/>
                  </a:lnTo>
                  <a:lnTo>
                    <a:pt x="169" y="2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3400" y="3133440"/>
              <a:ext cx="54360" cy="51840"/>
            </a:xfrm>
            <a:custGeom>
              <a:avLst/>
              <a:gdLst/>
              <a:ahLst/>
              <a:rect l="l" t="t" r="r" b="b"/>
              <a:pathLst>
                <a:path w="209" h="267">
                  <a:moveTo>
                    <a:pt x="16" y="194"/>
                  </a:moveTo>
                  <a:lnTo>
                    <a:pt x="11" y="180"/>
                  </a:lnTo>
                  <a:lnTo>
                    <a:pt x="6" y="166"/>
                  </a:lnTo>
                  <a:lnTo>
                    <a:pt x="3" y="153"/>
                  </a:lnTo>
                  <a:lnTo>
                    <a:pt x="1" y="139"/>
                  </a:lnTo>
                  <a:lnTo>
                    <a:pt x="0" y="126"/>
                  </a:lnTo>
                  <a:lnTo>
                    <a:pt x="0" y="113"/>
                  </a:lnTo>
                  <a:lnTo>
                    <a:pt x="1" y="100"/>
                  </a:lnTo>
                  <a:lnTo>
                    <a:pt x="4" y="88"/>
                  </a:lnTo>
                  <a:lnTo>
                    <a:pt x="7" y="76"/>
                  </a:lnTo>
                  <a:lnTo>
                    <a:pt x="11" y="65"/>
                  </a:lnTo>
                  <a:lnTo>
                    <a:pt x="16" y="55"/>
                  </a:lnTo>
                  <a:lnTo>
                    <a:pt x="22" y="45"/>
                  </a:lnTo>
                  <a:lnTo>
                    <a:pt x="28" y="36"/>
                  </a:lnTo>
                  <a:lnTo>
                    <a:pt x="37" y="29"/>
                  </a:lnTo>
                  <a:lnTo>
                    <a:pt x="45" y="21"/>
                  </a:lnTo>
                  <a:lnTo>
                    <a:pt x="55" y="14"/>
                  </a:lnTo>
                  <a:lnTo>
                    <a:pt x="61" y="10"/>
                  </a:lnTo>
                  <a:lnTo>
                    <a:pt x="67" y="8"/>
                  </a:lnTo>
                  <a:lnTo>
                    <a:pt x="74" y="5"/>
                  </a:lnTo>
                  <a:lnTo>
                    <a:pt x="80" y="3"/>
                  </a:lnTo>
                  <a:lnTo>
                    <a:pt x="87" y="2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4" y="7"/>
                  </a:lnTo>
                  <a:lnTo>
                    <a:pt x="140" y="9"/>
                  </a:lnTo>
                  <a:lnTo>
                    <a:pt x="146" y="13"/>
                  </a:lnTo>
                  <a:lnTo>
                    <a:pt x="151" y="18"/>
                  </a:lnTo>
                  <a:lnTo>
                    <a:pt x="157" y="23"/>
                  </a:lnTo>
                  <a:lnTo>
                    <a:pt x="162" y="28"/>
                  </a:lnTo>
                  <a:lnTo>
                    <a:pt x="167" y="33"/>
                  </a:lnTo>
                  <a:lnTo>
                    <a:pt x="172" y="39"/>
                  </a:lnTo>
                  <a:lnTo>
                    <a:pt x="178" y="46"/>
                  </a:lnTo>
                  <a:lnTo>
                    <a:pt x="182" y="53"/>
                  </a:lnTo>
                  <a:lnTo>
                    <a:pt x="187" y="60"/>
                  </a:lnTo>
                  <a:lnTo>
                    <a:pt x="191" y="69"/>
                  </a:lnTo>
                  <a:lnTo>
                    <a:pt x="194" y="76"/>
                  </a:lnTo>
                  <a:lnTo>
                    <a:pt x="198" y="85"/>
                  </a:lnTo>
                  <a:lnTo>
                    <a:pt x="201" y="94"/>
                  </a:lnTo>
                  <a:lnTo>
                    <a:pt x="203" y="103"/>
                  </a:lnTo>
                  <a:lnTo>
                    <a:pt x="205" y="111"/>
                  </a:lnTo>
                  <a:lnTo>
                    <a:pt x="207" y="120"/>
                  </a:lnTo>
                  <a:lnTo>
                    <a:pt x="208" y="129"/>
                  </a:lnTo>
                  <a:lnTo>
                    <a:pt x="209" y="138"/>
                  </a:lnTo>
                  <a:lnTo>
                    <a:pt x="209" y="146"/>
                  </a:lnTo>
                  <a:lnTo>
                    <a:pt x="209" y="155"/>
                  </a:lnTo>
                  <a:lnTo>
                    <a:pt x="208" y="164"/>
                  </a:lnTo>
                  <a:lnTo>
                    <a:pt x="207" y="172"/>
                  </a:lnTo>
                  <a:lnTo>
                    <a:pt x="205" y="180"/>
                  </a:lnTo>
                  <a:lnTo>
                    <a:pt x="203" y="187"/>
                  </a:lnTo>
                  <a:lnTo>
                    <a:pt x="201" y="195"/>
                  </a:lnTo>
                  <a:lnTo>
                    <a:pt x="198" y="202"/>
                  </a:lnTo>
                  <a:lnTo>
                    <a:pt x="194" y="210"/>
                  </a:lnTo>
                  <a:lnTo>
                    <a:pt x="191" y="216"/>
                  </a:lnTo>
                  <a:lnTo>
                    <a:pt x="186" y="222"/>
                  </a:lnTo>
                  <a:lnTo>
                    <a:pt x="182" y="229"/>
                  </a:lnTo>
                  <a:lnTo>
                    <a:pt x="177" y="234"/>
                  </a:lnTo>
                  <a:lnTo>
                    <a:pt x="171" y="240"/>
                  </a:lnTo>
                  <a:lnTo>
                    <a:pt x="166" y="244"/>
                  </a:lnTo>
                  <a:lnTo>
                    <a:pt x="160" y="249"/>
                  </a:lnTo>
                  <a:lnTo>
                    <a:pt x="155" y="252"/>
                  </a:lnTo>
                  <a:lnTo>
                    <a:pt x="148" y="256"/>
                  </a:lnTo>
                  <a:lnTo>
                    <a:pt x="141" y="260"/>
                  </a:lnTo>
                  <a:lnTo>
                    <a:pt x="135" y="262"/>
                  </a:lnTo>
                  <a:lnTo>
                    <a:pt x="128" y="265"/>
                  </a:lnTo>
                  <a:lnTo>
                    <a:pt x="122" y="266"/>
                  </a:lnTo>
                  <a:lnTo>
                    <a:pt x="115" y="267"/>
                  </a:lnTo>
                  <a:lnTo>
                    <a:pt x="108" y="267"/>
                  </a:lnTo>
                  <a:lnTo>
                    <a:pt x="100" y="267"/>
                  </a:lnTo>
                  <a:lnTo>
                    <a:pt x="94" y="266"/>
                  </a:lnTo>
                  <a:lnTo>
                    <a:pt x="87" y="265"/>
                  </a:lnTo>
                  <a:lnTo>
                    <a:pt x="81" y="262"/>
                  </a:lnTo>
                  <a:lnTo>
                    <a:pt x="75" y="260"/>
                  </a:lnTo>
                  <a:lnTo>
                    <a:pt x="69" y="257"/>
                  </a:lnTo>
                  <a:lnTo>
                    <a:pt x="63" y="254"/>
                  </a:lnTo>
                  <a:lnTo>
                    <a:pt x="57" y="249"/>
                  </a:lnTo>
                  <a:lnTo>
                    <a:pt x="52" y="245"/>
                  </a:lnTo>
                  <a:lnTo>
                    <a:pt x="46" y="239"/>
                  </a:lnTo>
                  <a:lnTo>
                    <a:pt x="41" y="234"/>
                  </a:lnTo>
                  <a:lnTo>
                    <a:pt x="37" y="227"/>
                  </a:lnTo>
                  <a:lnTo>
                    <a:pt x="32" y="221"/>
                  </a:lnTo>
                  <a:lnTo>
                    <a:pt x="27" y="215"/>
                  </a:lnTo>
                  <a:lnTo>
                    <a:pt x="23" y="209"/>
                  </a:lnTo>
                  <a:lnTo>
                    <a:pt x="19" y="201"/>
                  </a:lnTo>
                  <a:lnTo>
                    <a:pt x="16" y="194"/>
                  </a:lnTo>
                  <a:close/>
                  <a:moveTo>
                    <a:pt x="43" y="177"/>
                  </a:moveTo>
                  <a:lnTo>
                    <a:pt x="47" y="187"/>
                  </a:lnTo>
                  <a:lnTo>
                    <a:pt x="52" y="197"/>
                  </a:lnTo>
                  <a:lnTo>
                    <a:pt x="57" y="205"/>
                  </a:lnTo>
                  <a:lnTo>
                    <a:pt x="62" y="212"/>
                  </a:lnTo>
                  <a:lnTo>
                    <a:pt x="68" y="219"/>
                  </a:lnTo>
                  <a:lnTo>
                    <a:pt x="74" y="224"/>
                  </a:lnTo>
                  <a:lnTo>
                    <a:pt x="81" y="229"/>
                  </a:lnTo>
                  <a:lnTo>
                    <a:pt x="88" y="232"/>
                  </a:lnTo>
                  <a:lnTo>
                    <a:pt x="95" y="235"/>
                  </a:lnTo>
                  <a:lnTo>
                    <a:pt x="102" y="236"/>
                  </a:lnTo>
                  <a:lnTo>
                    <a:pt x="109" y="237"/>
                  </a:lnTo>
                  <a:lnTo>
                    <a:pt x="116" y="236"/>
                  </a:lnTo>
                  <a:lnTo>
                    <a:pt x="123" y="236"/>
                  </a:lnTo>
                  <a:lnTo>
                    <a:pt x="130" y="234"/>
                  </a:lnTo>
                  <a:lnTo>
                    <a:pt x="137" y="231"/>
                  </a:lnTo>
                  <a:lnTo>
                    <a:pt x="144" y="226"/>
                  </a:lnTo>
                  <a:lnTo>
                    <a:pt x="150" y="222"/>
                  </a:lnTo>
                  <a:lnTo>
                    <a:pt x="156" y="216"/>
                  </a:lnTo>
                  <a:lnTo>
                    <a:pt x="161" y="211"/>
                  </a:lnTo>
                  <a:lnTo>
                    <a:pt x="166" y="205"/>
                  </a:lnTo>
                  <a:lnTo>
                    <a:pt x="170" y="197"/>
                  </a:lnTo>
                  <a:lnTo>
                    <a:pt x="174" y="190"/>
                  </a:lnTo>
                  <a:lnTo>
                    <a:pt x="178" y="181"/>
                  </a:lnTo>
                  <a:lnTo>
                    <a:pt x="180" y="174"/>
                  </a:lnTo>
                  <a:lnTo>
                    <a:pt x="181" y="164"/>
                  </a:lnTo>
                  <a:lnTo>
                    <a:pt x="182" y="155"/>
                  </a:lnTo>
                  <a:lnTo>
                    <a:pt x="182" y="145"/>
                  </a:lnTo>
                  <a:lnTo>
                    <a:pt x="181" y="135"/>
                  </a:lnTo>
                  <a:lnTo>
                    <a:pt x="179" y="125"/>
                  </a:lnTo>
                  <a:lnTo>
                    <a:pt x="177" y="115"/>
                  </a:lnTo>
                  <a:lnTo>
                    <a:pt x="172" y="104"/>
                  </a:lnTo>
                  <a:lnTo>
                    <a:pt x="168" y="93"/>
                  </a:lnTo>
                  <a:lnTo>
                    <a:pt x="165" y="86"/>
                  </a:lnTo>
                  <a:lnTo>
                    <a:pt x="162" y="80"/>
                  </a:lnTo>
                  <a:lnTo>
                    <a:pt x="159" y="74"/>
                  </a:lnTo>
                  <a:lnTo>
                    <a:pt x="155" y="68"/>
                  </a:lnTo>
                  <a:lnTo>
                    <a:pt x="152" y="63"/>
                  </a:lnTo>
                  <a:lnTo>
                    <a:pt x="148" y="58"/>
                  </a:lnTo>
                  <a:lnTo>
                    <a:pt x="144" y="53"/>
                  </a:lnTo>
                  <a:lnTo>
                    <a:pt x="140" y="49"/>
                  </a:lnTo>
                  <a:lnTo>
                    <a:pt x="136" y="45"/>
                  </a:lnTo>
                  <a:lnTo>
                    <a:pt x="132" y="41"/>
                  </a:lnTo>
                  <a:lnTo>
                    <a:pt x="127" y="39"/>
                  </a:lnTo>
                  <a:lnTo>
                    <a:pt x="123" y="36"/>
                  </a:lnTo>
                  <a:lnTo>
                    <a:pt x="118" y="34"/>
                  </a:lnTo>
                  <a:lnTo>
                    <a:pt x="114" y="33"/>
                  </a:lnTo>
                  <a:lnTo>
                    <a:pt x="109" y="31"/>
                  </a:lnTo>
                  <a:lnTo>
                    <a:pt x="103" y="31"/>
                  </a:lnTo>
                  <a:lnTo>
                    <a:pt x="99" y="30"/>
                  </a:lnTo>
                  <a:lnTo>
                    <a:pt x="94" y="30"/>
                  </a:lnTo>
                  <a:lnTo>
                    <a:pt x="89" y="31"/>
                  </a:lnTo>
                  <a:lnTo>
                    <a:pt x="84" y="33"/>
                  </a:lnTo>
                  <a:lnTo>
                    <a:pt x="80" y="34"/>
                  </a:lnTo>
                  <a:lnTo>
                    <a:pt x="75" y="35"/>
                  </a:lnTo>
                  <a:lnTo>
                    <a:pt x="70" y="38"/>
                  </a:lnTo>
                  <a:lnTo>
                    <a:pt x="66" y="40"/>
                  </a:lnTo>
                  <a:lnTo>
                    <a:pt x="59" y="45"/>
                  </a:lnTo>
                  <a:lnTo>
                    <a:pt x="54" y="50"/>
                  </a:lnTo>
                  <a:lnTo>
                    <a:pt x="49" y="55"/>
                  </a:lnTo>
                  <a:lnTo>
                    <a:pt x="44" y="61"/>
                  </a:lnTo>
                  <a:lnTo>
                    <a:pt x="40" y="69"/>
                  </a:lnTo>
                  <a:lnTo>
                    <a:pt x="36" y="75"/>
                  </a:lnTo>
                  <a:lnTo>
                    <a:pt x="33" y="84"/>
                  </a:lnTo>
                  <a:lnTo>
                    <a:pt x="29" y="91"/>
                  </a:lnTo>
                  <a:lnTo>
                    <a:pt x="27" y="100"/>
                  </a:lnTo>
                  <a:lnTo>
                    <a:pt x="27" y="110"/>
                  </a:lnTo>
                  <a:lnTo>
                    <a:pt x="27" y="120"/>
                  </a:lnTo>
                  <a:lnTo>
                    <a:pt x="28" y="130"/>
                  </a:lnTo>
                  <a:lnTo>
                    <a:pt x="30" y="141"/>
                  </a:lnTo>
                  <a:lnTo>
                    <a:pt x="34" y="154"/>
                  </a:lnTo>
                  <a:lnTo>
                    <a:pt x="38" y="165"/>
                  </a:lnTo>
                  <a:lnTo>
                    <a:pt x="43" y="1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10200" y="3107880"/>
              <a:ext cx="67680" cy="59040"/>
            </a:xfrm>
            <a:custGeom>
              <a:avLst/>
              <a:gdLst/>
              <a:ahLst/>
              <a:rect l="l" t="t" r="r" b="b"/>
              <a:pathLst>
                <a:path w="261" h="302">
                  <a:moveTo>
                    <a:pt x="96" y="302"/>
                  </a:moveTo>
                  <a:lnTo>
                    <a:pt x="0" y="71"/>
                  </a:lnTo>
                  <a:lnTo>
                    <a:pt x="82" y="19"/>
                  </a:lnTo>
                  <a:lnTo>
                    <a:pt x="88" y="15"/>
                  </a:lnTo>
                  <a:lnTo>
                    <a:pt x="94" y="11"/>
                  </a:lnTo>
                  <a:lnTo>
                    <a:pt x="100" y="9"/>
                  </a:lnTo>
                  <a:lnTo>
                    <a:pt x="105" y="6"/>
                  </a:lnTo>
                  <a:lnTo>
                    <a:pt x="110" y="4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1" y="3"/>
                  </a:lnTo>
                  <a:lnTo>
                    <a:pt x="146" y="5"/>
                  </a:lnTo>
                  <a:lnTo>
                    <a:pt x="149" y="8"/>
                  </a:lnTo>
                  <a:lnTo>
                    <a:pt x="153" y="10"/>
                  </a:lnTo>
                  <a:lnTo>
                    <a:pt x="156" y="12"/>
                  </a:lnTo>
                  <a:lnTo>
                    <a:pt x="160" y="15"/>
                  </a:lnTo>
                  <a:lnTo>
                    <a:pt x="163" y="19"/>
                  </a:lnTo>
                  <a:lnTo>
                    <a:pt x="166" y="22"/>
                  </a:lnTo>
                  <a:lnTo>
                    <a:pt x="168" y="26"/>
                  </a:lnTo>
                  <a:lnTo>
                    <a:pt x="171" y="30"/>
                  </a:lnTo>
                  <a:lnTo>
                    <a:pt x="173" y="35"/>
                  </a:lnTo>
                  <a:lnTo>
                    <a:pt x="175" y="39"/>
                  </a:lnTo>
                  <a:lnTo>
                    <a:pt x="177" y="45"/>
                  </a:lnTo>
                  <a:lnTo>
                    <a:pt x="179" y="51"/>
                  </a:lnTo>
                  <a:lnTo>
                    <a:pt x="180" y="57"/>
                  </a:lnTo>
                  <a:lnTo>
                    <a:pt x="181" y="64"/>
                  </a:lnTo>
                  <a:lnTo>
                    <a:pt x="182" y="70"/>
                  </a:lnTo>
                  <a:lnTo>
                    <a:pt x="181" y="76"/>
                  </a:lnTo>
                  <a:lnTo>
                    <a:pt x="181" y="82"/>
                  </a:lnTo>
                  <a:lnTo>
                    <a:pt x="180" y="89"/>
                  </a:lnTo>
                  <a:lnTo>
                    <a:pt x="178" y="95"/>
                  </a:lnTo>
                  <a:lnTo>
                    <a:pt x="175" y="101"/>
                  </a:lnTo>
                  <a:lnTo>
                    <a:pt x="173" y="107"/>
                  </a:lnTo>
                  <a:lnTo>
                    <a:pt x="169" y="112"/>
                  </a:lnTo>
                  <a:lnTo>
                    <a:pt x="165" y="119"/>
                  </a:lnTo>
                  <a:lnTo>
                    <a:pt x="160" y="125"/>
                  </a:lnTo>
                  <a:lnTo>
                    <a:pt x="155" y="130"/>
                  </a:lnTo>
                  <a:lnTo>
                    <a:pt x="149" y="135"/>
                  </a:lnTo>
                  <a:lnTo>
                    <a:pt x="152" y="135"/>
                  </a:lnTo>
                  <a:lnTo>
                    <a:pt x="155" y="135"/>
                  </a:lnTo>
                  <a:lnTo>
                    <a:pt x="158" y="135"/>
                  </a:lnTo>
                  <a:lnTo>
                    <a:pt x="160" y="136"/>
                  </a:lnTo>
                  <a:lnTo>
                    <a:pt x="162" y="136"/>
                  </a:lnTo>
                  <a:lnTo>
                    <a:pt x="165" y="136"/>
                  </a:lnTo>
                  <a:lnTo>
                    <a:pt x="167" y="136"/>
                  </a:lnTo>
                  <a:lnTo>
                    <a:pt x="169" y="137"/>
                  </a:lnTo>
                  <a:lnTo>
                    <a:pt x="173" y="139"/>
                  </a:lnTo>
                  <a:lnTo>
                    <a:pt x="177" y="140"/>
                  </a:lnTo>
                  <a:lnTo>
                    <a:pt x="181" y="142"/>
                  </a:lnTo>
                  <a:lnTo>
                    <a:pt x="185" y="145"/>
                  </a:lnTo>
                  <a:lnTo>
                    <a:pt x="189" y="146"/>
                  </a:lnTo>
                  <a:lnTo>
                    <a:pt x="193" y="149"/>
                  </a:lnTo>
                  <a:lnTo>
                    <a:pt x="197" y="152"/>
                  </a:lnTo>
                  <a:lnTo>
                    <a:pt x="202" y="155"/>
                  </a:lnTo>
                  <a:lnTo>
                    <a:pt x="261" y="196"/>
                  </a:lnTo>
                  <a:lnTo>
                    <a:pt x="230" y="216"/>
                  </a:lnTo>
                  <a:lnTo>
                    <a:pt x="185" y="185"/>
                  </a:lnTo>
                  <a:lnTo>
                    <a:pt x="180" y="181"/>
                  </a:lnTo>
                  <a:lnTo>
                    <a:pt x="176" y="178"/>
                  </a:lnTo>
                  <a:lnTo>
                    <a:pt x="171" y="175"/>
                  </a:lnTo>
                  <a:lnTo>
                    <a:pt x="167" y="172"/>
                  </a:lnTo>
                  <a:lnTo>
                    <a:pt x="164" y="170"/>
                  </a:lnTo>
                  <a:lnTo>
                    <a:pt x="160" y="167"/>
                  </a:lnTo>
                  <a:lnTo>
                    <a:pt x="157" y="166"/>
                  </a:lnTo>
                  <a:lnTo>
                    <a:pt x="154" y="163"/>
                  </a:lnTo>
                  <a:lnTo>
                    <a:pt x="151" y="162"/>
                  </a:lnTo>
                  <a:lnTo>
                    <a:pt x="148" y="161"/>
                  </a:lnTo>
                  <a:lnTo>
                    <a:pt x="146" y="160"/>
                  </a:lnTo>
                  <a:lnTo>
                    <a:pt x="144" y="158"/>
                  </a:lnTo>
                  <a:lnTo>
                    <a:pt x="140" y="158"/>
                  </a:lnTo>
                  <a:lnTo>
                    <a:pt x="138" y="157"/>
                  </a:lnTo>
                  <a:lnTo>
                    <a:pt x="136" y="157"/>
                  </a:lnTo>
                  <a:lnTo>
                    <a:pt x="134" y="157"/>
                  </a:lnTo>
                  <a:lnTo>
                    <a:pt x="132" y="156"/>
                  </a:lnTo>
                  <a:lnTo>
                    <a:pt x="131" y="156"/>
                  </a:lnTo>
                  <a:lnTo>
                    <a:pt x="129" y="156"/>
                  </a:lnTo>
                  <a:lnTo>
                    <a:pt x="127" y="156"/>
                  </a:lnTo>
                  <a:lnTo>
                    <a:pt x="125" y="157"/>
                  </a:lnTo>
                  <a:lnTo>
                    <a:pt x="124" y="157"/>
                  </a:lnTo>
                  <a:lnTo>
                    <a:pt x="122" y="157"/>
                  </a:lnTo>
                  <a:lnTo>
                    <a:pt x="121" y="157"/>
                  </a:lnTo>
                  <a:lnTo>
                    <a:pt x="119" y="158"/>
                  </a:lnTo>
                  <a:lnTo>
                    <a:pt x="118" y="158"/>
                  </a:lnTo>
                  <a:lnTo>
                    <a:pt x="116" y="160"/>
                  </a:lnTo>
                  <a:lnTo>
                    <a:pt x="115" y="161"/>
                  </a:lnTo>
                  <a:lnTo>
                    <a:pt x="113" y="161"/>
                  </a:lnTo>
                  <a:lnTo>
                    <a:pt x="111" y="162"/>
                  </a:lnTo>
                  <a:lnTo>
                    <a:pt x="109" y="163"/>
                  </a:lnTo>
                  <a:lnTo>
                    <a:pt x="107" y="166"/>
                  </a:lnTo>
                  <a:lnTo>
                    <a:pt x="78" y="183"/>
                  </a:lnTo>
                  <a:lnTo>
                    <a:pt x="121" y="286"/>
                  </a:lnTo>
                  <a:lnTo>
                    <a:pt x="96" y="302"/>
                  </a:lnTo>
                  <a:close/>
                  <a:moveTo>
                    <a:pt x="66" y="157"/>
                  </a:moveTo>
                  <a:lnTo>
                    <a:pt x="120" y="124"/>
                  </a:lnTo>
                  <a:lnTo>
                    <a:pt x="124" y="121"/>
                  </a:lnTo>
                  <a:lnTo>
                    <a:pt x="127" y="119"/>
                  </a:lnTo>
                  <a:lnTo>
                    <a:pt x="131" y="115"/>
                  </a:lnTo>
                  <a:lnTo>
                    <a:pt x="134" y="112"/>
                  </a:lnTo>
                  <a:lnTo>
                    <a:pt x="137" y="110"/>
                  </a:lnTo>
                  <a:lnTo>
                    <a:pt x="140" y="107"/>
                  </a:lnTo>
                  <a:lnTo>
                    <a:pt x="142" y="105"/>
                  </a:lnTo>
                  <a:lnTo>
                    <a:pt x="145" y="102"/>
                  </a:lnTo>
                  <a:lnTo>
                    <a:pt x="147" y="100"/>
                  </a:lnTo>
                  <a:lnTo>
                    <a:pt x="148" y="97"/>
                  </a:lnTo>
                  <a:lnTo>
                    <a:pt x="150" y="94"/>
                  </a:lnTo>
                  <a:lnTo>
                    <a:pt x="151" y="91"/>
                  </a:lnTo>
                  <a:lnTo>
                    <a:pt x="152" y="89"/>
                  </a:lnTo>
                  <a:lnTo>
                    <a:pt x="153" y="85"/>
                  </a:lnTo>
                  <a:lnTo>
                    <a:pt x="153" y="82"/>
                  </a:lnTo>
                  <a:lnTo>
                    <a:pt x="154" y="79"/>
                  </a:lnTo>
                  <a:lnTo>
                    <a:pt x="154" y="76"/>
                  </a:lnTo>
                  <a:lnTo>
                    <a:pt x="154" y="72"/>
                  </a:lnTo>
                  <a:lnTo>
                    <a:pt x="154" y="70"/>
                  </a:lnTo>
                  <a:lnTo>
                    <a:pt x="153" y="67"/>
                  </a:lnTo>
                  <a:lnTo>
                    <a:pt x="153" y="64"/>
                  </a:lnTo>
                  <a:lnTo>
                    <a:pt x="152" y="61"/>
                  </a:lnTo>
                  <a:lnTo>
                    <a:pt x="151" y="59"/>
                  </a:lnTo>
                  <a:lnTo>
                    <a:pt x="150" y="55"/>
                  </a:lnTo>
                  <a:lnTo>
                    <a:pt x="148" y="51"/>
                  </a:lnTo>
                  <a:lnTo>
                    <a:pt x="146" y="47"/>
                  </a:lnTo>
                  <a:lnTo>
                    <a:pt x="144" y="45"/>
                  </a:lnTo>
                  <a:lnTo>
                    <a:pt x="140" y="42"/>
                  </a:lnTo>
                  <a:lnTo>
                    <a:pt x="138" y="40"/>
                  </a:lnTo>
                  <a:lnTo>
                    <a:pt x="135" y="37"/>
                  </a:lnTo>
                  <a:lnTo>
                    <a:pt x="132" y="36"/>
                  </a:lnTo>
                  <a:lnTo>
                    <a:pt x="128" y="35"/>
                  </a:lnTo>
                  <a:lnTo>
                    <a:pt x="125" y="34"/>
                  </a:lnTo>
                  <a:lnTo>
                    <a:pt x="121" y="34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08" y="36"/>
                  </a:lnTo>
                  <a:lnTo>
                    <a:pt x="104" y="37"/>
                  </a:lnTo>
                  <a:lnTo>
                    <a:pt x="99" y="40"/>
                  </a:lnTo>
                  <a:lnTo>
                    <a:pt x="94" y="44"/>
                  </a:lnTo>
                  <a:lnTo>
                    <a:pt x="35" y="81"/>
                  </a:lnTo>
                  <a:lnTo>
                    <a:pt x="6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64920" y="3084120"/>
              <a:ext cx="54360" cy="5220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17" y="195"/>
                  </a:moveTo>
                  <a:lnTo>
                    <a:pt x="12" y="180"/>
                  </a:lnTo>
                  <a:lnTo>
                    <a:pt x="8" y="166"/>
                  </a:lnTo>
                  <a:lnTo>
                    <a:pt x="4" y="152"/>
                  </a:lnTo>
                  <a:lnTo>
                    <a:pt x="1" y="138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1" y="101"/>
                  </a:lnTo>
                  <a:lnTo>
                    <a:pt x="5" y="89"/>
                  </a:lnTo>
                  <a:lnTo>
                    <a:pt x="8" y="77"/>
                  </a:lnTo>
                  <a:lnTo>
                    <a:pt x="12" y="66"/>
                  </a:lnTo>
                  <a:lnTo>
                    <a:pt x="17" y="56"/>
                  </a:lnTo>
                  <a:lnTo>
                    <a:pt x="23" y="46"/>
                  </a:lnTo>
                  <a:lnTo>
                    <a:pt x="29" y="37"/>
                  </a:lnTo>
                  <a:lnTo>
                    <a:pt x="37" y="29"/>
                  </a:lnTo>
                  <a:lnTo>
                    <a:pt x="45" y="21"/>
                  </a:lnTo>
                  <a:lnTo>
                    <a:pt x="55" y="15"/>
                  </a:lnTo>
                  <a:lnTo>
                    <a:pt x="61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5"/>
                  </a:lnTo>
                  <a:lnTo>
                    <a:pt x="134" y="6"/>
                  </a:lnTo>
                  <a:lnTo>
                    <a:pt x="140" y="10"/>
                  </a:lnTo>
                  <a:lnTo>
                    <a:pt x="146" y="14"/>
                  </a:lnTo>
                  <a:lnTo>
                    <a:pt x="152" y="17"/>
                  </a:lnTo>
                  <a:lnTo>
                    <a:pt x="158" y="22"/>
                  </a:lnTo>
                  <a:lnTo>
                    <a:pt x="163" y="27"/>
                  </a:lnTo>
                  <a:lnTo>
                    <a:pt x="169" y="34"/>
                  </a:lnTo>
                  <a:lnTo>
                    <a:pt x="173" y="40"/>
                  </a:lnTo>
                  <a:lnTo>
                    <a:pt x="178" y="46"/>
                  </a:lnTo>
                  <a:lnTo>
                    <a:pt x="183" y="54"/>
                  </a:lnTo>
                  <a:lnTo>
                    <a:pt x="187" y="61"/>
                  </a:lnTo>
                  <a:lnTo>
                    <a:pt x="191" y="69"/>
                  </a:lnTo>
                  <a:lnTo>
                    <a:pt x="194" y="77"/>
                  </a:lnTo>
                  <a:lnTo>
                    <a:pt x="198" y="86"/>
                  </a:lnTo>
                  <a:lnTo>
                    <a:pt x="201" y="95"/>
                  </a:lnTo>
                  <a:lnTo>
                    <a:pt x="203" y="104"/>
                  </a:lnTo>
                  <a:lnTo>
                    <a:pt x="205" y="112"/>
                  </a:lnTo>
                  <a:lnTo>
                    <a:pt x="207" y="121"/>
                  </a:lnTo>
                  <a:lnTo>
                    <a:pt x="208" y="130"/>
                  </a:lnTo>
                  <a:lnTo>
                    <a:pt x="209" y="138"/>
                  </a:lnTo>
                  <a:lnTo>
                    <a:pt x="209" y="147"/>
                  </a:lnTo>
                  <a:lnTo>
                    <a:pt x="209" y="156"/>
                  </a:lnTo>
                  <a:lnTo>
                    <a:pt x="208" y="165"/>
                  </a:lnTo>
                  <a:lnTo>
                    <a:pt x="207" y="172"/>
                  </a:lnTo>
                  <a:lnTo>
                    <a:pt x="206" y="181"/>
                  </a:lnTo>
                  <a:lnTo>
                    <a:pt x="203" y="188"/>
                  </a:lnTo>
                  <a:lnTo>
                    <a:pt x="201" y="196"/>
                  </a:lnTo>
                  <a:lnTo>
                    <a:pt x="198" y="202"/>
                  </a:lnTo>
                  <a:lnTo>
                    <a:pt x="194" y="210"/>
                  </a:lnTo>
                  <a:lnTo>
                    <a:pt x="191" y="217"/>
                  </a:lnTo>
                  <a:lnTo>
                    <a:pt x="186" y="223"/>
                  </a:lnTo>
                  <a:lnTo>
                    <a:pt x="182" y="228"/>
                  </a:lnTo>
                  <a:lnTo>
                    <a:pt x="177" y="235"/>
                  </a:lnTo>
                  <a:lnTo>
                    <a:pt x="172" y="240"/>
                  </a:lnTo>
                  <a:lnTo>
                    <a:pt x="167" y="245"/>
                  </a:lnTo>
                  <a:lnTo>
                    <a:pt x="161" y="248"/>
                  </a:lnTo>
                  <a:lnTo>
                    <a:pt x="156" y="253"/>
                  </a:lnTo>
                  <a:lnTo>
                    <a:pt x="149" y="257"/>
                  </a:lnTo>
                  <a:lnTo>
                    <a:pt x="142" y="260"/>
                  </a:lnTo>
                  <a:lnTo>
                    <a:pt x="135" y="263"/>
                  </a:lnTo>
                  <a:lnTo>
                    <a:pt x="128" y="265"/>
                  </a:lnTo>
                  <a:lnTo>
                    <a:pt x="122" y="267"/>
                  </a:lnTo>
                  <a:lnTo>
                    <a:pt x="115" y="267"/>
                  </a:lnTo>
                  <a:lnTo>
                    <a:pt x="108" y="268"/>
                  </a:lnTo>
                  <a:lnTo>
                    <a:pt x="102" y="267"/>
                  </a:lnTo>
                  <a:lnTo>
                    <a:pt x="95" y="267"/>
                  </a:lnTo>
                  <a:lnTo>
                    <a:pt x="88" y="265"/>
                  </a:lnTo>
                  <a:lnTo>
                    <a:pt x="82" y="263"/>
                  </a:lnTo>
                  <a:lnTo>
                    <a:pt x="75" y="261"/>
                  </a:lnTo>
                  <a:lnTo>
                    <a:pt x="69" y="257"/>
                  </a:lnTo>
                  <a:lnTo>
                    <a:pt x="63" y="253"/>
                  </a:lnTo>
                  <a:lnTo>
                    <a:pt x="57" y="250"/>
                  </a:lnTo>
                  <a:lnTo>
                    <a:pt x="52" y="245"/>
                  </a:lnTo>
                  <a:lnTo>
                    <a:pt x="46" y="240"/>
                  </a:lnTo>
                  <a:lnTo>
                    <a:pt x="41" y="233"/>
                  </a:lnTo>
                  <a:lnTo>
                    <a:pt x="37" y="228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4" y="208"/>
                  </a:lnTo>
                  <a:lnTo>
                    <a:pt x="21" y="202"/>
                  </a:lnTo>
                  <a:lnTo>
                    <a:pt x="17" y="195"/>
                  </a:lnTo>
                  <a:close/>
                  <a:moveTo>
                    <a:pt x="43" y="178"/>
                  </a:moveTo>
                  <a:lnTo>
                    <a:pt x="47" y="188"/>
                  </a:lnTo>
                  <a:lnTo>
                    <a:pt x="52" y="197"/>
                  </a:lnTo>
                  <a:lnTo>
                    <a:pt x="57" y="206"/>
                  </a:lnTo>
                  <a:lnTo>
                    <a:pt x="63" y="212"/>
                  </a:lnTo>
                  <a:lnTo>
                    <a:pt x="68" y="218"/>
                  </a:lnTo>
                  <a:lnTo>
                    <a:pt x="75" y="225"/>
                  </a:lnTo>
                  <a:lnTo>
                    <a:pt x="82" y="228"/>
                  </a:lnTo>
                  <a:lnTo>
                    <a:pt x="89" y="232"/>
                  </a:lnTo>
                  <a:lnTo>
                    <a:pt x="96" y="235"/>
                  </a:lnTo>
                  <a:lnTo>
                    <a:pt x="103" y="237"/>
                  </a:lnTo>
                  <a:lnTo>
                    <a:pt x="110" y="237"/>
                  </a:lnTo>
                  <a:lnTo>
                    <a:pt x="116" y="237"/>
                  </a:lnTo>
                  <a:lnTo>
                    <a:pt x="123" y="236"/>
                  </a:lnTo>
                  <a:lnTo>
                    <a:pt x="130" y="233"/>
                  </a:lnTo>
                  <a:lnTo>
                    <a:pt x="137" y="231"/>
                  </a:lnTo>
                  <a:lnTo>
                    <a:pt x="144" y="227"/>
                  </a:lnTo>
                  <a:lnTo>
                    <a:pt x="151" y="222"/>
                  </a:lnTo>
                  <a:lnTo>
                    <a:pt x="157" y="217"/>
                  </a:lnTo>
                  <a:lnTo>
                    <a:pt x="163" y="211"/>
                  </a:lnTo>
                  <a:lnTo>
                    <a:pt x="167" y="205"/>
                  </a:lnTo>
                  <a:lnTo>
                    <a:pt x="171" y="197"/>
                  </a:lnTo>
                  <a:lnTo>
                    <a:pt x="175" y="190"/>
                  </a:lnTo>
                  <a:lnTo>
                    <a:pt x="178" y="182"/>
                  </a:lnTo>
                  <a:lnTo>
                    <a:pt x="180" y="173"/>
                  </a:lnTo>
                  <a:lnTo>
                    <a:pt x="181" y="165"/>
                  </a:lnTo>
                  <a:lnTo>
                    <a:pt x="182" y="155"/>
                  </a:lnTo>
                  <a:lnTo>
                    <a:pt x="182" y="146"/>
                  </a:lnTo>
                  <a:lnTo>
                    <a:pt x="181" y="136"/>
                  </a:lnTo>
                  <a:lnTo>
                    <a:pt x="179" y="126"/>
                  </a:lnTo>
                  <a:lnTo>
                    <a:pt x="177" y="115"/>
                  </a:lnTo>
                  <a:lnTo>
                    <a:pt x="173" y="105"/>
                  </a:lnTo>
                  <a:lnTo>
                    <a:pt x="169" y="94"/>
                  </a:lnTo>
                  <a:lnTo>
                    <a:pt x="166" y="86"/>
                  </a:lnTo>
                  <a:lnTo>
                    <a:pt x="163" y="80"/>
                  </a:lnTo>
                  <a:lnTo>
                    <a:pt x="160" y="74"/>
                  </a:lnTo>
                  <a:lnTo>
                    <a:pt x="156" y="69"/>
                  </a:lnTo>
                  <a:lnTo>
                    <a:pt x="153" y="64"/>
                  </a:lnTo>
                  <a:lnTo>
                    <a:pt x="149" y="59"/>
                  </a:lnTo>
                  <a:lnTo>
                    <a:pt x="144" y="54"/>
                  </a:lnTo>
                  <a:lnTo>
                    <a:pt x="140" y="50"/>
                  </a:lnTo>
                  <a:lnTo>
                    <a:pt x="136" y="46"/>
                  </a:lnTo>
                  <a:lnTo>
                    <a:pt x="132" y="42"/>
                  </a:lnTo>
                  <a:lnTo>
                    <a:pt x="128" y="40"/>
                  </a:lnTo>
                  <a:lnTo>
                    <a:pt x="123" y="37"/>
                  </a:lnTo>
                  <a:lnTo>
                    <a:pt x="119" y="35"/>
                  </a:lnTo>
                  <a:lnTo>
                    <a:pt x="114" y="34"/>
                  </a:lnTo>
                  <a:lnTo>
                    <a:pt x="109" y="32"/>
                  </a:lnTo>
                  <a:lnTo>
                    <a:pt x="104" y="31"/>
                  </a:lnTo>
                  <a:lnTo>
                    <a:pt x="100" y="31"/>
                  </a:lnTo>
                  <a:lnTo>
                    <a:pt x="95" y="31"/>
                  </a:lnTo>
                  <a:lnTo>
                    <a:pt x="90" y="31"/>
                  </a:lnTo>
                  <a:lnTo>
                    <a:pt x="85" y="32"/>
                  </a:lnTo>
                  <a:lnTo>
                    <a:pt x="81" y="34"/>
                  </a:lnTo>
                  <a:lnTo>
                    <a:pt x="75" y="36"/>
                  </a:lnTo>
                  <a:lnTo>
                    <a:pt x="70" y="39"/>
                  </a:lnTo>
                  <a:lnTo>
                    <a:pt x="66" y="41"/>
                  </a:lnTo>
                  <a:lnTo>
                    <a:pt x="60" y="45"/>
                  </a:lnTo>
                  <a:lnTo>
                    <a:pt x="54" y="50"/>
                  </a:lnTo>
                  <a:lnTo>
                    <a:pt x="49" y="56"/>
                  </a:lnTo>
                  <a:lnTo>
                    <a:pt x="44" y="62"/>
                  </a:lnTo>
                  <a:lnTo>
                    <a:pt x="40" y="69"/>
                  </a:lnTo>
                  <a:lnTo>
                    <a:pt x="36" y="76"/>
                  </a:lnTo>
                  <a:lnTo>
                    <a:pt x="33" y="84"/>
                  </a:lnTo>
                  <a:lnTo>
                    <a:pt x="30" y="92"/>
                  </a:lnTo>
                  <a:lnTo>
                    <a:pt x="29" y="101"/>
                  </a:lnTo>
                  <a:lnTo>
                    <a:pt x="28" y="110"/>
                  </a:lnTo>
                  <a:lnTo>
                    <a:pt x="28" y="120"/>
                  </a:lnTo>
                  <a:lnTo>
                    <a:pt x="29" y="131"/>
                  </a:lnTo>
                  <a:lnTo>
                    <a:pt x="31" y="142"/>
                  </a:lnTo>
                  <a:lnTo>
                    <a:pt x="34" y="153"/>
                  </a:lnTo>
                  <a:lnTo>
                    <a:pt x="38" y="166"/>
                  </a:lnTo>
                  <a:lnTo>
                    <a:pt x="43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03320" y="2043720"/>
              <a:ext cx="180720" cy="32400"/>
            </a:xfrm>
            <a:custGeom>
              <a:avLst/>
              <a:gdLst/>
              <a:ahLst/>
              <a:rect l="l" t="t" r="r" b="b"/>
              <a:pathLst>
                <a:path w="695" h="166">
                  <a:moveTo>
                    <a:pt x="3" y="34"/>
                  </a:moveTo>
                  <a:lnTo>
                    <a:pt x="0" y="69"/>
                  </a:lnTo>
                  <a:lnTo>
                    <a:pt x="689" y="166"/>
                  </a:lnTo>
                  <a:lnTo>
                    <a:pt x="695" y="98"/>
                  </a:lnTo>
                  <a:lnTo>
                    <a:pt x="7" y="0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1200" y="2010960"/>
              <a:ext cx="86400" cy="79560"/>
            </a:xfrm>
            <a:custGeom>
              <a:avLst/>
              <a:gdLst/>
              <a:ahLst/>
              <a:rect l="l" t="t" r="r" b="b"/>
              <a:pathLst>
                <a:path w="332" h="408">
                  <a:moveTo>
                    <a:pt x="147" y="407"/>
                  </a:moveTo>
                  <a:lnTo>
                    <a:pt x="147" y="407"/>
                  </a:lnTo>
                  <a:lnTo>
                    <a:pt x="143" y="405"/>
                  </a:lnTo>
                  <a:lnTo>
                    <a:pt x="139" y="404"/>
                  </a:lnTo>
                  <a:lnTo>
                    <a:pt x="135" y="404"/>
                  </a:lnTo>
                  <a:lnTo>
                    <a:pt x="131" y="403"/>
                  </a:lnTo>
                  <a:lnTo>
                    <a:pt x="127" y="402"/>
                  </a:lnTo>
                  <a:lnTo>
                    <a:pt x="123" y="400"/>
                  </a:lnTo>
                  <a:lnTo>
                    <a:pt x="119" y="399"/>
                  </a:lnTo>
                  <a:lnTo>
                    <a:pt x="115" y="398"/>
                  </a:lnTo>
                  <a:lnTo>
                    <a:pt x="111" y="395"/>
                  </a:lnTo>
                  <a:lnTo>
                    <a:pt x="107" y="394"/>
                  </a:lnTo>
                  <a:lnTo>
                    <a:pt x="103" y="392"/>
                  </a:lnTo>
                  <a:lnTo>
                    <a:pt x="100" y="390"/>
                  </a:lnTo>
                  <a:lnTo>
                    <a:pt x="95" y="388"/>
                  </a:lnTo>
                  <a:lnTo>
                    <a:pt x="92" y="385"/>
                  </a:lnTo>
                  <a:lnTo>
                    <a:pt x="88" y="383"/>
                  </a:lnTo>
                  <a:lnTo>
                    <a:pt x="84" y="382"/>
                  </a:lnTo>
                  <a:lnTo>
                    <a:pt x="81" y="379"/>
                  </a:lnTo>
                  <a:lnTo>
                    <a:pt x="78" y="375"/>
                  </a:lnTo>
                  <a:lnTo>
                    <a:pt x="74" y="373"/>
                  </a:lnTo>
                  <a:lnTo>
                    <a:pt x="71" y="370"/>
                  </a:lnTo>
                  <a:lnTo>
                    <a:pt x="68" y="368"/>
                  </a:lnTo>
                  <a:lnTo>
                    <a:pt x="65" y="364"/>
                  </a:lnTo>
                  <a:lnTo>
                    <a:pt x="62" y="362"/>
                  </a:lnTo>
                  <a:lnTo>
                    <a:pt x="59" y="358"/>
                  </a:lnTo>
                  <a:lnTo>
                    <a:pt x="56" y="355"/>
                  </a:lnTo>
                  <a:lnTo>
                    <a:pt x="53" y="352"/>
                  </a:lnTo>
                  <a:lnTo>
                    <a:pt x="50" y="348"/>
                  </a:lnTo>
                  <a:lnTo>
                    <a:pt x="47" y="345"/>
                  </a:lnTo>
                  <a:lnTo>
                    <a:pt x="44" y="342"/>
                  </a:lnTo>
                  <a:lnTo>
                    <a:pt x="42" y="338"/>
                  </a:lnTo>
                  <a:lnTo>
                    <a:pt x="39" y="334"/>
                  </a:lnTo>
                  <a:lnTo>
                    <a:pt x="37" y="330"/>
                  </a:lnTo>
                  <a:lnTo>
                    <a:pt x="34" y="327"/>
                  </a:lnTo>
                  <a:lnTo>
                    <a:pt x="32" y="322"/>
                  </a:lnTo>
                  <a:lnTo>
                    <a:pt x="30" y="318"/>
                  </a:lnTo>
                  <a:lnTo>
                    <a:pt x="28" y="314"/>
                  </a:lnTo>
                  <a:lnTo>
                    <a:pt x="26" y="310"/>
                  </a:lnTo>
                  <a:lnTo>
                    <a:pt x="24" y="305"/>
                  </a:lnTo>
                  <a:lnTo>
                    <a:pt x="21" y="302"/>
                  </a:lnTo>
                  <a:lnTo>
                    <a:pt x="19" y="297"/>
                  </a:lnTo>
                  <a:lnTo>
                    <a:pt x="17" y="293"/>
                  </a:lnTo>
                  <a:lnTo>
                    <a:pt x="15" y="288"/>
                  </a:lnTo>
                  <a:lnTo>
                    <a:pt x="14" y="284"/>
                  </a:lnTo>
                  <a:lnTo>
                    <a:pt x="12" y="279"/>
                  </a:lnTo>
                  <a:lnTo>
                    <a:pt x="11" y="274"/>
                  </a:lnTo>
                  <a:lnTo>
                    <a:pt x="9" y="271"/>
                  </a:lnTo>
                  <a:lnTo>
                    <a:pt x="8" y="266"/>
                  </a:lnTo>
                  <a:lnTo>
                    <a:pt x="7" y="261"/>
                  </a:lnTo>
                  <a:lnTo>
                    <a:pt x="6" y="256"/>
                  </a:lnTo>
                  <a:lnTo>
                    <a:pt x="5" y="251"/>
                  </a:lnTo>
                  <a:lnTo>
                    <a:pt x="4" y="246"/>
                  </a:lnTo>
                  <a:lnTo>
                    <a:pt x="3" y="242"/>
                  </a:lnTo>
                  <a:lnTo>
                    <a:pt x="2" y="237"/>
                  </a:lnTo>
                  <a:lnTo>
                    <a:pt x="2" y="232"/>
                  </a:lnTo>
                  <a:lnTo>
                    <a:pt x="1" y="227"/>
                  </a:lnTo>
                  <a:lnTo>
                    <a:pt x="1" y="221"/>
                  </a:lnTo>
                  <a:lnTo>
                    <a:pt x="1" y="216"/>
                  </a:lnTo>
                  <a:lnTo>
                    <a:pt x="0" y="211"/>
                  </a:lnTo>
                  <a:lnTo>
                    <a:pt x="0" y="206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1" y="191"/>
                  </a:lnTo>
                  <a:lnTo>
                    <a:pt x="1" y="186"/>
                  </a:lnTo>
                  <a:lnTo>
                    <a:pt x="1" y="179"/>
                  </a:lnTo>
                  <a:lnTo>
                    <a:pt x="1" y="179"/>
                  </a:lnTo>
                  <a:lnTo>
                    <a:pt x="2" y="174"/>
                  </a:lnTo>
                  <a:lnTo>
                    <a:pt x="3" y="169"/>
                  </a:lnTo>
                  <a:lnTo>
                    <a:pt x="3" y="164"/>
                  </a:lnTo>
                  <a:lnTo>
                    <a:pt x="4" y="159"/>
                  </a:lnTo>
                  <a:lnTo>
                    <a:pt x="5" y="154"/>
                  </a:lnTo>
                  <a:lnTo>
                    <a:pt x="6" y="149"/>
                  </a:lnTo>
                  <a:lnTo>
                    <a:pt x="7" y="144"/>
                  </a:lnTo>
                  <a:lnTo>
                    <a:pt x="9" y="139"/>
                  </a:lnTo>
                  <a:lnTo>
                    <a:pt x="10" y="134"/>
                  </a:lnTo>
                  <a:lnTo>
                    <a:pt x="11" y="129"/>
                  </a:lnTo>
                  <a:lnTo>
                    <a:pt x="13" y="126"/>
                  </a:lnTo>
                  <a:lnTo>
                    <a:pt x="14" y="121"/>
                  </a:lnTo>
                  <a:lnTo>
                    <a:pt x="16" y="116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2" y="103"/>
                  </a:lnTo>
                  <a:lnTo>
                    <a:pt x="25" y="98"/>
                  </a:lnTo>
                  <a:lnTo>
                    <a:pt x="27" y="95"/>
                  </a:lnTo>
                  <a:lnTo>
                    <a:pt x="29" y="90"/>
                  </a:lnTo>
                  <a:lnTo>
                    <a:pt x="31" y="86"/>
                  </a:lnTo>
                  <a:lnTo>
                    <a:pt x="33" y="82"/>
                  </a:lnTo>
                  <a:lnTo>
                    <a:pt x="36" y="78"/>
                  </a:lnTo>
                  <a:lnTo>
                    <a:pt x="38" y="75"/>
                  </a:lnTo>
                  <a:lnTo>
                    <a:pt x="41" y="71"/>
                  </a:lnTo>
                  <a:lnTo>
                    <a:pt x="43" y="67"/>
                  </a:lnTo>
                  <a:lnTo>
                    <a:pt x="46" y="63"/>
                  </a:lnTo>
                  <a:lnTo>
                    <a:pt x="49" y="60"/>
                  </a:lnTo>
                  <a:lnTo>
                    <a:pt x="52" y="56"/>
                  </a:lnTo>
                  <a:lnTo>
                    <a:pt x="54" y="53"/>
                  </a:lnTo>
                  <a:lnTo>
                    <a:pt x="57" y="50"/>
                  </a:lnTo>
                  <a:lnTo>
                    <a:pt x="60" y="46"/>
                  </a:lnTo>
                  <a:lnTo>
                    <a:pt x="63" y="43"/>
                  </a:lnTo>
                  <a:lnTo>
                    <a:pt x="66" y="41"/>
                  </a:lnTo>
                  <a:lnTo>
                    <a:pt x="70" y="37"/>
                  </a:lnTo>
                  <a:lnTo>
                    <a:pt x="73" y="35"/>
                  </a:lnTo>
                  <a:lnTo>
                    <a:pt x="76" y="32"/>
                  </a:lnTo>
                  <a:lnTo>
                    <a:pt x="79" y="30"/>
                  </a:lnTo>
                  <a:lnTo>
                    <a:pt x="83" y="27"/>
                  </a:lnTo>
                  <a:lnTo>
                    <a:pt x="86" y="25"/>
                  </a:lnTo>
                  <a:lnTo>
                    <a:pt x="90" y="22"/>
                  </a:lnTo>
                  <a:lnTo>
                    <a:pt x="93" y="20"/>
                  </a:lnTo>
                  <a:lnTo>
                    <a:pt x="98" y="17"/>
                  </a:lnTo>
                  <a:lnTo>
                    <a:pt x="101" y="16"/>
                  </a:lnTo>
                  <a:lnTo>
                    <a:pt x="105" y="13"/>
                  </a:lnTo>
                  <a:lnTo>
                    <a:pt x="109" y="12"/>
                  </a:lnTo>
                  <a:lnTo>
                    <a:pt x="112" y="11"/>
                  </a:lnTo>
                  <a:lnTo>
                    <a:pt x="116" y="8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5"/>
                  </a:lnTo>
                  <a:lnTo>
                    <a:pt x="132" y="3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4" y="1"/>
                  </a:lnTo>
                  <a:lnTo>
                    <a:pt x="148" y="1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1" y="0"/>
                  </a:lnTo>
                  <a:lnTo>
                    <a:pt x="186" y="1"/>
                  </a:lnTo>
                  <a:lnTo>
                    <a:pt x="186" y="1"/>
                  </a:lnTo>
                  <a:lnTo>
                    <a:pt x="190" y="1"/>
                  </a:lnTo>
                  <a:lnTo>
                    <a:pt x="194" y="2"/>
                  </a:lnTo>
                  <a:lnTo>
                    <a:pt x="198" y="3"/>
                  </a:lnTo>
                  <a:lnTo>
                    <a:pt x="202" y="3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4" y="8"/>
                  </a:lnTo>
                  <a:lnTo>
                    <a:pt x="218" y="10"/>
                  </a:lnTo>
                  <a:lnTo>
                    <a:pt x="222" y="11"/>
                  </a:lnTo>
                  <a:lnTo>
                    <a:pt x="226" y="12"/>
                  </a:lnTo>
                  <a:lnTo>
                    <a:pt x="229" y="15"/>
                  </a:lnTo>
                  <a:lnTo>
                    <a:pt x="233" y="17"/>
                  </a:lnTo>
                  <a:lnTo>
                    <a:pt x="237" y="18"/>
                  </a:lnTo>
                  <a:lnTo>
                    <a:pt x="240" y="21"/>
                  </a:lnTo>
                  <a:lnTo>
                    <a:pt x="245" y="23"/>
                  </a:lnTo>
                  <a:lnTo>
                    <a:pt x="248" y="26"/>
                  </a:lnTo>
                  <a:lnTo>
                    <a:pt x="252" y="28"/>
                  </a:lnTo>
                  <a:lnTo>
                    <a:pt x="255" y="31"/>
                  </a:lnTo>
                  <a:lnTo>
                    <a:pt x="258" y="33"/>
                  </a:lnTo>
                  <a:lnTo>
                    <a:pt x="262" y="36"/>
                  </a:lnTo>
                  <a:lnTo>
                    <a:pt x="265" y="40"/>
                  </a:lnTo>
                  <a:lnTo>
                    <a:pt x="268" y="42"/>
                  </a:lnTo>
                  <a:lnTo>
                    <a:pt x="271" y="45"/>
                  </a:lnTo>
                  <a:lnTo>
                    <a:pt x="274" y="48"/>
                  </a:lnTo>
                  <a:lnTo>
                    <a:pt x="277" y="51"/>
                  </a:lnTo>
                  <a:lnTo>
                    <a:pt x="280" y="55"/>
                  </a:lnTo>
                  <a:lnTo>
                    <a:pt x="283" y="58"/>
                  </a:lnTo>
                  <a:lnTo>
                    <a:pt x="286" y="62"/>
                  </a:lnTo>
                  <a:lnTo>
                    <a:pt x="288" y="66"/>
                  </a:lnTo>
                  <a:lnTo>
                    <a:pt x="291" y="68"/>
                  </a:lnTo>
                  <a:lnTo>
                    <a:pt x="293" y="72"/>
                  </a:lnTo>
                  <a:lnTo>
                    <a:pt x="296" y="77"/>
                  </a:lnTo>
                  <a:lnTo>
                    <a:pt x="298" y="81"/>
                  </a:lnTo>
                  <a:lnTo>
                    <a:pt x="301" y="85"/>
                  </a:lnTo>
                  <a:lnTo>
                    <a:pt x="303" y="88"/>
                  </a:lnTo>
                  <a:lnTo>
                    <a:pt x="305" y="92"/>
                  </a:lnTo>
                  <a:lnTo>
                    <a:pt x="307" y="97"/>
                  </a:lnTo>
                  <a:lnTo>
                    <a:pt x="309" y="101"/>
                  </a:lnTo>
                  <a:lnTo>
                    <a:pt x="311" y="105"/>
                  </a:lnTo>
                  <a:lnTo>
                    <a:pt x="314" y="110"/>
                  </a:lnTo>
                  <a:lnTo>
                    <a:pt x="316" y="113"/>
                  </a:lnTo>
                  <a:lnTo>
                    <a:pt x="318" y="118"/>
                  </a:lnTo>
                  <a:lnTo>
                    <a:pt x="319" y="123"/>
                  </a:lnTo>
                  <a:lnTo>
                    <a:pt x="321" y="127"/>
                  </a:lnTo>
                  <a:lnTo>
                    <a:pt x="322" y="132"/>
                  </a:lnTo>
                  <a:lnTo>
                    <a:pt x="323" y="137"/>
                  </a:lnTo>
                  <a:lnTo>
                    <a:pt x="325" y="141"/>
                  </a:lnTo>
                  <a:lnTo>
                    <a:pt x="326" y="146"/>
                  </a:lnTo>
                  <a:lnTo>
                    <a:pt x="327" y="151"/>
                  </a:lnTo>
                  <a:lnTo>
                    <a:pt x="328" y="156"/>
                  </a:lnTo>
                  <a:lnTo>
                    <a:pt x="329" y="161"/>
                  </a:lnTo>
                  <a:lnTo>
                    <a:pt x="330" y="166"/>
                  </a:lnTo>
                  <a:lnTo>
                    <a:pt x="330" y="171"/>
                  </a:lnTo>
                  <a:lnTo>
                    <a:pt x="331" y="176"/>
                  </a:lnTo>
                  <a:lnTo>
                    <a:pt x="331" y="181"/>
                  </a:lnTo>
                  <a:lnTo>
                    <a:pt x="332" y="186"/>
                  </a:lnTo>
                  <a:lnTo>
                    <a:pt x="332" y="191"/>
                  </a:lnTo>
                  <a:lnTo>
                    <a:pt x="332" y="196"/>
                  </a:lnTo>
                  <a:lnTo>
                    <a:pt x="332" y="201"/>
                  </a:lnTo>
                  <a:lnTo>
                    <a:pt x="332" y="206"/>
                  </a:lnTo>
                  <a:lnTo>
                    <a:pt x="332" y="211"/>
                  </a:lnTo>
                  <a:lnTo>
                    <a:pt x="332" y="217"/>
                  </a:lnTo>
                  <a:lnTo>
                    <a:pt x="332" y="222"/>
                  </a:lnTo>
                  <a:lnTo>
                    <a:pt x="331" y="227"/>
                  </a:lnTo>
                  <a:lnTo>
                    <a:pt x="331" y="227"/>
                  </a:lnTo>
                  <a:lnTo>
                    <a:pt x="331" y="232"/>
                  </a:lnTo>
                  <a:lnTo>
                    <a:pt x="330" y="237"/>
                  </a:lnTo>
                  <a:lnTo>
                    <a:pt x="329" y="242"/>
                  </a:lnTo>
                  <a:lnTo>
                    <a:pt x="329" y="247"/>
                  </a:lnTo>
                  <a:lnTo>
                    <a:pt x="328" y="252"/>
                  </a:lnTo>
                  <a:lnTo>
                    <a:pt x="327" y="257"/>
                  </a:lnTo>
                  <a:lnTo>
                    <a:pt x="326" y="262"/>
                  </a:lnTo>
                  <a:lnTo>
                    <a:pt x="324" y="267"/>
                  </a:lnTo>
                  <a:lnTo>
                    <a:pt x="323" y="272"/>
                  </a:lnTo>
                  <a:lnTo>
                    <a:pt x="322" y="277"/>
                  </a:lnTo>
                  <a:lnTo>
                    <a:pt x="320" y="282"/>
                  </a:lnTo>
                  <a:lnTo>
                    <a:pt x="318" y="285"/>
                  </a:lnTo>
                  <a:lnTo>
                    <a:pt x="317" y="290"/>
                  </a:lnTo>
                  <a:lnTo>
                    <a:pt x="315" y="295"/>
                  </a:lnTo>
                  <a:lnTo>
                    <a:pt x="312" y="299"/>
                  </a:lnTo>
                  <a:lnTo>
                    <a:pt x="310" y="304"/>
                  </a:lnTo>
                  <a:lnTo>
                    <a:pt x="308" y="308"/>
                  </a:lnTo>
                  <a:lnTo>
                    <a:pt x="306" y="312"/>
                  </a:lnTo>
                  <a:lnTo>
                    <a:pt x="304" y="317"/>
                  </a:lnTo>
                  <a:lnTo>
                    <a:pt x="302" y="320"/>
                  </a:lnTo>
                  <a:lnTo>
                    <a:pt x="299" y="324"/>
                  </a:lnTo>
                  <a:lnTo>
                    <a:pt x="297" y="328"/>
                  </a:lnTo>
                  <a:lnTo>
                    <a:pt x="295" y="332"/>
                  </a:lnTo>
                  <a:lnTo>
                    <a:pt x="292" y="337"/>
                  </a:lnTo>
                  <a:lnTo>
                    <a:pt x="289" y="339"/>
                  </a:lnTo>
                  <a:lnTo>
                    <a:pt x="287" y="343"/>
                  </a:lnTo>
                  <a:lnTo>
                    <a:pt x="284" y="347"/>
                  </a:lnTo>
                  <a:lnTo>
                    <a:pt x="281" y="350"/>
                  </a:lnTo>
                  <a:lnTo>
                    <a:pt x="278" y="354"/>
                  </a:lnTo>
                  <a:lnTo>
                    <a:pt x="275" y="357"/>
                  </a:lnTo>
                  <a:lnTo>
                    <a:pt x="272" y="360"/>
                  </a:lnTo>
                  <a:lnTo>
                    <a:pt x="269" y="363"/>
                  </a:lnTo>
                  <a:lnTo>
                    <a:pt x="266" y="367"/>
                  </a:lnTo>
                  <a:lnTo>
                    <a:pt x="263" y="369"/>
                  </a:lnTo>
                  <a:lnTo>
                    <a:pt x="260" y="372"/>
                  </a:lnTo>
                  <a:lnTo>
                    <a:pt x="257" y="374"/>
                  </a:lnTo>
                  <a:lnTo>
                    <a:pt x="253" y="378"/>
                  </a:lnTo>
                  <a:lnTo>
                    <a:pt x="250" y="380"/>
                  </a:lnTo>
                  <a:lnTo>
                    <a:pt x="247" y="382"/>
                  </a:lnTo>
                  <a:lnTo>
                    <a:pt x="243" y="384"/>
                  </a:lnTo>
                  <a:lnTo>
                    <a:pt x="239" y="387"/>
                  </a:lnTo>
                  <a:lnTo>
                    <a:pt x="235" y="389"/>
                  </a:lnTo>
                  <a:lnTo>
                    <a:pt x="231" y="390"/>
                  </a:lnTo>
                  <a:lnTo>
                    <a:pt x="228" y="393"/>
                  </a:lnTo>
                  <a:lnTo>
                    <a:pt x="224" y="394"/>
                  </a:lnTo>
                  <a:lnTo>
                    <a:pt x="220" y="397"/>
                  </a:lnTo>
                  <a:lnTo>
                    <a:pt x="217" y="398"/>
                  </a:lnTo>
                  <a:lnTo>
                    <a:pt x="213" y="399"/>
                  </a:lnTo>
                  <a:lnTo>
                    <a:pt x="209" y="400"/>
                  </a:lnTo>
                  <a:lnTo>
                    <a:pt x="205" y="402"/>
                  </a:lnTo>
                  <a:lnTo>
                    <a:pt x="201" y="403"/>
                  </a:lnTo>
                  <a:lnTo>
                    <a:pt x="197" y="404"/>
                  </a:lnTo>
                  <a:lnTo>
                    <a:pt x="193" y="405"/>
                  </a:lnTo>
                  <a:lnTo>
                    <a:pt x="189" y="405"/>
                  </a:lnTo>
                  <a:lnTo>
                    <a:pt x="185" y="407"/>
                  </a:lnTo>
                  <a:lnTo>
                    <a:pt x="181" y="407"/>
                  </a:lnTo>
                  <a:lnTo>
                    <a:pt x="177" y="407"/>
                  </a:lnTo>
                  <a:lnTo>
                    <a:pt x="173" y="408"/>
                  </a:lnTo>
                  <a:lnTo>
                    <a:pt x="169" y="408"/>
                  </a:lnTo>
                  <a:lnTo>
                    <a:pt x="164" y="408"/>
                  </a:lnTo>
                  <a:lnTo>
                    <a:pt x="160" y="408"/>
                  </a:lnTo>
                  <a:lnTo>
                    <a:pt x="155" y="407"/>
                  </a:lnTo>
                  <a:lnTo>
                    <a:pt x="151" y="407"/>
                  </a:lnTo>
                  <a:lnTo>
                    <a:pt x="147" y="407"/>
                  </a:lnTo>
                  <a:lnTo>
                    <a:pt x="166" y="203"/>
                  </a:lnTo>
                  <a:lnTo>
                    <a:pt x="147" y="4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30040" y="2637360"/>
              <a:ext cx="71640" cy="84960"/>
            </a:xfrm>
            <a:custGeom>
              <a:avLst/>
              <a:gdLst/>
              <a:ahLst/>
              <a:rect l="l" t="t" r="r" b="b"/>
              <a:pathLst>
                <a:path w="274" h="438">
                  <a:moveTo>
                    <a:pt x="0" y="295"/>
                  </a:moveTo>
                  <a:lnTo>
                    <a:pt x="43" y="290"/>
                  </a:lnTo>
                  <a:lnTo>
                    <a:pt x="44" y="299"/>
                  </a:lnTo>
                  <a:lnTo>
                    <a:pt x="45" y="306"/>
                  </a:lnTo>
                  <a:lnTo>
                    <a:pt x="46" y="312"/>
                  </a:lnTo>
                  <a:lnTo>
                    <a:pt x="48" y="320"/>
                  </a:lnTo>
                  <a:lnTo>
                    <a:pt x="50" y="326"/>
                  </a:lnTo>
                  <a:lnTo>
                    <a:pt x="52" y="332"/>
                  </a:lnTo>
                  <a:lnTo>
                    <a:pt x="54" y="337"/>
                  </a:lnTo>
                  <a:lnTo>
                    <a:pt x="57" y="342"/>
                  </a:lnTo>
                  <a:lnTo>
                    <a:pt x="60" y="347"/>
                  </a:lnTo>
                  <a:lnTo>
                    <a:pt x="63" y="352"/>
                  </a:lnTo>
                  <a:lnTo>
                    <a:pt x="68" y="357"/>
                  </a:lnTo>
                  <a:lnTo>
                    <a:pt x="72" y="361"/>
                  </a:lnTo>
                  <a:lnTo>
                    <a:pt x="76" y="365"/>
                  </a:lnTo>
                  <a:lnTo>
                    <a:pt x="81" y="369"/>
                  </a:lnTo>
                  <a:lnTo>
                    <a:pt x="86" y="372"/>
                  </a:lnTo>
                  <a:lnTo>
                    <a:pt x="92" y="376"/>
                  </a:lnTo>
                  <a:lnTo>
                    <a:pt x="98" y="379"/>
                  </a:lnTo>
                  <a:lnTo>
                    <a:pt x="104" y="381"/>
                  </a:lnTo>
                  <a:lnTo>
                    <a:pt x="110" y="384"/>
                  </a:lnTo>
                  <a:lnTo>
                    <a:pt x="117" y="385"/>
                  </a:lnTo>
                  <a:lnTo>
                    <a:pt x="123" y="386"/>
                  </a:lnTo>
                  <a:lnTo>
                    <a:pt x="130" y="387"/>
                  </a:lnTo>
                  <a:lnTo>
                    <a:pt x="137" y="389"/>
                  </a:lnTo>
                  <a:lnTo>
                    <a:pt x="145" y="389"/>
                  </a:lnTo>
                  <a:lnTo>
                    <a:pt x="151" y="389"/>
                  </a:lnTo>
                  <a:lnTo>
                    <a:pt x="158" y="387"/>
                  </a:lnTo>
                  <a:lnTo>
                    <a:pt x="164" y="387"/>
                  </a:lnTo>
                  <a:lnTo>
                    <a:pt x="169" y="386"/>
                  </a:lnTo>
                  <a:lnTo>
                    <a:pt x="175" y="385"/>
                  </a:lnTo>
                  <a:lnTo>
                    <a:pt x="180" y="382"/>
                  </a:lnTo>
                  <a:lnTo>
                    <a:pt x="185" y="381"/>
                  </a:lnTo>
                  <a:lnTo>
                    <a:pt x="191" y="379"/>
                  </a:lnTo>
                  <a:lnTo>
                    <a:pt x="195" y="376"/>
                  </a:lnTo>
                  <a:lnTo>
                    <a:pt x="200" y="374"/>
                  </a:lnTo>
                  <a:lnTo>
                    <a:pt x="204" y="371"/>
                  </a:lnTo>
                  <a:lnTo>
                    <a:pt x="208" y="367"/>
                  </a:lnTo>
                  <a:lnTo>
                    <a:pt x="212" y="364"/>
                  </a:lnTo>
                  <a:lnTo>
                    <a:pt x="215" y="360"/>
                  </a:lnTo>
                  <a:lnTo>
                    <a:pt x="218" y="356"/>
                  </a:lnTo>
                  <a:lnTo>
                    <a:pt x="221" y="352"/>
                  </a:lnTo>
                  <a:lnTo>
                    <a:pt x="223" y="349"/>
                  </a:lnTo>
                  <a:lnTo>
                    <a:pt x="225" y="344"/>
                  </a:lnTo>
                  <a:lnTo>
                    <a:pt x="227" y="340"/>
                  </a:lnTo>
                  <a:lnTo>
                    <a:pt x="228" y="335"/>
                  </a:lnTo>
                  <a:lnTo>
                    <a:pt x="229" y="331"/>
                  </a:lnTo>
                  <a:lnTo>
                    <a:pt x="230" y="326"/>
                  </a:lnTo>
                  <a:lnTo>
                    <a:pt x="230" y="321"/>
                  </a:lnTo>
                  <a:lnTo>
                    <a:pt x="231" y="316"/>
                  </a:lnTo>
                  <a:lnTo>
                    <a:pt x="230" y="311"/>
                  </a:lnTo>
                  <a:lnTo>
                    <a:pt x="230" y="306"/>
                  </a:lnTo>
                  <a:lnTo>
                    <a:pt x="229" y="302"/>
                  </a:lnTo>
                  <a:lnTo>
                    <a:pt x="228" y="297"/>
                  </a:lnTo>
                  <a:lnTo>
                    <a:pt x="227" y="294"/>
                  </a:lnTo>
                  <a:lnTo>
                    <a:pt x="225" y="289"/>
                  </a:lnTo>
                  <a:lnTo>
                    <a:pt x="223" y="285"/>
                  </a:lnTo>
                  <a:lnTo>
                    <a:pt x="221" y="281"/>
                  </a:lnTo>
                  <a:lnTo>
                    <a:pt x="219" y="277"/>
                  </a:lnTo>
                  <a:lnTo>
                    <a:pt x="216" y="274"/>
                  </a:lnTo>
                  <a:lnTo>
                    <a:pt x="213" y="271"/>
                  </a:lnTo>
                  <a:lnTo>
                    <a:pt x="208" y="267"/>
                  </a:lnTo>
                  <a:lnTo>
                    <a:pt x="204" y="265"/>
                  </a:lnTo>
                  <a:lnTo>
                    <a:pt x="200" y="261"/>
                  </a:lnTo>
                  <a:lnTo>
                    <a:pt x="195" y="259"/>
                  </a:lnTo>
                  <a:lnTo>
                    <a:pt x="190" y="256"/>
                  </a:lnTo>
                  <a:lnTo>
                    <a:pt x="186" y="255"/>
                  </a:lnTo>
                  <a:lnTo>
                    <a:pt x="181" y="252"/>
                  </a:lnTo>
                  <a:lnTo>
                    <a:pt x="175" y="250"/>
                  </a:lnTo>
                  <a:lnTo>
                    <a:pt x="168" y="248"/>
                  </a:lnTo>
                  <a:lnTo>
                    <a:pt x="160" y="245"/>
                  </a:lnTo>
                  <a:lnTo>
                    <a:pt x="150" y="243"/>
                  </a:lnTo>
                  <a:lnTo>
                    <a:pt x="140" y="239"/>
                  </a:lnTo>
                  <a:lnTo>
                    <a:pt x="128" y="236"/>
                  </a:lnTo>
                  <a:lnTo>
                    <a:pt x="117" y="233"/>
                  </a:lnTo>
                  <a:lnTo>
                    <a:pt x="106" y="229"/>
                  </a:lnTo>
                  <a:lnTo>
                    <a:pt x="97" y="225"/>
                  </a:lnTo>
                  <a:lnTo>
                    <a:pt x="88" y="223"/>
                  </a:lnTo>
                  <a:lnTo>
                    <a:pt x="81" y="219"/>
                  </a:lnTo>
                  <a:lnTo>
                    <a:pt x="74" y="215"/>
                  </a:lnTo>
                  <a:lnTo>
                    <a:pt x="68" y="213"/>
                  </a:lnTo>
                  <a:lnTo>
                    <a:pt x="62" y="209"/>
                  </a:lnTo>
                  <a:lnTo>
                    <a:pt x="56" y="205"/>
                  </a:lnTo>
                  <a:lnTo>
                    <a:pt x="50" y="201"/>
                  </a:lnTo>
                  <a:lnTo>
                    <a:pt x="45" y="196"/>
                  </a:lnTo>
                  <a:lnTo>
                    <a:pt x="40" y="191"/>
                  </a:lnTo>
                  <a:lnTo>
                    <a:pt x="36" y="186"/>
                  </a:lnTo>
                  <a:lnTo>
                    <a:pt x="32" y="181"/>
                  </a:lnTo>
                  <a:lnTo>
                    <a:pt x="28" y="175"/>
                  </a:lnTo>
                  <a:lnTo>
                    <a:pt x="25" y="170"/>
                  </a:lnTo>
                  <a:lnTo>
                    <a:pt x="22" y="164"/>
                  </a:lnTo>
                  <a:lnTo>
                    <a:pt x="20" y="158"/>
                  </a:lnTo>
                  <a:lnTo>
                    <a:pt x="18" y="151"/>
                  </a:lnTo>
                  <a:lnTo>
                    <a:pt x="16" y="145"/>
                  </a:lnTo>
                  <a:lnTo>
                    <a:pt x="15" y="138"/>
                  </a:lnTo>
                  <a:lnTo>
                    <a:pt x="14" y="131"/>
                  </a:lnTo>
                  <a:lnTo>
                    <a:pt x="14" y="124"/>
                  </a:lnTo>
                  <a:lnTo>
                    <a:pt x="13" y="116"/>
                  </a:lnTo>
                  <a:lnTo>
                    <a:pt x="14" y="109"/>
                  </a:lnTo>
                  <a:lnTo>
                    <a:pt x="14" y="102"/>
                  </a:lnTo>
                  <a:lnTo>
                    <a:pt x="15" y="94"/>
                  </a:lnTo>
                  <a:lnTo>
                    <a:pt x="17" y="87"/>
                  </a:lnTo>
                  <a:lnTo>
                    <a:pt x="19" y="79"/>
                  </a:lnTo>
                  <a:lnTo>
                    <a:pt x="22" y="72"/>
                  </a:lnTo>
                  <a:lnTo>
                    <a:pt x="25" y="64"/>
                  </a:lnTo>
                  <a:lnTo>
                    <a:pt x="28" y="57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41" y="38"/>
                  </a:lnTo>
                  <a:lnTo>
                    <a:pt x="46" y="33"/>
                  </a:lnTo>
                  <a:lnTo>
                    <a:pt x="51" y="28"/>
                  </a:lnTo>
                  <a:lnTo>
                    <a:pt x="57" y="23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79" y="12"/>
                  </a:lnTo>
                  <a:lnTo>
                    <a:pt x="86" y="8"/>
                  </a:lnTo>
                  <a:lnTo>
                    <a:pt x="94" y="5"/>
                  </a:lnTo>
                  <a:lnTo>
                    <a:pt x="101" y="4"/>
                  </a:lnTo>
                  <a:lnTo>
                    <a:pt x="109" y="2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0"/>
                  </a:lnTo>
                  <a:lnTo>
                    <a:pt x="153" y="2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9" y="7"/>
                  </a:lnTo>
                  <a:lnTo>
                    <a:pt x="187" y="9"/>
                  </a:lnTo>
                  <a:lnTo>
                    <a:pt x="194" y="12"/>
                  </a:lnTo>
                  <a:lnTo>
                    <a:pt x="202" y="15"/>
                  </a:lnTo>
                  <a:lnTo>
                    <a:pt x="209" y="19"/>
                  </a:lnTo>
                  <a:lnTo>
                    <a:pt x="216" y="24"/>
                  </a:lnTo>
                  <a:lnTo>
                    <a:pt x="222" y="29"/>
                  </a:lnTo>
                  <a:lnTo>
                    <a:pt x="228" y="34"/>
                  </a:lnTo>
                  <a:lnTo>
                    <a:pt x="233" y="40"/>
                  </a:lnTo>
                  <a:lnTo>
                    <a:pt x="238" y="47"/>
                  </a:lnTo>
                  <a:lnTo>
                    <a:pt x="243" y="53"/>
                  </a:lnTo>
                  <a:lnTo>
                    <a:pt x="247" y="60"/>
                  </a:lnTo>
                  <a:lnTo>
                    <a:pt x="251" y="68"/>
                  </a:lnTo>
                  <a:lnTo>
                    <a:pt x="254" y="75"/>
                  </a:lnTo>
                  <a:lnTo>
                    <a:pt x="257" y="83"/>
                  </a:lnTo>
                  <a:lnTo>
                    <a:pt x="259" y="92"/>
                  </a:lnTo>
                  <a:lnTo>
                    <a:pt x="261" y="100"/>
                  </a:lnTo>
                  <a:lnTo>
                    <a:pt x="262" y="109"/>
                  </a:lnTo>
                  <a:lnTo>
                    <a:pt x="263" y="118"/>
                  </a:lnTo>
                  <a:lnTo>
                    <a:pt x="264" y="126"/>
                  </a:lnTo>
                  <a:lnTo>
                    <a:pt x="221" y="131"/>
                  </a:lnTo>
                  <a:lnTo>
                    <a:pt x="219" y="121"/>
                  </a:lnTo>
                  <a:lnTo>
                    <a:pt x="218" y="111"/>
                  </a:lnTo>
                  <a:lnTo>
                    <a:pt x="216" y="104"/>
                  </a:lnTo>
                  <a:lnTo>
                    <a:pt x="213" y="95"/>
                  </a:lnTo>
                  <a:lnTo>
                    <a:pt x="209" y="88"/>
                  </a:lnTo>
                  <a:lnTo>
                    <a:pt x="205" y="82"/>
                  </a:lnTo>
                  <a:lnTo>
                    <a:pt x="201" y="75"/>
                  </a:lnTo>
                  <a:lnTo>
                    <a:pt x="196" y="70"/>
                  </a:lnTo>
                  <a:lnTo>
                    <a:pt x="191" y="65"/>
                  </a:lnTo>
                  <a:lnTo>
                    <a:pt x="185" y="62"/>
                  </a:lnTo>
                  <a:lnTo>
                    <a:pt x="178" y="58"/>
                  </a:lnTo>
                  <a:lnTo>
                    <a:pt x="171" y="55"/>
                  </a:lnTo>
                  <a:lnTo>
                    <a:pt x="163" y="53"/>
                  </a:lnTo>
                  <a:lnTo>
                    <a:pt x="155" y="50"/>
                  </a:lnTo>
                  <a:lnTo>
                    <a:pt x="146" y="50"/>
                  </a:lnTo>
                  <a:lnTo>
                    <a:pt x="136" y="49"/>
                  </a:lnTo>
                  <a:lnTo>
                    <a:pt x="126" y="50"/>
                  </a:lnTo>
                  <a:lnTo>
                    <a:pt x="117" y="50"/>
                  </a:lnTo>
                  <a:lnTo>
                    <a:pt x="108" y="53"/>
                  </a:lnTo>
                  <a:lnTo>
                    <a:pt x="101" y="54"/>
                  </a:lnTo>
                  <a:lnTo>
                    <a:pt x="93" y="57"/>
                  </a:lnTo>
                  <a:lnTo>
                    <a:pt x="87" y="60"/>
                  </a:lnTo>
                  <a:lnTo>
                    <a:pt x="81" y="64"/>
                  </a:lnTo>
                  <a:lnTo>
                    <a:pt x="76" y="68"/>
                  </a:lnTo>
                  <a:lnTo>
                    <a:pt x="72" y="73"/>
                  </a:lnTo>
                  <a:lnTo>
                    <a:pt x="68" y="78"/>
                  </a:lnTo>
                  <a:lnTo>
                    <a:pt x="64" y="83"/>
                  </a:lnTo>
                  <a:lnTo>
                    <a:pt x="61" y="89"/>
                  </a:lnTo>
                  <a:lnTo>
                    <a:pt x="59" y="94"/>
                  </a:lnTo>
                  <a:lnTo>
                    <a:pt x="58" y="100"/>
                  </a:lnTo>
                  <a:lnTo>
                    <a:pt x="57" y="106"/>
                  </a:lnTo>
                  <a:lnTo>
                    <a:pt x="57" y="113"/>
                  </a:lnTo>
                  <a:lnTo>
                    <a:pt x="57" y="119"/>
                  </a:lnTo>
                  <a:lnTo>
                    <a:pt x="57" y="124"/>
                  </a:lnTo>
                  <a:lnTo>
                    <a:pt x="59" y="129"/>
                  </a:lnTo>
                  <a:lnTo>
                    <a:pt x="60" y="134"/>
                  </a:lnTo>
                  <a:lnTo>
                    <a:pt x="62" y="139"/>
                  </a:lnTo>
                  <a:lnTo>
                    <a:pt x="64" y="143"/>
                  </a:lnTo>
                  <a:lnTo>
                    <a:pt x="68" y="146"/>
                  </a:lnTo>
                  <a:lnTo>
                    <a:pt x="71" y="151"/>
                  </a:lnTo>
                  <a:lnTo>
                    <a:pt x="75" y="155"/>
                  </a:lnTo>
                  <a:lnTo>
                    <a:pt x="80" y="158"/>
                  </a:lnTo>
                  <a:lnTo>
                    <a:pt x="86" y="161"/>
                  </a:lnTo>
                  <a:lnTo>
                    <a:pt x="94" y="166"/>
                  </a:lnTo>
                  <a:lnTo>
                    <a:pt x="103" y="170"/>
                  </a:lnTo>
                  <a:lnTo>
                    <a:pt x="114" y="174"/>
                  </a:lnTo>
                  <a:lnTo>
                    <a:pt x="126" y="178"/>
                  </a:lnTo>
                  <a:lnTo>
                    <a:pt x="140" y="181"/>
                  </a:lnTo>
                  <a:lnTo>
                    <a:pt x="153" y="185"/>
                  </a:lnTo>
                  <a:lnTo>
                    <a:pt x="165" y="189"/>
                  </a:lnTo>
                  <a:lnTo>
                    <a:pt x="176" y="193"/>
                  </a:lnTo>
                  <a:lnTo>
                    <a:pt x="186" y="195"/>
                  </a:lnTo>
                  <a:lnTo>
                    <a:pt x="195" y="199"/>
                  </a:lnTo>
                  <a:lnTo>
                    <a:pt x="203" y="203"/>
                  </a:lnTo>
                  <a:lnTo>
                    <a:pt x="209" y="205"/>
                  </a:lnTo>
                  <a:lnTo>
                    <a:pt x="216" y="208"/>
                  </a:lnTo>
                  <a:lnTo>
                    <a:pt x="223" y="213"/>
                  </a:lnTo>
                  <a:lnTo>
                    <a:pt x="230" y="218"/>
                  </a:lnTo>
                  <a:lnTo>
                    <a:pt x="236" y="223"/>
                  </a:lnTo>
                  <a:lnTo>
                    <a:pt x="242" y="228"/>
                  </a:lnTo>
                  <a:lnTo>
                    <a:pt x="247" y="233"/>
                  </a:lnTo>
                  <a:lnTo>
                    <a:pt x="252" y="239"/>
                  </a:lnTo>
                  <a:lnTo>
                    <a:pt x="256" y="245"/>
                  </a:lnTo>
                  <a:lnTo>
                    <a:pt x="260" y="251"/>
                  </a:lnTo>
                  <a:lnTo>
                    <a:pt x="263" y="257"/>
                  </a:lnTo>
                  <a:lnTo>
                    <a:pt x="266" y="265"/>
                  </a:lnTo>
                  <a:lnTo>
                    <a:pt x="268" y="272"/>
                  </a:lnTo>
                  <a:lnTo>
                    <a:pt x="270" y="280"/>
                  </a:lnTo>
                  <a:lnTo>
                    <a:pt x="272" y="287"/>
                  </a:lnTo>
                  <a:lnTo>
                    <a:pt x="273" y="295"/>
                  </a:lnTo>
                  <a:lnTo>
                    <a:pt x="274" y="304"/>
                  </a:lnTo>
                  <a:lnTo>
                    <a:pt x="274" y="311"/>
                  </a:lnTo>
                  <a:lnTo>
                    <a:pt x="274" y="320"/>
                  </a:lnTo>
                  <a:lnTo>
                    <a:pt x="273" y="329"/>
                  </a:lnTo>
                  <a:lnTo>
                    <a:pt x="272" y="336"/>
                  </a:lnTo>
                  <a:lnTo>
                    <a:pt x="270" y="345"/>
                  </a:lnTo>
                  <a:lnTo>
                    <a:pt x="268" y="352"/>
                  </a:lnTo>
                  <a:lnTo>
                    <a:pt x="265" y="360"/>
                  </a:lnTo>
                  <a:lnTo>
                    <a:pt x="262" y="367"/>
                  </a:lnTo>
                  <a:lnTo>
                    <a:pt x="258" y="375"/>
                  </a:lnTo>
                  <a:lnTo>
                    <a:pt x="254" y="382"/>
                  </a:lnTo>
                  <a:lnTo>
                    <a:pt x="250" y="390"/>
                  </a:lnTo>
                  <a:lnTo>
                    <a:pt x="245" y="396"/>
                  </a:lnTo>
                  <a:lnTo>
                    <a:pt x="239" y="402"/>
                  </a:lnTo>
                  <a:lnTo>
                    <a:pt x="234" y="407"/>
                  </a:lnTo>
                  <a:lnTo>
                    <a:pt x="227" y="412"/>
                  </a:lnTo>
                  <a:lnTo>
                    <a:pt x="221" y="417"/>
                  </a:lnTo>
                  <a:lnTo>
                    <a:pt x="214" y="422"/>
                  </a:lnTo>
                  <a:lnTo>
                    <a:pt x="205" y="426"/>
                  </a:lnTo>
                  <a:lnTo>
                    <a:pt x="198" y="430"/>
                  </a:lnTo>
                  <a:lnTo>
                    <a:pt x="190" y="432"/>
                  </a:lnTo>
                  <a:lnTo>
                    <a:pt x="182" y="435"/>
                  </a:lnTo>
                  <a:lnTo>
                    <a:pt x="173" y="436"/>
                  </a:lnTo>
                  <a:lnTo>
                    <a:pt x="165" y="437"/>
                  </a:lnTo>
                  <a:lnTo>
                    <a:pt x="156" y="438"/>
                  </a:lnTo>
                  <a:lnTo>
                    <a:pt x="147" y="438"/>
                  </a:lnTo>
                  <a:lnTo>
                    <a:pt x="135" y="438"/>
                  </a:lnTo>
                  <a:lnTo>
                    <a:pt x="124" y="437"/>
                  </a:lnTo>
                  <a:lnTo>
                    <a:pt x="114" y="436"/>
                  </a:lnTo>
                  <a:lnTo>
                    <a:pt x="104" y="435"/>
                  </a:lnTo>
                  <a:lnTo>
                    <a:pt x="94" y="432"/>
                  </a:lnTo>
                  <a:lnTo>
                    <a:pt x="85" y="430"/>
                  </a:lnTo>
                  <a:lnTo>
                    <a:pt x="77" y="426"/>
                  </a:lnTo>
                  <a:lnTo>
                    <a:pt x="69" y="422"/>
                  </a:lnTo>
                  <a:lnTo>
                    <a:pt x="60" y="417"/>
                  </a:lnTo>
                  <a:lnTo>
                    <a:pt x="53" y="412"/>
                  </a:lnTo>
                  <a:lnTo>
                    <a:pt x="46" y="407"/>
                  </a:lnTo>
                  <a:lnTo>
                    <a:pt x="40" y="401"/>
                  </a:lnTo>
                  <a:lnTo>
                    <a:pt x="34" y="395"/>
                  </a:lnTo>
                  <a:lnTo>
                    <a:pt x="29" y="387"/>
                  </a:lnTo>
                  <a:lnTo>
                    <a:pt x="24" y="380"/>
                  </a:lnTo>
                  <a:lnTo>
                    <a:pt x="19" y="371"/>
                  </a:lnTo>
                  <a:lnTo>
                    <a:pt x="15" y="362"/>
                  </a:lnTo>
                  <a:lnTo>
                    <a:pt x="11" y="354"/>
                  </a:lnTo>
                  <a:lnTo>
                    <a:pt x="8" y="345"/>
                  </a:lnTo>
                  <a:lnTo>
                    <a:pt x="5" y="335"/>
                  </a:lnTo>
                  <a:lnTo>
                    <a:pt x="3" y="326"/>
                  </a:lnTo>
                  <a:lnTo>
                    <a:pt x="2" y="316"/>
                  </a:lnTo>
                  <a:lnTo>
                    <a:pt x="1" y="306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10320" y="2640600"/>
              <a:ext cx="31680" cy="81000"/>
            </a:xfrm>
            <a:custGeom>
              <a:avLst/>
              <a:gdLst/>
              <a:ahLst/>
              <a:rect l="l" t="t" r="r" b="b"/>
              <a:pathLst>
                <a:path w="122" h="419">
                  <a:moveTo>
                    <a:pt x="115" y="368"/>
                  </a:moveTo>
                  <a:lnTo>
                    <a:pt x="122" y="414"/>
                  </a:lnTo>
                  <a:lnTo>
                    <a:pt x="117" y="415"/>
                  </a:lnTo>
                  <a:lnTo>
                    <a:pt x="112" y="415"/>
                  </a:lnTo>
                  <a:lnTo>
                    <a:pt x="108" y="416"/>
                  </a:lnTo>
                  <a:lnTo>
                    <a:pt x="104" y="418"/>
                  </a:lnTo>
                  <a:lnTo>
                    <a:pt x="100" y="418"/>
                  </a:lnTo>
                  <a:lnTo>
                    <a:pt x="97" y="418"/>
                  </a:lnTo>
                  <a:lnTo>
                    <a:pt x="93" y="419"/>
                  </a:lnTo>
                  <a:lnTo>
                    <a:pt x="90" y="419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8"/>
                  </a:lnTo>
                  <a:lnTo>
                    <a:pt x="69" y="416"/>
                  </a:lnTo>
                  <a:lnTo>
                    <a:pt x="65" y="415"/>
                  </a:lnTo>
                  <a:lnTo>
                    <a:pt x="61" y="414"/>
                  </a:lnTo>
                  <a:lnTo>
                    <a:pt x="58" y="411"/>
                  </a:lnTo>
                  <a:lnTo>
                    <a:pt x="54" y="409"/>
                  </a:lnTo>
                  <a:lnTo>
                    <a:pt x="51" y="408"/>
                  </a:lnTo>
                  <a:lnTo>
                    <a:pt x="47" y="405"/>
                  </a:lnTo>
                  <a:lnTo>
                    <a:pt x="45" y="401"/>
                  </a:lnTo>
                  <a:lnTo>
                    <a:pt x="43" y="399"/>
                  </a:lnTo>
                  <a:lnTo>
                    <a:pt x="41" y="396"/>
                  </a:lnTo>
                  <a:lnTo>
                    <a:pt x="39" y="393"/>
                  </a:lnTo>
                  <a:lnTo>
                    <a:pt x="37" y="389"/>
                  </a:lnTo>
                  <a:lnTo>
                    <a:pt x="36" y="385"/>
                  </a:lnTo>
                  <a:lnTo>
                    <a:pt x="34" y="381"/>
                  </a:lnTo>
                  <a:lnTo>
                    <a:pt x="33" y="377"/>
                  </a:lnTo>
                  <a:lnTo>
                    <a:pt x="33" y="370"/>
                  </a:lnTo>
                  <a:lnTo>
                    <a:pt x="32" y="363"/>
                  </a:lnTo>
                  <a:lnTo>
                    <a:pt x="31" y="355"/>
                  </a:lnTo>
                  <a:lnTo>
                    <a:pt x="31" y="345"/>
                  </a:lnTo>
                  <a:lnTo>
                    <a:pt x="31" y="335"/>
                  </a:lnTo>
                  <a:lnTo>
                    <a:pt x="31" y="324"/>
                  </a:lnTo>
                  <a:lnTo>
                    <a:pt x="31" y="148"/>
                  </a:lnTo>
                  <a:lnTo>
                    <a:pt x="0" y="148"/>
                  </a:lnTo>
                  <a:lnTo>
                    <a:pt x="0" y="107"/>
                  </a:lnTo>
                  <a:lnTo>
                    <a:pt x="31" y="107"/>
                  </a:lnTo>
                  <a:lnTo>
                    <a:pt x="31" y="31"/>
                  </a:lnTo>
                  <a:lnTo>
                    <a:pt x="73" y="0"/>
                  </a:lnTo>
                  <a:lnTo>
                    <a:pt x="73" y="107"/>
                  </a:lnTo>
                  <a:lnTo>
                    <a:pt x="115" y="107"/>
                  </a:lnTo>
                  <a:lnTo>
                    <a:pt x="115" y="148"/>
                  </a:lnTo>
                  <a:lnTo>
                    <a:pt x="73" y="148"/>
                  </a:lnTo>
                  <a:lnTo>
                    <a:pt x="73" y="328"/>
                  </a:lnTo>
                  <a:lnTo>
                    <a:pt x="73" y="333"/>
                  </a:lnTo>
                  <a:lnTo>
                    <a:pt x="73" y="338"/>
                  </a:lnTo>
                  <a:lnTo>
                    <a:pt x="73" y="342"/>
                  </a:lnTo>
                  <a:lnTo>
                    <a:pt x="74" y="345"/>
                  </a:lnTo>
                  <a:lnTo>
                    <a:pt x="74" y="349"/>
                  </a:lnTo>
                  <a:lnTo>
                    <a:pt x="74" y="352"/>
                  </a:lnTo>
                  <a:lnTo>
                    <a:pt x="75" y="354"/>
                  </a:lnTo>
                  <a:lnTo>
                    <a:pt x="75" y="355"/>
                  </a:lnTo>
                  <a:lnTo>
                    <a:pt x="76" y="358"/>
                  </a:lnTo>
                  <a:lnTo>
                    <a:pt x="76" y="359"/>
                  </a:lnTo>
                  <a:lnTo>
                    <a:pt x="77" y="360"/>
                  </a:lnTo>
                  <a:lnTo>
                    <a:pt x="78" y="362"/>
                  </a:lnTo>
                  <a:lnTo>
                    <a:pt x="79" y="363"/>
                  </a:lnTo>
                  <a:lnTo>
                    <a:pt x="80" y="364"/>
                  </a:lnTo>
                  <a:lnTo>
                    <a:pt x="81" y="365"/>
                  </a:lnTo>
                  <a:lnTo>
                    <a:pt x="82" y="367"/>
                  </a:lnTo>
                  <a:lnTo>
                    <a:pt x="84" y="367"/>
                  </a:lnTo>
                  <a:lnTo>
                    <a:pt x="85" y="368"/>
                  </a:lnTo>
                  <a:lnTo>
                    <a:pt x="87" y="368"/>
                  </a:lnTo>
                  <a:lnTo>
                    <a:pt x="88" y="369"/>
                  </a:lnTo>
                  <a:lnTo>
                    <a:pt x="90" y="369"/>
                  </a:lnTo>
                  <a:lnTo>
                    <a:pt x="92" y="369"/>
                  </a:lnTo>
                  <a:lnTo>
                    <a:pt x="94" y="370"/>
                  </a:lnTo>
                  <a:lnTo>
                    <a:pt x="97" y="370"/>
                  </a:lnTo>
                  <a:lnTo>
                    <a:pt x="98" y="370"/>
                  </a:lnTo>
                  <a:lnTo>
                    <a:pt x="100" y="370"/>
                  </a:lnTo>
                  <a:lnTo>
                    <a:pt x="102" y="369"/>
                  </a:lnTo>
                  <a:lnTo>
                    <a:pt x="105" y="369"/>
                  </a:lnTo>
                  <a:lnTo>
                    <a:pt x="107" y="369"/>
                  </a:lnTo>
                  <a:lnTo>
                    <a:pt x="110" y="369"/>
                  </a:lnTo>
                  <a:lnTo>
                    <a:pt x="112" y="368"/>
                  </a:lnTo>
                  <a:lnTo>
                    <a:pt x="115" y="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51000" y="2660040"/>
              <a:ext cx="34920" cy="60840"/>
            </a:xfrm>
            <a:custGeom>
              <a:avLst/>
              <a:gdLst/>
              <a:ahLst/>
              <a:rect l="l" t="t" r="r" b="b"/>
              <a:pathLst>
                <a:path w="136" h="313">
                  <a:moveTo>
                    <a:pt x="0" y="313"/>
                  </a:moveTo>
                  <a:lnTo>
                    <a:pt x="0" y="6"/>
                  </a:lnTo>
                  <a:lnTo>
                    <a:pt x="39" y="6"/>
                  </a:lnTo>
                  <a:lnTo>
                    <a:pt x="39" y="53"/>
                  </a:lnTo>
                  <a:lnTo>
                    <a:pt x="42" y="45"/>
                  </a:lnTo>
                  <a:lnTo>
                    <a:pt x="46" y="38"/>
                  </a:lnTo>
                  <a:lnTo>
                    <a:pt x="49" y="31"/>
                  </a:lnTo>
                  <a:lnTo>
                    <a:pt x="53" y="26"/>
                  </a:lnTo>
                  <a:lnTo>
                    <a:pt x="56" y="21"/>
                  </a:lnTo>
                  <a:lnTo>
                    <a:pt x="59" y="16"/>
                  </a:lnTo>
                  <a:lnTo>
                    <a:pt x="62" y="12"/>
                  </a:lnTo>
                  <a:lnTo>
                    <a:pt x="65" y="10"/>
                  </a:lnTo>
                  <a:lnTo>
                    <a:pt x="69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4" y="3"/>
                  </a:lnTo>
                  <a:lnTo>
                    <a:pt x="120" y="6"/>
                  </a:lnTo>
                  <a:lnTo>
                    <a:pt x="125" y="8"/>
                  </a:lnTo>
                  <a:lnTo>
                    <a:pt x="131" y="12"/>
                  </a:lnTo>
                  <a:lnTo>
                    <a:pt x="136" y="16"/>
                  </a:lnTo>
                  <a:lnTo>
                    <a:pt x="122" y="65"/>
                  </a:lnTo>
                  <a:lnTo>
                    <a:pt x="118" y="62"/>
                  </a:lnTo>
                  <a:lnTo>
                    <a:pt x="114" y="60"/>
                  </a:lnTo>
                  <a:lnTo>
                    <a:pt x="110" y="57"/>
                  </a:lnTo>
                  <a:lnTo>
                    <a:pt x="105" y="56"/>
                  </a:lnTo>
                  <a:lnTo>
                    <a:pt x="102" y="55"/>
                  </a:lnTo>
                  <a:lnTo>
                    <a:pt x="98" y="53"/>
                  </a:lnTo>
                  <a:lnTo>
                    <a:pt x="94" y="53"/>
                  </a:lnTo>
                  <a:lnTo>
                    <a:pt x="90" y="53"/>
                  </a:lnTo>
                  <a:lnTo>
                    <a:pt x="87" y="53"/>
                  </a:lnTo>
                  <a:lnTo>
                    <a:pt x="83" y="53"/>
                  </a:lnTo>
                  <a:lnTo>
                    <a:pt x="80" y="55"/>
                  </a:lnTo>
                  <a:lnTo>
                    <a:pt x="77" y="56"/>
                  </a:lnTo>
                  <a:lnTo>
                    <a:pt x="74" y="57"/>
                  </a:lnTo>
                  <a:lnTo>
                    <a:pt x="71" y="58"/>
                  </a:lnTo>
                  <a:lnTo>
                    <a:pt x="68" y="61"/>
                  </a:lnTo>
                  <a:lnTo>
                    <a:pt x="66" y="63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8" y="72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3" y="83"/>
                  </a:lnTo>
                  <a:lnTo>
                    <a:pt x="51" y="87"/>
                  </a:lnTo>
                  <a:lnTo>
                    <a:pt x="50" y="92"/>
                  </a:lnTo>
                  <a:lnTo>
                    <a:pt x="48" y="98"/>
                  </a:lnTo>
                  <a:lnTo>
                    <a:pt x="47" y="106"/>
                  </a:lnTo>
                  <a:lnTo>
                    <a:pt x="46" y="113"/>
                  </a:lnTo>
                  <a:lnTo>
                    <a:pt x="45" y="121"/>
                  </a:lnTo>
                  <a:lnTo>
                    <a:pt x="44" y="128"/>
                  </a:lnTo>
                  <a:lnTo>
                    <a:pt x="44" y="137"/>
                  </a:lnTo>
                  <a:lnTo>
                    <a:pt x="43" y="144"/>
                  </a:lnTo>
                  <a:lnTo>
                    <a:pt x="43" y="152"/>
                  </a:lnTo>
                  <a:lnTo>
                    <a:pt x="43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89160" y="2660040"/>
              <a:ext cx="59040" cy="62280"/>
            </a:xfrm>
            <a:custGeom>
              <a:avLst/>
              <a:gdLst/>
              <a:ahLst/>
              <a:rect l="l" t="t" r="r" b="b"/>
              <a:pathLst>
                <a:path w="229" h="320">
                  <a:moveTo>
                    <a:pt x="176" y="276"/>
                  </a:moveTo>
                  <a:lnTo>
                    <a:pt x="171" y="282"/>
                  </a:lnTo>
                  <a:lnTo>
                    <a:pt x="165" y="287"/>
                  </a:lnTo>
                  <a:lnTo>
                    <a:pt x="159" y="292"/>
                  </a:lnTo>
                  <a:lnTo>
                    <a:pt x="154" y="297"/>
                  </a:lnTo>
                  <a:lnTo>
                    <a:pt x="148" y="300"/>
                  </a:lnTo>
                  <a:lnTo>
                    <a:pt x="143" y="304"/>
                  </a:lnTo>
                  <a:lnTo>
                    <a:pt x="137" y="308"/>
                  </a:lnTo>
                  <a:lnTo>
                    <a:pt x="132" y="310"/>
                  </a:lnTo>
                  <a:lnTo>
                    <a:pt x="126" y="313"/>
                  </a:lnTo>
                  <a:lnTo>
                    <a:pt x="121" y="314"/>
                  </a:lnTo>
                  <a:lnTo>
                    <a:pt x="115" y="317"/>
                  </a:lnTo>
                  <a:lnTo>
                    <a:pt x="110" y="318"/>
                  </a:lnTo>
                  <a:lnTo>
                    <a:pt x="103" y="319"/>
                  </a:lnTo>
                  <a:lnTo>
                    <a:pt x="97" y="319"/>
                  </a:lnTo>
                  <a:lnTo>
                    <a:pt x="91" y="320"/>
                  </a:lnTo>
                  <a:lnTo>
                    <a:pt x="85" y="320"/>
                  </a:lnTo>
                  <a:lnTo>
                    <a:pt x="75" y="320"/>
                  </a:lnTo>
                  <a:lnTo>
                    <a:pt x="66" y="319"/>
                  </a:lnTo>
                  <a:lnTo>
                    <a:pt x="57" y="317"/>
                  </a:lnTo>
                  <a:lnTo>
                    <a:pt x="49" y="314"/>
                  </a:lnTo>
                  <a:lnTo>
                    <a:pt x="41" y="310"/>
                  </a:lnTo>
                  <a:lnTo>
                    <a:pt x="34" y="307"/>
                  </a:lnTo>
                  <a:lnTo>
                    <a:pt x="27" y="302"/>
                  </a:lnTo>
                  <a:lnTo>
                    <a:pt x="22" y="295"/>
                  </a:lnTo>
                  <a:lnTo>
                    <a:pt x="16" y="289"/>
                  </a:lnTo>
                  <a:lnTo>
                    <a:pt x="12" y="282"/>
                  </a:lnTo>
                  <a:lnTo>
                    <a:pt x="8" y="276"/>
                  </a:lnTo>
                  <a:lnTo>
                    <a:pt x="5" y="268"/>
                  </a:lnTo>
                  <a:lnTo>
                    <a:pt x="3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22"/>
                  </a:lnTo>
                  <a:lnTo>
                    <a:pt x="1" y="216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4" y="201"/>
                  </a:lnTo>
                  <a:lnTo>
                    <a:pt x="6" y="196"/>
                  </a:lnTo>
                  <a:lnTo>
                    <a:pt x="8" y="191"/>
                  </a:lnTo>
                  <a:lnTo>
                    <a:pt x="10" y="187"/>
                  </a:lnTo>
                  <a:lnTo>
                    <a:pt x="12" y="182"/>
                  </a:lnTo>
                  <a:lnTo>
                    <a:pt x="15" y="178"/>
                  </a:lnTo>
                  <a:lnTo>
                    <a:pt x="17" y="174"/>
                  </a:lnTo>
                  <a:lnTo>
                    <a:pt x="20" y="171"/>
                  </a:lnTo>
                  <a:lnTo>
                    <a:pt x="23" y="167"/>
                  </a:lnTo>
                  <a:lnTo>
                    <a:pt x="26" y="164"/>
                  </a:lnTo>
                  <a:lnTo>
                    <a:pt x="29" y="161"/>
                  </a:lnTo>
                  <a:lnTo>
                    <a:pt x="33" y="158"/>
                  </a:lnTo>
                  <a:lnTo>
                    <a:pt x="37" y="156"/>
                  </a:lnTo>
                  <a:lnTo>
                    <a:pt x="41" y="153"/>
                  </a:lnTo>
                  <a:lnTo>
                    <a:pt x="45" y="151"/>
                  </a:lnTo>
                  <a:lnTo>
                    <a:pt x="48" y="149"/>
                  </a:lnTo>
                  <a:lnTo>
                    <a:pt x="52" y="147"/>
                  </a:lnTo>
                  <a:lnTo>
                    <a:pt x="56" y="146"/>
                  </a:lnTo>
                  <a:lnTo>
                    <a:pt x="61" y="144"/>
                  </a:lnTo>
                  <a:lnTo>
                    <a:pt x="64" y="143"/>
                  </a:lnTo>
                  <a:lnTo>
                    <a:pt x="67" y="142"/>
                  </a:lnTo>
                  <a:lnTo>
                    <a:pt x="71" y="141"/>
                  </a:lnTo>
                  <a:lnTo>
                    <a:pt x="76" y="141"/>
                  </a:lnTo>
                  <a:lnTo>
                    <a:pt x="81" y="139"/>
                  </a:lnTo>
                  <a:lnTo>
                    <a:pt x="86" y="138"/>
                  </a:lnTo>
                  <a:lnTo>
                    <a:pt x="92" y="137"/>
                  </a:lnTo>
                  <a:lnTo>
                    <a:pt x="98" y="136"/>
                  </a:lnTo>
                  <a:lnTo>
                    <a:pt x="111" y="134"/>
                  </a:lnTo>
                  <a:lnTo>
                    <a:pt x="122" y="132"/>
                  </a:lnTo>
                  <a:lnTo>
                    <a:pt x="133" y="131"/>
                  </a:lnTo>
                  <a:lnTo>
                    <a:pt x="142" y="128"/>
                  </a:lnTo>
                  <a:lnTo>
                    <a:pt x="151" y="126"/>
                  </a:lnTo>
                  <a:lnTo>
                    <a:pt x="159" y="123"/>
                  </a:lnTo>
                  <a:lnTo>
                    <a:pt x="167" y="121"/>
                  </a:lnTo>
                  <a:lnTo>
                    <a:pt x="173" y="118"/>
                  </a:lnTo>
                  <a:lnTo>
                    <a:pt x="173" y="116"/>
                  </a:lnTo>
                  <a:lnTo>
                    <a:pt x="173" y="113"/>
                  </a:lnTo>
                  <a:lnTo>
                    <a:pt x="173" y="112"/>
                  </a:lnTo>
                  <a:lnTo>
                    <a:pt x="173" y="110"/>
                  </a:lnTo>
                  <a:lnTo>
                    <a:pt x="173" y="108"/>
                  </a:lnTo>
                  <a:lnTo>
                    <a:pt x="173" y="107"/>
                  </a:lnTo>
                  <a:lnTo>
                    <a:pt x="173" y="106"/>
                  </a:lnTo>
                  <a:lnTo>
                    <a:pt x="173" y="105"/>
                  </a:lnTo>
                  <a:lnTo>
                    <a:pt x="173" y="97"/>
                  </a:lnTo>
                  <a:lnTo>
                    <a:pt x="172" y="90"/>
                  </a:lnTo>
                  <a:lnTo>
                    <a:pt x="172" y="83"/>
                  </a:lnTo>
                  <a:lnTo>
                    <a:pt x="170" y="78"/>
                  </a:lnTo>
                  <a:lnTo>
                    <a:pt x="169" y="72"/>
                  </a:lnTo>
                  <a:lnTo>
                    <a:pt x="167" y="67"/>
                  </a:lnTo>
                  <a:lnTo>
                    <a:pt x="164" y="63"/>
                  </a:lnTo>
                  <a:lnTo>
                    <a:pt x="161" y="60"/>
                  </a:lnTo>
                  <a:lnTo>
                    <a:pt x="157" y="56"/>
                  </a:lnTo>
                  <a:lnTo>
                    <a:pt x="152" y="52"/>
                  </a:lnTo>
                  <a:lnTo>
                    <a:pt x="147" y="50"/>
                  </a:lnTo>
                  <a:lnTo>
                    <a:pt x="142" y="47"/>
                  </a:lnTo>
                  <a:lnTo>
                    <a:pt x="135" y="45"/>
                  </a:lnTo>
                  <a:lnTo>
                    <a:pt x="129" y="43"/>
                  </a:lnTo>
                  <a:lnTo>
                    <a:pt x="122" y="42"/>
                  </a:lnTo>
                  <a:lnTo>
                    <a:pt x="114" y="42"/>
                  </a:lnTo>
                  <a:lnTo>
                    <a:pt x="106" y="42"/>
                  </a:lnTo>
                  <a:lnTo>
                    <a:pt x="99" y="43"/>
                  </a:lnTo>
                  <a:lnTo>
                    <a:pt x="93" y="45"/>
                  </a:lnTo>
                  <a:lnTo>
                    <a:pt x="87" y="46"/>
                  </a:lnTo>
                  <a:lnTo>
                    <a:pt x="82" y="47"/>
                  </a:lnTo>
                  <a:lnTo>
                    <a:pt x="77" y="50"/>
                  </a:lnTo>
                  <a:lnTo>
                    <a:pt x="73" y="52"/>
                  </a:lnTo>
                  <a:lnTo>
                    <a:pt x="69" y="55"/>
                  </a:lnTo>
                  <a:lnTo>
                    <a:pt x="66" y="58"/>
                  </a:lnTo>
                  <a:lnTo>
                    <a:pt x="63" y="63"/>
                  </a:lnTo>
                  <a:lnTo>
                    <a:pt x="60" y="67"/>
                  </a:lnTo>
                  <a:lnTo>
                    <a:pt x="57" y="73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0" y="93"/>
                  </a:lnTo>
                  <a:lnTo>
                    <a:pt x="49" y="101"/>
                  </a:lnTo>
                  <a:lnTo>
                    <a:pt x="7" y="93"/>
                  </a:lnTo>
                  <a:lnTo>
                    <a:pt x="8" y="86"/>
                  </a:lnTo>
                  <a:lnTo>
                    <a:pt x="10" y="78"/>
                  </a:lnTo>
                  <a:lnTo>
                    <a:pt x="12" y="71"/>
                  </a:lnTo>
                  <a:lnTo>
                    <a:pt x="14" y="65"/>
                  </a:lnTo>
                  <a:lnTo>
                    <a:pt x="17" y="58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5" y="41"/>
                  </a:lnTo>
                  <a:lnTo>
                    <a:pt x="29" y="36"/>
                  </a:lnTo>
                  <a:lnTo>
                    <a:pt x="32" y="32"/>
                  </a:lnTo>
                  <a:lnTo>
                    <a:pt x="37" y="27"/>
                  </a:lnTo>
                  <a:lnTo>
                    <a:pt x="42" y="23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7" y="13"/>
                  </a:lnTo>
                  <a:lnTo>
                    <a:pt x="63" y="10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2" y="3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3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8" y="2"/>
                  </a:lnTo>
                  <a:lnTo>
                    <a:pt x="155" y="3"/>
                  </a:lnTo>
                  <a:lnTo>
                    <a:pt x="161" y="5"/>
                  </a:lnTo>
                  <a:lnTo>
                    <a:pt x="166" y="6"/>
                  </a:lnTo>
                  <a:lnTo>
                    <a:pt x="171" y="8"/>
                  </a:lnTo>
                  <a:lnTo>
                    <a:pt x="176" y="11"/>
                  </a:lnTo>
                  <a:lnTo>
                    <a:pt x="181" y="13"/>
                  </a:lnTo>
                  <a:lnTo>
                    <a:pt x="185" y="16"/>
                  </a:lnTo>
                  <a:lnTo>
                    <a:pt x="189" y="18"/>
                  </a:lnTo>
                  <a:lnTo>
                    <a:pt x="193" y="22"/>
                  </a:lnTo>
                  <a:lnTo>
                    <a:pt x="196" y="25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3" y="36"/>
                  </a:lnTo>
                  <a:lnTo>
                    <a:pt x="205" y="40"/>
                  </a:lnTo>
                  <a:lnTo>
                    <a:pt x="207" y="43"/>
                  </a:lnTo>
                  <a:lnTo>
                    <a:pt x="209" y="47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4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5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6" y="107"/>
                  </a:lnTo>
                  <a:lnTo>
                    <a:pt x="216" y="116"/>
                  </a:lnTo>
                  <a:lnTo>
                    <a:pt x="216" y="184"/>
                  </a:lnTo>
                  <a:lnTo>
                    <a:pt x="216" y="202"/>
                  </a:lnTo>
                  <a:lnTo>
                    <a:pt x="216" y="218"/>
                  </a:lnTo>
                  <a:lnTo>
                    <a:pt x="217" y="232"/>
                  </a:lnTo>
                  <a:lnTo>
                    <a:pt x="217" y="244"/>
                  </a:lnTo>
                  <a:lnTo>
                    <a:pt x="217" y="254"/>
                  </a:lnTo>
                  <a:lnTo>
                    <a:pt x="218" y="263"/>
                  </a:lnTo>
                  <a:lnTo>
                    <a:pt x="218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0" y="285"/>
                  </a:lnTo>
                  <a:lnTo>
                    <a:pt x="222" y="290"/>
                  </a:lnTo>
                  <a:lnTo>
                    <a:pt x="223" y="295"/>
                  </a:lnTo>
                  <a:lnTo>
                    <a:pt x="224" y="300"/>
                  </a:lnTo>
                  <a:lnTo>
                    <a:pt x="226" y="304"/>
                  </a:lnTo>
                  <a:lnTo>
                    <a:pt x="227" y="309"/>
                  </a:lnTo>
                  <a:lnTo>
                    <a:pt x="229" y="313"/>
                  </a:lnTo>
                  <a:lnTo>
                    <a:pt x="186" y="313"/>
                  </a:lnTo>
                  <a:lnTo>
                    <a:pt x="184" y="309"/>
                  </a:lnTo>
                  <a:lnTo>
                    <a:pt x="183" y="305"/>
                  </a:lnTo>
                  <a:lnTo>
                    <a:pt x="182" y="300"/>
                  </a:lnTo>
                  <a:lnTo>
                    <a:pt x="179" y="295"/>
                  </a:lnTo>
                  <a:lnTo>
                    <a:pt x="178" y="290"/>
                  </a:lnTo>
                  <a:lnTo>
                    <a:pt x="178" y="285"/>
                  </a:lnTo>
                  <a:lnTo>
                    <a:pt x="177" y="280"/>
                  </a:lnTo>
                  <a:lnTo>
                    <a:pt x="176" y="276"/>
                  </a:lnTo>
                  <a:close/>
                  <a:moveTo>
                    <a:pt x="173" y="159"/>
                  </a:moveTo>
                  <a:lnTo>
                    <a:pt x="167" y="162"/>
                  </a:lnTo>
                  <a:lnTo>
                    <a:pt x="160" y="164"/>
                  </a:lnTo>
                  <a:lnTo>
                    <a:pt x="153" y="167"/>
                  </a:lnTo>
                  <a:lnTo>
                    <a:pt x="145" y="169"/>
                  </a:lnTo>
                  <a:lnTo>
                    <a:pt x="136" y="172"/>
                  </a:lnTo>
                  <a:lnTo>
                    <a:pt x="126" y="174"/>
                  </a:lnTo>
                  <a:lnTo>
                    <a:pt x="116" y="177"/>
                  </a:lnTo>
                  <a:lnTo>
                    <a:pt x="104" y="179"/>
                  </a:lnTo>
                  <a:lnTo>
                    <a:pt x="98" y="181"/>
                  </a:lnTo>
                  <a:lnTo>
                    <a:pt x="92" y="181"/>
                  </a:lnTo>
                  <a:lnTo>
                    <a:pt x="87" y="182"/>
                  </a:lnTo>
                  <a:lnTo>
                    <a:pt x="82" y="184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0" y="188"/>
                  </a:lnTo>
                  <a:lnTo>
                    <a:pt x="68" y="189"/>
                  </a:lnTo>
                  <a:lnTo>
                    <a:pt x="65" y="191"/>
                  </a:lnTo>
                  <a:lnTo>
                    <a:pt x="62" y="192"/>
                  </a:lnTo>
                  <a:lnTo>
                    <a:pt x="60" y="194"/>
                  </a:lnTo>
                  <a:lnTo>
                    <a:pt x="58" y="197"/>
                  </a:lnTo>
                  <a:lnTo>
                    <a:pt x="56" y="198"/>
                  </a:lnTo>
                  <a:lnTo>
                    <a:pt x="54" y="201"/>
                  </a:lnTo>
                  <a:lnTo>
                    <a:pt x="53" y="203"/>
                  </a:lnTo>
                  <a:lnTo>
                    <a:pt x="51" y="206"/>
                  </a:lnTo>
                  <a:lnTo>
                    <a:pt x="50" y="209"/>
                  </a:lnTo>
                  <a:lnTo>
                    <a:pt x="48" y="212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6" y="221"/>
                  </a:lnTo>
                  <a:lnTo>
                    <a:pt x="46" y="224"/>
                  </a:lnTo>
                  <a:lnTo>
                    <a:pt x="45" y="228"/>
                  </a:lnTo>
                  <a:lnTo>
                    <a:pt x="45" y="231"/>
                  </a:lnTo>
                  <a:lnTo>
                    <a:pt x="45" y="236"/>
                  </a:lnTo>
                  <a:lnTo>
                    <a:pt x="46" y="241"/>
                  </a:lnTo>
                  <a:lnTo>
                    <a:pt x="47" y="246"/>
                  </a:lnTo>
                  <a:lnTo>
                    <a:pt x="48" y="251"/>
                  </a:lnTo>
                  <a:lnTo>
                    <a:pt x="50" y="254"/>
                  </a:lnTo>
                  <a:lnTo>
                    <a:pt x="52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1" y="269"/>
                  </a:lnTo>
                  <a:lnTo>
                    <a:pt x="65" y="272"/>
                  </a:lnTo>
                  <a:lnTo>
                    <a:pt x="69" y="274"/>
                  </a:lnTo>
                  <a:lnTo>
                    <a:pt x="73" y="276"/>
                  </a:lnTo>
                  <a:lnTo>
                    <a:pt x="78" y="278"/>
                  </a:lnTo>
                  <a:lnTo>
                    <a:pt x="83" y="279"/>
                  </a:lnTo>
                  <a:lnTo>
                    <a:pt x="89" y="279"/>
                  </a:lnTo>
                  <a:lnTo>
                    <a:pt x="95" y="279"/>
                  </a:lnTo>
                  <a:lnTo>
                    <a:pt x="101" y="279"/>
                  </a:lnTo>
                  <a:lnTo>
                    <a:pt x="108" y="279"/>
                  </a:lnTo>
                  <a:lnTo>
                    <a:pt x="113" y="278"/>
                  </a:lnTo>
                  <a:lnTo>
                    <a:pt x="119" y="277"/>
                  </a:lnTo>
                  <a:lnTo>
                    <a:pt x="124" y="274"/>
                  </a:lnTo>
                  <a:lnTo>
                    <a:pt x="129" y="272"/>
                  </a:lnTo>
                  <a:lnTo>
                    <a:pt x="134" y="269"/>
                  </a:lnTo>
                  <a:lnTo>
                    <a:pt x="139" y="267"/>
                  </a:lnTo>
                  <a:lnTo>
                    <a:pt x="143" y="263"/>
                  </a:lnTo>
                  <a:lnTo>
                    <a:pt x="147" y="259"/>
                  </a:lnTo>
                  <a:lnTo>
                    <a:pt x="151" y="256"/>
                  </a:lnTo>
                  <a:lnTo>
                    <a:pt x="155" y="251"/>
                  </a:lnTo>
                  <a:lnTo>
                    <a:pt x="158" y="246"/>
                  </a:lnTo>
                  <a:lnTo>
                    <a:pt x="161" y="241"/>
                  </a:lnTo>
                  <a:lnTo>
                    <a:pt x="164" y="236"/>
                  </a:lnTo>
                  <a:lnTo>
                    <a:pt x="166" y="231"/>
                  </a:lnTo>
                  <a:lnTo>
                    <a:pt x="168" y="226"/>
                  </a:lnTo>
                  <a:lnTo>
                    <a:pt x="169" y="221"/>
                  </a:lnTo>
                  <a:lnTo>
                    <a:pt x="170" y="214"/>
                  </a:lnTo>
                  <a:lnTo>
                    <a:pt x="171" y="208"/>
                  </a:lnTo>
                  <a:lnTo>
                    <a:pt x="172" y="202"/>
                  </a:lnTo>
                  <a:lnTo>
                    <a:pt x="173" y="194"/>
                  </a:lnTo>
                  <a:lnTo>
                    <a:pt x="173" y="187"/>
                  </a:lnTo>
                  <a:lnTo>
                    <a:pt x="173" y="178"/>
                  </a:lnTo>
                  <a:lnTo>
                    <a:pt x="173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58640" y="2638080"/>
              <a:ext cx="56160" cy="83880"/>
            </a:xfrm>
            <a:custGeom>
              <a:avLst/>
              <a:gdLst/>
              <a:ahLst/>
              <a:rect l="l" t="t" r="r" b="b"/>
              <a:pathLst>
                <a:path w="216" h="430">
                  <a:moveTo>
                    <a:pt x="176" y="423"/>
                  </a:moveTo>
                  <a:lnTo>
                    <a:pt x="176" y="384"/>
                  </a:lnTo>
                  <a:lnTo>
                    <a:pt x="170" y="395"/>
                  </a:lnTo>
                  <a:lnTo>
                    <a:pt x="163" y="404"/>
                  </a:lnTo>
                  <a:lnTo>
                    <a:pt x="156" y="413"/>
                  </a:lnTo>
                  <a:lnTo>
                    <a:pt x="148" y="419"/>
                  </a:lnTo>
                  <a:lnTo>
                    <a:pt x="139" y="424"/>
                  </a:lnTo>
                  <a:lnTo>
                    <a:pt x="128" y="428"/>
                  </a:lnTo>
                  <a:lnTo>
                    <a:pt x="118" y="429"/>
                  </a:lnTo>
                  <a:lnTo>
                    <a:pt x="107" y="430"/>
                  </a:lnTo>
                  <a:lnTo>
                    <a:pt x="99" y="430"/>
                  </a:lnTo>
                  <a:lnTo>
                    <a:pt x="92" y="429"/>
                  </a:lnTo>
                  <a:lnTo>
                    <a:pt x="85" y="428"/>
                  </a:lnTo>
                  <a:lnTo>
                    <a:pt x="78" y="425"/>
                  </a:lnTo>
                  <a:lnTo>
                    <a:pt x="72" y="423"/>
                  </a:lnTo>
                  <a:lnTo>
                    <a:pt x="65" y="419"/>
                  </a:lnTo>
                  <a:lnTo>
                    <a:pt x="59" y="414"/>
                  </a:lnTo>
                  <a:lnTo>
                    <a:pt x="51" y="410"/>
                  </a:lnTo>
                  <a:lnTo>
                    <a:pt x="45" y="404"/>
                  </a:lnTo>
                  <a:lnTo>
                    <a:pt x="40" y="399"/>
                  </a:lnTo>
                  <a:lnTo>
                    <a:pt x="35" y="393"/>
                  </a:lnTo>
                  <a:lnTo>
                    <a:pt x="30" y="386"/>
                  </a:lnTo>
                  <a:lnTo>
                    <a:pt x="25" y="378"/>
                  </a:lnTo>
                  <a:lnTo>
                    <a:pt x="21" y="371"/>
                  </a:lnTo>
                  <a:lnTo>
                    <a:pt x="17" y="362"/>
                  </a:lnTo>
                  <a:lnTo>
                    <a:pt x="13" y="353"/>
                  </a:lnTo>
                  <a:lnTo>
                    <a:pt x="10" y="344"/>
                  </a:lnTo>
                  <a:lnTo>
                    <a:pt x="7" y="334"/>
                  </a:lnTo>
                  <a:lnTo>
                    <a:pt x="5" y="324"/>
                  </a:lnTo>
                  <a:lnTo>
                    <a:pt x="3" y="314"/>
                  </a:lnTo>
                  <a:lnTo>
                    <a:pt x="2" y="304"/>
                  </a:lnTo>
                  <a:lnTo>
                    <a:pt x="1" y="293"/>
                  </a:lnTo>
                  <a:lnTo>
                    <a:pt x="0" y="282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1" y="237"/>
                  </a:lnTo>
                  <a:lnTo>
                    <a:pt x="3" y="226"/>
                  </a:lnTo>
                  <a:lnTo>
                    <a:pt x="4" y="216"/>
                  </a:lnTo>
                  <a:lnTo>
                    <a:pt x="7" y="206"/>
                  </a:lnTo>
                  <a:lnTo>
                    <a:pt x="9" y="196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70"/>
                  </a:lnTo>
                  <a:lnTo>
                    <a:pt x="23" y="161"/>
                  </a:lnTo>
                  <a:lnTo>
                    <a:pt x="27" y="153"/>
                  </a:lnTo>
                  <a:lnTo>
                    <a:pt x="32" y="147"/>
                  </a:lnTo>
                  <a:lnTo>
                    <a:pt x="37" y="141"/>
                  </a:lnTo>
                  <a:lnTo>
                    <a:pt x="43" y="135"/>
                  </a:lnTo>
                  <a:lnTo>
                    <a:pt x="49" y="130"/>
                  </a:lnTo>
                  <a:lnTo>
                    <a:pt x="55" y="125"/>
                  </a:lnTo>
                  <a:lnTo>
                    <a:pt x="62" y="121"/>
                  </a:lnTo>
                  <a:lnTo>
                    <a:pt x="69" y="117"/>
                  </a:lnTo>
                  <a:lnTo>
                    <a:pt x="76" y="115"/>
                  </a:lnTo>
                  <a:lnTo>
                    <a:pt x="83" y="112"/>
                  </a:lnTo>
                  <a:lnTo>
                    <a:pt x="90" y="111"/>
                  </a:lnTo>
                  <a:lnTo>
                    <a:pt x="97" y="110"/>
                  </a:lnTo>
                  <a:lnTo>
                    <a:pt x="105" y="110"/>
                  </a:lnTo>
                  <a:lnTo>
                    <a:pt x="110" y="110"/>
                  </a:lnTo>
                  <a:lnTo>
                    <a:pt x="116" y="110"/>
                  </a:lnTo>
                  <a:lnTo>
                    <a:pt x="121" y="111"/>
                  </a:lnTo>
                  <a:lnTo>
                    <a:pt x="126" y="112"/>
                  </a:lnTo>
                  <a:lnTo>
                    <a:pt x="132" y="113"/>
                  </a:lnTo>
                  <a:lnTo>
                    <a:pt x="136" y="116"/>
                  </a:lnTo>
                  <a:lnTo>
                    <a:pt x="141" y="118"/>
                  </a:lnTo>
                  <a:lnTo>
                    <a:pt x="145" y="121"/>
                  </a:lnTo>
                  <a:lnTo>
                    <a:pt x="150" y="123"/>
                  </a:lnTo>
                  <a:lnTo>
                    <a:pt x="154" y="127"/>
                  </a:lnTo>
                  <a:lnTo>
                    <a:pt x="157" y="131"/>
                  </a:lnTo>
                  <a:lnTo>
                    <a:pt x="161" y="135"/>
                  </a:lnTo>
                  <a:lnTo>
                    <a:pt x="165" y="138"/>
                  </a:lnTo>
                  <a:lnTo>
                    <a:pt x="168" y="142"/>
                  </a:lnTo>
                  <a:lnTo>
                    <a:pt x="171" y="147"/>
                  </a:lnTo>
                  <a:lnTo>
                    <a:pt x="174" y="151"/>
                  </a:lnTo>
                  <a:lnTo>
                    <a:pt x="174" y="0"/>
                  </a:lnTo>
                  <a:lnTo>
                    <a:pt x="216" y="0"/>
                  </a:lnTo>
                  <a:lnTo>
                    <a:pt x="216" y="423"/>
                  </a:lnTo>
                  <a:lnTo>
                    <a:pt x="176" y="423"/>
                  </a:lnTo>
                  <a:close/>
                  <a:moveTo>
                    <a:pt x="43" y="269"/>
                  </a:moveTo>
                  <a:lnTo>
                    <a:pt x="43" y="284"/>
                  </a:lnTo>
                  <a:lnTo>
                    <a:pt x="44" y="298"/>
                  </a:lnTo>
                  <a:lnTo>
                    <a:pt x="45" y="311"/>
                  </a:lnTo>
                  <a:lnTo>
                    <a:pt x="48" y="322"/>
                  </a:lnTo>
                  <a:lnTo>
                    <a:pt x="50" y="332"/>
                  </a:lnTo>
                  <a:lnTo>
                    <a:pt x="54" y="342"/>
                  </a:lnTo>
                  <a:lnTo>
                    <a:pt x="59" y="351"/>
                  </a:lnTo>
                  <a:lnTo>
                    <a:pt x="63" y="358"/>
                  </a:lnTo>
                  <a:lnTo>
                    <a:pt x="69" y="366"/>
                  </a:lnTo>
                  <a:lnTo>
                    <a:pt x="74" y="371"/>
                  </a:lnTo>
                  <a:lnTo>
                    <a:pt x="79" y="376"/>
                  </a:lnTo>
                  <a:lnTo>
                    <a:pt x="85" y="381"/>
                  </a:lnTo>
                  <a:lnTo>
                    <a:pt x="91" y="383"/>
                  </a:lnTo>
                  <a:lnTo>
                    <a:pt x="97" y="386"/>
                  </a:lnTo>
                  <a:lnTo>
                    <a:pt x="104" y="387"/>
                  </a:lnTo>
                  <a:lnTo>
                    <a:pt x="111" y="388"/>
                  </a:lnTo>
                  <a:lnTo>
                    <a:pt x="117" y="387"/>
                  </a:lnTo>
                  <a:lnTo>
                    <a:pt x="124" y="386"/>
                  </a:lnTo>
                  <a:lnTo>
                    <a:pt x="131" y="383"/>
                  </a:lnTo>
                  <a:lnTo>
                    <a:pt x="137" y="381"/>
                  </a:lnTo>
                  <a:lnTo>
                    <a:pt x="142" y="377"/>
                  </a:lnTo>
                  <a:lnTo>
                    <a:pt x="148" y="372"/>
                  </a:lnTo>
                  <a:lnTo>
                    <a:pt x="153" y="366"/>
                  </a:lnTo>
                  <a:lnTo>
                    <a:pt x="158" y="359"/>
                  </a:lnTo>
                  <a:lnTo>
                    <a:pt x="162" y="352"/>
                  </a:lnTo>
                  <a:lnTo>
                    <a:pt x="166" y="344"/>
                  </a:lnTo>
                  <a:lnTo>
                    <a:pt x="170" y="334"/>
                  </a:lnTo>
                  <a:lnTo>
                    <a:pt x="172" y="324"/>
                  </a:lnTo>
                  <a:lnTo>
                    <a:pt x="174" y="313"/>
                  </a:lnTo>
                  <a:lnTo>
                    <a:pt x="176" y="301"/>
                  </a:lnTo>
                  <a:lnTo>
                    <a:pt x="177" y="288"/>
                  </a:lnTo>
                  <a:lnTo>
                    <a:pt x="177" y="274"/>
                  </a:lnTo>
                  <a:lnTo>
                    <a:pt x="177" y="259"/>
                  </a:lnTo>
                  <a:lnTo>
                    <a:pt x="176" y="244"/>
                  </a:lnTo>
                  <a:lnTo>
                    <a:pt x="174" y="232"/>
                  </a:lnTo>
                  <a:lnTo>
                    <a:pt x="172" y="220"/>
                  </a:lnTo>
                  <a:lnTo>
                    <a:pt x="169" y="208"/>
                  </a:lnTo>
                  <a:lnTo>
                    <a:pt x="166" y="198"/>
                  </a:lnTo>
                  <a:lnTo>
                    <a:pt x="162" y="190"/>
                  </a:lnTo>
                  <a:lnTo>
                    <a:pt x="158" y="182"/>
                  </a:lnTo>
                  <a:lnTo>
                    <a:pt x="153" y="175"/>
                  </a:lnTo>
                  <a:lnTo>
                    <a:pt x="147" y="168"/>
                  </a:lnTo>
                  <a:lnTo>
                    <a:pt x="142" y="163"/>
                  </a:lnTo>
                  <a:lnTo>
                    <a:pt x="136" y="160"/>
                  </a:lnTo>
                  <a:lnTo>
                    <a:pt x="129" y="157"/>
                  </a:lnTo>
                  <a:lnTo>
                    <a:pt x="122" y="155"/>
                  </a:lnTo>
                  <a:lnTo>
                    <a:pt x="116" y="153"/>
                  </a:lnTo>
                  <a:lnTo>
                    <a:pt x="109" y="152"/>
                  </a:lnTo>
                  <a:lnTo>
                    <a:pt x="102" y="153"/>
                  </a:lnTo>
                  <a:lnTo>
                    <a:pt x="95" y="155"/>
                  </a:lnTo>
                  <a:lnTo>
                    <a:pt x="89" y="156"/>
                  </a:lnTo>
                  <a:lnTo>
                    <a:pt x="83" y="160"/>
                  </a:lnTo>
                  <a:lnTo>
                    <a:pt x="77" y="163"/>
                  </a:lnTo>
                  <a:lnTo>
                    <a:pt x="72" y="168"/>
                  </a:lnTo>
                  <a:lnTo>
                    <a:pt x="67" y="175"/>
                  </a:lnTo>
                  <a:lnTo>
                    <a:pt x="62" y="181"/>
                  </a:lnTo>
                  <a:lnTo>
                    <a:pt x="57" y="188"/>
                  </a:lnTo>
                  <a:lnTo>
                    <a:pt x="53" y="197"/>
                  </a:lnTo>
                  <a:lnTo>
                    <a:pt x="50" y="207"/>
                  </a:lnTo>
                  <a:lnTo>
                    <a:pt x="47" y="217"/>
                  </a:lnTo>
                  <a:lnTo>
                    <a:pt x="45" y="230"/>
                  </a:lnTo>
                  <a:lnTo>
                    <a:pt x="44" y="242"/>
                  </a:lnTo>
                  <a:lnTo>
                    <a:pt x="43" y="256"/>
                  </a:lnTo>
                  <a:lnTo>
                    <a:pt x="43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28120" y="2660040"/>
              <a:ext cx="59760" cy="62280"/>
            </a:xfrm>
            <a:custGeom>
              <a:avLst/>
              <a:gdLst/>
              <a:ahLst/>
              <a:rect l="l" t="t" r="r" b="b"/>
              <a:pathLst>
                <a:path w="231" h="320">
                  <a:moveTo>
                    <a:pt x="178" y="276"/>
                  </a:moveTo>
                  <a:lnTo>
                    <a:pt x="172" y="282"/>
                  </a:lnTo>
                  <a:lnTo>
                    <a:pt x="167" y="287"/>
                  </a:lnTo>
                  <a:lnTo>
                    <a:pt x="161" y="292"/>
                  </a:lnTo>
                  <a:lnTo>
                    <a:pt x="155" y="297"/>
                  </a:lnTo>
                  <a:lnTo>
                    <a:pt x="149" y="300"/>
                  </a:lnTo>
                  <a:lnTo>
                    <a:pt x="143" y="304"/>
                  </a:lnTo>
                  <a:lnTo>
                    <a:pt x="138" y="308"/>
                  </a:lnTo>
                  <a:lnTo>
                    <a:pt x="133" y="310"/>
                  </a:lnTo>
                  <a:lnTo>
                    <a:pt x="127" y="313"/>
                  </a:lnTo>
                  <a:lnTo>
                    <a:pt x="122" y="314"/>
                  </a:lnTo>
                  <a:lnTo>
                    <a:pt x="116" y="317"/>
                  </a:lnTo>
                  <a:lnTo>
                    <a:pt x="110" y="318"/>
                  </a:lnTo>
                  <a:lnTo>
                    <a:pt x="105" y="319"/>
                  </a:lnTo>
                  <a:lnTo>
                    <a:pt x="99" y="319"/>
                  </a:lnTo>
                  <a:lnTo>
                    <a:pt x="93" y="320"/>
                  </a:lnTo>
                  <a:lnTo>
                    <a:pt x="87" y="320"/>
                  </a:lnTo>
                  <a:lnTo>
                    <a:pt x="76" y="320"/>
                  </a:lnTo>
                  <a:lnTo>
                    <a:pt x="66" y="319"/>
                  </a:lnTo>
                  <a:lnTo>
                    <a:pt x="58" y="317"/>
                  </a:lnTo>
                  <a:lnTo>
                    <a:pt x="50" y="314"/>
                  </a:lnTo>
                  <a:lnTo>
                    <a:pt x="42" y="310"/>
                  </a:lnTo>
                  <a:lnTo>
                    <a:pt x="35" y="307"/>
                  </a:lnTo>
                  <a:lnTo>
                    <a:pt x="29" y="302"/>
                  </a:lnTo>
                  <a:lnTo>
                    <a:pt x="23" y="295"/>
                  </a:lnTo>
                  <a:lnTo>
                    <a:pt x="18" y="289"/>
                  </a:lnTo>
                  <a:lnTo>
                    <a:pt x="14" y="282"/>
                  </a:lnTo>
                  <a:lnTo>
                    <a:pt x="10" y="276"/>
                  </a:lnTo>
                  <a:lnTo>
                    <a:pt x="6" y="268"/>
                  </a:lnTo>
                  <a:lnTo>
                    <a:pt x="4" y="259"/>
                  </a:lnTo>
                  <a:lnTo>
                    <a:pt x="2" y="251"/>
                  </a:lnTo>
                  <a:lnTo>
                    <a:pt x="1" y="242"/>
                  </a:lnTo>
                  <a:lnTo>
                    <a:pt x="0" y="232"/>
                  </a:lnTo>
                  <a:lnTo>
                    <a:pt x="1" y="227"/>
                  </a:lnTo>
                  <a:lnTo>
                    <a:pt x="1" y="222"/>
                  </a:lnTo>
                  <a:lnTo>
                    <a:pt x="2" y="216"/>
                  </a:lnTo>
                  <a:lnTo>
                    <a:pt x="3" y="211"/>
                  </a:lnTo>
                  <a:lnTo>
                    <a:pt x="4" y="206"/>
                  </a:lnTo>
                  <a:lnTo>
                    <a:pt x="5" y="201"/>
                  </a:lnTo>
                  <a:lnTo>
                    <a:pt x="7" y="196"/>
                  </a:lnTo>
                  <a:lnTo>
                    <a:pt x="10" y="191"/>
                  </a:lnTo>
                  <a:lnTo>
                    <a:pt x="12" y="187"/>
                  </a:lnTo>
                  <a:lnTo>
                    <a:pt x="14" y="182"/>
                  </a:lnTo>
                  <a:lnTo>
                    <a:pt x="17" y="178"/>
                  </a:lnTo>
                  <a:lnTo>
                    <a:pt x="19" y="174"/>
                  </a:lnTo>
                  <a:lnTo>
                    <a:pt x="22" y="171"/>
                  </a:lnTo>
                  <a:lnTo>
                    <a:pt x="25" y="167"/>
                  </a:lnTo>
                  <a:lnTo>
                    <a:pt x="28" y="164"/>
                  </a:lnTo>
                  <a:lnTo>
                    <a:pt x="31" y="161"/>
                  </a:lnTo>
                  <a:lnTo>
                    <a:pt x="35" y="158"/>
                  </a:lnTo>
                  <a:lnTo>
                    <a:pt x="38" y="156"/>
                  </a:lnTo>
                  <a:lnTo>
                    <a:pt x="42" y="153"/>
                  </a:lnTo>
                  <a:lnTo>
                    <a:pt x="45" y="151"/>
                  </a:lnTo>
                  <a:lnTo>
                    <a:pt x="49" y="149"/>
                  </a:lnTo>
                  <a:lnTo>
                    <a:pt x="53" y="147"/>
                  </a:lnTo>
                  <a:lnTo>
                    <a:pt x="57" y="146"/>
                  </a:lnTo>
                  <a:lnTo>
                    <a:pt x="61" y="144"/>
                  </a:lnTo>
                  <a:lnTo>
                    <a:pt x="65" y="143"/>
                  </a:lnTo>
                  <a:lnTo>
                    <a:pt x="68" y="142"/>
                  </a:lnTo>
                  <a:lnTo>
                    <a:pt x="72" y="141"/>
                  </a:lnTo>
                  <a:lnTo>
                    <a:pt x="77" y="141"/>
                  </a:lnTo>
                  <a:lnTo>
                    <a:pt x="82" y="139"/>
                  </a:lnTo>
                  <a:lnTo>
                    <a:pt x="88" y="138"/>
                  </a:lnTo>
                  <a:lnTo>
                    <a:pt x="93" y="137"/>
                  </a:lnTo>
                  <a:lnTo>
                    <a:pt x="99" y="136"/>
                  </a:lnTo>
                  <a:lnTo>
                    <a:pt x="112" y="134"/>
                  </a:lnTo>
                  <a:lnTo>
                    <a:pt x="123" y="132"/>
                  </a:lnTo>
                  <a:lnTo>
                    <a:pt x="133" y="131"/>
                  </a:lnTo>
                  <a:lnTo>
                    <a:pt x="143" y="128"/>
                  </a:lnTo>
                  <a:lnTo>
                    <a:pt x="152" y="126"/>
                  </a:lnTo>
                  <a:lnTo>
                    <a:pt x="161" y="123"/>
                  </a:lnTo>
                  <a:lnTo>
                    <a:pt x="168" y="121"/>
                  </a:lnTo>
                  <a:lnTo>
                    <a:pt x="175" y="118"/>
                  </a:lnTo>
                  <a:lnTo>
                    <a:pt x="175" y="116"/>
                  </a:lnTo>
                  <a:lnTo>
                    <a:pt x="175" y="113"/>
                  </a:lnTo>
                  <a:lnTo>
                    <a:pt x="175" y="112"/>
                  </a:lnTo>
                  <a:lnTo>
                    <a:pt x="175" y="110"/>
                  </a:lnTo>
                  <a:lnTo>
                    <a:pt x="175" y="108"/>
                  </a:lnTo>
                  <a:lnTo>
                    <a:pt x="175" y="107"/>
                  </a:lnTo>
                  <a:lnTo>
                    <a:pt x="175" y="106"/>
                  </a:lnTo>
                  <a:lnTo>
                    <a:pt x="175" y="105"/>
                  </a:lnTo>
                  <a:lnTo>
                    <a:pt x="175" y="97"/>
                  </a:lnTo>
                  <a:lnTo>
                    <a:pt x="174" y="90"/>
                  </a:lnTo>
                  <a:lnTo>
                    <a:pt x="173" y="83"/>
                  </a:lnTo>
                  <a:lnTo>
                    <a:pt x="172" y="78"/>
                  </a:lnTo>
                  <a:lnTo>
                    <a:pt x="170" y="72"/>
                  </a:lnTo>
                  <a:lnTo>
                    <a:pt x="168" y="67"/>
                  </a:lnTo>
                  <a:lnTo>
                    <a:pt x="166" y="63"/>
                  </a:lnTo>
                  <a:lnTo>
                    <a:pt x="163" y="60"/>
                  </a:lnTo>
                  <a:lnTo>
                    <a:pt x="159" y="56"/>
                  </a:lnTo>
                  <a:lnTo>
                    <a:pt x="154" y="52"/>
                  </a:lnTo>
                  <a:lnTo>
                    <a:pt x="148" y="50"/>
                  </a:lnTo>
                  <a:lnTo>
                    <a:pt x="142" y="47"/>
                  </a:lnTo>
                  <a:lnTo>
                    <a:pt x="136" y="45"/>
                  </a:lnTo>
                  <a:lnTo>
                    <a:pt x="129" y="43"/>
                  </a:lnTo>
                  <a:lnTo>
                    <a:pt x="122" y="42"/>
                  </a:lnTo>
                  <a:lnTo>
                    <a:pt x="115" y="42"/>
                  </a:lnTo>
                  <a:lnTo>
                    <a:pt x="108" y="42"/>
                  </a:lnTo>
                  <a:lnTo>
                    <a:pt x="101" y="43"/>
                  </a:lnTo>
                  <a:lnTo>
                    <a:pt x="95" y="45"/>
                  </a:lnTo>
                  <a:lnTo>
                    <a:pt x="89" y="46"/>
                  </a:lnTo>
                  <a:lnTo>
                    <a:pt x="84" y="47"/>
                  </a:lnTo>
                  <a:lnTo>
                    <a:pt x="78" y="50"/>
                  </a:lnTo>
                  <a:lnTo>
                    <a:pt x="74" y="52"/>
                  </a:lnTo>
                  <a:lnTo>
                    <a:pt x="70" y="55"/>
                  </a:lnTo>
                  <a:lnTo>
                    <a:pt x="67" y="58"/>
                  </a:lnTo>
                  <a:lnTo>
                    <a:pt x="64" y="63"/>
                  </a:lnTo>
                  <a:lnTo>
                    <a:pt x="61" y="67"/>
                  </a:lnTo>
                  <a:lnTo>
                    <a:pt x="58" y="73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1" y="93"/>
                  </a:lnTo>
                  <a:lnTo>
                    <a:pt x="49" y="101"/>
                  </a:lnTo>
                  <a:lnTo>
                    <a:pt x="9" y="93"/>
                  </a:lnTo>
                  <a:lnTo>
                    <a:pt x="10" y="86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6" y="65"/>
                  </a:lnTo>
                  <a:lnTo>
                    <a:pt x="18" y="58"/>
                  </a:lnTo>
                  <a:lnTo>
                    <a:pt x="21" y="52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30" y="36"/>
                  </a:lnTo>
                  <a:lnTo>
                    <a:pt x="34" y="32"/>
                  </a:lnTo>
                  <a:lnTo>
                    <a:pt x="38" y="27"/>
                  </a:lnTo>
                  <a:lnTo>
                    <a:pt x="43" y="23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8" y="13"/>
                  </a:lnTo>
                  <a:lnTo>
                    <a:pt x="64" y="10"/>
                  </a:lnTo>
                  <a:lnTo>
                    <a:pt x="70" y="7"/>
                  </a:lnTo>
                  <a:lnTo>
                    <a:pt x="76" y="6"/>
                  </a:lnTo>
                  <a:lnTo>
                    <a:pt x="84" y="3"/>
                  </a:lnTo>
                  <a:lnTo>
                    <a:pt x="91" y="2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3" y="1"/>
                  </a:lnTo>
                  <a:lnTo>
                    <a:pt x="149" y="2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6"/>
                  </a:lnTo>
                  <a:lnTo>
                    <a:pt x="173" y="8"/>
                  </a:lnTo>
                  <a:lnTo>
                    <a:pt x="178" y="11"/>
                  </a:lnTo>
                  <a:lnTo>
                    <a:pt x="182" y="13"/>
                  </a:lnTo>
                  <a:lnTo>
                    <a:pt x="186" y="16"/>
                  </a:lnTo>
                  <a:lnTo>
                    <a:pt x="190" y="18"/>
                  </a:lnTo>
                  <a:lnTo>
                    <a:pt x="193" y="22"/>
                  </a:lnTo>
                  <a:lnTo>
                    <a:pt x="197" y="25"/>
                  </a:lnTo>
                  <a:lnTo>
                    <a:pt x="199" y="28"/>
                  </a:lnTo>
                  <a:lnTo>
                    <a:pt x="202" y="32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8" y="43"/>
                  </a:lnTo>
                  <a:lnTo>
                    <a:pt x="210" y="47"/>
                  </a:lnTo>
                  <a:lnTo>
                    <a:pt x="211" y="52"/>
                  </a:lnTo>
                  <a:lnTo>
                    <a:pt x="213" y="57"/>
                  </a:lnTo>
                  <a:lnTo>
                    <a:pt x="214" y="62"/>
                  </a:lnTo>
                  <a:lnTo>
                    <a:pt x="215" y="67"/>
                  </a:lnTo>
                  <a:lnTo>
                    <a:pt x="215" y="71"/>
                  </a:lnTo>
                  <a:lnTo>
                    <a:pt x="216" y="76"/>
                  </a:lnTo>
                  <a:lnTo>
                    <a:pt x="216" y="81"/>
                  </a:lnTo>
                  <a:lnTo>
                    <a:pt x="216" y="86"/>
                  </a:lnTo>
                  <a:lnTo>
                    <a:pt x="217" y="92"/>
                  </a:lnTo>
                  <a:lnTo>
                    <a:pt x="217" y="100"/>
                  </a:lnTo>
                  <a:lnTo>
                    <a:pt x="217" y="107"/>
                  </a:lnTo>
                  <a:lnTo>
                    <a:pt x="217" y="116"/>
                  </a:lnTo>
                  <a:lnTo>
                    <a:pt x="217" y="184"/>
                  </a:lnTo>
                  <a:lnTo>
                    <a:pt x="217" y="202"/>
                  </a:lnTo>
                  <a:lnTo>
                    <a:pt x="217" y="218"/>
                  </a:lnTo>
                  <a:lnTo>
                    <a:pt x="217" y="232"/>
                  </a:lnTo>
                  <a:lnTo>
                    <a:pt x="218" y="244"/>
                  </a:lnTo>
                  <a:lnTo>
                    <a:pt x="218" y="254"/>
                  </a:lnTo>
                  <a:lnTo>
                    <a:pt x="218" y="263"/>
                  </a:lnTo>
                  <a:lnTo>
                    <a:pt x="219" y="271"/>
                  </a:lnTo>
                  <a:lnTo>
                    <a:pt x="220" y="277"/>
                  </a:lnTo>
                  <a:lnTo>
                    <a:pt x="220" y="282"/>
                  </a:lnTo>
                  <a:lnTo>
                    <a:pt x="221" y="285"/>
                  </a:lnTo>
                  <a:lnTo>
                    <a:pt x="222" y="290"/>
                  </a:lnTo>
                  <a:lnTo>
                    <a:pt x="224" y="295"/>
                  </a:lnTo>
                  <a:lnTo>
                    <a:pt x="226" y="300"/>
                  </a:lnTo>
                  <a:lnTo>
                    <a:pt x="228" y="304"/>
                  </a:lnTo>
                  <a:lnTo>
                    <a:pt x="229" y="309"/>
                  </a:lnTo>
                  <a:lnTo>
                    <a:pt x="231" y="313"/>
                  </a:lnTo>
                  <a:lnTo>
                    <a:pt x="187" y="313"/>
                  </a:lnTo>
                  <a:lnTo>
                    <a:pt x="185" y="309"/>
                  </a:lnTo>
                  <a:lnTo>
                    <a:pt x="184" y="305"/>
                  </a:lnTo>
                  <a:lnTo>
                    <a:pt x="182" y="300"/>
                  </a:lnTo>
                  <a:lnTo>
                    <a:pt x="181" y="295"/>
                  </a:lnTo>
                  <a:lnTo>
                    <a:pt x="180" y="290"/>
                  </a:lnTo>
                  <a:lnTo>
                    <a:pt x="179" y="285"/>
                  </a:lnTo>
                  <a:lnTo>
                    <a:pt x="179" y="280"/>
                  </a:lnTo>
                  <a:lnTo>
                    <a:pt x="178" y="276"/>
                  </a:lnTo>
                  <a:close/>
                  <a:moveTo>
                    <a:pt x="175" y="159"/>
                  </a:moveTo>
                  <a:lnTo>
                    <a:pt x="169" y="162"/>
                  </a:lnTo>
                  <a:lnTo>
                    <a:pt x="162" y="164"/>
                  </a:lnTo>
                  <a:lnTo>
                    <a:pt x="154" y="167"/>
                  </a:lnTo>
                  <a:lnTo>
                    <a:pt x="145" y="169"/>
                  </a:lnTo>
                  <a:lnTo>
                    <a:pt x="136" y="172"/>
                  </a:lnTo>
                  <a:lnTo>
                    <a:pt x="127" y="174"/>
                  </a:lnTo>
                  <a:lnTo>
                    <a:pt x="117" y="177"/>
                  </a:lnTo>
                  <a:lnTo>
                    <a:pt x="106" y="179"/>
                  </a:lnTo>
                  <a:lnTo>
                    <a:pt x="99" y="181"/>
                  </a:lnTo>
                  <a:lnTo>
                    <a:pt x="94" y="181"/>
                  </a:lnTo>
                  <a:lnTo>
                    <a:pt x="88" y="182"/>
                  </a:lnTo>
                  <a:lnTo>
                    <a:pt x="84" y="184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8"/>
                  </a:lnTo>
                  <a:lnTo>
                    <a:pt x="68" y="189"/>
                  </a:lnTo>
                  <a:lnTo>
                    <a:pt x="66" y="191"/>
                  </a:lnTo>
                  <a:lnTo>
                    <a:pt x="63" y="192"/>
                  </a:lnTo>
                  <a:lnTo>
                    <a:pt x="61" y="194"/>
                  </a:lnTo>
                  <a:lnTo>
                    <a:pt x="59" y="197"/>
                  </a:lnTo>
                  <a:lnTo>
                    <a:pt x="57" y="198"/>
                  </a:lnTo>
                  <a:lnTo>
                    <a:pt x="55" y="201"/>
                  </a:lnTo>
                  <a:lnTo>
                    <a:pt x="53" y="203"/>
                  </a:lnTo>
                  <a:lnTo>
                    <a:pt x="52" y="206"/>
                  </a:lnTo>
                  <a:lnTo>
                    <a:pt x="50" y="209"/>
                  </a:lnTo>
                  <a:lnTo>
                    <a:pt x="49" y="212"/>
                  </a:lnTo>
                  <a:lnTo>
                    <a:pt x="48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6" y="224"/>
                  </a:lnTo>
                  <a:lnTo>
                    <a:pt x="46" y="228"/>
                  </a:lnTo>
                  <a:lnTo>
                    <a:pt x="46" y="231"/>
                  </a:lnTo>
                  <a:lnTo>
                    <a:pt x="46" y="236"/>
                  </a:lnTo>
                  <a:lnTo>
                    <a:pt x="47" y="241"/>
                  </a:lnTo>
                  <a:lnTo>
                    <a:pt x="48" y="246"/>
                  </a:lnTo>
                  <a:lnTo>
                    <a:pt x="49" y="251"/>
                  </a:lnTo>
                  <a:lnTo>
                    <a:pt x="51" y="254"/>
                  </a:lnTo>
                  <a:lnTo>
                    <a:pt x="53" y="258"/>
                  </a:lnTo>
                  <a:lnTo>
                    <a:pt x="56" y="262"/>
                  </a:lnTo>
                  <a:lnTo>
                    <a:pt x="59" y="266"/>
                  </a:lnTo>
                  <a:lnTo>
                    <a:pt x="62" y="269"/>
                  </a:lnTo>
                  <a:lnTo>
                    <a:pt x="66" y="272"/>
                  </a:lnTo>
                  <a:lnTo>
                    <a:pt x="70" y="274"/>
                  </a:lnTo>
                  <a:lnTo>
                    <a:pt x="74" y="276"/>
                  </a:lnTo>
                  <a:lnTo>
                    <a:pt x="79" y="278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7" y="279"/>
                  </a:lnTo>
                  <a:lnTo>
                    <a:pt x="102" y="279"/>
                  </a:lnTo>
                  <a:lnTo>
                    <a:pt x="108" y="279"/>
                  </a:lnTo>
                  <a:lnTo>
                    <a:pt x="114" y="278"/>
                  </a:lnTo>
                  <a:lnTo>
                    <a:pt x="119" y="277"/>
                  </a:lnTo>
                  <a:lnTo>
                    <a:pt x="125" y="274"/>
                  </a:lnTo>
                  <a:lnTo>
                    <a:pt x="130" y="272"/>
                  </a:lnTo>
                  <a:lnTo>
                    <a:pt x="135" y="269"/>
                  </a:lnTo>
                  <a:lnTo>
                    <a:pt x="139" y="267"/>
                  </a:lnTo>
                  <a:lnTo>
                    <a:pt x="144" y="263"/>
                  </a:lnTo>
                  <a:lnTo>
                    <a:pt x="148" y="259"/>
                  </a:lnTo>
                  <a:lnTo>
                    <a:pt x="152" y="256"/>
                  </a:lnTo>
                  <a:lnTo>
                    <a:pt x="157" y="251"/>
                  </a:lnTo>
                  <a:lnTo>
                    <a:pt x="160" y="246"/>
                  </a:lnTo>
                  <a:lnTo>
                    <a:pt x="163" y="241"/>
                  </a:lnTo>
                  <a:lnTo>
                    <a:pt x="166" y="236"/>
                  </a:lnTo>
                  <a:lnTo>
                    <a:pt x="168" y="231"/>
                  </a:lnTo>
                  <a:lnTo>
                    <a:pt x="170" y="226"/>
                  </a:lnTo>
                  <a:lnTo>
                    <a:pt x="171" y="221"/>
                  </a:lnTo>
                  <a:lnTo>
                    <a:pt x="172" y="214"/>
                  </a:lnTo>
                  <a:lnTo>
                    <a:pt x="173" y="208"/>
                  </a:lnTo>
                  <a:lnTo>
                    <a:pt x="174" y="202"/>
                  </a:lnTo>
                  <a:lnTo>
                    <a:pt x="174" y="194"/>
                  </a:lnTo>
                  <a:lnTo>
                    <a:pt x="175" y="187"/>
                  </a:lnTo>
                  <a:lnTo>
                    <a:pt x="175" y="178"/>
                  </a:lnTo>
                  <a:lnTo>
                    <a:pt x="175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36480" y="2660040"/>
              <a:ext cx="55800" cy="84240"/>
            </a:xfrm>
            <a:custGeom>
              <a:avLst/>
              <a:gdLst/>
              <a:ahLst/>
              <a:rect l="l" t="t" r="r" b="b"/>
              <a:pathLst>
                <a:path w="217" h="431">
                  <a:moveTo>
                    <a:pt x="0" y="431"/>
                  </a:moveTo>
                  <a:lnTo>
                    <a:pt x="0" y="6"/>
                  </a:lnTo>
                  <a:lnTo>
                    <a:pt x="39" y="6"/>
                  </a:lnTo>
                  <a:lnTo>
                    <a:pt x="39" y="46"/>
                  </a:lnTo>
                  <a:lnTo>
                    <a:pt x="43" y="41"/>
                  </a:lnTo>
                  <a:lnTo>
                    <a:pt x="46" y="35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58" y="21"/>
                  </a:lnTo>
                  <a:lnTo>
                    <a:pt x="62" y="17"/>
                  </a:lnTo>
                  <a:lnTo>
                    <a:pt x="66" y="15"/>
                  </a:lnTo>
                  <a:lnTo>
                    <a:pt x="70" y="11"/>
                  </a:lnTo>
                  <a:lnTo>
                    <a:pt x="74" y="8"/>
                  </a:lnTo>
                  <a:lnTo>
                    <a:pt x="79" y="6"/>
                  </a:lnTo>
                  <a:lnTo>
                    <a:pt x="83" y="3"/>
                  </a:lnTo>
                  <a:lnTo>
                    <a:pt x="88" y="2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1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48" y="7"/>
                  </a:lnTo>
                  <a:lnTo>
                    <a:pt x="155" y="11"/>
                  </a:lnTo>
                  <a:lnTo>
                    <a:pt x="161" y="15"/>
                  </a:lnTo>
                  <a:lnTo>
                    <a:pt x="167" y="20"/>
                  </a:lnTo>
                  <a:lnTo>
                    <a:pt x="174" y="25"/>
                  </a:lnTo>
                  <a:lnTo>
                    <a:pt x="180" y="31"/>
                  </a:lnTo>
                  <a:lnTo>
                    <a:pt x="185" y="37"/>
                  </a:lnTo>
                  <a:lnTo>
                    <a:pt x="190" y="43"/>
                  </a:lnTo>
                  <a:lnTo>
                    <a:pt x="194" y="51"/>
                  </a:lnTo>
                  <a:lnTo>
                    <a:pt x="198" y="60"/>
                  </a:lnTo>
                  <a:lnTo>
                    <a:pt x="202" y="67"/>
                  </a:lnTo>
                  <a:lnTo>
                    <a:pt x="205" y="77"/>
                  </a:lnTo>
                  <a:lnTo>
                    <a:pt x="208" y="86"/>
                  </a:lnTo>
                  <a:lnTo>
                    <a:pt x="210" y="96"/>
                  </a:lnTo>
                  <a:lnTo>
                    <a:pt x="212" y="106"/>
                  </a:lnTo>
                  <a:lnTo>
                    <a:pt x="214" y="116"/>
                  </a:lnTo>
                  <a:lnTo>
                    <a:pt x="215" y="126"/>
                  </a:lnTo>
                  <a:lnTo>
                    <a:pt x="216" y="136"/>
                  </a:lnTo>
                  <a:lnTo>
                    <a:pt x="217" y="147"/>
                  </a:lnTo>
                  <a:lnTo>
                    <a:pt x="217" y="157"/>
                  </a:lnTo>
                  <a:lnTo>
                    <a:pt x="217" y="169"/>
                  </a:lnTo>
                  <a:lnTo>
                    <a:pt x="216" y="181"/>
                  </a:lnTo>
                  <a:lnTo>
                    <a:pt x="215" y="192"/>
                  </a:lnTo>
                  <a:lnTo>
                    <a:pt x="214" y="202"/>
                  </a:lnTo>
                  <a:lnTo>
                    <a:pt x="212" y="213"/>
                  </a:lnTo>
                  <a:lnTo>
                    <a:pt x="209" y="223"/>
                  </a:lnTo>
                  <a:lnTo>
                    <a:pt x="207" y="233"/>
                  </a:lnTo>
                  <a:lnTo>
                    <a:pt x="203" y="242"/>
                  </a:lnTo>
                  <a:lnTo>
                    <a:pt x="200" y="252"/>
                  </a:lnTo>
                  <a:lnTo>
                    <a:pt x="196" y="261"/>
                  </a:lnTo>
                  <a:lnTo>
                    <a:pt x="192" y="268"/>
                  </a:lnTo>
                  <a:lnTo>
                    <a:pt x="187" y="276"/>
                  </a:lnTo>
                  <a:lnTo>
                    <a:pt x="182" y="283"/>
                  </a:lnTo>
                  <a:lnTo>
                    <a:pt x="176" y="289"/>
                  </a:lnTo>
                  <a:lnTo>
                    <a:pt x="169" y="295"/>
                  </a:lnTo>
                  <a:lnTo>
                    <a:pt x="163" y="300"/>
                  </a:lnTo>
                  <a:lnTo>
                    <a:pt x="157" y="305"/>
                  </a:lnTo>
                  <a:lnTo>
                    <a:pt x="150" y="309"/>
                  </a:lnTo>
                  <a:lnTo>
                    <a:pt x="143" y="313"/>
                  </a:lnTo>
                  <a:lnTo>
                    <a:pt x="137" y="315"/>
                  </a:lnTo>
                  <a:lnTo>
                    <a:pt x="130" y="318"/>
                  </a:lnTo>
                  <a:lnTo>
                    <a:pt x="123" y="319"/>
                  </a:lnTo>
                  <a:lnTo>
                    <a:pt x="116" y="320"/>
                  </a:lnTo>
                  <a:lnTo>
                    <a:pt x="109" y="320"/>
                  </a:lnTo>
                  <a:lnTo>
                    <a:pt x="104" y="320"/>
                  </a:lnTo>
                  <a:lnTo>
                    <a:pt x="98" y="319"/>
                  </a:lnTo>
                  <a:lnTo>
                    <a:pt x="93" y="319"/>
                  </a:lnTo>
                  <a:lnTo>
                    <a:pt x="88" y="318"/>
                  </a:lnTo>
                  <a:lnTo>
                    <a:pt x="83" y="315"/>
                  </a:lnTo>
                  <a:lnTo>
                    <a:pt x="79" y="314"/>
                  </a:lnTo>
                  <a:lnTo>
                    <a:pt x="75" y="312"/>
                  </a:lnTo>
                  <a:lnTo>
                    <a:pt x="70" y="309"/>
                  </a:lnTo>
                  <a:lnTo>
                    <a:pt x="66" y="307"/>
                  </a:lnTo>
                  <a:lnTo>
                    <a:pt x="62" y="303"/>
                  </a:lnTo>
                  <a:lnTo>
                    <a:pt x="59" y="300"/>
                  </a:lnTo>
                  <a:lnTo>
                    <a:pt x="55" y="297"/>
                  </a:lnTo>
                  <a:lnTo>
                    <a:pt x="52" y="293"/>
                  </a:lnTo>
                  <a:lnTo>
                    <a:pt x="49" y="289"/>
                  </a:lnTo>
                  <a:lnTo>
                    <a:pt x="46" y="285"/>
                  </a:lnTo>
                  <a:lnTo>
                    <a:pt x="43" y="282"/>
                  </a:lnTo>
                  <a:lnTo>
                    <a:pt x="43" y="431"/>
                  </a:lnTo>
                  <a:lnTo>
                    <a:pt x="0" y="431"/>
                  </a:lnTo>
                  <a:close/>
                  <a:moveTo>
                    <a:pt x="39" y="162"/>
                  </a:moveTo>
                  <a:lnTo>
                    <a:pt x="39" y="176"/>
                  </a:lnTo>
                  <a:lnTo>
                    <a:pt x="40" y="189"/>
                  </a:lnTo>
                  <a:lnTo>
                    <a:pt x="42" y="202"/>
                  </a:lnTo>
                  <a:lnTo>
                    <a:pt x="44" y="213"/>
                  </a:lnTo>
                  <a:lnTo>
                    <a:pt x="47" y="223"/>
                  </a:lnTo>
                  <a:lnTo>
                    <a:pt x="50" y="233"/>
                  </a:lnTo>
                  <a:lnTo>
                    <a:pt x="54" y="242"/>
                  </a:lnTo>
                  <a:lnTo>
                    <a:pt x="58" y="249"/>
                  </a:lnTo>
                  <a:lnTo>
                    <a:pt x="63" y="256"/>
                  </a:lnTo>
                  <a:lnTo>
                    <a:pt x="69" y="262"/>
                  </a:lnTo>
                  <a:lnTo>
                    <a:pt x="74" y="267"/>
                  </a:lnTo>
                  <a:lnTo>
                    <a:pt x="80" y="271"/>
                  </a:lnTo>
                  <a:lnTo>
                    <a:pt x="86" y="273"/>
                  </a:lnTo>
                  <a:lnTo>
                    <a:pt x="92" y="276"/>
                  </a:lnTo>
                  <a:lnTo>
                    <a:pt x="98" y="277"/>
                  </a:lnTo>
                  <a:lnTo>
                    <a:pt x="106" y="278"/>
                  </a:lnTo>
                  <a:lnTo>
                    <a:pt x="113" y="277"/>
                  </a:lnTo>
                  <a:lnTo>
                    <a:pt x="119" y="276"/>
                  </a:lnTo>
                  <a:lnTo>
                    <a:pt x="126" y="273"/>
                  </a:lnTo>
                  <a:lnTo>
                    <a:pt x="132" y="271"/>
                  </a:lnTo>
                  <a:lnTo>
                    <a:pt x="138" y="266"/>
                  </a:lnTo>
                  <a:lnTo>
                    <a:pt x="143" y="261"/>
                  </a:lnTo>
                  <a:lnTo>
                    <a:pt x="149" y="256"/>
                  </a:lnTo>
                  <a:lnTo>
                    <a:pt x="154" y="248"/>
                  </a:lnTo>
                  <a:lnTo>
                    <a:pt x="158" y="241"/>
                  </a:lnTo>
                  <a:lnTo>
                    <a:pt x="162" y="232"/>
                  </a:lnTo>
                  <a:lnTo>
                    <a:pt x="166" y="222"/>
                  </a:lnTo>
                  <a:lnTo>
                    <a:pt x="168" y="211"/>
                  </a:lnTo>
                  <a:lnTo>
                    <a:pt x="172" y="199"/>
                  </a:lnTo>
                  <a:lnTo>
                    <a:pt x="173" y="186"/>
                  </a:lnTo>
                  <a:lnTo>
                    <a:pt x="174" y="172"/>
                  </a:lnTo>
                  <a:lnTo>
                    <a:pt x="174" y="157"/>
                  </a:lnTo>
                  <a:lnTo>
                    <a:pt x="174" y="143"/>
                  </a:lnTo>
                  <a:lnTo>
                    <a:pt x="173" y="130"/>
                  </a:lnTo>
                  <a:lnTo>
                    <a:pt x="172" y="117"/>
                  </a:lnTo>
                  <a:lnTo>
                    <a:pt x="169" y="106"/>
                  </a:lnTo>
                  <a:lnTo>
                    <a:pt x="166" y="96"/>
                  </a:lnTo>
                  <a:lnTo>
                    <a:pt x="163" y="86"/>
                  </a:lnTo>
                  <a:lnTo>
                    <a:pt x="159" y="77"/>
                  </a:lnTo>
                  <a:lnTo>
                    <a:pt x="154" y="70"/>
                  </a:lnTo>
                  <a:lnTo>
                    <a:pt x="149" y="62"/>
                  </a:lnTo>
                  <a:lnTo>
                    <a:pt x="144" y="56"/>
                  </a:lnTo>
                  <a:lnTo>
                    <a:pt x="139" y="51"/>
                  </a:lnTo>
                  <a:lnTo>
                    <a:pt x="133" y="47"/>
                  </a:lnTo>
                  <a:lnTo>
                    <a:pt x="127" y="45"/>
                  </a:lnTo>
                  <a:lnTo>
                    <a:pt x="121" y="42"/>
                  </a:lnTo>
                  <a:lnTo>
                    <a:pt x="114" y="41"/>
                  </a:lnTo>
                  <a:lnTo>
                    <a:pt x="108" y="40"/>
                  </a:lnTo>
                  <a:lnTo>
                    <a:pt x="101" y="41"/>
                  </a:lnTo>
                  <a:lnTo>
                    <a:pt x="94" y="42"/>
                  </a:lnTo>
                  <a:lnTo>
                    <a:pt x="88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57"/>
                  </a:lnTo>
                  <a:lnTo>
                    <a:pt x="65" y="63"/>
                  </a:lnTo>
                  <a:lnTo>
                    <a:pt x="60" y="71"/>
                  </a:lnTo>
                  <a:lnTo>
                    <a:pt x="55" y="80"/>
                  </a:lnTo>
                  <a:lnTo>
                    <a:pt x="51" y="88"/>
                  </a:lnTo>
                  <a:lnTo>
                    <a:pt x="47" y="98"/>
                  </a:lnTo>
                  <a:lnTo>
                    <a:pt x="44" y="110"/>
                  </a:lnTo>
                  <a:lnTo>
                    <a:pt x="42" y="121"/>
                  </a:lnTo>
                  <a:lnTo>
                    <a:pt x="40" y="133"/>
                  </a:lnTo>
                  <a:lnTo>
                    <a:pt x="40" y="147"/>
                  </a:lnTo>
                  <a:lnTo>
                    <a:pt x="39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05960" y="2660040"/>
              <a:ext cx="34920" cy="60840"/>
            </a:xfrm>
            <a:custGeom>
              <a:avLst/>
              <a:gdLst/>
              <a:ahLst/>
              <a:rect l="l" t="t" r="r" b="b"/>
              <a:pathLst>
                <a:path w="136" h="313">
                  <a:moveTo>
                    <a:pt x="0" y="313"/>
                  </a:moveTo>
                  <a:lnTo>
                    <a:pt x="0" y="6"/>
                  </a:lnTo>
                  <a:lnTo>
                    <a:pt x="37" y="6"/>
                  </a:lnTo>
                  <a:lnTo>
                    <a:pt x="37" y="53"/>
                  </a:lnTo>
                  <a:lnTo>
                    <a:pt x="41" y="45"/>
                  </a:lnTo>
                  <a:lnTo>
                    <a:pt x="44" y="38"/>
                  </a:lnTo>
                  <a:lnTo>
                    <a:pt x="49" y="31"/>
                  </a:lnTo>
                  <a:lnTo>
                    <a:pt x="52" y="26"/>
                  </a:lnTo>
                  <a:lnTo>
                    <a:pt x="55" y="21"/>
                  </a:lnTo>
                  <a:lnTo>
                    <a:pt x="59" y="16"/>
                  </a:lnTo>
                  <a:lnTo>
                    <a:pt x="62" y="12"/>
                  </a:lnTo>
                  <a:lnTo>
                    <a:pt x="65" y="10"/>
                  </a:lnTo>
                  <a:lnTo>
                    <a:pt x="68" y="7"/>
                  </a:lnTo>
                  <a:lnTo>
                    <a:pt x="71" y="5"/>
                  </a:lnTo>
                  <a:lnTo>
                    <a:pt x="74" y="3"/>
                  </a:lnTo>
                  <a:lnTo>
                    <a:pt x="78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2"/>
                  </a:lnTo>
                  <a:lnTo>
                    <a:pt x="113" y="3"/>
                  </a:lnTo>
                  <a:lnTo>
                    <a:pt x="118" y="6"/>
                  </a:lnTo>
                  <a:lnTo>
                    <a:pt x="125" y="8"/>
                  </a:lnTo>
                  <a:lnTo>
                    <a:pt x="130" y="12"/>
                  </a:lnTo>
                  <a:lnTo>
                    <a:pt x="136" y="16"/>
                  </a:lnTo>
                  <a:lnTo>
                    <a:pt x="120" y="65"/>
                  </a:lnTo>
                  <a:lnTo>
                    <a:pt x="116" y="62"/>
                  </a:lnTo>
                  <a:lnTo>
                    <a:pt x="113" y="60"/>
                  </a:lnTo>
                  <a:lnTo>
                    <a:pt x="109" y="57"/>
                  </a:lnTo>
                  <a:lnTo>
                    <a:pt x="105" y="56"/>
                  </a:lnTo>
                  <a:lnTo>
                    <a:pt x="101" y="55"/>
                  </a:lnTo>
                  <a:lnTo>
                    <a:pt x="97" y="53"/>
                  </a:lnTo>
                  <a:lnTo>
                    <a:pt x="93" y="53"/>
                  </a:lnTo>
                  <a:lnTo>
                    <a:pt x="90" y="53"/>
                  </a:lnTo>
                  <a:lnTo>
                    <a:pt x="86" y="53"/>
                  </a:lnTo>
                  <a:lnTo>
                    <a:pt x="83" y="53"/>
                  </a:lnTo>
                  <a:lnTo>
                    <a:pt x="80" y="55"/>
                  </a:lnTo>
                  <a:lnTo>
                    <a:pt x="77" y="56"/>
                  </a:lnTo>
                  <a:lnTo>
                    <a:pt x="74" y="57"/>
                  </a:lnTo>
                  <a:lnTo>
                    <a:pt x="71" y="58"/>
                  </a:lnTo>
                  <a:lnTo>
                    <a:pt x="68" y="61"/>
                  </a:lnTo>
                  <a:lnTo>
                    <a:pt x="65" y="63"/>
                  </a:lnTo>
                  <a:lnTo>
                    <a:pt x="62" y="66"/>
                  </a:lnTo>
                  <a:lnTo>
                    <a:pt x="60" y="70"/>
                  </a:lnTo>
                  <a:lnTo>
                    <a:pt x="58" y="72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2" y="83"/>
                  </a:lnTo>
                  <a:lnTo>
                    <a:pt x="51" y="87"/>
                  </a:lnTo>
                  <a:lnTo>
                    <a:pt x="50" y="92"/>
                  </a:lnTo>
                  <a:lnTo>
                    <a:pt x="47" y="98"/>
                  </a:lnTo>
                  <a:lnTo>
                    <a:pt x="45" y="106"/>
                  </a:lnTo>
                  <a:lnTo>
                    <a:pt x="44" y="113"/>
                  </a:lnTo>
                  <a:lnTo>
                    <a:pt x="43" y="121"/>
                  </a:lnTo>
                  <a:lnTo>
                    <a:pt x="43" y="128"/>
                  </a:lnTo>
                  <a:lnTo>
                    <a:pt x="42" y="137"/>
                  </a:lnTo>
                  <a:lnTo>
                    <a:pt x="42" y="144"/>
                  </a:lnTo>
                  <a:lnTo>
                    <a:pt x="42" y="152"/>
                  </a:lnTo>
                  <a:lnTo>
                    <a:pt x="42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43400" y="2660040"/>
              <a:ext cx="60840" cy="62280"/>
            </a:xfrm>
            <a:custGeom>
              <a:avLst/>
              <a:gdLst/>
              <a:ahLst/>
              <a:rect l="l" t="t" r="r" b="b"/>
              <a:pathLst>
                <a:path w="233" h="320">
                  <a:moveTo>
                    <a:pt x="0" y="159"/>
                  </a:moveTo>
                  <a:lnTo>
                    <a:pt x="0" y="139"/>
                  </a:lnTo>
                  <a:lnTo>
                    <a:pt x="2" y="120"/>
                  </a:lnTo>
                  <a:lnTo>
                    <a:pt x="5" y="102"/>
                  </a:lnTo>
                  <a:lnTo>
                    <a:pt x="9" y="86"/>
                  </a:lnTo>
                  <a:lnTo>
                    <a:pt x="15" y="71"/>
                  </a:lnTo>
                  <a:lnTo>
                    <a:pt x="21" y="57"/>
                  </a:lnTo>
                  <a:lnTo>
                    <a:pt x="29" y="45"/>
                  </a:lnTo>
                  <a:lnTo>
                    <a:pt x="38" y="33"/>
                  </a:lnTo>
                  <a:lnTo>
                    <a:pt x="46" y="26"/>
                  </a:lnTo>
                  <a:lnTo>
                    <a:pt x="56" y="18"/>
                  </a:lnTo>
                  <a:lnTo>
                    <a:pt x="65" y="12"/>
                  </a:lnTo>
                  <a:lnTo>
                    <a:pt x="74" y="7"/>
                  </a:lnTo>
                  <a:lnTo>
                    <a:pt x="84" y="5"/>
                  </a:lnTo>
                  <a:lnTo>
                    <a:pt x="94" y="1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1" y="2"/>
                  </a:lnTo>
                  <a:lnTo>
                    <a:pt x="153" y="5"/>
                  </a:lnTo>
                  <a:lnTo>
                    <a:pt x="163" y="10"/>
                  </a:lnTo>
                  <a:lnTo>
                    <a:pt x="173" y="16"/>
                  </a:lnTo>
                  <a:lnTo>
                    <a:pt x="183" y="22"/>
                  </a:lnTo>
                  <a:lnTo>
                    <a:pt x="192" y="31"/>
                  </a:lnTo>
                  <a:lnTo>
                    <a:pt x="201" y="41"/>
                  </a:lnTo>
                  <a:lnTo>
                    <a:pt x="209" y="52"/>
                  </a:lnTo>
                  <a:lnTo>
                    <a:pt x="215" y="63"/>
                  </a:lnTo>
                  <a:lnTo>
                    <a:pt x="221" y="76"/>
                  </a:lnTo>
                  <a:lnTo>
                    <a:pt x="225" y="91"/>
                  </a:lnTo>
                  <a:lnTo>
                    <a:pt x="229" y="105"/>
                  </a:lnTo>
                  <a:lnTo>
                    <a:pt x="231" y="121"/>
                  </a:lnTo>
                  <a:lnTo>
                    <a:pt x="233" y="138"/>
                  </a:lnTo>
                  <a:lnTo>
                    <a:pt x="233" y="156"/>
                  </a:lnTo>
                  <a:lnTo>
                    <a:pt x="233" y="169"/>
                  </a:lnTo>
                  <a:lnTo>
                    <a:pt x="232" y="183"/>
                  </a:lnTo>
                  <a:lnTo>
                    <a:pt x="231" y="197"/>
                  </a:lnTo>
                  <a:lnTo>
                    <a:pt x="230" y="208"/>
                  </a:lnTo>
                  <a:lnTo>
                    <a:pt x="228" y="219"/>
                  </a:lnTo>
                  <a:lnTo>
                    <a:pt x="225" y="231"/>
                  </a:lnTo>
                  <a:lnTo>
                    <a:pt x="222" y="239"/>
                  </a:lnTo>
                  <a:lnTo>
                    <a:pt x="219" y="249"/>
                  </a:lnTo>
                  <a:lnTo>
                    <a:pt x="215" y="257"/>
                  </a:lnTo>
                  <a:lnTo>
                    <a:pt x="211" y="264"/>
                  </a:lnTo>
                  <a:lnTo>
                    <a:pt x="207" y="272"/>
                  </a:lnTo>
                  <a:lnTo>
                    <a:pt x="202" y="279"/>
                  </a:lnTo>
                  <a:lnTo>
                    <a:pt x="196" y="285"/>
                  </a:lnTo>
                  <a:lnTo>
                    <a:pt x="189" y="292"/>
                  </a:lnTo>
                  <a:lnTo>
                    <a:pt x="183" y="297"/>
                  </a:lnTo>
                  <a:lnTo>
                    <a:pt x="177" y="302"/>
                  </a:lnTo>
                  <a:lnTo>
                    <a:pt x="170" y="305"/>
                  </a:lnTo>
                  <a:lnTo>
                    <a:pt x="163" y="309"/>
                  </a:lnTo>
                  <a:lnTo>
                    <a:pt x="156" y="313"/>
                  </a:lnTo>
                  <a:lnTo>
                    <a:pt x="148" y="315"/>
                  </a:lnTo>
                  <a:lnTo>
                    <a:pt x="141" y="318"/>
                  </a:lnTo>
                  <a:lnTo>
                    <a:pt x="133" y="319"/>
                  </a:lnTo>
                  <a:lnTo>
                    <a:pt x="125" y="320"/>
                  </a:lnTo>
                  <a:lnTo>
                    <a:pt x="116" y="320"/>
                  </a:lnTo>
                  <a:lnTo>
                    <a:pt x="104" y="319"/>
                  </a:lnTo>
                  <a:lnTo>
                    <a:pt x="92" y="318"/>
                  </a:lnTo>
                  <a:lnTo>
                    <a:pt x="80" y="314"/>
                  </a:lnTo>
                  <a:lnTo>
                    <a:pt x="69" y="310"/>
                  </a:lnTo>
                  <a:lnTo>
                    <a:pt x="59" y="304"/>
                  </a:lnTo>
                  <a:lnTo>
                    <a:pt x="50" y="297"/>
                  </a:lnTo>
                  <a:lnTo>
                    <a:pt x="40" y="288"/>
                  </a:lnTo>
                  <a:lnTo>
                    <a:pt x="32" y="279"/>
                  </a:lnTo>
                  <a:lnTo>
                    <a:pt x="24" y="268"/>
                  </a:lnTo>
                  <a:lnTo>
                    <a:pt x="18" y="256"/>
                  </a:lnTo>
                  <a:lnTo>
                    <a:pt x="12" y="243"/>
                  </a:lnTo>
                  <a:lnTo>
                    <a:pt x="8" y="228"/>
                  </a:lnTo>
                  <a:lnTo>
                    <a:pt x="4" y="213"/>
                  </a:lnTo>
                  <a:lnTo>
                    <a:pt x="2" y="197"/>
                  </a:lnTo>
                  <a:lnTo>
                    <a:pt x="0" y="178"/>
                  </a:lnTo>
                  <a:lnTo>
                    <a:pt x="0" y="159"/>
                  </a:lnTo>
                  <a:close/>
                  <a:moveTo>
                    <a:pt x="43" y="159"/>
                  </a:moveTo>
                  <a:lnTo>
                    <a:pt x="43" y="174"/>
                  </a:lnTo>
                  <a:lnTo>
                    <a:pt x="44" y="187"/>
                  </a:lnTo>
                  <a:lnTo>
                    <a:pt x="46" y="199"/>
                  </a:lnTo>
                  <a:lnTo>
                    <a:pt x="49" y="212"/>
                  </a:lnTo>
                  <a:lnTo>
                    <a:pt x="52" y="222"/>
                  </a:lnTo>
                  <a:lnTo>
                    <a:pt x="55" y="232"/>
                  </a:lnTo>
                  <a:lnTo>
                    <a:pt x="59" y="241"/>
                  </a:lnTo>
                  <a:lnTo>
                    <a:pt x="64" y="248"/>
                  </a:lnTo>
                  <a:lnTo>
                    <a:pt x="70" y="256"/>
                  </a:lnTo>
                  <a:lnTo>
                    <a:pt x="75" y="261"/>
                  </a:lnTo>
                  <a:lnTo>
                    <a:pt x="81" y="266"/>
                  </a:lnTo>
                  <a:lnTo>
                    <a:pt x="88" y="271"/>
                  </a:lnTo>
                  <a:lnTo>
                    <a:pt x="94" y="273"/>
                  </a:lnTo>
                  <a:lnTo>
                    <a:pt x="101" y="276"/>
                  </a:lnTo>
                  <a:lnTo>
                    <a:pt x="109" y="277"/>
                  </a:lnTo>
                  <a:lnTo>
                    <a:pt x="116" y="278"/>
                  </a:lnTo>
                  <a:lnTo>
                    <a:pt x="125" y="277"/>
                  </a:lnTo>
                  <a:lnTo>
                    <a:pt x="132" y="276"/>
                  </a:lnTo>
                  <a:lnTo>
                    <a:pt x="139" y="273"/>
                  </a:lnTo>
                  <a:lnTo>
                    <a:pt x="146" y="271"/>
                  </a:lnTo>
                  <a:lnTo>
                    <a:pt x="152" y="266"/>
                  </a:lnTo>
                  <a:lnTo>
                    <a:pt x="158" y="261"/>
                  </a:lnTo>
                  <a:lnTo>
                    <a:pt x="164" y="256"/>
                  </a:lnTo>
                  <a:lnTo>
                    <a:pt x="169" y="248"/>
                  </a:lnTo>
                  <a:lnTo>
                    <a:pt x="174" y="241"/>
                  </a:lnTo>
                  <a:lnTo>
                    <a:pt x="178" y="232"/>
                  </a:lnTo>
                  <a:lnTo>
                    <a:pt x="181" y="222"/>
                  </a:lnTo>
                  <a:lnTo>
                    <a:pt x="184" y="211"/>
                  </a:lnTo>
                  <a:lnTo>
                    <a:pt x="187" y="199"/>
                  </a:lnTo>
                  <a:lnTo>
                    <a:pt x="188" y="187"/>
                  </a:lnTo>
                  <a:lnTo>
                    <a:pt x="189" y="173"/>
                  </a:lnTo>
                  <a:lnTo>
                    <a:pt x="189" y="158"/>
                  </a:lnTo>
                  <a:lnTo>
                    <a:pt x="189" y="144"/>
                  </a:lnTo>
                  <a:lnTo>
                    <a:pt x="188" y="131"/>
                  </a:lnTo>
                  <a:lnTo>
                    <a:pt x="187" y="120"/>
                  </a:lnTo>
                  <a:lnTo>
                    <a:pt x="184" y="108"/>
                  </a:lnTo>
                  <a:lnTo>
                    <a:pt x="181" y="97"/>
                  </a:lnTo>
                  <a:lnTo>
                    <a:pt x="178" y="88"/>
                  </a:lnTo>
                  <a:lnTo>
                    <a:pt x="174" y="80"/>
                  </a:lnTo>
                  <a:lnTo>
                    <a:pt x="169" y="72"/>
                  </a:lnTo>
                  <a:lnTo>
                    <a:pt x="163" y="65"/>
                  </a:lnTo>
                  <a:lnTo>
                    <a:pt x="158" y="58"/>
                  </a:lnTo>
                  <a:lnTo>
                    <a:pt x="152" y="53"/>
                  </a:lnTo>
                  <a:lnTo>
                    <a:pt x="145" y="50"/>
                  </a:lnTo>
                  <a:lnTo>
                    <a:pt x="139" y="47"/>
                  </a:lnTo>
                  <a:lnTo>
                    <a:pt x="132" y="45"/>
                  </a:lnTo>
                  <a:lnTo>
                    <a:pt x="125" y="43"/>
                  </a:lnTo>
                  <a:lnTo>
                    <a:pt x="116" y="42"/>
                  </a:lnTo>
                  <a:lnTo>
                    <a:pt x="109" y="43"/>
                  </a:lnTo>
                  <a:lnTo>
                    <a:pt x="101" y="45"/>
                  </a:lnTo>
                  <a:lnTo>
                    <a:pt x="94" y="47"/>
                  </a:lnTo>
                  <a:lnTo>
                    <a:pt x="88" y="50"/>
                  </a:lnTo>
                  <a:lnTo>
                    <a:pt x="81" y="53"/>
                  </a:lnTo>
                  <a:lnTo>
                    <a:pt x="75" y="58"/>
                  </a:lnTo>
                  <a:lnTo>
                    <a:pt x="70" y="65"/>
                  </a:lnTo>
                  <a:lnTo>
                    <a:pt x="64" y="72"/>
                  </a:lnTo>
                  <a:lnTo>
                    <a:pt x="59" y="80"/>
                  </a:lnTo>
                  <a:lnTo>
                    <a:pt x="55" y="88"/>
                  </a:lnTo>
                  <a:lnTo>
                    <a:pt x="52" y="98"/>
                  </a:lnTo>
                  <a:lnTo>
                    <a:pt x="49" y="108"/>
                  </a:lnTo>
                  <a:lnTo>
                    <a:pt x="46" y="120"/>
                  </a:lnTo>
                  <a:lnTo>
                    <a:pt x="44" y="132"/>
                  </a:lnTo>
                  <a:lnTo>
                    <a:pt x="43" y="146"/>
                  </a:lnTo>
                  <a:lnTo>
                    <a:pt x="43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10360" y="2660760"/>
              <a:ext cx="60120" cy="59760"/>
            </a:xfrm>
            <a:custGeom>
              <a:avLst/>
              <a:gdLst/>
              <a:ahLst/>
              <a:rect l="l" t="t" r="r" b="b"/>
              <a:pathLst>
                <a:path w="230" h="307">
                  <a:moveTo>
                    <a:pt x="96" y="307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99" y="185"/>
                  </a:lnTo>
                  <a:lnTo>
                    <a:pt x="101" y="192"/>
                  </a:lnTo>
                  <a:lnTo>
                    <a:pt x="103" y="200"/>
                  </a:lnTo>
                  <a:lnTo>
                    <a:pt x="105" y="207"/>
                  </a:lnTo>
                  <a:lnTo>
                    <a:pt x="107" y="215"/>
                  </a:lnTo>
                  <a:lnTo>
                    <a:pt x="109" y="222"/>
                  </a:lnTo>
                  <a:lnTo>
                    <a:pt x="111" y="230"/>
                  </a:lnTo>
                  <a:lnTo>
                    <a:pt x="113" y="238"/>
                  </a:lnTo>
                  <a:lnTo>
                    <a:pt x="115" y="246"/>
                  </a:lnTo>
                  <a:lnTo>
                    <a:pt x="116" y="240"/>
                  </a:lnTo>
                  <a:lnTo>
                    <a:pt x="118" y="233"/>
                  </a:lnTo>
                  <a:lnTo>
                    <a:pt x="119" y="227"/>
                  </a:lnTo>
                  <a:lnTo>
                    <a:pt x="121" y="220"/>
                  </a:lnTo>
                  <a:lnTo>
                    <a:pt x="123" y="212"/>
                  </a:lnTo>
                  <a:lnTo>
                    <a:pt x="125" y="205"/>
                  </a:lnTo>
                  <a:lnTo>
                    <a:pt x="128" y="196"/>
                  </a:lnTo>
                  <a:lnTo>
                    <a:pt x="130" y="187"/>
                  </a:lnTo>
                  <a:lnTo>
                    <a:pt x="186" y="0"/>
                  </a:lnTo>
                  <a:lnTo>
                    <a:pt x="230" y="0"/>
                  </a:lnTo>
                  <a:lnTo>
                    <a:pt x="134" y="307"/>
                  </a:lnTo>
                  <a:lnTo>
                    <a:pt x="96" y="3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73720" y="2710080"/>
              <a:ext cx="12240" cy="104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36000" y="2638080"/>
              <a:ext cx="56160" cy="83880"/>
            </a:xfrm>
            <a:custGeom>
              <a:avLst/>
              <a:gdLst/>
              <a:ahLst/>
              <a:rect l="l" t="t" r="r" b="b"/>
              <a:pathLst>
                <a:path w="217" h="430">
                  <a:moveTo>
                    <a:pt x="178" y="423"/>
                  </a:moveTo>
                  <a:lnTo>
                    <a:pt x="178" y="384"/>
                  </a:lnTo>
                  <a:lnTo>
                    <a:pt x="171" y="395"/>
                  </a:lnTo>
                  <a:lnTo>
                    <a:pt x="164" y="404"/>
                  </a:lnTo>
                  <a:lnTo>
                    <a:pt x="156" y="413"/>
                  </a:lnTo>
                  <a:lnTo>
                    <a:pt x="148" y="419"/>
                  </a:lnTo>
                  <a:lnTo>
                    <a:pt x="139" y="424"/>
                  </a:lnTo>
                  <a:lnTo>
                    <a:pt x="129" y="428"/>
                  </a:lnTo>
                  <a:lnTo>
                    <a:pt x="119" y="429"/>
                  </a:lnTo>
                  <a:lnTo>
                    <a:pt x="108" y="430"/>
                  </a:lnTo>
                  <a:lnTo>
                    <a:pt x="100" y="430"/>
                  </a:lnTo>
                  <a:lnTo>
                    <a:pt x="93" y="429"/>
                  </a:lnTo>
                  <a:lnTo>
                    <a:pt x="86" y="428"/>
                  </a:lnTo>
                  <a:lnTo>
                    <a:pt x="79" y="425"/>
                  </a:lnTo>
                  <a:lnTo>
                    <a:pt x="72" y="423"/>
                  </a:lnTo>
                  <a:lnTo>
                    <a:pt x="66" y="419"/>
                  </a:lnTo>
                  <a:lnTo>
                    <a:pt x="59" y="414"/>
                  </a:lnTo>
                  <a:lnTo>
                    <a:pt x="53" y="410"/>
                  </a:lnTo>
                  <a:lnTo>
                    <a:pt x="47" y="404"/>
                  </a:lnTo>
                  <a:lnTo>
                    <a:pt x="41" y="399"/>
                  </a:lnTo>
                  <a:lnTo>
                    <a:pt x="36" y="393"/>
                  </a:lnTo>
                  <a:lnTo>
                    <a:pt x="30" y="386"/>
                  </a:lnTo>
                  <a:lnTo>
                    <a:pt x="25" y="378"/>
                  </a:lnTo>
                  <a:lnTo>
                    <a:pt x="21" y="371"/>
                  </a:lnTo>
                  <a:lnTo>
                    <a:pt x="17" y="362"/>
                  </a:lnTo>
                  <a:lnTo>
                    <a:pt x="14" y="353"/>
                  </a:lnTo>
                  <a:lnTo>
                    <a:pt x="10" y="344"/>
                  </a:lnTo>
                  <a:lnTo>
                    <a:pt x="8" y="334"/>
                  </a:lnTo>
                  <a:lnTo>
                    <a:pt x="5" y="324"/>
                  </a:lnTo>
                  <a:lnTo>
                    <a:pt x="3" y="314"/>
                  </a:lnTo>
                  <a:lnTo>
                    <a:pt x="2" y="304"/>
                  </a:lnTo>
                  <a:lnTo>
                    <a:pt x="1" y="293"/>
                  </a:lnTo>
                  <a:lnTo>
                    <a:pt x="0" y="282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1" y="248"/>
                  </a:lnTo>
                  <a:lnTo>
                    <a:pt x="2" y="237"/>
                  </a:lnTo>
                  <a:lnTo>
                    <a:pt x="3" y="226"/>
                  </a:lnTo>
                  <a:lnTo>
                    <a:pt x="5" y="216"/>
                  </a:lnTo>
                  <a:lnTo>
                    <a:pt x="7" y="206"/>
                  </a:lnTo>
                  <a:lnTo>
                    <a:pt x="9" y="196"/>
                  </a:lnTo>
                  <a:lnTo>
                    <a:pt x="12" y="187"/>
                  </a:lnTo>
                  <a:lnTo>
                    <a:pt x="16" y="177"/>
                  </a:lnTo>
                  <a:lnTo>
                    <a:pt x="19" y="170"/>
                  </a:lnTo>
                  <a:lnTo>
                    <a:pt x="23" y="161"/>
                  </a:lnTo>
                  <a:lnTo>
                    <a:pt x="28" y="153"/>
                  </a:lnTo>
                  <a:lnTo>
                    <a:pt x="34" y="147"/>
                  </a:lnTo>
                  <a:lnTo>
                    <a:pt x="39" y="141"/>
                  </a:lnTo>
                  <a:lnTo>
                    <a:pt x="44" y="135"/>
                  </a:lnTo>
                  <a:lnTo>
                    <a:pt x="50" y="130"/>
                  </a:lnTo>
                  <a:lnTo>
                    <a:pt x="56" y="125"/>
                  </a:lnTo>
                  <a:lnTo>
                    <a:pt x="63" y="121"/>
                  </a:lnTo>
                  <a:lnTo>
                    <a:pt x="69" y="117"/>
                  </a:lnTo>
                  <a:lnTo>
                    <a:pt x="76" y="115"/>
                  </a:lnTo>
                  <a:lnTo>
                    <a:pt x="83" y="112"/>
                  </a:lnTo>
                  <a:lnTo>
                    <a:pt x="90" y="111"/>
                  </a:lnTo>
                  <a:lnTo>
                    <a:pt x="98" y="110"/>
                  </a:lnTo>
                  <a:lnTo>
                    <a:pt x="106" y="110"/>
                  </a:lnTo>
                  <a:lnTo>
                    <a:pt x="112" y="110"/>
                  </a:lnTo>
                  <a:lnTo>
                    <a:pt x="117" y="110"/>
                  </a:lnTo>
                  <a:lnTo>
                    <a:pt x="122" y="111"/>
                  </a:lnTo>
                  <a:lnTo>
                    <a:pt x="127" y="112"/>
                  </a:lnTo>
                  <a:lnTo>
                    <a:pt x="132" y="113"/>
                  </a:lnTo>
                  <a:lnTo>
                    <a:pt x="137" y="116"/>
                  </a:lnTo>
                  <a:lnTo>
                    <a:pt x="141" y="118"/>
                  </a:lnTo>
                  <a:lnTo>
                    <a:pt x="146" y="121"/>
                  </a:lnTo>
                  <a:lnTo>
                    <a:pt x="150" y="123"/>
                  </a:lnTo>
                  <a:lnTo>
                    <a:pt x="154" y="127"/>
                  </a:lnTo>
                  <a:lnTo>
                    <a:pt x="158" y="131"/>
                  </a:lnTo>
                  <a:lnTo>
                    <a:pt x="162" y="135"/>
                  </a:lnTo>
                  <a:lnTo>
                    <a:pt x="165" y="138"/>
                  </a:lnTo>
                  <a:lnTo>
                    <a:pt x="168" y="142"/>
                  </a:lnTo>
                  <a:lnTo>
                    <a:pt x="171" y="147"/>
                  </a:lnTo>
                  <a:lnTo>
                    <a:pt x="174" y="151"/>
                  </a:lnTo>
                  <a:lnTo>
                    <a:pt x="174" y="0"/>
                  </a:lnTo>
                  <a:lnTo>
                    <a:pt x="217" y="0"/>
                  </a:lnTo>
                  <a:lnTo>
                    <a:pt x="217" y="423"/>
                  </a:lnTo>
                  <a:lnTo>
                    <a:pt x="178" y="423"/>
                  </a:lnTo>
                  <a:close/>
                  <a:moveTo>
                    <a:pt x="44" y="269"/>
                  </a:moveTo>
                  <a:lnTo>
                    <a:pt x="44" y="284"/>
                  </a:lnTo>
                  <a:lnTo>
                    <a:pt x="45" y="298"/>
                  </a:lnTo>
                  <a:lnTo>
                    <a:pt x="47" y="311"/>
                  </a:lnTo>
                  <a:lnTo>
                    <a:pt x="49" y="322"/>
                  </a:lnTo>
                  <a:lnTo>
                    <a:pt x="52" y="332"/>
                  </a:lnTo>
                  <a:lnTo>
                    <a:pt x="55" y="342"/>
                  </a:lnTo>
                  <a:lnTo>
                    <a:pt x="59" y="351"/>
                  </a:lnTo>
                  <a:lnTo>
                    <a:pt x="64" y="358"/>
                  </a:lnTo>
                  <a:lnTo>
                    <a:pt x="69" y="366"/>
                  </a:lnTo>
                  <a:lnTo>
                    <a:pt x="74" y="371"/>
                  </a:lnTo>
                  <a:lnTo>
                    <a:pt x="80" y="376"/>
                  </a:lnTo>
                  <a:lnTo>
                    <a:pt x="86" y="381"/>
                  </a:lnTo>
                  <a:lnTo>
                    <a:pt x="92" y="383"/>
                  </a:lnTo>
                  <a:lnTo>
                    <a:pt x="98" y="386"/>
                  </a:lnTo>
                  <a:lnTo>
                    <a:pt x="104" y="387"/>
                  </a:lnTo>
                  <a:lnTo>
                    <a:pt x="112" y="388"/>
                  </a:lnTo>
                  <a:lnTo>
                    <a:pt x="119" y="387"/>
                  </a:lnTo>
                  <a:lnTo>
                    <a:pt x="125" y="386"/>
                  </a:lnTo>
                  <a:lnTo>
                    <a:pt x="131" y="383"/>
                  </a:lnTo>
                  <a:lnTo>
                    <a:pt x="137" y="381"/>
                  </a:lnTo>
                  <a:lnTo>
                    <a:pt x="143" y="377"/>
                  </a:lnTo>
                  <a:lnTo>
                    <a:pt x="148" y="372"/>
                  </a:lnTo>
                  <a:lnTo>
                    <a:pt x="153" y="366"/>
                  </a:lnTo>
                  <a:lnTo>
                    <a:pt x="158" y="359"/>
                  </a:lnTo>
                  <a:lnTo>
                    <a:pt x="163" y="352"/>
                  </a:lnTo>
                  <a:lnTo>
                    <a:pt x="167" y="344"/>
                  </a:lnTo>
                  <a:lnTo>
                    <a:pt x="170" y="334"/>
                  </a:lnTo>
                  <a:lnTo>
                    <a:pt x="173" y="324"/>
                  </a:lnTo>
                  <a:lnTo>
                    <a:pt x="175" y="313"/>
                  </a:lnTo>
                  <a:lnTo>
                    <a:pt x="176" y="301"/>
                  </a:lnTo>
                  <a:lnTo>
                    <a:pt x="178" y="288"/>
                  </a:lnTo>
                  <a:lnTo>
                    <a:pt x="179" y="274"/>
                  </a:lnTo>
                  <a:lnTo>
                    <a:pt x="178" y="259"/>
                  </a:lnTo>
                  <a:lnTo>
                    <a:pt x="176" y="244"/>
                  </a:lnTo>
                  <a:lnTo>
                    <a:pt x="175" y="232"/>
                  </a:lnTo>
                  <a:lnTo>
                    <a:pt x="173" y="220"/>
                  </a:lnTo>
                  <a:lnTo>
                    <a:pt x="170" y="208"/>
                  </a:lnTo>
                  <a:lnTo>
                    <a:pt x="167" y="198"/>
                  </a:lnTo>
                  <a:lnTo>
                    <a:pt x="163" y="190"/>
                  </a:lnTo>
                  <a:lnTo>
                    <a:pt x="158" y="182"/>
                  </a:lnTo>
                  <a:lnTo>
                    <a:pt x="153" y="175"/>
                  </a:lnTo>
                  <a:lnTo>
                    <a:pt x="148" y="168"/>
                  </a:lnTo>
                  <a:lnTo>
                    <a:pt x="142" y="163"/>
                  </a:lnTo>
                  <a:lnTo>
                    <a:pt x="136" y="160"/>
                  </a:lnTo>
                  <a:lnTo>
                    <a:pt x="130" y="157"/>
                  </a:lnTo>
                  <a:lnTo>
                    <a:pt x="124" y="155"/>
                  </a:lnTo>
                  <a:lnTo>
                    <a:pt x="117" y="153"/>
                  </a:lnTo>
                  <a:lnTo>
                    <a:pt x="110" y="152"/>
                  </a:lnTo>
                  <a:lnTo>
                    <a:pt x="102" y="153"/>
                  </a:lnTo>
                  <a:lnTo>
                    <a:pt x="96" y="155"/>
                  </a:lnTo>
                  <a:lnTo>
                    <a:pt x="90" y="156"/>
                  </a:lnTo>
                  <a:lnTo>
                    <a:pt x="84" y="160"/>
                  </a:lnTo>
                  <a:lnTo>
                    <a:pt x="78" y="163"/>
                  </a:lnTo>
                  <a:lnTo>
                    <a:pt x="73" y="168"/>
                  </a:lnTo>
                  <a:lnTo>
                    <a:pt x="67" y="175"/>
                  </a:lnTo>
                  <a:lnTo>
                    <a:pt x="63" y="181"/>
                  </a:lnTo>
                  <a:lnTo>
                    <a:pt x="58" y="188"/>
                  </a:lnTo>
                  <a:lnTo>
                    <a:pt x="54" y="197"/>
                  </a:lnTo>
                  <a:lnTo>
                    <a:pt x="51" y="207"/>
                  </a:lnTo>
                  <a:lnTo>
                    <a:pt x="49" y="217"/>
                  </a:lnTo>
                  <a:lnTo>
                    <a:pt x="47" y="230"/>
                  </a:lnTo>
                  <a:lnTo>
                    <a:pt x="45" y="242"/>
                  </a:lnTo>
                  <a:lnTo>
                    <a:pt x="44" y="256"/>
                  </a:lnTo>
                  <a:lnTo>
                    <a:pt x="44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6200" y="2660040"/>
              <a:ext cx="59040" cy="62280"/>
            </a:xfrm>
            <a:custGeom>
              <a:avLst/>
              <a:gdLst/>
              <a:ahLst/>
              <a:rect l="l" t="t" r="r" b="b"/>
              <a:pathLst>
                <a:path w="230" h="320">
                  <a:moveTo>
                    <a:pt x="177" y="276"/>
                  </a:moveTo>
                  <a:lnTo>
                    <a:pt x="171" y="282"/>
                  </a:lnTo>
                  <a:lnTo>
                    <a:pt x="165" y="287"/>
                  </a:lnTo>
                  <a:lnTo>
                    <a:pt x="159" y="292"/>
                  </a:lnTo>
                  <a:lnTo>
                    <a:pt x="154" y="297"/>
                  </a:lnTo>
                  <a:lnTo>
                    <a:pt x="148" y="300"/>
                  </a:lnTo>
                  <a:lnTo>
                    <a:pt x="143" y="304"/>
                  </a:lnTo>
                  <a:lnTo>
                    <a:pt x="137" y="308"/>
                  </a:lnTo>
                  <a:lnTo>
                    <a:pt x="132" y="310"/>
                  </a:lnTo>
                  <a:lnTo>
                    <a:pt x="127" y="313"/>
                  </a:lnTo>
                  <a:lnTo>
                    <a:pt x="120" y="314"/>
                  </a:lnTo>
                  <a:lnTo>
                    <a:pt x="114" y="317"/>
                  </a:lnTo>
                  <a:lnTo>
                    <a:pt x="109" y="318"/>
                  </a:lnTo>
                  <a:lnTo>
                    <a:pt x="103" y="319"/>
                  </a:lnTo>
                  <a:lnTo>
                    <a:pt x="97" y="319"/>
                  </a:lnTo>
                  <a:lnTo>
                    <a:pt x="91" y="320"/>
                  </a:lnTo>
                  <a:lnTo>
                    <a:pt x="85" y="320"/>
                  </a:lnTo>
                  <a:lnTo>
                    <a:pt x="75" y="320"/>
                  </a:lnTo>
                  <a:lnTo>
                    <a:pt x="66" y="319"/>
                  </a:lnTo>
                  <a:lnTo>
                    <a:pt x="57" y="317"/>
                  </a:lnTo>
                  <a:lnTo>
                    <a:pt x="48" y="314"/>
                  </a:lnTo>
                  <a:lnTo>
                    <a:pt x="41" y="310"/>
                  </a:lnTo>
                  <a:lnTo>
                    <a:pt x="34" y="307"/>
                  </a:lnTo>
                  <a:lnTo>
                    <a:pt x="27" y="302"/>
                  </a:lnTo>
                  <a:lnTo>
                    <a:pt x="22" y="295"/>
                  </a:lnTo>
                  <a:lnTo>
                    <a:pt x="17" y="289"/>
                  </a:lnTo>
                  <a:lnTo>
                    <a:pt x="12" y="282"/>
                  </a:lnTo>
                  <a:lnTo>
                    <a:pt x="8" y="276"/>
                  </a:lnTo>
                  <a:lnTo>
                    <a:pt x="5" y="268"/>
                  </a:lnTo>
                  <a:lnTo>
                    <a:pt x="3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22"/>
                  </a:lnTo>
                  <a:lnTo>
                    <a:pt x="1" y="216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5" y="201"/>
                  </a:lnTo>
                  <a:lnTo>
                    <a:pt x="6" y="196"/>
                  </a:lnTo>
                  <a:lnTo>
                    <a:pt x="8" y="191"/>
                  </a:lnTo>
                  <a:lnTo>
                    <a:pt x="10" y="187"/>
                  </a:lnTo>
                  <a:lnTo>
                    <a:pt x="13" y="182"/>
                  </a:lnTo>
                  <a:lnTo>
                    <a:pt x="15" y="178"/>
                  </a:lnTo>
                  <a:lnTo>
                    <a:pt x="18" y="174"/>
                  </a:lnTo>
                  <a:lnTo>
                    <a:pt x="20" y="171"/>
                  </a:lnTo>
                  <a:lnTo>
                    <a:pt x="23" y="167"/>
                  </a:lnTo>
                  <a:lnTo>
                    <a:pt x="26" y="164"/>
                  </a:lnTo>
                  <a:lnTo>
                    <a:pt x="30" y="161"/>
                  </a:lnTo>
                  <a:lnTo>
                    <a:pt x="33" y="158"/>
                  </a:lnTo>
                  <a:lnTo>
                    <a:pt x="37" y="156"/>
                  </a:lnTo>
                  <a:lnTo>
                    <a:pt x="40" y="153"/>
                  </a:lnTo>
                  <a:lnTo>
                    <a:pt x="44" y="151"/>
                  </a:lnTo>
                  <a:lnTo>
                    <a:pt x="48" y="149"/>
                  </a:lnTo>
                  <a:lnTo>
                    <a:pt x="52" y="147"/>
                  </a:lnTo>
                  <a:lnTo>
                    <a:pt x="57" y="146"/>
                  </a:lnTo>
                  <a:lnTo>
                    <a:pt x="61" y="144"/>
                  </a:lnTo>
                  <a:lnTo>
                    <a:pt x="64" y="143"/>
                  </a:lnTo>
                  <a:lnTo>
                    <a:pt x="68" y="142"/>
                  </a:lnTo>
                  <a:lnTo>
                    <a:pt x="72" y="141"/>
                  </a:lnTo>
                  <a:lnTo>
                    <a:pt x="76" y="141"/>
                  </a:lnTo>
                  <a:lnTo>
                    <a:pt x="81" y="139"/>
                  </a:lnTo>
                  <a:lnTo>
                    <a:pt x="86" y="138"/>
                  </a:lnTo>
                  <a:lnTo>
                    <a:pt x="92" y="137"/>
                  </a:lnTo>
                  <a:lnTo>
                    <a:pt x="98" y="136"/>
                  </a:lnTo>
                  <a:lnTo>
                    <a:pt x="110" y="134"/>
                  </a:lnTo>
                  <a:lnTo>
                    <a:pt x="121" y="132"/>
                  </a:lnTo>
                  <a:lnTo>
                    <a:pt x="133" y="131"/>
                  </a:lnTo>
                  <a:lnTo>
                    <a:pt x="143" y="128"/>
                  </a:lnTo>
                  <a:lnTo>
                    <a:pt x="152" y="126"/>
                  </a:lnTo>
                  <a:lnTo>
                    <a:pt x="160" y="123"/>
                  </a:lnTo>
                  <a:lnTo>
                    <a:pt x="167" y="121"/>
                  </a:lnTo>
                  <a:lnTo>
                    <a:pt x="173" y="118"/>
                  </a:lnTo>
                  <a:lnTo>
                    <a:pt x="173" y="116"/>
                  </a:lnTo>
                  <a:lnTo>
                    <a:pt x="173" y="113"/>
                  </a:lnTo>
                  <a:lnTo>
                    <a:pt x="173" y="112"/>
                  </a:lnTo>
                  <a:lnTo>
                    <a:pt x="173" y="110"/>
                  </a:lnTo>
                  <a:lnTo>
                    <a:pt x="173" y="108"/>
                  </a:lnTo>
                  <a:lnTo>
                    <a:pt x="173" y="107"/>
                  </a:lnTo>
                  <a:lnTo>
                    <a:pt x="173" y="106"/>
                  </a:lnTo>
                  <a:lnTo>
                    <a:pt x="173" y="105"/>
                  </a:lnTo>
                  <a:lnTo>
                    <a:pt x="173" y="97"/>
                  </a:lnTo>
                  <a:lnTo>
                    <a:pt x="173" y="90"/>
                  </a:lnTo>
                  <a:lnTo>
                    <a:pt x="172" y="83"/>
                  </a:lnTo>
                  <a:lnTo>
                    <a:pt x="170" y="78"/>
                  </a:lnTo>
                  <a:lnTo>
                    <a:pt x="169" y="72"/>
                  </a:lnTo>
                  <a:lnTo>
                    <a:pt x="167" y="67"/>
                  </a:lnTo>
                  <a:lnTo>
                    <a:pt x="164" y="63"/>
                  </a:lnTo>
                  <a:lnTo>
                    <a:pt x="162" y="60"/>
                  </a:lnTo>
                  <a:lnTo>
                    <a:pt x="157" y="56"/>
                  </a:lnTo>
                  <a:lnTo>
                    <a:pt x="153" y="52"/>
                  </a:lnTo>
                  <a:lnTo>
                    <a:pt x="147" y="50"/>
                  </a:lnTo>
                  <a:lnTo>
                    <a:pt x="142" y="47"/>
                  </a:lnTo>
                  <a:lnTo>
                    <a:pt x="136" y="45"/>
                  </a:lnTo>
                  <a:lnTo>
                    <a:pt x="129" y="43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6" y="42"/>
                  </a:lnTo>
                  <a:lnTo>
                    <a:pt x="99" y="43"/>
                  </a:lnTo>
                  <a:lnTo>
                    <a:pt x="93" y="45"/>
                  </a:lnTo>
                  <a:lnTo>
                    <a:pt x="88" y="46"/>
                  </a:lnTo>
                  <a:lnTo>
                    <a:pt x="82" y="47"/>
                  </a:lnTo>
                  <a:lnTo>
                    <a:pt x="78" y="50"/>
                  </a:lnTo>
                  <a:lnTo>
                    <a:pt x="73" y="52"/>
                  </a:lnTo>
                  <a:lnTo>
                    <a:pt x="70" y="55"/>
                  </a:lnTo>
                  <a:lnTo>
                    <a:pt x="66" y="58"/>
                  </a:lnTo>
                  <a:lnTo>
                    <a:pt x="63" y="63"/>
                  </a:lnTo>
                  <a:lnTo>
                    <a:pt x="60" y="67"/>
                  </a:lnTo>
                  <a:lnTo>
                    <a:pt x="57" y="73"/>
                  </a:lnTo>
                  <a:lnTo>
                    <a:pt x="55" y="80"/>
                  </a:lnTo>
                  <a:lnTo>
                    <a:pt x="52" y="86"/>
                  </a:lnTo>
                  <a:lnTo>
                    <a:pt x="50" y="93"/>
                  </a:lnTo>
                  <a:lnTo>
                    <a:pt x="48" y="101"/>
                  </a:lnTo>
                  <a:lnTo>
                    <a:pt x="7" y="93"/>
                  </a:lnTo>
                  <a:lnTo>
                    <a:pt x="9" y="86"/>
                  </a:lnTo>
                  <a:lnTo>
                    <a:pt x="10" y="78"/>
                  </a:lnTo>
                  <a:lnTo>
                    <a:pt x="12" y="71"/>
                  </a:lnTo>
                  <a:lnTo>
                    <a:pt x="14" y="65"/>
                  </a:lnTo>
                  <a:lnTo>
                    <a:pt x="17" y="58"/>
                  </a:lnTo>
                  <a:lnTo>
                    <a:pt x="19" y="52"/>
                  </a:lnTo>
                  <a:lnTo>
                    <a:pt x="22" y="46"/>
                  </a:lnTo>
                  <a:lnTo>
                    <a:pt x="25" y="41"/>
                  </a:lnTo>
                  <a:lnTo>
                    <a:pt x="29" y="36"/>
                  </a:lnTo>
                  <a:lnTo>
                    <a:pt x="32" y="32"/>
                  </a:lnTo>
                  <a:lnTo>
                    <a:pt x="37" y="27"/>
                  </a:lnTo>
                  <a:lnTo>
                    <a:pt x="41" y="23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3"/>
                  </a:lnTo>
                  <a:lnTo>
                    <a:pt x="63" y="10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2" y="3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2"/>
                  </a:lnTo>
                  <a:lnTo>
                    <a:pt x="155" y="3"/>
                  </a:lnTo>
                  <a:lnTo>
                    <a:pt x="161" y="5"/>
                  </a:lnTo>
                  <a:lnTo>
                    <a:pt x="166" y="6"/>
                  </a:lnTo>
                  <a:lnTo>
                    <a:pt x="171" y="8"/>
                  </a:lnTo>
                  <a:lnTo>
                    <a:pt x="176" y="11"/>
                  </a:lnTo>
                  <a:lnTo>
                    <a:pt x="180" y="13"/>
                  </a:lnTo>
                  <a:lnTo>
                    <a:pt x="185" y="16"/>
                  </a:lnTo>
                  <a:lnTo>
                    <a:pt x="188" y="18"/>
                  </a:lnTo>
                  <a:lnTo>
                    <a:pt x="192" y="22"/>
                  </a:lnTo>
                  <a:lnTo>
                    <a:pt x="195" y="25"/>
                  </a:lnTo>
                  <a:lnTo>
                    <a:pt x="199" y="28"/>
                  </a:lnTo>
                  <a:lnTo>
                    <a:pt x="201" y="32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7" y="43"/>
                  </a:lnTo>
                  <a:lnTo>
                    <a:pt x="209" y="47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4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6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6" y="107"/>
                  </a:lnTo>
                  <a:lnTo>
                    <a:pt x="216" y="116"/>
                  </a:lnTo>
                  <a:lnTo>
                    <a:pt x="216" y="184"/>
                  </a:lnTo>
                  <a:lnTo>
                    <a:pt x="216" y="202"/>
                  </a:lnTo>
                  <a:lnTo>
                    <a:pt x="216" y="218"/>
                  </a:lnTo>
                  <a:lnTo>
                    <a:pt x="217" y="232"/>
                  </a:lnTo>
                  <a:lnTo>
                    <a:pt x="217" y="244"/>
                  </a:lnTo>
                  <a:lnTo>
                    <a:pt x="217" y="254"/>
                  </a:lnTo>
                  <a:lnTo>
                    <a:pt x="218" y="263"/>
                  </a:lnTo>
                  <a:lnTo>
                    <a:pt x="218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1" y="285"/>
                  </a:lnTo>
                  <a:lnTo>
                    <a:pt x="222" y="290"/>
                  </a:lnTo>
                  <a:lnTo>
                    <a:pt x="223" y="295"/>
                  </a:lnTo>
                  <a:lnTo>
                    <a:pt x="224" y="300"/>
                  </a:lnTo>
                  <a:lnTo>
                    <a:pt x="226" y="304"/>
                  </a:lnTo>
                  <a:lnTo>
                    <a:pt x="228" y="309"/>
                  </a:lnTo>
                  <a:lnTo>
                    <a:pt x="230" y="313"/>
                  </a:lnTo>
                  <a:lnTo>
                    <a:pt x="185" y="313"/>
                  </a:lnTo>
                  <a:lnTo>
                    <a:pt x="183" y="309"/>
                  </a:lnTo>
                  <a:lnTo>
                    <a:pt x="182" y="305"/>
                  </a:lnTo>
                  <a:lnTo>
                    <a:pt x="181" y="300"/>
                  </a:lnTo>
                  <a:lnTo>
                    <a:pt x="180" y="295"/>
                  </a:lnTo>
                  <a:lnTo>
                    <a:pt x="179" y="290"/>
                  </a:lnTo>
                  <a:lnTo>
                    <a:pt x="178" y="285"/>
                  </a:lnTo>
                  <a:lnTo>
                    <a:pt x="177" y="280"/>
                  </a:lnTo>
                  <a:lnTo>
                    <a:pt x="177" y="276"/>
                  </a:lnTo>
                  <a:close/>
                  <a:moveTo>
                    <a:pt x="173" y="159"/>
                  </a:moveTo>
                  <a:lnTo>
                    <a:pt x="167" y="162"/>
                  </a:lnTo>
                  <a:lnTo>
                    <a:pt x="160" y="164"/>
                  </a:lnTo>
                  <a:lnTo>
                    <a:pt x="153" y="167"/>
                  </a:lnTo>
                  <a:lnTo>
                    <a:pt x="145" y="169"/>
                  </a:lnTo>
                  <a:lnTo>
                    <a:pt x="136" y="172"/>
                  </a:lnTo>
                  <a:lnTo>
                    <a:pt x="126" y="174"/>
                  </a:lnTo>
                  <a:lnTo>
                    <a:pt x="115" y="177"/>
                  </a:lnTo>
                  <a:lnTo>
                    <a:pt x="104" y="179"/>
                  </a:lnTo>
                  <a:lnTo>
                    <a:pt x="98" y="181"/>
                  </a:lnTo>
                  <a:lnTo>
                    <a:pt x="92" y="181"/>
                  </a:lnTo>
                  <a:lnTo>
                    <a:pt x="87" y="182"/>
                  </a:lnTo>
                  <a:lnTo>
                    <a:pt x="82" y="184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8"/>
                  </a:lnTo>
                  <a:lnTo>
                    <a:pt x="68" y="189"/>
                  </a:lnTo>
                  <a:lnTo>
                    <a:pt x="65" y="191"/>
                  </a:lnTo>
                  <a:lnTo>
                    <a:pt x="63" y="192"/>
                  </a:lnTo>
                  <a:lnTo>
                    <a:pt x="60" y="194"/>
                  </a:lnTo>
                  <a:lnTo>
                    <a:pt x="58" y="197"/>
                  </a:lnTo>
                  <a:lnTo>
                    <a:pt x="56" y="198"/>
                  </a:lnTo>
                  <a:lnTo>
                    <a:pt x="54" y="201"/>
                  </a:lnTo>
                  <a:lnTo>
                    <a:pt x="52" y="203"/>
                  </a:lnTo>
                  <a:lnTo>
                    <a:pt x="50" y="206"/>
                  </a:lnTo>
                  <a:lnTo>
                    <a:pt x="49" y="209"/>
                  </a:lnTo>
                  <a:lnTo>
                    <a:pt x="48" y="212"/>
                  </a:lnTo>
                  <a:lnTo>
                    <a:pt x="47" y="214"/>
                  </a:lnTo>
                  <a:lnTo>
                    <a:pt x="46" y="218"/>
                  </a:lnTo>
                  <a:lnTo>
                    <a:pt x="45" y="221"/>
                  </a:lnTo>
                  <a:lnTo>
                    <a:pt x="45" y="224"/>
                  </a:lnTo>
                  <a:lnTo>
                    <a:pt x="44" y="228"/>
                  </a:lnTo>
                  <a:lnTo>
                    <a:pt x="44" y="231"/>
                  </a:lnTo>
                  <a:lnTo>
                    <a:pt x="45" y="236"/>
                  </a:lnTo>
                  <a:lnTo>
                    <a:pt x="45" y="241"/>
                  </a:lnTo>
                  <a:lnTo>
                    <a:pt x="46" y="246"/>
                  </a:lnTo>
                  <a:lnTo>
                    <a:pt x="48" y="251"/>
                  </a:lnTo>
                  <a:lnTo>
                    <a:pt x="49" y="254"/>
                  </a:lnTo>
                  <a:lnTo>
                    <a:pt x="52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1" y="269"/>
                  </a:lnTo>
                  <a:lnTo>
                    <a:pt x="65" y="272"/>
                  </a:lnTo>
                  <a:lnTo>
                    <a:pt x="69" y="274"/>
                  </a:lnTo>
                  <a:lnTo>
                    <a:pt x="74" y="276"/>
                  </a:lnTo>
                  <a:lnTo>
                    <a:pt x="78" y="278"/>
                  </a:lnTo>
                  <a:lnTo>
                    <a:pt x="84" y="279"/>
                  </a:lnTo>
                  <a:lnTo>
                    <a:pt x="89" y="279"/>
                  </a:lnTo>
                  <a:lnTo>
                    <a:pt x="95" y="279"/>
                  </a:lnTo>
                  <a:lnTo>
                    <a:pt x="101" y="279"/>
                  </a:lnTo>
                  <a:lnTo>
                    <a:pt x="107" y="279"/>
                  </a:lnTo>
                  <a:lnTo>
                    <a:pt x="112" y="278"/>
                  </a:lnTo>
                  <a:lnTo>
                    <a:pt x="118" y="277"/>
                  </a:lnTo>
                  <a:lnTo>
                    <a:pt x="123" y="274"/>
                  </a:lnTo>
                  <a:lnTo>
                    <a:pt x="129" y="272"/>
                  </a:lnTo>
                  <a:lnTo>
                    <a:pt x="134" y="269"/>
                  </a:lnTo>
                  <a:lnTo>
                    <a:pt x="139" y="267"/>
                  </a:lnTo>
                  <a:lnTo>
                    <a:pt x="143" y="263"/>
                  </a:lnTo>
                  <a:lnTo>
                    <a:pt x="148" y="259"/>
                  </a:lnTo>
                  <a:lnTo>
                    <a:pt x="152" y="256"/>
                  </a:lnTo>
                  <a:lnTo>
                    <a:pt x="155" y="251"/>
                  </a:lnTo>
                  <a:lnTo>
                    <a:pt x="158" y="246"/>
                  </a:lnTo>
                  <a:lnTo>
                    <a:pt x="161" y="241"/>
                  </a:lnTo>
                  <a:lnTo>
                    <a:pt x="164" y="236"/>
                  </a:lnTo>
                  <a:lnTo>
                    <a:pt x="166" y="231"/>
                  </a:lnTo>
                  <a:lnTo>
                    <a:pt x="168" y="226"/>
                  </a:lnTo>
                  <a:lnTo>
                    <a:pt x="169" y="221"/>
                  </a:lnTo>
                  <a:lnTo>
                    <a:pt x="171" y="214"/>
                  </a:lnTo>
                  <a:lnTo>
                    <a:pt x="171" y="208"/>
                  </a:lnTo>
                  <a:lnTo>
                    <a:pt x="172" y="202"/>
                  </a:lnTo>
                  <a:lnTo>
                    <a:pt x="173" y="194"/>
                  </a:lnTo>
                  <a:lnTo>
                    <a:pt x="173" y="187"/>
                  </a:lnTo>
                  <a:lnTo>
                    <a:pt x="173" y="178"/>
                  </a:lnTo>
                  <a:lnTo>
                    <a:pt x="173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37680" y="2767680"/>
              <a:ext cx="67680" cy="82440"/>
            </a:xfrm>
            <a:custGeom>
              <a:avLst/>
              <a:gdLst/>
              <a:ahLst/>
              <a:rect l="l" t="t" r="r" b="b"/>
              <a:pathLst>
                <a:path w="263" h="425">
                  <a:moveTo>
                    <a:pt x="0" y="425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2"/>
                  </a:lnTo>
                  <a:lnTo>
                    <a:pt x="167" y="2"/>
                  </a:lnTo>
                  <a:lnTo>
                    <a:pt x="173" y="3"/>
                  </a:lnTo>
                  <a:lnTo>
                    <a:pt x="178" y="3"/>
                  </a:lnTo>
                  <a:lnTo>
                    <a:pt x="182" y="4"/>
                  </a:lnTo>
                  <a:lnTo>
                    <a:pt x="189" y="5"/>
                  </a:lnTo>
                  <a:lnTo>
                    <a:pt x="194" y="8"/>
                  </a:lnTo>
                  <a:lnTo>
                    <a:pt x="200" y="9"/>
                  </a:lnTo>
                  <a:lnTo>
                    <a:pt x="206" y="12"/>
                  </a:lnTo>
                  <a:lnTo>
                    <a:pt x="211" y="14"/>
                  </a:lnTo>
                  <a:lnTo>
                    <a:pt x="215" y="18"/>
                  </a:lnTo>
                  <a:lnTo>
                    <a:pt x="220" y="20"/>
                  </a:lnTo>
                  <a:lnTo>
                    <a:pt x="224" y="24"/>
                  </a:lnTo>
                  <a:lnTo>
                    <a:pt x="229" y="28"/>
                  </a:lnTo>
                  <a:lnTo>
                    <a:pt x="233" y="31"/>
                  </a:lnTo>
                  <a:lnTo>
                    <a:pt x="237" y="36"/>
                  </a:lnTo>
                  <a:lnTo>
                    <a:pt x="241" y="41"/>
                  </a:lnTo>
                  <a:lnTo>
                    <a:pt x="244" y="46"/>
                  </a:lnTo>
                  <a:lnTo>
                    <a:pt x="247" y="53"/>
                  </a:lnTo>
                  <a:lnTo>
                    <a:pt x="250" y="59"/>
                  </a:lnTo>
                  <a:lnTo>
                    <a:pt x="253" y="65"/>
                  </a:lnTo>
                  <a:lnTo>
                    <a:pt x="255" y="71"/>
                  </a:lnTo>
                  <a:lnTo>
                    <a:pt x="257" y="79"/>
                  </a:lnTo>
                  <a:lnTo>
                    <a:pt x="259" y="85"/>
                  </a:lnTo>
                  <a:lnTo>
                    <a:pt x="260" y="93"/>
                  </a:lnTo>
                  <a:lnTo>
                    <a:pt x="262" y="100"/>
                  </a:lnTo>
                  <a:lnTo>
                    <a:pt x="262" y="108"/>
                  </a:lnTo>
                  <a:lnTo>
                    <a:pt x="263" y="115"/>
                  </a:lnTo>
                  <a:lnTo>
                    <a:pt x="263" y="123"/>
                  </a:lnTo>
                  <a:lnTo>
                    <a:pt x="263" y="136"/>
                  </a:lnTo>
                  <a:lnTo>
                    <a:pt x="261" y="149"/>
                  </a:lnTo>
                  <a:lnTo>
                    <a:pt x="259" y="161"/>
                  </a:lnTo>
                  <a:lnTo>
                    <a:pt x="256" y="172"/>
                  </a:lnTo>
                  <a:lnTo>
                    <a:pt x="252" y="184"/>
                  </a:lnTo>
                  <a:lnTo>
                    <a:pt x="247" y="195"/>
                  </a:lnTo>
                  <a:lnTo>
                    <a:pt x="242" y="205"/>
                  </a:lnTo>
                  <a:lnTo>
                    <a:pt x="235" y="214"/>
                  </a:lnTo>
                  <a:lnTo>
                    <a:pt x="227" y="222"/>
                  </a:lnTo>
                  <a:lnTo>
                    <a:pt x="218" y="231"/>
                  </a:lnTo>
                  <a:lnTo>
                    <a:pt x="207" y="237"/>
                  </a:lnTo>
                  <a:lnTo>
                    <a:pt x="196" y="242"/>
                  </a:lnTo>
                  <a:lnTo>
                    <a:pt x="183" y="246"/>
                  </a:lnTo>
                  <a:lnTo>
                    <a:pt x="168" y="250"/>
                  </a:lnTo>
                  <a:lnTo>
                    <a:pt x="151" y="251"/>
                  </a:lnTo>
                  <a:lnTo>
                    <a:pt x="134" y="251"/>
                  </a:lnTo>
                  <a:lnTo>
                    <a:pt x="46" y="251"/>
                  </a:lnTo>
                  <a:lnTo>
                    <a:pt x="46" y="425"/>
                  </a:lnTo>
                  <a:lnTo>
                    <a:pt x="0" y="425"/>
                  </a:lnTo>
                  <a:close/>
                  <a:moveTo>
                    <a:pt x="46" y="201"/>
                  </a:moveTo>
                  <a:lnTo>
                    <a:pt x="135" y="201"/>
                  </a:lnTo>
                  <a:lnTo>
                    <a:pt x="145" y="201"/>
                  </a:lnTo>
                  <a:lnTo>
                    <a:pt x="155" y="200"/>
                  </a:lnTo>
                  <a:lnTo>
                    <a:pt x="165" y="199"/>
                  </a:lnTo>
                  <a:lnTo>
                    <a:pt x="173" y="196"/>
                  </a:lnTo>
                  <a:lnTo>
                    <a:pt x="180" y="194"/>
                  </a:lnTo>
                  <a:lnTo>
                    <a:pt x="187" y="190"/>
                  </a:lnTo>
                  <a:lnTo>
                    <a:pt x="192" y="186"/>
                  </a:lnTo>
                  <a:lnTo>
                    <a:pt x="197" y="181"/>
                  </a:lnTo>
                  <a:lnTo>
                    <a:pt x="202" y="176"/>
                  </a:lnTo>
                  <a:lnTo>
                    <a:pt x="205" y="170"/>
                  </a:lnTo>
                  <a:lnTo>
                    <a:pt x="208" y="164"/>
                  </a:lnTo>
                  <a:lnTo>
                    <a:pt x="211" y="158"/>
                  </a:lnTo>
                  <a:lnTo>
                    <a:pt x="213" y="150"/>
                  </a:lnTo>
                  <a:lnTo>
                    <a:pt x="214" y="141"/>
                  </a:lnTo>
                  <a:lnTo>
                    <a:pt x="215" y="134"/>
                  </a:lnTo>
                  <a:lnTo>
                    <a:pt x="216" y="124"/>
                  </a:lnTo>
                  <a:lnTo>
                    <a:pt x="215" y="118"/>
                  </a:lnTo>
                  <a:lnTo>
                    <a:pt x="215" y="111"/>
                  </a:lnTo>
                  <a:lnTo>
                    <a:pt x="214" y="105"/>
                  </a:lnTo>
                  <a:lnTo>
                    <a:pt x="213" y="100"/>
                  </a:lnTo>
                  <a:lnTo>
                    <a:pt x="211" y="94"/>
                  </a:lnTo>
                  <a:lnTo>
                    <a:pt x="210" y="89"/>
                  </a:lnTo>
                  <a:lnTo>
                    <a:pt x="207" y="84"/>
                  </a:lnTo>
                  <a:lnTo>
                    <a:pt x="205" y="79"/>
                  </a:lnTo>
                  <a:lnTo>
                    <a:pt x="202" y="74"/>
                  </a:lnTo>
                  <a:lnTo>
                    <a:pt x="199" y="70"/>
                  </a:lnTo>
                  <a:lnTo>
                    <a:pt x="196" y="66"/>
                  </a:lnTo>
                  <a:lnTo>
                    <a:pt x="192" y="63"/>
                  </a:lnTo>
                  <a:lnTo>
                    <a:pt x="189" y="60"/>
                  </a:lnTo>
                  <a:lnTo>
                    <a:pt x="185" y="58"/>
                  </a:lnTo>
                  <a:lnTo>
                    <a:pt x="181" y="55"/>
                  </a:lnTo>
                  <a:lnTo>
                    <a:pt x="176" y="54"/>
                  </a:lnTo>
                  <a:lnTo>
                    <a:pt x="173" y="53"/>
                  </a:lnTo>
                  <a:lnTo>
                    <a:pt x="170" y="53"/>
                  </a:lnTo>
                  <a:lnTo>
                    <a:pt x="165" y="51"/>
                  </a:lnTo>
                  <a:lnTo>
                    <a:pt x="159" y="51"/>
                  </a:lnTo>
                  <a:lnTo>
                    <a:pt x="154" y="50"/>
                  </a:lnTo>
                  <a:lnTo>
                    <a:pt x="148" y="50"/>
                  </a:lnTo>
                  <a:lnTo>
                    <a:pt x="141" y="50"/>
                  </a:lnTo>
                  <a:lnTo>
                    <a:pt x="134" y="50"/>
                  </a:lnTo>
                  <a:lnTo>
                    <a:pt x="46" y="50"/>
                  </a:lnTo>
                  <a:lnTo>
                    <a:pt x="46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15800" y="2788560"/>
              <a:ext cx="59760" cy="62280"/>
            </a:xfrm>
            <a:custGeom>
              <a:avLst/>
              <a:gdLst/>
              <a:ahLst/>
              <a:rect l="l" t="t" r="r" b="b"/>
              <a:pathLst>
                <a:path w="231" h="321">
                  <a:moveTo>
                    <a:pt x="185" y="215"/>
                  </a:moveTo>
                  <a:lnTo>
                    <a:pt x="229" y="222"/>
                  </a:lnTo>
                  <a:lnTo>
                    <a:pt x="227" y="233"/>
                  </a:lnTo>
                  <a:lnTo>
                    <a:pt x="222" y="243"/>
                  </a:lnTo>
                  <a:lnTo>
                    <a:pt x="218" y="255"/>
                  </a:lnTo>
                  <a:lnTo>
                    <a:pt x="214" y="263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8"/>
                  </a:lnTo>
                  <a:lnTo>
                    <a:pt x="191" y="295"/>
                  </a:lnTo>
                  <a:lnTo>
                    <a:pt x="184" y="301"/>
                  </a:lnTo>
                  <a:lnTo>
                    <a:pt x="176" y="306"/>
                  </a:lnTo>
                  <a:lnTo>
                    <a:pt x="168" y="311"/>
                  </a:lnTo>
                  <a:lnTo>
                    <a:pt x="159" y="315"/>
                  </a:lnTo>
                  <a:lnTo>
                    <a:pt x="149" y="317"/>
                  </a:lnTo>
                  <a:lnTo>
                    <a:pt x="140" y="320"/>
                  </a:lnTo>
                  <a:lnTo>
                    <a:pt x="130" y="321"/>
                  </a:lnTo>
                  <a:lnTo>
                    <a:pt x="119" y="321"/>
                  </a:lnTo>
                  <a:lnTo>
                    <a:pt x="106" y="321"/>
                  </a:lnTo>
                  <a:lnTo>
                    <a:pt x="94" y="318"/>
                  </a:lnTo>
                  <a:lnTo>
                    <a:pt x="82" y="315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50" y="297"/>
                  </a:lnTo>
                  <a:lnTo>
                    <a:pt x="41" y="290"/>
                  </a:lnTo>
                  <a:lnTo>
                    <a:pt x="33" y="280"/>
                  </a:lnTo>
                  <a:lnTo>
                    <a:pt x="25" y="268"/>
                  </a:lnTo>
                  <a:lnTo>
                    <a:pt x="19" y="257"/>
                  </a:lnTo>
                  <a:lnTo>
                    <a:pt x="13" y="243"/>
                  </a:lnTo>
                  <a:lnTo>
                    <a:pt x="9" y="230"/>
                  </a:lnTo>
                  <a:lnTo>
                    <a:pt x="4" y="215"/>
                  </a:lnTo>
                  <a:lnTo>
                    <a:pt x="2" y="198"/>
                  </a:lnTo>
                  <a:lnTo>
                    <a:pt x="1" y="181"/>
                  </a:lnTo>
                  <a:lnTo>
                    <a:pt x="0" y="164"/>
                  </a:lnTo>
                  <a:lnTo>
                    <a:pt x="1" y="144"/>
                  </a:lnTo>
                  <a:lnTo>
                    <a:pt x="2" y="126"/>
                  </a:lnTo>
                  <a:lnTo>
                    <a:pt x="6" y="110"/>
                  </a:lnTo>
                  <a:lnTo>
                    <a:pt x="9" y="94"/>
                  </a:lnTo>
                  <a:lnTo>
                    <a:pt x="14" y="80"/>
                  </a:lnTo>
                  <a:lnTo>
                    <a:pt x="19" y="66"/>
                  </a:lnTo>
                  <a:lnTo>
                    <a:pt x="25" y="54"/>
                  </a:lnTo>
                  <a:lnTo>
                    <a:pt x="33" y="43"/>
                  </a:lnTo>
                  <a:lnTo>
                    <a:pt x="41" y="33"/>
                  </a:lnTo>
                  <a:lnTo>
                    <a:pt x="50" y="24"/>
                  </a:lnTo>
                  <a:lnTo>
                    <a:pt x="60" y="16"/>
                  </a:lnTo>
                  <a:lnTo>
                    <a:pt x="70" y="10"/>
                  </a:lnTo>
                  <a:lnTo>
                    <a:pt x="81" y="6"/>
                  </a:lnTo>
                  <a:lnTo>
                    <a:pt x="93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1" y="3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3" y="16"/>
                  </a:lnTo>
                  <a:lnTo>
                    <a:pt x="182" y="24"/>
                  </a:lnTo>
                  <a:lnTo>
                    <a:pt x="190" y="33"/>
                  </a:lnTo>
                  <a:lnTo>
                    <a:pt x="199" y="41"/>
                  </a:lnTo>
                  <a:lnTo>
                    <a:pt x="206" y="52"/>
                  </a:lnTo>
                  <a:lnTo>
                    <a:pt x="212" y="65"/>
                  </a:lnTo>
                  <a:lnTo>
                    <a:pt x="218" y="79"/>
                  </a:lnTo>
                  <a:lnTo>
                    <a:pt x="222" y="92"/>
                  </a:lnTo>
                  <a:lnTo>
                    <a:pt x="226" y="107"/>
                  </a:lnTo>
                  <a:lnTo>
                    <a:pt x="229" y="124"/>
                  </a:lnTo>
                  <a:lnTo>
                    <a:pt x="230" y="141"/>
                  </a:lnTo>
                  <a:lnTo>
                    <a:pt x="231" y="160"/>
                  </a:lnTo>
                  <a:lnTo>
                    <a:pt x="231" y="161"/>
                  </a:lnTo>
                  <a:lnTo>
                    <a:pt x="231" y="162"/>
                  </a:lnTo>
                  <a:lnTo>
                    <a:pt x="231" y="164"/>
                  </a:lnTo>
                  <a:lnTo>
                    <a:pt x="231" y="166"/>
                  </a:lnTo>
                  <a:lnTo>
                    <a:pt x="231" y="167"/>
                  </a:lnTo>
                  <a:lnTo>
                    <a:pt x="231" y="170"/>
                  </a:lnTo>
                  <a:lnTo>
                    <a:pt x="231" y="171"/>
                  </a:lnTo>
                  <a:lnTo>
                    <a:pt x="231" y="174"/>
                  </a:lnTo>
                  <a:lnTo>
                    <a:pt x="44" y="174"/>
                  </a:lnTo>
                  <a:lnTo>
                    <a:pt x="45" y="186"/>
                  </a:lnTo>
                  <a:lnTo>
                    <a:pt x="46" y="197"/>
                  </a:lnTo>
                  <a:lnTo>
                    <a:pt x="48" y="208"/>
                  </a:lnTo>
                  <a:lnTo>
                    <a:pt x="51" y="218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2" y="245"/>
                  </a:lnTo>
                  <a:lnTo>
                    <a:pt x="67" y="251"/>
                  </a:lnTo>
                  <a:lnTo>
                    <a:pt x="72" y="257"/>
                  </a:lnTo>
                  <a:lnTo>
                    <a:pt x="79" y="263"/>
                  </a:lnTo>
                  <a:lnTo>
                    <a:pt x="85" y="267"/>
                  </a:lnTo>
                  <a:lnTo>
                    <a:pt x="91" y="271"/>
                  </a:lnTo>
                  <a:lnTo>
                    <a:pt x="98" y="275"/>
                  </a:lnTo>
                  <a:lnTo>
                    <a:pt x="105" y="276"/>
                  </a:lnTo>
                  <a:lnTo>
                    <a:pt x="112" y="277"/>
                  </a:lnTo>
                  <a:lnTo>
                    <a:pt x="119" y="278"/>
                  </a:lnTo>
                  <a:lnTo>
                    <a:pt x="125" y="278"/>
                  </a:lnTo>
                  <a:lnTo>
                    <a:pt x="131" y="277"/>
                  </a:lnTo>
                  <a:lnTo>
                    <a:pt x="136" y="276"/>
                  </a:lnTo>
                  <a:lnTo>
                    <a:pt x="141" y="275"/>
                  </a:lnTo>
                  <a:lnTo>
                    <a:pt x="146" y="272"/>
                  </a:lnTo>
                  <a:lnTo>
                    <a:pt x="151" y="270"/>
                  </a:lnTo>
                  <a:lnTo>
                    <a:pt x="155" y="267"/>
                  </a:lnTo>
                  <a:lnTo>
                    <a:pt x="160" y="263"/>
                  </a:lnTo>
                  <a:lnTo>
                    <a:pt x="164" y="258"/>
                  </a:lnTo>
                  <a:lnTo>
                    <a:pt x="167" y="255"/>
                  </a:lnTo>
                  <a:lnTo>
                    <a:pt x="171" y="250"/>
                  </a:lnTo>
                  <a:lnTo>
                    <a:pt x="174" y="243"/>
                  </a:lnTo>
                  <a:lnTo>
                    <a:pt x="177" y="237"/>
                  </a:lnTo>
                  <a:lnTo>
                    <a:pt x="180" y="231"/>
                  </a:lnTo>
                  <a:lnTo>
                    <a:pt x="183" y="223"/>
                  </a:lnTo>
                  <a:lnTo>
                    <a:pt x="185" y="215"/>
                  </a:lnTo>
                  <a:close/>
                  <a:moveTo>
                    <a:pt x="46" y="131"/>
                  </a:moveTo>
                  <a:lnTo>
                    <a:pt x="186" y="131"/>
                  </a:lnTo>
                  <a:lnTo>
                    <a:pt x="185" y="121"/>
                  </a:lnTo>
                  <a:lnTo>
                    <a:pt x="184" y="112"/>
                  </a:lnTo>
                  <a:lnTo>
                    <a:pt x="182" y="105"/>
                  </a:lnTo>
                  <a:lnTo>
                    <a:pt x="181" y="97"/>
                  </a:lnTo>
                  <a:lnTo>
                    <a:pt x="178" y="90"/>
                  </a:lnTo>
                  <a:lnTo>
                    <a:pt x="176" y="84"/>
                  </a:lnTo>
                  <a:lnTo>
                    <a:pt x="173" y="77"/>
                  </a:lnTo>
                  <a:lnTo>
                    <a:pt x="170" y="72"/>
                  </a:lnTo>
                  <a:lnTo>
                    <a:pt x="165" y="66"/>
                  </a:lnTo>
                  <a:lnTo>
                    <a:pt x="159" y="60"/>
                  </a:lnTo>
                  <a:lnTo>
                    <a:pt x="153" y="55"/>
                  </a:lnTo>
                  <a:lnTo>
                    <a:pt x="146" y="50"/>
                  </a:lnTo>
                  <a:lnTo>
                    <a:pt x="140" y="48"/>
                  </a:lnTo>
                  <a:lnTo>
                    <a:pt x="133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10" y="43"/>
                  </a:lnTo>
                  <a:lnTo>
                    <a:pt x="104" y="44"/>
                  </a:lnTo>
                  <a:lnTo>
                    <a:pt x="97" y="46"/>
                  </a:lnTo>
                  <a:lnTo>
                    <a:pt x="91" y="49"/>
                  </a:lnTo>
                  <a:lnTo>
                    <a:pt x="85" y="52"/>
                  </a:lnTo>
                  <a:lnTo>
                    <a:pt x="79" y="56"/>
                  </a:lnTo>
                  <a:lnTo>
                    <a:pt x="73" y="61"/>
                  </a:lnTo>
                  <a:lnTo>
                    <a:pt x="68" y="66"/>
                  </a:lnTo>
                  <a:lnTo>
                    <a:pt x="63" y="72"/>
                  </a:lnTo>
                  <a:lnTo>
                    <a:pt x="59" y="80"/>
                  </a:lnTo>
                  <a:lnTo>
                    <a:pt x="56" y="87"/>
                  </a:lnTo>
                  <a:lnTo>
                    <a:pt x="53" y="95"/>
                  </a:lnTo>
                  <a:lnTo>
                    <a:pt x="50" y="104"/>
                  </a:lnTo>
                  <a:lnTo>
                    <a:pt x="49" y="112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85280" y="2788560"/>
              <a:ext cx="56880" cy="85680"/>
            </a:xfrm>
            <a:custGeom>
              <a:avLst/>
              <a:gdLst/>
              <a:ahLst/>
              <a:rect l="l" t="t" r="r" b="b"/>
              <a:pathLst>
                <a:path w="220" h="438">
                  <a:moveTo>
                    <a:pt x="8" y="340"/>
                  </a:moveTo>
                  <a:lnTo>
                    <a:pt x="50" y="347"/>
                  </a:lnTo>
                  <a:lnTo>
                    <a:pt x="50" y="352"/>
                  </a:lnTo>
                  <a:lnTo>
                    <a:pt x="52" y="358"/>
                  </a:lnTo>
                  <a:lnTo>
                    <a:pt x="53" y="363"/>
                  </a:lnTo>
                  <a:lnTo>
                    <a:pt x="55" y="367"/>
                  </a:lnTo>
                  <a:lnTo>
                    <a:pt x="56" y="371"/>
                  </a:lnTo>
                  <a:lnTo>
                    <a:pt x="59" y="374"/>
                  </a:lnTo>
                  <a:lnTo>
                    <a:pt x="61" y="378"/>
                  </a:lnTo>
                  <a:lnTo>
                    <a:pt x="64" y="381"/>
                  </a:lnTo>
                  <a:lnTo>
                    <a:pt x="68" y="384"/>
                  </a:lnTo>
                  <a:lnTo>
                    <a:pt x="72" y="387"/>
                  </a:lnTo>
                  <a:lnTo>
                    <a:pt x="77" y="389"/>
                  </a:lnTo>
                  <a:lnTo>
                    <a:pt x="82" y="392"/>
                  </a:lnTo>
                  <a:lnTo>
                    <a:pt x="88" y="393"/>
                  </a:lnTo>
                  <a:lnTo>
                    <a:pt x="93" y="394"/>
                  </a:lnTo>
                  <a:lnTo>
                    <a:pt x="100" y="396"/>
                  </a:lnTo>
                  <a:lnTo>
                    <a:pt x="107" y="396"/>
                  </a:lnTo>
                  <a:lnTo>
                    <a:pt x="114" y="396"/>
                  </a:lnTo>
                  <a:lnTo>
                    <a:pt x="121" y="394"/>
                  </a:lnTo>
                  <a:lnTo>
                    <a:pt x="127" y="393"/>
                  </a:lnTo>
                  <a:lnTo>
                    <a:pt x="133" y="392"/>
                  </a:lnTo>
                  <a:lnTo>
                    <a:pt x="138" y="389"/>
                  </a:lnTo>
                  <a:lnTo>
                    <a:pt x="143" y="387"/>
                  </a:lnTo>
                  <a:lnTo>
                    <a:pt x="148" y="384"/>
                  </a:lnTo>
                  <a:lnTo>
                    <a:pt x="152" y="381"/>
                  </a:lnTo>
                  <a:lnTo>
                    <a:pt x="156" y="377"/>
                  </a:lnTo>
                  <a:lnTo>
                    <a:pt x="159" y="373"/>
                  </a:lnTo>
                  <a:lnTo>
                    <a:pt x="162" y="368"/>
                  </a:lnTo>
                  <a:lnTo>
                    <a:pt x="165" y="363"/>
                  </a:lnTo>
                  <a:lnTo>
                    <a:pt x="168" y="358"/>
                  </a:lnTo>
                  <a:lnTo>
                    <a:pt x="170" y="353"/>
                  </a:lnTo>
                  <a:lnTo>
                    <a:pt x="172" y="347"/>
                  </a:lnTo>
                  <a:lnTo>
                    <a:pt x="173" y="341"/>
                  </a:lnTo>
                  <a:lnTo>
                    <a:pt x="175" y="336"/>
                  </a:lnTo>
                  <a:lnTo>
                    <a:pt x="176" y="331"/>
                  </a:lnTo>
                  <a:lnTo>
                    <a:pt x="176" y="323"/>
                  </a:lnTo>
                  <a:lnTo>
                    <a:pt x="177" y="316"/>
                  </a:lnTo>
                  <a:lnTo>
                    <a:pt x="177" y="307"/>
                  </a:lnTo>
                  <a:lnTo>
                    <a:pt x="177" y="297"/>
                  </a:lnTo>
                  <a:lnTo>
                    <a:pt x="177" y="286"/>
                  </a:lnTo>
                  <a:lnTo>
                    <a:pt x="177" y="273"/>
                  </a:lnTo>
                  <a:lnTo>
                    <a:pt x="169" y="283"/>
                  </a:lnTo>
                  <a:lnTo>
                    <a:pt x="162" y="291"/>
                  </a:lnTo>
                  <a:lnTo>
                    <a:pt x="154" y="298"/>
                  </a:lnTo>
                  <a:lnTo>
                    <a:pt x="146" y="303"/>
                  </a:lnTo>
                  <a:lnTo>
                    <a:pt x="137" y="308"/>
                  </a:lnTo>
                  <a:lnTo>
                    <a:pt x="128" y="312"/>
                  </a:lnTo>
                  <a:lnTo>
                    <a:pt x="118" y="313"/>
                  </a:lnTo>
                  <a:lnTo>
                    <a:pt x="108" y="315"/>
                  </a:lnTo>
                  <a:lnTo>
                    <a:pt x="95" y="313"/>
                  </a:lnTo>
                  <a:lnTo>
                    <a:pt x="83" y="311"/>
                  </a:lnTo>
                  <a:lnTo>
                    <a:pt x="72" y="307"/>
                  </a:lnTo>
                  <a:lnTo>
                    <a:pt x="62" y="302"/>
                  </a:lnTo>
                  <a:lnTo>
                    <a:pt x="53" y="296"/>
                  </a:lnTo>
                  <a:lnTo>
                    <a:pt x="44" y="288"/>
                  </a:lnTo>
                  <a:lnTo>
                    <a:pt x="36" y="278"/>
                  </a:lnTo>
                  <a:lnTo>
                    <a:pt x="28" y="268"/>
                  </a:lnTo>
                  <a:lnTo>
                    <a:pt x="21" y="257"/>
                  </a:lnTo>
                  <a:lnTo>
                    <a:pt x="15" y="245"/>
                  </a:lnTo>
                  <a:lnTo>
                    <a:pt x="11" y="231"/>
                  </a:lnTo>
                  <a:lnTo>
                    <a:pt x="7" y="218"/>
                  </a:lnTo>
                  <a:lnTo>
                    <a:pt x="4" y="203"/>
                  </a:lnTo>
                  <a:lnTo>
                    <a:pt x="2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0" y="147"/>
                  </a:lnTo>
                  <a:lnTo>
                    <a:pt x="1" y="137"/>
                  </a:lnTo>
                  <a:lnTo>
                    <a:pt x="2" y="126"/>
                  </a:lnTo>
                  <a:lnTo>
                    <a:pt x="3" y="116"/>
                  </a:lnTo>
                  <a:lnTo>
                    <a:pt x="5" y="106"/>
                  </a:lnTo>
                  <a:lnTo>
                    <a:pt x="7" y="96"/>
                  </a:lnTo>
                  <a:lnTo>
                    <a:pt x="10" y="87"/>
                  </a:lnTo>
                  <a:lnTo>
                    <a:pt x="13" y="77"/>
                  </a:lnTo>
                  <a:lnTo>
                    <a:pt x="16" y="69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8" y="45"/>
                  </a:lnTo>
                  <a:lnTo>
                    <a:pt x="34" y="38"/>
                  </a:lnTo>
                  <a:lnTo>
                    <a:pt x="39" y="31"/>
                  </a:lnTo>
                  <a:lnTo>
                    <a:pt x="45" y="25"/>
                  </a:lnTo>
                  <a:lnTo>
                    <a:pt x="51" y="20"/>
                  </a:lnTo>
                  <a:lnTo>
                    <a:pt x="57" y="15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7" y="5"/>
                  </a:lnTo>
                  <a:lnTo>
                    <a:pt x="84" y="3"/>
                  </a:lnTo>
                  <a:lnTo>
                    <a:pt x="92" y="1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39" y="6"/>
                  </a:lnTo>
                  <a:lnTo>
                    <a:pt x="148" y="11"/>
                  </a:lnTo>
                  <a:lnTo>
                    <a:pt x="157" y="18"/>
                  </a:lnTo>
                  <a:lnTo>
                    <a:pt x="165" y="25"/>
                  </a:lnTo>
                  <a:lnTo>
                    <a:pt x="173" y="34"/>
                  </a:lnTo>
                  <a:lnTo>
                    <a:pt x="181" y="44"/>
                  </a:lnTo>
                  <a:lnTo>
                    <a:pt x="181" y="6"/>
                  </a:lnTo>
                  <a:lnTo>
                    <a:pt x="220" y="6"/>
                  </a:lnTo>
                  <a:lnTo>
                    <a:pt x="220" y="272"/>
                  </a:lnTo>
                  <a:lnTo>
                    <a:pt x="220" y="290"/>
                  </a:lnTo>
                  <a:lnTo>
                    <a:pt x="219" y="306"/>
                  </a:lnTo>
                  <a:lnTo>
                    <a:pt x="218" y="321"/>
                  </a:lnTo>
                  <a:lnTo>
                    <a:pt x="217" y="333"/>
                  </a:lnTo>
                  <a:lnTo>
                    <a:pt x="215" y="346"/>
                  </a:lnTo>
                  <a:lnTo>
                    <a:pt x="213" y="357"/>
                  </a:lnTo>
                  <a:lnTo>
                    <a:pt x="211" y="366"/>
                  </a:lnTo>
                  <a:lnTo>
                    <a:pt x="208" y="374"/>
                  </a:lnTo>
                  <a:lnTo>
                    <a:pt x="205" y="381"/>
                  </a:lnTo>
                  <a:lnTo>
                    <a:pt x="201" y="388"/>
                  </a:lnTo>
                  <a:lnTo>
                    <a:pt x="197" y="394"/>
                  </a:lnTo>
                  <a:lnTo>
                    <a:pt x="193" y="401"/>
                  </a:lnTo>
                  <a:lnTo>
                    <a:pt x="188" y="407"/>
                  </a:lnTo>
                  <a:lnTo>
                    <a:pt x="183" y="412"/>
                  </a:lnTo>
                  <a:lnTo>
                    <a:pt x="177" y="417"/>
                  </a:lnTo>
                  <a:lnTo>
                    <a:pt x="170" y="422"/>
                  </a:lnTo>
                  <a:lnTo>
                    <a:pt x="163" y="426"/>
                  </a:lnTo>
                  <a:lnTo>
                    <a:pt x="157" y="429"/>
                  </a:lnTo>
                  <a:lnTo>
                    <a:pt x="149" y="432"/>
                  </a:lnTo>
                  <a:lnTo>
                    <a:pt x="142" y="434"/>
                  </a:lnTo>
                  <a:lnTo>
                    <a:pt x="134" y="436"/>
                  </a:lnTo>
                  <a:lnTo>
                    <a:pt x="125" y="438"/>
                  </a:lnTo>
                  <a:lnTo>
                    <a:pt x="117" y="438"/>
                  </a:lnTo>
                  <a:lnTo>
                    <a:pt x="107" y="438"/>
                  </a:lnTo>
                  <a:lnTo>
                    <a:pt x="96" y="438"/>
                  </a:lnTo>
                  <a:lnTo>
                    <a:pt x="85" y="437"/>
                  </a:lnTo>
                  <a:lnTo>
                    <a:pt x="76" y="436"/>
                  </a:lnTo>
                  <a:lnTo>
                    <a:pt x="67" y="432"/>
                  </a:lnTo>
                  <a:lnTo>
                    <a:pt x="58" y="429"/>
                  </a:lnTo>
                  <a:lnTo>
                    <a:pt x="50" y="424"/>
                  </a:lnTo>
                  <a:lnTo>
                    <a:pt x="42" y="419"/>
                  </a:lnTo>
                  <a:lnTo>
                    <a:pt x="35" y="414"/>
                  </a:lnTo>
                  <a:lnTo>
                    <a:pt x="28" y="407"/>
                  </a:lnTo>
                  <a:lnTo>
                    <a:pt x="23" y="399"/>
                  </a:lnTo>
                  <a:lnTo>
                    <a:pt x="18" y="392"/>
                  </a:lnTo>
                  <a:lnTo>
                    <a:pt x="14" y="383"/>
                  </a:lnTo>
                  <a:lnTo>
                    <a:pt x="11" y="373"/>
                  </a:lnTo>
                  <a:lnTo>
                    <a:pt x="9" y="363"/>
                  </a:lnTo>
                  <a:lnTo>
                    <a:pt x="8" y="352"/>
                  </a:lnTo>
                  <a:lnTo>
                    <a:pt x="8" y="340"/>
                  </a:lnTo>
                  <a:close/>
                  <a:moveTo>
                    <a:pt x="44" y="155"/>
                  </a:moveTo>
                  <a:lnTo>
                    <a:pt x="44" y="170"/>
                  </a:lnTo>
                  <a:lnTo>
                    <a:pt x="45" y="184"/>
                  </a:lnTo>
                  <a:lnTo>
                    <a:pt x="46" y="196"/>
                  </a:lnTo>
                  <a:lnTo>
                    <a:pt x="48" y="207"/>
                  </a:lnTo>
                  <a:lnTo>
                    <a:pt x="51" y="217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3" y="243"/>
                  </a:lnTo>
                  <a:lnTo>
                    <a:pt x="68" y="250"/>
                  </a:lnTo>
                  <a:lnTo>
                    <a:pt x="73" y="255"/>
                  </a:lnTo>
                  <a:lnTo>
                    <a:pt x="79" y="260"/>
                  </a:lnTo>
                  <a:lnTo>
                    <a:pt x="85" y="263"/>
                  </a:lnTo>
                  <a:lnTo>
                    <a:pt x="91" y="267"/>
                  </a:lnTo>
                  <a:lnTo>
                    <a:pt x="97" y="270"/>
                  </a:lnTo>
                  <a:lnTo>
                    <a:pt x="105" y="271"/>
                  </a:lnTo>
                  <a:lnTo>
                    <a:pt x="112" y="271"/>
                  </a:lnTo>
                  <a:lnTo>
                    <a:pt x="119" y="271"/>
                  </a:lnTo>
                  <a:lnTo>
                    <a:pt x="126" y="270"/>
                  </a:lnTo>
                  <a:lnTo>
                    <a:pt x="132" y="267"/>
                  </a:lnTo>
                  <a:lnTo>
                    <a:pt x="139" y="263"/>
                  </a:lnTo>
                  <a:lnTo>
                    <a:pt x="144" y="260"/>
                  </a:lnTo>
                  <a:lnTo>
                    <a:pt x="150" y="256"/>
                  </a:lnTo>
                  <a:lnTo>
                    <a:pt x="155" y="250"/>
                  </a:lnTo>
                  <a:lnTo>
                    <a:pt x="160" y="243"/>
                  </a:lnTo>
                  <a:lnTo>
                    <a:pt x="165" y="236"/>
                  </a:lnTo>
                  <a:lnTo>
                    <a:pt x="169" y="227"/>
                  </a:lnTo>
                  <a:lnTo>
                    <a:pt x="172" y="218"/>
                  </a:lnTo>
                  <a:lnTo>
                    <a:pt x="176" y="207"/>
                  </a:lnTo>
                  <a:lnTo>
                    <a:pt x="178" y="196"/>
                  </a:lnTo>
                  <a:lnTo>
                    <a:pt x="180" y="185"/>
                  </a:lnTo>
                  <a:lnTo>
                    <a:pt x="180" y="171"/>
                  </a:lnTo>
                  <a:lnTo>
                    <a:pt x="181" y="156"/>
                  </a:lnTo>
                  <a:lnTo>
                    <a:pt x="180" y="142"/>
                  </a:lnTo>
                  <a:lnTo>
                    <a:pt x="179" y="130"/>
                  </a:lnTo>
                  <a:lnTo>
                    <a:pt x="178" y="119"/>
                  </a:lnTo>
                  <a:lnTo>
                    <a:pt x="176" y="107"/>
                  </a:lnTo>
                  <a:lnTo>
                    <a:pt x="172" y="97"/>
                  </a:lnTo>
                  <a:lnTo>
                    <a:pt x="168" y="87"/>
                  </a:lnTo>
                  <a:lnTo>
                    <a:pt x="164" y="79"/>
                  </a:lnTo>
                  <a:lnTo>
                    <a:pt x="160" y="71"/>
                  </a:lnTo>
                  <a:lnTo>
                    <a:pt x="155" y="65"/>
                  </a:lnTo>
                  <a:lnTo>
                    <a:pt x="149" y="59"/>
                  </a:lnTo>
                  <a:lnTo>
                    <a:pt x="144" y="54"/>
                  </a:lnTo>
                  <a:lnTo>
                    <a:pt x="138" y="50"/>
                  </a:lnTo>
                  <a:lnTo>
                    <a:pt x="131" y="48"/>
                  </a:lnTo>
                  <a:lnTo>
                    <a:pt x="125" y="45"/>
                  </a:lnTo>
                  <a:lnTo>
                    <a:pt x="118" y="44"/>
                  </a:lnTo>
                  <a:lnTo>
                    <a:pt x="111" y="43"/>
                  </a:lnTo>
                  <a:lnTo>
                    <a:pt x="105" y="44"/>
                  </a:lnTo>
                  <a:lnTo>
                    <a:pt x="97" y="45"/>
                  </a:lnTo>
                  <a:lnTo>
                    <a:pt x="91" y="48"/>
                  </a:lnTo>
                  <a:lnTo>
                    <a:pt x="85" y="50"/>
                  </a:lnTo>
                  <a:lnTo>
                    <a:pt x="79" y="54"/>
                  </a:lnTo>
                  <a:lnTo>
                    <a:pt x="73" y="59"/>
                  </a:lnTo>
                  <a:lnTo>
                    <a:pt x="68" y="65"/>
                  </a:lnTo>
                  <a:lnTo>
                    <a:pt x="63" y="71"/>
                  </a:lnTo>
                  <a:lnTo>
                    <a:pt x="59" y="79"/>
                  </a:lnTo>
                  <a:lnTo>
                    <a:pt x="55" y="87"/>
                  </a:lnTo>
                  <a:lnTo>
                    <a:pt x="51" y="96"/>
                  </a:lnTo>
                  <a:lnTo>
                    <a:pt x="49" y="106"/>
                  </a:lnTo>
                  <a:lnTo>
                    <a:pt x="46" y="117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4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54760" y="2788560"/>
              <a:ext cx="60840" cy="62280"/>
            </a:xfrm>
            <a:custGeom>
              <a:avLst/>
              <a:gdLst/>
              <a:ahLst/>
              <a:rect l="l" t="t" r="r" b="b"/>
              <a:pathLst>
                <a:path w="234" h="321">
                  <a:moveTo>
                    <a:pt x="0" y="160"/>
                  </a:moveTo>
                  <a:lnTo>
                    <a:pt x="1" y="140"/>
                  </a:lnTo>
                  <a:lnTo>
                    <a:pt x="2" y="120"/>
                  </a:lnTo>
                  <a:lnTo>
                    <a:pt x="5" y="102"/>
                  </a:lnTo>
                  <a:lnTo>
                    <a:pt x="10" y="86"/>
                  </a:lnTo>
                  <a:lnTo>
                    <a:pt x="15" y="71"/>
                  </a:lnTo>
                  <a:lnTo>
                    <a:pt x="22" y="57"/>
                  </a:lnTo>
                  <a:lnTo>
                    <a:pt x="29" y="45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5" y="14"/>
                  </a:lnTo>
                  <a:lnTo>
                    <a:pt x="74" y="9"/>
                  </a:lnTo>
                  <a:lnTo>
                    <a:pt x="84" y="5"/>
                  </a:lnTo>
                  <a:lnTo>
                    <a:pt x="95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30" y="0"/>
                  </a:lnTo>
                  <a:lnTo>
                    <a:pt x="142" y="3"/>
                  </a:lnTo>
                  <a:lnTo>
                    <a:pt x="153" y="6"/>
                  </a:lnTo>
                  <a:lnTo>
                    <a:pt x="164" y="10"/>
                  </a:lnTo>
                  <a:lnTo>
                    <a:pt x="174" y="16"/>
                  </a:lnTo>
                  <a:lnTo>
                    <a:pt x="183" y="24"/>
                  </a:lnTo>
                  <a:lnTo>
                    <a:pt x="192" y="31"/>
                  </a:lnTo>
                  <a:lnTo>
                    <a:pt x="201" y="41"/>
                  </a:lnTo>
                  <a:lnTo>
                    <a:pt x="209" y="52"/>
                  </a:lnTo>
                  <a:lnTo>
                    <a:pt x="216" y="64"/>
                  </a:lnTo>
                  <a:lnTo>
                    <a:pt x="221" y="77"/>
                  </a:lnTo>
                  <a:lnTo>
                    <a:pt x="226" y="91"/>
                  </a:lnTo>
                  <a:lnTo>
                    <a:pt x="229" y="106"/>
                  </a:lnTo>
                  <a:lnTo>
                    <a:pt x="232" y="121"/>
                  </a:lnTo>
                  <a:lnTo>
                    <a:pt x="233" y="139"/>
                  </a:lnTo>
                  <a:lnTo>
                    <a:pt x="234" y="156"/>
                  </a:lnTo>
                  <a:lnTo>
                    <a:pt x="233" y="171"/>
                  </a:lnTo>
                  <a:lnTo>
                    <a:pt x="233" y="184"/>
                  </a:lnTo>
                  <a:lnTo>
                    <a:pt x="232" y="197"/>
                  </a:lnTo>
                  <a:lnTo>
                    <a:pt x="230" y="208"/>
                  </a:lnTo>
                  <a:lnTo>
                    <a:pt x="228" y="220"/>
                  </a:lnTo>
                  <a:lnTo>
                    <a:pt x="226" y="231"/>
                  </a:lnTo>
                  <a:lnTo>
                    <a:pt x="223" y="241"/>
                  </a:lnTo>
                  <a:lnTo>
                    <a:pt x="219" y="250"/>
                  </a:lnTo>
                  <a:lnTo>
                    <a:pt x="216" y="257"/>
                  </a:lnTo>
                  <a:lnTo>
                    <a:pt x="212" y="266"/>
                  </a:lnTo>
                  <a:lnTo>
                    <a:pt x="207" y="272"/>
                  </a:lnTo>
                  <a:lnTo>
                    <a:pt x="202" y="280"/>
                  </a:lnTo>
                  <a:lnTo>
                    <a:pt x="197" y="286"/>
                  </a:lnTo>
                  <a:lnTo>
                    <a:pt x="190" y="292"/>
                  </a:lnTo>
                  <a:lnTo>
                    <a:pt x="184" y="297"/>
                  </a:lnTo>
                  <a:lnTo>
                    <a:pt x="177" y="302"/>
                  </a:lnTo>
                  <a:lnTo>
                    <a:pt x="170" y="307"/>
                  </a:lnTo>
                  <a:lnTo>
                    <a:pt x="163" y="311"/>
                  </a:lnTo>
                  <a:lnTo>
                    <a:pt x="156" y="313"/>
                  </a:lnTo>
                  <a:lnTo>
                    <a:pt x="149" y="316"/>
                  </a:lnTo>
                  <a:lnTo>
                    <a:pt x="141" y="318"/>
                  </a:lnTo>
                  <a:lnTo>
                    <a:pt x="133" y="320"/>
                  </a:lnTo>
                  <a:lnTo>
                    <a:pt x="126" y="321"/>
                  </a:lnTo>
                  <a:lnTo>
                    <a:pt x="117" y="321"/>
                  </a:lnTo>
                  <a:lnTo>
                    <a:pt x="104" y="321"/>
                  </a:lnTo>
                  <a:lnTo>
                    <a:pt x="92" y="318"/>
                  </a:lnTo>
                  <a:lnTo>
                    <a:pt x="81" y="315"/>
                  </a:lnTo>
                  <a:lnTo>
                    <a:pt x="70" y="311"/>
                  </a:lnTo>
                  <a:lnTo>
                    <a:pt x="60" y="305"/>
                  </a:lnTo>
                  <a:lnTo>
                    <a:pt x="49" y="297"/>
                  </a:lnTo>
                  <a:lnTo>
                    <a:pt x="40" y="290"/>
                  </a:lnTo>
                  <a:lnTo>
                    <a:pt x="32" y="280"/>
                  </a:lnTo>
                  <a:lnTo>
                    <a:pt x="25" y="268"/>
                  </a:lnTo>
                  <a:lnTo>
                    <a:pt x="18" y="257"/>
                  </a:lnTo>
                  <a:lnTo>
                    <a:pt x="13" y="243"/>
                  </a:lnTo>
                  <a:lnTo>
                    <a:pt x="8" y="230"/>
                  </a:lnTo>
                  <a:lnTo>
                    <a:pt x="5" y="213"/>
                  </a:lnTo>
                  <a:lnTo>
                    <a:pt x="2" y="197"/>
                  </a:lnTo>
                  <a:lnTo>
                    <a:pt x="1" y="180"/>
                  </a:lnTo>
                  <a:lnTo>
                    <a:pt x="0" y="160"/>
                  </a:lnTo>
                  <a:close/>
                  <a:moveTo>
                    <a:pt x="43" y="160"/>
                  </a:moveTo>
                  <a:lnTo>
                    <a:pt x="43" y="175"/>
                  </a:lnTo>
                  <a:lnTo>
                    <a:pt x="44" y="189"/>
                  </a:lnTo>
                  <a:lnTo>
                    <a:pt x="46" y="201"/>
                  </a:lnTo>
                  <a:lnTo>
                    <a:pt x="48" y="212"/>
                  </a:lnTo>
                  <a:lnTo>
                    <a:pt x="52" y="222"/>
                  </a:lnTo>
                  <a:lnTo>
                    <a:pt x="56" y="232"/>
                  </a:lnTo>
                  <a:lnTo>
                    <a:pt x="60" y="241"/>
                  </a:lnTo>
                  <a:lnTo>
                    <a:pt x="65" y="248"/>
                  </a:lnTo>
                  <a:lnTo>
                    <a:pt x="70" y="256"/>
                  </a:lnTo>
                  <a:lnTo>
                    <a:pt x="76" y="262"/>
                  </a:lnTo>
                  <a:lnTo>
                    <a:pt x="82" y="267"/>
                  </a:lnTo>
                  <a:lnTo>
                    <a:pt x="88" y="271"/>
                  </a:lnTo>
                  <a:lnTo>
                    <a:pt x="95" y="275"/>
                  </a:lnTo>
                  <a:lnTo>
                    <a:pt x="102" y="276"/>
                  </a:lnTo>
                  <a:lnTo>
                    <a:pt x="109" y="277"/>
                  </a:lnTo>
                  <a:lnTo>
                    <a:pt x="117" y="278"/>
                  </a:lnTo>
                  <a:lnTo>
                    <a:pt x="125" y="277"/>
                  </a:lnTo>
                  <a:lnTo>
                    <a:pt x="132" y="276"/>
                  </a:lnTo>
                  <a:lnTo>
                    <a:pt x="139" y="273"/>
                  </a:lnTo>
                  <a:lnTo>
                    <a:pt x="146" y="271"/>
                  </a:lnTo>
                  <a:lnTo>
                    <a:pt x="152" y="267"/>
                  </a:lnTo>
                  <a:lnTo>
                    <a:pt x="158" y="262"/>
                  </a:lnTo>
                  <a:lnTo>
                    <a:pt x="164" y="256"/>
                  </a:lnTo>
                  <a:lnTo>
                    <a:pt x="169" y="248"/>
                  </a:lnTo>
                  <a:lnTo>
                    <a:pt x="174" y="241"/>
                  </a:lnTo>
                  <a:lnTo>
                    <a:pt x="178" y="232"/>
                  </a:lnTo>
                  <a:lnTo>
                    <a:pt x="182" y="222"/>
                  </a:lnTo>
                  <a:lnTo>
                    <a:pt x="185" y="211"/>
                  </a:lnTo>
                  <a:lnTo>
                    <a:pt x="187" y="200"/>
                  </a:lnTo>
                  <a:lnTo>
                    <a:pt x="189" y="187"/>
                  </a:lnTo>
                  <a:lnTo>
                    <a:pt x="189" y="174"/>
                  </a:lnTo>
                  <a:lnTo>
                    <a:pt x="190" y="159"/>
                  </a:lnTo>
                  <a:lnTo>
                    <a:pt x="189" y="145"/>
                  </a:lnTo>
                  <a:lnTo>
                    <a:pt x="189" y="132"/>
                  </a:lnTo>
                  <a:lnTo>
                    <a:pt x="187" y="120"/>
                  </a:lnTo>
                  <a:lnTo>
                    <a:pt x="185" y="109"/>
                  </a:lnTo>
                  <a:lnTo>
                    <a:pt x="182" y="99"/>
                  </a:lnTo>
                  <a:lnTo>
                    <a:pt x="178" y="89"/>
                  </a:lnTo>
                  <a:lnTo>
                    <a:pt x="174" y="80"/>
                  </a:lnTo>
                  <a:lnTo>
                    <a:pt x="169" y="72"/>
                  </a:lnTo>
                  <a:lnTo>
                    <a:pt x="164" y="65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6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09" y="44"/>
                  </a:lnTo>
                  <a:lnTo>
                    <a:pt x="102" y="45"/>
                  </a:lnTo>
                  <a:lnTo>
                    <a:pt x="95" y="48"/>
                  </a:lnTo>
                  <a:lnTo>
                    <a:pt x="88" y="50"/>
                  </a:lnTo>
                  <a:lnTo>
                    <a:pt x="82" y="55"/>
                  </a:lnTo>
                  <a:lnTo>
                    <a:pt x="76" y="60"/>
                  </a:lnTo>
                  <a:lnTo>
                    <a:pt x="70" y="65"/>
                  </a:lnTo>
                  <a:lnTo>
                    <a:pt x="65" y="72"/>
                  </a:lnTo>
                  <a:lnTo>
                    <a:pt x="60" y="80"/>
                  </a:lnTo>
                  <a:lnTo>
                    <a:pt x="56" y="89"/>
                  </a:lnTo>
                  <a:lnTo>
                    <a:pt x="52" y="99"/>
                  </a:lnTo>
                  <a:lnTo>
                    <a:pt x="48" y="109"/>
                  </a:lnTo>
                  <a:lnTo>
                    <a:pt x="46" y="120"/>
                  </a:lnTo>
                  <a:lnTo>
                    <a:pt x="44" y="132"/>
                  </a:lnTo>
                  <a:lnTo>
                    <a:pt x="43" y="146"/>
                  </a:lnTo>
                  <a:lnTo>
                    <a:pt x="4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23880" y="2788560"/>
              <a:ext cx="56880" cy="85680"/>
            </a:xfrm>
            <a:custGeom>
              <a:avLst/>
              <a:gdLst/>
              <a:ahLst/>
              <a:rect l="l" t="t" r="r" b="b"/>
              <a:pathLst>
                <a:path w="220" h="438">
                  <a:moveTo>
                    <a:pt x="9" y="340"/>
                  </a:moveTo>
                  <a:lnTo>
                    <a:pt x="49" y="347"/>
                  </a:lnTo>
                  <a:lnTo>
                    <a:pt x="50" y="352"/>
                  </a:lnTo>
                  <a:lnTo>
                    <a:pt x="51" y="358"/>
                  </a:lnTo>
                  <a:lnTo>
                    <a:pt x="53" y="363"/>
                  </a:lnTo>
                  <a:lnTo>
                    <a:pt x="54" y="367"/>
                  </a:lnTo>
                  <a:lnTo>
                    <a:pt x="56" y="371"/>
                  </a:lnTo>
                  <a:lnTo>
                    <a:pt x="58" y="374"/>
                  </a:lnTo>
                  <a:lnTo>
                    <a:pt x="61" y="378"/>
                  </a:lnTo>
                  <a:lnTo>
                    <a:pt x="64" y="381"/>
                  </a:lnTo>
                  <a:lnTo>
                    <a:pt x="68" y="384"/>
                  </a:lnTo>
                  <a:lnTo>
                    <a:pt x="72" y="387"/>
                  </a:lnTo>
                  <a:lnTo>
                    <a:pt x="78" y="389"/>
                  </a:lnTo>
                  <a:lnTo>
                    <a:pt x="83" y="392"/>
                  </a:lnTo>
                  <a:lnTo>
                    <a:pt x="88" y="393"/>
                  </a:lnTo>
                  <a:lnTo>
                    <a:pt x="94" y="394"/>
                  </a:lnTo>
                  <a:lnTo>
                    <a:pt x="100" y="396"/>
                  </a:lnTo>
                  <a:lnTo>
                    <a:pt x="107" y="396"/>
                  </a:lnTo>
                  <a:lnTo>
                    <a:pt x="114" y="396"/>
                  </a:lnTo>
                  <a:lnTo>
                    <a:pt x="121" y="394"/>
                  </a:lnTo>
                  <a:lnTo>
                    <a:pt x="127" y="393"/>
                  </a:lnTo>
                  <a:lnTo>
                    <a:pt x="133" y="392"/>
                  </a:lnTo>
                  <a:lnTo>
                    <a:pt x="138" y="389"/>
                  </a:lnTo>
                  <a:lnTo>
                    <a:pt x="143" y="387"/>
                  </a:lnTo>
                  <a:lnTo>
                    <a:pt x="149" y="384"/>
                  </a:lnTo>
                  <a:lnTo>
                    <a:pt x="153" y="381"/>
                  </a:lnTo>
                  <a:lnTo>
                    <a:pt x="157" y="377"/>
                  </a:lnTo>
                  <a:lnTo>
                    <a:pt x="160" y="373"/>
                  </a:lnTo>
                  <a:lnTo>
                    <a:pt x="163" y="368"/>
                  </a:lnTo>
                  <a:lnTo>
                    <a:pt x="166" y="363"/>
                  </a:lnTo>
                  <a:lnTo>
                    <a:pt x="168" y="358"/>
                  </a:lnTo>
                  <a:lnTo>
                    <a:pt x="171" y="353"/>
                  </a:lnTo>
                  <a:lnTo>
                    <a:pt x="172" y="347"/>
                  </a:lnTo>
                  <a:lnTo>
                    <a:pt x="174" y="341"/>
                  </a:lnTo>
                  <a:lnTo>
                    <a:pt x="175" y="336"/>
                  </a:lnTo>
                  <a:lnTo>
                    <a:pt x="175" y="331"/>
                  </a:lnTo>
                  <a:lnTo>
                    <a:pt x="176" y="323"/>
                  </a:lnTo>
                  <a:lnTo>
                    <a:pt x="176" y="316"/>
                  </a:lnTo>
                  <a:lnTo>
                    <a:pt x="177" y="307"/>
                  </a:lnTo>
                  <a:lnTo>
                    <a:pt x="177" y="297"/>
                  </a:lnTo>
                  <a:lnTo>
                    <a:pt x="177" y="286"/>
                  </a:lnTo>
                  <a:lnTo>
                    <a:pt x="177" y="273"/>
                  </a:lnTo>
                  <a:lnTo>
                    <a:pt x="170" y="283"/>
                  </a:lnTo>
                  <a:lnTo>
                    <a:pt x="163" y="291"/>
                  </a:lnTo>
                  <a:lnTo>
                    <a:pt x="155" y="298"/>
                  </a:lnTo>
                  <a:lnTo>
                    <a:pt x="145" y="303"/>
                  </a:lnTo>
                  <a:lnTo>
                    <a:pt x="137" y="308"/>
                  </a:lnTo>
                  <a:lnTo>
                    <a:pt x="127" y="312"/>
                  </a:lnTo>
                  <a:lnTo>
                    <a:pt x="118" y="313"/>
                  </a:lnTo>
                  <a:lnTo>
                    <a:pt x="108" y="315"/>
                  </a:lnTo>
                  <a:lnTo>
                    <a:pt x="96" y="313"/>
                  </a:lnTo>
                  <a:lnTo>
                    <a:pt x="84" y="311"/>
                  </a:lnTo>
                  <a:lnTo>
                    <a:pt x="72" y="307"/>
                  </a:lnTo>
                  <a:lnTo>
                    <a:pt x="62" y="302"/>
                  </a:lnTo>
                  <a:lnTo>
                    <a:pt x="52" y="296"/>
                  </a:lnTo>
                  <a:lnTo>
                    <a:pt x="44" y="288"/>
                  </a:lnTo>
                  <a:lnTo>
                    <a:pt x="36" y="278"/>
                  </a:lnTo>
                  <a:lnTo>
                    <a:pt x="28" y="268"/>
                  </a:lnTo>
                  <a:lnTo>
                    <a:pt x="22" y="257"/>
                  </a:lnTo>
                  <a:lnTo>
                    <a:pt x="16" y="245"/>
                  </a:lnTo>
                  <a:lnTo>
                    <a:pt x="11" y="231"/>
                  </a:lnTo>
                  <a:lnTo>
                    <a:pt x="7" y="218"/>
                  </a:lnTo>
                  <a:lnTo>
                    <a:pt x="4" y="203"/>
                  </a:lnTo>
                  <a:lnTo>
                    <a:pt x="2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0" y="147"/>
                  </a:lnTo>
                  <a:lnTo>
                    <a:pt x="0" y="137"/>
                  </a:lnTo>
                  <a:lnTo>
                    <a:pt x="2" y="126"/>
                  </a:lnTo>
                  <a:lnTo>
                    <a:pt x="4" y="116"/>
                  </a:lnTo>
                  <a:lnTo>
                    <a:pt x="5" y="106"/>
                  </a:lnTo>
                  <a:lnTo>
                    <a:pt x="8" y="96"/>
                  </a:lnTo>
                  <a:lnTo>
                    <a:pt x="10" y="87"/>
                  </a:lnTo>
                  <a:lnTo>
                    <a:pt x="13" y="77"/>
                  </a:lnTo>
                  <a:lnTo>
                    <a:pt x="17" y="69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9" y="45"/>
                  </a:lnTo>
                  <a:lnTo>
                    <a:pt x="34" y="38"/>
                  </a:lnTo>
                  <a:lnTo>
                    <a:pt x="39" y="31"/>
                  </a:lnTo>
                  <a:lnTo>
                    <a:pt x="44" y="25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8" y="5"/>
                  </a:lnTo>
                  <a:lnTo>
                    <a:pt x="85" y="3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9" y="0"/>
                  </a:lnTo>
                  <a:lnTo>
                    <a:pt x="129" y="3"/>
                  </a:lnTo>
                  <a:lnTo>
                    <a:pt x="139" y="6"/>
                  </a:lnTo>
                  <a:lnTo>
                    <a:pt x="149" y="11"/>
                  </a:lnTo>
                  <a:lnTo>
                    <a:pt x="158" y="18"/>
                  </a:lnTo>
                  <a:lnTo>
                    <a:pt x="166" y="25"/>
                  </a:lnTo>
                  <a:lnTo>
                    <a:pt x="174" y="34"/>
                  </a:lnTo>
                  <a:lnTo>
                    <a:pt x="181" y="44"/>
                  </a:lnTo>
                  <a:lnTo>
                    <a:pt x="181" y="6"/>
                  </a:lnTo>
                  <a:lnTo>
                    <a:pt x="220" y="6"/>
                  </a:lnTo>
                  <a:lnTo>
                    <a:pt x="220" y="272"/>
                  </a:lnTo>
                  <a:lnTo>
                    <a:pt x="220" y="290"/>
                  </a:lnTo>
                  <a:lnTo>
                    <a:pt x="220" y="306"/>
                  </a:lnTo>
                  <a:lnTo>
                    <a:pt x="219" y="321"/>
                  </a:lnTo>
                  <a:lnTo>
                    <a:pt x="217" y="333"/>
                  </a:lnTo>
                  <a:lnTo>
                    <a:pt x="215" y="346"/>
                  </a:lnTo>
                  <a:lnTo>
                    <a:pt x="213" y="357"/>
                  </a:lnTo>
                  <a:lnTo>
                    <a:pt x="210" y="366"/>
                  </a:lnTo>
                  <a:lnTo>
                    <a:pt x="208" y="374"/>
                  </a:lnTo>
                  <a:lnTo>
                    <a:pt x="205" y="381"/>
                  </a:lnTo>
                  <a:lnTo>
                    <a:pt x="201" y="388"/>
                  </a:lnTo>
                  <a:lnTo>
                    <a:pt x="197" y="394"/>
                  </a:lnTo>
                  <a:lnTo>
                    <a:pt x="193" y="401"/>
                  </a:lnTo>
                  <a:lnTo>
                    <a:pt x="188" y="407"/>
                  </a:lnTo>
                  <a:lnTo>
                    <a:pt x="183" y="412"/>
                  </a:lnTo>
                  <a:lnTo>
                    <a:pt x="177" y="417"/>
                  </a:lnTo>
                  <a:lnTo>
                    <a:pt x="171" y="422"/>
                  </a:lnTo>
                  <a:lnTo>
                    <a:pt x="164" y="426"/>
                  </a:lnTo>
                  <a:lnTo>
                    <a:pt x="157" y="429"/>
                  </a:lnTo>
                  <a:lnTo>
                    <a:pt x="150" y="432"/>
                  </a:lnTo>
                  <a:lnTo>
                    <a:pt x="141" y="434"/>
                  </a:lnTo>
                  <a:lnTo>
                    <a:pt x="133" y="436"/>
                  </a:lnTo>
                  <a:lnTo>
                    <a:pt x="125" y="438"/>
                  </a:lnTo>
                  <a:lnTo>
                    <a:pt x="116" y="438"/>
                  </a:lnTo>
                  <a:lnTo>
                    <a:pt x="107" y="438"/>
                  </a:lnTo>
                  <a:lnTo>
                    <a:pt x="96" y="438"/>
                  </a:lnTo>
                  <a:lnTo>
                    <a:pt x="86" y="437"/>
                  </a:lnTo>
                  <a:lnTo>
                    <a:pt x="77" y="436"/>
                  </a:lnTo>
                  <a:lnTo>
                    <a:pt x="66" y="432"/>
                  </a:lnTo>
                  <a:lnTo>
                    <a:pt x="58" y="429"/>
                  </a:lnTo>
                  <a:lnTo>
                    <a:pt x="50" y="424"/>
                  </a:lnTo>
                  <a:lnTo>
                    <a:pt x="42" y="419"/>
                  </a:lnTo>
                  <a:lnTo>
                    <a:pt x="35" y="414"/>
                  </a:lnTo>
                  <a:lnTo>
                    <a:pt x="29" y="407"/>
                  </a:lnTo>
                  <a:lnTo>
                    <a:pt x="23" y="399"/>
                  </a:lnTo>
                  <a:lnTo>
                    <a:pt x="19" y="392"/>
                  </a:lnTo>
                  <a:lnTo>
                    <a:pt x="15" y="383"/>
                  </a:lnTo>
                  <a:lnTo>
                    <a:pt x="12" y="373"/>
                  </a:lnTo>
                  <a:lnTo>
                    <a:pt x="10" y="363"/>
                  </a:lnTo>
                  <a:lnTo>
                    <a:pt x="9" y="352"/>
                  </a:lnTo>
                  <a:lnTo>
                    <a:pt x="9" y="340"/>
                  </a:lnTo>
                  <a:close/>
                  <a:moveTo>
                    <a:pt x="43" y="155"/>
                  </a:moveTo>
                  <a:lnTo>
                    <a:pt x="44" y="170"/>
                  </a:lnTo>
                  <a:lnTo>
                    <a:pt x="45" y="184"/>
                  </a:lnTo>
                  <a:lnTo>
                    <a:pt x="46" y="196"/>
                  </a:lnTo>
                  <a:lnTo>
                    <a:pt x="48" y="207"/>
                  </a:lnTo>
                  <a:lnTo>
                    <a:pt x="51" y="217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3" y="243"/>
                  </a:lnTo>
                  <a:lnTo>
                    <a:pt x="68" y="250"/>
                  </a:lnTo>
                  <a:lnTo>
                    <a:pt x="74" y="255"/>
                  </a:lnTo>
                  <a:lnTo>
                    <a:pt x="79" y="260"/>
                  </a:lnTo>
                  <a:lnTo>
                    <a:pt x="85" y="263"/>
                  </a:lnTo>
                  <a:lnTo>
                    <a:pt x="92" y="267"/>
                  </a:lnTo>
                  <a:lnTo>
                    <a:pt x="98" y="270"/>
                  </a:lnTo>
                  <a:lnTo>
                    <a:pt x="105" y="271"/>
                  </a:lnTo>
                  <a:lnTo>
                    <a:pt x="112" y="271"/>
                  </a:lnTo>
                  <a:lnTo>
                    <a:pt x="119" y="271"/>
                  </a:lnTo>
                  <a:lnTo>
                    <a:pt x="126" y="270"/>
                  </a:lnTo>
                  <a:lnTo>
                    <a:pt x="132" y="267"/>
                  </a:lnTo>
                  <a:lnTo>
                    <a:pt x="138" y="263"/>
                  </a:lnTo>
                  <a:lnTo>
                    <a:pt x="144" y="260"/>
                  </a:lnTo>
                  <a:lnTo>
                    <a:pt x="151" y="256"/>
                  </a:lnTo>
                  <a:lnTo>
                    <a:pt x="156" y="250"/>
                  </a:lnTo>
                  <a:lnTo>
                    <a:pt x="161" y="243"/>
                  </a:lnTo>
                  <a:lnTo>
                    <a:pt x="166" y="236"/>
                  </a:lnTo>
                  <a:lnTo>
                    <a:pt x="170" y="227"/>
                  </a:lnTo>
                  <a:lnTo>
                    <a:pt x="173" y="218"/>
                  </a:lnTo>
                  <a:lnTo>
                    <a:pt x="176" y="207"/>
                  </a:lnTo>
                  <a:lnTo>
                    <a:pt x="178" y="196"/>
                  </a:lnTo>
                  <a:lnTo>
                    <a:pt x="179" y="185"/>
                  </a:lnTo>
                  <a:lnTo>
                    <a:pt x="180" y="171"/>
                  </a:lnTo>
                  <a:lnTo>
                    <a:pt x="180" y="156"/>
                  </a:lnTo>
                  <a:lnTo>
                    <a:pt x="180" y="142"/>
                  </a:lnTo>
                  <a:lnTo>
                    <a:pt x="179" y="130"/>
                  </a:lnTo>
                  <a:lnTo>
                    <a:pt x="178" y="119"/>
                  </a:lnTo>
                  <a:lnTo>
                    <a:pt x="175" y="107"/>
                  </a:lnTo>
                  <a:lnTo>
                    <a:pt x="173" y="97"/>
                  </a:lnTo>
                  <a:lnTo>
                    <a:pt x="169" y="87"/>
                  </a:lnTo>
                  <a:lnTo>
                    <a:pt x="165" y="79"/>
                  </a:lnTo>
                  <a:lnTo>
                    <a:pt x="160" y="71"/>
                  </a:lnTo>
                  <a:lnTo>
                    <a:pt x="155" y="65"/>
                  </a:lnTo>
                  <a:lnTo>
                    <a:pt x="150" y="59"/>
                  </a:lnTo>
                  <a:lnTo>
                    <a:pt x="143" y="54"/>
                  </a:lnTo>
                  <a:lnTo>
                    <a:pt x="137" y="50"/>
                  </a:lnTo>
                  <a:lnTo>
                    <a:pt x="131" y="48"/>
                  </a:lnTo>
                  <a:lnTo>
                    <a:pt x="125" y="45"/>
                  </a:lnTo>
                  <a:lnTo>
                    <a:pt x="118" y="44"/>
                  </a:lnTo>
                  <a:lnTo>
                    <a:pt x="111" y="43"/>
                  </a:lnTo>
                  <a:lnTo>
                    <a:pt x="104" y="44"/>
                  </a:lnTo>
                  <a:lnTo>
                    <a:pt x="98" y="45"/>
                  </a:lnTo>
                  <a:lnTo>
                    <a:pt x="91" y="48"/>
                  </a:lnTo>
                  <a:lnTo>
                    <a:pt x="85" y="50"/>
                  </a:lnTo>
                  <a:lnTo>
                    <a:pt x="80" y="54"/>
                  </a:lnTo>
                  <a:lnTo>
                    <a:pt x="74" y="59"/>
                  </a:lnTo>
                  <a:lnTo>
                    <a:pt x="68" y="65"/>
                  </a:lnTo>
                  <a:lnTo>
                    <a:pt x="63" y="71"/>
                  </a:lnTo>
                  <a:lnTo>
                    <a:pt x="58" y="79"/>
                  </a:lnTo>
                  <a:lnTo>
                    <a:pt x="54" y="87"/>
                  </a:lnTo>
                  <a:lnTo>
                    <a:pt x="51" y="96"/>
                  </a:lnTo>
                  <a:lnTo>
                    <a:pt x="48" y="106"/>
                  </a:lnTo>
                  <a:lnTo>
                    <a:pt x="46" y="117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3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97320" y="2788560"/>
              <a:ext cx="52920" cy="6120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0" y="315"/>
                  </a:moveTo>
                  <a:lnTo>
                    <a:pt x="0" y="6"/>
                  </a:lnTo>
                  <a:lnTo>
                    <a:pt x="39" y="6"/>
                  </a:lnTo>
                  <a:lnTo>
                    <a:pt x="39" y="50"/>
                  </a:lnTo>
                  <a:lnTo>
                    <a:pt x="46" y="39"/>
                  </a:lnTo>
                  <a:lnTo>
                    <a:pt x="54" y="29"/>
                  </a:lnTo>
                  <a:lnTo>
                    <a:pt x="63" y="20"/>
                  </a:lnTo>
                  <a:lnTo>
                    <a:pt x="72" y="13"/>
                  </a:lnTo>
                  <a:lnTo>
                    <a:pt x="83" y="8"/>
                  </a:lnTo>
                  <a:lnTo>
                    <a:pt x="94" y="3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4" y="1"/>
                  </a:lnTo>
                  <a:lnTo>
                    <a:pt x="140" y="3"/>
                  </a:lnTo>
                  <a:lnTo>
                    <a:pt x="145" y="4"/>
                  </a:lnTo>
                  <a:lnTo>
                    <a:pt x="150" y="5"/>
                  </a:lnTo>
                  <a:lnTo>
                    <a:pt x="155" y="8"/>
                  </a:lnTo>
                  <a:lnTo>
                    <a:pt x="160" y="10"/>
                  </a:lnTo>
                  <a:lnTo>
                    <a:pt x="165" y="13"/>
                  </a:lnTo>
                  <a:lnTo>
                    <a:pt x="169" y="15"/>
                  </a:lnTo>
                  <a:lnTo>
                    <a:pt x="173" y="19"/>
                  </a:lnTo>
                  <a:lnTo>
                    <a:pt x="176" y="21"/>
                  </a:lnTo>
                  <a:lnTo>
                    <a:pt x="180" y="25"/>
                  </a:lnTo>
                  <a:lnTo>
                    <a:pt x="183" y="29"/>
                  </a:lnTo>
                  <a:lnTo>
                    <a:pt x="186" y="33"/>
                  </a:lnTo>
                  <a:lnTo>
                    <a:pt x="188" y="36"/>
                  </a:lnTo>
                  <a:lnTo>
                    <a:pt x="190" y="40"/>
                  </a:lnTo>
                  <a:lnTo>
                    <a:pt x="192" y="45"/>
                  </a:lnTo>
                  <a:lnTo>
                    <a:pt x="194" y="49"/>
                  </a:lnTo>
                  <a:lnTo>
                    <a:pt x="196" y="54"/>
                  </a:lnTo>
                  <a:lnTo>
                    <a:pt x="198" y="59"/>
                  </a:lnTo>
                  <a:lnTo>
                    <a:pt x="199" y="64"/>
                  </a:lnTo>
                  <a:lnTo>
                    <a:pt x="200" y="69"/>
                  </a:lnTo>
                  <a:lnTo>
                    <a:pt x="201" y="75"/>
                  </a:lnTo>
                  <a:lnTo>
                    <a:pt x="202" y="79"/>
                  </a:lnTo>
                  <a:lnTo>
                    <a:pt x="202" y="84"/>
                  </a:lnTo>
                  <a:lnTo>
                    <a:pt x="202" y="89"/>
                  </a:lnTo>
                  <a:lnTo>
                    <a:pt x="203" y="95"/>
                  </a:lnTo>
                  <a:lnTo>
                    <a:pt x="203" y="101"/>
                  </a:lnTo>
                  <a:lnTo>
                    <a:pt x="203" y="109"/>
                  </a:lnTo>
                  <a:lnTo>
                    <a:pt x="203" y="116"/>
                  </a:lnTo>
                  <a:lnTo>
                    <a:pt x="203" y="125"/>
                  </a:lnTo>
                  <a:lnTo>
                    <a:pt x="203" y="315"/>
                  </a:lnTo>
                  <a:lnTo>
                    <a:pt x="162" y="315"/>
                  </a:lnTo>
                  <a:lnTo>
                    <a:pt x="162" y="127"/>
                  </a:lnTo>
                  <a:lnTo>
                    <a:pt x="162" y="120"/>
                  </a:lnTo>
                  <a:lnTo>
                    <a:pt x="161" y="112"/>
                  </a:lnTo>
                  <a:lnTo>
                    <a:pt x="161" y="106"/>
                  </a:lnTo>
                  <a:lnTo>
                    <a:pt x="160" y="100"/>
                  </a:lnTo>
                  <a:lnTo>
                    <a:pt x="160" y="94"/>
                  </a:lnTo>
                  <a:lnTo>
                    <a:pt x="159" y="89"/>
                  </a:lnTo>
                  <a:lnTo>
                    <a:pt x="158" y="84"/>
                  </a:lnTo>
                  <a:lnTo>
                    <a:pt x="157" y="80"/>
                  </a:lnTo>
                  <a:lnTo>
                    <a:pt x="155" y="76"/>
                  </a:lnTo>
                  <a:lnTo>
                    <a:pt x="154" y="72"/>
                  </a:lnTo>
                  <a:lnTo>
                    <a:pt x="151" y="69"/>
                  </a:lnTo>
                  <a:lnTo>
                    <a:pt x="149" y="65"/>
                  </a:lnTo>
                  <a:lnTo>
                    <a:pt x="147" y="62"/>
                  </a:lnTo>
                  <a:lnTo>
                    <a:pt x="144" y="60"/>
                  </a:lnTo>
                  <a:lnTo>
                    <a:pt x="142" y="57"/>
                  </a:lnTo>
                  <a:lnTo>
                    <a:pt x="139" y="55"/>
                  </a:lnTo>
                  <a:lnTo>
                    <a:pt x="135" y="52"/>
                  </a:lnTo>
                  <a:lnTo>
                    <a:pt x="132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1" y="46"/>
                  </a:lnTo>
                  <a:lnTo>
                    <a:pt x="118" y="45"/>
                  </a:lnTo>
                  <a:lnTo>
                    <a:pt x="114" y="45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6"/>
                  </a:lnTo>
                  <a:lnTo>
                    <a:pt x="90" y="48"/>
                  </a:lnTo>
                  <a:lnTo>
                    <a:pt x="85" y="50"/>
                  </a:lnTo>
                  <a:lnTo>
                    <a:pt x="78" y="54"/>
                  </a:lnTo>
                  <a:lnTo>
                    <a:pt x="73" y="57"/>
                  </a:lnTo>
                  <a:lnTo>
                    <a:pt x="67" y="61"/>
                  </a:lnTo>
                  <a:lnTo>
                    <a:pt x="62" y="66"/>
                  </a:lnTo>
                  <a:lnTo>
                    <a:pt x="58" y="72"/>
                  </a:lnTo>
                  <a:lnTo>
                    <a:pt x="54" y="79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6" y="107"/>
                  </a:lnTo>
                  <a:lnTo>
                    <a:pt x="44" y="119"/>
                  </a:lnTo>
                  <a:lnTo>
                    <a:pt x="43" y="132"/>
                  </a:lnTo>
                  <a:lnTo>
                    <a:pt x="43" y="146"/>
                  </a:lnTo>
                  <a:lnTo>
                    <a:pt x="43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63560" y="2788560"/>
              <a:ext cx="60120" cy="622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77" y="276"/>
                  </a:moveTo>
                  <a:lnTo>
                    <a:pt x="171" y="282"/>
                  </a:lnTo>
                  <a:lnTo>
                    <a:pt x="165" y="287"/>
                  </a:lnTo>
                  <a:lnTo>
                    <a:pt x="160" y="292"/>
                  </a:lnTo>
                  <a:lnTo>
                    <a:pt x="154" y="297"/>
                  </a:lnTo>
                  <a:lnTo>
                    <a:pt x="149" y="301"/>
                  </a:lnTo>
                  <a:lnTo>
                    <a:pt x="143" y="305"/>
                  </a:lnTo>
                  <a:lnTo>
                    <a:pt x="138" y="308"/>
                  </a:lnTo>
                  <a:lnTo>
                    <a:pt x="132" y="311"/>
                  </a:lnTo>
                  <a:lnTo>
                    <a:pt x="127" y="313"/>
                  </a:lnTo>
                  <a:lnTo>
                    <a:pt x="121" y="316"/>
                  </a:lnTo>
                  <a:lnTo>
                    <a:pt x="115" y="317"/>
                  </a:lnTo>
                  <a:lnTo>
                    <a:pt x="109" y="318"/>
                  </a:lnTo>
                  <a:lnTo>
                    <a:pt x="103" y="320"/>
                  </a:lnTo>
                  <a:lnTo>
                    <a:pt x="97" y="321"/>
                  </a:lnTo>
                  <a:lnTo>
                    <a:pt x="91" y="321"/>
                  </a:lnTo>
                  <a:lnTo>
                    <a:pt x="85" y="321"/>
                  </a:lnTo>
                  <a:lnTo>
                    <a:pt x="75" y="321"/>
                  </a:lnTo>
                  <a:lnTo>
                    <a:pt x="66" y="320"/>
                  </a:lnTo>
                  <a:lnTo>
                    <a:pt x="57" y="317"/>
                  </a:lnTo>
                  <a:lnTo>
                    <a:pt x="49" y="315"/>
                  </a:lnTo>
                  <a:lnTo>
                    <a:pt x="41" y="311"/>
                  </a:lnTo>
                  <a:lnTo>
                    <a:pt x="34" y="307"/>
                  </a:lnTo>
                  <a:lnTo>
                    <a:pt x="28" y="302"/>
                  </a:lnTo>
                  <a:lnTo>
                    <a:pt x="22" y="296"/>
                  </a:lnTo>
                  <a:lnTo>
                    <a:pt x="17" y="290"/>
                  </a:lnTo>
                  <a:lnTo>
                    <a:pt x="12" y="283"/>
                  </a:lnTo>
                  <a:lnTo>
                    <a:pt x="9" y="276"/>
                  </a:lnTo>
                  <a:lnTo>
                    <a:pt x="6" y="268"/>
                  </a:lnTo>
                  <a:lnTo>
                    <a:pt x="3" y="260"/>
                  </a:lnTo>
                  <a:lnTo>
                    <a:pt x="2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1" y="222"/>
                  </a:lnTo>
                  <a:lnTo>
                    <a:pt x="1" y="217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5" y="201"/>
                  </a:lnTo>
                  <a:lnTo>
                    <a:pt x="6" y="196"/>
                  </a:lnTo>
                  <a:lnTo>
                    <a:pt x="8" y="192"/>
                  </a:lnTo>
                  <a:lnTo>
                    <a:pt x="11" y="187"/>
                  </a:lnTo>
                  <a:lnTo>
                    <a:pt x="13" y="184"/>
                  </a:lnTo>
                  <a:lnTo>
                    <a:pt x="15" y="179"/>
                  </a:lnTo>
                  <a:lnTo>
                    <a:pt x="18" y="175"/>
                  </a:lnTo>
                  <a:lnTo>
                    <a:pt x="21" y="171"/>
                  </a:lnTo>
                  <a:lnTo>
                    <a:pt x="24" y="169"/>
                  </a:lnTo>
                  <a:lnTo>
                    <a:pt x="27" y="165"/>
                  </a:lnTo>
                  <a:lnTo>
                    <a:pt x="30" y="162"/>
                  </a:lnTo>
                  <a:lnTo>
                    <a:pt x="33" y="159"/>
                  </a:lnTo>
                  <a:lnTo>
                    <a:pt x="37" y="156"/>
                  </a:lnTo>
                  <a:lnTo>
                    <a:pt x="40" y="154"/>
                  </a:lnTo>
                  <a:lnTo>
                    <a:pt x="45" y="152"/>
                  </a:lnTo>
                  <a:lnTo>
                    <a:pt x="49" y="150"/>
                  </a:lnTo>
                  <a:lnTo>
                    <a:pt x="53" y="149"/>
                  </a:lnTo>
                  <a:lnTo>
                    <a:pt x="57" y="146"/>
                  </a:lnTo>
                  <a:lnTo>
                    <a:pt x="61" y="145"/>
                  </a:lnTo>
                  <a:lnTo>
                    <a:pt x="64" y="144"/>
                  </a:lnTo>
                  <a:lnTo>
                    <a:pt x="68" y="142"/>
                  </a:lnTo>
                  <a:lnTo>
                    <a:pt x="72" y="142"/>
                  </a:lnTo>
                  <a:lnTo>
                    <a:pt x="76" y="141"/>
                  </a:lnTo>
                  <a:lnTo>
                    <a:pt x="81" y="140"/>
                  </a:lnTo>
                  <a:lnTo>
                    <a:pt x="86" y="139"/>
                  </a:lnTo>
                  <a:lnTo>
                    <a:pt x="92" y="137"/>
                  </a:lnTo>
                  <a:lnTo>
                    <a:pt x="98" y="137"/>
                  </a:lnTo>
                  <a:lnTo>
                    <a:pt x="110" y="135"/>
                  </a:lnTo>
                  <a:lnTo>
                    <a:pt x="123" y="134"/>
                  </a:lnTo>
                  <a:lnTo>
                    <a:pt x="133" y="131"/>
                  </a:lnTo>
                  <a:lnTo>
                    <a:pt x="143" y="129"/>
                  </a:lnTo>
                  <a:lnTo>
                    <a:pt x="152" y="126"/>
                  </a:lnTo>
                  <a:lnTo>
                    <a:pt x="160" y="124"/>
                  </a:lnTo>
                  <a:lnTo>
                    <a:pt x="167" y="121"/>
                  </a:lnTo>
                  <a:lnTo>
                    <a:pt x="173" y="119"/>
                  </a:lnTo>
                  <a:lnTo>
                    <a:pt x="173" y="116"/>
                  </a:lnTo>
                  <a:lnTo>
                    <a:pt x="174" y="114"/>
                  </a:lnTo>
                  <a:lnTo>
                    <a:pt x="174" y="112"/>
                  </a:lnTo>
                  <a:lnTo>
                    <a:pt x="174" y="110"/>
                  </a:lnTo>
                  <a:lnTo>
                    <a:pt x="174" y="109"/>
                  </a:lnTo>
                  <a:lnTo>
                    <a:pt x="174" y="107"/>
                  </a:lnTo>
                  <a:lnTo>
                    <a:pt x="174" y="106"/>
                  </a:lnTo>
                  <a:lnTo>
                    <a:pt x="174" y="105"/>
                  </a:lnTo>
                  <a:lnTo>
                    <a:pt x="173" y="97"/>
                  </a:lnTo>
                  <a:lnTo>
                    <a:pt x="173" y="91"/>
                  </a:lnTo>
                  <a:lnTo>
                    <a:pt x="172" y="84"/>
                  </a:lnTo>
                  <a:lnTo>
                    <a:pt x="171" y="79"/>
                  </a:lnTo>
                  <a:lnTo>
                    <a:pt x="169" y="72"/>
                  </a:lnTo>
                  <a:lnTo>
                    <a:pt x="167" y="69"/>
                  </a:lnTo>
                  <a:lnTo>
                    <a:pt x="165" y="64"/>
                  </a:lnTo>
                  <a:lnTo>
                    <a:pt x="162" y="61"/>
                  </a:lnTo>
                  <a:lnTo>
                    <a:pt x="158" y="56"/>
                  </a:lnTo>
                  <a:lnTo>
                    <a:pt x="153" y="52"/>
                  </a:lnTo>
                  <a:lnTo>
                    <a:pt x="148" y="50"/>
                  </a:lnTo>
                  <a:lnTo>
                    <a:pt x="142" y="48"/>
                  </a:lnTo>
                  <a:lnTo>
                    <a:pt x="136" y="45"/>
                  </a:lnTo>
                  <a:lnTo>
                    <a:pt x="129" y="44"/>
                  </a:lnTo>
                  <a:lnTo>
                    <a:pt x="122" y="44"/>
                  </a:lnTo>
                  <a:lnTo>
                    <a:pt x="113" y="43"/>
                  </a:lnTo>
                  <a:lnTo>
                    <a:pt x="106" y="44"/>
                  </a:lnTo>
                  <a:lnTo>
                    <a:pt x="100" y="44"/>
                  </a:lnTo>
                  <a:lnTo>
                    <a:pt x="93" y="45"/>
                  </a:lnTo>
                  <a:lnTo>
                    <a:pt x="88" y="46"/>
                  </a:lnTo>
                  <a:lnTo>
                    <a:pt x="83" y="48"/>
                  </a:lnTo>
                  <a:lnTo>
                    <a:pt x="78" y="50"/>
                  </a:lnTo>
                  <a:lnTo>
                    <a:pt x="74" y="52"/>
                  </a:lnTo>
                  <a:lnTo>
                    <a:pt x="70" y="56"/>
                  </a:lnTo>
                  <a:lnTo>
                    <a:pt x="66" y="60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8" y="74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1" y="94"/>
                  </a:lnTo>
                  <a:lnTo>
                    <a:pt x="49" y="101"/>
                  </a:lnTo>
                  <a:lnTo>
                    <a:pt x="7" y="95"/>
                  </a:lnTo>
                  <a:lnTo>
                    <a:pt x="9" y="86"/>
                  </a:lnTo>
                  <a:lnTo>
                    <a:pt x="11" y="79"/>
                  </a:lnTo>
                  <a:lnTo>
                    <a:pt x="13" y="71"/>
                  </a:lnTo>
                  <a:lnTo>
                    <a:pt x="15" y="65"/>
                  </a:lnTo>
                  <a:lnTo>
                    <a:pt x="17" y="59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6" y="41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8" y="14"/>
                  </a:lnTo>
                  <a:lnTo>
                    <a:pt x="63" y="11"/>
                  </a:lnTo>
                  <a:lnTo>
                    <a:pt x="70" y="9"/>
                  </a:lnTo>
                  <a:lnTo>
                    <a:pt x="76" y="6"/>
                  </a:lnTo>
                  <a:lnTo>
                    <a:pt x="83" y="4"/>
                  </a:lnTo>
                  <a:lnTo>
                    <a:pt x="89" y="3"/>
                  </a:lnTo>
                  <a:lnTo>
                    <a:pt x="97" y="1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3"/>
                  </a:lnTo>
                  <a:lnTo>
                    <a:pt x="155" y="4"/>
                  </a:lnTo>
                  <a:lnTo>
                    <a:pt x="161" y="5"/>
                  </a:lnTo>
                  <a:lnTo>
                    <a:pt x="166" y="8"/>
                  </a:lnTo>
                  <a:lnTo>
                    <a:pt x="172" y="9"/>
                  </a:lnTo>
                  <a:lnTo>
                    <a:pt x="176" y="11"/>
                  </a:lnTo>
                  <a:lnTo>
                    <a:pt x="181" y="14"/>
                  </a:lnTo>
                  <a:lnTo>
                    <a:pt x="185" y="16"/>
                  </a:lnTo>
                  <a:lnTo>
                    <a:pt x="190" y="20"/>
                  </a:lnTo>
                  <a:lnTo>
                    <a:pt x="193" y="23"/>
                  </a:lnTo>
                  <a:lnTo>
                    <a:pt x="196" y="26"/>
                  </a:lnTo>
                  <a:lnTo>
                    <a:pt x="199" y="29"/>
                  </a:lnTo>
                  <a:lnTo>
                    <a:pt x="202" y="33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8" y="44"/>
                  </a:lnTo>
                  <a:lnTo>
                    <a:pt x="209" y="49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5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6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7" y="107"/>
                  </a:lnTo>
                  <a:lnTo>
                    <a:pt x="217" y="116"/>
                  </a:lnTo>
                  <a:lnTo>
                    <a:pt x="217" y="185"/>
                  </a:lnTo>
                  <a:lnTo>
                    <a:pt x="217" y="202"/>
                  </a:lnTo>
                  <a:lnTo>
                    <a:pt x="217" y="218"/>
                  </a:lnTo>
                  <a:lnTo>
                    <a:pt x="217" y="232"/>
                  </a:lnTo>
                  <a:lnTo>
                    <a:pt x="217" y="245"/>
                  </a:lnTo>
                  <a:lnTo>
                    <a:pt x="218" y="255"/>
                  </a:lnTo>
                  <a:lnTo>
                    <a:pt x="218" y="265"/>
                  </a:lnTo>
                  <a:lnTo>
                    <a:pt x="219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1" y="287"/>
                  </a:lnTo>
                  <a:lnTo>
                    <a:pt x="222" y="291"/>
                  </a:lnTo>
                  <a:lnTo>
                    <a:pt x="223" y="296"/>
                  </a:lnTo>
                  <a:lnTo>
                    <a:pt x="225" y="301"/>
                  </a:lnTo>
                  <a:lnTo>
                    <a:pt x="226" y="305"/>
                  </a:lnTo>
                  <a:lnTo>
                    <a:pt x="228" y="310"/>
                  </a:lnTo>
                  <a:lnTo>
                    <a:pt x="230" y="315"/>
                  </a:lnTo>
                  <a:lnTo>
                    <a:pt x="185" y="315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1" y="301"/>
                  </a:lnTo>
                  <a:lnTo>
                    <a:pt x="180" y="296"/>
                  </a:lnTo>
                  <a:lnTo>
                    <a:pt x="179" y="292"/>
                  </a:lnTo>
                  <a:lnTo>
                    <a:pt x="178" y="287"/>
                  </a:lnTo>
                  <a:lnTo>
                    <a:pt x="177" y="281"/>
                  </a:lnTo>
                  <a:lnTo>
                    <a:pt x="177" y="276"/>
                  </a:lnTo>
                  <a:close/>
                  <a:moveTo>
                    <a:pt x="173" y="160"/>
                  </a:moveTo>
                  <a:lnTo>
                    <a:pt x="167" y="162"/>
                  </a:lnTo>
                  <a:lnTo>
                    <a:pt x="161" y="165"/>
                  </a:lnTo>
                  <a:lnTo>
                    <a:pt x="153" y="169"/>
                  </a:lnTo>
                  <a:lnTo>
                    <a:pt x="145" y="171"/>
                  </a:lnTo>
                  <a:lnTo>
                    <a:pt x="136" y="174"/>
                  </a:lnTo>
                  <a:lnTo>
                    <a:pt x="127" y="175"/>
                  </a:lnTo>
                  <a:lnTo>
                    <a:pt x="115" y="177"/>
                  </a:lnTo>
                  <a:lnTo>
                    <a:pt x="104" y="180"/>
                  </a:lnTo>
                  <a:lnTo>
                    <a:pt x="98" y="181"/>
                  </a:lnTo>
                  <a:lnTo>
                    <a:pt x="92" y="182"/>
                  </a:lnTo>
                  <a:lnTo>
                    <a:pt x="87" y="184"/>
                  </a:lnTo>
                  <a:lnTo>
                    <a:pt x="82" y="185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9"/>
                  </a:lnTo>
                  <a:lnTo>
                    <a:pt x="68" y="190"/>
                  </a:lnTo>
                  <a:lnTo>
                    <a:pt x="65" y="191"/>
                  </a:lnTo>
                  <a:lnTo>
                    <a:pt x="63" y="194"/>
                  </a:lnTo>
                  <a:lnTo>
                    <a:pt x="61" y="195"/>
                  </a:lnTo>
                  <a:lnTo>
                    <a:pt x="58" y="197"/>
                  </a:lnTo>
                  <a:lnTo>
                    <a:pt x="56" y="200"/>
                  </a:lnTo>
                  <a:lnTo>
                    <a:pt x="55" y="201"/>
                  </a:lnTo>
                  <a:lnTo>
                    <a:pt x="53" y="205"/>
                  </a:lnTo>
                  <a:lnTo>
                    <a:pt x="51" y="207"/>
                  </a:lnTo>
                  <a:lnTo>
                    <a:pt x="50" y="210"/>
                  </a:lnTo>
                  <a:lnTo>
                    <a:pt x="49" y="212"/>
                  </a:lnTo>
                  <a:lnTo>
                    <a:pt x="48" y="216"/>
                  </a:lnTo>
                  <a:lnTo>
                    <a:pt x="47" y="218"/>
                  </a:lnTo>
                  <a:lnTo>
                    <a:pt x="46" y="222"/>
                  </a:lnTo>
                  <a:lnTo>
                    <a:pt x="46" y="225"/>
                  </a:lnTo>
                  <a:lnTo>
                    <a:pt x="46" y="228"/>
                  </a:lnTo>
                  <a:lnTo>
                    <a:pt x="46" y="231"/>
                  </a:lnTo>
                  <a:lnTo>
                    <a:pt x="46" y="237"/>
                  </a:lnTo>
                  <a:lnTo>
                    <a:pt x="46" y="241"/>
                  </a:lnTo>
                  <a:lnTo>
                    <a:pt x="47" y="246"/>
                  </a:lnTo>
                  <a:lnTo>
                    <a:pt x="49" y="251"/>
                  </a:lnTo>
                  <a:lnTo>
                    <a:pt x="51" y="255"/>
                  </a:lnTo>
                  <a:lnTo>
                    <a:pt x="53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2" y="270"/>
                  </a:lnTo>
                  <a:lnTo>
                    <a:pt x="65" y="272"/>
                  </a:lnTo>
                  <a:lnTo>
                    <a:pt x="69" y="275"/>
                  </a:lnTo>
                  <a:lnTo>
                    <a:pt x="74" y="277"/>
                  </a:lnTo>
                  <a:lnTo>
                    <a:pt x="79" y="278"/>
                  </a:lnTo>
                  <a:lnTo>
                    <a:pt x="84" y="280"/>
                  </a:lnTo>
                  <a:lnTo>
                    <a:pt x="89" y="280"/>
                  </a:lnTo>
                  <a:lnTo>
                    <a:pt x="95" y="280"/>
                  </a:lnTo>
                  <a:lnTo>
                    <a:pt x="101" y="280"/>
                  </a:lnTo>
                  <a:lnTo>
                    <a:pt x="107" y="280"/>
                  </a:lnTo>
                  <a:lnTo>
                    <a:pt x="113" y="278"/>
                  </a:lnTo>
                  <a:lnTo>
                    <a:pt x="119" y="277"/>
                  </a:lnTo>
                  <a:lnTo>
                    <a:pt x="124" y="275"/>
                  </a:lnTo>
                  <a:lnTo>
                    <a:pt x="129" y="272"/>
                  </a:lnTo>
                  <a:lnTo>
                    <a:pt x="134" y="270"/>
                  </a:lnTo>
                  <a:lnTo>
                    <a:pt x="139" y="267"/>
                  </a:lnTo>
                  <a:lnTo>
                    <a:pt x="144" y="263"/>
                  </a:lnTo>
                  <a:lnTo>
                    <a:pt x="148" y="260"/>
                  </a:lnTo>
                  <a:lnTo>
                    <a:pt x="152" y="256"/>
                  </a:lnTo>
                  <a:lnTo>
                    <a:pt x="155" y="251"/>
                  </a:lnTo>
                  <a:lnTo>
                    <a:pt x="159" y="247"/>
                  </a:lnTo>
                  <a:lnTo>
                    <a:pt x="162" y="242"/>
                  </a:lnTo>
                  <a:lnTo>
                    <a:pt x="164" y="236"/>
                  </a:lnTo>
                  <a:lnTo>
                    <a:pt x="167" y="231"/>
                  </a:lnTo>
                  <a:lnTo>
                    <a:pt x="168" y="226"/>
                  </a:lnTo>
                  <a:lnTo>
                    <a:pt x="170" y="221"/>
                  </a:lnTo>
                  <a:lnTo>
                    <a:pt x="171" y="216"/>
                  </a:lnTo>
                  <a:lnTo>
                    <a:pt x="172" y="210"/>
                  </a:lnTo>
                  <a:lnTo>
                    <a:pt x="172" y="202"/>
                  </a:lnTo>
                  <a:lnTo>
                    <a:pt x="173" y="195"/>
                  </a:lnTo>
                  <a:lnTo>
                    <a:pt x="173" y="187"/>
                  </a:lnTo>
                  <a:lnTo>
                    <a:pt x="173" y="179"/>
                  </a:lnTo>
                  <a:lnTo>
                    <a:pt x="17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33040" y="2788560"/>
              <a:ext cx="56880" cy="85680"/>
            </a:xfrm>
            <a:custGeom>
              <a:avLst/>
              <a:gdLst/>
              <a:ahLst/>
              <a:rect l="l" t="t" r="r" b="b"/>
              <a:pathLst>
                <a:path w="220" h="438">
                  <a:moveTo>
                    <a:pt x="9" y="340"/>
                  </a:moveTo>
                  <a:lnTo>
                    <a:pt x="49" y="347"/>
                  </a:lnTo>
                  <a:lnTo>
                    <a:pt x="50" y="352"/>
                  </a:lnTo>
                  <a:lnTo>
                    <a:pt x="51" y="358"/>
                  </a:lnTo>
                  <a:lnTo>
                    <a:pt x="52" y="363"/>
                  </a:lnTo>
                  <a:lnTo>
                    <a:pt x="54" y="367"/>
                  </a:lnTo>
                  <a:lnTo>
                    <a:pt x="56" y="371"/>
                  </a:lnTo>
                  <a:lnTo>
                    <a:pt x="58" y="374"/>
                  </a:lnTo>
                  <a:lnTo>
                    <a:pt x="60" y="378"/>
                  </a:lnTo>
                  <a:lnTo>
                    <a:pt x="63" y="381"/>
                  </a:lnTo>
                  <a:lnTo>
                    <a:pt x="68" y="384"/>
                  </a:lnTo>
                  <a:lnTo>
                    <a:pt x="73" y="387"/>
                  </a:lnTo>
                  <a:lnTo>
                    <a:pt x="77" y="389"/>
                  </a:lnTo>
                  <a:lnTo>
                    <a:pt x="83" y="392"/>
                  </a:lnTo>
                  <a:lnTo>
                    <a:pt x="88" y="393"/>
                  </a:lnTo>
                  <a:lnTo>
                    <a:pt x="94" y="394"/>
                  </a:lnTo>
                  <a:lnTo>
                    <a:pt x="100" y="396"/>
                  </a:lnTo>
                  <a:lnTo>
                    <a:pt x="107" y="396"/>
                  </a:lnTo>
                  <a:lnTo>
                    <a:pt x="114" y="396"/>
                  </a:lnTo>
                  <a:lnTo>
                    <a:pt x="120" y="394"/>
                  </a:lnTo>
                  <a:lnTo>
                    <a:pt x="126" y="393"/>
                  </a:lnTo>
                  <a:lnTo>
                    <a:pt x="132" y="392"/>
                  </a:lnTo>
                  <a:lnTo>
                    <a:pt x="138" y="389"/>
                  </a:lnTo>
                  <a:lnTo>
                    <a:pt x="144" y="387"/>
                  </a:lnTo>
                  <a:lnTo>
                    <a:pt x="148" y="384"/>
                  </a:lnTo>
                  <a:lnTo>
                    <a:pt x="152" y="381"/>
                  </a:lnTo>
                  <a:lnTo>
                    <a:pt x="156" y="377"/>
                  </a:lnTo>
                  <a:lnTo>
                    <a:pt x="160" y="373"/>
                  </a:lnTo>
                  <a:lnTo>
                    <a:pt x="163" y="368"/>
                  </a:lnTo>
                  <a:lnTo>
                    <a:pt x="166" y="363"/>
                  </a:lnTo>
                  <a:lnTo>
                    <a:pt x="168" y="358"/>
                  </a:lnTo>
                  <a:lnTo>
                    <a:pt x="170" y="353"/>
                  </a:lnTo>
                  <a:lnTo>
                    <a:pt x="172" y="347"/>
                  </a:lnTo>
                  <a:lnTo>
                    <a:pt x="174" y="341"/>
                  </a:lnTo>
                  <a:lnTo>
                    <a:pt x="174" y="336"/>
                  </a:lnTo>
                  <a:lnTo>
                    <a:pt x="175" y="331"/>
                  </a:lnTo>
                  <a:lnTo>
                    <a:pt x="176" y="323"/>
                  </a:lnTo>
                  <a:lnTo>
                    <a:pt x="176" y="316"/>
                  </a:lnTo>
                  <a:lnTo>
                    <a:pt x="176" y="307"/>
                  </a:lnTo>
                  <a:lnTo>
                    <a:pt x="177" y="297"/>
                  </a:lnTo>
                  <a:lnTo>
                    <a:pt x="177" y="286"/>
                  </a:lnTo>
                  <a:lnTo>
                    <a:pt x="177" y="273"/>
                  </a:lnTo>
                  <a:lnTo>
                    <a:pt x="170" y="283"/>
                  </a:lnTo>
                  <a:lnTo>
                    <a:pt x="162" y="291"/>
                  </a:lnTo>
                  <a:lnTo>
                    <a:pt x="154" y="298"/>
                  </a:lnTo>
                  <a:lnTo>
                    <a:pt x="146" y="303"/>
                  </a:lnTo>
                  <a:lnTo>
                    <a:pt x="136" y="308"/>
                  </a:lnTo>
                  <a:lnTo>
                    <a:pt x="127" y="312"/>
                  </a:lnTo>
                  <a:lnTo>
                    <a:pt x="118" y="313"/>
                  </a:lnTo>
                  <a:lnTo>
                    <a:pt x="108" y="315"/>
                  </a:lnTo>
                  <a:lnTo>
                    <a:pt x="95" y="313"/>
                  </a:lnTo>
                  <a:lnTo>
                    <a:pt x="84" y="311"/>
                  </a:lnTo>
                  <a:lnTo>
                    <a:pt x="73" y="307"/>
                  </a:lnTo>
                  <a:lnTo>
                    <a:pt x="61" y="302"/>
                  </a:lnTo>
                  <a:lnTo>
                    <a:pt x="52" y="296"/>
                  </a:lnTo>
                  <a:lnTo>
                    <a:pt x="43" y="288"/>
                  </a:lnTo>
                  <a:lnTo>
                    <a:pt x="35" y="278"/>
                  </a:lnTo>
                  <a:lnTo>
                    <a:pt x="28" y="268"/>
                  </a:lnTo>
                  <a:lnTo>
                    <a:pt x="21" y="257"/>
                  </a:lnTo>
                  <a:lnTo>
                    <a:pt x="16" y="245"/>
                  </a:lnTo>
                  <a:lnTo>
                    <a:pt x="11" y="231"/>
                  </a:lnTo>
                  <a:lnTo>
                    <a:pt x="7" y="218"/>
                  </a:lnTo>
                  <a:lnTo>
                    <a:pt x="4" y="203"/>
                  </a:lnTo>
                  <a:lnTo>
                    <a:pt x="2" y="190"/>
                  </a:lnTo>
                  <a:lnTo>
                    <a:pt x="1" y="175"/>
                  </a:lnTo>
                  <a:lnTo>
                    <a:pt x="0" y="159"/>
                  </a:lnTo>
                  <a:lnTo>
                    <a:pt x="0" y="147"/>
                  </a:lnTo>
                  <a:lnTo>
                    <a:pt x="1" y="137"/>
                  </a:lnTo>
                  <a:lnTo>
                    <a:pt x="2" y="126"/>
                  </a:lnTo>
                  <a:lnTo>
                    <a:pt x="3" y="116"/>
                  </a:lnTo>
                  <a:lnTo>
                    <a:pt x="5" y="106"/>
                  </a:lnTo>
                  <a:lnTo>
                    <a:pt x="7" y="96"/>
                  </a:lnTo>
                  <a:lnTo>
                    <a:pt x="10" y="87"/>
                  </a:lnTo>
                  <a:lnTo>
                    <a:pt x="13" y="77"/>
                  </a:lnTo>
                  <a:lnTo>
                    <a:pt x="16" y="69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9" y="45"/>
                  </a:lnTo>
                  <a:lnTo>
                    <a:pt x="33" y="38"/>
                  </a:lnTo>
                  <a:lnTo>
                    <a:pt x="38" y="31"/>
                  </a:lnTo>
                  <a:lnTo>
                    <a:pt x="44" y="25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7" y="5"/>
                  </a:lnTo>
                  <a:lnTo>
                    <a:pt x="84" y="3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9" y="3"/>
                  </a:lnTo>
                  <a:lnTo>
                    <a:pt x="138" y="6"/>
                  </a:lnTo>
                  <a:lnTo>
                    <a:pt x="148" y="11"/>
                  </a:lnTo>
                  <a:lnTo>
                    <a:pt x="157" y="18"/>
                  </a:lnTo>
                  <a:lnTo>
                    <a:pt x="165" y="25"/>
                  </a:lnTo>
                  <a:lnTo>
                    <a:pt x="173" y="34"/>
                  </a:lnTo>
                  <a:lnTo>
                    <a:pt x="181" y="44"/>
                  </a:lnTo>
                  <a:lnTo>
                    <a:pt x="181" y="6"/>
                  </a:lnTo>
                  <a:lnTo>
                    <a:pt x="220" y="6"/>
                  </a:lnTo>
                  <a:lnTo>
                    <a:pt x="220" y="272"/>
                  </a:lnTo>
                  <a:lnTo>
                    <a:pt x="220" y="290"/>
                  </a:lnTo>
                  <a:lnTo>
                    <a:pt x="219" y="306"/>
                  </a:lnTo>
                  <a:lnTo>
                    <a:pt x="218" y="321"/>
                  </a:lnTo>
                  <a:lnTo>
                    <a:pt x="217" y="333"/>
                  </a:lnTo>
                  <a:lnTo>
                    <a:pt x="215" y="346"/>
                  </a:lnTo>
                  <a:lnTo>
                    <a:pt x="213" y="357"/>
                  </a:lnTo>
                  <a:lnTo>
                    <a:pt x="210" y="366"/>
                  </a:lnTo>
                  <a:lnTo>
                    <a:pt x="207" y="374"/>
                  </a:lnTo>
                  <a:lnTo>
                    <a:pt x="204" y="381"/>
                  </a:lnTo>
                  <a:lnTo>
                    <a:pt x="201" y="388"/>
                  </a:lnTo>
                  <a:lnTo>
                    <a:pt x="197" y="394"/>
                  </a:lnTo>
                  <a:lnTo>
                    <a:pt x="192" y="401"/>
                  </a:lnTo>
                  <a:lnTo>
                    <a:pt x="187" y="407"/>
                  </a:lnTo>
                  <a:lnTo>
                    <a:pt x="182" y="412"/>
                  </a:lnTo>
                  <a:lnTo>
                    <a:pt x="176" y="417"/>
                  </a:lnTo>
                  <a:lnTo>
                    <a:pt x="170" y="422"/>
                  </a:lnTo>
                  <a:lnTo>
                    <a:pt x="164" y="426"/>
                  </a:lnTo>
                  <a:lnTo>
                    <a:pt x="157" y="429"/>
                  </a:lnTo>
                  <a:lnTo>
                    <a:pt x="150" y="432"/>
                  </a:lnTo>
                  <a:lnTo>
                    <a:pt x="142" y="434"/>
                  </a:lnTo>
                  <a:lnTo>
                    <a:pt x="133" y="436"/>
                  </a:lnTo>
                  <a:lnTo>
                    <a:pt x="125" y="438"/>
                  </a:lnTo>
                  <a:lnTo>
                    <a:pt x="116" y="438"/>
                  </a:lnTo>
                  <a:lnTo>
                    <a:pt x="107" y="438"/>
                  </a:lnTo>
                  <a:lnTo>
                    <a:pt x="96" y="438"/>
                  </a:lnTo>
                  <a:lnTo>
                    <a:pt x="86" y="437"/>
                  </a:lnTo>
                  <a:lnTo>
                    <a:pt x="76" y="436"/>
                  </a:lnTo>
                  <a:lnTo>
                    <a:pt x="66" y="432"/>
                  </a:lnTo>
                  <a:lnTo>
                    <a:pt x="57" y="429"/>
                  </a:lnTo>
                  <a:lnTo>
                    <a:pt x="49" y="424"/>
                  </a:lnTo>
                  <a:lnTo>
                    <a:pt x="42" y="419"/>
                  </a:lnTo>
                  <a:lnTo>
                    <a:pt x="35" y="414"/>
                  </a:lnTo>
                  <a:lnTo>
                    <a:pt x="28" y="407"/>
                  </a:lnTo>
                  <a:lnTo>
                    <a:pt x="23" y="399"/>
                  </a:lnTo>
                  <a:lnTo>
                    <a:pt x="18" y="392"/>
                  </a:lnTo>
                  <a:lnTo>
                    <a:pt x="15" y="383"/>
                  </a:lnTo>
                  <a:lnTo>
                    <a:pt x="12" y="373"/>
                  </a:lnTo>
                  <a:lnTo>
                    <a:pt x="10" y="363"/>
                  </a:lnTo>
                  <a:lnTo>
                    <a:pt x="9" y="352"/>
                  </a:lnTo>
                  <a:lnTo>
                    <a:pt x="9" y="340"/>
                  </a:lnTo>
                  <a:close/>
                  <a:moveTo>
                    <a:pt x="43" y="155"/>
                  </a:moveTo>
                  <a:lnTo>
                    <a:pt x="43" y="170"/>
                  </a:lnTo>
                  <a:lnTo>
                    <a:pt x="44" y="184"/>
                  </a:lnTo>
                  <a:lnTo>
                    <a:pt x="46" y="196"/>
                  </a:lnTo>
                  <a:lnTo>
                    <a:pt x="48" y="207"/>
                  </a:lnTo>
                  <a:lnTo>
                    <a:pt x="51" y="217"/>
                  </a:lnTo>
                  <a:lnTo>
                    <a:pt x="54" y="227"/>
                  </a:lnTo>
                  <a:lnTo>
                    <a:pt x="58" y="236"/>
                  </a:lnTo>
                  <a:lnTo>
                    <a:pt x="62" y="243"/>
                  </a:lnTo>
                  <a:lnTo>
                    <a:pt x="68" y="250"/>
                  </a:lnTo>
                  <a:lnTo>
                    <a:pt x="74" y="255"/>
                  </a:lnTo>
                  <a:lnTo>
                    <a:pt x="79" y="260"/>
                  </a:lnTo>
                  <a:lnTo>
                    <a:pt x="85" y="263"/>
                  </a:lnTo>
                  <a:lnTo>
                    <a:pt x="91" y="267"/>
                  </a:lnTo>
                  <a:lnTo>
                    <a:pt x="98" y="270"/>
                  </a:lnTo>
                  <a:lnTo>
                    <a:pt x="104" y="271"/>
                  </a:lnTo>
                  <a:lnTo>
                    <a:pt x="111" y="271"/>
                  </a:lnTo>
                  <a:lnTo>
                    <a:pt x="119" y="271"/>
                  </a:lnTo>
                  <a:lnTo>
                    <a:pt x="125" y="270"/>
                  </a:lnTo>
                  <a:lnTo>
                    <a:pt x="132" y="267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0" y="256"/>
                  </a:lnTo>
                  <a:lnTo>
                    <a:pt x="156" y="250"/>
                  </a:lnTo>
                  <a:lnTo>
                    <a:pt x="161" y="243"/>
                  </a:lnTo>
                  <a:lnTo>
                    <a:pt x="165" y="236"/>
                  </a:lnTo>
                  <a:lnTo>
                    <a:pt x="169" y="227"/>
                  </a:lnTo>
                  <a:lnTo>
                    <a:pt x="172" y="218"/>
                  </a:lnTo>
                  <a:lnTo>
                    <a:pt x="175" y="207"/>
                  </a:lnTo>
                  <a:lnTo>
                    <a:pt x="177" y="196"/>
                  </a:lnTo>
                  <a:lnTo>
                    <a:pt x="179" y="185"/>
                  </a:lnTo>
                  <a:lnTo>
                    <a:pt x="180" y="171"/>
                  </a:lnTo>
                  <a:lnTo>
                    <a:pt x="180" y="156"/>
                  </a:lnTo>
                  <a:lnTo>
                    <a:pt x="180" y="142"/>
                  </a:lnTo>
                  <a:lnTo>
                    <a:pt x="179" y="130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2" y="97"/>
                  </a:lnTo>
                  <a:lnTo>
                    <a:pt x="169" y="87"/>
                  </a:lnTo>
                  <a:lnTo>
                    <a:pt x="165" y="79"/>
                  </a:lnTo>
                  <a:lnTo>
                    <a:pt x="160" y="71"/>
                  </a:lnTo>
                  <a:lnTo>
                    <a:pt x="155" y="65"/>
                  </a:lnTo>
                  <a:lnTo>
                    <a:pt x="150" y="59"/>
                  </a:lnTo>
                  <a:lnTo>
                    <a:pt x="144" y="54"/>
                  </a:lnTo>
                  <a:lnTo>
                    <a:pt x="137" y="50"/>
                  </a:lnTo>
                  <a:lnTo>
                    <a:pt x="131" y="48"/>
                  </a:lnTo>
                  <a:lnTo>
                    <a:pt x="124" y="45"/>
                  </a:lnTo>
                  <a:lnTo>
                    <a:pt x="118" y="44"/>
                  </a:lnTo>
                  <a:lnTo>
                    <a:pt x="111" y="43"/>
                  </a:lnTo>
                  <a:lnTo>
                    <a:pt x="104" y="44"/>
                  </a:lnTo>
                  <a:lnTo>
                    <a:pt x="97" y="45"/>
                  </a:lnTo>
                  <a:lnTo>
                    <a:pt x="91" y="48"/>
                  </a:lnTo>
                  <a:lnTo>
                    <a:pt x="85" y="50"/>
                  </a:lnTo>
                  <a:lnTo>
                    <a:pt x="79" y="54"/>
                  </a:lnTo>
                  <a:lnTo>
                    <a:pt x="74" y="59"/>
                  </a:lnTo>
                  <a:lnTo>
                    <a:pt x="68" y="65"/>
                  </a:lnTo>
                  <a:lnTo>
                    <a:pt x="62" y="71"/>
                  </a:lnTo>
                  <a:lnTo>
                    <a:pt x="58" y="79"/>
                  </a:lnTo>
                  <a:lnTo>
                    <a:pt x="54" y="87"/>
                  </a:lnTo>
                  <a:lnTo>
                    <a:pt x="51" y="96"/>
                  </a:lnTo>
                  <a:lnTo>
                    <a:pt x="48" y="106"/>
                  </a:lnTo>
                  <a:lnTo>
                    <a:pt x="46" y="117"/>
                  </a:lnTo>
                  <a:lnTo>
                    <a:pt x="44" y="129"/>
                  </a:lnTo>
                  <a:lnTo>
                    <a:pt x="43" y="141"/>
                  </a:lnTo>
                  <a:lnTo>
                    <a:pt x="43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02520" y="2788560"/>
              <a:ext cx="60120" cy="622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78" y="276"/>
                  </a:moveTo>
                  <a:lnTo>
                    <a:pt x="172" y="282"/>
                  </a:lnTo>
                  <a:lnTo>
                    <a:pt x="166" y="287"/>
                  </a:lnTo>
                  <a:lnTo>
                    <a:pt x="159" y="292"/>
                  </a:lnTo>
                  <a:lnTo>
                    <a:pt x="154" y="297"/>
                  </a:lnTo>
                  <a:lnTo>
                    <a:pt x="148" y="301"/>
                  </a:lnTo>
                  <a:lnTo>
                    <a:pt x="143" y="305"/>
                  </a:lnTo>
                  <a:lnTo>
                    <a:pt x="137" y="308"/>
                  </a:lnTo>
                  <a:lnTo>
                    <a:pt x="132" y="311"/>
                  </a:lnTo>
                  <a:lnTo>
                    <a:pt x="127" y="313"/>
                  </a:lnTo>
                  <a:lnTo>
                    <a:pt x="121" y="316"/>
                  </a:lnTo>
                  <a:lnTo>
                    <a:pt x="115" y="317"/>
                  </a:lnTo>
                  <a:lnTo>
                    <a:pt x="110" y="318"/>
                  </a:lnTo>
                  <a:lnTo>
                    <a:pt x="104" y="320"/>
                  </a:lnTo>
                  <a:lnTo>
                    <a:pt x="98" y="321"/>
                  </a:lnTo>
                  <a:lnTo>
                    <a:pt x="92" y="321"/>
                  </a:lnTo>
                  <a:lnTo>
                    <a:pt x="85" y="321"/>
                  </a:lnTo>
                  <a:lnTo>
                    <a:pt x="75" y="321"/>
                  </a:lnTo>
                  <a:lnTo>
                    <a:pt x="66" y="320"/>
                  </a:lnTo>
                  <a:lnTo>
                    <a:pt x="57" y="317"/>
                  </a:lnTo>
                  <a:lnTo>
                    <a:pt x="49" y="315"/>
                  </a:lnTo>
                  <a:lnTo>
                    <a:pt x="42" y="311"/>
                  </a:lnTo>
                  <a:lnTo>
                    <a:pt x="35" y="307"/>
                  </a:lnTo>
                  <a:lnTo>
                    <a:pt x="28" y="302"/>
                  </a:lnTo>
                  <a:lnTo>
                    <a:pt x="23" y="296"/>
                  </a:lnTo>
                  <a:lnTo>
                    <a:pt x="18" y="290"/>
                  </a:lnTo>
                  <a:lnTo>
                    <a:pt x="12" y="283"/>
                  </a:lnTo>
                  <a:lnTo>
                    <a:pt x="8" y="276"/>
                  </a:lnTo>
                  <a:lnTo>
                    <a:pt x="5" y="268"/>
                  </a:lnTo>
                  <a:lnTo>
                    <a:pt x="3" y="260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222"/>
                  </a:lnTo>
                  <a:lnTo>
                    <a:pt x="1" y="217"/>
                  </a:lnTo>
                  <a:lnTo>
                    <a:pt x="2" y="211"/>
                  </a:lnTo>
                  <a:lnTo>
                    <a:pt x="3" y="206"/>
                  </a:lnTo>
                  <a:lnTo>
                    <a:pt x="5" y="201"/>
                  </a:lnTo>
                  <a:lnTo>
                    <a:pt x="6" y="196"/>
                  </a:lnTo>
                  <a:lnTo>
                    <a:pt x="8" y="192"/>
                  </a:lnTo>
                  <a:lnTo>
                    <a:pt x="10" y="187"/>
                  </a:lnTo>
                  <a:lnTo>
                    <a:pt x="13" y="184"/>
                  </a:lnTo>
                  <a:lnTo>
                    <a:pt x="16" y="179"/>
                  </a:lnTo>
                  <a:lnTo>
                    <a:pt x="19" y="175"/>
                  </a:lnTo>
                  <a:lnTo>
                    <a:pt x="21" y="171"/>
                  </a:lnTo>
                  <a:lnTo>
                    <a:pt x="24" y="169"/>
                  </a:lnTo>
                  <a:lnTo>
                    <a:pt x="27" y="165"/>
                  </a:lnTo>
                  <a:lnTo>
                    <a:pt x="31" y="162"/>
                  </a:lnTo>
                  <a:lnTo>
                    <a:pt x="34" y="159"/>
                  </a:lnTo>
                  <a:lnTo>
                    <a:pt x="38" y="156"/>
                  </a:lnTo>
                  <a:lnTo>
                    <a:pt x="41" y="154"/>
                  </a:lnTo>
                  <a:lnTo>
                    <a:pt x="45" y="152"/>
                  </a:lnTo>
                  <a:lnTo>
                    <a:pt x="49" y="150"/>
                  </a:lnTo>
                  <a:lnTo>
                    <a:pt x="53" y="149"/>
                  </a:lnTo>
                  <a:lnTo>
                    <a:pt x="57" y="146"/>
                  </a:lnTo>
                  <a:lnTo>
                    <a:pt x="61" y="145"/>
                  </a:lnTo>
                  <a:lnTo>
                    <a:pt x="64" y="144"/>
                  </a:lnTo>
                  <a:lnTo>
                    <a:pt x="68" y="142"/>
                  </a:lnTo>
                  <a:lnTo>
                    <a:pt x="72" y="142"/>
                  </a:lnTo>
                  <a:lnTo>
                    <a:pt x="76" y="141"/>
                  </a:lnTo>
                  <a:lnTo>
                    <a:pt x="81" y="140"/>
                  </a:lnTo>
                  <a:lnTo>
                    <a:pt x="86" y="139"/>
                  </a:lnTo>
                  <a:lnTo>
                    <a:pt x="93" y="137"/>
                  </a:lnTo>
                  <a:lnTo>
                    <a:pt x="99" y="137"/>
                  </a:lnTo>
                  <a:lnTo>
                    <a:pt x="111" y="135"/>
                  </a:lnTo>
                  <a:lnTo>
                    <a:pt x="122" y="134"/>
                  </a:lnTo>
                  <a:lnTo>
                    <a:pt x="133" y="131"/>
                  </a:lnTo>
                  <a:lnTo>
                    <a:pt x="143" y="129"/>
                  </a:lnTo>
                  <a:lnTo>
                    <a:pt x="151" y="126"/>
                  </a:lnTo>
                  <a:lnTo>
                    <a:pt x="161" y="124"/>
                  </a:lnTo>
                  <a:lnTo>
                    <a:pt x="168" y="121"/>
                  </a:lnTo>
                  <a:lnTo>
                    <a:pt x="174" y="119"/>
                  </a:lnTo>
                  <a:lnTo>
                    <a:pt x="174" y="116"/>
                  </a:lnTo>
                  <a:lnTo>
                    <a:pt x="174" y="114"/>
                  </a:lnTo>
                  <a:lnTo>
                    <a:pt x="174" y="112"/>
                  </a:lnTo>
                  <a:lnTo>
                    <a:pt x="174" y="110"/>
                  </a:lnTo>
                  <a:lnTo>
                    <a:pt x="174" y="109"/>
                  </a:lnTo>
                  <a:lnTo>
                    <a:pt x="174" y="107"/>
                  </a:lnTo>
                  <a:lnTo>
                    <a:pt x="174" y="106"/>
                  </a:lnTo>
                  <a:lnTo>
                    <a:pt x="174" y="105"/>
                  </a:lnTo>
                  <a:lnTo>
                    <a:pt x="174" y="97"/>
                  </a:lnTo>
                  <a:lnTo>
                    <a:pt x="174" y="91"/>
                  </a:lnTo>
                  <a:lnTo>
                    <a:pt x="173" y="84"/>
                  </a:lnTo>
                  <a:lnTo>
                    <a:pt x="171" y="79"/>
                  </a:lnTo>
                  <a:lnTo>
                    <a:pt x="170" y="72"/>
                  </a:lnTo>
                  <a:lnTo>
                    <a:pt x="168" y="69"/>
                  </a:lnTo>
                  <a:lnTo>
                    <a:pt x="165" y="64"/>
                  </a:lnTo>
                  <a:lnTo>
                    <a:pt x="163" y="61"/>
                  </a:lnTo>
                  <a:lnTo>
                    <a:pt x="157" y="56"/>
                  </a:lnTo>
                  <a:lnTo>
                    <a:pt x="153" y="52"/>
                  </a:lnTo>
                  <a:lnTo>
                    <a:pt x="147" y="50"/>
                  </a:lnTo>
                  <a:lnTo>
                    <a:pt x="142" y="48"/>
                  </a:lnTo>
                  <a:lnTo>
                    <a:pt x="135" y="45"/>
                  </a:lnTo>
                  <a:lnTo>
                    <a:pt x="129" y="44"/>
                  </a:lnTo>
                  <a:lnTo>
                    <a:pt x="122" y="44"/>
                  </a:lnTo>
                  <a:lnTo>
                    <a:pt x="114" y="43"/>
                  </a:lnTo>
                  <a:lnTo>
                    <a:pt x="107" y="44"/>
                  </a:lnTo>
                  <a:lnTo>
                    <a:pt x="100" y="44"/>
                  </a:lnTo>
                  <a:lnTo>
                    <a:pt x="94" y="45"/>
                  </a:lnTo>
                  <a:lnTo>
                    <a:pt x="87" y="46"/>
                  </a:lnTo>
                  <a:lnTo>
                    <a:pt x="82" y="48"/>
                  </a:lnTo>
                  <a:lnTo>
                    <a:pt x="78" y="50"/>
                  </a:lnTo>
                  <a:lnTo>
                    <a:pt x="73" y="52"/>
                  </a:lnTo>
                  <a:lnTo>
                    <a:pt x="70" y="56"/>
                  </a:lnTo>
                  <a:lnTo>
                    <a:pt x="66" y="60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7" y="74"/>
                  </a:lnTo>
                  <a:lnTo>
                    <a:pt x="55" y="80"/>
                  </a:lnTo>
                  <a:lnTo>
                    <a:pt x="53" y="86"/>
                  </a:lnTo>
                  <a:lnTo>
                    <a:pt x="51" y="94"/>
                  </a:lnTo>
                  <a:lnTo>
                    <a:pt x="49" y="101"/>
                  </a:lnTo>
                  <a:lnTo>
                    <a:pt x="7" y="95"/>
                  </a:lnTo>
                  <a:lnTo>
                    <a:pt x="9" y="86"/>
                  </a:lnTo>
                  <a:lnTo>
                    <a:pt x="10" y="79"/>
                  </a:lnTo>
                  <a:lnTo>
                    <a:pt x="12" y="71"/>
                  </a:lnTo>
                  <a:lnTo>
                    <a:pt x="14" y="65"/>
                  </a:lnTo>
                  <a:lnTo>
                    <a:pt x="18" y="59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6" y="41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7" y="20"/>
                  </a:lnTo>
                  <a:lnTo>
                    <a:pt x="52" y="16"/>
                  </a:lnTo>
                  <a:lnTo>
                    <a:pt x="57" y="14"/>
                  </a:lnTo>
                  <a:lnTo>
                    <a:pt x="63" y="11"/>
                  </a:lnTo>
                  <a:lnTo>
                    <a:pt x="69" y="9"/>
                  </a:lnTo>
                  <a:lnTo>
                    <a:pt x="76" y="6"/>
                  </a:lnTo>
                  <a:lnTo>
                    <a:pt x="82" y="4"/>
                  </a:lnTo>
                  <a:lnTo>
                    <a:pt x="90" y="3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3"/>
                  </a:lnTo>
                  <a:lnTo>
                    <a:pt x="155" y="4"/>
                  </a:lnTo>
                  <a:lnTo>
                    <a:pt x="162" y="5"/>
                  </a:lnTo>
                  <a:lnTo>
                    <a:pt x="167" y="8"/>
                  </a:lnTo>
                  <a:lnTo>
                    <a:pt x="172" y="9"/>
                  </a:lnTo>
                  <a:lnTo>
                    <a:pt x="177" y="11"/>
                  </a:lnTo>
                  <a:lnTo>
                    <a:pt x="181" y="14"/>
                  </a:lnTo>
                  <a:lnTo>
                    <a:pt x="186" y="16"/>
                  </a:lnTo>
                  <a:lnTo>
                    <a:pt x="189" y="20"/>
                  </a:lnTo>
                  <a:lnTo>
                    <a:pt x="193" y="23"/>
                  </a:lnTo>
                  <a:lnTo>
                    <a:pt x="196" y="26"/>
                  </a:lnTo>
                  <a:lnTo>
                    <a:pt x="199" y="29"/>
                  </a:lnTo>
                  <a:lnTo>
                    <a:pt x="201" y="33"/>
                  </a:lnTo>
                  <a:lnTo>
                    <a:pt x="204" y="36"/>
                  </a:lnTo>
                  <a:lnTo>
                    <a:pt x="206" y="40"/>
                  </a:lnTo>
                  <a:lnTo>
                    <a:pt x="207" y="44"/>
                  </a:lnTo>
                  <a:lnTo>
                    <a:pt x="209" y="49"/>
                  </a:lnTo>
                  <a:lnTo>
                    <a:pt x="211" y="52"/>
                  </a:lnTo>
                  <a:lnTo>
                    <a:pt x="212" y="57"/>
                  </a:lnTo>
                  <a:lnTo>
                    <a:pt x="213" y="62"/>
                  </a:lnTo>
                  <a:lnTo>
                    <a:pt x="214" y="67"/>
                  </a:lnTo>
                  <a:lnTo>
                    <a:pt x="215" y="71"/>
                  </a:lnTo>
                  <a:lnTo>
                    <a:pt x="215" y="76"/>
                  </a:lnTo>
                  <a:lnTo>
                    <a:pt x="215" y="81"/>
                  </a:lnTo>
                  <a:lnTo>
                    <a:pt x="216" y="86"/>
                  </a:lnTo>
                  <a:lnTo>
                    <a:pt x="216" y="92"/>
                  </a:lnTo>
                  <a:lnTo>
                    <a:pt x="216" y="100"/>
                  </a:lnTo>
                  <a:lnTo>
                    <a:pt x="216" y="107"/>
                  </a:lnTo>
                  <a:lnTo>
                    <a:pt x="216" y="116"/>
                  </a:lnTo>
                  <a:lnTo>
                    <a:pt x="216" y="185"/>
                  </a:lnTo>
                  <a:lnTo>
                    <a:pt x="216" y="202"/>
                  </a:lnTo>
                  <a:lnTo>
                    <a:pt x="216" y="218"/>
                  </a:lnTo>
                  <a:lnTo>
                    <a:pt x="217" y="232"/>
                  </a:lnTo>
                  <a:lnTo>
                    <a:pt x="217" y="245"/>
                  </a:lnTo>
                  <a:lnTo>
                    <a:pt x="217" y="255"/>
                  </a:lnTo>
                  <a:lnTo>
                    <a:pt x="218" y="265"/>
                  </a:lnTo>
                  <a:lnTo>
                    <a:pt x="218" y="271"/>
                  </a:lnTo>
                  <a:lnTo>
                    <a:pt x="219" y="277"/>
                  </a:lnTo>
                  <a:lnTo>
                    <a:pt x="220" y="282"/>
                  </a:lnTo>
                  <a:lnTo>
                    <a:pt x="221" y="287"/>
                  </a:lnTo>
                  <a:lnTo>
                    <a:pt x="222" y="291"/>
                  </a:lnTo>
                  <a:lnTo>
                    <a:pt x="223" y="296"/>
                  </a:lnTo>
                  <a:lnTo>
                    <a:pt x="224" y="301"/>
                  </a:lnTo>
                  <a:lnTo>
                    <a:pt x="226" y="305"/>
                  </a:lnTo>
                  <a:lnTo>
                    <a:pt x="228" y="310"/>
                  </a:lnTo>
                  <a:lnTo>
                    <a:pt x="230" y="315"/>
                  </a:lnTo>
                  <a:lnTo>
                    <a:pt x="186" y="315"/>
                  </a:lnTo>
                  <a:lnTo>
                    <a:pt x="184" y="310"/>
                  </a:lnTo>
                  <a:lnTo>
                    <a:pt x="183" y="306"/>
                  </a:lnTo>
                  <a:lnTo>
                    <a:pt x="182" y="301"/>
                  </a:lnTo>
                  <a:lnTo>
                    <a:pt x="181" y="296"/>
                  </a:lnTo>
                  <a:lnTo>
                    <a:pt x="180" y="292"/>
                  </a:lnTo>
                  <a:lnTo>
                    <a:pt x="179" y="287"/>
                  </a:lnTo>
                  <a:lnTo>
                    <a:pt x="178" y="281"/>
                  </a:lnTo>
                  <a:lnTo>
                    <a:pt x="178" y="276"/>
                  </a:lnTo>
                  <a:close/>
                  <a:moveTo>
                    <a:pt x="174" y="160"/>
                  </a:moveTo>
                  <a:lnTo>
                    <a:pt x="168" y="162"/>
                  </a:lnTo>
                  <a:lnTo>
                    <a:pt x="161" y="165"/>
                  </a:lnTo>
                  <a:lnTo>
                    <a:pt x="153" y="169"/>
                  </a:lnTo>
                  <a:lnTo>
                    <a:pt x="145" y="171"/>
                  </a:lnTo>
                  <a:lnTo>
                    <a:pt x="136" y="174"/>
                  </a:lnTo>
                  <a:lnTo>
                    <a:pt x="126" y="175"/>
                  </a:lnTo>
                  <a:lnTo>
                    <a:pt x="116" y="177"/>
                  </a:lnTo>
                  <a:lnTo>
                    <a:pt x="105" y="180"/>
                  </a:lnTo>
                  <a:lnTo>
                    <a:pt x="99" y="181"/>
                  </a:lnTo>
                  <a:lnTo>
                    <a:pt x="93" y="182"/>
                  </a:lnTo>
                  <a:lnTo>
                    <a:pt x="87" y="184"/>
                  </a:lnTo>
                  <a:lnTo>
                    <a:pt x="82" y="185"/>
                  </a:lnTo>
                  <a:lnTo>
                    <a:pt x="78" y="186"/>
                  </a:lnTo>
                  <a:lnTo>
                    <a:pt x="74" y="187"/>
                  </a:lnTo>
                  <a:lnTo>
                    <a:pt x="71" y="189"/>
                  </a:lnTo>
                  <a:lnTo>
                    <a:pt x="68" y="190"/>
                  </a:lnTo>
                  <a:lnTo>
                    <a:pt x="65" y="191"/>
                  </a:lnTo>
                  <a:lnTo>
                    <a:pt x="63" y="194"/>
                  </a:lnTo>
                  <a:lnTo>
                    <a:pt x="60" y="195"/>
                  </a:lnTo>
                  <a:lnTo>
                    <a:pt x="58" y="197"/>
                  </a:lnTo>
                  <a:lnTo>
                    <a:pt x="56" y="200"/>
                  </a:lnTo>
                  <a:lnTo>
                    <a:pt x="54" y="201"/>
                  </a:lnTo>
                  <a:lnTo>
                    <a:pt x="53" y="205"/>
                  </a:lnTo>
                  <a:lnTo>
                    <a:pt x="51" y="207"/>
                  </a:lnTo>
                  <a:lnTo>
                    <a:pt x="50" y="210"/>
                  </a:lnTo>
                  <a:lnTo>
                    <a:pt x="49" y="212"/>
                  </a:lnTo>
                  <a:lnTo>
                    <a:pt x="48" y="216"/>
                  </a:lnTo>
                  <a:lnTo>
                    <a:pt x="47" y="218"/>
                  </a:lnTo>
                  <a:lnTo>
                    <a:pt x="46" y="222"/>
                  </a:lnTo>
                  <a:lnTo>
                    <a:pt x="46" y="225"/>
                  </a:lnTo>
                  <a:lnTo>
                    <a:pt x="45" y="228"/>
                  </a:lnTo>
                  <a:lnTo>
                    <a:pt x="45" y="231"/>
                  </a:lnTo>
                  <a:lnTo>
                    <a:pt x="46" y="237"/>
                  </a:lnTo>
                  <a:lnTo>
                    <a:pt x="46" y="241"/>
                  </a:lnTo>
                  <a:lnTo>
                    <a:pt x="47" y="246"/>
                  </a:lnTo>
                  <a:lnTo>
                    <a:pt x="49" y="251"/>
                  </a:lnTo>
                  <a:lnTo>
                    <a:pt x="50" y="255"/>
                  </a:lnTo>
                  <a:lnTo>
                    <a:pt x="52" y="258"/>
                  </a:lnTo>
                  <a:lnTo>
                    <a:pt x="55" y="262"/>
                  </a:lnTo>
                  <a:lnTo>
                    <a:pt x="58" y="266"/>
                  </a:lnTo>
                  <a:lnTo>
                    <a:pt x="61" y="270"/>
                  </a:lnTo>
                  <a:lnTo>
                    <a:pt x="65" y="272"/>
                  </a:lnTo>
                  <a:lnTo>
                    <a:pt x="69" y="275"/>
                  </a:lnTo>
                  <a:lnTo>
                    <a:pt x="74" y="277"/>
                  </a:lnTo>
                  <a:lnTo>
                    <a:pt x="78" y="278"/>
                  </a:lnTo>
                  <a:lnTo>
                    <a:pt x="84" y="280"/>
                  </a:lnTo>
                  <a:lnTo>
                    <a:pt x="90" y="280"/>
                  </a:lnTo>
                  <a:lnTo>
                    <a:pt x="96" y="280"/>
                  </a:lnTo>
                  <a:lnTo>
                    <a:pt x="102" y="280"/>
                  </a:lnTo>
                  <a:lnTo>
                    <a:pt x="108" y="280"/>
                  </a:lnTo>
                  <a:lnTo>
                    <a:pt x="113" y="278"/>
                  </a:lnTo>
                  <a:lnTo>
                    <a:pt x="119" y="277"/>
                  </a:lnTo>
                  <a:lnTo>
                    <a:pt x="124" y="275"/>
                  </a:lnTo>
                  <a:lnTo>
                    <a:pt x="129" y="272"/>
                  </a:lnTo>
                  <a:lnTo>
                    <a:pt x="134" y="270"/>
                  </a:lnTo>
                  <a:lnTo>
                    <a:pt x="139" y="267"/>
                  </a:lnTo>
                  <a:lnTo>
                    <a:pt x="143" y="263"/>
                  </a:lnTo>
                  <a:lnTo>
                    <a:pt x="148" y="260"/>
                  </a:lnTo>
                  <a:lnTo>
                    <a:pt x="151" y="256"/>
                  </a:lnTo>
                  <a:lnTo>
                    <a:pt x="155" y="251"/>
                  </a:lnTo>
                  <a:lnTo>
                    <a:pt x="158" y="247"/>
                  </a:lnTo>
                  <a:lnTo>
                    <a:pt x="162" y="242"/>
                  </a:lnTo>
                  <a:lnTo>
                    <a:pt x="165" y="236"/>
                  </a:lnTo>
                  <a:lnTo>
                    <a:pt x="167" y="231"/>
                  </a:lnTo>
                  <a:lnTo>
                    <a:pt x="169" y="226"/>
                  </a:lnTo>
                  <a:lnTo>
                    <a:pt x="170" y="221"/>
                  </a:lnTo>
                  <a:lnTo>
                    <a:pt x="172" y="216"/>
                  </a:lnTo>
                  <a:lnTo>
                    <a:pt x="172" y="210"/>
                  </a:lnTo>
                  <a:lnTo>
                    <a:pt x="173" y="202"/>
                  </a:lnTo>
                  <a:lnTo>
                    <a:pt x="174" y="195"/>
                  </a:lnTo>
                  <a:lnTo>
                    <a:pt x="174" y="187"/>
                  </a:lnTo>
                  <a:lnTo>
                    <a:pt x="174" y="179"/>
                  </a:lnTo>
                  <a:lnTo>
                    <a:pt x="174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85760" y="2918160"/>
              <a:ext cx="60840" cy="62280"/>
            </a:xfrm>
            <a:custGeom>
              <a:avLst/>
              <a:gdLst/>
              <a:ahLst/>
              <a:rect l="l" t="t" r="r" b="b"/>
              <a:pathLst>
                <a:path w="233" h="321">
                  <a:moveTo>
                    <a:pt x="0" y="161"/>
                  </a:moveTo>
                  <a:lnTo>
                    <a:pt x="0" y="140"/>
                  </a:lnTo>
                  <a:lnTo>
                    <a:pt x="2" y="121"/>
                  </a:lnTo>
                  <a:lnTo>
                    <a:pt x="5" y="103"/>
                  </a:lnTo>
                  <a:lnTo>
                    <a:pt x="9" y="87"/>
                  </a:lnTo>
                  <a:lnTo>
                    <a:pt x="15" y="72"/>
                  </a:lnTo>
                  <a:lnTo>
                    <a:pt x="22" y="58"/>
                  </a:lnTo>
                  <a:lnTo>
                    <a:pt x="30" y="45"/>
                  </a:lnTo>
                  <a:lnTo>
                    <a:pt x="39" y="34"/>
                  </a:lnTo>
                  <a:lnTo>
                    <a:pt x="47" y="27"/>
                  </a:lnTo>
                  <a:lnTo>
                    <a:pt x="55" y="19"/>
                  </a:lnTo>
                  <a:lnTo>
                    <a:pt x="65" y="14"/>
                  </a:lnTo>
                  <a:lnTo>
                    <a:pt x="74" y="9"/>
                  </a:lnTo>
                  <a:lnTo>
                    <a:pt x="84" y="5"/>
                  </a:lnTo>
                  <a:lnTo>
                    <a:pt x="95" y="3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7"/>
                  </a:lnTo>
                  <a:lnTo>
                    <a:pt x="163" y="10"/>
                  </a:lnTo>
                  <a:lnTo>
                    <a:pt x="174" y="17"/>
                  </a:lnTo>
                  <a:lnTo>
                    <a:pt x="184" y="24"/>
                  </a:lnTo>
                  <a:lnTo>
                    <a:pt x="193" y="33"/>
                  </a:lnTo>
                  <a:lnTo>
                    <a:pt x="201" y="42"/>
                  </a:lnTo>
                  <a:lnTo>
                    <a:pt x="209" y="53"/>
                  </a:lnTo>
                  <a:lnTo>
                    <a:pt x="215" y="65"/>
                  </a:lnTo>
                  <a:lnTo>
                    <a:pt x="221" y="78"/>
                  </a:lnTo>
                  <a:lnTo>
                    <a:pt x="225" y="92"/>
                  </a:lnTo>
                  <a:lnTo>
                    <a:pt x="229" y="107"/>
                  </a:lnTo>
                  <a:lnTo>
                    <a:pt x="231" y="121"/>
                  </a:lnTo>
                  <a:lnTo>
                    <a:pt x="233" y="139"/>
                  </a:lnTo>
                  <a:lnTo>
                    <a:pt x="233" y="156"/>
                  </a:lnTo>
                  <a:lnTo>
                    <a:pt x="233" y="171"/>
                  </a:lnTo>
                  <a:lnTo>
                    <a:pt x="232" y="185"/>
                  </a:lnTo>
                  <a:lnTo>
                    <a:pt x="231" y="198"/>
                  </a:lnTo>
                  <a:lnTo>
                    <a:pt x="230" y="210"/>
                  </a:lnTo>
                  <a:lnTo>
                    <a:pt x="228" y="221"/>
                  </a:lnTo>
                  <a:lnTo>
                    <a:pt x="225" y="231"/>
                  </a:lnTo>
                  <a:lnTo>
                    <a:pt x="222" y="241"/>
                  </a:lnTo>
                  <a:lnTo>
                    <a:pt x="219" y="250"/>
                  </a:lnTo>
                  <a:lnTo>
                    <a:pt x="215" y="259"/>
                  </a:lnTo>
                  <a:lnTo>
                    <a:pt x="211" y="266"/>
                  </a:lnTo>
                  <a:lnTo>
                    <a:pt x="207" y="274"/>
                  </a:lnTo>
                  <a:lnTo>
                    <a:pt x="202" y="280"/>
                  </a:lnTo>
                  <a:lnTo>
                    <a:pt x="196" y="286"/>
                  </a:lnTo>
                  <a:lnTo>
                    <a:pt x="190" y="292"/>
                  </a:lnTo>
                  <a:lnTo>
                    <a:pt x="184" y="297"/>
                  </a:lnTo>
                  <a:lnTo>
                    <a:pt x="178" y="302"/>
                  </a:lnTo>
                  <a:lnTo>
                    <a:pt x="171" y="307"/>
                  </a:lnTo>
                  <a:lnTo>
                    <a:pt x="163" y="311"/>
                  </a:lnTo>
                  <a:lnTo>
                    <a:pt x="155" y="314"/>
                  </a:lnTo>
                  <a:lnTo>
                    <a:pt x="148" y="317"/>
                  </a:lnTo>
                  <a:lnTo>
                    <a:pt x="141" y="319"/>
                  </a:lnTo>
                  <a:lnTo>
                    <a:pt x="133" y="320"/>
                  </a:lnTo>
                  <a:lnTo>
                    <a:pt x="125" y="321"/>
                  </a:lnTo>
                  <a:lnTo>
                    <a:pt x="117" y="321"/>
                  </a:lnTo>
                  <a:lnTo>
                    <a:pt x="105" y="321"/>
                  </a:lnTo>
                  <a:lnTo>
                    <a:pt x="92" y="319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1" y="290"/>
                  </a:lnTo>
                  <a:lnTo>
                    <a:pt x="33" y="280"/>
                  </a:lnTo>
                  <a:lnTo>
                    <a:pt x="25" y="269"/>
                  </a:lnTo>
                  <a:lnTo>
                    <a:pt x="18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4"/>
                  </a:lnTo>
                  <a:lnTo>
                    <a:pt x="2" y="198"/>
                  </a:lnTo>
                  <a:lnTo>
                    <a:pt x="0" y="180"/>
                  </a:lnTo>
                  <a:lnTo>
                    <a:pt x="0" y="161"/>
                  </a:lnTo>
                  <a:close/>
                  <a:moveTo>
                    <a:pt x="44" y="161"/>
                  </a:moveTo>
                  <a:lnTo>
                    <a:pt x="44" y="175"/>
                  </a:lnTo>
                  <a:lnTo>
                    <a:pt x="45" y="189"/>
                  </a:lnTo>
                  <a:lnTo>
                    <a:pt x="47" y="201"/>
                  </a:lnTo>
                  <a:lnTo>
                    <a:pt x="49" y="213"/>
                  </a:lnTo>
                  <a:lnTo>
                    <a:pt x="52" y="223"/>
                  </a:lnTo>
                  <a:lnTo>
                    <a:pt x="55" y="233"/>
                  </a:lnTo>
                  <a:lnTo>
                    <a:pt x="59" y="241"/>
                  </a:lnTo>
                  <a:lnTo>
                    <a:pt x="64" y="249"/>
                  </a:lnTo>
                  <a:lnTo>
                    <a:pt x="70" y="256"/>
                  </a:lnTo>
                  <a:lnTo>
                    <a:pt x="75" y="262"/>
                  </a:lnTo>
                  <a:lnTo>
                    <a:pt x="81" y="267"/>
                  </a:lnTo>
                  <a:lnTo>
                    <a:pt x="88" y="271"/>
                  </a:lnTo>
                  <a:lnTo>
                    <a:pt x="95" y="275"/>
                  </a:lnTo>
                  <a:lnTo>
                    <a:pt x="102" y="277"/>
                  </a:lnTo>
                  <a:lnTo>
                    <a:pt x="109" y="279"/>
                  </a:lnTo>
                  <a:lnTo>
                    <a:pt x="117" y="279"/>
                  </a:lnTo>
                  <a:lnTo>
                    <a:pt x="125" y="279"/>
                  </a:lnTo>
                  <a:lnTo>
                    <a:pt x="132" y="277"/>
                  </a:lnTo>
                  <a:lnTo>
                    <a:pt x="139" y="275"/>
                  </a:lnTo>
                  <a:lnTo>
                    <a:pt x="146" y="271"/>
                  </a:lnTo>
                  <a:lnTo>
                    <a:pt x="152" y="267"/>
                  </a:lnTo>
                  <a:lnTo>
                    <a:pt x="158" y="262"/>
                  </a:lnTo>
                  <a:lnTo>
                    <a:pt x="164" y="256"/>
                  </a:lnTo>
                  <a:lnTo>
                    <a:pt x="170" y="249"/>
                  </a:lnTo>
                  <a:lnTo>
                    <a:pt x="175" y="241"/>
                  </a:lnTo>
                  <a:lnTo>
                    <a:pt x="179" y="233"/>
                  </a:lnTo>
                  <a:lnTo>
                    <a:pt x="182" y="223"/>
                  </a:lnTo>
                  <a:lnTo>
                    <a:pt x="185" y="213"/>
                  </a:lnTo>
                  <a:lnTo>
                    <a:pt x="188" y="200"/>
                  </a:lnTo>
                  <a:lnTo>
                    <a:pt x="189" y="188"/>
                  </a:lnTo>
                  <a:lnTo>
                    <a:pt x="190" y="174"/>
                  </a:lnTo>
                  <a:lnTo>
                    <a:pt x="190" y="159"/>
                  </a:lnTo>
                  <a:lnTo>
                    <a:pt x="190" y="145"/>
                  </a:lnTo>
                  <a:lnTo>
                    <a:pt x="189" y="133"/>
                  </a:lnTo>
                  <a:lnTo>
                    <a:pt x="188" y="120"/>
                  </a:lnTo>
                  <a:lnTo>
                    <a:pt x="185" y="109"/>
                  </a:lnTo>
                  <a:lnTo>
                    <a:pt x="182" y="99"/>
                  </a:lnTo>
                  <a:lnTo>
                    <a:pt x="179" y="89"/>
                  </a:lnTo>
                  <a:lnTo>
                    <a:pt x="175" y="80"/>
                  </a:lnTo>
                  <a:lnTo>
                    <a:pt x="170" y="73"/>
                  </a:lnTo>
                  <a:lnTo>
                    <a:pt x="163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5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4"/>
                  </a:lnTo>
                  <a:lnTo>
                    <a:pt x="109" y="44"/>
                  </a:lnTo>
                  <a:lnTo>
                    <a:pt x="102" y="45"/>
                  </a:lnTo>
                  <a:lnTo>
                    <a:pt x="95" y="48"/>
                  </a:lnTo>
                  <a:lnTo>
                    <a:pt x="88" y="50"/>
                  </a:lnTo>
                  <a:lnTo>
                    <a:pt x="81" y="55"/>
                  </a:lnTo>
                  <a:lnTo>
                    <a:pt x="75" y="60"/>
                  </a:lnTo>
                  <a:lnTo>
                    <a:pt x="70" y="67"/>
                  </a:lnTo>
                  <a:lnTo>
                    <a:pt x="64" y="73"/>
                  </a:lnTo>
                  <a:lnTo>
                    <a:pt x="59" y="80"/>
                  </a:lnTo>
                  <a:lnTo>
                    <a:pt x="55" y="89"/>
                  </a:lnTo>
                  <a:lnTo>
                    <a:pt x="52" y="99"/>
                  </a:lnTo>
                  <a:lnTo>
                    <a:pt x="49" y="109"/>
                  </a:lnTo>
                  <a:lnTo>
                    <a:pt x="47" y="121"/>
                  </a:lnTo>
                  <a:lnTo>
                    <a:pt x="45" y="134"/>
                  </a:lnTo>
                  <a:lnTo>
                    <a:pt x="44" y="146"/>
                  </a:lnTo>
                  <a:lnTo>
                    <a:pt x="44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91600" y="2894760"/>
              <a:ext cx="71640" cy="85680"/>
            </a:xfrm>
            <a:custGeom>
              <a:avLst/>
              <a:gdLst/>
              <a:ahLst/>
              <a:rect l="l" t="t" r="r" b="b"/>
              <a:pathLst>
                <a:path w="275" h="439">
                  <a:moveTo>
                    <a:pt x="0" y="296"/>
                  </a:moveTo>
                  <a:lnTo>
                    <a:pt x="43" y="291"/>
                  </a:lnTo>
                  <a:lnTo>
                    <a:pt x="43" y="298"/>
                  </a:lnTo>
                  <a:lnTo>
                    <a:pt x="45" y="306"/>
                  </a:lnTo>
                  <a:lnTo>
                    <a:pt x="46" y="313"/>
                  </a:lnTo>
                  <a:lnTo>
                    <a:pt x="49" y="320"/>
                  </a:lnTo>
                  <a:lnTo>
                    <a:pt x="50" y="326"/>
                  </a:lnTo>
                  <a:lnTo>
                    <a:pt x="53" y="332"/>
                  </a:lnTo>
                  <a:lnTo>
                    <a:pt x="55" y="337"/>
                  </a:lnTo>
                  <a:lnTo>
                    <a:pt x="58" y="343"/>
                  </a:lnTo>
                  <a:lnTo>
                    <a:pt x="61" y="348"/>
                  </a:lnTo>
                  <a:lnTo>
                    <a:pt x="64" y="352"/>
                  </a:lnTo>
                  <a:lnTo>
                    <a:pt x="68" y="357"/>
                  </a:lnTo>
                  <a:lnTo>
                    <a:pt x="72" y="361"/>
                  </a:lnTo>
                  <a:lnTo>
                    <a:pt x="76" y="366"/>
                  </a:lnTo>
                  <a:lnTo>
                    <a:pt x="81" y="370"/>
                  </a:lnTo>
                  <a:lnTo>
                    <a:pt x="86" y="373"/>
                  </a:lnTo>
                  <a:lnTo>
                    <a:pt x="92" y="376"/>
                  </a:lnTo>
                  <a:lnTo>
                    <a:pt x="98" y="378"/>
                  </a:lnTo>
                  <a:lnTo>
                    <a:pt x="104" y="382"/>
                  </a:lnTo>
                  <a:lnTo>
                    <a:pt x="110" y="383"/>
                  </a:lnTo>
                  <a:lnTo>
                    <a:pt x="116" y="386"/>
                  </a:lnTo>
                  <a:lnTo>
                    <a:pt x="124" y="387"/>
                  </a:lnTo>
                  <a:lnTo>
                    <a:pt x="131" y="388"/>
                  </a:lnTo>
                  <a:lnTo>
                    <a:pt x="138" y="388"/>
                  </a:lnTo>
                  <a:lnTo>
                    <a:pt x="145" y="388"/>
                  </a:lnTo>
                  <a:lnTo>
                    <a:pt x="151" y="388"/>
                  </a:lnTo>
                  <a:lnTo>
                    <a:pt x="157" y="388"/>
                  </a:lnTo>
                  <a:lnTo>
                    <a:pt x="163" y="387"/>
                  </a:lnTo>
                  <a:lnTo>
                    <a:pt x="169" y="386"/>
                  </a:lnTo>
                  <a:lnTo>
                    <a:pt x="175" y="384"/>
                  </a:lnTo>
                  <a:lnTo>
                    <a:pt x="180" y="383"/>
                  </a:lnTo>
                  <a:lnTo>
                    <a:pt x="185" y="381"/>
                  </a:lnTo>
                  <a:lnTo>
                    <a:pt x="190" y="379"/>
                  </a:lnTo>
                  <a:lnTo>
                    <a:pt x="196" y="377"/>
                  </a:lnTo>
                  <a:lnTo>
                    <a:pt x="200" y="373"/>
                  </a:lnTo>
                  <a:lnTo>
                    <a:pt x="205" y="371"/>
                  </a:lnTo>
                  <a:lnTo>
                    <a:pt x="208" y="367"/>
                  </a:lnTo>
                  <a:lnTo>
                    <a:pt x="212" y="365"/>
                  </a:lnTo>
                  <a:lnTo>
                    <a:pt x="215" y="361"/>
                  </a:lnTo>
                  <a:lnTo>
                    <a:pt x="218" y="357"/>
                  </a:lnTo>
                  <a:lnTo>
                    <a:pt x="221" y="353"/>
                  </a:lnTo>
                  <a:lnTo>
                    <a:pt x="223" y="348"/>
                  </a:lnTo>
                  <a:lnTo>
                    <a:pt x="225" y="345"/>
                  </a:lnTo>
                  <a:lnTo>
                    <a:pt x="226" y="340"/>
                  </a:lnTo>
                  <a:lnTo>
                    <a:pt x="228" y="336"/>
                  </a:lnTo>
                  <a:lnTo>
                    <a:pt x="229" y="331"/>
                  </a:lnTo>
                  <a:lnTo>
                    <a:pt x="230" y="326"/>
                  </a:lnTo>
                  <a:lnTo>
                    <a:pt x="230" y="321"/>
                  </a:lnTo>
                  <a:lnTo>
                    <a:pt x="230" y="317"/>
                  </a:lnTo>
                  <a:lnTo>
                    <a:pt x="230" y="312"/>
                  </a:lnTo>
                  <a:lnTo>
                    <a:pt x="230" y="307"/>
                  </a:lnTo>
                  <a:lnTo>
                    <a:pt x="229" y="302"/>
                  </a:lnTo>
                  <a:lnTo>
                    <a:pt x="228" y="298"/>
                  </a:lnTo>
                  <a:lnTo>
                    <a:pt x="227" y="293"/>
                  </a:lnTo>
                  <a:lnTo>
                    <a:pt x="225" y="290"/>
                  </a:lnTo>
                  <a:lnTo>
                    <a:pt x="223" y="286"/>
                  </a:lnTo>
                  <a:lnTo>
                    <a:pt x="221" y="282"/>
                  </a:lnTo>
                  <a:lnTo>
                    <a:pt x="218" y="278"/>
                  </a:lnTo>
                  <a:lnTo>
                    <a:pt x="216" y="275"/>
                  </a:lnTo>
                  <a:lnTo>
                    <a:pt x="212" y="271"/>
                  </a:lnTo>
                  <a:lnTo>
                    <a:pt x="209" y="268"/>
                  </a:lnTo>
                  <a:lnTo>
                    <a:pt x="205" y="265"/>
                  </a:lnTo>
                  <a:lnTo>
                    <a:pt x="200" y="262"/>
                  </a:lnTo>
                  <a:lnTo>
                    <a:pt x="195" y="260"/>
                  </a:lnTo>
                  <a:lnTo>
                    <a:pt x="189" y="257"/>
                  </a:lnTo>
                  <a:lnTo>
                    <a:pt x="185" y="255"/>
                  </a:lnTo>
                  <a:lnTo>
                    <a:pt x="180" y="253"/>
                  </a:lnTo>
                  <a:lnTo>
                    <a:pt x="174" y="251"/>
                  </a:lnTo>
                  <a:lnTo>
                    <a:pt x="167" y="248"/>
                  </a:lnTo>
                  <a:lnTo>
                    <a:pt x="159" y="246"/>
                  </a:lnTo>
                  <a:lnTo>
                    <a:pt x="150" y="242"/>
                  </a:lnTo>
                  <a:lnTo>
                    <a:pt x="140" y="240"/>
                  </a:lnTo>
                  <a:lnTo>
                    <a:pt x="129" y="236"/>
                  </a:lnTo>
                  <a:lnTo>
                    <a:pt x="117" y="232"/>
                  </a:lnTo>
                  <a:lnTo>
                    <a:pt x="106" y="229"/>
                  </a:lnTo>
                  <a:lnTo>
                    <a:pt x="97" y="226"/>
                  </a:lnTo>
                  <a:lnTo>
                    <a:pt x="88" y="222"/>
                  </a:lnTo>
                  <a:lnTo>
                    <a:pt x="80" y="219"/>
                  </a:lnTo>
                  <a:lnTo>
                    <a:pt x="73" y="216"/>
                  </a:lnTo>
                  <a:lnTo>
                    <a:pt x="67" y="212"/>
                  </a:lnTo>
                  <a:lnTo>
                    <a:pt x="62" y="210"/>
                  </a:lnTo>
                  <a:lnTo>
                    <a:pt x="56" y="205"/>
                  </a:lnTo>
                  <a:lnTo>
                    <a:pt x="51" y="201"/>
                  </a:lnTo>
                  <a:lnTo>
                    <a:pt x="45" y="196"/>
                  </a:lnTo>
                  <a:lnTo>
                    <a:pt x="40" y="191"/>
                  </a:lnTo>
                  <a:lnTo>
                    <a:pt x="36" y="186"/>
                  </a:lnTo>
                  <a:lnTo>
                    <a:pt x="32" y="181"/>
                  </a:lnTo>
                  <a:lnTo>
                    <a:pt x="28" y="176"/>
                  </a:lnTo>
                  <a:lnTo>
                    <a:pt x="25" y="170"/>
                  </a:lnTo>
                  <a:lnTo>
                    <a:pt x="22" y="164"/>
                  </a:lnTo>
                  <a:lnTo>
                    <a:pt x="20" y="157"/>
                  </a:lnTo>
                  <a:lnTo>
                    <a:pt x="18" y="151"/>
                  </a:lnTo>
                  <a:lnTo>
                    <a:pt x="16" y="145"/>
                  </a:lnTo>
                  <a:lnTo>
                    <a:pt x="15" y="139"/>
                  </a:lnTo>
                  <a:lnTo>
                    <a:pt x="14" y="131"/>
                  </a:lnTo>
                  <a:lnTo>
                    <a:pt x="13" y="125"/>
                  </a:lnTo>
                  <a:lnTo>
                    <a:pt x="13" y="117"/>
                  </a:lnTo>
                  <a:lnTo>
                    <a:pt x="13" y="109"/>
                  </a:lnTo>
                  <a:lnTo>
                    <a:pt x="14" y="101"/>
                  </a:lnTo>
                  <a:lnTo>
                    <a:pt x="15" y="94"/>
                  </a:lnTo>
                  <a:lnTo>
                    <a:pt x="17" y="86"/>
                  </a:lnTo>
                  <a:lnTo>
                    <a:pt x="19" y="79"/>
                  </a:lnTo>
                  <a:lnTo>
                    <a:pt x="21" y="71"/>
                  </a:lnTo>
                  <a:lnTo>
                    <a:pt x="24" y="64"/>
                  </a:lnTo>
                  <a:lnTo>
                    <a:pt x="28" y="58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41" y="39"/>
                  </a:lnTo>
                  <a:lnTo>
                    <a:pt x="46" y="33"/>
                  </a:lnTo>
                  <a:lnTo>
                    <a:pt x="52" y="28"/>
                  </a:lnTo>
                  <a:lnTo>
                    <a:pt x="58" y="23"/>
                  </a:lnTo>
                  <a:lnTo>
                    <a:pt x="65" y="19"/>
                  </a:lnTo>
                  <a:lnTo>
                    <a:pt x="71" y="15"/>
                  </a:lnTo>
                  <a:lnTo>
                    <a:pt x="78" y="11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101" y="4"/>
                  </a:lnTo>
                  <a:lnTo>
                    <a:pt x="109" y="3"/>
                  </a:lnTo>
                  <a:lnTo>
                    <a:pt x="117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8" y="6"/>
                  </a:lnTo>
                  <a:lnTo>
                    <a:pt x="186" y="9"/>
                  </a:lnTo>
                  <a:lnTo>
                    <a:pt x="195" y="13"/>
                  </a:lnTo>
                  <a:lnTo>
                    <a:pt x="202" y="15"/>
                  </a:lnTo>
                  <a:lnTo>
                    <a:pt x="209" y="20"/>
                  </a:lnTo>
                  <a:lnTo>
                    <a:pt x="216" y="24"/>
                  </a:lnTo>
                  <a:lnTo>
                    <a:pt x="222" y="29"/>
                  </a:lnTo>
                  <a:lnTo>
                    <a:pt x="228" y="34"/>
                  </a:lnTo>
                  <a:lnTo>
                    <a:pt x="233" y="40"/>
                  </a:lnTo>
                  <a:lnTo>
                    <a:pt x="238" y="46"/>
                  </a:lnTo>
                  <a:lnTo>
                    <a:pt x="243" y="53"/>
                  </a:lnTo>
                  <a:lnTo>
                    <a:pt x="247" y="60"/>
                  </a:lnTo>
                  <a:lnTo>
                    <a:pt x="250" y="68"/>
                  </a:lnTo>
                  <a:lnTo>
                    <a:pt x="254" y="75"/>
                  </a:lnTo>
                  <a:lnTo>
                    <a:pt x="256" y="84"/>
                  </a:lnTo>
                  <a:lnTo>
                    <a:pt x="259" y="91"/>
                  </a:lnTo>
                  <a:lnTo>
                    <a:pt x="260" y="100"/>
                  </a:lnTo>
                  <a:lnTo>
                    <a:pt x="262" y="109"/>
                  </a:lnTo>
                  <a:lnTo>
                    <a:pt x="263" y="117"/>
                  </a:lnTo>
                  <a:lnTo>
                    <a:pt x="263" y="127"/>
                  </a:lnTo>
                  <a:lnTo>
                    <a:pt x="220" y="131"/>
                  </a:lnTo>
                  <a:lnTo>
                    <a:pt x="219" y="121"/>
                  </a:lnTo>
                  <a:lnTo>
                    <a:pt x="217" y="112"/>
                  </a:lnTo>
                  <a:lnTo>
                    <a:pt x="215" y="104"/>
                  </a:lnTo>
                  <a:lnTo>
                    <a:pt x="213" y="96"/>
                  </a:lnTo>
                  <a:lnTo>
                    <a:pt x="209" y="89"/>
                  </a:lnTo>
                  <a:lnTo>
                    <a:pt x="206" y="83"/>
                  </a:lnTo>
                  <a:lnTo>
                    <a:pt x="201" y="76"/>
                  </a:lnTo>
                  <a:lnTo>
                    <a:pt x="197" y="70"/>
                  </a:lnTo>
                  <a:lnTo>
                    <a:pt x="190" y="65"/>
                  </a:lnTo>
                  <a:lnTo>
                    <a:pt x="184" y="61"/>
                  </a:lnTo>
                  <a:lnTo>
                    <a:pt x="178" y="58"/>
                  </a:lnTo>
                  <a:lnTo>
                    <a:pt x="171" y="55"/>
                  </a:lnTo>
                  <a:lnTo>
                    <a:pt x="163" y="53"/>
                  </a:lnTo>
                  <a:lnTo>
                    <a:pt x="155" y="51"/>
                  </a:lnTo>
                  <a:lnTo>
                    <a:pt x="146" y="50"/>
                  </a:lnTo>
                  <a:lnTo>
                    <a:pt x="137" y="50"/>
                  </a:lnTo>
                  <a:lnTo>
                    <a:pt x="127" y="50"/>
                  </a:lnTo>
                  <a:lnTo>
                    <a:pt x="117" y="51"/>
                  </a:lnTo>
                  <a:lnTo>
                    <a:pt x="108" y="53"/>
                  </a:lnTo>
                  <a:lnTo>
                    <a:pt x="100" y="55"/>
                  </a:lnTo>
                  <a:lnTo>
                    <a:pt x="93" y="58"/>
                  </a:lnTo>
                  <a:lnTo>
                    <a:pt x="87" y="60"/>
                  </a:lnTo>
                  <a:lnTo>
                    <a:pt x="81" y="64"/>
                  </a:lnTo>
                  <a:lnTo>
                    <a:pt x="76" y="69"/>
                  </a:lnTo>
                  <a:lnTo>
                    <a:pt x="72" y="74"/>
                  </a:lnTo>
                  <a:lnTo>
                    <a:pt x="68" y="79"/>
                  </a:lnTo>
                  <a:lnTo>
                    <a:pt x="65" y="84"/>
                  </a:lnTo>
                  <a:lnTo>
                    <a:pt x="62" y="89"/>
                  </a:lnTo>
                  <a:lnTo>
                    <a:pt x="60" y="95"/>
                  </a:lnTo>
                  <a:lnTo>
                    <a:pt x="59" y="101"/>
                  </a:lnTo>
                  <a:lnTo>
                    <a:pt x="58" y="107"/>
                  </a:lnTo>
                  <a:lnTo>
                    <a:pt x="57" y="114"/>
                  </a:lnTo>
                  <a:lnTo>
                    <a:pt x="58" y="119"/>
                  </a:lnTo>
                  <a:lnTo>
                    <a:pt x="58" y="125"/>
                  </a:lnTo>
                  <a:lnTo>
                    <a:pt x="59" y="130"/>
                  </a:lnTo>
                  <a:lnTo>
                    <a:pt x="61" y="135"/>
                  </a:lnTo>
                  <a:lnTo>
                    <a:pt x="63" y="139"/>
                  </a:lnTo>
                  <a:lnTo>
                    <a:pt x="65" y="144"/>
                  </a:lnTo>
                  <a:lnTo>
                    <a:pt x="68" y="147"/>
                  </a:lnTo>
                  <a:lnTo>
                    <a:pt x="71" y="151"/>
                  </a:lnTo>
                  <a:lnTo>
                    <a:pt x="75" y="155"/>
                  </a:lnTo>
                  <a:lnTo>
                    <a:pt x="80" y="159"/>
                  </a:lnTo>
                  <a:lnTo>
                    <a:pt x="86" y="162"/>
                  </a:lnTo>
                  <a:lnTo>
                    <a:pt x="94" y="166"/>
                  </a:lnTo>
                  <a:lnTo>
                    <a:pt x="103" y="170"/>
                  </a:lnTo>
                  <a:lnTo>
                    <a:pt x="114" y="174"/>
                  </a:lnTo>
                  <a:lnTo>
                    <a:pt x="126" y="177"/>
                  </a:lnTo>
                  <a:lnTo>
                    <a:pt x="139" y="181"/>
                  </a:lnTo>
                  <a:lnTo>
                    <a:pt x="153" y="185"/>
                  </a:lnTo>
                  <a:lnTo>
                    <a:pt x="165" y="189"/>
                  </a:lnTo>
                  <a:lnTo>
                    <a:pt x="176" y="192"/>
                  </a:lnTo>
                  <a:lnTo>
                    <a:pt x="186" y="196"/>
                  </a:lnTo>
                  <a:lnTo>
                    <a:pt x="195" y="199"/>
                  </a:lnTo>
                  <a:lnTo>
                    <a:pt x="203" y="202"/>
                  </a:lnTo>
                  <a:lnTo>
                    <a:pt x="210" y="205"/>
                  </a:lnTo>
                  <a:lnTo>
                    <a:pt x="216" y="209"/>
                  </a:lnTo>
                  <a:lnTo>
                    <a:pt x="223" y="212"/>
                  </a:lnTo>
                  <a:lnTo>
                    <a:pt x="229" y="217"/>
                  </a:lnTo>
                  <a:lnTo>
                    <a:pt x="236" y="222"/>
                  </a:lnTo>
                  <a:lnTo>
                    <a:pt x="241" y="227"/>
                  </a:lnTo>
                  <a:lnTo>
                    <a:pt x="247" y="233"/>
                  </a:lnTo>
                  <a:lnTo>
                    <a:pt x="251" y="238"/>
                  </a:lnTo>
                  <a:lnTo>
                    <a:pt x="256" y="245"/>
                  </a:lnTo>
                  <a:lnTo>
                    <a:pt x="259" y="251"/>
                  </a:lnTo>
                  <a:lnTo>
                    <a:pt x="263" y="258"/>
                  </a:lnTo>
                  <a:lnTo>
                    <a:pt x="267" y="265"/>
                  </a:lnTo>
                  <a:lnTo>
                    <a:pt x="269" y="272"/>
                  </a:lnTo>
                  <a:lnTo>
                    <a:pt x="271" y="280"/>
                  </a:lnTo>
                  <a:lnTo>
                    <a:pt x="273" y="287"/>
                  </a:lnTo>
                  <a:lnTo>
                    <a:pt x="274" y="296"/>
                  </a:lnTo>
                  <a:lnTo>
                    <a:pt x="274" y="303"/>
                  </a:lnTo>
                  <a:lnTo>
                    <a:pt x="275" y="312"/>
                  </a:lnTo>
                  <a:lnTo>
                    <a:pt x="274" y="321"/>
                  </a:lnTo>
                  <a:lnTo>
                    <a:pt x="274" y="328"/>
                  </a:lnTo>
                  <a:lnTo>
                    <a:pt x="272" y="337"/>
                  </a:lnTo>
                  <a:lnTo>
                    <a:pt x="271" y="345"/>
                  </a:lnTo>
                  <a:lnTo>
                    <a:pt x="268" y="352"/>
                  </a:lnTo>
                  <a:lnTo>
                    <a:pt x="266" y="361"/>
                  </a:lnTo>
                  <a:lnTo>
                    <a:pt x="262" y="368"/>
                  </a:lnTo>
                  <a:lnTo>
                    <a:pt x="258" y="376"/>
                  </a:lnTo>
                  <a:lnTo>
                    <a:pt x="254" y="383"/>
                  </a:lnTo>
                  <a:lnTo>
                    <a:pt x="249" y="389"/>
                  </a:lnTo>
                  <a:lnTo>
                    <a:pt x="244" y="396"/>
                  </a:lnTo>
                  <a:lnTo>
                    <a:pt x="239" y="402"/>
                  </a:lnTo>
                  <a:lnTo>
                    <a:pt x="233" y="408"/>
                  </a:lnTo>
                  <a:lnTo>
                    <a:pt x="227" y="413"/>
                  </a:lnTo>
                  <a:lnTo>
                    <a:pt x="220" y="418"/>
                  </a:lnTo>
                  <a:lnTo>
                    <a:pt x="213" y="422"/>
                  </a:lnTo>
                  <a:lnTo>
                    <a:pt x="206" y="426"/>
                  </a:lnTo>
                  <a:lnTo>
                    <a:pt x="198" y="429"/>
                  </a:lnTo>
                  <a:lnTo>
                    <a:pt x="190" y="432"/>
                  </a:lnTo>
                  <a:lnTo>
                    <a:pt x="182" y="434"/>
                  </a:lnTo>
                  <a:lnTo>
                    <a:pt x="173" y="437"/>
                  </a:lnTo>
                  <a:lnTo>
                    <a:pt x="165" y="438"/>
                  </a:lnTo>
                  <a:lnTo>
                    <a:pt x="156" y="438"/>
                  </a:lnTo>
                  <a:lnTo>
                    <a:pt x="147" y="439"/>
                  </a:lnTo>
                  <a:lnTo>
                    <a:pt x="136" y="438"/>
                  </a:lnTo>
                  <a:lnTo>
                    <a:pt x="125" y="438"/>
                  </a:lnTo>
                  <a:lnTo>
                    <a:pt x="113" y="437"/>
                  </a:lnTo>
                  <a:lnTo>
                    <a:pt x="104" y="434"/>
                  </a:lnTo>
                  <a:lnTo>
                    <a:pt x="94" y="432"/>
                  </a:lnTo>
                  <a:lnTo>
                    <a:pt x="85" y="429"/>
                  </a:lnTo>
                  <a:lnTo>
                    <a:pt x="77" y="426"/>
                  </a:lnTo>
                  <a:lnTo>
                    <a:pt x="69" y="422"/>
                  </a:lnTo>
                  <a:lnTo>
                    <a:pt x="61" y="418"/>
                  </a:lnTo>
                  <a:lnTo>
                    <a:pt x="54" y="413"/>
                  </a:lnTo>
                  <a:lnTo>
                    <a:pt x="46" y="407"/>
                  </a:lnTo>
                  <a:lnTo>
                    <a:pt x="40" y="401"/>
                  </a:lnTo>
                  <a:lnTo>
                    <a:pt x="34" y="394"/>
                  </a:lnTo>
                  <a:lnTo>
                    <a:pt x="28" y="387"/>
                  </a:lnTo>
                  <a:lnTo>
                    <a:pt x="23" y="379"/>
                  </a:lnTo>
                  <a:lnTo>
                    <a:pt x="19" y="372"/>
                  </a:lnTo>
                  <a:lnTo>
                    <a:pt x="15" y="363"/>
                  </a:lnTo>
                  <a:lnTo>
                    <a:pt x="11" y="355"/>
                  </a:lnTo>
                  <a:lnTo>
                    <a:pt x="8" y="345"/>
                  </a:lnTo>
                  <a:lnTo>
                    <a:pt x="5" y="336"/>
                  </a:lnTo>
                  <a:lnTo>
                    <a:pt x="3" y="326"/>
                  </a:lnTo>
                  <a:lnTo>
                    <a:pt x="2" y="316"/>
                  </a:lnTo>
                  <a:lnTo>
                    <a:pt x="1" y="30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74400" y="2918160"/>
              <a:ext cx="59040" cy="62280"/>
            </a:xfrm>
            <a:custGeom>
              <a:avLst/>
              <a:gdLst/>
              <a:ahLst/>
              <a:rect l="l" t="t" r="r" b="b"/>
              <a:pathLst>
                <a:path w="229" h="321">
                  <a:moveTo>
                    <a:pt x="177" y="276"/>
                  </a:moveTo>
                  <a:lnTo>
                    <a:pt x="171" y="282"/>
                  </a:lnTo>
                  <a:lnTo>
                    <a:pt x="166" y="287"/>
                  </a:lnTo>
                  <a:lnTo>
                    <a:pt x="159" y="294"/>
                  </a:lnTo>
                  <a:lnTo>
                    <a:pt x="153" y="297"/>
                  </a:lnTo>
                  <a:lnTo>
                    <a:pt x="148" y="301"/>
                  </a:lnTo>
                  <a:lnTo>
                    <a:pt x="142" y="305"/>
                  </a:lnTo>
                  <a:lnTo>
                    <a:pt x="137" y="309"/>
                  </a:lnTo>
                  <a:lnTo>
                    <a:pt x="132" y="311"/>
                  </a:lnTo>
                  <a:lnTo>
                    <a:pt x="126" y="314"/>
                  </a:lnTo>
                  <a:lnTo>
                    <a:pt x="121" y="316"/>
                  </a:lnTo>
                  <a:lnTo>
                    <a:pt x="115" y="317"/>
                  </a:lnTo>
                  <a:lnTo>
                    <a:pt x="109" y="319"/>
                  </a:lnTo>
                  <a:lnTo>
                    <a:pt x="104" y="320"/>
                  </a:lnTo>
                  <a:lnTo>
                    <a:pt x="98" y="321"/>
                  </a:lnTo>
                  <a:lnTo>
                    <a:pt x="91" y="321"/>
                  </a:lnTo>
                  <a:lnTo>
                    <a:pt x="85" y="321"/>
                  </a:lnTo>
                  <a:lnTo>
                    <a:pt x="75" y="321"/>
                  </a:lnTo>
                  <a:lnTo>
                    <a:pt x="65" y="320"/>
                  </a:lnTo>
                  <a:lnTo>
                    <a:pt x="57" y="319"/>
                  </a:lnTo>
                  <a:lnTo>
                    <a:pt x="49" y="315"/>
                  </a:lnTo>
                  <a:lnTo>
                    <a:pt x="41" y="312"/>
                  </a:lnTo>
                  <a:lnTo>
                    <a:pt x="34" y="307"/>
                  </a:lnTo>
                  <a:lnTo>
                    <a:pt x="28" y="302"/>
                  </a:lnTo>
                  <a:lnTo>
                    <a:pt x="22" y="296"/>
                  </a:lnTo>
                  <a:lnTo>
                    <a:pt x="16" y="290"/>
                  </a:lnTo>
                  <a:lnTo>
                    <a:pt x="12" y="284"/>
                  </a:lnTo>
                  <a:lnTo>
                    <a:pt x="8" y="276"/>
                  </a:lnTo>
                  <a:lnTo>
                    <a:pt x="5" y="269"/>
                  </a:lnTo>
                  <a:lnTo>
                    <a:pt x="3" y="260"/>
                  </a:lnTo>
                  <a:lnTo>
                    <a:pt x="1" y="253"/>
                  </a:lnTo>
                  <a:lnTo>
                    <a:pt x="0" y="243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3"/>
                  </a:lnTo>
                  <a:lnTo>
                    <a:pt x="1" y="218"/>
                  </a:lnTo>
                  <a:lnTo>
                    <a:pt x="2" y="213"/>
                  </a:lnTo>
                  <a:lnTo>
                    <a:pt x="3" y="206"/>
                  </a:lnTo>
                  <a:lnTo>
                    <a:pt x="4" y="201"/>
                  </a:lnTo>
                  <a:lnTo>
                    <a:pt x="6" y="198"/>
                  </a:lnTo>
                  <a:lnTo>
                    <a:pt x="8" y="193"/>
                  </a:lnTo>
                  <a:lnTo>
                    <a:pt x="10" y="188"/>
                  </a:lnTo>
                  <a:lnTo>
                    <a:pt x="12" y="184"/>
                  </a:lnTo>
                  <a:lnTo>
                    <a:pt x="15" y="179"/>
                  </a:lnTo>
                  <a:lnTo>
                    <a:pt x="17" y="175"/>
                  </a:lnTo>
                  <a:lnTo>
                    <a:pt x="21" y="171"/>
                  </a:lnTo>
                  <a:lnTo>
                    <a:pt x="24" y="169"/>
                  </a:lnTo>
                  <a:lnTo>
                    <a:pt x="27" y="165"/>
                  </a:lnTo>
                  <a:lnTo>
                    <a:pt x="30" y="163"/>
                  </a:lnTo>
                  <a:lnTo>
                    <a:pt x="34" y="160"/>
                  </a:lnTo>
                  <a:lnTo>
                    <a:pt x="37" y="158"/>
                  </a:lnTo>
                  <a:lnTo>
                    <a:pt x="41" y="155"/>
                  </a:lnTo>
                  <a:lnTo>
                    <a:pt x="44" y="153"/>
                  </a:lnTo>
                  <a:lnTo>
                    <a:pt x="48" y="150"/>
                  </a:lnTo>
                  <a:lnTo>
                    <a:pt x="52" y="149"/>
                  </a:lnTo>
                  <a:lnTo>
                    <a:pt x="56" y="146"/>
                  </a:lnTo>
                  <a:lnTo>
                    <a:pt x="60" y="145"/>
                  </a:lnTo>
                  <a:lnTo>
                    <a:pt x="64" y="144"/>
                  </a:lnTo>
                  <a:lnTo>
                    <a:pt x="67" y="144"/>
                  </a:lnTo>
                  <a:lnTo>
                    <a:pt x="71" y="143"/>
                  </a:lnTo>
                  <a:lnTo>
                    <a:pt x="76" y="141"/>
                  </a:lnTo>
                  <a:lnTo>
                    <a:pt x="80" y="140"/>
                  </a:lnTo>
                  <a:lnTo>
                    <a:pt x="86" y="139"/>
                  </a:lnTo>
                  <a:lnTo>
                    <a:pt x="91" y="139"/>
                  </a:lnTo>
                  <a:lnTo>
                    <a:pt x="98" y="138"/>
                  </a:lnTo>
                  <a:lnTo>
                    <a:pt x="111" y="135"/>
                  </a:lnTo>
                  <a:lnTo>
                    <a:pt x="122" y="134"/>
                  </a:lnTo>
                  <a:lnTo>
                    <a:pt x="132" y="131"/>
                  </a:lnTo>
                  <a:lnTo>
                    <a:pt x="142" y="129"/>
                  </a:lnTo>
                  <a:lnTo>
                    <a:pt x="151" y="126"/>
                  </a:lnTo>
                  <a:lnTo>
                    <a:pt x="159" y="125"/>
                  </a:lnTo>
                  <a:lnTo>
                    <a:pt x="167" y="123"/>
                  </a:lnTo>
                  <a:lnTo>
                    <a:pt x="174" y="120"/>
                  </a:lnTo>
                  <a:lnTo>
                    <a:pt x="174" y="116"/>
                  </a:lnTo>
                  <a:lnTo>
                    <a:pt x="174" y="115"/>
                  </a:lnTo>
                  <a:lnTo>
                    <a:pt x="174" y="113"/>
                  </a:lnTo>
                  <a:lnTo>
                    <a:pt x="174" y="112"/>
                  </a:lnTo>
                  <a:lnTo>
                    <a:pt x="174" y="109"/>
                  </a:lnTo>
                  <a:lnTo>
                    <a:pt x="174" y="108"/>
                  </a:lnTo>
                  <a:lnTo>
                    <a:pt x="174" y="107"/>
                  </a:lnTo>
                  <a:lnTo>
                    <a:pt x="174" y="107"/>
                  </a:lnTo>
                  <a:lnTo>
                    <a:pt x="174" y="99"/>
                  </a:lnTo>
                  <a:lnTo>
                    <a:pt x="173" y="92"/>
                  </a:lnTo>
                  <a:lnTo>
                    <a:pt x="172" y="85"/>
                  </a:lnTo>
                  <a:lnTo>
                    <a:pt x="171" y="79"/>
                  </a:lnTo>
                  <a:lnTo>
                    <a:pt x="169" y="74"/>
                  </a:lnTo>
                  <a:lnTo>
                    <a:pt x="167" y="69"/>
                  </a:lnTo>
                  <a:lnTo>
                    <a:pt x="164" y="65"/>
                  </a:lnTo>
                  <a:lnTo>
                    <a:pt x="161" y="62"/>
                  </a:lnTo>
                  <a:lnTo>
                    <a:pt x="157" y="57"/>
                  </a:lnTo>
                  <a:lnTo>
                    <a:pt x="152" y="54"/>
                  </a:lnTo>
                  <a:lnTo>
                    <a:pt x="147" y="50"/>
                  </a:lnTo>
                  <a:lnTo>
                    <a:pt x="141" y="48"/>
                  </a:lnTo>
                  <a:lnTo>
                    <a:pt x="135" y="47"/>
                  </a:lnTo>
                  <a:lnTo>
                    <a:pt x="128" y="44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07" y="44"/>
                  </a:lnTo>
                  <a:lnTo>
                    <a:pt x="100" y="44"/>
                  </a:lnTo>
                  <a:lnTo>
                    <a:pt x="94" y="45"/>
                  </a:lnTo>
                  <a:lnTo>
                    <a:pt x="87" y="47"/>
                  </a:lnTo>
                  <a:lnTo>
                    <a:pt x="82" y="49"/>
                  </a:lnTo>
                  <a:lnTo>
                    <a:pt x="77" y="50"/>
                  </a:lnTo>
                  <a:lnTo>
                    <a:pt x="73" y="53"/>
                  </a:lnTo>
                  <a:lnTo>
                    <a:pt x="69" y="57"/>
                  </a:lnTo>
                  <a:lnTo>
                    <a:pt x="66" y="60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7" y="74"/>
                  </a:lnTo>
                  <a:lnTo>
                    <a:pt x="55" y="80"/>
                  </a:lnTo>
                  <a:lnTo>
                    <a:pt x="52" y="87"/>
                  </a:lnTo>
                  <a:lnTo>
                    <a:pt x="50" y="94"/>
                  </a:lnTo>
                  <a:lnTo>
                    <a:pt x="48" y="102"/>
                  </a:lnTo>
                  <a:lnTo>
                    <a:pt x="7" y="95"/>
                  </a:lnTo>
                  <a:lnTo>
                    <a:pt x="8" y="87"/>
                  </a:lnTo>
                  <a:lnTo>
                    <a:pt x="10" y="79"/>
                  </a:lnTo>
                  <a:lnTo>
                    <a:pt x="12" y="73"/>
                  </a:lnTo>
                  <a:lnTo>
                    <a:pt x="14" y="65"/>
                  </a:lnTo>
                  <a:lnTo>
                    <a:pt x="16" y="59"/>
                  </a:lnTo>
                  <a:lnTo>
                    <a:pt x="19" y="53"/>
                  </a:lnTo>
                  <a:lnTo>
                    <a:pt x="23" y="48"/>
                  </a:lnTo>
                  <a:lnTo>
                    <a:pt x="26" y="43"/>
                  </a:lnTo>
                  <a:lnTo>
                    <a:pt x="29" y="38"/>
                  </a:lnTo>
                  <a:lnTo>
                    <a:pt x="33" y="33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52" y="18"/>
                  </a:lnTo>
                  <a:lnTo>
                    <a:pt x="57" y="14"/>
                  </a:lnTo>
                  <a:lnTo>
                    <a:pt x="63" y="12"/>
                  </a:lnTo>
                  <a:lnTo>
                    <a:pt x="69" y="9"/>
                  </a:lnTo>
                  <a:lnTo>
                    <a:pt x="75" y="7"/>
                  </a:lnTo>
                  <a:lnTo>
                    <a:pt x="82" y="4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5" y="2"/>
                  </a:lnTo>
                  <a:lnTo>
                    <a:pt x="142" y="2"/>
                  </a:lnTo>
                  <a:lnTo>
                    <a:pt x="148" y="3"/>
                  </a:lnTo>
                  <a:lnTo>
                    <a:pt x="154" y="4"/>
                  </a:lnTo>
                  <a:lnTo>
                    <a:pt x="160" y="5"/>
                  </a:lnTo>
                  <a:lnTo>
                    <a:pt x="167" y="8"/>
                  </a:lnTo>
                  <a:lnTo>
                    <a:pt x="172" y="9"/>
                  </a:lnTo>
                  <a:lnTo>
                    <a:pt x="177" y="12"/>
                  </a:lnTo>
                  <a:lnTo>
                    <a:pt x="181" y="14"/>
                  </a:lnTo>
                  <a:lnTo>
                    <a:pt x="185" y="18"/>
                  </a:lnTo>
                  <a:lnTo>
                    <a:pt x="189" y="20"/>
                  </a:lnTo>
                  <a:lnTo>
                    <a:pt x="192" y="23"/>
                  </a:lnTo>
                  <a:lnTo>
                    <a:pt x="196" y="27"/>
                  </a:lnTo>
                  <a:lnTo>
                    <a:pt x="198" y="29"/>
                  </a:lnTo>
                  <a:lnTo>
                    <a:pt x="201" y="33"/>
                  </a:lnTo>
                  <a:lnTo>
                    <a:pt x="203" y="37"/>
                  </a:lnTo>
                  <a:lnTo>
                    <a:pt x="205" y="40"/>
                  </a:lnTo>
                  <a:lnTo>
                    <a:pt x="207" y="44"/>
                  </a:lnTo>
                  <a:lnTo>
                    <a:pt x="209" y="49"/>
                  </a:lnTo>
                  <a:lnTo>
                    <a:pt x="210" y="54"/>
                  </a:lnTo>
                  <a:lnTo>
                    <a:pt x="212" y="58"/>
                  </a:lnTo>
                  <a:lnTo>
                    <a:pt x="213" y="63"/>
                  </a:lnTo>
                  <a:lnTo>
                    <a:pt x="214" y="69"/>
                  </a:lnTo>
                  <a:lnTo>
                    <a:pt x="214" y="72"/>
                  </a:lnTo>
                  <a:lnTo>
                    <a:pt x="215" y="77"/>
                  </a:lnTo>
                  <a:lnTo>
                    <a:pt x="215" y="82"/>
                  </a:lnTo>
                  <a:lnTo>
                    <a:pt x="215" y="87"/>
                  </a:lnTo>
                  <a:lnTo>
                    <a:pt x="216" y="94"/>
                  </a:lnTo>
                  <a:lnTo>
                    <a:pt x="216" y="100"/>
                  </a:lnTo>
                  <a:lnTo>
                    <a:pt x="216" y="108"/>
                  </a:lnTo>
                  <a:lnTo>
                    <a:pt x="216" y="116"/>
                  </a:lnTo>
                  <a:lnTo>
                    <a:pt x="216" y="186"/>
                  </a:lnTo>
                  <a:lnTo>
                    <a:pt x="216" y="203"/>
                  </a:lnTo>
                  <a:lnTo>
                    <a:pt x="216" y="219"/>
                  </a:lnTo>
                  <a:lnTo>
                    <a:pt x="216" y="233"/>
                  </a:lnTo>
                  <a:lnTo>
                    <a:pt x="217" y="245"/>
                  </a:lnTo>
                  <a:lnTo>
                    <a:pt x="217" y="256"/>
                  </a:lnTo>
                  <a:lnTo>
                    <a:pt x="217" y="265"/>
                  </a:lnTo>
                  <a:lnTo>
                    <a:pt x="218" y="272"/>
                  </a:lnTo>
                  <a:lnTo>
                    <a:pt x="219" y="277"/>
                  </a:lnTo>
                  <a:lnTo>
                    <a:pt x="219" y="282"/>
                  </a:lnTo>
                  <a:lnTo>
                    <a:pt x="220" y="287"/>
                  </a:lnTo>
                  <a:lnTo>
                    <a:pt x="221" y="292"/>
                  </a:lnTo>
                  <a:lnTo>
                    <a:pt x="223" y="296"/>
                  </a:lnTo>
                  <a:lnTo>
                    <a:pt x="224" y="301"/>
                  </a:lnTo>
                  <a:lnTo>
                    <a:pt x="226" y="306"/>
                  </a:lnTo>
                  <a:lnTo>
                    <a:pt x="227" y="310"/>
                  </a:lnTo>
                  <a:lnTo>
                    <a:pt x="229" y="315"/>
                  </a:lnTo>
                  <a:lnTo>
                    <a:pt x="186" y="315"/>
                  </a:lnTo>
                  <a:lnTo>
                    <a:pt x="184" y="310"/>
                  </a:lnTo>
                  <a:lnTo>
                    <a:pt x="183" y="306"/>
                  </a:lnTo>
                  <a:lnTo>
                    <a:pt x="181" y="301"/>
                  </a:lnTo>
                  <a:lnTo>
                    <a:pt x="180" y="297"/>
                  </a:lnTo>
                  <a:lnTo>
                    <a:pt x="179" y="292"/>
                  </a:lnTo>
                  <a:lnTo>
                    <a:pt x="178" y="287"/>
                  </a:lnTo>
                  <a:lnTo>
                    <a:pt x="178" y="282"/>
                  </a:lnTo>
                  <a:lnTo>
                    <a:pt x="177" y="276"/>
                  </a:lnTo>
                  <a:close/>
                  <a:moveTo>
                    <a:pt x="174" y="160"/>
                  </a:moveTo>
                  <a:lnTo>
                    <a:pt x="168" y="163"/>
                  </a:lnTo>
                  <a:lnTo>
                    <a:pt x="160" y="166"/>
                  </a:lnTo>
                  <a:lnTo>
                    <a:pt x="153" y="169"/>
                  </a:lnTo>
                  <a:lnTo>
                    <a:pt x="144" y="171"/>
                  </a:lnTo>
                  <a:lnTo>
                    <a:pt x="135" y="174"/>
                  </a:lnTo>
                  <a:lnTo>
                    <a:pt x="126" y="176"/>
                  </a:lnTo>
                  <a:lnTo>
                    <a:pt x="116" y="178"/>
                  </a:lnTo>
                  <a:lnTo>
                    <a:pt x="105" y="180"/>
                  </a:lnTo>
                  <a:lnTo>
                    <a:pt x="98" y="181"/>
                  </a:lnTo>
                  <a:lnTo>
                    <a:pt x="92" y="183"/>
                  </a:lnTo>
                  <a:lnTo>
                    <a:pt x="86" y="184"/>
                  </a:lnTo>
                  <a:lnTo>
                    <a:pt x="82" y="185"/>
                  </a:lnTo>
                  <a:lnTo>
                    <a:pt x="77" y="186"/>
                  </a:lnTo>
                  <a:lnTo>
                    <a:pt x="74" y="188"/>
                  </a:lnTo>
                  <a:lnTo>
                    <a:pt x="70" y="189"/>
                  </a:lnTo>
                  <a:lnTo>
                    <a:pt x="67" y="190"/>
                  </a:lnTo>
                  <a:lnTo>
                    <a:pt x="65" y="193"/>
                  </a:lnTo>
                  <a:lnTo>
                    <a:pt x="62" y="194"/>
                  </a:lnTo>
                  <a:lnTo>
                    <a:pt x="60" y="195"/>
                  </a:lnTo>
                  <a:lnTo>
                    <a:pt x="58" y="198"/>
                  </a:lnTo>
                  <a:lnTo>
                    <a:pt x="56" y="200"/>
                  </a:lnTo>
                  <a:lnTo>
                    <a:pt x="54" y="203"/>
                  </a:lnTo>
                  <a:lnTo>
                    <a:pt x="52" y="205"/>
                  </a:lnTo>
                  <a:lnTo>
                    <a:pt x="51" y="208"/>
                  </a:lnTo>
                  <a:lnTo>
                    <a:pt x="49" y="210"/>
                  </a:lnTo>
                  <a:lnTo>
                    <a:pt x="48" y="213"/>
                  </a:lnTo>
                  <a:lnTo>
                    <a:pt x="47" y="216"/>
                  </a:lnTo>
                  <a:lnTo>
                    <a:pt x="46" y="219"/>
                  </a:lnTo>
                  <a:lnTo>
                    <a:pt x="46" y="223"/>
                  </a:lnTo>
                  <a:lnTo>
                    <a:pt x="45" y="225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5" y="238"/>
                  </a:lnTo>
                  <a:lnTo>
                    <a:pt x="46" y="243"/>
                  </a:lnTo>
                  <a:lnTo>
                    <a:pt x="47" y="246"/>
                  </a:lnTo>
                  <a:lnTo>
                    <a:pt x="48" y="251"/>
                  </a:lnTo>
                  <a:lnTo>
                    <a:pt x="50" y="255"/>
                  </a:lnTo>
                  <a:lnTo>
                    <a:pt x="52" y="260"/>
                  </a:lnTo>
                  <a:lnTo>
                    <a:pt x="55" y="264"/>
                  </a:lnTo>
                  <a:lnTo>
                    <a:pt x="58" y="267"/>
                  </a:lnTo>
                  <a:lnTo>
                    <a:pt x="61" y="270"/>
                  </a:lnTo>
                  <a:lnTo>
                    <a:pt x="65" y="272"/>
                  </a:lnTo>
                  <a:lnTo>
                    <a:pt x="69" y="275"/>
                  </a:lnTo>
                  <a:lnTo>
                    <a:pt x="73" y="277"/>
                  </a:lnTo>
                  <a:lnTo>
                    <a:pt x="78" y="279"/>
                  </a:lnTo>
                  <a:lnTo>
                    <a:pt x="83" y="280"/>
                  </a:lnTo>
                  <a:lnTo>
                    <a:pt x="89" y="280"/>
                  </a:lnTo>
                  <a:lnTo>
                    <a:pt x="96" y="281"/>
                  </a:lnTo>
                  <a:lnTo>
                    <a:pt x="102" y="280"/>
                  </a:lnTo>
                  <a:lnTo>
                    <a:pt x="107" y="280"/>
                  </a:lnTo>
                  <a:lnTo>
                    <a:pt x="113" y="279"/>
                  </a:lnTo>
                  <a:lnTo>
                    <a:pt x="118" y="277"/>
                  </a:lnTo>
                  <a:lnTo>
                    <a:pt x="124" y="276"/>
                  </a:lnTo>
                  <a:lnTo>
                    <a:pt x="129" y="274"/>
                  </a:lnTo>
                  <a:lnTo>
                    <a:pt x="134" y="271"/>
                  </a:lnTo>
                  <a:lnTo>
                    <a:pt x="138" y="267"/>
                  </a:lnTo>
                  <a:lnTo>
                    <a:pt x="143" y="264"/>
                  </a:lnTo>
                  <a:lnTo>
                    <a:pt x="147" y="260"/>
                  </a:lnTo>
                  <a:lnTo>
                    <a:pt x="151" y="256"/>
                  </a:lnTo>
                  <a:lnTo>
                    <a:pt x="155" y="253"/>
                  </a:lnTo>
                  <a:lnTo>
                    <a:pt x="158" y="248"/>
                  </a:lnTo>
                  <a:lnTo>
                    <a:pt x="161" y="243"/>
                  </a:lnTo>
                  <a:lnTo>
                    <a:pt x="164" y="238"/>
                  </a:lnTo>
                  <a:lnTo>
                    <a:pt x="167" y="231"/>
                  </a:lnTo>
                  <a:lnTo>
                    <a:pt x="169" y="226"/>
                  </a:lnTo>
                  <a:lnTo>
                    <a:pt x="170" y="221"/>
                  </a:lnTo>
                  <a:lnTo>
                    <a:pt x="171" y="216"/>
                  </a:lnTo>
                  <a:lnTo>
                    <a:pt x="172" y="210"/>
                  </a:lnTo>
                  <a:lnTo>
                    <a:pt x="173" y="203"/>
                  </a:lnTo>
                  <a:lnTo>
                    <a:pt x="173" y="195"/>
                  </a:lnTo>
                  <a:lnTo>
                    <a:pt x="174" y="188"/>
                  </a:lnTo>
                  <a:lnTo>
                    <a:pt x="174" y="180"/>
                  </a:lnTo>
                  <a:lnTo>
                    <a:pt x="174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47840" y="2918160"/>
              <a:ext cx="51840" cy="6084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0" y="315"/>
                  </a:moveTo>
                  <a:lnTo>
                    <a:pt x="0" y="8"/>
                  </a:lnTo>
                  <a:lnTo>
                    <a:pt x="38" y="8"/>
                  </a:lnTo>
                  <a:lnTo>
                    <a:pt x="38" y="52"/>
                  </a:lnTo>
                  <a:lnTo>
                    <a:pt x="45" y="39"/>
                  </a:lnTo>
                  <a:lnTo>
                    <a:pt x="53" y="29"/>
                  </a:lnTo>
                  <a:lnTo>
                    <a:pt x="62" y="20"/>
                  </a:lnTo>
                  <a:lnTo>
                    <a:pt x="71" y="13"/>
                  </a:lnTo>
                  <a:lnTo>
                    <a:pt x="81" y="8"/>
                  </a:lnTo>
                  <a:lnTo>
                    <a:pt x="92" y="4"/>
                  </a:lnTo>
                  <a:lnTo>
                    <a:pt x="105" y="2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8" y="2"/>
                  </a:lnTo>
                  <a:lnTo>
                    <a:pt x="134" y="2"/>
                  </a:lnTo>
                  <a:lnTo>
                    <a:pt x="139" y="3"/>
                  </a:lnTo>
                  <a:lnTo>
                    <a:pt x="144" y="4"/>
                  </a:lnTo>
                  <a:lnTo>
                    <a:pt x="149" y="7"/>
                  </a:lnTo>
                  <a:lnTo>
                    <a:pt x="154" y="8"/>
                  </a:lnTo>
                  <a:lnTo>
                    <a:pt x="158" y="10"/>
                  </a:lnTo>
                  <a:lnTo>
                    <a:pt x="163" y="13"/>
                  </a:lnTo>
                  <a:lnTo>
                    <a:pt x="167" y="15"/>
                  </a:lnTo>
                  <a:lnTo>
                    <a:pt x="171" y="19"/>
                  </a:lnTo>
                  <a:lnTo>
                    <a:pt x="176" y="22"/>
                  </a:lnTo>
                  <a:lnTo>
                    <a:pt x="179" y="25"/>
                  </a:lnTo>
                  <a:lnTo>
                    <a:pt x="182" y="29"/>
                  </a:lnTo>
                  <a:lnTo>
                    <a:pt x="185" y="33"/>
                  </a:lnTo>
                  <a:lnTo>
                    <a:pt x="187" y="37"/>
                  </a:lnTo>
                  <a:lnTo>
                    <a:pt x="189" y="40"/>
                  </a:lnTo>
                  <a:lnTo>
                    <a:pt x="191" y="45"/>
                  </a:lnTo>
                  <a:lnTo>
                    <a:pt x="193" y="49"/>
                  </a:lnTo>
                  <a:lnTo>
                    <a:pt x="195" y="54"/>
                  </a:lnTo>
                  <a:lnTo>
                    <a:pt x="197" y="59"/>
                  </a:lnTo>
                  <a:lnTo>
                    <a:pt x="198" y="64"/>
                  </a:lnTo>
                  <a:lnTo>
                    <a:pt x="199" y="69"/>
                  </a:lnTo>
                  <a:lnTo>
                    <a:pt x="200" y="75"/>
                  </a:lnTo>
                  <a:lnTo>
                    <a:pt x="201" y="79"/>
                  </a:lnTo>
                  <a:lnTo>
                    <a:pt x="201" y="84"/>
                  </a:lnTo>
                  <a:lnTo>
                    <a:pt x="202" y="89"/>
                  </a:lnTo>
                  <a:lnTo>
                    <a:pt x="202" y="95"/>
                  </a:lnTo>
                  <a:lnTo>
                    <a:pt x="202" y="102"/>
                  </a:lnTo>
                  <a:lnTo>
                    <a:pt x="202" y="109"/>
                  </a:lnTo>
                  <a:lnTo>
                    <a:pt x="202" y="116"/>
                  </a:lnTo>
                  <a:lnTo>
                    <a:pt x="203" y="125"/>
                  </a:lnTo>
                  <a:lnTo>
                    <a:pt x="203" y="315"/>
                  </a:lnTo>
                  <a:lnTo>
                    <a:pt x="160" y="315"/>
                  </a:lnTo>
                  <a:lnTo>
                    <a:pt x="160" y="128"/>
                  </a:lnTo>
                  <a:lnTo>
                    <a:pt x="160" y="120"/>
                  </a:lnTo>
                  <a:lnTo>
                    <a:pt x="159" y="113"/>
                  </a:lnTo>
                  <a:lnTo>
                    <a:pt x="159" y="107"/>
                  </a:lnTo>
                  <a:lnTo>
                    <a:pt x="159" y="100"/>
                  </a:lnTo>
                  <a:lnTo>
                    <a:pt x="158" y="94"/>
                  </a:lnTo>
                  <a:lnTo>
                    <a:pt x="157" y="89"/>
                  </a:lnTo>
                  <a:lnTo>
                    <a:pt x="156" y="84"/>
                  </a:lnTo>
                  <a:lnTo>
                    <a:pt x="155" y="80"/>
                  </a:lnTo>
                  <a:lnTo>
                    <a:pt x="154" y="77"/>
                  </a:lnTo>
                  <a:lnTo>
                    <a:pt x="152" y="73"/>
                  </a:lnTo>
                  <a:lnTo>
                    <a:pt x="150" y="69"/>
                  </a:lnTo>
                  <a:lnTo>
                    <a:pt x="148" y="67"/>
                  </a:lnTo>
                  <a:lnTo>
                    <a:pt x="146" y="63"/>
                  </a:lnTo>
                  <a:lnTo>
                    <a:pt x="143" y="60"/>
                  </a:lnTo>
                  <a:lnTo>
                    <a:pt x="141" y="58"/>
                  </a:lnTo>
                  <a:lnTo>
                    <a:pt x="138" y="55"/>
                  </a:lnTo>
                  <a:lnTo>
                    <a:pt x="134" y="53"/>
                  </a:lnTo>
                  <a:lnTo>
                    <a:pt x="131" y="50"/>
                  </a:lnTo>
                  <a:lnTo>
                    <a:pt x="128" y="49"/>
                  </a:lnTo>
                  <a:lnTo>
                    <a:pt x="124" y="48"/>
                  </a:lnTo>
                  <a:lnTo>
                    <a:pt x="120" y="47"/>
                  </a:lnTo>
                  <a:lnTo>
                    <a:pt x="117" y="47"/>
                  </a:lnTo>
                  <a:lnTo>
                    <a:pt x="113" y="45"/>
                  </a:lnTo>
                  <a:lnTo>
                    <a:pt x="109" y="45"/>
                  </a:lnTo>
                  <a:lnTo>
                    <a:pt x="102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3" y="50"/>
                  </a:lnTo>
                  <a:lnTo>
                    <a:pt x="77" y="54"/>
                  </a:lnTo>
                  <a:lnTo>
                    <a:pt x="72" y="58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57" y="73"/>
                  </a:lnTo>
                  <a:lnTo>
                    <a:pt x="53" y="79"/>
                  </a:lnTo>
                  <a:lnTo>
                    <a:pt x="50" y="88"/>
                  </a:lnTo>
                  <a:lnTo>
                    <a:pt x="47" y="98"/>
                  </a:lnTo>
                  <a:lnTo>
                    <a:pt x="45" y="108"/>
                  </a:lnTo>
                  <a:lnTo>
                    <a:pt x="43" y="120"/>
                  </a:lnTo>
                  <a:lnTo>
                    <a:pt x="43" y="133"/>
                  </a:lnTo>
                  <a:lnTo>
                    <a:pt x="42" y="146"/>
                  </a:lnTo>
                  <a:lnTo>
                    <a:pt x="42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52960" y="2896200"/>
              <a:ext cx="66960" cy="82440"/>
            </a:xfrm>
            <a:custGeom>
              <a:avLst/>
              <a:gdLst/>
              <a:ahLst/>
              <a:rect l="l" t="t" r="r" b="b"/>
              <a:pathLst>
                <a:path w="259" h="424">
                  <a:moveTo>
                    <a:pt x="0" y="424"/>
                  </a:moveTo>
                  <a:lnTo>
                    <a:pt x="0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8" y="1"/>
                  </a:lnTo>
                  <a:lnTo>
                    <a:pt x="156" y="1"/>
                  </a:lnTo>
                  <a:lnTo>
                    <a:pt x="164" y="3"/>
                  </a:lnTo>
                  <a:lnTo>
                    <a:pt x="172" y="5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2"/>
                  </a:lnTo>
                  <a:lnTo>
                    <a:pt x="197" y="16"/>
                  </a:lnTo>
                  <a:lnTo>
                    <a:pt x="204" y="20"/>
                  </a:lnTo>
                  <a:lnTo>
                    <a:pt x="209" y="25"/>
                  </a:lnTo>
                  <a:lnTo>
                    <a:pt x="214" y="28"/>
                  </a:lnTo>
                  <a:lnTo>
                    <a:pt x="218" y="35"/>
                  </a:lnTo>
                  <a:lnTo>
                    <a:pt x="222" y="40"/>
                  </a:lnTo>
                  <a:lnTo>
                    <a:pt x="226" y="46"/>
                  </a:lnTo>
                  <a:lnTo>
                    <a:pt x="230" y="52"/>
                  </a:lnTo>
                  <a:lnTo>
                    <a:pt x="233" y="58"/>
                  </a:lnTo>
                  <a:lnTo>
                    <a:pt x="235" y="66"/>
                  </a:lnTo>
                  <a:lnTo>
                    <a:pt x="238" y="72"/>
                  </a:lnTo>
                  <a:lnTo>
                    <a:pt x="240" y="79"/>
                  </a:lnTo>
                  <a:lnTo>
                    <a:pt x="241" y="87"/>
                  </a:lnTo>
                  <a:lnTo>
                    <a:pt x="242" y="93"/>
                  </a:lnTo>
                  <a:lnTo>
                    <a:pt x="243" y="101"/>
                  </a:lnTo>
                  <a:lnTo>
                    <a:pt x="243" y="108"/>
                  </a:lnTo>
                  <a:lnTo>
                    <a:pt x="243" y="114"/>
                  </a:lnTo>
                  <a:lnTo>
                    <a:pt x="242" y="122"/>
                  </a:lnTo>
                  <a:lnTo>
                    <a:pt x="241" y="128"/>
                  </a:lnTo>
                  <a:lnTo>
                    <a:pt x="240" y="134"/>
                  </a:lnTo>
                  <a:lnTo>
                    <a:pt x="238" y="141"/>
                  </a:lnTo>
                  <a:lnTo>
                    <a:pt x="236" y="147"/>
                  </a:lnTo>
                  <a:lnTo>
                    <a:pt x="234" y="153"/>
                  </a:lnTo>
                  <a:lnTo>
                    <a:pt x="231" y="159"/>
                  </a:lnTo>
                  <a:lnTo>
                    <a:pt x="228" y="166"/>
                  </a:lnTo>
                  <a:lnTo>
                    <a:pt x="224" y="171"/>
                  </a:lnTo>
                  <a:lnTo>
                    <a:pt x="220" y="176"/>
                  </a:lnTo>
                  <a:lnTo>
                    <a:pt x="216" y="181"/>
                  </a:lnTo>
                  <a:lnTo>
                    <a:pt x="212" y="186"/>
                  </a:lnTo>
                  <a:lnTo>
                    <a:pt x="207" y="191"/>
                  </a:lnTo>
                  <a:lnTo>
                    <a:pt x="200" y="194"/>
                  </a:lnTo>
                  <a:lnTo>
                    <a:pt x="194" y="198"/>
                  </a:lnTo>
                  <a:lnTo>
                    <a:pt x="202" y="201"/>
                  </a:lnTo>
                  <a:lnTo>
                    <a:pt x="210" y="204"/>
                  </a:lnTo>
                  <a:lnTo>
                    <a:pt x="216" y="209"/>
                  </a:lnTo>
                  <a:lnTo>
                    <a:pt x="223" y="213"/>
                  </a:lnTo>
                  <a:lnTo>
                    <a:pt x="228" y="218"/>
                  </a:lnTo>
                  <a:lnTo>
                    <a:pt x="234" y="224"/>
                  </a:lnTo>
                  <a:lnTo>
                    <a:pt x="238" y="230"/>
                  </a:lnTo>
                  <a:lnTo>
                    <a:pt x="243" y="237"/>
                  </a:lnTo>
                  <a:lnTo>
                    <a:pt x="247" y="243"/>
                  </a:lnTo>
                  <a:lnTo>
                    <a:pt x="250" y="250"/>
                  </a:lnTo>
                  <a:lnTo>
                    <a:pt x="253" y="258"/>
                  </a:lnTo>
                  <a:lnTo>
                    <a:pt x="255" y="267"/>
                  </a:lnTo>
                  <a:lnTo>
                    <a:pt x="257" y="274"/>
                  </a:lnTo>
                  <a:lnTo>
                    <a:pt x="258" y="283"/>
                  </a:lnTo>
                  <a:lnTo>
                    <a:pt x="259" y="292"/>
                  </a:lnTo>
                  <a:lnTo>
                    <a:pt x="259" y="300"/>
                  </a:lnTo>
                  <a:lnTo>
                    <a:pt x="259" y="308"/>
                  </a:lnTo>
                  <a:lnTo>
                    <a:pt x="259" y="315"/>
                  </a:lnTo>
                  <a:lnTo>
                    <a:pt x="258" y="323"/>
                  </a:lnTo>
                  <a:lnTo>
                    <a:pt x="257" y="329"/>
                  </a:lnTo>
                  <a:lnTo>
                    <a:pt x="255" y="337"/>
                  </a:lnTo>
                  <a:lnTo>
                    <a:pt x="254" y="343"/>
                  </a:lnTo>
                  <a:lnTo>
                    <a:pt x="252" y="349"/>
                  </a:lnTo>
                  <a:lnTo>
                    <a:pt x="249" y="357"/>
                  </a:lnTo>
                  <a:lnTo>
                    <a:pt x="247" y="363"/>
                  </a:lnTo>
                  <a:lnTo>
                    <a:pt x="244" y="368"/>
                  </a:lnTo>
                  <a:lnTo>
                    <a:pt x="241" y="374"/>
                  </a:lnTo>
                  <a:lnTo>
                    <a:pt x="238" y="379"/>
                  </a:lnTo>
                  <a:lnTo>
                    <a:pt x="235" y="384"/>
                  </a:lnTo>
                  <a:lnTo>
                    <a:pt x="231" y="388"/>
                  </a:lnTo>
                  <a:lnTo>
                    <a:pt x="228" y="391"/>
                  </a:lnTo>
                  <a:lnTo>
                    <a:pt x="224" y="395"/>
                  </a:lnTo>
                  <a:lnTo>
                    <a:pt x="220" y="399"/>
                  </a:lnTo>
                  <a:lnTo>
                    <a:pt x="216" y="401"/>
                  </a:lnTo>
                  <a:lnTo>
                    <a:pt x="212" y="405"/>
                  </a:lnTo>
                  <a:lnTo>
                    <a:pt x="208" y="408"/>
                  </a:lnTo>
                  <a:lnTo>
                    <a:pt x="202" y="410"/>
                  </a:lnTo>
                  <a:lnTo>
                    <a:pt x="197" y="413"/>
                  </a:lnTo>
                  <a:lnTo>
                    <a:pt x="192" y="415"/>
                  </a:lnTo>
                  <a:lnTo>
                    <a:pt x="186" y="416"/>
                  </a:lnTo>
                  <a:lnTo>
                    <a:pt x="180" y="418"/>
                  </a:lnTo>
                  <a:lnTo>
                    <a:pt x="174" y="420"/>
                  </a:lnTo>
                  <a:lnTo>
                    <a:pt x="168" y="421"/>
                  </a:lnTo>
                  <a:lnTo>
                    <a:pt x="161" y="421"/>
                  </a:lnTo>
                  <a:lnTo>
                    <a:pt x="154" y="423"/>
                  </a:lnTo>
                  <a:lnTo>
                    <a:pt x="147" y="423"/>
                  </a:lnTo>
                  <a:lnTo>
                    <a:pt x="139" y="424"/>
                  </a:lnTo>
                  <a:lnTo>
                    <a:pt x="131" y="424"/>
                  </a:lnTo>
                  <a:lnTo>
                    <a:pt x="0" y="424"/>
                  </a:lnTo>
                  <a:close/>
                  <a:moveTo>
                    <a:pt x="45" y="178"/>
                  </a:moveTo>
                  <a:lnTo>
                    <a:pt x="119" y="178"/>
                  </a:lnTo>
                  <a:lnTo>
                    <a:pt x="126" y="178"/>
                  </a:lnTo>
                  <a:lnTo>
                    <a:pt x="134" y="178"/>
                  </a:lnTo>
                  <a:lnTo>
                    <a:pt x="140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6" y="176"/>
                  </a:lnTo>
                  <a:lnTo>
                    <a:pt x="160" y="174"/>
                  </a:lnTo>
                  <a:lnTo>
                    <a:pt x="163" y="173"/>
                  </a:lnTo>
                  <a:lnTo>
                    <a:pt x="167" y="171"/>
                  </a:lnTo>
                  <a:lnTo>
                    <a:pt x="171" y="169"/>
                  </a:lnTo>
                  <a:lnTo>
                    <a:pt x="175" y="167"/>
                  </a:lnTo>
                  <a:lnTo>
                    <a:pt x="178" y="164"/>
                  </a:lnTo>
                  <a:lnTo>
                    <a:pt x="181" y="162"/>
                  </a:lnTo>
                  <a:lnTo>
                    <a:pt x="184" y="158"/>
                  </a:lnTo>
                  <a:lnTo>
                    <a:pt x="187" y="156"/>
                  </a:lnTo>
                  <a:lnTo>
                    <a:pt x="189" y="152"/>
                  </a:lnTo>
                  <a:lnTo>
                    <a:pt x="191" y="148"/>
                  </a:lnTo>
                  <a:lnTo>
                    <a:pt x="193" y="144"/>
                  </a:lnTo>
                  <a:lnTo>
                    <a:pt x="194" y="139"/>
                  </a:lnTo>
                  <a:lnTo>
                    <a:pt x="195" y="136"/>
                  </a:lnTo>
                  <a:lnTo>
                    <a:pt x="196" y="131"/>
                  </a:lnTo>
                  <a:lnTo>
                    <a:pt x="197" y="126"/>
                  </a:lnTo>
                  <a:lnTo>
                    <a:pt x="197" y="121"/>
                  </a:lnTo>
                  <a:lnTo>
                    <a:pt x="198" y="114"/>
                  </a:lnTo>
                  <a:lnTo>
                    <a:pt x="197" y="109"/>
                  </a:lnTo>
                  <a:lnTo>
                    <a:pt x="197" y="104"/>
                  </a:lnTo>
                  <a:lnTo>
                    <a:pt x="196" y="99"/>
                  </a:lnTo>
                  <a:lnTo>
                    <a:pt x="196" y="94"/>
                  </a:lnTo>
                  <a:lnTo>
                    <a:pt x="194" y="91"/>
                  </a:lnTo>
                  <a:lnTo>
                    <a:pt x="193" y="86"/>
                  </a:lnTo>
                  <a:lnTo>
                    <a:pt x="191" y="82"/>
                  </a:lnTo>
                  <a:lnTo>
                    <a:pt x="190" y="77"/>
                  </a:lnTo>
                  <a:lnTo>
                    <a:pt x="187" y="73"/>
                  </a:lnTo>
                  <a:lnTo>
                    <a:pt x="185" y="71"/>
                  </a:lnTo>
                  <a:lnTo>
                    <a:pt x="182" y="67"/>
                  </a:lnTo>
                  <a:lnTo>
                    <a:pt x="180" y="65"/>
                  </a:lnTo>
                  <a:lnTo>
                    <a:pt x="177" y="62"/>
                  </a:lnTo>
                  <a:lnTo>
                    <a:pt x="173" y="60"/>
                  </a:lnTo>
                  <a:lnTo>
                    <a:pt x="170" y="57"/>
                  </a:lnTo>
                  <a:lnTo>
                    <a:pt x="166" y="56"/>
                  </a:lnTo>
                  <a:lnTo>
                    <a:pt x="162" y="55"/>
                  </a:lnTo>
                  <a:lnTo>
                    <a:pt x="157" y="53"/>
                  </a:lnTo>
                  <a:lnTo>
                    <a:pt x="152" y="52"/>
                  </a:lnTo>
                  <a:lnTo>
                    <a:pt x="146" y="51"/>
                  </a:lnTo>
                  <a:lnTo>
                    <a:pt x="139" y="51"/>
                  </a:lnTo>
                  <a:lnTo>
                    <a:pt x="132" y="50"/>
                  </a:lnTo>
                  <a:lnTo>
                    <a:pt x="122" y="50"/>
                  </a:lnTo>
                  <a:lnTo>
                    <a:pt x="114" y="50"/>
                  </a:lnTo>
                  <a:lnTo>
                    <a:pt x="45" y="50"/>
                  </a:lnTo>
                  <a:lnTo>
                    <a:pt x="45" y="178"/>
                  </a:lnTo>
                  <a:close/>
                  <a:moveTo>
                    <a:pt x="45" y="374"/>
                  </a:moveTo>
                  <a:lnTo>
                    <a:pt x="131" y="374"/>
                  </a:lnTo>
                  <a:lnTo>
                    <a:pt x="137" y="374"/>
                  </a:lnTo>
                  <a:lnTo>
                    <a:pt x="141" y="374"/>
                  </a:lnTo>
                  <a:lnTo>
                    <a:pt x="146" y="373"/>
                  </a:lnTo>
                  <a:lnTo>
                    <a:pt x="150" y="373"/>
                  </a:lnTo>
                  <a:lnTo>
                    <a:pt x="154" y="373"/>
                  </a:lnTo>
                  <a:lnTo>
                    <a:pt x="157" y="373"/>
                  </a:lnTo>
                  <a:lnTo>
                    <a:pt x="160" y="371"/>
                  </a:lnTo>
                  <a:lnTo>
                    <a:pt x="162" y="371"/>
                  </a:lnTo>
                  <a:lnTo>
                    <a:pt x="166" y="370"/>
                  </a:lnTo>
                  <a:lnTo>
                    <a:pt x="169" y="369"/>
                  </a:lnTo>
                  <a:lnTo>
                    <a:pt x="173" y="368"/>
                  </a:lnTo>
                  <a:lnTo>
                    <a:pt x="176" y="367"/>
                  </a:lnTo>
                  <a:lnTo>
                    <a:pt x="179" y="365"/>
                  </a:lnTo>
                  <a:lnTo>
                    <a:pt x="182" y="364"/>
                  </a:lnTo>
                  <a:lnTo>
                    <a:pt x="185" y="362"/>
                  </a:lnTo>
                  <a:lnTo>
                    <a:pt x="188" y="360"/>
                  </a:lnTo>
                  <a:lnTo>
                    <a:pt x="190" y="358"/>
                  </a:lnTo>
                  <a:lnTo>
                    <a:pt x="193" y="355"/>
                  </a:lnTo>
                  <a:lnTo>
                    <a:pt x="195" y="353"/>
                  </a:lnTo>
                  <a:lnTo>
                    <a:pt x="197" y="350"/>
                  </a:lnTo>
                  <a:lnTo>
                    <a:pt x="199" y="347"/>
                  </a:lnTo>
                  <a:lnTo>
                    <a:pt x="201" y="344"/>
                  </a:lnTo>
                  <a:lnTo>
                    <a:pt x="204" y="340"/>
                  </a:lnTo>
                  <a:lnTo>
                    <a:pt x="206" y="337"/>
                  </a:lnTo>
                  <a:lnTo>
                    <a:pt x="208" y="333"/>
                  </a:lnTo>
                  <a:lnTo>
                    <a:pt x="209" y="328"/>
                  </a:lnTo>
                  <a:lnTo>
                    <a:pt x="210" y="324"/>
                  </a:lnTo>
                  <a:lnTo>
                    <a:pt x="211" y="320"/>
                  </a:lnTo>
                  <a:lnTo>
                    <a:pt x="212" y="315"/>
                  </a:lnTo>
                  <a:lnTo>
                    <a:pt x="212" y="310"/>
                  </a:lnTo>
                  <a:lnTo>
                    <a:pt x="213" y="305"/>
                  </a:lnTo>
                  <a:lnTo>
                    <a:pt x="213" y="300"/>
                  </a:lnTo>
                  <a:lnTo>
                    <a:pt x="213" y="295"/>
                  </a:lnTo>
                  <a:lnTo>
                    <a:pt x="212" y="289"/>
                  </a:lnTo>
                  <a:lnTo>
                    <a:pt x="211" y="284"/>
                  </a:lnTo>
                  <a:lnTo>
                    <a:pt x="210" y="279"/>
                  </a:lnTo>
                  <a:lnTo>
                    <a:pt x="209" y="273"/>
                  </a:lnTo>
                  <a:lnTo>
                    <a:pt x="207" y="269"/>
                  </a:lnTo>
                  <a:lnTo>
                    <a:pt x="205" y="264"/>
                  </a:lnTo>
                  <a:lnTo>
                    <a:pt x="202" y="259"/>
                  </a:lnTo>
                  <a:lnTo>
                    <a:pt x="199" y="255"/>
                  </a:lnTo>
                  <a:lnTo>
                    <a:pt x="197" y="252"/>
                  </a:lnTo>
                  <a:lnTo>
                    <a:pt x="194" y="248"/>
                  </a:lnTo>
                  <a:lnTo>
                    <a:pt x="190" y="244"/>
                  </a:lnTo>
                  <a:lnTo>
                    <a:pt x="187" y="242"/>
                  </a:lnTo>
                  <a:lnTo>
                    <a:pt x="183" y="239"/>
                  </a:lnTo>
                  <a:lnTo>
                    <a:pt x="179" y="237"/>
                  </a:lnTo>
                  <a:lnTo>
                    <a:pt x="175" y="234"/>
                  </a:lnTo>
                  <a:lnTo>
                    <a:pt x="170" y="233"/>
                  </a:lnTo>
                  <a:lnTo>
                    <a:pt x="165" y="232"/>
                  </a:lnTo>
                  <a:lnTo>
                    <a:pt x="160" y="230"/>
                  </a:lnTo>
                  <a:lnTo>
                    <a:pt x="154" y="229"/>
                  </a:lnTo>
                  <a:lnTo>
                    <a:pt x="147" y="229"/>
                  </a:lnTo>
                  <a:lnTo>
                    <a:pt x="141" y="228"/>
                  </a:lnTo>
                  <a:lnTo>
                    <a:pt x="133" y="228"/>
                  </a:lnTo>
                  <a:lnTo>
                    <a:pt x="124" y="228"/>
                  </a:lnTo>
                  <a:lnTo>
                    <a:pt x="45" y="228"/>
                  </a:lnTo>
                  <a:lnTo>
                    <a:pt x="45" y="3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31800" y="2918160"/>
              <a:ext cx="59040" cy="622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84" y="215"/>
                  </a:moveTo>
                  <a:lnTo>
                    <a:pt x="228" y="223"/>
                  </a:lnTo>
                  <a:lnTo>
                    <a:pt x="226" y="234"/>
                  </a:lnTo>
                  <a:lnTo>
                    <a:pt x="222" y="245"/>
                  </a:lnTo>
                  <a:lnTo>
                    <a:pt x="218" y="255"/>
                  </a:lnTo>
                  <a:lnTo>
                    <a:pt x="214" y="264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9"/>
                  </a:lnTo>
                  <a:lnTo>
                    <a:pt x="191" y="295"/>
                  </a:lnTo>
                  <a:lnTo>
                    <a:pt x="183" y="301"/>
                  </a:lnTo>
                  <a:lnTo>
                    <a:pt x="175" y="307"/>
                  </a:lnTo>
                  <a:lnTo>
                    <a:pt x="167" y="311"/>
                  </a:lnTo>
                  <a:lnTo>
                    <a:pt x="158" y="315"/>
                  </a:lnTo>
                  <a:lnTo>
                    <a:pt x="149" y="317"/>
                  </a:lnTo>
                  <a:lnTo>
                    <a:pt x="140" y="320"/>
                  </a:lnTo>
                  <a:lnTo>
                    <a:pt x="130" y="321"/>
                  </a:lnTo>
                  <a:lnTo>
                    <a:pt x="119" y="321"/>
                  </a:lnTo>
                  <a:lnTo>
                    <a:pt x="105" y="321"/>
                  </a:lnTo>
                  <a:lnTo>
                    <a:pt x="93" y="319"/>
                  </a:lnTo>
                  <a:lnTo>
                    <a:pt x="81" y="316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0" y="290"/>
                  </a:lnTo>
                  <a:lnTo>
                    <a:pt x="32" y="280"/>
                  </a:lnTo>
                  <a:lnTo>
                    <a:pt x="24" y="269"/>
                  </a:lnTo>
                  <a:lnTo>
                    <a:pt x="18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5"/>
                  </a:lnTo>
                  <a:lnTo>
                    <a:pt x="2" y="199"/>
                  </a:lnTo>
                  <a:lnTo>
                    <a:pt x="0" y="181"/>
                  </a:lnTo>
                  <a:lnTo>
                    <a:pt x="0" y="164"/>
                  </a:lnTo>
                  <a:lnTo>
                    <a:pt x="0" y="145"/>
                  </a:lnTo>
                  <a:lnTo>
                    <a:pt x="2" y="126"/>
                  </a:lnTo>
                  <a:lnTo>
                    <a:pt x="4" y="110"/>
                  </a:lnTo>
                  <a:lnTo>
                    <a:pt x="8" y="95"/>
                  </a:lnTo>
                  <a:lnTo>
                    <a:pt x="12" y="80"/>
                  </a:lnTo>
                  <a:lnTo>
                    <a:pt x="18" y="67"/>
                  </a:lnTo>
                  <a:lnTo>
                    <a:pt x="24" y="54"/>
                  </a:lnTo>
                  <a:lnTo>
                    <a:pt x="32" y="43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0" y="17"/>
                  </a:lnTo>
                  <a:lnTo>
                    <a:pt x="70" y="12"/>
                  </a:lnTo>
                  <a:lnTo>
                    <a:pt x="80" y="7"/>
                  </a:lnTo>
                  <a:lnTo>
                    <a:pt x="92" y="3"/>
                  </a:lnTo>
                  <a:lnTo>
                    <a:pt x="103" y="2"/>
                  </a:lnTo>
                  <a:lnTo>
                    <a:pt x="116" y="0"/>
                  </a:lnTo>
                  <a:lnTo>
                    <a:pt x="129" y="2"/>
                  </a:lnTo>
                  <a:lnTo>
                    <a:pt x="140" y="3"/>
                  </a:lnTo>
                  <a:lnTo>
                    <a:pt x="151" y="7"/>
                  </a:lnTo>
                  <a:lnTo>
                    <a:pt x="162" y="10"/>
                  </a:lnTo>
                  <a:lnTo>
                    <a:pt x="172" y="17"/>
                  </a:lnTo>
                  <a:lnTo>
                    <a:pt x="181" y="24"/>
                  </a:lnTo>
                  <a:lnTo>
                    <a:pt x="190" y="33"/>
                  </a:lnTo>
                  <a:lnTo>
                    <a:pt x="199" y="43"/>
                  </a:lnTo>
                  <a:lnTo>
                    <a:pt x="206" y="53"/>
                  </a:lnTo>
                  <a:lnTo>
                    <a:pt x="212" y="65"/>
                  </a:lnTo>
                  <a:lnTo>
                    <a:pt x="218" y="79"/>
                  </a:lnTo>
                  <a:lnTo>
                    <a:pt x="222" y="93"/>
                  </a:lnTo>
                  <a:lnTo>
                    <a:pt x="225" y="108"/>
                  </a:lnTo>
                  <a:lnTo>
                    <a:pt x="228" y="124"/>
                  </a:lnTo>
                  <a:lnTo>
                    <a:pt x="229" y="141"/>
                  </a:lnTo>
                  <a:lnTo>
                    <a:pt x="230" y="160"/>
                  </a:lnTo>
                  <a:lnTo>
                    <a:pt x="230" y="161"/>
                  </a:lnTo>
                  <a:lnTo>
                    <a:pt x="230" y="163"/>
                  </a:lnTo>
                  <a:lnTo>
                    <a:pt x="230" y="165"/>
                  </a:lnTo>
                  <a:lnTo>
                    <a:pt x="230" y="166"/>
                  </a:lnTo>
                  <a:lnTo>
                    <a:pt x="230" y="168"/>
                  </a:lnTo>
                  <a:lnTo>
                    <a:pt x="230" y="170"/>
                  </a:lnTo>
                  <a:lnTo>
                    <a:pt x="230" y="173"/>
                  </a:lnTo>
                  <a:lnTo>
                    <a:pt x="230" y="174"/>
                  </a:lnTo>
                  <a:lnTo>
                    <a:pt x="43" y="174"/>
                  </a:lnTo>
                  <a:lnTo>
                    <a:pt x="45" y="186"/>
                  </a:lnTo>
                  <a:lnTo>
                    <a:pt x="46" y="198"/>
                  </a:lnTo>
                  <a:lnTo>
                    <a:pt x="48" y="209"/>
                  </a:lnTo>
                  <a:lnTo>
                    <a:pt x="51" y="219"/>
                  </a:lnTo>
                  <a:lnTo>
                    <a:pt x="54" y="229"/>
                  </a:lnTo>
                  <a:lnTo>
                    <a:pt x="58" y="236"/>
                  </a:lnTo>
                  <a:lnTo>
                    <a:pt x="62" y="245"/>
                  </a:lnTo>
                  <a:lnTo>
                    <a:pt x="67" y="251"/>
                  </a:lnTo>
                  <a:lnTo>
                    <a:pt x="72" y="258"/>
                  </a:lnTo>
                  <a:lnTo>
                    <a:pt x="78" y="264"/>
                  </a:lnTo>
                  <a:lnTo>
                    <a:pt x="84" y="269"/>
                  </a:lnTo>
                  <a:lnTo>
                    <a:pt x="90" y="272"/>
                  </a:lnTo>
                  <a:lnTo>
                    <a:pt x="97" y="275"/>
                  </a:lnTo>
                  <a:lnTo>
                    <a:pt x="104" y="277"/>
                  </a:lnTo>
                  <a:lnTo>
                    <a:pt x="111" y="279"/>
                  </a:lnTo>
                  <a:lnTo>
                    <a:pt x="119" y="279"/>
                  </a:lnTo>
                  <a:lnTo>
                    <a:pt x="125" y="279"/>
                  </a:lnTo>
                  <a:lnTo>
                    <a:pt x="130" y="277"/>
                  </a:lnTo>
                  <a:lnTo>
                    <a:pt x="136" y="276"/>
                  </a:lnTo>
                  <a:lnTo>
                    <a:pt x="141" y="275"/>
                  </a:lnTo>
                  <a:lnTo>
                    <a:pt x="145" y="272"/>
                  </a:lnTo>
                  <a:lnTo>
                    <a:pt x="150" y="270"/>
                  </a:lnTo>
                  <a:lnTo>
                    <a:pt x="154" y="267"/>
                  </a:lnTo>
                  <a:lnTo>
                    <a:pt x="159" y="264"/>
                  </a:lnTo>
                  <a:lnTo>
                    <a:pt x="163" y="260"/>
                  </a:lnTo>
                  <a:lnTo>
                    <a:pt x="166" y="255"/>
                  </a:lnTo>
                  <a:lnTo>
                    <a:pt x="170" y="250"/>
                  </a:lnTo>
                  <a:lnTo>
                    <a:pt x="173" y="244"/>
                  </a:lnTo>
                  <a:lnTo>
                    <a:pt x="176" y="238"/>
                  </a:lnTo>
                  <a:lnTo>
                    <a:pt x="179" y="231"/>
                  </a:lnTo>
                  <a:lnTo>
                    <a:pt x="182" y="224"/>
                  </a:lnTo>
                  <a:lnTo>
                    <a:pt x="184" y="215"/>
                  </a:lnTo>
                  <a:close/>
                  <a:moveTo>
                    <a:pt x="46" y="131"/>
                  </a:moveTo>
                  <a:lnTo>
                    <a:pt x="185" y="131"/>
                  </a:lnTo>
                  <a:lnTo>
                    <a:pt x="184" y="123"/>
                  </a:lnTo>
                  <a:lnTo>
                    <a:pt x="183" y="113"/>
                  </a:lnTo>
                  <a:lnTo>
                    <a:pt x="181" y="105"/>
                  </a:lnTo>
                  <a:lnTo>
                    <a:pt x="179" y="98"/>
                  </a:lnTo>
                  <a:lnTo>
                    <a:pt x="177" y="90"/>
                  </a:lnTo>
                  <a:lnTo>
                    <a:pt x="175" y="84"/>
                  </a:lnTo>
                  <a:lnTo>
                    <a:pt x="172" y="79"/>
                  </a:lnTo>
                  <a:lnTo>
                    <a:pt x="169" y="73"/>
                  </a:lnTo>
                  <a:lnTo>
                    <a:pt x="164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6" y="50"/>
                  </a:lnTo>
                  <a:lnTo>
                    <a:pt x="140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6" y="43"/>
                  </a:lnTo>
                  <a:lnTo>
                    <a:pt x="109" y="44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8" y="57"/>
                  </a:lnTo>
                  <a:lnTo>
                    <a:pt x="73" y="62"/>
                  </a:lnTo>
                  <a:lnTo>
                    <a:pt x="68" y="68"/>
                  </a:lnTo>
                  <a:lnTo>
                    <a:pt x="63" y="74"/>
                  </a:lnTo>
                  <a:lnTo>
                    <a:pt x="59" y="80"/>
                  </a:lnTo>
                  <a:lnTo>
                    <a:pt x="56" y="88"/>
                  </a:lnTo>
                  <a:lnTo>
                    <a:pt x="53" y="95"/>
                  </a:lnTo>
                  <a:lnTo>
                    <a:pt x="50" y="104"/>
                  </a:lnTo>
                  <a:lnTo>
                    <a:pt x="49" y="113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05240" y="2918160"/>
              <a:ext cx="51840" cy="60840"/>
            </a:xfrm>
            <a:custGeom>
              <a:avLst/>
              <a:gdLst/>
              <a:ahLst/>
              <a:rect l="l" t="t" r="r" b="b"/>
              <a:pathLst>
                <a:path w="203" h="315">
                  <a:moveTo>
                    <a:pt x="0" y="315"/>
                  </a:moveTo>
                  <a:lnTo>
                    <a:pt x="0" y="8"/>
                  </a:lnTo>
                  <a:lnTo>
                    <a:pt x="37" y="8"/>
                  </a:lnTo>
                  <a:lnTo>
                    <a:pt x="37" y="52"/>
                  </a:lnTo>
                  <a:lnTo>
                    <a:pt x="44" y="39"/>
                  </a:lnTo>
                  <a:lnTo>
                    <a:pt x="53" y="29"/>
                  </a:lnTo>
                  <a:lnTo>
                    <a:pt x="62" y="20"/>
                  </a:lnTo>
                  <a:lnTo>
                    <a:pt x="71" y="13"/>
                  </a:lnTo>
                  <a:lnTo>
                    <a:pt x="82" y="8"/>
                  </a:lnTo>
                  <a:lnTo>
                    <a:pt x="93" y="4"/>
                  </a:lnTo>
                  <a:lnTo>
                    <a:pt x="104" y="2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8" y="2"/>
                  </a:lnTo>
                  <a:lnTo>
                    <a:pt x="134" y="2"/>
                  </a:lnTo>
                  <a:lnTo>
                    <a:pt x="139" y="3"/>
                  </a:lnTo>
                  <a:lnTo>
                    <a:pt x="144" y="4"/>
                  </a:lnTo>
                  <a:lnTo>
                    <a:pt x="149" y="7"/>
                  </a:lnTo>
                  <a:lnTo>
                    <a:pt x="154" y="8"/>
                  </a:lnTo>
                  <a:lnTo>
                    <a:pt x="158" y="10"/>
                  </a:lnTo>
                  <a:lnTo>
                    <a:pt x="163" y="13"/>
                  </a:lnTo>
                  <a:lnTo>
                    <a:pt x="167" y="15"/>
                  </a:lnTo>
                  <a:lnTo>
                    <a:pt x="171" y="19"/>
                  </a:lnTo>
                  <a:lnTo>
                    <a:pt x="175" y="22"/>
                  </a:lnTo>
                  <a:lnTo>
                    <a:pt x="178" y="25"/>
                  </a:lnTo>
                  <a:lnTo>
                    <a:pt x="181" y="29"/>
                  </a:lnTo>
                  <a:lnTo>
                    <a:pt x="184" y="33"/>
                  </a:lnTo>
                  <a:lnTo>
                    <a:pt x="186" y="37"/>
                  </a:lnTo>
                  <a:lnTo>
                    <a:pt x="189" y="40"/>
                  </a:lnTo>
                  <a:lnTo>
                    <a:pt x="191" y="45"/>
                  </a:lnTo>
                  <a:lnTo>
                    <a:pt x="193" y="49"/>
                  </a:lnTo>
                  <a:lnTo>
                    <a:pt x="194" y="54"/>
                  </a:lnTo>
                  <a:lnTo>
                    <a:pt x="196" y="59"/>
                  </a:lnTo>
                  <a:lnTo>
                    <a:pt x="198" y="64"/>
                  </a:lnTo>
                  <a:lnTo>
                    <a:pt x="199" y="69"/>
                  </a:lnTo>
                  <a:lnTo>
                    <a:pt x="200" y="75"/>
                  </a:lnTo>
                  <a:lnTo>
                    <a:pt x="201" y="79"/>
                  </a:lnTo>
                  <a:lnTo>
                    <a:pt x="201" y="84"/>
                  </a:lnTo>
                  <a:lnTo>
                    <a:pt x="202" y="89"/>
                  </a:lnTo>
                  <a:lnTo>
                    <a:pt x="202" y="95"/>
                  </a:lnTo>
                  <a:lnTo>
                    <a:pt x="202" y="102"/>
                  </a:lnTo>
                  <a:lnTo>
                    <a:pt x="203" y="109"/>
                  </a:lnTo>
                  <a:lnTo>
                    <a:pt x="203" y="116"/>
                  </a:lnTo>
                  <a:lnTo>
                    <a:pt x="203" y="125"/>
                  </a:lnTo>
                  <a:lnTo>
                    <a:pt x="203" y="315"/>
                  </a:lnTo>
                  <a:lnTo>
                    <a:pt x="160" y="315"/>
                  </a:lnTo>
                  <a:lnTo>
                    <a:pt x="160" y="128"/>
                  </a:lnTo>
                  <a:lnTo>
                    <a:pt x="160" y="120"/>
                  </a:lnTo>
                  <a:lnTo>
                    <a:pt x="160" y="113"/>
                  </a:lnTo>
                  <a:lnTo>
                    <a:pt x="159" y="107"/>
                  </a:lnTo>
                  <a:lnTo>
                    <a:pt x="159" y="100"/>
                  </a:lnTo>
                  <a:lnTo>
                    <a:pt x="158" y="94"/>
                  </a:lnTo>
                  <a:lnTo>
                    <a:pt x="157" y="89"/>
                  </a:lnTo>
                  <a:lnTo>
                    <a:pt x="156" y="84"/>
                  </a:lnTo>
                  <a:lnTo>
                    <a:pt x="155" y="80"/>
                  </a:lnTo>
                  <a:lnTo>
                    <a:pt x="154" y="77"/>
                  </a:lnTo>
                  <a:lnTo>
                    <a:pt x="152" y="73"/>
                  </a:lnTo>
                  <a:lnTo>
                    <a:pt x="150" y="69"/>
                  </a:lnTo>
                  <a:lnTo>
                    <a:pt x="148" y="67"/>
                  </a:lnTo>
                  <a:lnTo>
                    <a:pt x="146" y="63"/>
                  </a:lnTo>
                  <a:lnTo>
                    <a:pt x="144" y="60"/>
                  </a:lnTo>
                  <a:lnTo>
                    <a:pt x="141" y="58"/>
                  </a:lnTo>
                  <a:lnTo>
                    <a:pt x="138" y="55"/>
                  </a:lnTo>
                  <a:lnTo>
                    <a:pt x="135" y="53"/>
                  </a:lnTo>
                  <a:lnTo>
                    <a:pt x="131" y="50"/>
                  </a:lnTo>
                  <a:lnTo>
                    <a:pt x="128" y="49"/>
                  </a:lnTo>
                  <a:lnTo>
                    <a:pt x="123" y="48"/>
                  </a:lnTo>
                  <a:lnTo>
                    <a:pt x="120" y="47"/>
                  </a:lnTo>
                  <a:lnTo>
                    <a:pt x="116" y="47"/>
                  </a:lnTo>
                  <a:lnTo>
                    <a:pt x="112" y="45"/>
                  </a:lnTo>
                  <a:lnTo>
                    <a:pt x="108" y="45"/>
                  </a:lnTo>
                  <a:lnTo>
                    <a:pt x="101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3" y="50"/>
                  </a:lnTo>
                  <a:lnTo>
                    <a:pt x="77" y="54"/>
                  </a:lnTo>
                  <a:lnTo>
                    <a:pt x="72" y="58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57" y="73"/>
                  </a:lnTo>
                  <a:lnTo>
                    <a:pt x="53" y="79"/>
                  </a:lnTo>
                  <a:lnTo>
                    <a:pt x="49" y="88"/>
                  </a:lnTo>
                  <a:lnTo>
                    <a:pt x="46" y="98"/>
                  </a:lnTo>
                  <a:lnTo>
                    <a:pt x="44" y="108"/>
                  </a:lnTo>
                  <a:lnTo>
                    <a:pt x="43" y="120"/>
                  </a:lnTo>
                  <a:lnTo>
                    <a:pt x="42" y="133"/>
                  </a:lnTo>
                  <a:lnTo>
                    <a:pt x="41" y="146"/>
                  </a:lnTo>
                  <a:lnTo>
                    <a:pt x="41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70760" y="2918160"/>
              <a:ext cx="60120" cy="622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85" y="215"/>
                  </a:moveTo>
                  <a:lnTo>
                    <a:pt x="228" y="223"/>
                  </a:lnTo>
                  <a:lnTo>
                    <a:pt x="225" y="234"/>
                  </a:lnTo>
                  <a:lnTo>
                    <a:pt x="222" y="245"/>
                  </a:lnTo>
                  <a:lnTo>
                    <a:pt x="218" y="255"/>
                  </a:lnTo>
                  <a:lnTo>
                    <a:pt x="214" y="264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9"/>
                  </a:lnTo>
                  <a:lnTo>
                    <a:pt x="190" y="295"/>
                  </a:lnTo>
                  <a:lnTo>
                    <a:pt x="183" y="301"/>
                  </a:lnTo>
                  <a:lnTo>
                    <a:pt x="176" y="307"/>
                  </a:lnTo>
                  <a:lnTo>
                    <a:pt x="168" y="311"/>
                  </a:lnTo>
                  <a:lnTo>
                    <a:pt x="158" y="315"/>
                  </a:lnTo>
                  <a:lnTo>
                    <a:pt x="149" y="317"/>
                  </a:lnTo>
                  <a:lnTo>
                    <a:pt x="139" y="320"/>
                  </a:lnTo>
                  <a:lnTo>
                    <a:pt x="129" y="321"/>
                  </a:lnTo>
                  <a:lnTo>
                    <a:pt x="119" y="321"/>
                  </a:lnTo>
                  <a:lnTo>
                    <a:pt x="106" y="321"/>
                  </a:lnTo>
                  <a:lnTo>
                    <a:pt x="93" y="319"/>
                  </a:lnTo>
                  <a:lnTo>
                    <a:pt x="81" y="316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1" y="290"/>
                  </a:lnTo>
                  <a:lnTo>
                    <a:pt x="32" y="280"/>
                  </a:lnTo>
                  <a:lnTo>
                    <a:pt x="25" y="269"/>
                  </a:lnTo>
                  <a:lnTo>
                    <a:pt x="19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5"/>
                  </a:lnTo>
                  <a:lnTo>
                    <a:pt x="2" y="199"/>
                  </a:lnTo>
                  <a:lnTo>
                    <a:pt x="0" y="181"/>
                  </a:lnTo>
                  <a:lnTo>
                    <a:pt x="0" y="164"/>
                  </a:lnTo>
                  <a:lnTo>
                    <a:pt x="0" y="145"/>
                  </a:lnTo>
                  <a:lnTo>
                    <a:pt x="2" y="126"/>
                  </a:lnTo>
                  <a:lnTo>
                    <a:pt x="4" y="110"/>
                  </a:lnTo>
                  <a:lnTo>
                    <a:pt x="8" y="95"/>
                  </a:lnTo>
                  <a:lnTo>
                    <a:pt x="12" y="80"/>
                  </a:lnTo>
                  <a:lnTo>
                    <a:pt x="19" y="67"/>
                  </a:lnTo>
                  <a:lnTo>
                    <a:pt x="25" y="54"/>
                  </a:lnTo>
                  <a:lnTo>
                    <a:pt x="33" y="43"/>
                  </a:lnTo>
                  <a:lnTo>
                    <a:pt x="41" y="33"/>
                  </a:lnTo>
                  <a:lnTo>
                    <a:pt x="50" y="24"/>
                  </a:lnTo>
                  <a:lnTo>
                    <a:pt x="59" y="17"/>
                  </a:lnTo>
                  <a:lnTo>
                    <a:pt x="69" y="12"/>
                  </a:lnTo>
                  <a:lnTo>
                    <a:pt x="80" y="7"/>
                  </a:lnTo>
                  <a:lnTo>
                    <a:pt x="92" y="3"/>
                  </a:lnTo>
                  <a:lnTo>
                    <a:pt x="104" y="2"/>
                  </a:lnTo>
                  <a:lnTo>
                    <a:pt x="117" y="0"/>
                  </a:lnTo>
                  <a:lnTo>
                    <a:pt x="129" y="2"/>
                  </a:lnTo>
                  <a:lnTo>
                    <a:pt x="140" y="3"/>
                  </a:lnTo>
                  <a:lnTo>
                    <a:pt x="151" y="7"/>
                  </a:lnTo>
                  <a:lnTo>
                    <a:pt x="163" y="10"/>
                  </a:lnTo>
                  <a:lnTo>
                    <a:pt x="172" y="17"/>
                  </a:lnTo>
                  <a:lnTo>
                    <a:pt x="182" y="24"/>
                  </a:lnTo>
                  <a:lnTo>
                    <a:pt x="190" y="33"/>
                  </a:lnTo>
                  <a:lnTo>
                    <a:pt x="198" y="43"/>
                  </a:lnTo>
                  <a:lnTo>
                    <a:pt x="206" y="53"/>
                  </a:lnTo>
                  <a:lnTo>
                    <a:pt x="212" y="65"/>
                  </a:lnTo>
                  <a:lnTo>
                    <a:pt x="217" y="79"/>
                  </a:lnTo>
                  <a:lnTo>
                    <a:pt x="222" y="93"/>
                  </a:lnTo>
                  <a:lnTo>
                    <a:pt x="225" y="108"/>
                  </a:lnTo>
                  <a:lnTo>
                    <a:pt x="228" y="124"/>
                  </a:lnTo>
                  <a:lnTo>
                    <a:pt x="229" y="141"/>
                  </a:lnTo>
                  <a:lnTo>
                    <a:pt x="230" y="160"/>
                  </a:lnTo>
                  <a:lnTo>
                    <a:pt x="230" y="161"/>
                  </a:lnTo>
                  <a:lnTo>
                    <a:pt x="230" y="163"/>
                  </a:lnTo>
                  <a:lnTo>
                    <a:pt x="230" y="165"/>
                  </a:lnTo>
                  <a:lnTo>
                    <a:pt x="230" y="166"/>
                  </a:lnTo>
                  <a:lnTo>
                    <a:pt x="229" y="168"/>
                  </a:lnTo>
                  <a:lnTo>
                    <a:pt x="229" y="170"/>
                  </a:lnTo>
                  <a:lnTo>
                    <a:pt x="229" y="173"/>
                  </a:lnTo>
                  <a:lnTo>
                    <a:pt x="229" y="174"/>
                  </a:lnTo>
                  <a:lnTo>
                    <a:pt x="44" y="174"/>
                  </a:lnTo>
                  <a:lnTo>
                    <a:pt x="45" y="186"/>
                  </a:lnTo>
                  <a:lnTo>
                    <a:pt x="46" y="198"/>
                  </a:lnTo>
                  <a:lnTo>
                    <a:pt x="48" y="209"/>
                  </a:lnTo>
                  <a:lnTo>
                    <a:pt x="51" y="219"/>
                  </a:lnTo>
                  <a:lnTo>
                    <a:pt x="54" y="229"/>
                  </a:lnTo>
                  <a:lnTo>
                    <a:pt x="58" y="236"/>
                  </a:lnTo>
                  <a:lnTo>
                    <a:pt x="62" y="245"/>
                  </a:lnTo>
                  <a:lnTo>
                    <a:pt x="67" y="251"/>
                  </a:lnTo>
                  <a:lnTo>
                    <a:pt x="72" y="258"/>
                  </a:lnTo>
                  <a:lnTo>
                    <a:pt x="78" y="264"/>
                  </a:lnTo>
                  <a:lnTo>
                    <a:pt x="84" y="269"/>
                  </a:lnTo>
                  <a:lnTo>
                    <a:pt x="91" y="272"/>
                  </a:lnTo>
                  <a:lnTo>
                    <a:pt x="98" y="275"/>
                  </a:lnTo>
                  <a:lnTo>
                    <a:pt x="104" y="277"/>
                  </a:lnTo>
                  <a:lnTo>
                    <a:pt x="112" y="279"/>
                  </a:lnTo>
                  <a:lnTo>
                    <a:pt x="119" y="279"/>
                  </a:lnTo>
                  <a:lnTo>
                    <a:pt x="125" y="279"/>
                  </a:lnTo>
                  <a:lnTo>
                    <a:pt x="130" y="277"/>
                  </a:lnTo>
                  <a:lnTo>
                    <a:pt x="135" y="276"/>
                  </a:lnTo>
                  <a:lnTo>
                    <a:pt x="140" y="275"/>
                  </a:lnTo>
                  <a:lnTo>
                    <a:pt x="145" y="272"/>
                  </a:lnTo>
                  <a:lnTo>
                    <a:pt x="150" y="270"/>
                  </a:lnTo>
                  <a:lnTo>
                    <a:pt x="154" y="267"/>
                  </a:lnTo>
                  <a:lnTo>
                    <a:pt x="158" y="264"/>
                  </a:lnTo>
                  <a:lnTo>
                    <a:pt x="163" y="260"/>
                  </a:lnTo>
                  <a:lnTo>
                    <a:pt x="167" y="255"/>
                  </a:lnTo>
                  <a:lnTo>
                    <a:pt x="171" y="250"/>
                  </a:lnTo>
                  <a:lnTo>
                    <a:pt x="174" y="244"/>
                  </a:lnTo>
                  <a:lnTo>
                    <a:pt x="177" y="238"/>
                  </a:lnTo>
                  <a:lnTo>
                    <a:pt x="180" y="231"/>
                  </a:lnTo>
                  <a:lnTo>
                    <a:pt x="183" y="224"/>
                  </a:lnTo>
                  <a:lnTo>
                    <a:pt x="185" y="215"/>
                  </a:lnTo>
                  <a:close/>
                  <a:moveTo>
                    <a:pt x="46" y="131"/>
                  </a:moveTo>
                  <a:lnTo>
                    <a:pt x="186" y="131"/>
                  </a:lnTo>
                  <a:lnTo>
                    <a:pt x="185" y="123"/>
                  </a:lnTo>
                  <a:lnTo>
                    <a:pt x="184" y="113"/>
                  </a:lnTo>
                  <a:lnTo>
                    <a:pt x="182" y="105"/>
                  </a:lnTo>
                  <a:lnTo>
                    <a:pt x="180" y="98"/>
                  </a:lnTo>
                  <a:lnTo>
                    <a:pt x="178" y="90"/>
                  </a:lnTo>
                  <a:lnTo>
                    <a:pt x="176" y="84"/>
                  </a:lnTo>
                  <a:lnTo>
                    <a:pt x="173" y="79"/>
                  </a:lnTo>
                  <a:lnTo>
                    <a:pt x="170" y="73"/>
                  </a:lnTo>
                  <a:lnTo>
                    <a:pt x="165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6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10" y="44"/>
                  </a:lnTo>
                  <a:lnTo>
                    <a:pt x="103" y="45"/>
                  </a:lnTo>
                  <a:lnTo>
                    <a:pt x="97" y="47"/>
                  </a:lnTo>
                  <a:lnTo>
                    <a:pt x="91" y="49"/>
                  </a:lnTo>
                  <a:lnTo>
                    <a:pt x="84" y="53"/>
                  </a:lnTo>
                  <a:lnTo>
                    <a:pt x="78" y="57"/>
                  </a:lnTo>
                  <a:lnTo>
                    <a:pt x="73" y="62"/>
                  </a:lnTo>
                  <a:lnTo>
                    <a:pt x="68" y="68"/>
                  </a:lnTo>
                  <a:lnTo>
                    <a:pt x="63" y="74"/>
                  </a:lnTo>
                  <a:lnTo>
                    <a:pt x="59" y="80"/>
                  </a:lnTo>
                  <a:lnTo>
                    <a:pt x="56" y="88"/>
                  </a:lnTo>
                  <a:lnTo>
                    <a:pt x="53" y="95"/>
                  </a:lnTo>
                  <a:lnTo>
                    <a:pt x="50" y="104"/>
                  </a:lnTo>
                  <a:lnTo>
                    <a:pt x="48" y="113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740240" y="2896200"/>
              <a:ext cx="55800" cy="84240"/>
            </a:xfrm>
            <a:custGeom>
              <a:avLst/>
              <a:gdLst/>
              <a:ahLst/>
              <a:rect l="l" t="t" r="r" b="b"/>
              <a:pathLst>
                <a:path w="217" h="430">
                  <a:moveTo>
                    <a:pt x="177" y="424"/>
                  </a:moveTo>
                  <a:lnTo>
                    <a:pt x="177" y="385"/>
                  </a:lnTo>
                  <a:lnTo>
                    <a:pt x="171" y="395"/>
                  </a:lnTo>
                  <a:lnTo>
                    <a:pt x="164" y="405"/>
                  </a:lnTo>
                  <a:lnTo>
                    <a:pt x="157" y="413"/>
                  </a:lnTo>
                  <a:lnTo>
                    <a:pt x="148" y="419"/>
                  </a:lnTo>
                  <a:lnTo>
                    <a:pt x="139" y="424"/>
                  </a:lnTo>
                  <a:lnTo>
                    <a:pt x="130" y="428"/>
                  </a:lnTo>
                  <a:lnTo>
                    <a:pt x="119" y="430"/>
                  </a:lnTo>
                  <a:lnTo>
                    <a:pt x="107" y="430"/>
                  </a:lnTo>
                  <a:lnTo>
                    <a:pt x="100" y="430"/>
                  </a:lnTo>
                  <a:lnTo>
                    <a:pt x="93" y="429"/>
                  </a:lnTo>
                  <a:lnTo>
                    <a:pt x="86" y="428"/>
                  </a:lnTo>
                  <a:lnTo>
                    <a:pt x="79" y="425"/>
                  </a:lnTo>
                  <a:lnTo>
                    <a:pt x="72" y="423"/>
                  </a:lnTo>
                  <a:lnTo>
                    <a:pt x="66" y="419"/>
                  </a:lnTo>
                  <a:lnTo>
                    <a:pt x="59" y="415"/>
                  </a:lnTo>
                  <a:lnTo>
                    <a:pt x="53" y="410"/>
                  </a:lnTo>
                  <a:lnTo>
                    <a:pt x="47" y="405"/>
                  </a:lnTo>
                  <a:lnTo>
                    <a:pt x="42" y="399"/>
                  </a:lnTo>
                  <a:lnTo>
                    <a:pt x="35" y="393"/>
                  </a:lnTo>
                  <a:lnTo>
                    <a:pt x="30" y="386"/>
                  </a:lnTo>
                  <a:lnTo>
                    <a:pt x="26" y="379"/>
                  </a:lnTo>
                  <a:lnTo>
                    <a:pt x="21" y="371"/>
                  </a:lnTo>
                  <a:lnTo>
                    <a:pt x="18" y="363"/>
                  </a:lnTo>
                  <a:lnTo>
                    <a:pt x="14" y="354"/>
                  </a:lnTo>
                  <a:lnTo>
                    <a:pt x="11" y="344"/>
                  </a:lnTo>
                  <a:lnTo>
                    <a:pt x="8" y="335"/>
                  </a:lnTo>
                  <a:lnTo>
                    <a:pt x="6" y="325"/>
                  </a:lnTo>
                  <a:lnTo>
                    <a:pt x="4" y="315"/>
                  </a:lnTo>
                  <a:lnTo>
                    <a:pt x="2" y="304"/>
                  </a:lnTo>
                  <a:lnTo>
                    <a:pt x="1" y="293"/>
                  </a:lnTo>
                  <a:lnTo>
                    <a:pt x="1" y="282"/>
                  </a:lnTo>
                  <a:lnTo>
                    <a:pt x="0" y="270"/>
                  </a:lnTo>
                  <a:lnTo>
                    <a:pt x="1" y="259"/>
                  </a:lnTo>
                  <a:lnTo>
                    <a:pt x="1" y="248"/>
                  </a:lnTo>
                  <a:lnTo>
                    <a:pt x="2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6"/>
                  </a:lnTo>
                  <a:lnTo>
                    <a:pt x="10" y="197"/>
                  </a:lnTo>
                  <a:lnTo>
                    <a:pt x="13" y="187"/>
                  </a:lnTo>
                  <a:lnTo>
                    <a:pt x="16" y="178"/>
                  </a:lnTo>
                  <a:lnTo>
                    <a:pt x="20" y="169"/>
                  </a:lnTo>
                  <a:lnTo>
                    <a:pt x="24" y="162"/>
                  </a:lnTo>
                  <a:lnTo>
                    <a:pt x="28" y="154"/>
                  </a:lnTo>
                  <a:lnTo>
                    <a:pt x="33" y="147"/>
                  </a:lnTo>
                  <a:lnTo>
                    <a:pt x="38" y="141"/>
                  </a:lnTo>
                  <a:lnTo>
                    <a:pt x="45" y="134"/>
                  </a:lnTo>
                  <a:lnTo>
                    <a:pt x="51" y="129"/>
                  </a:lnTo>
                  <a:lnTo>
                    <a:pt x="57" y="124"/>
                  </a:lnTo>
                  <a:lnTo>
                    <a:pt x="63" y="121"/>
                  </a:lnTo>
                  <a:lnTo>
                    <a:pt x="70" y="117"/>
                  </a:lnTo>
                  <a:lnTo>
                    <a:pt x="77" y="114"/>
                  </a:lnTo>
                  <a:lnTo>
                    <a:pt x="84" y="112"/>
                  </a:lnTo>
                  <a:lnTo>
                    <a:pt x="91" y="111"/>
                  </a:lnTo>
                  <a:lnTo>
                    <a:pt x="98" y="109"/>
                  </a:lnTo>
                  <a:lnTo>
                    <a:pt x="106" y="109"/>
                  </a:lnTo>
                  <a:lnTo>
                    <a:pt x="111" y="109"/>
                  </a:lnTo>
                  <a:lnTo>
                    <a:pt x="117" y="111"/>
                  </a:lnTo>
                  <a:lnTo>
                    <a:pt x="122" y="111"/>
                  </a:lnTo>
                  <a:lnTo>
                    <a:pt x="128" y="112"/>
                  </a:lnTo>
                  <a:lnTo>
                    <a:pt x="132" y="114"/>
                  </a:lnTo>
                  <a:lnTo>
                    <a:pt x="137" y="116"/>
                  </a:lnTo>
                  <a:lnTo>
                    <a:pt x="142" y="118"/>
                  </a:lnTo>
                  <a:lnTo>
                    <a:pt x="146" y="121"/>
                  </a:lnTo>
                  <a:lnTo>
                    <a:pt x="150" y="124"/>
                  </a:lnTo>
                  <a:lnTo>
                    <a:pt x="154" y="128"/>
                  </a:lnTo>
                  <a:lnTo>
                    <a:pt x="158" y="131"/>
                  </a:lnTo>
                  <a:lnTo>
                    <a:pt x="162" y="134"/>
                  </a:lnTo>
                  <a:lnTo>
                    <a:pt x="165" y="138"/>
                  </a:lnTo>
                  <a:lnTo>
                    <a:pt x="169" y="143"/>
                  </a:lnTo>
                  <a:lnTo>
                    <a:pt x="172" y="147"/>
                  </a:lnTo>
                  <a:lnTo>
                    <a:pt x="174" y="152"/>
                  </a:lnTo>
                  <a:lnTo>
                    <a:pt x="174" y="0"/>
                  </a:lnTo>
                  <a:lnTo>
                    <a:pt x="217" y="0"/>
                  </a:lnTo>
                  <a:lnTo>
                    <a:pt x="217" y="424"/>
                  </a:lnTo>
                  <a:lnTo>
                    <a:pt x="177" y="424"/>
                  </a:lnTo>
                  <a:close/>
                  <a:moveTo>
                    <a:pt x="44" y="270"/>
                  </a:moveTo>
                  <a:lnTo>
                    <a:pt x="45" y="284"/>
                  </a:lnTo>
                  <a:lnTo>
                    <a:pt x="46" y="298"/>
                  </a:lnTo>
                  <a:lnTo>
                    <a:pt x="47" y="310"/>
                  </a:lnTo>
                  <a:lnTo>
                    <a:pt x="49" y="322"/>
                  </a:lnTo>
                  <a:lnTo>
                    <a:pt x="52" y="333"/>
                  </a:lnTo>
                  <a:lnTo>
                    <a:pt x="55" y="342"/>
                  </a:lnTo>
                  <a:lnTo>
                    <a:pt x="60" y="350"/>
                  </a:lnTo>
                  <a:lnTo>
                    <a:pt x="64" y="359"/>
                  </a:lnTo>
                  <a:lnTo>
                    <a:pt x="69" y="365"/>
                  </a:lnTo>
                  <a:lnTo>
                    <a:pt x="75" y="371"/>
                  </a:lnTo>
                  <a:lnTo>
                    <a:pt x="80" y="376"/>
                  </a:lnTo>
                  <a:lnTo>
                    <a:pt x="86" y="380"/>
                  </a:lnTo>
                  <a:lnTo>
                    <a:pt x="92" y="384"/>
                  </a:lnTo>
                  <a:lnTo>
                    <a:pt x="98" y="386"/>
                  </a:lnTo>
                  <a:lnTo>
                    <a:pt x="105" y="388"/>
                  </a:lnTo>
                  <a:lnTo>
                    <a:pt x="111" y="388"/>
                  </a:lnTo>
                  <a:lnTo>
                    <a:pt x="119" y="388"/>
                  </a:lnTo>
                  <a:lnTo>
                    <a:pt x="125" y="386"/>
                  </a:lnTo>
                  <a:lnTo>
                    <a:pt x="132" y="384"/>
                  </a:lnTo>
                  <a:lnTo>
                    <a:pt x="138" y="380"/>
                  </a:lnTo>
                  <a:lnTo>
                    <a:pt x="143" y="376"/>
                  </a:lnTo>
                  <a:lnTo>
                    <a:pt x="149" y="371"/>
                  </a:lnTo>
                  <a:lnTo>
                    <a:pt x="154" y="367"/>
                  </a:lnTo>
                  <a:lnTo>
                    <a:pt x="159" y="360"/>
                  </a:lnTo>
                  <a:lnTo>
                    <a:pt x="163" y="353"/>
                  </a:lnTo>
                  <a:lnTo>
                    <a:pt x="167" y="344"/>
                  </a:lnTo>
                  <a:lnTo>
                    <a:pt x="170" y="335"/>
                  </a:lnTo>
                  <a:lnTo>
                    <a:pt x="173" y="324"/>
                  </a:lnTo>
                  <a:lnTo>
                    <a:pt x="175" y="314"/>
                  </a:lnTo>
                  <a:lnTo>
                    <a:pt x="177" y="302"/>
                  </a:lnTo>
                  <a:lnTo>
                    <a:pt x="178" y="288"/>
                  </a:lnTo>
                  <a:lnTo>
                    <a:pt x="178" y="274"/>
                  </a:lnTo>
                  <a:lnTo>
                    <a:pt x="178" y="259"/>
                  </a:lnTo>
                  <a:lnTo>
                    <a:pt x="177" y="245"/>
                  </a:lnTo>
                  <a:lnTo>
                    <a:pt x="175" y="232"/>
                  </a:lnTo>
                  <a:lnTo>
                    <a:pt x="173" y="221"/>
                  </a:lnTo>
                  <a:lnTo>
                    <a:pt x="170" y="209"/>
                  </a:lnTo>
                  <a:lnTo>
                    <a:pt x="167" y="199"/>
                  </a:lnTo>
                  <a:lnTo>
                    <a:pt x="163" y="191"/>
                  </a:lnTo>
                  <a:lnTo>
                    <a:pt x="158" y="182"/>
                  </a:lnTo>
                  <a:lnTo>
                    <a:pt x="153" y="176"/>
                  </a:lnTo>
                  <a:lnTo>
                    <a:pt x="148" y="169"/>
                  </a:lnTo>
                  <a:lnTo>
                    <a:pt x="143" y="164"/>
                  </a:lnTo>
                  <a:lnTo>
                    <a:pt x="137" y="161"/>
                  </a:lnTo>
                  <a:lnTo>
                    <a:pt x="131" y="157"/>
                  </a:lnTo>
                  <a:lnTo>
                    <a:pt x="124" y="154"/>
                  </a:lnTo>
                  <a:lnTo>
                    <a:pt x="117" y="153"/>
                  </a:lnTo>
                  <a:lnTo>
                    <a:pt x="109" y="153"/>
                  </a:lnTo>
                  <a:lnTo>
                    <a:pt x="103" y="153"/>
                  </a:lnTo>
                  <a:lnTo>
                    <a:pt x="96" y="154"/>
                  </a:lnTo>
                  <a:lnTo>
                    <a:pt x="90" y="157"/>
                  </a:lnTo>
                  <a:lnTo>
                    <a:pt x="84" y="159"/>
                  </a:lnTo>
                  <a:lnTo>
                    <a:pt x="78" y="163"/>
                  </a:lnTo>
                  <a:lnTo>
                    <a:pt x="73" y="168"/>
                  </a:lnTo>
                  <a:lnTo>
                    <a:pt x="68" y="174"/>
                  </a:lnTo>
                  <a:lnTo>
                    <a:pt x="63" y="181"/>
                  </a:lnTo>
                  <a:lnTo>
                    <a:pt x="59" y="188"/>
                  </a:lnTo>
                  <a:lnTo>
                    <a:pt x="55" y="197"/>
                  </a:lnTo>
                  <a:lnTo>
                    <a:pt x="52" y="207"/>
                  </a:lnTo>
                  <a:lnTo>
                    <a:pt x="49" y="218"/>
                  </a:lnTo>
                  <a:lnTo>
                    <a:pt x="47" y="229"/>
                  </a:lnTo>
                  <a:lnTo>
                    <a:pt x="45" y="242"/>
                  </a:lnTo>
                  <a:lnTo>
                    <a:pt x="45" y="255"/>
                  </a:lnTo>
                  <a:lnTo>
                    <a:pt x="44" y="2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09360" y="2918160"/>
              <a:ext cx="60120" cy="62280"/>
            </a:xfrm>
            <a:custGeom>
              <a:avLst/>
              <a:gdLst/>
              <a:ahLst/>
              <a:rect l="l" t="t" r="r" b="b"/>
              <a:pathLst>
                <a:path w="230" h="321">
                  <a:moveTo>
                    <a:pt x="185" y="215"/>
                  </a:moveTo>
                  <a:lnTo>
                    <a:pt x="229" y="223"/>
                  </a:lnTo>
                  <a:lnTo>
                    <a:pt x="226" y="234"/>
                  </a:lnTo>
                  <a:lnTo>
                    <a:pt x="223" y="245"/>
                  </a:lnTo>
                  <a:lnTo>
                    <a:pt x="219" y="255"/>
                  </a:lnTo>
                  <a:lnTo>
                    <a:pt x="214" y="264"/>
                  </a:lnTo>
                  <a:lnTo>
                    <a:pt x="209" y="272"/>
                  </a:lnTo>
                  <a:lnTo>
                    <a:pt x="203" y="281"/>
                  </a:lnTo>
                  <a:lnTo>
                    <a:pt x="197" y="289"/>
                  </a:lnTo>
                  <a:lnTo>
                    <a:pt x="190" y="295"/>
                  </a:lnTo>
                  <a:lnTo>
                    <a:pt x="183" y="301"/>
                  </a:lnTo>
                  <a:lnTo>
                    <a:pt x="175" y="307"/>
                  </a:lnTo>
                  <a:lnTo>
                    <a:pt x="167" y="311"/>
                  </a:lnTo>
                  <a:lnTo>
                    <a:pt x="159" y="315"/>
                  </a:lnTo>
                  <a:lnTo>
                    <a:pt x="150" y="317"/>
                  </a:lnTo>
                  <a:lnTo>
                    <a:pt x="140" y="320"/>
                  </a:lnTo>
                  <a:lnTo>
                    <a:pt x="129" y="321"/>
                  </a:lnTo>
                  <a:lnTo>
                    <a:pt x="119" y="321"/>
                  </a:lnTo>
                  <a:lnTo>
                    <a:pt x="106" y="321"/>
                  </a:lnTo>
                  <a:lnTo>
                    <a:pt x="93" y="319"/>
                  </a:lnTo>
                  <a:lnTo>
                    <a:pt x="81" y="316"/>
                  </a:lnTo>
                  <a:lnTo>
                    <a:pt x="70" y="311"/>
                  </a:lnTo>
                  <a:lnTo>
                    <a:pt x="59" y="305"/>
                  </a:lnTo>
                  <a:lnTo>
                    <a:pt x="49" y="299"/>
                  </a:lnTo>
                  <a:lnTo>
                    <a:pt x="40" y="290"/>
                  </a:lnTo>
                  <a:lnTo>
                    <a:pt x="32" y="280"/>
                  </a:lnTo>
                  <a:lnTo>
                    <a:pt x="25" y="269"/>
                  </a:lnTo>
                  <a:lnTo>
                    <a:pt x="18" y="258"/>
                  </a:lnTo>
                  <a:lnTo>
                    <a:pt x="13" y="244"/>
                  </a:lnTo>
                  <a:lnTo>
                    <a:pt x="8" y="230"/>
                  </a:lnTo>
                  <a:lnTo>
                    <a:pt x="5" y="215"/>
                  </a:lnTo>
                  <a:lnTo>
                    <a:pt x="2" y="199"/>
                  </a:lnTo>
                  <a:lnTo>
                    <a:pt x="1" y="181"/>
                  </a:lnTo>
                  <a:lnTo>
                    <a:pt x="0" y="164"/>
                  </a:lnTo>
                  <a:lnTo>
                    <a:pt x="1" y="145"/>
                  </a:lnTo>
                  <a:lnTo>
                    <a:pt x="2" y="126"/>
                  </a:lnTo>
                  <a:lnTo>
                    <a:pt x="5" y="110"/>
                  </a:lnTo>
                  <a:lnTo>
                    <a:pt x="8" y="95"/>
                  </a:lnTo>
                  <a:lnTo>
                    <a:pt x="13" y="80"/>
                  </a:lnTo>
                  <a:lnTo>
                    <a:pt x="18" y="67"/>
                  </a:lnTo>
                  <a:lnTo>
                    <a:pt x="25" y="54"/>
                  </a:lnTo>
                  <a:lnTo>
                    <a:pt x="32" y="43"/>
                  </a:lnTo>
                  <a:lnTo>
                    <a:pt x="41" y="33"/>
                  </a:lnTo>
                  <a:lnTo>
                    <a:pt x="50" y="24"/>
                  </a:lnTo>
                  <a:lnTo>
                    <a:pt x="59" y="17"/>
                  </a:lnTo>
                  <a:lnTo>
                    <a:pt x="70" y="12"/>
                  </a:lnTo>
                  <a:lnTo>
                    <a:pt x="81" y="7"/>
                  </a:lnTo>
                  <a:lnTo>
                    <a:pt x="92" y="3"/>
                  </a:lnTo>
                  <a:lnTo>
                    <a:pt x="104" y="2"/>
                  </a:lnTo>
                  <a:lnTo>
                    <a:pt x="116" y="0"/>
                  </a:lnTo>
                  <a:lnTo>
                    <a:pt x="128" y="2"/>
                  </a:lnTo>
                  <a:lnTo>
                    <a:pt x="141" y="3"/>
                  </a:lnTo>
                  <a:lnTo>
                    <a:pt x="152" y="7"/>
                  </a:lnTo>
                  <a:lnTo>
                    <a:pt x="162" y="10"/>
                  </a:lnTo>
                  <a:lnTo>
                    <a:pt x="172" y="17"/>
                  </a:lnTo>
                  <a:lnTo>
                    <a:pt x="181" y="24"/>
                  </a:lnTo>
                  <a:lnTo>
                    <a:pt x="190" y="33"/>
                  </a:lnTo>
                  <a:lnTo>
                    <a:pt x="198" y="43"/>
                  </a:lnTo>
                  <a:lnTo>
                    <a:pt x="205" y="53"/>
                  </a:lnTo>
                  <a:lnTo>
                    <a:pt x="213" y="65"/>
                  </a:lnTo>
                  <a:lnTo>
                    <a:pt x="218" y="79"/>
                  </a:lnTo>
                  <a:lnTo>
                    <a:pt x="223" y="93"/>
                  </a:lnTo>
                  <a:lnTo>
                    <a:pt x="226" y="108"/>
                  </a:lnTo>
                  <a:lnTo>
                    <a:pt x="228" y="124"/>
                  </a:lnTo>
                  <a:lnTo>
                    <a:pt x="230" y="141"/>
                  </a:lnTo>
                  <a:lnTo>
                    <a:pt x="230" y="160"/>
                  </a:lnTo>
                  <a:lnTo>
                    <a:pt x="230" y="161"/>
                  </a:lnTo>
                  <a:lnTo>
                    <a:pt x="230" y="163"/>
                  </a:lnTo>
                  <a:lnTo>
                    <a:pt x="230" y="165"/>
                  </a:lnTo>
                  <a:lnTo>
                    <a:pt x="230" y="166"/>
                  </a:lnTo>
                  <a:lnTo>
                    <a:pt x="230" y="168"/>
                  </a:lnTo>
                  <a:lnTo>
                    <a:pt x="230" y="170"/>
                  </a:lnTo>
                  <a:lnTo>
                    <a:pt x="230" y="173"/>
                  </a:lnTo>
                  <a:lnTo>
                    <a:pt x="230" y="174"/>
                  </a:lnTo>
                  <a:lnTo>
                    <a:pt x="44" y="174"/>
                  </a:lnTo>
                  <a:lnTo>
                    <a:pt x="44" y="186"/>
                  </a:lnTo>
                  <a:lnTo>
                    <a:pt x="46" y="198"/>
                  </a:lnTo>
                  <a:lnTo>
                    <a:pt x="48" y="209"/>
                  </a:lnTo>
                  <a:lnTo>
                    <a:pt x="50" y="219"/>
                  </a:lnTo>
                  <a:lnTo>
                    <a:pt x="54" y="229"/>
                  </a:lnTo>
                  <a:lnTo>
                    <a:pt x="57" y="236"/>
                  </a:lnTo>
                  <a:lnTo>
                    <a:pt x="63" y="245"/>
                  </a:lnTo>
                  <a:lnTo>
                    <a:pt x="68" y="251"/>
                  </a:lnTo>
                  <a:lnTo>
                    <a:pt x="73" y="258"/>
                  </a:lnTo>
                  <a:lnTo>
                    <a:pt x="78" y="264"/>
                  </a:lnTo>
                  <a:lnTo>
                    <a:pt x="84" y="269"/>
                  </a:lnTo>
                  <a:lnTo>
                    <a:pt x="91" y="272"/>
                  </a:lnTo>
                  <a:lnTo>
                    <a:pt x="97" y="275"/>
                  </a:lnTo>
                  <a:lnTo>
                    <a:pt x="104" y="277"/>
                  </a:lnTo>
                  <a:lnTo>
                    <a:pt x="111" y="279"/>
                  </a:lnTo>
                  <a:lnTo>
                    <a:pt x="119" y="279"/>
                  </a:lnTo>
                  <a:lnTo>
                    <a:pt x="125" y="279"/>
                  </a:lnTo>
                  <a:lnTo>
                    <a:pt x="130" y="277"/>
                  </a:lnTo>
                  <a:lnTo>
                    <a:pt x="136" y="276"/>
                  </a:lnTo>
                  <a:lnTo>
                    <a:pt x="141" y="275"/>
                  </a:lnTo>
                  <a:lnTo>
                    <a:pt x="146" y="272"/>
                  </a:lnTo>
                  <a:lnTo>
                    <a:pt x="151" y="270"/>
                  </a:lnTo>
                  <a:lnTo>
                    <a:pt x="155" y="267"/>
                  </a:lnTo>
                  <a:lnTo>
                    <a:pt x="159" y="264"/>
                  </a:lnTo>
                  <a:lnTo>
                    <a:pt x="163" y="260"/>
                  </a:lnTo>
                  <a:lnTo>
                    <a:pt x="167" y="255"/>
                  </a:lnTo>
                  <a:lnTo>
                    <a:pt x="170" y="250"/>
                  </a:lnTo>
                  <a:lnTo>
                    <a:pt x="174" y="244"/>
                  </a:lnTo>
                  <a:lnTo>
                    <a:pt x="177" y="238"/>
                  </a:lnTo>
                  <a:lnTo>
                    <a:pt x="180" y="231"/>
                  </a:lnTo>
                  <a:lnTo>
                    <a:pt x="182" y="224"/>
                  </a:lnTo>
                  <a:lnTo>
                    <a:pt x="185" y="215"/>
                  </a:lnTo>
                  <a:close/>
                  <a:moveTo>
                    <a:pt x="46" y="131"/>
                  </a:moveTo>
                  <a:lnTo>
                    <a:pt x="185" y="131"/>
                  </a:lnTo>
                  <a:lnTo>
                    <a:pt x="184" y="123"/>
                  </a:lnTo>
                  <a:lnTo>
                    <a:pt x="183" y="113"/>
                  </a:lnTo>
                  <a:lnTo>
                    <a:pt x="182" y="105"/>
                  </a:lnTo>
                  <a:lnTo>
                    <a:pt x="180" y="98"/>
                  </a:lnTo>
                  <a:lnTo>
                    <a:pt x="178" y="90"/>
                  </a:lnTo>
                  <a:lnTo>
                    <a:pt x="175" y="84"/>
                  </a:lnTo>
                  <a:lnTo>
                    <a:pt x="173" y="79"/>
                  </a:lnTo>
                  <a:lnTo>
                    <a:pt x="170" y="73"/>
                  </a:lnTo>
                  <a:lnTo>
                    <a:pt x="164" y="67"/>
                  </a:lnTo>
                  <a:lnTo>
                    <a:pt x="159" y="60"/>
                  </a:lnTo>
                  <a:lnTo>
                    <a:pt x="153" y="55"/>
                  </a:lnTo>
                  <a:lnTo>
                    <a:pt x="147" y="50"/>
                  </a:lnTo>
                  <a:lnTo>
                    <a:pt x="140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3"/>
                  </a:lnTo>
                  <a:lnTo>
                    <a:pt x="110" y="44"/>
                  </a:lnTo>
                  <a:lnTo>
                    <a:pt x="103" y="45"/>
                  </a:lnTo>
                  <a:lnTo>
                    <a:pt x="97" y="47"/>
                  </a:lnTo>
                  <a:lnTo>
                    <a:pt x="90" y="49"/>
                  </a:lnTo>
                  <a:lnTo>
                    <a:pt x="85" y="53"/>
                  </a:lnTo>
                  <a:lnTo>
                    <a:pt x="79" y="57"/>
                  </a:lnTo>
                  <a:lnTo>
                    <a:pt x="74" y="62"/>
                  </a:lnTo>
                  <a:lnTo>
                    <a:pt x="69" y="68"/>
                  </a:lnTo>
                  <a:lnTo>
                    <a:pt x="64" y="74"/>
                  </a:lnTo>
                  <a:lnTo>
                    <a:pt x="59" y="80"/>
                  </a:lnTo>
                  <a:lnTo>
                    <a:pt x="55" y="88"/>
                  </a:lnTo>
                  <a:lnTo>
                    <a:pt x="52" y="95"/>
                  </a:lnTo>
                  <a:lnTo>
                    <a:pt x="50" y="104"/>
                  </a:lnTo>
                  <a:lnTo>
                    <a:pt x="48" y="113"/>
                  </a:lnTo>
                  <a:lnTo>
                    <a:pt x="47" y="121"/>
                  </a:lnTo>
                  <a:lnTo>
                    <a:pt x="46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76680" y="2898720"/>
              <a:ext cx="31680" cy="81000"/>
            </a:xfrm>
            <a:custGeom>
              <a:avLst/>
              <a:gdLst/>
              <a:ahLst/>
              <a:rect l="l" t="t" r="r" b="b"/>
              <a:pathLst>
                <a:path w="122" h="418">
                  <a:moveTo>
                    <a:pt x="116" y="366"/>
                  </a:moveTo>
                  <a:lnTo>
                    <a:pt x="122" y="413"/>
                  </a:lnTo>
                  <a:lnTo>
                    <a:pt x="118" y="414"/>
                  </a:lnTo>
                  <a:lnTo>
                    <a:pt x="114" y="415"/>
                  </a:lnTo>
                  <a:lnTo>
                    <a:pt x="110" y="416"/>
                  </a:lnTo>
                  <a:lnTo>
                    <a:pt x="106" y="416"/>
                  </a:lnTo>
                  <a:lnTo>
                    <a:pt x="102" y="416"/>
                  </a:lnTo>
                  <a:lnTo>
                    <a:pt x="98" y="418"/>
                  </a:lnTo>
                  <a:lnTo>
                    <a:pt x="94" y="418"/>
                  </a:lnTo>
                  <a:lnTo>
                    <a:pt x="90" y="418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6"/>
                  </a:lnTo>
                  <a:lnTo>
                    <a:pt x="70" y="415"/>
                  </a:lnTo>
                  <a:lnTo>
                    <a:pt x="65" y="414"/>
                  </a:lnTo>
                  <a:lnTo>
                    <a:pt x="61" y="413"/>
                  </a:lnTo>
                  <a:lnTo>
                    <a:pt x="58" y="410"/>
                  </a:lnTo>
                  <a:lnTo>
                    <a:pt x="55" y="409"/>
                  </a:lnTo>
                  <a:lnTo>
                    <a:pt x="52" y="406"/>
                  </a:lnTo>
                  <a:lnTo>
                    <a:pt x="49" y="404"/>
                  </a:lnTo>
                  <a:lnTo>
                    <a:pt x="46" y="401"/>
                  </a:lnTo>
                  <a:lnTo>
                    <a:pt x="44" y="398"/>
                  </a:lnTo>
                  <a:lnTo>
                    <a:pt x="42" y="395"/>
                  </a:lnTo>
                  <a:lnTo>
                    <a:pt x="40" y="391"/>
                  </a:lnTo>
                  <a:lnTo>
                    <a:pt x="38" y="389"/>
                  </a:lnTo>
                  <a:lnTo>
                    <a:pt x="37" y="385"/>
                  </a:lnTo>
                  <a:lnTo>
                    <a:pt x="36" y="381"/>
                  </a:lnTo>
                  <a:lnTo>
                    <a:pt x="35" y="375"/>
                  </a:lnTo>
                  <a:lnTo>
                    <a:pt x="34" y="369"/>
                  </a:lnTo>
                  <a:lnTo>
                    <a:pt x="33" y="363"/>
                  </a:lnTo>
                  <a:lnTo>
                    <a:pt x="33" y="354"/>
                  </a:lnTo>
                  <a:lnTo>
                    <a:pt x="32" y="345"/>
                  </a:lnTo>
                  <a:lnTo>
                    <a:pt x="32" y="335"/>
                  </a:lnTo>
                  <a:lnTo>
                    <a:pt x="32" y="324"/>
                  </a:lnTo>
                  <a:lnTo>
                    <a:pt x="32" y="147"/>
                  </a:lnTo>
                  <a:lnTo>
                    <a:pt x="0" y="147"/>
                  </a:lnTo>
                  <a:lnTo>
                    <a:pt x="0" y="107"/>
                  </a:lnTo>
                  <a:lnTo>
                    <a:pt x="32" y="107"/>
                  </a:lnTo>
                  <a:lnTo>
                    <a:pt x="32" y="31"/>
                  </a:lnTo>
                  <a:lnTo>
                    <a:pt x="73" y="0"/>
                  </a:lnTo>
                  <a:lnTo>
                    <a:pt x="73" y="107"/>
                  </a:lnTo>
                  <a:lnTo>
                    <a:pt x="116" y="107"/>
                  </a:lnTo>
                  <a:lnTo>
                    <a:pt x="116" y="147"/>
                  </a:lnTo>
                  <a:lnTo>
                    <a:pt x="73" y="147"/>
                  </a:lnTo>
                  <a:lnTo>
                    <a:pt x="73" y="327"/>
                  </a:lnTo>
                  <a:lnTo>
                    <a:pt x="73" y="332"/>
                  </a:lnTo>
                  <a:lnTo>
                    <a:pt x="74" y="337"/>
                  </a:lnTo>
                  <a:lnTo>
                    <a:pt x="74" y="342"/>
                  </a:lnTo>
                  <a:lnTo>
                    <a:pt x="74" y="345"/>
                  </a:lnTo>
                  <a:lnTo>
                    <a:pt x="74" y="348"/>
                  </a:lnTo>
                  <a:lnTo>
                    <a:pt x="75" y="352"/>
                  </a:lnTo>
                  <a:lnTo>
                    <a:pt x="75" y="353"/>
                  </a:lnTo>
                  <a:lnTo>
                    <a:pt x="76" y="355"/>
                  </a:lnTo>
                  <a:lnTo>
                    <a:pt x="76" y="357"/>
                  </a:lnTo>
                  <a:lnTo>
                    <a:pt x="77" y="358"/>
                  </a:lnTo>
                  <a:lnTo>
                    <a:pt x="78" y="359"/>
                  </a:lnTo>
                  <a:lnTo>
                    <a:pt x="78" y="360"/>
                  </a:lnTo>
                  <a:lnTo>
                    <a:pt x="79" y="361"/>
                  </a:lnTo>
                  <a:lnTo>
                    <a:pt x="80" y="363"/>
                  </a:lnTo>
                  <a:lnTo>
                    <a:pt x="82" y="364"/>
                  </a:lnTo>
                  <a:lnTo>
                    <a:pt x="83" y="365"/>
                  </a:lnTo>
                  <a:lnTo>
                    <a:pt x="84" y="366"/>
                  </a:lnTo>
                  <a:lnTo>
                    <a:pt x="85" y="366"/>
                  </a:lnTo>
                  <a:lnTo>
                    <a:pt x="87" y="368"/>
                  </a:lnTo>
                  <a:lnTo>
                    <a:pt x="89" y="368"/>
                  </a:lnTo>
                  <a:lnTo>
                    <a:pt x="91" y="369"/>
                  </a:lnTo>
                  <a:lnTo>
                    <a:pt x="94" y="369"/>
                  </a:lnTo>
                  <a:lnTo>
                    <a:pt x="96" y="369"/>
                  </a:lnTo>
                  <a:lnTo>
                    <a:pt x="98" y="369"/>
                  </a:lnTo>
                  <a:lnTo>
                    <a:pt x="100" y="369"/>
                  </a:lnTo>
                  <a:lnTo>
                    <a:pt x="102" y="369"/>
                  </a:lnTo>
                  <a:lnTo>
                    <a:pt x="104" y="369"/>
                  </a:lnTo>
                  <a:lnTo>
                    <a:pt x="106" y="369"/>
                  </a:lnTo>
                  <a:lnTo>
                    <a:pt x="108" y="368"/>
                  </a:lnTo>
                  <a:lnTo>
                    <a:pt x="111" y="368"/>
                  </a:lnTo>
                  <a:lnTo>
                    <a:pt x="114" y="368"/>
                  </a:lnTo>
                  <a:lnTo>
                    <a:pt x="116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11960" y="2898720"/>
              <a:ext cx="31680" cy="81000"/>
            </a:xfrm>
            <a:custGeom>
              <a:avLst/>
              <a:gdLst/>
              <a:ahLst/>
              <a:rect l="l" t="t" r="r" b="b"/>
              <a:pathLst>
                <a:path w="122" h="418">
                  <a:moveTo>
                    <a:pt x="116" y="366"/>
                  </a:moveTo>
                  <a:lnTo>
                    <a:pt x="122" y="413"/>
                  </a:lnTo>
                  <a:lnTo>
                    <a:pt x="118" y="414"/>
                  </a:lnTo>
                  <a:lnTo>
                    <a:pt x="114" y="415"/>
                  </a:lnTo>
                  <a:lnTo>
                    <a:pt x="110" y="416"/>
                  </a:lnTo>
                  <a:lnTo>
                    <a:pt x="106" y="416"/>
                  </a:lnTo>
                  <a:lnTo>
                    <a:pt x="101" y="416"/>
                  </a:lnTo>
                  <a:lnTo>
                    <a:pt x="97" y="418"/>
                  </a:lnTo>
                  <a:lnTo>
                    <a:pt x="93" y="418"/>
                  </a:lnTo>
                  <a:lnTo>
                    <a:pt x="90" y="418"/>
                  </a:lnTo>
                  <a:lnTo>
                    <a:pt x="84" y="418"/>
                  </a:lnTo>
                  <a:lnTo>
                    <a:pt x="79" y="418"/>
                  </a:lnTo>
                  <a:lnTo>
                    <a:pt x="74" y="416"/>
                  </a:lnTo>
                  <a:lnTo>
                    <a:pt x="70" y="415"/>
                  </a:lnTo>
                  <a:lnTo>
                    <a:pt x="65" y="414"/>
                  </a:lnTo>
                  <a:lnTo>
                    <a:pt x="61" y="413"/>
                  </a:lnTo>
                  <a:lnTo>
                    <a:pt x="58" y="410"/>
                  </a:lnTo>
                  <a:lnTo>
                    <a:pt x="55" y="409"/>
                  </a:lnTo>
                  <a:lnTo>
                    <a:pt x="51" y="406"/>
                  </a:lnTo>
                  <a:lnTo>
                    <a:pt x="49" y="404"/>
                  </a:lnTo>
                  <a:lnTo>
                    <a:pt x="46" y="401"/>
                  </a:lnTo>
                  <a:lnTo>
                    <a:pt x="44" y="398"/>
                  </a:lnTo>
                  <a:lnTo>
                    <a:pt x="42" y="395"/>
                  </a:lnTo>
                  <a:lnTo>
                    <a:pt x="40" y="391"/>
                  </a:lnTo>
                  <a:lnTo>
                    <a:pt x="38" y="389"/>
                  </a:lnTo>
                  <a:lnTo>
                    <a:pt x="37" y="385"/>
                  </a:lnTo>
                  <a:lnTo>
                    <a:pt x="36" y="381"/>
                  </a:lnTo>
                  <a:lnTo>
                    <a:pt x="35" y="375"/>
                  </a:lnTo>
                  <a:lnTo>
                    <a:pt x="34" y="369"/>
                  </a:lnTo>
                  <a:lnTo>
                    <a:pt x="33" y="363"/>
                  </a:lnTo>
                  <a:lnTo>
                    <a:pt x="33" y="354"/>
                  </a:lnTo>
                  <a:lnTo>
                    <a:pt x="32" y="345"/>
                  </a:lnTo>
                  <a:lnTo>
                    <a:pt x="32" y="335"/>
                  </a:lnTo>
                  <a:lnTo>
                    <a:pt x="32" y="324"/>
                  </a:lnTo>
                  <a:lnTo>
                    <a:pt x="32" y="147"/>
                  </a:lnTo>
                  <a:lnTo>
                    <a:pt x="0" y="147"/>
                  </a:lnTo>
                  <a:lnTo>
                    <a:pt x="0" y="107"/>
                  </a:lnTo>
                  <a:lnTo>
                    <a:pt x="32" y="107"/>
                  </a:lnTo>
                  <a:lnTo>
                    <a:pt x="32" y="31"/>
                  </a:lnTo>
                  <a:lnTo>
                    <a:pt x="73" y="0"/>
                  </a:lnTo>
                  <a:lnTo>
                    <a:pt x="73" y="107"/>
                  </a:lnTo>
                  <a:lnTo>
                    <a:pt x="116" y="107"/>
                  </a:lnTo>
                  <a:lnTo>
                    <a:pt x="116" y="147"/>
                  </a:lnTo>
                  <a:lnTo>
                    <a:pt x="73" y="147"/>
                  </a:lnTo>
                  <a:lnTo>
                    <a:pt x="73" y="327"/>
                  </a:lnTo>
                  <a:lnTo>
                    <a:pt x="73" y="332"/>
                  </a:lnTo>
                  <a:lnTo>
                    <a:pt x="73" y="337"/>
                  </a:lnTo>
                  <a:lnTo>
                    <a:pt x="74" y="342"/>
                  </a:lnTo>
                  <a:lnTo>
                    <a:pt x="74" y="345"/>
                  </a:lnTo>
                  <a:lnTo>
                    <a:pt x="74" y="348"/>
                  </a:lnTo>
                  <a:lnTo>
                    <a:pt x="75" y="352"/>
                  </a:lnTo>
                  <a:lnTo>
                    <a:pt x="75" y="353"/>
                  </a:lnTo>
                  <a:lnTo>
                    <a:pt x="75" y="355"/>
                  </a:lnTo>
                  <a:lnTo>
                    <a:pt x="76" y="357"/>
                  </a:lnTo>
                  <a:lnTo>
                    <a:pt x="77" y="358"/>
                  </a:lnTo>
                  <a:lnTo>
                    <a:pt x="78" y="359"/>
                  </a:lnTo>
                  <a:lnTo>
                    <a:pt x="78" y="360"/>
                  </a:lnTo>
                  <a:lnTo>
                    <a:pt x="79" y="361"/>
                  </a:lnTo>
                  <a:lnTo>
                    <a:pt x="80" y="363"/>
                  </a:lnTo>
                  <a:lnTo>
                    <a:pt x="81" y="364"/>
                  </a:lnTo>
                  <a:lnTo>
                    <a:pt x="83" y="365"/>
                  </a:lnTo>
                  <a:lnTo>
                    <a:pt x="84" y="366"/>
                  </a:lnTo>
                  <a:lnTo>
                    <a:pt x="85" y="366"/>
                  </a:lnTo>
                  <a:lnTo>
                    <a:pt x="87" y="368"/>
                  </a:lnTo>
                  <a:lnTo>
                    <a:pt x="89" y="368"/>
                  </a:lnTo>
                  <a:lnTo>
                    <a:pt x="91" y="369"/>
                  </a:lnTo>
                  <a:lnTo>
                    <a:pt x="93" y="369"/>
                  </a:lnTo>
                  <a:lnTo>
                    <a:pt x="95" y="369"/>
                  </a:lnTo>
                  <a:lnTo>
                    <a:pt x="97" y="369"/>
                  </a:lnTo>
                  <a:lnTo>
                    <a:pt x="99" y="369"/>
                  </a:lnTo>
                  <a:lnTo>
                    <a:pt x="101" y="369"/>
                  </a:lnTo>
                  <a:lnTo>
                    <a:pt x="104" y="369"/>
                  </a:lnTo>
                  <a:lnTo>
                    <a:pt x="106" y="369"/>
                  </a:lnTo>
                  <a:lnTo>
                    <a:pt x="108" y="368"/>
                  </a:lnTo>
                  <a:lnTo>
                    <a:pt x="111" y="368"/>
                  </a:lnTo>
                  <a:lnTo>
                    <a:pt x="113" y="368"/>
                  </a:lnTo>
                  <a:lnTo>
                    <a:pt x="116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948320" y="2918160"/>
              <a:ext cx="60840" cy="62280"/>
            </a:xfrm>
            <a:custGeom>
              <a:avLst/>
              <a:gdLst/>
              <a:ahLst/>
              <a:rect l="l" t="t" r="r" b="b"/>
              <a:pathLst>
                <a:path w="233" h="321">
                  <a:moveTo>
                    <a:pt x="0" y="161"/>
                  </a:moveTo>
                  <a:lnTo>
                    <a:pt x="0" y="140"/>
                  </a:lnTo>
                  <a:lnTo>
                    <a:pt x="2" y="121"/>
                  </a:lnTo>
                  <a:lnTo>
                    <a:pt x="5" y="103"/>
                  </a:lnTo>
                  <a:lnTo>
                    <a:pt x="9" y="87"/>
                  </a:lnTo>
                  <a:lnTo>
                    <a:pt x="14" y="72"/>
                  </a:lnTo>
                  <a:lnTo>
                    <a:pt x="21" y="58"/>
                  </a:lnTo>
                  <a:lnTo>
                    <a:pt x="29" y="45"/>
                  </a:lnTo>
                  <a:lnTo>
                    <a:pt x="39" y="34"/>
                  </a:lnTo>
                  <a:lnTo>
                    <a:pt x="47" y="27"/>
                  </a:lnTo>
                  <a:lnTo>
                    <a:pt x="55" y="19"/>
                  </a:lnTo>
                  <a:lnTo>
                    <a:pt x="64" y="14"/>
                  </a:lnTo>
                  <a:lnTo>
                    <a:pt x="74" y="9"/>
                  </a:lnTo>
                  <a:lnTo>
                    <a:pt x="84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9" y="2"/>
                  </a:lnTo>
                  <a:lnTo>
                    <a:pt x="141" y="3"/>
                  </a:lnTo>
                  <a:lnTo>
                    <a:pt x="152" y="7"/>
                  </a:lnTo>
                  <a:lnTo>
                    <a:pt x="163" y="10"/>
                  </a:lnTo>
                  <a:lnTo>
                    <a:pt x="173" y="17"/>
                  </a:lnTo>
                  <a:lnTo>
                    <a:pt x="184" y="24"/>
                  </a:lnTo>
                  <a:lnTo>
                    <a:pt x="193" y="33"/>
                  </a:lnTo>
                  <a:lnTo>
                    <a:pt x="201" y="42"/>
                  </a:lnTo>
                  <a:lnTo>
                    <a:pt x="208" y="53"/>
                  </a:lnTo>
                  <a:lnTo>
                    <a:pt x="215" y="65"/>
                  </a:lnTo>
                  <a:lnTo>
                    <a:pt x="221" y="78"/>
                  </a:lnTo>
                  <a:lnTo>
                    <a:pt x="225" y="92"/>
                  </a:lnTo>
                  <a:lnTo>
                    <a:pt x="229" y="107"/>
                  </a:lnTo>
                  <a:lnTo>
                    <a:pt x="231" y="121"/>
                  </a:lnTo>
                  <a:lnTo>
                    <a:pt x="233" y="139"/>
                  </a:lnTo>
                  <a:lnTo>
                    <a:pt x="233" y="156"/>
                  </a:lnTo>
                  <a:lnTo>
                    <a:pt x="233" y="171"/>
                  </a:lnTo>
                  <a:lnTo>
                    <a:pt x="232" y="185"/>
                  </a:lnTo>
                  <a:lnTo>
                    <a:pt x="231" y="198"/>
                  </a:lnTo>
                  <a:lnTo>
                    <a:pt x="230" y="210"/>
                  </a:lnTo>
                  <a:lnTo>
                    <a:pt x="228" y="221"/>
                  </a:lnTo>
                  <a:lnTo>
                    <a:pt x="225" y="231"/>
                  </a:lnTo>
                  <a:lnTo>
                    <a:pt x="222" y="241"/>
                  </a:lnTo>
                  <a:lnTo>
                    <a:pt x="219" y="250"/>
                  </a:lnTo>
                  <a:lnTo>
                    <a:pt x="215" y="259"/>
                  </a:lnTo>
                  <a:lnTo>
                    <a:pt x="211" y="266"/>
                  </a:lnTo>
                  <a:lnTo>
                    <a:pt x="206" y="274"/>
                  </a:lnTo>
                  <a:lnTo>
                    <a:pt x="201" y="280"/>
                  </a:lnTo>
                  <a:lnTo>
                    <a:pt x="196" y="286"/>
                  </a:lnTo>
                  <a:lnTo>
                    <a:pt x="190" y="292"/>
                  </a:lnTo>
                  <a:lnTo>
                    <a:pt x="184" y="297"/>
                  </a:lnTo>
                  <a:lnTo>
                    <a:pt x="176" y="302"/>
                  </a:lnTo>
                  <a:lnTo>
                    <a:pt x="170" y="307"/>
                  </a:lnTo>
                  <a:lnTo>
                    <a:pt x="162" y="311"/>
                  </a:lnTo>
                  <a:lnTo>
                    <a:pt x="155" y="314"/>
                  </a:lnTo>
                  <a:lnTo>
                    <a:pt x="148" y="317"/>
                  </a:lnTo>
                  <a:lnTo>
                    <a:pt x="140" y="319"/>
                  </a:lnTo>
                  <a:lnTo>
                    <a:pt x="133" y="320"/>
                  </a:lnTo>
                  <a:lnTo>
                    <a:pt x="125" y="321"/>
                  </a:lnTo>
                  <a:lnTo>
                    <a:pt x="117" y="321"/>
                  </a:lnTo>
                  <a:lnTo>
                    <a:pt x="103" y="321"/>
                  </a:lnTo>
                  <a:lnTo>
                    <a:pt x="91" y="319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9" y="305"/>
                  </a:lnTo>
                  <a:lnTo>
                    <a:pt x="50" y="299"/>
                  </a:lnTo>
                  <a:lnTo>
                    <a:pt x="41" y="290"/>
                  </a:lnTo>
                  <a:lnTo>
                    <a:pt x="31" y="280"/>
                  </a:lnTo>
                  <a:lnTo>
                    <a:pt x="24" y="269"/>
                  </a:lnTo>
                  <a:lnTo>
                    <a:pt x="17" y="258"/>
                  </a:lnTo>
                  <a:lnTo>
                    <a:pt x="12" y="244"/>
                  </a:lnTo>
                  <a:lnTo>
                    <a:pt x="8" y="230"/>
                  </a:lnTo>
                  <a:lnTo>
                    <a:pt x="4" y="214"/>
                  </a:lnTo>
                  <a:lnTo>
                    <a:pt x="2" y="198"/>
                  </a:lnTo>
                  <a:lnTo>
                    <a:pt x="0" y="180"/>
                  </a:lnTo>
                  <a:lnTo>
                    <a:pt x="0" y="161"/>
                  </a:lnTo>
                  <a:close/>
                  <a:moveTo>
                    <a:pt x="43" y="161"/>
                  </a:moveTo>
                  <a:lnTo>
                    <a:pt x="44" y="175"/>
                  </a:lnTo>
                  <a:lnTo>
                    <a:pt x="45" y="189"/>
                  </a:lnTo>
                  <a:lnTo>
                    <a:pt x="46" y="201"/>
                  </a:lnTo>
                  <a:lnTo>
                    <a:pt x="49" y="213"/>
                  </a:lnTo>
                  <a:lnTo>
                    <a:pt x="51" y="223"/>
                  </a:lnTo>
                  <a:lnTo>
                    <a:pt x="55" y="233"/>
                  </a:lnTo>
                  <a:lnTo>
                    <a:pt x="59" y="241"/>
                  </a:lnTo>
                  <a:lnTo>
                    <a:pt x="64" y="249"/>
                  </a:lnTo>
                  <a:lnTo>
                    <a:pt x="69" y="256"/>
                  </a:lnTo>
                  <a:lnTo>
                    <a:pt x="75" y="262"/>
                  </a:lnTo>
                  <a:lnTo>
                    <a:pt x="81" y="267"/>
                  </a:lnTo>
                  <a:lnTo>
                    <a:pt x="87" y="271"/>
                  </a:lnTo>
                  <a:lnTo>
                    <a:pt x="94" y="275"/>
                  </a:lnTo>
                  <a:lnTo>
                    <a:pt x="101" y="277"/>
                  </a:lnTo>
                  <a:lnTo>
                    <a:pt x="109" y="279"/>
                  </a:lnTo>
                  <a:lnTo>
                    <a:pt x="117" y="279"/>
                  </a:lnTo>
                  <a:lnTo>
                    <a:pt x="125" y="279"/>
                  </a:lnTo>
                  <a:lnTo>
                    <a:pt x="132" y="277"/>
                  </a:lnTo>
                  <a:lnTo>
                    <a:pt x="139" y="275"/>
                  </a:lnTo>
                  <a:lnTo>
                    <a:pt x="145" y="271"/>
                  </a:lnTo>
                  <a:lnTo>
                    <a:pt x="152" y="267"/>
                  </a:lnTo>
                  <a:lnTo>
                    <a:pt x="158" y="262"/>
                  </a:lnTo>
                  <a:lnTo>
                    <a:pt x="163" y="256"/>
                  </a:lnTo>
                  <a:lnTo>
                    <a:pt x="169" y="249"/>
                  </a:lnTo>
                  <a:lnTo>
                    <a:pt x="174" y="241"/>
                  </a:lnTo>
                  <a:lnTo>
                    <a:pt x="178" y="233"/>
                  </a:lnTo>
                  <a:lnTo>
                    <a:pt x="182" y="223"/>
                  </a:lnTo>
                  <a:lnTo>
                    <a:pt x="185" y="213"/>
                  </a:lnTo>
                  <a:lnTo>
                    <a:pt x="187" y="200"/>
                  </a:lnTo>
                  <a:lnTo>
                    <a:pt x="189" y="188"/>
                  </a:lnTo>
                  <a:lnTo>
                    <a:pt x="190" y="174"/>
                  </a:lnTo>
                  <a:lnTo>
                    <a:pt x="190" y="159"/>
                  </a:lnTo>
                  <a:lnTo>
                    <a:pt x="190" y="145"/>
                  </a:lnTo>
                  <a:lnTo>
                    <a:pt x="189" y="133"/>
                  </a:lnTo>
                  <a:lnTo>
                    <a:pt x="187" y="120"/>
                  </a:lnTo>
                  <a:lnTo>
                    <a:pt x="185" y="109"/>
                  </a:lnTo>
                  <a:lnTo>
                    <a:pt x="182" y="99"/>
                  </a:lnTo>
                  <a:lnTo>
                    <a:pt x="178" y="89"/>
                  </a:lnTo>
                  <a:lnTo>
                    <a:pt x="173" y="80"/>
                  </a:lnTo>
                  <a:lnTo>
                    <a:pt x="169" y="73"/>
                  </a:lnTo>
                  <a:lnTo>
                    <a:pt x="163" y="67"/>
                  </a:lnTo>
                  <a:lnTo>
                    <a:pt x="158" y="60"/>
                  </a:lnTo>
                  <a:lnTo>
                    <a:pt x="152" y="55"/>
                  </a:lnTo>
                  <a:lnTo>
                    <a:pt x="145" y="50"/>
                  </a:lnTo>
                  <a:lnTo>
                    <a:pt x="139" y="48"/>
                  </a:lnTo>
                  <a:lnTo>
                    <a:pt x="132" y="45"/>
                  </a:lnTo>
                  <a:lnTo>
                    <a:pt x="125" y="44"/>
                  </a:lnTo>
                  <a:lnTo>
                    <a:pt x="117" y="44"/>
                  </a:lnTo>
                  <a:lnTo>
                    <a:pt x="109" y="44"/>
                  </a:lnTo>
                  <a:lnTo>
                    <a:pt x="101" y="45"/>
                  </a:lnTo>
                  <a:lnTo>
                    <a:pt x="94" y="48"/>
                  </a:lnTo>
                  <a:lnTo>
                    <a:pt x="87" y="50"/>
                  </a:lnTo>
                  <a:lnTo>
                    <a:pt x="81" y="55"/>
                  </a:lnTo>
                  <a:lnTo>
                    <a:pt x="75" y="60"/>
                  </a:lnTo>
                  <a:lnTo>
                    <a:pt x="69" y="67"/>
                  </a:lnTo>
                  <a:lnTo>
                    <a:pt x="64" y="73"/>
                  </a:lnTo>
                  <a:lnTo>
                    <a:pt x="59" y="80"/>
                  </a:lnTo>
                  <a:lnTo>
                    <a:pt x="55" y="89"/>
                  </a:lnTo>
                  <a:lnTo>
                    <a:pt x="51" y="99"/>
                  </a:lnTo>
                  <a:lnTo>
                    <a:pt x="49" y="109"/>
                  </a:lnTo>
                  <a:lnTo>
                    <a:pt x="46" y="121"/>
                  </a:lnTo>
                  <a:lnTo>
                    <a:pt x="45" y="134"/>
                  </a:lnTo>
                  <a:lnTo>
                    <a:pt x="44" y="146"/>
                  </a:lnTo>
                  <a:lnTo>
                    <a:pt x="43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27320" y="2355840"/>
              <a:ext cx="92880" cy="246240"/>
            </a:xfrm>
            <a:custGeom>
              <a:avLst/>
              <a:gdLst/>
              <a:ahLst/>
              <a:rect l="l" t="t" r="r" b="b"/>
              <a:pathLst>
                <a:path w="357" h="1264">
                  <a:moveTo>
                    <a:pt x="331" y="10"/>
                  </a:moveTo>
                  <a:lnTo>
                    <a:pt x="303" y="0"/>
                  </a:lnTo>
                  <a:lnTo>
                    <a:pt x="0" y="1244"/>
                  </a:lnTo>
                  <a:lnTo>
                    <a:pt x="54" y="1264"/>
                  </a:lnTo>
                  <a:lnTo>
                    <a:pt x="357" y="19"/>
                  </a:lnTo>
                  <a:lnTo>
                    <a:pt x="33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68720" y="2282400"/>
              <a:ext cx="85680" cy="91080"/>
            </a:xfrm>
            <a:custGeom>
              <a:avLst/>
              <a:gdLst/>
              <a:ahLst/>
              <a:rect l="l" t="t" r="r" b="b"/>
              <a:pathLst>
                <a:path w="330" h="467">
                  <a:moveTo>
                    <a:pt x="264" y="0"/>
                  </a:moveTo>
                  <a:lnTo>
                    <a:pt x="0" y="346"/>
                  </a:lnTo>
                  <a:lnTo>
                    <a:pt x="330" y="467"/>
                  </a:lnTo>
                  <a:lnTo>
                    <a:pt x="264" y="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54560" y="2485440"/>
              <a:ext cx="60120" cy="5652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104" y="283"/>
                  </a:moveTo>
                  <a:lnTo>
                    <a:pt x="116" y="243"/>
                  </a:lnTo>
                  <a:lnTo>
                    <a:pt x="120" y="245"/>
                  </a:lnTo>
                  <a:lnTo>
                    <a:pt x="124" y="246"/>
                  </a:lnTo>
                  <a:lnTo>
                    <a:pt x="127" y="246"/>
                  </a:lnTo>
                  <a:lnTo>
                    <a:pt x="131" y="247"/>
                  </a:lnTo>
                  <a:lnTo>
                    <a:pt x="134" y="246"/>
                  </a:lnTo>
                  <a:lnTo>
                    <a:pt x="138" y="246"/>
                  </a:lnTo>
                  <a:lnTo>
                    <a:pt x="141" y="246"/>
                  </a:lnTo>
                  <a:lnTo>
                    <a:pt x="144" y="245"/>
                  </a:lnTo>
                  <a:lnTo>
                    <a:pt x="147" y="243"/>
                  </a:lnTo>
                  <a:lnTo>
                    <a:pt x="151" y="241"/>
                  </a:lnTo>
                  <a:lnTo>
                    <a:pt x="154" y="238"/>
                  </a:lnTo>
                  <a:lnTo>
                    <a:pt x="157" y="236"/>
                  </a:lnTo>
                  <a:lnTo>
                    <a:pt x="160" y="233"/>
                  </a:lnTo>
                  <a:lnTo>
                    <a:pt x="164" y="230"/>
                  </a:lnTo>
                  <a:lnTo>
                    <a:pt x="168" y="226"/>
                  </a:lnTo>
                  <a:lnTo>
                    <a:pt x="171" y="222"/>
                  </a:lnTo>
                  <a:lnTo>
                    <a:pt x="175" y="217"/>
                  </a:lnTo>
                  <a:lnTo>
                    <a:pt x="178" y="212"/>
                  </a:lnTo>
                  <a:lnTo>
                    <a:pt x="181" y="207"/>
                  </a:lnTo>
                  <a:lnTo>
                    <a:pt x="184" y="202"/>
                  </a:lnTo>
                  <a:lnTo>
                    <a:pt x="186" y="196"/>
                  </a:lnTo>
                  <a:lnTo>
                    <a:pt x="189" y="190"/>
                  </a:lnTo>
                  <a:lnTo>
                    <a:pt x="192" y="185"/>
                  </a:lnTo>
                  <a:lnTo>
                    <a:pt x="194" y="177"/>
                  </a:lnTo>
                  <a:lnTo>
                    <a:pt x="196" y="172"/>
                  </a:lnTo>
                  <a:lnTo>
                    <a:pt x="198" y="166"/>
                  </a:lnTo>
                  <a:lnTo>
                    <a:pt x="200" y="161"/>
                  </a:lnTo>
                  <a:lnTo>
                    <a:pt x="201" y="155"/>
                  </a:lnTo>
                  <a:lnTo>
                    <a:pt x="202" y="150"/>
                  </a:lnTo>
                  <a:lnTo>
                    <a:pt x="203" y="145"/>
                  </a:lnTo>
                  <a:lnTo>
                    <a:pt x="204" y="140"/>
                  </a:lnTo>
                  <a:lnTo>
                    <a:pt x="205" y="135"/>
                  </a:lnTo>
                  <a:lnTo>
                    <a:pt x="205" y="130"/>
                  </a:lnTo>
                  <a:lnTo>
                    <a:pt x="206" y="125"/>
                  </a:lnTo>
                  <a:lnTo>
                    <a:pt x="206" y="120"/>
                  </a:lnTo>
                  <a:lnTo>
                    <a:pt x="206" y="116"/>
                  </a:lnTo>
                  <a:lnTo>
                    <a:pt x="205" y="112"/>
                  </a:lnTo>
                  <a:lnTo>
                    <a:pt x="205" y="107"/>
                  </a:lnTo>
                  <a:lnTo>
                    <a:pt x="204" y="105"/>
                  </a:lnTo>
                  <a:lnTo>
                    <a:pt x="203" y="101"/>
                  </a:lnTo>
                  <a:lnTo>
                    <a:pt x="202" y="97"/>
                  </a:lnTo>
                  <a:lnTo>
                    <a:pt x="201" y="95"/>
                  </a:lnTo>
                  <a:lnTo>
                    <a:pt x="199" y="92"/>
                  </a:lnTo>
                  <a:lnTo>
                    <a:pt x="198" y="90"/>
                  </a:lnTo>
                  <a:lnTo>
                    <a:pt x="196" y="87"/>
                  </a:lnTo>
                  <a:lnTo>
                    <a:pt x="194" y="86"/>
                  </a:lnTo>
                  <a:lnTo>
                    <a:pt x="192" y="85"/>
                  </a:lnTo>
                  <a:lnTo>
                    <a:pt x="190" y="84"/>
                  </a:lnTo>
                  <a:lnTo>
                    <a:pt x="188" y="82"/>
                  </a:lnTo>
                  <a:lnTo>
                    <a:pt x="186" y="81"/>
                  </a:lnTo>
                  <a:lnTo>
                    <a:pt x="183" y="81"/>
                  </a:lnTo>
                  <a:lnTo>
                    <a:pt x="181" y="80"/>
                  </a:lnTo>
                  <a:lnTo>
                    <a:pt x="179" y="80"/>
                  </a:lnTo>
                  <a:lnTo>
                    <a:pt x="176" y="81"/>
                  </a:lnTo>
                  <a:lnTo>
                    <a:pt x="174" y="81"/>
                  </a:lnTo>
                  <a:lnTo>
                    <a:pt x="171" y="82"/>
                  </a:lnTo>
                  <a:lnTo>
                    <a:pt x="169" y="84"/>
                  </a:lnTo>
                  <a:lnTo>
                    <a:pt x="166" y="86"/>
                  </a:lnTo>
                  <a:lnTo>
                    <a:pt x="163" y="87"/>
                  </a:lnTo>
                  <a:lnTo>
                    <a:pt x="160" y="90"/>
                  </a:lnTo>
                  <a:lnTo>
                    <a:pt x="158" y="94"/>
                  </a:lnTo>
                  <a:lnTo>
                    <a:pt x="155" y="96"/>
                  </a:lnTo>
                  <a:lnTo>
                    <a:pt x="152" y="100"/>
                  </a:lnTo>
                  <a:lnTo>
                    <a:pt x="149" y="104"/>
                  </a:lnTo>
                  <a:lnTo>
                    <a:pt x="147" y="107"/>
                  </a:lnTo>
                  <a:lnTo>
                    <a:pt x="145" y="111"/>
                  </a:lnTo>
                  <a:lnTo>
                    <a:pt x="142" y="116"/>
                  </a:lnTo>
                  <a:lnTo>
                    <a:pt x="138" y="121"/>
                  </a:lnTo>
                  <a:lnTo>
                    <a:pt x="134" y="129"/>
                  </a:lnTo>
                  <a:lnTo>
                    <a:pt x="130" y="136"/>
                  </a:lnTo>
                  <a:lnTo>
                    <a:pt x="125" y="145"/>
                  </a:lnTo>
                  <a:lnTo>
                    <a:pt x="120" y="154"/>
                  </a:lnTo>
                  <a:lnTo>
                    <a:pt x="115" y="162"/>
                  </a:lnTo>
                  <a:lnTo>
                    <a:pt x="110" y="171"/>
                  </a:lnTo>
                  <a:lnTo>
                    <a:pt x="105" y="178"/>
                  </a:lnTo>
                  <a:lnTo>
                    <a:pt x="101" y="186"/>
                  </a:lnTo>
                  <a:lnTo>
                    <a:pt x="97" y="192"/>
                  </a:lnTo>
                  <a:lnTo>
                    <a:pt x="92" y="197"/>
                  </a:lnTo>
                  <a:lnTo>
                    <a:pt x="88" y="202"/>
                  </a:lnTo>
                  <a:lnTo>
                    <a:pt x="85" y="206"/>
                  </a:lnTo>
                  <a:lnTo>
                    <a:pt x="82" y="211"/>
                  </a:lnTo>
                  <a:lnTo>
                    <a:pt x="78" y="215"/>
                  </a:lnTo>
                  <a:lnTo>
                    <a:pt x="74" y="217"/>
                  </a:lnTo>
                  <a:lnTo>
                    <a:pt x="70" y="221"/>
                  </a:lnTo>
                  <a:lnTo>
                    <a:pt x="67" y="223"/>
                  </a:lnTo>
                  <a:lnTo>
                    <a:pt x="63" y="226"/>
                  </a:lnTo>
                  <a:lnTo>
                    <a:pt x="59" y="227"/>
                  </a:lnTo>
                  <a:lnTo>
                    <a:pt x="56" y="228"/>
                  </a:lnTo>
                  <a:lnTo>
                    <a:pt x="52" y="230"/>
                  </a:lnTo>
                  <a:lnTo>
                    <a:pt x="49" y="231"/>
                  </a:lnTo>
                  <a:lnTo>
                    <a:pt x="45" y="231"/>
                  </a:lnTo>
                  <a:lnTo>
                    <a:pt x="42" y="231"/>
                  </a:lnTo>
                  <a:lnTo>
                    <a:pt x="38" y="230"/>
                  </a:lnTo>
                  <a:lnTo>
                    <a:pt x="35" y="230"/>
                  </a:lnTo>
                  <a:lnTo>
                    <a:pt x="32" y="228"/>
                  </a:lnTo>
                  <a:lnTo>
                    <a:pt x="28" y="226"/>
                  </a:lnTo>
                  <a:lnTo>
                    <a:pt x="25" y="225"/>
                  </a:lnTo>
                  <a:lnTo>
                    <a:pt x="21" y="221"/>
                  </a:lnTo>
                  <a:lnTo>
                    <a:pt x="18" y="218"/>
                  </a:lnTo>
                  <a:lnTo>
                    <a:pt x="15" y="215"/>
                  </a:lnTo>
                  <a:lnTo>
                    <a:pt x="12" y="211"/>
                  </a:lnTo>
                  <a:lnTo>
                    <a:pt x="10" y="207"/>
                  </a:lnTo>
                  <a:lnTo>
                    <a:pt x="7" y="202"/>
                  </a:lnTo>
                  <a:lnTo>
                    <a:pt x="5" y="198"/>
                  </a:lnTo>
                  <a:lnTo>
                    <a:pt x="4" y="192"/>
                  </a:lnTo>
                  <a:lnTo>
                    <a:pt x="2" y="187"/>
                  </a:lnTo>
                  <a:lnTo>
                    <a:pt x="1" y="181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49"/>
                  </a:lnTo>
                  <a:lnTo>
                    <a:pt x="2" y="141"/>
                  </a:lnTo>
                  <a:lnTo>
                    <a:pt x="3" y="134"/>
                  </a:lnTo>
                  <a:lnTo>
                    <a:pt x="4" y="126"/>
                  </a:lnTo>
                  <a:lnTo>
                    <a:pt x="6" y="119"/>
                  </a:lnTo>
                  <a:lnTo>
                    <a:pt x="8" y="111"/>
                  </a:lnTo>
                  <a:lnTo>
                    <a:pt x="10" y="104"/>
                  </a:lnTo>
                  <a:lnTo>
                    <a:pt x="12" y="96"/>
                  </a:lnTo>
                  <a:lnTo>
                    <a:pt x="15" y="89"/>
                  </a:lnTo>
                  <a:lnTo>
                    <a:pt x="18" y="80"/>
                  </a:lnTo>
                  <a:lnTo>
                    <a:pt x="21" y="72"/>
                  </a:lnTo>
                  <a:lnTo>
                    <a:pt x="26" y="65"/>
                  </a:lnTo>
                  <a:lnTo>
                    <a:pt x="29" y="57"/>
                  </a:lnTo>
                  <a:lnTo>
                    <a:pt x="33" y="50"/>
                  </a:lnTo>
                  <a:lnTo>
                    <a:pt x="37" y="44"/>
                  </a:lnTo>
                  <a:lnTo>
                    <a:pt x="41" y="37"/>
                  </a:lnTo>
                  <a:lnTo>
                    <a:pt x="45" y="32"/>
                  </a:lnTo>
                  <a:lnTo>
                    <a:pt x="49" y="26"/>
                  </a:lnTo>
                  <a:lnTo>
                    <a:pt x="53" y="21"/>
                  </a:lnTo>
                  <a:lnTo>
                    <a:pt x="57" y="17"/>
                  </a:lnTo>
                  <a:lnTo>
                    <a:pt x="62" y="14"/>
                  </a:lnTo>
                  <a:lnTo>
                    <a:pt x="66" y="10"/>
                  </a:lnTo>
                  <a:lnTo>
                    <a:pt x="70" y="8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84" y="1"/>
                  </a:lnTo>
                  <a:lnTo>
                    <a:pt x="88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1"/>
                  </a:lnTo>
                  <a:lnTo>
                    <a:pt x="111" y="3"/>
                  </a:lnTo>
                  <a:lnTo>
                    <a:pt x="116" y="5"/>
                  </a:lnTo>
                  <a:lnTo>
                    <a:pt x="103" y="45"/>
                  </a:lnTo>
                  <a:lnTo>
                    <a:pt x="99" y="44"/>
                  </a:lnTo>
                  <a:lnTo>
                    <a:pt x="93" y="42"/>
                  </a:lnTo>
                  <a:lnTo>
                    <a:pt x="88" y="42"/>
                  </a:lnTo>
                  <a:lnTo>
                    <a:pt x="84" y="42"/>
                  </a:lnTo>
                  <a:lnTo>
                    <a:pt x="80" y="44"/>
                  </a:lnTo>
                  <a:lnTo>
                    <a:pt x="75" y="46"/>
                  </a:lnTo>
                  <a:lnTo>
                    <a:pt x="71" y="47"/>
                  </a:lnTo>
                  <a:lnTo>
                    <a:pt x="67" y="51"/>
                  </a:lnTo>
                  <a:lnTo>
                    <a:pt x="63" y="55"/>
                  </a:lnTo>
                  <a:lnTo>
                    <a:pt x="60" y="59"/>
                  </a:lnTo>
                  <a:lnTo>
                    <a:pt x="56" y="64"/>
                  </a:lnTo>
                  <a:lnTo>
                    <a:pt x="52" y="70"/>
                  </a:lnTo>
                  <a:lnTo>
                    <a:pt x="49" y="76"/>
                  </a:lnTo>
                  <a:lnTo>
                    <a:pt x="45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09"/>
                  </a:lnTo>
                  <a:lnTo>
                    <a:pt x="33" y="117"/>
                  </a:lnTo>
                  <a:lnTo>
                    <a:pt x="31" y="125"/>
                  </a:lnTo>
                  <a:lnTo>
                    <a:pt x="29" y="132"/>
                  </a:lnTo>
                  <a:lnTo>
                    <a:pt x="28" y="140"/>
                  </a:lnTo>
                  <a:lnTo>
                    <a:pt x="27" y="146"/>
                  </a:lnTo>
                  <a:lnTo>
                    <a:pt x="27" y="152"/>
                  </a:lnTo>
                  <a:lnTo>
                    <a:pt x="27" y="157"/>
                  </a:lnTo>
                  <a:lnTo>
                    <a:pt x="28" y="163"/>
                  </a:lnTo>
                  <a:lnTo>
                    <a:pt x="29" y="167"/>
                  </a:lnTo>
                  <a:lnTo>
                    <a:pt x="30" y="172"/>
                  </a:lnTo>
                  <a:lnTo>
                    <a:pt x="32" y="176"/>
                  </a:lnTo>
                  <a:lnTo>
                    <a:pt x="34" y="178"/>
                  </a:lnTo>
                  <a:lnTo>
                    <a:pt x="36" y="182"/>
                  </a:lnTo>
                  <a:lnTo>
                    <a:pt x="38" y="185"/>
                  </a:lnTo>
                  <a:lnTo>
                    <a:pt x="41" y="186"/>
                  </a:lnTo>
                  <a:lnTo>
                    <a:pt x="44" y="187"/>
                  </a:lnTo>
                  <a:lnTo>
                    <a:pt x="46" y="188"/>
                  </a:lnTo>
                  <a:lnTo>
                    <a:pt x="49" y="188"/>
                  </a:lnTo>
                  <a:lnTo>
                    <a:pt x="51" y="188"/>
                  </a:lnTo>
                  <a:lnTo>
                    <a:pt x="54" y="188"/>
                  </a:lnTo>
                  <a:lnTo>
                    <a:pt x="57" y="187"/>
                  </a:lnTo>
                  <a:lnTo>
                    <a:pt x="59" y="186"/>
                  </a:lnTo>
                  <a:lnTo>
                    <a:pt x="62" y="183"/>
                  </a:lnTo>
                  <a:lnTo>
                    <a:pt x="65" y="181"/>
                  </a:lnTo>
                  <a:lnTo>
                    <a:pt x="68" y="177"/>
                  </a:lnTo>
                  <a:lnTo>
                    <a:pt x="72" y="172"/>
                  </a:lnTo>
                  <a:lnTo>
                    <a:pt x="77" y="166"/>
                  </a:lnTo>
                  <a:lnTo>
                    <a:pt x="81" y="158"/>
                  </a:lnTo>
                  <a:lnTo>
                    <a:pt x="86" y="151"/>
                  </a:lnTo>
                  <a:lnTo>
                    <a:pt x="92" y="141"/>
                  </a:lnTo>
                  <a:lnTo>
                    <a:pt x="99" y="130"/>
                  </a:lnTo>
                  <a:lnTo>
                    <a:pt x="105" y="119"/>
                  </a:lnTo>
                  <a:lnTo>
                    <a:pt x="111" y="109"/>
                  </a:lnTo>
                  <a:lnTo>
                    <a:pt x="116" y="100"/>
                  </a:lnTo>
                  <a:lnTo>
                    <a:pt x="121" y="92"/>
                  </a:lnTo>
                  <a:lnTo>
                    <a:pt x="125" y="85"/>
                  </a:lnTo>
                  <a:lnTo>
                    <a:pt x="129" y="79"/>
                  </a:lnTo>
                  <a:lnTo>
                    <a:pt x="133" y="74"/>
                  </a:lnTo>
                  <a:lnTo>
                    <a:pt x="136" y="69"/>
                  </a:lnTo>
                  <a:lnTo>
                    <a:pt x="140" y="64"/>
                  </a:lnTo>
                  <a:lnTo>
                    <a:pt x="145" y="59"/>
                  </a:lnTo>
                  <a:lnTo>
                    <a:pt x="149" y="54"/>
                  </a:lnTo>
                  <a:lnTo>
                    <a:pt x="153" y="50"/>
                  </a:lnTo>
                  <a:lnTo>
                    <a:pt x="157" y="47"/>
                  </a:lnTo>
                  <a:lnTo>
                    <a:pt x="162" y="44"/>
                  </a:lnTo>
                  <a:lnTo>
                    <a:pt x="166" y="42"/>
                  </a:lnTo>
                  <a:lnTo>
                    <a:pt x="171" y="40"/>
                  </a:lnTo>
                  <a:lnTo>
                    <a:pt x="175" y="39"/>
                  </a:lnTo>
                  <a:lnTo>
                    <a:pt x="179" y="37"/>
                  </a:lnTo>
                  <a:lnTo>
                    <a:pt x="183" y="37"/>
                  </a:lnTo>
                  <a:lnTo>
                    <a:pt x="187" y="37"/>
                  </a:lnTo>
                  <a:lnTo>
                    <a:pt x="191" y="39"/>
                  </a:lnTo>
                  <a:lnTo>
                    <a:pt x="195" y="39"/>
                  </a:lnTo>
                  <a:lnTo>
                    <a:pt x="199" y="41"/>
                  </a:lnTo>
                  <a:lnTo>
                    <a:pt x="202" y="42"/>
                  </a:lnTo>
                  <a:lnTo>
                    <a:pt x="206" y="45"/>
                  </a:lnTo>
                  <a:lnTo>
                    <a:pt x="209" y="47"/>
                  </a:lnTo>
                  <a:lnTo>
                    <a:pt x="213" y="51"/>
                  </a:lnTo>
                  <a:lnTo>
                    <a:pt x="216" y="55"/>
                  </a:lnTo>
                  <a:lnTo>
                    <a:pt x="219" y="59"/>
                  </a:lnTo>
                  <a:lnTo>
                    <a:pt x="221" y="62"/>
                  </a:lnTo>
                  <a:lnTo>
                    <a:pt x="223" y="67"/>
                  </a:lnTo>
                  <a:lnTo>
                    <a:pt x="226" y="72"/>
                  </a:lnTo>
                  <a:lnTo>
                    <a:pt x="228" y="79"/>
                  </a:lnTo>
                  <a:lnTo>
                    <a:pt x="229" y="85"/>
                  </a:lnTo>
                  <a:lnTo>
                    <a:pt x="230" y="90"/>
                  </a:lnTo>
                  <a:lnTo>
                    <a:pt x="231" y="97"/>
                  </a:lnTo>
                  <a:lnTo>
                    <a:pt x="232" y="104"/>
                  </a:lnTo>
                  <a:lnTo>
                    <a:pt x="232" y="110"/>
                  </a:lnTo>
                  <a:lnTo>
                    <a:pt x="232" y="117"/>
                  </a:lnTo>
                  <a:lnTo>
                    <a:pt x="232" y="125"/>
                  </a:lnTo>
                  <a:lnTo>
                    <a:pt x="231" y="132"/>
                  </a:lnTo>
                  <a:lnTo>
                    <a:pt x="230" y="141"/>
                  </a:lnTo>
                  <a:lnTo>
                    <a:pt x="229" y="149"/>
                  </a:lnTo>
                  <a:lnTo>
                    <a:pt x="227" y="156"/>
                  </a:lnTo>
                  <a:lnTo>
                    <a:pt x="225" y="165"/>
                  </a:lnTo>
                  <a:lnTo>
                    <a:pt x="223" y="172"/>
                  </a:lnTo>
                  <a:lnTo>
                    <a:pt x="220" y="181"/>
                  </a:lnTo>
                  <a:lnTo>
                    <a:pt x="217" y="188"/>
                  </a:lnTo>
                  <a:lnTo>
                    <a:pt x="213" y="198"/>
                  </a:lnTo>
                  <a:lnTo>
                    <a:pt x="209" y="208"/>
                  </a:lnTo>
                  <a:lnTo>
                    <a:pt x="205" y="217"/>
                  </a:lnTo>
                  <a:lnTo>
                    <a:pt x="201" y="226"/>
                  </a:lnTo>
                  <a:lnTo>
                    <a:pt x="197" y="233"/>
                  </a:lnTo>
                  <a:lnTo>
                    <a:pt x="193" y="241"/>
                  </a:lnTo>
                  <a:lnTo>
                    <a:pt x="189" y="248"/>
                  </a:lnTo>
                  <a:lnTo>
                    <a:pt x="184" y="255"/>
                  </a:lnTo>
                  <a:lnTo>
                    <a:pt x="180" y="260"/>
                  </a:lnTo>
                  <a:lnTo>
                    <a:pt x="175" y="266"/>
                  </a:lnTo>
                  <a:lnTo>
                    <a:pt x="170" y="270"/>
                  </a:lnTo>
                  <a:lnTo>
                    <a:pt x="165" y="275"/>
                  </a:lnTo>
                  <a:lnTo>
                    <a:pt x="160" y="278"/>
                  </a:lnTo>
                  <a:lnTo>
                    <a:pt x="155" y="281"/>
                  </a:lnTo>
                  <a:lnTo>
                    <a:pt x="150" y="283"/>
                  </a:lnTo>
                  <a:lnTo>
                    <a:pt x="144" y="286"/>
                  </a:lnTo>
                  <a:lnTo>
                    <a:pt x="139" y="287"/>
                  </a:lnTo>
                  <a:lnTo>
                    <a:pt x="134" y="288"/>
                  </a:lnTo>
                  <a:lnTo>
                    <a:pt x="129" y="290"/>
                  </a:lnTo>
                  <a:lnTo>
                    <a:pt x="124" y="290"/>
                  </a:lnTo>
                  <a:lnTo>
                    <a:pt x="119" y="288"/>
                  </a:lnTo>
                  <a:lnTo>
                    <a:pt x="114" y="287"/>
                  </a:lnTo>
                  <a:lnTo>
                    <a:pt x="109" y="286"/>
                  </a:lnTo>
                  <a:lnTo>
                    <a:pt x="104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20080" y="2476800"/>
              <a:ext cx="10800" cy="1080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26" y="57"/>
                  </a:moveTo>
                  <a:lnTo>
                    <a:pt x="0" y="42"/>
                  </a:lnTo>
                  <a:lnTo>
                    <a:pt x="16" y="0"/>
                  </a:lnTo>
                  <a:lnTo>
                    <a:pt x="42" y="15"/>
                  </a:lnTo>
                  <a:lnTo>
                    <a:pt x="26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93800" y="2406600"/>
              <a:ext cx="59760" cy="56160"/>
            </a:xfrm>
            <a:custGeom>
              <a:avLst/>
              <a:gdLst/>
              <a:ahLst/>
              <a:rect l="l" t="t" r="r" b="b"/>
              <a:pathLst>
                <a:path w="232" h="289">
                  <a:moveTo>
                    <a:pt x="104" y="284"/>
                  </a:moveTo>
                  <a:lnTo>
                    <a:pt x="116" y="244"/>
                  </a:lnTo>
                  <a:lnTo>
                    <a:pt x="120" y="245"/>
                  </a:lnTo>
                  <a:lnTo>
                    <a:pt x="124" y="246"/>
                  </a:lnTo>
                  <a:lnTo>
                    <a:pt x="127" y="246"/>
                  </a:lnTo>
                  <a:lnTo>
                    <a:pt x="131" y="246"/>
                  </a:lnTo>
                  <a:lnTo>
                    <a:pt x="134" y="246"/>
                  </a:lnTo>
                  <a:lnTo>
                    <a:pt x="137" y="246"/>
                  </a:lnTo>
                  <a:lnTo>
                    <a:pt x="141" y="245"/>
                  </a:lnTo>
                  <a:lnTo>
                    <a:pt x="144" y="244"/>
                  </a:lnTo>
                  <a:lnTo>
                    <a:pt x="147" y="243"/>
                  </a:lnTo>
                  <a:lnTo>
                    <a:pt x="150" y="241"/>
                  </a:lnTo>
                  <a:lnTo>
                    <a:pt x="154" y="239"/>
                  </a:lnTo>
                  <a:lnTo>
                    <a:pt x="157" y="236"/>
                  </a:lnTo>
                  <a:lnTo>
                    <a:pt x="160" y="234"/>
                  </a:lnTo>
                  <a:lnTo>
                    <a:pt x="164" y="230"/>
                  </a:lnTo>
                  <a:lnTo>
                    <a:pt x="168" y="226"/>
                  </a:lnTo>
                  <a:lnTo>
                    <a:pt x="171" y="221"/>
                  </a:lnTo>
                  <a:lnTo>
                    <a:pt x="174" y="218"/>
                  </a:lnTo>
                  <a:lnTo>
                    <a:pt x="177" y="213"/>
                  </a:lnTo>
                  <a:lnTo>
                    <a:pt x="180" y="208"/>
                  </a:lnTo>
                  <a:lnTo>
                    <a:pt x="183" y="201"/>
                  </a:lnTo>
                  <a:lnTo>
                    <a:pt x="186" y="196"/>
                  </a:lnTo>
                  <a:lnTo>
                    <a:pt x="189" y="190"/>
                  </a:lnTo>
                  <a:lnTo>
                    <a:pt x="191" y="184"/>
                  </a:lnTo>
                  <a:lnTo>
                    <a:pt x="194" y="178"/>
                  </a:lnTo>
                  <a:lnTo>
                    <a:pt x="196" y="171"/>
                  </a:lnTo>
                  <a:lnTo>
                    <a:pt x="198" y="166"/>
                  </a:lnTo>
                  <a:lnTo>
                    <a:pt x="199" y="160"/>
                  </a:lnTo>
                  <a:lnTo>
                    <a:pt x="201" y="155"/>
                  </a:lnTo>
                  <a:lnTo>
                    <a:pt x="202" y="150"/>
                  </a:lnTo>
                  <a:lnTo>
                    <a:pt x="203" y="144"/>
                  </a:lnTo>
                  <a:lnTo>
                    <a:pt x="204" y="139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6" y="120"/>
                  </a:lnTo>
                  <a:lnTo>
                    <a:pt x="205" y="115"/>
                  </a:lnTo>
                  <a:lnTo>
                    <a:pt x="205" y="112"/>
                  </a:lnTo>
                  <a:lnTo>
                    <a:pt x="205" y="108"/>
                  </a:lnTo>
                  <a:lnTo>
                    <a:pt x="204" y="104"/>
                  </a:lnTo>
                  <a:lnTo>
                    <a:pt x="203" y="102"/>
                  </a:lnTo>
                  <a:lnTo>
                    <a:pt x="202" y="98"/>
                  </a:lnTo>
                  <a:lnTo>
                    <a:pt x="200" y="95"/>
                  </a:lnTo>
                  <a:lnTo>
                    <a:pt x="199" y="93"/>
                  </a:lnTo>
                  <a:lnTo>
                    <a:pt x="197" y="90"/>
                  </a:lnTo>
                  <a:lnTo>
                    <a:pt x="196" y="88"/>
                  </a:lnTo>
                  <a:lnTo>
                    <a:pt x="194" y="87"/>
                  </a:lnTo>
                  <a:lnTo>
                    <a:pt x="192" y="84"/>
                  </a:lnTo>
                  <a:lnTo>
                    <a:pt x="190" y="83"/>
                  </a:lnTo>
                  <a:lnTo>
                    <a:pt x="188" y="82"/>
                  </a:lnTo>
                  <a:lnTo>
                    <a:pt x="185" y="82"/>
                  </a:lnTo>
                  <a:lnTo>
                    <a:pt x="183" y="80"/>
                  </a:lnTo>
                  <a:lnTo>
                    <a:pt x="181" y="80"/>
                  </a:lnTo>
                  <a:lnTo>
                    <a:pt x="178" y="80"/>
                  </a:lnTo>
                  <a:lnTo>
                    <a:pt x="176" y="80"/>
                  </a:lnTo>
                  <a:lnTo>
                    <a:pt x="174" y="82"/>
                  </a:lnTo>
                  <a:lnTo>
                    <a:pt x="171" y="83"/>
                  </a:lnTo>
                  <a:lnTo>
                    <a:pt x="169" y="84"/>
                  </a:lnTo>
                  <a:lnTo>
                    <a:pt x="166" y="85"/>
                  </a:lnTo>
                  <a:lnTo>
                    <a:pt x="164" y="88"/>
                  </a:lnTo>
                  <a:lnTo>
                    <a:pt x="160" y="90"/>
                  </a:lnTo>
                  <a:lnTo>
                    <a:pt x="157" y="93"/>
                  </a:lnTo>
                  <a:lnTo>
                    <a:pt x="155" y="97"/>
                  </a:lnTo>
                  <a:lnTo>
                    <a:pt x="152" y="100"/>
                  </a:lnTo>
                  <a:lnTo>
                    <a:pt x="149" y="104"/>
                  </a:lnTo>
                  <a:lnTo>
                    <a:pt x="147" y="107"/>
                  </a:lnTo>
                  <a:lnTo>
                    <a:pt x="144" y="112"/>
                  </a:lnTo>
                  <a:lnTo>
                    <a:pt x="141" y="115"/>
                  </a:lnTo>
                  <a:lnTo>
                    <a:pt x="138" y="122"/>
                  </a:lnTo>
                  <a:lnTo>
                    <a:pt x="134" y="128"/>
                  </a:lnTo>
                  <a:lnTo>
                    <a:pt x="130" y="135"/>
                  </a:lnTo>
                  <a:lnTo>
                    <a:pt x="125" y="144"/>
                  </a:lnTo>
                  <a:lnTo>
                    <a:pt x="120" y="154"/>
                  </a:lnTo>
                  <a:lnTo>
                    <a:pt x="114" y="163"/>
                  </a:lnTo>
                  <a:lnTo>
                    <a:pt x="109" y="171"/>
                  </a:lnTo>
                  <a:lnTo>
                    <a:pt x="105" y="179"/>
                  </a:lnTo>
                  <a:lnTo>
                    <a:pt x="100" y="186"/>
                  </a:lnTo>
                  <a:lnTo>
                    <a:pt x="96" y="193"/>
                  </a:lnTo>
                  <a:lnTo>
                    <a:pt x="93" y="198"/>
                  </a:lnTo>
                  <a:lnTo>
                    <a:pt x="88" y="203"/>
                  </a:lnTo>
                  <a:lnTo>
                    <a:pt x="85" y="206"/>
                  </a:lnTo>
                  <a:lnTo>
                    <a:pt x="81" y="210"/>
                  </a:lnTo>
                  <a:lnTo>
                    <a:pt x="78" y="214"/>
                  </a:lnTo>
                  <a:lnTo>
                    <a:pt x="74" y="218"/>
                  </a:lnTo>
                  <a:lnTo>
                    <a:pt x="70" y="221"/>
                  </a:lnTo>
                  <a:lnTo>
                    <a:pt x="66" y="224"/>
                  </a:lnTo>
                  <a:lnTo>
                    <a:pt x="63" y="225"/>
                  </a:lnTo>
                  <a:lnTo>
                    <a:pt x="59" y="228"/>
                  </a:lnTo>
                  <a:lnTo>
                    <a:pt x="56" y="229"/>
                  </a:lnTo>
                  <a:lnTo>
                    <a:pt x="52" y="230"/>
                  </a:lnTo>
                  <a:lnTo>
                    <a:pt x="48" y="230"/>
                  </a:lnTo>
                  <a:lnTo>
                    <a:pt x="45" y="231"/>
                  </a:lnTo>
                  <a:lnTo>
                    <a:pt x="41" y="230"/>
                  </a:lnTo>
                  <a:lnTo>
                    <a:pt x="38" y="230"/>
                  </a:lnTo>
                  <a:lnTo>
                    <a:pt x="35" y="229"/>
                  </a:lnTo>
                  <a:lnTo>
                    <a:pt x="31" y="228"/>
                  </a:lnTo>
                  <a:lnTo>
                    <a:pt x="28" y="226"/>
                  </a:lnTo>
                  <a:lnTo>
                    <a:pt x="25" y="224"/>
                  </a:lnTo>
                  <a:lnTo>
                    <a:pt x="21" y="221"/>
                  </a:lnTo>
                  <a:lnTo>
                    <a:pt x="18" y="219"/>
                  </a:lnTo>
                  <a:lnTo>
                    <a:pt x="14" y="215"/>
                  </a:lnTo>
                  <a:lnTo>
                    <a:pt x="12" y="211"/>
                  </a:lnTo>
                  <a:lnTo>
                    <a:pt x="9" y="208"/>
                  </a:lnTo>
                  <a:lnTo>
                    <a:pt x="7" y="203"/>
                  </a:lnTo>
                  <a:lnTo>
                    <a:pt x="5" y="198"/>
                  </a:lnTo>
                  <a:lnTo>
                    <a:pt x="3" y="193"/>
                  </a:lnTo>
                  <a:lnTo>
                    <a:pt x="2" y="188"/>
                  </a:lnTo>
                  <a:lnTo>
                    <a:pt x="1" y="181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0" y="149"/>
                  </a:lnTo>
                  <a:lnTo>
                    <a:pt x="1" y="141"/>
                  </a:lnTo>
                  <a:lnTo>
                    <a:pt x="2" y="134"/>
                  </a:lnTo>
                  <a:lnTo>
                    <a:pt x="4" y="127"/>
                  </a:lnTo>
                  <a:lnTo>
                    <a:pt x="5" y="119"/>
                  </a:lnTo>
                  <a:lnTo>
                    <a:pt x="7" y="112"/>
                  </a:lnTo>
                  <a:lnTo>
                    <a:pt x="10" y="104"/>
                  </a:lnTo>
                  <a:lnTo>
                    <a:pt x="12" y="97"/>
                  </a:lnTo>
                  <a:lnTo>
                    <a:pt x="15" y="88"/>
                  </a:lnTo>
                  <a:lnTo>
                    <a:pt x="19" y="80"/>
                  </a:lnTo>
                  <a:lnTo>
                    <a:pt x="22" y="72"/>
                  </a:lnTo>
                  <a:lnTo>
                    <a:pt x="26" y="64"/>
                  </a:lnTo>
                  <a:lnTo>
                    <a:pt x="29" y="57"/>
                  </a:lnTo>
                  <a:lnTo>
                    <a:pt x="33" y="50"/>
                  </a:lnTo>
                  <a:lnTo>
                    <a:pt x="37" y="44"/>
                  </a:lnTo>
                  <a:lnTo>
                    <a:pt x="41" y="38"/>
                  </a:lnTo>
                  <a:lnTo>
                    <a:pt x="45" y="32"/>
                  </a:lnTo>
                  <a:lnTo>
                    <a:pt x="49" y="27"/>
                  </a:lnTo>
                  <a:lnTo>
                    <a:pt x="53" y="22"/>
                  </a:lnTo>
                  <a:lnTo>
                    <a:pt x="57" y="18"/>
                  </a:lnTo>
                  <a:lnTo>
                    <a:pt x="61" y="13"/>
                  </a:lnTo>
                  <a:lnTo>
                    <a:pt x="66" y="10"/>
                  </a:lnTo>
                  <a:lnTo>
                    <a:pt x="70" y="7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2"/>
                  </a:lnTo>
                  <a:lnTo>
                    <a:pt x="111" y="3"/>
                  </a:lnTo>
                  <a:lnTo>
                    <a:pt x="115" y="5"/>
                  </a:lnTo>
                  <a:lnTo>
                    <a:pt x="103" y="45"/>
                  </a:lnTo>
                  <a:lnTo>
                    <a:pt x="98" y="43"/>
                  </a:lnTo>
                  <a:lnTo>
                    <a:pt x="94" y="43"/>
                  </a:lnTo>
                  <a:lnTo>
                    <a:pt x="88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5" y="45"/>
                  </a:lnTo>
                  <a:lnTo>
                    <a:pt x="71" y="48"/>
                  </a:lnTo>
                  <a:lnTo>
                    <a:pt x="67" y="50"/>
                  </a:lnTo>
                  <a:lnTo>
                    <a:pt x="63" y="54"/>
                  </a:lnTo>
                  <a:lnTo>
                    <a:pt x="59" y="59"/>
                  </a:lnTo>
                  <a:lnTo>
                    <a:pt x="56" y="64"/>
                  </a:lnTo>
                  <a:lnTo>
                    <a:pt x="52" y="69"/>
                  </a:lnTo>
                  <a:lnTo>
                    <a:pt x="48" y="75"/>
                  </a:lnTo>
                  <a:lnTo>
                    <a:pt x="45" y="83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8"/>
                  </a:lnTo>
                  <a:lnTo>
                    <a:pt x="33" y="117"/>
                  </a:lnTo>
                  <a:lnTo>
                    <a:pt x="30" y="125"/>
                  </a:lnTo>
                  <a:lnTo>
                    <a:pt x="29" y="133"/>
                  </a:lnTo>
                  <a:lnTo>
                    <a:pt x="28" y="139"/>
                  </a:lnTo>
                  <a:lnTo>
                    <a:pt x="27" y="146"/>
                  </a:lnTo>
                  <a:lnTo>
                    <a:pt x="27" y="153"/>
                  </a:lnTo>
                  <a:lnTo>
                    <a:pt x="27" y="158"/>
                  </a:lnTo>
                  <a:lnTo>
                    <a:pt x="28" y="163"/>
                  </a:lnTo>
                  <a:lnTo>
                    <a:pt x="29" y="168"/>
                  </a:lnTo>
                  <a:lnTo>
                    <a:pt x="30" y="171"/>
                  </a:lnTo>
                  <a:lnTo>
                    <a:pt x="31" y="175"/>
                  </a:lnTo>
                  <a:lnTo>
                    <a:pt x="33" y="179"/>
                  </a:lnTo>
                  <a:lnTo>
                    <a:pt x="35" y="181"/>
                  </a:lnTo>
                  <a:lnTo>
                    <a:pt x="38" y="184"/>
                  </a:lnTo>
                  <a:lnTo>
                    <a:pt x="41" y="186"/>
                  </a:lnTo>
                  <a:lnTo>
                    <a:pt x="43" y="188"/>
                  </a:lnTo>
                  <a:lnTo>
                    <a:pt x="46" y="188"/>
                  </a:lnTo>
                  <a:lnTo>
                    <a:pt x="49" y="189"/>
                  </a:lnTo>
                  <a:lnTo>
                    <a:pt x="51" y="189"/>
                  </a:lnTo>
                  <a:lnTo>
                    <a:pt x="54" y="188"/>
                  </a:lnTo>
                  <a:lnTo>
                    <a:pt x="56" y="186"/>
                  </a:lnTo>
                  <a:lnTo>
                    <a:pt x="59" y="185"/>
                  </a:lnTo>
                  <a:lnTo>
                    <a:pt x="62" y="184"/>
                  </a:lnTo>
                  <a:lnTo>
                    <a:pt x="65" y="181"/>
                  </a:lnTo>
                  <a:lnTo>
                    <a:pt x="68" y="178"/>
                  </a:lnTo>
                  <a:lnTo>
                    <a:pt x="72" y="173"/>
                  </a:lnTo>
                  <a:lnTo>
                    <a:pt x="76" y="166"/>
                  </a:lnTo>
                  <a:lnTo>
                    <a:pt x="81" y="159"/>
                  </a:lnTo>
                  <a:lnTo>
                    <a:pt x="86" y="150"/>
                  </a:lnTo>
                  <a:lnTo>
                    <a:pt x="93" y="140"/>
                  </a:lnTo>
                  <a:lnTo>
                    <a:pt x="99" y="130"/>
                  </a:lnTo>
                  <a:lnTo>
                    <a:pt x="105" y="119"/>
                  </a:lnTo>
                  <a:lnTo>
                    <a:pt x="111" y="109"/>
                  </a:lnTo>
                  <a:lnTo>
                    <a:pt x="116" y="100"/>
                  </a:lnTo>
                  <a:lnTo>
                    <a:pt x="121" y="92"/>
                  </a:lnTo>
                  <a:lnTo>
                    <a:pt x="125" y="84"/>
                  </a:lnTo>
                  <a:lnTo>
                    <a:pt x="129" y="78"/>
                  </a:lnTo>
                  <a:lnTo>
                    <a:pt x="133" y="73"/>
                  </a:lnTo>
                  <a:lnTo>
                    <a:pt x="136" y="69"/>
                  </a:lnTo>
                  <a:lnTo>
                    <a:pt x="140" y="63"/>
                  </a:lnTo>
                  <a:lnTo>
                    <a:pt x="144" y="59"/>
                  </a:lnTo>
                  <a:lnTo>
                    <a:pt x="149" y="54"/>
                  </a:lnTo>
                  <a:lnTo>
                    <a:pt x="153" y="50"/>
                  </a:lnTo>
                  <a:lnTo>
                    <a:pt x="157" y="47"/>
                  </a:lnTo>
                  <a:lnTo>
                    <a:pt x="162" y="44"/>
                  </a:lnTo>
                  <a:lnTo>
                    <a:pt x="167" y="42"/>
                  </a:lnTo>
                  <a:lnTo>
                    <a:pt x="171" y="40"/>
                  </a:lnTo>
                  <a:lnTo>
                    <a:pt x="175" y="39"/>
                  </a:lnTo>
                  <a:lnTo>
                    <a:pt x="179" y="38"/>
                  </a:lnTo>
                  <a:lnTo>
                    <a:pt x="183" y="38"/>
                  </a:lnTo>
                  <a:lnTo>
                    <a:pt x="187" y="38"/>
                  </a:lnTo>
                  <a:lnTo>
                    <a:pt x="191" y="38"/>
                  </a:lnTo>
                  <a:lnTo>
                    <a:pt x="194" y="39"/>
                  </a:lnTo>
                  <a:lnTo>
                    <a:pt x="198" y="40"/>
                  </a:lnTo>
                  <a:lnTo>
                    <a:pt x="202" y="43"/>
                  </a:lnTo>
                  <a:lnTo>
                    <a:pt x="206" y="45"/>
                  </a:lnTo>
                  <a:lnTo>
                    <a:pt x="209" y="48"/>
                  </a:lnTo>
                  <a:lnTo>
                    <a:pt x="212" y="50"/>
                  </a:lnTo>
                  <a:lnTo>
                    <a:pt x="215" y="54"/>
                  </a:lnTo>
                  <a:lnTo>
                    <a:pt x="218" y="58"/>
                  </a:lnTo>
                  <a:lnTo>
                    <a:pt x="221" y="63"/>
                  </a:lnTo>
                  <a:lnTo>
                    <a:pt x="223" y="68"/>
                  </a:lnTo>
                  <a:lnTo>
                    <a:pt x="225" y="73"/>
                  </a:lnTo>
                  <a:lnTo>
                    <a:pt x="227" y="78"/>
                  </a:lnTo>
                  <a:lnTo>
                    <a:pt x="229" y="84"/>
                  </a:lnTo>
                  <a:lnTo>
                    <a:pt x="230" y="90"/>
                  </a:lnTo>
                  <a:lnTo>
                    <a:pt x="231" y="97"/>
                  </a:lnTo>
                  <a:lnTo>
                    <a:pt x="232" y="104"/>
                  </a:lnTo>
                  <a:lnTo>
                    <a:pt x="232" y="110"/>
                  </a:lnTo>
                  <a:lnTo>
                    <a:pt x="232" y="118"/>
                  </a:lnTo>
                  <a:lnTo>
                    <a:pt x="231" y="125"/>
                  </a:lnTo>
                  <a:lnTo>
                    <a:pt x="231" y="133"/>
                  </a:lnTo>
                  <a:lnTo>
                    <a:pt x="230" y="140"/>
                  </a:lnTo>
                  <a:lnTo>
                    <a:pt x="228" y="149"/>
                  </a:lnTo>
                  <a:lnTo>
                    <a:pt x="227" y="156"/>
                  </a:lnTo>
                  <a:lnTo>
                    <a:pt x="225" y="164"/>
                  </a:lnTo>
                  <a:lnTo>
                    <a:pt x="222" y="173"/>
                  </a:lnTo>
                  <a:lnTo>
                    <a:pt x="220" y="180"/>
                  </a:lnTo>
                  <a:lnTo>
                    <a:pt x="217" y="189"/>
                  </a:lnTo>
                  <a:lnTo>
                    <a:pt x="213" y="199"/>
                  </a:lnTo>
                  <a:lnTo>
                    <a:pt x="209" y="209"/>
                  </a:lnTo>
                  <a:lnTo>
                    <a:pt x="205" y="218"/>
                  </a:lnTo>
                  <a:lnTo>
                    <a:pt x="201" y="226"/>
                  </a:lnTo>
                  <a:lnTo>
                    <a:pt x="197" y="234"/>
                  </a:lnTo>
                  <a:lnTo>
                    <a:pt x="193" y="241"/>
                  </a:lnTo>
                  <a:lnTo>
                    <a:pt x="188" y="248"/>
                  </a:lnTo>
                  <a:lnTo>
                    <a:pt x="184" y="254"/>
                  </a:lnTo>
                  <a:lnTo>
                    <a:pt x="179" y="260"/>
                  </a:lnTo>
                  <a:lnTo>
                    <a:pt x="175" y="265"/>
                  </a:lnTo>
                  <a:lnTo>
                    <a:pt x="170" y="270"/>
                  </a:lnTo>
                  <a:lnTo>
                    <a:pt x="165" y="274"/>
                  </a:lnTo>
                  <a:lnTo>
                    <a:pt x="159" y="277"/>
                  </a:lnTo>
                  <a:lnTo>
                    <a:pt x="154" y="281"/>
                  </a:lnTo>
                  <a:lnTo>
                    <a:pt x="149" y="284"/>
                  </a:lnTo>
                  <a:lnTo>
                    <a:pt x="144" y="286"/>
                  </a:lnTo>
                  <a:lnTo>
                    <a:pt x="139" y="287"/>
                  </a:lnTo>
                  <a:lnTo>
                    <a:pt x="134" y="289"/>
                  </a:lnTo>
                  <a:lnTo>
                    <a:pt x="129" y="289"/>
                  </a:lnTo>
                  <a:lnTo>
                    <a:pt x="124" y="289"/>
                  </a:lnTo>
                  <a:lnTo>
                    <a:pt x="119" y="289"/>
                  </a:lnTo>
                  <a:lnTo>
                    <a:pt x="114" y="287"/>
                  </a:lnTo>
                  <a:lnTo>
                    <a:pt x="109" y="285"/>
                  </a:lnTo>
                  <a:lnTo>
                    <a:pt x="104" y="2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58960" y="2397240"/>
              <a:ext cx="10800" cy="11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26" y="59"/>
                  </a:moveTo>
                  <a:lnTo>
                    <a:pt x="0" y="44"/>
                  </a:lnTo>
                  <a:lnTo>
                    <a:pt x="15" y="0"/>
                  </a:lnTo>
                  <a:lnTo>
                    <a:pt x="42" y="15"/>
                  </a:lnTo>
                  <a:lnTo>
                    <a:pt x="2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49600" y="2314440"/>
              <a:ext cx="52920" cy="48960"/>
            </a:xfrm>
            <a:custGeom>
              <a:avLst/>
              <a:gdLst/>
              <a:ahLst/>
              <a:rect l="l" t="t" r="r" b="b"/>
              <a:pathLst>
                <a:path w="203" h="253">
                  <a:moveTo>
                    <a:pt x="189" y="144"/>
                  </a:moveTo>
                  <a:lnTo>
                    <a:pt x="143" y="119"/>
                  </a:lnTo>
                  <a:lnTo>
                    <a:pt x="94" y="253"/>
                  </a:lnTo>
                  <a:lnTo>
                    <a:pt x="72" y="240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35" y="69"/>
                  </a:lnTo>
                  <a:lnTo>
                    <a:pt x="151" y="27"/>
                  </a:lnTo>
                  <a:lnTo>
                    <a:pt x="173" y="39"/>
                  </a:lnTo>
                  <a:lnTo>
                    <a:pt x="157" y="81"/>
                  </a:lnTo>
                  <a:lnTo>
                    <a:pt x="203" y="107"/>
                  </a:lnTo>
                  <a:lnTo>
                    <a:pt x="189" y="144"/>
                  </a:lnTo>
                  <a:close/>
                  <a:moveTo>
                    <a:pt x="122" y="107"/>
                  </a:moveTo>
                  <a:lnTo>
                    <a:pt x="36" y="58"/>
                  </a:lnTo>
                  <a:lnTo>
                    <a:pt x="85" y="203"/>
                  </a:lnTo>
                  <a:lnTo>
                    <a:pt x="12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66880" y="2265840"/>
              <a:ext cx="56160" cy="48240"/>
            </a:xfrm>
            <a:custGeom>
              <a:avLst/>
              <a:gdLst/>
              <a:ahLst/>
              <a:rect l="l" t="t" r="r" b="b"/>
              <a:pathLst>
                <a:path w="215" h="249">
                  <a:moveTo>
                    <a:pt x="125" y="245"/>
                  </a:moveTo>
                  <a:lnTo>
                    <a:pt x="136" y="207"/>
                  </a:lnTo>
                  <a:lnTo>
                    <a:pt x="140" y="209"/>
                  </a:lnTo>
                  <a:lnTo>
                    <a:pt x="144" y="210"/>
                  </a:lnTo>
                  <a:lnTo>
                    <a:pt x="148" y="210"/>
                  </a:lnTo>
                  <a:lnTo>
                    <a:pt x="152" y="209"/>
                  </a:lnTo>
                  <a:lnTo>
                    <a:pt x="155" y="209"/>
                  </a:lnTo>
                  <a:lnTo>
                    <a:pt x="159" y="207"/>
                  </a:lnTo>
                  <a:lnTo>
                    <a:pt x="162" y="205"/>
                  </a:lnTo>
                  <a:lnTo>
                    <a:pt x="165" y="204"/>
                  </a:lnTo>
                  <a:lnTo>
                    <a:pt x="168" y="201"/>
                  </a:lnTo>
                  <a:lnTo>
                    <a:pt x="172" y="199"/>
                  </a:lnTo>
                  <a:lnTo>
                    <a:pt x="174" y="195"/>
                  </a:lnTo>
                  <a:lnTo>
                    <a:pt x="177" y="191"/>
                  </a:lnTo>
                  <a:lnTo>
                    <a:pt x="179" y="187"/>
                  </a:lnTo>
                  <a:lnTo>
                    <a:pt x="181" y="184"/>
                  </a:lnTo>
                  <a:lnTo>
                    <a:pt x="184" y="179"/>
                  </a:lnTo>
                  <a:lnTo>
                    <a:pt x="186" y="174"/>
                  </a:lnTo>
                  <a:lnTo>
                    <a:pt x="187" y="170"/>
                  </a:lnTo>
                  <a:lnTo>
                    <a:pt x="188" y="165"/>
                  </a:lnTo>
                  <a:lnTo>
                    <a:pt x="189" y="161"/>
                  </a:lnTo>
                  <a:lnTo>
                    <a:pt x="190" y="157"/>
                  </a:lnTo>
                  <a:lnTo>
                    <a:pt x="191" y="152"/>
                  </a:lnTo>
                  <a:lnTo>
                    <a:pt x="191" y="149"/>
                  </a:lnTo>
                  <a:lnTo>
                    <a:pt x="192" y="145"/>
                  </a:lnTo>
                  <a:lnTo>
                    <a:pt x="192" y="141"/>
                  </a:lnTo>
                  <a:lnTo>
                    <a:pt x="192" y="136"/>
                  </a:lnTo>
                  <a:lnTo>
                    <a:pt x="191" y="132"/>
                  </a:lnTo>
                  <a:lnTo>
                    <a:pt x="191" y="129"/>
                  </a:lnTo>
                  <a:lnTo>
                    <a:pt x="190" y="125"/>
                  </a:lnTo>
                  <a:lnTo>
                    <a:pt x="190" y="123"/>
                  </a:lnTo>
                  <a:lnTo>
                    <a:pt x="189" y="119"/>
                  </a:lnTo>
                  <a:lnTo>
                    <a:pt x="188" y="115"/>
                  </a:lnTo>
                  <a:lnTo>
                    <a:pt x="187" y="111"/>
                  </a:lnTo>
                  <a:lnTo>
                    <a:pt x="185" y="109"/>
                  </a:lnTo>
                  <a:lnTo>
                    <a:pt x="184" y="105"/>
                  </a:lnTo>
                  <a:lnTo>
                    <a:pt x="182" y="101"/>
                  </a:lnTo>
                  <a:lnTo>
                    <a:pt x="180" y="99"/>
                  </a:lnTo>
                  <a:lnTo>
                    <a:pt x="178" y="95"/>
                  </a:lnTo>
                  <a:lnTo>
                    <a:pt x="175" y="91"/>
                  </a:lnTo>
                  <a:lnTo>
                    <a:pt x="172" y="89"/>
                  </a:lnTo>
                  <a:lnTo>
                    <a:pt x="170" y="85"/>
                  </a:lnTo>
                  <a:lnTo>
                    <a:pt x="166" y="81"/>
                  </a:lnTo>
                  <a:lnTo>
                    <a:pt x="163" y="79"/>
                  </a:lnTo>
                  <a:lnTo>
                    <a:pt x="159" y="75"/>
                  </a:lnTo>
                  <a:lnTo>
                    <a:pt x="156" y="73"/>
                  </a:lnTo>
                  <a:lnTo>
                    <a:pt x="153" y="70"/>
                  </a:lnTo>
                  <a:lnTo>
                    <a:pt x="149" y="68"/>
                  </a:lnTo>
                  <a:lnTo>
                    <a:pt x="146" y="65"/>
                  </a:lnTo>
                  <a:lnTo>
                    <a:pt x="142" y="63"/>
                  </a:lnTo>
                  <a:lnTo>
                    <a:pt x="142" y="63"/>
                  </a:lnTo>
                  <a:lnTo>
                    <a:pt x="141" y="63"/>
                  </a:lnTo>
                  <a:lnTo>
                    <a:pt x="141" y="63"/>
                  </a:lnTo>
                  <a:lnTo>
                    <a:pt x="140" y="63"/>
                  </a:lnTo>
                  <a:lnTo>
                    <a:pt x="140" y="61"/>
                  </a:lnTo>
                  <a:lnTo>
                    <a:pt x="139" y="61"/>
                  </a:lnTo>
                  <a:lnTo>
                    <a:pt x="138" y="61"/>
                  </a:lnTo>
                  <a:lnTo>
                    <a:pt x="138" y="61"/>
                  </a:lnTo>
                  <a:lnTo>
                    <a:pt x="139" y="65"/>
                  </a:lnTo>
                  <a:lnTo>
                    <a:pt x="141" y="70"/>
                  </a:lnTo>
                  <a:lnTo>
                    <a:pt x="142" y="75"/>
                  </a:lnTo>
                  <a:lnTo>
                    <a:pt x="143" y="80"/>
                  </a:lnTo>
                  <a:lnTo>
                    <a:pt x="143" y="85"/>
                  </a:lnTo>
                  <a:lnTo>
                    <a:pt x="144" y="90"/>
                  </a:lnTo>
                  <a:lnTo>
                    <a:pt x="144" y="96"/>
                  </a:lnTo>
                  <a:lnTo>
                    <a:pt x="144" y="103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43" y="120"/>
                  </a:lnTo>
                  <a:lnTo>
                    <a:pt x="142" y="125"/>
                  </a:lnTo>
                  <a:lnTo>
                    <a:pt x="141" y="131"/>
                  </a:lnTo>
                  <a:lnTo>
                    <a:pt x="139" y="137"/>
                  </a:lnTo>
                  <a:lnTo>
                    <a:pt x="138" y="142"/>
                  </a:lnTo>
                  <a:lnTo>
                    <a:pt x="136" y="149"/>
                  </a:lnTo>
                  <a:lnTo>
                    <a:pt x="132" y="157"/>
                  </a:lnTo>
                  <a:lnTo>
                    <a:pt x="128" y="166"/>
                  </a:lnTo>
                  <a:lnTo>
                    <a:pt x="123" y="174"/>
                  </a:lnTo>
                  <a:lnTo>
                    <a:pt x="118" y="181"/>
                  </a:lnTo>
                  <a:lnTo>
                    <a:pt x="113" y="187"/>
                  </a:lnTo>
                  <a:lnTo>
                    <a:pt x="107" y="194"/>
                  </a:lnTo>
                  <a:lnTo>
                    <a:pt x="101" y="199"/>
                  </a:lnTo>
                  <a:lnTo>
                    <a:pt x="94" y="204"/>
                  </a:lnTo>
                  <a:lnTo>
                    <a:pt x="87" y="207"/>
                  </a:lnTo>
                  <a:lnTo>
                    <a:pt x="81" y="210"/>
                  </a:lnTo>
                  <a:lnTo>
                    <a:pt x="74" y="211"/>
                  </a:lnTo>
                  <a:lnTo>
                    <a:pt x="67" y="212"/>
                  </a:lnTo>
                  <a:lnTo>
                    <a:pt x="60" y="211"/>
                  </a:lnTo>
                  <a:lnTo>
                    <a:pt x="53" y="210"/>
                  </a:lnTo>
                  <a:lnTo>
                    <a:pt x="46" y="207"/>
                  </a:lnTo>
                  <a:lnTo>
                    <a:pt x="39" y="204"/>
                  </a:lnTo>
                  <a:lnTo>
                    <a:pt x="33" y="200"/>
                  </a:lnTo>
                  <a:lnTo>
                    <a:pt x="26" y="195"/>
                  </a:lnTo>
                  <a:lnTo>
                    <a:pt x="20" y="189"/>
                  </a:lnTo>
                  <a:lnTo>
                    <a:pt x="15" y="182"/>
                  </a:lnTo>
                  <a:lnTo>
                    <a:pt x="11" y="175"/>
                  </a:lnTo>
                  <a:lnTo>
                    <a:pt x="7" y="167"/>
                  </a:lnTo>
                  <a:lnTo>
                    <a:pt x="4" y="160"/>
                  </a:lnTo>
                  <a:lnTo>
                    <a:pt x="2" y="150"/>
                  </a:lnTo>
                  <a:lnTo>
                    <a:pt x="1" y="141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1" y="111"/>
                  </a:lnTo>
                  <a:lnTo>
                    <a:pt x="2" y="101"/>
                  </a:lnTo>
                  <a:lnTo>
                    <a:pt x="4" y="91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3" y="64"/>
                  </a:lnTo>
                  <a:lnTo>
                    <a:pt x="16" y="56"/>
                  </a:lnTo>
                  <a:lnTo>
                    <a:pt x="19" y="50"/>
                  </a:lnTo>
                  <a:lnTo>
                    <a:pt x="23" y="44"/>
                  </a:lnTo>
                  <a:lnTo>
                    <a:pt x="28" y="38"/>
                  </a:lnTo>
                  <a:lnTo>
                    <a:pt x="32" y="33"/>
                  </a:lnTo>
                  <a:lnTo>
                    <a:pt x="36" y="26"/>
                  </a:lnTo>
                  <a:lnTo>
                    <a:pt x="41" y="21"/>
                  </a:lnTo>
                  <a:lnTo>
                    <a:pt x="46" y="18"/>
                  </a:lnTo>
                  <a:lnTo>
                    <a:pt x="51" y="14"/>
                  </a:lnTo>
                  <a:lnTo>
                    <a:pt x="56" y="10"/>
                  </a:lnTo>
                  <a:lnTo>
                    <a:pt x="61" y="6"/>
                  </a:lnTo>
                  <a:lnTo>
                    <a:pt x="66" y="4"/>
                  </a:lnTo>
                  <a:lnTo>
                    <a:pt x="72" y="3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0" y="4"/>
                  </a:lnTo>
                  <a:lnTo>
                    <a:pt x="118" y="6"/>
                  </a:lnTo>
                  <a:lnTo>
                    <a:pt x="125" y="9"/>
                  </a:lnTo>
                  <a:lnTo>
                    <a:pt x="134" y="13"/>
                  </a:lnTo>
                  <a:lnTo>
                    <a:pt x="142" y="18"/>
                  </a:lnTo>
                  <a:lnTo>
                    <a:pt x="151" y="23"/>
                  </a:lnTo>
                  <a:lnTo>
                    <a:pt x="159" y="28"/>
                  </a:lnTo>
                  <a:lnTo>
                    <a:pt x="166" y="34"/>
                  </a:lnTo>
                  <a:lnTo>
                    <a:pt x="174" y="39"/>
                  </a:lnTo>
                  <a:lnTo>
                    <a:pt x="181" y="45"/>
                  </a:lnTo>
                  <a:lnTo>
                    <a:pt x="186" y="51"/>
                  </a:lnTo>
                  <a:lnTo>
                    <a:pt x="192" y="58"/>
                  </a:lnTo>
                  <a:lnTo>
                    <a:pt x="196" y="64"/>
                  </a:lnTo>
                  <a:lnTo>
                    <a:pt x="200" y="70"/>
                  </a:lnTo>
                  <a:lnTo>
                    <a:pt x="203" y="76"/>
                  </a:lnTo>
                  <a:lnTo>
                    <a:pt x="207" y="83"/>
                  </a:lnTo>
                  <a:lnTo>
                    <a:pt x="209" y="90"/>
                  </a:lnTo>
                  <a:lnTo>
                    <a:pt x="211" y="98"/>
                  </a:lnTo>
                  <a:lnTo>
                    <a:pt x="213" y="105"/>
                  </a:lnTo>
                  <a:lnTo>
                    <a:pt x="214" y="113"/>
                  </a:lnTo>
                  <a:lnTo>
                    <a:pt x="215" y="120"/>
                  </a:lnTo>
                  <a:lnTo>
                    <a:pt x="215" y="127"/>
                  </a:lnTo>
                  <a:lnTo>
                    <a:pt x="215" y="136"/>
                  </a:lnTo>
                  <a:lnTo>
                    <a:pt x="214" y="144"/>
                  </a:lnTo>
                  <a:lnTo>
                    <a:pt x="213" y="152"/>
                  </a:lnTo>
                  <a:lnTo>
                    <a:pt x="212" y="160"/>
                  </a:lnTo>
                  <a:lnTo>
                    <a:pt x="210" y="169"/>
                  </a:lnTo>
                  <a:lnTo>
                    <a:pt x="207" y="177"/>
                  </a:lnTo>
                  <a:lnTo>
                    <a:pt x="204" y="186"/>
                  </a:lnTo>
                  <a:lnTo>
                    <a:pt x="201" y="195"/>
                  </a:lnTo>
                  <a:lnTo>
                    <a:pt x="197" y="202"/>
                  </a:lnTo>
                  <a:lnTo>
                    <a:pt x="193" y="210"/>
                  </a:lnTo>
                  <a:lnTo>
                    <a:pt x="189" y="217"/>
                  </a:lnTo>
                  <a:lnTo>
                    <a:pt x="185" y="222"/>
                  </a:lnTo>
                  <a:lnTo>
                    <a:pt x="180" y="229"/>
                  </a:lnTo>
                  <a:lnTo>
                    <a:pt x="175" y="234"/>
                  </a:lnTo>
                  <a:lnTo>
                    <a:pt x="170" y="237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3" y="246"/>
                  </a:lnTo>
                  <a:lnTo>
                    <a:pt x="148" y="247"/>
                  </a:lnTo>
                  <a:lnTo>
                    <a:pt x="142" y="249"/>
                  </a:lnTo>
                  <a:lnTo>
                    <a:pt x="136" y="249"/>
                  </a:lnTo>
                  <a:lnTo>
                    <a:pt x="131" y="247"/>
                  </a:lnTo>
                  <a:lnTo>
                    <a:pt x="125" y="245"/>
                  </a:lnTo>
                  <a:close/>
                  <a:moveTo>
                    <a:pt x="98" y="43"/>
                  </a:moveTo>
                  <a:lnTo>
                    <a:pt x="92" y="40"/>
                  </a:lnTo>
                  <a:lnTo>
                    <a:pt x="87" y="39"/>
                  </a:lnTo>
                  <a:lnTo>
                    <a:pt x="82" y="38"/>
                  </a:lnTo>
                  <a:lnTo>
                    <a:pt x="77" y="38"/>
                  </a:lnTo>
                  <a:lnTo>
                    <a:pt x="73" y="38"/>
                  </a:lnTo>
                  <a:lnTo>
                    <a:pt x="68" y="39"/>
                  </a:lnTo>
                  <a:lnTo>
                    <a:pt x="64" y="40"/>
                  </a:lnTo>
                  <a:lnTo>
                    <a:pt x="59" y="43"/>
                  </a:lnTo>
                  <a:lnTo>
                    <a:pt x="55" y="45"/>
                  </a:lnTo>
                  <a:lnTo>
                    <a:pt x="51" y="49"/>
                  </a:lnTo>
                  <a:lnTo>
                    <a:pt x="47" y="53"/>
                  </a:lnTo>
                  <a:lnTo>
                    <a:pt x="43" y="56"/>
                  </a:lnTo>
                  <a:lnTo>
                    <a:pt x="40" y="61"/>
                  </a:lnTo>
                  <a:lnTo>
                    <a:pt x="37" y="66"/>
                  </a:lnTo>
                  <a:lnTo>
                    <a:pt x="34" y="71"/>
                  </a:lnTo>
                  <a:lnTo>
                    <a:pt x="32" y="78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7" y="96"/>
                  </a:lnTo>
                  <a:lnTo>
                    <a:pt x="27" y="103"/>
                  </a:lnTo>
                  <a:lnTo>
                    <a:pt x="26" y="109"/>
                  </a:lnTo>
                  <a:lnTo>
                    <a:pt x="27" y="115"/>
                  </a:lnTo>
                  <a:lnTo>
                    <a:pt x="27" y="123"/>
                  </a:lnTo>
                  <a:lnTo>
                    <a:pt x="29" y="129"/>
                  </a:lnTo>
                  <a:lnTo>
                    <a:pt x="30" y="135"/>
                  </a:lnTo>
                  <a:lnTo>
                    <a:pt x="32" y="140"/>
                  </a:lnTo>
                  <a:lnTo>
                    <a:pt x="35" y="146"/>
                  </a:lnTo>
                  <a:lnTo>
                    <a:pt x="38" y="151"/>
                  </a:lnTo>
                  <a:lnTo>
                    <a:pt x="41" y="155"/>
                  </a:lnTo>
                  <a:lnTo>
                    <a:pt x="45" y="159"/>
                  </a:lnTo>
                  <a:lnTo>
                    <a:pt x="50" y="162"/>
                  </a:lnTo>
                  <a:lnTo>
                    <a:pt x="54" y="166"/>
                  </a:lnTo>
                  <a:lnTo>
                    <a:pt x="59" y="167"/>
                  </a:lnTo>
                  <a:lnTo>
                    <a:pt x="63" y="170"/>
                  </a:lnTo>
                  <a:lnTo>
                    <a:pt x="68" y="170"/>
                  </a:lnTo>
                  <a:lnTo>
                    <a:pt x="72" y="171"/>
                  </a:lnTo>
                  <a:lnTo>
                    <a:pt x="77" y="170"/>
                  </a:lnTo>
                  <a:lnTo>
                    <a:pt x="81" y="169"/>
                  </a:lnTo>
                  <a:lnTo>
                    <a:pt x="86" y="167"/>
                  </a:lnTo>
                  <a:lnTo>
                    <a:pt x="90" y="165"/>
                  </a:lnTo>
                  <a:lnTo>
                    <a:pt x="95" y="161"/>
                  </a:lnTo>
                  <a:lnTo>
                    <a:pt x="100" y="159"/>
                  </a:lnTo>
                  <a:lnTo>
                    <a:pt x="103" y="154"/>
                  </a:lnTo>
                  <a:lnTo>
                    <a:pt x="107" y="150"/>
                  </a:lnTo>
                  <a:lnTo>
                    <a:pt x="110" y="145"/>
                  </a:lnTo>
                  <a:lnTo>
                    <a:pt x="113" y="140"/>
                  </a:lnTo>
                  <a:lnTo>
                    <a:pt x="116" y="134"/>
                  </a:lnTo>
                  <a:lnTo>
                    <a:pt x="119" y="127"/>
                  </a:lnTo>
                  <a:lnTo>
                    <a:pt x="121" y="121"/>
                  </a:lnTo>
                  <a:lnTo>
                    <a:pt x="122" y="115"/>
                  </a:lnTo>
                  <a:lnTo>
                    <a:pt x="124" y="109"/>
                  </a:lnTo>
                  <a:lnTo>
                    <a:pt x="124" y="103"/>
                  </a:lnTo>
                  <a:lnTo>
                    <a:pt x="125" y="96"/>
                  </a:lnTo>
                  <a:lnTo>
                    <a:pt x="125" y="90"/>
                  </a:lnTo>
                  <a:lnTo>
                    <a:pt x="124" y="84"/>
                  </a:lnTo>
                  <a:lnTo>
                    <a:pt x="123" y="78"/>
                  </a:lnTo>
                  <a:lnTo>
                    <a:pt x="122" y="73"/>
                  </a:lnTo>
                  <a:lnTo>
                    <a:pt x="120" y="68"/>
                  </a:lnTo>
                  <a:lnTo>
                    <a:pt x="117" y="63"/>
                  </a:lnTo>
                  <a:lnTo>
                    <a:pt x="114" y="58"/>
                  </a:lnTo>
                  <a:lnTo>
                    <a:pt x="111" y="54"/>
                  </a:lnTo>
                  <a:lnTo>
                    <a:pt x="107" y="50"/>
                  </a:lnTo>
                  <a:lnTo>
                    <a:pt x="103" y="46"/>
                  </a:lnTo>
                  <a:lnTo>
                    <a:pt x="98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91000" y="2218320"/>
              <a:ext cx="56160" cy="48240"/>
            </a:xfrm>
            <a:custGeom>
              <a:avLst/>
              <a:gdLst/>
              <a:ahLst/>
              <a:rect l="l" t="t" r="r" b="b"/>
              <a:pathLst>
                <a:path w="216" h="248">
                  <a:moveTo>
                    <a:pt x="92" y="2"/>
                  </a:moveTo>
                  <a:lnTo>
                    <a:pt x="80" y="41"/>
                  </a:lnTo>
                  <a:lnTo>
                    <a:pt x="75" y="41"/>
                  </a:lnTo>
                  <a:lnTo>
                    <a:pt x="72" y="41"/>
                  </a:lnTo>
                  <a:lnTo>
                    <a:pt x="68" y="41"/>
                  </a:lnTo>
                  <a:lnTo>
                    <a:pt x="65" y="41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6" y="44"/>
                  </a:lnTo>
                  <a:lnTo>
                    <a:pt x="54" y="45"/>
                  </a:lnTo>
                  <a:lnTo>
                    <a:pt x="50" y="47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40" y="57"/>
                  </a:lnTo>
                  <a:lnTo>
                    <a:pt x="37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30" y="76"/>
                  </a:lnTo>
                  <a:lnTo>
                    <a:pt x="29" y="81"/>
                  </a:lnTo>
                  <a:lnTo>
                    <a:pt x="27" y="86"/>
                  </a:lnTo>
                  <a:lnTo>
                    <a:pt x="26" y="90"/>
                  </a:lnTo>
                  <a:lnTo>
                    <a:pt x="26" y="95"/>
                  </a:lnTo>
                  <a:lnTo>
                    <a:pt x="25" y="98"/>
                  </a:lnTo>
                  <a:lnTo>
                    <a:pt x="25" y="103"/>
                  </a:lnTo>
                  <a:lnTo>
                    <a:pt x="25" y="107"/>
                  </a:lnTo>
                  <a:lnTo>
                    <a:pt x="25" y="112"/>
                  </a:lnTo>
                  <a:lnTo>
                    <a:pt x="25" y="117"/>
                  </a:lnTo>
                  <a:lnTo>
                    <a:pt x="26" y="122"/>
                  </a:lnTo>
                  <a:lnTo>
                    <a:pt x="27" y="128"/>
                  </a:lnTo>
                  <a:lnTo>
                    <a:pt x="29" y="133"/>
                  </a:lnTo>
                  <a:lnTo>
                    <a:pt x="31" y="138"/>
                  </a:lnTo>
                  <a:lnTo>
                    <a:pt x="33" y="143"/>
                  </a:lnTo>
                  <a:lnTo>
                    <a:pt x="35" y="148"/>
                  </a:lnTo>
                  <a:lnTo>
                    <a:pt x="38" y="153"/>
                  </a:lnTo>
                  <a:lnTo>
                    <a:pt x="41" y="158"/>
                  </a:lnTo>
                  <a:lnTo>
                    <a:pt x="45" y="162"/>
                  </a:lnTo>
                  <a:lnTo>
                    <a:pt x="49" y="167"/>
                  </a:lnTo>
                  <a:lnTo>
                    <a:pt x="54" y="171"/>
                  </a:lnTo>
                  <a:lnTo>
                    <a:pt x="59" y="176"/>
                  </a:lnTo>
                  <a:lnTo>
                    <a:pt x="64" y="180"/>
                  </a:lnTo>
                  <a:lnTo>
                    <a:pt x="71" y="185"/>
                  </a:lnTo>
                  <a:lnTo>
                    <a:pt x="79" y="188"/>
                  </a:lnTo>
                  <a:lnTo>
                    <a:pt x="76" y="183"/>
                  </a:lnTo>
                  <a:lnTo>
                    <a:pt x="74" y="178"/>
                  </a:lnTo>
                  <a:lnTo>
                    <a:pt x="73" y="172"/>
                  </a:lnTo>
                  <a:lnTo>
                    <a:pt x="72" y="167"/>
                  </a:lnTo>
                  <a:lnTo>
                    <a:pt x="71" y="162"/>
                  </a:lnTo>
                  <a:lnTo>
                    <a:pt x="71" y="156"/>
                  </a:lnTo>
                  <a:lnTo>
                    <a:pt x="71" y="151"/>
                  </a:lnTo>
                  <a:lnTo>
                    <a:pt x="71" y="145"/>
                  </a:lnTo>
                  <a:lnTo>
                    <a:pt x="71" y="138"/>
                  </a:lnTo>
                  <a:lnTo>
                    <a:pt x="72" y="133"/>
                  </a:lnTo>
                  <a:lnTo>
                    <a:pt x="73" y="127"/>
                  </a:lnTo>
                  <a:lnTo>
                    <a:pt x="74" y="122"/>
                  </a:lnTo>
                  <a:lnTo>
                    <a:pt x="75" y="116"/>
                  </a:lnTo>
                  <a:lnTo>
                    <a:pt x="76" y="111"/>
                  </a:lnTo>
                  <a:lnTo>
                    <a:pt x="79" y="105"/>
                  </a:lnTo>
                  <a:lnTo>
                    <a:pt x="81" y="100"/>
                  </a:lnTo>
                  <a:lnTo>
                    <a:pt x="84" y="91"/>
                  </a:lnTo>
                  <a:lnTo>
                    <a:pt x="89" y="82"/>
                  </a:lnTo>
                  <a:lnTo>
                    <a:pt x="93" y="75"/>
                  </a:lnTo>
                  <a:lnTo>
                    <a:pt x="98" y="67"/>
                  </a:lnTo>
                  <a:lnTo>
                    <a:pt x="103" y="61"/>
                  </a:lnTo>
                  <a:lnTo>
                    <a:pt x="109" y="55"/>
                  </a:lnTo>
                  <a:lnTo>
                    <a:pt x="115" y="50"/>
                  </a:lnTo>
                  <a:lnTo>
                    <a:pt x="121" y="45"/>
                  </a:lnTo>
                  <a:lnTo>
                    <a:pt x="128" y="41"/>
                  </a:lnTo>
                  <a:lnTo>
                    <a:pt x="135" y="39"/>
                  </a:lnTo>
                  <a:lnTo>
                    <a:pt x="142" y="37"/>
                  </a:lnTo>
                  <a:lnTo>
                    <a:pt x="148" y="36"/>
                  </a:lnTo>
                  <a:lnTo>
                    <a:pt x="156" y="36"/>
                  </a:lnTo>
                  <a:lnTo>
                    <a:pt x="163" y="39"/>
                  </a:lnTo>
                  <a:lnTo>
                    <a:pt x="169" y="40"/>
                  </a:lnTo>
                  <a:lnTo>
                    <a:pt x="176" y="44"/>
                  </a:lnTo>
                  <a:lnTo>
                    <a:pt x="181" y="46"/>
                  </a:lnTo>
                  <a:lnTo>
                    <a:pt x="185" y="50"/>
                  </a:lnTo>
                  <a:lnTo>
                    <a:pt x="189" y="52"/>
                  </a:lnTo>
                  <a:lnTo>
                    <a:pt x="192" y="56"/>
                  </a:lnTo>
                  <a:lnTo>
                    <a:pt x="196" y="61"/>
                  </a:lnTo>
                  <a:lnTo>
                    <a:pt x="199" y="65"/>
                  </a:lnTo>
                  <a:lnTo>
                    <a:pt x="202" y="70"/>
                  </a:lnTo>
                  <a:lnTo>
                    <a:pt x="205" y="75"/>
                  </a:lnTo>
                  <a:lnTo>
                    <a:pt x="207" y="81"/>
                  </a:lnTo>
                  <a:lnTo>
                    <a:pt x="209" y="86"/>
                  </a:lnTo>
                  <a:lnTo>
                    <a:pt x="211" y="92"/>
                  </a:lnTo>
                  <a:lnTo>
                    <a:pt x="213" y="97"/>
                  </a:lnTo>
                  <a:lnTo>
                    <a:pt x="214" y="103"/>
                  </a:lnTo>
                  <a:lnTo>
                    <a:pt x="215" y="110"/>
                  </a:lnTo>
                  <a:lnTo>
                    <a:pt x="215" y="116"/>
                  </a:lnTo>
                  <a:lnTo>
                    <a:pt x="216" y="122"/>
                  </a:lnTo>
                  <a:lnTo>
                    <a:pt x="215" y="130"/>
                  </a:lnTo>
                  <a:lnTo>
                    <a:pt x="215" y="136"/>
                  </a:lnTo>
                  <a:lnTo>
                    <a:pt x="214" y="142"/>
                  </a:lnTo>
                  <a:lnTo>
                    <a:pt x="213" y="150"/>
                  </a:lnTo>
                  <a:lnTo>
                    <a:pt x="212" y="156"/>
                  </a:lnTo>
                  <a:lnTo>
                    <a:pt x="210" y="163"/>
                  </a:lnTo>
                  <a:lnTo>
                    <a:pt x="208" y="170"/>
                  </a:lnTo>
                  <a:lnTo>
                    <a:pt x="206" y="177"/>
                  </a:lnTo>
                  <a:lnTo>
                    <a:pt x="201" y="188"/>
                  </a:lnTo>
                  <a:lnTo>
                    <a:pt x="196" y="198"/>
                  </a:lnTo>
                  <a:lnTo>
                    <a:pt x="190" y="208"/>
                  </a:lnTo>
                  <a:lnTo>
                    <a:pt x="184" y="217"/>
                  </a:lnTo>
                  <a:lnTo>
                    <a:pt x="178" y="224"/>
                  </a:lnTo>
                  <a:lnTo>
                    <a:pt x="171" y="231"/>
                  </a:lnTo>
                  <a:lnTo>
                    <a:pt x="164" y="237"/>
                  </a:lnTo>
                  <a:lnTo>
                    <a:pt x="156" y="242"/>
                  </a:lnTo>
                  <a:lnTo>
                    <a:pt x="147" y="246"/>
                  </a:lnTo>
                  <a:lnTo>
                    <a:pt x="138" y="248"/>
                  </a:lnTo>
                  <a:lnTo>
                    <a:pt x="128" y="248"/>
                  </a:lnTo>
                  <a:lnTo>
                    <a:pt x="119" y="248"/>
                  </a:lnTo>
                  <a:lnTo>
                    <a:pt x="108" y="246"/>
                  </a:lnTo>
                  <a:lnTo>
                    <a:pt x="97" y="242"/>
                  </a:lnTo>
                  <a:lnTo>
                    <a:pt x="86" y="237"/>
                  </a:lnTo>
                  <a:lnTo>
                    <a:pt x="73" y="231"/>
                  </a:lnTo>
                  <a:lnTo>
                    <a:pt x="60" y="223"/>
                  </a:lnTo>
                  <a:lnTo>
                    <a:pt x="48" y="215"/>
                  </a:lnTo>
                  <a:lnTo>
                    <a:pt x="38" y="206"/>
                  </a:lnTo>
                  <a:lnTo>
                    <a:pt x="29" y="196"/>
                  </a:lnTo>
                  <a:lnTo>
                    <a:pt x="21" y="186"/>
                  </a:lnTo>
                  <a:lnTo>
                    <a:pt x="14" y="176"/>
                  </a:lnTo>
                  <a:lnTo>
                    <a:pt x="9" y="165"/>
                  </a:lnTo>
                  <a:lnTo>
                    <a:pt x="4" y="153"/>
                  </a:lnTo>
                  <a:lnTo>
                    <a:pt x="2" y="142"/>
                  </a:lnTo>
                  <a:lnTo>
                    <a:pt x="1" y="132"/>
                  </a:lnTo>
                  <a:lnTo>
                    <a:pt x="0" y="121"/>
                  </a:lnTo>
                  <a:lnTo>
                    <a:pt x="0" y="110"/>
                  </a:lnTo>
                  <a:lnTo>
                    <a:pt x="2" y="98"/>
                  </a:lnTo>
                  <a:lnTo>
                    <a:pt x="4" y="87"/>
                  </a:lnTo>
                  <a:lnTo>
                    <a:pt x="8" y="75"/>
                  </a:lnTo>
                  <a:lnTo>
                    <a:pt x="12" y="64"/>
                  </a:lnTo>
                  <a:lnTo>
                    <a:pt x="15" y="55"/>
                  </a:lnTo>
                  <a:lnTo>
                    <a:pt x="19" y="46"/>
                  </a:lnTo>
                  <a:lnTo>
                    <a:pt x="23" y="39"/>
                  </a:lnTo>
                  <a:lnTo>
                    <a:pt x="27" y="32"/>
                  </a:lnTo>
                  <a:lnTo>
                    <a:pt x="32" y="26"/>
                  </a:lnTo>
                  <a:lnTo>
                    <a:pt x="36" y="20"/>
                  </a:lnTo>
                  <a:lnTo>
                    <a:pt x="41" y="15"/>
                  </a:lnTo>
                  <a:lnTo>
                    <a:pt x="46" y="11"/>
                  </a:lnTo>
                  <a:lnTo>
                    <a:pt x="52" y="7"/>
                  </a:lnTo>
                  <a:lnTo>
                    <a:pt x="57" y="5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2" y="2"/>
                  </a:lnTo>
                  <a:close/>
                  <a:moveTo>
                    <a:pt x="117" y="203"/>
                  </a:moveTo>
                  <a:lnTo>
                    <a:pt x="120" y="205"/>
                  </a:lnTo>
                  <a:lnTo>
                    <a:pt x="123" y="206"/>
                  </a:lnTo>
                  <a:lnTo>
                    <a:pt x="126" y="207"/>
                  </a:lnTo>
                  <a:lnTo>
                    <a:pt x="129" y="208"/>
                  </a:lnTo>
                  <a:lnTo>
                    <a:pt x="133" y="208"/>
                  </a:lnTo>
                  <a:lnTo>
                    <a:pt x="136" y="208"/>
                  </a:lnTo>
                  <a:lnTo>
                    <a:pt x="139" y="208"/>
                  </a:lnTo>
                  <a:lnTo>
                    <a:pt x="143" y="208"/>
                  </a:lnTo>
                  <a:lnTo>
                    <a:pt x="146" y="207"/>
                  </a:lnTo>
                  <a:lnTo>
                    <a:pt x="151" y="207"/>
                  </a:lnTo>
                  <a:lnTo>
                    <a:pt x="154" y="206"/>
                  </a:lnTo>
                  <a:lnTo>
                    <a:pt x="157" y="203"/>
                  </a:lnTo>
                  <a:lnTo>
                    <a:pt x="160" y="202"/>
                  </a:lnTo>
                  <a:lnTo>
                    <a:pt x="163" y="200"/>
                  </a:lnTo>
                  <a:lnTo>
                    <a:pt x="166" y="197"/>
                  </a:lnTo>
                  <a:lnTo>
                    <a:pt x="169" y="195"/>
                  </a:lnTo>
                  <a:lnTo>
                    <a:pt x="172" y="192"/>
                  </a:lnTo>
                  <a:lnTo>
                    <a:pt x="174" y="188"/>
                  </a:lnTo>
                  <a:lnTo>
                    <a:pt x="177" y="185"/>
                  </a:lnTo>
                  <a:lnTo>
                    <a:pt x="179" y="182"/>
                  </a:lnTo>
                  <a:lnTo>
                    <a:pt x="181" y="178"/>
                  </a:lnTo>
                  <a:lnTo>
                    <a:pt x="183" y="175"/>
                  </a:lnTo>
                  <a:lnTo>
                    <a:pt x="185" y="171"/>
                  </a:lnTo>
                  <a:lnTo>
                    <a:pt x="186" y="167"/>
                  </a:lnTo>
                  <a:lnTo>
                    <a:pt x="188" y="161"/>
                  </a:lnTo>
                  <a:lnTo>
                    <a:pt x="190" y="155"/>
                  </a:lnTo>
                  <a:lnTo>
                    <a:pt x="191" y="148"/>
                  </a:lnTo>
                  <a:lnTo>
                    <a:pt x="191" y="142"/>
                  </a:lnTo>
                  <a:lnTo>
                    <a:pt x="192" y="137"/>
                  </a:lnTo>
                  <a:lnTo>
                    <a:pt x="191" y="131"/>
                  </a:lnTo>
                  <a:lnTo>
                    <a:pt x="191" y="125"/>
                  </a:lnTo>
                  <a:lnTo>
                    <a:pt x="189" y="118"/>
                  </a:lnTo>
                  <a:lnTo>
                    <a:pt x="188" y="113"/>
                  </a:lnTo>
                  <a:lnTo>
                    <a:pt x="186" y="107"/>
                  </a:lnTo>
                  <a:lnTo>
                    <a:pt x="183" y="102"/>
                  </a:lnTo>
                  <a:lnTo>
                    <a:pt x="180" y="97"/>
                  </a:lnTo>
                  <a:lnTo>
                    <a:pt x="177" y="93"/>
                  </a:lnTo>
                  <a:lnTo>
                    <a:pt x="173" y="90"/>
                  </a:lnTo>
                  <a:lnTo>
                    <a:pt x="168" y="86"/>
                  </a:lnTo>
                  <a:lnTo>
                    <a:pt x="164" y="83"/>
                  </a:lnTo>
                  <a:lnTo>
                    <a:pt x="159" y="81"/>
                  </a:lnTo>
                  <a:lnTo>
                    <a:pt x="154" y="79"/>
                  </a:lnTo>
                  <a:lnTo>
                    <a:pt x="148" y="77"/>
                  </a:lnTo>
                  <a:lnTo>
                    <a:pt x="143" y="77"/>
                  </a:lnTo>
                  <a:lnTo>
                    <a:pt x="139" y="77"/>
                  </a:lnTo>
                  <a:lnTo>
                    <a:pt x="134" y="79"/>
                  </a:lnTo>
                  <a:lnTo>
                    <a:pt x="130" y="80"/>
                  </a:lnTo>
                  <a:lnTo>
                    <a:pt x="125" y="82"/>
                  </a:lnTo>
                  <a:lnTo>
                    <a:pt x="121" y="86"/>
                  </a:lnTo>
                  <a:lnTo>
                    <a:pt x="117" y="88"/>
                  </a:lnTo>
                  <a:lnTo>
                    <a:pt x="113" y="92"/>
                  </a:lnTo>
                  <a:lnTo>
                    <a:pt x="110" y="97"/>
                  </a:lnTo>
                  <a:lnTo>
                    <a:pt x="107" y="102"/>
                  </a:lnTo>
                  <a:lnTo>
                    <a:pt x="104" y="107"/>
                  </a:lnTo>
                  <a:lnTo>
                    <a:pt x="101" y="112"/>
                  </a:lnTo>
                  <a:lnTo>
                    <a:pt x="99" y="118"/>
                  </a:lnTo>
                  <a:lnTo>
                    <a:pt x="96" y="125"/>
                  </a:lnTo>
                  <a:lnTo>
                    <a:pt x="95" y="132"/>
                  </a:lnTo>
                  <a:lnTo>
                    <a:pt x="93" y="138"/>
                  </a:lnTo>
                  <a:lnTo>
                    <a:pt x="93" y="145"/>
                  </a:lnTo>
                  <a:lnTo>
                    <a:pt x="92" y="151"/>
                  </a:lnTo>
                  <a:lnTo>
                    <a:pt x="92" y="157"/>
                  </a:lnTo>
                  <a:lnTo>
                    <a:pt x="93" y="162"/>
                  </a:lnTo>
                  <a:lnTo>
                    <a:pt x="94" y="168"/>
                  </a:lnTo>
                  <a:lnTo>
                    <a:pt x="95" y="175"/>
                  </a:lnTo>
                  <a:lnTo>
                    <a:pt x="97" y="180"/>
                  </a:lnTo>
                  <a:lnTo>
                    <a:pt x="99" y="185"/>
                  </a:lnTo>
                  <a:lnTo>
                    <a:pt x="102" y="190"/>
                  </a:lnTo>
                  <a:lnTo>
                    <a:pt x="105" y="193"/>
                  </a:lnTo>
                  <a:lnTo>
                    <a:pt x="109" y="197"/>
                  </a:lnTo>
                  <a:lnTo>
                    <a:pt x="113" y="201"/>
                  </a:lnTo>
                  <a:lnTo>
                    <a:pt x="117" y="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4080" y="3002400"/>
              <a:ext cx="61560" cy="48960"/>
            </a:xfrm>
            <a:custGeom>
              <a:avLst/>
              <a:gdLst/>
              <a:ahLst/>
              <a:rect l="l" t="t" r="r" b="b"/>
              <a:pathLst>
                <a:path w="237" h="255">
                  <a:moveTo>
                    <a:pt x="222" y="255"/>
                  </a:moveTo>
                  <a:lnTo>
                    <a:pt x="0" y="200"/>
                  </a:lnTo>
                  <a:lnTo>
                    <a:pt x="16" y="169"/>
                  </a:lnTo>
                  <a:lnTo>
                    <a:pt x="175" y="214"/>
                  </a:lnTo>
                  <a:lnTo>
                    <a:pt x="180" y="215"/>
                  </a:lnTo>
                  <a:lnTo>
                    <a:pt x="185" y="216"/>
                  </a:lnTo>
                  <a:lnTo>
                    <a:pt x="189" y="217"/>
                  </a:lnTo>
                  <a:lnTo>
                    <a:pt x="193" y="220"/>
                  </a:lnTo>
                  <a:lnTo>
                    <a:pt x="198" y="221"/>
                  </a:lnTo>
                  <a:lnTo>
                    <a:pt x="202" y="222"/>
                  </a:lnTo>
                  <a:lnTo>
                    <a:pt x="206" y="224"/>
                  </a:lnTo>
                  <a:lnTo>
                    <a:pt x="210" y="225"/>
                  </a:lnTo>
                  <a:lnTo>
                    <a:pt x="207" y="221"/>
                  </a:lnTo>
                  <a:lnTo>
                    <a:pt x="204" y="217"/>
                  </a:lnTo>
                  <a:lnTo>
                    <a:pt x="201" y="212"/>
                  </a:lnTo>
                  <a:lnTo>
                    <a:pt x="198" y="209"/>
                  </a:lnTo>
                  <a:lnTo>
                    <a:pt x="196" y="204"/>
                  </a:lnTo>
                  <a:lnTo>
                    <a:pt x="193" y="200"/>
                  </a:lnTo>
                  <a:lnTo>
                    <a:pt x="190" y="195"/>
                  </a:lnTo>
                  <a:lnTo>
                    <a:pt x="187" y="191"/>
                  </a:lnTo>
                  <a:lnTo>
                    <a:pt x="88" y="30"/>
                  </a:lnTo>
                  <a:lnTo>
                    <a:pt x="105" y="0"/>
                  </a:lnTo>
                  <a:lnTo>
                    <a:pt x="237" y="226"/>
                  </a:lnTo>
                  <a:lnTo>
                    <a:pt x="222" y="2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83240" y="2993760"/>
              <a:ext cx="49680" cy="31680"/>
            </a:xfrm>
            <a:custGeom>
              <a:avLst/>
              <a:gdLst/>
              <a:ahLst/>
              <a:rect l="l" t="t" r="r" b="b"/>
              <a:pathLst>
                <a:path w="190" h="165">
                  <a:moveTo>
                    <a:pt x="24" y="46"/>
                  </a:moveTo>
                  <a:lnTo>
                    <a:pt x="0" y="26"/>
                  </a:lnTo>
                  <a:lnTo>
                    <a:pt x="13" y="0"/>
                  </a:lnTo>
                  <a:lnTo>
                    <a:pt x="38" y="18"/>
                  </a:lnTo>
                  <a:lnTo>
                    <a:pt x="24" y="46"/>
                  </a:lnTo>
                  <a:close/>
                  <a:moveTo>
                    <a:pt x="176" y="165"/>
                  </a:moveTo>
                  <a:lnTo>
                    <a:pt x="48" y="64"/>
                  </a:lnTo>
                  <a:lnTo>
                    <a:pt x="62" y="37"/>
                  </a:lnTo>
                  <a:lnTo>
                    <a:pt x="190" y="139"/>
                  </a:lnTo>
                  <a:lnTo>
                    <a:pt x="17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08800" y="2971080"/>
              <a:ext cx="48240" cy="39600"/>
            </a:xfrm>
            <a:custGeom>
              <a:avLst/>
              <a:gdLst/>
              <a:ahLst/>
              <a:rect l="l" t="t" r="r" b="b"/>
              <a:pathLst>
                <a:path w="184" h="202">
                  <a:moveTo>
                    <a:pt x="150" y="96"/>
                  </a:moveTo>
                  <a:lnTo>
                    <a:pt x="151" y="102"/>
                  </a:lnTo>
                  <a:lnTo>
                    <a:pt x="151" y="107"/>
                  </a:lnTo>
                  <a:lnTo>
                    <a:pt x="151" y="112"/>
                  </a:lnTo>
                  <a:lnTo>
                    <a:pt x="151" y="117"/>
                  </a:lnTo>
                  <a:lnTo>
                    <a:pt x="151" y="122"/>
                  </a:lnTo>
                  <a:lnTo>
                    <a:pt x="151" y="127"/>
                  </a:lnTo>
                  <a:lnTo>
                    <a:pt x="150" y="132"/>
                  </a:lnTo>
                  <a:lnTo>
                    <a:pt x="150" y="136"/>
                  </a:lnTo>
                  <a:lnTo>
                    <a:pt x="149" y="140"/>
                  </a:lnTo>
                  <a:lnTo>
                    <a:pt x="148" y="145"/>
                  </a:lnTo>
                  <a:lnTo>
                    <a:pt x="147" y="148"/>
                  </a:lnTo>
                  <a:lnTo>
                    <a:pt x="145" y="153"/>
                  </a:lnTo>
                  <a:lnTo>
                    <a:pt x="144" y="157"/>
                  </a:lnTo>
                  <a:lnTo>
                    <a:pt x="142" y="161"/>
                  </a:lnTo>
                  <a:lnTo>
                    <a:pt x="141" y="165"/>
                  </a:lnTo>
                  <a:lnTo>
                    <a:pt x="139" y="168"/>
                  </a:lnTo>
                  <a:lnTo>
                    <a:pt x="135" y="175"/>
                  </a:lnTo>
                  <a:lnTo>
                    <a:pt x="132" y="181"/>
                  </a:lnTo>
                  <a:lnTo>
                    <a:pt x="128" y="186"/>
                  </a:lnTo>
                  <a:lnTo>
                    <a:pt x="124" y="190"/>
                  </a:lnTo>
                  <a:lnTo>
                    <a:pt x="120" y="193"/>
                  </a:lnTo>
                  <a:lnTo>
                    <a:pt x="116" y="197"/>
                  </a:lnTo>
                  <a:lnTo>
                    <a:pt x="112" y="200"/>
                  </a:lnTo>
                  <a:lnTo>
                    <a:pt x="108" y="201"/>
                  </a:lnTo>
                  <a:lnTo>
                    <a:pt x="103" y="202"/>
                  </a:lnTo>
                  <a:lnTo>
                    <a:pt x="98" y="202"/>
                  </a:lnTo>
                  <a:lnTo>
                    <a:pt x="94" y="202"/>
                  </a:lnTo>
                  <a:lnTo>
                    <a:pt x="90" y="202"/>
                  </a:lnTo>
                  <a:lnTo>
                    <a:pt x="86" y="201"/>
                  </a:lnTo>
                  <a:lnTo>
                    <a:pt x="82" y="200"/>
                  </a:lnTo>
                  <a:lnTo>
                    <a:pt x="78" y="197"/>
                  </a:lnTo>
                  <a:lnTo>
                    <a:pt x="74" y="195"/>
                  </a:lnTo>
                  <a:lnTo>
                    <a:pt x="71" y="192"/>
                  </a:lnTo>
                  <a:lnTo>
                    <a:pt x="69" y="190"/>
                  </a:lnTo>
                  <a:lnTo>
                    <a:pt x="67" y="188"/>
                  </a:lnTo>
                  <a:lnTo>
                    <a:pt x="66" y="186"/>
                  </a:lnTo>
                  <a:lnTo>
                    <a:pt x="64" y="183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9" y="175"/>
                  </a:lnTo>
                  <a:lnTo>
                    <a:pt x="58" y="172"/>
                  </a:lnTo>
                  <a:lnTo>
                    <a:pt x="57" y="170"/>
                  </a:lnTo>
                  <a:lnTo>
                    <a:pt x="56" y="167"/>
                  </a:lnTo>
                  <a:lnTo>
                    <a:pt x="56" y="163"/>
                  </a:lnTo>
                  <a:lnTo>
                    <a:pt x="55" y="161"/>
                  </a:lnTo>
                  <a:lnTo>
                    <a:pt x="55" y="157"/>
                  </a:lnTo>
                  <a:lnTo>
                    <a:pt x="54" y="155"/>
                  </a:lnTo>
                  <a:lnTo>
                    <a:pt x="54" y="151"/>
                  </a:lnTo>
                  <a:lnTo>
                    <a:pt x="54" y="148"/>
                  </a:lnTo>
                  <a:lnTo>
                    <a:pt x="54" y="146"/>
                  </a:lnTo>
                  <a:lnTo>
                    <a:pt x="54" y="142"/>
                  </a:lnTo>
                  <a:lnTo>
                    <a:pt x="55" y="140"/>
                  </a:lnTo>
                  <a:lnTo>
                    <a:pt x="55" y="136"/>
                  </a:lnTo>
                  <a:lnTo>
                    <a:pt x="56" y="133"/>
                  </a:lnTo>
                  <a:lnTo>
                    <a:pt x="56" y="130"/>
                  </a:lnTo>
                  <a:lnTo>
                    <a:pt x="57" y="127"/>
                  </a:lnTo>
                  <a:lnTo>
                    <a:pt x="58" y="125"/>
                  </a:lnTo>
                  <a:lnTo>
                    <a:pt x="58" y="121"/>
                  </a:lnTo>
                  <a:lnTo>
                    <a:pt x="59" y="119"/>
                  </a:lnTo>
                  <a:lnTo>
                    <a:pt x="60" y="116"/>
                  </a:lnTo>
                  <a:lnTo>
                    <a:pt x="62" y="112"/>
                  </a:lnTo>
                  <a:lnTo>
                    <a:pt x="63" y="109"/>
                  </a:lnTo>
                  <a:lnTo>
                    <a:pt x="64" y="105"/>
                  </a:lnTo>
                  <a:lnTo>
                    <a:pt x="66" y="100"/>
                  </a:lnTo>
                  <a:lnTo>
                    <a:pt x="69" y="92"/>
                  </a:lnTo>
                  <a:lnTo>
                    <a:pt x="72" y="84"/>
                  </a:lnTo>
                  <a:lnTo>
                    <a:pt x="75" y="76"/>
                  </a:lnTo>
                  <a:lnTo>
                    <a:pt x="77" y="70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2" y="51"/>
                  </a:lnTo>
                  <a:lnTo>
                    <a:pt x="83" y="46"/>
                  </a:lnTo>
                  <a:lnTo>
                    <a:pt x="82" y="46"/>
                  </a:lnTo>
                  <a:lnTo>
                    <a:pt x="81" y="45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79" y="44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4" y="40"/>
                  </a:lnTo>
                  <a:lnTo>
                    <a:pt x="71" y="37"/>
                  </a:lnTo>
                  <a:lnTo>
                    <a:pt x="68" y="36"/>
                  </a:lnTo>
                  <a:lnTo>
                    <a:pt x="65" y="35"/>
                  </a:lnTo>
                  <a:lnTo>
                    <a:pt x="63" y="34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49" y="37"/>
                  </a:lnTo>
                  <a:lnTo>
                    <a:pt x="46" y="40"/>
                  </a:lnTo>
                  <a:lnTo>
                    <a:pt x="43" y="44"/>
                  </a:lnTo>
                  <a:lnTo>
                    <a:pt x="40" y="46"/>
                  </a:lnTo>
                  <a:lnTo>
                    <a:pt x="38" y="50"/>
                  </a:lnTo>
                  <a:lnTo>
                    <a:pt x="34" y="55"/>
                  </a:lnTo>
                  <a:lnTo>
                    <a:pt x="31" y="60"/>
                  </a:lnTo>
                  <a:lnTo>
                    <a:pt x="29" y="64"/>
                  </a:lnTo>
                  <a:lnTo>
                    <a:pt x="27" y="69"/>
                  </a:lnTo>
                  <a:lnTo>
                    <a:pt x="25" y="72"/>
                  </a:lnTo>
                  <a:lnTo>
                    <a:pt x="24" y="77"/>
                  </a:lnTo>
                  <a:lnTo>
                    <a:pt x="23" y="81"/>
                  </a:lnTo>
                  <a:lnTo>
                    <a:pt x="23" y="85"/>
                  </a:lnTo>
                  <a:lnTo>
                    <a:pt x="22" y="89"/>
                  </a:lnTo>
                  <a:lnTo>
                    <a:pt x="22" y="91"/>
                  </a:lnTo>
                  <a:lnTo>
                    <a:pt x="23" y="95"/>
                  </a:lnTo>
                  <a:lnTo>
                    <a:pt x="23" y="99"/>
                  </a:lnTo>
                  <a:lnTo>
                    <a:pt x="24" y="102"/>
                  </a:lnTo>
                  <a:lnTo>
                    <a:pt x="26" y="105"/>
                  </a:lnTo>
                  <a:lnTo>
                    <a:pt x="27" y="109"/>
                  </a:lnTo>
                  <a:lnTo>
                    <a:pt x="29" y="112"/>
                  </a:lnTo>
                  <a:lnTo>
                    <a:pt x="32" y="116"/>
                  </a:lnTo>
                  <a:lnTo>
                    <a:pt x="34" y="120"/>
                  </a:lnTo>
                  <a:lnTo>
                    <a:pt x="18" y="143"/>
                  </a:lnTo>
                  <a:lnTo>
                    <a:pt x="15" y="140"/>
                  </a:lnTo>
                  <a:lnTo>
                    <a:pt x="13" y="137"/>
                  </a:lnTo>
                  <a:lnTo>
                    <a:pt x="10" y="133"/>
                  </a:lnTo>
                  <a:lnTo>
                    <a:pt x="8" y="130"/>
                  </a:lnTo>
                  <a:lnTo>
                    <a:pt x="6" y="126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2" y="115"/>
                  </a:lnTo>
                  <a:lnTo>
                    <a:pt x="1" y="111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2" y="81"/>
                  </a:lnTo>
                  <a:lnTo>
                    <a:pt x="3" y="76"/>
                  </a:lnTo>
                  <a:lnTo>
                    <a:pt x="4" y="71"/>
                  </a:lnTo>
                  <a:lnTo>
                    <a:pt x="5" y="66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11" y="51"/>
                  </a:lnTo>
                  <a:lnTo>
                    <a:pt x="13" y="46"/>
                  </a:lnTo>
                  <a:lnTo>
                    <a:pt x="15" y="41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3" y="27"/>
                  </a:lnTo>
                  <a:lnTo>
                    <a:pt x="26" y="24"/>
                  </a:lnTo>
                  <a:lnTo>
                    <a:pt x="28" y="20"/>
                  </a:lnTo>
                  <a:lnTo>
                    <a:pt x="31" y="17"/>
                  </a:lnTo>
                  <a:lnTo>
                    <a:pt x="34" y="14"/>
                  </a:lnTo>
                  <a:lnTo>
                    <a:pt x="37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9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7" y="5"/>
                  </a:lnTo>
                  <a:lnTo>
                    <a:pt x="79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4"/>
                  </a:lnTo>
                  <a:lnTo>
                    <a:pt x="92" y="16"/>
                  </a:lnTo>
                  <a:lnTo>
                    <a:pt x="96" y="19"/>
                  </a:lnTo>
                  <a:lnTo>
                    <a:pt x="125" y="41"/>
                  </a:lnTo>
                  <a:lnTo>
                    <a:pt x="132" y="47"/>
                  </a:lnTo>
                  <a:lnTo>
                    <a:pt x="139" y="52"/>
                  </a:lnTo>
                  <a:lnTo>
                    <a:pt x="145" y="56"/>
                  </a:lnTo>
                  <a:lnTo>
                    <a:pt x="150" y="60"/>
                  </a:lnTo>
                  <a:lnTo>
                    <a:pt x="154" y="64"/>
                  </a:lnTo>
                  <a:lnTo>
                    <a:pt x="158" y="66"/>
                  </a:lnTo>
                  <a:lnTo>
                    <a:pt x="162" y="69"/>
                  </a:lnTo>
                  <a:lnTo>
                    <a:pt x="164" y="70"/>
                  </a:lnTo>
                  <a:lnTo>
                    <a:pt x="166" y="71"/>
                  </a:lnTo>
                  <a:lnTo>
                    <a:pt x="169" y="72"/>
                  </a:lnTo>
                  <a:lnTo>
                    <a:pt x="171" y="72"/>
                  </a:lnTo>
                  <a:lnTo>
                    <a:pt x="173" y="74"/>
                  </a:lnTo>
                  <a:lnTo>
                    <a:pt x="175" y="74"/>
                  </a:lnTo>
                  <a:lnTo>
                    <a:pt x="178" y="75"/>
                  </a:lnTo>
                  <a:lnTo>
                    <a:pt x="181" y="75"/>
                  </a:lnTo>
                  <a:lnTo>
                    <a:pt x="184" y="75"/>
                  </a:lnTo>
                  <a:lnTo>
                    <a:pt x="168" y="104"/>
                  </a:lnTo>
                  <a:lnTo>
                    <a:pt x="166" y="102"/>
                  </a:lnTo>
                  <a:lnTo>
                    <a:pt x="164" y="102"/>
                  </a:lnTo>
                  <a:lnTo>
                    <a:pt x="162" y="101"/>
                  </a:lnTo>
                  <a:lnTo>
                    <a:pt x="159" y="101"/>
                  </a:lnTo>
                  <a:lnTo>
                    <a:pt x="157" y="100"/>
                  </a:lnTo>
                  <a:lnTo>
                    <a:pt x="155" y="99"/>
                  </a:lnTo>
                  <a:lnTo>
                    <a:pt x="152" y="97"/>
                  </a:lnTo>
                  <a:lnTo>
                    <a:pt x="150" y="96"/>
                  </a:lnTo>
                  <a:close/>
                  <a:moveTo>
                    <a:pt x="100" y="60"/>
                  </a:moveTo>
                  <a:lnTo>
                    <a:pt x="99" y="65"/>
                  </a:lnTo>
                  <a:lnTo>
                    <a:pt x="98" y="70"/>
                  </a:lnTo>
                  <a:lnTo>
                    <a:pt x="97" y="76"/>
                  </a:lnTo>
                  <a:lnTo>
                    <a:pt x="95" y="82"/>
                  </a:lnTo>
                  <a:lnTo>
                    <a:pt x="93" y="89"/>
                  </a:lnTo>
                  <a:lnTo>
                    <a:pt x="91" y="95"/>
                  </a:lnTo>
                  <a:lnTo>
                    <a:pt x="88" y="102"/>
                  </a:lnTo>
                  <a:lnTo>
                    <a:pt x="86" y="110"/>
                  </a:lnTo>
                  <a:lnTo>
                    <a:pt x="84" y="115"/>
                  </a:lnTo>
                  <a:lnTo>
                    <a:pt x="83" y="119"/>
                  </a:lnTo>
                  <a:lnTo>
                    <a:pt x="81" y="122"/>
                  </a:lnTo>
                  <a:lnTo>
                    <a:pt x="80" y="126"/>
                  </a:lnTo>
                  <a:lnTo>
                    <a:pt x="80" y="130"/>
                  </a:lnTo>
                  <a:lnTo>
                    <a:pt x="79" y="132"/>
                  </a:lnTo>
                  <a:lnTo>
                    <a:pt x="78" y="135"/>
                  </a:lnTo>
                  <a:lnTo>
                    <a:pt x="78" y="137"/>
                  </a:lnTo>
                  <a:lnTo>
                    <a:pt x="78" y="140"/>
                  </a:lnTo>
                  <a:lnTo>
                    <a:pt x="78" y="141"/>
                  </a:lnTo>
                  <a:lnTo>
                    <a:pt x="78" y="143"/>
                  </a:lnTo>
                  <a:lnTo>
                    <a:pt x="78" y="146"/>
                  </a:lnTo>
                  <a:lnTo>
                    <a:pt x="78" y="147"/>
                  </a:lnTo>
                  <a:lnTo>
                    <a:pt x="78" y="150"/>
                  </a:lnTo>
                  <a:lnTo>
                    <a:pt x="79" y="151"/>
                  </a:lnTo>
                  <a:lnTo>
                    <a:pt x="79" y="153"/>
                  </a:lnTo>
                  <a:lnTo>
                    <a:pt x="80" y="155"/>
                  </a:lnTo>
                  <a:lnTo>
                    <a:pt x="81" y="157"/>
                  </a:lnTo>
                  <a:lnTo>
                    <a:pt x="82" y="158"/>
                  </a:lnTo>
                  <a:lnTo>
                    <a:pt x="83" y="160"/>
                  </a:lnTo>
                  <a:lnTo>
                    <a:pt x="84" y="161"/>
                  </a:lnTo>
                  <a:lnTo>
                    <a:pt x="85" y="162"/>
                  </a:lnTo>
                  <a:lnTo>
                    <a:pt x="86" y="163"/>
                  </a:lnTo>
                  <a:lnTo>
                    <a:pt x="88" y="165"/>
                  </a:lnTo>
                  <a:lnTo>
                    <a:pt x="90" y="167"/>
                  </a:lnTo>
                  <a:lnTo>
                    <a:pt x="92" y="167"/>
                  </a:lnTo>
                  <a:lnTo>
                    <a:pt x="94" y="168"/>
                  </a:lnTo>
                  <a:lnTo>
                    <a:pt x="97" y="170"/>
                  </a:lnTo>
                  <a:lnTo>
                    <a:pt x="99" y="170"/>
                  </a:lnTo>
                  <a:lnTo>
                    <a:pt x="101" y="170"/>
                  </a:lnTo>
                  <a:lnTo>
                    <a:pt x="104" y="168"/>
                  </a:lnTo>
                  <a:lnTo>
                    <a:pt x="106" y="168"/>
                  </a:lnTo>
                  <a:lnTo>
                    <a:pt x="110" y="167"/>
                  </a:lnTo>
                  <a:lnTo>
                    <a:pt x="112" y="166"/>
                  </a:lnTo>
                  <a:lnTo>
                    <a:pt x="114" y="163"/>
                  </a:lnTo>
                  <a:lnTo>
                    <a:pt x="117" y="162"/>
                  </a:lnTo>
                  <a:lnTo>
                    <a:pt x="119" y="160"/>
                  </a:lnTo>
                  <a:lnTo>
                    <a:pt x="121" y="156"/>
                  </a:lnTo>
                  <a:lnTo>
                    <a:pt x="123" y="153"/>
                  </a:lnTo>
                  <a:lnTo>
                    <a:pt x="125" y="150"/>
                  </a:lnTo>
                  <a:lnTo>
                    <a:pt x="127" y="145"/>
                  </a:lnTo>
                  <a:lnTo>
                    <a:pt x="129" y="141"/>
                  </a:lnTo>
                  <a:lnTo>
                    <a:pt x="130" y="137"/>
                  </a:lnTo>
                  <a:lnTo>
                    <a:pt x="131" y="133"/>
                  </a:lnTo>
                  <a:lnTo>
                    <a:pt x="132" y="130"/>
                  </a:lnTo>
                  <a:lnTo>
                    <a:pt x="133" y="126"/>
                  </a:lnTo>
                  <a:lnTo>
                    <a:pt x="134" y="121"/>
                  </a:lnTo>
                  <a:lnTo>
                    <a:pt x="134" y="117"/>
                  </a:lnTo>
                  <a:lnTo>
                    <a:pt x="134" y="114"/>
                  </a:lnTo>
                  <a:lnTo>
                    <a:pt x="134" y="110"/>
                  </a:lnTo>
                  <a:lnTo>
                    <a:pt x="133" y="106"/>
                  </a:lnTo>
                  <a:lnTo>
                    <a:pt x="133" y="102"/>
                  </a:lnTo>
                  <a:lnTo>
                    <a:pt x="132" y="99"/>
                  </a:lnTo>
                  <a:lnTo>
                    <a:pt x="131" y="95"/>
                  </a:lnTo>
                  <a:lnTo>
                    <a:pt x="130" y="91"/>
                  </a:lnTo>
                  <a:lnTo>
                    <a:pt x="128" y="87"/>
                  </a:lnTo>
                  <a:lnTo>
                    <a:pt x="127" y="85"/>
                  </a:lnTo>
                  <a:lnTo>
                    <a:pt x="125" y="82"/>
                  </a:lnTo>
                  <a:lnTo>
                    <a:pt x="123" y="80"/>
                  </a:lnTo>
                  <a:lnTo>
                    <a:pt x="121" y="77"/>
                  </a:lnTo>
                  <a:lnTo>
                    <a:pt x="118" y="75"/>
                  </a:lnTo>
                  <a:lnTo>
                    <a:pt x="115" y="72"/>
                  </a:lnTo>
                  <a:lnTo>
                    <a:pt x="112" y="69"/>
                  </a:lnTo>
                  <a:lnTo>
                    <a:pt x="109" y="66"/>
                  </a:lnTo>
                  <a:lnTo>
                    <a:pt x="10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34720" y="2906640"/>
              <a:ext cx="55080" cy="48960"/>
            </a:xfrm>
            <a:custGeom>
              <a:avLst/>
              <a:gdLst/>
              <a:ahLst/>
              <a:rect l="l" t="t" r="r" b="b"/>
              <a:pathLst>
                <a:path w="215" h="252">
                  <a:moveTo>
                    <a:pt x="167" y="82"/>
                  </a:moveTo>
                  <a:lnTo>
                    <a:pt x="188" y="58"/>
                  </a:lnTo>
                  <a:lnTo>
                    <a:pt x="193" y="66"/>
                  </a:lnTo>
                  <a:lnTo>
                    <a:pt x="198" y="74"/>
                  </a:lnTo>
                  <a:lnTo>
                    <a:pt x="203" y="83"/>
                  </a:lnTo>
                  <a:lnTo>
                    <a:pt x="206" y="91"/>
                  </a:lnTo>
                  <a:lnTo>
                    <a:pt x="209" y="99"/>
                  </a:lnTo>
                  <a:lnTo>
                    <a:pt x="212" y="108"/>
                  </a:lnTo>
                  <a:lnTo>
                    <a:pt x="214" y="117"/>
                  </a:lnTo>
                  <a:lnTo>
                    <a:pt x="215" y="126"/>
                  </a:lnTo>
                  <a:lnTo>
                    <a:pt x="215" y="134"/>
                  </a:lnTo>
                  <a:lnTo>
                    <a:pt x="215" y="143"/>
                  </a:lnTo>
                  <a:lnTo>
                    <a:pt x="214" y="152"/>
                  </a:lnTo>
                  <a:lnTo>
                    <a:pt x="212" y="161"/>
                  </a:lnTo>
                  <a:lnTo>
                    <a:pt x="210" y="169"/>
                  </a:lnTo>
                  <a:lnTo>
                    <a:pt x="207" y="178"/>
                  </a:lnTo>
                  <a:lnTo>
                    <a:pt x="204" y="187"/>
                  </a:lnTo>
                  <a:lnTo>
                    <a:pt x="200" y="195"/>
                  </a:lnTo>
                  <a:lnTo>
                    <a:pt x="195" y="204"/>
                  </a:lnTo>
                  <a:lnTo>
                    <a:pt x="191" y="212"/>
                  </a:lnTo>
                  <a:lnTo>
                    <a:pt x="186" y="218"/>
                  </a:lnTo>
                  <a:lnTo>
                    <a:pt x="181" y="225"/>
                  </a:lnTo>
                  <a:lnTo>
                    <a:pt x="176" y="230"/>
                  </a:lnTo>
                  <a:lnTo>
                    <a:pt x="170" y="235"/>
                  </a:lnTo>
                  <a:lnTo>
                    <a:pt x="165" y="240"/>
                  </a:lnTo>
                  <a:lnTo>
                    <a:pt x="159" y="243"/>
                  </a:lnTo>
                  <a:lnTo>
                    <a:pt x="152" y="247"/>
                  </a:lnTo>
                  <a:lnTo>
                    <a:pt x="146" y="249"/>
                  </a:lnTo>
                  <a:lnTo>
                    <a:pt x="140" y="250"/>
                  </a:lnTo>
                  <a:lnTo>
                    <a:pt x="134" y="252"/>
                  </a:lnTo>
                  <a:lnTo>
                    <a:pt x="128" y="252"/>
                  </a:lnTo>
                  <a:lnTo>
                    <a:pt x="121" y="252"/>
                  </a:lnTo>
                  <a:lnTo>
                    <a:pt x="114" y="252"/>
                  </a:lnTo>
                  <a:lnTo>
                    <a:pt x="108" y="250"/>
                  </a:lnTo>
                  <a:lnTo>
                    <a:pt x="101" y="249"/>
                  </a:lnTo>
                  <a:lnTo>
                    <a:pt x="94" y="247"/>
                  </a:lnTo>
                  <a:lnTo>
                    <a:pt x="87" y="244"/>
                  </a:lnTo>
                  <a:lnTo>
                    <a:pt x="79" y="242"/>
                  </a:lnTo>
                  <a:lnTo>
                    <a:pt x="73" y="238"/>
                  </a:lnTo>
                  <a:lnTo>
                    <a:pt x="66" y="234"/>
                  </a:lnTo>
                  <a:lnTo>
                    <a:pt x="60" y="229"/>
                  </a:lnTo>
                  <a:lnTo>
                    <a:pt x="54" y="224"/>
                  </a:lnTo>
                  <a:lnTo>
                    <a:pt x="47" y="219"/>
                  </a:lnTo>
                  <a:lnTo>
                    <a:pt x="41" y="213"/>
                  </a:lnTo>
                  <a:lnTo>
                    <a:pt x="35" y="207"/>
                  </a:lnTo>
                  <a:lnTo>
                    <a:pt x="30" y="200"/>
                  </a:lnTo>
                  <a:lnTo>
                    <a:pt x="25" y="194"/>
                  </a:lnTo>
                  <a:lnTo>
                    <a:pt x="20" y="188"/>
                  </a:lnTo>
                  <a:lnTo>
                    <a:pt x="16" y="180"/>
                  </a:lnTo>
                  <a:lnTo>
                    <a:pt x="13" y="173"/>
                  </a:lnTo>
                  <a:lnTo>
                    <a:pt x="8" y="167"/>
                  </a:lnTo>
                  <a:lnTo>
                    <a:pt x="6" y="159"/>
                  </a:lnTo>
                  <a:lnTo>
                    <a:pt x="4" y="151"/>
                  </a:lnTo>
                  <a:lnTo>
                    <a:pt x="2" y="143"/>
                  </a:lnTo>
                  <a:lnTo>
                    <a:pt x="1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2"/>
                  </a:lnTo>
                  <a:lnTo>
                    <a:pt x="0" y="103"/>
                  </a:lnTo>
                  <a:lnTo>
                    <a:pt x="1" y="96"/>
                  </a:lnTo>
                  <a:lnTo>
                    <a:pt x="3" y="88"/>
                  </a:lnTo>
                  <a:lnTo>
                    <a:pt x="5" y="81"/>
                  </a:lnTo>
                  <a:lnTo>
                    <a:pt x="7" y="73"/>
                  </a:lnTo>
                  <a:lnTo>
                    <a:pt x="11" y="66"/>
                  </a:lnTo>
                  <a:lnTo>
                    <a:pt x="14" y="58"/>
                  </a:lnTo>
                  <a:lnTo>
                    <a:pt x="17" y="51"/>
                  </a:lnTo>
                  <a:lnTo>
                    <a:pt x="22" y="42"/>
                  </a:lnTo>
                  <a:lnTo>
                    <a:pt x="26" y="36"/>
                  </a:lnTo>
                  <a:lnTo>
                    <a:pt x="31" y="28"/>
                  </a:lnTo>
                  <a:lnTo>
                    <a:pt x="36" y="23"/>
                  </a:lnTo>
                  <a:lnTo>
                    <a:pt x="41" y="18"/>
                  </a:lnTo>
                  <a:lnTo>
                    <a:pt x="47" y="13"/>
                  </a:lnTo>
                  <a:lnTo>
                    <a:pt x="53" y="10"/>
                  </a:lnTo>
                  <a:lnTo>
                    <a:pt x="59" y="6"/>
                  </a:lnTo>
                  <a:lnTo>
                    <a:pt x="65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2"/>
                  </a:lnTo>
                  <a:lnTo>
                    <a:pt x="113" y="5"/>
                  </a:lnTo>
                  <a:lnTo>
                    <a:pt x="104" y="37"/>
                  </a:lnTo>
                  <a:lnTo>
                    <a:pt x="99" y="36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2" y="33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8" y="36"/>
                  </a:lnTo>
                  <a:lnTo>
                    <a:pt x="64" y="37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9" y="48"/>
                  </a:lnTo>
                  <a:lnTo>
                    <a:pt x="46" y="52"/>
                  </a:lnTo>
                  <a:lnTo>
                    <a:pt x="43" y="57"/>
                  </a:lnTo>
                  <a:lnTo>
                    <a:pt x="40" y="62"/>
                  </a:lnTo>
                  <a:lnTo>
                    <a:pt x="37" y="67"/>
                  </a:lnTo>
                  <a:lnTo>
                    <a:pt x="34" y="73"/>
                  </a:lnTo>
                  <a:lnTo>
                    <a:pt x="31" y="79"/>
                  </a:lnTo>
                  <a:lnTo>
                    <a:pt x="29" y="86"/>
                  </a:lnTo>
                  <a:lnTo>
                    <a:pt x="27" y="92"/>
                  </a:lnTo>
                  <a:lnTo>
                    <a:pt x="26" y="98"/>
                  </a:lnTo>
                  <a:lnTo>
                    <a:pt x="25" y="104"/>
                  </a:lnTo>
                  <a:lnTo>
                    <a:pt x="25" y="111"/>
                  </a:lnTo>
                  <a:lnTo>
                    <a:pt x="25" y="117"/>
                  </a:lnTo>
                  <a:lnTo>
                    <a:pt x="25" y="123"/>
                  </a:lnTo>
                  <a:lnTo>
                    <a:pt x="26" y="128"/>
                  </a:lnTo>
                  <a:lnTo>
                    <a:pt x="27" y="134"/>
                  </a:lnTo>
                  <a:lnTo>
                    <a:pt x="29" y="141"/>
                  </a:lnTo>
                  <a:lnTo>
                    <a:pt x="31" y="146"/>
                  </a:lnTo>
                  <a:lnTo>
                    <a:pt x="33" y="151"/>
                  </a:lnTo>
                  <a:lnTo>
                    <a:pt x="36" y="156"/>
                  </a:lnTo>
                  <a:lnTo>
                    <a:pt x="39" y="161"/>
                  </a:lnTo>
                  <a:lnTo>
                    <a:pt x="42" y="166"/>
                  </a:lnTo>
                  <a:lnTo>
                    <a:pt x="45" y="171"/>
                  </a:lnTo>
                  <a:lnTo>
                    <a:pt x="49" y="175"/>
                  </a:lnTo>
                  <a:lnTo>
                    <a:pt x="53" y="179"/>
                  </a:lnTo>
                  <a:lnTo>
                    <a:pt x="56" y="183"/>
                  </a:lnTo>
                  <a:lnTo>
                    <a:pt x="60" y="188"/>
                  </a:lnTo>
                  <a:lnTo>
                    <a:pt x="65" y="192"/>
                  </a:lnTo>
                  <a:lnTo>
                    <a:pt x="69" y="194"/>
                  </a:lnTo>
                  <a:lnTo>
                    <a:pt x="74" y="199"/>
                  </a:lnTo>
                  <a:lnTo>
                    <a:pt x="80" y="203"/>
                  </a:lnTo>
                  <a:lnTo>
                    <a:pt x="86" y="207"/>
                  </a:lnTo>
                  <a:lnTo>
                    <a:pt x="92" y="209"/>
                  </a:lnTo>
                  <a:lnTo>
                    <a:pt x="97" y="212"/>
                  </a:lnTo>
                  <a:lnTo>
                    <a:pt x="102" y="214"/>
                  </a:lnTo>
                  <a:lnTo>
                    <a:pt x="108" y="217"/>
                  </a:lnTo>
                  <a:lnTo>
                    <a:pt x="113" y="218"/>
                  </a:lnTo>
                  <a:lnTo>
                    <a:pt x="118" y="219"/>
                  </a:lnTo>
                  <a:lnTo>
                    <a:pt x="123" y="219"/>
                  </a:lnTo>
                  <a:lnTo>
                    <a:pt x="128" y="219"/>
                  </a:lnTo>
                  <a:lnTo>
                    <a:pt x="133" y="219"/>
                  </a:lnTo>
                  <a:lnTo>
                    <a:pt x="137" y="218"/>
                  </a:lnTo>
                  <a:lnTo>
                    <a:pt x="142" y="217"/>
                  </a:lnTo>
                  <a:lnTo>
                    <a:pt x="146" y="214"/>
                  </a:lnTo>
                  <a:lnTo>
                    <a:pt x="151" y="212"/>
                  </a:lnTo>
                  <a:lnTo>
                    <a:pt x="156" y="209"/>
                  </a:lnTo>
                  <a:lnTo>
                    <a:pt x="160" y="207"/>
                  </a:lnTo>
                  <a:lnTo>
                    <a:pt x="164" y="203"/>
                  </a:lnTo>
                  <a:lnTo>
                    <a:pt x="167" y="199"/>
                  </a:lnTo>
                  <a:lnTo>
                    <a:pt x="170" y="195"/>
                  </a:lnTo>
                  <a:lnTo>
                    <a:pt x="173" y="192"/>
                  </a:lnTo>
                  <a:lnTo>
                    <a:pt x="176" y="187"/>
                  </a:lnTo>
                  <a:lnTo>
                    <a:pt x="179" y="182"/>
                  </a:lnTo>
                  <a:lnTo>
                    <a:pt x="182" y="175"/>
                  </a:lnTo>
                  <a:lnTo>
                    <a:pt x="184" y="169"/>
                  </a:lnTo>
                  <a:lnTo>
                    <a:pt x="186" y="163"/>
                  </a:lnTo>
                  <a:lnTo>
                    <a:pt x="188" y="157"/>
                  </a:lnTo>
                  <a:lnTo>
                    <a:pt x="189" y="151"/>
                  </a:lnTo>
                  <a:lnTo>
                    <a:pt x="189" y="144"/>
                  </a:lnTo>
                  <a:lnTo>
                    <a:pt x="189" y="138"/>
                  </a:lnTo>
                  <a:lnTo>
                    <a:pt x="189" y="132"/>
                  </a:lnTo>
                  <a:lnTo>
                    <a:pt x="188" y="126"/>
                  </a:lnTo>
                  <a:lnTo>
                    <a:pt x="186" y="119"/>
                  </a:lnTo>
                  <a:lnTo>
                    <a:pt x="185" y="113"/>
                  </a:lnTo>
                  <a:lnTo>
                    <a:pt x="182" y="107"/>
                  </a:lnTo>
                  <a:lnTo>
                    <a:pt x="179" y="101"/>
                  </a:lnTo>
                  <a:lnTo>
                    <a:pt x="176" y="94"/>
                  </a:lnTo>
                  <a:lnTo>
                    <a:pt x="172" y="88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64240" y="2862000"/>
              <a:ext cx="56160" cy="50040"/>
            </a:xfrm>
            <a:custGeom>
              <a:avLst/>
              <a:gdLst/>
              <a:ahLst/>
              <a:rect l="l" t="t" r="r" b="b"/>
              <a:pathLst>
                <a:path w="217" h="258">
                  <a:moveTo>
                    <a:pt x="57" y="236"/>
                  </a:moveTo>
                  <a:lnTo>
                    <a:pt x="47" y="227"/>
                  </a:lnTo>
                  <a:lnTo>
                    <a:pt x="36" y="217"/>
                  </a:lnTo>
                  <a:lnTo>
                    <a:pt x="28" y="207"/>
                  </a:lnTo>
                  <a:lnTo>
                    <a:pt x="21" y="197"/>
                  </a:lnTo>
                  <a:lnTo>
                    <a:pt x="15" y="187"/>
                  </a:lnTo>
                  <a:lnTo>
                    <a:pt x="10" y="176"/>
                  </a:lnTo>
                  <a:lnTo>
                    <a:pt x="6" y="165"/>
                  </a:lnTo>
                  <a:lnTo>
                    <a:pt x="3" y="152"/>
                  </a:lnTo>
                  <a:lnTo>
                    <a:pt x="1" y="140"/>
                  </a:lnTo>
                  <a:lnTo>
                    <a:pt x="0" y="127"/>
                  </a:lnTo>
                  <a:lnTo>
                    <a:pt x="0" y="116"/>
                  </a:lnTo>
                  <a:lnTo>
                    <a:pt x="1" y="104"/>
                  </a:lnTo>
                  <a:lnTo>
                    <a:pt x="4" y="93"/>
                  </a:lnTo>
                  <a:lnTo>
                    <a:pt x="7" y="80"/>
                  </a:lnTo>
                  <a:lnTo>
                    <a:pt x="11" y="69"/>
                  </a:lnTo>
                  <a:lnTo>
                    <a:pt x="17" y="58"/>
                  </a:lnTo>
                  <a:lnTo>
                    <a:pt x="21" y="50"/>
                  </a:lnTo>
                  <a:lnTo>
                    <a:pt x="25" y="43"/>
                  </a:lnTo>
                  <a:lnTo>
                    <a:pt x="29" y="36"/>
                  </a:lnTo>
                  <a:lnTo>
                    <a:pt x="34" y="31"/>
                  </a:lnTo>
                  <a:lnTo>
                    <a:pt x="39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5"/>
                  </a:lnTo>
                  <a:lnTo>
                    <a:pt x="76" y="4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6" y="1"/>
                  </a:lnTo>
                  <a:lnTo>
                    <a:pt x="123" y="4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3" y="13"/>
                  </a:lnTo>
                  <a:lnTo>
                    <a:pt x="150" y="16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1"/>
                  </a:lnTo>
                  <a:lnTo>
                    <a:pt x="175" y="36"/>
                  </a:lnTo>
                  <a:lnTo>
                    <a:pt x="181" y="43"/>
                  </a:lnTo>
                  <a:lnTo>
                    <a:pt x="187" y="49"/>
                  </a:lnTo>
                  <a:lnTo>
                    <a:pt x="192" y="55"/>
                  </a:lnTo>
                  <a:lnTo>
                    <a:pt x="197" y="63"/>
                  </a:lnTo>
                  <a:lnTo>
                    <a:pt x="201" y="70"/>
                  </a:lnTo>
                  <a:lnTo>
                    <a:pt x="205" y="76"/>
                  </a:lnTo>
                  <a:lnTo>
                    <a:pt x="208" y="85"/>
                  </a:lnTo>
                  <a:lnTo>
                    <a:pt x="211" y="93"/>
                  </a:lnTo>
                  <a:lnTo>
                    <a:pt x="213" y="100"/>
                  </a:lnTo>
                  <a:lnTo>
                    <a:pt x="215" y="108"/>
                  </a:lnTo>
                  <a:lnTo>
                    <a:pt x="216" y="116"/>
                  </a:lnTo>
                  <a:lnTo>
                    <a:pt x="217" y="124"/>
                  </a:lnTo>
                  <a:lnTo>
                    <a:pt x="217" y="132"/>
                  </a:lnTo>
                  <a:lnTo>
                    <a:pt x="217" y="140"/>
                  </a:lnTo>
                  <a:lnTo>
                    <a:pt x="216" y="149"/>
                  </a:lnTo>
                  <a:lnTo>
                    <a:pt x="215" y="156"/>
                  </a:lnTo>
                  <a:lnTo>
                    <a:pt x="214" y="165"/>
                  </a:lnTo>
                  <a:lnTo>
                    <a:pt x="212" y="172"/>
                  </a:lnTo>
                  <a:lnTo>
                    <a:pt x="210" y="180"/>
                  </a:lnTo>
                  <a:lnTo>
                    <a:pt x="207" y="187"/>
                  </a:lnTo>
                  <a:lnTo>
                    <a:pt x="204" y="195"/>
                  </a:lnTo>
                  <a:lnTo>
                    <a:pt x="201" y="202"/>
                  </a:lnTo>
                  <a:lnTo>
                    <a:pt x="196" y="210"/>
                  </a:lnTo>
                  <a:lnTo>
                    <a:pt x="192" y="216"/>
                  </a:lnTo>
                  <a:lnTo>
                    <a:pt x="187" y="222"/>
                  </a:lnTo>
                  <a:lnTo>
                    <a:pt x="182" y="229"/>
                  </a:lnTo>
                  <a:lnTo>
                    <a:pt x="176" y="234"/>
                  </a:lnTo>
                  <a:lnTo>
                    <a:pt x="171" y="239"/>
                  </a:lnTo>
                  <a:lnTo>
                    <a:pt x="165" y="244"/>
                  </a:lnTo>
                  <a:lnTo>
                    <a:pt x="159" y="247"/>
                  </a:lnTo>
                  <a:lnTo>
                    <a:pt x="153" y="251"/>
                  </a:lnTo>
                  <a:lnTo>
                    <a:pt x="147" y="254"/>
                  </a:lnTo>
                  <a:lnTo>
                    <a:pt x="141" y="256"/>
                  </a:lnTo>
                  <a:lnTo>
                    <a:pt x="134" y="257"/>
                  </a:lnTo>
                  <a:lnTo>
                    <a:pt x="128" y="258"/>
                  </a:lnTo>
                  <a:lnTo>
                    <a:pt x="121" y="258"/>
                  </a:lnTo>
                  <a:lnTo>
                    <a:pt x="115" y="258"/>
                  </a:lnTo>
                  <a:lnTo>
                    <a:pt x="107" y="258"/>
                  </a:lnTo>
                  <a:lnTo>
                    <a:pt x="100" y="257"/>
                  </a:lnTo>
                  <a:lnTo>
                    <a:pt x="94" y="255"/>
                  </a:lnTo>
                  <a:lnTo>
                    <a:pt x="87" y="254"/>
                  </a:lnTo>
                  <a:lnTo>
                    <a:pt x="81" y="251"/>
                  </a:lnTo>
                  <a:lnTo>
                    <a:pt x="75" y="247"/>
                  </a:lnTo>
                  <a:lnTo>
                    <a:pt x="69" y="245"/>
                  </a:lnTo>
                  <a:lnTo>
                    <a:pt x="63" y="240"/>
                  </a:lnTo>
                  <a:lnTo>
                    <a:pt x="57" y="236"/>
                  </a:lnTo>
                  <a:close/>
                  <a:moveTo>
                    <a:pt x="73" y="206"/>
                  </a:moveTo>
                  <a:lnTo>
                    <a:pt x="80" y="212"/>
                  </a:lnTo>
                  <a:lnTo>
                    <a:pt x="88" y="217"/>
                  </a:lnTo>
                  <a:lnTo>
                    <a:pt x="96" y="221"/>
                  </a:lnTo>
                  <a:lnTo>
                    <a:pt x="103" y="224"/>
                  </a:lnTo>
                  <a:lnTo>
                    <a:pt x="111" y="226"/>
                  </a:lnTo>
                  <a:lnTo>
                    <a:pt x="119" y="226"/>
                  </a:lnTo>
                  <a:lnTo>
                    <a:pt x="127" y="226"/>
                  </a:lnTo>
                  <a:lnTo>
                    <a:pt x="134" y="225"/>
                  </a:lnTo>
                  <a:lnTo>
                    <a:pt x="141" y="222"/>
                  </a:lnTo>
                  <a:lnTo>
                    <a:pt x="148" y="220"/>
                  </a:lnTo>
                  <a:lnTo>
                    <a:pt x="154" y="216"/>
                  </a:lnTo>
                  <a:lnTo>
                    <a:pt x="160" y="212"/>
                  </a:lnTo>
                  <a:lnTo>
                    <a:pt x="166" y="206"/>
                  </a:lnTo>
                  <a:lnTo>
                    <a:pt x="171" y="201"/>
                  </a:lnTo>
                  <a:lnTo>
                    <a:pt x="175" y="194"/>
                  </a:lnTo>
                  <a:lnTo>
                    <a:pt x="180" y="186"/>
                  </a:lnTo>
                  <a:lnTo>
                    <a:pt x="183" y="177"/>
                  </a:lnTo>
                  <a:lnTo>
                    <a:pt x="187" y="170"/>
                  </a:lnTo>
                  <a:lnTo>
                    <a:pt x="190" y="161"/>
                  </a:lnTo>
                  <a:lnTo>
                    <a:pt x="191" y="152"/>
                  </a:lnTo>
                  <a:lnTo>
                    <a:pt x="192" y="144"/>
                  </a:lnTo>
                  <a:lnTo>
                    <a:pt x="192" y="135"/>
                  </a:lnTo>
                  <a:lnTo>
                    <a:pt x="191" y="126"/>
                  </a:lnTo>
                  <a:lnTo>
                    <a:pt x="190" y="117"/>
                  </a:lnTo>
                  <a:lnTo>
                    <a:pt x="187" y="109"/>
                  </a:lnTo>
                  <a:lnTo>
                    <a:pt x="183" y="100"/>
                  </a:lnTo>
                  <a:lnTo>
                    <a:pt x="179" y="93"/>
                  </a:lnTo>
                  <a:lnTo>
                    <a:pt x="175" y="84"/>
                  </a:lnTo>
                  <a:lnTo>
                    <a:pt x="169" y="76"/>
                  </a:lnTo>
                  <a:lnTo>
                    <a:pt x="163" y="69"/>
                  </a:lnTo>
                  <a:lnTo>
                    <a:pt x="155" y="63"/>
                  </a:lnTo>
                  <a:lnTo>
                    <a:pt x="147" y="55"/>
                  </a:lnTo>
                  <a:lnTo>
                    <a:pt x="142" y="51"/>
                  </a:lnTo>
                  <a:lnTo>
                    <a:pt x="137" y="48"/>
                  </a:lnTo>
                  <a:lnTo>
                    <a:pt x="132" y="44"/>
                  </a:lnTo>
                  <a:lnTo>
                    <a:pt x="126" y="41"/>
                  </a:lnTo>
                  <a:lnTo>
                    <a:pt x="121" y="39"/>
                  </a:lnTo>
                  <a:lnTo>
                    <a:pt x="116" y="38"/>
                  </a:lnTo>
                  <a:lnTo>
                    <a:pt x="110" y="35"/>
                  </a:lnTo>
                  <a:lnTo>
                    <a:pt x="105" y="34"/>
                  </a:lnTo>
                  <a:lnTo>
                    <a:pt x="99" y="34"/>
                  </a:lnTo>
                  <a:lnTo>
                    <a:pt x="94" y="34"/>
                  </a:lnTo>
                  <a:lnTo>
                    <a:pt x="89" y="34"/>
                  </a:lnTo>
                  <a:lnTo>
                    <a:pt x="85" y="34"/>
                  </a:lnTo>
                  <a:lnTo>
                    <a:pt x="80" y="35"/>
                  </a:lnTo>
                  <a:lnTo>
                    <a:pt x="75" y="36"/>
                  </a:lnTo>
                  <a:lnTo>
                    <a:pt x="71" y="39"/>
                  </a:lnTo>
                  <a:lnTo>
                    <a:pt x="66" y="41"/>
                  </a:lnTo>
                  <a:lnTo>
                    <a:pt x="62" y="44"/>
                  </a:lnTo>
                  <a:lnTo>
                    <a:pt x="58" y="48"/>
                  </a:lnTo>
                  <a:lnTo>
                    <a:pt x="54" y="50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4" y="63"/>
                  </a:lnTo>
                  <a:lnTo>
                    <a:pt x="39" y="68"/>
                  </a:lnTo>
                  <a:lnTo>
                    <a:pt x="37" y="73"/>
                  </a:lnTo>
                  <a:lnTo>
                    <a:pt x="33" y="81"/>
                  </a:lnTo>
                  <a:lnTo>
                    <a:pt x="30" y="89"/>
                  </a:lnTo>
                  <a:lnTo>
                    <a:pt x="28" y="96"/>
                  </a:lnTo>
                  <a:lnTo>
                    <a:pt x="26" y="105"/>
                  </a:lnTo>
                  <a:lnTo>
                    <a:pt x="25" y="114"/>
                  </a:lnTo>
                  <a:lnTo>
                    <a:pt x="25" y="121"/>
                  </a:lnTo>
                  <a:lnTo>
                    <a:pt x="25" y="130"/>
                  </a:lnTo>
                  <a:lnTo>
                    <a:pt x="26" y="139"/>
                  </a:lnTo>
                  <a:lnTo>
                    <a:pt x="28" y="149"/>
                  </a:lnTo>
                  <a:lnTo>
                    <a:pt x="31" y="157"/>
                  </a:lnTo>
                  <a:lnTo>
                    <a:pt x="35" y="165"/>
                  </a:lnTo>
                  <a:lnTo>
                    <a:pt x="40" y="174"/>
                  </a:lnTo>
                  <a:lnTo>
                    <a:pt x="48" y="182"/>
                  </a:lnTo>
                  <a:lnTo>
                    <a:pt x="55" y="190"/>
                  </a:lnTo>
                  <a:lnTo>
                    <a:pt x="63" y="199"/>
                  </a:lnTo>
                  <a:lnTo>
                    <a:pt x="73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87640" y="2817000"/>
              <a:ext cx="72360" cy="55800"/>
            </a:xfrm>
            <a:custGeom>
              <a:avLst/>
              <a:gdLst/>
              <a:ahLst/>
              <a:rect l="l" t="t" r="r" b="b"/>
              <a:pathLst>
                <a:path w="278" h="288">
                  <a:moveTo>
                    <a:pt x="178" y="288"/>
                  </a:moveTo>
                  <a:lnTo>
                    <a:pt x="0" y="149"/>
                  </a:lnTo>
                  <a:lnTo>
                    <a:pt x="51" y="53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2" y="33"/>
                  </a:lnTo>
                  <a:lnTo>
                    <a:pt x="65" y="28"/>
                  </a:lnTo>
                  <a:lnTo>
                    <a:pt x="69" y="23"/>
                  </a:lnTo>
                  <a:lnTo>
                    <a:pt x="72" y="19"/>
                  </a:lnTo>
                  <a:lnTo>
                    <a:pt x="75" y="15"/>
                  </a:lnTo>
                  <a:lnTo>
                    <a:pt x="78" y="11"/>
                  </a:lnTo>
                  <a:lnTo>
                    <a:pt x="82" y="9"/>
                  </a:lnTo>
                  <a:lnTo>
                    <a:pt x="85" y="6"/>
                  </a:lnTo>
                  <a:lnTo>
                    <a:pt x="88" y="5"/>
                  </a:lnTo>
                  <a:lnTo>
                    <a:pt x="92" y="3"/>
                  </a:lnTo>
                  <a:lnTo>
                    <a:pt x="97" y="3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9" y="0"/>
                  </a:lnTo>
                  <a:lnTo>
                    <a:pt x="113" y="1"/>
                  </a:lnTo>
                  <a:lnTo>
                    <a:pt x="117" y="1"/>
                  </a:lnTo>
                  <a:lnTo>
                    <a:pt x="121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40" y="13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52" y="25"/>
                  </a:lnTo>
                  <a:lnTo>
                    <a:pt x="155" y="30"/>
                  </a:lnTo>
                  <a:lnTo>
                    <a:pt x="157" y="35"/>
                  </a:lnTo>
                  <a:lnTo>
                    <a:pt x="160" y="41"/>
                  </a:lnTo>
                  <a:lnTo>
                    <a:pt x="162" y="46"/>
                  </a:lnTo>
                  <a:lnTo>
                    <a:pt x="163" y="53"/>
                  </a:lnTo>
                  <a:lnTo>
                    <a:pt x="164" y="59"/>
                  </a:lnTo>
                  <a:lnTo>
                    <a:pt x="165" y="66"/>
                  </a:lnTo>
                  <a:lnTo>
                    <a:pt x="165" y="72"/>
                  </a:lnTo>
                  <a:lnTo>
                    <a:pt x="164" y="80"/>
                  </a:lnTo>
                  <a:lnTo>
                    <a:pt x="163" y="87"/>
                  </a:lnTo>
                  <a:lnTo>
                    <a:pt x="161" y="95"/>
                  </a:lnTo>
                  <a:lnTo>
                    <a:pt x="159" y="104"/>
                  </a:lnTo>
                  <a:lnTo>
                    <a:pt x="156" y="112"/>
                  </a:lnTo>
                  <a:lnTo>
                    <a:pt x="158" y="110"/>
                  </a:lnTo>
                  <a:lnTo>
                    <a:pt x="161" y="109"/>
                  </a:lnTo>
                  <a:lnTo>
                    <a:pt x="163" y="107"/>
                  </a:lnTo>
                  <a:lnTo>
                    <a:pt x="165" y="105"/>
                  </a:lnTo>
                  <a:lnTo>
                    <a:pt x="168" y="104"/>
                  </a:lnTo>
                  <a:lnTo>
                    <a:pt x="170" y="104"/>
                  </a:lnTo>
                  <a:lnTo>
                    <a:pt x="172" y="102"/>
                  </a:lnTo>
                  <a:lnTo>
                    <a:pt x="174" y="101"/>
                  </a:lnTo>
                  <a:lnTo>
                    <a:pt x="178" y="100"/>
                  </a:lnTo>
                  <a:lnTo>
                    <a:pt x="182" y="99"/>
                  </a:lnTo>
                  <a:lnTo>
                    <a:pt x="187" y="99"/>
                  </a:lnTo>
                  <a:lnTo>
                    <a:pt x="191" y="97"/>
                  </a:lnTo>
                  <a:lnTo>
                    <a:pt x="196" y="97"/>
                  </a:lnTo>
                  <a:lnTo>
                    <a:pt x="200" y="96"/>
                  </a:lnTo>
                  <a:lnTo>
                    <a:pt x="205" y="96"/>
                  </a:lnTo>
                  <a:lnTo>
                    <a:pt x="210" y="96"/>
                  </a:lnTo>
                  <a:lnTo>
                    <a:pt x="278" y="96"/>
                  </a:lnTo>
                  <a:lnTo>
                    <a:pt x="259" y="132"/>
                  </a:lnTo>
                  <a:lnTo>
                    <a:pt x="207" y="132"/>
                  </a:lnTo>
                  <a:lnTo>
                    <a:pt x="202" y="132"/>
                  </a:lnTo>
                  <a:lnTo>
                    <a:pt x="197" y="132"/>
                  </a:lnTo>
                  <a:lnTo>
                    <a:pt x="192" y="132"/>
                  </a:lnTo>
                  <a:lnTo>
                    <a:pt x="187" y="132"/>
                  </a:lnTo>
                  <a:lnTo>
                    <a:pt x="183" y="134"/>
                  </a:lnTo>
                  <a:lnTo>
                    <a:pt x="179" y="134"/>
                  </a:lnTo>
                  <a:lnTo>
                    <a:pt x="176" y="134"/>
                  </a:lnTo>
                  <a:lnTo>
                    <a:pt x="172" y="134"/>
                  </a:lnTo>
                  <a:lnTo>
                    <a:pt x="169" y="135"/>
                  </a:lnTo>
                  <a:lnTo>
                    <a:pt x="165" y="135"/>
                  </a:lnTo>
                  <a:lnTo>
                    <a:pt x="163" y="135"/>
                  </a:lnTo>
                  <a:lnTo>
                    <a:pt x="160" y="136"/>
                  </a:lnTo>
                  <a:lnTo>
                    <a:pt x="158" y="137"/>
                  </a:lnTo>
                  <a:lnTo>
                    <a:pt x="156" y="137"/>
                  </a:lnTo>
                  <a:lnTo>
                    <a:pt x="154" y="139"/>
                  </a:lnTo>
                  <a:lnTo>
                    <a:pt x="152" y="140"/>
                  </a:lnTo>
                  <a:lnTo>
                    <a:pt x="150" y="140"/>
                  </a:lnTo>
                  <a:lnTo>
                    <a:pt x="149" y="141"/>
                  </a:lnTo>
                  <a:lnTo>
                    <a:pt x="147" y="142"/>
                  </a:lnTo>
                  <a:lnTo>
                    <a:pt x="146" y="144"/>
                  </a:lnTo>
                  <a:lnTo>
                    <a:pt x="145" y="145"/>
                  </a:lnTo>
                  <a:lnTo>
                    <a:pt x="143" y="146"/>
                  </a:lnTo>
                  <a:lnTo>
                    <a:pt x="142" y="147"/>
                  </a:lnTo>
                  <a:lnTo>
                    <a:pt x="141" y="149"/>
                  </a:lnTo>
                  <a:lnTo>
                    <a:pt x="140" y="150"/>
                  </a:lnTo>
                  <a:lnTo>
                    <a:pt x="139" y="151"/>
                  </a:lnTo>
                  <a:lnTo>
                    <a:pt x="138" y="154"/>
                  </a:lnTo>
                  <a:lnTo>
                    <a:pt x="137" y="155"/>
                  </a:lnTo>
                  <a:lnTo>
                    <a:pt x="136" y="157"/>
                  </a:lnTo>
                  <a:lnTo>
                    <a:pt x="134" y="159"/>
                  </a:lnTo>
                  <a:lnTo>
                    <a:pt x="133" y="161"/>
                  </a:lnTo>
                  <a:lnTo>
                    <a:pt x="132" y="165"/>
                  </a:lnTo>
                  <a:lnTo>
                    <a:pt x="114" y="197"/>
                  </a:lnTo>
                  <a:lnTo>
                    <a:pt x="193" y="260"/>
                  </a:lnTo>
                  <a:lnTo>
                    <a:pt x="178" y="288"/>
                  </a:lnTo>
                  <a:close/>
                  <a:moveTo>
                    <a:pt x="93" y="182"/>
                  </a:moveTo>
                  <a:lnTo>
                    <a:pt x="126" y="120"/>
                  </a:lnTo>
                  <a:lnTo>
                    <a:pt x="129" y="115"/>
                  </a:lnTo>
                  <a:lnTo>
                    <a:pt x="131" y="110"/>
                  </a:lnTo>
                  <a:lnTo>
                    <a:pt x="133" y="106"/>
                  </a:lnTo>
                  <a:lnTo>
                    <a:pt x="134" y="101"/>
                  </a:lnTo>
                  <a:lnTo>
                    <a:pt x="136" y="97"/>
                  </a:lnTo>
                  <a:lnTo>
                    <a:pt x="137" y="94"/>
                  </a:lnTo>
                  <a:lnTo>
                    <a:pt x="138" y="90"/>
                  </a:lnTo>
                  <a:lnTo>
                    <a:pt x="139" y="86"/>
                  </a:lnTo>
                  <a:lnTo>
                    <a:pt x="139" y="82"/>
                  </a:lnTo>
                  <a:lnTo>
                    <a:pt x="140" y="79"/>
                  </a:lnTo>
                  <a:lnTo>
                    <a:pt x="140" y="76"/>
                  </a:lnTo>
                  <a:lnTo>
                    <a:pt x="140" y="72"/>
                  </a:lnTo>
                  <a:lnTo>
                    <a:pt x="139" y="70"/>
                  </a:lnTo>
                  <a:lnTo>
                    <a:pt x="139" y="66"/>
                  </a:lnTo>
                  <a:lnTo>
                    <a:pt x="138" y="64"/>
                  </a:lnTo>
                  <a:lnTo>
                    <a:pt x="137" y="61"/>
                  </a:lnTo>
                  <a:lnTo>
                    <a:pt x="136" y="57"/>
                  </a:lnTo>
                  <a:lnTo>
                    <a:pt x="135" y="55"/>
                  </a:lnTo>
                  <a:lnTo>
                    <a:pt x="133" y="53"/>
                  </a:lnTo>
                  <a:lnTo>
                    <a:pt x="132" y="50"/>
                  </a:lnTo>
                  <a:lnTo>
                    <a:pt x="130" y="48"/>
                  </a:lnTo>
                  <a:lnTo>
                    <a:pt x="128" y="46"/>
                  </a:lnTo>
                  <a:lnTo>
                    <a:pt x="126" y="44"/>
                  </a:lnTo>
                  <a:lnTo>
                    <a:pt x="124" y="43"/>
                  </a:lnTo>
                  <a:lnTo>
                    <a:pt x="121" y="40"/>
                  </a:lnTo>
                  <a:lnTo>
                    <a:pt x="118" y="39"/>
                  </a:lnTo>
                  <a:lnTo>
                    <a:pt x="115" y="38"/>
                  </a:lnTo>
                  <a:lnTo>
                    <a:pt x="112" y="36"/>
                  </a:lnTo>
                  <a:lnTo>
                    <a:pt x="108" y="36"/>
                  </a:lnTo>
                  <a:lnTo>
                    <a:pt x="105" y="36"/>
                  </a:lnTo>
                  <a:lnTo>
                    <a:pt x="102" y="36"/>
                  </a:lnTo>
                  <a:lnTo>
                    <a:pt x="98" y="38"/>
                  </a:lnTo>
                  <a:lnTo>
                    <a:pt x="95" y="39"/>
                  </a:lnTo>
                  <a:lnTo>
                    <a:pt x="90" y="41"/>
                  </a:lnTo>
                  <a:lnTo>
                    <a:pt x="87" y="44"/>
                  </a:lnTo>
                  <a:lnTo>
                    <a:pt x="84" y="48"/>
                  </a:lnTo>
                  <a:lnTo>
                    <a:pt x="80" y="51"/>
                  </a:lnTo>
                  <a:lnTo>
                    <a:pt x="77" y="55"/>
                  </a:lnTo>
                  <a:lnTo>
                    <a:pt x="74" y="61"/>
                  </a:lnTo>
                  <a:lnTo>
                    <a:pt x="71" y="66"/>
                  </a:lnTo>
                  <a:lnTo>
                    <a:pt x="36" y="136"/>
                  </a:lnTo>
                  <a:lnTo>
                    <a:pt x="93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17160" y="2773080"/>
              <a:ext cx="72360" cy="55800"/>
            </a:xfrm>
            <a:custGeom>
              <a:avLst/>
              <a:gdLst/>
              <a:ahLst/>
              <a:rect l="l" t="t" r="r" b="b"/>
              <a:pathLst>
                <a:path w="278" h="288">
                  <a:moveTo>
                    <a:pt x="177" y="288"/>
                  </a:moveTo>
                  <a:lnTo>
                    <a:pt x="0" y="149"/>
                  </a:lnTo>
                  <a:lnTo>
                    <a:pt x="50" y="53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2" y="33"/>
                  </a:lnTo>
                  <a:lnTo>
                    <a:pt x="65" y="28"/>
                  </a:lnTo>
                  <a:lnTo>
                    <a:pt x="69" y="23"/>
                  </a:lnTo>
                  <a:lnTo>
                    <a:pt x="72" y="19"/>
                  </a:lnTo>
                  <a:lnTo>
                    <a:pt x="75" y="15"/>
                  </a:lnTo>
                  <a:lnTo>
                    <a:pt x="78" y="11"/>
                  </a:lnTo>
                  <a:lnTo>
                    <a:pt x="81" y="9"/>
                  </a:lnTo>
                  <a:lnTo>
                    <a:pt x="85" y="6"/>
                  </a:lnTo>
                  <a:lnTo>
                    <a:pt x="88" y="5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6" y="1"/>
                  </a:lnTo>
                  <a:lnTo>
                    <a:pt x="119" y="3"/>
                  </a:lnTo>
                  <a:lnTo>
                    <a:pt x="123" y="4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9" y="13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51" y="25"/>
                  </a:lnTo>
                  <a:lnTo>
                    <a:pt x="155" y="30"/>
                  </a:lnTo>
                  <a:lnTo>
                    <a:pt x="157" y="35"/>
                  </a:lnTo>
                  <a:lnTo>
                    <a:pt x="160" y="40"/>
                  </a:lnTo>
                  <a:lnTo>
                    <a:pt x="162" y="46"/>
                  </a:lnTo>
                  <a:lnTo>
                    <a:pt x="163" y="53"/>
                  </a:lnTo>
                  <a:lnTo>
                    <a:pt x="164" y="59"/>
                  </a:lnTo>
                  <a:lnTo>
                    <a:pt x="164" y="66"/>
                  </a:lnTo>
                  <a:lnTo>
                    <a:pt x="164" y="73"/>
                  </a:lnTo>
                  <a:lnTo>
                    <a:pt x="164" y="80"/>
                  </a:lnTo>
                  <a:lnTo>
                    <a:pt x="162" y="88"/>
                  </a:lnTo>
                  <a:lnTo>
                    <a:pt x="161" y="95"/>
                  </a:lnTo>
                  <a:lnTo>
                    <a:pt x="158" y="104"/>
                  </a:lnTo>
                  <a:lnTo>
                    <a:pt x="156" y="113"/>
                  </a:lnTo>
                  <a:lnTo>
                    <a:pt x="158" y="110"/>
                  </a:lnTo>
                  <a:lnTo>
                    <a:pt x="160" y="109"/>
                  </a:lnTo>
                  <a:lnTo>
                    <a:pt x="163" y="106"/>
                  </a:lnTo>
                  <a:lnTo>
                    <a:pt x="165" y="105"/>
                  </a:lnTo>
                  <a:lnTo>
                    <a:pt x="167" y="104"/>
                  </a:lnTo>
                  <a:lnTo>
                    <a:pt x="169" y="104"/>
                  </a:lnTo>
                  <a:lnTo>
                    <a:pt x="171" y="103"/>
                  </a:lnTo>
                  <a:lnTo>
                    <a:pt x="173" y="101"/>
                  </a:lnTo>
                  <a:lnTo>
                    <a:pt x="177" y="100"/>
                  </a:lnTo>
                  <a:lnTo>
                    <a:pt x="181" y="99"/>
                  </a:lnTo>
                  <a:lnTo>
                    <a:pt x="186" y="99"/>
                  </a:lnTo>
                  <a:lnTo>
                    <a:pt x="190" y="98"/>
                  </a:lnTo>
                  <a:lnTo>
                    <a:pt x="194" y="98"/>
                  </a:lnTo>
                  <a:lnTo>
                    <a:pt x="200" y="96"/>
                  </a:lnTo>
                  <a:lnTo>
                    <a:pt x="205" y="96"/>
                  </a:lnTo>
                  <a:lnTo>
                    <a:pt x="210" y="96"/>
                  </a:lnTo>
                  <a:lnTo>
                    <a:pt x="278" y="96"/>
                  </a:lnTo>
                  <a:lnTo>
                    <a:pt x="258" y="132"/>
                  </a:lnTo>
                  <a:lnTo>
                    <a:pt x="207" y="132"/>
                  </a:lnTo>
                  <a:lnTo>
                    <a:pt x="202" y="132"/>
                  </a:lnTo>
                  <a:lnTo>
                    <a:pt x="195" y="132"/>
                  </a:lnTo>
                  <a:lnTo>
                    <a:pt x="191" y="132"/>
                  </a:lnTo>
                  <a:lnTo>
                    <a:pt x="186" y="132"/>
                  </a:lnTo>
                  <a:lnTo>
                    <a:pt x="182" y="132"/>
                  </a:lnTo>
                  <a:lnTo>
                    <a:pt x="178" y="134"/>
                  </a:lnTo>
                  <a:lnTo>
                    <a:pt x="174" y="134"/>
                  </a:lnTo>
                  <a:lnTo>
                    <a:pt x="171" y="134"/>
                  </a:lnTo>
                  <a:lnTo>
                    <a:pt x="168" y="135"/>
                  </a:lnTo>
                  <a:lnTo>
                    <a:pt x="165" y="135"/>
                  </a:lnTo>
                  <a:lnTo>
                    <a:pt x="163" y="135"/>
                  </a:lnTo>
                  <a:lnTo>
                    <a:pt x="160" y="136"/>
                  </a:lnTo>
                  <a:lnTo>
                    <a:pt x="158" y="136"/>
                  </a:lnTo>
                  <a:lnTo>
                    <a:pt x="156" y="137"/>
                  </a:lnTo>
                  <a:lnTo>
                    <a:pt x="154" y="139"/>
                  </a:lnTo>
                  <a:lnTo>
                    <a:pt x="152" y="139"/>
                  </a:lnTo>
                  <a:lnTo>
                    <a:pt x="150" y="140"/>
                  </a:lnTo>
                  <a:lnTo>
                    <a:pt x="149" y="141"/>
                  </a:lnTo>
                  <a:lnTo>
                    <a:pt x="147" y="142"/>
                  </a:lnTo>
                  <a:lnTo>
                    <a:pt x="146" y="144"/>
                  </a:lnTo>
                  <a:lnTo>
                    <a:pt x="144" y="145"/>
                  </a:lnTo>
                  <a:lnTo>
                    <a:pt x="143" y="146"/>
                  </a:lnTo>
                  <a:lnTo>
                    <a:pt x="142" y="147"/>
                  </a:lnTo>
                  <a:lnTo>
                    <a:pt x="141" y="149"/>
                  </a:lnTo>
                  <a:lnTo>
                    <a:pt x="140" y="150"/>
                  </a:lnTo>
                  <a:lnTo>
                    <a:pt x="139" y="151"/>
                  </a:lnTo>
                  <a:lnTo>
                    <a:pt x="138" y="152"/>
                  </a:lnTo>
                  <a:lnTo>
                    <a:pt x="137" y="155"/>
                  </a:lnTo>
                  <a:lnTo>
                    <a:pt x="135" y="157"/>
                  </a:lnTo>
                  <a:lnTo>
                    <a:pt x="134" y="159"/>
                  </a:lnTo>
                  <a:lnTo>
                    <a:pt x="133" y="161"/>
                  </a:lnTo>
                  <a:lnTo>
                    <a:pt x="131" y="164"/>
                  </a:lnTo>
                  <a:lnTo>
                    <a:pt x="113" y="197"/>
                  </a:lnTo>
                  <a:lnTo>
                    <a:pt x="192" y="260"/>
                  </a:lnTo>
                  <a:lnTo>
                    <a:pt x="177" y="288"/>
                  </a:lnTo>
                  <a:close/>
                  <a:moveTo>
                    <a:pt x="93" y="181"/>
                  </a:moveTo>
                  <a:lnTo>
                    <a:pt x="126" y="120"/>
                  </a:lnTo>
                  <a:lnTo>
                    <a:pt x="128" y="115"/>
                  </a:lnTo>
                  <a:lnTo>
                    <a:pt x="131" y="110"/>
                  </a:lnTo>
                  <a:lnTo>
                    <a:pt x="133" y="106"/>
                  </a:lnTo>
                  <a:lnTo>
                    <a:pt x="134" y="101"/>
                  </a:lnTo>
                  <a:lnTo>
                    <a:pt x="136" y="98"/>
                  </a:lnTo>
                  <a:lnTo>
                    <a:pt x="137" y="94"/>
                  </a:lnTo>
                  <a:lnTo>
                    <a:pt x="138" y="90"/>
                  </a:lnTo>
                  <a:lnTo>
                    <a:pt x="139" y="86"/>
                  </a:lnTo>
                  <a:lnTo>
                    <a:pt x="139" y="83"/>
                  </a:lnTo>
                  <a:lnTo>
                    <a:pt x="139" y="79"/>
                  </a:lnTo>
                  <a:lnTo>
                    <a:pt x="140" y="76"/>
                  </a:lnTo>
                  <a:lnTo>
                    <a:pt x="139" y="73"/>
                  </a:lnTo>
                  <a:lnTo>
                    <a:pt x="139" y="70"/>
                  </a:lnTo>
                  <a:lnTo>
                    <a:pt x="139" y="66"/>
                  </a:lnTo>
                  <a:lnTo>
                    <a:pt x="138" y="64"/>
                  </a:lnTo>
                  <a:lnTo>
                    <a:pt x="137" y="60"/>
                  </a:lnTo>
                  <a:lnTo>
                    <a:pt x="136" y="58"/>
                  </a:lnTo>
                  <a:lnTo>
                    <a:pt x="134" y="55"/>
                  </a:lnTo>
                  <a:lnTo>
                    <a:pt x="133" y="53"/>
                  </a:lnTo>
                  <a:lnTo>
                    <a:pt x="132" y="50"/>
                  </a:lnTo>
                  <a:lnTo>
                    <a:pt x="130" y="48"/>
                  </a:lnTo>
                  <a:lnTo>
                    <a:pt x="128" y="46"/>
                  </a:lnTo>
                  <a:lnTo>
                    <a:pt x="126" y="44"/>
                  </a:lnTo>
                  <a:lnTo>
                    <a:pt x="123" y="43"/>
                  </a:lnTo>
                  <a:lnTo>
                    <a:pt x="120" y="40"/>
                  </a:lnTo>
                  <a:lnTo>
                    <a:pt x="117" y="39"/>
                  </a:lnTo>
                  <a:lnTo>
                    <a:pt x="114" y="38"/>
                  </a:lnTo>
                  <a:lnTo>
                    <a:pt x="110" y="36"/>
                  </a:lnTo>
                  <a:lnTo>
                    <a:pt x="107" y="36"/>
                  </a:lnTo>
                  <a:lnTo>
                    <a:pt x="104" y="36"/>
                  </a:lnTo>
                  <a:lnTo>
                    <a:pt x="100" y="36"/>
                  </a:lnTo>
                  <a:lnTo>
                    <a:pt x="97" y="38"/>
                  </a:lnTo>
                  <a:lnTo>
                    <a:pt x="94" y="39"/>
                  </a:lnTo>
                  <a:lnTo>
                    <a:pt x="90" y="41"/>
                  </a:lnTo>
                  <a:lnTo>
                    <a:pt x="87" y="44"/>
                  </a:lnTo>
                  <a:lnTo>
                    <a:pt x="84" y="48"/>
                  </a:lnTo>
                  <a:lnTo>
                    <a:pt x="80" y="51"/>
                  </a:lnTo>
                  <a:lnTo>
                    <a:pt x="77" y="55"/>
                  </a:lnTo>
                  <a:lnTo>
                    <a:pt x="74" y="61"/>
                  </a:lnTo>
                  <a:lnTo>
                    <a:pt x="71" y="66"/>
                  </a:lnTo>
                  <a:lnTo>
                    <a:pt x="34" y="136"/>
                  </a:lnTo>
                  <a:lnTo>
                    <a:pt x="93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47760" y="2752920"/>
              <a:ext cx="50040" cy="32400"/>
            </a:xfrm>
            <a:custGeom>
              <a:avLst/>
              <a:gdLst/>
              <a:ahLst/>
              <a:rect l="l" t="t" r="r" b="b"/>
              <a:pathLst>
                <a:path w="193" h="168">
                  <a:moveTo>
                    <a:pt x="178" y="168"/>
                  </a:moveTo>
                  <a:lnTo>
                    <a:pt x="0" y="29"/>
                  </a:lnTo>
                  <a:lnTo>
                    <a:pt x="16" y="0"/>
                  </a:lnTo>
                  <a:lnTo>
                    <a:pt x="193" y="139"/>
                  </a:lnTo>
                  <a:lnTo>
                    <a:pt x="178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58560" y="2715120"/>
              <a:ext cx="61560" cy="54360"/>
            </a:xfrm>
            <a:custGeom>
              <a:avLst/>
              <a:gdLst/>
              <a:ahLst/>
              <a:rect l="l" t="t" r="r" b="b"/>
              <a:pathLst>
                <a:path w="238" h="279">
                  <a:moveTo>
                    <a:pt x="177" y="279"/>
                  </a:moveTo>
                  <a:lnTo>
                    <a:pt x="0" y="139"/>
                  </a:lnTo>
                  <a:lnTo>
                    <a:pt x="38" y="64"/>
                  </a:lnTo>
                  <a:lnTo>
                    <a:pt x="43" y="58"/>
                  </a:lnTo>
                  <a:lnTo>
                    <a:pt x="46" y="53"/>
                  </a:lnTo>
                  <a:lnTo>
                    <a:pt x="49" y="47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7" y="34"/>
                  </a:lnTo>
                  <a:lnTo>
                    <a:pt x="59" y="30"/>
                  </a:lnTo>
                  <a:lnTo>
                    <a:pt x="62" y="28"/>
                  </a:lnTo>
                  <a:lnTo>
                    <a:pt x="65" y="24"/>
                  </a:lnTo>
                  <a:lnTo>
                    <a:pt x="69" y="20"/>
                  </a:lnTo>
                  <a:lnTo>
                    <a:pt x="72" y="17"/>
                  </a:lnTo>
                  <a:lnTo>
                    <a:pt x="76" y="14"/>
                  </a:lnTo>
                  <a:lnTo>
                    <a:pt x="79" y="12"/>
                  </a:lnTo>
                  <a:lnTo>
                    <a:pt x="83" y="9"/>
                  </a:lnTo>
                  <a:lnTo>
                    <a:pt x="87" y="7"/>
                  </a:lnTo>
                  <a:lnTo>
                    <a:pt x="91" y="5"/>
                  </a:lnTo>
                  <a:lnTo>
                    <a:pt x="96" y="4"/>
                  </a:lnTo>
                  <a:lnTo>
                    <a:pt x="101" y="2"/>
                  </a:lnTo>
                  <a:lnTo>
                    <a:pt x="106" y="2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4" y="2"/>
                  </a:lnTo>
                  <a:lnTo>
                    <a:pt x="129" y="2"/>
                  </a:lnTo>
                  <a:lnTo>
                    <a:pt x="135" y="3"/>
                  </a:lnTo>
                  <a:lnTo>
                    <a:pt x="141" y="5"/>
                  </a:lnTo>
                  <a:lnTo>
                    <a:pt x="146" y="7"/>
                  </a:lnTo>
                  <a:lnTo>
                    <a:pt x="152" y="9"/>
                  </a:lnTo>
                  <a:lnTo>
                    <a:pt x="158" y="13"/>
                  </a:lnTo>
                  <a:lnTo>
                    <a:pt x="163" y="15"/>
                  </a:lnTo>
                  <a:lnTo>
                    <a:pt x="169" y="19"/>
                  </a:lnTo>
                  <a:lnTo>
                    <a:pt x="175" y="24"/>
                  </a:lnTo>
                  <a:lnTo>
                    <a:pt x="181" y="28"/>
                  </a:lnTo>
                  <a:lnTo>
                    <a:pt x="187" y="32"/>
                  </a:lnTo>
                  <a:lnTo>
                    <a:pt x="191" y="37"/>
                  </a:lnTo>
                  <a:lnTo>
                    <a:pt x="196" y="40"/>
                  </a:lnTo>
                  <a:lnTo>
                    <a:pt x="200" y="44"/>
                  </a:lnTo>
                  <a:lnTo>
                    <a:pt x="204" y="49"/>
                  </a:lnTo>
                  <a:lnTo>
                    <a:pt x="208" y="53"/>
                  </a:lnTo>
                  <a:lnTo>
                    <a:pt x="211" y="58"/>
                  </a:lnTo>
                  <a:lnTo>
                    <a:pt x="214" y="62"/>
                  </a:lnTo>
                  <a:lnTo>
                    <a:pt x="217" y="67"/>
                  </a:lnTo>
                  <a:lnTo>
                    <a:pt x="220" y="72"/>
                  </a:lnTo>
                  <a:lnTo>
                    <a:pt x="223" y="75"/>
                  </a:lnTo>
                  <a:lnTo>
                    <a:pt x="225" y="80"/>
                  </a:lnTo>
                  <a:lnTo>
                    <a:pt x="227" y="84"/>
                  </a:lnTo>
                  <a:lnTo>
                    <a:pt x="229" y="89"/>
                  </a:lnTo>
                  <a:lnTo>
                    <a:pt x="231" y="93"/>
                  </a:lnTo>
                  <a:lnTo>
                    <a:pt x="232" y="98"/>
                  </a:lnTo>
                  <a:lnTo>
                    <a:pt x="233" y="102"/>
                  </a:lnTo>
                  <a:lnTo>
                    <a:pt x="234" y="105"/>
                  </a:lnTo>
                  <a:lnTo>
                    <a:pt x="235" y="110"/>
                  </a:lnTo>
                  <a:lnTo>
                    <a:pt x="236" y="114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8" y="125"/>
                  </a:lnTo>
                  <a:lnTo>
                    <a:pt x="238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7" y="141"/>
                  </a:lnTo>
                  <a:lnTo>
                    <a:pt x="237" y="145"/>
                  </a:lnTo>
                  <a:lnTo>
                    <a:pt x="236" y="150"/>
                  </a:lnTo>
                  <a:lnTo>
                    <a:pt x="235" y="154"/>
                  </a:lnTo>
                  <a:lnTo>
                    <a:pt x="234" y="159"/>
                  </a:lnTo>
                  <a:lnTo>
                    <a:pt x="233" y="163"/>
                  </a:lnTo>
                  <a:lnTo>
                    <a:pt x="232" y="168"/>
                  </a:lnTo>
                  <a:lnTo>
                    <a:pt x="230" y="171"/>
                  </a:lnTo>
                  <a:lnTo>
                    <a:pt x="229" y="176"/>
                  </a:lnTo>
                  <a:lnTo>
                    <a:pt x="227" y="181"/>
                  </a:lnTo>
                  <a:lnTo>
                    <a:pt x="225" y="185"/>
                  </a:lnTo>
                  <a:lnTo>
                    <a:pt x="223" y="190"/>
                  </a:lnTo>
                  <a:lnTo>
                    <a:pt x="221" y="195"/>
                  </a:lnTo>
                  <a:lnTo>
                    <a:pt x="218" y="200"/>
                  </a:lnTo>
                  <a:lnTo>
                    <a:pt x="177" y="279"/>
                  </a:lnTo>
                  <a:close/>
                  <a:moveTo>
                    <a:pt x="171" y="234"/>
                  </a:moveTo>
                  <a:lnTo>
                    <a:pt x="196" y="188"/>
                  </a:lnTo>
                  <a:lnTo>
                    <a:pt x="199" y="181"/>
                  </a:lnTo>
                  <a:lnTo>
                    <a:pt x="201" y="176"/>
                  </a:lnTo>
                  <a:lnTo>
                    <a:pt x="203" y="171"/>
                  </a:lnTo>
                  <a:lnTo>
                    <a:pt x="205" y="168"/>
                  </a:lnTo>
                  <a:lnTo>
                    <a:pt x="207" y="163"/>
                  </a:lnTo>
                  <a:lnTo>
                    <a:pt x="208" y="159"/>
                  </a:lnTo>
                  <a:lnTo>
                    <a:pt x="209" y="154"/>
                  </a:lnTo>
                  <a:lnTo>
                    <a:pt x="210" y="150"/>
                  </a:lnTo>
                  <a:lnTo>
                    <a:pt x="211" y="146"/>
                  </a:lnTo>
                  <a:lnTo>
                    <a:pt x="211" y="144"/>
                  </a:lnTo>
                  <a:lnTo>
                    <a:pt x="212" y="140"/>
                  </a:lnTo>
                  <a:lnTo>
                    <a:pt x="212" y="137"/>
                  </a:lnTo>
                  <a:lnTo>
                    <a:pt x="212" y="133"/>
                  </a:lnTo>
                  <a:lnTo>
                    <a:pt x="212" y="130"/>
                  </a:lnTo>
                  <a:lnTo>
                    <a:pt x="211" y="127"/>
                  </a:lnTo>
                  <a:lnTo>
                    <a:pt x="211" y="124"/>
                  </a:lnTo>
                  <a:lnTo>
                    <a:pt x="210" y="119"/>
                  </a:lnTo>
                  <a:lnTo>
                    <a:pt x="209" y="115"/>
                  </a:lnTo>
                  <a:lnTo>
                    <a:pt x="208" y="112"/>
                  </a:lnTo>
                  <a:lnTo>
                    <a:pt x="206" y="107"/>
                  </a:lnTo>
                  <a:lnTo>
                    <a:pt x="204" y="103"/>
                  </a:lnTo>
                  <a:lnTo>
                    <a:pt x="202" y="99"/>
                  </a:lnTo>
                  <a:lnTo>
                    <a:pt x="200" y="94"/>
                  </a:lnTo>
                  <a:lnTo>
                    <a:pt x="197" y="90"/>
                  </a:lnTo>
                  <a:lnTo>
                    <a:pt x="194" y="87"/>
                  </a:lnTo>
                  <a:lnTo>
                    <a:pt x="191" y="82"/>
                  </a:lnTo>
                  <a:lnTo>
                    <a:pt x="188" y="78"/>
                  </a:lnTo>
                  <a:lnTo>
                    <a:pt x="183" y="74"/>
                  </a:lnTo>
                  <a:lnTo>
                    <a:pt x="179" y="69"/>
                  </a:lnTo>
                  <a:lnTo>
                    <a:pt x="175" y="65"/>
                  </a:lnTo>
                  <a:lnTo>
                    <a:pt x="170" y="62"/>
                  </a:lnTo>
                  <a:lnTo>
                    <a:pt x="165" y="58"/>
                  </a:lnTo>
                  <a:lnTo>
                    <a:pt x="159" y="53"/>
                  </a:lnTo>
                  <a:lnTo>
                    <a:pt x="152" y="48"/>
                  </a:lnTo>
                  <a:lnTo>
                    <a:pt x="146" y="44"/>
                  </a:lnTo>
                  <a:lnTo>
                    <a:pt x="140" y="40"/>
                  </a:lnTo>
                  <a:lnTo>
                    <a:pt x="134" y="38"/>
                  </a:lnTo>
                  <a:lnTo>
                    <a:pt x="128" y="37"/>
                  </a:lnTo>
                  <a:lnTo>
                    <a:pt x="123" y="35"/>
                  </a:lnTo>
                  <a:lnTo>
                    <a:pt x="117" y="35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2" y="37"/>
                  </a:lnTo>
                  <a:lnTo>
                    <a:pt x="98" y="38"/>
                  </a:lnTo>
                  <a:lnTo>
                    <a:pt x="94" y="39"/>
                  </a:lnTo>
                  <a:lnTo>
                    <a:pt x="90" y="42"/>
                  </a:lnTo>
                  <a:lnTo>
                    <a:pt x="86" y="44"/>
                  </a:lnTo>
                  <a:lnTo>
                    <a:pt x="83" y="47"/>
                  </a:lnTo>
                  <a:lnTo>
                    <a:pt x="80" y="49"/>
                  </a:lnTo>
                  <a:lnTo>
                    <a:pt x="78" y="52"/>
                  </a:lnTo>
                  <a:lnTo>
                    <a:pt x="75" y="55"/>
                  </a:lnTo>
                  <a:lnTo>
                    <a:pt x="72" y="59"/>
                  </a:lnTo>
                  <a:lnTo>
                    <a:pt x="69" y="64"/>
                  </a:lnTo>
                  <a:lnTo>
                    <a:pt x="66" y="69"/>
                  </a:lnTo>
                  <a:lnTo>
                    <a:pt x="63" y="75"/>
                  </a:lnTo>
                  <a:lnTo>
                    <a:pt x="60" y="82"/>
                  </a:lnTo>
                  <a:lnTo>
                    <a:pt x="35" y="127"/>
                  </a:lnTo>
                  <a:lnTo>
                    <a:pt x="171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95280" y="2669400"/>
              <a:ext cx="56880" cy="5076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57" y="236"/>
                  </a:moveTo>
                  <a:lnTo>
                    <a:pt x="47" y="228"/>
                  </a:lnTo>
                  <a:lnTo>
                    <a:pt x="36" y="218"/>
                  </a:lnTo>
                  <a:lnTo>
                    <a:pt x="28" y="208"/>
                  </a:lnTo>
                  <a:lnTo>
                    <a:pt x="21" y="198"/>
                  </a:lnTo>
                  <a:lnTo>
                    <a:pt x="15" y="188"/>
                  </a:lnTo>
                  <a:lnTo>
                    <a:pt x="10" y="176"/>
                  </a:lnTo>
                  <a:lnTo>
                    <a:pt x="6" y="164"/>
                  </a:lnTo>
                  <a:lnTo>
                    <a:pt x="3" y="153"/>
                  </a:lnTo>
                  <a:lnTo>
                    <a:pt x="1" y="140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1" y="104"/>
                  </a:lnTo>
                  <a:lnTo>
                    <a:pt x="4" y="93"/>
                  </a:lnTo>
                  <a:lnTo>
                    <a:pt x="7" y="80"/>
                  </a:lnTo>
                  <a:lnTo>
                    <a:pt x="11" y="69"/>
                  </a:lnTo>
                  <a:lnTo>
                    <a:pt x="17" y="58"/>
                  </a:lnTo>
                  <a:lnTo>
                    <a:pt x="21" y="50"/>
                  </a:lnTo>
                  <a:lnTo>
                    <a:pt x="25" y="43"/>
                  </a:lnTo>
                  <a:lnTo>
                    <a:pt x="30" y="37"/>
                  </a:lnTo>
                  <a:lnTo>
                    <a:pt x="34" y="30"/>
                  </a:lnTo>
                  <a:lnTo>
                    <a:pt x="39" y="25"/>
                  </a:lnTo>
                  <a:lnTo>
                    <a:pt x="46" y="20"/>
                  </a:lnTo>
                  <a:lnTo>
                    <a:pt x="51" y="17"/>
                  </a:lnTo>
                  <a:lnTo>
                    <a:pt x="57" y="12"/>
                  </a:lnTo>
                  <a:lnTo>
                    <a:pt x="63" y="9"/>
                  </a:lnTo>
                  <a:lnTo>
                    <a:pt x="69" y="5"/>
                  </a:lnTo>
                  <a:lnTo>
                    <a:pt x="76" y="3"/>
                  </a:lnTo>
                  <a:lnTo>
                    <a:pt x="82" y="2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6" y="2"/>
                  </a:lnTo>
                  <a:lnTo>
                    <a:pt x="123" y="4"/>
                  </a:lnTo>
                  <a:lnTo>
                    <a:pt x="130" y="7"/>
                  </a:lnTo>
                  <a:lnTo>
                    <a:pt x="136" y="9"/>
                  </a:lnTo>
                  <a:lnTo>
                    <a:pt x="143" y="12"/>
                  </a:lnTo>
                  <a:lnTo>
                    <a:pt x="150" y="17"/>
                  </a:lnTo>
                  <a:lnTo>
                    <a:pt x="156" y="20"/>
                  </a:lnTo>
                  <a:lnTo>
                    <a:pt x="163" y="25"/>
                  </a:lnTo>
                  <a:lnTo>
                    <a:pt x="169" y="32"/>
                  </a:lnTo>
                  <a:lnTo>
                    <a:pt x="175" y="37"/>
                  </a:lnTo>
                  <a:lnTo>
                    <a:pt x="181" y="43"/>
                  </a:lnTo>
                  <a:lnTo>
                    <a:pt x="186" y="49"/>
                  </a:lnTo>
                  <a:lnTo>
                    <a:pt x="192" y="55"/>
                  </a:lnTo>
                  <a:lnTo>
                    <a:pt x="197" y="63"/>
                  </a:lnTo>
                  <a:lnTo>
                    <a:pt x="201" y="69"/>
                  </a:lnTo>
                  <a:lnTo>
                    <a:pt x="205" y="77"/>
                  </a:lnTo>
                  <a:lnTo>
                    <a:pt x="208" y="84"/>
                  </a:lnTo>
                  <a:lnTo>
                    <a:pt x="211" y="93"/>
                  </a:lnTo>
                  <a:lnTo>
                    <a:pt x="213" y="100"/>
                  </a:lnTo>
                  <a:lnTo>
                    <a:pt x="215" y="108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7" y="131"/>
                  </a:lnTo>
                  <a:lnTo>
                    <a:pt x="217" y="140"/>
                  </a:lnTo>
                  <a:lnTo>
                    <a:pt x="216" y="149"/>
                  </a:lnTo>
                  <a:lnTo>
                    <a:pt x="215" y="156"/>
                  </a:lnTo>
                  <a:lnTo>
                    <a:pt x="214" y="164"/>
                  </a:lnTo>
                  <a:lnTo>
                    <a:pt x="212" y="173"/>
                  </a:lnTo>
                  <a:lnTo>
                    <a:pt x="210" y="180"/>
                  </a:lnTo>
                  <a:lnTo>
                    <a:pt x="207" y="188"/>
                  </a:lnTo>
                  <a:lnTo>
                    <a:pt x="204" y="195"/>
                  </a:lnTo>
                  <a:lnTo>
                    <a:pt x="201" y="201"/>
                  </a:lnTo>
                  <a:lnTo>
                    <a:pt x="197" y="209"/>
                  </a:lnTo>
                  <a:lnTo>
                    <a:pt x="192" y="216"/>
                  </a:lnTo>
                  <a:lnTo>
                    <a:pt x="188" y="223"/>
                  </a:lnTo>
                  <a:lnTo>
                    <a:pt x="182" y="229"/>
                  </a:lnTo>
                  <a:lnTo>
                    <a:pt x="177" y="234"/>
                  </a:lnTo>
                  <a:lnTo>
                    <a:pt x="171" y="239"/>
                  </a:lnTo>
                  <a:lnTo>
                    <a:pt x="165" y="244"/>
                  </a:lnTo>
                  <a:lnTo>
                    <a:pt x="160" y="247"/>
                  </a:lnTo>
                  <a:lnTo>
                    <a:pt x="153" y="251"/>
                  </a:lnTo>
                  <a:lnTo>
                    <a:pt x="147" y="254"/>
                  </a:lnTo>
                  <a:lnTo>
                    <a:pt x="141" y="256"/>
                  </a:lnTo>
                  <a:lnTo>
                    <a:pt x="134" y="257"/>
                  </a:lnTo>
                  <a:lnTo>
                    <a:pt x="128" y="259"/>
                  </a:lnTo>
                  <a:lnTo>
                    <a:pt x="121" y="259"/>
                  </a:lnTo>
                  <a:lnTo>
                    <a:pt x="115" y="259"/>
                  </a:lnTo>
                  <a:lnTo>
                    <a:pt x="107" y="259"/>
                  </a:lnTo>
                  <a:lnTo>
                    <a:pt x="100" y="257"/>
                  </a:lnTo>
                  <a:lnTo>
                    <a:pt x="94" y="255"/>
                  </a:lnTo>
                  <a:lnTo>
                    <a:pt x="87" y="254"/>
                  </a:lnTo>
                  <a:lnTo>
                    <a:pt x="81" y="251"/>
                  </a:lnTo>
                  <a:lnTo>
                    <a:pt x="75" y="247"/>
                  </a:lnTo>
                  <a:lnTo>
                    <a:pt x="69" y="244"/>
                  </a:lnTo>
                  <a:lnTo>
                    <a:pt x="63" y="240"/>
                  </a:lnTo>
                  <a:lnTo>
                    <a:pt x="57" y="236"/>
                  </a:lnTo>
                  <a:close/>
                  <a:moveTo>
                    <a:pt x="73" y="206"/>
                  </a:moveTo>
                  <a:lnTo>
                    <a:pt x="81" y="213"/>
                  </a:lnTo>
                  <a:lnTo>
                    <a:pt x="88" y="218"/>
                  </a:lnTo>
                  <a:lnTo>
                    <a:pt x="96" y="221"/>
                  </a:lnTo>
                  <a:lnTo>
                    <a:pt x="104" y="224"/>
                  </a:lnTo>
                  <a:lnTo>
                    <a:pt x="111" y="225"/>
                  </a:lnTo>
                  <a:lnTo>
                    <a:pt x="120" y="226"/>
                  </a:lnTo>
                  <a:lnTo>
                    <a:pt x="127" y="226"/>
                  </a:lnTo>
                  <a:lnTo>
                    <a:pt x="134" y="225"/>
                  </a:lnTo>
                  <a:lnTo>
                    <a:pt x="141" y="223"/>
                  </a:lnTo>
                  <a:lnTo>
                    <a:pt x="148" y="220"/>
                  </a:lnTo>
                  <a:lnTo>
                    <a:pt x="154" y="216"/>
                  </a:lnTo>
                  <a:lnTo>
                    <a:pt x="160" y="213"/>
                  </a:lnTo>
                  <a:lnTo>
                    <a:pt x="166" y="206"/>
                  </a:lnTo>
                  <a:lnTo>
                    <a:pt x="171" y="200"/>
                  </a:lnTo>
                  <a:lnTo>
                    <a:pt x="175" y="194"/>
                  </a:lnTo>
                  <a:lnTo>
                    <a:pt x="180" y="186"/>
                  </a:lnTo>
                  <a:lnTo>
                    <a:pt x="184" y="178"/>
                  </a:lnTo>
                  <a:lnTo>
                    <a:pt x="188" y="170"/>
                  </a:lnTo>
                  <a:lnTo>
                    <a:pt x="190" y="161"/>
                  </a:lnTo>
                  <a:lnTo>
                    <a:pt x="191" y="153"/>
                  </a:lnTo>
                  <a:lnTo>
                    <a:pt x="192" y="144"/>
                  </a:lnTo>
                  <a:lnTo>
                    <a:pt x="192" y="135"/>
                  </a:lnTo>
                  <a:lnTo>
                    <a:pt x="191" y="126"/>
                  </a:lnTo>
                  <a:lnTo>
                    <a:pt x="190" y="118"/>
                  </a:lnTo>
                  <a:lnTo>
                    <a:pt x="188" y="109"/>
                  </a:lnTo>
                  <a:lnTo>
                    <a:pt x="183" y="100"/>
                  </a:lnTo>
                  <a:lnTo>
                    <a:pt x="180" y="93"/>
                  </a:lnTo>
                  <a:lnTo>
                    <a:pt x="175" y="84"/>
                  </a:lnTo>
                  <a:lnTo>
                    <a:pt x="169" y="77"/>
                  </a:lnTo>
                  <a:lnTo>
                    <a:pt x="163" y="69"/>
                  </a:lnTo>
                  <a:lnTo>
                    <a:pt x="156" y="62"/>
                  </a:lnTo>
                  <a:lnTo>
                    <a:pt x="148" y="55"/>
                  </a:lnTo>
                  <a:lnTo>
                    <a:pt x="142" y="52"/>
                  </a:lnTo>
                  <a:lnTo>
                    <a:pt x="137" y="48"/>
                  </a:lnTo>
                  <a:lnTo>
                    <a:pt x="132" y="44"/>
                  </a:lnTo>
                  <a:lnTo>
                    <a:pt x="126" y="42"/>
                  </a:lnTo>
                  <a:lnTo>
                    <a:pt x="121" y="39"/>
                  </a:lnTo>
                  <a:lnTo>
                    <a:pt x="116" y="37"/>
                  </a:lnTo>
                  <a:lnTo>
                    <a:pt x="110" y="35"/>
                  </a:lnTo>
                  <a:lnTo>
                    <a:pt x="105" y="34"/>
                  </a:lnTo>
                  <a:lnTo>
                    <a:pt x="100" y="34"/>
                  </a:lnTo>
                  <a:lnTo>
                    <a:pt x="95" y="34"/>
                  </a:lnTo>
                  <a:lnTo>
                    <a:pt x="90" y="34"/>
                  </a:lnTo>
                  <a:lnTo>
                    <a:pt x="85" y="34"/>
                  </a:lnTo>
                  <a:lnTo>
                    <a:pt x="80" y="35"/>
                  </a:lnTo>
                  <a:lnTo>
                    <a:pt x="75" y="37"/>
                  </a:lnTo>
                  <a:lnTo>
                    <a:pt x="71" y="39"/>
                  </a:lnTo>
                  <a:lnTo>
                    <a:pt x="66" y="42"/>
                  </a:lnTo>
                  <a:lnTo>
                    <a:pt x="62" y="44"/>
                  </a:lnTo>
                  <a:lnTo>
                    <a:pt x="58" y="47"/>
                  </a:lnTo>
                  <a:lnTo>
                    <a:pt x="54" y="50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7" y="73"/>
                  </a:lnTo>
                  <a:lnTo>
                    <a:pt x="33" y="80"/>
                  </a:lnTo>
                  <a:lnTo>
                    <a:pt x="30" y="89"/>
                  </a:lnTo>
                  <a:lnTo>
                    <a:pt x="28" y="96"/>
                  </a:lnTo>
                  <a:lnTo>
                    <a:pt x="26" y="105"/>
                  </a:lnTo>
                  <a:lnTo>
                    <a:pt x="25" y="114"/>
                  </a:lnTo>
                  <a:lnTo>
                    <a:pt x="25" y="121"/>
                  </a:lnTo>
                  <a:lnTo>
                    <a:pt x="26" y="130"/>
                  </a:lnTo>
                  <a:lnTo>
                    <a:pt x="27" y="139"/>
                  </a:lnTo>
                  <a:lnTo>
                    <a:pt x="28" y="148"/>
                  </a:lnTo>
                  <a:lnTo>
                    <a:pt x="31" y="156"/>
                  </a:lnTo>
                  <a:lnTo>
                    <a:pt x="36" y="165"/>
                  </a:lnTo>
                  <a:lnTo>
                    <a:pt x="41" y="174"/>
                  </a:lnTo>
                  <a:lnTo>
                    <a:pt x="48" y="183"/>
                  </a:lnTo>
                  <a:lnTo>
                    <a:pt x="55" y="190"/>
                  </a:lnTo>
                  <a:lnTo>
                    <a:pt x="63" y="199"/>
                  </a:lnTo>
                  <a:lnTo>
                    <a:pt x="73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9400" y="2619360"/>
              <a:ext cx="69120" cy="60840"/>
            </a:xfrm>
            <a:custGeom>
              <a:avLst/>
              <a:gdLst/>
              <a:ahLst/>
              <a:rect l="l" t="t" r="r" b="b"/>
              <a:pathLst>
                <a:path w="267" h="312">
                  <a:moveTo>
                    <a:pt x="178" y="312"/>
                  </a:moveTo>
                  <a:lnTo>
                    <a:pt x="0" y="172"/>
                  </a:lnTo>
                  <a:lnTo>
                    <a:pt x="15" y="142"/>
                  </a:lnTo>
                  <a:lnTo>
                    <a:pt x="214" y="137"/>
                  </a:lnTo>
                  <a:lnTo>
                    <a:pt x="75" y="27"/>
                  </a:lnTo>
                  <a:lnTo>
                    <a:pt x="89" y="0"/>
                  </a:lnTo>
                  <a:lnTo>
                    <a:pt x="267" y="140"/>
                  </a:lnTo>
                  <a:lnTo>
                    <a:pt x="252" y="170"/>
                  </a:lnTo>
                  <a:lnTo>
                    <a:pt x="53" y="175"/>
                  </a:lnTo>
                  <a:lnTo>
                    <a:pt x="192" y="283"/>
                  </a:lnTo>
                  <a:lnTo>
                    <a:pt x="178" y="3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50000" y="2603880"/>
              <a:ext cx="49680" cy="32400"/>
            </a:xfrm>
            <a:custGeom>
              <a:avLst/>
              <a:gdLst/>
              <a:ahLst/>
              <a:rect l="l" t="t" r="r" b="b"/>
              <a:pathLst>
                <a:path w="191" h="169">
                  <a:moveTo>
                    <a:pt x="177" y="169"/>
                  </a:moveTo>
                  <a:lnTo>
                    <a:pt x="0" y="30"/>
                  </a:lnTo>
                  <a:lnTo>
                    <a:pt x="14" y="0"/>
                  </a:lnTo>
                  <a:lnTo>
                    <a:pt x="191" y="140"/>
                  </a:lnTo>
                  <a:lnTo>
                    <a:pt x="177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38360" y="3455640"/>
              <a:ext cx="50400" cy="5760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172" y="294"/>
                  </a:moveTo>
                  <a:lnTo>
                    <a:pt x="0" y="111"/>
                  </a:lnTo>
                  <a:lnTo>
                    <a:pt x="27" y="94"/>
                  </a:lnTo>
                  <a:lnTo>
                    <a:pt x="147" y="229"/>
                  </a:lnTo>
                  <a:lnTo>
                    <a:pt x="150" y="233"/>
                  </a:lnTo>
                  <a:lnTo>
                    <a:pt x="154" y="238"/>
                  </a:lnTo>
                  <a:lnTo>
                    <a:pt x="158" y="241"/>
                  </a:lnTo>
                  <a:lnTo>
                    <a:pt x="161" y="245"/>
                  </a:lnTo>
                  <a:lnTo>
                    <a:pt x="164" y="249"/>
                  </a:lnTo>
                  <a:lnTo>
                    <a:pt x="168" y="253"/>
                  </a:lnTo>
                  <a:lnTo>
                    <a:pt x="170" y="256"/>
                  </a:lnTo>
                  <a:lnTo>
                    <a:pt x="173" y="260"/>
                  </a:lnTo>
                  <a:lnTo>
                    <a:pt x="172" y="255"/>
                  </a:lnTo>
                  <a:lnTo>
                    <a:pt x="172" y="249"/>
                  </a:lnTo>
                  <a:lnTo>
                    <a:pt x="171" y="244"/>
                  </a:lnTo>
                  <a:lnTo>
                    <a:pt x="170" y="239"/>
                  </a:lnTo>
                  <a:lnTo>
                    <a:pt x="169" y="233"/>
                  </a:lnTo>
                  <a:lnTo>
                    <a:pt x="169" y="228"/>
                  </a:lnTo>
                  <a:lnTo>
                    <a:pt x="168" y="221"/>
                  </a:lnTo>
                  <a:lnTo>
                    <a:pt x="167" y="216"/>
                  </a:lnTo>
                  <a:lnTo>
                    <a:pt x="145" y="17"/>
                  </a:lnTo>
                  <a:lnTo>
                    <a:pt x="171" y="0"/>
                  </a:lnTo>
                  <a:lnTo>
                    <a:pt x="196" y="277"/>
                  </a:lnTo>
                  <a:lnTo>
                    <a:pt x="172" y="2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85880" y="3450960"/>
              <a:ext cx="31680" cy="47520"/>
            </a:xfrm>
            <a:custGeom>
              <a:avLst/>
              <a:gdLst/>
              <a:ahLst/>
              <a:rect l="l" t="t" r="r" b="b"/>
              <a:pathLst>
                <a:path w="122" h="244">
                  <a:moveTo>
                    <a:pt x="14" y="48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37" y="33"/>
                  </a:lnTo>
                  <a:lnTo>
                    <a:pt x="14" y="48"/>
                  </a:lnTo>
                  <a:close/>
                  <a:moveTo>
                    <a:pt x="99" y="244"/>
                  </a:moveTo>
                  <a:lnTo>
                    <a:pt x="27" y="79"/>
                  </a:lnTo>
                  <a:lnTo>
                    <a:pt x="51" y="64"/>
                  </a:lnTo>
                  <a:lnTo>
                    <a:pt x="122" y="229"/>
                  </a:lnTo>
                  <a:lnTo>
                    <a:pt x="99" y="2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611440" y="3447720"/>
              <a:ext cx="45000" cy="40320"/>
            </a:xfrm>
            <a:custGeom>
              <a:avLst/>
              <a:gdLst/>
              <a:ahLst/>
              <a:rect l="l" t="t" r="r" b="b"/>
              <a:pathLst>
                <a:path w="175" h="210">
                  <a:moveTo>
                    <a:pt x="137" y="143"/>
                  </a:moveTo>
                  <a:lnTo>
                    <a:pt x="135" y="148"/>
                  </a:lnTo>
                  <a:lnTo>
                    <a:pt x="134" y="152"/>
                  </a:lnTo>
                  <a:lnTo>
                    <a:pt x="132" y="157"/>
                  </a:lnTo>
                  <a:lnTo>
                    <a:pt x="130" y="162"/>
                  </a:lnTo>
                  <a:lnTo>
                    <a:pt x="128" y="166"/>
                  </a:lnTo>
                  <a:lnTo>
                    <a:pt x="126" y="170"/>
                  </a:lnTo>
                  <a:lnTo>
                    <a:pt x="123" y="174"/>
                  </a:lnTo>
                  <a:lnTo>
                    <a:pt x="121" y="177"/>
                  </a:lnTo>
                  <a:lnTo>
                    <a:pt x="119" y="181"/>
                  </a:lnTo>
                  <a:lnTo>
                    <a:pt x="116" y="184"/>
                  </a:lnTo>
                  <a:lnTo>
                    <a:pt x="114" y="186"/>
                  </a:lnTo>
                  <a:lnTo>
                    <a:pt x="111" y="190"/>
                  </a:lnTo>
                  <a:lnTo>
                    <a:pt x="108" y="192"/>
                  </a:lnTo>
                  <a:lnTo>
                    <a:pt x="105" y="195"/>
                  </a:lnTo>
                  <a:lnTo>
                    <a:pt x="102" y="197"/>
                  </a:lnTo>
                  <a:lnTo>
                    <a:pt x="99" y="200"/>
                  </a:lnTo>
                  <a:lnTo>
                    <a:pt x="93" y="202"/>
                  </a:lnTo>
                  <a:lnTo>
                    <a:pt x="87" y="205"/>
                  </a:lnTo>
                  <a:lnTo>
                    <a:pt x="82" y="207"/>
                  </a:lnTo>
                  <a:lnTo>
                    <a:pt x="77" y="209"/>
                  </a:lnTo>
                  <a:lnTo>
                    <a:pt x="72" y="210"/>
                  </a:lnTo>
                  <a:lnTo>
                    <a:pt x="67" y="210"/>
                  </a:lnTo>
                  <a:lnTo>
                    <a:pt x="63" y="210"/>
                  </a:lnTo>
                  <a:lnTo>
                    <a:pt x="58" y="209"/>
                  </a:lnTo>
                  <a:lnTo>
                    <a:pt x="54" y="206"/>
                  </a:lnTo>
                  <a:lnTo>
                    <a:pt x="50" y="205"/>
                  </a:lnTo>
                  <a:lnTo>
                    <a:pt x="46" y="202"/>
                  </a:lnTo>
                  <a:lnTo>
                    <a:pt x="43" y="199"/>
                  </a:lnTo>
                  <a:lnTo>
                    <a:pt x="40" y="195"/>
                  </a:lnTo>
                  <a:lnTo>
                    <a:pt x="37" y="191"/>
                  </a:lnTo>
                  <a:lnTo>
                    <a:pt x="34" y="187"/>
                  </a:lnTo>
                  <a:lnTo>
                    <a:pt x="32" y="182"/>
                  </a:lnTo>
                  <a:lnTo>
                    <a:pt x="31" y="179"/>
                  </a:lnTo>
                  <a:lnTo>
                    <a:pt x="30" y="176"/>
                  </a:lnTo>
                  <a:lnTo>
                    <a:pt x="29" y="172"/>
                  </a:lnTo>
                  <a:lnTo>
                    <a:pt x="28" y="170"/>
                  </a:lnTo>
                  <a:lnTo>
                    <a:pt x="28" y="166"/>
                  </a:lnTo>
                  <a:lnTo>
                    <a:pt x="27" y="164"/>
                  </a:lnTo>
                  <a:lnTo>
                    <a:pt x="27" y="160"/>
                  </a:lnTo>
                  <a:lnTo>
                    <a:pt x="27" y="156"/>
                  </a:lnTo>
                  <a:lnTo>
                    <a:pt x="27" y="154"/>
                  </a:lnTo>
                  <a:lnTo>
                    <a:pt x="27" y="150"/>
                  </a:lnTo>
                  <a:lnTo>
                    <a:pt x="28" y="148"/>
                  </a:lnTo>
                  <a:lnTo>
                    <a:pt x="28" y="145"/>
                  </a:lnTo>
                  <a:lnTo>
                    <a:pt x="29" y="141"/>
                  </a:lnTo>
                  <a:lnTo>
                    <a:pt x="30" y="139"/>
                  </a:lnTo>
                  <a:lnTo>
                    <a:pt x="31" y="136"/>
                  </a:lnTo>
                  <a:lnTo>
                    <a:pt x="32" y="133"/>
                  </a:lnTo>
                  <a:lnTo>
                    <a:pt x="33" y="130"/>
                  </a:lnTo>
                  <a:lnTo>
                    <a:pt x="34" y="128"/>
                  </a:lnTo>
                  <a:lnTo>
                    <a:pt x="36" y="125"/>
                  </a:lnTo>
                  <a:lnTo>
                    <a:pt x="37" y="123"/>
                  </a:lnTo>
                  <a:lnTo>
                    <a:pt x="39" y="120"/>
                  </a:lnTo>
                  <a:lnTo>
                    <a:pt x="40" y="118"/>
                  </a:lnTo>
                  <a:lnTo>
                    <a:pt x="42" y="115"/>
                  </a:lnTo>
                  <a:lnTo>
                    <a:pt x="44" y="113"/>
                  </a:lnTo>
                  <a:lnTo>
                    <a:pt x="45" y="111"/>
                  </a:lnTo>
                  <a:lnTo>
                    <a:pt x="47" y="110"/>
                  </a:lnTo>
                  <a:lnTo>
                    <a:pt x="49" y="108"/>
                  </a:lnTo>
                  <a:lnTo>
                    <a:pt x="51" y="105"/>
                  </a:lnTo>
                  <a:lnTo>
                    <a:pt x="54" y="103"/>
                  </a:lnTo>
                  <a:lnTo>
                    <a:pt x="56" y="101"/>
                  </a:lnTo>
                  <a:lnTo>
                    <a:pt x="59" y="98"/>
                  </a:lnTo>
                  <a:lnTo>
                    <a:pt x="62" y="95"/>
                  </a:lnTo>
                  <a:lnTo>
                    <a:pt x="68" y="90"/>
                  </a:lnTo>
                  <a:lnTo>
                    <a:pt x="74" y="85"/>
                  </a:lnTo>
                  <a:lnTo>
                    <a:pt x="79" y="80"/>
                  </a:lnTo>
                  <a:lnTo>
                    <a:pt x="84" y="75"/>
                  </a:lnTo>
                  <a:lnTo>
                    <a:pt x="88" y="71"/>
                  </a:lnTo>
                  <a:lnTo>
                    <a:pt x="93" y="66"/>
                  </a:lnTo>
                  <a:lnTo>
                    <a:pt x="96" y="63"/>
                  </a:lnTo>
                  <a:lnTo>
                    <a:pt x="99" y="59"/>
                  </a:lnTo>
                  <a:lnTo>
                    <a:pt x="99" y="58"/>
                  </a:lnTo>
                  <a:lnTo>
                    <a:pt x="98" y="56"/>
                  </a:lnTo>
                  <a:lnTo>
                    <a:pt x="98" y="55"/>
                  </a:lnTo>
                  <a:lnTo>
                    <a:pt x="97" y="54"/>
                  </a:lnTo>
                  <a:lnTo>
                    <a:pt x="97" y="54"/>
                  </a:lnTo>
                  <a:lnTo>
                    <a:pt x="97" y="53"/>
                  </a:lnTo>
                  <a:lnTo>
                    <a:pt x="96" y="53"/>
                  </a:lnTo>
                  <a:lnTo>
                    <a:pt x="96" y="51"/>
                  </a:lnTo>
                  <a:lnTo>
                    <a:pt x="94" y="48"/>
                  </a:lnTo>
                  <a:lnTo>
                    <a:pt x="91" y="44"/>
                  </a:lnTo>
                  <a:lnTo>
                    <a:pt x="89" y="41"/>
                  </a:lnTo>
                  <a:lnTo>
                    <a:pt x="87" y="38"/>
                  </a:lnTo>
                  <a:lnTo>
                    <a:pt x="85" y="36"/>
                  </a:lnTo>
                  <a:lnTo>
                    <a:pt x="83" y="34"/>
                  </a:lnTo>
                  <a:lnTo>
                    <a:pt x="81" y="33"/>
                  </a:lnTo>
                  <a:lnTo>
                    <a:pt x="78" y="31"/>
                  </a:lnTo>
                  <a:lnTo>
                    <a:pt x="75" y="31"/>
                  </a:lnTo>
                  <a:lnTo>
                    <a:pt x="72" y="31"/>
                  </a:lnTo>
                  <a:lnTo>
                    <a:pt x="68" y="31"/>
                  </a:lnTo>
                  <a:lnTo>
                    <a:pt x="65" y="31"/>
                  </a:lnTo>
                  <a:lnTo>
                    <a:pt x="61" y="33"/>
                  </a:lnTo>
                  <a:lnTo>
                    <a:pt x="57" y="35"/>
                  </a:lnTo>
                  <a:lnTo>
                    <a:pt x="53" y="36"/>
                  </a:lnTo>
                  <a:lnTo>
                    <a:pt x="49" y="39"/>
                  </a:lnTo>
                  <a:lnTo>
                    <a:pt x="45" y="41"/>
                  </a:lnTo>
                  <a:lnTo>
                    <a:pt x="42" y="45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3" y="53"/>
                  </a:lnTo>
                  <a:lnTo>
                    <a:pt x="31" y="56"/>
                  </a:lnTo>
                  <a:lnTo>
                    <a:pt x="30" y="59"/>
                  </a:lnTo>
                  <a:lnTo>
                    <a:pt x="28" y="61"/>
                  </a:lnTo>
                  <a:lnTo>
                    <a:pt x="27" y="65"/>
                  </a:lnTo>
                  <a:lnTo>
                    <a:pt x="27" y="69"/>
                  </a:lnTo>
                  <a:lnTo>
                    <a:pt x="26" y="71"/>
                  </a:lnTo>
                  <a:lnTo>
                    <a:pt x="26" y="76"/>
                  </a:lnTo>
                  <a:lnTo>
                    <a:pt x="26" y="80"/>
                  </a:lnTo>
                  <a:lnTo>
                    <a:pt x="26" y="84"/>
                  </a:lnTo>
                  <a:lnTo>
                    <a:pt x="27" y="89"/>
                  </a:lnTo>
                  <a:lnTo>
                    <a:pt x="28" y="94"/>
                  </a:lnTo>
                  <a:lnTo>
                    <a:pt x="3" y="105"/>
                  </a:lnTo>
                  <a:lnTo>
                    <a:pt x="2" y="100"/>
                  </a:lnTo>
                  <a:lnTo>
                    <a:pt x="1" y="95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59"/>
                  </a:lnTo>
                  <a:lnTo>
                    <a:pt x="5" y="54"/>
                  </a:lnTo>
                  <a:lnTo>
                    <a:pt x="7" y="51"/>
                  </a:lnTo>
                  <a:lnTo>
                    <a:pt x="9" y="48"/>
                  </a:lnTo>
                  <a:lnTo>
                    <a:pt x="11" y="44"/>
                  </a:lnTo>
                  <a:lnTo>
                    <a:pt x="13" y="40"/>
                  </a:lnTo>
                  <a:lnTo>
                    <a:pt x="16" y="36"/>
                  </a:lnTo>
                  <a:lnTo>
                    <a:pt x="19" y="33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3"/>
                  </a:lnTo>
                  <a:lnTo>
                    <a:pt x="34" y="20"/>
                  </a:lnTo>
                  <a:lnTo>
                    <a:pt x="38" y="16"/>
                  </a:lnTo>
                  <a:lnTo>
                    <a:pt x="42" y="14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4" y="6"/>
                  </a:lnTo>
                  <a:lnTo>
                    <a:pt x="58" y="5"/>
                  </a:lnTo>
                  <a:lnTo>
                    <a:pt x="62" y="4"/>
                  </a:lnTo>
                  <a:lnTo>
                    <a:pt x="65" y="3"/>
                  </a:lnTo>
                  <a:lnTo>
                    <a:pt x="69" y="2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4" y="3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100" y="6"/>
                  </a:lnTo>
                  <a:lnTo>
                    <a:pt x="102" y="9"/>
                  </a:lnTo>
                  <a:lnTo>
                    <a:pt x="104" y="10"/>
                  </a:lnTo>
                  <a:lnTo>
                    <a:pt x="105" y="13"/>
                  </a:lnTo>
                  <a:lnTo>
                    <a:pt x="107" y="15"/>
                  </a:lnTo>
                  <a:lnTo>
                    <a:pt x="109" y="18"/>
                  </a:lnTo>
                  <a:lnTo>
                    <a:pt x="110" y="19"/>
                  </a:lnTo>
                  <a:lnTo>
                    <a:pt x="111" y="21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30"/>
                  </a:lnTo>
                  <a:lnTo>
                    <a:pt x="117" y="34"/>
                  </a:lnTo>
                  <a:lnTo>
                    <a:pt x="119" y="38"/>
                  </a:lnTo>
                  <a:lnTo>
                    <a:pt x="121" y="43"/>
                  </a:lnTo>
                  <a:lnTo>
                    <a:pt x="137" y="80"/>
                  </a:lnTo>
                  <a:lnTo>
                    <a:pt x="141" y="89"/>
                  </a:lnTo>
                  <a:lnTo>
                    <a:pt x="145" y="98"/>
                  </a:lnTo>
                  <a:lnTo>
                    <a:pt x="148" y="105"/>
                  </a:lnTo>
                  <a:lnTo>
                    <a:pt x="151" y="111"/>
                  </a:lnTo>
                  <a:lnTo>
                    <a:pt x="154" y="118"/>
                  </a:lnTo>
                  <a:lnTo>
                    <a:pt x="156" y="121"/>
                  </a:lnTo>
                  <a:lnTo>
                    <a:pt x="158" y="125"/>
                  </a:lnTo>
                  <a:lnTo>
                    <a:pt x="160" y="129"/>
                  </a:lnTo>
                  <a:lnTo>
                    <a:pt x="161" y="131"/>
                  </a:lnTo>
                  <a:lnTo>
                    <a:pt x="163" y="133"/>
                  </a:lnTo>
                  <a:lnTo>
                    <a:pt x="164" y="135"/>
                  </a:lnTo>
                  <a:lnTo>
                    <a:pt x="167" y="138"/>
                  </a:lnTo>
                  <a:lnTo>
                    <a:pt x="169" y="139"/>
                  </a:lnTo>
                  <a:lnTo>
                    <a:pt x="171" y="141"/>
                  </a:lnTo>
                  <a:lnTo>
                    <a:pt x="173" y="143"/>
                  </a:lnTo>
                  <a:lnTo>
                    <a:pt x="175" y="145"/>
                  </a:lnTo>
                  <a:lnTo>
                    <a:pt x="150" y="160"/>
                  </a:lnTo>
                  <a:lnTo>
                    <a:pt x="149" y="159"/>
                  </a:lnTo>
                  <a:lnTo>
                    <a:pt x="147" y="156"/>
                  </a:lnTo>
                  <a:lnTo>
                    <a:pt x="145" y="155"/>
                  </a:lnTo>
                  <a:lnTo>
                    <a:pt x="143" y="152"/>
                  </a:lnTo>
                  <a:lnTo>
                    <a:pt x="142" y="150"/>
                  </a:lnTo>
                  <a:lnTo>
                    <a:pt x="140" y="148"/>
                  </a:lnTo>
                  <a:lnTo>
                    <a:pt x="139" y="145"/>
                  </a:lnTo>
                  <a:lnTo>
                    <a:pt x="137" y="143"/>
                  </a:lnTo>
                  <a:close/>
                  <a:moveTo>
                    <a:pt x="109" y="81"/>
                  </a:moveTo>
                  <a:lnTo>
                    <a:pt x="106" y="85"/>
                  </a:lnTo>
                  <a:lnTo>
                    <a:pt x="103" y="89"/>
                  </a:lnTo>
                  <a:lnTo>
                    <a:pt x="100" y="93"/>
                  </a:lnTo>
                  <a:lnTo>
                    <a:pt x="96" y="98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1" y="111"/>
                  </a:lnTo>
                  <a:lnTo>
                    <a:pt x="75" y="116"/>
                  </a:lnTo>
                  <a:lnTo>
                    <a:pt x="72" y="119"/>
                  </a:lnTo>
                  <a:lnTo>
                    <a:pt x="69" y="121"/>
                  </a:lnTo>
                  <a:lnTo>
                    <a:pt x="67" y="124"/>
                  </a:lnTo>
                  <a:lnTo>
                    <a:pt x="65" y="126"/>
                  </a:lnTo>
                  <a:lnTo>
                    <a:pt x="63" y="129"/>
                  </a:lnTo>
                  <a:lnTo>
                    <a:pt x="61" y="131"/>
                  </a:lnTo>
                  <a:lnTo>
                    <a:pt x="59" y="133"/>
                  </a:lnTo>
                  <a:lnTo>
                    <a:pt x="58" y="135"/>
                  </a:lnTo>
                  <a:lnTo>
                    <a:pt x="57" y="136"/>
                  </a:lnTo>
                  <a:lnTo>
                    <a:pt x="56" y="139"/>
                  </a:lnTo>
                  <a:lnTo>
                    <a:pt x="55" y="140"/>
                  </a:lnTo>
                  <a:lnTo>
                    <a:pt x="55" y="143"/>
                  </a:lnTo>
                  <a:lnTo>
                    <a:pt x="54" y="144"/>
                  </a:lnTo>
                  <a:lnTo>
                    <a:pt x="54" y="146"/>
                  </a:lnTo>
                  <a:lnTo>
                    <a:pt x="53" y="148"/>
                  </a:lnTo>
                  <a:lnTo>
                    <a:pt x="53" y="150"/>
                  </a:lnTo>
                  <a:lnTo>
                    <a:pt x="53" y="152"/>
                  </a:lnTo>
                  <a:lnTo>
                    <a:pt x="53" y="154"/>
                  </a:lnTo>
                  <a:lnTo>
                    <a:pt x="53" y="156"/>
                  </a:lnTo>
                  <a:lnTo>
                    <a:pt x="53" y="157"/>
                  </a:lnTo>
                  <a:lnTo>
                    <a:pt x="54" y="160"/>
                  </a:lnTo>
                  <a:lnTo>
                    <a:pt x="54" y="161"/>
                  </a:lnTo>
                  <a:lnTo>
                    <a:pt x="55" y="164"/>
                  </a:lnTo>
                  <a:lnTo>
                    <a:pt x="56" y="165"/>
                  </a:lnTo>
                  <a:lnTo>
                    <a:pt x="57" y="167"/>
                  </a:lnTo>
                  <a:lnTo>
                    <a:pt x="58" y="170"/>
                  </a:lnTo>
                  <a:lnTo>
                    <a:pt x="60" y="172"/>
                  </a:lnTo>
                  <a:lnTo>
                    <a:pt x="62" y="175"/>
                  </a:lnTo>
                  <a:lnTo>
                    <a:pt x="64" y="176"/>
                  </a:lnTo>
                  <a:lnTo>
                    <a:pt x="66" y="177"/>
                  </a:lnTo>
                  <a:lnTo>
                    <a:pt x="68" y="179"/>
                  </a:lnTo>
                  <a:lnTo>
                    <a:pt x="71" y="180"/>
                  </a:lnTo>
                  <a:lnTo>
                    <a:pt x="73" y="180"/>
                  </a:lnTo>
                  <a:lnTo>
                    <a:pt x="76" y="180"/>
                  </a:lnTo>
                  <a:lnTo>
                    <a:pt x="78" y="180"/>
                  </a:lnTo>
                  <a:lnTo>
                    <a:pt x="81" y="180"/>
                  </a:lnTo>
                  <a:lnTo>
                    <a:pt x="84" y="179"/>
                  </a:lnTo>
                  <a:lnTo>
                    <a:pt x="87" y="177"/>
                  </a:lnTo>
                  <a:lnTo>
                    <a:pt x="90" y="176"/>
                  </a:lnTo>
                  <a:lnTo>
                    <a:pt x="95" y="174"/>
                  </a:lnTo>
                  <a:lnTo>
                    <a:pt x="98" y="171"/>
                  </a:lnTo>
                  <a:lnTo>
                    <a:pt x="101" y="169"/>
                  </a:lnTo>
                  <a:lnTo>
                    <a:pt x="104" y="166"/>
                  </a:lnTo>
                  <a:lnTo>
                    <a:pt x="106" y="164"/>
                  </a:lnTo>
                  <a:lnTo>
                    <a:pt x="109" y="161"/>
                  </a:lnTo>
                  <a:lnTo>
                    <a:pt x="111" y="157"/>
                  </a:lnTo>
                  <a:lnTo>
                    <a:pt x="113" y="155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8" y="144"/>
                  </a:lnTo>
                  <a:lnTo>
                    <a:pt x="119" y="141"/>
                  </a:lnTo>
                  <a:lnTo>
                    <a:pt x="120" y="138"/>
                  </a:lnTo>
                  <a:lnTo>
                    <a:pt x="121" y="134"/>
                  </a:lnTo>
                  <a:lnTo>
                    <a:pt x="121" y="130"/>
                  </a:lnTo>
                  <a:lnTo>
                    <a:pt x="121" y="126"/>
                  </a:lnTo>
                  <a:lnTo>
                    <a:pt x="121" y="123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0" y="113"/>
                  </a:lnTo>
                  <a:lnTo>
                    <a:pt x="119" y="109"/>
                  </a:lnTo>
                  <a:lnTo>
                    <a:pt x="118" y="105"/>
                  </a:lnTo>
                  <a:lnTo>
                    <a:pt x="116" y="100"/>
                  </a:lnTo>
                  <a:lnTo>
                    <a:pt x="115" y="96"/>
                  </a:lnTo>
                  <a:lnTo>
                    <a:pt x="113" y="91"/>
                  </a:lnTo>
                  <a:lnTo>
                    <a:pt x="109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57520" y="3398760"/>
              <a:ext cx="63720" cy="63720"/>
            </a:xfrm>
            <a:custGeom>
              <a:avLst/>
              <a:gdLst/>
              <a:ahLst/>
              <a:rect l="l" t="t" r="r" b="b"/>
              <a:pathLst>
                <a:path w="245" h="326">
                  <a:moveTo>
                    <a:pt x="98" y="326"/>
                  </a:moveTo>
                  <a:lnTo>
                    <a:pt x="0" y="97"/>
                  </a:lnTo>
                  <a:lnTo>
                    <a:pt x="25" y="80"/>
                  </a:lnTo>
                  <a:lnTo>
                    <a:pt x="200" y="196"/>
                  </a:lnTo>
                  <a:lnTo>
                    <a:pt x="122" y="17"/>
                  </a:lnTo>
                  <a:lnTo>
                    <a:pt x="146" y="0"/>
                  </a:lnTo>
                  <a:lnTo>
                    <a:pt x="245" y="230"/>
                  </a:lnTo>
                  <a:lnTo>
                    <a:pt x="220" y="246"/>
                  </a:lnTo>
                  <a:lnTo>
                    <a:pt x="44" y="130"/>
                  </a:lnTo>
                  <a:lnTo>
                    <a:pt x="122" y="310"/>
                  </a:lnTo>
                  <a:lnTo>
                    <a:pt x="98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19440" y="3382920"/>
              <a:ext cx="52920" cy="57600"/>
            </a:xfrm>
            <a:custGeom>
              <a:avLst/>
              <a:gdLst/>
              <a:ahLst/>
              <a:rect l="l" t="t" r="r" b="b"/>
              <a:pathLst>
                <a:path w="202" h="293">
                  <a:moveTo>
                    <a:pt x="28" y="293"/>
                  </a:moveTo>
                  <a:lnTo>
                    <a:pt x="0" y="17"/>
                  </a:lnTo>
                  <a:lnTo>
                    <a:pt x="26" y="0"/>
                  </a:lnTo>
                  <a:lnTo>
                    <a:pt x="202" y="179"/>
                  </a:lnTo>
                  <a:lnTo>
                    <a:pt x="173" y="198"/>
                  </a:lnTo>
                  <a:lnTo>
                    <a:pt x="122" y="142"/>
                  </a:lnTo>
                  <a:lnTo>
                    <a:pt x="45" y="193"/>
                  </a:lnTo>
                  <a:lnTo>
                    <a:pt x="54" y="275"/>
                  </a:lnTo>
                  <a:lnTo>
                    <a:pt x="28" y="293"/>
                  </a:lnTo>
                  <a:close/>
                  <a:moveTo>
                    <a:pt x="41" y="164"/>
                  </a:moveTo>
                  <a:lnTo>
                    <a:pt x="103" y="123"/>
                  </a:lnTo>
                  <a:lnTo>
                    <a:pt x="57" y="72"/>
                  </a:lnTo>
                  <a:lnTo>
                    <a:pt x="52" y="67"/>
                  </a:lnTo>
                  <a:lnTo>
                    <a:pt x="47" y="61"/>
                  </a:lnTo>
                  <a:lnTo>
                    <a:pt x="43" y="56"/>
                  </a:lnTo>
                  <a:lnTo>
                    <a:pt x="37" y="51"/>
                  </a:lnTo>
                  <a:lnTo>
                    <a:pt x="33" y="46"/>
                  </a:lnTo>
                  <a:lnTo>
                    <a:pt x="30" y="42"/>
                  </a:lnTo>
                  <a:lnTo>
                    <a:pt x="26" y="37"/>
                  </a:lnTo>
                  <a:lnTo>
                    <a:pt x="23" y="33"/>
                  </a:lnTo>
                  <a:lnTo>
                    <a:pt x="24" y="40"/>
                  </a:lnTo>
                  <a:lnTo>
                    <a:pt x="26" y="46"/>
                  </a:lnTo>
                  <a:lnTo>
                    <a:pt x="27" y="52"/>
                  </a:lnTo>
                  <a:lnTo>
                    <a:pt x="28" y="58"/>
                  </a:lnTo>
                  <a:lnTo>
                    <a:pt x="29" y="64"/>
                  </a:lnTo>
                  <a:lnTo>
                    <a:pt x="30" y="71"/>
                  </a:lnTo>
                  <a:lnTo>
                    <a:pt x="31" y="77"/>
                  </a:lnTo>
                  <a:lnTo>
                    <a:pt x="32" y="83"/>
                  </a:lnTo>
                  <a:lnTo>
                    <a:pt x="41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50400" y="3354120"/>
              <a:ext cx="60840" cy="63000"/>
            </a:xfrm>
            <a:custGeom>
              <a:avLst/>
              <a:gdLst/>
              <a:ahLst/>
              <a:rect l="l" t="t" r="r" b="b"/>
              <a:pathLst>
                <a:path w="235" h="323">
                  <a:moveTo>
                    <a:pt x="88" y="323"/>
                  </a:moveTo>
                  <a:lnTo>
                    <a:pt x="76" y="295"/>
                  </a:lnTo>
                  <a:lnTo>
                    <a:pt x="107" y="86"/>
                  </a:lnTo>
                  <a:lnTo>
                    <a:pt x="108" y="81"/>
                  </a:lnTo>
                  <a:lnTo>
                    <a:pt x="109" y="75"/>
                  </a:lnTo>
                  <a:lnTo>
                    <a:pt x="110" y="70"/>
                  </a:lnTo>
                  <a:lnTo>
                    <a:pt x="111" y="65"/>
                  </a:lnTo>
                  <a:lnTo>
                    <a:pt x="112" y="60"/>
                  </a:lnTo>
                  <a:lnTo>
                    <a:pt x="113" y="55"/>
                  </a:lnTo>
                  <a:lnTo>
                    <a:pt x="114" y="51"/>
                  </a:lnTo>
                  <a:lnTo>
                    <a:pt x="115" y="46"/>
                  </a:lnTo>
                  <a:lnTo>
                    <a:pt x="12" y="115"/>
                  </a:lnTo>
                  <a:lnTo>
                    <a:pt x="0" y="87"/>
                  </a:lnTo>
                  <a:lnTo>
                    <a:pt x="132" y="0"/>
                  </a:lnTo>
                  <a:lnTo>
                    <a:pt x="145" y="28"/>
                  </a:lnTo>
                  <a:lnTo>
                    <a:pt x="109" y="255"/>
                  </a:lnTo>
                  <a:lnTo>
                    <a:pt x="104" y="277"/>
                  </a:lnTo>
                  <a:lnTo>
                    <a:pt x="223" y="200"/>
                  </a:lnTo>
                  <a:lnTo>
                    <a:pt x="235" y="227"/>
                  </a:lnTo>
                  <a:lnTo>
                    <a:pt x="88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91080" y="3333960"/>
              <a:ext cx="61560" cy="63000"/>
            </a:xfrm>
            <a:custGeom>
              <a:avLst/>
              <a:gdLst/>
              <a:ahLst/>
              <a:rect l="l" t="t" r="r" b="b"/>
              <a:pathLst>
                <a:path w="235" h="323">
                  <a:moveTo>
                    <a:pt x="88" y="323"/>
                  </a:moveTo>
                  <a:lnTo>
                    <a:pt x="76" y="296"/>
                  </a:lnTo>
                  <a:lnTo>
                    <a:pt x="107" y="86"/>
                  </a:lnTo>
                  <a:lnTo>
                    <a:pt x="108" y="81"/>
                  </a:lnTo>
                  <a:lnTo>
                    <a:pt x="109" y="76"/>
                  </a:lnTo>
                  <a:lnTo>
                    <a:pt x="110" y="70"/>
                  </a:lnTo>
                  <a:lnTo>
                    <a:pt x="111" y="65"/>
                  </a:lnTo>
                  <a:lnTo>
                    <a:pt x="112" y="60"/>
                  </a:lnTo>
                  <a:lnTo>
                    <a:pt x="112" y="56"/>
                  </a:lnTo>
                  <a:lnTo>
                    <a:pt x="113" y="51"/>
                  </a:lnTo>
                  <a:lnTo>
                    <a:pt x="114" y="46"/>
                  </a:lnTo>
                  <a:lnTo>
                    <a:pt x="11" y="115"/>
                  </a:lnTo>
                  <a:lnTo>
                    <a:pt x="0" y="87"/>
                  </a:lnTo>
                  <a:lnTo>
                    <a:pt x="133" y="0"/>
                  </a:lnTo>
                  <a:lnTo>
                    <a:pt x="144" y="27"/>
                  </a:lnTo>
                  <a:lnTo>
                    <a:pt x="108" y="255"/>
                  </a:lnTo>
                  <a:lnTo>
                    <a:pt x="104" y="278"/>
                  </a:lnTo>
                  <a:lnTo>
                    <a:pt x="223" y="200"/>
                  </a:lnTo>
                  <a:lnTo>
                    <a:pt x="235" y="227"/>
                  </a:lnTo>
                  <a:lnTo>
                    <a:pt x="88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46520" y="3319920"/>
              <a:ext cx="51840" cy="5688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27" y="292"/>
                  </a:moveTo>
                  <a:lnTo>
                    <a:pt x="0" y="17"/>
                  </a:lnTo>
                  <a:lnTo>
                    <a:pt x="26" y="0"/>
                  </a:lnTo>
                  <a:lnTo>
                    <a:pt x="200" y="178"/>
                  </a:lnTo>
                  <a:lnTo>
                    <a:pt x="173" y="197"/>
                  </a:lnTo>
                  <a:lnTo>
                    <a:pt x="121" y="142"/>
                  </a:lnTo>
                  <a:lnTo>
                    <a:pt x="43" y="192"/>
                  </a:lnTo>
                  <a:lnTo>
                    <a:pt x="53" y="276"/>
                  </a:lnTo>
                  <a:lnTo>
                    <a:pt x="27" y="292"/>
                  </a:lnTo>
                  <a:close/>
                  <a:moveTo>
                    <a:pt x="40" y="163"/>
                  </a:moveTo>
                  <a:lnTo>
                    <a:pt x="103" y="122"/>
                  </a:lnTo>
                  <a:lnTo>
                    <a:pt x="56" y="71"/>
                  </a:lnTo>
                  <a:lnTo>
                    <a:pt x="51" y="66"/>
                  </a:lnTo>
                  <a:lnTo>
                    <a:pt x="46" y="60"/>
                  </a:lnTo>
                  <a:lnTo>
                    <a:pt x="41" y="55"/>
                  </a:lnTo>
                  <a:lnTo>
                    <a:pt x="37" y="50"/>
                  </a:lnTo>
                  <a:lnTo>
                    <a:pt x="33" y="46"/>
                  </a:lnTo>
                  <a:lnTo>
                    <a:pt x="29" y="41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24" y="39"/>
                  </a:lnTo>
                  <a:lnTo>
                    <a:pt x="25" y="45"/>
                  </a:lnTo>
                  <a:lnTo>
                    <a:pt x="26" y="51"/>
                  </a:lnTo>
                  <a:lnTo>
                    <a:pt x="28" y="57"/>
                  </a:lnTo>
                  <a:lnTo>
                    <a:pt x="29" y="64"/>
                  </a:lnTo>
                  <a:lnTo>
                    <a:pt x="30" y="70"/>
                  </a:lnTo>
                  <a:lnTo>
                    <a:pt x="30" y="76"/>
                  </a:lnTo>
                  <a:lnTo>
                    <a:pt x="31" y="82"/>
                  </a:lnTo>
                  <a:lnTo>
                    <a:pt x="40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8200" y="3292560"/>
              <a:ext cx="67680" cy="59040"/>
            </a:xfrm>
            <a:custGeom>
              <a:avLst/>
              <a:gdLst/>
              <a:ahLst/>
              <a:rect l="l" t="t" r="r" b="b"/>
              <a:pathLst>
                <a:path w="263" h="302">
                  <a:moveTo>
                    <a:pt x="99" y="302"/>
                  </a:moveTo>
                  <a:lnTo>
                    <a:pt x="0" y="74"/>
                  </a:lnTo>
                  <a:lnTo>
                    <a:pt x="83" y="19"/>
                  </a:lnTo>
                  <a:lnTo>
                    <a:pt x="89" y="15"/>
                  </a:lnTo>
                  <a:lnTo>
                    <a:pt x="95" y="13"/>
                  </a:lnTo>
                  <a:lnTo>
                    <a:pt x="100" y="9"/>
                  </a:lnTo>
                  <a:lnTo>
                    <a:pt x="105" y="7"/>
                  </a:lnTo>
                  <a:lnTo>
                    <a:pt x="110" y="5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3" y="2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38" y="2"/>
                  </a:lnTo>
                  <a:lnTo>
                    <a:pt x="142" y="3"/>
                  </a:lnTo>
                  <a:lnTo>
                    <a:pt x="145" y="5"/>
                  </a:lnTo>
                  <a:lnTo>
                    <a:pt x="149" y="7"/>
                  </a:lnTo>
                  <a:lnTo>
                    <a:pt x="153" y="9"/>
                  </a:lnTo>
                  <a:lnTo>
                    <a:pt x="157" y="12"/>
                  </a:lnTo>
                  <a:lnTo>
                    <a:pt x="160" y="15"/>
                  </a:lnTo>
                  <a:lnTo>
                    <a:pt x="163" y="18"/>
                  </a:lnTo>
                  <a:lnTo>
                    <a:pt x="166" y="22"/>
                  </a:lnTo>
                  <a:lnTo>
                    <a:pt x="169" y="25"/>
                  </a:lnTo>
                  <a:lnTo>
                    <a:pt x="171" y="30"/>
                  </a:lnTo>
                  <a:lnTo>
                    <a:pt x="174" y="34"/>
                  </a:lnTo>
                  <a:lnTo>
                    <a:pt x="176" y="39"/>
                  </a:lnTo>
                  <a:lnTo>
                    <a:pt x="178" y="45"/>
                  </a:lnTo>
                  <a:lnTo>
                    <a:pt x="180" y="52"/>
                  </a:lnTo>
                  <a:lnTo>
                    <a:pt x="181" y="57"/>
                  </a:lnTo>
                  <a:lnTo>
                    <a:pt x="182" y="63"/>
                  </a:lnTo>
                  <a:lnTo>
                    <a:pt x="183" y="69"/>
                  </a:lnTo>
                  <a:lnTo>
                    <a:pt x="183" y="75"/>
                  </a:lnTo>
                  <a:lnTo>
                    <a:pt x="182" y="81"/>
                  </a:lnTo>
                  <a:lnTo>
                    <a:pt x="181" y="88"/>
                  </a:lnTo>
                  <a:lnTo>
                    <a:pt x="179" y="94"/>
                  </a:lnTo>
                  <a:lnTo>
                    <a:pt x="177" y="100"/>
                  </a:lnTo>
                  <a:lnTo>
                    <a:pt x="174" y="106"/>
                  </a:lnTo>
                  <a:lnTo>
                    <a:pt x="171" y="113"/>
                  </a:lnTo>
                  <a:lnTo>
                    <a:pt x="166" y="119"/>
                  </a:lnTo>
                  <a:lnTo>
                    <a:pt x="162" y="124"/>
                  </a:lnTo>
                  <a:lnTo>
                    <a:pt x="157" y="130"/>
                  </a:lnTo>
                  <a:lnTo>
                    <a:pt x="150" y="135"/>
                  </a:lnTo>
                  <a:lnTo>
                    <a:pt x="153" y="135"/>
                  </a:lnTo>
                  <a:lnTo>
                    <a:pt x="157" y="135"/>
                  </a:lnTo>
                  <a:lnTo>
                    <a:pt x="159" y="135"/>
                  </a:lnTo>
                  <a:lnTo>
                    <a:pt x="162" y="135"/>
                  </a:lnTo>
                  <a:lnTo>
                    <a:pt x="164" y="135"/>
                  </a:lnTo>
                  <a:lnTo>
                    <a:pt x="166" y="136"/>
                  </a:lnTo>
                  <a:lnTo>
                    <a:pt x="168" y="136"/>
                  </a:lnTo>
                  <a:lnTo>
                    <a:pt x="170" y="136"/>
                  </a:lnTo>
                  <a:lnTo>
                    <a:pt x="174" y="139"/>
                  </a:lnTo>
                  <a:lnTo>
                    <a:pt x="178" y="140"/>
                  </a:lnTo>
                  <a:lnTo>
                    <a:pt x="182" y="141"/>
                  </a:lnTo>
                  <a:lnTo>
                    <a:pt x="186" y="144"/>
                  </a:lnTo>
                  <a:lnTo>
                    <a:pt x="191" y="146"/>
                  </a:lnTo>
                  <a:lnTo>
                    <a:pt x="195" y="149"/>
                  </a:lnTo>
                  <a:lnTo>
                    <a:pt x="199" y="151"/>
                  </a:lnTo>
                  <a:lnTo>
                    <a:pt x="203" y="154"/>
                  </a:lnTo>
                  <a:lnTo>
                    <a:pt x="263" y="195"/>
                  </a:lnTo>
                  <a:lnTo>
                    <a:pt x="232" y="215"/>
                  </a:lnTo>
                  <a:lnTo>
                    <a:pt x="187" y="184"/>
                  </a:lnTo>
                  <a:lnTo>
                    <a:pt x="182" y="180"/>
                  </a:lnTo>
                  <a:lnTo>
                    <a:pt x="178" y="178"/>
                  </a:lnTo>
                  <a:lnTo>
                    <a:pt x="173" y="175"/>
                  </a:lnTo>
                  <a:lnTo>
                    <a:pt x="169" y="173"/>
                  </a:lnTo>
                  <a:lnTo>
                    <a:pt x="166" y="170"/>
                  </a:lnTo>
                  <a:lnTo>
                    <a:pt x="162" y="168"/>
                  </a:lnTo>
                  <a:lnTo>
                    <a:pt x="159" y="165"/>
                  </a:lnTo>
                  <a:lnTo>
                    <a:pt x="156" y="164"/>
                  </a:lnTo>
                  <a:lnTo>
                    <a:pt x="152" y="163"/>
                  </a:lnTo>
                  <a:lnTo>
                    <a:pt x="149" y="161"/>
                  </a:lnTo>
                  <a:lnTo>
                    <a:pt x="147" y="160"/>
                  </a:lnTo>
                  <a:lnTo>
                    <a:pt x="144" y="159"/>
                  </a:lnTo>
                  <a:lnTo>
                    <a:pt x="142" y="159"/>
                  </a:lnTo>
                  <a:lnTo>
                    <a:pt x="140" y="158"/>
                  </a:lnTo>
                  <a:lnTo>
                    <a:pt x="138" y="158"/>
                  </a:lnTo>
                  <a:lnTo>
                    <a:pt x="136" y="156"/>
                  </a:lnTo>
                  <a:lnTo>
                    <a:pt x="134" y="156"/>
                  </a:lnTo>
                  <a:lnTo>
                    <a:pt x="132" y="156"/>
                  </a:lnTo>
                  <a:lnTo>
                    <a:pt x="131" y="156"/>
                  </a:lnTo>
                  <a:lnTo>
                    <a:pt x="129" y="156"/>
                  </a:lnTo>
                  <a:lnTo>
                    <a:pt x="127" y="158"/>
                  </a:lnTo>
                  <a:lnTo>
                    <a:pt x="126" y="158"/>
                  </a:lnTo>
                  <a:lnTo>
                    <a:pt x="124" y="158"/>
                  </a:lnTo>
                  <a:lnTo>
                    <a:pt x="122" y="158"/>
                  </a:lnTo>
                  <a:lnTo>
                    <a:pt x="121" y="159"/>
                  </a:lnTo>
                  <a:lnTo>
                    <a:pt x="120" y="159"/>
                  </a:lnTo>
                  <a:lnTo>
                    <a:pt x="118" y="160"/>
                  </a:lnTo>
                  <a:lnTo>
                    <a:pt x="117" y="161"/>
                  </a:lnTo>
                  <a:lnTo>
                    <a:pt x="115" y="163"/>
                  </a:lnTo>
                  <a:lnTo>
                    <a:pt x="113" y="163"/>
                  </a:lnTo>
                  <a:lnTo>
                    <a:pt x="111" y="165"/>
                  </a:lnTo>
                  <a:lnTo>
                    <a:pt x="108" y="166"/>
                  </a:lnTo>
                  <a:lnTo>
                    <a:pt x="79" y="185"/>
                  </a:lnTo>
                  <a:lnTo>
                    <a:pt x="124" y="286"/>
                  </a:lnTo>
                  <a:lnTo>
                    <a:pt x="99" y="302"/>
                  </a:lnTo>
                  <a:close/>
                  <a:moveTo>
                    <a:pt x="68" y="159"/>
                  </a:moveTo>
                  <a:lnTo>
                    <a:pt x="121" y="124"/>
                  </a:lnTo>
                  <a:lnTo>
                    <a:pt x="125" y="121"/>
                  </a:lnTo>
                  <a:lnTo>
                    <a:pt x="129" y="119"/>
                  </a:lnTo>
                  <a:lnTo>
                    <a:pt x="132" y="115"/>
                  </a:lnTo>
                  <a:lnTo>
                    <a:pt x="136" y="113"/>
                  </a:lnTo>
                  <a:lnTo>
                    <a:pt x="138" y="110"/>
                  </a:lnTo>
                  <a:lnTo>
                    <a:pt x="141" y="108"/>
                  </a:lnTo>
                  <a:lnTo>
                    <a:pt x="143" y="105"/>
                  </a:lnTo>
                  <a:lnTo>
                    <a:pt x="145" y="103"/>
                  </a:lnTo>
                  <a:lnTo>
                    <a:pt x="147" y="100"/>
                  </a:lnTo>
                  <a:lnTo>
                    <a:pt x="149" y="96"/>
                  </a:lnTo>
                  <a:lnTo>
                    <a:pt x="150" y="94"/>
                  </a:lnTo>
                  <a:lnTo>
                    <a:pt x="151" y="91"/>
                  </a:lnTo>
                  <a:lnTo>
                    <a:pt x="152" y="88"/>
                  </a:lnTo>
                  <a:lnTo>
                    <a:pt x="153" y="85"/>
                  </a:lnTo>
                  <a:lnTo>
                    <a:pt x="153" y="83"/>
                  </a:lnTo>
                  <a:lnTo>
                    <a:pt x="155" y="79"/>
                  </a:lnTo>
                  <a:lnTo>
                    <a:pt x="155" y="76"/>
                  </a:lnTo>
                  <a:lnTo>
                    <a:pt x="155" y="73"/>
                  </a:lnTo>
                  <a:lnTo>
                    <a:pt x="155" y="70"/>
                  </a:lnTo>
                  <a:lnTo>
                    <a:pt x="153" y="67"/>
                  </a:lnTo>
                  <a:lnTo>
                    <a:pt x="153" y="64"/>
                  </a:lnTo>
                  <a:lnTo>
                    <a:pt x="152" y="62"/>
                  </a:lnTo>
                  <a:lnTo>
                    <a:pt x="151" y="58"/>
                  </a:lnTo>
                  <a:lnTo>
                    <a:pt x="150" y="55"/>
                  </a:lnTo>
                  <a:lnTo>
                    <a:pt x="148" y="52"/>
                  </a:lnTo>
                  <a:lnTo>
                    <a:pt x="146" y="48"/>
                  </a:lnTo>
                  <a:lnTo>
                    <a:pt x="144" y="45"/>
                  </a:lnTo>
                  <a:lnTo>
                    <a:pt x="141" y="42"/>
                  </a:lnTo>
                  <a:lnTo>
                    <a:pt x="138" y="40"/>
                  </a:lnTo>
                  <a:lnTo>
                    <a:pt x="136" y="38"/>
                  </a:lnTo>
                  <a:lnTo>
                    <a:pt x="132" y="37"/>
                  </a:lnTo>
                  <a:lnTo>
                    <a:pt x="129" y="35"/>
                  </a:lnTo>
                  <a:lnTo>
                    <a:pt x="125" y="34"/>
                  </a:lnTo>
                  <a:lnTo>
                    <a:pt x="122" y="34"/>
                  </a:lnTo>
                  <a:lnTo>
                    <a:pt x="118" y="34"/>
                  </a:lnTo>
                  <a:lnTo>
                    <a:pt x="114" y="35"/>
                  </a:lnTo>
                  <a:lnTo>
                    <a:pt x="109" y="37"/>
                  </a:lnTo>
                  <a:lnTo>
                    <a:pt x="105" y="39"/>
                  </a:lnTo>
                  <a:lnTo>
                    <a:pt x="100" y="42"/>
                  </a:lnTo>
                  <a:lnTo>
                    <a:pt x="95" y="44"/>
                  </a:lnTo>
                  <a:lnTo>
                    <a:pt x="36" y="83"/>
                  </a:lnTo>
                  <a:lnTo>
                    <a:pt x="68" y="1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27520" y="3279240"/>
              <a:ext cx="31680" cy="4752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99" y="245"/>
                  </a:moveTo>
                  <a:lnTo>
                    <a:pt x="0" y="17"/>
                  </a:lnTo>
                  <a:lnTo>
                    <a:pt x="25" y="0"/>
                  </a:lnTo>
                  <a:lnTo>
                    <a:pt x="124" y="229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51640" y="3259080"/>
              <a:ext cx="54360" cy="51840"/>
            </a:xfrm>
            <a:custGeom>
              <a:avLst/>
              <a:gdLst/>
              <a:ahLst/>
              <a:rect l="l" t="t" r="r" b="b"/>
              <a:pathLst>
                <a:path w="209" h="267">
                  <a:moveTo>
                    <a:pt x="18" y="195"/>
                  </a:moveTo>
                  <a:lnTo>
                    <a:pt x="11" y="181"/>
                  </a:lnTo>
                  <a:lnTo>
                    <a:pt x="7" y="167"/>
                  </a:lnTo>
                  <a:lnTo>
                    <a:pt x="4" y="154"/>
                  </a:lnTo>
                  <a:lnTo>
                    <a:pt x="1" y="140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1" y="102"/>
                  </a:lnTo>
                  <a:lnTo>
                    <a:pt x="3" y="90"/>
                  </a:lnTo>
                  <a:lnTo>
                    <a:pt x="6" y="78"/>
                  </a:lnTo>
                  <a:lnTo>
                    <a:pt x="10" y="68"/>
                  </a:lnTo>
                  <a:lnTo>
                    <a:pt x="16" y="56"/>
                  </a:lnTo>
                  <a:lnTo>
                    <a:pt x="22" y="48"/>
                  </a:lnTo>
                  <a:lnTo>
                    <a:pt x="29" y="38"/>
                  </a:lnTo>
                  <a:lnTo>
                    <a:pt x="36" y="30"/>
                  </a:lnTo>
                  <a:lnTo>
                    <a:pt x="45" y="23"/>
                  </a:lnTo>
                  <a:lnTo>
                    <a:pt x="54" y="15"/>
                  </a:lnTo>
                  <a:lnTo>
                    <a:pt x="60" y="11"/>
                  </a:lnTo>
                  <a:lnTo>
                    <a:pt x="67" y="8"/>
                  </a:lnTo>
                  <a:lnTo>
                    <a:pt x="73" y="5"/>
                  </a:lnTo>
                  <a:lnTo>
                    <a:pt x="80" y="3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9" y="9"/>
                  </a:lnTo>
                  <a:lnTo>
                    <a:pt x="145" y="13"/>
                  </a:lnTo>
                  <a:lnTo>
                    <a:pt x="150" y="18"/>
                  </a:lnTo>
                  <a:lnTo>
                    <a:pt x="156" y="21"/>
                  </a:lnTo>
                  <a:lnTo>
                    <a:pt x="163" y="28"/>
                  </a:lnTo>
                  <a:lnTo>
                    <a:pt x="168" y="33"/>
                  </a:lnTo>
                  <a:lnTo>
                    <a:pt x="173" y="39"/>
                  </a:lnTo>
                  <a:lnTo>
                    <a:pt x="177" y="45"/>
                  </a:lnTo>
                  <a:lnTo>
                    <a:pt x="182" y="53"/>
                  </a:lnTo>
                  <a:lnTo>
                    <a:pt x="186" y="60"/>
                  </a:lnTo>
                  <a:lnTo>
                    <a:pt x="190" y="68"/>
                  </a:lnTo>
                  <a:lnTo>
                    <a:pt x="194" y="76"/>
                  </a:lnTo>
                  <a:lnTo>
                    <a:pt x="198" y="85"/>
                  </a:lnTo>
                  <a:lnTo>
                    <a:pt x="201" y="94"/>
                  </a:lnTo>
                  <a:lnTo>
                    <a:pt x="203" y="102"/>
                  </a:lnTo>
                  <a:lnTo>
                    <a:pt x="205" y="111"/>
                  </a:lnTo>
                  <a:lnTo>
                    <a:pt x="207" y="120"/>
                  </a:lnTo>
                  <a:lnTo>
                    <a:pt x="208" y="129"/>
                  </a:lnTo>
                  <a:lnTo>
                    <a:pt x="209" y="137"/>
                  </a:lnTo>
                  <a:lnTo>
                    <a:pt x="209" y="146"/>
                  </a:lnTo>
                  <a:lnTo>
                    <a:pt x="209" y="155"/>
                  </a:lnTo>
                  <a:lnTo>
                    <a:pt x="209" y="162"/>
                  </a:lnTo>
                  <a:lnTo>
                    <a:pt x="208" y="171"/>
                  </a:lnTo>
                  <a:lnTo>
                    <a:pt x="206" y="179"/>
                  </a:lnTo>
                  <a:lnTo>
                    <a:pt x="204" y="186"/>
                  </a:lnTo>
                  <a:lnTo>
                    <a:pt x="202" y="194"/>
                  </a:lnTo>
                  <a:lnTo>
                    <a:pt x="199" y="201"/>
                  </a:lnTo>
                  <a:lnTo>
                    <a:pt x="195" y="209"/>
                  </a:lnTo>
                  <a:lnTo>
                    <a:pt x="191" y="215"/>
                  </a:lnTo>
                  <a:lnTo>
                    <a:pt x="187" y="222"/>
                  </a:lnTo>
                  <a:lnTo>
                    <a:pt x="183" y="227"/>
                  </a:lnTo>
                  <a:lnTo>
                    <a:pt x="178" y="234"/>
                  </a:lnTo>
                  <a:lnTo>
                    <a:pt x="173" y="239"/>
                  </a:lnTo>
                  <a:lnTo>
                    <a:pt x="168" y="244"/>
                  </a:lnTo>
                  <a:lnTo>
                    <a:pt x="163" y="248"/>
                  </a:lnTo>
                  <a:lnTo>
                    <a:pt x="156" y="252"/>
                  </a:lnTo>
                  <a:lnTo>
                    <a:pt x="149" y="256"/>
                  </a:lnTo>
                  <a:lnTo>
                    <a:pt x="143" y="260"/>
                  </a:lnTo>
                  <a:lnTo>
                    <a:pt x="136" y="262"/>
                  </a:lnTo>
                  <a:lnTo>
                    <a:pt x="130" y="265"/>
                  </a:lnTo>
                  <a:lnTo>
                    <a:pt x="123" y="266"/>
                  </a:lnTo>
                  <a:lnTo>
                    <a:pt x="116" y="267"/>
                  </a:lnTo>
                  <a:lnTo>
                    <a:pt x="110" y="267"/>
                  </a:lnTo>
                  <a:lnTo>
                    <a:pt x="103" y="267"/>
                  </a:lnTo>
                  <a:lnTo>
                    <a:pt x="96" y="267"/>
                  </a:lnTo>
                  <a:lnTo>
                    <a:pt x="90" y="265"/>
                  </a:lnTo>
                  <a:lnTo>
                    <a:pt x="82" y="263"/>
                  </a:lnTo>
                  <a:lnTo>
                    <a:pt x="76" y="261"/>
                  </a:lnTo>
                  <a:lnTo>
                    <a:pt x="70" y="257"/>
                  </a:lnTo>
                  <a:lnTo>
                    <a:pt x="64" y="255"/>
                  </a:lnTo>
                  <a:lnTo>
                    <a:pt x="58" y="250"/>
                  </a:lnTo>
                  <a:lnTo>
                    <a:pt x="53" y="245"/>
                  </a:lnTo>
                  <a:lnTo>
                    <a:pt x="47" y="240"/>
                  </a:lnTo>
                  <a:lnTo>
                    <a:pt x="42" y="235"/>
                  </a:lnTo>
                  <a:lnTo>
                    <a:pt x="38" y="229"/>
                  </a:lnTo>
                  <a:lnTo>
                    <a:pt x="33" y="222"/>
                  </a:lnTo>
                  <a:lnTo>
                    <a:pt x="29" y="216"/>
                  </a:lnTo>
                  <a:lnTo>
                    <a:pt x="25" y="210"/>
                  </a:lnTo>
                  <a:lnTo>
                    <a:pt x="21" y="202"/>
                  </a:lnTo>
                  <a:lnTo>
                    <a:pt x="18" y="195"/>
                  </a:lnTo>
                  <a:close/>
                  <a:moveTo>
                    <a:pt x="43" y="179"/>
                  </a:moveTo>
                  <a:lnTo>
                    <a:pt x="48" y="189"/>
                  </a:lnTo>
                  <a:lnTo>
                    <a:pt x="53" y="197"/>
                  </a:lnTo>
                  <a:lnTo>
                    <a:pt x="58" y="206"/>
                  </a:lnTo>
                  <a:lnTo>
                    <a:pt x="63" y="214"/>
                  </a:lnTo>
                  <a:lnTo>
                    <a:pt x="69" y="220"/>
                  </a:lnTo>
                  <a:lnTo>
                    <a:pt x="75" y="225"/>
                  </a:lnTo>
                  <a:lnTo>
                    <a:pt x="82" y="229"/>
                  </a:lnTo>
                  <a:lnTo>
                    <a:pt x="90" y="232"/>
                  </a:lnTo>
                  <a:lnTo>
                    <a:pt x="97" y="235"/>
                  </a:lnTo>
                  <a:lnTo>
                    <a:pt x="104" y="236"/>
                  </a:lnTo>
                  <a:lnTo>
                    <a:pt x="110" y="237"/>
                  </a:lnTo>
                  <a:lnTo>
                    <a:pt x="117" y="237"/>
                  </a:lnTo>
                  <a:lnTo>
                    <a:pt x="124" y="236"/>
                  </a:lnTo>
                  <a:lnTo>
                    <a:pt x="131" y="234"/>
                  </a:lnTo>
                  <a:lnTo>
                    <a:pt x="138" y="231"/>
                  </a:lnTo>
                  <a:lnTo>
                    <a:pt x="145" y="226"/>
                  </a:lnTo>
                  <a:lnTo>
                    <a:pt x="151" y="221"/>
                  </a:lnTo>
                  <a:lnTo>
                    <a:pt x="157" y="216"/>
                  </a:lnTo>
                  <a:lnTo>
                    <a:pt x="163" y="210"/>
                  </a:lnTo>
                  <a:lnTo>
                    <a:pt x="168" y="204"/>
                  </a:lnTo>
                  <a:lnTo>
                    <a:pt x="172" y="197"/>
                  </a:lnTo>
                  <a:lnTo>
                    <a:pt x="175" y="190"/>
                  </a:lnTo>
                  <a:lnTo>
                    <a:pt x="178" y="181"/>
                  </a:lnTo>
                  <a:lnTo>
                    <a:pt x="180" y="172"/>
                  </a:lnTo>
                  <a:lnTo>
                    <a:pt x="182" y="164"/>
                  </a:lnTo>
                  <a:lnTo>
                    <a:pt x="182" y="154"/>
                  </a:lnTo>
                  <a:lnTo>
                    <a:pt x="182" y="145"/>
                  </a:lnTo>
                  <a:lnTo>
                    <a:pt x="181" y="135"/>
                  </a:lnTo>
                  <a:lnTo>
                    <a:pt x="179" y="125"/>
                  </a:lnTo>
                  <a:lnTo>
                    <a:pt x="177" y="114"/>
                  </a:lnTo>
                  <a:lnTo>
                    <a:pt x="173" y="104"/>
                  </a:lnTo>
                  <a:lnTo>
                    <a:pt x="169" y="93"/>
                  </a:lnTo>
                  <a:lnTo>
                    <a:pt x="166" y="86"/>
                  </a:lnTo>
                  <a:lnTo>
                    <a:pt x="163" y="79"/>
                  </a:lnTo>
                  <a:lnTo>
                    <a:pt x="158" y="74"/>
                  </a:lnTo>
                  <a:lnTo>
                    <a:pt x="155" y="68"/>
                  </a:lnTo>
                  <a:lnTo>
                    <a:pt x="151" y="63"/>
                  </a:lnTo>
                  <a:lnTo>
                    <a:pt x="148" y="58"/>
                  </a:lnTo>
                  <a:lnTo>
                    <a:pt x="144" y="53"/>
                  </a:lnTo>
                  <a:lnTo>
                    <a:pt x="140" y="49"/>
                  </a:lnTo>
                  <a:lnTo>
                    <a:pt x="135" y="45"/>
                  </a:lnTo>
                  <a:lnTo>
                    <a:pt x="131" y="41"/>
                  </a:lnTo>
                  <a:lnTo>
                    <a:pt x="127" y="39"/>
                  </a:lnTo>
                  <a:lnTo>
                    <a:pt x="122" y="36"/>
                  </a:lnTo>
                  <a:lnTo>
                    <a:pt x="118" y="35"/>
                  </a:lnTo>
                  <a:lnTo>
                    <a:pt x="113" y="33"/>
                  </a:lnTo>
                  <a:lnTo>
                    <a:pt x="108" y="31"/>
                  </a:lnTo>
                  <a:lnTo>
                    <a:pt x="104" y="31"/>
                  </a:lnTo>
                  <a:lnTo>
                    <a:pt x="99" y="31"/>
                  </a:lnTo>
                  <a:lnTo>
                    <a:pt x="94" y="31"/>
                  </a:lnTo>
                  <a:lnTo>
                    <a:pt x="89" y="31"/>
                  </a:lnTo>
                  <a:lnTo>
                    <a:pt x="84" y="33"/>
                  </a:lnTo>
                  <a:lnTo>
                    <a:pt x="79" y="34"/>
                  </a:lnTo>
                  <a:lnTo>
                    <a:pt x="74" y="36"/>
                  </a:lnTo>
                  <a:lnTo>
                    <a:pt x="70" y="39"/>
                  </a:lnTo>
                  <a:lnTo>
                    <a:pt x="65" y="41"/>
                  </a:lnTo>
                  <a:lnTo>
                    <a:pt x="59" y="46"/>
                  </a:lnTo>
                  <a:lnTo>
                    <a:pt x="53" y="51"/>
                  </a:lnTo>
                  <a:lnTo>
                    <a:pt x="48" y="56"/>
                  </a:lnTo>
                  <a:lnTo>
                    <a:pt x="43" y="63"/>
                  </a:lnTo>
                  <a:lnTo>
                    <a:pt x="39" y="70"/>
                  </a:lnTo>
                  <a:lnTo>
                    <a:pt x="36" y="76"/>
                  </a:lnTo>
                  <a:lnTo>
                    <a:pt x="33" y="85"/>
                  </a:lnTo>
                  <a:lnTo>
                    <a:pt x="30" y="93"/>
                  </a:lnTo>
                  <a:lnTo>
                    <a:pt x="28" y="102"/>
                  </a:lnTo>
                  <a:lnTo>
                    <a:pt x="28" y="111"/>
                  </a:lnTo>
                  <a:lnTo>
                    <a:pt x="28" y="121"/>
                  </a:lnTo>
                  <a:lnTo>
                    <a:pt x="29" y="131"/>
                  </a:lnTo>
                  <a:lnTo>
                    <a:pt x="31" y="142"/>
                  </a:lnTo>
                  <a:lnTo>
                    <a:pt x="34" y="155"/>
                  </a:lnTo>
                  <a:lnTo>
                    <a:pt x="38" y="166"/>
                  </a:lnTo>
                  <a:lnTo>
                    <a:pt x="43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11080" y="3695760"/>
              <a:ext cx="57600" cy="35640"/>
            </a:xfrm>
            <a:custGeom>
              <a:avLst/>
              <a:gdLst/>
              <a:ahLst/>
              <a:rect l="l" t="t" r="r" b="b"/>
              <a:pathLst>
                <a:path w="223" h="183">
                  <a:moveTo>
                    <a:pt x="223" y="80"/>
                  </a:moveTo>
                  <a:lnTo>
                    <a:pt x="24" y="183"/>
                  </a:lnTo>
                  <a:lnTo>
                    <a:pt x="20" y="155"/>
                  </a:lnTo>
                  <a:lnTo>
                    <a:pt x="165" y="85"/>
                  </a:lnTo>
                  <a:lnTo>
                    <a:pt x="170" y="82"/>
                  </a:lnTo>
                  <a:lnTo>
                    <a:pt x="174" y="80"/>
                  </a:lnTo>
                  <a:lnTo>
                    <a:pt x="178" y="78"/>
                  </a:lnTo>
                  <a:lnTo>
                    <a:pt x="182" y="76"/>
                  </a:lnTo>
                  <a:lnTo>
                    <a:pt x="187" y="75"/>
                  </a:lnTo>
                  <a:lnTo>
                    <a:pt x="191" y="72"/>
                  </a:lnTo>
                  <a:lnTo>
                    <a:pt x="195" y="71"/>
                  </a:lnTo>
                  <a:lnTo>
                    <a:pt x="199" y="70"/>
                  </a:lnTo>
                  <a:lnTo>
                    <a:pt x="194" y="68"/>
                  </a:lnTo>
                  <a:lnTo>
                    <a:pt x="190" y="68"/>
                  </a:lnTo>
                  <a:lnTo>
                    <a:pt x="186" y="67"/>
                  </a:lnTo>
                  <a:lnTo>
                    <a:pt x="180" y="66"/>
                  </a:lnTo>
                  <a:lnTo>
                    <a:pt x="176" y="66"/>
                  </a:lnTo>
                  <a:lnTo>
                    <a:pt x="171" y="65"/>
                  </a:lnTo>
                  <a:lnTo>
                    <a:pt x="167" y="63"/>
                  </a:lnTo>
                  <a:lnTo>
                    <a:pt x="163" y="62"/>
                  </a:lnTo>
                  <a:lnTo>
                    <a:pt x="4" y="27"/>
                  </a:lnTo>
                  <a:lnTo>
                    <a:pt x="0" y="0"/>
                  </a:lnTo>
                  <a:lnTo>
                    <a:pt x="220" y="53"/>
                  </a:lnTo>
                  <a:lnTo>
                    <a:pt x="223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09640" y="3683520"/>
              <a:ext cx="55080" cy="9360"/>
            </a:xfrm>
            <a:custGeom>
              <a:avLst/>
              <a:gdLst/>
              <a:ahLst/>
              <a:rect l="l" t="t" r="r" b="b"/>
              <a:pathLst>
                <a:path w="212" h="50">
                  <a:moveTo>
                    <a:pt x="32" y="46"/>
                  </a:moveTo>
                  <a:lnTo>
                    <a:pt x="3" y="50"/>
                  </a:lnTo>
                  <a:lnTo>
                    <a:pt x="0" y="25"/>
                  </a:lnTo>
                  <a:lnTo>
                    <a:pt x="29" y="21"/>
                  </a:lnTo>
                  <a:lnTo>
                    <a:pt x="32" y="46"/>
                  </a:lnTo>
                  <a:close/>
                  <a:moveTo>
                    <a:pt x="212" y="25"/>
                  </a:moveTo>
                  <a:lnTo>
                    <a:pt x="61" y="42"/>
                  </a:lnTo>
                  <a:lnTo>
                    <a:pt x="58" y="19"/>
                  </a:lnTo>
                  <a:lnTo>
                    <a:pt x="209" y="0"/>
                  </a:lnTo>
                  <a:lnTo>
                    <a:pt x="21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19720" y="3651480"/>
              <a:ext cx="42840" cy="2808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32" y="32"/>
                  </a:moveTo>
                  <a:lnTo>
                    <a:pt x="136" y="36"/>
                  </a:lnTo>
                  <a:lnTo>
                    <a:pt x="139" y="38"/>
                  </a:lnTo>
                  <a:lnTo>
                    <a:pt x="142" y="42"/>
                  </a:lnTo>
                  <a:lnTo>
                    <a:pt x="144" y="45"/>
                  </a:lnTo>
                  <a:lnTo>
                    <a:pt x="147" y="48"/>
                  </a:lnTo>
                  <a:lnTo>
                    <a:pt x="150" y="51"/>
                  </a:lnTo>
                  <a:lnTo>
                    <a:pt x="152" y="53"/>
                  </a:lnTo>
                  <a:lnTo>
                    <a:pt x="154" y="57"/>
                  </a:lnTo>
                  <a:lnTo>
                    <a:pt x="155" y="60"/>
                  </a:lnTo>
                  <a:lnTo>
                    <a:pt x="157" y="63"/>
                  </a:lnTo>
                  <a:lnTo>
                    <a:pt x="158" y="66"/>
                  </a:lnTo>
                  <a:lnTo>
                    <a:pt x="159" y="70"/>
                  </a:lnTo>
                  <a:lnTo>
                    <a:pt x="160" y="73"/>
                  </a:lnTo>
                  <a:lnTo>
                    <a:pt x="161" y="76"/>
                  </a:lnTo>
                  <a:lnTo>
                    <a:pt x="162" y="80"/>
                  </a:lnTo>
                  <a:lnTo>
                    <a:pt x="162" y="83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0"/>
                  </a:lnTo>
                  <a:lnTo>
                    <a:pt x="162" y="105"/>
                  </a:lnTo>
                  <a:lnTo>
                    <a:pt x="161" y="110"/>
                  </a:lnTo>
                  <a:lnTo>
                    <a:pt x="159" y="113"/>
                  </a:lnTo>
                  <a:lnTo>
                    <a:pt x="157" y="117"/>
                  </a:lnTo>
                  <a:lnTo>
                    <a:pt x="155" y="121"/>
                  </a:lnTo>
                  <a:lnTo>
                    <a:pt x="152" y="124"/>
                  </a:lnTo>
                  <a:lnTo>
                    <a:pt x="149" y="128"/>
                  </a:lnTo>
                  <a:lnTo>
                    <a:pt x="145" y="131"/>
                  </a:lnTo>
                  <a:lnTo>
                    <a:pt x="142" y="132"/>
                  </a:lnTo>
                  <a:lnTo>
                    <a:pt x="138" y="134"/>
                  </a:lnTo>
                  <a:lnTo>
                    <a:pt x="134" y="136"/>
                  </a:lnTo>
                  <a:lnTo>
                    <a:pt x="129" y="137"/>
                  </a:lnTo>
                  <a:lnTo>
                    <a:pt x="125" y="138"/>
                  </a:lnTo>
                  <a:lnTo>
                    <a:pt x="122" y="138"/>
                  </a:lnTo>
                  <a:lnTo>
                    <a:pt x="120" y="138"/>
                  </a:lnTo>
                  <a:lnTo>
                    <a:pt x="117" y="138"/>
                  </a:lnTo>
                  <a:lnTo>
                    <a:pt x="114" y="138"/>
                  </a:lnTo>
                  <a:lnTo>
                    <a:pt x="112" y="137"/>
                  </a:lnTo>
                  <a:lnTo>
                    <a:pt x="109" y="137"/>
                  </a:lnTo>
                  <a:lnTo>
                    <a:pt x="107" y="136"/>
                  </a:lnTo>
                  <a:lnTo>
                    <a:pt x="104" y="136"/>
                  </a:lnTo>
                  <a:lnTo>
                    <a:pt x="102" y="134"/>
                  </a:lnTo>
                  <a:lnTo>
                    <a:pt x="100" y="133"/>
                  </a:lnTo>
                  <a:lnTo>
                    <a:pt x="97" y="132"/>
                  </a:lnTo>
                  <a:lnTo>
                    <a:pt x="95" y="131"/>
                  </a:lnTo>
                  <a:lnTo>
                    <a:pt x="93" y="129"/>
                  </a:lnTo>
                  <a:lnTo>
                    <a:pt x="92" y="128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7" y="123"/>
                  </a:lnTo>
                  <a:lnTo>
                    <a:pt x="85" y="121"/>
                  </a:lnTo>
                  <a:lnTo>
                    <a:pt x="84" y="118"/>
                  </a:lnTo>
                  <a:lnTo>
                    <a:pt x="82" y="117"/>
                  </a:lnTo>
                  <a:lnTo>
                    <a:pt x="81" y="115"/>
                  </a:lnTo>
                  <a:lnTo>
                    <a:pt x="80" y="112"/>
                  </a:lnTo>
                  <a:lnTo>
                    <a:pt x="79" y="111"/>
                  </a:lnTo>
                  <a:lnTo>
                    <a:pt x="77" y="108"/>
                  </a:lnTo>
                  <a:lnTo>
                    <a:pt x="77" y="106"/>
                  </a:lnTo>
                  <a:lnTo>
                    <a:pt x="75" y="105"/>
                  </a:lnTo>
                  <a:lnTo>
                    <a:pt x="74" y="102"/>
                  </a:lnTo>
                  <a:lnTo>
                    <a:pt x="73" y="100"/>
                  </a:lnTo>
                  <a:lnTo>
                    <a:pt x="73" y="96"/>
                  </a:lnTo>
                  <a:lnTo>
                    <a:pt x="72" y="93"/>
                  </a:lnTo>
                  <a:lnTo>
                    <a:pt x="71" y="90"/>
                  </a:lnTo>
                  <a:lnTo>
                    <a:pt x="70" y="87"/>
                  </a:lnTo>
                  <a:lnTo>
                    <a:pt x="68" y="80"/>
                  </a:lnTo>
                  <a:lnTo>
                    <a:pt x="66" y="73"/>
                  </a:lnTo>
                  <a:lnTo>
                    <a:pt x="64" y="67"/>
                  </a:lnTo>
                  <a:lnTo>
                    <a:pt x="62" y="61"/>
                  </a:lnTo>
                  <a:lnTo>
                    <a:pt x="61" y="56"/>
                  </a:lnTo>
                  <a:lnTo>
                    <a:pt x="59" y="52"/>
                  </a:lnTo>
                  <a:lnTo>
                    <a:pt x="57" y="47"/>
                  </a:lnTo>
                  <a:lnTo>
                    <a:pt x="55" y="45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52" y="45"/>
                  </a:lnTo>
                  <a:lnTo>
                    <a:pt x="51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46"/>
                  </a:lnTo>
                  <a:lnTo>
                    <a:pt x="42" y="46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9" y="52"/>
                  </a:lnTo>
                  <a:lnTo>
                    <a:pt x="28" y="55"/>
                  </a:lnTo>
                  <a:lnTo>
                    <a:pt x="26" y="57"/>
                  </a:lnTo>
                  <a:lnTo>
                    <a:pt x="25" y="60"/>
                  </a:lnTo>
                  <a:lnTo>
                    <a:pt x="24" y="63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2" y="75"/>
                  </a:lnTo>
                  <a:lnTo>
                    <a:pt x="23" y="78"/>
                  </a:lnTo>
                  <a:lnTo>
                    <a:pt x="23" y="83"/>
                  </a:lnTo>
                  <a:lnTo>
                    <a:pt x="24" y="87"/>
                  </a:lnTo>
                  <a:lnTo>
                    <a:pt x="24" y="91"/>
                  </a:lnTo>
                  <a:lnTo>
                    <a:pt x="25" y="95"/>
                  </a:lnTo>
                  <a:lnTo>
                    <a:pt x="27" y="98"/>
                  </a:lnTo>
                  <a:lnTo>
                    <a:pt x="28" y="101"/>
                  </a:lnTo>
                  <a:lnTo>
                    <a:pt x="29" y="103"/>
                  </a:lnTo>
                  <a:lnTo>
                    <a:pt x="31" y="106"/>
                  </a:lnTo>
                  <a:lnTo>
                    <a:pt x="33" y="108"/>
                  </a:lnTo>
                  <a:lnTo>
                    <a:pt x="35" y="110"/>
                  </a:lnTo>
                  <a:lnTo>
                    <a:pt x="37" y="112"/>
                  </a:lnTo>
                  <a:lnTo>
                    <a:pt x="39" y="113"/>
                  </a:lnTo>
                  <a:lnTo>
                    <a:pt x="42" y="115"/>
                  </a:lnTo>
                  <a:lnTo>
                    <a:pt x="45" y="116"/>
                  </a:lnTo>
                  <a:lnTo>
                    <a:pt x="49" y="116"/>
                  </a:lnTo>
                  <a:lnTo>
                    <a:pt x="52" y="117"/>
                  </a:lnTo>
                  <a:lnTo>
                    <a:pt x="56" y="117"/>
                  </a:lnTo>
                  <a:lnTo>
                    <a:pt x="56" y="142"/>
                  </a:lnTo>
                  <a:lnTo>
                    <a:pt x="52" y="142"/>
                  </a:lnTo>
                  <a:lnTo>
                    <a:pt x="48" y="141"/>
                  </a:lnTo>
                  <a:lnTo>
                    <a:pt x="45" y="141"/>
                  </a:lnTo>
                  <a:lnTo>
                    <a:pt x="41" y="139"/>
                  </a:lnTo>
                  <a:lnTo>
                    <a:pt x="38" y="138"/>
                  </a:lnTo>
                  <a:lnTo>
                    <a:pt x="35" y="137"/>
                  </a:lnTo>
                  <a:lnTo>
                    <a:pt x="32" y="136"/>
                  </a:lnTo>
                  <a:lnTo>
                    <a:pt x="29" y="134"/>
                  </a:lnTo>
                  <a:lnTo>
                    <a:pt x="26" y="132"/>
                  </a:lnTo>
                  <a:lnTo>
                    <a:pt x="24" y="131"/>
                  </a:lnTo>
                  <a:lnTo>
                    <a:pt x="21" y="128"/>
                  </a:lnTo>
                  <a:lnTo>
                    <a:pt x="19" y="126"/>
                  </a:lnTo>
                  <a:lnTo>
                    <a:pt x="17" y="123"/>
                  </a:lnTo>
                  <a:lnTo>
                    <a:pt x="15" y="121"/>
                  </a:lnTo>
                  <a:lnTo>
                    <a:pt x="13" y="118"/>
                  </a:lnTo>
                  <a:lnTo>
                    <a:pt x="11" y="115"/>
                  </a:lnTo>
                  <a:lnTo>
                    <a:pt x="9" y="111"/>
                  </a:lnTo>
                  <a:lnTo>
                    <a:pt x="8" y="107"/>
                  </a:lnTo>
                  <a:lnTo>
                    <a:pt x="6" y="103"/>
                  </a:lnTo>
                  <a:lnTo>
                    <a:pt x="5" y="100"/>
                  </a:lnTo>
                  <a:lnTo>
                    <a:pt x="4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2" y="48"/>
                  </a:lnTo>
                  <a:lnTo>
                    <a:pt x="4" y="46"/>
                  </a:lnTo>
                  <a:lnTo>
                    <a:pt x="5" y="43"/>
                  </a:lnTo>
                  <a:lnTo>
                    <a:pt x="6" y="41"/>
                  </a:lnTo>
                  <a:lnTo>
                    <a:pt x="7" y="38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5" y="31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0"/>
                  </a:lnTo>
                  <a:lnTo>
                    <a:pt x="51" y="20"/>
                  </a:lnTo>
                  <a:lnTo>
                    <a:pt x="85" y="16"/>
                  </a:lnTo>
                  <a:lnTo>
                    <a:pt x="94" y="15"/>
                  </a:lnTo>
                  <a:lnTo>
                    <a:pt x="101" y="13"/>
                  </a:lnTo>
                  <a:lnTo>
                    <a:pt x="108" y="12"/>
                  </a:lnTo>
                  <a:lnTo>
                    <a:pt x="114" y="11"/>
                  </a:lnTo>
                  <a:lnTo>
                    <a:pt x="119" y="11"/>
                  </a:lnTo>
                  <a:lnTo>
                    <a:pt x="124" y="10"/>
                  </a:lnTo>
                  <a:lnTo>
                    <a:pt x="127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4" y="7"/>
                  </a:lnTo>
                  <a:lnTo>
                    <a:pt x="136" y="6"/>
                  </a:lnTo>
                  <a:lnTo>
                    <a:pt x="139" y="5"/>
                  </a:lnTo>
                  <a:lnTo>
                    <a:pt x="141" y="3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7" y="0"/>
                  </a:lnTo>
                  <a:lnTo>
                    <a:pt x="151" y="26"/>
                  </a:lnTo>
                  <a:lnTo>
                    <a:pt x="149" y="27"/>
                  </a:lnTo>
                  <a:lnTo>
                    <a:pt x="146" y="27"/>
                  </a:lnTo>
                  <a:lnTo>
                    <a:pt x="144" y="28"/>
                  </a:lnTo>
                  <a:lnTo>
                    <a:pt x="142" y="30"/>
                  </a:lnTo>
                  <a:lnTo>
                    <a:pt x="140" y="31"/>
                  </a:lnTo>
                  <a:lnTo>
                    <a:pt x="137" y="31"/>
                  </a:lnTo>
                  <a:lnTo>
                    <a:pt x="135" y="32"/>
                  </a:lnTo>
                  <a:lnTo>
                    <a:pt x="132" y="32"/>
                  </a:lnTo>
                  <a:close/>
                  <a:moveTo>
                    <a:pt x="75" y="42"/>
                  </a:moveTo>
                  <a:lnTo>
                    <a:pt x="78" y="45"/>
                  </a:lnTo>
                  <a:lnTo>
                    <a:pt x="80" y="48"/>
                  </a:lnTo>
                  <a:lnTo>
                    <a:pt x="82" y="53"/>
                  </a:lnTo>
                  <a:lnTo>
                    <a:pt x="84" y="57"/>
                  </a:lnTo>
                  <a:lnTo>
                    <a:pt x="85" y="63"/>
                  </a:lnTo>
                  <a:lnTo>
                    <a:pt x="87" y="68"/>
                  </a:lnTo>
                  <a:lnTo>
                    <a:pt x="89" y="75"/>
                  </a:lnTo>
                  <a:lnTo>
                    <a:pt x="91" y="81"/>
                  </a:lnTo>
                  <a:lnTo>
                    <a:pt x="92" y="85"/>
                  </a:lnTo>
                  <a:lnTo>
                    <a:pt x="93" y="87"/>
                  </a:lnTo>
                  <a:lnTo>
                    <a:pt x="94" y="91"/>
                  </a:lnTo>
                  <a:lnTo>
                    <a:pt x="95" y="93"/>
                  </a:lnTo>
                  <a:lnTo>
                    <a:pt x="96" y="96"/>
                  </a:lnTo>
                  <a:lnTo>
                    <a:pt x="97" y="98"/>
                  </a:lnTo>
                  <a:lnTo>
                    <a:pt x="98" y="100"/>
                  </a:lnTo>
                  <a:lnTo>
                    <a:pt x="99" y="101"/>
                  </a:lnTo>
                  <a:lnTo>
                    <a:pt x="100" y="102"/>
                  </a:lnTo>
                  <a:lnTo>
                    <a:pt x="101" y="105"/>
                  </a:lnTo>
                  <a:lnTo>
                    <a:pt x="102" y="106"/>
                  </a:lnTo>
                  <a:lnTo>
                    <a:pt x="103" y="106"/>
                  </a:lnTo>
                  <a:lnTo>
                    <a:pt x="104" y="107"/>
                  </a:lnTo>
                  <a:lnTo>
                    <a:pt x="106" y="108"/>
                  </a:lnTo>
                  <a:lnTo>
                    <a:pt x="107" y="110"/>
                  </a:lnTo>
                  <a:lnTo>
                    <a:pt x="108" y="110"/>
                  </a:lnTo>
                  <a:lnTo>
                    <a:pt x="110" y="111"/>
                  </a:lnTo>
                  <a:lnTo>
                    <a:pt x="111" y="111"/>
                  </a:lnTo>
                  <a:lnTo>
                    <a:pt x="113" y="112"/>
                  </a:lnTo>
                  <a:lnTo>
                    <a:pt x="114" y="112"/>
                  </a:lnTo>
                  <a:lnTo>
                    <a:pt x="116" y="112"/>
                  </a:lnTo>
                  <a:lnTo>
                    <a:pt x="118" y="112"/>
                  </a:lnTo>
                  <a:lnTo>
                    <a:pt x="119" y="112"/>
                  </a:lnTo>
                  <a:lnTo>
                    <a:pt x="121" y="112"/>
                  </a:lnTo>
                  <a:lnTo>
                    <a:pt x="123" y="111"/>
                  </a:lnTo>
                  <a:lnTo>
                    <a:pt x="126" y="111"/>
                  </a:lnTo>
                  <a:lnTo>
                    <a:pt x="128" y="110"/>
                  </a:lnTo>
                  <a:lnTo>
                    <a:pt x="130" y="108"/>
                  </a:lnTo>
                  <a:lnTo>
                    <a:pt x="132" y="107"/>
                  </a:lnTo>
                  <a:lnTo>
                    <a:pt x="134" y="106"/>
                  </a:lnTo>
                  <a:lnTo>
                    <a:pt x="135" y="105"/>
                  </a:lnTo>
                  <a:lnTo>
                    <a:pt x="137" y="102"/>
                  </a:lnTo>
                  <a:lnTo>
                    <a:pt x="138" y="100"/>
                  </a:lnTo>
                  <a:lnTo>
                    <a:pt x="139" y="98"/>
                  </a:lnTo>
                  <a:lnTo>
                    <a:pt x="140" y="96"/>
                  </a:lnTo>
                  <a:lnTo>
                    <a:pt x="141" y="92"/>
                  </a:lnTo>
                  <a:lnTo>
                    <a:pt x="141" y="90"/>
                  </a:lnTo>
                  <a:lnTo>
                    <a:pt x="141" y="87"/>
                  </a:lnTo>
                  <a:lnTo>
                    <a:pt x="141" y="83"/>
                  </a:lnTo>
                  <a:lnTo>
                    <a:pt x="141" y="80"/>
                  </a:lnTo>
                  <a:lnTo>
                    <a:pt x="140" y="76"/>
                  </a:lnTo>
                  <a:lnTo>
                    <a:pt x="139" y="73"/>
                  </a:lnTo>
                  <a:lnTo>
                    <a:pt x="138" y="70"/>
                  </a:lnTo>
                  <a:lnTo>
                    <a:pt x="137" y="67"/>
                  </a:lnTo>
                  <a:lnTo>
                    <a:pt x="136" y="63"/>
                  </a:lnTo>
                  <a:lnTo>
                    <a:pt x="134" y="61"/>
                  </a:lnTo>
                  <a:lnTo>
                    <a:pt x="133" y="58"/>
                  </a:lnTo>
                  <a:lnTo>
                    <a:pt x="131" y="56"/>
                  </a:lnTo>
                  <a:lnTo>
                    <a:pt x="129" y="53"/>
                  </a:lnTo>
                  <a:lnTo>
                    <a:pt x="127" y="51"/>
                  </a:lnTo>
                  <a:lnTo>
                    <a:pt x="125" y="48"/>
                  </a:lnTo>
                  <a:lnTo>
                    <a:pt x="122" y="47"/>
                  </a:lnTo>
                  <a:lnTo>
                    <a:pt x="120" y="45"/>
                  </a:lnTo>
                  <a:lnTo>
                    <a:pt x="117" y="43"/>
                  </a:lnTo>
                  <a:lnTo>
                    <a:pt x="114" y="42"/>
                  </a:lnTo>
                  <a:lnTo>
                    <a:pt x="111" y="41"/>
                  </a:lnTo>
                  <a:lnTo>
                    <a:pt x="109" y="41"/>
                  </a:lnTo>
                  <a:lnTo>
                    <a:pt x="106" y="40"/>
                  </a:lnTo>
                  <a:lnTo>
                    <a:pt x="103" y="40"/>
                  </a:lnTo>
                  <a:lnTo>
                    <a:pt x="100" y="40"/>
                  </a:lnTo>
                  <a:lnTo>
                    <a:pt x="97" y="40"/>
                  </a:lnTo>
                  <a:lnTo>
                    <a:pt x="93" y="40"/>
                  </a:lnTo>
                  <a:lnTo>
                    <a:pt x="90" y="40"/>
                  </a:lnTo>
                  <a:lnTo>
                    <a:pt x="86" y="41"/>
                  </a:lnTo>
                  <a:lnTo>
                    <a:pt x="75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97040" y="3600000"/>
              <a:ext cx="56880" cy="3492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220" y="154"/>
                  </a:moveTo>
                  <a:lnTo>
                    <a:pt x="11" y="180"/>
                  </a:lnTo>
                  <a:lnTo>
                    <a:pt x="2" y="111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1" y="70"/>
                  </a:lnTo>
                  <a:lnTo>
                    <a:pt x="2" y="66"/>
                  </a:lnTo>
                  <a:lnTo>
                    <a:pt x="3" y="63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8" y="50"/>
                  </a:lnTo>
                  <a:lnTo>
                    <a:pt x="10" y="48"/>
                  </a:lnTo>
                  <a:lnTo>
                    <a:pt x="12" y="44"/>
                  </a:lnTo>
                  <a:lnTo>
                    <a:pt x="15" y="39"/>
                  </a:lnTo>
                  <a:lnTo>
                    <a:pt x="18" y="35"/>
                  </a:lnTo>
                  <a:lnTo>
                    <a:pt x="23" y="31"/>
                  </a:lnTo>
                  <a:lnTo>
                    <a:pt x="27" y="28"/>
                  </a:lnTo>
                  <a:lnTo>
                    <a:pt x="31" y="25"/>
                  </a:lnTo>
                  <a:lnTo>
                    <a:pt x="35" y="21"/>
                  </a:lnTo>
                  <a:lnTo>
                    <a:pt x="40" y="19"/>
                  </a:lnTo>
                  <a:lnTo>
                    <a:pt x="45" y="16"/>
                  </a:lnTo>
                  <a:lnTo>
                    <a:pt x="50" y="14"/>
                  </a:lnTo>
                  <a:lnTo>
                    <a:pt x="55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5"/>
                  </a:lnTo>
                  <a:lnTo>
                    <a:pt x="79" y="4"/>
                  </a:lnTo>
                  <a:lnTo>
                    <a:pt x="86" y="3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1"/>
                  </a:lnTo>
                  <a:lnTo>
                    <a:pt x="131" y="1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5" y="4"/>
                  </a:lnTo>
                  <a:lnTo>
                    <a:pt x="149" y="5"/>
                  </a:lnTo>
                  <a:lnTo>
                    <a:pt x="153" y="6"/>
                  </a:lnTo>
                  <a:lnTo>
                    <a:pt x="157" y="8"/>
                  </a:lnTo>
                  <a:lnTo>
                    <a:pt x="161" y="9"/>
                  </a:lnTo>
                  <a:lnTo>
                    <a:pt x="166" y="10"/>
                  </a:lnTo>
                  <a:lnTo>
                    <a:pt x="169" y="13"/>
                  </a:lnTo>
                  <a:lnTo>
                    <a:pt x="172" y="14"/>
                  </a:lnTo>
                  <a:lnTo>
                    <a:pt x="175" y="15"/>
                  </a:lnTo>
                  <a:lnTo>
                    <a:pt x="178" y="18"/>
                  </a:lnTo>
                  <a:lnTo>
                    <a:pt x="181" y="19"/>
                  </a:lnTo>
                  <a:lnTo>
                    <a:pt x="183" y="21"/>
                  </a:lnTo>
                  <a:lnTo>
                    <a:pt x="186" y="24"/>
                  </a:lnTo>
                  <a:lnTo>
                    <a:pt x="188" y="26"/>
                  </a:lnTo>
                  <a:lnTo>
                    <a:pt x="190" y="28"/>
                  </a:lnTo>
                  <a:lnTo>
                    <a:pt x="192" y="30"/>
                  </a:lnTo>
                  <a:lnTo>
                    <a:pt x="194" y="33"/>
                  </a:lnTo>
                  <a:lnTo>
                    <a:pt x="196" y="35"/>
                  </a:lnTo>
                  <a:lnTo>
                    <a:pt x="197" y="38"/>
                  </a:lnTo>
                  <a:lnTo>
                    <a:pt x="199" y="41"/>
                  </a:lnTo>
                  <a:lnTo>
                    <a:pt x="200" y="44"/>
                  </a:lnTo>
                  <a:lnTo>
                    <a:pt x="202" y="48"/>
                  </a:lnTo>
                  <a:lnTo>
                    <a:pt x="203" y="50"/>
                  </a:lnTo>
                  <a:lnTo>
                    <a:pt x="205" y="54"/>
                  </a:lnTo>
                  <a:lnTo>
                    <a:pt x="206" y="58"/>
                  </a:lnTo>
                  <a:lnTo>
                    <a:pt x="207" y="61"/>
                  </a:lnTo>
                  <a:lnTo>
                    <a:pt x="208" y="65"/>
                  </a:lnTo>
                  <a:lnTo>
                    <a:pt x="209" y="69"/>
                  </a:lnTo>
                  <a:lnTo>
                    <a:pt x="210" y="74"/>
                  </a:lnTo>
                  <a:lnTo>
                    <a:pt x="210" y="78"/>
                  </a:lnTo>
                  <a:lnTo>
                    <a:pt x="211" y="83"/>
                  </a:lnTo>
                  <a:lnTo>
                    <a:pt x="220" y="154"/>
                  </a:lnTo>
                  <a:close/>
                  <a:moveTo>
                    <a:pt x="193" y="131"/>
                  </a:moveTo>
                  <a:lnTo>
                    <a:pt x="187" y="88"/>
                  </a:lnTo>
                  <a:lnTo>
                    <a:pt x="186" y="84"/>
                  </a:lnTo>
                  <a:lnTo>
                    <a:pt x="186" y="79"/>
                  </a:lnTo>
                  <a:lnTo>
                    <a:pt x="185" y="75"/>
                  </a:lnTo>
                  <a:lnTo>
                    <a:pt x="184" y="70"/>
                  </a:lnTo>
                  <a:lnTo>
                    <a:pt x="183" y="68"/>
                  </a:lnTo>
                  <a:lnTo>
                    <a:pt x="182" y="64"/>
                  </a:lnTo>
                  <a:lnTo>
                    <a:pt x="181" y="60"/>
                  </a:lnTo>
                  <a:lnTo>
                    <a:pt x="179" y="58"/>
                  </a:lnTo>
                  <a:lnTo>
                    <a:pt x="178" y="55"/>
                  </a:lnTo>
                  <a:lnTo>
                    <a:pt x="176" y="53"/>
                  </a:lnTo>
                  <a:lnTo>
                    <a:pt x="175" y="50"/>
                  </a:lnTo>
                  <a:lnTo>
                    <a:pt x="173" y="48"/>
                  </a:lnTo>
                  <a:lnTo>
                    <a:pt x="172" y="46"/>
                  </a:lnTo>
                  <a:lnTo>
                    <a:pt x="170" y="44"/>
                  </a:lnTo>
                  <a:lnTo>
                    <a:pt x="168" y="43"/>
                  </a:lnTo>
                  <a:lnTo>
                    <a:pt x="166" y="41"/>
                  </a:lnTo>
                  <a:lnTo>
                    <a:pt x="162" y="39"/>
                  </a:lnTo>
                  <a:lnTo>
                    <a:pt x="159" y="38"/>
                  </a:lnTo>
                  <a:lnTo>
                    <a:pt x="156" y="35"/>
                  </a:lnTo>
                  <a:lnTo>
                    <a:pt x="153" y="34"/>
                  </a:lnTo>
                  <a:lnTo>
                    <a:pt x="149" y="33"/>
                  </a:lnTo>
                  <a:lnTo>
                    <a:pt x="145" y="31"/>
                  </a:lnTo>
                  <a:lnTo>
                    <a:pt x="141" y="30"/>
                  </a:lnTo>
                  <a:lnTo>
                    <a:pt x="137" y="30"/>
                  </a:lnTo>
                  <a:lnTo>
                    <a:pt x="133" y="29"/>
                  </a:lnTo>
                  <a:lnTo>
                    <a:pt x="128" y="29"/>
                  </a:lnTo>
                  <a:lnTo>
                    <a:pt x="124" y="28"/>
                  </a:lnTo>
                  <a:lnTo>
                    <a:pt x="119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3" y="29"/>
                  </a:lnTo>
                  <a:lnTo>
                    <a:pt x="97" y="29"/>
                  </a:lnTo>
                  <a:lnTo>
                    <a:pt x="88" y="30"/>
                  </a:lnTo>
                  <a:lnTo>
                    <a:pt x="81" y="31"/>
                  </a:lnTo>
                  <a:lnTo>
                    <a:pt x="74" y="34"/>
                  </a:lnTo>
                  <a:lnTo>
                    <a:pt x="68" y="35"/>
                  </a:lnTo>
                  <a:lnTo>
                    <a:pt x="62" y="38"/>
                  </a:lnTo>
                  <a:lnTo>
                    <a:pt x="57" y="40"/>
                  </a:lnTo>
                  <a:lnTo>
                    <a:pt x="52" y="43"/>
                  </a:lnTo>
                  <a:lnTo>
                    <a:pt x="48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7" y="55"/>
                  </a:lnTo>
                  <a:lnTo>
                    <a:pt x="35" y="59"/>
                  </a:lnTo>
                  <a:lnTo>
                    <a:pt x="32" y="63"/>
                  </a:lnTo>
                  <a:lnTo>
                    <a:pt x="30" y="66"/>
                  </a:lnTo>
                  <a:lnTo>
                    <a:pt x="29" y="70"/>
                  </a:lnTo>
                  <a:lnTo>
                    <a:pt x="28" y="74"/>
                  </a:lnTo>
                  <a:lnTo>
                    <a:pt x="27" y="76"/>
                  </a:lnTo>
                  <a:lnTo>
                    <a:pt x="27" y="80"/>
                  </a:lnTo>
                  <a:lnTo>
                    <a:pt x="26" y="84"/>
                  </a:lnTo>
                  <a:lnTo>
                    <a:pt x="26" y="88"/>
                  </a:lnTo>
                  <a:lnTo>
                    <a:pt x="26" y="93"/>
                  </a:lnTo>
                  <a:lnTo>
                    <a:pt x="27" y="97"/>
                  </a:lnTo>
                  <a:lnTo>
                    <a:pt x="27" y="102"/>
                  </a:lnTo>
                  <a:lnTo>
                    <a:pt x="28" y="107"/>
                  </a:lnTo>
                  <a:lnTo>
                    <a:pt x="33" y="150"/>
                  </a:lnTo>
                  <a:lnTo>
                    <a:pt x="193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88400" y="3561840"/>
              <a:ext cx="59040" cy="33480"/>
            </a:xfrm>
            <a:custGeom>
              <a:avLst/>
              <a:gdLst/>
              <a:ahLst/>
              <a:rect l="l" t="t" r="r" b="b"/>
              <a:pathLst>
                <a:path w="228" h="175">
                  <a:moveTo>
                    <a:pt x="228" y="150"/>
                  </a:moveTo>
                  <a:lnTo>
                    <a:pt x="19" y="175"/>
                  </a:lnTo>
                  <a:lnTo>
                    <a:pt x="0" y="30"/>
                  </a:lnTo>
                  <a:lnTo>
                    <a:pt x="25" y="27"/>
                  </a:lnTo>
                  <a:lnTo>
                    <a:pt x="40" y="145"/>
                  </a:lnTo>
                  <a:lnTo>
                    <a:pt x="104" y="137"/>
                  </a:lnTo>
                  <a:lnTo>
                    <a:pt x="90" y="27"/>
                  </a:lnTo>
                  <a:lnTo>
                    <a:pt x="114" y="24"/>
                  </a:lnTo>
                  <a:lnTo>
                    <a:pt x="129" y="135"/>
                  </a:lnTo>
                  <a:lnTo>
                    <a:pt x="200" y="126"/>
                  </a:lnTo>
                  <a:lnTo>
                    <a:pt x="183" y="4"/>
                  </a:lnTo>
                  <a:lnTo>
                    <a:pt x="209" y="0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86240" y="3530520"/>
              <a:ext cx="55080" cy="28800"/>
            </a:xfrm>
            <a:custGeom>
              <a:avLst/>
              <a:gdLst/>
              <a:ahLst/>
              <a:rect l="l" t="t" r="r" b="b"/>
              <a:pathLst>
                <a:path w="212" h="150">
                  <a:moveTo>
                    <a:pt x="212" y="125"/>
                  </a:moveTo>
                  <a:lnTo>
                    <a:pt x="3" y="150"/>
                  </a:lnTo>
                  <a:lnTo>
                    <a:pt x="0" y="124"/>
                  </a:lnTo>
                  <a:lnTo>
                    <a:pt x="183" y="101"/>
                  </a:lnTo>
                  <a:lnTo>
                    <a:pt x="170" y="4"/>
                  </a:lnTo>
                  <a:lnTo>
                    <a:pt x="195" y="0"/>
                  </a:lnTo>
                  <a:lnTo>
                    <a:pt x="212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0840" y="3500280"/>
              <a:ext cx="55080" cy="29520"/>
            </a:xfrm>
            <a:custGeom>
              <a:avLst/>
              <a:gdLst/>
              <a:ahLst/>
              <a:rect l="l" t="t" r="r" b="b"/>
              <a:pathLst>
                <a:path w="213" h="149">
                  <a:moveTo>
                    <a:pt x="213" y="124"/>
                  </a:moveTo>
                  <a:lnTo>
                    <a:pt x="4" y="149"/>
                  </a:lnTo>
                  <a:lnTo>
                    <a:pt x="0" y="123"/>
                  </a:lnTo>
                  <a:lnTo>
                    <a:pt x="185" y="101"/>
                  </a:lnTo>
                  <a:lnTo>
                    <a:pt x="172" y="2"/>
                  </a:lnTo>
                  <a:lnTo>
                    <a:pt x="196" y="0"/>
                  </a:lnTo>
                  <a:lnTo>
                    <a:pt x="213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73640" y="3462120"/>
              <a:ext cx="57600" cy="36360"/>
            </a:xfrm>
            <a:custGeom>
              <a:avLst/>
              <a:gdLst/>
              <a:ahLst/>
              <a:rect l="l" t="t" r="r" b="b"/>
              <a:pathLst>
                <a:path w="222" h="186">
                  <a:moveTo>
                    <a:pt x="222" y="186"/>
                  </a:moveTo>
                  <a:lnTo>
                    <a:pt x="3" y="134"/>
                  </a:lnTo>
                  <a:lnTo>
                    <a:pt x="0" y="106"/>
                  </a:lnTo>
                  <a:lnTo>
                    <a:pt x="198" y="0"/>
                  </a:lnTo>
                  <a:lnTo>
                    <a:pt x="202" y="30"/>
                  </a:lnTo>
                  <a:lnTo>
                    <a:pt x="141" y="61"/>
                  </a:lnTo>
                  <a:lnTo>
                    <a:pt x="152" y="143"/>
                  </a:lnTo>
                  <a:lnTo>
                    <a:pt x="219" y="158"/>
                  </a:lnTo>
                  <a:lnTo>
                    <a:pt x="222" y="186"/>
                  </a:lnTo>
                  <a:close/>
                  <a:moveTo>
                    <a:pt x="129" y="139"/>
                  </a:moveTo>
                  <a:lnTo>
                    <a:pt x="120" y="71"/>
                  </a:lnTo>
                  <a:lnTo>
                    <a:pt x="65" y="99"/>
                  </a:lnTo>
                  <a:lnTo>
                    <a:pt x="59" y="102"/>
                  </a:lnTo>
                  <a:lnTo>
                    <a:pt x="53" y="104"/>
                  </a:lnTo>
                  <a:lnTo>
                    <a:pt x="48" y="108"/>
                  </a:lnTo>
                  <a:lnTo>
                    <a:pt x="42" y="111"/>
                  </a:lnTo>
                  <a:lnTo>
                    <a:pt x="36" y="112"/>
                  </a:lnTo>
                  <a:lnTo>
                    <a:pt x="32" y="114"/>
                  </a:lnTo>
                  <a:lnTo>
                    <a:pt x="27" y="117"/>
                  </a:lnTo>
                  <a:lnTo>
                    <a:pt x="23" y="118"/>
                  </a:lnTo>
                  <a:lnTo>
                    <a:pt x="28" y="118"/>
                  </a:lnTo>
                  <a:lnTo>
                    <a:pt x="33" y="119"/>
                  </a:lnTo>
                  <a:lnTo>
                    <a:pt x="39" y="119"/>
                  </a:lnTo>
                  <a:lnTo>
                    <a:pt x="44" y="121"/>
                  </a:lnTo>
                  <a:lnTo>
                    <a:pt x="50" y="122"/>
                  </a:lnTo>
                  <a:lnTo>
                    <a:pt x="55" y="122"/>
                  </a:lnTo>
                  <a:lnTo>
                    <a:pt x="60" y="123"/>
                  </a:lnTo>
                  <a:lnTo>
                    <a:pt x="65" y="124"/>
                  </a:lnTo>
                  <a:lnTo>
                    <a:pt x="12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61040" y="3415680"/>
              <a:ext cx="58320" cy="35640"/>
            </a:xfrm>
            <a:custGeom>
              <a:avLst/>
              <a:gdLst/>
              <a:ahLst/>
              <a:rect l="l" t="t" r="r" b="b"/>
              <a:pathLst>
                <a:path w="223" h="182">
                  <a:moveTo>
                    <a:pt x="223" y="80"/>
                  </a:moveTo>
                  <a:lnTo>
                    <a:pt x="25" y="182"/>
                  </a:lnTo>
                  <a:lnTo>
                    <a:pt x="21" y="153"/>
                  </a:lnTo>
                  <a:lnTo>
                    <a:pt x="166" y="83"/>
                  </a:lnTo>
                  <a:lnTo>
                    <a:pt x="170" y="81"/>
                  </a:lnTo>
                  <a:lnTo>
                    <a:pt x="174" y="80"/>
                  </a:lnTo>
                  <a:lnTo>
                    <a:pt x="178" y="77"/>
                  </a:lnTo>
                  <a:lnTo>
                    <a:pt x="182" y="76"/>
                  </a:lnTo>
                  <a:lnTo>
                    <a:pt x="186" y="73"/>
                  </a:lnTo>
                  <a:lnTo>
                    <a:pt x="190" y="72"/>
                  </a:lnTo>
                  <a:lnTo>
                    <a:pt x="194" y="71"/>
                  </a:lnTo>
                  <a:lnTo>
                    <a:pt x="198" y="68"/>
                  </a:lnTo>
                  <a:lnTo>
                    <a:pt x="194" y="68"/>
                  </a:lnTo>
                  <a:lnTo>
                    <a:pt x="189" y="67"/>
                  </a:lnTo>
                  <a:lnTo>
                    <a:pt x="185" y="67"/>
                  </a:lnTo>
                  <a:lnTo>
                    <a:pt x="181" y="66"/>
                  </a:lnTo>
                  <a:lnTo>
                    <a:pt x="176" y="65"/>
                  </a:lnTo>
                  <a:lnTo>
                    <a:pt x="172" y="65"/>
                  </a:lnTo>
                  <a:lnTo>
                    <a:pt x="167" y="63"/>
                  </a:lnTo>
                  <a:lnTo>
                    <a:pt x="163" y="6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219" y="52"/>
                  </a:lnTo>
                  <a:lnTo>
                    <a:pt x="223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59600" y="3400200"/>
              <a:ext cx="55080" cy="10080"/>
            </a:xfrm>
            <a:custGeom>
              <a:avLst/>
              <a:gdLst/>
              <a:ahLst/>
              <a:rect l="l" t="t" r="r" b="b"/>
              <a:pathLst>
                <a:path w="212" h="51">
                  <a:moveTo>
                    <a:pt x="212" y="26"/>
                  </a:moveTo>
                  <a:lnTo>
                    <a:pt x="3" y="51"/>
                  </a:lnTo>
                  <a:lnTo>
                    <a:pt x="0" y="25"/>
                  </a:lnTo>
                  <a:lnTo>
                    <a:pt x="209" y="0"/>
                  </a:lnTo>
                  <a:lnTo>
                    <a:pt x="21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53480" y="3367440"/>
              <a:ext cx="56880" cy="31680"/>
            </a:xfrm>
            <a:custGeom>
              <a:avLst/>
              <a:gdLst/>
              <a:ahLst/>
              <a:rect l="l" t="t" r="r" b="b"/>
              <a:pathLst>
                <a:path w="221" h="161">
                  <a:moveTo>
                    <a:pt x="221" y="70"/>
                  </a:moveTo>
                  <a:lnTo>
                    <a:pt x="36" y="92"/>
                  </a:lnTo>
                  <a:lnTo>
                    <a:pt x="46" y="158"/>
                  </a:lnTo>
                  <a:lnTo>
                    <a:pt x="21" y="161"/>
                  </a:lnTo>
                  <a:lnTo>
                    <a:pt x="0" y="2"/>
                  </a:lnTo>
                  <a:lnTo>
                    <a:pt x="24" y="0"/>
                  </a:lnTo>
                  <a:lnTo>
                    <a:pt x="33" y="66"/>
                  </a:lnTo>
                  <a:lnTo>
                    <a:pt x="218" y="43"/>
                  </a:lnTo>
                  <a:lnTo>
                    <a:pt x="221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47000" y="3334680"/>
              <a:ext cx="57600" cy="30960"/>
            </a:xfrm>
            <a:custGeom>
              <a:avLst/>
              <a:gdLst/>
              <a:ahLst/>
              <a:rect l="l" t="t" r="r" b="b"/>
              <a:pathLst>
                <a:path w="221" h="161">
                  <a:moveTo>
                    <a:pt x="221" y="71"/>
                  </a:moveTo>
                  <a:lnTo>
                    <a:pt x="36" y="92"/>
                  </a:lnTo>
                  <a:lnTo>
                    <a:pt x="45" y="158"/>
                  </a:lnTo>
                  <a:lnTo>
                    <a:pt x="20" y="161"/>
                  </a:lnTo>
                  <a:lnTo>
                    <a:pt x="0" y="4"/>
                  </a:lnTo>
                  <a:lnTo>
                    <a:pt x="24" y="0"/>
                  </a:lnTo>
                  <a:lnTo>
                    <a:pt x="33" y="66"/>
                  </a:lnTo>
                  <a:lnTo>
                    <a:pt x="217" y="43"/>
                  </a:lnTo>
                  <a:lnTo>
                    <a:pt x="221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42680" y="3292560"/>
              <a:ext cx="55800" cy="37080"/>
            </a:xfrm>
            <a:custGeom>
              <a:avLst/>
              <a:gdLst/>
              <a:ahLst/>
              <a:rect l="l" t="t" r="r" b="b"/>
              <a:pathLst>
                <a:path w="218" h="192">
                  <a:moveTo>
                    <a:pt x="124" y="191"/>
                  </a:moveTo>
                  <a:lnTo>
                    <a:pt x="112" y="192"/>
                  </a:lnTo>
                  <a:lnTo>
                    <a:pt x="100" y="192"/>
                  </a:lnTo>
                  <a:lnTo>
                    <a:pt x="89" y="192"/>
                  </a:lnTo>
                  <a:lnTo>
                    <a:pt x="77" y="190"/>
                  </a:lnTo>
                  <a:lnTo>
                    <a:pt x="67" y="187"/>
                  </a:lnTo>
                  <a:lnTo>
                    <a:pt x="57" y="184"/>
                  </a:lnTo>
                  <a:lnTo>
                    <a:pt x="48" y="180"/>
                  </a:lnTo>
                  <a:lnTo>
                    <a:pt x="40" y="175"/>
                  </a:lnTo>
                  <a:lnTo>
                    <a:pt x="32" y="169"/>
                  </a:lnTo>
                  <a:lnTo>
                    <a:pt x="25" y="161"/>
                  </a:lnTo>
                  <a:lnTo>
                    <a:pt x="19" y="155"/>
                  </a:lnTo>
                  <a:lnTo>
                    <a:pt x="14" y="146"/>
                  </a:lnTo>
                  <a:lnTo>
                    <a:pt x="9" y="137"/>
                  </a:lnTo>
                  <a:lnTo>
                    <a:pt x="5" y="129"/>
                  </a:lnTo>
                  <a:lnTo>
                    <a:pt x="2" y="119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2" y="76"/>
                  </a:lnTo>
                  <a:lnTo>
                    <a:pt x="3" y="70"/>
                  </a:lnTo>
                  <a:lnTo>
                    <a:pt x="5" y="64"/>
                  </a:lnTo>
                  <a:lnTo>
                    <a:pt x="8" y="58"/>
                  </a:lnTo>
                  <a:lnTo>
                    <a:pt x="11" y="51"/>
                  </a:lnTo>
                  <a:lnTo>
                    <a:pt x="15" y="46"/>
                  </a:lnTo>
                  <a:lnTo>
                    <a:pt x="19" y="41"/>
                  </a:lnTo>
                  <a:lnTo>
                    <a:pt x="23" y="36"/>
                  </a:lnTo>
                  <a:lnTo>
                    <a:pt x="27" y="31"/>
                  </a:lnTo>
                  <a:lnTo>
                    <a:pt x="32" y="26"/>
                  </a:lnTo>
                  <a:lnTo>
                    <a:pt x="37" y="23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4" y="13"/>
                  </a:lnTo>
                  <a:lnTo>
                    <a:pt x="61" y="10"/>
                  </a:lnTo>
                  <a:lnTo>
                    <a:pt x="67" y="8"/>
                  </a:lnTo>
                  <a:lnTo>
                    <a:pt x="74" y="5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1"/>
                  </a:lnTo>
                  <a:lnTo>
                    <a:pt x="141" y="3"/>
                  </a:lnTo>
                  <a:lnTo>
                    <a:pt x="148" y="4"/>
                  </a:lnTo>
                  <a:lnTo>
                    <a:pt x="155" y="6"/>
                  </a:lnTo>
                  <a:lnTo>
                    <a:pt x="162" y="9"/>
                  </a:lnTo>
                  <a:lnTo>
                    <a:pt x="168" y="11"/>
                  </a:lnTo>
                  <a:lnTo>
                    <a:pt x="174" y="15"/>
                  </a:lnTo>
                  <a:lnTo>
                    <a:pt x="179" y="18"/>
                  </a:lnTo>
                  <a:lnTo>
                    <a:pt x="185" y="23"/>
                  </a:lnTo>
                  <a:lnTo>
                    <a:pt x="189" y="26"/>
                  </a:lnTo>
                  <a:lnTo>
                    <a:pt x="194" y="31"/>
                  </a:lnTo>
                  <a:lnTo>
                    <a:pt x="198" y="36"/>
                  </a:lnTo>
                  <a:lnTo>
                    <a:pt x="202" y="41"/>
                  </a:lnTo>
                  <a:lnTo>
                    <a:pt x="205" y="46"/>
                  </a:lnTo>
                  <a:lnTo>
                    <a:pt x="208" y="53"/>
                  </a:lnTo>
                  <a:lnTo>
                    <a:pt x="210" y="59"/>
                  </a:lnTo>
                  <a:lnTo>
                    <a:pt x="213" y="64"/>
                  </a:lnTo>
                  <a:lnTo>
                    <a:pt x="214" y="70"/>
                  </a:lnTo>
                  <a:lnTo>
                    <a:pt x="216" y="76"/>
                  </a:lnTo>
                  <a:lnTo>
                    <a:pt x="217" y="82"/>
                  </a:lnTo>
                  <a:lnTo>
                    <a:pt x="218" y="90"/>
                  </a:lnTo>
                  <a:lnTo>
                    <a:pt x="218" y="97"/>
                  </a:lnTo>
                  <a:lnTo>
                    <a:pt x="218" y="104"/>
                  </a:lnTo>
                  <a:lnTo>
                    <a:pt x="217" y="110"/>
                  </a:lnTo>
                  <a:lnTo>
                    <a:pt x="216" y="116"/>
                  </a:lnTo>
                  <a:lnTo>
                    <a:pt x="214" y="122"/>
                  </a:lnTo>
                  <a:lnTo>
                    <a:pt x="212" y="129"/>
                  </a:lnTo>
                  <a:lnTo>
                    <a:pt x="209" y="135"/>
                  </a:lnTo>
                  <a:lnTo>
                    <a:pt x="206" y="141"/>
                  </a:lnTo>
                  <a:lnTo>
                    <a:pt x="203" y="146"/>
                  </a:lnTo>
                  <a:lnTo>
                    <a:pt x="199" y="151"/>
                  </a:lnTo>
                  <a:lnTo>
                    <a:pt x="195" y="156"/>
                  </a:lnTo>
                  <a:lnTo>
                    <a:pt x="191" y="161"/>
                  </a:lnTo>
                  <a:lnTo>
                    <a:pt x="186" y="166"/>
                  </a:lnTo>
                  <a:lnTo>
                    <a:pt x="181" y="170"/>
                  </a:lnTo>
                  <a:lnTo>
                    <a:pt x="175" y="174"/>
                  </a:lnTo>
                  <a:lnTo>
                    <a:pt x="170" y="177"/>
                  </a:lnTo>
                  <a:lnTo>
                    <a:pt x="164" y="180"/>
                  </a:lnTo>
                  <a:lnTo>
                    <a:pt x="157" y="182"/>
                  </a:lnTo>
                  <a:lnTo>
                    <a:pt x="151" y="185"/>
                  </a:lnTo>
                  <a:lnTo>
                    <a:pt x="144" y="187"/>
                  </a:lnTo>
                  <a:lnTo>
                    <a:pt x="138" y="189"/>
                  </a:lnTo>
                  <a:lnTo>
                    <a:pt x="131" y="190"/>
                  </a:lnTo>
                  <a:lnTo>
                    <a:pt x="124" y="191"/>
                  </a:lnTo>
                  <a:close/>
                  <a:moveTo>
                    <a:pt x="121" y="164"/>
                  </a:moveTo>
                  <a:lnTo>
                    <a:pt x="130" y="162"/>
                  </a:lnTo>
                  <a:lnTo>
                    <a:pt x="139" y="161"/>
                  </a:lnTo>
                  <a:lnTo>
                    <a:pt x="147" y="159"/>
                  </a:lnTo>
                  <a:lnTo>
                    <a:pt x="154" y="155"/>
                  </a:lnTo>
                  <a:lnTo>
                    <a:pt x="162" y="151"/>
                  </a:lnTo>
                  <a:lnTo>
                    <a:pt x="168" y="147"/>
                  </a:lnTo>
                  <a:lnTo>
                    <a:pt x="173" y="142"/>
                  </a:lnTo>
                  <a:lnTo>
                    <a:pt x="178" y="137"/>
                  </a:lnTo>
                  <a:lnTo>
                    <a:pt x="183" y="131"/>
                  </a:lnTo>
                  <a:lnTo>
                    <a:pt x="186" y="126"/>
                  </a:lnTo>
                  <a:lnTo>
                    <a:pt x="189" y="120"/>
                  </a:lnTo>
                  <a:lnTo>
                    <a:pt x="192" y="114"/>
                  </a:lnTo>
                  <a:lnTo>
                    <a:pt x="193" y="107"/>
                  </a:lnTo>
                  <a:lnTo>
                    <a:pt x="194" y="100"/>
                  </a:lnTo>
                  <a:lnTo>
                    <a:pt x="194" y="94"/>
                  </a:lnTo>
                  <a:lnTo>
                    <a:pt x="194" y="86"/>
                  </a:lnTo>
                  <a:lnTo>
                    <a:pt x="192" y="79"/>
                  </a:lnTo>
                  <a:lnTo>
                    <a:pt x="190" y="73"/>
                  </a:lnTo>
                  <a:lnTo>
                    <a:pt x="188" y="65"/>
                  </a:lnTo>
                  <a:lnTo>
                    <a:pt x="185" y="60"/>
                  </a:lnTo>
                  <a:lnTo>
                    <a:pt x="181" y="54"/>
                  </a:lnTo>
                  <a:lnTo>
                    <a:pt x="176" y="49"/>
                  </a:lnTo>
                  <a:lnTo>
                    <a:pt x="171" y="44"/>
                  </a:lnTo>
                  <a:lnTo>
                    <a:pt x="166" y="40"/>
                  </a:lnTo>
                  <a:lnTo>
                    <a:pt x="159" y="36"/>
                  </a:lnTo>
                  <a:lnTo>
                    <a:pt x="151" y="33"/>
                  </a:lnTo>
                  <a:lnTo>
                    <a:pt x="144" y="30"/>
                  </a:lnTo>
                  <a:lnTo>
                    <a:pt x="136" y="29"/>
                  </a:lnTo>
                  <a:lnTo>
                    <a:pt x="128" y="28"/>
                  </a:lnTo>
                  <a:lnTo>
                    <a:pt x="119" y="26"/>
                  </a:lnTo>
                  <a:lnTo>
                    <a:pt x="110" y="28"/>
                  </a:lnTo>
                  <a:lnTo>
                    <a:pt x="101" y="28"/>
                  </a:lnTo>
                  <a:lnTo>
                    <a:pt x="94" y="29"/>
                  </a:lnTo>
                  <a:lnTo>
                    <a:pt x="88" y="30"/>
                  </a:lnTo>
                  <a:lnTo>
                    <a:pt x="82" y="31"/>
                  </a:lnTo>
                  <a:lnTo>
                    <a:pt x="76" y="33"/>
                  </a:lnTo>
                  <a:lnTo>
                    <a:pt x="71" y="35"/>
                  </a:lnTo>
                  <a:lnTo>
                    <a:pt x="66" y="36"/>
                  </a:lnTo>
                  <a:lnTo>
                    <a:pt x="61" y="39"/>
                  </a:lnTo>
                  <a:lnTo>
                    <a:pt x="57" y="41"/>
                  </a:lnTo>
                  <a:lnTo>
                    <a:pt x="52" y="44"/>
                  </a:lnTo>
                  <a:lnTo>
                    <a:pt x="48" y="48"/>
                  </a:lnTo>
                  <a:lnTo>
                    <a:pt x="45" y="50"/>
                  </a:lnTo>
                  <a:lnTo>
                    <a:pt x="41" y="54"/>
                  </a:lnTo>
                  <a:lnTo>
                    <a:pt x="38" y="58"/>
                  </a:lnTo>
                  <a:lnTo>
                    <a:pt x="36" y="61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4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5" y="87"/>
                  </a:lnTo>
                  <a:lnTo>
                    <a:pt x="25" y="91"/>
                  </a:lnTo>
                  <a:lnTo>
                    <a:pt x="25" y="96"/>
                  </a:lnTo>
                  <a:lnTo>
                    <a:pt x="25" y="101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8" y="120"/>
                  </a:lnTo>
                  <a:lnTo>
                    <a:pt x="31" y="126"/>
                  </a:lnTo>
                  <a:lnTo>
                    <a:pt x="33" y="131"/>
                  </a:lnTo>
                  <a:lnTo>
                    <a:pt x="37" y="137"/>
                  </a:lnTo>
                  <a:lnTo>
                    <a:pt x="41" y="142"/>
                  </a:lnTo>
                  <a:lnTo>
                    <a:pt x="46" y="147"/>
                  </a:lnTo>
                  <a:lnTo>
                    <a:pt x="51" y="152"/>
                  </a:lnTo>
                  <a:lnTo>
                    <a:pt x="57" y="156"/>
                  </a:lnTo>
                  <a:lnTo>
                    <a:pt x="64" y="159"/>
                  </a:lnTo>
                  <a:lnTo>
                    <a:pt x="72" y="162"/>
                  </a:lnTo>
                  <a:lnTo>
                    <a:pt x="80" y="164"/>
                  </a:lnTo>
                  <a:lnTo>
                    <a:pt x="90" y="165"/>
                  </a:lnTo>
                  <a:lnTo>
                    <a:pt x="100" y="165"/>
                  </a:lnTo>
                  <a:lnTo>
                    <a:pt x="110" y="165"/>
                  </a:lnTo>
                  <a:lnTo>
                    <a:pt x="121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35480" y="3249720"/>
              <a:ext cx="57600" cy="38880"/>
            </a:xfrm>
            <a:custGeom>
              <a:avLst/>
              <a:gdLst/>
              <a:ahLst/>
              <a:rect l="l" t="t" r="r" b="b"/>
              <a:pathLst>
                <a:path w="222" h="201">
                  <a:moveTo>
                    <a:pt x="222" y="176"/>
                  </a:moveTo>
                  <a:lnTo>
                    <a:pt x="13" y="201"/>
                  </a:lnTo>
                  <a:lnTo>
                    <a:pt x="2" y="112"/>
                  </a:lnTo>
                  <a:lnTo>
                    <a:pt x="1" y="106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1" y="79"/>
                  </a:lnTo>
                  <a:lnTo>
                    <a:pt x="1" y="75"/>
                  </a:lnTo>
                  <a:lnTo>
                    <a:pt x="2" y="71"/>
                  </a:lnTo>
                  <a:lnTo>
                    <a:pt x="3" y="67"/>
                  </a:lnTo>
                  <a:lnTo>
                    <a:pt x="5" y="64"/>
                  </a:lnTo>
                  <a:lnTo>
                    <a:pt x="6" y="61"/>
                  </a:lnTo>
                  <a:lnTo>
                    <a:pt x="8" y="57"/>
                  </a:lnTo>
                  <a:lnTo>
                    <a:pt x="10" y="55"/>
                  </a:lnTo>
                  <a:lnTo>
                    <a:pt x="13" y="52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9"/>
                  </a:lnTo>
                  <a:lnTo>
                    <a:pt x="37" y="37"/>
                  </a:lnTo>
                  <a:lnTo>
                    <a:pt x="42" y="36"/>
                  </a:lnTo>
                  <a:lnTo>
                    <a:pt x="46" y="35"/>
                  </a:lnTo>
                  <a:lnTo>
                    <a:pt x="50" y="35"/>
                  </a:lnTo>
                  <a:lnTo>
                    <a:pt x="55" y="34"/>
                  </a:lnTo>
                  <a:lnTo>
                    <a:pt x="60" y="34"/>
                  </a:lnTo>
                  <a:lnTo>
                    <a:pt x="65" y="35"/>
                  </a:lnTo>
                  <a:lnTo>
                    <a:pt x="70" y="35"/>
                  </a:lnTo>
                  <a:lnTo>
                    <a:pt x="75" y="36"/>
                  </a:lnTo>
                  <a:lnTo>
                    <a:pt x="80" y="39"/>
                  </a:lnTo>
                  <a:lnTo>
                    <a:pt x="84" y="41"/>
                  </a:lnTo>
                  <a:lnTo>
                    <a:pt x="88" y="44"/>
                  </a:lnTo>
                  <a:lnTo>
                    <a:pt x="93" y="47"/>
                  </a:lnTo>
                  <a:lnTo>
                    <a:pt x="96" y="51"/>
                  </a:lnTo>
                  <a:lnTo>
                    <a:pt x="100" y="55"/>
                  </a:lnTo>
                  <a:lnTo>
                    <a:pt x="103" y="60"/>
                  </a:lnTo>
                  <a:lnTo>
                    <a:pt x="106" y="65"/>
                  </a:lnTo>
                  <a:lnTo>
                    <a:pt x="109" y="71"/>
                  </a:lnTo>
                  <a:lnTo>
                    <a:pt x="112" y="77"/>
                  </a:lnTo>
                  <a:lnTo>
                    <a:pt x="114" y="84"/>
                  </a:lnTo>
                  <a:lnTo>
                    <a:pt x="115" y="81"/>
                  </a:lnTo>
                  <a:lnTo>
                    <a:pt x="116" y="79"/>
                  </a:lnTo>
                  <a:lnTo>
                    <a:pt x="117" y="76"/>
                  </a:lnTo>
                  <a:lnTo>
                    <a:pt x="118" y="74"/>
                  </a:lnTo>
                  <a:lnTo>
                    <a:pt x="119" y="72"/>
                  </a:lnTo>
                  <a:lnTo>
                    <a:pt x="120" y="70"/>
                  </a:lnTo>
                  <a:lnTo>
                    <a:pt x="121" y="69"/>
                  </a:lnTo>
                  <a:lnTo>
                    <a:pt x="122" y="66"/>
                  </a:lnTo>
                  <a:lnTo>
                    <a:pt x="125" y="64"/>
                  </a:lnTo>
                  <a:lnTo>
                    <a:pt x="127" y="60"/>
                  </a:lnTo>
                  <a:lnTo>
                    <a:pt x="130" y="57"/>
                  </a:lnTo>
                  <a:lnTo>
                    <a:pt x="133" y="54"/>
                  </a:lnTo>
                  <a:lnTo>
                    <a:pt x="136" y="51"/>
                  </a:lnTo>
                  <a:lnTo>
                    <a:pt x="140" y="47"/>
                  </a:lnTo>
                  <a:lnTo>
                    <a:pt x="143" y="45"/>
                  </a:lnTo>
                  <a:lnTo>
                    <a:pt x="147" y="41"/>
                  </a:lnTo>
                  <a:lnTo>
                    <a:pt x="199" y="0"/>
                  </a:lnTo>
                  <a:lnTo>
                    <a:pt x="204" y="32"/>
                  </a:lnTo>
                  <a:lnTo>
                    <a:pt x="163" y="65"/>
                  </a:lnTo>
                  <a:lnTo>
                    <a:pt x="159" y="67"/>
                  </a:lnTo>
                  <a:lnTo>
                    <a:pt x="155" y="71"/>
                  </a:lnTo>
                  <a:lnTo>
                    <a:pt x="152" y="74"/>
                  </a:lnTo>
                  <a:lnTo>
                    <a:pt x="148" y="77"/>
                  </a:lnTo>
                  <a:lnTo>
                    <a:pt x="145" y="80"/>
                  </a:lnTo>
                  <a:lnTo>
                    <a:pt x="142" y="82"/>
                  </a:lnTo>
                  <a:lnTo>
                    <a:pt x="140" y="85"/>
                  </a:lnTo>
                  <a:lnTo>
                    <a:pt x="137" y="87"/>
                  </a:lnTo>
                  <a:lnTo>
                    <a:pt x="135" y="90"/>
                  </a:lnTo>
                  <a:lnTo>
                    <a:pt x="133" y="91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9" y="97"/>
                  </a:lnTo>
                  <a:lnTo>
                    <a:pt x="127" y="99"/>
                  </a:lnTo>
                  <a:lnTo>
                    <a:pt x="126" y="101"/>
                  </a:lnTo>
                  <a:lnTo>
                    <a:pt x="125" y="102"/>
                  </a:lnTo>
                  <a:lnTo>
                    <a:pt x="125" y="104"/>
                  </a:lnTo>
                  <a:lnTo>
                    <a:pt x="124" y="105"/>
                  </a:lnTo>
                  <a:lnTo>
                    <a:pt x="123" y="107"/>
                  </a:lnTo>
                  <a:lnTo>
                    <a:pt x="123" y="109"/>
                  </a:lnTo>
                  <a:lnTo>
                    <a:pt x="122" y="110"/>
                  </a:lnTo>
                  <a:lnTo>
                    <a:pt x="122" y="112"/>
                  </a:lnTo>
                  <a:lnTo>
                    <a:pt x="122" y="114"/>
                  </a:lnTo>
                  <a:lnTo>
                    <a:pt x="122" y="115"/>
                  </a:lnTo>
                  <a:lnTo>
                    <a:pt x="121" y="116"/>
                  </a:lnTo>
                  <a:lnTo>
                    <a:pt x="121" y="117"/>
                  </a:lnTo>
                  <a:lnTo>
                    <a:pt x="121" y="120"/>
                  </a:lnTo>
                  <a:lnTo>
                    <a:pt x="122" y="121"/>
                  </a:lnTo>
                  <a:lnTo>
                    <a:pt x="122" y="122"/>
                  </a:lnTo>
                  <a:lnTo>
                    <a:pt x="122" y="125"/>
                  </a:lnTo>
                  <a:lnTo>
                    <a:pt x="122" y="127"/>
                  </a:lnTo>
                  <a:lnTo>
                    <a:pt x="122" y="130"/>
                  </a:lnTo>
                  <a:lnTo>
                    <a:pt x="126" y="161"/>
                  </a:lnTo>
                  <a:lnTo>
                    <a:pt x="219" y="150"/>
                  </a:lnTo>
                  <a:lnTo>
                    <a:pt x="222" y="176"/>
                  </a:lnTo>
                  <a:close/>
                  <a:moveTo>
                    <a:pt x="102" y="163"/>
                  </a:moveTo>
                  <a:lnTo>
                    <a:pt x="94" y="106"/>
                  </a:lnTo>
                  <a:lnTo>
                    <a:pt x="94" y="102"/>
                  </a:lnTo>
                  <a:lnTo>
                    <a:pt x="93" y="99"/>
                  </a:lnTo>
                  <a:lnTo>
                    <a:pt x="92" y="94"/>
                  </a:lnTo>
                  <a:lnTo>
                    <a:pt x="91" y="91"/>
                  </a:lnTo>
                  <a:lnTo>
                    <a:pt x="90" y="87"/>
                  </a:lnTo>
                  <a:lnTo>
                    <a:pt x="89" y="84"/>
                  </a:lnTo>
                  <a:lnTo>
                    <a:pt x="88" y="81"/>
                  </a:lnTo>
                  <a:lnTo>
                    <a:pt x="87" y="79"/>
                  </a:lnTo>
                  <a:lnTo>
                    <a:pt x="86" y="76"/>
                  </a:lnTo>
                  <a:lnTo>
                    <a:pt x="84" y="74"/>
                  </a:lnTo>
                  <a:lnTo>
                    <a:pt x="82" y="72"/>
                  </a:lnTo>
                  <a:lnTo>
                    <a:pt x="81" y="70"/>
                  </a:lnTo>
                  <a:lnTo>
                    <a:pt x="79" y="69"/>
                  </a:lnTo>
                  <a:lnTo>
                    <a:pt x="77" y="67"/>
                  </a:lnTo>
                  <a:lnTo>
                    <a:pt x="75" y="66"/>
                  </a:lnTo>
                  <a:lnTo>
                    <a:pt x="72" y="65"/>
                  </a:lnTo>
                  <a:lnTo>
                    <a:pt x="70" y="64"/>
                  </a:lnTo>
                  <a:lnTo>
                    <a:pt x="68" y="62"/>
                  </a:lnTo>
                  <a:lnTo>
                    <a:pt x="65" y="62"/>
                  </a:lnTo>
                  <a:lnTo>
                    <a:pt x="63" y="62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0" y="62"/>
                  </a:lnTo>
                  <a:lnTo>
                    <a:pt x="46" y="64"/>
                  </a:lnTo>
                  <a:lnTo>
                    <a:pt x="43" y="65"/>
                  </a:lnTo>
                  <a:lnTo>
                    <a:pt x="40" y="66"/>
                  </a:lnTo>
                  <a:lnTo>
                    <a:pt x="37" y="67"/>
                  </a:lnTo>
                  <a:lnTo>
                    <a:pt x="34" y="70"/>
                  </a:lnTo>
                  <a:lnTo>
                    <a:pt x="32" y="72"/>
                  </a:lnTo>
                  <a:lnTo>
                    <a:pt x="30" y="75"/>
                  </a:lnTo>
                  <a:lnTo>
                    <a:pt x="28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4" y="89"/>
                  </a:lnTo>
                  <a:lnTo>
                    <a:pt x="24" y="94"/>
                  </a:lnTo>
                  <a:lnTo>
                    <a:pt x="24" y="99"/>
                  </a:lnTo>
                  <a:lnTo>
                    <a:pt x="24" y="104"/>
                  </a:lnTo>
                  <a:lnTo>
                    <a:pt x="24" y="109"/>
                  </a:lnTo>
                  <a:lnTo>
                    <a:pt x="33" y="172"/>
                  </a:lnTo>
                  <a:lnTo>
                    <a:pt x="102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30800" y="3237840"/>
              <a:ext cx="55080" cy="10080"/>
            </a:xfrm>
            <a:custGeom>
              <a:avLst/>
              <a:gdLst/>
              <a:ahLst/>
              <a:rect l="l" t="t" r="r" b="b"/>
              <a:pathLst>
                <a:path w="213" h="51">
                  <a:moveTo>
                    <a:pt x="213" y="26"/>
                  </a:moveTo>
                  <a:lnTo>
                    <a:pt x="4" y="51"/>
                  </a:lnTo>
                  <a:lnTo>
                    <a:pt x="0" y="25"/>
                  </a:lnTo>
                  <a:lnTo>
                    <a:pt x="209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26120" y="3197520"/>
              <a:ext cx="58320" cy="35640"/>
            </a:xfrm>
            <a:custGeom>
              <a:avLst/>
              <a:gdLst/>
              <a:ahLst/>
              <a:rect l="l" t="t" r="r" b="b"/>
              <a:pathLst>
                <a:path w="224" h="186">
                  <a:moveTo>
                    <a:pt x="224" y="186"/>
                  </a:moveTo>
                  <a:lnTo>
                    <a:pt x="5" y="135"/>
                  </a:lnTo>
                  <a:lnTo>
                    <a:pt x="0" y="106"/>
                  </a:lnTo>
                  <a:lnTo>
                    <a:pt x="199" y="0"/>
                  </a:lnTo>
                  <a:lnTo>
                    <a:pt x="202" y="30"/>
                  </a:lnTo>
                  <a:lnTo>
                    <a:pt x="142" y="60"/>
                  </a:lnTo>
                  <a:lnTo>
                    <a:pt x="154" y="143"/>
                  </a:lnTo>
                  <a:lnTo>
                    <a:pt x="220" y="158"/>
                  </a:lnTo>
                  <a:lnTo>
                    <a:pt x="224" y="186"/>
                  </a:lnTo>
                  <a:close/>
                  <a:moveTo>
                    <a:pt x="130" y="138"/>
                  </a:moveTo>
                  <a:lnTo>
                    <a:pt x="121" y="71"/>
                  </a:lnTo>
                  <a:lnTo>
                    <a:pt x="66" y="100"/>
                  </a:lnTo>
                  <a:lnTo>
                    <a:pt x="60" y="102"/>
                  </a:lnTo>
                  <a:lnTo>
                    <a:pt x="54" y="105"/>
                  </a:lnTo>
                  <a:lnTo>
                    <a:pt x="48" y="107"/>
                  </a:lnTo>
                  <a:lnTo>
                    <a:pt x="43" y="110"/>
                  </a:lnTo>
                  <a:lnTo>
                    <a:pt x="38" y="112"/>
                  </a:lnTo>
                  <a:lnTo>
                    <a:pt x="33" y="115"/>
                  </a:lnTo>
                  <a:lnTo>
                    <a:pt x="29" y="117"/>
                  </a:lnTo>
                  <a:lnTo>
                    <a:pt x="25" y="119"/>
                  </a:lnTo>
                  <a:lnTo>
                    <a:pt x="30" y="119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45" y="121"/>
                  </a:lnTo>
                  <a:lnTo>
                    <a:pt x="50" y="121"/>
                  </a:lnTo>
                  <a:lnTo>
                    <a:pt x="55" y="122"/>
                  </a:lnTo>
                  <a:lnTo>
                    <a:pt x="60" y="124"/>
                  </a:lnTo>
                  <a:lnTo>
                    <a:pt x="66" y="125"/>
                  </a:lnTo>
                  <a:lnTo>
                    <a:pt x="13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68520" y="2400120"/>
              <a:ext cx="61560" cy="48960"/>
            </a:xfrm>
            <a:custGeom>
              <a:avLst/>
              <a:gdLst/>
              <a:ahLst/>
              <a:rect l="l" t="t" r="r" b="b"/>
              <a:pathLst>
                <a:path w="238" h="251">
                  <a:moveTo>
                    <a:pt x="0" y="221"/>
                  </a:moveTo>
                  <a:lnTo>
                    <a:pt x="137" y="0"/>
                  </a:lnTo>
                  <a:lnTo>
                    <a:pt x="154" y="33"/>
                  </a:lnTo>
                  <a:lnTo>
                    <a:pt x="51" y="187"/>
                  </a:lnTo>
                  <a:lnTo>
                    <a:pt x="48" y="192"/>
                  </a:lnTo>
                  <a:lnTo>
                    <a:pt x="45" y="197"/>
                  </a:lnTo>
                  <a:lnTo>
                    <a:pt x="42" y="201"/>
                  </a:lnTo>
                  <a:lnTo>
                    <a:pt x="39" y="205"/>
                  </a:lnTo>
                  <a:lnTo>
                    <a:pt x="36" y="210"/>
                  </a:lnTo>
                  <a:lnTo>
                    <a:pt x="33" y="214"/>
                  </a:lnTo>
                  <a:lnTo>
                    <a:pt x="30" y="217"/>
                  </a:lnTo>
                  <a:lnTo>
                    <a:pt x="27" y="221"/>
                  </a:lnTo>
                  <a:lnTo>
                    <a:pt x="32" y="220"/>
                  </a:lnTo>
                  <a:lnTo>
                    <a:pt x="36" y="219"/>
                  </a:lnTo>
                  <a:lnTo>
                    <a:pt x="40" y="217"/>
                  </a:lnTo>
                  <a:lnTo>
                    <a:pt x="45" y="216"/>
                  </a:lnTo>
                  <a:lnTo>
                    <a:pt x="49" y="215"/>
                  </a:lnTo>
                  <a:lnTo>
                    <a:pt x="53" y="214"/>
                  </a:lnTo>
                  <a:lnTo>
                    <a:pt x="58" y="212"/>
                  </a:lnTo>
                  <a:lnTo>
                    <a:pt x="62" y="211"/>
                  </a:lnTo>
                  <a:lnTo>
                    <a:pt x="222" y="174"/>
                  </a:lnTo>
                  <a:lnTo>
                    <a:pt x="238" y="204"/>
                  </a:lnTo>
                  <a:lnTo>
                    <a:pt x="15" y="25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85440" y="2442960"/>
              <a:ext cx="50400" cy="31680"/>
            </a:xfrm>
            <a:custGeom>
              <a:avLst/>
              <a:gdLst/>
              <a:ahLst/>
              <a:rect l="l" t="t" r="r" b="b"/>
              <a:pathLst>
                <a:path w="193" h="162">
                  <a:moveTo>
                    <a:pt x="154" y="19"/>
                  </a:moveTo>
                  <a:lnTo>
                    <a:pt x="180" y="0"/>
                  </a:lnTo>
                  <a:lnTo>
                    <a:pt x="193" y="27"/>
                  </a:lnTo>
                  <a:lnTo>
                    <a:pt x="168" y="46"/>
                  </a:lnTo>
                  <a:lnTo>
                    <a:pt x="154" y="19"/>
                  </a:lnTo>
                  <a:close/>
                  <a:moveTo>
                    <a:pt x="0" y="135"/>
                  </a:moveTo>
                  <a:lnTo>
                    <a:pt x="130" y="37"/>
                  </a:lnTo>
                  <a:lnTo>
                    <a:pt x="144" y="65"/>
                  </a:lnTo>
                  <a:lnTo>
                    <a:pt x="14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2467440"/>
              <a:ext cx="44280" cy="41760"/>
            </a:xfrm>
            <a:custGeom>
              <a:avLst/>
              <a:gdLst/>
              <a:ahLst/>
              <a:rect l="l" t="t" r="r" b="b"/>
              <a:pathLst>
                <a:path w="170" h="219">
                  <a:moveTo>
                    <a:pt x="58" y="173"/>
                  </a:moveTo>
                  <a:lnTo>
                    <a:pt x="54" y="170"/>
                  </a:lnTo>
                  <a:lnTo>
                    <a:pt x="50" y="169"/>
                  </a:lnTo>
                  <a:lnTo>
                    <a:pt x="46" y="166"/>
                  </a:lnTo>
                  <a:lnTo>
                    <a:pt x="42" y="164"/>
                  </a:lnTo>
                  <a:lnTo>
                    <a:pt x="38" y="161"/>
                  </a:lnTo>
                  <a:lnTo>
                    <a:pt x="34" y="160"/>
                  </a:lnTo>
                  <a:lnTo>
                    <a:pt x="31" y="158"/>
                  </a:lnTo>
                  <a:lnTo>
                    <a:pt x="29" y="154"/>
                  </a:lnTo>
                  <a:lnTo>
                    <a:pt x="26" y="151"/>
                  </a:lnTo>
                  <a:lnTo>
                    <a:pt x="23" y="149"/>
                  </a:lnTo>
                  <a:lnTo>
                    <a:pt x="21" y="145"/>
                  </a:lnTo>
                  <a:lnTo>
                    <a:pt x="18" y="143"/>
                  </a:lnTo>
                  <a:lnTo>
                    <a:pt x="16" y="139"/>
                  </a:lnTo>
                  <a:lnTo>
                    <a:pt x="14" y="135"/>
                  </a:lnTo>
                  <a:lnTo>
                    <a:pt x="12" y="131"/>
                  </a:lnTo>
                  <a:lnTo>
                    <a:pt x="10" y="128"/>
                  </a:lnTo>
                  <a:lnTo>
                    <a:pt x="7" y="121"/>
                  </a:lnTo>
                  <a:lnTo>
                    <a:pt x="4" y="115"/>
                  </a:lnTo>
                  <a:lnTo>
                    <a:pt x="2" y="109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3" y="69"/>
                  </a:lnTo>
                  <a:lnTo>
                    <a:pt x="5" y="64"/>
                  </a:lnTo>
                  <a:lnTo>
                    <a:pt x="7" y="59"/>
                  </a:lnTo>
                  <a:lnTo>
                    <a:pt x="9" y="55"/>
                  </a:lnTo>
                  <a:lnTo>
                    <a:pt x="13" y="52"/>
                  </a:lnTo>
                  <a:lnTo>
                    <a:pt x="16" y="48"/>
                  </a:lnTo>
                  <a:lnTo>
                    <a:pt x="20" y="45"/>
                  </a:lnTo>
                  <a:lnTo>
                    <a:pt x="22" y="43"/>
                  </a:lnTo>
                  <a:lnTo>
                    <a:pt x="25" y="42"/>
                  </a:lnTo>
                  <a:lnTo>
                    <a:pt x="27" y="40"/>
                  </a:lnTo>
                  <a:lnTo>
                    <a:pt x="29" y="39"/>
                  </a:lnTo>
                  <a:lnTo>
                    <a:pt x="32" y="39"/>
                  </a:lnTo>
                  <a:lnTo>
                    <a:pt x="34" y="38"/>
                  </a:lnTo>
                  <a:lnTo>
                    <a:pt x="37" y="38"/>
                  </a:lnTo>
                  <a:lnTo>
                    <a:pt x="40" y="37"/>
                  </a:lnTo>
                  <a:lnTo>
                    <a:pt x="43" y="37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51" y="38"/>
                  </a:lnTo>
                  <a:lnTo>
                    <a:pt x="53" y="39"/>
                  </a:lnTo>
                  <a:lnTo>
                    <a:pt x="55" y="39"/>
                  </a:lnTo>
                  <a:lnTo>
                    <a:pt x="58" y="40"/>
                  </a:lnTo>
                  <a:lnTo>
                    <a:pt x="60" y="42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7" y="47"/>
                  </a:lnTo>
                  <a:lnTo>
                    <a:pt x="69" y="48"/>
                  </a:lnTo>
                  <a:lnTo>
                    <a:pt x="71" y="49"/>
                  </a:lnTo>
                  <a:lnTo>
                    <a:pt x="73" y="52"/>
                  </a:lnTo>
                  <a:lnTo>
                    <a:pt x="75" y="54"/>
                  </a:lnTo>
                  <a:lnTo>
                    <a:pt x="77" y="55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1" y="62"/>
                  </a:lnTo>
                  <a:lnTo>
                    <a:pt x="83" y="64"/>
                  </a:lnTo>
                  <a:lnTo>
                    <a:pt x="85" y="68"/>
                  </a:lnTo>
                  <a:lnTo>
                    <a:pt x="87" y="70"/>
                  </a:lnTo>
                  <a:lnTo>
                    <a:pt x="89" y="74"/>
                  </a:lnTo>
                  <a:lnTo>
                    <a:pt x="92" y="78"/>
                  </a:lnTo>
                  <a:lnTo>
                    <a:pt x="96" y="85"/>
                  </a:lnTo>
                  <a:lnTo>
                    <a:pt x="101" y="92"/>
                  </a:lnTo>
                  <a:lnTo>
                    <a:pt x="105" y="98"/>
                  </a:lnTo>
                  <a:lnTo>
                    <a:pt x="109" y="104"/>
                  </a:lnTo>
                  <a:lnTo>
                    <a:pt x="114" y="109"/>
                  </a:lnTo>
                  <a:lnTo>
                    <a:pt x="117" y="113"/>
                  </a:lnTo>
                  <a:lnTo>
                    <a:pt x="121" y="116"/>
                  </a:lnTo>
                  <a:lnTo>
                    <a:pt x="124" y="120"/>
                  </a:lnTo>
                  <a:lnTo>
                    <a:pt x="125" y="119"/>
                  </a:lnTo>
                  <a:lnTo>
                    <a:pt x="126" y="119"/>
                  </a:lnTo>
                  <a:lnTo>
                    <a:pt x="127" y="118"/>
                  </a:lnTo>
                  <a:lnTo>
                    <a:pt x="128" y="118"/>
                  </a:lnTo>
                  <a:lnTo>
                    <a:pt x="128" y="118"/>
                  </a:lnTo>
                  <a:lnTo>
                    <a:pt x="129" y="116"/>
                  </a:lnTo>
                  <a:lnTo>
                    <a:pt x="129" y="116"/>
                  </a:lnTo>
                  <a:lnTo>
                    <a:pt x="130" y="116"/>
                  </a:lnTo>
                  <a:lnTo>
                    <a:pt x="133" y="114"/>
                  </a:lnTo>
                  <a:lnTo>
                    <a:pt x="136" y="111"/>
                  </a:lnTo>
                  <a:lnTo>
                    <a:pt x="138" y="109"/>
                  </a:lnTo>
                  <a:lnTo>
                    <a:pt x="140" y="105"/>
                  </a:lnTo>
                  <a:lnTo>
                    <a:pt x="142" y="103"/>
                  </a:lnTo>
                  <a:lnTo>
                    <a:pt x="143" y="100"/>
                  </a:lnTo>
                  <a:lnTo>
                    <a:pt x="144" y="98"/>
                  </a:lnTo>
                  <a:lnTo>
                    <a:pt x="145" y="94"/>
                  </a:lnTo>
                  <a:lnTo>
                    <a:pt x="145" y="90"/>
                  </a:lnTo>
                  <a:lnTo>
                    <a:pt x="145" y="87"/>
                  </a:lnTo>
                  <a:lnTo>
                    <a:pt x="145" y="82"/>
                  </a:lnTo>
                  <a:lnTo>
                    <a:pt x="144" y="77"/>
                  </a:lnTo>
                  <a:lnTo>
                    <a:pt x="143" y="73"/>
                  </a:lnTo>
                  <a:lnTo>
                    <a:pt x="141" y="68"/>
                  </a:lnTo>
                  <a:lnTo>
                    <a:pt x="139" y="63"/>
                  </a:lnTo>
                  <a:lnTo>
                    <a:pt x="137" y="58"/>
                  </a:lnTo>
                  <a:lnTo>
                    <a:pt x="135" y="53"/>
                  </a:lnTo>
                  <a:lnTo>
                    <a:pt x="132" y="49"/>
                  </a:lnTo>
                  <a:lnTo>
                    <a:pt x="130" y="45"/>
                  </a:lnTo>
                  <a:lnTo>
                    <a:pt x="127" y="42"/>
                  </a:lnTo>
                  <a:lnTo>
                    <a:pt x="125" y="39"/>
                  </a:lnTo>
                  <a:lnTo>
                    <a:pt x="123" y="37"/>
                  </a:lnTo>
                  <a:lnTo>
                    <a:pt x="120" y="35"/>
                  </a:lnTo>
                  <a:lnTo>
                    <a:pt x="118" y="33"/>
                  </a:lnTo>
                  <a:lnTo>
                    <a:pt x="115" y="33"/>
                  </a:lnTo>
                  <a:lnTo>
                    <a:pt x="111" y="32"/>
                  </a:lnTo>
                  <a:lnTo>
                    <a:pt x="108" y="32"/>
                  </a:lnTo>
                  <a:lnTo>
                    <a:pt x="105" y="32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1" y="5"/>
                  </a:lnTo>
                  <a:lnTo>
                    <a:pt x="85" y="4"/>
                  </a:lnTo>
                  <a:lnTo>
                    <a:pt x="89" y="3"/>
                  </a:lnTo>
                  <a:lnTo>
                    <a:pt x="92" y="2"/>
                  </a:lnTo>
                  <a:lnTo>
                    <a:pt x="96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2" y="5"/>
                  </a:lnTo>
                  <a:lnTo>
                    <a:pt x="125" y="7"/>
                  </a:lnTo>
                  <a:lnTo>
                    <a:pt x="128" y="9"/>
                  </a:lnTo>
                  <a:lnTo>
                    <a:pt x="132" y="12"/>
                  </a:lnTo>
                  <a:lnTo>
                    <a:pt x="135" y="15"/>
                  </a:lnTo>
                  <a:lnTo>
                    <a:pt x="138" y="18"/>
                  </a:lnTo>
                  <a:lnTo>
                    <a:pt x="141" y="22"/>
                  </a:lnTo>
                  <a:lnTo>
                    <a:pt x="143" y="25"/>
                  </a:lnTo>
                  <a:lnTo>
                    <a:pt x="146" y="29"/>
                  </a:lnTo>
                  <a:lnTo>
                    <a:pt x="149" y="34"/>
                  </a:lnTo>
                  <a:lnTo>
                    <a:pt x="152" y="38"/>
                  </a:lnTo>
                  <a:lnTo>
                    <a:pt x="154" y="43"/>
                  </a:lnTo>
                  <a:lnTo>
                    <a:pt x="157" y="48"/>
                  </a:lnTo>
                  <a:lnTo>
                    <a:pt x="159" y="53"/>
                  </a:lnTo>
                  <a:lnTo>
                    <a:pt x="161" y="58"/>
                  </a:lnTo>
                  <a:lnTo>
                    <a:pt x="163" y="63"/>
                  </a:lnTo>
                  <a:lnTo>
                    <a:pt x="165" y="68"/>
                  </a:lnTo>
                  <a:lnTo>
                    <a:pt x="166" y="72"/>
                  </a:lnTo>
                  <a:lnTo>
                    <a:pt x="168" y="77"/>
                  </a:lnTo>
                  <a:lnTo>
                    <a:pt x="169" y="80"/>
                  </a:lnTo>
                  <a:lnTo>
                    <a:pt x="169" y="84"/>
                  </a:lnTo>
                  <a:lnTo>
                    <a:pt x="170" y="88"/>
                  </a:lnTo>
                  <a:lnTo>
                    <a:pt x="170" y="92"/>
                  </a:lnTo>
                  <a:lnTo>
                    <a:pt x="170" y="95"/>
                  </a:lnTo>
                  <a:lnTo>
                    <a:pt x="170" y="99"/>
                  </a:lnTo>
                  <a:lnTo>
                    <a:pt x="170" y="102"/>
                  </a:lnTo>
                  <a:lnTo>
                    <a:pt x="170" y="105"/>
                  </a:lnTo>
                  <a:lnTo>
                    <a:pt x="169" y="108"/>
                  </a:lnTo>
                  <a:lnTo>
                    <a:pt x="169" y="110"/>
                  </a:lnTo>
                  <a:lnTo>
                    <a:pt x="168" y="113"/>
                  </a:lnTo>
                  <a:lnTo>
                    <a:pt x="167" y="115"/>
                  </a:lnTo>
                  <a:lnTo>
                    <a:pt x="166" y="118"/>
                  </a:lnTo>
                  <a:lnTo>
                    <a:pt x="165" y="120"/>
                  </a:lnTo>
                  <a:lnTo>
                    <a:pt x="163" y="123"/>
                  </a:lnTo>
                  <a:lnTo>
                    <a:pt x="162" y="125"/>
                  </a:lnTo>
                  <a:lnTo>
                    <a:pt x="160" y="128"/>
                  </a:lnTo>
                  <a:lnTo>
                    <a:pt x="158" y="130"/>
                  </a:lnTo>
                  <a:lnTo>
                    <a:pt x="157" y="131"/>
                  </a:lnTo>
                  <a:lnTo>
                    <a:pt x="155" y="134"/>
                  </a:lnTo>
                  <a:lnTo>
                    <a:pt x="153" y="135"/>
                  </a:lnTo>
                  <a:lnTo>
                    <a:pt x="151" y="138"/>
                  </a:lnTo>
                  <a:lnTo>
                    <a:pt x="148" y="139"/>
                  </a:lnTo>
                  <a:lnTo>
                    <a:pt x="145" y="141"/>
                  </a:lnTo>
                  <a:lnTo>
                    <a:pt x="142" y="144"/>
                  </a:lnTo>
                  <a:lnTo>
                    <a:pt x="139" y="146"/>
                  </a:lnTo>
                  <a:lnTo>
                    <a:pt x="109" y="169"/>
                  </a:lnTo>
                  <a:lnTo>
                    <a:pt x="101" y="174"/>
                  </a:lnTo>
                  <a:lnTo>
                    <a:pt x="95" y="179"/>
                  </a:lnTo>
                  <a:lnTo>
                    <a:pt x="89" y="184"/>
                  </a:lnTo>
                  <a:lnTo>
                    <a:pt x="84" y="188"/>
                  </a:lnTo>
                  <a:lnTo>
                    <a:pt x="80" y="191"/>
                  </a:lnTo>
                  <a:lnTo>
                    <a:pt x="76" y="195"/>
                  </a:lnTo>
                  <a:lnTo>
                    <a:pt x="73" y="198"/>
                  </a:lnTo>
                  <a:lnTo>
                    <a:pt x="71" y="200"/>
                  </a:lnTo>
                  <a:lnTo>
                    <a:pt x="69" y="201"/>
                  </a:lnTo>
                  <a:lnTo>
                    <a:pt x="67" y="204"/>
                  </a:lnTo>
                  <a:lnTo>
                    <a:pt x="66" y="206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3"/>
                  </a:lnTo>
                  <a:lnTo>
                    <a:pt x="60" y="215"/>
                  </a:lnTo>
                  <a:lnTo>
                    <a:pt x="59" y="219"/>
                  </a:lnTo>
                  <a:lnTo>
                    <a:pt x="45" y="190"/>
                  </a:lnTo>
                  <a:lnTo>
                    <a:pt x="46" y="188"/>
                  </a:lnTo>
                  <a:lnTo>
                    <a:pt x="48" y="185"/>
                  </a:lnTo>
                  <a:lnTo>
                    <a:pt x="49" y="183"/>
                  </a:lnTo>
                  <a:lnTo>
                    <a:pt x="51" y="181"/>
                  </a:lnTo>
                  <a:lnTo>
                    <a:pt x="52" y="179"/>
                  </a:lnTo>
                  <a:lnTo>
                    <a:pt x="54" y="176"/>
                  </a:lnTo>
                  <a:lnTo>
                    <a:pt x="56" y="175"/>
                  </a:lnTo>
                  <a:lnTo>
                    <a:pt x="58" y="173"/>
                  </a:lnTo>
                  <a:close/>
                  <a:moveTo>
                    <a:pt x="106" y="133"/>
                  </a:moveTo>
                  <a:lnTo>
                    <a:pt x="103" y="130"/>
                  </a:lnTo>
                  <a:lnTo>
                    <a:pt x="99" y="126"/>
                  </a:lnTo>
                  <a:lnTo>
                    <a:pt x="96" y="123"/>
                  </a:lnTo>
                  <a:lnTo>
                    <a:pt x="92" y="118"/>
                  </a:lnTo>
                  <a:lnTo>
                    <a:pt x="88" y="113"/>
                  </a:lnTo>
                  <a:lnTo>
                    <a:pt x="84" y="108"/>
                  </a:lnTo>
                  <a:lnTo>
                    <a:pt x="80" y="102"/>
                  </a:lnTo>
                  <a:lnTo>
                    <a:pt x="76" y="95"/>
                  </a:lnTo>
                  <a:lnTo>
                    <a:pt x="73" y="92"/>
                  </a:lnTo>
                  <a:lnTo>
                    <a:pt x="71" y="88"/>
                  </a:lnTo>
                  <a:lnTo>
                    <a:pt x="69" y="85"/>
                  </a:lnTo>
                  <a:lnTo>
                    <a:pt x="67" y="83"/>
                  </a:lnTo>
                  <a:lnTo>
                    <a:pt x="65" y="80"/>
                  </a:lnTo>
                  <a:lnTo>
                    <a:pt x="63" y="78"/>
                  </a:lnTo>
                  <a:lnTo>
                    <a:pt x="62" y="77"/>
                  </a:lnTo>
                  <a:lnTo>
                    <a:pt x="60" y="75"/>
                  </a:lnTo>
                  <a:lnTo>
                    <a:pt x="59" y="74"/>
                  </a:lnTo>
                  <a:lnTo>
                    <a:pt x="57" y="73"/>
                  </a:lnTo>
                  <a:lnTo>
                    <a:pt x="56" y="72"/>
                  </a:lnTo>
                  <a:lnTo>
                    <a:pt x="54" y="70"/>
                  </a:lnTo>
                  <a:lnTo>
                    <a:pt x="52" y="70"/>
                  </a:lnTo>
                  <a:lnTo>
                    <a:pt x="51" y="70"/>
                  </a:lnTo>
                  <a:lnTo>
                    <a:pt x="49" y="69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0" y="70"/>
                  </a:lnTo>
                  <a:lnTo>
                    <a:pt x="39" y="70"/>
                  </a:lnTo>
                  <a:lnTo>
                    <a:pt x="37" y="72"/>
                  </a:lnTo>
                  <a:lnTo>
                    <a:pt x="36" y="73"/>
                  </a:lnTo>
                  <a:lnTo>
                    <a:pt x="35" y="74"/>
                  </a:lnTo>
                  <a:lnTo>
                    <a:pt x="32" y="75"/>
                  </a:lnTo>
                  <a:lnTo>
                    <a:pt x="31" y="77"/>
                  </a:lnTo>
                  <a:lnTo>
                    <a:pt x="29" y="79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5" y="87"/>
                  </a:lnTo>
                  <a:lnTo>
                    <a:pt x="25" y="90"/>
                  </a:lnTo>
                  <a:lnTo>
                    <a:pt x="24" y="93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4" y="103"/>
                  </a:lnTo>
                  <a:lnTo>
                    <a:pt x="25" y="107"/>
                  </a:lnTo>
                  <a:lnTo>
                    <a:pt x="25" y="110"/>
                  </a:lnTo>
                  <a:lnTo>
                    <a:pt x="27" y="114"/>
                  </a:lnTo>
                  <a:lnTo>
                    <a:pt x="28" y="118"/>
                  </a:lnTo>
                  <a:lnTo>
                    <a:pt x="30" y="121"/>
                  </a:lnTo>
                  <a:lnTo>
                    <a:pt x="32" y="125"/>
                  </a:lnTo>
                  <a:lnTo>
                    <a:pt x="34" y="129"/>
                  </a:lnTo>
                  <a:lnTo>
                    <a:pt x="36" y="131"/>
                  </a:lnTo>
                  <a:lnTo>
                    <a:pt x="39" y="135"/>
                  </a:lnTo>
                  <a:lnTo>
                    <a:pt x="42" y="138"/>
                  </a:lnTo>
                  <a:lnTo>
                    <a:pt x="45" y="140"/>
                  </a:lnTo>
                  <a:lnTo>
                    <a:pt x="47" y="143"/>
                  </a:lnTo>
                  <a:lnTo>
                    <a:pt x="50" y="145"/>
                  </a:lnTo>
                  <a:lnTo>
                    <a:pt x="53" y="146"/>
                  </a:lnTo>
                  <a:lnTo>
                    <a:pt x="56" y="149"/>
                  </a:lnTo>
                  <a:lnTo>
                    <a:pt x="59" y="150"/>
                  </a:lnTo>
                  <a:lnTo>
                    <a:pt x="62" y="150"/>
                  </a:lnTo>
                  <a:lnTo>
                    <a:pt x="65" y="151"/>
                  </a:lnTo>
                  <a:lnTo>
                    <a:pt x="68" y="151"/>
                  </a:lnTo>
                  <a:lnTo>
                    <a:pt x="71" y="151"/>
                  </a:lnTo>
                  <a:lnTo>
                    <a:pt x="74" y="151"/>
                  </a:lnTo>
                  <a:lnTo>
                    <a:pt x="76" y="151"/>
                  </a:lnTo>
                  <a:lnTo>
                    <a:pt x="79" y="150"/>
                  </a:lnTo>
                  <a:lnTo>
                    <a:pt x="82" y="149"/>
                  </a:lnTo>
                  <a:lnTo>
                    <a:pt x="85" y="148"/>
                  </a:lnTo>
                  <a:lnTo>
                    <a:pt x="88" y="146"/>
                  </a:lnTo>
                  <a:lnTo>
                    <a:pt x="91" y="144"/>
                  </a:lnTo>
                  <a:lnTo>
                    <a:pt x="94" y="141"/>
                  </a:lnTo>
                  <a:lnTo>
                    <a:pt x="98" y="139"/>
                  </a:lnTo>
                  <a:lnTo>
                    <a:pt x="106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436920" y="2503080"/>
              <a:ext cx="61560" cy="48240"/>
            </a:xfrm>
            <a:custGeom>
              <a:avLst/>
              <a:gdLst/>
              <a:ahLst/>
              <a:rect l="l" t="t" r="r" b="b"/>
              <a:pathLst>
                <a:path w="237" h="249">
                  <a:moveTo>
                    <a:pt x="0" y="219"/>
                  </a:moveTo>
                  <a:lnTo>
                    <a:pt x="137" y="0"/>
                  </a:lnTo>
                  <a:lnTo>
                    <a:pt x="153" y="31"/>
                  </a:lnTo>
                  <a:lnTo>
                    <a:pt x="51" y="186"/>
                  </a:lnTo>
                  <a:lnTo>
                    <a:pt x="48" y="191"/>
                  </a:lnTo>
                  <a:lnTo>
                    <a:pt x="45" y="196"/>
                  </a:lnTo>
                  <a:lnTo>
                    <a:pt x="42" y="200"/>
                  </a:lnTo>
                  <a:lnTo>
                    <a:pt x="39" y="205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29" y="216"/>
                  </a:lnTo>
                  <a:lnTo>
                    <a:pt x="26" y="219"/>
                  </a:lnTo>
                  <a:lnTo>
                    <a:pt x="31" y="218"/>
                  </a:lnTo>
                  <a:lnTo>
                    <a:pt x="36" y="217"/>
                  </a:lnTo>
                  <a:lnTo>
                    <a:pt x="40" y="216"/>
                  </a:lnTo>
                  <a:lnTo>
                    <a:pt x="45" y="214"/>
                  </a:lnTo>
                  <a:lnTo>
                    <a:pt x="49" y="213"/>
                  </a:lnTo>
                  <a:lnTo>
                    <a:pt x="54" y="212"/>
                  </a:lnTo>
                  <a:lnTo>
                    <a:pt x="58" y="211"/>
                  </a:lnTo>
                  <a:lnTo>
                    <a:pt x="62" y="210"/>
                  </a:lnTo>
                  <a:lnTo>
                    <a:pt x="222" y="172"/>
                  </a:lnTo>
                  <a:lnTo>
                    <a:pt x="237" y="202"/>
                  </a:lnTo>
                  <a:lnTo>
                    <a:pt x="14" y="24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55640" y="2548440"/>
              <a:ext cx="50400" cy="31680"/>
            </a:xfrm>
            <a:custGeom>
              <a:avLst/>
              <a:gdLst/>
              <a:ahLst/>
              <a:rect l="l" t="t" r="r" b="b"/>
              <a:pathLst>
                <a:path w="194" h="165">
                  <a:moveTo>
                    <a:pt x="0" y="135"/>
                  </a:moveTo>
                  <a:lnTo>
                    <a:pt x="180" y="0"/>
                  </a:lnTo>
                  <a:lnTo>
                    <a:pt x="194" y="30"/>
                  </a:lnTo>
                  <a:lnTo>
                    <a:pt x="14" y="16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73640" y="2561040"/>
              <a:ext cx="60120" cy="45720"/>
            </a:xfrm>
            <a:custGeom>
              <a:avLst/>
              <a:gdLst/>
              <a:ahLst/>
              <a:rect l="l" t="t" r="r" b="b"/>
              <a:pathLst>
                <a:path w="230" h="237">
                  <a:moveTo>
                    <a:pt x="0" y="207"/>
                  </a:moveTo>
                  <a:lnTo>
                    <a:pt x="158" y="88"/>
                  </a:lnTo>
                  <a:lnTo>
                    <a:pt x="123" y="16"/>
                  </a:lnTo>
                  <a:lnTo>
                    <a:pt x="144" y="0"/>
                  </a:lnTo>
                  <a:lnTo>
                    <a:pt x="230" y="175"/>
                  </a:lnTo>
                  <a:lnTo>
                    <a:pt x="209" y="191"/>
                  </a:lnTo>
                  <a:lnTo>
                    <a:pt x="173" y="117"/>
                  </a:lnTo>
                  <a:lnTo>
                    <a:pt x="14" y="23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497760" y="2597760"/>
              <a:ext cx="59760" cy="45720"/>
            </a:xfrm>
            <a:custGeom>
              <a:avLst/>
              <a:gdLst/>
              <a:ahLst/>
              <a:rect l="l" t="t" r="r" b="b"/>
              <a:pathLst>
                <a:path w="230" h="236">
                  <a:moveTo>
                    <a:pt x="0" y="207"/>
                  </a:moveTo>
                  <a:lnTo>
                    <a:pt x="158" y="89"/>
                  </a:lnTo>
                  <a:lnTo>
                    <a:pt x="123" y="15"/>
                  </a:lnTo>
                  <a:lnTo>
                    <a:pt x="144" y="0"/>
                  </a:lnTo>
                  <a:lnTo>
                    <a:pt x="230" y="175"/>
                  </a:lnTo>
                  <a:lnTo>
                    <a:pt x="209" y="191"/>
                  </a:lnTo>
                  <a:lnTo>
                    <a:pt x="174" y="118"/>
                  </a:lnTo>
                  <a:lnTo>
                    <a:pt x="14" y="236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11080" y="2638800"/>
              <a:ext cx="38160" cy="2484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05" y="19"/>
                  </a:moveTo>
                  <a:lnTo>
                    <a:pt x="131" y="0"/>
                  </a:lnTo>
                  <a:lnTo>
                    <a:pt x="146" y="30"/>
                  </a:lnTo>
                  <a:lnTo>
                    <a:pt x="121" y="49"/>
                  </a:lnTo>
                  <a:lnTo>
                    <a:pt x="105" y="19"/>
                  </a:lnTo>
                  <a:close/>
                  <a:moveTo>
                    <a:pt x="0" y="98"/>
                  </a:moveTo>
                  <a:lnTo>
                    <a:pt x="25" y="79"/>
                  </a:lnTo>
                  <a:lnTo>
                    <a:pt x="41" y="109"/>
                  </a:lnTo>
                  <a:lnTo>
                    <a:pt x="15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41680" y="2660040"/>
              <a:ext cx="61560" cy="4896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0" y="221"/>
                  </a:moveTo>
                  <a:lnTo>
                    <a:pt x="136" y="0"/>
                  </a:lnTo>
                  <a:lnTo>
                    <a:pt x="153" y="31"/>
                  </a:lnTo>
                  <a:lnTo>
                    <a:pt x="50" y="187"/>
                  </a:lnTo>
                  <a:lnTo>
                    <a:pt x="47" y="192"/>
                  </a:lnTo>
                  <a:lnTo>
                    <a:pt x="44" y="196"/>
                  </a:lnTo>
                  <a:lnTo>
                    <a:pt x="41" y="201"/>
                  </a:lnTo>
                  <a:lnTo>
                    <a:pt x="38" y="204"/>
                  </a:lnTo>
                  <a:lnTo>
                    <a:pt x="35" y="208"/>
                  </a:lnTo>
                  <a:lnTo>
                    <a:pt x="32" y="213"/>
                  </a:lnTo>
                  <a:lnTo>
                    <a:pt x="29" y="217"/>
                  </a:lnTo>
                  <a:lnTo>
                    <a:pt x="27" y="221"/>
                  </a:lnTo>
                  <a:lnTo>
                    <a:pt x="31" y="219"/>
                  </a:lnTo>
                  <a:lnTo>
                    <a:pt x="35" y="218"/>
                  </a:lnTo>
                  <a:lnTo>
                    <a:pt x="39" y="216"/>
                  </a:lnTo>
                  <a:lnTo>
                    <a:pt x="44" y="214"/>
                  </a:lnTo>
                  <a:lnTo>
                    <a:pt x="48" y="213"/>
                  </a:lnTo>
                  <a:lnTo>
                    <a:pt x="53" y="212"/>
                  </a:lnTo>
                  <a:lnTo>
                    <a:pt x="57" y="212"/>
                  </a:lnTo>
                  <a:lnTo>
                    <a:pt x="61" y="211"/>
                  </a:lnTo>
                  <a:lnTo>
                    <a:pt x="222" y="172"/>
                  </a:lnTo>
                  <a:lnTo>
                    <a:pt x="237" y="202"/>
                  </a:lnTo>
                  <a:lnTo>
                    <a:pt x="14" y="25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0400" y="2704680"/>
              <a:ext cx="66960" cy="58320"/>
            </a:xfrm>
            <a:custGeom>
              <a:avLst/>
              <a:gdLst/>
              <a:ahLst/>
              <a:rect l="l" t="t" r="r" b="b"/>
              <a:pathLst>
                <a:path w="258" h="300">
                  <a:moveTo>
                    <a:pt x="0" y="135"/>
                  </a:moveTo>
                  <a:lnTo>
                    <a:pt x="179" y="0"/>
                  </a:lnTo>
                  <a:lnTo>
                    <a:pt x="258" y="161"/>
                  </a:lnTo>
                  <a:lnTo>
                    <a:pt x="237" y="176"/>
                  </a:lnTo>
                  <a:lnTo>
                    <a:pt x="172" y="45"/>
                  </a:lnTo>
                  <a:lnTo>
                    <a:pt x="117" y="86"/>
                  </a:lnTo>
                  <a:lnTo>
                    <a:pt x="178" y="210"/>
                  </a:lnTo>
                  <a:lnTo>
                    <a:pt x="157" y="225"/>
                  </a:lnTo>
                  <a:lnTo>
                    <a:pt x="96" y="102"/>
                  </a:lnTo>
                  <a:lnTo>
                    <a:pt x="35" y="149"/>
                  </a:lnTo>
                  <a:lnTo>
                    <a:pt x="102" y="285"/>
                  </a:lnTo>
                  <a:lnTo>
                    <a:pt x="81" y="30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86680" y="2744280"/>
              <a:ext cx="69480" cy="60840"/>
            </a:xfrm>
            <a:custGeom>
              <a:avLst/>
              <a:gdLst/>
              <a:ahLst/>
              <a:rect l="l" t="t" r="r" b="b"/>
              <a:pathLst>
                <a:path w="266" h="309">
                  <a:moveTo>
                    <a:pt x="0" y="134"/>
                  </a:moveTo>
                  <a:lnTo>
                    <a:pt x="179" y="0"/>
                  </a:lnTo>
                  <a:lnTo>
                    <a:pt x="195" y="30"/>
                  </a:lnTo>
                  <a:lnTo>
                    <a:pt x="111" y="252"/>
                  </a:lnTo>
                  <a:lnTo>
                    <a:pt x="251" y="147"/>
                  </a:lnTo>
                  <a:lnTo>
                    <a:pt x="266" y="174"/>
                  </a:lnTo>
                  <a:lnTo>
                    <a:pt x="85" y="309"/>
                  </a:lnTo>
                  <a:lnTo>
                    <a:pt x="71" y="279"/>
                  </a:lnTo>
                  <a:lnTo>
                    <a:pt x="155" y="57"/>
                  </a:lnTo>
                  <a:lnTo>
                    <a:pt x="13" y="163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 flipV="1">
            <a:off x="4952880" y="1587240"/>
            <a:ext cx="0" cy="1168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079960" y="1536840"/>
            <a:ext cx="0" cy="1201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355800">
            <a:off x="5717880" y="19080"/>
            <a:ext cx="125280" cy="276372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2200" y="4038480"/>
            <a:ext cx="9048600" cy="74880"/>
          </a:xfrm>
          <a:prstGeom prst="rect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06800" y="2844720"/>
            <a:ext cx="2173320" cy="2051280"/>
          </a:xfrm>
          <a:custGeom>
            <a:avLst/>
            <a:gdLst/>
            <a:ahLst/>
            <a:rect l="l" t="t" r="r" b="b"/>
            <a:pathLst>
              <a:path w="1369" h="1292">
                <a:moveTo>
                  <a:pt x="0" y="26"/>
                </a:moveTo>
                <a:cubicBezTo>
                  <a:pt x="25" y="23"/>
                  <a:pt x="40" y="0"/>
                  <a:pt x="149" y="8"/>
                </a:cubicBezTo>
                <a:cubicBezTo>
                  <a:pt x="258" y="16"/>
                  <a:pt x="536" y="46"/>
                  <a:pt x="653" y="74"/>
                </a:cubicBezTo>
                <a:cubicBezTo>
                  <a:pt x="770" y="102"/>
                  <a:pt x="809" y="149"/>
                  <a:pt x="851" y="176"/>
                </a:cubicBezTo>
                <a:cubicBezTo>
                  <a:pt x="893" y="203"/>
                  <a:pt x="881" y="202"/>
                  <a:pt x="905" y="236"/>
                </a:cubicBezTo>
                <a:cubicBezTo>
                  <a:pt x="929" y="270"/>
                  <a:pt x="959" y="297"/>
                  <a:pt x="995" y="380"/>
                </a:cubicBezTo>
                <a:cubicBezTo>
                  <a:pt x="1031" y="463"/>
                  <a:pt x="1093" y="649"/>
                  <a:pt x="1118" y="735"/>
                </a:cubicBezTo>
                <a:lnTo>
                  <a:pt x="1145" y="896"/>
                </a:lnTo>
                <a:cubicBezTo>
                  <a:pt x="1068" y="970"/>
                  <a:pt x="737" y="1122"/>
                  <a:pt x="659" y="1178"/>
                </a:cubicBezTo>
                <a:lnTo>
                  <a:pt x="677" y="1232"/>
                </a:lnTo>
                <a:cubicBezTo>
                  <a:pt x="761" y="1198"/>
                  <a:pt x="1053" y="981"/>
                  <a:pt x="1163" y="974"/>
                </a:cubicBezTo>
                <a:lnTo>
                  <a:pt x="1337" y="1190"/>
                </a:lnTo>
                <a:cubicBezTo>
                  <a:pt x="1369" y="1243"/>
                  <a:pt x="1351" y="1271"/>
                  <a:pt x="1355" y="129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94360" y="1866960"/>
            <a:ext cx="3963960" cy="3952800"/>
          </a:xfrm>
          <a:custGeom>
            <a:avLst/>
            <a:gdLst/>
            <a:ahLst/>
            <a:rect l="l" t="t" r="r" b="b"/>
            <a:pathLst>
              <a:path w="2497" h="2490">
                <a:moveTo>
                  <a:pt x="0" y="551"/>
                </a:moveTo>
                <a:cubicBezTo>
                  <a:pt x="83" y="562"/>
                  <a:pt x="386" y="594"/>
                  <a:pt x="500" y="615"/>
                </a:cubicBezTo>
                <a:lnTo>
                  <a:pt x="682" y="679"/>
                </a:lnTo>
                <a:cubicBezTo>
                  <a:pt x="724" y="699"/>
                  <a:pt x="736" y="720"/>
                  <a:pt x="755" y="733"/>
                </a:cubicBezTo>
                <a:lnTo>
                  <a:pt x="796" y="759"/>
                </a:lnTo>
                <a:lnTo>
                  <a:pt x="2353" y="0"/>
                </a:lnTo>
                <a:lnTo>
                  <a:pt x="2359" y="36"/>
                </a:lnTo>
                <a:lnTo>
                  <a:pt x="817" y="789"/>
                </a:lnTo>
                <a:lnTo>
                  <a:pt x="895" y="876"/>
                </a:lnTo>
                <a:lnTo>
                  <a:pt x="949" y="960"/>
                </a:lnTo>
                <a:lnTo>
                  <a:pt x="985" y="1071"/>
                </a:lnTo>
                <a:lnTo>
                  <a:pt x="1027" y="1104"/>
                </a:lnTo>
                <a:lnTo>
                  <a:pt x="1099" y="1107"/>
                </a:lnTo>
                <a:lnTo>
                  <a:pt x="2197" y="918"/>
                </a:lnTo>
                <a:lnTo>
                  <a:pt x="2407" y="390"/>
                </a:lnTo>
                <a:lnTo>
                  <a:pt x="2497" y="384"/>
                </a:lnTo>
                <a:lnTo>
                  <a:pt x="2317" y="912"/>
                </a:lnTo>
                <a:lnTo>
                  <a:pt x="2383" y="1110"/>
                </a:lnTo>
                <a:lnTo>
                  <a:pt x="1981" y="1200"/>
                </a:lnTo>
                <a:lnTo>
                  <a:pt x="1975" y="1152"/>
                </a:lnTo>
                <a:lnTo>
                  <a:pt x="2269" y="1086"/>
                </a:lnTo>
                <a:lnTo>
                  <a:pt x="2299" y="1008"/>
                </a:lnTo>
                <a:lnTo>
                  <a:pt x="2251" y="966"/>
                </a:lnTo>
                <a:lnTo>
                  <a:pt x="2191" y="978"/>
                </a:lnTo>
                <a:lnTo>
                  <a:pt x="2011" y="1002"/>
                </a:lnTo>
                <a:lnTo>
                  <a:pt x="1639" y="1062"/>
                </a:lnTo>
                <a:lnTo>
                  <a:pt x="1645" y="1122"/>
                </a:lnTo>
                <a:lnTo>
                  <a:pt x="1453" y="1158"/>
                </a:lnTo>
                <a:lnTo>
                  <a:pt x="1381" y="1122"/>
                </a:lnTo>
                <a:lnTo>
                  <a:pt x="1093" y="1170"/>
                </a:lnTo>
                <a:lnTo>
                  <a:pt x="1054" y="1209"/>
                </a:lnTo>
                <a:lnTo>
                  <a:pt x="1051" y="1284"/>
                </a:lnTo>
                <a:lnTo>
                  <a:pt x="1093" y="1494"/>
                </a:lnTo>
                <a:lnTo>
                  <a:pt x="1327" y="1830"/>
                </a:lnTo>
                <a:cubicBezTo>
                  <a:pt x="1409" y="1920"/>
                  <a:pt x="1509" y="1979"/>
                  <a:pt x="1585" y="2034"/>
                </a:cubicBezTo>
                <a:cubicBezTo>
                  <a:pt x="1661" y="2089"/>
                  <a:pt x="1645" y="2084"/>
                  <a:pt x="1783" y="2160"/>
                </a:cubicBezTo>
                <a:cubicBezTo>
                  <a:pt x="1921" y="2236"/>
                  <a:pt x="2282" y="2421"/>
                  <a:pt x="2413" y="249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062840" y="4876920"/>
            <a:ext cx="223920" cy="1457280"/>
          </a:xfrm>
          <a:custGeom>
            <a:avLst/>
            <a:gdLst/>
            <a:ahLst/>
            <a:rect l="l" t="t" r="r" b="b"/>
            <a:pathLst>
              <a:path w="141" h="918">
                <a:moveTo>
                  <a:pt x="3" y="0"/>
                </a:moveTo>
                <a:cubicBezTo>
                  <a:pt x="0" y="76"/>
                  <a:pt x="85" y="452"/>
                  <a:pt x="75" y="540"/>
                </a:cubicBezTo>
                <a:cubicBezTo>
                  <a:pt x="54" y="677"/>
                  <a:pt x="127" y="839"/>
                  <a:pt x="141" y="91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169040" y="4943520"/>
            <a:ext cx="1774800" cy="1028520"/>
          </a:xfrm>
          <a:custGeom>
            <a:avLst/>
            <a:gdLst/>
            <a:ahLst/>
            <a:rect l="l" t="t" r="r" b="b"/>
            <a:pathLst>
              <a:path w="1118" h="648">
                <a:moveTo>
                  <a:pt x="92" y="408"/>
                </a:moveTo>
                <a:cubicBezTo>
                  <a:pt x="91" y="411"/>
                  <a:pt x="0" y="25"/>
                  <a:pt x="32" y="0"/>
                </a:cubicBezTo>
                <a:lnTo>
                  <a:pt x="332" y="228"/>
                </a:lnTo>
                <a:cubicBezTo>
                  <a:pt x="433" y="292"/>
                  <a:pt x="507" y="314"/>
                  <a:pt x="638" y="384"/>
                </a:cubicBezTo>
                <a:cubicBezTo>
                  <a:pt x="769" y="454"/>
                  <a:pt x="1018" y="593"/>
                  <a:pt x="1118" y="64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897200" y="41202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ro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52160" y="166248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454880" y="3697200"/>
            <a:ext cx="277920" cy="328680"/>
          </a:xfrm>
          <a:custGeom>
            <a:avLst/>
            <a:gdLst>
              <a:gd name="textAreaLeft" fmla="*/ 114480 w 277920"/>
              <a:gd name="textAreaRight" fmla="*/ 163440 w 277920"/>
              <a:gd name="textAreaTop" fmla="*/ 135360 h 328680"/>
              <a:gd name="textAreaBottom" fmla="*/ 193320 h 328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32080" y="37310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710400" y="3666960"/>
            <a:ext cx="98280" cy="92160"/>
          </a:xfrm>
          <a:custGeom>
            <a:avLst/>
            <a:gdLst/>
            <a:ahLst/>
            <a:rect l="l" t="t" r="r" b="b"/>
            <a:pathLst>
              <a:path w="62" h="58">
                <a:moveTo>
                  <a:pt x="0" y="0"/>
                </a:moveTo>
                <a:cubicBezTo>
                  <a:pt x="4" y="13"/>
                  <a:pt x="11" y="23"/>
                  <a:pt x="15" y="36"/>
                </a:cubicBezTo>
                <a:cubicBezTo>
                  <a:pt x="17" y="42"/>
                  <a:pt x="21" y="54"/>
                  <a:pt x="21" y="54"/>
                </a:cubicBezTo>
                <a:cubicBezTo>
                  <a:pt x="45" y="46"/>
                  <a:pt x="17" y="58"/>
                  <a:pt x="33" y="42"/>
                </a:cubicBezTo>
                <a:cubicBezTo>
                  <a:pt x="39" y="36"/>
                  <a:pt x="53" y="28"/>
                  <a:pt x="60" y="21"/>
                </a:cubicBezTo>
                <a:cubicBezTo>
                  <a:pt x="62" y="15"/>
                  <a:pt x="55" y="9"/>
                  <a:pt x="45" y="6"/>
                </a:cubicBezTo>
                <a:cubicBezTo>
                  <a:pt x="35" y="3"/>
                  <a:pt x="9" y="1"/>
                  <a:pt x="0" y="0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13280" y="3389760"/>
            <a:ext cx="671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Via Basagli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18920" y="2742120"/>
            <a:ext cx="592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a Cap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400880" y="3743280"/>
            <a:ext cx="362160" cy="209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632040" y="2945880"/>
            <a:ext cx="38736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4848480" y="2993760"/>
            <a:ext cx="58356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29920" y="3103920"/>
            <a:ext cx="389520" cy="415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4852200">
            <a:off x="6413040" y="3657600"/>
            <a:ext cx="10800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200"/>
                </a:lnTo>
                <a:lnTo>
                  <a:pt x="15428" y="7200"/>
                </a:lnTo>
                <a:lnTo>
                  <a:pt x="18514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90800" y="4771440"/>
            <a:ext cx="2513880" cy="63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bilimento - Via Basaglie,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0376 / 627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7:39:42Z</dcterms:created>
  <dc:creator>Ing. Alberto Paganini</dc:creator>
  <dc:description/>
  <dc:language>en-US</dc:language>
  <cp:lastModifiedBy>massimo</cp:lastModifiedBy>
  <cp:lastPrinted>2000-01-11T10:49:31Z</cp:lastPrinted>
  <dcterms:modified xsi:type="dcterms:W3CDTF">2003-02-11T15:08:10Z</dcterms:modified>
  <cp:revision>30</cp:revision>
  <dc:subject/>
  <dc:title>Nessun titolo diapositiva</dc:title>
</cp:coreProperties>
</file>